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11.jpeg" ContentType="image/jpeg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F4B-DA49-48AC-B2A8-81960821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F10-B05D-48B8-88FA-B214FE07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F18-C17F-4B8B-8379-9E6A1668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0E46-C489-45DD-A0D9-95693483D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0077-1F7A-4902-A1A2-457837D1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904-251F-4E03-83A6-A3A0CD37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368A-2C14-4F90-81A3-D5189786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DD12-10A3-43FE-8D8F-3DDEE32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76D8-D1DF-48C6-A438-A8CDF354A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2EE-39CB-40B0-87C6-6FD379C5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C9F-9E03-458D-976D-06DD1360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F41-4768-48EF-BF86-D3ACB2FD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1F7-3398-4BE6-94B8-3BF612E7B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10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8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image" Target="../media/image9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У «Дубровская СОШ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95640" y="2133720"/>
            <a:ext cx="619272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манда   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250920" y="2421000"/>
            <a:ext cx="1655640" cy="1512720"/>
            <a:chOff x="250920" y="2421000"/>
            <a:chExt cx="1655640" cy="1512720"/>
          </a:xfrm>
        </p:grpSpPr>
        <p:sp>
          <p:nvSpPr>
            <p:cNvPr id="45" name=""/>
            <p:cNvSpPr/>
            <p:nvPr/>
          </p:nvSpPr>
          <p:spPr>
            <a:xfrm>
              <a:off x="250920" y="2468880"/>
              <a:ext cx="1655640" cy="146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1449" t="12423" r="7089" b="3731"/>
            <a:stretch/>
          </p:blipFill>
          <p:spPr>
            <a:xfrm>
              <a:off x="401040" y="2421000"/>
              <a:ext cx="130464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 txBox="1"/>
            <p:nvPr/>
          </p:nvSpPr>
          <p:spPr>
            <a:xfrm>
              <a:off x="451080" y="3508560"/>
              <a:ext cx="1254600" cy="282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95640" y="333360"/>
            <a:ext cx="62640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АНД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БЭМС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3860640"/>
            <a:ext cx="612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НАШ   ДЕВИЗ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ГЛЯНИСЬ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ДРУЖОК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ОКРУГ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ОТ КОМПЬЮТЕР – ВЕРНЫЙ Д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ВСЕГДА ТЕБЕ ПОМОЖ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Н ВСЕ СДЕЛАЕТ, ВСЕ СМОЖ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24000" y="333360"/>
            <a:ext cx="1655640" cy="1513080"/>
            <a:chOff x="324000" y="333360"/>
            <a:chExt cx="1655640" cy="1513080"/>
          </a:xfrm>
        </p:grpSpPr>
        <p:sp>
          <p:nvSpPr>
            <p:cNvPr id="51" name=""/>
            <p:cNvSpPr/>
            <p:nvPr/>
          </p:nvSpPr>
          <p:spPr>
            <a:xfrm>
              <a:off x="324000" y="381240"/>
              <a:ext cx="1655640" cy="146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rcRect l="1449" t="12423" r="7089" b="3731"/>
            <a:stretch/>
          </p:blipFill>
          <p:spPr>
            <a:xfrm>
              <a:off x="474120" y="333360"/>
              <a:ext cx="13046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 txBox="1"/>
            <p:nvPr/>
          </p:nvSpPr>
          <p:spPr>
            <a:xfrm>
              <a:off x="524160" y="1421280"/>
              <a:ext cx="1254600" cy="283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790560" y="2708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стрые, Энергичные, Молодые, Симпати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3240360" cy="29527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492360" y="549360"/>
            <a:ext cx="5327640" cy="2886120"/>
            <a:chOff x="3492360" y="549360"/>
            <a:chExt cx="5327640" cy="2886120"/>
          </a:xfrm>
        </p:grpSpPr>
        <p:sp>
          <p:nvSpPr>
            <p:cNvPr id="57" name=""/>
            <p:cNvSpPr/>
            <p:nvPr/>
          </p:nvSpPr>
          <p:spPr>
            <a:xfrm>
              <a:off x="3492360" y="549360"/>
              <a:ext cx="5327640" cy="2886120"/>
            </a:xfrm>
            <a:prstGeom prst="wedgeRoundRectCallout">
              <a:avLst>
                <a:gd name="adj1" fmla="val -43740"/>
                <a:gd name="adj2" fmla="val 62652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84360" y="693720"/>
              <a:ext cx="4329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Я  учусь  в  3  классе.   Мои  любимые   уроки  информатика,  математика  и  физкультура. Я  учусь  хорош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643280" y="4005360"/>
            <a:ext cx="3168720" cy="2463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340000" y="4941720"/>
            <a:ext cx="2089080" cy="1636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8360" y="189000"/>
            <a:ext cx="47768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еня зовут Свет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4000" y="620640"/>
            <a:ext cx="1547640" cy="1368000"/>
            <a:chOff x="324000" y="620640"/>
            <a:chExt cx="1547640" cy="1368000"/>
          </a:xfrm>
        </p:grpSpPr>
        <p:sp>
          <p:nvSpPr>
            <p:cNvPr id="63" name=""/>
            <p:cNvSpPr/>
            <p:nvPr/>
          </p:nvSpPr>
          <p:spPr>
            <a:xfrm>
              <a:off x="324000" y="663840"/>
              <a:ext cx="1547640" cy="132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5"/>
            <a:srcRect l="1449" t="12423" r="7089" b="3731"/>
            <a:stretch/>
          </p:blipFill>
          <p:spPr>
            <a:xfrm>
              <a:off x="464400" y="620640"/>
              <a:ext cx="1219680" cy="93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511200" y="1604520"/>
              <a:ext cx="1172880" cy="255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newsflash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5910" r="0" b="0"/>
          <a:stretch/>
        </p:blipFill>
        <p:spPr>
          <a:xfrm>
            <a:off x="2771640" y="4221000"/>
            <a:ext cx="345600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219640" y="907920"/>
            <a:ext cx="3240000" cy="316872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560" y="981000"/>
            <a:ext cx="4753080" cy="3812400"/>
            <a:chOff x="250560" y="981000"/>
            <a:chExt cx="4753080" cy="3812400"/>
          </a:xfrm>
        </p:grpSpPr>
        <p:sp>
          <p:nvSpPr>
            <p:cNvPr id="69" name=""/>
            <p:cNvSpPr/>
            <p:nvPr/>
          </p:nvSpPr>
          <p:spPr>
            <a:xfrm flipH="1">
              <a:off x="250200" y="1052280"/>
              <a:ext cx="4392360" cy="3673440"/>
            </a:xfrm>
            <a:prstGeom prst="wedgeRoundRectCallout">
              <a:avLst>
                <a:gd name="adj1" fmla="val -80578"/>
                <a:gd name="adj2" fmla="val 920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981000"/>
              <a:ext cx="4679640" cy="38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cc"/>
                  </a:solidFill>
                  <a:latin typeface="Arial"/>
                </a:rPr>
                <a:t>Меня зовут Женя.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 ученик 2 класс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Люблю уроки информатики и физкультуры. На информатике можно поиграть на компьютерах и порешать логические задачи. А на физкультуре играем в футбол и выполняем разные задания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588000" y="4581360"/>
            <a:ext cx="1428840" cy="1656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0" y="0"/>
            <a:ext cx="1258920" cy="981000"/>
            <a:chOff x="0" y="0"/>
            <a:chExt cx="1258920" cy="981000"/>
          </a:xfrm>
        </p:grpSpPr>
        <p:sp>
          <p:nvSpPr>
            <p:cNvPr id="73" name=""/>
            <p:cNvSpPr/>
            <p:nvPr/>
          </p:nvSpPr>
          <p:spPr>
            <a:xfrm>
              <a:off x="0" y="30960"/>
              <a:ext cx="1258920" cy="95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5"/>
            <a:srcRect l="1449" t="12423" r="7089" b="3731"/>
            <a:stretch/>
          </p:blipFill>
          <p:spPr>
            <a:xfrm>
              <a:off x="114120" y="0"/>
              <a:ext cx="992160" cy="6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 txBox="1"/>
            <p:nvPr/>
          </p:nvSpPr>
          <p:spPr>
            <a:xfrm>
              <a:off x="152280" y="705240"/>
              <a:ext cx="954000" cy="183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424320" cy="3457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26641" t="5910" r="0" b="28927"/>
          <a:stretch/>
        </p:blipFill>
        <p:spPr>
          <a:xfrm>
            <a:off x="4356000" y="5084640"/>
            <a:ext cx="2378160" cy="158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1332000" y="0"/>
            <a:ext cx="619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я зовут Максим  Федот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765000"/>
            <a:ext cx="4500720" cy="4392720"/>
            <a:chOff x="4643280" y="765000"/>
            <a:chExt cx="4500720" cy="4392720"/>
          </a:xfrm>
        </p:grpSpPr>
        <p:sp>
          <p:nvSpPr>
            <p:cNvPr id="80" name=""/>
            <p:cNvSpPr/>
            <p:nvPr/>
          </p:nvSpPr>
          <p:spPr>
            <a:xfrm>
              <a:off x="4643280" y="765000"/>
              <a:ext cx="4500720" cy="4392720"/>
            </a:xfrm>
            <a:prstGeom prst="cloudCallout">
              <a:avLst>
                <a:gd name="adj1" fmla="val -80652"/>
                <a:gd name="adj2" fmla="val 272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32360" y="981000"/>
              <a:ext cx="4211640" cy="37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Я учусь в третьем классе Дубровской средней школы.  Очень люблю уроки информатики, которые проводит учитель информатики Августа Ивановна. Там мы решаем задачи, составляем алгоритмы и играем на компьютерах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1547640" y="5202360"/>
            <a:ext cx="1656000" cy="165564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0" y="0"/>
            <a:ext cx="1224000" cy="1150920"/>
            <a:chOff x="0" y="0"/>
            <a:chExt cx="1224000" cy="1150920"/>
          </a:xfrm>
        </p:grpSpPr>
        <p:sp>
          <p:nvSpPr>
            <p:cNvPr id="84" name=""/>
            <p:cNvSpPr/>
            <p:nvPr/>
          </p:nvSpPr>
          <p:spPr>
            <a:xfrm>
              <a:off x="0" y="36360"/>
              <a:ext cx="122400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5"/>
            <a:srcRect l="1449" t="12423" r="7089" b="3731"/>
            <a:stretch/>
          </p:blipFill>
          <p:spPr>
            <a:xfrm>
              <a:off x="110880" y="0"/>
              <a:ext cx="96444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 txBox="1"/>
            <p:nvPr/>
          </p:nvSpPr>
          <p:spPr>
            <a:xfrm>
              <a:off x="147960" y="827640"/>
              <a:ext cx="927720" cy="21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newsflash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0" t="4437" r="48962" b="55596"/>
          <a:stretch/>
        </p:blipFill>
        <p:spPr>
          <a:xfrm>
            <a:off x="1763640" y="3933720"/>
            <a:ext cx="4608720" cy="27068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92720" y="1268280"/>
            <a:ext cx="3170160" cy="28432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835280" y="0"/>
            <a:ext cx="684216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ня зовут Дима Моисее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-360" y="836640"/>
            <a:ext cx="4788360" cy="3744720"/>
            <a:chOff x="-360" y="836640"/>
            <a:chExt cx="4788360" cy="3744720"/>
          </a:xfrm>
        </p:grpSpPr>
        <p:sp>
          <p:nvSpPr>
            <p:cNvPr id="91" name=""/>
            <p:cNvSpPr/>
            <p:nvPr/>
          </p:nvSpPr>
          <p:spPr>
            <a:xfrm flipH="1">
              <a:off x="-720" y="836640"/>
              <a:ext cx="4608360" cy="3744720"/>
            </a:xfrm>
            <a:prstGeom prst="cloudCallout">
              <a:avLst>
                <a:gd name="adj1" fmla="val -72907"/>
                <a:gd name="adj2" fmla="val -261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9640" y="1341360"/>
              <a:ext cx="424836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Я  ученик  второго  класса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н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8 лет.  Мои  любимые  уроки  проводят  Августа  Ивановна  и  Елена  Ивановна.  Августа  Иванов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роводит  информатику, а  Елена  Ивановна физкультуру.  На  физкультуре  можно   поигр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  футбол, а на  информатике  на  компьютере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7126200" y="5013360"/>
            <a:ext cx="11811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0" y="0"/>
            <a:ext cx="1476360" cy="1341360"/>
            <a:chOff x="0" y="0"/>
            <a:chExt cx="1476360" cy="1341360"/>
          </a:xfrm>
        </p:grpSpPr>
        <p:sp>
          <p:nvSpPr>
            <p:cNvPr id="95" name=""/>
            <p:cNvSpPr/>
            <p:nvPr/>
          </p:nvSpPr>
          <p:spPr>
            <a:xfrm>
              <a:off x="0" y="42480"/>
              <a:ext cx="1476360" cy="12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5"/>
            <a:srcRect l="1449" t="12423" r="7089" b="3731"/>
            <a:stretch/>
          </p:blipFill>
          <p:spPr>
            <a:xfrm>
              <a:off x="133920" y="0"/>
              <a:ext cx="116352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178560" y="964440"/>
              <a:ext cx="1118880" cy="25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БЭМС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p:transition spd="med">
    <p:newsflash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8040" y="548280"/>
            <a:ext cx="782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тика мир объяснить помогает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на как друга и зовет, и ведет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то с информатикой в сердце шагает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т никогда и нигде не пропад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55640" y="2852640"/>
            <a:ext cx="1800360" cy="16401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877080" y="3500280"/>
            <a:ext cx="1655640" cy="161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2843280" y="3284640"/>
            <a:ext cx="171288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788000" y="2852640"/>
            <a:ext cx="1800000" cy="1614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68360" y="5661000"/>
            <a:ext cx="4392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АНДА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БЭМС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805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 конкурсу готов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9:14:11Z</dcterms:created>
  <dc:creator>Ученик 10</dc:creator>
  <dc:description/>
  <dc:language>en-US</dc:language>
  <cp:lastModifiedBy>Учитель</cp:lastModifiedBy>
  <dcterms:modified xsi:type="dcterms:W3CDTF">2009-01-21T07:50:50Z</dcterms:modified>
  <cp:revision>21</cp:revision>
  <dc:subject/>
  <dc:title>МОУ «Дубровская СОШ»</dc:title>
</cp:coreProperties>
</file>