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757-AE14-49CA-B5CB-2713BA98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60E-5652-458C-82B4-38692067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64F-023F-41AF-9FB5-658A0109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557-7553-4518-AE86-53CB7897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4DE-1625-4FEC-8219-CF694E38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E21-2A86-4F8D-A4D7-43DE86D3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BE8-FD85-4B4D-94FB-DA3100D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027-9FFA-43C6-826C-DB2B9A4B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5B1-344C-4BE1-AA71-0B803CC0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71D-3821-4317-9E3D-B7B47B07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C93-AF73-4B22-B177-EB782DD7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D31-2C5C-411A-848A-3C24C07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27B-F331-4DA3-BD71-5543FD50F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952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838080"/>
            <a:ext cx="7315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егемотик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 беда, что идти далеко,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 боимся, что путь будет труден.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икогда не давались легко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остижения людя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69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3472" t="17913" r="23069" b="10236"/>
          <a:stretch/>
        </p:blipFill>
        <p:spPr>
          <a:xfrm>
            <a:off x="0" y="0"/>
            <a:ext cx="945036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3049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41148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4267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434340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4343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и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666880"/>
            <a:ext cx="1066680" cy="60984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7771" h="21600">
                <a:moveTo>
                  <a:pt x="0" y="0"/>
                </a:moveTo>
                <a:lnTo>
                  <a:pt x="37771" y="0"/>
                </a:lnTo>
                <a:lnTo>
                  <a:pt x="37771" y="21600"/>
                </a:lnTo>
                <a:lnTo>
                  <a:pt x="0" y="21600"/>
                </a:lnTo>
                <a:close/>
              </a:path>
              <a:path fill="lightenLess" w="37771" h="21600">
                <a:moveTo>
                  <a:pt x="0" y="0"/>
                </a:moveTo>
                <a:lnTo>
                  <a:pt x="37771" y="0"/>
                </a:lnTo>
                <a:lnTo>
                  <a:pt x="36371" y="1400"/>
                </a:lnTo>
                <a:lnTo>
                  <a:pt x="1400" y="1400"/>
                </a:lnTo>
                <a:close/>
              </a:path>
              <a:path fill="darken" w="37771" h="21600">
                <a:moveTo>
                  <a:pt x="37771" y="0"/>
                </a:moveTo>
                <a:lnTo>
                  <a:pt x="37771" y="21600"/>
                </a:lnTo>
                <a:lnTo>
                  <a:pt x="36371" y="20200"/>
                </a:lnTo>
                <a:lnTo>
                  <a:pt x="36371" y="1400"/>
                </a:lnTo>
                <a:close/>
              </a:path>
              <a:path fill="darkenLess" w="37771" h="21600">
                <a:moveTo>
                  <a:pt x="3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1" y="20200"/>
                </a:lnTo>
                <a:close/>
              </a:path>
              <a:path fill="lighten" w="3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743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162920" y="2438280"/>
            <a:ext cx="990360" cy="53352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683" y="1400"/>
                </a:lnTo>
                <a:lnTo>
                  <a:pt x="1400" y="140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683" y="20200"/>
                </a:lnTo>
                <a:lnTo>
                  <a:pt x="38683" y="140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3" y="2020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8288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057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2514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т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2285640"/>
            <a:ext cx="81532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ш Денис – сочинит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зки может он соз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вот нынче догада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д Морозу напис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ть ты, дедушка, иль н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д Мороз ему в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тицу счастья в класс посл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успешным пожел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ис старанье проявл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курсах участье приним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ыжи тоже любит, не бо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на них, как птица, мч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3227" t="17635" r="25058" b="64739"/>
          <a:stretch/>
        </p:blipFill>
        <p:spPr>
          <a:xfrm>
            <a:off x="380880" y="274680"/>
            <a:ext cx="8305920" cy="166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14600" y="6094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6858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н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640080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3400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2285640"/>
            <a:ext cx="81532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твей у нас моделист и конструкто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ит петь, рисовать, мастер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пашный бой ему по плеч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 любознателен – участник конк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ворит: «Побольше узнать я хоч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3227" t="17635" r="25058" b="64739"/>
          <a:stretch/>
        </p:blipFill>
        <p:spPr>
          <a:xfrm>
            <a:off x="380880" y="274680"/>
            <a:ext cx="8305920" cy="1660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14600" y="6094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7621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724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273528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164916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276720" y="4343400"/>
            <a:ext cx="16239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240" y="2209320"/>
            <a:ext cx="84582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иил – участник конкурсов в крае, в рай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ть в спорте с семь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ть проект для семь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любознательность просто в зако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илы для творчества подрос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227" t="17635" r="25058" b="64739"/>
          <a:stretch/>
        </p:blipFill>
        <p:spPr>
          <a:xfrm>
            <a:off x="380880" y="274680"/>
            <a:ext cx="8305920" cy="166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14600" y="6094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6094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ни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3076560" cy="411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1495440" cy="219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828800" y="4267080"/>
            <a:ext cx="161460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733920" y="4191120"/>
            <a:ext cx="165708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520" y="2285640"/>
            <a:ext cx="81532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таша Игнатова конкурсы люб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ть «Кенгуру», хоть «ЛИ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быть, получит пр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еще у нее умелые ру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жна модель - у хозяйки нет ску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13227" t="17635" r="25058" b="64739"/>
          <a:stretch/>
        </p:blipFill>
        <p:spPr>
          <a:xfrm>
            <a:off x="380880" y="274680"/>
            <a:ext cx="8305920" cy="1660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05320" y="83808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т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64008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24" h="21600">
                <a:moveTo>
                  <a:pt x="19955" y="10800"/>
                </a:moveTo>
                <a:lnTo>
                  <a:pt x="33968" y="3794"/>
                </a:lnTo>
                <a:lnTo>
                  <a:pt x="339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360880" cy="3962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14655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1376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2285640"/>
            <a:ext cx="81532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перед, без страха и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онкурс смекалистых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ьмем с собой и знанья и ум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ь в школу ходим мы не з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3227" t="17635" r="25058" b="64739"/>
          <a:stretch/>
        </p:blipFill>
        <p:spPr>
          <a:xfrm>
            <a:off x="380880" y="274680"/>
            <a:ext cx="8305920" cy="1660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14600" y="6094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9-01-21T08:23:2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