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76200" y="1092240"/>
            <a:ext cx="479448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e6e6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8200" y="1079280"/>
            <a:ext cx="95457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8200" y="4377960"/>
            <a:ext cx="95457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8200" y="107928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9520" y="107928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8200" y="437796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9520" y="437796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8200" y="1079280"/>
            <a:ext cx="3073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5600" y="1079280"/>
            <a:ext cx="3073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23000" y="1079280"/>
            <a:ext cx="3073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8200" y="4377960"/>
            <a:ext cx="3073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5600" y="4377960"/>
            <a:ext cx="3073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23000" y="4377960"/>
            <a:ext cx="3073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8200" y="1079280"/>
            <a:ext cx="954576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8200" y="1079280"/>
            <a:ext cx="954576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8200" y="1079280"/>
            <a:ext cx="465804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9520" y="1079280"/>
            <a:ext cx="465804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0720" y="-403560"/>
            <a:ext cx="8996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8200" y="107928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9520" y="1079280"/>
            <a:ext cx="465804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8200" y="437796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8200" y="1079280"/>
            <a:ext cx="954576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8200" y="1079280"/>
            <a:ext cx="465804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9520" y="107928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9520" y="437796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8200" y="107928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9520" y="107928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8200" y="4377960"/>
            <a:ext cx="95457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8200" y="1079280"/>
            <a:ext cx="95457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8200" y="4377960"/>
            <a:ext cx="95457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07928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9520" y="107928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8200" y="437796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9520" y="437796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8200" y="1079280"/>
            <a:ext cx="3073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5600" y="1079280"/>
            <a:ext cx="3073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23000" y="1079280"/>
            <a:ext cx="3073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8200" y="4377960"/>
            <a:ext cx="3073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5600" y="4377960"/>
            <a:ext cx="3073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23000" y="4377960"/>
            <a:ext cx="3073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8200" y="1079280"/>
            <a:ext cx="954576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8200" y="1079280"/>
            <a:ext cx="465804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9520" y="1079280"/>
            <a:ext cx="465804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20720" y="-403560"/>
            <a:ext cx="8996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8200" y="107928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9520" y="1079280"/>
            <a:ext cx="465804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8200" y="437796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8200" y="1079280"/>
            <a:ext cx="465804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9520" y="107928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9520" y="437796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8200" y="107928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9520" y="1079280"/>
            <a:ext cx="465804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8200" y="4377960"/>
            <a:ext cx="95457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011564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34960" y="627120"/>
            <a:ext cx="70088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47920" y="2101320"/>
            <a:ext cx="6996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6000"/>
              </a:lnSpc>
              <a:spcAft>
                <a:spcPts val="1151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860400" indent="-285840">
              <a:lnSpc>
                <a:spcPct val="86000"/>
              </a:lnSpc>
              <a:spcAft>
                <a:spcPts val="11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2" marL="1292400" indent="-214560">
              <a:lnSpc>
                <a:spcPct val="86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3" marL="1724040" indent="-212760">
              <a:lnSpc>
                <a:spcPct val="86000"/>
              </a:lnSpc>
              <a:spcAft>
                <a:spcPts val="11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4" marL="2155680" indent="-214200">
              <a:lnSpc>
                <a:spcPct val="86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5" marL="2155680" indent="-214200">
              <a:lnSpc>
                <a:spcPct val="86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6" marL="2155680" indent="-214200">
              <a:lnSpc>
                <a:spcPct val="86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9178920" y="6659640"/>
            <a:ext cx="90000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100807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-403560"/>
            <a:ext cx="8996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8200" y="1079280"/>
            <a:ext cx="954576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buClr>
                <a:srgbClr val="000000"/>
              </a:buClr>
              <a:buSzPct val="75000"/>
              <a:buFont typeface="StarSymbo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buClr>
                <a:srgbClr val="000000"/>
              </a:buClr>
              <a:buFont typeface="Symbol" charset="2"/>
              <a:buChar char="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buClr>
                <a:srgbClr val="000000"/>
              </a:buClr>
              <a:buFont typeface="Symbol" charset="2"/>
              <a:buChar char="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buClr>
                <a:srgbClr val="000000"/>
              </a:buClr>
              <a:buFont typeface="Symbol" charset="2"/>
              <a:buChar char="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9000" cy="439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21000000">
            <a:off x="9189720" y="7079760"/>
            <a:ext cx="86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9D10C-EE7A-4629-859D-203EE521D14A}" type="slidenum"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86120" y="5343120"/>
            <a:ext cx="701352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Выполнила: Каменских Татьяна</a:t>
            </a:r>
            <a:br>
              <a:rPr sz="2600"/>
            </a:b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ученица 11 класса</a:t>
            </a:r>
            <a:br>
              <a:rPr sz="2600"/>
            </a:b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МОУ «Таборская СОШ» </a:t>
            </a:r>
            <a:br>
              <a:rPr sz="2600"/>
            </a:b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39440" y="925200"/>
            <a:ext cx="700092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e6e6ff"/>
                </a:solidFill>
                <a:latin typeface="Times New Roman"/>
              </a:rPr>
              <a:t>Реферат</a:t>
            </a:r>
            <a:endParaRPr b="0" lang="en-US" sz="4800" spc="-1" strike="noStrike">
              <a:solidFill>
                <a:srgbClr val="e6e6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 u="sng">
                <a:solidFill>
                  <a:srgbClr val="e6e6ff"/>
                </a:solidFill>
                <a:uFillTx/>
                <a:latin typeface="Times New Roman"/>
              </a:rPr>
              <a:t>«Человек на войне в произведениях  «Война и мир» Л.Н.Толстого и «Живые и мертвые» К.М. Симонова».</a:t>
            </a:r>
            <a:endParaRPr b="0" lang="en-US" sz="4800" spc="-1" strike="noStrike">
              <a:solidFill>
                <a:srgbClr val="e6e6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79640" y="179280"/>
            <a:ext cx="4861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МОУ «Таборская СОШ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60720" y="6840360"/>
            <a:ext cx="30607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боры 200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360" y="37800"/>
            <a:ext cx="9001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Библиография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78920" y="1150920"/>
            <a:ext cx="9550440" cy="62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17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.Е.Каплан «Русская литература 10 класс», М: Просвещение, 199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7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.Н.Толстой «Севастопольские рассказы», 1993 г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. Г. Качурин «Изучение русской литературы в 10 классе», М: Просвещение, 198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7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.Г.Качурин, Д. К. Мотольская «Русская литература 9 класс», М: Просвещение,198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7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.Г.Качурин, Д. К. Мотольская «Русская литература 9 класс», М: Просвещение,198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7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учное издательство БРЭ, 2004 г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7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.Н.Толстой «Война и мир», М: Художественная литература, 198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.М. Симонов «Живые и мертвые», М: Просвещение, 198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90010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Цели и задачи реферата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67840" y="1079280"/>
            <a:ext cx="9550440" cy="63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ель: выявление особенностей изображения войны в произведениях «Война и мир» Л. Н. Толстого, «Живые и мертвые» К. М. Симонова, а также раскрытие отношения Л. Н. Толстого и К. М. Симонова к вой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Познакомиться с биографией Л. Н. Толстого и К. М. Симо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Улучшить аналитические навыки анализа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) Раскрыть особенности изображения войны в творчестве Л. Н. Толстого и К. М. Симон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360" y="42840"/>
            <a:ext cx="900108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Война в жизни Л. Н. Толстого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67840" y="1079280"/>
            <a:ext cx="9550440" cy="63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. Н. Толстой много раз бывал на войне. На Кавказе Толстой сделал главный выбор в жизни – стать писателем. Также на Кавказе Толстой  участвовал во многих стычках и подвергался всем опасностям боевой кавказской жизни. Когда в конце 1853 года вспыхнула Крымская война, Толстой перевёлся в Дунайскую армию, участвовал в сражении при Ольтенице и в осаде Силистрии.  С ноября 1854 г. по к. 1855 г.  был в Севастополе. Во время службы в Севастополе Толстой написал «Севастопольские рассказы». В этих рассказах Толстой старался показать, ту военную жизнь, которая текла в осаждённом Севастополе. Толстой писал сцены войны, ничуть их не приукрашивая. Л. Н. Толстой имел все права и притязания на Георгиевский крест, но не получил его, чем, видимо, был огорчё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1979640" cy="252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920000" y="1260360"/>
            <a:ext cx="1620720" cy="2036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140360" y="900000"/>
            <a:ext cx="1979280" cy="23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90010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Война в жизни К. М. Симонова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67840" y="861480"/>
            <a:ext cx="9550440" cy="67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ство и юность Константина Симонова прошли в Рязани и Саратове, в семье с почти армейским укладом жизни. Вся жизнь Симонова была связана с армией. В 1939 г. он был направлен в качестве военного корреспондента на Халхин-Гол в Монголию. С началом войны призван в армию, работал в газете "Боевое знамя". В 1942 ему было присвоено звание старшего батальонного комиссара, в 1943 - звание подполковника, а после войны - полковника. Большая часть его военных корреспонденций публиковалась в "Красной звезде". В годы войны он написал  пьесы "Русские люди", "Жди меня", "Так и будет", повесть "Дни и ночи", две книги стихов "С тобой и без тебя" и "Война". Как военный корреспондент побывал на всех фронтах, прошел по землям Румынии, Болгарии, Югославии, Польши и Германии, был свидетелем последних боев за Берлин. После войны появились его сборники очерков: "Письма из Чехословакии", "Славянская дружба", "Югославская тетрадь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войны в течение трех лет пробыл в многочисленных зарубежных командировках (Япония, США, Китай). С 1958 г. по 1960 г. жил в Ташкенте как корреспондент "Правды" по республикам Средней Аз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1959 г. увидел свет роман "Живые и мертвые". В 1963 - 64гг. роман "Солдатами не рождаются". В 1970 - 71гг. было написано продолжение-"Последнее лето".  В сентябре 1974 года Константину Михайловичу было присвоено звание Героя Социалистического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332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536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0440" y="720720"/>
            <a:ext cx="1339920" cy="1979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40360" y="1079640"/>
            <a:ext cx="1979280" cy="1439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280360" y="720720"/>
            <a:ext cx="144000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360" y="112320"/>
            <a:ext cx="9001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Создание «Войны и мира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67840" y="1125000"/>
            <a:ext cx="9550440" cy="62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«Войны и мира» пришлось на самый благоприятный период жизни писателя – упоением личным счастьем. Роман создавался в течении первых 10-12 лет после женитьбы. Роман был задуман о декабристе, вернувшемся после 30 – летней  сибирской ссылки. Но в процессе всех замыслов, Толстой решил за основу романа взять Отечественную войну 1812 года. А так как война 12 – года была в связи с 1805 годом, то и весь роман писатель начал с это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6480000"/>
            <a:ext cx="16207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.Н.Толстой за рабочим сто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65480" y="5400720"/>
            <a:ext cx="27748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.Н.Толстой за рабочим столом в ясной пол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0360" y="5040360"/>
            <a:ext cx="2521080" cy="2160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40360" y="5329080"/>
            <a:ext cx="24051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0360" y="-1908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Создание романа «Живые и мертвые» К.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М. Симонова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67840" y="1079280"/>
            <a:ext cx="9550440" cy="63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21276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680320"/>
                <a:tab algn="l" pos="9404280"/>
                <a:tab algn="l" pos="9428040"/>
                <a:tab algn="l" pos="9877320"/>
                <a:tab algn="l" pos="1032660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1276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680320"/>
                <a:tab algn="l" pos="9404280"/>
                <a:tab algn="l" pos="9428040"/>
                <a:tab algn="l" pos="9877320"/>
                <a:tab algn="l" pos="1032660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1276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680320"/>
                <a:tab algn="l" pos="9404280"/>
                <a:tab algn="l" pos="9428040"/>
                <a:tab algn="l" pos="9877320"/>
                <a:tab algn="l" pos="1032660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1276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680320"/>
                <a:tab algn="l" pos="9404280"/>
                <a:tab algn="l" pos="9428040"/>
                <a:tab algn="l" pos="9877320"/>
                <a:tab algn="l" pos="1032660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1276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680320"/>
                <a:tab algn="l" pos="9404280"/>
                <a:tab algn="l" pos="9428040"/>
                <a:tab algn="l" pos="987732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1955 году К. М. Симонов приступает к работе над романом «Живые и мертвые». С 1959 – 1960 гг. писатель живет в Ташкенте. Вернувшись в Москву, он привозит законченный роман. Но завершена только первая часть романа, большей частью, это произведение о Великой Отечественной войне. Найдены герои, с которыми читатель пройдет путь от первых дней отступления до разгрома немецкой армии под Москвой. А через 5 лет, в 1965 г., К. М. Симонов заканчивает свою новую книгу «Солдатами не рождаются», которая является не новой встречей с героями романа «Живые и мертвые». Сталинград, неприукрашенная правда жизни и войны на новом этапе одолении науки побеждать. Симонов предпологал довести своих героев до 1945 года, до конца войны, но в произведении стало очевидно, что действие трилогии завершается в тех местах, где оно начиналось. Белоруссия 1944 год, операция «Багратион» - эти события легли в основу третьей книги, которую Симонов назвал «Последнее лето». Все эти произведения объеденины автором в трилогию под общим названием «Живые и мертвы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1276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680320"/>
                <a:tab algn="l" pos="9404280"/>
                <a:tab algn="l" pos="9428040"/>
                <a:tab algn="l" pos="987732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илогия К. М. Симонова «Живые и мертвые» была удостоена Ленинской премии за 1973 г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162072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99280" y="539640"/>
            <a:ext cx="12607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0360" y="112320"/>
            <a:ext cx="9001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Наполеон и Кутузов в романе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67840" y="1079280"/>
            <a:ext cx="9550440" cy="63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омане Толстого «Война и мир» представлены все классы общества, от императоров и королей до последнего солдата. Особое внимание в романе Толстой уделил полководцу Кутузову и императору Наполеону. На протяжении всего романа писатель противопоставляет этих геро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тузов ставит своей целью спасти Россию от разорения и нападок армии Наполеона. Полководец верит в патриотизм и силу своей арм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олеон напротив, ставит своей целью награбить побольше богатства, и вести пьяную разгульну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60360" y="720720"/>
            <a:ext cx="197964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477200" y="900000"/>
            <a:ext cx="1342800" cy="1621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911760" y="1039680"/>
            <a:ext cx="202860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0360" y="-179640"/>
            <a:ext cx="9001080" cy="19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Изображение Синцова и Серпилина в роман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К. М. Симонова «Живые и мертвые»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67840" y="790200"/>
            <a:ext cx="955044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логия Симонова “Живые и мертвые”, благодаря широте охвата событий и отражения судеб людей на войне, получила особое название - “понорамного” романа или романа-события. Сам Симонов признавался, что центральное в его романе – это человек на вой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й герой трилогии – генерал Серпилин. Этот образ, по словам самого писателя, воплощает его “представление о положительном герое этой войны, этого общества, в эту эпоху...” С образом Серпилина входят в военную прозу люди трагической судьбы – те, кто были подвергнуты репрессиям в 30-е 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яду с Серпилиным главным героем романа является Синцов. Автор подчеркивает индивидуальность Синцова, но замечает, что он – один из мног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ы Серпилина и Синцова имеют большое значения для всей трилогии. Герои трилогии – образ собирательный. Но некоторые моменты из жизни вымышленных героев совпадают с тем, как жили и погибали подлинные герои Великой Отчественной войны. Так, например, именно в 1944 году, как герой трилогии Федор Федорович Серпилин, от полученных ран скончался генерал армии Ватутин Николай Федорович (1901-1944), звание Героя Советского Союза ему было присвоено посмертно в 1965 году. Генерал Н. Ф. Ватутин принимал участие в Курской и Сталинградской битве, то есть именно там, куда поместил К. М. Симонов своего героя генерала Серпил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0360" y="-360"/>
            <a:ext cx="900108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Значение творчества Л. Н.Толстого и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К. М. Симонова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69560" y="1149480"/>
            <a:ext cx="9550440" cy="62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. Н. Толстой — один из немногих за всю историю человечества людей, кто задумывался над смыслом жизни и подчинил этим идеям все свое существование. Толстой в романе «Война и мир» отрицает войну как нарушение гармонии.Толстой понимает, что война как таковая враждебна интересам народа, человека и человечества. Война несёт гибель, страдания опустошение, смерть и в первую очередь простой народ ощущает тяготы войны. В своих произведениях Толстой предостерегает нас от ошибок. Сегодня Толстой помогает сотням миллионам читателям понять сложное, драматическое развитие современного мира, определить своё место в трудной борьбе за мир, свободу, социальную справедливость для всех народов Земли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логия К. М. Симонова «Живые и мертвые» - величайшее произведение 20 века. К. М. Симонов – достойный преемник Л. Н. Толстого. Симонов учился у Л. Н. Толстого главному – принципам изображения войны и человека на войне. Толстой учит Симонова не судить человека, исходя из того, каким он кажется, и особенно из того, каким он хочет казаться. Толстой учит Симонова проверять ценность человека его поведением в самой драматической ситуации – перед лицом смерти. Философская проблематика пришла к Симонову именно от Толстого, которая выражена им в многозначности заглавия «Живые и мертвые». Так же как и Толстой, Симонов смог показать величие простоты, но низость тех, кто считает себя великими, рвется к власти, не взирая на отсутствие души и талантов; что есть преданность, а что является предательством.. Трилогию «Живые и мертвые» можно поставить в один ряд с романом-эпопеей «Война и мир», как произведения, равновеликие по силе мудр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tod_2</cp:lastModifiedBy>
  <dcterms:modified xsi:type="dcterms:W3CDTF">2008-02-15T07:58:06Z</dcterms:modified>
  <cp:revision>1</cp:revision>
  <dc:subject/>
  <dc:title>Выполнила: Каменских Татьяна ученица 11 класса МОУ «Таборская СОШ»  </dc:title>
</cp:coreProperties>
</file>