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gif" ContentType="image/gif"/>
  <Override PartName="/ppt/media/image16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25.wmf" ContentType="image/x-wmf"/>
  <Override PartName="/ppt/media/image9.png" ContentType="image/png"/>
  <Override PartName="/ppt/media/image31.gif" ContentType="image/gif"/>
  <Override PartName="/ppt/media/image11.png" ContentType="image/png"/>
  <Override PartName="/ppt/media/image32.gif" ContentType="image/gif"/>
  <Override PartName="/ppt/media/image37.gif" ContentType="image/gif"/>
  <Override PartName="/ppt/media/image7.gif" ContentType="image/gif"/>
  <Override PartName="/ppt/media/image30.gif" ContentType="image/gif"/>
  <Override PartName="/ppt/media/image8.png" ContentType="image/png"/>
  <Override PartName="/ppt/media/image34.png" ContentType="image/png"/>
  <Override PartName="/ppt/media/image41.gif" ContentType="image/gif"/>
  <Override PartName="/ppt/media/image39.gif" ContentType="image/gif"/>
  <Override PartName="/ppt/media/image35.gif" ContentType="image/gif"/>
  <Override PartName="/ppt/media/image36.gif" ContentType="image/gif"/>
  <Override PartName="/ppt/media/image38.gif" ContentType="image/gif"/>
  <Override PartName="/ppt/media/image40.gif" ContentType="image/gif"/>
  <Override PartName="/ppt/media/image13.png" ContentType="image/png"/>
  <Override PartName="/ppt/media/image10.png" ContentType="image/png"/>
  <Override PartName="/ppt/media/image28.wmf" ContentType="image/x-wmf"/>
  <Override PartName="/ppt/media/image42.gif" ContentType="image/gif"/>
  <Override PartName="/ppt/media/image5.png" ContentType="image/png"/>
  <Override PartName="/ppt/media/image4.jpeg" ContentType="image/jpeg"/>
  <Override PartName="/ppt/media/image12.png" ContentType="image/png"/>
  <Override PartName="/ppt/media/image33.gif" ContentType="image/gif"/>
  <Override PartName="/ppt/media/image3.gif" ContentType="image/gif"/>
  <Override PartName="/ppt/media/image29.wmf" ContentType="image/x-wmf"/>
  <Override PartName="/ppt/media/image1.png" ContentType="image/png"/>
  <Override PartName="/ppt/media/image2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лавный заголовок</a:t>
            </a:r>
          </a:p>
        </c:rich>
      </c:tx>
      <c:layout>
        <c:manualLayout>
          <c:xMode val="edge"/>
          <c:yMode val="edge"/>
          <c:x val="0.245563609097726"/>
          <c:y val="0.020102651839178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50012496876"/>
          <c:y val="0.132306814941545"/>
          <c:w val="0.703324168957761"/>
          <c:h val="0.84773310521813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Жёлтый </c:v>
                </c:pt>
              </c:strCache>
            </c:strRef>
          </c:tx>
          <c:spPr>
            <a:solidFill>
              <a:srgbClr val="ff6f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олбец B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чёрный</c:v>
                </c:pt>
              </c:strCache>
            </c:strRef>
          </c:tx>
          <c:spPr>
            <a:solidFill>
              <a:srgbClr val="800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олбец B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красный</c:v>
                </c:pt>
              </c:strCache>
            </c:strRef>
          </c:tx>
          <c:spPr>
            <a:solidFill>
              <a:srgbClr val="6666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олбец B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зелёный </c:v>
                </c:pt>
              </c:strCache>
            </c:strRef>
          </c:tx>
          <c:spPr>
            <a:solidFill>
              <a:srgbClr val="6b4794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олбец B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2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фиолетовый </c:v>
                </c:pt>
              </c:strCache>
            </c:strRef>
          </c:tx>
          <c:spPr>
            <a:solidFill>
              <a:srgbClr val="280099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Столбец B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2</c:v>
                </c:pt>
              </c:numCache>
            </c:numRef>
          </c:val>
        </c:ser>
        <c:gapWidth val="100"/>
        <c:overlap val="0"/>
        <c:axId val="39747483"/>
        <c:axId val="2988508"/>
      </c:barChart>
      <c:catAx>
        <c:axId val="39747483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2988508"/>
        <c:crossesAt val="0"/>
        <c:auto val="1"/>
        <c:lblAlgn val="ctr"/>
        <c:lblOffset val="100"/>
        <c:noMultiLvlLbl val="0"/>
      </c:catAx>
      <c:valAx>
        <c:axId val="2988508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39747483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63184203949013"/>
          <c:y val="0.383803820929569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274760" y="1091880"/>
            <a:ext cx="479736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708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52640" y="1092240"/>
            <a:ext cx="524484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580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58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93840" indent="-216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25480" indent="-2142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57480" indent="-216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chart" Target="../charts/chart1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1.png"/><Relationship Id="rId20" Type="http://schemas.openxmlformats.org/officeDocument/2006/relationships/image" Target="../media/image18.png"/><Relationship Id="rId21" Type="http://schemas.openxmlformats.org/officeDocument/2006/relationships/image" Target="../media/image12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gif"/><Relationship Id="rId25" Type="http://schemas.openxmlformats.org/officeDocument/2006/relationships/slideLayout" Target="../slideLayouts/slideLayout2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663640" y="4356000"/>
            <a:ext cx="70196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6f60a"/>
                </a:solidFill>
                <a:latin typeface="Times New Roman"/>
              </a:rPr>
              <a:t>Работу выполнили: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6f60a"/>
                </a:solidFill>
                <a:latin typeface="Times New Roman"/>
              </a:rPr>
              <a:t>Мясникова Марина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6f60a"/>
                </a:solidFill>
                <a:latin typeface="Times New Roman"/>
              </a:rPr>
              <a:t>Ефимова Анна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8783640" cy="3809880"/>
            <a:chOff x="0" y="0"/>
            <a:chExt cx="8783640" cy="3809880"/>
          </a:xfrm>
        </p:grpSpPr>
        <p:sp>
          <p:nvSpPr>
            <p:cNvPr id="46" name=""/>
            <p:cNvSpPr/>
            <p:nvPr/>
          </p:nvSpPr>
          <p:spPr>
            <a:xfrm>
              <a:off x="1295280" y="1531800"/>
              <a:ext cx="1778040" cy="2116440"/>
            </a:xfrm>
            <a:custGeom>
              <a:avLst/>
              <a:gdLst/>
              <a:ahLst/>
              <a:rect l="l" t="t" r="r" b="b"/>
              <a:pathLst>
                <a:path w="4941" h="5880">
                  <a:moveTo>
                    <a:pt x="2884" y="1066"/>
                  </a:moveTo>
                  <a:lnTo>
                    <a:pt x="2881" y="1070"/>
                  </a:lnTo>
                  <a:lnTo>
                    <a:pt x="2878" y="1074"/>
                  </a:lnTo>
                  <a:lnTo>
                    <a:pt x="2873" y="1080"/>
                  </a:lnTo>
                  <a:lnTo>
                    <a:pt x="2870" y="1087"/>
                  </a:lnTo>
                  <a:lnTo>
                    <a:pt x="2867" y="1097"/>
                  </a:lnTo>
                  <a:lnTo>
                    <a:pt x="2864" y="1106"/>
                  </a:lnTo>
                  <a:lnTo>
                    <a:pt x="2858" y="1129"/>
                  </a:lnTo>
                  <a:lnTo>
                    <a:pt x="2852" y="1156"/>
                  </a:lnTo>
                  <a:lnTo>
                    <a:pt x="2846" y="1187"/>
                  </a:lnTo>
                  <a:lnTo>
                    <a:pt x="2840" y="1223"/>
                  </a:lnTo>
                  <a:lnTo>
                    <a:pt x="2834" y="1265"/>
                  </a:lnTo>
                  <a:lnTo>
                    <a:pt x="2754" y="1767"/>
                  </a:lnTo>
                  <a:lnTo>
                    <a:pt x="2306" y="4987"/>
                  </a:lnTo>
                  <a:lnTo>
                    <a:pt x="2329" y="5000"/>
                  </a:lnTo>
                  <a:lnTo>
                    <a:pt x="2354" y="5010"/>
                  </a:lnTo>
                  <a:lnTo>
                    <a:pt x="2384" y="5019"/>
                  </a:lnTo>
                  <a:lnTo>
                    <a:pt x="2415" y="5028"/>
                  </a:lnTo>
                  <a:lnTo>
                    <a:pt x="2487" y="5037"/>
                  </a:lnTo>
                  <a:lnTo>
                    <a:pt x="2570" y="5042"/>
                  </a:lnTo>
                  <a:lnTo>
                    <a:pt x="2686" y="5038"/>
                  </a:lnTo>
                  <a:lnTo>
                    <a:pt x="2639" y="5389"/>
                  </a:lnTo>
                  <a:lnTo>
                    <a:pt x="2577" y="5389"/>
                  </a:lnTo>
                  <a:lnTo>
                    <a:pt x="2540" y="5386"/>
                  </a:lnTo>
                  <a:lnTo>
                    <a:pt x="2487" y="5380"/>
                  </a:lnTo>
                  <a:lnTo>
                    <a:pt x="2332" y="5353"/>
                  </a:lnTo>
                  <a:lnTo>
                    <a:pt x="2246" y="5346"/>
                  </a:lnTo>
                  <a:lnTo>
                    <a:pt x="2246" y="5346"/>
                  </a:lnTo>
                  <a:lnTo>
                    <a:pt x="1988" y="5348"/>
                  </a:lnTo>
                  <a:lnTo>
                    <a:pt x="1851" y="5363"/>
                  </a:lnTo>
                  <a:lnTo>
                    <a:pt x="1716" y="5388"/>
                  </a:lnTo>
                  <a:lnTo>
                    <a:pt x="1583" y="5421"/>
                  </a:lnTo>
                  <a:lnTo>
                    <a:pt x="1451" y="5464"/>
                  </a:lnTo>
                  <a:lnTo>
                    <a:pt x="1484" y="5100"/>
                  </a:lnTo>
                  <a:lnTo>
                    <a:pt x="1583" y="5063"/>
                  </a:lnTo>
                  <a:lnTo>
                    <a:pt x="1666" y="5028"/>
                  </a:lnTo>
                  <a:lnTo>
                    <a:pt x="1735" y="4991"/>
                  </a:lnTo>
                  <a:lnTo>
                    <a:pt x="1763" y="4972"/>
                  </a:lnTo>
                  <a:lnTo>
                    <a:pt x="1787" y="4953"/>
                  </a:lnTo>
                  <a:lnTo>
                    <a:pt x="1828" y="4919"/>
                  </a:lnTo>
                  <a:lnTo>
                    <a:pt x="1846" y="4901"/>
                  </a:lnTo>
                  <a:lnTo>
                    <a:pt x="1862" y="4885"/>
                  </a:lnTo>
                  <a:lnTo>
                    <a:pt x="1875" y="4869"/>
                  </a:lnTo>
                  <a:lnTo>
                    <a:pt x="1886" y="4854"/>
                  </a:lnTo>
                  <a:lnTo>
                    <a:pt x="1896" y="4838"/>
                  </a:lnTo>
                  <a:lnTo>
                    <a:pt x="1900" y="4831"/>
                  </a:lnTo>
                  <a:lnTo>
                    <a:pt x="1903" y="4825"/>
                  </a:lnTo>
                  <a:lnTo>
                    <a:pt x="1906" y="4816"/>
                  </a:lnTo>
                  <a:lnTo>
                    <a:pt x="1909" y="4808"/>
                  </a:lnTo>
                  <a:lnTo>
                    <a:pt x="1916" y="4784"/>
                  </a:lnTo>
                  <a:lnTo>
                    <a:pt x="1923" y="4754"/>
                  </a:lnTo>
                  <a:lnTo>
                    <a:pt x="1931" y="4720"/>
                  </a:lnTo>
                  <a:lnTo>
                    <a:pt x="1949" y="4632"/>
                  </a:lnTo>
                  <a:lnTo>
                    <a:pt x="1968" y="4522"/>
                  </a:lnTo>
                  <a:lnTo>
                    <a:pt x="2162" y="3166"/>
                  </a:lnTo>
                  <a:lnTo>
                    <a:pt x="2246" y="2552"/>
                  </a:lnTo>
                  <a:lnTo>
                    <a:pt x="2246" y="2548"/>
                  </a:lnTo>
                  <a:lnTo>
                    <a:pt x="2456" y="1052"/>
                  </a:lnTo>
                  <a:lnTo>
                    <a:pt x="2246" y="1036"/>
                  </a:lnTo>
                  <a:lnTo>
                    <a:pt x="2246" y="1036"/>
                  </a:lnTo>
                  <a:lnTo>
                    <a:pt x="1765" y="1044"/>
                  </a:lnTo>
                  <a:lnTo>
                    <a:pt x="1740" y="1166"/>
                  </a:lnTo>
                  <a:lnTo>
                    <a:pt x="1711" y="1321"/>
                  </a:lnTo>
                  <a:lnTo>
                    <a:pt x="1645" y="1734"/>
                  </a:lnTo>
                  <a:lnTo>
                    <a:pt x="1469" y="2971"/>
                  </a:lnTo>
                  <a:lnTo>
                    <a:pt x="1441" y="3158"/>
                  </a:lnTo>
                  <a:lnTo>
                    <a:pt x="1441" y="3162"/>
                  </a:lnTo>
                  <a:lnTo>
                    <a:pt x="1411" y="3378"/>
                  </a:lnTo>
                  <a:lnTo>
                    <a:pt x="1352" y="3753"/>
                  </a:lnTo>
                  <a:lnTo>
                    <a:pt x="1292" y="4090"/>
                  </a:lnTo>
                  <a:lnTo>
                    <a:pt x="1229" y="4390"/>
                  </a:lnTo>
                  <a:lnTo>
                    <a:pt x="1165" y="4656"/>
                  </a:lnTo>
                  <a:lnTo>
                    <a:pt x="1099" y="4883"/>
                  </a:lnTo>
                  <a:lnTo>
                    <a:pt x="1065" y="4984"/>
                  </a:lnTo>
                  <a:lnTo>
                    <a:pt x="1031" y="5074"/>
                  </a:lnTo>
                  <a:lnTo>
                    <a:pt x="996" y="5156"/>
                  </a:lnTo>
                  <a:lnTo>
                    <a:pt x="962" y="5230"/>
                  </a:lnTo>
                  <a:lnTo>
                    <a:pt x="891" y="5361"/>
                  </a:lnTo>
                  <a:lnTo>
                    <a:pt x="821" y="5475"/>
                  </a:lnTo>
                  <a:lnTo>
                    <a:pt x="751" y="5572"/>
                  </a:lnTo>
                  <a:lnTo>
                    <a:pt x="687" y="5645"/>
                  </a:lnTo>
                  <a:lnTo>
                    <a:pt x="687" y="5647"/>
                  </a:lnTo>
                  <a:lnTo>
                    <a:pt x="681" y="5657"/>
                  </a:lnTo>
                  <a:lnTo>
                    <a:pt x="613" y="5732"/>
                  </a:lnTo>
                  <a:lnTo>
                    <a:pt x="545" y="5790"/>
                  </a:lnTo>
                  <a:lnTo>
                    <a:pt x="511" y="5814"/>
                  </a:lnTo>
                  <a:lnTo>
                    <a:pt x="477" y="5833"/>
                  </a:lnTo>
                  <a:lnTo>
                    <a:pt x="443" y="5849"/>
                  </a:lnTo>
                  <a:lnTo>
                    <a:pt x="409" y="5861"/>
                  </a:lnTo>
                  <a:lnTo>
                    <a:pt x="371" y="5871"/>
                  </a:lnTo>
                  <a:lnTo>
                    <a:pt x="334" y="5875"/>
                  </a:lnTo>
                  <a:lnTo>
                    <a:pt x="334" y="5875"/>
                  </a:lnTo>
                  <a:lnTo>
                    <a:pt x="332" y="5876"/>
                  </a:lnTo>
                  <a:lnTo>
                    <a:pt x="296" y="5879"/>
                  </a:lnTo>
                  <a:lnTo>
                    <a:pt x="260" y="5876"/>
                  </a:lnTo>
                  <a:lnTo>
                    <a:pt x="225" y="5871"/>
                  </a:lnTo>
                  <a:lnTo>
                    <a:pt x="191" y="5859"/>
                  </a:lnTo>
                  <a:lnTo>
                    <a:pt x="158" y="5844"/>
                  </a:lnTo>
                  <a:lnTo>
                    <a:pt x="126" y="5823"/>
                  </a:lnTo>
                  <a:lnTo>
                    <a:pt x="97" y="5798"/>
                  </a:lnTo>
                  <a:lnTo>
                    <a:pt x="84" y="5784"/>
                  </a:lnTo>
                  <a:lnTo>
                    <a:pt x="71" y="5768"/>
                  </a:lnTo>
                  <a:lnTo>
                    <a:pt x="59" y="5752"/>
                  </a:lnTo>
                  <a:lnTo>
                    <a:pt x="49" y="5735"/>
                  </a:lnTo>
                  <a:lnTo>
                    <a:pt x="40" y="5717"/>
                  </a:lnTo>
                  <a:lnTo>
                    <a:pt x="32" y="5697"/>
                  </a:lnTo>
                  <a:lnTo>
                    <a:pt x="24" y="5675"/>
                  </a:lnTo>
                  <a:lnTo>
                    <a:pt x="17" y="5654"/>
                  </a:lnTo>
                  <a:lnTo>
                    <a:pt x="12" y="5631"/>
                  </a:lnTo>
                  <a:lnTo>
                    <a:pt x="7" y="5606"/>
                  </a:lnTo>
                  <a:lnTo>
                    <a:pt x="4" y="5582"/>
                  </a:lnTo>
                  <a:lnTo>
                    <a:pt x="1" y="5553"/>
                  </a:lnTo>
                  <a:lnTo>
                    <a:pt x="0" y="5526"/>
                  </a:lnTo>
                  <a:lnTo>
                    <a:pt x="0" y="5497"/>
                  </a:lnTo>
                  <a:lnTo>
                    <a:pt x="0" y="5463"/>
                  </a:lnTo>
                  <a:lnTo>
                    <a:pt x="1" y="5446"/>
                  </a:lnTo>
                  <a:lnTo>
                    <a:pt x="2" y="5429"/>
                  </a:lnTo>
                  <a:lnTo>
                    <a:pt x="4" y="5411"/>
                  </a:lnTo>
                  <a:lnTo>
                    <a:pt x="6" y="5396"/>
                  </a:lnTo>
                  <a:lnTo>
                    <a:pt x="8" y="5380"/>
                  </a:lnTo>
                  <a:lnTo>
                    <a:pt x="11" y="5365"/>
                  </a:lnTo>
                  <a:lnTo>
                    <a:pt x="14" y="5349"/>
                  </a:lnTo>
                  <a:lnTo>
                    <a:pt x="17" y="5335"/>
                  </a:lnTo>
                  <a:lnTo>
                    <a:pt x="21" y="5321"/>
                  </a:lnTo>
                  <a:lnTo>
                    <a:pt x="25" y="5307"/>
                  </a:lnTo>
                  <a:lnTo>
                    <a:pt x="30" y="5292"/>
                  </a:lnTo>
                  <a:lnTo>
                    <a:pt x="34" y="5278"/>
                  </a:lnTo>
                  <a:lnTo>
                    <a:pt x="40" y="5263"/>
                  </a:lnTo>
                  <a:lnTo>
                    <a:pt x="46" y="5250"/>
                  </a:lnTo>
                  <a:lnTo>
                    <a:pt x="58" y="5224"/>
                  </a:lnTo>
                  <a:lnTo>
                    <a:pt x="70" y="5203"/>
                  </a:lnTo>
                  <a:lnTo>
                    <a:pt x="83" y="5181"/>
                  </a:lnTo>
                  <a:lnTo>
                    <a:pt x="96" y="5166"/>
                  </a:lnTo>
                  <a:lnTo>
                    <a:pt x="109" y="5150"/>
                  </a:lnTo>
                  <a:lnTo>
                    <a:pt x="123" y="5138"/>
                  </a:lnTo>
                  <a:lnTo>
                    <a:pt x="137" y="5129"/>
                  </a:lnTo>
                  <a:lnTo>
                    <a:pt x="152" y="5121"/>
                  </a:lnTo>
                  <a:lnTo>
                    <a:pt x="165" y="5116"/>
                  </a:lnTo>
                  <a:lnTo>
                    <a:pt x="176" y="5116"/>
                  </a:lnTo>
                  <a:lnTo>
                    <a:pt x="188" y="5115"/>
                  </a:lnTo>
                  <a:lnTo>
                    <a:pt x="200" y="5117"/>
                  </a:lnTo>
                  <a:lnTo>
                    <a:pt x="212" y="5121"/>
                  </a:lnTo>
                  <a:lnTo>
                    <a:pt x="223" y="5127"/>
                  </a:lnTo>
                  <a:lnTo>
                    <a:pt x="236" y="5135"/>
                  </a:lnTo>
                  <a:lnTo>
                    <a:pt x="247" y="5145"/>
                  </a:lnTo>
                  <a:lnTo>
                    <a:pt x="259" y="5157"/>
                  </a:lnTo>
                  <a:lnTo>
                    <a:pt x="270" y="5172"/>
                  </a:lnTo>
                  <a:lnTo>
                    <a:pt x="294" y="5205"/>
                  </a:lnTo>
                  <a:lnTo>
                    <a:pt x="318" y="5246"/>
                  </a:lnTo>
                  <a:lnTo>
                    <a:pt x="334" y="5280"/>
                  </a:lnTo>
                  <a:lnTo>
                    <a:pt x="334" y="5280"/>
                  </a:lnTo>
                  <a:lnTo>
                    <a:pt x="341" y="5295"/>
                  </a:lnTo>
                  <a:lnTo>
                    <a:pt x="358" y="5332"/>
                  </a:lnTo>
                  <a:lnTo>
                    <a:pt x="375" y="5362"/>
                  </a:lnTo>
                  <a:lnTo>
                    <a:pt x="391" y="5387"/>
                  </a:lnTo>
                  <a:lnTo>
                    <a:pt x="407" y="5408"/>
                  </a:lnTo>
                  <a:lnTo>
                    <a:pt x="415" y="5414"/>
                  </a:lnTo>
                  <a:lnTo>
                    <a:pt x="423" y="5422"/>
                  </a:lnTo>
                  <a:lnTo>
                    <a:pt x="431" y="5426"/>
                  </a:lnTo>
                  <a:lnTo>
                    <a:pt x="438" y="5430"/>
                  </a:lnTo>
                  <a:lnTo>
                    <a:pt x="445" y="5432"/>
                  </a:lnTo>
                  <a:lnTo>
                    <a:pt x="452" y="5434"/>
                  </a:lnTo>
                  <a:lnTo>
                    <a:pt x="460" y="5434"/>
                  </a:lnTo>
                  <a:lnTo>
                    <a:pt x="467" y="5432"/>
                  </a:lnTo>
                  <a:lnTo>
                    <a:pt x="485" y="5425"/>
                  </a:lnTo>
                  <a:lnTo>
                    <a:pt x="504" y="5413"/>
                  </a:lnTo>
                  <a:lnTo>
                    <a:pt x="522" y="5399"/>
                  </a:lnTo>
                  <a:lnTo>
                    <a:pt x="540" y="5379"/>
                  </a:lnTo>
                  <a:lnTo>
                    <a:pt x="559" y="5357"/>
                  </a:lnTo>
                  <a:lnTo>
                    <a:pt x="577" y="5330"/>
                  </a:lnTo>
                  <a:lnTo>
                    <a:pt x="595" y="5298"/>
                  </a:lnTo>
                  <a:lnTo>
                    <a:pt x="613" y="5265"/>
                  </a:lnTo>
                  <a:lnTo>
                    <a:pt x="631" y="5226"/>
                  </a:lnTo>
                  <a:lnTo>
                    <a:pt x="648" y="5183"/>
                  </a:lnTo>
                  <a:lnTo>
                    <a:pt x="682" y="5087"/>
                  </a:lnTo>
                  <a:lnTo>
                    <a:pt x="687" y="5069"/>
                  </a:lnTo>
                  <a:lnTo>
                    <a:pt x="687" y="5067"/>
                  </a:lnTo>
                  <a:lnTo>
                    <a:pt x="718" y="4977"/>
                  </a:lnTo>
                  <a:lnTo>
                    <a:pt x="752" y="4853"/>
                  </a:lnTo>
                  <a:lnTo>
                    <a:pt x="788" y="4699"/>
                  </a:lnTo>
                  <a:lnTo>
                    <a:pt x="828" y="4500"/>
                  </a:lnTo>
                  <a:lnTo>
                    <a:pt x="923" y="3971"/>
                  </a:lnTo>
                  <a:lnTo>
                    <a:pt x="1032" y="3266"/>
                  </a:lnTo>
                  <a:lnTo>
                    <a:pt x="1158" y="2384"/>
                  </a:lnTo>
                  <a:lnTo>
                    <a:pt x="1354" y="1078"/>
                  </a:lnTo>
                  <a:lnTo>
                    <a:pt x="1237" y="1106"/>
                  </a:lnTo>
                  <a:lnTo>
                    <a:pt x="1130" y="1142"/>
                  </a:lnTo>
                  <a:lnTo>
                    <a:pt x="1029" y="1188"/>
                  </a:lnTo>
                  <a:lnTo>
                    <a:pt x="939" y="1243"/>
                  </a:lnTo>
                  <a:lnTo>
                    <a:pt x="856" y="1309"/>
                  </a:lnTo>
                  <a:lnTo>
                    <a:pt x="817" y="1346"/>
                  </a:lnTo>
                  <a:lnTo>
                    <a:pt x="781" y="1384"/>
                  </a:lnTo>
                  <a:lnTo>
                    <a:pt x="749" y="1423"/>
                  </a:lnTo>
                  <a:lnTo>
                    <a:pt x="717" y="1467"/>
                  </a:lnTo>
                  <a:lnTo>
                    <a:pt x="687" y="1509"/>
                  </a:lnTo>
                  <a:lnTo>
                    <a:pt x="687" y="1511"/>
                  </a:lnTo>
                  <a:lnTo>
                    <a:pt x="687" y="1513"/>
                  </a:lnTo>
                  <a:lnTo>
                    <a:pt x="661" y="1565"/>
                  </a:lnTo>
                  <a:lnTo>
                    <a:pt x="612" y="1669"/>
                  </a:lnTo>
                  <a:lnTo>
                    <a:pt x="571" y="1776"/>
                  </a:lnTo>
                  <a:lnTo>
                    <a:pt x="553" y="1830"/>
                  </a:lnTo>
                  <a:lnTo>
                    <a:pt x="536" y="1883"/>
                  </a:lnTo>
                  <a:lnTo>
                    <a:pt x="521" y="1936"/>
                  </a:lnTo>
                  <a:lnTo>
                    <a:pt x="507" y="1990"/>
                  </a:lnTo>
                  <a:lnTo>
                    <a:pt x="495" y="2045"/>
                  </a:lnTo>
                  <a:lnTo>
                    <a:pt x="485" y="2098"/>
                  </a:lnTo>
                  <a:lnTo>
                    <a:pt x="476" y="2153"/>
                  </a:lnTo>
                  <a:lnTo>
                    <a:pt x="469" y="2208"/>
                  </a:lnTo>
                  <a:lnTo>
                    <a:pt x="463" y="2264"/>
                  </a:lnTo>
                  <a:lnTo>
                    <a:pt x="459" y="2318"/>
                  </a:lnTo>
                  <a:lnTo>
                    <a:pt x="457" y="2375"/>
                  </a:lnTo>
                  <a:lnTo>
                    <a:pt x="456" y="2430"/>
                  </a:lnTo>
                  <a:lnTo>
                    <a:pt x="456" y="2460"/>
                  </a:lnTo>
                  <a:lnTo>
                    <a:pt x="457" y="2487"/>
                  </a:lnTo>
                  <a:lnTo>
                    <a:pt x="459" y="2512"/>
                  </a:lnTo>
                  <a:lnTo>
                    <a:pt x="461" y="2536"/>
                  </a:lnTo>
                  <a:lnTo>
                    <a:pt x="463" y="2559"/>
                  </a:lnTo>
                  <a:lnTo>
                    <a:pt x="466" y="2579"/>
                  </a:lnTo>
                  <a:lnTo>
                    <a:pt x="470" y="2597"/>
                  </a:lnTo>
                  <a:lnTo>
                    <a:pt x="473" y="2612"/>
                  </a:lnTo>
                  <a:lnTo>
                    <a:pt x="478" y="2628"/>
                  </a:lnTo>
                  <a:lnTo>
                    <a:pt x="484" y="2645"/>
                  </a:lnTo>
                  <a:lnTo>
                    <a:pt x="499" y="2685"/>
                  </a:lnTo>
                  <a:lnTo>
                    <a:pt x="518" y="2730"/>
                  </a:lnTo>
                  <a:lnTo>
                    <a:pt x="541" y="2780"/>
                  </a:lnTo>
                  <a:lnTo>
                    <a:pt x="565" y="2821"/>
                  </a:lnTo>
                  <a:lnTo>
                    <a:pt x="584" y="2862"/>
                  </a:lnTo>
                  <a:lnTo>
                    <a:pt x="602" y="2903"/>
                  </a:lnTo>
                  <a:lnTo>
                    <a:pt x="615" y="2943"/>
                  </a:lnTo>
                  <a:lnTo>
                    <a:pt x="621" y="2962"/>
                  </a:lnTo>
                  <a:lnTo>
                    <a:pt x="626" y="2982"/>
                  </a:lnTo>
                  <a:lnTo>
                    <a:pt x="630" y="3002"/>
                  </a:lnTo>
                  <a:lnTo>
                    <a:pt x="634" y="3022"/>
                  </a:lnTo>
                  <a:lnTo>
                    <a:pt x="637" y="3040"/>
                  </a:lnTo>
                  <a:lnTo>
                    <a:pt x="637" y="3060"/>
                  </a:lnTo>
                  <a:lnTo>
                    <a:pt x="639" y="3079"/>
                  </a:lnTo>
                  <a:lnTo>
                    <a:pt x="639" y="3098"/>
                  </a:lnTo>
                  <a:lnTo>
                    <a:pt x="639" y="3117"/>
                  </a:lnTo>
                  <a:lnTo>
                    <a:pt x="638" y="3134"/>
                  </a:lnTo>
                  <a:lnTo>
                    <a:pt x="637" y="3151"/>
                  </a:lnTo>
                  <a:lnTo>
                    <a:pt x="637" y="3170"/>
                  </a:lnTo>
                  <a:lnTo>
                    <a:pt x="635" y="3185"/>
                  </a:lnTo>
                  <a:lnTo>
                    <a:pt x="632" y="3203"/>
                  </a:lnTo>
                  <a:lnTo>
                    <a:pt x="630" y="3220"/>
                  </a:lnTo>
                  <a:lnTo>
                    <a:pt x="626" y="3236"/>
                  </a:lnTo>
                  <a:lnTo>
                    <a:pt x="623" y="3252"/>
                  </a:lnTo>
                  <a:lnTo>
                    <a:pt x="619" y="3268"/>
                  </a:lnTo>
                  <a:lnTo>
                    <a:pt x="614" y="3284"/>
                  </a:lnTo>
                  <a:lnTo>
                    <a:pt x="609" y="3298"/>
                  </a:lnTo>
                  <a:lnTo>
                    <a:pt x="604" y="3312"/>
                  </a:lnTo>
                  <a:lnTo>
                    <a:pt x="599" y="3326"/>
                  </a:lnTo>
                  <a:lnTo>
                    <a:pt x="586" y="3355"/>
                  </a:lnTo>
                  <a:lnTo>
                    <a:pt x="572" y="3382"/>
                  </a:lnTo>
                  <a:lnTo>
                    <a:pt x="559" y="3405"/>
                  </a:lnTo>
                  <a:lnTo>
                    <a:pt x="544" y="3426"/>
                  </a:lnTo>
                  <a:lnTo>
                    <a:pt x="529" y="3446"/>
                  </a:lnTo>
                  <a:lnTo>
                    <a:pt x="512" y="3461"/>
                  </a:lnTo>
                  <a:lnTo>
                    <a:pt x="496" y="3472"/>
                  </a:lnTo>
                  <a:lnTo>
                    <a:pt x="478" y="3482"/>
                  </a:lnTo>
                  <a:lnTo>
                    <a:pt x="461" y="3489"/>
                  </a:lnTo>
                  <a:lnTo>
                    <a:pt x="445" y="3493"/>
                  </a:lnTo>
                  <a:lnTo>
                    <a:pt x="431" y="3493"/>
                  </a:lnTo>
                  <a:lnTo>
                    <a:pt x="416" y="3494"/>
                  </a:lnTo>
                  <a:lnTo>
                    <a:pt x="402" y="3489"/>
                  </a:lnTo>
                  <a:lnTo>
                    <a:pt x="388" y="3485"/>
                  </a:lnTo>
                  <a:lnTo>
                    <a:pt x="375" y="3478"/>
                  </a:lnTo>
                  <a:lnTo>
                    <a:pt x="363" y="3467"/>
                  </a:lnTo>
                  <a:lnTo>
                    <a:pt x="350" y="3456"/>
                  </a:lnTo>
                  <a:lnTo>
                    <a:pt x="339" y="3443"/>
                  </a:lnTo>
                  <a:lnTo>
                    <a:pt x="334" y="3436"/>
                  </a:lnTo>
                  <a:lnTo>
                    <a:pt x="334" y="3436"/>
                  </a:lnTo>
                  <a:lnTo>
                    <a:pt x="328" y="3428"/>
                  </a:lnTo>
                  <a:lnTo>
                    <a:pt x="318" y="3411"/>
                  </a:lnTo>
                  <a:lnTo>
                    <a:pt x="308" y="3391"/>
                  </a:lnTo>
                  <a:lnTo>
                    <a:pt x="299" y="3369"/>
                  </a:lnTo>
                  <a:lnTo>
                    <a:pt x="289" y="3346"/>
                  </a:lnTo>
                  <a:lnTo>
                    <a:pt x="281" y="3320"/>
                  </a:lnTo>
                  <a:lnTo>
                    <a:pt x="273" y="3291"/>
                  </a:lnTo>
                  <a:lnTo>
                    <a:pt x="259" y="3231"/>
                  </a:lnTo>
                  <a:lnTo>
                    <a:pt x="246" y="3169"/>
                  </a:lnTo>
                  <a:lnTo>
                    <a:pt x="236" y="3104"/>
                  </a:lnTo>
                  <a:lnTo>
                    <a:pt x="227" y="3038"/>
                  </a:lnTo>
                  <a:lnTo>
                    <a:pt x="219" y="2967"/>
                  </a:lnTo>
                  <a:lnTo>
                    <a:pt x="215" y="2895"/>
                  </a:lnTo>
                  <a:lnTo>
                    <a:pt x="212" y="2820"/>
                  </a:lnTo>
                  <a:lnTo>
                    <a:pt x="211" y="2743"/>
                  </a:lnTo>
                  <a:lnTo>
                    <a:pt x="212" y="2648"/>
                  </a:lnTo>
                  <a:lnTo>
                    <a:pt x="216" y="2552"/>
                  </a:lnTo>
                  <a:lnTo>
                    <a:pt x="222" y="2457"/>
                  </a:lnTo>
                  <a:lnTo>
                    <a:pt x="232" y="2361"/>
                  </a:lnTo>
                  <a:lnTo>
                    <a:pt x="243" y="2266"/>
                  </a:lnTo>
                  <a:lnTo>
                    <a:pt x="257" y="2172"/>
                  </a:lnTo>
                  <a:lnTo>
                    <a:pt x="274" y="2079"/>
                  </a:lnTo>
                  <a:lnTo>
                    <a:pt x="293" y="1986"/>
                  </a:lnTo>
                  <a:lnTo>
                    <a:pt x="315" y="1891"/>
                  </a:lnTo>
                  <a:lnTo>
                    <a:pt x="334" y="1817"/>
                  </a:lnTo>
                  <a:lnTo>
                    <a:pt x="334" y="1815"/>
                  </a:lnTo>
                  <a:lnTo>
                    <a:pt x="340" y="1800"/>
                  </a:lnTo>
                  <a:lnTo>
                    <a:pt x="367" y="1710"/>
                  </a:lnTo>
                  <a:lnTo>
                    <a:pt x="398" y="1619"/>
                  </a:lnTo>
                  <a:lnTo>
                    <a:pt x="466" y="1441"/>
                  </a:lnTo>
                  <a:lnTo>
                    <a:pt x="545" y="1266"/>
                  </a:lnTo>
                  <a:lnTo>
                    <a:pt x="589" y="1180"/>
                  </a:lnTo>
                  <a:lnTo>
                    <a:pt x="634" y="1100"/>
                  </a:lnTo>
                  <a:lnTo>
                    <a:pt x="681" y="1022"/>
                  </a:lnTo>
                  <a:lnTo>
                    <a:pt x="687" y="1012"/>
                  </a:lnTo>
                  <a:lnTo>
                    <a:pt x="687" y="1010"/>
                  </a:lnTo>
                  <a:lnTo>
                    <a:pt x="731" y="954"/>
                  </a:lnTo>
                  <a:lnTo>
                    <a:pt x="838" y="831"/>
                  </a:lnTo>
                  <a:lnTo>
                    <a:pt x="953" y="725"/>
                  </a:lnTo>
                  <a:lnTo>
                    <a:pt x="1076" y="637"/>
                  </a:lnTo>
                  <a:lnTo>
                    <a:pt x="1207" y="567"/>
                  </a:lnTo>
                  <a:lnTo>
                    <a:pt x="1347" y="511"/>
                  </a:lnTo>
                  <a:lnTo>
                    <a:pt x="1441" y="487"/>
                  </a:lnTo>
                  <a:lnTo>
                    <a:pt x="1441" y="485"/>
                  </a:lnTo>
                  <a:lnTo>
                    <a:pt x="1494" y="481"/>
                  </a:lnTo>
                  <a:lnTo>
                    <a:pt x="2236" y="484"/>
                  </a:lnTo>
                  <a:lnTo>
                    <a:pt x="2246" y="483"/>
                  </a:lnTo>
                  <a:lnTo>
                    <a:pt x="2246" y="483"/>
                  </a:lnTo>
                  <a:lnTo>
                    <a:pt x="3087" y="556"/>
                  </a:lnTo>
                  <a:lnTo>
                    <a:pt x="3087" y="556"/>
                  </a:lnTo>
                  <a:lnTo>
                    <a:pt x="3372" y="606"/>
                  </a:lnTo>
                  <a:lnTo>
                    <a:pt x="4332" y="733"/>
                  </a:lnTo>
                  <a:lnTo>
                    <a:pt x="4395" y="734"/>
                  </a:lnTo>
                  <a:lnTo>
                    <a:pt x="4448" y="729"/>
                  </a:lnTo>
                  <a:lnTo>
                    <a:pt x="4471" y="722"/>
                  </a:lnTo>
                  <a:lnTo>
                    <a:pt x="4493" y="714"/>
                  </a:lnTo>
                  <a:lnTo>
                    <a:pt x="4513" y="705"/>
                  </a:lnTo>
                  <a:lnTo>
                    <a:pt x="4531" y="692"/>
                  </a:lnTo>
                  <a:lnTo>
                    <a:pt x="4546" y="679"/>
                  </a:lnTo>
                  <a:lnTo>
                    <a:pt x="4559" y="661"/>
                  </a:lnTo>
                  <a:lnTo>
                    <a:pt x="4570" y="643"/>
                  </a:lnTo>
                  <a:lnTo>
                    <a:pt x="4580" y="623"/>
                  </a:lnTo>
                  <a:lnTo>
                    <a:pt x="4584" y="613"/>
                  </a:lnTo>
                  <a:lnTo>
                    <a:pt x="4587" y="601"/>
                  </a:lnTo>
                  <a:lnTo>
                    <a:pt x="4590" y="588"/>
                  </a:lnTo>
                  <a:lnTo>
                    <a:pt x="4592" y="576"/>
                  </a:lnTo>
                  <a:lnTo>
                    <a:pt x="4594" y="563"/>
                  </a:lnTo>
                  <a:lnTo>
                    <a:pt x="4595" y="551"/>
                  </a:lnTo>
                  <a:lnTo>
                    <a:pt x="4596" y="522"/>
                  </a:lnTo>
                  <a:lnTo>
                    <a:pt x="4596" y="515"/>
                  </a:lnTo>
                  <a:lnTo>
                    <a:pt x="4595" y="507"/>
                  </a:lnTo>
                  <a:lnTo>
                    <a:pt x="4594" y="479"/>
                  </a:lnTo>
                  <a:lnTo>
                    <a:pt x="4588" y="384"/>
                  </a:lnTo>
                  <a:lnTo>
                    <a:pt x="4587" y="376"/>
                  </a:lnTo>
                  <a:lnTo>
                    <a:pt x="4585" y="367"/>
                  </a:lnTo>
                  <a:lnTo>
                    <a:pt x="4584" y="358"/>
                  </a:lnTo>
                  <a:lnTo>
                    <a:pt x="4584" y="348"/>
                  </a:lnTo>
                  <a:lnTo>
                    <a:pt x="4583" y="339"/>
                  </a:lnTo>
                  <a:lnTo>
                    <a:pt x="4582" y="331"/>
                  </a:lnTo>
                  <a:lnTo>
                    <a:pt x="4582" y="320"/>
                  </a:lnTo>
                  <a:lnTo>
                    <a:pt x="4582" y="312"/>
                  </a:lnTo>
                  <a:lnTo>
                    <a:pt x="4583" y="276"/>
                  </a:lnTo>
                  <a:lnTo>
                    <a:pt x="4584" y="260"/>
                  </a:lnTo>
                  <a:lnTo>
                    <a:pt x="4585" y="241"/>
                  </a:lnTo>
                  <a:lnTo>
                    <a:pt x="4587" y="226"/>
                  </a:lnTo>
                  <a:lnTo>
                    <a:pt x="4590" y="210"/>
                  </a:lnTo>
                  <a:lnTo>
                    <a:pt x="4592" y="195"/>
                  </a:lnTo>
                  <a:lnTo>
                    <a:pt x="4595" y="179"/>
                  </a:lnTo>
                  <a:lnTo>
                    <a:pt x="4599" y="164"/>
                  </a:lnTo>
                  <a:lnTo>
                    <a:pt x="4603" y="152"/>
                  </a:lnTo>
                  <a:lnTo>
                    <a:pt x="4607" y="138"/>
                  </a:lnTo>
                  <a:lnTo>
                    <a:pt x="4612" y="126"/>
                  </a:lnTo>
                  <a:lnTo>
                    <a:pt x="4617" y="113"/>
                  </a:lnTo>
                  <a:lnTo>
                    <a:pt x="4623" y="101"/>
                  </a:lnTo>
                  <a:lnTo>
                    <a:pt x="4629" y="89"/>
                  </a:lnTo>
                  <a:lnTo>
                    <a:pt x="4635" y="79"/>
                  </a:lnTo>
                  <a:lnTo>
                    <a:pt x="4649" y="60"/>
                  </a:lnTo>
                  <a:lnTo>
                    <a:pt x="4663" y="42"/>
                  </a:lnTo>
                  <a:lnTo>
                    <a:pt x="4677" y="28"/>
                  </a:lnTo>
                  <a:lnTo>
                    <a:pt x="4692" y="17"/>
                  </a:lnTo>
                  <a:lnTo>
                    <a:pt x="4706" y="8"/>
                  </a:lnTo>
                  <a:lnTo>
                    <a:pt x="4722" y="3"/>
                  </a:lnTo>
                  <a:lnTo>
                    <a:pt x="4737" y="0"/>
                  </a:lnTo>
                  <a:lnTo>
                    <a:pt x="4753" y="0"/>
                  </a:lnTo>
                  <a:lnTo>
                    <a:pt x="4776" y="4"/>
                  </a:lnTo>
                  <a:lnTo>
                    <a:pt x="4798" y="10"/>
                  </a:lnTo>
                  <a:lnTo>
                    <a:pt x="4814" y="18"/>
                  </a:lnTo>
                  <a:lnTo>
                    <a:pt x="4814" y="18"/>
                  </a:lnTo>
                  <a:lnTo>
                    <a:pt x="4817" y="21"/>
                  </a:lnTo>
                  <a:lnTo>
                    <a:pt x="4835" y="34"/>
                  </a:lnTo>
                  <a:lnTo>
                    <a:pt x="4852" y="49"/>
                  </a:lnTo>
                  <a:lnTo>
                    <a:pt x="4867" y="71"/>
                  </a:lnTo>
                  <a:lnTo>
                    <a:pt x="4881" y="92"/>
                  </a:lnTo>
                  <a:lnTo>
                    <a:pt x="4894" y="117"/>
                  </a:lnTo>
                  <a:lnTo>
                    <a:pt x="4904" y="146"/>
                  </a:lnTo>
                  <a:lnTo>
                    <a:pt x="4914" y="177"/>
                  </a:lnTo>
                  <a:lnTo>
                    <a:pt x="4922" y="212"/>
                  </a:lnTo>
                  <a:lnTo>
                    <a:pt x="4928" y="248"/>
                  </a:lnTo>
                  <a:lnTo>
                    <a:pt x="4933" y="287"/>
                  </a:lnTo>
                  <a:lnTo>
                    <a:pt x="4937" y="330"/>
                  </a:lnTo>
                  <a:lnTo>
                    <a:pt x="4939" y="376"/>
                  </a:lnTo>
                  <a:lnTo>
                    <a:pt x="4940" y="425"/>
                  </a:lnTo>
                  <a:lnTo>
                    <a:pt x="4939" y="467"/>
                  </a:lnTo>
                  <a:lnTo>
                    <a:pt x="4937" y="506"/>
                  </a:lnTo>
                  <a:lnTo>
                    <a:pt x="4934" y="544"/>
                  </a:lnTo>
                  <a:lnTo>
                    <a:pt x="4929" y="583"/>
                  </a:lnTo>
                  <a:lnTo>
                    <a:pt x="4923" y="620"/>
                  </a:lnTo>
                  <a:lnTo>
                    <a:pt x="4915" y="656"/>
                  </a:lnTo>
                  <a:lnTo>
                    <a:pt x="4907" y="691"/>
                  </a:lnTo>
                  <a:lnTo>
                    <a:pt x="4896" y="725"/>
                  </a:lnTo>
                  <a:lnTo>
                    <a:pt x="4885" y="759"/>
                  </a:lnTo>
                  <a:lnTo>
                    <a:pt x="4872" y="790"/>
                  </a:lnTo>
                  <a:lnTo>
                    <a:pt x="4857" y="822"/>
                  </a:lnTo>
                  <a:lnTo>
                    <a:pt x="4841" y="853"/>
                  </a:lnTo>
                  <a:lnTo>
                    <a:pt x="4824" y="882"/>
                  </a:lnTo>
                  <a:lnTo>
                    <a:pt x="4814" y="893"/>
                  </a:lnTo>
                  <a:lnTo>
                    <a:pt x="4814" y="895"/>
                  </a:lnTo>
                  <a:lnTo>
                    <a:pt x="4805" y="911"/>
                  </a:lnTo>
                  <a:lnTo>
                    <a:pt x="4763" y="966"/>
                  </a:lnTo>
                  <a:lnTo>
                    <a:pt x="4740" y="991"/>
                  </a:lnTo>
                  <a:lnTo>
                    <a:pt x="4716" y="1016"/>
                  </a:lnTo>
                  <a:lnTo>
                    <a:pt x="4664" y="1060"/>
                  </a:lnTo>
                  <a:lnTo>
                    <a:pt x="4606" y="1094"/>
                  </a:lnTo>
                  <a:lnTo>
                    <a:pt x="4543" y="1124"/>
                  </a:lnTo>
                  <a:lnTo>
                    <a:pt x="4473" y="1145"/>
                  </a:lnTo>
                  <a:lnTo>
                    <a:pt x="4399" y="1157"/>
                  </a:lnTo>
                  <a:lnTo>
                    <a:pt x="4319" y="1165"/>
                  </a:lnTo>
                  <a:lnTo>
                    <a:pt x="4233" y="1163"/>
                  </a:lnTo>
                  <a:lnTo>
                    <a:pt x="4156" y="1158"/>
                  </a:lnTo>
                  <a:lnTo>
                    <a:pt x="4136" y="1156"/>
                  </a:lnTo>
                  <a:lnTo>
                    <a:pt x="4131" y="1158"/>
                  </a:lnTo>
                  <a:lnTo>
                    <a:pt x="4130" y="1158"/>
                  </a:lnTo>
                  <a:lnTo>
                    <a:pt x="4129" y="1157"/>
                  </a:lnTo>
                  <a:lnTo>
                    <a:pt x="4129" y="1157"/>
                  </a:lnTo>
                  <a:lnTo>
                    <a:pt x="4129" y="1157"/>
                  </a:lnTo>
                  <a:lnTo>
                    <a:pt x="3963" y="1977"/>
                  </a:lnTo>
                  <a:lnTo>
                    <a:pt x="3806" y="2894"/>
                  </a:lnTo>
                  <a:lnTo>
                    <a:pt x="3657" y="3908"/>
                  </a:lnTo>
                  <a:lnTo>
                    <a:pt x="3515" y="5020"/>
                  </a:lnTo>
                  <a:lnTo>
                    <a:pt x="3514" y="5020"/>
                  </a:lnTo>
                  <a:lnTo>
                    <a:pt x="3514" y="5020"/>
                  </a:lnTo>
                  <a:lnTo>
                    <a:pt x="3514" y="5020"/>
                  </a:lnTo>
                  <a:lnTo>
                    <a:pt x="3514" y="5020"/>
                  </a:lnTo>
                  <a:lnTo>
                    <a:pt x="3514" y="5020"/>
                  </a:lnTo>
                  <a:lnTo>
                    <a:pt x="3514" y="5020"/>
                  </a:lnTo>
                  <a:lnTo>
                    <a:pt x="3514" y="5020"/>
                  </a:lnTo>
                  <a:lnTo>
                    <a:pt x="3515" y="5020"/>
                  </a:lnTo>
                  <a:lnTo>
                    <a:pt x="3516" y="5020"/>
                  </a:lnTo>
                  <a:lnTo>
                    <a:pt x="3528" y="5026"/>
                  </a:lnTo>
                  <a:lnTo>
                    <a:pt x="3583" y="5046"/>
                  </a:lnTo>
                  <a:lnTo>
                    <a:pt x="3639" y="5068"/>
                  </a:lnTo>
                  <a:lnTo>
                    <a:pt x="3689" y="5085"/>
                  </a:lnTo>
                  <a:lnTo>
                    <a:pt x="3735" y="5095"/>
                  </a:lnTo>
                  <a:lnTo>
                    <a:pt x="3774" y="5101"/>
                  </a:lnTo>
                  <a:lnTo>
                    <a:pt x="3822" y="5104"/>
                  </a:lnTo>
                  <a:lnTo>
                    <a:pt x="3878" y="5102"/>
                  </a:lnTo>
                  <a:lnTo>
                    <a:pt x="3942" y="5096"/>
                  </a:lnTo>
                  <a:lnTo>
                    <a:pt x="4014" y="5086"/>
                  </a:lnTo>
                  <a:lnTo>
                    <a:pt x="3978" y="5461"/>
                  </a:lnTo>
                  <a:lnTo>
                    <a:pt x="3914" y="5467"/>
                  </a:lnTo>
                  <a:lnTo>
                    <a:pt x="3860" y="5473"/>
                  </a:lnTo>
                  <a:lnTo>
                    <a:pt x="3814" y="5473"/>
                  </a:lnTo>
                  <a:lnTo>
                    <a:pt x="3778" y="5472"/>
                  </a:lnTo>
                  <a:lnTo>
                    <a:pt x="3727" y="5465"/>
                  </a:lnTo>
                  <a:lnTo>
                    <a:pt x="3668" y="5455"/>
                  </a:lnTo>
                  <a:lnTo>
                    <a:pt x="3530" y="5421"/>
                  </a:lnTo>
                  <a:lnTo>
                    <a:pt x="3381" y="5386"/>
                  </a:lnTo>
                  <a:lnTo>
                    <a:pt x="3316" y="5376"/>
                  </a:lnTo>
                  <a:lnTo>
                    <a:pt x="3256" y="5369"/>
                  </a:lnTo>
                  <a:lnTo>
                    <a:pt x="3232" y="5366"/>
                  </a:lnTo>
                  <a:lnTo>
                    <a:pt x="3207" y="5368"/>
                  </a:lnTo>
                  <a:lnTo>
                    <a:pt x="3152" y="5374"/>
                  </a:lnTo>
                  <a:lnTo>
                    <a:pt x="3092" y="5385"/>
                  </a:lnTo>
                  <a:lnTo>
                    <a:pt x="3087" y="5385"/>
                  </a:lnTo>
                  <a:lnTo>
                    <a:pt x="3087" y="5385"/>
                  </a:lnTo>
                  <a:lnTo>
                    <a:pt x="3026" y="5407"/>
                  </a:lnTo>
                  <a:lnTo>
                    <a:pt x="3087" y="5008"/>
                  </a:lnTo>
                  <a:lnTo>
                    <a:pt x="3087" y="5004"/>
                  </a:lnTo>
                  <a:lnTo>
                    <a:pt x="3236" y="4055"/>
                  </a:lnTo>
                  <a:lnTo>
                    <a:pt x="3424" y="2692"/>
                  </a:lnTo>
                  <a:lnTo>
                    <a:pt x="3491" y="2247"/>
                  </a:lnTo>
                  <a:lnTo>
                    <a:pt x="3537" y="1961"/>
                  </a:lnTo>
                  <a:lnTo>
                    <a:pt x="3579" y="1752"/>
                  </a:lnTo>
                  <a:lnTo>
                    <a:pt x="3627" y="1542"/>
                  </a:lnTo>
                  <a:lnTo>
                    <a:pt x="3684" y="1329"/>
                  </a:lnTo>
                  <a:lnTo>
                    <a:pt x="3749" y="1114"/>
                  </a:lnTo>
                  <a:lnTo>
                    <a:pt x="3109" y="1073"/>
                  </a:lnTo>
                  <a:lnTo>
                    <a:pt x="3087" y="1069"/>
                  </a:lnTo>
                  <a:lnTo>
                    <a:pt x="3087" y="106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97120" y="2259000"/>
              <a:ext cx="655560" cy="1301760"/>
            </a:xfrm>
            <a:custGeom>
              <a:avLst/>
              <a:gdLst/>
              <a:ahLst/>
              <a:rect l="l" t="t" r="r" b="b"/>
              <a:pathLst>
                <a:path w="1821" h="3614">
                  <a:moveTo>
                    <a:pt x="1521" y="33"/>
                  </a:moveTo>
                  <a:lnTo>
                    <a:pt x="1723" y="0"/>
                  </a:lnTo>
                  <a:lnTo>
                    <a:pt x="1561" y="1081"/>
                  </a:lnTo>
                  <a:lnTo>
                    <a:pt x="1515" y="1378"/>
                  </a:lnTo>
                  <a:lnTo>
                    <a:pt x="1470" y="1701"/>
                  </a:lnTo>
                  <a:lnTo>
                    <a:pt x="1426" y="2048"/>
                  </a:lnTo>
                  <a:lnTo>
                    <a:pt x="1383" y="2417"/>
                  </a:lnTo>
                  <a:lnTo>
                    <a:pt x="1363" y="2601"/>
                  </a:lnTo>
                  <a:lnTo>
                    <a:pt x="1349" y="2750"/>
                  </a:lnTo>
                  <a:lnTo>
                    <a:pt x="1340" y="2861"/>
                  </a:lnTo>
                  <a:lnTo>
                    <a:pt x="1338" y="2902"/>
                  </a:lnTo>
                  <a:lnTo>
                    <a:pt x="1337" y="2936"/>
                  </a:lnTo>
                  <a:lnTo>
                    <a:pt x="1337" y="2942"/>
                  </a:lnTo>
                  <a:lnTo>
                    <a:pt x="1337" y="2946"/>
                  </a:lnTo>
                  <a:lnTo>
                    <a:pt x="1338" y="2951"/>
                  </a:lnTo>
                  <a:lnTo>
                    <a:pt x="1338" y="2955"/>
                  </a:lnTo>
                  <a:lnTo>
                    <a:pt x="1338" y="2959"/>
                  </a:lnTo>
                  <a:lnTo>
                    <a:pt x="1339" y="2961"/>
                  </a:lnTo>
                  <a:lnTo>
                    <a:pt x="1340" y="2966"/>
                  </a:lnTo>
                  <a:lnTo>
                    <a:pt x="1341" y="2968"/>
                  </a:lnTo>
                  <a:lnTo>
                    <a:pt x="1341" y="2970"/>
                  </a:lnTo>
                  <a:lnTo>
                    <a:pt x="1342" y="2972"/>
                  </a:lnTo>
                  <a:lnTo>
                    <a:pt x="1343" y="2975"/>
                  </a:lnTo>
                  <a:lnTo>
                    <a:pt x="1345" y="2977"/>
                  </a:lnTo>
                  <a:lnTo>
                    <a:pt x="1346" y="2977"/>
                  </a:lnTo>
                  <a:lnTo>
                    <a:pt x="1347" y="2979"/>
                  </a:lnTo>
                  <a:lnTo>
                    <a:pt x="1349" y="2980"/>
                  </a:lnTo>
                  <a:lnTo>
                    <a:pt x="1350" y="2980"/>
                  </a:lnTo>
                  <a:lnTo>
                    <a:pt x="1353" y="2980"/>
                  </a:lnTo>
                  <a:lnTo>
                    <a:pt x="1357" y="2979"/>
                  </a:lnTo>
                  <a:lnTo>
                    <a:pt x="1365" y="2978"/>
                  </a:lnTo>
                  <a:lnTo>
                    <a:pt x="1375" y="2973"/>
                  </a:lnTo>
                  <a:lnTo>
                    <a:pt x="1385" y="2969"/>
                  </a:lnTo>
                  <a:lnTo>
                    <a:pt x="1397" y="2960"/>
                  </a:lnTo>
                  <a:lnTo>
                    <a:pt x="1411" y="2950"/>
                  </a:lnTo>
                  <a:lnTo>
                    <a:pt x="1441" y="2921"/>
                  </a:lnTo>
                  <a:lnTo>
                    <a:pt x="1506" y="2855"/>
                  </a:lnTo>
                  <a:lnTo>
                    <a:pt x="1573" y="2777"/>
                  </a:lnTo>
                  <a:lnTo>
                    <a:pt x="1643" y="2690"/>
                  </a:lnTo>
                  <a:lnTo>
                    <a:pt x="1715" y="2592"/>
                  </a:lnTo>
                  <a:lnTo>
                    <a:pt x="1820" y="2850"/>
                  </a:lnTo>
                  <a:lnTo>
                    <a:pt x="1608" y="3189"/>
                  </a:lnTo>
                  <a:lnTo>
                    <a:pt x="1537" y="3293"/>
                  </a:lnTo>
                  <a:lnTo>
                    <a:pt x="1511" y="3329"/>
                  </a:lnTo>
                  <a:lnTo>
                    <a:pt x="1490" y="3355"/>
                  </a:lnTo>
                  <a:lnTo>
                    <a:pt x="1421" y="3426"/>
                  </a:lnTo>
                  <a:lnTo>
                    <a:pt x="1354" y="3487"/>
                  </a:lnTo>
                  <a:lnTo>
                    <a:pt x="1320" y="3513"/>
                  </a:lnTo>
                  <a:lnTo>
                    <a:pt x="1287" y="3538"/>
                  </a:lnTo>
                  <a:lnTo>
                    <a:pt x="1255" y="3558"/>
                  </a:lnTo>
                  <a:lnTo>
                    <a:pt x="1223" y="3576"/>
                  </a:lnTo>
                  <a:lnTo>
                    <a:pt x="1201" y="3587"/>
                  </a:lnTo>
                  <a:lnTo>
                    <a:pt x="1180" y="3596"/>
                  </a:lnTo>
                  <a:lnTo>
                    <a:pt x="1159" y="3604"/>
                  </a:lnTo>
                  <a:lnTo>
                    <a:pt x="1137" y="3609"/>
                  </a:lnTo>
                  <a:lnTo>
                    <a:pt x="1116" y="3612"/>
                  </a:lnTo>
                  <a:lnTo>
                    <a:pt x="1095" y="3612"/>
                  </a:lnTo>
                  <a:lnTo>
                    <a:pt x="1075" y="3613"/>
                  </a:lnTo>
                  <a:lnTo>
                    <a:pt x="1054" y="3610"/>
                  </a:lnTo>
                  <a:lnTo>
                    <a:pt x="1037" y="3605"/>
                  </a:lnTo>
                  <a:lnTo>
                    <a:pt x="1021" y="3601"/>
                  </a:lnTo>
                  <a:lnTo>
                    <a:pt x="1006" y="3592"/>
                  </a:lnTo>
                  <a:lnTo>
                    <a:pt x="992" y="3584"/>
                  </a:lnTo>
                  <a:lnTo>
                    <a:pt x="979" y="3571"/>
                  </a:lnTo>
                  <a:lnTo>
                    <a:pt x="966" y="3556"/>
                  </a:lnTo>
                  <a:lnTo>
                    <a:pt x="961" y="3549"/>
                  </a:lnTo>
                  <a:lnTo>
                    <a:pt x="955" y="3542"/>
                  </a:lnTo>
                  <a:lnTo>
                    <a:pt x="950" y="3533"/>
                  </a:lnTo>
                  <a:lnTo>
                    <a:pt x="945" y="3524"/>
                  </a:lnTo>
                  <a:lnTo>
                    <a:pt x="940" y="3514"/>
                  </a:lnTo>
                  <a:lnTo>
                    <a:pt x="936" y="3505"/>
                  </a:lnTo>
                  <a:lnTo>
                    <a:pt x="931" y="3494"/>
                  </a:lnTo>
                  <a:lnTo>
                    <a:pt x="927" y="3483"/>
                  </a:lnTo>
                  <a:lnTo>
                    <a:pt x="924" y="3472"/>
                  </a:lnTo>
                  <a:lnTo>
                    <a:pt x="920" y="3461"/>
                  </a:lnTo>
                  <a:lnTo>
                    <a:pt x="918" y="3450"/>
                  </a:lnTo>
                  <a:lnTo>
                    <a:pt x="917" y="3448"/>
                  </a:lnTo>
                  <a:lnTo>
                    <a:pt x="917" y="3448"/>
                  </a:lnTo>
                  <a:lnTo>
                    <a:pt x="915" y="3437"/>
                  </a:lnTo>
                  <a:lnTo>
                    <a:pt x="913" y="3424"/>
                  </a:lnTo>
                  <a:lnTo>
                    <a:pt x="911" y="3411"/>
                  </a:lnTo>
                  <a:lnTo>
                    <a:pt x="909" y="3397"/>
                  </a:lnTo>
                  <a:lnTo>
                    <a:pt x="907" y="3382"/>
                  </a:lnTo>
                  <a:lnTo>
                    <a:pt x="906" y="3352"/>
                  </a:lnTo>
                  <a:lnTo>
                    <a:pt x="905" y="3320"/>
                  </a:lnTo>
                  <a:lnTo>
                    <a:pt x="905" y="3302"/>
                  </a:lnTo>
                  <a:lnTo>
                    <a:pt x="906" y="3281"/>
                  </a:lnTo>
                  <a:lnTo>
                    <a:pt x="908" y="3258"/>
                  </a:lnTo>
                  <a:lnTo>
                    <a:pt x="911" y="3231"/>
                  </a:lnTo>
                  <a:lnTo>
                    <a:pt x="917" y="3174"/>
                  </a:lnTo>
                  <a:lnTo>
                    <a:pt x="917" y="3174"/>
                  </a:lnTo>
                  <a:lnTo>
                    <a:pt x="918" y="3174"/>
                  </a:lnTo>
                  <a:lnTo>
                    <a:pt x="928" y="3111"/>
                  </a:lnTo>
                  <a:lnTo>
                    <a:pt x="1007" y="2720"/>
                  </a:lnTo>
                  <a:lnTo>
                    <a:pt x="975" y="2811"/>
                  </a:lnTo>
                  <a:lnTo>
                    <a:pt x="937" y="2898"/>
                  </a:lnTo>
                  <a:lnTo>
                    <a:pt x="917" y="2930"/>
                  </a:lnTo>
                  <a:lnTo>
                    <a:pt x="917" y="2933"/>
                  </a:lnTo>
                  <a:lnTo>
                    <a:pt x="893" y="2983"/>
                  </a:lnTo>
                  <a:lnTo>
                    <a:pt x="843" y="3067"/>
                  </a:lnTo>
                  <a:lnTo>
                    <a:pt x="789" y="3148"/>
                  </a:lnTo>
                  <a:lnTo>
                    <a:pt x="728" y="3226"/>
                  </a:lnTo>
                  <a:lnTo>
                    <a:pt x="662" y="3302"/>
                  </a:lnTo>
                  <a:lnTo>
                    <a:pt x="590" y="3373"/>
                  </a:lnTo>
                  <a:lnTo>
                    <a:pt x="558" y="3412"/>
                  </a:lnTo>
                  <a:lnTo>
                    <a:pt x="525" y="3445"/>
                  </a:lnTo>
                  <a:lnTo>
                    <a:pt x="492" y="3474"/>
                  </a:lnTo>
                  <a:lnTo>
                    <a:pt x="458" y="3496"/>
                  </a:lnTo>
                  <a:lnTo>
                    <a:pt x="424" y="3514"/>
                  </a:lnTo>
                  <a:lnTo>
                    <a:pt x="390" y="3525"/>
                  </a:lnTo>
                  <a:lnTo>
                    <a:pt x="355" y="3530"/>
                  </a:lnTo>
                  <a:lnTo>
                    <a:pt x="319" y="3529"/>
                  </a:lnTo>
                  <a:lnTo>
                    <a:pt x="285" y="3524"/>
                  </a:lnTo>
                  <a:lnTo>
                    <a:pt x="252" y="3510"/>
                  </a:lnTo>
                  <a:lnTo>
                    <a:pt x="237" y="3503"/>
                  </a:lnTo>
                  <a:lnTo>
                    <a:pt x="222" y="3493"/>
                  </a:lnTo>
                  <a:lnTo>
                    <a:pt x="207" y="3483"/>
                  </a:lnTo>
                  <a:lnTo>
                    <a:pt x="193" y="3471"/>
                  </a:lnTo>
                  <a:lnTo>
                    <a:pt x="179" y="3457"/>
                  </a:lnTo>
                  <a:lnTo>
                    <a:pt x="167" y="3441"/>
                  </a:lnTo>
                  <a:lnTo>
                    <a:pt x="154" y="3423"/>
                  </a:lnTo>
                  <a:lnTo>
                    <a:pt x="142" y="3405"/>
                  </a:lnTo>
                  <a:lnTo>
                    <a:pt x="131" y="3388"/>
                  </a:lnTo>
                  <a:lnTo>
                    <a:pt x="120" y="3365"/>
                  </a:lnTo>
                  <a:lnTo>
                    <a:pt x="110" y="3344"/>
                  </a:lnTo>
                  <a:lnTo>
                    <a:pt x="100" y="3319"/>
                  </a:lnTo>
                  <a:lnTo>
                    <a:pt x="76" y="3254"/>
                  </a:lnTo>
                  <a:lnTo>
                    <a:pt x="56" y="3187"/>
                  </a:lnTo>
                  <a:lnTo>
                    <a:pt x="39" y="3114"/>
                  </a:lnTo>
                  <a:lnTo>
                    <a:pt x="25" y="3037"/>
                  </a:lnTo>
                  <a:lnTo>
                    <a:pt x="14" y="2956"/>
                  </a:lnTo>
                  <a:lnTo>
                    <a:pt x="6" y="2871"/>
                  </a:lnTo>
                  <a:lnTo>
                    <a:pt x="2" y="2783"/>
                  </a:lnTo>
                  <a:lnTo>
                    <a:pt x="0" y="2690"/>
                  </a:lnTo>
                  <a:lnTo>
                    <a:pt x="2" y="2579"/>
                  </a:lnTo>
                  <a:lnTo>
                    <a:pt x="8" y="2466"/>
                  </a:lnTo>
                  <a:lnTo>
                    <a:pt x="17" y="2351"/>
                  </a:lnTo>
                  <a:lnTo>
                    <a:pt x="31" y="2232"/>
                  </a:lnTo>
                  <a:lnTo>
                    <a:pt x="48" y="2112"/>
                  </a:lnTo>
                  <a:lnTo>
                    <a:pt x="70" y="1990"/>
                  </a:lnTo>
                  <a:lnTo>
                    <a:pt x="96" y="1866"/>
                  </a:lnTo>
                  <a:lnTo>
                    <a:pt x="125" y="1738"/>
                  </a:lnTo>
                  <a:lnTo>
                    <a:pt x="157" y="1611"/>
                  </a:lnTo>
                  <a:lnTo>
                    <a:pt x="192" y="1488"/>
                  </a:lnTo>
                  <a:lnTo>
                    <a:pt x="230" y="1367"/>
                  </a:lnTo>
                  <a:lnTo>
                    <a:pt x="270" y="1249"/>
                  </a:lnTo>
                  <a:lnTo>
                    <a:pt x="313" y="1135"/>
                  </a:lnTo>
                  <a:lnTo>
                    <a:pt x="359" y="1024"/>
                  </a:lnTo>
                  <a:lnTo>
                    <a:pt x="407" y="917"/>
                  </a:lnTo>
                  <a:lnTo>
                    <a:pt x="457" y="812"/>
                  </a:lnTo>
                  <a:lnTo>
                    <a:pt x="510" y="714"/>
                  </a:lnTo>
                  <a:lnTo>
                    <a:pt x="564" y="622"/>
                  </a:lnTo>
                  <a:lnTo>
                    <a:pt x="618" y="537"/>
                  </a:lnTo>
                  <a:lnTo>
                    <a:pt x="673" y="460"/>
                  </a:lnTo>
                  <a:lnTo>
                    <a:pt x="728" y="390"/>
                  </a:lnTo>
                  <a:lnTo>
                    <a:pt x="784" y="327"/>
                  </a:lnTo>
                  <a:lnTo>
                    <a:pt x="840" y="272"/>
                  </a:lnTo>
                  <a:lnTo>
                    <a:pt x="898" y="222"/>
                  </a:lnTo>
                  <a:lnTo>
                    <a:pt x="917" y="207"/>
                  </a:lnTo>
                  <a:lnTo>
                    <a:pt x="917" y="205"/>
                  </a:lnTo>
                  <a:lnTo>
                    <a:pt x="945" y="191"/>
                  </a:lnTo>
                  <a:lnTo>
                    <a:pt x="994" y="167"/>
                  </a:lnTo>
                  <a:lnTo>
                    <a:pt x="1047" y="150"/>
                  </a:lnTo>
                  <a:lnTo>
                    <a:pt x="1102" y="135"/>
                  </a:lnTo>
                  <a:lnTo>
                    <a:pt x="1161" y="128"/>
                  </a:lnTo>
                  <a:lnTo>
                    <a:pt x="1223" y="127"/>
                  </a:lnTo>
                  <a:lnTo>
                    <a:pt x="1288" y="129"/>
                  </a:lnTo>
                  <a:lnTo>
                    <a:pt x="1355" y="138"/>
                  </a:lnTo>
                  <a:lnTo>
                    <a:pt x="1387" y="143"/>
                  </a:lnTo>
                  <a:lnTo>
                    <a:pt x="1418" y="152"/>
                  </a:lnTo>
                  <a:lnTo>
                    <a:pt x="1447" y="160"/>
                  </a:lnTo>
                  <a:lnTo>
                    <a:pt x="1474" y="171"/>
                  </a:lnTo>
                  <a:close/>
                  <a:moveTo>
                    <a:pt x="1243" y="727"/>
                  </a:moveTo>
                  <a:lnTo>
                    <a:pt x="1203" y="711"/>
                  </a:lnTo>
                  <a:lnTo>
                    <a:pt x="1164" y="696"/>
                  </a:lnTo>
                  <a:lnTo>
                    <a:pt x="1126" y="686"/>
                  </a:lnTo>
                  <a:lnTo>
                    <a:pt x="1088" y="678"/>
                  </a:lnTo>
                  <a:lnTo>
                    <a:pt x="1044" y="673"/>
                  </a:lnTo>
                  <a:lnTo>
                    <a:pt x="1001" y="675"/>
                  </a:lnTo>
                  <a:lnTo>
                    <a:pt x="960" y="683"/>
                  </a:lnTo>
                  <a:lnTo>
                    <a:pt x="920" y="698"/>
                  </a:lnTo>
                  <a:lnTo>
                    <a:pt x="917" y="697"/>
                  </a:lnTo>
                  <a:lnTo>
                    <a:pt x="917" y="697"/>
                  </a:lnTo>
                  <a:lnTo>
                    <a:pt x="881" y="719"/>
                  </a:lnTo>
                  <a:lnTo>
                    <a:pt x="844" y="747"/>
                  </a:lnTo>
                  <a:lnTo>
                    <a:pt x="809" y="782"/>
                  </a:lnTo>
                  <a:lnTo>
                    <a:pt x="775" y="821"/>
                  </a:lnTo>
                  <a:lnTo>
                    <a:pt x="758" y="842"/>
                  </a:lnTo>
                  <a:lnTo>
                    <a:pt x="741" y="868"/>
                  </a:lnTo>
                  <a:lnTo>
                    <a:pt x="708" y="924"/>
                  </a:lnTo>
                  <a:lnTo>
                    <a:pt x="676" y="990"/>
                  </a:lnTo>
                  <a:lnTo>
                    <a:pt x="645" y="1067"/>
                  </a:lnTo>
                  <a:lnTo>
                    <a:pt x="613" y="1153"/>
                  </a:lnTo>
                  <a:lnTo>
                    <a:pt x="582" y="1249"/>
                  </a:lnTo>
                  <a:lnTo>
                    <a:pt x="552" y="1353"/>
                  </a:lnTo>
                  <a:lnTo>
                    <a:pt x="522" y="1468"/>
                  </a:lnTo>
                  <a:lnTo>
                    <a:pt x="495" y="1588"/>
                  </a:lnTo>
                  <a:lnTo>
                    <a:pt x="470" y="1707"/>
                  </a:lnTo>
                  <a:lnTo>
                    <a:pt x="449" y="1827"/>
                  </a:lnTo>
                  <a:lnTo>
                    <a:pt x="433" y="1948"/>
                  </a:lnTo>
                  <a:lnTo>
                    <a:pt x="420" y="2068"/>
                  </a:lnTo>
                  <a:lnTo>
                    <a:pt x="410" y="2190"/>
                  </a:lnTo>
                  <a:lnTo>
                    <a:pt x="405" y="2311"/>
                  </a:lnTo>
                  <a:lnTo>
                    <a:pt x="403" y="2433"/>
                  </a:lnTo>
                  <a:lnTo>
                    <a:pt x="404" y="2490"/>
                  </a:lnTo>
                  <a:lnTo>
                    <a:pt x="405" y="2544"/>
                  </a:lnTo>
                  <a:lnTo>
                    <a:pt x="408" y="2593"/>
                  </a:lnTo>
                  <a:lnTo>
                    <a:pt x="413" y="2638"/>
                  </a:lnTo>
                  <a:lnTo>
                    <a:pt x="418" y="2676"/>
                  </a:lnTo>
                  <a:lnTo>
                    <a:pt x="421" y="2695"/>
                  </a:lnTo>
                  <a:lnTo>
                    <a:pt x="425" y="2712"/>
                  </a:lnTo>
                  <a:lnTo>
                    <a:pt x="428" y="2727"/>
                  </a:lnTo>
                  <a:lnTo>
                    <a:pt x="432" y="2743"/>
                  </a:lnTo>
                  <a:lnTo>
                    <a:pt x="436" y="2756"/>
                  </a:lnTo>
                  <a:lnTo>
                    <a:pt x="441" y="2769"/>
                  </a:lnTo>
                  <a:lnTo>
                    <a:pt x="446" y="2780"/>
                  </a:lnTo>
                  <a:lnTo>
                    <a:pt x="451" y="2791"/>
                  </a:lnTo>
                  <a:lnTo>
                    <a:pt x="456" y="2802"/>
                  </a:lnTo>
                  <a:lnTo>
                    <a:pt x="461" y="2810"/>
                  </a:lnTo>
                  <a:lnTo>
                    <a:pt x="467" y="2819"/>
                  </a:lnTo>
                  <a:lnTo>
                    <a:pt x="473" y="2826"/>
                  </a:lnTo>
                  <a:lnTo>
                    <a:pt x="478" y="2835"/>
                  </a:lnTo>
                  <a:lnTo>
                    <a:pt x="486" y="2840"/>
                  </a:lnTo>
                  <a:lnTo>
                    <a:pt x="492" y="2847"/>
                  </a:lnTo>
                  <a:lnTo>
                    <a:pt x="498" y="2852"/>
                  </a:lnTo>
                  <a:lnTo>
                    <a:pt x="505" y="2857"/>
                  </a:lnTo>
                  <a:lnTo>
                    <a:pt x="512" y="2859"/>
                  </a:lnTo>
                  <a:lnTo>
                    <a:pt x="526" y="2865"/>
                  </a:lnTo>
                  <a:lnTo>
                    <a:pt x="541" y="2868"/>
                  </a:lnTo>
                  <a:lnTo>
                    <a:pt x="558" y="2868"/>
                  </a:lnTo>
                  <a:lnTo>
                    <a:pt x="574" y="2867"/>
                  </a:lnTo>
                  <a:lnTo>
                    <a:pt x="591" y="2862"/>
                  </a:lnTo>
                  <a:lnTo>
                    <a:pt x="609" y="2858"/>
                  </a:lnTo>
                  <a:lnTo>
                    <a:pt x="627" y="2849"/>
                  </a:lnTo>
                  <a:lnTo>
                    <a:pt x="645" y="2840"/>
                  </a:lnTo>
                  <a:lnTo>
                    <a:pt x="681" y="2814"/>
                  </a:lnTo>
                  <a:lnTo>
                    <a:pt x="717" y="2777"/>
                  </a:lnTo>
                  <a:lnTo>
                    <a:pt x="756" y="2735"/>
                  </a:lnTo>
                  <a:lnTo>
                    <a:pt x="794" y="2681"/>
                  </a:lnTo>
                  <a:lnTo>
                    <a:pt x="833" y="2620"/>
                  </a:lnTo>
                  <a:lnTo>
                    <a:pt x="871" y="2550"/>
                  </a:lnTo>
                  <a:lnTo>
                    <a:pt x="908" y="2473"/>
                  </a:lnTo>
                  <a:lnTo>
                    <a:pt x="917" y="2447"/>
                  </a:lnTo>
                  <a:lnTo>
                    <a:pt x="917" y="2443"/>
                  </a:lnTo>
                  <a:lnTo>
                    <a:pt x="941" y="2387"/>
                  </a:lnTo>
                  <a:lnTo>
                    <a:pt x="972" y="2298"/>
                  </a:lnTo>
                  <a:lnTo>
                    <a:pt x="999" y="2197"/>
                  </a:lnTo>
                  <a:lnTo>
                    <a:pt x="1025" y="2087"/>
                  </a:lnTo>
                  <a:lnTo>
                    <a:pt x="1048" y="1971"/>
                  </a:lnTo>
                  <a:lnTo>
                    <a:pt x="1068" y="1846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13080" y="1901880"/>
              <a:ext cx="695520" cy="1778040"/>
            </a:xfrm>
            <a:custGeom>
              <a:avLst/>
              <a:gdLst/>
              <a:ahLst/>
              <a:rect l="l" t="t" r="r" b="b"/>
              <a:pathLst>
                <a:path w="1933" h="4937">
                  <a:moveTo>
                    <a:pt x="1456" y="1457"/>
                  </a:moveTo>
                  <a:lnTo>
                    <a:pt x="1826" y="1522"/>
                  </a:lnTo>
                  <a:lnTo>
                    <a:pt x="1624" y="2969"/>
                  </a:lnTo>
                  <a:lnTo>
                    <a:pt x="1494" y="3876"/>
                  </a:lnTo>
                  <a:lnTo>
                    <a:pt x="1461" y="4141"/>
                  </a:lnTo>
                  <a:lnTo>
                    <a:pt x="1453" y="4226"/>
                  </a:lnTo>
                  <a:lnTo>
                    <a:pt x="1451" y="4257"/>
                  </a:lnTo>
                  <a:lnTo>
                    <a:pt x="1450" y="4280"/>
                  </a:lnTo>
                  <a:lnTo>
                    <a:pt x="1450" y="4291"/>
                  </a:lnTo>
                  <a:lnTo>
                    <a:pt x="1450" y="4301"/>
                  </a:lnTo>
                  <a:lnTo>
                    <a:pt x="1451" y="4310"/>
                  </a:lnTo>
                  <a:lnTo>
                    <a:pt x="1452" y="4316"/>
                  </a:lnTo>
                  <a:lnTo>
                    <a:pt x="1452" y="4320"/>
                  </a:lnTo>
                  <a:lnTo>
                    <a:pt x="1453" y="4323"/>
                  </a:lnTo>
                  <a:lnTo>
                    <a:pt x="1453" y="4327"/>
                  </a:lnTo>
                  <a:lnTo>
                    <a:pt x="1454" y="4329"/>
                  </a:lnTo>
                  <a:lnTo>
                    <a:pt x="1454" y="4331"/>
                  </a:lnTo>
                  <a:lnTo>
                    <a:pt x="1455" y="4334"/>
                  </a:lnTo>
                  <a:lnTo>
                    <a:pt x="1456" y="4336"/>
                  </a:lnTo>
                  <a:lnTo>
                    <a:pt x="1457" y="4338"/>
                  </a:lnTo>
                  <a:lnTo>
                    <a:pt x="1459" y="4343"/>
                  </a:lnTo>
                  <a:lnTo>
                    <a:pt x="1461" y="4345"/>
                  </a:lnTo>
                  <a:lnTo>
                    <a:pt x="1462" y="4347"/>
                  </a:lnTo>
                  <a:lnTo>
                    <a:pt x="1463" y="4350"/>
                  </a:lnTo>
                  <a:lnTo>
                    <a:pt x="1464" y="4350"/>
                  </a:lnTo>
                  <a:lnTo>
                    <a:pt x="1465" y="4352"/>
                  </a:lnTo>
                  <a:lnTo>
                    <a:pt x="1466" y="4352"/>
                  </a:lnTo>
                  <a:lnTo>
                    <a:pt x="1467" y="4353"/>
                  </a:lnTo>
                  <a:lnTo>
                    <a:pt x="1467" y="4355"/>
                  </a:lnTo>
                  <a:lnTo>
                    <a:pt x="1468" y="4355"/>
                  </a:lnTo>
                  <a:lnTo>
                    <a:pt x="1469" y="4355"/>
                  </a:lnTo>
                  <a:lnTo>
                    <a:pt x="1470" y="4355"/>
                  </a:lnTo>
                  <a:lnTo>
                    <a:pt x="1471" y="4355"/>
                  </a:lnTo>
                  <a:lnTo>
                    <a:pt x="1478" y="4357"/>
                  </a:lnTo>
                  <a:lnTo>
                    <a:pt x="1485" y="4356"/>
                  </a:lnTo>
                  <a:lnTo>
                    <a:pt x="1493" y="4353"/>
                  </a:lnTo>
                  <a:lnTo>
                    <a:pt x="1500" y="4350"/>
                  </a:lnTo>
                  <a:lnTo>
                    <a:pt x="1508" y="4345"/>
                  </a:lnTo>
                  <a:lnTo>
                    <a:pt x="1517" y="4340"/>
                  </a:lnTo>
                  <a:lnTo>
                    <a:pt x="1525" y="4333"/>
                  </a:lnTo>
                  <a:lnTo>
                    <a:pt x="1534" y="4324"/>
                  </a:lnTo>
                  <a:lnTo>
                    <a:pt x="1554" y="4300"/>
                  </a:lnTo>
                  <a:lnTo>
                    <a:pt x="1578" y="4269"/>
                  </a:lnTo>
                  <a:lnTo>
                    <a:pt x="1641" y="4179"/>
                  </a:lnTo>
                  <a:lnTo>
                    <a:pt x="1823" y="3902"/>
                  </a:lnTo>
                  <a:lnTo>
                    <a:pt x="1932" y="4150"/>
                  </a:lnTo>
                  <a:lnTo>
                    <a:pt x="1824" y="4343"/>
                  </a:lnTo>
                  <a:lnTo>
                    <a:pt x="1722" y="4509"/>
                  </a:lnTo>
                  <a:lnTo>
                    <a:pt x="1627" y="4645"/>
                  </a:lnTo>
                  <a:lnTo>
                    <a:pt x="1541" y="4759"/>
                  </a:lnTo>
                  <a:lnTo>
                    <a:pt x="1460" y="4843"/>
                  </a:lnTo>
                  <a:lnTo>
                    <a:pt x="1423" y="4875"/>
                  </a:lnTo>
                  <a:lnTo>
                    <a:pt x="1388" y="4900"/>
                  </a:lnTo>
                  <a:lnTo>
                    <a:pt x="1354" y="4920"/>
                  </a:lnTo>
                  <a:lnTo>
                    <a:pt x="1322" y="4931"/>
                  </a:lnTo>
                  <a:lnTo>
                    <a:pt x="1292" y="4936"/>
                  </a:lnTo>
                  <a:lnTo>
                    <a:pt x="1264" y="4935"/>
                  </a:lnTo>
                  <a:lnTo>
                    <a:pt x="1244" y="4930"/>
                  </a:lnTo>
                  <a:lnTo>
                    <a:pt x="1224" y="4920"/>
                  </a:lnTo>
                  <a:lnTo>
                    <a:pt x="1205" y="4908"/>
                  </a:lnTo>
                  <a:lnTo>
                    <a:pt x="1187" y="4892"/>
                  </a:lnTo>
                  <a:lnTo>
                    <a:pt x="1169" y="4872"/>
                  </a:lnTo>
                  <a:lnTo>
                    <a:pt x="1152" y="4848"/>
                  </a:lnTo>
                  <a:lnTo>
                    <a:pt x="1136" y="4823"/>
                  </a:lnTo>
                  <a:lnTo>
                    <a:pt x="1121" y="4793"/>
                  </a:lnTo>
                  <a:lnTo>
                    <a:pt x="1114" y="4777"/>
                  </a:lnTo>
                  <a:lnTo>
                    <a:pt x="1107" y="4759"/>
                  </a:lnTo>
                  <a:lnTo>
                    <a:pt x="1101" y="4741"/>
                  </a:lnTo>
                  <a:lnTo>
                    <a:pt x="1095" y="4723"/>
                  </a:lnTo>
                  <a:lnTo>
                    <a:pt x="1090" y="4703"/>
                  </a:lnTo>
                  <a:lnTo>
                    <a:pt x="1085" y="4683"/>
                  </a:lnTo>
                  <a:lnTo>
                    <a:pt x="1081" y="4664"/>
                  </a:lnTo>
                  <a:lnTo>
                    <a:pt x="1077" y="4642"/>
                  </a:lnTo>
                  <a:lnTo>
                    <a:pt x="1070" y="4597"/>
                  </a:lnTo>
                  <a:lnTo>
                    <a:pt x="1066" y="4552"/>
                  </a:lnTo>
                  <a:lnTo>
                    <a:pt x="1063" y="4501"/>
                  </a:lnTo>
                  <a:lnTo>
                    <a:pt x="1062" y="4450"/>
                  </a:lnTo>
                  <a:lnTo>
                    <a:pt x="1063" y="4396"/>
                  </a:lnTo>
                  <a:lnTo>
                    <a:pt x="1065" y="4339"/>
                  </a:lnTo>
                  <a:lnTo>
                    <a:pt x="1069" y="4283"/>
                  </a:lnTo>
                  <a:lnTo>
                    <a:pt x="1074" y="4225"/>
                  </a:lnTo>
                  <a:lnTo>
                    <a:pt x="1081" y="4167"/>
                  </a:lnTo>
                  <a:lnTo>
                    <a:pt x="1089" y="4108"/>
                  </a:lnTo>
                  <a:lnTo>
                    <a:pt x="1098" y="4048"/>
                  </a:lnTo>
                  <a:lnTo>
                    <a:pt x="1109" y="3989"/>
                  </a:lnTo>
                  <a:lnTo>
                    <a:pt x="1075" y="4080"/>
                  </a:lnTo>
                  <a:lnTo>
                    <a:pt x="1036" y="4166"/>
                  </a:lnTo>
                  <a:lnTo>
                    <a:pt x="992" y="4249"/>
                  </a:lnTo>
                  <a:lnTo>
                    <a:pt x="944" y="4328"/>
                  </a:lnTo>
                  <a:lnTo>
                    <a:pt x="894" y="4395"/>
                  </a:lnTo>
                  <a:lnTo>
                    <a:pt x="894" y="4398"/>
                  </a:lnTo>
                  <a:lnTo>
                    <a:pt x="890" y="4405"/>
                  </a:lnTo>
                  <a:lnTo>
                    <a:pt x="832" y="4478"/>
                  </a:lnTo>
                  <a:lnTo>
                    <a:pt x="768" y="4550"/>
                  </a:lnTo>
                  <a:lnTo>
                    <a:pt x="699" y="4617"/>
                  </a:lnTo>
                  <a:lnTo>
                    <a:pt x="651" y="4660"/>
                  </a:lnTo>
                  <a:lnTo>
                    <a:pt x="605" y="4695"/>
                  </a:lnTo>
                  <a:lnTo>
                    <a:pt x="561" y="4724"/>
                  </a:lnTo>
                  <a:lnTo>
                    <a:pt x="518" y="4746"/>
                  </a:lnTo>
                  <a:lnTo>
                    <a:pt x="476" y="4763"/>
                  </a:lnTo>
                  <a:lnTo>
                    <a:pt x="436" y="4773"/>
                  </a:lnTo>
                  <a:lnTo>
                    <a:pt x="397" y="4776"/>
                  </a:lnTo>
                  <a:lnTo>
                    <a:pt x="360" y="4774"/>
                  </a:lnTo>
                  <a:lnTo>
                    <a:pt x="338" y="4768"/>
                  </a:lnTo>
                  <a:lnTo>
                    <a:pt x="317" y="4761"/>
                  </a:lnTo>
                  <a:lnTo>
                    <a:pt x="298" y="4747"/>
                  </a:lnTo>
                  <a:lnTo>
                    <a:pt x="279" y="4734"/>
                  </a:lnTo>
                  <a:lnTo>
                    <a:pt x="270" y="4724"/>
                  </a:lnTo>
                  <a:lnTo>
                    <a:pt x="262" y="4714"/>
                  </a:lnTo>
                  <a:lnTo>
                    <a:pt x="253" y="4702"/>
                  </a:lnTo>
                  <a:lnTo>
                    <a:pt x="245" y="4693"/>
                  </a:lnTo>
                  <a:lnTo>
                    <a:pt x="238" y="4679"/>
                  </a:lnTo>
                  <a:lnTo>
                    <a:pt x="230" y="4667"/>
                  </a:lnTo>
                  <a:lnTo>
                    <a:pt x="223" y="4654"/>
                  </a:lnTo>
                  <a:lnTo>
                    <a:pt x="216" y="4638"/>
                  </a:lnTo>
                  <a:lnTo>
                    <a:pt x="209" y="4622"/>
                  </a:lnTo>
                  <a:lnTo>
                    <a:pt x="203" y="4606"/>
                  </a:lnTo>
                  <a:lnTo>
                    <a:pt x="198" y="4589"/>
                  </a:lnTo>
                  <a:lnTo>
                    <a:pt x="192" y="4569"/>
                  </a:lnTo>
                  <a:lnTo>
                    <a:pt x="188" y="4551"/>
                  </a:lnTo>
                  <a:lnTo>
                    <a:pt x="183" y="4532"/>
                  </a:lnTo>
                  <a:lnTo>
                    <a:pt x="179" y="4510"/>
                  </a:lnTo>
                  <a:lnTo>
                    <a:pt x="176" y="4488"/>
                  </a:lnTo>
                  <a:lnTo>
                    <a:pt x="170" y="4441"/>
                  </a:lnTo>
                  <a:lnTo>
                    <a:pt x="165" y="4392"/>
                  </a:lnTo>
                  <a:lnTo>
                    <a:pt x="163" y="4341"/>
                  </a:lnTo>
                  <a:lnTo>
                    <a:pt x="162" y="4284"/>
                  </a:lnTo>
                  <a:lnTo>
                    <a:pt x="162" y="4242"/>
                  </a:lnTo>
                  <a:lnTo>
                    <a:pt x="163" y="4200"/>
                  </a:lnTo>
                  <a:lnTo>
                    <a:pt x="167" y="4115"/>
                  </a:lnTo>
                  <a:lnTo>
                    <a:pt x="173" y="4027"/>
                  </a:lnTo>
                  <a:lnTo>
                    <a:pt x="182" y="3938"/>
                  </a:lnTo>
                  <a:lnTo>
                    <a:pt x="202" y="3784"/>
                  </a:lnTo>
                  <a:lnTo>
                    <a:pt x="232" y="3568"/>
                  </a:lnTo>
                  <a:lnTo>
                    <a:pt x="323" y="2958"/>
                  </a:lnTo>
                  <a:lnTo>
                    <a:pt x="385" y="2545"/>
                  </a:lnTo>
                  <a:lnTo>
                    <a:pt x="429" y="2224"/>
                  </a:lnTo>
                  <a:lnTo>
                    <a:pt x="456" y="1996"/>
                  </a:lnTo>
                  <a:lnTo>
                    <a:pt x="463" y="1918"/>
                  </a:lnTo>
                  <a:lnTo>
                    <a:pt x="464" y="1888"/>
                  </a:lnTo>
                  <a:lnTo>
                    <a:pt x="465" y="1863"/>
                  </a:lnTo>
                  <a:lnTo>
                    <a:pt x="465" y="1857"/>
                  </a:lnTo>
                  <a:lnTo>
                    <a:pt x="465" y="1851"/>
                  </a:lnTo>
                  <a:lnTo>
                    <a:pt x="464" y="1846"/>
                  </a:lnTo>
                  <a:lnTo>
                    <a:pt x="464" y="1844"/>
                  </a:lnTo>
                  <a:lnTo>
                    <a:pt x="464" y="1842"/>
                  </a:lnTo>
                  <a:lnTo>
                    <a:pt x="463" y="1840"/>
                  </a:lnTo>
                  <a:lnTo>
                    <a:pt x="463" y="1838"/>
                  </a:lnTo>
                  <a:lnTo>
                    <a:pt x="462" y="1835"/>
                  </a:lnTo>
                  <a:lnTo>
                    <a:pt x="462" y="1835"/>
                  </a:lnTo>
                  <a:lnTo>
                    <a:pt x="462" y="1835"/>
                  </a:lnTo>
                  <a:lnTo>
                    <a:pt x="462" y="1835"/>
                  </a:lnTo>
                  <a:lnTo>
                    <a:pt x="461" y="1833"/>
                  </a:lnTo>
                  <a:lnTo>
                    <a:pt x="461" y="1833"/>
                  </a:lnTo>
                  <a:lnTo>
                    <a:pt x="461" y="1833"/>
                  </a:lnTo>
                  <a:lnTo>
                    <a:pt x="461" y="1833"/>
                  </a:lnTo>
                  <a:lnTo>
                    <a:pt x="460" y="1833"/>
                  </a:lnTo>
                  <a:lnTo>
                    <a:pt x="460" y="1833"/>
                  </a:lnTo>
                  <a:lnTo>
                    <a:pt x="456" y="1832"/>
                  </a:lnTo>
                  <a:lnTo>
                    <a:pt x="453" y="1834"/>
                  </a:lnTo>
                  <a:lnTo>
                    <a:pt x="444" y="1835"/>
                  </a:lnTo>
                  <a:lnTo>
                    <a:pt x="435" y="1840"/>
                  </a:lnTo>
                  <a:lnTo>
                    <a:pt x="425" y="1844"/>
                  </a:lnTo>
                  <a:lnTo>
                    <a:pt x="413" y="1851"/>
                  </a:lnTo>
                  <a:lnTo>
                    <a:pt x="401" y="1862"/>
                  </a:lnTo>
                  <a:lnTo>
                    <a:pt x="373" y="1885"/>
                  </a:lnTo>
                  <a:lnTo>
                    <a:pt x="356" y="1903"/>
                  </a:lnTo>
                  <a:lnTo>
                    <a:pt x="336" y="1925"/>
                  </a:lnTo>
                  <a:lnTo>
                    <a:pt x="284" y="1992"/>
                  </a:lnTo>
                  <a:lnTo>
                    <a:pt x="216" y="2085"/>
                  </a:lnTo>
                  <a:lnTo>
                    <a:pt x="134" y="2204"/>
                  </a:lnTo>
                  <a:lnTo>
                    <a:pt x="0" y="1971"/>
                  </a:lnTo>
                  <a:lnTo>
                    <a:pt x="142" y="1745"/>
                  </a:lnTo>
                  <a:lnTo>
                    <a:pt x="265" y="1567"/>
                  </a:lnTo>
                  <a:lnTo>
                    <a:pt x="320" y="1493"/>
                  </a:lnTo>
                  <a:lnTo>
                    <a:pt x="370" y="1432"/>
                  </a:lnTo>
                  <a:lnTo>
                    <a:pt x="416" y="1382"/>
                  </a:lnTo>
                  <a:lnTo>
                    <a:pt x="458" y="1345"/>
                  </a:lnTo>
                  <a:lnTo>
                    <a:pt x="496" y="1315"/>
                  </a:lnTo>
                  <a:lnTo>
                    <a:pt x="532" y="1289"/>
                  </a:lnTo>
                  <a:lnTo>
                    <a:pt x="567" y="1267"/>
                  </a:lnTo>
                  <a:lnTo>
                    <a:pt x="600" y="1252"/>
                  </a:lnTo>
                  <a:lnTo>
                    <a:pt x="631" y="1238"/>
                  </a:lnTo>
                  <a:lnTo>
                    <a:pt x="660" y="1232"/>
                  </a:lnTo>
                  <a:lnTo>
                    <a:pt x="687" y="1227"/>
                  </a:lnTo>
                  <a:lnTo>
                    <a:pt x="713" y="1229"/>
                  </a:lnTo>
                  <a:lnTo>
                    <a:pt x="730" y="1234"/>
                  </a:lnTo>
                  <a:lnTo>
                    <a:pt x="745" y="1241"/>
                  </a:lnTo>
                  <a:lnTo>
                    <a:pt x="761" y="1250"/>
                  </a:lnTo>
                  <a:lnTo>
                    <a:pt x="768" y="1257"/>
                  </a:lnTo>
                  <a:lnTo>
                    <a:pt x="775" y="1262"/>
                  </a:lnTo>
                  <a:lnTo>
                    <a:pt x="782" y="1270"/>
                  </a:lnTo>
                  <a:lnTo>
                    <a:pt x="789" y="1279"/>
                  </a:lnTo>
                  <a:lnTo>
                    <a:pt x="795" y="1287"/>
                  </a:lnTo>
                  <a:lnTo>
                    <a:pt x="802" y="1296"/>
                  </a:lnTo>
                  <a:lnTo>
                    <a:pt x="808" y="1307"/>
                  </a:lnTo>
                  <a:lnTo>
                    <a:pt x="814" y="1317"/>
                  </a:lnTo>
                  <a:lnTo>
                    <a:pt x="819" y="1330"/>
                  </a:lnTo>
                  <a:lnTo>
                    <a:pt x="825" y="1342"/>
                  </a:lnTo>
                  <a:lnTo>
                    <a:pt x="830" y="1355"/>
                  </a:lnTo>
                  <a:lnTo>
                    <a:pt x="835" y="1369"/>
                  </a:lnTo>
                  <a:lnTo>
                    <a:pt x="840" y="1382"/>
                  </a:lnTo>
                  <a:lnTo>
                    <a:pt x="844" y="1397"/>
                  </a:lnTo>
                  <a:lnTo>
                    <a:pt x="848" y="1413"/>
                  </a:lnTo>
                  <a:lnTo>
                    <a:pt x="851" y="1428"/>
                  </a:lnTo>
                  <a:lnTo>
                    <a:pt x="855" y="1445"/>
                  </a:lnTo>
                  <a:lnTo>
                    <a:pt x="857" y="1462"/>
                  </a:lnTo>
                  <a:lnTo>
                    <a:pt x="862" y="1497"/>
                  </a:lnTo>
                  <a:lnTo>
                    <a:pt x="865" y="1535"/>
                  </a:lnTo>
                  <a:lnTo>
                    <a:pt x="867" y="1575"/>
                  </a:lnTo>
                  <a:lnTo>
                    <a:pt x="868" y="1618"/>
                  </a:lnTo>
                  <a:lnTo>
                    <a:pt x="867" y="1655"/>
                  </a:lnTo>
                  <a:lnTo>
                    <a:pt x="866" y="1701"/>
                  </a:lnTo>
                  <a:lnTo>
                    <a:pt x="858" y="1807"/>
                  </a:lnTo>
                  <a:lnTo>
                    <a:pt x="846" y="1938"/>
                  </a:lnTo>
                  <a:lnTo>
                    <a:pt x="830" y="2095"/>
                  </a:lnTo>
                  <a:lnTo>
                    <a:pt x="781" y="2477"/>
                  </a:lnTo>
                  <a:lnTo>
                    <a:pt x="713" y="2956"/>
                  </a:lnTo>
                  <a:lnTo>
                    <a:pt x="613" y="3680"/>
                  </a:lnTo>
                  <a:lnTo>
                    <a:pt x="587" y="3893"/>
                  </a:lnTo>
                  <a:lnTo>
                    <a:pt x="581" y="3961"/>
                  </a:lnTo>
                  <a:lnTo>
                    <a:pt x="580" y="3986"/>
                  </a:lnTo>
                  <a:lnTo>
                    <a:pt x="579" y="4005"/>
                  </a:lnTo>
                  <a:lnTo>
                    <a:pt x="579" y="4018"/>
                  </a:lnTo>
                  <a:lnTo>
                    <a:pt x="580" y="4031"/>
                  </a:lnTo>
                  <a:lnTo>
                    <a:pt x="581" y="4035"/>
                  </a:lnTo>
                  <a:lnTo>
                    <a:pt x="581" y="4041"/>
                  </a:lnTo>
                  <a:lnTo>
                    <a:pt x="582" y="4048"/>
                  </a:lnTo>
                  <a:lnTo>
                    <a:pt x="583" y="4052"/>
                  </a:lnTo>
                  <a:lnTo>
                    <a:pt x="585" y="4059"/>
                  </a:lnTo>
                  <a:lnTo>
                    <a:pt x="586" y="4063"/>
                  </a:lnTo>
                  <a:lnTo>
                    <a:pt x="589" y="4074"/>
                  </a:lnTo>
                  <a:lnTo>
                    <a:pt x="592" y="4085"/>
                  </a:lnTo>
                  <a:lnTo>
                    <a:pt x="596" y="4094"/>
                  </a:lnTo>
                  <a:lnTo>
                    <a:pt x="600" y="4103"/>
                  </a:lnTo>
                  <a:lnTo>
                    <a:pt x="604" y="4110"/>
                  </a:lnTo>
                  <a:lnTo>
                    <a:pt x="609" y="4117"/>
                  </a:lnTo>
                  <a:lnTo>
                    <a:pt x="613" y="4122"/>
                  </a:lnTo>
                  <a:lnTo>
                    <a:pt x="615" y="4124"/>
                  </a:lnTo>
                  <a:lnTo>
                    <a:pt x="618" y="4127"/>
                  </a:lnTo>
                  <a:lnTo>
                    <a:pt x="620" y="4129"/>
                  </a:lnTo>
                  <a:lnTo>
                    <a:pt x="622" y="4130"/>
                  </a:lnTo>
                  <a:lnTo>
                    <a:pt x="624" y="4130"/>
                  </a:lnTo>
                  <a:lnTo>
                    <a:pt x="627" y="4133"/>
                  </a:lnTo>
                  <a:lnTo>
                    <a:pt x="629" y="4133"/>
                  </a:lnTo>
                  <a:lnTo>
                    <a:pt x="631" y="4133"/>
                  </a:lnTo>
                  <a:lnTo>
                    <a:pt x="645" y="4133"/>
                  </a:lnTo>
                  <a:lnTo>
                    <a:pt x="659" y="4131"/>
                  </a:lnTo>
                  <a:lnTo>
                    <a:pt x="674" y="4127"/>
                  </a:lnTo>
                  <a:lnTo>
                    <a:pt x="690" y="4121"/>
                  </a:lnTo>
                  <a:lnTo>
                    <a:pt x="707" y="4112"/>
                  </a:lnTo>
                  <a:lnTo>
                    <a:pt x="724" y="4100"/>
                  </a:lnTo>
                  <a:lnTo>
                    <a:pt x="762" y="4068"/>
                  </a:lnTo>
                  <a:lnTo>
                    <a:pt x="803" y="4024"/>
                  </a:lnTo>
                  <a:lnTo>
                    <a:pt x="847" y="3972"/>
                  </a:lnTo>
                  <a:lnTo>
                    <a:pt x="894" y="3908"/>
                  </a:lnTo>
                  <a:lnTo>
                    <a:pt x="894" y="3905"/>
                  </a:lnTo>
                  <a:lnTo>
                    <a:pt x="894" y="3903"/>
                  </a:lnTo>
                  <a:lnTo>
                    <a:pt x="945" y="3834"/>
                  </a:lnTo>
                  <a:lnTo>
                    <a:pt x="994" y="3755"/>
                  </a:lnTo>
                  <a:lnTo>
                    <a:pt x="1039" y="3672"/>
                  </a:lnTo>
                  <a:lnTo>
                    <a:pt x="1080" y="3585"/>
                  </a:lnTo>
                  <a:lnTo>
                    <a:pt x="1117" y="3494"/>
                  </a:lnTo>
                  <a:lnTo>
                    <a:pt x="1148" y="3399"/>
                  </a:lnTo>
                  <a:lnTo>
                    <a:pt x="1176" y="3301"/>
                  </a:lnTo>
                  <a:lnTo>
                    <a:pt x="1199" y="3200"/>
                  </a:lnTo>
                  <a:lnTo>
                    <a:pt x="1217" y="3093"/>
                  </a:lnTo>
                  <a:close/>
                  <a:moveTo>
                    <a:pt x="1747" y="40"/>
                  </a:moveTo>
                  <a:lnTo>
                    <a:pt x="1847" y="291"/>
                  </a:lnTo>
                  <a:lnTo>
                    <a:pt x="1750" y="438"/>
                  </a:lnTo>
                  <a:lnTo>
                    <a:pt x="1652" y="564"/>
                  </a:lnTo>
                  <a:lnTo>
                    <a:pt x="1554" y="669"/>
                  </a:lnTo>
                  <a:lnTo>
                    <a:pt x="1454" y="750"/>
                  </a:lnTo>
                  <a:lnTo>
                    <a:pt x="1353" y="808"/>
                  </a:lnTo>
                  <a:lnTo>
                    <a:pt x="1252" y="845"/>
                  </a:lnTo>
                  <a:lnTo>
                    <a:pt x="1149" y="861"/>
                  </a:lnTo>
                  <a:lnTo>
                    <a:pt x="1098" y="861"/>
                  </a:lnTo>
                  <a:lnTo>
                    <a:pt x="1046" y="854"/>
                  </a:lnTo>
                  <a:lnTo>
                    <a:pt x="1006" y="844"/>
                  </a:lnTo>
                  <a:lnTo>
                    <a:pt x="968" y="833"/>
                  </a:lnTo>
                  <a:lnTo>
                    <a:pt x="929" y="818"/>
                  </a:lnTo>
                  <a:lnTo>
                    <a:pt x="894" y="800"/>
                  </a:lnTo>
                  <a:lnTo>
                    <a:pt x="894" y="800"/>
                  </a:lnTo>
                  <a:lnTo>
                    <a:pt x="890" y="799"/>
                  </a:lnTo>
                  <a:lnTo>
                    <a:pt x="851" y="778"/>
                  </a:lnTo>
                  <a:lnTo>
                    <a:pt x="812" y="753"/>
                  </a:lnTo>
                  <a:lnTo>
                    <a:pt x="773" y="726"/>
                  </a:lnTo>
                  <a:lnTo>
                    <a:pt x="735" y="695"/>
                  </a:lnTo>
                  <a:lnTo>
                    <a:pt x="716" y="677"/>
                  </a:lnTo>
                  <a:lnTo>
                    <a:pt x="699" y="659"/>
                  </a:lnTo>
                  <a:lnTo>
                    <a:pt x="683" y="640"/>
                  </a:lnTo>
                  <a:lnTo>
                    <a:pt x="668" y="621"/>
                  </a:lnTo>
                  <a:lnTo>
                    <a:pt x="654" y="600"/>
                  </a:lnTo>
                  <a:lnTo>
                    <a:pt x="641" y="577"/>
                  </a:lnTo>
                  <a:lnTo>
                    <a:pt x="630" y="552"/>
                  </a:lnTo>
                  <a:lnTo>
                    <a:pt x="620" y="529"/>
                  </a:lnTo>
                  <a:lnTo>
                    <a:pt x="611" y="503"/>
                  </a:lnTo>
                  <a:lnTo>
                    <a:pt x="603" y="476"/>
                  </a:lnTo>
                  <a:lnTo>
                    <a:pt x="596" y="448"/>
                  </a:lnTo>
                  <a:lnTo>
                    <a:pt x="591" y="420"/>
                  </a:lnTo>
                  <a:lnTo>
                    <a:pt x="586" y="389"/>
                  </a:lnTo>
                  <a:lnTo>
                    <a:pt x="583" y="357"/>
                  </a:lnTo>
                  <a:lnTo>
                    <a:pt x="582" y="326"/>
                  </a:lnTo>
                  <a:lnTo>
                    <a:pt x="581" y="292"/>
                  </a:lnTo>
                  <a:lnTo>
                    <a:pt x="582" y="254"/>
                  </a:lnTo>
                  <a:lnTo>
                    <a:pt x="584" y="219"/>
                  </a:lnTo>
                  <a:lnTo>
                    <a:pt x="587" y="185"/>
                  </a:lnTo>
                  <a:lnTo>
                    <a:pt x="592" y="155"/>
                  </a:lnTo>
                  <a:lnTo>
                    <a:pt x="598" y="126"/>
                  </a:lnTo>
                  <a:lnTo>
                    <a:pt x="606" y="102"/>
                  </a:lnTo>
                  <a:lnTo>
                    <a:pt x="614" y="80"/>
                  </a:lnTo>
                  <a:lnTo>
                    <a:pt x="625" y="61"/>
                  </a:lnTo>
                  <a:lnTo>
                    <a:pt x="636" y="44"/>
                  </a:lnTo>
                  <a:lnTo>
                    <a:pt x="649" y="29"/>
                  </a:lnTo>
                  <a:lnTo>
                    <a:pt x="664" y="19"/>
                  </a:lnTo>
                  <a:lnTo>
                    <a:pt x="679" y="9"/>
                  </a:lnTo>
                  <a:lnTo>
                    <a:pt x="696" y="3"/>
                  </a:lnTo>
                  <a:lnTo>
                    <a:pt x="715" y="0"/>
                  </a:lnTo>
                  <a:lnTo>
                    <a:pt x="735" y="1"/>
                  </a:lnTo>
                  <a:lnTo>
                    <a:pt x="756" y="2"/>
                  </a:lnTo>
                  <a:lnTo>
                    <a:pt x="773" y="7"/>
                  </a:lnTo>
                  <a:lnTo>
                    <a:pt x="794" y="16"/>
                  </a:lnTo>
                  <a:lnTo>
                    <a:pt x="818" y="28"/>
                  </a:lnTo>
                  <a:lnTo>
                    <a:pt x="845" y="47"/>
                  </a:lnTo>
                  <a:lnTo>
                    <a:pt x="894" y="82"/>
                  </a:lnTo>
                  <a:lnTo>
                    <a:pt x="894" y="82"/>
                  </a:lnTo>
                  <a:lnTo>
                    <a:pt x="909" y="96"/>
                  </a:lnTo>
                  <a:lnTo>
                    <a:pt x="984" y="163"/>
                  </a:lnTo>
                  <a:lnTo>
                    <a:pt x="1090" y="256"/>
                  </a:lnTo>
                  <a:lnTo>
                    <a:pt x="1139" y="294"/>
                  </a:lnTo>
                  <a:lnTo>
                    <a:pt x="1185" y="325"/>
                  </a:lnTo>
                  <a:lnTo>
                    <a:pt x="1228" y="351"/>
                  </a:lnTo>
                  <a:lnTo>
                    <a:pt x="1266" y="371"/>
                  </a:lnTo>
                  <a:lnTo>
                    <a:pt x="1303" y="385"/>
                  </a:lnTo>
                  <a:lnTo>
                    <a:pt x="1336" y="393"/>
                  </a:lnTo>
                  <a:lnTo>
                    <a:pt x="1354" y="394"/>
                  </a:lnTo>
                  <a:lnTo>
                    <a:pt x="1373" y="393"/>
                  </a:lnTo>
                  <a:lnTo>
                    <a:pt x="1393" y="389"/>
                  </a:lnTo>
                  <a:lnTo>
                    <a:pt x="1414" y="380"/>
                  </a:lnTo>
                  <a:lnTo>
                    <a:pt x="1459" y="356"/>
                  </a:lnTo>
                  <a:lnTo>
                    <a:pt x="1509" y="318"/>
                  </a:lnTo>
                  <a:lnTo>
                    <a:pt x="1561" y="267"/>
                  </a:lnTo>
                  <a:lnTo>
                    <a:pt x="1619" y="205"/>
                  </a:lnTo>
                  <a:lnTo>
                    <a:pt x="1681" y="12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68640" y="2455920"/>
              <a:ext cx="698760" cy="1326960"/>
            </a:xfrm>
            <a:custGeom>
              <a:avLst/>
              <a:gdLst/>
              <a:ahLst/>
              <a:rect l="l" t="t" r="r" b="b"/>
              <a:pathLst>
                <a:path w="1940" h="3685">
                  <a:moveTo>
                    <a:pt x="1939" y="2855"/>
                  </a:moveTo>
                  <a:lnTo>
                    <a:pt x="1835" y="3049"/>
                  </a:lnTo>
                  <a:lnTo>
                    <a:pt x="1835" y="3051"/>
                  </a:lnTo>
                  <a:lnTo>
                    <a:pt x="1829" y="3065"/>
                  </a:lnTo>
                  <a:lnTo>
                    <a:pt x="1727" y="3235"/>
                  </a:lnTo>
                  <a:lnTo>
                    <a:pt x="1632" y="3378"/>
                  </a:lnTo>
                  <a:lnTo>
                    <a:pt x="1545" y="3495"/>
                  </a:lnTo>
                  <a:lnTo>
                    <a:pt x="1464" y="3584"/>
                  </a:lnTo>
                  <a:lnTo>
                    <a:pt x="1427" y="3617"/>
                  </a:lnTo>
                  <a:lnTo>
                    <a:pt x="1390" y="3644"/>
                  </a:lnTo>
                  <a:lnTo>
                    <a:pt x="1356" y="3664"/>
                  </a:lnTo>
                  <a:lnTo>
                    <a:pt x="1324" y="3677"/>
                  </a:lnTo>
                  <a:lnTo>
                    <a:pt x="1294" y="3684"/>
                  </a:lnTo>
                  <a:lnTo>
                    <a:pt x="1265" y="3684"/>
                  </a:lnTo>
                  <a:lnTo>
                    <a:pt x="1247" y="3680"/>
                  </a:lnTo>
                  <a:lnTo>
                    <a:pt x="1229" y="3671"/>
                  </a:lnTo>
                  <a:lnTo>
                    <a:pt x="1211" y="3660"/>
                  </a:lnTo>
                  <a:lnTo>
                    <a:pt x="1194" y="3646"/>
                  </a:lnTo>
                  <a:lnTo>
                    <a:pt x="1177" y="3627"/>
                  </a:lnTo>
                  <a:lnTo>
                    <a:pt x="1160" y="3603"/>
                  </a:lnTo>
                  <a:lnTo>
                    <a:pt x="1143" y="3576"/>
                  </a:lnTo>
                  <a:lnTo>
                    <a:pt x="1126" y="3546"/>
                  </a:lnTo>
                  <a:lnTo>
                    <a:pt x="1118" y="3531"/>
                  </a:lnTo>
                  <a:lnTo>
                    <a:pt x="1111" y="3513"/>
                  </a:lnTo>
                  <a:lnTo>
                    <a:pt x="1104" y="3495"/>
                  </a:lnTo>
                  <a:lnTo>
                    <a:pt x="1098" y="3478"/>
                  </a:lnTo>
                  <a:lnTo>
                    <a:pt x="1093" y="3458"/>
                  </a:lnTo>
                  <a:lnTo>
                    <a:pt x="1087" y="3438"/>
                  </a:lnTo>
                  <a:lnTo>
                    <a:pt x="1083" y="3419"/>
                  </a:lnTo>
                  <a:lnTo>
                    <a:pt x="1078" y="3397"/>
                  </a:lnTo>
                  <a:lnTo>
                    <a:pt x="1074" y="3376"/>
                  </a:lnTo>
                  <a:lnTo>
                    <a:pt x="1071" y="3354"/>
                  </a:lnTo>
                  <a:lnTo>
                    <a:pt x="1068" y="3331"/>
                  </a:lnTo>
                  <a:lnTo>
                    <a:pt x="1066" y="3307"/>
                  </a:lnTo>
                  <a:lnTo>
                    <a:pt x="1063" y="3259"/>
                  </a:lnTo>
                  <a:lnTo>
                    <a:pt x="1062" y="3208"/>
                  </a:lnTo>
                  <a:lnTo>
                    <a:pt x="1063" y="3151"/>
                  </a:lnTo>
                  <a:lnTo>
                    <a:pt x="1065" y="3091"/>
                  </a:lnTo>
                  <a:lnTo>
                    <a:pt x="1069" y="3024"/>
                  </a:lnTo>
                  <a:lnTo>
                    <a:pt x="1075" y="2953"/>
                  </a:lnTo>
                  <a:lnTo>
                    <a:pt x="1091" y="2798"/>
                  </a:lnTo>
                  <a:lnTo>
                    <a:pt x="1113" y="2620"/>
                  </a:lnTo>
                  <a:lnTo>
                    <a:pt x="1207" y="2007"/>
                  </a:lnTo>
                  <a:lnTo>
                    <a:pt x="684" y="1940"/>
                  </a:lnTo>
                  <a:lnTo>
                    <a:pt x="596" y="2597"/>
                  </a:lnTo>
                  <a:lnTo>
                    <a:pt x="596" y="2605"/>
                  </a:lnTo>
                  <a:lnTo>
                    <a:pt x="487" y="3442"/>
                  </a:lnTo>
                  <a:lnTo>
                    <a:pt x="102" y="3375"/>
                  </a:lnTo>
                  <a:lnTo>
                    <a:pt x="104" y="3333"/>
                  </a:lnTo>
                  <a:lnTo>
                    <a:pt x="107" y="3290"/>
                  </a:lnTo>
                  <a:lnTo>
                    <a:pt x="117" y="3193"/>
                  </a:lnTo>
                  <a:lnTo>
                    <a:pt x="130" y="3081"/>
                  </a:lnTo>
                  <a:lnTo>
                    <a:pt x="148" y="2958"/>
                  </a:lnTo>
                  <a:lnTo>
                    <a:pt x="261" y="2168"/>
                  </a:lnTo>
                  <a:lnTo>
                    <a:pt x="449" y="795"/>
                  </a:lnTo>
                  <a:lnTo>
                    <a:pt x="455" y="747"/>
                  </a:lnTo>
                  <a:lnTo>
                    <a:pt x="459" y="706"/>
                  </a:lnTo>
                  <a:lnTo>
                    <a:pt x="460" y="687"/>
                  </a:lnTo>
                  <a:lnTo>
                    <a:pt x="461" y="673"/>
                  </a:lnTo>
                  <a:lnTo>
                    <a:pt x="462" y="656"/>
                  </a:lnTo>
                  <a:lnTo>
                    <a:pt x="462" y="643"/>
                  </a:lnTo>
                  <a:lnTo>
                    <a:pt x="462" y="635"/>
                  </a:lnTo>
                  <a:lnTo>
                    <a:pt x="462" y="627"/>
                  </a:lnTo>
                  <a:lnTo>
                    <a:pt x="461" y="620"/>
                  </a:lnTo>
                  <a:lnTo>
                    <a:pt x="461" y="618"/>
                  </a:lnTo>
                  <a:lnTo>
                    <a:pt x="461" y="616"/>
                  </a:lnTo>
                  <a:lnTo>
                    <a:pt x="460" y="612"/>
                  </a:lnTo>
                  <a:lnTo>
                    <a:pt x="460" y="612"/>
                  </a:lnTo>
                  <a:lnTo>
                    <a:pt x="459" y="609"/>
                  </a:lnTo>
                  <a:lnTo>
                    <a:pt x="459" y="607"/>
                  </a:lnTo>
                  <a:lnTo>
                    <a:pt x="458" y="607"/>
                  </a:lnTo>
                  <a:lnTo>
                    <a:pt x="458" y="607"/>
                  </a:lnTo>
                  <a:lnTo>
                    <a:pt x="458" y="605"/>
                  </a:lnTo>
                  <a:lnTo>
                    <a:pt x="457" y="605"/>
                  </a:lnTo>
                  <a:lnTo>
                    <a:pt x="457" y="605"/>
                  </a:lnTo>
                  <a:lnTo>
                    <a:pt x="457" y="605"/>
                  </a:lnTo>
                  <a:lnTo>
                    <a:pt x="456" y="605"/>
                  </a:lnTo>
                  <a:lnTo>
                    <a:pt x="456" y="605"/>
                  </a:lnTo>
                  <a:lnTo>
                    <a:pt x="446" y="605"/>
                  </a:lnTo>
                  <a:lnTo>
                    <a:pt x="434" y="607"/>
                  </a:lnTo>
                  <a:lnTo>
                    <a:pt x="421" y="613"/>
                  </a:lnTo>
                  <a:lnTo>
                    <a:pt x="407" y="623"/>
                  </a:lnTo>
                  <a:lnTo>
                    <a:pt x="374" y="649"/>
                  </a:lnTo>
                  <a:lnTo>
                    <a:pt x="336" y="689"/>
                  </a:lnTo>
                  <a:lnTo>
                    <a:pt x="294" y="742"/>
                  </a:lnTo>
                  <a:lnTo>
                    <a:pt x="246" y="805"/>
                  </a:lnTo>
                  <a:lnTo>
                    <a:pt x="133" y="971"/>
                  </a:lnTo>
                  <a:lnTo>
                    <a:pt x="0" y="739"/>
                  </a:lnTo>
                  <a:lnTo>
                    <a:pt x="113" y="557"/>
                  </a:lnTo>
                  <a:lnTo>
                    <a:pt x="220" y="403"/>
                  </a:lnTo>
                  <a:lnTo>
                    <a:pt x="320" y="272"/>
                  </a:lnTo>
                  <a:lnTo>
                    <a:pt x="411" y="168"/>
                  </a:lnTo>
                  <a:lnTo>
                    <a:pt x="497" y="88"/>
                  </a:lnTo>
                  <a:lnTo>
                    <a:pt x="537" y="59"/>
                  </a:lnTo>
                  <a:lnTo>
                    <a:pt x="575" y="37"/>
                  </a:lnTo>
                  <a:lnTo>
                    <a:pt x="596" y="23"/>
                  </a:lnTo>
                  <a:lnTo>
                    <a:pt x="596" y="21"/>
                  </a:lnTo>
                  <a:lnTo>
                    <a:pt x="611" y="17"/>
                  </a:lnTo>
                  <a:lnTo>
                    <a:pt x="646" y="5"/>
                  </a:lnTo>
                  <a:lnTo>
                    <a:pt x="679" y="1"/>
                  </a:lnTo>
                  <a:lnTo>
                    <a:pt x="710" y="0"/>
                  </a:lnTo>
                  <a:lnTo>
                    <a:pt x="729" y="5"/>
                  </a:lnTo>
                  <a:lnTo>
                    <a:pt x="747" y="11"/>
                  </a:lnTo>
                  <a:lnTo>
                    <a:pt x="763" y="20"/>
                  </a:lnTo>
                  <a:lnTo>
                    <a:pt x="779" y="32"/>
                  </a:lnTo>
                  <a:lnTo>
                    <a:pt x="793" y="47"/>
                  </a:lnTo>
                  <a:lnTo>
                    <a:pt x="806" y="65"/>
                  </a:lnTo>
                  <a:lnTo>
                    <a:pt x="817" y="86"/>
                  </a:lnTo>
                  <a:lnTo>
                    <a:pt x="828" y="108"/>
                  </a:lnTo>
                  <a:lnTo>
                    <a:pt x="837" y="134"/>
                  </a:lnTo>
                  <a:lnTo>
                    <a:pt x="845" y="163"/>
                  </a:lnTo>
                  <a:lnTo>
                    <a:pt x="852" y="193"/>
                  </a:lnTo>
                  <a:lnTo>
                    <a:pt x="858" y="227"/>
                  </a:lnTo>
                  <a:lnTo>
                    <a:pt x="863" y="264"/>
                  </a:lnTo>
                  <a:lnTo>
                    <a:pt x="866" y="302"/>
                  </a:lnTo>
                  <a:lnTo>
                    <a:pt x="867" y="344"/>
                  </a:lnTo>
                  <a:lnTo>
                    <a:pt x="868" y="389"/>
                  </a:lnTo>
                  <a:lnTo>
                    <a:pt x="866" y="470"/>
                  </a:lnTo>
                  <a:lnTo>
                    <a:pt x="859" y="570"/>
                  </a:lnTo>
                  <a:lnTo>
                    <a:pt x="848" y="687"/>
                  </a:lnTo>
                  <a:lnTo>
                    <a:pt x="832" y="823"/>
                  </a:lnTo>
                  <a:lnTo>
                    <a:pt x="789" y="1148"/>
                  </a:lnTo>
                  <a:lnTo>
                    <a:pt x="728" y="1544"/>
                  </a:lnTo>
                  <a:lnTo>
                    <a:pt x="1252" y="1611"/>
                  </a:lnTo>
                  <a:lnTo>
                    <a:pt x="1460" y="198"/>
                  </a:lnTo>
                  <a:lnTo>
                    <a:pt x="1832" y="246"/>
                  </a:lnTo>
                  <a:lnTo>
                    <a:pt x="1629" y="1700"/>
                  </a:lnTo>
                  <a:lnTo>
                    <a:pt x="1499" y="2610"/>
                  </a:lnTo>
                  <a:lnTo>
                    <a:pt x="1466" y="2877"/>
                  </a:lnTo>
                  <a:lnTo>
                    <a:pt x="1458" y="2963"/>
                  </a:lnTo>
                  <a:lnTo>
                    <a:pt x="1456" y="2994"/>
                  </a:lnTo>
                  <a:lnTo>
                    <a:pt x="1455" y="3017"/>
                  </a:lnTo>
                  <a:lnTo>
                    <a:pt x="1455" y="3034"/>
                  </a:lnTo>
                  <a:lnTo>
                    <a:pt x="1456" y="3042"/>
                  </a:lnTo>
                  <a:lnTo>
                    <a:pt x="1456" y="3049"/>
                  </a:lnTo>
                  <a:lnTo>
                    <a:pt x="1457" y="3055"/>
                  </a:lnTo>
                  <a:lnTo>
                    <a:pt x="1458" y="3061"/>
                  </a:lnTo>
                  <a:lnTo>
                    <a:pt x="1459" y="3066"/>
                  </a:lnTo>
                  <a:lnTo>
                    <a:pt x="1460" y="3072"/>
                  </a:lnTo>
                  <a:lnTo>
                    <a:pt x="1462" y="3077"/>
                  </a:lnTo>
                  <a:lnTo>
                    <a:pt x="1463" y="3079"/>
                  </a:lnTo>
                  <a:lnTo>
                    <a:pt x="1465" y="3083"/>
                  </a:lnTo>
                  <a:lnTo>
                    <a:pt x="1467" y="3086"/>
                  </a:lnTo>
                  <a:lnTo>
                    <a:pt x="1469" y="3088"/>
                  </a:lnTo>
                  <a:lnTo>
                    <a:pt x="1471" y="3088"/>
                  </a:lnTo>
                  <a:lnTo>
                    <a:pt x="1473" y="3091"/>
                  </a:lnTo>
                  <a:lnTo>
                    <a:pt x="1476" y="3091"/>
                  </a:lnTo>
                  <a:lnTo>
                    <a:pt x="1480" y="3092"/>
                  </a:lnTo>
                  <a:lnTo>
                    <a:pt x="1485" y="3090"/>
                  </a:lnTo>
                  <a:lnTo>
                    <a:pt x="1495" y="3085"/>
                  </a:lnTo>
                  <a:lnTo>
                    <a:pt x="1508" y="3076"/>
                  </a:lnTo>
                  <a:lnTo>
                    <a:pt x="1522" y="3065"/>
                  </a:lnTo>
                  <a:lnTo>
                    <a:pt x="1555" y="3030"/>
                  </a:lnTo>
                  <a:lnTo>
                    <a:pt x="1596" y="2978"/>
                  </a:lnTo>
                  <a:lnTo>
                    <a:pt x="1698" y="2832"/>
                  </a:lnTo>
                  <a:lnTo>
                    <a:pt x="1830" y="2624"/>
                  </a:lnTo>
                  <a:lnTo>
                    <a:pt x="1835" y="2635"/>
                  </a:lnTo>
                  <a:lnTo>
                    <a:pt x="1835" y="2635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4840" y="2205000"/>
              <a:ext cx="506520" cy="1595520"/>
            </a:xfrm>
            <a:custGeom>
              <a:avLst/>
              <a:gdLst/>
              <a:ahLst/>
              <a:rect l="l" t="t" r="r" b="b"/>
              <a:pathLst>
                <a:path w="1408" h="4432">
                  <a:moveTo>
                    <a:pt x="1202" y="227"/>
                  </a:moveTo>
                  <a:lnTo>
                    <a:pt x="1202" y="224"/>
                  </a:lnTo>
                  <a:lnTo>
                    <a:pt x="1202" y="222"/>
                  </a:lnTo>
                  <a:lnTo>
                    <a:pt x="1227" y="150"/>
                  </a:lnTo>
                  <a:lnTo>
                    <a:pt x="1227" y="148"/>
                  </a:lnTo>
                  <a:lnTo>
                    <a:pt x="1261" y="82"/>
                  </a:lnTo>
                  <a:lnTo>
                    <a:pt x="1261" y="80"/>
                  </a:lnTo>
                  <a:lnTo>
                    <a:pt x="1304" y="20"/>
                  </a:lnTo>
                  <a:lnTo>
                    <a:pt x="1304" y="18"/>
                  </a:lnTo>
                  <a:lnTo>
                    <a:pt x="1322" y="0"/>
                  </a:lnTo>
                  <a:lnTo>
                    <a:pt x="1304" y="150"/>
                  </a:lnTo>
                  <a:lnTo>
                    <a:pt x="1304" y="156"/>
                  </a:lnTo>
                  <a:lnTo>
                    <a:pt x="1261" y="603"/>
                  </a:lnTo>
                  <a:lnTo>
                    <a:pt x="1261" y="609"/>
                  </a:lnTo>
                  <a:lnTo>
                    <a:pt x="1227" y="1056"/>
                  </a:lnTo>
                  <a:lnTo>
                    <a:pt x="1227" y="1062"/>
                  </a:lnTo>
                  <a:lnTo>
                    <a:pt x="1218" y="1231"/>
                  </a:lnTo>
                  <a:lnTo>
                    <a:pt x="1202" y="1511"/>
                  </a:lnTo>
                  <a:lnTo>
                    <a:pt x="1202" y="1517"/>
                  </a:lnTo>
                  <a:lnTo>
                    <a:pt x="1201" y="1579"/>
                  </a:lnTo>
                  <a:lnTo>
                    <a:pt x="1190" y="1953"/>
                  </a:lnTo>
                  <a:lnTo>
                    <a:pt x="1187" y="2026"/>
                  </a:lnTo>
                  <a:lnTo>
                    <a:pt x="1187" y="2034"/>
                  </a:lnTo>
                  <a:lnTo>
                    <a:pt x="1185" y="2351"/>
                  </a:lnTo>
                  <a:lnTo>
                    <a:pt x="1182" y="2661"/>
                  </a:lnTo>
                  <a:lnTo>
                    <a:pt x="1182" y="2668"/>
                  </a:lnTo>
                  <a:lnTo>
                    <a:pt x="1182" y="2770"/>
                  </a:lnTo>
                  <a:lnTo>
                    <a:pt x="1180" y="2978"/>
                  </a:lnTo>
                  <a:lnTo>
                    <a:pt x="1179" y="3143"/>
                  </a:lnTo>
                  <a:lnTo>
                    <a:pt x="1179" y="3264"/>
                  </a:lnTo>
                  <a:lnTo>
                    <a:pt x="1178" y="3308"/>
                  </a:lnTo>
                  <a:lnTo>
                    <a:pt x="1178" y="3343"/>
                  </a:lnTo>
                  <a:lnTo>
                    <a:pt x="1178" y="3349"/>
                  </a:lnTo>
                  <a:lnTo>
                    <a:pt x="1178" y="3353"/>
                  </a:lnTo>
                  <a:lnTo>
                    <a:pt x="1178" y="3356"/>
                  </a:lnTo>
                  <a:lnTo>
                    <a:pt x="1178" y="3360"/>
                  </a:lnTo>
                  <a:lnTo>
                    <a:pt x="1178" y="3365"/>
                  </a:lnTo>
                  <a:lnTo>
                    <a:pt x="1178" y="3366"/>
                  </a:lnTo>
                  <a:lnTo>
                    <a:pt x="1179" y="3369"/>
                  </a:lnTo>
                  <a:lnTo>
                    <a:pt x="1179" y="3370"/>
                  </a:lnTo>
                  <a:lnTo>
                    <a:pt x="1179" y="3372"/>
                  </a:lnTo>
                  <a:lnTo>
                    <a:pt x="1179" y="3373"/>
                  </a:lnTo>
                  <a:lnTo>
                    <a:pt x="1179" y="3374"/>
                  </a:lnTo>
                  <a:lnTo>
                    <a:pt x="1179" y="3374"/>
                  </a:lnTo>
                  <a:lnTo>
                    <a:pt x="1179" y="3373"/>
                  </a:lnTo>
                  <a:lnTo>
                    <a:pt x="1179" y="3375"/>
                  </a:lnTo>
                  <a:lnTo>
                    <a:pt x="1179" y="3372"/>
                  </a:lnTo>
                  <a:lnTo>
                    <a:pt x="1179" y="3371"/>
                  </a:lnTo>
                  <a:lnTo>
                    <a:pt x="1179" y="3368"/>
                  </a:lnTo>
                  <a:lnTo>
                    <a:pt x="1180" y="3362"/>
                  </a:lnTo>
                  <a:lnTo>
                    <a:pt x="1180" y="3352"/>
                  </a:lnTo>
                  <a:lnTo>
                    <a:pt x="1181" y="3336"/>
                  </a:lnTo>
                  <a:lnTo>
                    <a:pt x="1182" y="3319"/>
                  </a:lnTo>
                  <a:lnTo>
                    <a:pt x="1182" y="3303"/>
                  </a:lnTo>
                  <a:lnTo>
                    <a:pt x="1182" y="3301"/>
                  </a:lnTo>
                  <a:lnTo>
                    <a:pt x="1183" y="3297"/>
                  </a:lnTo>
                  <a:lnTo>
                    <a:pt x="1184" y="3270"/>
                  </a:lnTo>
                  <a:lnTo>
                    <a:pt x="1186" y="3206"/>
                  </a:lnTo>
                  <a:lnTo>
                    <a:pt x="1187" y="3162"/>
                  </a:lnTo>
                  <a:lnTo>
                    <a:pt x="1187" y="3160"/>
                  </a:lnTo>
                  <a:lnTo>
                    <a:pt x="1198" y="3066"/>
                  </a:lnTo>
                  <a:lnTo>
                    <a:pt x="1202" y="3027"/>
                  </a:lnTo>
                  <a:lnTo>
                    <a:pt x="1202" y="3025"/>
                  </a:lnTo>
                  <a:lnTo>
                    <a:pt x="1223" y="2915"/>
                  </a:lnTo>
                  <a:lnTo>
                    <a:pt x="1227" y="2892"/>
                  </a:lnTo>
                  <a:lnTo>
                    <a:pt x="1227" y="2890"/>
                  </a:lnTo>
                  <a:lnTo>
                    <a:pt x="1261" y="2759"/>
                  </a:lnTo>
                  <a:lnTo>
                    <a:pt x="1261" y="2759"/>
                  </a:lnTo>
                  <a:lnTo>
                    <a:pt x="1262" y="2757"/>
                  </a:lnTo>
                  <a:lnTo>
                    <a:pt x="1304" y="2625"/>
                  </a:lnTo>
                  <a:lnTo>
                    <a:pt x="1304" y="2623"/>
                  </a:lnTo>
                  <a:lnTo>
                    <a:pt x="1315" y="2598"/>
                  </a:lnTo>
                  <a:lnTo>
                    <a:pt x="1356" y="2684"/>
                  </a:lnTo>
                  <a:lnTo>
                    <a:pt x="1356" y="2684"/>
                  </a:lnTo>
                  <a:lnTo>
                    <a:pt x="1407" y="2787"/>
                  </a:lnTo>
                  <a:lnTo>
                    <a:pt x="1356" y="2902"/>
                  </a:lnTo>
                  <a:lnTo>
                    <a:pt x="1356" y="2904"/>
                  </a:lnTo>
                  <a:lnTo>
                    <a:pt x="1304" y="3052"/>
                  </a:lnTo>
                  <a:lnTo>
                    <a:pt x="1304" y="3054"/>
                  </a:lnTo>
                  <a:lnTo>
                    <a:pt x="1261" y="3200"/>
                  </a:lnTo>
                  <a:lnTo>
                    <a:pt x="1261" y="3202"/>
                  </a:lnTo>
                  <a:lnTo>
                    <a:pt x="1242" y="3291"/>
                  </a:lnTo>
                  <a:lnTo>
                    <a:pt x="1227" y="3350"/>
                  </a:lnTo>
                  <a:lnTo>
                    <a:pt x="1227" y="3352"/>
                  </a:lnTo>
                  <a:lnTo>
                    <a:pt x="1208" y="3470"/>
                  </a:lnTo>
                  <a:lnTo>
                    <a:pt x="1202" y="3502"/>
                  </a:lnTo>
                  <a:lnTo>
                    <a:pt x="1202" y="3504"/>
                  </a:lnTo>
                  <a:lnTo>
                    <a:pt x="1200" y="3534"/>
                  </a:lnTo>
                  <a:lnTo>
                    <a:pt x="1195" y="3584"/>
                  </a:lnTo>
                  <a:lnTo>
                    <a:pt x="1187" y="3645"/>
                  </a:lnTo>
                  <a:lnTo>
                    <a:pt x="1187" y="3647"/>
                  </a:lnTo>
                  <a:lnTo>
                    <a:pt x="1185" y="3735"/>
                  </a:lnTo>
                  <a:lnTo>
                    <a:pt x="1182" y="3789"/>
                  </a:lnTo>
                  <a:lnTo>
                    <a:pt x="1182" y="3791"/>
                  </a:lnTo>
                  <a:lnTo>
                    <a:pt x="1180" y="3874"/>
                  </a:lnTo>
                  <a:lnTo>
                    <a:pt x="1177" y="3926"/>
                  </a:lnTo>
                  <a:lnTo>
                    <a:pt x="1177" y="3928"/>
                  </a:lnTo>
                  <a:lnTo>
                    <a:pt x="1176" y="3940"/>
                  </a:lnTo>
                  <a:lnTo>
                    <a:pt x="1168" y="4002"/>
                  </a:lnTo>
                  <a:lnTo>
                    <a:pt x="1162" y="4039"/>
                  </a:lnTo>
                  <a:lnTo>
                    <a:pt x="1162" y="4041"/>
                  </a:lnTo>
                  <a:lnTo>
                    <a:pt x="1158" y="4059"/>
                  </a:lnTo>
                  <a:lnTo>
                    <a:pt x="1145" y="4111"/>
                  </a:lnTo>
                  <a:lnTo>
                    <a:pt x="1137" y="4136"/>
                  </a:lnTo>
                  <a:lnTo>
                    <a:pt x="1137" y="4138"/>
                  </a:lnTo>
                  <a:lnTo>
                    <a:pt x="1135" y="4146"/>
                  </a:lnTo>
                  <a:lnTo>
                    <a:pt x="1123" y="4176"/>
                  </a:lnTo>
                  <a:lnTo>
                    <a:pt x="1111" y="4204"/>
                  </a:lnTo>
                  <a:lnTo>
                    <a:pt x="1103" y="4217"/>
                  </a:lnTo>
                  <a:lnTo>
                    <a:pt x="1103" y="4219"/>
                  </a:lnTo>
                  <a:lnTo>
                    <a:pt x="1097" y="4230"/>
                  </a:lnTo>
                  <a:lnTo>
                    <a:pt x="1082" y="4251"/>
                  </a:lnTo>
                  <a:lnTo>
                    <a:pt x="1067" y="4270"/>
                  </a:lnTo>
                  <a:lnTo>
                    <a:pt x="1060" y="4277"/>
                  </a:lnTo>
                  <a:lnTo>
                    <a:pt x="1060" y="4277"/>
                  </a:lnTo>
                  <a:lnTo>
                    <a:pt x="1051" y="4287"/>
                  </a:lnTo>
                  <a:lnTo>
                    <a:pt x="1034" y="4300"/>
                  </a:lnTo>
                  <a:lnTo>
                    <a:pt x="1020" y="4308"/>
                  </a:lnTo>
                  <a:lnTo>
                    <a:pt x="1008" y="4315"/>
                  </a:lnTo>
                  <a:lnTo>
                    <a:pt x="1008" y="4315"/>
                  </a:lnTo>
                  <a:lnTo>
                    <a:pt x="1007" y="4315"/>
                  </a:lnTo>
                  <a:lnTo>
                    <a:pt x="993" y="4315"/>
                  </a:lnTo>
                  <a:lnTo>
                    <a:pt x="980" y="4315"/>
                  </a:lnTo>
                  <a:lnTo>
                    <a:pt x="968" y="4309"/>
                  </a:lnTo>
                  <a:lnTo>
                    <a:pt x="956" y="4302"/>
                  </a:lnTo>
                  <a:lnTo>
                    <a:pt x="952" y="4298"/>
                  </a:lnTo>
                  <a:lnTo>
                    <a:pt x="946" y="4294"/>
                  </a:lnTo>
                  <a:lnTo>
                    <a:pt x="942" y="4288"/>
                  </a:lnTo>
                  <a:lnTo>
                    <a:pt x="937" y="4282"/>
                  </a:lnTo>
                  <a:lnTo>
                    <a:pt x="932" y="4275"/>
                  </a:lnTo>
                  <a:lnTo>
                    <a:pt x="929" y="4268"/>
                  </a:lnTo>
                  <a:lnTo>
                    <a:pt x="924" y="4260"/>
                  </a:lnTo>
                  <a:lnTo>
                    <a:pt x="920" y="4251"/>
                  </a:lnTo>
                  <a:lnTo>
                    <a:pt x="918" y="4242"/>
                  </a:lnTo>
                  <a:lnTo>
                    <a:pt x="914" y="4233"/>
                  </a:lnTo>
                  <a:lnTo>
                    <a:pt x="912" y="4223"/>
                  </a:lnTo>
                  <a:lnTo>
                    <a:pt x="909" y="4212"/>
                  </a:lnTo>
                  <a:lnTo>
                    <a:pt x="907" y="4200"/>
                  </a:lnTo>
                  <a:lnTo>
                    <a:pt x="906" y="4188"/>
                  </a:lnTo>
                  <a:lnTo>
                    <a:pt x="904" y="4175"/>
                  </a:lnTo>
                  <a:lnTo>
                    <a:pt x="902" y="4161"/>
                  </a:lnTo>
                  <a:lnTo>
                    <a:pt x="901" y="4132"/>
                  </a:lnTo>
                  <a:lnTo>
                    <a:pt x="900" y="4101"/>
                  </a:lnTo>
                  <a:lnTo>
                    <a:pt x="900" y="4082"/>
                  </a:lnTo>
                  <a:lnTo>
                    <a:pt x="901" y="4060"/>
                  </a:lnTo>
                  <a:lnTo>
                    <a:pt x="903" y="4036"/>
                  </a:lnTo>
                  <a:lnTo>
                    <a:pt x="906" y="4008"/>
                  </a:lnTo>
                  <a:lnTo>
                    <a:pt x="912" y="3948"/>
                  </a:lnTo>
                  <a:lnTo>
                    <a:pt x="921" y="3879"/>
                  </a:lnTo>
                  <a:lnTo>
                    <a:pt x="994" y="3442"/>
                  </a:lnTo>
                  <a:lnTo>
                    <a:pt x="965" y="3552"/>
                  </a:lnTo>
                  <a:lnTo>
                    <a:pt x="930" y="3660"/>
                  </a:lnTo>
                  <a:lnTo>
                    <a:pt x="889" y="3769"/>
                  </a:lnTo>
                  <a:lnTo>
                    <a:pt x="877" y="3793"/>
                  </a:lnTo>
                  <a:lnTo>
                    <a:pt x="877" y="3795"/>
                  </a:lnTo>
                  <a:lnTo>
                    <a:pt x="841" y="3871"/>
                  </a:lnTo>
                  <a:lnTo>
                    <a:pt x="788" y="3970"/>
                  </a:lnTo>
                  <a:lnTo>
                    <a:pt x="729" y="4068"/>
                  </a:lnTo>
                  <a:lnTo>
                    <a:pt x="714" y="4087"/>
                  </a:lnTo>
                  <a:lnTo>
                    <a:pt x="714" y="4089"/>
                  </a:lnTo>
                  <a:lnTo>
                    <a:pt x="663" y="4159"/>
                  </a:lnTo>
                  <a:lnTo>
                    <a:pt x="592" y="4245"/>
                  </a:lnTo>
                  <a:lnTo>
                    <a:pt x="560" y="4290"/>
                  </a:lnTo>
                  <a:lnTo>
                    <a:pt x="526" y="4330"/>
                  </a:lnTo>
                  <a:lnTo>
                    <a:pt x="519" y="4335"/>
                  </a:lnTo>
                  <a:lnTo>
                    <a:pt x="519" y="4337"/>
                  </a:lnTo>
                  <a:lnTo>
                    <a:pt x="493" y="4362"/>
                  </a:lnTo>
                  <a:lnTo>
                    <a:pt x="460" y="4386"/>
                  </a:lnTo>
                  <a:lnTo>
                    <a:pt x="425" y="4407"/>
                  </a:lnTo>
                  <a:lnTo>
                    <a:pt x="391" y="4421"/>
                  </a:lnTo>
                  <a:lnTo>
                    <a:pt x="356" y="4429"/>
                  </a:lnTo>
                  <a:lnTo>
                    <a:pt x="320" y="4431"/>
                  </a:lnTo>
                  <a:lnTo>
                    <a:pt x="286" y="4428"/>
                  </a:lnTo>
                  <a:lnTo>
                    <a:pt x="252" y="4417"/>
                  </a:lnTo>
                  <a:lnTo>
                    <a:pt x="237" y="4410"/>
                  </a:lnTo>
                  <a:lnTo>
                    <a:pt x="222" y="4402"/>
                  </a:lnTo>
                  <a:lnTo>
                    <a:pt x="208" y="4393"/>
                  </a:lnTo>
                  <a:lnTo>
                    <a:pt x="194" y="4382"/>
                  </a:lnTo>
                  <a:lnTo>
                    <a:pt x="179" y="4370"/>
                  </a:lnTo>
                  <a:lnTo>
                    <a:pt x="167" y="4355"/>
                  </a:lnTo>
                  <a:lnTo>
                    <a:pt x="154" y="4338"/>
                  </a:lnTo>
                  <a:lnTo>
                    <a:pt x="142" y="4321"/>
                  </a:lnTo>
                  <a:lnTo>
                    <a:pt x="131" y="4304"/>
                  </a:lnTo>
                  <a:lnTo>
                    <a:pt x="120" y="4283"/>
                  </a:lnTo>
                  <a:lnTo>
                    <a:pt x="110" y="4261"/>
                  </a:lnTo>
                  <a:lnTo>
                    <a:pt x="100" y="4238"/>
                  </a:lnTo>
                  <a:lnTo>
                    <a:pt x="76" y="4175"/>
                  </a:lnTo>
                  <a:lnTo>
                    <a:pt x="56" y="4109"/>
                  </a:lnTo>
                  <a:lnTo>
                    <a:pt x="44" y="4063"/>
                  </a:lnTo>
                  <a:lnTo>
                    <a:pt x="44" y="4061"/>
                  </a:lnTo>
                  <a:lnTo>
                    <a:pt x="39" y="4037"/>
                  </a:lnTo>
                  <a:lnTo>
                    <a:pt x="25" y="3959"/>
                  </a:lnTo>
                  <a:lnTo>
                    <a:pt x="14" y="3878"/>
                  </a:lnTo>
                  <a:lnTo>
                    <a:pt x="6" y="3793"/>
                  </a:lnTo>
                  <a:lnTo>
                    <a:pt x="2" y="3704"/>
                  </a:lnTo>
                  <a:lnTo>
                    <a:pt x="0" y="3611"/>
                  </a:lnTo>
                  <a:lnTo>
                    <a:pt x="2" y="3500"/>
                  </a:lnTo>
                  <a:lnTo>
                    <a:pt x="8" y="3387"/>
                  </a:lnTo>
                  <a:lnTo>
                    <a:pt x="17" y="3273"/>
                  </a:lnTo>
                  <a:lnTo>
                    <a:pt x="31" y="3155"/>
                  </a:lnTo>
                  <a:lnTo>
                    <a:pt x="44" y="3057"/>
                  </a:lnTo>
                  <a:lnTo>
                    <a:pt x="44" y="3053"/>
                  </a:lnTo>
                  <a:lnTo>
                    <a:pt x="48" y="3034"/>
                  </a:lnTo>
                  <a:lnTo>
                    <a:pt x="70" y="2911"/>
                  </a:lnTo>
                  <a:lnTo>
                    <a:pt x="96" y="2785"/>
                  </a:lnTo>
                  <a:lnTo>
                    <a:pt x="125" y="2655"/>
                  </a:lnTo>
                  <a:lnTo>
                    <a:pt x="157" y="2525"/>
                  </a:lnTo>
                  <a:lnTo>
                    <a:pt x="193" y="2399"/>
                  </a:lnTo>
                  <a:lnTo>
                    <a:pt x="230" y="2276"/>
                  </a:lnTo>
                  <a:lnTo>
                    <a:pt x="271" y="2155"/>
                  </a:lnTo>
                  <a:lnTo>
                    <a:pt x="314" y="2037"/>
                  </a:lnTo>
                  <a:lnTo>
                    <a:pt x="360" y="1922"/>
                  </a:lnTo>
                  <a:lnTo>
                    <a:pt x="408" y="1812"/>
                  </a:lnTo>
                  <a:lnTo>
                    <a:pt x="459" y="1703"/>
                  </a:lnTo>
                  <a:lnTo>
                    <a:pt x="511" y="1601"/>
                  </a:lnTo>
                  <a:lnTo>
                    <a:pt x="519" y="1586"/>
                  </a:lnTo>
                  <a:lnTo>
                    <a:pt x="519" y="1584"/>
                  </a:lnTo>
                  <a:lnTo>
                    <a:pt x="566" y="1499"/>
                  </a:lnTo>
                  <a:lnTo>
                    <a:pt x="619" y="1403"/>
                  </a:lnTo>
                  <a:lnTo>
                    <a:pt x="674" y="1315"/>
                  </a:lnTo>
                  <a:lnTo>
                    <a:pt x="714" y="1254"/>
                  </a:lnTo>
                  <a:lnTo>
                    <a:pt x="714" y="1252"/>
                  </a:lnTo>
                  <a:lnTo>
                    <a:pt x="729" y="1231"/>
                  </a:lnTo>
                  <a:lnTo>
                    <a:pt x="783" y="1151"/>
                  </a:lnTo>
                  <a:lnTo>
                    <a:pt x="839" y="1077"/>
                  </a:lnTo>
                  <a:lnTo>
                    <a:pt x="877" y="1028"/>
                  </a:lnTo>
                  <a:lnTo>
                    <a:pt x="877" y="1026"/>
                  </a:lnTo>
                  <a:lnTo>
                    <a:pt x="894" y="1006"/>
                  </a:lnTo>
                  <a:lnTo>
                    <a:pt x="937" y="948"/>
                  </a:lnTo>
                  <a:lnTo>
                    <a:pt x="982" y="897"/>
                  </a:lnTo>
                  <a:lnTo>
                    <a:pt x="1008" y="870"/>
                  </a:lnTo>
                  <a:lnTo>
                    <a:pt x="1008" y="868"/>
                  </a:lnTo>
                  <a:lnTo>
                    <a:pt x="1028" y="845"/>
                  </a:lnTo>
                  <a:lnTo>
                    <a:pt x="1060" y="805"/>
                  </a:lnTo>
                  <a:lnTo>
                    <a:pt x="1060" y="803"/>
                  </a:lnTo>
                  <a:lnTo>
                    <a:pt x="1072" y="787"/>
                  </a:lnTo>
                  <a:lnTo>
                    <a:pt x="1103" y="741"/>
                  </a:lnTo>
                  <a:lnTo>
                    <a:pt x="1103" y="739"/>
                  </a:lnTo>
                  <a:lnTo>
                    <a:pt x="1112" y="726"/>
                  </a:lnTo>
                  <a:lnTo>
                    <a:pt x="1137" y="681"/>
                  </a:lnTo>
                  <a:lnTo>
                    <a:pt x="1137" y="679"/>
                  </a:lnTo>
                  <a:lnTo>
                    <a:pt x="1145" y="663"/>
                  </a:lnTo>
                  <a:lnTo>
                    <a:pt x="1162" y="618"/>
                  </a:lnTo>
                  <a:lnTo>
                    <a:pt x="1162" y="616"/>
                  </a:lnTo>
                  <a:lnTo>
                    <a:pt x="1168" y="593"/>
                  </a:lnTo>
                  <a:lnTo>
                    <a:pt x="1177" y="553"/>
                  </a:lnTo>
                  <a:lnTo>
                    <a:pt x="1177" y="553"/>
                  </a:lnTo>
                  <a:lnTo>
                    <a:pt x="1180" y="523"/>
                  </a:lnTo>
                  <a:lnTo>
                    <a:pt x="1182" y="491"/>
                  </a:lnTo>
                  <a:lnTo>
                    <a:pt x="1182" y="485"/>
                  </a:lnTo>
                  <a:lnTo>
                    <a:pt x="1182" y="485"/>
                  </a:lnTo>
                  <a:lnTo>
                    <a:pt x="1184" y="464"/>
                  </a:lnTo>
                  <a:lnTo>
                    <a:pt x="1186" y="439"/>
                  </a:lnTo>
                  <a:lnTo>
                    <a:pt x="1187" y="428"/>
                  </a:lnTo>
                  <a:lnTo>
                    <a:pt x="1187" y="428"/>
                  </a:lnTo>
                  <a:lnTo>
                    <a:pt x="1191" y="418"/>
                  </a:lnTo>
                  <a:close/>
                  <a:moveTo>
                    <a:pt x="1153" y="1241"/>
                  </a:moveTo>
                  <a:lnTo>
                    <a:pt x="1137" y="1266"/>
                  </a:lnTo>
                  <a:lnTo>
                    <a:pt x="1137" y="1266"/>
                  </a:lnTo>
                  <a:lnTo>
                    <a:pt x="1136" y="1268"/>
                  </a:lnTo>
                  <a:lnTo>
                    <a:pt x="1114" y="1292"/>
                  </a:lnTo>
                  <a:lnTo>
                    <a:pt x="1103" y="1304"/>
                  </a:lnTo>
                  <a:lnTo>
                    <a:pt x="1103" y="1304"/>
                  </a:lnTo>
                  <a:lnTo>
                    <a:pt x="1089" y="1317"/>
                  </a:lnTo>
                  <a:lnTo>
                    <a:pt x="1062" y="1342"/>
                  </a:lnTo>
                  <a:lnTo>
                    <a:pt x="1060" y="1343"/>
                  </a:lnTo>
                  <a:lnTo>
                    <a:pt x="1060" y="1343"/>
                  </a:lnTo>
                  <a:lnTo>
                    <a:pt x="1026" y="1370"/>
                  </a:lnTo>
                  <a:lnTo>
                    <a:pt x="1008" y="1383"/>
                  </a:lnTo>
                  <a:lnTo>
                    <a:pt x="1008" y="1385"/>
                  </a:lnTo>
                  <a:lnTo>
                    <a:pt x="989" y="1400"/>
                  </a:lnTo>
                  <a:lnTo>
                    <a:pt x="951" y="1432"/>
                  </a:lnTo>
                  <a:lnTo>
                    <a:pt x="914" y="1470"/>
                  </a:lnTo>
                  <a:lnTo>
                    <a:pt x="879" y="1511"/>
                  </a:lnTo>
                  <a:lnTo>
                    <a:pt x="877" y="1512"/>
                  </a:lnTo>
                  <a:lnTo>
                    <a:pt x="877" y="1512"/>
                  </a:lnTo>
                  <a:lnTo>
                    <a:pt x="842" y="1551"/>
                  </a:lnTo>
                  <a:lnTo>
                    <a:pt x="808" y="1597"/>
                  </a:lnTo>
                  <a:lnTo>
                    <a:pt x="775" y="1648"/>
                  </a:lnTo>
                  <a:lnTo>
                    <a:pt x="758" y="1675"/>
                  </a:lnTo>
                  <a:lnTo>
                    <a:pt x="742" y="1706"/>
                  </a:lnTo>
                  <a:lnTo>
                    <a:pt x="714" y="1759"/>
                  </a:lnTo>
                  <a:lnTo>
                    <a:pt x="714" y="1761"/>
                  </a:lnTo>
                  <a:lnTo>
                    <a:pt x="710" y="1772"/>
                  </a:lnTo>
                  <a:lnTo>
                    <a:pt x="677" y="1845"/>
                  </a:lnTo>
                  <a:lnTo>
                    <a:pt x="646" y="1928"/>
                  </a:lnTo>
                  <a:lnTo>
                    <a:pt x="615" y="2020"/>
                  </a:lnTo>
                  <a:lnTo>
                    <a:pt x="584" y="2122"/>
                  </a:lnTo>
                  <a:lnTo>
                    <a:pt x="554" y="2232"/>
                  </a:lnTo>
                  <a:lnTo>
                    <a:pt x="523" y="2353"/>
                  </a:lnTo>
                  <a:lnTo>
                    <a:pt x="519" y="2368"/>
                  </a:lnTo>
                  <a:lnTo>
                    <a:pt x="519" y="2371"/>
                  </a:lnTo>
                  <a:lnTo>
                    <a:pt x="496" y="2475"/>
                  </a:lnTo>
                  <a:lnTo>
                    <a:pt x="472" y="2597"/>
                  </a:lnTo>
                  <a:lnTo>
                    <a:pt x="451" y="2719"/>
                  </a:lnTo>
                  <a:lnTo>
                    <a:pt x="434" y="2840"/>
                  </a:lnTo>
                  <a:lnTo>
                    <a:pt x="421" y="2962"/>
                  </a:lnTo>
                  <a:lnTo>
                    <a:pt x="411" y="3084"/>
                  </a:lnTo>
                  <a:lnTo>
                    <a:pt x="406" y="3206"/>
                  </a:lnTo>
                  <a:lnTo>
                    <a:pt x="404" y="3328"/>
                  </a:lnTo>
                  <a:lnTo>
                    <a:pt x="405" y="3385"/>
                  </a:lnTo>
                  <a:lnTo>
                    <a:pt x="406" y="3439"/>
                  </a:lnTo>
                  <a:lnTo>
                    <a:pt x="409" y="3488"/>
                  </a:lnTo>
                  <a:lnTo>
                    <a:pt x="414" y="3532"/>
                  </a:lnTo>
                  <a:lnTo>
                    <a:pt x="419" y="3570"/>
                  </a:lnTo>
                  <a:lnTo>
                    <a:pt x="422" y="3589"/>
                  </a:lnTo>
                  <a:lnTo>
                    <a:pt x="426" y="3606"/>
                  </a:lnTo>
                  <a:lnTo>
                    <a:pt x="429" y="3620"/>
                  </a:lnTo>
                  <a:lnTo>
                    <a:pt x="433" y="3635"/>
                  </a:lnTo>
                  <a:lnTo>
                    <a:pt x="437" y="3648"/>
                  </a:lnTo>
                  <a:lnTo>
                    <a:pt x="443" y="3661"/>
                  </a:lnTo>
                  <a:lnTo>
                    <a:pt x="448" y="3671"/>
                  </a:lnTo>
                  <a:lnTo>
                    <a:pt x="453" y="3682"/>
                  </a:lnTo>
                  <a:lnTo>
                    <a:pt x="458" y="3692"/>
                  </a:lnTo>
                  <a:lnTo>
                    <a:pt x="463" y="3701"/>
                  </a:lnTo>
                  <a:lnTo>
                    <a:pt x="469" y="3709"/>
                  </a:lnTo>
                  <a:lnTo>
                    <a:pt x="475" y="3716"/>
                  </a:lnTo>
                  <a:lnTo>
                    <a:pt x="480" y="3724"/>
                  </a:lnTo>
                  <a:lnTo>
                    <a:pt x="487" y="3729"/>
                  </a:lnTo>
                  <a:lnTo>
                    <a:pt x="493" y="3735"/>
                  </a:lnTo>
                  <a:lnTo>
                    <a:pt x="499" y="3739"/>
                  </a:lnTo>
                  <a:lnTo>
                    <a:pt x="506" y="3744"/>
                  </a:lnTo>
                  <a:lnTo>
                    <a:pt x="513" y="3746"/>
                  </a:lnTo>
                  <a:lnTo>
                    <a:pt x="519" y="3746"/>
                  </a:lnTo>
                  <a:lnTo>
                    <a:pt x="519" y="3746"/>
                  </a:lnTo>
                  <a:lnTo>
                    <a:pt x="527" y="3749"/>
                  </a:lnTo>
                  <a:lnTo>
                    <a:pt x="543" y="3750"/>
                  </a:lnTo>
                  <a:lnTo>
                    <a:pt x="560" y="3746"/>
                  </a:lnTo>
                  <a:lnTo>
                    <a:pt x="576" y="3742"/>
                  </a:lnTo>
                  <a:lnTo>
                    <a:pt x="593" y="3734"/>
                  </a:lnTo>
                  <a:lnTo>
                    <a:pt x="611" y="3725"/>
                  </a:lnTo>
                  <a:lnTo>
                    <a:pt x="628" y="3713"/>
                  </a:lnTo>
                  <a:lnTo>
                    <a:pt x="646" y="3701"/>
                  </a:lnTo>
                  <a:lnTo>
                    <a:pt x="682" y="3667"/>
                  </a:lnTo>
                  <a:lnTo>
                    <a:pt x="714" y="3628"/>
                  </a:lnTo>
                  <a:lnTo>
                    <a:pt x="714" y="3626"/>
                  </a:lnTo>
                  <a:lnTo>
                    <a:pt x="718" y="3623"/>
                  </a:lnTo>
                  <a:lnTo>
                    <a:pt x="756" y="3568"/>
                  </a:lnTo>
                  <a:lnTo>
                    <a:pt x="793" y="3502"/>
                  </a:lnTo>
                  <a:lnTo>
                    <a:pt x="832" y="3428"/>
                  </a:lnTo>
                  <a:lnTo>
                    <a:pt x="869" y="3345"/>
                  </a:lnTo>
                  <a:lnTo>
                    <a:pt x="877" y="3322"/>
                  </a:lnTo>
                  <a:lnTo>
                    <a:pt x="877" y="3320"/>
                  </a:lnTo>
                  <a:lnTo>
                    <a:pt x="903" y="3252"/>
                  </a:lnTo>
                  <a:lnTo>
                    <a:pt x="933" y="3148"/>
                  </a:lnTo>
                  <a:lnTo>
                    <a:pt x="962" y="3040"/>
                  </a:lnTo>
                  <a:lnTo>
                    <a:pt x="987" y="2924"/>
                  </a:lnTo>
                  <a:lnTo>
                    <a:pt x="1008" y="2809"/>
                  </a:lnTo>
                  <a:lnTo>
                    <a:pt x="1008" y="2807"/>
                  </a:lnTo>
                  <a:lnTo>
                    <a:pt x="1010" y="2799"/>
                  </a:lnTo>
                  <a:lnTo>
                    <a:pt x="1029" y="2665"/>
                  </a:lnTo>
                  <a:lnTo>
                    <a:pt x="1046" y="2525"/>
                  </a:lnTo>
                  <a:lnTo>
                    <a:pt x="1060" y="2395"/>
                  </a:lnTo>
                  <a:lnTo>
                    <a:pt x="1060" y="2392"/>
                  </a:lnTo>
                  <a:lnTo>
                    <a:pt x="1103" y="1956"/>
                  </a:lnTo>
                  <a:lnTo>
                    <a:pt x="1103" y="1952"/>
                  </a:lnTo>
                  <a:lnTo>
                    <a:pt x="1137" y="1520"/>
                  </a:lnTo>
                  <a:lnTo>
                    <a:pt x="1137" y="151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03960" y="2228760"/>
              <a:ext cx="698400" cy="1327320"/>
            </a:xfrm>
            <a:custGeom>
              <a:avLst/>
              <a:gdLst/>
              <a:ahLst/>
              <a:rect l="l" t="t" r="r" b="b"/>
              <a:pathLst>
                <a:path w="1940" h="3686">
                  <a:moveTo>
                    <a:pt x="1463" y="203"/>
                  </a:moveTo>
                  <a:lnTo>
                    <a:pt x="1833" y="267"/>
                  </a:lnTo>
                  <a:lnTo>
                    <a:pt x="1631" y="1715"/>
                  </a:lnTo>
                  <a:lnTo>
                    <a:pt x="1501" y="2621"/>
                  </a:lnTo>
                  <a:lnTo>
                    <a:pt x="1468" y="2887"/>
                  </a:lnTo>
                  <a:lnTo>
                    <a:pt x="1460" y="2972"/>
                  </a:lnTo>
                  <a:lnTo>
                    <a:pt x="1458" y="3003"/>
                  </a:lnTo>
                  <a:lnTo>
                    <a:pt x="1457" y="3026"/>
                  </a:lnTo>
                  <a:lnTo>
                    <a:pt x="1457" y="3036"/>
                  </a:lnTo>
                  <a:lnTo>
                    <a:pt x="1457" y="3047"/>
                  </a:lnTo>
                  <a:lnTo>
                    <a:pt x="1458" y="3055"/>
                  </a:lnTo>
                  <a:lnTo>
                    <a:pt x="1459" y="3062"/>
                  </a:lnTo>
                  <a:lnTo>
                    <a:pt x="1459" y="3066"/>
                  </a:lnTo>
                  <a:lnTo>
                    <a:pt x="1460" y="3068"/>
                  </a:lnTo>
                  <a:lnTo>
                    <a:pt x="1460" y="3073"/>
                  </a:lnTo>
                  <a:lnTo>
                    <a:pt x="1461" y="3075"/>
                  </a:lnTo>
                  <a:lnTo>
                    <a:pt x="1461" y="3077"/>
                  </a:lnTo>
                  <a:lnTo>
                    <a:pt x="1462" y="3079"/>
                  </a:lnTo>
                  <a:lnTo>
                    <a:pt x="1463" y="3082"/>
                  </a:lnTo>
                  <a:lnTo>
                    <a:pt x="1464" y="3084"/>
                  </a:lnTo>
                  <a:lnTo>
                    <a:pt x="1466" y="3088"/>
                  </a:lnTo>
                  <a:lnTo>
                    <a:pt x="1468" y="3091"/>
                  </a:lnTo>
                  <a:lnTo>
                    <a:pt x="1469" y="3093"/>
                  </a:lnTo>
                  <a:lnTo>
                    <a:pt x="1470" y="3095"/>
                  </a:lnTo>
                  <a:lnTo>
                    <a:pt x="1471" y="3096"/>
                  </a:lnTo>
                  <a:lnTo>
                    <a:pt x="1472" y="3098"/>
                  </a:lnTo>
                  <a:lnTo>
                    <a:pt x="1473" y="3098"/>
                  </a:lnTo>
                  <a:lnTo>
                    <a:pt x="1474" y="3098"/>
                  </a:lnTo>
                  <a:lnTo>
                    <a:pt x="1474" y="3100"/>
                  </a:lnTo>
                  <a:lnTo>
                    <a:pt x="1475" y="3100"/>
                  </a:lnTo>
                  <a:lnTo>
                    <a:pt x="1476" y="3101"/>
                  </a:lnTo>
                  <a:lnTo>
                    <a:pt x="1477" y="3101"/>
                  </a:lnTo>
                  <a:lnTo>
                    <a:pt x="1478" y="3101"/>
                  </a:lnTo>
                  <a:lnTo>
                    <a:pt x="1485" y="3102"/>
                  </a:lnTo>
                  <a:lnTo>
                    <a:pt x="1492" y="3101"/>
                  </a:lnTo>
                  <a:lnTo>
                    <a:pt x="1500" y="3098"/>
                  </a:lnTo>
                  <a:lnTo>
                    <a:pt x="1507" y="3096"/>
                  </a:lnTo>
                  <a:lnTo>
                    <a:pt x="1515" y="3091"/>
                  </a:lnTo>
                  <a:lnTo>
                    <a:pt x="1524" y="3086"/>
                  </a:lnTo>
                  <a:lnTo>
                    <a:pt x="1532" y="3079"/>
                  </a:lnTo>
                  <a:lnTo>
                    <a:pt x="1541" y="3070"/>
                  </a:lnTo>
                  <a:lnTo>
                    <a:pt x="1561" y="3046"/>
                  </a:lnTo>
                  <a:lnTo>
                    <a:pt x="1586" y="3015"/>
                  </a:lnTo>
                  <a:lnTo>
                    <a:pt x="1648" y="2925"/>
                  </a:lnTo>
                  <a:lnTo>
                    <a:pt x="1830" y="2647"/>
                  </a:lnTo>
                  <a:lnTo>
                    <a:pt x="1939" y="2896"/>
                  </a:lnTo>
                  <a:lnTo>
                    <a:pt x="1831" y="3089"/>
                  </a:lnTo>
                  <a:lnTo>
                    <a:pt x="1729" y="3254"/>
                  </a:lnTo>
                  <a:lnTo>
                    <a:pt x="1634" y="3391"/>
                  </a:lnTo>
                  <a:lnTo>
                    <a:pt x="1548" y="3504"/>
                  </a:lnTo>
                  <a:lnTo>
                    <a:pt x="1467" y="3589"/>
                  </a:lnTo>
                  <a:lnTo>
                    <a:pt x="1430" y="3620"/>
                  </a:lnTo>
                  <a:lnTo>
                    <a:pt x="1395" y="3646"/>
                  </a:lnTo>
                  <a:lnTo>
                    <a:pt x="1367" y="3658"/>
                  </a:lnTo>
                  <a:lnTo>
                    <a:pt x="1367" y="3660"/>
                  </a:lnTo>
                  <a:lnTo>
                    <a:pt x="1361" y="3665"/>
                  </a:lnTo>
                  <a:lnTo>
                    <a:pt x="1329" y="3678"/>
                  </a:lnTo>
                  <a:lnTo>
                    <a:pt x="1299" y="3685"/>
                  </a:lnTo>
                  <a:lnTo>
                    <a:pt x="1271" y="3685"/>
                  </a:lnTo>
                  <a:lnTo>
                    <a:pt x="1250" y="3681"/>
                  </a:lnTo>
                  <a:lnTo>
                    <a:pt x="1230" y="3672"/>
                  </a:lnTo>
                  <a:lnTo>
                    <a:pt x="1211" y="3661"/>
                  </a:lnTo>
                  <a:lnTo>
                    <a:pt x="1193" y="3646"/>
                  </a:lnTo>
                  <a:lnTo>
                    <a:pt x="1175" y="3627"/>
                  </a:lnTo>
                  <a:lnTo>
                    <a:pt x="1158" y="3603"/>
                  </a:lnTo>
                  <a:lnTo>
                    <a:pt x="1142" y="3578"/>
                  </a:lnTo>
                  <a:lnTo>
                    <a:pt x="1126" y="3549"/>
                  </a:lnTo>
                  <a:lnTo>
                    <a:pt x="1119" y="3533"/>
                  </a:lnTo>
                  <a:lnTo>
                    <a:pt x="1112" y="3516"/>
                  </a:lnTo>
                  <a:lnTo>
                    <a:pt x="1106" y="3498"/>
                  </a:lnTo>
                  <a:lnTo>
                    <a:pt x="1100" y="3480"/>
                  </a:lnTo>
                  <a:lnTo>
                    <a:pt x="1095" y="3461"/>
                  </a:lnTo>
                  <a:lnTo>
                    <a:pt x="1090" y="3441"/>
                  </a:lnTo>
                  <a:lnTo>
                    <a:pt x="1086" y="3422"/>
                  </a:lnTo>
                  <a:lnTo>
                    <a:pt x="1082" y="3400"/>
                  </a:lnTo>
                  <a:lnTo>
                    <a:pt x="1075" y="3355"/>
                  </a:lnTo>
                  <a:lnTo>
                    <a:pt x="1071" y="3311"/>
                  </a:lnTo>
                  <a:lnTo>
                    <a:pt x="1068" y="3260"/>
                  </a:lnTo>
                  <a:lnTo>
                    <a:pt x="1067" y="3209"/>
                  </a:lnTo>
                  <a:lnTo>
                    <a:pt x="1068" y="3155"/>
                  </a:lnTo>
                  <a:lnTo>
                    <a:pt x="1070" y="3098"/>
                  </a:lnTo>
                  <a:lnTo>
                    <a:pt x="1074" y="3042"/>
                  </a:lnTo>
                  <a:lnTo>
                    <a:pt x="1079" y="2983"/>
                  </a:lnTo>
                  <a:lnTo>
                    <a:pt x="1086" y="2926"/>
                  </a:lnTo>
                  <a:lnTo>
                    <a:pt x="1094" y="2866"/>
                  </a:lnTo>
                  <a:lnTo>
                    <a:pt x="1103" y="2806"/>
                  </a:lnTo>
                  <a:lnTo>
                    <a:pt x="1114" y="2746"/>
                  </a:lnTo>
                  <a:lnTo>
                    <a:pt x="1080" y="2839"/>
                  </a:lnTo>
                  <a:lnTo>
                    <a:pt x="1041" y="2926"/>
                  </a:lnTo>
                  <a:lnTo>
                    <a:pt x="997" y="3011"/>
                  </a:lnTo>
                  <a:lnTo>
                    <a:pt x="948" y="3093"/>
                  </a:lnTo>
                  <a:lnTo>
                    <a:pt x="894" y="3172"/>
                  </a:lnTo>
                  <a:lnTo>
                    <a:pt x="836" y="3246"/>
                  </a:lnTo>
                  <a:lnTo>
                    <a:pt x="771" y="3320"/>
                  </a:lnTo>
                  <a:lnTo>
                    <a:pt x="702" y="3389"/>
                  </a:lnTo>
                  <a:lnTo>
                    <a:pt x="654" y="3433"/>
                  </a:lnTo>
                  <a:lnTo>
                    <a:pt x="608" y="3469"/>
                  </a:lnTo>
                  <a:lnTo>
                    <a:pt x="564" y="3499"/>
                  </a:lnTo>
                  <a:lnTo>
                    <a:pt x="520" y="3523"/>
                  </a:lnTo>
                  <a:lnTo>
                    <a:pt x="478" y="3541"/>
                  </a:lnTo>
                  <a:lnTo>
                    <a:pt x="438" y="3553"/>
                  </a:lnTo>
                  <a:lnTo>
                    <a:pt x="399" y="3556"/>
                  </a:lnTo>
                  <a:lnTo>
                    <a:pt x="362" y="3555"/>
                  </a:lnTo>
                  <a:lnTo>
                    <a:pt x="340" y="3550"/>
                  </a:lnTo>
                  <a:lnTo>
                    <a:pt x="319" y="3543"/>
                  </a:lnTo>
                  <a:lnTo>
                    <a:pt x="300" y="3531"/>
                  </a:lnTo>
                  <a:lnTo>
                    <a:pt x="281" y="3518"/>
                  </a:lnTo>
                  <a:lnTo>
                    <a:pt x="272" y="3508"/>
                  </a:lnTo>
                  <a:lnTo>
                    <a:pt x="264" y="3499"/>
                  </a:lnTo>
                  <a:lnTo>
                    <a:pt x="255" y="3487"/>
                  </a:lnTo>
                  <a:lnTo>
                    <a:pt x="246" y="3477"/>
                  </a:lnTo>
                  <a:lnTo>
                    <a:pt x="239" y="3464"/>
                  </a:lnTo>
                  <a:lnTo>
                    <a:pt x="231" y="3452"/>
                  </a:lnTo>
                  <a:lnTo>
                    <a:pt x="224" y="3439"/>
                  </a:lnTo>
                  <a:lnTo>
                    <a:pt x="217" y="3423"/>
                  </a:lnTo>
                  <a:lnTo>
                    <a:pt x="210" y="3408"/>
                  </a:lnTo>
                  <a:lnTo>
                    <a:pt x="204" y="3392"/>
                  </a:lnTo>
                  <a:lnTo>
                    <a:pt x="199" y="3375"/>
                  </a:lnTo>
                  <a:lnTo>
                    <a:pt x="193" y="3355"/>
                  </a:lnTo>
                  <a:lnTo>
                    <a:pt x="189" y="3338"/>
                  </a:lnTo>
                  <a:lnTo>
                    <a:pt x="184" y="3318"/>
                  </a:lnTo>
                  <a:lnTo>
                    <a:pt x="180" y="3296"/>
                  </a:lnTo>
                  <a:lnTo>
                    <a:pt x="177" y="3275"/>
                  </a:lnTo>
                  <a:lnTo>
                    <a:pt x="171" y="3228"/>
                  </a:lnTo>
                  <a:lnTo>
                    <a:pt x="166" y="3179"/>
                  </a:lnTo>
                  <a:lnTo>
                    <a:pt x="164" y="3128"/>
                  </a:lnTo>
                  <a:lnTo>
                    <a:pt x="163" y="3071"/>
                  </a:lnTo>
                  <a:lnTo>
                    <a:pt x="163" y="3029"/>
                  </a:lnTo>
                  <a:lnTo>
                    <a:pt x="164" y="2987"/>
                  </a:lnTo>
                  <a:lnTo>
                    <a:pt x="168" y="2902"/>
                  </a:lnTo>
                  <a:lnTo>
                    <a:pt x="174" y="2814"/>
                  </a:lnTo>
                  <a:lnTo>
                    <a:pt x="183" y="2725"/>
                  </a:lnTo>
                  <a:lnTo>
                    <a:pt x="203" y="2570"/>
                  </a:lnTo>
                  <a:lnTo>
                    <a:pt x="233" y="2353"/>
                  </a:lnTo>
                  <a:lnTo>
                    <a:pt x="325" y="1740"/>
                  </a:lnTo>
                  <a:lnTo>
                    <a:pt x="387" y="1325"/>
                  </a:lnTo>
                  <a:lnTo>
                    <a:pt x="431" y="1003"/>
                  </a:lnTo>
                  <a:lnTo>
                    <a:pt x="458" y="775"/>
                  </a:lnTo>
                  <a:lnTo>
                    <a:pt x="465" y="696"/>
                  </a:lnTo>
                  <a:lnTo>
                    <a:pt x="466" y="667"/>
                  </a:lnTo>
                  <a:lnTo>
                    <a:pt x="467" y="642"/>
                  </a:lnTo>
                  <a:lnTo>
                    <a:pt x="467" y="635"/>
                  </a:lnTo>
                  <a:lnTo>
                    <a:pt x="467" y="629"/>
                  </a:lnTo>
                  <a:lnTo>
                    <a:pt x="466" y="625"/>
                  </a:lnTo>
                  <a:lnTo>
                    <a:pt x="466" y="623"/>
                  </a:lnTo>
                  <a:lnTo>
                    <a:pt x="466" y="621"/>
                  </a:lnTo>
                  <a:lnTo>
                    <a:pt x="465" y="618"/>
                  </a:lnTo>
                  <a:lnTo>
                    <a:pt x="465" y="616"/>
                  </a:lnTo>
                  <a:lnTo>
                    <a:pt x="464" y="614"/>
                  </a:lnTo>
                  <a:lnTo>
                    <a:pt x="464" y="614"/>
                  </a:lnTo>
                  <a:lnTo>
                    <a:pt x="464" y="614"/>
                  </a:lnTo>
                  <a:lnTo>
                    <a:pt x="464" y="614"/>
                  </a:lnTo>
                  <a:lnTo>
                    <a:pt x="463" y="612"/>
                  </a:lnTo>
                  <a:lnTo>
                    <a:pt x="463" y="612"/>
                  </a:lnTo>
                  <a:lnTo>
                    <a:pt x="463" y="612"/>
                  </a:lnTo>
                  <a:lnTo>
                    <a:pt x="463" y="612"/>
                  </a:lnTo>
                  <a:lnTo>
                    <a:pt x="462" y="612"/>
                  </a:lnTo>
                  <a:lnTo>
                    <a:pt x="462" y="612"/>
                  </a:lnTo>
                  <a:lnTo>
                    <a:pt x="458" y="611"/>
                  </a:lnTo>
                  <a:lnTo>
                    <a:pt x="455" y="613"/>
                  </a:lnTo>
                  <a:lnTo>
                    <a:pt x="446" y="614"/>
                  </a:lnTo>
                  <a:lnTo>
                    <a:pt x="437" y="619"/>
                  </a:lnTo>
                  <a:lnTo>
                    <a:pt x="427" y="624"/>
                  </a:lnTo>
                  <a:lnTo>
                    <a:pt x="415" y="631"/>
                  </a:lnTo>
                  <a:lnTo>
                    <a:pt x="403" y="642"/>
                  </a:lnTo>
                  <a:lnTo>
                    <a:pt x="375" y="666"/>
                  </a:lnTo>
                  <a:lnTo>
                    <a:pt x="358" y="684"/>
                  </a:lnTo>
                  <a:lnTo>
                    <a:pt x="338" y="707"/>
                  </a:lnTo>
                  <a:lnTo>
                    <a:pt x="286" y="776"/>
                  </a:lnTo>
                  <a:lnTo>
                    <a:pt x="217" y="870"/>
                  </a:lnTo>
                  <a:lnTo>
                    <a:pt x="135" y="992"/>
                  </a:lnTo>
                  <a:lnTo>
                    <a:pt x="128" y="979"/>
                  </a:lnTo>
                  <a:lnTo>
                    <a:pt x="128" y="979"/>
                  </a:lnTo>
                  <a:lnTo>
                    <a:pt x="0" y="777"/>
                  </a:lnTo>
                  <a:lnTo>
                    <a:pt x="128" y="556"/>
                  </a:lnTo>
                  <a:lnTo>
                    <a:pt x="128" y="554"/>
                  </a:lnTo>
                  <a:lnTo>
                    <a:pt x="143" y="533"/>
                  </a:lnTo>
                  <a:lnTo>
                    <a:pt x="267" y="351"/>
                  </a:lnTo>
                  <a:lnTo>
                    <a:pt x="322" y="276"/>
                  </a:lnTo>
                  <a:lnTo>
                    <a:pt x="372" y="213"/>
                  </a:lnTo>
                  <a:lnTo>
                    <a:pt x="418" y="162"/>
                  </a:lnTo>
                  <a:lnTo>
                    <a:pt x="460" y="124"/>
                  </a:lnTo>
                  <a:lnTo>
                    <a:pt x="498" y="93"/>
                  </a:lnTo>
                  <a:lnTo>
                    <a:pt x="535" y="66"/>
                  </a:lnTo>
                  <a:lnTo>
                    <a:pt x="570" y="43"/>
                  </a:lnTo>
                  <a:lnTo>
                    <a:pt x="603" y="26"/>
                  </a:lnTo>
                  <a:lnTo>
                    <a:pt x="634" y="11"/>
                  </a:lnTo>
                  <a:lnTo>
                    <a:pt x="663" y="5"/>
                  </a:lnTo>
                  <a:lnTo>
                    <a:pt x="690" y="0"/>
                  </a:lnTo>
                  <a:lnTo>
                    <a:pt x="716" y="1"/>
                  </a:lnTo>
                  <a:lnTo>
                    <a:pt x="733" y="5"/>
                  </a:lnTo>
                  <a:lnTo>
                    <a:pt x="748" y="11"/>
                  </a:lnTo>
                  <a:lnTo>
                    <a:pt x="764" y="20"/>
                  </a:lnTo>
                  <a:lnTo>
                    <a:pt x="771" y="27"/>
                  </a:lnTo>
                  <a:lnTo>
                    <a:pt x="778" y="32"/>
                  </a:lnTo>
                  <a:lnTo>
                    <a:pt x="785" y="39"/>
                  </a:lnTo>
                  <a:lnTo>
                    <a:pt x="792" y="49"/>
                  </a:lnTo>
                  <a:lnTo>
                    <a:pt x="798" y="56"/>
                  </a:lnTo>
                  <a:lnTo>
                    <a:pt x="805" y="65"/>
                  </a:lnTo>
                  <a:lnTo>
                    <a:pt x="811" y="76"/>
                  </a:lnTo>
                  <a:lnTo>
                    <a:pt x="817" y="86"/>
                  </a:lnTo>
                  <a:lnTo>
                    <a:pt x="823" y="99"/>
                  </a:lnTo>
                  <a:lnTo>
                    <a:pt x="829" y="110"/>
                  </a:lnTo>
                  <a:lnTo>
                    <a:pt x="834" y="123"/>
                  </a:lnTo>
                  <a:lnTo>
                    <a:pt x="839" y="137"/>
                  </a:lnTo>
                  <a:lnTo>
                    <a:pt x="844" y="150"/>
                  </a:lnTo>
                  <a:lnTo>
                    <a:pt x="848" y="165"/>
                  </a:lnTo>
                  <a:lnTo>
                    <a:pt x="852" y="180"/>
                  </a:lnTo>
                  <a:lnTo>
                    <a:pt x="855" y="195"/>
                  </a:lnTo>
                  <a:lnTo>
                    <a:pt x="859" y="213"/>
                  </a:lnTo>
                  <a:lnTo>
                    <a:pt x="861" y="230"/>
                  </a:lnTo>
                  <a:lnTo>
                    <a:pt x="866" y="264"/>
                  </a:lnTo>
                  <a:lnTo>
                    <a:pt x="869" y="302"/>
                  </a:lnTo>
                  <a:lnTo>
                    <a:pt x="871" y="343"/>
                  </a:lnTo>
                  <a:lnTo>
                    <a:pt x="872" y="385"/>
                  </a:lnTo>
                  <a:lnTo>
                    <a:pt x="871" y="423"/>
                  </a:lnTo>
                  <a:lnTo>
                    <a:pt x="870" y="469"/>
                  </a:lnTo>
                  <a:lnTo>
                    <a:pt x="862" y="575"/>
                  </a:lnTo>
                  <a:lnTo>
                    <a:pt x="850" y="706"/>
                  </a:lnTo>
                  <a:lnTo>
                    <a:pt x="834" y="864"/>
                  </a:lnTo>
                  <a:lnTo>
                    <a:pt x="784" y="1246"/>
                  </a:lnTo>
                  <a:lnTo>
                    <a:pt x="716" y="1727"/>
                  </a:lnTo>
                  <a:lnTo>
                    <a:pt x="616" y="2455"/>
                  </a:lnTo>
                  <a:lnTo>
                    <a:pt x="590" y="2668"/>
                  </a:lnTo>
                  <a:lnTo>
                    <a:pt x="584" y="2737"/>
                  </a:lnTo>
                  <a:lnTo>
                    <a:pt x="583" y="2762"/>
                  </a:lnTo>
                  <a:lnTo>
                    <a:pt x="582" y="2780"/>
                  </a:lnTo>
                  <a:lnTo>
                    <a:pt x="582" y="2793"/>
                  </a:lnTo>
                  <a:lnTo>
                    <a:pt x="583" y="2806"/>
                  </a:lnTo>
                  <a:lnTo>
                    <a:pt x="584" y="2810"/>
                  </a:lnTo>
                  <a:lnTo>
                    <a:pt x="584" y="2816"/>
                  </a:lnTo>
                  <a:lnTo>
                    <a:pt x="585" y="2823"/>
                  </a:lnTo>
                  <a:lnTo>
                    <a:pt x="586" y="2827"/>
                  </a:lnTo>
                  <a:lnTo>
                    <a:pt x="588" y="2834"/>
                  </a:lnTo>
                  <a:lnTo>
                    <a:pt x="589" y="2838"/>
                  </a:lnTo>
                  <a:lnTo>
                    <a:pt x="592" y="2849"/>
                  </a:lnTo>
                  <a:lnTo>
                    <a:pt x="595" y="2860"/>
                  </a:lnTo>
                  <a:lnTo>
                    <a:pt x="599" y="2869"/>
                  </a:lnTo>
                  <a:lnTo>
                    <a:pt x="603" y="2878"/>
                  </a:lnTo>
                  <a:lnTo>
                    <a:pt x="607" y="2885"/>
                  </a:lnTo>
                  <a:lnTo>
                    <a:pt x="612" y="2892"/>
                  </a:lnTo>
                  <a:lnTo>
                    <a:pt x="616" y="2896"/>
                  </a:lnTo>
                  <a:lnTo>
                    <a:pt x="618" y="2899"/>
                  </a:lnTo>
                  <a:lnTo>
                    <a:pt x="621" y="2901"/>
                  </a:lnTo>
                  <a:lnTo>
                    <a:pt x="623" y="2904"/>
                  </a:lnTo>
                  <a:lnTo>
                    <a:pt x="625" y="2904"/>
                  </a:lnTo>
                  <a:lnTo>
                    <a:pt x="627" y="2904"/>
                  </a:lnTo>
                  <a:lnTo>
                    <a:pt x="630" y="2907"/>
                  </a:lnTo>
                  <a:lnTo>
                    <a:pt x="632" y="2907"/>
                  </a:lnTo>
                  <a:lnTo>
                    <a:pt x="634" y="2907"/>
                  </a:lnTo>
                  <a:lnTo>
                    <a:pt x="648" y="2907"/>
                  </a:lnTo>
                  <a:lnTo>
                    <a:pt x="662" y="2904"/>
                  </a:lnTo>
                  <a:lnTo>
                    <a:pt x="677" y="2900"/>
                  </a:lnTo>
                  <a:lnTo>
                    <a:pt x="693" y="2894"/>
                  </a:lnTo>
                  <a:lnTo>
                    <a:pt x="710" y="2883"/>
                  </a:lnTo>
                  <a:lnTo>
                    <a:pt x="727" y="2871"/>
                  </a:lnTo>
                  <a:lnTo>
                    <a:pt x="765" y="2838"/>
                  </a:lnTo>
                  <a:lnTo>
                    <a:pt x="806" y="2793"/>
                  </a:lnTo>
                  <a:lnTo>
                    <a:pt x="851" y="2739"/>
                  </a:lnTo>
                  <a:lnTo>
                    <a:pt x="898" y="2674"/>
                  </a:lnTo>
                  <a:lnTo>
                    <a:pt x="949" y="2599"/>
                  </a:lnTo>
                  <a:lnTo>
                    <a:pt x="999" y="2517"/>
                  </a:lnTo>
                  <a:lnTo>
                    <a:pt x="1044" y="2432"/>
                  </a:lnTo>
                  <a:lnTo>
                    <a:pt x="1085" y="2343"/>
                  </a:lnTo>
                  <a:lnTo>
                    <a:pt x="1123" y="2251"/>
                  </a:lnTo>
                  <a:lnTo>
                    <a:pt x="1154" y="2154"/>
                  </a:lnTo>
                  <a:lnTo>
                    <a:pt x="1182" y="2055"/>
                  </a:lnTo>
                  <a:lnTo>
                    <a:pt x="1205" y="1952"/>
                  </a:lnTo>
                  <a:lnTo>
                    <a:pt x="1223" y="1845"/>
                  </a:lnTo>
                  <a:lnTo>
                    <a:pt x="1367" y="855"/>
                  </a:lnTo>
                  <a:lnTo>
                    <a:pt x="1367" y="85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75280" y="2352600"/>
              <a:ext cx="1036800" cy="1354320"/>
            </a:xfrm>
            <a:custGeom>
              <a:avLst/>
              <a:gdLst/>
              <a:ahLst/>
              <a:rect l="l" t="t" r="r" b="b"/>
              <a:pathLst>
                <a:path w="2880" h="3763">
                  <a:moveTo>
                    <a:pt x="694" y="966"/>
                  </a:moveTo>
                  <a:lnTo>
                    <a:pt x="560" y="730"/>
                  </a:lnTo>
                  <a:lnTo>
                    <a:pt x="674" y="550"/>
                  </a:lnTo>
                  <a:lnTo>
                    <a:pt x="782" y="395"/>
                  </a:lnTo>
                  <a:lnTo>
                    <a:pt x="882" y="265"/>
                  </a:lnTo>
                  <a:lnTo>
                    <a:pt x="975" y="161"/>
                  </a:lnTo>
                  <a:lnTo>
                    <a:pt x="1062" y="84"/>
                  </a:lnTo>
                  <a:lnTo>
                    <a:pt x="1102" y="55"/>
                  </a:lnTo>
                  <a:lnTo>
                    <a:pt x="1141" y="30"/>
                  </a:lnTo>
                  <a:lnTo>
                    <a:pt x="1178" y="14"/>
                  </a:lnTo>
                  <a:lnTo>
                    <a:pt x="1214" y="3"/>
                  </a:lnTo>
                  <a:lnTo>
                    <a:pt x="1247" y="0"/>
                  </a:lnTo>
                  <a:lnTo>
                    <a:pt x="1278" y="2"/>
                  </a:lnTo>
                  <a:lnTo>
                    <a:pt x="1296" y="7"/>
                  </a:lnTo>
                  <a:lnTo>
                    <a:pt x="1303" y="8"/>
                  </a:lnTo>
                  <a:lnTo>
                    <a:pt x="1303" y="8"/>
                  </a:lnTo>
                  <a:lnTo>
                    <a:pt x="1312" y="12"/>
                  </a:lnTo>
                  <a:lnTo>
                    <a:pt x="1328" y="21"/>
                  </a:lnTo>
                  <a:lnTo>
                    <a:pt x="1343" y="33"/>
                  </a:lnTo>
                  <a:lnTo>
                    <a:pt x="1357" y="46"/>
                  </a:lnTo>
                  <a:lnTo>
                    <a:pt x="1370" y="63"/>
                  </a:lnTo>
                  <a:lnTo>
                    <a:pt x="1382" y="80"/>
                  </a:lnTo>
                  <a:lnTo>
                    <a:pt x="1392" y="100"/>
                  </a:lnTo>
                  <a:lnTo>
                    <a:pt x="1402" y="123"/>
                  </a:lnTo>
                  <a:lnTo>
                    <a:pt x="1411" y="149"/>
                  </a:lnTo>
                  <a:lnTo>
                    <a:pt x="1419" y="176"/>
                  </a:lnTo>
                  <a:lnTo>
                    <a:pt x="1426" y="206"/>
                  </a:lnTo>
                  <a:lnTo>
                    <a:pt x="1432" y="239"/>
                  </a:lnTo>
                  <a:lnTo>
                    <a:pt x="1436" y="273"/>
                  </a:lnTo>
                  <a:lnTo>
                    <a:pt x="1440" y="309"/>
                  </a:lnTo>
                  <a:lnTo>
                    <a:pt x="1443" y="350"/>
                  </a:lnTo>
                  <a:lnTo>
                    <a:pt x="1576" y="2753"/>
                  </a:lnTo>
                  <a:lnTo>
                    <a:pt x="2412" y="282"/>
                  </a:lnTo>
                  <a:lnTo>
                    <a:pt x="2773" y="339"/>
                  </a:lnTo>
                  <a:lnTo>
                    <a:pt x="2570" y="1787"/>
                  </a:lnTo>
                  <a:lnTo>
                    <a:pt x="2441" y="2694"/>
                  </a:lnTo>
                  <a:lnTo>
                    <a:pt x="2409" y="2961"/>
                  </a:lnTo>
                  <a:lnTo>
                    <a:pt x="2401" y="3046"/>
                  </a:lnTo>
                  <a:lnTo>
                    <a:pt x="2399" y="3077"/>
                  </a:lnTo>
                  <a:lnTo>
                    <a:pt x="2398" y="3100"/>
                  </a:lnTo>
                  <a:lnTo>
                    <a:pt x="2398" y="3117"/>
                  </a:lnTo>
                  <a:lnTo>
                    <a:pt x="2399" y="3125"/>
                  </a:lnTo>
                  <a:lnTo>
                    <a:pt x="2399" y="3131"/>
                  </a:lnTo>
                  <a:lnTo>
                    <a:pt x="2400" y="3138"/>
                  </a:lnTo>
                  <a:lnTo>
                    <a:pt x="2401" y="3144"/>
                  </a:lnTo>
                  <a:lnTo>
                    <a:pt x="2402" y="3149"/>
                  </a:lnTo>
                  <a:lnTo>
                    <a:pt x="2403" y="3155"/>
                  </a:lnTo>
                  <a:lnTo>
                    <a:pt x="2405" y="3160"/>
                  </a:lnTo>
                  <a:lnTo>
                    <a:pt x="2406" y="3162"/>
                  </a:lnTo>
                  <a:lnTo>
                    <a:pt x="2408" y="3166"/>
                  </a:lnTo>
                  <a:lnTo>
                    <a:pt x="2410" y="3169"/>
                  </a:lnTo>
                  <a:lnTo>
                    <a:pt x="2412" y="3171"/>
                  </a:lnTo>
                  <a:lnTo>
                    <a:pt x="2414" y="3172"/>
                  </a:lnTo>
                  <a:lnTo>
                    <a:pt x="2416" y="3174"/>
                  </a:lnTo>
                  <a:lnTo>
                    <a:pt x="2419" y="3175"/>
                  </a:lnTo>
                  <a:lnTo>
                    <a:pt x="2423" y="3175"/>
                  </a:lnTo>
                  <a:lnTo>
                    <a:pt x="2428" y="3174"/>
                  </a:lnTo>
                  <a:lnTo>
                    <a:pt x="2438" y="3169"/>
                  </a:lnTo>
                  <a:lnTo>
                    <a:pt x="2450" y="3160"/>
                  </a:lnTo>
                  <a:lnTo>
                    <a:pt x="2464" y="3150"/>
                  </a:lnTo>
                  <a:lnTo>
                    <a:pt x="2498" y="3115"/>
                  </a:lnTo>
                  <a:lnTo>
                    <a:pt x="2538" y="3065"/>
                  </a:lnTo>
                  <a:lnTo>
                    <a:pt x="2640" y="2921"/>
                  </a:lnTo>
                  <a:lnTo>
                    <a:pt x="2771" y="2719"/>
                  </a:lnTo>
                  <a:lnTo>
                    <a:pt x="2879" y="2965"/>
                  </a:lnTo>
                  <a:lnTo>
                    <a:pt x="2770" y="3161"/>
                  </a:lnTo>
                  <a:lnTo>
                    <a:pt x="2669" y="3328"/>
                  </a:lnTo>
                  <a:lnTo>
                    <a:pt x="2575" y="3466"/>
                  </a:lnTo>
                  <a:lnTo>
                    <a:pt x="2488" y="3581"/>
                  </a:lnTo>
                  <a:lnTo>
                    <a:pt x="2408" y="3667"/>
                  </a:lnTo>
                  <a:lnTo>
                    <a:pt x="2370" y="3699"/>
                  </a:lnTo>
                  <a:lnTo>
                    <a:pt x="2335" y="3725"/>
                  </a:lnTo>
                  <a:lnTo>
                    <a:pt x="2301" y="3745"/>
                  </a:lnTo>
                  <a:lnTo>
                    <a:pt x="2269" y="3756"/>
                  </a:lnTo>
                  <a:lnTo>
                    <a:pt x="2238" y="3762"/>
                  </a:lnTo>
                  <a:lnTo>
                    <a:pt x="2210" y="3762"/>
                  </a:lnTo>
                  <a:lnTo>
                    <a:pt x="2192" y="3757"/>
                  </a:lnTo>
                  <a:lnTo>
                    <a:pt x="2174" y="3748"/>
                  </a:lnTo>
                  <a:lnTo>
                    <a:pt x="2157" y="3737"/>
                  </a:lnTo>
                  <a:lnTo>
                    <a:pt x="2140" y="3721"/>
                  </a:lnTo>
                  <a:lnTo>
                    <a:pt x="2123" y="3702"/>
                  </a:lnTo>
                  <a:lnTo>
                    <a:pt x="2106" y="3678"/>
                  </a:lnTo>
                  <a:lnTo>
                    <a:pt x="2089" y="3652"/>
                  </a:lnTo>
                  <a:lnTo>
                    <a:pt x="2073" y="3622"/>
                  </a:lnTo>
                  <a:lnTo>
                    <a:pt x="2065" y="3606"/>
                  </a:lnTo>
                  <a:lnTo>
                    <a:pt x="2058" y="3589"/>
                  </a:lnTo>
                  <a:lnTo>
                    <a:pt x="2051" y="3571"/>
                  </a:lnTo>
                  <a:lnTo>
                    <a:pt x="2045" y="3553"/>
                  </a:lnTo>
                  <a:lnTo>
                    <a:pt x="2039" y="3533"/>
                  </a:lnTo>
                  <a:lnTo>
                    <a:pt x="2034" y="3513"/>
                  </a:lnTo>
                  <a:lnTo>
                    <a:pt x="2029" y="3494"/>
                  </a:lnTo>
                  <a:lnTo>
                    <a:pt x="2024" y="3472"/>
                  </a:lnTo>
                  <a:lnTo>
                    <a:pt x="2021" y="3450"/>
                  </a:lnTo>
                  <a:lnTo>
                    <a:pt x="2017" y="3429"/>
                  </a:lnTo>
                  <a:lnTo>
                    <a:pt x="2014" y="3405"/>
                  </a:lnTo>
                  <a:lnTo>
                    <a:pt x="2012" y="3382"/>
                  </a:lnTo>
                  <a:lnTo>
                    <a:pt x="2009" y="3331"/>
                  </a:lnTo>
                  <a:lnTo>
                    <a:pt x="2008" y="3278"/>
                  </a:lnTo>
                  <a:lnTo>
                    <a:pt x="2009" y="3240"/>
                  </a:lnTo>
                  <a:lnTo>
                    <a:pt x="2010" y="3196"/>
                  </a:lnTo>
                  <a:lnTo>
                    <a:pt x="2017" y="3092"/>
                  </a:lnTo>
                  <a:lnTo>
                    <a:pt x="2029" y="2964"/>
                  </a:lnTo>
                  <a:lnTo>
                    <a:pt x="2046" y="2811"/>
                  </a:lnTo>
                  <a:lnTo>
                    <a:pt x="2092" y="2435"/>
                  </a:lnTo>
                  <a:lnTo>
                    <a:pt x="2158" y="1964"/>
                  </a:lnTo>
                  <a:lnTo>
                    <a:pt x="2287" y="1169"/>
                  </a:lnTo>
                  <a:lnTo>
                    <a:pt x="1481" y="3611"/>
                  </a:lnTo>
                  <a:lnTo>
                    <a:pt x="1303" y="3583"/>
                  </a:lnTo>
                  <a:lnTo>
                    <a:pt x="1303" y="3583"/>
                  </a:lnTo>
                  <a:lnTo>
                    <a:pt x="1265" y="3576"/>
                  </a:lnTo>
                  <a:lnTo>
                    <a:pt x="1143" y="1265"/>
                  </a:lnTo>
                  <a:lnTo>
                    <a:pt x="1023" y="1951"/>
                  </a:lnTo>
                  <a:lnTo>
                    <a:pt x="966" y="2239"/>
                  </a:lnTo>
                  <a:lnTo>
                    <a:pt x="911" y="2488"/>
                  </a:lnTo>
                  <a:lnTo>
                    <a:pt x="857" y="2702"/>
                  </a:lnTo>
                  <a:lnTo>
                    <a:pt x="804" y="2878"/>
                  </a:lnTo>
                  <a:lnTo>
                    <a:pt x="778" y="2951"/>
                  </a:lnTo>
                  <a:lnTo>
                    <a:pt x="753" y="3016"/>
                  </a:lnTo>
                  <a:lnTo>
                    <a:pt x="728" y="3071"/>
                  </a:lnTo>
                  <a:lnTo>
                    <a:pt x="703" y="3117"/>
                  </a:lnTo>
                  <a:lnTo>
                    <a:pt x="654" y="3194"/>
                  </a:lnTo>
                  <a:lnTo>
                    <a:pt x="604" y="3259"/>
                  </a:lnTo>
                  <a:lnTo>
                    <a:pt x="551" y="3313"/>
                  </a:lnTo>
                  <a:lnTo>
                    <a:pt x="497" y="3356"/>
                  </a:lnTo>
                  <a:lnTo>
                    <a:pt x="442" y="3386"/>
                  </a:lnTo>
                  <a:lnTo>
                    <a:pt x="385" y="3404"/>
                  </a:lnTo>
                  <a:lnTo>
                    <a:pt x="327" y="3410"/>
                  </a:lnTo>
                  <a:lnTo>
                    <a:pt x="267" y="3406"/>
                  </a:lnTo>
                  <a:lnTo>
                    <a:pt x="236" y="3399"/>
                  </a:lnTo>
                  <a:lnTo>
                    <a:pt x="206" y="3387"/>
                  </a:lnTo>
                  <a:lnTo>
                    <a:pt x="179" y="3372"/>
                  </a:lnTo>
                  <a:lnTo>
                    <a:pt x="153" y="3353"/>
                  </a:lnTo>
                  <a:lnTo>
                    <a:pt x="129" y="3330"/>
                  </a:lnTo>
                  <a:lnTo>
                    <a:pt x="118" y="3317"/>
                  </a:lnTo>
                  <a:lnTo>
                    <a:pt x="107" y="3303"/>
                  </a:lnTo>
                  <a:lnTo>
                    <a:pt x="97" y="3288"/>
                  </a:lnTo>
                  <a:lnTo>
                    <a:pt x="87" y="3272"/>
                  </a:lnTo>
                  <a:lnTo>
                    <a:pt x="78" y="3256"/>
                  </a:lnTo>
                  <a:lnTo>
                    <a:pt x="69" y="3237"/>
                  </a:lnTo>
                  <a:lnTo>
                    <a:pt x="52" y="3201"/>
                  </a:lnTo>
                  <a:lnTo>
                    <a:pt x="38" y="3163"/>
                  </a:lnTo>
                  <a:lnTo>
                    <a:pt x="32" y="3143"/>
                  </a:lnTo>
                  <a:lnTo>
                    <a:pt x="27" y="3123"/>
                  </a:lnTo>
                  <a:lnTo>
                    <a:pt x="22" y="3103"/>
                  </a:lnTo>
                  <a:lnTo>
                    <a:pt x="17" y="3083"/>
                  </a:lnTo>
                  <a:lnTo>
                    <a:pt x="13" y="3063"/>
                  </a:lnTo>
                  <a:lnTo>
                    <a:pt x="10" y="3042"/>
                  </a:lnTo>
                  <a:lnTo>
                    <a:pt x="7" y="3020"/>
                  </a:lnTo>
                  <a:lnTo>
                    <a:pt x="4" y="2999"/>
                  </a:lnTo>
                  <a:lnTo>
                    <a:pt x="2" y="2977"/>
                  </a:lnTo>
                  <a:lnTo>
                    <a:pt x="1" y="2954"/>
                  </a:lnTo>
                  <a:lnTo>
                    <a:pt x="0" y="2933"/>
                  </a:lnTo>
                  <a:lnTo>
                    <a:pt x="0" y="2910"/>
                  </a:lnTo>
                  <a:lnTo>
                    <a:pt x="1" y="2866"/>
                  </a:lnTo>
                  <a:lnTo>
                    <a:pt x="4" y="2824"/>
                  </a:lnTo>
                  <a:lnTo>
                    <a:pt x="6" y="2806"/>
                  </a:lnTo>
                  <a:lnTo>
                    <a:pt x="9" y="2785"/>
                  </a:lnTo>
                  <a:lnTo>
                    <a:pt x="12" y="2767"/>
                  </a:lnTo>
                  <a:lnTo>
                    <a:pt x="16" y="2746"/>
                  </a:lnTo>
                  <a:lnTo>
                    <a:pt x="20" y="2728"/>
                  </a:lnTo>
                  <a:lnTo>
                    <a:pt x="24" y="2710"/>
                  </a:lnTo>
                  <a:lnTo>
                    <a:pt x="34" y="2676"/>
                  </a:lnTo>
                  <a:lnTo>
                    <a:pt x="47" y="2645"/>
                  </a:lnTo>
                  <a:lnTo>
                    <a:pt x="61" y="2613"/>
                  </a:lnTo>
                  <a:lnTo>
                    <a:pt x="77" y="2587"/>
                  </a:lnTo>
                  <a:lnTo>
                    <a:pt x="85" y="2573"/>
                  </a:lnTo>
                  <a:lnTo>
                    <a:pt x="94" y="2562"/>
                  </a:lnTo>
                  <a:lnTo>
                    <a:pt x="103" y="2553"/>
                  </a:lnTo>
                  <a:lnTo>
                    <a:pt x="112" y="2545"/>
                  </a:lnTo>
                  <a:lnTo>
                    <a:pt x="121" y="2536"/>
                  </a:lnTo>
                  <a:lnTo>
                    <a:pt x="131" y="2529"/>
                  </a:lnTo>
                  <a:lnTo>
                    <a:pt x="140" y="2524"/>
                  </a:lnTo>
                  <a:lnTo>
                    <a:pt x="151" y="2518"/>
                  </a:lnTo>
                  <a:lnTo>
                    <a:pt x="171" y="2513"/>
                  </a:lnTo>
                  <a:lnTo>
                    <a:pt x="193" y="2510"/>
                  </a:lnTo>
                  <a:lnTo>
                    <a:pt x="216" y="2512"/>
                  </a:lnTo>
                  <a:lnTo>
                    <a:pt x="230" y="2517"/>
                  </a:lnTo>
                  <a:lnTo>
                    <a:pt x="246" y="2522"/>
                  </a:lnTo>
                  <a:lnTo>
                    <a:pt x="263" y="2531"/>
                  </a:lnTo>
                  <a:lnTo>
                    <a:pt x="281" y="2540"/>
                  </a:lnTo>
                  <a:lnTo>
                    <a:pt x="301" y="2554"/>
                  </a:lnTo>
                  <a:lnTo>
                    <a:pt x="321" y="2570"/>
                  </a:lnTo>
                  <a:lnTo>
                    <a:pt x="365" y="2610"/>
                  </a:lnTo>
                  <a:lnTo>
                    <a:pt x="395" y="2634"/>
                  </a:lnTo>
                  <a:lnTo>
                    <a:pt x="422" y="2653"/>
                  </a:lnTo>
                  <a:lnTo>
                    <a:pt x="433" y="2659"/>
                  </a:lnTo>
                  <a:lnTo>
                    <a:pt x="444" y="2666"/>
                  </a:lnTo>
                  <a:lnTo>
                    <a:pt x="454" y="2669"/>
                  </a:lnTo>
                  <a:lnTo>
                    <a:pt x="462" y="2671"/>
                  </a:lnTo>
                  <a:lnTo>
                    <a:pt x="472" y="2673"/>
                  </a:lnTo>
                  <a:lnTo>
                    <a:pt x="481" y="2672"/>
                  </a:lnTo>
                  <a:lnTo>
                    <a:pt x="491" y="2670"/>
                  </a:lnTo>
                  <a:lnTo>
                    <a:pt x="501" y="2665"/>
                  </a:lnTo>
                  <a:lnTo>
                    <a:pt x="511" y="2660"/>
                  </a:lnTo>
                  <a:lnTo>
                    <a:pt x="521" y="2654"/>
                  </a:lnTo>
                  <a:lnTo>
                    <a:pt x="531" y="2647"/>
                  </a:lnTo>
                  <a:lnTo>
                    <a:pt x="541" y="2636"/>
                  </a:lnTo>
                  <a:lnTo>
                    <a:pt x="562" y="2615"/>
                  </a:lnTo>
                  <a:lnTo>
                    <a:pt x="583" y="2585"/>
                  </a:lnTo>
                  <a:lnTo>
                    <a:pt x="604" y="2548"/>
                  </a:lnTo>
                  <a:lnTo>
                    <a:pt x="626" y="2508"/>
                  </a:lnTo>
                  <a:lnTo>
                    <a:pt x="637" y="2485"/>
                  </a:lnTo>
                  <a:lnTo>
                    <a:pt x="649" y="2455"/>
                  </a:lnTo>
                  <a:lnTo>
                    <a:pt x="675" y="2382"/>
                  </a:lnTo>
                  <a:lnTo>
                    <a:pt x="704" y="2290"/>
                  </a:lnTo>
                  <a:lnTo>
                    <a:pt x="737" y="2178"/>
                  </a:lnTo>
                  <a:lnTo>
                    <a:pt x="810" y="1899"/>
                  </a:lnTo>
                  <a:lnTo>
                    <a:pt x="895" y="1541"/>
                  </a:lnTo>
                  <a:lnTo>
                    <a:pt x="974" y="1185"/>
                  </a:lnTo>
                  <a:lnTo>
                    <a:pt x="1031" y="909"/>
                  </a:lnTo>
                  <a:lnTo>
                    <a:pt x="1051" y="801"/>
                  </a:lnTo>
                  <a:lnTo>
                    <a:pt x="1066" y="713"/>
                  </a:lnTo>
                  <a:lnTo>
                    <a:pt x="1074" y="643"/>
                  </a:lnTo>
                  <a:lnTo>
                    <a:pt x="1076" y="616"/>
                  </a:lnTo>
                  <a:lnTo>
                    <a:pt x="1077" y="595"/>
                  </a:lnTo>
                  <a:lnTo>
                    <a:pt x="1077" y="593"/>
                  </a:lnTo>
                  <a:lnTo>
                    <a:pt x="1077" y="591"/>
                  </a:lnTo>
                  <a:lnTo>
                    <a:pt x="1076" y="589"/>
                  </a:lnTo>
                  <a:lnTo>
                    <a:pt x="1076" y="589"/>
                  </a:lnTo>
                  <a:lnTo>
                    <a:pt x="1076" y="587"/>
                  </a:lnTo>
                  <a:lnTo>
                    <a:pt x="1075" y="584"/>
                  </a:lnTo>
                  <a:lnTo>
                    <a:pt x="1074" y="584"/>
                  </a:lnTo>
                  <a:lnTo>
                    <a:pt x="1073" y="582"/>
                  </a:lnTo>
                  <a:lnTo>
                    <a:pt x="1072" y="582"/>
                  </a:lnTo>
                  <a:lnTo>
                    <a:pt x="1071" y="580"/>
                  </a:lnTo>
                  <a:lnTo>
                    <a:pt x="1070" y="579"/>
                  </a:lnTo>
                  <a:lnTo>
                    <a:pt x="1069" y="579"/>
                  </a:lnTo>
                  <a:lnTo>
                    <a:pt x="1067" y="577"/>
                  </a:lnTo>
                  <a:lnTo>
                    <a:pt x="1066" y="577"/>
                  </a:lnTo>
                  <a:lnTo>
                    <a:pt x="1062" y="576"/>
                  </a:lnTo>
                  <a:lnTo>
                    <a:pt x="1047" y="575"/>
                  </a:lnTo>
                  <a:lnTo>
                    <a:pt x="1032" y="577"/>
                  </a:lnTo>
                  <a:lnTo>
                    <a:pt x="1015" y="585"/>
                  </a:lnTo>
                  <a:lnTo>
                    <a:pt x="997" y="594"/>
                  </a:lnTo>
                  <a:lnTo>
                    <a:pt x="978" y="605"/>
                  </a:lnTo>
                  <a:lnTo>
                    <a:pt x="957" y="621"/>
                  </a:lnTo>
                  <a:lnTo>
                    <a:pt x="915" y="664"/>
                  </a:lnTo>
                  <a:lnTo>
                    <a:pt x="866" y="718"/>
                  </a:lnTo>
                  <a:lnTo>
                    <a:pt x="813" y="789"/>
                  </a:lnTo>
                  <a:lnTo>
                    <a:pt x="756" y="86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43680" y="2471760"/>
              <a:ext cx="511200" cy="1268280"/>
            </a:xfrm>
            <a:custGeom>
              <a:avLst/>
              <a:gdLst/>
              <a:ahLst/>
              <a:rect l="l" t="t" r="r" b="b"/>
              <a:pathLst>
                <a:path w="1418" h="3525">
                  <a:moveTo>
                    <a:pt x="1185" y="2350"/>
                  </a:moveTo>
                  <a:lnTo>
                    <a:pt x="1290" y="2623"/>
                  </a:lnTo>
                  <a:lnTo>
                    <a:pt x="1155" y="2841"/>
                  </a:lnTo>
                  <a:lnTo>
                    <a:pt x="1025" y="3029"/>
                  </a:lnTo>
                  <a:lnTo>
                    <a:pt x="900" y="3188"/>
                  </a:lnTo>
                  <a:lnTo>
                    <a:pt x="780" y="3316"/>
                  </a:lnTo>
                  <a:lnTo>
                    <a:pt x="665" y="3414"/>
                  </a:lnTo>
                  <a:lnTo>
                    <a:pt x="609" y="3451"/>
                  </a:lnTo>
                  <a:lnTo>
                    <a:pt x="554" y="3482"/>
                  </a:lnTo>
                  <a:lnTo>
                    <a:pt x="502" y="3502"/>
                  </a:lnTo>
                  <a:lnTo>
                    <a:pt x="449" y="3518"/>
                  </a:lnTo>
                  <a:lnTo>
                    <a:pt x="399" y="3524"/>
                  </a:lnTo>
                  <a:lnTo>
                    <a:pt x="350" y="3524"/>
                  </a:lnTo>
                  <a:lnTo>
                    <a:pt x="308" y="3516"/>
                  </a:lnTo>
                  <a:lnTo>
                    <a:pt x="299" y="3513"/>
                  </a:lnTo>
                  <a:lnTo>
                    <a:pt x="299" y="3513"/>
                  </a:lnTo>
                  <a:lnTo>
                    <a:pt x="269" y="3502"/>
                  </a:lnTo>
                  <a:lnTo>
                    <a:pt x="233" y="3479"/>
                  </a:lnTo>
                  <a:lnTo>
                    <a:pt x="216" y="3464"/>
                  </a:lnTo>
                  <a:lnTo>
                    <a:pt x="200" y="3451"/>
                  </a:lnTo>
                  <a:lnTo>
                    <a:pt x="184" y="3434"/>
                  </a:lnTo>
                  <a:lnTo>
                    <a:pt x="169" y="3414"/>
                  </a:lnTo>
                  <a:lnTo>
                    <a:pt x="154" y="3395"/>
                  </a:lnTo>
                  <a:lnTo>
                    <a:pt x="140" y="3374"/>
                  </a:lnTo>
                  <a:lnTo>
                    <a:pt x="126" y="3351"/>
                  </a:lnTo>
                  <a:lnTo>
                    <a:pt x="114" y="3326"/>
                  </a:lnTo>
                  <a:lnTo>
                    <a:pt x="102" y="3299"/>
                  </a:lnTo>
                  <a:lnTo>
                    <a:pt x="90" y="3272"/>
                  </a:lnTo>
                  <a:lnTo>
                    <a:pt x="79" y="3243"/>
                  </a:lnTo>
                  <a:lnTo>
                    <a:pt x="69" y="3212"/>
                  </a:lnTo>
                  <a:lnTo>
                    <a:pt x="59" y="3178"/>
                  </a:lnTo>
                  <a:lnTo>
                    <a:pt x="51" y="3144"/>
                  </a:lnTo>
                  <a:lnTo>
                    <a:pt x="43" y="3107"/>
                  </a:lnTo>
                  <a:lnTo>
                    <a:pt x="35" y="3070"/>
                  </a:lnTo>
                  <a:lnTo>
                    <a:pt x="23" y="2988"/>
                  </a:lnTo>
                  <a:lnTo>
                    <a:pt x="13" y="2900"/>
                  </a:lnTo>
                  <a:lnTo>
                    <a:pt x="6" y="2806"/>
                  </a:lnTo>
                  <a:lnTo>
                    <a:pt x="1" y="2705"/>
                  </a:lnTo>
                  <a:lnTo>
                    <a:pt x="0" y="2595"/>
                  </a:lnTo>
                  <a:lnTo>
                    <a:pt x="4" y="2379"/>
                  </a:lnTo>
                  <a:lnTo>
                    <a:pt x="18" y="2165"/>
                  </a:lnTo>
                  <a:lnTo>
                    <a:pt x="40" y="1952"/>
                  </a:lnTo>
                  <a:lnTo>
                    <a:pt x="71" y="1740"/>
                  </a:lnTo>
                  <a:lnTo>
                    <a:pt x="110" y="1532"/>
                  </a:lnTo>
                  <a:lnTo>
                    <a:pt x="159" y="1323"/>
                  </a:lnTo>
                  <a:lnTo>
                    <a:pt x="217" y="1118"/>
                  </a:lnTo>
                  <a:lnTo>
                    <a:pt x="283" y="914"/>
                  </a:lnTo>
                  <a:lnTo>
                    <a:pt x="299" y="870"/>
                  </a:lnTo>
                  <a:lnTo>
                    <a:pt x="299" y="868"/>
                  </a:lnTo>
                  <a:lnTo>
                    <a:pt x="367" y="691"/>
                  </a:lnTo>
                  <a:lnTo>
                    <a:pt x="453" y="499"/>
                  </a:lnTo>
                  <a:lnTo>
                    <a:pt x="499" y="415"/>
                  </a:lnTo>
                  <a:lnTo>
                    <a:pt x="545" y="338"/>
                  </a:lnTo>
                  <a:lnTo>
                    <a:pt x="592" y="270"/>
                  </a:lnTo>
                  <a:lnTo>
                    <a:pt x="641" y="210"/>
                  </a:lnTo>
                  <a:lnTo>
                    <a:pt x="690" y="155"/>
                  </a:lnTo>
                  <a:lnTo>
                    <a:pt x="741" y="110"/>
                  </a:lnTo>
                  <a:lnTo>
                    <a:pt x="791" y="72"/>
                  </a:lnTo>
                  <a:lnTo>
                    <a:pt x="843" y="41"/>
                  </a:lnTo>
                  <a:lnTo>
                    <a:pt x="897" y="21"/>
                  </a:lnTo>
                  <a:lnTo>
                    <a:pt x="951" y="5"/>
                  </a:lnTo>
                  <a:lnTo>
                    <a:pt x="1006" y="0"/>
                  </a:lnTo>
                  <a:lnTo>
                    <a:pt x="1063" y="1"/>
                  </a:lnTo>
                  <a:lnTo>
                    <a:pt x="1103" y="6"/>
                  </a:lnTo>
                  <a:lnTo>
                    <a:pt x="1142" y="18"/>
                  </a:lnTo>
                  <a:lnTo>
                    <a:pt x="1178" y="34"/>
                  </a:lnTo>
                  <a:lnTo>
                    <a:pt x="1212" y="54"/>
                  </a:lnTo>
                  <a:lnTo>
                    <a:pt x="1243" y="80"/>
                  </a:lnTo>
                  <a:lnTo>
                    <a:pt x="1272" y="110"/>
                  </a:lnTo>
                  <a:lnTo>
                    <a:pt x="1287" y="128"/>
                  </a:lnTo>
                  <a:lnTo>
                    <a:pt x="1300" y="146"/>
                  </a:lnTo>
                  <a:lnTo>
                    <a:pt x="1312" y="166"/>
                  </a:lnTo>
                  <a:lnTo>
                    <a:pt x="1324" y="187"/>
                  </a:lnTo>
                  <a:lnTo>
                    <a:pt x="1335" y="209"/>
                  </a:lnTo>
                  <a:lnTo>
                    <a:pt x="1345" y="231"/>
                  </a:lnTo>
                  <a:lnTo>
                    <a:pt x="1355" y="255"/>
                  </a:lnTo>
                  <a:lnTo>
                    <a:pt x="1364" y="279"/>
                  </a:lnTo>
                  <a:lnTo>
                    <a:pt x="1372" y="305"/>
                  </a:lnTo>
                  <a:lnTo>
                    <a:pt x="1380" y="331"/>
                  </a:lnTo>
                  <a:lnTo>
                    <a:pt x="1387" y="359"/>
                  </a:lnTo>
                  <a:lnTo>
                    <a:pt x="1393" y="386"/>
                  </a:lnTo>
                  <a:lnTo>
                    <a:pt x="1398" y="414"/>
                  </a:lnTo>
                  <a:lnTo>
                    <a:pt x="1403" y="444"/>
                  </a:lnTo>
                  <a:lnTo>
                    <a:pt x="1407" y="474"/>
                  </a:lnTo>
                  <a:lnTo>
                    <a:pt x="1410" y="506"/>
                  </a:lnTo>
                  <a:lnTo>
                    <a:pt x="1416" y="571"/>
                  </a:lnTo>
                  <a:lnTo>
                    <a:pt x="1417" y="639"/>
                  </a:lnTo>
                  <a:lnTo>
                    <a:pt x="1415" y="710"/>
                  </a:lnTo>
                  <a:lnTo>
                    <a:pt x="1410" y="779"/>
                  </a:lnTo>
                  <a:lnTo>
                    <a:pt x="1402" y="848"/>
                  </a:lnTo>
                  <a:lnTo>
                    <a:pt x="1391" y="916"/>
                  </a:lnTo>
                  <a:lnTo>
                    <a:pt x="1376" y="982"/>
                  </a:lnTo>
                  <a:lnTo>
                    <a:pt x="1359" y="1048"/>
                  </a:lnTo>
                  <a:lnTo>
                    <a:pt x="1338" y="1113"/>
                  </a:lnTo>
                  <a:lnTo>
                    <a:pt x="1314" y="1178"/>
                  </a:lnTo>
                  <a:lnTo>
                    <a:pt x="1285" y="1243"/>
                  </a:lnTo>
                  <a:lnTo>
                    <a:pt x="1251" y="1307"/>
                  </a:lnTo>
                  <a:lnTo>
                    <a:pt x="1212" y="1373"/>
                  </a:lnTo>
                  <a:lnTo>
                    <a:pt x="1167" y="1436"/>
                  </a:lnTo>
                  <a:lnTo>
                    <a:pt x="1117" y="1501"/>
                  </a:lnTo>
                  <a:lnTo>
                    <a:pt x="1061" y="1565"/>
                  </a:lnTo>
                  <a:lnTo>
                    <a:pt x="934" y="1696"/>
                  </a:lnTo>
                  <a:lnTo>
                    <a:pt x="903" y="1727"/>
                  </a:lnTo>
                  <a:lnTo>
                    <a:pt x="863" y="1763"/>
                  </a:lnTo>
                  <a:lnTo>
                    <a:pt x="758" y="1854"/>
                  </a:lnTo>
                  <a:lnTo>
                    <a:pt x="438" y="2098"/>
                  </a:lnTo>
                  <a:lnTo>
                    <a:pt x="432" y="2177"/>
                  </a:lnTo>
                  <a:lnTo>
                    <a:pt x="428" y="2261"/>
                  </a:lnTo>
                  <a:lnTo>
                    <a:pt x="425" y="2349"/>
                  </a:lnTo>
                  <a:lnTo>
                    <a:pt x="424" y="2444"/>
                  </a:lnTo>
                  <a:lnTo>
                    <a:pt x="425" y="2503"/>
                  </a:lnTo>
                  <a:lnTo>
                    <a:pt x="426" y="2557"/>
                  </a:lnTo>
                  <a:lnTo>
                    <a:pt x="429" y="2608"/>
                  </a:lnTo>
                  <a:lnTo>
                    <a:pt x="433" y="2653"/>
                  </a:lnTo>
                  <a:lnTo>
                    <a:pt x="438" y="2693"/>
                  </a:lnTo>
                  <a:lnTo>
                    <a:pt x="441" y="2710"/>
                  </a:lnTo>
                  <a:lnTo>
                    <a:pt x="445" y="2727"/>
                  </a:lnTo>
                  <a:lnTo>
                    <a:pt x="448" y="2742"/>
                  </a:lnTo>
                  <a:lnTo>
                    <a:pt x="452" y="2757"/>
                  </a:lnTo>
                  <a:lnTo>
                    <a:pt x="456" y="2770"/>
                  </a:lnTo>
                  <a:lnTo>
                    <a:pt x="461" y="2781"/>
                  </a:lnTo>
                  <a:lnTo>
                    <a:pt x="467" y="2792"/>
                  </a:lnTo>
                  <a:lnTo>
                    <a:pt x="472" y="2801"/>
                  </a:lnTo>
                  <a:lnTo>
                    <a:pt x="477" y="2812"/>
                  </a:lnTo>
                  <a:lnTo>
                    <a:pt x="482" y="2821"/>
                  </a:lnTo>
                  <a:lnTo>
                    <a:pt x="488" y="2828"/>
                  </a:lnTo>
                  <a:lnTo>
                    <a:pt x="494" y="2837"/>
                  </a:lnTo>
                  <a:lnTo>
                    <a:pt x="501" y="2842"/>
                  </a:lnTo>
                  <a:lnTo>
                    <a:pt x="508" y="2849"/>
                  </a:lnTo>
                  <a:lnTo>
                    <a:pt x="515" y="2854"/>
                  </a:lnTo>
                  <a:lnTo>
                    <a:pt x="522" y="2858"/>
                  </a:lnTo>
                  <a:lnTo>
                    <a:pt x="538" y="2868"/>
                  </a:lnTo>
                  <a:lnTo>
                    <a:pt x="554" y="2872"/>
                  </a:lnTo>
                  <a:lnTo>
                    <a:pt x="572" y="2876"/>
                  </a:lnTo>
                  <a:lnTo>
                    <a:pt x="592" y="2876"/>
                  </a:lnTo>
                  <a:lnTo>
                    <a:pt x="614" y="2875"/>
                  </a:lnTo>
                  <a:lnTo>
                    <a:pt x="635" y="2869"/>
                  </a:lnTo>
                  <a:lnTo>
                    <a:pt x="657" y="2863"/>
                  </a:lnTo>
                  <a:lnTo>
                    <a:pt x="679" y="2854"/>
                  </a:lnTo>
                  <a:lnTo>
                    <a:pt x="702" y="2842"/>
                  </a:lnTo>
                  <a:lnTo>
                    <a:pt x="725" y="2825"/>
                  </a:lnTo>
                  <a:lnTo>
                    <a:pt x="750" y="2808"/>
                  </a:lnTo>
                  <a:lnTo>
                    <a:pt x="787" y="2778"/>
                  </a:lnTo>
                  <a:lnTo>
                    <a:pt x="828" y="2740"/>
                  </a:lnTo>
                  <a:lnTo>
                    <a:pt x="928" y="2642"/>
                  </a:lnTo>
                  <a:lnTo>
                    <a:pt x="1047" y="2512"/>
                  </a:lnTo>
                  <a:close/>
                  <a:moveTo>
                    <a:pt x="470" y="1708"/>
                  </a:moveTo>
                  <a:lnTo>
                    <a:pt x="605" y="1581"/>
                  </a:lnTo>
                  <a:lnTo>
                    <a:pt x="667" y="1516"/>
                  </a:lnTo>
                  <a:lnTo>
                    <a:pt x="725" y="1448"/>
                  </a:lnTo>
                  <a:lnTo>
                    <a:pt x="780" y="1377"/>
                  </a:lnTo>
                  <a:lnTo>
                    <a:pt x="831" y="1306"/>
                  </a:lnTo>
                  <a:lnTo>
                    <a:pt x="880" y="1233"/>
                  </a:lnTo>
                  <a:lnTo>
                    <a:pt x="924" y="1157"/>
                  </a:lnTo>
                  <a:lnTo>
                    <a:pt x="948" y="1109"/>
                  </a:lnTo>
                  <a:lnTo>
                    <a:pt x="969" y="1060"/>
                  </a:lnTo>
                  <a:lnTo>
                    <a:pt x="986" y="1013"/>
                  </a:lnTo>
                  <a:lnTo>
                    <a:pt x="1001" y="966"/>
                  </a:lnTo>
                  <a:lnTo>
                    <a:pt x="1007" y="942"/>
                  </a:lnTo>
                  <a:lnTo>
                    <a:pt x="1013" y="917"/>
                  </a:lnTo>
                  <a:lnTo>
                    <a:pt x="1018" y="894"/>
                  </a:lnTo>
                  <a:lnTo>
                    <a:pt x="1021" y="869"/>
                  </a:lnTo>
                  <a:lnTo>
                    <a:pt x="1024" y="846"/>
                  </a:lnTo>
                  <a:lnTo>
                    <a:pt x="1026" y="823"/>
                  </a:lnTo>
                  <a:lnTo>
                    <a:pt x="1028" y="798"/>
                  </a:lnTo>
                  <a:lnTo>
                    <a:pt x="1028" y="775"/>
                  </a:lnTo>
                  <a:lnTo>
                    <a:pt x="1027" y="742"/>
                  </a:lnTo>
                  <a:lnTo>
                    <a:pt x="1026" y="712"/>
                  </a:lnTo>
                  <a:lnTo>
                    <a:pt x="1023" y="682"/>
                  </a:lnTo>
                  <a:lnTo>
                    <a:pt x="1019" y="655"/>
                  </a:lnTo>
                  <a:lnTo>
                    <a:pt x="1016" y="642"/>
                  </a:lnTo>
                  <a:lnTo>
                    <a:pt x="1013" y="629"/>
                  </a:lnTo>
                  <a:lnTo>
                    <a:pt x="1010" y="616"/>
                  </a:lnTo>
                  <a:lnTo>
                    <a:pt x="1006" y="603"/>
                  </a:lnTo>
                  <a:lnTo>
                    <a:pt x="1002" y="592"/>
                  </a:lnTo>
                  <a:lnTo>
                    <a:pt x="998" y="581"/>
                  </a:lnTo>
                  <a:lnTo>
                    <a:pt x="990" y="559"/>
                  </a:lnTo>
                  <a:lnTo>
                    <a:pt x="985" y="548"/>
                  </a:lnTo>
                  <a:lnTo>
                    <a:pt x="980" y="540"/>
                  </a:lnTo>
                  <a:lnTo>
                    <a:pt x="975" y="531"/>
                  </a:lnTo>
                  <a:lnTo>
                    <a:pt x="970" y="524"/>
                  </a:lnTo>
                  <a:lnTo>
                    <a:pt x="964" y="515"/>
                  </a:lnTo>
                  <a:lnTo>
                    <a:pt x="959" y="508"/>
                  </a:lnTo>
                  <a:lnTo>
                    <a:pt x="953" y="503"/>
                  </a:lnTo>
                  <a:lnTo>
                    <a:pt x="947" y="497"/>
                  </a:lnTo>
                  <a:lnTo>
                    <a:pt x="934" y="487"/>
                  </a:lnTo>
                  <a:lnTo>
                    <a:pt x="921" y="479"/>
                  </a:lnTo>
                  <a:lnTo>
                    <a:pt x="907" y="476"/>
                  </a:lnTo>
                  <a:lnTo>
                    <a:pt x="892" y="473"/>
                  </a:lnTo>
                  <a:lnTo>
                    <a:pt x="876" y="473"/>
                  </a:lnTo>
                  <a:lnTo>
                    <a:pt x="859" y="476"/>
                  </a:lnTo>
                  <a:lnTo>
                    <a:pt x="842" y="481"/>
                  </a:lnTo>
                  <a:lnTo>
                    <a:pt x="826" y="490"/>
                  </a:lnTo>
                  <a:lnTo>
                    <a:pt x="810" y="503"/>
                  </a:lnTo>
                  <a:lnTo>
                    <a:pt x="793" y="518"/>
                  </a:lnTo>
                  <a:lnTo>
                    <a:pt x="777" y="536"/>
                  </a:lnTo>
                  <a:lnTo>
                    <a:pt x="761" y="557"/>
                  </a:lnTo>
                  <a:lnTo>
                    <a:pt x="738" y="591"/>
                  </a:lnTo>
                  <a:lnTo>
                    <a:pt x="716" y="629"/>
                  </a:lnTo>
                  <a:lnTo>
                    <a:pt x="695" y="671"/>
                  </a:lnTo>
                  <a:lnTo>
                    <a:pt x="675" y="717"/>
                  </a:lnTo>
                  <a:lnTo>
                    <a:pt x="656" y="770"/>
                  </a:lnTo>
                  <a:lnTo>
                    <a:pt x="638" y="825"/>
                  </a:lnTo>
                  <a:lnTo>
                    <a:pt x="621" y="887"/>
                  </a:lnTo>
                  <a:lnTo>
                    <a:pt x="605" y="953"/>
                  </a:lnTo>
                  <a:lnTo>
                    <a:pt x="560" y="1155"/>
                  </a:lnTo>
                  <a:lnTo>
                    <a:pt x="522" y="1349"/>
                  </a:lnTo>
                  <a:lnTo>
                    <a:pt x="492" y="1533"/>
                  </a:lnTo>
                  <a:lnTo>
                    <a:pt x="480" y="1622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34360" y="2508120"/>
              <a:ext cx="704880" cy="1301760"/>
            </a:xfrm>
            <a:custGeom>
              <a:avLst/>
              <a:gdLst/>
              <a:ahLst/>
              <a:rect l="l" t="t" r="r" b="b"/>
              <a:pathLst>
                <a:path w="1956" h="3618">
                  <a:moveTo>
                    <a:pt x="1955" y="2681"/>
                  </a:moveTo>
                  <a:lnTo>
                    <a:pt x="1845" y="2901"/>
                  </a:lnTo>
                  <a:lnTo>
                    <a:pt x="1742" y="3092"/>
                  </a:lnTo>
                  <a:lnTo>
                    <a:pt x="1647" y="3255"/>
                  </a:lnTo>
                  <a:lnTo>
                    <a:pt x="1559" y="3390"/>
                  </a:lnTo>
                  <a:lnTo>
                    <a:pt x="1502" y="3459"/>
                  </a:lnTo>
                  <a:lnTo>
                    <a:pt x="1502" y="3461"/>
                  </a:lnTo>
                  <a:lnTo>
                    <a:pt x="1478" y="3492"/>
                  </a:lnTo>
                  <a:lnTo>
                    <a:pt x="1440" y="3530"/>
                  </a:lnTo>
                  <a:lnTo>
                    <a:pt x="1404" y="3561"/>
                  </a:lnTo>
                  <a:lnTo>
                    <a:pt x="1369" y="3586"/>
                  </a:lnTo>
                  <a:lnTo>
                    <a:pt x="1337" y="3603"/>
                  </a:lnTo>
                  <a:lnTo>
                    <a:pt x="1307" y="3613"/>
                  </a:lnTo>
                  <a:lnTo>
                    <a:pt x="1277" y="3617"/>
                  </a:lnTo>
                  <a:lnTo>
                    <a:pt x="1259" y="3615"/>
                  </a:lnTo>
                  <a:lnTo>
                    <a:pt x="1241" y="3608"/>
                  </a:lnTo>
                  <a:lnTo>
                    <a:pt x="1223" y="3600"/>
                  </a:lnTo>
                  <a:lnTo>
                    <a:pt x="1205" y="3587"/>
                  </a:lnTo>
                  <a:lnTo>
                    <a:pt x="1188" y="3570"/>
                  </a:lnTo>
                  <a:lnTo>
                    <a:pt x="1171" y="3549"/>
                  </a:lnTo>
                  <a:lnTo>
                    <a:pt x="1154" y="3523"/>
                  </a:lnTo>
                  <a:lnTo>
                    <a:pt x="1138" y="3496"/>
                  </a:lnTo>
                  <a:lnTo>
                    <a:pt x="1129" y="3481"/>
                  </a:lnTo>
                  <a:lnTo>
                    <a:pt x="1122" y="3464"/>
                  </a:lnTo>
                  <a:lnTo>
                    <a:pt x="1115" y="3447"/>
                  </a:lnTo>
                  <a:lnTo>
                    <a:pt x="1109" y="3431"/>
                  </a:lnTo>
                  <a:lnTo>
                    <a:pt x="1104" y="3412"/>
                  </a:lnTo>
                  <a:lnTo>
                    <a:pt x="1098" y="3393"/>
                  </a:lnTo>
                  <a:lnTo>
                    <a:pt x="1094" y="3374"/>
                  </a:lnTo>
                  <a:lnTo>
                    <a:pt x="1089" y="3353"/>
                  </a:lnTo>
                  <a:lnTo>
                    <a:pt x="1085" y="3331"/>
                  </a:lnTo>
                  <a:lnTo>
                    <a:pt x="1082" y="3310"/>
                  </a:lnTo>
                  <a:lnTo>
                    <a:pt x="1079" y="3287"/>
                  </a:lnTo>
                  <a:lnTo>
                    <a:pt x="1077" y="3264"/>
                  </a:lnTo>
                  <a:lnTo>
                    <a:pt x="1074" y="3216"/>
                  </a:lnTo>
                  <a:lnTo>
                    <a:pt x="1073" y="3165"/>
                  </a:lnTo>
                  <a:lnTo>
                    <a:pt x="1074" y="3108"/>
                  </a:lnTo>
                  <a:lnTo>
                    <a:pt x="1076" y="3048"/>
                  </a:lnTo>
                  <a:lnTo>
                    <a:pt x="1080" y="2980"/>
                  </a:lnTo>
                  <a:lnTo>
                    <a:pt x="1086" y="2909"/>
                  </a:lnTo>
                  <a:lnTo>
                    <a:pt x="1102" y="2751"/>
                  </a:lnTo>
                  <a:lnTo>
                    <a:pt x="1124" y="2571"/>
                  </a:lnTo>
                  <a:lnTo>
                    <a:pt x="1219" y="1947"/>
                  </a:lnTo>
                  <a:lnTo>
                    <a:pt x="691" y="1942"/>
                  </a:lnTo>
                  <a:lnTo>
                    <a:pt x="661" y="2167"/>
                  </a:lnTo>
                  <a:lnTo>
                    <a:pt x="661" y="2171"/>
                  </a:lnTo>
                  <a:lnTo>
                    <a:pt x="493" y="3460"/>
                  </a:lnTo>
                  <a:lnTo>
                    <a:pt x="104" y="3424"/>
                  </a:lnTo>
                  <a:lnTo>
                    <a:pt x="106" y="3382"/>
                  </a:lnTo>
                  <a:lnTo>
                    <a:pt x="109" y="3338"/>
                  </a:lnTo>
                  <a:lnTo>
                    <a:pt x="119" y="3240"/>
                  </a:lnTo>
                  <a:lnTo>
                    <a:pt x="132" y="3128"/>
                  </a:lnTo>
                  <a:lnTo>
                    <a:pt x="150" y="3003"/>
                  </a:lnTo>
                  <a:lnTo>
                    <a:pt x="264" y="2204"/>
                  </a:lnTo>
                  <a:lnTo>
                    <a:pt x="455" y="815"/>
                  </a:lnTo>
                  <a:lnTo>
                    <a:pt x="461" y="767"/>
                  </a:lnTo>
                  <a:lnTo>
                    <a:pt x="465" y="725"/>
                  </a:lnTo>
                  <a:lnTo>
                    <a:pt x="466" y="706"/>
                  </a:lnTo>
                  <a:lnTo>
                    <a:pt x="467" y="692"/>
                  </a:lnTo>
                  <a:lnTo>
                    <a:pt x="468" y="675"/>
                  </a:lnTo>
                  <a:lnTo>
                    <a:pt x="468" y="663"/>
                  </a:lnTo>
                  <a:lnTo>
                    <a:pt x="468" y="654"/>
                  </a:lnTo>
                  <a:lnTo>
                    <a:pt x="468" y="646"/>
                  </a:lnTo>
                  <a:lnTo>
                    <a:pt x="467" y="639"/>
                  </a:lnTo>
                  <a:lnTo>
                    <a:pt x="467" y="637"/>
                  </a:lnTo>
                  <a:lnTo>
                    <a:pt x="467" y="635"/>
                  </a:lnTo>
                  <a:lnTo>
                    <a:pt x="466" y="631"/>
                  </a:lnTo>
                  <a:lnTo>
                    <a:pt x="466" y="631"/>
                  </a:lnTo>
                  <a:lnTo>
                    <a:pt x="465" y="629"/>
                  </a:lnTo>
                  <a:lnTo>
                    <a:pt x="465" y="626"/>
                  </a:lnTo>
                  <a:lnTo>
                    <a:pt x="464" y="626"/>
                  </a:lnTo>
                  <a:lnTo>
                    <a:pt x="464" y="626"/>
                  </a:lnTo>
                  <a:lnTo>
                    <a:pt x="464" y="624"/>
                  </a:lnTo>
                  <a:lnTo>
                    <a:pt x="463" y="624"/>
                  </a:lnTo>
                  <a:lnTo>
                    <a:pt x="463" y="624"/>
                  </a:lnTo>
                  <a:lnTo>
                    <a:pt x="463" y="624"/>
                  </a:lnTo>
                  <a:lnTo>
                    <a:pt x="462" y="624"/>
                  </a:lnTo>
                  <a:lnTo>
                    <a:pt x="462" y="624"/>
                  </a:lnTo>
                  <a:lnTo>
                    <a:pt x="452" y="625"/>
                  </a:lnTo>
                  <a:lnTo>
                    <a:pt x="439" y="628"/>
                  </a:lnTo>
                  <a:lnTo>
                    <a:pt x="426" y="636"/>
                  </a:lnTo>
                  <a:lnTo>
                    <a:pt x="412" y="647"/>
                  </a:lnTo>
                  <a:lnTo>
                    <a:pt x="379" y="675"/>
                  </a:lnTo>
                  <a:lnTo>
                    <a:pt x="341" y="718"/>
                  </a:lnTo>
                  <a:lnTo>
                    <a:pt x="297" y="775"/>
                  </a:lnTo>
                  <a:lnTo>
                    <a:pt x="249" y="842"/>
                  </a:lnTo>
                  <a:lnTo>
                    <a:pt x="135" y="1017"/>
                  </a:lnTo>
                  <a:lnTo>
                    <a:pt x="0" y="796"/>
                  </a:lnTo>
                  <a:lnTo>
                    <a:pt x="115" y="605"/>
                  </a:lnTo>
                  <a:lnTo>
                    <a:pt x="223" y="442"/>
                  </a:lnTo>
                  <a:lnTo>
                    <a:pt x="324" y="302"/>
                  </a:lnTo>
                  <a:lnTo>
                    <a:pt x="416" y="191"/>
                  </a:lnTo>
                  <a:lnTo>
                    <a:pt x="503" y="104"/>
                  </a:lnTo>
                  <a:lnTo>
                    <a:pt x="543" y="72"/>
                  </a:lnTo>
                  <a:lnTo>
                    <a:pt x="581" y="46"/>
                  </a:lnTo>
                  <a:lnTo>
                    <a:pt x="618" y="24"/>
                  </a:lnTo>
                  <a:lnTo>
                    <a:pt x="653" y="11"/>
                  </a:lnTo>
                  <a:lnTo>
                    <a:pt x="661" y="7"/>
                  </a:lnTo>
                  <a:lnTo>
                    <a:pt x="661" y="5"/>
                  </a:lnTo>
                  <a:lnTo>
                    <a:pt x="686" y="3"/>
                  </a:lnTo>
                  <a:lnTo>
                    <a:pt x="718" y="0"/>
                  </a:lnTo>
                  <a:lnTo>
                    <a:pt x="737" y="2"/>
                  </a:lnTo>
                  <a:lnTo>
                    <a:pt x="755" y="6"/>
                  </a:lnTo>
                  <a:lnTo>
                    <a:pt x="771" y="13"/>
                  </a:lnTo>
                  <a:lnTo>
                    <a:pt x="788" y="23"/>
                  </a:lnTo>
                  <a:lnTo>
                    <a:pt x="802" y="36"/>
                  </a:lnTo>
                  <a:lnTo>
                    <a:pt x="815" y="53"/>
                  </a:lnTo>
                  <a:lnTo>
                    <a:pt x="826" y="72"/>
                  </a:lnTo>
                  <a:lnTo>
                    <a:pt x="837" y="93"/>
                  </a:lnTo>
                  <a:lnTo>
                    <a:pt x="846" y="118"/>
                  </a:lnTo>
                  <a:lnTo>
                    <a:pt x="854" y="146"/>
                  </a:lnTo>
                  <a:lnTo>
                    <a:pt x="861" y="175"/>
                  </a:lnTo>
                  <a:lnTo>
                    <a:pt x="866" y="209"/>
                  </a:lnTo>
                  <a:lnTo>
                    <a:pt x="871" y="245"/>
                  </a:lnTo>
                  <a:lnTo>
                    <a:pt x="875" y="283"/>
                  </a:lnTo>
                  <a:lnTo>
                    <a:pt x="876" y="325"/>
                  </a:lnTo>
                  <a:lnTo>
                    <a:pt x="877" y="369"/>
                  </a:lnTo>
                  <a:lnTo>
                    <a:pt x="875" y="451"/>
                  </a:lnTo>
                  <a:lnTo>
                    <a:pt x="867" y="552"/>
                  </a:lnTo>
                  <a:lnTo>
                    <a:pt x="857" y="669"/>
                  </a:lnTo>
                  <a:lnTo>
                    <a:pt x="841" y="808"/>
                  </a:lnTo>
                  <a:lnTo>
                    <a:pt x="798" y="1138"/>
                  </a:lnTo>
                  <a:lnTo>
                    <a:pt x="736" y="1541"/>
                  </a:lnTo>
                  <a:lnTo>
                    <a:pt x="1264" y="1546"/>
                  </a:lnTo>
                  <a:lnTo>
                    <a:pt x="1473" y="107"/>
                  </a:lnTo>
                  <a:lnTo>
                    <a:pt x="1502" y="107"/>
                  </a:lnTo>
                  <a:lnTo>
                    <a:pt x="1502" y="107"/>
                  </a:lnTo>
                  <a:lnTo>
                    <a:pt x="1848" y="81"/>
                  </a:lnTo>
                  <a:lnTo>
                    <a:pt x="1644" y="1577"/>
                  </a:lnTo>
                  <a:lnTo>
                    <a:pt x="1513" y="2514"/>
                  </a:lnTo>
                  <a:lnTo>
                    <a:pt x="1502" y="2593"/>
                  </a:lnTo>
                  <a:lnTo>
                    <a:pt x="1502" y="2599"/>
                  </a:lnTo>
                  <a:lnTo>
                    <a:pt x="1480" y="2786"/>
                  </a:lnTo>
                  <a:lnTo>
                    <a:pt x="1471" y="2872"/>
                  </a:lnTo>
                  <a:lnTo>
                    <a:pt x="1469" y="2904"/>
                  </a:lnTo>
                  <a:lnTo>
                    <a:pt x="1468" y="2927"/>
                  </a:lnTo>
                  <a:lnTo>
                    <a:pt x="1468" y="2944"/>
                  </a:lnTo>
                  <a:lnTo>
                    <a:pt x="1469" y="2952"/>
                  </a:lnTo>
                  <a:lnTo>
                    <a:pt x="1469" y="2958"/>
                  </a:lnTo>
                  <a:lnTo>
                    <a:pt x="1470" y="2965"/>
                  </a:lnTo>
                  <a:lnTo>
                    <a:pt x="1471" y="2971"/>
                  </a:lnTo>
                  <a:lnTo>
                    <a:pt x="1472" y="2975"/>
                  </a:lnTo>
                  <a:lnTo>
                    <a:pt x="1473" y="2981"/>
                  </a:lnTo>
                  <a:lnTo>
                    <a:pt x="1475" y="2986"/>
                  </a:lnTo>
                  <a:lnTo>
                    <a:pt x="1477" y="2988"/>
                  </a:lnTo>
                  <a:lnTo>
                    <a:pt x="1479" y="2992"/>
                  </a:lnTo>
                  <a:lnTo>
                    <a:pt x="1481" y="2994"/>
                  </a:lnTo>
                  <a:lnTo>
                    <a:pt x="1483" y="2996"/>
                  </a:lnTo>
                  <a:lnTo>
                    <a:pt x="1485" y="2996"/>
                  </a:lnTo>
                  <a:lnTo>
                    <a:pt x="1487" y="2998"/>
                  </a:lnTo>
                  <a:lnTo>
                    <a:pt x="1490" y="2998"/>
                  </a:lnTo>
                  <a:lnTo>
                    <a:pt x="1494" y="2998"/>
                  </a:lnTo>
                  <a:lnTo>
                    <a:pt x="1499" y="2996"/>
                  </a:lnTo>
                  <a:lnTo>
                    <a:pt x="1502" y="2992"/>
                  </a:lnTo>
                  <a:lnTo>
                    <a:pt x="1502" y="2990"/>
                  </a:lnTo>
                  <a:lnTo>
                    <a:pt x="1509" y="2990"/>
                  </a:lnTo>
                  <a:lnTo>
                    <a:pt x="1522" y="2978"/>
                  </a:lnTo>
                  <a:lnTo>
                    <a:pt x="1536" y="2964"/>
                  </a:lnTo>
                  <a:lnTo>
                    <a:pt x="1569" y="2922"/>
                  </a:lnTo>
                  <a:lnTo>
                    <a:pt x="1611" y="2862"/>
                  </a:lnTo>
                  <a:lnTo>
                    <a:pt x="1714" y="2695"/>
                  </a:lnTo>
                  <a:lnTo>
                    <a:pt x="1846" y="2460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97840" y="2405160"/>
              <a:ext cx="685800" cy="1382760"/>
            </a:xfrm>
            <a:custGeom>
              <a:avLst/>
              <a:gdLst/>
              <a:ahLst/>
              <a:rect l="l" t="t" r="r" b="b"/>
              <a:pathLst>
                <a:path w="1907" h="3842">
                  <a:moveTo>
                    <a:pt x="1451" y="126"/>
                  </a:moveTo>
                  <a:lnTo>
                    <a:pt x="1571" y="90"/>
                  </a:lnTo>
                  <a:lnTo>
                    <a:pt x="1571" y="90"/>
                  </a:lnTo>
                  <a:lnTo>
                    <a:pt x="1805" y="0"/>
                  </a:lnTo>
                  <a:lnTo>
                    <a:pt x="1614" y="1556"/>
                  </a:lnTo>
                  <a:lnTo>
                    <a:pt x="1571" y="1888"/>
                  </a:lnTo>
                  <a:lnTo>
                    <a:pt x="1571" y="1890"/>
                  </a:lnTo>
                  <a:lnTo>
                    <a:pt x="1488" y="2527"/>
                  </a:lnTo>
                  <a:lnTo>
                    <a:pt x="1456" y="2807"/>
                  </a:lnTo>
                  <a:lnTo>
                    <a:pt x="1448" y="2896"/>
                  </a:lnTo>
                  <a:lnTo>
                    <a:pt x="1446" y="2928"/>
                  </a:lnTo>
                  <a:lnTo>
                    <a:pt x="1445" y="2951"/>
                  </a:lnTo>
                  <a:lnTo>
                    <a:pt x="1445" y="2962"/>
                  </a:lnTo>
                  <a:lnTo>
                    <a:pt x="1445" y="2972"/>
                  </a:lnTo>
                  <a:lnTo>
                    <a:pt x="1446" y="2981"/>
                  </a:lnTo>
                  <a:lnTo>
                    <a:pt x="1447" y="2987"/>
                  </a:lnTo>
                  <a:lnTo>
                    <a:pt x="1447" y="2991"/>
                  </a:lnTo>
                  <a:lnTo>
                    <a:pt x="1448" y="2993"/>
                  </a:lnTo>
                  <a:lnTo>
                    <a:pt x="1448" y="2997"/>
                  </a:lnTo>
                  <a:lnTo>
                    <a:pt x="1449" y="2999"/>
                  </a:lnTo>
                  <a:lnTo>
                    <a:pt x="1449" y="3001"/>
                  </a:lnTo>
                  <a:lnTo>
                    <a:pt x="1450" y="3003"/>
                  </a:lnTo>
                  <a:lnTo>
                    <a:pt x="1451" y="3004"/>
                  </a:lnTo>
                  <a:lnTo>
                    <a:pt x="1452" y="3006"/>
                  </a:lnTo>
                  <a:lnTo>
                    <a:pt x="1454" y="3010"/>
                  </a:lnTo>
                  <a:lnTo>
                    <a:pt x="1456" y="3011"/>
                  </a:lnTo>
                  <a:lnTo>
                    <a:pt x="1457" y="3013"/>
                  </a:lnTo>
                  <a:lnTo>
                    <a:pt x="1458" y="3015"/>
                  </a:lnTo>
                  <a:lnTo>
                    <a:pt x="1459" y="3015"/>
                  </a:lnTo>
                  <a:lnTo>
                    <a:pt x="1460" y="3017"/>
                  </a:lnTo>
                  <a:lnTo>
                    <a:pt x="1461" y="3016"/>
                  </a:lnTo>
                  <a:lnTo>
                    <a:pt x="1462" y="3016"/>
                  </a:lnTo>
                  <a:lnTo>
                    <a:pt x="1462" y="3018"/>
                  </a:lnTo>
                  <a:lnTo>
                    <a:pt x="1463" y="3018"/>
                  </a:lnTo>
                  <a:lnTo>
                    <a:pt x="1464" y="3017"/>
                  </a:lnTo>
                  <a:lnTo>
                    <a:pt x="1465" y="3017"/>
                  </a:lnTo>
                  <a:lnTo>
                    <a:pt x="1466" y="3017"/>
                  </a:lnTo>
                  <a:lnTo>
                    <a:pt x="1472" y="3015"/>
                  </a:lnTo>
                  <a:lnTo>
                    <a:pt x="1479" y="3011"/>
                  </a:lnTo>
                  <a:lnTo>
                    <a:pt x="1487" y="3004"/>
                  </a:lnTo>
                  <a:lnTo>
                    <a:pt x="1494" y="2998"/>
                  </a:lnTo>
                  <a:lnTo>
                    <a:pt x="1501" y="2990"/>
                  </a:lnTo>
                  <a:lnTo>
                    <a:pt x="1510" y="2981"/>
                  </a:lnTo>
                  <a:lnTo>
                    <a:pt x="1518" y="2970"/>
                  </a:lnTo>
                  <a:lnTo>
                    <a:pt x="1527" y="2957"/>
                  </a:lnTo>
                  <a:lnTo>
                    <a:pt x="1546" y="2924"/>
                  </a:lnTo>
                  <a:lnTo>
                    <a:pt x="1570" y="2881"/>
                  </a:lnTo>
                  <a:lnTo>
                    <a:pt x="1571" y="2879"/>
                  </a:lnTo>
                  <a:lnTo>
                    <a:pt x="1571" y="2876"/>
                  </a:lnTo>
                  <a:lnTo>
                    <a:pt x="1630" y="2757"/>
                  </a:lnTo>
                  <a:lnTo>
                    <a:pt x="1802" y="2382"/>
                  </a:lnTo>
                  <a:lnTo>
                    <a:pt x="1906" y="2571"/>
                  </a:lnTo>
                  <a:lnTo>
                    <a:pt x="1803" y="2823"/>
                  </a:lnTo>
                  <a:lnTo>
                    <a:pt x="1706" y="3043"/>
                  </a:lnTo>
                  <a:lnTo>
                    <a:pt x="1617" y="3231"/>
                  </a:lnTo>
                  <a:lnTo>
                    <a:pt x="1571" y="3316"/>
                  </a:lnTo>
                  <a:lnTo>
                    <a:pt x="1571" y="3318"/>
                  </a:lnTo>
                  <a:lnTo>
                    <a:pt x="1533" y="3388"/>
                  </a:lnTo>
                  <a:lnTo>
                    <a:pt x="1455" y="3510"/>
                  </a:lnTo>
                  <a:lnTo>
                    <a:pt x="1419" y="3558"/>
                  </a:lnTo>
                  <a:lnTo>
                    <a:pt x="1385" y="3600"/>
                  </a:lnTo>
                  <a:lnTo>
                    <a:pt x="1352" y="3635"/>
                  </a:lnTo>
                  <a:lnTo>
                    <a:pt x="1321" y="3661"/>
                  </a:lnTo>
                  <a:lnTo>
                    <a:pt x="1292" y="3680"/>
                  </a:lnTo>
                  <a:lnTo>
                    <a:pt x="1265" y="3692"/>
                  </a:lnTo>
                  <a:lnTo>
                    <a:pt x="1244" y="3696"/>
                  </a:lnTo>
                  <a:lnTo>
                    <a:pt x="1225" y="3696"/>
                  </a:lnTo>
                  <a:lnTo>
                    <a:pt x="1218" y="3693"/>
                  </a:lnTo>
                  <a:lnTo>
                    <a:pt x="1218" y="3693"/>
                  </a:lnTo>
                  <a:lnTo>
                    <a:pt x="1206" y="3691"/>
                  </a:lnTo>
                  <a:lnTo>
                    <a:pt x="1188" y="3682"/>
                  </a:lnTo>
                  <a:lnTo>
                    <a:pt x="1170" y="3669"/>
                  </a:lnTo>
                  <a:lnTo>
                    <a:pt x="1153" y="3651"/>
                  </a:lnTo>
                  <a:lnTo>
                    <a:pt x="1137" y="3630"/>
                  </a:lnTo>
                  <a:lnTo>
                    <a:pt x="1123" y="3606"/>
                  </a:lnTo>
                  <a:lnTo>
                    <a:pt x="1116" y="3592"/>
                  </a:lnTo>
                  <a:lnTo>
                    <a:pt x="1109" y="3577"/>
                  </a:lnTo>
                  <a:lnTo>
                    <a:pt x="1103" y="3561"/>
                  </a:lnTo>
                  <a:lnTo>
                    <a:pt x="1097" y="3545"/>
                  </a:lnTo>
                  <a:lnTo>
                    <a:pt x="1092" y="3527"/>
                  </a:lnTo>
                  <a:lnTo>
                    <a:pt x="1087" y="3509"/>
                  </a:lnTo>
                  <a:lnTo>
                    <a:pt x="1083" y="3491"/>
                  </a:lnTo>
                  <a:lnTo>
                    <a:pt x="1079" y="3471"/>
                  </a:lnTo>
                  <a:lnTo>
                    <a:pt x="1072" y="3428"/>
                  </a:lnTo>
                  <a:lnTo>
                    <a:pt x="1068" y="3385"/>
                  </a:lnTo>
                  <a:lnTo>
                    <a:pt x="1065" y="3335"/>
                  </a:lnTo>
                  <a:lnTo>
                    <a:pt x="1064" y="3285"/>
                  </a:lnTo>
                  <a:lnTo>
                    <a:pt x="1065" y="3230"/>
                  </a:lnTo>
                  <a:lnTo>
                    <a:pt x="1067" y="3172"/>
                  </a:lnTo>
                  <a:lnTo>
                    <a:pt x="1071" y="3115"/>
                  </a:lnTo>
                  <a:lnTo>
                    <a:pt x="1076" y="3055"/>
                  </a:lnTo>
                  <a:lnTo>
                    <a:pt x="1083" y="2995"/>
                  </a:lnTo>
                  <a:lnTo>
                    <a:pt x="1091" y="2933"/>
                  </a:lnTo>
                  <a:lnTo>
                    <a:pt x="1100" y="2870"/>
                  </a:lnTo>
                  <a:lnTo>
                    <a:pt x="1111" y="2807"/>
                  </a:lnTo>
                  <a:lnTo>
                    <a:pt x="1077" y="2910"/>
                  </a:lnTo>
                  <a:lnTo>
                    <a:pt x="1038" y="3010"/>
                  </a:lnTo>
                  <a:lnTo>
                    <a:pt x="994" y="3108"/>
                  </a:lnTo>
                  <a:lnTo>
                    <a:pt x="945" y="3206"/>
                  </a:lnTo>
                  <a:lnTo>
                    <a:pt x="892" y="3302"/>
                  </a:lnTo>
                  <a:lnTo>
                    <a:pt x="834" y="3394"/>
                  </a:lnTo>
                  <a:lnTo>
                    <a:pt x="770" y="3488"/>
                  </a:lnTo>
                  <a:lnTo>
                    <a:pt x="702" y="3579"/>
                  </a:lnTo>
                  <a:lnTo>
                    <a:pt x="654" y="3638"/>
                  </a:lnTo>
                  <a:lnTo>
                    <a:pt x="608" y="3689"/>
                  </a:lnTo>
                  <a:lnTo>
                    <a:pt x="564" y="3732"/>
                  </a:lnTo>
                  <a:lnTo>
                    <a:pt x="522" y="3770"/>
                  </a:lnTo>
                  <a:lnTo>
                    <a:pt x="480" y="3801"/>
                  </a:lnTo>
                  <a:lnTo>
                    <a:pt x="463" y="3808"/>
                  </a:lnTo>
                  <a:lnTo>
                    <a:pt x="463" y="3810"/>
                  </a:lnTo>
                  <a:lnTo>
                    <a:pt x="440" y="3822"/>
                  </a:lnTo>
                  <a:lnTo>
                    <a:pt x="400" y="3834"/>
                  </a:lnTo>
                  <a:lnTo>
                    <a:pt x="363" y="3841"/>
                  </a:lnTo>
                  <a:lnTo>
                    <a:pt x="341" y="3840"/>
                  </a:lnTo>
                  <a:lnTo>
                    <a:pt x="320" y="3838"/>
                  </a:lnTo>
                  <a:lnTo>
                    <a:pt x="301" y="3829"/>
                  </a:lnTo>
                  <a:lnTo>
                    <a:pt x="281" y="3819"/>
                  </a:lnTo>
                  <a:lnTo>
                    <a:pt x="272" y="3812"/>
                  </a:lnTo>
                  <a:lnTo>
                    <a:pt x="264" y="3804"/>
                  </a:lnTo>
                  <a:lnTo>
                    <a:pt x="255" y="3794"/>
                  </a:lnTo>
                  <a:lnTo>
                    <a:pt x="247" y="3786"/>
                  </a:lnTo>
                  <a:lnTo>
                    <a:pt x="240" y="3774"/>
                  </a:lnTo>
                  <a:lnTo>
                    <a:pt x="232" y="3764"/>
                  </a:lnTo>
                  <a:lnTo>
                    <a:pt x="225" y="3752"/>
                  </a:lnTo>
                  <a:lnTo>
                    <a:pt x="218" y="3738"/>
                  </a:lnTo>
                  <a:lnTo>
                    <a:pt x="211" y="3724"/>
                  </a:lnTo>
                  <a:lnTo>
                    <a:pt x="205" y="3710"/>
                  </a:lnTo>
                  <a:lnTo>
                    <a:pt x="200" y="3693"/>
                  </a:lnTo>
                  <a:lnTo>
                    <a:pt x="194" y="3675"/>
                  </a:lnTo>
                  <a:lnTo>
                    <a:pt x="190" y="3658"/>
                  </a:lnTo>
                  <a:lnTo>
                    <a:pt x="184" y="3640"/>
                  </a:lnTo>
                  <a:lnTo>
                    <a:pt x="180" y="3619"/>
                  </a:lnTo>
                  <a:lnTo>
                    <a:pt x="177" y="3598"/>
                  </a:lnTo>
                  <a:lnTo>
                    <a:pt x="171" y="3552"/>
                  </a:lnTo>
                  <a:lnTo>
                    <a:pt x="166" y="3504"/>
                  </a:lnTo>
                  <a:lnTo>
                    <a:pt x="164" y="3454"/>
                  </a:lnTo>
                  <a:lnTo>
                    <a:pt x="163" y="3397"/>
                  </a:lnTo>
                  <a:lnTo>
                    <a:pt x="163" y="3355"/>
                  </a:lnTo>
                  <a:lnTo>
                    <a:pt x="164" y="3313"/>
                  </a:lnTo>
                  <a:lnTo>
                    <a:pt x="168" y="3226"/>
                  </a:lnTo>
                  <a:lnTo>
                    <a:pt x="174" y="3138"/>
                  </a:lnTo>
                  <a:lnTo>
                    <a:pt x="183" y="3047"/>
                  </a:lnTo>
                  <a:lnTo>
                    <a:pt x="204" y="2887"/>
                  </a:lnTo>
                  <a:lnTo>
                    <a:pt x="234" y="2664"/>
                  </a:lnTo>
                  <a:lnTo>
                    <a:pt x="326" y="2033"/>
                  </a:lnTo>
                  <a:lnTo>
                    <a:pt x="388" y="1606"/>
                  </a:lnTo>
                  <a:lnTo>
                    <a:pt x="433" y="1274"/>
                  </a:lnTo>
                  <a:lnTo>
                    <a:pt x="460" y="1041"/>
                  </a:lnTo>
                  <a:lnTo>
                    <a:pt x="463" y="999"/>
                  </a:lnTo>
                  <a:lnTo>
                    <a:pt x="463" y="992"/>
                  </a:lnTo>
                  <a:lnTo>
                    <a:pt x="467" y="960"/>
                  </a:lnTo>
                  <a:lnTo>
                    <a:pt x="468" y="930"/>
                  </a:lnTo>
                  <a:lnTo>
                    <a:pt x="469" y="905"/>
                  </a:lnTo>
                  <a:lnTo>
                    <a:pt x="469" y="899"/>
                  </a:lnTo>
                  <a:lnTo>
                    <a:pt x="469" y="892"/>
                  </a:lnTo>
                  <a:lnTo>
                    <a:pt x="468" y="888"/>
                  </a:lnTo>
                  <a:lnTo>
                    <a:pt x="468" y="886"/>
                  </a:lnTo>
                  <a:lnTo>
                    <a:pt x="468" y="884"/>
                  </a:lnTo>
                  <a:lnTo>
                    <a:pt x="467" y="882"/>
                  </a:lnTo>
                  <a:lnTo>
                    <a:pt x="467" y="880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5" y="876"/>
                  </a:lnTo>
                  <a:lnTo>
                    <a:pt x="465" y="876"/>
                  </a:lnTo>
                  <a:lnTo>
                    <a:pt x="465" y="876"/>
                  </a:lnTo>
                  <a:lnTo>
                    <a:pt x="465" y="876"/>
                  </a:lnTo>
                  <a:lnTo>
                    <a:pt x="464" y="876"/>
                  </a:lnTo>
                  <a:lnTo>
                    <a:pt x="464" y="876"/>
                  </a:lnTo>
                  <a:lnTo>
                    <a:pt x="463" y="877"/>
                  </a:lnTo>
                  <a:lnTo>
                    <a:pt x="463" y="877"/>
                  </a:lnTo>
                  <a:lnTo>
                    <a:pt x="460" y="877"/>
                  </a:lnTo>
                  <a:lnTo>
                    <a:pt x="457" y="879"/>
                  </a:lnTo>
                  <a:lnTo>
                    <a:pt x="448" y="882"/>
                  </a:lnTo>
                  <a:lnTo>
                    <a:pt x="439" y="889"/>
                  </a:lnTo>
                  <a:lnTo>
                    <a:pt x="429" y="896"/>
                  </a:lnTo>
                  <a:lnTo>
                    <a:pt x="417" y="905"/>
                  </a:lnTo>
                  <a:lnTo>
                    <a:pt x="404" y="919"/>
                  </a:lnTo>
                  <a:lnTo>
                    <a:pt x="376" y="948"/>
                  </a:lnTo>
                  <a:lnTo>
                    <a:pt x="359" y="971"/>
                  </a:lnTo>
                  <a:lnTo>
                    <a:pt x="339" y="997"/>
                  </a:lnTo>
                  <a:lnTo>
                    <a:pt x="286" y="1077"/>
                  </a:lnTo>
                  <a:lnTo>
                    <a:pt x="218" y="1185"/>
                  </a:lnTo>
                  <a:lnTo>
                    <a:pt x="135" y="1324"/>
                  </a:lnTo>
                  <a:lnTo>
                    <a:pt x="0" y="1121"/>
                  </a:lnTo>
                  <a:lnTo>
                    <a:pt x="143" y="863"/>
                  </a:lnTo>
                  <a:lnTo>
                    <a:pt x="267" y="656"/>
                  </a:lnTo>
                  <a:lnTo>
                    <a:pt x="323" y="570"/>
                  </a:lnTo>
                  <a:lnTo>
                    <a:pt x="373" y="496"/>
                  </a:lnTo>
                  <a:lnTo>
                    <a:pt x="420" y="436"/>
                  </a:lnTo>
                  <a:lnTo>
                    <a:pt x="462" y="389"/>
                  </a:lnTo>
                  <a:lnTo>
                    <a:pt x="463" y="387"/>
                  </a:lnTo>
                  <a:lnTo>
                    <a:pt x="463" y="385"/>
                  </a:lnTo>
                  <a:lnTo>
                    <a:pt x="500" y="346"/>
                  </a:lnTo>
                  <a:lnTo>
                    <a:pt x="536" y="308"/>
                  </a:lnTo>
                  <a:lnTo>
                    <a:pt x="570" y="274"/>
                  </a:lnTo>
                  <a:lnTo>
                    <a:pt x="603" y="247"/>
                  </a:lnTo>
                  <a:lnTo>
                    <a:pt x="634" y="222"/>
                  </a:lnTo>
                  <a:lnTo>
                    <a:pt x="663" y="207"/>
                  </a:lnTo>
                  <a:lnTo>
                    <a:pt x="690" y="193"/>
                  </a:lnTo>
                  <a:lnTo>
                    <a:pt x="716" y="186"/>
                  </a:lnTo>
                  <a:lnTo>
                    <a:pt x="733" y="185"/>
                  </a:lnTo>
                  <a:lnTo>
                    <a:pt x="747" y="187"/>
                  </a:lnTo>
                  <a:lnTo>
                    <a:pt x="763" y="190"/>
                  </a:lnTo>
                  <a:lnTo>
                    <a:pt x="770" y="195"/>
                  </a:lnTo>
                  <a:lnTo>
                    <a:pt x="777" y="198"/>
                  </a:lnTo>
                  <a:lnTo>
                    <a:pt x="784" y="203"/>
                  </a:lnTo>
                  <a:lnTo>
                    <a:pt x="791" y="210"/>
                  </a:lnTo>
                  <a:lnTo>
                    <a:pt x="797" y="215"/>
                  </a:lnTo>
                  <a:lnTo>
                    <a:pt x="804" y="222"/>
                  </a:lnTo>
                  <a:lnTo>
                    <a:pt x="810" y="232"/>
                  </a:lnTo>
                  <a:lnTo>
                    <a:pt x="816" y="239"/>
                  </a:lnTo>
                  <a:lnTo>
                    <a:pt x="821" y="251"/>
                  </a:lnTo>
                  <a:lnTo>
                    <a:pt x="827" y="260"/>
                  </a:lnTo>
                  <a:lnTo>
                    <a:pt x="832" y="272"/>
                  </a:lnTo>
                  <a:lnTo>
                    <a:pt x="837" y="284"/>
                  </a:lnTo>
                  <a:lnTo>
                    <a:pt x="842" y="295"/>
                  </a:lnTo>
                  <a:lnTo>
                    <a:pt x="846" y="309"/>
                  </a:lnTo>
                  <a:lnTo>
                    <a:pt x="850" y="323"/>
                  </a:lnTo>
                  <a:lnTo>
                    <a:pt x="853" y="338"/>
                  </a:lnTo>
                  <a:lnTo>
                    <a:pt x="857" y="354"/>
                  </a:lnTo>
                  <a:lnTo>
                    <a:pt x="859" y="370"/>
                  </a:lnTo>
                  <a:lnTo>
                    <a:pt x="864" y="403"/>
                  </a:lnTo>
                  <a:lnTo>
                    <a:pt x="867" y="440"/>
                  </a:lnTo>
                  <a:lnTo>
                    <a:pt x="869" y="480"/>
                  </a:lnTo>
                  <a:lnTo>
                    <a:pt x="870" y="522"/>
                  </a:lnTo>
                  <a:lnTo>
                    <a:pt x="869" y="560"/>
                  </a:lnTo>
                  <a:lnTo>
                    <a:pt x="868" y="606"/>
                  </a:lnTo>
                  <a:lnTo>
                    <a:pt x="860" y="715"/>
                  </a:lnTo>
                  <a:lnTo>
                    <a:pt x="848" y="849"/>
                  </a:lnTo>
                  <a:lnTo>
                    <a:pt x="832" y="1012"/>
                  </a:lnTo>
                  <a:lnTo>
                    <a:pt x="783" y="1410"/>
                  </a:lnTo>
                  <a:lnTo>
                    <a:pt x="716" y="1913"/>
                  </a:lnTo>
                  <a:lnTo>
                    <a:pt x="616" y="2671"/>
                  </a:lnTo>
                  <a:lnTo>
                    <a:pt x="590" y="2893"/>
                  </a:lnTo>
                  <a:lnTo>
                    <a:pt x="584" y="2963"/>
                  </a:lnTo>
                  <a:lnTo>
                    <a:pt x="583" y="2989"/>
                  </a:lnTo>
                  <a:lnTo>
                    <a:pt x="582" y="3008"/>
                  </a:lnTo>
                  <a:lnTo>
                    <a:pt x="582" y="3020"/>
                  </a:lnTo>
                  <a:lnTo>
                    <a:pt x="583" y="3033"/>
                  </a:lnTo>
                  <a:lnTo>
                    <a:pt x="584" y="3037"/>
                  </a:lnTo>
                  <a:lnTo>
                    <a:pt x="584" y="3043"/>
                  </a:lnTo>
                  <a:lnTo>
                    <a:pt x="585" y="3049"/>
                  </a:lnTo>
                  <a:lnTo>
                    <a:pt x="586" y="3053"/>
                  </a:lnTo>
                  <a:lnTo>
                    <a:pt x="588" y="3059"/>
                  </a:lnTo>
                  <a:lnTo>
                    <a:pt x="589" y="3063"/>
                  </a:lnTo>
                  <a:lnTo>
                    <a:pt x="592" y="3073"/>
                  </a:lnTo>
                  <a:lnTo>
                    <a:pt x="595" y="3083"/>
                  </a:lnTo>
                  <a:lnTo>
                    <a:pt x="599" y="3091"/>
                  </a:lnTo>
                  <a:lnTo>
                    <a:pt x="603" y="3099"/>
                  </a:lnTo>
                  <a:lnTo>
                    <a:pt x="607" y="3104"/>
                  </a:lnTo>
                  <a:lnTo>
                    <a:pt x="612" y="3110"/>
                  </a:lnTo>
                  <a:lnTo>
                    <a:pt x="616" y="3113"/>
                  </a:lnTo>
                  <a:lnTo>
                    <a:pt x="618" y="3115"/>
                  </a:lnTo>
                  <a:lnTo>
                    <a:pt x="621" y="3116"/>
                  </a:lnTo>
                  <a:lnTo>
                    <a:pt x="623" y="3118"/>
                  </a:lnTo>
                  <a:lnTo>
                    <a:pt x="625" y="3118"/>
                  </a:lnTo>
                  <a:lnTo>
                    <a:pt x="627" y="3117"/>
                  </a:lnTo>
                  <a:lnTo>
                    <a:pt x="630" y="3119"/>
                  </a:lnTo>
                  <a:lnTo>
                    <a:pt x="632" y="3119"/>
                  </a:lnTo>
                  <a:lnTo>
                    <a:pt x="634" y="3118"/>
                  </a:lnTo>
                  <a:lnTo>
                    <a:pt x="648" y="3113"/>
                  </a:lnTo>
                  <a:lnTo>
                    <a:pt x="662" y="3107"/>
                  </a:lnTo>
                  <a:lnTo>
                    <a:pt x="677" y="3098"/>
                  </a:lnTo>
                  <a:lnTo>
                    <a:pt x="693" y="3086"/>
                  </a:lnTo>
                  <a:lnTo>
                    <a:pt x="710" y="3070"/>
                  </a:lnTo>
                  <a:lnTo>
                    <a:pt x="727" y="3053"/>
                  </a:lnTo>
                  <a:lnTo>
                    <a:pt x="764" y="3008"/>
                  </a:lnTo>
                  <a:lnTo>
                    <a:pt x="805" y="2950"/>
                  </a:lnTo>
                  <a:lnTo>
                    <a:pt x="849" y="2883"/>
                  </a:lnTo>
                  <a:lnTo>
                    <a:pt x="896" y="2803"/>
                  </a:lnTo>
                  <a:lnTo>
                    <a:pt x="946" y="2711"/>
                  </a:lnTo>
                  <a:lnTo>
                    <a:pt x="996" y="2614"/>
                  </a:lnTo>
                  <a:lnTo>
                    <a:pt x="1041" y="2515"/>
                  </a:lnTo>
                  <a:lnTo>
                    <a:pt x="1082" y="2413"/>
                  </a:lnTo>
                  <a:lnTo>
                    <a:pt x="1119" y="2309"/>
                  </a:lnTo>
                  <a:lnTo>
                    <a:pt x="1149" y="2202"/>
                  </a:lnTo>
                  <a:lnTo>
                    <a:pt x="1177" y="2094"/>
                  </a:lnTo>
                  <a:lnTo>
                    <a:pt x="1200" y="1985"/>
                  </a:lnTo>
                  <a:lnTo>
                    <a:pt x="1218" y="1872"/>
                  </a:lnTo>
                  <a:lnTo>
                    <a:pt x="1218" y="1868"/>
                  </a:lnTo>
                  <a:lnTo>
                    <a:pt x="1218" y="1864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f6f6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Тайна имени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9348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6f60a"/>
                </a:solidFill>
                <a:latin typeface="Tahoma"/>
              </a:rPr>
              <a:t>МОУ Казанская СО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2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22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23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400"/>
                            </p:stCondLst>
                            <p:childTnLst>
                              <p:par>
                                <p:cTn id="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260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47640" y="197928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GB" sz="4400" spc="-1" strike="noStrike">
                <a:solidFill>
                  <a:srgbClr val="0000ff"/>
                </a:solidFill>
                <a:latin typeface="Georgia"/>
              </a:rPr>
              <a:t>целеустремлённость</a:t>
            </a:r>
            <a:endParaRPr b="0" lang="en-US" sz="44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13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GB" sz="4400" spc="-1" strike="noStrike">
                <a:solidFill>
                  <a:srgbClr val="0000ff"/>
                </a:solidFill>
                <a:latin typeface="Georgia"/>
              </a:rPr>
              <a:t>работоспособность</a:t>
            </a:r>
            <a:endParaRPr b="0" lang="en-US" sz="44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13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GB" sz="4400" spc="-1" strike="noStrike">
                <a:solidFill>
                  <a:srgbClr val="0000ff"/>
                </a:solidFill>
                <a:latin typeface="Georgia"/>
              </a:rPr>
              <a:t>эмоциональность</a:t>
            </a:r>
            <a:endParaRPr b="0" lang="en-US" sz="44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7272360" y="2340000"/>
            <a:ext cx="23907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0" y="0"/>
            <a:ext cx="8782200" cy="1913040"/>
            <a:chOff x="0" y="0"/>
            <a:chExt cx="8782200" cy="1913040"/>
          </a:xfrm>
        </p:grpSpPr>
        <p:sp>
          <p:nvSpPr>
            <p:cNvPr id="750" name=""/>
            <p:cNvSpPr/>
            <p:nvPr/>
          </p:nvSpPr>
          <p:spPr>
            <a:xfrm>
              <a:off x="3930480" y="466560"/>
              <a:ext cx="516240" cy="598680"/>
            </a:xfrm>
            <a:custGeom>
              <a:avLst/>
              <a:gdLst/>
              <a:ahLst/>
              <a:rect l="l" t="t" r="r" b="b"/>
              <a:pathLst>
                <a:path w="1432" h="1664">
                  <a:moveTo>
                    <a:pt x="1347" y="3"/>
                  </a:moveTo>
                  <a:lnTo>
                    <a:pt x="1339" y="73"/>
                  </a:lnTo>
                  <a:lnTo>
                    <a:pt x="1298" y="85"/>
                  </a:lnTo>
                  <a:lnTo>
                    <a:pt x="1262" y="99"/>
                  </a:lnTo>
                  <a:lnTo>
                    <a:pt x="1245" y="105"/>
                  </a:lnTo>
                  <a:lnTo>
                    <a:pt x="1230" y="112"/>
                  </a:lnTo>
                  <a:lnTo>
                    <a:pt x="1216" y="121"/>
                  </a:lnTo>
                  <a:lnTo>
                    <a:pt x="1204" y="128"/>
                  </a:lnTo>
                  <a:lnTo>
                    <a:pt x="1191" y="136"/>
                  </a:lnTo>
                  <a:lnTo>
                    <a:pt x="1177" y="147"/>
                  </a:lnTo>
                  <a:lnTo>
                    <a:pt x="1147" y="172"/>
                  </a:lnTo>
                  <a:lnTo>
                    <a:pt x="1111" y="205"/>
                  </a:lnTo>
                  <a:lnTo>
                    <a:pt x="1071" y="243"/>
                  </a:lnTo>
                  <a:lnTo>
                    <a:pt x="960" y="349"/>
                  </a:lnTo>
                  <a:lnTo>
                    <a:pt x="858" y="441"/>
                  </a:lnTo>
                  <a:lnTo>
                    <a:pt x="764" y="518"/>
                  </a:lnTo>
                  <a:lnTo>
                    <a:pt x="721" y="550"/>
                  </a:lnTo>
                  <a:lnTo>
                    <a:pt x="680" y="579"/>
                  </a:lnTo>
                  <a:lnTo>
                    <a:pt x="692" y="592"/>
                  </a:lnTo>
                  <a:lnTo>
                    <a:pt x="703" y="606"/>
                  </a:lnTo>
                  <a:lnTo>
                    <a:pt x="714" y="622"/>
                  </a:lnTo>
                  <a:lnTo>
                    <a:pt x="724" y="639"/>
                  </a:lnTo>
                  <a:lnTo>
                    <a:pt x="734" y="657"/>
                  </a:lnTo>
                  <a:lnTo>
                    <a:pt x="743" y="675"/>
                  </a:lnTo>
                  <a:lnTo>
                    <a:pt x="753" y="695"/>
                  </a:lnTo>
                  <a:lnTo>
                    <a:pt x="761" y="716"/>
                  </a:lnTo>
                  <a:lnTo>
                    <a:pt x="771" y="741"/>
                  </a:lnTo>
                  <a:lnTo>
                    <a:pt x="782" y="772"/>
                  </a:lnTo>
                  <a:lnTo>
                    <a:pt x="809" y="856"/>
                  </a:lnTo>
                  <a:lnTo>
                    <a:pt x="882" y="1108"/>
                  </a:lnTo>
                  <a:lnTo>
                    <a:pt x="920" y="1230"/>
                  </a:lnTo>
                  <a:lnTo>
                    <a:pt x="939" y="1283"/>
                  </a:lnTo>
                  <a:lnTo>
                    <a:pt x="958" y="1331"/>
                  </a:lnTo>
                  <a:lnTo>
                    <a:pt x="976" y="1373"/>
                  </a:lnTo>
                  <a:lnTo>
                    <a:pt x="995" y="1410"/>
                  </a:lnTo>
                  <a:lnTo>
                    <a:pt x="1014" y="1441"/>
                  </a:lnTo>
                  <a:lnTo>
                    <a:pt x="1023" y="1454"/>
                  </a:lnTo>
                  <a:lnTo>
                    <a:pt x="1033" y="1466"/>
                  </a:lnTo>
                  <a:lnTo>
                    <a:pt x="1052" y="1487"/>
                  </a:lnTo>
                  <a:lnTo>
                    <a:pt x="1070" y="1505"/>
                  </a:lnTo>
                  <a:lnTo>
                    <a:pt x="1089" y="1520"/>
                  </a:lnTo>
                  <a:lnTo>
                    <a:pt x="1107" y="1532"/>
                  </a:lnTo>
                  <a:lnTo>
                    <a:pt x="1116" y="1537"/>
                  </a:lnTo>
                  <a:lnTo>
                    <a:pt x="1125" y="1542"/>
                  </a:lnTo>
                  <a:lnTo>
                    <a:pt x="1134" y="1545"/>
                  </a:lnTo>
                  <a:lnTo>
                    <a:pt x="1144" y="1548"/>
                  </a:lnTo>
                  <a:lnTo>
                    <a:pt x="1153" y="1550"/>
                  </a:lnTo>
                  <a:lnTo>
                    <a:pt x="1161" y="1553"/>
                  </a:lnTo>
                  <a:lnTo>
                    <a:pt x="1171" y="1554"/>
                  </a:lnTo>
                  <a:lnTo>
                    <a:pt x="1180" y="1554"/>
                  </a:lnTo>
                  <a:lnTo>
                    <a:pt x="1189" y="1554"/>
                  </a:lnTo>
                  <a:lnTo>
                    <a:pt x="1196" y="1553"/>
                  </a:lnTo>
                  <a:lnTo>
                    <a:pt x="1204" y="1551"/>
                  </a:lnTo>
                  <a:lnTo>
                    <a:pt x="1210" y="1549"/>
                  </a:lnTo>
                  <a:lnTo>
                    <a:pt x="1217" y="1547"/>
                  </a:lnTo>
                  <a:lnTo>
                    <a:pt x="1224" y="1543"/>
                  </a:lnTo>
                  <a:lnTo>
                    <a:pt x="1229" y="1538"/>
                  </a:lnTo>
                  <a:lnTo>
                    <a:pt x="1235" y="1533"/>
                  </a:lnTo>
                  <a:lnTo>
                    <a:pt x="1241" y="1529"/>
                  </a:lnTo>
                  <a:lnTo>
                    <a:pt x="1246" y="1523"/>
                  </a:lnTo>
                  <a:lnTo>
                    <a:pt x="1250" y="1515"/>
                  </a:lnTo>
                  <a:lnTo>
                    <a:pt x="1254" y="1508"/>
                  </a:lnTo>
                  <a:lnTo>
                    <a:pt x="1259" y="1501"/>
                  </a:lnTo>
                  <a:lnTo>
                    <a:pt x="1263" y="1493"/>
                  </a:lnTo>
                  <a:lnTo>
                    <a:pt x="1266" y="1483"/>
                  </a:lnTo>
                  <a:lnTo>
                    <a:pt x="1269" y="1473"/>
                  </a:lnTo>
                  <a:lnTo>
                    <a:pt x="1279" y="1446"/>
                  </a:lnTo>
                  <a:lnTo>
                    <a:pt x="1283" y="1434"/>
                  </a:lnTo>
                  <a:lnTo>
                    <a:pt x="1287" y="1423"/>
                  </a:lnTo>
                  <a:lnTo>
                    <a:pt x="1291" y="1414"/>
                  </a:lnTo>
                  <a:lnTo>
                    <a:pt x="1296" y="1406"/>
                  </a:lnTo>
                  <a:lnTo>
                    <a:pt x="1300" y="1399"/>
                  </a:lnTo>
                  <a:lnTo>
                    <a:pt x="1302" y="1397"/>
                  </a:lnTo>
                  <a:lnTo>
                    <a:pt x="1304" y="1394"/>
                  </a:lnTo>
                  <a:lnTo>
                    <a:pt x="1309" y="1388"/>
                  </a:lnTo>
                  <a:lnTo>
                    <a:pt x="1316" y="1385"/>
                  </a:lnTo>
                  <a:lnTo>
                    <a:pt x="1322" y="1380"/>
                  </a:lnTo>
                  <a:lnTo>
                    <a:pt x="1328" y="1378"/>
                  </a:lnTo>
                  <a:lnTo>
                    <a:pt x="1335" y="1375"/>
                  </a:lnTo>
                  <a:lnTo>
                    <a:pt x="1342" y="1373"/>
                  </a:lnTo>
                  <a:lnTo>
                    <a:pt x="1348" y="1372"/>
                  </a:lnTo>
                  <a:lnTo>
                    <a:pt x="1356" y="1372"/>
                  </a:lnTo>
                  <a:lnTo>
                    <a:pt x="1363" y="1372"/>
                  </a:lnTo>
                  <a:lnTo>
                    <a:pt x="1371" y="1373"/>
                  </a:lnTo>
                  <a:lnTo>
                    <a:pt x="1377" y="1375"/>
                  </a:lnTo>
                  <a:lnTo>
                    <a:pt x="1384" y="1378"/>
                  </a:lnTo>
                  <a:lnTo>
                    <a:pt x="1391" y="1381"/>
                  </a:lnTo>
                  <a:lnTo>
                    <a:pt x="1397" y="1385"/>
                  </a:lnTo>
                  <a:lnTo>
                    <a:pt x="1403" y="1390"/>
                  </a:lnTo>
                  <a:lnTo>
                    <a:pt x="1409" y="1396"/>
                  </a:lnTo>
                  <a:lnTo>
                    <a:pt x="1414" y="1402"/>
                  </a:lnTo>
                  <a:lnTo>
                    <a:pt x="1418" y="1409"/>
                  </a:lnTo>
                  <a:lnTo>
                    <a:pt x="1422" y="1416"/>
                  </a:lnTo>
                  <a:lnTo>
                    <a:pt x="1423" y="1420"/>
                  </a:lnTo>
                  <a:lnTo>
                    <a:pt x="1425" y="1423"/>
                  </a:lnTo>
                  <a:lnTo>
                    <a:pt x="1427" y="1427"/>
                  </a:lnTo>
                  <a:lnTo>
                    <a:pt x="1428" y="1430"/>
                  </a:lnTo>
                  <a:lnTo>
                    <a:pt x="1429" y="1434"/>
                  </a:lnTo>
                  <a:lnTo>
                    <a:pt x="1430" y="1438"/>
                  </a:lnTo>
                  <a:lnTo>
                    <a:pt x="1430" y="1442"/>
                  </a:lnTo>
                  <a:lnTo>
                    <a:pt x="1431" y="1446"/>
                  </a:lnTo>
                  <a:lnTo>
                    <a:pt x="1431" y="1454"/>
                  </a:lnTo>
                  <a:lnTo>
                    <a:pt x="1431" y="1464"/>
                  </a:lnTo>
                  <a:lnTo>
                    <a:pt x="1430" y="1473"/>
                  </a:lnTo>
                  <a:lnTo>
                    <a:pt x="1429" y="1482"/>
                  </a:lnTo>
                  <a:lnTo>
                    <a:pt x="1427" y="1491"/>
                  </a:lnTo>
                  <a:lnTo>
                    <a:pt x="1423" y="1501"/>
                  </a:lnTo>
                  <a:lnTo>
                    <a:pt x="1420" y="1509"/>
                  </a:lnTo>
                  <a:lnTo>
                    <a:pt x="1417" y="1519"/>
                  </a:lnTo>
                  <a:lnTo>
                    <a:pt x="1413" y="1527"/>
                  </a:lnTo>
                  <a:lnTo>
                    <a:pt x="1408" y="1537"/>
                  </a:lnTo>
                  <a:lnTo>
                    <a:pt x="1402" y="1545"/>
                  </a:lnTo>
                  <a:lnTo>
                    <a:pt x="1390" y="1563"/>
                  </a:lnTo>
                  <a:lnTo>
                    <a:pt x="1375" y="1580"/>
                  </a:lnTo>
                  <a:lnTo>
                    <a:pt x="1357" y="1597"/>
                  </a:lnTo>
                  <a:lnTo>
                    <a:pt x="1338" y="1613"/>
                  </a:lnTo>
                  <a:lnTo>
                    <a:pt x="1318" y="1626"/>
                  </a:lnTo>
                  <a:lnTo>
                    <a:pt x="1296" y="1638"/>
                  </a:lnTo>
                  <a:lnTo>
                    <a:pt x="1273" y="1646"/>
                  </a:lnTo>
                  <a:lnTo>
                    <a:pt x="1250" y="1653"/>
                  </a:lnTo>
                  <a:lnTo>
                    <a:pt x="1225" y="1659"/>
                  </a:lnTo>
                  <a:lnTo>
                    <a:pt x="1199" y="1662"/>
                  </a:lnTo>
                  <a:lnTo>
                    <a:pt x="1172" y="1663"/>
                  </a:lnTo>
                  <a:lnTo>
                    <a:pt x="1148" y="1662"/>
                  </a:lnTo>
                  <a:lnTo>
                    <a:pt x="1125" y="1659"/>
                  </a:lnTo>
                  <a:lnTo>
                    <a:pt x="1101" y="1656"/>
                  </a:lnTo>
                  <a:lnTo>
                    <a:pt x="1079" y="1650"/>
                  </a:lnTo>
                  <a:lnTo>
                    <a:pt x="1057" y="1641"/>
                  </a:lnTo>
                  <a:lnTo>
                    <a:pt x="1035" y="1632"/>
                  </a:lnTo>
                  <a:lnTo>
                    <a:pt x="1013" y="1621"/>
                  </a:lnTo>
                  <a:lnTo>
                    <a:pt x="991" y="1608"/>
                  </a:lnTo>
                  <a:lnTo>
                    <a:pt x="970" y="1593"/>
                  </a:lnTo>
                  <a:lnTo>
                    <a:pt x="950" y="1577"/>
                  </a:lnTo>
                  <a:lnTo>
                    <a:pt x="930" y="1559"/>
                  </a:lnTo>
                  <a:lnTo>
                    <a:pt x="911" y="1538"/>
                  </a:lnTo>
                  <a:lnTo>
                    <a:pt x="892" y="1517"/>
                  </a:lnTo>
                  <a:lnTo>
                    <a:pt x="873" y="1493"/>
                  </a:lnTo>
                  <a:lnTo>
                    <a:pt x="855" y="1466"/>
                  </a:lnTo>
                  <a:lnTo>
                    <a:pt x="838" y="1439"/>
                  </a:lnTo>
                  <a:lnTo>
                    <a:pt x="821" y="1409"/>
                  </a:lnTo>
                  <a:lnTo>
                    <a:pt x="804" y="1374"/>
                  </a:lnTo>
                  <a:lnTo>
                    <a:pt x="787" y="1336"/>
                  </a:lnTo>
                  <a:lnTo>
                    <a:pt x="769" y="1295"/>
                  </a:lnTo>
                  <a:lnTo>
                    <a:pt x="734" y="1199"/>
                  </a:lnTo>
                  <a:lnTo>
                    <a:pt x="699" y="1089"/>
                  </a:lnTo>
                  <a:lnTo>
                    <a:pt x="642" y="905"/>
                  </a:lnTo>
                  <a:lnTo>
                    <a:pt x="619" y="839"/>
                  </a:lnTo>
                  <a:lnTo>
                    <a:pt x="600" y="790"/>
                  </a:lnTo>
                  <a:lnTo>
                    <a:pt x="529" y="629"/>
                  </a:lnTo>
                  <a:lnTo>
                    <a:pt x="437" y="1050"/>
                  </a:lnTo>
                  <a:lnTo>
                    <a:pt x="399" y="1222"/>
                  </a:lnTo>
                  <a:lnTo>
                    <a:pt x="412" y="1226"/>
                  </a:lnTo>
                  <a:lnTo>
                    <a:pt x="423" y="1231"/>
                  </a:lnTo>
                  <a:lnTo>
                    <a:pt x="436" y="1235"/>
                  </a:lnTo>
                  <a:lnTo>
                    <a:pt x="448" y="1238"/>
                  </a:lnTo>
                  <a:lnTo>
                    <a:pt x="460" y="1241"/>
                  </a:lnTo>
                  <a:lnTo>
                    <a:pt x="472" y="1243"/>
                  </a:lnTo>
                  <a:lnTo>
                    <a:pt x="485" y="1244"/>
                  </a:lnTo>
                  <a:lnTo>
                    <a:pt x="496" y="1244"/>
                  </a:lnTo>
                  <a:lnTo>
                    <a:pt x="505" y="1244"/>
                  </a:lnTo>
                  <a:lnTo>
                    <a:pt x="517" y="1243"/>
                  </a:lnTo>
                  <a:lnTo>
                    <a:pt x="552" y="1241"/>
                  </a:lnTo>
                  <a:lnTo>
                    <a:pt x="534" y="1339"/>
                  </a:lnTo>
                  <a:lnTo>
                    <a:pt x="508" y="1340"/>
                  </a:lnTo>
                  <a:lnTo>
                    <a:pt x="499" y="1342"/>
                  </a:lnTo>
                  <a:lnTo>
                    <a:pt x="495" y="1342"/>
                  </a:lnTo>
                  <a:lnTo>
                    <a:pt x="477" y="1342"/>
                  </a:lnTo>
                  <a:lnTo>
                    <a:pt x="456" y="1339"/>
                  </a:lnTo>
                  <a:lnTo>
                    <a:pt x="431" y="1337"/>
                  </a:lnTo>
                  <a:lnTo>
                    <a:pt x="403" y="1333"/>
                  </a:lnTo>
                  <a:lnTo>
                    <a:pt x="375" y="1330"/>
                  </a:lnTo>
                  <a:lnTo>
                    <a:pt x="348" y="1328"/>
                  </a:lnTo>
                  <a:lnTo>
                    <a:pt x="326" y="1326"/>
                  </a:lnTo>
                  <a:lnTo>
                    <a:pt x="306" y="1326"/>
                  </a:lnTo>
                  <a:lnTo>
                    <a:pt x="285" y="1326"/>
                  </a:lnTo>
                  <a:lnTo>
                    <a:pt x="261" y="1328"/>
                  </a:lnTo>
                  <a:lnTo>
                    <a:pt x="201" y="1334"/>
                  </a:lnTo>
                  <a:lnTo>
                    <a:pt x="126" y="1345"/>
                  </a:lnTo>
                  <a:lnTo>
                    <a:pt x="36" y="1360"/>
                  </a:lnTo>
                  <a:lnTo>
                    <a:pt x="43" y="1267"/>
                  </a:lnTo>
                  <a:lnTo>
                    <a:pt x="67" y="1261"/>
                  </a:lnTo>
                  <a:lnTo>
                    <a:pt x="89" y="1255"/>
                  </a:lnTo>
                  <a:lnTo>
                    <a:pt x="109" y="1249"/>
                  </a:lnTo>
                  <a:lnTo>
                    <a:pt x="127" y="1243"/>
                  </a:lnTo>
                  <a:lnTo>
                    <a:pt x="142" y="1236"/>
                  </a:lnTo>
                  <a:lnTo>
                    <a:pt x="155" y="1229"/>
                  </a:lnTo>
                  <a:lnTo>
                    <a:pt x="167" y="1222"/>
                  </a:lnTo>
                  <a:lnTo>
                    <a:pt x="172" y="1217"/>
                  </a:lnTo>
                  <a:lnTo>
                    <a:pt x="176" y="1213"/>
                  </a:lnTo>
                  <a:lnTo>
                    <a:pt x="184" y="1205"/>
                  </a:lnTo>
                  <a:lnTo>
                    <a:pt x="191" y="1194"/>
                  </a:lnTo>
                  <a:lnTo>
                    <a:pt x="198" y="1183"/>
                  </a:lnTo>
                  <a:lnTo>
                    <a:pt x="206" y="1171"/>
                  </a:lnTo>
                  <a:lnTo>
                    <a:pt x="212" y="1157"/>
                  </a:lnTo>
                  <a:lnTo>
                    <a:pt x="218" y="1142"/>
                  </a:lnTo>
                  <a:lnTo>
                    <a:pt x="224" y="1126"/>
                  </a:lnTo>
                  <a:lnTo>
                    <a:pt x="229" y="1109"/>
                  </a:lnTo>
                  <a:lnTo>
                    <a:pt x="360" y="582"/>
                  </a:lnTo>
                  <a:lnTo>
                    <a:pt x="476" y="110"/>
                  </a:lnTo>
                  <a:lnTo>
                    <a:pt x="436" y="115"/>
                  </a:lnTo>
                  <a:lnTo>
                    <a:pt x="398" y="121"/>
                  </a:lnTo>
                  <a:lnTo>
                    <a:pt x="360" y="129"/>
                  </a:lnTo>
                  <a:lnTo>
                    <a:pt x="323" y="141"/>
                  </a:lnTo>
                  <a:lnTo>
                    <a:pt x="288" y="154"/>
                  </a:lnTo>
                  <a:lnTo>
                    <a:pt x="253" y="170"/>
                  </a:lnTo>
                  <a:lnTo>
                    <a:pt x="221" y="187"/>
                  </a:lnTo>
                  <a:lnTo>
                    <a:pt x="189" y="207"/>
                  </a:lnTo>
                  <a:lnTo>
                    <a:pt x="176" y="220"/>
                  </a:lnTo>
                  <a:lnTo>
                    <a:pt x="165" y="235"/>
                  </a:lnTo>
                  <a:lnTo>
                    <a:pt x="159" y="242"/>
                  </a:lnTo>
                  <a:lnTo>
                    <a:pt x="155" y="249"/>
                  </a:lnTo>
                  <a:lnTo>
                    <a:pt x="151" y="256"/>
                  </a:lnTo>
                  <a:lnTo>
                    <a:pt x="148" y="263"/>
                  </a:lnTo>
                  <a:lnTo>
                    <a:pt x="145" y="272"/>
                  </a:lnTo>
                  <a:lnTo>
                    <a:pt x="141" y="279"/>
                  </a:lnTo>
                  <a:lnTo>
                    <a:pt x="139" y="286"/>
                  </a:lnTo>
                  <a:lnTo>
                    <a:pt x="137" y="295"/>
                  </a:lnTo>
                  <a:lnTo>
                    <a:pt x="136" y="303"/>
                  </a:lnTo>
                  <a:lnTo>
                    <a:pt x="135" y="310"/>
                  </a:lnTo>
                  <a:lnTo>
                    <a:pt x="134" y="319"/>
                  </a:lnTo>
                  <a:lnTo>
                    <a:pt x="134" y="327"/>
                  </a:lnTo>
                  <a:lnTo>
                    <a:pt x="134" y="329"/>
                  </a:lnTo>
                  <a:lnTo>
                    <a:pt x="134" y="333"/>
                  </a:lnTo>
                  <a:lnTo>
                    <a:pt x="135" y="339"/>
                  </a:lnTo>
                  <a:lnTo>
                    <a:pt x="137" y="346"/>
                  </a:lnTo>
                  <a:lnTo>
                    <a:pt x="139" y="353"/>
                  </a:lnTo>
                  <a:lnTo>
                    <a:pt x="141" y="361"/>
                  </a:lnTo>
                  <a:lnTo>
                    <a:pt x="146" y="369"/>
                  </a:lnTo>
                  <a:lnTo>
                    <a:pt x="149" y="377"/>
                  </a:lnTo>
                  <a:lnTo>
                    <a:pt x="154" y="387"/>
                  </a:lnTo>
                  <a:lnTo>
                    <a:pt x="159" y="398"/>
                  </a:lnTo>
                  <a:lnTo>
                    <a:pt x="165" y="408"/>
                  </a:lnTo>
                  <a:lnTo>
                    <a:pt x="169" y="418"/>
                  </a:lnTo>
                  <a:lnTo>
                    <a:pt x="172" y="428"/>
                  </a:lnTo>
                  <a:lnTo>
                    <a:pt x="175" y="437"/>
                  </a:lnTo>
                  <a:lnTo>
                    <a:pt x="177" y="446"/>
                  </a:lnTo>
                  <a:lnTo>
                    <a:pt x="178" y="454"/>
                  </a:lnTo>
                  <a:lnTo>
                    <a:pt x="178" y="458"/>
                  </a:lnTo>
                  <a:lnTo>
                    <a:pt x="178" y="461"/>
                  </a:lnTo>
                  <a:lnTo>
                    <a:pt x="178" y="471"/>
                  </a:lnTo>
                  <a:lnTo>
                    <a:pt x="177" y="479"/>
                  </a:lnTo>
                  <a:lnTo>
                    <a:pt x="175" y="489"/>
                  </a:lnTo>
                  <a:lnTo>
                    <a:pt x="172" y="497"/>
                  </a:lnTo>
                  <a:lnTo>
                    <a:pt x="169" y="506"/>
                  </a:lnTo>
                  <a:lnTo>
                    <a:pt x="165" y="513"/>
                  </a:lnTo>
                  <a:lnTo>
                    <a:pt x="159" y="521"/>
                  </a:lnTo>
                  <a:lnTo>
                    <a:pt x="154" y="528"/>
                  </a:lnTo>
                  <a:lnTo>
                    <a:pt x="148" y="536"/>
                  </a:lnTo>
                  <a:lnTo>
                    <a:pt x="141" y="542"/>
                  </a:lnTo>
                  <a:lnTo>
                    <a:pt x="134" y="546"/>
                  </a:lnTo>
                  <a:lnTo>
                    <a:pt x="131" y="548"/>
                  </a:lnTo>
                  <a:lnTo>
                    <a:pt x="127" y="550"/>
                  </a:lnTo>
                  <a:lnTo>
                    <a:pt x="123" y="551"/>
                  </a:lnTo>
                  <a:lnTo>
                    <a:pt x="119" y="554"/>
                  </a:lnTo>
                  <a:lnTo>
                    <a:pt x="116" y="555"/>
                  </a:lnTo>
                  <a:lnTo>
                    <a:pt x="112" y="556"/>
                  </a:lnTo>
                  <a:lnTo>
                    <a:pt x="108" y="556"/>
                  </a:lnTo>
                  <a:lnTo>
                    <a:pt x="103" y="557"/>
                  </a:lnTo>
                  <a:lnTo>
                    <a:pt x="95" y="557"/>
                  </a:lnTo>
                  <a:lnTo>
                    <a:pt x="91" y="557"/>
                  </a:lnTo>
                  <a:lnTo>
                    <a:pt x="85" y="556"/>
                  </a:lnTo>
                  <a:lnTo>
                    <a:pt x="81" y="556"/>
                  </a:lnTo>
                  <a:lnTo>
                    <a:pt x="76" y="555"/>
                  </a:lnTo>
                  <a:lnTo>
                    <a:pt x="72" y="554"/>
                  </a:lnTo>
                  <a:lnTo>
                    <a:pt x="67" y="551"/>
                  </a:lnTo>
                  <a:lnTo>
                    <a:pt x="63" y="550"/>
                  </a:lnTo>
                  <a:lnTo>
                    <a:pt x="59" y="548"/>
                  </a:lnTo>
                  <a:lnTo>
                    <a:pt x="55" y="544"/>
                  </a:lnTo>
                  <a:lnTo>
                    <a:pt x="51" y="542"/>
                  </a:lnTo>
                  <a:lnTo>
                    <a:pt x="46" y="538"/>
                  </a:lnTo>
                  <a:lnTo>
                    <a:pt x="43" y="534"/>
                  </a:lnTo>
                  <a:lnTo>
                    <a:pt x="39" y="531"/>
                  </a:lnTo>
                  <a:lnTo>
                    <a:pt x="36" y="526"/>
                  </a:lnTo>
                  <a:lnTo>
                    <a:pt x="32" y="521"/>
                  </a:lnTo>
                  <a:lnTo>
                    <a:pt x="28" y="516"/>
                  </a:lnTo>
                  <a:lnTo>
                    <a:pt x="22" y="506"/>
                  </a:lnTo>
                  <a:lnTo>
                    <a:pt x="16" y="495"/>
                  </a:lnTo>
                  <a:lnTo>
                    <a:pt x="12" y="483"/>
                  </a:lnTo>
                  <a:lnTo>
                    <a:pt x="7" y="470"/>
                  </a:lnTo>
                  <a:lnTo>
                    <a:pt x="4" y="456"/>
                  </a:lnTo>
                  <a:lnTo>
                    <a:pt x="2" y="442"/>
                  </a:lnTo>
                  <a:lnTo>
                    <a:pt x="0" y="428"/>
                  </a:lnTo>
                  <a:lnTo>
                    <a:pt x="0" y="412"/>
                  </a:lnTo>
                  <a:lnTo>
                    <a:pt x="1" y="392"/>
                  </a:lnTo>
                  <a:lnTo>
                    <a:pt x="2" y="372"/>
                  </a:lnTo>
                  <a:lnTo>
                    <a:pt x="5" y="353"/>
                  </a:lnTo>
                  <a:lnTo>
                    <a:pt x="8" y="334"/>
                  </a:lnTo>
                  <a:lnTo>
                    <a:pt x="14" y="315"/>
                  </a:lnTo>
                  <a:lnTo>
                    <a:pt x="20" y="297"/>
                  </a:lnTo>
                  <a:lnTo>
                    <a:pt x="26" y="279"/>
                  </a:lnTo>
                  <a:lnTo>
                    <a:pt x="35" y="261"/>
                  </a:lnTo>
                  <a:lnTo>
                    <a:pt x="44" y="243"/>
                  </a:lnTo>
                  <a:lnTo>
                    <a:pt x="54" y="225"/>
                  </a:lnTo>
                  <a:lnTo>
                    <a:pt x="65" y="208"/>
                  </a:lnTo>
                  <a:lnTo>
                    <a:pt x="78" y="191"/>
                  </a:lnTo>
                  <a:lnTo>
                    <a:pt x="106" y="158"/>
                  </a:lnTo>
                  <a:lnTo>
                    <a:pt x="138" y="125"/>
                  </a:lnTo>
                  <a:lnTo>
                    <a:pt x="156" y="110"/>
                  </a:lnTo>
                  <a:lnTo>
                    <a:pt x="176" y="95"/>
                  </a:lnTo>
                  <a:lnTo>
                    <a:pt x="196" y="82"/>
                  </a:lnTo>
                  <a:lnTo>
                    <a:pt x="220" y="70"/>
                  </a:lnTo>
                  <a:lnTo>
                    <a:pt x="244" y="59"/>
                  </a:lnTo>
                  <a:lnTo>
                    <a:pt x="269" y="49"/>
                  </a:lnTo>
                  <a:lnTo>
                    <a:pt x="325" y="31"/>
                  </a:lnTo>
                  <a:lnTo>
                    <a:pt x="387" y="17"/>
                  </a:lnTo>
                  <a:lnTo>
                    <a:pt x="455" y="8"/>
                  </a:lnTo>
                  <a:lnTo>
                    <a:pt x="530" y="2"/>
                  </a:lnTo>
                  <a:lnTo>
                    <a:pt x="610" y="0"/>
                  </a:lnTo>
                  <a:lnTo>
                    <a:pt x="692" y="0"/>
                  </a:lnTo>
                  <a:lnTo>
                    <a:pt x="648" y="154"/>
                  </a:lnTo>
                  <a:lnTo>
                    <a:pt x="633" y="211"/>
                  </a:lnTo>
                  <a:lnTo>
                    <a:pt x="623" y="251"/>
                  </a:lnTo>
                  <a:lnTo>
                    <a:pt x="548" y="550"/>
                  </a:lnTo>
                  <a:lnTo>
                    <a:pt x="571" y="534"/>
                  </a:lnTo>
                  <a:lnTo>
                    <a:pt x="601" y="513"/>
                  </a:lnTo>
                  <a:lnTo>
                    <a:pt x="680" y="453"/>
                  </a:lnTo>
                  <a:lnTo>
                    <a:pt x="725" y="416"/>
                  </a:lnTo>
                  <a:lnTo>
                    <a:pt x="771" y="378"/>
                  </a:lnTo>
                  <a:lnTo>
                    <a:pt x="859" y="298"/>
                  </a:lnTo>
                  <a:lnTo>
                    <a:pt x="982" y="178"/>
                  </a:lnTo>
                  <a:lnTo>
                    <a:pt x="1017" y="142"/>
                  </a:lnTo>
                  <a:lnTo>
                    <a:pt x="1028" y="129"/>
                  </a:lnTo>
                  <a:lnTo>
                    <a:pt x="1032" y="124"/>
                  </a:lnTo>
                  <a:lnTo>
                    <a:pt x="1035" y="121"/>
                  </a:lnTo>
                  <a:lnTo>
                    <a:pt x="1040" y="112"/>
                  </a:lnTo>
                  <a:lnTo>
                    <a:pt x="1040" y="113"/>
                  </a:lnTo>
                  <a:lnTo>
                    <a:pt x="1040" y="113"/>
                  </a:lnTo>
                  <a:lnTo>
                    <a:pt x="1040" y="115"/>
                  </a:lnTo>
                  <a:lnTo>
                    <a:pt x="1039" y="115"/>
                  </a:lnTo>
                  <a:lnTo>
                    <a:pt x="1039" y="116"/>
                  </a:lnTo>
                  <a:lnTo>
                    <a:pt x="1039" y="116"/>
                  </a:lnTo>
                  <a:lnTo>
                    <a:pt x="1039" y="116"/>
                  </a:lnTo>
                  <a:lnTo>
                    <a:pt x="1039" y="116"/>
                  </a:lnTo>
                  <a:lnTo>
                    <a:pt x="1038" y="116"/>
                  </a:lnTo>
                  <a:lnTo>
                    <a:pt x="1038" y="117"/>
                  </a:lnTo>
                  <a:lnTo>
                    <a:pt x="1037" y="117"/>
                  </a:lnTo>
                  <a:lnTo>
                    <a:pt x="1036" y="117"/>
                  </a:lnTo>
                  <a:lnTo>
                    <a:pt x="1036" y="117"/>
                  </a:lnTo>
                  <a:lnTo>
                    <a:pt x="1035" y="117"/>
                  </a:lnTo>
                  <a:lnTo>
                    <a:pt x="1034" y="117"/>
                  </a:lnTo>
                  <a:lnTo>
                    <a:pt x="1033" y="117"/>
                  </a:lnTo>
                  <a:lnTo>
                    <a:pt x="1031" y="117"/>
                  </a:lnTo>
                  <a:lnTo>
                    <a:pt x="1029" y="117"/>
                  </a:lnTo>
                  <a:lnTo>
                    <a:pt x="1028" y="116"/>
                  </a:lnTo>
                  <a:lnTo>
                    <a:pt x="1026" y="116"/>
                  </a:lnTo>
                  <a:lnTo>
                    <a:pt x="1024" y="115"/>
                  </a:lnTo>
                  <a:lnTo>
                    <a:pt x="1017" y="115"/>
                  </a:lnTo>
                  <a:lnTo>
                    <a:pt x="993" y="112"/>
                  </a:lnTo>
                  <a:lnTo>
                    <a:pt x="910" y="110"/>
                  </a:lnTo>
                  <a:lnTo>
                    <a:pt x="927" y="3"/>
                  </a:lnTo>
                  <a:lnTo>
                    <a:pt x="1050" y="14"/>
                  </a:lnTo>
                  <a:lnTo>
                    <a:pt x="1099" y="16"/>
                  </a:lnTo>
                  <a:lnTo>
                    <a:pt x="1142" y="17"/>
                  </a:lnTo>
                  <a:lnTo>
                    <a:pt x="1186" y="16"/>
                  </a:lnTo>
                  <a:lnTo>
                    <a:pt x="1234" y="14"/>
                  </a:lnTo>
                  <a:lnTo>
                    <a:pt x="1288" y="9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94160" y="588960"/>
              <a:ext cx="295200" cy="366840"/>
            </a:xfrm>
            <a:custGeom>
              <a:avLst/>
              <a:gdLst/>
              <a:ahLst/>
              <a:rect l="l" t="t" r="r" b="b"/>
              <a:pathLst>
                <a:path w="819" h="1020">
                  <a:moveTo>
                    <a:pt x="678" y="19"/>
                  </a:moveTo>
                  <a:lnTo>
                    <a:pt x="774" y="0"/>
                  </a:lnTo>
                  <a:lnTo>
                    <a:pt x="702" y="303"/>
                  </a:lnTo>
                  <a:lnTo>
                    <a:pt x="681" y="388"/>
                  </a:lnTo>
                  <a:lnTo>
                    <a:pt x="660" y="478"/>
                  </a:lnTo>
                  <a:lnTo>
                    <a:pt x="640" y="575"/>
                  </a:lnTo>
                  <a:lnTo>
                    <a:pt x="621" y="677"/>
                  </a:lnTo>
                  <a:lnTo>
                    <a:pt x="606" y="770"/>
                  </a:lnTo>
                  <a:lnTo>
                    <a:pt x="602" y="800"/>
                  </a:lnTo>
                  <a:lnTo>
                    <a:pt x="601" y="812"/>
                  </a:lnTo>
                  <a:lnTo>
                    <a:pt x="601" y="821"/>
                  </a:lnTo>
                  <a:lnTo>
                    <a:pt x="601" y="824"/>
                  </a:lnTo>
                  <a:lnTo>
                    <a:pt x="601" y="827"/>
                  </a:lnTo>
                  <a:lnTo>
                    <a:pt x="601" y="827"/>
                  </a:lnTo>
                  <a:lnTo>
                    <a:pt x="601" y="828"/>
                  </a:lnTo>
                  <a:lnTo>
                    <a:pt x="602" y="830"/>
                  </a:lnTo>
                  <a:lnTo>
                    <a:pt x="602" y="831"/>
                  </a:lnTo>
                  <a:lnTo>
                    <a:pt x="602" y="831"/>
                  </a:lnTo>
                  <a:lnTo>
                    <a:pt x="602" y="832"/>
                  </a:lnTo>
                  <a:lnTo>
                    <a:pt x="603" y="832"/>
                  </a:lnTo>
                  <a:lnTo>
                    <a:pt x="603" y="832"/>
                  </a:lnTo>
                  <a:lnTo>
                    <a:pt x="603" y="832"/>
                  </a:lnTo>
                  <a:lnTo>
                    <a:pt x="603" y="833"/>
                  </a:lnTo>
                  <a:lnTo>
                    <a:pt x="604" y="833"/>
                  </a:lnTo>
                  <a:lnTo>
                    <a:pt x="604" y="833"/>
                  </a:lnTo>
                  <a:lnTo>
                    <a:pt x="604" y="833"/>
                  </a:lnTo>
                  <a:lnTo>
                    <a:pt x="604" y="833"/>
                  </a:lnTo>
                  <a:lnTo>
                    <a:pt x="605" y="833"/>
                  </a:lnTo>
                  <a:lnTo>
                    <a:pt x="606" y="833"/>
                  </a:lnTo>
                  <a:lnTo>
                    <a:pt x="608" y="833"/>
                  </a:lnTo>
                  <a:lnTo>
                    <a:pt x="609" y="832"/>
                  </a:lnTo>
                  <a:lnTo>
                    <a:pt x="612" y="832"/>
                  </a:lnTo>
                  <a:lnTo>
                    <a:pt x="615" y="831"/>
                  </a:lnTo>
                  <a:lnTo>
                    <a:pt x="620" y="828"/>
                  </a:lnTo>
                  <a:lnTo>
                    <a:pt x="624" y="826"/>
                  </a:lnTo>
                  <a:lnTo>
                    <a:pt x="631" y="822"/>
                  </a:lnTo>
                  <a:lnTo>
                    <a:pt x="643" y="814"/>
                  </a:lnTo>
                  <a:lnTo>
                    <a:pt x="672" y="794"/>
                  </a:lnTo>
                  <a:lnTo>
                    <a:pt x="702" y="770"/>
                  </a:lnTo>
                  <a:lnTo>
                    <a:pt x="735" y="741"/>
                  </a:lnTo>
                  <a:lnTo>
                    <a:pt x="769" y="710"/>
                  </a:lnTo>
                  <a:lnTo>
                    <a:pt x="818" y="777"/>
                  </a:lnTo>
                  <a:lnTo>
                    <a:pt x="722" y="879"/>
                  </a:lnTo>
                  <a:lnTo>
                    <a:pt x="691" y="910"/>
                  </a:lnTo>
                  <a:lnTo>
                    <a:pt x="679" y="921"/>
                  </a:lnTo>
                  <a:lnTo>
                    <a:pt x="670" y="929"/>
                  </a:lnTo>
                  <a:lnTo>
                    <a:pt x="638" y="953"/>
                  </a:lnTo>
                  <a:lnTo>
                    <a:pt x="623" y="963"/>
                  </a:lnTo>
                  <a:lnTo>
                    <a:pt x="608" y="972"/>
                  </a:lnTo>
                  <a:lnTo>
                    <a:pt x="593" y="981"/>
                  </a:lnTo>
                  <a:lnTo>
                    <a:pt x="578" y="989"/>
                  </a:lnTo>
                  <a:lnTo>
                    <a:pt x="564" y="996"/>
                  </a:lnTo>
                  <a:lnTo>
                    <a:pt x="549" y="1002"/>
                  </a:lnTo>
                  <a:lnTo>
                    <a:pt x="540" y="1006"/>
                  </a:lnTo>
                  <a:lnTo>
                    <a:pt x="529" y="1010"/>
                  </a:lnTo>
                  <a:lnTo>
                    <a:pt x="520" y="1012"/>
                  </a:lnTo>
                  <a:lnTo>
                    <a:pt x="510" y="1014"/>
                  </a:lnTo>
                  <a:lnTo>
                    <a:pt x="501" y="1017"/>
                  </a:lnTo>
                  <a:lnTo>
                    <a:pt x="491" y="1018"/>
                  </a:lnTo>
                  <a:lnTo>
                    <a:pt x="481" y="1019"/>
                  </a:lnTo>
                  <a:lnTo>
                    <a:pt x="471" y="1019"/>
                  </a:lnTo>
                  <a:lnTo>
                    <a:pt x="464" y="1019"/>
                  </a:lnTo>
                  <a:lnTo>
                    <a:pt x="456" y="1018"/>
                  </a:lnTo>
                  <a:lnTo>
                    <a:pt x="449" y="1017"/>
                  </a:lnTo>
                  <a:lnTo>
                    <a:pt x="443" y="1014"/>
                  </a:lnTo>
                  <a:lnTo>
                    <a:pt x="439" y="1013"/>
                  </a:lnTo>
                  <a:lnTo>
                    <a:pt x="436" y="1012"/>
                  </a:lnTo>
                  <a:lnTo>
                    <a:pt x="433" y="1011"/>
                  </a:lnTo>
                  <a:lnTo>
                    <a:pt x="430" y="1008"/>
                  </a:lnTo>
                  <a:lnTo>
                    <a:pt x="428" y="1007"/>
                  </a:lnTo>
                  <a:lnTo>
                    <a:pt x="425" y="1005"/>
                  </a:lnTo>
                  <a:lnTo>
                    <a:pt x="423" y="1002"/>
                  </a:lnTo>
                  <a:lnTo>
                    <a:pt x="420" y="1000"/>
                  </a:lnTo>
                  <a:lnTo>
                    <a:pt x="418" y="998"/>
                  </a:lnTo>
                  <a:lnTo>
                    <a:pt x="416" y="995"/>
                  </a:lnTo>
                  <a:lnTo>
                    <a:pt x="414" y="992"/>
                  </a:lnTo>
                  <a:lnTo>
                    <a:pt x="412" y="989"/>
                  </a:lnTo>
                  <a:lnTo>
                    <a:pt x="411" y="987"/>
                  </a:lnTo>
                  <a:lnTo>
                    <a:pt x="409" y="983"/>
                  </a:lnTo>
                  <a:lnTo>
                    <a:pt x="408" y="980"/>
                  </a:lnTo>
                  <a:lnTo>
                    <a:pt x="407" y="977"/>
                  </a:lnTo>
                  <a:lnTo>
                    <a:pt x="406" y="974"/>
                  </a:lnTo>
                  <a:lnTo>
                    <a:pt x="405" y="970"/>
                  </a:lnTo>
                  <a:lnTo>
                    <a:pt x="404" y="963"/>
                  </a:lnTo>
                  <a:lnTo>
                    <a:pt x="403" y="954"/>
                  </a:lnTo>
                  <a:lnTo>
                    <a:pt x="403" y="946"/>
                  </a:lnTo>
                  <a:lnTo>
                    <a:pt x="403" y="941"/>
                  </a:lnTo>
                  <a:lnTo>
                    <a:pt x="403" y="935"/>
                  </a:lnTo>
                  <a:lnTo>
                    <a:pt x="404" y="929"/>
                  </a:lnTo>
                  <a:lnTo>
                    <a:pt x="405" y="923"/>
                  </a:lnTo>
                  <a:lnTo>
                    <a:pt x="406" y="917"/>
                  </a:lnTo>
                  <a:lnTo>
                    <a:pt x="407" y="910"/>
                  </a:lnTo>
                  <a:lnTo>
                    <a:pt x="410" y="896"/>
                  </a:lnTo>
                  <a:lnTo>
                    <a:pt x="448" y="777"/>
                  </a:lnTo>
                  <a:lnTo>
                    <a:pt x="435" y="803"/>
                  </a:lnTo>
                  <a:lnTo>
                    <a:pt x="419" y="827"/>
                  </a:lnTo>
                  <a:lnTo>
                    <a:pt x="404" y="851"/>
                  </a:lnTo>
                  <a:lnTo>
                    <a:pt x="385" y="873"/>
                  </a:lnTo>
                  <a:lnTo>
                    <a:pt x="365" y="893"/>
                  </a:lnTo>
                  <a:lnTo>
                    <a:pt x="342" y="914"/>
                  </a:lnTo>
                  <a:lnTo>
                    <a:pt x="318" y="932"/>
                  </a:lnTo>
                  <a:lnTo>
                    <a:pt x="293" y="948"/>
                  </a:lnTo>
                  <a:lnTo>
                    <a:pt x="272" y="965"/>
                  </a:lnTo>
                  <a:lnTo>
                    <a:pt x="253" y="980"/>
                  </a:lnTo>
                  <a:lnTo>
                    <a:pt x="233" y="990"/>
                  </a:lnTo>
                  <a:lnTo>
                    <a:pt x="215" y="1001"/>
                  </a:lnTo>
                  <a:lnTo>
                    <a:pt x="196" y="1008"/>
                  </a:lnTo>
                  <a:lnTo>
                    <a:pt x="179" y="1013"/>
                  </a:lnTo>
                  <a:lnTo>
                    <a:pt x="170" y="1016"/>
                  </a:lnTo>
                  <a:lnTo>
                    <a:pt x="162" y="1017"/>
                  </a:lnTo>
                  <a:lnTo>
                    <a:pt x="153" y="1018"/>
                  </a:lnTo>
                  <a:lnTo>
                    <a:pt x="145" y="1018"/>
                  </a:lnTo>
                  <a:lnTo>
                    <a:pt x="136" y="1018"/>
                  </a:lnTo>
                  <a:lnTo>
                    <a:pt x="129" y="1017"/>
                  </a:lnTo>
                  <a:lnTo>
                    <a:pt x="122" y="1014"/>
                  </a:lnTo>
                  <a:lnTo>
                    <a:pt x="114" y="1012"/>
                  </a:lnTo>
                  <a:lnTo>
                    <a:pt x="107" y="1010"/>
                  </a:lnTo>
                  <a:lnTo>
                    <a:pt x="99" y="1005"/>
                  </a:lnTo>
                  <a:lnTo>
                    <a:pt x="93" y="1001"/>
                  </a:lnTo>
                  <a:lnTo>
                    <a:pt x="87" y="995"/>
                  </a:lnTo>
                  <a:lnTo>
                    <a:pt x="79" y="989"/>
                  </a:lnTo>
                  <a:lnTo>
                    <a:pt x="74" y="983"/>
                  </a:lnTo>
                  <a:lnTo>
                    <a:pt x="68" y="976"/>
                  </a:lnTo>
                  <a:lnTo>
                    <a:pt x="61" y="968"/>
                  </a:lnTo>
                  <a:lnTo>
                    <a:pt x="56" y="958"/>
                  </a:lnTo>
                  <a:lnTo>
                    <a:pt x="51" y="950"/>
                  </a:lnTo>
                  <a:lnTo>
                    <a:pt x="40" y="928"/>
                  </a:lnTo>
                  <a:lnTo>
                    <a:pt x="35" y="924"/>
                  </a:lnTo>
                  <a:lnTo>
                    <a:pt x="31" y="920"/>
                  </a:lnTo>
                  <a:lnTo>
                    <a:pt x="27" y="915"/>
                  </a:lnTo>
                  <a:lnTo>
                    <a:pt x="23" y="909"/>
                  </a:lnTo>
                  <a:lnTo>
                    <a:pt x="19" y="903"/>
                  </a:lnTo>
                  <a:lnTo>
                    <a:pt x="16" y="896"/>
                  </a:lnTo>
                  <a:lnTo>
                    <a:pt x="13" y="888"/>
                  </a:lnTo>
                  <a:lnTo>
                    <a:pt x="11" y="880"/>
                  </a:lnTo>
                  <a:lnTo>
                    <a:pt x="8" y="872"/>
                  </a:lnTo>
                  <a:lnTo>
                    <a:pt x="5" y="862"/>
                  </a:lnTo>
                  <a:lnTo>
                    <a:pt x="2" y="843"/>
                  </a:lnTo>
                  <a:lnTo>
                    <a:pt x="1" y="820"/>
                  </a:lnTo>
                  <a:lnTo>
                    <a:pt x="0" y="795"/>
                  </a:lnTo>
                  <a:lnTo>
                    <a:pt x="1" y="765"/>
                  </a:lnTo>
                  <a:lnTo>
                    <a:pt x="3" y="734"/>
                  </a:lnTo>
                  <a:lnTo>
                    <a:pt x="8" y="703"/>
                  </a:lnTo>
                  <a:lnTo>
                    <a:pt x="14" y="670"/>
                  </a:lnTo>
                  <a:lnTo>
                    <a:pt x="21" y="637"/>
                  </a:lnTo>
                  <a:lnTo>
                    <a:pt x="31" y="603"/>
                  </a:lnTo>
                  <a:lnTo>
                    <a:pt x="42" y="568"/>
                  </a:lnTo>
                  <a:lnTo>
                    <a:pt x="55" y="532"/>
                  </a:lnTo>
                  <a:lnTo>
                    <a:pt x="70" y="496"/>
                  </a:lnTo>
                  <a:lnTo>
                    <a:pt x="85" y="461"/>
                  </a:lnTo>
                  <a:lnTo>
                    <a:pt x="102" y="428"/>
                  </a:lnTo>
                  <a:lnTo>
                    <a:pt x="120" y="394"/>
                  </a:lnTo>
                  <a:lnTo>
                    <a:pt x="139" y="362"/>
                  </a:lnTo>
                  <a:lnTo>
                    <a:pt x="160" y="331"/>
                  </a:lnTo>
                  <a:lnTo>
                    <a:pt x="181" y="301"/>
                  </a:lnTo>
                  <a:lnTo>
                    <a:pt x="203" y="271"/>
                  </a:lnTo>
                  <a:lnTo>
                    <a:pt x="226" y="242"/>
                  </a:lnTo>
                  <a:lnTo>
                    <a:pt x="250" y="216"/>
                  </a:lnTo>
                  <a:lnTo>
                    <a:pt x="275" y="192"/>
                  </a:lnTo>
                  <a:lnTo>
                    <a:pt x="299" y="169"/>
                  </a:lnTo>
                  <a:lnTo>
                    <a:pt x="323" y="147"/>
                  </a:lnTo>
                  <a:lnTo>
                    <a:pt x="349" y="129"/>
                  </a:lnTo>
                  <a:lnTo>
                    <a:pt x="374" y="111"/>
                  </a:lnTo>
                  <a:lnTo>
                    <a:pt x="400" y="97"/>
                  </a:lnTo>
                  <a:lnTo>
                    <a:pt x="422" y="87"/>
                  </a:lnTo>
                  <a:lnTo>
                    <a:pt x="444" y="78"/>
                  </a:lnTo>
                  <a:lnTo>
                    <a:pt x="467" y="70"/>
                  </a:lnTo>
                  <a:lnTo>
                    <a:pt x="492" y="64"/>
                  </a:lnTo>
                  <a:lnTo>
                    <a:pt x="519" y="60"/>
                  </a:lnTo>
                  <a:lnTo>
                    <a:pt x="547" y="56"/>
                  </a:lnTo>
                  <a:lnTo>
                    <a:pt x="577" y="55"/>
                  </a:lnTo>
                  <a:lnTo>
                    <a:pt x="607" y="54"/>
                  </a:lnTo>
                  <a:lnTo>
                    <a:pt x="622" y="54"/>
                  </a:lnTo>
                  <a:lnTo>
                    <a:pt x="635" y="55"/>
                  </a:lnTo>
                  <a:lnTo>
                    <a:pt x="648" y="56"/>
                  </a:lnTo>
                  <a:lnTo>
                    <a:pt x="658" y="57"/>
                  </a:lnTo>
                  <a:close/>
                  <a:moveTo>
                    <a:pt x="554" y="222"/>
                  </a:moveTo>
                  <a:lnTo>
                    <a:pt x="537" y="218"/>
                  </a:lnTo>
                  <a:lnTo>
                    <a:pt x="521" y="217"/>
                  </a:lnTo>
                  <a:lnTo>
                    <a:pt x="504" y="214"/>
                  </a:lnTo>
                  <a:lnTo>
                    <a:pt x="487" y="214"/>
                  </a:lnTo>
                  <a:lnTo>
                    <a:pt x="468" y="216"/>
                  </a:lnTo>
                  <a:lnTo>
                    <a:pt x="449" y="218"/>
                  </a:lnTo>
                  <a:lnTo>
                    <a:pt x="430" y="222"/>
                  </a:lnTo>
                  <a:lnTo>
                    <a:pt x="413" y="226"/>
                  </a:lnTo>
                  <a:lnTo>
                    <a:pt x="396" y="234"/>
                  </a:lnTo>
                  <a:lnTo>
                    <a:pt x="379" y="242"/>
                  </a:lnTo>
                  <a:lnTo>
                    <a:pt x="363" y="252"/>
                  </a:lnTo>
                  <a:lnTo>
                    <a:pt x="349" y="264"/>
                  </a:lnTo>
                  <a:lnTo>
                    <a:pt x="334" y="278"/>
                  </a:lnTo>
                  <a:lnTo>
                    <a:pt x="319" y="294"/>
                  </a:lnTo>
                  <a:lnTo>
                    <a:pt x="305" y="313"/>
                  </a:lnTo>
                  <a:lnTo>
                    <a:pt x="292" y="334"/>
                  </a:lnTo>
                  <a:lnTo>
                    <a:pt x="277" y="358"/>
                  </a:lnTo>
                  <a:lnTo>
                    <a:pt x="263" y="386"/>
                  </a:lnTo>
                  <a:lnTo>
                    <a:pt x="250" y="415"/>
                  </a:lnTo>
                  <a:lnTo>
                    <a:pt x="237" y="447"/>
                  </a:lnTo>
                  <a:lnTo>
                    <a:pt x="224" y="481"/>
                  </a:lnTo>
                  <a:lnTo>
                    <a:pt x="214" y="514"/>
                  </a:lnTo>
                  <a:lnTo>
                    <a:pt x="205" y="548"/>
                  </a:lnTo>
                  <a:lnTo>
                    <a:pt x="198" y="581"/>
                  </a:lnTo>
                  <a:lnTo>
                    <a:pt x="191" y="614"/>
                  </a:lnTo>
                  <a:lnTo>
                    <a:pt x="187" y="647"/>
                  </a:lnTo>
                  <a:lnTo>
                    <a:pt x="185" y="681"/>
                  </a:lnTo>
                  <a:lnTo>
                    <a:pt x="184" y="715"/>
                  </a:lnTo>
                  <a:lnTo>
                    <a:pt x="184" y="730"/>
                  </a:lnTo>
                  <a:lnTo>
                    <a:pt x="185" y="746"/>
                  </a:lnTo>
                  <a:lnTo>
                    <a:pt x="186" y="759"/>
                  </a:lnTo>
                  <a:lnTo>
                    <a:pt x="188" y="771"/>
                  </a:lnTo>
                  <a:lnTo>
                    <a:pt x="190" y="782"/>
                  </a:lnTo>
                  <a:lnTo>
                    <a:pt x="191" y="786"/>
                  </a:lnTo>
                  <a:lnTo>
                    <a:pt x="193" y="791"/>
                  </a:lnTo>
                  <a:lnTo>
                    <a:pt x="194" y="795"/>
                  </a:lnTo>
                  <a:lnTo>
                    <a:pt x="197" y="800"/>
                  </a:lnTo>
                  <a:lnTo>
                    <a:pt x="199" y="802"/>
                  </a:lnTo>
                  <a:lnTo>
                    <a:pt x="201" y="806"/>
                  </a:lnTo>
                  <a:lnTo>
                    <a:pt x="203" y="809"/>
                  </a:lnTo>
                  <a:lnTo>
                    <a:pt x="205" y="812"/>
                  </a:lnTo>
                  <a:lnTo>
                    <a:pt x="207" y="814"/>
                  </a:lnTo>
                  <a:lnTo>
                    <a:pt x="209" y="816"/>
                  </a:lnTo>
                  <a:lnTo>
                    <a:pt x="211" y="819"/>
                  </a:lnTo>
                  <a:lnTo>
                    <a:pt x="215" y="821"/>
                  </a:lnTo>
                  <a:lnTo>
                    <a:pt x="217" y="822"/>
                  </a:lnTo>
                  <a:lnTo>
                    <a:pt x="220" y="825"/>
                  </a:lnTo>
                  <a:lnTo>
                    <a:pt x="222" y="826"/>
                  </a:lnTo>
                  <a:lnTo>
                    <a:pt x="225" y="827"/>
                  </a:lnTo>
                  <a:lnTo>
                    <a:pt x="228" y="828"/>
                  </a:lnTo>
                  <a:lnTo>
                    <a:pt x="230" y="830"/>
                  </a:lnTo>
                  <a:lnTo>
                    <a:pt x="234" y="830"/>
                  </a:lnTo>
                  <a:lnTo>
                    <a:pt x="237" y="831"/>
                  </a:lnTo>
                  <a:lnTo>
                    <a:pt x="240" y="831"/>
                  </a:lnTo>
                  <a:lnTo>
                    <a:pt x="243" y="831"/>
                  </a:lnTo>
                  <a:lnTo>
                    <a:pt x="250" y="831"/>
                  </a:lnTo>
                  <a:lnTo>
                    <a:pt x="258" y="830"/>
                  </a:lnTo>
                  <a:lnTo>
                    <a:pt x="265" y="828"/>
                  </a:lnTo>
                  <a:lnTo>
                    <a:pt x="273" y="826"/>
                  </a:lnTo>
                  <a:lnTo>
                    <a:pt x="280" y="824"/>
                  </a:lnTo>
                  <a:lnTo>
                    <a:pt x="288" y="820"/>
                  </a:lnTo>
                  <a:lnTo>
                    <a:pt x="304" y="812"/>
                  </a:lnTo>
                  <a:lnTo>
                    <a:pt x="320" y="801"/>
                  </a:lnTo>
                  <a:lnTo>
                    <a:pt x="337" y="789"/>
                  </a:lnTo>
                  <a:lnTo>
                    <a:pt x="354" y="773"/>
                  </a:lnTo>
                  <a:lnTo>
                    <a:pt x="371" y="755"/>
                  </a:lnTo>
                  <a:lnTo>
                    <a:pt x="388" y="736"/>
                  </a:lnTo>
                  <a:lnTo>
                    <a:pt x="404" y="713"/>
                  </a:lnTo>
                  <a:lnTo>
                    <a:pt x="418" y="689"/>
                  </a:lnTo>
                  <a:lnTo>
                    <a:pt x="432" y="663"/>
                  </a:lnTo>
                  <a:lnTo>
                    <a:pt x="445" y="634"/>
                  </a:lnTo>
                  <a:lnTo>
                    <a:pt x="455" y="603"/>
                  </a:lnTo>
                  <a:lnTo>
                    <a:pt x="466" y="569"/>
                  </a:lnTo>
                  <a:lnTo>
                    <a:pt x="475" y="53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80000" y="600120"/>
              <a:ext cx="314280" cy="357120"/>
            </a:xfrm>
            <a:custGeom>
              <a:avLst/>
              <a:gdLst/>
              <a:ahLst/>
              <a:rect l="l" t="t" r="r" b="b"/>
              <a:pathLst>
                <a:path w="873" h="993">
                  <a:moveTo>
                    <a:pt x="64" y="293"/>
                  </a:moveTo>
                  <a:lnTo>
                    <a:pt x="0" y="234"/>
                  </a:lnTo>
                  <a:lnTo>
                    <a:pt x="52" y="179"/>
                  </a:lnTo>
                  <a:lnTo>
                    <a:pt x="100" y="132"/>
                  </a:lnTo>
                  <a:lnTo>
                    <a:pt x="145" y="92"/>
                  </a:lnTo>
                  <a:lnTo>
                    <a:pt x="187" y="59"/>
                  </a:lnTo>
                  <a:lnTo>
                    <a:pt x="225" y="33"/>
                  </a:lnTo>
                  <a:lnTo>
                    <a:pt x="243" y="23"/>
                  </a:lnTo>
                  <a:lnTo>
                    <a:pt x="261" y="15"/>
                  </a:lnTo>
                  <a:lnTo>
                    <a:pt x="277" y="9"/>
                  </a:lnTo>
                  <a:lnTo>
                    <a:pt x="293" y="4"/>
                  </a:lnTo>
                  <a:lnTo>
                    <a:pt x="309" y="2"/>
                  </a:lnTo>
                  <a:lnTo>
                    <a:pt x="323" y="0"/>
                  </a:lnTo>
                  <a:lnTo>
                    <a:pt x="331" y="0"/>
                  </a:lnTo>
                  <a:lnTo>
                    <a:pt x="339" y="2"/>
                  </a:lnTo>
                  <a:lnTo>
                    <a:pt x="347" y="4"/>
                  </a:lnTo>
                  <a:lnTo>
                    <a:pt x="354" y="6"/>
                  </a:lnTo>
                  <a:lnTo>
                    <a:pt x="361" y="10"/>
                  </a:lnTo>
                  <a:lnTo>
                    <a:pt x="366" y="15"/>
                  </a:lnTo>
                  <a:lnTo>
                    <a:pt x="371" y="20"/>
                  </a:lnTo>
                  <a:lnTo>
                    <a:pt x="376" y="26"/>
                  </a:lnTo>
                  <a:lnTo>
                    <a:pt x="381" y="32"/>
                  </a:lnTo>
                  <a:lnTo>
                    <a:pt x="384" y="40"/>
                  </a:lnTo>
                  <a:lnTo>
                    <a:pt x="387" y="47"/>
                  </a:lnTo>
                  <a:lnTo>
                    <a:pt x="390" y="57"/>
                  </a:lnTo>
                  <a:lnTo>
                    <a:pt x="392" y="66"/>
                  </a:lnTo>
                  <a:lnTo>
                    <a:pt x="393" y="77"/>
                  </a:lnTo>
                  <a:lnTo>
                    <a:pt x="394" y="88"/>
                  </a:lnTo>
                  <a:lnTo>
                    <a:pt x="394" y="100"/>
                  </a:lnTo>
                  <a:lnTo>
                    <a:pt x="393" y="117"/>
                  </a:lnTo>
                  <a:lnTo>
                    <a:pt x="392" y="136"/>
                  </a:lnTo>
                  <a:lnTo>
                    <a:pt x="389" y="159"/>
                  </a:lnTo>
                  <a:lnTo>
                    <a:pt x="386" y="185"/>
                  </a:lnTo>
                  <a:lnTo>
                    <a:pt x="374" y="246"/>
                  </a:lnTo>
                  <a:lnTo>
                    <a:pt x="358" y="320"/>
                  </a:lnTo>
                  <a:lnTo>
                    <a:pt x="327" y="465"/>
                  </a:lnTo>
                  <a:lnTo>
                    <a:pt x="325" y="479"/>
                  </a:lnTo>
                  <a:lnTo>
                    <a:pt x="323" y="490"/>
                  </a:lnTo>
                  <a:lnTo>
                    <a:pt x="321" y="499"/>
                  </a:lnTo>
                  <a:lnTo>
                    <a:pt x="321" y="503"/>
                  </a:lnTo>
                  <a:lnTo>
                    <a:pt x="321" y="505"/>
                  </a:lnTo>
                  <a:lnTo>
                    <a:pt x="321" y="508"/>
                  </a:lnTo>
                  <a:lnTo>
                    <a:pt x="321" y="510"/>
                  </a:lnTo>
                  <a:lnTo>
                    <a:pt x="323" y="513"/>
                  </a:lnTo>
                  <a:lnTo>
                    <a:pt x="324" y="514"/>
                  </a:lnTo>
                  <a:lnTo>
                    <a:pt x="325" y="516"/>
                  </a:lnTo>
                  <a:lnTo>
                    <a:pt x="326" y="517"/>
                  </a:lnTo>
                  <a:lnTo>
                    <a:pt x="327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3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4" y="525"/>
                  </a:lnTo>
                  <a:lnTo>
                    <a:pt x="350" y="525"/>
                  </a:lnTo>
                  <a:lnTo>
                    <a:pt x="355" y="525"/>
                  </a:lnTo>
                  <a:lnTo>
                    <a:pt x="361" y="523"/>
                  </a:lnTo>
                  <a:lnTo>
                    <a:pt x="367" y="522"/>
                  </a:lnTo>
                  <a:lnTo>
                    <a:pt x="373" y="521"/>
                  </a:lnTo>
                  <a:lnTo>
                    <a:pt x="386" y="515"/>
                  </a:lnTo>
                  <a:lnTo>
                    <a:pt x="401" y="509"/>
                  </a:lnTo>
                  <a:lnTo>
                    <a:pt x="417" y="499"/>
                  </a:lnTo>
                  <a:lnTo>
                    <a:pt x="432" y="489"/>
                  </a:lnTo>
                  <a:lnTo>
                    <a:pt x="450" y="475"/>
                  </a:lnTo>
                  <a:lnTo>
                    <a:pt x="469" y="460"/>
                  </a:lnTo>
                  <a:lnTo>
                    <a:pt x="488" y="443"/>
                  </a:lnTo>
                  <a:lnTo>
                    <a:pt x="505" y="426"/>
                  </a:lnTo>
                  <a:lnTo>
                    <a:pt x="521" y="409"/>
                  </a:lnTo>
                  <a:lnTo>
                    <a:pt x="535" y="391"/>
                  </a:lnTo>
                  <a:lnTo>
                    <a:pt x="549" y="373"/>
                  </a:lnTo>
                  <a:lnTo>
                    <a:pt x="559" y="356"/>
                  </a:lnTo>
                  <a:lnTo>
                    <a:pt x="570" y="338"/>
                  </a:lnTo>
                  <a:lnTo>
                    <a:pt x="578" y="320"/>
                  </a:lnTo>
                  <a:lnTo>
                    <a:pt x="587" y="298"/>
                  </a:lnTo>
                  <a:lnTo>
                    <a:pt x="595" y="273"/>
                  </a:lnTo>
                  <a:lnTo>
                    <a:pt x="604" y="243"/>
                  </a:lnTo>
                  <a:lnTo>
                    <a:pt x="613" y="209"/>
                  </a:lnTo>
                  <a:lnTo>
                    <a:pt x="632" y="128"/>
                  </a:lnTo>
                  <a:lnTo>
                    <a:pt x="653" y="28"/>
                  </a:lnTo>
                  <a:lnTo>
                    <a:pt x="824" y="28"/>
                  </a:lnTo>
                  <a:lnTo>
                    <a:pt x="733" y="433"/>
                  </a:lnTo>
                  <a:lnTo>
                    <a:pt x="675" y="688"/>
                  </a:lnTo>
                  <a:lnTo>
                    <a:pt x="660" y="762"/>
                  </a:lnTo>
                  <a:lnTo>
                    <a:pt x="656" y="786"/>
                  </a:lnTo>
                  <a:lnTo>
                    <a:pt x="655" y="796"/>
                  </a:lnTo>
                  <a:lnTo>
                    <a:pt x="655" y="802"/>
                  </a:lnTo>
                  <a:lnTo>
                    <a:pt x="655" y="806"/>
                  </a:lnTo>
                  <a:lnTo>
                    <a:pt x="656" y="810"/>
                  </a:lnTo>
                  <a:lnTo>
                    <a:pt x="656" y="812"/>
                  </a:lnTo>
                  <a:lnTo>
                    <a:pt x="656" y="814"/>
                  </a:lnTo>
                  <a:lnTo>
                    <a:pt x="657" y="815"/>
                  </a:lnTo>
                  <a:lnTo>
                    <a:pt x="657" y="817"/>
                  </a:lnTo>
                  <a:lnTo>
                    <a:pt x="658" y="818"/>
                  </a:lnTo>
                  <a:lnTo>
                    <a:pt x="658" y="820"/>
                  </a:lnTo>
                  <a:lnTo>
                    <a:pt x="659" y="820"/>
                  </a:lnTo>
                  <a:lnTo>
                    <a:pt x="660" y="821"/>
                  </a:lnTo>
                  <a:lnTo>
                    <a:pt x="660" y="821"/>
                  </a:lnTo>
                  <a:lnTo>
                    <a:pt x="661" y="822"/>
                  </a:lnTo>
                  <a:lnTo>
                    <a:pt x="661" y="822"/>
                  </a:lnTo>
                  <a:lnTo>
                    <a:pt x="663" y="822"/>
                  </a:lnTo>
                  <a:lnTo>
                    <a:pt x="663" y="822"/>
                  </a:lnTo>
                  <a:lnTo>
                    <a:pt x="664" y="822"/>
                  </a:lnTo>
                  <a:lnTo>
                    <a:pt x="666" y="822"/>
                  </a:lnTo>
                  <a:lnTo>
                    <a:pt x="667" y="822"/>
                  </a:lnTo>
                  <a:lnTo>
                    <a:pt x="672" y="820"/>
                  </a:lnTo>
                  <a:lnTo>
                    <a:pt x="676" y="817"/>
                  </a:lnTo>
                  <a:lnTo>
                    <a:pt x="683" y="814"/>
                  </a:lnTo>
                  <a:lnTo>
                    <a:pt x="697" y="802"/>
                  </a:lnTo>
                  <a:lnTo>
                    <a:pt x="715" y="787"/>
                  </a:lnTo>
                  <a:lnTo>
                    <a:pt x="762" y="743"/>
                  </a:lnTo>
                  <a:lnTo>
                    <a:pt x="821" y="681"/>
                  </a:lnTo>
                  <a:lnTo>
                    <a:pt x="872" y="744"/>
                  </a:lnTo>
                  <a:lnTo>
                    <a:pt x="823" y="803"/>
                  </a:lnTo>
                  <a:lnTo>
                    <a:pt x="777" y="853"/>
                  </a:lnTo>
                  <a:lnTo>
                    <a:pt x="734" y="895"/>
                  </a:lnTo>
                  <a:lnTo>
                    <a:pt x="695" y="930"/>
                  </a:lnTo>
                  <a:lnTo>
                    <a:pt x="658" y="958"/>
                  </a:lnTo>
                  <a:lnTo>
                    <a:pt x="641" y="968"/>
                  </a:lnTo>
                  <a:lnTo>
                    <a:pt x="626" y="977"/>
                  </a:lnTo>
                  <a:lnTo>
                    <a:pt x="611" y="984"/>
                  </a:lnTo>
                  <a:lnTo>
                    <a:pt x="596" y="989"/>
                  </a:lnTo>
                  <a:lnTo>
                    <a:pt x="582" y="991"/>
                  </a:lnTo>
                  <a:lnTo>
                    <a:pt x="570" y="992"/>
                  </a:lnTo>
                  <a:lnTo>
                    <a:pt x="565" y="992"/>
                  </a:lnTo>
                  <a:lnTo>
                    <a:pt x="561" y="992"/>
                  </a:lnTo>
                  <a:lnTo>
                    <a:pt x="556" y="991"/>
                  </a:lnTo>
                  <a:lnTo>
                    <a:pt x="552" y="990"/>
                  </a:lnTo>
                  <a:lnTo>
                    <a:pt x="547" y="989"/>
                  </a:lnTo>
                  <a:lnTo>
                    <a:pt x="543" y="988"/>
                  </a:lnTo>
                  <a:lnTo>
                    <a:pt x="539" y="986"/>
                  </a:lnTo>
                  <a:lnTo>
                    <a:pt x="536" y="984"/>
                  </a:lnTo>
                  <a:lnTo>
                    <a:pt x="532" y="982"/>
                  </a:lnTo>
                  <a:lnTo>
                    <a:pt x="527" y="979"/>
                  </a:lnTo>
                  <a:lnTo>
                    <a:pt x="523" y="977"/>
                  </a:lnTo>
                  <a:lnTo>
                    <a:pt x="520" y="973"/>
                  </a:lnTo>
                  <a:lnTo>
                    <a:pt x="513" y="967"/>
                  </a:lnTo>
                  <a:lnTo>
                    <a:pt x="505" y="959"/>
                  </a:lnTo>
                  <a:lnTo>
                    <a:pt x="502" y="954"/>
                  </a:lnTo>
                  <a:lnTo>
                    <a:pt x="498" y="950"/>
                  </a:lnTo>
                  <a:lnTo>
                    <a:pt x="495" y="946"/>
                  </a:lnTo>
                  <a:lnTo>
                    <a:pt x="493" y="941"/>
                  </a:lnTo>
                  <a:lnTo>
                    <a:pt x="489" y="935"/>
                  </a:lnTo>
                  <a:lnTo>
                    <a:pt x="487" y="930"/>
                  </a:lnTo>
                  <a:lnTo>
                    <a:pt x="485" y="925"/>
                  </a:lnTo>
                  <a:lnTo>
                    <a:pt x="483" y="919"/>
                  </a:lnTo>
                  <a:lnTo>
                    <a:pt x="480" y="907"/>
                  </a:lnTo>
                  <a:lnTo>
                    <a:pt x="478" y="895"/>
                  </a:lnTo>
                  <a:lnTo>
                    <a:pt x="476" y="882"/>
                  </a:lnTo>
                  <a:lnTo>
                    <a:pt x="476" y="868"/>
                  </a:lnTo>
                  <a:lnTo>
                    <a:pt x="476" y="852"/>
                  </a:lnTo>
                  <a:lnTo>
                    <a:pt x="477" y="836"/>
                  </a:lnTo>
                  <a:lnTo>
                    <a:pt x="479" y="818"/>
                  </a:lnTo>
                  <a:lnTo>
                    <a:pt x="481" y="800"/>
                  </a:lnTo>
                  <a:lnTo>
                    <a:pt x="487" y="761"/>
                  </a:lnTo>
                  <a:lnTo>
                    <a:pt x="496" y="718"/>
                  </a:lnTo>
                  <a:lnTo>
                    <a:pt x="549" y="497"/>
                  </a:lnTo>
                  <a:lnTo>
                    <a:pt x="503" y="544"/>
                  </a:lnTo>
                  <a:lnTo>
                    <a:pt x="461" y="585"/>
                  </a:lnTo>
                  <a:lnTo>
                    <a:pt x="420" y="619"/>
                  </a:lnTo>
                  <a:lnTo>
                    <a:pt x="381" y="647"/>
                  </a:lnTo>
                  <a:lnTo>
                    <a:pt x="344" y="669"/>
                  </a:lnTo>
                  <a:lnTo>
                    <a:pt x="326" y="678"/>
                  </a:lnTo>
                  <a:lnTo>
                    <a:pt x="308" y="685"/>
                  </a:lnTo>
                  <a:lnTo>
                    <a:pt x="291" y="690"/>
                  </a:lnTo>
                  <a:lnTo>
                    <a:pt x="275" y="694"/>
                  </a:lnTo>
                  <a:lnTo>
                    <a:pt x="259" y="696"/>
                  </a:lnTo>
                  <a:lnTo>
                    <a:pt x="243" y="697"/>
                  </a:lnTo>
                  <a:lnTo>
                    <a:pt x="230" y="697"/>
                  </a:lnTo>
                  <a:lnTo>
                    <a:pt x="218" y="695"/>
                  </a:lnTo>
                  <a:lnTo>
                    <a:pt x="206" y="694"/>
                  </a:lnTo>
                  <a:lnTo>
                    <a:pt x="196" y="690"/>
                  </a:lnTo>
                  <a:lnTo>
                    <a:pt x="185" y="685"/>
                  </a:lnTo>
                  <a:lnTo>
                    <a:pt x="177" y="681"/>
                  </a:lnTo>
                  <a:lnTo>
                    <a:pt x="168" y="675"/>
                  </a:lnTo>
                  <a:lnTo>
                    <a:pt x="161" y="667"/>
                  </a:lnTo>
                  <a:lnTo>
                    <a:pt x="155" y="660"/>
                  </a:lnTo>
                  <a:lnTo>
                    <a:pt x="149" y="652"/>
                  </a:lnTo>
                  <a:lnTo>
                    <a:pt x="144" y="642"/>
                  </a:lnTo>
                  <a:lnTo>
                    <a:pt x="141" y="631"/>
                  </a:lnTo>
                  <a:lnTo>
                    <a:pt x="138" y="619"/>
                  </a:lnTo>
                  <a:lnTo>
                    <a:pt x="136" y="607"/>
                  </a:lnTo>
                  <a:lnTo>
                    <a:pt x="134" y="594"/>
                  </a:lnTo>
                  <a:lnTo>
                    <a:pt x="134" y="580"/>
                  </a:lnTo>
                  <a:lnTo>
                    <a:pt x="134" y="574"/>
                  </a:lnTo>
                  <a:lnTo>
                    <a:pt x="135" y="565"/>
                  </a:lnTo>
                  <a:lnTo>
                    <a:pt x="137" y="545"/>
                  </a:lnTo>
                  <a:lnTo>
                    <a:pt x="147" y="485"/>
                  </a:lnTo>
                  <a:lnTo>
                    <a:pt x="189" y="294"/>
                  </a:lnTo>
                  <a:lnTo>
                    <a:pt x="198" y="255"/>
                  </a:lnTo>
                  <a:lnTo>
                    <a:pt x="204" y="224"/>
                  </a:lnTo>
                  <a:lnTo>
                    <a:pt x="207" y="201"/>
                  </a:lnTo>
                  <a:lnTo>
                    <a:pt x="208" y="191"/>
                  </a:lnTo>
                  <a:lnTo>
                    <a:pt x="208" y="184"/>
                  </a:lnTo>
                  <a:lnTo>
                    <a:pt x="208" y="180"/>
                  </a:lnTo>
                  <a:lnTo>
                    <a:pt x="208" y="179"/>
                  </a:lnTo>
                  <a:lnTo>
                    <a:pt x="208" y="179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8" y="177"/>
                  </a:lnTo>
                  <a:lnTo>
                    <a:pt x="208" y="177"/>
                  </a:lnTo>
                  <a:lnTo>
                    <a:pt x="207" y="177"/>
                  </a:lnTo>
                  <a:lnTo>
                    <a:pt x="207" y="177"/>
                  </a:lnTo>
                  <a:lnTo>
                    <a:pt x="207" y="177"/>
                  </a:lnTo>
                  <a:lnTo>
                    <a:pt x="207" y="177"/>
                  </a:lnTo>
                  <a:lnTo>
                    <a:pt x="207" y="177"/>
                  </a:lnTo>
                  <a:lnTo>
                    <a:pt x="207" y="177"/>
                  </a:lnTo>
                  <a:lnTo>
                    <a:pt x="207" y="177"/>
                  </a:lnTo>
                  <a:lnTo>
                    <a:pt x="205" y="177"/>
                  </a:lnTo>
                  <a:lnTo>
                    <a:pt x="203" y="177"/>
                  </a:lnTo>
                  <a:lnTo>
                    <a:pt x="198" y="179"/>
                  </a:lnTo>
                  <a:lnTo>
                    <a:pt x="193" y="180"/>
                  </a:lnTo>
                  <a:lnTo>
                    <a:pt x="186" y="184"/>
                  </a:lnTo>
                  <a:lnTo>
                    <a:pt x="173" y="194"/>
                  </a:lnTo>
                  <a:lnTo>
                    <a:pt x="156" y="206"/>
                  </a:lnTo>
                  <a:lnTo>
                    <a:pt x="137" y="222"/>
                  </a:lnTo>
                  <a:lnTo>
                    <a:pt x="114" y="24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08680" y="600120"/>
              <a:ext cx="228600" cy="353880"/>
            </a:xfrm>
            <a:custGeom>
              <a:avLst/>
              <a:gdLst/>
              <a:ahLst/>
              <a:rect l="l" t="t" r="r" b="b"/>
              <a:pathLst>
                <a:path w="636" h="985">
                  <a:moveTo>
                    <a:pt x="532" y="638"/>
                  </a:moveTo>
                  <a:lnTo>
                    <a:pt x="579" y="713"/>
                  </a:lnTo>
                  <a:lnTo>
                    <a:pt x="519" y="776"/>
                  </a:lnTo>
                  <a:lnTo>
                    <a:pt x="461" y="831"/>
                  </a:lnTo>
                  <a:lnTo>
                    <a:pt x="405" y="878"/>
                  </a:lnTo>
                  <a:lnTo>
                    <a:pt x="351" y="916"/>
                  </a:lnTo>
                  <a:lnTo>
                    <a:pt x="300" y="945"/>
                  </a:lnTo>
                  <a:lnTo>
                    <a:pt x="275" y="957"/>
                  </a:lnTo>
                  <a:lnTo>
                    <a:pt x="251" y="967"/>
                  </a:lnTo>
                  <a:lnTo>
                    <a:pt x="227" y="974"/>
                  </a:lnTo>
                  <a:lnTo>
                    <a:pt x="204" y="979"/>
                  </a:lnTo>
                  <a:lnTo>
                    <a:pt x="181" y="982"/>
                  </a:lnTo>
                  <a:lnTo>
                    <a:pt x="159" y="984"/>
                  </a:lnTo>
                  <a:lnTo>
                    <a:pt x="140" y="982"/>
                  </a:lnTo>
                  <a:lnTo>
                    <a:pt x="122" y="980"/>
                  </a:lnTo>
                  <a:lnTo>
                    <a:pt x="114" y="978"/>
                  </a:lnTo>
                  <a:lnTo>
                    <a:pt x="106" y="975"/>
                  </a:lnTo>
                  <a:lnTo>
                    <a:pt x="98" y="973"/>
                  </a:lnTo>
                  <a:lnTo>
                    <a:pt x="91" y="969"/>
                  </a:lnTo>
                  <a:lnTo>
                    <a:pt x="83" y="966"/>
                  </a:lnTo>
                  <a:lnTo>
                    <a:pt x="77" y="961"/>
                  </a:lnTo>
                  <a:lnTo>
                    <a:pt x="69" y="956"/>
                  </a:lnTo>
                  <a:lnTo>
                    <a:pt x="63" y="951"/>
                  </a:lnTo>
                  <a:lnTo>
                    <a:pt x="57" y="945"/>
                  </a:lnTo>
                  <a:lnTo>
                    <a:pt x="52" y="939"/>
                  </a:lnTo>
                  <a:lnTo>
                    <a:pt x="46" y="932"/>
                  </a:lnTo>
                  <a:lnTo>
                    <a:pt x="41" y="925"/>
                  </a:lnTo>
                  <a:lnTo>
                    <a:pt x="36" y="918"/>
                  </a:lnTo>
                  <a:lnTo>
                    <a:pt x="31" y="909"/>
                  </a:lnTo>
                  <a:lnTo>
                    <a:pt x="27" y="901"/>
                  </a:lnTo>
                  <a:lnTo>
                    <a:pt x="23" y="891"/>
                  </a:lnTo>
                  <a:lnTo>
                    <a:pt x="16" y="871"/>
                  </a:lnTo>
                  <a:lnTo>
                    <a:pt x="10" y="849"/>
                  </a:lnTo>
                  <a:lnTo>
                    <a:pt x="5" y="825"/>
                  </a:lnTo>
                  <a:lnTo>
                    <a:pt x="2" y="800"/>
                  </a:lnTo>
                  <a:lnTo>
                    <a:pt x="1" y="772"/>
                  </a:lnTo>
                  <a:lnTo>
                    <a:pt x="0" y="742"/>
                  </a:lnTo>
                  <a:lnTo>
                    <a:pt x="2" y="684"/>
                  </a:lnTo>
                  <a:lnTo>
                    <a:pt x="8" y="624"/>
                  </a:lnTo>
                  <a:lnTo>
                    <a:pt x="18" y="565"/>
                  </a:lnTo>
                  <a:lnTo>
                    <a:pt x="31" y="506"/>
                  </a:lnTo>
                  <a:lnTo>
                    <a:pt x="49" y="447"/>
                  </a:lnTo>
                  <a:lnTo>
                    <a:pt x="72" y="389"/>
                  </a:lnTo>
                  <a:lnTo>
                    <a:pt x="97" y="330"/>
                  </a:lnTo>
                  <a:lnTo>
                    <a:pt x="126" y="271"/>
                  </a:lnTo>
                  <a:lnTo>
                    <a:pt x="163" y="208"/>
                  </a:lnTo>
                  <a:lnTo>
                    <a:pt x="203" y="152"/>
                  </a:lnTo>
                  <a:lnTo>
                    <a:pt x="223" y="128"/>
                  </a:lnTo>
                  <a:lnTo>
                    <a:pt x="244" y="106"/>
                  </a:lnTo>
                  <a:lnTo>
                    <a:pt x="265" y="85"/>
                  </a:lnTo>
                  <a:lnTo>
                    <a:pt x="286" y="67"/>
                  </a:lnTo>
                  <a:lnTo>
                    <a:pt x="308" y="52"/>
                  </a:lnTo>
                  <a:lnTo>
                    <a:pt x="331" y="38"/>
                  </a:lnTo>
                  <a:lnTo>
                    <a:pt x="354" y="26"/>
                  </a:lnTo>
                  <a:lnTo>
                    <a:pt x="378" y="17"/>
                  </a:lnTo>
                  <a:lnTo>
                    <a:pt x="401" y="10"/>
                  </a:lnTo>
                  <a:lnTo>
                    <a:pt x="425" y="5"/>
                  </a:lnTo>
                  <a:lnTo>
                    <a:pt x="451" y="1"/>
                  </a:lnTo>
                  <a:lnTo>
                    <a:pt x="476" y="0"/>
                  </a:lnTo>
                  <a:lnTo>
                    <a:pt x="494" y="1"/>
                  </a:lnTo>
                  <a:lnTo>
                    <a:pt x="512" y="2"/>
                  </a:lnTo>
                  <a:lnTo>
                    <a:pt x="528" y="6"/>
                  </a:lnTo>
                  <a:lnTo>
                    <a:pt x="544" y="11"/>
                  </a:lnTo>
                  <a:lnTo>
                    <a:pt x="551" y="14"/>
                  </a:lnTo>
                  <a:lnTo>
                    <a:pt x="557" y="17"/>
                  </a:lnTo>
                  <a:lnTo>
                    <a:pt x="564" y="20"/>
                  </a:lnTo>
                  <a:lnTo>
                    <a:pt x="570" y="25"/>
                  </a:lnTo>
                  <a:lnTo>
                    <a:pt x="576" y="29"/>
                  </a:lnTo>
                  <a:lnTo>
                    <a:pt x="583" y="34"/>
                  </a:lnTo>
                  <a:lnTo>
                    <a:pt x="588" y="38"/>
                  </a:lnTo>
                  <a:lnTo>
                    <a:pt x="593" y="44"/>
                  </a:lnTo>
                  <a:lnTo>
                    <a:pt x="598" y="50"/>
                  </a:lnTo>
                  <a:lnTo>
                    <a:pt x="603" y="56"/>
                  </a:lnTo>
                  <a:lnTo>
                    <a:pt x="608" y="62"/>
                  </a:lnTo>
                  <a:lnTo>
                    <a:pt x="612" y="68"/>
                  </a:lnTo>
                  <a:lnTo>
                    <a:pt x="615" y="76"/>
                  </a:lnTo>
                  <a:lnTo>
                    <a:pt x="620" y="83"/>
                  </a:lnTo>
                  <a:lnTo>
                    <a:pt x="622" y="90"/>
                  </a:lnTo>
                  <a:lnTo>
                    <a:pt x="625" y="97"/>
                  </a:lnTo>
                  <a:lnTo>
                    <a:pt x="627" y="106"/>
                  </a:lnTo>
                  <a:lnTo>
                    <a:pt x="629" y="113"/>
                  </a:lnTo>
                  <a:lnTo>
                    <a:pt x="633" y="130"/>
                  </a:lnTo>
                  <a:lnTo>
                    <a:pt x="634" y="148"/>
                  </a:lnTo>
                  <a:lnTo>
                    <a:pt x="635" y="166"/>
                  </a:lnTo>
                  <a:lnTo>
                    <a:pt x="634" y="185"/>
                  </a:lnTo>
                  <a:lnTo>
                    <a:pt x="632" y="204"/>
                  </a:lnTo>
                  <a:lnTo>
                    <a:pt x="629" y="223"/>
                  </a:lnTo>
                  <a:lnTo>
                    <a:pt x="624" y="242"/>
                  </a:lnTo>
                  <a:lnTo>
                    <a:pt x="618" y="260"/>
                  </a:lnTo>
                  <a:lnTo>
                    <a:pt x="609" y="280"/>
                  </a:lnTo>
                  <a:lnTo>
                    <a:pt x="600" y="298"/>
                  </a:lnTo>
                  <a:lnTo>
                    <a:pt x="589" y="316"/>
                  </a:lnTo>
                  <a:lnTo>
                    <a:pt x="576" y="334"/>
                  </a:lnTo>
                  <a:lnTo>
                    <a:pt x="563" y="352"/>
                  </a:lnTo>
                  <a:lnTo>
                    <a:pt x="547" y="369"/>
                  </a:lnTo>
                  <a:lnTo>
                    <a:pt x="529" y="387"/>
                  </a:lnTo>
                  <a:lnTo>
                    <a:pt x="509" y="405"/>
                  </a:lnTo>
                  <a:lnTo>
                    <a:pt x="488" y="423"/>
                  </a:lnTo>
                  <a:lnTo>
                    <a:pt x="464" y="440"/>
                  </a:lnTo>
                  <a:lnTo>
                    <a:pt x="439" y="458"/>
                  </a:lnTo>
                  <a:lnTo>
                    <a:pt x="399" y="482"/>
                  </a:lnTo>
                  <a:lnTo>
                    <a:pt x="345" y="513"/>
                  </a:lnTo>
                  <a:lnTo>
                    <a:pt x="200" y="589"/>
                  </a:lnTo>
                  <a:lnTo>
                    <a:pt x="197" y="612"/>
                  </a:lnTo>
                  <a:lnTo>
                    <a:pt x="196" y="636"/>
                  </a:lnTo>
                  <a:lnTo>
                    <a:pt x="194" y="660"/>
                  </a:lnTo>
                  <a:lnTo>
                    <a:pt x="194" y="685"/>
                  </a:lnTo>
                  <a:lnTo>
                    <a:pt x="194" y="702"/>
                  </a:lnTo>
                  <a:lnTo>
                    <a:pt x="195" y="717"/>
                  </a:lnTo>
                  <a:lnTo>
                    <a:pt x="196" y="730"/>
                  </a:lnTo>
                  <a:lnTo>
                    <a:pt x="198" y="744"/>
                  </a:lnTo>
                  <a:lnTo>
                    <a:pt x="200" y="754"/>
                  </a:lnTo>
                  <a:lnTo>
                    <a:pt x="203" y="764"/>
                  </a:lnTo>
                  <a:lnTo>
                    <a:pt x="205" y="768"/>
                  </a:lnTo>
                  <a:lnTo>
                    <a:pt x="206" y="772"/>
                  </a:lnTo>
                  <a:lnTo>
                    <a:pt x="208" y="775"/>
                  </a:lnTo>
                  <a:lnTo>
                    <a:pt x="210" y="778"/>
                  </a:lnTo>
                  <a:lnTo>
                    <a:pt x="212" y="781"/>
                  </a:lnTo>
                  <a:lnTo>
                    <a:pt x="214" y="784"/>
                  </a:lnTo>
                  <a:lnTo>
                    <a:pt x="217" y="787"/>
                  </a:lnTo>
                  <a:lnTo>
                    <a:pt x="219" y="788"/>
                  </a:lnTo>
                  <a:lnTo>
                    <a:pt x="222" y="790"/>
                  </a:lnTo>
                  <a:lnTo>
                    <a:pt x="225" y="793"/>
                  </a:lnTo>
                  <a:lnTo>
                    <a:pt x="228" y="794"/>
                  </a:lnTo>
                  <a:lnTo>
                    <a:pt x="231" y="795"/>
                  </a:lnTo>
                  <a:lnTo>
                    <a:pt x="233" y="796"/>
                  </a:lnTo>
                  <a:lnTo>
                    <a:pt x="236" y="798"/>
                  </a:lnTo>
                  <a:lnTo>
                    <a:pt x="239" y="799"/>
                  </a:lnTo>
                  <a:lnTo>
                    <a:pt x="244" y="800"/>
                  </a:lnTo>
                  <a:lnTo>
                    <a:pt x="250" y="801"/>
                  </a:lnTo>
                  <a:lnTo>
                    <a:pt x="257" y="801"/>
                  </a:lnTo>
                  <a:lnTo>
                    <a:pt x="266" y="801"/>
                  </a:lnTo>
                  <a:lnTo>
                    <a:pt x="275" y="800"/>
                  </a:lnTo>
                  <a:lnTo>
                    <a:pt x="285" y="798"/>
                  </a:lnTo>
                  <a:lnTo>
                    <a:pt x="294" y="795"/>
                  </a:lnTo>
                  <a:lnTo>
                    <a:pt x="304" y="793"/>
                  </a:lnTo>
                  <a:lnTo>
                    <a:pt x="314" y="788"/>
                  </a:lnTo>
                  <a:lnTo>
                    <a:pt x="324" y="784"/>
                  </a:lnTo>
                  <a:lnTo>
                    <a:pt x="335" y="778"/>
                  </a:lnTo>
                  <a:lnTo>
                    <a:pt x="350" y="769"/>
                  </a:lnTo>
                  <a:lnTo>
                    <a:pt x="369" y="758"/>
                  </a:lnTo>
                  <a:lnTo>
                    <a:pt x="414" y="727"/>
                  </a:lnTo>
                  <a:lnTo>
                    <a:pt x="468" y="687"/>
                  </a:lnTo>
                  <a:close/>
                  <a:moveTo>
                    <a:pt x="214" y="481"/>
                  </a:moveTo>
                  <a:lnTo>
                    <a:pt x="272" y="445"/>
                  </a:lnTo>
                  <a:lnTo>
                    <a:pt x="298" y="427"/>
                  </a:lnTo>
                  <a:lnTo>
                    <a:pt x="323" y="408"/>
                  </a:lnTo>
                  <a:lnTo>
                    <a:pt x="345" y="390"/>
                  </a:lnTo>
                  <a:lnTo>
                    <a:pt x="367" y="372"/>
                  </a:lnTo>
                  <a:lnTo>
                    <a:pt x="386" y="353"/>
                  </a:lnTo>
                  <a:lnTo>
                    <a:pt x="404" y="335"/>
                  </a:lnTo>
                  <a:lnTo>
                    <a:pt x="417" y="318"/>
                  </a:lnTo>
                  <a:lnTo>
                    <a:pt x="427" y="301"/>
                  </a:lnTo>
                  <a:lnTo>
                    <a:pt x="436" y="286"/>
                  </a:lnTo>
                  <a:lnTo>
                    <a:pt x="443" y="270"/>
                  </a:lnTo>
                  <a:lnTo>
                    <a:pt x="450" y="254"/>
                  </a:lnTo>
                  <a:lnTo>
                    <a:pt x="452" y="247"/>
                  </a:lnTo>
                  <a:lnTo>
                    <a:pt x="454" y="240"/>
                  </a:lnTo>
                  <a:lnTo>
                    <a:pt x="455" y="233"/>
                  </a:lnTo>
                  <a:lnTo>
                    <a:pt x="456" y="226"/>
                  </a:lnTo>
                  <a:lnTo>
                    <a:pt x="457" y="220"/>
                  </a:lnTo>
                  <a:lnTo>
                    <a:pt x="457" y="212"/>
                  </a:lnTo>
                  <a:lnTo>
                    <a:pt x="457" y="204"/>
                  </a:lnTo>
                  <a:lnTo>
                    <a:pt x="456" y="196"/>
                  </a:lnTo>
                  <a:lnTo>
                    <a:pt x="455" y="187"/>
                  </a:lnTo>
                  <a:lnTo>
                    <a:pt x="453" y="180"/>
                  </a:lnTo>
                  <a:lnTo>
                    <a:pt x="451" y="173"/>
                  </a:lnTo>
                  <a:lnTo>
                    <a:pt x="449" y="167"/>
                  </a:lnTo>
                  <a:lnTo>
                    <a:pt x="446" y="163"/>
                  </a:lnTo>
                  <a:lnTo>
                    <a:pt x="445" y="161"/>
                  </a:lnTo>
                  <a:lnTo>
                    <a:pt x="443" y="157"/>
                  </a:lnTo>
                  <a:lnTo>
                    <a:pt x="441" y="155"/>
                  </a:lnTo>
                  <a:lnTo>
                    <a:pt x="437" y="150"/>
                  </a:lnTo>
                  <a:lnTo>
                    <a:pt x="435" y="148"/>
                  </a:lnTo>
                  <a:lnTo>
                    <a:pt x="433" y="146"/>
                  </a:lnTo>
                  <a:lnTo>
                    <a:pt x="431" y="144"/>
                  </a:lnTo>
                  <a:lnTo>
                    <a:pt x="427" y="143"/>
                  </a:lnTo>
                  <a:lnTo>
                    <a:pt x="425" y="142"/>
                  </a:lnTo>
                  <a:lnTo>
                    <a:pt x="423" y="139"/>
                  </a:lnTo>
                  <a:lnTo>
                    <a:pt x="420" y="138"/>
                  </a:lnTo>
                  <a:lnTo>
                    <a:pt x="418" y="137"/>
                  </a:lnTo>
                  <a:lnTo>
                    <a:pt x="415" y="137"/>
                  </a:lnTo>
                  <a:lnTo>
                    <a:pt x="412" y="136"/>
                  </a:lnTo>
                  <a:lnTo>
                    <a:pt x="409" y="136"/>
                  </a:lnTo>
                  <a:lnTo>
                    <a:pt x="406" y="134"/>
                  </a:lnTo>
                  <a:lnTo>
                    <a:pt x="400" y="134"/>
                  </a:lnTo>
                  <a:lnTo>
                    <a:pt x="393" y="134"/>
                  </a:lnTo>
                  <a:lnTo>
                    <a:pt x="386" y="136"/>
                  </a:lnTo>
                  <a:lnTo>
                    <a:pt x="379" y="138"/>
                  </a:lnTo>
                  <a:lnTo>
                    <a:pt x="371" y="140"/>
                  </a:lnTo>
                  <a:lnTo>
                    <a:pt x="364" y="144"/>
                  </a:lnTo>
                  <a:lnTo>
                    <a:pt x="358" y="149"/>
                  </a:lnTo>
                  <a:lnTo>
                    <a:pt x="350" y="154"/>
                  </a:lnTo>
                  <a:lnTo>
                    <a:pt x="344" y="160"/>
                  </a:lnTo>
                  <a:lnTo>
                    <a:pt x="333" y="169"/>
                  </a:lnTo>
                  <a:lnTo>
                    <a:pt x="324" y="179"/>
                  </a:lnTo>
                  <a:lnTo>
                    <a:pt x="315" y="190"/>
                  </a:lnTo>
                  <a:lnTo>
                    <a:pt x="306" y="200"/>
                  </a:lnTo>
                  <a:lnTo>
                    <a:pt x="298" y="211"/>
                  </a:lnTo>
                  <a:lnTo>
                    <a:pt x="290" y="223"/>
                  </a:lnTo>
                  <a:lnTo>
                    <a:pt x="283" y="235"/>
                  </a:lnTo>
                  <a:lnTo>
                    <a:pt x="276" y="247"/>
                  </a:lnTo>
                  <a:lnTo>
                    <a:pt x="255" y="314"/>
                  </a:lnTo>
                  <a:lnTo>
                    <a:pt x="238" y="375"/>
                  </a:lnTo>
                  <a:lnTo>
                    <a:pt x="225" y="432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56360" y="600120"/>
              <a:ext cx="237960" cy="353880"/>
            </a:xfrm>
            <a:custGeom>
              <a:avLst/>
              <a:gdLst/>
              <a:ahLst/>
              <a:rect l="l" t="t" r="r" b="b"/>
              <a:pathLst>
                <a:path w="660" h="985">
                  <a:moveTo>
                    <a:pt x="550" y="673"/>
                  </a:moveTo>
                  <a:lnTo>
                    <a:pt x="581" y="767"/>
                  </a:lnTo>
                  <a:lnTo>
                    <a:pt x="523" y="818"/>
                  </a:lnTo>
                  <a:lnTo>
                    <a:pt x="466" y="862"/>
                  </a:lnTo>
                  <a:lnTo>
                    <a:pt x="412" y="899"/>
                  </a:lnTo>
                  <a:lnTo>
                    <a:pt x="361" y="930"/>
                  </a:lnTo>
                  <a:lnTo>
                    <a:pt x="312" y="954"/>
                  </a:lnTo>
                  <a:lnTo>
                    <a:pt x="288" y="962"/>
                  </a:lnTo>
                  <a:lnTo>
                    <a:pt x="265" y="971"/>
                  </a:lnTo>
                  <a:lnTo>
                    <a:pt x="242" y="977"/>
                  </a:lnTo>
                  <a:lnTo>
                    <a:pt x="221" y="980"/>
                  </a:lnTo>
                  <a:lnTo>
                    <a:pt x="200" y="983"/>
                  </a:lnTo>
                  <a:lnTo>
                    <a:pt x="179" y="984"/>
                  </a:lnTo>
                  <a:lnTo>
                    <a:pt x="155" y="983"/>
                  </a:lnTo>
                  <a:lnTo>
                    <a:pt x="145" y="982"/>
                  </a:lnTo>
                  <a:lnTo>
                    <a:pt x="134" y="979"/>
                  </a:lnTo>
                  <a:lnTo>
                    <a:pt x="125" y="977"/>
                  </a:lnTo>
                  <a:lnTo>
                    <a:pt x="115" y="973"/>
                  </a:lnTo>
                  <a:lnTo>
                    <a:pt x="106" y="970"/>
                  </a:lnTo>
                  <a:lnTo>
                    <a:pt x="97" y="965"/>
                  </a:lnTo>
                  <a:lnTo>
                    <a:pt x="89" y="960"/>
                  </a:lnTo>
                  <a:lnTo>
                    <a:pt x="80" y="955"/>
                  </a:lnTo>
                  <a:lnTo>
                    <a:pt x="73" y="949"/>
                  </a:lnTo>
                  <a:lnTo>
                    <a:pt x="67" y="942"/>
                  </a:lnTo>
                  <a:lnTo>
                    <a:pt x="59" y="935"/>
                  </a:lnTo>
                  <a:lnTo>
                    <a:pt x="54" y="926"/>
                  </a:lnTo>
                  <a:lnTo>
                    <a:pt x="48" y="918"/>
                  </a:lnTo>
                  <a:lnTo>
                    <a:pt x="42" y="910"/>
                  </a:lnTo>
                  <a:lnTo>
                    <a:pt x="33" y="890"/>
                  </a:lnTo>
                  <a:lnTo>
                    <a:pt x="23" y="870"/>
                  </a:lnTo>
                  <a:lnTo>
                    <a:pt x="16" y="848"/>
                  </a:lnTo>
                  <a:lnTo>
                    <a:pt x="11" y="826"/>
                  </a:lnTo>
                  <a:lnTo>
                    <a:pt x="7" y="802"/>
                  </a:lnTo>
                  <a:lnTo>
                    <a:pt x="2" y="778"/>
                  </a:lnTo>
                  <a:lnTo>
                    <a:pt x="1" y="751"/>
                  </a:lnTo>
                  <a:lnTo>
                    <a:pt x="0" y="725"/>
                  </a:lnTo>
                  <a:lnTo>
                    <a:pt x="1" y="681"/>
                  </a:lnTo>
                  <a:lnTo>
                    <a:pt x="5" y="636"/>
                  </a:lnTo>
                  <a:lnTo>
                    <a:pt x="12" y="592"/>
                  </a:lnTo>
                  <a:lnTo>
                    <a:pt x="21" y="546"/>
                  </a:lnTo>
                  <a:lnTo>
                    <a:pt x="32" y="502"/>
                  </a:lnTo>
                  <a:lnTo>
                    <a:pt x="47" y="456"/>
                  </a:lnTo>
                  <a:lnTo>
                    <a:pt x="64" y="409"/>
                  </a:lnTo>
                  <a:lnTo>
                    <a:pt x="83" y="364"/>
                  </a:lnTo>
                  <a:lnTo>
                    <a:pt x="104" y="320"/>
                  </a:lnTo>
                  <a:lnTo>
                    <a:pt x="125" y="279"/>
                  </a:lnTo>
                  <a:lnTo>
                    <a:pt x="148" y="240"/>
                  </a:lnTo>
                  <a:lnTo>
                    <a:pt x="171" y="207"/>
                  </a:lnTo>
                  <a:lnTo>
                    <a:pt x="196" y="176"/>
                  </a:lnTo>
                  <a:lnTo>
                    <a:pt x="221" y="149"/>
                  </a:lnTo>
                  <a:lnTo>
                    <a:pt x="247" y="125"/>
                  </a:lnTo>
                  <a:lnTo>
                    <a:pt x="275" y="105"/>
                  </a:lnTo>
                  <a:lnTo>
                    <a:pt x="301" y="81"/>
                  </a:lnTo>
                  <a:lnTo>
                    <a:pt x="328" y="59"/>
                  </a:lnTo>
                  <a:lnTo>
                    <a:pt x="354" y="41"/>
                  </a:lnTo>
                  <a:lnTo>
                    <a:pt x="381" y="27"/>
                  </a:lnTo>
                  <a:lnTo>
                    <a:pt x="410" y="15"/>
                  </a:lnTo>
                  <a:lnTo>
                    <a:pt x="438" y="6"/>
                  </a:lnTo>
                  <a:lnTo>
                    <a:pt x="467" y="2"/>
                  </a:lnTo>
                  <a:lnTo>
                    <a:pt x="497" y="0"/>
                  </a:lnTo>
                  <a:lnTo>
                    <a:pt x="516" y="0"/>
                  </a:lnTo>
                  <a:lnTo>
                    <a:pt x="532" y="3"/>
                  </a:lnTo>
                  <a:lnTo>
                    <a:pt x="549" y="5"/>
                  </a:lnTo>
                  <a:lnTo>
                    <a:pt x="564" y="10"/>
                  </a:lnTo>
                  <a:lnTo>
                    <a:pt x="579" y="15"/>
                  </a:lnTo>
                  <a:lnTo>
                    <a:pt x="593" y="21"/>
                  </a:lnTo>
                  <a:lnTo>
                    <a:pt x="604" y="28"/>
                  </a:lnTo>
                  <a:lnTo>
                    <a:pt x="611" y="32"/>
                  </a:lnTo>
                  <a:lnTo>
                    <a:pt x="616" y="36"/>
                  </a:lnTo>
                  <a:lnTo>
                    <a:pt x="626" y="46"/>
                  </a:lnTo>
                  <a:lnTo>
                    <a:pt x="631" y="51"/>
                  </a:lnTo>
                  <a:lnTo>
                    <a:pt x="635" y="56"/>
                  </a:lnTo>
                  <a:lnTo>
                    <a:pt x="638" y="60"/>
                  </a:lnTo>
                  <a:lnTo>
                    <a:pt x="642" y="66"/>
                  </a:lnTo>
                  <a:lnTo>
                    <a:pt x="645" y="71"/>
                  </a:lnTo>
                  <a:lnTo>
                    <a:pt x="649" y="77"/>
                  </a:lnTo>
                  <a:lnTo>
                    <a:pt x="651" y="82"/>
                  </a:lnTo>
                  <a:lnTo>
                    <a:pt x="653" y="88"/>
                  </a:lnTo>
                  <a:lnTo>
                    <a:pt x="655" y="94"/>
                  </a:lnTo>
                  <a:lnTo>
                    <a:pt x="656" y="100"/>
                  </a:lnTo>
                  <a:lnTo>
                    <a:pt x="658" y="107"/>
                  </a:lnTo>
                  <a:lnTo>
                    <a:pt x="658" y="113"/>
                  </a:lnTo>
                  <a:lnTo>
                    <a:pt x="659" y="119"/>
                  </a:lnTo>
                  <a:lnTo>
                    <a:pt x="659" y="126"/>
                  </a:lnTo>
                  <a:lnTo>
                    <a:pt x="659" y="137"/>
                  </a:lnTo>
                  <a:lnTo>
                    <a:pt x="658" y="147"/>
                  </a:lnTo>
                  <a:lnTo>
                    <a:pt x="657" y="152"/>
                  </a:lnTo>
                  <a:lnTo>
                    <a:pt x="656" y="156"/>
                  </a:lnTo>
                  <a:lnTo>
                    <a:pt x="654" y="161"/>
                  </a:lnTo>
                  <a:lnTo>
                    <a:pt x="653" y="166"/>
                  </a:lnTo>
                  <a:lnTo>
                    <a:pt x="651" y="170"/>
                  </a:lnTo>
                  <a:lnTo>
                    <a:pt x="650" y="174"/>
                  </a:lnTo>
                  <a:lnTo>
                    <a:pt x="648" y="178"/>
                  </a:lnTo>
                  <a:lnTo>
                    <a:pt x="645" y="182"/>
                  </a:lnTo>
                  <a:lnTo>
                    <a:pt x="640" y="190"/>
                  </a:lnTo>
                  <a:lnTo>
                    <a:pt x="634" y="197"/>
                  </a:lnTo>
                  <a:lnTo>
                    <a:pt x="627" y="203"/>
                  </a:lnTo>
                  <a:lnTo>
                    <a:pt x="623" y="207"/>
                  </a:lnTo>
                  <a:lnTo>
                    <a:pt x="620" y="209"/>
                  </a:lnTo>
                  <a:lnTo>
                    <a:pt x="617" y="212"/>
                  </a:lnTo>
                  <a:lnTo>
                    <a:pt x="613" y="214"/>
                  </a:lnTo>
                  <a:lnTo>
                    <a:pt x="604" y="218"/>
                  </a:lnTo>
                  <a:lnTo>
                    <a:pt x="596" y="221"/>
                  </a:lnTo>
                  <a:lnTo>
                    <a:pt x="587" y="224"/>
                  </a:lnTo>
                  <a:lnTo>
                    <a:pt x="578" y="225"/>
                  </a:lnTo>
                  <a:lnTo>
                    <a:pt x="567" y="225"/>
                  </a:lnTo>
                  <a:lnTo>
                    <a:pt x="558" y="225"/>
                  </a:lnTo>
                  <a:lnTo>
                    <a:pt x="547" y="222"/>
                  </a:lnTo>
                  <a:lnTo>
                    <a:pt x="538" y="220"/>
                  </a:lnTo>
                  <a:lnTo>
                    <a:pt x="528" y="216"/>
                  </a:lnTo>
                  <a:lnTo>
                    <a:pt x="520" y="212"/>
                  </a:lnTo>
                  <a:lnTo>
                    <a:pt x="510" y="206"/>
                  </a:lnTo>
                  <a:lnTo>
                    <a:pt x="501" y="198"/>
                  </a:lnTo>
                  <a:lnTo>
                    <a:pt x="492" y="190"/>
                  </a:lnTo>
                  <a:lnTo>
                    <a:pt x="460" y="173"/>
                  </a:lnTo>
                  <a:lnTo>
                    <a:pt x="445" y="167"/>
                  </a:lnTo>
                  <a:lnTo>
                    <a:pt x="431" y="162"/>
                  </a:lnTo>
                  <a:lnTo>
                    <a:pt x="419" y="158"/>
                  </a:lnTo>
                  <a:lnTo>
                    <a:pt x="409" y="155"/>
                  </a:lnTo>
                  <a:lnTo>
                    <a:pt x="399" y="153"/>
                  </a:lnTo>
                  <a:lnTo>
                    <a:pt x="395" y="153"/>
                  </a:lnTo>
                  <a:lnTo>
                    <a:pt x="391" y="153"/>
                  </a:lnTo>
                  <a:lnTo>
                    <a:pt x="386" y="153"/>
                  </a:lnTo>
                  <a:lnTo>
                    <a:pt x="381" y="154"/>
                  </a:lnTo>
                  <a:lnTo>
                    <a:pt x="376" y="154"/>
                  </a:lnTo>
                  <a:lnTo>
                    <a:pt x="371" y="155"/>
                  </a:lnTo>
                  <a:lnTo>
                    <a:pt x="367" y="158"/>
                  </a:lnTo>
                  <a:lnTo>
                    <a:pt x="361" y="159"/>
                  </a:lnTo>
                  <a:lnTo>
                    <a:pt x="351" y="164"/>
                  </a:lnTo>
                  <a:lnTo>
                    <a:pt x="341" y="170"/>
                  </a:lnTo>
                  <a:lnTo>
                    <a:pt x="331" y="177"/>
                  </a:lnTo>
                  <a:lnTo>
                    <a:pt x="321" y="186"/>
                  </a:lnTo>
                  <a:lnTo>
                    <a:pt x="311" y="196"/>
                  </a:lnTo>
                  <a:lnTo>
                    <a:pt x="305" y="202"/>
                  </a:lnTo>
                  <a:lnTo>
                    <a:pt x="300" y="208"/>
                  </a:lnTo>
                  <a:lnTo>
                    <a:pt x="291" y="224"/>
                  </a:lnTo>
                  <a:lnTo>
                    <a:pt x="280" y="242"/>
                  </a:lnTo>
                  <a:lnTo>
                    <a:pt x="269" y="262"/>
                  </a:lnTo>
                  <a:lnTo>
                    <a:pt x="259" y="285"/>
                  </a:lnTo>
                  <a:lnTo>
                    <a:pt x="249" y="311"/>
                  </a:lnTo>
                  <a:lnTo>
                    <a:pt x="228" y="372"/>
                  </a:lnTo>
                  <a:lnTo>
                    <a:pt x="219" y="406"/>
                  </a:lnTo>
                  <a:lnTo>
                    <a:pt x="211" y="439"/>
                  </a:lnTo>
                  <a:lnTo>
                    <a:pt x="204" y="473"/>
                  </a:lnTo>
                  <a:lnTo>
                    <a:pt x="199" y="507"/>
                  </a:lnTo>
                  <a:lnTo>
                    <a:pt x="193" y="540"/>
                  </a:lnTo>
                  <a:lnTo>
                    <a:pt x="190" y="574"/>
                  </a:lnTo>
                  <a:lnTo>
                    <a:pt x="189" y="609"/>
                  </a:lnTo>
                  <a:lnTo>
                    <a:pt x="188" y="642"/>
                  </a:lnTo>
                  <a:lnTo>
                    <a:pt x="188" y="665"/>
                  </a:lnTo>
                  <a:lnTo>
                    <a:pt x="190" y="687"/>
                  </a:lnTo>
                  <a:lnTo>
                    <a:pt x="192" y="707"/>
                  </a:lnTo>
                  <a:lnTo>
                    <a:pt x="196" y="726"/>
                  </a:lnTo>
                  <a:lnTo>
                    <a:pt x="200" y="743"/>
                  </a:lnTo>
                  <a:lnTo>
                    <a:pt x="205" y="758"/>
                  </a:lnTo>
                  <a:lnTo>
                    <a:pt x="207" y="766"/>
                  </a:lnTo>
                  <a:lnTo>
                    <a:pt x="210" y="773"/>
                  </a:lnTo>
                  <a:lnTo>
                    <a:pt x="215" y="779"/>
                  </a:lnTo>
                  <a:lnTo>
                    <a:pt x="218" y="785"/>
                  </a:lnTo>
                  <a:lnTo>
                    <a:pt x="223" y="793"/>
                  </a:lnTo>
                  <a:lnTo>
                    <a:pt x="226" y="798"/>
                  </a:lnTo>
                  <a:lnTo>
                    <a:pt x="229" y="802"/>
                  </a:lnTo>
                  <a:lnTo>
                    <a:pt x="233" y="804"/>
                  </a:lnTo>
                  <a:lnTo>
                    <a:pt x="236" y="808"/>
                  </a:lnTo>
                  <a:lnTo>
                    <a:pt x="240" y="810"/>
                  </a:lnTo>
                  <a:lnTo>
                    <a:pt x="243" y="812"/>
                  </a:lnTo>
                  <a:lnTo>
                    <a:pt x="247" y="815"/>
                  </a:lnTo>
                  <a:lnTo>
                    <a:pt x="250" y="817"/>
                  </a:lnTo>
                  <a:lnTo>
                    <a:pt x="255" y="818"/>
                  </a:lnTo>
                  <a:lnTo>
                    <a:pt x="259" y="820"/>
                  </a:lnTo>
                  <a:lnTo>
                    <a:pt x="263" y="821"/>
                  </a:lnTo>
                  <a:lnTo>
                    <a:pt x="267" y="822"/>
                  </a:lnTo>
                  <a:lnTo>
                    <a:pt x="272" y="822"/>
                  </a:lnTo>
                  <a:lnTo>
                    <a:pt x="276" y="822"/>
                  </a:lnTo>
                  <a:lnTo>
                    <a:pt x="288" y="822"/>
                  </a:lnTo>
                  <a:lnTo>
                    <a:pt x="302" y="820"/>
                  </a:lnTo>
                  <a:lnTo>
                    <a:pt x="317" y="817"/>
                  </a:lnTo>
                  <a:lnTo>
                    <a:pt x="332" y="812"/>
                  </a:lnTo>
                  <a:lnTo>
                    <a:pt x="362" y="802"/>
                  </a:lnTo>
                  <a:lnTo>
                    <a:pt x="396" y="785"/>
                  </a:lnTo>
                  <a:lnTo>
                    <a:pt x="431" y="764"/>
                  </a:lnTo>
                  <a:lnTo>
                    <a:pt x="469" y="738"/>
                  </a:lnTo>
                  <a:lnTo>
                    <a:pt x="508" y="708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97560" y="600120"/>
              <a:ext cx="426960" cy="357120"/>
            </a:xfrm>
            <a:custGeom>
              <a:avLst/>
              <a:gdLst/>
              <a:ahLst/>
              <a:rect l="l" t="t" r="r" b="b"/>
              <a:pathLst>
                <a:path w="1185" h="993">
                  <a:moveTo>
                    <a:pt x="46" y="296"/>
                  </a:moveTo>
                  <a:lnTo>
                    <a:pt x="0" y="229"/>
                  </a:lnTo>
                  <a:lnTo>
                    <a:pt x="49" y="173"/>
                  </a:lnTo>
                  <a:lnTo>
                    <a:pt x="74" y="147"/>
                  </a:lnTo>
                  <a:lnTo>
                    <a:pt x="98" y="123"/>
                  </a:lnTo>
                  <a:lnTo>
                    <a:pt x="122" y="103"/>
                  </a:lnTo>
                  <a:lnTo>
                    <a:pt x="146" y="84"/>
                  </a:lnTo>
                  <a:lnTo>
                    <a:pt x="168" y="67"/>
                  </a:lnTo>
                  <a:lnTo>
                    <a:pt x="191" y="53"/>
                  </a:lnTo>
                  <a:lnTo>
                    <a:pt x="212" y="41"/>
                  </a:lnTo>
                  <a:lnTo>
                    <a:pt x="233" y="30"/>
                  </a:lnTo>
                  <a:lnTo>
                    <a:pt x="252" y="20"/>
                  </a:lnTo>
                  <a:lnTo>
                    <a:pt x="271" y="13"/>
                  </a:lnTo>
                  <a:lnTo>
                    <a:pt x="288" y="7"/>
                  </a:lnTo>
                  <a:lnTo>
                    <a:pt x="304" y="3"/>
                  </a:lnTo>
                  <a:lnTo>
                    <a:pt x="320" y="1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40" y="0"/>
                  </a:lnTo>
                  <a:lnTo>
                    <a:pt x="346" y="1"/>
                  </a:lnTo>
                  <a:lnTo>
                    <a:pt x="352" y="2"/>
                  </a:lnTo>
                  <a:lnTo>
                    <a:pt x="358" y="3"/>
                  </a:lnTo>
                  <a:lnTo>
                    <a:pt x="363" y="6"/>
                  </a:lnTo>
                  <a:lnTo>
                    <a:pt x="368" y="8"/>
                  </a:lnTo>
                  <a:lnTo>
                    <a:pt x="370" y="9"/>
                  </a:lnTo>
                  <a:lnTo>
                    <a:pt x="374" y="12"/>
                  </a:lnTo>
                  <a:lnTo>
                    <a:pt x="376" y="13"/>
                  </a:lnTo>
                  <a:lnTo>
                    <a:pt x="378" y="15"/>
                  </a:lnTo>
                  <a:lnTo>
                    <a:pt x="380" y="18"/>
                  </a:lnTo>
                  <a:lnTo>
                    <a:pt x="382" y="20"/>
                  </a:lnTo>
                  <a:lnTo>
                    <a:pt x="383" y="21"/>
                  </a:lnTo>
                  <a:lnTo>
                    <a:pt x="385" y="24"/>
                  </a:lnTo>
                  <a:lnTo>
                    <a:pt x="386" y="26"/>
                  </a:lnTo>
                  <a:lnTo>
                    <a:pt x="387" y="29"/>
                  </a:lnTo>
                  <a:lnTo>
                    <a:pt x="388" y="32"/>
                  </a:lnTo>
                  <a:lnTo>
                    <a:pt x="389" y="35"/>
                  </a:lnTo>
                  <a:lnTo>
                    <a:pt x="391" y="37"/>
                  </a:lnTo>
                  <a:lnTo>
                    <a:pt x="392" y="39"/>
                  </a:lnTo>
                  <a:lnTo>
                    <a:pt x="393" y="43"/>
                  </a:lnTo>
                  <a:lnTo>
                    <a:pt x="393" y="45"/>
                  </a:lnTo>
                  <a:lnTo>
                    <a:pt x="394" y="53"/>
                  </a:lnTo>
                  <a:lnTo>
                    <a:pt x="394" y="59"/>
                  </a:lnTo>
                  <a:lnTo>
                    <a:pt x="394" y="66"/>
                  </a:lnTo>
                  <a:lnTo>
                    <a:pt x="393" y="74"/>
                  </a:lnTo>
                  <a:lnTo>
                    <a:pt x="391" y="84"/>
                  </a:lnTo>
                  <a:lnTo>
                    <a:pt x="388" y="96"/>
                  </a:lnTo>
                  <a:lnTo>
                    <a:pt x="382" y="126"/>
                  </a:lnTo>
                  <a:lnTo>
                    <a:pt x="374" y="162"/>
                  </a:lnTo>
                  <a:lnTo>
                    <a:pt x="359" y="225"/>
                  </a:lnTo>
                  <a:lnTo>
                    <a:pt x="352" y="247"/>
                  </a:lnTo>
                  <a:lnTo>
                    <a:pt x="348" y="263"/>
                  </a:lnTo>
                  <a:lnTo>
                    <a:pt x="397" y="201"/>
                  </a:lnTo>
                  <a:lnTo>
                    <a:pt x="443" y="147"/>
                  </a:lnTo>
                  <a:lnTo>
                    <a:pt x="488" y="103"/>
                  </a:lnTo>
                  <a:lnTo>
                    <a:pt x="530" y="66"/>
                  </a:lnTo>
                  <a:lnTo>
                    <a:pt x="550" y="50"/>
                  </a:lnTo>
                  <a:lnTo>
                    <a:pt x="570" y="37"/>
                  </a:lnTo>
                  <a:lnTo>
                    <a:pt x="589" y="25"/>
                  </a:lnTo>
                  <a:lnTo>
                    <a:pt x="608" y="17"/>
                  </a:lnTo>
                  <a:lnTo>
                    <a:pt x="626" y="9"/>
                  </a:lnTo>
                  <a:lnTo>
                    <a:pt x="643" y="3"/>
                  </a:lnTo>
                  <a:lnTo>
                    <a:pt x="660" y="1"/>
                  </a:lnTo>
                  <a:lnTo>
                    <a:pt x="677" y="0"/>
                  </a:lnTo>
                  <a:lnTo>
                    <a:pt x="686" y="0"/>
                  </a:lnTo>
                  <a:lnTo>
                    <a:pt x="696" y="1"/>
                  </a:lnTo>
                  <a:lnTo>
                    <a:pt x="704" y="3"/>
                  </a:lnTo>
                  <a:lnTo>
                    <a:pt x="708" y="5"/>
                  </a:lnTo>
                  <a:lnTo>
                    <a:pt x="713" y="6"/>
                  </a:lnTo>
                  <a:lnTo>
                    <a:pt x="716" y="8"/>
                  </a:lnTo>
                  <a:lnTo>
                    <a:pt x="720" y="9"/>
                  </a:lnTo>
                  <a:lnTo>
                    <a:pt x="723" y="12"/>
                  </a:lnTo>
                  <a:lnTo>
                    <a:pt x="726" y="14"/>
                  </a:lnTo>
                  <a:lnTo>
                    <a:pt x="729" y="17"/>
                  </a:lnTo>
                  <a:lnTo>
                    <a:pt x="733" y="20"/>
                  </a:lnTo>
                  <a:lnTo>
                    <a:pt x="736" y="23"/>
                  </a:lnTo>
                  <a:lnTo>
                    <a:pt x="739" y="26"/>
                  </a:lnTo>
                  <a:lnTo>
                    <a:pt x="742" y="30"/>
                  </a:lnTo>
                  <a:lnTo>
                    <a:pt x="744" y="33"/>
                  </a:lnTo>
                  <a:lnTo>
                    <a:pt x="746" y="37"/>
                  </a:lnTo>
                  <a:lnTo>
                    <a:pt x="748" y="41"/>
                  </a:lnTo>
                  <a:lnTo>
                    <a:pt x="751" y="45"/>
                  </a:lnTo>
                  <a:lnTo>
                    <a:pt x="752" y="49"/>
                  </a:lnTo>
                  <a:lnTo>
                    <a:pt x="754" y="54"/>
                  </a:lnTo>
                  <a:lnTo>
                    <a:pt x="755" y="59"/>
                  </a:lnTo>
                  <a:lnTo>
                    <a:pt x="757" y="68"/>
                  </a:lnTo>
                  <a:lnTo>
                    <a:pt x="759" y="79"/>
                  </a:lnTo>
                  <a:lnTo>
                    <a:pt x="760" y="91"/>
                  </a:lnTo>
                  <a:lnTo>
                    <a:pt x="760" y="103"/>
                  </a:lnTo>
                  <a:lnTo>
                    <a:pt x="760" y="116"/>
                  </a:lnTo>
                  <a:lnTo>
                    <a:pt x="758" y="129"/>
                  </a:lnTo>
                  <a:lnTo>
                    <a:pt x="756" y="144"/>
                  </a:lnTo>
                  <a:lnTo>
                    <a:pt x="753" y="161"/>
                  </a:lnTo>
                  <a:lnTo>
                    <a:pt x="748" y="177"/>
                  </a:lnTo>
                  <a:lnTo>
                    <a:pt x="744" y="195"/>
                  </a:lnTo>
                  <a:lnTo>
                    <a:pt x="732" y="235"/>
                  </a:lnTo>
                  <a:lnTo>
                    <a:pt x="751" y="205"/>
                  </a:lnTo>
                  <a:lnTo>
                    <a:pt x="770" y="177"/>
                  </a:lnTo>
                  <a:lnTo>
                    <a:pt x="790" y="152"/>
                  </a:lnTo>
                  <a:lnTo>
                    <a:pt x="810" y="129"/>
                  </a:lnTo>
                  <a:lnTo>
                    <a:pt x="830" y="108"/>
                  </a:lnTo>
                  <a:lnTo>
                    <a:pt x="850" y="89"/>
                  </a:lnTo>
                  <a:lnTo>
                    <a:pt x="870" y="72"/>
                  </a:lnTo>
                  <a:lnTo>
                    <a:pt x="891" y="56"/>
                  </a:lnTo>
                  <a:lnTo>
                    <a:pt x="911" y="43"/>
                  </a:lnTo>
                  <a:lnTo>
                    <a:pt x="930" y="32"/>
                  </a:lnTo>
                  <a:lnTo>
                    <a:pt x="949" y="23"/>
                  </a:lnTo>
                  <a:lnTo>
                    <a:pt x="966" y="14"/>
                  </a:lnTo>
                  <a:lnTo>
                    <a:pt x="982" y="8"/>
                  </a:lnTo>
                  <a:lnTo>
                    <a:pt x="998" y="3"/>
                  </a:lnTo>
                  <a:lnTo>
                    <a:pt x="1011" y="1"/>
                  </a:lnTo>
                  <a:lnTo>
                    <a:pt x="1019" y="0"/>
                  </a:lnTo>
                  <a:lnTo>
                    <a:pt x="1025" y="0"/>
                  </a:lnTo>
                  <a:lnTo>
                    <a:pt x="1037" y="0"/>
                  </a:lnTo>
                  <a:lnTo>
                    <a:pt x="1048" y="2"/>
                  </a:lnTo>
                  <a:lnTo>
                    <a:pt x="1058" y="5"/>
                  </a:lnTo>
                  <a:lnTo>
                    <a:pt x="1068" y="8"/>
                  </a:lnTo>
                  <a:lnTo>
                    <a:pt x="1073" y="11"/>
                  </a:lnTo>
                  <a:lnTo>
                    <a:pt x="1078" y="13"/>
                  </a:lnTo>
                  <a:lnTo>
                    <a:pt x="1082" y="15"/>
                  </a:lnTo>
                  <a:lnTo>
                    <a:pt x="1086" y="18"/>
                  </a:lnTo>
                  <a:lnTo>
                    <a:pt x="1091" y="21"/>
                  </a:lnTo>
                  <a:lnTo>
                    <a:pt x="1094" y="25"/>
                  </a:lnTo>
                  <a:lnTo>
                    <a:pt x="1098" y="29"/>
                  </a:lnTo>
                  <a:lnTo>
                    <a:pt x="1101" y="32"/>
                  </a:lnTo>
                  <a:lnTo>
                    <a:pt x="1104" y="36"/>
                  </a:lnTo>
                  <a:lnTo>
                    <a:pt x="1108" y="41"/>
                  </a:lnTo>
                  <a:lnTo>
                    <a:pt x="1111" y="45"/>
                  </a:lnTo>
                  <a:lnTo>
                    <a:pt x="1113" y="50"/>
                  </a:lnTo>
                  <a:lnTo>
                    <a:pt x="1116" y="55"/>
                  </a:lnTo>
                  <a:lnTo>
                    <a:pt x="1118" y="61"/>
                  </a:lnTo>
                  <a:lnTo>
                    <a:pt x="1121" y="73"/>
                  </a:lnTo>
                  <a:lnTo>
                    <a:pt x="1124" y="85"/>
                  </a:lnTo>
                  <a:lnTo>
                    <a:pt x="1127" y="98"/>
                  </a:lnTo>
                  <a:lnTo>
                    <a:pt x="1129" y="113"/>
                  </a:lnTo>
                  <a:lnTo>
                    <a:pt x="1129" y="127"/>
                  </a:lnTo>
                  <a:lnTo>
                    <a:pt x="1129" y="137"/>
                  </a:lnTo>
                  <a:lnTo>
                    <a:pt x="1128" y="145"/>
                  </a:lnTo>
                  <a:lnTo>
                    <a:pt x="1127" y="165"/>
                  </a:lnTo>
                  <a:lnTo>
                    <a:pt x="1123" y="186"/>
                  </a:lnTo>
                  <a:lnTo>
                    <a:pt x="1119" y="209"/>
                  </a:lnTo>
                  <a:lnTo>
                    <a:pt x="1111" y="242"/>
                  </a:lnTo>
                  <a:lnTo>
                    <a:pt x="1097" y="300"/>
                  </a:lnTo>
                  <a:lnTo>
                    <a:pt x="1048" y="481"/>
                  </a:lnTo>
                  <a:lnTo>
                    <a:pt x="1016" y="606"/>
                  </a:lnTo>
                  <a:lnTo>
                    <a:pt x="992" y="702"/>
                  </a:lnTo>
                  <a:lnTo>
                    <a:pt x="979" y="769"/>
                  </a:lnTo>
                  <a:lnTo>
                    <a:pt x="976" y="793"/>
                  </a:lnTo>
                  <a:lnTo>
                    <a:pt x="974" y="801"/>
                  </a:lnTo>
                  <a:lnTo>
                    <a:pt x="974" y="808"/>
                  </a:lnTo>
                  <a:lnTo>
                    <a:pt x="974" y="812"/>
                  </a:lnTo>
                  <a:lnTo>
                    <a:pt x="974" y="815"/>
                  </a:lnTo>
                  <a:lnTo>
                    <a:pt x="976" y="817"/>
                  </a:lnTo>
                  <a:lnTo>
                    <a:pt x="976" y="818"/>
                  </a:lnTo>
                  <a:lnTo>
                    <a:pt x="976" y="819"/>
                  </a:lnTo>
                  <a:lnTo>
                    <a:pt x="977" y="820"/>
                  </a:lnTo>
                  <a:lnTo>
                    <a:pt x="977" y="821"/>
                  </a:lnTo>
                  <a:lnTo>
                    <a:pt x="977" y="821"/>
                  </a:lnTo>
                  <a:lnTo>
                    <a:pt x="978" y="823"/>
                  </a:lnTo>
                  <a:lnTo>
                    <a:pt x="978" y="823"/>
                  </a:lnTo>
                  <a:lnTo>
                    <a:pt x="979" y="823"/>
                  </a:lnTo>
                  <a:lnTo>
                    <a:pt x="979" y="824"/>
                  </a:lnTo>
                  <a:lnTo>
                    <a:pt x="980" y="824"/>
                  </a:lnTo>
                  <a:lnTo>
                    <a:pt x="980" y="824"/>
                  </a:lnTo>
                  <a:lnTo>
                    <a:pt x="981" y="824"/>
                  </a:lnTo>
                  <a:lnTo>
                    <a:pt x="984" y="824"/>
                  </a:lnTo>
                  <a:lnTo>
                    <a:pt x="987" y="823"/>
                  </a:lnTo>
                  <a:lnTo>
                    <a:pt x="990" y="823"/>
                  </a:lnTo>
                  <a:lnTo>
                    <a:pt x="993" y="821"/>
                  </a:lnTo>
                  <a:lnTo>
                    <a:pt x="997" y="819"/>
                  </a:lnTo>
                  <a:lnTo>
                    <a:pt x="1000" y="818"/>
                  </a:lnTo>
                  <a:lnTo>
                    <a:pt x="1003" y="815"/>
                  </a:lnTo>
                  <a:lnTo>
                    <a:pt x="1006" y="813"/>
                  </a:lnTo>
                  <a:lnTo>
                    <a:pt x="1034" y="790"/>
                  </a:lnTo>
                  <a:lnTo>
                    <a:pt x="1064" y="764"/>
                  </a:lnTo>
                  <a:lnTo>
                    <a:pt x="1097" y="733"/>
                  </a:lnTo>
                  <a:lnTo>
                    <a:pt x="1132" y="698"/>
                  </a:lnTo>
                  <a:lnTo>
                    <a:pt x="1184" y="761"/>
                  </a:lnTo>
                  <a:lnTo>
                    <a:pt x="1177" y="770"/>
                  </a:lnTo>
                  <a:lnTo>
                    <a:pt x="1170" y="778"/>
                  </a:lnTo>
                  <a:lnTo>
                    <a:pt x="1161" y="787"/>
                  </a:lnTo>
                  <a:lnTo>
                    <a:pt x="1152" y="795"/>
                  </a:lnTo>
                  <a:lnTo>
                    <a:pt x="1132" y="813"/>
                  </a:lnTo>
                  <a:lnTo>
                    <a:pt x="1108" y="831"/>
                  </a:lnTo>
                  <a:lnTo>
                    <a:pt x="1067" y="877"/>
                  </a:lnTo>
                  <a:lnTo>
                    <a:pt x="1049" y="896"/>
                  </a:lnTo>
                  <a:lnTo>
                    <a:pt x="1031" y="913"/>
                  </a:lnTo>
                  <a:lnTo>
                    <a:pt x="1015" y="926"/>
                  </a:lnTo>
                  <a:lnTo>
                    <a:pt x="1000" y="938"/>
                  </a:lnTo>
                  <a:lnTo>
                    <a:pt x="985" y="947"/>
                  </a:lnTo>
                  <a:lnTo>
                    <a:pt x="971" y="955"/>
                  </a:lnTo>
                  <a:lnTo>
                    <a:pt x="962" y="963"/>
                  </a:lnTo>
                  <a:lnTo>
                    <a:pt x="952" y="971"/>
                  </a:lnTo>
                  <a:lnTo>
                    <a:pt x="942" y="977"/>
                  </a:lnTo>
                  <a:lnTo>
                    <a:pt x="932" y="982"/>
                  </a:lnTo>
                  <a:lnTo>
                    <a:pt x="922" y="987"/>
                  </a:lnTo>
                  <a:lnTo>
                    <a:pt x="911" y="989"/>
                  </a:lnTo>
                  <a:lnTo>
                    <a:pt x="901" y="992"/>
                  </a:lnTo>
                  <a:lnTo>
                    <a:pt x="890" y="992"/>
                  </a:lnTo>
                  <a:lnTo>
                    <a:pt x="885" y="992"/>
                  </a:lnTo>
                  <a:lnTo>
                    <a:pt x="880" y="991"/>
                  </a:lnTo>
                  <a:lnTo>
                    <a:pt x="875" y="991"/>
                  </a:lnTo>
                  <a:lnTo>
                    <a:pt x="871" y="989"/>
                  </a:lnTo>
                  <a:lnTo>
                    <a:pt x="867" y="988"/>
                  </a:lnTo>
                  <a:lnTo>
                    <a:pt x="863" y="986"/>
                  </a:lnTo>
                  <a:lnTo>
                    <a:pt x="857" y="985"/>
                  </a:lnTo>
                  <a:lnTo>
                    <a:pt x="854" y="982"/>
                  </a:lnTo>
                  <a:lnTo>
                    <a:pt x="850" y="980"/>
                  </a:lnTo>
                  <a:lnTo>
                    <a:pt x="846" y="976"/>
                  </a:lnTo>
                  <a:lnTo>
                    <a:pt x="841" y="973"/>
                  </a:lnTo>
                  <a:lnTo>
                    <a:pt x="838" y="969"/>
                  </a:lnTo>
                  <a:lnTo>
                    <a:pt x="834" y="965"/>
                  </a:lnTo>
                  <a:lnTo>
                    <a:pt x="831" y="962"/>
                  </a:lnTo>
                  <a:lnTo>
                    <a:pt x="823" y="952"/>
                  </a:lnTo>
                  <a:lnTo>
                    <a:pt x="820" y="947"/>
                  </a:lnTo>
                  <a:lnTo>
                    <a:pt x="817" y="943"/>
                  </a:lnTo>
                  <a:lnTo>
                    <a:pt x="814" y="937"/>
                  </a:lnTo>
                  <a:lnTo>
                    <a:pt x="812" y="932"/>
                  </a:lnTo>
                  <a:lnTo>
                    <a:pt x="808" y="920"/>
                  </a:lnTo>
                  <a:lnTo>
                    <a:pt x="803" y="908"/>
                  </a:lnTo>
                  <a:lnTo>
                    <a:pt x="800" y="893"/>
                  </a:lnTo>
                  <a:lnTo>
                    <a:pt x="799" y="880"/>
                  </a:lnTo>
                  <a:lnTo>
                    <a:pt x="797" y="865"/>
                  </a:lnTo>
                  <a:lnTo>
                    <a:pt x="797" y="849"/>
                  </a:lnTo>
                  <a:lnTo>
                    <a:pt x="798" y="820"/>
                  </a:lnTo>
                  <a:lnTo>
                    <a:pt x="800" y="790"/>
                  </a:lnTo>
                  <a:lnTo>
                    <a:pt x="804" y="758"/>
                  </a:lnTo>
                  <a:lnTo>
                    <a:pt x="811" y="723"/>
                  </a:lnTo>
                  <a:lnTo>
                    <a:pt x="821" y="676"/>
                  </a:lnTo>
                  <a:lnTo>
                    <a:pt x="837" y="609"/>
                  </a:lnTo>
                  <a:lnTo>
                    <a:pt x="889" y="408"/>
                  </a:lnTo>
                  <a:lnTo>
                    <a:pt x="910" y="327"/>
                  </a:lnTo>
                  <a:lnTo>
                    <a:pt x="926" y="264"/>
                  </a:lnTo>
                  <a:lnTo>
                    <a:pt x="934" y="219"/>
                  </a:lnTo>
                  <a:lnTo>
                    <a:pt x="936" y="204"/>
                  </a:lnTo>
                  <a:lnTo>
                    <a:pt x="937" y="198"/>
                  </a:lnTo>
                  <a:lnTo>
                    <a:pt x="937" y="193"/>
                  </a:lnTo>
                  <a:lnTo>
                    <a:pt x="937" y="192"/>
                  </a:lnTo>
                  <a:lnTo>
                    <a:pt x="937" y="189"/>
                  </a:lnTo>
                  <a:lnTo>
                    <a:pt x="937" y="188"/>
                  </a:lnTo>
                  <a:lnTo>
                    <a:pt x="936" y="187"/>
                  </a:lnTo>
                  <a:lnTo>
                    <a:pt x="936" y="186"/>
                  </a:lnTo>
                  <a:lnTo>
                    <a:pt x="936" y="185"/>
                  </a:lnTo>
                  <a:lnTo>
                    <a:pt x="935" y="183"/>
                  </a:lnTo>
                  <a:lnTo>
                    <a:pt x="935" y="182"/>
                  </a:lnTo>
                  <a:lnTo>
                    <a:pt x="934" y="181"/>
                  </a:lnTo>
                  <a:lnTo>
                    <a:pt x="934" y="181"/>
                  </a:lnTo>
                  <a:lnTo>
                    <a:pt x="933" y="180"/>
                  </a:lnTo>
                  <a:lnTo>
                    <a:pt x="932" y="180"/>
                  </a:lnTo>
                  <a:lnTo>
                    <a:pt x="932" y="179"/>
                  </a:lnTo>
                  <a:lnTo>
                    <a:pt x="931" y="179"/>
                  </a:lnTo>
                  <a:lnTo>
                    <a:pt x="930" y="179"/>
                  </a:lnTo>
                  <a:lnTo>
                    <a:pt x="929" y="179"/>
                  </a:lnTo>
                  <a:lnTo>
                    <a:pt x="927" y="179"/>
                  </a:lnTo>
                  <a:lnTo>
                    <a:pt x="924" y="179"/>
                  </a:lnTo>
                  <a:lnTo>
                    <a:pt x="918" y="180"/>
                  </a:lnTo>
                  <a:lnTo>
                    <a:pt x="911" y="182"/>
                  </a:lnTo>
                  <a:lnTo>
                    <a:pt x="904" y="186"/>
                  </a:lnTo>
                  <a:lnTo>
                    <a:pt x="894" y="189"/>
                  </a:lnTo>
                  <a:lnTo>
                    <a:pt x="885" y="194"/>
                  </a:lnTo>
                  <a:lnTo>
                    <a:pt x="861" y="206"/>
                  </a:lnTo>
                  <a:lnTo>
                    <a:pt x="846" y="219"/>
                  </a:lnTo>
                  <a:lnTo>
                    <a:pt x="830" y="233"/>
                  </a:lnTo>
                  <a:lnTo>
                    <a:pt x="815" y="248"/>
                  </a:lnTo>
                  <a:lnTo>
                    <a:pt x="799" y="264"/>
                  </a:lnTo>
                  <a:lnTo>
                    <a:pt x="785" y="281"/>
                  </a:lnTo>
                  <a:lnTo>
                    <a:pt x="771" y="297"/>
                  </a:lnTo>
                  <a:lnTo>
                    <a:pt x="757" y="315"/>
                  </a:lnTo>
                  <a:lnTo>
                    <a:pt x="743" y="335"/>
                  </a:lnTo>
                  <a:lnTo>
                    <a:pt x="735" y="349"/>
                  </a:lnTo>
                  <a:lnTo>
                    <a:pt x="726" y="364"/>
                  </a:lnTo>
                  <a:lnTo>
                    <a:pt x="718" y="384"/>
                  </a:lnTo>
                  <a:lnTo>
                    <a:pt x="710" y="404"/>
                  </a:lnTo>
                  <a:lnTo>
                    <a:pt x="702" y="426"/>
                  </a:lnTo>
                  <a:lnTo>
                    <a:pt x="695" y="450"/>
                  </a:lnTo>
                  <a:lnTo>
                    <a:pt x="680" y="505"/>
                  </a:lnTo>
                  <a:lnTo>
                    <a:pt x="582" y="957"/>
                  </a:lnTo>
                  <a:lnTo>
                    <a:pt x="411" y="957"/>
                  </a:lnTo>
                  <a:lnTo>
                    <a:pt x="553" y="269"/>
                  </a:lnTo>
                  <a:lnTo>
                    <a:pt x="564" y="213"/>
                  </a:lnTo>
                  <a:lnTo>
                    <a:pt x="567" y="198"/>
                  </a:lnTo>
                  <a:lnTo>
                    <a:pt x="568" y="193"/>
                  </a:lnTo>
                  <a:lnTo>
                    <a:pt x="568" y="192"/>
                  </a:lnTo>
                  <a:lnTo>
                    <a:pt x="568" y="191"/>
                  </a:lnTo>
                  <a:lnTo>
                    <a:pt x="568" y="189"/>
                  </a:lnTo>
                  <a:lnTo>
                    <a:pt x="568" y="187"/>
                  </a:lnTo>
                  <a:lnTo>
                    <a:pt x="568" y="186"/>
                  </a:lnTo>
                  <a:lnTo>
                    <a:pt x="567" y="185"/>
                  </a:lnTo>
                  <a:lnTo>
                    <a:pt x="567" y="183"/>
                  </a:lnTo>
                  <a:lnTo>
                    <a:pt x="567" y="183"/>
                  </a:lnTo>
                  <a:lnTo>
                    <a:pt x="566" y="181"/>
                  </a:lnTo>
                  <a:lnTo>
                    <a:pt x="564" y="180"/>
                  </a:lnTo>
                  <a:lnTo>
                    <a:pt x="564" y="180"/>
                  </a:lnTo>
                  <a:lnTo>
                    <a:pt x="563" y="180"/>
                  </a:lnTo>
                  <a:lnTo>
                    <a:pt x="562" y="179"/>
                  </a:lnTo>
                  <a:lnTo>
                    <a:pt x="561" y="179"/>
                  </a:lnTo>
                  <a:lnTo>
                    <a:pt x="559" y="179"/>
                  </a:lnTo>
                  <a:lnTo>
                    <a:pt x="558" y="179"/>
                  </a:lnTo>
                  <a:lnTo>
                    <a:pt x="556" y="179"/>
                  </a:lnTo>
                  <a:lnTo>
                    <a:pt x="553" y="180"/>
                  </a:lnTo>
                  <a:lnTo>
                    <a:pt x="550" y="180"/>
                  </a:lnTo>
                  <a:lnTo>
                    <a:pt x="547" y="181"/>
                  </a:lnTo>
                  <a:lnTo>
                    <a:pt x="539" y="185"/>
                  </a:lnTo>
                  <a:lnTo>
                    <a:pt x="532" y="188"/>
                  </a:lnTo>
                  <a:lnTo>
                    <a:pt x="522" y="194"/>
                  </a:lnTo>
                  <a:lnTo>
                    <a:pt x="513" y="201"/>
                  </a:lnTo>
                  <a:lnTo>
                    <a:pt x="501" y="210"/>
                  </a:lnTo>
                  <a:lnTo>
                    <a:pt x="490" y="219"/>
                  </a:lnTo>
                  <a:lnTo>
                    <a:pt x="468" y="237"/>
                  </a:lnTo>
                  <a:lnTo>
                    <a:pt x="448" y="257"/>
                  </a:lnTo>
                  <a:lnTo>
                    <a:pt x="430" y="275"/>
                  </a:lnTo>
                  <a:lnTo>
                    <a:pt x="413" y="293"/>
                  </a:lnTo>
                  <a:lnTo>
                    <a:pt x="397" y="309"/>
                  </a:lnTo>
                  <a:lnTo>
                    <a:pt x="383" y="327"/>
                  </a:lnTo>
                  <a:lnTo>
                    <a:pt x="370" y="345"/>
                  </a:lnTo>
                  <a:lnTo>
                    <a:pt x="360" y="362"/>
                  </a:lnTo>
                  <a:lnTo>
                    <a:pt x="350" y="380"/>
                  </a:lnTo>
                  <a:lnTo>
                    <a:pt x="341" y="400"/>
                  </a:lnTo>
                  <a:lnTo>
                    <a:pt x="331" y="424"/>
                  </a:lnTo>
                  <a:lnTo>
                    <a:pt x="323" y="450"/>
                  </a:lnTo>
                  <a:lnTo>
                    <a:pt x="314" y="477"/>
                  </a:lnTo>
                  <a:lnTo>
                    <a:pt x="306" y="507"/>
                  </a:lnTo>
                  <a:lnTo>
                    <a:pt x="291" y="574"/>
                  </a:lnTo>
                  <a:lnTo>
                    <a:pt x="214" y="957"/>
                  </a:lnTo>
                  <a:lnTo>
                    <a:pt x="42" y="957"/>
                  </a:lnTo>
                  <a:lnTo>
                    <a:pt x="153" y="397"/>
                  </a:lnTo>
                  <a:lnTo>
                    <a:pt x="187" y="239"/>
                  </a:lnTo>
                  <a:lnTo>
                    <a:pt x="194" y="195"/>
                  </a:lnTo>
                  <a:lnTo>
                    <a:pt x="196" y="182"/>
                  </a:lnTo>
                  <a:lnTo>
                    <a:pt x="197" y="177"/>
                  </a:lnTo>
                  <a:lnTo>
                    <a:pt x="197" y="175"/>
                  </a:lnTo>
                  <a:lnTo>
                    <a:pt x="197" y="175"/>
                  </a:lnTo>
                  <a:lnTo>
                    <a:pt x="197" y="175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8" y="174"/>
                  </a:lnTo>
                  <a:lnTo>
                    <a:pt x="198" y="174"/>
                  </a:lnTo>
                  <a:lnTo>
                    <a:pt x="198" y="173"/>
                  </a:lnTo>
                  <a:lnTo>
                    <a:pt x="198" y="173"/>
                  </a:lnTo>
                  <a:lnTo>
                    <a:pt x="198" y="173"/>
                  </a:lnTo>
                  <a:lnTo>
                    <a:pt x="199" y="173"/>
                  </a:lnTo>
                  <a:lnTo>
                    <a:pt x="199" y="173"/>
                  </a:lnTo>
                  <a:lnTo>
                    <a:pt x="199" y="173"/>
                  </a:lnTo>
                  <a:lnTo>
                    <a:pt x="200" y="173"/>
                  </a:lnTo>
                  <a:lnTo>
                    <a:pt x="200" y="173"/>
                  </a:lnTo>
                  <a:lnTo>
                    <a:pt x="198" y="173"/>
                  </a:lnTo>
                  <a:lnTo>
                    <a:pt x="196" y="173"/>
                  </a:lnTo>
                  <a:lnTo>
                    <a:pt x="192" y="175"/>
                  </a:lnTo>
                  <a:lnTo>
                    <a:pt x="186" y="177"/>
                  </a:lnTo>
                  <a:lnTo>
                    <a:pt x="179" y="180"/>
                  </a:lnTo>
                  <a:lnTo>
                    <a:pt x="165" y="189"/>
                  </a:lnTo>
                  <a:lnTo>
                    <a:pt x="148" y="204"/>
                  </a:lnTo>
                  <a:lnTo>
                    <a:pt x="127" y="221"/>
                  </a:lnTo>
                  <a:lnTo>
                    <a:pt x="102" y="24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40360" y="600120"/>
              <a:ext cx="236520" cy="355680"/>
            </a:xfrm>
            <a:custGeom>
              <a:avLst/>
              <a:gdLst/>
              <a:ahLst/>
              <a:rect l="l" t="t" r="r" b="b"/>
              <a:pathLst>
                <a:path w="656" h="987">
                  <a:moveTo>
                    <a:pt x="480" y="397"/>
                  </a:moveTo>
                  <a:lnTo>
                    <a:pt x="522" y="397"/>
                  </a:lnTo>
                  <a:lnTo>
                    <a:pt x="537" y="398"/>
                  </a:lnTo>
                  <a:lnTo>
                    <a:pt x="553" y="399"/>
                  </a:lnTo>
                  <a:lnTo>
                    <a:pt x="567" y="403"/>
                  </a:lnTo>
                  <a:lnTo>
                    <a:pt x="580" y="408"/>
                  </a:lnTo>
                  <a:lnTo>
                    <a:pt x="591" y="413"/>
                  </a:lnTo>
                  <a:lnTo>
                    <a:pt x="603" y="420"/>
                  </a:lnTo>
                  <a:lnTo>
                    <a:pt x="612" y="428"/>
                  </a:lnTo>
                  <a:lnTo>
                    <a:pt x="622" y="438"/>
                  </a:lnTo>
                  <a:lnTo>
                    <a:pt x="629" y="449"/>
                  </a:lnTo>
                  <a:lnTo>
                    <a:pt x="636" y="462"/>
                  </a:lnTo>
                  <a:lnTo>
                    <a:pt x="642" y="475"/>
                  </a:lnTo>
                  <a:lnTo>
                    <a:pt x="646" y="489"/>
                  </a:lnTo>
                  <a:lnTo>
                    <a:pt x="650" y="506"/>
                  </a:lnTo>
                  <a:lnTo>
                    <a:pt x="653" y="523"/>
                  </a:lnTo>
                  <a:lnTo>
                    <a:pt x="655" y="541"/>
                  </a:lnTo>
                  <a:lnTo>
                    <a:pt x="655" y="561"/>
                  </a:lnTo>
                  <a:lnTo>
                    <a:pt x="654" y="581"/>
                  </a:lnTo>
                  <a:lnTo>
                    <a:pt x="653" y="600"/>
                  </a:lnTo>
                  <a:lnTo>
                    <a:pt x="649" y="619"/>
                  </a:lnTo>
                  <a:lnTo>
                    <a:pt x="645" y="638"/>
                  </a:lnTo>
                  <a:lnTo>
                    <a:pt x="640" y="657"/>
                  </a:lnTo>
                  <a:lnTo>
                    <a:pt x="632" y="675"/>
                  </a:lnTo>
                  <a:lnTo>
                    <a:pt x="625" y="695"/>
                  </a:lnTo>
                  <a:lnTo>
                    <a:pt x="616" y="713"/>
                  </a:lnTo>
                  <a:lnTo>
                    <a:pt x="605" y="730"/>
                  </a:lnTo>
                  <a:lnTo>
                    <a:pt x="594" y="748"/>
                  </a:lnTo>
                  <a:lnTo>
                    <a:pt x="567" y="783"/>
                  </a:lnTo>
                  <a:lnTo>
                    <a:pt x="535" y="818"/>
                  </a:lnTo>
                  <a:lnTo>
                    <a:pt x="499" y="852"/>
                  </a:lnTo>
                  <a:lnTo>
                    <a:pt x="460" y="883"/>
                  </a:lnTo>
                  <a:lnTo>
                    <a:pt x="422" y="910"/>
                  </a:lnTo>
                  <a:lnTo>
                    <a:pt x="384" y="933"/>
                  </a:lnTo>
                  <a:lnTo>
                    <a:pt x="346" y="952"/>
                  </a:lnTo>
                  <a:lnTo>
                    <a:pt x="308" y="967"/>
                  </a:lnTo>
                  <a:lnTo>
                    <a:pt x="270" y="978"/>
                  </a:lnTo>
                  <a:lnTo>
                    <a:pt x="233" y="984"/>
                  </a:lnTo>
                  <a:lnTo>
                    <a:pt x="196" y="986"/>
                  </a:lnTo>
                  <a:lnTo>
                    <a:pt x="172" y="985"/>
                  </a:lnTo>
                  <a:lnTo>
                    <a:pt x="150" y="982"/>
                  </a:lnTo>
                  <a:lnTo>
                    <a:pt x="130" y="978"/>
                  </a:lnTo>
                  <a:lnTo>
                    <a:pt x="111" y="972"/>
                  </a:lnTo>
                  <a:lnTo>
                    <a:pt x="93" y="963"/>
                  </a:lnTo>
                  <a:lnTo>
                    <a:pt x="77" y="952"/>
                  </a:lnTo>
                  <a:lnTo>
                    <a:pt x="62" y="940"/>
                  </a:lnTo>
                  <a:lnTo>
                    <a:pt x="50" y="927"/>
                  </a:lnTo>
                  <a:lnTo>
                    <a:pt x="38" y="912"/>
                  </a:lnTo>
                  <a:lnTo>
                    <a:pt x="27" y="894"/>
                  </a:lnTo>
                  <a:lnTo>
                    <a:pt x="19" y="874"/>
                  </a:lnTo>
                  <a:lnTo>
                    <a:pt x="13" y="853"/>
                  </a:lnTo>
                  <a:lnTo>
                    <a:pt x="7" y="830"/>
                  </a:lnTo>
                  <a:lnTo>
                    <a:pt x="3" y="805"/>
                  </a:lnTo>
                  <a:lnTo>
                    <a:pt x="1" y="778"/>
                  </a:lnTo>
                  <a:lnTo>
                    <a:pt x="0" y="750"/>
                  </a:lnTo>
                  <a:lnTo>
                    <a:pt x="2" y="685"/>
                  </a:lnTo>
                  <a:lnTo>
                    <a:pt x="8" y="621"/>
                  </a:lnTo>
                  <a:lnTo>
                    <a:pt x="20" y="558"/>
                  </a:lnTo>
                  <a:lnTo>
                    <a:pt x="36" y="494"/>
                  </a:lnTo>
                  <a:lnTo>
                    <a:pt x="55" y="432"/>
                  </a:lnTo>
                  <a:lnTo>
                    <a:pt x="80" y="369"/>
                  </a:lnTo>
                  <a:lnTo>
                    <a:pt x="109" y="307"/>
                  </a:lnTo>
                  <a:lnTo>
                    <a:pt x="141" y="246"/>
                  </a:lnTo>
                  <a:lnTo>
                    <a:pt x="177" y="188"/>
                  </a:lnTo>
                  <a:lnTo>
                    <a:pt x="215" y="138"/>
                  </a:lnTo>
                  <a:lnTo>
                    <a:pt x="234" y="116"/>
                  </a:lnTo>
                  <a:lnTo>
                    <a:pt x="254" y="96"/>
                  </a:lnTo>
                  <a:lnTo>
                    <a:pt x="274" y="78"/>
                  </a:lnTo>
                  <a:lnTo>
                    <a:pt x="296" y="61"/>
                  </a:lnTo>
                  <a:lnTo>
                    <a:pt x="317" y="47"/>
                  </a:lnTo>
                  <a:lnTo>
                    <a:pt x="338" y="35"/>
                  </a:lnTo>
                  <a:lnTo>
                    <a:pt x="360" y="24"/>
                  </a:lnTo>
                  <a:lnTo>
                    <a:pt x="382" y="16"/>
                  </a:lnTo>
                  <a:lnTo>
                    <a:pt x="404" y="8"/>
                  </a:lnTo>
                  <a:lnTo>
                    <a:pt x="428" y="4"/>
                  </a:lnTo>
                  <a:lnTo>
                    <a:pt x="451" y="1"/>
                  </a:lnTo>
                  <a:lnTo>
                    <a:pt x="475" y="0"/>
                  </a:lnTo>
                  <a:lnTo>
                    <a:pt x="494" y="1"/>
                  </a:lnTo>
                  <a:lnTo>
                    <a:pt x="512" y="2"/>
                  </a:lnTo>
                  <a:lnTo>
                    <a:pt x="529" y="6"/>
                  </a:lnTo>
                  <a:lnTo>
                    <a:pt x="545" y="11"/>
                  </a:lnTo>
                  <a:lnTo>
                    <a:pt x="560" y="16"/>
                  </a:lnTo>
                  <a:lnTo>
                    <a:pt x="572" y="23"/>
                  </a:lnTo>
                  <a:lnTo>
                    <a:pt x="584" y="31"/>
                  </a:lnTo>
                  <a:lnTo>
                    <a:pt x="594" y="42"/>
                  </a:lnTo>
                  <a:lnTo>
                    <a:pt x="604" y="53"/>
                  </a:lnTo>
                  <a:lnTo>
                    <a:pt x="612" y="65"/>
                  </a:lnTo>
                  <a:lnTo>
                    <a:pt x="619" y="78"/>
                  </a:lnTo>
                  <a:lnTo>
                    <a:pt x="625" y="94"/>
                  </a:lnTo>
                  <a:lnTo>
                    <a:pt x="629" y="109"/>
                  </a:lnTo>
                  <a:lnTo>
                    <a:pt x="632" y="127"/>
                  </a:lnTo>
                  <a:lnTo>
                    <a:pt x="634" y="145"/>
                  </a:lnTo>
                  <a:lnTo>
                    <a:pt x="635" y="166"/>
                  </a:lnTo>
                  <a:lnTo>
                    <a:pt x="634" y="185"/>
                  </a:lnTo>
                  <a:lnTo>
                    <a:pt x="632" y="203"/>
                  </a:lnTo>
                  <a:lnTo>
                    <a:pt x="629" y="221"/>
                  </a:lnTo>
                  <a:lnTo>
                    <a:pt x="625" y="238"/>
                  </a:lnTo>
                  <a:lnTo>
                    <a:pt x="620" y="254"/>
                  </a:lnTo>
                  <a:lnTo>
                    <a:pt x="612" y="270"/>
                  </a:lnTo>
                  <a:lnTo>
                    <a:pt x="605" y="286"/>
                  </a:lnTo>
                  <a:lnTo>
                    <a:pt x="596" y="300"/>
                  </a:lnTo>
                  <a:lnTo>
                    <a:pt x="586" y="314"/>
                  </a:lnTo>
                  <a:lnTo>
                    <a:pt x="574" y="328"/>
                  </a:lnTo>
                  <a:lnTo>
                    <a:pt x="562" y="341"/>
                  </a:lnTo>
                  <a:lnTo>
                    <a:pt x="548" y="353"/>
                  </a:lnTo>
                  <a:lnTo>
                    <a:pt x="532" y="365"/>
                  </a:lnTo>
                  <a:lnTo>
                    <a:pt x="516" y="377"/>
                  </a:lnTo>
                  <a:close/>
                  <a:moveTo>
                    <a:pt x="215" y="482"/>
                  </a:moveTo>
                  <a:lnTo>
                    <a:pt x="272" y="450"/>
                  </a:lnTo>
                  <a:lnTo>
                    <a:pt x="321" y="416"/>
                  </a:lnTo>
                  <a:lnTo>
                    <a:pt x="363" y="383"/>
                  </a:lnTo>
                  <a:lnTo>
                    <a:pt x="381" y="366"/>
                  </a:lnTo>
                  <a:lnTo>
                    <a:pt x="397" y="348"/>
                  </a:lnTo>
                  <a:lnTo>
                    <a:pt x="411" y="331"/>
                  </a:lnTo>
                  <a:lnTo>
                    <a:pt x="423" y="313"/>
                  </a:lnTo>
                  <a:lnTo>
                    <a:pt x="434" y="295"/>
                  </a:lnTo>
                  <a:lnTo>
                    <a:pt x="442" y="277"/>
                  </a:lnTo>
                  <a:lnTo>
                    <a:pt x="449" y="259"/>
                  </a:lnTo>
                  <a:lnTo>
                    <a:pt x="453" y="241"/>
                  </a:lnTo>
                  <a:lnTo>
                    <a:pt x="456" y="222"/>
                  </a:lnTo>
                  <a:lnTo>
                    <a:pt x="457" y="204"/>
                  </a:lnTo>
                  <a:lnTo>
                    <a:pt x="457" y="194"/>
                  </a:lnTo>
                  <a:lnTo>
                    <a:pt x="456" y="185"/>
                  </a:lnTo>
                  <a:lnTo>
                    <a:pt x="455" y="176"/>
                  </a:lnTo>
                  <a:lnTo>
                    <a:pt x="454" y="169"/>
                  </a:lnTo>
                  <a:lnTo>
                    <a:pt x="452" y="162"/>
                  </a:lnTo>
                  <a:lnTo>
                    <a:pt x="450" y="155"/>
                  </a:lnTo>
                  <a:lnTo>
                    <a:pt x="447" y="149"/>
                  </a:lnTo>
                  <a:lnTo>
                    <a:pt x="443" y="144"/>
                  </a:lnTo>
                  <a:lnTo>
                    <a:pt x="440" y="139"/>
                  </a:lnTo>
                  <a:lnTo>
                    <a:pt x="436" y="134"/>
                  </a:lnTo>
                  <a:lnTo>
                    <a:pt x="432" y="131"/>
                  </a:lnTo>
                  <a:lnTo>
                    <a:pt x="427" y="128"/>
                  </a:lnTo>
                  <a:lnTo>
                    <a:pt x="421" y="126"/>
                  </a:lnTo>
                  <a:lnTo>
                    <a:pt x="415" y="125"/>
                  </a:lnTo>
                  <a:lnTo>
                    <a:pt x="409" y="124"/>
                  </a:lnTo>
                  <a:lnTo>
                    <a:pt x="402" y="124"/>
                  </a:lnTo>
                  <a:lnTo>
                    <a:pt x="386" y="125"/>
                  </a:lnTo>
                  <a:lnTo>
                    <a:pt x="371" y="130"/>
                  </a:lnTo>
                  <a:lnTo>
                    <a:pt x="356" y="137"/>
                  </a:lnTo>
                  <a:lnTo>
                    <a:pt x="342" y="146"/>
                  </a:lnTo>
                  <a:lnTo>
                    <a:pt x="328" y="158"/>
                  </a:lnTo>
                  <a:lnTo>
                    <a:pt x="315" y="174"/>
                  </a:lnTo>
                  <a:lnTo>
                    <a:pt x="303" y="192"/>
                  </a:lnTo>
                  <a:lnTo>
                    <a:pt x="290" y="214"/>
                  </a:lnTo>
                  <a:lnTo>
                    <a:pt x="279" y="238"/>
                  </a:lnTo>
                  <a:lnTo>
                    <a:pt x="268" y="264"/>
                  </a:lnTo>
                  <a:lnTo>
                    <a:pt x="248" y="325"/>
                  </a:lnTo>
                  <a:lnTo>
                    <a:pt x="231" y="398"/>
                  </a:lnTo>
                  <a:close/>
                  <a:moveTo>
                    <a:pt x="206" y="597"/>
                  </a:moveTo>
                  <a:lnTo>
                    <a:pt x="203" y="623"/>
                  </a:lnTo>
                  <a:lnTo>
                    <a:pt x="202" y="648"/>
                  </a:lnTo>
                  <a:lnTo>
                    <a:pt x="200" y="674"/>
                  </a:lnTo>
                  <a:lnTo>
                    <a:pt x="200" y="702"/>
                  </a:lnTo>
                  <a:lnTo>
                    <a:pt x="201" y="745"/>
                  </a:lnTo>
                  <a:lnTo>
                    <a:pt x="202" y="763"/>
                  </a:lnTo>
                  <a:lnTo>
                    <a:pt x="204" y="780"/>
                  </a:lnTo>
                  <a:lnTo>
                    <a:pt x="206" y="794"/>
                  </a:lnTo>
                  <a:lnTo>
                    <a:pt x="208" y="806"/>
                  </a:lnTo>
                  <a:lnTo>
                    <a:pt x="211" y="817"/>
                  </a:lnTo>
                  <a:lnTo>
                    <a:pt x="212" y="822"/>
                  </a:lnTo>
                  <a:lnTo>
                    <a:pt x="214" y="825"/>
                  </a:lnTo>
                  <a:lnTo>
                    <a:pt x="216" y="829"/>
                  </a:lnTo>
                  <a:lnTo>
                    <a:pt x="219" y="832"/>
                  </a:lnTo>
                  <a:lnTo>
                    <a:pt x="221" y="836"/>
                  </a:lnTo>
                  <a:lnTo>
                    <a:pt x="224" y="838"/>
                  </a:lnTo>
                  <a:lnTo>
                    <a:pt x="226" y="841"/>
                  </a:lnTo>
                  <a:lnTo>
                    <a:pt x="229" y="843"/>
                  </a:lnTo>
                  <a:lnTo>
                    <a:pt x="232" y="846"/>
                  </a:lnTo>
                  <a:lnTo>
                    <a:pt x="235" y="848"/>
                  </a:lnTo>
                  <a:lnTo>
                    <a:pt x="239" y="849"/>
                  </a:lnTo>
                  <a:lnTo>
                    <a:pt x="242" y="852"/>
                  </a:lnTo>
                  <a:lnTo>
                    <a:pt x="245" y="853"/>
                  </a:lnTo>
                  <a:lnTo>
                    <a:pt x="249" y="853"/>
                  </a:lnTo>
                  <a:lnTo>
                    <a:pt x="252" y="854"/>
                  </a:lnTo>
                  <a:lnTo>
                    <a:pt x="257" y="855"/>
                  </a:lnTo>
                  <a:lnTo>
                    <a:pt x="265" y="855"/>
                  </a:lnTo>
                  <a:lnTo>
                    <a:pt x="272" y="855"/>
                  </a:lnTo>
                  <a:lnTo>
                    <a:pt x="280" y="854"/>
                  </a:lnTo>
                  <a:lnTo>
                    <a:pt x="288" y="853"/>
                  </a:lnTo>
                  <a:lnTo>
                    <a:pt x="296" y="850"/>
                  </a:lnTo>
                  <a:lnTo>
                    <a:pt x="303" y="848"/>
                  </a:lnTo>
                  <a:lnTo>
                    <a:pt x="311" y="844"/>
                  </a:lnTo>
                  <a:lnTo>
                    <a:pt x="319" y="841"/>
                  </a:lnTo>
                  <a:lnTo>
                    <a:pt x="326" y="836"/>
                  </a:lnTo>
                  <a:lnTo>
                    <a:pt x="342" y="825"/>
                  </a:lnTo>
                  <a:lnTo>
                    <a:pt x="358" y="812"/>
                  </a:lnTo>
                  <a:lnTo>
                    <a:pt x="375" y="796"/>
                  </a:lnTo>
                  <a:lnTo>
                    <a:pt x="391" y="778"/>
                  </a:lnTo>
                  <a:lnTo>
                    <a:pt x="406" y="759"/>
                  </a:lnTo>
                  <a:lnTo>
                    <a:pt x="420" y="738"/>
                  </a:lnTo>
                  <a:lnTo>
                    <a:pt x="431" y="717"/>
                  </a:lnTo>
                  <a:lnTo>
                    <a:pt x="440" y="695"/>
                  </a:lnTo>
                  <a:lnTo>
                    <a:pt x="445" y="684"/>
                  </a:lnTo>
                  <a:lnTo>
                    <a:pt x="448" y="672"/>
                  </a:lnTo>
                  <a:lnTo>
                    <a:pt x="451" y="661"/>
                  </a:lnTo>
                  <a:lnTo>
                    <a:pt x="453" y="649"/>
                  </a:lnTo>
                  <a:lnTo>
                    <a:pt x="456" y="625"/>
                  </a:lnTo>
                  <a:lnTo>
                    <a:pt x="457" y="600"/>
                  </a:lnTo>
                  <a:lnTo>
                    <a:pt x="456" y="578"/>
                  </a:lnTo>
                  <a:lnTo>
                    <a:pt x="455" y="569"/>
                  </a:lnTo>
                  <a:lnTo>
                    <a:pt x="454" y="560"/>
                  </a:lnTo>
                  <a:lnTo>
                    <a:pt x="452" y="552"/>
                  </a:lnTo>
                  <a:lnTo>
                    <a:pt x="449" y="545"/>
                  </a:lnTo>
                  <a:lnTo>
                    <a:pt x="447" y="537"/>
                  </a:lnTo>
                  <a:lnTo>
                    <a:pt x="443" y="531"/>
                  </a:lnTo>
                  <a:lnTo>
                    <a:pt x="439" y="525"/>
                  </a:lnTo>
                  <a:lnTo>
                    <a:pt x="435" y="522"/>
                  </a:lnTo>
                  <a:lnTo>
                    <a:pt x="431" y="517"/>
                  </a:lnTo>
                  <a:lnTo>
                    <a:pt x="426" y="515"/>
                  </a:lnTo>
                  <a:lnTo>
                    <a:pt x="420" y="512"/>
                  </a:lnTo>
                  <a:lnTo>
                    <a:pt x="414" y="510"/>
                  </a:lnTo>
                  <a:lnTo>
                    <a:pt x="408" y="509"/>
                  </a:lnTo>
                  <a:lnTo>
                    <a:pt x="401" y="509"/>
                  </a:lnTo>
                  <a:lnTo>
                    <a:pt x="394" y="509"/>
                  </a:lnTo>
                  <a:lnTo>
                    <a:pt x="386" y="510"/>
                  </a:lnTo>
                  <a:lnTo>
                    <a:pt x="378" y="512"/>
                  </a:lnTo>
                  <a:lnTo>
                    <a:pt x="368" y="515"/>
                  </a:lnTo>
                  <a:lnTo>
                    <a:pt x="348" y="521"/>
                  </a:lnTo>
                  <a:lnTo>
                    <a:pt x="325" y="531"/>
                  </a:lnTo>
                  <a:lnTo>
                    <a:pt x="299" y="543"/>
                  </a:lnTo>
                  <a:lnTo>
                    <a:pt x="271" y="55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199200" y="588960"/>
              <a:ext cx="293760" cy="366840"/>
            </a:xfrm>
            <a:custGeom>
              <a:avLst/>
              <a:gdLst/>
              <a:ahLst/>
              <a:rect l="l" t="t" r="r" b="b"/>
              <a:pathLst>
                <a:path w="818" h="1020">
                  <a:moveTo>
                    <a:pt x="678" y="19"/>
                  </a:moveTo>
                  <a:lnTo>
                    <a:pt x="774" y="0"/>
                  </a:lnTo>
                  <a:lnTo>
                    <a:pt x="702" y="303"/>
                  </a:lnTo>
                  <a:lnTo>
                    <a:pt x="681" y="388"/>
                  </a:lnTo>
                  <a:lnTo>
                    <a:pt x="660" y="478"/>
                  </a:lnTo>
                  <a:lnTo>
                    <a:pt x="640" y="575"/>
                  </a:lnTo>
                  <a:lnTo>
                    <a:pt x="621" y="677"/>
                  </a:lnTo>
                  <a:lnTo>
                    <a:pt x="606" y="770"/>
                  </a:lnTo>
                  <a:lnTo>
                    <a:pt x="602" y="800"/>
                  </a:lnTo>
                  <a:lnTo>
                    <a:pt x="601" y="812"/>
                  </a:lnTo>
                  <a:lnTo>
                    <a:pt x="601" y="821"/>
                  </a:lnTo>
                  <a:lnTo>
                    <a:pt x="601" y="824"/>
                  </a:lnTo>
                  <a:lnTo>
                    <a:pt x="601" y="827"/>
                  </a:lnTo>
                  <a:lnTo>
                    <a:pt x="601" y="827"/>
                  </a:lnTo>
                  <a:lnTo>
                    <a:pt x="601" y="828"/>
                  </a:lnTo>
                  <a:lnTo>
                    <a:pt x="602" y="830"/>
                  </a:lnTo>
                  <a:lnTo>
                    <a:pt x="602" y="831"/>
                  </a:lnTo>
                  <a:lnTo>
                    <a:pt x="602" y="831"/>
                  </a:lnTo>
                  <a:lnTo>
                    <a:pt x="602" y="832"/>
                  </a:lnTo>
                  <a:lnTo>
                    <a:pt x="603" y="832"/>
                  </a:lnTo>
                  <a:lnTo>
                    <a:pt x="603" y="832"/>
                  </a:lnTo>
                  <a:lnTo>
                    <a:pt x="603" y="832"/>
                  </a:lnTo>
                  <a:lnTo>
                    <a:pt x="603" y="833"/>
                  </a:lnTo>
                  <a:lnTo>
                    <a:pt x="604" y="833"/>
                  </a:lnTo>
                  <a:lnTo>
                    <a:pt x="604" y="833"/>
                  </a:lnTo>
                  <a:lnTo>
                    <a:pt x="604" y="833"/>
                  </a:lnTo>
                  <a:lnTo>
                    <a:pt x="604" y="833"/>
                  </a:lnTo>
                  <a:lnTo>
                    <a:pt x="605" y="833"/>
                  </a:lnTo>
                  <a:lnTo>
                    <a:pt x="606" y="833"/>
                  </a:lnTo>
                  <a:lnTo>
                    <a:pt x="608" y="833"/>
                  </a:lnTo>
                  <a:lnTo>
                    <a:pt x="609" y="832"/>
                  </a:lnTo>
                  <a:lnTo>
                    <a:pt x="611" y="832"/>
                  </a:lnTo>
                  <a:lnTo>
                    <a:pt x="614" y="831"/>
                  </a:lnTo>
                  <a:lnTo>
                    <a:pt x="620" y="828"/>
                  </a:lnTo>
                  <a:lnTo>
                    <a:pt x="624" y="826"/>
                  </a:lnTo>
                  <a:lnTo>
                    <a:pt x="630" y="822"/>
                  </a:lnTo>
                  <a:lnTo>
                    <a:pt x="643" y="814"/>
                  </a:lnTo>
                  <a:lnTo>
                    <a:pt x="671" y="794"/>
                  </a:lnTo>
                  <a:lnTo>
                    <a:pt x="702" y="770"/>
                  </a:lnTo>
                  <a:lnTo>
                    <a:pt x="735" y="741"/>
                  </a:lnTo>
                  <a:lnTo>
                    <a:pt x="769" y="710"/>
                  </a:lnTo>
                  <a:lnTo>
                    <a:pt x="817" y="777"/>
                  </a:lnTo>
                  <a:lnTo>
                    <a:pt x="722" y="879"/>
                  </a:lnTo>
                  <a:lnTo>
                    <a:pt x="690" y="910"/>
                  </a:lnTo>
                  <a:lnTo>
                    <a:pt x="679" y="921"/>
                  </a:lnTo>
                  <a:lnTo>
                    <a:pt x="669" y="929"/>
                  </a:lnTo>
                  <a:lnTo>
                    <a:pt x="638" y="953"/>
                  </a:lnTo>
                  <a:lnTo>
                    <a:pt x="623" y="963"/>
                  </a:lnTo>
                  <a:lnTo>
                    <a:pt x="608" y="972"/>
                  </a:lnTo>
                  <a:lnTo>
                    <a:pt x="592" y="981"/>
                  </a:lnTo>
                  <a:lnTo>
                    <a:pt x="578" y="989"/>
                  </a:lnTo>
                  <a:lnTo>
                    <a:pt x="564" y="996"/>
                  </a:lnTo>
                  <a:lnTo>
                    <a:pt x="549" y="1002"/>
                  </a:lnTo>
                  <a:lnTo>
                    <a:pt x="539" y="1006"/>
                  </a:lnTo>
                  <a:lnTo>
                    <a:pt x="529" y="1010"/>
                  </a:lnTo>
                  <a:lnTo>
                    <a:pt x="519" y="1012"/>
                  </a:lnTo>
                  <a:lnTo>
                    <a:pt x="510" y="1014"/>
                  </a:lnTo>
                  <a:lnTo>
                    <a:pt x="500" y="1017"/>
                  </a:lnTo>
                  <a:lnTo>
                    <a:pt x="491" y="1018"/>
                  </a:lnTo>
                  <a:lnTo>
                    <a:pt x="480" y="1019"/>
                  </a:lnTo>
                  <a:lnTo>
                    <a:pt x="471" y="1019"/>
                  </a:lnTo>
                  <a:lnTo>
                    <a:pt x="463" y="1019"/>
                  </a:lnTo>
                  <a:lnTo>
                    <a:pt x="456" y="1018"/>
                  </a:lnTo>
                  <a:lnTo>
                    <a:pt x="449" y="1017"/>
                  </a:lnTo>
                  <a:lnTo>
                    <a:pt x="442" y="1014"/>
                  </a:lnTo>
                  <a:lnTo>
                    <a:pt x="439" y="1013"/>
                  </a:lnTo>
                  <a:lnTo>
                    <a:pt x="436" y="1012"/>
                  </a:lnTo>
                  <a:lnTo>
                    <a:pt x="433" y="1011"/>
                  </a:lnTo>
                  <a:lnTo>
                    <a:pt x="430" y="1008"/>
                  </a:lnTo>
                  <a:lnTo>
                    <a:pt x="428" y="1007"/>
                  </a:lnTo>
                  <a:lnTo>
                    <a:pt x="424" y="1005"/>
                  </a:lnTo>
                  <a:lnTo>
                    <a:pt x="422" y="1002"/>
                  </a:lnTo>
                  <a:lnTo>
                    <a:pt x="420" y="1000"/>
                  </a:lnTo>
                  <a:lnTo>
                    <a:pt x="418" y="998"/>
                  </a:lnTo>
                  <a:lnTo>
                    <a:pt x="416" y="995"/>
                  </a:lnTo>
                  <a:lnTo>
                    <a:pt x="414" y="992"/>
                  </a:lnTo>
                  <a:lnTo>
                    <a:pt x="412" y="989"/>
                  </a:lnTo>
                  <a:lnTo>
                    <a:pt x="411" y="987"/>
                  </a:lnTo>
                  <a:lnTo>
                    <a:pt x="409" y="983"/>
                  </a:lnTo>
                  <a:lnTo>
                    <a:pt x="407" y="980"/>
                  </a:lnTo>
                  <a:lnTo>
                    <a:pt x="406" y="977"/>
                  </a:lnTo>
                  <a:lnTo>
                    <a:pt x="405" y="974"/>
                  </a:lnTo>
                  <a:lnTo>
                    <a:pt x="404" y="970"/>
                  </a:lnTo>
                  <a:lnTo>
                    <a:pt x="403" y="963"/>
                  </a:lnTo>
                  <a:lnTo>
                    <a:pt x="402" y="954"/>
                  </a:lnTo>
                  <a:lnTo>
                    <a:pt x="402" y="946"/>
                  </a:lnTo>
                  <a:lnTo>
                    <a:pt x="402" y="941"/>
                  </a:lnTo>
                  <a:lnTo>
                    <a:pt x="402" y="935"/>
                  </a:lnTo>
                  <a:lnTo>
                    <a:pt x="403" y="929"/>
                  </a:lnTo>
                  <a:lnTo>
                    <a:pt x="404" y="923"/>
                  </a:lnTo>
                  <a:lnTo>
                    <a:pt x="405" y="917"/>
                  </a:lnTo>
                  <a:lnTo>
                    <a:pt x="406" y="910"/>
                  </a:lnTo>
                  <a:lnTo>
                    <a:pt x="410" y="896"/>
                  </a:lnTo>
                  <a:lnTo>
                    <a:pt x="448" y="777"/>
                  </a:lnTo>
                  <a:lnTo>
                    <a:pt x="435" y="803"/>
                  </a:lnTo>
                  <a:lnTo>
                    <a:pt x="419" y="827"/>
                  </a:lnTo>
                  <a:lnTo>
                    <a:pt x="403" y="851"/>
                  </a:lnTo>
                  <a:lnTo>
                    <a:pt x="384" y="873"/>
                  </a:lnTo>
                  <a:lnTo>
                    <a:pt x="364" y="893"/>
                  </a:lnTo>
                  <a:lnTo>
                    <a:pt x="342" y="914"/>
                  </a:lnTo>
                  <a:lnTo>
                    <a:pt x="318" y="932"/>
                  </a:lnTo>
                  <a:lnTo>
                    <a:pt x="292" y="948"/>
                  </a:lnTo>
                  <a:lnTo>
                    <a:pt x="271" y="965"/>
                  </a:lnTo>
                  <a:lnTo>
                    <a:pt x="252" y="980"/>
                  </a:lnTo>
                  <a:lnTo>
                    <a:pt x="232" y="990"/>
                  </a:lnTo>
                  <a:lnTo>
                    <a:pt x="214" y="1001"/>
                  </a:lnTo>
                  <a:lnTo>
                    <a:pt x="195" y="1008"/>
                  </a:lnTo>
                  <a:lnTo>
                    <a:pt x="178" y="1013"/>
                  </a:lnTo>
                  <a:lnTo>
                    <a:pt x="170" y="1016"/>
                  </a:lnTo>
                  <a:lnTo>
                    <a:pt x="161" y="1017"/>
                  </a:lnTo>
                  <a:lnTo>
                    <a:pt x="153" y="1018"/>
                  </a:lnTo>
                  <a:lnTo>
                    <a:pt x="145" y="1018"/>
                  </a:lnTo>
                  <a:lnTo>
                    <a:pt x="136" y="1018"/>
                  </a:lnTo>
                  <a:lnTo>
                    <a:pt x="129" y="1017"/>
                  </a:lnTo>
                  <a:lnTo>
                    <a:pt x="121" y="1014"/>
                  </a:lnTo>
                  <a:lnTo>
                    <a:pt x="114" y="1012"/>
                  </a:lnTo>
                  <a:lnTo>
                    <a:pt x="107" y="1010"/>
                  </a:lnTo>
                  <a:lnTo>
                    <a:pt x="99" y="1005"/>
                  </a:lnTo>
                  <a:lnTo>
                    <a:pt x="93" y="1001"/>
                  </a:lnTo>
                  <a:lnTo>
                    <a:pt x="86" y="995"/>
                  </a:lnTo>
                  <a:lnTo>
                    <a:pt x="79" y="989"/>
                  </a:lnTo>
                  <a:lnTo>
                    <a:pt x="74" y="983"/>
                  </a:lnTo>
                  <a:lnTo>
                    <a:pt x="67" y="976"/>
                  </a:lnTo>
                  <a:lnTo>
                    <a:pt x="61" y="968"/>
                  </a:lnTo>
                  <a:lnTo>
                    <a:pt x="56" y="958"/>
                  </a:lnTo>
                  <a:lnTo>
                    <a:pt x="51" y="950"/>
                  </a:lnTo>
                  <a:lnTo>
                    <a:pt x="40" y="928"/>
                  </a:lnTo>
                  <a:lnTo>
                    <a:pt x="35" y="924"/>
                  </a:lnTo>
                  <a:lnTo>
                    <a:pt x="31" y="920"/>
                  </a:lnTo>
                  <a:lnTo>
                    <a:pt x="26" y="915"/>
                  </a:lnTo>
                  <a:lnTo>
                    <a:pt x="23" y="909"/>
                  </a:lnTo>
                  <a:lnTo>
                    <a:pt x="19" y="903"/>
                  </a:lnTo>
                  <a:lnTo>
                    <a:pt x="16" y="896"/>
                  </a:lnTo>
                  <a:lnTo>
                    <a:pt x="13" y="888"/>
                  </a:lnTo>
                  <a:lnTo>
                    <a:pt x="10" y="880"/>
                  </a:lnTo>
                  <a:lnTo>
                    <a:pt x="7" y="872"/>
                  </a:lnTo>
                  <a:lnTo>
                    <a:pt x="5" y="862"/>
                  </a:lnTo>
                  <a:lnTo>
                    <a:pt x="2" y="843"/>
                  </a:lnTo>
                  <a:lnTo>
                    <a:pt x="1" y="820"/>
                  </a:lnTo>
                  <a:lnTo>
                    <a:pt x="0" y="795"/>
                  </a:lnTo>
                  <a:lnTo>
                    <a:pt x="1" y="765"/>
                  </a:lnTo>
                  <a:lnTo>
                    <a:pt x="3" y="734"/>
                  </a:lnTo>
                  <a:lnTo>
                    <a:pt x="7" y="703"/>
                  </a:lnTo>
                  <a:lnTo>
                    <a:pt x="14" y="670"/>
                  </a:lnTo>
                  <a:lnTo>
                    <a:pt x="21" y="637"/>
                  </a:lnTo>
                  <a:lnTo>
                    <a:pt x="31" y="603"/>
                  </a:lnTo>
                  <a:lnTo>
                    <a:pt x="42" y="568"/>
                  </a:lnTo>
                  <a:lnTo>
                    <a:pt x="55" y="532"/>
                  </a:lnTo>
                  <a:lnTo>
                    <a:pt x="70" y="496"/>
                  </a:lnTo>
                  <a:lnTo>
                    <a:pt x="84" y="461"/>
                  </a:lnTo>
                  <a:lnTo>
                    <a:pt x="101" y="428"/>
                  </a:lnTo>
                  <a:lnTo>
                    <a:pt x="119" y="394"/>
                  </a:lnTo>
                  <a:lnTo>
                    <a:pt x="138" y="362"/>
                  </a:lnTo>
                  <a:lnTo>
                    <a:pt x="159" y="331"/>
                  </a:lnTo>
                  <a:lnTo>
                    <a:pt x="180" y="301"/>
                  </a:lnTo>
                  <a:lnTo>
                    <a:pt x="203" y="271"/>
                  </a:lnTo>
                  <a:lnTo>
                    <a:pt x="226" y="242"/>
                  </a:lnTo>
                  <a:lnTo>
                    <a:pt x="250" y="216"/>
                  </a:lnTo>
                  <a:lnTo>
                    <a:pt x="274" y="192"/>
                  </a:lnTo>
                  <a:lnTo>
                    <a:pt x="299" y="169"/>
                  </a:lnTo>
                  <a:lnTo>
                    <a:pt x="323" y="147"/>
                  </a:lnTo>
                  <a:lnTo>
                    <a:pt x="348" y="129"/>
                  </a:lnTo>
                  <a:lnTo>
                    <a:pt x="374" y="111"/>
                  </a:lnTo>
                  <a:lnTo>
                    <a:pt x="400" y="97"/>
                  </a:lnTo>
                  <a:lnTo>
                    <a:pt x="421" y="87"/>
                  </a:lnTo>
                  <a:lnTo>
                    <a:pt x="443" y="78"/>
                  </a:lnTo>
                  <a:lnTo>
                    <a:pt x="467" y="70"/>
                  </a:lnTo>
                  <a:lnTo>
                    <a:pt x="492" y="64"/>
                  </a:lnTo>
                  <a:lnTo>
                    <a:pt x="518" y="60"/>
                  </a:lnTo>
                  <a:lnTo>
                    <a:pt x="547" y="56"/>
                  </a:lnTo>
                  <a:lnTo>
                    <a:pt x="576" y="55"/>
                  </a:lnTo>
                  <a:lnTo>
                    <a:pt x="607" y="54"/>
                  </a:lnTo>
                  <a:lnTo>
                    <a:pt x="622" y="54"/>
                  </a:lnTo>
                  <a:lnTo>
                    <a:pt x="635" y="55"/>
                  </a:lnTo>
                  <a:lnTo>
                    <a:pt x="647" y="56"/>
                  </a:lnTo>
                  <a:lnTo>
                    <a:pt x="658" y="57"/>
                  </a:lnTo>
                  <a:close/>
                  <a:moveTo>
                    <a:pt x="553" y="222"/>
                  </a:moveTo>
                  <a:lnTo>
                    <a:pt x="536" y="218"/>
                  </a:lnTo>
                  <a:lnTo>
                    <a:pt x="520" y="217"/>
                  </a:lnTo>
                  <a:lnTo>
                    <a:pt x="504" y="214"/>
                  </a:lnTo>
                  <a:lnTo>
                    <a:pt x="487" y="214"/>
                  </a:lnTo>
                  <a:lnTo>
                    <a:pt x="468" y="216"/>
                  </a:lnTo>
                  <a:lnTo>
                    <a:pt x="449" y="218"/>
                  </a:lnTo>
                  <a:lnTo>
                    <a:pt x="430" y="222"/>
                  </a:lnTo>
                  <a:lnTo>
                    <a:pt x="413" y="226"/>
                  </a:lnTo>
                  <a:lnTo>
                    <a:pt x="396" y="234"/>
                  </a:lnTo>
                  <a:lnTo>
                    <a:pt x="379" y="242"/>
                  </a:lnTo>
                  <a:lnTo>
                    <a:pt x="363" y="252"/>
                  </a:lnTo>
                  <a:lnTo>
                    <a:pt x="348" y="264"/>
                  </a:lnTo>
                  <a:lnTo>
                    <a:pt x="334" y="278"/>
                  </a:lnTo>
                  <a:lnTo>
                    <a:pt x="319" y="294"/>
                  </a:lnTo>
                  <a:lnTo>
                    <a:pt x="305" y="313"/>
                  </a:lnTo>
                  <a:lnTo>
                    <a:pt x="291" y="334"/>
                  </a:lnTo>
                  <a:lnTo>
                    <a:pt x="277" y="358"/>
                  </a:lnTo>
                  <a:lnTo>
                    <a:pt x="263" y="386"/>
                  </a:lnTo>
                  <a:lnTo>
                    <a:pt x="250" y="415"/>
                  </a:lnTo>
                  <a:lnTo>
                    <a:pt x="236" y="447"/>
                  </a:lnTo>
                  <a:lnTo>
                    <a:pt x="224" y="481"/>
                  </a:lnTo>
                  <a:lnTo>
                    <a:pt x="213" y="514"/>
                  </a:lnTo>
                  <a:lnTo>
                    <a:pt x="205" y="548"/>
                  </a:lnTo>
                  <a:lnTo>
                    <a:pt x="197" y="581"/>
                  </a:lnTo>
                  <a:lnTo>
                    <a:pt x="191" y="614"/>
                  </a:lnTo>
                  <a:lnTo>
                    <a:pt x="187" y="647"/>
                  </a:lnTo>
                  <a:lnTo>
                    <a:pt x="185" y="681"/>
                  </a:lnTo>
                  <a:lnTo>
                    <a:pt x="184" y="715"/>
                  </a:lnTo>
                  <a:lnTo>
                    <a:pt x="184" y="730"/>
                  </a:lnTo>
                  <a:lnTo>
                    <a:pt x="185" y="746"/>
                  </a:lnTo>
                  <a:lnTo>
                    <a:pt x="186" y="759"/>
                  </a:lnTo>
                  <a:lnTo>
                    <a:pt x="188" y="771"/>
                  </a:lnTo>
                  <a:lnTo>
                    <a:pt x="190" y="782"/>
                  </a:lnTo>
                  <a:lnTo>
                    <a:pt x="191" y="786"/>
                  </a:lnTo>
                  <a:lnTo>
                    <a:pt x="193" y="791"/>
                  </a:lnTo>
                  <a:lnTo>
                    <a:pt x="194" y="795"/>
                  </a:lnTo>
                  <a:lnTo>
                    <a:pt x="196" y="800"/>
                  </a:lnTo>
                  <a:lnTo>
                    <a:pt x="198" y="802"/>
                  </a:lnTo>
                  <a:lnTo>
                    <a:pt x="201" y="806"/>
                  </a:lnTo>
                  <a:lnTo>
                    <a:pt x="203" y="809"/>
                  </a:lnTo>
                  <a:lnTo>
                    <a:pt x="205" y="812"/>
                  </a:lnTo>
                  <a:lnTo>
                    <a:pt x="207" y="814"/>
                  </a:lnTo>
                  <a:lnTo>
                    <a:pt x="209" y="816"/>
                  </a:lnTo>
                  <a:lnTo>
                    <a:pt x="211" y="819"/>
                  </a:lnTo>
                  <a:lnTo>
                    <a:pt x="214" y="821"/>
                  </a:lnTo>
                  <a:lnTo>
                    <a:pt x="216" y="822"/>
                  </a:lnTo>
                  <a:lnTo>
                    <a:pt x="220" y="825"/>
                  </a:lnTo>
                  <a:lnTo>
                    <a:pt x="222" y="826"/>
                  </a:lnTo>
                  <a:lnTo>
                    <a:pt x="225" y="827"/>
                  </a:lnTo>
                  <a:lnTo>
                    <a:pt x="228" y="828"/>
                  </a:lnTo>
                  <a:lnTo>
                    <a:pt x="230" y="830"/>
                  </a:lnTo>
                  <a:lnTo>
                    <a:pt x="233" y="830"/>
                  </a:lnTo>
                  <a:lnTo>
                    <a:pt x="236" y="831"/>
                  </a:lnTo>
                  <a:lnTo>
                    <a:pt x="240" y="831"/>
                  </a:lnTo>
                  <a:lnTo>
                    <a:pt x="243" y="831"/>
                  </a:lnTo>
                  <a:lnTo>
                    <a:pt x="250" y="831"/>
                  </a:lnTo>
                  <a:lnTo>
                    <a:pt x="258" y="830"/>
                  </a:lnTo>
                  <a:lnTo>
                    <a:pt x="265" y="828"/>
                  </a:lnTo>
                  <a:lnTo>
                    <a:pt x="272" y="826"/>
                  </a:lnTo>
                  <a:lnTo>
                    <a:pt x="280" y="824"/>
                  </a:lnTo>
                  <a:lnTo>
                    <a:pt x="288" y="820"/>
                  </a:lnTo>
                  <a:lnTo>
                    <a:pt x="304" y="812"/>
                  </a:lnTo>
                  <a:lnTo>
                    <a:pt x="320" y="801"/>
                  </a:lnTo>
                  <a:lnTo>
                    <a:pt x="337" y="789"/>
                  </a:lnTo>
                  <a:lnTo>
                    <a:pt x="354" y="773"/>
                  </a:lnTo>
                  <a:lnTo>
                    <a:pt x="371" y="755"/>
                  </a:lnTo>
                  <a:lnTo>
                    <a:pt x="387" y="736"/>
                  </a:lnTo>
                  <a:lnTo>
                    <a:pt x="403" y="713"/>
                  </a:lnTo>
                  <a:lnTo>
                    <a:pt x="418" y="689"/>
                  </a:lnTo>
                  <a:lnTo>
                    <a:pt x="432" y="663"/>
                  </a:lnTo>
                  <a:lnTo>
                    <a:pt x="444" y="634"/>
                  </a:lnTo>
                  <a:lnTo>
                    <a:pt x="455" y="603"/>
                  </a:lnTo>
                  <a:lnTo>
                    <a:pt x="466" y="569"/>
                  </a:lnTo>
                  <a:lnTo>
                    <a:pt x="475" y="53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59480" y="846000"/>
              <a:ext cx="122400" cy="219240"/>
            </a:xfrm>
            <a:custGeom>
              <a:avLst/>
              <a:gdLst/>
              <a:ahLst/>
              <a:rect l="l" t="t" r="r" b="b"/>
              <a:pathLst>
                <a:path w="341" h="609">
                  <a:moveTo>
                    <a:pt x="27" y="608"/>
                  </a:moveTo>
                  <a:lnTo>
                    <a:pt x="0" y="507"/>
                  </a:lnTo>
                  <a:lnTo>
                    <a:pt x="134" y="389"/>
                  </a:lnTo>
                  <a:lnTo>
                    <a:pt x="147" y="353"/>
                  </a:lnTo>
                  <a:lnTo>
                    <a:pt x="157" y="323"/>
                  </a:lnTo>
                  <a:lnTo>
                    <a:pt x="160" y="311"/>
                  </a:lnTo>
                  <a:lnTo>
                    <a:pt x="162" y="301"/>
                  </a:lnTo>
                  <a:lnTo>
                    <a:pt x="164" y="293"/>
                  </a:lnTo>
                  <a:lnTo>
                    <a:pt x="164" y="289"/>
                  </a:lnTo>
                  <a:lnTo>
                    <a:pt x="164" y="285"/>
                  </a:lnTo>
                  <a:lnTo>
                    <a:pt x="164" y="279"/>
                  </a:lnTo>
                  <a:lnTo>
                    <a:pt x="163" y="272"/>
                  </a:lnTo>
                  <a:lnTo>
                    <a:pt x="162" y="265"/>
                  </a:lnTo>
                  <a:lnTo>
                    <a:pt x="161" y="259"/>
                  </a:lnTo>
                  <a:lnTo>
                    <a:pt x="160" y="251"/>
                  </a:lnTo>
                  <a:lnTo>
                    <a:pt x="158" y="243"/>
                  </a:lnTo>
                  <a:lnTo>
                    <a:pt x="153" y="228"/>
                  </a:lnTo>
                  <a:lnTo>
                    <a:pt x="145" y="212"/>
                  </a:lnTo>
                  <a:lnTo>
                    <a:pt x="138" y="197"/>
                  </a:lnTo>
                  <a:lnTo>
                    <a:pt x="132" y="182"/>
                  </a:lnTo>
                  <a:lnTo>
                    <a:pt x="127" y="169"/>
                  </a:lnTo>
                  <a:lnTo>
                    <a:pt x="124" y="156"/>
                  </a:lnTo>
                  <a:lnTo>
                    <a:pt x="121" y="144"/>
                  </a:lnTo>
                  <a:lnTo>
                    <a:pt x="120" y="133"/>
                  </a:lnTo>
                  <a:lnTo>
                    <a:pt x="119" y="128"/>
                  </a:lnTo>
                  <a:lnTo>
                    <a:pt x="119" y="123"/>
                  </a:lnTo>
                  <a:lnTo>
                    <a:pt x="119" y="111"/>
                  </a:lnTo>
                  <a:lnTo>
                    <a:pt x="121" y="99"/>
                  </a:lnTo>
                  <a:lnTo>
                    <a:pt x="122" y="93"/>
                  </a:lnTo>
                  <a:lnTo>
                    <a:pt x="123" y="87"/>
                  </a:lnTo>
                  <a:lnTo>
                    <a:pt x="125" y="83"/>
                  </a:lnTo>
                  <a:lnTo>
                    <a:pt x="127" y="77"/>
                  </a:lnTo>
                  <a:lnTo>
                    <a:pt x="128" y="72"/>
                  </a:lnTo>
                  <a:lnTo>
                    <a:pt x="131" y="66"/>
                  </a:lnTo>
                  <a:lnTo>
                    <a:pt x="134" y="61"/>
                  </a:lnTo>
                  <a:lnTo>
                    <a:pt x="137" y="56"/>
                  </a:lnTo>
                  <a:lnTo>
                    <a:pt x="143" y="47"/>
                  </a:lnTo>
                  <a:lnTo>
                    <a:pt x="150" y="37"/>
                  </a:lnTo>
                  <a:lnTo>
                    <a:pt x="155" y="32"/>
                  </a:lnTo>
                  <a:lnTo>
                    <a:pt x="158" y="29"/>
                  </a:lnTo>
                  <a:lnTo>
                    <a:pt x="162" y="24"/>
                  </a:lnTo>
                  <a:lnTo>
                    <a:pt x="166" y="20"/>
                  </a:lnTo>
                  <a:lnTo>
                    <a:pt x="170" y="18"/>
                  </a:lnTo>
                  <a:lnTo>
                    <a:pt x="175" y="14"/>
                  </a:lnTo>
                  <a:lnTo>
                    <a:pt x="180" y="12"/>
                  </a:lnTo>
                  <a:lnTo>
                    <a:pt x="184" y="10"/>
                  </a:lnTo>
                  <a:lnTo>
                    <a:pt x="189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15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1"/>
                  </a:lnTo>
                  <a:lnTo>
                    <a:pt x="249" y="2"/>
                  </a:lnTo>
                  <a:lnTo>
                    <a:pt x="254" y="5"/>
                  </a:lnTo>
                  <a:lnTo>
                    <a:pt x="259" y="6"/>
                  </a:lnTo>
                  <a:lnTo>
                    <a:pt x="264" y="8"/>
                  </a:lnTo>
                  <a:lnTo>
                    <a:pt x="270" y="11"/>
                  </a:lnTo>
                  <a:lnTo>
                    <a:pt x="275" y="13"/>
                  </a:lnTo>
                  <a:lnTo>
                    <a:pt x="279" y="17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4" y="29"/>
                  </a:lnTo>
                  <a:lnTo>
                    <a:pt x="298" y="34"/>
                  </a:lnTo>
                  <a:lnTo>
                    <a:pt x="307" y="43"/>
                  </a:lnTo>
                  <a:lnTo>
                    <a:pt x="314" y="54"/>
                  </a:lnTo>
                  <a:lnTo>
                    <a:pt x="321" y="66"/>
                  </a:lnTo>
                  <a:lnTo>
                    <a:pt x="327" y="78"/>
                  </a:lnTo>
                  <a:lnTo>
                    <a:pt x="332" y="90"/>
                  </a:lnTo>
                  <a:lnTo>
                    <a:pt x="335" y="103"/>
                  </a:lnTo>
                  <a:lnTo>
                    <a:pt x="338" y="116"/>
                  </a:lnTo>
                  <a:lnTo>
                    <a:pt x="339" y="131"/>
                  </a:lnTo>
                  <a:lnTo>
                    <a:pt x="340" y="145"/>
                  </a:lnTo>
                  <a:lnTo>
                    <a:pt x="340" y="161"/>
                  </a:lnTo>
                  <a:lnTo>
                    <a:pt x="338" y="177"/>
                  </a:lnTo>
                  <a:lnTo>
                    <a:pt x="336" y="194"/>
                  </a:lnTo>
                  <a:lnTo>
                    <a:pt x="333" y="212"/>
                  </a:lnTo>
                  <a:lnTo>
                    <a:pt x="329" y="229"/>
                  </a:lnTo>
                  <a:lnTo>
                    <a:pt x="324" y="248"/>
                  </a:lnTo>
                  <a:lnTo>
                    <a:pt x="317" y="266"/>
                  </a:lnTo>
                  <a:lnTo>
                    <a:pt x="310" y="285"/>
                  </a:lnTo>
                  <a:lnTo>
                    <a:pt x="302" y="305"/>
                  </a:lnTo>
                  <a:lnTo>
                    <a:pt x="293" y="324"/>
                  </a:lnTo>
                  <a:lnTo>
                    <a:pt x="285" y="341"/>
                  </a:lnTo>
                  <a:lnTo>
                    <a:pt x="274" y="357"/>
                  </a:lnTo>
                  <a:lnTo>
                    <a:pt x="263" y="373"/>
                  </a:lnTo>
                  <a:lnTo>
                    <a:pt x="252" y="389"/>
                  </a:lnTo>
                  <a:lnTo>
                    <a:pt x="239" y="402"/>
                  </a:lnTo>
                  <a:lnTo>
                    <a:pt x="225" y="415"/>
                  </a:lnTo>
                  <a:lnTo>
                    <a:pt x="203" y="445"/>
                  </a:lnTo>
                  <a:lnTo>
                    <a:pt x="181" y="472"/>
                  </a:lnTo>
                  <a:lnTo>
                    <a:pt x="158" y="499"/>
                  </a:lnTo>
                  <a:lnTo>
                    <a:pt x="132" y="524"/>
                  </a:lnTo>
                  <a:lnTo>
                    <a:pt x="107" y="547"/>
                  </a:lnTo>
                  <a:lnTo>
                    <a:pt x="82" y="570"/>
                  </a:lnTo>
                  <a:lnTo>
                    <a:pt x="54" y="589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27280" y="1414440"/>
              <a:ext cx="263520" cy="355680"/>
            </a:xfrm>
            <a:custGeom>
              <a:avLst/>
              <a:gdLst/>
              <a:ahLst/>
              <a:rect l="l" t="t" r="r" b="b"/>
              <a:pathLst>
                <a:path w="730" h="986">
                  <a:moveTo>
                    <a:pt x="492" y="0"/>
                  </a:moveTo>
                  <a:lnTo>
                    <a:pt x="517" y="1"/>
                  </a:lnTo>
                  <a:lnTo>
                    <a:pt x="529" y="4"/>
                  </a:lnTo>
                  <a:lnTo>
                    <a:pt x="541" y="6"/>
                  </a:lnTo>
                  <a:lnTo>
                    <a:pt x="553" y="8"/>
                  </a:lnTo>
                  <a:lnTo>
                    <a:pt x="563" y="13"/>
                  </a:lnTo>
                  <a:lnTo>
                    <a:pt x="575" y="17"/>
                  </a:lnTo>
                  <a:lnTo>
                    <a:pt x="586" y="23"/>
                  </a:lnTo>
                  <a:lnTo>
                    <a:pt x="596" y="29"/>
                  </a:lnTo>
                  <a:lnTo>
                    <a:pt x="607" y="36"/>
                  </a:lnTo>
                  <a:lnTo>
                    <a:pt x="616" y="43"/>
                  </a:lnTo>
                  <a:lnTo>
                    <a:pt x="626" y="52"/>
                  </a:lnTo>
                  <a:lnTo>
                    <a:pt x="635" y="60"/>
                  </a:lnTo>
                  <a:lnTo>
                    <a:pt x="645" y="70"/>
                  </a:lnTo>
                  <a:lnTo>
                    <a:pt x="653" y="80"/>
                  </a:lnTo>
                  <a:lnTo>
                    <a:pt x="662" y="91"/>
                  </a:lnTo>
                  <a:lnTo>
                    <a:pt x="670" y="103"/>
                  </a:lnTo>
                  <a:lnTo>
                    <a:pt x="677" y="115"/>
                  </a:lnTo>
                  <a:lnTo>
                    <a:pt x="685" y="128"/>
                  </a:lnTo>
                  <a:lnTo>
                    <a:pt x="691" y="142"/>
                  </a:lnTo>
                  <a:lnTo>
                    <a:pt x="703" y="169"/>
                  </a:lnTo>
                  <a:lnTo>
                    <a:pt x="712" y="199"/>
                  </a:lnTo>
                  <a:lnTo>
                    <a:pt x="720" y="232"/>
                  </a:lnTo>
                  <a:lnTo>
                    <a:pt x="725" y="266"/>
                  </a:lnTo>
                  <a:lnTo>
                    <a:pt x="728" y="302"/>
                  </a:lnTo>
                  <a:lnTo>
                    <a:pt x="729" y="341"/>
                  </a:lnTo>
                  <a:lnTo>
                    <a:pt x="727" y="402"/>
                  </a:lnTo>
                  <a:lnTo>
                    <a:pt x="720" y="462"/>
                  </a:lnTo>
                  <a:lnTo>
                    <a:pt x="707" y="519"/>
                  </a:lnTo>
                  <a:lnTo>
                    <a:pt x="690" y="577"/>
                  </a:lnTo>
                  <a:lnTo>
                    <a:pt x="669" y="631"/>
                  </a:lnTo>
                  <a:lnTo>
                    <a:pt x="643" y="685"/>
                  </a:lnTo>
                  <a:lnTo>
                    <a:pt x="611" y="736"/>
                  </a:lnTo>
                  <a:lnTo>
                    <a:pt x="575" y="787"/>
                  </a:lnTo>
                  <a:lnTo>
                    <a:pt x="536" y="834"/>
                  </a:lnTo>
                  <a:lnTo>
                    <a:pt x="497" y="873"/>
                  </a:lnTo>
                  <a:lnTo>
                    <a:pt x="457" y="908"/>
                  </a:lnTo>
                  <a:lnTo>
                    <a:pt x="437" y="922"/>
                  </a:lnTo>
                  <a:lnTo>
                    <a:pt x="416" y="936"/>
                  </a:lnTo>
                  <a:lnTo>
                    <a:pt x="395" y="946"/>
                  </a:lnTo>
                  <a:lnTo>
                    <a:pt x="374" y="957"/>
                  </a:lnTo>
                  <a:lnTo>
                    <a:pt x="353" y="966"/>
                  </a:lnTo>
                  <a:lnTo>
                    <a:pt x="332" y="973"/>
                  </a:lnTo>
                  <a:lnTo>
                    <a:pt x="311" y="978"/>
                  </a:lnTo>
                  <a:lnTo>
                    <a:pt x="290" y="981"/>
                  </a:lnTo>
                  <a:lnTo>
                    <a:pt x="269" y="984"/>
                  </a:lnTo>
                  <a:lnTo>
                    <a:pt x="247" y="985"/>
                  </a:lnTo>
                  <a:lnTo>
                    <a:pt x="219" y="984"/>
                  </a:lnTo>
                  <a:lnTo>
                    <a:pt x="194" y="980"/>
                  </a:lnTo>
                  <a:lnTo>
                    <a:pt x="170" y="973"/>
                  </a:lnTo>
                  <a:lnTo>
                    <a:pt x="158" y="969"/>
                  </a:lnTo>
                  <a:lnTo>
                    <a:pt x="146" y="964"/>
                  </a:lnTo>
                  <a:lnTo>
                    <a:pt x="135" y="958"/>
                  </a:lnTo>
                  <a:lnTo>
                    <a:pt x="124" y="952"/>
                  </a:lnTo>
                  <a:lnTo>
                    <a:pt x="114" y="945"/>
                  </a:lnTo>
                  <a:lnTo>
                    <a:pt x="104" y="938"/>
                  </a:lnTo>
                  <a:lnTo>
                    <a:pt x="95" y="930"/>
                  </a:lnTo>
                  <a:lnTo>
                    <a:pt x="85" y="921"/>
                  </a:lnTo>
                  <a:lnTo>
                    <a:pt x="76" y="912"/>
                  </a:lnTo>
                  <a:lnTo>
                    <a:pt x="67" y="902"/>
                  </a:lnTo>
                  <a:lnTo>
                    <a:pt x="59" y="891"/>
                  </a:lnTo>
                  <a:lnTo>
                    <a:pt x="51" y="880"/>
                  </a:lnTo>
                  <a:lnTo>
                    <a:pt x="44" y="870"/>
                  </a:lnTo>
                  <a:lnTo>
                    <a:pt x="38" y="858"/>
                  </a:lnTo>
                  <a:lnTo>
                    <a:pt x="31" y="844"/>
                  </a:lnTo>
                  <a:lnTo>
                    <a:pt x="26" y="832"/>
                  </a:lnTo>
                  <a:lnTo>
                    <a:pt x="21" y="819"/>
                  </a:lnTo>
                  <a:lnTo>
                    <a:pt x="16" y="806"/>
                  </a:lnTo>
                  <a:lnTo>
                    <a:pt x="9" y="777"/>
                  </a:lnTo>
                  <a:lnTo>
                    <a:pt x="4" y="746"/>
                  </a:lnTo>
                  <a:lnTo>
                    <a:pt x="1" y="714"/>
                  </a:lnTo>
                  <a:lnTo>
                    <a:pt x="0" y="680"/>
                  </a:lnTo>
                  <a:lnTo>
                    <a:pt x="2" y="623"/>
                  </a:lnTo>
                  <a:lnTo>
                    <a:pt x="7" y="566"/>
                  </a:lnTo>
                  <a:lnTo>
                    <a:pt x="15" y="512"/>
                  </a:lnTo>
                  <a:lnTo>
                    <a:pt x="28" y="459"/>
                  </a:lnTo>
                  <a:lnTo>
                    <a:pt x="44" y="408"/>
                  </a:lnTo>
                  <a:lnTo>
                    <a:pt x="64" y="357"/>
                  </a:lnTo>
                  <a:lnTo>
                    <a:pt x="87" y="309"/>
                  </a:lnTo>
                  <a:lnTo>
                    <a:pt x="114" y="263"/>
                  </a:lnTo>
                  <a:lnTo>
                    <a:pt x="153" y="202"/>
                  </a:lnTo>
                  <a:lnTo>
                    <a:pt x="174" y="174"/>
                  </a:lnTo>
                  <a:lnTo>
                    <a:pt x="195" y="148"/>
                  </a:lnTo>
                  <a:lnTo>
                    <a:pt x="216" y="125"/>
                  </a:lnTo>
                  <a:lnTo>
                    <a:pt x="238" y="103"/>
                  </a:lnTo>
                  <a:lnTo>
                    <a:pt x="261" y="83"/>
                  </a:lnTo>
                  <a:lnTo>
                    <a:pt x="285" y="66"/>
                  </a:lnTo>
                  <a:lnTo>
                    <a:pt x="309" y="50"/>
                  </a:lnTo>
                  <a:lnTo>
                    <a:pt x="333" y="37"/>
                  </a:lnTo>
                  <a:lnTo>
                    <a:pt x="359" y="25"/>
                  </a:lnTo>
                  <a:lnTo>
                    <a:pt x="384" y="17"/>
                  </a:lnTo>
                  <a:lnTo>
                    <a:pt x="410" y="10"/>
                  </a:lnTo>
                  <a:lnTo>
                    <a:pt x="437" y="4"/>
                  </a:lnTo>
                  <a:lnTo>
                    <a:pt x="464" y="1"/>
                  </a:lnTo>
                  <a:close/>
                  <a:moveTo>
                    <a:pt x="411" y="126"/>
                  </a:moveTo>
                  <a:lnTo>
                    <a:pt x="403" y="126"/>
                  </a:lnTo>
                  <a:lnTo>
                    <a:pt x="393" y="128"/>
                  </a:lnTo>
                  <a:lnTo>
                    <a:pt x="385" y="131"/>
                  </a:lnTo>
                  <a:lnTo>
                    <a:pt x="376" y="133"/>
                  </a:lnTo>
                  <a:lnTo>
                    <a:pt x="367" y="138"/>
                  </a:lnTo>
                  <a:lnTo>
                    <a:pt x="359" y="143"/>
                  </a:lnTo>
                  <a:lnTo>
                    <a:pt x="350" y="150"/>
                  </a:lnTo>
                  <a:lnTo>
                    <a:pt x="341" y="157"/>
                  </a:lnTo>
                  <a:lnTo>
                    <a:pt x="332" y="164"/>
                  </a:lnTo>
                  <a:lnTo>
                    <a:pt x="324" y="174"/>
                  </a:lnTo>
                  <a:lnTo>
                    <a:pt x="306" y="196"/>
                  </a:lnTo>
                  <a:lnTo>
                    <a:pt x="288" y="221"/>
                  </a:lnTo>
                  <a:lnTo>
                    <a:pt x="270" y="250"/>
                  </a:lnTo>
                  <a:lnTo>
                    <a:pt x="261" y="265"/>
                  </a:lnTo>
                  <a:lnTo>
                    <a:pt x="253" y="282"/>
                  </a:lnTo>
                  <a:lnTo>
                    <a:pt x="239" y="317"/>
                  </a:lnTo>
                  <a:lnTo>
                    <a:pt x="227" y="356"/>
                  </a:lnTo>
                  <a:lnTo>
                    <a:pt x="217" y="398"/>
                  </a:lnTo>
                  <a:lnTo>
                    <a:pt x="209" y="443"/>
                  </a:lnTo>
                  <a:lnTo>
                    <a:pt x="203" y="492"/>
                  </a:lnTo>
                  <a:lnTo>
                    <a:pt x="200" y="542"/>
                  </a:lnTo>
                  <a:lnTo>
                    <a:pt x="199" y="597"/>
                  </a:lnTo>
                  <a:lnTo>
                    <a:pt x="200" y="630"/>
                  </a:lnTo>
                  <a:lnTo>
                    <a:pt x="202" y="661"/>
                  </a:lnTo>
                  <a:lnTo>
                    <a:pt x="205" y="690"/>
                  </a:lnTo>
                  <a:lnTo>
                    <a:pt x="210" y="717"/>
                  </a:lnTo>
                  <a:lnTo>
                    <a:pt x="216" y="742"/>
                  </a:lnTo>
                  <a:lnTo>
                    <a:pt x="223" y="765"/>
                  </a:lnTo>
                  <a:lnTo>
                    <a:pt x="232" y="787"/>
                  </a:lnTo>
                  <a:lnTo>
                    <a:pt x="242" y="807"/>
                  </a:lnTo>
                  <a:lnTo>
                    <a:pt x="250" y="819"/>
                  </a:lnTo>
                  <a:lnTo>
                    <a:pt x="254" y="824"/>
                  </a:lnTo>
                  <a:lnTo>
                    <a:pt x="258" y="829"/>
                  </a:lnTo>
                  <a:lnTo>
                    <a:pt x="262" y="832"/>
                  </a:lnTo>
                  <a:lnTo>
                    <a:pt x="267" y="837"/>
                  </a:lnTo>
                  <a:lnTo>
                    <a:pt x="271" y="841"/>
                  </a:lnTo>
                  <a:lnTo>
                    <a:pt x="275" y="844"/>
                  </a:lnTo>
                  <a:lnTo>
                    <a:pt x="280" y="847"/>
                  </a:lnTo>
                  <a:lnTo>
                    <a:pt x="286" y="849"/>
                  </a:lnTo>
                  <a:lnTo>
                    <a:pt x="290" y="852"/>
                  </a:lnTo>
                  <a:lnTo>
                    <a:pt x="295" y="853"/>
                  </a:lnTo>
                  <a:lnTo>
                    <a:pt x="300" y="855"/>
                  </a:lnTo>
                  <a:lnTo>
                    <a:pt x="306" y="855"/>
                  </a:lnTo>
                  <a:lnTo>
                    <a:pt x="312" y="856"/>
                  </a:lnTo>
                  <a:lnTo>
                    <a:pt x="317" y="856"/>
                  </a:lnTo>
                  <a:lnTo>
                    <a:pt x="326" y="856"/>
                  </a:lnTo>
                  <a:lnTo>
                    <a:pt x="334" y="855"/>
                  </a:lnTo>
                  <a:lnTo>
                    <a:pt x="343" y="853"/>
                  </a:lnTo>
                  <a:lnTo>
                    <a:pt x="351" y="849"/>
                  </a:lnTo>
                  <a:lnTo>
                    <a:pt x="361" y="846"/>
                  </a:lnTo>
                  <a:lnTo>
                    <a:pt x="369" y="841"/>
                  </a:lnTo>
                  <a:lnTo>
                    <a:pt x="378" y="835"/>
                  </a:lnTo>
                  <a:lnTo>
                    <a:pt x="386" y="828"/>
                  </a:lnTo>
                  <a:lnTo>
                    <a:pt x="395" y="820"/>
                  </a:lnTo>
                  <a:lnTo>
                    <a:pt x="404" y="812"/>
                  </a:lnTo>
                  <a:lnTo>
                    <a:pt x="421" y="792"/>
                  </a:lnTo>
                  <a:lnTo>
                    <a:pt x="439" y="769"/>
                  </a:lnTo>
                  <a:lnTo>
                    <a:pt x="457" y="742"/>
                  </a:lnTo>
                  <a:lnTo>
                    <a:pt x="473" y="709"/>
                  </a:lnTo>
                  <a:lnTo>
                    <a:pt x="487" y="673"/>
                  </a:lnTo>
                  <a:lnTo>
                    <a:pt x="499" y="635"/>
                  </a:lnTo>
                  <a:lnTo>
                    <a:pt x="510" y="594"/>
                  </a:lnTo>
                  <a:lnTo>
                    <a:pt x="517" y="549"/>
                  </a:lnTo>
                  <a:lnTo>
                    <a:pt x="522" y="504"/>
                  </a:lnTo>
                  <a:lnTo>
                    <a:pt x="525" y="455"/>
                  </a:lnTo>
                  <a:lnTo>
                    <a:pt x="526" y="403"/>
                  </a:lnTo>
                  <a:lnTo>
                    <a:pt x="525" y="366"/>
                  </a:lnTo>
                  <a:lnTo>
                    <a:pt x="524" y="331"/>
                  </a:lnTo>
                  <a:lnTo>
                    <a:pt x="521" y="300"/>
                  </a:lnTo>
                  <a:lnTo>
                    <a:pt x="518" y="272"/>
                  </a:lnTo>
                  <a:lnTo>
                    <a:pt x="513" y="246"/>
                  </a:lnTo>
                  <a:lnTo>
                    <a:pt x="507" y="223"/>
                  </a:lnTo>
                  <a:lnTo>
                    <a:pt x="504" y="214"/>
                  </a:lnTo>
                  <a:lnTo>
                    <a:pt x="500" y="204"/>
                  </a:lnTo>
                  <a:lnTo>
                    <a:pt x="497" y="196"/>
                  </a:lnTo>
                  <a:lnTo>
                    <a:pt x="493" y="187"/>
                  </a:lnTo>
                  <a:lnTo>
                    <a:pt x="484" y="173"/>
                  </a:lnTo>
                  <a:lnTo>
                    <a:pt x="475" y="161"/>
                  </a:lnTo>
                  <a:lnTo>
                    <a:pt x="469" y="155"/>
                  </a:lnTo>
                  <a:lnTo>
                    <a:pt x="465" y="150"/>
                  </a:lnTo>
                  <a:lnTo>
                    <a:pt x="460" y="145"/>
                  </a:lnTo>
                  <a:lnTo>
                    <a:pt x="455" y="142"/>
                  </a:lnTo>
                  <a:lnTo>
                    <a:pt x="449" y="138"/>
                  </a:lnTo>
                  <a:lnTo>
                    <a:pt x="444" y="134"/>
                  </a:lnTo>
                  <a:lnTo>
                    <a:pt x="439" y="132"/>
                  </a:lnTo>
                  <a:lnTo>
                    <a:pt x="434" y="130"/>
                  </a:lnTo>
                  <a:lnTo>
                    <a:pt x="428" y="128"/>
                  </a:lnTo>
                  <a:lnTo>
                    <a:pt x="423" y="127"/>
                  </a:lnTo>
                  <a:lnTo>
                    <a:pt x="417" y="12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23920" y="1192320"/>
              <a:ext cx="384480" cy="576000"/>
            </a:xfrm>
            <a:custGeom>
              <a:avLst/>
              <a:gdLst/>
              <a:ahLst/>
              <a:rect l="l" t="t" r="r" b="b"/>
              <a:pathLst>
                <a:path w="1067" h="1601">
                  <a:moveTo>
                    <a:pt x="268" y="805"/>
                  </a:moveTo>
                  <a:lnTo>
                    <a:pt x="299" y="762"/>
                  </a:lnTo>
                  <a:lnTo>
                    <a:pt x="330" y="724"/>
                  </a:lnTo>
                  <a:lnTo>
                    <a:pt x="346" y="708"/>
                  </a:lnTo>
                  <a:lnTo>
                    <a:pt x="361" y="692"/>
                  </a:lnTo>
                  <a:lnTo>
                    <a:pt x="378" y="679"/>
                  </a:lnTo>
                  <a:lnTo>
                    <a:pt x="394" y="666"/>
                  </a:lnTo>
                  <a:lnTo>
                    <a:pt x="411" y="655"/>
                  </a:lnTo>
                  <a:lnTo>
                    <a:pt x="428" y="647"/>
                  </a:lnTo>
                  <a:lnTo>
                    <a:pt x="445" y="638"/>
                  </a:lnTo>
                  <a:lnTo>
                    <a:pt x="462" y="632"/>
                  </a:lnTo>
                  <a:lnTo>
                    <a:pt x="479" y="626"/>
                  </a:lnTo>
                  <a:lnTo>
                    <a:pt x="497" y="623"/>
                  </a:lnTo>
                  <a:lnTo>
                    <a:pt x="513" y="622"/>
                  </a:lnTo>
                  <a:lnTo>
                    <a:pt x="531" y="620"/>
                  </a:lnTo>
                  <a:lnTo>
                    <a:pt x="542" y="620"/>
                  </a:lnTo>
                  <a:lnTo>
                    <a:pt x="552" y="622"/>
                  </a:lnTo>
                  <a:lnTo>
                    <a:pt x="562" y="623"/>
                  </a:lnTo>
                  <a:lnTo>
                    <a:pt x="571" y="625"/>
                  </a:lnTo>
                  <a:lnTo>
                    <a:pt x="581" y="628"/>
                  </a:lnTo>
                  <a:lnTo>
                    <a:pt x="589" y="631"/>
                  </a:lnTo>
                  <a:lnTo>
                    <a:pt x="598" y="635"/>
                  </a:lnTo>
                  <a:lnTo>
                    <a:pt x="606" y="640"/>
                  </a:lnTo>
                  <a:lnTo>
                    <a:pt x="614" y="644"/>
                  </a:lnTo>
                  <a:lnTo>
                    <a:pt x="621" y="650"/>
                  </a:lnTo>
                  <a:lnTo>
                    <a:pt x="629" y="656"/>
                  </a:lnTo>
                  <a:lnTo>
                    <a:pt x="635" y="662"/>
                  </a:lnTo>
                  <a:lnTo>
                    <a:pt x="641" y="671"/>
                  </a:lnTo>
                  <a:lnTo>
                    <a:pt x="648" y="678"/>
                  </a:lnTo>
                  <a:lnTo>
                    <a:pt x="653" y="686"/>
                  </a:lnTo>
                  <a:lnTo>
                    <a:pt x="658" y="696"/>
                  </a:lnTo>
                  <a:lnTo>
                    <a:pt x="668" y="715"/>
                  </a:lnTo>
                  <a:lnTo>
                    <a:pt x="676" y="737"/>
                  </a:lnTo>
                  <a:lnTo>
                    <a:pt x="683" y="758"/>
                  </a:lnTo>
                  <a:lnTo>
                    <a:pt x="689" y="781"/>
                  </a:lnTo>
                  <a:lnTo>
                    <a:pt x="694" y="805"/>
                  </a:lnTo>
                  <a:lnTo>
                    <a:pt x="697" y="832"/>
                  </a:lnTo>
                  <a:lnTo>
                    <a:pt x="698" y="858"/>
                  </a:lnTo>
                  <a:lnTo>
                    <a:pt x="699" y="886"/>
                  </a:lnTo>
                  <a:lnTo>
                    <a:pt x="697" y="951"/>
                  </a:lnTo>
                  <a:lnTo>
                    <a:pt x="690" y="1015"/>
                  </a:lnTo>
                  <a:lnTo>
                    <a:pt x="678" y="1079"/>
                  </a:lnTo>
                  <a:lnTo>
                    <a:pt x="662" y="1140"/>
                  </a:lnTo>
                  <a:lnTo>
                    <a:pt x="641" y="1201"/>
                  </a:lnTo>
                  <a:lnTo>
                    <a:pt x="615" y="1260"/>
                  </a:lnTo>
                  <a:lnTo>
                    <a:pt x="584" y="1318"/>
                  </a:lnTo>
                  <a:lnTo>
                    <a:pt x="549" y="1375"/>
                  </a:lnTo>
                  <a:lnTo>
                    <a:pt x="511" y="1428"/>
                  </a:lnTo>
                  <a:lnTo>
                    <a:pt x="472" y="1473"/>
                  </a:lnTo>
                  <a:lnTo>
                    <a:pt x="452" y="1494"/>
                  </a:lnTo>
                  <a:lnTo>
                    <a:pt x="431" y="1512"/>
                  </a:lnTo>
                  <a:lnTo>
                    <a:pt x="411" y="1528"/>
                  </a:lnTo>
                  <a:lnTo>
                    <a:pt x="390" y="1544"/>
                  </a:lnTo>
                  <a:lnTo>
                    <a:pt x="369" y="1557"/>
                  </a:lnTo>
                  <a:lnTo>
                    <a:pt x="348" y="1568"/>
                  </a:lnTo>
                  <a:lnTo>
                    <a:pt x="325" y="1579"/>
                  </a:lnTo>
                  <a:lnTo>
                    <a:pt x="303" y="1586"/>
                  </a:lnTo>
                  <a:lnTo>
                    <a:pt x="281" y="1592"/>
                  </a:lnTo>
                  <a:lnTo>
                    <a:pt x="259" y="1597"/>
                  </a:lnTo>
                  <a:lnTo>
                    <a:pt x="236" y="1599"/>
                  </a:lnTo>
                  <a:lnTo>
                    <a:pt x="212" y="1600"/>
                  </a:lnTo>
                  <a:lnTo>
                    <a:pt x="188" y="1599"/>
                  </a:lnTo>
                  <a:lnTo>
                    <a:pt x="165" y="1596"/>
                  </a:lnTo>
                  <a:lnTo>
                    <a:pt x="144" y="1591"/>
                  </a:lnTo>
                  <a:lnTo>
                    <a:pt x="133" y="1587"/>
                  </a:lnTo>
                  <a:lnTo>
                    <a:pt x="124" y="1584"/>
                  </a:lnTo>
                  <a:lnTo>
                    <a:pt x="113" y="1579"/>
                  </a:lnTo>
                  <a:lnTo>
                    <a:pt x="105" y="1574"/>
                  </a:lnTo>
                  <a:lnTo>
                    <a:pt x="95" y="1568"/>
                  </a:lnTo>
                  <a:lnTo>
                    <a:pt x="87" y="1562"/>
                  </a:lnTo>
                  <a:lnTo>
                    <a:pt x="78" y="1556"/>
                  </a:lnTo>
                  <a:lnTo>
                    <a:pt x="71" y="1549"/>
                  </a:lnTo>
                  <a:lnTo>
                    <a:pt x="64" y="1542"/>
                  </a:lnTo>
                  <a:lnTo>
                    <a:pt x="56" y="1533"/>
                  </a:lnTo>
                  <a:lnTo>
                    <a:pt x="44" y="1516"/>
                  </a:lnTo>
                  <a:lnTo>
                    <a:pt x="32" y="1498"/>
                  </a:lnTo>
                  <a:lnTo>
                    <a:pt x="22" y="1479"/>
                  </a:lnTo>
                  <a:lnTo>
                    <a:pt x="14" y="1459"/>
                  </a:lnTo>
                  <a:lnTo>
                    <a:pt x="9" y="1437"/>
                  </a:lnTo>
                  <a:lnTo>
                    <a:pt x="3" y="1416"/>
                  </a:lnTo>
                  <a:lnTo>
                    <a:pt x="1" y="1393"/>
                  </a:lnTo>
                  <a:lnTo>
                    <a:pt x="0" y="1369"/>
                  </a:lnTo>
                  <a:lnTo>
                    <a:pt x="0" y="1348"/>
                  </a:lnTo>
                  <a:lnTo>
                    <a:pt x="2" y="1327"/>
                  </a:lnTo>
                  <a:lnTo>
                    <a:pt x="7" y="1278"/>
                  </a:lnTo>
                  <a:lnTo>
                    <a:pt x="15" y="1221"/>
                  </a:lnTo>
                  <a:lnTo>
                    <a:pt x="27" y="1158"/>
                  </a:lnTo>
                  <a:lnTo>
                    <a:pt x="139" y="586"/>
                  </a:lnTo>
                  <a:lnTo>
                    <a:pt x="156" y="503"/>
                  </a:lnTo>
                  <a:lnTo>
                    <a:pt x="178" y="427"/>
                  </a:lnTo>
                  <a:lnTo>
                    <a:pt x="200" y="359"/>
                  </a:lnTo>
                  <a:lnTo>
                    <a:pt x="225" y="298"/>
                  </a:lnTo>
                  <a:lnTo>
                    <a:pt x="253" y="244"/>
                  </a:lnTo>
                  <a:lnTo>
                    <a:pt x="267" y="220"/>
                  </a:lnTo>
                  <a:lnTo>
                    <a:pt x="282" y="197"/>
                  </a:lnTo>
                  <a:lnTo>
                    <a:pt x="298" y="177"/>
                  </a:lnTo>
                  <a:lnTo>
                    <a:pt x="315" y="158"/>
                  </a:lnTo>
                  <a:lnTo>
                    <a:pt x="332" y="141"/>
                  </a:lnTo>
                  <a:lnTo>
                    <a:pt x="350" y="125"/>
                  </a:lnTo>
                  <a:lnTo>
                    <a:pt x="386" y="98"/>
                  </a:lnTo>
                  <a:lnTo>
                    <a:pt x="420" y="74"/>
                  </a:lnTo>
                  <a:lnTo>
                    <a:pt x="454" y="54"/>
                  </a:lnTo>
                  <a:lnTo>
                    <a:pt x="487" y="38"/>
                  </a:lnTo>
                  <a:lnTo>
                    <a:pt x="519" y="26"/>
                  </a:lnTo>
                  <a:lnTo>
                    <a:pt x="550" y="16"/>
                  </a:lnTo>
                  <a:lnTo>
                    <a:pt x="581" y="11"/>
                  </a:lnTo>
                  <a:lnTo>
                    <a:pt x="596" y="9"/>
                  </a:lnTo>
                  <a:lnTo>
                    <a:pt x="611" y="9"/>
                  </a:lnTo>
                  <a:lnTo>
                    <a:pt x="619" y="9"/>
                  </a:lnTo>
                  <a:lnTo>
                    <a:pt x="626" y="10"/>
                  </a:lnTo>
                  <a:lnTo>
                    <a:pt x="635" y="10"/>
                  </a:lnTo>
                  <a:lnTo>
                    <a:pt x="642" y="11"/>
                  </a:lnTo>
                  <a:lnTo>
                    <a:pt x="658" y="15"/>
                  </a:lnTo>
                  <a:lnTo>
                    <a:pt x="674" y="18"/>
                  </a:lnTo>
                  <a:lnTo>
                    <a:pt x="845" y="48"/>
                  </a:lnTo>
                  <a:lnTo>
                    <a:pt x="899" y="56"/>
                  </a:lnTo>
                  <a:lnTo>
                    <a:pt x="918" y="57"/>
                  </a:lnTo>
                  <a:lnTo>
                    <a:pt x="932" y="58"/>
                  </a:lnTo>
                  <a:lnTo>
                    <a:pt x="935" y="58"/>
                  </a:lnTo>
                  <a:lnTo>
                    <a:pt x="938" y="57"/>
                  </a:lnTo>
                  <a:lnTo>
                    <a:pt x="942" y="56"/>
                  </a:lnTo>
                  <a:lnTo>
                    <a:pt x="946" y="54"/>
                  </a:lnTo>
                  <a:lnTo>
                    <a:pt x="951" y="52"/>
                  </a:lnTo>
                  <a:lnTo>
                    <a:pt x="955" y="50"/>
                  </a:lnTo>
                  <a:lnTo>
                    <a:pt x="965" y="44"/>
                  </a:lnTo>
                  <a:lnTo>
                    <a:pt x="976" y="35"/>
                  </a:lnTo>
                  <a:lnTo>
                    <a:pt x="988" y="26"/>
                  </a:lnTo>
                  <a:lnTo>
                    <a:pt x="1001" y="14"/>
                  </a:lnTo>
                  <a:lnTo>
                    <a:pt x="1015" y="0"/>
                  </a:lnTo>
                  <a:lnTo>
                    <a:pt x="1066" y="41"/>
                  </a:lnTo>
                  <a:lnTo>
                    <a:pt x="1050" y="74"/>
                  </a:lnTo>
                  <a:lnTo>
                    <a:pt x="1035" y="102"/>
                  </a:lnTo>
                  <a:lnTo>
                    <a:pt x="1020" y="128"/>
                  </a:lnTo>
                  <a:lnTo>
                    <a:pt x="1005" y="149"/>
                  </a:lnTo>
                  <a:lnTo>
                    <a:pt x="992" y="168"/>
                  </a:lnTo>
                  <a:lnTo>
                    <a:pt x="978" y="184"/>
                  </a:lnTo>
                  <a:lnTo>
                    <a:pt x="971" y="191"/>
                  </a:lnTo>
                  <a:lnTo>
                    <a:pt x="964" y="197"/>
                  </a:lnTo>
                  <a:lnTo>
                    <a:pt x="958" y="202"/>
                  </a:lnTo>
                  <a:lnTo>
                    <a:pt x="952" y="207"/>
                  </a:lnTo>
                  <a:lnTo>
                    <a:pt x="939" y="214"/>
                  </a:lnTo>
                  <a:lnTo>
                    <a:pt x="925" y="220"/>
                  </a:lnTo>
                  <a:lnTo>
                    <a:pt x="912" y="226"/>
                  </a:lnTo>
                  <a:lnTo>
                    <a:pt x="898" y="229"/>
                  </a:lnTo>
                  <a:lnTo>
                    <a:pt x="883" y="233"/>
                  </a:lnTo>
                  <a:lnTo>
                    <a:pt x="867" y="235"/>
                  </a:lnTo>
                  <a:lnTo>
                    <a:pt x="852" y="238"/>
                  </a:lnTo>
                  <a:lnTo>
                    <a:pt x="837" y="238"/>
                  </a:lnTo>
                  <a:lnTo>
                    <a:pt x="815" y="237"/>
                  </a:lnTo>
                  <a:lnTo>
                    <a:pt x="791" y="235"/>
                  </a:lnTo>
                  <a:lnTo>
                    <a:pt x="732" y="227"/>
                  </a:lnTo>
                  <a:lnTo>
                    <a:pt x="660" y="214"/>
                  </a:lnTo>
                  <a:lnTo>
                    <a:pt x="575" y="196"/>
                  </a:lnTo>
                  <a:lnTo>
                    <a:pt x="502" y="186"/>
                  </a:lnTo>
                  <a:lnTo>
                    <a:pt x="479" y="184"/>
                  </a:lnTo>
                  <a:lnTo>
                    <a:pt x="469" y="183"/>
                  </a:lnTo>
                  <a:lnTo>
                    <a:pt x="463" y="183"/>
                  </a:lnTo>
                  <a:lnTo>
                    <a:pt x="459" y="183"/>
                  </a:lnTo>
                  <a:lnTo>
                    <a:pt x="454" y="184"/>
                  </a:lnTo>
                  <a:lnTo>
                    <a:pt x="450" y="184"/>
                  </a:lnTo>
                  <a:lnTo>
                    <a:pt x="446" y="185"/>
                  </a:lnTo>
                  <a:lnTo>
                    <a:pt x="443" y="187"/>
                  </a:lnTo>
                  <a:lnTo>
                    <a:pt x="438" y="189"/>
                  </a:lnTo>
                  <a:lnTo>
                    <a:pt x="434" y="191"/>
                  </a:lnTo>
                  <a:lnTo>
                    <a:pt x="431" y="193"/>
                  </a:lnTo>
                  <a:lnTo>
                    <a:pt x="428" y="197"/>
                  </a:lnTo>
                  <a:lnTo>
                    <a:pt x="424" y="199"/>
                  </a:lnTo>
                  <a:lnTo>
                    <a:pt x="420" y="203"/>
                  </a:lnTo>
                  <a:lnTo>
                    <a:pt x="417" y="208"/>
                  </a:lnTo>
                  <a:lnTo>
                    <a:pt x="414" y="211"/>
                  </a:lnTo>
                  <a:lnTo>
                    <a:pt x="411" y="216"/>
                  </a:lnTo>
                  <a:lnTo>
                    <a:pt x="406" y="227"/>
                  </a:lnTo>
                  <a:lnTo>
                    <a:pt x="403" y="233"/>
                  </a:lnTo>
                  <a:lnTo>
                    <a:pt x="399" y="240"/>
                  </a:lnTo>
                  <a:lnTo>
                    <a:pt x="393" y="258"/>
                  </a:lnTo>
                  <a:lnTo>
                    <a:pt x="387" y="280"/>
                  </a:lnTo>
                  <a:lnTo>
                    <a:pt x="379" y="306"/>
                  </a:lnTo>
                  <a:lnTo>
                    <a:pt x="363" y="371"/>
                  </a:lnTo>
                  <a:lnTo>
                    <a:pt x="347" y="454"/>
                  </a:lnTo>
                  <a:close/>
                  <a:moveTo>
                    <a:pt x="166" y="1371"/>
                  </a:moveTo>
                  <a:lnTo>
                    <a:pt x="166" y="1383"/>
                  </a:lnTo>
                  <a:lnTo>
                    <a:pt x="168" y="1394"/>
                  </a:lnTo>
                  <a:lnTo>
                    <a:pt x="170" y="1405"/>
                  </a:lnTo>
                  <a:lnTo>
                    <a:pt x="171" y="1411"/>
                  </a:lnTo>
                  <a:lnTo>
                    <a:pt x="173" y="1416"/>
                  </a:lnTo>
                  <a:lnTo>
                    <a:pt x="176" y="1420"/>
                  </a:lnTo>
                  <a:lnTo>
                    <a:pt x="178" y="1425"/>
                  </a:lnTo>
                  <a:lnTo>
                    <a:pt x="180" y="1430"/>
                  </a:lnTo>
                  <a:lnTo>
                    <a:pt x="182" y="1435"/>
                  </a:lnTo>
                  <a:lnTo>
                    <a:pt x="188" y="1443"/>
                  </a:lnTo>
                  <a:lnTo>
                    <a:pt x="195" y="1452"/>
                  </a:lnTo>
                  <a:lnTo>
                    <a:pt x="202" y="1459"/>
                  </a:lnTo>
                  <a:lnTo>
                    <a:pt x="209" y="1466"/>
                  </a:lnTo>
                  <a:lnTo>
                    <a:pt x="217" y="1471"/>
                  </a:lnTo>
                  <a:lnTo>
                    <a:pt x="224" y="1476"/>
                  </a:lnTo>
                  <a:lnTo>
                    <a:pt x="227" y="1478"/>
                  </a:lnTo>
                  <a:lnTo>
                    <a:pt x="231" y="1479"/>
                  </a:lnTo>
                  <a:lnTo>
                    <a:pt x="236" y="1480"/>
                  </a:lnTo>
                  <a:lnTo>
                    <a:pt x="239" y="1482"/>
                  </a:lnTo>
                  <a:lnTo>
                    <a:pt x="243" y="1483"/>
                  </a:lnTo>
                  <a:lnTo>
                    <a:pt x="247" y="1484"/>
                  </a:lnTo>
                  <a:lnTo>
                    <a:pt x="250" y="1484"/>
                  </a:lnTo>
                  <a:lnTo>
                    <a:pt x="255" y="1484"/>
                  </a:lnTo>
                  <a:lnTo>
                    <a:pt x="267" y="1483"/>
                  </a:lnTo>
                  <a:lnTo>
                    <a:pt x="279" y="1482"/>
                  </a:lnTo>
                  <a:lnTo>
                    <a:pt x="292" y="1478"/>
                  </a:lnTo>
                  <a:lnTo>
                    <a:pt x="303" y="1472"/>
                  </a:lnTo>
                  <a:lnTo>
                    <a:pt x="315" y="1466"/>
                  </a:lnTo>
                  <a:lnTo>
                    <a:pt x="327" y="1458"/>
                  </a:lnTo>
                  <a:lnTo>
                    <a:pt x="337" y="1448"/>
                  </a:lnTo>
                  <a:lnTo>
                    <a:pt x="349" y="1437"/>
                  </a:lnTo>
                  <a:lnTo>
                    <a:pt x="359" y="1425"/>
                  </a:lnTo>
                  <a:lnTo>
                    <a:pt x="370" y="1411"/>
                  </a:lnTo>
                  <a:lnTo>
                    <a:pt x="380" y="1395"/>
                  </a:lnTo>
                  <a:lnTo>
                    <a:pt x="391" y="1378"/>
                  </a:lnTo>
                  <a:lnTo>
                    <a:pt x="411" y="1341"/>
                  </a:lnTo>
                  <a:lnTo>
                    <a:pt x="431" y="1297"/>
                  </a:lnTo>
                  <a:lnTo>
                    <a:pt x="449" y="1250"/>
                  </a:lnTo>
                  <a:lnTo>
                    <a:pt x="465" y="1203"/>
                  </a:lnTo>
                  <a:lnTo>
                    <a:pt x="479" y="1158"/>
                  </a:lnTo>
                  <a:lnTo>
                    <a:pt x="489" y="1113"/>
                  </a:lnTo>
                  <a:lnTo>
                    <a:pt x="498" y="1069"/>
                  </a:lnTo>
                  <a:lnTo>
                    <a:pt x="503" y="1025"/>
                  </a:lnTo>
                  <a:lnTo>
                    <a:pt x="507" y="981"/>
                  </a:lnTo>
                  <a:lnTo>
                    <a:pt x="508" y="938"/>
                  </a:lnTo>
                  <a:lnTo>
                    <a:pt x="508" y="923"/>
                  </a:lnTo>
                  <a:lnTo>
                    <a:pt x="507" y="908"/>
                  </a:lnTo>
                  <a:lnTo>
                    <a:pt x="505" y="894"/>
                  </a:lnTo>
                  <a:lnTo>
                    <a:pt x="504" y="881"/>
                  </a:lnTo>
                  <a:lnTo>
                    <a:pt x="501" y="868"/>
                  </a:lnTo>
                  <a:lnTo>
                    <a:pt x="498" y="854"/>
                  </a:lnTo>
                  <a:lnTo>
                    <a:pt x="493" y="842"/>
                  </a:lnTo>
                  <a:lnTo>
                    <a:pt x="489" y="830"/>
                  </a:lnTo>
                  <a:lnTo>
                    <a:pt x="484" y="820"/>
                  </a:lnTo>
                  <a:lnTo>
                    <a:pt x="482" y="815"/>
                  </a:lnTo>
                  <a:lnTo>
                    <a:pt x="479" y="811"/>
                  </a:lnTo>
                  <a:lnTo>
                    <a:pt x="475" y="806"/>
                  </a:lnTo>
                  <a:lnTo>
                    <a:pt x="472" y="803"/>
                  </a:lnTo>
                  <a:lnTo>
                    <a:pt x="469" y="799"/>
                  </a:lnTo>
                  <a:lnTo>
                    <a:pt x="466" y="797"/>
                  </a:lnTo>
                  <a:lnTo>
                    <a:pt x="463" y="793"/>
                  </a:lnTo>
                  <a:lnTo>
                    <a:pt x="460" y="791"/>
                  </a:lnTo>
                  <a:lnTo>
                    <a:pt x="455" y="790"/>
                  </a:lnTo>
                  <a:lnTo>
                    <a:pt x="452" y="787"/>
                  </a:lnTo>
                  <a:lnTo>
                    <a:pt x="448" y="786"/>
                  </a:lnTo>
                  <a:lnTo>
                    <a:pt x="445" y="786"/>
                  </a:lnTo>
                  <a:lnTo>
                    <a:pt x="441" y="785"/>
                  </a:lnTo>
                  <a:lnTo>
                    <a:pt x="436" y="785"/>
                  </a:lnTo>
                  <a:lnTo>
                    <a:pt x="431" y="785"/>
                  </a:lnTo>
                  <a:lnTo>
                    <a:pt x="426" y="786"/>
                  </a:lnTo>
                  <a:lnTo>
                    <a:pt x="420" y="787"/>
                  </a:lnTo>
                  <a:lnTo>
                    <a:pt x="414" y="790"/>
                  </a:lnTo>
                  <a:lnTo>
                    <a:pt x="409" y="792"/>
                  </a:lnTo>
                  <a:lnTo>
                    <a:pt x="403" y="794"/>
                  </a:lnTo>
                  <a:lnTo>
                    <a:pt x="390" y="802"/>
                  </a:lnTo>
                  <a:lnTo>
                    <a:pt x="376" y="811"/>
                  </a:lnTo>
                  <a:lnTo>
                    <a:pt x="361" y="823"/>
                  </a:lnTo>
                  <a:lnTo>
                    <a:pt x="347" y="836"/>
                  </a:lnTo>
                  <a:lnTo>
                    <a:pt x="331" y="852"/>
                  </a:lnTo>
                  <a:lnTo>
                    <a:pt x="315" y="870"/>
                  </a:lnTo>
                  <a:lnTo>
                    <a:pt x="299" y="892"/>
                  </a:lnTo>
                  <a:lnTo>
                    <a:pt x="284" y="915"/>
                  </a:lnTo>
                  <a:lnTo>
                    <a:pt x="269" y="943"/>
                  </a:lnTo>
                  <a:lnTo>
                    <a:pt x="256" y="973"/>
                  </a:lnTo>
                  <a:lnTo>
                    <a:pt x="242" y="1005"/>
                  </a:lnTo>
                  <a:lnTo>
                    <a:pt x="229" y="1041"/>
                  </a:lnTo>
                  <a:lnTo>
                    <a:pt x="217" y="1080"/>
                  </a:lnTo>
                  <a:lnTo>
                    <a:pt x="205" y="1119"/>
                  </a:lnTo>
                  <a:lnTo>
                    <a:pt x="195" y="1158"/>
                  </a:lnTo>
                  <a:lnTo>
                    <a:pt x="186" y="1196"/>
                  </a:lnTo>
                  <a:lnTo>
                    <a:pt x="179" y="1233"/>
                  </a:lnTo>
                  <a:lnTo>
                    <a:pt x="173" y="1269"/>
                  </a:lnTo>
                  <a:lnTo>
                    <a:pt x="169" y="1304"/>
                  </a:lnTo>
                  <a:lnTo>
                    <a:pt x="167" y="1338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78080" y="1405080"/>
              <a:ext cx="331920" cy="365040"/>
            </a:xfrm>
            <a:custGeom>
              <a:avLst/>
              <a:gdLst/>
              <a:ahLst/>
              <a:rect l="l" t="t" r="r" b="b"/>
              <a:pathLst>
                <a:path w="921" h="1014">
                  <a:moveTo>
                    <a:pt x="558" y="0"/>
                  </a:moveTo>
                  <a:lnTo>
                    <a:pt x="622" y="38"/>
                  </a:lnTo>
                  <a:lnTo>
                    <a:pt x="532" y="423"/>
                  </a:lnTo>
                  <a:lnTo>
                    <a:pt x="532" y="424"/>
                  </a:lnTo>
                  <a:lnTo>
                    <a:pt x="531" y="425"/>
                  </a:lnTo>
                  <a:lnTo>
                    <a:pt x="531" y="427"/>
                  </a:lnTo>
                  <a:lnTo>
                    <a:pt x="531" y="427"/>
                  </a:lnTo>
                  <a:lnTo>
                    <a:pt x="530" y="427"/>
                  </a:lnTo>
                  <a:lnTo>
                    <a:pt x="530" y="428"/>
                  </a:lnTo>
                  <a:lnTo>
                    <a:pt x="530" y="428"/>
                  </a:lnTo>
                  <a:lnTo>
                    <a:pt x="530" y="428"/>
                  </a:lnTo>
                  <a:lnTo>
                    <a:pt x="530" y="428"/>
                  </a:lnTo>
                  <a:lnTo>
                    <a:pt x="529" y="428"/>
                  </a:lnTo>
                  <a:lnTo>
                    <a:pt x="529" y="428"/>
                  </a:lnTo>
                  <a:lnTo>
                    <a:pt x="529" y="428"/>
                  </a:lnTo>
                  <a:lnTo>
                    <a:pt x="529" y="427"/>
                  </a:lnTo>
                  <a:lnTo>
                    <a:pt x="529" y="427"/>
                  </a:lnTo>
                  <a:lnTo>
                    <a:pt x="529" y="427"/>
                  </a:lnTo>
                  <a:lnTo>
                    <a:pt x="528" y="427"/>
                  </a:lnTo>
                  <a:lnTo>
                    <a:pt x="528" y="425"/>
                  </a:lnTo>
                  <a:lnTo>
                    <a:pt x="528" y="424"/>
                  </a:lnTo>
                  <a:lnTo>
                    <a:pt x="528" y="423"/>
                  </a:lnTo>
                  <a:lnTo>
                    <a:pt x="527" y="422"/>
                  </a:lnTo>
                  <a:lnTo>
                    <a:pt x="527" y="418"/>
                  </a:lnTo>
                  <a:lnTo>
                    <a:pt x="553" y="404"/>
                  </a:lnTo>
                  <a:lnTo>
                    <a:pt x="578" y="391"/>
                  </a:lnTo>
                  <a:lnTo>
                    <a:pt x="603" y="380"/>
                  </a:lnTo>
                  <a:lnTo>
                    <a:pt x="626" y="371"/>
                  </a:lnTo>
                  <a:lnTo>
                    <a:pt x="647" y="364"/>
                  </a:lnTo>
                  <a:lnTo>
                    <a:pt x="667" y="359"/>
                  </a:lnTo>
                  <a:lnTo>
                    <a:pt x="686" y="357"/>
                  </a:lnTo>
                  <a:lnTo>
                    <a:pt x="704" y="356"/>
                  </a:lnTo>
                  <a:lnTo>
                    <a:pt x="727" y="357"/>
                  </a:lnTo>
                  <a:lnTo>
                    <a:pt x="749" y="359"/>
                  </a:lnTo>
                  <a:lnTo>
                    <a:pt x="771" y="364"/>
                  </a:lnTo>
                  <a:lnTo>
                    <a:pt x="791" y="371"/>
                  </a:lnTo>
                  <a:lnTo>
                    <a:pt x="810" y="380"/>
                  </a:lnTo>
                  <a:lnTo>
                    <a:pt x="828" y="391"/>
                  </a:lnTo>
                  <a:lnTo>
                    <a:pt x="836" y="397"/>
                  </a:lnTo>
                  <a:lnTo>
                    <a:pt x="844" y="403"/>
                  </a:lnTo>
                  <a:lnTo>
                    <a:pt x="853" y="410"/>
                  </a:lnTo>
                  <a:lnTo>
                    <a:pt x="860" y="417"/>
                  </a:lnTo>
                  <a:lnTo>
                    <a:pt x="868" y="425"/>
                  </a:lnTo>
                  <a:lnTo>
                    <a:pt x="874" y="433"/>
                  </a:lnTo>
                  <a:lnTo>
                    <a:pt x="880" y="441"/>
                  </a:lnTo>
                  <a:lnTo>
                    <a:pt x="887" y="451"/>
                  </a:lnTo>
                  <a:lnTo>
                    <a:pt x="892" y="459"/>
                  </a:lnTo>
                  <a:lnTo>
                    <a:pt x="897" y="469"/>
                  </a:lnTo>
                  <a:lnTo>
                    <a:pt x="901" y="479"/>
                  </a:lnTo>
                  <a:lnTo>
                    <a:pt x="906" y="489"/>
                  </a:lnTo>
                  <a:lnTo>
                    <a:pt x="909" y="500"/>
                  </a:lnTo>
                  <a:lnTo>
                    <a:pt x="912" y="511"/>
                  </a:lnTo>
                  <a:lnTo>
                    <a:pt x="914" y="521"/>
                  </a:lnTo>
                  <a:lnTo>
                    <a:pt x="916" y="533"/>
                  </a:lnTo>
                  <a:lnTo>
                    <a:pt x="919" y="557"/>
                  </a:lnTo>
                  <a:lnTo>
                    <a:pt x="920" y="583"/>
                  </a:lnTo>
                  <a:lnTo>
                    <a:pt x="919" y="604"/>
                  </a:lnTo>
                  <a:lnTo>
                    <a:pt x="918" y="626"/>
                  </a:lnTo>
                  <a:lnTo>
                    <a:pt x="915" y="647"/>
                  </a:lnTo>
                  <a:lnTo>
                    <a:pt x="912" y="668"/>
                  </a:lnTo>
                  <a:lnTo>
                    <a:pt x="907" y="688"/>
                  </a:lnTo>
                  <a:lnTo>
                    <a:pt x="900" y="708"/>
                  </a:lnTo>
                  <a:lnTo>
                    <a:pt x="894" y="728"/>
                  </a:lnTo>
                  <a:lnTo>
                    <a:pt x="886" y="748"/>
                  </a:lnTo>
                  <a:lnTo>
                    <a:pt x="876" y="766"/>
                  </a:lnTo>
                  <a:lnTo>
                    <a:pt x="867" y="785"/>
                  </a:lnTo>
                  <a:lnTo>
                    <a:pt x="855" y="803"/>
                  </a:lnTo>
                  <a:lnTo>
                    <a:pt x="842" y="820"/>
                  </a:lnTo>
                  <a:lnTo>
                    <a:pt x="815" y="855"/>
                  </a:lnTo>
                  <a:lnTo>
                    <a:pt x="782" y="887"/>
                  </a:lnTo>
                  <a:lnTo>
                    <a:pt x="747" y="917"/>
                  </a:lnTo>
                  <a:lnTo>
                    <a:pt x="710" y="942"/>
                  </a:lnTo>
                  <a:lnTo>
                    <a:pt x="674" y="964"/>
                  </a:lnTo>
                  <a:lnTo>
                    <a:pt x="636" y="982"/>
                  </a:lnTo>
                  <a:lnTo>
                    <a:pt x="597" y="995"/>
                  </a:lnTo>
                  <a:lnTo>
                    <a:pt x="558" y="1005"/>
                  </a:lnTo>
                  <a:lnTo>
                    <a:pt x="518" y="1011"/>
                  </a:lnTo>
                  <a:lnTo>
                    <a:pt x="477" y="1013"/>
                  </a:lnTo>
                  <a:lnTo>
                    <a:pt x="427" y="1011"/>
                  </a:lnTo>
                  <a:lnTo>
                    <a:pt x="405" y="1007"/>
                  </a:lnTo>
                  <a:lnTo>
                    <a:pt x="385" y="1004"/>
                  </a:lnTo>
                  <a:lnTo>
                    <a:pt x="366" y="998"/>
                  </a:lnTo>
                  <a:lnTo>
                    <a:pt x="349" y="990"/>
                  </a:lnTo>
                  <a:lnTo>
                    <a:pt x="333" y="983"/>
                  </a:lnTo>
                  <a:lnTo>
                    <a:pt x="320" y="974"/>
                  </a:lnTo>
                  <a:lnTo>
                    <a:pt x="307" y="963"/>
                  </a:lnTo>
                  <a:lnTo>
                    <a:pt x="296" y="951"/>
                  </a:lnTo>
                  <a:lnTo>
                    <a:pt x="287" y="938"/>
                  </a:lnTo>
                  <a:lnTo>
                    <a:pt x="279" y="923"/>
                  </a:lnTo>
                  <a:lnTo>
                    <a:pt x="274" y="908"/>
                  </a:lnTo>
                  <a:lnTo>
                    <a:pt x="270" y="891"/>
                  </a:lnTo>
                  <a:lnTo>
                    <a:pt x="268" y="873"/>
                  </a:lnTo>
                  <a:lnTo>
                    <a:pt x="267" y="854"/>
                  </a:lnTo>
                  <a:lnTo>
                    <a:pt x="268" y="842"/>
                  </a:lnTo>
                  <a:lnTo>
                    <a:pt x="269" y="826"/>
                  </a:lnTo>
                  <a:lnTo>
                    <a:pt x="276" y="782"/>
                  </a:lnTo>
                  <a:lnTo>
                    <a:pt x="288" y="719"/>
                  </a:lnTo>
                  <a:lnTo>
                    <a:pt x="305" y="641"/>
                  </a:lnTo>
                  <a:lnTo>
                    <a:pt x="408" y="193"/>
                  </a:lnTo>
                  <a:lnTo>
                    <a:pt x="405" y="195"/>
                  </a:lnTo>
                  <a:lnTo>
                    <a:pt x="402" y="196"/>
                  </a:lnTo>
                  <a:lnTo>
                    <a:pt x="399" y="199"/>
                  </a:lnTo>
                  <a:lnTo>
                    <a:pt x="395" y="200"/>
                  </a:lnTo>
                  <a:lnTo>
                    <a:pt x="385" y="202"/>
                  </a:lnTo>
                  <a:lnTo>
                    <a:pt x="376" y="205"/>
                  </a:lnTo>
                  <a:lnTo>
                    <a:pt x="364" y="207"/>
                  </a:lnTo>
                  <a:lnTo>
                    <a:pt x="351" y="208"/>
                  </a:lnTo>
                  <a:lnTo>
                    <a:pt x="337" y="210"/>
                  </a:lnTo>
                  <a:lnTo>
                    <a:pt x="322" y="210"/>
                  </a:lnTo>
                  <a:lnTo>
                    <a:pt x="298" y="210"/>
                  </a:lnTo>
                  <a:lnTo>
                    <a:pt x="274" y="208"/>
                  </a:lnTo>
                  <a:lnTo>
                    <a:pt x="224" y="204"/>
                  </a:lnTo>
                  <a:lnTo>
                    <a:pt x="169" y="198"/>
                  </a:lnTo>
                  <a:lnTo>
                    <a:pt x="150" y="195"/>
                  </a:lnTo>
                  <a:lnTo>
                    <a:pt x="137" y="195"/>
                  </a:lnTo>
                  <a:lnTo>
                    <a:pt x="133" y="195"/>
                  </a:lnTo>
                  <a:lnTo>
                    <a:pt x="128" y="195"/>
                  </a:lnTo>
                  <a:lnTo>
                    <a:pt x="124" y="196"/>
                  </a:lnTo>
                  <a:lnTo>
                    <a:pt x="120" y="198"/>
                  </a:lnTo>
                  <a:lnTo>
                    <a:pt x="117" y="199"/>
                  </a:lnTo>
                  <a:lnTo>
                    <a:pt x="114" y="200"/>
                  </a:lnTo>
                  <a:lnTo>
                    <a:pt x="111" y="201"/>
                  </a:lnTo>
                  <a:lnTo>
                    <a:pt x="108" y="204"/>
                  </a:lnTo>
                  <a:lnTo>
                    <a:pt x="106" y="205"/>
                  </a:lnTo>
                  <a:lnTo>
                    <a:pt x="104" y="207"/>
                  </a:lnTo>
                  <a:lnTo>
                    <a:pt x="103" y="210"/>
                  </a:lnTo>
                  <a:lnTo>
                    <a:pt x="101" y="213"/>
                  </a:lnTo>
                  <a:lnTo>
                    <a:pt x="100" y="216"/>
                  </a:lnTo>
                  <a:lnTo>
                    <a:pt x="100" y="219"/>
                  </a:lnTo>
                  <a:lnTo>
                    <a:pt x="99" y="223"/>
                  </a:lnTo>
                  <a:lnTo>
                    <a:pt x="99" y="226"/>
                  </a:lnTo>
                  <a:lnTo>
                    <a:pt x="99" y="229"/>
                  </a:lnTo>
                  <a:lnTo>
                    <a:pt x="99" y="231"/>
                  </a:lnTo>
                  <a:lnTo>
                    <a:pt x="100" y="232"/>
                  </a:lnTo>
                  <a:lnTo>
                    <a:pt x="100" y="235"/>
                  </a:lnTo>
                  <a:lnTo>
                    <a:pt x="100" y="236"/>
                  </a:lnTo>
                  <a:lnTo>
                    <a:pt x="101" y="237"/>
                  </a:lnTo>
                  <a:lnTo>
                    <a:pt x="102" y="238"/>
                  </a:lnTo>
                  <a:lnTo>
                    <a:pt x="103" y="240"/>
                  </a:lnTo>
                  <a:lnTo>
                    <a:pt x="104" y="241"/>
                  </a:lnTo>
                  <a:lnTo>
                    <a:pt x="105" y="242"/>
                  </a:lnTo>
                  <a:lnTo>
                    <a:pt x="106" y="243"/>
                  </a:lnTo>
                  <a:lnTo>
                    <a:pt x="108" y="243"/>
                  </a:lnTo>
                  <a:lnTo>
                    <a:pt x="109" y="244"/>
                  </a:lnTo>
                  <a:lnTo>
                    <a:pt x="112" y="244"/>
                  </a:lnTo>
                  <a:lnTo>
                    <a:pt x="114" y="246"/>
                  </a:lnTo>
                  <a:lnTo>
                    <a:pt x="116" y="246"/>
                  </a:lnTo>
                  <a:lnTo>
                    <a:pt x="123" y="247"/>
                  </a:lnTo>
                  <a:lnTo>
                    <a:pt x="130" y="248"/>
                  </a:lnTo>
                  <a:lnTo>
                    <a:pt x="136" y="250"/>
                  </a:lnTo>
                  <a:lnTo>
                    <a:pt x="142" y="253"/>
                  </a:lnTo>
                  <a:lnTo>
                    <a:pt x="147" y="256"/>
                  </a:lnTo>
                  <a:lnTo>
                    <a:pt x="153" y="259"/>
                  </a:lnTo>
                  <a:lnTo>
                    <a:pt x="157" y="262"/>
                  </a:lnTo>
                  <a:lnTo>
                    <a:pt x="161" y="266"/>
                  </a:lnTo>
                  <a:lnTo>
                    <a:pt x="164" y="271"/>
                  </a:lnTo>
                  <a:lnTo>
                    <a:pt x="168" y="276"/>
                  </a:lnTo>
                  <a:lnTo>
                    <a:pt x="170" y="280"/>
                  </a:lnTo>
                  <a:lnTo>
                    <a:pt x="172" y="286"/>
                  </a:lnTo>
                  <a:lnTo>
                    <a:pt x="174" y="291"/>
                  </a:lnTo>
                  <a:lnTo>
                    <a:pt x="175" y="298"/>
                  </a:lnTo>
                  <a:lnTo>
                    <a:pt x="176" y="304"/>
                  </a:lnTo>
                  <a:lnTo>
                    <a:pt x="176" y="312"/>
                  </a:lnTo>
                  <a:lnTo>
                    <a:pt x="176" y="319"/>
                  </a:lnTo>
                  <a:lnTo>
                    <a:pt x="175" y="322"/>
                  </a:lnTo>
                  <a:lnTo>
                    <a:pt x="175" y="325"/>
                  </a:lnTo>
                  <a:lnTo>
                    <a:pt x="174" y="328"/>
                  </a:lnTo>
                  <a:lnTo>
                    <a:pt x="173" y="332"/>
                  </a:lnTo>
                  <a:lnTo>
                    <a:pt x="173" y="334"/>
                  </a:lnTo>
                  <a:lnTo>
                    <a:pt x="172" y="338"/>
                  </a:lnTo>
                  <a:lnTo>
                    <a:pt x="170" y="341"/>
                  </a:lnTo>
                  <a:lnTo>
                    <a:pt x="169" y="344"/>
                  </a:lnTo>
                  <a:lnTo>
                    <a:pt x="165" y="350"/>
                  </a:lnTo>
                  <a:lnTo>
                    <a:pt x="161" y="355"/>
                  </a:lnTo>
                  <a:lnTo>
                    <a:pt x="157" y="361"/>
                  </a:lnTo>
                  <a:lnTo>
                    <a:pt x="152" y="365"/>
                  </a:lnTo>
                  <a:lnTo>
                    <a:pt x="146" y="370"/>
                  </a:lnTo>
                  <a:lnTo>
                    <a:pt x="141" y="374"/>
                  </a:lnTo>
                  <a:lnTo>
                    <a:pt x="136" y="377"/>
                  </a:lnTo>
                  <a:lnTo>
                    <a:pt x="130" y="379"/>
                  </a:lnTo>
                  <a:lnTo>
                    <a:pt x="126" y="380"/>
                  </a:lnTo>
                  <a:lnTo>
                    <a:pt x="124" y="381"/>
                  </a:lnTo>
                  <a:lnTo>
                    <a:pt x="118" y="382"/>
                  </a:lnTo>
                  <a:lnTo>
                    <a:pt x="112" y="382"/>
                  </a:lnTo>
                  <a:lnTo>
                    <a:pt x="106" y="382"/>
                  </a:lnTo>
                  <a:lnTo>
                    <a:pt x="101" y="381"/>
                  </a:lnTo>
                  <a:lnTo>
                    <a:pt x="96" y="381"/>
                  </a:lnTo>
                  <a:lnTo>
                    <a:pt x="90" y="380"/>
                  </a:lnTo>
                  <a:lnTo>
                    <a:pt x="85" y="377"/>
                  </a:lnTo>
                  <a:lnTo>
                    <a:pt x="81" y="376"/>
                  </a:lnTo>
                  <a:lnTo>
                    <a:pt x="76" y="374"/>
                  </a:lnTo>
                  <a:lnTo>
                    <a:pt x="70" y="370"/>
                  </a:lnTo>
                  <a:lnTo>
                    <a:pt x="66" y="368"/>
                  </a:lnTo>
                  <a:lnTo>
                    <a:pt x="61" y="364"/>
                  </a:lnTo>
                  <a:lnTo>
                    <a:pt x="57" y="361"/>
                  </a:lnTo>
                  <a:lnTo>
                    <a:pt x="51" y="356"/>
                  </a:lnTo>
                  <a:lnTo>
                    <a:pt x="43" y="347"/>
                  </a:lnTo>
                  <a:lnTo>
                    <a:pt x="35" y="337"/>
                  </a:lnTo>
                  <a:lnTo>
                    <a:pt x="26" y="325"/>
                  </a:lnTo>
                  <a:lnTo>
                    <a:pt x="20" y="313"/>
                  </a:lnTo>
                  <a:lnTo>
                    <a:pt x="13" y="300"/>
                  </a:lnTo>
                  <a:lnTo>
                    <a:pt x="8" y="286"/>
                  </a:lnTo>
                  <a:lnTo>
                    <a:pt x="5" y="272"/>
                  </a:lnTo>
                  <a:lnTo>
                    <a:pt x="2" y="258"/>
                  </a:lnTo>
                  <a:lnTo>
                    <a:pt x="1" y="242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1" y="204"/>
                  </a:lnTo>
                  <a:lnTo>
                    <a:pt x="2" y="193"/>
                  </a:lnTo>
                  <a:lnTo>
                    <a:pt x="4" y="182"/>
                  </a:lnTo>
                  <a:lnTo>
                    <a:pt x="6" y="172"/>
                  </a:lnTo>
                  <a:lnTo>
                    <a:pt x="8" y="163"/>
                  </a:lnTo>
                  <a:lnTo>
                    <a:pt x="12" y="153"/>
                  </a:lnTo>
                  <a:lnTo>
                    <a:pt x="15" y="144"/>
                  </a:lnTo>
                  <a:lnTo>
                    <a:pt x="20" y="135"/>
                  </a:lnTo>
                  <a:lnTo>
                    <a:pt x="25" y="127"/>
                  </a:lnTo>
                  <a:lnTo>
                    <a:pt x="30" y="118"/>
                  </a:lnTo>
                  <a:lnTo>
                    <a:pt x="36" y="110"/>
                  </a:lnTo>
                  <a:lnTo>
                    <a:pt x="42" y="102"/>
                  </a:lnTo>
                  <a:lnTo>
                    <a:pt x="49" y="94"/>
                  </a:lnTo>
                  <a:lnTo>
                    <a:pt x="57" y="87"/>
                  </a:lnTo>
                  <a:lnTo>
                    <a:pt x="64" y="80"/>
                  </a:lnTo>
                  <a:lnTo>
                    <a:pt x="80" y="67"/>
                  </a:lnTo>
                  <a:lnTo>
                    <a:pt x="97" y="56"/>
                  </a:lnTo>
                  <a:lnTo>
                    <a:pt x="114" y="46"/>
                  </a:lnTo>
                  <a:lnTo>
                    <a:pt x="132" y="38"/>
                  </a:lnTo>
                  <a:lnTo>
                    <a:pt x="150" y="32"/>
                  </a:lnTo>
                  <a:lnTo>
                    <a:pt x="168" y="27"/>
                  </a:lnTo>
                  <a:lnTo>
                    <a:pt x="187" y="25"/>
                  </a:lnTo>
                  <a:lnTo>
                    <a:pt x="206" y="24"/>
                  </a:lnTo>
                  <a:lnTo>
                    <a:pt x="221" y="24"/>
                  </a:lnTo>
                  <a:lnTo>
                    <a:pt x="239" y="25"/>
                  </a:lnTo>
                  <a:lnTo>
                    <a:pt x="284" y="30"/>
                  </a:lnTo>
                  <a:lnTo>
                    <a:pt x="338" y="38"/>
                  </a:lnTo>
                  <a:lnTo>
                    <a:pt x="402" y="50"/>
                  </a:lnTo>
                  <a:lnTo>
                    <a:pt x="420" y="54"/>
                  </a:lnTo>
                  <a:lnTo>
                    <a:pt x="435" y="56"/>
                  </a:lnTo>
                  <a:lnTo>
                    <a:pt x="447" y="57"/>
                  </a:lnTo>
                  <a:lnTo>
                    <a:pt x="453" y="57"/>
                  </a:lnTo>
                  <a:lnTo>
                    <a:pt x="457" y="57"/>
                  </a:lnTo>
                  <a:lnTo>
                    <a:pt x="462" y="57"/>
                  </a:lnTo>
                  <a:lnTo>
                    <a:pt x="469" y="56"/>
                  </a:lnTo>
                  <a:lnTo>
                    <a:pt x="475" y="55"/>
                  </a:lnTo>
                  <a:lnTo>
                    <a:pt x="480" y="54"/>
                  </a:lnTo>
                  <a:lnTo>
                    <a:pt x="486" y="51"/>
                  </a:lnTo>
                  <a:lnTo>
                    <a:pt x="493" y="49"/>
                  </a:lnTo>
                  <a:lnTo>
                    <a:pt x="505" y="43"/>
                  </a:lnTo>
                  <a:lnTo>
                    <a:pt x="518" y="34"/>
                  </a:lnTo>
                  <a:lnTo>
                    <a:pt x="531" y="25"/>
                  </a:lnTo>
                  <a:lnTo>
                    <a:pt x="545" y="13"/>
                  </a:lnTo>
                  <a:close/>
                  <a:moveTo>
                    <a:pt x="456" y="824"/>
                  </a:moveTo>
                  <a:lnTo>
                    <a:pt x="456" y="832"/>
                  </a:lnTo>
                  <a:lnTo>
                    <a:pt x="457" y="840"/>
                  </a:lnTo>
                  <a:lnTo>
                    <a:pt x="459" y="848"/>
                  </a:lnTo>
                  <a:lnTo>
                    <a:pt x="461" y="855"/>
                  </a:lnTo>
                  <a:lnTo>
                    <a:pt x="464" y="861"/>
                  </a:lnTo>
                  <a:lnTo>
                    <a:pt x="469" y="867"/>
                  </a:lnTo>
                  <a:lnTo>
                    <a:pt x="473" y="872"/>
                  </a:lnTo>
                  <a:lnTo>
                    <a:pt x="478" y="876"/>
                  </a:lnTo>
                  <a:lnTo>
                    <a:pt x="484" y="881"/>
                  </a:lnTo>
                  <a:lnTo>
                    <a:pt x="491" y="885"/>
                  </a:lnTo>
                  <a:lnTo>
                    <a:pt x="498" y="887"/>
                  </a:lnTo>
                  <a:lnTo>
                    <a:pt x="505" y="890"/>
                  </a:lnTo>
                  <a:lnTo>
                    <a:pt x="514" y="892"/>
                  </a:lnTo>
                  <a:lnTo>
                    <a:pt x="523" y="893"/>
                  </a:lnTo>
                  <a:lnTo>
                    <a:pt x="534" y="894"/>
                  </a:lnTo>
                  <a:lnTo>
                    <a:pt x="545" y="894"/>
                  </a:lnTo>
                  <a:lnTo>
                    <a:pt x="566" y="893"/>
                  </a:lnTo>
                  <a:lnTo>
                    <a:pt x="585" y="891"/>
                  </a:lnTo>
                  <a:lnTo>
                    <a:pt x="604" y="886"/>
                  </a:lnTo>
                  <a:lnTo>
                    <a:pt x="623" y="879"/>
                  </a:lnTo>
                  <a:lnTo>
                    <a:pt x="640" y="870"/>
                  </a:lnTo>
                  <a:lnTo>
                    <a:pt x="656" y="861"/>
                  </a:lnTo>
                  <a:lnTo>
                    <a:pt x="672" y="849"/>
                  </a:lnTo>
                  <a:lnTo>
                    <a:pt x="688" y="834"/>
                  </a:lnTo>
                  <a:lnTo>
                    <a:pt x="696" y="826"/>
                  </a:lnTo>
                  <a:lnTo>
                    <a:pt x="702" y="818"/>
                  </a:lnTo>
                  <a:lnTo>
                    <a:pt x="708" y="809"/>
                  </a:lnTo>
                  <a:lnTo>
                    <a:pt x="715" y="800"/>
                  </a:lnTo>
                  <a:lnTo>
                    <a:pt x="720" y="790"/>
                  </a:lnTo>
                  <a:lnTo>
                    <a:pt x="725" y="779"/>
                  </a:lnTo>
                  <a:lnTo>
                    <a:pt x="729" y="768"/>
                  </a:lnTo>
                  <a:lnTo>
                    <a:pt x="734" y="756"/>
                  </a:lnTo>
                  <a:lnTo>
                    <a:pt x="737" y="744"/>
                  </a:lnTo>
                  <a:lnTo>
                    <a:pt x="740" y="732"/>
                  </a:lnTo>
                  <a:lnTo>
                    <a:pt x="744" y="706"/>
                  </a:lnTo>
                  <a:lnTo>
                    <a:pt x="747" y="677"/>
                  </a:lnTo>
                  <a:lnTo>
                    <a:pt x="748" y="646"/>
                  </a:lnTo>
                  <a:lnTo>
                    <a:pt x="748" y="628"/>
                  </a:lnTo>
                  <a:lnTo>
                    <a:pt x="746" y="613"/>
                  </a:lnTo>
                  <a:lnTo>
                    <a:pt x="744" y="597"/>
                  </a:lnTo>
                  <a:lnTo>
                    <a:pt x="740" y="583"/>
                  </a:lnTo>
                  <a:lnTo>
                    <a:pt x="736" y="569"/>
                  </a:lnTo>
                  <a:lnTo>
                    <a:pt x="730" y="557"/>
                  </a:lnTo>
                  <a:lnTo>
                    <a:pt x="724" y="547"/>
                  </a:lnTo>
                  <a:lnTo>
                    <a:pt x="717" y="537"/>
                  </a:lnTo>
                  <a:lnTo>
                    <a:pt x="708" y="529"/>
                  </a:lnTo>
                  <a:lnTo>
                    <a:pt x="699" y="521"/>
                  </a:lnTo>
                  <a:lnTo>
                    <a:pt x="688" y="515"/>
                  </a:lnTo>
                  <a:lnTo>
                    <a:pt x="677" y="511"/>
                  </a:lnTo>
                  <a:lnTo>
                    <a:pt x="664" y="506"/>
                  </a:lnTo>
                  <a:lnTo>
                    <a:pt x="650" y="503"/>
                  </a:lnTo>
                  <a:lnTo>
                    <a:pt x="636" y="501"/>
                  </a:lnTo>
                  <a:lnTo>
                    <a:pt x="621" y="501"/>
                  </a:lnTo>
                  <a:lnTo>
                    <a:pt x="609" y="501"/>
                  </a:lnTo>
                  <a:lnTo>
                    <a:pt x="596" y="503"/>
                  </a:lnTo>
                  <a:lnTo>
                    <a:pt x="584" y="505"/>
                  </a:lnTo>
                  <a:lnTo>
                    <a:pt x="570" y="508"/>
                  </a:lnTo>
                  <a:lnTo>
                    <a:pt x="556" y="512"/>
                  </a:lnTo>
                  <a:lnTo>
                    <a:pt x="542" y="518"/>
                  </a:lnTo>
                  <a:lnTo>
                    <a:pt x="529" y="523"/>
                  </a:lnTo>
                  <a:lnTo>
                    <a:pt x="514" y="530"/>
                  </a:lnTo>
                  <a:lnTo>
                    <a:pt x="471" y="734"/>
                  </a:lnTo>
                  <a:lnTo>
                    <a:pt x="459" y="792"/>
                  </a:lnTo>
                  <a:lnTo>
                    <a:pt x="457" y="812"/>
                  </a:lnTo>
                  <a:lnTo>
                    <a:pt x="456" y="81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8440" y="1413000"/>
              <a:ext cx="228600" cy="353880"/>
            </a:xfrm>
            <a:custGeom>
              <a:avLst/>
              <a:gdLst/>
              <a:ahLst/>
              <a:rect l="l" t="t" r="r" b="b"/>
              <a:pathLst>
                <a:path w="636" h="984">
                  <a:moveTo>
                    <a:pt x="532" y="638"/>
                  </a:moveTo>
                  <a:lnTo>
                    <a:pt x="579" y="712"/>
                  </a:lnTo>
                  <a:lnTo>
                    <a:pt x="519" y="776"/>
                  </a:lnTo>
                  <a:lnTo>
                    <a:pt x="461" y="831"/>
                  </a:lnTo>
                  <a:lnTo>
                    <a:pt x="405" y="878"/>
                  </a:lnTo>
                  <a:lnTo>
                    <a:pt x="351" y="916"/>
                  </a:lnTo>
                  <a:lnTo>
                    <a:pt x="300" y="945"/>
                  </a:lnTo>
                  <a:lnTo>
                    <a:pt x="275" y="957"/>
                  </a:lnTo>
                  <a:lnTo>
                    <a:pt x="251" y="966"/>
                  </a:lnTo>
                  <a:lnTo>
                    <a:pt x="227" y="974"/>
                  </a:lnTo>
                  <a:lnTo>
                    <a:pt x="203" y="978"/>
                  </a:lnTo>
                  <a:lnTo>
                    <a:pt x="181" y="982"/>
                  </a:lnTo>
                  <a:lnTo>
                    <a:pt x="159" y="983"/>
                  </a:lnTo>
                  <a:lnTo>
                    <a:pt x="140" y="982"/>
                  </a:lnTo>
                  <a:lnTo>
                    <a:pt x="122" y="980"/>
                  </a:lnTo>
                  <a:lnTo>
                    <a:pt x="114" y="977"/>
                  </a:lnTo>
                  <a:lnTo>
                    <a:pt x="106" y="975"/>
                  </a:lnTo>
                  <a:lnTo>
                    <a:pt x="98" y="972"/>
                  </a:lnTo>
                  <a:lnTo>
                    <a:pt x="90" y="969"/>
                  </a:lnTo>
                  <a:lnTo>
                    <a:pt x="83" y="965"/>
                  </a:lnTo>
                  <a:lnTo>
                    <a:pt x="77" y="960"/>
                  </a:lnTo>
                  <a:lnTo>
                    <a:pt x="69" y="956"/>
                  </a:lnTo>
                  <a:lnTo>
                    <a:pt x="63" y="951"/>
                  </a:lnTo>
                  <a:lnTo>
                    <a:pt x="57" y="945"/>
                  </a:lnTo>
                  <a:lnTo>
                    <a:pt x="51" y="939"/>
                  </a:lnTo>
                  <a:lnTo>
                    <a:pt x="46" y="932"/>
                  </a:lnTo>
                  <a:lnTo>
                    <a:pt x="41" y="924"/>
                  </a:lnTo>
                  <a:lnTo>
                    <a:pt x="36" y="917"/>
                  </a:lnTo>
                  <a:lnTo>
                    <a:pt x="31" y="909"/>
                  </a:lnTo>
                  <a:lnTo>
                    <a:pt x="27" y="900"/>
                  </a:lnTo>
                  <a:lnTo>
                    <a:pt x="23" y="891"/>
                  </a:lnTo>
                  <a:lnTo>
                    <a:pt x="16" y="870"/>
                  </a:lnTo>
                  <a:lnTo>
                    <a:pt x="10" y="849"/>
                  </a:lnTo>
                  <a:lnTo>
                    <a:pt x="5" y="825"/>
                  </a:lnTo>
                  <a:lnTo>
                    <a:pt x="2" y="800"/>
                  </a:lnTo>
                  <a:lnTo>
                    <a:pt x="1" y="772"/>
                  </a:lnTo>
                  <a:lnTo>
                    <a:pt x="0" y="742"/>
                  </a:lnTo>
                  <a:lnTo>
                    <a:pt x="2" y="683"/>
                  </a:lnTo>
                  <a:lnTo>
                    <a:pt x="8" y="623"/>
                  </a:lnTo>
                  <a:lnTo>
                    <a:pt x="18" y="565"/>
                  </a:lnTo>
                  <a:lnTo>
                    <a:pt x="31" y="506"/>
                  </a:lnTo>
                  <a:lnTo>
                    <a:pt x="49" y="447"/>
                  </a:lnTo>
                  <a:lnTo>
                    <a:pt x="71" y="388"/>
                  </a:lnTo>
                  <a:lnTo>
                    <a:pt x="97" y="329"/>
                  </a:lnTo>
                  <a:lnTo>
                    <a:pt x="126" y="271"/>
                  </a:lnTo>
                  <a:lnTo>
                    <a:pt x="163" y="207"/>
                  </a:lnTo>
                  <a:lnTo>
                    <a:pt x="202" y="152"/>
                  </a:lnTo>
                  <a:lnTo>
                    <a:pt x="222" y="128"/>
                  </a:lnTo>
                  <a:lnTo>
                    <a:pt x="244" y="105"/>
                  </a:lnTo>
                  <a:lnTo>
                    <a:pt x="265" y="85"/>
                  </a:lnTo>
                  <a:lnTo>
                    <a:pt x="286" y="67"/>
                  </a:lnTo>
                  <a:lnTo>
                    <a:pt x="308" y="51"/>
                  </a:lnTo>
                  <a:lnTo>
                    <a:pt x="331" y="38"/>
                  </a:lnTo>
                  <a:lnTo>
                    <a:pt x="353" y="26"/>
                  </a:lnTo>
                  <a:lnTo>
                    <a:pt x="378" y="16"/>
                  </a:lnTo>
                  <a:lnTo>
                    <a:pt x="401" y="9"/>
                  </a:lnTo>
                  <a:lnTo>
                    <a:pt x="425" y="4"/>
                  </a:lnTo>
                  <a:lnTo>
                    <a:pt x="451" y="1"/>
                  </a:lnTo>
                  <a:lnTo>
                    <a:pt x="476" y="0"/>
                  </a:lnTo>
                  <a:lnTo>
                    <a:pt x="494" y="1"/>
                  </a:lnTo>
                  <a:lnTo>
                    <a:pt x="512" y="2"/>
                  </a:lnTo>
                  <a:lnTo>
                    <a:pt x="528" y="6"/>
                  </a:lnTo>
                  <a:lnTo>
                    <a:pt x="543" y="10"/>
                  </a:lnTo>
                  <a:lnTo>
                    <a:pt x="551" y="14"/>
                  </a:lnTo>
                  <a:lnTo>
                    <a:pt x="557" y="16"/>
                  </a:lnTo>
                  <a:lnTo>
                    <a:pt x="564" y="20"/>
                  </a:lnTo>
                  <a:lnTo>
                    <a:pt x="570" y="25"/>
                  </a:lnTo>
                  <a:lnTo>
                    <a:pt x="576" y="28"/>
                  </a:lnTo>
                  <a:lnTo>
                    <a:pt x="583" y="33"/>
                  </a:lnTo>
                  <a:lnTo>
                    <a:pt x="588" y="38"/>
                  </a:lnTo>
                  <a:lnTo>
                    <a:pt x="593" y="44"/>
                  </a:lnTo>
                  <a:lnTo>
                    <a:pt x="598" y="50"/>
                  </a:lnTo>
                  <a:lnTo>
                    <a:pt x="603" y="56"/>
                  </a:lnTo>
                  <a:lnTo>
                    <a:pt x="608" y="62"/>
                  </a:lnTo>
                  <a:lnTo>
                    <a:pt x="612" y="68"/>
                  </a:lnTo>
                  <a:lnTo>
                    <a:pt x="615" y="75"/>
                  </a:lnTo>
                  <a:lnTo>
                    <a:pt x="620" y="82"/>
                  </a:lnTo>
                  <a:lnTo>
                    <a:pt x="622" y="90"/>
                  </a:lnTo>
                  <a:lnTo>
                    <a:pt x="625" y="97"/>
                  </a:lnTo>
                  <a:lnTo>
                    <a:pt x="627" y="105"/>
                  </a:lnTo>
                  <a:lnTo>
                    <a:pt x="629" y="112"/>
                  </a:lnTo>
                  <a:lnTo>
                    <a:pt x="633" y="129"/>
                  </a:lnTo>
                  <a:lnTo>
                    <a:pt x="634" y="147"/>
                  </a:lnTo>
                  <a:lnTo>
                    <a:pt x="635" y="165"/>
                  </a:lnTo>
                  <a:lnTo>
                    <a:pt x="634" y="184"/>
                  </a:lnTo>
                  <a:lnTo>
                    <a:pt x="632" y="204"/>
                  </a:lnTo>
                  <a:lnTo>
                    <a:pt x="629" y="223"/>
                  </a:lnTo>
                  <a:lnTo>
                    <a:pt x="624" y="242"/>
                  </a:lnTo>
                  <a:lnTo>
                    <a:pt x="617" y="260"/>
                  </a:lnTo>
                  <a:lnTo>
                    <a:pt x="609" y="279"/>
                  </a:lnTo>
                  <a:lnTo>
                    <a:pt x="599" y="297"/>
                  </a:lnTo>
                  <a:lnTo>
                    <a:pt x="589" y="315"/>
                  </a:lnTo>
                  <a:lnTo>
                    <a:pt x="576" y="333"/>
                  </a:lnTo>
                  <a:lnTo>
                    <a:pt x="562" y="351"/>
                  </a:lnTo>
                  <a:lnTo>
                    <a:pt x="547" y="369"/>
                  </a:lnTo>
                  <a:lnTo>
                    <a:pt x="529" y="387"/>
                  </a:lnTo>
                  <a:lnTo>
                    <a:pt x="509" y="405"/>
                  </a:lnTo>
                  <a:lnTo>
                    <a:pt x="488" y="423"/>
                  </a:lnTo>
                  <a:lnTo>
                    <a:pt x="464" y="440"/>
                  </a:lnTo>
                  <a:lnTo>
                    <a:pt x="439" y="458"/>
                  </a:lnTo>
                  <a:lnTo>
                    <a:pt x="399" y="482"/>
                  </a:lnTo>
                  <a:lnTo>
                    <a:pt x="345" y="513"/>
                  </a:lnTo>
                  <a:lnTo>
                    <a:pt x="200" y="589"/>
                  </a:lnTo>
                  <a:lnTo>
                    <a:pt x="197" y="611"/>
                  </a:lnTo>
                  <a:lnTo>
                    <a:pt x="196" y="635"/>
                  </a:lnTo>
                  <a:lnTo>
                    <a:pt x="194" y="659"/>
                  </a:lnTo>
                  <a:lnTo>
                    <a:pt x="194" y="684"/>
                  </a:lnTo>
                  <a:lnTo>
                    <a:pt x="194" y="701"/>
                  </a:lnTo>
                  <a:lnTo>
                    <a:pt x="195" y="717"/>
                  </a:lnTo>
                  <a:lnTo>
                    <a:pt x="196" y="730"/>
                  </a:lnTo>
                  <a:lnTo>
                    <a:pt x="198" y="743"/>
                  </a:lnTo>
                  <a:lnTo>
                    <a:pt x="200" y="754"/>
                  </a:lnTo>
                  <a:lnTo>
                    <a:pt x="202" y="764"/>
                  </a:lnTo>
                  <a:lnTo>
                    <a:pt x="205" y="767"/>
                  </a:lnTo>
                  <a:lnTo>
                    <a:pt x="206" y="772"/>
                  </a:lnTo>
                  <a:lnTo>
                    <a:pt x="208" y="774"/>
                  </a:lnTo>
                  <a:lnTo>
                    <a:pt x="210" y="778"/>
                  </a:lnTo>
                  <a:lnTo>
                    <a:pt x="212" y="780"/>
                  </a:lnTo>
                  <a:lnTo>
                    <a:pt x="214" y="784"/>
                  </a:lnTo>
                  <a:lnTo>
                    <a:pt x="217" y="786"/>
                  </a:lnTo>
                  <a:lnTo>
                    <a:pt x="219" y="788"/>
                  </a:lnTo>
                  <a:lnTo>
                    <a:pt x="221" y="790"/>
                  </a:lnTo>
                  <a:lnTo>
                    <a:pt x="225" y="792"/>
                  </a:lnTo>
                  <a:lnTo>
                    <a:pt x="228" y="794"/>
                  </a:lnTo>
                  <a:lnTo>
                    <a:pt x="231" y="795"/>
                  </a:lnTo>
                  <a:lnTo>
                    <a:pt x="233" y="796"/>
                  </a:lnTo>
                  <a:lnTo>
                    <a:pt x="236" y="797"/>
                  </a:lnTo>
                  <a:lnTo>
                    <a:pt x="239" y="798"/>
                  </a:lnTo>
                  <a:lnTo>
                    <a:pt x="244" y="800"/>
                  </a:lnTo>
                  <a:lnTo>
                    <a:pt x="250" y="801"/>
                  </a:lnTo>
                  <a:lnTo>
                    <a:pt x="257" y="801"/>
                  </a:lnTo>
                  <a:lnTo>
                    <a:pt x="266" y="801"/>
                  </a:lnTo>
                  <a:lnTo>
                    <a:pt x="275" y="800"/>
                  </a:lnTo>
                  <a:lnTo>
                    <a:pt x="285" y="797"/>
                  </a:lnTo>
                  <a:lnTo>
                    <a:pt x="294" y="795"/>
                  </a:lnTo>
                  <a:lnTo>
                    <a:pt x="304" y="792"/>
                  </a:lnTo>
                  <a:lnTo>
                    <a:pt x="314" y="788"/>
                  </a:lnTo>
                  <a:lnTo>
                    <a:pt x="324" y="784"/>
                  </a:lnTo>
                  <a:lnTo>
                    <a:pt x="334" y="778"/>
                  </a:lnTo>
                  <a:lnTo>
                    <a:pt x="350" y="768"/>
                  </a:lnTo>
                  <a:lnTo>
                    <a:pt x="369" y="758"/>
                  </a:lnTo>
                  <a:lnTo>
                    <a:pt x="414" y="726"/>
                  </a:lnTo>
                  <a:lnTo>
                    <a:pt x="467" y="687"/>
                  </a:lnTo>
                  <a:close/>
                  <a:moveTo>
                    <a:pt x="214" y="481"/>
                  </a:moveTo>
                  <a:lnTo>
                    <a:pt x="272" y="445"/>
                  </a:lnTo>
                  <a:lnTo>
                    <a:pt x="297" y="427"/>
                  </a:lnTo>
                  <a:lnTo>
                    <a:pt x="323" y="407"/>
                  </a:lnTo>
                  <a:lnTo>
                    <a:pt x="345" y="389"/>
                  </a:lnTo>
                  <a:lnTo>
                    <a:pt x="367" y="371"/>
                  </a:lnTo>
                  <a:lnTo>
                    <a:pt x="386" y="352"/>
                  </a:lnTo>
                  <a:lnTo>
                    <a:pt x="404" y="334"/>
                  </a:lnTo>
                  <a:lnTo>
                    <a:pt x="417" y="317"/>
                  </a:lnTo>
                  <a:lnTo>
                    <a:pt x="427" y="301"/>
                  </a:lnTo>
                  <a:lnTo>
                    <a:pt x="436" y="285"/>
                  </a:lnTo>
                  <a:lnTo>
                    <a:pt x="443" y="270"/>
                  </a:lnTo>
                  <a:lnTo>
                    <a:pt x="450" y="254"/>
                  </a:lnTo>
                  <a:lnTo>
                    <a:pt x="452" y="247"/>
                  </a:lnTo>
                  <a:lnTo>
                    <a:pt x="454" y="240"/>
                  </a:lnTo>
                  <a:lnTo>
                    <a:pt x="455" y="232"/>
                  </a:lnTo>
                  <a:lnTo>
                    <a:pt x="456" y="225"/>
                  </a:lnTo>
                  <a:lnTo>
                    <a:pt x="457" y="219"/>
                  </a:lnTo>
                  <a:lnTo>
                    <a:pt x="457" y="212"/>
                  </a:lnTo>
                  <a:lnTo>
                    <a:pt x="457" y="204"/>
                  </a:lnTo>
                  <a:lnTo>
                    <a:pt x="456" y="195"/>
                  </a:lnTo>
                  <a:lnTo>
                    <a:pt x="455" y="187"/>
                  </a:lnTo>
                  <a:lnTo>
                    <a:pt x="453" y="180"/>
                  </a:lnTo>
                  <a:lnTo>
                    <a:pt x="451" y="172"/>
                  </a:lnTo>
                  <a:lnTo>
                    <a:pt x="448" y="166"/>
                  </a:lnTo>
                  <a:lnTo>
                    <a:pt x="446" y="163"/>
                  </a:lnTo>
                  <a:lnTo>
                    <a:pt x="445" y="160"/>
                  </a:lnTo>
                  <a:lnTo>
                    <a:pt x="443" y="157"/>
                  </a:lnTo>
                  <a:lnTo>
                    <a:pt x="441" y="154"/>
                  </a:lnTo>
                  <a:lnTo>
                    <a:pt x="437" y="150"/>
                  </a:lnTo>
                  <a:lnTo>
                    <a:pt x="435" y="147"/>
                  </a:lnTo>
                  <a:lnTo>
                    <a:pt x="433" y="146"/>
                  </a:lnTo>
                  <a:lnTo>
                    <a:pt x="431" y="144"/>
                  </a:lnTo>
                  <a:lnTo>
                    <a:pt x="427" y="142"/>
                  </a:lnTo>
                  <a:lnTo>
                    <a:pt x="425" y="141"/>
                  </a:lnTo>
                  <a:lnTo>
                    <a:pt x="423" y="139"/>
                  </a:lnTo>
                  <a:lnTo>
                    <a:pt x="420" y="138"/>
                  </a:lnTo>
                  <a:lnTo>
                    <a:pt x="418" y="136"/>
                  </a:lnTo>
                  <a:lnTo>
                    <a:pt x="415" y="136"/>
                  </a:lnTo>
                  <a:lnTo>
                    <a:pt x="411" y="135"/>
                  </a:lnTo>
                  <a:lnTo>
                    <a:pt x="409" y="135"/>
                  </a:lnTo>
                  <a:lnTo>
                    <a:pt x="406" y="134"/>
                  </a:lnTo>
                  <a:lnTo>
                    <a:pt x="400" y="134"/>
                  </a:lnTo>
                  <a:lnTo>
                    <a:pt x="392" y="134"/>
                  </a:lnTo>
                  <a:lnTo>
                    <a:pt x="386" y="135"/>
                  </a:lnTo>
                  <a:lnTo>
                    <a:pt x="379" y="138"/>
                  </a:lnTo>
                  <a:lnTo>
                    <a:pt x="371" y="140"/>
                  </a:lnTo>
                  <a:lnTo>
                    <a:pt x="364" y="144"/>
                  </a:lnTo>
                  <a:lnTo>
                    <a:pt x="358" y="148"/>
                  </a:lnTo>
                  <a:lnTo>
                    <a:pt x="350" y="153"/>
                  </a:lnTo>
                  <a:lnTo>
                    <a:pt x="344" y="159"/>
                  </a:lnTo>
                  <a:lnTo>
                    <a:pt x="333" y="169"/>
                  </a:lnTo>
                  <a:lnTo>
                    <a:pt x="324" y="178"/>
                  </a:lnTo>
                  <a:lnTo>
                    <a:pt x="315" y="189"/>
                  </a:lnTo>
                  <a:lnTo>
                    <a:pt x="306" y="200"/>
                  </a:lnTo>
                  <a:lnTo>
                    <a:pt x="297" y="211"/>
                  </a:lnTo>
                  <a:lnTo>
                    <a:pt x="290" y="223"/>
                  </a:lnTo>
                  <a:lnTo>
                    <a:pt x="283" y="235"/>
                  </a:lnTo>
                  <a:lnTo>
                    <a:pt x="276" y="247"/>
                  </a:lnTo>
                  <a:lnTo>
                    <a:pt x="255" y="314"/>
                  </a:lnTo>
                  <a:lnTo>
                    <a:pt x="238" y="375"/>
                  </a:lnTo>
                  <a:lnTo>
                    <a:pt x="225" y="43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84320" y="1192320"/>
              <a:ext cx="263520" cy="576000"/>
            </a:xfrm>
            <a:custGeom>
              <a:avLst/>
              <a:gdLst/>
              <a:ahLst/>
              <a:rect l="l" t="t" r="r" b="b"/>
              <a:pathLst>
                <a:path w="734" h="1601">
                  <a:moveTo>
                    <a:pt x="112" y="70"/>
                  </a:moveTo>
                  <a:lnTo>
                    <a:pt x="143" y="0"/>
                  </a:lnTo>
                  <a:lnTo>
                    <a:pt x="215" y="10"/>
                  </a:lnTo>
                  <a:lnTo>
                    <a:pt x="282" y="23"/>
                  </a:lnTo>
                  <a:lnTo>
                    <a:pt x="344" y="44"/>
                  </a:lnTo>
                  <a:lnTo>
                    <a:pt x="401" y="68"/>
                  </a:lnTo>
                  <a:lnTo>
                    <a:pt x="454" y="98"/>
                  </a:lnTo>
                  <a:lnTo>
                    <a:pt x="503" y="132"/>
                  </a:lnTo>
                  <a:lnTo>
                    <a:pt x="546" y="172"/>
                  </a:lnTo>
                  <a:lnTo>
                    <a:pt x="586" y="216"/>
                  </a:lnTo>
                  <a:lnTo>
                    <a:pt x="620" y="267"/>
                  </a:lnTo>
                  <a:lnTo>
                    <a:pt x="650" y="322"/>
                  </a:lnTo>
                  <a:lnTo>
                    <a:pt x="676" y="383"/>
                  </a:lnTo>
                  <a:lnTo>
                    <a:pt x="696" y="448"/>
                  </a:lnTo>
                  <a:lnTo>
                    <a:pt x="712" y="519"/>
                  </a:lnTo>
                  <a:lnTo>
                    <a:pt x="723" y="594"/>
                  </a:lnTo>
                  <a:lnTo>
                    <a:pt x="731" y="676"/>
                  </a:lnTo>
                  <a:lnTo>
                    <a:pt x="733" y="762"/>
                  </a:lnTo>
                  <a:lnTo>
                    <a:pt x="731" y="848"/>
                  </a:lnTo>
                  <a:lnTo>
                    <a:pt x="724" y="931"/>
                  </a:lnTo>
                  <a:lnTo>
                    <a:pt x="713" y="1010"/>
                  </a:lnTo>
                  <a:lnTo>
                    <a:pt x="698" y="1087"/>
                  </a:lnTo>
                  <a:lnTo>
                    <a:pt x="678" y="1159"/>
                  </a:lnTo>
                  <a:lnTo>
                    <a:pt x="655" y="1229"/>
                  </a:lnTo>
                  <a:lnTo>
                    <a:pt x="626" y="1294"/>
                  </a:lnTo>
                  <a:lnTo>
                    <a:pt x="593" y="1357"/>
                  </a:lnTo>
                  <a:lnTo>
                    <a:pt x="557" y="1413"/>
                  </a:lnTo>
                  <a:lnTo>
                    <a:pt x="538" y="1440"/>
                  </a:lnTo>
                  <a:lnTo>
                    <a:pt x="519" y="1464"/>
                  </a:lnTo>
                  <a:lnTo>
                    <a:pt x="499" y="1485"/>
                  </a:lnTo>
                  <a:lnTo>
                    <a:pt x="478" y="1506"/>
                  </a:lnTo>
                  <a:lnTo>
                    <a:pt x="457" y="1524"/>
                  </a:lnTo>
                  <a:lnTo>
                    <a:pt x="436" y="1539"/>
                  </a:lnTo>
                  <a:lnTo>
                    <a:pt x="414" y="1554"/>
                  </a:lnTo>
                  <a:lnTo>
                    <a:pt x="391" y="1566"/>
                  </a:lnTo>
                  <a:lnTo>
                    <a:pt x="367" y="1576"/>
                  </a:lnTo>
                  <a:lnTo>
                    <a:pt x="344" y="1585"/>
                  </a:lnTo>
                  <a:lnTo>
                    <a:pt x="319" y="1592"/>
                  </a:lnTo>
                  <a:lnTo>
                    <a:pt x="294" y="1597"/>
                  </a:lnTo>
                  <a:lnTo>
                    <a:pt x="269" y="1599"/>
                  </a:lnTo>
                  <a:lnTo>
                    <a:pt x="243" y="1600"/>
                  </a:lnTo>
                  <a:lnTo>
                    <a:pt x="214" y="1599"/>
                  </a:lnTo>
                  <a:lnTo>
                    <a:pt x="188" y="1594"/>
                  </a:lnTo>
                  <a:lnTo>
                    <a:pt x="175" y="1592"/>
                  </a:lnTo>
                  <a:lnTo>
                    <a:pt x="162" y="1587"/>
                  </a:lnTo>
                  <a:lnTo>
                    <a:pt x="151" y="1584"/>
                  </a:lnTo>
                  <a:lnTo>
                    <a:pt x="139" y="1578"/>
                  </a:lnTo>
                  <a:lnTo>
                    <a:pt x="128" y="1572"/>
                  </a:lnTo>
                  <a:lnTo>
                    <a:pt x="117" y="1564"/>
                  </a:lnTo>
                  <a:lnTo>
                    <a:pt x="107" y="1557"/>
                  </a:lnTo>
                  <a:lnTo>
                    <a:pt x="97" y="1549"/>
                  </a:lnTo>
                  <a:lnTo>
                    <a:pt x="88" y="1540"/>
                  </a:lnTo>
                  <a:lnTo>
                    <a:pt x="79" y="1531"/>
                  </a:lnTo>
                  <a:lnTo>
                    <a:pt x="71" y="1520"/>
                  </a:lnTo>
                  <a:lnTo>
                    <a:pt x="62" y="1509"/>
                  </a:lnTo>
                  <a:lnTo>
                    <a:pt x="47" y="1486"/>
                  </a:lnTo>
                  <a:lnTo>
                    <a:pt x="35" y="1461"/>
                  </a:lnTo>
                  <a:lnTo>
                    <a:pt x="24" y="1436"/>
                  </a:lnTo>
                  <a:lnTo>
                    <a:pt x="16" y="1411"/>
                  </a:lnTo>
                  <a:lnTo>
                    <a:pt x="8" y="1383"/>
                  </a:lnTo>
                  <a:lnTo>
                    <a:pt x="4" y="1356"/>
                  </a:lnTo>
                  <a:lnTo>
                    <a:pt x="1" y="1327"/>
                  </a:lnTo>
                  <a:lnTo>
                    <a:pt x="0" y="1297"/>
                  </a:lnTo>
                  <a:lnTo>
                    <a:pt x="2" y="1236"/>
                  </a:lnTo>
                  <a:lnTo>
                    <a:pt x="8" y="1176"/>
                  </a:lnTo>
                  <a:lnTo>
                    <a:pt x="19" y="1117"/>
                  </a:lnTo>
                  <a:lnTo>
                    <a:pt x="34" y="1059"/>
                  </a:lnTo>
                  <a:lnTo>
                    <a:pt x="54" y="1003"/>
                  </a:lnTo>
                  <a:lnTo>
                    <a:pt x="77" y="948"/>
                  </a:lnTo>
                  <a:lnTo>
                    <a:pt x="104" y="894"/>
                  </a:lnTo>
                  <a:lnTo>
                    <a:pt x="137" y="841"/>
                  </a:lnTo>
                  <a:lnTo>
                    <a:pt x="172" y="792"/>
                  </a:lnTo>
                  <a:lnTo>
                    <a:pt x="208" y="749"/>
                  </a:lnTo>
                  <a:lnTo>
                    <a:pt x="226" y="731"/>
                  </a:lnTo>
                  <a:lnTo>
                    <a:pt x="244" y="713"/>
                  </a:lnTo>
                  <a:lnTo>
                    <a:pt x="263" y="697"/>
                  </a:lnTo>
                  <a:lnTo>
                    <a:pt x="281" y="684"/>
                  </a:lnTo>
                  <a:lnTo>
                    <a:pt x="300" y="671"/>
                  </a:lnTo>
                  <a:lnTo>
                    <a:pt x="319" y="661"/>
                  </a:lnTo>
                  <a:lnTo>
                    <a:pt x="338" y="652"/>
                  </a:lnTo>
                  <a:lnTo>
                    <a:pt x="358" y="644"/>
                  </a:lnTo>
                  <a:lnTo>
                    <a:pt x="377" y="638"/>
                  </a:lnTo>
                  <a:lnTo>
                    <a:pt x="397" y="635"/>
                  </a:lnTo>
                  <a:lnTo>
                    <a:pt x="417" y="632"/>
                  </a:lnTo>
                  <a:lnTo>
                    <a:pt x="437" y="631"/>
                  </a:lnTo>
                  <a:lnTo>
                    <a:pt x="450" y="631"/>
                  </a:lnTo>
                  <a:lnTo>
                    <a:pt x="461" y="632"/>
                  </a:lnTo>
                  <a:lnTo>
                    <a:pt x="472" y="635"/>
                  </a:lnTo>
                  <a:lnTo>
                    <a:pt x="482" y="637"/>
                  </a:lnTo>
                  <a:lnTo>
                    <a:pt x="492" y="641"/>
                  </a:lnTo>
                  <a:lnTo>
                    <a:pt x="501" y="644"/>
                  </a:lnTo>
                  <a:lnTo>
                    <a:pt x="511" y="650"/>
                  </a:lnTo>
                  <a:lnTo>
                    <a:pt x="519" y="655"/>
                  </a:lnTo>
                  <a:lnTo>
                    <a:pt x="527" y="662"/>
                  </a:lnTo>
                  <a:lnTo>
                    <a:pt x="534" y="670"/>
                  </a:lnTo>
                  <a:lnTo>
                    <a:pt x="541" y="678"/>
                  </a:lnTo>
                  <a:lnTo>
                    <a:pt x="547" y="686"/>
                  </a:lnTo>
                  <a:lnTo>
                    <a:pt x="552" y="696"/>
                  </a:lnTo>
                  <a:lnTo>
                    <a:pt x="557" y="707"/>
                  </a:lnTo>
                  <a:lnTo>
                    <a:pt x="562" y="718"/>
                  </a:lnTo>
                  <a:lnTo>
                    <a:pt x="566" y="730"/>
                  </a:lnTo>
                  <a:lnTo>
                    <a:pt x="564" y="659"/>
                  </a:lnTo>
                  <a:lnTo>
                    <a:pt x="560" y="593"/>
                  </a:lnTo>
                  <a:lnTo>
                    <a:pt x="551" y="531"/>
                  </a:lnTo>
                  <a:lnTo>
                    <a:pt x="541" y="473"/>
                  </a:lnTo>
                  <a:lnTo>
                    <a:pt x="526" y="419"/>
                  </a:lnTo>
                  <a:lnTo>
                    <a:pt x="509" y="370"/>
                  </a:lnTo>
                  <a:lnTo>
                    <a:pt x="488" y="324"/>
                  </a:lnTo>
                  <a:lnTo>
                    <a:pt x="477" y="303"/>
                  </a:lnTo>
                  <a:lnTo>
                    <a:pt x="465" y="282"/>
                  </a:lnTo>
                  <a:lnTo>
                    <a:pt x="452" y="263"/>
                  </a:lnTo>
                  <a:lnTo>
                    <a:pt x="437" y="244"/>
                  </a:lnTo>
                  <a:lnTo>
                    <a:pt x="421" y="227"/>
                  </a:lnTo>
                  <a:lnTo>
                    <a:pt x="405" y="209"/>
                  </a:lnTo>
                  <a:lnTo>
                    <a:pt x="387" y="193"/>
                  </a:lnTo>
                  <a:lnTo>
                    <a:pt x="368" y="178"/>
                  </a:lnTo>
                  <a:lnTo>
                    <a:pt x="348" y="164"/>
                  </a:lnTo>
                  <a:lnTo>
                    <a:pt x="326" y="150"/>
                  </a:lnTo>
                  <a:lnTo>
                    <a:pt x="280" y="125"/>
                  </a:lnTo>
                  <a:lnTo>
                    <a:pt x="229" y="104"/>
                  </a:lnTo>
                  <a:lnTo>
                    <a:pt x="173" y="86"/>
                  </a:lnTo>
                  <a:close/>
                  <a:moveTo>
                    <a:pt x="532" y="1026"/>
                  </a:moveTo>
                  <a:lnTo>
                    <a:pt x="532" y="995"/>
                  </a:lnTo>
                  <a:lnTo>
                    <a:pt x="530" y="966"/>
                  </a:lnTo>
                  <a:lnTo>
                    <a:pt x="528" y="938"/>
                  </a:lnTo>
                  <a:lnTo>
                    <a:pt x="525" y="912"/>
                  </a:lnTo>
                  <a:lnTo>
                    <a:pt x="520" y="887"/>
                  </a:lnTo>
                  <a:lnTo>
                    <a:pt x="515" y="864"/>
                  </a:lnTo>
                  <a:lnTo>
                    <a:pt x="509" y="842"/>
                  </a:lnTo>
                  <a:lnTo>
                    <a:pt x="501" y="822"/>
                  </a:lnTo>
                  <a:lnTo>
                    <a:pt x="494" y="804"/>
                  </a:lnTo>
                  <a:lnTo>
                    <a:pt x="489" y="796"/>
                  </a:lnTo>
                  <a:lnTo>
                    <a:pt x="485" y="788"/>
                  </a:lnTo>
                  <a:lnTo>
                    <a:pt x="480" y="781"/>
                  </a:lnTo>
                  <a:lnTo>
                    <a:pt x="475" y="775"/>
                  </a:lnTo>
                  <a:lnTo>
                    <a:pt x="470" y="769"/>
                  </a:lnTo>
                  <a:lnTo>
                    <a:pt x="466" y="763"/>
                  </a:lnTo>
                  <a:lnTo>
                    <a:pt x="459" y="760"/>
                  </a:lnTo>
                  <a:lnTo>
                    <a:pt x="454" y="755"/>
                  </a:lnTo>
                  <a:lnTo>
                    <a:pt x="448" y="751"/>
                  </a:lnTo>
                  <a:lnTo>
                    <a:pt x="442" y="749"/>
                  </a:lnTo>
                  <a:lnTo>
                    <a:pt x="436" y="746"/>
                  </a:lnTo>
                  <a:lnTo>
                    <a:pt x="430" y="745"/>
                  </a:lnTo>
                  <a:lnTo>
                    <a:pt x="422" y="744"/>
                  </a:lnTo>
                  <a:lnTo>
                    <a:pt x="416" y="744"/>
                  </a:lnTo>
                  <a:lnTo>
                    <a:pt x="404" y="744"/>
                  </a:lnTo>
                  <a:lnTo>
                    <a:pt x="393" y="746"/>
                  </a:lnTo>
                  <a:lnTo>
                    <a:pt x="382" y="749"/>
                  </a:lnTo>
                  <a:lnTo>
                    <a:pt x="372" y="754"/>
                  </a:lnTo>
                  <a:lnTo>
                    <a:pt x="361" y="758"/>
                  </a:lnTo>
                  <a:lnTo>
                    <a:pt x="350" y="764"/>
                  </a:lnTo>
                  <a:lnTo>
                    <a:pt x="341" y="772"/>
                  </a:lnTo>
                  <a:lnTo>
                    <a:pt x="331" y="780"/>
                  </a:lnTo>
                  <a:lnTo>
                    <a:pt x="322" y="790"/>
                  </a:lnTo>
                  <a:lnTo>
                    <a:pt x="312" y="800"/>
                  </a:lnTo>
                  <a:lnTo>
                    <a:pt x="303" y="812"/>
                  </a:lnTo>
                  <a:lnTo>
                    <a:pt x="294" y="826"/>
                  </a:lnTo>
                  <a:lnTo>
                    <a:pt x="278" y="856"/>
                  </a:lnTo>
                  <a:lnTo>
                    <a:pt x="262" y="889"/>
                  </a:lnTo>
                  <a:lnTo>
                    <a:pt x="248" y="926"/>
                  </a:lnTo>
                  <a:lnTo>
                    <a:pt x="235" y="963"/>
                  </a:lnTo>
                  <a:lnTo>
                    <a:pt x="225" y="1002"/>
                  </a:lnTo>
                  <a:lnTo>
                    <a:pt x="216" y="1041"/>
                  </a:lnTo>
                  <a:lnTo>
                    <a:pt x="210" y="1081"/>
                  </a:lnTo>
                  <a:lnTo>
                    <a:pt x="206" y="1122"/>
                  </a:lnTo>
                  <a:lnTo>
                    <a:pt x="203" y="1164"/>
                  </a:lnTo>
                  <a:lnTo>
                    <a:pt x="202" y="1206"/>
                  </a:lnTo>
                  <a:lnTo>
                    <a:pt x="202" y="1235"/>
                  </a:lnTo>
                  <a:lnTo>
                    <a:pt x="204" y="1262"/>
                  </a:lnTo>
                  <a:lnTo>
                    <a:pt x="206" y="1287"/>
                  </a:lnTo>
                  <a:lnTo>
                    <a:pt x="209" y="1312"/>
                  </a:lnTo>
                  <a:lnTo>
                    <a:pt x="213" y="1335"/>
                  </a:lnTo>
                  <a:lnTo>
                    <a:pt x="218" y="1357"/>
                  </a:lnTo>
                  <a:lnTo>
                    <a:pt x="225" y="1378"/>
                  </a:lnTo>
                  <a:lnTo>
                    <a:pt x="232" y="1398"/>
                  </a:lnTo>
                  <a:lnTo>
                    <a:pt x="241" y="1416"/>
                  </a:lnTo>
                  <a:lnTo>
                    <a:pt x="245" y="1424"/>
                  </a:lnTo>
                  <a:lnTo>
                    <a:pt x="249" y="1431"/>
                  </a:lnTo>
                  <a:lnTo>
                    <a:pt x="254" y="1438"/>
                  </a:lnTo>
                  <a:lnTo>
                    <a:pt x="259" y="1444"/>
                  </a:lnTo>
                  <a:lnTo>
                    <a:pt x="264" y="1450"/>
                  </a:lnTo>
                  <a:lnTo>
                    <a:pt x="269" y="1455"/>
                  </a:lnTo>
                  <a:lnTo>
                    <a:pt x="274" y="1460"/>
                  </a:lnTo>
                  <a:lnTo>
                    <a:pt x="280" y="1464"/>
                  </a:lnTo>
                  <a:lnTo>
                    <a:pt x="285" y="1467"/>
                  </a:lnTo>
                  <a:lnTo>
                    <a:pt x="291" y="1470"/>
                  </a:lnTo>
                  <a:lnTo>
                    <a:pt x="298" y="1472"/>
                  </a:lnTo>
                  <a:lnTo>
                    <a:pt x="304" y="1473"/>
                  </a:lnTo>
                  <a:lnTo>
                    <a:pt x="310" y="1474"/>
                  </a:lnTo>
                  <a:lnTo>
                    <a:pt x="317" y="1474"/>
                  </a:lnTo>
                  <a:lnTo>
                    <a:pt x="327" y="1474"/>
                  </a:lnTo>
                  <a:lnTo>
                    <a:pt x="338" y="1472"/>
                  </a:lnTo>
                  <a:lnTo>
                    <a:pt x="348" y="1470"/>
                  </a:lnTo>
                  <a:lnTo>
                    <a:pt x="359" y="1466"/>
                  </a:lnTo>
                  <a:lnTo>
                    <a:pt x="368" y="1461"/>
                  </a:lnTo>
                  <a:lnTo>
                    <a:pt x="379" y="1454"/>
                  </a:lnTo>
                  <a:lnTo>
                    <a:pt x="388" y="1448"/>
                  </a:lnTo>
                  <a:lnTo>
                    <a:pt x="398" y="1440"/>
                  </a:lnTo>
                  <a:lnTo>
                    <a:pt x="407" y="1430"/>
                  </a:lnTo>
                  <a:lnTo>
                    <a:pt x="417" y="1419"/>
                  </a:lnTo>
                  <a:lnTo>
                    <a:pt x="425" y="1407"/>
                  </a:lnTo>
                  <a:lnTo>
                    <a:pt x="435" y="1395"/>
                  </a:lnTo>
                  <a:lnTo>
                    <a:pt x="452" y="1366"/>
                  </a:lnTo>
                  <a:lnTo>
                    <a:pt x="468" y="1333"/>
                  </a:lnTo>
                  <a:lnTo>
                    <a:pt x="482" y="1297"/>
                  </a:lnTo>
                  <a:lnTo>
                    <a:pt x="496" y="1261"/>
                  </a:lnTo>
                  <a:lnTo>
                    <a:pt x="507" y="1224"/>
                  </a:lnTo>
                  <a:lnTo>
                    <a:pt x="516" y="1185"/>
                  </a:lnTo>
                  <a:lnTo>
                    <a:pt x="524" y="1147"/>
                  </a:lnTo>
                  <a:lnTo>
                    <a:pt x="528" y="1107"/>
                  </a:lnTo>
                  <a:lnTo>
                    <a:pt x="531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68720" y="1414440"/>
              <a:ext cx="314280" cy="357120"/>
            </a:xfrm>
            <a:custGeom>
              <a:avLst/>
              <a:gdLst/>
              <a:ahLst/>
              <a:rect l="l" t="t" r="r" b="b"/>
              <a:pathLst>
                <a:path w="874" h="993">
                  <a:moveTo>
                    <a:pt x="654" y="28"/>
                  </a:moveTo>
                  <a:lnTo>
                    <a:pt x="826" y="28"/>
                  </a:lnTo>
                  <a:lnTo>
                    <a:pt x="735" y="433"/>
                  </a:lnTo>
                  <a:lnTo>
                    <a:pt x="677" y="688"/>
                  </a:lnTo>
                  <a:lnTo>
                    <a:pt x="662" y="763"/>
                  </a:lnTo>
                  <a:lnTo>
                    <a:pt x="658" y="787"/>
                  </a:lnTo>
                  <a:lnTo>
                    <a:pt x="657" y="796"/>
                  </a:lnTo>
                  <a:lnTo>
                    <a:pt x="657" y="802"/>
                  </a:lnTo>
                  <a:lnTo>
                    <a:pt x="657" y="806"/>
                  </a:lnTo>
                  <a:lnTo>
                    <a:pt x="657" y="808"/>
                  </a:lnTo>
                  <a:lnTo>
                    <a:pt x="657" y="811"/>
                  </a:lnTo>
                  <a:lnTo>
                    <a:pt x="658" y="813"/>
                  </a:lnTo>
                  <a:lnTo>
                    <a:pt x="658" y="816"/>
                  </a:lnTo>
                  <a:lnTo>
                    <a:pt x="658" y="816"/>
                  </a:lnTo>
                  <a:lnTo>
                    <a:pt x="659" y="817"/>
                  </a:lnTo>
                  <a:lnTo>
                    <a:pt x="659" y="818"/>
                  </a:lnTo>
                  <a:lnTo>
                    <a:pt x="659" y="818"/>
                  </a:lnTo>
                  <a:lnTo>
                    <a:pt x="660" y="819"/>
                  </a:lnTo>
                  <a:lnTo>
                    <a:pt x="660" y="819"/>
                  </a:lnTo>
                  <a:lnTo>
                    <a:pt x="661" y="820"/>
                  </a:lnTo>
                  <a:lnTo>
                    <a:pt x="662" y="822"/>
                  </a:lnTo>
                  <a:lnTo>
                    <a:pt x="662" y="822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5" y="823"/>
                  </a:lnTo>
                  <a:lnTo>
                    <a:pt x="667" y="823"/>
                  </a:lnTo>
                  <a:lnTo>
                    <a:pt x="669" y="822"/>
                  </a:lnTo>
                  <a:lnTo>
                    <a:pt x="673" y="822"/>
                  </a:lnTo>
                  <a:lnTo>
                    <a:pt x="676" y="820"/>
                  </a:lnTo>
                  <a:lnTo>
                    <a:pt x="679" y="819"/>
                  </a:lnTo>
                  <a:lnTo>
                    <a:pt x="682" y="817"/>
                  </a:lnTo>
                  <a:lnTo>
                    <a:pt x="688" y="813"/>
                  </a:lnTo>
                  <a:lnTo>
                    <a:pt x="698" y="806"/>
                  </a:lnTo>
                  <a:lnTo>
                    <a:pt x="708" y="795"/>
                  </a:lnTo>
                  <a:lnTo>
                    <a:pt x="738" y="768"/>
                  </a:lnTo>
                  <a:lnTo>
                    <a:pt x="822" y="681"/>
                  </a:lnTo>
                  <a:lnTo>
                    <a:pt x="873" y="745"/>
                  </a:lnTo>
                  <a:lnTo>
                    <a:pt x="825" y="802"/>
                  </a:lnTo>
                  <a:lnTo>
                    <a:pt x="778" y="853"/>
                  </a:lnTo>
                  <a:lnTo>
                    <a:pt x="736" y="895"/>
                  </a:lnTo>
                  <a:lnTo>
                    <a:pt x="696" y="930"/>
                  </a:lnTo>
                  <a:lnTo>
                    <a:pt x="660" y="957"/>
                  </a:lnTo>
                  <a:lnTo>
                    <a:pt x="643" y="968"/>
                  </a:lnTo>
                  <a:lnTo>
                    <a:pt x="627" y="976"/>
                  </a:lnTo>
                  <a:lnTo>
                    <a:pt x="611" y="984"/>
                  </a:lnTo>
                  <a:lnTo>
                    <a:pt x="598" y="988"/>
                  </a:lnTo>
                  <a:lnTo>
                    <a:pt x="584" y="991"/>
                  </a:lnTo>
                  <a:lnTo>
                    <a:pt x="571" y="992"/>
                  </a:lnTo>
                  <a:lnTo>
                    <a:pt x="561" y="992"/>
                  </a:lnTo>
                  <a:lnTo>
                    <a:pt x="551" y="990"/>
                  </a:lnTo>
                  <a:lnTo>
                    <a:pt x="547" y="988"/>
                  </a:lnTo>
                  <a:lnTo>
                    <a:pt x="543" y="987"/>
                  </a:lnTo>
                  <a:lnTo>
                    <a:pt x="538" y="986"/>
                  </a:lnTo>
                  <a:lnTo>
                    <a:pt x="534" y="984"/>
                  </a:lnTo>
                  <a:lnTo>
                    <a:pt x="530" y="981"/>
                  </a:lnTo>
                  <a:lnTo>
                    <a:pt x="526" y="979"/>
                  </a:lnTo>
                  <a:lnTo>
                    <a:pt x="522" y="976"/>
                  </a:lnTo>
                  <a:lnTo>
                    <a:pt x="518" y="973"/>
                  </a:lnTo>
                  <a:lnTo>
                    <a:pt x="514" y="970"/>
                  </a:lnTo>
                  <a:lnTo>
                    <a:pt x="511" y="967"/>
                  </a:lnTo>
                  <a:lnTo>
                    <a:pt x="504" y="958"/>
                  </a:lnTo>
                  <a:lnTo>
                    <a:pt x="500" y="955"/>
                  </a:lnTo>
                  <a:lnTo>
                    <a:pt x="497" y="950"/>
                  </a:lnTo>
                  <a:lnTo>
                    <a:pt x="494" y="945"/>
                  </a:lnTo>
                  <a:lnTo>
                    <a:pt x="492" y="940"/>
                  </a:lnTo>
                  <a:lnTo>
                    <a:pt x="490" y="936"/>
                  </a:lnTo>
                  <a:lnTo>
                    <a:pt x="488" y="930"/>
                  </a:lnTo>
                  <a:lnTo>
                    <a:pt x="483" y="919"/>
                  </a:lnTo>
                  <a:lnTo>
                    <a:pt x="480" y="907"/>
                  </a:lnTo>
                  <a:lnTo>
                    <a:pt x="479" y="895"/>
                  </a:lnTo>
                  <a:lnTo>
                    <a:pt x="477" y="882"/>
                  </a:lnTo>
                  <a:lnTo>
                    <a:pt x="477" y="867"/>
                  </a:lnTo>
                  <a:lnTo>
                    <a:pt x="477" y="853"/>
                  </a:lnTo>
                  <a:lnTo>
                    <a:pt x="478" y="837"/>
                  </a:lnTo>
                  <a:lnTo>
                    <a:pt x="480" y="822"/>
                  </a:lnTo>
                  <a:lnTo>
                    <a:pt x="482" y="806"/>
                  </a:lnTo>
                  <a:lnTo>
                    <a:pt x="486" y="790"/>
                  </a:lnTo>
                  <a:lnTo>
                    <a:pt x="489" y="774"/>
                  </a:lnTo>
                  <a:lnTo>
                    <a:pt x="493" y="757"/>
                  </a:lnTo>
                  <a:lnTo>
                    <a:pt x="498" y="740"/>
                  </a:lnTo>
                  <a:lnTo>
                    <a:pt x="485" y="766"/>
                  </a:lnTo>
                  <a:lnTo>
                    <a:pt x="468" y="792"/>
                  </a:lnTo>
                  <a:lnTo>
                    <a:pt x="450" y="816"/>
                  </a:lnTo>
                  <a:lnTo>
                    <a:pt x="428" y="840"/>
                  </a:lnTo>
                  <a:lnTo>
                    <a:pt x="404" y="864"/>
                  </a:lnTo>
                  <a:lnTo>
                    <a:pt x="378" y="886"/>
                  </a:lnTo>
                  <a:lnTo>
                    <a:pt x="349" y="909"/>
                  </a:lnTo>
                  <a:lnTo>
                    <a:pt x="319" y="931"/>
                  </a:lnTo>
                  <a:lnTo>
                    <a:pt x="298" y="944"/>
                  </a:lnTo>
                  <a:lnTo>
                    <a:pt x="277" y="956"/>
                  </a:lnTo>
                  <a:lnTo>
                    <a:pt x="256" y="966"/>
                  </a:lnTo>
                  <a:lnTo>
                    <a:pt x="237" y="974"/>
                  </a:lnTo>
                  <a:lnTo>
                    <a:pt x="218" y="980"/>
                  </a:lnTo>
                  <a:lnTo>
                    <a:pt x="200" y="985"/>
                  </a:lnTo>
                  <a:lnTo>
                    <a:pt x="183" y="987"/>
                  </a:lnTo>
                  <a:lnTo>
                    <a:pt x="166" y="988"/>
                  </a:lnTo>
                  <a:lnTo>
                    <a:pt x="155" y="988"/>
                  </a:lnTo>
                  <a:lnTo>
                    <a:pt x="146" y="986"/>
                  </a:lnTo>
                  <a:lnTo>
                    <a:pt x="140" y="985"/>
                  </a:lnTo>
                  <a:lnTo>
                    <a:pt x="136" y="984"/>
                  </a:lnTo>
                  <a:lnTo>
                    <a:pt x="132" y="982"/>
                  </a:lnTo>
                  <a:lnTo>
                    <a:pt x="128" y="980"/>
                  </a:lnTo>
                  <a:lnTo>
                    <a:pt x="123" y="978"/>
                  </a:lnTo>
                  <a:lnTo>
                    <a:pt x="119" y="975"/>
                  </a:lnTo>
                  <a:lnTo>
                    <a:pt x="115" y="973"/>
                  </a:lnTo>
                  <a:lnTo>
                    <a:pt x="112" y="970"/>
                  </a:lnTo>
                  <a:lnTo>
                    <a:pt x="108" y="967"/>
                  </a:lnTo>
                  <a:lnTo>
                    <a:pt x="104" y="963"/>
                  </a:lnTo>
                  <a:lnTo>
                    <a:pt x="101" y="960"/>
                  </a:lnTo>
                  <a:lnTo>
                    <a:pt x="98" y="956"/>
                  </a:lnTo>
                  <a:lnTo>
                    <a:pt x="95" y="952"/>
                  </a:lnTo>
                  <a:lnTo>
                    <a:pt x="93" y="948"/>
                  </a:lnTo>
                  <a:lnTo>
                    <a:pt x="90" y="943"/>
                  </a:lnTo>
                  <a:lnTo>
                    <a:pt x="88" y="938"/>
                  </a:lnTo>
                  <a:lnTo>
                    <a:pt x="85" y="933"/>
                  </a:lnTo>
                  <a:lnTo>
                    <a:pt x="83" y="928"/>
                  </a:lnTo>
                  <a:lnTo>
                    <a:pt x="80" y="916"/>
                  </a:lnTo>
                  <a:lnTo>
                    <a:pt x="77" y="904"/>
                  </a:lnTo>
                  <a:lnTo>
                    <a:pt x="75" y="891"/>
                  </a:lnTo>
                  <a:lnTo>
                    <a:pt x="74" y="877"/>
                  </a:lnTo>
                  <a:lnTo>
                    <a:pt x="74" y="861"/>
                  </a:lnTo>
                  <a:lnTo>
                    <a:pt x="75" y="838"/>
                  </a:lnTo>
                  <a:lnTo>
                    <a:pt x="76" y="816"/>
                  </a:lnTo>
                  <a:lnTo>
                    <a:pt x="79" y="792"/>
                  </a:lnTo>
                  <a:lnTo>
                    <a:pt x="82" y="766"/>
                  </a:lnTo>
                  <a:lnTo>
                    <a:pt x="91" y="723"/>
                  </a:lnTo>
                  <a:lnTo>
                    <a:pt x="104" y="663"/>
                  </a:lnTo>
                  <a:lnTo>
                    <a:pt x="146" y="491"/>
                  </a:lnTo>
                  <a:lnTo>
                    <a:pt x="173" y="374"/>
                  </a:lnTo>
                  <a:lnTo>
                    <a:pt x="193" y="286"/>
                  </a:lnTo>
                  <a:lnTo>
                    <a:pt x="205" y="221"/>
                  </a:lnTo>
                  <a:lnTo>
                    <a:pt x="208" y="199"/>
                  </a:lnTo>
                  <a:lnTo>
                    <a:pt x="209" y="191"/>
                  </a:lnTo>
                  <a:lnTo>
                    <a:pt x="209" y="184"/>
                  </a:lnTo>
                  <a:lnTo>
                    <a:pt x="209" y="180"/>
                  </a:lnTo>
                  <a:lnTo>
                    <a:pt x="209" y="179"/>
                  </a:lnTo>
                  <a:lnTo>
                    <a:pt x="209" y="179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08" y="176"/>
                  </a:lnTo>
                  <a:lnTo>
                    <a:pt x="207" y="176"/>
                  </a:lnTo>
                  <a:lnTo>
                    <a:pt x="205" y="178"/>
                  </a:lnTo>
                  <a:lnTo>
                    <a:pt x="203" y="178"/>
                  </a:lnTo>
                  <a:lnTo>
                    <a:pt x="199" y="179"/>
                  </a:lnTo>
                  <a:lnTo>
                    <a:pt x="194" y="181"/>
                  </a:lnTo>
                  <a:lnTo>
                    <a:pt x="190" y="184"/>
                  </a:lnTo>
                  <a:lnTo>
                    <a:pt x="185" y="186"/>
                  </a:lnTo>
                  <a:lnTo>
                    <a:pt x="172" y="194"/>
                  </a:lnTo>
                  <a:lnTo>
                    <a:pt x="165" y="199"/>
                  </a:lnTo>
                  <a:lnTo>
                    <a:pt x="156" y="206"/>
                  </a:lnTo>
                  <a:lnTo>
                    <a:pt x="132" y="228"/>
                  </a:lnTo>
                  <a:lnTo>
                    <a:pt x="63" y="294"/>
                  </a:lnTo>
                  <a:lnTo>
                    <a:pt x="0" y="234"/>
                  </a:lnTo>
                  <a:lnTo>
                    <a:pt x="64" y="166"/>
                  </a:lnTo>
                  <a:lnTo>
                    <a:pt x="119" y="112"/>
                  </a:lnTo>
                  <a:lnTo>
                    <a:pt x="145" y="89"/>
                  </a:lnTo>
                  <a:lnTo>
                    <a:pt x="167" y="70"/>
                  </a:lnTo>
                  <a:lnTo>
                    <a:pt x="188" y="54"/>
                  </a:lnTo>
                  <a:lnTo>
                    <a:pt x="207" y="42"/>
                  </a:lnTo>
                  <a:lnTo>
                    <a:pt x="224" y="32"/>
                  </a:lnTo>
                  <a:lnTo>
                    <a:pt x="241" y="24"/>
                  </a:lnTo>
                  <a:lnTo>
                    <a:pt x="255" y="17"/>
                  </a:lnTo>
                  <a:lnTo>
                    <a:pt x="271" y="11"/>
                  </a:lnTo>
                  <a:lnTo>
                    <a:pt x="285" y="6"/>
                  </a:lnTo>
                  <a:lnTo>
                    <a:pt x="299" y="2"/>
                  </a:lnTo>
                  <a:lnTo>
                    <a:pt x="311" y="1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8" y="1"/>
                  </a:lnTo>
                  <a:lnTo>
                    <a:pt x="342" y="2"/>
                  </a:lnTo>
                  <a:lnTo>
                    <a:pt x="345" y="4"/>
                  </a:lnTo>
                  <a:lnTo>
                    <a:pt x="348" y="5"/>
                  </a:lnTo>
                  <a:lnTo>
                    <a:pt x="353" y="6"/>
                  </a:lnTo>
                  <a:lnTo>
                    <a:pt x="356" y="8"/>
                  </a:lnTo>
                  <a:lnTo>
                    <a:pt x="358" y="10"/>
                  </a:lnTo>
                  <a:lnTo>
                    <a:pt x="361" y="12"/>
                  </a:lnTo>
                  <a:lnTo>
                    <a:pt x="364" y="14"/>
                  </a:lnTo>
                  <a:lnTo>
                    <a:pt x="367" y="17"/>
                  </a:lnTo>
                  <a:lnTo>
                    <a:pt x="369" y="20"/>
                  </a:lnTo>
                  <a:lnTo>
                    <a:pt x="373" y="23"/>
                  </a:lnTo>
                  <a:lnTo>
                    <a:pt x="375" y="26"/>
                  </a:lnTo>
                  <a:lnTo>
                    <a:pt x="377" y="30"/>
                  </a:lnTo>
                  <a:lnTo>
                    <a:pt x="380" y="34"/>
                  </a:lnTo>
                  <a:lnTo>
                    <a:pt x="382" y="37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7" y="49"/>
                  </a:lnTo>
                  <a:lnTo>
                    <a:pt x="390" y="58"/>
                  </a:lnTo>
                  <a:lnTo>
                    <a:pt x="392" y="67"/>
                  </a:lnTo>
                  <a:lnTo>
                    <a:pt x="394" y="77"/>
                  </a:lnTo>
                  <a:lnTo>
                    <a:pt x="395" y="88"/>
                  </a:lnTo>
                  <a:lnTo>
                    <a:pt x="395" y="100"/>
                  </a:lnTo>
                  <a:lnTo>
                    <a:pt x="394" y="122"/>
                  </a:lnTo>
                  <a:lnTo>
                    <a:pt x="391" y="152"/>
                  </a:lnTo>
                  <a:lnTo>
                    <a:pt x="378" y="232"/>
                  </a:lnTo>
                  <a:lnTo>
                    <a:pt x="356" y="338"/>
                  </a:lnTo>
                  <a:lnTo>
                    <a:pt x="325" y="473"/>
                  </a:lnTo>
                  <a:lnTo>
                    <a:pt x="280" y="675"/>
                  </a:lnTo>
                  <a:lnTo>
                    <a:pt x="269" y="735"/>
                  </a:lnTo>
                  <a:lnTo>
                    <a:pt x="266" y="754"/>
                  </a:lnTo>
                  <a:lnTo>
                    <a:pt x="265" y="762"/>
                  </a:lnTo>
                  <a:lnTo>
                    <a:pt x="265" y="766"/>
                  </a:lnTo>
                  <a:lnTo>
                    <a:pt x="265" y="770"/>
                  </a:lnTo>
                  <a:lnTo>
                    <a:pt x="265" y="774"/>
                  </a:lnTo>
                  <a:lnTo>
                    <a:pt x="266" y="777"/>
                  </a:lnTo>
                  <a:lnTo>
                    <a:pt x="267" y="780"/>
                  </a:lnTo>
                  <a:lnTo>
                    <a:pt x="267" y="781"/>
                  </a:lnTo>
                  <a:lnTo>
                    <a:pt x="268" y="783"/>
                  </a:lnTo>
                  <a:lnTo>
                    <a:pt x="268" y="784"/>
                  </a:lnTo>
                  <a:lnTo>
                    <a:pt x="269" y="786"/>
                  </a:lnTo>
                  <a:lnTo>
                    <a:pt x="269" y="787"/>
                  </a:lnTo>
                  <a:lnTo>
                    <a:pt x="270" y="788"/>
                  </a:lnTo>
                  <a:lnTo>
                    <a:pt x="271" y="789"/>
                  </a:lnTo>
                  <a:lnTo>
                    <a:pt x="272" y="790"/>
                  </a:lnTo>
                  <a:lnTo>
                    <a:pt x="274" y="793"/>
                  </a:lnTo>
                  <a:lnTo>
                    <a:pt x="275" y="794"/>
                  </a:lnTo>
                  <a:lnTo>
                    <a:pt x="278" y="796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1" y="799"/>
                  </a:lnTo>
                  <a:lnTo>
                    <a:pt x="282" y="799"/>
                  </a:lnTo>
                  <a:lnTo>
                    <a:pt x="283" y="799"/>
                  </a:lnTo>
                  <a:lnTo>
                    <a:pt x="284" y="800"/>
                  </a:lnTo>
                  <a:lnTo>
                    <a:pt x="284" y="800"/>
                  </a:lnTo>
                  <a:lnTo>
                    <a:pt x="285" y="800"/>
                  </a:lnTo>
                  <a:lnTo>
                    <a:pt x="286" y="800"/>
                  </a:lnTo>
                  <a:lnTo>
                    <a:pt x="291" y="800"/>
                  </a:lnTo>
                  <a:lnTo>
                    <a:pt x="298" y="799"/>
                  </a:lnTo>
                  <a:lnTo>
                    <a:pt x="304" y="796"/>
                  </a:lnTo>
                  <a:lnTo>
                    <a:pt x="311" y="794"/>
                  </a:lnTo>
                  <a:lnTo>
                    <a:pt x="319" y="790"/>
                  </a:lnTo>
                  <a:lnTo>
                    <a:pt x="326" y="787"/>
                  </a:lnTo>
                  <a:lnTo>
                    <a:pt x="343" y="776"/>
                  </a:lnTo>
                  <a:lnTo>
                    <a:pt x="361" y="763"/>
                  </a:lnTo>
                  <a:lnTo>
                    <a:pt x="381" y="747"/>
                  </a:lnTo>
                  <a:lnTo>
                    <a:pt x="402" y="728"/>
                  </a:lnTo>
                  <a:lnTo>
                    <a:pt x="424" y="705"/>
                  </a:lnTo>
                  <a:lnTo>
                    <a:pt x="447" y="681"/>
                  </a:lnTo>
                  <a:lnTo>
                    <a:pt x="467" y="656"/>
                  </a:lnTo>
                  <a:lnTo>
                    <a:pt x="485" y="630"/>
                  </a:lnTo>
                  <a:lnTo>
                    <a:pt x="501" y="603"/>
                  </a:lnTo>
                  <a:lnTo>
                    <a:pt x="515" y="576"/>
                  </a:lnTo>
                  <a:lnTo>
                    <a:pt x="528" y="548"/>
                  </a:lnTo>
                  <a:lnTo>
                    <a:pt x="537" y="518"/>
                  </a:lnTo>
                  <a:lnTo>
                    <a:pt x="546" y="488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98840" y="1414440"/>
              <a:ext cx="314280" cy="357120"/>
            </a:xfrm>
            <a:custGeom>
              <a:avLst/>
              <a:gdLst/>
              <a:ahLst/>
              <a:rect l="l" t="t" r="r" b="b"/>
              <a:pathLst>
                <a:path w="874" h="993">
                  <a:moveTo>
                    <a:pt x="873" y="744"/>
                  </a:moveTo>
                  <a:lnTo>
                    <a:pt x="824" y="802"/>
                  </a:lnTo>
                  <a:lnTo>
                    <a:pt x="778" y="853"/>
                  </a:lnTo>
                  <a:lnTo>
                    <a:pt x="735" y="895"/>
                  </a:lnTo>
                  <a:lnTo>
                    <a:pt x="696" y="930"/>
                  </a:lnTo>
                  <a:lnTo>
                    <a:pt x="659" y="957"/>
                  </a:lnTo>
                  <a:lnTo>
                    <a:pt x="643" y="968"/>
                  </a:lnTo>
                  <a:lnTo>
                    <a:pt x="627" y="976"/>
                  </a:lnTo>
                  <a:lnTo>
                    <a:pt x="612" y="984"/>
                  </a:lnTo>
                  <a:lnTo>
                    <a:pt x="597" y="988"/>
                  </a:lnTo>
                  <a:lnTo>
                    <a:pt x="583" y="991"/>
                  </a:lnTo>
                  <a:lnTo>
                    <a:pt x="571" y="992"/>
                  </a:lnTo>
                  <a:lnTo>
                    <a:pt x="566" y="992"/>
                  </a:lnTo>
                  <a:lnTo>
                    <a:pt x="562" y="992"/>
                  </a:lnTo>
                  <a:lnTo>
                    <a:pt x="557" y="991"/>
                  </a:lnTo>
                  <a:lnTo>
                    <a:pt x="553" y="990"/>
                  </a:lnTo>
                  <a:lnTo>
                    <a:pt x="549" y="988"/>
                  </a:lnTo>
                  <a:lnTo>
                    <a:pt x="544" y="987"/>
                  </a:lnTo>
                  <a:lnTo>
                    <a:pt x="540" y="986"/>
                  </a:lnTo>
                  <a:lnTo>
                    <a:pt x="537" y="984"/>
                  </a:lnTo>
                  <a:lnTo>
                    <a:pt x="533" y="981"/>
                  </a:lnTo>
                  <a:lnTo>
                    <a:pt x="528" y="979"/>
                  </a:lnTo>
                  <a:lnTo>
                    <a:pt x="524" y="976"/>
                  </a:lnTo>
                  <a:lnTo>
                    <a:pt x="521" y="973"/>
                  </a:lnTo>
                  <a:lnTo>
                    <a:pt x="514" y="967"/>
                  </a:lnTo>
                  <a:lnTo>
                    <a:pt x="506" y="958"/>
                  </a:lnTo>
                  <a:lnTo>
                    <a:pt x="503" y="954"/>
                  </a:lnTo>
                  <a:lnTo>
                    <a:pt x="499" y="950"/>
                  </a:lnTo>
                  <a:lnTo>
                    <a:pt x="496" y="945"/>
                  </a:lnTo>
                  <a:lnTo>
                    <a:pt x="494" y="940"/>
                  </a:lnTo>
                  <a:lnTo>
                    <a:pt x="490" y="934"/>
                  </a:lnTo>
                  <a:lnTo>
                    <a:pt x="488" y="930"/>
                  </a:lnTo>
                  <a:lnTo>
                    <a:pt x="486" y="925"/>
                  </a:lnTo>
                  <a:lnTo>
                    <a:pt x="484" y="919"/>
                  </a:lnTo>
                  <a:lnTo>
                    <a:pt x="481" y="907"/>
                  </a:lnTo>
                  <a:lnTo>
                    <a:pt x="479" y="895"/>
                  </a:lnTo>
                  <a:lnTo>
                    <a:pt x="477" y="882"/>
                  </a:lnTo>
                  <a:lnTo>
                    <a:pt x="477" y="867"/>
                  </a:lnTo>
                  <a:lnTo>
                    <a:pt x="477" y="852"/>
                  </a:lnTo>
                  <a:lnTo>
                    <a:pt x="478" y="835"/>
                  </a:lnTo>
                  <a:lnTo>
                    <a:pt x="480" y="817"/>
                  </a:lnTo>
                  <a:lnTo>
                    <a:pt x="482" y="798"/>
                  </a:lnTo>
                  <a:lnTo>
                    <a:pt x="489" y="754"/>
                  </a:lnTo>
                  <a:lnTo>
                    <a:pt x="499" y="706"/>
                  </a:lnTo>
                  <a:lnTo>
                    <a:pt x="541" y="533"/>
                  </a:lnTo>
                  <a:lnTo>
                    <a:pt x="313" y="533"/>
                  </a:lnTo>
                  <a:lnTo>
                    <a:pt x="224" y="954"/>
                  </a:lnTo>
                  <a:lnTo>
                    <a:pt x="47" y="954"/>
                  </a:lnTo>
                  <a:lnTo>
                    <a:pt x="48" y="944"/>
                  </a:lnTo>
                  <a:lnTo>
                    <a:pt x="49" y="932"/>
                  </a:lnTo>
                  <a:lnTo>
                    <a:pt x="53" y="906"/>
                  </a:lnTo>
                  <a:lnTo>
                    <a:pt x="60" y="874"/>
                  </a:lnTo>
                  <a:lnTo>
                    <a:pt x="68" y="837"/>
                  </a:lnTo>
                  <a:lnTo>
                    <a:pt x="75" y="806"/>
                  </a:lnTo>
                  <a:lnTo>
                    <a:pt x="87" y="758"/>
                  </a:lnTo>
                  <a:lnTo>
                    <a:pt x="118" y="615"/>
                  </a:lnTo>
                  <a:lnTo>
                    <a:pt x="202" y="229"/>
                  </a:lnTo>
                  <a:lnTo>
                    <a:pt x="205" y="216"/>
                  </a:lnTo>
                  <a:lnTo>
                    <a:pt x="207" y="204"/>
                  </a:lnTo>
                  <a:lnTo>
                    <a:pt x="207" y="199"/>
                  </a:lnTo>
                  <a:lnTo>
                    <a:pt x="209" y="194"/>
                  </a:lnTo>
                  <a:lnTo>
                    <a:pt x="209" y="190"/>
                  </a:lnTo>
                  <a:lnTo>
                    <a:pt x="209" y="186"/>
                  </a:lnTo>
                  <a:lnTo>
                    <a:pt x="209" y="176"/>
                  </a:lnTo>
                  <a:lnTo>
                    <a:pt x="206" y="176"/>
                  </a:lnTo>
                  <a:lnTo>
                    <a:pt x="204" y="176"/>
                  </a:lnTo>
                  <a:lnTo>
                    <a:pt x="199" y="179"/>
                  </a:lnTo>
                  <a:lnTo>
                    <a:pt x="194" y="180"/>
                  </a:lnTo>
                  <a:lnTo>
                    <a:pt x="187" y="184"/>
                  </a:lnTo>
                  <a:lnTo>
                    <a:pt x="173" y="193"/>
                  </a:lnTo>
                  <a:lnTo>
                    <a:pt x="156" y="205"/>
                  </a:lnTo>
                  <a:lnTo>
                    <a:pt x="137" y="222"/>
                  </a:lnTo>
                  <a:lnTo>
                    <a:pt x="115" y="241"/>
                  </a:lnTo>
                  <a:lnTo>
                    <a:pt x="64" y="293"/>
                  </a:lnTo>
                  <a:lnTo>
                    <a:pt x="0" y="235"/>
                  </a:lnTo>
                  <a:lnTo>
                    <a:pt x="52" y="180"/>
                  </a:lnTo>
                  <a:lnTo>
                    <a:pt x="101" y="132"/>
                  </a:lnTo>
                  <a:lnTo>
                    <a:pt x="145" y="91"/>
                  </a:lnTo>
                  <a:lnTo>
                    <a:pt x="187" y="59"/>
                  </a:lnTo>
                  <a:lnTo>
                    <a:pt x="226" y="32"/>
                  </a:lnTo>
                  <a:lnTo>
                    <a:pt x="244" y="23"/>
                  </a:lnTo>
                  <a:lnTo>
                    <a:pt x="262" y="14"/>
                  </a:lnTo>
                  <a:lnTo>
                    <a:pt x="278" y="8"/>
                  </a:lnTo>
                  <a:lnTo>
                    <a:pt x="294" y="4"/>
                  </a:lnTo>
                  <a:lnTo>
                    <a:pt x="310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lnTo>
                    <a:pt x="348" y="4"/>
                  </a:lnTo>
                  <a:lnTo>
                    <a:pt x="355" y="6"/>
                  </a:lnTo>
                  <a:lnTo>
                    <a:pt x="362" y="10"/>
                  </a:lnTo>
                  <a:lnTo>
                    <a:pt x="367" y="14"/>
                  </a:lnTo>
                  <a:lnTo>
                    <a:pt x="372" y="19"/>
                  </a:lnTo>
                  <a:lnTo>
                    <a:pt x="377" y="25"/>
                  </a:lnTo>
                  <a:lnTo>
                    <a:pt x="382" y="32"/>
                  </a:lnTo>
                  <a:lnTo>
                    <a:pt x="385" y="40"/>
                  </a:lnTo>
                  <a:lnTo>
                    <a:pt x="388" y="48"/>
                  </a:lnTo>
                  <a:lnTo>
                    <a:pt x="391" y="56"/>
                  </a:lnTo>
                  <a:lnTo>
                    <a:pt x="393" y="66"/>
                  </a:lnTo>
                  <a:lnTo>
                    <a:pt x="394" y="77"/>
                  </a:lnTo>
                  <a:lnTo>
                    <a:pt x="395" y="89"/>
                  </a:lnTo>
                  <a:lnTo>
                    <a:pt x="395" y="101"/>
                  </a:lnTo>
                  <a:lnTo>
                    <a:pt x="394" y="122"/>
                  </a:lnTo>
                  <a:lnTo>
                    <a:pt x="391" y="150"/>
                  </a:lnTo>
                  <a:lnTo>
                    <a:pt x="387" y="182"/>
                  </a:lnTo>
                  <a:lnTo>
                    <a:pt x="381" y="221"/>
                  </a:lnTo>
                  <a:lnTo>
                    <a:pt x="361" y="311"/>
                  </a:lnTo>
                  <a:lnTo>
                    <a:pt x="333" y="422"/>
                  </a:lnTo>
                  <a:lnTo>
                    <a:pt x="562" y="422"/>
                  </a:lnTo>
                  <a:lnTo>
                    <a:pt x="654" y="28"/>
                  </a:lnTo>
                  <a:lnTo>
                    <a:pt x="825" y="28"/>
                  </a:lnTo>
                  <a:lnTo>
                    <a:pt x="734" y="433"/>
                  </a:lnTo>
                  <a:lnTo>
                    <a:pt x="676" y="687"/>
                  </a:lnTo>
                  <a:lnTo>
                    <a:pt x="662" y="762"/>
                  </a:lnTo>
                  <a:lnTo>
                    <a:pt x="657" y="786"/>
                  </a:lnTo>
                  <a:lnTo>
                    <a:pt x="656" y="795"/>
                  </a:lnTo>
                  <a:lnTo>
                    <a:pt x="656" y="801"/>
                  </a:lnTo>
                  <a:lnTo>
                    <a:pt x="656" y="806"/>
                  </a:lnTo>
                  <a:lnTo>
                    <a:pt x="656" y="810"/>
                  </a:lnTo>
                  <a:lnTo>
                    <a:pt x="657" y="812"/>
                  </a:lnTo>
                  <a:lnTo>
                    <a:pt x="657" y="813"/>
                  </a:lnTo>
                  <a:lnTo>
                    <a:pt x="657" y="814"/>
                  </a:lnTo>
                  <a:lnTo>
                    <a:pt x="658" y="817"/>
                  </a:lnTo>
                  <a:lnTo>
                    <a:pt x="658" y="818"/>
                  </a:lnTo>
                  <a:lnTo>
                    <a:pt x="659" y="819"/>
                  </a:lnTo>
                  <a:lnTo>
                    <a:pt x="659" y="819"/>
                  </a:lnTo>
                  <a:lnTo>
                    <a:pt x="660" y="820"/>
                  </a:lnTo>
                  <a:lnTo>
                    <a:pt x="660" y="820"/>
                  </a:lnTo>
                  <a:lnTo>
                    <a:pt x="660" y="820"/>
                  </a:lnTo>
                  <a:lnTo>
                    <a:pt x="662" y="822"/>
                  </a:lnTo>
                  <a:lnTo>
                    <a:pt x="662" y="822"/>
                  </a:lnTo>
                  <a:lnTo>
                    <a:pt x="663" y="822"/>
                  </a:lnTo>
                  <a:lnTo>
                    <a:pt x="663" y="822"/>
                  </a:lnTo>
                  <a:lnTo>
                    <a:pt x="664" y="822"/>
                  </a:lnTo>
                  <a:lnTo>
                    <a:pt x="666" y="822"/>
                  </a:lnTo>
                  <a:lnTo>
                    <a:pt x="667" y="822"/>
                  </a:lnTo>
                  <a:lnTo>
                    <a:pt x="672" y="819"/>
                  </a:lnTo>
                  <a:lnTo>
                    <a:pt x="677" y="817"/>
                  </a:lnTo>
                  <a:lnTo>
                    <a:pt x="683" y="813"/>
                  </a:lnTo>
                  <a:lnTo>
                    <a:pt x="697" y="801"/>
                  </a:lnTo>
                  <a:lnTo>
                    <a:pt x="716" y="786"/>
                  </a:lnTo>
                  <a:lnTo>
                    <a:pt x="762" y="741"/>
                  </a:lnTo>
                  <a:lnTo>
                    <a:pt x="822" y="679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08440" y="1422360"/>
              <a:ext cx="339840" cy="349200"/>
            </a:xfrm>
            <a:custGeom>
              <a:avLst/>
              <a:gdLst/>
              <a:ahLst/>
              <a:rect l="l" t="t" r="r" b="b"/>
              <a:pathLst>
                <a:path w="945" h="969">
                  <a:moveTo>
                    <a:pt x="81" y="668"/>
                  </a:moveTo>
                  <a:lnTo>
                    <a:pt x="105" y="757"/>
                  </a:lnTo>
                  <a:lnTo>
                    <a:pt x="113" y="783"/>
                  </a:lnTo>
                  <a:lnTo>
                    <a:pt x="115" y="792"/>
                  </a:lnTo>
                  <a:lnTo>
                    <a:pt x="117" y="796"/>
                  </a:lnTo>
                  <a:lnTo>
                    <a:pt x="118" y="798"/>
                  </a:lnTo>
                  <a:lnTo>
                    <a:pt x="119" y="800"/>
                  </a:lnTo>
                  <a:lnTo>
                    <a:pt x="120" y="801"/>
                  </a:lnTo>
                  <a:lnTo>
                    <a:pt x="121" y="802"/>
                  </a:lnTo>
                  <a:lnTo>
                    <a:pt x="123" y="804"/>
                  </a:lnTo>
                  <a:lnTo>
                    <a:pt x="124" y="805"/>
                  </a:lnTo>
                  <a:lnTo>
                    <a:pt x="126" y="806"/>
                  </a:lnTo>
                  <a:lnTo>
                    <a:pt x="127" y="807"/>
                  </a:lnTo>
                  <a:lnTo>
                    <a:pt x="128" y="808"/>
                  </a:lnTo>
                  <a:lnTo>
                    <a:pt x="129" y="808"/>
                  </a:lnTo>
                  <a:lnTo>
                    <a:pt x="131" y="810"/>
                  </a:lnTo>
                  <a:lnTo>
                    <a:pt x="132" y="810"/>
                  </a:lnTo>
                  <a:lnTo>
                    <a:pt x="134" y="811"/>
                  </a:lnTo>
                  <a:lnTo>
                    <a:pt x="135" y="811"/>
                  </a:lnTo>
                  <a:lnTo>
                    <a:pt x="137" y="811"/>
                  </a:lnTo>
                  <a:lnTo>
                    <a:pt x="138" y="811"/>
                  </a:lnTo>
                  <a:lnTo>
                    <a:pt x="143" y="811"/>
                  </a:lnTo>
                  <a:lnTo>
                    <a:pt x="147" y="810"/>
                  </a:lnTo>
                  <a:lnTo>
                    <a:pt x="151" y="807"/>
                  </a:lnTo>
                  <a:lnTo>
                    <a:pt x="156" y="805"/>
                  </a:lnTo>
                  <a:lnTo>
                    <a:pt x="161" y="801"/>
                  </a:lnTo>
                  <a:lnTo>
                    <a:pt x="166" y="796"/>
                  </a:lnTo>
                  <a:lnTo>
                    <a:pt x="171" y="792"/>
                  </a:lnTo>
                  <a:lnTo>
                    <a:pt x="176" y="786"/>
                  </a:lnTo>
                  <a:lnTo>
                    <a:pt x="188" y="771"/>
                  </a:lnTo>
                  <a:lnTo>
                    <a:pt x="200" y="754"/>
                  </a:lnTo>
                  <a:lnTo>
                    <a:pt x="212" y="734"/>
                  </a:lnTo>
                  <a:lnTo>
                    <a:pt x="225" y="710"/>
                  </a:lnTo>
                  <a:lnTo>
                    <a:pt x="255" y="656"/>
                  </a:lnTo>
                  <a:lnTo>
                    <a:pt x="269" y="633"/>
                  </a:lnTo>
                  <a:lnTo>
                    <a:pt x="283" y="612"/>
                  </a:lnTo>
                  <a:lnTo>
                    <a:pt x="296" y="593"/>
                  </a:lnTo>
                  <a:lnTo>
                    <a:pt x="308" y="577"/>
                  </a:lnTo>
                  <a:lnTo>
                    <a:pt x="321" y="563"/>
                  </a:lnTo>
                  <a:lnTo>
                    <a:pt x="333" y="551"/>
                  </a:lnTo>
                  <a:lnTo>
                    <a:pt x="345" y="540"/>
                  </a:lnTo>
                  <a:lnTo>
                    <a:pt x="359" y="530"/>
                  </a:lnTo>
                  <a:lnTo>
                    <a:pt x="375" y="521"/>
                  </a:lnTo>
                  <a:lnTo>
                    <a:pt x="391" y="512"/>
                  </a:lnTo>
                  <a:lnTo>
                    <a:pt x="409" y="504"/>
                  </a:lnTo>
                  <a:lnTo>
                    <a:pt x="429" y="495"/>
                  </a:lnTo>
                  <a:lnTo>
                    <a:pt x="449" y="488"/>
                  </a:lnTo>
                  <a:lnTo>
                    <a:pt x="471" y="482"/>
                  </a:lnTo>
                  <a:lnTo>
                    <a:pt x="471" y="507"/>
                  </a:lnTo>
                  <a:lnTo>
                    <a:pt x="467" y="507"/>
                  </a:lnTo>
                  <a:lnTo>
                    <a:pt x="436" y="506"/>
                  </a:lnTo>
                  <a:lnTo>
                    <a:pt x="407" y="504"/>
                  </a:lnTo>
                  <a:lnTo>
                    <a:pt x="379" y="499"/>
                  </a:lnTo>
                  <a:lnTo>
                    <a:pt x="354" y="493"/>
                  </a:lnTo>
                  <a:lnTo>
                    <a:pt x="331" y="485"/>
                  </a:lnTo>
                  <a:lnTo>
                    <a:pt x="309" y="475"/>
                  </a:lnTo>
                  <a:lnTo>
                    <a:pt x="299" y="469"/>
                  </a:lnTo>
                  <a:lnTo>
                    <a:pt x="289" y="463"/>
                  </a:lnTo>
                  <a:lnTo>
                    <a:pt x="280" y="456"/>
                  </a:lnTo>
                  <a:lnTo>
                    <a:pt x="271" y="449"/>
                  </a:lnTo>
                  <a:lnTo>
                    <a:pt x="256" y="434"/>
                  </a:lnTo>
                  <a:lnTo>
                    <a:pt x="249" y="426"/>
                  </a:lnTo>
                  <a:lnTo>
                    <a:pt x="242" y="417"/>
                  </a:lnTo>
                  <a:lnTo>
                    <a:pt x="237" y="409"/>
                  </a:lnTo>
                  <a:lnTo>
                    <a:pt x="231" y="401"/>
                  </a:lnTo>
                  <a:lnTo>
                    <a:pt x="226" y="392"/>
                  </a:lnTo>
                  <a:lnTo>
                    <a:pt x="222" y="383"/>
                  </a:lnTo>
                  <a:lnTo>
                    <a:pt x="218" y="373"/>
                  </a:lnTo>
                  <a:lnTo>
                    <a:pt x="214" y="363"/>
                  </a:lnTo>
                  <a:lnTo>
                    <a:pt x="211" y="354"/>
                  </a:lnTo>
                  <a:lnTo>
                    <a:pt x="209" y="344"/>
                  </a:lnTo>
                  <a:lnTo>
                    <a:pt x="207" y="333"/>
                  </a:lnTo>
                  <a:lnTo>
                    <a:pt x="206" y="323"/>
                  </a:lnTo>
                  <a:lnTo>
                    <a:pt x="205" y="312"/>
                  </a:lnTo>
                  <a:lnTo>
                    <a:pt x="205" y="301"/>
                  </a:lnTo>
                  <a:lnTo>
                    <a:pt x="206" y="284"/>
                  </a:lnTo>
                  <a:lnTo>
                    <a:pt x="207" y="269"/>
                  </a:lnTo>
                  <a:lnTo>
                    <a:pt x="210" y="253"/>
                  </a:lnTo>
                  <a:lnTo>
                    <a:pt x="213" y="238"/>
                  </a:lnTo>
                  <a:lnTo>
                    <a:pt x="219" y="222"/>
                  </a:lnTo>
                  <a:lnTo>
                    <a:pt x="225" y="208"/>
                  </a:lnTo>
                  <a:lnTo>
                    <a:pt x="231" y="194"/>
                  </a:lnTo>
                  <a:lnTo>
                    <a:pt x="240" y="180"/>
                  </a:lnTo>
                  <a:lnTo>
                    <a:pt x="249" y="167"/>
                  </a:lnTo>
                  <a:lnTo>
                    <a:pt x="260" y="154"/>
                  </a:lnTo>
                  <a:lnTo>
                    <a:pt x="270" y="140"/>
                  </a:lnTo>
                  <a:lnTo>
                    <a:pt x="283" y="128"/>
                  </a:lnTo>
                  <a:lnTo>
                    <a:pt x="297" y="116"/>
                  </a:lnTo>
                  <a:lnTo>
                    <a:pt x="312" y="106"/>
                  </a:lnTo>
                  <a:lnTo>
                    <a:pt x="344" y="84"/>
                  </a:lnTo>
                  <a:lnTo>
                    <a:pt x="380" y="64"/>
                  </a:lnTo>
                  <a:lnTo>
                    <a:pt x="418" y="47"/>
                  </a:lnTo>
                  <a:lnTo>
                    <a:pt x="458" y="32"/>
                  </a:lnTo>
                  <a:lnTo>
                    <a:pt x="502" y="20"/>
                  </a:lnTo>
                  <a:lnTo>
                    <a:pt x="546" y="12"/>
                  </a:lnTo>
                  <a:lnTo>
                    <a:pt x="592" y="5"/>
                  </a:lnTo>
                  <a:lnTo>
                    <a:pt x="642" y="1"/>
                  </a:lnTo>
                  <a:lnTo>
                    <a:pt x="693" y="0"/>
                  </a:lnTo>
                  <a:lnTo>
                    <a:pt x="897" y="5"/>
                  </a:lnTo>
                  <a:lnTo>
                    <a:pt x="806" y="409"/>
                  </a:lnTo>
                  <a:lnTo>
                    <a:pt x="748" y="663"/>
                  </a:lnTo>
                  <a:lnTo>
                    <a:pt x="734" y="738"/>
                  </a:lnTo>
                  <a:lnTo>
                    <a:pt x="730" y="762"/>
                  </a:lnTo>
                  <a:lnTo>
                    <a:pt x="729" y="771"/>
                  </a:lnTo>
                  <a:lnTo>
                    <a:pt x="729" y="777"/>
                  </a:lnTo>
                  <a:lnTo>
                    <a:pt x="729" y="782"/>
                  </a:lnTo>
                  <a:lnTo>
                    <a:pt x="729" y="786"/>
                  </a:lnTo>
                  <a:lnTo>
                    <a:pt x="730" y="789"/>
                  </a:lnTo>
                  <a:lnTo>
                    <a:pt x="730" y="790"/>
                  </a:lnTo>
                  <a:lnTo>
                    <a:pt x="731" y="793"/>
                  </a:lnTo>
                  <a:lnTo>
                    <a:pt x="731" y="794"/>
                  </a:lnTo>
                  <a:lnTo>
                    <a:pt x="731" y="795"/>
                  </a:lnTo>
                  <a:lnTo>
                    <a:pt x="732" y="795"/>
                  </a:lnTo>
                  <a:lnTo>
                    <a:pt x="732" y="796"/>
                  </a:lnTo>
                  <a:lnTo>
                    <a:pt x="733" y="796"/>
                  </a:lnTo>
                  <a:lnTo>
                    <a:pt x="733" y="796"/>
                  </a:lnTo>
                  <a:lnTo>
                    <a:pt x="733" y="798"/>
                  </a:lnTo>
                  <a:lnTo>
                    <a:pt x="734" y="798"/>
                  </a:lnTo>
                  <a:lnTo>
                    <a:pt x="734" y="798"/>
                  </a:lnTo>
                  <a:lnTo>
                    <a:pt x="734" y="798"/>
                  </a:lnTo>
                  <a:lnTo>
                    <a:pt x="735" y="798"/>
                  </a:lnTo>
                  <a:lnTo>
                    <a:pt x="735" y="798"/>
                  </a:lnTo>
                  <a:lnTo>
                    <a:pt x="737" y="798"/>
                  </a:lnTo>
                  <a:lnTo>
                    <a:pt x="738" y="798"/>
                  </a:lnTo>
                  <a:lnTo>
                    <a:pt x="743" y="795"/>
                  </a:lnTo>
                  <a:lnTo>
                    <a:pt x="749" y="793"/>
                  </a:lnTo>
                  <a:lnTo>
                    <a:pt x="754" y="789"/>
                  </a:lnTo>
                  <a:lnTo>
                    <a:pt x="769" y="777"/>
                  </a:lnTo>
                  <a:lnTo>
                    <a:pt x="788" y="763"/>
                  </a:lnTo>
                  <a:lnTo>
                    <a:pt x="833" y="718"/>
                  </a:lnTo>
                  <a:lnTo>
                    <a:pt x="893" y="656"/>
                  </a:lnTo>
                  <a:lnTo>
                    <a:pt x="944" y="720"/>
                  </a:lnTo>
                  <a:lnTo>
                    <a:pt x="896" y="778"/>
                  </a:lnTo>
                  <a:lnTo>
                    <a:pt x="849" y="829"/>
                  </a:lnTo>
                  <a:lnTo>
                    <a:pt x="807" y="871"/>
                  </a:lnTo>
                  <a:lnTo>
                    <a:pt x="768" y="906"/>
                  </a:lnTo>
                  <a:lnTo>
                    <a:pt x="732" y="933"/>
                  </a:lnTo>
                  <a:lnTo>
                    <a:pt x="715" y="944"/>
                  </a:lnTo>
                  <a:lnTo>
                    <a:pt x="699" y="952"/>
                  </a:lnTo>
                  <a:lnTo>
                    <a:pt x="683" y="960"/>
                  </a:lnTo>
                  <a:lnTo>
                    <a:pt x="670" y="964"/>
                  </a:lnTo>
                  <a:lnTo>
                    <a:pt x="656" y="967"/>
                  </a:lnTo>
                  <a:lnTo>
                    <a:pt x="643" y="968"/>
                  </a:lnTo>
                  <a:lnTo>
                    <a:pt x="633" y="968"/>
                  </a:lnTo>
                  <a:lnTo>
                    <a:pt x="628" y="967"/>
                  </a:lnTo>
                  <a:lnTo>
                    <a:pt x="623" y="966"/>
                  </a:lnTo>
                  <a:lnTo>
                    <a:pt x="619" y="964"/>
                  </a:lnTo>
                  <a:lnTo>
                    <a:pt x="614" y="963"/>
                  </a:lnTo>
                  <a:lnTo>
                    <a:pt x="609" y="961"/>
                  </a:lnTo>
                  <a:lnTo>
                    <a:pt x="605" y="960"/>
                  </a:lnTo>
                  <a:lnTo>
                    <a:pt x="601" y="957"/>
                  </a:lnTo>
                  <a:lnTo>
                    <a:pt x="597" y="954"/>
                  </a:lnTo>
                  <a:lnTo>
                    <a:pt x="592" y="951"/>
                  </a:lnTo>
                  <a:lnTo>
                    <a:pt x="589" y="948"/>
                  </a:lnTo>
                  <a:lnTo>
                    <a:pt x="585" y="944"/>
                  </a:lnTo>
                  <a:lnTo>
                    <a:pt x="582" y="940"/>
                  </a:lnTo>
                  <a:lnTo>
                    <a:pt x="578" y="937"/>
                  </a:lnTo>
                  <a:lnTo>
                    <a:pt x="575" y="932"/>
                  </a:lnTo>
                  <a:lnTo>
                    <a:pt x="571" y="927"/>
                  </a:lnTo>
                  <a:lnTo>
                    <a:pt x="568" y="922"/>
                  </a:lnTo>
                  <a:lnTo>
                    <a:pt x="563" y="912"/>
                  </a:lnTo>
                  <a:lnTo>
                    <a:pt x="559" y="901"/>
                  </a:lnTo>
                  <a:lnTo>
                    <a:pt x="555" y="888"/>
                  </a:lnTo>
                  <a:lnTo>
                    <a:pt x="552" y="874"/>
                  </a:lnTo>
                  <a:lnTo>
                    <a:pt x="550" y="860"/>
                  </a:lnTo>
                  <a:lnTo>
                    <a:pt x="548" y="844"/>
                  </a:lnTo>
                  <a:lnTo>
                    <a:pt x="548" y="829"/>
                  </a:lnTo>
                  <a:lnTo>
                    <a:pt x="548" y="813"/>
                  </a:lnTo>
                  <a:lnTo>
                    <a:pt x="549" y="798"/>
                  </a:lnTo>
                  <a:lnTo>
                    <a:pt x="551" y="781"/>
                  </a:lnTo>
                  <a:lnTo>
                    <a:pt x="553" y="763"/>
                  </a:lnTo>
                  <a:lnTo>
                    <a:pt x="555" y="745"/>
                  </a:lnTo>
                  <a:lnTo>
                    <a:pt x="560" y="726"/>
                  </a:lnTo>
                  <a:lnTo>
                    <a:pt x="568" y="686"/>
                  </a:lnTo>
                  <a:lnTo>
                    <a:pt x="611" y="527"/>
                  </a:lnTo>
                  <a:lnTo>
                    <a:pt x="599" y="528"/>
                  </a:lnTo>
                  <a:lnTo>
                    <a:pt x="592" y="528"/>
                  </a:lnTo>
                  <a:lnTo>
                    <a:pt x="586" y="529"/>
                  </a:lnTo>
                  <a:lnTo>
                    <a:pt x="580" y="531"/>
                  </a:lnTo>
                  <a:lnTo>
                    <a:pt x="573" y="534"/>
                  </a:lnTo>
                  <a:lnTo>
                    <a:pt x="561" y="539"/>
                  </a:lnTo>
                  <a:lnTo>
                    <a:pt x="548" y="545"/>
                  </a:lnTo>
                  <a:lnTo>
                    <a:pt x="536" y="553"/>
                  </a:lnTo>
                  <a:lnTo>
                    <a:pt x="525" y="564"/>
                  </a:lnTo>
                  <a:lnTo>
                    <a:pt x="513" y="575"/>
                  </a:lnTo>
                  <a:lnTo>
                    <a:pt x="502" y="588"/>
                  </a:lnTo>
                  <a:lnTo>
                    <a:pt x="488" y="605"/>
                  </a:lnTo>
                  <a:lnTo>
                    <a:pt x="474" y="625"/>
                  </a:lnTo>
                  <a:lnTo>
                    <a:pt x="459" y="649"/>
                  </a:lnTo>
                  <a:lnTo>
                    <a:pt x="427" y="706"/>
                  </a:lnTo>
                  <a:lnTo>
                    <a:pt x="391" y="777"/>
                  </a:lnTo>
                  <a:lnTo>
                    <a:pt x="366" y="822"/>
                  </a:lnTo>
                  <a:lnTo>
                    <a:pt x="341" y="861"/>
                  </a:lnTo>
                  <a:lnTo>
                    <a:pt x="327" y="878"/>
                  </a:lnTo>
                  <a:lnTo>
                    <a:pt x="315" y="894"/>
                  </a:lnTo>
                  <a:lnTo>
                    <a:pt x="301" y="908"/>
                  </a:lnTo>
                  <a:lnTo>
                    <a:pt x="287" y="920"/>
                  </a:lnTo>
                  <a:lnTo>
                    <a:pt x="274" y="932"/>
                  </a:lnTo>
                  <a:lnTo>
                    <a:pt x="260" y="942"/>
                  </a:lnTo>
                  <a:lnTo>
                    <a:pt x="245" y="949"/>
                  </a:lnTo>
                  <a:lnTo>
                    <a:pt x="230" y="956"/>
                  </a:lnTo>
                  <a:lnTo>
                    <a:pt x="215" y="961"/>
                  </a:lnTo>
                  <a:lnTo>
                    <a:pt x="201" y="966"/>
                  </a:lnTo>
                  <a:lnTo>
                    <a:pt x="186" y="967"/>
                  </a:lnTo>
                  <a:lnTo>
                    <a:pt x="170" y="968"/>
                  </a:lnTo>
                  <a:lnTo>
                    <a:pt x="157" y="967"/>
                  </a:lnTo>
                  <a:lnTo>
                    <a:pt x="145" y="966"/>
                  </a:lnTo>
                  <a:lnTo>
                    <a:pt x="133" y="962"/>
                  </a:lnTo>
                  <a:lnTo>
                    <a:pt x="120" y="958"/>
                  </a:lnTo>
                  <a:lnTo>
                    <a:pt x="110" y="952"/>
                  </a:lnTo>
                  <a:lnTo>
                    <a:pt x="98" y="945"/>
                  </a:lnTo>
                  <a:lnTo>
                    <a:pt x="88" y="938"/>
                  </a:lnTo>
                  <a:lnTo>
                    <a:pt x="77" y="928"/>
                  </a:lnTo>
                  <a:lnTo>
                    <a:pt x="72" y="922"/>
                  </a:lnTo>
                  <a:lnTo>
                    <a:pt x="68" y="916"/>
                  </a:lnTo>
                  <a:lnTo>
                    <a:pt x="62" y="908"/>
                  </a:lnTo>
                  <a:lnTo>
                    <a:pt x="57" y="898"/>
                  </a:lnTo>
                  <a:lnTo>
                    <a:pt x="48" y="877"/>
                  </a:lnTo>
                  <a:lnTo>
                    <a:pt x="38" y="850"/>
                  </a:lnTo>
                  <a:lnTo>
                    <a:pt x="29" y="819"/>
                  </a:lnTo>
                  <a:lnTo>
                    <a:pt x="19" y="782"/>
                  </a:lnTo>
                  <a:lnTo>
                    <a:pt x="0" y="696"/>
                  </a:lnTo>
                  <a:close/>
                  <a:moveTo>
                    <a:pt x="701" y="136"/>
                  </a:moveTo>
                  <a:lnTo>
                    <a:pt x="691" y="133"/>
                  </a:lnTo>
                  <a:lnTo>
                    <a:pt x="679" y="130"/>
                  </a:lnTo>
                  <a:lnTo>
                    <a:pt x="667" y="128"/>
                  </a:lnTo>
                  <a:lnTo>
                    <a:pt x="655" y="126"/>
                  </a:lnTo>
                  <a:lnTo>
                    <a:pt x="626" y="125"/>
                  </a:lnTo>
                  <a:lnTo>
                    <a:pt x="595" y="124"/>
                  </a:lnTo>
                  <a:lnTo>
                    <a:pt x="577" y="125"/>
                  </a:lnTo>
                  <a:lnTo>
                    <a:pt x="559" y="126"/>
                  </a:lnTo>
                  <a:lnTo>
                    <a:pt x="541" y="131"/>
                  </a:lnTo>
                  <a:lnTo>
                    <a:pt x="524" y="136"/>
                  </a:lnTo>
                  <a:lnTo>
                    <a:pt x="508" y="142"/>
                  </a:lnTo>
                  <a:lnTo>
                    <a:pt x="492" y="150"/>
                  </a:lnTo>
                  <a:lnTo>
                    <a:pt x="476" y="161"/>
                  </a:lnTo>
                  <a:lnTo>
                    <a:pt x="462" y="172"/>
                  </a:lnTo>
                  <a:lnTo>
                    <a:pt x="448" y="184"/>
                  </a:lnTo>
                  <a:lnTo>
                    <a:pt x="441" y="191"/>
                  </a:lnTo>
                  <a:lnTo>
                    <a:pt x="436" y="198"/>
                  </a:lnTo>
                  <a:lnTo>
                    <a:pt x="431" y="205"/>
                  </a:lnTo>
                  <a:lnTo>
                    <a:pt x="426" y="212"/>
                  </a:lnTo>
                  <a:lnTo>
                    <a:pt x="421" y="220"/>
                  </a:lnTo>
                  <a:lnTo>
                    <a:pt x="417" y="227"/>
                  </a:lnTo>
                  <a:lnTo>
                    <a:pt x="414" y="235"/>
                  </a:lnTo>
                  <a:lnTo>
                    <a:pt x="411" y="244"/>
                  </a:lnTo>
                  <a:lnTo>
                    <a:pt x="409" y="252"/>
                  </a:lnTo>
                  <a:lnTo>
                    <a:pt x="407" y="260"/>
                  </a:lnTo>
                  <a:lnTo>
                    <a:pt x="404" y="269"/>
                  </a:lnTo>
                  <a:lnTo>
                    <a:pt x="403" y="278"/>
                  </a:lnTo>
                  <a:lnTo>
                    <a:pt x="402" y="287"/>
                  </a:lnTo>
                  <a:lnTo>
                    <a:pt x="402" y="296"/>
                  </a:lnTo>
                  <a:lnTo>
                    <a:pt x="403" y="312"/>
                  </a:lnTo>
                  <a:lnTo>
                    <a:pt x="404" y="326"/>
                  </a:lnTo>
                  <a:lnTo>
                    <a:pt x="408" y="339"/>
                  </a:lnTo>
                  <a:lnTo>
                    <a:pt x="412" y="353"/>
                  </a:lnTo>
                  <a:lnTo>
                    <a:pt x="418" y="363"/>
                  </a:lnTo>
                  <a:lnTo>
                    <a:pt x="425" y="374"/>
                  </a:lnTo>
                  <a:lnTo>
                    <a:pt x="433" y="384"/>
                  </a:lnTo>
                  <a:lnTo>
                    <a:pt x="441" y="392"/>
                  </a:lnTo>
                  <a:lnTo>
                    <a:pt x="452" y="399"/>
                  </a:lnTo>
                  <a:lnTo>
                    <a:pt x="464" y="407"/>
                  </a:lnTo>
                  <a:lnTo>
                    <a:pt x="477" y="411"/>
                  </a:lnTo>
                  <a:lnTo>
                    <a:pt x="491" y="416"/>
                  </a:lnTo>
                  <a:lnTo>
                    <a:pt x="506" y="420"/>
                  </a:lnTo>
                  <a:lnTo>
                    <a:pt x="523" y="422"/>
                  </a:lnTo>
                  <a:lnTo>
                    <a:pt x="541" y="425"/>
                  </a:lnTo>
                  <a:lnTo>
                    <a:pt x="560" y="425"/>
                  </a:lnTo>
                  <a:lnTo>
                    <a:pt x="575" y="425"/>
                  </a:lnTo>
                  <a:lnTo>
                    <a:pt x="592" y="423"/>
                  </a:lnTo>
                  <a:lnTo>
                    <a:pt x="630" y="419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64120" y="1414440"/>
              <a:ext cx="415800" cy="353880"/>
            </a:xfrm>
            <a:custGeom>
              <a:avLst/>
              <a:gdLst/>
              <a:ahLst/>
              <a:rect l="l" t="t" r="r" b="b"/>
              <a:pathLst>
                <a:path w="1154" h="984">
                  <a:moveTo>
                    <a:pt x="442" y="534"/>
                  </a:moveTo>
                  <a:lnTo>
                    <a:pt x="313" y="534"/>
                  </a:lnTo>
                  <a:lnTo>
                    <a:pt x="224" y="955"/>
                  </a:lnTo>
                  <a:lnTo>
                    <a:pt x="47" y="955"/>
                  </a:lnTo>
                  <a:lnTo>
                    <a:pt x="48" y="945"/>
                  </a:lnTo>
                  <a:lnTo>
                    <a:pt x="49" y="933"/>
                  </a:lnTo>
                  <a:lnTo>
                    <a:pt x="53" y="907"/>
                  </a:lnTo>
                  <a:lnTo>
                    <a:pt x="60" y="875"/>
                  </a:lnTo>
                  <a:lnTo>
                    <a:pt x="68" y="838"/>
                  </a:lnTo>
                  <a:lnTo>
                    <a:pt x="75" y="807"/>
                  </a:lnTo>
                  <a:lnTo>
                    <a:pt x="87" y="759"/>
                  </a:lnTo>
                  <a:lnTo>
                    <a:pt x="118" y="616"/>
                  </a:lnTo>
                  <a:lnTo>
                    <a:pt x="202" y="230"/>
                  </a:lnTo>
                  <a:lnTo>
                    <a:pt x="205" y="217"/>
                  </a:lnTo>
                  <a:lnTo>
                    <a:pt x="207" y="205"/>
                  </a:lnTo>
                  <a:lnTo>
                    <a:pt x="207" y="200"/>
                  </a:lnTo>
                  <a:lnTo>
                    <a:pt x="208" y="195"/>
                  </a:lnTo>
                  <a:lnTo>
                    <a:pt x="208" y="191"/>
                  </a:lnTo>
                  <a:lnTo>
                    <a:pt x="208" y="187"/>
                  </a:lnTo>
                  <a:lnTo>
                    <a:pt x="208" y="177"/>
                  </a:lnTo>
                  <a:lnTo>
                    <a:pt x="206" y="177"/>
                  </a:lnTo>
                  <a:lnTo>
                    <a:pt x="204" y="177"/>
                  </a:lnTo>
                  <a:lnTo>
                    <a:pt x="199" y="180"/>
                  </a:lnTo>
                  <a:lnTo>
                    <a:pt x="194" y="181"/>
                  </a:lnTo>
                  <a:lnTo>
                    <a:pt x="187" y="185"/>
                  </a:lnTo>
                  <a:lnTo>
                    <a:pt x="173" y="194"/>
                  </a:lnTo>
                  <a:lnTo>
                    <a:pt x="156" y="206"/>
                  </a:lnTo>
                  <a:lnTo>
                    <a:pt x="137" y="223"/>
                  </a:lnTo>
                  <a:lnTo>
                    <a:pt x="114" y="242"/>
                  </a:lnTo>
                  <a:lnTo>
                    <a:pt x="64" y="294"/>
                  </a:lnTo>
                  <a:lnTo>
                    <a:pt x="0" y="236"/>
                  </a:lnTo>
                  <a:lnTo>
                    <a:pt x="52" y="181"/>
                  </a:lnTo>
                  <a:lnTo>
                    <a:pt x="101" y="133"/>
                  </a:lnTo>
                  <a:lnTo>
                    <a:pt x="145" y="92"/>
                  </a:lnTo>
                  <a:lnTo>
                    <a:pt x="187" y="60"/>
                  </a:lnTo>
                  <a:lnTo>
                    <a:pt x="226" y="33"/>
                  </a:lnTo>
                  <a:lnTo>
                    <a:pt x="244" y="24"/>
                  </a:lnTo>
                  <a:lnTo>
                    <a:pt x="262" y="15"/>
                  </a:lnTo>
                  <a:lnTo>
                    <a:pt x="278" y="9"/>
                  </a:lnTo>
                  <a:lnTo>
                    <a:pt x="294" y="5"/>
                  </a:lnTo>
                  <a:lnTo>
                    <a:pt x="310" y="2"/>
                  </a:lnTo>
                  <a:lnTo>
                    <a:pt x="324" y="1"/>
                  </a:lnTo>
                  <a:lnTo>
                    <a:pt x="332" y="1"/>
                  </a:lnTo>
                  <a:lnTo>
                    <a:pt x="340" y="2"/>
                  </a:lnTo>
                  <a:lnTo>
                    <a:pt x="348" y="5"/>
                  </a:lnTo>
                  <a:lnTo>
                    <a:pt x="355" y="7"/>
                  </a:lnTo>
                  <a:lnTo>
                    <a:pt x="362" y="11"/>
                  </a:lnTo>
                  <a:lnTo>
                    <a:pt x="367" y="15"/>
                  </a:lnTo>
                  <a:lnTo>
                    <a:pt x="372" y="20"/>
                  </a:lnTo>
                  <a:lnTo>
                    <a:pt x="377" y="26"/>
                  </a:lnTo>
                  <a:lnTo>
                    <a:pt x="382" y="33"/>
                  </a:lnTo>
                  <a:lnTo>
                    <a:pt x="385" y="41"/>
                  </a:lnTo>
                  <a:lnTo>
                    <a:pt x="388" y="49"/>
                  </a:lnTo>
                  <a:lnTo>
                    <a:pt x="391" y="57"/>
                  </a:lnTo>
                  <a:lnTo>
                    <a:pt x="393" y="67"/>
                  </a:lnTo>
                  <a:lnTo>
                    <a:pt x="394" y="78"/>
                  </a:lnTo>
                  <a:lnTo>
                    <a:pt x="395" y="90"/>
                  </a:lnTo>
                  <a:lnTo>
                    <a:pt x="395" y="102"/>
                  </a:lnTo>
                  <a:lnTo>
                    <a:pt x="394" y="123"/>
                  </a:lnTo>
                  <a:lnTo>
                    <a:pt x="391" y="151"/>
                  </a:lnTo>
                  <a:lnTo>
                    <a:pt x="387" y="183"/>
                  </a:lnTo>
                  <a:lnTo>
                    <a:pt x="381" y="222"/>
                  </a:lnTo>
                  <a:lnTo>
                    <a:pt x="361" y="312"/>
                  </a:lnTo>
                  <a:lnTo>
                    <a:pt x="333" y="423"/>
                  </a:lnTo>
                  <a:lnTo>
                    <a:pt x="464" y="423"/>
                  </a:lnTo>
                  <a:lnTo>
                    <a:pt x="479" y="378"/>
                  </a:lnTo>
                  <a:lnTo>
                    <a:pt x="497" y="334"/>
                  </a:lnTo>
                  <a:lnTo>
                    <a:pt x="516" y="294"/>
                  </a:lnTo>
                  <a:lnTo>
                    <a:pt x="538" y="254"/>
                  </a:lnTo>
                  <a:lnTo>
                    <a:pt x="561" y="217"/>
                  </a:lnTo>
                  <a:lnTo>
                    <a:pt x="587" y="182"/>
                  </a:lnTo>
                  <a:lnTo>
                    <a:pt x="615" y="150"/>
                  </a:lnTo>
                  <a:lnTo>
                    <a:pt x="645" y="119"/>
                  </a:lnTo>
                  <a:lnTo>
                    <a:pt x="675" y="91"/>
                  </a:lnTo>
                  <a:lnTo>
                    <a:pt x="707" y="67"/>
                  </a:lnTo>
                  <a:lnTo>
                    <a:pt x="739" y="47"/>
                  </a:lnTo>
                  <a:lnTo>
                    <a:pt x="770" y="30"/>
                  </a:lnTo>
                  <a:lnTo>
                    <a:pt x="803" y="17"/>
                  </a:lnTo>
                  <a:lnTo>
                    <a:pt x="837" y="7"/>
                  </a:lnTo>
                  <a:lnTo>
                    <a:pt x="871" y="2"/>
                  </a:lnTo>
                  <a:lnTo>
                    <a:pt x="904" y="0"/>
                  </a:lnTo>
                  <a:lnTo>
                    <a:pt x="934" y="1"/>
                  </a:lnTo>
                  <a:lnTo>
                    <a:pt x="948" y="3"/>
                  </a:lnTo>
                  <a:lnTo>
                    <a:pt x="961" y="6"/>
                  </a:lnTo>
                  <a:lnTo>
                    <a:pt x="975" y="9"/>
                  </a:lnTo>
                  <a:lnTo>
                    <a:pt x="988" y="13"/>
                  </a:lnTo>
                  <a:lnTo>
                    <a:pt x="1000" y="19"/>
                  </a:lnTo>
                  <a:lnTo>
                    <a:pt x="1012" y="24"/>
                  </a:lnTo>
                  <a:lnTo>
                    <a:pt x="1023" y="31"/>
                  </a:lnTo>
                  <a:lnTo>
                    <a:pt x="1034" y="38"/>
                  </a:lnTo>
                  <a:lnTo>
                    <a:pt x="1045" y="47"/>
                  </a:lnTo>
                  <a:lnTo>
                    <a:pt x="1054" y="55"/>
                  </a:lnTo>
                  <a:lnTo>
                    <a:pt x="1064" y="65"/>
                  </a:lnTo>
                  <a:lnTo>
                    <a:pt x="1072" y="75"/>
                  </a:lnTo>
                  <a:lnTo>
                    <a:pt x="1081" y="86"/>
                  </a:lnTo>
                  <a:lnTo>
                    <a:pt x="1089" y="98"/>
                  </a:lnTo>
                  <a:lnTo>
                    <a:pt x="1104" y="123"/>
                  </a:lnTo>
                  <a:lnTo>
                    <a:pt x="1117" y="150"/>
                  </a:lnTo>
                  <a:lnTo>
                    <a:pt x="1128" y="177"/>
                  </a:lnTo>
                  <a:lnTo>
                    <a:pt x="1137" y="207"/>
                  </a:lnTo>
                  <a:lnTo>
                    <a:pt x="1144" y="237"/>
                  </a:lnTo>
                  <a:lnTo>
                    <a:pt x="1148" y="270"/>
                  </a:lnTo>
                  <a:lnTo>
                    <a:pt x="1151" y="303"/>
                  </a:lnTo>
                  <a:lnTo>
                    <a:pt x="1153" y="338"/>
                  </a:lnTo>
                  <a:lnTo>
                    <a:pt x="1150" y="397"/>
                  </a:lnTo>
                  <a:lnTo>
                    <a:pt x="1143" y="456"/>
                  </a:lnTo>
                  <a:lnTo>
                    <a:pt x="1131" y="512"/>
                  </a:lnTo>
                  <a:lnTo>
                    <a:pt x="1116" y="568"/>
                  </a:lnTo>
                  <a:lnTo>
                    <a:pt x="1094" y="624"/>
                  </a:lnTo>
                  <a:lnTo>
                    <a:pt x="1068" y="676"/>
                  </a:lnTo>
                  <a:lnTo>
                    <a:pt x="1037" y="729"/>
                  </a:lnTo>
                  <a:lnTo>
                    <a:pt x="1003" y="781"/>
                  </a:lnTo>
                  <a:lnTo>
                    <a:pt x="965" y="829"/>
                  </a:lnTo>
                  <a:lnTo>
                    <a:pt x="925" y="869"/>
                  </a:lnTo>
                  <a:lnTo>
                    <a:pt x="906" y="887"/>
                  </a:lnTo>
                  <a:lnTo>
                    <a:pt x="886" y="904"/>
                  </a:lnTo>
                  <a:lnTo>
                    <a:pt x="865" y="920"/>
                  </a:lnTo>
                  <a:lnTo>
                    <a:pt x="845" y="933"/>
                  </a:lnTo>
                  <a:lnTo>
                    <a:pt x="824" y="945"/>
                  </a:lnTo>
                  <a:lnTo>
                    <a:pt x="803" y="955"/>
                  </a:lnTo>
                  <a:lnTo>
                    <a:pt x="782" y="964"/>
                  </a:lnTo>
                  <a:lnTo>
                    <a:pt x="761" y="970"/>
                  </a:lnTo>
                  <a:lnTo>
                    <a:pt x="739" y="976"/>
                  </a:lnTo>
                  <a:lnTo>
                    <a:pt x="716" y="980"/>
                  </a:lnTo>
                  <a:lnTo>
                    <a:pt x="694" y="982"/>
                  </a:lnTo>
                  <a:lnTo>
                    <a:pt x="672" y="983"/>
                  </a:lnTo>
                  <a:lnTo>
                    <a:pt x="645" y="982"/>
                  </a:lnTo>
                  <a:lnTo>
                    <a:pt x="618" y="979"/>
                  </a:lnTo>
                  <a:lnTo>
                    <a:pt x="593" y="971"/>
                  </a:lnTo>
                  <a:lnTo>
                    <a:pt x="581" y="968"/>
                  </a:lnTo>
                  <a:lnTo>
                    <a:pt x="570" y="963"/>
                  </a:lnTo>
                  <a:lnTo>
                    <a:pt x="559" y="957"/>
                  </a:lnTo>
                  <a:lnTo>
                    <a:pt x="548" y="951"/>
                  </a:lnTo>
                  <a:lnTo>
                    <a:pt x="538" y="944"/>
                  </a:lnTo>
                  <a:lnTo>
                    <a:pt x="527" y="937"/>
                  </a:lnTo>
                  <a:lnTo>
                    <a:pt x="518" y="928"/>
                  </a:lnTo>
                  <a:lnTo>
                    <a:pt x="508" y="920"/>
                  </a:lnTo>
                  <a:lnTo>
                    <a:pt x="500" y="910"/>
                  </a:lnTo>
                  <a:lnTo>
                    <a:pt x="491" y="901"/>
                  </a:lnTo>
                  <a:lnTo>
                    <a:pt x="483" y="890"/>
                  </a:lnTo>
                  <a:lnTo>
                    <a:pt x="476" y="879"/>
                  </a:lnTo>
                  <a:lnTo>
                    <a:pt x="468" y="867"/>
                  </a:lnTo>
                  <a:lnTo>
                    <a:pt x="462" y="855"/>
                  </a:lnTo>
                  <a:lnTo>
                    <a:pt x="456" y="843"/>
                  </a:lnTo>
                  <a:lnTo>
                    <a:pt x="450" y="830"/>
                  </a:lnTo>
                  <a:lnTo>
                    <a:pt x="445" y="817"/>
                  </a:lnTo>
                  <a:lnTo>
                    <a:pt x="441" y="802"/>
                  </a:lnTo>
                  <a:lnTo>
                    <a:pt x="433" y="772"/>
                  </a:lnTo>
                  <a:lnTo>
                    <a:pt x="428" y="741"/>
                  </a:lnTo>
                  <a:lnTo>
                    <a:pt x="425" y="707"/>
                  </a:lnTo>
                  <a:lnTo>
                    <a:pt x="424" y="671"/>
                  </a:lnTo>
                  <a:lnTo>
                    <a:pt x="424" y="652"/>
                  </a:lnTo>
                  <a:lnTo>
                    <a:pt x="425" y="633"/>
                  </a:lnTo>
                  <a:lnTo>
                    <a:pt x="426" y="615"/>
                  </a:lnTo>
                  <a:lnTo>
                    <a:pt x="428" y="597"/>
                  </a:lnTo>
                  <a:lnTo>
                    <a:pt x="431" y="580"/>
                  </a:lnTo>
                  <a:lnTo>
                    <a:pt x="434" y="565"/>
                  </a:lnTo>
                  <a:lnTo>
                    <a:pt x="438" y="549"/>
                  </a:lnTo>
                  <a:close/>
                  <a:moveTo>
                    <a:pt x="951" y="404"/>
                  </a:moveTo>
                  <a:lnTo>
                    <a:pt x="949" y="339"/>
                  </a:lnTo>
                  <a:lnTo>
                    <a:pt x="943" y="282"/>
                  </a:lnTo>
                  <a:lnTo>
                    <a:pt x="939" y="258"/>
                  </a:lnTo>
                  <a:lnTo>
                    <a:pt x="935" y="234"/>
                  </a:lnTo>
                  <a:lnTo>
                    <a:pt x="929" y="213"/>
                  </a:lnTo>
                  <a:lnTo>
                    <a:pt x="922" y="195"/>
                  </a:lnTo>
                  <a:lnTo>
                    <a:pt x="915" y="179"/>
                  </a:lnTo>
                  <a:lnTo>
                    <a:pt x="906" y="165"/>
                  </a:lnTo>
                  <a:lnTo>
                    <a:pt x="897" y="153"/>
                  </a:lnTo>
                  <a:lnTo>
                    <a:pt x="886" y="143"/>
                  </a:lnTo>
                  <a:lnTo>
                    <a:pt x="875" y="135"/>
                  </a:lnTo>
                  <a:lnTo>
                    <a:pt x="870" y="133"/>
                  </a:lnTo>
                  <a:lnTo>
                    <a:pt x="863" y="131"/>
                  </a:lnTo>
                  <a:lnTo>
                    <a:pt x="849" y="127"/>
                  </a:lnTo>
                  <a:lnTo>
                    <a:pt x="836" y="126"/>
                  </a:lnTo>
                  <a:lnTo>
                    <a:pt x="826" y="126"/>
                  </a:lnTo>
                  <a:lnTo>
                    <a:pt x="817" y="128"/>
                  </a:lnTo>
                  <a:lnTo>
                    <a:pt x="807" y="131"/>
                  </a:lnTo>
                  <a:lnTo>
                    <a:pt x="798" y="134"/>
                  </a:lnTo>
                  <a:lnTo>
                    <a:pt x="789" y="139"/>
                  </a:lnTo>
                  <a:lnTo>
                    <a:pt x="780" y="144"/>
                  </a:lnTo>
                  <a:lnTo>
                    <a:pt x="770" y="151"/>
                  </a:lnTo>
                  <a:lnTo>
                    <a:pt x="762" y="158"/>
                  </a:lnTo>
                  <a:lnTo>
                    <a:pt x="752" y="167"/>
                  </a:lnTo>
                  <a:lnTo>
                    <a:pt x="744" y="176"/>
                  </a:lnTo>
                  <a:lnTo>
                    <a:pt x="726" y="199"/>
                  </a:lnTo>
                  <a:lnTo>
                    <a:pt x="708" y="225"/>
                  </a:lnTo>
                  <a:lnTo>
                    <a:pt x="691" y="257"/>
                  </a:lnTo>
                  <a:lnTo>
                    <a:pt x="675" y="290"/>
                  </a:lnTo>
                  <a:lnTo>
                    <a:pt x="661" y="326"/>
                  </a:lnTo>
                  <a:lnTo>
                    <a:pt x="650" y="366"/>
                  </a:lnTo>
                  <a:lnTo>
                    <a:pt x="640" y="406"/>
                  </a:lnTo>
                  <a:lnTo>
                    <a:pt x="633" y="451"/>
                  </a:lnTo>
                  <a:lnTo>
                    <a:pt x="628" y="498"/>
                  </a:lnTo>
                  <a:lnTo>
                    <a:pt x="625" y="547"/>
                  </a:lnTo>
                  <a:lnTo>
                    <a:pt x="623" y="598"/>
                  </a:lnTo>
                  <a:lnTo>
                    <a:pt x="623" y="627"/>
                  </a:lnTo>
                  <a:lnTo>
                    <a:pt x="626" y="655"/>
                  </a:lnTo>
                  <a:lnTo>
                    <a:pt x="628" y="680"/>
                  </a:lnTo>
                  <a:lnTo>
                    <a:pt x="632" y="705"/>
                  </a:lnTo>
                  <a:lnTo>
                    <a:pt x="636" y="728"/>
                  </a:lnTo>
                  <a:lnTo>
                    <a:pt x="641" y="748"/>
                  </a:lnTo>
                  <a:lnTo>
                    <a:pt x="648" y="769"/>
                  </a:lnTo>
                  <a:lnTo>
                    <a:pt x="655" y="787"/>
                  </a:lnTo>
                  <a:lnTo>
                    <a:pt x="664" y="803"/>
                  </a:lnTo>
                  <a:lnTo>
                    <a:pt x="668" y="811"/>
                  </a:lnTo>
                  <a:lnTo>
                    <a:pt x="672" y="818"/>
                  </a:lnTo>
                  <a:lnTo>
                    <a:pt x="677" y="824"/>
                  </a:lnTo>
                  <a:lnTo>
                    <a:pt x="683" y="830"/>
                  </a:lnTo>
                  <a:lnTo>
                    <a:pt x="687" y="835"/>
                  </a:lnTo>
                  <a:lnTo>
                    <a:pt x="692" y="839"/>
                  </a:lnTo>
                  <a:lnTo>
                    <a:pt x="698" y="844"/>
                  </a:lnTo>
                  <a:lnTo>
                    <a:pt x="704" y="848"/>
                  </a:lnTo>
                  <a:lnTo>
                    <a:pt x="710" y="850"/>
                  </a:lnTo>
                  <a:lnTo>
                    <a:pt x="715" y="853"/>
                  </a:lnTo>
                  <a:lnTo>
                    <a:pt x="722" y="855"/>
                  </a:lnTo>
                  <a:lnTo>
                    <a:pt x="728" y="856"/>
                  </a:lnTo>
                  <a:lnTo>
                    <a:pt x="735" y="857"/>
                  </a:lnTo>
                  <a:lnTo>
                    <a:pt x="742" y="857"/>
                  </a:lnTo>
                  <a:lnTo>
                    <a:pt x="751" y="857"/>
                  </a:lnTo>
                  <a:lnTo>
                    <a:pt x="761" y="855"/>
                  </a:lnTo>
                  <a:lnTo>
                    <a:pt x="770" y="853"/>
                  </a:lnTo>
                  <a:lnTo>
                    <a:pt x="780" y="849"/>
                  </a:lnTo>
                  <a:lnTo>
                    <a:pt x="789" y="844"/>
                  </a:lnTo>
                  <a:lnTo>
                    <a:pt x="798" y="838"/>
                  </a:lnTo>
                  <a:lnTo>
                    <a:pt x="807" y="832"/>
                  </a:lnTo>
                  <a:lnTo>
                    <a:pt x="817" y="824"/>
                  </a:lnTo>
                  <a:lnTo>
                    <a:pt x="825" y="815"/>
                  </a:lnTo>
                  <a:lnTo>
                    <a:pt x="834" y="806"/>
                  </a:lnTo>
                  <a:lnTo>
                    <a:pt x="852" y="783"/>
                  </a:lnTo>
                  <a:lnTo>
                    <a:pt x="868" y="757"/>
                  </a:lnTo>
                  <a:lnTo>
                    <a:pt x="885" y="725"/>
                  </a:lnTo>
                  <a:lnTo>
                    <a:pt x="900" y="692"/>
                  </a:lnTo>
                  <a:lnTo>
                    <a:pt x="914" y="656"/>
                  </a:lnTo>
                  <a:lnTo>
                    <a:pt x="925" y="619"/>
                  </a:lnTo>
                  <a:lnTo>
                    <a:pt x="934" y="579"/>
                  </a:lnTo>
                  <a:lnTo>
                    <a:pt x="941" y="538"/>
                  </a:lnTo>
                  <a:lnTo>
                    <a:pt x="947" y="495"/>
                  </a:lnTo>
                  <a:lnTo>
                    <a:pt x="950" y="45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05480" y="1414440"/>
              <a:ext cx="433080" cy="498600"/>
            </a:xfrm>
            <a:custGeom>
              <a:avLst/>
              <a:gdLst/>
              <a:ahLst/>
              <a:rect l="l" t="t" r="r" b="b"/>
              <a:pathLst>
                <a:path w="1203" h="1386">
                  <a:moveTo>
                    <a:pt x="828" y="739"/>
                  </a:moveTo>
                  <a:lnTo>
                    <a:pt x="810" y="769"/>
                  </a:lnTo>
                  <a:lnTo>
                    <a:pt x="792" y="798"/>
                  </a:lnTo>
                  <a:lnTo>
                    <a:pt x="772" y="824"/>
                  </a:lnTo>
                  <a:lnTo>
                    <a:pt x="752" y="849"/>
                  </a:lnTo>
                  <a:lnTo>
                    <a:pt x="731" y="872"/>
                  </a:lnTo>
                  <a:lnTo>
                    <a:pt x="710" y="892"/>
                  </a:lnTo>
                  <a:lnTo>
                    <a:pt x="688" y="912"/>
                  </a:lnTo>
                  <a:lnTo>
                    <a:pt x="665" y="928"/>
                  </a:lnTo>
                  <a:lnTo>
                    <a:pt x="621" y="956"/>
                  </a:lnTo>
                  <a:lnTo>
                    <a:pt x="602" y="967"/>
                  </a:lnTo>
                  <a:lnTo>
                    <a:pt x="584" y="976"/>
                  </a:lnTo>
                  <a:lnTo>
                    <a:pt x="568" y="982"/>
                  </a:lnTo>
                  <a:lnTo>
                    <a:pt x="555" y="988"/>
                  </a:lnTo>
                  <a:lnTo>
                    <a:pt x="548" y="990"/>
                  </a:lnTo>
                  <a:lnTo>
                    <a:pt x="542" y="991"/>
                  </a:lnTo>
                  <a:lnTo>
                    <a:pt x="537" y="992"/>
                  </a:lnTo>
                  <a:lnTo>
                    <a:pt x="531" y="992"/>
                  </a:lnTo>
                  <a:lnTo>
                    <a:pt x="527" y="992"/>
                  </a:lnTo>
                  <a:lnTo>
                    <a:pt x="523" y="992"/>
                  </a:lnTo>
                  <a:lnTo>
                    <a:pt x="519" y="991"/>
                  </a:lnTo>
                  <a:lnTo>
                    <a:pt x="515" y="990"/>
                  </a:lnTo>
                  <a:lnTo>
                    <a:pt x="510" y="988"/>
                  </a:lnTo>
                  <a:lnTo>
                    <a:pt x="506" y="987"/>
                  </a:lnTo>
                  <a:lnTo>
                    <a:pt x="503" y="986"/>
                  </a:lnTo>
                  <a:lnTo>
                    <a:pt x="499" y="984"/>
                  </a:lnTo>
                  <a:lnTo>
                    <a:pt x="495" y="981"/>
                  </a:lnTo>
                  <a:lnTo>
                    <a:pt x="491" y="979"/>
                  </a:lnTo>
                  <a:lnTo>
                    <a:pt x="483" y="973"/>
                  </a:lnTo>
                  <a:lnTo>
                    <a:pt x="476" y="967"/>
                  </a:lnTo>
                  <a:lnTo>
                    <a:pt x="468" y="958"/>
                  </a:lnTo>
                  <a:lnTo>
                    <a:pt x="465" y="954"/>
                  </a:lnTo>
                  <a:lnTo>
                    <a:pt x="461" y="950"/>
                  </a:lnTo>
                  <a:lnTo>
                    <a:pt x="458" y="945"/>
                  </a:lnTo>
                  <a:lnTo>
                    <a:pt x="455" y="940"/>
                  </a:lnTo>
                  <a:lnTo>
                    <a:pt x="452" y="934"/>
                  </a:lnTo>
                  <a:lnTo>
                    <a:pt x="450" y="930"/>
                  </a:lnTo>
                  <a:lnTo>
                    <a:pt x="448" y="925"/>
                  </a:lnTo>
                  <a:lnTo>
                    <a:pt x="446" y="919"/>
                  </a:lnTo>
                  <a:lnTo>
                    <a:pt x="443" y="907"/>
                  </a:lnTo>
                  <a:lnTo>
                    <a:pt x="441" y="895"/>
                  </a:lnTo>
                  <a:lnTo>
                    <a:pt x="439" y="882"/>
                  </a:lnTo>
                  <a:lnTo>
                    <a:pt x="439" y="867"/>
                  </a:lnTo>
                  <a:lnTo>
                    <a:pt x="439" y="852"/>
                  </a:lnTo>
                  <a:lnTo>
                    <a:pt x="440" y="836"/>
                  </a:lnTo>
                  <a:lnTo>
                    <a:pt x="442" y="820"/>
                  </a:lnTo>
                  <a:lnTo>
                    <a:pt x="444" y="805"/>
                  </a:lnTo>
                  <a:lnTo>
                    <a:pt x="447" y="789"/>
                  </a:lnTo>
                  <a:lnTo>
                    <a:pt x="450" y="772"/>
                  </a:lnTo>
                  <a:lnTo>
                    <a:pt x="454" y="756"/>
                  </a:lnTo>
                  <a:lnTo>
                    <a:pt x="460" y="739"/>
                  </a:lnTo>
                  <a:lnTo>
                    <a:pt x="458" y="748"/>
                  </a:lnTo>
                  <a:lnTo>
                    <a:pt x="454" y="758"/>
                  </a:lnTo>
                  <a:lnTo>
                    <a:pt x="450" y="766"/>
                  </a:lnTo>
                  <a:lnTo>
                    <a:pt x="446" y="777"/>
                  </a:lnTo>
                  <a:lnTo>
                    <a:pt x="441" y="787"/>
                  </a:lnTo>
                  <a:lnTo>
                    <a:pt x="435" y="796"/>
                  </a:lnTo>
                  <a:lnTo>
                    <a:pt x="421" y="817"/>
                  </a:lnTo>
                  <a:lnTo>
                    <a:pt x="404" y="837"/>
                  </a:lnTo>
                  <a:lnTo>
                    <a:pt x="385" y="858"/>
                  </a:lnTo>
                  <a:lnTo>
                    <a:pt x="361" y="879"/>
                  </a:lnTo>
                  <a:lnTo>
                    <a:pt x="336" y="901"/>
                  </a:lnTo>
                  <a:lnTo>
                    <a:pt x="310" y="921"/>
                  </a:lnTo>
                  <a:lnTo>
                    <a:pt x="285" y="939"/>
                  </a:lnTo>
                  <a:lnTo>
                    <a:pt x="262" y="955"/>
                  </a:lnTo>
                  <a:lnTo>
                    <a:pt x="240" y="967"/>
                  </a:lnTo>
                  <a:lnTo>
                    <a:pt x="220" y="976"/>
                  </a:lnTo>
                  <a:lnTo>
                    <a:pt x="201" y="982"/>
                  </a:lnTo>
                  <a:lnTo>
                    <a:pt x="191" y="985"/>
                  </a:lnTo>
                  <a:lnTo>
                    <a:pt x="183" y="987"/>
                  </a:lnTo>
                  <a:lnTo>
                    <a:pt x="175" y="988"/>
                  </a:lnTo>
                  <a:lnTo>
                    <a:pt x="167" y="988"/>
                  </a:lnTo>
                  <a:lnTo>
                    <a:pt x="156" y="988"/>
                  </a:lnTo>
                  <a:lnTo>
                    <a:pt x="145" y="986"/>
                  </a:lnTo>
                  <a:lnTo>
                    <a:pt x="135" y="984"/>
                  </a:lnTo>
                  <a:lnTo>
                    <a:pt x="126" y="980"/>
                  </a:lnTo>
                  <a:lnTo>
                    <a:pt x="118" y="976"/>
                  </a:lnTo>
                  <a:lnTo>
                    <a:pt x="110" y="970"/>
                  </a:lnTo>
                  <a:lnTo>
                    <a:pt x="103" y="964"/>
                  </a:lnTo>
                  <a:lnTo>
                    <a:pt x="96" y="957"/>
                  </a:lnTo>
                  <a:lnTo>
                    <a:pt x="91" y="949"/>
                  </a:lnTo>
                  <a:lnTo>
                    <a:pt x="87" y="939"/>
                  </a:lnTo>
                  <a:lnTo>
                    <a:pt x="83" y="928"/>
                  </a:lnTo>
                  <a:lnTo>
                    <a:pt x="80" y="918"/>
                  </a:lnTo>
                  <a:lnTo>
                    <a:pt x="76" y="904"/>
                  </a:lnTo>
                  <a:lnTo>
                    <a:pt x="74" y="891"/>
                  </a:lnTo>
                  <a:lnTo>
                    <a:pt x="73" y="877"/>
                  </a:lnTo>
                  <a:lnTo>
                    <a:pt x="73" y="861"/>
                  </a:lnTo>
                  <a:lnTo>
                    <a:pt x="74" y="838"/>
                  </a:lnTo>
                  <a:lnTo>
                    <a:pt x="77" y="810"/>
                  </a:lnTo>
                  <a:lnTo>
                    <a:pt x="91" y="730"/>
                  </a:lnTo>
                  <a:lnTo>
                    <a:pt x="113" y="624"/>
                  </a:lnTo>
                  <a:lnTo>
                    <a:pt x="145" y="491"/>
                  </a:lnTo>
                  <a:lnTo>
                    <a:pt x="172" y="374"/>
                  </a:lnTo>
                  <a:lnTo>
                    <a:pt x="193" y="286"/>
                  </a:lnTo>
                  <a:lnTo>
                    <a:pt x="204" y="221"/>
                  </a:lnTo>
                  <a:lnTo>
                    <a:pt x="207" y="199"/>
                  </a:lnTo>
                  <a:lnTo>
                    <a:pt x="208" y="191"/>
                  </a:lnTo>
                  <a:lnTo>
                    <a:pt x="208" y="184"/>
                  </a:lnTo>
                  <a:lnTo>
                    <a:pt x="208" y="180"/>
                  </a:lnTo>
                  <a:lnTo>
                    <a:pt x="208" y="179"/>
                  </a:lnTo>
                  <a:lnTo>
                    <a:pt x="208" y="179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8" y="176"/>
                  </a:lnTo>
                  <a:lnTo>
                    <a:pt x="208" y="176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05" y="176"/>
                  </a:lnTo>
                  <a:lnTo>
                    <a:pt x="200" y="179"/>
                  </a:lnTo>
                  <a:lnTo>
                    <a:pt x="194" y="180"/>
                  </a:lnTo>
                  <a:lnTo>
                    <a:pt x="187" y="184"/>
                  </a:lnTo>
                  <a:lnTo>
                    <a:pt x="180" y="187"/>
                  </a:lnTo>
                  <a:lnTo>
                    <a:pt x="172" y="193"/>
                  </a:lnTo>
                  <a:lnTo>
                    <a:pt x="156" y="205"/>
                  </a:lnTo>
                  <a:lnTo>
                    <a:pt x="137" y="222"/>
                  </a:lnTo>
                  <a:lnTo>
                    <a:pt x="114" y="241"/>
                  </a:lnTo>
                  <a:lnTo>
                    <a:pt x="64" y="293"/>
                  </a:lnTo>
                  <a:lnTo>
                    <a:pt x="0" y="234"/>
                  </a:lnTo>
                  <a:lnTo>
                    <a:pt x="52" y="179"/>
                  </a:lnTo>
                  <a:lnTo>
                    <a:pt x="100" y="132"/>
                  </a:lnTo>
                  <a:lnTo>
                    <a:pt x="145" y="91"/>
                  </a:lnTo>
                  <a:lnTo>
                    <a:pt x="187" y="59"/>
                  </a:lnTo>
                  <a:lnTo>
                    <a:pt x="226" y="32"/>
                  </a:lnTo>
                  <a:lnTo>
                    <a:pt x="244" y="23"/>
                  </a:lnTo>
                  <a:lnTo>
                    <a:pt x="261" y="14"/>
                  </a:lnTo>
                  <a:lnTo>
                    <a:pt x="278" y="8"/>
                  </a:lnTo>
                  <a:lnTo>
                    <a:pt x="294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9" y="1"/>
                  </a:lnTo>
                  <a:lnTo>
                    <a:pt x="347" y="4"/>
                  </a:lnTo>
                  <a:lnTo>
                    <a:pt x="354" y="6"/>
                  </a:lnTo>
                  <a:lnTo>
                    <a:pt x="360" y="10"/>
                  </a:lnTo>
                  <a:lnTo>
                    <a:pt x="367" y="14"/>
                  </a:lnTo>
                  <a:lnTo>
                    <a:pt x="372" y="19"/>
                  </a:lnTo>
                  <a:lnTo>
                    <a:pt x="377" y="25"/>
                  </a:lnTo>
                  <a:lnTo>
                    <a:pt x="382" y="32"/>
                  </a:lnTo>
                  <a:lnTo>
                    <a:pt x="385" y="40"/>
                  </a:lnTo>
                  <a:lnTo>
                    <a:pt x="388" y="48"/>
                  </a:lnTo>
                  <a:lnTo>
                    <a:pt x="391" y="56"/>
                  </a:lnTo>
                  <a:lnTo>
                    <a:pt x="393" y="66"/>
                  </a:lnTo>
                  <a:lnTo>
                    <a:pt x="394" y="77"/>
                  </a:lnTo>
                  <a:lnTo>
                    <a:pt x="395" y="89"/>
                  </a:lnTo>
                  <a:lnTo>
                    <a:pt x="395" y="101"/>
                  </a:lnTo>
                  <a:lnTo>
                    <a:pt x="394" y="124"/>
                  </a:lnTo>
                  <a:lnTo>
                    <a:pt x="391" y="152"/>
                  </a:lnTo>
                  <a:lnTo>
                    <a:pt x="378" y="232"/>
                  </a:lnTo>
                  <a:lnTo>
                    <a:pt x="356" y="338"/>
                  </a:lnTo>
                  <a:lnTo>
                    <a:pt x="326" y="473"/>
                  </a:lnTo>
                  <a:lnTo>
                    <a:pt x="280" y="675"/>
                  </a:lnTo>
                  <a:lnTo>
                    <a:pt x="270" y="735"/>
                  </a:lnTo>
                  <a:lnTo>
                    <a:pt x="266" y="754"/>
                  </a:lnTo>
                  <a:lnTo>
                    <a:pt x="265" y="762"/>
                  </a:lnTo>
                  <a:lnTo>
                    <a:pt x="265" y="766"/>
                  </a:lnTo>
                  <a:lnTo>
                    <a:pt x="265" y="770"/>
                  </a:lnTo>
                  <a:lnTo>
                    <a:pt x="265" y="774"/>
                  </a:lnTo>
                  <a:lnTo>
                    <a:pt x="266" y="777"/>
                  </a:lnTo>
                  <a:lnTo>
                    <a:pt x="267" y="780"/>
                  </a:lnTo>
                  <a:lnTo>
                    <a:pt x="267" y="781"/>
                  </a:lnTo>
                  <a:lnTo>
                    <a:pt x="269" y="783"/>
                  </a:lnTo>
                  <a:lnTo>
                    <a:pt x="269" y="784"/>
                  </a:lnTo>
                  <a:lnTo>
                    <a:pt x="270" y="786"/>
                  </a:lnTo>
                  <a:lnTo>
                    <a:pt x="270" y="787"/>
                  </a:lnTo>
                  <a:lnTo>
                    <a:pt x="271" y="788"/>
                  </a:lnTo>
                  <a:lnTo>
                    <a:pt x="272" y="789"/>
                  </a:lnTo>
                  <a:lnTo>
                    <a:pt x="273" y="790"/>
                  </a:lnTo>
                  <a:lnTo>
                    <a:pt x="275" y="793"/>
                  </a:lnTo>
                  <a:lnTo>
                    <a:pt x="276" y="794"/>
                  </a:lnTo>
                  <a:lnTo>
                    <a:pt x="278" y="796"/>
                  </a:lnTo>
                  <a:lnTo>
                    <a:pt x="279" y="798"/>
                  </a:lnTo>
                  <a:lnTo>
                    <a:pt x="280" y="798"/>
                  </a:lnTo>
                  <a:lnTo>
                    <a:pt x="281" y="799"/>
                  </a:lnTo>
                  <a:lnTo>
                    <a:pt x="281" y="799"/>
                  </a:lnTo>
                  <a:lnTo>
                    <a:pt x="282" y="799"/>
                  </a:lnTo>
                  <a:lnTo>
                    <a:pt x="283" y="800"/>
                  </a:lnTo>
                  <a:lnTo>
                    <a:pt x="284" y="800"/>
                  </a:lnTo>
                  <a:lnTo>
                    <a:pt x="284" y="800"/>
                  </a:lnTo>
                  <a:lnTo>
                    <a:pt x="285" y="800"/>
                  </a:lnTo>
                  <a:lnTo>
                    <a:pt x="288" y="800"/>
                  </a:lnTo>
                  <a:lnTo>
                    <a:pt x="290" y="799"/>
                  </a:lnTo>
                  <a:lnTo>
                    <a:pt x="293" y="798"/>
                  </a:lnTo>
                  <a:lnTo>
                    <a:pt x="296" y="796"/>
                  </a:lnTo>
                  <a:lnTo>
                    <a:pt x="303" y="793"/>
                  </a:lnTo>
                  <a:lnTo>
                    <a:pt x="312" y="787"/>
                  </a:lnTo>
                  <a:lnTo>
                    <a:pt x="321" y="780"/>
                  </a:lnTo>
                  <a:lnTo>
                    <a:pt x="333" y="770"/>
                  </a:lnTo>
                  <a:lnTo>
                    <a:pt x="359" y="747"/>
                  </a:lnTo>
                  <a:lnTo>
                    <a:pt x="387" y="721"/>
                  </a:lnTo>
                  <a:lnTo>
                    <a:pt x="411" y="694"/>
                  </a:lnTo>
                  <a:lnTo>
                    <a:pt x="423" y="682"/>
                  </a:lnTo>
                  <a:lnTo>
                    <a:pt x="432" y="669"/>
                  </a:lnTo>
                  <a:lnTo>
                    <a:pt x="442" y="657"/>
                  </a:lnTo>
                  <a:lnTo>
                    <a:pt x="450" y="644"/>
                  </a:lnTo>
                  <a:lnTo>
                    <a:pt x="458" y="631"/>
                  </a:lnTo>
                  <a:lnTo>
                    <a:pt x="466" y="615"/>
                  </a:lnTo>
                  <a:lnTo>
                    <a:pt x="473" y="599"/>
                  </a:lnTo>
                  <a:lnTo>
                    <a:pt x="481" y="581"/>
                  </a:lnTo>
                  <a:lnTo>
                    <a:pt x="488" y="560"/>
                  </a:lnTo>
                  <a:lnTo>
                    <a:pt x="495" y="537"/>
                  </a:lnTo>
                  <a:lnTo>
                    <a:pt x="501" y="513"/>
                  </a:lnTo>
                  <a:lnTo>
                    <a:pt x="507" y="488"/>
                  </a:lnTo>
                  <a:lnTo>
                    <a:pt x="616" y="28"/>
                  </a:lnTo>
                  <a:lnTo>
                    <a:pt x="786" y="28"/>
                  </a:lnTo>
                  <a:lnTo>
                    <a:pt x="695" y="434"/>
                  </a:lnTo>
                  <a:lnTo>
                    <a:pt x="639" y="680"/>
                  </a:lnTo>
                  <a:lnTo>
                    <a:pt x="624" y="753"/>
                  </a:lnTo>
                  <a:lnTo>
                    <a:pt x="621" y="777"/>
                  </a:lnTo>
                  <a:lnTo>
                    <a:pt x="620" y="786"/>
                  </a:lnTo>
                  <a:lnTo>
                    <a:pt x="620" y="793"/>
                  </a:lnTo>
                  <a:lnTo>
                    <a:pt x="620" y="796"/>
                  </a:lnTo>
                  <a:lnTo>
                    <a:pt x="620" y="799"/>
                  </a:lnTo>
                  <a:lnTo>
                    <a:pt x="621" y="800"/>
                  </a:lnTo>
                  <a:lnTo>
                    <a:pt x="621" y="801"/>
                  </a:lnTo>
                  <a:lnTo>
                    <a:pt x="621" y="802"/>
                  </a:lnTo>
                  <a:lnTo>
                    <a:pt x="622" y="804"/>
                  </a:lnTo>
                  <a:lnTo>
                    <a:pt x="622" y="805"/>
                  </a:lnTo>
                  <a:lnTo>
                    <a:pt x="623" y="806"/>
                  </a:lnTo>
                  <a:lnTo>
                    <a:pt x="624" y="806"/>
                  </a:lnTo>
                  <a:lnTo>
                    <a:pt x="624" y="807"/>
                  </a:lnTo>
                  <a:lnTo>
                    <a:pt x="625" y="807"/>
                  </a:lnTo>
                  <a:lnTo>
                    <a:pt x="627" y="808"/>
                  </a:lnTo>
                  <a:lnTo>
                    <a:pt x="628" y="808"/>
                  </a:lnTo>
                  <a:lnTo>
                    <a:pt x="629" y="808"/>
                  </a:lnTo>
                  <a:lnTo>
                    <a:pt x="630" y="808"/>
                  </a:lnTo>
                  <a:lnTo>
                    <a:pt x="633" y="808"/>
                  </a:lnTo>
                  <a:lnTo>
                    <a:pt x="637" y="807"/>
                  </a:lnTo>
                  <a:lnTo>
                    <a:pt x="641" y="806"/>
                  </a:lnTo>
                  <a:lnTo>
                    <a:pt x="646" y="805"/>
                  </a:lnTo>
                  <a:lnTo>
                    <a:pt x="651" y="802"/>
                  </a:lnTo>
                  <a:lnTo>
                    <a:pt x="656" y="799"/>
                  </a:lnTo>
                  <a:lnTo>
                    <a:pt x="667" y="793"/>
                  </a:lnTo>
                  <a:lnTo>
                    <a:pt x="679" y="783"/>
                  </a:lnTo>
                  <a:lnTo>
                    <a:pt x="693" y="772"/>
                  </a:lnTo>
                  <a:lnTo>
                    <a:pt x="725" y="744"/>
                  </a:lnTo>
                  <a:lnTo>
                    <a:pt x="757" y="712"/>
                  </a:lnTo>
                  <a:lnTo>
                    <a:pt x="784" y="684"/>
                  </a:lnTo>
                  <a:lnTo>
                    <a:pt x="795" y="669"/>
                  </a:lnTo>
                  <a:lnTo>
                    <a:pt x="806" y="656"/>
                  </a:lnTo>
                  <a:lnTo>
                    <a:pt x="816" y="644"/>
                  </a:lnTo>
                  <a:lnTo>
                    <a:pt x="823" y="632"/>
                  </a:lnTo>
                  <a:lnTo>
                    <a:pt x="830" y="620"/>
                  </a:lnTo>
                  <a:lnTo>
                    <a:pt x="838" y="606"/>
                  </a:lnTo>
                  <a:lnTo>
                    <a:pt x="844" y="590"/>
                  </a:lnTo>
                  <a:lnTo>
                    <a:pt x="851" y="573"/>
                  </a:lnTo>
                  <a:lnTo>
                    <a:pt x="858" y="554"/>
                  </a:lnTo>
                  <a:lnTo>
                    <a:pt x="864" y="534"/>
                  </a:lnTo>
                  <a:lnTo>
                    <a:pt x="876" y="488"/>
                  </a:lnTo>
                  <a:lnTo>
                    <a:pt x="983" y="28"/>
                  </a:lnTo>
                  <a:lnTo>
                    <a:pt x="1154" y="28"/>
                  </a:lnTo>
                  <a:lnTo>
                    <a:pt x="1064" y="433"/>
                  </a:lnTo>
                  <a:lnTo>
                    <a:pt x="1006" y="688"/>
                  </a:lnTo>
                  <a:lnTo>
                    <a:pt x="992" y="763"/>
                  </a:lnTo>
                  <a:lnTo>
                    <a:pt x="988" y="787"/>
                  </a:lnTo>
                  <a:lnTo>
                    <a:pt x="987" y="796"/>
                  </a:lnTo>
                  <a:lnTo>
                    <a:pt x="987" y="802"/>
                  </a:lnTo>
                  <a:lnTo>
                    <a:pt x="987" y="807"/>
                  </a:lnTo>
                  <a:lnTo>
                    <a:pt x="987" y="811"/>
                  </a:lnTo>
                  <a:lnTo>
                    <a:pt x="988" y="813"/>
                  </a:lnTo>
                  <a:lnTo>
                    <a:pt x="988" y="814"/>
                  </a:lnTo>
                  <a:lnTo>
                    <a:pt x="988" y="816"/>
                  </a:lnTo>
                  <a:lnTo>
                    <a:pt x="989" y="818"/>
                  </a:lnTo>
                  <a:lnTo>
                    <a:pt x="989" y="819"/>
                  </a:lnTo>
                  <a:lnTo>
                    <a:pt x="990" y="820"/>
                  </a:lnTo>
                  <a:lnTo>
                    <a:pt x="990" y="820"/>
                  </a:lnTo>
                  <a:lnTo>
                    <a:pt x="991" y="822"/>
                  </a:lnTo>
                  <a:lnTo>
                    <a:pt x="991" y="822"/>
                  </a:lnTo>
                  <a:lnTo>
                    <a:pt x="991" y="822"/>
                  </a:lnTo>
                  <a:lnTo>
                    <a:pt x="992" y="823"/>
                  </a:lnTo>
                  <a:lnTo>
                    <a:pt x="992" y="823"/>
                  </a:lnTo>
                  <a:lnTo>
                    <a:pt x="993" y="823"/>
                  </a:lnTo>
                  <a:lnTo>
                    <a:pt x="993" y="823"/>
                  </a:lnTo>
                  <a:lnTo>
                    <a:pt x="994" y="823"/>
                  </a:lnTo>
                  <a:lnTo>
                    <a:pt x="996" y="823"/>
                  </a:lnTo>
                  <a:lnTo>
                    <a:pt x="997" y="823"/>
                  </a:lnTo>
                  <a:lnTo>
                    <a:pt x="1002" y="820"/>
                  </a:lnTo>
                  <a:lnTo>
                    <a:pt x="1008" y="818"/>
                  </a:lnTo>
                  <a:lnTo>
                    <a:pt x="1013" y="814"/>
                  </a:lnTo>
                  <a:lnTo>
                    <a:pt x="1028" y="802"/>
                  </a:lnTo>
                  <a:lnTo>
                    <a:pt x="1046" y="787"/>
                  </a:lnTo>
                  <a:lnTo>
                    <a:pt x="1092" y="742"/>
                  </a:lnTo>
                  <a:lnTo>
                    <a:pt x="1151" y="680"/>
                  </a:lnTo>
                  <a:lnTo>
                    <a:pt x="1202" y="745"/>
                  </a:lnTo>
                  <a:lnTo>
                    <a:pt x="1187" y="763"/>
                  </a:lnTo>
                  <a:lnTo>
                    <a:pt x="1175" y="781"/>
                  </a:lnTo>
                  <a:lnTo>
                    <a:pt x="1164" y="799"/>
                  </a:lnTo>
                  <a:lnTo>
                    <a:pt x="1156" y="817"/>
                  </a:lnTo>
                  <a:lnTo>
                    <a:pt x="1148" y="834"/>
                  </a:lnTo>
                  <a:lnTo>
                    <a:pt x="1146" y="842"/>
                  </a:lnTo>
                  <a:lnTo>
                    <a:pt x="1144" y="850"/>
                  </a:lnTo>
                  <a:lnTo>
                    <a:pt x="1142" y="859"/>
                  </a:lnTo>
                  <a:lnTo>
                    <a:pt x="1141" y="867"/>
                  </a:lnTo>
                  <a:lnTo>
                    <a:pt x="1140" y="874"/>
                  </a:lnTo>
                  <a:lnTo>
                    <a:pt x="1140" y="883"/>
                  </a:lnTo>
                  <a:lnTo>
                    <a:pt x="1140" y="889"/>
                  </a:lnTo>
                  <a:lnTo>
                    <a:pt x="1141" y="895"/>
                  </a:lnTo>
                  <a:lnTo>
                    <a:pt x="1141" y="902"/>
                  </a:lnTo>
                  <a:lnTo>
                    <a:pt x="1142" y="908"/>
                  </a:lnTo>
                  <a:lnTo>
                    <a:pt x="1145" y="922"/>
                  </a:lnTo>
                  <a:lnTo>
                    <a:pt x="1148" y="938"/>
                  </a:lnTo>
                  <a:lnTo>
                    <a:pt x="1153" y="963"/>
                  </a:lnTo>
                  <a:lnTo>
                    <a:pt x="1158" y="985"/>
                  </a:lnTo>
                  <a:lnTo>
                    <a:pt x="1159" y="994"/>
                  </a:lnTo>
                  <a:lnTo>
                    <a:pt x="1160" y="1003"/>
                  </a:lnTo>
                  <a:lnTo>
                    <a:pt x="1161" y="1010"/>
                  </a:lnTo>
                  <a:lnTo>
                    <a:pt x="1161" y="1017"/>
                  </a:lnTo>
                  <a:lnTo>
                    <a:pt x="1161" y="1028"/>
                  </a:lnTo>
                  <a:lnTo>
                    <a:pt x="1160" y="1037"/>
                  </a:lnTo>
                  <a:lnTo>
                    <a:pt x="1159" y="1047"/>
                  </a:lnTo>
                  <a:lnTo>
                    <a:pt x="1157" y="1057"/>
                  </a:lnTo>
                  <a:lnTo>
                    <a:pt x="1154" y="1066"/>
                  </a:lnTo>
                  <a:lnTo>
                    <a:pt x="1151" y="1076"/>
                  </a:lnTo>
                  <a:lnTo>
                    <a:pt x="1148" y="1084"/>
                  </a:lnTo>
                  <a:lnTo>
                    <a:pt x="1144" y="1094"/>
                  </a:lnTo>
                  <a:lnTo>
                    <a:pt x="1140" y="1102"/>
                  </a:lnTo>
                  <a:lnTo>
                    <a:pt x="1134" y="1111"/>
                  </a:lnTo>
                  <a:lnTo>
                    <a:pt x="1129" y="1119"/>
                  </a:lnTo>
                  <a:lnTo>
                    <a:pt x="1123" y="1127"/>
                  </a:lnTo>
                  <a:lnTo>
                    <a:pt x="1116" y="1135"/>
                  </a:lnTo>
                  <a:lnTo>
                    <a:pt x="1109" y="1143"/>
                  </a:lnTo>
                  <a:lnTo>
                    <a:pt x="1093" y="1157"/>
                  </a:lnTo>
                  <a:lnTo>
                    <a:pt x="1085" y="1165"/>
                  </a:lnTo>
                  <a:lnTo>
                    <a:pt x="1075" y="1172"/>
                  </a:lnTo>
                  <a:lnTo>
                    <a:pt x="1066" y="1178"/>
                  </a:lnTo>
                  <a:lnTo>
                    <a:pt x="1056" y="1184"/>
                  </a:lnTo>
                  <a:lnTo>
                    <a:pt x="1034" y="1193"/>
                  </a:lnTo>
                  <a:lnTo>
                    <a:pt x="1012" y="1202"/>
                  </a:lnTo>
                  <a:lnTo>
                    <a:pt x="987" y="1208"/>
                  </a:lnTo>
                  <a:lnTo>
                    <a:pt x="961" y="1213"/>
                  </a:lnTo>
                  <a:lnTo>
                    <a:pt x="933" y="1215"/>
                  </a:lnTo>
                  <a:lnTo>
                    <a:pt x="903" y="1216"/>
                  </a:lnTo>
                  <a:lnTo>
                    <a:pt x="850" y="1215"/>
                  </a:lnTo>
                  <a:lnTo>
                    <a:pt x="799" y="1214"/>
                  </a:lnTo>
                  <a:lnTo>
                    <a:pt x="699" y="1207"/>
                  </a:lnTo>
                  <a:lnTo>
                    <a:pt x="643" y="1201"/>
                  </a:lnTo>
                  <a:lnTo>
                    <a:pt x="625" y="1198"/>
                  </a:lnTo>
                  <a:lnTo>
                    <a:pt x="615" y="1198"/>
                  </a:lnTo>
                  <a:lnTo>
                    <a:pt x="611" y="1198"/>
                  </a:lnTo>
                  <a:lnTo>
                    <a:pt x="606" y="1198"/>
                  </a:lnTo>
                  <a:lnTo>
                    <a:pt x="602" y="1199"/>
                  </a:lnTo>
                  <a:lnTo>
                    <a:pt x="598" y="1201"/>
                  </a:lnTo>
                  <a:lnTo>
                    <a:pt x="595" y="1202"/>
                  </a:lnTo>
                  <a:lnTo>
                    <a:pt x="592" y="1203"/>
                  </a:lnTo>
                  <a:lnTo>
                    <a:pt x="588" y="1204"/>
                  </a:lnTo>
                  <a:lnTo>
                    <a:pt x="586" y="1207"/>
                  </a:lnTo>
                  <a:lnTo>
                    <a:pt x="584" y="1208"/>
                  </a:lnTo>
                  <a:lnTo>
                    <a:pt x="582" y="1210"/>
                  </a:lnTo>
                  <a:lnTo>
                    <a:pt x="581" y="1213"/>
                  </a:lnTo>
                  <a:lnTo>
                    <a:pt x="579" y="1216"/>
                  </a:lnTo>
                  <a:lnTo>
                    <a:pt x="578" y="1219"/>
                  </a:lnTo>
                  <a:lnTo>
                    <a:pt x="578" y="1222"/>
                  </a:lnTo>
                  <a:lnTo>
                    <a:pt x="577" y="1226"/>
                  </a:lnTo>
                  <a:lnTo>
                    <a:pt x="577" y="1229"/>
                  </a:lnTo>
                  <a:lnTo>
                    <a:pt x="577" y="1232"/>
                  </a:lnTo>
                  <a:lnTo>
                    <a:pt x="577" y="1234"/>
                  </a:lnTo>
                  <a:lnTo>
                    <a:pt x="578" y="1235"/>
                  </a:lnTo>
                  <a:lnTo>
                    <a:pt x="578" y="1238"/>
                  </a:lnTo>
                  <a:lnTo>
                    <a:pt x="579" y="1239"/>
                  </a:lnTo>
                  <a:lnTo>
                    <a:pt x="579" y="1240"/>
                  </a:lnTo>
                  <a:lnTo>
                    <a:pt x="580" y="1241"/>
                  </a:lnTo>
                  <a:lnTo>
                    <a:pt x="581" y="1243"/>
                  </a:lnTo>
                  <a:lnTo>
                    <a:pt x="583" y="1244"/>
                  </a:lnTo>
                  <a:lnTo>
                    <a:pt x="584" y="1245"/>
                  </a:lnTo>
                  <a:lnTo>
                    <a:pt x="585" y="1246"/>
                  </a:lnTo>
                  <a:lnTo>
                    <a:pt x="587" y="1246"/>
                  </a:lnTo>
                  <a:lnTo>
                    <a:pt x="588" y="1247"/>
                  </a:lnTo>
                  <a:lnTo>
                    <a:pt x="591" y="1247"/>
                  </a:lnTo>
                  <a:lnTo>
                    <a:pt x="593" y="1249"/>
                  </a:lnTo>
                  <a:lnTo>
                    <a:pt x="595" y="1249"/>
                  </a:lnTo>
                  <a:lnTo>
                    <a:pt x="602" y="1250"/>
                  </a:lnTo>
                  <a:lnTo>
                    <a:pt x="609" y="1251"/>
                  </a:lnTo>
                  <a:lnTo>
                    <a:pt x="615" y="1253"/>
                  </a:lnTo>
                  <a:lnTo>
                    <a:pt x="620" y="1256"/>
                  </a:lnTo>
                  <a:lnTo>
                    <a:pt x="625" y="1259"/>
                  </a:lnTo>
                  <a:lnTo>
                    <a:pt x="631" y="1262"/>
                  </a:lnTo>
                  <a:lnTo>
                    <a:pt x="635" y="1265"/>
                  </a:lnTo>
                  <a:lnTo>
                    <a:pt x="639" y="1269"/>
                  </a:lnTo>
                  <a:lnTo>
                    <a:pt x="642" y="1274"/>
                  </a:lnTo>
                  <a:lnTo>
                    <a:pt x="646" y="1279"/>
                  </a:lnTo>
                  <a:lnTo>
                    <a:pt x="648" y="1283"/>
                  </a:lnTo>
                  <a:lnTo>
                    <a:pt x="650" y="1289"/>
                  </a:lnTo>
                  <a:lnTo>
                    <a:pt x="652" y="1294"/>
                  </a:lnTo>
                  <a:lnTo>
                    <a:pt x="653" y="1301"/>
                  </a:lnTo>
                  <a:lnTo>
                    <a:pt x="654" y="1307"/>
                  </a:lnTo>
                  <a:lnTo>
                    <a:pt x="654" y="1315"/>
                  </a:lnTo>
                  <a:lnTo>
                    <a:pt x="654" y="1322"/>
                  </a:lnTo>
                  <a:lnTo>
                    <a:pt x="653" y="1325"/>
                  </a:lnTo>
                  <a:lnTo>
                    <a:pt x="653" y="1328"/>
                  </a:lnTo>
                  <a:lnTo>
                    <a:pt x="652" y="1331"/>
                  </a:lnTo>
                  <a:lnTo>
                    <a:pt x="651" y="1335"/>
                  </a:lnTo>
                  <a:lnTo>
                    <a:pt x="651" y="1337"/>
                  </a:lnTo>
                  <a:lnTo>
                    <a:pt x="650" y="1341"/>
                  </a:lnTo>
                  <a:lnTo>
                    <a:pt x="648" y="1345"/>
                  </a:lnTo>
                  <a:lnTo>
                    <a:pt x="647" y="1347"/>
                  </a:lnTo>
                  <a:lnTo>
                    <a:pt x="643" y="1353"/>
                  </a:lnTo>
                  <a:lnTo>
                    <a:pt x="639" y="1358"/>
                  </a:lnTo>
                  <a:lnTo>
                    <a:pt x="635" y="1364"/>
                  </a:lnTo>
                  <a:lnTo>
                    <a:pt x="630" y="1369"/>
                  </a:lnTo>
                  <a:lnTo>
                    <a:pt x="624" y="1373"/>
                  </a:lnTo>
                  <a:lnTo>
                    <a:pt x="619" y="1377"/>
                  </a:lnTo>
                  <a:lnTo>
                    <a:pt x="614" y="1381"/>
                  </a:lnTo>
                  <a:lnTo>
                    <a:pt x="608" y="1382"/>
                  </a:lnTo>
                  <a:lnTo>
                    <a:pt x="605" y="1383"/>
                  </a:lnTo>
                  <a:lnTo>
                    <a:pt x="602" y="1384"/>
                  </a:lnTo>
                  <a:lnTo>
                    <a:pt x="599" y="1384"/>
                  </a:lnTo>
                  <a:lnTo>
                    <a:pt x="597" y="1385"/>
                  </a:lnTo>
                  <a:lnTo>
                    <a:pt x="594" y="1385"/>
                  </a:lnTo>
                  <a:lnTo>
                    <a:pt x="591" y="1385"/>
                  </a:lnTo>
                  <a:lnTo>
                    <a:pt x="585" y="1385"/>
                  </a:lnTo>
                  <a:lnTo>
                    <a:pt x="579" y="1384"/>
                  </a:lnTo>
                  <a:lnTo>
                    <a:pt x="574" y="1384"/>
                  </a:lnTo>
                  <a:lnTo>
                    <a:pt x="568" y="1383"/>
                  </a:lnTo>
                  <a:lnTo>
                    <a:pt x="563" y="1381"/>
                  </a:lnTo>
                  <a:lnTo>
                    <a:pt x="558" y="1379"/>
                  </a:lnTo>
                  <a:lnTo>
                    <a:pt x="553" y="1377"/>
                  </a:lnTo>
                  <a:lnTo>
                    <a:pt x="548" y="1373"/>
                  </a:lnTo>
                  <a:lnTo>
                    <a:pt x="543" y="1371"/>
                  </a:lnTo>
                  <a:lnTo>
                    <a:pt x="538" y="1367"/>
                  </a:lnTo>
                  <a:lnTo>
                    <a:pt x="534" y="1364"/>
                  </a:lnTo>
                  <a:lnTo>
                    <a:pt x="529" y="1359"/>
                  </a:lnTo>
                  <a:lnTo>
                    <a:pt x="520" y="1349"/>
                  </a:lnTo>
                  <a:lnTo>
                    <a:pt x="511" y="1339"/>
                  </a:lnTo>
                  <a:lnTo>
                    <a:pt x="504" y="1327"/>
                  </a:lnTo>
                  <a:lnTo>
                    <a:pt x="497" y="1315"/>
                  </a:lnTo>
                  <a:lnTo>
                    <a:pt x="491" y="1301"/>
                  </a:lnTo>
                  <a:lnTo>
                    <a:pt x="486" y="1287"/>
                  </a:lnTo>
                  <a:lnTo>
                    <a:pt x="483" y="1274"/>
                  </a:lnTo>
                  <a:lnTo>
                    <a:pt x="480" y="1258"/>
                  </a:lnTo>
                  <a:lnTo>
                    <a:pt x="479" y="1244"/>
                  </a:lnTo>
                  <a:lnTo>
                    <a:pt x="478" y="1228"/>
                  </a:lnTo>
                  <a:lnTo>
                    <a:pt x="478" y="1217"/>
                  </a:lnTo>
                  <a:lnTo>
                    <a:pt x="479" y="1207"/>
                  </a:lnTo>
                  <a:lnTo>
                    <a:pt x="480" y="1196"/>
                  </a:lnTo>
                  <a:lnTo>
                    <a:pt x="482" y="1185"/>
                  </a:lnTo>
                  <a:lnTo>
                    <a:pt x="484" y="1175"/>
                  </a:lnTo>
                  <a:lnTo>
                    <a:pt x="487" y="1166"/>
                  </a:lnTo>
                  <a:lnTo>
                    <a:pt x="490" y="1156"/>
                  </a:lnTo>
                  <a:lnTo>
                    <a:pt x="495" y="1147"/>
                  </a:lnTo>
                  <a:lnTo>
                    <a:pt x="499" y="1137"/>
                  </a:lnTo>
                  <a:lnTo>
                    <a:pt x="503" y="1129"/>
                  </a:lnTo>
                  <a:lnTo>
                    <a:pt x="508" y="1120"/>
                  </a:lnTo>
                  <a:lnTo>
                    <a:pt x="515" y="1112"/>
                  </a:lnTo>
                  <a:lnTo>
                    <a:pt x="521" y="1103"/>
                  </a:lnTo>
                  <a:lnTo>
                    <a:pt x="528" y="1096"/>
                  </a:lnTo>
                  <a:lnTo>
                    <a:pt x="536" y="1089"/>
                  </a:lnTo>
                  <a:lnTo>
                    <a:pt x="543" y="1082"/>
                  </a:lnTo>
                  <a:lnTo>
                    <a:pt x="560" y="1069"/>
                  </a:lnTo>
                  <a:lnTo>
                    <a:pt x="576" y="1058"/>
                  </a:lnTo>
                  <a:lnTo>
                    <a:pt x="593" y="1048"/>
                  </a:lnTo>
                  <a:lnTo>
                    <a:pt x="611" y="1040"/>
                  </a:lnTo>
                  <a:lnTo>
                    <a:pt x="629" y="1034"/>
                  </a:lnTo>
                  <a:lnTo>
                    <a:pt x="647" y="1030"/>
                  </a:lnTo>
                  <a:lnTo>
                    <a:pt x="666" y="1028"/>
                  </a:lnTo>
                  <a:lnTo>
                    <a:pt x="685" y="1027"/>
                  </a:lnTo>
                  <a:lnTo>
                    <a:pt x="695" y="1027"/>
                  </a:lnTo>
                  <a:lnTo>
                    <a:pt x="707" y="1028"/>
                  </a:lnTo>
                  <a:lnTo>
                    <a:pt x="735" y="1031"/>
                  </a:lnTo>
                  <a:lnTo>
                    <a:pt x="768" y="1036"/>
                  </a:lnTo>
                  <a:lnTo>
                    <a:pt x="807" y="1045"/>
                  </a:lnTo>
                  <a:lnTo>
                    <a:pt x="857" y="1054"/>
                  </a:lnTo>
                  <a:lnTo>
                    <a:pt x="902" y="1061"/>
                  </a:lnTo>
                  <a:lnTo>
                    <a:pt x="943" y="1065"/>
                  </a:lnTo>
                  <a:lnTo>
                    <a:pt x="980" y="1066"/>
                  </a:lnTo>
                  <a:lnTo>
                    <a:pt x="991" y="1066"/>
                  </a:lnTo>
                  <a:lnTo>
                    <a:pt x="1001" y="1065"/>
                  </a:lnTo>
                  <a:lnTo>
                    <a:pt x="1010" y="1064"/>
                  </a:lnTo>
                  <a:lnTo>
                    <a:pt x="1018" y="1061"/>
                  </a:lnTo>
                  <a:lnTo>
                    <a:pt x="1027" y="1058"/>
                  </a:lnTo>
                  <a:lnTo>
                    <a:pt x="1030" y="1057"/>
                  </a:lnTo>
                  <a:lnTo>
                    <a:pt x="1033" y="1054"/>
                  </a:lnTo>
                  <a:lnTo>
                    <a:pt x="1036" y="1053"/>
                  </a:lnTo>
                  <a:lnTo>
                    <a:pt x="1038" y="1051"/>
                  </a:lnTo>
                  <a:lnTo>
                    <a:pt x="1042" y="1048"/>
                  </a:lnTo>
                  <a:lnTo>
                    <a:pt x="1044" y="1046"/>
                  </a:lnTo>
                  <a:lnTo>
                    <a:pt x="1048" y="1041"/>
                  </a:lnTo>
                  <a:lnTo>
                    <a:pt x="1051" y="1035"/>
                  </a:lnTo>
                  <a:lnTo>
                    <a:pt x="1054" y="1030"/>
                  </a:lnTo>
                  <a:lnTo>
                    <a:pt x="1057" y="1025"/>
                  </a:lnTo>
                  <a:lnTo>
                    <a:pt x="1059" y="1020"/>
                  </a:lnTo>
                  <a:lnTo>
                    <a:pt x="1059" y="1017"/>
                  </a:lnTo>
                  <a:lnTo>
                    <a:pt x="1061" y="1015"/>
                  </a:lnTo>
                  <a:lnTo>
                    <a:pt x="1061" y="1012"/>
                  </a:lnTo>
                  <a:lnTo>
                    <a:pt x="1062" y="1010"/>
                  </a:lnTo>
                  <a:lnTo>
                    <a:pt x="1062" y="1008"/>
                  </a:lnTo>
                  <a:lnTo>
                    <a:pt x="1062" y="1005"/>
                  </a:lnTo>
                  <a:lnTo>
                    <a:pt x="1062" y="999"/>
                  </a:lnTo>
                  <a:lnTo>
                    <a:pt x="1061" y="991"/>
                  </a:lnTo>
                  <a:lnTo>
                    <a:pt x="1058" y="968"/>
                  </a:lnTo>
                  <a:lnTo>
                    <a:pt x="1057" y="963"/>
                  </a:lnTo>
                  <a:lnTo>
                    <a:pt x="1056" y="957"/>
                  </a:lnTo>
                  <a:lnTo>
                    <a:pt x="1055" y="952"/>
                  </a:lnTo>
                  <a:lnTo>
                    <a:pt x="1055" y="946"/>
                  </a:lnTo>
                  <a:lnTo>
                    <a:pt x="1054" y="936"/>
                  </a:lnTo>
                  <a:lnTo>
                    <a:pt x="1054" y="926"/>
                  </a:lnTo>
                  <a:lnTo>
                    <a:pt x="1054" y="915"/>
                  </a:lnTo>
                  <a:lnTo>
                    <a:pt x="1055" y="904"/>
                  </a:lnTo>
                  <a:lnTo>
                    <a:pt x="1057" y="892"/>
                  </a:lnTo>
                  <a:lnTo>
                    <a:pt x="1059" y="882"/>
                  </a:lnTo>
                  <a:lnTo>
                    <a:pt x="1062" y="870"/>
                  </a:lnTo>
                  <a:lnTo>
                    <a:pt x="1065" y="858"/>
                  </a:lnTo>
                  <a:lnTo>
                    <a:pt x="1069" y="844"/>
                  </a:lnTo>
                  <a:lnTo>
                    <a:pt x="1073" y="832"/>
                  </a:lnTo>
                  <a:lnTo>
                    <a:pt x="1073" y="856"/>
                  </a:lnTo>
                  <a:lnTo>
                    <a:pt x="1052" y="888"/>
                  </a:lnTo>
                  <a:lnTo>
                    <a:pt x="1031" y="915"/>
                  </a:lnTo>
                  <a:lnTo>
                    <a:pt x="1010" y="939"/>
                  </a:lnTo>
                  <a:lnTo>
                    <a:pt x="999" y="949"/>
                  </a:lnTo>
                  <a:lnTo>
                    <a:pt x="989" y="958"/>
                  </a:lnTo>
                  <a:lnTo>
                    <a:pt x="978" y="966"/>
                  </a:lnTo>
                  <a:lnTo>
                    <a:pt x="967" y="973"/>
                  </a:lnTo>
                  <a:lnTo>
                    <a:pt x="956" y="979"/>
                  </a:lnTo>
                  <a:lnTo>
                    <a:pt x="945" y="984"/>
                  </a:lnTo>
                  <a:lnTo>
                    <a:pt x="935" y="987"/>
                  </a:lnTo>
                  <a:lnTo>
                    <a:pt x="924" y="990"/>
                  </a:lnTo>
                  <a:lnTo>
                    <a:pt x="913" y="992"/>
                  </a:lnTo>
                  <a:lnTo>
                    <a:pt x="902" y="992"/>
                  </a:lnTo>
                  <a:lnTo>
                    <a:pt x="898" y="992"/>
                  </a:lnTo>
                  <a:lnTo>
                    <a:pt x="894" y="992"/>
                  </a:lnTo>
                  <a:lnTo>
                    <a:pt x="888" y="991"/>
                  </a:lnTo>
                  <a:lnTo>
                    <a:pt x="884" y="990"/>
                  </a:lnTo>
                  <a:lnTo>
                    <a:pt x="880" y="988"/>
                  </a:lnTo>
                  <a:lnTo>
                    <a:pt x="876" y="987"/>
                  </a:lnTo>
                  <a:lnTo>
                    <a:pt x="871" y="986"/>
                  </a:lnTo>
                  <a:lnTo>
                    <a:pt x="868" y="984"/>
                  </a:lnTo>
                  <a:lnTo>
                    <a:pt x="864" y="981"/>
                  </a:lnTo>
                  <a:lnTo>
                    <a:pt x="860" y="979"/>
                  </a:lnTo>
                  <a:lnTo>
                    <a:pt x="851" y="973"/>
                  </a:lnTo>
                  <a:lnTo>
                    <a:pt x="844" y="967"/>
                  </a:lnTo>
                  <a:lnTo>
                    <a:pt x="837" y="958"/>
                  </a:lnTo>
                  <a:lnTo>
                    <a:pt x="833" y="954"/>
                  </a:lnTo>
                  <a:lnTo>
                    <a:pt x="830" y="950"/>
                  </a:lnTo>
                  <a:lnTo>
                    <a:pt x="827" y="945"/>
                  </a:lnTo>
                  <a:lnTo>
                    <a:pt x="824" y="940"/>
                  </a:lnTo>
                  <a:lnTo>
                    <a:pt x="822" y="934"/>
                  </a:lnTo>
                  <a:lnTo>
                    <a:pt x="820" y="930"/>
                  </a:lnTo>
                  <a:lnTo>
                    <a:pt x="818" y="925"/>
                  </a:lnTo>
                  <a:lnTo>
                    <a:pt x="816" y="919"/>
                  </a:lnTo>
                  <a:lnTo>
                    <a:pt x="812" y="907"/>
                  </a:lnTo>
                  <a:lnTo>
                    <a:pt x="810" y="895"/>
                  </a:lnTo>
                  <a:lnTo>
                    <a:pt x="808" y="882"/>
                  </a:lnTo>
                  <a:lnTo>
                    <a:pt x="808" y="867"/>
                  </a:lnTo>
                  <a:lnTo>
                    <a:pt x="808" y="852"/>
                  </a:lnTo>
                  <a:lnTo>
                    <a:pt x="809" y="836"/>
                  </a:lnTo>
                  <a:lnTo>
                    <a:pt x="811" y="820"/>
                  </a:lnTo>
                  <a:lnTo>
                    <a:pt x="813" y="805"/>
                  </a:lnTo>
                  <a:lnTo>
                    <a:pt x="816" y="789"/>
                  </a:lnTo>
                  <a:lnTo>
                    <a:pt x="820" y="772"/>
                  </a:lnTo>
                  <a:lnTo>
                    <a:pt x="823" y="756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56200" y="1414440"/>
              <a:ext cx="314280" cy="357120"/>
            </a:xfrm>
            <a:custGeom>
              <a:avLst/>
              <a:gdLst/>
              <a:ahLst/>
              <a:rect l="l" t="t" r="r" b="b"/>
              <a:pathLst>
                <a:path w="874" h="993">
                  <a:moveTo>
                    <a:pt x="653" y="28"/>
                  </a:moveTo>
                  <a:lnTo>
                    <a:pt x="826" y="28"/>
                  </a:lnTo>
                  <a:lnTo>
                    <a:pt x="735" y="433"/>
                  </a:lnTo>
                  <a:lnTo>
                    <a:pt x="677" y="688"/>
                  </a:lnTo>
                  <a:lnTo>
                    <a:pt x="662" y="763"/>
                  </a:lnTo>
                  <a:lnTo>
                    <a:pt x="658" y="787"/>
                  </a:lnTo>
                  <a:lnTo>
                    <a:pt x="657" y="796"/>
                  </a:lnTo>
                  <a:lnTo>
                    <a:pt x="657" y="802"/>
                  </a:lnTo>
                  <a:lnTo>
                    <a:pt x="657" y="806"/>
                  </a:lnTo>
                  <a:lnTo>
                    <a:pt x="657" y="808"/>
                  </a:lnTo>
                  <a:lnTo>
                    <a:pt x="657" y="811"/>
                  </a:lnTo>
                  <a:lnTo>
                    <a:pt x="658" y="813"/>
                  </a:lnTo>
                  <a:lnTo>
                    <a:pt x="658" y="816"/>
                  </a:lnTo>
                  <a:lnTo>
                    <a:pt x="658" y="816"/>
                  </a:lnTo>
                  <a:lnTo>
                    <a:pt x="659" y="817"/>
                  </a:lnTo>
                  <a:lnTo>
                    <a:pt x="659" y="818"/>
                  </a:lnTo>
                  <a:lnTo>
                    <a:pt x="659" y="818"/>
                  </a:lnTo>
                  <a:lnTo>
                    <a:pt x="660" y="819"/>
                  </a:lnTo>
                  <a:lnTo>
                    <a:pt x="660" y="819"/>
                  </a:lnTo>
                  <a:lnTo>
                    <a:pt x="661" y="820"/>
                  </a:lnTo>
                  <a:lnTo>
                    <a:pt x="662" y="822"/>
                  </a:lnTo>
                  <a:lnTo>
                    <a:pt x="662" y="822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5" y="823"/>
                  </a:lnTo>
                  <a:lnTo>
                    <a:pt x="667" y="823"/>
                  </a:lnTo>
                  <a:lnTo>
                    <a:pt x="669" y="822"/>
                  </a:lnTo>
                  <a:lnTo>
                    <a:pt x="672" y="822"/>
                  </a:lnTo>
                  <a:lnTo>
                    <a:pt x="676" y="820"/>
                  </a:lnTo>
                  <a:lnTo>
                    <a:pt x="679" y="819"/>
                  </a:lnTo>
                  <a:lnTo>
                    <a:pt x="682" y="817"/>
                  </a:lnTo>
                  <a:lnTo>
                    <a:pt x="688" y="813"/>
                  </a:lnTo>
                  <a:lnTo>
                    <a:pt x="698" y="806"/>
                  </a:lnTo>
                  <a:lnTo>
                    <a:pt x="708" y="795"/>
                  </a:lnTo>
                  <a:lnTo>
                    <a:pt x="738" y="768"/>
                  </a:lnTo>
                  <a:lnTo>
                    <a:pt x="822" y="681"/>
                  </a:lnTo>
                  <a:lnTo>
                    <a:pt x="873" y="745"/>
                  </a:lnTo>
                  <a:lnTo>
                    <a:pt x="824" y="802"/>
                  </a:lnTo>
                  <a:lnTo>
                    <a:pt x="778" y="853"/>
                  </a:lnTo>
                  <a:lnTo>
                    <a:pt x="736" y="895"/>
                  </a:lnTo>
                  <a:lnTo>
                    <a:pt x="696" y="930"/>
                  </a:lnTo>
                  <a:lnTo>
                    <a:pt x="660" y="957"/>
                  </a:lnTo>
                  <a:lnTo>
                    <a:pt x="643" y="968"/>
                  </a:lnTo>
                  <a:lnTo>
                    <a:pt x="627" y="976"/>
                  </a:lnTo>
                  <a:lnTo>
                    <a:pt x="611" y="984"/>
                  </a:lnTo>
                  <a:lnTo>
                    <a:pt x="597" y="988"/>
                  </a:lnTo>
                  <a:lnTo>
                    <a:pt x="584" y="991"/>
                  </a:lnTo>
                  <a:lnTo>
                    <a:pt x="571" y="992"/>
                  </a:lnTo>
                  <a:lnTo>
                    <a:pt x="560" y="992"/>
                  </a:lnTo>
                  <a:lnTo>
                    <a:pt x="551" y="990"/>
                  </a:lnTo>
                  <a:lnTo>
                    <a:pt x="547" y="988"/>
                  </a:lnTo>
                  <a:lnTo>
                    <a:pt x="543" y="987"/>
                  </a:lnTo>
                  <a:lnTo>
                    <a:pt x="538" y="986"/>
                  </a:lnTo>
                  <a:lnTo>
                    <a:pt x="534" y="984"/>
                  </a:lnTo>
                  <a:lnTo>
                    <a:pt x="530" y="981"/>
                  </a:lnTo>
                  <a:lnTo>
                    <a:pt x="526" y="979"/>
                  </a:lnTo>
                  <a:lnTo>
                    <a:pt x="521" y="976"/>
                  </a:lnTo>
                  <a:lnTo>
                    <a:pt x="518" y="973"/>
                  </a:lnTo>
                  <a:lnTo>
                    <a:pt x="514" y="970"/>
                  </a:lnTo>
                  <a:lnTo>
                    <a:pt x="511" y="967"/>
                  </a:lnTo>
                  <a:lnTo>
                    <a:pt x="503" y="958"/>
                  </a:lnTo>
                  <a:lnTo>
                    <a:pt x="500" y="955"/>
                  </a:lnTo>
                  <a:lnTo>
                    <a:pt x="497" y="950"/>
                  </a:lnTo>
                  <a:lnTo>
                    <a:pt x="494" y="945"/>
                  </a:lnTo>
                  <a:lnTo>
                    <a:pt x="492" y="940"/>
                  </a:lnTo>
                  <a:lnTo>
                    <a:pt x="490" y="936"/>
                  </a:lnTo>
                  <a:lnTo>
                    <a:pt x="488" y="930"/>
                  </a:lnTo>
                  <a:lnTo>
                    <a:pt x="483" y="919"/>
                  </a:lnTo>
                  <a:lnTo>
                    <a:pt x="480" y="907"/>
                  </a:lnTo>
                  <a:lnTo>
                    <a:pt x="479" y="895"/>
                  </a:lnTo>
                  <a:lnTo>
                    <a:pt x="477" y="882"/>
                  </a:lnTo>
                  <a:lnTo>
                    <a:pt x="477" y="867"/>
                  </a:lnTo>
                  <a:lnTo>
                    <a:pt x="477" y="853"/>
                  </a:lnTo>
                  <a:lnTo>
                    <a:pt x="478" y="837"/>
                  </a:lnTo>
                  <a:lnTo>
                    <a:pt x="480" y="822"/>
                  </a:lnTo>
                  <a:lnTo>
                    <a:pt x="482" y="806"/>
                  </a:lnTo>
                  <a:lnTo>
                    <a:pt x="486" y="790"/>
                  </a:lnTo>
                  <a:lnTo>
                    <a:pt x="489" y="774"/>
                  </a:lnTo>
                  <a:lnTo>
                    <a:pt x="493" y="757"/>
                  </a:lnTo>
                  <a:lnTo>
                    <a:pt x="498" y="740"/>
                  </a:lnTo>
                  <a:lnTo>
                    <a:pt x="484" y="766"/>
                  </a:lnTo>
                  <a:lnTo>
                    <a:pt x="468" y="792"/>
                  </a:lnTo>
                  <a:lnTo>
                    <a:pt x="450" y="816"/>
                  </a:lnTo>
                  <a:lnTo>
                    <a:pt x="427" y="840"/>
                  </a:lnTo>
                  <a:lnTo>
                    <a:pt x="404" y="864"/>
                  </a:lnTo>
                  <a:lnTo>
                    <a:pt x="378" y="886"/>
                  </a:lnTo>
                  <a:lnTo>
                    <a:pt x="349" y="909"/>
                  </a:lnTo>
                  <a:lnTo>
                    <a:pt x="319" y="931"/>
                  </a:lnTo>
                  <a:lnTo>
                    <a:pt x="298" y="944"/>
                  </a:lnTo>
                  <a:lnTo>
                    <a:pt x="276" y="956"/>
                  </a:lnTo>
                  <a:lnTo>
                    <a:pt x="256" y="966"/>
                  </a:lnTo>
                  <a:lnTo>
                    <a:pt x="237" y="974"/>
                  </a:lnTo>
                  <a:lnTo>
                    <a:pt x="218" y="980"/>
                  </a:lnTo>
                  <a:lnTo>
                    <a:pt x="200" y="985"/>
                  </a:lnTo>
                  <a:lnTo>
                    <a:pt x="182" y="987"/>
                  </a:lnTo>
                  <a:lnTo>
                    <a:pt x="166" y="988"/>
                  </a:lnTo>
                  <a:lnTo>
                    <a:pt x="155" y="988"/>
                  </a:lnTo>
                  <a:lnTo>
                    <a:pt x="145" y="986"/>
                  </a:lnTo>
                  <a:lnTo>
                    <a:pt x="140" y="985"/>
                  </a:lnTo>
                  <a:lnTo>
                    <a:pt x="136" y="984"/>
                  </a:lnTo>
                  <a:lnTo>
                    <a:pt x="132" y="982"/>
                  </a:lnTo>
                  <a:lnTo>
                    <a:pt x="128" y="980"/>
                  </a:lnTo>
                  <a:lnTo>
                    <a:pt x="123" y="978"/>
                  </a:lnTo>
                  <a:lnTo>
                    <a:pt x="119" y="975"/>
                  </a:lnTo>
                  <a:lnTo>
                    <a:pt x="115" y="973"/>
                  </a:lnTo>
                  <a:lnTo>
                    <a:pt x="112" y="970"/>
                  </a:lnTo>
                  <a:lnTo>
                    <a:pt x="107" y="967"/>
                  </a:lnTo>
                  <a:lnTo>
                    <a:pt x="104" y="963"/>
                  </a:lnTo>
                  <a:lnTo>
                    <a:pt x="101" y="960"/>
                  </a:lnTo>
                  <a:lnTo>
                    <a:pt x="98" y="956"/>
                  </a:lnTo>
                  <a:lnTo>
                    <a:pt x="95" y="952"/>
                  </a:lnTo>
                  <a:lnTo>
                    <a:pt x="93" y="948"/>
                  </a:lnTo>
                  <a:lnTo>
                    <a:pt x="90" y="943"/>
                  </a:lnTo>
                  <a:lnTo>
                    <a:pt x="87" y="938"/>
                  </a:lnTo>
                  <a:lnTo>
                    <a:pt x="85" y="933"/>
                  </a:lnTo>
                  <a:lnTo>
                    <a:pt x="83" y="928"/>
                  </a:lnTo>
                  <a:lnTo>
                    <a:pt x="80" y="916"/>
                  </a:lnTo>
                  <a:lnTo>
                    <a:pt x="77" y="904"/>
                  </a:lnTo>
                  <a:lnTo>
                    <a:pt x="75" y="891"/>
                  </a:lnTo>
                  <a:lnTo>
                    <a:pt x="74" y="877"/>
                  </a:lnTo>
                  <a:lnTo>
                    <a:pt x="74" y="861"/>
                  </a:lnTo>
                  <a:lnTo>
                    <a:pt x="75" y="838"/>
                  </a:lnTo>
                  <a:lnTo>
                    <a:pt x="76" y="816"/>
                  </a:lnTo>
                  <a:lnTo>
                    <a:pt x="79" y="792"/>
                  </a:lnTo>
                  <a:lnTo>
                    <a:pt x="82" y="766"/>
                  </a:lnTo>
                  <a:lnTo>
                    <a:pt x="91" y="723"/>
                  </a:lnTo>
                  <a:lnTo>
                    <a:pt x="104" y="663"/>
                  </a:lnTo>
                  <a:lnTo>
                    <a:pt x="145" y="491"/>
                  </a:lnTo>
                  <a:lnTo>
                    <a:pt x="173" y="374"/>
                  </a:lnTo>
                  <a:lnTo>
                    <a:pt x="193" y="286"/>
                  </a:lnTo>
                  <a:lnTo>
                    <a:pt x="205" y="221"/>
                  </a:lnTo>
                  <a:lnTo>
                    <a:pt x="208" y="199"/>
                  </a:lnTo>
                  <a:lnTo>
                    <a:pt x="209" y="191"/>
                  </a:lnTo>
                  <a:lnTo>
                    <a:pt x="209" y="184"/>
                  </a:lnTo>
                  <a:lnTo>
                    <a:pt x="209" y="180"/>
                  </a:lnTo>
                  <a:lnTo>
                    <a:pt x="209" y="179"/>
                  </a:lnTo>
                  <a:lnTo>
                    <a:pt x="209" y="179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08" y="176"/>
                  </a:lnTo>
                  <a:lnTo>
                    <a:pt x="207" y="176"/>
                  </a:lnTo>
                  <a:lnTo>
                    <a:pt x="205" y="178"/>
                  </a:lnTo>
                  <a:lnTo>
                    <a:pt x="203" y="178"/>
                  </a:lnTo>
                  <a:lnTo>
                    <a:pt x="199" y="179"/>
                  </a:lnTo>
                  <a:lnTo>
                    <a:pt x="194" y="181"/>
                  </a:lnTo>
                  <a:lnTo>
                    <a:pt x="190" y="184"/>
                  </a:lnTo>
                  <a:lnTo>
                    <a:pt x="185" y="186"/>
                  </a:lnTo>
                  <a:lnTo>
                    <a:pt x="172" y="194"/>
                  </a:lnTo>
                  <a:lnTo>
                    <a:pt x="164" y="199"/>
                  </a:lnTo>
                  <a:lnTo>
                    <a:pt x="156" y="206"/>
                  </a:lnTo>
                  <a:lnTo>
                    <a:pt x="132" y="228"/>
                  </a:lnTo>
                  <a:lnTo>
                    <a:pt x="63" y="294"/>
                  </a:lnTo>
                  <a:lnTo>
                    <a:pt x="0" y="234"/>
                  </a:lnTo>
                  <a:lnTo>
                    <a:pt x="64" y="166"/>
                  </a:lnTo>
                  <a:lnTo>
                    <a:pt x="119" y="112"/>
                  </a:lnTo>
                  <a:lnTo>
                    <a:pt x="144" y="89"/>
                  </a:lnTo>
                  <a:lnTo>
                    <a:pt x="167" y="70"/>
                  </a:lnTo>
                  <a:lnTo>
                    <a:pt x="188" y="54"/>
                  </a:lnTo>
                  <a:lnTo>
                    <a:pt x="207" y="42"/>
                  </a:lnTo>
                  <a:lnTo>
                    <a:pt x="224" y="32"/>
                  </a:lnTo>
                  <a:lnTo>
                    <a:pt x="241" y="24"/>
                  </a:lnTo>
                  <a:lnTo>
                    <a:pt x="255" y="17"/>
                  </a:lnTo>
                  <a:lnTo>
                    <a:pt x="271" y="11"/>
                  </a:lnTo>
                  <a:lnTo>
                    <a:pt x="285" y="6"/>
                  </a:lnTo>
                  <a:lnTo>
                    <a:pt x="299" y="2"/>
                  </a:lnTo>
                  <a:lnTo>
                    <a:pt x="311" y="1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8" y="1"/>
                  </a:lnTo>
                  <a:lnTo>
                    <a:pt x="342" y="2"/>
                  </a:lnTo>
                  <a:lnTo>
                    <a:pt x="345" y="4"/>
                  </a:lnTo>
                  <a:lnTo>
                    <a:pt x="348" y="5"/>
                  </a:lnTo>
                  <a:lnTo>
                    <a:pt x="352" y="6"/>
                  </a:lnTo>
                  <a:lnTo>
                    <a:pt x="356" y="8"/>
                  </a:lnTo>
                  <a:lnTo>
                    <a:pt x="358" y="10"/>
                  </a:lnTo>
                  <a:lnTo>
                    <a:pt x="361" y="12"/>
                  </a:lnTo>
                  <a:lnTo>
                    <a:pt x="364" y="14"/>
                  </a:lnTo>
                  <a:lnTo>
                    <a:pt x="367" y="17"/>
                  </a:lnTo>
                  <a:lnTo>
                    <a:pt x="369" y="20"/>
                  </a:lnTo>
                  <a:lnTo>
                    <a:pt x="373" y="23"/>
                  </a:lnTo>
                  <a:lnTo>
                    <a:pt x="375" y="26"/>
                  </a:lnTo>
                  <a:lnTo>
                    <a:pt x="377" y="30"/>
                  </a:lnTo>
                  <a:lnTo>
                    <a:pt x="380" y="34"/>
                  </a:lnTo>
                  <a:lnTo>
                    <a:pt x="382" y="37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7" y="49"/>
                  </a:lnTo>
                  <a:lnTo>
                    <a:pt x="389" y="58"/>
                  </a:lnTo>
                  <a:lnTo>
                    <a:pt x="392" y="67"/>
                  </a:lnTo>
                  <a:lnTo>
                    <a:pt x="394" y="77"/>
                  </a:lnTo>
                  <a:lnTo>
                    <a:pt x="395" y="88"/>
                  </a:lnTo>
                  <a:lnTo>
                    <a:pt x="395" y="100"/>
                  </a:lnTo>
                  <a:lnTo>
                    <a:pt x="394" y="122"/>
                  </a:lnTo>
                  <a:lnTo>
                    <a:pt x="390" y="152"/>
                  </a:lnTo>
                  <a:lnTo>
                    <a:pt x="378" y="232"/>
                  </a:lnTo>
                  <a:lnTo>
                    <a:pt x="356" y="338"/>
                  </a:lnTo>
                  <a:lnTo>
                    <a:pt x="325" y="473"/>
                  </a:lnTo>
                  <a:lnTo>
                    <a:pt x="280" y="675"/>
                  </a:lnTo>
                  <a:lnTo>
                    <a:pt x="269" y="735"/>
                  </a:lnTo>
                  <a:lnTo>
                    <a:pt x="266" y="754"/>
                  </a:lnTo>
                  <a:lnTo>
                    <a:pt x="265" y="762"/>
                  </a:lnTo>
                  <a:lnTo>
                    <a:pt x="265" y="766"/>
                  </a:lnTo>
                  <a:lnTo>
                    <a:pt x="265" y="770"/>
                  </a:lnTo>
                  <a:lnTo>
                    <a:pt x="265" y="774"/>
                  </a:lnTo>
                  <a:lnTo>
                    <a:pt x="266" y="777"/>
                  </a:lnTo>
                  <a:lnTo>
                    <a:pt x="267" y="780"/>
                  </a:lnTo>
                  <a:lnTo>
                    <a:pt x="267" y="781"/>
                  </a:lnTo>
                  <a:lnTo>
                    <a:pt x="268" y="783"/>
                  </a:lnTo>
                  <a:lnTo>
                    <a:pt x="268" y="784"/>
                  </a:lnTo>
                  <a:lnTo>
                    <a:pt x="269" y="786"/>
                  </a:lnTo>
                  <a:lnTo>
                    <a:pt x="269" y="787"/>
                  </a:lnTo>
                  <a:lnTo>
                    <a:pt x="270" y="788"/>
                  </a:lnTo>
                  <a:lnTo>
                    <a:pt x="271" y="789"/>
                  </a:lnTo>
                  <a:lnTo>
                    <a:pt x="272" y="790"/>
                  </a:lnTo>
                  <a:lnTo>
                    <a:pt x="274" y="793"/>
                  </a:lnTo>
                  <a:lnTo>
                    <a:pt x="275" y="794"/>
                  </a:lnTo>
                  <a:lnTo>
                    <a:pt x="277" y="796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1" y="799"/>
                  </a:lnTo>
                  <a:lnTo>
                    <a:pt x="282" y="799"/>
                  </a:lnTo>
                  <a:lnTo>
                    <a:pt x="283" y="799"/>
                  </a:lnTo>
                  <a:lnTo>
                    <a:pt x="284" y="800"/>
                  </a:lnTo>
                  <a:lnTo>
                    <a:pt x="284" y="800"/>
                  </a:lnTo>
                  <a:lnTo>
                    <a:pt x="285" y="800"/>
                  </a:lnTo>
                  <a:lnTo>
                    <a:pt x="286" y="800"/>
                  </a:lnTo>
                  <a:lnTo>
                    <a:pt x="291" y="800"/>
                  </a:lnTo>
                  <a:lnTo>
                    <a:pt x="298" y="799"/>
                  </a:lnTo>
                  <a:lnTo>
                    <a:pt x="304" y="796"/>
                  </a:lnTo>
                  <a:lnTo>
                    <a:pt x="311" y="794"/>
                  </a:lnTo>
                  <a:lnTo>
                    <a:pt x="319" y="790"/>
                  </a:lnTo>
                  <a:lnTo>
                    <a:pt x="326" y="787"/>
                  </a:lnTo>
                  <a:lnTo>
                    <a:pt x="343" y="776"/>
                  </a:lnTo>
                  <a:lnTo>
                    <a:pt x="361" y="763"/>
                  </a:lnTo>
                  <a:lnTo>
                    <a:pt x="381" y="747"/>
                  </a:lnTo>
                  <a:lnTo>
                    <a:pt x="402" y="728"/>
                  </a:lnTo>
                  <a:lnTo>
                    <a:pt x="424" y="705"/>
                  </a:lnTo>
                  <a:lnTo>
                    <a:pt x="446" y="681"/>
                  </a:lnTo>
                  <a:lnTo>
                    <a:pt x="466" y="656"/>
                  </a:lnTo>
                  <a:lnTo>
                    <a:pt x="484" y="630"/>
                  </a:lnTo>
                  <a:lnTo>
                    <a:pt x="501" y="603"/>
                  </a:lnTo>
                  <a:lnTo>
                    <a:pt x="515" y="576"/>
                  </a:lnTo>
                  <a:lnTo>
                    <a:pt x="528" y="548"/>
                  </a:lnTo>
                  <a:lnTo>
                    <a:pt x="537" y="518"/>
                  </a:lnTo>
                  <a:lnTo>
                    <a:pt x="546" y="488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6320" y="1413000"/>
              <a:ext cx="228600" cy="353880"/>
            </a:xfrm>
            <a:custGeom>
              <a:avLst/>
              <a:gdLst/>
              <a:ahLst/>
              <a:rect l="l" t="t" r="r" b="b"/>
              <a:pathLst>
                <a:path w="637" h="984">
                  <a:moveTo>
                    <a:pt x="532" y="638"/>
                  </a:moveTo>
                  <a:lnTo>
                    <a:pt x="580" y="712"/>
                  </a:lnTo>
                  <a:lnTo>
                    <a:pt x="520" y="776"/>
                  </a:lnTo>
                  <a:lnTo>
                    <a:pt x="462" y="831"/>
                  </a:lnTo>
                  <a:lnTo>
                    <a:pt x="406" y="878"/>
                  </a:lnTo>
                  <a:lnTo>
                    <a:pt x="352" y="916"/>
                  </a:lnTo>
                  <a:lnTo>
                    <a:pt x="300" y="945"/>
                  </a:lnTo>
                  <a:lnTo>
                    <a:pt x="276" y="957"/>
                  </a:lnTo>
                  <a:lnTo>
                    <a:pt x="252" y="966"/>
                  </a:lnTo>
                  <a:lnTo>
                    <a:pt x="227" y="974"/>
                  </a:lnTo>
                  <a:lnTo>
                    <a:pt x="204" y="978"/>
                  </a:lnTo>
                  <a:lnTo>
                    <a:pt x="182" y="982"/>
                  </a:lnTo>
                  <a:lnTo>
                    <a:pt x="160" y="983"/>
                  </a:lnTo>
                  <a:lnTo>
                    <a:pt x="141" y="982"/>
                  </a:lnTo>
                  <a:lnTo>
                    <a:pt x="123" y="980"/>
                  </a:lnTo>
                  <a:lnTo>
                    <a:pt x="114" y="977"/>
                  </a:lnTo>
                  <a:lnTo>
                    <a:pt x="107" y="975"/>
                  </a:lnTo>
                  <a:lnTo>
                    <a:pt x="98" y="972"/>
                  </a:lnTo>
                  <a:lnTo>
                    <a:pt x="91" y="969"/>
                  </a:lnTo>
                  <a:lnTo>
                    <a:pt x="84" y="965"/>
                  </a:lnTo>
                  <a:lnTo>
                    <a:pt x="77" y="960"/>
                  </a:lnTo>
                  <a:lnTo>
                    <a:pt x="70" y="956"/>
                  </a:lnTo>
                  <a:lnTo>
                    <a:pt x="64" y="951"/>
                  </a:lnTo>
                  <a:lnTo>
                    <a:pt x="57" y="945"/>
                  </a:lnTo>
                  <a:lnTo>
                    <a:pt x="52" y="939"/>
                  </a:lnTo>
                  <a:lnTo>
                    <a:pt x="47" y="932"/>
                  </a:lnTo>
                  <a:lnTo>
                    <a:pt x="41" y="924"/>
                  </a:lnTo>
                  <a:lnTo>
                    <a:pt x="36" y="917"/>
                  </a:lnTo>
                  <a:lnTo>
                    <a:pt x="32" y="909"/>
                  </a:lnTo>
                  <a:lnTo>
                    <a:pt x="28" y="900"/>
                  </a:lnTo>
                  <a:lnTo>
                    <a:pt x="23" y="891"/>
                  </a:lnTo>
                  <a:lnTo>
                    <a:pt x="16" y="870"/>
                  </a:lnTo>
                  <a:lnTo>
                    <a:pt x="11" y="849"/>
                  </a:lnTo>
                  <a:lnTo>
                    <a:pt x="6" y="825"/>
                  </a:lnTo>
                  <a:lnTo>
                    <a:pt x="2" y="800"/>
                  </a:lnTo>
                  <a:lnTo>
                    <a:pt x="1" y="772"/>
                  </a:lnTo>
                  <a:lnTo>
                    <a:pt x="0" y="742"/>
                  </a:lnTo>
                  <a:lnTo>
                    <a:pt x="2" y="683"/>
                  </a:lnTo>
                  <a:lnTo>
                    <a:pt x="9" y="623"/>
                  </a:lnTo>
                  <a:lnTo>
                    <a:pt x="18" y="565"/>
                  </a:lnTo>
                  <a:lnTo>
                    <a:pt x="32" y="506"/>
                  </a:lnTo>
                  <a:lnTo>
                    <a:pt x="50" y="447"/>
                  </a:lnTo>
                  <a:lnTo>
                    <a:pt x="72" y="388"/>
                  </a:lnTo>
                  <a:lnTo>
                    <a:pt x="97" y="329"/>
                  </a:lnTo>
                  <a:lnTo>
                    <a:pt x="127" y="271"/>
                  </a:lnTo>
                  <a:lnTo>
                    <a:pt x="164" y="207"/>
                  </a:lnTo>
                  <a:lnTo>
                    <a:pt x="203" y="152"/>
                  </a:lnTo>
                  <a:lnTo>
                    <a:pt x="223" y="128"/>
                  </a:lnTo>
                  <a:lnTo>
                    <a:pt x="244" y="105"/>
                  </a:lnTo>
                  <a:lnTo>
                    <a:pt x="265" y="85"/>
                  </a:lnTo>
                  <a:lnTo>
                    <a:pt x="286" y="67"/>
                  </a:lnTo>
                  <a:lnTo>
                    <a:pt x="309" y="51"/>
                  </a:lnTo>
                  <a:lnTo>
                    <a:pt x="332" y="38"/>
                  </a:lnTo>
                  <a:lnTo>
                    <a:pt x="354" y="26"/>
                  </a:lnTo>
                  <a:lnTo>
                    <a:pt x="378" y="16"/>
                  </a:lnTo>
                  <a:lnTo>
                    <a:pt x="401" y="9"/>
                  </a:lnTo>
                  <a:lnTo>
                    <a:pt x="426" y="4"/>
                  </a:lnTo>
                  <a:lnTo>
                    <a:pt x="451" y="1"/>
                  </a:lnTo>
                  <a:lnTo>
                    <a:pt x="476" y="0"/>
                  </a:lnTo>
                  <a:lnTo>
                    <a:pt x="494" y="1"/>
                  </a:lnTo>
                  <a:lnTo>
                    <a:pt x="512" y="2"/>
                  </a:lnTo>
                  <a:lnTo>
                    <a:pt x="528" y="6"/>
                  </a:lnTo>
                  <a:lnTo>
                    <a:pt x="544" y="10"/>
                  </a:lnTo>
                  <a:lnTo>
                    <a:pt x="551" y="14"/>
                  </a:lnTo>
                  <a:lnTo>
                    <a:pt x="558" y="16"/>
                  </a:lnTo>
                  <a:lnTo>
                    <a:pt x="564" y="20"/>
                  </a:lnTo>
                  <a:lnTo>
                    <a:pt x="570" y="25"/>
                  </a:lnTo>
                  <a:lnTo>
                    <a:pt x="577" y="28"/>
                  </a:lnTo>
                  <a:lnTo>
                    <a:pt x="583" y="33"/>
                  </a:lnTo>
                  <a:lnTo>
                    <a:pt x="588" y="38"/>
                  </a:lnTo>
                  <a:lnTo>
                    <a:pt x="594" y="44"/>
                  </a:lnTo>
                  <a:lnTo>
                    <a:pt x="599" y="50"/>
                  </a:lnTo>
                  <a:lnTo>
                    <a:pt x="603" y="56"/>
                  </a:lnTo>
                  <a:lnTo>
                    <a:pt x="608" y="62"/>
                  </a:lnTo>
                  <a:lnTo>
                    <a:pt x="613" y="68"/>
                  </a:lnTo>
                  <a:lnTo>
                    <a:pt x="616" y="75"/>
                  </a:lnTo>
                  <a:lnTo>
                    <a:pt x="620" y="82"/>
                  </a:lnTo>
                  <a:lnTo>
                    <a:pt x="622" y="90"/>
                  </a:lnTo>
                  <a:lnTo>
                    <a:pt x="625" y="97"/>
                  </a:lnTo>
                  <a:lnTo>
                    <a:pt x="627" y="105"/>
                  </a:lnTo>
                  <a:lnTo>
                    <a:pt x="630" y="112"/>
                  </a:lnTo>
                  <a:lnTo>
                    <a:pt x="634" y="129"/>
                  </a:lnTo>
                  <a:lnTo>
                    <a:pt x="635" y="147"/>
                  </a:lnTo>
                  <a:lnTo>
                    <a:pt x="636" y="165"/>
                  </a:lnTo>
                  <a:lnTo>
                    <a:pt x="635" y="184"/>
                  </a:lnTo>
                  <a:lnTo>
                    <a:pt x="633" y="204"/>
                  </a:lnTo>
                  <a:lnTo>
                    <a:pt x="630" y="223"/>
                  </a:lnTo>
                  <a:lnTo>
                    <a:pt x="624" y="242"/>
                  </a:lnTo>
                  <a:lnTo>
                    <a:pt x="618" y="260"/>
                  </a:lnTo>
                  <a:lnTo>
                    <a:pt x="610" y="279"/>
                  </a:lnTo>
                  <a:lnTo>
                    <a:pt x="600" y="297"/>
                  </a:lnTo>
                  <a:lnTo>
                    <a:pt x="589" y="315"/>
                  </a:lnTo>
                  <a:lnTo>
                    <a:pt x="577" y="333"/>
                  </a:lnTo>
                  <a:lnTo>
                    <a:pt x="563" y="351"/>
                  </a:lnTo>
                  <a:lnTo>
                    <a:pt x="547" y="369"/>
                  </a:lnTo>
                  <a:lnTo>
                    <a:pt x="529" y="387"/>
                  </a:lnTo>
                  <a:lnTo>
                    <a:pt x="509" y="405"/>
                  </a:lnTo>
                  <a:lnTo>
                    <a:pt x="488" y="423"/>
                  </a:lnTo>
                  <a:lnTo>
                    <a:pt x="465" y="440"/>
                  </a:lnTo>
                  <a:lnTo>
                    <a:pt x="440" y="458"/>
                  </a:lnTo>
                  <a:lnTo>
                    <a:pt x="399" y="482"/>
                  </a:lnTo>
                  <a:lnTo>
                    <a:pt x="346" y="513"/>
                  </a:lnTo>
                  <a:lnTo>
                    <a:pt x="201" y="589"/>
                  </a:lnTo>
                  <a:lnTo>
                    <a:pt x="198" y="611"/>
                  </a:lnTo>
                  <a:lnTo>
                    <a:pt x="197" y="635"/>
                  </a:lnTo>
                  <a:lnTo>
                    <a:pt x="195" y="659"/>
                  </a:lnTo>
                  <a:lnTo>
                    <a:pt x="195" y="684"/>
                  </a:lnTo>
                  <a:lnTo>
                    <a:pt x="195" y="701"/>
                  </a:lnTo>
                  <a:lnTo>
                    <a:pt x="196" y="717"/>
                  </a:lnTo>
                  <a:lnTo>
                    <a:pt x="197" y="730"/>
                  </a:lnTo>
                  <a:lnTo>
                    <a:pt x="199" y="743"/>
                  </a:lnTo>
                  <a:lnTo>
                    <a:pt x="201" y="754"/>
                  </a:lnTo>
                  <a:lnTo>
                    <a:pt x="203" y="764"/>
                  </a:lnTo>
                  <a:lnTo>
                    <a:pt x="205" y="767"/>
                  </a:lnTo>
                  <a:lnTo>
                    <a:pt x="206" y="772"/>
                  </a:lnTo>
                  <a:lnTo>
                    <a:pt x="208" y="774"/>
                  </a:lnTo>
                  <a:lnTo>
                    <a:pt x="210" y="778"/>
                  </a:lnTo>
                  <a:lnTo>
                    <a:pt x="212" y="780"/>
                  </a:lnTo>
                  <a:lnTo>
                    <a:pt x="215" y="784"/>
                  </a:lnTo>
                  <a:lnTo>
                    <a:pt x="218" y="786"/>
                  </a:lnTo>
                  <a:lnTo>
                    <a:pt x="220" y="788"/>
                  </a:lnTo>
                  <a:lnTo>
                    <a:pt x="222" y="790"/>
                  </a:lnTo>
                  <a:lnTo>
                    <a:pt x="225" y="792"/>
                  </a:lnTo>
                  <a:lnTo>
                    <a:pt x="228" y="794"/>
                  </a:lnTo>
                  <a:lnTo>
                    <a:pt x="231" y="795"/>
                  </a:lnTo>
                  <a:lnTo>
                    <a:pt x="234" y="796"/>
                  </a:lnTo>
                  <a:lnTo>
                    <a:pt x="237" y="797"/>
                  </a:lnTo>
                  <a:lnTo>
                    <a:pt x="240" y="798"/>
                  </a:lnTo>
                  <a:lnTo>
                    <a:pt x="244" y="800"/>
                  </a:lnTo>
                  <a:lnTo>
                    <a:pt x="250" y="801"/>
                  </a:lnTo>
                  <a:lnTo>
                    <a:pt x="258" y="801"/>
                  </a:lnTo>
                  <a:lnTo>
                    <a:pt x="266" y="801"/>
                  </a:lnTo>
                  <a:lnTo>
                    <a:pt x="276" y="800"/>
                  </a:lnTo>
                  <a:lnTo>
                    <a:pt x="285" y="797"/>
                  </a:lnTo>
                  <a:lnTo>
                    <a:pt x="295" y="795"/>
                  </a:lnTo>
                  <a:lnTo>
                    <a:pt x="304" y="792"/>
                  </a:lnTo>
                  <a:lnTo>
                    <a:pt x="315" y="788"/>
                  </a:lnTo>
                  <a:lnTo>
                    <a:pt x="324" y="784"/>
                  </a:lnTo>
                  <a:lnTo>
                    <a:pt x="335" y="778"/>
                  </a:lnTo>
                  <a:lnTo>
                    <a:pt x="351" y="768"/>
                  </a:lnTo>
                  <a:lnTo>
                    <a:pt x="370" y="758"/>
                  </a:lnTo>
                  <a:lnTo>
                    <a:pt x="414" y="726"/>
                  </a:lnTo>
                  <a:lnTo>
                    <a:pt x="468" y="687"/>
                  </a:lnTo>
                  <a:close/>
                  <a:moveTo>
                    <a:pt x="215" y="481"/>
                  </a:moveTo>
                  <a:lnTo>
                    <a:pt x="273" y="445"/>
                  </a:lnTo>
                  <a:lnTo>
                    <a:pt x="298" y="427"/>
                  </a:lnTo>
                  <a:lnTo>
                    <a:pt x="323" y="407"/>
                  </a:lnTo>
                  <a:lnTo>
                    <a:pt x="346" y="389"/>
                  </a:lnTo>
                  <a:lnTo>
                    <a:pt x="368" y="371"/>
                  </a:lnTo>
                  <a:lnTo>
                    <a:pt x="387" y="352"/>
                  </a:lnTo>
                  <a:lnTo>
                    <a:pt x="405" y="334"/>
                  </a:lnTo>
                  <a:lnTo>
                    <a:pt x="417" y="317"/>
                  </a:lnTo>
                  <a:lnTo>
                    <a:pt x="428" y="301"/>
                  </a:lnTo>
                  <a:lnTo>
                    <a:pt x="436" y="285"/>
                  </a:lnTo>
                  <a:lnTo>
                    <a:pt x="444" y="270"/>
                  </a:lnTo>
                  <a:lnTo>
                    <a:pt x="450" y="254"/>
                  </a:lnTo>
                  <a:lnTo>
                    <a:pt x="452" y="247"/>
                  </a:lnTo>
                  <a:lnTo>
                    <a:pt x="454" y="240"/>
                  </a:lnTo>
                  <a:lnTo>
                    <a:pt x="455" y="232"/>
                  </a:lnTo>
                  <a:lnTo>
                    <a:pt x="456" y="225"/>
                  </a:lnTo>
                  <a:lnTo>
                    <a:pt x="457" y="219"/>
                  </a:lnTo>
                  <a:lnTo>
                    <a:pt x="457" y="212"/>
                  </a:lnTo>
                  <a:lnTo>
                    <a:pt x="457" y="204"/>
                  </a:lnTo>
                  <a:lnTo>
                    <a:pt x="456" y="195"/>
                  </a:lnTo>
                  <a:lnTo>
                    <a:pt x="455" y="187"/>
                  </a:lnTo>
                  <a:lnTo>
                    <a:pt x="453" y="180"/>
                  </a:lnTo>
                  <a:lnTo>
                    <a:pt x="451" y="172"/>
                  </a:lnTo>
                  <a:lnTo>
                    <a:pt x="449" y="166"/>
                  </a:lnTo>
                  <a:lnTo>
                    <a:pt x="447" y="163"/>
                  </a:lnTo>
                  <a:lnTo>
                    <a:pt x="446" y="160"/>
                  </a:lnTo>
                  <a:lnTo>
                    <a:pt x="444" y="157"/>
                  </a:lnTo>
                  <a:lnTo>
                    <a:pt x="442" y="154"/>
                  </a:lnTo>
                  <a:lnTo>
                    <a:pt x="437" y="150"/>
                  </a:lnTo>
                  <a:lnTo>
                    <a:pt x="435" y="147"/>
                  </a:lnTo>
                  <a:lnTo>
                    <a:pt x="433" y="146"/>
                  </a:lnTo>
                  <a:lnTo>
                    <a:pt x="431" y="144"/>
                  </a:lnTo>
                  <a:lnTo>
                    <a:pt x="428" y="142"/>
                  </a:lnTo>
                  <a:lnTo>
                    <a:pt x="426" y="141"/>
                  </a:lnTo>
                  <a:lnTo>
                    <a:pt x="424" y="139"/>
                  </a:lnTo>
                  <a:lnTo>
                    <a:pt x="421" y="138"/>
                  </a:lnTo>
                  <a:lnTo>
                    <a:pt x="418" y="136"/>
                  </a:lnTo>
                  <a:lnTo>
                    <a:pt x="415" y="136"/>
                  </a:lnTo>
                  <a:lnTo>
                    <a:pt x="412" y="135"/>
                  </a:lnTo>
                  <a:lnTo>
                    <a:pt x="410" y="135"/>
                  </a:lnTo>
                  <a:lnTo>
                    <a:pt x="407" y="134"/>
                  </a:lnTo>
                  <a:lnTo>
                    <a:pt x="400" y="134"/>
                  </a:lnTo>
                  <a:lnTo>
                    <a:pt x="393" y="134"/>
                  </a:lnTo>
                  <a:lnTo>
                    <a:pt x="387" y="135"/>
                  </a:lnTo>
                  <a:lnTo>
                    <a:pt x="379" y="138"/>
                  </a:lnTo>
                  <a:lnTo>
                    <a:pt x="372" y="140"/>
                  </a:lnTo>
                  <a:lnTo>
                    <a:pt x="365" y="144"/>
                  </a:lnTo>
                  <a:lnTo>
                    <a:pt x="358" y="148"/>
                  </a:lnTo>
                  <a:lnTo>
                    <a:pt x="351" y="153"/>
                  </a:lnTo>
                  <a:lnTo>
                    <a:pt x="344" y="159"/>
                  </a:lnTo>
                  <a:lnTo>
                    <a:pt x="334" y="169"/>
                  </a:lnTo>
                  <a:lnTo>
                    <a:pt x="324" y="178"/>
                  </a:lnTo>
                  <a:lnTo>
                    <a:pt x="316" y="189"/>
                  </a:lnTo>
                  <a:lnTo>
                    <a:pt x="306" y="200"/>
                  </a:lnTo>
                  <a:lnTo>
                    <a:pt x="298" y="211"/>
                  </a:lnTo>
                  <a:lnTo>
                    <a:pt x="291" y="223"/>
                  </a:lnTo>
                  <a:lnTo>
                    <a:pt x="283" y="235"/>
                  </a:lnTo>
                  <a:lnTo>
                    <a:pt x="277" y="247"/>
                  </a:lnTo>
                  <a:lnTo>
                    <a:pt x="256" y="314"/>
                  </a:lnTo>
                  <a:lnTo>
                    <a:pt x="239" y="375"/>
                  </a:lnTo>
                  <a:lnTo>
                    <a:pt x="225" y="43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91320" y="1414440"/>
              <a:ext cx="261720" cy="353880"/>
            </a:xfrm>
            <a:custGeom>
              <a:avLst/>
              <a:gdLst/>
              <a:ahLst/>
              <a:rect l="l" t="t" r="r" b="b"/>
              <a:pathLst>
                <a:path w="726" h="983">
                  <a:moveTo>
                    <a:pt x="511" y="531"/>
                  </a:moveTo>
                  <a:lnTo>
                    <a:pt x="262" y="531"/>
                  </a:lnTo>
                  <a:lnTo>
                    <a:pt x="282" y="422"/>
                  </a:lnTo>
                  <a:lnTo>
                    <a:pt x="526" y="422"/>
                  </a:lnTo>
                  <a:lnTo>
                    <a:pt x="529" y="391"/>
                  </a:lnTo>
                  <a:lnTo>
                    <a:pt x="532" y="362"/>
                  </a:lnTo>
                  <a:lnTo>
                    <a:pt x="533" y="335"/>
                  </a:lnTo>
                  <a:lnTo>
                    <a:pt x="534" y="311"/>
                  </a:lnTo>
                  <a:lnTo>
                    <a:pt x="533" y="269"/>
                  </a:lnTo>
                  <a:lnTo>
                    <a:pt x="531" y="251"/>
                  </a:lnTo>
                  <a:lnTo>
                    <a:pt x="529" y="233"/>
                  </a:lnTo>
                  <a:lnTo>
                    <a:pt x="526" y="217"/>
                  </a:lnTo>
                  <a:lnTo>
                    <a:pt x="523" y="203"/>
                  </a:lnTo>
                  <a:lnTo>
                    <a:pt x="517" y="190"/>
                  </a:lnTo>
                  <a:lnTo>
                    <a:pt x="513" y="178"/>
                  </a:lnTo>
                  <a:lnTo>
                    <a:pt x="507" y="167"/>
                  </a:lnTo>
                  <a:lnTo>
                    <a:pt x="500" y="158"/>
                  </a:lnTo>
                  <a:lnTo>
                    <a:pt x="493" y="150"/>
                  </a:lnTo>
                  <a:lnTo>
                    <a:pt x="486" y="144"/>
                  </a:lnTo>
                  <a:lnTo>
                    <a:pt x="477" y="139"/>
                  </a:lnTo>
                  <a:lnTo>
                    <a:pt x="468" y="136"/>
                  </a:lnTo>
                  <a:lnTo>
                    <a:pt x="458" y="134"/>
                  </a:lnTo>
                  <a:lnTo>
                    <a:pt x="448" y="133"/>
                  </a:lnTo>
                  <a:lnTo>
                    <a:pt x="434" y="133"/>
                  </a:lnTo>
                  <a:lnTo>
                    <a:pt x="419" y="136"/>
                  </a:lnTo>
                  <a:lnTo>
                    <a:pt x="404" y="138"/>
                  </a:lnTo>
                  <a:lnTo>
                    <a:pt x="390" y="143"/>
                  </a:lnTo>
                  <a:lnTo>
                    <a:pt x="375" y="148"/>
                  </a:lnTo>
                  <a:lnTo>
                    <a:pt x="360" y="154"/>
                  </a:lnTo>
                  <a:lnTo>
                    <a:pt x="328" y="169"/>
                  </a:lnTo>
                  <a:lnTo>
                    <a:pt x="297" y="190"/>
                  </a:lnTo>
                  <a:lnTo>
                    <a:pt x="263" y="215"/>
                  </a:lnTo>
                  <a:lnTo>
                    <a:pt x="229" y="244"/>
                  </a:lnTo>
                  <a:lnTo>
                    <a:pt x="194" y="277"/>
                  </a:lnTo>
                  <a:lnTo>
                    <a:pt x="131" y="218"/>
                  </a:lnTo>
                  <a:lnTo>
                    <a:pt x="179" y="167"/>
                  </a:lnTo>
                  <a:lnTo>
                    <a:pt x="227" y="124"/>
                  </a:lnTo>
                  <a:lnTo>
                    <a:pt x="274" y="85"/>
                  </a:lnTo>
                  <a:lnTo>
                    <a:pt x="322" y="55"/>
                  </a:lnTo>
                  <a:lnTo>
                    <a:pt x="346" y="42"/>
                  </a:lnTo>
                  <a:lnTo>
                    <a:pt x="369" y="31"/>
                  </a:lnTo>
                  <a:lnTo>
                    <a:pt x="393" y="22"/>
                  </a:lnTo>
                  <a:lnTo>
                    <a:pt x="417" y="13"/>
                  </a:lnTo>
                  <a:lnTo>
                    <a:pt x="440" y="7"/>
                  </a:lnTo>
                  <a:lnTo>
                    <a:pt x="463" y="4"/>
                  </a:lnTo>
                  <a:lnTo>
                    <a:pt x="487" y="1"/>
                  </a:lnTo>
                  <a:lnTo>
                    <a:pt x="510" y="0"/>
                  </a:lnTo>
                  <a:lnTo>
                    <a:pt x="535" y="1"/>
                  </a:lnTo>
                  <a:lnTo>
                    <a:pt x="560" y="4"/>
                  </a:lnTo>
                  <a:lnTo>
                    <a:pt x="582" y="8"/>
                  </a:lnTo>
                  <a:lnTo>
                    <a:pt x="603" y="16"/>
                  </a:lnTo>
                  <a:lnTo>
                    <a:pt x="612" y="19"/>
                  </a:lnTo>
                  <a:lnTo>
                    <a:pt x="622" y="24"/>
                  </a:lnTo>
                  <a:lnTo>
                    <a:pt x="631" y="29"/>
                  </a:lnTo>
                  <a:lnTo>
                    <a:pt x="640" y="35"/>
                  </a:lnTo>
                  <a:lnTo>
                    <a:pt x="648" y="41"/>
                  </a:lnTo>
                  <a:lnTo>
                    <a:pt x="656" y="48"/>
                  </a:lnTo>
                  <a:lnTo>
                    <a:pt x="663" y="55"/>
                  </a:lnTo>
                  <a:lnTo>
                    <a:pt x="670" y="62"/>
                  </a:lnTo>
                  <a:lnTo>
                    <a:pt x="677" y="71"/>
                  </a:lnTo>
                  <a:lnTo>
                    <a:pt x="683" y="79"/>
                  </a:lnTo>
                  <a:lnTo>
                    <a:pt x="689" y="89"/>
                  </a:lnTo>
                  <a:lnTo>
                    <a:pt x="695" y="98"/>
                  </a:lnTo>
                  <a:lnTo>
                    <a:pt x="700" y="109"/>
                  </a:lnTo>
                  <a:lnTo>
                    <a:pt x="704" y="121"/>
                  </a:lnTo>
                  <a:lnTo>
                    <a:pt x="708" y="133"/>
                  </a:lnTo>
                  <a:lnTo>
                    <a:pt x="712" y="145"/>
                  </a:lnTo>
                  <a:lnTo>
                    <a:pt x="718" y="172"/>
                  </a:lnTo>
                  <a:lnTo>
                    <a:pt x="722" y="202"/>
                  </a:lnTo>
                  <a:lnTo>
                    <a:pt x="724" y="233"/>
                  </a:lnTo>
                  <a:lnTo>
                    <a:pt x="725" y="268"/>
                  </a:lnTo>
                  <a:lnTo>
                    <a:pt x="723" y="331"/>
                  </a:lnTo>
                  <a:lnTo>
                    <a:pt x="716" y="393"/>
                  </a:lnTo>
                  <a:lnTo>
                    <a:pt x="705" y="456"/>
                  </a:lnTo>
                  <a:lnTo>
                    <a:pt x="688" y="517"/>
                  </a:lnTo>
                  <a:lnTo>
                    <a:pt x="668" y="577"/>
                  </a:lnTo>
                  <a:lnTo>
                    <a:pt x="643" y="637"/>
                  </a:lnTo>
                  <a:lnTo>
                    <a:pt x="613" y="696"/>
                  </a:lnTo>
                  <a:lnTo>
                    <a:pt x="579" y="753"/>
                  </a:lnTo>
                  <a:lnTo>
                    <a:pt x="541" y="807"/>
                  </a:lnTo>
                  <a:lnTo>
                    <a:pt x="501" y="853"/>
                  </a:lnTo>
                  <a:lnTo>
                    <a:pt x="481" y="874"/>
                  </a:lnTo>
                  <a:lnTo>
                    <a:pt x="460" y="892"/>
                  </a:lnTo>
                  <a:lnTo>
                    <a:pt x="439" y="909"/>
                  </a:lnTo>
                  <a:lnTo>
                    <a:pt x="417" y="925"/>
                  </a:lnTo>
                  <a:lnTo>
                    <a:pt x="395" y="938"/>
                  </a:lnTo>
                  <a:lnTo>
                    <a:pt x="373" y="950"/>
                  </a:lnTo>
                  <a:lnTo>
                    <a:pt x="349" y="960"/>
                  </a:lnTo>
                  <a:lnTo>
                    <a:pt x="326" y="968"/>
                  </a:lnTo>
                  <a:lnTo>
                    <a:pt x="302" y="974"/>
                  </a:lnTo>
                  <a:lnTo>
                    <a:pt x="278" y="979"/>
                  </a:lnTo>
                  <a:lnTo>
                    <a:pt x="253" y="981"/>
                  </a:lnTo>
                  <a:lnTo>
                    <a:pt x="228" y="982"/>
                  </a:lnTo>
                  <a:lnTo>
                    <a:pt x="202" y="981"/>
                  </a:lnTo>
                  <a:lnTo>
                    <a:pt x="176" y="979"/>
                  </a:lnTo>
                  <a:lnTo>
                    <a:pt x="153" y="974"/>
                  </a:lnTo>
                  <a:lnTo>
                    <a:pt x="132" y="967"/>
                  </a:lnTo>
                  <a:lnTo>
                    <a:pt x="111" y="958"/>
                  </a:lnTo>
                  <a:lnTo>
                    <a:pt x="101" y="954"/>
                  </a:lnTo>
                  <a:lnTo>
                    <a:pt x="93" y="949"/>
                  </a:lnTo>
                  <a:lnTo>
                    <a:pt x="84" y="943"/>
                  </a:lnTo>
                  <a:lnTo>
                    <a:pt x="76" y="937"/>
                  </a:lnTo>
                  <a:lnTo>
                    <a:pt x="67" y="930"/>
                  </a:lnTo>
                  <a:lnTo>
                    <a:pt x="60" y="922"/>
                  </a:lnTo>
                  <a:lnTo>
                    <a:pt x="46" y="907"/>
                  </a:lnTo>
                  <a:lnTo>
                    <a:pt x="34" y="891"/>
                  </a:lnTo>
                  <a:lnTo>
                    <a:pt x="28" y="883"/>
                  </a:lnTo>
                  <a:lnTo>
                    <a:pt x="23" y="874"/>
                  </a:lnTo>
                  <a:lnTo>
                    <a:pt x="19" y="866"/>
                  </a:lnTo>
                  <a:lnTo>
                    <a:pt x="15" y="856"/>
                  </a:lnTo>
                  <a:lnTo>
                    <a:pt x="12" y="848"/>
                  </a:lnTo>
                  <a:lnTo>
                    <a:pt x="8" y="838"/>
                  </a:lnTo>
                  <a:lnTo>
                    <a:pt x="6" y="829"/>
                  </a:lnTo>
                  <a:lnTo>
                    <a:pt x="4" y="819"/>
                  </a:lnTo>
                  <a:lnTo>
                    <a:pt x="2" y="810"/>
                  </a:lnTo>
                  <a:lnTo>
                    <a:pt x="1" y="799"/>
                  </a:lnTo>
                  <a:lnTo>
                    <a:pt x="0" y="789"/>
                  </a:lnTo>
                  <a:lnTo>
                    <a:pt x="0" y="778"/>
                  </a:lnTo>
                  <a:lnTo>
                    <a:pt x="0" y="766"/>
                  </a:lnTo>
                  <a:lnTo>
                    <a:pt x="2" y="756"/>
                  </a:lnTo>
                  <a:lnTo>
                    <a:pt x="3" y="746"/>
                  </a:lnTo>
                  <a:lnTo>
                    <a:pt x="6" y="736"/>
                  </a:lnTo>
                  <a:lnTo>
                    <a:pt x="8" y="732"/>
                  </a:lnTo>
                  <a:lnTo>
                    <a:pt x="10" y="727"/>
                  </a:lnTo>
                  <a:lnTo>
                    <a:pt x="13" y="722"/>
                  </a:lnTo>
                  <a:lnTo>
                    <a:pt x="15" y="717"/>
                  </a:lnTo>
                  <a:lnTo>
                    <a:pt x="20" y="709"/>
                  </a:lnTo>
                  <a:lnTo>
                    <a:pt x="26" y="700"/>
                  </a:lnTo>
                  <a:lnTo>
                    <a:pt x="34" y="693"/>
                  </a:lnTo>
                  <a:lnTo>
                    <a:pt x="40" y="687"/>
                  </a:lnTo>
                  <a:lnTo>
                    <a:pt x="47" y="681"/>
                  </a:lnTo>
                  <a:lnTo>
                    <a:pt x="52" y="679"/>
                  </a:lnTo>
                  <a:lnTo>
                    <a:pt x="56" y="678"/>
                  </a:lnTo>
                  <a:lnTo>
                    <a:pt x="60" y="675"/>
                  </a:lnTo>
                  <a:lnTo>
                    <a:pt x="64" y="674"/>
                  </a:lnTo>
                  <a:lnTo>
                    <a:pt x="69" y="673"/>
                  </a:lnTo>
                  <a:lnTo>
                    <a:pt x="73" y="672"/>
                  </a:lnTo>
                  <a:lnTo>
                    <a:pt x="82" y="669"/>
                  </a:lnTo>
                  <a:lnTo>
                    <a:pt x="92" y="669"/>
                  </a:lnTo>
                  <a:lnTo>
                    <a:pt x="100" y="669"/>
                  </a:lnTo>
                  <a:lnTo>
                    <a:pt x="108" y="670"/>
                  </a:lnTo>
                  <a:lnTo>
                    <a:pt x="115" y="673"/>
                  </a:lnTo>
                  <a:lnTo>
                    <a:pt x="123" y="675"/>
                  </a:lnTo>
                  <a:lnTo>
                    <a:pt x="130" y="679"/>
                  </a:lnTo>
                  <a:lnTo>
                    <a:pt x="137" y="684"/>
                  </a:lnTo>
                  <a:lnTo>
                    <a:pt x="145" y="688"/>
                  </a:lnTo>
                  <a:lnTo>
                    <a:pt x="151" y="694"/>
                  </a:lnTo>
                  <a:lnTo>
                    <a:pt x="157" y="702"/>
                  </a:lnTo>
                  <a:lnTo>
                    <a:pt x="160" y="705"/>
                  </a:lnTo>
                  <a:lnTo>
                    <a:pt x="163" y="709"/>
                  </a:lnTo>
                  <a:lnTo>
                    <a:pt x="165" y="712"/>
                  </a:lnTo>
                  <a:lnTo>
                    <a:pt x="167" y="716"/>
                  </a:lnTo>
                  <a:lnTo>
                    <a:pt x="169" y="720"/>
                  </a:lnTo>
                  <a:lnTo>
                    <a:pt x="171" y="724"/>
                  </a:lnTo>
                  <a:lnTo>
                    <a:pt x="172" y="728"/>
                  </a:lnTo>
                  <a:lnTo>
                    <a:pt x="174" y="733"/>
                  </a:lnTo>
                  <a:lnTo>
                    <a:pt x="175" y="736"/>
                  </a:lnTo>
                  <a:lnTo>
                    <a:pt x="175" y="741"/>
                  </a:lnTo>
                  <a:lnTo>
                    <a:pt x="176" y="746"/>
                  </a:lnTo>
                  <a:lnTo>
                    <a:pt x="177" y="750"/>
                  </a:lnTo>
                  <a:lnTo>
                    <a:pt x="177" y="759"/>
                  </a:lnTo>
                  <a:lnTo>
                    <a:pt x="177" y="765"/>
                  </a:lnTo>
                  <a:lnTo>
                    <a:pt x="176" y="772"/>
                  </a:lnTo>
                  <a:lnTo>
                    <a:pt x="175" y="792"/>
                  </a:lnTo>
                  <a:lnTo>
                    <a:pt x="175" y="794"/>
                  </a:lnTo>
                  <a:lnTo>
                    <a:pt x="174" y="795"/>
                  </a:lnTo>
                  <a:lnTo>
                    <a:pt x="174" y="798"/>
                  </a:lnTo>
                  <a:lnTo>
                    <a:pt x="174" y="800"/>
                  </a:lnTo>
                  <a:lnTo>
                    <a:pt x="174" y="805"/>
                  </a:lnTo>
                  <a:lnTo>
                    <a:pt x="174" y="811"/>
                  </a:lnTo>
                  <a:lnTo>
                    <a:pt x="174" y="814"/>
                  </a:lnTo>
                  <a:lnTo>
                    <a:pt x="174" y="818"/>
                  </a:lnTo>
                  <a:lnTo>
                    <a:pt x="175" y="822"/>
                  </a:lnTo>
                  <a:lnTo>
                    <a:pt x="175" y="825"/>
                  </a:lnTo>
                  <a:lnTo>
                    <a:pt x="176" y="829"/>
                  </a:lnTo>
                  <a:lnTo>
                    <a:pt x="177" y="831"/>
                  </a:lnTo>
                  <a:lnTo>
                    <a:pt x="178" y="835"/>
                  </a:lnTo>
                  <a:lnTo>
                    <a:pt x="179" y="838"/>
                  </a:lnTo>
                  <a:lnTo>
                    <a:pt x="182" y="841"/>
                  </a:lnTo>
                  <a:lnTo>
                    <a:pt x="183" y="843"/>
                  </a:lnTo>
                  <a:lnTo>
                    <a:pt x="185" y="847"/>
                  </a:lnTo>
                  <a:lnTo>
                    <a:pt x="187" y="849"/>
                  </a:lnTo>
                  <a:lnTo>
                    <a:pt x="189" y="852"/>
                  </a:lnTo>
                  <a:lnTo>
                    <a:pt x="191" y="854"/>
                  </a:lnTo>
                  <a:lnTo>
                    <a:pt x="193" y="856"/>
                  </a:lnTo>
                  <a:lnTo>
                    <a:pt x="196" y="859"/>
                  </a:lnTo>
                  <a:lnTo>
                    <a:pt x="202" y="862"/>
                  </a:lnTo>
                  <a:lnTo>
                    <a:pt x="207" y="866"/>
                  </a:lnTo>
                  <a:lnTo>
                    <a:pt x="213" y="868"/>
                  </a:lnTo>
                  <a:lnTo>
                    <a:pt x="220" y="871"/>
                  </a:lnTo>
                  <a:lnTo>
                    <a:pt x="227" y="873"/>
                  </a:lnTo>
                  <a:lnTo>
                    <a:pt x="234" y="874"/>
                  </a:lnTo>
                  <a:lnTo>
                    <a:pt x="242" y="876"/>
                  </a:lnTo>
                  <a:lnTo>
                    <a:pt x="249" y="876"/>
                  </a:lnTo>
                  <a:lnTo>
                    <a:pt x="270" y="874"/>
                  </a:lnTo>
                  <a:lnTo>
                    <a:pt x="291" y="871"/>
                  </a:lnTo>
                  <a:lnTo>
                    <a:pt x="311" y="864"/>
                  </a:lnTo>
                  <a:lnTo>
                    <a:pt x="331" y="854"/>
                  </a:lnTo>
                  <a:lnTo>
                    <a:pt x="350" y="842"/>
                  </a:lnTo>
                  <a:lnTo>
                    <a:pt x="368" y="828"/>
                  </a:lnTo>
                  <a:lnTo>
                    <a:pt x="385" y="810"/>
                  </a:lnTo>
                  <a:lnTo>
                    <a:pt x="402" y="789"/>
                  </a:lnTo>
                  <a:lnTo>
                    <a:pt x="418" y="766"/>
                  </a:lnTo>
                  <a:lnTo>
                    <a:pt x="434" y="741"/>
                  </a:lnTo>
                  <a:lnTo>
                    <a:pt x="448" y="712"/>
                  </a:lnTo>
                  <a:lnTo>
                    <a:pt x="462" y="681"/>
                  </a:lnTo>
                  <a:lnTo>
                    <a:pt x="488" y="61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75360" y="1413000"/>
              <a:ext cx="426960" cy="357120"/>
            </a:xfrm>
            <a:custGeom>
              <a:avLst/>
              <a:gdLst/>
              <a:ahLst/>
              <a:rect l="l" t="t" r="r" b="b"/>
              <a:pathLst>
                <a:path w="1185" h="993">
                  <a:moveTo>
                    <a:pt x="46" y="297"/>
                  </a:moveTo>
                  <a:lnTo>
                    <a:pt x="0" y="230"/>
                  </a:lnTo>
                  <a:lnTo>
                    <a:pt x="49" y="173"/>
                  </a:lnTo>
                  <a:lnTo>
                    <a:pt x="74" y="148"/>
                  </a:lnTo>
                  <a:lnTo>
                    <a:pt x="98" y="124"/>
                  </a:lnTo>
                  <a:lnTo>
                    <a:pt x="122" y="104"/>
                  </a:lnTo>
                  <a:lnTo>
                    <a:pt x="146" y="84"/>
                  </a:lnTo>
                  <a:lnTo>
                    <a:pt x="168" y="68"/>
                  </a:lnTo>
                  <a:lnTo>
                    <a:pt x="191" y="53"/>
                  </a:lnTo>
                  <a:lnTo>
                    <a:pt x="212" y="41"/>
                  </a:lnTo>
                  <a:lnTo>
                    <a:pt x="233" y="30"/>
                  </a:lnTo>
                  <a:lnTo>
                    <a:pt x="252" y="21"/>
                  </a:lnTo>
                  <a:lnTo>
                    <a:pt x="271" y="14"/>
                  </a:lnTo>
                  <a:lnTo>
                    <a:pt x="288" y="8"/>
                  </a:lnTo>
                  <a:lnTo>
                    <a:pt x="304" y="4"/>
                  </a:lnTo>
                  <a:lnTo>
                    <a:pt x="320" y="2"/>
                  </a:lnTo>
                  <a:lnTo>
                    <a:pt x="326" y="0"/>
                  </a:lnTo>
                  <a:lnTo>
                    <a:pt x="334" y="0"/>
                  </a:lnTo>
                  <a:lnTo>
                    <a:pt x="340" y="0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8" y="4"/>
                  </a:lnTo>
                  <a:lnTo>
                    <a:pt x="363" y="6"/>
                  </a:lnTo>
                  <a:lnTo>
                    <a:pt x="368" y="9"/>
                  </a:lnTo>
                  <a:lnTo>
                    <a:pt x="370" y="10"/>
                  </a:lnTo>
                  <a:lnTo>
                    <a:pt x="374" y="12"/>
                  </a:lnTo>
                  <a:lnTo>
                    <a:pt x="376" y="14"/>
                  </a:lnTo>
                  <a:lnTo>
                    <a:pt x="378" y="16"/>
                  </a:lnTo>
                  <a:lnTo>
                    <a:pt x="380" y="18"/>
                  </a:lnTo>
                  <a:lnTo>
                    <a:pt x="382" y="21"/>
                  </a:lnTo>
                  <a:lnTo>
                    <a:pt x="383" y="22"/>
                  </a:lnTo>
                  <a:lnTo>
                    <a:pt x="385" y="24"/>
                  </a:lnTo>
                  <a:lnTo>
                    <a:pt x="386" y="27"/>
                  </a:lnTo>
                  <a:lnTo>
                    <a:pt x="387" y="29"/>
                  </a:lnTo>
                  <a:lnTo>
                    <a:pt x="388" y="33"/>
                  </a:lnTo>
                  <a:lnTo>
                    <a:pt x="389" y="35"/>
                  </a:lnTo>
                  <a:lnTo>
                    <a:pt x="391" y="38"/>
                  </a:lnTo>
                  <a:lnTo>
                    <a:pt x="392" y="40"/>
                  </a:lnTo>
                  <a:lnTo>
                    <a:pt x="393" y="44"/>
                  </a:lnTo>
                  <a:lnTo>
                    <a:pt x="393" y="46"/>
                  </a:lnTo>
                  <a:lnTo>
                    <a:pt x="394" y="53"/>
                  </a:lnTo>
                  <a:lnTo>
                    <a:pt x="394" y="59"/>
                  </a:lnTo>
                  <a:lnTo>
                    <a:pt x="394" y="66"/>
                  </a:lnTo>
                  <a:lnTo>
                    <a:pt x="393" y="75"/>
                  </a:lnTo>
                  <a:lnTo>
                    <a:pt x="391" y="84"/>
                  </a:lnTo>
                  <a:lnTo>
                    <a:pt x="388" y="96"/>
                  </a:lnTo>
                  <a:lnTo>
                    <a:pt x="382" y="126"/>
                  </a:lnTo>
                  <a:lnTo>
                    <a:pt x="374" y="162"/>
                  </a:lnTo>
                  <a:lnTo>
                    <a:pt x="359" y="226"/>
                  </a:lnTo>
                  <a:lnTo>
                    <a:pt x="353" y="248"/>
                  </a:lnTo>
                  <a:lnTo>
                    <a:pt x="348" y="263"/>
                  </a:lnTo>
                  <a:lnTo>
                    <a:pt x="397" y="202"/>
                  </a:lnTo>
                  <a:lnTo>
                    <a:pt x="443" y="148"/>
                  </a:lnTo>
                  <a:lnTo>
                    <a:pt x="488" y="104"/>
                  </a:lnTo>
                  <a:lnTo>
                    <a:pt x="530" y="66"/>
                  </a:lnTo>
                  <a:lnTo>
                    <a:pt x="550" y="51"/>
                  </a:lnTo>
                  <a:lnTo>
                    <a:pt x="570" y="38"/>
                  </a:lnTo>
                  <a:lnTo>
                    <a:pt x="589" y="26"/>
                  </a:lnTo>
                  <a:lnTo>
                    <a:pt x="608" y="17"/>
                  </a:lnTo>
                  <a:lnTo>
                    <a:pt x="626" y="10"/>
                  </a:lnTo>
                  <a:lnTo>
                    <a:pt x="643" y="4"/>
                  </a:lnTo>
                  <a:lnTo>
                    <a:pt x="660" y="2"/>
                  </a:lnTo>
                  <a:lnTo>
                    <a:pt x="677" y="0"/>
                  </a:lnTo>
                  <a:lnTo>
                    <a:pt x="686" y="0"/>
                  </a:lnTo>
                  <a:lnTo>
                    <a:pt x="696" y="2"/>
                  </a:lnTo>
                  <a:lnTo>
                    <a:pt x="704" y="4"/>
                  </a:lnTo>
                  <a:lnTo>
                    <a:pt x="708" y="5"/>
                  </a:lnTo>
                  <a:lnTo>
                    <a:pt x="713" y="6"/>
                  </a:lnTo>
                  <a:lnTo>
                    <a:pt x="716" y="9"/>
                  </a:lnTo>
                  <a:lnTo>
                    <a:pt x="720" y="10"/>
                  </a:lnTo>
                  <a:lnTo>
                    <a:pt x="723" y="12"/>
                  </a:lnTo>
                  <a:lnTo>
                    <a:pt x="726" y="15"/>
                  </a:lnTo>
                  <a:lnTo>
                    <a:pt x="729" y="17"/>
                  </a:lnTo>
                  <a:lnTo>
                    <a:pt x="733" y="21"/>
                  </a:lnTo>
                  <a:lnTo>
                    <a:pt x="736" y="23"/>
                  </a:lnTo>
                  <a:lnTo>
                    <a:pt x="739" y="27"/>
                  </a:lnTo>
                  <a:lnTo>
                    <a:pt x="742" y="30"/>
                  </a:lnTo>
                  <a:lnTo>
                    <a:pt x="744" y="34"/>
                  </a:lnTo>
                  <a:lnTo>
                    <a:pt x="746" y="38"/>
                  </a:lnTo>
                  <a:lnTo>
                    <a:pt x="748" y="41"/>
                  </a:lnTo>
                  <a:lnTo>
                    <a:pt x="751" y="46"/>
                  </a:lnTo>
                  <a:lnTo>
                    <a:pt x="752" y="50"/>
                  </a:lnTo>
                  <a:lnTo>
                    <a:pt x="754" y="54"/>
                  </a:lnTo>
                  <a:lnTo>
                    <a:pt x="755" y="59"/>
                  </a:lnTo>
                  <a:lnTo>
                    <a:pt x="757" y="69"/>
                  </a:lnTo>
                  <a:lnTo>
                    <a:pt x="759" y="80"/>
                  </a:lnTo>
                  <a:lnTo>
                    <a:pt x="760" y="92"/>
                  </a:lnTo>
                  <a:lnTo>
                    <a:pt x="760" y="104"/>
                  </a:lnTo>
                  <a:lnTo>
                    <a:pt x="760" y="117"/>
                  </a:lnTo>
                  <a:lnTo>
                    <a:pt x="758" y="130"/>
                  </a:lnTo>
                  <a:lnTo>
                    <a:pt x="756" y="144"/>
                  </a:lnTo>
                  <a:lnTo>
                    <a:pt x="753" y="161"/>
                  </a:lnTo>
                  <a:lnTo>
                    <a:pt x="748" y="178"/>
                  </a:lnTo>
                  <a:lnTo>
                    <a:pt x="744" y="196"/>
                  </a:lnTo>
                  <a:lnTo>
                    <a:pt x="732" y="236"/>
                  </a:lnTo>
                  <a:lnTo>
                    <a:pt x="751" y="206"/>
                  </a:lnTo>
                  <a:lnTo>
                    <a:pt x="770" y="178"/>
                  </a:lnTo>
                  <a:lnTo>
                    <a:pt x="790" y="153"/>
                  </a:lnTo>
                  <a:lnTo>
                    <a:pt x="810" y="130"/>
                  </a:lnTo>
                  <a:lnTo>
                    <a:pt x="830" y="108"/>
                  </a:lnTo>
                  <a:lnTo>
                    <a:pt x="850" y="89"/>
                  </a:lnTo>
                  <a:lnTo>
                    <a:pt x="870" y="72"/>
                  </a:lnTo>
                  <a:lnTo>
                    <a:pt x="891" y="57"/>
                  </a:lnTo>
                  <a:lnTo>
                    <a:pt x="911" y="44"/>
                  </a:lnTo>
                  <a:lnTo>
                    <a:pt x="930" y="33"/>
                  </a:lnTo>
                  <a:lnTo>
                    <a:pt x="949" y="23"/>
                  </a:lnTo>
                  <a:lnTo>
                    <a:pt x="966" y="15"/>
                  </a:lnTo>
                  <a:lnTo>
                    <a:pt x="982" y="9"/>
                  </a:lnTo>
                  <a:lnTo>
                    <a:pt x="998" y="4"/>
                  </a:lnTo>
                  <a:lnTo>
                    <a:pt x="1011" y="2"/>
                  </a:lnTo>
                  <a:lnTo>
                    <a:pt x="1019" y="0"/>
                  </a:lnTo>
                  <a:lnTo>
                    <a:pt x="1025" y="0"/>
                  </a:lnTo>
                  <a:lnTo>
                    <a:pt x="1037" y="0"/>
                  </a:lnTo>
                  <a:lnTo>
                    <a:pt x="1048" y="3"/>
                  </a:lnTo>
                  <a:lnTo>
                    <a:pt x="1058" y="5"/>
                  </a:lnTo>
                  <a:lnTo>
                    <a:pt x="1068" y="9"/>
                  </a:lnTo>
                  <a:lnTo>
                    <a:pt x="1073" y="11"/>
                  </a:lnTo>
                  <a:lnTo>
                    <a:pt x="1078" y="14"/>
                  </a:lnTo>
                  <a:lnTo>
                    <a:pt x="1082" y="16"/>
                  </a:lnTo>
                  <a:lnTo>
                    <a:pt x="1086" y="18"/>
                  </a:lnTo>
                  <a:lnTo>
                    <a:pt x="1091" y="22"/>
                  </a:lnTo>
                  <a:lnTo>
                    <a:pt x="1094" y="26"/>
                  </a:lnTo>
                  <a:lnTo>
                    <a:pt x="1098" y="29"/>
                  </a:lnTo>
                  <a:lnTo>
                    <a:pt x="1101" y="33"/>
                  </a:lnTo>
                  <a:lnTo>
                    <a:pt x="1104" y="36"/>
                  </a:lnTo>
                  <a:lnTo>
                    <a:pt x="1108" y="41"/>
                  </a:lnTo>
                  <a:lnTo>
                    <a:pt x="1111" y="46"/>
                  </a:lnTo>
                  <a:lnTo>
                    <a:pt x="1113" y="51"/>
                  </a:lnTo>
                  <a:lnTo>
                    <a:pt x="1116" y="56"/>
                  </a:lnTo>
                  <a:lnTo>
                    <a:pt x="1118" y="62"/>
                  </a:lnTo>
                  <a:lnTo>
                    <a:pt x="1121" y="74"/>
                  </a:lnTo>
                  <a:lnTo>
                    <a:pt x="1124" y="86"/>
                  </a:lnTo>
                  <a:lnTo>
                    <a:pt x="1127" y="99"/>
                  </a:lnTo>
                  <a:lnTo>
                    <a:pt x="1129" y="113"/>
                  </a:lnTo>
                  <a:lnTo>
                    <a:pt x="1129" y="128"/>
                  </a:lnTo>
                  <a:lnTo>
                    <a:pt x="1129" y="137"/>
                  </a:lnTo>
                  <a:lnTo>
                    <a:pt x="1128" y="146"/>
                  </a:lnTo>
                  <a:lnTo>
                    <a:pt x="1127" y="166"/>
                  </a:lnTo>
                  <a:lnTo>
                    <a:pt x="1123" y="186"/>
                  </a:lnTo>
                  <a:lnTo>
                    <a:pt x="1119" y="209"/>
                  </a:lnTo>
                  <a:lnTo>
                    <a:pt x="1111" y="243"/>
                  </a:lnTo>
                  <a:lnTo>
                    <a:pt x="1097" y="300"/>
                  </a:lnTo>
                  <a:lnTo>
                    <a:pt x="1048" y="481"/>
                  </a:lnTo>
                  <a:lnTo>
                    <a:pt x="1016" y="606"/>
                  </a:lnTo>
                  <a:lnTo>
                    <a:pt x="992" y="702"/>
                  </a:lnTo>
                  <a:lnTo>
                    <a:pt x="979" y="769"/>
                  </a:lnTo>
                  <a:lnTo>
                    <a:pt x="976" y="793"/>
                  </a:lnTo>
                  <a:lnTo>
                    <a:pt x="974" y="802"/>
                  </a:lnTo>
                  <a:lnTo>
                    <a:pt x="974" y="809"/>
                  </a:lnTo>
                  <a:lnTo>
                    <a:pt x="974" y="812"/>
                  </a:lnTo>
                  <a:lnTo>
                    <a:pt x="974" y="816"/>
                  </a:lnTo>
                  <a:lnTo>
                    <a:pt x="976" y="817"/>
                  </a:lnTo>
                  <a:lnTo>
                    <a:pt x="976" y="818"/>
                  </a:lnTo>
                  <a:lnTo>
                    <a:pt x="976" y="820"/>
                  </a:lnTo>
                  <a:lnTo>
                    <a:pt x="977" y="821"/>
                  </a:lnTo>
                  <a:lnTo>
                    <a:pt x="977" y="822"/>
                  </a:lnTo>
                  <a:lnTo>
                    <a:pt x="977" y="822"/>
                  </a:lnTo>
                  <a:lnTo>
                    <a:pt x="978" y="823"/>
                  </a:lnTo>
                  <a:lnTo>
                    <a:pt x="978" y="823"/>
                  </a:lnTo>
                  <a:lnTo>
                    <a:pt x="979" y="823"/>
                  </a:lnTo>
                  <a:lnTo>
                    <a:pt x="979" y="824"/>
                  </a:lnTo>
                  <a:lnTo>
                    <a:pt x="980" y="824"/>
                  </a:lnTo>
                  <a:lnTo>
                    <a:pt x="980" y="824"/>
                  </a:lnTo>
                  <a:lnTo>
                    <a:pt x="981" y="824"/>
                  </a:lnTo>
                  <a:lnTo>
                    <a:pt x="984" y="824"/>
                  </a:lnTo>
                  <a:lnTo>
                    <a:pt x="987" y="823"/>
                  </a:lnTo>
                  <a:lnTo>
                    <a:pt x="990" y="823"/>
                  </a:lnTo>
                  <a:lnTo>
                    <a:pt x="993" y="822"/>
                  </a:lnTo>
                  <a:lnTo>
                    <a:pt x="997" y="820"/>
                  </a:lnTo>
                  <a:lnTo>
                    <a:pt x="1000" y="818"/>
                  </a:lnTo>
                  <a:lnTo>
                    <a:pt x="1003" y="816"/>
                  </a:lnTo>
                  <a:lnTo>
                    <a:pt x="1006" y="814"/>
                  </a:lnTo>
                  <a:lnTo>
                    <a:pt x="1034" y="791"/>
                  </a:lnTo>
                  <a:lnTo>
                    <a:pt x="1064" y="764"/>
                  </a:lnTo>
                  <a:lnTo>
                    <a:pt x="1097" y="733"/>
                  </a:lnTo>
                  <a:lnTo>
                    <a:pt x="1132" y="698"/>
                  </a:lnTo>
                  <a:lnTo>
                    <a:pt x="1184" y="762"/>
                  </a:lnTo>
                  <a:lnTo>
                    <a:pt x="1177" y="770"/>
                  </a:lnTo>
                  <a:lnTo>
                    <a:pt x="1170" y="779"/>
                  </a:lnTo>
                  <a:lnTo>
                    <a:pt x="1161" y="787"/>
                  </a:lnTo>
                  <a:lnTo>
                    <a:pt x="1152" y="796"/>
                  </a:lnTo>
                  <a:lnTo>
                    <a:pt x="1132" y="814"/>
                  </a:lnTo>
                  <a:lnTo>
                    <a:pt x="1108" y="832"/>
                  </a:lnTo>
                  <a:lnTo>
                    <a:pt x="1067" y="877"/>
                  </a:lnTo>
                  <a:lnTo>
                    <a:pt x="1049" y="896"/>
                  </a:lnTo>
                  <a:lnTo>
                    <a:pt x="1031" y="913"/>
                  </a:lnTo>
                  <a:lnTo>
                    <a:pt x="1015" y="926"/>
                  </a:lnTo>
                  <a:lnTo>
                    <a:pt x="1000" y="938"/>
                  </a:lnTo>
                  <a:lnTo>
                    <a:pt x="985" y="948"/>
                  </a:lnTo>
                  <a:lnTo>
                    <a:pt x="971" y="955"/>
                  </a:lnTo>
                  <a:lnTo>
                    <a:pt x="962" y="964"/>
                  </a:lnTo>
                  <a:lnTo>
                    <a:pt x="952" y="972"/>
                  </a:lnTo>
                  <a:lnTo>
                    <a:pt x="942" y="978"/>
                  </a:lnTo>
                  <a:lnTo>
                    <a:pt x="932" y="983"/>
                  </a:lnTo>
                  <a:lnTo>
                    <a:pt x="922" y="988"/>
                  </a:lnTo>
                  <a:lnTo>
                    <a:pt x="911" y="990"/>
                  </a:lnTo>
                  <a:lnTo>
                    <a:pt x="901" y="992"/>
                  </a:lnTo>
                  <a:lnTo>
                    <a:pt x="890" y="992"/>
                  </a:lnTo>
                  <a:lnTo>
                    <a:pt x="885" y="992"/>
                  </a:lnTo>
                  <a:lnTo>
                    <a:pt x="880" y="991"/>
                  </a:lnTo>
                  <a:lnTo>
                    <a:pt x="875" y="991"/>
                  </a:lnTo>
                  <a:lnTo>
                    <a:pt x="871" y="990"/>
                  </a:lnTo>
                  <a:lnTo>
                    <a:pt x="867" y="989"/>
                  </a:lnTo>
                  <a:lnTo>
                    <a:pt x="863" y="986"/>
                  </a:lnTo>
                  <a:lnTo>
                    <a:pt x="857" y="985"/>
                  </a:lnTo>
                  <a:lnTo>
                    <a:pt x="854" y="983"/>
                  </a:lnTo>
                  <a:lnTo>
                    <a:pt x="850" y="980"/>
                  </a:lnTo>
                  <a:lnTo>
                    <a:pt x="846" y="977"/>
                  </a:lnTo>
                  <a:lnTo>
                    <a:pt x="841" y="973"/>
                  </a:lnTo>
                  <a:lnTo>
                    <a:pt x="838" y="970"/>
                  </a:lnTo>
                  <a:lnTo>
                    <a:pt x="834" y="966"/>
                  </a:lnTo>
                  <a:lnTo>
                    <a:pt x="831" y="962"/>
                  </a:lnTo>
                  <a:lnTo>
                    <a:pt x="823" y="953"/>
                  </a:lnTo>
                  <a:lnTo>
                    <a:pt x="820" y="948"/>
                  </a:lnTo>
                  <a:lnTo>
                    <a:pt x="817" y="943"/>
                  </a:lnTo>
                  <a:lnTo>
                    <a:pt x="814" y="937"/>
                  </a:lnTo>
                  <a:lnTo>
                    <a:pt x="812" y="932"/>
                  </a:lnTo>
                  <a:lnTo>
                    <a:pt x="808" y="920"/>
                  </a:lnTo>
                  <a:lnTo>
                    <a:pt x="803" y="908"/>
                  </a:lnTo>
                  <a:lnTo>
                    <a:pt x="800" y="894"/>
                  </a:lnTo>
                  <a:lnTo>
                    <a:pt x="799" y="881"/>
                  </a:lnTo>
                  <a:lnTo>
                    <a:pt x="797" y="865"/>
                  </a:lnTo>
                  <a:lnTo>
                    <a:pt x="797" y="850"/>
                  </a:lnTo>
                  <a:lnTo>
                    <a:pt x="798" y="821"/>
                  </a:lnTo>
                  <a:lnTo>
                    <a:pt x="800" y="791"/>
                  </a:lnTo>
                  <a:lnTo>
                    <a:pt x="804" y="758"/>
                  </a:lnTo>
                  <a:lnTo>
                    <a:pt x="811" y="724"/>
                  </a:lnTo>
                  <a:lnTo>
                    <a:pt x="821" y="677"/>
                  </a:lnTo>
                  <a:lnTo>
                    <a:pt x="837" y="610"/>
                  </a:lnTo>
                  <a:lnTo>
                    <a:pt x="889" y="408"/>
                  </a:lnTo>
                  <a:lnTo>
                    <a:pt x="910" y="328"/>
                  </a:lnTo>
                  <a:lnTo>
                    <a:pt x="926" y="264"/>
                  </a:lnTo>
                  <a:lnTo>
                    <a:pt x="934" y="220"/>
                  </a:lnTo>
                  <a:lnTo>
                    <a:pt x="936" y="204"/>
                  </a:lnTo>
                  <a:lnTo>
                    <a:pt x="938" y="198"/>
                  </a:lnTo>
                  <a:lnTo>
                    <a:pt x="938" y="194"/>
                  </a:lnTo>
                  <a:lnTo>
                    <a:pt x="938" y="192"/>
                  </a:lnTo>
                  <a:lnTo>
                    <a:pt x="938" y="190"/>
                  </a:lnTo>
                  <a:lnTo>
                    <a:pt x="938" y="189"/>
                  </a:lnTo>
                  <a:lnTo>
                    <a:pt x="936" y="188"/>
                  </a:lnTo>
                  <a:lnTo>
                    <a:pt x="936" y="186"/>
                  </a:lnTo>
                  <a:lnTo>
                    <a:pt x="936" y="185"/>
                  </a:lnTo>
                  <a:lnTo>
                    <a:pt x="935" y="184"/>
                  </a:lnTo>
                  <a:lnTo>
                    <a:pt x="935" y="183"/>
                  </a:lnTo>
                  <a:lnTo>
                    <a:pt x="934" y="182"/>
                  </a:lnTo>
                  <a:lnTo>
                    <a:pt x="934" y="182"/>
                  </a:lnTo>
                  <a:lnTo>
                    <a:pt x="933" y="180"/>
                  </a:lnTo>
                  <a:lnTo>
                    <a:pt x="932" y="180"/>
                  </a:lnTo>
                  <a:lnTo>
                    <a:pt x="932" y="179"/>
                  </a:lnTo>
                  <a:lnTo>
                    <a:pt x="931" y="179"/>
                  </a:lnTo>
                  <a:lnTo>
                    <a:pt x="930" y="179"/>
                  </a:lnTo>
                  <a:lnTo>
                    <a:pt x="929" y="179"/>
                  </a:lnTo>
                  <a:lnTo>
                    <a:pt x="927" y="179"/>
                  </a:lnTo>
                  <a:lnTo>
                    <a:pt x="924" y="179"/>
                  </a:lnTo>
                  <a:lnTo>
                    <a:pt x="919" y="180"/>
                  </a:lnTo>
                  <a:lnTo>
                    <a:pt x="911" y="183"/>
                  </a:lnTo>
                  <a:lnTo>
                    <a:pt x="904" y="186"/>
                  </a:lnTo>
                  <a:lnTo>
                    <a:pt x="894" y="190"/>
                  </a:lnTo>
                  <a:lnTo>
                    <a:pt x="885" y="195"/>
                  </a:lnTo>
                  <a:lnTo>
                    <a:pt x="861" y="207"/>
                  </a:lnTo>
                  <a:lnTo>
                    <a:pt x="846" y="220"/>
                  </a:lnTo>
                  <a:lnTo>
                    <a:pt x="830" y="233"/>
                  </a:lnTo>
                  <a:lnTo>
                    <a:pt x="815" y="249"/>
                  </a:lnTo>
                  <a:lnTo>
                    <a:pt x="799" y="264"/>
                  </a:lnTo>
                  <a:lnTo>
                    <a:pt x="785" y="281"/>
                  </a:lnTo>
                  <a:lnTo>
                    <a:pt x="771" y="298"/>
                  </a:lnTo>
                  <a:lnTo>
                    <a:pt x="757" y="316"/>
                  </a:lnTo>
                  <a:lnTo>
                    <a:pt x="743" y="335"/>
                  </a:lnTo>
                  <a:lnTo>
                    <a:pt x="735" y="349"/>
                  </a:lnTo>
                  <a:lnTo>
                    <a:pt x="726" y="365"/>
                  </a:lnTo>
                  <a:lnTo>
                    <a:pt x="718" y="384"/>
                  </a:lnTo>
                  <a:lnTo>
                    <a:pt x="710" y="405"/>
                  </a:lnTo>
                  <a:lnTo>
                    <a:pt x="702" y="426"/>
                  </a:lnTo>
                  <a:lnTo>
                    <a:pt x="695" y="450"/>
                  </a:lnTo>
                  <a:lnTo>
                    <a:pt x="680" y="505"/>
                  </a:lnTo>
                  <a:lnTo>
                    <a:pt x="582" y="958"/>
                  </a:lnTo>
                  <a:lnTo>
                    <a:pt x="411" y="958"/>
                  </a:lnTo>
                  <a:lnTo>
                    <a:pt x="553" y="269"/>
                  </a:lnTo>
                  <a:lnTo>
                    <a:pt x="564" y="214"/>
                  </a:lnTo>
                  <a:lnTo>
                    <a:pt x="567" y="198"/>
                  </a:lnTo>
                  <a:lnTo>
                    <a:pt x="568" y="194"/>
                  </a:lnTo>
                  <a:lnTo>
                    <a:pt x="568" y="192"/>
                  </a:lnTo>
                  <a:lnTo>
                    <a:pt x="568" y="191"/>
                  </a:lnTo>
                  <a:lnTo>
                    <a:pt x="568" y="190"/>
                  </a:lnTo>
                  <a:lnTo>
                    <a:pt x="568" y="188"/>
                  </a:lnTo>
                  <a:lnTo>
                    <a:pt x="568" y="186"/>
                  </a:lnTo>
                  <a:lnTo>
                    <a:pt x="567" y="185"/>
                  </a:lnTo>
                  <a:lnTo>
                    <a:pt x="567" y="184"/>
                  </a:lnTo>
                  <a:lnTo>
                    <a:pt x="567" y="184"/>
                  </a:lnTo>
                  <a:lnTo>
                    <a:pt x="566" y="182"/>
                  </a:lnTo>
                  <a:lnTo>
                    <a:pt x="564" y="180"/>
                  </a:lnTo>
                  <a:lnTo>
                    <a:pt x="564" y="180"/>
                  </a:lnTo>
                  <a:lnTo>
                    <a:pt x="563" y="180"/>
                  </a:lnTo>
                  <a:lnTo>
                    <a:pt x="562" y="179"/>
                  </a:lnTo>
                  <a:lnTo>
                    <a:pt x="561" y="179"/>
                  </a:lnTo>
                  <a:lnTo>
                    <a:pt x="559" y="179"/>
                  </a:lnTo>
                  <a:lnTo>
                    <a:pt x="558" y="179"/>
                  </a:lnTo>
                  <a:lnTo>
                    <a:pt x="556" y="179"/>
                  </a:lnTo>
                  <a:lnTo>
                    <a:pt x="553" y="180"/>
                  </a:lnTo>
                  <a:lnTo>
                    <a:pt x="550" y="180"/>
                  </a:lnTo>
                  <a:lnTo>
                    <a:pt x="547" y="182"/>
                  </a:lnTo>
                  <a:lnTo>
                    <a:pt x="539" y="185"/>
                  </a:lnTo>
                  <a:lnTo>
                    <a:pt x="532" y="189"/>
                  </a:lnTo>
                  <a:lnTo>
                    <a:pt x="523" y="195"/>
                  </a:lnTo>
                  <a:lnTo>
                    <a:pt x="513" y="202"/>
                  </a:lnTo>
                  <a:lnTo>
                    <a:pt x="501" y="210"/>
                  </a:lnTo>
                  <a:lnTo>
                    <a:pt x="490" y="220"/>
                  </a:lnTo>
                  <a:lnTo>
                    <a:pt x="468" y="238"/>
                  </a:lnTo>
                  <a:lnTo>
                    <a:pt x="448" y="257"/>
                  </a:lnTo>
                  <a:lnTo>
                    <a:pt x="430" y="275"/>
                  </a:lnTo>
                  <a:lnTo>
                    <a:pt x="413" y="293"/>
                  </a:lnTo>
                  <a:lnTo>
                    <a:pt x="397" y="310"/>
                  </a:lnTo>
                  <a:lnTo>
                    <a:pt x="383" y="328"/>
                  </a:lnTo>
                  <a:lnTo>
                    <a:pt x="370" y="346"/>
                  </a:lnTo>
                  <a:lnTo>
                    <a:pt x="360" y="363"/>
                  </a:lnTo>
                  <a:lnTo>
                    <a:pt x="350" y="381"/>
                  </a:lnTo>
                  <a:lnTo>
                    <a:pt x="341" y="401"/>
                  </a:lnTo>
                  <a:lnTo>
                    <a:pt x="331" y="425"/>
                  </a:lnTo>
                  <a:lnTo>
                    <a:pt x="323" y="450"/>
                  </a:lnTo>
                  <a:lnTo>
                    <a:pt x="314" y="478"/>
                  </a:lnTo>
                  <a:lnTo>
                    <a:pt x="306" y="508"/>
                  </a:lnTo>
                  <a:lnTo>
                    <a:pt x="291" y="575"/>
                  </a:lnTo>
                  <a:lnTo>
                    <a:pt x="214" y="958"/>
                  </a:lnTo>
                  <a:lnTo>
                    <a:pt x="42" y="958"/>
                  </a:lnTo>
                  <a:lnTo>
                    <a:pt x="153" y="397"/>
                  </a:lnTo>
                  <a:lnTo>
                    <a:pt x="187" y="239"/>
                  </a:lnTo>
                  <a:lnTo>
                    <a:pt x="194" y="196"/>
                  </a:lnTo>
                  <a:lnTo>
                    <a:pt x="196" y="183"/>
                  </a:lnTo>
                  <a:lnTo>
                    <a:pt x="197" y="178"/>
                  </a:lnTo>
                  <a:lnTo>
                    <a:pt x="197" y="176"/>
                  </a:lnTo>
                  <a:lnTo>
                    <a:pt x="197" y="176"/>
                  </a:lnTo>
                  <a:lnTo>
                    <a:pt x="197" y="176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8" y="174"/>
                  </a:lnTo>
                  <a:lnTo>
                    <a:pt x="198" y="174"/>
                  </a:lnTo>
                  <a:lnTo>
                    <a:pt x="198" y="173"/>
                  </a:lnTo>
                  <a:lnTo>
                    <a:pt x="198" y="173"/>
                  </a:lnTo>
                  <a:lnTo>
                    <a:pt x="198" y="173"/>
                  </a:lnTo>
                  <a:lnTo>
                    <a:pt x="199" y="173"/>
                  </a:lnTo>
                  <a:lnTo>
                    <a:pt x="199" y="173"/>
                  </a:lnTo>
                  <a:lnTo>
                    <a:pt x="199" y="173"/>
                  </a:lnTo>
                  <a:lnTo>
                    <a:pt x="200" y="173"/>
                  </a:lnTo>
                  <a:lnTo>
                    <a:pt x="200" y="173"/>
                  </a:lnTo>
                  <a:lnTo>
                    <a:pt x="198" y="173"/>
                  </a:lnTo>
                  <a:lnTo>
                    <a:pt x="196" y="173"/>
                  </a:lnTo>
                  <a:lnTo>
                    <a:pt x="192" y="176"/>
                  </a:lnTo>
                  <a:lnTo>
                    <a:pt x="186" y="178"/>
                  </a:lnTo>
                  <a:lnTo>
                    <a:pt x="179" y="180"/>
                  </a:lnTo>
                  <a:lnTo>
                    <a:pt x="165" y="190"/>
                  </a:lnTo>
                  <a:lnTo>
                    <a:pt x="148" y="204"/>
                  </a:lnTo>
                  <a:lnTo>
                    <a:pt x="127" y="221"/>
                  </a:lnTo>
                  <a:lnTo>
                    <a:pt x="102" y="243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18160" y="1414440"/>
              <a:ext cx="314280" cy="357120"/>
            </a:xfrm>
            <a:custGeom>
              <a:avLst/>
              <a:gdLst/>
              <a:ahLst/>
              <a:rect l="l" t="t" r="r" b="b"/>
              <a:pathLst>
                <a:path w="874" h="993">
                  <a:moveTo>
                    <a:pt x="654" y="28"/>
                  </a:moveTo>
                  <a:lnTo>
                    <a:pt x="826" y="28"/>
                  </a:lnTo>
                  <a:lnTo>
                    <a:pt x="735" y="433"/>
                  </a:lnTo>
                  <a:lnTo>
                    <a:pt x="677" y="688"/>
                  </a:lnTo>
                  <a:lnTo>
                    <a:pt x="662" y="763"/>
                  </a:lnTo>
                  <a:lnTo>
                    <a:pt x="658" y="787"/>
                  </a:lnTo>
                  <a:lnTo>
                    <a:pt x="657" y="796"/>
                  </a:lnTo>
                  <a:lnTo>
                    <a:pt x="657" y="802"/>
                  </a:lnTo>
                  <a:lnTo>
                    <a:pt x="657" y="806"/>
                  </a:lnTo>
                  <a:lnTo>
                    <a:pt x="657" y="808"/>
                  </a:lnTo>
                  <a:lnTo>
                    <a:pt x="657" y="811"/>
                  </a:lnTo>
                  <a:lnTo>
                    <a:pt x="658" y="813"/>
                  </a:lnTo>
                  <a:lnTo>
                    <a:pt x="658" y="816"/>
                  </a:lnTo>
                  <a:lnTo>
                    <a:pt x="658" y="816"/>
                  </a:lnTo>
                  <a:lnTo>
                    <a:pt x="659" y="817"/>
                  </a:lnTo>
                  <a:lnTo>
                    <a:pt x="659" y="818"/>
                  </a:lnTo>
                  <a:lnTo>
                    <a:pt x="659" y="818"/>
                  </a:lnTo>
                  <a:lnTo>
                    <a:pt x="660" y="819"/>
                  </a:lnTo>
                  <a:lnTo>
                    <a:pt x="660" y="819"/>
                  </a:lnTo>
                  <a:lnTo>
                    <a:pt x="661" y="820"/>
                  </a:lnTo>
                  <a:lnTo>
                    <a:pt x="662" y="822"/>
                  </a:lnTo>
                  <a:lnTo>
                    <a:pt x="662" y="822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5" y="823"/>
                  </a:lnTo>
                  <a:lnTo>
                    <a:pt x="667" y="823"/>
                  </a:lnTo>
                  <a:lnTo>
                    <a:pt x="670" y="822"/>
                  </a:lnTo>
                  <a:lnTo>
                    <a:pt x="673" y="822"/>
                  </a:lnTo>
                  <a:lnTo>
                    <a:pt x="676" y="820"/>
                  </a:lnTo>
                  <a:lnTo>
                    <a:pt x="679" y="819"/>
                  </a:lnTo>
                  <a:lnTo>
                    <a:pt x="682" y="817"/>
                  </a:lnTo>
                  <a:lnTo>
                    <a:pt x="689" y="813"/>
                  </a:lnTo>
                  <a:lnTo>
                    <a:pt x="698" y="806"/>
                  </a:lnTo>
                  <a:lnTo>
                    <a:pt x="709" y="795"/>
                  </a:lnTo>
                  <a:lnTo>
                    <a:pt x="738" y="768"/>
                  </a:lnTo>
                  <a:lnTo>
                    <a:pt x="823" y="681"/>
                  </a:lnTo>
                  <a:lnTo>
                    <a:pt x="873" y="745"/>
                  </a:lnTo>
                  <a:lnTo>
                    <a:pt x="825" y="802"/>
                  </a:lnTo>
                  <a:lnTo>
                    <a:pt x="778" y="853"/>
                  </a:lnTo>
                  <a:lnTo>
                    <a:pt x="736" y="895"/>
                  </a:lnTo>
                  <a:lnTo>
                    <a:pt x="696" y="930"/>
                  </a:lnTo>
                  <a:lnTo>
                    <a:pt x="660" y="957"/>
                  </a:lnTo>
                  <a:lnTo>
                    <a:pt x="643" y="968"/>
                  </a:lnTo>
                  <a:lnTo>
                    <a:pt x="627" y="976"/>
                  </a:lnTo>
                  <a:lnTo>
                    <a:pt x="611" y="984"/>
                  </a:lnTo>
                  <a:lnTo>
                    <a:pt x="598" y="988"/>
                  </a:lnTo>
                  <a:lnTo>
                    <a:pt x="584" y="991"/>
                  </a:lnTo>
                  <a:lnTo>
                    <a:pt x="571" y="992"/>
                  </a:lnTo>
                  <a:lnTo>
                    <a:pt x="561" y="992"/>
                  </a:lnTo>
                  <a:lnTo>
                    <a:pt x="551" y="990"/>
                  </a:lnTo>
                  <a:lnTo>
                    <a:pt x="547" y="988"/>
                  </a:lnTo>
                  <a:lnTo>
                    <a:pt x="543" y="987"/>
                  </a:lnTo>
                  <a:lnTo>
                    <a:pt x="539" y="986"/>
                  </a:lnTo>
                  <a:lnTo>
                    <a:pt x="534" y="984"/>
                  </a:lnTo>
                  <a:lnTo>
                    <a:pt x="530" y="981"/>
                  </a:lnTo>
                  <a:lnTo>
                    <a:pt x="526" y="979"/>
                  </a:lnTo>
                  <a:lnTo>
                    <a:pt x="522" y="976"/>
                  </a:lnTo>
                  <a:lnTo>
                    <a:pt x="519" y="973"/>
                  </a:lnTo>
                  <a:lnTo>
                    <a:pt x="514" y="970"/>
                  </a:lnTo>
                  <a:lnTo>
                    <a:pt x="511" y="967"/>
                  </a:lnTo>
                  <a:lnTo>
                    <a:pt x="504" y="958"/>
                  </a:lnTo>
                  <a:lnTo>
                    <a:pt x="501" y="955"/>
                  </a:lnTo>
                  <a:lnTo>
                    <a:pt x="497" y="950"/>
                  </a:lnTo>
                  <a:lnTo>
                    <a:pt x="494" y="945"/>
                  </a:lnTo>
                  <a:lnTo>
                    <a:pt x="492" y="940"/>
                  </a:lnTo>
                  <a:lnTo>
                    <a:pt x="490" y="936"/>
                  </a:lnTo>
                  <a:lnTo>
                    <a:pt x="488" y="930"/>
                  </a:lnTo>
                  <a:lnTo>
                    <a:pt x="484" y="919"/>
                  </a:lnTo>
                  <a:lnTo>
                    <a:pt x="481" y="907"/>
                  </a:lnTo>
                  <a:lnTo>
                    <a:pt x="479" y="895"/>
                  </a:lnTo>
                  <a:lnTo>
                    <a:pt x="477" y="882"/>
                  </a:lnTo>
                  <a:lnTo>
                    <a:pt x="477" y="867"/>
                  </a:lnTo>
                  <a:lnTo>
                    <a:pt x="477" y="853"/>
                  </a:lnTo>
                  <a:lnTo>
                    <a:pt x="478" y="837"/>
                  </a:lnTo>
                  <a:lnTo>
                    <a:pt x="481" y="822"/>
                  </a:lnTo>
                  <a:lnTo>
                    <a:pt x="483" y="806"/>
                  </a:lnTo>
                  <a:lnTo>
                    <a:pt x="486" y="790"/>
                  </a:lnTo>
                  <a:lnTo>
                    <a:pt x="489" y="774"/>
                  </a:lnTo>
                  <a:lnTo>
                    <a:pt x="493" y="757"/>
                  </a:lnTo>
                  <a:lnTo>
                    <a:pt x="498" y="740"/>
                  </a:lnTo>
                  <a:lnTo>
                    <a:pt x="485" y="766"/>
                  </a:lnTo>
                  <a:lnTo>
                    <a:pt x="468" y="792"/>
                  </a:lnTo>
                  <a:lnTo>
                    <a:pt x="450" y="816"/>
                  </a:lnTo>
                  <a:lnTo>
                    <a:pt x="428" y="840"/>
                  </a:lnTo>
                  <a:lnTo>
                    <a:pt x="405" y="864"/>
                  </a:lnTo>
                  <a:lnTo>
                    <a:pt x="378" y="886"/>
                  </a:lnTo>
                  <a:lnTo>
                    <a:pt x="350" y="909"/>
                  </a:lnTo>
                  <a:lnTo>
                    <a:pt x="319" y="931"/>
                  </a:lnTo>
                  <a:lnTo>
                    <a:pt x="298" y="944"/>
                  </a:lnTo>
                  <a:lnTo>
                    <a:pt x="277" y="956"/>
                  </a:lnTo>
                  <a:lnTo>
                    <a:pt x="257" y="966"/>
                  </a:lnTo>
                  <a:lnTo>
                    <a:pt x="238" y="974"/>
                  </a:lnTo>
                  <a:lnTo>
                    <a:pt x="219" y="980"/>
                  </a:lnTo>
                  <a:lnTo>
                    <a:pt x="201" y="985"/>
                  </a:lnTo>
                  <a:lnTo>
                    <a:pt x="183" y="987"/>
                  </a:lnTo>
                  <a:lnTo>
                    <a:pt x="166" y="988"/>
                  </a:lnTo>
                  <a:lnTo>
                    <a:pt x="155" y="988"/>
                  </a:lnTo>
                  <a:lnTo>
                    <a:pt x="146" y="986"/>
                  </a:lnTo>
                  <a:lnTo>
                    <a:pt x="141" y="985"/>
                  </a:lnTo>
                  <a:lnTo>
                    <a:pt x="136" y="984"/>
                  </a:lnTo>
                  <a:lnTo>
                    <a:pt x="132" y="982"/>
                  </a:lnTo>
                  <a:lnTo>
                    <a:pt x="128" y="980"/>
                  </a:lnTo>
                  <a:lnTo>
                    <a:pt x="124" y="978"/>
                  </a:lnTo>
                  <a:lnTo>
                    <a:pt x="119" y="975"/>
                  </a:lnTo>
                  <a:lnTo>
                    <a:pt x="115" y="973"/>
                  </a:lnTo>
                  <a:lnTo>
                    <a:pt x="112" y="970"/>
                  </a:lnTo>
                  <a:lnTo>
                    <a:pt x="108" y="967"/>
                  </a:lnTo>
                  <a:lnTo>
                    <a:pt x="105" y="963"/>
                  </a:lnTo>
                  <a:lnTo>
                    <a:pt x="101" y="960"/>
                  </a:lnTo>
                  <a:lnTo>
                    <a:pt x="98" y="956"/>
                  </a:lnTo>
                  <a:lnTo>
                    <a:pt x="95" y="952"/>
                  </a:lnTo>
                  <a:lnTo>
                    <a:pt x="93" y="948"/>
                  </a:lnTo>
                  <a:lnTo>
                    <a:pt x="90" y="943"/>
                  </a:lnTo>
                  <a:lnTo>
                    <a:pt x="88" y="938"/>
                  </a:lnTo>
                  <a:lnTo>
                    <a:pt x="86" y="933"/>
                  </a:lnTo>
                  <a:lnTo>
                    <a:pt x="83" y="928"/>
                  </a:lnTo>
                  <a:lnTo>
                    <a:pt x="80" y="916"/>
                  </a:lnTo>
                  <a:lnTo>
                    <a:pt x="77" y="904"/>
                  </a:lnTo>
                  <a:lnTo>
                    <a:pt x="75" y="891"/>
                  </a:lnTo>
                  <a:lnTo>
                    <a:pt x="74" y="877"/>
                  </a:lnTo>
                  <a:lnTo>
                    <a:pt x="74" y="861"/>
                  </a:lnTo>
                  <a:lnTo>
                    <a:pt x="75" y="838"/>
                  </a:lnTo>
                  <a:lnTo>
                    <a:pt x="76" y="816"/>
                  </a:lnTo>
                  <a:lnTo>
                    <a:pt x="79" y="792"/>
                  </a:lnTo>
                  <a:lnTo>
                    <a:pt x="82" y="766"/>
                  </a:lnTo>
                  <a:lnTo>
                    <a:pt x="91" y="723"/>
                  </a:lnTo>
                  <a:lnTo>
                    <a:pt x="105" y="663"/>
                  </a:lnTo>
                  <a:lnTo>
                    <a:pt x="146" y="491"/>
                  </a:lnTo>
                  <a:lnTo>
                    <a:pt x="173" y="374"/>
                  </a:lnTo>
                  <a:lnTo>
                    <a:pt x="193" y="286"/>
                  </a:lnTo>
                  <a:lnTo>
                    <a:pt x="205" y="221"/>
                  </a:lnTo>
                  <a:lnTo>
                    <a:pt x="208" y="199"/>
                  </a:lnTo>
                  <a:lnTo>
                    <a:pt x="209" y="191"/>
                  </a:lnTo>
                  <a:lnTo>
                    <a:pt x="209" y="184"/>
                  </a:lnTo>
                  <a:lnTo>
                    <a:pt x="209" y="180"/>
                  </a:lnTo>
                  <a:lnTo>
                    <a:pt x="209" y="179"/>
                  </a:lnTo>
                  <a:lnTo>
                    <a:pt x="209" y="179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08" y="176"/>
                  </a:lnTo>
                  <a:lnTo>
                    <a:pt x="207" y="176"/>
                  </a:lnTo>
                  <a:lnTo>
                    <a:pt x="205" y="178"/>
                  </a:lnTo>
                  <a:lnTo>
                    <a:pt x="203" y="178"/>
                  </a:lnTo>
                  <a:lnTo>
                    <a:pt x="200" y="179"/>
                  </a:lnTo>
                  <a:lnTo>
                    <a:pt x="194" y="181"/>
                  </a:lnTo>
                  <a:lnTo>
                    <a:pt x="190" y="184"/>
                  </a:lnTo>
                  <a:lnTo>
                    <a:pt x="185" y="186"/>
                  </a:lnTo>
                  <a:lnTo>
                    <a:pt x="172" y="194"/>
                  </a:lnTo>
                  <a:lnTo>
                    <a:pt x="165" y="199"/>
                  </a:lnTo>
                  <a:lnTo>
                    <a:pt x="156" y="206"/>
                  </a:lnTo>
                  <a:lnTo>
                    <a:pt x="132" y="228"/>
                  </a:lnTo>
                  <a:lnTo>
                    <a:pt x="63" y="294"/>
                  </a:lnTo>
                  <a:lnTo>
                    <a:pt x="0" y="234"/>
                  </a:lnTo>
                  <a:lnTo>
                    <a:pt x="64" y="166"/>
                  </a:lnTo>
                  <a:lnTo>
                    <a:pt x="119" y="112"/>
                  </a:lnTo>
                  <a:lnTo>
                    <a:pt x="145" y="89"/>
                  </a:lnTo>
                  <a:lnTo>
                    <a:pt x="167" y="70"/>
                  </a:lnTo>
                  <a:lnTo>
                    <a:pt x="188" y="54"/>
                  </a:lnTo>
                  <a:lnTo>
                    <a:pt x="207" y="42"/>
                  </a:lnTo>
                  <a:lnTo>
                    <a:pt x="224" y="32"/>
                  </a:lnTo>
                  <a:lnTo>
                    <a:pt x="241" y="24"/>
                  </a:lnTo>
                  <a:lnTo>
                    <a:pt x="256" y="17"/>
                  </a:lnTo>
                  <a:lnTo>
                    <a:pt x="271" y="11"/>
                  </a:lnTo>
                  <a:lnTo>
                    <a:pt x="285" y="6"/>
                  </a:lnTo>
                  <a:lnTo>
                    <a:pt x="299" y="2"/>
                  </a:lnTo>
                  <a:lnTo>
                    <a:pt x="312" y="1"/>
                  </a:lnTo>
                  <a:lnTo>
                    <a:pt x="323" y="0"/>
                  </a:lnTo>
                  <a:lnTo>
                    <a:pt x="331" y="0"/>
                  </a:lnTo>
                  <a:lnTo>
                    <a:pt x="338" y="1"/>
                  </a:lnTo>
                  <a:lnTo>
                    <a:pt x="342" y="2"/>
                  </a:lnTo>
                  <a:lnTo>
                    <a:pt x="345" y="4"/>
                  </a:lnTo>
                  <a:lnTo>
                    <a:pt x="349" y="5"/>
                  </a:lnTo>
                  <a:lnTo>
                    <a:pt x="353" y="6"/>
                  </a:lnTo>
                  <a:lnTo>
                    <a:pt x="356" y="8"/>
                  </a:lnTo>
                  <a:lnTo>
                    <a:pt x="358" y="10"/>
                  </a:lnTo>
                  <a:lnTo>
                    <a:pt x="361" y="12"/>
                  </a:lnTo>
                  <a:lnTo>
                    <a:pt x="364" y="14"/>
                  </a:lnTo>
                  <a:lnTo>
                    <a:pt x="368" y="17"/>
                  </a:lnTo>
                  <a:lnTo>
                    <a:pt x="370" y="20"/>
                  </a:lnTo>
                  <a:lnTo>
                    <a:pt x="373" y="23"/>
                  </a:lnTo>
                  <a:lnTo>
                    <a:pt x="375" y="26"/>
                  </a:lnTo>
                  <a:lnTo>
                    <a:pt x="377" y="30"/>
                  </a:lnTo>
                  <a:lnTo>
                    <a:pt x="380" y="34"/>
                  </a:lnTo>
                  <a:lnTo>
                    <a:pt x="382" y="37"/>
                  </a:lnTo>
                  <a:lnTo>
                    <a:pt x="383" y="41"/>
                  </a:lnTo>
                  <a:lnTo>
                    <a:pt x="386" y="44"/>
                  </a:lnTo>
                  <a:lnTo>
                    <a:pt x="388" y="49"/>
                  </a:lnTo>
                  <a:lnTo>
                    <a:pt x="390" y="58"/>
                  </a:lnTo>
                  <a:lnTo>
                    <a:pt x="392" y="67"/>
                  </a:lnTo>
                  <a:lnTo>
                    <a:pt x="394" y="77"/>
                  </a:lnTo>
                  <a:lnTo>
                    <a:pt x="395" y="88"/>
                  </a:lnTo>
                  <a:lnTo>
                    <a:pt x="395" y="100"/>
                  </a:lnTo>
                  <a:lnTo>
                    <a:pt x="394" y="122"/>
                  </a:lnTo>
                  <a:lnTo>
                    <a:pt x="391" y="152"/>
                  </a:lnTo>
                  <a:lnTo>
                    <a:pt x="378" y="232"/>
                  </a:lnTo>
                  <a:lnTo>
                    <a:pt x="356" y="338"/>
                  </a:lnTo>
                  <a:lnTo>
                    <a:pt x="325" y="473"/>
                  </a:lnTo>
                  <a:lnTo>
                    <a:pt x="280" y="675"/>
                  </a:lnTo>
                  <a:lnTo>
                    <a:pt x="269" y="735"/>
                  </a:lnTo>
                  <a:lnTo>
                    <a:pt x="266" y="754"/>
                  </a:lnTo>
                  <a:lnTo>
                    <a:pt x="265" y="762"/>
                  </a:lnTo>
                  <a:lnTo>
                    <a:pt x="265" y="766"/>
                  </a:lnTo>
                  <a:lnTo>
                    <a:pt x="265" y="770"/>
                  </a:lnTo>
                  <a:lnTo>
                    <a:pt x="265" y="774"/>
                  </a:lnTo>
                  <a:lnTo>
                    <a:pt x="266" y="777"/>
                  </a:lnTo>
                  <a:lnTo>
                    <a:pt x="267" y="780"/>
                  </a:lnTo>
                  <a:lnTo>
                    <a:pt x="267" y="781"/>
                  </a:lnTo>
                  <a:lnTo>
                    <a:pt x="268" y="783"/>
                  </a:lnTo>
                  <a:lnTo>
                    <a:pt x="268" y="784"/>
                  </a:lnTo>
                  <a:lnTo>
                    <a:pt x="269" y="786"/>
                  </a:lnTo>
                  <a:lnTo>
                    <a:pt x="269" y="787"/>
                  </a:lnTo>
                  <a:lnTo>
                    <a:pt x="270" y="788"/>
                  </a:lnTo>
                  <a:lnTo>
                    <a:pt x="271" y="789"/>
                  </a:lnTo>
                  <a:lnTo>
                    <a:pt x="273" y="790"/>
                  </a:lnTo>
                  <a:lnTo>
                    <a:pt x="275" y="793"/>
                  </a:lnTo>
                  <a:lnTo>
                    <a:pt x="276" y="794"/>
                  </a:lnTo>
                  <a:lnTo>
                    <a:pt x="278" y="796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1" y="799"/>
                  </a:lnTo>
                  <a:lnTo>
                    <a:pt x="282" y="799"/>
                  </a:lnTo>
                  <a:lnTo>
                    <a:pt x="283" y="799"/>
                  </a:lnTo>
                  <a:lnTo>
                    <a:pt x="284" y="800"/>
                  </a:lnTo>
                  <a:lnTo>
                    <a:pt x="284" y="800"/>
                  </a:lnTo>
                  <a:lnTo>
                    <a:pt x="285" y="800"/>
                  </a:lnTo>
                  <a:lnTo>
                    <a:pt x="286" y="800"/>
                  </a:lnTo>
                  <a:lnTo>
                    <a:pt x="292" y="800"/>
                  </a:lnTo>
                  <a:lnTo>
                    <a:pt x="298" y="799"/>
                  </a:lnTo>
                  <a:lnTo>
                    <a:pt x="304" y="796"/>
                  </a:lnTo>
                  <a:lnTo>
                    <a:pt x="312" y="794"/>
                  </a:lnTo>
                  <a:lnTo>
                    <a:pt x="319" y="790"/>
                  </a:lnTo>
                  <a:lnTo>
                    <a:pt x="326" y="787"/>
                  </a:lnTo>
                  <a:lnTo>
                    <a:pt x="343" y="776"/>
                  </a:lnTo>
                  <a:lnTo>
                    <a:pt x="361" y="763"/>
                  </a:lnTo>
                  <a:lnTo>
                    <a:pt x="381" y="747"/>
                  </a:lnTo>
                  <a:lnTo>
                    <a:pt x="402" y="728"/>
                  </a:lnTo>
                  <a:lnTo>
                    <a:pt x="425" y="705"/>
                  </a:lnTo>
                  <a:lnTo>
                    <a:pt x="447" y="681"/>
                  </a:lnTo>
                  <a:lnTo>
                    <a:pt x="467" y="656"/>
                  </a:lnTo>
                  <a:lnTo>
                    <a:pt x="485" y="630"/>
                  </a:lnTo>
                  <a:lnTo>
                    <a:pt x="502" y="603"/>
                  </a:lnTo>
                  <a:lnTo>
                    <a:pt x="515" y="576"/>
                  </a:lnTo>
                  <a:lnTo>
                    <a:pt x="528" y="548"/>
                  </a:lnTo>
                  <a:lnTo>
                    <a:pt x="538" y="518"/>
                  </a:lnTo>
                  <a:lnTo>
                    <a:pt x="546" y="488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07400" y="1414440"/>
              <a:ext cx="314280" cy="357120"/>
            </a:xfrm>
            <a:custGeom>
              <a:avLst/>
              <a:gdLst/>
              <a:ahLst/>
              <a:rect l="l" t="t" r="r" b="b"/>
              <a:pathLst>
                <a:path w="874" h="993">
                  <a:moveTo>
                    <a:pt x="654" y="28"/>
                  </a:moveTo>
                  <a:lnTo>
                    <a:pt x="826" y="28"/>
                  </a:lnTo>
                  <a:lnTo>
                    <a:pt x="735" y="433"/>
                  </a:lnTo>
                  <a:lnTo>
                    <a:pt x="677" y="688"/>
                  </a:lnTo>
                  <a:lnTo>
                    <a:pt x="662" y="763"/>
                  </a:lnTo>
                  <a:lnTo>
                    <a:pt x="658" y="787"/>
                  </a:lnTo>
                  <a:lnTo>
                    <a:pt x="657" y="796"/>
                  </a:lnTo>
                  <a:lnTo>
                    <a:pt x="657" y="802"/>
                  </a:lnTo>
                  <a:lnTo>
                    <a:pt x="657" y="806"/>
                  </a:lnTo>
                  <a:lnTo>
                    <a:pt x="657" y="808"/>
                  </a:lnTo>
                  <a:lnTo>
                    <a:pt x="657" y="811"/>
                  </a:lnTo>
                  <a:lnTo>
                    <a:pt x="658" y="813"/>
                  </a:lnTo>
                  <a:lnTo>
                    <a:pt x="658" y="816"/>
                  </a:lnTo>
                  <a:lnTo>
                    <a:pt x="658" y="816"/>
                  </a:lnTo>
                  <a:lnTo>
                    <a:pt x="659" y="817"/>
                  </a:lnTo>
                  <a:lnTo>
                    <a:pt x="659" y="818"/>
                  </a:lnTo>
                  <a:lnTo>
                    <a:pt x="659" y="818"/>
                  </a:lnTo>
                  <a:lnTo>
                    <a:pt x="660" y="819"/>
                  </a:lnTo>
                  <a:lnTo>
                    <a:pt x="660" y="819"/>
                  </a:lnTo>
                  <a:lnTo>
                    <a:pt x="661" y="820"/>
                  </a:lnTo>
                  <a:lnTo>
                    <a:pt x="662" y="822"/>
                  </a:lnTo>
                  <a:lnTo>
                    <a:pt x="662" y="822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3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4" y="823"/>
                  </a:lnTo>
                  <a:lnTo>
                    <a:pt x="665" y="823"/>
                  </a:lnTo>
                  <a:lnTo>
                    <a:pt x="667" y="823"/>
                  </a:lnTo>
                  <a:lnTo>
                    <a:pt x="669" y="822"/>
                  </a:lnTo>
                  <a:lnTo>
                    <a:pt x="673" y="822"/>
                  </a:lnTo>
                  <a:lnTo>
                    <a:pt x="676" y="820"/>
                  </a:lnTo>
                  <a:lnTo>
                    <a:pt x="679" y="819"/>
                  </a:lnTo>
                  <a:lnTo>
                    <a:pt x="682" y="817"/>
                  </a:lnTo>
                  <a:lnTo>
                    <a:pt x="688" y="813"/>
                  </a:lnTo>
                  <a:lnTo>
                    <a:pt x="698" y="806"/>
                  </a:lnTo>
                  <a:lnTo>
                    <a:pt x="708" y="795"/>
                  </a:lnTo>
                  <a:lnTo>
                    <a:pt x="738" y="768"/>
                  </a:lnTo>
                  <a:lnTo>
                    <a:pt x="822" y="681"/>
                  </a:lnTo>
                  <a:lnTo>
                    <a:pt x="873" y="745"/>
                  </a:lnTo>
                  <a:lnTo>
                    <a:pt x="825" y="802"/>
                  </a:lnTo>
                  <a:lnTo>
                    <a:pt x="778" y="853"/>
                  </a:lnTo>
                  <a:lnTo>
                    <a:pt x="736" y="895"/>
                  </a:lnTo>
                  <a:lnTo>
                    <a:pt x="696" y="930"/>
                  </a:lnTo>
                  <a:lnTo>
                    <a:pt x="660" y="957"/>
                  </a:lnTo>
                  <a:lnTo>
                    <a:pt x="643" y="968"/>
                  </a:lnTo>
                  <a:lnTo>
                    <a:pt x="627" y="976"/>
                  </a:lnTo>
                  <a:lnTo>
                    <a:pt x="611" y="984"/>
                  </a:lnTo>
                  <a:lnTo>
                    <a:pt x="598" y="988"/>
                  </a:lnTo>
                  <a:lnTo>
                    <a:pt x="584" y="991"/>
                  </a:lnTo>
                  <a:lnTo>
                    <a:pt x="571" y="992"/>
                  </a:lnTo>
                  <a:lnTo>
                    <a:pt x="561" y="992"/>
                  </a:lnTo>
                  <a:lnTo>
                    <a:pt x="551" y="990"/>
                  </a:lnTo>
                  <a:lnTo>
                    <a:pt x="547" y="988"/>
                  </a:lnTo>
                  <a:lnTo>
                    <a:pt x="543" y="987"/>
                  </a:lnTo>
                  <a:lnTo>
                    <a:pt x="538" y="986"/>
                  </a:lnTo>
                  <a:lnTo>
                    <a:pt x="534" y="984"/>
                  </a:lnTo>
                  <a:lnTo>
                    <a:pt x="530" y="981"/>
                  </a:lnTo>
                  <a:lnTo>
                    <a:pt x="526" y="979"/>
                  </a:lnTo>
                  <a:lnTo>
                    <a:pt x="522" y="976"/>
                  </a:lnTo>
                  <a:lnTo>
                    <a:pt x="518" y="973"/>
                  </a:lnTo>
                  <a:lnTo>
                    <a:pt x="514" y="970"/>
                  </a:lnTo>
                  <a:lnTo>
                    <a:pt x="511" y="967"/>
                  </a:lnTo>
                  <a:lnTo>
                    <a:pt x="504" y="958"/>
                  </a:lnTo>
                  <a:lnTo>
                    <a:pt x="500" y="955"/>
                  </a:lnTo>
                  <a:lnTo>
                    <a:pt x="497" y="950"/>
                  </a:lnTo>
                  <a:lnTo>
                    <a:pt x="494" y="945"/>
                  </a:lnTo>
                  <a:lnTo>
                    <a:pt x="492" y="940"/>
                  </a:lnTo>
                  <a:lnTo>
                    <a:pt x="490" y="936"/>
                  </a:lnTo>
                  <a:lnTo>
                    <a:pt x="488" y="930"/>
                  </a:lnTo>
                  <a:lnTo>
                    <a:pt x="484" y="919"/>
                  </a:lnTo>
                  <a:lnTo>
                    <a:pt x="480" y="907"/>
                  </a:lnTo>
                  <a:lnTo>
                    <a:pt x="479" y="895"/>
                  </a:lnTo>
                  <a:lnTo>
                    <a:pt x="477" y="882"/>
                  </a:lnTo>
                  <a:lnTo>
                    <a:pt x="477" y="867"/>
                  </a:lnTo>
                  <a:lnTo>
                    <a:pt x="477" y="853"/>
                  </a:lnTo>
                  <a:lnTo>
                    <a:pt x="478" y="837"/>
                  </a:lnTo>
                  <a:lnTo>
                    <a:pt x="480" y="822"/>
                  </a:lnTo>
                  <a:lnTo>
                    <a:pt x="482" y="806"/>
                  </a:lnTo>
                  <a:lnTo>
                    <a:pt x="486" y="790"/>
                  </a:lnTo>
                  <a:lnTo>
                    <a:pt x="489" y="774"/>
                  </a:lnTo>
                  <a:lnTo>
                    <a:pt x="493" y="757"/>
                  </a:lnTo>
                  <a:lnTo>
                    <a:pt x="498" y="740"/>
                  </a:lnTo>
                  <a:lnTo>
                    <a:pt x="485" y="766"/>
                  </a:lnTo>
                  <a:lnTo>
                    <a:pt x="468" y="792"/>
                  </a:lnTo>
                  <a:lnTo>
                    <a:pt x="450" y="816"/>
                  </a:lnTo>
                  <a:lnTo>
                    <a:pt x="428" y="840"/>
                  </a:lnTo>
                  <a:lnTo>
                    <a:pt x="404" y="864"/>
                  </a:lnTo>
                  <a:lnTo>
                    <a:pt x="378" y="886"/>
                  </a:lnTo>
                  <a:lnTo>
                    <a:pt x="349" y="909"/>
                  </a:lnTo>
                  <a:lnTo>
                    <a:pt x="319" y="931"/>
                  </a:lnTo>
                  <a:lnTo>
                    <a:pt x="298" y="944"/>
                  </a:lnTo>
                  <a:lnTo>
                    <a:pt x="277" y="956"/>
                  </a:lnTo>
                  <a:lnTo>
                    <a:pt x="256" y="966"/>
                  </a:lnTo>
                  <a:lnTo>
                    <a:pt x="237" y="974"/>
                  </a:lnTo>
                  <a:lnTo>
                    <a:pt x="218" y="980"/>
                  </a:lnTo>
                  <a:lnTo>
                    <a:pt x="201" y="985"/>
                  </a:lnTo>
                  <a:lnTo>
                    <a:pt x="183" y="987"/>
                  </a:lnTo>
                  <a:lnTo>
                    <a:pt x="166" y="988"/>
                  </a:lnTo>
                  <a:lnTo>
                    <a:pt x="155" y="988"/>
                  </a:lnTo>
                  <a:lnTo>
                    <a:pt x="146" y="986"/>
                  </a:lnTo>
                  <a:lnTo>
                    <a:pt x="140" y="985"/>
                  </a:lnTo>
                  <a:lnTo>
                    <a:pt x="136" y="984"/>
                  </a:lnTo>
                  <a:lnTo>
                    <a:pt x="132" y="982"/>
                  </a:lnTo>
                  <a:lnTo>
                    <a:pt x="128" y="980"/>
                  </a:lnTo>
                  <a:lnTo>
                    <a:pt x="123" y="978"/>
                  </a:lnTo>
                  <a:lnTo>
                    <a:pt x="119" y="975"/>
                  </a:lnTo>
                  <a:lnTo>
                    <a:pt x="115" y="973"/>
                  </a:lnTo>
                  <a:lnTo>
                    <a:pt x="112" y="970"/>
                  </a:lnTo>
                  <a:lnTo>
                    <a:pt x="108" y="967"/>
                  </a:lnTo>
                  <a:lnTo>
                    <a:pt x="104" y="963"/>
                  </a:lnTo>
                  <a:lnTo>
                    <a:pt x="101" y="960"/>
                  </a:lnTo>
                  <a:lnTo>
                    <a:pt x="98" y="956"/>
                  </a:lnTo>
                  <a:lnTo>
                    <a:pt x="95" y="952"/>
                  </a:lnTo>
                  <a:lnTo>
                    <a:pt x="93" y="948"/>
                  </a:lnTo>
                  <a:lnTo>
                    <a:pt x="90" y="943"/>
                  </a:lnTo>
                  <a:lnTo>
                    <a:pt x="88" y="938"/>
                  </a:lnTo>
                  <a:lnTo>
                    <a:pt x="85" y="933"/>
                  </a:lnTo>
                  <a:lnTo>
                    <a:pt x="83" y="928"/>
                  </a:lnTo>
                  <a:lnTo>
                    <a:pt x="80" y="916"/>
                  </a:lnTo>
                  <a:lnTo>
                    <a:pt x="77" y="904"/>
                  </a:lnTo>
                  <a:lnTo>
                    <a:pt x="75" y="891"/>
                  </a:lnTo>
                  <a:lnTo>
                    <a:pt x="74" y="877"/>
                  </a:lnTo>
                  <a:lnTo>
                    <a:pt x="74" y="861"/>
                  </a:lnTo>
                  <a:lnTo>
                    <a:pt x="75" y="838"/>
                  </a:lnTo>
                  <a:lnTo>
                    <a:pt x="76" y="816"/>
                  </a:lnTo>
                  <a:lnTo>
                    <a:pt x="79" y="792"/>
                  </a:lnTo>
                  <a:lnTo>
                    <a:pt x="82" y="766"/>
                  </a:lnTo>
                  <a:lnTo>
                    <a:pt x="91" y="723"/>
                  </a:lnTo>
                  <a:lnTo>
                    <a:pt x="104" y="663"/>
                  </a:lnTo>
                  <a:lnTo>
                    <a:pt x="146" y="491"/>
                  </a:lnTo>
                  <a:lnTo>
                    <a:pt x="173" y="374"/>
                  </a:lnTo>
                  <a:lnTo>
                    <a:pt x="193" y="286"/>
                  </a:lnTo>
                  <a:lnTo>
                    <a:pt x="205" y="221"/>
                  </a:lnTo>
                  <a:lnTo>
                    <a:pt x="208" y="199"/>
                  </a:lnTo>
                  <a:lnTo>
                    <a:pt x="209" y="191"/>
                  </a:lnTo>
                  <a:lnTo>
                    <a:pt x="209" y="184"/>
                  </a:lnTo>
                  <a:lnTo>
                    <a:pt x="209" y="180"/>
                  </a:lnTo>
                  <a:lnTo>
                    <a:pt x="209" y="179"/>
                  </a:lnTo>
                  <a:lnTo>
                    <a:pt x="209" y="179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8"/>
                  </a:lnTo>
                  <a:lnTo>
                    <a:pt x="209" y="176"/>
                  </a:lnTo>
                  <a:lnTo>
                    <a:pt x="209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08" y="176"/>
                  </a:lnTo>
                  <a:lnTo>
                    <a:pt x="207" y="176"/>
                  </a:lnTo>
                  <a:lnTo>
                    <a:pt x="205" y="178"/>
                  </a:lnTo>
                  <a:lnTo>
                    <a:pt x="203" y="178"/>
                  </a:lnTo>
                  <a:lnTo>
                    <a:pt x="199" y="179"/>
                  </a:lnTo>
                  <a:lnTo>
                    <a:pt x="194" y="181"/>
                  </a:lnTo>
                  <a:lnTo>
                    <a:pt x="190" y="184"/>
                  </a:lnTo>
                  <a:lnTo>
                    <a:pt x="185" y="186"/>
                  </a:lnTo>
                  <a:lnTo>
                    <a:pt x="172" y="194"/>
                  </a:lnTo>
                  <a:lnTo>
                    <a:pt x="165" y="199"/>
                  </a:lnTo>
                  <a:lnTo>
                    <a:pt x="156" y="206"/>
                  </a:lnTo>
                  <a:lnTo>
                    <a:pt x="132" y="228"/>
                  </a:lnTo>
                  <a:lnTo>
                    <a:pt x="63" y="294"/>
                  </a:lnTo>
                  <a:lnTo>
                    <a:pt x="0" y="234"/>
                  </a:lnTo>
                  <a:lnTo>
                    <a:pt x="64" y="166"/>
                  </a:lnTo>
                  <a:lnTo>
                    <a:pt x="119" y="112"/>
                  </a:lnTo>
                  <a:lnTo>
                    <a:pt x="145" y="89"/>
                  </a:lnTo>
                  <a:lnTo>
                    <a:pt x="167" y="70"/>
                  </a:lnTo>
                  <a:lnTo>
                    <a:pt x="188" y="54"/>
                  </a:lnTo>
                  <a:lnTo>
                    <a:pt x="207" y="42"/>
                  </a:lnTo>
                  <a:lnTo>
                    <a:pt x="224" y="32"/>
                  </a:lnTo>
                  <a:lnTo>
                    <a:pt x="241" y="24"/>
                  </a:lnTo>
                  <a:lnTo>
                    <a:pt x="255" y="17"/>
                  </a:lnTo>
                  <a:lnTo>
                    <a:pt x="271" y="11"/>
                  </a:lnTo>
                  <a:lnTo>
                    <a:pt x="285" y="6"/>
                  </a:lnTo>
                  <a:lnTo>
                    <a:pt x="299" y="2"/>
                  </a:lnTo>
                  <a:lnTo>
                    <a:pt x="311" y="1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8" y="1"/>
                  </a:lnTo>
                  <a:lnTo>
                    <a:pt x="342" y="2"/>
                  </a:lnTo>
                  <a:lnTo>
                    <a:pt x="345" y="4"/>
                  </a:lnTo>
                  <a:lnTo>
                    <a:pt x="348" y="5"/>
                  </a:lnTo>
                  <a:lnTo>
                    <a:pt x="353" y="6"/>
                  </a:lnTo>
                  <a:lnTo>
                    <a:pt x="356" y="8"/>
                  </a:lnTo>
                  <a:lnTo>
                    <a:pt x="358" y="10"/>
                  </a:lnTo>
                  <a:lnTo>
                    <a:pt x="361" y="12"/>
                  </a:lnTo>
                  <a:lnTo>
                    <a:pt x="364" y="14"/>
                  </a:lnTo>
                  <a:lnTo>
                    <a:pt x="367" y="17"/>
                  </a:lnTo>
                  <a:lnTo>
                    <a:pt x="369" y="20"/>
                  </a:lnTo>
                  <a:lnTo>
                    <a:pt x="373" y="23"/>
                  </a:lnTo>
                  <a:lnTo>
                    <a:pt x="375" y="26"/>
                  </a:lnTo>
                  <a:lnTo>
                    <a:pt x="377" y="30"/>
                  </a:lnTo>
                  <a:lnTo>
                    <a:pt x="380" y="34"/>
                  </a:lnTo>
                  <a:lnTo>
                    <a:pt x="382" y="37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7" y="49"/>
                  </a:lnTo>
                  <a:lnTo>
                    <a:pt x="390" y="58"/>
                  </a:lnTo>
                  <a:lnTo>
                    <a:pt x="392" y="67"/>
                  </a:lnTo>
                  <a:lnTo>
                    <a:pt x="394" y="77"/>
                  </a:lnTo>
                  <a:lnTo>
                    <a:pt x="395" y="88"/>
                  </a:lnTo>
                  <a:lnTo>
                    <a:pt x="395" y="100"/>
                  </a:lnTo>
                  <a:lnTo>
                    <a:pt x="394" y="122"/>
                  </a:lnTo>
                  <a:lnTo>
                    <a:pt x="391" y="152"/>
                  </a:lnTo>
                  <a:lnTo>
                    <a:pt x="378" y="232"/>
                  </a:lnTo>
                  <a:lnTo>
                    <a:pt x="356" y="338"/>
                  </a:lnTo>
                  <a:lnTo>
                    <a:pt x="325" y="473"/>
                  </a:lnTo>
                  <a:lnTo>
                    <a:pt x="280" y="675"/>
                  </a:lnTo>
                  <a:lnTo>
                    <a:pt x="269" y="735"/>
                  </a:lnTo>
                  <a:lnTo>
                    <a:pt x="266" y="754"/>
                  </a:lnTo>
                  <a:lnTo>
                    <a:pt x="265" y="762"/>
                  </a:lnTo>
                  <a:lnTo>
                    <a:pt x="265" y="766"/>
                  </a:lnTo>
                  <a:lnTo>
                    <a:pt x="265" y="770"/>
                  </a:lnTo>
                  <a:lnTo>
                    <a:pt x="265" y="774"/>
                  </a:lnTo>
                  <a:lnTo>
                    <a:pt x="266" y="777"/>
                  </a:lnTo>
                  <a:lnTo>
                    <a:pt x="267" y="780"/>
                  </a:lnTo>
                  <a:lnTo>
                    <a:pt x="267" y="781"/>
                  </a:lnTo>
                  <a:lnTo>
                    <a:pt x="268" y="783"/>
                  </a:lnTo>
                  <a:lnTo>
                    <a:pt x="268" y="784"/>
                  </a:lnTo>
                  <a:lnTo>
                    <a:pt x="269" y="786"/>
                  </a:lnTo>
                  <a:lnTo>
                    <a:pt x="269" y="787"/>
                  </a:lnTo>
                  <a:lnTo>
                    <a:pt x="270" y="788"/>
                  </a:lnTo>
                  <a:lnTo>
                    <a:pt x="271" y="789"/>
                  </a:lnTo>
                  <a:lnTo>
                    <a:pt x="272" y="790"/>
                  </a:lnTo>
                  <a:lnTo>
                    <a:pt x="274" y="793"/>
                  </a:lnTo>
                  <a:lnTo>
                    <a:pt x="275" y="794"/>
                  </a:lnTo>
                  <a:lnTo>
                    <a:pt x="278" y="796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1" y="799"/>
                  </a:lnTo>
                  <a:lnTo>
                    <a:pt x="282" y="799"/>
                  </a:lnTo>
                  <a:lnTo>
                    <a:pt x="283" y="799"/>
                  </a:lnTo>
                  <a:lnTo>
                    <a:pt x="284" y="800"/>
                  </a:lnTo>
                  <a:lnTo>
                    <a:pt x="284" y="800"/>
                  </a:lnTo>
                  <a:lnTo>
                    <a:pt x="285" y="800"/>
                  </a:lnTo>
                  <a:lnTo>
                    <a:pt x="286" y="800"/>
                  </a:lnTo>
                  <a:lnTo>
                    <a:pt x="291" y="800"/>
                  </a:lnTo>
                  <a:lnTo>
                    <a:pt x="298" y="799"/>
                  </a:lnTo>
                  <a:lnTo>
                    <a:pt x="304" y="796"/>
                  </a:lnTo>
                  <a:lnTo>
                    <a:pt x="311" y="794"/>
                  </a:lnTo>
                  <a:lnTo>
                    <a:pt x="319" y="790"/>
                  </a:lnTo>
                  <a:lnTo>
                    <a:pt x="326" y="787"/>
                  </a:lnTo>
                  <a:lnTo>
                    <a:pt x="343" y="776"/>
                  </a:lnTo>
                  <a:lnTo>
                    <a:pt x="361" y="763"/>
                  </a:lnTo>
                  <a:lnTo>
                    <a:pt x="381" y="747"/>
                  </a:lnTo>
                  <a:lnTo>
                    <a:pt x="402" y="728"/>
                  </a:lnTo>
                  <a:lnTo>
                    <a:pt x="424" y="705"/>
                  </a:lnTo>
                  <a:lnTo>
                    <a:pt x="447" y="681"/>
                  </a:lnTo>
                  <a:lnTo>
                    <a:pt x="467" y="656"/>
                  </a:lnTo>
                  <a:lnTo>
                    <a:pt x="485" y="630"/>
                  </a:lnTo>
                  <a:lnTo>
                    <a:pt x="501" y="603"/>
                  </a:lnTo>
                  <a:lnTo>
                    <a:pt x="515" y="576"/>
                  </a:lnTo>
                  <a:lnTo>
                    <a:pt x="528" y="548"/>
                  </a:lnTo>
                  <a:lnTo>
                    <a:pt x="537" y="518"/>
                  </a:lnTo>
                  <a:lnTo>
                    <a:pt x="546" y="488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7560" y="1414440"/>
              <a:ext cx="466920" cy="357120"/>
            </a:xfrm>
            <a:custGeom>
              <a:avLst/>
              <a:gdLst/>
              <a:ahLst/>
              <a:rect l="l" t="t" r="r" b="b"/>
              <a:pathLst>
                <a:path w="1297" h="993">
                  <a:moveTo>
                    <a:pt x="314" y="293"/>
                  </a:moveTo>
                  <a:lnTo>
                    <a:pt x="251" y="234"/>
                  </a:lnTo>
                  <a:lnTo>
                    <a:pt x="303" y="179"/>
                  </a:lnTo>
                  <a:lnTo>
                    <a:pt x="351" y="132"/>
                  </a:lnTo>
                  <a:lnTo>
                    <a:pt x="397" y="91"/>
                  </a:lnTo>
                  <a:lnTo>
                    <a:pt x="439" y="59"/>
                  </a:lnTo>
                  <a:lnTo>
                    <a:pt x="478" y="32"/>
                  </a:lnTo>
                  <a:lnTo>
                    <a:pt x="496" y="23"/>
                  </a:lnTo>
                  <a:lnTo>
                    <a:pt x="514" y="14"/>
                  </a:lnTo>
                  <a:lnTo>
                    <a:pt x="531" y="8"/>
                  </a:lnTo>
                  <a:lnTo>
                    <a:pt x="547" y="4"/>
                  </a:lnTo>
                  <a:lnTo>
                    <a:pt x="562" y="1"/>
                  </a:lnTo>
                  <a:lnTo>
                    <a:pt x="576" y="0"/>
                  </a:lnTo>
                  <a:lnTo>
                    <a:pt x="585" y="0"/>
                  </a:lnTo>
                  <a:lnTo>
                    <a:pt x="592" y="1"/>
                  </a:lnTo>
                  <a:lnTo>
                    <a:pt x="600" y="4"/>
                  </a:lnTo>
                  <a:lnTo>
                    <a:pt x="607" y="6"/>
                  </a:lnTo>
                  <a:lnTo>
                    <a:pt x="613" y="8"/>
                  </a:lnTo>
                  <a:lnTo>
                    <a:pt x="619" y="12"/>
                  </a:lnTo>
                  <a:lnTo>
                    <a:pt x="624" y="17"/>
                  </a:lnTo>
                  <a:lnTo>
                    <a:pt x="629" y="23"/>
                  </a:lnTo>
                  <a:lnTo>
                    <a:pt x="633" y="29"/>
                  </a:lnTo>
                  <a:lnTo>
                    <a:pt x="638" y="35"/>
                  </a:lnTo>
                  <a:lnTo>
                    <a:pt x="641" y="42"/>
                  </a:lnTo>
                  <a:lnTo>
                    <a:pt x="644" y="50"/>
                  </a:lnTo>
                  <a:lnTo>
                    <a:pt x="647" y="59"/>
                  </a:lnTo>
                  <a:lnTo>
                    <a:pt x="649" y="68"/>
                  </a:lnTo>
                  <a:lnTo>
                    <a:pt x="651" y="78"/>
                  </a:lnTo>
                  <a:lnTo>
                    <a:pt x="652" y="89"/>
                  </a:lnTo>
                  <a:lnTo>
                    <a:pt x="711" y="741"/>
                  </a:lnTo>
                  <a:lnTo>
                    <a:pt x="1082" y="28"/>
                  </a:lnTo>
                  <a:lnTo>
                    <a:pt x="1249" y="28"/>
                  </a:lnTo>
                  <a:lnTo>
                    <a:pt x="1157" y="433"/>
                  </a:lnTo>
                  <a:lnTo>
                    <a:pt x="1099" y="687"/>
                  </a:lnTo>
                  <a:lnTo>
                    <a:pt x="1085" y="762"/>
                  </a:lnTo>
                  <a:lnTo>
                    <a:pt x="1081" y="786"/>
                  </a:lnTo>
                  <a:lnTo>
                    <a:pt x="1080" y="795"/>
                  </a:lnTo>
                  <a:lnTo>
                    <a:pt x="1080" y="801"/>
                  </a:lnTo>
                  <a:lnTo>
                    <a:pt x="1080" y="806"/>
                  </a:lnTo>
                  <a:lnTo>
                    <a:pt x="1080" y="810"/>
                  </a:lnTo>
                  <a:lnTo>
                    <a:pt x="1081" y="812"/>
                  </a:lnTo>
                  <a:lnTo>
                    <a:pt x="1081" y="813"/>
                  </a:lnTo>
                  <a:lnTo>
                    <a:pt x="1081" y="814"/>
                  </a:lnTo>
                  <a:lnTo>
                    <a:pt x="1082" y="817"/>
                  </a:lnTo>
                  <a:lnTo>
                    <a:pt x="1082" y="818"/>
                  </a:lnTo>
                  <a:lnTo>
                    <a:pt x="1083" y="819"/>
                  </a:lnTo>
                  <a:lnTo>
                    <a:pt x="1083" y="819"/>
                  </a:lnTo>
                  <a:lnTo>
                    <a:pt x="1084" y="820"/>
                  </a:lnTo>
                  <a:lnTo>
                    <a:pt x="1084" y="820"/>
                  </a:lnTo>
                  <a:lnTo>
                    <a:pt x="1084" y="820"/>
                  </a:lnTo>
                  <a:lnTo>
                    <a:pt x="1085" y="822"/>
                  </a:lnTo>
                  <a:lnTo>
                    <a:pt x="1085" y="822"/>
                  </a:lnTo>
                  <a:lnTo>
                    <a:pt x="1086" y="822"/>
                  </a:lnTo>
                  <a:lnTo>
                    <a:pt x="1086" y="822"/>
                  </a:lnTo>
                  <a:lnTo>
                    <a:pt x="1087" y="822"/>
                  </a:lnTo>
                  <a:lnTo>
                    <a:pt x="1090" y="822"/>
                  </a:lnTo>
                  <a:lnTo>
                    <a:pt x="1091" y="822"/>
                  </a:lnTo>
                  <a:lnTo>
                    <a:pt x="1096" y="819"/>
                  </a:lnTo>
                  <a:lnTo>
                    <a:pt x="1101" y="817"/>
                  </a:lnTo>
                  <a:lnTo>
                    <a:pt x="1106" y="813"/>
                  </a:lnTo>
                  <a:lnTo>
                    <a:pt x="1121" y="801"/>
                  </a:lnTo>
                  <a:lnTo>
                    <a:pt x="1140" y="787"/>
                  </a:lnTo>
                  <a:lnTo>
                    <a:pt x="1186" y="742"/>
                  </a:lnTo>
                  <a:lnTo>
                    <a:pt x="1246" y="680"/>
                  </a:lnTo>
                  <a:lnTo>
                    <a:pt x="1296" y="744"/>
                  </a:lnTo>
                  <a:lnTo>
                    <a:pt x="1248" y="802"/>
                  </a:lnTo>
                  <a:lnTo>
                    <a:pt x="1201" y="853"/>
                  </a:lnTo>
                  <a:lnTo>
                    <a:pt x="1159" y="895"/>
                  </a:lnTo>
                  <a:lnTo>
                    <a:pt x="1120" y="930"/>
                  </a:lnTo>
                  <a:lnTo>
                    <a:pt x="1083" y="957"/>
                  </a:lnTo>
                  <a:lnTo>
                    <a:pt x="1066" y="968"/>
                  </a:lnTo>
                  <a:lnTo>
                    <a:pt x="1050" y="976"/>
                  </a:lnTo>
                  <a:lnTo>
                    <a:pt x="1035" y="984"/>
                  </a:lnTo>
                  <a:lnTo>
                    <a:pt x="1020" y="988"/>
                  </a:lnTo>
                  <a:lnTo>
                    <a:pt x="1006" y="991"/>
                  </a:lnTo>
                  <a:lnTo>
                    <a:pt x="993" y="992"/>
                  </a:lnTo>
                  <a:lnTo>
                    <a:pt x="989" y="992"/>
                  </a:lnTo>
                  <a:lnTo>
                    <a:pt x="985" y="992"/>
                  </a:lnTo>
                  <a:lnTo>
                    <a:pt x="981" y="991"/>
                  </a:lnTo>
                  <a:lnTo>
                    <a:pt x="977" y="990"/>
                  </a:lnTo>
                  <a:lnTo>
                    <a:pt x="973" y="988"/>
                  </a:lnTo>
                  <a:lnTo>
                    <a:pt x="969" y="987"/>
                  </a:lnTo>
                  <a:lnTo>
                    <a:pt x="965" y="986"/>
                  </a:lnTo>
                  <a:lnTo>
                    <a:pt x="961" y="984"/>
                  </a:lnTo>
                  <a:lnTo>
                    <a:pt x="953" y="979"/>
                  </a:lnTo>
                  <a:lnTo>
                    <a:pt x="945" y="973"/>
                  </a:lnTo>
                  <a:lnTo>
                    <a:pt x="937" y="967"/>
                  </a:lnTo>
                  <a:lnTo>
                    <a:pt x="930" y="958"/>
                  </a:lnTo>
                  <a:lnTo>
                    <a:pt x="927" y="955"/>
                  </a:lnTo>
                  <a:lnTo>
                    <a:pt x="923" y="950"/>
                  </a:lnTo>
                  <a:lnTo>
                    <a:pt x="920" y="945"/>
                  </a:lnTo>
                  <a:lnTo>
                    <a:pt x="917" y="940"/>
                  </a:lnTo>
                  <a:lnTo>
                    <a:pt x="914" y="936"/>
                  </a:lnTo>
                  <a:lnTo>
                    <a:pt x="912" y="931"/>
                  </a:lnTo>
                  <a:lnTo>
                    <a:pt x="910" y="925"/>
                  </a:lnTo>
                  <a:lnTo>
                    <a:pt x="908" y="920"/>
                  </a:lnTo>
                  <a:lnTo>
                    <a:pt x="906" y="914"/>
                  </a:lnTo>
                  <a:lnTo>
                    <a:pt x="905" y="908"/>
                  </a:lnTo>
                  <a:lnTo>
                    <a:pt x="903" y="895"/>
                  </a:lnTo>
                  <a:lnTo>
                    <a:pt x="901" y="882"/>
                  </a:lnTo>
                  <a:lnTo>
                    <a:pt x="901" y="867"/>
                  </a:lnTo>
                  <a:lnTo>
                    <a:pt x="902" y="844"/>
                  </a:lnTo>
                  <a:lnTo>
                    <a:pt x="905" y="816"/>
                  </a:lnTo>
                  <a:lnTo>
                    <a:pt x="917" y="738"/>
                  </a:lnTo>
                  <a:lnTo>
                    <a:pt x="937" y="633"/>
                  </a:lnTo>
                  <a:lnTo>
                    <a:pt x="967" y="501"/>
                  </a:lnTo>
                  <a:lnTo>
                    <a:pt x="1024" y="277"/>
                  </a:lnTo>
                  <a:lnTo>
                    <a:pt x="669" y="981"/>
                  </a:lnTo>
                  <a:lnTo>
                    <a:pt x="568" y="981"/>
                  </a:lnTo>
                  <a:lnTo>
                    <a:pt x="515" y="354"/>
                  </a:lnTo>
                  <a:lnTo>
                    <a:pt x="463" y="547"/>
                  </a:lnTo>
                  <a:lnTo>
                    <a:pt x="438" y="629"/>
                  </a:lnTo>
                  <a:lnTo>
                    <a:pt x="414" y="700"/>
                  </a:lnTo>
                  <a:lnTo>
                    <a:pt x="389" y="760"/>
                  </a:lnTo>
                  <a:lnTo>
                    <a:pt x="366" y="812"/>
                  </a:lnTo>
                  <a:lnTo>
                    <a:pt x="355" y="832"/>
                  </a:lnTo>
                  <a:lnTo>
                    <a:pt x="343" y="852"/>
                  </a:lnTo>
                  <a:lnTo>
                    <a:pt x="332" y="868"/>
                  </a:lnTo>
                  <a:lnTo>
                    <a:pt x="321" y="882"/>
                  </a:lnTo>
                  <a:lnTo>
                    <a:pt x="299" y="906"/>
                  </a:lnTo>
                  <a:lnTo>
                    <a:pt x="275" y="926"/>
                  </a:lnTo>
                  <a:lnTo>
                    <a:pt x="252" y="943"/>
                  </a:lnTo>
                  <a:lnTo>
                    <a:pt x="239" y="950"/>
                  </a:lnTo>
                  <a:lnTo>
                    <a:pt x="228" y="957"/>
                  </a:lnTo>
                  <a:lnTo>
                    <a:pt x="215" y="963"/>
                  </a:lnTo>
                  <a:lnTo>
                    <a:pt x="203" y="968"/>
                  </a:lnTo>
                  <a:lnTo>
                    <a:pt x="190" y="973"/>
                  </a:lnTo>
                  <a:lnTo>
                    <a:pt x="176" y="976"/>
                  </a:lnTo>
                  <a:lnTo>
                    <a:pt x="163" y="979"/>
                  </a:lnTo>
                  <a:lnTo>
                    <a:pt x="150" y="981"/>
                  </a:lnTo>
                  <a:lnTo>
                    <a:pt x="136" y="982"/>
                  </a:lnTo>
                  <a:lnTo>
                    <a:pt x="122" y="982"/>
                  </a:lnTo>
                  <a:lnTo>
                    <a:pt x="109" y="982"/>
                  </a:lnTo>
                  <a:lnTo>
                    <a:pt x="95" y="980"/>
                  </a:lnTo>
                  <a:lnTo>
                    <a:pt x="82" y="978"/>
                  </a:lnTo>
                  <a:lnTo>
                    <a:pt x="71" y="973"/>
                  </a:lnTo>
                  <a:lnTo>
                    <a:pt x="64" y="970"/>
                  </a:lnTo>
                  <a:lnTo>
                    <a:pt x="59" y="968"/>
                  </a:lnTo>
                  <a:lnTo>
                    <a:pt x="54" y="964"/>
                  </a:lnTo>
                  <a:lnTo>
                    <a:pt x="49" y="962"/>
                  </a:lnTo>
                  <a:lnTo>
                    <a:pt x="44" y="958"/>
                  </a:lnTo>
                  <a:lnTo>
                    <a:pt x="40" y="954"/>
                  </a:lnTo>
                  <a:lnTo>
                    <a:pt x="36" y="950"/>
                  </a:lnTo>
                  <a:lnTo>
                    <a:pt x="31" y="945"/>
                  </a:lnTo>
                  <a:lnTo>
                    <a:pt x="24" y="936"/>
                  </a:lnTo>
                  <a:lnTo>
                    <a:pt x="18" y="926"/>
                  </a:lnTo>
                  <a:lnTo>
                    <a:pt x="12" y="915"/>
                  </a:lnTo>
                  <a:lnTo>
                    <a:pt x="8" y="904"/>
                  </a:lnTo>
                  <a:lnTo>
                    <a:pt x="6" y="900"/>
                  </a:lnTo>
                  <a:lnTo>
                    <a:pt x="4" y="894"/>
                  </a:lnTo>
                  <a:lnTo>
                    <a:pt x="2" y="882"/>
                  </a:lnTo>
                  <a:lnTo>
                    <a:pt x="0" y="870"/>
                  </a:lnTo>
                  <a:lnTo>
                    <a:pt x="0" y="858"/>
                  </a:lnTo>
                  <a:lnTo>
                    <a:pt x="0" y="846"/>
                  </a:lnTo>
                  <a:lnTo>
                    <a:pt x="2" y="835"/>
                  </a:lnTo>
                  <a:lnTo>
                    <a:pt x="4" y="824"/>
                  </a:lnTo>
                  <a:lnTo>
                    <a:pt x="7" y="813"/>
                  </a:lnTo>
                  <a:lnTo>
                    <a:pt x="11" y="804"/>
                  </a:lnTo>
                  <a:lnTo>
                    <a:pt x="16" y="794"/>
                  </a:lnTo>
                  <a:lnTo>
                    <a:pt x="22" y="784"/>
                  </a:lnTo>
                  <a:lnTo>
                    <a:pt x="28" y="775"/>
                  </a:lnTo>
                  <a:lnTo>
                    <a:pt x="36" y="766"/>
                  </a:lnTo>
                  <a:lnTo>
                    <a:pt x="40" y="763"/>
                  </a:lnTo>
                  <a:lnTo>
                    <a:pt x="43" y="759"/>
                  </a:lnTo>
                  <a:lnTo>
                    <a:pt x="47" y="756"/>
                  </a:lnTo>
                  <a:lnTo>
                    <a:pt x="52" y="753"/>
                  </a:lnTo>
                  <a:lnTo>
                    <a:pt x="56" y="750"/>
                  </a:lnTo>
                  <a:lnTo>
                    <a:pt x="60" y="748"/>
                  </a:lnTo>
                  <a:lnTo>
                    <a:pt x="65" y="746"/>
                  </a:lnTo>
                  <a:lnTo>
                    <a:pt x="69" y="744"/>
                  </a:lnTo>
                  <a:lnTo>
                    <a:pt x="74" y="742"/>
                  </a:lnTo>
                  <a:lnTo>
                    <a:pt x="79" y="741"/>
                  </a:lnTo>
                  <a:lnTo>
                    <a:pt x="84" y="740"/>
                  </a:lnTo>
                  <a:lnTo>
                    <a:pt x="90" y="739"/>
                  </a:lnTo>
                  <a:lnTo>
                    <a:pt x="100" y="739"/>
                  </a:lnTo>
                  <a:lnTo>
                    <a:pt x="106" y="739"/>
                  </a:lnTo>
                  <a:lnTo>
                    <a:pt x="114" y="740"/>
                  </a:lnTo>
                  <a:lnTo>
                    <a:pt x="121" y="741"/>
                  </a:lnTo>
                  <a:lnTo>
                    <a:pt x="130" y="744"/>
                  </a:lnTo>
                  <a:lnTo>
                    <a:pt x="139" y="747"/>
                  </a:lnTo>
                  <a:lnTo>
                    <a:pt x="149" y="751"/>
                  </a:lnTo>
                  <a:lnTo>
                    <a:pt x="169" y="759"/>
                  </a:lnTo>
                  <a:lnTo>
                    <a:pt x="182" y="765"/>
                  </a:lnTo>
                  <a:lnTo>
                    <a:pt x="188" y="766"/>
                  </a:lnTo>
                  <a:lnTo>
                    <a:pt x="193" y="769"/>
                  </a:lnTo>
                  <a:lnTo>
                    <a:pt x="198" y="770"/>
                  </a:lnTo>
                  <a:lnTo>
                    <a:pt x="203" y="770"/>
                  </a:lnTo>
                  <a:lnTo>
                    <a:pt x="207" y="771"/>
                  </a:lnTo>
                  <a:lnTo>
                    <a:pt x="210" y="771"/>
                  </a:lnTo>
                  <a:lnTo>
                    <a:pt x="214" y="771"/>
                  </a:lnTo>
                  <a:lnTo>
                    <a:pt x="218" y="770"/>
                  </a:lnTo>
                  <a:lnTo>
                    <a:pt x="223" y="770"/>
                  </a:lnTo>
                  <a:lnTo>
                    <a:pt x="227" y="768"/>
                  </a:lnTo>
                  <a:lnTo>
                    <a:pt x="231" y="766"/>
                  </a:lnTo>
                  <a:lnTo>
                    <a:pt x="235" y="764"/>
                  </a:lnTo>
                  <a:lnTo>
                    <a:pt x="239" y="762"/>
                  </a:lnTo>
                  <a:lnTo>
                    <a:pt x="245" y="758"/>
                  </a:lnTo>
                  <a:lnTo>
                    <a:pt x="253" y="751"/>
                  </a:lnTo>
                  <a:lnTo>
                    <a:pt x="263" y="742"/>
                  </a:lnTo>
                  <a:lnTo>
                    <a:pt x="272" y="732"/>
                  </a:lnTo>
                  <a:lnTo>
                    <a:pt x="282" y="720"/>
                  </a:lnTo>
                  <a:lnTo>
                    <a:pt x="287" y="712"/>
                  </a:lnTo>
                  <a:lnTo>
                    <a:pt x="292" y="704"/>
                  </a:lnTo>
                  <a:lnTo>
                    <a:pt x="304" y="682"/>
                  </a:lnTo>
                  <a:lnTo>
                    <a:pt x="317" y="656"/>
                  </a:lnTo>
                  <a:lnTo>
                    <a:pt x="331" y="624"/>
                  </a:lnTo>
                  <a:lnTo>
                    <a:pt x="364" y="543"/>
                  </a:lnTo>
                  <a:lnTo>
                    <a:pt x="402" y="441"/>
                  </a:lnTo>
                  <a:lnTo>
                    <a:pt x="438" y="339"/>
                  </a:lnTo>
                  <a:lnTo>
                    <a:pt x="463" y="260"/>
                  </a:lnTo>
                  <a:lnTo>
                    <a:pt x="472" y="230"/>
                  </a:lnTo>
                  <a:lnTo>
                    <a:pt x="478" y="205"/>
                  </a:lnTo>
                  <a:lnTo>
                    <a:pt x="482" y="186"/>
                  </a:lnTo>
                  <a:lnTo>
                    <a:pt x="483" y="179"/>
                  </a:lnTo>
                  <a:lnTo>
                    <a:pt x="483" y="173"/>
                  </a:lnTo>
                  <a:lnTo>
                    <a:pt x="483" y="172"/>
                  </a:lnTo>
                  <a:lnTo>
                    <a:pt x="483" y="172"/>
                  </a:lnTo>
                  <a:lnTo>
                    <a:pt x="483" y="172"/>
                  </a:lnTo>
                  <a:lnTo>
                    <a:pt x="483" y="170"/>
                  </a:lnTo>
                  <a:lnTo>
                    <a:pt x="483" y="170"/>
                  </a:lnTo>
                  <a:lnTo>
                    <a:pt x="483" y="169"/>
                  </a:lnTo>
                  <a:lnTo>
                    <a:pt x="482" y="169"/>
                  </a:lnTo>
                  <a:lnTo>
                    <a:pt x="482" y="169"/>
                  </a:lnTo>
                  <a:lnTo>
                    <a:pt x="482" y="169"/>
                  </a:lnTo>
                  <a:lnTo>
                    <a:pt x="482" y="168"/>
                  </a:lnTo>
                  <a:lnTo>
                    <a:pt x="481" y="168"/>
                  </a:lnTo>
                  <a:lnTo>
                    <a:pt x="481" y="168"/>
                  </a:lnTo>
                  <a:lnTo>
                    <a:pt x="480" y="168"/>
                  </a:lnTo>
                  <a:lnTo>
                    <a:pt x="480" y="168"/>
                  </a:lnTo>
                  <a:lnTo>
                    <a:pt x="480" y="168"/>
                  </a:lnTo>
                  <a:lnTo>
                    <a:pt x="479" y="168"/>
                  </a:lnTo>
                  <a:lnTo>
                    <a:pt x="473" y="168"/>
                  </a:lnTo>
                  <a:lnTo>
                    <a:pt x="467" y="170"/>
                  </a:lnTo>
                  <a:lnTo>
                    <a:pt x="459" y="173"/>
                  </a:lnTo>
                  <a:lnTo>
                    <a:pt x="451" y="176"/>
                  </a:lnTo>
                  <a:lnTo>
                    <a:pt x="442" y="180"/>
                  </a:lnTo>
                  <a:lnTo>
                    <a:pt x="434" y="186"/>
                  </a:lnTo>
                  <a:lnTo>
                    <a:pt x="415" y="199"/>
                  </a:lnTo>
                  <a:lnTo>
                    <a:pt x="393" y="217"/>
                  </a:lnTo>
                  <a:lnTo>
                    <a:pt x="368" y="239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81760" y="1413000"/>
              <a:ext cx="228600" cy="353880"/>
            </a:xfrm>
            <a:custGeom>
              <a:avLst/>
              <a:gdLst/>
              <a:ahLst/>
              <a:rect l="l" t="t" r="r" b="b"/>
              <a:pathLst>
                <a:path w="637" h="984">
                  <a:moveTo>
                    <a:pt x="532" y="638"/>
                  </a:moveTo>
                  <a:lnTo>
                    <a:pt x="580" y="712"/>
                  </a:lnTo>
                  <a:lnTo>
                    <a:pt x="520" y="776"/>
                  </a:lnTo>
                  <a:lnTo>
                    <a:pt x="461" y="831"/>
                  </a:lnTo>
                  <a:lnTo>
                    <a:pt x="406" y="878"/>
                  </a:lnTo>
                  <a:lnTo>
                    <a:pt x="352" y="916"/>
                  </a:lnTo>
                  <a:lnTo>
                    <a:pt x="300" y="945"/>
                  </a:lnTo>
                  <a:lnTo>
                    <a:pt x="276" y="957"/>
                  </a:lnTo>
                  <a:lnTo>
                    <a:pt x="251" y="966"/>
                  </a:lnTo>
                  <a:lnTo>
                    <a:pt x="227" y="974"/>
                  </a:lnTo>
                  <a:lnTo>
                    <a:pt x="204" y="978"/>
                  </a:lnTo>
                  <a:lnTo>
                    <a:pt x="182" y="982"/>
                  </a:lnTo>
                  <a:lnTo>
                    <a:pt x="159" y="983"/>
                  </a:lnTo>
                  <a:lnTo>
                    <a:pt x="140" y="982"/>
                  </a:lnTo>
                  <a:lnTo>
                    <a:pt x="123" y="980"/>
                  </a:lnTo>
                  <a:lnTo>
                    <a:pt x="114" y="977"/>
                  </a:lnTo>
                  <a:lnTo>
                    <a:pt x="107" y="975"/>
                  </a:lnTo>
                  <a:lnTo>
                    <a:pt x="98" y="972"/>
                  </a:lnTo>
                  <a:lnTo>
                    <a:pt x="91" y="969"/>
                  </a:lnTo>
                  <a:lnTo>
                    <a:pt x="83" y="965"/>
                  </a:lnTo>
                  <a:lnTo>
                    <a:pt x="77" y="960"/>
                  </a:lnTo>
                  <a:lnTo>
                    <a:pt x="70" y="956"/>
                  </a:lnTo>
                  <a:lnTo>
                    <a:pt x="63" y="951"/>
                  </a:lnTo>
                  <a:lnTo>
                    <a:pt x="57" y="945"/>
                  </a:lnTo>
                  <a:lnTo>
                    <a:pt x="52" y="939"/>
                  </a:lnTo>
                  <a:lnTo>
                    <a:pt x="46" y="932"/>
                  </a:lnTo>
                  <a:lnTo>
                    <a:pt x="41" y="924"/>
                  </a:lnTo>
                  <a:lnTo>
                    <a:pt x="36" y="917"/>
                  </a:lnTo>
                  <a:lnTo>
                    <a:pt x="32" y="909"/>
                  </a:lnTo>
                  <a:lnTo>
                    <a:pt x="27" y="900"/>
                  </a:lnTo>
                  <a:lnTo>
                    <a:pt x="23" y="891"/>
                  </a:lnTo>
                  <a:lnTo>
                    <a:pt x="16" y="870"/>
                  </a:lnTo>
                  <a:lnTo>
                    <a:pt x="11" y="849"/>
                  </a:lnTo>
                  <a:lnTo>
                    <a:pt x="5" y="825"/>
                  </a:lnTo>
                  <a:lnTo>
                    <a:pt x="2" y="800"/>
                  </a:lnTo>
                  <a:lnTo>
                    <a:pt x="1" y="772"/>
                  </a:lnTo>
                  <a:lnTo>
                    <a:pt x="0" y="742"/>
                  </a:lnTo>
                  <a:lnTo>
                    <a:pt x="2" y="683"/>
                  </a:lnTo>
                  <a:lnTo>
                    <a:pt x="8" y="623"/>
                  </a:lnTo>
                  <a:lnTo>
                    <a:pt x="18" y="565"/>
                  </a:lnTo>
                  <a:lnTo>
                    <a:pt x="32" y="506"/>
                  </a:lnTo>
                  <a:lnTo>
                    <a:pt x="50" y="447"/>
                  </a:lnTo>
                  <a:lnTo>
                    <a:pt x="72" y="388"/>
                  </a:lnTo>
                  <a:lnTo>
                    <a:pt x="97" y="329"/>
                  </a:lnTo>
                  <a:lnTo>
                    <a:pt x="127" y="271"/>
                  </a:lnTo>
                  <a:lnTo>
                    <a:pt x="164" y="207"/>
                  </a:lnTo>
                  <a:lnTo>
                    <a:pt x="203" y="152"/>
                  </a:lnTo>
                  <a:lnTo>
                    <a:pt x="223" y="128"/>
                  </a:lnTo>
                  <a:lnTo>
                    <a:pt x="244" y="105"/>
                  </a:lnTo>
                  <a:lnTo>
                    <a:pt x="265" y="85"/>
                  </a:lnTo>
                  <a:lnTo>
                    <a:pt x="286" y="67"/>
                  </a:lnTo>
                  <a:lnTo>
                    <a:pt x="308" y="51"/>
                  </a:lnTo>
                  <a:lnTo>
                    <a:pt x="332" y="38"/>
                  </a:lnTo>
                  <a:lnTo>
                    <a:pt x="354" y="26"/>
                  </a:lnTo>
                  <a:lnTo>
                    <a:pt x="378" y="16"/>
                  </a:lnTo>
                  <a:lnTo>
                    <a:pt x="401" y="9"/>
                  </a:lnTo>
                  <a:lnTo>
                    <a:pt x="426" y="4"/>
                  </a:lnTo>
                  <a:lnTo>
                    <a:pt x="451" y="1"/>
                  </a:lnTo>
                  <a:lnTo>
                    <a:pt x="476" y="0"/>
                  </a:lnTo>
                  <a:lnTo>
                    <a:pt x="494" y="1"/>
                  </a:lnTo>
                  <a:lnTo>
                    <a:pt x="512" y="2"/>
                  </a:lnTo>
                  <a:lnTo>
                    <a:pt x="528" y="6"/>
                  </a:lnTo>
                  <a:lnTo>
                    <a:pt x="544" y="10"/>
                  </a:lnTo>
                  <a:lnTo>
                    <a:pt x="551" y="14"/>
                  </a:lnTo>
                  <a:lnTo>
                    <a:pt x="558" y="16"/>
                  </a:lnTo>
                  <a:lnTo>
                    <a:pt x="564" y="20"/>
                  </a:lnTo>
                  <a:lnTo>
                    <a:pt x="570" y="25"/>
                  </a:lnTo>
                  <a:lnTo>
                    <a:pt x="577" y="28"/>
                  </a:lnTo>
                  <a:lnTo>
                    <a:pt x="583" y="33"/>
                  </a:lnTo>
                  <a:lnTo>
                    <a:pt x="588" y="38"/>
                  </a:lnTo>
                  <a:lnTo>
                    <a:pt x="593" y="44"/>
                  </a:lnTo>
                  <a:lnTo>
                    <a:pt x="599" y="50"/>
                  </a:lnTo>
                  <a:lnTo>
                    <a:pt x="603" y="56"/>
                  </a:lnTo>
                  <a:lnTo>
                    <a:pt x="608" y="62"/>
                  </a:lnTo>
                  <a:lnTo>
                    <a:pt x="612" y="68"/>
                  </a:lnTo>
                  <a:lnTo>
                    <a:pt x="616" y="75"/>
                  </a:lnTo>
                  <a:lnTo>
                    <a:pt x="620" y="82"/>
                  </a:lnTo>
                  <a:lnTo>
                    <a:pt x="622" y="90"/>
                  </a:lnTo>
                  <a:lnTo>
                    <a:pt x="625" y="97"/>
                  </a:lnTo>
                  <a:lnTo>
                    <a:pt x="627" y="105"/>
                  </a:lnTo>
                  <a:lnTo>
                    <a:pt x="629" y="112"/>
                  </a:lnTo>
                  <a:lnTo>
                    <a:pt x="634" y="129"/>
                  </a:lnTo>
                  <a:lnTo>
                    <a:pt x="635" y="147"/>
                  </a:lnTo>
                  <a:lnTo>
                    <a:pt x="636" y="165"/>
                  </a:lnTo>
                  <a:lnTo>
                    <a:pt x="635" y="184"/>
                  </a:lnTo>
                  <a:lnTo>
                    <a:pt x="633" y="204"/>
                  </a:lnTo>
                  <a:lnTo>
                    <a:pt x="629" y="223"/>
                  </a:lnTo>
                  <a:lnTo>
                    <a:pt x="624" y="242"/>
                  </a:lnTo>
                  <a:lnTo>
                    <a:pt x="618" y="260"/>
                  </a:lnTo>
                  <a:lnTo>
                    <a:pt x="609" y="279"/>
                  </a:lnTo>
                  <a:lnTo>
                    <a:pt x="600" y="297"/>
                  </a:lnTo>
                  <a:lnTo>
                    <a:pt x="589" y="315"/>
                  </a:lnTo>
                  <a:lnTo>
                    <a:pt x="577" y="333"/>
                  </a:lnTo>
                  <a:lnTo>
                    <a:pt x="563" y="351"/>
                  </a:lnTo>
                  <a:lnTo>
                    <a:pt x="547" y="369"/>
                  </a:lnTo>
                  <a:lnTo>
                    <a:pt x="529" y="387"/>
                  </a:lnTo>
                  <a:lnTo>
                    <a:pt x="509" y="405"/>
                  </a:lnTo>
                  <a:lnTo>
                    <a:pt x="488" y="423"/>
                  </a:lnTo>
                  <a:lnTo>
                    <a:pt x="465" y="440"/>
                  </a:lnTo>
                  <a:lnTo>
                    <a:pt x="439" y="458"/>
                  </a:lnTo>
                  <a:lnTo>
                    <a:pt x="399" y="482"/>
                  </a:lnTo>
                  <a:lnTo>
                    <a:pt x="345" y="513"/>
                  </a:lnTo>
                  <a:lnTo>
                    <a:pt x="201" y="589"/>
                  </a:lnTo>
                  <a:lnTo>
                    <a:pt x="197" y="611"/>
                  </a:lnTo>
                  <a:lnTo>
                    <a:pt x="196" y="635"/>
                  </a:lnTo>
                  <a:lnTo>
                    <a:pt x="194" y="659"/>
                  </a:lnTo>
                  <a:lnTo>
                    <a:pt x="194" y="684"/>
                  </a:lnTo>
                  <a:lnTo>
                    <a:pt x="194" y="701"/>
                  </a:lnTo>
                  <a:lnTo>
                    <a:pt x="195" y="717"/>
                  </a:lnTo>
                  <a:lnTo>
                    <a:pt x="196" y="730"/>
                  </a:lnTo>
                  <a:lnTo>
                    <a:pt x="199" y="743"/>
                  </a:lnTo>
                  <a:lnTo>
                    <a:pt x="201" y="754"/>
                  </a:lnTo>
                  <a:lnTo>
                    <a:pt x="203" y="764"/>
                  </a:lnTo>
                  <a:lnTo>
                    <a:pt x="205" y="767"/>
                  </a:lnTo>
                  <a:lnTo>
                    <a:pt x="206" y="772"/>
                  </a:lnTo>
                  <a:lnTo>
                    <a:pt x="208" y="774"/>
                  </a:lnTo>
                  <a:lnTo>
                    <a:pt x="210" y="778"/>
                  </a:lnTo>
                  <a:lnTo>
                    <a:pt x="212" y="780"/>
                  </a:lnTo>
                  <a:lnTo>
                    <a:pt x="214" y="784"/>
                  </a:lnTo>
                  <a:lnTo>
                    <a:pt x="218" y="786"/>
                  </a:lnTo>
                  <a:lnTo>
                    <a:pt x="220" y="788"/>
                  </a:lnTo>
                  <a:lnTo>
                    <a:pt x="222" y="790"/>
                  </a:lnTo>
                  <a:lnTo>
                    <a:pt x="225" y="792"/>
                  </a:lnTo>
                  <a:lnTo>
                    <a:pt x="228" y="794"/>
                  </a:lnTo>
                  <a:lnTo>
                    <a:pt x="231" y="795"/>
                  </a:lnTo>
                  <a:lnTo>
                    <a:pt x="233" y="796"/>
                  </a:lnTo>
                  <a:lnTo>
                    <a:pt x="237" y="797"/>
                  </a:lnTo>
                  <a:lnTo>
                    <a:pt x="240" y="798"/>
                  </a:lnTo>
                  <a:lnTo>
                    <a:pt x="244" y="800"/>
                  </a:lnTo>
                  <a:lnTo>
                    <a:pt x="250" y="801"/>
                  </a:lnTo>
                  <a:lnTo>
                    <a:pt x="258" y="801"/>
                  </a:lnTo>
                  <a:lnTo>
                    <a:pt x="266" y="801"/>
                  </a:lnTo>
                  <a:lnTo>
                    <a:pt x="276" y="800"/>
                  </a:lnTo>
                  <a:lnTo>
                    <a:pt x="285" y="797"/>
                  </a:lnTo>
                  <a:lnTo>
                    <a:pt x="295" y="795"/>
                  </a:lnTo>
                  <a:lnTo>
                    <a:pt x="304" y="792"/>
                  </a:lnTo>
                  <a:lnTo>
                    <a:pt x="315" y="788"/>
                  </a:lnTo>
                  <a:lnTo>
                    <a:pt x="324" y="784"/>
                  </a:lnTo>
                  <a:lnTo>
                    <a:pt x="335" y="778"/>
                  </a:lnTo>
                  <a:lnTo>
                    <a:pt x="351" y="768"/>
                  </a:lnTo>
                  <a:lnTo>
                    <a:pt x="370" y="758"/>
                  </a:lnTo>
                  <a:lnTo>
                    <a:pt x="414" y="726"/>
                  </a:lnTo>
                  <a:lnTo>
                    <a:pt x="468" y="687"/>
                  </a:lnTo>
                  <a:close/>
                  <a:moveTo>
                    <a:pt x="214" y="481"/>
                  </a:moveTo>
                  <a:lnTo>
                    <a:pt x="272" y="445"/>
                  </a:lnTo>
                  <a:lnTo>
                    <a:pt x="298" y="427"/>
                  </a:lnTo>
                  <a:lnTo>
                    <a:pt x="323" y="407"/>
                  </a:lnTo>
                  <a:lnTo>
                    <a:pt x="345" y="389"/>
                  </a:lnTo>
                  <a:lnTo>
                    <a:pt x="367" y="371"/>
                  </a:lnTo>
                  <a:lnTo>
                    <a:pt x="387" y="352"/>
                  </a:lnTo>
                  <a:lnTo>
                    <a:pt x="404" y="334"/>
                  </a:lnTo>
                  <a:lnTo>
                    <a:pt x="417" y="317"/>
                  </a:lnTo>
                  <a:lnTo>
                    <a:pt x="428" y="301"/>
                  </a:lnTo>
                  <a:lnTo>
                    <a:pt x="436" y="285"/>
                  </a:lnTo>
                  <a:lnTo>
                    <a:pt x="444" y="270"/>
                  </a:lnTo>
                  <a:lnTo>
                    <a:pt x="450" y="254"/>
                  </a:lnTo>
                  <a:lnTo>
                    <a:pt x="452" y="247"/>
                  </a:lnTo>
                  <a:lnTo>
                    <a:pt x="454" y="240"/>
                  </a:lnTo>
                  <a:lnTo>
                    <a:pt x="455" y="232"/>
                  </a:lnTo>
                  <a:lnTo>
                    <a:pt x="456" y="225"/>
                  </a:lnTo>
                  <a:lnTo>
                    <a:pt x="457" y="219"/>
                  </a:lnTo>
                  <a:lnTo>
                    <a:pt x="457" y="212"/>
                  </a:lnTo>
                  <a:lnTo>
                    <a:pt x="457" y="204"/>
                  </a:lnTo>
                  <a:lnTo>
                    <a:pt x="456" y="195"/>
                  </a:lnTo>
                  <a:lnTo>
                    <a:pt x="455" y="187"/>
                  </a:lnTo>
                  <a:lnTo>
                    <a:pt x="453" y="180"/>
                  </a:lnTo>
                  <a:lnTo>
                    <a:pt x="451" y="172"/>
                  </a:lnTo>
                  <a:lnTo>
                    <a:pt x="449" y="166"/>
                  </a:lnTo>
                  <a:lnTo>
                    <a:pt x="447" y="163"/>
                  </a:lnTo>
                  <a:lnTo>
                    <a:pt x="446" y="160"/>
                  </a:lnTo>
                  <a:lnTo>
                    <a:pt x="444" y="157"/>
                  </a:lnTo>
                  <a:lnTo>
                    <a:pt x="441" y="154"/>
                  </a:lnTo>
                  <a:lnTo>
                    <a:pt x="437" y="150"/>
                  </a:lnTo>
                  <a:lnTo>
                    <a:pt x="435" y="147"/>
                  </a:lnTo>
                  <a:lnTo>
                    <a:pt x="433" y="146"/>
                  </a:lnTo>
                  <a:lnTo>
                    <a:pt x="431" y="144"/>
                  </a:lnTo>
                  <a:lnTo>
                    <a:pt x="428" y="142"/>
                  </a:lnTo>
                  <a:lnTo>
                    <a:pt x="426" y="141"/>
                  </a:lnTo>
                  <a:lnTo>
                    <a:pt x="423" y="139"/>
                  </a:lnTo>
                  <a:lnTo>
                    <a:pt x="420" y="138"/>
                  </a:lnTo>
                  <a:lnTo>
                    <a:pt x="418" y="136"/>
                  </a:lnTo>
                  <a:lnTo>
                    <a:pt x="415" y="136"/>
                  </a:lnTo>
                  <a:lnTo>
                    <a:pt x="412" y="135"/>
                  </a:lnTo>
                  <a:lnTo>
                    <a:pt x="410" y="135"/>
                  </a:lnTo>
                  <a:lnTo>
                    <a:pt x="407" y="134"/>
                  </a:lnTo>
                  <a:lnTo>
                    <a:pt x="400" y="134"/>
                  </a:lnTo>
                  <a:lnTo>
                    <a:pt x="393" y="134"/>
                  </a:lnTo>
                  <a:lnTo>
                    <a:pt x="387" y="135"/>
                  </a:lnTo>
                  <a:lnTo>
                    <a:pt x="379" y="138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58" y="148"/>
                  </a:lnTo>
                  <a:lnTo>
                    <a:pt x="351" y="153"/>
                  </a:lnTo>
                  <a:lnTo>
                    <a:pt x="344" y="159"/>
                  </a:lnTo>
                  <a:lnTo>
                    <a:pt x="334" y="169"/>
                  </a:lnTo>
                  <a:lnTo>
                    <a:pt x="324" y="178"/>
                  </a:lnTo>
                  <a:lnTo>
                    <a:pt x="316" y="189"/>
                  </a:lnTo>
                  <a:lnTo>
                    <a:pt x="306" y="200"/>
                  </a:lnTo>
                  <a:lnTo>
                    <a:pt x="298" y="211"/>
                  </a:lnTo>
                  <a:lnTo>
                    <a:pt x="290" y="223"/>
                  </a:lnTo>
                  <a:lnTo>
                    <a:pt x="283" y="235"/>
                  </a:lnTo>
                  <a:lnTo>
                    <a:pt x="277" y="247"/>
                  </a:lnTo>
                  <a:lnTo>
                    <a:pt x="256" y="314"/>
                  </a:lnTo>
                  <a:lnTo>
                    <a:pt x="239" y="375"/>
                  </a:lnTo>
                  <a:lnTo>
                    <a:pt x="225" y="43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26560" y="1414440"/>
              <a:ext cx="314280" cy="357120"/>
            </a:xfrm>
            <a:custGeom>
              <a:avLst/>
              <a:gdLst/>
              <a:ahLst/>
              <a:rect l="l" t="t" r="r" b="b"/>
              <a:pathLst>
                <a:path w="873" h="993">
                  <a:moveTo>
                    <a:pt x="872" y="744"/>
                  </a:moveTo>
                  <a:lnTo>
                    <a:pt x="824" y="802"/>
                  </a:lnTo>
                  <a:lnTo>
                    <a:pt x="777" y="853"/>
                  </a:lnTo>
                  <a:lnTo>
                    <a:pt x="735" y="895"/>
                  </a:lnTo>
                  <a:lnTo>
                    <a:pt x="696" y="930"/>
                  </a:lnTo>
                  <a:lnTo>
                    <a:pt x="659" y="957"/>
                  </a:lnTo>
                  <a:lnTo>
                    <a:pt x="642" y="968"/>
                  </a:lnTo>
                  <a:lnTo>
                    <a:pt x="626" y="976"/>
                  </a:lnTo>
                  <a:lnTo>
                    <a:pt x="611" y="984"/>
                  </a:lnTo>
                  <a:lnTo>
                    <a:pt x="597" y="988"/>
                  </a:lnTo>
                  <a:lnTo>
                    <a:pt x="583" y="991"/>
                  </a:lnTo>
                  <a:lnTo>
                    <a:pt x="570" y="992"/>
                  </a:lnTo>
                  <a:lnTo>
                    <a:pt x="566" y="992"/>
                  </a:lnTo>
                  <a:lnTo>
                    <a:pt x="562" y="992"/>
                  </a:lnTo>
                  <a:lnTo>
                    <a:pt x="557" y="991"/>
                  </a:lnTo>
                  <a:lnTo>
                    <a:pt x="552" y="990"/>
                  </a:lnTo>
                  <a:lnTo>
                    <a:pt x="548" y="988"/>
                  </a:lnTo>
                  <a:lnTo>
                    <a:pt x="544" y="987"/>
                  </a:lnTo>
                  <a:lnTo>
                    <a:pt x="540" y="986"/>
                  </a:lnTo>
                  <a:lnTo>
                    <a:pt x="536" y="984"/>
                  </a:lnTo>
                  <a:lnTo>
                    <a:pt x="532" y="981"/>
                  </a:lnTo>
                  <a:lnTo>
                    <a:pt x="528" y="979"/>
                  </a:lnTo>
                  <a:lnTo>
                    <a:pt x="524" y="976"/>
                  </a:lnTo>
                  <a:lnTo>
                    <a:pt x="521" y="973"/>
                  </a:lnTo>
                  <a:lnTo>
                    <a:pt x="513" y="967"/>
                  </a:lnTo>
                  <a:lnTo>
                    <a:pt x="506" y="958"/>
                  </a:lnTo>
                  <a:lnTo>
                    <a:pt x="503" y="954"/>
                  </a:lnTo>
                  <a:lnTo>
                    <a:pt x="498" y="950"/>
                  </a:lnTo>
                  <a:lnTo>
                    <a:pt x="495" y="945"/>
                  </a:lnTo>
                  <a:lnTo>
                    <a:pt x="493" y="940"/>
                  </a:lnTo>
                  <a:lnTo>
                    <a:pt x="490" y="934"/>
                  </a:lnTo>
                  <a:lnTo>
                    <a:pt x="488" y="930"/>
                  </a:lnTo>
                  <a:lnTo>
                    <a:pt x="486" y="925"/>
                  </a:lnTo>
                  <a:lnTo>
                    <a:pt x="484" y="919"/>
                  </a:lnTo>
                  <a:lnTo>
                    <a:pt x="481" y="907"/>
                  </a:lnTo>
                  <a:lnTo>
                    <a:pt x="478" y="895"/>
                  </a:lnTo>
                  <a:lnTo>
                    <a:pt x="476" y="882"/>
                  </a:lnTo>
                  <a:lnTo>
                    <a:pt x="476" y="867"/>
                  </a:lnTo>
                  <a:lnTo>
                    <a:pt x="476" y="852"/>
                  </a:lnTo>
                  <a:lnTo>
                    <a:pt x="477" y="835"/>
                  </a:lnTo>
                  <a:lnTo>
                    <a:pt x="479" y="817"/>
                  </a:lnTo>
                  <a:lnTo>
                    <a:pt x="482" y="798"/>
                  </a:lnTo>
                  <a:lnTo>
                    <a:pt x="489" y="754"/>
                  </a:lnTo>
                  <a:lnTo>
                    <a:pt x="498" y="706"/>
                  </a:lnTo>
                  <a:lnTo>
                    <a:pt x="541" y="533"/>
                  </a:lnTo>
                  <a:lnTo>
                    <a:pt x="313" y="533"/>
                  </a:lnTo>
                  <a:lnTo>
                    <a:pt x="224" y="954"/>
                  </a:lnTo>
                  <a:lnTo>
                    <a:pt x="47" y="954"/>
                  </a:lnTo>
                  <a:lnTo>
                    <a:pt x="48" y="944"/>
                  </a:lnTo>
                  <a:lnTo>
                    <a:pt x="49" y="932"/>
                  </a:lnTo>
                  <a:lnTo>
                    <a:pt x="53" y="906"/>
                  </a:lnTo>
                  <a:lnTo>
                    <a:pt x="59" y="874"/>
                  </a:lnTo>
                  <a:lnTo>
                    <a:pt x="68" y="837"/>
                  </a:lnTo>
                  <a:lnTo>
                    <a:pt x="75" y="806"/>
                  </a:lnTo>
                  <a:lnTo>
                    <a:pt x="87" y="758"/>
                  </a:lnTo>
                  <a:lnTo>
                    <a:pt x="117" y="615"/>
                  </a:lnTo>
                  <a:lnTo>
                    <a:pt x="202" y="229"/>
                  </a:lnTo>
                  <a:lnTo>
                    <a:pt x="205" y="216"/>
                  </a:lnTo>
                  <a:lnTo>
                    <a:pt x="207" y="204"/>
                  </a:lnTo>
                  <a:lnTo>
                    <a:pt x="207" y="199"/>
                  </a:lnTo>
                  <a:lnTo>
                    <a:pt x="208" y="194"/>
                  </a:lnTo>
                  <a:lnTo>
                    <a:pt x="208" y="190"/>
                  </a:lnTo>
                  <a:lnTo>
                    <a:pt x="208" y="186"/>
                  </a:lnTo>
                  <a:lnTo>
                    <a:pt x="208" y="176"/>
                  </a:lnTo>
                  <a:lnTo>
                    <a:pt x="206" y="176"/>
                  </a:lnTo>
                  <a:lnTo>
                    <a:pt x="204" y="176"/>
                  </a:lnTo>
                  <a:lnTo>
                    <a:pt x="199" y="179"/>
                  </a:lnTo>
                  <a:lnTo>
                    <a:pt x="193" y="180"/>
                  </a:lnTo>
                  <a:lnTo>
                    <a:pt x="187" y="184"/>
                  </a:lnTo>
                  <a:lnTo>
                    <a:pt x="172" y="193"/>
                  </a:lnTo>
                  <a:lnTo>
                    <a:pt x="155" y="205"/>
                  </a:lnTo>
                  <a:lnTo>
                    <a:pt x="136" y="222"/>
                  </a:lnTo>
                  <a:lnTo>
                    <a:pt x="114" y="241"/>
                  </a:lnTo>
                  <a:lnTo>
                    <a:pt x="63" y="293"/>
                  </a:lnTo>
                  <a:lnTo>
                    <a:pt x="0" y="235"/>
                  </a:lnTo>
                  <a:lnTo>
                    <a:pt x="52" y="180"/>
                  </a:lnTo>
                  <a:lnTo>
                    <a:pt x="100" y="132"/>
                  </a:lnTo>
                  <a:lnTo>
                    <a:pt x="145" y="91"/>
                  </a:lnTo>
                  <a:lnTo>
                    <a:pt x="187" y="59"/>
                  </a:lnTo>
                  <a:lnTo>
                    <a:pt x="226" y="32"/>
                  </a:lnTo>
                  <a:lnTo>
                    <a:pt x="244" y="23"/>
                  </a:lnTo>
                  <a:lnTo>
                    <a:pt x="262" y="14"/>
                  </a:lnTo>
                  <a:lnTo>
                    <a:pt x="278" y="8"/>
                  </a:lnTo>
                  <a:lnTo>
                    <a:pt x="294" y="4"/>
                  </a:lnTo>
                  <a:lnTo>
                    <a:pt x="309" y="1"/>
                  </a:lnTo>
                  <a:lnTo>
                    <a:pt x="323" y="0"/>
                  </a:lnTo>
                  <a:lnTo>
                    <a:pt x="332" y="0"/>
                  </a:lnTo>
                  <a:lnTo>
                    <a:pt x="340" y="1"/>
                  </a:lnTo>
                  <a:lnTo>
                    <a:pt x="347" y="4"/>
                  </a:lnTo>
                  <a:lnTo>
                    <a:pt x="355" y="6"/>
                  </a:lnTo>
                  <a:lnTo>
                    <a:pt x="361" y="10"/>
                  </a:lnTo>
                  <a:lnTo>
                    <a:pt x="366" y="14"/>
                  </a:lnTo>
                  <a:lnTo>
                    <a:pt x="372" y="19"/>
                  </a:lnTo>
                  <a:lnTo>
                    <a:pt x="377" y="25"/>
                  </a:lnTo>
                  <a:lnTo>
                    <a:pt x="381" y="32"/>
                  </a:lnTo>
                  <a:lnTo>
                    <a:pt x="384" y="40"/>
                  </a:lnTo>
                  <a:lnTo>
                    <a:pt x="388" y="48"/>
                  </a:lnTo>
                  <a:lnTo>
                    <a:pt x="391" y="56"/>
                  </a:lnTo>
                  <a:lnTo>
                    <a:pt x="393" y="66"/>
                  </a:lnTo>
                  <a:lnTo>
                    <a:pt x="394" y="77"/>
                  </a:lnTo>
                  <a:lnTo>
                    <a:pt x="395" y="89"/>
                  </a:lnTo>
                  <a:lnTo>
                    <a:pt x="395" y="101"/>
                  </a:lnTo>
                  <a:lnTo>
                    <a:pt x="394" y="122"/>
                  </a:lnTo>
                  <a:lnTo>
                    <a:pt x="391" y="150"/>
                  </a:lnTo>
                  <a:lnTo>
                    <a:pt x="387" y="182"/>
                  </a:lnTo>
                  <a:lnTo>
                    <a:pt x="380" y="221"/>
                  </a:lnTo>
                  <a:lnTo>
                    <a:pt x="360" y="311"/>
                  </a:lnTo>
                  <a:lnTo>
                    <a:pt x="333" y="422"/>
                  </a:lnTo>
                  <a:lnTo>
                    <a:pt x="562" y="422"/>
                  </a:lnTo>
                  <a:lnTo>
                    <a:pt x="654" y="28"/>
                  </a:lnTo>
                  <a:lnTo>
                    <a:pt x="825" y="28"/>
                  </a:lnTo>
                  <a:lnTo>
                    <a:pt x="734" y="433"/>
                  </a:lnTo>
                  <a:lnTo>
                    <a:pt x="676" y="687"/>
                  </a:lnTo>
                  <a:lnTo>
                    <a:pt x="661" y="762"/>
                  </a:lnTo>
                  <a:lnTo>
                    <a:pt x="657" y="786"/>
                  </a:lnTo>
                  <a:lnTo>
                    <a:pt x="656" y="795"/>
                  </a:lnTo>
                  <a:lnTo>
                    <a:pt x="656" y="801"/>
                  </a:lnTo>
                  <a:lnTo>
                    <a:pt x="656" y="806"/>
                  </a:lnTo>
                  <a:lnTo>
                    <a:pt x="656" y="810"/>
                  </a:lnTo>
                  <a:lnTo>
                    <a:pt x="657" y="812"/>
                  </a:lnTo>
                  <a:lnTo>
                    <a:pt x="657" y="813"/>
                  </a:lnTo>
                  <a:lnTo>
                    <a:pt x="657" y="814"/>
                  </a:lnTo>
                  <a:lnTo>
                    <a:pt x="658" y="817"/>
                  </a:lnTo>
                  <a:lnTo>
                    <a:pt x="658" y="818"/>
                  </a:lnTo>
                  <a:lnTo>
                    <a:pt x="659" y="819"/>
                  </a:lnTo>
                  <a:lnTo>
                    <a:pt x="659" y="819"/>
                  </a:lnTo>
                  <a:lnTo>
                    <a:pt x="660" y="820"/>
                  </a:lnTo>
                  <a:lnTo>
                    <a:pt x="660" y="820"/>
                  </a:lnTo>
                  <a:lnTo>
                    <a:pt x="660" y="820"/>
                  </a:lnTo>
                  <a:lnTo>
                    <a:pt x="661" y="822"/>
                  </a:lnTo>
                  <a:lnTo>
                    <a:pt x="661" y="822"/>
                  </a:lnTo>
                  <a:lnTo>
                    <a:pt x="662" y="822"/>
                  </a:lnTo>
                  <a:lnTo>
                    <a:pt x="662" y="822"/>
                  </a:lnTo>
                  <a:lnTo>
                    <a:pt x="663" y="822"/>
                  </a:lnTo>
                  <a:lnTo>
                    <a:pt x="665" y="822"/>
                  </a:lnTo>
                  <a:lnTo>
                    <a:pt x="666" y="822"/>
                  </a:lnTo>
                  <a:lnTo>
                    <a:pt x="672" y="819"/>
                  </a:lnTo>
                  <a:lnTo>
                    <a:pt x="677" y="817"/>
                  </a:lnTo>
                  <a:lnTo>
                    <a:pt x="682" y="813"/>
                  </a:lnTo>
                  <a:lnTo>
                    <a:pt x="697" y="801"/>
                  </a:lnTo>
                  <a:lnTo>
                    <a:pt x="716" y="786"/>
                  </a:lnTo>
                  <a:lnTo>
                    <a:pt x="761" y="741"/>
                  </a:lnTo>
                  <a:lnTo>
                    <a:pt x="822" y="679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350200" y="1401840"/>
              <a:ext cx="293760" cy="368280"/>
            </a:xfrm>
            <a:custGeom>
              <a:avLst/>
              <a:gdLst/>
              <a:ahLst/>
              <a:rect l="l" t="t" r="r" b="b"/>
              <a:pathLst>
                <a:path w="818" h="1021">
                  <a:moveTo>
                    <a:pt x="678" y="19"/>
                  </a:moveTo>
                  <a:lnTo>
                    <a:pt x="774" y="0"/>
                  </a:lnTo>
                  <a:lnTo>
                    <a:pt x="702" y="304"/>
                  </a:lnTo>
                  <a:lnTo>
                    <a:pt x="681" y="389"/>
                  </a:lnTo>
                  <a:lnTo>
                    <a:pt x="660" y="479"/>
                  </a:lnTo>
                  <a:lnTo>
                    <a:pt x="640" y="576"/>
                  </a:lnTo>
                  <a:lnTo>
                    <a:pt x="621" y="678"/>
                  </a:lnTo>
                  <a:lnTo>
                    <a:pt x="606" y="770"/>
                  </a:lnTo>
                  <a:lnTo>
                    <a:pt x="602" y="800"/>
                  </a:lnTo>
                  <a:lnTo>
                    <a:pt x="601" y="812"/>
                  </a:lnTo>
                  <a:lnTo>
                    <a:pt x="601" y="822"/>
                  </a:lnTo>
                  <a:lnTo>
                    <a:pt x="601" y="824"/>
                  </a:lnTo>
                  <a:lnTo>
                    <a:pt x="601" y="828"/>
                  </a:lnTo>
                  <a:lnTo>
                    <a:pt x="601" y="828"/>
                  </a:lnTo>
                  <a:lnTo>
                    <a:pt x="601" y="829"/>
                  </a:lnTo>
                  <a:lnTo>
                    <a:pt x="602" y="830"/>
                  </a:lnTo>
                  <a:lnTo>
                    <a:pt x="602" y="831"/>
                  </a:lnTo>
                  <a:lnTo>
                    <a:pt x="602" y="831"/>
                  </a:lnTo>
                  <a:lnTo>
                    <a:pt x="602" y="833"/>
                  </a:lnTo>
                  <a:lnTo>
                    <a:pt x="603" y="833"/>
                  </a:lnTo>
                  <a:lnTo>
                    <a:pt x="603" y="833"/>
                  </a:lnTo>
                  <a:lnTo>
                    <a:pt x="603" y="833"/>
                  </a:lnTo>
                  <a:lnTo>
                    <a:pt x="603" y="834"/>
                  </a:lnTo>
                  <a:lnTo>
                    <a:pt x="604" y="834"/>
                  </a:lnTo>
                  <a:lnTo>
                    <a:pt x="604" y="834"/>
                  </a:lnTo>
                  <a:lnTo>
                    <a:pt x="604" y="834"/>
                  </a:lnTo>
                  <a:lnTo>
                    <a:pt x="604" y="834"/>
                  </a:lnTo>
                  <a:lnTo>
                    <a:pt x="605" y="834"/>
                  </a:lnTo>
                  <a:lnTo>
                    <a:pt x="606" y="834"/>
                  </a:lnTo>
                  <a:lnTo>
                    <a:pt x="608" y="834"/>
                  </a:lnTo>
                  <a:lnTo>
                    <a:pt x="609" y="833"/>
                  </a:lnTo>
                  <a:lnTo>
                    <a:pt x="611" y="833"/>
                  </a:lnTo>
                  <a:lnTo>
                    <a:pt x="614" y="831"/>
                  </a:lnTo>
                  <a:lnTo>
                    <a:pt x="620" y="829"/>
                  </a:lnTo>
                  <a:lnTo>
                    <a:pt x="624" y="827"/>
                  </a:lnTo>
                  <a:lnTo>
                    <a:pt x="630" y="823"/>
                  </a:lnTo>
                  <a:lnTo>
                    <a:pt x="643" y="815"/>
                  </a:lnTo>
                  <a:lnTo>
                    <a:pt x="671" y="794"/>
                  </a:lnTo>
                  <a:lnTo>
                    <a:pt x="702" y="770"/>
                  </a:lnTo>
                  <a:lnTo>
                    <a:pt x="735" y="741"/>
                  </a:lnTo>
                  <a:lnTo>
                    <a:pt x="768" y="710"/>
                  </a:lnTo>
                  <a:lnTo>
                    <a:pt x="817" y="777"/>
                  </a:lnTo>
                  <a:lnTo>
                    <a:pt x="722" y="879"/>
                  </a:lnTo>
                  <a:lnTo>
                    <a:pt x="690" y="911"/>
                  </a:lnTo>
                  <a:lnTo>
                    <a:pt x="679" y="921"/>
                  </a:lnTo>
                  <a:lnTo>
                    <a:pt x="669" y="930"/>
                  </a:lnTo>
                  <a:lnTo>
                    <a:pt x="638" y="954"/>
                  </a:lnTo>
                  <a:lnTo>
                    <a:pt x="623" y="963"/>
                  </a:lnTo>
                  <a:lnTo>
                    <a:pt x="608" y="973"/>
                  </a:lnTo>
                  <a:lnTo>
                    <a:pt x="592" y="981"/>
                  </a:lnTo>
                  <a:lnTo>
                    <a:pt x="577" y="990"/>
                  </a:lnTo>
                  <a:lnTo>
                    <a:pt x="564" y="997"/>
                  </a:lnTo>
                  <a:lnTo>
                    <a:pt x="549" y="1003"/>
                  </a:lnTo>
                  <a:lnTo>
                    <a:pt x="539" y="1007"/>
                  </a:lnTo>
                  <a:lnTo>
                    <a:pt x="529" y="1010"/>
                  </a:lnTo>
                  <a:lnTo>
                    <a:pt x="519" y="1013"/>
                  </a:lnTo>
                  <a:lnTo>
                    <a:pt x="510" y="1015"/>
                  </a:lnTo>
                  <a:lnTo>
                    <a:pt x="500" y="1017"/>
                  </a:lnTo>
                  <a:lnTo>
                    <a:pt x="491" y="1019"/>
                  </a:lnTo>
                  <a:lnTo>
                    <a:pt x="480" y="1020"/>
                  </a:lnTo>
                  <a:lnTo>
                    <a:pt x="471" y="1020"/>
                  </a:lnTo>
                  <a:lnTo>
                    <a:pt x="463" y="1020"/>
                  </a:lnTo>
                  <a:lnTo>
                    <a:pt x="456" y="1019"/>
                  </a:lnTo>
                  <a:lnTo>
                    <a:pt x="449" y="1017"/>
                  </a:lnTo>
                  <a:lnTo>
                    <a:pt x="442" y="1015"/>
                  </a:lnTo>
                  <a:lnTo>
                    <a:pt x="439" y="1014"/>
                  </a:lnTo>
                  <a:lnTo>
                    <a:pt x="436" y="1013"/>
                  </a:lnTo>
                  <a:lnTo>
                    <a:pt x="433" y="1011"/>
                  </a:lnTo>
                  <a:lnTo>
                    <a:pt x="430" y="1009"/>
                  </a:lnTo>
                  <a:lnTo>
                    <a:pt x="427" y="1008"/>
                  </a:lnTo>
                  <a:lnTo>
                    <a:pt x="424" y="1005"/>
                  </a:lnTo>
                  <a:lnTo>
                    <a:pt x="422" y="1003"/>
                  </a:lnTo>
                  <a:lnTo>
                    <a:pt x="420" y="1001"/>
                  </a:lnTo>
                  <a:lnTo>
                    <a:pt x="418" y="998"/>
                  </a:lnTo>
                  <a:lnTo>
                    <a:pt x="416" y="996"/>
                  </a:lnTo>
                  <a:lnTo>
                    <a:pt x="414" y="992"/>
                  </a:lnTo>
                  <a:lnTo>
                    <a:pt x="412" y="990"/>
                  </a:lnTo>
                  <a:lnTo>
                    <a:pt x="411" y="987"/>
                  </a:lnTo>
                  <a:lnTo>
                    <a:pt x="408" y="984"/>
                  </a:lnTo>
                  <a:lnTo>
                    <a:pt x="407" y="980"/>
                  </a:lnTo>
                  <a:lnTo>
                    <a:pt x="406" y="978"/>
                  </a:lnTo>
                  <a:lnTo>
                    <a:pt x="405" y="974"/>
                  </a:lnTo>
                  <a:lnTo>
                    <a:pt x="404" y="971"/>
                  </a:lnTo>
                  <a:lnTo>
                    <a:pt x="403" y="963"/>
                  </a:lnTo>
                  <a:lnTo>
                    <a:pt x="402" y="955"/>
                  </a:lnTo>
                  <a:lnTo>
                    <a:pt x="402" y="947"/>
                  </a:lnTo>
                  <a:lnTo>
                    <a:pt x="402" y="942"/>
                  </a:lnTo>
                  <a:lnTo>
                    <a:pt x="402" y="936"/>
                  </a:lnTo>
                  <a:lnTo>
                    <a:pt x="403" y="930"/>
                  </a:lnTo>
                  <a:lnTo>
                    <a:pt x="404" y="924"/>
                  </a:lnTo>
                  <a:lnTo>
                    <a:pt x="405" y="918"/>
                  </a:lnTo>
                  <a:lnTo>
                    <a:pt x="406" y="911"/>
                  </a:lnTo>
                  <a:lnTo>
                    <a:pt x="409" y="896"/>
                  </a:lnTo>
                  <a:lnTo>
                    <a:pt x="447" y="777"/>
                  </a:lnTo>
                  <a:lnTo>
                    <a:pt x="435" y="804"/>
                  </a:lnTo>
                  <a:lnTo>
                    <a:pt x="419" y="828"/>
                  </a:lnTo>
                  <a:lnTo>
                    <a:pt x="403" y="852"/>
                  </a:lnTo>
                  <a:lnTo>
                    <a:pt x="384" y="873"/>
                  </a:lnTo>
                  <a:lnTo>
                    <a:pt x="364" y="894"/>
                  </a:lnTo>
                  <a:lnTo>
                    <a:pt x="342" y="914"/>
                  </a:lnTo>
                  <a:lnTo>
                    <a:pt x="318" y="932"/>
                  </a:lnTo>
                  <a:lnTo>
                    <a:pt x="292" y="949"/>
                  </a:lnTo>
                  <a:lnTo>
                    <a:pt x="271" y="966"/>
                  </a:lnTo>
                  <a:lnTo>
                    <a:pt x="252" y="980"/>
                  </a:lnTo>
                  <a:lnTo>
                    <a:pt x="232" y="991"/>
                  </a:lnTo>
                  <a:lnTo>
                    <a:pt x="214" y="1002"/>
                  </a:lnTo>
                  <a:lnTo>
                    <a:pt x="195" y="1009"/>
                  </a:lnTo>
                  <a:lnTo>
                    <a:pt x="178" y="1014"/>
                  </a:lnTo>
                  <a:lnTo>
                    <a:pt x="170" y="1016"/>
                  </a:lnTo>
                  <a:lnTo>
                    <a:pt x="161" y="1017"/>
                  </a:lnTo>
                  <a:lnTo>
                    <a:pt x="153" y="1019"/>
                  </a:lnTo>
                  <a:lnTo>
                    <a:pt x="144" y="1019"/>
                  </a:lnTo>
                  <a:lnTo>
                    <a:pt x="136" y="1019"/>
                  </a:lnTo>
                  <a:lnTo>
                    <a:pt x="129" y="1017"/>
                  </a:lnTo>
                  <a:lnTo>
                    <a:pt x="121" y="1015"/>
                  </a:lnTo>
                  <a:lnTo>
                    <a:pt x="114" y="1013"/>
                  </a:lnTo>
                  <a:lnTo>
                    <a:pt x="106" y="1010"/>
                  </a:lnTo>
                  <a:lnTo>
                    <a:pt x="99" y="1005"/>
                  </a:lnTo>
                  <a:lnTo>
                    <a:pt x="93" y="1002"/>
                  </a:lnTo>
                  <a:lnTo>
                    <a:pt x="86" y="996"/>
                  </a:lnTo>
                  <a:lnTo>
                    <a:pt x="79" y="990"/>
                  </a:lnTo>
                  <a:lnTo>
                    <a:pt x="74" y="984"/>
                  </a:lnTo>
                  <a:lnTo>
                    <a:pt x="67" y="977"/>
                  </a:lnTo>
                  <a:lnTo>
                    <a:pt x="61" y="968"/>
                  </a:lnTo>
                  <a:lnTo>
                    <a:pt x="56" y="959"/>
                  </a:lnTo>
                  <a:lnTo>
                    <a:pt x="50" y="950"/>
                  </a:lnTo>
                  <a:lnTo>
                    <a:pt x="40" y="929"/>
                  </a:lnTo>
                  <a:lnTo>
                    <a:pt x="35" y="925"/>
                  </a:lnTo>
                  <a:lnTo>
                    <a:pt x="30" y="920"/>
                  </a:lnTo>
                  <a:lnTo>
                    <a:pt x="26" y="915"/>
                  </a:lnTo>
                  <a:lnTo>
                    <a:pt x="23" y="909"/>
                  </a:lnTo>
                  <a:lnTo>
                    <a:pt x="19" y="903"/>
                  </a:lnTo>
                  <a:lnTo>
                    <a:pt x="16" y="896"/>
                  </a:lnTo>
                  <a:lnTo>
                    <a:pt x="12" y="889"/>
                  </a:lnTo>
                  <a:lnTo>
                    <a:pt x="10" y="881"/>
                  </a:lnTo>
                  <a:lnTo>
                    <a:pt x="7" y="872"/>
                  </a:lnTo>
                  <a:lnTo>
                    <a:pt x="5" y="863"/>
                  </a:lnTo>
                  <a:lnTo>
                    <a:pt x="2" y="843"/>
                  </a:lnTo>
                  <a:lnTo>
                    <a:pt x="1" y="821"/>
                  </a:lnTo>
                  <a:lnTo>
                    <a:pt x="0" y="795"/>
                  </a:lnTo>
                  <a:lnTo>
                    <a:pt x="1" y="765"/>
                  </a:lnTo>
                  <a:lnTo>
                    <a:pt x="3" y="734"/>
                  </a:lnTo>
                  <a:lnTo>
                    <a:pt x="7" y="703"/>
                  </a:lnTo>
                  <a:lnTo>
                    <a:pt x="13" y="671"/>
                  </a:lnTo>
                  <a:lnTo>
                    <a:pt x="21" y="637"/>
                  </a:lnTo>
                  <a:lnTo>
                    <a:pt x="30" y="604"/>
                  </a:lnTo>
                  <a:lnTo>
                    <a:pt x="42" y="569"/>
                  </a:lnTo>
                  <a:lnTo>
                    <a:pt x="55" y="533"/>
                  </a:lnTo>
                  <a:lnTo>
                    <a:pt x="69" y="497"/>
                  </a:lnTo>
                  <a:lnTo>
                    <a:pt x="84" y="462"/>
                  </a:lnTo>
                  <a:lnTo>
                    <a:pt x="101" y="428"/>
                  </a:lnTo>
                  <a:lnTo>
                    <a:pt x="119" y="395"/>
                  </a:lnTo>
                  <a:lnTo>
                    <a:pt x="138" y="362"/>
                  </a:lnTo>
                  <a:lnTo>
                    <a:pt x="159" y="331"/>
                  </a:lnTo>
                  <a:lnTo>
                    <a:pt x="180" y="301"/>
                  </a:lnTo>
                  <a:lnTo>
                    <a:pt x="202" y="271"/>
                  </a:lnTo>
                  <a:lnTo>
                    <a:pt x="226" y="243"/>
                  </a:lnTo>
                  <a:lnTo>
                    <a:pt x="250" y="216"/>
                  </a:lnTo>
                  <a:lnTo>
                    <a:pt x="274" y="192"/>
                  </a:lnTo>
                  <a:lnTo>
                    <a:pt x="299" y="169"/>
                  </a:lnTo>
                  <a:lnTo>
                    <a:pt x="323" y="148"/>
                  </a:lnTo>
                  <a:lnTo>
                    <a:pt x="348" y="130"/>
                  </a:lnTo>
                  <a:lnTo>
                    <a:pt x="374" y="112"/>
                  </a:lnTo>
                  <a:lnTo>
                    <a:pt x="400" y="97"/>
                  </a:lnTo>
                  <a:lnTo>
                    <a:pt x="421" y="88"/>
                  </a:lnTo>
                  <a:lnTo>
                    <a:pt x="443" y="78"/>
                  </a:lnTo>
                  <a:lnTo>
                    <a:pt x="466" y="71"/>
                  </a:lnTo>
                  <a:lnTo>
                    <a:pt x="492" y="65"/>
                  </a:lnTo>
                  <a:lnTo>
                    <a:pt x="518" y="60"/>
                  </a:lnTo>
                  <a:lnTo>
                    <a:pt x="547" y="57"/>
                  </a:lnTo>
                  <a:lnTo>
                    <a:pt x="576" y="55"/>
                  </a:lnTo>
                  <a:lnTo>
                    <a:pt x="607" y="54"/>
                  </a:lnTo>
                  <a:lnTo>
                    <a:pt x="622" y="54"/>
                  </a:lnTo>
                  <a:lnTo>
                    <a:pt x="634" y="55"/>
                  </a:lnTo>
                  <a:lnTo>
                    <a:pt x="647" y="57"/>
                  </a:lnTo>
                  <a:lnTo>
                    <a:pt x="658" y="58"/>
                  </a:lnTo>
                  <a:close/>
                  <a:moveTo>
                    <a:pt x="553" y="222"/>
                  </a:moveTo>
                  <a:lnTo>
                    <a:pt x="536" y="219"/>
                  </a:lnTo>
                  <a:lnTo>
                    <a:pt x="520" y="217"/>
                  </a:lnTo>
                  <a:lnTo>
                    <a:pt x="503" y="215"/>
                  </a:lnTo>
                  <a:lnTo>
                    <a:pt x="487" y="215"/>
                  </a:lnTo>
                  <a:lnTo>
                    <a:pt x="468" y="216"/>
                  </a:lnTo>
                  <a:lnTo>
                    <a:pt x="449" y="219"/>
                  </a:lnTo>
                  <a:lnTo>
                    <a:pt x="430" y="222"/>
                  </a:lnTo>
                  <a:lnTo>
                    <a:pt x="413" y="227"/>
                  </a:lnTo>
                  <a:lnTo>
                    <a:pt x="396" y="234"/>
                  </a:lnTo>
                  <a:lnTo>
                    <a:pt x="379" y="243"/>
                  </a:lnTo>
                  <a:lnTo>
                    <a:pt x="363" y="252"/>
                  </a:lnTo>
                  <a:lnTo>
                    <a:pt x="348" y="264"/>
                  </a:lnTo>
                  <a:lnTo>
                    <a:pt x="333" y="279"/>
                  </a:lnTo>
                  <a:lnTo>
                    <a:pt x="319" y="294"/>
                  </a:lnTo>
                  <a:lnTo>
                    <a:pt x="305" y="313"/>
                  </a:lnTo>
                  <a:lnTo>
                    <a:pt x="291" y="335"/>
                  </a:lnTo>
                  <a:lnTo>
                    <a:pt x="276" y="359"/>
                  </a:lnTo>
                  <a:lnTo>
                    <a:pt x="263" y="386"/>
                  </a:lnTo>
                  <a:lnTo>
                    <a:pt x="250" y="415"/>
                  </a:lnTo>
                  <a:lnTo>
                    <a:pt x="236" y="448"/>
                  </a:lnTo>
                  <a:lnTo>
                    <a:pt x="224" y="481"/>
                  </a:lnTo>
                  <a:lnTo>
                    <a:pt x="213" y="515"/>
                  </a:lnTo>
                  <a:lnTo>
                    <a:pt x="205" y="548"/>
                  </a:lnTo>
                  <a:lnTo>
                    <a:pt x="197" y="582"/>
                  </a:lnTo>
                  <a:lnTo>
                    <a:pt x="191" y="614"/>
                  </a:lnTo>
                  <a:lnTo>
                    <a:pt x="187" y="648"/>
                  </a:lnTo>
                  <a:lnTo>
                    <a:pt x="185" y="682"/>
                  </a:lnTo>
                  <a:lnTo>
                    <a:pt x="183" y="715"/>
                  </a:lnTo>
                  <a:lnTo>
                    <a:pt x="183" y="731"/>
                  </a:lnTo>
                  <a:lnTo>
                    <a:pt x="185" y="746"/>
                  </a:lnTo>
                  <a:lnTo>
                    <a:pt x="186" y="759"/>
                  </a:lnTo>
                  <a:lnTo>
                    <a:pt x="188" y="771"/>
                  </a:lnTo>
                  <a:lnTo>
                    <a:pt x="190" y="782"/>
                  </a:lnTo>
                  <a:lnTo>
                    <a:pt x="191" y="787"/>
                  </a:lnTo>
                  <a:lnTo>
                    <a:pt x="193" y="792"/>
                  </a:lnTo>
                  <a:lnTo>
                    <a:pt x="194" y="795"/>
                  </a:lnTo>
                  <a:lnTo>
                    <a:pt x="196" y="800"/>
                  </a:lnTo>
                  <a:lnTo>
                    <a:pt x="198" y="803"/>
                  </a:lnTo>
                  <a:lnTo>
                    <a:pt x="200" y="806"/>
                  </a:lnTo>
                  <a:lnTo>
                    <a:pt x="202" y="810"/>
                  </a:lnTo>
                  <a:lnTo>
                    <a:pt x="205" y="812"/>
                  </a:lnTo>
                  <a:lnTo>
                    <a:pt x="207" y="815"/>
                  </a:lnTo>
                  <a:lnTo>
                    <a:pt x="209" y="817"/>
                  </a:lnTo>
                  <a:lnTo>
                    <a:pt x="211" y="819"/>
                  </a:lnTo>
                  <a:lnTo>
                    <a:pt x="214" y="822"/>
                  </a:lnTo>
                  <a:lnTo>
                    <a:pt x="216" y="823"/>
                  </a:lnTo>
                  <a:lnTo>
                    <a:pt x="219" y="825"/>
                  </a:lnTo>
                  <a:lnTo>
                    <a:pt x="222" y="827"/>
                  </a:lnTo>
                  <a:lnTo>
                    <a:pt x="225" y="828"/>
                  </a:lnTo>
                  <a:lnTo>
                    <a:pt x="228" y="829"/>
                  </a:lnTo>
                  <a:lnTo>
                    <a:pt x="230" y="830"/>
                  </a:lnTo>
                  <a:lnTo>
                    <a:pt x="233" y="830"/>
                  </a:lnTo>
                  <a:lnTo>
                    <a:pt x="236" y="831"/>
                  </a:lnTo>
                  <a:lnTo>
                    <a:pt x="239" y="831"/>
                  </a:lnTo>
                  <a:lnTo>
                    <a:pt x="243" y="831"/>
                  </a:lnTo>
                  <a:lnTo>
                    <a:pt x="250" y="831"/>
                  </a:lnTo>
                  <a:lnTo>
                    <a:pt x="257" y="830"/>
                  </a:lnTo>
                  <a:lnTo>
                    <a:pt x="265" y="829"/>
                  </a:lnTo>
                  <a:lnTo>
                    <a:pt x="272" y="827"/>
                  </a:lnTo>
                  <a:lnTo>
                    <a:pt x="280" y="824"/>
                  </a:lnTo>
                  <a:lnTo>
                    <a:pt x="288" y="821"/>
                  </a:lnTo>
                  <a:lnTo>
                    <a:pt x="304" y="812"/>
                  </a:lnTo>
                  <a:lnTo>
                    <a:pt x="320" y="801"/>
                  </a:lnTo>
                  <a:lnTo>
                    <a:pt x="337" y="789"/>
                  </a:lnTo>
                  <a:lnTo>
                    <a:pt x="353" y="774"/>
                  </a:lnTo>
                  <a:lnTo>
                    <a:pt x="370" y="756"/>
                  </a:lnTo>
                  <a:lnTo>
                    <a:pt x="387" y="737"/>
                  </a:lnTo>
                  <a:lnTo>
                    <a:pt x="403" y="714"/>
                  </a:lnTo>
                  <a:lnTo>
                    <a:pt x="418" y="690"/>
                  </a:lnTo>
                  <a:lnTo>
                    <a:pt x="432" y="664"/>
                  </a:lnTo>
                  <a:lnTo>
                    <a:pt x="444" y="635"/>
                  </a:lnTo>
                  <a:lnTo>
                    <a:pt x="455" y="604"/>
                  </a:lnTo>
                  <a:lnTo>
                    <a:pt x="465" y="570"/>
                  </a:lnTo>
                  <a:lnTo>
                    <a:pt x="475" y="53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50440" y="1417680"/>
              <a:ext cx="131760" cy="350640"/>
            </a:xfrm>
            <a:custGeom>
              <a:avLst/>
              <a:gdLst/>
              <a:ahLst/>
              <a:rect l="l" t="t" r="r" b="b"/>
              <a:pathLst>
                <a:path w="368" h="973">
                  <a:moveTo>
                    <a:pt x="260" y="0"/>
                  </a:moveTo>
                  <a:lnTo>
                    <a:pt x="271" y="1"/>
                  </a:lnTo>
                  <a:lnTo>
                    <a:pt x="277" y="1"/>
                  </a:lnTo>
                  <a:lnTo>
                    <a:pt x="282" y="2"/>
                  </a:lnTo>
                  <a:lnTo>
                    <a:pt x="287" y="3"/>
                  </a:lnTo>
                  <a:lnTo>
                    <a:pt x="292" y="6"/>
                  </a:lnTo>
                  <a:lnTo>
                    <a:pt x="298" y="7"/>
                  </a:lnTo>
                  <a:lnTo>
                    <a:pt x="302" y="9"/>
                  </a:lnTo>
                  <a:lnTo>
                    <a:pt x="307" y="12"/>
                  </a:lnTo>
                  <a:lnTo>
                    <a:pt x="311" y="15"/>
                  </a:lnTo>
                  <a:lnTo>
                    <a:pt x="316" y="18"/>
                  </a:lnTo>
                  <a:lnTo>
                    <a:pt x="321" y="21"/>
                  </a:lnTo>
                  <a:lnTo>
                    <a:pt x="325" y="25"/>
                  </a:lnTo>
                  <a:lnTo>
                    <a:pt x="329" y="30"/>
                  </a:lnTo>
                  <a:lnTo>
                    <a:pt x="333" y="33"/>
                  </a:lnTo>
                  <a:lnTo>
                    <a:pt x="337" y="38"/>
                  </a:lnTo>
                  <a:lnTo>
                    <a:pt x="344" y="48"/>
                  </a:lnTo>
                  <a:lnTo>
                    <a:pt x="351" y="58"/>
                  </a:lnTo>
                  <a:lnTo>
                    <a:pt x="356" y="69"/>
                  </a:lnTo>
                  <a:lnTo>
                    <a:pt x="360" y="80"/>
                  </a:lnTo>
                  <a:lnTo>
                    <a:pt x="363" y="92"/>
                  </a:lnTo>
                  <a:lnTo>
                    <a:pt x="365" y="105"/>
                  </a:lnTo>
                  <a:lnTo>
                    <a:pt x="367" y="118"/>
                  </a:lnTo>
                  <a:lnTo>
                    <a:pt x="367" y="133"/>
                  </a:lnTo>
                  <a:lnTo>
                    <a:pt x="366" y="152"/>
                  </a:lnTo>
                  <a:lnTo>
                    <a:pt x="365" y="170"/>
                  </a:lnTo>
                  <a:lnTo>
                    <a:pt x="362" y="188"/>
                  </a:lnTo>
                  <a:lnTo>
                    <a:pt x="359" y="204"/>
                  </a:lnTo>
                  <a:lnTo>
                    <a:pt x="354" y="219"/>
                  </a:lnTo>
                  <a:lnTo>
                    <a:pt x="347" y="234"/>
                  </a:lnTo>
                  <a:lnTo>
                    <a:pt x="344" y="240"/>
                  </a:lnTo>
                  <a:lnTo>
                    <a:pt x="341" y="247"/>
                  </a:lnTo>
                  <a:lnTo>
                    <a:pt x="337" y="253"/>
                  </a:lnTo>
                  <a:lnTo>
                    <a:pt x="333" y="259"/>
                  </a:lnTo>
                  <a:lnTo>
                    <a:pt x="323" y="270"/>
                  </a:lnTo>
                  <a:lnTo>
                    <a:pt x="319" y="274"/>
                  </a:lnTo>
                  <a:lnTo>
                    <a:pt x="314" y="279"/>
                  </a:lnTo>
                  <a:lnTo>
                    <a:pt x="309" y="284"/>
                  </a:lnTo>
                  <a:lnTo>
                    <a:pt x="304" y="287"/>
                  </a:lnTo>
                  <a:lnTo>
                    <a:pt x="299" y="291"/>
                  </a:lnTo>
                  <a:lnTo>
                    <a:pt x="294" y="293"/>
                  </a:lnTo>
                  <a:lnTo>
                    <a:pt x="287" y="297"/>
                  </a:lnTo>
                  <a:lnTo>
                    <a:pt x="282" y="299"/>
                  </a:lnTo>
                  <a:lnTo>
                    <a:pt x="276" y="301"/>
                  </a:lnTo>
                  <a:lnTo>
                    <a:pt x="269" y="303"/>
                  </a:lnTo>
                  <a:lnTo>
                    <a:pt x="263" y="304"/>
                  </a:lnTo>
                  <a:lnTo>
                    <a:pt x="257" y="304"/>
                  </a:lnTo>
                  <a:lnTo>
                    <a:pt x="244" y="305"/>
                  </a:lnTo>
                  <a:lnTo>
                    <a:pt x="232" y="305"/>
                  </a:lnTo>
                  <a:lnTo>
                    <a:pt x="222" y="303"/>
                  </a:lnTo>
                  <a:lnTo>
                    <a:pt x="216" y="302"/>
                  </a:lnTo>
                  <a:lnTo>
                    <a:pt x="211" y="301"/>
                  </a:lnTo>
                  <a:lnTo>
                    <a:pt x="207" y="298"/>
                  </a:lnTo>
                  <a:lnTo>
                    <a:pt x="202" y="297"/>
                  </a:lnTo>
                  <a:lnTo>
                    <a:pt x="197" y="295"/>
                  </a:lnTo>
                  <a:lnTo>
                    <a:pt x="192" y="291"/>
                  </a:lnTo>
                  <a:lnTo>
                    <a:pt x="188" y="289"/>
                  </a:lnTo>
                  <a:lnTo>
                    <a:pt x="184" y="285"/>
                  </a:lnTo>
                  <a:lnTo>
                    <a:pt x="175" y="278"/>
                  </a:lnTo>
                  <a:lnTo>
                    <a:pt x="167" y="270"/>
                  </a:lnTo>
                  <a:lnTo>
                    <a:pt x="159" y="260"/>
                  </a:lnTo>
                  <a:lnTo>
                    <a:pt x="153" y="250"/>
                  </a:lnTo>
                  <a:lnTo>
                    <a:pt x="148" y="240"/>
                  </a:lnTo>
                  <a:lnTo>
                    <a:pt x="144" y="229"/>
                  </a:lnTo>
                  <a:lnTo>
                    <a:pt x="140" y="217"/>
                  </a:lnTo>
                  <a:lnTo>
                    <a:pt x="138" y="204"/>
                  </a:lnTo>
                  <a:lnTo>
                    <a:pt x="136" y="190"/>
                  </a:lnTo>
                  <a:lnTo>
                    <a:pt x="136" y="177"/>
                  </a:lnTo>
                  <a:lnTo>
                    <a:pt x="137" y="159"/>
                  </a:lnTo>
                  <a:lnTo>
                    <a:pt x="138" y="141"/>
                  </a:lnTo>
                  <a:lnTo>
                    <a:pt x="141" y="123"/>
                  </a:lnTo>
                  <a:lnTo>
                    <a:pt x="146" y="106"/>
                  </a:lnTo>
                  <a:lnTo>
                    <a:pt x="151" y="91"/>
                  </a:lnTo>
                  <a:lnTo>
                    <a:pt x="158" y="75"/>
                  </a:lnTo>
                  <a:lnTo>
                    <a:pt x="166" y="61"/>
                  </a:lnTo>
                  <a:lnTo>
                    <a:pt x="175" y="46"/>
                  </a:lnTo>
                  <a:lnTo>
                    <a:pt x="179" y="40"/>
                  </a:lnTo>
                  <a:lnTo>
                    <a:pt x="184" y="36"/>
                  </a:lnTo>
                  <a:lnTo>
                    <a:pt x="188" y="31"/>
                  </a:lnTo>
                  <a:lnTo>
                    <a:pt x="192" y="26"/>
                  </a:lnTo>
                  <a:lnTo>
                    <a:pt x="197" y="21"/>
                  </a:lnTo>
                  <a:lnTo>
                    <a:pt x="202" y="18"/>
                  </a:lnTo>
                  <a:lnTo>
                    <a:pt x="207" y="14"/>
                  </a:lnTo>
                  <a:lnTo>
                    <a:pt x="212" y="12"/>
                  </a:lnTo>
                  <a:lnTo>
                    <a:pt x="217" y="8"/>
                  </a:lnTo>
                  <a:lnTo>
                    <a:pt x="223" y="6"/>
                  </a:lnTo>
                  <a:lnTo>
                    <a:pt x="229" y="4"/>
                  </a:lnTo>
                  <a:lnTo>
                    <a:pt x="234" y="2"/>
                  </a:lnTo>
                  <a:lnTo>
                    <a:pt x="241" y="1"/>
                  </a:lnTo>
                  <a:lnTo>
                    <a:pt x="247" y="1"/>
                  </a:lnTo>
                  <a:lnTo>
                    <a:pt x="253" y="0"/>
                  </a:lnTo>
                  <a:close/>
                  <a:moveTo>
                    <a:pt x="124" y="665"/>
                  </a:moveTo>
                  <a:lnTo>
                    <a:pt x="135" y="666"/>
                  </a:lnTo>
                  <a:lnTo>
                    <a:pt x="140" y="666"/>
                  </a:lnTo>
                  <a:lnTo>
                    <a:pt x="146" y="668"/>
                  </a:lnTo>
                  <a:lnTo>
                    <a:pt x="151" y="669"/>
                  </a:lnTo>
                  <a:lnTo>
                    <a:pt x="156" y="671"/>
                  </a:lnTo>
                  <a:lnTo>
                    <a:pt x="160" y="672"/>
                  </a:lnTo>
                  <a:lnTo>
                    <a:pt x="166" y="675"/>
                  </a:lnTo>
                  <a:lnTo>
                    <a:pt x="170" y="677"/>
                  </a:lnTo>
                  <a:lnTo>
                    <a:pt x="175" y="681"/>
                  </a:lnTo>
                  <a:lnTo>
                    <a:pt x="179" y="683"/>
                  </a:lnTo>
                  <a:lnTo>
                    <a:pt x="184" y="687"/>
                  </a:lnTo>
                  <a:lnTo>
                    <a:pt x="192" y="695"/>
                  </a:lnTo>
                  <a:lnTo>
                    <a:pt x="201" y="704"/>
                  </a:lnTo>
                  <a:lnTo>
                    <a:pt x="208" y="713"/>
                  </a:lnTo>
                  <a:lnTo>
                    <a:pt x="214" y="724"/>
                  </a:lnTo>
                  <a:lnTo>
                    <a:pt x="220" y="736"/>
                  </a:lnTo>
                  <a:lnTo>
                    <a:pt x="224" y="748"/>
                  </a:lnTo>
                  <a:lnTo>
                    <a:pt x="227" y="760"/>
                  </a:lnTo>
                  <a:lnTo>
                    <a:pt x="229" y="773"/>
                  </a:lnTo>
                  <a:lnTo>
                    <a:pt x="231" y="786"/>
                  </a:lnTo>
                  <a:lnTo>
                    <a:pt x="231" y="800"/>
                  </a:lnTo>
                  <a:lnTo>
                    <a:pt x="230" y="819"/>
                  </a:lnTo>
                  <a:lnTo>
                    <a:pt x="229" y="837"/>
                  </a:lnTo>
                  <a:lnTo>
                    <a:pt x="226" y="855"/>
                  </a:lnTo>
                  <a:lnTo>
                    <a:pt x="223" y="870"/>
                  </a:lnTo>
                  <a:lnTo>
                    <a:pt x="217" y="886"/>
                  </a:lnTo>
                  <a:lnTo>
                    <a:pt x="211" y="900"/>
                  </a:lnTo>
                  <a:lnTo>
                    <a:pt x="208" y="906"/>
                  </a:lnTo>
                  <a:lnTo>
                    <a:pt x="205" y="914"/>
                  </a:lnTo>
                  <a:lnTo>
                    <a:pt x="201" y="920"/>
                  </a:lnTo>
                  <a:lnTo>
                    <a:pt x="196" y="926"/>
                  </a:lnTo>
                  <a:lnTo>
                    <a:pt x="187" y="936"/>
                  </a:lnTo>
                  <a:lnTo>
                    <a:pt x="183" y="941"/>
                  </a:lnTo>
                  <a:lnTo>
                    <a:pt x="177" y="946"/>
                  </a:lnTo>
                  <a:lnTo>
                    <a:pt x="173" y="951"/>
                  </a:lnTo>
                  <a:lnTo>
                    <a:pt x="168" y="954"/>
                  </a:lnTo>
                  <a:lnTo>
                    <a:pt x="163" y="958"/>
                  </a:lnTo>
                  <a:lnTo>
                    <a:pt x="157" y="960"/>
                  </a:lnTo>
                  <a:lnTo>
                    <a:pt x="151" y="964"/>
                  </a:lnTo>
                  <a:lnTo>
                    <a:pt x="146" y="966"/>
                  </a:lnTo>
                  <a:lnTo>
                    <a:pt x="139" y="968"/>
                  </a:lnTo>
                  <a:lnTo>
                    <a:pt x="133" y="970"/>
                  </a:lnTo>
                  <a:lnTo>
                    <a:pt x="127" y="971"/>
                  </a:lnTo>
                  <a:lnTo>
                    <a:pt x="120" y="971"/>
                  </a:lnTo>
                  <a:lnTo>
                    <a:pt x="108" y="972"/>
                  </a:lnTo>
                  <a:lnTo>
                    <a:pt x="96" y="972"/>
                  </a:lnTo>
                  <a:lnTo>
                    <a:pt x="85" y="970"/>
                  </a:lnTo>
                  <a:lnTo>
                    <a:pt x="80" y="969"/>
                  </a:lnTo>
                  <a:lnTo>
                    <a:pt x="75" y="968"/>
                  </a:lnTo>
                  <a:lnTo>
                    <a:pt x="71" y="965"/>
                  </a:lnTo>
                  <a:lnTo>
                    <a:pt x="65" y="964"/>
                  </a:lnTo>
                  <a:lnTo>
                    <a:pt x="61" y="962"/>
                  </a:lnTo>
                  <a:lnTo>
                    <a:pt x="56" y="958"/>
                  </a:lnTo>
                  <a:lnTo>
                    <a:pt x="52" y="956"/>
                  </a:lnTo>
                  <a:lnTo>
                    <a:pt x="47" y="952"/>
                  </a:lnTo>
                  <a:lnTo>
                    <a:pt x="39" y="945"/>
                  </a:lnTo>
                  <a:lnTo>
                    <a:pt x="31" y="936"/>
                  </a:lnTo>
                  <a:lnTo>
                    <a:pt x="23" y="927"/>
                  </a:lnTo>
                  <a:lnTo>
                    <a:pt x="17" y="917"/>
                  </a:lnTo>
                  <a:lnTo>
                    <a:pt x="12" y="906"/>
                  </a:lnTo>
                  <a:lnTo>
                    <a:pt x="7" y="896"/>
                  </a:lnTo>
                  <a:lnTo>
                    <a:pt x="4" y="884"/>
                  </a:lnTo>
                  <a:lnTo>
                    <a:pt x="2" y="870"/>
                  </a:lnTo>
                  <a:lnTo>
                    <a:pt x="0" y="857"/>
                  </a:lnTo>
                  <a:lnTo>
                    <a:pt x="0" y="844"/>
                  </a:lnTo>
                  <a:lnTo>
                    <a:pt x="1" y="825"/>
                  </a:lnTo>
                  <a:lnTo>
                    <a:pt x="2" y="807"/>
                  </a:lnTo>
                  <a:lnTo>
                    <a:pt x="5" y="790"/>
                  </a:lnTo>
                  <a:lnTo>
                    <a:pt x="9" y="773"/>
                  </a:lnTo>
                  <a:lnTo>
                    <a:pt x="15" y="756"/>
                  </a:lnTo>
                  <a:lnTo>
                    <a:pt x="22" y="741"/>
                  </a:lnTo>
                  <a:lnTo>
                    <a:pt x="30" y="726"/>
                  </a:lnTo>
                  <a:lnTo>
                    <a:pt x="39" y="712"/>
                  </a:lnTo>
                  <a:lnTo>
                    <a:pt x="43" y="706"/>
                  </a:lnTo>
                  <a:lnTo>
                    <a:pt x="47" y="701"/>
                  </a:lnTo>
                  <a:lnTo>
                    <a:pt x="52" y="696"/>
                  </a:lnTo>
                  <a:lnTo>
                    <a:pt x="56" y="692"/>
                  </a:lnTo>
                  <a:lnTo>
                    <a:pt x="61" y="687"/>
                  </a:lnTo>
                  <a:lnTo>
                    <a:pt x="65" y="683"/>
                  </a:lnTo>
                  <a:lnTo>
                    <a:pt x="71" y="680"/>
                  </a:lnTo>
                  <a:lnTo>
                    <a:pt x="76" y="677"/>
                  </a:lnTo>
                  <a:lnTo>
                    <a:pt x="81" y="674"/>
                  </a:lnTo>
                  <a:lnTo>
                    <a:pt x="87" y="671"/>
                  </a:lnTo>
                  <a:lnTo>
                    <a:pt x="93" y="670"/>
                  </a:lnTo>
                  <a:lnTo>
                    <a:pt x="98" y="668"/>
                  </a:lnTo>
                  <a:lnTo>
                    <a:pt x="105" y="666"/>
                  </a:lnTo>
                  <a:lnTo>
                    <a:pt x="111" y="666"/>
                  </a:lnTo>
                  <a:lnTo>
                    <a:pt x="117" y="66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Качества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объединяющие эти имена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8136000" y="684360"/>
            <a:ext cx="1611360" cy="12650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5256360" y="5003640"/>
            <a:ext cx="2476440" cy="22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0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 fill="hold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" fill="hold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600"/>
                            </p:stCondLst>
                            <p:childTnLst>
                              <p:par>
                                <p:cTn id="16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700"/>
                            </p:stCondLst>
                            <p:childTnLst>
                              <p:par>
                                <p:cTn id="17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799"/>
                            </p:stCondLst>
                            <p:childTnLst>
                              <p:par>
                                <p:cTn id="17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1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dur="indefinite" fill="hold">
                            <p:stCondLst>
                              <p:cond delay="899"/>
                            </p:stCondLst>
                            <p:childTnLst>
                              <p:par>
                                <p:cTn id="18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 fill="hold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31640" y="2339640"/>
            <a:ext cx="50198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Преобладает жёлтый цвет –22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Чёрный цвет-8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Красный – 8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Зелёный -5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Фиолетовый -5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472000" y="1834920"/>
            <a:ext cx="4200480" cy="47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6" name=""/>
          <p:cNvGraphicFramePr/>
          <p:nvPr/>
        </p:nvGraphicFramePr>
        <p:xfrm>
          <a:off x="5580000" y="2700360"/>
          <a:ext cx="3600360" cy="36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pic>
        <p:nvPicPr>
          <p:cNvPr id="787" name="" descr=""/>
          <p:cNvPicPr/>
          <p:nvPr/>
        </p:nvPicPr>
        <p:blipFill>
          <a:blip r:embed="rId4"/>
          <a:stretch/>
        </p:blipFill>
        <p:spPr>
          <a:xfrm>
            <a:off x="2448000" y="179280"/>
            <a:ext cx="4680000" cy="1755720"/>
          </a:xfrm>
          <a:prstGeom prst="rect">
            <a:avLst/>
          </a:prstGeom>
          <a:ln w="0">
            <a:noFill/>
          </a:ln>
        </p:spPr>
      </p:pic>
      <p:grpSp>
        <p:nvGrpSpPr>
          <p:cNvPr id="788" name=""/>
          <p:cNvGrpSpPr/>
          <p:nvPr/>
        </p:nvGrpSpPr>
        <p:grpSpPr>
          <a:xfrm>
            <a:off x="0" y="0"/>
            <a:ext cx="7561440" cy="1693800"/>
            <a:chOff x="0" y="0"/>
            <a:chExt cx="7561440" cy="1693800"/>
          </a:xfrm>
        </p:grpSpPr>
        <p:sp>
          <p:nvSpPr>
            <p:cNvPr id="789" name=""/>
            <p:cNvSpPr/>
            <p:nvPr/>
          </p:nvSpPr>
          <p:spPr>
            <a:xfrm>
              <a:off x="2160720" y="663480"/>
              <a:ext cx="701640" cy="738360"/>
            </a:xfrm>
            <a:custGeom>
              <a:avLst/>
              <a:gdLst/>
              <a:ahLst/>
              <a:rect l="l" t="t" r="r" b="b"/>
              <a:pathLst>
                <a:path w="1951" h="2051">
                  <a:moveTo>
                    <a:pt x="744" y="459"/>
                  </a:moveTo>
                  <a:lnTo>
                    <a:pt x="770" y="322"/>
                  </a:lnTo>
                  <a:lnTo>
                    <a:pt x="889" y="309"/>
                  </a:lnTo>
                  <a:lnTo>
                    <a:pt x="1002" y="293"/>
                  </a:lnTo>
                  <a:lnTo>
                    <a:pt x="1110" y="275"/>
                  </a:lnTo>
                  <a:lnTo>
                    <a:pt x="1213" y="254"/>
                  </a:lnTo>
                  <a:lnTo>
                    <a:pt x="1132" y="573"/>
                  </a:lnTo>
                  <a:lnTo>
                    <a:pt x="1015" y="1012"/>
                  </a:lnTo>
                  <a:lnTo>
                    <a:pt x="1126" y="1018"/>
                  </a:lnTo>
                  <a:lnTo>
                    <a:pt x="1149" y="1018"/>
                  </a:lnTo>
                  <a:lnTo>
                    <a:pt x="1172" y="1017"/>
                  </a:lnTo>
                  <a:lnTo>
                    <a:pt x="1196" y="1013"/>
                  </a:lnTo>
                  <a:lnTo>
                    <a:pt x="1221" y="1007"/>
                  </a:lnTo>
                  <a:lnTo>
                    <a:pt x="1246" y="1001"/>
                  </a:lnTo>
                  <a:lnTo>
                    <a:pt x="1272" y="992"/>
                  </a:lnTo>
                  <a:lnTo>
                    <a:pt x="1299" y="981"/>
                  </a:lnTo>
                  <a:lnTo>
                    <a:pt x="1326" y="969"/>
                  </a:lnTo>
                  <a:lnTo>
                    <a:pt x="1353" y="954"/>
                  </a:lnTo>
                  <a:lnTo>
                    <a:pt x="1379" y="938"/>
                  </a:lnTo>
                  <a:lnTo>
                    <a:pt x="1405" y="918"/>
                  </a:lnTo>
                  <a:lnTo>
                    <a:pt x="1430" y="895"/>
                  </a:lnTo>
                  <a:lnTo>
                    <a:pt x="1454" y="871"/>
                  </a:lnTo>
                  <a:lnTo>
                    <a:pt x="1478" y="843"/>
                  </a:lnTo>
                  <a:lnTo>
                    <a:pt x="1501" y="813"/>
                  </a:lnTo>
                  <a:lnTo>
                    <a:pt x="1523" y="780"/>
                  </a:lnTo>
                  <a:lnTo>
                    <a:pt x="1543" y="746"/>
                  </a:lnTo>
                  <a:lnTo>
                    <a:pt x="1561" y="712"/>
                  </a:lnTo>
                  <a:lnTo>
                    <a:pt x="1576" y="676"/>
                  </a:lnTo>
                  <a:lnTo>
                    <a:pt x="1588" y="641"/>
                  </a:lnTo>
                  <a:lnTo>
                    <a:pt x="1598" y="604"/>
                  </a:lnTo>
                  <a:lnTo>
                    <a:pt x="1605" y="567"/>
                  </a:lnTo>
                  <a:lnTo>
                    <a:pt x="1609" y="529"/>
                  </a:lnTo>
                  <a:lnTo>
                    <a:pt x="1610" y="491"/>
                  </a:lnTo>
                  <a:lnTo>
                    <a:pt x="1608" y="454"/>
                  </a:lnTo>
                  <a:lnTo>
                    <a:pt x="1606" y="438"/>
                  </a:lnTo>
                  <a:lnTo>
                    <a:pt x="1604" y="420"/>
                  </a:lnTo>
                  <a:lnTo>
                    <a:pt x="1600" y="404"/>
                  </a:lnTo>
                  <a:lnTo>
                    <a:pt x="1596" y="389"/>
                  </a:lnTo>
                  <a:lnTo>
                    <a:pt x="1590" y="373"/>
                  </a:lnTo>
                  <a:lnTo>
                    <a:pt x="1584" y="358"/>
                  </a:lnTo>
                  <a:lnTo>
                    <a:pt x="1578" y="343"/>
                  </a:lnTo>
                  <a:lnTo>
                    <a:pt x="1570" y="329"/>
                  </a:lnTo>
                  <a:lnTo>
                    <a:pt x="1561" y="316"/>
                  </a:lnTo>
                  <a:lnTo>
                    <a:pt x="1552" y="303"/>
                  </a:lnTo>
                  <a:lnTo>
                    <a:pt x="1542" y="291"/>
                  </a:lnTo>
                  <a:lnTo>
                    <a:pt x="1531" y="278"/>
                  </a:lnTo>
                  <a:lnTo>
                    <a:pt x="1520" y="267"/>
                  </a:lnTo>
                  <a:lnTo>
                    <a:pt x="1507" y="255"/>
                  </a:lnTo>
                  <a:lnTo>
                    <a:pt x="1494" y="245"/>
                  </a:lnTo>
                  <a:lnTo>
                    <a:pt x="1480" y="235"/>
                  </a:lnTo>
                  <a:lnTo>
                    <a:pt x="1465" y="226"/>
                  </a:lnTo>
                  <a:lnTo>
                    <a:pt x="1449" y="217"/>
                  </a:lnTo>
                  <a:lnTo>
                    <a:pt x="1432" y="210"/>
                  </a:lnTo>
                  <a:lnTo>
                    <a:pt x="1414" y="202"/>
                  </a:lnTo>
                  <a:lnTo>
                    <a:pt x="1376" y="191"/>
                  </a:lnTo>
                  <a:lnTo>
                    <a:pt x="1335" y="180"/>
                  </a:lnTo>
                  <a:lnTo>
                    <a:pt x="1289" y="174"/>
                  </a:lnTo>
                  <a:lnTo>
                    <a:pt x="1239" y="170"/>
                  </a:lnTo>
                  <a:lnTo>
                    <a:pt x="1186" y="169"/>
                  </a:lnTo>
                  <a:lnTo>
                    <a:pt x="1122" y="171"/>
                  </a:lnTo>
                  <a:lnTo>
                    <a:pt x="1059" y="177"/>
                  </a:lnTo>
                  <a:lnTo>
                    <a:pt x="996" y="188"/>
                  </a:lnTo>
                  <a:lnTo>
                    <a:pt x="933" y="202"/>
                  </a:lnTo>
                  <a:lnTo>
                    <a:pt x="870" y="220"/>
                  </a:lnTo>
                  <a:lnTo>
                    <a:pt x="808" y="243"/>
                  </a:lnTo>
                  <a:lnTo>
                    <a:pt x="746" y="270"/>
                  </a:lnTo>
                  <a:lnTo>
                    <a:pt x="685" y="301"/>
                  </a:lnTo>
                  <a:lnTo>
                    <a:pt x="625" y="336"/>
                  </a:lnTo>
                  <a:lnTo>
                    <a:pt x="569" y="372"/>
                  </a:lnTo>
                  <a:lnTo>
                    <a:pt x="516" y="412"/>
                  </a:lnTo>
                  <a:lnTo>
                    <a:pt x="467" y="452"/>
                  </a:lnTo>
                  <a:lnTo>
                    <a:pt x="422" y="496"/>
                  </a:lnTo>
                  <a:lnTo>
                    <a:pt x="380" y="542"/>
                  </a:lnTo>
                  <a:lnTo>
                    <a:pt x="341" y="591"/>
                  </a:lnTo>
                  <a:lnTo>
                    <a:pt x="306" y="641"/>
                  </a:lnTo>
                  <a:lnTo>
                    <a:pt x="275" y="692"/>
                  </a:lnTo>
                  <a:lnTo>
                    <a:pt x="248" y="743"/>
                  </a:lnTo>
                  <a:lnTo>
                    <a:pt x="226" y="794"/>
                  </a:lnTo>
                  <a:lnTo>
                    <a:pt x="207" y="844"/>
                  </a:lnTo>
                  <a:lnTo>
                    <a:pt x="193" y="894"/>
                  </a:lnTo>
                  <a:lnTo>
                    <a:pt x="182" y="944"/>
                  </a:lnTo>
                  <a:lnTo>
                    <a:pt x="176" y="994"/>
                  </a:lnTo>
                  <a:lnTo>
                    <a:pt x="174" y="1044"/>
                  </a:lnTo>
                  <a:lnTo>
                    <a:pt x="175" y="1067"/>
                  </a:lnTo>
                  <a:lnTo>
                    <a:pt x="176" y="1090"/>
                  </a:lnTo>
                  <a:lnTo>
                    <a:pt x="179" y="1112"/>
                  </a:lnTo>
                  <a:lnTo>
                    <a:pt x="182" y="1132"/>
                  </a:lnTo>
                  <a:lnTo>
                    <a:pt x="187" y="1153"/>
                  </a:lnTo>
                  <a:lnTo>
                    <a:pt x="192" y="1172"/>
                  </a:lnTo>
                  <a:lnTo>
                    <a:pt x="199" y="1191"/>
                  </a:lnTo>
                  <a:lnTo>
                    <a:pt x="206" y="1208"/>
                  </a:lnTo>
                  <a:lnTo>
                    <a:pt x="215" y="1225"/>
                  </a:lnTo>
                  <a:lnTo>
                    <a:pt x="226" y="1243"/>
                  </a:lnTo>
                  <a:lnTo>
                    <a:pt x="238" y="1260"/>
                  </a:lnTo>
                  <a:lnTo>
                    <a:pt x="251" y="1276"/>
                  </a:lnTo>
                  <a:lnTo>
                    <a:pt x="266" y="1292"/>
                  </a:lnTo>
                  <a:lnTo>
                    <a:pt x="283" y="1308"/>
                  </a:lnTo>
                  <a:lnTo>
                    <a:pt x="301" y="1325"/>
                  </a:lnTo>
                  <a:lnTo>
                    <a:pt x="320" y="1341"/>
                  </a:lnTo>
                  <a:lnTo>
                    <a:pt x="342" y="1358"/>
                  </a:lnTo>
                  <a:lnTo>
                    <a:pt x="361" y="1376"/>
                  </a:lnTo>
                  <a:lnTo>
                    <a:pt x="377" y="1395"/>
                  </a:lnTo>
                  <a:lnTo>
                    <a:pt x="384" y="1403"/>
                  </a:lnTo>
                  <a:lnTo>
                    <a:pt x="390" y="1413"/>
                  </a:lnTo>
                  <a:lnTo>
                    <a:pt x="395" y="1421"/>
                  </a:lnTo>
                  <a:lnTo>
                    <a:pt x="400" y="1430"/>
                  </a:lnTo>
                  <a:lnTo>
                    <a:pt x="404" y="1440"/>
                  </a:lnTo>
                  <a:lnTo>
                    <a:pt x="407" y="1448"/>
                  </a:lnTo>
                  <a:lnTo>
                    <a:pt x="410" y="1457"/>
                  </a:lnTo>
                  <a:lnTo>
                    <a:pt x="412" y="1466"/>
                  </a:lnTo>
                  <a:lnTo>
                    <a:pt x="413" y="1475"/>
                  </a:lnTo>
                  <a:lnTo>
                    <a:pt x="413" y="1483"/>
                  </a:lnTo>
                  <a:lnTo>
                    <a:pt x="412" y="1496"/>
                  </a:lnTo>
                  <a:lnTo>
                    <a:pt x="411" y="1507"/>
                  </a:lnTo>
                  <a:lnTo>
                    <a:pt x="410" y="1514"/>
                  </a:lnTo>
                  <a:lnTo>
                    <a:pt x="408" y="1519"/>
                  </a:lnTo>
                  <a:lnTo>
                    <a:pt x="407" y="1524"/>
                  </a:lnTo>
                  <a:lnTo>
                    <a:pt x="405" y="1529"/>
                  </a:lnTo>
                  <a:lnTo>
                    <a:pt x="402" y="1534"/>
                  </a:lnTo>
                  <a:lnTo>
                    <a:pt x="400" y="1540"/>
                  </a:lnTo>
                  <a:lnTo>
                    <a:pt x="397" y="1545"/>
                  </a:lnTo>
                  <a:lnTo>
                    <a:pt x="394" y="1549"/>
                  </a:lnTo>
                  <a:lnTo>
                    <a:pt x="390" y="1554"/>
                  </a:lnTo>
                  <a:lnTo>
                    <a:pt x="386" y="1558"/>
                  </a:lnTo>
                  <a:lnTo>
                    <a:pt x="382" y="1563"/>
                  </a:lnTo>
                  <a:lnTo>
                    <a:pt x="378" y="1567"/>
                  </a:lnTo>
                  <a:lnTo>
                    <a:pt x="369" y="1575"/>
                  </a:lnTo>
                  <a:lnTo>
                    <a:pt x="360" y="1581"/>
                  </a:lnTo>
                  <a:lnTo>
                    <a:pt x="350" y="1588"/>
                  </a:lnTo>
                  <a:lnTo>
                    <a:pt x="340" y="1593"/>
                  </a:lnTo>
                  <a:lnTo>
                    <a:pt x="329" y="1596"/>
                  </a:lnTo>
                  <a:lnTo>
                    <a:pt x="318" y="1599"/>
                  </a:lnTo>
                  <a:lnTo>
                    <a:pt x="307" y="1600"/>
                  </a:lnTo>
                  <a:lnTo>
                    <a:pt x="295" y="1601"/>
                  </a:lnTo>
                  <a:lnTo>
                    <a:pt x="281" y="1600"/>
                  </a:lnTo>
                  <a:lnTo>
                    <a:pt x="268" y="1599"/>
                  </a:lnTo>
                  <a:lnTo>
                    <a:pt x="255" y="1596"/>
                  </a:lnTo>
                  <a:lnTo>
                    <a:pt x="241" y="1592"/>
                  </a:lnTo>
                  <a:lnTo>
                    <a:pt x="228" y="1588"/>
                  </a:lnTo>
                  <a:lnTo>
                    <a:pt x="215" y="1581"/>
                  </a:lnTo>
                  <a:lnTo>
                    <a:pt x="202" y="1574"/>
                  </a:lnTo>
                  <a:lnTo>
                    <a:pt x="190" y="1566"/>
                  </a:lnTo>
                  <a:lnTo>
                    <a:pt x="177" y="1556"/>
                  </a:lnTo>
                  <a:lnTo>
                    <a:pt x="165" y="1545"/>
                  </a:lnTo>
                  <a:lnTo>
                    <a:pt x="140" y="1521"/>
                  </a:lnTo>
                  <a:lnTo>
                    <a:pt x="116" y="1492"/>
                  </a:lnTo>
                  <a:lnTo>
                    <a:pt x="92" y="1458"/>
                  </a:lnTo>
                  <a:lnTo>
                    <a:pt x="70" y="1422"/>
                  </a:lnTo>
                  <a:lnTo>
                    <a:pt x="51" y="1382"/>
                  </a:lnTo>
                  <a:lnTo>
                    <a:pt x="35" y="1342"/>
                  </a:lnTo>
                  <a:lnTo>
                    <a:pt x="22" y="1299"/>
                  </a:lnTo>
                  <a:lnTo>
                    <a:pt x="12" y="1253"/>
                  </a:lnTo>
                  <a:lnTo>
                    <a:pt x="5" y="1205"/>
                  </a:lnTo>
                  <a:lnTo>
                    <a:pt x="0" y="1156"/>
                  </a:lnTo>
                  <a:lnTo>
                    <a:pt x="0" y="1104"/>
                  </a:lnTo>
                  <a:lnTo>
                    <a:pt x="3" y="1011"/>
                  </a:lnTo>
                  <a:lnTo>
                    <a:pt x="16" y="918"/>
                  </a:lnTo>
                  <a:lnTo>
                    <a:pt x="38" y="828"/>
                  </a:lnTo>
                  <a:lnTo>
                    <a:pt x="69" y="740"/>
                  </a:lnTo>
                  <a:lnTo>
                    <a:pt x="108" y="654"/>
                  </a:lnTo>
                  <a:lnTo>
                    <a:pt x="156" y="571"/>
                  </a:lnTo>
                  <a:lnTo>
                    <a:pt x="213" y="489"/>
                  </a:lnTo>
                  <a:lnTo>
                    <a:pt x="278" y="410"/>
                  </a:lnTo>
                  <a:lnTo>
                    <a:pt x="325" y="360"/>
                  </a:lnTo>
                  <a:lnTo>
                    <a:pt x="373" y="314"/>
                  </a:lnTo>
                  <a:lnTo>
                    <a:pt x="423" y="270"/>
                  </a:lnTo>
                  <a:lnTo>
                    <a:pt x="476" y="230"/>
                  </a:lnTo>
                  <a:lnTo>
                    <a:pt x="530" y="194"/>
                  </a:lnTo>
                  <a:lnTo>
                    <a:pt x="586" y="161"/>
                  </a:lnTo>
                  <a:lnTo>
                    <a:pt x="644" y="129"/>
                  </a:lnTo>
                  <a:lnTo>
                    <a:pt x="705" y="102"/>
                  </a:lnTo>
                  <a:lnTo>
                    <a:pt x="766" y="78"/>
                  </a:lnTo>
                  <a:lnTo>
                    <a:pt x="830" y="58"/>
                  </a:lnTo>
                  <a:lnTo>
                    <a:pt x="964" y="26"/>
                  </a:lnTo>
                  <a:lnTo>
                    <a:pt x="1105" y="7"/>
                  </a:lnTo>
                  <a:lnTo>
                    <a:pt x="1254" y="0"/>
                  </a:lnTo>
                  <a:lnTo>
                    <a:pt x="1311" y="1"/>
                  </a:lnTo>
                  <a:lnTo>
                    <a:pt x="1365" y="4"/>
                  </a:lnTo>
                  <a:lnTo>
                    <a:pt x="1417" y="10"/>
                  </a:lnTo>
                  <a:lnTo>
                    <a:pt x="1467" y="16"/>
                  </a:lnTo>
                  <a:lnTo>
                    <a:pt x="1514" y="25"/>
                  </a:lnTo>
                  <a:lnTo>
                    <a:pt x="1558" y="37"/>
                  </a:lnTo>
                  <a:lnTo>
                    <a:pt x="1600" y="49"/>
                  </a:lnTo>
                  <a:lnTo>
                    <a:pt x="1640" y="65"/>
                  </a:lnTo>
                  <a:lnTo>
                    <a:pt x="1677" y="82"/>
                  </a:lnTo>
                  <a:lnTo>
                    <a:pt x="1712" y="100"/>
                  </a:lnTo>
                  <a:lnTo>
                    <a:pt x="1745" y="120"/>
                  </a:lnTo>
                  <a:lnTo>
                    <a:pt x="1775" y="142"/>
                  </a:lnTo>
                  <a:lnTo>
                    <a:pt x="1803" y="166"/>
                  </a:lnTo>
                  <a:lnTo>
                    <a:pt x="1828" y="191"/>
                  </a:lnTo>
                  <a:lnTo>
                    <a:pt x="1851" y="217"/>
                  </a:lnTo>
                  <a:lnTo>
                    <a:pt x="1872" y="245"/>
                  </a:lnTo>
                  <a:lnTo>
                    <a:pt x="1890" y="274"/>
                  </a:lnTo>
                  <a:lnTo>
                    <a:pt x="1906" y="304"/>
                  </a:lnTo>
                  <a:lnTo>
                    <a:pt x="1920" y="335"/>
                  </a:lnTo>
                  <a:lnTo>
                    <a:pt x="1931" y="366"/>
                  </a:lnTo>
                  <a:lnTo>
                    <a:pt x="1939" y="397"/>
                  </a:lnTo>
                  <a:lnTo>
                    <a:pt x="1945" y="429"/>
                  </a:lnTo>
                  <a:lnTo>
                    <a:pt x="1949" y="462"/>
                  </a:lnTo>
                  <a:lnTo>
                    <a:pt x="1950" y="495"/>
                  </a:lnTo>
                  <a:lnTo>
                    <a:pt x="1948" y="537"/>
                  </a:lnTo>
                  <a:lnTo>
                    <a:pt x="1943" y="579"/>
                  </a:lnTo>
                  <a:lnTo>
                    <a:pt x="1935" y="621"/>
                  </a:lnTo>
                  <a:lnTo>
                    <a:pt x="1923" y="663"/>
                  </a:lnTo>
                  <a:lnTo>
                    <a:pt x="1908" y="703"/>
                  </a:lnTo>
                  <a:lnTo>
                    <a:pt x="1890" y="745"/>
                  </a:lnTo>
                  <a:lnTo>
                    <a:pt x="1868" y="786"/>
                  </a:lnTo>
                  <a:lnTo>
                    <a:pt x="1843" y="826"/>
                  </a:lnTo>
                  <a:lnTo>
                    <a:pt x="1815" y="866"/>
                  </a:lnTo>
                  <a:lnTo>
                    <a:pt x="1783" y="903"/>
                  </a:lnTo>
                  <a:lnTo>
                    <a:pt x="1749" y="938"/>
                  </a:lnTo>
                  <a:lnTo>
                    <a:pt x="1711" y="972"/>
                  </a:lnTo>
                  <a:lnTo>
                    <a:pt x="1671" y="1003"/>
                  </a:lnTo>
                  <a:lnTo>
                    <a:pt x="1627" y="1032"/>
                  </a:lnTo>
                  <a:lnTo>
                    <a:pt x="1581" y="1060"/>
                  </a:lnTo>
                  <a:lnTo>
                    <a:pt x="1531" y="1086"/>
                  </a:lnTo>
                  <a:lnTo>
                    <a:pt x="1479" y="1108"/>
                  </a:lnTo>
                  <a:lnTo>
                    <a:pt x="1425" y="1128"/>
                  </a:lnTo>
                  <a:lnTo>
                    <a:pt x="1371" y="1145"/>
                  </a:lnTo>
                  <a:lnTo>
                    <a:pt x="1315" y="1158"/>
                  </a:lnTo>
                  <a:lnTo>
                    <a:pt x="1258" y="1169"/>
                  </a:lnTo>
                  <a:lnTo>
                    <a:pt x="1199" y="1176"/>
                  </a:lnTo>
                  <a:lnTo>
                    <a:pt x="1139" y="1181"/>
                  </a:lnTo>
                  <a:lnTo>
                    <a:pt x="1077" y="1182"/>
                  </a:lnTo>
                  <a:lnTo>
                    <a:pt x="1056" y="1182"/>
                  </a:lnTo>
                  <a:lnTo>
                    <a:pt x="1034" y="1181"/>
                  </a:lnTo>
                  <a:lnTo>
                    <a:pt x="1010" y="1179"/>
                  </a:lnTo>
                  <a:lnTo>
                    <a:pt x="985" y="1177"/>
                  </a:lnTo>
                  <a:lnTo>
                    <a:pt x="867" y="1627"/>
                  </a:lnTo>
                  <a:lnTo>
                    <a:pt x="851" y="1703"/>
                  </a:lnTo>
                  <a:lnTo>
                    <a:pt x="834" y="1771"/>
                  </a:lnTo>
                  <a:lnTo>
                    <a:pt x="817" y="1829"/>
                  </a:lnTo>
                  <a:lnTo>
                    <a:pt x="799" y="1879"/>
                  </a:lnTo>
                  <a:lnTo>
                    <a:pt x="844" y="1889"/>
                  </a:lnTo>
                  <a:lnTo>
                    <a:pt x="889" y="1896"/>
                  </a:lnTo>
                  <a:lnTo>
                    <a:pt x="933" y="1900"/>
                  </a:lnTo>
                  <a:lnTo>
                    <a:pt x="977" y="1901"/>
                  </a:lnTo>
                  <a:lnTo>
                    <a:pt x="1005" y="1900"/>
                  </a:lnTo>
                  <a:lnTo>
                    <a:pt x="1035" y="1898"/>
                  </a:lnTo>
                  <a:lnTo>
                    <a:pt x="1067" y="1895"/>
                  </a:lnTo>
                  <a:lnTo>
                    <a:pt x="1101" y="1890"/>
                  </a:lnTo>
                  <a:lnTo>
                    <a:pt x="1174" y="1875"/>
                  </a:lnTo>
                  <a:lnTo>
                    <a:pt x="1254" y="1854"/>
                  </a:lnTo>
                  <a:lnTo>
                    <a:pt x="1230" y="2004"/>
                  </a:lnTo>
                  <a:lnTo>
                    <a:pt x="1161" y="2023"/>
                  </a:lnTo>
                  <a:lnTo>
                    <a:pt x="1100" y="2035"/>
                  </a:lnTo>
                  <a:lnTo>
                    <a:pt x="1071" y="2040"/>
                  </a:lnTo>
                  <a:lnTo>
                    <a:pt x="1045" y="2044"/>
                  </a:lnTo>
                  <a:lnTo>
                    <a:pt x="1020" y="2045"/>
                  </a:lnTo>
                  <a:lnTo>
                    <a:pt x="997" y="2046"/>
                  </a:lnTo>
                  <a:lnTo>
                    <a:pt x="950" y="2045"/>
                  </a:lnTo>
                  <a:lnTo>
                    <a:pt x="893" y="2042"/>
                  </a:lnTo>
                  <a:lnTo>
                    <a:pt x="753" y="2027"/>
                  </a:lnTo>
                  <a:lnTo>
                    <a:pt x="695" y="2020"/>
                  </a:lnTo>
                  <a:lnTo>
                    <a:pt x="644" y="2016"/>
                  </a:lnTo>
                  <a:lnTo>
                    <a:pt x="598" y="2013"/>
                  </a:lnTo>
                  <a:lnTo>
                    <a:pt x="558" y="2012"/>
                  </a:lnTo>
                  <a:lnTo>
                    <a:pt x="482" y="2014"/>
                  </a:lnTo>
                  <a:lnTo>
                    <a:pt x="400" y="2021"/>
                  </a:lnTo>
                  <a:lnTo>
                    <a:pt x="312" y="2033"/>
                  </a:lnTo>
                  <a:lnTo>
                    <a:pt x="218" y="2050"/>
                  </a:lnTo>
                  <a:lnTo>
                    <a:pt x="241" y="1901"/>
                  </a:lnTo>
                  <a:lnTo>
                    <a:pt x="324" y="1884"/>
                  </a:lnTo>
                  <a:lnTo>
                    <a:pt x="363" y="1875"/>
                  </a:lnTo>
                  <a:lnTo>
                    <a:pt x="399" y="1866"/>
                  </a:lnTo>
                  <a:lnTo>
                    <a:pt x="433" y="1854"/>
                  </a:lnTo>
                  <a:lnTo>
                    <a:pt x="465" y="1843"/>
                  </a:lnTo>
                  <a:lnTo>
                    <a:pt x="494" y="1830"/>
                  </a:lnTo>
                  <a:lnTo>
                    <a:pt x="522" y="1818"/>
                  </a:lnTo>
                  <a:lnTo>
                    <a:pt x="528" y="1801"/>
                  </a:lnTo>
                  <a:lnTo>
                    <a:pt x="535" y="1779"/>
                  </a:lnTo>
                  <a:lnTo>
                    <a:pt x="551" y="1721"/>
                  </a:lnTo>
                  <a:lnTo>
                    <a:pt x="594" y="1549"/>
                  </a:lnTo>
                  <a:lnTo>
                    <a:pt x="831" y="569"/>
                  </a:lnTo>
                  <a:lnTo>
                    <a:pt x="836" y="542"/>
                  </a:lnTo>
                  <a:lnTo>
                    <a:pt x="841" y="520"/>
                  </a:lnTo>
                  <a:lnTo>
                    <a:pt x="843" y="502"/>
                  </a:lnTo>
                  <a:lnTo>
                    <a:pt x="844" y="495"/>
                  </a:lnTo>
                  <a:lnTo>
                    <a:pt x="844" y="489"/>
                  </a:lnTo>
                  <a:lnTo>
                    <a:pt x="844" y="488"/>
                  </a:lnTo>
                  <a:lnTo>
                    <a:pt x="844" y="486"/>
                  </a:lnTo>
                  <a:lnTo>
                    <a:pt x="844" y="485"/>
                  </a:lnTo>
                  <a:lnTo>
                    <a:pt x="843" y="483"/>
                  </a:lnTo>
                  <a:lnTo>
                    <a:pt x="843" y="481"/>
                  </a:lnTo>
                  <a:lnTo>
                    <a:pt x="842" y="479"/>
                  </a:lnTo>
                  <a:lnTo>
                    <a:pt x="842" y="478"/>
                  </a:lnTo>
                  <a:lnTo>
                    <a:pt x="841" y="477"/>
                  </a:lnTo>
                  <a:lnTo>
                    <a:pt x="840" y="474"/>
                  </a:lnTo>
                  <a:lnTo>
                    <a:pt x="838" y="471"/>
                  </a:lnTo>
                  <a:lnTo>
                    <a:pt x="835" y="469"/>
                  </a:lnTo>
                  <a:lnTo>
                    <a:pt x="833" y="466"/>
                  </a:lnTo>
                  <a:lnTo>
                    <a:pt x="830" y="464"/>
                  </a:lnTo>
                  <a:lnTo>
                    <a:pt x="827" y="461"/>
                  </a:lnTo>
                  <a:lnTo>
                    <a:pt x="824" y="459"/>
                  </a:lnTo>
                  <a:lnTo>
                    <a:pt x="821" y="458"/>
                  </a:lnTo>
                  <a:lnTo>
                    <a:pt x="819" y="456"/>
                  </a:lnTo>
                  <a:lnTo>
                    <a:pt x="818" y="456"/>
                  </a:lnTo>
                  <a:lnTo>
                    <a:pt x="816" y="455"/>
                  </a:lnTo>
                  <a:lnTo>
                    <a:pt x="814" y="455"/>
                  </a:lnTo>
                  <a:lnTo>
                    <a:pt x="813" y="454"/>
                  </a:lnTo>
                  <a:lnTo>
                    <a:pt x="811" y="454"/>
                  </a:lnTo>
                  <a:lnTo>
                    <a:pt x="809" y="454"/>
                  </a:lnTo>
                  <a:lnTo>
                    <a:pt x="807" y="454"/>
                  </a:lnTo>
                  <a:lnTo>
                    <a:pt x="801" y="454"/>
                  </a:lnTo>
                  <a:lnTo>
                    <a:pt x="788" y="455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93960" y="853920"/>
              <a:ext cx="480960" cy="551160"/>
            </a:xfrm>
            <a:custGeom>
              <a:avLst/>
              <a:gdLst/>
              <a:ahLst/>
              <a:rect l="l" t="t" r="r" b="b"/>
              <a:pathLst>
                <a:path w="1336" h="1528">
                  <a:moveTo>
                    <a:pt x="1108" y="28"/>
                  </a:moveTo>
                  <a:lnTo>
                    <a:pt x="1264" y="0"/>
                  </a:lnTo>
                  <a:lnTo>
                    <a:pt x="1146" y="454"/>
                  </a:lnTo>
                  <a:lnTo>
                    <a:pt x="1111" y="582"/>
                  </a:lnTo>
                  <a:lnTo>
                    <a:pt x="1078" y="718"/>
                  </a:lnTo>
                  <a:lnTo>
                    <a:pt x="1045" y="863"/>
                  </a:lnTo>
                  <a:lnTo>
                    <a:pt x="1014" y="1016"/>
                  </a:lnTo>
                  <a:lnTo>
                    <a:pt x="1000" y="1092"/>
                  </a:lnTo>
                  <a:lnTo>
                    <a:pt x="989" y="1154"/>
                  </a:lnTo>
                  <a:lnTo>
                    <a:pt x="983" y="1200"/>
                  </a:lnTo>
                  <a:lnTo>
                    <a:pt x="982" y="1219"/>
                  </a:lnTo>
                  <a:lnTo>
                    <a:pt x="981" y="1233"/>
                  </a:lnTo>
                  <a:lnTo>
                    <a:pt x="981" y="1237"/>
                  </a:lnTo>
                  <a:lnTo>
                    <a:pt x="981" y="1240"/>
                  </a:lnTo>
                  <a:lnTo>
                    <a:pt x="982" y="1243"/>
                  </a:lnTo>
                  <a:lnTo>
                    <a:pt x="982" y="1244"/>
                  </a:lnTo>
                  <a:lnTo>
                    <a:pt x="983" y="1246"/>
                  </a:lnTo>
                  <a:lnTo>
                    <a:pt x="983" y="1247"/>
                  </a:lnTo>
                  <a:lnTo>
                    <a:pt x="983" y="1248"/>
                  </a:lnTo>
                  <a:lnTo>
                    <a:pt x="984" y="1248"/>
                  </a:lnTo>
                  <a:lnTo>
                    <a:pt x="984" y="1249"/>
                  </a:lnTo>
                  <a:lnTo>
                    <a:pt x="985" y="1249"/>
                  </a:lnTo>
                  <a:lnTo>
                    <a:pt x="985" y="1249"/>
                  </a:lnTo>
                  <a:lnTo>
                    <a:pt x="985" y="1250"/>
                  </a:lnTo>
                  <a:lnTo>
                    <a:pt x="986" y="1250"/>
                  </a:lnTo>
                  <a:lnTo>
                    <a:pt x="986" y="1250"/>
                  </a:lnTo>
                  <a:lnTo>
                    <a:pt x="986" y="1250"/>
                  </a:lnTo>
                  <a:lnTo>
                    <a:pt x="987" y="1250"/>
                  </a:lnTo>
                  <a:lnTo>
                    <a:pt x="987" y="1250"/>
                  </a:lnTo>
                  <a:lnTo>
                    <a:pt x="989" y="1250"/>
                  </a:lnTo>
                  <a:lnTo>
                    <a:pt x="992" y="1250"/>
                  </a:lnTo>
                  <a:lnTo>
                    <a:pt x="994" y="1249"/>
                  </a:lnTo>
                  <a:lnTo>
                    <a:pt x="997" y="1248"/>
                  </a:lnTo>
                  <a:lnTo>
                    <a:pt x="1004" y="1246"/>
                  </a:lnTo>
                  <a:lnTo>
                    <a:pt x="1011" y="1243"/>
                  </a:lnTo>
                  <a:lnTo>
                    <a:pt x="1019" y="1239"/>
                  </a:lnTo>
                  <a:lnTo>
                    <a:pt x="1029" y="1234"/>
                  </a:lnTo>
                  <a:lnTo>
                    <a:pt x="1050" y="1221"/>
                  </a:lnTo>
                  <a:lnTo>
                    <a:pt x="1097" y="1190"/>
                  </a:lnTo>
                  <a:lnTo>
                    <a:pt x="1147" y="1153"/>
                  </a:lnTo>
                  <a:lnTo>
                    <a:pt x="1199" y="1113"/>
                  </a:lnTo>
                  <a:lnTo>
                    <a:pt x="1255" y="1066"/>
                  </a:lnTo>
                  <a:lnTo>
                    <a:pt x="1335" y="1166"/>
                  </a:lnTo>
                  <a:lnTo>
                    <a:pt x="1180" y="1318"/>
                  </a:lnTo>
                  <a:lnTo>
                    <a:pt x="1128" y="1365"/>
                  </a:lnTo>
                  <a:lnTo>
                    <a:pt x="1109" y="1382"/>
                  </a:lnTo>
                  <a:lnTo>
                    <a:pt x="1093" y="1394"/>
                  </a:lnTo>
                  <a:lnTo>
                    <a:pt x="1042" y="1428"/>
                  </a:lnTo>
                  <a:lnTo>
                    <a:pt x="992" y="1459"/>
                  </a:lnTo>
                  <a:lnTo>
                    <a:pt x="968" y="1471"/>
                  </a:lnTo>
                  <a:lnTo>
                    <a:pt x="944" y="1484"/>
                  </a:lnTo>
                  <a:lnTo>
                    <a:pt x="920" y="1494"/>
                  </a:lnTo>
                  <a:lnTo>
                    <a:pt x="896" y="1503"/>
                  </a:lnTo>
                  <a:lnTo>
                    <a:pt x="880" y="1510"/>
                  </a:lnTo>
                  <a:lnTo>
                    <a:pt x="865" y="1514"/>
                  </a:lnTo>
                  <a:lnTo>
                    <a:pt x="849" y="1518"/>
                  </a:lnTo>
                  <a:lnTo>
                    <a:pt x="833" y="1522"/>
                  </a:lnTo>
                  <a:lnTo>
                    <a:pt x="817" y="1524"/>
                  </a:lnTo>
                  <a:lnTo>
                    <a:pt x="802" y="1526"/>
                  </a:lnTo>
                  <a:lnTo>
                    <a:pt x="786" y="1527"/>
                  </a:lnTo>
                  <a:lnTo>
                    <a:pt x="770" y="1527"/>
                  </a:lnTo>
                  <a:lnTo>
                    <a:pt x="757" y="1527"/>
                  </a:lnTo>
                  <a:lnTo>
                    <a:pt x="745" y="1525"/>
                  </a:lnTo>
                  <a:lnTo>
                    <a:pt x="733" y="1523"/>
                  </a:lnTo>
                  <a:lnTo>
                    <a:pt x="722" y="1520"/>
                  </a:lnTo>
                  <a:lnTo>
                    <a:pt x="712" y="1516"/>
                  </a:lnTo>
                  <a:lnTo>
                    <a:pt x="707" y="1514"/>
                  </a:lnTo>
                  <a:lnTo>
                    <a:pt x="703" y="1512"/>
                  </a:lnTo>
                  <a:lnTo>
                    <a:pt x="699" y="1509"/>
                  </a:lnTo>
                  <a:lnTo>
                    <a:pt x="695" y="1505"/>
                  </a:lnTo>
                  <a:lnTo>
                    <a:pt x="691" y="1502"/>
                  </a:lnTo>
                  <a:lnTo>
                    <a:pt x="687" y="1499"/>
                  </a:lnTo>
                  <a:lnTo>
                    <a:pt x="683" y="1496"/>
                  </a:lnTo>
                  <a:lnTo>
                    <a:pt x="680" y="1492"/>
                  </a:lnTo>
                  <a:lnTo>
                    <a:pt x="677" y="1488"/>
                  </a:lnTo>
                  <a:lnTo>
                    <a:pt x="674" y="1484"/>
                  </a:lnTo>
                  <a:lnTo>
                    <a:pt x="671" y="1479"/>
                  </a:lnTo>
                  <a:lnTo>
                    <a:pt x="669" y="1474"/>
                  </a:lnTo>
                  <a:lnTo>
                    <a:pt x="666" y="1470"/>
                  </a:lnTo>
                  <a:lnTo>
                    <a:pt x="665" y="1465"/>
                  </a:lnTo>
                  <a:lnTo>
                    <a:pt x="663" y="1460"/>
                  </a:lnTo>
                  <a:lnTo>
                    <a:pt x="661" y="1454"/>
                  </a:lnTo>
                  <a:lnTo>
                    <a:pt x="659" y="1443"/>
                  </a:lnTo>
                  <a:lnTo>
                    <a:pt x="657" y="1432"/>
                  </a:lnTo>
                  <a:lnTo>
                    <a:pt x="657" y="1419"/>
                  </a:lnTo>
                  <a:lnTo>
                    <a:pt x="657" y="1411"/>
                  </a:lnTo>
                  <a:lnTo>
                    <a:pt x="658" y="1402"/>
                  </a:lnTo>
                  <a:lnTo>
                    <a:pt x="659" y="1394"/>
                  </a:lnTo>
                  <a:lnTo>
                    <a:pt x="661" y="1385"/>
                  </a:lnTo>
                  <a:lnTo>
                    <a:pt x="665" y="1365"/>
                  </a:lnTo>
                  <a:lnTo>
                    <a:pt x="671" y="1343"/>
                  </a:lnTo>
                  <a:lnTo>
                    <a:pt x="732" y="1165"/>
                  </a:lnTo>
                  <a:lnTo>
                    <a:pt x="711" y="1203"/>
                  </a:lnTo>
                  <a:lnTo>
                    <a:pt x="686" y="1240"/>
                  </a:lnTo>
                  <a:lnTo>
                    <a:pt x="659" y="1275"/>
                  </a:lnTo>
                  <a:lnTo>
                    <a:pt x="629" y="1309"/>
                  </a:lnTo>
                  <a:lnTo>
                    <a:pt x="596" y="1340"/>
                  </a:lnTo>
                  <a:lnTo>
                    <a:pt x="560" y="1369"/>
                  </a:lnTo>
                  <a:lnTo>
                    <a:pt x="520" y="1396"/>
                  </a:lnTo>
                  <a:lnTo>
                    <a:pt x="478" y="1421"/>
                  </a:lnTo>
                  <a:lnTo>
                    <a:pt x="444" y="1446"/>
                  </a:lnTo>
                  <a:lnTo>
                    <a:pt x="412" y="1467"/>
                  </a:lnTo>
                  <a:lnTo>
                    <a:pt x="380" y="1485"/>
                  </a:lnTo>
                  <a:lnTo>
                    <a:pt x="349" y="1500"/>
                  </a:lnTo>
                  <a:lnTo>
                    <a:pt x="319" y="1512"/>
                  </a:lnTo>
                  <a:lnTo>
                    <a:pt x="291" y="1520"/>
                  </a:lnTo>
                  <a:lnTo>
                    <a:pt x="277" y="1522"/>
                  </a:lnTo>
                  <a:lnTo>
                    <a:pt x="263" y="1524"/>
                  </a:lnTo>
                  <a:lnTo>
                    <a:pt x="249" y="1526"/>
                  </a:lnTo>
                  <a:lnTo>
                    <a:pt x="236" y="1526"/>
                  </a:lnTo>
                  <a:lnTo>
                    <a:pt x="223" y="1525"/>
                  </a:lnTo>
                  <a:lnTo>
                    <a:pt x="210" y="1524"/>
                  </a:lnTo>
                  <a:lnTo>
                    <a:pt x="198" y="1521"/>
                  </a:lnTo>
                  <a:lnTo>
                    <a:pt x="185" y="1518"/>
                  </a:lnTo>
                  <a:lnTo>
                    <a:pt x="174" y="1513"/>
                  </a:lnTo>
                  <a:lnTo>
                    <a:pt x="162" y="1508"/>
                  </a:lnTo>
                  <a:lnTo>
                    <a:pt x="151" y="1500"/>
                  </a:lnTo>
                  <a:lnTo>
                    <a:pt x="140" y="1493"/>
                  </a:lnTo>
                  <a:lnTo>
                    <a:pt x="129" y="1485"/>
                  </a:lnTo>
                  <a:lnTo>
                    <a:pt x="119" y="1474"/>
                  </a:lnTo>
                  <a:lnTo>
                    <a:pt x="109" y="1464"/>
                  </a:lnTo>
                  <a:lnTo>
                    <a:pt x="100" y="1451"/>
                  </a:lnTo>
                  <a:lnTo>
                    <a:pt x="91" y="1439"/>
                  </a:lnTo>
                  <a:lnTo>
                    <a:pt x="82" y="1425"/>
                  </a:lnTo>
                  <a:lnTo>
                    <a:pt x="65" y="1394"/>
                  </a:lnTo>
                  <a:lnTo>
                    <a:pt x="57" y="1388"/>
                  </a:lnTo>
                  <a:lnTo>
                    <a:pt x="50" y="1381"/>
                  </a:lnTo>
                  <a:lnTo>
                    <a:pt x="43" y="1373"/>
                  </a:lnTo>
                  <a:lnTo>
                    <a:pt x="37" y="1365"/>
                  </a:lnTo>
                  <a:lnTo>
                    <a:pt x="31" y="1356"/>
                  </a:lnTo>
                  <a:lnTo>
                    <a:pt x="26" y="1345"/>
                  </a:lnTo>
                  <a:lnTo>
                    <a:pt x="21" y="1334"/>
                  </a:lnTo>
                  <a:lnTo>
                    <a:pt x="16" y="1321"/>
                  </a:lnTo>
                  <a:lnTo>
                    <a:pt x="13" y="1309"/>
                  </a:lnTo>
                  <a:lnTo>
                    <a:pt x="9" y="1294"/>
                  </a:lnTo>
                  <a:lnTo>
                    <a:pt x="4" y="1264"/>
                  </a:lnTo>
                  <a:lnTo>
                    <a:pt x="1" y="1231"/>
                  </a:lnTo>
                  <a:lnTo>
                    <a:pt x="0" y="1193"/>
                  </a:lnTo>
                  <a:lnTo>
                    <a:pt x="1" y="1148"/>
                  </a:lnTo>
                  <a:lnTo>
                    <a:pt x="6" y="1101"/>
                  </a:lnTo>
                  <a:lnTo>
                    <a:pt x="13" y="1053"/>
                  </a:lnTo>
                  <a:lnTo>
                    <a:pt x="23" y="1006"/>
                  </a:lnTo>
                  <a:lnTo>
                    <a:pt x="35" y="956"/>
                  </a:lnTo>
                  <a:lnTo>
                    <a:pt x="51" y="903"/>
                  </a:lnTo>
                  <a:lnTo>
                    <a:pt x="69" y="851"/>
                  </a:lnTo>
                  <a:lnTo>
                    <a:pt x="90" y="798"/>
                  </a:lnTo>
                  <a:lnTo>
                    <a:pt x="113" y="745"/>
                  </a:lnTo>
                  <a:lnTo>
                    <a:pt x="139" y="693"/>
                  </a:lnTo>
                  <a:lnTo>
                    <a:pt x="166" y="642"/>
                  </a:lnTo>
                  <a:lnTo>
                    <a:pt x="196" y="592"/>
                  </a:lnTo>
                  <a:lnTo>
                    <a:pt x="227" y="544"/>
                  </a:lnTo>
                  <a:lnTo>
                    <a:pt x="260" y="496"/>
                  </a:lnTo>
                  <a:lnTo>
                    <a:pt x="295" y="450"/>
                  </a:lnTo>
                  <a:lnTo>
                    <a:pt x="332" y="406"/>
                  </a:lnTo>
                  <a:lnTo>
                    <a:pt x="370" y="363"/>
                  </a:lnTo>
                  <a:lnTo>
                    <a:pt x="409" y="323"/>
                  </a:lnTo>
                  <a:lnTo>
                    <a:pt x="449" y="286"/>
                  </a:lnTo>
                  <a:lnTo>
                    <a:pt x="489" y="252"/>
                  </a:lnTo>
                  <a:lnTo>
                    <a:pt x="529" y="221"/>
                  </a:lnTo>
                  <a:lnTo>
                    <a:pt x="570" y="193"/>
                  </a:lnTo>
                  <a:lnTo>
                    <a:pt x="611" y="168"/>
                  </a:lnTo>
                  <a:lnTo>
                    <a:pt x="653" y="145"/>
                  </a:lnTo>
                  <a:lnTo>
                    <a:pt x="687" y="131"/>
                  </a:lnTo>
                  <a:lnTo>
                    <a:pt x="724" y="117"/>
                  </a:lnTo>
                  <a:lnTo>
                    <a:pt x="763" y="106"/>
                  </a:lnTo>
                  <a:lnTo>
                    <a:pt x="804" y="97"/>
                  </a:lnTo>
                  <a:lnTo>
                    <a:pt x="848" y="90"/>
                  </a:lnTo>
                  <a:lnTo>
                    <a:pt x="893" y="85"/>
                  </a:lnTo>
                  <a:lnTo>
                    <a:pt x="941" y="82"/>
                  </a:lnTo>
                  <a:lnTo>
                    <a:pt x="990" y="81"/>
                  </a:lnTo>
                  <a:lnTo>
                    <a:pt x="1014" y="81"/>
                  </a:lnTo>
                  <a:lnTo>
                    <a:pt x="1036" y="83"/>
                  </a:lnTo>
                  <a:lnTo>
                    <a:pt x="1056" y="84"/>
                  </a:lnTo>
                  <a:lnTo>
                    <a:pt x="1075" y="87"/>
                  </a:lnTo>
                  <a:close/>
                  <a:moveTo>
                    <a:pt x="905" y="331"/>
                  </a:moveTo>
                  <a:lnTo>
                    <a:pt x="877" y="325"/>
                  </a:lnTo>
                  <a:lnTo>
                    <a:pt x="849" y="322"/>
                  </a:lnTo>
                  <a:lnTo>
                    <a:pt x="822" y="321"/>
                  </a:lnTo>
                  <a:lnTo>
                    <a:pt x="795" y="320"/>
                  </a:lnTo>
                  <a:lnTo>
                    <a:pt x="763" y="321"/>
                  </a:lnTo>
                  <a:lnTo>
                    <a:pt x="733" y="324"/>
                  </a:lnTo>
                  <a:lnTo>
                    <a:pt x="703" y="331"/>
                  </a:lnTo>
                  <a:lnTo>
                    <a:pt x="674" y="339"/>
                  </a:lnTo>
                  <a:lnTo>
                    <a:pt x="647" y="349"/>
                  </a:lnTo>
                  <a:lnTo>
                    <a:pt x="620" y="362"/>
                  </a:lnTo>
                  <a:lnTo>
                    <a:pt x="595" y="376"/>
                  </a:lnTo>
                  <a:lnTo>
                    <a:pt x="570" y="394"/>
                  </a:lnTo>
                  <a:lnTo>
                    <a:pt x="546" y="415"/>
                  </a:lnTo>
                  <a:lnTo>
                    <a:pt x="522" y="440"/>
                  </a:lnTo>
                  <a:lnTo>
                    <a:pt x="499" y="468"/>
                  </a:lnTo>
                  <a:lnTo>
                    <a:pt x="476" y="500"/>
                  </a:lnTo>
                  <a:lnTo>
                    <a:pt x="453" y="537"/>
                  </a:lnTo>
                  <a:lnTo>
                    <a:pt x="431" y="577"/>
                  </a:lnTo>
                  <a:lnTo>
                    <a:pt x="409" y="622"/>
                  </a:lnTo>
                  <a:lnTo>
                    <a:pt x="387" y="670"/>
                  </a:lnTo>
                  <a:lnTo>
                    <a:pt x="367" y="720"/>
                  </a:lnTo>
                  <a:lnTo>
                    <a:pt x="349" y="771"/>
                  </a:lnTo>
                  <a:lnTo>
                    <a:pt x="334" y="821"/>
                  </a:lnTo>
                  <a:lnTo>
                    <a:pt x="322" y="871"/>
                  </a:lnTo>
                  <a:lnTo>
                    <a:pt x="312" y="921"/>
                  </a:lnTo>
                  <a:lnTo>
                    <a:pt x="305" y="971"/>
                  </a:lnTo>
                  <a:lnTo>
                    <a:pt x="301" y="1022"/>
                  </a:lnTo>
                  <a:lnTo>
                    <a:pt x="300" y="1072"/>
                  </a:lnTo>
                  <a:lnTo>
                    <a:pt x="300" y="1096"/>
                  </a:lnTo>
                  <a:lnTo>
                    <a:pt x="302" y="1118"/>
                  </a:lnTo>
                  <a:lnTo>
                    <a:pt x="304" y="1139"/>
                  </a:lnTo>
                  <a:lnTo>
                    <a:pt x="307" y="1157"/>
                  </a:lnTo>
                  <a:lnTo>
                    <a:pt x="311" y="1173"/>
                  </a:lnTo>
                  <a:lnTo>
                    <a:pt x="315" y="1187"/>
                  </a:lnTo>
                  <a:lnTo>
                    <a:pt x="318" y="1193"/>
                  </a:lnTo>
                  <a:lnTo>
                    <a:pt x="321" y="1199"/>
                  </a:lnTo>
                  <a:lnTo>
                    <a:pt x="324" y="1204"/>
                  </a:lnTo>
                  <a:lnTo>
                    <a:pt x="327" y="1210"/>
                  </a:lnTo>
                  <a:lnTo>
                    <a:pt x="334" y="1218"/>
                  </a:lnTo>
                  <a:lnTo>
                    <a:pt x="338" y="1222"/>
                  </a:lnTo>
                  <a:lnTo>
                    <a:pt x="342" y="1226"/>
                  </a:lnTo>
                  <a:lnTo>
                    <a:pt x="346" y="1229"/>
                  </a:lnTo>
                  <a:lnTo>
                    <a:pt x="350" y="1233"/>
                  </a:lnTo>
                  <a:lnTo>
                    <a:pt x="354" y="1235"/>
                  </a:lnTo>
                  <a:lnTo>
                    <a:pt x="359" y="1238"/>
                  </a:lnTo>
                  <a:lnTo>
                    <a:pt x="363" y="1240"/>
                  </a:lnTo>
                  <a:lnTo>
                    <a:pt x="367" y="1241"/>
                  </a:lnTo>
                  <a:lnTo>
                    <a:pt x="372" y="1243"/>
                  </a:lnTo>
                  <a:lnTo>
                    <a:pt x="377" y="1244"/>
                  </a:lnTo>
                  <a:lnTo>
                    <a:pt x="381" y="1245"/>
                  </a:lnTo>
                  <a:lnTo>
                    <a:pt x="386" y="1245"/>
                  </a:lnTo>
                  <a:lnTo>
                    <a:pt x="391" y="1246"/>
                  </a:lnTo>
                  <a:lnTo>
                    <a:pt x="396" y="1246"/>
                  </a:lnTo>
                  <a:lnTo>
                    <a:pt x="408" y="1246"/>
                  </a:lnTo>
                  <a:lnTo>
                    <a:pt x="420" y="1244"/>
                  </a:lnTo>
                  <a:lnTo>
                    <a:pt x="433" y="1242"/>
                  </a:lnTo>
                  <a:lnTo>
                    <a:pt x="445" y="1239"/>
                  </a:lnTo>
                  <a:lnTo>
                    <a:pt x="458" y="1235"/>
                  </a:lnTo>
                  <a:lnTo>
                    <a:pt x="471" y="1231"/>
                  </a:lnTo>
                  <a:lnTo>
                    <a:pt x="497" y="1218"/>
                  </a:lnTo>
                  <a:lnTo>
                    <a:pt x="523" y="1202"/>
                  </a:lnTo>
                  <a:lnTo>
                    <a:pt x="550" y="1183"/>
                  </a:lnTo>
                  <a:lnTo>
                    <a:pt x="578" y="1160"/>
                  </a:lnTo>
                  <a:lnTo>
                    <a:pt x="606" y="1134"/>
                  </a:lnTo>
                  <a:lnTo>
                    <a:pt x="634" y="1103"/>
                  </a:lnTo>
                  <a:lnTo>
                    <a:pt x="660" y="1071"/>
                  </a:lnTo>
                  <a:lnTo>
                    <a:pt x="684" y="1035"/>
                  </a:lnTo>
                  <a:lnTo>
                    <a:pt x="707" y="995"/>
                  </a:lnTo>
                  <a:lnTo>
                    <a:pt x="727" y="951"/>
                  </a:lnTo>
                  <a:lnTo>
                    <a:pt x="746" y="906"/>
                  </a:lnTo>
                  <a:lnTo>
                    <a:pt x="762" y="856"/>
                  </a:lnTo>
                  <a:lnTo>
                    <a:pt x="777" y="8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97240" y="539640"/>
              <a:ext cx="430200" cy="863640"/>
            </a:xfrm>
            <a:custGeom>
              <a:avLst/>
              <a:gdLst/>
              <a:ahLst/>
              <a:rect l="l" t="t" r="r" b="b"/>
              <a:pathLst>
                <a:path w="1196" h="2399">
                  <a:moveTo>
                    <a:pt x="183" y="102"/>
                  </a:moveTo>
                  <a:lnTo>
                    <a:pt x="234" y="0"/>
                  </a:lnTo>
                  <a:lnTo>
                    <a:pt x="351" y="13"/>
                  </a:lnTo>
                  <a:lnTo>
                    <a:pt x="460" y="34"/>
                  </a:lnTo>
                  <a:lnTo>
                    <a:pt x="561" y="63"/>
                  </a:lnTo>
                  <a:lnTo>
                    <a:pt x="655" y="99"/>
                  </a:lnTo>
                  <a:lnTo>
                    <a:pt x="742" y="144"/>
                  </a:lnTo>
                  <a:lnTo>
                    <a:pt x="821" y="195"/>
                  </a:lnTo>
                  <a:lnTo>
                    <a:pt x="892" y="256"/>
                  </a:lnTo>
                  <a:lnTo>
                    <a:pt x="955" y="323"/>
                  </a:lnTo>
                  <a:lnTo>
                    <a:pt x="1011" y="398"/>
                  </a:lnTo>
                  <a:lnTo>
                    <a:pt x="1060" y="481"/>
                  </a:lnTo>
                  <a:lnTo>
                    <a:pt x="1101" y="571"/>
                  </a:lnTo>
                  <a:lnTo>
                    <a:pt x="1135" y="670"/>
                  </a:lnTo>
                  <a:lnTo>
                    <a:pt x="1161" y="777"/>
                  </a:lnTo>
                  <a:lnTo>
                    <a:pt x="1180" y="890"/>
                  </a:lnTo>
                  <a:lnTo>
                    <a:pt x="1191" y="1012"/>
                  </a:lnTo>
                  <a:lnTo>
                    <a:pt x="1195" y="1141"/>
                  </a:lnTo>
                  <a:lnTo>
                    <a:pt x="1191" y="1270"/>
                  </a:lnTo>
                  <a:lnTo>
                    <a:pt x="1181" y="1395"/>
                  </a:lnTo>
                  <a:lnTo>
                    <a:pt x="1163" y="1514"/>
                  </a:lnTo>
                  <a:lnTo>
                    <a:pt x="1139" y="1629"/>
                  </a:lnTo>
                  <a:lnTo>
                    <a:pt x="1107" y="1737"/>
                  </a:lnTo>
                  <a:lnTo>
                    <a:pt x="1068" y="1841"/>
                  </a:lnTo>
                  <a:lnTo>
                    <a:pt x="1021" y="1940"/>
                  </a:lnTo>
                  <a:lnTo>
                    <a:pt x="968" y="2034"/>
                  </a:lnTo>
                  <a:lnTo>
                    <a:pt x="910" y="2119"/>
                  </a:lnTo>
                  <a:lnTo>
                    <a:pt x="879" y="2158"/>
                  </a:lnTo>
                  <a:lnTo>
                    <a:pt x="848" y="2193"/>
                  </a:lnTo>
                  <a:lnTo>
                    <a:pt x="815" y="2226"/>
                  </a:lnTo>
                  <a:lnTo>
                    <a:pt x="782" y="2257"/>
                  </a:lnTo>
                  <a:lnTo>
                    <a:pt x="747" y="2284"/>
                  </a:lnTo>
                  <a:lnTo>
                    <a:pt x="712" y="2308"/>
                  </a:lnTo>
                  <a:lnTo>
                    <a:pt x="675" y="2328"/>
                  </a:lnTo>
                  <a:lnTo>
                    <a:pt x="638" y="2347"/>
                  </a:lnTo>
                  <a:lnTo>
                    <a:pt x="600" y="2363"/>
                  </a:lnTo>
                  <a:lnTo>
                    <a:pt x="561" y="2375"/>
                  </a:lnTo>
                  <a:lnTo>
                    <a:pt x="521" y="2386"/>
                  </a:lnTo>
                  <a:lnTo>
                    <a:pt x="480" y="2393"/>
                  </a:lnTo>
                  <a:lnTo>
                    <a:pt x="439" y="2397"/>
                  </a:lnTo>
                  <a:lnTo>
                    <a:pt x="396" y="2398"/>
                  </a:lnTo>
                  <a:lnTo>
                    <a:pt x="349" y="2396"/>
                  </a:lnTo>
                  <a:lnTo>
                    <a:pt x="306" y="2390"/>
                  </a:lnTo>
                  <a:lnTo>
                    <a:pt x="285" y="2385"/>
                  </a:lnTo>
                  <a:lnTo>
                    <a:pt x="265" y="2379"/>
                  </a:lnTo>
                  <a:lnTo>
                    <a:pt x="245" y="2372"/>
                  </a:lnTo>
                  <a:lnTo>
                    <a:pt x="227" y="2365"/>
                  </a:lnTo>
                  <a:lnTo>
                    <a:pt x="208" y="2356"/>
                  </a:lnTo>
                  <a:lnTo>
                    <a:pt x="191" y="2345"/>
                  </a:lnTo>
                  <a:lnTo>
                    <a:pt x="175" y="2335"/>
                  </a:lnTo>
                  <a:lnTo>
                    <a:pt x="159" y="2322"/>
                  </a:lnTo>
                  <a:lnTo>
                    <a:pt x="143" y="2309"/>
                  </a:lnTo>
                  <a:lnTo>
                    <a:pt x="129" y="2295"/>
                  </a:lnTo>
                  <a:lnTo>
                    <a:pt x="115" y="2280"/>
                  </a:lnTo>
                  <a:lnTo>
                    <a:pt x="102" y="2263"/>
                  </a:lnTo>
                  <a:lnTo>
                    <a:pt x="78" y="2227"/>
                  </a:lnTo>
                  <a:lnTo>
                    <a:pt x="57" y="2191"/>
                  </a:lnTo>
                  <a:lnTo>
                    <a:pt x="40" y="2153"/>
                  </a:lnTo>
                  <a:lnTo>
                    <a:pt x="26" y="2115"/>
                  </a:lnTo>
                  <a:lnTo>
                    <a:pt x="14" y="2074"/>
                  </a:lnTo>
                  <a:lnTo>
                    <a:pt x="6" y="2032"/>
                  </a:lnTo>
                  <a:lnTo>
                    <a:pt x="2" y="1989"/>
                  </a:lnTo>
                  <a:lnTo>
                    <a:pt x="0" y="1944"/>
                  </a:lnTo>
                  <a:lnTo>
                    <a:pt x="4" y="1852"/>
                  </a:lnTo>
                  <a:lnTo>
                    <a:pt x="14" y="1763"/>
                  </a:lnTo>
                  <a:lnTo>
                    <a:pt x="32" y="1674"/>
                  </a:lnTo>
                  <a:lnTo>
                    <a:pt x="56" y="1588"/>
                  </a:lnTo>
                  <a:lnTo>
                    <a:pt x="88" y="1504"/>
                  </a:lnTo>
                  <a:lnTo>
                    <a:pt x="127" y="1420"/>
                  </a:lnTo>
                  <a:lnTo>
                    <a:pt x="172" y="1339"/>
                  </a:lnTo>
                  <a:lnTo>
                    <a:pt x="225" y="1260"/>
                  </a:lnTo>
                  <a:lnTo>
                    <a:pt x="282" y="1186"/>
                  </a:lnTo>
                  <a:lnTo>
                    <a:pt x="340" y="1122"/>
                  </a:lnTo>
                  <a:lnTo>
                    <a:pt x="369" y="1094"/>
                  </a:lnTo>
                  <a:lnTo>
                    <a:pt x="399" y="1068"/>
                  </a:lnTo>
                  <a:lnTo>
                    <a:pt x="429" y="1045"/>
                  </a:lnTo>
                  <a:lnTo>
                    <a:pt x="460" y="1024"/>
                  </a:lnTo>
                  <a:lnTo>
                    <a:pt x="490" y="1007"/>
                  </a:lnTo>
                  <a:lnTo>
                    <a:pt x="521" y="990"/>
                  </a:lnTo>
                  <a:lnTo>
                    <a:pt x="553" y="976"/>
                  </a:lnTo>
                  <a:lnTo>
                    <a:pt x="584" y="966"/>
                  </a:lnTo>
                  <a:lnTo>
                    <a:pt x="616" y="958"/>
                  </a:lnTo>
                  <a:lnTo>
                    <a:pt x="649" y="951"/>
                  </a:lnTo>
                  <a:lnTo>
                    <a:pt x="681" y="947"/>
                  </a:lnTo>
                  <a:lnTo>
                    <a:pt x="714" y="946"/>
                  </a:lnTo>
                  <a:lnTo>
                    <a:pt x="734" y="947"/>
                  </a:lnTo>
                  <a:lnTo>
                    <a:pt x="753" y="948"/>
                  </a:lnTo>
                  <a:lnTo>
                    <a:pt x="771" y="951"/>
                  </a:lnTo>
                  <a:lnTo>
                    <a:pt x="788" y="956"/>
                  </a:lnTo>
                  <a:lnTo>
                    <a:pt x="804" y="961"/>
                  </a:lnTo>
                  <a:lnTo>
                    <a:pt x="820" y="967"/>
                  </a:lnTo>
                  <a:lnTo>
                    <a:pt x="834" y="974"/>
                  </a:lnTo>
                  <a:lnTo>
                    <a:pt x="848" y="984"/>
                  </a:lnTo>
                  <a:lnTo>
                    <a:pt x="860" y="993"/>
                  </a:lnTo>
                  <a:lnTo>
                    <a:pt x="872" y="1005"/>
                  </a:lnTo>
                  <a:lnTo>
                    <a:pt x="883" y="1016"/>
                  </a:lnTo>
                  <a:lnTo>
                    <a:pt x="893" y="1030"/>
                  </a:lnTo>
                  <a:lnTo>
                    <a:pt x="903" y="1044"/>
                  </a:lnTo>
                  <a:lnTo>
                    <a:pt x="911" y="1060"/>
                  </a:lnTo>
                  <a:lnTo>
                    <a:pt x="918" y="1078"/>
                  </a:lnTo>
                  <a:lnTo>
                    <a:pt x="925" y="1095"/>
                  </a:lnTo>
                  <a:lnTo>
                    <a:pt x="922" y="989"/>
                  </a:lnTo>
                  <a:lnTo>
                    <a:pt x="914" y="890"/>
                  </a:lnTo>
                  <a:lnTo>
                    <a:pt x="901" y="796"/>
                  </a:lnTo>
                  <a:lnTo>
                    <a:pt x="883" y="709"/>
                  </a:lnTo>
                  <a:lnTo>
                    <a:pt x="860" y="628"/>
                  </a:lnTo>
                  <a:lnTo>
                    <a:pt x="832" y="553"/>
                  </a:lnTo>
                  <a:lnTo>
                    <a:pt x="798" y="484"/>
                  </a:lnTo>
                  <a:lnTo>
                    <a:pt x="780" y="452"/>
                  </a:lnTo>
                  <a:lnTo>
                    <a:pt x="760" y="421"/>
                  </a:lnTo>
                  <a:lnTo>
                    <a:pt x="738" y="392"/>
                  </a:lnTo>
                  <a:lnTo>
                    <a:pt x="715" y="364"/>
                  </a:lnTo>
                  <a:lnTo>
                    <a:pt x="689" y="337"/>
                  </a:lnTo>
                  <a:lnTo>
                    <a:pt x="662" y="312"/>
                  </a:lnTo>
                  <a:lnTo>
                    <a:pt x="633" y="287"/>
                  </a:lnTo>
                  <a:lnTo>
                    <a:pt x="602" y="264"/>
                  </a:lnTo>
                  <a:lnTo>
                    <a:pt x="568" y="242"/>
                  </a:lnTo>
                  <a:lnTo>
                    <a:pt x="533" y="222"/>
                  </a:lnTo>
                  <a:lnTo>
                    <a:pt x="457" y="185"/>
                  </a:lnTo>
                  <a:lnTo>
                    <a:pt x="374" y="152"/>
                  </a:lnTo>
                  <a:lnTo>
                    <a:pt x="282" y="124"/>
                  </a:lnTo>
                  <a:close/>
                  <a:moveTo>
                    <a:pt x="868" y="1539"/>
                  </a:moveTo>
                  <a:lnTo>
                    <a:pt x="867" y="1492"/>
                  </a:lnTo>
                  <a:lnTo>
                    <a:pt x="865" y="1448"/>
                  </a:lnTo>
                  <a:lnTo>
                    <a:pt x="861" y="1407"/>
                  </a:lnTo>
                  <a:lnTo>
                    <a:pt x="855" y="1367"/>
                  </a:lnTo>
                  <a:lnTo>
                    <a:pt x="848" y="1330"/>
                  </a:lnTo>
                  <a:lnTo>
                    <a:pt x="840" y="1294"/>
                  </a:lnTo>
                  <a:lnTo>
                    <a:pt x="830" y="1262"/>
                  </a:lnTo>
                  <a:lnTo>
                    <a:pt x="818" y="1232"/>
                  </a:lnTo>
                  <a:lnTo>
                    <a:pt x="805" y="1205"/>
                  </a:lnTo>
                  <a:lnTo>
                    <a:pt x="798" y="1192"/>
                  </a:lnTo>
                  <a:lnTo>
                    <a:pt x="791" y="1181"/>
                  </a:lnTo>
                  <a:lnTo>
                    <a:pt x="783" y="1170"/>
                  </a:lnTo>
                  <a:lnTo>
                    <a:pt x="775" y="1161"/>
                  </a:lnTo>
                  <a:lnTo>
                    <a:pt x="767" y="1151"/>
                  </a:lnTo>
                  <a:lnTo>
                    <a:pt x="758" y="1144"/>
                  </a:lnTo>
                  <a:lnTo>
                    <a:pt x="749" y="1137"/>
                  </a:lnTo>
                  <a:lnTo>
                    <a:pt x="740" y="1132"/>
                  </a:lnTo>
                  <a:lnTo>
                    <a:pt x="730" y="1126"/>
                  </a:lnTo>
                  <a:lnTo>
                    <a:pt x="721" y="1122"/>
                  </a:lnTo>
                  <a:lnTo>
                    <a:pt x="710" y="1119"/>
                  </a:lnTo>
                  <a:lnTo>
                    <a:pt x="700" y="1117"/>
                  </a:lnTo>
                  <a:lnTo>
                    <a:pt x="689" y="1115"/>
                  </a:lnTo>
                  <a:lnTo>
                    <a:pt x="678" y="1115"/>
                  </a:lnTo>
                  <a:lnTo>
                    <a:pt x="659" y="1116"/>
                  </a:lnTo>
                  <a:lnTo>
                    <a:pt x="641" y="1118"/>
                  </a:lnTo>
                  <a:lnTo>
                    <a:pt x="624" y="1122"/>
                  </a:lnTo>
                  <a:lnTo>
                    <a:pt x="606" y="1129"/>
                  </a:lnTo>
                  <a:lnTo>
                    <a:pt x="589" y="1137"/>
                  </a:lnTo>
                  <a:lnTo>
                    <a:pt x="573" y="1146"/>
                  </a:lnTo>
                  <a:lnTo>
                    <a:pt x="557" y="1157"/>
                  </a:lnTo>
                  <a:lnTo>
                    <a:pt x="541" y="1170"/>
                  </a:lnTo>
                  <a:lnTo>
                    <a:pt x="526" y="1184"/>
                  </a:lnTo>
                  <a:lnTo>
                    <a:pt x="511" y="1200"/>
                  </a:lnTo>
                  <a:lnTo>
                    <a:pt x="496" y="1218"/>
                  </a:lnTo>
                  <a:lnTo>
                    <a:pt x="482" y="1238"/>
                  </a:lnTo>
                  <a:lnTo>
                    <a:pt x="455" y="1283"/>
                  </a:lnTo>
                  <a:lnTo>
                    <a:pt x="430" y="1334"/>
                  </a:lnTo>
                  <a:lnTo>
                    <a:pt x="407" y="1389"/>
                  </a:lnTo>
                  <a:lnTo>
                    <a:pt x="387" y="1445"/>
                  </a:lnTo>
                  <a:lnTo>
                    <a:pt x="370" y="1504"/>
                  </a:lnTo>
                  <a:lnTo>
                    <a:pt x="356" y="1562"/>
                  </a:lnTo>
                  <a:lnTo>
                    <a:pt x="345" y="1622"/>
                  </a:lnTo>
                  <a:lnTo>
                    <a:pt x="337" y="1683"/>
                  </a:lnTo>
                  <a:lnTo>
                    <a:pt x="333" y="1745"/>
                  </a:lnTo>
                  <a:lnTo>
                    <a:pt x="331" y="1809"/>
                  </a:lnTo>
                  <a:lnTo>
                    <a:pt x="332" y="1851"/>
                  </a:lnTo>
                  <a:lnTo>
                    <a:pt x="334" y="1892"/>
                  </a:lnTo>
                  <a:lnTo>
                    <a:pt x="338" y="1931"/>
                  </a:lnTo>
                  <a:lnTo>
                    <a:pt x="343" y="1967"/>
                  </a:lnTo>
                  <a:lnTo>
                    <a:pt x="350" y="2002"/>
                  </a:lnTo>
                  <a:lnTo>
                    <a:pt x="359" y="2036"/>
                  </a:lnTo>
                  <a:lnTo>
                    <a:pt x="369" y="2067"/>
                  </a:lnTo>
                  <a:lnTo>
                    <a:pt x="381" y="2096"/>
                  </a:lnTo>
                  <a:lnTo>
                    <a:pt x="394" y="2123"/>
                  </a:lnTo>
                  <a:lnTo>
                    <a:pt x="401" y="2135"/>
                  </a:lnTo>
                  <a:lnTo>
                    <a:pt x="408" y="2146"/>
                  </a:lnTo>
                  <a:lnTo>
                    <a:pt x="415" y="2157"/>
                  </a:lnTo>
                  <a:lnTo>
                    <a:pt x="423" y="2166"/>
                  </a:lnTo>
                  <a:lnTo>
                    <a:pt x="431" y="2174"/>
                  </a:lnTo>
                  <a:lnTo>
                    <a:pt x="440" y="2182"/>
                  </a:lnTo>
                  <a:lnTo>
                    <a:pt x="448" y="2188"/>
                  </a:lnTo>
                  <a:lnTo>
                    <a:pt x="457" y="2194"/>
                  </a:lnTo>
                  <a:lnTo>
                    <a:pt x="466" y="2198"/>
                  </a:lnTo>
                  <a:lnTo>
                    <a:pt x="476" y="2202"/>
                  </a:lnTo>
                  <a:lnTo>
                    <a:pt x="485" y="2206"/>
                  </a:lnTo>
                  <a:lnTo>
                    <a:pt x="495" y="2208"/>
                  </a:lnTo>
                  <a:lnTo>
                    <a:pt x="505" y="2210"/>
                  </a:lnTo>
                  <a:lnTo>
                    <a:pt x="516" y="2210"/>
                  </a:lnTo>
                  <a:lnTo>
                    <a:pt x="534" y="2209"/>
                  </a:lnTo>
                  <a:lnTo>
                    <a:pt x="551" y="2207"/>
                  </a:lnTo>
                  <a:lnTo>
                    <a:pt x="569" y="2202"/>
                  </a:lnTo>
                  <a:lnTo>
                    <a:pt x="585" y="2196"/>
                  </a:lnTo>
                  <a:lnTo>
                    <a:pt x="602" y="2189"/>
                  </a:lnTo>
                  <a:lnTo>
                    <a:pt x="618" y="2180"/>
                  </a:lnTo>
                  <a:lnTo>
                    <a:pt x="634" y="2169"/>
                  </a:lnTo>
                  <a:lnTo>
                    <a:pt x="650" y="2157"/>
                  </a:lnTo>
                  <a:lnTo>
                    <a:pt x="665" y="2143"/>
                  </a:lnTo>
                  <a:lnTo>
                    <a:pt x="680" y="2127"/>
                  </a:lnTo>
                  <a:lnTo>
                    <a:pt x="695" y="2110"/>
                  </a:lnTo>
                  <a:lnTo>
                    <a:pt x="709" y="2091"/>
                  </a:lnTo>
                  <a:lnTo>
                    <a:pt x="737" y="2047"/>
                  </a:lnTo>
                  <a:lnTo>
                    <a:pt x="764" y="1998"/>
                  </a:lnTo>
                  <a:lnTo>
                    <a:pt x="788" y="1944"/>
                  </a:lnTo>
                  <a:lnTo>
                    <a:pt x="809" y="1890"/>
                  </a:lnTo>
                  <a:lnTo>
                    <a:pt x="827" y="1834"/>
                  </a:lnTo>
                  <a:lnTo>
                    <a:pt x="842" y="1777"/>
                  </a:lnTo>
                  <a:lnTo>
                    <a:pt x="853" y="1719"/>
                  </a:lnTo>
                  <a:lnTo>
                    <a:pt x="861" y="1660"/>
                  </a:lnTo>
                  <a:lnTo>
                    <a:pt x="866" y="16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5280" y="870120"/>
              <a:ext cx="581040" cy="823680"/>
            </a:xfrm>
            <a:custGeom>
              <a:avLst/>
              <a:gdLst/>
              <a:ahLst/>
              <a:rect l="l" t="t" r="r" b="b"/>
              <a:pathLst>
                <a:path w="1613" h="2288">
                  <a:moveTo>
                    <a:pt x="384" y="403"/>
                  </a:moveTo>
                  <a:lnTo>
                    <a:pt x="311" y="286"/>
                  </a:lnTo>
                  <a:lnTo>
                    <a:pt x="456" y="180"/>
                  </a:lnTo>
                  <a:lnTo>
                    <a:pt x="527" y="127"/>
                  </a:lnTo>
                  <a:lnTo>
                    <a:pt x="589" y="85"/>
                  </a:lnTo>
                  <a:lnTo>
                    <a:pt x="640" y="52"/>
                  </a:lnTo>
                  <a:lnTo>
                    <a:pt x="662" y="40"/>
                  </a:lnTo>
                  <a:lnTo>
                    <a:pt x="681" y="29"/>
                  </a:lnTo>
                  <a:lnTo>
                    <a:pt x="692" y="24"/>
                  </a:lnTo>
                  <a:lnTo>
                    <a:pt x="703" y="19"/>
                  </a:lnTo>
                  <a:lnTo>
                    <a:pt x="714" y="15"/>
                  </a:lnTo>
                  <a:lnTo>
                    <a:pt x="725" y="12"/>
                  </a:lnTo>
                  <a:lnTo>
                    <a:pt x="736" y="10"/>
                  </a:lnTo>
                  <a:lnTo>
                    <a:pt x="746" y="7"/>
                  </a:lnTo>
                  <a:lnTo>
                    <a:pt x="756" y="6"/>
                  </a:lnTo>
                  <a:lnTo>
                    <a:pt x="766" y="6"/>
                  </a:lnTo>
                  <a:lnTo>
                    <a:pt x="772" y="6"/>
                  </a:lnTo>
                  <a:lnTo>
                    <a:pt x="778" y="7"/>
                  </a:lnTo>
                  <a:lnTo>
                    <a:pt x="784" y="8"/>
                  </a:lnTo>
                  <a:lnTo>
                    <a:pt x="790" y="10"/>
                  </a:lnTo>
                  <a:lnTo>
                    <a:pt x="796" y="12"/>
                  </a:lnTo>
                  <a:lnTo>
                    <a:pt x="801" y="14"/>
                  </a:lnTo>
                  <a:lnTo>
                    <a:pt x="807" y="17"/>
                  </a:lnTo>
                  <a:lnTo>
                    <a:pt x="813" y="20"/>
                  </a:lnTo>
                  <a:lnTo>
                    <a:pt x="818" y="23"/>
                  </a:lnTo>
                  <a:lnTo>
                    <a:pt x="823" y="27"/>
                  </a:lnTo>
                  <a:lnTo>
                    <a:pt x="829" y="31"/>
                  </a:lnTo>
                  <a:lnTo>
                    <a:pt x="834" y="36"/>
                  </a:lnTo>
                  <a:lnTo>
                    <a:pt x="844" y="46"/>
                  </a:lnTo>
                  <a:lnTo>
                    <a:pt x="854" y="58"/>
                  </a:lnTo>
                  <a:lnTo>
                    <a:pt x="889" y="106"/>
                  </a:lnTo>
                  <a:lnTo>
                    <a:pt x="922" y="158"/>
                  </a:lnTo>
                  <a:lnTo>
                    <a:pt x="953" y="215"/>
                  </a:lnTo>
                  <a:lnTo>
                    <a:pt x="984" y="275"/>
                  </a:lnTo>
                  <a:lnTo>
                    <a:pt x="1012" y="339"/>
                  </a:lnTo>
                  <a:lnTo>
                    <a:pt x="1040" y="407"/>
                  </a:lnTo>
                  <a:lnTo>
                    <a:pt x="1066" y="479"/>
                  </a:lnTo>
                  <a:lnTo>
                    <a:pt x="1090" y="555"/>
                  </a:lnTo>
                  <a:lnTo>
                    <a:pt x="1113" y="632"/>
                  </a:lnTo>
                  <a:lnTo>
                    <a:pt x="1132" y="709"/>
                  </a:lnTo>
                  <a:lnTo>
                    <a:pt x="1149" y="786"/>
                  </a:lnTo>
                  <a:lnTo>
                    <a:pt x="1162" y="862"/>
                  </a:lnTo>
                  <a:lnTo>
                    <a:pt x="1173" y="937"/>
                  </a:lnTo>
                  <a:lnTo>
                    <a:pt x="1180" y="1010"/>
                  </a:lnTo>
                  <a:lnTo>
                    <a:pt x="1185" y="1084"/>
                  </a:lnTo>
                  <a:lnTo>
                    <a:pt x="1186" y="1157"/>
                  </a:lnTo>
                  <a:lnTo>
                    <a:pt x="1183" y="1238"/>
                  </a:lnTo>
                  <a:lnTo>
                    <a:pt x="1269" y="1009"/>
                  </a:lnTo>
                  <a:lnTo>
                    <a:pt x="1303" y="904"/>
                  </a:lnTo>
                  <a:lnTo>
                    <a:pt x="1331" y="804"/>
                  </a:lnTo>
                  <a:lnTo>
                    <a:pt x="1352" y="712"/>
                  </a:lnTo>
                  <a:lnTo>
                    <a:pt x="1367" y="624"/>
                  </a:lnTo>
                  <a:lnTo>
                    <a:pt x="1376" y="543"/>
                  </a:lnTo>
                  <a:lnTo>
                    <a:pt x="1379" y="468"/>
                  </a:lnTo>
                  <a:lnTo>
                    <a:pt x="1379" y="452"/>
                  </a:lnTo>
                  <a:lnTo>
                    <a:pt x="1377" y="436"/>
                  </a:lnTo>
                  <a:lnTo>
                    <a:pt x="1372" y="393"/>
                  </a:lnTo>
                  <a:lnTo>
                    <a:pt x="1364" y="342"/>
                  </a:lnTo>
                  <a:lnTo>
                    <a:pt x="1354" y="282"/>
                  </a:lnTo>
                  <a:lnTo>
                    <a:pt x="1342" y="242"/>
                  </a:lnTo>
                  <a:lnTo>
                    <a:pt x="1337" y="222"/>
                  </a:lnTo>
                  <a:lnTo>
                    <a:pt x="1333" y="204"/>
                  </a:lnTo>
                  <a:lnTo>
                    <a:pt x="1330" y="188"/>
                  </a:lnTo>
                  <a:lnTo>
                    <a:pt x="1328" y="171"/>
                  </a:lnTo>
                  <a:lnTo>
                    <a:pt x="1326" y="156"/>
                  </a:lnTo>
                  <a:lnTo>
                    <a:pt x="1326" y="142"/>
                  </a:lnTo>
                  <a:lnTo>
                    <a:pt x="1327" y="127"/>
                  </a:lnTo>
                  <a:lnTo>
                    <a:pt x="1328" y="113"/>
                  </a:lnTo>
                  <a:lnTo>
                    <a:pt x="1331" y="99"/>
                  </a:lnTo>
                  <a:lnTo>
                    <a:pt x="1336" y="87"/>
                  </a:lnTo>
                  <a:lnTo>
                    <a:pt x="1338" y="80"/>
                  </a:lnTo>
                  <a:lnTo>
                    <a:pt x="1341" y="74"/>
                  </a:lnTo>
                  <a:lnTo>
                    <a:pt x="1348" y="63"/>
                  </a:lnTo>
                  <a:lnTo>
                    <a:pt x="1355" y="51"/>
                  </a:lnTo>
                  <a:lnTo>
                    <a:pt x="1363" y="41"/>
                  </a:lnTo>
                  <a:lnTo>
                    <a:pt x="1373" y="31"/>
                  </a:lnTo>
                  <a:lnTo>
                    <a:pt x="1378" y="27"/>
                  </a:lnTo>
                  <a:lnTo>
                    <a:pt x="1383" y="23"/>
                  </a:lnTo>
                  <a:lnTo>
                    <a:pt x="1388" y="19"/>
                  </a:lnTo>
                  <a:lnTo>
                    <a:pt x="1394" y="16"/>
                  </a:lnTo>
                  <a:lnTo>
                    <a:pt x="1400" y="13"/>
                  </a:lnTo>
                  <a:lnTo>
                    <a:pt x="1406" y="11"/>
                  </a:lnTo>
                  <a:lnTo>
                    <a:pt x="1412" y="7"/>
                  </a:lnTo>
                  <a:lnTo>
                    <a:pt x="1418" y="5"/>
                  </a:lnTo>
                  <a:lnTo>
                    <a:pt x="1431" y="2"/>
                  </a:lnTo>
                  <a:lnTo>
                    <a:pt x="1444" y="1"/>
                  </a:lnTo>
                  <a:lnTo>
                    <a:pt x="1458" y="0"/>
                  </a:lnTo>
                  <a:lnTo>
                    <a:pt x="1475" y="1"/>
                  </a:lnTo>
                  <a:lnTo>
                    <a:pt x="1483" y="2"/>
                  </a:lnTo>
                  <a:lnTo>
                    <a:pt x="1491" y="3"/>
                  </a:lnTo>
                  <a:lnTo>
                    <a:pt x="1499" y="5"/>
                  </a:lnTo>
                  <a:lnTo>
                    <a:pt x="1507" y="7"/>
                  </a:lnTo>
                  <a:lnTo>
                    <a:pt x="1514" y="11"/>
                  </a:lnTo>
                  <a:lnTo>
                    <a:pt x="1521" y="14"/>
                  </a:lnTo>
                  <a:lnTo>
                    <a:pt x="1528" y="17"/>
                  </a:lnTo>
                  <a:lnTo>
                    <a:pt x="1535" y="21"/>
                  </a:lnTo>
                  <a:lnTo>
                    <a:pt x="1541" y="26"/>
                  </a:lnTo>
                  <a:lnTo>
                    <a:pt x="1547" y="31"/>
                  </a:lnTo>
                  <a:lnTo>
                    <a:pt x="1553" y="37"/>
                  </a:lnTo>
                  <a:lnTo>
                    <a:pt x="1559" y="42"/>
                  </a:lnTo>
                  <a:lnTo>
                    <a:pt x="1565" y="48"/>
                  </a:lnTo>
                  <a:lnTo>
                    <a:pt x="1570" y="55"/>
                  </a:lnTo>
                  <a:lnTo>
                    <a:pt x="1575" y="63"/>
                  </a:lnTo>
                  <a:lnTo>
                    <a:pt x="1580" y="70"/>
                  </a:lnTo>
                  <a:lnTo>
                    <a:pt x="1588" y="86"/>
                  </a:lnTo>
                  <a:lnTo>
                    <a:pt x="1596" y="101"/>
                  </a:lnTo>
                  <a:lnTo>
                    <a:pt x="1602" y="120"/>
                  </a:lnTo>
                  <a:lnTo>
                    <a:pt x="1606" y="139"/>
                  </a:lnTo>
                  <a:lnTo>
                    <a:pt x="1609" y="158"/>
                  </a:lnTo>
                  <a:lnTo>
                    <a:pt x="1611" y="179"/>
                  </a:lnTo>
                  <a:lnTo>
                    <a:pt x="1612" y="202"/>
                  </a:lnTo>
                  <a:lnTo>
                    <a:pt x="1611" y="257"/>
                  </a:lnTo>
                  <a:lnTo>
                    <a:pt x="1606" y="315"/>
                  </a:lnTo>
                  <a:lnTo>
                    <a:pt x="1599" y="376"/>
                  </a:lnTo>
                  <a:lnTo>
                    <a:pt x="1589" y="441"/>
                  </a:lnTo>
                  <a:lnTo>
                    <a:pt x="1576" y="508"/>
                  </a:lnTo>
                  <a:lnTo>
                    <a:pt x="1561" y="580"/>
                  </a:lnTo>
                  <a:lnTo>
                    <a:pt x="1520" y="731"/>
                  </a:lnTo>
                  <a:lnTo>
                    <a:pt x="1495" y="812"/>
                  </a:lnTo>
                  <a:lnTo>
                    <a:pt x="1467" y="893"/>
                  </a:lnTo>
                  <a:lnTo>
                    <a:pt x="1400" y="1059"/>
                  </a:lnTo>
                  <a:lnTo>
                    <a:pt x="1322" y="1232"/>
                  </a:lnTo>
                  <a:lnTo>
                    <a:pt x="1229" y="1411"/>
                  </a:lnTo>
                  <a:lnTo>
                    <a:pt x="1131" y="1581"/>
                  </a:lnTo>
                  <a:lnTo>
                    <a:pt x="1038" y="1728"/>
                  </a:lnTo>
                  <a:lnTo>
                    <a:pt x="993" y="1793"/>
                  </a:lnTo>
                  <a:lnTo>
                    <a:pt x="949" y="1851"/>
                  </a:lnTo>
                  <a:lnTo>
                    <a:pt x="906" y="1904"/>
                  </a:lnTo>
                  <a:lnTo>
                    <a:pt x="864" y="1952"/>
                  </a:lnTo>
                  <a:lnTo>
                    <a:pt x="823" y="1996"/>
                  </a:lnTo>
                  <a:lnTo>
                    <a:pt x="781" y="2035"/>
                  </a:lnTo>
                  <a:lnTo>
                    <a:pt x="740" y="2073"/>
                  </a:lnTo>
                  <a:lnTo>
                    <a:pt x="700" y="2106"/>
                  </a:lnTo>
                  <a:lnTo>
                    <a:pt x="659" y="2136"/>
                  </a:lnTo>
                  <a:lnTo>
                    <a:pt x="619" y="2164"/>
                  </a:lnTo>
                  <a:lnTo>
                    <a:pt x="580" y="2189"/>
                  </a:lnTo>
                  <a:lnTo>
                    <a:pt x="540" y="2209"/>
                  </a:lnTo>
                  <a:lnTo>
                    <a:pt x="501" y="2228"/>
                  </a:lnTo>
                  <a:lnTo>
                    <a:pt x="462" y="2244"/>
                  </a:lnTo>
                  <a:lnTo>
                    <a:pt x="423" y="2257"/>
                  </a:lnTo>
                  <a:lnTo>
                    <a:pt x="385" y="2268"/>
                  </a:lnTo>
                  <a:lnTo>
                    <a:pt x="348" y="2276"/>
                  </a:lnTo>
                  <a:lnTo>
                    <a:pt x="311" y="2282"/>
                  </a:lnTo>
                  <a:lnTo>
                    <a:pt x="274" y="2286"/>
                  </a:lnTo>
                  <a:lnTo>
                    <a:pt x="238" y="2287"/>
                  </a:lnTo>
                  <a:lnTo>
                    <a:pt x="211" y="2286"/>
                  </a:lnTo>
                  <a:lnTo>
                    <a:pt x="185" y="2284"/>
                  </a:lnTo>
                  <a:lnTo>
                    <a:pt x="160" y="2281"/>
                  </a:lnTo>
                  <a:lnTo>
                    <a:pt x="138" y="2276"/>
                  </a:lnTo>
                  <a:lnTo>
                    <a:pt x="116" y="2269"/>
                  </a:lnTo>
                  <a:lnTo>
                    <a:pt x="97" y="2261"/>
                  </a:lnTo>
                  <a:lnTo>
                    <a:pt x="79" y="2252"/>
                  </a:lnTo>
                  <a:lnTo>
                    <a:pt x="70" y="2246"/>
                  </a:lnTo>
                  <a:lnTo>
                    <a:pt x="62" y="2241"/>
                  </a:lnTo>
                  <a:lnTo>
                    <a:pt x="48" y="2228"/>
                  </a:lnTo>
                  <a:lnTo>
                    <a:pt x="41" y="2222"/>
                  </a:lnTo>
                  <a:lnTo>
                    <a:pt x="35" y="2215"/>
                  </a:lnTo>
                  <a:lnTo>
                    <a:pt x="29" y="2208"/>
                  </a:lnTo>
                  <a:lnTo>
                    <a:pt x="24" y="2201"/>
                  </a:lnTo>
                  <a:lnTo>
                    <a:pt x="20" y="2194"/>
                  </a:lnTo>
                  <a:lnTo>
                    <a:pt x="16" y="2186"/>
                  </a:lnTo>
                  <a:lnTo>
                    <a:pt x="12" y="2179"/>
                  </a:lnTo>
                  <a:lnTo>
                    <a:pt x="9" y="2171"/>
                  </a:lnTo>
                  <a:lnTo>
                    <a:pt x="6" y="2164"/>
                  </a:lnTo>
                  <a:lnTo>
                    <a:pt x="4" y="2155"/>
                  </a:lnTo>
                  <a:lnTo>
                    <a:pt x="2" y="2147"/>
                  </a:lnTo>
                  <a:lnTo>
                    <a:pt x="1" y="2139"/>
                  </a:lnTo>
                  <a:lnTo>
                    <a:pt x="0" y="2130"/>
                  </a:lnTo>
                  <a:lnTo>
                    <a:pt x="0" y="2121"/>
                  </a:lnTo>
                  <a:lnTo>
                    <a:pt x="0" y="2112"/>
                  </a:lnTo>
                  <a:lnTo>
                    <a:pt x="1" y="2105"/>
                  </a:lnTo>
                  <a:lnTo>
                    <a:pt x="2" y="2098"/>
                  </a:lnTo>
                  <a:lnTo>
                    <a:pt x="3" y="2091"/>
                  </a:lnTo>
                  <a:lnTo>
                    <a:pt x="5" y="2083"/>
                  </a:lnTo>
                  <a:lnTo>
                    <a:pt x="7" y="2076"/>
                  </a:lnTo>
                  <a:lnTo>
                    <a:pt x="10" y="2069"/>
                  </a:lnTo>
                  <a:lnTo>
                    <a:pt x="13" y="2062"/>
                  </a:lnTo>
                  <a:lnTo>
                    <a:pt x="16" y="2055"/>
                  </a:lnTo>
                  <a:lnTo>
                    <a:pt x="20" y="2049"/>
                  </a:lnTo>
                  <a:lnTo>
                    <a:pt x="24" y="2043"/>
                  </a:lnTo>
                  <a:lnTo>
                    <a:pt x="28" y="2036"/>
                  </a:lnTo>
                  <a:lnTo>
                    <a:pt x="38" y="2025"/>
                  </a:lnTo>
                  <a:lnTo>
                    <a:pt x="50" y="2014"/>
                  </a:lnTo>
                  <a:lnTo>
                    <a:pt x="63" y="2003"/>
                  </a:lnTo>
                  <a:lnTo>
                    <a:pt x="77" y="1995"/>
                  </a:lnTo>
                  <a:lnTo>
                    <a:pt x="92" y="1986"/>
                  </a:lnTo>
                  <a:lnTo>
                    <a:pt x="108" y="1981"/>
                  </a:lnTo>
                  <a:lnTo>
                    <a:pt x="125" y="1976"/>
                  </a:lnTo>
                  <a:lnTo>
                    <a:pt x="143" y="1973"/>
                  </a:lnTo>
                  <a:lnTo>
                    <a:pt x="162" y="1971"/>
                  </a:lnTo>
                  <a:lnTo>
                    <a:pt x="181" y="1970"/>
                  </a:lnTo>
                  <a:lnTo>
                    <a:pt x="195" y="1970"/>
                  </a:lnTo>
                  <a:lnTo>
                    <a:pt x="211" y="1971"/>
                  </a:lnTo>
                  <a:lnTo>
                    <a:pt x="246" y="1975"/>
                  </a:lnTo>
                  <a:lnTo>
                    <a:pt x="287" y="1982"/>
                  </a:lnTo>
                  <a:lnTo>
                    <a:pt x="332" y="1992"/>
                  </a:lnTo>
                  <a:lnTo>
                    <a:pt x="375" y="2001"/>
                  </a:lnTo>
                  <a:lnTo>
                    <a:pt x="411" y="2008"/>
                  </a:lnTo>
                  <a:lnTo>
                    <a:pt x="439" y="2012"/>
                  </a:lnTo>
                  <a:lnTo>
                    <a:pt x="450" y="2014"/>
                  </a:lnTo>
                  <a:lnTo>
                    <a:pt x="459" y="2014"/>
                  </a:lnTo>
                  <a:lnTo>
                    <a:pt x="470" y="2014"/>
                  </a:lnTo>
                  <a:lnTo>
                    <a:pt x="480" y="2012"/>
                  </a:lnTo>
                  <a:lnTo>
                    <a:pt x="502" y="2008"/>
                  </a:lnTo>
                  <a:lnTo>
                    <a:pt x="524" y="2003"/>
                  </a:lnTo>
                  <a:lnTo>
                    <a:pt x="547" y="1995"/>
                  </a:lnTo>
                  <a:lnTo>
                    <a:pt x="570" y="1983"/>
                  </a:lnTo>
                  <a:lnTo>
                    <a:pt x="593" y="1971"/>
                  </a:lnTo>
                  <a:lnTo>
                    <a:pt x="617" y="1955"/>
                  </a:lnTo>
                  <a:lnTo>
                    <a:pt x="641" y="1937"/>
                  </a:lnTo>
                  <a:lnTo>
                    <a:pt x="675" y="1909"/>
                  </a:lnTo>
                  <a:lnTo>
                    <a:pt x="707" y="1880"/>
                  </a:lnTo>
                  <a:lnTo>
                    <a:pt x="738" y="1849"/>
                  </a:lnTo>
                  <a:lnTo>
                    <a:pt x="766" y="1818"/>
                  </a:lnTo>
                  <a:lnTo>
                    <a:pt x="793" y="1784"/>
                  </a:lnTo>
                  <a:lnTo>
                    <a:pt x="818" y="1750"/>
                  </a:lnTo>
                  <a:lnTo>
                    <a:pt x="841" y="1714"/>
                  </a:lnTo>
                  <a:lnTo>
                    <a:pt x="862" y="1677"/>
                  </a:lnTo>
                  <a:lnTo>
                    <a:pt x="881" y="1640"/>
                  </a:lnTo>
                  <a:lnTo>
                    <a:pt x="897" y="1602"/>
                  </a:lnTo>
                  <a:lnTo>
                    <a:pt x="911" y="1565"/>
                  </a:lnTo>
                  <a:lnTo>
                    <a:pt x="923" y="1526"/>
                  </a:lnTo>
                  <a:lnTo>
                    <a:pt x="932" y="1489"/>
                  </a:lnTo>
                  <a:lnTo>
                    <a:pt x="938" y="1450"/>
                  </a:lnTo>
                  <a:lnTo>
                    <a:pt x="942" y="1413"/>
                  </a:lnTo>
                  <a:lnTo>
                    <a:pt x="943" y="1374"/>
                  </a:lnTo>
                  <a:lnTo>
                    <a:pt x="942" y="1318"/>
                  </a:lnTo>
                  <a:lnTo>
                    <a:pt x="939" y="1258"/>
                  </a:lnTo>
                  <a:lnTo>
                    <a:pt x="927" y="1131"/>
                  </a:lnTo>
                  <a:lnTo>
                    <a:pt x="908" y="992"/>
                  </a:lnTo>
                  <a:lnTo>
                    <a:pt x="880" y="842"/>
                  </a:lnTo>
                  <a:lnTo>
                    <a:pt x="864" y="766"/>
                  </a:lnTo>
                  <a:lnTo>
                    <a:pt x="846" y="695"/>
                  </a:lnTo>
                  <a:lnTo>
                    <a:pt x="826" y="627"/>
                  </a:lnTo>
                  <a:lnTo>
                    <a:pt x="805" y="566"/>
                  </a:lnTo>
                  <a:lnTo>
                    <a:pt x="781" y="507"/>
                  </a:lnTo>
                  <a:lnTo>
                    <a:pt x="757" y="454"/>
                  </a:lnTo>
                  <a:lnTo>
                    <a:pt x="730" y="405"/>
                  </a:lnTo>
                  <a:lnTo>
                    <a:pt x="702" y="361"/>
                  </a:lnTo>
                  <a:lnTo>
                    <a:pt x="691" y="346"/>
                  </a:lnTo>
                  <a:lnTo>
                    <a:pt x="680" y="332"/>
                  </a:lnTo>
                  <a:lnTo>
                    <a:pt x="669" y="321"/>
                  </a:lnTo>
                  <a:lnTo>
                    <a:pt x="663" y="317"/>
                  </a:lnTo>
                  <a:lnTo>
                    <a:pt x="657" y="313"/>
                  </a:lnTo>
                  <a:lnTo>
                    <a:pt x="651" y="308"/>
                  </a:lnTo>
                  <a:lnTo>
                    <a:pt x="646" y="305"/>
                  </a:lnTo>
                  <a:lnTo>
                    <a:pt x="640" y="302"/>
                  </a:lnTo>
                  <a:lnTo>
                    <a:pt x="634" y="300"/>
                  </a:lnTo>
                  <a:lnTo>
                    <a:pt x="628" y="298"/>
                  </a:lnTo>
                  <a:lnTo>
                    <a:pt x="622" y="297"/>
                  </a:lnTo>
                  <a:lnTo>
                    <a:pt x="616" y="296"/>
                  </a:lnTo>
                  <a:lnTo>
                    <a:pt x="610" y="296"/>
                  </a:lnTo>
                  <a:lnTo>
                    <a:pt x="602" y="296"/>
                  </a:lnTo>
                  <a:lnTo>
                    <a:pt x="592" y="298"/>
                  </a:lnTo>
                  <a:lnTo>
                    <a:pt x="582" y="300"/>
                  </a:lnTo>
                  <a:lnTo>
                    <a:pt x="572" y="302"/>
                  </a:lnTo>
                  <a:lnTo>
                    <a:pt x="548" y="311"/>
                  </a:lnTo>
                  <a:lnTo>
                    <a:pt x="521" y="323"/>
                  </a:lnTo>
                  <a:lnTo>
                    <a:pt x="491" y="338"/>
                  </a:lnTo>
                  <a:lnTo>
                    <a:pt x="458" y="35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21000" y="871560"/>
              <a:ext cx="387360" cy="531720"/>
            </a:xfrm>
            <a:custGeom>
              <a:avLst/>
              <a:gdLst/>
              <a:ahLst/>
              <a:rect l="l" t="t" r="r" b="b"/>
              <a:pathLst>
                <a:path w="1075" h="1478">
                  <a:moveTo>
                    <a:pt x="1074" y="278"/>
                  </a:moveTo>
                  <a:lnTo>
                    <a:pt x="1073" y="309"/>
                  </a:lnTo>
                  <a:lnTo>
                    <a:pt x="1069" y="340"/>
                  </a:lnTo>
                  <a:lnTo>
                    <a:pt x="1064" y="372"/>
                  </a:lnTo>
                  <a:lnTo>
                    <a:pt x="1056" y="404"/>
                  </a:lnTo>
                  <a:lnTo>
                    <a:pt x="1046" y="437"/>
                  </a:lnTo>
                  <a:lnTo>
                    <a:pt x="1033" y="470"/>
                  </a:lnTo>
                  <a:lnTo>
                    <a:pt x="1018" y="503"/>
                  </a:lnTo>
                  <a:lnTo>
                    <a:pt x="1001" y="538"/>
                  </a:lnTo>
                  <a:lnTo>
                    <a:pt x="991" y="555"/>
                  </a:lnTo>
                  <a:lnTo>
                    <a:pt x="979" y="572"/>
                  </a:lnTo>
                  <a:lnTo>
                    <a:pt x="950" y="609"/>
                  </a:lnTo>
                  <a:lnTo>
                    <a:pt x="915" y="647"/>
                  </a:lnTo>
                  <a:lnTo>
                    <a:pt x="872" y="687"/>
                  </a:lnTo>
                  <a:lnTo>
                    <a:pt x="823" y="728"/>
                  </a:lnTo>
                  <a:lnTo>
                    <a:pt x="767" y="771"/>
                  </a:lnTo>
                  <a:lnTo>
                    <a:pt x="635" y="862"/>
                  </a:lnTo>
                  <a:lnTo>
                    <a:pt x="515" y="939"/>
                  </a:lnTo>
                  <a:lnTo>
                    <a:pt x="421" y="1003"/>
                  </a:lnTo>
                  <a:lnTo>
                    <a:pt x="352" y="1053"/>
                  </a:lnTo>
                  <a:lnTo>
                    <a:pt x="327" y="1073"/>
                  </a:lnTo>
                  <a:lnTo>
                    <a:pt x="308" y="1090"/>
                  </a:lnTo>
                  <a:lnTo>
                    <a:pt x="294" y="1104"/>
                  </a:lnTo>
                  <a:lnTo>
                    <a:pt x="281" y="1120"/>
                  </a:lnTo>
                  <a:lnTo>
                    <a:pt x="271" y="1135"/>
                  </a:lnTo>
                  <a:lnTo>
                    <a:pt x="266" y="1143"/>
                  </a:lnTo>
                  <a:lnTo>
                    <a:pt x="262" y="1150"/>
                  </a:lnTo>
                  <a:lnTo>
                    <a:pt x="259" y="1157"/>
                  </a:lnTo>
                  <a:lnTo>
                    <a:pt x="255" y="1166"/>
                  </a:lnTo>
                  <a:lnTo>
                    <a:pt x="253" y="1173"/>
                  </a:lnTo>
                  <a:lnTo>
                    <a:pt x="251" y="1181"/>
                  </a:lnTo>
                  <a:lnTo>
                    <a:pt x="249" y="1189"/>
                  </a:lnTo>
                  <a:lnTo>
                    <a:pt x="248" y="1197"/>
                  </a:lnTo>
                  <a:lnTo>
                    <a:pt x="247" y="1204"/>
                  </a:lnTo>
                  <a:lnTo>
                    <a:pt x="247" y="1213"/>
                  </a:lnTo>
                  <a:lnTo>
                    <a:pt x="248" y="1225"/>
                  </a:lnTo>
                  <a:lnTo>
                    <a:pt x="249" y="1238"/>
                  </a:lnTo>
                  <a:lnTo>
                    <a:pt x="252" y="1249"/>
                  </a:lnTo>
                  <a:lnTo>
                    <a:pt x="256" y="1260"/>
                  </a:lnTo>
                  <a:lnTo>
                    <a:pt x="261" y="1269"/>
                  </a:lnTo>
                  <a:lnTo>
                    <a:pt x="267" y="1277"/>
                  </a:lnTo>
                  <a:lnTo>
                    <a:pt x="275" y="1286"/>
                  </a:lnTo>
                  <a:lnTo>
                    <a:pt x="283" y="1293"/>
                  </a:lnTo>
                  <a:lnTo>
                    <a:pt x="293" y="1298"/>
                  </a:lnTo>
                  <a:lnTo>
                    <a:pt x="303" y="1304"/>
                  </a:lnTo>
                  <a:lnTo>
                    <a:pt x="315" y="1309"/>
                  </a:lnTo>
                  <a:lnTo>
                    <a:pt x="328" y="1313"/>
                  </a:lnTo>
                  <a:lnTo>
                    <a:pt x="343" y="1315"/>
                  </a:lnTo>
                  <a:lnTo>
                    <a:pt x="358" y="1317"/>
                  </a:lnTo>
                  <a:lnTo>
                    <a:pt x="392" y="1319"/>
                  </a:lnTo>
                  <a:lnTo>
                    <a:pt x="409" y="1319"/>
                  </a:lnTo>
                  <a:lnTo>
                    <a:pt x="425" y="1317"/>
                  </a:lnTo>
                  <a:lnTo>
                    <a:pt x="440" y="1315"/>
                  </a:lnTo>
                  <a:lnTo>
                    <a:pt x="454" y="1312"/>
                  </a:lnTo>
                  <a:lnTo>
                    <a:pt x="467" y="1306"/>
                  </a:lnTo>
                  <a:lnTo>
                    <a:pt x="480" y="1301"/>
                  </a:lnTo>
                  <a:lnTo>
                    <a:pt x="485" y="1298"/>
                  </a:lnTo>
                  <a:lnTo>
                    <a:pt x="491" y="1295"/>
                  </a:lnTo>
                  <a:lnTo>
                    <a:pt x="496" y="1292"/>
                  </a:lnTo>
                  <a:lnTo>
                    <a:pt x="501" y="1288"/>
                  </a:lnTo>
                  <a:lnTo>
                    <a:pt x="506" y="1284"/>
                  </a:lnTo>
                  <a:lnTo>
                    <a:pt x="511" y="1279"/>
                  </a:lnTo>
                  <a:lnTo>
                    <a:pt x="522" y="1269"/>
                  </a:lnTo>
                  <a:lnTo>
                    <a:pt x="533" y="1255"/>
                  </a:lnTo>
                  <a:lnTo>
                    <a:pt x="544" y="1241"/>
                  </a:lnTo>
                  <a:lnTo>
                    <a:pt x="556" y="1224"/>
                  </a:lnTo>
                  <a:lnTo>
                    <a:pt x="568" y="1204"/>
                  </a:lnTo>
                  <a:lnTo>
                    <a:pt x="593" y="1160"/>
                  </a:lnTo>
                  <a:lnTo>
                    <a:pt x="602" y="1140"/>
                  </a:lnTo>
                  <a:lnTo>
                    <a:pt x="611" y="1122"/>
                  </a:lnTo>
                  <a:lnTo>
                    <a:pt x="620" y="1104"/>
                  </a:lnTo>
                  <a:lnTo>
                    <a:pt x="630" y="1089"/>
                  </a:lnTo>
                  <a:lnTo>
                    <a:pt x="640" y="1074"/>
                  </a:lnTo>
                  <a:lnTo>
                    <a:pt x="650" y="1062"/>
                  </a:lnTo>
                  <a:lnTo>
                    <a:pt x="661" y="1049"/>
                  </a:lnTo>
                  <a:lnTo>
                    <a:pt x="672" y="1039"/>
                  </a:lnTo>
                  <a:lnTo>
                    <a:pt x="684" y="1029"/>
                  </a:lnTo>
                  <a:lnTo>
                    <a:pt x="696" y="1022"/>
                  </a:lnTo>
                  <a:lnTo>
                    <a:pt x="709" y="1015"/>
                  </a:lnTo>
                  <a:lnTo>
                    <a:pt x="723" y="1010"/>
                  </a:lnTo>
                  <a:lnTo>
                    <a:pt x="738" y="1004"/>
                  </a:lnTo>
                  <a:lnTo>
                    <a:pt x="753" y="1001"/>
                  </a:lnTo>
                  <a:lnTo>
                    <a:pt x="770" y="1000"/>
                  </a:lnTo>
                  <a:lnTo>
                    <a:pt x="787" y="999"/>
                  </a:lnTo>
                  <a:lnTo>
                    <a:pt x="801" y="999"/>
                  </a:lnTo>
                  <a:lnTo>
                    <a:pt x="815" y="1001"/>
                  </a:lnTo>
                  <a:lnTo>
                    <a:pt x="827" y="1003"/>
                  </a:lnTo>
                  <a:lnTo>
                    <a:pt x="839" y="1007"/>
                  </a:lnTo>
                  <a:lnTo>
                    <a:pt x="850" y="1012"/>
                  </a:lnTo>
                  <a:lnTo>
                    <a:pt x="859" y="1017"/>
                  </a:lnTo>
                  <a:lnTo>
                    <a:pt x="868" y="1023"/>
                  </a:lnTo>
                  <a:lnTo>
                    <a:pt x="876" y="1030"/>
                  </a:lnTo>
                  <a:lnTo>
                    <a:pt x="883" y="1039"/>
                  </a:lnTo>
                  <a:lnTo>
                    <a:pt x="889" y="1048"/>
                  </a:lnTo>
                  <a:lnTo>
                    <a:pt x="894" y="1059"/>
                  </a:lnTo>
                  <a:lnTo>
                    <a:pt x="899" y="1070"/>
                  </a:lnTo>
                  <a:lnTo>
                    <a:pt x="902" y="1082"/>
                  </a:lnTo>
                  <a:lnTo>
                    <a:pt x="904" y="1096"/>
                  </a:lnTo>
                  <a:lnTo>
                    <a:pt x="906" y="1110"/>
                  </a:lnTo>
                  <a:lnTo>
                    <a:pt x="906" y="1125"/>
                  </a:lnTo>
                  <a:lnTo>
                    <a:pt x="905" y="1141"/>
                  </a:lnTo>
                  <a:lnTo>
                    <a:pt x="903" y="1155"/>
                  </a:lnTo>
                  <a:lnTo>
                    <a:pt x="900" y="1171"/>
                  </a:lnTo>
                  <a:lnTo>
                    <a:pt x="896" y="1186"/>
                  </a:lnTo>
                  <a:lnTo>
                    <a:pt x="890" y="1201"/>
                  </a:lnTo>
                  <a:lnTo>
                    <a:pt x="883" y="1216"/>
                  </a:lnTo>
                  <a:lnTo>
                    <a:pt x="875" y="1230"/>
                  </a:lnTo>
                  <a:lnTo>
                    <a:pt x="866" y="1246"/>
                  </a:lnTo>
                  <a:lnTo>
                    <a:pt x="855" y="1261"/>
                  </a:lnTo>
                  <a:lnTo>
                    <a:pt x="843" y="1275"/>
                  </a:lnTo>
                  <a:lnTo>
                    <a:pt x="815" y="1304"/>
                  </a:lnTo>
                  <a:lnTo>
                    <a:pt x="782" y="1334"/>
                  </a:lnTo>
                  <a:lnTo>
                    <a:pt x="744" y="1363"/>
                  </a:lnTo>
                  <a:lnTo>
                    <a:pt x="703" y="1390"/>
                  </a:lnTo>
                  <a:lnTo>
                    <a:pt x="661" y="1413"/>
                  </a:lnTo>
                  <a:lnTo>
                    <a:pt x="618" y="1432"/>
                  </a:lnTo>
                  <a:lnTo>
                    <a:pt x="573" y="1448"/>
                  </a:lnTo>
                  <a:lnTo>
                    <a:pt x="527" y="1461"/>
                  </a:lnTo>
                  <a:lnTo>
                    <a:pt x="480" y="1470"/>
                  </a:lnTo>
                  <a:lnTo>
                    <a:pt x="432" y="1475"/>
                  </a:lnTo>
                  <a:lnTo>
                    <a:pt x="382" y="1477"/>
                  </a:lnTo>
                  <a:lnTo>
                    <a:pt x="336" y="1476"/>
                  </a:lnTo>
                  <a:lnTo>
                    <a:pt x="293" y="1472"/>
                  </a:lnTo>
                  <a:lnTo>
                    <a:pt x="252" y="1467"/>
                  </a:lnTo>
                  <a:lnTo>
                    <a:pt x="215" y="1458"/>
                  </a:lnTo>
                  <a:lnTo>
                    <a:pt x="181" y="1448"/>
                  </a:lnTo>
                  <a:lnTo>
                    <a:pt x="150" y="1435"/>
                  </a:lnTo>
                  <a:lnTo>
                    <a:pt x="121" y="1420"/>
                  </a:lnTo>
                  <a:lnTo>
                    <a:pt x="96" y="1402"/>
                  </a:lnTo>
                  <a:lnTo>
                    <a:pt x="73" y="1382"/>
                  </a:lnTo>
                  <a:lnTo>
                    <a:pt x="54" y="1360"/>
                  </a:lnTo>
                  <a:lnTo>
                    <a:pt x="37" y="1335"/>
                  </a:lnTo>
                  <a:lnTo>
                    <a:pt x="24" y="1307"/>
                  </a:lnTo>
                  <a:lnTo>
                    <a:pt x="13" y="1278"/>
                  </a:lnTo>
                  <a:lnTo>
                    <a:pt x="6" y="1246"/>
                  </a:lnTo>
                  <a:lnTo>
                    <a:pt x="1" y="1212"/>
                  </a:lnTo>
                  <a:lnTo>
                    <a:pt x="0" y="1175"/>
                  </a:lnTo>
                  <a:lnTo>
                    <a:pt x="2" y="1138"/>
                  </a:lnTo>
                  <a:lnTo>
                    <a:pt x="6" y="1102"/>
                  </a:lnTo>
                  <a:lnTo>
                    <a:pt x="14" y="1067"/>
                  </a:lnTo>
                  <a:lnTo>
                    <a:pt x="25" y="1034"/>
                  </a:lnTo>
                  <a:lnTo>
                    <a:pt x="39" y="1000"/>
                  </a:lnTo>
                  <a:lnTo>
                    <a:pt x="56" y="969"/>
                  </a:lnTo>
                  <a:lnTo>
                    <a:pt x="76" y="938"/>
                  </a:lnTo>
                  <a:lnTo>
                    <a:pt x="99" y="909"/>
                  </a:lnTo>
                  <a:lnTo>
                    <a:pt x="126" y="878"/>
                  </a:lnTo>
                  <a:lnTo>
                    <a:pt x="159" y="846"/>
                  </a:lnTo>
                  <a:lnTo>
                    <a:pt x="196" y="813"/>
                  </a:lnTo>
                  <a:lnTo>
                    <a:pt x="239" y="777"/>
                  </a:lnTo>
                  <a:lnTo>
                    <a:pt x="339" y="700"/>
                  </a:lnTo>
                  <a:lnTo>
                    <a:pt x="460" y="616"/>
                  </a:lnTo>
                  <a:lnTo>
                    <a:pt x="572" y="540"/>
                  </a:lnTo>
                  <a:lnTo>
                    <a:pt x="662" y="474"/>
                  </a:lnTo>
                  <a:lnTo>
                    <a:pt x="731" y="419"/>
                  </a:lnTo>
                  <a:lnTo>
                    <a:pt x="758" y="396"/>
                  </a:lnTo>
                  <a:lnTo>
                    <a:pt x="779" y="375"/>
                  </a:lnTo>
                  <a:lnTo>
                    <a:pt x="797" y="357"/>
                  </a:lnTo>
                  <a:lnTo>
                    <a:pt x="812" y="338"/>
                  </a:lnTo>
                  <a:lnTo>
                    <a:pt x="824" y="319"/>
                  </a:lnTo>
                  <a:lnTo>
                    <a:pt x="835" y="300"/>
                  </a:lnTo>
                  <a:lnTo>
                    <a:pt x="839" y="291"/>
                  </a:lnTo>
                  <a:lnTo>
                    <a:pt x="843" y="283"/>
                  </a:lnTo>
                  <a:lnTo>
                    <a:pt x="846" y="273"/>
                  </a:lnTo>
                  <a:lnTo>
                    <a:pt x="848" y="265"/>
                  </a:lnTo>
                  <a:lnTo>
                    <a:pt x="850" y="255"/>
                  </a:lnTo>
                  <a:lnTo>
                    <a:pt x="852" y="247"/>
                  </a:lnTo>
                  <a:lnTo>
                    <a:pt x="853" y="238"/>
                  </a:lnTo>
                  <a:lnTo>
                    <a:pt x="853" y="229"/>
                  </a:lnTo>
                  <a:lnTo>
                    <a:pt x="853" y="222"/>
                  </a:lnTo>
                  <a:lnTo>
                    <a:pt x="852" y="216"/>
                  </a:lnTo>
                  <a:lnTo>
                    <a:pt x="851" y="211"/>
                  </a:lnTo>
                  <a:lnTo>
                    <a:pt x="850" y="204"/>
                  </a:lnTo>
                  <a:lnTo>
                    <a:pt x="848" y="199"/>
                  </a:lnTo>
                  <a:lnTo>
                    <a:pt x="846" y="195"/>
                  </a:lnTo>
                  <a:lnTo>
                    <a:pt x="843" y="191"/>
                  </a:lnTo>
                  <a:lnTo>
                    <a:pt x="840" y="187"/>
                  </a:lnTo>
                  <a:lnTo>
                    <a:pt x="837" y="184"/>
                  </a:lnTo>
                  <a:lnTo>
                    <a:pt x="833" y="180"/>
                  </a:lnTo>
                  <a:lnTo>
                    <a:pt x="829" y="178"/>
                  </a:lnTo>
                  <a:lnTo>
                    <a:pt x="824" y="176"/>
                  </a:lnTo>
                  <a:lnTo>
                    <a:pt x="819" y="174"/>
                  </a:lnTo>
                  <a:lnTo>
                    <a:pt x="813" y="173"/>
                  </a:lnTo>
                  <a:lnTo>
                    <a:pt x="807" y="172"/>
                  </a:lnTo>
                  <a:lnTo>
                    <a:pt x="801" y="172"/>
                  </a:lnTo>
                  <a:lnTo>
                    <a:pt x="794" y="172"/>
                  </a:lnTo>
                  <a:lnTo>
                    <a:pt x="787" y="174"/>
                  </a:lnTo>
                  <a:lnTo>
                    <a:pt x="778" y="176"/>
                  </a:lnTo>
                  <a:lnTo>
                    <a:pt x="770" y="179"/>
                  </a:lnTo>
                  <a:lnTo>
                    <a:pt x="750" y="188"/>
                  </a:lnTo>
                  <a:lnTo>
                    <a:pt x="728" y="200"/>
                  </a:lnTo>
                  <a:lnTo>
                    <a:pt x="704" y="216"/>
                  </a:lnTo>
                  <a:lnTo>
                    <a:pt x="677" y="236"/>
                  </a:lnTo>
                  <a:lnTo>
                    <a:pt x="615" y="286"/>
                  </a:lnTo>
                  <a:lnTo>
                    <a:pt x="591" y="304"/>
                  </a:lnTo>
                  <a:lnTo>
                    <a:pt x="569" y="320"/>
                  </a:lnTo>
                  <a:lnTo>
                    <a:pt x="546" y="334"/>
                  </a:lnTo>
                  <a:lnTo>
                    <a:pt x="525" y="344"/>
                  </a:lnTo>
                  <a:lnTo>
                    <a:pt x="504" y="352"/>
                  </a:lnTo>
                  <a:lnTo>
                    <a:pt x="485" y="359"/>
                  </a:lnTo>
                  <a:lnTo>
                    <a:pt x="475" y="361"/>
                  </a:lnTo>
                  <a:lnTo>
                    <a:pt x="465" y="363"/>
                  </a:lnTo>
                  <a:lnTo>
                    <a:pt x="456" y="364"/>
                  </a:lnTo>
                  <a:lnTo>
                    <a:pt x="447" y="364"/>
                  </a:lnTo>
                  <a:lnTo>
                    <a:pt x="433" y="364"/>
                  </a:lnTo>
                  <a:lnTo>
                    <a:pt x="419" y="362"/>
                  </a:lnTo>
                  <a:lnTo>
                    <a:pt x="407" y="360"/>
                  </a:lnTo>
                  <a:lnTo>
                    <a:pt x="395" y="357"/>
                  </a:lnTo>
                  <a:lnTo>
                    <a:pt x="385" y="353"/>
                  </a:lnTo>
                  <a:lnTo>
                    <a:pt x="375" y="348"/>
                  </a:lnTo>
                  <a:lnTo>
                    <a:pt x="366" y="343"/>
                  </a:lnTo>
                  <a:lnTo>
                    <a:pt x="358" y="337"/>
                  </a:lnTo>
                  <a:lnTo>
                    <a:pt x="351" y="329"/>
                  </a:lnTo>
                  <a:lnTo>
                    <a:pt x="346" y="321"/>
                  </a:lnTo>
                  <a:lnTo>
                    <a:pt x="340" y="313"/>
                  </a:lnTo>
                  <a:lnTo>
                    <a:pt x="336" y="302"/>
                  </a:lnTo>
                  <a:lnTo>
                    <a:pt x="333" y="292"/>
                  </a:lnTo>
                  <a:lnTo>
                    <a:pt x="331" y="280"/>
                  </a:lnTo>
                  <a:lnTo>
                    <a:pt x="329" y="269"/>
                  </a:lnTo>
                  <a:lnTo>
                    <a:pt x="329" y="255"/>
                  </a:lnTo>
                  <a:lnTo>
                    <a:pt x="330" y="243"/>
                  </a:lnTo>
                  <a:lnTo>
                    <a:pt x="331" y="232"/>
                  </a:lnTo>
                  <a:lnTo>
                    <a:pt x="334" y="220"/>
                  </a:lnTo>
                  <a:lnTo>
                    <a:pt x="337" y="209"/>
                  </a:lnTo>
                  <a:lnTo>
                    <a:pt x="342" y="197"/>
                  </a:lnTo>
                  <a:lnTo>
                    <a:pt x="347" y="186"/>
                  </a:lnTo>
                  <a:lnTo>
                    <a:pt x="354" y="174"/>
                  </a:lnTo>
                  <a:lnTo>
                    <a:pt x="361" y="163"/>
                  </a:lnTo>
                  <a:lnTo>
                    <a:pt x="369" y="152"/>
                  </a:lnTo>
                  <a:lnTo>
                    <a:pt x="379" y="142"/>
                  </a:lnTo>
                  <a:lnTo>
                    <a:pt x="389" y="130"/>
                  </a:lnTo>
                  <a:lnTo>
                    <a:pt x="401" y="120"/>
                  </a:lnTo>
                  <a:lnTo>
                    <a:pt x="426" y="99"/>
                  </a:lnTo>
                  <a:lnTo>
                    <a:pt x="456" y="79"/>
                  </a:lnTo>
                  <a:lnTo>
                    <a:pt x="488" y="61"/>
                  </a:lnTo>
                  <a:lnTo>
                    <a:pt x="522" y="45"/>
                  </a:lnTo>
                  <a:lnTo>
                    <a:pt x="556" y="32"/>
                  </a:lnTo>
                  <a:lnTo>
                    <a:pt x="592" y="20"/>
                  </a:lnTo>
                  <a:lnTo>
                    <a:pt x="629" y="12"/>
                  </a:lnTo>
                  <a:lnTo>
                    <a:pt x="666" y="5"/>
                  </a:lnTo>
                  <a:lnTo>
                    <a:pt x="705" y="1"/>
                  </a:lnTo>
                  <a:lnTo>
                    <a:pt x="745" y="0"/>
                  </a:lnTo>
                  <a:lnTo>
                    <a:pt x="782" y="1"/>
                  </a:lnTo>
                  <a:lnTo>
                    <a:pt x="817" y="5"/>
                  </a:lnTo>
                  <a:lnTo>
                    <a:pt x="850" y="11"/>
                  </a:lnTo>
                  <a:lnTo>
                    <a:pt x="881" y="19"/>
                  </a:lnTo>
                  <a:lnTo>
                    <a:pt x="910" y="29"/>
                  </a:lnTo>
                  <a:lnTo>
                    <a:pt x="938" y="43"/>
                  </a:lnTo>
                  <a:lnTo>
                    <a:pt x="951" y="50"/>
                  </a:lnTo>
                  <a:lnTo>
                    <a:pt x="963" y="59"/>
                  </a:lnTo>
                  <a:lnTo>
                    <a:pt x="975" y="67"/>
                  </a:lnTo>
                  <a:lnTo>
                    <a:pt x="986" y="76"/>
                  </a:lnTo>
                  <a:lnTo>
                    <a:pt x="997" y="86"/>
                  </a:lnTo>
                  <a:lnTo>
                    <a:pt x="1007" y="96"/>
                  </a:lnTo>
                  <a:lnTo>
                    <a:pt x="1016" y="107"/>
                  </a:lnTo>
                  <a:lnTo>
                    <a:pt x="1025" y="117"/>
                  </a:lnTo>
                  <a:lnTo>
                    <a:pt x="1033" y="128"/>
                  </a:lnTo>
                  <a:lnTo>
                    <a:pt x="1040" y="140"/>
                  </a:lnTo>
                  <a:lnTo>
                    <a:pt x="1046" y="152"/>
                  </a:lnTo>
                  <a:lnTo>
                    <a:pt x="1052" y="165"/>
                  </a:lnTo>
                  <a:lnTo>
                    <a:pt x="1057" y="177"/>
                  </a:lnTo>
                  <a:lnTo>
                    <a:pt x="1062" y="191"/>
                  </a:lnTo>
                  <a:lnTo>
                    <a:pt x="1065" y="204"/>
                  </a:lnTo>
                  <a:lnTo>
                    <a:pt x="1069" y="218"/>
                  </a:lnTo>
                  <a:lnTo>
                    <a:pt x="1071" y="233"/>
                  </a:lnTo>
                  <a:lnTo>
                    <a:pt x="1073" y="247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24560" y="853920"/>
              <a:ext cx="480960" cy="551160"/>
            </a:xfrm>
            <a:custGeom>
              <a:avLst/>
              <a:gdLst/>
              <a:ahLst/>
              <a:rect l="l" t="t" r="r" b="b"/>
              <a:pathLst>
                <a:path w="1337" h="1528">
                  <a:moveTo>
                    <a:pt x="1109" y="28"/>
                  </a:moveTo>
                  <a:lnTo>
                    <a:pt x="1265" y="0"/>
                  </a:lnTo>
                  <a:lnTo>
                    <a:pt x="1147" y="454"/>
                  </a:lnTo>
                  <a:lnTo>
                    <a:pt x="1112" y="582"/>
                  </a:lnTo>
                  <a:lnTo>
                    <a:pt x="1079" y="718"/>
                  </a:lnTo>
                  <a:lnTo>
                    <a:pt x="1046" y="863"/>
                  </a:lnTo>
                  <a:lnTo>
                    <a:pt x="1015" y="1016"/>
                  </a:lnTo>
                  <a:lnTo>
                    <a:pt x="1001" y="1092"/>
                  </a:lnTo>
                  <a:lnTo>
                    <a:pt x="990" y="1154"/>
                  </a:lnTo>
                  <a:lnTo>
                    <a:pt x="984" y="1200"/>
                  </a:lnTo>
                  <a:lnTo>
                    <a:pt x="983" y="1219"/>
                  </a:lnTo>
                  <a:lnTo>
                    <a:pt x="982" y="1233"/>
                  </a:lnTo>
                  <a:lnTo>
                    <a:pt x="982" y="1237"/>
                  </a:lnTo>
                  <a:lnTo>
                    <a:pt x="982" y="1240"/>
                  </a:lnTo>
                  <a:lnTo>
                    <a:pt x="983" y="1243"/>
                  </a:lnTo>
                  <a:lnTo>
                    <a:pt x="983" y="1244"/>
                  </a:lnTo>
                  <a:lnTo>
                    <a:pt x="984" y="1246"/>
                  </a:lnTo>
                  <a:lnTo>
                    <a:pt x="984" y="1247"/>
                  </a:lnTo>
                  <a:lnTo>
                    <a:pt x="984" y="1248"/>
                  </a:lnTo>
                  <a:lnTo>
                    <a:pt x="985" y="1248"/>
                  </a:lnTo>
                  <a:lnTo>
                    <a:pt x="985" y="1249"/>
                  </a:lnTo>
                  <a:lnTo>
                    <a:pt x="986" y="1249"/>
                  </a:lnTo>
                  <a:lnTo>
                    <a:pt x="986" y="1249"/>
                  </a:lnTo>
                  <a:lnTo>
                    <a:pt x="986" y="1250"/>
                  </a:lnTo>
                  <a:lnTo>
                    <a:pt x="987" y="1250"/>
                  </a:lnTo>
                  <a:lnTo>
                    <a:pt x="987" y="1250"/>
                  </a:lnTo>
                  <a:lnTo>
                    <a:pt x="987" y="1250"/>
                  </a:lnTo>
                  <a:lnTo>
                    <a:pt x="988" y="1250"/>
                  </a:lnTo>
                  <a:lnTo>
                    <a:pt x="988" y="1250"/>
                  </a:lnTo>
                  <a:lnTo>
                    <a:pt x="990" y="1250"/>
                  </a:lnTo>
                  <a:lnTo>
                    <a:pt x="993" y="1250"/>
                  </a:lnTo>
                  <a:lnTo>
                    <a:pt x="995" y="1249"/>
                  </a:lnTo>
                  <a:lnTo>
                    <a:pt x="998" y="1248"/>
                  </a:lnTo>
                  <a:lnTo>
                    <a:pt x="1005" y="1246"/>
                  </a:lnTo>
                  <a:lnTo>
                    <a:pt x="1012" y="1243"/>
                  </a:lnTo>
                  <a:lnTo>
                    <a:pt x="1020" y="1239"/>
                  </a:lnTo>
                  <a:lnTo>
                    <a:pt x="1030" y="1234"/>
                  </a:lnTo>
                  <a:lnTo>
                    <a:pt x="1051" y="1221"/>
                  </a:lnTo>
                  <a:lnTo>
                    <a:pt x="1098" y="1190"/>
                  </a:lnTo>
                  <a:lnTo>
                    <a:pt x="1148" y="1153"/>
                  </a:lnTo>
                  <a:lnTo>
                    <a:pt x="1200" y="1113"/>
                  </a:lnTo>
                  <a:lnTo>
                    <a:pt x="1256" y="1066"/>
                  </a:lnTo>
                  <a:lnTo>
                    <a:pt x="1336" y="1166"/>
                  </a:lnTo>
                  <a:lnTo>
                    <a:pt x="1181" y="1318"/>
                  </a:lnTo>
                  <a:lnTo>
                    <a:pt x="1129" y="1365"/>
                  </a:lnTo>
                  <a:lnTo>
                    <a:pt x="1110" y="1382"/>
                  </a:lnTo>
                  <a:lnTo>
                    <a:pt x="1094" y="1394"/>
                  </a:lnTo>
                  <a:lnTo>
                    <a:pt x="1043" y="1428"/>
                  </a:lnTo>
                  <a:lnTo>
                    <a:pt x="993" y="1459"/>
                  </a:lnTo>
                  <a:lnTo>
                    <a:pt x="968" y="1471"/>
                  </a:lnTo>
                  <a:lnTo>
                    <a:pt x="944" y="1484"/>
                  </a:lnTo>
                  <a:lnTo>
                    <a:pt x="920" y="1494"/>
                  </a:lnTo>
                  <a:lnTo>
                    <a:pt x="896" y="1503"/>
                  </a:lnTo>
                  <a:lnTo>
                    <a:pt x="880" y="1510"/>
                  </a:lnTo>
                  <a:lnTo>
                    <a:pt x="865" y="1514"/>
                  </a:lnTo>
                  <a:lnTo>
                    <a:pt x="849" y="1518"/>
                  </a:lnTo>
                  <a:lnTo>
                    <a:pt x="833" y="1522"/>
                  </a:lnTo>
                  <a:lnTo>
                    <a:pt x="817" y="1524"/>
                  </a:lnTo>
                  <a:lnTo>
                    <a:pt x="802" y="1526"/>
                  </a:lnTo>
                  <a:lnTo>
                    <a:pt x="786" y="1527"/>
                  </a:lnTo>
                  <a:lnTo>
                    <a:pt x="770" y="1527"/>
                  </a:lnTo>
                  <a:lnTo>
                    <a:pt x="757" y="1527"/>
                  </a:lnTo>
                  <a:lnTo>
                    <a:pt x="745" y="1525"/>
                  </a:lnTo>
                  <a:lnTo>
                    <a:pt x="733" y="1523"/>
                  </a:lnTo>
                  <a:lnTo>
                    <a:pt x="722" y="1520"/>
                  </a:lnTo>
                  <a:lnTo>
                    <a:pt x="712" y="1516"/>
                  </a:lnTo>
                  <a:lnTo>
                    <a:pt x="707" y="1514"/>
                  </a:lnTo>
                  <a:lnTo>
                    <a:pt x="703" y="1512"/>
                  </a:lnTo>
                  <a:lnTo>
                    <a:pt x="699" y="1509"/>
                  </a:lnTo>
                  <a:lnTo>
                    <a:pt x="695" y="1505"/>
                  </a:lnTo>
                  <a:lnTo>
                    <a:pt x="691" y="1502"/>
                  </a:lnTo>
                  <a:lnTo>
                    <a:pt x="687" y="1499"/>
                  </a:lnTo>
                  <a:lnTo>
                    <a:pt x="683" y="1496"/>
                  </a:lnTo>
                  <a:lnTo>
                    <a:pt x="680" y="1492"/>
                  </a:lnTo>
                  <a:lnTo>
                    <a:pt x="677" y="1488"/>
                  </a:lnTo>
                  <a:lnTo>
                    <a:pt x="674" y="1484"/>
                  </a:lnTo>
                  <a:lnTo>
                    <a:pt x="671" y="1479"/>
                  </a:lnTo>
                  <a:lnTo>
                    <a:pt x="669" y="1474"/>
                  </a:lnTo>
                  <a:lnTo>
                    <a:pt x="666" y="1470"/>
                  </a:lnTo>
                  <a:lnTo>
                    <a:pt x="665" y="1465"/>
                  </a:lnTo>
                  <a:lnTo>
                    <a:pt x="663" y="1460"/>
                  </a:lnTo>
                  <a:lnTo>
                    <a:pt x="661" y="1454"/>
                  </a:lnTo>
                  <a:lnTo>
                    <a:pt x="659" y="1443"/>
                  </a:lnTo>
                  <a:lnTo>
                    <a:pt x="657" y="1432"/>
                  </a:lnTo>
                  <a:lnTo>
                    <a:pt x="657" y="1419"/>
                  </a:lnTo>
                  <a:lnTo>
                    <a:pt x="657" y="1411"/>
                  </a:lnTo>
                  <a:lnTo>
                    <a:pt x="658" y="1402"/>
                  </a:lnTo>
                  <a:lnTo>
                    <a:pt x="659" y="1394"/>
                  </a:lnTo>
                  <a:lnTo>
                    <a:pt x="661" y="1385"/>
                  </a:lnTo>
                  <a:lnTo>
                    <a:pt x="665" y="1365"/>
                  </a:lnTo>
                  <a:lnTo>
                    <a:pt x="671" y="1343"/>
                  </a:lnTo>
                  <a:lnTo>
                    <a:pt x="732" y="1165"/>
                  </a:lnTo>
                  <a:lnTo>
                    <a:pt x="711" y="1203"/>
                  </a:lnTo>
                  <a:lnTo>
                    <a:pt x="686" y="1240"/>
                  </a:lnTo>
                  <a:lnTo>
                    <a:pt x="659" y="1275"/>
                  </a:lnTo>
                  <a:lnTo>
                    <a:pt x="629" y="1309"/>
                  </a:lnTo>
                  <a:lnTo>
                    <a:pt x="596" y="1340"/>
                  </a:lnTo>
                  <a:lnTo>
                    <a:pt x="560" y="1369"/>
                  </a:lnTo>
                  <a:lnTo>
                    <a:pt x="520" y="1396"/>
                  </a:lnTo>
                  <a:lnTo>
                    <a:pt x="478" y="1421"/>
                  </a:lnTo>
                  <a:lnTo>
                    <a:pt x="444" y="1446"/>
                  </a:lnTo>
                  <a:lnTo>
                    <a:pt x="412" y="1467"/>
                  </a:lnTo>
                  <a:lnTo>
                    <a:pt x="380" y="1485"/>
                  </a:lnTo>
                  <a:lnTo>
                    <a:pt x="349" y="1500"/>
                  </a:lnTo>
                  <a:lnTo>
                    <a:pt x="319" y="1512"/>
                  </a:lnTo>
                  <a:lnTo>
                    <a:pt x="291" y="1520"/>
                  </a:lnTo>
                  <a:lnTo>
                    <a:pt x="277" y="1522"/>
                  </a:lnTo>
                  <a:lnTo>
                    <a:pt x="263" y="1524"/>
                  </a:lnTo>
                  <a:lnTo>
                    <a:pt x="249" y="1526"/>
                  </a:lnTo>
                  <a:lnTo>
                    <a:pt x="236" y="1526"/>
                  </a:lnTo>
                  <a:lnTo>
                    <a:pt x="223" y="1525"/>
                  </a:lnTo>
                  <a:lnTo>
                    <a:pt x="210" y="1524"/>
                  </a:lnTo>
                  <a:lnTo>
                    <a:pt x="198" y="1521"/>
                  </a:lnTo>
                  <a:lnTo>
                    <a:pt x="185" y="1518"/>
                  </a:lnTo>
                  <a:lnTo>
                    <a:pt x="174" y="1513"/>
                  </a:lnTo>
                  <a:lnTo>
                    <a:pt x="162" y="1508"/>
                  </a:lnTo>
                  <a:lnTo>
                    <a:pt x="151" y="1500"/>
                  </a:lnTo>
                  <a:lnTo>
                    <a:pt x="140" y="1493"/>
                  </a:lnTo>
                  <a:lnTo>
                    <a:pt x="129" y="1485"/>
                  </a:lnTo>
                  <a:lnTo>
                    <a:pt x="119" y="1474"/>
                  </a:lnTo>
                  <a:lnTo>
                    <a:pt x="109" y="1464"/>
                  </a:lnTo>
                  <a:lnTo>
                    <a:pt x="100" y="1451"/>
                  </a:lnTo>
                  <a:lnTo>
                    <a:pt x="91" y="1439"/>
                  </a:lnTo>
                  <a:lnTo>
                    <a:pt x="82" y="1425"/>
                  </a:lnTo>
                  <a:lnTo>
                    <a:pt x="65" y="1394"/>
                  </a:lnTo>
                  <a:lnTo>
                    <a:pt x="57" y="1388"/>
                  </a:lnTo>
                  <a:lnTo>
                    <a:pt x="50" y="1381"/>
                  </a:lnTo>
                  <a:lnTo>
                    <a:pt x="43" y="1373"/>
                  </a:lnTo>
                  <a:lnTo>
                    <a:pt x="37" y="1365"/>
                  </a:lnTo>
                  <a:lnTo>
                    <a:pt x="31" y="1356"/>
                  </a:lnTo>
                  <a:lnTo>
                    <a:pt x="26" y="1345"/>
                  </a:lnTo>
                  <a:lnTo>
                    <a:pt x="21" y="1334"/>
                  </a:lnTo>
                  <a:lnTo>
                    <a:pt x="16" y="1321"/>
                  </a:lnTo>
                  <a:lnTo>
                    <a:pt x="13" y="1309"/>
                  </a:lnTo>
                  <a:lnTo>
                    <a:pt x="9" y="1294"/>
                  </a:lnTo>
                  <a:lnTo>
                    <a:pt x="4" y="1264"/>
                  </a:lnTo>
                  <a:lnTo>
                    <a:pt x="1" y="1231"/>
                  </a:lnTo>
                  <a:lnTo>
                    <a:pt x="0" y="1193"/>
                  </a:lnTo>
                  <a:lnTo>
                    <a:pt x="1" y="1148"/>
                  </a:lnTo>
                  <a:lnTo>
                    <a:pt x="6" y="1101"/>
                  </a:lnTo>
                  <a:lnTo>
                    <a:pt x="13" y="1053"/>
                  </a:lnTo>
                  <a:lnTo>
                    <a:pt x="23" y="1006"/>
                  </a:lnTo>
                  <a:lnTo>
                    <a:pt x="35" y="956"/>
                  </a:lnTo>
                  <a:lnTo>
                    <a:pt x="51" y="903"/>
                  </a:lnTo>
                  <a:lnTo>
                    <a:pt x="69" y="851"/>
                  </a:lnTo>
                  <a:lnTo>
                    <a:pt x="90" y="798"/>
                  </a:lnTo>
                  <a:lnTo>
                    <a:pt x="113" y="745"/>
                  </a:lnTo>
                  <a:lnTo>
                    <a:pt x="139" y="693"/>
                  </a:lnTo>
                  <a:lnTo>
                    <a:pt x="166" y="642"/>
                  </a:lnTo>
                  <a:lnTo>
                    <a:pt x="196" y="592"/>
                  </a:lnTo>
                  <a:lnTo>
                    <a:pt x="227" y="544"/>
                  </a:lnTo>
                  <a:lnTo>
                    <a:pt x="260" y="496"/>
                  </a:lnTo>
                  <a:lnTo>
                    <a:pt x="295" y="450"/>
                  </a:lnTo>
                  <a:lnTo>
                    <a:pt x="332" y="406"/>
                  </a:lnTo>
                  <a:lnTo>
                    <a:pt x="370" y="363"/>
                  </a:lnTo>
                  <a:lnTo>
                    <a:pt x="409" y="323"/>
                  </a:lnTo>
                  <a:lnTo>
                    <a:pt x="449" y="286"/>
                  </a:lnTo>
                  <a:lnTo>
                    <a:pt x="489" y="252"/>
                  </a:lnTo>
                  <a:lnTo>
                    <a:pt x="529" y="221"/>
                  </a:lnTo>
                  <a:lnTo>
                    <a:pt x="570" y="193"/>
                  </a:lnTo>
                  <a:lnTo>
                    <a:pt x="611" y="168"/>
                  </a:lnTo>
                  <a:lnTo>
                    <a:pt x="653" y="145"/>
                  </a:lnTo>
                  <a:lnTo>
                    <a:pt x="687" y="131"/>
                  </a:lnTo>
                  <a:lnTo>
                    <a:pt x="724" y="117"/>
                  </a:lnTo>
                  <a:lnTo>
                    <a:pt x="763" y="106"/>
                  </a:lnTo>
                  <a:lnTo>
                    <a:pt x="804" y="97"/>
                  </a:lnTo>
                  <a:lnTo>
                    <a:pt x="848" y="90"/>
                  </a:lnTo>
                  <a:lnTo>
                    <a:pt x="893" y="85"/>
                  </a:lnTo>
                  <a:lnTo>
                    <a:pt x="941" y="82"/>
                  </a:lnTo>
                  <a:lnTo>
                    <a:pt x="991" y="81"/>
                  </a:lnTo>
                  <a:lnTo>
                    <a:pt x="1015" y="81"/>
                  </a:lnTo>
                  <a:lnTo>
                    <a:pt x="1037" y="83"/>
                  </a:lnTo>
                  <a:lnTo>
                    <a:pt x="1057" y="84"/>
                  </a:lnTo>
                  <a:lnTo>
                    <a:pt x="1076" y="87"/>
                  </a:lnTo>
                  <a:close/>
                  <a:moveTo>
                    <a:pt x="905" y="331"/>
                  </a:moveTo>
                  <a:lnTo>
                    <a:pt x="877" y="325"/>
                  </a:lnTo>
                  <a:lnTo>
                    <a:pt x="849" y="322"/>
                  </a:lnTo>
                  <a:lnTo>
                    <a:pt x="822" y="321"/>
                  </a:lnTo>
                  <a:lnTo>
                    <a:pt x="795" y="320"/>
                  </a:lnTo>
                  <a:lnTo>
                    <a:pt x="763" y="321"/>
                  </a:lnTo>
                  <a:lnTo>
                    <a:pt x="733" y="324"/>
                  </a:lnTo>
                  <a:lnTo>
                    <a:pt x="703" y="331"/>
                  </a:lnTo>
                  <a:lnTo>
                    <a:pt x="674" y="339"/>
                  </a:lnTo>
                  <a:lnTo>
                    <a:pt x="647" y="349"/>
                  </a:lnTo>
                  <a:lnTo>
                    <a:pt x="620" y="362"/>
                  </a:lnTo>
                  <a:lnTo>
                    <a:pt x="595" y="376"/>
                  </a:lnTo>
                  <a:lnTo>
                    <a:pt x="570" y="394"/>
                  </a:lnTo>
                  <a:lnTo>
                    <a:pt x="546" y="415"/>
                  </a:lnTo>
                  <a:lnTo>
                    <a:pt x="522" y="440"/>
                  </a:lnTo>
                  <a:lnTo>
                    <a:pt x="499" y="468"/>
                  </a:lnTo>
                  <a:lnTo>
                    <a:pt x="476" y="500"/>
                  </a:lnTo>
                  <a:lnTo>
                    <a:pt x="453" y="537"/>
                  </a:lnTo>
                  <a:lnTo>
                    <a:pt x="431" y="577"/>
                  </a:lnTo>
                  <a:lnTo>
                    <a:pt x="409" y="622"/>
                  </a:lnTo>
                  <a:lnTo>
                    <a:pt x="387" y="670"/>
                  </a:lnTo>
                  <a:lnTo>
                    <a:pt x="367" y="720"/>
                  </a:lnTo>
                  <a:lnTo>
                    <a:pt x="349" y="771"/>
                  </a:lnTo>
                  <a:lnTo>
                    <a:pt x="334" y="821"/>
                  </a:lnTo>
                  <a:lnTo>
                    <a:pt x="322" y="871"/>
                  </a:lnTo>
                  <a:lnTo>
                    <a:pt x="312" y="921"/>
                  </a:lnTo>
                  <a:lnTo>
                    <a:pt x="305" y="971"/>
                  </a:lnTo>
                  <a:lnTo>
                    <a:pt x="301" y="1022"/>
                  </a:lnTo>
                  <a:lnTo>
                    <a:pt x="300" y="1072"/>
                  </a:lnTo>
                  <a:lnTo>
                    <a:pt x="300" y="1096"/>
                  </a:lnTo>
                  <a:lnTo>
                    <a:pt x="302" y="1118"/>
                  </a:lnTo>
                  <a:lnTo>
                    <a:pt x="304" y="1139"/>
                  </a:lnTo>
                  <a:lnTo>
                    <a:pt x="307" y="1157"/>
                  </a:lnTo>
                  <a:lnTo>
                    <a:pt x="311" y="1173"/>
                  </a:lnTo>
                  <a:lnTo>
                    <a:pt x="315" y="1187"/>
                  </a:lnTo>
                  <a:lnTo>
                    <a:pt x="318" y="1193"/>
                  </a:lnTo>
                  <a:lnTo>
                    <a:pt x="321" y="1199"/>
                  </a:lnTo>
                  <a:lnTo>
                    <a:pt x="324" y="1204"/>
                  </a:lnTo>
                  <a:lnTo>
                    <a:pt x="327" y="1210"/>
                  </a:lnTo>
                  <a:lnTo>
                    <a:pt x="334" y="1218"/>
                  </a:lnTo>
                  <a:lnTo>
                    <a:pt x="338" y="1222"/>
                  </a:lnTo>
                  <a:lnTo>
                    <a:pt x="342" y="1226"/>
                  </a:lnTo>
                  <a:lnTo>
                    <a:pt x="346" y="1229"/>
                  </a:lnTo>
                  <a:lnTo>
                    <a:pt x="350" y="1233"/>
                  </a:lnTo>
                  <a:lnTo>
                    <a:pt x="354" y="1235"/>
                  </a:lnTo>
                  <a:lnTo>
                    <a:pt x="359" y="1238"/>
                  </a:lnTo>
                  <a:lnTo>
                    <a:pt x="363" y="1240"/>
                  </a:lnTo>
                  <a:lnTo>
                    <a:pt x="367" y="1241"/>
                  </a:lnTo>
                  <a:lnTo>
                    <a:pt x="372" y="1243"/>
                  </a:lnTo>
                  <a:lnTo>
                    <a:pt x="377" y="1244"/>
                  </a:lnTo>
                  <a:lnTo>
                    <a:pt x="381" y="1245"/>
                  </a:lnTo>
                  <a:lnTo>
                    <a:pt x="386" y="1245"/>
                  </a:lnTo>
                  <a:lnTo>
                    <a:pt x="391" y="1246"/>
                  </a:lnTo>
                  <a:lnTo>
                    <a:pt x="396" y="1246"/>
                  </a:lnTo>
                  <a:lnTo>
                    <a:pt x="408" y="1246"/>
                  </a:lnTo>
                  <a:lnTo>
                    <a:pt x="420" y="1244"/>
                  </a:lnTo>
                  <a:lnTo>
                    <a:pt x="433" y="1242"/>
                  </a:lnTo>
                  <a:lnTo>
                    <a:pt x="445" y="1239"/>
                  </a:lnTo>
                  <a:lnTo>
                    <a:pt x="458" y="1235"/>
                  </a:lnTo>
                  <a:lnTo>
                    <a:pt x="471" y="1231"/>
                  </a:lnTo>
                  <a:lnTo>
                    <a:pt x="497" y="1218"/>
                  </a:lnTo>
                  <a:lnTo>
                    <a:pt x="523" y="1202"/>
                  </a:lnTo>
                  <a:lnTo>
                    <a:pt x="550" y="1183"/>
                  </a:lnTo>
                  <a:lnTo>
                    <a:pt x="578" y="1160"/>
                  </a:lnTo>
                  <a:lnTo>
                    <a:pt x="606" y="1134"/>
                  </a:lnTo>
                  <a:lnTo>
                    <a:pt x="634" y="1103"/>
                  </a:lnTo>
                  <a:lnTo>
                    <a:pt x="660" y="1071"/>
                  </a:lnTo>
                  <a:lnTo>
                    <a:pt x="684" y="1035"/>
                  </a:lnTo>
                  <a:lnTo>
                    <a:pt x="707" y="995"/>
                  </a:lnTo>
                  <a:lnTo>
                    <a:pt x="727" y="951"/>
                  </a:lnTo>
                  <a:lnTo>
                    <a:pt x="746" y="906"/>
                  </a:lnTo>
                  <a:lnTo>
                    <a:pt x="762" y="856"/>
                  </a:lnTo>
                  <a:lnTo>
                    <a:pt x="777" y="8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81640" y="873000"/>
              <a:ext cx="512640" cy="534960"/>
            </a:xfrm>
            <a:custGeom>
              <a:avLst/>
              <a:gdLst/>
              <a:ahLst/>
              <a:rect l="l" t="t" r="r" b="b"/>
              <a:pathLst>
                <a:path w="1425" h="1487">
                  <a:moveTo>
                    <a:pt x="1067" y="41"/>
                  </a:moveTo>
                  <a:lnTo>
                    <a:pt x="1348" y="41"/>
                  </a:lnTo>
                  <a:lnTo>
                    <a:pt x="1200" y="650"/>
                  </a:lnTo>
                  <a:lnTo>
                    <a:pt x="1104" y="1033"/>
                  </a:lnTo>
                  <a:lnTo>
                    <a:pt x="1080" y="1144"/>
                  </a:lnTo>
                  <a:lnTo>
                    <a:pt x="1074" y="1180"/>
                  </a:lnTo>
                  <a:lnTo>
                    <a:pt x="1072" y="1193"/>
                  </a:lnTo>
                  <a:lnTo>
                    <a:pt x="1072" y="1202"/>
                  </a:lnTo>
                  <a:lnTo>
                    <a:pt x="1072" y="1212"/>
                  </a:lnTo>
                  <a:lnTo>
                    <a:pt x="1072" y="1215"/>
                  </a:lnTo>
                  <a:lnTo>
                    <a:pt x="1073" y="1218"/>
                  </a:lnTo>
                  <a:lnTo>
                    <a:pt x="1073" y="1221"/>
                  </a:lnTo>
                  <a:lnTo>
                    <a:pt x="1074" y="1222"/>
                  </a:lnTo>
                  <a:lnTo>
                    <a:pt x="1074" y="1223"/>
                  </a:lnTo>
                  <a:lnTo>
                    <a:pt x="1075" y="1224"/>
                  </a:lnTo>
                  <a:lnTo>
                    <a:pt x="1075" y="1225"/>
                  </a:lnTo>
                  <a:lnTo>
                    <a:pt x="1075" y="1226"/>
                  </a:lnTo>
                  <a:lnTo>
                    <a:pt x="1076" y="1227"/>
                  </a:lnTo>
                  <a:lnTo>
                    <a:pt x="1077" y="1229"/>
                  </a:lnTo>
                  <a:lnTo>
                    <a:pt x="1078" y="1230"/>
                  </a:lnTo>
                  <a:lnTo>
                    <a:pt x="1079" y="1231"/>
                  </a:lnTo>
                  <a:lnTo>
                    <a:pt x="1080" y="1232"/>
                  </a:lnTo>
                  <a:lnTo>
                    <a:pt x="1081" y="1232"/>
                  </a:lnTo>
                  <a:lnTo>
                    <a:pt x="1082" y="1233"/>
                  </a:lnTo>
                  <a:lnTo>
                    <a:pt x="1082" y="1233"/>
                  </a:lnTo>
                  <a:lnTo>
                    <a:pt x="1083" y="1233"/>
                  </a:lnTo>
                  <a:lnTo>
                    <a:pt x="1083" y="1233"/>
                  </a:lnTo>
                  <a:lnTo>
                    <a:pt x="1083" y="1233"/>
                  </a:lnTo>
                  <a:lnTo>
                    <a:pt x="1083" y="1233"/>
                  </a:lnTo>
                  <a:lnTo>
                    <a:pt x="1088" y="1233"/>
                  </a:lnTo>
                  <a:lnTo>
                    <a:pt x="1092" y="1232"/>
                  </a:lnTo>
                  <a:lnTo>
                    <a:pt x="1097" y="1231"/>
                  </a:lnTo>
                  <a:lnTo>
                    <a:pt x="1102" y="1229"/>
                  </a:lnTo>
                  <a:lnTo>
                    <a:pt x="1108" y="1226"/>
                  </a:lnTo>
                  <a:lnTo>
                    <a:pt x="1113" y="1224"/>
                  </a:lnTo>
                  <a:lnTo>
                    <a:pt x="1118" y="1221"/>
                  </a:lnTo>
                  <a:lnTo>
                    <a:pt x="1124" y="1217"/>
                  </a:lnTo>
                  <a:lnTo>
                    <a:pt x="1139" y="1206"/>
                  </a:lnTo>
                  <a:lnTo>
                    <a:pt x="1157" y="1191"/>
                  </a:lnTo>
                  <a:lnTo>
                    <a:pt x="1204" y="1149"/>
                  </a:lnTo>
                  <a:lnTo>
                    <a:pt x="1342" y="1021"/>
                  </a:lnTo>
                  <a:lnTo>
                    <a:pt x="1424" y="1115"/>
                  </a:lnTo>
                  <a:lnTo>
                    <a:pt x="1344" y="1201"/>
                  </a:lnTo>
                  <a:lnTo>
                    <a:pt x="1269" y="1277"/>
                  </a:lnTo>
                  <a:lnTo>
                    <a:pt x="1200" y="1341"/>
                  </a:lnTo>
                  <a:lnTo>
                    <a:pt x="1136" y="1393"/>
                  </a:lnTo>
                  <a:lnTo>
                    <a:pt x="1076" y="1434"/>
                  </a:lnTo>
                  <a:lnTo>
                    <a:pt x="1049" y="1449"/>
                  </a:lnTo>
                  <a:lnTo>
                    <a:pt x="1023" y="1463"/>
                  </a:lnTo>
                  <a:lnTo>
                    <a:pt x="998" y="1472"/>
                  </a:lnTo>
                  <a:lnTo>
                    <a:pt x="974" y="1480"/>
                  </a:lnTo>
                  <a:lnTo>
                    <a:pt x="952" y="1485"/>
                  </a:lnTo>
                  <a:lnTo>
                    <a:pt x="931" y="1486"/>
                  </a:lnTo>
                  <a:lnTo>
                    <a:pt x="915" y="1485"/>
                  </a:lnTo>
                  <a:lnTo>
                    <a:pt x="908" y="1484"/>
                  </a:lnTo>
                  <a:lnTo>
                    <a:pt x="900" y="1483"/>
                  </a:lnTo>
                  <a:lnTo>
                    <a:pt x="893" y="1481"/>
                  </a:lnTo>
                  <a:lnTo>
                    <a:pt x="886" y="1478"/>
                  </a:lnTo>
                  <a:lnTo>
                    <a:pt x="879" y="1476"/>
                  </a:lnTo>
                  <a:lnTo>
                    <a:pt x="872" y="1473"/>
                  </a:lnTo>
                  <a:lnTo>
                    <a:pt x="865" y="1470"/>
                  </a:lnTo>
                  <a:lnTo>
                    <a:pt x="859" y="1466"/>
                  </a:lnTo>
                  <a:lnTo>
                    <a:pt x="852" y="1463"/>
                  </a:lnTo>
                  <a:lnTo>
                    <a:pt x="846" y="1458"/>
                  </a:lnTo>
                  <a:lnTo>
                    <a:pt x="834" y="1448"/>
                  </a:lnTo>
                  <a:lnTo>
                    <a:pt x="823" y="1437"/>
                  </a:lnTo>
                  <a:lnTo>
                    <a:pt x="818" y="1431"/>
                  </a:lnTo>
                  <a:lnTo>
                    <a:pt x="813" y="1423"/>
                  </a:lnTo>
                  <a:lnTo>
                    <a:pt x="808" y="1417"/>
                  </a:lnTo>
                  <a:lnTo>
                    <a:pt x="804" y="1410"/>
                  </a:lnTo>
                  <a:lnTo>
                    <a:pt x="800" y="1402"/>
                  </a:lnTo>
                  <a:lnTo>
                    <a:pt x="796" y="1394"/>
                  </a:lnTo>
                  <a:lnTo>
                    <a:pt x="790" y="1377"/>
                  </a:lnTo>
                  <a:lnTo>
                    <a:pt x="785" y="1360"/>
                  </a:lnTo>
                  <a:lnTo>
                    <a:pt x="782" y="1341"/>
                  </a:lnTo>
                  <a:lnTo>
                    <a:pt x="780" y="1321"/>
                  </a:lnTo>
                  <a:lnTo>
                    <a:pt x="779" y="1300"/>
                  </a:lnTo>
                  <a:lnTo>
                    <a:pt x="780" y="1277"/>
                  </a:lnTo>
                  <a:lnTo>
                    <a:pt x="781" y="1255"/>
                  </a:lnTo>
                  <a:lnTo>
                    <a:pt x="784" y="1231"/>
                  </a:lnTo>
                  <a:lnTo>
                    <a:pt x="788" y="1208"/>
                  </a:lnTo>
                  <a:lnTo>
                    <a:pt x="793" y="1183"/>
                  </a:lnTo>
                  <a:lnTo>
                    <a:pt x="798" y="1159"/>
                  </a:lnTo>
                  <a:lnTo>
                    <a:pt x="813" y="1108"/>
                  </a:lnTo>
                  <a:lnTo>
                    <a:pt x="790" y="1146"/>
                  </a:lnTo>
                  <a:lnTo>
                    <a:pt x="763" y="1185"/>
                  </a:lnTo>
                  <a:lnTo>
                    <a:pt x="732" y="1222"/>
                  </a:lnTo>
                  <a:lnTo>
                    <a:pt x="698" y="1259"/>
                  </a:lnTo>
                  <a:lnTo>
                    <a:pt x="659" y="1294"/>
                  </a:lnTo>
                  <a:lnTo>
                    <a:pt x="617" y="1329"/>
                  </a:lnTo>
                  <a:lnTo>
                    <a:pt x="571" y="1362"/>
                  </a:lnTo>
                  <a:lnTo>
                    <a:pt x="521" y="1394"/>
                  </a:lnTo>
                  <a:lnTo>
                    <a:pt x="486" y="1414"/>
                  </a:lnTo>
                  <a:lnTo>
                    <a:pt x="452" y="1432"/>
                  </a:lnTo>
                  <a:lnTo>
                    <a:pt x="419" y="1446"/>
                  </a:lnTo>
                  <a:lnTo>
                    <a:pt x="387" y="1459"/>
                  </a:lnTo>
                  <a:lnTo>
                    <a:pt x="356" y="1468"/>
                  </a:lnTo>
                  <a:lnTo>
                    <a:pt x="326" y="1475"/>
                  </a:lnTo>
                  <a:lnTo>
                    <a:pt x="298" y="1480"/>
                  </a:lnTo>
                  <a:lnTo>
                    <a:pt x="270" y="1481"/>
                  </a:lnTo>
                  <a:lnTo>
                    <a:pt x="253" y="1480"/>
                  </a:lnTo>
                  <a:lnTo>
                    <a:pt x="237" y="1477"/>
                  </a:lnTo>
                  <a:lnTo>
                    <a:pt x="229" y="1476"/>
                  </a:lnTo>
                  <a:lnTo>
                    <a:pt x="222" y="1474"/>
                  </a:lnTo>
                  <a:lnTo>
                    <a:pt x="215" y="1471"/>
                  </a:lnTo>
                  <a:lnTo>
                    <a:pt x="208" y="1469"/>
                  </a:lnTo>
                  <a:lnTo>
                    <a:pt x="201" y="1466"/>
                  </a:lnTo>
                  <a:lnTo>
                    <a:pt x="195" y="1462"/>
                  </a:lnTo>
                  <a:lnTo>
                    <a:pt x="188" y="1459"/>
                  </a:lnTo>
                  <a:lnTo>
                    <a:pt x="182" y="1455"/>
                  </a:lnTo>
                  <a:lnTo>
                    <a:pt x="177" y="1449"/>
                  </a:lnTo>
                  <a:lnTo>
                    <a:pt x="171" y="1445"/>
                  </a:lnTo>
                  <a:lnTo>
                    <a:pt x="166" y="1439"/>
                  </a:lnTo>
                  <a:lnTo>
                    <a:pt x="161" y="1434"/>
                  </a:lnTo>
                  <a:lnTo>
                    <a:pt x="156" y="1427"/>
                  </a:lnTo>
                  <a:lnTo>
                    <a:pt x="152" y="1421"/>
                  </a:lnTo>
                  <a:lnTo>
                    <a:pt x="147" y="1414"/>
                  </a:lnTo>
                  <a:lnTo>
                    <a:pt x="143" y="1407"/>
                  </a:lnTo>
                  <a:lnTo>
                    <a:pt x="140" y="1399"/>
                  </a:lnTo>
                  <a:lnTo>
                    <a:pt x="136" y="1391"/>
                  </a:lnTo>
                  <a:lnTo>
                    <a:pt x="131" y="1374"/>
                  </a:lnTo>
                  <a:lnTo>
                    <a:pt x="127" y="1356"/>
                  </a:lnTo>
                  <a:lnTo>
                    <a:pt x="123" y="1336"/>
                  </a:lnTo>
                  <a:lnTo>
                    <a:pt x="122" y="1315"/>
                  </a:lnTo>
                  <a:lnTo>
                    <a:pt x="121" y="1292"/>
                  </a:lnTo>
                  <a:lnTo>
                    <a:pt x="122" y="1258"/>
                  </a:lnTo>
                  <a:lnTo>
                    <a:pt x="125" y="1223"/>
                  </a:lnTo>
                  <a:lnTo>
                    <a:pt x="129" y="1187"/>
                  </a:lnTo>
                  <a:lnTo>
                    <a:pt x="136" y="1149"/>
                  </a:lnTo>
                  <a:lnTo>
                    <a:pt x="150" y="1085"/>
                  </a:lnTo>
                  <a:lnTo>
                    <a:pt x="172" y="994"/>
                  </a:lnTo>
                  <a:lnTo>
                    <a:pt x="239" y="737"/>
                  </a:lnTo>
                  <a:lnTo>
                    <a:pt x="284" y="563"/>
                  </a:lnTo>
                  <a:lnTo>
                    <a:pt x="316" y="429"/>
                  </a:lnTo>
                  <a:lnTo>
                    <a:pt x="336" y="333"/>
                  </a:lnTo>
                  <a:lnTo>
                    <a:pt x="340" y="300"/>
                  </a:lnTo>
                  <a:lnTo>
                    <a:pt x="342" y="288"/>
                  </a:lnTo>
                  <a:lnTo>
                    <a:pt x="342" y="278"/>
                  </a:lnTo>
                  <a:lnTo>
                    <a:pt x="342" y="272"/>
                  </a:lnTo>
                  <a:lnTo>
                    <a:pt x="342" y="268"/>
                  </a:lnTo>
                  <a:lnTo>
                    <a:pt x="342" y="267"/>
                  </a:lnTo>
                  <a:lnTo>
                    <a:pt x="342" y="266"/>
                  </a:lnTo>
                  <a:lnTo>
                    <a:pt x="342" y="266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3" y="265"/>
                  </a:lnTo>
                  <a:lnTo>
                    <a:pt x="340" y="265"/>
                  </a:lnTo>
                  <a:lnTo>
                    <a:pt x="338" y="265"/>
                  </a:lnTo>
                  <a:lnTo>
                    <a:pt x="335" y="266"/>
                  </a:lnTo>
                  <a:lnTo>
                    <a:pt x="332" y="267"/>
                  </a:lnTo>
                  <a:lnTo>
                    <a:pt x="325" y="268"/>
                  </a:lnTo>
                  <a:lnTo>
                    <a:pt x="318" y="271"/>
                  </a:lnTo>
                  <a:lnTo>
                    <a:pt x="310" y="275"/>
                  </a:lnTo>
                  <a:lnTo>
                    <a:pt x="301" y="280"/>
                  </a:lnTo>
                  <a:lnTo>
                    <a:pt x="291" y="286"/>
                  </a:lnTo>
                  <a:lnTo>
                    <a:pt x="281" y="292"/>
                  </a:lnTo>
                  <a:lnTo>
                    <a:pt x="268" y="300"/>
                  </a:lnTo>
                  <a:lnTo>
                    <a:pt x="253" y="311"/>
                  </a:lnTo>
                  <a:lnTo>
                    <a:pt x="214" y="342"/>
                  </a:lnTo>
                  <a:lnTo>
                    <a:pt x="102" y="439"/>
                  </a:lnTo>
                  <a:lnTo>
                    <a:pt x="0" y="352"/>
                  </a:lnTo>
                  <a:lnTo>
                    <a:pt x="105" y="249"/>
                  </a:lnTo>
                  <a:lnTo>
                    <a:pt x="196" y="167"/>
                  </a:lnTo>
                  <a:lnTo>
                    <a:pt x="237" y="134"/>
                  </a:lnTo>
                  <a:lnTo>
                    <a:pt x="274" y="106"/>
                  </a:lnTo>
                  <a:lnTo>
                    <a:pt x="308" y="82"/>
                  </a:lnTo>
                  <a:lnTo>
                    <a:pt x="338" y="64"/>
                  </a:lnTo>
                  <a:lnTo>
                    <a:pt x="366" y="49"/>
                  </a:lnTo>
                  <a:lnTo>
                    <a:pt x="393" y="36"/>
                  </a:lnTo>
                  <a:lnTo>
                    <a:pt x="419" y="25"/>
                  </a:lnTo>
                  <a:lnTo>
                    <a:pt x="443" y="16"/>
                  </a:lnTo>
                  <a:lnTo>
                    <a:pt x="466" y="9"/>
                  </a:lnTo>
                  <a:lnTo>
                    <a:pt x="488" y="5"/>
                  </a:lnTo>
                  <a:lnTo>
                    <a:pt x="509" y="2"/>
                  </a:lnTo>
                  <a:lnTo>
                    <a:pt x="528" y="0"/>
                  </a:lnTo>
                  <a:lnTo>
                    <a:pt x="541" y="2"/>
                  </a:lnTo>
                  <a:lnTo>
                    <a:pt x="553" y="3"/>
                  </a:lnTo>
                  <a:lnTo>
                    <a:pt x="559" y="5"/>
                  </a:lnTo>
                  <a:lnTo>
                    <a:pt x="564" y="6"/>
                  </a:lnTo>
                  <a:lnTo>
                    <a:pt x="570" y="8"/>
                  </a:lnTo>
                  <a:lnTo>
                    <a:pt x="575" y="10"/>
                  </a:lnTo>
                  <a:lnTo>
                    <a:pt x="581" y="13"/>
                  </a:lnTo>
                  <a:lnTo>
                    <a:pt x="586" y="15"/>
                  </a:lnTo>
                  <a:lnTo>
                    <a:pt x="591" y="18"/>
                  </a:lnTo>
                  <a:lnTo>
                    <a:pt x="595" y="22"/>
                  </a:lnTo>
                  <a:lnTo>
                    <a:pt x="599" y="25"/>
                  </a:lnTo>
                  <a:lnTo>
                    <a:pt x="603" y="30"/>
                  </a:lnTo>
                  <a:lnTo>
                    <a:pt x="608" y="34"/>
                  </a:lnTo>
                  <a:lnTo>
                    <a:pt x="612" y="39"/>
                  </a:lnTo>
                  <a:lnTo>
                    <a:pt x="616" y="44"/>
                  </a:lnTo>
                  <a:lnTo>
                    <a:pt x="620" y="49"/>
                  </a:lnTo>
                  <a:lnTo>
                    <a:pt x="623" y="56"/>
                  </a:lnTo>
                  <a:lnTo>
                    <a:pt x="626" y="61"/>
                  </a:lnTo>
                  <a:lnTo>
                    <a:pt x="629" y="67"/>
                  </a:lnTo>
                  <a:lnTo>
                    <a:pt x="632" y="73"/>
                  </a:lnTo>
                  <a:lnTo>
                    <a:pt x="636" y="87"/>
                  </a:lnTo>
                  <a:lnTo>
                    <a:pt x="640" y="102"/>
                  </a:lnTo>
                  <a:lnTo>
                    <a:pt x="642" y="117"/>
                  </a:lnTo>
                  <a:lnTo>
                    <a:pt x="644" y="133"/>
                  </a:lnTo>
                  <a:lnTo>
                    <a:pt x="644" y="150"/>
                  </a:lnTo>
                  <a:lnTo>
                    <a:pt x="642" y="184"/>
                  </a:lnTo>
                  <a:lnTo>
                    <a:pt x="637" y="229"/>
                  </a:lnTo>
                  <a:lnTo>
                    <a:pt x="616" y="347"/>
                  </a:lnTo>
                  <a:lnTo>
                    <a:pt x="582" y="508"/>
                  </a:lnTo>
                  <a:lnTo>
                    <a:pt x="532" y="709"/>
                  </a:lnTo>
                  <a:lnTo>
                    <a:pt x="459" y="1014"/>
                  </a:lnTo>
                  <a:lnTo>
                    <a:pt x="440" y="1102"/>
                  </a:lnTo>
                  <a:lnTo>
                    <a:pt x="436" y="1132"/>
                  </a:lnTo>
                  <a:lnTo>
                    <a:pt x="434" y="1142"/>
                  </a:lnTo>
                  <a:lnTo>
                    <a:pt x="434" y="1150"/>
                  </a:lnTo>
                  <a:lnTo>
                    <a:pt x="434" y="1156"/>
                  </a:lnTo>
                  <a:lnTo>
                    <a:pt x="435" y="1161"/>
                  </a:lnTo>
                  <a:lnTo>
                    <a:pt x="436" y="1166"/>
                  </a:lnTo>
                  <a:lnTo>
                    <a:pt x="437" y="1170"/>
                  </a:lnTo>
                  <a:lnTo>
                    <a:pt x="438" y="1172"/>
                  </a:lnTo>
                  <a:lnTo>
                    <a:pt x="439" y="1174"/>
                  </a:lnTo>
                  <a:lnTo>
                    <a:pt x="440" y="1176"/>
                  </a:lnTo>
                  <a:lnTo>
                    <a:pt x="441" y="1179"/>
                  </a:lnTo>
                  <a:lnTo>
                    <a:pt x="442" y="1181"/>
                  </a:lnTo>
                  <a:lnTo>
                    <a:pt x="443" y="1183"/>
                  </a:lnTo>
                  <a:lnTo>
                    <a:pt x="445" y="1184"/>
                  </a:lnTo>
                  <a:lnTo>
                    <a:pt x="446" y="1186"/>
                  </a:lnTo>
                  <a:lnTo>
                    <a:pt x="449" y="1189"/>
                  </a:lnTo>
                  <a:lnTo>
                    <a:pt x="451" y="1192"/>
                  </a:lnTo>
                  <a:lnTo>
                    <a:pt x="454" y="1194"/>
                  </a:lnTo>
                  <a:lnTo>
                    <a:pt x="456" y="1195"/>
                  </a:lnTo>
                  <a:lnTo>
                    <a:pt x="457" y="1196"/>
                  </a:lnTo>
                  <a:lnTo>
                    <a:pt x="458" y="1197"/>
                  </a:lnTo>
                  <a:lnTo>
                    <a:pt x="460" y="1197"/>
                  </a:lnTo>
                  <a:lnTo>
                    <a:pt x="461" y="1198"/>
                  </a:lnTo>
                  <a:lnTo>
                    <a:pt x="462" y="1198"/>
                  </a:lnTo>
                  <a:lnTo>
                    <a:pt x="463" y="1199"/>
                  </a:lnTo>
                  <a:lnTo>
                    <a:pt x="465" y="1199"/>
                  </a:lnTo>
                  <a:lnTo>
                    <a:pt x="466" y="1199"/>
                  </a:lnTo>
                  <a:lnTo>
                    <a:pt x="467" y="1199"/>
                  </a:lnTo>
                  <a:lnTo>
                    <a:pt x="477" y="1198"/>
                  </a:lnTo>
                  <a:lnTo>
                    <a:pt x="487" y="1197"/>
                  </a:lnTo>
                  <a:lnTo>
                    <a:pt x="498" y="1194"/>
                  </a:lnTo>
                  <a:lnTo>
                    <a:pt x="509" y="1191"/>
                  </a:lnTo>
                  <a:lnTo>
                    <a:pt x="521" y="1186"/>
                  </a:lnTo>
                  <a:lnTo>
                    <a:pt x="534" y="1180"/>
                  </a:lnTo>
                  <a:lnTo>
                    <a:pt x="561" y="1164"/>
                  </a:lnTo>
                  <a:lnTo>
                    <a:pt x="591" y="1144"/>
                  </a:lnTo>
                  <a:lnTo>
                    <a:pt x="622" y="1119"/>
                  </a:lnTo>
                  <a:lnTo>
                    <a:pt x="656" y="1090"/>
                  </a:lnTo>
                  <a:lnTo>
                    <a:pt x="693" y="1057"/>
                  </a:lnTo>
                  <a:lnTo>
                    <a:pt x="729" y="1020"/>
                  </a:lnTo>
                  <a:lnTo>
                    <a:pt x="762" y="983"/>
                  </a:lnTo>
                  <a:lnTo>
                    <a:pt x="792" y="944"/>
                  </a:lnTo>
                  <a:lnTo>
                    <a:pt x="818" y="905"/>
                  </a:lnTo>
                  <a:lnTo>
                    <a:pt x="842" y="863"/>
                  </a:lnTo>
                  <a:lnTo>
                    <a:pt x="862" y="821"/>
                  </a:lnTo>
                  <a:lnTo>
                    <a:pt x="878" y="778"/>
                  </a:lnTo>
                  <a:lnTo>
                    <a:pt x="892" y="733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57920" y="873000"/>
              <a:ext cx="763560" cy="534960"/>
            </a:xfrm>
            <a:custGeom>
              <a:avLst/>
              <a:gdLst/>
              <a:ahLst/>
              <a:rect l="l" t="t" r="r" b="b"/>
              <a:pathLst>
                <a:path w="2120" h="1487">
                  <a:moveTo>
                    <a:pt x="515" y="439"/>
                  </a:moveTo>
                  <a:lnTo>
                    <a:pt x="412" y="350"/>
                  </a:lnTo>
                  <a:lnTo>
                    <a:pt x="496" y="268"/>
                  </a:lnTo>
                  <a:lnTo>
                    <a:pt x="575" y="197"/>
                  </a:lnTo>
                  <a:lnTo>
                    <a:pt x="648" y="137"/>
                  </a:lnTo>
                  <a:lnTo>
                    <a:pt x="717" y="88"/>
                  </a:lnTo>
                  <a:lnTo>
                    <a:pt x="781" y="49"/>
                  </a:lnTo>
                  <a:lnTo>
                    <a:pt x="811" y="35"/>
                  </a:lnTo>
                  <a:lnTo>
                    <a:pt x="839" y="22"/>
                  </a:lnTo>
                  <a:lnTo>
                    <a:pt x="867" y="13"/>
                  </a:lnTo>
                  <a:lnTo>
                    <a:pt x="893" y="6"/>
                  </a:lnTo>
                  <a:lnTo>
                    <a:pt x="917" y="2"/>
                  </a:lnTo>
                  <a:lnTo>
                    <a:pt x="941" y="0"/>
                  </a:lnTo>
                  <a:lnTo>
                    <a:pt x="954" y="0"/>
                  </a:lnTo>
                  <a:lnTo>
                    <a:pt x="967" y="3"/>
                  </a:lnTo>
                  <a:lnTo>
                    <a:pt x="979" y="5"/>
                  </a:lnTo>
                  <a:lnTo>
                    <a:pt x="990" y="9"/>
                  </a:lnTo>
                  <a:lnTo>
                    <a:pt x="1001" y="13"/>
                  </a:lnTo>
                  <a:lnTo>
                    <a:pt x="1011" y="19"/>
                  </a:lnTo>
                  <a:lnTo>
                    <a:pt x="1020" y="25"/>
                  </a:lnTo>
                  <a:lnTo>
                    <a:pt x="1028" y="34"/>
                  </a:lnTo>
                  <a:lnTo>
                    <a:pt x="1035" y="42"/>
                  </a:lnTo>
                  <a:lnTo>
                    <a:pt x="1042" y="52"/>
                  </a:lnTo>
                  <a:lnTo>
                    <a:pt x="1048" y="63"/>
                  </a:lnTo>
                  <a:lnTo>
                    <a:pt x="1053" y="74"/>
                  </a:lnTo>
                  <a:lnTo>
                    <a:pt x="1057" y="88"/>
                  </a:lnTo>
                  <a:lnTo>
                    <a:pt x="1061" y="102"/>
                  </a:lnTo>
                  <a:lnTo>
                    <a:pt x="1064" y="117"/>
                  </a:lnTo>
                  <a:lnTo>
                    <a:pt x="1066" y="133"/>
                  </a:lnTo>
                  <a:lnTo>
                    <a:pt x="1162" y="1113"/>
                  </a:lnTo>
                  <a:lnTo>
                    <a:pt x="1769" y="41"/>
                  </a:lnTo>
                  <a:lnTo>
                    <a:pt x="2040" y="41"/>
                  </a:lnTo>
                  <a:lnTo>
                    <a:pt x="1892" y="649"/>
                  </a:lnTo>
                  <a:lnTo>
                    <a:pt x="1797" y="1031"/>
                  </a:lnTo>
                  <a:lnTo>
                    <a:pt x="1773" y="1142"/>
                  </a:lnTo>
                  <a:lnTo>
                    <a:pt x="1767" y="1177"/>
                  </a:lnTo>
                  <a:lnTo>
                    <a:pt x="1766" y="1191"/>
                  </a:lnTo>
                  <a:lnTo>
                    <a:pt x="1765" y="1200"/>
                  </a:lnTo>
                  <a:lnTo>
                    <a:pt x="1765" y="1208"/>
                  </a:lnTo>
                  <a:lnTo>
                    <a:pt x="1766" y="1214"/>
                  </a:lnTo>
                  <a:lnTo>
                    <a:pt x="1766" y="1217"/>
                  </a:lnTo>
                  <a:lnTo>
                    <a:pt x="1767" y="1219"/>
                  </a:lnTo>
                  <a:lnTo>
                    <a:pt x="1767" y="1221"/>
                  </a:lnTo>
                  <a:lnTo>
                    <a:pt x="1768" y="1223"/>
                  </a:lnTo>
                  <a:lnTo>
                    <a:pt x="1769" y="1225"/>
                  </a:lnTo>
                  <a:lnTo>
                    <a:pt x="1770" y="1226"/>
                  </a:lnTo>
                  <a:lnTo>
                    <a:pt x="1771" y="1227"/>
                  </a:lnTo>
                  <a:lnTo>
                    <a:pt x="1772" y="1229"/>
                  </a:lnTo>
                  <a:lnTo>
                    <a:pt x="1772" y="1230"/>
                  </a:lnTo>
                  <a:lnTo>
                    <a:pt x="1773" y="1230"/>
                  </a:lnTo>
                  <a:lnTo>
                    <a:pt x="1774" y="1230"/>
                  </a:lnTo>
                  <a:lnTo>
                    <a:pt x="1774" y="1231"/>
                  </a:lnTo>
                  <a:lnTo>
                    <a:pt x="1775" y="1231"/>
                  </a:lnTo>
                  <a:lnTo>
                    <a:pt x="1776" y="1231"/>
                  </a:lnTo>
                  <a:lnTo>
                    <a:pt x="1777" y="1231"/>
                  </a:lnTo>
                  <a:lnTo>
                    <a:pt x="1780" y="1231"/>
                  </a:lnTo>
                  <a:lnTo>
                    <a:pt x="1783" y="1230"/>
                  </a:lnTo>
                  <a:lnTo>
                    <a:pt x="1791" y="1227"/>
                  </a:lnTo>
                  <a:lnTo>
                    <a:pt x="1799" y="1223"/>
                  </a:lnTo>
                  <a:lnTo>
                    <a:pt x="1809" y="1217"/>
                  </a:lnTo>
                  <a:lnTo>
                    <a:pt x="1834" y="1201"/>
                  </a:lnTo>
                  <a:lnTo>
                    <a:pt x="1863" y="1179"/>
                  </a:lnTo>
                  <a:lnTo>
                    <a:pt x="1939" y="1113"/>
                  </a:lnTo>
                  <a:lnTo>
                    <a:pt x="2035" y="1021"/>
                  </a:lnTo>
                  <a:lnTo>
                    <a:pt x="2119" y="1115"/>
                  </a:lnTo>
                  <a:lnTo>
                    <a:pt x="2039" y="1201"/>
                  </a:lnTo>
                  <a:lnTo>
                    <a:pt x="1965" y="1277"/>
                  </a:lnTo>
                  <a:lnTo>
                    <a:pt x="1895" y="1341"/>
                  </a:lnTo>
                  <a:lnTo>
                    <a:pt x="1831" y="1393"/>
                  </a:lnTo>
                  <a:lnTo>
                    <a:pt x="1771" y="1434"/>
                  </a:lnTo>
                  <a:lnTo>
                    <a:pt x="1744" y="1449"/>
                  </a:lnTo>
                  <a:lnTo>
                    <a:pt x="1717" y="1463"/>
                  </a:lnTo>
                  <a:lnTo>
                    <a:pt x="1692" y="1472"/>
                  </a:lnTo>
                  <a:lnTo>
                    <a:pt x="1669" y="1480"/>
                  </a:lnTo>
                  <a:lnTo>
                    <a:pt x="1646" y="1485"/>
                  </a:lnTo>
                  <a:lnTo>
                    <a:pt x="1625" y="1486"/>
                  </a:lnTo>
                  <a:lnTo>
                    <a:pt x="1618" y="1486"/>
                  </a:lnTo>
                  <a:lnTo>
                    <a:pt x="1611" y="1485"/>
                  </a:lnTo>
                  <a:lnTo>
                    <a:pt x="1604" y="1484"/>
                  </a:lnTo>
                  <a:lnTo>
                    <a:pt x="1598" y="1483"/>
                  </a:lnTo>
                  <a:lnTo>
                    <a:pt x="1591" y="1481"/>
                  </a:lnTo>
                  <a:lnTo>
                    <a:pt x="1584" y="1478"/>
                  </a:lnTo>
                  <a:lnTo>
                    <a:pt x="1578" y="1476"/>
                  </a:lnTo>
                  <a:lnTo>
                    <a:pt x="1571" y="1473"/>
                  </a:lnTo>
                  <a:lnTo>
                    <a:pt x="1558" y="1466"/>
                  </a:lnTo>
                  <a:lnTo>
                    <a:pt x="1546" y="1458"/>
                  </a:lnTo>
                  <a:lnTo>
                    <a:pt x="1533" y="1448"/>
                  </a:lnTo>
                  <a:lnTo>
                    <a:pt x="1521" y="1437"/>
                  </a:lnTo>
                  <a:lnTo>
                    <a:pt x="1515" y="1431"/>
                  </a:lnTo>
                  <a:lnTo>
                    <a:pt x="1510" y="1423"/>
                  </a:lnTo>
                  <a:lnTo>
                    <a:pt x="1505" y="1417"/>
                  </a:lnTo>
                  <a:lnTo>
                    <a:pt x="1500" y="1410"/>
                  </a:lnTo>
                  <a:lnTo>
                    <a:pt x="1496" y="1402"/>
                  </a:lnTo>
                  <a:lnTo>
                    <a:pt x="1492" y="1394"/>
                  </a:lnTo>
                  <a:lnTo>
                    <a:pt x="1488" y="1387"/>
                  </a:lnTo>
                  <a:lnTo>
                    <a:pt x="1485" y="1378"/>
                  </a:lnTo>
                  <a:lnTo>
                    <a:pt x="1480" y="1361"/>
                  </a:lnTo>
                  <a:lnTo>
                    <a:pt x="1476" y="1342"/>
                  </a:lnTo>
                  <a:lnTo>
                    <a:pt x="1474" y="1321"/>
                  </a:lnTo>
                  <a:lnTo>
                    <a:pt x="1473" y="1300"/>
                  </a:lnTo>
                  <a:lnTo>
                    <a:pt x="1475" y="1267"/>
                  </a:lnTo>
                  <a:lnTo>
                    <a:pt x="1480" y="1223"/>
                  </a:lnTo>
                  <a:lnTo>
                    <a:pt x="1500" y="1107"/>
                  </a:lnTo>
                  <a:lnTo>
                    <a:pt x="1534" y="949"/>
                  </a:lnTo>
                  <a:lnTo>
                    <a:pt x="1582" y="751"/>
                  </a:lnTo>
                  <a:lnTo>
                    <a:pt x="1676" y="414"/>
                  </a:lnTo>
                  <a:lnTo>
                    <a:pt x="1094" y="1471"/>
                  </a:lnTo>
                  <a:lnTo>
                    <a:pt x="929" y="1471"/>
                  </a:lnTo>
                  <a:lnTo>
                    <a:pt x="841" y="530"/>
                  </a:lnTo>
                  <a:lnTo>
                    <a:pt x="756" y="820"/>
                  </a:lnTo>
                  <a:lnTo>
                    <a:pt x="715" y="942"/>
                  </a:lnTo>
                  <a:lnTo>
                    <a:pt x="675" y="1049"/>
                  </a:lnTo>
                  <a:lnTo>
                    <a:pt x="637" y="1140"/>
                  </a:lnTo>
                  <a:lnTo>
                    <a:pt x="599" y="1216"/>
                  </a:lnTo>
                  <a:lnTo>
                    <a:pt x="580" y="1248"/>
                  </a:lnTo>
                  <a:lnTo>
                    <a:pt x="561" y="1277"/>
                  </a:lnTo>
                  <a:lnTo>
                    <a:pt x="543" y="1301"/>
                  </a:lnTo>
                  <a:lnTo>
                    <a:pt x="525" y="1322"/>
                  </a:lnTo>
                  <a:lnTo>
                    <a:pt x="489" y="1358"/>
                  </a:lnTo>
                  <a:lnTo>
                    <a:pt x="451" y="1388"/>
                  </a:lnTo>
                  <a:lnTo>
                    <a:pt x="412" y="1414"/>
                  </a:lnTo>
                  <a:lnTo>
                    <a:pt x="392" y="1424"/>
                  </a:lnTo>
                  <a:lnTo>
                    <a:pt x="372" y="1435"/>
                  </a:lnTo>
                  <a:lnTo>
                    <a:pt x="352" y="1443"/>
                  </a:lnTo>
                  <a:lnTo>
                    <a:pt x="331" y="1451"/>
                  </a:lnTo>
                  <a:lnTo>
                    <a:pt x="310" y="1458"/>
                  </a:lnTo>
                  <a:lnTo>
                    <a:pt x="288" y="1463"/>
                  </a:lnTo>
                  <a:lnTo>
                    <a:pt x="267" y="1467"/>
                  </a:lnTo>
                  <a:lnTo>
                    <a:pt x="245" y="1470"/>
                  </a:lnTo>
                  <a:lnTo>
                    <a:pt x="223" y="1471"/>
                  </a:lnTo>
                  <a:lnTo>
                    <a:pt x="200" y="1472"/>
                  </a:lnTo>
                  <a:lnTo>
                    <a:pt x="177" y="1471"/>
                  </a:lnTo>
                  <a:lnTo>
                    <a:pt x="155" y="1469"/>
                  </a:lnTo>
                  <a:lnTo>
                    <a:pt x="134" y="1464"/>
                  </a:lnTo>
                  <a:lnTo>
                    <a:pt x="115" y="1459"/>
                  </a:lnTo>
                  <a:lnTo>
                    <a:pt x="106" y="1455"/>
                  </a:lnTo>
                  <a:lnTo>
                    <a:pt x="97" y="1450"/>
                  </a:lnTo>
                  <a:lnTo>
                    <a:pt x="89" y="1446"/>
                  </a:lnTo>
                  <a:lnTo>
                    <a:pt x="81" y="1441"/>
                  </a:lnTo>
                  <a:lnTo>
                    <a:pt x="73" y="1436"/>
                  </a:lnTo>
                  <a:lnTo>
                    <a:pt x="66" y="1430"/>
                  </a:lnTo>
                  <a:lnTo>
                    <a:pt x="59" y="1423"/>
                  </a:lnTo>
                  <a:lnTo>
                    <a:pt x="52" y="1417"/>
                  </a:lnTo>
                  <a:lnTo>
                    <a:pt x="40" y="1402"/>
                  </a:lnTo>
                  <a:lnTo>
                    <a:pt x="29" y="1388"/>
                  </a:lnTo>
                  <a:lnTo>
                    <a:pt x="20" y="1372"/>
                  </a:lnTo>
                  <a:lnTo>
                    <a:pt x="16" y="1365"/>
                  </a:lnTo>
                  <a:lnTo>
                    <a:pt x="13" y="1357"/>
                  </a:lnTo>
                  <a:lnTo>
                    <a:pt x="10" y="1348"/>
                  </a:lnTo>
                  <a:lnTo>
                    <a:pt x="7" y="1340"/>
                  </a:lnTo>
                  <a:lnTo>
                    <a:pt x="5" y="1332"/>
                  </a:lnTo>
                  <a:lnTo>
                    <a:pt x="3" y="1323"/>
                  </a:lnTo>
                  <a:lnTo>
                    <a:pt x="1" y="1306"/>
                  </a:lnTo>
                  <a:lnTo>
                    <a:pt x="0" y="1287"/>
                  </a:lnTo>
                  <a:lnTo>
                    <a:pt x="1" y="1269"/>
                  </a:lnTo>
                  <a:lnTo>
                    <a:pt x="3" y="1252"/>
                  </a:lnTo>
                  <a:lnTo>
                    <a:pt x="7" y="1237"/>
                  </a:lnTo>
                  <a:lnTo>
                    <a:pt x="12" y="1220"/>
                  </a:lnTo>
                  <a:lnTo>
                    <a:pt x="18" y="1206"/>
                  </a:lnTo>
                  <a:lnTo>
                    <a:pt x="26" y="1191"/>
                  </a:lnTo>
                  <a:lnTo>
                    <a:pt x="35" y="1176"/>
                  </a:lnTo>
                  <a:lnTo>
                    <a:pt x="46" y="1163"/>
                  </a:lnTo>
                  <a:lnTo>
                    <a:pt x="58" y="1150"/>
                  </a:lnTo>
                  <a:lnTo>
                    <a:pt x="64" y="1144"/>
                  </a:lnTo>
                  <a:lnTo>
                    <a:pt x="71" y="1139"/>
                  </a:lnTo>
                  <a:lnTo>
                    <a:pt x="77" y="1134"/>
                  </a:lnTo>
                  <a:lnTo>
                    <a:pt x="84" y="1130"/>
                  </a:lnTo>
                  <a:lnTo>
                    <a:pt x="91" y="1125"/>
                  </a:lnTo>
                  <a:lnTo>
                    <a:pt x="99" y="1122"/>
                  </a:lnTo>
                  <a:lnTo>
                    <a:pt x="106" y="1119"/>
                  </a:lnTo>
                  <a:lnTo>
                    <a:pt x="114" y="1116"/>
                  </a:lnTo>
                  <a:lnTo>
                    <a:pt x="121" y="1114"/>
                  </a:lnTo>
                  <a:lnTo>
                    <a:pt x="129" y="1112"/>
                  </a:lnTo>
                  <a:lnTo>
                    <a:pt x="137" y="1111"/>
                  </a:lnTo>
                  <a:lnTo>
                    <a:pt x="146" y="1110"/>
                  </a:lnTo>
                  <a:lnTo>
                    <a:pt x="163" y="1109"/>
                  </a:lnTo>
                  <a:lnTo>
                    <a:pt x="174" y="1109"/>
                  </a:lnTo>
                  <a:lnTo>
                    <a:pt x="185" y="1111"/>
                  </a:lnTo>
                  <a:lnTo>
                    <a:pt x="197" y="1112"/>
                  </a:lnTo>
                  <a:lnTo>
                    <a:pt x="209" y="1115"/>
                  </a:lnTo>
                  <a:lnTo>
                    <a:pt x="222" y="1118"/>
                  </a:lnTo>
                  <a:lnTo>
                    <a:pt x="236" y="1123"/>
                  </a:lnTo>
                  <a:lnTo>
                    <a:pt x="250" y="1127"/>
                  </a:lnTo>
                  <a:lnTo>
                    <a:pt x="264" y="1134"/>
                  </a:lnTo>
                  <a:lnTo>
                    <a:pt x="291" y="1144"/>
                  </a:lnTo>
                  <a:lnTo>
                    <a:pt x="313" y="1151"/>
                  </a:lnTo>
                  <a:lnTo>
                    <a:pt x="323" y="1154"/>
                  </a:lnTo>
                  <a:lnTo>
                    <a:pt x="331" y="1156"/>
                  </a:lnTo>
                  <a:lnTo>
                    <a:pt x="337" y="1157"/>
                  </a:lnTo>
                  <a:lnTo>
                    <a:pt x="340" y="1157"/>
                  </a:lnTo>
                  <a:lnTo>
                    <a:pt x="343" y="1157"/>
                  </a:lnTo>
                  <a:lnTo>
                    <a:pt x="350" y="1157"/>
                  </a:lnTo>
                  <a:lnTo>
                    <a:pt x="357" y="1156"/>
                  </a:lnTo>
                  <a:lnTo>
                    <a:pt x="364" y="1154"/>
                  </a:lnTo>
                  <a:lnTo>
                    <a:pt x="371" y="1151"/>
                  </a:lnTo>
                  <a:lnTo>
                    <a:pt x="378" y="1149"/>
                  </a:lnTo>
                  <a:lnTo>
                    <a:pt x="385" y="1145"/>
                  </a:lnTo>
                  <a:lnTo>
                    <a:pt x="392" y="1142"/>
                  </a:lnTo>
                  <a:lnTo>
                    <a:pt x="399" y="1137"/>
                  </a:lnTo>
                  <a:lnTo>
                    <a:pt x="414" y="1126"/>
                  </a:lnTo>
                  <a:lnTo>
                    <a:pt x="429" y="1113"/>
                  </a:lnTo>
                  <a:lnTo>
                    <a:pt x="445" y="1097"/>
                  </a:lnTo>
                  <a:lnTo>
                    <a:pt x="461" y="1079"/>
                  </a:lnTo>
                  <a:lnTo>
                    <a:pt x="469" y="1068"/>
                  </a:lnTo>
                  <a:lnTo>
                    <a:pt x="478" y="1056"/>
                  </a:lnTo>
                  <a:lnTo>
                    <a:pt x="497" y="1023"/>
                  </a:lnTo>
                  <a:lnTo>
                    <a:pt x="518" y="984"/>
                  </a:lnTo>
                  <a:lnTo>
                    <a:pt x="542" y="936"/>
                  </a:lnTo>
                  <a:lnTo>
                    <a:pt x="595" y="815"/>
                  </a:lnTo>
                  <a:lnTo>
                    <a:pt x="657" y="662"/>
                  </a:lnTo>
                  <a:lnTo>
                    <a:pt x="715" y="510"/>
                  </a:lnTo>
                  <a:lnTo>
                    <a:pt x="757" y="392"/>
                  </a:lnTo>
                  <a:lnTo>
                    <a:pt x="771" y="345"/>
                  </a:lnTo>
                  <a:lnTo>
                    <a:pt x="782" y="308"/>
                  </a:lnTo>
                  <a:lnTo>
                    <a:pt x="788" y="280"/>
                  </a:lnTo>
                  <a:lnTo>
                    <a:pt x="789" y="268"/>
                  </a:lnTo>
                  <a:lnTo>
                    <a:pt x="790" y="259"/>
                  </a:lnTo>
                  <a:lnTo>
                    <a:pt x="790" y="258"/>
                  </a:lnTo>
                  <a:lnTo>
                    <a:pt x="790" y="257"/>
                  </a:lnTo>
                  <a:lnTo>
                    <a:pt x="790" y="256"/>
                  </a:lnTo>
                  <a:lnTo>
                    <a:pt x="790" y="256"/>
                  </a:lnTo>
                  <a:lnTo>
                    <a:pt x="789" y="255"/>
                  </a:lnTo>
                  <a:lnTo>
                    <a:pt x="789" y="255"/>
                  </a:lnTo>
                  <a:lnTo>
                    <a:pt x="789" y="254"/>
                  </a:lnTo>
                  <a:lnTo>
                    <a:pt x="788" y="254"/>
                  </a:lnTo>
                  <a:lnTo>
                    <a:pt x="788" y="253"/>
                  </a:lnTo>
                  <a:lnTo>
                    <a:pt x="787" y="253"/>
                  </a:lnTo>
                  <a:lnTo>
                    <a:pt x="787" y="253"/>
                  </a:lnTo>
                  <a:lnTo>
                    <a:pt x="786" y="252"/>
                  </a:lnTo>
                  <a:lnTo>
                    <a:pt x="786" y="252"/>
                  </a:lnTo>
                  <a:lnTo>
                    <a:pt x="785" y="252"/>
                  </a:lnTo>
                  <a:lnTo>
                    <a:pt x="784" y="252"/>
                  </a:lnTo>
                  <a:lnTo>
                    <a:pt x="783" y="252"/>
                  </a:lnTo>
                  <a:lnTo>
                    <a:pt x="773" y="253"/>
                  </a:lnTo>
                  <a:lnTo>
                    <a:pt x="762" y="255"/>
                  </a:lnTo>
                  <a:lnTo>
                    <a:pt x="750" y="258"/>
                  </a:lnTo>
                  <a:lnTo>
                    <a:pt x="737" y="263"/>
                  </a:lnTo>
                  <a:lnTo>
                    <a:pt x="723" y="270"/>
                  </a:lnTo>
                  <a:lnTo>
                    <a:pt x="709" y="278"/>
                  </a:lnTo>
                  <a:lnTo>
                    <a:pt x="677" y="298"/>
                  </a:lnTo>
                  <a:lnTo>
                    <a:pt x="642" y="324"/>
                  </a:lnTo>
                  <a:lnTo>
                    <a:pt x="603" y="357"/>
                  </a:lnTo>
                  <a:lnTo>
                    <a:pt x="561" y="395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48480" y="693720"/>
              <a:ext cx="430200" cy="708120"/>
            </a:xfrm>
            <a:custGeom>
              <a:avLst/>
              <a:gdLst/>
              <a:ahLst/>
              <a:rect l="l" t="t" r="r" b="b"/>
              <a:pathLst>
                <a:path w="1195" h="1968">
                  <a:moveTo>
                    <a:pt x="870" y="1453"/>
                  </a:moveTo>
                  <a:lnTo>
                    <a:pt x="947" y="1561"/>
                  </a:lnTo>
                  <a:lnTo>
                    <a:pt x="849" y="1656"/>
                  </a:lnTo>
                  <a:lnTo>
                    <a:pt x="754" y="1739"/>
                  </a:lnTo>
                  <a:lnTo>
                    <a:pt x="663" y="1809"/>
                  </a:lnTo>
                  <a:lnTo>
                    <a:pt x="575" y="1866"/>
                  </a:lnTo>
                  <a:lnTo>
                    <a:pt x="491" y="1910"/>
                  </a:lnTo>
                  <a:lnTo>
                    <a:pt x="450" y="1928"/>
                  </a:lnTo>
                  <a:lnTo>
                    <a:pt x="410" y="1942"/>
                  </a:lnTo>
                  <a:lnTo>
                    <a:pt x="371" y="1953"/>
                  </a:lnTo>
                  <a:lnTo>
                    <a:pt x="333" y="1961"/>
                  </a:lnTo>
                  <a:lnTo>
                    <a:pt x="295" y="1965"/>
                  </a:lnTo>
                  <a:lnTo>
                    <a:pt x="259" y="1967"/>
                  </a:lnTo>
                  <a:lnTo>
                    <a:pt x="228" y="1966"/>
                  </a:lnTo>
                  <a:lnTo>
                    <a:pt x="214" y="1964"/>
                  </a:lnTo>
                  <a:lnTo>
                    <a:pt x="200" y="1962"/>
                  </a:lnTo>
                  <a:lnTo>
                    <a:pt x="186" y="1959"/>
                  </a:lnTo>
                  <a:lnTo>
                    <a:pt x="173" y="1955"/>
                  </a:lnTo>
                  <a:lnTo>
                    <a:pt x="160" y="1951"/>
                  </a:lnTo>
                  <a:lnTo>
                    <a:pt x="148" y="1945"/>
                  </a:lnTo>
                  <a:lnTo>
                    <a:pt x="136" y="1939"/>
                  </a:lnTo>
                  <a:lnTo>
                    <a:pt x="125" y="1933"/>
                  </a:lnTo>
                  <a:lnTo>
                    <a:pt x="114" y="1926"/>
                  </a:lnTo>
                  <a:lnTo>
                    <a:pt x="104" y="1917"/>
                  </a:lnTo>
                  <a:lnTo>
                    <a:pt x="94" y="1909"/>
                  </a:lnTo>
                  <a:lnTo>
                    <a:pt x="84" y="1899"/>
                  </a:lnTo>
                  <a:lnTo>
                    <a:pt x="75" y="1889"/>
                  </a:lnTo>
                  <a:lnTo>
                    <a:pt x="67" y="1879"/>
                  </a:lnTo>
                  <a:lnTo>
                    <a:pt x="59" y="1867"/>
                  </a:lnTo>
                  <a:lnTo>
                    <a:pt x="51" y="1855"/>
                  </a:lnTo>
                  <a:lnTo>
                    <a:pt x="44" y="1842"/>
                  </a:lnTo>
                  <a:lnTo>
                    <a:pt x="38" y="1829"/>
                  </a:lnTo>
                  <a:lnTo>
                    <a:pt x="26" y="1798"/>
                  </a:lnTo>
                  <a:lnTo>
                    <a:pt x="17" y="1766"/>
                  </a:lnTo>
                  <a:lnTo>
                    <a:pt x="9" y="1731"/>
                  </a:lnTo>
                  <a:lnTo>
                    <a:pt x="4" y="1692"/>
                  </a:lnTo>
                  <a:lnTo>
                    <a:pt x="1" y="1651"/>
                  </a:lnTo>
                  <a:lnTo>
                    <a:pt x="0" y="1606"/>
                  </a:lnTo>
                  <a:lnTo>
                    <a:pt x="3" y="1517"/>
                  </a:lnTo>
                  <a:lnTo>
                    <a:pt x="13" y="1428"/>
                  </a:lnTo>
                  <a:lnTo>
                    <a:pt x="29" y="1339"/>
                  </a:lnTo>
                  <a:lnTo>
                    <a:pt x="52" y="1251"/>
                  </a:lnTo>
                  <a:lnTo>
                    <a:pt x="81" y="1163"/>
                  </a:lnTo>
                  <a:lnTo>
                    <a:pt x="116" y="1075"/>
                  </a:lnTo>
                  <a:lnTo>
                    <a:pt x="158" y="986"/>
                  </a:lnTo>
                  <a:lnTo>
                    <a:pt x="207" y="899"/>
                  </a:lnTo>
                  <a:lnTo>
                    <a:pt x="268" y="803"/>
                  </a:lnTo>
                  <a:lnTo>
                    <a:pt x="332" y="720"/>
                  </a:lnTo>
                  <a:lnTo>
                    <a:pt x="365" y="684"/>
                  </a:lnTo>
                  <a:lnTo>
                    <a:pt x="398" y="651"/>
                  </a:lnTo>
                  <a:lnTo>
                    <a:pt x="433" y="620"/>
                  </a:lnTo>
                  <a:lnTo>
                    <a:pt x="468" y="593"/>
                  </a:lnTo>
                  <a:lnTo>
                    <a:pt x="504" y="569"/>
                  </a:lnTo>
                  <a:lnTo>
                    <a:pt x="541" y="549"/>
                  </a:lnTo>
                  <a:lnTo>
                    <a:pt x="579" y="531"/>
                  </a:lnTo>
                  <a:lnTo>
                    <a:pt x="617" y="516"/>
                  </a:lnTo>
                  <a:lnTo>
                    <a:pt x="656" y="506"/>
                  </a:lnTo>
                  <a:lnTo>
                    <a:pt x="696" y="498"/>
                  </a:lnTo>
                  <a:lnTo>
                    <a:pt x="737" y="493"/>
                  </a:lnTo>
                  <a:lnTo>
                    <a:pt x="778" y="491"/>
                  </a:lnTo>
                  <a:lnTo>
                    <a:pt x="808" y="492"/>
                  </a:lnTo>
                  <a:lnTo>
                    <a:pt x="837" y="495"/>
                  </a:lnTo>
                  <a:lnTo>
                    <a:pt x="863" y="501"/>
                  </a:lnTo>
                  <a:lnTo>
                    <a:pt x="888" y="508"/>
                  </a:lnTo>
                  <a:lnTo>
                    <a:pt x="912" y="518"/>
                  </a:lnTo>
                  <a:lnTo>
                    <a:pt x="923" y="524"/>
                  </a:lnTo>
                  <a:lnTo>
                    <a:pt x="933" y="530"/>
                  </a:lnTo>
                  <a:lnTo>
                    <a:pt x="943" y="536"/>
                  </a:lnTo>
                  <a:lnTo>
                    <a:pt x="953" y="543"/>
                  </a:lnTo>
                  <a:lnTo>
                    <a:pt x="962" y="551"/>
                  </a:lnTo>
                  <a:lnTo>
                    <a:pt x="971" y="559"/>
                  </a:lnTo>
                  <a:lnTo>
                    <a:pt x="979" y="567"/>
                  </a:lnTo>
                  <a:lnTo>
                    <a:pt x="987" y="577"/>
                  </a:lnTo>
                  <a:lnTo>
                    <a:pt x="994" y="586"/>
                  </a:lnTo>
                  <a:lnTo>
                    <a:pt x="1001" y="595"/>
                  </a:lnTo>
                  <a:lnTo>
                    <a:pt x="1007" y="606"/>
                  </a:lnTo>
                  <a:lnTo>
                    <a:pt x="1012" y="616"/>
                  </a:lnTo>
                  <a:lnTo>
                    <a:pt x="1017" y="627"/>
                  </a:lnTo>
                  <a:lnTo>
                    <a:pt x="1022" y="638"/>
                  </a:lnTo>
                  <a:lnTo>
                    <a:pt x="1026" y="650"/>
                  </a:lnTo>
                  <a:lnTo>
                    <a:pt x="1029" y="661"/>
                  </a:lnTo>
                  <a:lnTo>
                    <a:pt x="1035" y="686"/>
                  </a:lnTo>
                  <a:lnTo>
                    <a:pt x="1038" y="712"/>
                  </a:lnTo>
                  <a:lnTo>
                    <a:pt x="1039" y="740"/>
                  </a:lnTo>
                  <a:lnTo>
                    <a:pt x="1038" y="769"/>
                  </a:lnTo>
                  <a:lnTo>
                    <a:pt x="1034" y="798"/>
                  </a:lnTo>
                  <a:lnTo>
                    <a:pt x="1028" y="826"/>
                  </a:lnTo>
                  <a:lnTo>
                    <a:pt x="1020" y="855"/>
                  </a:lnTo>
                  <a:lnTo>
                    <a:pt x="1010" y="882"/>
                  </a:lnTo>
                  <a:lnTo>
                    <a:pt x="997" y="910"/>
                  </a:lnTo>
                  <a:lnTo>
                    <a:pt x="982" y="938"/>
                  </a:lnTo>
                  <a:lnTo>
                    <a:pt x="964" y="965"/>
                  </a:lnTo>
                  <a:lnTo>
                    <a:pt x="944" y="992"/>
                  </a:lnTo>
                  <a:lnTo>
                    <a:pt x="921" y="1019"/>
                  </a:lnTo>
                  <a:lnTo>
                    <a:pt x="894" y="1046"/>
                  </a:lnTo>
                  <a:lnTo>
                    <a:pt x="865" y="1074"/>
                  </a:lnTo>
                  <a:lnTo>
                    <a:pt x="833" y="1100"/>
                  </a:lnTo>
                  <a:lnTo>
                    <a:pt x="798" y="1127"/>
                  </a:lnTo>
                  <a:lnTo>
                    <a:pt x="759" y="1153"/>
                  </a:lnTo>
                  <a:lnTo>
                    <a:pt x="718" y="1179"/>
                  </a:lnTo>
                  <a:lnTo>
                    <a:pt x="653" y="1215"/>
                  </a:lnTo>
                  <a:lnTo>
                    <a:pt x="566" y="1261"/>
                  </a:lnTo>
                  <a:lnTo>
                    <a:pt x="329" y="1376"/>
                  </a:lnTo>
                  <a:lnTo>
                    <a:pt x="324" y="1410"/>
                  </a:lnTo>
                  <a:lnTo>
                    <a:pt x="321" y="1445"/>
                  </a:lnTo>
                  <a:lnTo>
                    <a:pt x="319" y="1482"/>
                  </a:lnTo>
                  <a:lnTo>
                    <a:pt x="318" y="1519"/>
                  </a:lnTo>
                  <a:lnTo>
                    <a:pt x="318" y="1544"/>
                  </a:lnTo>
                  <a:lnTo>
                    <a:pt x="320" y="1567"/>
                  </a:lnTo>
                  <a:lnTo>
                    <a:pt x="322" y="1588"/>
                  </a:lnTo>
                  <a:lnTo>
                    <a:pt x="325" y="1607"/>
                  </a:lnTo>
                  <a:lnTo>
                    <a:pt x="328" y="1622"/>
                  </a:lnTo>
                  <a:lnTo>
                    <a:pt x="330" y="1630"/>
                  </a:lnTo>
                  <a:lnTo>
                    <a:pt x="333" y="1637"/>
                  </a:lnTo>
                  <a:lnTo>
                    <a:pt x="335" y="1643"/>
                  </a:lnTo>
                  <a:lnTo>
                    <a:pt x="338" y="1648"/>
                  </a:lnTo>
                  <a:lnTo>
                    <a:pt x="341" y="1654"/>
                  </a:lnTo>
                  <a:lnTo>
                    <a:pt x="344" y="1658"/>
                  </a:lnTo>
                  <a:lnTo>
                    <a:pt x="347" y="1662"/>
                  </a:lnTo>
                  <a:lnTo>
                    <a:pt x="351" y="1666"/>
                  </a:lnTo>
                  <a:lnTo>
                    <a:pt x="355" y="1669"/>
                  </a:lnTo>
                  <a:lnTo>
                    <a:pt x="359" y="1672"/>
                  </a:lnTo>
                  <a:lnTo>
                    <a:pt x="363" y="1676"/>
                  </a:lnTo>
                  <a:lnTo>
                    <a:pt x="368" y="1679"/>
                  </a:lnTo>
                  <a:lnTo>
                    <a:pt x="372" y="1682"/>
                  </a:lnTo>
                  <a:lnTo>
                    <a:pt x="377" y="1684"/>
                  </a:lnTo>
                  <a:lnTo>
                    <a:pt x="382" y="1686"/>
                  </a:lnTo>
                  <a:lnTo>
                    <a:pt x="387" y="1687"/>
                  </a:lnTo>
                  <a:lnTo>
                    <a:pt x="392" y="1689"/>
                  </a:lnTo>
                  <a:lnTo>
                    <a:pt x="398" y="1690"/>
                  </a:lnTo>
                  <a:lnTo>
                    <a:pt x="410" y="1691"/>
                  </a:lnTo>
                  <a:lnTo>
                    <a:pt x="422" y="1692"/>
                  </a:lnTo>
                  <a:lnTo>
                    <a:pt x="436" y="1691"/>
                  </a:lnTo>
                  <a:lnTo>
                    <a:pt x="451" y="1690"/>
                  </a:lnTo>
                  <a:lnTo>
                    <a:pt x="466" y="1687"/>
                  </a:lnTo>
                  <a:lnTo>
                    <a:pt x="481" y="1684"/>
                  </a:lnTo>
                  <a:lnTo>
                    <a:pt x="497" y="1679"/>
                  </a:lnTo>
                  <a:lnTo>
                    <a:pt x="514" y="1672"/>
                  </a:lnTo>
                  <a:lnTo>
                    <a:pt x="531" y="1666"/>
                  </a:lnTo>
                  <a:lnTo>
                    <a:pt x="548" y="1658"/>
                  </a:lnTo>
                  <a:lnTo>
                    <a:pt x="575" y="1644"/>
                  </a:lnTo>
                  <a:lnTo>
                    <a:pt x="606" y="1627"/>
                  </a:lnTo>
                  <a:lnTo>
                    <a:pt x="679" y="1582"/>
                  </a:lnTo>
                  <a:lnTo>
                    <a:pt x="767" y="1525"/>
                  </a:lnTo>
                  <a:close/>
                  <a:moveTo>
                    <a:pt x="351" y="1216"/>
                  </a:moveTo>
                  <a:lnTo>
                    <a:pt x="445" y="1160"/>
                  </a:lnTo>
                  <a:lnTo>
                    <a:pt x="529" y="1105"/>
                  </a:lnTo>
                  <a:lnTo>
                    <a:pt x="566" y="1077"/>
                  </a:lnTo>
                  <a:lnTo>
                    <a:pt x="601" y="1049"/>
                  </a:lnTo>
                  <a:lnTo>
                    <a:pt x="634" y="1021"/>
                  </a:lnTo>
                  <a:lnTo>
                    <a:pt x="663" y="993"/>
                  </a:lnTo>
                  <a:lnTo>
                    <a:pt x="683" y="968"/>
                  </a:lnTo>
                  <a:lnTo>
                    <a:pt x="700" y="943"/>
                  </a:lnTo>
                  <a:lnTo>
                    <a:pt x="715" y="919"/>
                  </a:lnTo>
                  <a:lnTo>
                    <a:pt x="727" y="896"/>
                  </a:lnTo>
                  <a:lnTo>
                    <a:pt x="736" y="874"/>
                  </a:lnTo>
                  <a:lnTo>
                    <a:pt x="740" y="862"/>
                  </a:lnTo>
                  <a:lnTo>
                    <a:pt x="743" y="852"/>
                  </a:lnTo>
                  <a:lnTo>
                    <a:pt x="745" y="841"/>
                  </a:lnTo>
                  <a:lnTo>
                    <a:pt x="747" y="831"/>
                  </a:lnTo>
                  <a:lnTo>
                    <a:pt x="748" y="820"/>
                  </a:lnTo>
                  <a:lnTo>
                    <a:pt x="748" y="811"/>
                  </a:lnTo>
                  <a:lnTo>
                    <a:pt x="748" y="798"/>
                  </a:lnTo>
                  <a:lnTo>
                    <a:pt x="746" y="784"/>
                  </a:lnTo>
                  <a:lnTo>
                    <a:pt x="745" y="771"/>
                  </a:lnTo>
                  <a:lnTo>
                    <a:pt x="742" y="760"/>
                  </a:lnTo>
                  <a:lnTo>
                    <a:pt x="738" y="750"/>
                  </a:lnTo>
                  <a:lnTo>
                    <a:pt x="736" y="744"/>
                  </a:lnTo>
                  <a:lnTo>
                    <a:pt x="734" y="740"/>
                  </a:lnTo>
                  <a:lnTo>
                    <a:pt x="731" y="735"/>
                  </a:lnTo>
                  <a:lnTo>
                    <a:pt x="728" y="731"/>
                  </a:lnTo>
                  <a:lnTo>
                    <a:pt x="725" y="727"/>
                  </a:lnTo>
                  <a:lnTo>
                    <a:pt x="722" y="723"/>
                  </a:lnTo>
                  <a:lnTo>
                    <a:pt x="715" y="715"/>
                  </a:lnTo>
                  <a:lnTo>
                    <a:pt x="711" y="712"/>
                  </a:lnTo>
                  <a:lnTo>
                    <a:pt x="708" y="709"/>
                  </a:lnTo>
                  <a:lnTo>
                    <a:pt x="704" y="706"/>
                  </a:lnTo>
                  <a:lnTo>
                    <a:pt x="700" y="704"/>
                  </a:lnTo>
                  <a:lnTo>
                    <a:pt x="696" y="701"/>
                  </a:lnTo>
                  <a:lnTo>
                    <a:pt x="692" y="700"/>
                  </a:lnTo>
                  <a:lnTo>
                    <a:pt x="687" y="698"/>
                  </a:lnTo>
                  <a:lnTo>
                    <a:pt x="683" y="695"/>
                  </a:lnTo>
                  <a:lnTo>
                    <a:pt x="679" y="694"/>
                  </a:lnTo>
                  <a:lnTo>
                    <a:pt x="674" y="693"/>
                  </a:lnTo>
                  <a:lnTo>
                    <a:pt x="669" y="692"/>
                  </a:lnTo>
                  <a:lnTo>
                    <a:pt x="664" y="691"/>
                  </a:lnTo>
                  <a:lnTo>
                    <a:pt x="654" y="691"/>
                  </a:lnTo>
                  <a:lnTo>
                    <a:pt x="648" y="691"/>
                  </a:lnTo>
                  <a:lnTo>
                    <a:pt x="642" y="692"/>
                  </a:lnTo>
                  <a:lnTo>
                    <a:pt x="628" y="694"/>
                  </a:lnTo>
                  <a:lnTo>
                    <a:pt x="614" y="698"/>
                  </a:lnTo>
                  <a:lnTo>
                    <a:pt x="598" y="703"/>
                  </a:lnTo>
                  <a:lnTo>
                    <a:pt x="582" y="709"/>
                  </a:lnTo>
                  <a:lnTo>
                    <a:pt x="564" y="717"/>
                  </a:lnTo>
                  <a:lnTo>
                    <a:pt x="524" y="737"/>
                  </a:lnTo>
                  <a:lnTo>
                    <a:pt x="452" y="863"/>
                  </a:lnTo>
                  <a:lnTo>
                    <a:pt x="419" y="964"/>
                  </a:lnTo>
                  <a:lnTo>
                    <a:pt x="391" y="1056"/>
                  </a:lnTo>
                  <a:lnTo>
                    <a:pt x="368" y="1140"/>
                  </a:lnTo>
                  <a:close/>
                  <a:moveTo>
                    <a:pt x="567" y="0"/>
                  </a:moveTo>
                  <a:lnTo>
                    <a:pt x="585" y="1"/>
                  </a:lnTo>
                  <a:lnTo>
                    <a:pt x="602" y="3"/>
                  </a:lnTo>
                  <a:lnTo>
                    <a:pt x="611" y="5"/>
                  </a:lnTo>
                  <a:lnTo>
                    <a:pt x="619" y="7"/>
                  </a:lnTo>
                  <a:lnTo>
                    <a:pt x="627" y="10"/>
                  </a:lnTo>
                  <a:lnTo>
                    <a:pt x="635" y="13"/>
                  </a:lnTo>
                  <a:lnTo>
                    <a:pt x="643" y="16"/>
                  </a:lnTo>
                  <a:lnTo>
                    <a:pt x="650" y="21"/>
                  </a:lnTo>
                  <a:lnTo>
                    <a:pt x="665" y="30"/>
                  </a:lnTo>
                  <a:lnTo>
                    <a:pt x="679" y="41"/>
                  </a:lnTo>
                  <a:lnTo>
                    <a:pt x="693" y="54"/>
                  </a:lnTo>
                  <a:lnTo>
                    <a:pt x="705" y="67"/>
                  </a:lnTo>
                  <a:lnTo>
                    <a:pt x="711" y="75"/>
                  </a:lnTo>
                  <a:lnTo>
                    <a:pt x="716" y="82"/>
                  </a:lnTo>
                  <a:lnTo>
                    <a:pt x="721" y="89"/>
                  </a:lnTo>
                  <a:lnTo>
                    <a:pt x="725" y="98"/>
                  </a:lnTo>
                  <a:lnTo>
                    <a:pt x="729" y="105"/>
                  </a:lnTo>
                  <a:lnTo>
                    <a:pt x="732" y="113"/>
                  </a:lnTo>
                  <a:lnTo>
                    <a:pt x="735" y="122"/>
                  </a:lnTo>
                  <a:lnTo>
                    <a:pt x="738" y="130"/>
                  </a:lnTo>
                  <a:lnTo>
                    <a:pt x="740" y="138"/>
                  </a:lnTo>
                  <a:lnTo>
                    <a:pt x="742" y="147"/>
                  </a:lnTo>
                  <a:lnTo>
                    <a:pt x="744" y="164"/>
                  </a:lnTo>
                  <a:lnTo>
                    <a:pt x="745" y="183"/>
                  </a:lnTo>
                  <a:lnTo>
                    <a:pt x="744" y="202"/>
                  </a:lnTo>
                  <a:lnTo>
                    <a:pt x="742" y="219"/>
                  </a:lnTo>
                  <a:lnTo>
                    <a:pt x="740" y="228"/>
                  </a:lnTo>
                  <a:lnTo>
                    <a:pt x="738" y="236"/>
                  </a:lnTo>
                  <a:lnTo>
                    <a:pt x="735" y="244"/>
                  </a:lnTo>
                  <a:lnTo>
                    <a:pt x="732" y="253"/>
                  </a:lnTo>
                  <a:lnTo>
                    <a:pt x="729" y="261"/>
                  </a:lnTo>
                  <a:lnTo>
                    <a:pt x="725" y="269"/>
                  </a:lnTo>
                  <a:lnTo>
                    <a:pt x="721" y="277"/>
                  </a:lnTo>
                  <a:lnTo>
                    <a:pt x="716" y="284"/>
                  </a:lnTo>
                  <a:lnTo>
                    <a:pt x="705" y="300"/>
                  </a:lnTo>
                  <a:lnTo>
                    <a:pt x="693" y="313"/>
                  </a:lnTo>
                  <a:lnTo>
                    <a:pt x="680" y="326"/>
                  </a:lnTo>
                  <a:lnTo>
                    <a:pt x="665" y="336"/>
                  </a:lnTo>
                  <a:lnTo>
                    <a:pt x="651" y="345"/>
                  </a:lnTo>
                  <a:lnTo>
                    <a:pt x="635" y="354"/>
                  </a:lnTo>
                  <a:lnTo>
                    <a:pt x="627" y="357"/>
                  </a:lnTo>
                  <a:lnTo>
                    <a:pt x="619" y="360"/>
                  </a:lnTo>
                  <a:lnTo>
                    <a:pt x="611" y="362"/>
                  </a:lnTo>
                  <a:lnTo>
                    <a:pt x="602" y="364"/>
                  </a:lnTo>
                  <a:lnTo>
                    <a:pt x="585" y="366"/>
                  </a:lnTo>
                  <a:lnTo>
                    <a:pt x="567" y="367"/>
                  </a:lnTo>
                  <a:lnTo>
                    <a:pt x="549" y="366"/>
                  </a:lnTo>
                  <a:lnTo>
                    <a:pt x="532" y="364"/>
                  </a:lnTo>
                  <a:lnTo>
                    <a:pt x="524" y="362"/>
                  </a:lnTo>
                  <a:lnTo>
                    <a:pt x="516" y="360"/>
                  </a:lnTo>
                  <a:lnTo>
                    <a:pt x="508" y="357"/>
                  </a:lnTo>
                  <a:lnTo>
                    <a:pt x="500" y="354"/>
                  </a:lnTo>
                  <a:lnTo>
                    <a:pt x="492" y="351"/>
                  </a:lnTo>
                  <a:lnTo>
                    <a:pt x="485" y="347"/>
                  </a:lnTo>
                  <a:lnTo>
                    <a:pt x="477" y="342"/>
                  </a:lnTo>
                  <a:lnTo>
                    <a:pt x="470" y="337"/>
                  </a:lnTo>
                  <a:lnTo>
                    <a:pt x="463" y="332"/>
                  </a:lnTo>
                  <a:lnTo>
                    <a:pt x="456" y="326"/>
                  </a:lnTo>
                  <a:lnTo>
                    <a:pt x="443" y="313"/>
                  </a:lnTo>
                  <a:lnTo>
                    <a:pt x="431" y="300"/>
                  </a:lnTo>
                  <a:lnTo>
                    <a:pt x="425" y="292"/>
                  </a:lnTo>
                  <a:lnTo>
                    <a:pt x="420" y="285"/>
                  </a:lnTo>
                  <a:lnTo>
                    <a:pt x="415" y="278"/>
                  </a:lnTo>
                  <a:lnTo>
                    <a:pt x="411" y="269"/>
                  </a:lnTo>
                  <a:lnTo>
                    <a:pt x="407" y="262"/>
                  </a:lnTo>
                  <a:lnTo>
                    <a:pt x="404" y="254"/>
                  </a:lnTo>
                  <a:lnTo>
                    <a:pt x="401" y="245"/>
                  </a:lnTo>
                  <a:lnTo>
                    <a:pt x="398" y="237"/>
                  </a:lnTo>
                  <a:lnTo>
                    <a:pt x="396" y="229"/>
                  </a:lnTo>
                  <a:lnTo>
                    <a:pt x="394" y="219"/>
                  </a:lnTo>
                  <a:lnTo>
                    <a:pt x="392" y="202"/>
                  </a:lnTo>
                  <a:lnTo>
                    <a:pt x="391" y="183"/>
                  </a:lnTo>
                  <a:lnTo>
                    <a:pt x="392" y="164"/>
                  </a:lnTo>
                  <a:lnTo>
                    <a:pt x="394" y="147"/>
                  </a:lnTo>
                  <a:lnTo>
                    <a:pt x="396" y="137"/>
                  </a:lnTo>
                  <a:lnTo>
                    <a:pt x="398" y="129"/>
                  </a:lnTo>
                  <a:lnTo>
                    <a:pt x="401" y="120"/>
                  </a:lnTo>
                  <a:lnTo>
                    <a:pt x="404" y="112"/>
                  </a:lnTo>
                  <a:lnTo>
                    <a:pt x="407" y="105"/>
                  </a:lnTo>
                  <a:lnTo>
                    <a:pt x="411" y="97"/>
                  </a:lnTo>
                  <a:lnTo>
                    <a:pt x="415" y="89"/>
                  </a:lnTo>
                  <a:lnTo>
                    <a:pt x="420" y="81"/>
                  </a:lnTo>
                  <a:lnTo>
                    <a:pt x="431" y="66"/>
                  </a:lnTo>
                  <a:lnTo>
                    <a:pt x="443" y="53"/>
                  </a:lnTo>
                  <a:lnTo>
                    <a:pt x="456" y="40"/>
                  </a:lnTo>
                  <a:lnTo>
                    <a:pt x="471" y="30"/>
                  </a:lnTo>
                  <a:lnTo>
                    <a:pt x="485" y="21"/>
                  </a:lnTo>
                  <a:lnTo>
                    <a:pt x="501" y="13"/>
                  </a:lnTo>
                  <a:lnTo>
                    <a:pt x="516" y="7"/>
                  </a:lnTo>
                  <a:lnTo>
                    <a:pt x="533" y="3"/>
                  </a:lnTo>
                  <a:lnTo>
                    <a:pt x="550" y="1"/>
                  </a:lnTo>
                  <a:close/>
                  <a:moveTo>
                    <a:pt x="1017" y="3"/>
                  </a:moveTo>
                  <a:lnTo>
                    <a:pt x="1035" y="4"/>
                  </a:lnTo>
                  <a:lnTo>
                    <a:pt x="1053" y="6"/>
                  </a:lnTo>
                  <a:lnTo>
                    <a:pt x="1062" y="8"/>
                  </a:lnTo>
                  <a:lnTo>
                    <a:pt x="1070" y="10"/>
                  </a:lnTo>
                  <a:lnTo>
                    <a:pt x="1078" y="13"/>
                  </a:lnTo>
                  <a:lnTo>
                    <a:pt x="1086" y="16"/>
                  </a:lnTo>
                  <a:lnTo>
                    <a:pt x="1094" y="19"/>
                  </a:lnTo>
                  <a:lnTo>
                    <a:pt x="1101" y="24"/>
                  </a:lnTo>
                  <a:lnTo>
                    <a:pt x="1109" y="28"/>
                  </a:lnTo>
                  <a:lnTo>
                    <a:pt x="1116" y="33"/>
                  </a:lnTo>
                  <a:lnTo>
                    <a:pt x="1123" y="38"/>
                  </a:lnTo>
                  <a:lnTo>
                    <a:pt x="1130" y="44"/>
                  </a:lnTo>
                  <a:lnTo>
                    <a:pt x="1143" y="57"/>
                  </a:lnTo>
                  <a:lnTo>
                    <a:pt x="1155" y="70"/>
                  </a:lnTo>
                  <a:lnTo>
                    <a:pt x="1166" y="85"/>
                  </a:lnTo>
                  <a:lnTo>
                    <a:pt x="1171" y="92"/>
                  </a:lnTo>
                  <a:lnTo>
                    <a:pt x="1174" y="100"/>
                  </a:lnTo>
                  <a:lnTo>
                    <a:pt x="1178" y="108"/>
                  </a:lnTo>
                  <a:lnTo>
                    <a:pt x="1181" y="115"/>
                  </a:lnTo>
                  <a:lnTo>
                    <a:pt x="1184" y="124"/>
                  </a:lnTo>
                  <a:lnTo>
                    <a:pt x="1187" y="132"/>
                  </a:lnTo>
                  <a:lnTo>
                    <a:pt x="1189" y="140"/>
                  </a:lnTo>
                  <a:lnTo>
                    <a:pt x="1191" y="149"/>
                  </a:lnTo>
                  <a:lnTo>
                    <a:pt x="1193" y="166"/>
                  </a:lnTo>
                  <a:lnTo>
                    <a:pt x="1194" y="184"/>
                  </a:lnTo>
                  <a:lnTo>
                    <a:pt x="1193" y="203"/>
                  </a:lnTo>
                  <a:lnTo>
                    <a:pt x="1191" y="220"/>
                  </a:lnTo>
                  <a:lnTo>
                    <a:pt x="1189" y="230"/>
                  </a:lnTo>
                  <a:lnTo>
                    <a:pt x="1187" y="238"/>
                  </a:lnTo>
                  <a:lnTo>
                    <a:pt x="1184" y="247"/>
                  </a:lnTo>
                  <a:lnTo>
                    <a:pt x="1181" y="255"/>
                  </a:lnTo>
                  <a:lnTo>
                    <a:pt x="1178" y="263"/>
                  </a:lnTo>
                  <a:lnTo>
                    <a:pt x="1174" y="270"/>
                  </a:lnTo>
                  <a:lnTo>
                    <a:pt x="1171" y="279"/>
                  </a:lnTo>
                  <a:lnTo>
                    <a:pt x="1166" y="286"/>
                  </a:lnTo>
                  <a:lnTo>
                    <a:pt x="1161" y="293"/>
                  </a:lnTo>
                  <a:lnTo>
                    <a:pt x="1155" y="301"/>
                  </a:lnTo>
                  <a:lnTo>
                    <a:pt x="1143" y="314"/>
                  </a:lnTo>
                  <a:lnTo>
                    <a:pt x="1130" y="327"/>
                  </a:lnTo>
                  <a:lnTo>
                    <a:pt x="1116" y="337"/>
                  </a:lnTo>
                  <a:lnTo>
                    <a:pt x="1109" y="342"/>
                  </a:lnTo>
                  <a:lnTo>
                    <a:pt x="1101" y="347"/>
                  </a:lnTo>
                  <a:lnTo>
                    <a:pt x="1094" y="351"/>
                  </a:lnTo>
                  <a:lnTo>
                    <a:pt x="1086" y="354"/>
                  </a:lnTo>
                  <a:lnTo>
                    <a:pt x="1078" y="357"/>
                  </a:lnTo>
                  <a:lnTo>
                    <a:pt x="1070" y="360"/>
                  </a:lnTo>
                  <a:lnTo>
                    <a:pt x="1053" y="364"/>
                  </a:lnTo>
                  <a:lnTo>
                    <a:pt x="1035" y="366"/>
                  </a:lnTo>
                  <a:lnTo>
                    <a:pt x="1017" y="367"/>
                  </a:lnTo>
                  <a:lnTo>
                    <a:pt x="999" y="366"/>
                  </a:lnTo>
                  <a:lnTo>
                    <a:pt x="982" y="364"/>
                  </a:lnTo>
                  <a:lnTo>
                    <a:pt x="973" y="362"/>
                  </a:lnTo>
                  <a:lnTo>
                    <a:pt x="965" y="360"/>
                  </a:lnTo>
                  <a:lnTo>
                    <a:pt x="957" y="357"/>
                  </a:lnTo>
                  <a:lnTo>
                    <a:pt x="949" y="354"/>
                  </a:lnTo>
                  <a:lnTo>
                    <a:pt x="942" y="351"/>
                  </a:lnTo>
                  <a:lnTo>
                    <a:pt x="934" y="347"/>
                  </a:lnTo>
                  <a:lnTo>
                    <a:pt x="927" y="342"/>
                  </a:lnTo>
                  <a:lnTo>
                    <a:pt x="920" y="337"/>
                  </a:lnTo>
                  <a:lnTo>
                    <a:pt x="906" y="327"/>
                  </a:lnTo>
                  <a:lnTo>
                    <a:pt x="893" y="314"/>
                  </a:lnTo>
                  <a:lnTo>
                    <a:pt x="881" y="301"/>
                  </a:lnTo>
                  <a:lnTo>
                    <a:pt x="871" y="286"/>
                  </a:lnTo>
                  <a:lnTo>
                    <a:pt x="866" y="279"/>
                  </a:lnTo>
                  <a:lnTo>
                    <a:pt x="862" y="272"/>
                  </a:lnTo>
                  <a:lnTo>
                    <a:pt x="858" y="263"/>
                  </a:lnTo>
                  <a:lnTo>
                    <a:pt x="855" y="256"/>
                  </a:lnTo>
                  <a:lnTo>
                    <a:pt x="852" y="248"/>
                  </a:lnTo>
                  <a:lnTo>
                    <a:pt x="849" y="239"/>
                  </a:lnTo>
                  <a:lnTo>
                    <a:pt x="847" y="230"/>
                  </a:lnTo>
                  <a:lnTo>
                    <a:pt x="845" y="222"/>
                  </a:lnTo>
                  <a:lnTo>
                    <a:pt x="843" y="203"/>
                  </a:lnTo>
                  <a:lnTo>
                    <a:pt x="842" y="184"/>
                  </a:lnTo>
                  <a:lnTo>
                    <a:pt x="843" y="165"/>
                  </a:lnTo>
                  <a:lnTo>
                    <a:pt x="845" y="148"/>
                  </a:lnTo>
                  <a:lnTo>
                    <a:pt x="847" y="139"/>
                  </a:lnTo>
                  <a:lnTo>
                    <a:pt x="849" y="131"/>
                  </a:lnTo>
                  <a:lnTo>
                    <a:pt x="852" y="123"/>
                  </a:lnTo>
                  <a:lnTo>
                    <a:pt x="855" y="114"/>
                  </a:lnTo>
                  <a:lnTo>
                    <a:pt x="858" y="107"/>
                  </a:lnTo>
                  <a:lnTo>
                    <a:pt x="862" y="99"/>
                  </a:lnTo>
                  <a:lnTo>
                    <a:pt x="866" y="91"/>
                  </a:lnTo>
                  <a:lnTo>
                    <a:pt x="871" y="84"/>
                  </a:lnTo>
                  <a:lnTo>
                    <a:pt x="881" y="69"/>
                  </a:lnTo>
                  <a:lnTo>
                    <a:pt x="893" y="56"/>
                  </a:lnTo>
                  <a:lnTo>
                    <a:pt x="906" y="43"/>
                  </a:lnTo>
                  <a:lnTo>
                    <a:pt x="920" y="33"/>
                  </a:lnTo>
                  <a:lnTo>
                    <a:pt x="927" y="28"/>
                  </a:lnTo>
                  <a:lnTo>
                    <a:pt x="935" y="24"/>
                  </a:lnTo>
                  <a:lnTo>
                    <a:pt x="942" y="19"/>
                  </a:lnTo>
                  <a:lnTo>
                    <a:pt x="950" y="16"/>
                  </a:lnTo>
                  <a:lnTo>
                    <a:pt x="958" y="13"/>
                  </a:lnTo>
                  <a:lnTo>
                    <a:pt x="966" y="10"/>
                  </a:lnTo>
                  <a:lnTo>
                    <a:pt x="982" y="6"/>
                  </a:lnTo>
                  <a:lnTo>
                    <a:pt x="999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48440" y="873000"/>
              <a:ext cx="513000" cy="534960"/>
            </a:xfrm>
            <a:custGeom>
              <a:avLst/>
              <a:gdLst/>
              <a:ahLst/>
              <a:rect l="l" t="t" r="r" b="b"/>
              <a:pathLst>
                <a:path w="1426" h="1487">
                  <a:moveTo>
                    <a:pt x="1425" y="1114"/>
                  </a:moveTo>
                  <a:lnTo>
                    <a:pt x="1345" y="1201"/>
                  </a:lnTo>
                  <a:lnTo>
                    <a:pt x="1270" y="1276"/>
                  </a:lnTo>
                  <a:lnTo>
                    <a:pt x="1200" y="1341"/>
                  </a:lnTo>
                  <a:lnTo>
                    <a:pt x="1136" y="1393"/>
                  </a:lnTo>
                  <a:lnTo>
                    <a:pt x="1076" y="1434"/>
                  </a:lnTo>
                  <a:lnTo>
                    <a:pt x="1048" y="1449"/>
                  </a:lnTo>
                  <a:lnTo>
                    <a:pt x="1022" y="1463"/>
                  </a:lnTo>
                  <a:lnTo>
                    <a:pt x="997" y="1472"/>
                  </a:lnTo>
                  <a:lnTo>
                    <a:pt x="973" y="1480"/>
                  </a:lnTo>
                  <a:lnTo>
                    <a:pt x="950" y="1485"/>
                  </a:lnTo>
                  <a:lnTo>
                    <a:pt x="929" y="1486"/>
                  </a:lnTo>
                  <a:lnTo>
                    <a:pt x="922" y="1486"/>
                  </a:lnTo>
                  <a:lnTo>
                    <a:pt x="915" y="1485"/>
                  </a:lnTo>
                  <a:lnTo>
                    <a:pt x="908" y="1484"/>
                  </a:lnTo>
                  <a:lnTo>
                    <a:pt x="901" y="1483"/>
                  </a:lnTo>
                  <a:lnTo>
                    <a:pt x="894" y="1481"/>
                  </a:lnTo>
                  <a:lnTo>
                    <a:pt x="888" y="1478"/>
                  </a:lnTo>
                  <a:lnTo>
                    <a:pt x="881" y="1476"/>
                  </a:lnTo>
                  <a:lnTo>
                    <a:pt x="874" y="1473"/>
                  </a:lnTo>
                  <a:lnTo>
                    <a:pt x="868" y="1470"/>
                  </a:lnTo>
                  <a:lnTo>
                    <a:pt x="862" y="1466"/>
                  </a:lnTo>
                  <a:lnTo>
                    <a:pt x="849" y="1458"/>
                  </a:lnTo>
                  <a:lnTo>
                    <a:pt x="837" y="1447"/>
                  </a:lnTo>
                  <a:lnTo>
                    <a:pt x="825" y="1436"/>
                  </a:lnTo>
                  <a:lnTo>
                    <a:pt x="819" y="1430"/>
                  </a:lnTo>
                  <a:lnTo>
                    <a:pt x="814" y="1422"/>
                  </a:lnTo>
                  <a:lnTo>
                    <a:pt x="809" y="1416"/>
                  </a:lnTo>
                  <a:lnTo>
                    <a:pt x="804" y="1409"/>
                  </a:lnTo>
                  <a:lnTo>
                    <a:pt x="800" y="1401"/>
                  </a:lnTo>
                  <a:lnTo>
                    <a:pt x="796" y="1393"/>
                  </a:lnTo>
                  <a:lnTo>
                    <a:pt x="792" y="1386"/>
                  </a:lnTo>
                  <a:lnTo>
                    <a:pt x="789" y="1377"/>
                  </a:lnTo>
                  <a:lnTo>
                    <a:pt x="784" y="1360"/>
                  </a:lnTo>
                  <a:lnTo>
                    <a:pt x="780" y="1341"/>
                  </a:lnTo>
                  <a:lnTo>
                    <a:pt x="778" y="1321"/>
                  </a:lnTo>
                  <a:lnTo>
                    <a:pt x="777" y="1300"/>
                  </a:lnTo>
                  <a:lnTo>
                    <a:pt x="778" y="1277"/>
                  </a:lnTo>
                  <a:lnTo>
                    <a:pt x="779" y="1254"/>
                  </a:lnTo>
                  <a:lnTo>
                    <a:pt x="782" y="1229"/>
                  </a:lnTo>
                  <a:lnTo>
                    <a:pt x="785" y="1201"/>
                  </a:lnTo>
                  <a:lnTo>
                    <a:pt x="795" y="1143"/>
                  </a:lnTo>
                  <a:lnTo>
                    <a:pt x="809" y="1079"/>
                  </a:lnTo>
                  <a:lnTo>
                    <a:pt x="883" y="799"/>
                  </a:lnTo>
                  <a:lnTo>
                    <a:pt x="511" y="799"/>
                  </a:lnTo>
                  <a:lnTo>
                    <a:pt x="366" y="1430"/>
                  </a:lnTo>
                  <a:lnTo>
                    <a:pt x="75" y="1430"/>
                  </a:lnTo>
                  <a:lnTo>
                    <a:pt x="76" y="1414"/>
                  </a:lnTo>
                  <a:lnTo>
                    <a:pt x="78" y="1397"/>
                  </a:lnTo>
                  <a:lnTo>
                    <a:pt x="85" y="1358"/>
                  </a:lnTo>
                  <a:lnTo>
                    <a:pt x="96" y="1311"/>
                  </a:lnTo>
                  <a:lnTo>
                    <a:pt x="109" y="1257"/>
                  </a:lnTo>
                  <a:lnTo>
                    <a:pt x="191" y="923"/>
                  </a:lnTo>
                  <a:lnTo>
                    <a:pt x="330" y="344"/>
                  </a:lnTo>
                  <a:lnTo>
                    <a:pt x="335" y="323"/>
                  </a:lnTo>
                  <a:lnTo>
                    <a:pt x="338" y="307"/>
                  </a:lnTo>
                  <a:lnTo>
                    <a:pt x="339" y="299"/>
                  </a:lnTo>
                  <a:lnTo>
                    <a:pt x="339" y="292"/>
                  </a:lnTo>
                  <a:lnTo>
                    <a:pt x="340" y="286"/>
                  </a:lnTo>
                  <a:lnTo>
                    <a:pt x="340" y="281"/>
                  </a:lnTo>
                  <a:lnTo>
                    <a:pt x="340" y="273"/>
                  </a:lnTo>
                  <a:lnTo>
                    <a:pt x="340" y="269"/>
                  </a:lnTo>
                  <a:lnTo>
                    <a:pt x="340" y="267"/>
                  </a:lnTo>
                  <a:lnTo>
                    <a:pt x="340" y="266"/>
                  </a:lnTo>
                  <a:lnTo>
                    <a:pt x="340" y="266"/>
                  </a:lnTo>
                  <a:lnTo>
                    <a:pt x="339" y="266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9" y="265"/>
                  </a:lnTo>
                  <a:lnTo>
                    <a:pt x="335" y="265"/>
                  </a:lnTo>
                  <a:lnTo>
                    <a:pt x="332" y="266"/>
                  </a:lnTo>
                  <a:lnTo>
                    <a:pt x="323" y="268"/>
                  </a:lnTo>
                  <a:lnTo>
                    <a:pt x="314" y="271"/>
                  </a:lnTo>
                  <a:lnTo>
                    <a:pt x="304" y="275"/>
                  </a:lnTo>
                  <a:lnTo>
                    <a:pt x="280" y="289"/>
                  </a:lnTo>
                  <a:lnTo>
                    <a:pt x="253" y="309"/>
                  </a:lnTo>
                  <a:lnTo>
                    <a:pt x="221" y="333"/>
                  </a:lnTo>
                  <a:lnTo>
                    <a:pt x="185" y="363"/>
                  </a:lnTo>
                  <a:lnTo>
                    <a:pt x="102" y="439"/>
                  </a:lnTo>
                  <a:lnTo>
                    <a:pt x="0" y="354"/>
                  </a:lnTo>
                  <a:lnTo>
                    <a:pt x="83" y="271"/>
                  </a:lnTo>
                  <a:lnTo>
                    <a:pt x="162" y="199"/>
                  </a:lnTo>
                  <a:lnTo>
                    <a:pt x="236" y="138"/>
                  </a:lnTo>
                  <a:lnTo>
                    <a:pt x="305" y="89"/>
                  </a:lnTo>
                  <a:lnTo>
                    <a:pt x="368" y="50"/>
                  </a:lnTo>
                  <a:lnTo>
                    <a:pt x="398" y="35"/>
                  </a:lnTo>
                  <a:lnTo>
                    <a:pt x="426" y="22"/>
                  </a:lnTo>
                  <a:lnTo>
                    <a:pt x="453" y="13"/>
                  </a:lnTo>
                  <a:lnTo>
                    <a:pt x="479" y="6"/>
                  </a:lnTo>
                  <a:lnTo>
                    <a:pt x="503" y="2"/>
                  </a:lnTo>
                  <a:lnTo>
                    <a:pt x="526" y="0"/>
                  </a:lnTo>
                  <a:lnTo>
                    <a:pt x="541" y="2"/>
                  </a:lnTo>
                  <a:lnTo>
                    <a:pt x="554" y="3"/>
                  </a:lnTo>
                  <a:lnTo>
                    <a:pt x="567" y="6"/>
                  </a:lnTo>
                  <a:lnTo>
                    <a:pt x="579" y="10"/>
                  </a:lnTo>
                  <a:lnTo>
                    <a:pt x="589" y="15"/>
                  </a:lnTo>
                  <a:lnTo>
                    <a:pt x="599" y="21"/>
                  </a:lnTo>
                  <a:lnTo>
                    <a:pt x="608" y="30"/>
                  </a:lnTo>
                  <a:lnTo>
                    <a:pt x="616" y="38"/>
                  </a:lnTo>
                  <a:lnTo>
                    <a:pt x="623" y="48"/>
                  </a:lnTo>
                  <a:lnTo>
                    <a:pt x="629" y="59"/>
                  </a:lnTo>
                  <a:lnTo>
                    <a:pt x="634" y="71"/>
                  </a:lnTo>
                  <a:lnTo>
                    <a:pt x="639" y="85"/>
                  </a:lnTo>
                  <a:lnTo>
                    <a:pt x="642" y="100"/>
                  </a:lnTo>
                  <a:lnTo>
                    <a:pt x="644" y="116"/>
                  </a:lnTo>
                  <a:lnTo>
                    <a:pt x="646" y="133"/>
                  </a:lnTo>
                  <a:lnTo>
                    <a:pt x="646" y="152"/>
                  </a:lnTo>
                  <a:lnTo>
                    <a:pt x="644" y="185"/>
                  </a:lnTo>
                  <a:lnTo>
                    <a:pt x="640" y="225"/>
                  </a:lnTo>
                  <a:lnTo>
                    <a:pt x="632" y="274"/>
                  </a:lnTo>
                  <a:lnTo>
                    <a:pt x="621" y="331"/>
                  </a:lnTo>
                  <a:lnTo>
                    <a:pt x="589" y="466"/>
                  </a:lnTo>
                  <a:lnTo>
                    <a:pt x="544" y="634"/>
                  </a:lnTo>
                  <a:lnTo>
                    <a:pt x="917" y="634"/>
                  </a:lnTo>
                  <a:lnTo>
                    <a:pt x="1068" y="41"/>
                  </a:lnTo>
                  <a:lnTo>
                    <a:pt x="1347" y="41"/>
                  </a:lnTo>
                  <a:lnTo>
                    <a:pt x="1199" y="649"/>
                  </a:lnTo>
                  <a:lnTo>
                    <a:pt x="1103" y="1031"/>
                  </a:lnTo>
                  <a:lnTo>
                    <a:pt x="1079" y="1142"/>
                  </a:lnTo>
                  <a:lnTo>
                    <a:pt x="1073" y="1177"/>
                  </a:lnTo>
                  <a:lnTo>
                    <a:pt x="1072" y="1191"/>
                  </a:lnTo>
                  <a:lnTo>
                    <a:pt x="1071" y="1200"/>
                  </a:lnTo>
                  <a:lnTo>
                    <a:pt x="1071" y="1208"/>
                  </a:lnTo>
                  <a:lnTo>
                    <a:pt x="1072" y="1214"/>
                  </a:lnTo>
                  <a:lnTo>
                    <a:pt x="1072" y="1217"/>
                  </a:lnTo>
                  <a:lnTo>
                    <a:pt x="1073" y="1219"/>
                  </a:lnTo>
                  <a:lnTo>
                    <a:pt x="1073" y="1221"/>
                  </a:lnTo>
                  <a:lnTo>
                    <a:pt x="1074" y="1223"/>
                  </a:lnTo>
                  <a:lnTo>
                    <a:pt x="1075" y="1225"/>
                  </a:lnTo>
                  <a:lnTo>
                    <a:pt x="1076" y="1226"/>
                  </a:lnTo>
                  <a:lnTo>
                    <a:pt x="1077" y="1227"/>
                  </a:lnTo>
                  <a:lnTo>
                    <a:pt x="1078" y="1229"/>
                  </a:lnTo>
                  <a:lnTo>
                    <a:pt x="1078" y="1230"/>
                  </a:lnTo>
                  <a:lnTo>
                    <a:pt x="1079" y="1230"/>
                  </a:lnTo>
                  <a:lnTo>
                    <a:pt x="1080" y="1230"/>
                  </a:lnTo>
                  <a:lnTo>
                    <a:pt x="1080" y="1231"/>
                  </a:lnTo>
                  <a:lnTo>
                    <a:pt x="1081" y="1231"/>
                  </a:lnTo>
                  <a:lnTo>
                    <a:pt x="1082" y="1231"/>
                  </a:lnTo>
                  <a:lnTo>
                    <a:pt x="1083" y="1231"/>
                  </a:lnTo>
                  <a:lnTo>
                    <a:pt x="1086" y="1231"/>
                  </a:lnTo>
                  <a:lnTo>
                    <a:pt x="1089" y="1230"/>
                  </a:lnTo>
                  <a:lnTo>
                    <a:pt x="1097" y="1227"/>
                  </a:lnTo>
                  <a:lnTo>
                    <a:pt x="1105" y="1223"/>
                  </a:lnTo>
                  <a:lnTo>
                    <a:pt x="1115" y="1217"/>
                  </a:lnTo>
                  <a:lnTo>
                    <a:pt x="1140" y="1201"/>
                  </a:lnTo>
                  <a:lnTo>
                    <a:pt x="1169" y="1179"/>
                  </a:lnTo>
                  <a:lnTo>
                    <a:pt x="1245" y="1112"/>
                  </a:lnTo>
                  <a:lnTo>
                    <a:pt x="1342" y="1019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Радуга имё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0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" fill="hold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19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200"/>
                            </p:stCondLst>
                            <p:childTnLst>
                              <p:par>
                                <p:cTn id="19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1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fill="hold">
                            <p:stCondLst>
                              <p:cond delay="300"/>
                            </p:stCondLst>
                            <p:childTnLst>
                              <p:par>
                                <p:cTn id="20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400"/>
                            </p:stCondLst>
                            <p:childTnLst>
                              <p:par>
                                <p:cTn id="20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1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1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fill="hold">
                            <p:stCondLst>
                              <p:cond delay="600"/>
                            </p:stCondLst>
                            <p:childTnLst>
                              <p:par>
                                <p:cTn id="21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 fill="hold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47640" y="11872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993300"/>
                </a:solidFill>
                <a:latin typeface="Georgia"/>
              </a:rPr>
              <a:t>Желтый – цвет науки, наблюдений и анализа, символизирует богатство, мечты, фантазии, радость, зависть и ревность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993300"/>
                </a:solidFill>
                <a:latin typeface="Georgia"/>
              </a:rPr>
              <a:t>Дети с «желтыми» именами предрасположены к творчеству, абстрактному мышлению, из них вырастают свободолюбивые, оригинальные и самобытные</a:t>
            </a:r>
            <a:r>
              <a:rPr b="1" i="1" lang="en-GB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en-GB" sz="3200" spc="-1" strike="noStrike">
                <a:solidFill>
                  <a:srgbClr val="993300"/>
                </a:solidFill>
                <a:latin typeface="Georgia"/>
              </a:rPr>
              <a:t>люди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7272360" y="179280"/>
            <a:ext cx="2531880" cy="24955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360360" y="5003640"/>
            <a:ext cx="11113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Georgia"/>
              </a:rPr>
              <a:t>Красный – цвет  жизни,символизирующий активность,энергию,решимость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Georgia"/>
              </a:rPr>
              <a:t>Дети с «красными» именами исключительно открыты, активны, трудно поддаются воспитанию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Georgia"/>
              </a:rPr>
              <a:t>Становлясь взрослыми обладают высокой работоспособностью и целеустремлённостью. 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7920000" y="5435640"/>
            <a:ext cx="151308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539640" y="515880"/>
            <a:ext cx="93600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Georgia"/>
              </a:rPr>
              <a:t>Чёрный – цвет тьмы,беспросветности . </a:t>
            </a:r>
            <a:endParaRPr b="0" lang="en-US" sz="40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Georgia"/>
              </a:rPr>
              <a:t>Черная дорога- путь тяжёлых жизненных испытаний и невзгод. </a:t>
            </a:r>
            <a:endParaRPr b="0" lang="en-US" sz="40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7632720" y="4716360"/>
            <a:ext cx="19159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99648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6b2394"/>
                </a:solidFill>
                <a:latin typeface="Georgia"/>
              </a:rPr>
              <a:t>Люди с именами, соответствующими фиолетовому цвету, очень чувствительные, легко возбудимы, нуждаются в поддержке и поощрении</a:t>
            </a:r>
            <a:r>
              <a:rPr b="1" i="1" lang="en-GB" sz="4000" spc="-1" strike="noStrike">
                <a:solidFill>
                  <a:srgbClr val="6b2394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7704000" y="4932360"/>
            <a:ext cx="16765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3280" y="466200"/>
            <a:ext cx="95774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8000"/>
                </a:solidFill>
                <a:latin typeface="Georgia"/>
              </a:rPr>
              <a:t>Зеленый – цвет здоровья и духовной напряжённости, выражается в упорстве и силе ума. </a:t>
            </a:r>
            <a:endParaRPr b="0" lang="en-US" sz="40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8000"/>
                </a:solidFill>
                <a:latin typeface="Georgia"/>
              </a:rPr>
              <a:t>Люди этого цвета стремятся к первенству. </a:t>
            </a:r>
            <a:endParaRPr b="0" lang="en-US" sz="40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 algn="ctr">
              <a:lnSpc>
                <a:spcPct val="9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8000"/>
                </a:solidFill>
                <a:latin typeface="Georgia"/>
              </a:rPr>
              <a:t>«Зелёный» ребёнок чувствует себя заброшенным и нуждается в помощи и любви.</a:t>
            </a:r>
            <a:endParaRPr b="0" lang="en-US" sz="40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647640" y="5006880"/>
            <a:ext cx="36864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286920" y="1042560"/>
            <a:ext cx="90010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8000"/>
                </a:solidFill>
                <a:latin typeface="Times New Roman"/>
              </a:rPr>
              <a:t>Данное исследование позволяет  составить портрет учащихся Казанской школы по основным качествам  имени.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0" y="0"/>
            <a:ext cx="5184720" cy="971640"/>
            <a:chOff x="0" y="0"/>
            <a:chExt cx="5184720" cy="971640"/>
          </a:xfrm>
        </p:grpSpPr>
        <p:sp>
          <p:nvSpPr>
            <p:cNvPr id="819" name=""/>
            <p:cNvSpPr/>
            <p:nvPr/>
          </p:nvSpPr>
          <p:spPr>
            <a:xfrm>
              <a:off x="1727280" y="131760"/>
              <a:ext cx="623880" cy="826920"/>
            </a:xfrm>
            <a:custGeom>
              <a:avLst/>
              <a:gdLst/>
              <a:ahLst/>
              <a:rect l="l" t="t" r="r" b="b"/>
              <a:pathLst>
                <a:path w="1733" h="2298">
                  <a:moveTo>
                    <a:pt x="730" y="529"/>
                  </a:moveTo>
                  <a:lnTo>
                    <a:pt x="753" y="369"/>
                  </a:lnTo>
                  <a:lnTo>
                    <a:pt x="846" y="358"/>
                  </a:lnTo>
                  <a:lnTo>
                    <a:pt x="946" y="343"/>
                  </a:lnTo>
                  <a:lnTo>
                    <a:pt x="1052" y="321"/>
                  </a:lnTo>
                  <a:lnTo>
                    <a:pt x="1163" y="294"/>
                  </a:lnTo>
                  <a:lnTo>
                    <a:pt x="1086" y="654"/>
                  </a:lnTo>
                  <a:lnTo>
                    <a:pt x="1012" y="1000"/>
                  </a:lnTo>
                  <a:lnTo>
                    <a:pt x="1064" y="997"/>
                  </a:lnTo>
                  <a:lnTo>
                    <a:pt x="1113" y="991"/>
                  </a:lnTo>
                  <a:lnTo>
                    <a:pt x="1159" y="980"/>
                  </a:lnTo>
                  <a:lnTo>
                    <a:pt x="1201" y="963"/>
                  </a:lnTo>
                  <a:lnTo>
                    <a:pt x="1222" y="953"/>
                  </a:lnTo>
                  <a:lnTo>
                    <a:pt x="1241" y="941"/>
                  </a:lnTo>
                  <a:lnTo>
                    <a:pt x="1260" y="930"/>
                  </a:lnTo>
                  <a:lnTo>
                    <a:pt x="1279" y="916"/>
                  </a:lnTo>
                  <a:lnTo>
                    <a:pt x="1296" y="902"/>
                  </a:lnTo>
                  <a:lnTo>
                    <a:pt x="1313" y="885"/>
                  </a:lnTo>
                  <a:lnTo>
                    <a:pt x="1329" y="869"/>
                  </a:lnTo>
                  <a:lnTo>
                    <a:pt x="1345" y="851"/>
                  </a:lnTo>
                  <a:lnTo>
                    <a:pt x="1373" y="812"/>
                  </a:lnTo>
                  <a:lnTo>
                    <a:pt x="1397" y="773"/>
                  </a:lnTo>
                  <a:lnTo>
                    <a:pt x="1418" y="731"/>
                  </a:lnTo>
                  <a:lnTo>
                    <a:pt x="1427" y="709"/>
                  </a:lnTo>
                  <a:lnTo>
                    <a:pt x="1435" y="687"/>
                  </a:lnTo>
                  <a:lnTo>
                    <a:pt x="1442" y="664"/>
                  </a:lnTo>
                  <a:lnTo>
                    <a:pt x="1448" y="641"/>
                  </a:lnTo>
                  <a:lnTo>
                    <a:pt x="1453" y="618"/>
                  </a:lnTo>
                  <a:lnTo>
                    <a:pt x="1459" y="594"/>
                  </a:lnTo>
                  <a:lnTo>
                    <a:pt x="1464" y="546"/>
                  </a:lnTo>
                  <a:lnTo>
                    <a:pt x="1466" y="494"/>
                  </a:lnTo>
                  <a:lnTo>
                    <a:pt x="1466" y="478"/>
                  </a:lnTo>
                  <a:lnTo>
                    <a:pt x="1465" y="461"/>
                  </a:lnTo>
                  <a:lnTo>
                    <a:pt x="1463" y="445"/>
                  </a:lnTo>
                  <a:lnTo>
                    <a:pt x="1461" y="429"/>
                  </a:lnTo>
                  <a:lnTo>
                    <a:pt x="1457" y="414"/>
                  </a:lnTo>
                  <a:lnTo>
                    <a:pt x="1453" y="400"/>
                  </a:lnTo>
                  <a:lnTo>
                    <a:pt x="1449" y="385"/>
                  </a:lnTo>
                  <a:lnTo>
                    <a:pt x="1444" y="371"/>
                  </a:lnTo>
                  <a:lnTo>
                    <a:pt x="1439" y="358"/>
                  </a:lnTo>
                  <a:lnTo>
                    <a:pt x="1432" y="344"/>
                  </a:lnTo>
                  <a:lnTo>
                    <a:pt x="1426" y="331"/>
                  </a:lnTo>
                  <a:lnTo>
                    <a:pt x="1418" y="320"/>
                  </a:lnTo>
                  <a:lnTo>
                    <a:pt x="1410" y="307"/>
                  </a:lnTo>
                  <a:lnTo>
                    <a:pt x="1401" y="295"/>
                  </a:lnTo>
                  <a:lnTo>
                    <a:pt x="1391" y="284"/>
                  </a:lnTo>
                  <a:lnTo>
                    <a:pt x="1381" y="274"/>
                  </a:lnTo>
                  <a:lnTo>
                    <a:pt x="1370" y="263"/>
                  </a:lnTo>
                  <a:lnTo>
                    <a:pt x="1359" y="253"/>
                  </a:lnTo>
                  <a:lnTo>
                    <a:pt x="1347" y="244"/>
                  </a:lnTo>
                  <a:lnTo>
                    <a:pt x="1333" y="237"/>
                  </a:lnTo>
                  <a:lnTo>
                    <a:pt x="1306" y="221"/>
                  </a:lnTo>
                  <a:lnTo>
                    <a:pt x="1275" y="210"/>
                  </a:lnTo>
                  <a:lnTo>
                    <a:pt x="1242" y="201"/>
                  </a:lnTo>
                  <a:lnTo>
                    <a:pt x="1205" y="193"/>
                  </a:lnTo>
                  <a:lnTo>
                    <a:pt x="1166" y="189"/>
                  </a:lnTo>
                  <a:lnTo>
                    <a:pt x="1124" y="188"/>
                  </a:lnTo>
                  <a:lnTo>
                    <a:pt x="1061" y="191"/>
                  </a:lnTo>
                  <a:lnTo>
                    <a:pt x="998" y="197"/>
                  </a:lnTo>
                  <a:lnTo>
                    <a:pt x="937" y="210"/>
                  </a:lnTo>
                  <a:lnTo>
                    <a:pt x="876" y="226"/>
                  </a:lnTo>
                  <a:lnTo>
                    <a:pt x="816" y="248"/>
                  </a:lnTo>
                  <a:lnTo>
                    <a:pt x="757" y="274"/>
                  </a:lnTo>
                  <a:lnTo>
                    <a:pt x="698" y="304"/>
                  </a:lnTo>
                  <a:lnTo>
                    <a:pt x="640" y="340"/>
                  </a:lnTo>
                  <a:lnTo>
                    <a:pt x="584" y="380"/>
                  </a:lnTo>
                  <a:lnTo>
                    <a:pt x="531" y="422"/>
                  </a:lnTo>
                  <a:lnTo>
                    <a:pt x="481" y="466"/>
                  </a:lnTo>
                  <a:lnTo>
                    <a:pt x="436" y="515"/>
                  </a:lnTo>
                  <a:lnTo>
                    <a:pt x="392" y="565"/>
                  </a:lnTo>
                  <a:lnTo>
                    <a:pt x="352" y="618"/>
                  </a:lnTo>
                  <a:lnTo>
                    <a:pt x="316" y="676"/>
                  </a:lnTo>
                  <a:lnTo>
                    <a:pt x="282" y="734"/>
                  </a:lnTo>
                  <a:lnTo>
                    <a:pt x="253" y="796"/>
                  </a:lnTo>
                  <a:lnTo>
                    <a:pt x="226" y="856"/>
                  </a:lnTo>
                  <a:lnTo>
                    <a:pt x="205" y="917"/>
                  </a:lnTo>
                  <a:lnTo>
                    <a:pt x="187" y="977"/>
                  </a:lnTo>
                  <a:lnTo>
                    <a:pt x="172" y="1038"/>
                  </a:lnTo>
                  <a:lnTo>
                    <a:pt x="163" y="1098"/>
                  </a:lnTo>
                  <a:lnTo>
                    <a:pt x="157" y="1160"/>
                  </a:lnTo>
                  <a:lnTo>
                    <a:pt x="155" y="1220"/>
                  </a:lnTo>
                  <a:lnTo>
                    <a:pt x="155" y="1236"/>
                  </a:lnTo>
                  <a:lnTo>
                    <a:pt x="156" y="1252"/>
                  </a:lnTo>
                  <a:lnTo>
                    <a:pt x="157" y="1267"/>
                  </a:lnTo>
                  <a:lnTo>
                    <a:pt x="158" y="1282"/>
                  </a:lnTo>
                  <a:lnTo>
                    <a:pt x="160" y="1296"/>
                  </a:lnTo>
                  <a:lnTo>
                    <a:pt x="162" y="1310"/>
                  </a:lnTo>
                  <a:lnTo>
                    <a:pt x="165" y="1324"/>
                  </a:lnTo>
                  <a:lnTo>
                    <a:pt x="168" y="1337"/>
                  </a:lnTo>
                  <a:lnTo>
                    <a:pt x="172" y="1350"/>
                  </a:lnTo>
                  <a:lnTo>
                    <a:pt x="176" y="1363"/>
                  </a:lnTo>
                  <a:lnTo>
                    <a:pt x="180" y="1375"/>
                  </a:lnTo>
                  <a:lnTo>
                    <a:pt x="186" y="1388"/>
                  </a:lnTo>
                  <a:lnTo>
                    <a:pt x="191" y="1400"/>
                  </a:lnTo>
                  <a:lnTo>
                    <a:pt x="196" y="1411"/>
                  </a:lnTo>
                  <a:lnTo>
                    <a:pt x="202" y="1423"/>
                  </a:lnTo>
                  <a:lnTo>
                    <a:pt x="208" y="1434"/>
                  </a:lnTo>
                  <a:lnTo>
                    <a:pt x="212" y="1440"/>
                  </a:lnTo>
                  <a:lnTo>
                    <a:pt x="218" y="1448"/>
                  </a:lnTo>
                  <a:lnTo>
                    <a:pt x="224" y="1456"/>
                  </a:lnTo>
                  <a:lnTo>
                    <a:pt x="232" y="1465"/>
                  </a:lnTo>
                  <a:lnTo>
                    <a:pt x="253" y="1484"/>
                  </a:lnTo>
                  <a:lnTo>
                    <a:pt x="277" y="1506"/>
                  </a:lnTo>
                  <a:lnTo>
                    <a:pt x="310" y="1535"/>
                  </a:lnTo>
                  <a:lnTo>
                    <a:pt x="336" y="1562"/>
                  </a:lnTo>
                  <a:lnTo>
                    <a:pt x="347" y="1573"/>
                  </a:lnTo>
                  <a:lnTo>
                    <a:pt x="356" y="1585"/>
                  </a:lnTo>
                  <a:lnTo>
                    <a:pt x="363" y="1595"/>
                  </a:lnTo>
                  <a:lnTo>
                    <a:pt x="370" y="1604"/>
                  </a:lnTo>
                  <a:lnTo>
                    <a:pt x="375" y="1613"/>
                  </a:lnTo>
                  <a:lnTo>
                    <a:pt x="378" y="1622"/>
                  </a:lnTo>
                  <a:lnTo>
                    <a:pt x="382" y="1632"/>
                  </a:lnTo>
                  <a:lnTo>
                    <a:pt x="384" y="1642"/>
                  </a:lnTo>
                  <a:lnTo>
                    <a:pt x="386" y="1652"/>
                  </a:lnTo>
                  <a:lnTo>
                    <a:pt x="388" y="1664"/>
                  </a:lnTo>
                  <a:lnTo>
                    <a:pt x="389" y="1675"/>
                  </a:lnTo>
                  <a:lnTo>
                    <a:pt x="389" y="1688"/>
                  </a:lnTo>
                  <a:lnTo>
                    <a:pt x="389" y="1701"/>
                  </a:lnTo>
                  <a:lnTo>
                    <a:pt x="387" y="1714"/>
                  </a:lnTo>
                  <a:lnTo>
                    <a:pt x="386" y="1720"/>
                  </a:lnTo>
                  <a:lnTo>
                    <a:pt x="385" y="1726"/>
                  </a:lnTo>
                  <a:lnTo>
                    <a:pt x="383" y="1732"/>
                  </a:lnTo>
                  <a:lnTo>
                    <a:pt x="381" y="1738"/>
                  </a:lnTo>
                  <a:lnTo>
                    <a:pt x="379" y="1743"/>
                  </a:lnTo>
                  <a:lnTo>
                    <a:pt x="377" y="1749"/>
                  </a:lnTo>
                  <a:lnTo>
                    <a:pt x="374" y="1754"/>
                  </a:lnTo>
                  <a:lnTo>
                    <a:pt x="372" y="1760"/>
                  </a:lnTo>
                  <a:lnTo>
                    <a:pt x="365" y="1770"/>
                  </a:lnTo>
                  <a:lnTo>
                    <a:pt x="357" y="1780"/>
                  </a:lnTo>
                  <a:lnTo>
                    <a:pt x="349" y="1789"/>
                  </a:lnTo>
                  <a:lnTo>
                    <a:pt x="345" y="1794"/>
                  </a:lnTo>
                  <a:lnTo>
                    <a:pt x="341" y="1798"/>
                  </a:lnTo>
                  <a:lnTo>
                    <a:pt x="337" y="1800"/>
                  </a:lnTo>
                  <a:lnTo>
                    <a:pt x="332" y="1804"/>
                  </a:lnTo>
                  <a:lnTo>
                    <a:pt x="328" y="1807"/>
                  </a:lnTo>
                  <a:lnTo>
                    <a:pt x="323" y="1809"/>
                  </a:lnTo>
                  <a:lnTo>
                    <a:pt x="319" y="1812"/>
                  </a:lnTo>
                  <a:lnTo>
                    <a:pt x="314" y="1814"/>
                  </a:lnTo>
                  <a:lnTo>
                    <a:pt x="309" y="1816"/>
                  </a:lnTo>
                  <a:lnTo>
                    <a:pt x="304" y="1817"/>
                  </a:lnTo>
                  <a:lnTo>
                    <a:pt x="292" y="1820"/>
                  </a:lnTo>
                  <a:lnTo>
                    <a:pt x="281" y="1820"/>
                  </a:lnTo>
                  <a:lnTo>
                    <a:pt x="269" y="1818"/>
                  </a:lnTo>
                  <a:lnTo>
                    <a:pt x="257" y="1817"/>
                  </a:lnTo>
                  <a:lnTo>
                    <a:pt x="245" y="1813"/>
                  </a:lnTo>
                  <a:lnTo>
                    <a:pt x="232" y="1809"/>
                  </a:lnTo>
                  <a:lnTo>
                    <a:pt x="221" y="1803"/>
                  </a:lnTo>
                  <a:lnTo>
                    <a:pt x="209" y="1797"/>
                  </a:lnTo>
                  <a:lnTo>
                    <a:pt x="197" y="1788"/>
                  </a:lnTo>
                  <a:lnTo>
                    <a:pt x="185" y="1779"/>
                  </a:lnTo>
                  <a:lnTo>
                    <a:pt x="173" y="1767"/>
                  </a:lnTo>
                  <a:lnTo>
                    <a:pt x="161" y="1756"/>
                  </a:lnTo>
                  <a:lnTo>
                    <a:pt x="138" y="1728"/>
                  </a:lnTo>
                  <a:lnTo>
                    <a:pt x="114" y="1694"/>
                  </a:lnTo>
                  <a:lnTo>
                    <a:pt x="91" y="1656"/>
                  </a:lnTo>
                  <a:lnTo>
                    <a:pt x="70" y="1614"/>
                  </a:lnTo>
                  <a:lnTo>
                    <a:pt x="51" y="1571"/>
                  </a:lnTo>
                  <a:lnTo>
                    <a:pt x="35" y="1523"/>
                  </a:lnTo>
                  <a:lnTo>
                    <a:pt x="23" y="1475"/>
                  </a:lnTo>
                  <a:lnTo>
                    <a:pt x="13" y="1425"/>
                  </a:lnTo>
                  <a:lnTo>
                    <a:pt x="6" y="1372"/>
                  </a:lnTo>
                  <a:lnTo>
                    <a:pt x="1" y="1317"/>
                  </a:lnTo>
                  <a:lnTo>
                    <a:pt x="0" y="1259"/>
                  </a:lnTo>
                  <a:lnTo>
                    <a:pt x="2" y="1180"/>
                  </a:lnTo>
                  <a:lnTo>
                    <a:pt x="9" y="1102"/>
                  </a:lnTo>
                  <a:lnTo>
                    <a:pt x="21" y="1026"/>
                  </a:lnTo>
                  <a:lnTo>
                    <a:pt x="37" y="949"/>
                  </a:lnTo>
                  <a:lnTo>
                    <a:pt x="57" y="872"/>
                  </a:lnTo>
                  <a:lnTo>
                    <a:pt x="84" y="797"/>
                  </a:lnTo>
                  <a:lnTo>
                    <a:pt x="114" y="723"/>
                  </a:lnTo>
                  <a:lnTo>
                    <a:pt x="149" y="649"/>
                  </a:lnTo>
                  <a:lnTo>
                    <a:pt x="189" y="577"/>
                  </a:lnTo>
                  <a:lnTo>
                    <a:pt x="232" y="509"/>
                  </a:lnTo>
                  <a:lnTo>
                    <a:pt x="279" y="445"/>
                  </a:lnTo>
                  <a:lnTo>
                    <a:pt x="330" y="383"/>
                  </a:lnTo>
                  <a:lnTo>
                    <a:pt x="385" y="326"/>
                  </a:lnTo>
                  <a:lnTo>
                    <a:pt x="443" y="272"/>
                  </a:lnTo>
                  <a:lnTo>
                    <a:pt x="506" y="223"/>
                  </a:lnTo>
                  <a:lnTo>
                    <a:pt x="572" y="177"/>
                  </a:lnTo>
                  <a:lnTo>
                    <a:pt x="641" y="136"/>
                  </a:lnTo>
                  <a:lnTo>
                    <a:pt x="711" y="100"/>
                  </a:lnTo>
                  <a:lnTo>
                    <a:pt x="784" y="69"/>
                  </a:lnTo>
                  <a:lnTo>
                    <a:pt x="858" y="45"/>
                  </a:lnTo>
                  <a:lnTo>
                    <a:pt x="934" y="25"/>
                  </a:lnTo>
                  <a:lnTo>
                    <a:pt x="1011" y="12"/>
                  </a:lnTo>
                  <a:lnTo>
                    <a:pt x="1090" y="3"/>
                  </a:lnTo>
                  <a:lnTo>
                    <a:pt x="1171" y="0"/>
                  </a:lnTo>
                  <a:lnTo>
                    <a:pt x="1236" y="3"/>
                  </a:lnTo>
                  <a:lnTo>
                    <a:pt x="1298" y="9"/>
                  </a:lnTo>
                  <a:lnTo>
                    <a:pt x="1356" y="20"/>
                  </a:lnTo>
                  <a:lnTo>
                    <a:pt x="1410" y="35"/>
                  </a:lnTo>
                  <a:lnTo>
                    <a:pt x="1461" y="54"/>
                  </a:lnTo>
                  <a:lnTo>
                    <a:pt x="1506" y="78"/>
                  </a:lnTo>
                  <a:lnTo>
                    <a:pt x="1528" y="91"/>
                  </a:lnTo>
                  <a:lnTo>
                    <a:pt x="1548" y="106"/>
                  </a:lnTo>
                  <a:lnTo>
                    <a:pt x="1568" y="122"/>
                  </a:lnTo>
                  <a:lnTo>
                    <a:pt x="1587" y="138"/>
                  </a:lnTo>
                  <a:lnTo>
                    <a:pt x="1621" y="174"/>
                  </a:lnTo>
                  <a:lnTo>
                    <a:pt x="1636" y="193"/>
                  </a:lnTo>
                  <a:lnTo>
                    <a:pt x="1651" y="212"/>
                  </a:lnTo>
                  <a:lnTo>
                    <a:pt x="1664" y="232"/>
                  </a:lnTo>
                  <a:lnTo>
                    <a:pt x="1675" y="252"/>
                  </a:lnTo>
                  <a:lnTo>
                    <a:pt x="1686" y="272"/>
                  </a:lnTo>
                  <a:lnTo>
                    <a:pt x="1696" y="294"/>
                  </a:lnTo>
                  <a:lnTo>
                    <a:pt x="1705" y="316"/>
                  </a:lnTo>
                  <a:lnTo>
                    <a:pt x="1712" y="337"/>
                  </a:lnTo>
                  <a:lnTo>
                    <a:pt x="1718" y="360"/>
                  </a:lnTo>
                  <a:lnTo>
                    <a:pt x="1723" y="383"/>
                  </a:lnTo>
                  <a:lnTo>
                    <a:pt x="1727" y="406"/>
                  </a:lnTo>
                  <a:lnTo>
                    <a:pt x="1730" y="431"/>
                  </a:lnTo>
                  <a:lnTo>
                    <a:pt x="1731" y="455"/>
                  </a:lnTo>
                  <a:lnTo>
                    <a:pt x="1732" y="480"/>
                  </a:lnTo>
                  <a:lnTo>
                    <a:pt x="1731" y="526"/>
                  </a:lnTo>
                  <a:lnTo>
                    <a:pt x="1726" y="572"/>
                  </a:lnTo>
                  <a:lnTo>
                    <a:pt x="1719" y="617"/>
                  </a:lnTo>
                  <a:lnTo>
                    <a:pt x="1708" y="660"/>
                  </a:lnTo>
                  <a:lnTo>
                    <a:pt x="1694" y="703"/>
                  </a:lnTo>
                  <a:lnTo>
                    <a:pt x="1677" y="743"/>
                  </a:lnTo>
                  <a:lnTo>
                    <a:pt x="1658" y="784"/>
                  </a:lnTo>
                  <a:lnTo>
                    <a:pt x="1635" y="823"/>
                  </a:lnTo>
                  <a:lnTo>
                    <a:pt x="1610" y="860"/>
                  </a:lnTo>
                  <a:lnTo>
                    <a:pt x="1582" y="892"/>
                  </a:lnTo>
                  <a:lnTo>
                    <a:pt x="1551" y="921"/>
                  </a:lnTo>
                  <a:lnTo>
                    <a:pt x="1518" y="946"/>
                  </a:lnTo>
                  <a:lnTo>
                    <a:pt x="1484" y="968"/>
                  </a:lnTo>
                  <a:lnTo>
                    <a:pt x="1446" y="986"/>
                  </a:lnTo>
                  <a:lnTo>
                    <a:pt x="1407" y="1000"/>
                  </a:lnTo>
                  <a:lnTo>
                    <a:pt x="1364" y="1010"/>
                  </a:lnTo>
                  <a:lnTo>
                    <a:pt x="1390" y="1013"/>
                  </a:lnTo>
                  <a:lnTo>
                    <a:pt x="1417" y="1017"/>
                  </a:lnTo>
                  <a:lnTo>
                    <a:pt x="1441" y="1022"/>
                  </a:lnTo>
                  <a:lnTo>
                    <a:pt x="1466" y="1029"/>
                  </a:lnTo>
                  <a:lnTo>
                    <a:pt x="1488" y="1040"/>
                  </a:lnTo>
                  <a:lnTo>
                    <a:pt x="1510" y="1051"/>
                  </a:lnTo>
                  <a:lnTo>
                    <a:pt x="1532" y="1064"/>
                  </a:lnTo>
                  <a:lnTo>
                    <a:pt x="1552" y="1079"/>
                  </a:lnTo>
                  <a:lnTo>
                    <a:pt x="1571" y="1096"/>
                  </a:lnTo>
                  <a:lnTo>
                    <a:pt x="1590" y="1114"/>
                  </a:lnTo>
                  <a:lnTo>
                    <a:pt x="1607" y="1133"/>
                  </a:lnTo>
                  <a:lnTo>
                    <a:pt x="1623" y="1153"/>
                  </a:lnTo>
                  <a:lnTo>
                    <a:pt x="1638" y="1175"/>
                  </a:lnTo>
                  <a:lnTo>
                    <a:pt x="1652" y="1198"/>
                  </a:lnTo>
                  <a:lnTo>
                    <a:pt x="1665" y="1221"/>
                  </a:lnTo>
                  <a:lnTo>
                    <a:pt x="1676" y="1245"/>
                  </a:lnTo>
                  <a:lnTo>
                    <a:pt x="1686" y="1271"/>
                  </a:lnTo>
                  <a:lnTo>
                    <a:pt x="1694" y="1297"/>
                  </a:lnTo>
                  <a:lnTo>
                    <a:pt x="1703" y="1326"/>
                  </a:lnTo>
                  <a:lnTo>
                    <a:pt x="1709" y="1354"/>
                  </a:lnTo>
                  <a:lnTo>
                    <a:pt x="1713" y="1383"/>
                  </a:lnTo>
                  <a:lnTo>
                    <a:pt x="1716" y="1412"/>
                  </a:lnTo>
                  <a:lnTo>
                    <a:pt x="1718" y="1443"/>
                  </a:lnTo>
                  <a:lnTo>
                    <a:pt x="1719" y="1475"/>
                  </a:lnTo>
                  <a:lnTo>
                    <a:pt x="1718" y="1526"/>
                  </a:lnTo>
                  <a:lnTo>
                    <a:pt x="1713" y="1577"/>
                  </a:lnTo>
                  <a:lnTo>
                    <a:pt x="1706" y="1627"/>
                  </a:lnTo>
                  <a:lnTo>
                    <a:pt x="1695" y="1675"/>
                  </a:lnTo>
                  <a:lnTo>
                    <a:pt x="1681" y="1724"/>
                  </a:lnTo>
                  <a:lnTo>
                    <a:pt x="1665" y="1771"/>
                  </a:lnTo>
                  <a:lnTo>
                    <a:pt x="1646" y="1818"/>
                  </a:lnTo>
                  <a:lnTo>
                    <a:pt x="1623" y="1864"/>
                  </a:lnTo>
                  <a:lnTo>
                    <a:pt x="1598" y="1909"/>
                  </a:lnTo>
                  <a:lnTo>
                    <a:pt x="1569" y="1952"/>
                  </a:lnTo>
                  <a:lnTo>
                    <a:pt x="1539" y="1993"/>
                  </a:lnTo>
                  <a:lnTo>
                    <a:pt x="1504" y="2033"/>
                  </a:lnTo>
                  <a:lnTo>
                    <a:pt x="1468" y="2070"/>
                  </a:lnTo>
                  <a:lnTo>
                    <a:pt x="1428" y="2104"/>
                  </a:lnTo>
                  <a:lnTo>
                    <a:pt x="1386" y="2137"/>
                  </a:lnTo>
                  <a:lnTo>
                    <a:pt x="1342" y="2168"/>
                  </a:lnTo>
                  <a:lnTo>
                    <a:pt x="1295" y="2196"/>
                  </a:lnTo>
                  <a:lnTo>
                    <a:pt x="1248" y="2220"/>
                  </a:lnTo>
                  <a:lnTo>
                    <a:pt x="1200" y="2241"/>
                  </a:lnTo>
                  <a:lnTo>
                    <a:pt x="1151" y="2259"/>
                  </a:lnTo>
                  <a:lnTo>
                    <a:pt x="1103" y="2272"/>
                  </a:lnTo>
                  <a:lnTo>
                    <a:pt x="1054" y="2280"/>
                  </a:lnTo>
                  <a:lnTo>
                    <a:pt x="1004" y="2287"/>
                  </a:lnTo>
                  <a:lnTo>
                    <a:pt x="954" y="2288"/>
                  </a:lnTo>
                  <a:lnTo>
                    <a:pt x="918" y="2287"/>
                  </a:lnTo>
                  <a:lnTo>
                    <a:pt x="865" y="2284"/>
                  </a:lnTo>
                  <a:lnTo>
                    <a:pt x="710" y="2273"/>
                  </a:lnTo>
                  <a:lnTo>
                    <a:pt x="528" y="2268"/>
                  </a:lnTo>
                  <a:lnTo>
                    <a:pt x="456" y="2269"/>
                  </a:lnTo>
                  <a:lnTo>
                    <a:pt x="384" y="2275"/>
                  </a:lnTo>
                  <a:lnTo>
                    <a:pt x="311" y="2284"/>
                  </a:lnTo>
                  <a:lnTo>
                    <a:pt x="237" y="2297"/>
                  </a:lnTo>
                  <a:lnTo>
                    <a:pt x="266" y="2126"/>
                  </a:lnTo>
                  <a:lnTo>
                    <a:pt x="305" y="2122"/>
                  </a:lnTo>
                  <a:lnTo>
                    <a:pt x="340" y="2117"/>
                  </a:lnTo>
                  <a:lnTo>
                    <a:pt x="372" y="2109"/>
                  </a:lnTo>
                  <a:lnTo>
                    <a:pt x="401" y="2099"/>
                  </a:lnTo>
                  <a:lnTo>
                    <a:pt x="427" y="2088"/>
                  </a:lnTo>
                  <a:lnTo>
                    <a:pt x="438" y="2081"/>
                  </a:lnTo>
                  <a:lnTo>
                    <a:pt x="449" y="2075"/>
                  </a:lnTo>
                  <a:lnTo>
                    <a:pt x="459" y="2067"/>
                  </a:lnTo>
                  <a:lnTo>
                    <a:pt x="468" y="2060"/>
                  </a:lnTo>
                  <a:lnTo>
                    <a:pt x="476" y="2051"/>
                  </a:lnTo>
                  <a:lnTo>
                    <a:pt x="484" y="2042"/>
                  </a:lnTo>
                  <a:lnTo>
                    <a:pt x="492" y="2032"/>
                  </a:lnTo>
                  <a:lnTo>
                    <a:pt x="499" y="2021"/>
                  </a:lnTo>
                  <a:lnTo>
                    <a:pt x="513" y="1996"/>
                  </a:lnTo>
                  <a:lnTo>
                    <a:pt x="527" y="1966"/>
                  </a:lnTo>
                  <a:lnTo>
                    <a:pt x="541" y="1933"/>
                  </a:lnTo>
                  <a:lnTo>
                    <a:pt x="555" y="1894"/>
                  </a:lnTo>
                  <a:lnTo>
                    <a:pt x="569" y="1850"/>
                  </a:lnTo>
                  <a:lnTo>
                    <a:pt x="595" y="1751"/>
                  </a:lnTo>
                  <a:lnTo>
                    <a:pt x="812" y="640"/>
                  </a:lnTo>
                  <a:lnTo>
                    <a:pt x="817" y="614"/>
                  </a:lnTo>
                  <a:lnTo>
                    <a:pt x="820" y="592"/>
                  </a:lnTo>
                  <a:lnTo>
                    <a:pt x="821" y="581"/>
                  </a:lnTo>
                  <a:lnTo>
                    <a:pt x="821" y="572"/>
                  </a:lnTo>
                  <a:lnTo>
                    <a:pt x="822" y="563"/>
                  </a:lnTo>
                  <a:lnTo>
                    <a:pt x="822" y="556"/>
                  </a:lnTo>
                  <a:lnTo>
                    <a:pt x="822" y="554"/>
                  </a:lnTo>
                  <a:lnTo>
                    <a:pt x="822" y="553"/>
                  </a:lnTo>
                  <a:lnTo>
                    <a:pt x="822" y="552"/>
                  </a:lnTo>
                  <a:lnTo>
                    <a:pt x="821" y="551"/>
                  </a:lnTo>
                  <a:lnTo>
                    <a:pt x="821" y="549"/>
                  </a:lnTo>
                  <a:lnTo>
                    <a:pt x="821" y="548"/>
                  </a:lnTo>
                  <a:lnTo>
                    <a:pt x="820" y="546"/>
                  </a:lnTo>
                  <a:lnTo>
                    <a:pt x="818" y="543"/>
                  </a:lnTo>
                  <a:lnTo>
                    <a:pt x="817" y="539"/>
                  </a:lnTo>
                  <a:lnTo>
                    <a:pt x="815" y="537"/>
                  </a:lnTo>
                  <a:lnTo>
                    <a:pt x="813" y="534"/>
                  </a:lnTo>
                  <a:lnTo>
                    <a:pt x="811" y="532"/>
                  </a:lnTo>
                  <a:lnTo>
                    <a:pt x="808" y="530"/>
                  </a:lnTo>
                  <a:lnTo>
                    <a:pt x="805" y="528"/>
                  </a:lnTo>
                  <a:lnTo>
                    <a:pt x="803" y="526"/>
                  </a:lnTo>
                  <a:lnTo>
                    <a:pt x="799" y="525"/>
                  </a:lnTo>
                  <a:lnTo>
                    <a:pt x="796" y="525"/>
                  </a:lnTo>
                  <a:lnTo>
                    <a:pt x="793" y="524"/>
                  </a:lnTo>
                  <a:lnTo>
                    <a:pt x="788" y="524"/>
                  </a:lnTo>
                  <a:lnTo>
                    <a:pt x="782" y="524"/>
                  </a:lnTo>
                  <a:lnTo>
                    <a:pt x="770" y="525"/>
                  </a:lnTo>
                  <a:close/>
                  <a:moveTo>
                    <a:pt x="983" y="1184"/>
                  </a:moveTo>
                  <a:lnTo>
                    <a:pt x="916" y="1521"/>
                  </a:lnTo>
                  <a:lnTo>
                    <a:pt x="887" y="1655"/>
                  </a:lnTo>
                  <a:lnTo>
                    <a:pt x="860" y="1774"/>
                  </a:lnTo>
                  <a:lnTo>
                    <a:pt x="832" y="1876"/>
                  </a:lnTo>
                  <a:lnTo>
                    <a:pt x="806" y="1963"/>
                  </a:lnTo>
                  <a:lnTo>
                    <a:pt x="798" y="1986"/>
                  </a:lnTo>
                  <a:lnTo>
                    <a:pt x="788" y="2006"/>
                  </a:lnTo>
                  <a:lnTo>
                    <a:pt x="779" y="2024"/>
                  </a:lnTo>
                  <a:lnTo>
                    <a:pt x="770" y="2040"/>
                  </a:lnTo>
                  <a:lnTo>
                    <a:pt x="760" y="2053"/>
                  </a:lnTo>
                  <a:lnTo>
                    <a:pt x="755" y="2060"/>
                  </a:lnTo>
                  <a:lnTo>
                    <a:pt x="750" y="2065"/>
                  </a:lnTo>
                  <a:lnTo>
                    <a:pt x="745" y="2070"/>
                  </a:lnTo>
                  <a:lnTo>
                    <a:pt x="740" y="2075"/>
                  </a:lnTo>
                  <a:lnTo>
                    <a:pt x="734" y="2079"/>
                  </a:lnTo>
                  <a:lnTo>
                    <a:pt x="728" y="2081"/>
                  </a:lnTo>
                  <a:lnTo>
                    <a:pt x="779" y="2092"/>
                  </a:lnTo>
                  <a:lnTo>
                    <a:pt x="828" y="2099"/>
                  </a:lnTo>
                  <a:lnTo>
                    <a:pt x="875" y="2103"/>
                  </a:lnTo>
                  <a:lnTo>
                    <a:pt x="921" y="2104"/>
                  </a:lnTo>
                  <a:lnTo>
                    <a:pt x="979" y="2102"/>
                  </a:lnTo>
                  <a:lnTo>
                    <a:pt x="1032" y="2093"/>
                  </a:lnTo>
                  <a:lnTo>
                    <a:pt x="1059" y="2086"/>
                  </a:lnTo>
                  <a:lnTo>
                    <a:pt x="1083" y="2079"/>
                  </a:lnTo>
                  <a:lnTo>
                    <a:pt x="1108" y="2069"/>
                  </a:lnTo>
                  <a:lnTo>
                    <a:pt x="1130" y="2058"/>
                  </a:lnTo>
                  <a:lnTo>
                    <a:pt x="1152" y="2046"/>
                  </a:lnTo>
                  <a:lnTo>
                    <a:pt x="1174" y="2033"/>
                  </a:lnTo>
                  <a:lnTo>
                    <a:pt x="1194" y="2017"/>
                  </a:lnTo>
                  <a:lnTo>
                    <a:pt x="1212" y="2001"/>
                  </a:lnTo>
                  <a:lnTo>
                    <a:pt x="1231" y="1983"/>
                  </a:lnTo>
                  <a:lnTo>
                    <a:pt x="1249" y="1964"/>
                  </a:lnTo>
                  <a:lnTo>
                    <a:pt x="1265" y="1942"/>
                  </a:lnTo>
                  <a:lnTo>
                    <a:pt x="1281" y="1920"/>
                  </a:lnTo>
                  <a:lnTo>
                    <a:pt x="1309" y="1873"/>
                  </a:lnTo>
                  <a:lnTo>
                    <a:pt x="1333" y="1826"/>
                  </a:lnTo>
                  <a:lnTo>
                    <a:pt x="1355" y="1776"/>
                  </a:lnTo>
                  <a:lnTo>
                    <a:pt x="1372" y="1725"/>
                  </a:lnTo>
                  <a:lnTo>
                    <a:pt x="1384" y="1673"/>
                  </a:lnTo>
                  <a:lnTo>
                    <a:pt x="1394" y="1619"/>
                  </a:lnTo>
                  <a:lnTo>
                    <a:pt x="1400" y="1564"/>
                  </a:lnTo>
                  <a:lnTo>
                    <a:pt x="1402" y="1508"/>
                  </a:lnTo>
                  <a:lnTo>
                    <a:pt x="1401" y="1481"/>
                  </a:lnTo>
                  <a:lnTo>
                    <a:pt x="1399" y="1457"/>
                  </a:lnTo>
                  <a:lnTo>
                    <a:pt x="1395" y="1432"/>
                  </a:lnTo>
                  <a:lnTo>
                    <a:pt x="1391" y="1409"/>
                  </a:lnTo>
                  <a:lnTo>
                    <a:pt x="1385" y="1386"/>
                  </a:lnTo>
                  <a:lnTo>
                    <a:pt x="1377" y="1365"/>
                  </a:lnTo>
                  <a:lnTo>
                    <a:pt x="1369" y="1343"/>
                  </a:lnTo>
                  <a:lnTo>
                    <a:pt x="1359" y="1324"/>
                  </a:lnTo>
                  <a:lnTo>
                    <a:pt x="1348" y="1305"/>
                  </a:lnTo>
                  <a:lnTo>
                    <a:pt x="1335" y="1289"/>
                  </a:lnTo>
                  <a:lnTo>
                    <a:pt x="1323" y="1272"/>
                  </a:lnTo>
                  <a:lnTo>
                    <a:pt x="1309" y="1258"/>
                  </a:lnTo>
                  <a:lnTo>
                    <a:pt x="1294" y="1245"/>
                  </a:lnTo>
                  <a:lnTo>
                    <a:pt x="1279" y="1234"/>
                  </a:lnTo>
                  <a:lnTo>
                    <a:pt x="1261" y="1225"/>
                  </a:lnTo>
                  <a:lnTo>
                    <a:pt x="1244" y="1216"/>
                  </a:lnTo>
                  <a:lnTo>
                    <a:pt x="1225" y="1208"/>
                  </a:lnTo>
                  <a:lnTo>
                    <a:pt x="1200" y="1202"/>
                  </a:lnTo>
                  <a:lnTo>
                    <a:pt x="1174" y="1197"/>
                  </a:lnTo>
                  <a:lnTo>
                    <a:pt x="1142" y="1191"/>
                  </a:lnTo>
                  <a:lnTo>
                    <a:pt x="1070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94000" y="372960"/>
              <a:ext cx="639720" cy="598680"/>
            </a:xfrm>
            <a:custGeom>
              <a:avLst/>
              <a:gdLst/>
              <a:ahLst/>
              <a:rect l="l" t="t" r="r" b="b"/>
              <a:pathLst>
                <a:path w="1779" h="1663">
                  <a:moveTo>
                    <a:pt x="513" y="659"/>
                  </a:moveTo>
                  <a:lnTo>
                    <a:pt x="554" y="633"/>
                  </a:lnTo>
                  <a:lnTo>
                    <a:pt x="593" y="612"/>
                  </a:lnTo>
                  <a:lnTo>
                    <a:pt x="629" y="594"/>
                  </a:lnTo>
                  <a:lnTo>
                    <a:pt x="664" y="578"/>
                  </a:lnTo>
                  <a:lnTo>
                    <a:pt x="696" y="567"/>
                  </a:lnTo>
                  <a:lnTo>
                    <a:pt x="727" y="558"/>
                  </a:lnTo>
                  <a:lnTo>
                    <a:pt x="755" y="553"/>
                  </a:lnTo>
                  <a:lnTo>
                    <a:pt x="782" y="552"/>
                  </a:lnTo>
                  <a:lnTo>
                    <a:pt x="817" y="553"/>
                  </a:lnTo>
                  <a:lnTo>
                    <a:pt x="851" y="558"/>
                  </a:lnTo>
                  <a:lnTo>
                    <a:pt x="883" y="566"/>
                  </a:lnTo>
                  <a:lnTo>
                    <a:pt x="914" y="577"/>
                  </a:lnTo>
                  <a:lnTo>
                    <a:pt x="943" y="592"/>
                  </a:lnTo>
                  <a:lnTo>
                    <a:pt x="971" y="610"/>
                  </a:lnTo>
                  <a:lnTo>
                    <a:pt x="996" y="631"/>
                  </a:lnTo>
                  <a:lnTo>
                    <a:pt x="1021" y="655"/>
                  </a:lnTo>
                  <a:lnTo>
                    <a:pt x="1032" y="668"/>
                  </a:lnTo>
                  <a:lnTo>
                    <a:pt x="1042" y="682"/>
                  </a:lnTo>
                  <a:lnTo>
                    <a:pt x="1052" y="696"/>
                  </a:lnTo>
                  <a:lnTo>
                    <a:pt x="1061" y="711"/>
                  </a:lnTo>
                  <a:lnTo>
                    <a:pt x="1070" y="726"/>
                  </a:lnTo>
                  <a:lnTo>
                    <a:pt x="1077" y="743"/>
                  </a:lnTo>
                  <a:lnTo>
                    <a:pt x="1084" y="760"/>
                  </a:lnTo>
                  <a:lnTo>
                    <a:pt x="1090" y="776"/>
                  </a:lnTo>
                  <a:lnTo>
                    <a:pt x="1095" y="794"/>
                  </a:lnTo>
                  <a:lnTo>
                    <a:pt x="1100" y="812"/>
                  </a:lnTo>
                  <a:lnTo>
                    <a:pt x="1104" y="831"/>
                  </a:lnTo>
                  <a:lnTo>
                    <a:pt x="1107" y="850"/>
                  </a:lnTo>
                  <a:lnTo>
                    <a:pt x="1112" y="891"/>
                  </a:lnTo>
                  <a:lnTo>
                    <a:pt x="1113" y="933"/>
                  </a:lnTo>
                  <a:lnTo>
                    <a:pt x="1112" y="970"/>
                  </a:lnTo>
                  <a:lnTo>
                    <a:pt x="1110" y="1006"/>
                  </a:lnTo>
                  <a:lnTo>
                    <a:pt x="1106" y="1042"/>
                  </a:lnTo>
                  <a:lnTo>
                    <a:pt x="1100" y="1076"/>
                  </a:lnTo>
                  <a:lnTo>
                    <a:pt x="1093" y="1111"/>
                  </a:lnTo>
                  <a:lnTo>
                    <a:pt x="1084" y="1144"/>
                  </a:lnTo>
                  <a:lnTo>
                    <a:pt x="1073" y="1177"/>
                  </a:lnTo>
                  <a:lnTo>
                    <a:pt x="1060" y="1209"/>
                  </a:lnTo>
                  <a:lnTo>
                    <a:pt x="1046" y="1241"/>
                  </a:lnTo>
                  <a:lnTo>
                    <a:pt x="1031" y="1272"/>
                  </a:lnTo>
                  <a:lnTo>
                    <a:pt x="1014" y="1301"/>
                  </a:lnTo>
                  <a:lnTo>
                    <a:pt x="994" y="1332"/>
                  </a:lnTo>
                  <a:lnTo>
                    <a:pt x="952" y="1388"/>
                  </a:lnTo>
                  <a:lnTo>
                    <a:pt x="902" y="1443"/>
                  </a:lnTo>
                  <a:lnTo>
                    <a:pt x="849" y="1492"/>
                  </a:lnTo>
                  <a:lnTo>
                    <a:pt x="794" y="1536"/>
                  </a:lnTo>
                  <a:lnTo>
                    <a:pt x="738" y="1573"/>
                  </a:lnTo>
                  <a:lnTo>
                    <a:pt x="681" y="1602"/>
                  </a:lnTo>
                  <a:lnTo>
                    <a:pt x="622" y="1625"/>
                  </a:lnTo>
                  <a:lnTo>
                    <a:pt x="562" y="1643"/>
                  </a:lnTo>
                  <a:lnTo>
                    <a:pt x="501" y="1652"/>
                  </a:lnTo>
                  <a:lnTo>
                    <a:pt x="438" y="1656"/>
                  </a:lnTo>
                  <a:lnTo>
                    <a:pt x="364" y="1652"/>
                  </a:lnTo>
                  <a:lnTo>
                    <a:pt x="330" y="1647"/>
                  </a:lnTo>
                  <a:lnTo>
                    <a:pt x="300" y="1639"/>
                  </a:lnTo>
                  <a:lnTo>
                    <a:pt x="270" y="1630"/>
                  </a:lnTo>
                  <a:lnTo>
                    <a:pt x="245" y="1619"/>
                  </a:lnTo>
                  <a:lnTo>
                    <a:pt x="222" y="1605"/>
                  </a:lnTo>
                  <a:lnTo>
                    <a:pt x="200" y="1589"/>
                  </a:lnTo>
                  <a:lnTo>
                    <a:pt x="182" y="1573"/>
                  </a:lnTo>
                  <a:lnTo>
                    <a:pt x="166" y="1552"/>
                  </a:lnTo>
                  <a:lnTo>
                    <a:pt x="151" y="1531"/>
                  </a:lnTo>
                  <a:lnTo>
                    <a:pt x="141" y="1508"/>
                  </a:lnTo>
                  <a:lnTo>
                    <a:pt x="132" y="1481"/>
                  </a:lnTo>
                  <a:lnTo>
                    <a:pt x="126" y="1454"/>
                  </a:lnTo>
                  <a:lnTo>
                    <a:pt x="122" y="1424"/>
                  </a:lnTo>
                  <a:lnTo>
                    <a:pt x="121" y="1392"/>
                  </a:lnTo>
                  <a:lnTo>
                    <a:pt x="122" y="1371"/>
                  </a:lnTo>
                  <a:lnTo>
                    <a:pt x="125" y="1343"/>
                  </a:lnTo>
                  <a:lnTo>
                    <a:pt x="135" y="1268"/>
                  </a:lnTo>
                  <a:lnTo>
                    <a:pt x="153" y="1164"/>
                  </a:lnTo>
                  <a:lnTo>
                    <a:pt x="178" y="1033"/>
                  </a:lnTo>
                  <a:lnTo>
                    <a:pt x="306" y="384"/>
                  </a:lnTo>
                  <a:lnTo>
                    <a:pt x="311" y="363"/>
                  </a:lnTo>
                  <a:lnTo>
                    <a:pt x="314" y="344"/>
                  </a:lnTo>
                  <a:lnTo>
                    <a:pt x="315" y="335"/>
                  </a:lnTo>
                  <a:lnTo>
                    <a:pt x="315" y="327"/>
                  </a:lnTo>
                  <a:lnTo>
                    <a:pt x="316" y="321"/>
                  </a:lnTo>
                  <a:lnTo>
                    <a:pt x="316" y="314"/>
                  </a:lnTo>
                  <a:lnTo>
                    <a:pt x="316" y="306"/>
                  </a:lnTo>
                  <a:lnTo>
                    <a:pt x="316" y="301"/>
                  </a:lnTo>
                  <a:lnTo>
                    <a:pt x="316" y="299"/>
                  </a:lnTo>
                  <a:lnTo>
                    <a:pt x="316" y="298"/>
                  </a:lnTo>
                  <a:lnTo>
                    <a:pt x="316" y="298"/>
                  </a:lnTo>
                  <a:lnTo>
                    <a:pt x="315" y="298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2" y="296"/>
                  </a:lnTo>
                  <a:lnTo>
                    <a:pt x="308" y="298"/>
                  </a:lnTo>
                  <a:lnTo>
                    <a:pt x="301" y="299"/>
                  </a:lnTo>
                  <a:lnTo>
                    <a:pt x="292" y="303"/>
                  </a:lnTo>
                  <a:lnTo>
                    <a:pt x="283" y="309"/>
                  </a:lnTo>
                  <a:lnTo>
                    <a:pt x="260" y="323"/>
                  </a:lnTo>
                  <a:lnTo>
                    <a:pt x="235" y="345"/>
                  </a:lnTo>
                  <a:lnTo>
                    <a:pt x="205" y="373"/>
                  </a:lnTo>
                  <a:lnTo>
                    <a:pt x="173" y="406"/>
                  </a:lnTo>
                  <a:lnTo>
                    <a:pt x="96" y="490"/>
                  </a:lnTo>
                  <a:lnTo>
                    <a:pt x="0" y="395"/>
                  </a:lnTo>
                  <a:lnTo>
                    <a:pt x="78" y="303"/>
                  </a:lnTo>
                  <a:lnTo>
                    <a:pt x="151" y="222"/>
                  </a:lnTo>
                  <a:lnTo>
                    <a:pt x="220" y="155"/>
                  </a:lnTo>
                  <a:lnTo>
                    <a:pt x="283" y="98"/>
                  </a:lnTo>
                  <a:lnTo>
                    <a:pt x="342" y="55"/>
                  </a:lnTo>
                  <a:lnTo>
                    <a:pt x="369" y="38"/>
                  </a:lnTo>
                  <a:lnTo>
                    <a:pt x="395" y="24"/>
                  </a:lnTo>
                  <a:lnTo>
                    <a:pt x="420" y="14"/>
                  </a:lnTo>
                  <a:lnTo>
                    <a:pt x="444" y="6"/>
                  </a:lnTo>
                  <a:lnTo>
                    <a:pt x="467" y="1"/>
                  </a:lnTo>
                  <a:lnTo>
                    <a:pt x="488" y="0"/>
                  </a:lnTo>
                  <a:lnTo>
                    <a:pt x="501" y="1"/>
                  </a:lnTo>
                  <a:lnTo>
                    <a:pt x="513" y="3"/>
                  </a:lnTo>
                  <a:lnTo>
                    <a:pt x="526" y="6"/>
                  </a:lnTo>
                  <a:lnTo>
                    <a:pt x="536" y="10"/>
                  </a:lnTo>
                  <a:lnTo>
                    <a:pt x="546" y="17"/>
                  </a:lnTo>
                  <a:lnTo>
                    <a:pt x="555" y="24"/>
                  </a:lnTo>
                  <a:lnTo>
                    <a:pt x="563" y="32"/>
                  </a:lnTo>
                  <a:lnTo>
                    <a:pt x="571" y="42"/>
                  </a:lnTo>
                  <a:lnTo>
                    <a:pt x="577" y="54"/>
                  </a:lnTo>
                  <a:lnTo>
                    <a:pt x="583" y="66"/>
                  </a:lnTo>
                  <a:lnTo>
                    <a:pt x="588" y="81"/>
                  </a:lnTo>
                  <a:lnTo>
                    <a:pt x="592" y="96"/>
                  </a:lnTo>
                  <a:lnTo>
                    <a:pt x="595" y="112"/>
                  </a:lnTo>
                  <a:lnTo>
                    <a:pt x="597" y="130"/>
                  </a:lnTo>
                  <a:lnTo>
                    <a:pt x="599" y="149"/>
                  </a:lnTo>
                  <a:lnTo>
                    <a:pt x="599" y="170"/>
                  </a:lnTo>
                  <a:lnTo>
                    <a:pt x="598" y="207"/>
                  </a:lnTo>
                  <a:lnTo>
                    <a:pt x="594" y="250"/>
                  </a:lnTo>
                  <a:lnTo>
                    <a:pt x="587" y="300"/>
                  </a:lnTo>
                  <a:lnTo>
                    <a:pt x="577" y="359"/>
                  </a:lnTo>
                  <a:lnTo>
                    <a:pt x="551" y="494"/>
                  </a:lnTo>
                  <a:close/>
                  <a:moveTo>
                    <a:pt x="406" y="1337"/>
                  </a:moveTo>
                  <a:lnTo>
                    <a:pt x="406" y="1352"/>
                  </a:lnTo>
                  <a:lnTo>
                    <a:pt x="407" y="1365"/>
                  </a:lnTo>
                  <a:lnTo>
                    <a:pt x="409" y="1378"/>
                  </a:lnTo>
                  <a:lnTo>
                    <a:pt x="411" y="1389"/>
                  </a:lnTo>
                  <a:lnTo>
                    <a:pt x="413" y="1395"/>
                  </a:lnTo>
                  <a:lnTo>
                    <a:pt x="414" y="1401"/>
                  </a:lnTo>
                  <a:lnTo>
                    <a:pt x="416" y="1406"/>
                  </a:lnTo>
                  <a:lnTo>
                    <a:pt x="418" y="1409"/>
                  </a:lnTo>
                  <a:lnTo>
                    <a:pt x="420" y="1415"/>
                  </a:lnTo>
                  <a:lnTo>
                    <a:pt x="423" y="1418"/>
                  </a:lnTo>
                  <a:lnTo>
                    <a:pt x="425" y="1422"/>
                  </a:lnTo>
                  <a:lnTo>
                    <a:pt x="428" y="1426"/>
                  </a:lnTo>
                  <a:lnTo>
                    <a:pt x="431" y="1430"/>
                  </a:lnTo>
                  <a:lnTo>
                    <a:pt x="434" y="1432"/>
                  </a:lnTo>
                  <a:lnTo>
                    <a:pt x="438" y="1436"/>
                  </a:lnTo>
                  <a:lnTo>
                    <a:pt x="443" y="1439"/>
                  </a:lnTo>
                  <a:lnTo>
                    <a:pt x="447" y="1441"/>
                  </a:lnTo>
                  <a:lnTo>
                    <a:pt x="452" y="1444"/>
                  </a:lnTo>
                  <a:lnTo>
                    <a:pt x="465" y="1448"/>
                  </a:lnTo>
                  <a:lnTo>
                    <a:pt x="478" y="1452"/>
                  </a:lnTo>
                  <a:lnTo>
                    <a:pt x="493" y="1454"/>
                  </a:lnTo>
                  <a:lnTo>
                    <a:pt x="510" y="1455"/>
                  </a:lnTo>
                  <a:lnTo>
                    <a:pt x="529" y="1455"/>
                  </a:lnTo>
                  <a:lnTo>
                    <a:pt x="564" y="1454"/>
                  </a:lnTo>
                  <a:lnTo>
                    <a:pt x="598" y="1449"/>
                  </a:lnTo>
                  <a:lnTo>
                    <a:pt x="630" y="1441"/>
                  </a:lnTo>
                  <a:lnTo>
                    <a:pt x="661" y="1430"/>
                  </a:lnTo>
                  <a:lnTo>
                    <a:pt x="675" y="1422"/>
                  </a:lnTo>
                  <a:lnTo>
                    <a:pt x="689" y="1415"/>
                  </a:lnTo>
                  <a:lnTo>
                    <a:pt x="703" y="1406"/>
                  </a:lnTo>
                  <a:lnTo>
                    <a:pt x="716" y="1397"/>
                  </a:lnTo>
                  <a:lnTo>
                    <a:pt x="728" y="1386"/>
                  </a:lnTo>
                  <a:lnTo>
                    <a:pt x="740" y="1375"/>
                  </a:lnTo>
                  <a:lnTo>
                    <a:pt x="752" y="1364"/>
                  </a:lnTo>
                  <a:lnTo>
                    <a:pt x="764" y="1351"/>
                  </a:lnTo>
                  <a:lnTo>
                    <a:pt x="775" y="1337"/>
                  </a:lnTo>
                  <a:lnTo>
                    <a:pt x="784" y="1323"/>
                  </a:lnTo>
                  <a:lnTo>
                    <a:pt x="794" y="1307"/>
                  </a:lnTo>
                  <a:lnTo>
                    <a:pt x="802" y="1292"/>
                  </a:lnTo>
                  <a:lnTo>
                    <a:pt x="810" y="1275"/>
                  </a:lnTo>
                  <a:lnTo>
                    <a:pt x="817" y="1258"/>
                  </a:lnTo>
                  <a:lnTo>
                    <a:pt x="824" y="1240"/>
                  </a:lnTo>
                  <a:lnTo>
                    <a:pt x="830" y="1221"/>
                  </a:lnTo>
                  <a:lnTo>
                    <a:pt x="840" y="1180"/>
                  </a:lnTo>
                  <a:lnTo>
                    <a:pt x="847" y="1136"/>
                  </a:lnTo>
                  <a:lnTo>
                    <a:pt x="851" y="1089"/>
                  </a:lnTo>
                  <a:lnTo>
                    <a:pt x="852" y="1039"/>
                  </a:lnTo>
                  <a:lnTo>
                    <a:pt x="851" y="1010"/>
                  </a:lnTo>
                  <a:lnTo>
                    <a:pt x="849" y="982"/>
                  </a:lnTo>
                  <a:lnTo>
                    <a:pt x="845" y="956"/>
                  </a:lnTo>
                  <a:lnTo>
                    <a:pt x="840" y="932"/>
                  </a:lnTo>
                  <a:lnTo>
                    <a:pt x="833" y="910"/>
                  </a:lnTo>
                  <a:lnTo>
                    <a:pt x="825" y="890"/>
                  </a:lnTo>
                  <a:lnTo>
                    <a:pt x="814" y="872"/>
                  </a:lnTo>
                  <a:lnTo>
                    <a:pt x="803" y="855"/>
                  </a:lnTo>
                  <a:lnTo>
                    <a:pt x="790" y="841"/>
                  </a:lnTo>
                  <a:lnTo>
                    <a:pt x="776" y="829"/>
                  </a:lnTo>
                  <a:lnTo>
                    <a:pt x="759" y="818"/>
                  </a:lnTo>
                  <a:lnTo>
                    <a:pt x="742" y="809"/>
                  </a:lnTo>
                  <a:lnTo>
                    <a:pt x="723" y="803"/>
                  </a:lnTo>
                  <a:lnTo>
                    <a:pt x="701" y="798"/>
                  </a:lnTo>
                  <a:lnTo>
                    <a:pt x="679" y="795"/>
                  </a:lnTo>
                  <a:lnTo>
                    <a:pt x="656" y="794"/>
                  </a:lnTo>
                  <a:lnTo>
                    <a:pt x="637" y="795"/>
                  </a:lnTo>
                  <a:lnTo>
                    <a:pt x="618" y="797"/>
                  </a:lnTo>
                  <a:lnTo>
                    <a:pt x="599" y="801"/>
                  </a:lnTo>
                  <a:lnTo>
                    <a:pt x="578" y="807"/>
                  </a:lnTo>
                  <a:lnTo>
                    <a:pt x="558" y="813"/>
                  </a:lnTo>
                  <a:lnTo>
                    <a:pt x="538" y="821"/>
                  </a:lnTo>
                  <a:lnTo>
                    <a:pt x="516" y="831"/>
                  </a:lnTo>
                  <a:lnTo>
                    <a:pt x="494" y="841"/>
                  </a:lnTo>
                  <a:lnTo>
                    <a:pt x="428" y="1185"/>
                  </a:lnTo>
                  <a:lnTo>
                    <a:pt x="411" y="1284"/>
                  </a:lnTo>
                  <a:lnTo>
                    <a:pt x="407" y="1316"/>
                  </a:lnTo>
                  <a:lnTo>
                    <a:pt x="406" y="1328"/>
                  </a:lnTo>
                  <a:close/>
                  <a:moveTo>
                    <a:pt x="1448" y="49"/>
                  </a:moveTo>
                  <a:lnTo>
                    <a:pt x="1705" y="49"/>
                  </a:lnTo>
                  <a:lnTo>
                    <a:pt x="1568" y="728"/>
                  </a:lnTo>
                  <a:lnTo>
                    <a:pt x="1480" y="1154"/>
                  </a:lnTo>
                  <a:lnTo>
                    <a:pt x="1458" y="1278"/>
                  </a:lnTo>
                  <a:lnTo>
                    <a:pt x="1453" y="1319"/>
                  </a:lnTo>
                  <a:lnTo>
                    <a:pt x="1451" y="1333"/>
                  </a:lnTo>
                  <a:lnTo>
                    <a:pt x="1451" y="1344"/>
                  </a:lnTo>
                  <a:lnTo>
                    <a:pt x="1451" y="1352"/>
                  </a:lnTo>
                  <a:lnTo>
                    <a:pt x="1452" y="1358"/>
                  </a:lnTo>
                  <a:lnTo>
                    <a:pt x="1452" y="1365"/>
                  </a:lnTo>
                  <a:lnTo>
                    <a:pt x="1453" y="1367"/>
                  </a:lnTo>
                  <a:lnTo>
                    <a:pt x="1453" y="1369"/>
                  </a:lnTo>
                  <a:lnTo>
                    <a:pt x="1454" y="1371"/>
                  </a:lnTo>
                  <a:lnTo>
                    <a:pt x="1455" y="1372"/>
                  </a:lnTo>
                  <a:lnTo>
                    <a:pt x="1455" y="1374"/>
                  </a:lnTo>
                  <a:lnTo>
                    <a:pt x="1456" y="1375"/>
                  </a:lnTo>
                  <a:lnTo>
                    <a:pt x="1456" y="1376"/>
                  </a:lnTo>
                  <a:lnTo>
                    <a:pt x="1457" y="1376"/>
                  </a:lnTo>
                  <a:lnTo>
                    <a:pt x="1457" y="1376"/>
                  </a:lnTo>
                  <a:lnTo>
                    <a:pt x="1458" y="1378"/>
                  </a:lnTo>
                  <a:lnTo>
                    <a:pt x="1458" y="1378"/>
                  </a:lnTo>
                  <a:lnTo>
                    <a:pt x="1459" y="1378"/>
                  </a:lnTo>
                  <a:lnTo>
                    <a:pt x="1459" y="1378"/>
                  </a:lnTo>
                  <a:lnTo>
                    <a:pt x="1460" y="1378"/>
                  </a:lnTo>
                  <a:lnTo>
                    <a:pt x="1463" y="1378"/>
                  </a:lnTo>
                  <a:lnTo>
                    <a:pt x="1465" y="1376"/>
                  </a:lnTo>
                  <a:lnTo>
                    <a:pt x="1472" y="1374"/>
                  </a:lnTo>
                  <a:lnTo>
                    <a:pt x="1480" y="1370"/>
                  </a:lnTo>
                  <a:lnTo>
                    <a:pt x="1489" y="1364"/>
                  </a:lnTo>
                  <a:lnTo>
                    <a:pt x="1513" y="1344"/>
                  </a:lnTo>
                  <a:lnTo>
                    <a:pt x="1540" y="1319"/>
                  </a:lnTo>
                  <a:lnTo>
                    <a:pt x="1610" y="1246"/>
                  </a:lnTo>
                  <a:lnTo>
                    <a:pt x="1701" y="1143"/>
                  </a:lnTo>
                  <a:lnTo>
                    <a:pt x="1778" y="1247"/>
                  </a:lnTo>
                  <a:lnTo>
                    <a:pt x="1704" y="1344"/>
                  </a:lnTo>
                  <a:lnTo>
                    <a:pt x="1635" y="1429"/>
                  </a:lnTo>
                  <a:lnTo>
                    <a:pt x="1570" y="1500"/>
                  </a:lnTo>
                  <a:lnTo>
                    <a:pt x="1510" y="1559"/>
                  </a:lnTo>
                  <a:lnTo>
                    <a:pt x="1455" y="1604"/>
                  </a:lnTo>
                  <a:lnTo>
                    <a:pt x="1429" y="1621"/>
                  </a:lnTo>
                  <a:lnTo>
                    <a:pt x="1405" y="1637"/>
                  </a:lnTo>
                  <a:lnTo>
                    <a:pt x="1382" y="1648"/>
                  </a:lnTo>
                  <a:lnTo>
                    <a:pt x="1359" y="1656"/>
                  </a:lnTo>
                  <a:lnTo>
                    <a:pt x="1338" y="1661"/>
                  </a:lnTo>
                  <a:lnTo>
                    <a:pt x="1319" y="1662"/>
                  </a:lnTo>
                  <a:lnTo>
                    <a:pt x="1313" y="1662"/>
                  </a:lnTo>
                  <a:lnTo>
                    <a:pt x="1305" y="1661"/>
                  </a:lnTo>
                  <a:lnTo>
                    <a:pt x="1299" y="1661"/>
                  </a:lnTo>
                  <a:lnTo>
                    <a:pt x="1293" y="1658"/>
                  </a:lnTo>
                  <a:lnTo>
                    <a:pt x="1287" y="1657"/>
                  </a:lnTo>
                  <a:lnTo>
                    <a:pt x="1281" y="1655"/>
                  </a:lnTo>
                  <a:lnTo>
                    <a:pt x="1275" y="1652"/>
                  </a:lnTo>
                  <a:lnTo>
                    <a:pt x="1269" y="1648"/>
                  </a:lnTo>
                  <a:lnTo>
                    <a:pt x="1257" y="1641"/>
                  </a:lnTo>
                  <a:lnTo>
                    <a:pt x="1245" y="1632"/>
                  </a:lnTo>
                  <a:lnTo>
                    <a:pt x="1233" y="1620"/>
                  </a:lnTo>
                  <a:lnTo>
                    <a:pt x="1222" y="1607"/>
                  </a:lnTo>
                  <a:lnTo>
                    <a:pt x="1217" y="1600"/>
                  </a:lnTo>
                  <a:lnTo>
                    <a:pt x="1212" y="1593"/>
                  </a:lnTo>
                  <a:lnTo>
                    <a:pt x="1207" y="1586"/>
                  </a:lnTo>
                  <a:lnTo>
                    <a:pt x="1203" y="1577"/>
                  </a:lnTo>
                  <a:lnTo>
                    <a:pt x="1199" y="1569"/>
                  </a:lnTo>
                  <a:lnTo>
                    <a:pt x="1195" y="1560"/>
                  </a:lnTo>
                  <a:lnTo>
                    <a:pt x="1192" y="1551"/>
                  </a:lnTo>
                  <a:lnTo>
                    <a:pt x="1189" y="1542"/>
                  </a:lnTo>
                  <a:lnTo>
                    <a:pt x="1183" y="1522"/>
                  </a:lnTo>
                  <a:lnTo>
                    <a:pt x="1180" y="1501"/>
                  </a:lnTo>
                  <a:lnTo>
                    <a:pt x="1178" y="1480"/>
                  </a:lnTo>
                  <a:lnTo>
                    <a:pt x="1177" y="1455"/>
                  </a:lnTo>
                  <a:lnTo>
                    <a:pt x="1179" y="1418"/>
                  </a:lnTo>
                  <a:lnTo>
                    <a:pt x="1183" y="1370"/>
                  </a:lnTo>
                  <a:lnTo>
                    <a:pt x="1203" y="1238"/>
                  </a:lnTo>
                  <a:lnTo>
                    <a:pt x="1235" y="1062"/>
                  </a:lnTo>
                  <a:lnTo>
                    <a:pt x="1280" y="84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59280" y="371520"/>
              <a:ext cx="358560" cy="595440"/>
            </a:xfrm>
            <a:custGeom>
              <a:avLst/>
              <a:gdLst/>
              <a:ahLst/>
              <a:rect l="l" t="t" r="r" b="b"/>
              <a:pathLst>
                <a:path w="995" h="1655">
                  <a:moveTo>
                    <a:pt x="729" y="668"/>
                  </a:moveTo>
                  <a:lnTo>
                    <a:pt x="791" y="666"/>
                  </a:lnTo>
                  <a:lnTo>
                    <a:pt x="816" y="668"/>
                  </a:lnTo>
                  <a:lnTo>
                    <a:pt x="839" y="670"/>
                  </a:lnTo>
                  <a:lnTo>
                    <a:pt x="861" y="677"/>
                  </a:lnTo>
                  <a:lnTo>
                    <a:pt x="880" y="684"/>
                  </a:lnTo>
                  <a:lnTo>
                    <a:pt x="898" y="693"/>
                  </a:lnTo>
                  <a:lnTo>
                    <a:pt x="914" y="705"/>
                  </a:lnTo>
                  <a:lnTo>
                    <a:pt x="930" y="719"/>
                  </a:lnTo>
                  <a:lnTo>
                    <a:pt x="943" y="735"/>
                  </a:lnTo>
                  <a:lnTo>
                    <a:pt x="955" y="753"/>
                  </a:lnTo>
                  <a:lnTo>
                    <a:pt x="965" y="774"/>
                  </a:lnTo>
                  <a:lnTo>
                    <a:pt x="974" y="797"/>
                  </a:lnTo>
                  <a:lnTo>
                    <a:pt x="982" y="822"/>
                  </a:lnTo>
                  <a:lnTo>
                    <a:pt x="987" y="849"/>
                  </a:lnTo>
                  <a:lnTo>
                    <a:pt x="991" y="877"/>
                  </a:lnTo>
                  <a:lnTo>
                    <a:pt x="993" y="909"/>
                  </a:lnTo>
                  <a:lnTo>
                    <a:pt x="994" y="942"/>
                  </a:lnTo>
                  <a:lnTo>
                    <a:pt x="993" y="975"/>
                  </a:lnTo>
                  <a:lnTo>
                    <a:pt x="990" y="1007"/>
                  </a:lnTo>
                  <a:lnTo>
                    <a:pt x="986" y="1039"/>
                  </a:lnTo>
                  <a:lnTo>
                    <a:pt x="979" y="1071"/>
                  </a:lnTo>
                  <a:lnTo>
                    <a:pt x="970" y="1103"/>
                  </a:lnTo>
                  <a:lnTo>
                    <a:pt x="961" y="1134"/>
                  </a:lnTo>
                  <a:lnTo>
                    <a:pt x="949" y="1164"/>
                  </a:lnTo>
                  <a:lnTo>
                    <a:pt x="935" y="1196"/>
                  </a:lnTo>
                  <a:lnTo>
                    <a:pt x="919" y="1226"/>
                  </a:lnTo>
                  <a:lnTo>
                    <a:pt x="902" y="1256"/>
                  </a:lnTo>
                  <a:lnTo>
                    <a:pt x="862" y="1315"/>
                  </a:lnTo>
                  <a:lnTo>
                    <a:pt x="814" y="1374"/>
                  </a:lnTo>
                  <a:lnTo>
                    <a:pt x="759" y="1430"/>
                  </a:lnTo>
                  <a:lnTo>
                    <a:pt x="700" y="1482"/>
                  </a:lnTo>
                  <a:lnTo>
                    <a:pt x="641" y="1528"/>
                  </a:lnTo>
                  <a:lnTo>
                    <a:pt x="583" y="1566"/>
                  </a:lnTo>
                  <a:lnTo>
                    <a:pt x="525" y="1598"/>
                  </a:lnTo>
                  <a:lnTo>
                    <a:pt x="468" y="1623"/>
                  </a:lnTo>
                  <a:lnTo>
                    <a:pt x="411" y="1640"/>
                  </a:lnTo>
                  <a:lnTo>
                    <a:pt x="354" y="1651"/>
                  </a:lnTo>
                  <a:lnTo>
                    <a:pt x="297" y="1654"/>
                  </a:lnTo>
                  <a:lnTo>
                    <a:pt x="262" y="1653"/>
                  </a:lnTo>
                  <a:lnTo>
                    <a:pt x="227" y="1648"/>
                  </a:lnTo>
                  <a:lnTo>
                    <a:pt x="197" y="1640"/>
                  </a:lnTo>
                  <a:lnTo>
                    <a:pt x="167" y="1630"/>
                  </a:lnTo>
                  <a:lnTo>
                    <a:pt x="141" y="1616"/>
                  </a:lnTo>
                  <a:lnTo>
                    <a:pt x="116" y="1600"/>
                  </a:lnTo>
                  <a:lnTo>
                    <a:pt x="94" y="1579"/>
                  </a:lnTo>
                  <a:lnTo>
                    <a:pt x="75" y="1556"/>
                  </a:lnTo>
                  <a:lnTo>
                    <a:pt x="57" y="1529"/>
                  </a:lnTo>
                  <a:lnTo>
                    <a:pt x="42" y="1500"/>
                  </a:lnTo>
                  <a:lnTo>
                    <a:pt x="29" y="1468"/>
                  </a:lnTo>
                  <a:lnTo>
                    <a:pt x="19" y="1432"/>
                  </a:lnTo>
                  <a:lnTo>
                    <a:pt x="11" y="1394"/>
                  </a:lnTo>
                  <a:lnTo>
                    <a:pt x="5" y="1352"/>
                  </a:lnTo>
                  <a:lnTo>
                    <a:pt x="1" y="1307"/>
                  </a:lnTo>
                  <a:lnTo>
                    <a:pt x="0" y="1260"/>
                  </a:lnTo>
                  <a:lnTo>
                    <a:pt x="3" y="1151"/>
                  </a:lnTo>
                  <a:lnTo>
                    <a:pt x="14" y="1044"/>
                  </a:lnTo>
                  <a:lnTo>
                    <a:pt x="31" y="937"/>
                  </a:lnTo>
                  <a:lnTo>
                    <a:pt x="54" y="831"/>
                  </a:lnTo>
                  <a:lnTo>
                    <a:pt x="84" y="725"/>
                  </a:lnTo>
                  <a:lnTo>
                    <a:pt x="120" y="620"/>
                  </a:lnTo>
                  <a:lnTo>
                    <a:pt x="164" y="516"/>
                  </a:lnTo>
                  <a:lnTo>
                    <a:pt x="214" y="412"/>
                  </a:lnTo>
                  <a:lnTo>
                    <a:pt x="269" y="315"/>
                  </a:lnTo>
                  <a:lnTo>
                    <a:pt x="326" y="231"/>
                  </a:lnTo>
                  <a:lnTo>
                    <a:pt x="356" y="194"/>
                  </a:lnTo>
                  <a:lnTo>
                    <a:pt x="386" y="161"/>
                  </a:lnTo>
                  <a:lnTo>
                    <a:pt x="417" y="130"/>
                  </a:lnTo>
                  <a:lnTo>
                    <a:pt x="448" y="103"/>
                  </a:lnTo>
                  <a:lnTo>
                    <a:pt x="480" y="79"/>
                  </a:lnTo>
                  <a:lnTo>
                    <a:pt x="513" y="57"/>
                  </a:lnTo>
                  <a:lnTo>
                    <a:pt x="546" y="40"/>
                  </a:lnTo>
                  <a:lnTo>
                    <a:pt x="580" y="26"/>
                  </a:lnTo>
                  <a:lnTo>
                    <a:pt x="614" y="14"/>
                  </a:lnTo>
                  <a:lnTo>
                    <a:pt x="649" y="6"/>
                  </a:lnTo>
                  <a:lnTo>
                    <a:pt x="685" y="1"/>
                  </a:lnTo>
                  <a:lnTo>
                    <a:pt x="721" y="0"/>
                  </a:lnTo>
                  <a:lnTo>
                    <a:pt x="751" y="1"/>
                  </a:lnTo>
                  <a:lnTo>
                    <a:pt x="778" y="4"/>
                  </a:lnTo>
                  <a:lnTo>
                    <a:pt x="804" y="10"/>
                  </a:lnTo>
                  <a:lnTo>
                    <a:pt x="827" y="18"/>
                  </a:lnTo>
                  <a:lnTo>
                    <a:pt x="849" y="27"/>
                  </a:lnTo>
                  <a:lnTo>
                    <a:pt x="869" y="38"/>
                  </a:lnTo>
                  <a:lnTo>
                    <a:pt x="887" y="54"/>
                  </a:lnTo>
                  <a:lnTo>
                    <a:pt x="903" y="69"/>
                  </a:lnTo>
                  <a:lnTo>
                    <a:pt x="917" y="88"/>
                  </a:lnTo>
                  <a:lnTo>
                    <a:pt x="930" y="109"/>
                  </a:lnTo>
                  <a:lnTo>
                    <a:pt x="940" y="131"/>
                  </a:lnTo>
                  <a:lnTo>
                    <a:pt x="948" y="156"/>
                  </a:lnTo>
                  <a:lnTo>
                    <a:pt x="955" y="184"/>
                  </a:lnTo>
                  <a:lnTo>
                    <a:pt x="959" y="213"/>
                  </a:lnTo>
                  <a:lnTo>
                    <a:pt x="962" y="244"/>
                  </a:lnTo>
                  <a:lnTo>
                    <a:pt x="963" y="278"/>
                  </a:lnTo>
                  <a:lnTo>
                    <a:pt x="962" y="310"/>
                  </a:lnTo>
                  <a:lnTo>
                    <a:pt x="959" y="340"/>
                  </a:lnTo>
                  <a:lnTo>
                    <a:pt x="955" y="370"/>
                  </a:lnTo>
                  <a:lnTo>
                    <a:pt x="949" y="398"/>
                  </a:lnTo>
                  <a:lnTo>
                    <a:pt x="940" y="426"/>
                  </a:lnTo>
                  <a:lnTo>
                    <a:pt x="931" y="452"/>
                  </a:lnTo>
                  <a:lnTo>
                    <a:pt x="918" y="479"/>
                  </a:lnTo>
                  <a:lnTo>
                    <a:pt x="904" y="503"/>
                  </a:lnTo>
                  <a:lnTo>
                    <a:pt x="889" y="527"/>
                  </a:lnTo>
                  <a:lnTo>
                    <a:pt x="872" y="550"/>
                  </a:lnTo>
                  <a:lnTo>
                    <a:pt x="852" y="572"/>
                  </a:lnTo>
                  <a:lnTo>
                    <a:pt x="831" y="594"/>
                  </a:lnTo>
                  <a:lnTo>
                    <a:pt x="809" y="613"/>
                  </a:lnTo>
                  <a:lnTo>
                    <a:pt x="784" y="632"/>
                  </a:lnTo>
                  <a:close/>
                  <a:moveTo>
                    <a:pt x="327" y="812"/>
                  </a:moveTo>
                  <a:lnTo>
                    <a:pt x="413" y="757"/>
                  </a:lnTo>
                  <a:lnTo>
                    <a:pt x="487" y="700"/>
                  </a:lnTo>
                  <a:lnTo>
                    <a:pt x="550" y="643"/>
                  </a:lnTo>
                  <a:lnTo>
                    <a:pt x="578" y="614"/>
                  </a:lnTo>
                  <a:lnTo>
                    <a:pt x="602" y="585"/>
                  </a:lnTo>
                  <a:lnTo>
                    <a:pt x="625" y="555"/>
                  </a:lnTo>
                  <a:lnTo>
                    <a:pt x="643" y="526"/>
                  </a:lnTo>
                  <a:lnTo>
                    <a:pt x="659" y="495"/>
                  </a:lnTo>
                  <a:lnTo>
                    <a:pt x="671" y="466"/>
                  </a:lnTo>
                  <a:lnTo>
                    <a:pt x="682" y="435"/>
                  </a:lnTo>
                  <a:lnTo>
                    <a:pt x="689" y="405"/>
                  </a:lnTo>
                  <a:lnTo>
                    <a:pt x="694" y="373"/>
                  </a:lnTo>
                  <a:lnTo>
                    <a:pt x="695" y="342"/>
                  </a:lnTo>
                  <a:lnTo>
                    <a:pt x="695" y="326"/>
                  </a:lnTo>
                  <a:lnTo>
                    <a:pt x="694" y="310"/>
                  </a:lnTo>
                  <a:lnTo>
                    <a:pt x="692" y="296"/>
                  </a:lnTo>
                  <a:lnTo>
                    <a:pt x="690" y="282"/>
                  </a:lnTo>
                  <a:lnTo>
                    <a:pt x="687" y="271"/>
                  </a:lnTo>
                  <a:lnTo>
                    <a:pt x="683" y="259"/>
                  </a:lnTo>
                  <a:lnTo>
                    <a:pt x="679" y="249"/>
                  </a:lnTo>
                  <a:lnTo>
                    <a:pt x="673" y="240"/>
                  </a:lnTo>
                  <a:lnTo>
                    <a:pt x="668" y="232"/>
                  </a:lnTo>
                  <a:lnTo>
                    <a:pt x="661" y="226"/>
                  </a:lnTo>
                  <a:lnTo>
                    <a:pt x="655" y="220"/>
                  </a:lnTo>
                  <a:lnTo>
                    <a:pt x="647" y="216"/>
                  </a:lnTo>
                  <a:lnTo>
                    <a:pt x="639" y="212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0" y="207"/>
                  </a:lnTo>
                  <a:lnTo>
                    <a:pt x="586" y="209"/>
                  </a:lnTo>
                  <a:lnTo>
                    <a:pt x="575" y="212"/>
                  </a:lnTo>
                  <a:lnTo>
                    <a:pt x="564" y="216"/>
                  </a:lnTo>
                  <a:lnTo>
                    <a:pt x="541" y="229"/>
                  </a:lnTo>
                  <a:lnTo>
                    <a:pt x="520" y="245"/>
                  </a:lnTo>
                  <a:lnTo>
                    <a:pt x="499" y="266"/>
                  </a:lnTo>
                  <a:lnTo>
                    <a:pt x="479" y="292"/>
                  </a:lnTo>
                  <a:lnTo>
                    <a:pt x="460" y="323"/>
                  </a:lnTo>
                  <a:lnTo>
                    <a:pt x="442" y="359"/>
                  </a:lnTo>
                  <a:lnTo>
                    <a:pt x="424" y="398"/>
                  </a:lnTo>
                  <a:lnTo>
                    <a:pt x="408" y="443"/>
                  </a:lnTo>
                  <a:lnTo>
                    <a:pt x="378" y="548"/>
                  </a:lnTo>
                  <a:lnTo>
                    <a:pt x="350" y="670"/>
                  </a:lnTo>
                  <a:close/>
                  <a:moveTo>
                    <a:pt x="312" y="1002"/>
                  </a:moveTo>
                  <a:lnTo>
                    <a:pt x="308" y="1044"/>
                  </a:lnTo>
                  <a:lnTo>
                    <a:pt x="305" y="1088"/>
                  </a:lnTo>
                  <a:lnTo>
                    <a:pt x="303" y="1132"/>
                  </a:lnTo>
                  <a:lnTo>
                    <a:pt x="302" y="1180"/>
                  </a:lnTo>
                  <a:lnTo>
                    <a:pt x="303" y="1251"/>
                  </a:lnTo>
                  <a:lnTo>
                    <a:pt x="305" y="1280"/>
                  </a:lnTo>
                  <a:lnTo>
                    <a:pt x="308" y="1309"/>
                  </a:lnTo>
                  <a:lnTo>
                    <a:pt x="311" y="1333"/>
                  </a:lnTo>
                  <a:lnTo>
                    <a:pt x="316" y="1353"/>
                  </a:lnTo>
                  <a:lnTo>
                    <a:pt x="321" y="1371"/>
                  </a:lnTo>
                  <a:lnTo>
                    <a:pt x="323" y="1379"/>
                  </a:lnTo>
                  <a:lnTo>
                    <a:pt x="326" y="1385"/>
                  </a:lnTo>
                  <a:lnTo>
                    <a:pt x="329" y="1391"/>
                  </a:lnTo>
                  <a:lnTo>
                    <a:pt x="332" y="1397"/>
                  </a:lnTo>
                  <a:lnTo>
                    <a:pt x="335" y="1403"/>
                  </a:lnTo>
                  <a:lnTo>
                    <a:pt x="339" y="1408"/>
                  </a:lnTo>
                  <a:lnTo>
                    <a:pt x="343" y="1412"/>
                  </a:lnTo>
                  <a:lnTo>
                    <a:pt x="347" y="1417"/>
                  </a:lnTo>
                  <a:lnTo>
                    <a:pt x="351" y="1420"/>
                  </a:lnTo>
                  <a:lnTo>
                    <a:pt x="356" y="1423"/>
                  </a:lnTo>
                  <a:lnTo>
                    <a:pt x="361" y="1426"/>
                  </a:lnTo>
                  <a:lnTo>
                    <a:pt x="366" y="1429"/>
                  </a:lnTo>
                  <a:lnTo>
                    <a:pt x="371" y="1431"/>
                  </a:lnTo>
                  <a:lnTo>
                    <a:pt x="378" y="1434"/>
                  </a:lnTo>
                  <a:lnTo>
                    <a:pt x="383" y="1435"/>
                  </a:lnTo>
                  <a:lnTo>
                    <a:pt x="389" y="1435"/>
                  </a:lnTo>
                  <a:lnTo>
                    <a:pt x="402" y="1436"/>
                  </a:lnTo>
                  <a:lnTo>
                    <a:pt x="413" y="1436"/>
                  </a:lnTo>
                  <a:lnTo>
                    <a:pt x="425" y="1434"/>
                  </a:lnTo>
                  <a:lnTo>
                    <a:pt x="437" y="1431"/>
                  </a:lnTo>
                  <a:lnTo>
                    <a:pt x="449" y="1429"/>
                  </a:lnTo>
                  <a:lnTo>
                    <a:pt x="460" y="1423"/>
                  </a:lnTo>
                  <a:lnTo>
                    <a:pt x="472" y="1418"/>
                  </a:lnTo>
                  <a:lnTo>
                    <a:pt x="483" y="1412"/>
                  </a:lnTo>
                  <a:lnTo>
                    <a:pt x="496" y="1404"/>
                  </a:lnTo>
                  <a:lnTo>
                    <a:pt x="520" y="1385"/>
                  </a:lnTo>
                  <a:lnTo>
                    <a:pt x="544" y="1363"/>
                  </a:lnTo>
                  <a:lnTo>
                    <a:pt x="569" y="1338"/>
                  </a:lnTo>
                  <a:lnTo>
                    <a:pt x="594" y="1307"/>
                  </a:lnTo>
                  <a:lnTo>
                    <a:pt x="618" y="1274"/>
                  </a:lnTo>
                  <a:lnTo>
                    <a:pt x="638" y="1240"/>
                  </a:lnTo>
                  <a:lnTo>
                    <a:pt x="655" y="1204"/>
                  </a:lnTo>
                  <a:lnTo>
                    <a:pt x="669" y="1167"/>
                  </a:lnTo>
                  <a:lnTo>
                    <a:pt x="675" y="1149"/>
                  </a:lnTo>
                  <a:lnTo>
                    <a:pt x="681" y="1130"/>
                  </a:lnTo>
                  <a:lnTo>
                    <a:pt x="685" y="1109"/>
                  </a:lnTo>
                  <a:lnTo>
                    <a:pt x="689" y="1090"/>
                  </a:lnTo>
                  <a:lnTo>
                    <a:pt x="693" y="1049"/>
                  </a:lnTo>
                  <a:lnTo>
                    <a:pt x="695" y="1007"/>
                  </a:lnTo>
                  <a:lnTo>
                    <a:pt x="694" y="971"/>
                  </a:lnTo>
                  <a:lnTo>
                    <a:pt x="692" y="955"/>
                  </a:lnTo>
                  <a:lnTo>
                    <a:pt x="690" y="940"/>
                  </a:lnTo>
                  <a:lnTo>
                    <a:pt x="687" y="926"/>
                  </a:lnTo>
                  <a:lnTo>
                    <a:pt x="683" y="913"/>
                  </a:lnTo>
                  <a:lnTo>
                    <a:pt x="679" y="901"/>
                  </a:lnTo>
                  <a:lnTo>
                    <a:pt x="673" y="891"/>
                  </a:lnTo>
                  <a:lnTo>
                    <a:pt x="667" y="882"/>
                  </a:lnTo>
                  <a:lnTo>
                    <a:pt x="661" y="874"/>
                  </a:lnTo>
                  <a:lnTo>
                    <a:pt x="654" y="868"/>
                  </a:lnTo>
                  <a:lnTo>
                    <a:pt x="647" y="863"/>
                  </a:lnTo>
                  <a:lnTo>
                    <a:pt x="639" y="858"/>
                  </a:lnTo>
                  <a:lnTo>
                    <a:pt x="630" y="855"/>
                  </a:lnTo>
                  <a:lnTo>
                    <a:pt x="620" y="853"/>
                  </a:lnTo>
                  <a:lnTo>
                    <a:pt x="609" y="853"/>
                  </a:lnTo>
                  <a:lnTo>
                    <a:pt x="598" y="853"/>
                  </a:lnTo>
                  <a:lnTo>
                    <a:pt x="586" y="855"/>
                  </a:lnTo>
                  <a:lnTo>
                    <a:pt x="574" y="858"/>
                  </a:lnTo>
                  <a:lnTo>
                    <a:pt x="560" y="862"/>
                  </a:lnTo>
                  <a:lnTo>
                    <a:pt x="528" y="873"/>
                  </a:lnTo>
                  <a:lnTo>
                    <a:pt x="493" y="890"/>
                  </a:lnTo>
                  <a:lnTo>
                    <a:pt x="454" y="911"/>
                  </a:lnTo>
                  <a:lnTo>
                    <a:pt x="411" y="937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62480" y="371520"/>
              <a:ext cx="398160" cy="595440"/>
            </a:xfrm>
            <a:custGeom>
              <a:avLst/>
              <a:gdLst/>
              <a:ahLst/>
              <a:rect l="l" t="t" r="r" b="b"/>
              <a:pathLst>
                <a:path w="1108" h="1654">
                  <a:moveTo>
                    <a:pt x="746" y="0"/>
                  </a:moveTo>
                  <a:lnTo>
                    <a:pt x="765" y="0"/>
                  </a:lnTo>
                  <a:lnTo>
                    <a:pt x="785" y="2"/>
                  </a:lnTo>
                  <a:lnTo>
                    <a:pt x="803" y="5"/>
                  </a:lnTo>
                  <a:lnTo>
                    <a:pt x="821" y="10"/>
                  </a:lnTo>
                  <a:lnTo>
                    <a:pt x="839" y="15"/>
                  </a:lnTo>
                  <a:lnTo>
                    <a:pt x="856" y="22"/>
                  </a:lnTo>
                  <a:lnTo>
                    <a:pt x="873" y="29"/>
                  </a:lnTo>
                  <a:lnTo>
                    <a:pt x="889" y="38"/>
                  </a:lnTo>
                  <a:lnTo>
                    <a:pt x="906" y="48"/>
                  </a:lnTo>
                  <a:lnTo>
                    <a:pt x="921" y="60"/>
                  </a:lnTo>
                  <a:lnTo>
                    <a:pt x="936" y="73"/>
                  </a:lnTo>
                  <a:lnTo>
                    <a:pt x="950" y="87"/>
                  </a:lnTo>
                  <a:lnTo>
                    <a:pt x="965" y="101"/>
                  </a:lnTo>
                  <a:lnTo>
                    <a:pt x="979" y="117"/>
                  </a:lnTo>
                  <a:lnTo>
                    <a:pt x="1005" y="153"/>
                  </a:lnTo>
                  <a:lnTo>
                    <a:pt x="1018" y="173"/>
                  </a:lnTo>
                  <a:lnTo>
                    <a:pt x="1030" y="194"/>
                  </a:lnTo>
                  <a:lnTo>
                    <a:pt x="1040" y="216"/>
                  </a:lnTo>
                  <a:lnTo>
                    <a:pt x="1050" y="237"/>
                  </a:lnTo>
                  <a:lnTo>
                    <a:pt x="1067" y="285"/>
                  </a:lnTo>
                  <a:lnTo>
                    <a:pt x="1082" y="336"/>
                  </a:lnTo>
                  <a:lnTo>
                    <a:pt x="1093" y="389"/>
                  </a:lnTo>
                  <a:lnTo>
                    <a:pt x="1101" y="447"/>
                  </a:lnTo>
                  <a:lnTo>
                    <a:pt x="1105" y="508"/>
                  </a:lnTo>
                  <a:lnTo>
                    <a:pt x="1107" y="572"/>
                  </a:lnTo>
                  <a:lnTo>
                    <a:pt x="1103" y="674"/>
                  </a:lnTo>
                  <a:lnTo>
                    <a:pt x="1093" y="775"/>
                  </a:lnTo>
                  <a:lnTo>
                    <a:pt x="1074" y="872"/>
                  </a:lnTo>
                  <a:lnTo>
                    <a:pt x="1048" y="967"/>
                  </a:lnTo>
                  <a:lnTo>
                    <a:pt x="1016" y="1059"/>
                  </a:lnTo>
                  <a:lnTo>
                    <a:pt x="975" y="1149"/>
                  </a:lnTo>
                  <a:lnTo>
                    <a:pt x="928" y="1236"/>
                  </a:lnTo>
                  <a:lnTo>
                    <a:pt x="873" y="1320"/>
                  </a:lnTo>
                  <a:lnTo>
                    <a:pt x="814" y="1398"/>
                  </a:lnTo>
                  <a:lnTo>
                    <a:pt x="754" y="1465"/>
                  </a:lnTo>
                  <a:lnTo>
                    <a:pt x="693" y="1523"/>
                  </a:lnTo>
                  <a:lnTo>
                    <a:pt x="663" y="1547"/>
                  </a:lnTo>
                  <a:lnTo>
                    <a:pt x="631" y="1570"/>
                  </a:lnTo>
                  <a:lnTo>
                    <a:pt x="600" y="1589"/>
                  </a:lnTo>
                  <a:lnTo>
                    <a:pt x="568" y="1606"/>
                  </a:lnTo>
                  <a:lnTo>
                    <a:pt x="537" y="1621"/>
                  </a:lnTo>
                  <a:lnTo>
                    <a:pt x="504" y="1633"/>
                  </a:lnTo>
                  <a:lnTo>
                    <a:pt x="472" y="1642"/>
                  </a:lnTo>
                  <a:lnTo>
                    <a:pt x="439" y="1648"/>
                  </a:lnTo>
                  <a:lnTo>
                    <a:pt x="406" y="1652"/>
                  </a:lnTo>
                  <a:lnTo>
                    <a:pt x="373" y="1653"/>
                  </a:lnTo>
                  <a:lnTo>
                    <a:pt x="332" y="1650"/>
                  </a:lnTo>
                  <a:lnTo>
                    <a:pt x="294" y="1644"/>
                  </a:lnTo>
                  <a:lnTo>
                    <a:pt x="274" y="1639"/>
                  </a:lnTo>
                  <a:lnTo>
                    <a:pt x="256" y="1634"/>
                  </a:lnTo>
                  <a:lnTo>
                    <a:pt x="239" y="1626"/>
                  </a:lnTo>
                  <a:lnTo>
                    <a:pt x="221" y="1619"/>
                  </a:lnTo>
                  <a:lnTo>
                    <a:pt x="205" y="1610"/>
                  </a:lnTo>
                  <a:lnTo>
                    <a:pt x="189" y="1599"/>
                  </a:lnTo>
                  <a:lnTo>
                    <a:pt x="174" y="1588"/>
                  </a:lnTo>
                  <a:lnTo>
                    <a:pt x="158" y="1575"/>
                  </a:lnTo>
                  <a:lnTo>
                    <a:pt x="143" y="1561"/>
                  </a:lnTo>
                  <a:lnTo>
                    <a:pt x="129" y="1547"/>
                  </a:lnTo>
                  <a:lnTo>
                    <a:pt x="116" y="1530"/>
                  </a:lnTo>
                  <a:lnTo>
                    <a:pt x="102" y="1514"/>
                  </a:lnTo>
                  <a:lnTo>
                    <a:pt x="90" y="1496"/>
                  </a:lnTo>
                  <a:lnTo>
                    <a:pt x="78" y="1478"/>
                  </a:lnTo>
                  <a:lnTo>
                    <a:pt x="68" y="1459"/>
                  </a:lnTo>
                  <a:lnTo>
                    <a:pt x="58" y="1439"/>
                  </a:lnTo>
                  <a:lnTo>
                    <a:pt x="49" y="1418"/>
                  </a:lnTo>
                  <a:lnTo>
                    <a:pt x="40" y="1396"/>
                  </a:lnTo>
                  <a:lnTo>
                    <a:pt x="25" y="1352"/>
                  </a:lnTo>
                  <a:lnTo>
                    <a:pt x="14" y="1303"/>
                  </a:lnTo>
                  <a:lnTo>
                    <a:pt x="6" y="1252"/>
                  </a:lnTo>
                  <a:lnTo>
                    <a:pt x="2" y="1199"/>
                  </a:lnTo>
                  <a:lnTo>
                    <a:pt x="0" y="1141"/>
                  </a:lnTo>
                  <a:lnTo>
                    <a:pt x="3" y="1044"/>
                  </a:lnTo>
                  <a:lnTo>
                    <a:pt x="11" y="950"/>
                  </a:lnTo>
                  <a:lnTo>
                    <a:pt x="24" y="859"/>
                  </a:lnTo>
                  <a:lnTo>
                    <a:pt x="44" y="770"/>
                  </a:lnTo>
                  <a:lnTo>
                    <a:pt x="68" y="683"/>
                  </a:lnTo>
                  <a:lnTo>
                    <a:pt x="97" y="599"/>
                  </a:lnTo>
                  <a:lnTo>
                    <a:pt x="133" y="518"/>
                  </a:lnTo>
                  <a:lnTo>
                    <a:pt x="174" y="439"/>
                  </a:lnTo>
                  <a:lnTo>
                    <a:pt x="234" y="336"/>
                  </a:lnTo>
                  <a:lnTo>
                    <a:pt x="264" y="290"/>
                  </a:lnTo>
                  <a:lnTo>
                    <a:pt x="297" y="246"/>
                  </a:lnTo>
                  <a:lnTo>
                    <a:pt x="329" y="207"/>
                  </a:lnTo>
                  <a:lnTo>
                    <a:pt x="363" y="171"/>
                  </a:lnTo>
                  <a:lnTo>
                    <a:pt x="397" y="139"/>
                  </a:lnTo>
                  <a:lnTo>
                    <a:pt x="433" y="110"/>
                  </a:lnTo>
                  <a:lnTo>
                    <a:pt x="469" y="84"/>
                  </a:lnTo>
                  <a:lnTo>
                    <a:pt x="506" y="61"/>
                  </a:lnTo>
                  <a:lnTo>
                    <a:pt x="544" y="42"/>
                  </a:lnTo>
                  <a:lnTo>
                    <a:pt x="582" y="27"/>
                  </a:lnTo>
                  <a:lnTo>
                    <a:pt x="622" y="15"/>
                  </a:lnTo>
                  <a:lnTo>
                    <a:pt x="663" y="6"/>
                  </a:lnTo>
                  <a:lnTo>
                    <a:pt x="704" y="1"/>
                  </a:lnTo>
                  <a:close/>
                  <a:moveTo>
                    <a:pt x="623" y="210"/>
                  </a:moveTo>
                  <a:lnTo>
                    <a:pt x="610" y="212"/>
                  </a:lnTo>
                  <a:lnTo>
                    <a:pt x="597" y="214"/>
                  </a:lnTo>
                  <a:lnTo>
                    <a:pt x="583" y="218"/>
                  </a:lnTo>
                  <a:lnTo>
                    <a:pt x="570" y="223"/>
                  </a:lnTo>
                  <a:lnTo>
                    <a:pt x="557" y="231"/>
                  </a:lnTo>
                  <a:lnTo>
                    <a:pt x="544" y="240"/>
                  </a:lnTo>
                  <a:lnTo>
                    <a:pt x="531" y="250"/>
                  </a:lnTo>
                  <a:lnTo>
                    <a:pt x="517" y="263"/>
                  </a:lnTo>
                  <a:lnTo>
                    <a:pt x="504" y="276"/>
                  </a:lnTo>
                  <a:lnTo>
                    <a:pt x="490" y="291"/>
                  </a:lnTo>
                  <a:lnTo>
                    <a:pt x="463" y="327"/>
                  </a:lnTo>
                  <a:lnTo>
                    <a:pt x="437" y="369"/>
                  </a:lnTo>
                  <a:lnTo>
                    <a:pt x="410" y="417"/>
                  </a:lnTo>
                  <a:lnTo>
                    <a:pt x="384" y="472"/>
                  </a:lnTo>
                  <a:lnTo>
                    <a:pt x="363" y="532"/>
                  </a:lnTo>
                  <a:lnTo>
                    <a:pt x="344" y="597"/>
                  </a:lnTo>
                  <a:lnTo>
                    <a:pt x="329" y="667"/>
                  </a:lnTo>
                  <a:lnTo>
                    <a:pt x="317" y="743"/>
                  </a:lnTo>
                  <a:lnTo>
                    <a:pt x="309" y="825"/>
                  </a:lnTo>
                  <a:lnTo>
                    <a:pt x="304" y="911"/>
                  </a:lnTo>
                  <a:lnTo>
                    <a:pt x="302" y="1003"/>
                  </a:lnTo>
                  <a:lnTo>
                    <a:pt x="303" y="1058"/>
                  </a:lnTo>
                  <a:lnTo>
                    <a:pt x="306" y="1110"/>
                  </a:lnTo>
                  <a:lnTo>
                    <a:pt x="311" y="1159"/>
                  </a:lnTo>
                  <a:lnTo>
                    <a:pt x="318" y="1205"/>
                  </a:lnTo>
                  <a:lnTo>
                    <a:pt x="328" y="1247"/>
                  </a:lnTo>
                  <a:lnTo>
                    <a:pt x="339" y="1287"/>
                  </a:lnTo>
                  <a:lnTo>
                    <a:pt x="353" y="1322"/>
                  </a:lnTo>
                  <a:lnTo>
                    <a:pt x="368" y="1356"/>
                  </a:lnTo>
                  <a:lnTo>
                    <a:pt x="373" y="1366"/>
                  </a:lnTo>
                  <a:lnTo>
                    <a:pt x="379" y="1375"/>
                  </a:lnTo>
                  <a:lnTo>
                    <a:pt x="385" y="1384"/>
                  </a:lnTo>
                  <a:lnTo>
                    <a:pt x="391" y="1391"/>
                  </a:lnTo>
                  <a:lnTo>
                    <a:pt x="397" y="1399"/>
                  </a:lnTo>
                  <a:lnTo>
                    <a:pt x="403" y="1405"/>
                  </a:lnTo>
                  <a:lnTo>
                    <a:pt x="411" y="1412"/>
                  </a:lnTo>
                  <a:lnTo>
                    <a:pt x="418" y="1417"/>
                  </a:lnTo>
                  <a:lnTo>
                    <a:pt x="425" y="1422"/>
                  </a:lnTo>
                  <a:lnTo>
                    <a:pt x="432" y="1426"/>
                  </a:lnTo>
                  <a:lnTo>
                    <a:pt x="440" y="1430"/>
                  </a:lnTo>
                  <a:lnTo>
                    <a:pt x="447" y="1432"/>
                  </a:lnTo>
                  <a:lnTo>
                    <a:pt x="455" y="1435"/>
                  </a:lnTo>
                  <a:lnTo>
                    <a:pt x="463" y="1436"/>
                  </a:lnTo>
                  <a:lnTo>
                    <a:pt x="472" y="1437"/>
                  </a:lnTo>
                  <a:lnTo>
                    <a:pt x="481" y="1437"/>
                  </a:lnTo>
                  <a:lnTo>
                    <a:pt x="494" y="1436"/>
                  </a:lnTo>
                  <a:lnTo>
                    <a:pt x="507" y="1435"/>
                  </a:lnTo>
                  <a:lnTo>
                    <a:pt x="520" y="1431"/>
                  </a:lnTo>
                  <a:lnTo>
                    <a:pt x="534" y="1426"/>
                  </a:lnTo>
                  <a:lnTo>
                    <a:pt x="547" y="1419"/>
                  </a:lnTo>
                  <a:lnTo>
                    <a:pt x="560" y="1410"/>
                  </a:lnTo>
                  <a:lnTo>
                    <a:pt x="573" y="1402"/>
                  </a:lnTo>
                  <a:lnTo>
                    <a:pt x="586" y="1390"/>
                  </a:lnTo>
                  <a:lnTo>
                    <a:pt x="600" y="1377"/>
                  </a:lnTo>
                  <a:lnTo>
                    <a:pt x="613" y="1365"/>
                  </a:lnTo>
                  <a:lnTo>
                    <a:pt x="639" y="1331"/>
                  </a:lnTo>
                  <a:lnTo>
                    <a:pt x="666" y="1293"/>
                  </a:lnTo>
                  <a:lnTo>
                    <a:pt x="693" y="1250"/>
                  </a:lnTo>
                  <a:lnTo>
                    <a:pt x="718" y="1192"/>
                  </a:lnTo>
                  <a:lnTo>
                    <a:pt x="739" y="1131"/>
                  </a:lnTo>
                  <a:lnTo>
                    <a:pt x="757" y="1066"/>
                  </a:lnTo>
                  <a:lnTo>
                    <a:pt x="773" y="997"/>
                  </a:lnTo>
                  <a:lnTo>
                    <a:pt x="784" y="923"/>
                  </a:lnTo>
                  <a:lnTo>
                    <a:pt x="792" y="845"/>
                  </a:lnTo>
                  <a:lnTo>
                    <a:pt x="797" y="763"/>
                  </a:lnTo>
                  <a:lnTo>
                    <a:pt x="799" y="678"/>
                  </a:lnTo>
                  <a:lnTo>
                    <a:pt x="798" y="615"/>
                  </a:lnTo>
                  <a:lnTo>
                    <a:pt x="796" y="558"/>
                  </a:lnTo>
                  <a:lnTo>
                    <a:pt x="792" y="504"/>
                  </a:lnTo>
                  <a:lnTo>
                    <a:pt x="786" y="457"/>
                  </a:lnTo>
                  <a:lnTo>
                    <a:pt x="779" y="413"/>
                  </a:lnTo>
                  <a:lnTo>
                    <a:pt x="769" y="375"/>
                  </a:lnTo>
                  <a:lnTo>
                    <a:pt x="764" y="359"/>
                  </a:lnTo>
                  <a:lnTo>
                    <a:pt x="759" y="342"/>
                  </a:lnTo>
                  <a:lnTo>
                    <a:pt x="753" y="328"/>
                  </a:lnTo>
                  <a:lnTo>
                    <a:pt x="747" y="314"/>
                  </a:lnTo>
                  <a:lnTo>
                    <a:pt x="734" y="290"/>
                  </a:lnTo>
                  <a:lnTo>
                    <a:pt x="720" y="269"/>
                  </a:lnTo>
                  <a:lnTo>
                    <a:pt x="713" y="259"/>
                  </a:lnTo>
                  <a:lnTo>
                    <a:pt x="704" y="251"/>
                  </a:lnTo>
                  <a:lnTo>
                    <a:pt x="697" y="244"/>
                  </a:lnTo>
                  <a:lnTo>
                    <a:pt x="690" y="236"/>
                  </a:lnTo>
                  <a:lnTo>
                    <a:pt x="682" y="231"/>
                  </a:lnTo>
                  <a:lnTo>
                    <a:pt x="674" y="225"/>
                  </a:lnTo>
                  <a:lnTo>
                    <a:pt x="666" y="221"/>
                  </a:lnTo>
                  <a:lnTo>
                    <a:pt x="658" y="217"/>
                  </a:lnTo>
                  <a:lnTo>
                    <a:pt x="649" y="214"/>
                  </a:lnTo>
                  <a:lnTo>
                    <a:pt x="640" y="212"/>
                  </a:lnTo>
                  <a:lnTo>
                    <a:pt x="632" y="21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97360" y="0"/>
              <a:ext cx="399960" cy="966960"/>
            </a:xfrm>
            <a:custGeom>
              <a:avLst/>
              <a:gdLst/>
              <a:ahLst/>
              <a:rect l="l" t="t" r="r" b="b"/>
              <a:pathLst>
                <a:path w="1111" h="2685">
                  <a:moveTo>
                    <a:pt x="169" y="113"/>
                  </a:moveTo>
                  <a:lnTo>
                    <a:pt x="216" y="0"/>
                  </a:lnTo>
                  <a:lnTo>
                    <a:pt x="324" y="15"/>
                  </a:lnTo>
                  <a:lnTo>
                    <a:pt x="426" y="38"/>
                  </a:lnTo>
                  <a:lnTo>
                    <a:pt x="520" y="70"/>
                  </a:lnTo>
                  <a:lnTo>
                    <a:pt x="608" y="111"/>
                  </a:lnTo>
                  <a:lnTo>
                    <a:pt x="688" y="160"/>
                  </a:lnTo>
                  <a:lnTo>
                    <a:pt x="761" y="219"/>
                  </a:lnTo>
                  <a:lnTo>
                    <a:pt x="827" y="285"/>
                  </a:lnTo>
                  <a:lnTo>
                    <a:pt x="886" y="361"/>
                  </a:lnTo>
                  <a:lnTo>
                    <a:pt x="939" y="445"/>
                  </a:lnTo>
                  <a:lnTo>
                    <a:pt x="984" y="538"/>
                  </a:lnTo>
                  <a:lnTo>
                    <a:pt x="1022" y="639"/>
                  </a:lnTo>
                  <a:lnTo>
                    <a:pt x="1054" y="750"/>
                  </a:lnTo>
                  <a:lnTo>
                    <a:pt x="1078" y="869"/>
                  </a:lnTo>
                  <a:lnTo>
                    <a:pt x="1096" y="995"/>
                  </a:lnTo>
                  <a:lnTo>
                    <a:pt x="1107" y="1132"/>
                  </a:lnTo>
                  <a:lnTo>
                    <a:pt x="1110" y="1276"/>
                  </a:lnTo>
                  <a:lnTo>
                    <a:pt x="1107" y="1422"/>
                  </a:lnTo>
                  <a:lnTo>
                    <a:pt x="1097" y="1561"/>
                  </a:lnTo>
                  <a:lnTo>
                    <a:pt x="1080" y="1694"/>
                  </a:lnTo>
                  <a:lnTo>
                    <a:pt x="1057" y="1822"/>
                  </a:lnTo>
                  <a:lnTo>
                    <a:pt x="1028" y="1944"/>
                  </a:lnTo>
                  <a:lnTo>
                    <a:pt x="991" y="2060"/>
                  </a:lnTo>
                  <a:lnTo>
                    <a:pt x="948" y="2171"/>
                  </a:lnTo>
                  <a:lnTo>
                    <a:pt x="898" y="2276"/>
                  </a:lnTo>
                  <a:lnTo>
                    <a:pt x="845" y="2371"/>
                  </a:lnTo>
                  <a:lnTo>
                    <a:pt x="815" y="2415"/>
                  </a:lnTo>
                  <a:lnTo>
                    <a:pt x="787" y="2454"/>
                  </a:lnTo>
                  <a:lnTo>
                    <a:pt x="756" y="2491"/>
                  </a:lnTo>
                  <a:lnTo>
                    <a:pt x="725" y="2525"/>
                  </a:lnTo>
                  <a:lnTo>
                    <a:pt x="693" y="2555"/>
                  </a:lnTo>
                  <a:lnTo>
                    <a:pt x="660" y="2582"/>
                  </a:lnTo>
                  <a:lnTo>
                    <a:pt x="626" y="2606"/>
                  </a:lnTo>
                  <a:lnTo>
                    <a:pt x="591" y="2627"/>
                  </a:lnTo>
                  <a:lnTo>
                    <a:pt x="557" y="2645"/>
                  </a:lnTo>
                  <a:lnTo>
                    <a:pt x="520" y="2659"/>
                  </a:lnTo>
                  <a:lnTo>
                    <a:pt x="483" y="2670"/>
                  </a:lnTo>
                  <a:lnTo>
                    <a:pt x="445" y="2678"/>
                  </a:lnTo>
                  <a:lnTo>
                    <a:pt x="406" y="2683"/>
                  </a:lnTo>
                  <a:lnTo>
                    <a:pt x="367" y="2684"/>
                  </a:lnTo>
                  <a:lnTo>
                    <a:pt x="324" y="2682"/>
                  </a:lnTo>
                  <a:lnTo>
                    <a:pt x="304" y="2679"/>
                  </a:lnTo>
                  <a:lnTo>
                    <a:pt x="283" y="2675"/>
                  </a:lnTo>
                  <a:lnTo>
                    <a:pt x="264" y="2669"/>
                  </a:lnTo>
                  <a:lnTo>
                    <a:pt x="246" y="2662"/>
                  </a:lnTo>
                  <a:lnTo>
                    <a:pt x="227" y="2655"/>
                  </a:lnTo>
                  <a:lnTo>
                    <a:pt x="210" y="2646"/>
                  </a:lnTo>
                  <a:lnTo>
                    <a:pt x="193" y="2636"/>
                  </a:lnTo>
                  <a:lnTo>
                    <a:pt x="177" y="2624"/>
                  </a:lnTo>
                  <a:lnTo>
                    <a:pt x="161" y="2611"/>
                  </a:lnTo>
                  <a:lnTo>
                    <a:pt x="147" y="2599"/>
                  </a:lnTo>
                  <a:lnTo>
                    <a:pt x="133" y="2583"/>
                  </a:lnTo>
                  <a:lnTo>
                    <a:pt x="120" y="2567"/>
                  </a:lnTo>
                  <a:lnTo>
                    <a:pt x="106" y="2550"/>
                  </a:lnTo>
                  <a:lnTo>
                    <a:pt x="94" y="2531"/>
                  </a:lnTo>
                  <a:lnTo>
                    <a:pt x="72" y="2493"/>
                  </a:lnTo>
                  <a:lnTo>
                    <a:pt x="52" y="2452"/>
                  </a:lnTo>
                  <a:lnTo>
                    <a:pt x="36" y="2410"/>
                  </a:lnTo>
                  <a:lnTo>
                    <a:pt x="23" y="2366"/>
                  </a:lnTo>
                  <a:lnTo>
                    <a:pt x="13" y="2320"/>
                  </a:lnTo>
                  <a:lnTo>
                    <a:pt x="6" y="2274"/>
                  </a:lnTo>
                  <a:lnTo>
                    <a:pt x="1" y="2225"/>
                  </a:lnTo>
                  <a:lnTo>
                    <a:pt x="0" y="2175"/>
                  </a:lnTo>
                  <a:lnTo>
                    <a:pt x="3" y="2073"/>
                  </a:lnTo>
                  <a:lnTo>
                    <a:pt x="13" y="1972"/>
                  </a:lnTo>
                  <a:lnTo>
                    <a:pt x="29" y="1874"/>
                  </a:lnTo>
                  <a:lnTo>
                    <a:pt x="52" y="1777"/>
                  </a:lnTo>
                  <a:lnTo>
                    <a:pt x="81" y="1682"/>
                  </a:lnTo>
                  <a:lnTo>
                    <a:pt x="118" y="1589"/>
                  </a:lnTo>
                  <a:lnTo>
                    <a:pt x="159" y="1498"/>
                  </a:lnTo>
                  <a:lnTo>
                    <a:pt x="208" y="1410"/>
                  </a:lnTo>
                  <a:lnTo>
                    <a:pt x="261" y="1327"/>
                  </a:lnTo>
                  <a:lnTo>
                    <a:pt x="315" y="1256"/>
                  </a:lnTo>
                  <a:lnTo>
                    <a:pt x="370" y="1196"/>
                  </a:lnTo>
                  <a:lnTo>
                    <a:pt x="398" y="1169"/>
                  </a:lnTo>
                  <a:lnTo>
                    <a:pt x="426" y="1146"/>
                  </a:lnTo>
                  <a:lnTo>
                    <a:pt x="454" y="1125"/>
                  </a:lnTo>
                  <a:lnTo>
                    <a:pt x="484" y="1108"/>
                  </a:lnTo>
                  <a:lnTo>
                    <a:pt x="512" y="1092"/>
                  </a:lnTo>
                  <a:lnTo>
                    <a:pt x="542" y="1080"/>
                  </a:lnTo>
                  <a:lnTo>
                    <a:pt x="571" y="1071"/>
                  </a:lnTo>
                  <a:lnTo>
                    <a:pt x="602" y="1063"/>
                  </a:lnTo>
                  <a:lnTo>
                    <a:pt x="631" y="1059"/>
                  </a:lnTo>
                  <a:lnTo>
                    <a:pt x="662" y="1058"/>
                  </a:lnTo>
                  <a:lnTo>
                    <a:pt x="680" y="1059"/>
                  </a:lnTo>
                  <a:lnTo>
                    <a:pt x="697" y="1060"/>
                  </a:lnTo>
                  <a:lnTo>
                    <a:pt x="714" y="1064"/>
                  </a:lnTo>
                  <a:lnTo>
                    <a:pt x="731" y="1068"/>
                  </a:lnTo>
                  <a:lnTo>
                    <a:pt x="746" y="1074"/>
                  </a:lnTo>
                  <a:lnTo>
                    <a:pt x="760" y="1082"/>
                  </a:lnTo>
                  <a:lnTo>
                    <a:pt x="773" y="1090"/>
                  </a:lnTo>
                  <a:lnTo>
                    <a:pt x="786" y="1100"/>
                  </a:lnTo>
                  <a:lnTo>
                    <a:pt x="798" y="1111"/>
                  </a:lnTo>
                  <a:lnTo>
                    <a:pt x="809" y="1123"/>
                  </a:lnTo>
                  <a:lnTo>
                    <a:pt x="819" y="1137"/>
                  </a:lnTo>
                  <a:lnTo>
                    <a:pt x="828" y="1152"/>
                  </a:lnTo>
                  <a:lnTo>
                    <a:pt x="837" y="1169"/>
                  </a:lnTo>
                  <a:lnTo>
                    <a:pt x="845" y="1185"/>
                  </a:lnTo>
                  <a:lnTo>
                    <a:pt x="852" y="1205"/>
                  </a:lnTo>
                  <a:lnTo>
                    <a:pt x="858" y="1225"/>
                  </a:lnTo>
                  <a:lnTo>
                    <a:pt x="855" y="1106"/>
                  </a:lnTo>
                  <a:lnTo>
                    <a:pt x="848" y="995"/>
                  </a:lnTo>
                  <a:lnTo>
                    <a:pt x="835" y="891"/>
                  </a:lnTo>
                  <a:lnTo>
                    <a:pt x="819" y="794"/>
                  </a:lnTo>
                  <a:lnTo>
                    <a:pt x="797" y="703"/>
                  </a:lnTo>
                  <a:lnTo>
                    <a:pt x="771" y="619"/>
                  </a:lnTo>
                  <a:lnTo>
                    <a:pt x="740" y="541"/>
                  </a:lnTo>
                  <a:lnTo>
                    <a:pt x="723" y="505"/>
                  </a:lnTo>
                  <a:lnTo>
                    <a:pt x="704" y="471"/>
                  </a:lnTo>
                  <a:lnTo>
                    <a:pt x="685" y="437"/>
                  </a:lnTo>
                  <a:lnTo>
                    <a:pt x="663" y="407"/>
                  </a:lnTo>
                  <a:lnTo>
                    <a:pt x="639" y="377"/>
                  </a:lnTo>
                  <a:lnTo>
                    <a:pt x="614" y="348"/>
                  </a:lnTo>
                  <a:lnTo>
                    <a:pt x="587" y="321"/>
                  </a:lnTo>
                  <a:lnTo>
                    <a:pt x="558" y="296"/>
                  </a:lnTo>
                  <a:lnTo>
                    <a:pt x="527" y="271"/>
                  </a:lnTo>
                  <a:lnTo>
                    <a:pt x="495" y="248"/>
                  </a:lnTo>
                  <a:lnTo>
                    <a:pt x="425" y="206"/>
                  </a:lnTo>
                  <a:lnTo>
                    <a:pt x="346" y="169"/>
                  </a:lnTo>
                  <a:lnTo>
                    <a:pt x="262" y="139"/>
                  </a:lnTo>
                  <a:close/>
                  <a:moveTo>
                    <a:pt x="805" y="1722"/>
                  </a:moveTo>
                  <a:lnTo>
                    <a:pt x="804" y="1669"/>
                  </a:lnTo>
                  <a:lnTo>
                    <a:pt x="802" y="1620"/>
                  </a:lnTo>
                  <a:lnTo>
                    <a:pt x="799" y="1574"/>
                  </a:lnTo>
                  <a:lnTo>
                    <a:pt x="794" y="1529"/>
                  </a:lnTo>
                  <a:lnTo>
                    <a:pt x="787" y="1487"/>
                  </a:lnTo>
                  <a:lnTo>
                    <a:pt x="778" y="1448"/>
                  </a:lnTo>
                  <a:lnTo>
                    <a:pt x="769" y="1411"/>
                  </a:lnTo>
                  <a:lnTo>
                    <a:pt x="758" y="1377"/>
                  </a:lnTo>
                  <a:lnTo>
                    <a:pt x="746" y="1346"/>
                  </a:lnTo>
                  <a:lnTo>
                    <a:pt x="740" y="1332"/>
                  </a:lnTo>
                  <a:lnTo>
                    <a:pt x="733" y="1320"/>
                  </a:lnTo>
                  <a:lnTo>
                    <a:pt x="726" y="1308"/>
                  </a:lnTo>
                  <a:lnTo>
                    <a:pt x="718" y="1298"/>
                  </a:lnTo>
                  <a:lnTo>
                    <a:pt x="710" y="1288"/>
                  </a:lnTo>
                  <a:lnTo>
                    <a:pt x="702" y="1280"/>
                  </a:lnTo>
                  <a:lnTo>
                    <a:pt x="694" y="1272"/>
                  </a:lnTo>
                  <a:lnTo>
                    <a:pt x="686" y="1265"/>
                  </a:lnTo>
                  <a:lnTo>
                    <a:pt x="677" y="1260"/>
                  </a:lnTo>
                  <a:lnTo>
                    <a:pt x="668" y="1254"/>
                  </a:lnTo>
                  <a:lnTo>
                    <a:pt x="658" y="1252"/>
                  </a:lnTo>
                  <a:lnTo>
                    <a:pt x="648" y="1249"/>
                  </a:lnTo>
                  <a:lnTo>
                    <a:pt x="638" y="1247"/>
                  </a:lnTo>
                  <a:lnTo>
                    <a:pt x="628" y="1247"/>
                  </a:lnTo>
                  <a:lnTo>
                    <a:pt x="611" y="1248"/>
                  </a:lnTo>
                  <a:lnTo>
                    <a:pt x="594" y="1251"/>
                  </a:lnTo>
                  <a:lnTo>
                    <a:pt x="577" y="1256"/>
                  </a:lnTo>
                  <a:lnTo>
                    <a:pt x="562" y="1262"/>
                  </a:lnTo>
                  <a:lnTo>
                    <a:pt x="546" y="1271"/>
                  </a:lnTo>
                  <a:lnTo>
                    <a:pt x="530" y="1281"/>
                  </a:lnTo>
                  <a:lnTo>
                    <a:pt x="516" y="1294"/>
                  </a:lnTo>
                  <a:lnTo>
                    <a:pt x="501" y="1308"/>
                  </a:lnTo>
                  <a:lnTo>
                    <a:pt x="487" y="1325"/>
                  </a:lnTo>
                  <a:lnTo>
                    <a:pt x="473" y="1342"/>
                  </a:lnTo>
                  <a:lnTo>
                    <a:pt x="460" y="1363"/>
                  </a:lnTo>
                  <a:lnTo>
                    <a:pt x="447" y="1385"/>
                  </a:lnTo>
                  <a:lnTo>
                    <a:pt x="422" y="1434"/>
                  </a:lnTo>
                  <a:lnTo>
                    <a:pt x="398" y="1492"/>
                  </a:lnTo>
                  <a:lnTo>
                    <a:pt x="377" y="1554"/>
                  </a:lnTo>
                  <a:lnTo>
                    <a:pt x="359" y="1617"/>
                  </a:lnTo>
                  <a:lnTo>
                    <a:pt x="342" y="1682"/>
                  </a:lnTo>
                  <a:lnTo>
                    <a:pt x="330" y="1747"/>
                  </a:lnTo>
                  <a:lnTo>
                    <a:pt x="320" y="1815"/>
                  </a:lnTo>
                  <a:lnTo>
                    <a:pt x="313" y="1882"/>
                  </a:lnTo>
                  <a:lnTo>
                    <a:pt x="308" y="1953"/>
                  </a:lnTo>
                  <a:lnTo>
                    <a:pt x="307" y="2023"/>
                  </a:lnTo>
                  <a:lnTo>
                    <a:pt x="308" y="2070"/>
                  </a:lnTo>
                  <a:lnTo>
                    <a:pt x="310" y="2116"/>
                  </a:lnTo>
                  <a:lnTo>
                    <a:pt x="313" y="2160"/>
                  </a:lnTo>
                  <a:lnTo>
                    <a:pt x="318" y="2202"/>
                  </a:lnTo>
                  <a:lnTo>
                    <a:pt x="325" y="2240"/>
                  </a:lnTo>
                  <a:lnTo>
                    <a:pt x="332" y="2278"/>
                  </a:lnTo>
                  <a:lnTo>
                    <a:pt x="341" y="2313"/>
                  </a:lnTo>
                  <a:lnTo>
                    <a:pt x="352" y="2346"/>
                  </a:lnTo>
                  <a:lnTo>
                    <a:pt x="365" y="2375"/>
                  </a:lnTo>
                  <a:lnTo>
                    <a:pt x="371" y="2389"/>
                  </a:lnTo>
                  <a:lnTo>
                    <a:pt x="378" y="2401"/>
                  </a:lnTo>
                  <a:lnTo>
                    <a:pt x="385" y="2412"/>
                  </a:lnTo>
                  <a:lnTo>
                    <a:pt x="392" y="2422"/>
                  </a:lnTo>
                  <a:lnTo>
                    <a:pt x="400" y="2433"/>
                  </a:lnTo>
                  <a:lnTo>
                    <a:pt x="407" y="2440"/>
                  </a:lnTo>
                  <a:lnTo>
                    <a:pt x="415" y="2448"/>
                  </a:lnTo>
                  <a:lnTo>
                    <a:pt x="424" y="2454"/>
                  </a:lnTo>
                  <a:lnTo>
                    <a:pt x="432" y="2460"/>
                  </a:lnTo>
                  <a:lnTo>
                    <a:pt x="441" y="2465"/>
                  </a:lnTo>
                  <a:lnTo>
                    <a:pt x="450" y="2468"/>
                  </a:lnTo>
                  <a:lnTo>
                    <a:pt x="459" y="2470"/>
                  </a:lnTo>
                  <a:lnTo>
                    <a:pt x="468" y="2472"/>
                  </a:lnTo>
                  <a:lnTo>
                    <a:pt x="479" y="2472"/>
                  </a:lnTo>
                  <a:lnTo>
                    <a:pt x="495" y="2471"/>
                  </a:lnTo>
                  <a:lnTo>
                    <a:pt x="511" y="2468"/>
                  </a:lnTo>
                  <a:lnTo>
                    <a:pt x="527" y="2463"/>
                  </a:lnTo>
                  <a:lnTo>
                    <a:pt x="543" y="2457"/>
                  </a:lnTo>
                  <a:lnTo>
                    <a:pt x="558" y="2449"/>
                  </a:lnTo>
                  <a:lnTo>
                    <a:pt x="573" y="2439"/>
                  </a:lnTo>
                  <a:lnTo>
                    <a:pt x="588" y="2426"/>
                  </a:lnTo>
                  <a:lnTo>
                    <a:pt x="603" y="2414"/>
                  </a:lnTo>
                  <a:lnTo>
                    <a:pt x="617" y="2397"/>
                  </a:lnTo>
                  <a:lnTo>
                    <a:pt x="631" y="2380"/>
                  </a:lnTo>
                  <a:lnTo>
                    <a:pt x="644" y="2360"/>
                  </a:lnTo>
                  <a:lnTo>
                    <a:pt x="657" y="2340"/>
                  </a:lnTo>
                  <a:lnTo>
                    <a:pt x="684" y="2291"/>
                  </a:lnTo>
                  <a:lnTo>
                    <a:pt x="708" y="2236"/>
                  </a:lnTo>
                  <a:lnTo>
                    <a:pt x="731" y="2176"/>
                  </a:lnTo>
                  <a:lnTo>
                    <a:pt x="750" y="2115"/>
                  </a:lnTo>
                  <a:lnTo>
                    <a:pt x="767" y="2052"/>
                  </a:lnTo>
                  <a:lnTo>
                    <a:pt x="780" y="1988"/>
                  </a:lnTo>
                  <a:lnTo>
                    <a:pt x="792" y="1925"/>
                  </a:lnTo>
                  <a:lnTo>
                    <a:pt x="799" y="1858"/>
                  </a:lnTo>
                  <a:lnTo>
                    <a:pt x="804" y="179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327560" y="372960"/>
              <a:ext cx="641160" cy="598680"/>
            </a:xfrm>
            <a:custGeom>
              <a:avLst/>
              <a:gdLst/>
              <a:ahLst/>
              <a:rect l="l" t="t" r="r" b="b"/>
              <a:pathLst>
                <a:path w="1780" h="1663">
                  <a:moveTo>
                    <a:pt x="514" y="659"/>
                  </a:moveTo>
                  <a:lnTo>
                    <a:pt x="554" y="633"/>
                  </a:lnTo>
                  <a:lnTo>
                    <a:pt x="593" y="612"/>
                  </a:lnTo>
                  <a:lnTo>
                    <a:pt x="630" y="594"/>
                  </a:lnTo>
                  <a:lnTo>
                    <a:pt x="664" y="578"/>
                  </a:lnTo>
                  <a:lnTo>
                    <a:pt x="697" y="567"/>
                  </a:lnTo>
                  <a:lnTo>
                    <a:pt x="727" y="558"/>
                  </a:lnTo>
                  <a:lnTo>
                    <a:pt x="756" y="553"/>
                  </a:lnTo>
                  <a:lnTo>
                    <a:pt x="782" y="552"/>
                  </a:lnTo>
                  <a:lnTo>
                    <a:pt x="818" y="553"/>
                  </a:lnTo>
                  <a:lnTo>
                    <a:pt x="851" y="558"/>
                  </a:lnTo>
                  <a:lnTo>
                    <a:pt x="884" y="566"/>
                  </a:lnTo>
                  <a:lnTo>
                    <a:pt x="914" y="577"/>
                  </a:lnTo>
                  <a:lnTo>
                    <a:pt x="944" y="592"/>
                  </a:lnTo>
                  <a:lnTo>
                    <a:pt x="971" y="610"/>
                  </a:lnTo>
                  <a:lnTo>
                    <a:pt x="997" y="631"/>
                  </a:lnTo>
                  <a:lnTo>
                    <a:pt x="1021" y="655"/>
                  </a:lnTo>
                  <a:lnTo>
                    <a:pt x="1032" y="668"/>
                  </a:lnTo>
                  <a:lnTo>
                    <a:pt x="1042" y="682"/>
                  </a:lnTo>
                  <a:lnTo>
                    <a:pt x="1053" y="696"/>
                  </a:lnTo>
                  <a:lnTo>
                    <a:pt x="1062" y="711"/>
                  </a:lnTo>
                  <a:lnTo>
                    <a:pt x="1070" y="726"/>
                  </a:lnTo>
                  <a:lnTo>
                    <a:pt x="1077" y="743"/>
                  </a:lnTo>
                  <a:lnTo>
                    <a:pt x="1084" y="760"/>
                  </a:lnTo>
                  <a:lnTo>
                    <a:pt x="1090" y="776"/>
                  </a:lnTo>
                  <a:lnTo>
                    <a:pt x="1095" y="794"/>
                  </a:lnTo>
                  <a:lnTo>
                    <a:pt x="1100" y="812"/>
                  </a:lnTo>
                  <a:lnTo>
                    <a:pt x="1104" y="831"/>
                  </a:lnTo>
                  <a:lnTo>
                    <a:pt x="1108" y="850"/>
                  </a:lnTo>
                  <a:lnTo>
                    <a:pt x="1113" y="891"/>
                  </a:lnTo>
                  <a:lnTo>
                    <a:pt x="1114" y="933"/>
                  </a:lnTo>
                  <a:lnTo>
                    <a:pt x="1113" y="970"/>
                  </a:lnTo>
                  <a:lnTo>
                    <a:pt x="1111" y="1006"/>
                  </a:lnTo>
                  <a:lnTo>
                    <a:pt x="1106" y="1042"/>
                  </a:lnTo>
                  <a:lnTo>
                    <a:pt x="1100" y="1076"/>
                  </a:lnTo>
                  <a:lnTo>
                    <a:pt x="1093" y="1111"/>
                  </a:lnTo>
                  <a:lnTo>
                    <a:pt x="1084" y="1144"/>
                  </a:lnTo>
                  <a:lnTo>
                    <a:pt x="1073" y="1177"/>
                  </a:lnTo>
                  <a:lnTo>
                    <a:pt x="1061" y="1209"/>
                  </a:lnTo>
                  <a:lnTo>
                    <a:pt x="1047" y="1241"/>
                  </a:lnTo>
                  <a:lnTo>
                    <a:pt x="1031" y="1272"/>
                  </a:lnTo>
                  <a:lnTo>
                    <a:pt x="1014" y="1301"/>
                  </a:lnTo>
                  <a:lnTo>
                    <a:pt x="995" y="1332"/>
                  </a:lnTo>
                  <a:lnTo>
                    <a:pt x="952" y="1388"/>
                  </a:lnTo>
                  <a:lnTo>
                    <a:pt x="902" y="1443"/>
                  </a:lnTo>
                  <a:lnTo>
                    <a:pt x="849" y="1492"/>
                  </a:lnTo>
                  <a:lnTo>
                    <a:pt x="794" y="1536"/>
                  </a:lnTo>
                  <a:lnTo>
                    <a:pt x="738" y="1573"/>
                  </a:lnTo>
                  <a:lnTo>
                    <a:pt x="682" y="1602"/>
                  </a:lnTo>
                  <a:lnTo>
                    <a:pt x="623" y="1625"/>
                  </a:lnTo>
                  <a:lnTo>
                    <a:pt x="563" y="1643"/>
                  </a:lnTo>
                  <a:lnTo>
                    <a:pt x="502" y="1652"/>
                  </a:lnTo>
                  <a:lnTo>
                    <a:pt x="439" y="1656"/>
                  </a:lnTo>
                  <a:lnTo>
                    <a:pt x="364" y="1652"/>
                  </a:lnTo>
                  <a:lnTo>
                    <a:pt x="331" y="1647"/>
                  </a:lnTo>
                  <a:lnTo>
                    <a:pt x="300" y="1639"/>
                  </a:lnTo>
                  <a:lnTo>
                    <a:pt x="271" y="1630"/>
                  </a:lnTo>
                  <a:lnTo>
                    <a:pt x="245" y="1619"/>
                  </a:lnTo>
                  <a:lnTo>
                    <a:pt x="222" y="1605"/>
                  </a:lnTo>
                  <a:lnTo>
                    <a:pt x="201" y="1589"/>
                  </a:lnTo>
                  <a:lnTo>
                    <a:pt x="182" y="1573"/>
                  </a:lnTo>
                  <a:lnTo>
                    <a:pt x="166" y="1552"/>
                  </a:lnTo>
                  <a:lnTo>
                    <a:pt x="152" y="1531"/>
                  </a:lnTo>
                  <a:lnTo>
                    <a:pt x="142" y="1508"/>
                  </a:lnTo>
                  <a:lnTo>
                    <a:pt x="132" y="1481"/>
                  </a:lnTo>
                  <a:lnTo>
                    <a:pt x="126" y="1454"/>
                  </a:lnTo>
                  <a:lnTo>
                    <a:pt x="122" y="1424"/>
                  </a:lnTo>
                  <a:lnTo>
                    <a:pt x="121" y="1392"/>
                  </a:lnTo>
                  <a:lnTo>
                    <a:pt x="122" y="1371"/>
                  </a:lnTo>
                  <a:lnTo>
                    <a:pt x="125" y="1343"/>
                  </a:lnTo>
                  <a:lnTo>
                    <a:pt x="136" y="1268"/>
                  </a:lnTo>
                  <a:lnTo>
                    <a:pt x="154" y="1164"/>
                  </a:lnTo>
                  <a:lnTo>
                    <a:pt x="178" y="1033"/>
                  </a:lnTo>
                  <a:lnTo>
                    <a:pt x="306" y="384"/>
                  </a:lnTo>
                  <a:lnTo>
                    <a:pt x="311" y="363"/>
                  </a:lnTo>
                  <a:lnTo>
                    <a:pt x="314" y="344"/>
                  </a:lnTo>
                  <a:lnTo>
                    <a:pt x="315" y="335"/>
                  </a:lnTo>
                  <a:lnTo>
                    <a:pt x="315" y="327"/>
                  </a:lnTo>
                  <a:lnTo>
                    <a:pt x="316" y="321"/>
                  </a:lnTo>
                  <a:lnTo>
                    <a:pt x="316" y="314"/>
                  </a:lnTo>
                  <a:lnTo>
                    <a:pt x="316" y="306"/>
                  </a:lnTo>
                  <a:lnTo>
                    <a:pt x="316" y="301"/>
                  </a:lnTo>
                  <a:lnTo>
                    <a:pt x="316" y="299"/>
                  </a:lnTo>
                  <a:lnTo>
                    <a:pt x="316" y="298"/>
                  </a:lnTo>
                  <a:lnTo>
                    <a:pt x="316" y="298"/>
                  </a:lnTo>
                  <a:lnTo>
                    <a:pt x="315" y="298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5" y="296"/>
                  </a:lnTo>
                  <a:lnTo>
                    <a:pt x="312" y="296"/>
                  </a:lnTo>
                  <a:lnTo>
                    <a:pt x="308" y="298"/>
                  </a:lnTo>
                  <a:lnTo>
                    <a:pt x="301" y="299"/>
                  </a:lnTo>
                  <a:lnTo>
                    <a:pt x="292" y="303"/>
                  </a:lnTo>
                  <a:lnTo>
                    <a:pt x="283" y="309"/>
                  </a:lnTo>
                  <a:lnTo>
                    <a:pt x="261" y="323"/>
                  </a:lnTo>
                  <a:lnTo>
                    <a:pt x="235" y="345"/>
                  </a:lnTo>
                  <a:lnTo>
                    <a:pt x="206" y="373"/>
                  </a:lnTo>
                  <a:lnTo>
                    <a:pt x="173" y="406"/>
                  </a:lnTo>
                  <a:lnTo>
                    <a:pt x="96" y="490"/>
                  </a:lnTo>
                  <a:lnTo>
                    <a:pt x="0" y="395"/>
                  </a:lnTo>
                  <a:lnTo>
                    <a:pt x="79" y="303"/>
                  </a:lnTo>
                  <a:lnTo>
                    <a:pt x="152" y="222"/>
                  </a:lnTo>
                  <a:lnTo>
                    <a:pt x="220" y="155"/>
                  </a:lnTo>
                  <a:lnTo>
                    <a:pt x="283" y="98"/>
                  </a:lnTo>
                  <a:lnTo>
                    <a:pt x="342" y="55"/>
                  </a:lnTo>
                  <a:lnTo>
                    <a:pt x="369" y="38"/>
                  </a:lnTo>
                  <a:lnTo>
                    <a:pt x="396" y="24"/>
                  </a:lnTo>
                  <a:lnTo>
                    <a:pt x="420" y="14"/>
                  </a:lnTo>
                  <a:lnTo>
                    <a:pt x="445" y="6"/>
                  </a:lnTo>
                  <a:lnTo>
                    <a:pt x="467" y="1"/>
                  </a:lnTo>
                  <a:lnTo>
                    <a:pt x="488" y="0"/>
                  </a:lnTo>
                  <a:lnTo>
                    <a:pt x="502" y="1"/>
                  </a:lnTo>
                  <a:lnTo>
                    <a:pt x="514" y="3"/>
                  </a:lnTo>
                  <a:lnTo>
                    <a:pt x="526" y="6"/>
                  </a:lnTo>
                  <a:lnTo>
                    <a:pt x="536" y="10"/>
                  </a:lnTo>
                  <a:lnTo>
                    <a:pt x="546" y="17"/>
                  </a:lnTo>
                  <a:lnTo>
                    <a:pt x="555" y="24"/>
                  </a:lnTo>
                  <a:lnTo>
                    <a:pt x="564" y="32"/>
                  </a:lnTo>
                  <a:lnTo>
                    <a:pt x="572" y="42"/>
                  </a:lnTo>
                  <a:lnTo>
                    <a:pt x="578" y="54"/>
                  </a:lnTo>
                  <a:lnTo>
                    <a:pt x="583" y="66"/>
                  </a:lnTo>
                  <a:lnTo>
                    <a:pt x="588" y="81"/>
                  </a:lnTo>
                  <a:lnTo>
                    <a:pt x="592" y="96"/>
                  </a:lnTo>
                  <a:lnTo>
                    <a:pt x="595" y="112"/>
                  </a:lnTo>
                  <a:lnTo>
                    <a:pt x="597" y="130"/>
                  </a:lnTo>
                  <a:lnTo>
                    <a:pt x="599" y="149"/>
                  </a:lnTo>
                  <a:lnTo>
                    <a:pt x="599" y="170"/>
                  </a:lnTo>
                  <a:lnTo>
                    <a:pt x="598" y="207"/>
                  </a:lnTo>
                  <a:lnTo>
                    <a:pt x="594" y="250"/>
                  </a:lnTo>
                  <a:lnTo>
                    <a:pt x="587" y="300"/>
                  </a:lnTo>
                  <a:lnTo>
                    <a:pt x="578" y="359"/>
                  </a:lnTo>
                  <a:lnTo>
                    <a:pt x="551" y="494"/>
                  </a:lnTo>
                  <a:close/>
                  <a:moveTo>
                    <a:pt x="406" y="1337"/>
                  </a:moveTo>
                  <a:lnTo>
                    <a:pt x="406" y="1352"/>
                  </a:lnTo>
                  <a:lnTo>
                    <a:pt x="407" y="1365"/>
                  </a:lnTo>
                  <a:lnTo>
                    <a:pt x="409" y="1378"/>
                  </a:lnTo>
                  <a:lnTo>
                    <a:pt x="411" y="1389"/>
                  </a:lnTo>
                  <a:lnTo>
                    <a:pt x="413" y="1395"/>
                  </a:lnTo>
                  <a:lnTo>
                    <a:pt x="414" y="1401"/>
                  </a:lnTo>
                  <a:lnTo>
                    <a:pt x="416" y="1406"/>
                  </a:lnTo>
                  <a:lnTo>
                    <a:pt x="418" y="1409"/>
                  </a:lnTo>
                  <a:lnTo>
                    <a:pt x="420" y="1415"/>
                  </a:lnTo>
                  <a:lnTo>
                    <a:pt x="423" y="1418"/>
                  </a:lnTo>
                  <a:lnTo>
                    <a:pt x="425" y="1422"/>
                  </a:lnTo>
                  <a:lnTo>
                    <a:pt x="428" y="1426"/>
                  </a:lnTo>
                  <a:lnTo>
                    <a:pt x="431" y="1430"/>
                  </a:lnTo>
                  <a:lnTo>
                    <a:pt x="434" y="1432"/>
                  </a:lnTo>
                  <a:lnTo>
                    <a:pt x="439" y="1436"/>
                  </a:lnTo>
                  <a:lnTo>
                    <a:pt x="444" y="1439"/>
                  </a:lnTo>
                  <a:lnTo>
                    <a:pt x="448" y="1441"/>
                  </a:lnTo>
                  <a:lnTo>
                    <a:pt x="453" y="1444"/>
                  </a:lnTo>
                  <a:lnTo>
                    <a:pt x="465" y="1448"/>
                  </a:lnTo>
                  <a:lnTo>
                    <a:pt x="478" y="1452"/>
                  </a:lnTo>
                  <a:lnTo>
                    <a:pt x="493" y="1454"/>
                  </a:lnTo>
                  <a:lnTo>
                    <a:pt x="511" y="1455"/>
                  </a:lnTo>
                  <a:lnTo>
                    <a:pt x="529" y="1455"/>
                  </a:lnTo>
                  <a:lnTo>
                    <a:pt x="565" y="1454"/>
                  </a:lnTo>
                  <a:lnTo>
                    <a:pt x="598" y="1449"/>
                  </a:lnTo>
                  <a:lnTo>
                    <a:pt x="631" y="1441"/>
                  </a:lnTo>
                  <a:lnTo>
                    <a:pt x="661" y="1430"/>
                  </a:lnTo>
                  <a:lnTo>
                    <a:pt x="675" y="1422"/>
                  </a:lnTo>
                  <a:lnTo>
                    <a:pt x="690" y="1415"/>
                  </a:lnTo>
                  <a:lnTo>
                    <a:pt x="703" y="1406"/>
                  </a:lnTo>
                  <a:lnTo>
                    <a:pt x="716" y="1397"/>
                  </a:lnTo>
                  <a:lnTo>
                    <a:pt x="728" y="1386"/>
                  </a:lnTo>
                  <a:lnTo>
                    <a:pt x="740" y="1375"/>
                  </a:lnTo>
                  <a:lnTo>
                    <a:pt x="753" y="1364"/>
                  </a:lnTo>
                  <a:lnTo>
                    <a:pt x="764" y="1351"/>
                  </a:lnTo>
                  <a:lnTo>
                    <a:pt x="775" y="1337"/>
                  </a:lnTo>
                  <a:lnTo>
                    <a:pt x="784" y="1323"/>
                  </a:lnTo>
                  <a:lnTo>
                    <a:pt x="794" y="1307"/>
                  </a:lnTo>
                  <a:lnTo>
                    <a:pt x="802" y="1292"/>
                  </a:lnTo>
                  <a:lnTo>
                    <a:pt x="811" y="1275"/>
                  </a:lnTo>
                  <a:lnTo>
                    <a:pt x="818" y="1258"/>
                  </a:lnTo>
                  <a:lnTo>
                    <a:pt x="824" y="1240"/>
                  </a:lnTo>
                  <a:lnTo>
                    <a:pt x="830" y="1221"/>
                  </a:lnTo>
                  <a:lnTo>
                    <a:pt x="840" y="1180"/>
                  </a:lnTo>
                  <a:lnTo>
                    <a:pt x="847" y="1136"/>
                  </a:lnTo>
                  <a:lnTo>
                    <a:pt x="851" y="1089"/>
                  </a:lnTo>
                  <a:lnTo>
                    <a:pt x="852" y="1039"/>
                  </a:lnTo>
                  <a:lnTo>
                    <a:pt x="851" y="1010"/>
                  </a:lnTo>
                  <a:lnTo>
                    <a:pt x="849" y="982"/>
                  </a:lnTo>
                  <a:lnTo>
                    <a:pt x="845" y="956"/>
                  </a:lnTo>
                  <a:lnTo>
                    <a:pt x="840" y="932"/>
                  </a:lnTo>
                  <a:lnTo>
                    <a:pt x="833" y="910"/>
                  </a:lnTo>
                  <a:lnTo>
                    <a:pt x="825" y="890"/>
                  </a:lnTo>
                  <a:lnTo>
                    <a:pt x="815" y="872"/>
                  </a:lnTo>
                  <a:lnTo>
                    <a:pt x="804" y="855"/>
                  </a:lnTo>
                  <a:lnTo>
                    <a:pt x="790" y="841"/>
                  </a:lnTo>
                  <a:lnTo>
                    <a:pt x="776" y="829"/>
                  </a:lnTo>
                  <a:lnTo>
                    <a:pt x="760" y="818"/>
                  </a:lnTo>
                  <a:lnTo>
                    <a:pt x="743" y="809"/>
                  </a:lnTo>
                  <a:lnTo>
                    <a:pt x="723" y="803"/>
                  </a:lnTo>
                  <a:lnTo>
                    <a:pt x="702" y="798"/>
                  </a:lnTo>
                  <a:lnTo>
                    <a:pt x="679" y="795"/>
                  </a:lnTo>
                  <a:lnTo>
                    <a:pt x="656" y="794"/>
                  </a:lnTo>
                  <a:lnTo>
                    <a:pt x="638" y="795"/>
                  </a:lnTo>
                  <a:lnTo>
                    <a:pt x="618" y="797"/>
                  </a:lnTo>
                  <a:lnTo>
                    <a:pt x="599" y="801"/>
                  </a:lnTo>
                  <a:lnTo>
                    <a:pt x="579" y="807"/>
                  </a:lnTo>
                  <a:lnTo>
                    <a:pt x="558" y="813"/>
                  </a:lnTo>
                  <a:lnTo>
                    <a:pt x="538" y="821"/>
                  </a:lnTo>
                  <a:lnTo>
                    <a:pt x="517" y="831"/>
                  </a:lnTo>
                  <a:lnTo>
                    <a:pt x="494" y="841"/>
                  </a:lnTo>
                  <a:lnTo>
                    <a:pt x="428" y="1185"/>
                  </a:lnTo>
                  <a:lnTo>
                    <a:pt x="411" y="1284"/>
                  </a:lnTo>
                  <a:lnTo>
                    <a:pt x="407" y="1316"/>
                  </a:lnTo>
                  <a:lnTo>
                    <a:pt x="406" y="1328"/>
                  </a:lnTo>
                  <a:close/>
                  <a:moveTo>
                    <a:pt x="1448" y="49"/>
                  </a:moveTo>
                  <a:lnTo>
                    <a:pt x="1705" y="49"/>
                  </a:lnTo>
                  <a:lnTo>
                    <a:pt x="1568" y="728"/>
                  </a:lnTo>
                  <a:lnTo>
                    <a:pt x="1481" y="1154"/>
                  </a:lnTo>
                  <a:lnTo>
                    <a:pt x="1458" y="1278"/>
                  </a:lnTo>
                  <a:lnTo>
                    <a:pt x="1453" y="1319"/>
                  </a:lnTo>
                  <a:lnTo>
                    <a:pt x="1451" y="1333"/>
                  </a:lnTo>
                  <a:lnTo>
                    <a:pt x="1451" y="1344"/>
                  </a:lnTo>
                  <a:lnTo>
                    <a:pt x="1451" y="1352"/>
                  </a:lnTo>
                  <a:lnTo>
                    <a:pt x="1452" y="1358"/>
                  </a:lnTo>
                  <a:lnTo>
                    <a:pt x="1452" y="1365"/>
                  </a:lnTo>
                  <a:lnTo>
                    <a:pt x="1453" y="1367"/>
                  </a:lnTo>
                  <a:lnTo>
                    <a:pt x="1453" y="1369"/>
                  </a:lnTo>
                  <a:lnTo>
                    <a:pt x="1454" y="1371"/>
                  </a:lnTo>
                  <a:lnTo>
                    <a:pt x="1455" y="1372"/>
                  </a:lnTo>
                  <a:lnTo>
                    <a:pt x="1455" y="1374"/>
                  </a:lnTo>
                  <a:lnTo>
                    <a:pt x="1456" y="1375"/>
                  </a:lnTo>
                  <a:lnTo>
                    <a:pt x="1456" y="1376"/>
                  </a:lnTo>
                  <a:lnTo>
                    <a:pt x="1457" y="1376"/>
                  </a:lnTo>
                  <a:lnTo>
                    <a:pt x="1457" y="1376"/>
                  </a:lnTo>
                  <a:lnTo>
                    <a:pt x="1458" y="1378"/>
                  </a:lnTo>
                  <a:lnTo>
                    <a:pt x="1458" y="1378"/>
                  </a:lnTo>
                  <a:lnTo>
                    <a:pt x="1459" y="1378"/>
                  </a:lnTo>
                  <a:lnTo>
                    <a:pt x="1459" y="1378"/>
                  </a:lnTo>
                  <a:lnTo>
                    <a:pt x="1460" y="1378"/>
                  </a:lnTo>
                  <a:lnTo>
                    <a:pt x="1463" y="1378"/>
                  </a:lnTo>
                  <a:lnTo>
                    <a:pt x="1465" y="1376"/>
                  </a:lnTo>
                  <a:lnTo>
                    <a:pt x="1473" y="1374"/>
                  </a:lnTo>
                  <a:lnTo>
                    <a:pt x="1481" y="1370"/>
                  </a:lnTo>
                  <a:lnTo>
                    <a:pt x="1490" y="1364"/>
                  </a:lnTo>
                  <a:lnTo>
                    <a:pt x="1513" y="1344"/>
                  </a:lnTo>
                  <a:lnTo>
                    <a:pt x="1541" y="1319"/>
                  </a:lnTo>
                  <a:lnTo>
                    <a:pt x="1611" y="1246"/>
                  </a:lnTo>
                  <a:lnTo>
                    <a:pt x="1701" y="1143"/>
                  </a:lnTo>
                  <a:lnTo>
                    <a:pt x="1779" y="1247"/>
                  </a:lnTo>
                  <a:lnTo>
                    <a:pt x="1704" y="1344"/>
                  </a:lnTo>
                  <a:lnTo>
                    <a:pt x="1635" y="1429"/>
                  </a:lnTo>
                  <a:lnTo>
                    <a:pt x="1570" y="1500"/>
                  </a:lnTo>
                  <a:lnTo>
                    <a:pt x="1510" y="1559"/>
                  </a:lnTo>
                  <a:lnTo>
                    <a:pt x="1455" y="1604"/>
                  </a:lnTo>
                  <a:lnTo>
                    <a:pt x="1430" y="1621"/>
                  </a:lnTo>
                  <a:lnTo>
                    <a:pt x="1405" y="1637"/>
                  </a:lnTo>
                  <a:lnTo>
                    <a:pt x="1382" y="1648"/>
                  </a:lnTo>
                  <a:lnTo>
                    <a:pt x="1360" y="1656"/>
                  </a:lnTo>
                  <a:lnTo>
                    <a:pt x="1338" y="1661"/>
                  </a:lnTo>
                  <a:lnTo>
                    <a:pt x="1319" y="1662"/>
                  </a:lnTo>
                  <a:lnTo>
                    <a:pt x="1313" y="1662"/>
                  </a:lnTo>
                  <a:lnTo>
                    <a:pt x="1306" y="1661"/>
                  </a:lnTo>
                  <a:lnTo>
                    <a:pt x="1300" y="1661"/>
                  </a:lnTo>
                  <a:lnTo>
                    <a:pt x="1294" y="1658"/>
                  </a:lnTo>
                  <a:lnTo>
                    <a:pt x="1287" y="1657"/>
                  </a:lnTo>
                  <a:lnTo>
                    <a:pt x="1281" y="1655"/>
                  </a:lnTo>
                  <a:lnTo>
                    <a:pt x="1275" y="1652"/>
                  </a:lnTo>
                  <a:lnTo>
                    <a:pt x="1269" y="1648"/>
                  </a:lnTo>
                  <a:lnTo>
                    <a:pt x="1257" y="1641"/>
                  </a:lnTo>
                  <a:lnTo>
                    <a:pt x="1246" y="1632"/>
                  </a:lnTo>
                  <a:lnTo>
                    <a:pt x="1234" y="1620"/>
                  </a:lnTo>
                  <a:lnTo>
                    <a:pt x="1222" y="1607"/>
                  </a:lnTo>
                  <a:lnTo>
                    <a:pt x="1217" y="1600"/>
                  </a:lnTo>
                  <a:lnTo>
                    <a:pt x="1212" y="1593"/>
                  </a:lnTo>
                  <a:lnTo>
                    <a:pt x="1207" y="1586"/>
                  </a:lnTo>
                  <a:lnTo>
                    <a:pt x="1203" y="1577"/>
                  </a:lnTo>
                  <a:lnTo>
                    <a:pt x="1199" y="1569"/>
                  </a:lnTo>
                  <a:lnTo>
                    <a:pt x="1195" y="1560"/>
                  </a:lnTo>
                  <a:lnTo>
                    <a:pt x="1192" y="1551"/>
                  </a:lnTo>
                  <a:lnTo>
                    <a:pt x="1189" y="1542"/>
                  </a:lnTo>
                  <a:lnTo>
                    <a:pt x="1184" y="1522"/>
                  </a:lnTo>
                  <a:lnTo>
                    <a:pt x="1181" y="1501"/>
                  </a:lnTo>
                  <a:lnTo>
                    <a:pt x="1179" y="1480"/>
                  </a:lnTo>
                  <a:lnTo>
                    <a:pt x="1178" y="1455"/>
                  </a:lnTo>
                  <a:lnTo>
                    <a:pt x="1180" y="1418"/>
                  </a:lnTo>
                  <a:lnTo>
                    <a:pt x="1184" y="1370"/>
                  </a:lnTo>
                  <a:lnTo>
                    <a:pt x="1203" y="1238"/>
                  </a:lnTo>
                  <a:lnTo>
                    <a:pt x="1236" y="1062"/>
                  </a:lnTo>
                  <a:lnTo>
                    <a:pt x="1280" y="84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83120" y="378000"/>
              <a:ext cx="201600" cy="588960"/>
            </a:xfrm>
            <a:custGeom>
              <a:avLst/>
              <a:gdLst/>
              <a:ahLst/>
              <a:rect l="l" t="t" r="r" b="b"/>
              <a:pathLst>
                <a:path w="558" h="1634">
                  <a:moveTo>
                    <a:pt x="394" y="0"/>
                  </a:moveTo>
                  <a:lnTo>
                    <a:pt x="411" y="2"/>
                  </a:lnTo>
                  <a:lnTo>
                    <a:pt x="427" y="4"/>
                  </a:lnTo>
                  <a:lnTo>
                    <a:pt x="435" y="7"/>
                  </a:lnTo>
                  <a:lnTo>
                    <a:pt x="443" y="9"/>
                  </a:lnTo>
                  <a:lnTo>
                    <a:pt x="451" y="12"/>
                  </a:lnTo>
                  <a:lnTo>
                    <a:pt x="458" y="16"/>
                  </a:lnTo>
                  <a:lnTo>
                    <a:pt x="465" y="21"/>
                  </a:lnTo>
                  <a:lnTo>
                    <a:pt x="472" y="25"/>
                  </a:lnTo>
                  <a:lnTo>
                    <a:pt x="479" y="30"/>
                  </a:lnTo>
                  <a:lnTo>
                    <a:pt x="485" y="36"/>
                  </a:lnTo>
                  <a:lnTo>
                    <a:pt x="492" y="43"/>
                  </a:lnTo>
                  <a:lnTo>
                    <a:pt x="499" y="49"/>
                  </a:lnTo>
                  <a:lnTo>
                    <a:pt x="511" y="64"/>
                  </a:lnTo>
                  <a:lnTo>
                    <a:pt x="522" y="81"/>
                  </a:lnTo>
                  <a:lnTo>
                    <a:pt x="531" y="99"/>
                  </a:lnTo>
                  <a:lnTo>
                    <a:pt x="539" y="117"/>
                  </a:lnTo>
                  <a:lnTo>
                    <a:pt x="546" y="137"/>
                  </a:lnTo>
                  <a:lnTo>
                    <a:pt x="551" y="156"/>
                  </a:lnTo>
                  <a:lnTo>
                    <a:pt x="554" y="178"/>
                  </a:lnTo>
                  <a:lnTo>
                    <a:pt x="556" y="201"/>
                  </a:lnTo>
                  <a:lnTo>
                    <a:pt x="557" y="224"/>
                  </a:lnTo>
                  <a:lnTo>
                    <a:pt x="556" y="256"/>
                  </a:lnTo>
                  <a:lnTo>
                    <a:pt x="554" y="286"/>
                  </a:lnTo>
                  <a:lnTo>
                    <a:pt x="550" y="316"/>
                  </a:lnTo>
                  <a:lnTo>
                    <a:pt x="544" y="343"/>
                  </a:lnTo>
                  <a:lnTo>
                    <a:pt x="537" y="368"/>
                  </a:lnTo>
                  <a:lnTo>
                    <a:pt x="528" y="392"/>
                  </a:lnTo>
                  <a:lnTo>
                    <a:pt x="523" y="403"/>
                  </a:lnTo>
                  <a:lnTo>
                    <a:pt x="517" y="414"/>
                  </a:lnTo>
                  <a:lnTo>
                    <a:pt x="511" y="424"/>
                  </a:lnTo>
                  <a:lnTo>
                    <a:pt x="505" y="434"/>
                  </a:lnTo>
                  <a:lnTo>
                    <a:pt x="490" y="452"/>
                  </a:lnTo>
                  <a:lnTo>
                    <a:pt x="483" y="461"/>
                  </a:lnTo>
                  <a:lnTo>
                    <a:pt x="476" y="469"/>
                  </a:lnTo>
                  <a:lnTo>
                    <a:pt x="469" y="475"/>
                  </a:lnTo>
                  <a:lnTo>
                    <a:pt x="461" y="482"/>
                  </a:lnTo>
                  <a:lnTo>
                    <a:pt x="453" y="488"/>
                  </a:lnTo>
                  <a:lnTo>
                    <a:pt x="445" y="493"/>
                  </a:lnTo>
                  <a:lnTo>
                    <a:pt x="435" y="497"/>
                  </a:lnTo>
                  <a:lnTo>
                    <a:pt x="427" y="502"/>
                  </a:lnTo>
                  <a:lnTo>
                    <a:pt x="418" y="505"/>
                  </a:lnTo>
                  <a:lnTo>
                    <a:pt x="409" y="507"/>
                  </a:lnTo>
                  <a:lnTo>
                    <a:pt x="399" y="510"/>
                  </a:lnTo>
                  <a:lnTo>
                    <a:pt x="390" y="511"/>
                  </a:lnTo>
                  <a:lnTo>
                    <a:pt x="369" y="512"/>
                  </a:lnTo>
                  <a:lnTo>
                    <a:pt x="352" y="511"/>
                  </a:lnTo>
                  <a:lnTo>
                    <a:pt x="336" y="508"/>
                  </a:lnTo>
                  <a:lnTo>
                    <a:pt x="321" y="505"/>
                  </a:lnTo>
                  <a:lnTo>
                    <a:pt x="312" y="501"/>
                  </a:lnTo>
                  <a:lnTo>
                    <a:pt x="305" y="498"/>
                  </a:lnTo>
                  <a:lnTo>
                    <a:pt x="298" y="493"/>
                  </a:lnTo>
                  <a:lnTo>
                    <a:pt x="291" y="489"/>
                  </a:lnTo>
                  <a:lnTo>
                    <a:pt x="284" y="484"/>
                  </a:lnTo>
                  <a:lnTo>
                    <a:pt x="278" y="479"/>
                  </a:lnTo>
                  <a:lnTo>
                    <a:pt x="271" y="473"/>
                  </a:lnTo>
                  <a:lnTo>
                    <a:pt x="265" y="466"/>
                  </a:lnTo>
                  <a:lnTo>
                    <a:pt x="252" y="452"/>
                  </a:lnTo>
                  <a:lnTo>
                    <a:pt x="241" y="437"/>
                  </a:lnTo>
                  <a:lnTo>
                    <a:pt x="232" y="419"/>
                  </a:lnTo>
                  <a:lnTo>
                    <a:pt x="228" y="411"/>
                  </a:lnTo>
                  <a:lnTo>
                    <a:pt x="225" y="403"/>
                  </a:lnTo>
                  <a:lnTo>
                    <a:pt x="218" y="383"/>
                  </a:lnTo>
                  <a:lnTo>
                    <a:pt x="213" y="363"/>
                  </a:lnTo>
                  <a:lnTo>
                    <a:pt x="210" y="343"/>
                  </a:lnTo>
                  <a:lnTo>
                    <a:pt x="208" y="321"/>
                  </a:lnTo>
                  <a:lnTo>
                    <a:pt x="207" y="298"/>
                  </a:lnTo>
                  <a:lnTo>
                    <a:pt x="208" y="267"/>
                  </a:lnTo>
                  <a:lnTo>
                    <a:pt x="211" y="238"/>
                  </a:lnTo>
                  <a:lnTo>
                    <a:pt x="215" y="209"/>
                  </a:lnTo>
                  <a:lnTo>
                    <a:pt x="221" y="180"/>
                  </a:lnTo>
                  <a:lnTo>
                    <a:pt x="230" y="154"/>
                  </a:lnTo>
                  <a:lnTo>
                    <a:pt x="239" y="127"/>
                  </a:lnTo>
                  <a:lnTo>
                    <a:pt x="251" y="103"/>
                  </a:lnTo>
                  <a:lnTo>
                    <a:pt x="266" y="78"/>
                  </a:lnTo>
                  <a:lnTo>
                    <a:pt x="272" y="69"/>
                  </a:lnTo>
                  <a:lnTo>
                    <a:pt x="278" y="60"/>
                  </a:lnTo>
                  <a:lnTo>
                    <a:pt x="285" y="51"/>
                  </a:lnTo>
                  <a:lnTo>
                    <a:pt x="292" y="44"/>
                  </a:lnTo>
                  <a:lnTo>
                    <a:pt x="299" y="37"/>
                  </a:lnTo>
                  <a:lnTo>
                    <a:pt x="306" y="31"/>
                  </a:lnTo>
                  <a:lnTo>
                    <a:pt x="313" y="25"/>
                  </a:lnTo>
                  <a:lnTo>
                    <a:pt x="322" y="20"/>
                  </a:lnTo>
                  <a:lnTo>
                    <a:pt x="330" y="16"/>
                  </a:lnTo>
                  <a:lnTo>
                    <a:pt x="338" y="11"/>
                  </a:lnTo>
                  <a:lnTo>
                    <a:pt x="347" y="8"/>
                  </a:lnTo>
                  <a:lnTo>
                    <a:pt x="355" y="6"/>
                  </a:lnTo>
                  <a:lnTo>
                    <a:pt x="364" y="3"/>
                  </a:lnTo>
                  <a:lnTo>
                    <a:pt x="374" y="2"/>
                  </a:lnTo>
                  <a:close/>
                  <a:moveTo>
                    <a:pt x="187" y="1119"/>
                  </a:moveTo>
                  <a:lnTo>
                    <a:pt x="205" y="1120"/>
                  </a:lnTo>
                  <a:lnTo>
                    <a:pt x="213" y="1121"/>
                  </a:lnTo>
                  <a:lnTo>
                    <a:pt x="221" y="1123"/>
                  </a:lnTo>
                  <a:lnTo>
                    <a:pt x="229" y="1125"/>
                  </a:lnTo>
                  <a:lnTo>
                    <a:pt x="236" y="1128"/>
                  </a:lnTo>
                  <a:lnTo>
                    <a:pt x="244" y="1131"/>
                  </a:lnTo>
                  <a:lnTo>
                    <a:pt x="251" y="1135"/>
                  </a:lnTo>
                  <a:lnTo>
                    <a:pt x="259" y="1139"/>
                  </a:lnTo>
                  <a:lnTo>
                    <a:pt x="266" y="1144"/>
                  </a:lnTo>
                  <a:lnTo>
                    <a:pt x="273" y="1149"/>
                  </a:lnTo>
                  <a:lnTo>
                    <a:pt x="279" y="1156"/>
                  </a:lnTo>
                  <a:lnTo>
                    <a:pt x="286" y="1162"/>
                  </a:lnTo>
                  <a:lnTo>
                    <a:pt x="292" y="1169"/>
                  </a:lnTo>
                  <a:lnTo>
                    <a:pt x="304" y="1184"/>
                  </a:lnTo>
                  <a:lnTo>
                    <a:pt x="316" y="1200"/>
                  </a:lnTo>
                  <a:lnTo>
                    <a:pt x="325" y="1218"/>
                  </a:lnTo>
                  <a:lnTo>
                    <a:pt x="333" y="1237"/>
                  </a:lnTo>
                  <a:lnTo>
                    <a:pt x="339" y="1257"/>
                  </a:lnTo>
                  <a:lnTo>
                    <a:pt x="344" y="1277"/>
                  </a:lnTo>
                  <a:lnTo>
                    <a:pt x="348" y="1299"/>
                  </a:lnTo>
                  <a:lnTo>
                    <a:pt x="350" y="1320"/>
                  </a:lnTo>
                  <a:lnTo>
                    <a:pt x="351" y="1343"/>
                  </a:lnTo>
                  <a:lnTo>
                    <a:pt x="350" y="1375"/>
                  </a:lnTo>
                  <a:lnTo>
                    <a:pt x="348" y="1406"/>
                  </a:lnTo>
                  <a:lnTo>
                    <a:pt x="344" y="1435"/>
                  </a:lnTo>
                  <a:lnTo>
                    <a:pt x="338" y="1462"/>
                  </a:lnTo>
                  <a:lnTo>
                    <a:pt x="331" y="1488"/>
                  </a:lnTo>
                  <a:lnTo>
                    <a:pt x="322" y="1512"/>
                  </a:lnTo>
                  <a:lnTo>
                    <a:pt x="317" y="1522"/>
                  </a:lnTo>
                  <a:lnTo>
                    <a:pt x="310" y="1534"/>
                  </a:lnTo>
                  <a:lnTo>
                    <a:pt x="304" y="1544"/>
                  </a:lnTo>
                  <a:lnTo>
                    <a:pt x="298" y="1554"/>
                  </a:lnTo>
                  <a:lnTo>
                    <a:pt x="291" y="1563"/>
                  </a:lnTo>
                  <a:lnTo>
                    <a:pt x="285" y="1572"/>
                  </a:lnTo>
                  <a:lnTo>
                    <a:pt x="278" y="1581"/>
                  </a:lnTo>
                  <a:lnTo>
                    <a:pt x="270" y="1589"/>
                  </a:lnTo>
                  <a:lnTo>
                    <a:pt x="263" y="1596"/>
                  </a:lnTo>
                  <a:lnTo>
                    <a:pt x="254" y="1603"/>
                  </a:lnTo>
                  <a:lnTo>
                    <a:pt x="246" y="1608"/>
                  </a:lnTo>
                  <a:lnTo>
                    <a:pt x="238" y="1613"/>
                  </a:lnTo>
                  <a:lnTo>
                    <a:pt x="229" y="1618"/>
                  </a:lnTo>
                  <a:lnTo>
                    <a:pt x="221" y="1622"/>
                  </a:lnTo>
                  <a:lnTo>
                    <a:pt x="212" y="1626"/>
                  </a:lnTo>
                  <a:lnTo>
                    <a:pt x="202" y="1628"/>
                  </a:lnTo>
                  <a:lnTo>
                    <a:pt x="192" y="1631"/>
                  </a:lnTo>
                  <a:lnTo>
                    <a:pt x="182" y="1632"/>
                  </a:lnTo>
                  <a:lnTo>
                    <a:pt x="162" y="1633"/>
                  </a:lnTo>
                  <a:lnTo>
                    <a:pt x="145" y="1632"/>
                  </a:lnTo>
                  <a:lnTo>
                    <a:pt x="129" y="1629"/>
                  </a:lnTo>
                  <a:lnTo>
                    <a:pt x="121" y="1627"/>
                  </a:lnTo>
                  <a:lnTo>
                    <a:pt x="113" y="1624"/>
                  </a:lnTo>
                  <a:lnTo>
                    <a:pt x="106" y="1622"/>
                  </a:lnTo>
                  <a:lnTo>
                    <a:pt x="99" y="1618"/>
                  </a:lnTo>
                  <a:lnTo>
                    <a:pt x="92" y="1614"/>
                  </a:lnTo>
                  <a:lnTo>
                    <a:pt x="85" y="1609"/>
                  </a:lnTo>
                  <a:lnTo>
                    <a:pt x="78" y="1604"/>
                  </a:lnTo>
                  <a:lnTo>
                    <a:pt x="71" y="1599"/>
                  </a:lnTo>
                  <a:lnTo>
                    <a:pt x="58" y="1586"/>
                  </a:lnTo>
                  <a:lnTo>
                    <a:pt x="46" y="1572"/>
                  </a:lnTo>
                  <a:lnTo>
                    <a:pt x="41" y="1564"/>
                  </a:lnTo>
                  <a:lnTo>
                    <a:pt x="35" y="1557"/>
                  </a:lnTo>
                  <a:lnTo>
                    <a:pt x="31" y="1549"/>
                  </a:lnTo>
                  <a:lnTo>
                    <a:pt x="26" y="1540"/>
                  </a:lnTo>
                  <a:lnTo>
                    <a:pt x="22" y="1531"/>
                  </a:lnTo>
                  <a:lnTo>
                    <a:pt x="19" y="1522"/>
                  </a:lnTo>
                  <a:lnTo>
                    <a:pt x="15" y="1513"/>
                  </a:lnTo>
                  <a:lnTo>
                    <a:pt x="12" y="1503"/>
                  </a:lnTo>
                  <a:lnTo>
                    <a:pt x="6" y="1484"/>
                  </a:lnTo>
                  <a:lnTo>
                    <a:pt x="3" y="1463"/>
                  </a:lnTo>
                  <a:lnTo>
                    <a:pt x="1" y="1442"/>
                  </a:lnTo>
                  <a:lnTo>
                    <a:pt x="0" y="1419"/>
                  </a:lnTo>
                  <a:lnTo>
                    <a:pt x="1" y="1387"/>
                  </a:lnTo>
                  <a:lnTo>
                    <a:pt x="4" y="1356"/>
                  </a:lnTo>
                  <a:lnTo>
                    <a:pt x="8" y="1327"/>
                  </a:lnTo>
                  <a:lnTo>
                    <a:pt x="15" y="1299"/>
                  </a:lnTo>
                  <a:lnTo>
                    <a:pt x="24" y="1272"/>
                  </a:lnTo>
                  <a:lnTo>
                    <a:pt x="33" y="1245"/>
                  </a:lnTo>
                  <a:lnTo>
                    <a:pt x="45" y="1221"/>
                  </a:lnTo>
                  <a:lnTo>
                    <a:pt x="59" y="1197"/>
                  </a:lnTo>
                  <a:lnTo>
                    <a:pt x="65" y="1188"/>
                  </a:lnTo>
                  <a:lnTo>
                    <a:pt x="71" y="1179"/>
                  </a:lnTo>
                  <a:lnTo>
                    <a:pt x="79" y="1170"/>
                  </a:lnTo>
                  <a:lnTo>
                    <a:pt x="86" y="1162"/>
                  </a:lnTo>
                  <a:lnTo>
                    <a:pt x="93" y="1156"/>
                  </a:lnTo>
                  <a:lnTo>
                    <a:pt x="100" y="1149"/>
                  </a:lnTo>
                  <a:lnTo>
                    <a:pt x="107" y="1143"/>
                  </a:lnTo>
                  <a:lnTo>
                    <a:pt x="115" y="1138"/>
                  </a:lnTo>
                  <a:lnTo>
                    <a:pt x="123" y="1134"/>
                  </a:lnTo>
                  <a:lnTo>
                    <a:pt x="131" y="1129"/>
                  </a:lnTo>
                  <a:lnTo>
                    <a:pt x="141" y="1126"/>
                  </a:lnTo>
                  <a:lnTo>
                    <a:pt x="149" y="1124"/>
                  </a:lnTo>
                  <a:lnTo>
                    <a:pt x="158" y="1121"/>
                  </a:lnTo>
                  <a:lnTo>
                    <a:pt x="168" y="11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Вывод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0" y="0"/>
            <a:ext cx="10080720" cy="36093240"/>
            <a:chOff x="0" y="0"/>
            <a:chExt cx="10080720" cy="36093240"/>
          </a:xfrm>
        </p:grpSpPr>
        <p:sp>
          <p:nvSpPr>
            <p:cNvPr id="828" name=""/>
            <p:cNvSpPr/>
            <p:nvPr/>
          </p:nvSpPr>
          <p:spPr>
            <a:xfrm>
              <a:off x="216000" y="3419640"/>
              <a:ext cx="9864720" cy="426240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0" y="0"/>
              <a:ext cx="1440" cy="360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3600" spc="-1" strike="noStrike">
                  <a:solidFill>
                    <a:srgbClr val="3333cc"/>
                  </a:solidFill>
                  <a:latin typeface="Arial"/>
                </a:rPr>
                <a:t>Большинство ребят нашей школы предрасположены к творчеству, абстрактному мышлению.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36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i="1" lang="en-GB" sz="3600" spc="-1" strike="noStrike">
                  <a:solidFill>
                    <a:srgbClr val="3333cc"/>
                  </a:solidFill>
                  <a:latin typeface="Arial"/>
                </a:rPr>
                <a:t>Это свободолюбивые, оригинальные 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3600" spc="-1" strike="noStrike">
                  <a:solidFill>
                    <a:srgbClr val="3333cc"/>
                  </a:solidFill>
                  <a:latin typeface="Arial"/>
                </a:rPr>
                <a:t>             </a:t>
              </a:r>
              <a:r>
                <a:rPr b="1" i="1" lang="en-GB" sz="3600" spc="-1" strike="noStrike">
                  <a:solidFill>
                    <a:srgbClr val="3333cc"/>
                  </a:solidFill>
                  <a:latin typeface="Arial"/>
                </a:rPr>
                <a:t>самобытные люди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Arial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3600" spc="-1" strike="noStrike">
                  <a:solidFill>
                    <a:srgbClr val="3333cc"/>
                  </a:solidFill>
                  <a:latin typeface="Arial"/>
                </a:rPr>
                <a:t>отличающиеся работоспособностью и                                 целеустремлённостью.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" fill="hold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831" name=""/>
          <p:cNvGrpSpPr/>
          <p:nvPr/>
        </p:nvGrpSpPr>
        <p:grpSpPr>
          <a:xfrm>
            <a:off x="0" y="0"/>
            <a:ext cx="8928000" cy="4275000"/>
            <a:chOff x="0" y="0"/>
            <a:chExt cx="8928000" cy="4275000"/>
          </a:xfrm>
        </p:grpSpPr>
        <p:sp>
          <p:nvSpPr>
            <p:cNvPr id="832" name=""/>
            <p:cNvSpPr/>
            <p:nvPr/>
          </p:nvSpPr>
          <p:spPr>
            <a:xfrm>
              <a:off x="2962440" y="1577880"/>
              <a:ext cx="763560" cy="1122480"/>
            </a:xfrm>
            <a:custGeom>
              <a:avLst/>
              <a:gdLst/>
              <a:ahLst/>
              <a:rect l="l" t="t" r="r" b="b"/>
              <a:pathLst>
                <a:path w="2119" h="3117">
                  <a:moveTo>
                    <a:pt x="1992" y="1007"/>
                  </a:moveTo>
                  <a:lnTo>
                    <a:pt x="1810" y="1016"/>
                  </a:lnTo>
                  <a:lnTo>
                    <a:pt x="1820" y="699"/>
                  </a:lnTo>
                  <a:lnTo>
                    <a:pt x="1818" y="630"/>
                  </a:lnTo>
                  <a:lnTo>
                    <a:pt x="1814" y="567"/>
                  </a:lnTo>
                  <a:lnTo>
                    <a:pt x="1806" y="510"/>
                  </a:lnTo>
                  <a:lnTo>
                    <a:pt x="1795" y="459"/>
                  </a:lnTo>
                  <a:lnTo>
                    <a:pt x="1788" y="435"/>
                  </a:lnTo>
                  <a:lnTo>
                    <a:pt x="1780" y="413"/>
                  </a:lnTo>
                  <a:lnTo>
                    <a:pt x="1772" y="392"/>
                  </a:lnTo>
                  <a:lnTo>
                    <a:pt x="1763" y="373"/>
                  </a:lnTo>
                  <a:lnTo>
                    <a:pt x="1753" y="355"/>
                  </a:lnTo>
                  <a:lnTo>
                    <a:pt x="1742" y="339"/>
                  </a:lnTo>
                  <a:lnTo>
                    <a:pt x="1730" y="325"/>
                  </a:lnTo>
                  <a:lnTo>
                    <a:pt x="1718" y="311"/>
                  </a:lnTo>
                  <a:lnTo>
                    <a:pt x="1692" y="288"/>
                  </a:lnTo>
                  <a:lnTo>
                    <a:pt x="1678" y="276"/>
                  </a:lnTo>
                  <a:lnTo>
                    <a:pt x="1664" y="267"/>
                  </a:lnTo>
                  <a:lnTo>
                    <a:pt x="1650" y="258"/>
                  </a:lnTo>
                  <a:lnTo>
                    <a:pt x="1635" y="251"/>
                  </a:lnTo>
                  <a:lnTo>
                    <a:pt x="1619" y="243"/>
                  </a:lnTo>
                  <a:lnTo>
                    <a:pt x="1603" y="237"/>
                  </a:lnTo>
                  <a:lnTo>
                    <a:pt x="1570" y="228"/>
                  </a:lnTo>
                  <a:lnTo>
                    <a:pt x="1536" y="221"/>
                  </a:lnTo>
                  <a:lnTo>
                    <a:pt x="1500" y="219"/>
                  </a:lnTo>
                  <a:lnTo>
                    <a:pt x="1462" y="220"/>
                  </a:lnTo>
                  <a:lnTo>
                    <a:pt x="1435" y="223"/>
                  </a:lnTo>
                  <a:lnTo>
                    <a:pt x="1408" y="227"/>
                  </a:lnTo>
                  <a:lnTo>
                    <a:pt x="1353" y="239"/>
                  </a:lnTo>
                  <a:lnTo>
                    <a:pt x="1298" y="259"/>
                  </a:lnTo>
                  <a:lnTo>
                    <a:pt x="1242" y="285"/>
                  </a:lnTo>
                  <a:lnTo>
                    <a:pt x="1185" y="317"/>
                  </a:lnTo>
                  <a:lnTo>
                    <a:pt x="1127" y="355"/>
                  </a:lnTo>
                  <a:lnTo>
                    <a:pt x="1069" y="399"/>
                  </a:lnTo>
                  <a:lnTo>
                    <a:pt x="1010" y="450"/>
                  </a:lnTo>
                  <a:lnTo>
                    <a:pt x="952" y="507"/>
                  </a:lnTo>
                  <a:lnTo>
                    <a:pt x="895" y="570"/>
                  </a:lnTo>
                  <a:lnTo>
                    <a:pt x="888" y="577"/>
                  </a:lnTo>
                  <a:lnTo>
                    <a:pt x="888" y="579"/>
                  </a:lnTo>
                  <a:lnTo>
                    <a:pt x="841" y="643"/>
                  </a:lnTo>
                  <a:lnTo>
                    <a:pt x="789" y="722"/>
                  </a:lnTo>
                  <a:lnTo>
                    <a:pt x="739" y="809"/>
                  </a:lnTo>
                  <a:lnTo>
                    <a:pt x="691" y="901"/>
                  </a:lnTo>
                  <a:lnTo>
                    <a:pt x="645" y="1000"/>
                  </a:lnTo>
                  <a:lnTo>
                    <a:pt x="601" y="1106"/>
                  </a:lnTo>
                  <a:lnTo>
                    <a:pt x="560" y="1216"/>
                  </a:lnTo>
                  <a:lnTo>
                    <a:pt x="525" y="1325"/>
                  </a:lnTo>
                  <a:lnTo>
                    <a:pt x="495" y="1434"/>
                  </a:lnTo>
                  <a:lnTo>
                    <a:pt x="471" y="1544"/>
                  </a:lnTo>
                  <a:lnTo>
                    <a:pt x="452" y="1654"/>
                  </a:lnTo>
                  <a:lnTo>
                    <a:pt x="439" y="1764"/>
                  </a:lnTo>
                  <a:lnTo>
                    <a:pt x="431" y="1875"/>
                  </a:lnTo>
                  <a:lnTo>
                    <a:pt x="428" y="1986"/>
                  </a:lnTo>
                  <a:lnTo>
                    <a:pt x="430" y="2090"/>
                  </a:lnTo>
                  <a:lnTo>
                    <a:pt x="438" y="2187"/>
                  </a:lnTo>
                  <a:lnTo>
                    <a:pt x="450" y="2277"/>
                  </a:lnTo>
                  <a:lnTo>
                    <a:pt x="466" y="2361"/>
                  </a:lnTo>
                  <a:lnTo>
                    <a:pt x="488" y="2438"/>
                  </a:lnTo>
                  <a:lnTo>
                    <a:pt x="514" y="2508"/>
                  </a:lnTo>
                  <a:lnTo>
                    <a:pt x="530" y="2541"/>
                  </a:lnTo>
                  <a:lnTo>
                    <a:pt x="546" y="2572"/>
                  </a:lnTo>
                  <a:lnTo>
                    <a:pt x="563" y="2601"/>
                  </a:lnTo>
                  <a:lnTo>
                    <a:pt x="582" y="2629"/>
                  </a:lnTo>
                  <a:lnTo>
                    <a:pt x="621" y="2680"/>
                  </a:lnTo>
                  <a:lnTo>
                    <a:pt x="642" y="2702"/>
                  </a:lnTo>
                  <a:lnTo>
                    <a:pt x="663" y="2724"/>
                  </a:lnTo>
                  <a:lnTo>
                    <a:pt x="685" y="2743"/>
                  </a:lnTo>
                  <a:lnTo>
                    <a:pt x="708" y="2760"/>
                  </a:lnTo>
                  <a:lnTo>
                    <a:pt x="730" y="2776"/>
                  </a:lnTo>
                  <a:lnTo>
                    <a:pt x="753" y="2790"/>
                  </a:lnTo>
                  <a:lnTo>
                    <a:pt x="777" y="2803"/>
                  </a:lnTo>
                  <a:lnTo>
                    <a:pt x="802" y="2814"/>
                  </a:lnTo>
                  <a:lnTo>
                    <a:pt x="828" y="2823"/>
                  </a:lnTo>
                  <a:lnTo>
                    <a:pt x="854" y="2830"/>
                  </a:lnTo>
                  <a:lnTo>
                    <a:pt x="880" y="2835"/>
                  </a:lnTo>
                  <a:lnTo>
                    <a:pt x="888" y="2836"/>
                  </a:lnTo>
                  <a:lnTo>
                    <a:pt x="888" y="2836"/>
                  </a:lnTo>
                  <a:lnTo>
                    <a:pt x="907" y="2839"/>
                  </a:lnTo>
                  <a:lnTo>
                    <a:pt x="935" y="2841"/>
                  </a:lnTo>
                  <a:lnTo>
                    <a:pt x="963" y="2842"/>
                  </a:lnTo>
                  <a:lnTo>
                    <a:pt x="1002" y="2839"/>
                  </a:lnTo>
                  <a:lnTo>
                    <a:pt x="1042" y="2834"/>
                  </a:lnTo>
                  <a:lnTo>
                    <a:pt x="1081" y="2825"/>
                  </a:lnTo>
                  <a:lnTo>
                    <a:pt x="1119" y="2812"/>
                  </a:lnTo>
                  <a:lnTo>
                    <a:pt x="1159" y="2795"/>
                  </a:lnTo>
                  <a:lnTo>
                    <a:pt x="1197" y="2775"/>
                  </a:lnTo>
                  <a:lnTo>
                    <a:pt x="1235" y="2753"/>
                  </a:lnTo>
                  <a:lnTo>
                    <a:pt x="1273" y="2725"/>
                  </a:lnTo>
                  <a:lnTo>
                    <a:pt x="1310" y="2694"/>
                  </a:lnTo>
                  <a:lnTo>
                    <a:pt x="1347" y="2660"/>
                  </a:lnTo>
                  <a:lnTo>
                    <a:pt x="1421" y="2581"/>
                  </a:lnTo>
                  <a:lnTo>
                    <a:pt x="1494" y="2488"/>
                  </a:lnTo>
                  <a:lnTo>
                    <a:pt x="1566" y="2379"/>
                  </a:lnTo>
                  <a:lnTo>
                    <a:pt x="1569" y="2374"/>
                  </a:lnTo>
                  <a:lnTo>
                    <a:pt x="1572" y="2368"/>
                  </a:lnTo>
                  <a:lnTo>
                    <a:pt x="1576" y="2363"/>
                  </a:lnTo>
                  <a:lnTo>
                    <a:pt x="1580" y="2359"/>
                  </a:lnTo>
                  <a:lnTo>
                    <a:pt x="1584" y="2355"/>
                  </a:lnTo>
                  <a:lnTo>
                    <a:pt x="1588" y="2351"/>
                  </a:lnTo>
                  <a:lnTo>
                    <a:pt x="1592" y="2347"/>
                  </a:lnTo>
                  <a:lnTo>
                    <a:pt x="1597" y="2344"/>
                  </a:lnTo>
                  <a:lnTo>
                    <a:pt x="1602" y="2341"/>
                  </a:lnTo>
                  <a:lnTo>
                    <a:pt x="1607" y="2339"/>
                  </a:lnTo>
                  <a:lnTo>
                    <a:pt x="1612" y="2337"/>
                  </a:lnTo>
                  <a:lnTo>
                    <a:pt x="1617" y="2335"/>
                  </a:lnTo>
                  <a:lnTo>
                    <a:pt x="1623" y="2333"/>
                  </a:lnTo>
                  <a:lnTo>
                    <a:pt x="1629" y="2333"/>
                  </a:lnTo>
                  <a:lnTo>
                    <a:pt x="1635" y="2332"/>
                  </a:lnTo>
                  <a:lnTo>
                    <a:pt x="1642" y="2331"/>
                  </a:lnTo>
                  <a:lnTo>
                    <a:pt x="1652" y="2331"/>
                  </a:lnTo>
                  <a:lnTo>
                    <a:pt x="1662" y="2333"/>
                  </a:lnTo>
                  <a:lnTo>
                    <a:pt x="1671" y="2335"/>
                  </a:lnTo>
                  <a:lnTo>
                    <a:pt x="1676" y="2336"/>
                  </a:lnTo>
                  <a:lnTo>
                    <a:pt x="1681" y="2338"/>
                  </a:lnTo>
                  <a:lnTo>
                    <a:pt x="1685" y="2341"/>
                  </a:lnTo>
                  <a:lnTo>
                    <a:pt x="1689" y="2343"/>
                  </a:lnTo>
                  <a:lnTo>
                    <a:pt x="1697" y="2348"/>
                  </a:lnTo>
                  <a:lnTo>
                    <a:pt x="1705" y="2354"/>
                  </a:lnTo>
                  <a:lnTo>
                    <a:pt x="1713" y="2361"/>
                  </a:lnTo>
                  <a:lnTo>
                    <a:pt x="1720" y="2369"/>
                  </a:lnTo>
                  <a:lnTo>
                    <a:pt x="1726" y="2378"/>
                  </a:lnTo>
                  <a:lnTo>
                    <a:pt x="1731" y="2387"/>
                  </a:lnTo>
                  <a:lnTo>
                    <a:pt x="1734" y="2392"/>
                  </a:lnTo>
                  <a:lnTo>
                    <a:pt x="1736" y="2396"/>
                  </a:lnTo>
                  <a:lnTo>
                    <a:pt x="1737" y="2401"/>
                  </a:lnTo>
                  <a:lnTo>
                    <a:pt x="1739" y="2405"/>
                  </a:lnTo>
                  <a:lnTo>
                    <a:pt x="1740" y="2410"/>
                  </a:lnTo>
                  <a:lnTo>
                    <a:pt x="1741" y="2414"/>
                  </a:lnTo>
                  <a:lnTo>
                    <a:pt x="1742" y="2420"/>
                  </a:lnTo>
                  <a:lnTo>
                    <a:pt x="1743" y="2424"/>
                  </a:lnTo>
                  <a:lnTo>
                    <a:pt x="1743" y="2430"/>
                  </a:lnTo>
                  <a:lnTo>
                    <a:pt x="1743" y="2434"/>
                  </a:lnTo>
                  <a:lnTo>
                    <a:pt x="1742" y="2445"/>
                  </a:lnTo>
                  <a:lnTo>
                    <a:pt x="1741" y="2455"/>
                  </a:lnTo>
                  <a:lnTo>
                    <a:pt x="1738" y="2466"/>
                  </a:lnTo>
                  <a:lnTo>
                    <a:pt x="1735" y="2479"/>
                  </a:lnTo>
                  <a:lnTo>
                    <a:pt x="1730" y="2491"/>
                  </a:lnTo>
                  <a:lnTo>
                    <a:pt x="1724" y="2506"/>
                  </a:lnTo>
                  <a:lnTo>
                    <a:pt x="1709" y="2536"/>
                  </a:lnTo>
                  <a:lnTo>
                    <a:pt x="1690" y="2570"/>
                  </a:lnTo>
                  <a:lnTo>
                    <a:pt x="1667" y="2608"/>
                  </a:lnTo>
                  <a:lnTo>
                    <a:pt x="1607" y="2692"/>
                  </a:lnTo>
                  <a:lnTo>
                    <a:pt x="1572" y="2738"/>
                  </a:lnTo>
                  <a:lnTo>
                    <a:pt x="1535" y="2780"/>
                  </a:lnTo>
                  <a:lnTo>
                    <a:pt x="1496" y="2821"/>
                  </a:lnTo>
                  <a:lnTo>
                    <a:pt x="1455" y="2860"/>
                  </a:lnTo>
                  <a:lnTo>
                    <a:pt x="1412" y="2897"/>
                  </a:lnTo>
                  <a:lnTo>
                    <a:pt x="1367" y="2931"/>
                  </a:lnTo>
                  <a:lnTo>
                    <a:pt x="1319" y="2964"/>
                  </a:lnTo>
                  <a:lnTo>
                    <a:pt x="1270" y="2995"/>
                  </a:lnTo>
                  <a:lnTo>
                    <a:pt x="1219" y="3023"/>
                  </a:lnTo>
                  <a:lnTo>
                    <a:pt x="1169" y="3048"/>
                  </a:lnTo>
                  <a:lnTo>
                    <a:pt x="1118" y="3069"/>
                  </a:lnTo>
                  <a:lnTo>
                    <a:pt x="1067" y="3086"/>
                  </a:lnTo>
                  <a:lnTo>
                    <a:pt x="1017" y="3099"/>
                  </a:lnTo>
                  <a:lnTo>
                    <a:pt x="967" y="3108"/>
                  </a:lnTo>
                  <a:lnTo>
                    <a:pt x="917" y="3114"/>
                  </a:lnTo>
                  <a:lnTo>
                    <a:pt x="888" y="3114"/>
                  </a:lnTo>
                  <a:lnTo>
                    <a:pt x="888" y="3115"/>
                  </a:lnTo>
                  <a:lnTo>
                    <a:pt x="867" y="3116"/>
                  </a:lnTo>
                  <a:lnTo>
                    <a:pt x="808" y="3115"/>
                  </a:lnTo>
                  <a:lnTo>
                    <a:pt x="750" y="3109"/>
                  </a:lnTo>
                  <a:lnTo>
                    <a:pt x="694" y="3098"/>
                  </a:lnTo>
                  <a:lnTo>
                    <a:pt x="638" y="3085"/>
                  </a:lnTo>
                  <a:lnTo>
                    <a:pt x="583" y="3065"/>
                  </a:lnTo>
                  <a:lnTo>
                    <a:pt x="530" y="3043"/>
                  </a:lnTo>
                  <a:lnTo>
                    <a:pt x="477" y="3016"/>
                  </a:lnTo>
                  <a:lnTo>
                    <a:pt x="426" y="2985"/>
                  </a:lnTo>
                  <a:lnTo>
                    <a:pt x="377" y="2950"/>
                  </a:lnTo>
                  <a:lnTo>
                    <a:pt x="331" y="2912"/>
                  </a:lnTo>
                  <a:lnTo>
                    <a:pt x="287" y="2870"/>
                  </a:lnTo>
                  <a:lnTo>
                    <a:pt x="246" y="2825"/>
                  </a:lnTo>
                  <a:lnTo>
                    <a:pt x="208" y="2776"/>
                  </a:lnTo>
                  <a:lnTo>
                    <a:pt x="172" y="2724"/>
                  </a:lnTo>
                  <a:lnTo>
                    <a:pt x="140" y="2668"/>
                  </a:lnTo>
                  <a:lnTo>
                    <a:pt x="111" y="2609"/>
                  </a:lnTo>
                  <a:lnTo>
                    <a:pt x="86" y="2547"/>
                  </a:lnTo>
                  <a:lnTo>
                    <a:pt x="63" y="2482"/>
                  </a:lnTo>
                  <a:lnTo>
                    <a:pt x="44" y="2413"/>
                  </a:lnTo>
                  <a:lnTo>
                    <a:pt x="28" y="2343"/>
                  </a:lnTo>
                  <a:lnTo>
                    <a:pt x="16" y="2269"/>
                  </a:lnTo>
                  <a:lnTo>
                    <a:pt x="7" y="2193"/>
                  </a:lnTo>
                  <a:lnTo>
                    <a:pt x="2" y="2113"/>
                  </a:lnTo>
                  <a:lnTo>
                    <a:pt x="0" y="2030"/>
                  </a:lnTo>
                  <a:lnTo>
                    <a:pt x="4" y="1914"/>
                  </a:lnTo>
                  <a:lnTo>
                    <a:pt x="14" y="1798"/>
                  </a:lnTo>
                  <a:lnTo>
                    <a:pt x="32" y="1681"/>
                  </a:lnTo>
                  <a:lnTo>
                    <a:pt x="56" y="1564"/>
                  </a:lnTo>
                  <a:lnTo>
                    <a:pt x="88" y="1446"/>
                  </a:lnTo>
                  <a:lnTo>
                    <a:pt x="126" y="1328"/>
                  </a:lnTo>
                  <a:lnTo>
                    <a:pt x="171" y="1210"/>
                  </a:lnTo>
                  <a:lnTo>
                    <a:pt x="224" y="1089"/>
                  </a:lnTo>
                  <a:lnTo>
                    <a:pt x="282" y="973"/>
                  </a:lnTo>
                  <a:lnTo>
                    <a:pt x="343" y="861"/>
                  </a:lnTo>
                  <a:lnTo>
                    <a:pt x="408" y="755"/>
                  </a:lnTo>
                  <a:lnTo>
                    <a:pt x="476" y="655"/>
                  </a:lnTo>
                  <a:lnTo>
                    <a:pt x="549" y="561"/>
                  </a:lnTo>
                  <a:lnTo>
                    <a:pt x="624" y="472"/>
                  </a:lnTo>
                  <a:lnTo>
                    <a:pt x="704" y="390"/>
                  </a:lnTo>
                  <a:lnTo>
                    <a:pt x="786" y="313"/>
                  </a:lnTo>
                  <a:lnTo>
                    <a:pt x="871" y="243"/>
                  </a:lnTo>
                  <a:lnTo>
                    <a:pt x="888" y="230"/>
                  </a:lnTo>
                  <a:lnTo>
                    <a:pt x="888" y="229"/>
                  </a:lnTo>
                  <a:lnTo>
                    <a:pt x="955" y="184"/>
                  </a:lnTo>
                  <a:lnTo>
                    <a:pt x="1039" y="134"/>
                  </a:lnTo>
                  <a:lnTo>
                    <a:pt x="1123" y="91"/>
                  </a:lnTo>
                  <a:lnTo>
                    <a:pt x="1207" y="57"/>
                  </a:lnTo>
                  <a:lnTo>
                    <a:pt x="1290" y="31"/>
                  </a:lnTo>
                  <a:lnTo>
                    <a:pt x="1373" y="12"/>
                  </a:lnTo>
                  <a:lnTo>
                    <a:pt x="1455" y="2"/>
                  </a:lnTo>
                  <a:lnTo>
                    <a:pt x="1514" y="0"/>
                  </a:lnTo>
                  <a:lnTo>
                    <a:pt x="1574" y="1"/>
                  </a:lnTo>
                  <a:lnTo>
                    <a:pt x="1637" y="7"/>
                  </a:lnTo>
                  <a:lnTo>
                    <a:pt x="1700" y="16"/>
                  </a:lnTo>
                  <a:lnTo>
                    <a:pt x="1741" y="28"/>
                  </a:lnTo>
                  <a:lnTo>
                    <a:pt x="1824" y="53"/>
                  </a:lnTo>
                  <a:lnTo>
                    <a:pt x="2118" y="150"/>
                  </a:lnTo>
                  <a:lnTo>
                    <a:pt x="2092" y="255"/>
                  </a:lnTo>
                  <a:lnTo>
                    <a:pt x="2069" y="362"/>
                  </a:lnTo>
                  <a:lnTo>
                    <a:pt x="2048" y="468"/>
                  </a:lnTo>
                  <a:lnTo>
                    <a:pt x="2031" y="575"/>
                  </a:lnTo>
                  <a:lnTo>
                    <a:pt x="2017" y="682"/>
                  </a:lnTo>
                  <a:lnTo>
                    <a:pt x="2006" y="790"/>
                  </a:lnTo>
                  <a:lnTo>
                    <a:pt x="1997" y="89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97200" y="1816200"/>
              <a:ext cx="636840" cy="742680"/>
            </a:xfrm>
            <a:custGeom>
              <a:avLst/>
              <a:gdLst/>
              <a:ahLst/>
              <a:rect l="l" t="t" r="r" b="b"/>
              <a:pathLst>
                <a:path w="1767" h="2062">
                  <a:moveTo>
                    <a:pt x="107" y="683"/>
                  </a:moveTo>
                  <a:lnTo>
                    <a:pt x="0" y="566"/>
                  </a:lnTo>
                  <a:lnTo>
                    <a:pt x="125" y="422"/>
                  </a:lnTo>
                  <a:lnTo>
                    <a:pt x="236" y="303"/>
                  </a:lnTo>
                  <a:lnTo>
                    <a:pt x="286" y="255"/>
                  </a:lnTo>
                  <a:lnTo>
                    <a:pt x="333" y="212"/>
                  </a:lnTo>
                  <a:lnTo>
                    <a:pt x="377" y="177"/>
                  </a:lnTo>
                  <a:lnTo>
                    <a:pt x="417" y="148"/>
                  </a:lnTo>
                  <a:lnTo>
                    <a:pt x="455" y="124"/>
                  </a:lnTo>
                  <a:lnTo>
                    <a:pt x="492" y="104"/>
                  </a:lnTo>
                  <a:lnTo>
                    <a:pt x="527" y="86"/>
                  </a:lnTo>
                  <a:lnTo>
                    <a:pt x="561" y="70"/>
                  </a:lnTo>
                  <a:lnTo>
                    <a:pt x="595" y="58"/>
                  </a:lnTo>
                  <a:lnTo>
                    <a:pt x="627" y="49"/>
                  </a:lnTo>
                  <a:lnTo>
                    <a:pt x="657" y="43"/>
                  </a:lnTo>
                  <a:lnTo>
                    <a:pt x="686" y="40"/>
                  </a:lnTo>
                  <a:lnTo>
                    <a:pt x="699" y="39"/>
                  </a:lnTo>
                  <a:lnTo>
                    <a:pt x="712" y="41"/>
                  </a:lnTo>
                  <a:lnTo>
                    <a:pt x="724" y="42"/>
                  </a:lnTo>
                  <a:lnTo>
                    <a:pt x="736" y="45"/>
                  </a:lnTo>
                  <a:lnTo>
                    <a:pt x="747" y="49"/>
                  </a:lnTo>
                  <a:lnTo>
                    <a:pt x="757" y="53"/>
                  </a:lnTo>
                  <a:lnTo>
                    <a:pt x="767" y="60"/>
                  </a:lnTo>
                  <a:lnTo>
                    <a:pt x="777" y="66"/>
                  </a:lnTo>
                  <a:lnTo>
                    <a:pt x="786" y="74"/>
                  </a:lnTo>
                  <a:lnTo>
                    <a:pt x="790" y="78"/>
                  </a:lnTo>
                  <a:lnTo>
                    <a:pt x="793" y="81"/>
                  </a:lnTo>
                  <a:lnTo>
                    <a:pt x="797" y="86"/>
                  </a:lnTo>
                  <a:lnTo>
                    <a:pt x="800" y="90"/>
                  </a:lnTo>
                  <a:lnTo>
                    <a:pt x="802" y="95"/>
                  </a:lnTo>
                  <a:lnTo>
                    <a:pt x="805" y="100"/>
                  </a:lnTo>
                  <a:lnTo>
                    <a:pt x="807" y="105"/>
                  </a:lnTo>
                  <a:lnTo>
                    <a:pt x="809" y="109"/>
                  </a:lnTo>
                  <a:lnTo>
                    <a:pt x="810" y="115"/>
                  </a:lnTo>
                  <a:lnTo>
                    <a:pt x="812" y="121"/>
                  </a:lnTo>
                  <a:lnTo>
                    <a:pt x="813" y="125"/>
                  </a:lnTo>
                  <a:lnTo>
                    <a:pt x="813" y="131"/>
                  </a:lnTo>
                  <a:lnTo>
                    <a:pt x="814" y="137"/>
                  </a:lnTo>
                  <a:lnTo>
                    <a:pt x="814" y="143"/>
                  </a:lnTo>
                  <a:lnTo>
                    <a:pt x="814" y="150"/>
                  </a:lnTo>
                  <a:lnTo>
                    <a:pt x="813" y="159"/>
                  </a:lnTo>
                  <a:lnTo>
                    <a:pt x="811" y="171"/>
                  </a:lnTo>
                  <a:lnTo>
                    <a:pt x="809" y="183"/>
                  </a:lnTo>
                  <a:lnTo>
                    <a:pt x="802" y="217"/>
                  </a:lnTo>
                  <a:lnTo>
                    <a:pt x="792" y="260"/>
                  </a:lnTo>
                  <a:lnTo>
                    <a:pt x="717" y="622"/>
                  </a:lnTo>
                  <a:lnTo>
                    <a:pt x="752" y="560"/>
                  </a:lnTo>
                  <a:lnTo>
                    <a:pt x="793" y="498"/>
                  </a:lnTo>
                  <a:lnTo>
                    <a:pt x="840" y="437"/>
                  </a:lnTo>
                  <a:lnTo>
                    <a:pt x="892" y="375"/>
                  </a:lnTo>
                  <a:lnTo>
                    <a:pt x="950" y="313"/>
                  </a:lnTo>
                  <a:lnTo>
                    <a:pt x="1014" y="252"/>
                  </a:lnTo>
                  <a:lnTo>
                    <a:pt x="1085" y="190"/>
                  </a:lnTo>
                  <a:lnTo>
                    <a:pt x="1161" y="127"/>
                  </a:lnTo>
                  <a:lnTo>
                    <a:pt x="1198" y="99"/>
                  </a:lnTo>
                  <a:lnTo>
                    <a:pt x="1234" y="73"/>
                  </a:lnTo>
                  <a:lnTo>
                    <a:pt x="1269" y="52"/>
                  </a:lnTo>
                  <a:lnTo>
                    <a:pt x="1303" y="33"/>
                  </a:lnTo>
                  <a:lnTo>
                    <a:pt x="1335" y="20"/>
                  </a:lnTo>
                  <a:lnTo>
                    <a:pt x="1366" y="9"/>
                  </a:lnTo>
                  <a:lnTo>
                    <a:pt x="1388" y="4"/>
                  </a:lnTo>
                  <a:lnTo>
                    <a:pt x="1388" y="3"/>
                  </a:lnTo>
                  <a:lnTo>
                    <a:pt x="1396" y="3"/>
                  </a:lnTo>
                  <a:lnTo>
                    <a:pt x="1411" y="0"/>
                  </a:lnTo>
                  <a:lnTo>
                    <a:pt x="1425" y="0"/>
                  </a:lnTo>
                  <a:lnTo>
                    <a:pt x="1448" y="0"/>
                  </a:lnTo>
                  <a:lnTo>
                    <a:pt x="1470" y="4"/>
                  </a:lnTo>
                  <a:lnTo>
                    <a:pt x="1481" y="6"/>
                  </a:lnTo>
                  <a:lnTo>
                    <a:pt x="1491" y="9"/>
                  </a:lnTo>
                  <a:lnTo>
                    <a:pt x="1500" y="12"/>
                  </a:lnTo>
                  <a:lnTo>
                    <a:pt x="1510" y="16"/>
                  </a:lnTo>
                  <a:lnTo>
                    <a:pt x="1519" y="20"/>
                  </a:lnTo>
                  <a:lnTo>
                    <a:pt x="1527" y="26"/>
                  </a:lnTo>
                  <a:lnTo>
                    <a:pt x="1536" y="32"/>
                  </a:lnTo>
                  <a:lnTo>
                    <a:pt x="1544" y="39"/>
                  </a:lnTo>
                  <a:lnTo>
                    <a:pt x="1551" y="45"/>
                  </a:lnTo>
                  <a:lnTo>
                    <a:pt x="1559" y="52"/>
                  </a:lnTo>
                  <a:lnTo>
                    <a:pt x="1566" y="60"/>
                  </a:lnTo>
                  <a:lnTo>
                    <a:pt x="1573" y="70"/>
                  </a:lnTo>
                  <a:lnTo>
                    <a:pt x="1580" y="79"/>
                  </a:lnTo>
                  <a:lnTo>
                    <a:pt x="1586" y="88"/>
                  </a:lnTo>
                  <a:lnTo>
                    <a:pt x="1591" y="99"/>
                  </a:lnTo>
                  <a:lnTo>
                    <a:pt x="1596" y="108"/>
                  </a:lnTo>
                  <a:lnTo>
                    <a:pt x="1601" y="120"/>
                  </a:lnTo>
                  <a:lnTo>
                    <a:pt x="1606" y="130"/>
                  </a:lnTo>
                  <a:lnTo>
                    <a:pt x="1613" y="153"/>
                  </a:lnTo>
                  <a:lnTo>
                    <a:pt x="1619" y="179"/>
                  </a:lnTo>
                  <a:lnTo>
                    <a:pt x="1623" y="205"/>
                  </a:lnTo>
                  <a:lnTo>
                    <a:pt x="1625" y="233"/>
                  </a:lnTo>
                  <a:lnTo>
                    <a:pt x="1626" y="264"/>
                  </a:lnTo>
                  <a:lnTo>
                    <a:pt x="1626" y="283"/>
                  </a:lnTo>
                  <a:lnTo>
                    <a:pt x="1625" y="303"/>
                  </a:lnTo>
                  <a:lnTo>
                    <a:pt x="1621" y="347"/>
                  </a:lnTo>
                  <a:lnTo>
                    <a:pt x="1614" y="394"/>
                  </a:lnTo>
                  <a:lnTo>
                    <a:pt x="1605" y="446"/>
                  </a:lnTo>
                  <a:lnTo>
                    <a:pt x="1585" y="535"/>
                  </a:lnTo>
                  <a:lnTo>
                    <a:pt x="1552" y="670"/>
                  </a:lnTo>
                  <a:lnTo>
                    <a:pt x="1446" y="1076"/>
                  </a:lnTo>
                  <a:lnTo>
                    <a:pt x="1394" y="1284"/>
                  </a:lnTo>
                  <a:lnTo>
                    <a:pt x="1388" y="1308"/>
                  </a:lnTo>
                  <a:lnTo>
                    <a:pt x="1388" y="1310"/>
                  </a:lnTo>
                  <a:lnTo>
                    <a:pt x="1357" y="1454"/>
                  </a:lnTo>
                  <a:lnTo>
                    <a:pt x="1344" y="1524"/>
                  </a:lnTo>
                  <a:lnTo>
                    <a:pt x="1334" y="1584"/>
                  </a:lnTo>
                  <a:lnTo>
                    <a:pt x="1329" y="1635"/>
                  </a:lnTo>
                  <a:lnTo>
                    <a:pt x="1327" y="1676"/>
                  </a:lnTo>
                  <a:lnTo>
                    <a:pt x="1327" y="1691"/>
                  </a:lnTo>
                  <a:lnTo>
                    <a:pt x="1327" y="1703"/>
                  </a:lnTo>
                  <a:lnTo>
                    <a:pt x="1327" y="1707"/>
                  </a:lnTo>
                  <a:lnTo>
                    <a:pt x="1328" y="1711"/>
                  </a:lnTo>
                  <a:lnTo>
                    <a:pt x="1328" y="1712"/>
                  </a:lnTo>
                  <a:lnTo>
                    <a:pt x="1328" y="1713"/>
                  </a:lnTo>
                  <a:lnTo>
                    <a:pt x="1329" y="1714"/>
                  </a:lnTo>
                  <a:lnTo>
                    <a:pt x="1329" y="1715"/>
                  </a:lnTo>
                  <a:lnTo>
                    <a:pt x="1329" y="1715"/>
                  </a:lnTo>
                  <a:lnTo>
                    <a:pt x="1330" y="1717"/>
                  </a:lnTo>
                  <a:lnTo>
                    <a:pt x="1330" y="1718"/>
                  </a:lnTo>
                  <a:lnTo>
                    <a:pt x="1330" y="1718"/>
                  </a:lnTo>
                  <a:lnTo>
                    <a:pt x="1330" y="1719"/>
                  </a:lnTo>
                  <a:lnTo>
                    <a:pt x="1331" y="1719"/>
                  </a:lnTo>
                  <a:lnTo>
                    <a:pt x="1331" y="1720"/>
                  </a:lnTo>
                  <a:lnTo>
                    <a:pt x="1331" y="1720"/>
                  </a:lnTo>
                  <a:lnTo>
                    <a:pt x="1331" y="1720"/>
                  </a:lnTo>
                  <a:lnTo>
                    <a:pt x="1331" y="1720"/>
                  </a:lnTo>
                  <a:lnTo>
                    <a:pt x="1331" y="1721"/>
                  </a:lnTo>
                  <a:lnTo>
                    <a:pt x="1331" y="1721"/>
                  </a:lnTo>
                  <a:lnTo>
                    <a:pt x="1331" y="1721"/>
                  </a:lnTo>
                  <a:lnTo>
                    <a:pt x="1330" y="1721"/>
                  </a:lnTo>
                  <a:lnTo>
                    <a:pt x="1330" y="1721"/>
                  </a:lnTo>
                  <a:lnTo>
                    <a:pt x="1330" y="1721"/>
                  </a:lnTo>
                  <a:lnTo>
                    <a:pt x="1330" y="1721"/>
                  </a:lnTo>
                  <a:lnTo>
                    <a:pt x="1330" y="1721"/>
                  </a:lnTo>
                  <a:lnTo>
                    <a:pt x="1330" y="1721"/>
                  </a:lnTo>
                  <a:lnTo>
                    <a:pt x="1330" y="1721"/>
                  </a:lnTo>
                  <a:lnTo>
                    <a:pt x="1335" y="1721"/>
                  </a:lnTo>
                  <a:lnTo>
                    <a:pt x="1341" y="1719"/>
                  </a:lnTo>
                  <a:lnTo>
                    <a:pt x="1348" y="1717"/>
                  </a:lnTo>
                  <a:lnTo>
                    <a:pt x="1354" y="1714"/>
                  </a:lnTo>
                  <a:lnTo>
                    <a:pt x="1362" y="1709"/>
                  </a:lnTo>
                  <a:lnTo>
                    <a:pt x="1370" y="1704"/>
                  </a:lnTo>
                  <a:lnTo>
                    <a:pt x="1387" y="1692"/>
                  </a:lnTo>
                  <a:lnTo>
                    <a:pt x="1388" y="1691"/>
                  </a:lnTo>
                  <a:lnTo>
                    <a:pt x="1388" y="1690"/>
                  </a:lnTo>
                  <a:lnTo>
                    <a:pt x="1407" y="1675"/>
                  </a:lnTo>
                  <a:lnTo>
                    <a:pt x="1428" y="1655"/>
                  </a:lnTo>
                  <a:lnTo>
                    <a:pt x="1479" y="1606"/>
                  </a:lnTo>
                  <a:lnTo>
                    <a:pt x="1525" y="1560"/>
                  </a:lnTo>
                  <a:lnTo>
                    <a:pt x="1574" y="1513"/>
                  </a:lnTo>
                  <a:lnTo>
                    <a:pt x="1627" y="1468"/>
                  </a:lnTo>
                  <a:lnTo>
                    <a:pt x="1685" y="1424"/>
                  </a:lnTo>
                  <a:lnTo>
                    <a:pt x="1766" y="1554"/>
                  </a:lnTo>
                  <a:lnTo>
                    <a:pt x="1719" y="1617"/>
                  </a:lnTo>
                  <a:lnTo>
                    <a:pt x="1672" y="1676"/>
                  </a:lnTo>
                  <a:lnTo>
                    <a:pt x="1624" y="1729"/>
                  </a:lnTo>
                  <a:lnTo>
                    <a:pt x="1578" y="1778"/>
                  </a:lnTo>
                  <a:lnTo>
                    <a:pt x="1532" y="1822"/>
                  </a:lnTo>
                  <a:lnTo>
                    <a:pt x="1486" y="1862"/>
                  </a:lnTo>
                  <a:lnTo>
                    <a:pt x="1440" y="1897"/>
                  </a:lnTo>
                  <a:lnTo>
                    <a:pt x="1396" y="1927"/>
                  </a:lnTo>
                  <a:lnTo>
                    <a:pt x="1388" y="1932"/>
                  </a:lnTo>
                  <a:lnTo>
                    <a:pt x="1388" y="1933"/>
                  </a:lnTo>
                  <a:lnTo>
                    <a:pt x="1360" y="1958"/>
                  </a:lnTo>
                  <a:lnTo>
                    <a:pt x="1325" y="1986"/>
                  </a:lnTo>
                  <a:lnTo>
                    <a:pt x="1292" y="2008"/>
                  </a:lnTo>
                  <a:lnTo>
                    <a:pt x="1261" y="2026"/>
                  </a:lnTo>
                  <a:lnTo>
                    <a:pt x="1232" y="2041"/>
                  </a:lnTo>
                  <a:lnTo>
                    <a:pt x="1204" y="2052"/>
                  </a:lnTo>
                  <a:lnTo>
                    <a:pt x="1191" y="2055"/>
                  </a:lnTo>
                  <a:lnTo>
                    <a:pt x="1179" y="2058"/>
                  </a:lnTo>
                  <a:lnTo>
                    <a:pt x="1167" y="2060"/>
                  </a:lnTo>
                  <a:lnTo>
                    <a:pt x="1155" y="2061"/>
                  </a:lnTo>
                  <a:lnTo>
                    <a:pt x="1132" y="2060"/>
                  </a:lnTo>
                  <a:lnTo>
                    <a:pt x="1122" y="2059"/>
                  </a:lnTo>
                  <a:lnTo>
                    <a:pt x="1111" y="2057"/>
                  </a:lnTo>
                  <a:lnTo>
                    <a:pt x="1101" y="2054"/>
                  </a:lnTo>
                  <a:lnTo>
                    <a:pt x="1091" y="2051"/>
                  </a:lnTo>
                  <a:lnTo>
                    <a:pt x="1082" y="2047"/>
                  </a:lnTo>
                  <a:lnTo>
                    <a:pt x="1073" y="2043"/>
                  </a:lnTo>
                  <a:lnTo>
                    <a:pt x="1064" y="2037"/>
                  </a:lnTo>
                  <a:lnTo>
                    <a:pt x="1054" y="2032"/>
                  </a:lnTo>
                  <a:lnTo>
                    <a:pt x="1046" y="2026"/>
                  </a:lnTo>
                  <a:lnTo>
                    <a:pt x="1039" y="2019"/>
                  </a:lnTo>
                  <a:lnTo>
                    <a:pt x="1031" y="2011"/>
                  </a:lnTo>
                  <a:lnTo>
                    <a:pt x="1024" y="2003"/>
                  </a:lnTo>
                  <a:lnTo>
                    <a:pt x="1017" y="1995"/>
                  </a:lnTo>
                  <a:lnTo>
                    <a:pt x="1011" y="1986"/>
                  </a:lnTo>
                  <a:lnTo>
                    <a:pt x="1005" y="1977"/>
                  </a:lnTo>
                  <a:lnTo>
                    <a:pt x="999" y="1966"/>
                  </a:lnTo>
                  <a:lnTo>
                    <a:pt x="994" y="1955"/>
                  </a:lnTo>
                  <a:lnTo>
                    <a:pt x="989" y="1943"/>
                  </a:lnTo>
                  <a:lnTo>
                    <a:pt x="980" y="1919"/>
                  </a:lnTo>
                  <a:lnTo>
                    <a:pt x="973" y="1891"/>
                  </a:lnTo>
                  <a:lnTo>
                    <a:pt x="967" y="1862"/>
                  </a:lnTo>
                  <a:lnTo>
                    <a:pt x="963" y="1830"/>
                  </a:lnTo>
                  <a:lnTo>
                    <a:pt x="961" y="1795"/>
                  </a:lnTo>
                  <a:lnTo>
                    <a:pt x="960" y="1758"/>
                  </a:lnTo>
                  <a:lnTo>
                    <a:pt x="961" y="1729"/>
                  </a:lnTo>
                  <a:lnTo>
                    <a:pt x="963" y="1696"/>
                  </a:lnTo>
                  <a:lnTo>
                    <a:pt x="974" y="1616"/>
                  </a:lnTo>
                  <a:lnTo>
                    <a:pt x="991" y="1516"/>
                  </a:lnTo>
                  <a:lnTo>
                    <a:pt x="1015" y="1398"/>
                  </a:lnTo>
                  <a:lnTo>
                    <a:pt x="1084" y="1104"/>
                  </a:lnTo>
                  <a:lnTo>
                    <a:pt x="1180" y="732"/>
                  </a:lnTo>
                  <a:lnTo>
                    <a:pt x="1225" y="523"/>
                  </a:lnTo>
                  <a:lnTo>
                    <a:pt x="1236" y="461"/>
                  </a:lnTo>
                  <a:lnTo>
                    <a:pt x="1239" y="440"/>
                  </a:lnTo>
                  <a:lnTo>
                    <a:pt x="1240" y="432"/>
                  </a:lnTo>
                  <a:lnTo>
                    <a:pt x="1240" y="426"/>
                  </a:lnTo>
                  <a:lnTo>
                    <a:pt x="1240" y="422"/>
                  </a:lnTo>
                  <a:lnTo>
                    <a:pt x="1239" y="419"/>
                  </a:lnTo>
                  <a:lnTo>
                    <a:pt x="1239" y="416"/>
                  </a:lnTo>
                  <a:lnTo>
                    <a:pt x="1238" y="414"/>
                  </a:lnTo>
                  <a:lnTo>
                    <a:pt x="1237" y="411"/>
                  </a:lnTo>
                  <a:lnTo>
                    <a:pt x="1235" y="408"/>
                  </a:lnTo>
                  <a:lnTo>
                    <a:pt x="1234" y="407"/>
                  </a:lnTo>
                  <a:lnTo>
                    <a:pt x="1232" y="405"/>
                  </a:lnTo>
                  <a:lnTo>
                    <a:pt x="1230" y="404"/>
                  </a:lnTo>
                  <a:lnTo>
                    <a:pt x="1227" y="402"/>
                  </a:lnTo>
                  <a:lnTo>
                    <a:pt x="1225" y="401"/>
                  </a:lnTo>
                  <a:lnTo>
                    <a:pt x="1222" y="401"/>
                  </a:lnTo>
                  <a:lnTo>
                    <a:pt x="1219" y="400"/>
                  </a:lnTo>
                  <a:lnTo>
                    <a:pt x="1215" y="399"/>
                  </a:lnTo>
                  <a:lnTo>
                    <a:pt x="1212" y="399"/>
                  </a:lnTo>
                  <a:lnTo>
                    <a:pt x="1208" y="399"/>
                  </a:lnTo>
                  <a:lnTo>
                    <a:pt x="1200" y="400"/>
                  </a:lnTo>
                  <a:lnTo>
                    <a:pt x="1191" y="401"/>
                  </a:lnTo>
                  <a:lnTo>
                    <a:pt x="1183" y="404"/>
                  </a:lnTo>
                  <a:lnTo>
                    <a:pt x="1173" y="407"/>
                  </a:lnTo>
                  <a:lnTo>
                    <a:pt x="1154" y="415"/>
                  </a:lnTo>
                  <a:lnTo>
                    <a:pt x="1133" y="425"/>
                  </a:lnTo>
                  <a:lnTo>
                    <a:pt x="1110" y="438"/>
                  </a:lnTo>
                  <a:lnTo>
                    <a:pt x="1086" y="454"/>
                  </a:lnTo>
                  <a:lnTo>
                    <a:pt x="1060" y="473"/>
                  </a:lnTo>
                  <a:lnTo>
                    <a:pt x="1032" y="495"/>
                  </a:lnTo>
                  <a:lnTo>
                    <a:pt x="989" y="532"/>
                  </a:lnTo>
                  <a:lnTo>
                    <a:pt x="946" y="570"/>
                  </a:lnTo>
                  <a:lnTo>
                    <a:pt x="904" y="611"/>
                  </a:lnTo>
                  <a:lnTo>
                    <a:pt x="863" y="653"/>
                  </a:lnTo>
                  <a:lnTo>
                    <a:pt x="782" y="744"/>
                  </a:lnTo>
                  <a:lnTo>
                    <a:pt x="704" y="843"/>
                  </a:lnTo>
                  <a:lnTo>
                    <a:pt x="695" y="869"/>
                  </a:lnTo>
                  <a:lnTo>
                    <a:pt x="686" y="900"/>
                  </a:lnTo>
                  <a:lnTo>
                    <a:pt x="665" y="978"/>
                  </a:lnTo>
                  <a:lnTo>
                    <a:pt x="643" y="1077"/>
                  </a:lnTo>
                  <a:lnTo>
                    <a:pt x="618" y="1196"/>
                  </a:lnTo>
                  <a:lnTo>
                    <a:pt x="455" y="2010"/>
                  </a:lnTo>
                  <a:lnTo>
                    <a:pt x="96" y="2015"/>
                  </a:lnTo>
                  <a:lnTo>
                    <a:pt x="237" y="1324"/>
                  </a:lnTo>
                  <a:lnTo>
                    <a:pt x="408" y="477"/>
                  </a:lnTo>
                  <a:lnTo>
                    <a:pt x="412" y="455"/>
                  </a:lnTo>
                  <a:lnTo>
                    <a:pt x="415" y="437"/>
                  </a:lnTo>
                  <a:lnTo>
                    <a:pt x="416" y="424"/>
                  </a:lnTo>
                  <a:lnTo>
                    <a:pt x="417" y="419"/>
                  </a:lnTo>
                  <a:lnTo>
                    <a:pt x="417" y="414"/>
                  </a:lnTo>
                  <a:lnTo>
                    <a:pt x="417" y="409"/>
                  </a:lnTo>
                  <a:lnTo>
                    <a:pt x="417" y="405"/>
                  </a:lnTo>
                  <a:lnTo>
                    <a:pt x="417" y="404"/>
                  </a:lnTo>
                  <a:lnTo>
                    <a:pt x="417" y="403"/>
                  </a:lnTo>
                  <a:lnTo>
                    <a:pt x="417" y="403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8" y="402"/>
                  </a:lnTo>
                  <a:lnTo>
                    <a:pt x="416" y="402"/>
                  </a:lnTo>
                  <a:lnTo>
                    <a:pt x="413" y="403"/>
                  </a:lnTo>
                  <a:lnTo>
                    <a:pt x="410" y="403"/>
                  </a:lnTo>
                  <a:lnTo>
                    <a:pt x="407" y="405"/>
                  </a:lnTo>
                  <a:lnTo>
                    <a:pt x="400" y="408"/>
                  </a:lnTo>
                  <a:lnTo>
                    <a:pt x="392" y="413"/>
                  </a:lnTo>
                  <a:lnTo>
                    <a:pt x="382" y="420"/>
                  </a:lnTo>
                  <a:lnTo>
                    <a:pt x="372" y="428"/>
                  </a:lnTo>
                  <a:lnTo>
                    <a:pt x="348" y="448"/>
                  </a:lnTo>
                  <a:lnTo>
                    <a:pt x="291" y="495"/>
                  </a:lnTo>
                  <a:lnTo>
                    <a:pt x="232" y="550"/>
                  </a:lnTo>
                  <a:lnTo>
                    <a:pt x="171" y="61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51320" y="1779480"/>
              <a:ext cx="598680" cy="776520"/>
            </a:xfrm>
            <a:custGeom>
              <a:avLst/>
              <a:gdLst/>
              <a:ahLst/>
              <a:rect l="l" t="t" r="r" b="b"/>
              <a:pathLst>
                <a:path w="1661" h="2156">
                  <a:moveTo>
                    <a:pt x="1378" y="42"/>
                  </a:moveTo>
                  <a:lnTo>
                    <a:pt x="1571" y="0"/>
                  </a:lnTo>
                  <a:lnTo>
                    <a:pt x="1425" y="641"/>
                  </a:lnTo>
                  <a:lnTo>
                    <a:pt x="1381" y="821"/>
                  </a:lnTo>
                  <a:lnTo>
                    <a:pt x="1340" y="1013"/>
                  </a:lnTo>
                  <a:lnTo>
                    <a:pt x="1300" y="1216"/>
                  </a:lnTo>
                  <a:lnTo>
                    <a:pt x="1262" y="1432"/>
                  </a:lnTo>
                  <a:lnTo>
                    <a:pt x="1244" y="1540"/>
                  </a:lnTo>
                  <a:lnTo>
                    <a:pt x="1231" y="1627"/>
                  </a:lnTo>
                  <a:lnTo>
                    <a:pt x="1224" y="1693"/>
                  </a:lnTo>
                  <a:lnTo>
                    <a:pt x="1222" y="1718"/>
                  </a:lnTo>
                  <a:lnTo>
                    <a:pt x="1221" y="1738"/>
                  </a:lnTo>
                  <a:lnTo>
                    <a:pt x="1221" y="1744"/>
                  </a:lnTo>
                  <a:lnTo>
                    <a:pt x="1221" y="1749"/>
                  </a:lnTo>
                  <a:lnTo>
                    <a:pt x="1222" y="1753"/>
                  </a:lnTo>
                  <a:lnTo>
                    <a:pt x="1222" y="1755"/>
                  </a:lnTo>
                  <a:lnTo>
                    <a:pt x="1223" y="1756"/>
                  </a:lnTo>
                  <a:lnTo>
                    <a:pt x="1223" y="1757"/>
                  </a:lnTo>
                  <a:lnTo>
                    <a:pt x="1224" y="1759"/>
                  </a:lnTo>
                  <a:lnTo>
                    <a:pt x="1224" y="1760"/>
                  </a:lnTo>
                  <a:lnTo>
                    <a:pt x="1225" y="1761"/>
                  </a:lnTo>
                  <a:lnTo>
                    <a:pt x="1225" y="1761"/>
                  </a:lnTo>
                  <a:lnTo>
                    <a:pt x="1225" y="1761"/>
                  </a:lnTo>
                  <a:lnTo>
                    <a:pt x="1226" y="1761"/>
                  </a:lnTo>
                  <a:lnTo>
                    <a:pt x="1226" y="1762"/>
                  </a:lnTo>
                  <a:lnTo>
                    <a:pt x="1227" y="1762"/>
                  </a:lnTo>
                  <a:lnTo>
                    <a:pt x="1227" y="1762"/>
                  </a:lnTo>
                  <a:lnTo>
                    <a:pt x="1228" y="1762"/>
                  </a:lnTo>
                  <a:lnTo>
                    <a:pt x="1228" y="1762"/>
                  </a:lnTo>
                  <a:lnTo>
                    <a:pt x="1231" y="1762"/>
                  </a:lnTo>
                  <a:lnTo>
                    <a:pt x="1234" y="1761"/>
                  </a:lnTo>
                  <a:lnTo>
                    <a:pt x="1237" y="1761"/>
                  </a:lnTo>
                  <a:lnTo>
                    <a:pt x="1241" y="1760"/>
                  </a:lnTo>
                  <a:lnTo>
                    <a:pt x="1249" y="1756"/>
                  </a:lnTo>
                  <a:lnTo>
                    <a:pt x="1258" y="1752"/>
                  </a:lnTo>
                  <a:lnTo>
                    <a:pt x="1268" y="1746"/>
                  </a:lnTo>
                  <a:lnTo>
                    <a:pt x="1280" y="1739"/>
                  </a:lnTo>
                  <a:lnTo>
                    <a:pt x="1306" y="1721"/>
                  </a:lnTo>
                  <a:lnTo>
                    <a:pt x="1364" y="1677"/>
                  </a:lnTo>
                  <a:lnTo>
                    <a:pt x="1427" y="1625"/>
                  </a:lnTo>
                  <a:lnTo>
                    <a:pt x="1492" y="1567"/>
                  </a:lnTo>
                  <a:lnTo>
                    <a:pt x="1560" y="1501"/>
                  </a:lnTo>
                  <a:lnTo>
                    <a:pt x="1660" y="1640"/>
                  </a:lnTo>
                  <a:lnTo>
                    <a:pt x="1468" y="1856"/>
                  </a:lnTo>
                  <a:lnTo>
                    <a:pt x="1402" y="1923"/>
                  </a:lnTo>
                  <a:lnTo>
                    <a:pt x="1378" y="1947"/>
                  </a:lnTo>
                  <a:lnTo>
                    <a:pt x="1359" y="1964"/>
                  </a:lnTo>
                  <a:lnTo>
                    <a:pt x="1296" y="2013"/>
                  </a:lnTo>
                  <a:lnTo>
                    <a:pt x="1234" y="2056"/>
                  </a:lnTo>
                  <a:lnTo>
                    <a:pt x="1203" y="2074"/>
                  </a:lnTo>
                  <a:lnTo>
                    <a:pt x="1173" y="2090"/>
                  </a:lnTo>
                  <a:lnTo>
                    <a:pt x="1143" y="2106"/>
                  </a:lnTo>
                  <a:lnTo>
                    <a:pt x="1114" y="2119"/>
                  </a:lnTo>
                  <a:lnTo>
                    <a:pt x="1095" y="2127"/>
                  </a:lnTo>
                  <a:lnTo>
                    <a:pt x="1075" y="2135"/>
                  </a:lnTo>
                  <a:lnTo>
                    <a:pt x="1056" y="2141"/>
                  </a:lnTo>
                  <a:lnTo>
                    <a:pt x="1036" y="2146"/>
                  </a:lnTo>
                  <a:lnTo>
                    <a:pt x="1016" y="2149"/>
                  </a:lnTo>
                  <a:lnTo>
                    <a:pt x="996" y="2152"/>
                  </a:lnTo>
                  <a:lnTo>
                    <a:pt x="977" y="2154"/>
                  </a:lnTo>
                  <a:lnTo>
                    <a:pt x="957" y="2154"/>
                  </a:lnTo>
                  <a:lnTo>
                    <a:pt x="941" y="2153"/>
                  </a:lnTo>
                  <a:lnTo>
                    <a:pt x="925" y="2152"/>
                  </a:lnTo>
                  <a:lnTo>
                    <a:pt x="911" y="2148"/>
                  </a:lnTo>
                  <a:lnTo>
                    <a:pt x="898" y="2145"/>
                  </a:lnTo>
                  <a:lnTo>
                    <a:pt x="891" y="2141"/>
                  </a:lnTo>
                  <a:lnTo>
                    <a:pt x="885" y="2139"/>
                  </a:lnTo>
                  <a:lnTo>
                    <a:pt x="879" y="2136"/>
                  </a:lnTo>
                  <a:lnTo>
                    <a:pt x="874" y="2132"/>
                  </a:lnTo>
                  <a:lnTo>
                    <a:pt x="869" y="2129"/>
                  </a:lnTo>
                  <a:lnTo>
                    <a:pt x="863" y="2124"/>
                  </a:lnTo>
                  <a:lnTo>
                    <a:pt x="859" y="2119"/>
                  </a:lnTo>
                  <a:lnTo>
                    <a:pt x="854" y="2114"/>
                  </a:lnTo>
                  <a:lnTo>
                    <a:pt x="849" y="2110"/>
                  </a:lnTo>
                  <a:lnTo>
                    <a:pt x="845" y="2104"/>
                  </a:lnTo>
                  <a:lnTo>
                    <a:pt x="841" y="2099"/>
                  </a:lnTo>
                  <a:lnTo>
                    <a:pt x="838" y="2093"/>
                  </a:lnTo>
                  <a:lnTo>
                    <a:pt x="834" y="2086"/>
                  </a:lnTo>
                  <a:lnTo>
                    <a:pt x="831" y="2080"/>
                  </a:lnTo>
                  <a:lnTo>
                    <a:pt x="829" y="2073"/>
                  </a:lnTo>
                  <a:lnTo>
                    <a:pt x="826" y="2067"/>
                  </a:lnTo>
                  <a:lnTo>
                    <a:pt x="823" y="2060"/>
                  </a:lnTo>
                  <a:lnTo>
                    <a:pt x="821" y="2052"/>
                  </a:lnTo>
                  <a:lnTo>
                    <a:pt x="818" y="2037"/>
                  </a:lnTo>
                  <a:lnTo>
                    <a:pt x="817" y="2020"/>
                  </a:lnTo>
                  <a:lnTo>
                    <a:pt x="816" y="2002"/>
                  </a:lnTo>
                  <a:lnTo>
                    <a:pt x="816" y="1992"/>
                  </a:lnTo>
                  <a:lnTo>
                    <a:pt x="817" y="1980"/>
                  </a:lnTo>
                  <a:lnTo>
                    <a:pt x="818" y="1967"/>
                  </a:lnTo>
                  <a:lnTo>
                    <a:pt x="820" y="1955"/>
                  </a:lnTo>
                  <a:lnTo>
                    <a:pt x="827" y="1927"/>
                  </a:lnTo>
                  <a:lnTo>
                    <a:pt x="834" y="1896"/>
                  </a:lnTo>
                  <a:lnTo>
                    <a:pt x="910" y="1646"/>
                  </a:lnTo>
                  <a:lnTo>
                    <a:pt x="884" y="1701"/>
                  </a:lnTo>
                  <a:lnTo>
                    <a:pt x="854" y="1752"/>
                  </a:lnTo>
                  <a:lnTo>
                    <a:pt x="819" y="1802"/>
                  </a:lnTo>
                  <a:lnTo>
                    <a:pt x="782" y="1848"/>
                  </a:lnTo>
                  <a:lnTo>
                    <a:pt x="740" y="1891"/>
                  </a:lnTo>
                  <a:lnTo>
                    <a:pt x="696" y="1932"/>
                  </a:lnTo>
                  <a:lnTo>
                    <a:pt x="647" y="1972"/>
                  </a:lnTo>
                  <a:lnTo>
                    <a:pt x="594" y="2007"/>
                  </a:lnTo>
                  <a:lnTo>
                    <a:pt x="552" y="2042"/>
                  </a:lnTo>
                  <a:lnTo>
                    <a:pt x="512" y="2071"/>
                  </a:lnTo>
                  <a:lnTo>
                    <a:pt x="473" y="2098"/>
                  </a:lnTo>
                  <a:lnTo>
                    <a:pt x="435" y="2118"/>
                  </a:lnTo>
                  <a:lnTo>
                    <a:pt x="397" y="2134"/>
                  </a:lnTo>
                  <a:lnTo>
                    <a:pt x="362" y="2145"/>
                  </a:lnTo>
                  <a:lnTo>
                    <a:pt x="344" y="2150"/>
                  </a:lnTo>
                  <a:lnTo>
                    <a:pt x="327" y="2152"/>
                  </a:lnTo>
                  <a:lnTo>
                    <a:pt x="310" y="2155"/>
                  </a:lnTo>
                  <a:lnTo>
                    <a:pt x="294" y="2155"/>
                  </a:lnTo>
                  <a:lnTo>
                    <a:pt x="278" y="2154"/>
                  </a:lnTo>
                  <a:lnTo>
                    <a:pt x="262" y="2153"/>
                  </a:lnTo>
                  <a:lnTo>
                    <a:pt x="246" y="2149"/>
                  </a:lnTo>
                  <a:lnTo>
                    <a:pt x="231" y="2143"/>
                  </a:lnTo>
                  <a:lnTo>
                    <a:pt x="216" y="2138"/>
                  </a:lnTo>
                  <a:lnTo>
                    <a:pt x="202" y="2129"/>
                  </a:lnTo>
                  <a:lnTo>
                    <a:pt x="188" y="2120"/>
                  </a:lnTo>
                  <a:lnTo>
                    <a:pt x="174" y="2110"/>
                  </a:lnTo>
                  <a:lnTo>
                    <a:pt x="161" y="2097"/>
                  </a:lnTo>
                  <a:lnTo>
                    <a:pt x="149" y="2084"/>
                  </a:lnTo>
                  <a:lnTo>
                    <a:pt x="137" y="2069"/>
                  </a:lnTo>
                  <a:lnTo>
                    <a:pt x="125" y="2052"/>
                  </a:lnTo>
                  <a:lnTo>
                    <a:pt x="114" y="2033"/>
                  </a:lnTo>
                  <a:lnTo>
                    <a:pt x="103" y="2015"/>
                  </a:lnTo>
                  <a:lnTo>
                    <a:pt x="82" y="1971"/>
                  </a:lnTo>
                  <a:lnTo>
                    <a:pt x="72" y="1963"/>
                  </a:lnTo>
                  <a:lnTo>
                    <a:pt x="63" y="1953"/>
                  </a:lnTo>
                  <a:lnTo>
                    <a:pt x="54" y="1942"/>
                  </a:lnTo>
                  <a:lnTo>
                    <a:pt x="47" y="1930"/>
                  </a:lnTo>
                  <a:lnTo>
                    <a:pt x="39" y="1918"/>
                  </a:lnTo>
                  <a:lnTo>
                    <a:pt x="33" y="1902"/>
                  </a:lnTo>
                  <a:lnTo>
                    <a:pt x="26" y="1887"/>
                  </a:lnTo>
                  <a:lnTo>
                    <a:pt x="20" y="1871"/>
                  </a:lnTo>
                  <a:lnTo>
                    <a:pt x="16" y="1852"/>
                  </a:lnTo>
                  <a:lnTo>
                    <a:pt x="11" y="1833"/>
                  </a:lnTo>
                  <a:lnTo>
                    <a:pt x="5" y="1791"/>
                  </a:lnTo>
                  <a:lnTo>
                    <a:pt x="1" y="1744"/>
                  </a:lnTo>
                  <a:lnTo>
                    <a:pt x="0" y="1692"/>
                  </a:lnTo>
                  <a:lnTo>
                    <a:pt x="2" y="1629"/>
                  </a:lnTo>
                  <a:lnTo>
                    <a:pt x="7" y="1564"/>
                  </a:lnTo>
                  <a:lnTo>
                    <a:pt x="16" y="1498"/>
                  </a:lnTo>
                  <a:lnTo>
                    <a:pt x="28" y="1430"/>
                  </a:lnTo>
                  <a:lnTo>
                    <a:pt x="45" y="1359"/>
                  </a:lnTo>
                  <a:lnTo>
                    <a:pt x="64" y="1289"/>
                  </a:lnTo>
                  <a:lnTo>
                    <a:pt x="87" y="1214"/>
                  </a:lnTo>
                  <a:lnTo>
                    <a:pt x="113" y="1140"/>
                  </a:lnTo>
                  <a:lnTo>
                    <a:pt x="142" y="1066"/>
                  </a:lnTo>
                  <a:lnTo>
                    <a:pt x="173" y="992"/>
                  </a:lnTo>
                  <a:lnTo>
                    <a:pt x="207" y="921"/>
                  </a:lnTo>
                  <a:lnTo>
                    <a:pt x="244" y="851"/>
                  </a:lnTo>
                  <a:lnTo>
                    <a:pt x="283" y="783"/>
                  </a:lnTo>
                  <a:lnTo>
                    <a:pt x="324" y="716"/>
                  </a:lnTo>
                  <a:lnTo>
                    <a:pt x="367" y="652"/>
                  </a:lnTo>
                  <a:lnTo>
                    <a:pt x="413" y="589"/>
                  </a:lnTo>
                  <a:lnTo>
                    <a:pt x="461" y="528"/>
                  </a:lnTo>
                  <a:lnTo>
                    <a:pt x="509" y="472"/>
                  </a:lnTo>
                  <a:lnTo>
                    <a:pt x="558" y="419"/>
                  </a:lnTo>
                  <a:lnTo>
                    <a:pt x="607" y="371"/>
                  </a:lnTo>
                  <a:lnTo>
                    <a:pt x="658" y="327"/>
                  </a:lnTo>
                  <a:lnTo>
                    <a:pt x="708" y="287"/>
                  </a:lnTo>
                  <a:lnTo>
                    <a:pt x="759" y="251"/>
                  </a:lnTo>
                  <a:lnTo>
                    <a:pt x="811" y="218"/>
                  </a:lnTo>
                  <a:lnTo>
                    <a:pt x="855" y="196"/>
                  </a:lnTo>
                  <a:lnTo>
                    <a:pt x="900" y="176"/>
                  </a:lnTo>
                  <a:lnTo>
                    <a:pt x="948" y="160"/>
                  </a:lnTo>
                  <a:lnTo>
                    <a:pt x="999" y="146"/>
                  </a:lnTo>
                  <a:lnTo>
                    <a:pt x="1054" y="135"/>
                  </a:lnTo>
                  <a:lnTo>
                    <a:pt x="1110" y="127"/>
                  </a:lnTo>
                  <a:lnTo>
                    <a:pt x="1169" y="122"/>
                  </a:lnTo>
                  <a:lnTo>
                    <a:pt x="1232" y="119"/>
                  </a:lnTo>
                  <a:lnTo>
                    <a:pt x="1261" y="119"/>
                  </a:lnTo>
                  <a:lnTo>
                    <a:pt x="1288" y="121"/>
                  </a:lnTo>
                  <a:lnTo>
                    <a:pt x="1313" y="122"/>
                  </a:lnTo>
                  <a:lnTo>
                    <a:pt x="1325" y="125"/>
                  </a:lnTo>
                  <a:lnTo>
                    <a:pt x="1336" y="127"/>
                  </a:lnTo>
                  <a:close/>
                  <a:moveTo>
                    <a:pt x="1124" y="473"/>
                  </a:moveTo>
                  <a:lnTo>
                    <a:pt x="1090" y="466"/>
                  </a:lnTo>
                  <a:lnTo>
                    <a:pt x="1056" y="462"/>
                  </a:lnTo>
                  <a:lnTo>
                    <a:pt x="1021" y="460"/>
                  </a:lnTo>
                  <a:lnTo>
                    <a:pt x="987" y="459"/>
                  </a:lnTo>
                  <a:lnTo>
                    <a:pt x="948" y="461"/>
                  </a:lnTo>
                  <a:lnTo>
                    <a:pt x="911" y="468"/>
                  </a:lnTo>
                  <a:lnTo>
                    <a:pt x="874" y="477"/>
                  </a:lnTo>
                  <a:lnTo>
                    <a:pt x="839" y="488"/>
                  </a:lnTo>
                  <a:lnTo>
                    <a:pt x="803" y="504"/>
                  </a:lnTo>
                  <a:lnTo>
                    <a:pt x="770" y="522"/>
                  </a:lnTo>
                  <a:lnTo>
                    <a:pt x="739" y="544"/>
                  </a:lnTo>
                  <a:lnTo>
                    <a:pt x="708" y="569"/>
                  </a:lnTo>
                  <a:lnTo>
                    <a:pt x="693" y="582"/>
                  </a:lnTo>
                  <a:lnTo>
                    <a:pt x="679" y="598"/>
                  </a:lnTo>
                  <a:lnTo>
                    <a:pt x="649" y="632"/>
                  </a:lnTo>
                  <a:lnTo>
                    <a:pt x="619" y="673"/>
                  </a:lnTo>
                  <a:lnTo>
                    <a:pt x="591" y="718"/>
                  </a:lnTo>
                  <a:lnTo>
                    <a:pt x="563" y="769"/>
                  </a:lnTo>
                  <a:lnTo>
                    <a:pt x="535" y="826"/>
                  </a:lnTo>
                  <a:lnTo>
                    <a:pt x="508" y="889"/>
                  </a:lnTo>
                  <a:lnTo>
                    <a:pt x="481" y="957"/>
                  </a:lnTo>
                  <a:lnTo>
                    <a:pt x="456" y="1028"/>
                  </a:lnTo>
                  <a:lnTo>
                    <a:pt x="434" y="1097"/>
                  </a:lnTo>
                  <a:lnTo>
                    <a:pt x="415" y="1168"/>
                  </a:lnTo>
                  <a:lnTo>
                    <a:pt x="400" y="1239"/>
                  </a:lnTo>
                  <a:lnTo>
                    <a:pt x="388" y="1309"/>
                  </a:lnTo>
                  <a:lnTo>
                    <a:pt x="380" y="1380"/>
                  </a:lnTo>
                  <a:lnTo>
                    <a:pt x="375" y="1449"/>
                  </a:lnTo>
                  <a:lnTo>
                    <a:pt x="373" y="1520"/>
                  </a:lnTo>
                  <a:lnTo>
                    <a:pt x="374" y="1554"/>
                  </a:lnTo>
                  <a:lnTo>
                    <a:pt x="375" y="1585"/>
                  </a:lnTo>
                  <a:lnTo>
                    <a:pt x="378" y="1613"/>
                  </a:lnTo>
                  <a:lnTo>
                    <a:pt x="382" y="1639"/>
                  </a:lnTo>
                  <a:lnTo>
                    <a:pt x="387" y="1661"/>
                  </a:lnTo>
                  <a:lnTo>
                    <a:pt x="392" y="1681"/>
                  </a:lnTo>
                  <a:lnTo>
                    <a:pt x="396" y="1689"/>
                  </a:lnTo>
                  <a:lnTo>
                    <a:pt x="399" y="1697"/>
                  </a:lnTo>
                  <a:lnTo>
                    <a:pt x="403" y="1704"/>
                  </a:lnTo>
                  <a:lnTo>
                    <a:pt x="407" y="1711"/>
                  </a:lnTo>
                  <a:lnTo>
                    <a:pt x="411" y="1717"/>
                  </a:lnTo>
                  <a:lnTo>
                    <a:pt x="416" y="1724"/>
                  </a:lnTo>
                  <a:lnTo>
                    <a:pt x="420" y="1729"/>
                  </a:lnTo>
                  <a:lnTo>
                    <a:pt x="425" y="1735"/>
                  </a:lnTo>
                  <a:lnTo>
                    <a:pt x="431" y="1738"/>
                  </a:lnTo>
                  <a:lnTo>
                    <a:pt x="436" y="1743"/>
                  </a:lnTo>
                  <a:lnTo>
                    <a:pt x="441" y="1747"/>
                  </a:lnTo>
                  <a:lnTo>
                    <a:pt x="446" y="1750"/>
                  </a:lnTo>
                  <a:lnTo>
                    <a:pt x="451" y="1754"/>
                  </a:lnTo>
                  <a:lnTo>
                    <a:pt x="457" y="1756"/>
                  </a:lnTo>
                  <a:lnTo>
                    <a:pt x="463" y="1758"/>
                  </a:lnTo>
                  <a:lnTo>
                    <a:pt x="468" y="1759"/>
                  </a:lnTo>
                  <a:lnTo>
                    <a:pt x="474" y="1762"/>
                  </a:lnTo>
                  <a:lnTo>
                    <a:pt x="480" y="1762"/>
                  </a:lnTo>
                  <a:lnTo>
                    <a:pt x="487" y="1763"/>
                  </a:lnTo>
                  <a:lnTo>
                    <a:pt x="493" y="1763"/>
                  </a:lnTo>
                  <a:lnTo>
                    <a:pt x="508" y="1761"/>
                  </a:lnTo>
                  <a:lnTo>
                    <a:pt x="523" y="1760"/>
                  </a:lnTo>
                  <a:lnTo>
                    <a:pt x="538" y="1756"/>
                  </a:lnTo>
                  <a:lnTo>
                    <a:pt x="553" y="1753"/>
                  </a:lnTo>
                  <a:lnTo>
                    <a:pt x="569" y="1747"/>
                  </a:lnTo>
                  <a:lnTo>
                    <a:pt x="584" y="1740"/>
                  </a:lnTo>
                  <a:lnTo>
                    <a:pt x="617" y="1723"/>
                  </a:lnTo>
                  <a:lnTo>
                    <a:pt x="650" y="1700"/>
                  </a:lnTo>
                  <a:lnTo>
                    <a:pt x="684" y="1673"/>
                  </a:lnTo>
                  <a:lnTo>
                    <a:pt x="718" y="1641"/>
                  </a:lnTo>
                  <a:lnTo>
                    <a:pt x="753" y="1603"/>
                  </a:lnTo>
                  <a:lnTo>
                    <a:pt x="787" y="1561"/>
                  </a:lnTo>
                  <a:lnTo>
                    <a:pt x="820" y="1513"/>
                  </a:lnTo>
                  <a:lnTo>
                    <a:pt x="850" y="1462"/>
                  </a:lnTo>
                  <a:lnTo>
                    <a:pt x="878" y="1407"/>
                  </a:lnTo>
                  <a:lnTo>
                    <a:pt x="903" y="1346"/>
                  </a:lnTo>
                  <a:lnTo>
                    <a:pt x="926" y="1281"/>
                  </a:lnTo>
                  <a:lnTo>
                    <a:pt x="947" y="1212"/>
                  </a:lnTo>
                  <a:lnTo>
                    <a:pt x="965" y="113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79880" y="1806480"/>
              <a:ext cx="482760" cy="746280"/>
            </a:xfrm>
            <a:custGeom>
              <a:avLst/>
              <a:gdLst/>
              <a:ahLst/>
              <a:rect l="l" t="t" r="r" b="b"/>
              <a:pathLst>
                <a:path w="1339" h="2074">
                  <a:moveTo>
                    <a:pt x="1116" y="1426"/>
                  </a:moveTo>
                  <a:lnTo>
                    <a:pt x="1180" y="1621"/>
                  </a:lnTo>
                  <a:lnTo>
                    <a:pt x="1061" y="1727"/>
                  </a:lnTo>
                  <a:lnTo>
                    <a:pt x="946" y="1820"/>
                  </a:lnTo>
                  <a:lnTo>
                    <a:pt x="836" y="1897"/>
                  </a:lnTo>
                  <a:lnTo>
                    <a:pt x="732" y="1961"/>
                  </a:lnTo>
                  <a:lnTo>
                    <a:pt x="632" y="2010"/>
                  </a:lnTo>
                  <a:lnTo>
                    <a:pt x="584" y="2029"/>
                  </a:lnTo>
                  <a:lnTo>
                    <a:pt x="537" y="2046"/>
                  </a:lnTo>
                  <a:lnTo>
                    <a:pt x="492" y="2057"/>
                  </a:lnTo>
                  <a:lnTo>
                    <a:pt x="446" y="2067"/>
                  </a:lnTo>
                  <a:lnTo>
                    <a:pt x="403" y="2071"/>
                  </a:lnTo>
                  <a:lnTo>
                    <a:pt x="363" y="2071"/>
                  </a:lnTo>
                  <a:lnTo>
                    <a:pt x="363" y="2072"/>
                  </a:lnTo>
                  <a:lnTo>
                    <a:pt x="361" y="2073"/>
                  </a:lnTo>
                  <a:lnTo>
                    <a:pt x="315" y="2071"/>
                  </a:lnTo>
                  <a:lnTo>
                    <a:pt x="294" y="2068"/>
                  </a:lnTo>
                  <a:lnTo>
                    <a:pt x="273" y="2064"/>
                  </a:lnTo>
                  <a:lnTo>
                    <a:pt x="252" y="2058"/>
                  </a:lnTo>
                  <a:lnTo>
                    <a:pt x="233" y="2051"/>
                  </a:lnTo>
                  <a:lnTo>
                    <a:pt x="215" y="2044"/>
                  </a:lnTo>
                  <a:lnTo>
                    <a:pt x="197" y="2035"/>
                  </a:lnTo>
                  <a:lnTo>
                    <a:pt x="180" y="2024"/>
                  </a:lnTo>
                  <a:lnTo>
                    <a:pt x="165" y="2012"/>
                  </a:lnTo>
                  <a:lnTo>
                    <a:pt x="149" y="1999"/>
                  </a:lnTo>
                  <a:lnTo>
                    <a:pt x="135" y="1985"/>
                  </a:lnTo>
                  <a:lnTo>
                    <a:pt x="122" y="1970"/>
                  </a:lnTo>
                  <a:lnTo>
                    <a:pt x="109" y="1953"/>
                  </a:lnTo>
                  <a:lnTo>
                    <a:pt x="97" y="1936"/>
                  </a:lnTo>
                  <a:lnTo>
                    <a:pt x="86" y="1917"/>
                  </a:lnTo>
                  <a:lnTo>
                    <a:pt x="65" y="1876"/>
                  </a:lnTo>
                  <a:lnTo>
                    <a:pt x="48" y="1832"/>
                  </a:lnTo>
                  <a:lnTo>
                    <a:pt x="33" y="1787"/>
                  </a:lnTo>
                  <a:lnTo>
                    <a:pt x="22" y="1740"/>
                  </a:lnTo>
                  <a:lnTo>
                    <a:pt x="12" y="1690"/>
                  </a:lnTo>
                  <a:lnTo>
                    <a:pt x="5" y="1639"/>
                  </a:lnTo>
                  <a:lnTo>
                    <a:pt x="1" y="1584"/>
                  </a:lnTo>
                  <a:lnTo>
                    <a:pt x="0" y="1527"/>
                  </a:lnTo>
                  <a:lnTo>
                    <a:pt x="3" y="1433"/>
                  </a:lnTo>
                  <a:lnTo>
                    <a:pt x="10" y="1339"/>
                  </a:lnTo>
                  <a:lnTo>
                    <a:pt x="24" y="1245"/>
                  </a:lnTo>
                  <a:lnTo>
                    <a:pt x="42" y="1150"/>
                  </a:lnTo>
                  <a:lnTo>
                    <a:pt x="65" y="1053"/>
                  </a:lnTo>
                  <a:lnTo>
                    <a:pt x="95" y="957"/>
                  </a:lnTo>
                  <a:lnTo>
                    <a:pt x="128" y="859"/>
                  </a:lnTo>
                  <a:lnTo>
                    <a:pt x="167" y="761"/>
                  </a:lnTo>
                  <a:lnTo>
                    <a:pt x="209" y="666"/>
                  </a:lnTo>
                  <a:lnTo>
                    <a:pt x="253" y="579"/>
                  </a:lnTo>
                  <a:lnTo>
                    <a:pt x="300" y="498"/>
                  </a:lnTo>
                  <a:lnTo>
                    <a:pt x="348" y="425"/>
                  </a:lnTo>
                  <a:lnTo>
                    <a:pt x="363" y="403"/>
                  </a:lnTo>
                  <a:lnTo>
                    <a:pt x="363" y="402"/>
                  </a:lnTo>
                  <a:lnTo>
                    <a:pt x="397" y="361"/>
                  </a:lnTo>
                  <a:lnTo>
                    <a:pt x="448" y="303"/>
                  </a:lnTo>
                  <a:lnTo>
                    <a:pt x="502" y="254"/>
                  </a:lnTo>
                  <a:lnTo>
                    <a:pt x="557" y="212"/>
                  </a:lnTo>
                  <a:lnTo>
                    <a:pt x="610" y="161"/>
                  </a:lnTo>
                  <a:lnTo>
                    <a:pt x="664" y="118"/>
                  </a:lnTo>
                  <a:lnTo>
                    <a:pt x="719" y="81"/>
                  </a:lnTo>
                  <a:lnTo>
                    <a:pt x="774" y="51"/>
                  </a:lnTo>
                  <a:lnTo>
                    <a:pt x="830" y="28"/>
                  </a:lnTo>
                  <a:lnTo>
                    <a:pt x="889" y="11"/>
                  </a:lnTo>
                  <a:lnTo>
                    <a:pt x="947" y="3"/>
                  </a:lnTo>
                  <a:lnTo>
                    <a:pt x="1006" y="0"/>
                  </a:lnTo>
                  <a:lnTo>
                    <a:pt x="1044" y="2"/>
                  </a:lnTo>
                  <a:lnTo>
                    <a:pt x="1081" y="6"/>
                  </a:lnTo>
                  <a:lnTo>
                    <a:pt x="1114" y="13"/>
                  </a:lnTo>
                  <a:lnTo>
                    <a:pt x="1146" y="22"/>
                  </a:lnTo>
                  <a:lnTo>
                    <a:pt x="1175" y="33"/>
                  </a:lnTo>
                  <a:lnTo>
                    <a:pt x="1202" y="47"/>
                  </a:lnTo>
                  <a:lnTo>
                    <a:pt x="1227" y="62"/>
                  </a:lnTo>
                  <a:lnTo>
                    <a:pt x="1239" y="71"/>
                  </a:lnTo>
                  <a:lnTo>
                    <a:pt x="1250" y="81"/>
                  </a:lnTo>
                  <a:lnTo>
                    <a:pt x="1271" y="100"/>
                  </a:lnTo>
                  <a:lnTo>
                    <a:pt x="1281" y="111"/>
                  </a:lnTo>
                  <a:lnTo>
                    <a:pt x="1289" y="122"/>
                  </a:lnTo>
                  <a:lnTo>
                    <a:pt x="1297" y="132"/>
                  </a:lnTo>
                  <a:lnTo>
                    <a:pt x="1304" y="143"/>
                  </a:lnTo>
                  <a:lnTo>
                    <a:pt x="1310" y="155"/>
                  </a:lnTo>
                  <a:lnTo>
                    <a:pt x="1316" y="167"/>
                  </a:lnTo>
                  <a:lnTo>
                    <a:pt x="1321" y="179"/>
                  </a:lnTo>
                  <a:lnTo>
                    <a:pt x="1326" y="191"/>
                  </a:lnTo>
                  <a:lnTo>
                    <a:pt x="1330" y="204"/>
                  </a:lnTo>
                  <a:lnTo>
                    <a:pt x="1333" y="217"/>
                  </a:lnTo>
                  <a:lnTo>
                    <a:pt x="1335" y="230"/>
                  </a:lnTo>
                  <a:lnTo>
                    <a:pt x="1337" y="243"/>
                  </a:lnTo>
                  <a:lnTo>
                    <a:pt x="1338" y="257"/>
                  </a:lnTo>
                  <a:lnTo>
                    <a:pt x="1338" y="272"/>
                  </a:lnTo>
                  <a:lnTo>
                    <a:pt x="1337" y="293"/>
                  </a:lnTo>
                  <a:lnTo>
                    <a:pt x="1335" y="314"/>
                  </a:lnTo>
                  <a:lnTo>
                    <a:pt x="1331" y="334"/>
                  </a:lnTo>
                  <a:lnTo>
                    <a:pt x="1328" y="344"/>
                  </a:lnTo>
                  <a:lnTo>
                    <a:pt x="1325" y="353"/>
                  </a:lnTo>
                  <a:lnTo>
                    <a:pt x="1322" y="363"/>
                  </a:lnTo>
                  <a:lnTo>
                    <a:pt x="1318" y="371"/>
                  </a:lnTo>
                  <a:lnTo>
                    <a:pt x="1314" y="379"/>
                  </a:lnTo>
                  <a:lnTo>
                    <a:pt x="1309" y="388"/>
                  </a:lnTo>
                  <a:lnTo>
                    <a:pt x="1304" y="395"/>
                  </a:lnTo>
                  <a:lnTo>
                    <a:pt x="1299" y="404"/>
                  </a:lnTo>
                  <a:lnTo>
                    <a:pt x="1287" y="419"/>
                  </a:lnTo>
                  <a:lnTo>
                    <a:pt x="1281" y="426"/>
                  </a:lnTo>
                  <a:lnTo>
                    <a:pt x="1274" y="432"/>
                  </a:lnTo>
                  <a:lnTo>
                    <a:pt x="1267" y="437"/>
                  </a:lnTo>
                  <a:lnTo>
                    <a:pt x="1260" y="443"/>
                  </a:lnTo>
                  <a:lnTo>
                    <a:pt x="1251" y="449"/>
                  </a:lnTo>
                  <a:lnTo>
                    <a:pt x="1243" y="454"/>
                  </a:lnTo>
                  <a:lnTo>
                    <a:pt x="1235" y="457"/>
                  </a:lnTo>
                  <a:lnTo>
                    <a:pt x="1227" y="462"/>
                  </a:lnTo>
                  <a:lnTo>
                    <a:pt x="1209" y="467"/>
                  </a:lnTo>
                  <a:lnTo>
                    <a:pt x="1191" y="472"/>
                  </a:lnTo>
                  <a:lnTo>
                    <a:pt x="1171" y="474"/>
                  </a:lnTo>
                  <a:lnTo>
                    <a:pt x="1150" y="475"/>
                  </a:lnTo>
                  <a:lnTo>
                    <a:pt x="1130" y="473"/>
                  </a:lnTo>
                  <a:lnTo>
                    <a:pt x="1111" y="469"/>
                  </a:lnTo>
                  <a:lnTo>
                    <a:pt x="1092" y="463"/>
                  </a:lnTo>
                  <a:lnTo>
                    <a:pt x="1073" y="455"/>
                  </a:lnTo>
                  <a:lnTo>
                    <a:pt x="1053" y="445"/>
                  </a:lnTo>
                  <a:lnTo>
                    <a:pt x="1034" y="431"/>
                  </a:lnTo>
                  <a:lnTo>
                    <a:pt x="1016" y="416"/>
                  </a:lnTo>
                  <a:lnTo>
                    <a:pt x="998" y="399"/>
                  </a:lnTo>
                  <a:lnTo>
                    <a:pt x="931" y="363"/>
                  </a:lnTo>
                  <a:lnTo>
                    <a:pt x="902" y="350"/>
                  </a:lnTo>
                  <a:lnTo>
                    <a:pt x="875" y="339"/>
                  </a:lnTo>
                  <a:lnTo>
                    <a:pt x="850" y="329"/>
                  </a:lnTo>
                  <a:lnTo>
                    <a:pt x="828" y="323"/>
                  </a:lnTo>
                  <a:lnTo>
                    <a:pt x="809" y="319"/>
                  </a:lnTo>
                  <a:lnTo>
                    <a:pt x="800" y="317"/>
                  </a:lnTo>
                  <a:lnTo>
                    <a:pt x="792" y="317"/>
                  </a:lnTo>
                  <a:lnTo>
                    <a:pt x="782" y="317"/>
                  </a:lnTo>
                  <a:lnTo>
                    <a:pt x="772" y="318"/>
                  </a:lnTo>
                  <a:lnTo>
                    <a:pt x="763" y="320"/>
                  </a:lnTo>
                  <a:lnTo>
                    <a:pt x="753" y="322"/>
                  </a:lnTo>
                  <a:lnTo>
                    <a:pt x="743" y="326"/>
                  </a:lnTo>
                  <a:lnTo>
                    <a:pt x="733" y="329"/>
                  </a:lnTo>
                  <a:lnTo>
                    <a:pt x="713" y="338"/>
                  </a:lnTo>
                  <a:lnTo>
                    <a:pt x="693" y="351"/>
                  </a:lnTo>
                  <a:lnTo>
                    <a:pt x="672" y="366"/>
                  </a:lnTo>
                  <a:lnTo>
                    <a:pt x="651" y="385"/>
                  </a:lnTo>
                  <a:lnTo>
                    <a:pt x="630" y="406"/>
                  </a:lnTo>
                  <a:lnTo>
                    <a:pt x="620" y="418"/>
                  </a:lnTo>
                  <a:lnTo>
                    <a:pt x="609" y="432"/>
                  </a:lnTo>
                  <a:lnTo>
                    <a:pt x="588" y="464"/>
                  </a:lnTo>
                  <a:lnTo>
                    <a:pt x="567" y="501"/>
                  </a:lnTo>
                  <a:lnTo>
                    <a:pt x="546" y="545"/>
                  </a:lnTo>
                  <a:lnTo>
                    <a:pt x="525" y="595"/>
                  </a:lnTo>
                  <a:lnTo>
                    <a:pt x="505" y="649"/>
                  </a:lnTo>
                  <a:lnTo>
                    <a:pt x="484" y="711"/>
                  </a:lnTo>
                  <a:lnTo>
                    <a:pt x="463" y="778"/>
                  </a:lnTo>
                  <a:lnTo>
                    <a:pt x="444" y="848"/>
                  </a:lnTo>
                  <a:lnTo>
                    <a:pt x="427" y="920"/>
                  </a:lnTo>
                  <a:lnTo>
                    <a:pt x="413" y="991"/>
                  </a:lnTo>
                  <a:lnTo>
                    <a:pt x="401" y="1062"/>
                  </a:lnTo>
                  <a:lnTo>
                    <a:pt x="392" y="1134"/>
                  </a:lnTo>
                  <a:lnTo>
                    <a:pt x="386" y="1205"/>
                  </a:lnTo>
                  <a:lnTo>
                    <a:pt x="382" y="1277"/>
                  </a:lnTo>
                  <a:lnTo>
                    <a:pt x="381" y="1349"/>
                  </a:lnTo>
                  <a:lnTo>
                    <a:pt x="382" y="1398"/>
                  </a:lnTo>
                  <a:lnTo>
                    <a:pt x="385" y="1445"/>
                  </a:lnTo>
                  <a:lnTo>
                    <a:pt x="389" y="1486"/>
                  </a:lnTo>
                  <a:lnTo>
                    <a:pt x="396" y="1527"/>
                  </a:lnTo>
                  <a:lnTo>
                    <a:pt x="404" y="1563"/>
                  </a:lnTo>
                  <a:lnTo>
                    <a:pt x="415" y="1596"/>
                  </a:lnTo>
                  <a:lnTo>
                    <a:pt x="421" y="1612"/>
                  </a:lnTo>
                  <a:lnTo>
                    <a:pt x="427" y="1626"/>
                  </a:lnTo>
                  <a:lnTo>
                    <a:pt x="434" y="1640"/>
                  </a:lnTo>
                  <a:lnTo>
                    <a:pt x="441" y="1653"/>
                  </a:lnTo>
                  <a:lnTo>
                    <a:pt x="453" y="1671"/>
                  </a:lnTo>
                  <a:lnTo>
                    <a:pt x="459" y="1680"/>
                  </a:lnTo>
                  <a:lnTo>
                    <a:pt x="466" y="1687"/>
                  </a:lnTo>
                  <a:lnTo>
                    <a:pt x="473" y="1694"/>
                  </a:lnTo>
                  <a:lnTo>
                    <a:pt x="479" y="1700"/>
                  </a:lnTo>
                  <a:lnTo>
                    <a:pt x="486" y="1706"/>
                  </a:lnTo>
                  <a:lnTo>
                    <a:pt x="493" y="1712"/>
                  </a:lnTo>
                  <a:lnTo>
                    <a:pt x="501" y="1716"/>
                  </a:lnTo>
                  <a:lnTo>
                    <a:pt x="508" y="1721"/>
                  </a:lnTo>
                  <a:lnTo>
                    <a:pt x="516" y="1724"/>
                  </a:lnTo>
                  <a:lnTo>
                    <a:pt x="524" y="1727"/>
                  </a:lnTo>
                  <a:lnTo>
                    <a:pt x="532" y="1729"/>
                  </a:lnTo>
                  <a:lnTo>
                    <a:pt x="540" y="1730"/>
                  </a:lnTo>
                  <a:lnTo>
                    <a:pt x="549" y="1732"/>
                  </a:lnTo>
                  <a:lnTo>
                    <a:pt x="558" y="1732"/>
                  </a:lnTo>
                  <a:lnTo>
                    <a:pt x="585" y="1731"/>
                  </a:lnTo>
                  <a:lnTo>
                    <a:pt x="613" y="1727"/>
                  </a:lnTo>
                  <a:lnTo>
                    <a:pt x="641" y="1722"/>
                  </a:lnTo>
                  <a:lnTo>
                    <a:pt x="672" y="1713"/>
                  </a:lnTo>
                  <a:lnTo>
                    <a:pt x="735" y="1689"/>
                  </a:lnTo>
                  <a:lnTo>
                    <a:pt x="803" y="1656"/>
                  </a:lnTo>
                  <a:lnTo>
                    <a:pt x="875" y="1613"/>
                  </a:lnTo>
                  <a:lnTo>
                    <a:pt x="951" y="1560"/>
                  </a:lnTo>
                  <a:lnTo>
                    <a:pt x="1031" y="1498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68760" y="1812960"/>
              <a:ext cx="636840" cy="749160"/>
            </a:xfrm>
            <a:custGeom>
              <a:avLst/>
              <a:gdLst/>
              <a:ahLst/>
              <a:rect l="l" t="t" r="r" b="b"/>
              <a:pathLst>
                <a:path w="1769" h="2081">
                  <a:moveTo>
                    <a:pt x="1326" y="71"/>
                  </a:moveTo>
                  <a:lnTo>
                    <a:pt x="1546" y="75"/>
                  </a:lnTo>
                  <a:lnTo>
                    <a:pt x="1546" y="75"/>
                  </a:lnTo>
                  <a:lnTo>
                    <a:pt x="1674" y="82"/>
                  </a:lnTo>
                  <a:lnTo>
                    <a:pt x="1546" y="659"/>
                  </a:lnTo>
                  <a:lnTo>
                    <a:pt x="1546" y="662"/>
                  </a:lnTo>
                  <a:lnTo>
                    <a:pt x="1491" y="919"/>
                  </a:lnTo>
                  <a:lnTo>
                    <a:pt x="1371" y="1450"/>
                  </a:lnTo>
                  <a:lnTo>
                    <a:pt x="1341" y="1605"/>
                  </a:lnTo>
                  <a:lnTo>
                    <a:pt x="1333" y="1655"/>
                  </a:lnTo>
                  <a:lnTo>
                    <a:pt x="1332" y="1673"/>
                  </a:lnTo>
                  <a:lnTo>
                    <a:pt x="1331" y="1687"/>
                  </a:lnTo>
                  <a:lnTo>
                    <a:pt x="1331" y="1692"/>
                  </a:lnTo>
                  <a:lnTo>
                    <a:pt x="1331" y="1698"/>
                  </a:lnTo>
                  <a:lnTo>
                    <a:pt x="1332" y="1704"/>
                  </a:lnTo>
                  <a:lnTo>
                    <a:pt x="1333" y="1709"/>
                  </a:lnTo>
                  <a:lnTo>
                    <a:pt x="1333" y="1712"/>
                  </a:lnTo>
                  <a:lnTo>
                    <a:pt x="1334" y="1715"/>
                  </a:lnTo>
                  <a:lnTo>
                    <a:pt x="1334" y="1716"/>
                  </a:lnTo>
                  <a:lnTo>
                    <a:pt x="1335" y="1717"/>
                  </a:lnTo>
                  <a:lnTo>
                    <a:pt x="1336" y="1718"/>
                  </a:lnTo>
                  <a:lnTo>
                    <a:pt x="1336" y="1719"/>
                  </a:lnTo>
                  <a:lnTo>
                    <a:pt x="1337" y="1721"/>
                  </a:lnTo>
                  <a:lnTo>
                    <a:pt x="1338" y="1722"/>
                  </a:lnTo>
                  <a:lnTo>
                    <a:pt x="1340" y="1724"/>
                  </a:lnTo>
                  <a:lnTo>
                    <a:pt x="1341" y="1725"/>
                  </a:lnTo>
                  <a:lnTo>
                    <a:pt x="1342" y="1727"/>
                  </a:lnTo>
                  <a:lnTo>
                    <a:pt x="1343" y="1727"/>
                  </a:lnTo>
                  <a:lnTo>
                    <a:pt x="1344" y="1727"/>
                  </a:lnTo>
                  <a:lnTo>
                    <a:pt x="1344" y="1728"/>
                  </a:lnTo>
                  <a:lnTo>
                    <a:pt x="1345" y="1728"/>
                  </a:lnTo>
                  <a:lnTo>
                    <a:pt x="1345" y="1728"/>
                  </a:lnTo>
                  <a:lnTo>
                    <a:pt x="1346" y="1728"/>
                  </a:lnTo>
                  <a:lnTo>
                    <a:pt x="1346" y="1728"/>
                  </a:lnTo>
                  <a:lnTo>
                    <a:pt x="1349" y="1728"/>
                  </a:lnTo>
                  <a:lnTo>
                    <a:pt x="1351" y="1728"/>
                  </a:lnTo>
                  <a:lnTo>
                    <a:pt x="1357" y="1727"/>
                  </a:lnTo>
                  <a:lnTo>
                    <a:pt x="1363" y="1724"/>
                  </a:lnTo>
                  <a:lnTo>
                    <a:pt x="1369" y="1723"/>
                  </a:lnTo>
                  <a:lnTo>
                    <a:pt x="1376" y="1720"/>
                  </a:lnTo>
                  <a:lnTo>
                    <a:pt x="1382" y="1716"/>
                  </a:lnTo>
                  <a:lnTo>
                    <a:pt x="1389" y="1712"/>
                  </a:lnTo>
                  <a:lnTo>
                    <a:pt x="1396" y="1707"/>
                  </a:lnTo>
                  <a:lnTo>
                    <a:pt x="1414" y="1692"/>
                  </a:lnTo>
                  <a:lnTo>
                    <a:pt x="1436" y="1671"/>
                  </a:lnTo>
                  <a:lnTo>
                    <a:pt x="1496" y="1614"/>
                  </a:lnTo>
                  <a:lnTo>
                    <a:pt x="1546" y="1560"/>
                  </a:lnTo>
                  <a:lnTo>
                    <a:pt x="1546" y="1559"/>
                  </a:lnTo>
                  <a:lnTo>
                    <a:pt x="1666" y="1438"/>
                  </a:lnTo>
                  <a:lnTo>
                    <a:pt x="1768" y="1572"/>
                  </a:lnTo>
                  <a:lnTo>
                    <a:pt x="1669" y="1690"/>
                  </a:lnTo>
                  <a:lnTo>
                    <a:pt x="1577" y="1792"/>
                  </a:lnTo>
                  <a:lnTo>
                    <a:pt x="1546" y="1820"/>
                  </a:lnTo>
                  <a:lnTo>
                    <a:pt x="1546" y="1822"/>
                  </a:lnTo>
                  <a:lnTo>
                    <a:pt x="1491" y="1880"/>
                  </a:lnTo>
                  <a:lnTo>
                    <a:pt x="1410" y="1952"/>
                  </a:lnTo>
                  <a:lnTo>
                    <a:pt x="1337" y="2008"/>
                  </a:lnTo>
                  <a:lnTo>
                    <a:pt x="1303" y="2030"/>
                  </a:lnTo>
                  <a:lnTo>
                    <a:pt x="1270" y="2048"/>
                  </a:lnTo>
                  <a:lnTo>
                    <a:pt x="1239" y="2063"/>
                  </a:lnTo>
                  <a:lnTo>
                    <a:pt x="1210" y="2072"/>
                  </a:lnTo>
                  <a:lnTo>
                    <a:pt x="1182" y="2078"/>
                  </a:lnTo>
                  <a:lnTo>
                    <a:pt x="1156" y="2080"/>
                  </a:lnTo>
                  <a:lnTo>
                    <a:pt x="1137" y="2079"/>
                  </a:lnTo>
                  <a:lnTo>
                    <a:pt x="1127" y="2077"/>
                  </a:lnTo>
                  <a:lnTo>
                    <a:pt x="1118" y="2075"/>
                  </a:lnTo>
                  <a:lnTo>
                    <a:pt x="1109" y="2073"/>
                  </a:lnTo>
                  <a:lnTo>
                    <a:pt x="1100" y="2070"/>
                  </a:lnTo>
                  <a:lnTo>
                    <a:pt x="1092" y="2067"/>
                  </a:lnTo>
                  <a:lnTo>
                    <a:pt x="1082" y="2062"/>
                  </a:lnTo>
                  <a:lnTo>
                    <a:pt x="1074" y="2057"/>
                  </a:lnTo>
                  <a:lnTo>
                    <a:pt x="1066" y="2052"/>
                  </a:lnTo>
                  <a:lnTo>
                    <a:pt x="1058" y="2047"/>
                  </a:lnTo>
                  <a:lnTo>
                    <a:pt x="1051" y="2041"/>
                  </a:lnTo>
                  <a:lnTo>
                    <a:pt x="1036" y="2026"/>
                  </a:lnTo>
                  <a:lnTo>
                    <a:pt x="1022" y="2010"/>
                  </a:lnTo>
                  <a:lnTo>
                    <a:pt x="1015" y="2002"/>
                  </a:lnTo>
                  <a:lnTo>
                    <a:pt x="1009" y="1992"/>
                  </a:lnTo>
                  <a:lnTo>
                    <a:pt x="1004" y="1982"/>
                  </a:lnTo>
                  <a:lnTo>
                    <a:pt x="998" y="1972"/>
                  </a:lnTo>
                  <a:lnTo>
                    <a:pt x="994" y="1962"/>
                  </a:lnTo>
                  <a:lnTo>
                    <a:pt x="989" y="1951"/>
                  </a:lnTo>
                  <a:lnTo>
                    <a:pt x="982" y="1927"/>
                  </a:lnTo>
                  <a:lnTo>
                    <a:pt x="976" y="1904"/>
                  </a:lnTo>
                  <a:lnTo>
                    <a:pt x="971" y="1877"/>
                  </a:lnTo>
                  <a:lnTo>
                    <a:pt x="969" y="1850"/>
                  </a:lnTo>
                  <a:lnTo>
                    <a:pt x="968" y="1820"/>
                  </a:lnTo>
                  <a:lnTo>
                    <a:pt x="969" y="1789"/>
                  </a:lnTo>
                  <a:lnTo>
                    <a:pt x="971" y="1756"/>
                  </a:lnTo>
                  <a:lnTo>
                    <a:pt x="974" y="1723"/>
                  </a:lnTo>
                  <a:lnTo>
                    <a:pt x="979" y="1690"/>
                  </a:lnTo>
                  <a:lnTo>
                    <a:pt x="984" y="1656"/>
                  </a:lnTo>
                  <a:lnTo>
                    <a:pt x="992" y="1622"/>
                  </a:lnTo>
                  <a:lnTo>
                    <a:pt x="1000" y="1587"/>
                  </a:lnTo>
                  <a:lnTo>
                    <a:pt x="1010" y="1551"/>
                  </a:lnTo>
                  <a:lnTo>
                    <a:pt x="982" y="1605"/>
                  </a:lnTo>
                  <a:lnTo>
                    <a:pt x="949" y="1659"/>
                  </a:lnTo>
                  <a:lnTo>
                    <a:pt x="910" y="1711"/>
                  </a:lnTo>
                  <a:lnTo>
                    <a:pt x="867" y="1761"/>
                  </a:lnTo>
                  <a:lnTo>
                    <a:pt x="819" y="1810"/>
                  </a:lnTo>
                  <a:lnTo>
                    <a:pt x="766" y="1857"/>
                  </a:lnTo>
                  <a:lnTo>
                    <a:pt x="709" y="1904"/>
                  </a:lnTo>
                  <a:lnTo>
                    <a:pt x="646" y="1949"/>
                  </a:lnTo>
                  <a:lnTo>
                    <a:pt x="603" y="1977"/>
                  </a:lnTo>
                  <a:lnTo>
                    <a:pt x="561" y="2002"/>
                  </a:lnTo>
                  <a:lnTo>
                    <a:pt x="520" y="2022"/>
                  </a:lnTo>
                  <a:lnTo>
                    <a:pt x="479" y="2039"/>
                  </a:lnTo>
                  <a:lnTo>
                    <a:pt x="441" y="2052"/>
                  </a:lnTo>
                  <a:lnTo>
                    <a:pt x="404" y="2061"/>
                  </a:lnTo>
                  <a:lnTo>
                    <a:pt x="368" y="2067"/>
                  </a:lnTo>
                  <a:lnTo>
                    <a:pt x="334" y="2069"/>
                  </a:lnTo>
                  <a:lnTo>
                    <a:pt x="313" y="2068"/>
                  </a:lnTo>
                  <a:lnTo>
                    <a:pt x="293" y="2064"/>
                  </a:lnTo>
                  <a:lnTo>
                    <a:pt x="283" y="2062"/>
                  </a:lnTo>
                  <a:lnTo>
                    <a:pt x="274" y="2059"/>
                  </a:lnTo>
                  <a:lnTo>
                    <a:pt x="265" y="2056"/>
                  </a:lnTo>
                  <a:lnTo>
                    <a:pt x="257" y="2052"/>
                  </a:lnTo>
                  <a:lnTo>
                    <a:pt x="248" y="2047"/>
                  </a:lnTo>
                  <a:lnTo>
                    <a:pt x="240" y="2043"/>
                  </a:lnTo>
                  <a:lnTo>
                    <a:pt x="233" y="2037"/>
                  </a:lnTo>
                  <a:lnTo>
                    <a:pt x="225" y="2031"/>
                  </a:lnTo>
                  <a:lnTo>
                    <a:pt x="218" y="2025"/>
                  </a:lnTo>
                  <a:lnTo>
                    <a:pt x="212" y="2018"/>
                  </a:lnTo>
                  <a:lnTo>
                    <a:pt x="205" y="2011"/>
                  </a:lnTo>
                  <a:lnTo>
                    <a:pt x="199" y="2002"/>
                  </a:lnTo>
                  <a:lnTo>
                    <a:pt x="193" y="1994"/>
                  </a:lnTo>
                  <a:lnTo>
                    <a:pt x="187" y="1984"/>
                  </a:lnTo>
                  <a:lnTo>
                    <a:pt x="182" y="1975"/>
                  </a:lnTo>
                  <a:lnTo>
                    <a:pt x="177" y="1964"/>
                  </a:lnTo>
                  <a:lnTo>
                    <a:pt x="173" y="1954"/>
                  </a:lnTo>
                  <a:lnTo>
                    <a:pt x="169" y="1943"/>
                  </a:lnTo>
                  <a:lnTo>
                    <a:pt x="162" y="1919"/>
                  </a:lnTo>
                  <a:lnTo>
                    <a:pt x="157" y="1893"/>
                  </a:lnTo>
                  <a:lnTo>
                    <a:pt x="153" y="1865"/>
                  </a:lnTo>
                  <a:lnTo>
                    <a:pt x="151" y="1835"/>
                  </a:lnTo>
                  <a:lnTo>
                    <a:pt x="150" y="1803"/>
                  </a:lnTo>
                  <a:lnTo>
                    <a:pt x="151" y="1756"/>
                  </a:lnTo>
                  <a:lnTo>
                    <a:pt x="155" y="1706"/>
                  </a:lnTo>
                  <a:lnTo>
                    <a:pt x="160" y="1656"/>
                  </a:lnTo>
                  <a:lnTo>
                    <a:pt x="168" y="1604"/>
                  </a:lnTo>
                  <a:lnTo>
                    <a:pt x="185" y="1513"/>
                  </a:lnTo>
                  <a:lnTo>
                    <a:pt x="212" y="1385"/>
                  </a:lnTo>
                  <a:lnTo>
                    <a:pt x="295" y="1026"/>
                  </a:lnTo>
                  <a:lnTo>
                    <a:pt x="352" y="783"/>
                  </a:lnTo>
                  <a:lnTo>
                    <a:pt x="392" y="596"/>
                  </a:lnTo>
                  <a:lnTo>
                    <a:pt x="416" y="463"/>
                  </a:lnTo>
                  <a:lnTo>
                    <a:pt x="422" y="417"/>
                  </a:lnTo>
                  <a:lnTo>
                    <a:pt x="423" y="398"/>
                  </a:lnTo>
                  <a:lnTo>
                    <a:pt x="424" y="384"/>
                  </a:lnTo>
                  <a:lnTo>
                    <a:pt x="424" y="366"/>
                  </a:lnTo>
                  <a:lnTo>
                    <a:pt x="421" y="366"/>
                  </a:lnTo>
                  <a:lnTo>
                    <a:pt x="418" y="368"/>
                  </a:lnTo>
                  <a:lnTo>
                    <a:pt x="415" y="367"/>
                  </a:lnTo>
                  <a:lnTo>
                    <a:pt x="411" y="369"/>
                  </a:lnTo>
                  <a:lnTo>
                    <a:pt x="403" y="372"/>
                  </a:lnTo>
                  <a:lnTo>
                    <a:pt x="394" y="375"/>
                  </a:lnTo>
                  <a:lnTo>
                    <a:pt x="384" y="381"/>
                  </a:lnTo>
                  <a:lnTo>
                    <a:pt x="373" y="387"/>
                  </a:lnTo>
                  <a:lnTo>
                    <a:pt x="348" y="403"/>
                  </a:lnTo>
                  <a:lnTo>
                    <a:pt x="333" y="415"/>
                  </a:lnTo>
                  <a:lnTo>
                    <a:pt x="314" y="430"/>
                  </a:lnTo>
                  <a:lnTo>
                    <a:pt x="265" y="473"/>
                  </a:lnTo>
                  <a:lnTo>
                    <a:pt x="127" y="606"/>
                  </a:lnTo>
                  <a:lnTo>
                    <a:pt x="0" y="482"/>
                  </a:lnTo>
                  <a:lnTo>
                    <a:pt x="130" y="340"/>
                  </a:lnTo>
                  <a:lnTo>
                    <a:pt x="243" y="228"/>
                  </a:lnTo>
                  <a:lnTo>
                    <a:pt x="293" y="181"/>
                  </a:lnTo>
                  <a:lnTo>
                    <a:pt x="340" y="142"/>
                  </a:lnTo>
                  <a:lnTo>
                    <a:pt x="381" y="111"/>
                  </a:lnTo>
                  <a:lnTo>
                    <a:pt x="419" y="85"/>
                  </a:lnTo>
                  <a:lnTo>
                    <a:pt x="454" y="65"/>
                  </a:lnTo>
                  <a:lnTo>
                    <a:pt x="487" y="48"/>
                  </a:lnTo>
                  <a:lnTo>
                    <a:pt x="520" y="33"/>
                  </a:lnTo>
                  <a:lnTo>
                    <a:pt x="550" y="21"/>
                  </a:lnTo>
                  <a:lnTo>
                    <a:pt x="578" y="12"/>
                  </a:lnTo>
                  <a:lnTo>
                    <a:pt x="605" y="5"/>
                  </a:lnTo>
                  <a:lnTo>
                    <a:pt x="630" y="1"/>
                  </a:lnTo>
                  <a:lnTo>
                    <a:pt x="654" y="0"/>
                  </a:lnTo>
                  <a:lnTo>
                    <a:pt x="670" y="2"/>
                  </a:lnTo>
                  <a:lnTo>
                    <a:pt x="678" y="3"/>
                  </a:lnTo>
                  <a:lnTo>
                    <a:pt x="685" y="4"/>
                  </a:lnTo>
                  <a:lnTo>
                    <a:pt x="694" y="7"/>
                  </a:lnTo>
                  <a:lnTo>
                    <a:pt x="701" y="9"/>
                  </a:lnTo>
                  <a:lnTo>
                    <a:pt x="708" y="12"/>
                  </a:lnTo>
                  <a:lnTo>
                    <a:pt x="714" y="15"/>
                  </a:lnTo>
                  <a:lnTo>
                    <a:pt x="721" y="19"/>
                  </a:lnTo>
                  <a:lnTo>
                    <a:pt x="727" y="24"/>
                  </a:lnTo>
                  <a:lnTo>
                    <a:pt x="733" y="27"/>
                  </a:lnTo>
                  <a:lnTo>
                    <a:pt x="739" y="33"/>
                  </a:lnTo>
                  <a:lnTo>
                    <a:pt x="744" y="38"/>
                  </a:lnTo>
                  <a:lnTo>
                    <a:pt x="750" y="44"/>
                  </a:lnTo>
                  <a:lnTo>
                    <a:pt x="755" y="50"/>
                  </a:lnTo>
                  <a:lnTo>
                    <a:pt x="760" y="57"/>
                  </a:lnTo>
                  <a:lnTo>
                    <a:pt x="765" y="65"/>
                  </a:lnTo>
                  <a:lnTo>
                    <a:pt x="770" y="72"/>
                  </a:lnTo>
                  <a:lnTo>
                    <a:pt x="774" y="80"/>
                  </a:lnTo>
                  <a:lnTo>
                    <a:pt x="778" y="88"/>
                  </a:lnTo>
                  <a:lnTo>
                    <a:pt x="781" y="97"/>
                  </a:lnTo>
                  <a:lnTo>
                    <a:pt x="785" y="105"/>
                  </a:lnTo>
                  <a:lnTo>
                    <a:pt x="791" y="124"/>
                  </a:lnTo>
                  <a:lnTo>
                    <a:pt x="795" y="144"/>
                  </a:lnTo>
                  <a:lnTo>
                    <a:pt x="798" y="165"/>
                  </a:lnTo>
                  <a:lnTo>
                    <a:pt x="800" y="189"/>
                  </a:lnTo>
                  <a:lnTo>
                    <a:pt x="801" y="212"/>
                  </a:lnTo>
                  <a:lnTo>
                    <a:pt x="799" y="259"/>
                  </a:lnTo>
                  <a:lnTo>
                    <a:pt x="792" y="322"/>
                  </a:lnTo>
                  <a:lnTo>
                    <a:pt x="766" y="487"/>
                  </a:lnTo>
                  <a:lnTo>
                    <a:pt x="722" y="710"/>
                  </a:lnTo>
                  <a:lnTo>
                    <a:pt x="659" y="991"/>
                  </a:lnTo>
                  <a:lnTo>
                    <a:pt x="569" y="1416"/>
                  </a:lnTo>
                  <a:lnTo>
                    <a:pt x="547" y="1541"/>
                  </a:lnTo>
                  <a:lnTo>
                    <a:pt x="541" y="1581"/>
                  </a:lnTo>
                  <a:lnTo>
                    <a:pt x="539" y="1596"/>
                  </a:lnTo>
                  <a:lnTo>
                    <a:pt x="539" y="1607"/>
                  </a:lnTo>
                  <a:lnTo>
                    <a:pt x="539" y="1615"/>
                  </a:lnTo>
                  <a:lnTo>
                    <a:pt x="540" y="1622"/>
                  </a:lnTo>
                  <a:lnTo>
                    <a:pt x="541" y="1629"/>
                  </a:lnTo>
                  <a:lnTo>
                    <a:pt x="542" y="1635"/>
                  </a:lnTo>
                  <a:lnTo>
                    <a:pt x="543" y="1638"/>
                  </a:lnTo>
                  <a:lnTo>
                    <a:pt x="544" y="1641"/>
                  </a:lnTo>
                  <a:lnTo>
                    <a:pt x="545" y="1644"/>
                  </a:lnTo>
                  <a:lnTo>
                    <a:pt x="547" y="1647"/>
                  </a:lnTo>
                  <a:lnTo>
                    <a:pt x="548" y="1649"/>
                  </a:lnTo>
                  <a:lnTo>
                    <a:pt x="550" y="1653"/>
                  </a:lnTo>
                  <a:lnTo>
                    <a:pt x="551" y="1655"/>
                  </a:lnTo>
                  <a:lnTo>
                    <a:pt x="553" y="1657"/>
                  </a:lnTo>
                  <a:lnTo>
                    <a:pt x="557" y="1662"/>
                  </a:lnTo>
                  <a:lnTo>
                    <a:pt x="560" y="1666"/>
                  </a:lnTo>
                  <a:lnTo>
                    <a:pt x="564" y="1669"/>
                  </a:lnTo>
                  <a:lnTo>
                    <a:pt x="567" y="1672"/>
                  </a:lnTo>
                  <a:lnTo>
                    <a:pt x="569" y="1673"/>
                  </a:lnTo>
                  <a:lnTo>
                    <a:pt x="570" y="1674"/>
                  </a:lnTo>
                  <a:lnTo>
                    <a:pt x="572" y="1675"/>
                  </a:lnTo>
                  <a:lnTo>
                    <a:pt x="573" y="1675"/>
                  </a:lnTo>
                  <a:lnTo>
                    <a:pt x="575" y="1675"/>
                  </a:lnTo>
                  <a:lnTo>
                    <a:pt x="577" y="1676"/>
                  </a:lnTo>
                  <a:lnTo>
                    <a:pt x="578" y="1676"/>
                  </a:lnTo>
                  <a:lnTo>
                    <a:pt x="580" y="1676"/>
                  </a:lnTo>
                  <a:lnTo>
                    <a:pt x="592" y="1675"/>
                  </a:lnTo>
                  <a:lnTo>
                    <a:pt x="604" y="1673"/>
                  </a:lnTo>
                  <a:lnTo>
                    <a:pt x="618" y="1670"/>
                  </a:lnTo>
                  <a:lnTo>
                    <a:pt x="632" y="1664"/>
                  </a:lnTo>
                  <a:lnTo>
                    <a:pt x="647" y="1658"/>
                  </a:lnTo>
                  <a:lnTo>
                    <a:pt x="662" y="1649"/>
                  </a:lnTo>
                  <a:lnTo>
                    <a:pt x="697" y="1628"/>
                  </a:lnTo>
                  <a:lnTo>
                    <a:pt x="734" y="1600"/>
                  </a:lnTo>
                  <a:lnTo>
                    <a:pt x="773" y="1566"/>
                  </a:lnTo>
                  <a:lnTo>
                    <a:pt x="816" y="1526"/>
                  </a:lnTo>
                  <a:lnTo>
                    <a:pt x="861" y="1480"/>
                  </a:lnTo>
                  <a:lnTo>
                    <a:pt x="907" y="1429"/>
                  </a:lnTo>
                  <a:lnTo>
                    <a:pt x="948" y="1378"/>
                  </a:lnTo>
                  <a:lnTo>
                    <a:pt x="984" y="1324"/>
                  </a:lnTo>
                  <a:lnTo>
                    <a:pt x="1017" y="1269"/>
                  </a:lnTo>
                  <a:lnTo>
                    <a:pt x="1045" y="1212"/>
                  </a:lnTo>
                  <a:lnTo>
                    <a:pt x="1070" y="1152"/>
                  </a:lnTo>
                  <a:lnTo>
                    <a:pt x="1091" y="1091"/>
                  </a:lnTo>
                  <a:lnTo>
                    <a:pt x="1108" y="102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4280" y="1409760"/>
              <a:ext cx="776160" cy="1150920"/>
            </a:xfrm>
            <a:custGeom>
              <a:avLst/>
              <a:gdLst/>
              <a:ahLst/>
              <a:rect l="l" t="t" r="r" b="b"/>
              <a:pathLst>
                <a:path w="2156" h="3199">
                  <a:moveTo>
                    <a:pt x="543" y="1576"/>
                  </a:moveTo>
                  <a:lnTo>
                    <a:pt x="604" y="1491"/>
                  </a:lnTo>
                  <a:lnTo>
                    <a:pt x="667" y="1416"/>
                  </a:lnTo>
                  <a:lnTo>
                    <a:pt x="732" y="1355"/>
                  </a:lnTo>
                  <a:lnTo>
                    <a:pt x="764" y="1329"/>
                  </a:lnTo>
                  <a:lnTo>
                    <a:pt x="797" y="1305"/>
                  </a:lnTo>
                  <a:lnTo>
                    <a:pt x="830" y="1285"/>
                  </a:lnTo>
                  <a:lnTo>
                    <a:pt x="864" y="1268"/>
                  </a:lnTo>
                  <a:lnTo>
                    <a:pt x="898" y="1252"/>
                  </a:lnTo>
                  <a:lnTo>
                    <a:pt x="933" y="1242"/>
                  </a:lnTo>
                  <a:lnTo>
                    <a:pt x="968" y="1233"/>
                  </a:lnTo>
                  <a:lnTo>
                    <a:pt x="1003" y="1227"/>
                  </a:lnTo>
                  <a:lnTo>
                    <a:pt x="1038" y="1225"/>
                  </a:lnTo>
                  <a:lnTo>
                    <a:pt x="1074" y="1226"/>
                  </a:lnTo>
                  <a:lnTo>
                    <a:pt x="1095" y="1228"/>
                  </a:lnTo>
                  <a:lnTo>
                    <a:pt x="1116" y="1230"/>
                  </a:lnTo>
                  <a:lnTo>
                    <a:pt x="1136" y="1235"/>
                  </a:lnTo>
                  <a:lnTo>
                    <a:pt x="1155" y="1239"/>
                  </a:lnTo>
                  <a:lnTo>
                    <a:pt x="1174" y="1246"/>
                  </a:lnTo>
                  <a:lnTo>
                    <a:pt x="1191" y="1254"/>
                  </a:lnTo>
                  <a:lnTo>
                    <a:pt x="1209" y="1263"/>
                  </a:lnTo>
                  <a:lnTo>
                    <a:pt x="1225" y="1273"/>
                  </a:lnTo>
                  <a:lnTo>
                    <a:pt x="1241" y="1284"/>
                  </a:lnTo>
                  <a:lnTo>
                    <a:pt x="1255" y="1296"/>
                  </a:lnTo>
                  <a:lnTo>
                    <a:pt x="1270" y="1309"/>
                  </a:lnTo>
                  <a:lnTo>
                    <a:pt x="1283" y="1323"/>
                  </a:lnTo>
                  <a:lnTo>
                    <a:pt x="1296" y="1339"/>
                  </a:lnTo>
                  <a:lnTo>
                    <a:pt x="1308" y="1355"/>
                  </a:lnTo>
                  <a:lnTo>
                    <a:pt x="1319" y="1374"/>
                  </a:lnTo>
                  <a:lnTo>
                    <a:pt x="1330" y="1393"/>
                  </a:lnTo>
                  <a:lnTo>
                    <a:pt x="1350" y="1433"/>
                  </a:lnTo>
                  <a:lnTo>
                    <a:pt x="1367" y="1476"/>
                  </a:lnTo>
                  <a:lnTo>
                    <a:pt x="1381" y="1521"/>
                  </a:lnTo>
                  <a:lnTo>
                    <a:pt x="1393" y="1568"/>
                  </a:lnTo>
                  <a:lnTo>
                    <a:pt x="1402" y="1617"/>
                  </a:lnTo>
                  <a:lnTo>
                    <a:pt x="1408" y="1669"/>
                  </a:lnTo>
                  <a:lnTo>
                    <a:pt x="1412" y="1722"/>
                  </a:lnTo>
                  <a:lnTo>
                    <a:pt x="1413" y="1778"/>
                  </a:lnTo>
                  <a:lnTo>
                    <a:pt x="1408" y="1909"/>
                  </a:lnTo>
                  <a:lnTo>
                    <a:pt x="1394" y="2037"/>
                  </a:lnTo>
                  <a:lnTo>
                    <a:pt x="1371" y="2163"/>
                  </a:lnTo>
                  <a:lnTo>
                    <a:pt x="1338" y="2285"/>
                  </a:lnTo>
                  <a:lnTo>
                    <a:pt x="1295" y="2406"/>
                  </a:lnTo>
                  <a:lnTo>
                    <a:pt x="1243" y="2523"/>
                  </a:lnTo>
                  <a:lnTo>
                    <a:pt x="1182" y="2639"/>
                  </a:lnTo>
                  <a:lnTo>
                    <a:pt x="1111" y="2752"/>
                  </a:lnTo>
                  <a:lnTo>
                    <a:pt x="1034" y="2857"/>
                  </a:lnTo>
                  <a:lnTo>
                    <a:pt x="955" y="2948"/>
                  </a:lnTo>
                  <a:lnTo>
                    <a:pt x="913" y="2988"/>
                  </a:lnTo>
                  <a:lnTo>
                    <a:pt x="872" y="3025"/>
                  </a:lnTo>
                  <a:lnTo>
                    <a:pt x="831" y="3058"/>
                  </a:lnTo>
                  <a:lnTo>
                    <a:pt x="788" y="3088"/>
                  </a:lnTo>
                  <a:lnTo>
                    <a:pt x="746" y="3114"/>
                  </a:lnTo>
                  <a:lnTo>
                    <a:pt x="702" y="3137"/>
                  </a:lnTo>
                  <a:lnTo>
                    <a:pt x="658" y="3156"/>
                  </a:lnTo>
                  <a:lnTo>
                    <a:pt x="614" y="3171"/>
                  </a:lnTo>
                  <a:lnTo>
                    <a:pt x="569" y="3183"/>
                  </a:lnTo>
                  <a:lnTo>
                    <a:pt x="523" y="3192"/>
                  </a:lnTo>
                  <a:lnTo>
                    <a:pt x="477" y="3196"/>
                  </a:lnTo>
                  <a:lnTo>
                    <a:pt x="429" y="3198"/>
                  </a:lnTo>
                  <a:lnTo>
                    <a:pt x="380" y="3195"/>
                  </a:lnTo>
                  <a:lnTo>
                    <a:pt x="333" y="3188"/>
                  </a:lnTo>
                  <a:lnTo>
                    <a:pt x="289" y="3176"/>
                  </a:lnTo>
                  <a:lnTo>
                    <a:pt x="269" y="3169"/>
                  </a:lnTo>
                  <a:lnTo>
                    <a:pt x="249" y="3160"/>
                  </a:lnTo>
                  <a:lnTo>
                    <a:pt x="229" y="3151"/>
                  </a:lnTo>
                  <a:lnTo>
                    <a:pt x="210" y="3140"/>
                  </a:lnTo>
                  <a:lnTo>
                    <a:pt x="192" y="3129"/>
                  </a:lnTo>
                  <a:lnTo>
                    <a:pt x="175" y="3116"/>
                  </a:lnTo>
                  <a:lnTo>
                    <a:pt x="158" y="3102"/>
                  </a:lnTo>
                  <a:lnTo>
                    <a:pt x="143" y="3088"/>
                  </a:lnTo>
                  <a:lnTo>
                    <a:pt x="127" y="3072"/>
                  </a:lnTo>
                  <a:lnTo>
                    <a:pt x="113" y="3055"/>
                  </a:lnTo>
                  <a:lnTo>
                    <a:pt x="87" y="3019"/>
                  </a:lnTo>
                  <a:lnTo>
                    <a:pt x="64" y="2981"/>
                  </a:lnTo>
                  <a:lnTo>
                    <a:pt x="44" y="2941"/>
                  </a:lnTo>
                  <a:lnTo>
                    <a:pt x="28" y="2900"/>
                  </a:lnTo>
                  <a:lnTo>
                    <a:pt x="16" y="2856"/>
                  </a:lnTo>
                  <a:lnTo>
                    <a:pt x="7" y="2810"/>
                  </a:lnTo>
                  <a:lnTo>
                    <a:pt x="2" y="2763"/>
                  </a:lnTo>
                  <a:lnTo>
                    <a:pt x="0" y="2714"/>
                  </a:lnTo>
                  <a:lnTo>
                    <a:pt x="1" y="2673"/>
                  </a:lnTo>
                  <a:lnTo>
                    <a:pt x="3" y="2628"/>
                  </a:lnTo>
                  <a:lnTo>
                    <a:pt x="13" y="2527"/>
                  </a:lnTo>
                  <a:lnTo>
                    <a:pt x="30" y="2410"/>
                  </a:lnTo>
                  <a:lnTo>
                    <a:pt x="53" y="2280"/>
                  </a:lnTo>
                  <a:lnTo>
                    <a:pt x="280" y="1111"/>
                  </a:lnTo>
                  <a:lnTo>
                    <a:pt x="317" y="943"/>
                  </a:lnTo>
                  <a:lnTo>
                    <a:pt x="358" y="790"/>
                  </a:lnTo>
                  <a:lnTo>
                    <a:pt x="404" y="652"/>
                  </a:lnTo>
                  <a:lnTo>
                    <a:pt x="456" y="530"/>
                  </a:lnTo>
                  <a:lnTo>
                    <a:pt x="511" y="424"/>
                  </a:lnTo>
                  <a:lnTo>
                    <a:pt x="541" y="375"/>
                  </a:lnTo>
                  <a:lnTo>
                    <a:pt x="572" y="332"/>
                  </a:lnTo>
                  <a:lnTo>
                    <a:pt x="604" y="292"/>
                  </a:lnTo>
                  <a:lnTo>
                    <a:pt x="637" y="255"/>
                  </a:lnTo>
                  <a:lnTo>
                    <a:pt x="671" y="222"/>
                  </a:lnTo>
                  <a:lnTo>
                    <a:pt x="707" y="194"/>
                  </a:lnTo>
                  <a:lnTo>
                    <a:pt x="779" y="145"/>
                  </a:lnTo>
                  <a:lnTo>
                    <a:pt x="849" y="102"/>
                  </a:lnTo>
                  <a:lnTo>
                    <a:pt x="917" y="68"/>
                  </a:lnTo>
                  <a:lnTo>
                    <a:pt x="985" y="40"/>
                  </a:lnTo>
                  <a:lnTo>
                    <a:pt x="1050" y="19"/>
                  </a:lnTo>
                  <a:lnTo>
                    <a:pt x="1113" y="6"/>
                  </a:lnTo>
                  <a:lnTo>
                    <a:pt x="1175" y="0"/>
                  </a:lnTo>
                  <a:lnTo>
                    <a:pt x="1205" y="0"/>
                  </a:lnTo>
                  <a:lnTo>
                    <a:pt x="1235" y="1"/>
                  </a:lnTo>
                  <a:lnTo>
                    <a:pt x="1251" y="3"/>
                  </a:lnTo>
                  <a:lnTo>
                    <a:pt x="1267" y="5"/>
                  </a:lnTo>
                  <a:lnTo>
                    <a:pt x="1283" y="9"/>
                  </a:lnTo>
                  <a:lnTo>
                    <a:pt x="1299" y="12"/>
                  </a:lnTo>
                  <a:lnTo>
                    <a:pt x="1315" y="17"/>
                  </a:lnTo>
                  <a:lnTo>
                    <a:pt x="1331" y="22"/>
                  </a:lnTo>
                  <a:lnTo>
                    <a:pt x="1363" y="33"/>
                  </a:lnTo>
                  <a:lnTo>
                    <a:pt x="1708" y="121"/>
                  </a:lnTo>
                  <a:lnTo>
                    <a:pt x="1816" y="144"/>
                  </a:lnTo>
                  <a:lnTo>
                    <a:pt x="1855" y="151"/>
                  </a:lnTo>
                  <a:lnTo>
                    <a:pt x="1882" y="154"/>
                  </a:lnTo>
                  <a:lnTo>
                    <a:pt x="1889" y="154"/>
                  </a:lnTo>
                  <a:lnTo>
                    <a:pt x="1896" y="153"/>
                  </a:lnTo>
                  <a:lnTo>
                    <a:pt x="1904" y="151"/>
                  </a:lnTo>
                  <a:lnTo>
                    <a:pt x="1914" y="150"/>
                  </a:lnTo>
                  <a:lnTo>
                    <a:pt x="1923" y="146"/>
                  </a:lnTo>
                  <a:lnTo>
                    <a:pt x="1932" y="142"/>
                  </a:lnTo>
                  <a:lnTo>
                    <a:pt x="1952" y="131"/>
                  </a:lnTo>
                  <a:lnTo>
                    <a:pt x="1974" y="116"/>
                  </a:lnTo>
                  <a:lnTo>
                    <a:pt x="1999" y="100"/>
                  </a:lnTo>
                  <a:lnTo>
                    <a:pt x="2025" y="78"/>
                  </a:lnTo>
                  <a:lnTo>
                    <a:pt x="2053" y="54"/>
                  </a:lnTo>
                  <a:lnTo>
                    <a:pt x="2155" y="141"/>
                  </a:lnTo>
                  <a:lnTo>
                    <a:pt x="2124" y="202"/>
                  </a:lnTo>
                  <a:lnTo>
                    <a:pt x="2093" y="256"/>
                  </a:lnTo>
                  <a:lnTo>
                    <a:pt x="2064" y="304"/>
                  </a:lnTo>
                  <a:lnTo>
                    <a:pt x="2035" y="346"/>
                  </a:lnTo>
                  <a:lnTo>
                    <a:pt x="2006" y="382"/>
                  </a:lnTo>
                  <a:lnTo>
                    <a:pt x="1979" y="411"/>
                  </a:lnTo>
                  <a:lnTo>
                    <a:pt x="1965" y="424"/>
                  </a:lnTo>
                  <a:lnTo>
                    <a:pt x="1952" y="434"/>
                  </a:lnTo>
                  <a:lnTo>
                    <a:pt x="1938" y="443"/>
                  </a:lnTo>
                  <a:lnTo>
                    <a:pt x="1925" y="451"/>
                  </a:lnTo>
                  <a:lnTo>
                    <a:pt x="1898" y="463"/>
                  </a:lnTo>
                  <a:lnTo>
                    <a:pt x="1871" y="475"/>
                  </a:lnTo>
                  <a:lnTo>
                    <a:pt x="1843" y="483"/>
                  </a:lnTo>
                  <a:lnTo>
                    <a:pt x="1814" y="490"/>
                  </a:lnTo>
                  <a:lnTo>
                    <a:pt x="1784" y="494"/>
                  </a:lnTo>
                  <a:lnTo>
                    <a:pt x="1754" y="498"/>
                  </a:lnTo>
                  <a:lnTo>
                    <a:pt x="1722" y="497"/>
                  </a:lnTo>
                  <a:lnTo>
                    <a:pt x="1690" y="496"/>
                  </a:lnTo>
                  <a:lnTo>
                    <a:pt x="1648" y="492"/>
                  </a:lnTo>
                  <a:lnTo>
                    <a:pt x="1599" y="484"/>
                  </a:lnTo>
                  <a:lnTo>
                    <a:pt x="1480" y="460"/>
                  </a:lnTo>
                  <a:lnTo>
                    <a:pt x="1334" y="423"/>
                  </a:lnTo>
                  <a:lnTo>
                    <a:pt x="1162" y="373"/>
                  </a:lnTo>
                  <a:lnTo>
                    <a:pt x="1015" y="343"/>
                  </a:lnTo>
                  <a:lnTo>
                    <a:pt x="967" y="334"/>
                  </a:lnTo>
                  <a:lnTo>
                    <a:pt x="949" y="331"/>
                  </a:lnTo>
                  <a:lnTo>
                    <a:pt x="936" y="330"/>
                  </a:lnTo>
                  <a:lnTo>
                    <a:pt x="926" y="329"/>
                  </a:lnTo>
                  <a:lnTo>
                    <a:pt x="918" y="330"/>
                  </a:lnTo>
                  <a:lnTo>
                    <a:pt x="909" y="332"/>
                  </a:lnTo>
                  <a:lnTo>
                    <a:pt x="901" y="333"/>
                  </a:lnTo>
                  <a:lnTo>
                    <a:pt x="894" y="336"/>
                  </a:lnTo>
                  <a:lnTo>
                    <a:pt x="886" y="339"/>
                  </a:lnTo>
                  <a:lnTo>
                    <a:pt x="878" y="343"/>
                  </a:lnTo>
                  <a:lnTo>
                    <a:pt x="871" y="348"/>
                  </a:lnTo>
                  <a:lnTo>
                    <a:pt x="864" y="353"/>
                  </a:lnTo>
                  <a:lnTo>
                    <a:pt x="857" y="360"/>
                  </a:lnTo>
                  <a:lnTo>
                    <a:pt x="850" y="367"/>
                  </a:lnTo>
                  <a:lnTo>
                    <a:pt x="844" y="375"/>
                  </a:lnTo>
                  <a:lnTo>
                    <a:pt x="831" y="392"/>
                  </a:lnTo>
                  <a:lnTo>
                    <a:pt x="819" y="413"/>
                  </a:lnTo>
                  <a:lnTo>
                    <a:pt x="807" y="439"/>
                  </a:lnTo>
                  <a:lnTo>
                    <a:pt x="795" y="474"/>
                  </a:lnTo>
                  <a:lnTo>
                    <a:pt x="781" y="518"/>
                  </a:lnTo>
                  <a:lnTo>
                    <a:pt x="767" y="570"/>
                  </a:lnTo>
                  <a:lnTo>
                    <a:pt x="735" y="701"/>
                  </a:lnTo>
                  <a:lnTo>
                    <a:pt x="700" y="867"/>
                  </a:lnTo>
                  <a:close/>
                  <a:moveTo>
                    <a:pt x="335" y="2729"/>
                  </a:moveTo>
                  <a:lnTo>
                    <a:pt x="336" y="2753"/>
                  </a:lnTo>
                  <a:lnTo>
                    <a:pt x="339" y="2776"/>
                  </a:lnTo>
                  <a:lnTo>
                    <a:pt x="343" y="2798"/>
                  </a:lnTo>
                  <a:lnTo>
                    <a:pt x="346" y="2809"/>
                  </a:lnTo>
                  <a:lnTo>
                    <a:pt x="349" y="2819"/>
                  </a:lnTo>
                  <a:lnTo>
                    <a:pt x="353" y="2830"/>
                  </a:lnTo>
                  <a:lnTo>
                    <a:pt x="357" y="2839"/>
                  </a:lnTo>
                  <a:lnTo>
                    <a:pt x="362" y="2849"/>
                  </a:lnTo>
                  <a:lnTo>
                    <a:pt x="367" y="2859"/>
                  </a:lnTo>
                  <a:lnTo>
                    <a:pt x="378" y="2876"/>
                  </a:lnTo>
                  <a:lnTo>
                    <a:pt x="391" y="2894"/>
                  </a:lnTo>
                  <a:lnTo>
                    <a:pt x="405" y="2909"/>
                  </a:lnTo>
                  <a:lnTo>
                    <a:pt x="420" y="2923"/>
                  </a:lnTo>
                  <a:lnTo>
                    <a:pt x="435" y="2935"/>
                  </a:lnTo>
                  <a:lnTo>
                    <a:pt x="451" y="2945"/>
                  </a:lnTo>
                  <a:lnTo>
                    <a:pt x="458" y="2948"/>
                  </a:lnTo>
                  <a:lnTo>
                    <a:pt x="466" y="2952"/>
                  </a:lnTo>
                  <a:lnTo>
                    <a:pt x="474" y="2954"/>
                  </a:lnTo>
                  <a:lnTo>
                    <a:pt x="482" y="2957"/>
                  </a:lnTo>
                  <a:lnTo>
                    <a:pt x="490" y="2959"/>
                  </a:lnTo>
                  <a:lnTo>
                    <a:pt x="498" y="2960"/>
                  </a:lnTo>
                  <a:lnTo>
                    <a:pt x="506" y="2962"/>
                  </a:lnTo>
                  <a:lnTo>
                    <a:pt x="514" y="2962"/>
                  </a:lnTo>
                  <a:lnTo>
                    <a:pt x="539" y="2961"/>
                  </a:lnTo>
                  <a:lnTo>
                    <a:pt x="563" y="2957"/>
                  </a:lnTo>
                  <a:lnTo>
                    <a:pt x="587" y="2949"/>
                  </a:lnTo>
                  <a:lnTo>
                    <a:pt x="611" y="2940"/>
                  </a:lnTo>
                  <a:lnTo>
                    <a:pt x="635" y="2926"/>
                  </a:lnTo>
                  <a:lnTo>
                    <a:pt x="658" y="2911"/>
                  </a:lnTo>
                  <a:lnTo>
                    <a:pt x="680" y="2892"/>
                  </a:lnTo>
                  <a:lnTo>
                    <a:pt x="703" y="2870"/>
                  </a:lnTo>
                  <a:lnTo>
                    <a:pt x="725" y="2845"/>
                  </a:lnTo>
                  <a:lnTo>
                    <a:pt x="747" y="2818"/>
                  </a:lnTo>
                  <a:lnTo>
                    <a:pt x="768" y="2786"/>
                  </a:lnTo>
                  <a:lnTo>
                    <a:pt x="789" y="2752"/>
                  </a:lnTo>
                  <a:lnTo>
                    <a:pt x="830" y="2675"/>
                  </a:lnTo>
                  <a:lnTo>
                    <a:pt x="870" y="2587"/>
                  </a:lnTo>
                  <a:lnTo>
                    <a:pt x="907" y="2494"/>
                  </a:lnTo>
                  <a:lnTo>
                    <a:pt x="939" y="2401"/>
                  </a:lnTo>
                  <a:lnTo>
                    <a:pt x="966" y="2310"/>
                  </a:lnTo>
                  <a:lnTo>
                    <a:pt x="988" y="2219"/>
                  </a:lnTo>
                  <a:lnTo>
                    <a:pt x="1005" y="2130"/>
                  </a:lnTo>
                  <a:lnTo>
                    <a:pt x="1017" y="2042"/>
                  </a:lnTo>
                  <a:lnTo>
                    <a:pt x="1025" y="1955"/>
                  </a:lnTo>
                  <a:lnTo>
                    <a:pt x="1027" y="1868"/>
                  </a:lnTo>
                  <a:lnTo>
                    <a:pt x="1026" y="1837"/>
                  </a:lnTo>
                  <a:lnTo>
                    <a:pt x="1025" y="1808"/>
                  </a:lnTo>
                  <a:lnTo>
                    <a:pt x="1022" y="1779"/>
                  </a:lnTo>
                  <a:lnTo>
                    <a:pt x="1017" y="1751"/>
                  </a:lnTo>
                  <a:lnTo>
                    <a:pt x="1012" y="1724"/>
                  </a:lnTo>
                  <a:lnTo>
                    <a:pt x="1005" y="1698"/>
                  </a:lnTo>
                  <a:lnTo>
                    <a:pt x="997" y="1672"/>
                  </a:lnTo>
                  <a:lnTo>
                    <a:pt x="988" y="1648"/>
                  </a:lnTo>
                  <a:lnTo>
                    <a:pt x="978" y="1626"/>
                  </a:lnTo>
                  <a:lnTo>
                    <a:pt x="972" y="1615"/>
                  </a:lnTo>
                  <a:lnTo>
                    <a:pt x="967" y="1606"/>
                  </a:lnTo>
                  <a:lnTo>
                    <a:pt x="961" y="1598"/>
                  </a:lnTo>
                  <a:lnTo>
                    <a:pt x="955" y="1589"/>
                  </a:lnTo>
                  <a:lnTo>
                    <a:pt x="948" y="1582"/>
                  </a:lnTo>
                  <a:lnTo>
                    <a:pt x="942" y="1575"/>
                  </a:lnTo>
                  <a:lnTo>
                    <a:pt x="935" y="1570"/>
                  </a:lnTo>
                  <a:lnTo>
                    <a:pt x="927" y="1564"/>
                  </a:lnTo>
                  <a:lnTo>
                    <a:pt x="920" y="1560"/>
                  </a:lnTo>
                  <a:lnTo>
                    <a:pt x="912" y="1557"/>
                  </a:lnTo>
                  <a:lnTo>
                    <a:pt x="904" y="1554"/>
                  </a:lnTo>
                  <a:lnTo>
                    <a:pt x="896" y="1551"/>
                  </a:lnTo>
                  <a:lnTo>
                    <a:pt x="888" y="1550"/>
                  </a:lnTo>
                  <a:lnTo>
                    <a:pt x="880" y="1549"/>
                  </a:lnTo>
                  <a:lnTo>
                    <a:pt x="870" y="1549"/>
                  </a:lnTo>
                  <a:lnTo>
                    <a:pt x="859" y="1551"/>
                  </a:lnTo>
                  <a:lnTo>
                    <a:pt x="848" y="1552"/>
                  </a:lnTo>
                  <a:lnTo>
                    <a:pt x="836" y="1555"/>
                  </a:lnTo>
                  <a:lnTo>
                    <a:pt x="825" y="1560"/>
                  </a:lnTo>
                  <a:lnTo>
                    <a:pt x="812" y="1565"/>
                  </a:lnTo>
                  <a:lnTo>
                    <a:pt x="787" y="1579"/>
                  </a:lnTo>
                  <a:lnTo>
                    <a:pt x="760" y="1597"/>
                  </a:lnTo>
                  <a:lnTo>
                    <a:pt x="731" y="1619"/>
                  </a:lnTo>
                  <a:lnTo>
                    <a:pt x="701" y="1645"/>
                  </a:lnTo>
                  <a:lnTo>
                    <a:pt x="669" y="1675"/>
                  </a:lnTo>
                  <a:lnTo>
                    <a:pt x="637" y="1712"/>
                  </a:lnTo>
                  <a:lnTo>
                    <a:pt x="606" y="1753"/>
                  </a:lnTo>
                  <a:lnTo>
                    <a:pt x="575" y="1801"/>
                  </a:lnTo>
                  <a:lnTo>
                    <a:pt x="546" y="1855"/>
                  </a:lnTo>
                  <a:lnTo>
                    <a:pt x="517" y="1916"/>
                  </a:lnTo>
                  <a:lnTo>
                    <a:pt x="490" y="1981"/>
                  </a:lnTo>
                  <a:lnTo>
                    <a:pt x="463" y="2054"/>
                  </a:lnTo>
                  <a:lnTo>
                    <a:pt x="436" y="2132"/>
                  </a:lnTo>
                  <a:lnTo>
                    <a:pt x="412" y="2212"/>
                  </a:lnTo>
                  <a:lnTo>
                    <a:pt x="392" y="2291"/>
                  </a:lnTo>
                  <a:lnTo>
                    <a:pt x="375" y="2369"/>
                  </a:lnTo>
                  <a:lnTo>
                    <a:pt x="360" y="2444"/>
                  </a:lnTo>
                  <a:lnTo>
                    <a:pt x="349" y="2518"/>
                  </a:lnTo>
                  <a:lnTo>
                    <a:pt x="341" y="2590"/>
                  </a:lnTo>
                  <a:lnTo>
                    <a:pt x="337" y="266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30920" y="1882800"/>
              <a:ext cx="530280" cy="687240"/>
            </a:xfrm>
            <a:custGeom>
              <a:avLst/>
              <a:gdLst/>
              <a:ahLst/>
              <a:rect l="l" t="t" r="r" b="b"/>
              <a:pathLst>
                <a:path w="1472" h="1911">
                  <a:moveTo>
                    <a:pt x="993" y="3"/>
                  </a:moveTo>
                  <a:lnTo>
                    <a:pt x="1019" y="6"/>
                  </a:lnTo>
                  <a:lnTo>
                    <a:pt x="1044" y="10"/>
                  </a:lnTo>
                  <a:lnTo>
                    <a:pt x="1068" y="16"/>
                  </a:lnTo>
                  <a:lnTo>
                    <a:pt x="1092" y="22"/>
                  </a:lnTo>
                  <a:lnTo>
                    <a:pt x="1115" y="31"/>
                  </a:lnTo>
                  <a:lnTo>
                    <a:pt x="1138" y="41"/>
                  </a:lnTo>
                  <a:lnTo>
                    <a:pt x="1161" y="51"/>
                  </a:lnTo>
                  <a:lnTo>
                    <a:pt x="1182" y="64"/>
                  </a:lnTo>
                  <a:lnTo>
                    <a:pt x="1204" y="77"/>
                  </a:lnTo>
                  <a:lnTo>
                    <a:pt x="1224" y="93"/>
                  </a:lnTo>
                  <a:lnTo>
                    <a:pt x="1244" y="109"/>
                  </a:lnTo>
                  <a:lnTo>
                    <a:pt x="1264" y="127"/>
                  </a:lnTo>
                  <a:lnTo>
                    <a:pt x="1283" y="145"/>
                  </a:lnTo>
                  <a:lnTo>
                    <a:pt x="1301" y="166"/>
                  </a:lnTo>
                  <a:lnTo>
                    <a:pt x="1336" y="210"/>
                  </a:lnTo>
                  <a:lnTo>
                    <a:pt x="1353" y="234"/>
                  </a:lnTo>
                  <a:lnTo>
                    <a:pt x="1368" y="259"/>
                  </a:lnTo>
                  <a:lnTo>
                    <a:pt x="1381" y="284"/>
                  </a:lnTo>
                  <a:lnTo>
                    <a:pt x="1395" y="311"/>
                  </a:lnTo>
                  <a:lnTo>
                    <a:pt x="1418" y="366"/>
                  </a:lnTo>
                  <a:lnTo>
                    <a:pt x="1437" y="425"/>
                  </a:lnTo>
                  <a:lnTo>
                    <a:pt x="1452" y="488"/>
                  </a:lnTo>
                  <a:lnTo>
                    <a:pt x="1463" y="554"/>
                  </a:lnTo>
                  <a:lnTo>
                    <a:pt x="1469" y="624"/>
                  </a:lnTo>
                  <a:lnTo>
                    <a:pt x="1471" y="698"/>
                  </a:lnTo>
                  <a:lnTo>
                    <a:pt x="1466" y="815"/>
                  </a:lnTo>
                  <a:lnTo>
                    <a:pt x="1452" y="928"/>
                  </a:lnTo>
                  <a:lnTo>
                    <a:pt x="1427" y="1038"/>
                  </a:lnTo>
                  <a:lnTo>
                    <a:pt x="1394" y="1145"/>
                  </a:lnTo>
                  <a:lnTo>
                    <a:pt x="1351" y="1249"/>
                  </a:lnTo>
                  <a:lnTo>
                    <a:pt x="1297" y="1349"/>
                  </a:lnTo>
                  <a:lnTo>
                    <a:pt x="1234" y="1446"/>
                  </a:lnTo>
                  <a:lnTo>
                    <a:pt x="1161" y="1541"/>
                  </a:lnTo>
                  <a:lnTo>
                    <a:pt x="1082" y="1629"/>
                  </a:lnTo>
                  <a:lnTo>
                    <a:pt x="1004" y="1704"/>
                  </a:lnTo>
                  <a:lnTo>
                    <a:pt x="922" y="1769"/>
                  </a:lnTo>
                  <a:lnTo>
                    <a:pt x="881" y="1796"/>
                  </a:lnTo>
                  <a:lnTo>
                    <a:pt x="840" y="1821"/>
                  </a:lnTo>
                  <a:lnTo>
                    <a:pt x="798" y="1843"/>
                  </a:lnTo>
                  <a:lnTo>
                    <a:pt x="756" y="1861"/>
                  </a:lnTo>
                  <a:lnTo>
                    <a:pt x="715" y="1877"/>
                  </a:lnTo>
                  <a:lnTo>
                    <a:pt x="672" y="1889"/>
                  </a:lnTo>
                  <a:lnTo>
                    <a:pt x="629" y="1899"/>
                  </a:lnTo>
                  <a:lnTo>
                    <a:pt x="586" y="1906"/>
                  </a:lnTo>
                  <a:lnTo>
                    <a:pt x="582" y="1906"/>
                  </a:lnTo>
                  <a:lnTo>
                    <a:pt x="582" y="1906"/>
                  </a:lnTo>
                  <a:lnTo>
                    <a:pt x="542" y="1910"/>
                  </a:lnTo>
                  <a:lnTo>
                    <a:pt x="498" y="1910"/>
                  </a:lnTo>
                  <a:lnTo>
                    <a:pt x="443" y="1907"/>
                  </a:lnTo>
                  <a:lnTo>
                    <a:pt x="392" y="1899"/>
                  </a:lnTo>
                  <a:lnTo>
                    <a:pt x="343" y="1885"/>
                  </a:lnTo>
                  <a:lnTo>
                    <a:pt x="318" y="1877"/>
                  </a:lnTo>
                  <a:lnTo>
                    <a:pt x="295" y="1866"/>
                  </a:lnTo>
                  <a:lnTo>
                    <a:pt x="273" y="1856"/>
                  </a:lnTo>
                  <a:lnTo>
                    <a:pt x="252" y="1843"/>
                  </a:lnTo>
                  <a:lnTo>
                    <a:pt x="231" y="1829"/>
                  </a:lnTo>
                  <a:lnTo>
                    <a:pt x="211" y="1815"/>
                  </a:lnTo>
                  <a:lnTo>
                    <a:pt x="191" y="1797"/>
                  </a:lnTo>
                  <a:lnTo>
                    <a:pt x="172" y="1780"/>
                  </a:lnTo>
                  <a:lnTo>
                    <a:pt x="154" y="1762"/>
                  </a:lnTo>
                  <a:lnTo>
                    <a:pt x="137" y="1742"/>
                  </a:lnTo>
                  <a:lnTo>
                    <a:pt x="120" y="1720"/>
                  </a:lnTo>
                  <a:lnTo>
                    <a:pt x="105" y="1698"/>
                  </a:lnTo>
                  <a:lnTo>
                    <a:pt x="90" y="1675"/>
                  </a:lnTo>
                  <a:lnTo>
                    <a:pt x="77" y="1651"/>
                  </a:lnTo>
                  <a:lnTo>
                    <a:pt x="64" y="1626"/>
                  </a:lnTo>
                  <a:lnTo>
                    <a:pt x="53" y="1600"/>
                  </a:lnTo>
                  <a:lnTo>
                    <a:pt x="34" y="1546"/>
                  </a:lnTo>
                  <a:lnTo>
                    <a:pt x="19" y="1489"/>
                  </a:lnTo>
                  <a:lnTo>
                    <a:pt x="8" y="1428"/>
                  </a:lnTo>
                  <a:lnTo>
                    <a:pt x="2" y="1362"/>
                  </a:lnTo>
                  <a:lnTo>
                    <a:pt x="0" y="1295"/>
                  </a:lnTo>
                  <a:lnTo>
                    <a:pt x="4" y="1179"/>
                  </a:lnTo>
                  <a:lnTo>
                    <a:pt x="14" y="1067"/>
                  </a:lnTo>
                  <a:lnTo>
                    <a:pt x="32" y="959"/>
                  </a:lnTo>
                  <a:lnTo>
                    <a:pt x="58" y="853"/>
                  </a:lnTo>
                  <a:lnTo>
                    <a:pt x="90" y="751"/>
                  </a:lnTo>
                  <a:lnTo>
                    <a:pt x="130" y="653"/>
                  </a:lnTo>
                  <a:lnTo>
                    <a:pt x="176" y="558"/>
                  </a:lnTo>
                  <a:lnTo>
                    <a:pt x="230" y="466"/>
                  </a:lnTo>
                  <a:lnTo>
                    <a:pt x="310" y="348"/>
                  </a:lnTo>
                  <a:lnTo>
                    <a:pt x="352" y="296"/>
                  </a:lnTo>
                  <a:lnTo>
                    <a:pt x="395" y="247"/>
                  </a:lnTo>
                  <a:lnTo>
                    <a:pt x="439" y="203"/>
                  </a:lnTo>
                  <a:lnTo>
                    <a:pt x="484" y="163"/>
                  </a:lnTo>
                  <a:lnTo>
                    <a:pt x="530" y="126"/>
                  </a:lnTo>
                  <a:lnTo>
                    <a:pt x="577" y="94"/>
                  </a:lnTo>
                  <a:lnTo>
                    <a:pt x="582" y="90"/>
                  </a:lnTo>
                  <a:lnTo>
                    <a:pt x="582" y="89"/>
                  </a:lnTo>
                  <a:lnTo>
                    <a:pt x="625" y="68"/>
                  </a:lnTo>
                  <a:lnTo>
                    <a:pt x="674" y="46"/>
                  </a:lnTo>
                  <a:lnTo>
                    <a:pt x="725" y="28"/>
                  </a:lnTo>
                  <a:lnTo>
                    <a:pt x="775" y="15"/>
                  </a:lnTo>
                  <a:lnTo>
                    <a:pt x="828" y="5"/>
                  </a:lnTo>
                  <a:lnTo>
                    <a:pt x="882" y="0"/>
                  </a:lnTo>
                  <a:lnTo>
                    <a:pt x="937" y="0"/>
                  </a:lnTo>
                  <a:close/>
                  <a:moveTo>
                    <a:pt x="830" y="234"/>
                  </a:moveTo>
                  <a:lnTo>
                    <a:pt x="812" y="233"/>
                  </a:lnTo>
                  <a:lnTo>
                    <a:pt x="795" y="234"/>
                  </a:lnTo>
                  <a:lnTo>
                    <a:pt x="777" y="238"/>
                  </a:lnTo>
                  <a:lnTo>
                    <a:pt x="759" y="243"/>
                  </a:lnTo>
                  <a:lnTo>
                    <a:pt x="743" y="250"/>
                  </a:lnTo>
                  <a:lnTo>
                    <a:pt x="725" y="259"/>
                  </a:lnTo>
                  <a:lnTo>
                    <a:pt x="707" y="270"/>
                  </a:lnTo>
                  <a:lnTo>
                    <a:pt x="689" y="283"/>
                  </a:lnTo>
                  <a:lnTo>
                    <a:pt x="671" y="297"/>
                  </a:lnTo>
                  <a:lnTo>
                    <a:pt x="654" y="315"/>
                  </a:lnTo>
                  <a:lnTo>
                    <a:pt x="618" y="354"/>
                  </a:lnTo>
                  <a:lnTo>
                    <a:pt x="582" y="398"/>
                  </a:lnTo>
                  <a:lnTo>
                    <a:pt x="582" y="399"/>
                  </a:lnTo>
                  <a:lnTo>
                    <a:pt x="582" y="400"/>
                  </a:lnTo>
                  <a:lnTo>
                    <a:pt x="546" y="456"/>
                  </a:lnTo>
                  <a:lnTo>
                    <a:pt x="513" y="519"/>
                  </a:lnTo>
                  <a:lnTo>
                    <a:pt x="484" y="588"/>
                  </a:lnTo>
                  <a:lnTo>
                    <a:pt x="459" y="664"/>
                  </a:lnTo>
                  <a:lnTo>
                    <a:pt x="439" y="746"/>
                  </a:lnTo>
                  <a:lnTo>
                    <a:pt x="423" y="835"/>
                  </a:lnTo>
                  <a:lnTo>
                    <a:pt x="412" y="930"/>
                  </a:lnTo>
                  <a:lnTo>
                    <a:pt x="405" y="1033"/>
                  </a:lnTo>
                  <a:lnTo>
                    <a:pt x="403" y="1141"/>
                  </a:lnTo>
                  <a:lnTo>
                    <a:pt x="404" y="1206"/>
                  </a:lnTo>
                  <a:lnTo>
                    <a:pt x="408" y="1267"/>
                  </a:lnTo>
                  <a:lnTo>
                    <a:pt x="415" y="1325"/>
                  </a:lnTo>
                  <a:lnTo>
                    <a:pt x="425" y="1380"/>
                  </a:lnTo>
                  <a:lnTo>
                    <a:pt x="437" y="1430"/>
                  </a:lnTo>
                  <a:lnTo>
                    <a:pt x="452" y="1478"/>
                  </a:lnTo>
                  <a:lnTo>
                    <a:pt x="470" y="1520"/>
                  </a:lnTo>
                  <a:lnTo>
                    <a:pt x="490" y="1560"/>
                  </a:lnTo>
                  <a:lnTo>
                    <a:pt x="505" y="1582"/>
                  </a:lnTo>
                  <a:lnTo>
                    <a:pt x="513" y="1594"/>
                  </a:lnTo>
                  <a:lnTo>
                    <a:pt x="521" y="1603"/>
                  </a:lnTo>
                  <a:lnTo>
                    <a:pt x="529" y="1612"/>
                  </a:lnTo>
                  <a:lnTo>
                    <a:pt x="538" y="1620"/>
                  </a:lnTo>
                  <a:lnTo>
                    <a:pt x="547" y="1627"/>
                  </a:lnTo>
                  <a:lnTo>
                    <a:pt x="556" y="1633"/>
                  </a:lnTo>
                  <a:lnTo>
                    <a:pt x="566" y="1639"/>
                  </a:lnTo>
                  <a:lnTo>
                    <a:pt x="575" y="1645"/>
                  </a:lnTo>
                  <a:lnTo>
                    <a:pt x="582" y="1647"/>
                  </a:lnTo>
                  <a:lnTo>
                    <a:pt x="582" y="1647"/>
                  </a:lnTo>
                  <a:lnTo>
                    <a:pt x="585" y="1650"/>
                  </a:lnTo>
                  <a:lnTo>
                    <a:pt x="596" y="1653"/>
                  </a:lnTo>
                  <a:lnTo>
                    <a:pt x="606" y="1656"/>
                  </a:lnTo>
                  <a:lnTo>
                    <a:pt x="617" y="1658"/>
                  </a:lnTo>
                  <a:lnTo>
                    <a:pt x="629" y="1660"/>
                  </a:lnTo>
                  <a:lnTo>
                    <a:pt x="640" y="1660"/>
                  </a:lnTo>
                  <a:lnTo>
                    <a:pt x="658" y="1660"/>
                  </a:lnTo>
                  <a:lnTo>
                    <a:pt x="675" y="1658"/>
                  </a:lnTo>
                  <a:lnTo>
                    <a:pt x="693" y="1654"/>
                  </a:lnTo>
                  <a:lnTo>
                    <a:pt x="711" y="1649"/>
                  </a:lnTo>
                  <a:lnTo>
                    <a:pt x="728" y="1642"/>
                  </a:lnTo>
                  <a:lnTo>
                    <a:pt x="746" y="1633"/>
                  </a:lnTo>
                  <a:lnTo>
                    <a:pt x="762" y="1622"/>
                  </a:lnTo>
                  <a:lnTo>
                    <a:pt x="780" y="1609"/>
                  </a:lnTo>
                  <a:lnTo>
                    <a:pt x="798" y="1596"/>
                  </a:lnTo>
                  <a:lnTo>
                    <a:pt x="815" y="1580"/>
                  </a:lnTo>
                  <a:lnTo>
                    <a:pt x="851" y="1544"/>
                  </a:lnTo>
                  <a:lnTo>
                    <a:pt x="886" y="1500"/>
                  </a:lnTo>
                  <a:lnTo>
                    <a:pt x="922" y="1449"/>
                  </a:lnTo>
                  <a:lnTo>
                    <a:pt x="955" y="1385"/>
                  </a:lnTo>
                  <a:lnTo>
                    <a:pt x="984" y="1316"/>
                  </a:lnTo>
                  <a:lnTo>
                    <a:pt x="1008" y="1242"/>
                  </a:lnTo>
                  <a:lnTo>
                    <a:pt x="1028" y="1162"/>
                  </a:lnTo>
                  <a:lnTo>
                    <a:pt x="1043" y="1077"/>
                  </a:lnTo>
                  <a:lnTo>
                    <a:pt x="1054" y="988"/>
                  </a:lnTo>
                  <a:lnTo>
                    <a:pt x="1060" y="893"/>
                  </a:lnTo>
                  <a:lnTo>
                    <a:pt x="1062" y="794"/>
                  </a:lnTo>
                  <a:lnTo>
                    <a:pt x="1061" y="722"/>
                  </a:lnTo>
                  <a:lnTo>
                    <a:pt x="1059" y="654"/>
                  </a:lnTo>
                  <a:lnTo>
                    <a:pt x="1053" y="592"/>
                  </a:lnTo>
                  <a:lnTo>
                    <a:pt x="1046" y="536"/>
                  </a:lnTo>
                  <a:lnTo>
                    <a:pt x="1036" y="486"/>
                  </a:lnTo>
                  <a:lnTo>
                    <a:pt x="1024" y="441"/>
                  </a:lnTo>
                  <a:lnTo>
                    <a:pt x="1017" y="420"/>
                  </a:lnTo>
                  <a:lnTo>
                    <a:pt x="1010" y="401"/>
                  </a:lnTo>
                  <a:lnTo>
                    <a:pt x="1002" y="383"/>
                  </a:lnTo>
                  <a:lnTo>
                    <a:pt x="994" y="367"/>
                  </a:lnTo>
                  <a:lnTo>
                    <a:pt x="976" y="337"/>
                  </a:lnTo>
                  <a:lnTo>
                    <a:pt x="957" y="312"/>
                  </a:lnTo>
                  <a:lnTo>
                    <a:pt x="948" y="300"/>
                  </a:lnTo>
                  <a:lnTo>
                    <a:pt x="938" y="289"/>
                  </a:lnTo>
                  <a:lnTo>
                    <a:pt x="928" y="280"/>
                  </a:lnTo>
                  <a:lnTo>
                    <a:pt x="918" y="271"/>
                  </a:lnTo>
                  <a:lnTo>
                    <a:pt x="908" y="263"/>
                  </a:lnTo>
                  <a:lnTo>
                    <a:pt x="897" y="257"/>
                  </a:lnTo>
                  <a:lnTo>
                    <a:pt x="886" y="250"/>
                  </a:lnTo>
                  <a:lnTo>
                    <a:pt x="876" y="245"/>
                  </a:lnTo>
                  <a:lnTo>
                    <a:pt x="865" y="241"/>
                  </a:lnTo>
                  <a:lnTo>
                    <a:pt x="853" y="238"/>
                  </a:lnTo>
                  <a:lnTo>
                    <a:pt x="842" y="23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19360" y="3390840"/>
              <a:ext cx="495360" cy="590760"/>
            </a:xfrm>
            <a:custGeom>
              <a:avLst/>
              <a:gdLst/>
              <a:ahLst/>
              <a:rect l="l" t="t" r="r" b="b"/>
              <a:pathLst>
                <a:path w="1375" h="1639">
                  <a:moveTo>
                    <a:pt x="425" y="895"/>
                  </a:moveTo>
                  <a:lnTo>
                    <a:pt x="435" y="728"/>
                  </a:lnTo>
                  <a:lnTo>
                    <a:pt x="551" y="690"/>
                  </a:lnTo>
                  <a:lnTo>
                    <a:pt x="602" y="670"/>
                  </a:lnTo>
                  <a:lnTo>
                    <a:pt x="649" y="651"/>
                  </a:lnTo>
                  <a:lnTo>
                    <a:pt x="691" y="630"/>
                  </a:lnTo>
                  <a:lnTo>
                    <a:pt x="728" y="609"/>
                  </a:lnTo>
                  <a:lnTo>
                    <a:pt x="761" y="589"/>
                  </a:lnTo>
                  <a:lnTo>
                    <a:pt x="790" y="568"/>
                  </a:lnTo>
                  <a:lnTo>
                    <a:pt x="814" y="546"/>
                  </a:lnTo>
                  <a:lnTo>
                    <a:pt x="835" y="523"/>
                  </a:lnTo>
                  <a:lnTo>
                    <a:pt x="853" y="499"/>
                  </a:lnTo>
                  <a:lnTo>
                    <a:pt x="861" y="486"/>
                  </a:lnTo>
                  <a:lnTo>
                    <a:pt x="868" y="473"/>
                  </a:lnTo>
                  <a:lnTo>
                    <a:pt x="874" y="460"/>
                  </a:lnTo>
                  <a:lnTo>
                    <a:pt x="879" y="447"/>
                  </a:lnTo>
                  <a:lnTo>
                    <a:pt x="884" y="433"/>
                  </a:lnTo>
                  <a:lnTo>
                    <a:pt x="887" y="419"/>
                  </a:lnTo>
                  <a:lnTo>
                    <a:pt x="890" y="405"/>
                  </a:lnTo>
                  <a:lnTo>
                    <a:pt x="892" y="390"/>
                  </a:lnTo>
                  <a:lnTo>
                    <a:pt x="894" y="376"/>
                  </a:lnTo>
                  <a:lnTo>
                    <a:pt x="894" y="361"/>
                  </a:lnTo>
                  <a:lnTo>
                    <a:pt x="894" y="345"/>
                  </a:lnTo>
                  <a:lnTo>
                    <a:pt x="892" y="330"/>
                  </a:lnTo>
                  <a:lnTo>
                    <a:pt x="890" y="317"/>
                  </a:lnTo>
                  <a:lnTo>
                    <a:pt x="887" y="304"/>
                  </a:lnTo>
                  <a:lnTo>
                    <a:pt x="883" y="291"/>
                  </a:lnTo>
                  <a:lnTo>
                    <a:pt x="878" y="280"/>
                  </a:lnTo>
                  <a:lnTo>
                    <a:pt x="872" y="270"/>
                  </a:lnTo>
                  <a:lnTo>
                    <a:pt x="865" y="261"/>
                  </a:lnTo>
                  <a:lnTo>
                    <a:pt x="857" y="252"/>
                  </a:lnTo>
                  <a:lnTo>
                    <a:pt x="848" y="245"/>
                  </a:lnTo>
                  <a:lnTo>
                    <a:pt x="839" y="238"/>
                  </a:lnTo>
                  <a:lnTo>
                    <a:pt x="828" y="232"/>
                  </a:lnTo>
                  <a:lnTo>
                    <a:pt x="817" y="228"/>
                  </a:lnTo>
                  <a:lnTo>
                    <a:pt x="804" y="224"/>
                  </a:lnTo>
                  <a:lnTo>
                    <a:pt x="792" y="222"/>
                  </a:lnTo>
                  <a:lnTo>
                    <a:pt x="778" y="220"/>
                  </a:lnTo>
                  <a:lnTo>
                    <a:pt x="752" y="218"/>
                  </a:lnTo>
                  <a:lnTo>
                    <a:pt x="725" y="219"/>
                  </a:lnTo>
                  <a:lnTo>
                    <a:pt x="697" y="221"/>
                  </a:lnTo>
                  <a:lnTo>
                    <a:pt x="670" y="225"/>
                  </a:lnTo>
                  <a:lnTo>
                    <a:pt x="641" y="231"/>
                  </a:lnTo>
                  <a:lnTo>
                    <a:pt x="612" y="238"/>
                  </a:lnTo>
                  <a:lnTo>
                    <a:pt x="552" y="259"/>
                  </a:lnTo>
                  <a:lnTo>
                    <a:pt x="489" y="288"/>
                  </a:lnTo>
                  <a:lnTo>
                    <a:pt x="424" y="323"/>
                  </a:lnTo>
                  <a:lnTo>
                    <a:pt x="357" y="365"/>
                  </a:lnTo>
                  <a:lnTo>
                    <a:pt x="286" y="414"/>
                  </a:lnTo>
                  <a:lnTo>
                    <a:pt x="160" y="304"/>
                  </a:lnTo>
                  <a:lnTo>
                    <a:pt x="271" y="217"/>
                  </a:lnTo>
                  <a:lnTo>
                    <a:pt x="373" y="146"/>
                  </a:lnTo>
                  <a:lnTo>
                    <a:pt x="421" y="117"/>
                  </a:lnTo>
                  <a:lnTo>
                    <a:pt x="467" y="91"/>
                  </a:lnTo>
                  <a:lnTo>
                    <a:pt x="509" y="70"/>
                  </a:lnTo>
                  <a:lnTo>
                    <a:pt x="551" y="51"/>
                  </a:lnTo>
                  <a:lnTo>
                    <a:pt x="591" y="37"/>
                  </a:lnTo>
                  <a:lnTo>
                    <a:pt x="632" y="25"/>
                  </a:lnTo>
                  <a:lnTo>
                    <a:pt x="674" y="15"/>
                  </a:lnTo>
                  <a:lnTo>
                    <a:pt x="715" y="7"/>
                  </a:lnTo>
                  <a:lnTo>
                    <a:pt x="758" y="2"/>
                  </a:lnTo>
                  <a:lnTo>
                    <a:pt x="802" y="0"/>
                  </a:lnTo>
                  <a:lnTo>
                    <a:pt x="845" y="0"/>
                  </a:lnTo>
                  <a:lnTo>
                    <a:pt x="889" y="3"/>
                  </a:lnTo>
                  <a:lnTo>
                    <a:pt x="932" y="7"/>
                  </a:lnTo>
                  <a:lnTo>
                    <a:pt x="973" y="14"/>
                  </a:lnTo>
                  <a:lnTo>
                    <a:pt x="1012" y="23"/>
                  </a:lnTo>
                  <a:lnTo>
                    <a:pt x="1046" y="33"/>
                  </a:lnTo>
                  <a:lnTo>
                    <a:pt x="1079" y="46"/>
                  </a:lnTo>
                  <a:lnTo>
                    <a:pt x="1109" y="61"/>
                  </a:lnTo>
                  <a:lnTo>
                    <a:pt x="1135" y="78"/>
                  </a:lnTo>
                  <a:lnTo>
                    <a:pt x="1159" y="97"/>
                  </a:lnTo>
                  <a:lnTo>
                    <a:pt x="1180" y="117"/>
                  </a:lnTo>
                  <a:lnTo>
                    <a:pt x="1199" y="141"/>
                  </a:lnTo>
                  <a:lnTo>
                    <a:pt x="1215" y="166"/>
                  </a:lnTo>
                  <a:lnTo>
                    <a:pt x="1227" y="193"/>
                  </a:lnTo>
                  <a:lnTo>
                    <a:pt x="1237" y="222"/>
                  </a:lnTo>
                  <a:lnTo>
                    <a:pt x="1244" y="253"/>
                  </a:lnTo>
                  <a:lnTo>
                    <a:pt x="1248" y="286"/>
                  </a:lnTo>
                  <a:lnTo>
                    <a:pt x="1249" y="322"/>
                  </a:lnTo>
                  <a:lnTo>
                    <a:pt x="1248" y="351"/>
                  </a:lnTo>
                  <a:lnTo>
                    <a:pt x="1245" y="380"/>
                  </a:lnTo>
                  <a:lnTo>
                    <a:pt x="1241" y="408"/>
                  </a:lnTo>
                  <a:lnTo>
                    <a:pt x="1233" y="434"/>
                  </a:lnTo>
                  <a:lnTo>
                    <a:pt x="1224" y="459"/>
                  </a:lnTo>
                  <a:lnTo>
                    <a:pt x="1212" y="483"/>
                  </a:lnTo>
                  <a:lnTo>
                    <a:pt x="1199" y="506"/>
                  </a:lnTo>
                  <a:lnTo>
                    <a:pt x="1183" y="528"/>
                  </a:lnTo>
                  <a:lnTo>
                    <a:pt x="1165" y="548"/>
                  </a:lnTo>
                  <a:lnTo>
                    <a:pt x="1145" y="568"/>
                  </a:lnTo>
                  <a:lnTo>
                    <a:pt x="1124" y="587"/>
                  </a:lnTo>
                  <a:lnTo>
                    <a:pt x="1100" y="604"/>
                  </a:lnTo>
                  <a:lnTo>
                    <a:pt x="1074" y="621"/>
                  </a:lnTo>
                  <a:lnTo>
                    <a:pt x="1045" y="635"/>
                  </a:lnTo>
                  <a:lnTo>
                    <a:pt x="983" y="662"/>
                  </a:lnTo>
                  <a:lnTo>
                    <a:pt x="999" y="661"/>
                  </a:lnTo>
                  <a:lnTo>
                    <a:pt x="1015" y="662"/>
                  </a:lnTo>
                  <a:lnTo>
                    <a:pt x="1029" y="661"/>
                  </a:lnTo>
                  <a:lnTo>
                    <a:pt x="1045" y="663"/>
                  </a:lnTo>
                  <a:lnTo>
                    <a:pt x="1085" y="669"/>
                  </a:lnTo>
                  <a:lnTo>
                    <a:pt x="1123" y="677"/>
                  </a:lnTo>
                  <a:lnTo>
                    <a:pt x="1157" y="686"/>
                  </a:lnTo>
                  <a:lnTo>
                    <a:pt x="1189" y="698"/>
                  </a:lnTo>
                  <a:lnTo>
                    <a:pt x="1219" y="712"/>
                  </a:lnTo>
                  <a:lnTo>
                    <a:pt x="1245" y="727"/>
                  </a:lnTo>
                  <a:lnTo>
                    <a:pt x="1270" y="745"/>
                  </a:lnTo>
                  <a:lnTo>
                    <a:pt x="1292" y="765"/>
                  </a:lnTo>
                  <a:lnTo>
                    <a:pt x="1311" y="786"/>
                  </a:lnTo>
                  <a:lnTo>
                    <a:pt x="1328" y="810"/>
                  </a:lnTo>
                  <a:lnTo>
                    <a:pt x="1343" y="836"/>
                  </a:lnTo>
                  <a:lnTo>
                    <a:pt x="1354" y="864"/>
                  </a:lnTo>
                  <a:lnTo>
                    <a:pt x="1362" y="894"/>
                  </a:lnTo>
                  <a:lnTo>
                    <a:pt x="1369" y="925"/>
                  </a:lnTo>
                  <a:lnTo>
                    <a:pt x="1373" y="959"/>
                  </a:lnTo>
                  <a:lnTo>
                    <a:pt x="1374" y="994"/>
                  </a:lnTo>
                  <a:lnTo>
                    <a:pt x="1373" y="1026"/>
                  </a:lnTo>
                  <a:lnTo>
                    <a:pt x="1370" y="1057"/>
                  </a:lnTo>
                  <a:lnTo>
                    <a:pt x="1364" y="1087"/>
                  </a:lnTo>
                  <a:lnTo>
                    <a:pt x="1356" y="1118"/>
                  </a:lnTo>
                  <a:lnTo>
                    <a:pt x="1347" y="1149"/>
                  </a:lnTo>
                  <a:lnTo>
                    <a:pt x="1335" y="1179"/>
                  </a:lnTo>
                  <a:lnTo>
                    <a:pt x="1321" y="1209"/>
                  </a:lnTo>
                  <a:lnTo>
                    <a:pt x="1304" y="1239"/>
                  </a:lnTo>
                  <a:lnTo>
                    <a:pt x="1265" y="1298"/>
                  </a:lnTo>
                  <a:lnTo>
                    <a:pt x="1217" y="1356"/>
                  </a:lnTo>
                  <a:lnTo>
                    <a:pt x="1159" y="1412"/>
                  </a:lnTo>
                  <a:lnTo>
                    <a:pt x="1094" y="1468"/>
                  </a:lnTo>
                  <a:lnTo>
                    <a:pt x="1023" y="1518"/>
                  </a:lnTo>
                  <a:lnTo>
                    <a:pt x="950" y="1560"/>
                  </a:lnTo>
                  <a:lnTo>
                    <a:pt x="875" y="1592"/>
                  </a:lnTo>
                  <a:lnTo>
                    <a:pt x="799" y="1616"/>
                  </a:lnTo>
                  <a:lnTo>
                    <a:pt x="759" y="1624"/>
                  </a:lnTo>
                  <a:lnTo>
                    <a:pt x="719" y="1631"/>
                  </a:lnTo>
                  <a:lnTo>
                    <a:pt x="680" y="1636"/>
                  </a:lnTo>
                  <a:lnTo>
                    <a:pt x="639" y="1637"/>
                  </a:lnTo>
                  <a:lnTo>
                    <a:pt x="598" y="1638"/>
                  </a:lnTo>
                  <a:lnTo>
                    <a:pt x="558" y="1636"/>
                  </a:lnTo>
                  <a:lnTo>
                    <a:pt x="474" y="1625"/>
                  </a:lnTo>
                  <a:lnTo>
                    <a:pt x="416" y="1614"/>
                  </a:lnTo>
                  <a:lnTo>
                    <a:pt x="363" y="1600"/>
                  </a:lnTo>
                  <a:lnTo>
                    <a:pt x="313" y="1584"/>
                  </a:lnTo>
                  <a:lnTo>
                    <a:pt x="266" y="1565"/>
                  </a:lnTo>
                  <a:lnTo>
                    <a:pt x="224" y="1544"/>
                  </a:lnTo>
                  <a:lnTo>
                    <a:pt x="204" y="1532"/>
                  </a:lnTo>
                  <a:lnTo>
                    <a:pt x="184" y="1520"/>
                  </a:lnTo>
                  <a:lnTo>
                    <a:pt x="166" y="1507"/>
                  </a:lnTo>
                  <a:lnTo>
                    <a:pt x="149" y="1494"/>
                  </a:lnTo>
                  <a:lnTo>
                    <a:pt x="133" y="1480"/>
                  </a:lnTo>
                  <a:lnTo>
                    <a:pt x="118" y="1465"/>
                  </a:lnTo>
                  <a:lnTo>
                    <a:pt x="90" y="1436"/>
                  </a:lnTo>
                  <a:lnTo>
                    <a:pt x="66" y="1405"/>
                  </a:lnTo>
                  <a:lnTo>
                    <a:pt x="55" y="1389"/>
                  </a:lnTo>
                  <a:lnTo>
                    <a:pt x="45" y="1374"/>
                  </a:lnTo>
                  <a:lnTo>
                    <a:pt x="36" y="1358"/>
                  </a:lnTo>
                  <a:lnTo>
                    <a:pt x="30" y="1342"/>
                  </a:lnTo>
                  <a:lnTo>
                    <a:pt x="23" y="1326"/>
                  </a:lnTo>
                  <a:lnTo>
                    <a:pt x="17" y="1310"/>
                  </a:lnTo>
                  <a:lnTo>
                    <a:pt x="11" y="1294"/>
                  </a:lnTo>
                  <a:lnTo>
                    <a:pt x="7" y="1278"/>
                  </a:lnTo>
                  <a:lnTo>
                    <a:pt x="4" y="1261"/>
                  </a:lnTo>
                  <a:lnTo>
                    <a:pt x="2" y="1244"/>
                  </a:lnTo>
                  <a:lnTo>
                    <a:pt x="0" y="1227"/>
                  </a:lnTo>
                  <a:lnTo>
                    <a:pt x="0" y="1210"/>
                  </a:lnTo>
                  <a:lnTo>
                    <a:pt x="1" y="1192"/>
                  </a:lnTo>
                  <a:lnTo>
                    <a:pt x="3" y="1174"/>
                  </a:lnTo>
                  <a:lnTo>
                    <a:pt x="7" y="1157"/>
                  </a:lnTo>
                  <a:lnTo>
                    <a:pt x="13" y="1143"/>
                  </a:lnTo>
                  <a:lnTo>
                    <a:pt x="16" y="1135"/>
                  </a:lnTo>
                  <a:lnTo>
                    <a:pt x="20" y="1128"/>
                  </a:lnTo>
                  <a:lnTo>
                    <a:pt x="25" y="1121"/>
                  </a:lnTo>
                  <a:lnTo>
                    <a:pt x="30" y="1114"/>
                  </a:lnTo>
                  <a:lnTo>
                    <a:pt x="39" y="1102"/>
                  </a:lnTo>
                  <a:lnTo>
                    <a:pt x="52" y="1090"/>
                  </a:lnTo>
                  <a:lnTo>
                    <a:pt x="66" y="1080"/>
                  </a:lnTo>
                  <a:lnTo>
                    <a:pt x="73" y="1075"/>
                  </a:lnTo>
                  <a:lnTo>
                    <a:pt x="80" y="1072"/>
                  </a:lnTo>
                  <a:lnTo>
                    <a:pt x="87" y="1068"/>
                  </a:lnTo>
                  <a:lnTo>
                    <a:pt x="95" y="1065"/>
                  </a:lnTo>
                  <a:lnTo>
                    <a:pt x="103" y="1062"/>
                  </a:lnTo>
                  <a:lnTo>
                    <a:pt x="111" y="1060"/>
                  </a:lnTo>
                  <a:lnTo>
                    <a:pt x="119" y="1058"/>
                  </a:lnTo>
                  <a:lnTo>
                    <a:pt x="128" y="1057"/>
                  </a:lnTo>
                  <a:lnTo>
                    <a:pt x="136" y="1056"/>
                  </a:lnTo>
                  <a:lnTo>
                    <a:pt x="144" y="1055"/>
                  </a:lnTo>
                  <a:lnTo>
                    <a:pt x="162" y="1056"/>
                  </a:lnTo>
                  <a:lnTo>
                    <a:pt x="181" y="1057"/>
                  </a:lnTo>
                  <a:lnTo>
                    <a:pt x="197" y="1061"/>
                  </a:lnTo>
                  <a:lnTo>
                    <a:pt x="213" y="1065"/>
                  </a:lnTo>
                  <a:lnTo>
                    <a:pt x="229" y="1070"/>
                  </a:lnTo>
                  <a:lnTo>
                    <a:pt x="244" y="1077"/>
                  </a:lnTo>
                  <a:lnTo>
                    <a:pt x="258" y="1085"/>
                  </a:lnTo>
                  <a:lnTo>
                    <a:pt x="273" y="1095"/>
                  </a:lnTo>
                  <a:lnTo>
                    <a:pt x="287" y="1105"/>
                  </a:lnTo>
                  <a:lnTo>
                    <a:pt x="300" y="1118"/>
                  </a:lnTo>
                  <a:lnTo>
                    <a:pt x="313" y="1131"/>
                  </a:lnTo>
                  <a:lnTo>
                    <a:pt x="318" y="1137"/>
                  </a:lnTo>
                  <a:lnTo>
                    <a:pt x="324" y="1144"/>
                  </a:lnTo>
                  <a:lnTo>
                    <a:pt x="328" y="1150"/>
                  </a:lnTo>
                  <a:lnTo>
                    <a:pt x="333" y="1157"/>
                  </a:lnTo>
                  <a:lnTo>
                    <a:pt x="337" y="1164"/>
                  </a:lnTo>
                  <a:lnTo>
                    <a:pt x="341" y="1172"/>
                  </a:lnTo>
                  <a:lnTo>
                    <a:pt x="344" y="1179"/>
                  </a:lnTo>
                  <a:lnTo>
                    <a:pt x="346" y="1186"/>
                  </a:lnTo>
                  <a:lnTo>
                    <a:pt x="349" y="1193"/>
                  </a:lnTo>
                  <a:lnTo>
                    <a:pt x="351" y="1201"/>
                  </a:lnTo>
                  <a:lnTo>
                    <a:pt x="352" y="1209"/>
                  </a:lnTo>
                  <a:lnTo>
                    <a:pt x="353" y="1217"/>
                  </a:lnTo>
                  <a:lnTo>
                    <a:pt x="354" y="1224"/>
                  </a:lnTo>
                  <a:lnTo>
                    <a:pt x="354" y="1233"/>
                  </a:lnTo>
                  <a:lnTo>
                    <a:pt x="354" y="1243"/>
                  </a:lnTo>
                  <a:lnTo>
                    <a:pt x="353" y="1255"/>
                  </a:lnTo>
                  <a:lnTo>
                    <a:pt x="349" y="1286"/>
                  </a:lnTo>
                  <a:lnTo>
                    <a:pt x="349" y="1289"/>
                  </a:lnTo>
                  <a:lnTo>
                    <a:pt x="348" y="1292"/>
                  </a:lnTo>
                  <a:lnTo>
                    <a:pt x="348" y="1300"/>
                  </a:lnTo>
                  <a:lnTo>
                    <a:pt x="348" y="1319"/>
                  </a:lnTo>
                  <a:lnTo>
                    <a:pt x="348" y="1324"/>
                  </a:lnTo>
                  <a:lnTo>
                    <a:pt x="349" y="1330"/>
                  </a:lnTo>
                  <a:lnTo>
                    <a:pt x="349" y="1336"/>
                  </a:lnTo>
                  <a:lnTo>
                    <a:pt x="351" y="1342"/>
                  </a:lnTo>
                  <a:lnTo>
                    <a:pt x="352" y="1347"/>
                  </a:lnTo>
                  <a:lnTo>
                    <a:pt x="354" y="1353"/>
                  </a:lnTo>
                  <a:lnTo>
                    <a:pt x="356" y="1358"/>
                  </a:lnTo>
                  <a:lnTo>
                    <a:pt x="359" y="1365"/>
                  </a:lnTo>
                  <a:lnTo>
                    <a:pt x="361" y="1370"/>
                  </a:lnTo>
                  <a:lnTo>
                    <a:pt x="364" y="1375"/>
                  </a:lnTo>
                  <a:lnTo>
                    <a:pt x="367" y="1380"/>
                  </a:lnTo>
                  <a:lnTo>
                    <a:pt x="371" y="1385"/>
                  </a:lnTo>
                  <a:lnTo>
                    <a:pt x="375" y="1390"/>
                  </a:lnTo>
                  <a:lnTo>
                    <a:pt x="380" y="1394"/>
                  </a:lnTo>
                  <a:lnTo>
                    <a:pt x="390" y="1405"/>
                  </a:lnTo>
                  <a:lnTo>
                    <a:pt x="395" y="1409"/>
                  </a:lnTo>
                  <a:lnTo>
                    <a:pt x="401" y="1414"/>
                  </a:lnTo>
                  <a:lnTo>
                    <a:pt x="407" y="1418"/>
                  </a:lnTo>
                  <a:lnTo>
                    <a:pt x="413" y="1421"/>
                  </a:lnTo>
                  <a:lnTo>
                    <a:pt x="427" y="1429"/>
                  </a:lnTo>
                  <a:lnTo>
                    <a:pt x="441" y="1436"/>
                  </a:lnTo>
                  <a:lnTo>
                    <a:pt x="457" y="1442"/>
                  </a:lnTo>
                  <a:lnTo>
                    <a:pt x="473" y="1447"/>
                  </a:lnTo>
                  <a:lnTo>
                    <a:pt x="490" y="1451"/>
                  </a:lnTo>
                  <a:lnTo>
                    <a:pt x="509" y="1455"/>
                  </a:lnTo>
                  <a:lnTo>
                    <a:pt x="534" y="1458"/>
                  </a:lnTo>
                  <a:lnTo>
                    <a:pt x="558" y="1460"/>
                  </a:lnTo>
                  <a:lnTo>
                    <a:pt x="581" y="1461"/>
                  </a:lnTo>
                  <a:lnTo>
                    <a:pt x="603" y="1460"/>
                  </a:lnTo>
                  <a:lnTo>
                    <a:pt x="626" y="1458"/>
                  </a:lnTo>
                  <a:lnTo>
                    <a:pt x="648" y="1455"/>
                  </a:lnTo>
                  <a:lnTo>
                    <a:pt x="669" y="1451"/>
                  </a:lnTo>
                  <a:lnTo>
                    <a:pt x="690" y="1446"/>
                  </a:lnTo>
                  <a:lnTo>
                    <a:pt x="709" y="1438"/>
                  </a:lnTo>
                  <a:lnTo>
                    <a:pt x="729" y="1430"/>
                  </a:lnTo>
                  <a:lnTo>
                    <a:pt x="749" y="1419"/>
                  </a:lnTo>
                  <a:lnTo>
                    <a:pt x="768" y="1409"/>
                  </a:lnTo>
                  <a:lnTo>
                    <a:pt x="786" y="1396"/>
                  </a:lnTo>
                  <a:lnTo>
                    <a:pt x="804" y="1383"/>
                  </a:lnTo>
                  <a:lnTo>
                    <a:pt x="837" y="1351"/>
                  </a:lnTo>
                  <a:lnTo>
                    <a:pt x="868" y="1316"/>
                  </a:lnTo>
                  <a:lnTo>
                    <a:pt x="895" y="1280"/>
                  </a:lnTo>
                  <a:lnTo>
                    <a:pt x="916" y="1240"/>
                  </a:lnTo>
                  <a:lnTo>
                    <a:pt x="935" y="1199"/>
                  </a:lnTo>
                  <a:lnTo>
                    <a:pt x="949" y="1156"/>
                  </a:lnTo>
                  <a:lnTo>
                    <a:pt x="960" y="1112"/>
                  </a:lnTo>
                  <a:lnTo>
                    <a:pt x="966" y="1066"/>
                  </a:lnTo>
                  <a:lnTo>
                    <a:pt x="968" y="1018"/>
                  </a:lnTo>
                  <a:lnTo>
                    <a:pt x="967" y="999"/>
                  </a:lnTo>
                  <a:lnTo>
                    <a:pt x="966" y="982"/>
                  </a:lnTo>
                  <a:lnTo>
                    <a:pt x="963" y="965"/>
                  </a:lnTo>
                  <a:lnTo>
                    <a:pt x="959" y="950"/>
                  </a:lnTo>
                  <a:lnTo>
                    <a:pt x="954" y="935"/>
                  </a:lnTo>
                  <a:lnTo>
                    <a:pt x="948" y="921"/>
                  </a:lnTo>
                  <a:lnTo>
                    <a:pt x="941" y="910"/>
                  </a:lnTo>
                  <a:lnTo>
                    <a:pt x="932" y="898"/>
                  </a:lnTo>
                  <a:lnTo>
                    <a:pt x="923" y="888"/>
                  </a:lnTo>
                  <a:lnTo>
                    <a:pt x="913" y="879"/>
                  </a:lnTo>
                  <a:lnTo>
                    <a:pt x="901" y="870"/>
                  </a:lnTo>
                  <a:lnTo>
                    <a:pt x="888" y="864"/>
                  </a:lnTo>
                  <a:lnTo>
                    <a:pt x="874" y="857"/>
                  </a:lnTo>
                  <a:lnTo>
                    <a:pt x="859" y="852"/>
                  </a:lnTo>
                  <a:lnTo>
                    <a:pt x="843" y="849"/>
                  </a:lnTo>
                  <a:lnTo>
                    <a:pt x="826" y="846"/>
                  </a:lnTo>
                  <a:lnTo>
                    <a:pt x="797" y="844"/>
                  </a:lnTo>
                  <a:lnTo>
                    <a:pt x="762" y="845"/>
                  </a:lnTo>
                  <a:lnTo>
                    <a:pt x="720" y="847"/>
                  </a:lnTo>
                  <a:lnTo>
                    <a:pt x="674" y="852"/>
                  </a:lnTo>
                  <a:lnTo>
                    <a:pt x="561" y="869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57560" y="3424320"/>
              <a:ext cx="591840" cy="664920"/>
            </a:xfrm>
            <a:custGeom>
              <a:avLst/>
              <a:gdLst/>
              <a:ahLst/>
              <a:rect l="l" t="t" r="r" b="b"/>
              <a:pathLst>
                <a:path w="1646" h="1847">
                  <a:moveTo>
                    <a:pt x="1366" y="21"/>
                  </a:moveTo>
                  <a:lnTo>
                    <a:pt x="1557" y="0"/>
                  </a:lnTo>
                  <a:lnTo>
                    <a:pt x="1412" y="558"/>
                  </a:lnTo>
                  <a:lnTo>
                    <a:pt x="1369" y="714"/>
                  </a:lnTo>
                  <a:lnTo>
                    <a:pt x="1328" y="881"/>
                  </a:lnTo>
                  <a:lnTo>
                    <a:pt x="1288" y="1057"/>
                  </a:lnTo>
                  <a:lnTo>
                    <a:pt x="1250" y="1244"/>
                  </a:lnTo>
                  <a:lnTo>
                    <a:pt x="1232" y="1337"/>
                  </a:lnTo>
                  <a:lnTo>
                    <a:pt x="1219" y="1413"/>
                  </a:lnTo>
                  <a:lnTo>
                    <a:pt x="1212" y="1470"/>
                  </a:lnTo>
                  <a:lnTo>
                    <a:pt x="1210" y="1492"/>
                  </a:lnTo>
                  <a:lnTo>
                    <a:pt x="1209" y="1510"/>
                  </a:lnTo>
                  <a:lnTo>
                    <a:pt x="1209" y="1515"/>
                  </a:lnTo>
                  <a:lnTo>
                    <a:pt x="1209" y="1519"/>
                  </a:lnTo>
                  <a:lnTo>
                    <a:pt x="1210" y="1523"/>
                  </a:lnTo>
                  <a:lnTo>
                    <a:pt x="1210" y="1525"/>
                  </a:lnTo>
                  <a:lnTo>
                    <a:pt x="1211" y="1526"/>
                  </a:lnTo>
                  <a:lnTo>
                    <a:pt x="1211" y="1527"/>
                  </a:lnTo>
                  <a:lnTo>
                    <a:pt x="1212" y="1528"/>
                  </a:lnTo>
                  <a:lnTo>
                    <a:pt x="1212" y="1529"/>
                  </a:lnTo>
                  <a:lnTo>
                    <a:pt x="1213" y="1530"/>
                  </a:lnTo>
                  <a:lnTo>
                    <a:pt x="1213" y="1530"/>
                  </a:lnTo>
                  <a:lnTo>
                    <a:pt x="1213" y="1530"/>
                  </a:lnTo>
                  <a:lnTo>
                    <a:pt x="1214" y="1530"/>
                  </a:lnTo>
                  <a:lnTo>
                    <a:pt x="1214" y="1531"/>
                  </a:lnTo>
                  <a:lnTo>
                    <a:pt x="1215" y="1532"/>
                  </a:lnTo>
                  <a:lnTo>
                    <a:pt x="1215" y="1532"/>
                  </a:lnTo>
                  <a:lnTo>
                    <a:pt x="1216" y="1532"/>
                  </a:lnTo>
                  <a:lnTo>
                    <a:pt x="1216" y="1532"/>
                  </a:lnTo>
                  <a:lnTo>
                    <a:pt x="1219" y="1532"/>
                  </a:lnTo>
                  <a:lnTo>
                    <a:pt x="1222" y="1531"/>
                  </a:lnTo>
                  <a:lnTo>
                    <a:pt x="1225" y="1532"/>
                  </a:lnTo>
                  <a:lnTo>
                    <a:pt x="1229" y="1531"/>
                  </a:lnTo>
                  <a:lnTo>
                    <a:pt x="1237" y="1529"/>
                  </a:lnTo>
                  <a:lnTo>
                    <a:pt x="1246" y="1527"/>
                  </a:lnTo>
                  <a:lnTo>
                    <a:pt x="1256" y="1523"/>
                  </a:lnTo>
                  <a:lnTo>
                    <a:pt x="1268" y="1518"/>
                  </a:lnTo>
                  <a:lnTo>
                    <a:pt x="1294" y="1505"/>
                  </a:lnTo>
                  <a:lnTo>
                    <a:pt x="1352" y="1473"/>
                  </a:lnTo>
                  <a:lnTo>
                    <a:pt x="1414" y="1435"/>
                  </a:lnTo>
                  <a:lnTo>
                    <a:pt x="1478" y="1390"/>
                  </a:lnTo>
                  <a:lnTo>
                    <a:pt x="1546" y="1340"/>
                  </a:lnTo>
                  <a:lnTo>
                    <a:pt x="1645" y="1476"/>
                  </a:lnTo>
                  <a:lnTo>
                    <a:pt x="1454" y="1646"/>
                  </a:lnTo>
                  <a:lnTo>
                    <a:pt x="1390" y="1697"/>
                  </a:lnTo>
                  <a:lnTo>
                    <a:pt x="1366" y="1715"/>
                  </a:lnTo>
                  <a:lnTo>
                    <a:pt x="1347" y="1727"/>
                  </a:lnTo>
                  <a:lnTo>
                    <a:pt x="1284" y="1762"/>
                  </a:lnTo>
                  <a:lnTo>
                    <a:pt x="1222" y="1792"/>
                  </a:lnTo>
                  <a:lnTo>
                    <a:pt x="1192" y="1804"/>
                  </a:lnTo>
                  <a:lnTo>
                    <a:pt x="1162" y="1815"/>
                  </a:lnTo>
                  <a:lnTo>
                    <a:pt x="1132" y="1825"/>
                  </a:lnTo>
                  <a:lnTo>
                    <a:pt x="1104" y="1832"/>
                  </a:lnTo>
                  <a:lnTo>
                    <a:pt x="1085" y="1837"/>
                  </a:lnTo>
                  <a:lnTo>
                    <a:pt x="1065" y="1841"/>
                  </a:lnTo>
                  <a:lnTo>
                    <a:pt x="1046" y="1844"/>
                  </a:lnTo>
                  <a:lnTo>
                    <a:pt x="1026" y="1845"/>
                  </a:lnTo>
                  <a:lnTo>
                    <a:pt x="1007" y="1846"/>
                  </a:lnTo>
                  <a:lnTo>
                    <a:pt x="987" y="1845"/>
                  </a:lnTo>
                  <a:lnTo>
                    <a:pt x="968" y="1845"/>
                  </a:lnTo>
                  <a:lnTo>
                    <a:pt x="948" y="1842"/>
                  </a:lnTo>
                  <a:lnTo>
                    <a:pt x="932" y="1839"/>
                  </a:lnTo>
                  <a:lnTo>
                    <a:pt x="916" y="1836"/>
                  </a:lnTo>
                  <a:lnTo>
                    <a:pt x="902" y="1831"/>
                  </a:lnTo>
                  <a:lnTo>
                    <a:pt x="889" y="1826"/>
                  </a:lnTo>
                  <a:lnTo>
                    <a:pt x="882" y="1822"/>
                  </a:lnTo>
                  <a:lnTo>
                    <a:pt x="876" y="1819"/>
                  </a:lnTo>
                  <a:lnTo>
                    <a:pt x="870" y="1815"/>
                  </a:lnTo>
                  <a:lnTo>
                    <a:pt x="865" y="1812"/>
                  </a:lnTo>
                  <a:lnTo>
                    <a:pt x="860" y="1808"/>
                  </a:lnTo>
                  <a:lnTo>
                    <a:pt x="854" y="1803"/>
                  </a:lnTo>
                  <a:lnTo>
                    <a:pt x="850" y="1798"/>
                  </a:lnTo>
                  <a:lnTo>
                    <a:pt x="845" y="1794"/>
                  </a:lnTo>
                  <a:lnTo>
                    <a:pt x="840" y="1789"/>
                  </a:lnTo>
                  <a:lnTo>
                    <a:pt x="836" y="1783"/>
                  </a:lnTo>
                  <a:lnTo>
                    <a:pt x="832" y="1778"/>
                  </a:lnTo>
                  <a:lnTo>
                    <a:pt x="829" y="1773"/>
                  </a:lnTo>
                  <a:lnTo>
                    <a:pt x="825" y="1766"/>
                  </a:lnTo>
                  <a:lnTo>
                    <a:pt x="822" y="1761"/>
                  </a:lnTo>
                  <a:lnTo>
                    <a:pt x="820" y="1754"/>
                  </a:lnTo>
                  <a:lnTo>
                    <a:pt x="817" y="1749"/>
                  </a:lnTo>
                  <a:lnTo>
                    <a:pt x="815" y="1742"/>
                  </a:lnTo>
                  <a:lnTo>
                    <a:pt x="813" y="1735"/>
                  </a:lnTo>
                  <a:lnTo>
                    <a:pt x="810" y="1721"/>
                  </a:lnTo>
                  <a:lnTo>
                    <a:pt x="809" y="1706"/>
                  </a:lnTo>
                  <a:lnTo>
                    <a:pt x="808" y="1691"/>
                  </a:lnTo>
                  <a:lnTo>
                    <a:pt x="808" y="1681"/>
                  </a:lnTo>
                  <a:lnTo>
                    <a:pt x="809" y="1671"/>
                  </a:lnTo>
                  <a:lnTo>
                    <a:pt x="810" y="1660"/>
                  </a:lnTo>
                  <a:lnTo>
                    <a:pt x="812" y="1650"/>
                  </a:lnTo>
                  <a:lnTo>
                    <a:pt x="818" y="1626"/>
                  </a:lnTo>
                  <a:lnTo>
                    <a:pt x="825" y="1600"/>
                  </a:lnTo>
                  <a:lnTo>
                    <a:pt x="901" y="1391"/>
                  </a:lnTo>
                  <a:lnTo>
                    <a:pt x="875" y="1435"/>
                  </a:lnTo>
                  <a:lnTo>
                    <a:pt x="845" y="1476"/>
                  </a:lnTo>
                  <a:lnTo>
                    <a:pt x="811" y="1516"/>
                  </a:lnTo>
                  <a:lnTo>
                    <a:pt x="775" y="1551"/>
                  </a:lnTo>
                  <a:lnTo>
                    <a:pt x="733" y="1583"/>
                  </a:lnTo>
                  <a:lnTo>
                    <a:pt x="689" y="1614"/>
                  </a:lnTo>
                  <a:lnTo>
                    <a:pt x="640" y="1642"/>
                  </a:lnTo>
                  <a:lnTo>
                    <a:pt x="588" y="1666"/>
                  </a:lnTo>
                  <a:lnTo>
                    <a:pt x="546" y="1690"/>
                  </a:lnTo>
                  <a:lnTo>
                    <a:pt x="506" y="1711"/>
                  </a:lnTo>
                  <a:lnTo>
                    <a:pt x="468" y="1728"/>
                  </a:lnTo>
                  <a:lnTo>
                    <a:pt x="430" y="1740"/>
                  </a:lnTo>
                  <a:lnTo>
                    <a:pt x="393" y="1750"/>
                  </a:lnTo>
                  <a:lnTo>
                    <a:pt x="358" y="1754"/>
                  </a:lnTo>
                  <a:lnTo>
                    <a:pt x="340" y="1756"/>
                  </a:lnTo>
                  <a:lnTo>
                    <a:pt x="323" y="1756"/>
                  </a:lnTo>
                  <a:lnTo>
                    <a:pt x="306" y="1756"/>
                  </a:lnTo>
                  <a:lnTo>
                    <a:pt x="290" y="1754"/>
                  </a:lnTo>
                  <a:lnTo>
                    <a:pt x="274" y="1751"/>
                  </a:lnTo>
                  <a:lnTo>
                    <a:pt x="258" y="1747"/>
                  </a:lnTo>
                  <a:lnTo>
                    <a:pt x="242" y="1742"/>
                  </a:lnTo>
                  <a:lnTo>
                    <a:pt x="227" y="1735"/>
                  </a:lnTo>
                  <a:lnTo>
                    <a:pt x="213" y="1728"/>
                  </a:lnTo>
                  <a:lnTo>
                    <a:pt x="199" y="1720"/>
                  </a:lnTo>
                  <a:lnTo>
                    <a:pt x="196" y="1717"/>
                  </a:lnTo>
                  <a:lnTo>
                    <a:pt x="196" y="1717"/>
                  </a:lnTo>
                  <a:lnTo>
                    <a:pt x="186" y="1709"/>
                  </a:lnTo>
                  <a:lnTo>
                    <a:pt x="172" y="1698"/>
                  </a:lnTo>
                  <a:lnTo>
                    <a:pt x="159" y="1685"/>
                  </a:lnTo>
                  <a:lnTo>
                    <a:pt x="147" y="1672"/>
                  </a:lnTo>
                  <a:lnTo>
                    <a:pt x="135" y="1656"/>
                  </a:lnTo>
                  <a:lnTo>
                    <a:pt x="123" y="1640"/>
                  </a:lnTo>
                  <a:lnTo>
                    <a:pt x="112" y="1622"/>
                  </a:lnTo>
                  <a:lnTo>
                    <a:pt x="101" y="1605"/>
                  </a:lnTo>
                  <a:lnTo>
                    <a:pt x="80" y="1564"/>
                  </a:lnTo>
                  <a:lnTo>
                    <a:pt x="71" y="1555"/>
                  </a:lnTo>
                  <a:lnTo>
                    <a:pt x="62" y="1545"/>
                  </a:lnTo>
                  <a:lnTo>
                    <a:pt x="53" y="1535"/>
                  </a:lnTo>
                  <a:lnTo>
                    <a:pt x="46" y="1523"/>
                  </a:lnTo>
                  <a:lnTo>
                    <a:pt x="38" y="1511"/>
                  </a:lnTo>
                  <a:lnTo>
                    <a:pt x="32" y="1497"/>
                  </a:lnTo>
                  <a:lnTo>
                    <a:pt x="26" y="1483"/>
                  </a:lnTo>
                  <a:lnTo>
                    <a:pt x="20" y="1468"/>
                  </a:lnTo>
                  <a:lnTo>
                    <a:pt x="16" y="1452"/>
                  </a:lnTo>
                  <a:lnTo>
                    <a:pt x="11" y="1435"/>
                  </a:lnTo>
                  <a:lnTo>
                    <a:pt x="5" y="1398"/>
                  </a:lnTo>
                  <a:lnTo>
                    <a:pt x="1" y="1357"/>
                  </a:lnTo>
                  <a:lnTo>
                    <a:pt x="0" y="1313"/>
                  </a:lnTo>
                  <a:lnTo>
                    <a:pt x="2" y="1260"/>
                  </a:lnTo>
                  <a:lnTo>
                    <a:pt x="7" y="1205"/>
                  </a:lnTo>
                  <a:lnTo>
                    <a:pt x="16" y="1151"/>
                  </a:lnTo>
                  <a:lnTo>
                    <a:pt x="28" y="1094"/>
                  </a:lnTo>
                  <a:lnTo>
                    <a:pt x="44" y="1036"/>
                  </a:lnTo>
                  <a:lnTo>
                    <a:pt x="63" y="979"/>
                  </a:lnTo>
                  <a:lnTo>
                    <a:pt x="85" y="919"/>
                  </a:lnTo>
                  <a:lnTo>
                    <a:pt x="111" y="859"/>
                  </a:lnTo>
                  <a:lnTo>
                    <a:pt x="140" y="799"/>
                  </a:lnTo>
                  <a:lnTo>
                    <a:pt x="171" y="740"/>
                  </a:lnTo>
                  <a:lnTo>
                    <a:pt x="196" y="696"/>
                  </a:lnTo>
                  <a:lnTo>
                    <a:pt x="196" y="695"/>
                  </a:lnTo>
                  <a:lnTo>
                    <a:pt x="204" y="684"/>
                  </a:lnTo>
                  <a:lnTo>
                    <a:pt x="240" y="627"/>
                  </a:lnTo>
                  <a:lnTo>
                    <a:pt x="279" y="572"/>
                  </a:lnTo>
                  <a:lnTo>
                    <a:pt x="320" y="519"/>
                  </a:lnTo>
                  <a:lnTo>
                    <a:pt x="363" y="468"/>
                  </a:lnTo>
                  <a:lnTo>
                    <a:pt x="409" y="417"/>
                  </a:lnTo>
                  <a:lnTo>
                    <a:pt x="456" y="369"/>
                  </a:lnTo>
                  <a:lnTo>
                    <a:pt x="503" y="325"/>
                  </a:lnTo>
                  <a:lnTo>
                    <a:pt x="552" y="284"/>
                  </a:lnTo>
                  <a:lnTo>
                    <a:pt x="601" y="247"/>
                  </a:lnTo>
                  <a:lnTo>
                    <a:pt x="651" y="212"/>
                  </a:lnTo>
                  <a:lnTo>
                    <a:pt x="701" y="182"/>
                  </a:lnTo>
                  <a:lnTo>
                    <a:pt x="752" y="155"/>
                  </a:lnTo>
                  <a:lnTo>
                    <a:pt x="803" y="130"/>
                  </a:lnTo>
                  <a:lnTo>
                    <a:pt x="846" y="115"/>
                  </a:lnTo>
                  <a:lnTo>
                    <a:pt x="891" y="101"/>
                  </a:lnTo>
                  <a:lnTo>
                    <a:pt x="939" y="91"/>
                  </a:lnTo>
                  <a:lnTo>
                    <a:pt x="990" y="83"/>
                  </a:lnTo>
                  <a:lnTo>
                    <a:pt x="1044" y="78"/>
                  </a:lnTo>
                  <a:lnTo>
                    <a:pt x="1100" y="76"/>
                  </a:lnTo>
                  <a:lnTo>
                    <a:pt x="1158" y="75"/>
                  </a:lnTo>
                  <a:lnTo>
                    <a:pt x="1220" y="78"/>
                  </a:lnTo>
                  <a:lnTo>
                    <a:pt x="1249" y="80"/>
                  </a:lnTo>
                  <a:lnTo>
                    <a:pt x="1276" y="84"/>
                  </a:lnTo>
                  <a:lnTo>
                    <a:pt x="1301" y="88"/>
                  </a:lnTo>
                  <a:lnTo>
                    <a:pt x="1313" y="91"/>
                  </a:lnTo>
                  <a:lnTo>
                    <a:pt x="1324" y="93"/>
                  </a:lnTo>
                  <a:close/>
                  <a:moveTo>
                    <a:pt x="1113" y="381"/>
                  </a:moveTo>
                  <a:lnTo>
                    <a:pt x="1080" y="372"/>
                  </a:lnTo>
                  <a:lnTo>
                    <a:pt x="1046" y="366"/>
                  </a:lnTo>
                  <a:lnTo>
                    <a:pt x="1012" y="361"/>
                  </a:lnTo>
                  <a:lnTo>
                    <a:pt x="978" y="357"/>
                  </a:lnTo>
                  <a:lnTo>
                    <a:pt x="939" y="355"/>
                  </a:lnTo>
                  <a:lnTo>
                    <a:pt x="902" y="358"/>
                  </a:lnTo>
                  <a:lnTo>
                    <a:pt x="865" y="362"/>
                  </a:lnTo>
                  <a:lnTo>
                    <a:pt x="830" y="369"/>
                  </a:lnTo>
                  <a:lnTo>
                    <a:pt x="796" y="380"/>
                  </a:lnTo>
                  <a:lnTo>
                    <a:pt x="763" y="392"/>
                  </a:lnTo>
                  <a:lnTo>
                    <a:pt x="732" y="409"/>
                  </a:lnTo>
                  <a:lnTo>
                    <a:pt x="701" y="428"/>
                  </a:lnTo>
                  <a:lnTo>
                    <a:pt x="686" y="438"/>
                  </a:lnTo>
                  <a:lnTo>
                    <a:pt x="672" y="450"/>
                  </a:lnTo>
                  <a:lnTo>
                    <a:pt x="642" y="477"/>
                  </a:lnTo>
                  <a:lnTo>
                    <a:pt x="613" y="510"/>
                  </a:lnTo>
                  <a:lnTo>
                    <a:pt x="585" y="546"/>
                  </a:lnTo>
                  <a:lnTo>
                    <a:pt x="557" y="588"/>
                  </a:lnTo>
                  <a:lnTo>
                    <a:pt x="529" y="635"/>
                  </a:lnTo>
                  <a:lnTo>
                    <a:pt x="502" y="686"/>
                  </a:lnTo>
                  <a:lnTo>
                    <a:pt x="476" y="742"/>
                  </a:lnTo>
                  <a:lnTo>
                    <a:pt x="451" y="801"/>
                  </a:lnTo>
                  <a:lnTo>
                    <a:pt x="429" y="859"/>
                  </a:lnTo>
                  <a:lnTo>
                    <a:pt x="411" y="918"/>
                  </a:lnTo>
                  <a:lnTo>
                    <a:pt x="396" y="978"/>
                  </a:lnTo>
                  <a:lnTo>
                    <a:pt x="384" y="1036"/>
                  </a:lnTo>
                  <a:lnTo>
                    <a:pt x="376" y="1096"/>
                  </a:lnTo>
                  <a:lnTo>
                    <a:pt x="371" y="1156"/>
                  </a:lnTo>
                  <a:lnTo>
                    <a:pt x="369" y="1217"/>
                  </a:lnTo>
                  <a:lnTo>
                    <a:pt x="370" y="1246"/>
                  </a:lnTo>
                  <a:lnTo>
                    <a:pt x="371" y="1273"/>
                  </a:lnTo>
                  <a:lnTo>
                    <a:pt x="374" y="1297"/>
                  </a:lnTo>
                  <a:lnTo>
                    <a:pt x="378" y="1320"/>
                  </a:lnTo>
                  <a:lnTo>
                    <a:pt x="383" y="1340"/>
                  </a:lnTo>
                  <a:lnTo>
                    <a:pt x="388" y="1358"/>
                  </a:lnTo>
                  <a:lnTo>
                    <a:pt x="392" y="1366"/>
                  </a:lnTo>
                  <a:lnTo>
                    <a:pt x="395" y="1373"/>
                  </a:lnTo>
                  <a:lnTo>
                    <a:pt x="399" y="1380"/>
                  </a:lnTo>
                  <a:lnTo>
                    <a:pt x="403" y="1386"/>
                  </a:lnTo>
                  <a:lnTo>
                    <a:pt x="407" y="1392"/>
                  </a:lnTo>
                  <a:lnTo>
                    <a:pt x="412" y="1398"/>
                  </a:lnTo>
                  <a:lnTo>
                    <a:pt x="416" y="1403"/>
                  </a:lnTo>
                  <a:lnTo>
                    <a:pt x="421" y="1409"/>
                  </a:lnTo>
                  <a:lnTo>
                    <a:pt x="426" y="1412"/>
                  </a:lnTo>
                  <a:lnTo>
                    <a:pt x="431" y="1417"/>
                  </a:lnTo>
                  <a:lnTo>
                    <a:pt x="436" y="1421"/>
                  </a:lnTo>
                  <a:lnTo>
                    <a:pt x="441" y="1424"/>
                  </a:lnTo>
                  <a:lnTo>
                    <a:pt x="446" y="1428"/>
                  </a:lnTo>
                  <a:lnTo>
                    <a:pt x="452" y="1431"/>
                  </a:lnTo>
                  <a:lnTo>
                    <a:pt x="458" y="1433"/>
                  </a:lnTo>
                  <a:lnTo>
                    <a:pt x="463" y="1435"/>
                  </a:lnTo>
                  <a:lnTo>
                    <a:pt x="469" y="1438"/>
                  </a:lnTo>
                  <a:lnTo>
                    <a:pt x="475" y="1438"/>
                  </a:lnTo>
                  <a:lnTo>
                    <a:pt x="482" y="1440"/>
                  </a:lnTo>
                  <a:lnTo>
                    <a:pt x="488" y="1441"/>
                  </a:lnTo>
                  <a:lnTo>
                    <a:pt x="502" y="1442"/>
                  </a:lnTo>
                  <a:lnTo>
                    <a:pt x="517" y="1442"/>
                  </a:lnTo>
                  <a:lnTo>
                    <a:pt x="532" y="1441"/>
                  </a:lnTo>
                  <a:lnTo>
                    <a:pt x="547" y="1440"/>
                  </a:lnTo>
                  <a:lnTo>
                    <a:pt x="563" y="1437"/>
                  </a:lnTo>
                  <a:lnTo>
                    <a:pt x="578" y="1432"/>
                  </a:lnTo>
                  <a:lnTo>
                    <a:pt x="611" y="1422"/>
                  </a:lnTo>
                  <a:lnTo>
                    <a:pt x="643" y="1406"/>
                  </a:lnTo>
                  <a:lnTo>
                    <a:pt x="677" y="1386"/>
                  </a:lnTo>
                  <a:lnTo>
                    <a:pt x="711" y="1363"/>
                  </a:lnTo>
                  <a:lnTo>
                    <a:pt x="746" y="1334"/>
                  </a:lnTo>
                  <a:lnTo>
                    <a:pt x="780" y="1301"/>
                  </a:lnTo>
                  <a:lnTo>
                    <a:pt x="812" y="1264"/>
                  </a:lnTo>
                  <a:lnTo>
                    <a:pt x="841" y="1222"/>
                  </a:lnTo>
                  <a:lnTo>
                    <a:pt x="869" y="1177"/>
                  </a:lnTo>
                  <a:lnTo>
                    <a:pt x="894" y="1127"/>
                  </a:lnTo>
                  <a:lnTo>
                    <a:pt x="917" y="1072"/>
                  </a:lnTo>
                  <a:lnTo>
                    <a:pt x="938" y="1014"/>
                  </a:lnTo>
                  <a:lnTo>
                    <a:pt x="956" y="95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91040" y="3486240"/>
              <a:ext cx="475920" cy="696960"/>
            </a:xfrm>
            <a:custGeom>
              <a:avLst/>
              <a:gdLst/>
              <a:ahLst/>
              <a:rect l="l" t="t" r="r" b="b"/>
              <a:pathLst>
                <a:path w="1325" h="1934">
                  <a:moveTo>
                    <a:pt x="970" y="799"/>
                  </a:moveTo>
                  <a:lnTo>
                    <a:pt x="1054" y="801"/>
                  </a:lnTo>
                  <a:lnTo>
                    <a:pt x="1087" y="804"/>
                  </a:lnTo>
                  <a:lnTo>
                    <a:pt x="1117" y="811"/>
                  </a:lnTo>
                  <a:lnTo>
                    <a:pt x="1146" y="818"/>
                  </a:lnTo>
                  <a:lnTo>
                    <a:pt x="1172" y="829"/>
                  </a:lnTo>
                  <a:lnTo>
                    <a:pt x="1196" y="842"/>
                  </a:lnTo>
                  <a:lnTo>
                    <a:pt x="1219" y="857"/>
                  </a:lnTo>
                  <a:lnTo>
                    <a:pt x="1239" y="875"/>
                  </a:lnTo>
                  <a:lnTo>
                    <a:pt x="1257" y="896"/>
                  </a:lnTo>
                  <a:lnTo>
                    <a:pt x="1272" y="919"/>
                  </a:lnTo>
                  <a:lnTo>
                    <a:pt x="1286" y="945"/>
                  </a:lnTo>
                  <a:lnTo>
                    <a:pt x="1298" y="973"/>
                  </a:lnTo>
                  <a:lnTo>
                    <a:pt x="1307" y="1003"/>
                  </a:lnTo>
                  <a:lnTo>
                    <a:pt x="1315" y="1037"/>
                  </a:lnTo>
                  <a:lnTo>
                    <a:pt x="1320" y="1071"/>
                  </a:lnTo>
                  <a:lnTo>
                    <a:pt x="1323" y="1110"/>
                  </a:lnTo>
                  <a:lnTo>
                    <a:pt x="1324" y="1150"/>
                  </a:lnTo>
                  <a:lnTo>
                    <a:pt x="1323" y="1189"/>
                  </a:lnTo>
                  <a:lnTo>
                    <a:pt x="1319" y="1228"/>
                  </a:lnTo>
                  <a:lnTo>
                    <a:pt x="1313" y="1266"/>
                  </a:lnTo>
                  <a:lnTo>
                    <a:pt x="1304" y="1304"/>
                  </a:lnTo>
                  <a:lnTo>
                    <a:pt x="1293" y="1341"/>
                  </a:lnTo>
                  <a:lnTo>
                    <a:pt x="1280" y="1377"/>
                  </a:lnTo>
                  <a:lnTo>
                    <a:pt x="1264" y="1414"/>
                  </a:lnTo>
                  <a:lnTo>
                    <a:pt x="1245" y="1450"/>
                  </a:lnTo>
                  <a:lnTo>
                    <a:pt x="1225" y="1485"/>
                  </a:lnTo>
                  <a:lnTo>
                    <a:pt x="1201" y="1519"/>
                  </a:lnTo>
                  <a:lnTo>
                    <a:pt x="1147" y="1586"/>
                  </a:lnTo>
                  <a:lnTo>
                    <a:pt x="1083" y="1651"/>
                  </a:lnTo>
                  <a:lnTo>
                    <a:pt x="1009" y="1713"/>
                  </a:lnTo>
                  <a:lnTo>
                    <a:pt x="931" y="1770"/>
                  </a:lnTo>
                  <a:lnTo>
                    <a:pt x="853" y="1818"/>
                  </a:lnTo>
                  <a:lnTo>
                    <a:pt x="776" y="1858"/>
                  </a:lnTo>
                  <a:lnTo>
                    <a:pt x="699" y="1890"/>
                  </a:lnTo>
                  <a:lnTo>
                    <a:pt x="622" y="1913"/>
                  </a:lnTo>
                  <a:lnTo>
                    <a:pt x="546" y="1927"/>
                  </a:lnTo>
                  <a:lnTo>
                    <a:pt x="469" y="1933"/>
                  </a:lnTo>
                  <a:lnTo>
                    <a:pt x="394" y="1931"/>
                  </a:lnTo>
                  <a:lnTo>
                    <a:pt x="346" y="1925"/>
                  </a:lnTo>
                  <a:lnTo>
                    <a:pt x="302" y="1916"/>
                  </a:lnTo>
                  <a:lnTo>
                    <a:pt x="260" y="1904"/>
                  </a:lnTo>
                  <a:lnTo>
                    <a:pt x="253" y="1901"/>
                  </a:lnTo>
                  <a:lnTo>
                    <a:pt x="253" y="1901"/>
                  </a:lnTo>
                  <a:lnTo>
                    <a:pt x="221" y="1887"/>
                  </a:lnTo>
                  <a:lnTo>
                    <a:pt x="186" y="1866"/>
                  </a:lnTo>
                  <a:lnTo>
                    <a:pt x="153" y="1841"/>
                  </a:lnTo>
                  <a:lnTo>
                    <a:pt x="124" y="1814"/>
                  </a:lnTo>
                  <a:lnTo>
                    <a:pt x="98" y="1785"/>
                  </a:lnTo>
                  <a:lnTo>
                    <a:pt x="75" y="1751"/>
                  </a:lnTo>
                  <a:lnTo>
                    <a:pt x="56" y="1714"/>
                  </a:lnTo>
                  <a:lnTo>
                    <a:pt x="39" y="1674"/>
                  </a:lnTo>
                  <a:lnTo>
                    <a:pt x="25" y="1631"/>
                  </a:lnTo>
                  <a:lnTo>
                    <a:pt x="14" y="1584"/>
                  </a:lnTo>
                  <a:lnTo>
                    <a:pt x="6" y="1535"/>
                  </a:lnTo>
                  <a:lnTo>
                    <a:pt x="2" y="1483"/>
                  </a:lnTo>
                  <a:lnTo>
                    <a:pt x="0" y="1426"/>
                  </a:lnTo>
                  <a:lnTo>
                    <a:pt x="4" y="1300"/>
                  </a:lnTo>
                  <a:lnTo>
                    <a:pt x="18" y="1176"/>
                  </a:lnTo>
                  <a:lnTo>
                    <a:pt x="40" y="1053"/>
                  </a:lnTo>
                  <a:lnTo>
                    <a:pt x="71" y="931"/>
                  </a:lnTo>
                  <a:lnTo>
                    <a:pt x="110" y="811"/>
                  </a:lnTo>
                  <a:lnTo>
                    <a:pt x="159" y="693"/>
                  </a:lnTo>
                  <a:lnTo>
                    <a:pt x="217" y="576"/>
                  </a:lnTo>
                  <a:lnTo>
                    <a:pt x="253" y="513"/>
                  </a:lnTo>
                  <a:lnTo>
                    <a:pt x="253" y="512"/>
                  </a:lnTo>
                  <a:lnTo>
                    <a:pt x="284" y="459"/>
                  </a:lnTo>
                  <a:lnTo>
                    <a:pt x="357" y="348"/>
                  </a:lnTo>
                  <a:lnTo>
                    <a:pt x="433" y="253"/>
                  </a:lnTo>
                  <a:lnTo>
                    <a:pt x="472" y="210"/>
                  </a:lnTo>
                  <a:lnTo>
                    <a:pt x="513" y="172"/>
                  </a:lnTo>
                  <a:lnTo>
                    <a:pt x="554" y="138"/>
                  </a:lnTo>
                  <a:lnTo>
                    <a:pt x="596" y="107"/>
                  </a:lnTo>
                  <a:lnTo>
                    <a:pt x="639" y="80"/>
                  </a:lnTo>
                  <a:lnTo>
                    <a:pt x="682" y="57"/>
                  </a:lnTo>
                  <a:lnTo>
                    <a:pt x="727" y="39"/>
                  </a:lnTo>
                  <a:lnTo>
                    <a:pt x="772" y="23"/>
                  </a:lnTo>
                  <a:lnTo>
                    <a:pt x="817" y="11"/>
                  </a:lnTo>
                  <a:lnTo>
                    <a:pt x="864" y="4"/>
                  </a:lnTo>
                  <a:lnTo>
                    <a:pt x="912" y="0"/>
                  </a:lnTo>
                  <a:lnTo>
                    <a:pt x="960" y="0"/>
                  </a:lnTo>
                  <a:lnTo>
                    <a:pt x="999" y="3"/>
                  </a:lnTo>
                  <a:lnTo>
                    <a:pt x="1036" y="9"/>
                  </a:lnTo>
                  <a:lnTo>
                    <a:pt x="1070" y="16"/>
                  </a:lnTo>
                  <a:lnTo>
                    <a:pt x="1101" y="26"/>
                  </a:lnTo>
                  <a:lnTo>
                    <a:pt x="1130" y="40"/>
                  </a:lnTo>
                  <a:lnTo>
                    <a:pt x="1157" y="54"/>
                  </a:lnTo>
                  <a:lnTo>
                    <a:pt x="1180" y="72"/>
                  </a:lnTo>
                  <a:lnTo>
                    <a:pt x="1202" y="94"/>
                  </a:lnTo>
                  <a:lnTo>
                    <a:pt x="1221" y="116"/>
                  </a:lnTo>
                  <a:lnTo>
                    <a:pt x="1237" y="142"/>
                  </a:lnTo>
                  <a:lnTo>
                    <a:pt x="1251" y="169"/>
                  </a:lnTo>
                  <a:lnTo>
                    <a:pt x="1262" y="201"/>
                  </a:lnTo>
                  <a:lnTo>
                    <a:pt x="1271" y="234"/>
                  </a:lnTo>
                  <a:lnTo>
                    <a:pt x="1277" y="269"/>
                  </a:lnTo>
                  <a:lnTo>
                    <a:pt x="1281" y="307"/>
                  </a:lnTo>
                  <a:lnTo>
                    <a:pt x="1282" y="348"/>
                  </a:lnTo>
                  <a:lnTo>
                    <a:pt x="1281" y="385"/>
                  </a:lnTo>
                  <a:lnTo>
                    <a:pt x="1277" y="423"/>
                  </a:lnTo>
                  <a:lnTo>
                    <a:pt x="1271" y="457"/>
                  </a:lnTo>
                  <a:lnTo>
                    <a:pt x="1263" y="491"/>
                  </a:lnTo>
                  <a:lnTo>
                    <a:pt x="1252" y="523"/>
                  </a:lnTo>
                  <a:lnTo>
                    <a:pt x="1238" y="556"/>
                  </a:lnTo>
                  <a:lnTo>
                    <a:pt x="1222" y="585"/>
                  </a:lnTo>
                  <a:lnTo>
                    <a:pt x="1204" y="614"/>
                  </a:lnTo>
                  <a:lnTo>
                    <a:pt x="1183" y="642"/>
                  </a:lnTo>
                  <a:lnTo>
                    <a:pt x="1160" y="668"/>
                  </a:lnTo>
                  <a:lnTo>
                    <a:pt x="1135" y="693"/>
                  </a:lnTo>
                  <a:lnTo>
                    <a:pt x="1107" y="717"/>
                  </a:lnTo>
                  <a:lnTo>
                    <a:pt x="1077" y="739"/>
                  </a:lnTo>
                  <a:lnTo>
                    <a:pt x="1044" y="760"/>
                  </a:lnTo>
                  <a:close/>
                  <a:moveTo>
                    <a:pt x="434" y="938"/>
                  </a:moveTo>
                  <a:lnTo>
                    <a:pt x="550" y="879"/>
                  </a:lnTo>
                  <a:lnTo>
                    <a:pt x="649" y="819"/>
                  </a:lnTo>
                  <a:lnTo>
                    <a:pt x="733" y="755"/>
                  </a:lnTo>
                  <a:lnTo>
                    <a:pt x="769" y="723"/>
                  </a:lnTo>
                  <a:lnTo>
                    <a:pt x="802" y="690"/>
                  </a:lnTo>
                  <a:lnTo>
                    <a:pt x="830" y="657"/>
                  </a:lnTo>
                  <a:lnTo>
                    <a:pt x="855" y="623"/>
                  </a:lnTo>
                  <a:lnTo>
                    <a:pt x="876" y="588"/>
                  </a:lnTo>
                  <a:lnTo>
                    <a:pt x="893" y="554"/>
                  </a:lnTo>
                  <a:lnTo>
                    <a:pt x="907" y="517"/>
                  </a:lnTo>
                  <a:lnTo>
                    <a:pt x="916" y="482"/>
                  </a:lnTo>
                  <a:lnTo>
                    <a:pt x="922" y="445"/>
                  </a:lnTo>
                  <a:lnTo>
                    <a:pt x="924" y="408"/>
                  </a:lnTo>
                  <a:lnTo>
                    <a:pt x="924" y="388"/>
                  </a:lnTo>
                  <a:lnTo>
                    <a:pt x="922" y="369"/>
                  </a:lnTo>
                  <a:lnTo>
                    <a:pt x="920" y="352"/>
                  </a:lnTo>
                  <a:lnTo>
                    <a:pt x="917" y="336"/>
                  </a:lnTo>
                  <a:lnTo>
                    <a:pt x="913" y="322"/>
                  </a:lnTo>
                  <a:lnTo>
                    <a:pt x="908" y="308"/>
                  </a:lnTo>
                  <a:lnTo>
                    <a:pt x="903" y="296"/>
                  </a:lnTo>
                  <a:lnTo>
                    <a:pt x="896" y="285"/>
                  </a:lnTo>
                  <a:lnTo>
                    <a:pt x="889" y="275"/>
                  </a:lnTo>
                  <a:lnTo>
                    <a:pt x="880" y="266"/>
                  </a:lnTo>
                  <a:lnTo>
                    <a:pt x="871" y="259"/>
                  </a:lnTo>
                  <a:lnTo>
                    <a:pt x="861" y="253"/>
                  </a:lnTo>
                  <a:lnTo>
                    <a:pt x="850" y="248"/>
                  </a:lnTo>
                  <a:lnTo>
                    <a:pt x="838" y="244"/>
                  </a:lnTo>
                  <a:lnTo>
                    <a:pt x="826" y="242"/>
                  </a:lnTo>
                  <a:lnTo>
                    <a:pt x="812" y="240"/>
                  </a:lnTo>
                  <a:lnTo>
                    <a:pt x="780" y="242"/>
                  </a:lnTo>
                  <a:lnTo>
                    <a:pt x="764" y="245"/>
                  </a:lnTo>
                  <a:lnTo>
                    <a:pt x="749" y="249"/>
                  </a:lnTo>
                  <a:lnTo>
                    <a:pt x="719" y="262"/>
                  </a:lnTo>
                  <a:lnTo>
                    <a:pt x="691" y="280"/>
                  </a:lnTo>
                  <a:lnTo>
                    <a:pt x="663" y="304"/>
                  </a:lnTo>
                  <a:lnTo>
                    <a:pt x="637" y="333"/>
                  </a:lnTo>
                  <a:lnTo>
                    <a:pt x="611" y="369"/>
                  </a:lnTo>
                  <a:lnTo>
                    <a:pt x="587" y="409"/>
                  </a:lnTo>
                  <a:lnTo>
                    <a:pt x="564" y="456"/>
                  </a:lnTo>
                  <a:lnTo>
                    <a:pt x="542" y="509"/>
                  </a:lnTo>
                  <a:lnTo>
                    <a:pt x="501" y="629"/>
                  </a:lnTo>
                  <a:lnTo>
                    <a:pt x="465" y="772"/>
                  </a:lnTo>
                  <a:close/>
                  <a:moveTo>
                    <a:pt x="415" y="1163"/>
                  </a:moveTo>
                  <a:lnTo>
                    <a:pt x="409" y="1212"/>
                  </a:lnTo>
                  <a:lnTo>
                    <a:pt x="405" y="1262"/>
                  </a:lnTo>
                  <a:lnTo>
                    <a:pt x="402" y="1315"/>
                  </a:lnTo>
                  <a:lnTo>
                    <a:pt x="401" y="1370"/>
                  </a:lnTo>
                  <a:lnTo>
                    <a:pt x="403" y="1454"/>
                  </a:lnTo>
                  <a:lnTo>
                    <a:pt x="405" y="1491"/>
                  </a:lnTo>
                  <a:lnTo>
                    <a:pt x="409" y="1524"/>
                  </a:lnTo>
                  <a:lnTo>
                    <a:pt x="413" y="1552"/>
                  </a:lnTo>
                  <a:lnTo>
                    <a:pt x="418" y="1577"/>
                  </a:lnTo>
                  <a:lnTo>
                    <a:pt x="421" y="1588"/>
                  </a:lnTo>
                  <a:lnTo>
                    <a:pt x="425" y="1598"/>
                  </a:lnTo>
                  <a:lnTo>
                    <a:pt x="428" y="1608"/>
                  </a:lnTo>
                  <a:lnTo>
                    <a:pt x="432" y="1616"/>
                  </a:lnTo>
                  <a:lnTo>
                    <a:pt x="436" y="1624"/>
                  </a:lnTo>
                  <a:lnTo>
                    <a:pt x="440" y="1631"/>
                  </a:lnTo>
                  <a:lnTo>
                    <a:pt x="445" y="1637"/>
                  </a:lnTo>
                  <a:lnTo>
                    <a:pt x="450" y="1644"/>
                  </a:lnTo>
                  <a:lnTo>
                    <a:pt x="455" y="1649"/>
                  </a:lnTo>
                  <a:lnTo>
                    <a:pt x="460" y="1655"/>
                  </a:lnTo>
                  <a:lnTo>
                    <a:pt x="466" y="1659"/>
                  </a:lnTo>
                  <a:lnTo>
                    <a:pt x="473" y="1664"/>
                  </a:lnTo>
                  <a:lnTo>
                    <a:pt x="479" y="1668"/>
                  </a:lnTo>
                  <a:lnTo>
                    <a:pt x="486" y="1671"/>
                  </a:lnTo>
                  <a:lnTo>
                    <a:pt x="493" y="1675"/>
                  </a:lnTo>
                  <a:lnTo>
                    <a:pt x="501" y="1678"/>
                  </a:lnTo>
                  <a:lnTo>
                    <a:pt x="508" y="1679"/>
                  </a:lnTo>
                  <a:lnTo>
                    <a:pt x="517" y="1681"/>
                  </a:lnTo>
                  <a:lnTo>
                    <a:pt x="525" y="1683"/>
                  </a:lnTo>
                  <a:lnTo>
                    <a:pt x="535" y="1684"/>
                  </a:lnTo>
                  <a:lnTo>
                    <a:pt x="550" y="1684"/>
                  </a:lnTo>
                  <a:lnTo>
                    <a:pt x="566" y="1684"/>
                  </a:lnTo>
                  <a:lnTo>
                    <a:pt x="581" y="1682"/>
                  </a:lnTo>
                  <a:lnTo>
                    <a:pt x="597" y="1679"/>
                  </a:lnTo>
                  <a:lnTo>
                    <a:pt x="612" y="1675"/>
                  </a:lnTo>
                  <a:lnTo>
                    <a:pt x="628" y="1669"/>
                  </a:lnTo>
                  <a:lnTo>
                    <a:pt x="644" y="1663"/>
                  </a:lnTo>
                  <a:lnTo>
                    <a:pt x="660" y="1655"/>
                  </a:lnTo>
                  <a:lnTo>
                    <a:pt x="692" y="1636"/>
                  </a:lnTo>
                  <a:lnTo>
                    <a:pt x="724" y="1612"/>
                  </a:lnTo>
                  <a:lnTo>
                    <a:pt x="757" y="1583"/>
                  </a:lnTo>
                  <a:lnTo>
                    <a:pt x="790" y="1549"/>
                  </a:lnTo>
                  <a:lnTo>
                    <a:pt x="822" y="1512"/>
                  </a:lnTo>
                  <a:lnTo>
                    <a:pt x="849" y="1474"/>
                  </a:lnTo>
                  <a:lnTo>
                    <a:pt x="872" y="1433"/>
                  </a:lnTo>
                  <a:lnTo>
                    <a:pt x="882" y="1412"/>
                  </a:lnTo>
                  <a:lnTo>
                    <a:pt x="891" y="1390"/>
                  </a:lnTo>
                  <a:lnTo>
                    <a:pt x="899" y="1368"/>
                  </a:lnTo>
                  <a:lnTo>
                    <a:pt x="905" y="1346"/>
                  </a:lnTo>
                  <a:lnTo>
                    <a:pt x="911" y="1323"/>
                  </a:lnTo>
                  <a:lnTo>
                    <a:pt x="916" y="1299"/>
                  </a:lnTo>
                  <a:lnTo>
                    <a:pt x="922" y="1251"/>
                  </a:lnTo>
                  <a:lnTo>
                    <a:pt x="924" y="1201"/>
                  </a:lnTo>
                  <a:lnTo>
                    <a:pt x="922" y="1158"/>
                  </a:lnTo>
                  <a:lnTo>
                    <a:pt x="920" y="1139"/>
                  </a:lnTo>
                  <a:lnTo>
                    <a:pt x="917" y="1120"/>
                  </a:lnTo>
                  <a:lnTo>
                    <a:pt x="913" y="1103"/>
                  </a:lnTo>
                  <a:lnTo>
                    <a:pt x="908" y="1088"/>
                  </a:lnTo>
                  <a:lnTo>
                    <a:pt x="902" y="1074"/>
                  </a:lnTo>
                  <a:lnTo>
                    <a:pt x="896" y="1062"/>
                  </a:lnTo>
                  <a:lnTo>
                    <a:pt x="888" y="1050"/>
                  </a:lnTo>
                  <a:lnTo>
                    <a:pt x="879" y="1040"/>
                  </a:lnTo>
                  <a:lnTo>
                    <a:pt x="870" y="1032"/>
                  </a:lnTo>
                  <a:lnTo>
                    <a:pt x="860" y="1024"/>
                  </a:lnTo>
                  <a:lnTo>
                    <a:pt x="849" y="1019"/>
                  </a:lnTo>
                  <a:lnTo>
                    <a:pt x="837" y="1015"/>
                  </a:lnTo>
                  <a:lnTo>
                    <a:pt x="824" y="1012"/>
                  </a:lnTo>
                  <a:lnTo>
                    <a:pt x="810" y="1010"/>
                  </a:lnTo>
                  <a:lnTo>
                    <a:pt x="795" y="1010"/>
                  </a:lnTo>
                  <a:lnTo>
                    <a:pt x="780" y="1011"/>
                  </a:lnTo>
                  <a:lnTo>
                    <a:pt x="762" y="1014"/>
                  </a:lnTo>
                  <a:lnTo>
                    <a:pt x="744" y="1017"/>
                  </a:lnTo>
                  <a:lnTo>
                    <a:pt x="703" y="1028"/>
                  </a:lnTo>
                  <a:lnTo>
                    <a:pt x="656" y="1045"/>
                  </a:lnTo>
                  <a:lnTo>
                    <a:pt x="604" y="1067"/>
                  </a:lnTo>
                  <a:lnTo>
                    <a:pt x="547" y="10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24200" y="3505320"/>
              <a:ext cx="636840" cy="747720"/>
            </a:xfrm>
            <a:custGeom>
              <a:avLst/>
              <a:gdLst/>
              <a:ahLst/>
              <a:rect l="l" t="t" r="r" b="b"/>
              <a:pathLst>
                <a:path w="1768" h="2079">
                  <a:moveTo>
                    <a:pt x="1767" y="1586"/>
                  </a:moveTo>
                  <a:lnTo>
                    <a:pt x="1668" y="1704"/>
                  </a:lnTo>
                  <a:lnTo>
                    <a:pt x="1574" y="1807"/>
                  </a:lnTo>
                  <a:lnTo>
                    <a:pt x="1488" y="1894"/>
                  </a:lnTo>
                  <a:lnTo>
                    <a:pt x="1408" y="1965"/>
                  </a:lnTo>
                  <a:lnTo>
                    <a:pt x="1334" y="2019"/>
                  </a:lnTo>
                  <a:lnTo>
                    <a:pt x="1313" y="2030"/>
                  </a:lnTo>
                  <a:lnTo>
                    <a:pt x="1313" y="2032"/>
                  </a:lnTo>
                  <a:lnTo>
                    <a:pt x="1299" y="2040"/>
                  </a:lnTo>
                  <a:lnTo>
                    <a:pt x="1267" y="2055"/>
                  </a:lnTo>
                  <a:lnTo>
                    <a:pt x="1236" y="2066"/>
                  </a:lnTo>
                  <a:lnTo>
                    <a:pt x="1206" y="2074"/>
                  </a:lnTo>
                  <a:lnTo>
                    <a:pt x="1178" y="2078"/>
                  </a:lnTo>
                  <a:lnTo>
                    <a:pt x="1152" y="2078"/>
                  </a:lnTo>
                  <a:lnTo>
                    <a:pt x="1143" y="2077"/>
                  </a:lnTo>
                  <a:lnTo>
                    <a:pt x="1135" y="2075"/>
                  </a:lnTo>
                  <a:lnTo>
                    <a:pt x="1126" y="2074"/>
                  </a:lnTo>
                  <a:lnTo>
                    <a:pt x="1118" y="2071"/>
                  </a:lnTo>
                  <a:lnTo>
                    <a:pt x="1109" y="2067"/>
                  </a:lnTo>
                  <a:lnTo>
                    <a:pt x="1101" y="2064"/>
                  </a:lnTo>
                  <a:lnTo>
                    <a:pt x="1093" y="2060"/>
                  </a:lnTo>
                  <a:lnTo>
                    <a:pt x="1085" y="2055"/>
                  </a:lnTo>
                  <a:lnTo>
                    <a:pt x="1076" y="2050"/>
                  </a:lnTo>
                  <a:lnTo>
                    <a:pt x="1069" y="2044"/>
                  </a:lnTo>
                  <a:lnTo>
                    <a:pt x="1053" y="2030"/>
                  </a:lnTo>
                  <a:lnTo>
                    <a:pt x="1038" y="2015"/>
                  </a:lnTo>
                  <a:lnTo>
                    <a:pt x="1023" y="1998"/>
                  </a:lnTo>
                  <a:lnTo>
                    <a:pt x="1016" y="1989"/>
                  </a:lnTo>
                  <a:lnTo>
                    <a:pt x="1009" y="1979"/>
                  </a:lnTo>
                  <a:lnTo>
                    <a:pt x="1003" y="1968"/>
                  </a:lnTo>
                  <a:lnTo>
                    <a:pt x="997" y="1958"/>
                  </a:lnTo>
                  <a:lnTo>
                    <a:pt x="991" y="1947"/>
                  </a:lnTo>
                  <a:lnTo>
                    <a:pt x="986" y="1936"/>
                  </a:lnTo>
                  <a:lnTo>
                    <a:pt x="982" y="1924"/>
                  </a:lnTo>
                  <a:lnTo>
                    <a:pt x="978" y="1914"/>
                  </a:lnTo>
                  <a:lnTo>
                    <a:pt x="971" y="1889"/>
                  </a:lnTo>
                  <a:lnTo>
                    <a:pt x="967" y="1863"/>
                  </a:lnTo>
                  <a:lnTo>
                    <a:pt x="964" y="1836"/>
                  </a:lnTo>
                  <a:lnTo>
                    <a:pt x="963" y="1807"/>
                  </a:lnTo>
                  <a:lnTo>
                    <a:pt x="964" y="1775"/>
                  </a:lnTo>
                  <a:lnTo>
                    <a:pt x="965" y="1742"/>
                  </a:lnTo>
                  <a:lnTo>
                    <a:pt x="969" y="1707"/>
                  </a:lnTo>
                  <a:lnTo>
                    <a:pt x="973" y="1670"/>
                  </a:lnTo>
                  <a:lnTo>
                    <a:pt x="985" y="1591"/>
                  </a:lnTo>
                  <a:lnTo>
                    <a:pt x="1004" y="1504"/>
                  </a:lnTo>
                  <a:lnTo>
                    <a:pt x="1095" y="1123"/>
                  </a:lnTo>
                  <a:lnTo>
                    <a:pt x="635" y="1094"/>
                  </a:lnTo>
                  <a:lnTo>
                    <a:pt x="454" y="1944"/>
                  </a:lnTo>
                  <a:lnTo>
                    <a:pt x="95" y="1915"/>
                  </a:lnTo>
                  <a:lnTo>
                    <a:pt x="97" y="1894"/>
                  </a:lnTo>
                  <a:lnTo>
                    <a:pt x="99" y="1871"/>
                  </a:lnTo>
                  <a:lnTo>
                    <a:pt x="107" y="1818"/>
                  </a:lnTo>
                  <a:lnTo>
                    <a:pt x="120" y="1755"/>
                  </a:lnTo>
                  <a:lnTo>
                    <a:pt x="137" y="1682"/>
                  </a:lnTo>
                  <a:lnTo>
                    <a:pt x="238" y="1238"/>
                  </a:lnTo>
                  <a:lnTo>
                    <a:pt x="409" y="459"/>
                  </a:lnTo>
                  <a:lnTo>
                    <a:pt x="415" y="432"/>
                  </a:lnTo>
                  <a:lnTo>
                    <a:pt x="419" y="409"/>
                  </a:lnTo>
                  <a:lnTo>
                    <a:pt x="420" y="399"/>
                  </a:lnTo>
                  <a:lnTo>
                    <a:pt x="421" y="390"/>
                  </a:lnTo>
                  <a:lnTo>
                    <a:pt x="422" y="380"/>
                  </a:lnTo>
                  <a:lnTo>
                    <a:pt x="422" y="373"/>
                  </a:lnTo>
                  <a:lnTo>
                    <a:pt x="422" y="357"/>
                  </a:lnTo>
                  <a:lnTo>
                    <a:pt x="422" y="355"/>
                  </a:lnTo>
                  <a:lnTo>
                    <a:pt x="422" y="353"/>
                  </a:lnTo>
                  <a:lnTo>
                    <a:pt x="421" y="353"/>
                  </a:lnTo>
                  <a:lnTo>
                    <a:pt x="421" y="353"/>
                  </a:lnTo>
                  <a:lnTo>
                    <a:pt x="421" y="352"/>
                  </a:lnTo>
                  <a:lnTo>
                    <a:pt x="421" y="352"/>
                  </a:lnTo>
                  <a:lnTo>
                    <a:pt x="421" y="352"/>
                  </a:lnTo>
                  <a:lnTo>
                    <a:pt x="421" y="352"/>
                  </a:lnTo>
                  <a:lnTo>
                    <a:pt x="421" y="352"/>
                  </a:lnTo>
                  <a:lnTo>
                    <a:pt x="421" y="352"/>
                  </a:lnTo>
                  <a:lnTo>
                    <a:pt x="421" y="352"/>
                  </a:lnTo>
                  <a:lnTo>
                    <a:pt x="417" y="351"/>
                  </a:lnTo>
                  <a:lnTo>
                    <a:pt x="412" y="352"/>
                  </a:lnTo>
                  <a:lnTo>
                    <a:pt x="402" y="354"/>
                  </a:lnTo>
                  <a:lnTo>
                    <a:pt x="390" y="358"/>
                  </a:lnTo>
                  <a:lnTo>
                    <a:pt x="377" y="364"/>
                  </a:lnTo>
                  <a:lnTo>
                    <a:pt x="348" y="381"/>
                  </a:lnTo>
                  <a:lnTo>
                    <a:pt x="314" y="406"/>
                  </a:lnTo>
                  <a:lnTo>
                    <a:pt x="275" y="437"/>
                  </a:lnTo>
                  <a:lnTo>
                    <a:pt x="231" y="475"/>
                  </a:lnTo>
                  <a:lnTo>
                    <a:pt x="128" y="574"/>
                  </a:lnTo>
                  <a:lnTo>
                    <a:pt x="0" y="451"/>
                  </a:lnTo>
                  <a:lnTo>
                    <a:pt x="105" y="345"/>
                  </a:lnTo>
                  <a:lnTo>
                    <a:pt x="203" y="252"/>
                  </a:lnTo>
                  <a:lnTo>
                    <a:pt x="294" y="173"/>
                  </a:lnTo>
                  <a:lnTo>
                    <a:pt x="378" y="109"/>
                  </a:lnTo>
                  <a:lnTo>
                    <a:pt x="456" y="60"/>
                  </a:lnTo>
                  <a:lnTo>
                    <a:pt x="493" y="41"/>
                  </a:lnTo>
                  <a:lnTo>
                    <a:pt x="529" y="25"/>
                  </a:lnTo>
                  <a:lnTo>
                    <a:pt x="562" y="13"/>
                  </a:lnTo>
                  <a:lnTo>
                    <a:pt x="594" y="5"/>
                  </a:lnTo>
                  <a:lnTo>
                    <a:pt x="624" y="1"/>
                  </a:lnTo>
                  <a:lnTo>
                    <a:pt x="653" y="0"/>
                  </a:lnTo>
                  <a:lnTo>
                    <a:pt x="671" y="2"/>
                  </a:lnTo>
                  <a:lnTo>
                    <a:pt x="687" y="5"/>
                  </a:lnTo>
                  <a:lnTo>
                    <a:pt x="703" y="9"/>
                  </a:lnTo>
                  <a:lnTo>
                    <a:pt x="717" y="15"/>
                  </a:lnTo>
                  <a:lnTo>
                    <a:pt x="731" y="24"/>
                  </a:lnTo>
                  <a:lnTo>
                    <a:pt x="743" y="32"/>
                  </a:lnTo>
                  <a:lnTo>
                    <a:pt x="753" y="43"/>
                  </a:lnTo>
                  <a:lnTo>
                    <a:pt x="763" y="56"/>
                  </a:lnTo>
                  <a:lnTo>
                    <a:pt x="772" y="71"/>
                  </a:lnTo>
                  <a:lnTo>
                    <a:pt x="779" y="86"/>
                  </a:lnTo>
                  <a:lnTo>
                    <a:pt x="786" y="104"/>
                  </a:lnTo>
                  <a:lnTo>
                    <a:pt x="791" y="122"/>
                  </a:lnTo>
                  <a:lnTo>
                    <a:pt x="795" y="143"/>
                  </a:lnTo>
                  <a:lnTo>
                    <a:pt x="798" y="166"/>
                  </a:lnTo>
                  <a:lnTo>
                    <a:pt x="799" y="189"/>
                  </a:lnTo>
                  <a:lnTo>
                    <a:pt x="800" y="214"/>
                  </a:lnTo>
                  <a:lnTo>
                    <a:pt x="798" y="259"/>
                  </a:lnTo>
                  <a:lnTo>
                    <a:pt x="792" y="316"/>
                  </a:lnTo>
                  <a:lnTo>
                    <a:pt x="783" y="383"/>
                  </a:lnTo>
                  <a:lnTo>
                    <a:pt x="769" y="460"/>
                  </a:lnTo>
                  <a:lnTo>
                    <a:pt x="730" y="644"/>
                  </a:lnTo>
                  <a:lnTo>
                    <a:pt x="675" y="870"/>
                  </a:lnTo>
                  <a:lnTo>
                    <a:pt x="1137" y="897"/>
                  </a:lnTo>
                  <a:lnTo>
                    <a:pt x="1313" y="127"/>
                  </a:lnTo>
                  <a:lnTo>
                    <a:pt x="1313" y="125"/>
                  </a:lnTo>
                  <a:lnTo>
                    <a:pt x="1323" y="85"/>
                  </a:lnTo>
                  <a:lnTo>
                    <a:pt x="1670" y="90"/>
                  </a:lnTo>
                  <a:lnTo>
                    <a:pt x="1486" y="932"/>
                  </a:lnTo>
                  <a:lnTo>
                    <a:pt x="1367" y="1459"/>
                  </a:lnTo>
                  <a:lnTo>
                    <a:pt x="1337" y="1614"/>
                  </a:lnTo>
                  <a:lnTo>
                    <a:pt x="1329" y="1664"/>
                  </a:lnTo>
                  <a:lnTo>
                    <a:pt x="1328" y="1682"/>
                  </a:lnTo>
                  <a:lnTo>
                    <a:pt x="1327" y="1696"/>
                  </a:lnTo>
                  <a:lnTo>
                    <a:pt x="1327" y="1705"/>
                  </a:lnTo>
                  <a:lnTo>
                    <a:pt x="1328" y="1715"/>
                  </a:lnTo>
                  <a:lnTo>
                    <a:pt x="1328" y="1718"/>
                  </a:lnTo>
                  <a:lnTo>
                    <a:pt x="1329" y="1722"/>
                  </a:lnTo>
                  <a:lnTo>
                    <a:pt x="1330" y="1725"/>
                  </a:lnTo>
                  <a:lnTo>
                    <a:pt x="1331" y="1727"/>
                  </a:lnTo>
                  <a:lnTo>
                    <a:pt x="1332" y="1730"/>
                  </a:lnTo>
                  <a:lnTo>
                    <a:pt x="1333" y="1732"/>
                  </a:lnTo>
                  <a:lnTo>
                    <a:pt x="1334" y="1733"/>
                  </a:lnTo>
                  <a:lnTo>
                    <a:pt x="1335" y="1736"/>
                  </a:lnTo>
                  <a:lnTo>
                    <a:pt x="1336" y="1736"/>
                  </a:lnTo>
                  <a:lnTo>
                    <a:pt x="1337" y="1737"/>
                  </a:lnTo>
                  <a:lnTo>
                    <a:pt x="1338" y="1737"/>
                  </a:lnTo>
                  <a:lnTo>
                    <a:pt x="1338" y="1737"/>
                  </a:lnTo>
                  <a:lnTo>
                    <a:pt x="1339" y="1738"/>
                  </a:lnTo>
                  <a:lnTo>
                    <a:pt x="1340" y="1738"/>
                  </a:lnTo>
                  <a:lnTo>
                    <a:pt x="1342" y="1738"/>
                  </a:lnTo>
                  <a:lnTo>
                    <a:pt x="1345" y="1738"/>
                  </a:lnTo>
                  <a:lnTo>
                    <a:pt x="1349" y="1737"/>
                  </a:lnTo>
                  <a:lnTo>
                    <a:pt x="1358" y="1734"/>
                  </a:lnTo>
                  <a:lnTo>
                    <a:pt x="1369" y="1728"/>
                  </a:lnTo>
                  <a:lnTo>
                    <a:pt x="1383" y="1721"/>
                  </a:lnTo>
                  <a:lnTo>
                    <a:pt x="1413" y="1699"/>
                  </a:lnTo>
                  <a:lnTo>
                    <a:pt x="1449" y="1667"/>
                  </a:lnTo>
                  <a:lnTo>
                    <a:pt x="1543" y="1577"/>
                  </a:lnTo>
                  <a:lnTo>
                    <a:pt x="1664" y="145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390920" y="3519360"/>
              <a:ext cx="636840" cy="754200"/>
            </a:xfrm>
            <a:custGeom>
              <a:avLst/>
              <a:gdLst/>
              <a:ahLst/>
              <a:rect l="l" t="t" r="r" b="b"/>
              <a:pathLst>
                <a:path w="1770" h="2096">
                  <a:moveTo>
                    <a:pt x="1326" y="68"/>
                  </a:moveTo>
                  <a:lnTo>
                    <a:pt x="1674" y="73"/>
                  </a:lnTo>
                  <a:lnTo>
                    <a:pt x="1490" y="927"/>
                  </a:lnTo>
                  <a:lnTo>
                    <a:pt x="1371" y="1463"/>
                  </a:lnTo>
                  <a:lnTo>
                    <a:pt x="1341" y="1619"/>
                  </a:lnTo>
                  <a:lnTo>
                    <a:pt x="1333" y="1670"/>
                  </a:lnTo>
                  <a:lnTo>
                    <a:pt x="1332" y="1687"/>
                  </a:lnTo>
                  <a:lnTo>
                    <a:pt x="1331" y="1702"/>
                  </a:lnTo>
                  <a:lnTo>
                    <a:pt x="1331" y="1708"/>
                  </a:lnTo>
                  <a:lnTo>
                    <a:pt x="1331" y="1713"/>
                  </a:lnTo>
                  <a:lnTo>
                    <a:pt x="1332" y="1719"/>
                  </a:lnTo>
                  <a:lnTo>
                    <a:pt x="1333" y="1724"/>
                  </a:lnTo>
                  <a:lnTo>
                    <a:pt x="1333" y="1728"/>
                  </a:lnTo>
                  <a:lnTo>
                    <a:pt x="1334" y="1730"/>
                  </a:lnTo>
                  <a:lnTo>
                    <a:pt x="1334" y="1731"/>
                  </a:lnTo>
                  <a:lnTo>
                    <a:pt x="1335" y="1733"/>
                  </a:lnTo>
                  <a:lnTo>
                    <a:pt x="1336" y="1734"/>
                  </a:lnTo>
                  <a:lnTo>
                    <a:pt x="1336" y="1735"/>
                  </a:lnTo>
                  <a:lnTo>
                    <a:pt x="1337" y="1736"/>
                  </a:lnTo>
                  <a:lnTo>
                    <a:pt x="1338" y="1737"/>
                  </a:lnTo>
                  <a:lnTo>
                    <a:pt x="1340" y="1740"/>
                  </a:lnTo>
                  <a:lnTo>
                    <a:pt x="1341" y="1741"/>
                  </a:lnTo>
                  <a:lnTo>
                    <a:pt x="1342" y="1742"/>
                  </a:lnTo>
                  <a:lnTo>
                    <a:pt x="1343" y="1742"/>
                  </a:lnTo>
                  <a:lnTo>
                    <a:pt x="1344" y="1742"/>
                  </a:lnTo>
                  <a:lnTo>
                    <a:pt x="1344" y="1743"/>
                  </a:lnTo>
                  <a:lnTo>
                    <a:pt x="1345" y="1743"/>
                  </a:lnTo>
                  <a:lnTo>
                    <a:pt x="1345" y="1743"/>
                  </a:lnTo>
                  <a:lnTo>
                    <a:pt x="1346" y="1743"/>
                  </a:lnTo>
                  <a:lnTo>
                    <a:pt x="1346" y="1743"/>
                  </a:lnTo>
                  <a:lnTo>
                    <a:pt x="1349" y="1744"/>
                  </a:lnTo>
                  <a:lnTo>
                    <a:pt x="1351" y="1744"/>
                  </a:lnTo>
                  <a:lnTo>
                    <a:pt x="1357" y="1743"/>
                  </a:lnTo>
                  <a:lnTo>
                    <a:pt x="1363" y="1740"/>
                  </a:lnTo>
                  <a:lnTo>
                    <a:pt x="1369" y="1739"/>
                  </a:lnTo>
                  <a:lnTo>
                    <a:pt x="1376" y="1736"/>
                  </a:lnTo>
                  <a:lnTo>
                    <a:pt x="1382" y="1733"/>
                  </a:lnTo>
                  <a:lnTo>
                    <a:pt x="1389" y="1728"/>
                  </a:lnTo>
                  <a:lnTo>
                    <a:pt x="1396" y="1723"/>
                  </a:lnTo>
                  <a:lnTo>
                    <a:pt x="1414" y="1708"/>
                  </a:lnTo>
                  <a:lnTo>
                    <a:pt x="1436" y="1688"/>
                  </a:lnTo>
                  <a:lnTo>
                    <a:pt x="1495" y="1631"/>
                  </a:lnTo>
                  <a:lnTo>
                    <a:pt x="1666" y="1453"/>
                  </a:lnTo>
                  <a:lnTo>
                    <a:pt x="1769" y="1589"/>
                  </a:lnTo>
                  <a:lnTo>
                    <a:pt x="1669" y="1709"/>
                  </a:lnTo>
                  <a:lnTo>
                    <a:pt x="1577" y="1812"/>
                  </a:lnTo>
                  <a:lnTo>
                    <a:pt x="1490" y="1900"/>
                  </a:lnTo>
                  <a:lnTo>
                    <a:pt x="1410" y="1972"/>
                  </a:lnTo>
                  <a:lnTo>
                    <a:pt x="1337" y="2027"/>
                  </a:lnTo>
                  <a:lnTo>
                    <a:pt x="1302" y="2048"/>
                  </a:lnTo>
                  <a:lnTo>
                    <a:pt x="1270" y="2065"/>
                  </a:lnTo>
                  <a:lnTo>
                    <a:pt x="1239" y="2080"/>
                  </a:lnTo>
                  <a:lnTo>
                    <a:pt x="1210" y="2089"/>
                  </a:lnTo>
                  <a:lnTo>
                    <a:pt x="1182" y="2094"/>
                  </a:lnTo>
                  <a:lnTo>
                    <a:pt x="1156" y="2095"/>
                  </a:lnTo>
                  <a:lnTo>
                    <a:pt x="1137" y="2094"/>
                  </a:lnTo>
                  <a:lnTo>
                    <a:pt x="1127" y="2092"/>
                  </a:lnTo>
                  <a:lnTo>
                    <a:pt x="1118" y="2090"/>
                  </a:lnTo>
                  <a:lnTo>
                    <a:pt x="1108" y="2087"/>
                  </a:lnTo>
                  <a:lnTo>
                    <a:pt x="1099" y="2084"/>
                  </a:lnTo>
                  <a:lnTo>
                    <a:pt x="1091" y="2081"/>
                  </a:lnTo>
                  <a:lnTo>
                    <a:pt x="1082" y="2076"/>
                  </a:lnTo>
                  <a:lnTo>
                    <a:pt x="1074" y="2071"/>
                  </a:lnTo>
                  <a:lnTo>
                    <a:pt x="1066" y="2066"/>
                  </a:lnTo>
                  <a:lnTo>
                    <a:pt x="1058" y="2060"/>
                  </a:lnTo>
                  <a:lnTo>
                    <a:pt x="1051" y="2053"/>
                  </a:lnTo>
                  <a:lnTo>
                    <a:pt x="1036" y="2039"/>
                  </a:lnTo>
                  <a:lnTo>
                    <a:pt x="1022" y="2022"/>
                  </a:lnTo>
                  <a:lnTo>
                    <a:pt x="1015" y="2013"/>
                  </a:lnTo>
                  <a:lnTo>
                    <a:pt x="1009" y="2004"/>
                  </a:lnTo>
                  <a:lnTo>
                    <a:pt x="1004" y="1993"/>
                  </a:lnTo>
                  <a:lnTo>
                    <a:pt x="998" y="1983"/>
                  </a:lnTo>
                  <a:lnTo>
                    <a:pt x="994" y="1973"/>
                  </a:lnTo>
                  <a:lnTo>
                    <a:pt x="989" y="1962"/>
                  </a:lnTo>
                  <a:lnTo>
                    <a:pt x="982" y="1938"/>
                  </a:lnTo>
                  <a:lnTo>
                    <a:pt x="976" y="1914"/>
                  </a:lnTo>
                  <a:lnTo>
                    <a:pt x="971" y="1887"/>
                  </a:lnTo>
                  <a:lnTo>
                    <a:pt x="969" y="1860"/>
                  </a:lnTo>
                  <a:lnTo>
                    <a:pt x="968" y="1830"/>
                  </a:lnTo>
                  <a:lnTo>
                    <a:pt x="969" y="1798"/>
                  </a:lnTo>
                  <a:lnTo>
                    <a:pt x="971" y="1765"/>
                  </a:lnTo>
                  <a:lnTo>
                    <a:pt x="974" y="1732"/>
                  </a:lnTo>
                  <a:lnTo>
                    <a:pt x="979" y="1699"/>
                  </a:lnTo>
                  <a:lnTo>
                    <a:pt x="984" y="1665"/>
                  </a:lnTo>
                  <a:lnTo>
                    <a:pt x="992" y="1631"/>
                  </a:lnTo>
                  <a:lnTo>
                    <a:pt x="1000" y="1595"/>
                  </a:lnTo>
                  <a:lnTo>
                    <a:pt x="1010" y="1560"/>
                  </a:lnTo>
                  <a:lnTo>
                    <a:pt x="982" y="1614"/>
                  </a:lnTo>
                  <a:lnTo>
                    <a:pt x="949" y="1667"/>
                  </a:lnTo>
                  <a:lnTo>
                    <a:pt x="909" y="1718"/>
                  </a:lnTo>
                  <a:lnTo>
                    <a:pt x="867" y="1768"/>
                  </a:lnTo>
                  <a:lnTo>
                    <a:pt x="819" y="1817"/>
                  </a:lnTo>
                  <a:lnTo>
                    <a:pt x="766" y="1863"/>
                  </a:lnTo>
                  <a:lnTo>
                    <a:pt x="708" y="1908"/>
                  </a:lnTo>
                  <a:lnTo>
                    <a:pt x="646" y="1953"/>
                  </a:lnTo>
                  <a:lnTo>
                    <a:pt x="603" y="1980"/>
                  </a:lnTo>
                  <a:lnTo>
                    <a:pt x="561" y="2004"/>
                  </a:lnTo>
                  <a:lnTo>
                    <a:pt x="520" y="2023"/>
                  </a:lnTo>
                  <a:lnTo>
                    <a:pt x="479" y="2039"/>
                  </a:lnTo>
                  <a:lnTo>
                    <a:pt x="441" y="2051"/>
                  </a:lnTo>
                  <a:lnTo>
                    <a:pt x="404" y="2060"/>
                  </a:lnTo>
                  <a:lnTo>
                    <a:pt x="368" y="2065"/>
                  </a:lnTo>
                  <a:lnTo>
                    <a:pt x="334" y="2066"/>
                  </a:lnTo>
                  <a:lnTo>
                    <a:pt x="312" y="2064"/>
                  </a:lnTo>
                  <a:lnTo>
                    <a:pt x="293" y="2060"/>
                  </a:lnTo>
                  <a:lnTo>
                    <a:pt x="283" y="2058"/>
                  </a:lnTo>
                  <a:lnTo>
                    <a:pt x="274" y="2055"/>
                  </a:lnTo>
                  <a:lnTo>
                    <a:pt x="265" y="2051"/>
                  </a:lnTo>
                  <a:lnTo>
                    <a:pt x="257" y="2047"/>
                  </a:lnTo>
                  <a:lnTo>
                    <a:pt x="248" y="2042"/>
                  </a:lnTo>
                  <a:lnTo>
                    <a:pt x="240" y="2038"/>
                  </a:lnTo>
                  <a:lnTo>
                    <a:pt x="233" y="2031"/>
                  </a:lnTo>
                  <a:lnTo>
                    <a:pt x="225" y="2025"/>
                  </a:lnTo>
                  <a:lnTo>
                    <a:pt x="218" y="2019"/>
                  </a:lnTo>
                  <a:lnTo>
                    <a:pt x="212" y="2012"/>
                  </a:lnTo>
                  <a:lnTo>
                    <a:pt x="205" y="2005"/>
                  </a:lnTo>
                  <a:lnTo>
                    <a:pt x="199" y="1996"/>
                  </a:lnTo>
                  <a:lnTo>
                    <a:pt x="193" y="1988"/>
                  </a:lnTo>
                  <a:lnTo>
                    <a:pt x="187" y="1978"/>
                  </a:lnTo>
                  <a:lnTo>
                    <a:pt x="182" y="1969"/>
                  </a:lnTo>
                  <a:lnTo>
                    <a:pt x="177" y="1958"/>
                  </a:lnTo>
                  <a:lnTo>
                    <a:pt x="173" y="1947"/>
                  </a:lnTo>
                  <a:lnTo>
                    <a:pt x="169" y="1937"/>
                  </a:lnTo>
                  <a:lnTo>
                    <a:pt x="162" y="1913"/>
                  </a:lnTo>
                  <a:lnTo>
                    <a:pt x="157" y="1887"/>
                  </a:lnTo>
                  <a:lnTo>
                    <a:pt x="153" y="1859"/>
                  </a:lnTo>
                  <a:lnTo>
                    <a:pt x="151" y="1829"/>
                  </a:lnTo>
                  <a:lnTo>
                    <a:pt x="150" y="1797"/>
                  </a:lnTo>
                  <a:lnTo>
                    <a:pt x="151" y="1750"/>
                  </a:lnTo>
                  <a:lnTo>
                    <a:pt x="155" y="1701"/>
                  </a:lnTo>
                  <a:lnTo>
                    <a:pt x="160" y="1651"/>
                  </a:lnTo>
                  <a:lnTo>
                    <a:pt x="168" y="1599"/>
                  </a:lnTo>
                  <a:lnTo>
                    <a:pt x="185" y="1509"/>
                  </a:lnTo>
                  <a:lnTo>
                    <a:pt x="212" y="1382"/>
                  </a:lnTo>
                  <a:lnTo>
                    <a:pt x="295" y="1025"/>
                  </a:lnTo>
                  <a:lnTo>
                    <a:pt x="352" y="783"/>
                  </a:lnTo>
                  <a:lnTo>
                    <a:pt x="392" y="597"/>
                  </a:lnTo>
                  <a:lnTo>
                    <a:pt x="416" y="464"/>
                  </a:lnTo>
                  <a:lnTo>
                    <a:pt x="422" y="418"/>
                  </a:lnTo>
                  <a:lnTo>
                    <a:pt x="423" y="399"/>
                  </a:lnTo>
                  <a:lnTo>
                    <a:pt x="424" y="385"/>
                  </a:lnTo>
                  <a:lnTo>
                    <a:pt x="424" y="367"/>
                  </a:lnTo>
                  <a:lnTo>
                    <a:pt x="421" y="367"/>
                  </a:lnTo>
                  <a:lnTo>
                    <a:pt x="418" y="368"/>
                  </a:lnTo>
                  <a:lnTo>
                    <a:pt x="415" y="368"/>
                  </a:lnTo>
                  <a:lnTo>
                    <a:pt x="411" y="369"/>
                  </a:lnTo>
                  <a:lnTo>
                    <a:pt x="403" y="373"/>
                  </a:lnTo>
                  <a:lnTo>
                    <a:pt x="394" y="376"/>
                  </a:lnTo>
                  <a:lnTo>
                    <a:pt x="384" y="382"/>
                  </a:lnTo>
                  <a:lnTo>
                    <a:pt x="373" y="388"/>
                  </a:lnTo>
                  <a:lnTo>
                    <a:pt x="348" y="404"/>
                  </a:lnTo>
                  <a:lnTo>
                    <a:pt x="333" y="415"/>
                  </a:lnTo>
                  <a:lnTo>
                    <a:pt x="313" y="430"/>
                  </a:lnTo>
                  <a:lnTo>
                    <a:pt x="265" y="473"/>
                  </a:lnTo>
                  <a:lnTo>
                    <a:pt x="127" y="606"/>
                  </a:lnTo>
                  <a:lnTo>
                    <a:pt x="0" y="482"/>
                  </a:lnTo>
                  <a:lnTo>
                    <a:pt x="130" y="341"/>
                  </a:lnTo>
                  <a:lnTo>
                    <a:pt x="243" y="229"/>
                  </a:lnTo>
                  <a:lnTo>
                    <a:pt x="293" y="183"/>
                  </a:lnTo>
                  <a:lnTo>
                    <a:pt x="340" y="143"/>
                  </a:lnTo>
                  <a:lnTo>
                    <a:pt x="381" y="112"/>
                  </a:lnTo>
                  <a:lnTo>
                    <a:pt x="419" y="87"/>
                  </a:lnTo>
                  <a:lnTo>
                    <a:pt x="454" y="66"/>
                  </a:lnTo>
                  <a:lnTo>
                    <a:pt x="487" y="49"/>
                  </a:lnTo>
                  <a:lnTo>
                    <a:pt x="520" y="34"/>
                  </a:lnTo>
                  <a:lnTo>
                    <a:pt x="550" y="21"/>
                  </a:lnTo>
                  <a:lnTo>
                    <a:pt x="578" y="12"/>
                  </a:lnTo>
                  <a:lnTo>
                    <a:pt x="605" y="5"/>
                  </a:lnTo>
                  <a:lnTo>
                    <a:pt x="630" y="1"/>
                  </a:lnTo>
                  <a:lnTo>
                    <a:pt x="654" y="0"/>
                  </a:lnTo>
                  <a:lnTo>
                    <a:pt x="670" y="1"/>
                  </a:lnTo>
                  <a:lnTo>
                    <a:pt x="678" y="3"/>
                  </a:lnTo>
                  <a:lnTo>
                    <a:pt x="685" y="4"/>
                  </a:lnTo>
                  <a:lnTo>
                    <a:pt x="693" y="6"/>
                  </a:lnTo>
                  <a:lnTo>
                    <a:pt x="700" y="9"/>
                  </a:lnTo>
                  <a:lnTo>
                    <a:pt x="707" y="11"/>
                  </a:lnTo>
                  <a:lnTo>
                    <a:pt x="713" y="15"/>
                  </a:lnTo>
                  <a:lnTo>
                    <a:pt x="721" y="19"/>
                  </a:lnTo>
                  <a:lnTo>
                    <a:pt x="727" y="23"/>
                  </a:lnTo>
                  <a:lnTo>
                    <a:pt x="733" y="27"/>
                  </a:lnTo>
                  <a:lnTo>
                    <a:pt x="739" y="33"/>
                  </a:lnTo>
                  <a:lnTo>
                    <a:pt x="744" y="38"/>
                  </a:lnTo>
                  <a:lnTo>
                    <a:pt x="750" y="44"/>
                  </a:lnTo>
                  <a:lnTo>
                    <a:pt x="755" y="50"/>
                  </a:lnTo>
                  <a:lnTo>
                    <a:pt x="760" y="57"/>
                  </a:lnTo>
                  <a:lnTo>
                    <a:pt x="765" y="64"/>
                  </a:lnTo>
                  <a:lnTo>
                    <a:pt x="770" y="71"/>
                  </a:lnTo>
                  <a:lnTo>
                    <a:pt x="774" y="80"/>
                  </a:lnTo>
                  <a:lnTo>
                    <a:pt x="778" y="88"/>
                  </a:lnTo>
                  <a:lnTo>
                    <a:pt x="781" y="96"/>
                  </a:lnTo>
                  <a:lnTo>
                    <a:pt x="785" y="105"/>
                  </a:lnTo>
                  <a:lnTo>
                    <a:pt x="791" y="124"/>
                  </a:lnTo>
                  <a:lnTo>
                    <a:pt x="795" y="144"/>
                  </a:lnTo>
                  <a:lnTo>
                    <a:pt x="798" y="165"/>
                  </a:lnTo>
                  <a:lnTo>
                    <a:pt x="800" y="189"/>
                  </a:lnTo>
                  <a:lnTo>
                    <a:pt x="801" y="212"/>
                  </a:lnTo>
                  <a:lnTo>
                    <a:pt x="799" y="260"/>
                  </a:lnTo>
                  <a:lnTo>
                    <a:pt x="792" y="322"/>
                  </a:lnTo>
                  <a:lnTo>
                    <a:pt x="766" y="488"/>
                  </a:lnTo>
                  <a:lnTo>
                    <a:pt x="722" y="712"/>
                  </a:lnTo>
                  <a:lnTo>
                    <a:pt x="659" y="993"/>
                  </a:lnTo>
                  <a:lnTo>
                    <a:pt x="569" y="1417"/>
                  </a:lnTo>
                  <a:lnTo>
                    <a:pt x="547" y="1542"/>
                  </a:lnTo>
                  <a:lnTo>
                    <a:pt x="541" y="1582"/>
                  </a:lnTo>
                  <a:lnTo>
                    <a:pt x="539" y="1597"/>
                  </a:lnTo>
                  <a:lnTo>
                    <a:pt x="539" y="1608"/>
                  </a:lnTo>
                  <a:lnTo>
                    <a:pt x="539" y="1616"/>
                  </a:lnTo>
                  <a:lnTo>
                    <a:pt x="540" y="1623"/>
                  </a:lnTo>
                  <a:lnTo>
                    <a:pt x="541" y="1630"/>
                  </a:lnTo>
                  <a:lnTo>
                    <a:pt x="542" y="1636"/>
                  </a:lnTo>
                  <a:lnTo>
                    <a:pt x="543" y="1640"/>
                  </a:lnTo>
                  <a:lnTo>
                    <a:pt x="544" y="1642"/>
                  </a:lnTo>
                  <a:lnTo>
                    <a:pt x="545" y="1646"/>
                  </a:lnTo>
                  <a:lnTo>
                    <a:pt x="547" y="1648"/>
                  </a:lnTo>
                  <a:lnTo>
                    <a:pt x="548" y="1651"/>
                  </a:lnTo>
                  <a:lnTo>
                    <a:pt x="550" y="1654"/>
                  </a:lnTo>
                  <a:lnTo>
                    <a:pt x="551" y="1657"/>
                  </a:lnTo>
                  <a:lnTo>
                    <a:pt x="553" y="1659"/>
                  </a:lnTo>
                  <a:lnTo>
                    <a:pt x="557" y="1664"/>
                  </a:lnTo>
                  <a:lnTo>
                    <a:pt x="560" y="1667"/>
                  </a:lnTo>
                  <a:lnTo>
                    <a:pt x="564" y="1671"/>
                  </a:lnTo>
                  <a:lnTo>
                    <a:pt x="567" y="1673"/>
                  </a:lnTo>
                  <a:lnTo>
                    <a:pt x="569" y="1675"/>
                  </a:lnTo>
                  <a:lnTo>
                    <a:pt x="570" y="1676"/>
                  </a:lnTo>
                  <a:lnTo>
                    <a:pt x="572" y="1677"/>
                  </a:lnTo>
                  <a:lnTo>
                    <a:pt x="573" y="1677"/>
                  </a:lnTo>
                  <a:lnTo>
                    <a:pt x="575" y="1677"/>
                  </a:lnTo>
                  <a:lnTo>
                    <a:pt x="577" y="1678"/>
                  </a:lnTo>
                  <a:lnTo>
                    <a:pt x="578" y="1678"/>
                  </a:lnTo>
                  <a:lnTo>
                    <a:pt x="580" y="1678"/>
                  </a:lnTo>
                  <a:lnTo>
                    <a:pt x="592" y="1678"/>
                  </a:lnTo>
                  <a:lnTo>
                    <a:pt x="604" y="1676"/>
                  </a:lnTo>
                  <a:lnTo>
                    <a:pt x="618" y="1672"/>
                  </a:lnTo>
                  <a:lnTo>
                    <a:pt x="632" y="1667"/>
                  </a:lnTo>
                  <a:lnTo>
                    <a:pt x="647" y="1661"/>
                  </a:lnTo>
                  <a:lnTo>
                    <a:pt x="662" y="1652"/>
                  </a:lnTo>
                  <a:lnTo>
                    <a:pt x="696" y="1632"/>
                  </a:lnTo>
                  <a:lnTo>
                    <a:pt x="734" y="1604"/>
                  </a:lnTo>
                  <a:lnTo>
                    <a:pt x="773" y="1571"/>
                  </a:lnTo>
                  <a:lnTo>
                    <a:pt x="816" y="1532"/>
                  </a:lnTo>
                  <a:lnTo>
                    <a:pt x="861" y="1486"/>
                  </a:lnTo>
                  <a:lnTo>
                    <a:pt x="906" y="1436"/>
                  </a:lnTo>
                  <a:lnTo>
                    <a:pt x="948" y="1385"/>
                  </a:lnTo>
                  <a:lnTo>
                    <a:pt x="984" y="1331"/>
                  </a:lnTo>
                  <a:lnTo>
                    <a:pt x="1017" y="1276"/>
                  </a:lnTo>
                  <a:lnTo>
                    <a:pt x="1045" y="1219"/>
                  </a:lnTo>
                  <a:lnTo>
                    <a:pt x="1070" y="1159"/>
                  </a:lnTo>
                  <a:lnTo>
                    <a:pt x="1090" y="1098"/>
                  </a:lnTo>
                  <a:lnTo>
                    <a:pt x="1107" y="1035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81680" y="3522600"/>
              <a:ext cx="947520" cy="752400"/>
            </a:xfrm>
            <a:custGeom>
              <a:avLst/>
              <a:gdLst/>
              <a:ahLst/>
              <a:rect l="l" t="t" r="r" b="b"/>
              <a:pathLst>
                <a:path w="2634" h="2090">
                  <a:moveTo>
                    <a:pt x="639" y="627"/>
                  </a:moveTo>
                  <a:lnTo>
                    <a:pt x="511" y="505"/>
                  </a:lnTo>
                  <a:lnTo>
                    <a:pt x="615" y="387"/>
                  </a:lnTo>
                  <a:lnTo>
                    <a:pt x="714" y="286"/>
                  </a:lnTo>
                  <a:lnTo>
                    <a:pt x="805" y="199"/>
                  </a:lnTo>
                  <a:lnTo>
                    <a:pt x="892" y="127"/>
                  </a:lnTo>
                  <a:lnTo>
                    <a:pt x="970" y="73"/>
                  </a:lnTo>
                  <a:lnTo>
                    <a:pt x="1008" y="51"/>
                  </a:lnTo>
                  <a:lnTo>
                    <a:pt x="1043" y="33"/>
                  </a:lnTo>
                  <a:lnTo>
                    <a:pt x="1078" y="19"/>
                  </a:lnTo>
                  <a:lnTo>
                    <a:pt x="1110" y="9"/>
                  </a:lnTo>
                  <a:lnTo>
                    <a:pt x="1141" y="3"/>
                  </a:lnTo>
                  <a:lnTo>
                    <a:pt x="1170" y="0"/>
                  </a:lnTo>
                  <a:lnTo>
                    <a:pt x="1187" y="1"/>
                  </a:lnTo>
                  <a:lnTo>
                    <a:pt x="1202" y="2"/>
                  </a:lnTo>
                  <a:lnTo>
                    <a:pt x="1217" y="7"/>
                  </a:lnTo>
                  <a:lnTo>
                    <a:pt x="1231" y="11"/>
                  </a:lnTo>
                  <a:lnTo>
                    <a:pt x="1244" y="17"/>
                  </a:lnTo>
                  <a:lnTo>
                    <a:pt x="1257" y="25"/>
                  </a:lnTo>
                  <a:lnTo>
                    <a:pt x="1268" y="34"/>
                  </a:lnTo>
                  <a:lnTo>
                    <a:pt x="1278" y="46"/>
                  </a:lnTo>
                  <a:lnTo>
                    <a:pt x="1287" y="58"/>
                  </a:lnTo>
                  <a:lnTo>
                    <a:pt x="1295" y="72"/>
                  </a:lnTo>
                  <a:lnTo>
                    <a:pt x="1303" y="87"/>
                  </a:lnTo>
                  <a:lnTo>
                    <a:pt x="1309" y="104"/>
                  </a:lnTo>
                  <a:lnTo>
                    <a:pt x="1315" y="121"/>
                  </a:lnTo>
                  <a:lnTo>
                    <a:pt x="1319" y="141"/>
                  </a:lnTo>
                  <a:lnTo>
                    <a:pt x="1322" y="163"/>
                  </a:lnTo>
                  <a:lnTo>
                    <a:pt x="1325" y="185"/>
                  </a:lnTo>
                  <a:lnTo>
                    <a:pt x="1444" y="1558"/>
                  </a:lnTo>
                  <a:lnTo>
                    <a:pt x="2198" y="45"/>
                  </a:lnTo>
                  <a:lnTo>
                    <a:pt x="2536" y="41"/>
                  </a:lnTo>
                  <a:lnTo>
                    <a:pt x="2350" y="890"/>
                  </a:lnTo>
                  <a:lnTo>
                    <a:pt x="2232" y="1424"/>
                  </a:lnTo>
                  <a:lnTo>
                    <a:pt x="2203" y="1581"/>
                  </a:lnTo>
                  <a:lnTo>
                    <a:pt x="2195" y="1632"/>
                  </a:lnTo>
                  <a:lnTo>
                    <a:pt x="2194" y="1650"/>
                  </a:lnTo>
                  <a:lnTo>
                    <a:pt x="2193" y="1664"/>
                  </a:lnTo>
                  <a:lnTo>
                    <a:pt x="2193" y="1673"/>
                  </a:lnTo>
                  <a:lnTo>
                    <a:pt x="2194" y="1683"/>
                  </a:lnTo>
                  <a:lnTo>
                    <a:pt x="2194" y="1686"/>
                  </a:lnTo>
                  <a:lnTo>
                    <a:pt x="2195" y="1690"/>
                  </a:lnTo>
                  <a:lnTo>
                    <a:pt x="2196" y="1693"/>
                  </a:lnTo>
                  <a:lnTo>
                    <a:pt x="2197" y="1695"/>
                  </a:lnTo>
                  <a:lnTo>
                    <a:pt x="2198" y="1698"/>
                  </a:lnTo>
                  <a:lnTo>
                    <a:pt x="2199" y="1700"/>
                  </a:lnTo>
                  <a:lnTo>
                    <a:pt x="2200" y="1701"/>
                  </a:lnTo>
                  <a:lnTo>
                    <a:pt x="2201" y="1704"/>
                  </a:lnTo>
                  <a:lnTo>
                    <a:pt x="2202" y="1704"/>
                  </a:lnTo>
                  <a:lnTo>
                    <a:pt x="2203" y="1705"/>
                  </a:lnTo>
                  <a:lnTo>
                    <a:pt x="2204" y="1705"/>
                  </a:lnTo>
                  <a:lnTo>
                    <a:pt x="2204" y="1705"/>
                  </a:lnTo>
                  <a:lnTo>
                    <a:pt x="2205" y="1706"/>
                  </a:lnTo>
                  <a:lnTo>
                    <a:pt x="2206" y="1706"/>
                  </a:lnTo>
                  <a:lnTo>
                    <a:pt x="2208" y="1706"/>
                  </a:lnTo>
                  <a:lnTo>
                    <a:pt x="2211" y="1706"/>
                  </a:lnTo>
                  <a:lnTo>
                    <a:pt x="2215" y="1704"/>
                  </a:lnTo>
                  <a:lnTo>
                    <a:pt x="2224" y="1701"/>
                  </a:lnTo>
                  <a:lnTo>
                    <a:pt x="2235" y="1694"/>
                  </a:lnTo>
                  <a:lnTo>
                    <a:pt x="2249" y="1686"/>
                  </a:lnTo>
                  <a:lnTo>
                    <a:pt x="2279" y="1663"/>
                  </a:lnTo>
                  <a:lnTo>
                    <a:pt x="2315" y="1629"/>
                  </a:lnTo>
                  <a:lnTo>
                    <a:pt x="2409" y="1535"/>
                  </a:lnTo>
                  <a:lnTo>
                    <a:pt x="2530" y="1404"/>
                  </a:lnTo>
                  <a:lnTo>
                    <a:pt x="2633" y="1533"/>
                  </a:lnTo>
                  <a:lnTo>
                    <a:pt x="2534" y="1657"/>
                  </a:lnTo>
                  <a:lnTo>
                    <a:pt x="2442" y="1763"/>
                  </a:lnTo>
                  <a:lnTo>
                    <a:pt x="2355" y="1855"/>
                  </a:lnTo>
                  <a:lnTo>
                    <a:pt x="2275" y="1930"/>
                  </a:lnTo>
                  <a:lnTo>
                    <a:pt x="2201" y="1988"/>
                  </a:lnTo>
                  <a:lnTo>
                    <a:pt x="2166" y="2012"/>
                  </a:lnTo>
                  <a:lnTo>
                    <a:pt x="2134" y="2030"/>
                  </a:lnTo>
                  <a:lnTo>
                    <a:pt x="2103" y="2046"/>
                  </a:lnTo>
                  <a:lnTo>
                    <a:pt x="2073" y="2057"/>
                  </a:lnTo>
                  <a:lnTo>
                    <a:pt x="2045" y="2063"/>
                  </a:lnTo>
                  <a:lnTo>
                    <a:pt x="2018" y="2066"/>
                  </a:lnTo>
                  <a:lnTo>
                    <a:pt x="2010" y="2066"/>
                  </a:lnTo>
                  <a:lnTo>
                    <a:pt x="2001" y="2066"/>
                  </a:lnTo>
                  <a:lnTo>
                    <a:pt x="1993" y="2065"/>
                  </a:lnTo>
                  <a:lnTo>
                    <a:pt x="1985" y="2062"/>
                  </a:lnTo>
                  <a:lnTo>
                    <a:pt x="1976" y="2060"/>
                  </a:lnTo>
                  <a:lnTo>
                    <a:pt x="1968" y="2058"/>
                  </a:lnTo>
                  <a:lnTo>
                    <a:pt x="1960" y="2055"/>
                  </a:lnTo>
                  <a:lnTo>
                    <a:pt x="1952" y="2050"/>
                  </a:lnTo>
                  <a:lnTo>
                    <a:pt x="1936" y="2041"/>
                  </a:lnTo>
                  <a:lnTo>
                    <a:pt x="1921" y="2030"/>
                  </a:lnTo>
                  <a:lnTo>
                    <a:pt x="1905" y="2016"/>
                  </a:lnTo>
                  <a:lnTo>
                    <a:pt x="1890" y="2000"/>
                  </a:lnTo>
                  <a:lnTo>
                    <a:pt x="1883" y="1992"/>
                  </a:lnTo>
                  <a:lnTo>
                    <a:pt x="1876" y="1983"/>
                  </a:lnTo>
                  <a:lnTo>
                    <a:pt x="1870" y="1972"/>
                  </a:lnTo>
                  <a:lnTo>
                    <a:pt x="1864" y="1963"/>
                  </a:lnTo>
                  <a:lnTo>
                    <a:pt x="1859" y="1953"/>
                  </a:lnTo>
                  <a:lnTo>
                    <a:pt x="1854" y="1942"/>
                  </a:lnTo>
                  <a:lnTo>
                    <a:pt x="1849" y="1930"/>
                  </a:lnTo>
                  <a:lnTo>
                    <a:pt x="1846" y="1919"/>
                  </a:lnTo>
                  <a:lnTo>
                    <a:pt x="1838" y="1894"/>
                  </a:lnTo>
                  <a:lnTo>
                    <a:pt x="1834" y="1868"/>
                  </a:lnTo>
                  <a:lnTo>
                    <a:pt x="1831" y="1840"/>
                  </a:lnTo>
                  <a:lnTo>
                    <a:pt x="1830" y="1811"/>
                  </a:lnTo>
                  <a:lnTo>
                    <a:pt x="1832" y="1765"/>
                  </a:lnTo>
                  <a:lnTo>
                    <a:pt x="1838" y="1703"/>
                  </a:lnTo>
                  <a:lnTo>
                    <a:pt x="1865" y="1540"/>
                  </a:lnTo>
                  <a:lnTo>
                    <a:pt x="1907" y="1318"/>
                  </a:lnTo>
                  <a:lnTo>
                    <a:pt x="1966" y="1040"/>
                  </a:lnTo>
                  <a:lnTo>
                    <a:pt x="2082" y="568"/>
                  </a:lnTo>
                  <a:lnTo>
                    <a:pt x="1359" y="2063"/>
                  </a:lnTo>
                  <a:lnTo>
                    <a:pt x="1154" y="2068"/>
                  </a:lnTo>
                  <a:lnTo>
                    <a:pt x="1045" y="748"/>
                  </a:lnTo>
                  <a:lnTo>
                    <a:pt x="940" y="1158"/>
                  </a:lnTo>
                  <a:lnTo>
                    <a:pt x="890" y="1331"/>
                  </a:lnTo>
                  <a:lnTo>
                    <a:pt x="839" y="1483"/>
                  </a:lnTo>
                  <a:lnTo>
                    <a:pt x="791" y="1613"/>
                  </a:lnTo>
                  <a:lnTo>
                    <a:pt x="744" y="1721"/>
                  </a:lnTo>
                  <a:lnTo>
                    <a:pt x="721" y="1768"/>
                  </a:lnTo>
                  <a:lnTo>
                    <a:pt x="698" y="1807"/>
                  </a:lnTo>
                  <a:lnTo>
                    <a:pt x="675" y="1842"/>
                  </a:lnTo>
                  <a:lnTo>
                    <a:pt x="652" y="1873"/>
                  </a:lnTo>
                  <a:lnTo>
                    <a:pt x="607" y="1924"/>
                  </a:lnTo>
                  <a:lnTo>
                    <a:pt x="560" y="1968"/>
                  </a:lnTo>
                  <a:lnTo>
                    <a:pt x="512" y="2006"/>
                  </a:lnTo>
                  <a:lnTo>
                    <a:pt x="488" y="2022"/>
                  </a:lnTo>
                  <a:lnTo>
                    <a:pt x="463" y="2037"/>
                  </a:lnTo>
                  <a:lnTo>
                    <a:pt x="436" y="2050"/>
                  </a:lnTo>
                  <a:lnTo>
                    <a:pt x="411" y="2061"/>
                  </a:lnTo>
                  <a:lnTo>
                    <a:pt x="385" y="2071"/>
                  </a:lnTo>
                  <a:lnTo>
                    <a:pt x="359" y="2077"/>
                  </a:lnTo>
                  <a:lnTo>
                    <a:pt x="359" y="2078"/>
                  </a:lnTo>
                  <a:lnTo>
                    <a:pt x="358" y="2079"/>
                  </a:lnTo>
                  <a:lnTo>
                    <a:pt x="332" y="2084"/>
                  </a:lnTo>
                  <a:lnTo>
                    <a:pt x="304" y="2087"/>
                  </a:lnTo>
                  <a:lnTo>
                    <a:pt x="277" y="2089"/>
                  </a:lnTo>
                  <a:lnTo>
                    <a:pt x="248" y="2089"/>
                  </a:lnTo>
                  <a:lnTo>
                    <a:pt x="219" y="2087"/>
                  </a:lnTo>
                  <a:lnTo>
                    <a:pt x="192" y="2083"/>
                  </a:lnTo>
                  <a:lnTo>
                    <a:pt x="167" y="2076"/>
                  </a:lnTo>
                  <a:lnTo>
                    <a:pt x="143" y="2067"/>
                  </a:lnTo>
                  <a:lnTo>
                    <a:pt x="132" y="2061"/>
                  </a:lnTo>
                  <a:lnTo>
                    <a:pt x="121" y="2055"/>
                  </a:lnTo>
                  <a:lnTo>
                    <a:pt x="111" y="2049"/>
                  </a:lnTo>
                  <a:lnTo>
                    <a:pt x="101" y="2041"/>
                  </a:lnTo>
                  <a:lnTo>
                    <a:pt x="91" y="2033"/>
                  </a:lnTo>
                  <a:lnTo>
                    <a:pt x="82" y="2024"/>
                  </a:lnTo>
                  <a:lnTo>
                    <a:pt x="73" y="2016"/>
                  </a:lnTo>
                  <a:lnTo>
                    <a:pt x="65" y="2006"/>
                  </a:lnTo>
                  <a:lnTo>
                    <a:pt x="49" y="1985"/>
                  </a:lnTo>
                  <a:lnTo>
                    <a:pt x="36" y="1965"/>
                  </a:lnTo>
                  <a:lnTo>
                    <a:pt x="25" y="1942"/>
                  </a:lnTo>
                  <a:lnTo>
                    <a:pt x="20" y="1931"/>
                  </a:lnTo>
                  <a:lnTo>
                    <a:pt x="16" y="1919"/>
                  </a:lnTo>
                  <a:lnTo>
                    <a:pt x="12" y="1908"/>
                  </a:lnTo>
                  <a:lnTo>
                    <a:pt x="9" y="1896"/>
                  </a:lnTo>
                  <a:lnTo>
                    <a:pt x="4" y="1871"/>
                  </a:lnTo>
                  <a:lnTo>
                    <a:pt x="1" y="1846"/>
                  </a:lnTo>
                  <a:lnTo>
                    <a:pt x="0" y="1821"/>
                  </a:lnTo>
                  <a:lnTo>
                    <a:pt x="1" y="1796"/>
                  </a:lnTo>
                  <a:lnTo>
                    <a:pt x="4" y="1772"/>
                  </a:lnTo>
                  <a:lnTo>
                    <a:pt x="8" y="1750"/>
                  </a:lnTo>
                  <a:lnTo>
                    <a:pt x="14" y="1728"/>
                  </a:lnTo>
                  <a:lnTo>
                    <a:pt x="22" y="1706"/>
                  </a:lnTo>
                  <a:lnTo>
                    <a:pt x="32" y="1685"/>
                  </a:lnTo>
                  <a:lnTo>
                    <a:pt x="44" y="1665"/>
                  </a:lnTo>
                  <a:lnTo>
                    <a:pt x="57" y="1647"/>
                  </a:lnTo>
                  <a:lnTo>
                    <a:pt x="73" y="1629"/>
                  </a:lnTo>
                  <a:lnTo>
                    <a:pt x="80" y="1621"/>
                  </a:lnTo>
                  <a:lnTo>
                    <a:pt x="88" y="1614"/>
                  </a:lnTo>
                  <a:lnTo>
                    <a:pt x="97" y="1608"/>
                  </a:lnTo>
                  <a:lnTo>
                    <a:pt x="105" y="1601"/>
                  </a:lnTo>
                  <a:lnTo>
                    <a:pt x="114" y="1597"/>
                  </a:lnTo>
                  <a:lnTo>
                    <a:pt x="123" y="1591"/>
                  </a:lnTo>
                  <a:lnTo>
                    <a:pt x="132" y="1586"/>
                  </a:lnTo>
                  <a:lnTo>
                    <a:pt x="141" y="1583"/>
                  </a:lnTo>
                  <a:lnTo>
                    <a:pt x="151" y="1580"/>
                  </a:lnTo>
                  <a:lnTo>
                    <a:pt x="160" y="1578"/>
                  </a:lnTo>
                  <a:lnTo>
                    <a:pt x="170" y="1575"/>
                  </a:lnTo>
                  <a:lnTo>
                    <a:pt x="181" y="1575"/>
                  </a:lnTo>
                  <a:lnTo>
                    <a:pt x="202" y="1574"/>
                  </a:lnTo>
                  <a:lnTo>
                    <a:pt x="215" y="1574"/>
                  </a:lnTo>
                  <a:lnTo>
                    <a:pt x="229" y="1577"/>
                  </a:lnTo>
                  <a:lnTo>
                    <a:pt x="244" y="1580"/>
                  </a:lnTo>
                  <a:lnTo>
                    <a:pt x="259" y="1585"/>
                  </a:lnTo>
                  <a:lnTo>
                    <a:pt x="276" y="1590"/>
                  </a:lnTo>
                  <a:lnTo>
                    <a:pt x="293" y="1596"/>
                  </a:lnTo>
                  <a:lnTo>
                    <a:pt x="310" y="1604"/>
                  </a:lnTo>
                  <a:lnTo>
                    <a:pt x="328" y="1613"/>
                  </a:lnTo>
                  <a:lnTo>
                    <a:pt x="359" y="1626"/>
                  </a:lnTo>
                  <a:lnTo>
                    <a:pt x="359" y="1626"/>
                  </a:lnTo>
                  <a:lnTo>
                    <a:pt x="362" y="1628"/>
                  </a:lnTo>
                  <a:lnTo>
                    <a:pt x="389" y="1636"/>
                  </a:lnTo>
                  <a:lnTo>
                    <a:pt x="400" y="1640"/>
                  </a:lnTo>
                  <a:lnTo>
                    <a:pt x="410" y="1642"/>
                  </a:lnTo>
                  <a:lnTo>
                    <a:pt x="419" y="1644"/>
                  </a:lnTo>
                  <a:lnTo>
                    <a:pt x="423" y="1644"/>
                  </a:lnTo>
                  <a:lnTo>
                    <a:pt x="426" y="1644"/>
                  </a:lnTo>
                  <a:lnTo>
                    <a:pt x="434" y="1644"/>
                  </a:lnTo>
                  <a:lnTo>
                    <a:pt x="443" y="1642"/>
                  </a:lnTo>
                  <a:lnTo>
                    <a:pt x="451" y="1640"/>
                  </a:lnTo>
                  <a:lnTo>
                    <a:pt x="461" y="1636"/>
                  </a:lnTo>
                  <a:lnTo>
                    <a:pt x="470" y="1632"/>
                  </a:lnTo>
                  <a:lnTo>
                    <a:pt x="479" y="1627"/>
                  </a:lnTo>
                  <a:lnTo>
                    <a:pt x="487" y="1622"/>
                  </a:lnTo>
                  <a:lnTo>
                    <a:pt x="497" y="1615"/>
                  </a:lnTo>
                  <a:lnTo>
                    <a:pt x="515" y="1599"/>
                  </a:lnTo>
                  <a:lnTo>
                    <a:pt x="534" y="1581"/>
                  </a:lnTo>
                  <a:lnTo>
                    <a:pt x="553" y="1558"/>
                  </a:lnTo>
                  <a:lnTo>
                    <a:pt x="572" y="1531"/>
                  </a:lnTo>
                  <a:lnTo>
                    <a:pt x="582" y="1515"/>
                  </a:lnTo>
                  <a:lnTo>
                    <a:pt x="593" y="1497"/>
                  </a:lnTo>
                  <a:lnTo>
                    <a:pt x="616" y="1453"/>
                  </a:lnTo>
                  <a:lnTo>
                    <a:pt x="643" y="1396"/>
                  </a:lnTo>
                  <a:lnTo>
                    <a:pt x="673" y="1328"/>
                  </a:lnTo>
                  <a:lnTo>
                    <a:pt x="739" y="1156"/>
                  </a:lnTo>
                  <a:lnTo>
                    <a:pt x="816" y="938"/>
                  </a:lnTo>
                  <a:lnTo>
                    <a:pt x="889" y="722"/>
                  </a:lnTo>
                  <a:lnTo>
                    <a:pt x="941" y="555"/>
                  </a:lnTo>
                  <a:lnTo>
                    <a:pt x="959" y="491"/>
                  </a:lnTo>
                  <a:lnTo>
                    <a:pt x="972" y="437"/>
                  </a:lnTo>
                  <a:lnTo>
                    <a:pt x="979" y="397"/>
                  </a:lnTo>
                  <a:lnTo>
                    <a:pt x="981" y="381"/>
                  </a:lnTo>
                  <a:lnTo>
                    <a:pt x="982" y="368"/>
                  </a:lnTo>
                  <a:lnTo>
                    <a:pt x="982" y="367"/>
                  </a:lnTo>
                  <a:lnTo>
                    <a:pt x="982" y="366"/>
                  </a:lnTo>
                  <a:lnTo>
                    <a:pt x="982" y="365"/>
                  </a:lnTo>
                  <a:lnTo>
                    <a:pt x="981" y="363"/>
                  </a:lnTo>
                  <a:lnTo>
                    <a:pt x="981" y="362"/>
                  </a:lnTo>
                  <a:lnTo>
                    <a:pt x="981" y="362"/>
                  </a:lnTo>
                  <a:lnTo>
                    <a:pt x="980" y="361"/>
                  </a:lnTo>
                  <a:lnTo>
                    <a:pt x="980" y="360"/>
                  </a:lnTo>
                  <a:lnTo>
                    <a:pt x="979" y="360"/>
                  </a:lnTo>
                  <a:lnTo>
                    <a:pt x="978" y="359"/>
                  </a:lnTo>
                  <a:lnTo>
                    <a:pt x="978" y="359"/>
                  </a:lnTo>
                  <a:lnTo>
                    <a:pt x="977" y="359"/>
                  </a:lnTo>
                  <a:lnTo>
                    <a:pt x="976" y="357"/>
                  </a:lnTo>
                  <a:lnTo>
                    <a:pt x="975" y="358"/>
                  </a:lnTo>
                  <a:lnTo>
                    <a:pt x="974" y="358"/>
                  </a:lnTo>
                  <a:lnTo>
                    <a:pt x="973" y="358"/>
                  </a:lnTo>
                  <a:lnTo>
                    <a:pt x="960" y="359"/>
                  </a:lnTo>
                  <a:lnTo>
                    <a:pt x="947" y="362"/>
                  </a:lnTo>
                  <a:lnTo>
                    <a:pt x="932" y="368"/>
                  </a:lnTo>
                  <a:lnTo>
                    <a:pt x="916" y="375"/>
                  </a:lnTo>
                  <a:lnTo>
                    <a:pt x="899" y="385"/>
                  </a:lnTo>
                  <a:lnTo>
                    <a:pt x="881" y="396"/>
                  </a:lnTo>
                  <a:lnTo>
                    <a:pt x="841" y="426"/>
                  </a:lnTo>
                  <a:lnTo>
                    <a:pt x="797" y="464"/>
                  </a:lnTo>
                  <a:lnTo>
                    <a:pt x="749" y="510"/>
                  </a:lnTo>
                  <a:lnTo>
                    <a:pt x="697" y="56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54760" y="3468600"/>
              <a:ext cx="596880" cy="779400"/>
            </a:xfrm>
            <a:custGeom>
              <a:avLst/>
              <a:gdLst/>
              <a:ahLst/>
              <a:rect l="l" t="t" r="r" b="b"/>
              <a:pathLst>
                <a:path w="1656" h="2166">
                  <a:moveTo>
                    <a:pt x="1374" y="44"/>
                  </a:moveTo>
                  <a:lnTo>
                    <a:pt x="1567" y="0"/>
                  </a:lnTo>
                  <a:lnTo>
                    <a:pt x="1420" y="620"/>
                  </a:lnTo>
                  <a:lnTo>
                    <a:pt x="1377" y="795"/>
                  </a:lnTo>
                  <a:lnTo>
                    <a:pt x="1336" y="982"/>
                  </a:lnTo>
                  <a:lnTo>
                    <a:pt x="1296" y="1181"/>
                  </a:lnTo>
                  <a:lnTo>
                    <a:pt x="1258" y="1392"/>
                  </a:lnTo>
                  <a:lnTo>
                    <a:pt x="1240" y="1497"/>
                  </a:lnTo>
                  <a:lnTo>
                    <a:pt x="1227" y="1582"/>
                  </a:lnTo>
                  <a:lnTo>
                    <a:pt x="1220" y="1646"/>
                  </a:lnTo>
                  <a:lnTo>
                    <a:pt x="1218" y="1671"/>
                  </a:lnTo>
                  <a:lnTo>
                    <a:pt x="1217" y="1690"/>
                  </a:lnTo>
                  <a:lnTo>
                    <a:pt x="1217" y="1696"/>
                  </a:lnTo>
                  <a:lnTo>
                    <a:pt x="1217" y="1701"/>
                  </a:lnTo>
                  <a:lnTo>
                    <a:pt x="1218" y="1704"/>
                  </a:lnTo>
                  <a:lnTo>
                    <a:pt x="1218" y="1706"/>
                  </a:lnTo>
                  <a:lnTo>
                    <a:pt x="1219" y="1707"/>
                  </a:lnTo>
                  <a:lnTo>
                    <a:pt x="1219" y="1708"/>
                  </a:lnTo>
                  <a:lnTo>
                    <a:pt x="1220" y="1710"/>
                  </a:lnTo>
                  <a:lnTo>
                    <a:pt x="1220" y="1711"/>
                  </a:lnTo>
                  <a:lnTo>
                    <a:pt x="1221" y="1712"/>
                  </a:lnTo>
                  <a:lnTo>
                    <a:pt x="1221" y="1712"/>
                  </a:lnTo>
                  <a:lnTo>
                    <a:pt x="1221" y="1712"/>
                  </a:lnTo>
                  <a:lnTo>
                    <a:pt x="1222" y="1712"/>
                  </a:lnTo>
                  <a:lnTo>
                    <a:pt x="1222" y="1713"/>
                  </a:lnTo>
                  <a:lnTo>
                    <a:pt x="1223" y="1713"/>
                  </a:lnTo>
                  <a:lnTo>
                    <a:pt x="1223" y="1713"/>
                  </a:lnTo>
                  <a:lnTo>
                    <a:pt x="1224" y="1713"/>
                  </a:lnTo>
                  <a:lnTo>
                    <a:pt x="1224" y="1713"/>
                  </a:lnTo>
                  <a:lnTo>
                    <a:pt x="1227" y="1712"/>
                  </a:lnTo>
                  <a:lnTo>
                    <a:pt x="1230" y="1711"/>
                  </a:lnTo>
                  <a:lnTo>
                    <a:pt x="1233" y="1711"/>
                  </a:lnTo>
                  <a:lnTo>
                    <a:pt x="1237" y="1709"/>
                  </a:lnTo>
                  <a:lnTo>
                    <a:pt x="1245" y="1705"/>
                  </a:lnTo>
                  <a:lnTo>
                    <a:pt x="1254" y="1701"/>
                  </a:lnTo>
                  <a:lnTo>
                    <a:pt x="1264" y="1695"/>
                  </a:lnTo>
                  <a:lnTo>
                    <a:pt x="1276" y="1687"/>
                  </a:lnTo>
                  <a:lnTo>
                    <a:pt x="1302" y="1668"/>
                  </a:lnTo>
                  <a:lnTo>
                    <a:pt x="1360" y="1621"/>
                  </a:lnTo>
                  <a:lnTo>
                    <a:pt x="1422" y="1568"/>
                  </a:lnTo>
                  <a:lnTo>
                    <a:pt x="1487" y="1507"/>
                  </a:lnTo>
                  <a:lnTo>
                    <a:pt x="1556" y="1440"/>
                  </a:lnTo>
                  <a:lnTo>
                    <a:pt x="1655" y="1567"/>
                  </a:lnTo>
                  <a:lnTo>
                    <a:pt x="1463" y="1787"/>
                  </a:lnTo>
                  <a:lnTo>
                    <a:pt x="1398" y="1856"/>
                  </a:lnTo>
                  <a:lnTo>
                    <a:pt x="1374" y="1881"/>
                  </a:lnTo>
                  <a:lnTo>
                    <a:pt x="1355" y="1899"/>
                  </a:lnTo>
                  <a:lnTo>
                    <a:pt x="1292" y="1950"/>
                  </a:lnTo>
                  <a:lnTo>
                    <a:pt x="1230" y="1997"/>
                  </a:lnTo>
                  <a:lnTo>
                    <a:pt x="1200" y="2016"/>
                  </a:lnTo>
                  <a:lnTo>
                    <a:pt x="1170" y="2035"/>
                  </a:lnTo>
                  <a:lnTo>
                    <a:pt x="1140" y="2052"/>
                  </a:lnTo>
                  <a:lnTo>
                    <a:pt x="1111" y="2067"/>
                  </a:lnTo>
                  <a:lnTo>
                    <a:pt x="1092" y="2077"/>
                  </a:lnTo>
                  <a:lnTo>
                    <a:pt x="1072" y="2085"/>
                  </a:lnTo>
                  <a:lnTo>
                    <a:pt x="1053" y="2093"/>
                  </a:lnTo>
                  <a:lnTo>
                    <a:pt x="1033" y="2099"/>
                  </a:lnTo>
                  <a:lnTo>
                    <a:pt x="1014" y="2104"/>
                  </a:lnTo>
                  <a:lnTo>
                    <a:pt x="993" y="2108"/>
                  </a:lnTo>
                  <a:lnTo>
                    <a:pt x="974" y="2112"/>
                  </a:lnTo>
                  <a:lnTo>
                    <a:pt x="954" y="2113"/>
                  </a:lnTo>
                  <a:lnTo>
                    <a:pt x="938" y="2113"/>
                  </a:lnTo>
                  <a:lnTo>
                    <a:pt x="922" y="2114"/>
                  </a:lnTo>
                  <a:lnTo>
                    <a:pt x="908" y="2111"/>
                  </a:lnTo>
                  <a:lnTo>
                    <a:pt x="895" y="2109"/>
                  </a:lnTo>
                  <a:lnTo>
                    <a:pt x="888" y="2106"/>
                  </a:lnTo>
                  <a:lnTo>
                    <a:pt x="882" y="2104"/>
                  </a:lnTo>
                  <a:lnTo>
                    <a:pt x="876" y="2101"/>
                  </a:lnTo>
                  <a:lnTo>
                    <a:pt x="871" y="2098"/>
                  </a:lnTo>
                  <a:lnTo>
                    <a:pt x="866" y="2095"/>
                  </a:lnTo>
                  <a:lnTo>
                    <a:pt x="860" y="2091"/>
                  </a:lnTo>
                  <a:lnTo>
                    <a:pt x="856" y="2087"/>
                  </a:lnTo>
                  <a:lnTo>
                    <a:pt x="851" y="2082"/>
                  </a:lnTo>
                  <a:lnTo>
                    <a:pt x="846" y="2078"/>
                  </a:lnTo>
                  <a:lnTo>
                    <a:pt x="842" y="2073"/>
                  </a:lnTo>
                  <a:lnTo>
                    <a:pt x="838" y="2068"/>
                  </a:lnTo>
                  <a:lnTo>
                    <a:pt x="835" y="2063"/>
                  </a:lnTo>
                  <a:lnTo>
                    <a:pt x="831" y="2056"/>
                  </a:lnTo>
                  <a:lnTo>
                    <a:pt x="828" y="2051"/>
                  </a:lnTo>
                  <a:lnTo>
                    <a:pt x="826" y="2044"/>
                  </a:lnTo>
                  <a:lnTo>
                    <a:pt x="823" y="2038"/>
                  </a:lnTo>
                  <a:lnTo>
                    <a:pt x="821" y="2032"/>
                  </a:lnTo>
                  <a:lnTo>
                    <a:pt x="819" y="2024"/>
                  </a:lnTo>
                  <a:lnTo>
                    <a:pt x="816" y="2009"/>
                  </a:lnTo>
                  <a:lnTo>
                    <a:pt x="815" y="1993"/>
                  </a:lnTo>
                  <a:lnTo>
                    <a:pt x="814" y="1976"/>
                  </a:lnTo>
                  <a:lnTo>
                    <a:pt x="814" y="1965"/>
                  </a:lnTo>
                  <a:lnTo>
                    <a:pt x="815" y="1953"/>
                  </a:lnTo>
                  <a:lnTo>
                    <a:pt x="816" y="1941"/>
                  </a:lnTo>
                  <a:lnTo>
                    <a:pt x="818" y="1929"/>
                  </a:lnTo>
                  <a:lnTo>
                    <a:pt x="824" y="1901"/>
                  </a:lnTo>
                  <a:lnTo>
                    <a:pt x="831" y="1870"/>
                  </a:lnTo>
                  <a:lnTo>
                    <a:pt x="907" y="1621"/>
                  </a:lnTo>
                  <a:lnTo>
                    <a:pt x="881" y="1676"/>
                  </a:lnTo>
                  <a:lnTo>
                    <a:pt x="851" y="1728"/>
                  </a:lnTo>
                  <a:lnTo>
                    <a:pt x="817" y="1779"/>
                  </a:lnTo>
                  <a:lnTo>
                    <a:pt x="780" y="1827"/>
                  </a:lnTo>
                  <a:lnTo>
                    <a:pt x="738" y="1871"/>
                  </a:lnTo>
                  <a:lnTo>
                    <a:pt x="694" y="1915"/>
                  </a:lnTo>
                  <a:lnTo>
                    <a:pt x="645" y="1958"/>
                  </a:lnTo>
                  <a:lnTo>
                    <a:pt x="593" y="1996"/>
                  </a:lnTo>
                  <a:lnTo>
                    <a:pt x="551" y="2034"/>
                  </a:lnTo>
                  <a:lnTo>
                    <a:pt x="510" y="2066"/>
                  </a:lnTo>
                  <a:lnTo>
                    <a:pt x="471" y="2095"/>
                  </a:lnTo>
                  <a:lnTo>
                    <a:pt x="433" y="2117"/>
                  </a:lnTo>
                  <a:lnTo>
                    <a:pt x="396" y="2137"/>
                  </a:lnTo>
                  <a:lnTo>
                    <a:pt x="361" y="2150"/>
                  </a:lnTo>
                  <a:lnTo>
                    <a:pt x="343" y="2156"/>
                  </a:lnTo>
                  <a:lnTo>
                    <a:pt x="326" y="2160"/>
                  </a:lnTo>
                  <a:lnTo>
                    <a:pt x="309" y="2164"/>
                  </a:lnTo>
                  <a:lnTo>
                    <a:pt x="293" y="2165"/>
                  </a:lnTo>
                  <a:lnTo>
                    <a:pt x="277" y="2165"/>
                  </a:lnTo>
                  <a:lnTo>
                    <a:pt x="261" y="2165"/>
                  </a:lnTo>
                  <a:lnTo>
                    <a:pt x="245" y="2163"/>
                  </a:lnTo>
                  <a:lnTo>
                    <a:pt x="230" y="2159"/>
                  </a:lnTo>
                  <a:lnTo>
                    <a:pt x="216" y="2154"/>
                  </a:lnTo>
                  <a:lnTo>
                    <a:pt x="202" y="2147"/>
                  </a:lnTo>
                  <a:lnTo>
                    <a:pt x="197" y="2144"/>
                  </a:lnTo>
                  <a:lnTo>
                    <a:pt x="197" y="2144"/>
                  </a:lnTo>
                  <a:lnTo>
                    <a:pt x="188" y="2138"/>
                  </a:lnTo>
                  <a:lnTo>
                    <a:pt x="174" y="2128"/>
                  </a:lnTo>
                  <a:lnTo>
                    <a:pt x="161" y="2115"/>
                  </a:lnTo>
                  <a:lnTo>
                    <a:pt x="149" y="2103"/>
                  </a:lnTo>
                  <a:lnTo>
                    <a:pt x="137" y="2088"/>
                  </a:lnTo>
                  <a:lnTo>
                    <a:pt x="124" y="2072"/>
                  </a:lnTo>
                  <a:lnTo>
                    <a:pt x="113" y="2053"/>
                  </a:lnTo>
                  <a:lnTo>
                    <a:pt x="102" y="2035"/>
                  </a:lnTo>
                  <a:lnTo>
                    <a:pt x="81" y="1992"/>
                  </a:lnTo>
                  <a:lnTo>
                    <a:pt x="71" y="1984"/>
                  </a:lnTo>
                  <a:lnTo>
                    <a:pt x="62" y="1974"/>
                  </a:lnTo>
                  <a:lnTo>
                    <a:pt x="53" y="1963"/>
                  </a:lnTo>
                  <a:lnTo>
                    <a:pt x="46" y="1952"/>
                  </a:lnTo>
                  <a:lnTo>
                    <a:pt x="38" y="1939"/>
                  </a:lnTo>
                  <a:lnTo>
                    <a:pt x="32" y="1924"/>
                  </a:lnTo>
                  <a:lnTo>
                    <a:pt x="26" y="1909"/>
                  </a:lnTo>
                  <a:lnTo>
                    <a:pt x="20" y="1893"/>
                  </a:lnTo>
                  <a:lnTo>
                    <a:pt x="16" y="1874"/>
                  </a:lnTo>
                  <a:lnTo>
                    <a:pt x="11" y="1855"/>
                  </a:lnTo>
                  <a:lnTo>
                    <a:pt x="5" y="1813"/>
                  </a:lnTo>
                  <a:lnTo>
                    <a:pt x="1" y="1767"/>
                  </a:lnTo>
                  <a:lnTo>
                    <a:pt x="0" y="1715"/>
                  </a:lnTo>
                  <a:lnTo>
                    <a:pt x="2" y="1652"/>
                  </a:lnTo>
                  <a:lnTo>
                    <a:pt x="7" y="1587"/>
                  </a:lnTo>
                  <a:lnTo>
                    <a:pt x="16" y="1521"/>
                  </a:lnTo>
                  <a:lnTo>
                    <a:pt x="28" y="1453"/>
                  </a:lnTo>
                  <a:lnTo>
                    <a:pt x="44" y="1382"/>
                  </a:lnTo>
                  <a:lnTo>
                    <a:pt x="63" y="1311"/>
                  </a:lnTo>
                  <a:lnTo>
                    <a:pt x="86" y="1237"/>
                  </a:lnTo>
                  <a:lnTo>
                    <a:pt x="112" y="1163"/>
                  </a:lnTo>
                  <a:lnTo>
                    <a:pt x="142" y="1088"/>
                  </a:lnTo>
                  <a:lnTo>
                    <a:pt x="173" y="1015"/>
                  </a:lnTo>
                  <a:lnTo>
                    <a:pt x="197" y="963"/>
                  </a:lnTo>
                  <a:lnTo>
                    <a:pt x="197" y="961"/>
                  </a:lnTo>
                  <a:lnTo>
                    <a:pt x="207" y="944"/>
                  </a:lnTo>
                  <a:lnTo>
                    <a:pt x="243" y="873"/>
                  </a:lnTo>
                  <a:lnTo>
                    <a:pt x="282" y="803"/>
                  </a:lnTo>
                  <a:lnTo>
                    <a:pt x="323" y="735"/>
                  </a:lnTo>
                  <a:lnTo>
                    <a:pt x="366" y="670"/>
                  </a:lnTo>
                  <a:lnTo>
                    <a:pt x="412" y="605"/>
                  </a:lnTo>
                  <a:lnTo>
                    <a:pt x="459" y="544"/>
                  </a:lnTo>
                  <a:lnTo>
                    <a:pt x="507" y="487"/>
                  </a:lnTo>
                  <a:lnTo>
                    <a:pt x="557" y="433"/>
                  </a:lnTo>
                  <a:lnTo>
                    <a:pt x="606" y="384"/>
                  </a:lnTo>
                  <a:lnTo>
                    <a:pt x="656" y="339"/>
                  </a:lnTo>
                  <a:lnTo>
                    <a:pt x="706" y="299"/>
                  </a:lnTo>
                  <a:lnTo>
                    <a:pt x="757" y="262"/>
                  </a:lnTo>
                  <a:lnTo>
                    <a:pt x="809" y="228"/>
                  </a:lnTo>
                  <a:lnTo>
                    <a:pt x="852" y="205"/>
                  </a:lnTo>
                  <a:lnTo>
                    <a:pt x="897" y="185"/>
                  </a:lnTo>
                  <a:lnTo>
                    <a:pt x="945" y="168"/>
                  </a:lnTo>
                  <a:lnTo>
                    <a:pt x="996" y="153"/>
                  </a:lnTo>
                  <a:lnTo>
                    <a:pt x="1051" y="142"/>
                  </a:lnTo>
                  <a:lnTo>
                    <a:pt x="1107" y="133"/>
                  </a:lnTo>
                  <a:lnTo>
                    <a:pt x="1166" y="126"/>
                  </a:lnTo>
                  <a:lnTo>
                    <a:pt x="1228" y="122"/>
                  </a:lnTo>
                  <a:lnTo>
                    <a:pt x="1257" y="121"/>
                  </a:lnTo>
                  <a:lnTo>
                    <a:pt x="1284" y="122"/>
                  </a:lnTo>
                  <a:lnTo>
                    <a:pt x="1309" y="123"/>
                  </a:lnTo>
                  <a:lnTo>
                    <a:pt x="1321" y="125"/>
                  </a:lnTo>
                  <a:lnTo>
                    <a:pt x="1332" y="127"/>
                  </a:lnTo>
                  <a:close/>
                  <a:moveTo>
                    <a:pt x="1121" y="468"/>
                  </a:moveTo>
                  <a:lnTo>
                    <a:pt x="1087" y="462"/>
                  </a:lnTo>
                  <a:lnTo>
                    <a:pt x="1053" y="459"/>
                  </a:lnTo>
                  <a:lnTo>
                    <a:pt x="1019" y="459"/>
                  </a:lnTo>
                  <a:lnTo>
                    <a:pt x="984" y="459"/>
                  </a:lnTo>
                  <a:lnTo>
                    <a:pt x="945" y="462"/>
                  </a:lnTo>
                  <a:lnTo>
                    <a:pt x="908" y="470"/>
                  </a:lnTo>
                  <a:lnTo>
                    <a:pt x="871" y="480"/>
                  </a:lnTo>
                  <a:lnTo>
                    <a:pt x="836" y="492"/>
                  </a:lnTo>
                  <a:lnTo>
                    <a:pt x="801" y="508"/>
                  </a:lnTo>
                  <a:lnTo>
                    <a:pt x="768" y="527"/>
                  </a:lnTo>
                  <a:lnTo>
                    <a:pt x="737" y="550"/>
                  </a:lnTo>
                  <a:lnTo>
                    <a:pt x="706" y="576"/>
                  </a:lnTo>
                  <a:lnTo>
                    <a:pt x="691" y="589"/>
                  </a:lnTo>
                  <a:lnTo>
                    <a:pt x="677" y="605"/>
                  </a:lnTo>
                  <a:lnTo>
                    <a:pt x="647" y="640"/>
                  </a:lnTo>
                  <a:lnTo>
                    <a:pt x="618" y="681"/>
                  </a:lnTo>
                  <a:lnTo>
                    <a:pt x="590" y="727"/>
                  </a:lnTo>
                  <a:lnTo>
                    <a:pt x="562" y="778"/>
                  </a:lnTo>
                  <a:lnTo>
                    <a:pt x="534" y="836"/>
                  </a:lnTo>
                  <a:lnTo>
                    <a:pt x="506" y="899"/>
                  </a:lnTo>
                  <a:lnTo>
                    <a:pt x="479" y="967"/>
                  </a:lnTo>
                  <a:lnTo>
                    <a:pt x="454" y="1038"/>
                  </a:lnTo>
                  <a:lnTo>
                    <a:pt x="432" y="1108"/>
                  </a:lnTo>
                  <a:lnTo>
                    <a:pt x="414" y="1179"/>
                  </a:lnTo>
                  <a:lnTo>
                    <a:pt x="399" y="1250"/>
                  </a:lnTo>
                  <a:lnTo>
                    <a:pt x="387" y="1320"/>
                  </a:lnTo>
                  <a:lnTo>
                    <a:pt x="379" y="1390"/>
                  </a:lnTo>
                  <a:lnTo>
                    <a:pt x="374" y="1459"/>
                  </a:lnTo>
                  <a:lnTo>
                    <a:pt x="372" y="1530"/>
                  </a:lnTo>
                  <a:lnTo>
                    <a:pt x="373" y="1563"/>
                  </a:lnTo>
                  <a:lnTo>
                    <a:pt x="374" y="1594"/>
                  </a:lnTo>
                  <a:lnTo>
                    <a:pt x="377" y="1621"/>
                  </a:lnTo>
                  <a:lnTo>
                    <a:pt x="381" y="1647"/>
                  </a:lnTo>
                  <a:lnTo>
                    <a:pt x="386" y="1669"/>
                  </a:lnTo>
                  <a:lnTo>
                    <a:pt x="391" y="1688"/>
                  </a:lnTo>
                  <a:lnTo>
                    <a:pt x="395" y="1696"/>
                  </a:lnTo>
                  <a:lnTo>
                    <a:pt x="398" y="1704"/>
                  </a:lnTo>
                  <a:lnTo>
                    <a:pt x="402" y="1711"/>
                  </a:lnTo>
                  <a:lnTo>
                    <a:pt x="406" y="1717"/>
                  </a:lnTo>
                  <a:lnTo>
                    <a:pt x="410" y="1723"/>
                  </a:lnTo>
                  <a:lnTo>
                    <a:pt x="415" y="1729"/>
                  </a:lnTo>
                  <a:lnTo>
                    <a:pt x="419" y="1734"/>
                  </a:lnTo>
                  <a:lnTo>
                    <a:pt x="424" y="1739"/>
                  </a:lnTo>
                  <a:lnTo>
                    <a:pt x="429" y="1742"/>
                  </a:lnTo>
                  <a:lnTo>
                    <a:pt x="434" y="1747"/>
                  </a:lnTo>
                  <a:lnTo>
                    <a:pt x="439" y="1750"/>
                  </a:lnTo>
                  <a:lnTo>
                    <a:pt x="444" y="1753"/>
                  </a:lnTo>
                  <a:lnTo>
                    <a:pt x="449" y="1756"/>
                  </a:lnTo>
                  <a:lnTo>
                    <a:pt x="455" y="1758"/>
                  </a:lnTo>
                  <a:lnTo>
                    <a:pt x="461" y="1760"/>
                  </a:lnTo>
                  <a:lnTo>
                    <a:pt x="466" y="1761"/>
                  </a:lnTo>
                  <a:lnTo>
                    <a:pt x="472" y="1763"/>
                  </a:lnTo>
                  <a:lnTo>
                    <a:pt x="478" y="1762"/>
                  </a:lnTo>
                  <a:lnTo>
                    <a:pt x="485" y="1763"/>
                  </a:lnTo>
                  <a:lnTo>
                    <a:pt x="491" y="1762"/>
                  </a:lnTo>
                  <a:lnTo>
                    <a:pt x="506" y="1760"/>
                  </a:lnTo>
                  <a:lnTo>
                    <a:pt x="521" y="1758"/>
                  </a:lnTo>
                  <a:lnTo>
                    <a:pt x="537" y="1753"/>
                  </a:lnTo>
                  <a:lnTo>
                    <a:pt x="552" y="1749"/>
                  </a:lnTo>
                  <a:lnTo>
                    <a:pt x="568" y="1742"/>
                  </a:lnTo>
                  <a:lnTo>
                    <a:pt x="583" y="1733"/>
                  </a:lnTo>
                  <a:lnTo>
                    <a:pt x="616" y="1715"/>
                  </a:lnTo>
                  <a:lnTo>
                    <a:pt x="648" y="1690"/>
                  </a:lnTo>
                  <a:lnTo>
                    <a:pt x="682" y="1661"/>
                  </a:lnTo>
                  <a:lnTo>
                    <a:pt x="716" y="1627"/>
                  </a:lnTo>
                  <a:lnTo>
                    <a:pt x="751" y="1588"/>
                  </a:lnTo>
                  <a:lnTo>
                    <a:pt x="785" y="1545"/>
                  </a:lnTo>
                  <a:lnTo>
                    <a:pt x="818" y="1496"/>
                  </a:lnTo>
                  <a:lnTo>
                    <a:pt x="847" y="1445"/>
                  </a:lnTo>
                  <a:lnTo>
                    <a:pt x="875" y="1389"/>
                  </a:lnTo>
                  <a:lnTo>
                    <a:pt x="900" y="1328"/>
                  </a:lnTo>
                  <a:lnTo>
                    <a:pt x="923" y="1263"/>
                  </a:lnTo>
                  <a:lnTo>
                    <a:pt x="944" y="1195"/>
                  </a:lnTo>
                  <a:lnTo>
                    <a:pt x="962" y="112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76840" y="3481560"/>
              <a:ext cx="635040" cy="699840"/>
            </a:xfrm>
            <a:custGeom>
              <a:avLst/>
              <a:gdLst/>
              <a:ahLst/>
              <a:rect l="l" t="t" r="r" b="b"/>
              <a:pathLst>
                <a:path w="1763" h="1946">
                  <a:moveTo>
                    <a:pt x="1762" y="1369"/>
                  </a:moveTo>
                  <a:lnTo>
                    <a:pt x="1663" y="1492"/>
                  </a:lnTo>
                  <a:lnTo>
                    <a:pt x="1570" y="1601"/>
                  </a:lnTo>
                  <a:lnTo>
                    <a:pt x="1485" y="1695"/>
                  </a:lnTo>
                  <a:lnTo>
                    <a:pt x="1405" y="1773"/>
                  </a:lnTo>
                  <a:lnTo>
                    <a:pt x="1332" y="1835"/>
                  </a:lnTo>
                  <a:lnTo>
                    <a:pt x="1297" y="1860"/>
                  </a:lnTo>
                  <a:lnTo>
                    <a:pt x="1265" y="1881"/>
                  </a:lnTo>
                  <a:lnTo>
                    <a:pt x="1234" y="1898"/>
                  </a:lnTo>
                  <a:lnTo>
                    <a:pt x="1204" y="1912"/>
                  </a:lnTo>
                  <a:lnTo>
                    <a:pt x="1177" y="1921"/>
                  </a:lnTo>
                  <a:lnTo>
                    <a:pt x="1151" y="1927"/>
                  </a:lnTo>
                  <a:lnTo>
                    <a:pt x="1142" y="1928"/>
                  </a:lnTo>
                  <a:lnTo>
                    <a:pt x="1134" y="1928"/>
                  </a:lnTo>
                  <a:lnTo>
                    <a:pt x="1125" y="1928"/>
                  </a:lnTo>
                  <a:lnTo>
                    <a:pt x="1117" y="1927"/>
                  </a:lnTo>
                  <a:lnTo>
                    <a:pt x="1108" y="1926"/>
                  </a:lnTo>
                  <a:lnTo>
                    <a:pt x="1100" y="1925"/>
                  </a:lnTo>
                  <a:lnTo>
                    <a:pt x="1092" y="1922"/>
                  </a:lnTo>
                  <a:lnTo>
                    <a:pt x="1084" y="1919"/>
                  </a:lnTo>
                  <a:lnTo>
                    <a:pt x="1075" y="1916"/>
                  </a:lnTo>
                  <a:lnTo>
                    <a:pt x="1068" y="1912"/>
                  </a:lnTo>
                  <a:lnTo>
                    <a:pt x="1052" y="1902"/>
                  </a:lnTo>
                  <a:lnTo>
                    <a:pt x="1037" y="1891"/>
                  </a:lnTo>
                  <a:lnTo>
                    <a:pt x="1022" y="1877"/>
                  </a:lnTo>
                  <a:lnTo>
                    <a:pt x="1015" y="1870"/>
                  </a:lnTo>
                  <a:lnTo>
                    <a:pt x="1010" y="1864"/>
                  </a:lnTo>
                  <a:lnTo>
                    <a:pt x="1010" y="1864"/>
                  </a:lnTo>
                  <a:lnTo>
                    <a:pt x="1008" y="1862"/>
                  </a:lnTo>
                  <a:lnTo>
                    <a:pt x="1002" y="1853"/>
                  </a:lnTo>
                  <a:lnTo>
                    <a:pt x="996" y="1844"/>
                  </a:lnTo>
                  <a:lnTo>
                    <a:pt x="991" y="1835"/>
                  </a:lnTo>
                  <a:lnTo>
                    <a:pt x="986" y="1825"/>
                  </a:lnTo>
                  <a:lnTo>
                    <a:pt x="982" y="1814"/>
                  </a:lnTo>
                  <a:lnTo>
                    <a:pt x="978" y="1805"/>
                  </a:lnTo>
                  <a:lnTo>
                    <a:pt x="971" y="1782"/>
                  </a:lnTo>
                  <a:lnTo>
                    <a:pt x="967" y="1758"/>
                  </a:lnTo>
                  <a:lnTo>
                    <a:pt x="964" y="1732"/>
                  </a:lnTo>
                  <a:lnTo>
                    <a:pt x="963" y="1705"/>
                  </a:lnTo>
                  <a:lnTo>
                    <a:pt x="964" y="1675"/>
                  </a:lnTo>
                  <a:lnTo>
                    <a:pt x="965" y="1642"/>
                  </a:lnTo>
                  <a:lnTo>
                    <a:pt x="969" y="1609"/>
                  </a:lnTo>
                  <a:lnTo>
                    <a:pt x="973" y="1573"/>
                  </a:lnTo>
                  <a:lnTo>
                    <a:pt x="985" y="1495"/>
                  </a:lnTo>
                  <a:lnTo>
                    <a:pt x="1003" y="1409"/>
                  </a:lnTo>
                  <a:lnTo>
                    <a:pt x="1010" y="1378"/>
                  </a:lnTo>
                  <a:lnTo>
                    <a:pt x="1010" y="1376"/>
                  </a:lnTo>
                  <a:lnTo>
                    <a:pt x="1094" y="1032"/>
                  </a:lnTo>
                  <a:lnTo>
                    <a:pt x="1010" y="1040"/>
                  </a:lnTo>
                  <a:lnTo>
                    <a:pt x="1010" y="1040"/>
                  </a:lnTo>
                  <a:lnTo>
                    <a:pt x="634" y="1064"/>
                  </a:lnTo>
                  <a:lnTo>
                    <a:pt x="454" y="1916"/>
                  </a:lnTo>
                  <a:lnTo>
                    <a:pt x="94" y="1945"/>
                  </a:lnTo>
                  <a:lnTo>
                    <a:pt x="96" y="1924"/>
                  </a:lnTo>
                  <a:lnTo>
                    <a:pt x="98" y="1902"/>
                  </a:lnTo>
                  <a:lnTo>
                    <a:pt x="106" y="1848"/>
                  </a:lnTo>
                  <a:lnTo>
                    <a:pt x="119" y="1783"/>
                  </a:lnTo>
                  <a:lnTo>
                    <a:pt x="136" y="1708"/>
                  </a:lnTo>
                  <a:lnTo>
                    <a:pt x="237" y="1255"/>
                  </a:lnTo>
                  <a:lnTo>
                    <a:pt x="409" y="471"/>
                  </a:lnTo>
                  <a:lnTo>
                    <a:pt x="415" y="443"/>
                  </a:lnTo>
                  <a:lnTo>
                    <a:pt x="419" y="421"/>
                  </a:lnTo>
                  <a:lnTo>
                    <a:pt x="420" y="410"/>
                  </a:lnTo>
                  <a:lnTo>
                    <a:pt x="421" y="401"/>
                  </a:lnTo>
                  <a:lnTo>
                    <a:pt x="422" y="392"/>
                  </a:lnTo>
                  <a:lnTo>
                    <a:pt x="422" y="386"/>
                  </a:lnTo>
                  <a:lnTo>
                    <a:pt x="422" y="370"/>
                  </a:lnTo>
                  <a:lnTo>
                    <a:pt x="422" y="368"/>
                  </a:lnTo>
                  <a:lnTo>
                    <a:pt x="422" y="365"/>
                  </a:lnTo>
                  <a:lnTo>
                    <a:pt x="421" y="365"/>
                  </a:lnTo>
                  <a:lnTo>
                    <a:pt x="421" y="365"/>
                  </a:lnTo>
                  <a:lnTo>
                    <a:pt x="421" y="364"/>
                  </a:lnTo>
                  <a:lnTo>
                    <a:pt x="421" y="364"/>
                  </a:lnTo>
                  <a:lnTo>
                    <a:pt x="421" y="364"/>
                  </a:lnTo>
                  <a:lnTo>
                    <a:pt x="421" y="364"/>
                  </a:lnTo>
                  <a:lnTo>
                    <a:pt x="421" y="364"/>
                  </a:lnTo>
                  <a:lnTo>
                    <a:pt x="421" y="364"/>
                  </a:lnTo>
                  <a:lnTo>
                    <a:pt x="421" y="364"/>
                  </a:lnTo>
                  <a:lnTo>
                    <a:pt x="417" y="364"/>
                  </a:lnTo>
                  <a:lnTo>
                    <a:pt x="412" y="366"/>
                  </a:lnTo>
                  <a:lnTo>
                    <a:pt x="402" y="368"/>
                  </a:lnTo>
                  <a:lnTo>
                    <a:pt x="390" y="374"/>
                  </a:lnTo>
                  <a:lnTo>
                    <a:pt x="377" y="381"/>
                  </a:lnTo>
                  <a:lnTo>
                    <a:pt x="348" y="400"/>
                  </a:lnTo>
                  <a:lnTo>
                    <a:pt x="314" y="428"/>
                  </a:lnTo>
                  <a:lnTo>
                    <a:pt x="275" y="463"/>
                  </a:lnTo>
                  <a:lnTo>
                    <a:pt x="230" y="504"/>
                  </a:lnTo>
                  <a:lnTo>
                    <a:pt x="127" y="612"/>
                  </a:lnTo>
                  <a:lnTo>
                    <a:pt x="0" y="503"/>
                  </a:lnTo>
                  <a:lnTo>
                    <a:pt x="104" y="387"/>
                  </a:lnTo>
                  <a:lnTo>
                    <a:pt x="202" y="286"/>
                  </a:lnTo>
                  <a:lnTo>
                    <a:pt x="294" y="201"/>
                  </a:lnTo>
                  <a:lnTo>
                    <a:pt x="378" y="131"/>
                  </a:lnTo>
                  <a:lnTo>
                    <a:pt x="456" y="76"/>
                  </a:lnTo>
                  <a:lnTo>
                    <a:pt x="493" y="54"/>
                  </a:lnTo>
                  <a:lnTo>
                    <a:pt x="528" y="36"/>
                  </a:lnTo>
                  <a:lnTo>
                    <a:pt x="561" y="22"/>
                  </a:lnTo>
                  <a:lnTo>
                    <a:pt x="593" y="12"/>
                  </a:lnTo>
                  <a:lnTo>
                    <a:pt x="623" y="5"/>
                  </a:lnTo>
                  <a:lnTo>
                    <a:pt x="652" y="2"/>
                  </a:lnTo>
                  <a:lnTo>
                    <a:pt x="670" y="2"/>
                  </a:lnTo>
                  <a:lnTo>
                    <a:pt x="686" y="4"/>
                  </a:lnTo>
                  <a:lnTo>
                    <a:pt x="702" y="6"/>
                  </a:lnTo>
                  <a:lnTo>
                    <a:pt x="716" y="11"/>
                  </a:lnTo>
                  <a:lnTo>
                    <a:pt x="730" y="19"/>
                  </a:lnTo>
                  <a:lnTo>
                    <a:pt x="742" y="26"/>
                  </a:lnTo>
                  <a:lnTo>
                    <a:pt x="753" y="36"/>
                  </a:lnTo>
                  <a:lnTo>
                    <a:pt x="763" y="48"/>
                  </a:lnTo>
                  <a:lnTo>
                    <a:pt x="772" y="61"/>
                  </a:lnTo>
                  <a:lnTo>
                    <a:pt x="779" y="75"/>
                  </a:lnTo>
                  <a:lnTo>
                    <a:pt x="786" y="91"/>
                  </a:lnTo>
                  <a:lnTo>
                    <a:pt x="791" y="109"/>
                  </a:lnTo>
                  <a:lnTo>
                    <a:pt x="795" y="129"/>
                  </a:lnTo>
                  <a:lnTo>
                    <a:pt x="798" y="150"/>
                  </a:lnTo>
                  <a:lnTo>
                    <a:pt x="799" y="172"/>
                  </a:lnTo>
                  <a:lnTo>
                    <a:pt x="800" y="197"/>
                  </a:lnTo>
                  <a:lnTo>
                    <a:pt x="798" y="240"/>
                  </a:lnTo>
                  <a:lnTo>
                    <a:pt x="792" y="295"/>
                  </a:lnTo>
                  <a:lnTo>
                    <a:pt x="783" y="360"/>
                  </a:lnTo>
                  <a:lnTo>
                    <a:pt x="769" y="436"/>
                  </a:lnTo>
                  <a:lnTo>
                    <a:pt x="729" y="618"/>
                  </a:lnTo>
                  <a:lnTo>
                    <a:pt x="674" y="842"/>
                  </a:lnTo>
                  <a:lnTo>
                    <a:pt x="1010" y="823"/>
                  </a:lnTo>
                  <a:lnTo>
                    <a:pt x="1010" y="823"/>
                  </a:lnTo>
                  <a:lnTo>
                    <a:pt x="1136" y="811"/>
                  </a:lnTo>
                  <a:lnTo>
                    <a:pt x="1321" y="22"/>
                  </a:lnTo>
                  <a:lnTo>
                    <a:pt x="1665" y="0"/>
                  </a:lnTo>
                  <a:lnTo>
                    <a:pt x="1483" y="798"/>
                  </a:lnTo>
                  <a:lnTo>
                    <a:pt x="1365" y="1305"/>
                  </a:lnTo>
                  <a:lnTo>
                    <a:pt x="1335" y="1455"/>
                  </a:lnTo>
                  <a:lnTo>
                    <a:pt x="1327" y="1503"/>
                  </a:lnTo>
                  <a:lnTo>
                    <a:pt x="1326" y="1519"/>
                  </a:lnTo>
                  <a:lnTo>
                    <a:pt x="1325" y="1533"/>
                  </a:lnTo>
                  <a:lnTo>
                    <a:pt x="1325" y="1541"/>
                  </a:lnTo>
                  <a:lnTo>
                    <a:pt x="1326" y="1550"/>
                  </a:lnTo>
                  <a:lnTo>
                    <a:pt x="1326" y="1553"/>
                  </a:lnTo>
                  <a:lnTo>
                    <a:pt x="1327" y="1556"/>
                  </a:lnTo>
                  <a:lnTo>
                    <a:pt x="1328" y="1560"/>
                  </a:lnTo>
                  <a:lnTo>
                    <a:pt x="1329" y="1562"/>
                  </a:lnTo>
                  <a:lnTo>
                    <a:pt x="1330" y="1564"/>
                  </a:lnTo>
                  <a:lnTo>
                    <a:pt x="1331" y="1566"/>
                  </a:lnTo>
                  <a:lnTo>
                    <a:pt x="1332" y="1567"/>
                  </a:lnTo>
                  <a:lnTo>
                    <a:pt x="1333" y="1569"/>
                  </a:lnTo>
                  <a:lnTo>
                    <a:pt x="1334" y="1569"/>
                  </a:lnTo>
                  <a:lnTo>
                    <a:pt x="1335" y="1570"/>
                  </a:lnTo>
                  <a:lnTo>
                    <a:pt x="1336" y="1570"/>
                  </a:lnTo>
                  <a:lnTo>
                    <a:pt x="1336" y="1570"/>
                  </a:lnTo>
                  <a:lnTo>
                    <a:pt x="1337" y="1571"/>
                  </a:lnTo>
                  <a:lnTo>
                    <a:pt x="1338" y="1571"/>
                  </a:lnTo>
                  <a:lnTo>
                    <a:pt x="1340" y="1570"/>
                  </a:lnTo>
                  <a:lnTo>
                    <a:pt x="1343" y="1570"/>
                  </a:lnTo>
                  <a:lnTo>
                    <a:pt x="1347" y="1568"/>
                  </a:lnTo>
                  <a:lnTo>
                    <a:pt x="1356" y="1564"/>
                  </a:lnTo>
                  <a:lnTo>
                    <a:pt x="1367" y="1557"/>
                  </a:lnTo>
                  <a:lnTo>
                    <a:pt x="1380" y="1548"/>
                  </a:lnTo>
                  <a:lnTo>
                    <a:pt x="1410" y="1524"/>
                  </a:lnTo>
                  <a:lnTo>
                    <a:pt x="1446" y="1489"/>
                  </a:lnTo>
                  <a:lnTo>
                    <a:pt x="1539" y="1391"/>
                  </a:lnTo>
                  <a:lnTo>
                    <a:pt x="1659" y="1258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42120" y="3436920"/>
              <a:ext cx="631800" cy="687240"/>
            </a:xfrm>
            <a:custGeom>
              <a:avLst/>
              <a:gdLst/>
              <a:ahLst/>
              <a:rect l="l" t="t" r="r" b="b"/>
              <a:pathLst>
                <a:path w="1756" h="1911">
                  <a:moveTo>
                    <a:pt x="1315" y="23"/>
                  </a:moveTo>
                  <a:lnTo>
                    <a:pt x="1661" y="0"/>
                  </a:lnTo>
                  <a:lnTo>
                    <a:pt x="1479" y="749"/>
                  </a:lnTo>
                  <a:lnTo>
                    <a:pt x="1360" y="1226"/>
                  </a:lnTo>
                  <a:lnTo>
                    <a:pt x="1330" y="1365"/>
                  </a:lnTo>
                  <a:lnTo>
                    <a:pt x="1322" y="1410"/>
                  </a:lnTo>
                  <a:lnTo>
                    <a:pt x="1321" y="1426"/>
                  </a:lnTo>
                  <a:lnTo>
                    <a:pt x="1320" y="1438"/>
                  </a:lnTo>
                  <a:lnTo>
                    <a:pt x="1320" y="1443"/>
                  </a:lnTo>
                  <a:lnTo>
                    <a:pt x="1320" y="1449"/>
                  </a:lnTo>
                  <a:lnTo>
                    <a:pt x="1321" y="1454"/>
                  </a:lnTo>
                  <a:lnTo>
                    <a:pt x="1322" y="1458"/>
                  </a:lnTo>
                  <a:lnTo>
                    <a:pt x="1322" y="1461"/>
                  </a:lnTo>
                  <a:lnTo>
                    <a:pt x="1323" y="1463"/>
                  </a:lnTo>
                  <a:lnTo>
                    <a:pt x="1323" y="1464"/>
                  </a:lnTo>
                  <a:lnTo>
                    <a:pt x="1324" y="1465"/>
                  </a:lnTo>
                  <a:lnTo>
                    <a:pt x="1325" y="1466"/>
                  </a:lnTo>
                  <a:lnTo>
                    <a:pt x="1325" y="1467"/>
                  </a:lnTo>
                  <a:lnTo>
                    <a:pt x="1326" y="1467"/>
                  </a:lnTo>
                  <a:lnTo>
                    <a:pt x="1327" y="1468"/>
                  </a:lnTo>
                  <a:lnTo>
                    <a:pt x="1329" y="1470"/>
                  </a:lnTo>
                  <a:lnTo>
                    <a:pt x="1330" y="1471"/>
                  </a:lnTo>
                  <a:lnTo>
                    <a:pt x="1331" y="1472"/>
                  </a:lnTo>
                  <a:lnTo>
                    <a:pt x="1332" y="1472"/>
                  </a:lnTo>
                  <a:lnTo>
                    <a:pt x="1333" y="1472"/>
                  </a:lnTo>
                  <a:lnTo>
                    <a:pt x="1333" y="1473"/>
                  </a:lnTo>
                  <a:lnTo>
                    <a:pt x="1334" y="1473"/>
                  </a:lnTo>
                  <a:lnTo>
                    <a:pt x="1334" y="1473"/>
                  </a:lnTo>
                  <a:lnTo>
                    <a:pt x="1335" y="1473"/>
                  </a:lnTo>
                  <a:lnTo>
                    <a:pt x="1335" y="1473"/>
                  </a:lnTo>
                  <a:lnTo>
                    <a:pt x="1338" y="1472"/>
                  </a:lnTo>
                  <a:lnTo>
                    <a:pt x="1340" y="1472"/>
                  </a:lnTo>
                  <a:lnTo>
                    <a:pt x="1346" y="1470"/>
                  </a:lnTo>
                  <a:lnTo>
                    <a:pt x="1352" y="1467"/>
                  </a:lnTo>
                  <a:lnTo>
                    <a:pt x="1358" y="1466"/>
                  </a:lnTo>
                  <a:lnTo>
                    <a:pt x="1365" y="1462"/>
                  </a:lnTo>
                  <a:lnTo>
                    <a:pt x="1371" y="1458"/>
                  </a:lnTo>
                  <a:lnTo>
                    <a:pt x="1378" y="1453"/>
                  </a:lnTo>
                  <a:lnTo>
                    <a:pt x="1385" y="1448"/>
                  </a:lnTo>
                  <a:lnTo>
                    <a:pt x="1403" y="1433"/>
                  </a:lnTo>
                  <a:lnTo>
                    <a:pt x="1425" y="1412"/>
                  </a:lnTo>
                  <a:lnTo>
                    <a:pt x="1484" y="1355"/>
                  </a:lnTo>
                  <a:lnTo>
                    <a:pt x="1653" y="1179"/>
                  </a:lnTo>
                  <a:lnTo>
                    <a:pt x="1755" y="1281"/>
                  </a:lnTo>
                  <a:lnTo>
                    <a:pt x="1656" y="1397"/>
                  </a:lnTo>
                  <a:lnTo>
                    <a:pt x="1564" y="1499"/>
                  </a:lnTo>
                  <a:lnTo>
                    <a:pt x="1479" y="1587"/>
                  </a:lnTo>
                  <a:lnTo>
                    <a:pt x="1399" y="1661"/>
                  </a:lnTo>
                  <a:lnTo>
                    <a:pt x="1326" y="1719"/>
                  </a:lnTo>
                  <a:lnTo>
                    <a:pt x="1292" y="1743"/>
                  </a:lnTo>
                  <a:lnTo>
                    <a:pt x="1260" y="1763"/>
                  </a:lnTo>
                  <a:lnTo>
                    <a:pt x="1229" y="1780"/>
                  </a:lnTo>
                  <a:lnTo>
                    <a:pt x="1201" y="1792"/>
                  </a:lnTo>
                  <a:lnTo>
                    <a:pt x="1173" y="1801"/>
                  </a:lnTo>
                  <a:lnTo>
                    <a:pt x="1147" y="1807"/>
                  </a:lnTo>
                  <a:lnTo>
                    <a:pt x="1128" y="1808"/>
                  </a:lnTo>
                  <a:lnTo>
                    <a:pt x="1118" y="1808"/>
                  </a:lnTo>
                  <a:lnTo>
                    <a:pt x="1109" y="1807"/>
                  </a:lnTo>
                  <a:lnTo>
                    <a:pt x="1100" y="1807"/>
                  </a:lnTo>
                  <a:lnTo>
                    <a:pt x="1091" y="1806"/>
                  </a:lnTo>
                  <a:lnTo>
                    <a:pt x="1083" y="1804"/>
                  </a:lnTo>
                  <a:lnTo>
                    <a:pt x="1074" y="1801"/>
                  </a:lnTo>
                  <a:lnTo>
                    <a:pt x="1066" y="1798"/>
                  </a:lnTo>
                  <a:lnTo>
                    <a:pt x="1058" y="1794"/>
                  </a:lnTo>
                  <a:lnTo>
                    <a:pt x="1050" y="1790"/>
                  </a:lnTo>
                  <a:lnTo>
                    <a:pt x="1043" y="1786"/>
                  </a:lnTo>
                  <a:lnTo>
                    <a:pt x="1028" y="1776"/>
                  </a:lnTo>
                  <a:lnTo>
                    <a:pt x="1014" y="1763"/>
                  </a:lnTo>
                  <a:lnTo>
                    <a:pt x="1007" y="1756"/>
                  </a:lnTo>
                  <a:lnTo>
                    <a:pt x="1001" y="1749"/>
                  </a:lnTo>
                  <a:lnTo>
                    <a:pt x="996" y="1740"/>
                  </a:lnTo>
                  <a:lnTo>
                    <a:pt x="990" y="1733"/>
                  </a:lnTo>
                  <a:lnTo>
                    <a:pt x="986" y="1724"/>
                  </a:lnTo>
                  <a:lnTo>
                    <a:pt x="981" y="1715"/>
                  </a:lnTo>
                  <a:lnTo>
                    <a:pt x="974" y="1695"/>
                  </a:lnTo>
                  <a:lnTo>
                    <a:pt x="968" y="1675"/>
                  </a:lnTo>
                  <a:lnTo>
                    <a:pt x="963" y="1652"/>
                  </a:lnTo>
                  <a:lnTo>
                    <a:pt x="961" y="1628"/>
                  </a:lnTo>
                  <a:lnTo>
                    <a:pt x="960" y="1602"/>
                  </a:lnTo>
                  <a:lnTo>
                    <a:pt x="961" y="1574"/>
                  </a:lnTo>
                  <a:lnTo>
                    <a:pt x="963" y="1544"/>
                  </a:lnTo>
                  <a:lnTo>
                    <a:pt x="966" y="1515"/>
                  </a:lnTo>
                  <a:lnTo>
                    <a:pt x="971" y="1485"/>
                  </a:lnTo>
                  <a:lnTo>
                    <a:pt x="976" y="1454"/>
                  </a:lnTo>
                  <a:lnTo>
                    <a:pt x="984" y="1423"/>
                  </a:lnTo>
                  <a:lnTo>
                    <a:pt x="992" y="1391"/>
                  </a:lnTo>
                  <a:lnTo>
                    <a:pt x="1002" y="1359"/>
                  </a:lnTo>
                  <a:lnTo>
                    <a:pt x="974" y="1410"/>
                  </a:lnTo>
                  <a:lnTo>
                    <a:pt x="941" y="1462"/>
                  </a:lnTo>
                  <a:lnTo>
                    <a:pt x="902" y="1512"/>
                  </a:lnTo>
                  <a:lnTo>
                    <a:pt x="861" y="1562"/>
                  </a:lnTo>
                  <a:lnTo>
                    <a:pt x="813" y="1612"/>
                  </a:lnTo>
                  <a:lnTo>
                    <a:pt x="760" y="1660"/>
                  </a:lnTo>
                  <a:lnTo>
                    <a:pt x="703" y="1710"/>
                  </a:lnTo>
                  <a:lnTo>
                    <a:pt x="641" y="1758"/>
                  </a:lnTo>
                  <a:lnTo>
                    <a:pt x="598" y="1789"/>
                  </a:lnTo>
                  <a:lnTo>
                    <a:pt x="557" y="1817"/>
                  </a:lnTo>
                  <a:lnTo>
                    <a:pt x="516" y="1840"/>
                  </a:lnTo>
                  <a:lnTo>
                    <a:pt x="476" y="1861"/>
                  </a:lnTo>
                  <a:lnTo>
                    <a:pt x="438" y="1878"/>
                  </a:lnTo>
                  <a:lnTo>
                    <a:pt x="401" y="1891"/>
                  </a:lnTo>
                  <a:lnTo>
                    <a:pt x="365" y="1901"/>
                  </a:lnTo>
                  <a:lnTo>
                    <a:pt x="331" y="1908"/>
                  </a:lnTo>
                  <a:lnTo>
                    <a:pt x="310" y="1910"/>
                  </a:lnTo>
                  <a:lnTo>
                    <a:pt x="291" y="1909"/>
                  </a:lnTo>
                  <a:lnTo>
                    <a:pt x="281" y="1908"/>
                  </a:lnTo>
                  <a:lnTo>
                    <a:pt x="273" y="1907"/>
                  </a:lnTo>
                  <a:lnTo>
                    <a:pt x="264" y="1905"/>
                  </a:lnTo>
                  <a:lnTo>
                    <a:pt x="256" y="1903"/>
                  </a:lnTo>
                  <a:lnTo>
                    <a:pt x="247" y="1900"/>
                  </a:lnTo>
                  <a:lnTo>
                    <a:pt x="239" y="1897"/>
                  </a:lnTo>
                  <a:lnTo>
                    <a:pt x="232" y="1892"/>
                  </a:lnTo>
                  <a:lnTo>
                    <a:pt x="224" y="1888"/>
                  </a:lnTo>
                  <a:lnTo>
                    <a:pt x="217" y="1883"/>
                  </a:lnTo>
                  <a:lnTo>
                    <a:pt x="211" y="1878"/>
                  </a:lnTo>
                  <a:lnTo>
                    <a:pt x="204" y="1872"/>
                  </a:lnTo>
                  <a:lnTo>
                    <a:pt x="198" y="1865"/>
                  </a:lnTo>
                  <a:lnTo>
                    <a:pt x="192" y="1859"/>
                  </a:lnTo>
                  <a:lnTo>
                    <a:pt x="186" y="1851"/>
                  </a:lnTo>
                  <a:lnTo>
                    <a:pt x="181" y="1843"/>
                  </a:lnTo>
                  <a:lnTo>
                    <a:pt x="176" y="1834"/>
                  </a:lnTo>
                  <a:lnTo>
                    <a:pt x="172" y="1825"/>
                  </a:lnTo>
                  <a:lnTo>
                    <a:pt x="168" y="1816"/>
                  </a:lnTo>
                  <a:lnTo>
                    <a:pt x="161" y="1795"/>
                  </a:lnTo>
                  <a:lnTo>
                    <a:pt x="156" y="1772"/>
                  </a:lnTo>
                  <a:lnTo>
                    <a:pt x="152" y="1747"/>
                  </a:lnTo>
                  <a:lnTo>
                    <a:pt x="150" y="1720"/>
                  </a:lnTo>
                  <a:lnTo>
                    <a:pt x="149" y="1692"/>
                  </a:lnTo>
                  <a:lnTo>
                    <a:pt x="150" y="1649"/>
                  </a:lnTo>
                  <a:lnTo>
                    <a:pt x="154" y="1603"/>
                  </a:lnTo>
                  <a:lnTo>
                    <a:pt x="159" y="1556"/>
                  </a:lnTo>
                  <a:lnTo>
                    <a:pt x="167" y="1508"/>
                  </a:lnTo>
                  <a:lnTo>
                    <a:pt x="184" y="1424"/>
                  </a:lnTo>
                  <a:lnTo>
                    <a:pt x="211" y="1305"/>
                  </a:lnTo>
                  <a:lnTo>
                    <a:pt x="293" y="970"/>
                  </a:lnTo>
                  <a:lnTo>
                    <a:pt x="349" y="746"/>
                  </a:lnTo>
                  <a:lnTo>
                    <a:pt x="389" y="573"/>
                  </a:lnTo>
                  <a:lnTo>
                    <a:pt x="413" y="451"/>
                  </a:lnTo>
                  <a:lnTo>
                    <a:pt x="419" y="409"/>
                  </a:lnTo>
                  <a:lnTo>
                    <a:pt x="420" y="392"/>
                  </a:lnTo>
                  <a:lnTo>
                    <a:pt x="421" y="379"/>
                  </a:lnTo>
                  <a:lnTo>
                    <a:pt x="421" y="363"/>
                  </a:lnTo>
                  <a:lnTo>
                    <a:pt x="418" y="363"/>
                  </a:lnTo>
                  <a:lnTo>
                    <a:pt x="415" y="365"/>
                  </a:lnTo>
                  <a:lnTo>
                    <a:pt x="412" y="365"/>
                  </a:lnTo>
                  <a:lnTo>
                    <a:pt x="408" y="366"/>
                  </a:lnTo>
                  <a:lnTo>
                    <a:pt x="400" y="370"/>
                  </a:lnTo>
                  <a:lnTo>
                    <a:pt x="391" y="374"/>
                  </a:lnTo>
                  <a:lnTo>
                    <a:pt x="381" y="380"/>
                  </a:lnTo>
                  <a:lnTo>
                    <a:pt x="370" y="386"/>
                  </a:lnTo>
                  <a:lnTo>
                    <a:pt x="345" y="403"/>
                  </a:lnTo>
                  <a:lnTo>
                    <a:pt x="330" y="415"/>
                  </a:lnTo>
                  <a:lnTo>
                    <a:pt x="311" y="430"/>
                  </a:lnTo>
                  <a:lnTo>
                    <a:pt x="264" y="473"/>
                  </a:lnTo>
                  <a:lnTo>
                    <a:pt x="126" y="608"/>
                  </a:lnTo>
                  <a:lnTo>
                    <a:pt x="0" y="506"/>
                  </a:lnTo>
                  <a:lnTo>
                    <a:pt x="129" y="366"/>
                  </a:lnTo>
                  <a:lnTo>
                    <a:pt x="242" y="254"/>
                  </a:lnTo>
                  <a:lnTo>
                    <a:pt x="291" y="207"/>
                  </a:lnTo>
                  <a:lnTo>
                    <a:pt x="337" y="168"/>
                  </a:lnTo>
                  <a:lnTo>
                    <a:pt x="378" y="136"/>
                  </a:lnTo>
                  <a:lnTo>
                    <a:pt x="416" y="110"/>
                  </a:lnTo>
                  <a:lnTo>
                    <a:pt x="451" y="89"/>
                  </a:lnTo>
                  <a:lnTo>
                    <a:pt x="484" y="71"/>
                  </a:lnTo>
                  <a:lnTo>
                    <a:pt x="516" y="55"/>
                  </a:lnTo>
                  <a:lnTo>
                    <a:pt x="546" y="41"/>
                  </a:lnTo>
                  <a:lnTo>
                    <a:pt x="574" y="31"/>
                  </a:lnTo>
                  <a:lnTo>
                    <a:pt x="600" y="23"/>
                  </a:lnTo>
                  <a:lnTo>
                    <a:pt x="625" y="17"/>
                  </a:lnTo>
                  <a:lnTo>
                    <a:pt x="649" y="15"/>
                  </a:lnTo>
                  <a:lnTo>
                    <a:pt x="665" y="15"/>
                  </a:lnTo>
                  <a:lnTo>
                    <a:pt x="673" y="15"/>
                  </a:lnTo>
                  <a:lnTo>
                    <a:pt x="680" y="16"/>
                  </a:lnTo>
                  <a:lnTo>
                    <a:pt x="688" y="17"/>
                  </a:lnTo>
                  <a:lnTo>
                    <a:pt x="695" y="19"/>
                  </a:lnTo>
                  <a:lnTo>
                    <a:pt x="702" y="21"/>
                  </a:lnTo>
                  <a:lnTo>
                    <a:pt x="708" y="24"/>
                  </a:lnTo>
                  <a:lnTo>
                    <a:pt x="715" y="26"/>
                  </a:lnTo>
                  <a:lnTo>
                    <a:pt x="721" y="30"/>
                  </a:lnTo>
                  <a:lnTo>
                    <a:pt x="727" y="33"/>
                  </a:lnTo>
                  <a:lnTo>
                    <a:pt x="733" y="38"/>
                  </a:lnTo>
                  <a:lnTo>
                    <a:pt x="738" y="42"/>
                  </a:lnTo>
                  <a:lnTo>
                    <a:pt x="744" y="46"/>
                  </a:lnTo>
                  <a:lnTo>
                    <a:pt x="749" y="51"/>
                  </a:lnTo>
                  <a:lnTo>
                    <a:pt x="754" y="57"/>
                  </a:lnTo>
                  <a:lnTo>
                    <a:pt x="759" y="63"/>
                  </a:lnTo>
                  <a:lnTo>
                    <a:pt x="764" y="69"/>
                  </a:lnTo>
                  <a:lnTo>
                    <a:pt x="768" y="76"/>
                  </a:lnTo>
                  <a:lnTo>
                    <a:pt x="772" y="83"/>
                  </a:lnTo>
                  <a:lnTo>
                    <a:pt x="775" y="90"/>
                  </a:lnTo>
                  <a:lnTo>
                    <a:pt x="779" y="98"/>
                  </a:lnTo>
                  <a:lnTo>
                    <a:pt x="785" y="114"/>
                  </a:lnTo>
                  <a:lnTo>
                    <a:pt x="789" y="131"/>
                  </a:lnTo>
                  <a:lnTo>
                    <a:pt x="792" y="150"/>
                  </a:lnTo>
                  <a:lnTo>
                    <a:pt x="794" y="171"/>
                  </a:lnTo>
                  <a:lnTo>
                    <a:pt x="795" y="192"/>
                  </a:lnTo>
                  <a:lnTo>
                    <a:pt x="793" y="234"/>
                  </a:lnTo>
                  <a:lnTo>
                    <a:pt x="786" y="290"/>
                  </a:lnTo>
                  <a:lnTo>
                    <a:pt x="760" y="440"/>
                  </a:lnTo>
                  <a:lnTo>
                    <a:pt x="716" y="643"/>
                  </a:lnTo>
                  <a:lnTo>
                    <a:pt x="654" y="900"/>
                  </a:lnTo>
                  <a:lnTo>
                    <a:pt x="565" y="1291"/>
                  </a:lnTo>
                  <a:lnTo>
                    <a:pt x="543" y="1405"/>
                  </a:lnTo>
                  <a:lnTo>
                    <a:pt x="537" y="1442"/>
                  </a:lnTo>
                  <a:lnTo>
                    <a:pt x="535" y="1456"/>
                  </a:lnTo>
                  <a:lnTo>
                    <a:pt x="535" y="1465"/>
                  </a:lnTo>
                  <a:lnTo>
                    <a:pt x="535" y="1473"/>
                  </a:lnTo>
                  <a:lnTo>
                    <a:pt x="536" y="1479"/>
                  </a:lnTo>
                  <a:lnTo>
                    <a:pt x="537" y="1485"/>
                  </a:lnTo>
                  <a:lnTo>
                    <a:pt x="538" y="1490"/>
                  </a:lnTo>
                  <a:lnTo>
                    <a:pt x="539" y="1493"/>
                  </a:lnTo>
                  <a:lnTo>
                    <a:pt x="540" y="1495"/>
                  </a:lnTo>
                  <a:lnTo>
                    <a:pt x="541" y="1498"/>
                  </a:lnTo>
                  <a:lnTo>
                    <a:pt x="543" y="1500"/>
                  </a:lnTo>
                  <a:lnTo>
                    <a:pt x="544" y="1502"/>
                  </a:lnTo>
                  <a:lnTo>
                    <a:pt x="546" y="1505"/>
                  </a:lnTo>
                  <a:lnTo>
                    <a:pt x="547" y="1507"/>
                  </a:lnTo>
                  <a:lnTo>
                    <a:pt x="549" y="1509"/>
                  </a:lnTo>
                  <a:lnTo>
                    <a:pt x="553" y="1513"/>
                  </a:lnTo>
                  <a:lnTo>
                    <a:pt x="556" y="1516"/>
                  </a:lnTo>
                  <a:lnTo>
                    <a:pt x="560" y="1518"/>
                  </a:lnTo>
                  <a:lnTo>
                    <a:pt x="563" y="1520"/>
                  </a:lnTo>
                  <a:lnTo>
                    <a:pt x="565" y="1521"/>
                  </a:lnTo>
                  <a:lnTo>
                    <a:pt x="566" y="1522"/>
                  </a:lnTo>
                  <a:lnTo>
                    <a:pt x="568" y="1523"/>
                  </a:lnTo>
                  <a:lnTo>
                    <a:pt x="569" y="1523"/>
                  </a:lnTo>
                  <a:lnTo>
                    <a:pt x="571" y="1522"/>
                  </a:lnTo>
                  <a:lnTo>
                    <a:pt x="573" y="1523"/>
                  </a:lnTo>
                  <a:lnTo>
                    <a:pt x="574" y="1523"/>
                  </a:lnTo>
                  <a:lnTo>
                    <a:pt x="576" y="1523"/>
                  </a:lnTo>
                  <a:lnTo>
                    <a:pt x="587" y="1520"/>
                  </a:lnTo>
                  <a:lnTo>
                    <a:pt x="599" y="1517"/>
                  </a:lnTo>
                  <a:lnTo>
                    <a:pt x="613" y="1512"/>
                  </a:lnTo>
                  <a:lnTo>
                    <a:pt x="627" y="1505"/>
                  </a:lnTo>
                  <a:lnTo>
                    <a:pt x="642" y="1498"/>
                  </a:lnTo>
                  <a:lnTo>
                    <a:pt x="657" y="1488"/>
                  </a:lnTo>
                  <a:lnTo>
                    <a:pt x="691" y="1465"/>
                  </a:lnTo>
                  <a:lnTo>
                    <a:pt x="728" y="1435"/>
                  </a:lnTo>
                  <a:lnTo>
                    <a:pt x="767" y="1400"/>
                  </a:lnTo>
                  <a:lnTo>
                    <a:pt x="810" y="1360"/>
                  </a:lnTo>
                  <a:lnTo>
                    <a:pt x="855" y="1313"/>
                  </a:lnTo>
                  <a:lnTo>
                    <a:pt x="899" y="1263"/>
                  </a:lnTo>
                  <a:lnTo>
                    <a:pt x="940" y="1213"/>
                  </a:lnTo>
                  <a:lnTo>
                    <a:pt x="976" y="1161"/>
                  </a:lnTo>
                  <a:lnTo>
                    <a:pt x="1009" y="1108"/>
                  </a:lnTo>
                  <a:lnTo>
                    <a:pt x="1037" y="1054"/>
                  </a:lnTo>
                  <a:lnTo>
                    <a:pt x="1062" y="999"/>
                  </a:lnTo>
                  <a:lnTo>
                    <a:pt x="1082" y="943"/>
                  </a:lnTo>
                  <a:lnTo>
                    <a:pt x="1099" y="886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04160" y="3384720"/>
              <a:ext cx="458640" cy="647640"/>
            </a:xfrm>
            <a:custGeom>
              <a:avLst/>
              <a:gdLst/>
              <a:ahLst/>
              <a:rect l="l" t="t" r="r" b="b"/>
              <a:pathLst>
                <a:path w="1273" h="1797">
                  <a:moveTo>
                    <a:pt x="1065" y="1081"/>
                  </a:moveTo>
                  <a:lnTo>
                    <a:pt x="1160" y="1189"/>
                  </a:lnTo>
                  <a:lnTo>
                    <a:pt x="1039" y="1315"/>
                  </a:lnTo>
                  <a:lnTo>
                    <a:pt x="923" y="1427"/>
                  </a:lnTo>
                  <a:lnTo>
                    <a:pt x="811" y="1525"/>
                  </a:lnTo>
                  <a:lnTo>
                    <a:pt x="703" y="1607"/>
                  </a:lnTo>
                  <a:lnTo>
                    <a:pt x="600" y="1676"/>
                  </a:lnTo>
                  <a:lnTo>
                    <a:pt x="550" y="1705"/>
                  </a:lnTo>
                  <a:lnTo>
                    <a:pt x="502" y="1730"/>
                  </a:lnTo>
                  <a:lnTo>
                    <a:pt x="454" y="1751"/>
                  </a:lnTo>
                  <a:lnTo>
                    <a:pt x="408" y="1768"/>
                  </a:lnTo>
                  <a:lnTo>
                    <a:pt x="362" y="1781"/>
                  </a:lnTo>
                  <a:lnTo>
                    <a:pt x="317" y="1791"/>
                  </a:lnTo>
                  <a:lnTo>
                    <a:pt x="280" y="1795"/>
                  </a:lnTo>
                  <a:lnTo>
                    <a:pt x="245" y="1796"/>
                  </a:lnTo>
                  <a:lnTo>
                    <a:pt x="228" y="1796"/>
                  </a:lnTo>
                  <a:lnTo>
                    <a:pt x="211" y="1794"/>
                  </a:lnTo>
                  <a:lnTo>
                    <a:pt x="196" y="1792"/>
                  </a:lnTo>
                  <a:lnTo>
                    <a:pt x="181" y="1788"/>
                  </a:lnTo>
                  <a:lnTo>
                    <a:pt x="167" y="1784"/>
                  </a:lnTo>
                  <a:lnTo>
                    <a:pt x="153" y="1778"/>
                  </a:lnTo>
                  <a:lnTo>
                    <a:pt x="139" y="1771"/>
                  </a:lnTo>
                  <a:lnTo>
                    <a:pt x="126" y="1764"/>
                  </a:lnTo>
                  <a:lnTo>
                    <a:pt x="114" y="1756"/>
                  </a:lnTo>
                  <a:lnTo>
                    <a:pt x="102" y="1747"/>
                  </a:lnTo>
                  <a:lnTo>
                    <a:pt x="91" y="1737"/>
                  </a:lnTo>
                  <a:lnTo>
                    <a:pt x="82" y="1726"/>
                  </a:lnTo>
                  <a:lnTo>
                    <a:pt x="72" y="1713"/>
                  </a:lnTo>
                  <a:lnTo>
                    <a:pt x="63" y="1701"/>
                  </a:lnTo>
                  <a:lnTo>
                    <a:pt x="54" y="1687"/>
                  </a:lnTo>
                  <a:lnTo>
                    <a:pt x="46" y="1672"/>
                  </a:lnTo>
                  <a:lnTo>
                    <a:pt x="32" y="1639"/>
                  </a:lnTo>
                  <a:lnTo>
                    <a:pt x="20" y="1602"/>
                  </a:lnTo>
                  <a:lnTo>
                    <a:pt x="11" y="1561"/>
                  </a:lnTo>
                  <a:lnTo>
                    <a:pt x="5" y="1516"/>
                  </a:lnTo>
                  <a:lnTo>
                    <a:pt x="1" y="1467"/>
                  </a:lnTo>
                  <a:lnTo>
                    <a:pt x="0" y="1414"/>
                  </a:lnTo>
                  <a:lnTo>
                    <a:pt x="4" y="1306"/>
                  </a:lnTo>
                  <a:lnTo>
                    <a:pt x="16" y="1199"/>
                  </a:lnTo>
                  <a:lnTo>
                    <a:pt x="36" y="1090"/>
                  </a:lnTo>
                  <a:lnTo>
                    <a:pt x="64" y="981"/>
                  </a:lnTo>
                  <a:lnTo>
                    <a:pt x="99" y="871"/>
                  </a:lnTo>
                  <a:lnTo>
                    <a:pt x="143" y="761"/>
                  </a:lnTo>
                  <a:lnTo>
                    <a:pt x="195" y="650"/>
                  </a:lnTo>
                  <a:lnTo>
                    <a:pt x="254" y="540"/>
                  </a:lnTo>
                  <a:lnTo>
                    <a:pt x="328" y="420"/>
                  </a:lnTo>
                  <a:lnTo>
                    <a:pt x="407" y="315"/>
                  </a:lnTo>
                  <a:lnTo>
                    <a:pt x="447" y="269"/>
                  </a:lnTo>
                  <a:lnTo>
                    <a:pt x="488" y="226"/>
                  </a:lnTo>
                  <a:lnTo>
                    <a:pt x="531" y="186"/>
                  </a:lnTo>
                  <a:lnTo>
                    <a:pt x="574" y="151"/>
                  </a:lnTo>
                  <a:lnTo>
                    <a:pt x="618" y="120"/>
                  </a:lnTo>
                  <a:lnTo>
                    <a:pt x="663" y="92"/>
                  </a:lnTo>
                  <a:lnTo>
                    <a:pt x="709" y="68"/>
                  </a:lnTo>
                  <a:lnTo>
                    <a:pt x="755" y="48"/>
                  </a:lnTo>
                  <a:lnTo>
                    <a:pt x="804" y="31"/>
                  </a:lnTo>
                  <a:lnTo>
                    <a:pt x="853" y="18"/>
                  </a:lnTo>
                  <a:lnTo>
                    <a:pt x="902" y="8"/>
                  </a:lnTo>
                  <a:lnTo>
                    <a:pt x="953" y="2"/>
                  </a:lnTo>
                  <a:lnTo>
                    <a:pt x="989" y="0"/>
                  </a:lnTo>
                  <a:lnTo>
                    <a:pt x="1024" y="1"/>
                  </a:lnTo>
                  <a:lnTo>
                    <a:pt x="1057" y="4"/>
                  </a:lnTo>
                  <a:lnTo>
                    <a:pt x="1087" y="10"/>
                  </a:lnTo>
                  <a:lnTo>
                    <a:pt x="1101" y="14"/>
                  </a:lnTo>
                  <a:lnTo>
                    <a:pt x="1116" y="18"/>
                  </a:lnTo>
                  <a:lnTo>
                    <a:pt x="1129" y="24"/>
                  </a:lnTo>
                  <a:lnTo>
                    <a:pt x="1142" y="29"/>
                  </a:lnTo>
                  <a:lnTo>
                    <a:pt x="1155" y="36"/>
                  </a:lnTo>
                  <a:lnTo>
                    <a:pt x="1167" y="42"/>
                  </a:lnTo>
                  <a:lnTo>
                    <a:pt x="1178" y="50"/>
                  </a:lnTo>
                  <a:lnTo>
                    <a:pt x="1189" y="58"/>
                  </a:lnTo>
                  <a:lnTo>
                    <a:pt x="1198" y="67"/>
                  </a:lnTo>
                  <a:lnTo>
                    <a:pt x="1208" y="77"/>
                  </a:lnTo>
                  <a:lnTo>
                    <a:pt x="1217" y="86"/>
                  </a:lnTo>
                  <a:lnTo>
                    <a:pt x="1225" y="96"/>
                  </a:lnTo>
                  <a:lnTo>
                    <a:pt x="1232" y="107"/>
                  </a:lnTo>
                  <a:lnTo>
                    <a:pt x="1239" y="118"/>
                  </a:lnTo>
                  <a:lnTo>
                    <a:pt x="1245" y="129"/>
                  </a:lnTo>
                  <a:lnTo>
                    <a:pt x="1251" y="142"/>
                  </a:lnTo>
                  <a:lnTo>
                    <a:pt x="1256" y="154"/>
                  </a:lnTo>
                  <a:lnTo>
                    <a:pt x="1260" y="166"/>
                  </a:lnTo>
                  <a:lnTo>
                    <a:pt x="1267" y="194"/>
                  </a:lnTo>
                  <a:lnTo>
                    <a:pt x="1271" y="223"/>
                  </a:lnTo>
                  <a:lnTo>
                    <a:pt x="1272" y="254"/>
                  </a:lnTo>
                  <a:lnTo>
                    <a:pt x="1271" y="286"/>
                  </a:lnTo>
                  <a:lnTo>
                    <a:pt x="1266" y="319"/>
                  </a:lnTo>
                  <a:lnTo>
                    <a:pt x="1259" y="352"/>
                  </a:lnTo>
                  <a:lnTo>
                    <a:pt x="1249" y="384"/>
                  </a:lnTo>
                  <a:lnTo>
                    <a:pt x="1236" y="417"/>
                  </a:lnTo>
                  <a:lnTo>
                    <a:pt x="1220" y="450"/>
                  </a:lnTo>
                  <a:lnTo>
                    <a:pt x="1201" y="483"/>
                  </a:lnTo>
                  <a:lnTo>
                    <a:pt x="1181" y="516"/>
                  </a:lnTo>
                  <a:lnTo>
                    <a:pt x="1156" y="550"/>
                  </a:lnTo>
                  <a:lnTo>
                    <a:pt x="1127" y="583"/>
                  </a:lnTo>
                  <a:lnTo>
                    <a:pt x="1095" y="617"/>
                  </a:lnTo>
                  <a:lnTo>
                    <a:pt x="1060" y="652"/>
                  </a:lnTo>
                  <a:lnTo>
                    <a:pt x="1020" y="687"/>
                  </a:lnTo>
                  <a:lnTo>
                    <a:pt x="976" y="722"/>
                  </a:lnTo>
                  <a:lnTo>
                    <a:pt x="930" y="758"/>
                  </a:lnTo>
                  <a:lnTo>
                    <a:pt x="879" y="794"/>
                  </a:lnTo>
                  <a:lnTo>
                    <a:pt x="799" y="846"/>
                  </a:lnTo>
                  <a:lnTo>
                    <a:pt x="693" y="912"/>
                  </a:lnTo>
                  <a:lnTo>
                    <a:pt x="403" y="1084"/>
                  </a:lnTo>
                  <a:lnTo>
                    <a:pt x="397" y="1125"/>
                  </a:lnTo>
                  <a:lnTo>
                    <a:pt x="393" y="1167"/>
                  </a:lnTo>
                  <a:lnTo>
                    <a:pt x="390" y="1210"/>
                  </a:lnTo>
                  <a:lnTo>
                    <a:pt x="389" y="1255"/>
                  </a:lnTo>
                  <a:lnTo>
                    <a:pt x="390" y="1283"/>
                  </a:lnTo>
                  <a:lnTo>
                    <a:pt x="391" y="1310"/>
                  </a:lnTo>
                  <a:lnTo>
                    <a:pt x="394" y="1334"/>
                  </a:lnTo>
                  <a:lnTo>
                    <a:pt x="397" y="1356"/>
                  </a:lnTo>
                  <a:lnTo>
                    <a:pt x="402" y="1374"/>
                  </a:lnTo>
                  <a:lnTo>
                    <a:pt x="405" y="1382"/>
                  </a:lnTo>
                  <a:lnTo>
                    <a:pt x="408" y="1389"/>
                  </a:lnTo>
                  <a:lnTo>
                    <a:pt x="411" y="1396"/>
                  </a:lnTo>
                  <a:lnTo>
                    <a:pt x="414" y="1402"/>
                  </a:lnTo>
                  <a:lnTo>
                    <a:pt x="418" y="1408"/>
                  </a:lnTo>
                  <a:lnTo>
                    <a:pt x="422" y="1412"/>
                  </a:lnTo>
                  <a:lnTo>
                    <a:pt x="425" y="1416"/>
                  </a:lnTo>
                  <a:lnTo>
                    <a:pt x="430" y="1420"/>
                  </a:lnTo>
                  <a:lnTo>
                    <a:pt x="434" y="1424"/>
                  </a:lnTo>
                  <a:lnTo>
                    <a:pt x="439" y="1427"/>
                  </a:lnTo>
                  <a:lnTo>
                    <a:pt x="445" y="1429"/>
                  </a:lnTo>
                  <a:lnTo>
                    <a:pt x="450" y="1432"/>
                  </a:lnTo>
                  <a:lnTo>
                    <a:pt x="456" y="1433"/>
                  </a:lnTo>
                  <a:lnTo>
                    <a:pt x="462" y="1435"/>
                  </a:lnTo>
                  <a:lnTo>
                    <a:pt x="468" y="1436"/>
                  </a:lnTo>
                  <a:lnTo>
                    <a:pt x="474" y="1437"/>
                  </a:lnTo>
                  <a:lnTo>
                    <a:pt x="481" y="1438"/>
                  </a:lnTo>
                  <a:lnTo>
                    <a:pt x="487" y="1439"/>
                  </a:lnTo>
                  <a:lnTo>
                    <a:pt x="502" y="1438"/>
                  </a:lnTo>
                  <a:lnTo>
                    <a:pt x="517" y="1437"/>
                  </a:lnTo>
                  <a:lnTo>
                    <a:pt x="534" y="1433"/>
                  </a:lnTo>
                  <a:lnTo>
                    <a:pt x="552" y="1429"/>
                  </a:lnTo>
                  <a:lnTo>
                    <a:pt x="570" y="1423"/>
                  </a:lnTo>
                  <a:lnTo>
                    <a:pt x="590" y="1416"/>
                  </a:lnTo>
                  <a:lnTo>
                    <a:pt x="609" y="1408"/>
                  </a:lnTo>
                  <a:lnTo>
                    <a:pt x="630" y="1398"/>
                  </a:lnTo>
                  <a:lnTo>
                    <a:pt x="650" y="1386"/>
                  </a:lnTo>
                  <a:lnTo>
                    <a:pt x="671" y="1374"/>
                  </a:lnTo>
                  <a:lnTo>
                    <a:pt x="704" y="1352"/>
                  </a:lnTo>
                  <a:lnTo>
                    <a:pt x="742" y="1327"/>
                  </a:lnTo>
                  <a:lnTo>
                    <a:pt x="831" y="1263"/>
                  </a:lnTo>
                  <a:lnTo>
                    <a:pt x="939" y="1180"/>
                  </a:lnTo>
                  <a:close/>
                  <a:moveTo>
                    <a:pt x="429" y="893"/>
                  </a:moveTo>
                  <a:lnTo>
                    <a:pt x="544" y="814"/>
                  </a:lnTo>
                  <a:lnTo>
                    <a:pt x="647" y="737"/>
                  </a:lnTo>
                  <a:lnTo>
                    <a:pt x="693" y="699"/>
                  </a:lnTo>
                  <a:lnTo>
                    <a:pt x="736" y="662"/>
                  </a:lnTo>
                  <a:lnTo>
                    <a:pt x="775" y="626"/>
                  </a:lnTo>
                  <a:lnTo>
                    <a:pt x="811" y="589"/>
                  </a:lnTo>
                  <a:lnTo>
                    <a:pt x="836" y="558"/>
                  </a:lnTo>
                  <a:lnTo>
                    <a:pt x="858" y="526"/>
                  </a:lnTo>
                  <a:lnTo>
                    <a:pt x="875" y="497"/>
                  </a:lnTo>
                  <a:lnTo>
                    <a:pt x="890" y="470"/>
                  </a:lnTo>
                  <a:lnTo>
                    <a:pt x="901" y="443"/>
                  </a:lnTo>
                  <a:lnTo>
                    <a:pt x="906" y="430"/>
                  </a:lnTo>
                  <a:lnTo>
                    <a:pt x="909" y="417"/>
                  </a:lnTo>
                  <a:lnTo>
                    <a:pt x="912" y="405"/>
                  </a:lnTo>
                  <a:lnTo>
                    <a:pt x="914" y="393"/>
                  </a:lnTo>
                  <a:lnTo>
                    <a:pt x="916" y="381"/>
                  </a:lnTo>
                  <a:lnTo>
                    <a:pt x="916" y="370"/>
                  </a:lnTo>
                  <a:lnTo>
                    <a:pt x="915" y="355"/>
                  </a:lnTo>
                  <a:lnTo>
                    <a:pt x="914" y="339"/>
                  </a:lnTo>
                  <a:lnTo>
                    <a:pt x="911" y="326"/>
                  </a:lnTo>
                  <a:lnTo>
                    <a:pt x="908" y="313"/>
                  </a:lnTo>
                  <a:lnTo>
                    <a:pt x="903" y="301"/>
                  </a:lnTo>
                  <a:lnTo>
                    <a:pt x="900" y="295"/>
                  </a:lnTo>
                  <a:lnTo>
                    <a:pt x="897" y="291"/>
                  </a:lnTo>
                  <a:lnTo>
                    <a:pt x="894" y="285"/>
                  </a:lnTo>
                  <a:lnTo>
                    <a:pt x="891" y="281"/>
                  </a:lnTo>
                  <a:lnTo>
                    <a:pt x="887" y="276"/>
                  </a:lnTo>
                  <a:lnTo>
                    <a:pt x="883" y="272"/>
                  </a:lnTo>
                  <a:lnTo>
                    <a:pt x="879" y="268"/>
                  </a:lnTo>
                  <a:lnTo>
                    <a:pt x="875" y="264"/>
                  </a:lnTo>
                  <a:lnTo>
                    <a:pt x="870" y="261"/>
                  </a:lnTo>
                  <a:lnTo>
                    <a:pt x="866" y="258"/>
                  </a:lnTo>
                  <a:lnTo>
                    <a:pt x="862" y="255"/>
                  </a:lnTo>
                  <a:lnTo>
                    <a:pt x="857" y="252"/>
                  </a:lnTo>
                  <a:lnTo>
                    <a:pt x="852" y="251"/>
                  </a:lnTo>
                  <a:lnTo>
                    <a:pt x="847" y="248"/>
                  </a:lnTo>
                  <a:lnTo>
                    <a:pt x="842" y="247"/>
                  </a:lnTo>
                  <a:lnTo>
                    <a:pt x="836" y="246"/>
                  </a:lnTo>
                  <a:lnTo>
                    <a:pt x="831" y="245"/>
                  </a:lnTo>
                  <a:lnTo>
                    <a:pt x="825" y="244"/>
                  </a:lnTo>
                  <a:lnTo>
                    <a:pt x="813" y="244"/>
                  </a:lnTo>
                  <a:lnTo>
                    <a:pt x="800" y="244"/>
                  </a:lnTo>
                  <a:lnTo>
                    <a:pt x="793" y="245"/>
                  </a:lnTo>
                  <a:lnTo>
                    <a:pt x="785" y="247"/>
                  </a:lnTo>
                  <a:lnTo>
                    <a:pt x="769" y="250"/>
                  </a:lnTo>
                  <a:lnTo>
                    <a:pt x="752" y="257"/>
                  </a:lnTo>
                  <a:lnTo>
                    <a:pt x="733" y="264"/>
                  </a:lnTo>
                  <a:lnTo>
                    <a:pt x="712" y="273"/>
                  </a:lnTo>
                  <a:lnTo>
                    <a:pt x="689" y="284"/>
                  </a:lnTo>
                  <a:lnTo>
                    <a:pt x="665" y="297"/>
                  </a:lnTo>
                  <a:lnTo>
                    <a:pt x="641" y="312"/>
                  </a:lnTo>
                  <a:lnTo>
                    <a:pt x="553" y="467"/>
                  </a:lnTo>
                  <a:lnTo>
                    <a:pt x="512" y="589"/>
                  </a:lnTo>
                  <a:lnTo>
                    <a:pt x="478" y="701"/>
                  </a:lnTo>
                  <a:lnTo>
                    <a:pt x="450" y="80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778960" y="3110040"/>
              <a:ext cx="149040" cy="779400"/>
            </a:xfrm>
            <a:custGeom>
              <a:avLst/>
              <a:gdLst/>
              <a:ahLst/>
              <a:rect l="l" t="t" r="r" b="b"/>
              <a:pathLst>
                <a:path w="415" h="2164">
                  <a:moveTo>
                    <a:pt x="383" y="1534"/>
                  </a:moveTo>
                  <a:lnTo>
                    <a:pt x="200" y="1559"/>
                  </a:lnTo>
                  <a:lnTo>
                    <a:pt x="378" y="149"/>
                  </a:lnTo>
                  <a:lnTo>
                    <a:pt x="379" y="138"/>
                  </a:lnTo>
                  <a:lnTo>
                    <a:pt x="380" y="129"/>
                  </a:lnTo>
                  <a:lnTo>
                    <a:pt x="382" y="120"/>
                  </a:lnTo>
                  <a:lnTo>
                    <a:pt x="384" y="113"/>
                  </a:lnTo>
                  <a:lnTo>
                    <a:pt x="387" y="106"/>
                  </a:lnTo>
                  <a:lnTo>
                    <a:pt x="388" y="102"/>
                  </a:lnTo>
                  <a:lnTo>
                    <a:pt x="390" y="100"/>
                  </a:lnTo>
                  <a:lnTo>
                    <a:pt x="392" y="97"/>
                  </a:lnTo>
                  <a:lnTo>
                    <a:pt x="394" y="94"/>
                  </a:lnTo>
                  <a:lnTo>
                    <a:pt x="396" y="91"/>
                  </a:lnTo>
                  <a:lnTo>
                    <a:pt x="398" y="90"/>
                  </a:lnTo>
                  <a:lnTo>
                    <a:pt x="410" y="80"/>
                  </a:lnTo>
                  <a:lnTo>
                    <a:pt x="414" y="77"/>
                  </a:lnTo>
                  <a:lnTo>
                    <a:pt x="414" y="71"/>
                  </a:lnTo>
                  <a:lnTo>
                    <a:pt x="414" y="64"/>
                  </a:lnTo>
                  <a:lnTo>
                    <a:pt x="414" y="57"/>
                  </a:lnTo>
                  <a:lnTo>
                    <a:pt x="414" y="50"/>
                  </a:lnTo>
                  <a:lnTo>
                    <a:pt x="414" y="43"/>
                  </a:lnTo>
                  <a:lnTo>
                    <a:pt x="414" y="37"/>
                  </a:lnTo>
                  <a:lnTo>
                    <a:pt x="414" y="32"/>
                  </a:lnTo>
                  <a:lnTo>
                    <a:pt x="414" y="18"/>
                  </a:lnTo>
                  <a:lnTo>
                    <a:pt x="414" y="8"/>
                  </a:lnTo>
                  <a:lnTo>
                    <a:pt x="414" y="5"/>
                  </a:lnTo>
                  <a:lnTo>
                    <a:pt x="414" y="2"/>
                  </a:lnTo>
                  <a:lnTo>
                    <a:pt x="414" y="1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14" y="1"/>
                  </a:lnTo>
                  <a:lnTo>
                    <a:pt x="414" y="3"/>
                  </a:lnTo>
                  <a:lnTo>
                    <a:pt x="414" y="5"/>
                  </a:lnTo>
                  <a:lnTo>
                    <a:pt x="414" y="7"/>
                  </a:lnTo>
                  <a:lnTo>
                    <a:pt x="414" y="10"/>
                  </a:lnTo>
                  <a:lnTo>
                    <a:pt x="414" y="13"/>
                  </a:lnTo>
                  <a:lnTo>
                    <a:pt x="414" y="18"/>
                  </a:lnTo>
                  <a:lnTo>
                    <a:pt x="414" y="22"/>
                  </a:lnTo>
                  <a:lnTo>
                    <a:pt x="414" y="27"/>
                  </a:lnTo>
                  <a:lnTo>
                    <a:pt x="414" y="33"/>
                  </a:lnTo>
                  <a:lnTo>
                    <a:pt x="414" y="39"/>
                  </a:lnTo>
                  <a:lnTo>
                    <a:pt x="414" y="46"/>
                  </a:lnTo>
                  <a:lnTo>
                    <a:pt x="414" y="53"/>
                  </a:lnTo>
                  <a:lnTo>
                    <a:pt x="414" y="61"/>
                  </a:lnTo>
                  <a:lnTo>
                    <a:pt x="414" y="70"/>
                  </a:lnTo>
                  <a:lnTo>
                    <a:pt x="414" y="77"/>
                  </a:lnTo>
                  <a:lnTo>
                    <a:pt x="414" y="84"/>
                  </a:lnTo>
                  <a:lnTo>
                    <a:pt x="414" y="93"/>
                  </a:lnTo>
                  <a:lnTo>
                    <a:pt x="414" y="102"/>
                  </a:lnTo>
                  <a:lnTo>
                    <a:pt x="414" y="121"/>
                  </a:lnTo>
                  <a:lnTo>
                    <a:pt x="414" y="142"/>
                  </a:lnTo>
                  <a:lnTo>
                    <a:pt x="414" y="198"/>
                  </a:lnTo>
                  <a:lnTo>
                    <a:pt x="414" y="301"/>
                  </a:lnTo>
                  <a:lnTo>
                    <a:pt x="414" y="651"/>
                  </a:lnTo>
                  <a:lnTo>
                    <a:pt x="414" y="1416"/>
                  </a:lnTo>
                  <a:close/>
                  <a:moveTo>
                    <a:pt x="247" y="1676"/>
                  </a:moveTo>
                  <a:lnTo>
                    <a:pt x="270" y="1673"/>
                  </a:lnTo>
                  <a:lnTo>
                    <a:pt x="281" y="1674"/>
                  </a:lnTo>
                  <a:lnTo>
                    <a:pt x="292" y="1673"/>
                  </a:lnTo>
                  <a:lnTo>
                    <a:pt x="302" y="1674"/>
                  </a:lnTo>
                  <a:lnTo>
                    <a:pt x="312" y="1675"/>
                  </a:lnTo>
                  <a:lnTo>
                    <a:pt x="322" y="1677"/>
                  </a:lnTo>
                  <a:lnTo>
                    <a:pt x="332" y="1679"/>
                  </a:lnTo>
                  <a:lnTo>
                    <a:pt x="341" y="1681"/>
                  </a:lnTo>
                  <a:lnTo>
                    <a:pt x="351" y="1685"/>
                  </a:lnTo>
                  <a:lnTo>
                    <a:pt x="360" y="1688"/>
                  </a:lnTo>
                  <a:lnTo>
                    <a:pt x="369" y="1693"/>
                  </a:lnTo>
                  <a:lnTo>
                    <a:pt x="386" y="1703"/>
                  </a:lnTo>
                  <a:lnTo>
                    <a:pt x="402" y="1714"/>
                  </a:lnTo>
                  <a:lnTo>
                    <a:pt x="414" y="1726"/>
                  </a:lnTo>
                  <a:lnTo>
                    <a:pt x="414" y="1728"/>
                  </a:lnTo>
                  <a:lnTo>
                    <a:pt x="414" y="1745"/>
                  </a:lnTo>
                  <a:lnTo>
                    <a:pt x="414" y="1761"/>
                  </a:lnTo>
                  <a:lnTo>
                    <a:pt x="414" y="1779"/>
                  </a:lnTo>
                  <a:lnTo>
                    <a:pt x="414" y="1798"/>
                  </a:lnTo>
                  <a:lnTo>
                    <a:pt x="414" y="1818"/>
                  </a:lnTo>
                  <a:lnTo>
                    <a:pt x="414" y="1838"/>
                  </a:lnTo>
                  <a:lnTo>
                    <a:pt x="414" y="1860"/>
                  </a:lnTo>
                  <a:lnTo>
                    <a:pt x="414" y="1889"/>
                  </a:lnTo>
                  <a:lnTo>
                    <a:pt x="414" y="1917"/>
                  </a:lnTo>
                  <a:lnTo>
                    <a:pt x="414" y="1943"/>
                  </a:lnTo>
                  <a:lnTo>
                    <a:pt x="414" y="1968"/>
                  </a:lnTo>
                  <a:lnTo>
                    <a:pt x="414" y="1991"/>
                  </a:lnTo>
                  <a:lnTo>
                    <a:pt x="414" y="2013"/>
                  </a:lnTo>
                  <a:lnTo>
                    <a:pt x="414" y="2023"/>
                  </a:lnTo>
                  <a:lnTo>
                    <a:pt x="414" y="2029"/>
                  </a:lnTo>
                  <a:lnTo>
                    <a:pt x="411" y="2033"/>
                  </a:lnTo>
                  <a:lnTo>
                    <a:pt x="403" y="2044"/>
                  </a:lnTo>
                  <a:lnTo>
                    <a:pt x="394" y="2055"/>
                  </a:lnTo>
                  <a:lnTo>
                    <a:pt x="376" y="2076"/>
                  </a:lnTo>
                  <a:lnTo>
                    <a:pt x="366" y="2085"/>
                  </a:lnTo>
                  <a:lnTo>
                    <a:pt x="356" y="2094"/>
                  </a:lnTo>
                  <a:lnTo>
                    <a:pt x="346" y="2101"/>
                  </a:lnTo>
                  <a:lnTo>
                    <a:pt x="336" y="2109"/>
                  </a:lnTo>
                  <a:lnTo>
                    <a:pt x="325" y="2116"/>
                  </a:lnTo>
                  <a:lnTo>
                    <a:pt x="314" y="2123"/>
                  </a:lnTo>
                  <a:lnTo>
                    <a:pt x="303" y="2130"/>
                  </a:lnTo>
                  <a:lnTo>
                    <a:pt x="291" y="2135"/>
                  </a:lnTo>
                  <a:lnTo>
                    <a:pt x="279" y="2141"/>
                  </a:lnTo>
                  <a:lnTo>
                    <a:pt x="267" y="2145"/>
                  </a:lnTo>
                  <a:lnTo>
                    <a:pt x="254" y="2149"/>
                  </a:lnTo>
                  <a:lnTo>
                    <a:pt x="241" y="2153"/>
                  </a:lnTo>
                  <a:lnTo>
                    <a:pt x="214" y="2159"/>
                  </a:lnTo>
                  <a:lnTo>
                    <a:pt x="192" y="2162"/>
                  </a:lnTo>
                  <a:lnTo>
                    <a:pt x="171" y="2163"/>
                  </a:lnTo>
                  <a:lnTo>
                    <a:pt x="160" y="2163"/>
                  </a:lnTo>
                  <a:lnTo>
                    <a:pt x="150" y="2162"/>
                  </a:lnTo>
                  <a:lnTo>
                    <a:pt x="140" y="2161"/>
                  </a:lnTo>
                  <a:lnTo>
                    <a:pt x="130" y="2159"/>
                  </a:lnTo>
                  <a:lnTo>
                    <a:pt x="121" y="2157"/>
                  </a:lnTo>
                  <a:lnTo>
                    <a:pt x="111" y="2154"/>
                  </a:lnTo>
                  <a:lnTo>
                    <a:pt x="102" y="2151"/>
                  </a:lnTo>
                  <a:lnTo>
                    <a:pt x="94" y="2147"/>
                  </a:lnTo>
                  <a:lnTo>
                    <a:pt x="85" y="2144"/>
                  </a:lnTo>
                  <a:lnTo>
                    <a:pt x="78" y="2139"/>
                  </a:lnTo>
                  <a:lnTo>
                    <a:pt x="62" y="2128"/>
                  </a:lnTo>
                  <a:lnTo>
                    <a:pt x="48" y="2116"/>
                  </a:lnTo>
                  <a:lnTo>
                    <a:pt x="35" y="2103"/>
                  </a:lnTo>
                  <a:lnTo>
                    <a:pt x="29" y="2095"/>
                  </a:lnTo>
                  <a:lnTo>
                    <a:pt x="24" y="2088"/>
                  </a:lnTo>
                  <a:lnTo>
                    <a:pt x="20" y="2079"/>
                  </a:lnTo>
                  <a:lnTo>
                    <a:pt x="16" y="2071"/>
                  </a:lnTo>
                  <a:lnTo>
                    <a:pt x="9" y="2054"/>
                  </a:lnTo>
                  <a:lnTo>
                    <a:pt x="4" y="2035"/>
                  </a:lnTo>
                  <a:lnTo>
                    <a:pt x="1" y="2015"/>
                  </a:lnTo>
                  <a:lnTo>
                    <a:pt x="0" y="1993"/>
                  </a:lnTo>
                  <a:lnTo>
                    <a:pt x="1" y="1964"/>
                  </a:lnTo>
                  <a:lnTo>
                    <a:pt x="5" y="1935"/>
                  </a:lnTo>
                  <a:lnTo>
                    <a:pt x="11" y="1906"/>
                  </a:lnTo>
                  <a:lnTo>
                    <a:pt x="20" y="1878"/>
                  </a:lnTo>
                  <a:lnTo>
                    <a:pt x="31" y="1851"/>
                  </a:lnTo>
                  <a:lnTo>
                    <a:pt x="44" y="1824"/>
                  </a:lnTo>
                  <a:lnTo>
                    <a:pt x="60" y="1799"/>
                  </a:lnTo>
                  <a:lnTo>
                    <a:pt x="79" y="1773"/>
                  </a:lnTo>
                  <a:lnTo>
                    <a:pt x="86" y="1763"/>
                  </a:lnTo>
                  <a:lnTo>
                    <a:pt x="95" y="1754"/>
                  </a:lnTo>
                  <a:lnTo>
                    <a:pt x="104" y="1745"/>
                  </a:lnTo>
                  <a:lnTo>
                    <a:pt x="113" y="1736"/>
                  </a:lnTo>
                  <a:lnTo>
                    <a:pt x="122" y="1728"/>
                  </a:lnTo>
                  <a:lnTo>
                    <a:pt x="132" y="1721"/>
                  </a:lnTo>
                  <a:lnTo>
                    <a:pt x="142" y="1714"/>
                  </a:lnTo>
                  <a:lnTo>
                    <a:pt x="153" y="1708"/>
                  </a:lnTo>
                  <a:lnTo>
                    <a:pt x="163" y="1702"/>
                  </a:lnTo>
                  <a:lnTo>
                    <a:pt x="174" y="1697"/>
                  </a:lnTo>
                  <a:lnTo>
                    <a:pt x="186" y="1692"/>
                  </a:lnTo>
                  <a:lnTo>
                    <a:pt x="197" y="1687"/>
                  </a:lnTo>
                  <a:lnTo>
                    <a:pt x="209" y="1684"/>
                  </a:lnTo>
                  <a:lnTo>
                    <a:pt x="221" y="1680"/>
                  </a:lnTo>
                  <a:lnTo>
                    <a:pt x="234" y="167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Спасиб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за внимание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431640" y="324000"/>
            <a:ext cx="1609920" cy="244764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8209080" y="4716360"/>
            <a:ext cx="160956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9001080" cy="5580000"/>
            <a:chOff x="0" y="0"/>
            <a:chExt cx="9001080" cy="5580000"/>
          </a:xfrm>
        </p:grpSpPr>
        <p:sp>
          <p:nvSpPr>
            <p:cNvPr id="60" name=""/>
            <p:cNvSpPr/>
            <p:nvPr/>
          </p:nvSpPr>
          <p:spPr>
            <a:xfrm>
              <a:off x="2333520" y="1258920"/>
              <a:ext cx="484200" cy="609480"/>
            </a:xfrm>
            <a:custGeom>
              <a:avLst/>
              <a:gdLst/>
              <a:ahLst/>
              <a:rect l="l" t="t" r="r" b="b"/>
              <a:pathLst>
                <a:path w="1344" h="1695">
                  <a:moveTo>
                    <a:pt x="0" y="1694"/>
                  </a:moveTo>
                  <a:lnTo>
                    <a:pt x="11" y="1607"/>
                  </a:lnTo>
                  <a:lnTo>
                    <a:pt x="21" y="1607"/>
                  </a:lnTo>
                  <a:lnTo>
                    <a:pt x="32" y="1605"/>
                  </a:lnTo>
                  <a:lnTo>
                    <a:pt x="60" y="1600"/>
                  </a:lnTo>
                  <a:lnTo>
                    <a:pt x="75" y="1597"/>
                  </a:lnTo>
                  <a:lnTo>
                    <a:pt x="88" y="1592"/>
                  </a:lnTo>
                  <a:lnTo>
                    <a:pt x="99" y="1588"/>
                  </a:lnTo>
                  <a:lnTo>
                    <a:pt x="103" y="1585"/>
                  </a:lnTo>
                  <a:lnTo>
                    <a:pt x="107" y="1583"/>
                  </a:lnTo>
                  <a:lnTo>
                    <a:pt x="113" y="1579"/>
                  </a:lnTo>
                  <a:lnTo>
                    <a:pt x="119" y="1574"/>
                  </a:lnTo>
                  <a:lnTo>
                    <a:pt x="125" y="1569"/>
                  </a:lnTo>
                  <a:lnTo>
                    <a:pt x="130" y="1564"/>
                  </a:lnTo>
                  <a:lnTo>
                    <a:pt x="134" y="1557"/>
                  </a:lnTo>
                  <a:lnTo>
                    <a:pt x="138" y="1550"/>
                  </a:lnTo>
                  <a:lnTo>
                    <a:pt x="143" y="1543"/>
                  </a:lnTo>
                  <a:lnTo>
                    <a:pt x="146" y="1536"/>
                  </a:lnTo>
                  <a:lnTo>
                    <a:pt x="149" y="1528"/>
                  </a:lnTo>
                  <a:lnTo>
                    <a:pt x="153" y="1519"/>
                  </a:lnTo>
                  <a:lnTo>
                    <a:pt x="155" y="1510"/>
                  </a:lnTo>
                  <a:lnTo>
                    <a:pt x="158" y="1502"/>
                  </a:lnTo>
                  <a:lnTo>
                    <a:pt x="160" y="1491"/>
                  </a:lnTo>
                  <a:lnTo>
                    <a:pt x="161" y="1482"/>
                  </a:lnTo>
                  <a:lnTo>
                    <a:pt x="163" y="1472"/>
                  </a:lnTo>
                  <a:lnTo>
                    <a:pt x="165" y="1462"/>
                  </a:lnTo>
                  <a:lnTo>
                    <a:pt x="314" y="277"/>
                  </a:lnTo>
                  <a:lnTo>
                    <a:pt x="318" y="244"/>
                  </a:lnTo>
                  <a:lnTo>
                    <a:pt x="319" y="225"/>
                  </a:lnTo>
                  <a:lnTo>
                    <a:pt x="320" y="216"/>
                  </a:lnTo>
                  <a:lnTo>
                    <a:pt x="320" y="213"/>
                  </a:lnTo>
                  <a:lnTo>
                    <a:pt x="320" y="209"/>
                  </a:lnTo>
                  <a:lnTo>
                    <a:pt x="320" y="202"/>
                  </a:lnTo>
                  <a:lnTo>
                    <a:pt x="319" y="197"/>
                  </a:lnTo>
                  <a:lnTo>
                    <a:pt x="319" y="192"/>
                  </a:lnTo>
                  <a:lnTo>
                    <a:pt x="318" y="187"/>
                  </a:lnTo>
                  <a:lnTo>
                    <a:pt x="317" y="180"/>
                  </a:lnTo>
                  <a:lnTo>
                    <a:pt x="315" y="174"/>
                  </a:lnTo>
                  <a:lnTo>
                    <a:pt x="315" y="169"/>
                  </a:lnTo>
                  <a:lnTo>
                    <a:pt x="313" y="166"/>
                  </a:lnTo>
                  <a:lnTo>
                    <a:pt x="311" y="161"/>
                  </a:lnTo>
                  <a:lnTo>
                    <a:pt x="309" y="155"/>
                  </a:lnTo>
                  <a:lnTo>
                    <a:pt x="307" y="150"/>
                  </a:lnTo>
                  <a:lnTo>
                    <a:pt x="304" y="147"/>
                  </a:lnTo>
                  <a:lnTo>
                    <a:pt x="302" y="143"/>
                  </a:lnTo>
                  <a:lnTo>
                    <a:pt x="298" y="138"/>
                  </a:lnTo>
                  <a:lnTo>
                    <a:pt x="293" y="131"/>
                  </a:lnTo>
                  <a:lnTo>
                    <a:pt x="285" y="124"/>
                  </a:lnTo>
                  <a:lnTo>
                    <a:pt x="276" y="117"/>
                  </a:lnTo>
                  <a:lnTo>
                    <a:pt x="266" y="112"/>
                  </a:lnTo>
                  <a:lnTo>
                    <a:pt x="256" y="105"/>
                  </a:lnTo>
                  <a:lnTo>
                    <a:pt x="244" y="100"/>
                  </a:lnTo>
                  <a:lnTo>
                    <a:pt x="231" y="95"/>
                  </a:lnTo>
                  <a:lnTo>
                    <a:pt x="202" y="86"/>
                  </a:lnTo>
                  <a:lnTo>
                    <a:pt x="213" y="0"/>
                  </a:lnTo>
                  <a:lnTo>
                    <a:pt x="707" y="0"/>
                  </a:lnTo>
                  <a:lnTo>
                    <a:pt x="696" y="86"/>
                  </a:lnTo>
                  <a:lnTo>
                    <a:pt x="685" y="88"/>
                  </a:lnTo>
                  <a:lnTo>
                    <a:pt x="674" y="90"/>
                  </a:lnTo>
                  <a:lnTo>
                    <a:pt x="661" y="93"/>
                  </a:lnTo>
                  <a:lnTo>
                    <a:pt x="646" y="98"/>
                  </a:lnTo>
                  <a:lnTo>
                    <a:pt x="621" y="107"/>
                  </a:lnTo>
                  <a:lnTo>
                    <a:pt x="611" y="112"/>
                  </a:lnTo>
                  <a:lnTo>
                    <a:pt x="602" y="116"/>
                  </a:lnTo>
                  <a:lnTo>
                    <a:pt x="595" y="119"/>
                  </a:lnTo>
                  <a:lnTo>
                    <a:pt x="589" y="124"/>
                  </a:lnTo>
                  <a:lnTo>
                    <a:pt x="584" y="129"/>
                  </a:lnTo>
                  <a:lnTo>
                    <a:pt x="579" y="136"/>
                  </a:lnTo>
                  <a:lnTo>
                    <a:pt x="574" y="143"/>
                  </a:lnTo>
                  <a:lnTo>
                    <a:pt x="569" y="150"/>
                  </a:lnTo>
                  <a:lnTo>
                    <a:pt x="568" y="154"/>
                  </a:lnTo>
                  <a:lnTo>
                    <a:pt x="566" y="157"/>
                  </a:lnTo>
                  <a:lnTo>
                    <a:pt x="564" y="162"/>
                  </a:lnTo>
                  <a:lnTo>
                    <a:pt x="563" y="166"/>
                  </a:lnTo>
                  <a:lnTo>
                    <a:pt x="559" y="174"/>
                  </a:lnTo>
                  <a:lnTo>
                    <a:pt x="557" y="183"/>
                  </a:lnTo>
                  <a:lnTo>
                    <a:pt x="554" y="192"/>
                  </a:lnTo>
                  <a:lnTo>
                    <a:pt x="552" y="200"/>
                  </a:lnTo>
                  <a:lnTo>
                    <a:pt x="550" y="211"/>
                  </a:lnTo>
                  <a:lnTo>
                    <a:pt x="548" y="220"/>
                  </a:lnTo>
                  <a:lnTo>
                    <a:pt x="545" y="239"/>
                  </a:lnTo>
                  <a:lnTo>
                    <a:pt x="422" y="1200"/>
                  </a:lnTo>
                  <a:lnTo>
                    <a:pt x="950" y="263"/>
                  </a:lnTo>
                  <a:lnTo>
                    <a:pt x="951" y="256"/>
                  </a:lnTo>
                  <a:lnTo>
                    <a:pt x="952" y="247"/>
                  </a:lnTo>
                  <a:lnTo>
                    <a:pt x="953" y="240"/>
                  </a:lnTo>
                  <a:lnTo>
                    <a:pt x="954" y="233"/>
                  </a:lnTo>
                  <a:lnTo>
                    <a:pt x="954" y="230"/>
                  </a:lnTo>
                  <a:lnTo>
                    <a:pt x="955" y="226"/>
                  </a:lnTo>
                  <a:lnTo>
                    <a:pt x="955" y="221"/>
                  </a:lnTo>
                  <a:lnTo>
                    <a:pt x="955" y="214"/>
                  </a:lnTo>
                  <a:lnTo>
                    <a:pt x="955" y="209"/>
                  </a:lnTo>
                  <a:lnTo>
                    <a:pt x="955" y="200"/>
                  </a:lnTo>
                  <a:lnTo>
                    <a:pt x="954" y="192"/>
                  </a:lnTo>
                  <a:lnTo>
                    <a:pt x="954" y="188"/>
                  </a:lnTo>
                  <a:lnTo>
                    <a:pt x="953" y="185"/>
                  </a:lnTo>
                  <a:lnTo>
                    <a:pt x="953" y="181"/>
                  </a:lnTo>
                  <a:lnTo>
                    <a:pt x="952" y="178"/>
                  </a:lnTo>
                  <a:lnTo>
                    <a:pt x="951" y="174"/>
                  </a:lnTo>
                  <a:lnTo>
                    <a:pt x="950" y="171"/>
                  </a:lnTo>
                  <a:lnTo>
                    <a:pt x="950" y="168"/>
                  </a:lnTo>
                  <a:lnTo>
                    <a:pt x="949" y="164"/>
                  </a:lnTo>
                  <a:lnTo>
                    <a:pt x="948" y="162"/>
                  </a:lnTo>
                  <a:lnTo>
                    <a:pt x="946" y="159"/>
                  </a:lnTo>
                  <a:lnTo>
                    <a:pt x="945" y="157"/>
                  </a:lnTo>
                  <a:lnTo>
                    <a:pt x="944" y="154"/>
                  </a:lnTo>
                  <a:lnTo>
                    <a:pt x="941" y="148"/>
                  </a:lnTo>
                  <a:lnTo>
                    <a:pt x="938" y="143"/>
                  </a:lnTo>
                  <a:lnTo>
                    <a:pt x="934" y="140"/>
                  </a:lnTo>
                  <a:lnTo>
                    <a:pt x="931" y="135"/>
                  </a:lnTo>
                  <a:lnTo>
                    <a:pt x="928" y="131"/>
                  </a:lnTo>
                  <a:lnTo>
                    <a:pt x="923" y="128"/>
                  </a:lnTo>
                  <a:lnTo>
                    <a:pt x="920" y="124"/>
                  </a:lnTo>
                  <a:lnTo>
                    <a:pt x="916" y="121"/>
                  </a:lnTo>
                  <a:lnTo>
                    <a:pt x="911" y="117"/>
                  </a:lnTo>
                  <a:lnTo>
                    <a:pt x="907" y="116"/>
                  </a:lnTo>
                  <a:lnTo>
                    <a:pt x="903" y="112"/>
                  </a:lnTo>
                  <a:lnTo>
                    <a:pt x="899" y="110"/>
                  </a:lnTo>
                  <a:lnTo>
                    <a:pt x="889" y="105"/>
                  </a:lnTo>
                  <a:lnTo>
                    <a:pt x="878" y="102"/>
                  </a:lnTo>
                  <a:lnTo>
                    <a:pt x="839" y="86"/>
                  </a:lnTo>
                  <a:lnTo>
                    <a:pt x="850" y="0"/>
                  </a:lnTo>
                  <a:lnTo>
                    <a:pt x="1343" y="0"/>
                  </a:lnTo>
                  <a:lnTo>
                    <a:pt x="1332" y="86"/>
                  </a:lnTo>
                  <a:lnTo>
                    <a:pt x="1321" y="88"/>
                  </a:lnTo>
                  <a:lnTo>
                    <a:pt x="1308" y="90"/>
                  </a:lnTo>
                  <a:lnTo>
                    <a:pt x="1295" y="93"/>
                  </a:lnTo>
                  <a:lnTo>
                    <a:pt x="1281" y="98"/>
                  </a:lnTo>
                  <a:lnTo>
                    <a:pt x="1254" y="107"/>
                  </a:lnTo>
                  <a:lnTo>
                    <a:pt x="1243" y="112"/>
                  </a:lnTo>
                  <a:lnTo>
                    <a:pt x="1235" y="116"/>
                  </a:lnTo>
                  <a:lnTo>
                    <a:pt x="1228" y="119"/>
                  </a:lnTo>
                  <a:lnTo>
                    <a:pt x="1222" y="124"/>
                  </a:lnTo>
                  <a:lnTo>
                    <a:pt x="1217" y="129"/>
                  </a:lnTo>
                  <a:lnTo>
                    <a:pt x="1212" y="136"/>
                  </a:lnTo>
                  <a:lnTo>
                    <a:pt x="1207" y="142"/>
                  </a:lnTo>
                  <a:lnTo>
                    <a:pt x="1203" y="148"/>
                  </a:lnTo>
                  <a:lnTo>
                    <a:pt x="1199" y="157"/>
                  </a:lnTo>
                  <a:lnTo>
                    <a:pt x="1198" y="161"/>
                  </a:lnTo>
                  <a:lnTo>
                    <a:pt x="1196" y="164"/>
                  </a:lnTo>
                  <a:lnTo>
                    <a:pt x="1192" y="173"/>
                  </a:lnTo>
                  <a:lnTo>
                    <a:pt x="1190" y="181"/>
                  </a:lnTo>
                  <a:lnTo>
                    <a:pt x="1187" y="190"/>
                  </a:lnTo>
                  <a:lnTo>
                    <a:pt x="1185" y="199"/>
                  </a:lnTo>
                  <a:lnTo>
                    <a:pt x="1183" y="209"/>
                  </a:lnTo>
                  <a:lnTo>
                    <a:pt x="1181" y="218"/>
                  </a:lnTo>
                  <a:lnTo>
                    <a:pt x="1180" y="228"/>
                  </a:lnTo>
                  <a:lnTo>
                    <a:pt x="1178" y="239"/>
                  </a:lnTo>
                  <a:lnTo>
                    <a:pt x="1029" y="1424"/>
                  </a:lnTo>
                  <a:lnTo>
                    <a:pt x="1028" y="1427"/>
                  </a:lnTo>
                  <a:lnTo>
                    <a:pt x="1028" y="1430"/>
                  </a:lnTo>
                  <a:lnTo>
                    <a:pt x="1027" y="1434"/>
                  </a:lnTo>
                  <a:lnTo>
                    <a:pt x="1027" y="1439"/>
                  </a:lnTo>
                  <a:lnTo>
                    <a:pt x="1026" y="1444"/>
                  </a:lnTo>
                  <a:lnTo>
                    <a:pt x="1026" y="1450"/>
                  </a:lnTo>
                  <a:lnTo>
                    <a:pt x="1025" y="1455"/>
                  </a:lnTo>
                  <a:lnTo>
                    <a:pt x="1025" y="1460"/>
                  </a:lnTo>
                  <a:lnTo>
                    <a:pt x="1024" y="1465"/>
                  </a:lnTo>
                  <a:lnTo>
                    <a:pt x="1024" y="1470"/>
                  </a:lnTo>
                  <a:lnTo>
                    <a:pt x="1023" y="1476"/>
                  </a:lnTo>
                  <a:lnTo>
                    <a:pt x="1023" y="1479"/>
                  </a:lnTo>
                  <a:lnTo>
                    <a:pt x="1023" y="1488"/>
                  </a:lnTo>
                  <a:lnTo>
                    <a:pt x="1023" y="1493"/>
                  </a:lnTo>
                  <a:lnTo>
                    <a:pt x="1023" y="1500"/>
                  </a:lnTo>
                  <a:lnTo>
                    <a:pt x="1024" y="1507"/>
                  </a:lnTo>
                  <a:lnTo>
                    <a:pt x="1024" y="1514"/>
                  </a:lnTo>
                  <a:lnTo>
                    <a:pt x="1025" y="1519"/>
                  </a:lnTo>
                  <a:lnTo>
                    <a:pt x="1027" y="1526"/>
                  </a:lnTo>
                  <a:lnTo>
                    <a:pt x="1027" y="1531"/>
                  </a:lnTo>
                  <a:lnTo>
                    <a:pt x="1029" y="1536"/>
                  </a:lnTo>
                  <a:lnTo>
                    <a:pt x="1031" y="1541"/>
                  </a:lnTo>
                  <a:lnTo>
                    <a:pt x="1033" y="1547"/>
                  </a:lnTo>
                  <a:lnTo>
                    <a:pt x="1036" y="1552"/>
                  </a:lnTo>
                  <a:lnTo>
                    <a:pt x="1038" y="1557"/>
                  </a:lnTo>
                  <a:lnTo>
                    <a:pt x="1041" y="1560"/>
                  </a:lnTo>
                  <a:lnTo>
                    <a:pt x="1044" y="1564"/>
                  </a:lnTo>
                  <a:lnTo>
                    <a:pt x="1048" y="1567"/>
                  </a:lnTo>
                  <a:lnTo>
                    <a:pt x="1051" y="1571"/>
                  </a:lnTo>
                  <a:lnTo>
                    <a:pt x="1055" y="1574"/>
                  </a:lnTo>
                  <a:lnTo>
                    <a:pt x="1064" y="1579"/>
                  </a:lnTo>
                  <a:lnTo>
                    <a:pt x="1072" y="1585"/>
                  </a:lnTo>
                  <a:lnTo>
                    <a:pt x="1082" y="1590"/>
                  </a:lnTo>
                  <a:lnTo>
                    <a:pt x="1093" y="1593"/>
                  </a:lnTo>
                  <a:lnTo>
                    <a:pt x="1115" y="1602"/>
                  </a:lnTo>
                  <a:lnTo>
                    <a:pt x="1141" y="1607"/>
                  </a:lnTo>
                  <a:lnTo>
                    <a:pt x="1130" y="1694"/>
                  </a:lnTo>
                  <a:lnTo>
                    <a:pt x="636" y="1694"/>
                  </a:lnTo>
                  <a:lnTo>
                    <a:pt x="647" y="1607"/>
                  </a:lnTo>
                  <a:lnTo>
                    <a:pt x="696" y="1600"/>
                  </a:lnTo>
                  <a:lnTo>
                    <a:pt x="722" y="1593"/>
                  </a:lnTo>
                  <a:lnTo>
                    <a:pt x="728" y="1592"/>
                  </a:lnTo>
                  <a:lnTo>
                    <a:pt x="732" y="1590"/>
                  </a:lnTo>
                  <a:lnTo>
                    <a:pt x="737" y="1586"/>
                  </a:lnTo>
                  <a:lnTo>
                    <a:pt x="740" y="1585"/>
                  </a:lnTo>
                  <a:lnTo>
                    <a:pt x="746" y="1579"/>
                  </a:lnTo>
                  <a:lnTo>
                    <a:pt x="752" y="1576"/>
                  </a:lnTo>
                  <a:lnTo>
                    <a:pt x="757" y="1571"/>
                  </a:lnTo>
                  <a:lnTo>
                    <a:pt x="762" y="1564"/>
                  </a:lnTo>
                  <a:lnTo>
                    <a:pt x="767" y="1559"/>
                  </a:lnTo>
                  <a:lnTo>
                    <a:pt x="771" y="1552"/>
                  </a:lnTo>
                  <a:lnTo>
                    <a:pt x="775" y="1545"/>
                  </a:lnTo>
                  <a:lnTo>
                    <a:pt x="777" y="1541"/>
                  </a:lnTo>
                  <a:lnTo>
                    <a:pt x="779" y="1538"/>
                  </a:lnTo>
                  <a:lnTo>
                    <a:pt x="782" y="1531"/>
                  </a:lnTo>
                  <a:lnTo>
                    <a:pt x="785" y="1522"/>
                  </a:lnTo>
                  <a:lnTo>
                    <a:pt x="788" y="1514"/>
                  </a:lnTo>
                  <a:lnTo>
                    <a:pt x="790" y="1505"/>
                  </a:lnTo>
                  <a:lnTo>
                    <a:pt x="792" y="1495"/>
                  </a:lnTo>
                  <a:lnTo>
                    <a:pt x="794" y="1484"/>
                  </a:lnTo>
                  <a:lnTo>
                    <a:pt x="795" y="1474"/>
                  </a:lnTo>
                  <a:lnTo>
                    <a:pt x="797" y="1463"/>
                  </a:lnTo>
                  <a:lnTo>
                    <a:pt x="923" y="479"/>
                  </a:lnTo>
                  <a:lnTo>
                    <a:pt x="395" y="1418"/>
                  </a:lnTo>
                  <a:lnTo>
                    <a:pt x="390" y="1462"/>
                  </a:lnTo>
                  <a:lnTo>
                    <a:pt x="389" y="1482"/>
                  </a:lnTo>
                  <a:lnTo>
                    <a:pt x="388" y="1489"/>
                  </a:lnTo>
                  <a:lnTo>
                    <a:pt x="388" y="1493"/>
                  </a:lnTo>
                  <a:lnTo>
                    <a:pt x="388" y="1496"/>
                  </a:lnTo>
                  <a:lnTo>
                    <a:pt x="388" y="1505"/>
                  </a:lnTo>
                  <a:lnTo>
                    <a:pt x="389" y="1512"/>
                  </a:lnTo>
                  <a:lnTo>
                    <a:pt x="389" y="1519"/>
                  </a:lnTo>
                  <a:lnTo>
                    <a:pt x="391" y="1526"/>
                  </a:lnTo>
                  <a:lnTo>
                    <a:pt x="392" y="1533"/>
                  </a:lnTo>
                  <a:lnTo>
                    <a:pt x="393" y="1538"/>
                  </a:lnTo>
                  <a:lnTo>
                    <a:pt x="395" y="1545"/>
                  </a:lnTo>
                  <a:lnTo>
                    <a:pt x="397" y="1550"/>
                  </a:lnTo>
                  <a:lnTo>
                    <a:pt x="399" y="1553"/>
                  </a:lnTo>
                  <a:lnTo>
                    <a:pt x="402" y="1559"/>
                  </a:lnTo>
                  <a:lnTo>
                    <a:pt x="405" y="1562"/>
                  </a:lnTo>
                  <a:lnTo>
                    <a:pt x="408" y="1567"/>
                  </a:lnTo>
                  <a:lnTo>
                    <a:pt x="411" y="1571"/>
                  </a:lnTo>
                  <a:lnTo>
                    <a:pt x="414" y="1573"/>
                  </a:lnTo>
                  <a:lnTo>
                    <a:pt x="419" y="1576"/>
                  </a:lnTo>
                  <a:lnTo>
                    <a:pt x="423" y="1578"/>
                  </a:lnTo>
                  <a:lnTo>
                    <a:pt x="442" y="1586"/>
                  </a:lnTo>
                  <a:lnTo>
                    <a:pt x="461" y="1595"/>
                  </a:lnTo>
                  <a:lnTo>
                    <a:pt x="482" y="1602"/>
                  </a:lnTo>
                  <a:lnTo>
                    <a:pt x="504" y="1607"/>
                  </a:lnTo>
                  <a:lnTo>
                    <a:pt x="492" y="1694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30600" y="1438200"/>
              <a:ext cx="422280" cy="438120"/>
            </a:xfrm>
            <a:custGeom>
              <a:avLst/>
              <a:gdLst/>
              <a:ahLst/>
              <a:rect l="l" t="t" r="r" b="b"/>
              <a:pathLst>
                <a:path w="1174" h="1219">
                  <a:moveTo>
                    <a:pt x="460" y="1177"/>
                  </a:moveTo>
                  <a:lnTo>
                    <a:pt x="439" y="683"/>
                  </a:lnTo>
                  <a:lnTo>
                    <a:pt x="435" y="603"/>
                  </a:lnTo>
                  <a:lnTo>
                    <a:pt x="428" y="510"/>
                  </a:lnTo>
                  <a:lnTo>
                    <a:pt x="418" y="402"/>
                  </a:lnTo>
                  <a:lnTo>
                    <a:pt x="406" y="285"/>
                  </a:lnTo>
                  <a:lnTo>
                    <a:pt x="400" y="285"/>
                  </a:lnTo>
                  <a:lnTo>
                    <a:pt x="387" y="409"/>
                  </a:lnTo>
                  <a:lnTo>
                    <a:pt x="372" y="524"/>
                  </a:lnTo>
                  <a:lnTo>
                    <a:pt x="355" y="628"/>
                  </a:lnTo>
                  <a:lnTo>
                    <a:pt x="339" y="723"/>
                  </a:lnTo>
                  <a:lnTo>
                    <a:pt x="320" y="808"/>
                  </a:lnTo>
                  <a:lnTo>
                    <a:pt x="300" y="886"/>
                  </a:lnTo>
                  <a:lnTo>
                    <a:pt x="290" y="920"/>
                  </a:lnTo>
                  <a:lnTo>
                    <a:pt x="280" y="953"/>
                  </a:lnTo>
                  <a:lnTo>
                    <a:pt x="270" y="984"/>
                  </a:lnTo>
                  <a:lnTo>
                    <a:pt x="260" y="1014"/>
                  </a:lnTo>
                  <a:lnTo>
                    <a:pt x="250" y="1040"/>
                  </a:lnTo>
                  <a:lnTo>
                    <a:pt x="239" y="1062"/>
                  </a:lnTo>
                  <a:lnTo>
                    <a:pt x="229" y="1085"/>
                  </a:lnTo>
                  <a:lnTo>
                    <a:pt x="219" y="1104"/>
                  </a:lnTo>
                  <a:lnTo>
                    <a:pt x="209" y="1123"/>
                  </a:lnTo>
                  <a:lnTo>
                    <a:pt x="199" y="1140"/>
                  </a:lnTo>
                  <a:lnTo>
                    <a:pt x="189" y="1154"/>
                  </a:lnTo>
                  <a:lnTo>
                    <a:pt x="179" y="1168"/>
                  </a:lnTo>
                  <a:lnTo>
                    <a:pt x="168" y="1180"/>
                  </a:lnTo>
                  <a:lnTo>
                    <a:pt x="159" y="1191"/>
                  </a:lnTo>
                  <a:lnTo>
                    <a:pt x="149" y="1199"/>
                  </a:lnTo>
                  <a:lnTo>
                    <a:pt x="140" y="1206"/>
                  </a:lnTo>
                  <a:lnTo>
                    <a:pt x="131" y="1211"/>
                  </a:lnTo>
                  <a:lnTo>
                    <a:pt x="122" y="1215"/>
                  </a:lnTo>
                  <a:lnTo>
                    <a:pt x="113" y="1218"/>
                  </a:lnTo>
                  <a:lnTo>
                    <a:pt x="105" y="1218"/>
                  </a:lnTo>
                  <a:lnTo>
                    <a:pt x="93" y="1218"/>
                  </a:lnTo>
                  <a:lnTo>
                    <a:pt x="81" y="1215"/>
                  </a:lnTo>
                  <a:lnTo>
                    <a:pt x="71" y="1211"/>
                  </a:lnTo>
                  <a:lnTo>
                    <a:pt x="61" y="1206"/>
                  </a:lnTo>
                  <a:lnTo>
                    <a:pt x="52" y="1199"/>
                  </a:lnTo>
                  <a:lnTo>
                    <a:pt x="47" y="1196"/>
                  </a:lnTo>
                  <a:lnTo>
                    <a:pt x="43" y="1192"/>
                  </a:lnTo>
                  <a:lnTo>
                    <a:pt x="39" y="1187"/>
                  </a:lnTo>
                  <a:lnTo>
                    <a:pt x="35" y="1182"/>
                  </a:lnTo>
                  <a:lnTo>
                    <a:pt x="31" y="1177"/>
                  </a:lnTo>
                  <a:lnTo>
                    <a:pt x="28" y="1172"/>
                  </a:lnTo>
                  <a:lnTo>
                    <a:pt x="24" y="1166"/>
                  </a:lnTo>
                  <a:lnTo>
                    <a:pt x="21" y="1159"/>
                  </a:lnTo>
                  <a:lnTo>
                    <a:pt x="19" y="1154"/>
                  </a:lnTo>
                  <a:lnTo>
                    <a:pt x="16" y="1147"/>
                  </a:lnTo>
                  <a:lnTo>
                    <a:pt x="13" y="1140"/>
                  </a:lnTo>
                  <a:lnTo>
                    <a:pt x="11" y="1133"/>
                  </a:lnTo>
                  <a:lnTo>
                    <a:pt x="8" y="1125"/>
                  </a:lnTo>
                  <a:lnTo>
                    <a:pt x="7" y="1118"/>
                  </a:lnTo>
                  <a:lnTo>
                    <a:pt x="5" y="1109"/>
                  </a:lnTo>
                  <a:lnTo>
                    <a:pt x="4" y="1101"/>
                  </a:lnTo>
                  <a:lnTo>
                    <a:pt x="2" y="1092"/>
                  </a:lnTo>
                  <a:lnTo>
                    <a:pt x="2" y="1083"/>
                  </a:lnTo>
                  <a:lnTo>
                    <a:pt x="1" y="1075"/>
                  </a:lnTo>
                  <a:lnTo>
                    <a:pt x="1" y="1064"/>
                  </a:lnTo>
                  <a:lnTo>
                    <a:pt x="0" y="1045"/>
                  </a:lnTo>
                  <a:lnTo>
                    <a:pt x="1" y="1021"/>
                  </a:lnTo>
                  <a:lnTo>
                    <a:pt x="2" y="997"/>
                  </a:lnTo>
                  <a:lnTo>
                    <a:pt x="4" y="976"/>
                  </a:lnTo>
                  <a:lnTo>
                    <a:pt x="8" y="955"/>
                  </a:lnTo>
                  <a:lnTo>
                    <a:pt x="9" y="945"/>
                  </a:lnTo>
                  <a:lnTo>
                    <a:pt x="12" y="934"/>
                  </a:lnTo>
                  <a:lnTo>
                    <a:pt x="14" y="926"/>
                  </a:lnTo>
                  <a:lnTo>
                    <a:pt x="17" y="917"/>
                  </a:lnTo>
                  <a:lnTo>
                    <a:pt x="19" y="908"/>
                  </a:lnTo>
                  <a:lnTo>
                    <a:pt x="23" y="900"/>
                  </a:lnTo>
                  <a:lnTo>
                    <a:pt x="26" y="891"/>
                  </a:lnTo>
                  <a:lnTo>
                    <a:pt x="30" y="884"/>
                  </a:lnTo>
                  <a:lnTo>
                    <a:pt x="37" y="870"/>
                  </a:lnTo>
                  <a:lnTo>
                    <a:pt x="41" y="863"/>
                  </a:lnTo>
                  <a:lnTo>
                    <a:pt x="45" y="858"/>
                  </a:lnTo>
                  <a:lnTo>
                    <a:pt x="49" y="853"/>
                  </a:lnTo>
                  <a:lnTo>
                    <a:pt x="53" y="848"/>
                  </a:lnTo>
                  <a:lnTo>
                    <a:pt x="58" y="844"/>
                  </a:lnTo>
                  <a:lnTo>
                    <a:pt x="63" y="839"/>
                  </a:lnTo>
                  <a:lnTo>
                    <a:pt x="67" y="835"/>
                  </a:lnTo>
                  <a:lnTo>
                    <a:pt x="72" y="834"/>
                  </a:lnTo>
                  <a:lnTo>
                    <a:pt x="81" y="829"/>
                  </a:lnTo>
                  <a:lnTo>
                    <a:pt x="91" y="827"/>
                  </a:lnTo>
                  <a:lnTo>
                    <a:pt x="102" y="825"/>
                  </a:lnTo>
                  <a:lnTo>
                    <a:pt x="110" y="825"/>
                  </a:lnTo>
                  <a:lnTo>
                    <a:pt x="118" y="827"/>
                  </a:lnTo>
                  <a:lnTo>
                    <a:pt x="125" y="829"/>
                  </a:lnTo>
                  <a:lnTo>
                    <a:pt x="133" y="832"/>
                  </a:lnTo>
                  <a:lnTo>
                    <a:pt x="140" y="837"/>
                  </a:lnTo>
                  <a:lnTo>
                    <a:pt x="146" y="842"/>
                  </a:lnTo>
                  <a:lnTo>
                    <a:pt x="153" y="848"/>
                  </a:lnTo>
                  <a:lnTo>
                    <a:pt x="160" y="855"/>
                  </a:lnTo>
                  <a:lnTo>
                    <a:pt x="172" y="870"/>
                  </a:lnTo>
                  <a:lnTo>
                    <a:pt x="183" y="886"/>
                  </a:lnTo>
                  <a:lnTo>
                    <a:pt x="194" y="901"/>
                  </a:lnTo>
                  <a:lnTo>
                    <a:pt x="199" y="910"/>
                  </a:lnTo>
                  <a:lnTo>
                    <a:pt x="203" y="919"/>
                  </a:lnTo>
                  <a:lnTo>
                    <a:pt x="218" y="879"/>
                  </a:lnTo>
                  <a:lnTo>
                    <a:pt x="232" y="837"/>
                  </a:lnTo>
                  <a:lnTo>
                    <a:pt x="245" y="792"/>
                  </a:lnTo>
                  <a:lnTo>
                    <a:pt x="258" y="747"/>
                  </a:lnTo>
                  <a:lnTo>
                    <a:pt x="270" y="699"/>
                  </a:lnTo>
                  <a:lnTo>
                    <a:pt x="281" y="648"/>
                  </a:lnTo>
                  <a:lnTo>
                    <a:pt x="291" y="596"/>
                  </a:lnTo>
                  <a:lnTo>
                    <a:pt x="300" y="543"/>
                  </a:lnTo>
                  <a:lnTo>
                    <a:pt x="317" y="435"/>
                  </a:lnTo>
                  <a:lnTo>
                    <a:pt x="330" y="328"/>
                  </a:lnTo>
                  <a:lnTo>
                    <a:pt x="335" y="276"/>
                  </a:lnTo>
                  <a:lnTo>
                    <a:pt x="339" y="224"/>
                  </a:lnTo>
                  <a:lnTo>
                    <a:pt x="342" y="174"/>
                  </a:lnTo>
                  <a:lnTo>
                    <a:pt x="344" y="123"/>
                  </a:lnTo>
                  <a:lnTo>
                    <a:pt x="225" y="123"/>
                  </a:lnTo>
                  <a:lnTo>
                    <a:pt x="240" y="25"/>
                  </a:lnTo>
                  <a:lnTo>
                    <a:pt x="567" y="0"/>
                  </a:lnTo>
                  <a:lnTo>
                    <a:pt x="580" y="92"/>
                  </a:lnTo>
                  <a:lnTo>
                    <a:pt x="592" y="186"/>
                  </a:lnTo>
                  <a:lnTo>
                    <a:pt x="603" y="283"/>
                  </a:lnTo>
                  <a:lnTo>
                    <a:pt x="612" y="383"/>
                  </a:lnTo>
                  <a:lnTo>
                    <a:pt x="620" y="486"/>
                  </a:lnTo>
                  <a:lnTo>
                    <a:pt x="628" y="593"/>
                  </a:lnTo>
                  <a:lnTo>
                    <a:pt x="634" y="702"/>
                  </a:lnTo>
                  <a:lnTo>
                    <a:pt x="638" y="813"/>
                  </a:lnTo>
                  <a:lnTo>
                    <a:pt x="913" y="19"/>
                  </a:lnTo>
                  <a:lnTo>
                    <a:pt x="1120" y="2"/>
                  </a:lnTo>
                  <a:lnTo>
                    <a:pt x="1128" y="19"/>
                  </a:lnTo>
                  <a:lnTo>
                    <a:pt x="1035" y="752"/>
                  </a:lnTo>
                  <a:lnTo>
                    <a:pt x="1033" y="771"/>
                  </a:lnTo>
                  <a:lnTo>
                    <a:pt x="1030" y="794"/>
                  </a:lnTo>
                  <a:lnTo>
                    <a:pt x="1028" y="816"/>
                  </a:lnTo>
                  <a:lnTo>
                    <a:pt x="1025" y="844"/>
                  </a:lnTo>
                  <a:lnTo>
                    <a:pt x="1023" y="872"/>
                  </a:lnTo>
                  <a:lnTo>
                    <a:pt x="1021" y="894"/>
                  </a:lnTo>
                  <a:lnTo>
                    <a:pt x="1019" y="913"/>
                  </a:lnTo>
                  <a:lnTo>
                    <a:pt x="1019" y="922"/>
                  </a:lnTo>
                  <a:lnTo>
                    <a:pt x="1019" y="929"/>
                  </a:lnTo>
                  <a:lnTo>
                    <a:pt x="1019" y="946"/>
                  </a:lnTo>
                  <a:lnTo>
                    <a:pt x="1020" y="962"/>
                  </a:lnTo>
                  <a:lnTo>
                    <a:pt x="1022" y="976"/>
                  </a:lnTo>
                  <a:lnTo>
                    <a:pt x="1023" y="981"/>
                  </a:lnTo>
                  <a:lnTo>
                    <a:pt x="1023" y="988"/>
                  </a:lnTo>
                  <a:lnTo>
                    <a:pt x="1024" y="993"/>
                  </a:lnTo>
                  <a:lnTo>
                    <a:pt x="1025" y="998"/>
                  </a:lnTo>
                  <a:lnTo>
                    <a:pt x="1027" y="1004"/>
                  </a:lnTo>
                  <a:lnTo>
                    <a:pt x="1029" y="1009"/>
                  </a:lnTo>
                  <a:lnTo>
                    <a:pt x="1029" y="1014"/>
                  </a:lnTo>
                  <a:lnTo>
                    <a:pt x="1031" y="1017"/>
                  </a:lnTo>
                  <a:lnTo>
                    <a:pt x="1034" y="1021"/>
                  </a:lnTo>
                  <a:lnTo>
                    <a:pt x="1035" y="1024"/>
                  </a:lnTo>
                  <a:lnTo>
                    <a:pt x="1038" y="1028"/>
                  </a:lnTo>
                  <a:lnTo>
                    <a:pt x="1040" y="1030"/>
                  </a:lnTo>
                  <a:lnTo>
                    <a:pt x="1042" y="1033"/>
                  </a:lnTo>
                  <a:lnTo>
                    <a:pt x="1045" y="1035"/>
                  </a:lnTo>
                  <a:lnTo>
                    <a:pt x="1051" y="1038"/>
                  </a:lnTo>
                  <a:lnTo>
                    <a:pt x="1058" y="1042"/>
                  </a:lnTo>
                  <a:lnTo>
                    <a:pt x="1066" y="1045"/>
                  </a:lnTo>
                  <a:lnTo>
                    <a:pt x="1074" y="1047"/>
                  </a:lnTo>
                  <a:lnTo>
                    <a:pt x="1083" y="1049"/>
                  </a:lnTo>
                  <a:lnTo>
                    <a:pt x="1093" y="1049"/>
                  </a:lnTo>
                  <a:lnTo>
                    <a:pt x="1098" y="1049"/>
                  </a:lnTo>
                  <a:lnTo>
                    <a:pt x="1103" y="1049"/>
                  </a:lnTo>
                  <a:lnTo>
                    <a:pt x="1109" y="1047"/>
                  </a:lnTo>
                  <a:lnTo>
                    <a:pt x="1114" y="1045"/>
                  </a:lnTo>
                  <a:lnTo>
                    <a:pt x="1126" y="1042"/>
                  </a:lnTo>
                  <a:lnTo>
                    <a:pt x="1138" y="1036"/>
                  </a:lnTo>
                  <a:lnTo>
                    <a:pt x="1159" y="1024"/>
                  </a:lnTo>
                  <a:lnTo>
                    <a:pt x="1167" y="1019"/>
                  </a:lnTo>
                  <a:lnTo>
                    <a:pt x="1170" y="1017"/>
                  </a:lnTo>
                  <a:lnTo>
                    <a:pt x="1173" y="1014"/>
                  </a:lnTo>
                  <a:lnTo>
                    <a:pt x="1159" y="1121"/>
                  </a:lnTo>
                  <a:lnTo>
                    <a:pt x="1058" y="1192"/>
                  </a:lnTo>
                  <a:lnTo>
                    <a:pt x="1049" y="1198"/>
                  </a:lnTo>
                  <a:lnTo>
                    <a:pt x="1039" y="1203"/>
                  </a:lnTo>
                  <a:lnTo>
                    <a:pt x="1029" y="1206"/>
                  </a:lnTo>
                  <a:lnTo>
                    <a:pt x="1018" y="1210"/>
                  </a:lnTo>
                  <a:lnTo>
                    <a:pt x="1007" y="1213"/>
                  </a:lnTo>
                  <a:lnTo>
                    <a:pt x="995" y="1215"/>
                  </a:lnTo>
                  <a:lnTo>
                    <a:pt x="983" y="1217"/>
                  </a:lnTo>
                  <a:lnTo>
                    <a:pt x="970" y="1217"/>
                  </a:lnTo>
                  <a:lnTo>
                    <a:pt x="953" y="1215"/>
                  </a:lnTo>
                  <a:lnTo>
                    <a:pt x="936" y="1213"/>
                  </a:lnTo>
                  <a:lnTo>
                    <a:pt x="921" y="1208"/>
                  </a:lnTo>
                  <a:lnTo>
                    <a:pt x="906" y="1199"/>
                  </a:lnTo>
                  <a:lnTo>
                    <a:pt x="891" y="1191"/>
                  </a:lnTo>
                  <a:lnTo>
                    <a:pt x="879" y="1178"/>
                  </a:lnTo>
                  <a:lnTo>
                    <a:pt x="866" y="1165"/>
                  </a:lnTo>
                  <a:lnTo>
                    <a:pt x="854" y="1149"/>
                  </a:lnTo>
                  <a:lnTo>
                    <a:pt x="849" y="1140"/>
                  </a:lnTo>
                  <a:lnTo>
                    <a:pt x="844" y="1132"/>
                  </a:lnTo>
                  <a:lnTo>
                    <a:pt x="839" y="1121"/>
                  </a:lnTo>
                  <a:lnTo>
                    <a:pt x="835" y="1113"/>
                  </a:lnTo>
                  <a:lnTo>
                    <a:pt x="830" y="1102"/>
                  </a:lnTo>
                  <a:lnTo>
                    <a:pt x="827" y="1092"/>
                  </a:lnTo>
                  <a:lnTo>
                    <a:pt x="824" y="1081"/>
                  </a:lnTo>
                  <a:lnTo>
                    <a:pt x="820" y="1069"/>
                  </a:lnTo>
                  <a:lnTo>
                    <a:pt x="818" y="1059"/>
                  </a:lnTo>
                  <a:lnTo>
                    <a:pt x="816" y="1047"/>
                  </a:lnTo>
                  <a:lnTo>
                    <a:pt x="813" y="1035"/>
                  </a:lnTo>
                  <a:lnTo>
                    <a:pt x="812" y="1023"/>
                  </a:lnTo>
                  <a:lnTo>
                    <a:pt x="811" y="1009"/>
                  </a:lnTo>
                  <a:lnTo>
                    <a:pt x="810" y="997"/>
                  </a:lnTo>
                  <a:lnTo>
                    <a:pt x="809" y="983"/>
                  </a:lnTo>
                  <a:lnTo>
                    <a:pt x="809" y="969"/>
                  </a:lnTo>
                  <a:lnTo>
                    <a:pt x="809" y="939"/>
                  </a:lnTo>
                  <a:lnTo>
                    <a:pt x="810" y="913"/>
                  </a:lnTo>
                  <a:lnTo>
                    <a:pt x="811" y="874"/>
                  </a:lnTo>
                  <a:lnTo>
                    <a:pt x="813" y="856"/>
                  </a:lnTo>
                  <a:lnTo>
                    <a:pt x="814" y="835"/>
                  </a:lnTo>
                  <a:lnTo>
                    <a:pt x="817" y="809"/>
                  </a:lnTo>
                  <a:lnTo>
                    <a:pt x="821" y="782"/>
                  </a:lnTo>
                  <a:lnTo>
                    <a:pt x="880" y="350"/>
                  </a:lnTo>
                  <a:lnTo>
                    <a:pt x="873" y="345"/>
                  </a:lnTo>
                  <a:lnTo>
                    <a:pt x="579" y="117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9120" y="1432080"/>
              <a:ext cx="239400" cy="450720"/>
            </a:xfrm>
            <a:custGeom>
              <a:avLst/>
              <a:gdLst/>
              <a:ahLst/>
              <a:rect l="l" t="t" r="r" b="b"/>
              <a:pathLst>
                <a:path w="667" h="1252">
                  <a:moveTo>
                    <a:pt x="309" y="1251"/>
                  </a:moveTo>
                  <a:lnTo>
                    <a:pt x="272" y="1249"/>
                  </a:lnTo>
                  <a:lnTo>
                    <a:pt x="253" y="1245"/>
                  </a:lnTo>
                  <a:lnTo>
                    <a:pt x="236" y="1242"/>
                  </a:lnTo>
                  <a:lnTo>
                    <a:pt x="219" y="1237"/>
                  </a:lnTo>
                  <a:lnTo>
                    <a:pt x="203" y="1230"/>
                  </a:lnTo>
                  <a:lnTo>
                    <a:pt x="187" y="1221"/>
                  </a:lnTo>
                  <a:lnTo>
                    <a:pt x="172" y="1213"/>
                  </a:lnTo>
                  <a:lnTo>
                    <a:pt x="158" y="1202"/>
                  </a:lnTo>
                  <a:lnTo>
                    <a:pt x="144" y="1192"/>
                  </a:lnTo>
                  <a:lnTo>
                    <a:pt x="131" y="1180"/>
                  </a:lnTo>
                  <a:lnTo>
                    <a:pt x="119" y="1166"/>
                  </a:lnTo>
                  <a:lnTo>
                    <a:pt x="107" y="1152"/>
                  </a:lnTo>
                  <a:lnTo>
                    <a:pt x="96" y="1136"/>
                  </a:lnTo>
                  <a:lnTo>
                    <a:pt x="86" y="1121"/>
                  </a:lnTo>
                  <a:lnTo>
                    <a:pt x="75" y="1103"/>
                  </a:lnTo>
                  <a:lnTo>
                    <a:pt x="66" y="1086"/>
                  </a:lnTo>
                  <a:lnTo>
                    <a:pt x="58" y="1069"/>
                  </a:lnTo>
                  <a:lnTo>
                    <a:pt x="50" y="1050"/>
                  </a:lnTo>
                  <a:lnTo>
                    <a:pt x="42" y="1029"/>
                  </a:lnTo>
                  <a:lnTo>
                    <a:pt x="36" y="1008"/>
                  </a:lnTo>
                  <a:lnTo>
                    <a:pt x="30" y="987"/>
                  </a:lnTo>
                  <a:lnTo>
                    <a:pt x="24" y="965"/>
                  </a:lnTo>
                  <a:lnTo>
                    <a:pt x="19" y="942"/>
                  </a:lnTo>
                  <a:lnTo>
                    <a:pt x="14" y="920"/>
                  </a:lnTo>
                  <a:lnTo>
                    <a:pt x="10" y="896"/>
                  </a:lnTo>
                  <a:lnTo>
                    <a:pt x="7" y="871"/>
                  </a:lnTo>
                  <a:lnTo>
                    <a:pt x="4" y="847"/>
                  </a:lnTo>
                  <a:lnTo>
                    <a:pt x="3" y="821"/>
                  </a:lnTo>
                  <a:lnTo>
                    <a:pt x="1" y="795"/>
                  </a:lnTo>
                  <a:lnTo>
                    <a:pt x="0" y="767"/>
                  </a:lnTo>
                  <a:lnTo>
                    <a:pt x="0" y="740"/>
                  </a:lnTo>
                  <a:lnTo>
                    <a:pt x="1" y="705"/>
                  </a:lnTo>
                  <a:lnTo>
                    <a:pt x="2" y="670"/>
                  </a:lnTo>
                  <a:lnTo>
                    <a:pt x="4" y="636"/>
                  </a:lnTo>
                  <a:lnTo>
                    <a:pt x="7" y="601"/>
                  </a:lnTo>
                  <a:lnTo>
                    <a:pt x="11" y="566"/>
                  </a:lnTo>
                  <a:lnTo>
                    <a:pt x="16" y="533"/>
                  </a:lnTo>
                  <a:lnTo>
                    <a:pt x="22" y="499"/>
                  </a:lnTo>
                  <a:lnTo>
                    <a:pt x="29" y="466"/>
                  </a:lnTo>
                  <a:lnTo>
                    <a:pt x="37" y="433"/>
                  </a:lnTo>
                  <a:lnTo>
                    <a:pt x="45" y="402"/>
                  </a:lnTo>
                  <a:lnTo>
                    <a:pt x="54" y="371"/>
                  </a:lnTo>
                  <a:lnTo>
                    <a:pt x="64" y="339"/>
                  </a:lnTo>
                  <a:lnTo>
                    <a:pt x="75" y="310"/>
                  </a:lnTo>
                  <a:lnTo>
                    <a:pt x="87" y="282"/>
                  </a:lnTo>
                  <a:lnTo>
                    <a:pt x="100" y="255"/>
                  </a:lnTo>
                  <a:lnTo>
                    <a:pt x="114" y="229"/>
                  </a:lnTo>
                  <a:lnTo>
                    <a:pt x="127" y="204"/>
                  </a:lnTo>
                  <a:lnTo>
                    <a:pt x="142" y="180"/>
                  </a:lnTo>
                  <a:lnTo>
                    <a:pt x="158" y="157"/>
                  </a:lnTo>
                  <a:lnTo>
                    <a:pt x="174" y="137"/>
                  </a:lnTo>
                  <a:lnTo>
                    <a:pt x="191" y="116"/>
                  </a:lnTo>
                  <a:lnTo>
                    <a:pt x="209" y="97"/>
                  </a:lnTo>
                  <a:lnTo>
                    <a:pt x="229" y="80"/>
                  </a:lnTo>
                  <a:lnTo>
                    <a:pt x="248" y="64"/>
                  </a:lnTo>
                  <a:lnTo>
                    <a:pt x="269" y="48"/>
                  </a:lnTo>
                  <a:lnTo>
                    <a:pt x="290" y="36"/>
                  </a:lnTo>
                  <a:lnTo>
                    <a:pt x="313" y="24"/>
                  </a:lnTo>
                  <a:lnTo>
                    <a:pt x="335" y="15"/>
                  </a:lnTo>
                  <a:lnTo>
                    <a:pt x="357" y="9"/>
                  </a:lnTo>
                  <a:lnTo>
                    <a:pt x="381" y="3"/>
                  </a:lnTo>
                  <a:lnTo>
                    <a:pt x="405" y="2"/>
                  </a:lnTo>
                  <a:lnTo>
                    <a:pt x="429" y="0"/>
                  </a:lnTo>
                  <a:lnTo>
                    <a:pt x="457" y="2"/>
                  </a:lnTo>
                  <a:lnTo>
                    <a:pt x="484" y="3"/>
                  </a:lnTo>
                  <a:lnTo>
                    <a:pt x="508" y="9"/>
                  </a:lnTo>
                  <a:lnTo>
                    <a:pt x="532" y="17"/>
                  </a:lnTo>
                  <a:lnTo>
                    <a:pt x="553" y="26"/>
                  </a:lnTo>
                  <a:lnTo>
                    <a:pt x="572" y="38"/>
                  </a:lnTo>
                  <a:lnTo>
                    <a:pt x="589" y="52"/>
                  </a:lnTo>
                  <a:lnTo>
                    <a:pt x="605" y="67"/>
                  </a:lnTo>
                  <a:lnTo>
                    <a:pt x="613" y="76"/>
                  </a:lnTo>
                  <a:lnTo>
                    <a:pt x="620" y="85"/>
                  </a:lnTo>
                  <a:lnTo>
                    <a:pt x="626" y="95"/>
                  </a:lnTo>
                  <a:lnTo>
                    <a:pt x="633" y="106"/>
                  </a:lnTo>
                  <a:lnTo>
                    <a:pt x="638" y="116"/>
                  </a:lnTo>
                  <a:lnTo>
                    <a:pt x="643" y="128"/>
                  </a:lnTo>
                  <a:lnTo>
                    <a:pt x="647" y="140"/>
                  </a:lnTo>
                  <a:lnTo>
                    <a:pt x="651" y="152"/>
                  </a:lnTo>
                  <a:lnTo>
                    <a:pt x="655" y="166"/>
                  </a:lnTo>
                  <a:lnTo>
                    <a:pt x="658" y="180"/>
                  </a:lnTo>
                  <a:lnTo>
                    <a:pt x="660" y="194"/>
                  </a:lnTo>
                  <a:lnTo>
                    <a:pt x="663" y="208"/>
                  </a:lnTo>
                  <a:lnTo>
                    <a:pt x="664" y="223"/>
                  </a:lnTo>
                  <a:lnTo>
                    <a:pt x="666" y="239"/>
                  </a:lnTo>
                  <a:lnTo>
                    <a:pt x="666" y="255"/>
                  </a:lnTo>
                  <a:lnTo>
                    <a:pt x="666" y="272"/>
                  </a:lnTo>
                  <a:lnTo>
                    <a:pt x="666" y="287"/>
                  </a:lnTo>
                  <a:lnTo>
                    <a:pt x="666" y="303"/>
                  </a:lnTo>
                  <a:lnTo>
                    <a:pt x="665" y="319"/>
                  </a:lnTo>
                  <a:lnTo>
                    <a:pt x="663" y="334"/>
                  </a:lnTo>
                  <a:lnTo>
                    <a:pt x="661" y="350"/>
                  </a:lnTo>
                  <a:lnTo>
                    <a:pt x="659" y="364"/>
                  </a:lnTo>
                  <a:lnTo>
                    <a:pt x="656" y="379"/>
                  </a:lnTo>
                  <a:lnTo>
                    <a:pt x="653" y="393"/>
                  </a:lnTo>
                  <a:lnTo>
                    <a:pt x="649" y="407"/>
                  </a:lnTo>
                  <a:lnTo>
                    <a:pt x="646" y="421"/>
                  </a:lnTo>
                  <a:lnTo>
                    <a:pt x="642" y="433"/>
                  </a:lnTo>
                  <a:lnTo>
                    <a:pt x="637" y="447"/>
                  </a:lnTo>
                  <a:lnTo>
                    <a:pt x="626" y="471"/>
                  </a:lnTo>
                  <a:lnTo>
                    <a:pt x="614" y="495"/>
                  </a:lnTo>
                  <a:lnTo>
                    <a:pt x="600" y="518"/>
                  </a:lnTo>
                  <a:lnTo>
                    <a:pt x="585" y="539"/>
                  </a:lnTo>
                  <a:lnTo>
                    <a:pt x="570" y="559"/>
                  </a:lnTo>
                  <a:lnTo>
                    <a:pt x="552" y="577"/>
                  </a:lnTo>
                  <a:lnTo>
                    <a:pt x="534" y="594"/>
                  </a:lnTo>
                  <a:lnTo>
                    <a:pt x="514" y="610"/>
                  </a:lnTo>
                  <a:lnTo>
                    <a:pt x="494" y="624"/>
                  </a:lnTo>
                  <a:lnTo>
                    <a:pt x="472" y="636"/>
                  </a:lnTo>
                  <a:lnTo>
                    <a:pt x="406" y="669"/>
                  </a:lnTo>
                  <a:lnTo>
                    <a:pt x="376" y="682"/>
                  </a:lnTo>
                  <a:lnTo>
                    <a:pt x="350" y="691"/>
                  </a:lnTo>
                  <a:lnTo>
                    <a:pt x="324" y="700"/>
                  </a:lnTo>
                  <a:lnTo>
                    <a:pt x="294" y="707"/>
                  </a:lnTo>
                  <a:lnTo>
                    <a:pt x="227" y="722"/>
                  </a:lnTo>
                  <a:lnTo>
                    <a:pt x="228" y="750"/>
                  </a:lnTo>
                  <a:lnTo>
                    <a:pt x="230" y="778"/>
                  </a:lnTo>
                  <a:lnTo>
                    <a:pt x="232" y="809"/>
                  </a:lnTo>
                  <a:lnTo>
                    <a:pt x="235" y="840"/>
                  </a:lnTo>
                  <a:lnTo>
                    <a:pt x="236" y="856"/>
                  </a:lnTo>
                  <a:lnTo>
                    <a:pt x="238" y="871"/>
                  </a:lnTo>
                  <a:lnTo>
                    <a:pt x="241" y="887"/>
                  </a:lnTo>
                  <a:lnTo>
                    <a:pt x="243" y="901"/>
                  </a:lnTo>
                  <a:lnTo>
                    <a:pt x="246" y="915"/>
                  </a:lnTo>
                  <a:lnTo>
                    <a:pt x="248" y="928"/>
                  </a:lnTo>
                  <a:lnTo>
                    <a:pt x="251" y="941"/>
                  </a:lnTo>
                  <a:lnTo>
                    <a:pt x="254" y="953"/>
                  </a:lnTo>
                  <a:lnTo>
                    <a:pt x="258" y="965"/>
                  </a:lnTo>
                  <a:lnTo>
                    <a:pt x="263" y="977"/>
                  </a:lnTo>
                  <a:lnTo>
                    <a:pt x="268" y="989"/>
                  </a:lnTo>
                  <a:lnTo>
                    <a:pt x="273" y="1001"/>
                  </a:lnTo>
                  <a:lnTo>
                    <a:pt x="279" y="1010"/>
                  </a:lnTo>
                  <a:lnTo>
                    <a:pt x="285" y="1020"/>
                  </a:lnTo>
                  <a:lnTo>
                    <a:pt x="291" y="1029"/>
                  </a:lnTo>
                  <a:lnTo>
                    <a:pt x="298" y="1038"/>
                  </a:lnTo>
                  <a:lnTo>
                    <a:pt x="306" y="1045"/>
                  </a:lnTo>
                  <a:lnTo>
                    <a:pt x="313" y="1051"/>
                  </a:lnTo>
                  <a:lnTo>
                    <a:pt x="322" y="1057"/>
                  </a:lnTo>
                  <a:lnTo>
                    <a:pt x="331" y="1062"/>
                  </a:lnTo>
                  <a:lnTo>
                    <a:pt x="340" y="1064"/>
                  </a:lnTo>
                  <a:lnTo>
                    <a:pt x="350" y="1067"/>
                  </a:lnTo>
                  <a:lnTo>
                    <a:pt x="360" y="1069"/>
                  </a:lnTo>
                  <a:lnTo>
                    <a:pt x="371" y="1069"/>
                  </a:lnTo>
                  <a:lnTo>
                    <a:pt x="390" y="1069"/>
                  </a:lnTo>
                  <a:lnTo>
                    <a:pt x="407" y="1065"/>
                  </a:lnTo>
                  <a:lnTo>
                    <a:pt x="425" y="1062"/>
                  </a:lnTo>
                  <a:lnTo>
                    <a:pt x="441" y="1055"/>
                  </a:lnTo>
                  <a:lnTo>
                    <a:pt x="457" y="1048"/>
                  </a:lnTo>
                  <a:lnTo>
                    <a:pt x="473" y="1039"/>
                  </a:lnTo>
                  <a:lnTo>
                    <a:pt x="487" y="1027"/>
                  </a:lnTo>
                  <a:lnTo>
                    <a:pt x="501" y="1015"/>
                  </a:lnTo>
                  <a:lnTo>
                    <a:pt x="515" y="1001"/>
                  </a:lnTo>
                  <a:lnTo>
                    <a:pt x="528" y="984"/>
                  </a:lnTo>
                  <a:lnTo>
                    <a:pt x="540" y="965"/>
                  </a:lnTo>
                  <a:lnTo>
                    <a:pt x="554" y="944"/>
                  </a:lnTo>
                  <a:lnTo>
                    <a:pt x="566" y="921"/>
                  </a:lnTo>
                  <a:lnTo>
                    <a:pt x="578" y="897"/>
                  </a:lnTo>
                  <a:lnTo>
                    <a:pt x="591" y="871"/>
                  </a:lnTo>
                  <a:lnTo>
                    <a:pt x="603" y="842"/>
                  </a:lnTo>
                  <a:lnTo>
                    <a:pt x="650" y="915"/>
                  </a:lnTo>
                  <a:lnTo>
                    <a:pt x="635" y="953"/>
                  </a:lnTo>
                  <a:lnTo>
                    <a:pt x="619" y="987"/>
                  </a:lnTo>
                  <a:lnTo>
                    <a:pt x="602" y="1020"/>
                  </a:lnTo>
                  <a:lnTo>
                    <a:pt x="583" y="1053"/>
                  </a:lnTo>
                  <a:lnTo>
                    <a:pt x="565" y="1083"/>
                  </a:lnTo>
                  <a:lnTo>
                    <a:pt x="544" y="1110"/>
                  </a:lnTo>
                  <a:lnTo>
                    <a:pt x="522" y="1135"/>
                  </a:lnTo>
                  <a:lnTo>
                    <a:pt x="500" y="1159"/>
                  </a:lnTo>
                  <a:lnTo>
                    <a:pt x="478" y="1180"/>
                  </a:lnTo>
                  <a:lnTo>
                    <a:pt x="455" y="1199"/>
                  </a:lnTo>
                  <a:lnTo>
                    <a:pt x="431" y="1214"/>
                  </a:lnTo>
                  <a:lnTo>
                    <a:pt x="407" y="1228"/>
                  </a:lnTo>
                  <a:lnTo>
                    <a:pt x="384" y="1237"/>
                  </a:lnTo>
                  <a:lnTo>
                    <a:pt x="359" y="1245"/>
                  </a:lnTo>
                  <a:lnTo>
                    <a:pt x="334" y="1249"/>
                  </a:lnTo>
                  <a:close/>
                  <a:moveTo>
                    <a:pt x="456" y="305"/>
                  </a:moveTo>
                  <a:lnTo>
                    <a:pt x="456" y="281"/>
                  </a:lnTo>
                  <a:lnTo>
                    <a:pt x="455" y="256"/>
                  </a:lnTo>
                  <a:lnTo>
                    <a:pt x="453" y="235"/>
                  </a:lnTo>
                  <a:lnTo>
                    <a:pt x="450" y="215"/>
                  </a:lnTo>
                  <a:lnTo>
                    <a:pt x="448" y="196"/>
                  </a:lnTo>
                  <a:lnTo>
                    <a:pt x="445" y="178"/>
                  </a:lnTo>
                  <a:lnTo>
                    <a:pt x="442" y="171"/>
                  </a:lnTo>
                  <a:lnTo>
                    <a:pt x="440" y="163"/>
                  </a:lnTo>
                  <a:lnTo>
                    <a:pt x="438" y="156"/>
                  </a:lnTo>
                  <a:lnTo>
                    <a:pt x="435" y="149"/>
                  </a:lnTo>
                  <a:lnTo>
                    <a:pt x="433" y="142"/>
                  </a:lnTo>
                  <a:lnTo>
                    <a:pt x="430" y="137"/>
                  </a:lnTo>
                  <a:lnTo>
                    <a:pt x="427" y="130"/>
                  </a:lnTo>
                  <a:lnTo>
                    <a:pt x="424" y="125"/>
                  </a:lnTo>
                  <a:lnTo>
                    <a:pt x="421" y="121"/>
                  </a:lnTo>
                  <a:lnTo>
                    <a:pt x="418" y="116"/>
                  </a:lnTo>
                  <a:lnTo>
                    <a:pt x="415" y="112"/>
                  </a:lnTo>
                  <a:lnTo>
                    <a:pt x="412" y="109"/>
                  </a:lnTo>
                  <a:lnTo>
                    <a:pt x="408" y="106"/>
                  </a:lnTo>
                  <a:lnTo>
                    <a:pt x="405" y="102"/>
                  </a:lnTo>
                  <a:lnTo>
                    <a:pt x="401" y="100"/>
                  </a:lnTo>
                  <a:lnTo>
                    <a:pt x="397" y="99"/>
                  </a:lnTo>
                  <a:lnTo>
                    <a:pt x="393" y="97"/>
                  </a:lnTo>
                  <a:lnTo>
                    <a:pt x="389" y="95"/>
                  </a:lnTo>
                  <a:lnTo>
                    <a:pt x="380" y="95"/>
                  </a:lnTo>
                  <a:lnTo>
                    <a:pt x="374" y="95"/>
                  </a:lnTo>
                  <a:lnTo>
                    <a:pt x="368" y="97"/>
                  </a:lnTo>
                  <a:lnTo>
                    <a:pt x="362" y="100"/>
                  </a:lnTo>
                  <a:lnTo>
                    <a:pt x="356" y="104"/>
                  </a:lnTo>
                  <a:lnTo>
                    <a:pt x="349" y="109"/>
                  </a:lnTo>
                  <a:lnTo>
                    <a:pt x="343" y="116"/>
                  </a:lnTo>
                  <a:lnTo>
                    <a:pt x="337" y="125"/>
                  </a:lnTo>
                  <a:lnTo>
                    <a:pt x="331" y="133"/>
                  </a:lnTo>
                  <a:lnTo>
                    <a:pt x="325" y="142"/>
                  </a:lnTo>
                  <a:lnTo>
                    <a:pt x="319" y="154"/>
                  </a:lnTo>
                  <a:lnTo>
                    <a:pt x="308" y="180"/>
                  </a:lnTo>
                  <a:lnTo>
                    <a:pt x="296" y="209"/>
                  </a:lnTo>
                  <a:lnTo>
                    <a:pt x="285" y="244"/>
                  </a:lnTo>
                  <a:lnTo>
                    <a:pt x="274" y="282"/>
                  </a:lnTo>
                  <a:lnTo>
                    <a:pt x="265" y="324"/>
                  </a:lnTo>
                  <a:lnTo>
                    <a:pt x="257" y="369"/>
                  </a:lnTo>
                  <a:lnTo>
                    <a:pt x="249" y="414"/>
                  </a:lnTo>
                  <a:lnTo>
                    <a:pt x="242" y="462"/>
                  </a:lnTo>
                  <a:lnTo>
                    <a:pt x="237" y="514"/>
                  </a:lnTo>
                  <a:lnTo>
                    <a:pt x="232" y="568"/>
                  </a:lnTo>
                  <a:lnTo>
                    <a:pt x="229" y="624"/>
                  </a:lnTo>
                  <a:lnTo>
                    <a:pt x="305" y="603"/>
                  </a:lnTo>
                  <a:lnTo>
                    <a:pt x="323" y="596"/>
                  </a:lnTo>
                  <a:lnTo>
                    <a:pt x="339" y="589"/>
                  </a:lnTo>
                  <a:lnTo>
                    <a:pt x="352" y="580"/>
                  </a:lnTo>
                  <a:lnTo>
                    <a:pt x="358" y="577"/>
                  </a:lnTo>
                  <a:lnTo>
                    <a:pt x="364" y="572"/>
                  </a:lnTo>
                  <a:lnTo>
                    <a:pt x="376" y="561"/>
                  </a:lnTo>
                  <a:lnTo>
                    <a:pt x="387" y="551"/>
                  </a:lnTo>
                  <a:lnTo>
                    <a:pt x="396" y="539"/>
                  </a:lnTo>
                  <a:lnTo>
                    <a:pt x="406" y="527"/>
                  </a:lnTo>
                  <a:lnTo>
                    <a:pt x="414" y="513"/>
                  </a:lnTo>
                  <a:lnTo>
                    <a:pt x="422" y="499"/>
                  </a:lnTo>
                  <a:lnTo>
                    <a:pt x="428" y="485"/>
                  </a:lnTo>
                  <a:lnTo>
                    <a:pt x="434" y="469"/>
                  </a:lnTo>
                  <a:lnTo>
                    <a:pt x="439" y="454"/>
                  </a:lnTo>
                  <a:lnTo>
                    <a:pt x="444" y="436"/>
                  </a:lnTo>
                  <a:lnTo>
                    <a:pt x="447" y="417"/>
                  </a:lnTo>
                  <a:lnTo>
                    <a:pt x="450" y="398"/>
                  </a:lnTo>
                  <a:lnTo>
                    <a:pt x="453" y="376"/>
                  </a:lnTo>
                  <a:lnTo>
                    <a:pt x="454" y="353"/>
                  </a:lnTo>
                  <a:lnTo>
                    <a:pt x="456" y="33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60600" y="1436760"/>
              <a:ext cx="316080" cy="439560"/>
            </a:xfrm>
            <a:custGeom>
              <a:avLst/>
              <a:gdLst/>
              <a:ahLst/>
              <a:rect l="l" t="t" r="r" b="b"/>
              <a:pathLst>
                <a:path w="877" h="1221">
                  <a:moveTo>
                    <a:pt x="344" y="516"/>
                  </a:moveTo>
                  <a:lnTo>
                    <a:pt x="553" y="516"/>
                  </a:lnTo>
                  <a:lnTo>
                    <a:pt x="615" y="22"/>
                  </a:lnTo>
                  <a:lnTo>
                    <a:pt x="822" y="5"/>
                  </a:lnTo>
                  <a:lnTo>
                    <a:pt x="830" y="22"/>
                  </a:lnTo>
                  <a:lnTo>
                    <a:pt x="738" y="755"/>
                  </a:lnTo>
                  <a:lnTo>
                    <a:pt x="735" y="774"/>
                  </a:lnTo>
                  <a:lnTo>
                    <a:pt x="733" y="797"/>
                  </a:lnTo>
                  <a:lnTo>
                    <a:pt x="730" y="819"/>
                  </a:lnTo>
                  <a:lnTo>
                    <a:pt x="728" y="847"/>
                  </a:lnTo>
                  <a:lnTo>
                    <a:pt x="725" y="875"/>
                  </a:lnTo>
                  <a:lnTo>
                    <a:pt x="723" y="897"/>
                  </a:lnTo>
                  <a:lnTo>
                    <a:pt x="722" y="916"/>
                  </a:lnTo>
                  <a:lnTo>
                    <a:pt x="722" y="925"/>
                  </a:lnTo>
                  <a:lnTo>
                    <a:pt x="722" y="932"/>
                  </a:lnTo>
                  <a:lnTo>
                    <a:pt x="722" y="949"/>
                  </a:lnTo>
                  <a:lnTo>
                    <a:pt x="723" y="965"/>
                  </a:lnTo>
                  <a:lnTo>
                    <a:pt x="724" y="979"/>
                  </a:lnTo>
                  <a:lnTo>
                    <a:pt x="725" y="984"/>
                  </a:lnTo>
                  <a:lnTo>
                    <a:pt x="726" y="991"/>
                  </a:lnTo>
                  <a:lnTo>
                    <a:pt x="727" y="996"/>
                  </a:lnTo>
                  <a:lnTo>
                    <a:pt x="728" y="1001"/>
                  </a:lnTo>
                  <a:lnTo>
                    <a:pt x="729" y="1007"/>
                  </a:lnTo>
                  <a:lnTo>
                    <a:pt x="731" y="1012"/>
                  </a:lnTo>
                  <a:lnTo>
                    <a:pt x="732" y="1017"/>
                  </a:lnTo>
                  <a:lnTo>
                    <a:pt x="734" y="1020"/>
                  </a:lnTo>
                  <a:lnTo>
                    <a:pt x="736" y="1024"/>
                  </a:lnTo>
                  <a:lnTo>
                    <a:pt x="738" y="1027"/>
                  </a:lnTo>
                  <a:lnTo>
                    <a:pt x="740" y="1031"/>
                  </a:lnTo>
                  <a:lnTo>
                    <a:pt x="742" y="1033"/>
                  </a:lnTo>
                  <a:lnTo>
                    <a:pt x="745" y="1036"/>
                  </a:lnTo>
                  <a:lnTo>
                    <a:pt x="748" y="1038"/>
                  </a:lnTo>
                  <a:lnTo>
                    <a:pt x="754" y="1041"/>
                  </a:lnTo>
                  <a:lnTo>
                    <a:pt x="761" y="1045"/>
                  </a:lnTo>
                  <a:lnTo>
                    <a:pt x="768" y="1048"/>
                  </a:lnTo>
                  <a:lnTo>
                    <a:pt x="777" y="1050"/>
                  </a:lnTo>
                  <a:lnTo>
                    <a:pt x="785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8"/>
                  </a:lnTo>
                  <a:lnTo>
                    <a:pt x="828" y="1045"/>
                  </a:lnTo>
                  <a:lnTo>
                    <a:pt x="840" y="1039"/>
                  </a:lnTo>
                  <a:lnTo>
                    <a:pt x="861" y="1027"/>
                  </a:lnTo>
                  <a:lnTo>
                    <a:pt x="869" y="1022"/>
                  </a:lnTo>
                  <a:lnTo>
                    <a:pt x="872" y="1020"/>
                  </a:lnTo>
                  <a:lnTo>
                    <a:pt x="876" y="1017"/>
                  </a:lnTo>
                  <a:lnTo>
                    <a:pt x="861" y="1124"/>
                  </a:lnTo>
                  <a:lnTo>
                    <a:pt x="759" y="1195"/>
                  </a:lnTo>
                  <a:lnTo>
                    <a:pt x="749" y="1201"/>
                  </a:lnTo>
                  <a:lnTo>
                    <a:pt x="739" y="1206"/>
                  </a:lnTo>
                  <a:lnTo>
                    <a:pt x="728" y="1209"/>
                  </a:lnTo>
                  <a:lnTo>
                    <a:pt x="717" y="1213"/>
                  </a:lnTo>
                  <a:lnTo>
                    <a:pt x="706" y="1216"/>
                  </a:lnTo>
                  <a:lnTo>
                    <a:pt x="694" y="1218"/>
                  </a:lnTo>
                  <a:lnTo>
                    <a:pt x="682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6"/>
                  </a:lnTo>
                  <a:lnTo>
                    <a:pt x="620" y="1211"/>
                  </a:lnTo>
                  <a:lnTo>
                    <a:pt x="605" y="1202"/>
                  </a:lnTo>
                  <a:lnTo>
                    <a:pt x="591" y="1194"/>
                  </a:lnTo>
                  <a:lnTo>
                    <a:pt x="578" y="1181"/>
                  </a:lnTo>
                  <a:lnTo>
                    <a:pt x="565" y="1168"/>
                  </a:lnTo>
                  <a:lnTo>
                    <a:pt x="553" y="1152"/>
                  </a:lnTo>
                  <a:lnTo>
                    <a:pt x="547" y="1143"/>
                  </a:lnTo>
                  <a:lnTo>
                    <a:pt x="542" y="1135"/>
                  </a:lnTo>
                  <a:lnTo>
                    <a:pt x="537" y="1124"/>
                  </a:lnTo>
                  <a:lnTo>
                    <a:pt x="533" y="1116"/>
                  </a:lnTo>
                  <a:lnTo>
                    <a:pt x="529" y="1105"/>
                  </a:lnTo>
                  <a:lnTo>
                    <a:pt x="524" y="1095"/>
                  </a:lnTo>
                  <a:lnTo>
                    <a:pt x="521" y="1084"/>
                  </a:lnTo>
                  <a:lnTo>
                    <a:pt x="518" y="1072"/>
                  </a:lnTo>
                  <a:lnTo>
                    <a:pt x="515" y="1062"/>
                  </a:lnTo>
                  <a:lnTo>
                    <a:pt x="513" y="1050"/>
                  </a:lnTo>
                  <a:lnTo>
                    <a:pt x="511" y="1038"/>
                  </a:lnTo>
                  <a:lnTo>
                    <a:pt x="509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7" y="986"/>
                  </a:lnTo>
                  <a:lnTo>
                    <a:pt x="507" y="972"/>
                  </a:lnTo>
                  <a:lnTo>
                    <a:pt x="507" y="942"/>
                  </a:lnTo>
                  <a:lnTo>
                    <a:pt x="507" y="918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8"/>
                  </a:lnTo>
                  <a:lnTo>
                    <a:pt x="510" y="870"/>
                  </a:lnTo>
                  <a:lnTo>
                    <a:pt x="510" y="861"/>
                  </a:lnTo>
                  <a:lnTo>
                    <a:pt x="513" y="840"/>
                  </a:lnTo>
                  <a:lnTo>
                    <a:pt x="515" y="814"/>
                  </a:lnTo>
                  <a:lnTo>
                    <a:pt x="518" y="785"/>
                  </a:lnTo>
                  <a:lnTo>
                    <a:pt x="538" y="631"/>
                  </a:lnTo>
                  <a:lnTo>
                    <a:pt x="330" y="631"/>
                  </a:lnTo>
                  <a:lnTo>
                    <a:pt x="258" y="1199"/>
                  </a:lnTo>
                  <a:lnTo>
                    <a:pt x="43" y="1199"/>
                  </a:lnTo>
                  <a:lnTo>
                    <a:pt x="135" y="464"/>
                  </a:lnTo>
                  <a:lnTo>
                    <a:pt x="145" y="378"/>
                  </a:lnTo>
                  <a:lnTo>
                    <a:pt x="148" y="352"/>
                  </a:lnTo>
                  <a:lnTo>
                    <a:pt x="149" y="327"/>
                  </a:lnTo>
                  <a:lnTo>
                    <a:pt x="151" y="307"/>
                  </a:lnTo>
                  <a:lnTo>
                    <a:pt x="151" y="296"/>
                  </a:lnTo>
                  <a:lnTo>
                    <a:pt x="151" y="288"/>
                  </a:lnTo>
                  <a:lnTo>
                    <a:pt x="151" y="272"/>
                  </a:lnTo>
                  <a:lnTo>
                    <a:pt x="150" y="256"/>
                  </a:lnTo>
                  <a:lnTo>
                    <a:pt x="149" y="243"/>
                  </a:lnTo>
                  <a:lnTo>
                    <a:pt x="148" y="230"/>
                  </a:lnTo>
                  <a:lnTo>
                    <a:pt x="146" y="225"/>
                  </a:lnTo>
                  <a:lnTo>
                    <a:pt x="145" y="220"/>
                  </a:lnTo>
                  <a:lnTo>
                    <a:pt x="143" y="215"/>
                  </a:lnTo>
                  <a:lnTo>
                    <a:pt x="143" y="210"/>
                  </a:lnTo>
                  <a:lnTo>
                    <a:pt x="141" y="204"/>
                  </a:lnTo>
                  <a:lnTo>
                    <a:pt x="139" y="201"/>
                  </a:lnTo>
                  <a:lnTo>
                    <a:pt x="138" y="197"/>
                  </a:lnTo>
                  <a:lnTo>
                    <a:pt x="136" y="194"/>
                  </a:lnTo>
                  <a:lnTo>
                    <a:pt x="134" y="191"/>
                  </a:lnTo>
                  <a:lnTo>
                    <a:pt x="132" y="187"/>
                  </a:lnTo>
                  <a:lnTo>
                    <a:pt x="129" y="185"/>
                  </a:lnTo>
                  <a:lnTo>
                    <a:pt x="127" y="182"/>
                  </a:lnTo>
                  <a:lnTo>
                    <a:pt x="124" y="180"/>
                  </a:lnTo>
                  <a:lnTo>
                    <a:pt x="121" y="178"/>
                  </a:lnTo>
                  <a:lnTo>
                    <a:pt x="115" y="175"/>
                  </a:lnTo>
                  <a:lnTo>
                    <a:pt x="107" y="171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1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60" y="171"/>
                  </a:lnTo>
                  <a:lnTo>
                    <a:pt x="54" y="173"/>
                  </a:lnTo>
                  <a:lnTo>
                    <a:pt x="49" y="175"/>
                  </a:lnTo>
                  <a:lnTo>
                    <a:pt x="43" y="177"/>
                  </a:lnTo>
                  <a:lnTo>
                    <a:pt x="38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116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4" y="3"/>
                  </a:lnTo>
                  <a:lnTo>
                    <a:pt x="185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6" y="2"/>
                  </a:lnTo>
                  <a:lnTo>
                    <a:pt x="243" y="5"/>
                  </a:lnTo>
                  <a:lnTo>
                    <a:pt x="260" y="10"/>
                  </a:lnTo>
                  <a:lnTo>
                    <a:pt x="276" y="17"/>
                  </a:lnTo>
                  <a:lnTo>
                    <a:pt x="291" y="28"/>
                  </a:lnTo>
                  <a:lnTo>
                    <a:pt x="298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2" y="62"/>
                  </a:lnTo>
                  <a:lnTo>
                    <a:pt x="327" y="71"/>
                  </a:lnTo>
                  <a:lnTo>
                    <a:pt x="336" y="90"/>
                  </a:lnTo>
                  <a:lnTo>
                    <a:pt x="344" y="109"/>
                  </a:lnTo>
                  <a:lnTo>
                    <a:pt x="348" y="120"/>
                  </a:lnTo>
                  <a:lnTo>
                    <a:pt x="351" y="130"/>
                  </a:lnTo>
                  <a:lnTo>
                    <a:pt x="354" y="140"/>
                  </a:lnTo>
                  <a:lnTo>
                    <a:pt x="357" y="152"/>
                  </a:lnTo>
                  <a:lnTo>
                    <a:pt x="359" y="163"/>
                  </a:lnTo>
                  <a:lnTo>
                    <a:pt x="361" y="175"/>
                  </a:lnTo>
                  <a:lnTo>
                    <a:pt x="363" y="187"/>
                  </a:lnTo>
                  <a:lnTo>
                    <a:pt x="364" y="199"/>
                  </a:lnTo>
                  <a:lnTo>
                    <a:pt x="365" y="211"/>
                  </a:lnTo>
                  <a:lnTo>
                    <a:pt x="366" y="223"/>
                  </a:lnTo>
                  <a:lnTo>
                    <a:pt x="367" y="236"/>
                  </a:lnTo>
                  <a:lnTo>
                    <a:pt x="367" y="249"/>
                  </a:lnTo>
                  <a:lnTo>
                    <a:pt x="367" y="270"/>
                  </a:lnTo>
                  <a:lnTo>
                    <a:pt x="366" y="293"/>
                  </a:lnTo>
                  <a:lnTo>
                    <a:pt x="365" y="314"/>
                  </a:lnTo>
                  <a:lnTo>
                    <a:pt x="364" y="334"/>
                  </a:lnTo>
                  <a:lnTo>
                    <a:pt x="363" y="357"/>
                  </a:lnTo>
                  <a:lnTo>
                    <a:pt x="361" y="381"/>
                  </a:lnTo>
                  <a:lnTo>
                    <a:pt x="358" y="407"/>
                  </a:lnTo>
                  <a:lnTo>
                    <a:pt x="354" y="4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60840" y="1432080"/>
              <a:ext cx="295200" cy="449280"/>
            </a:xfrm>
            <a:custGeom>
              <a:avLst/>
              <a:gdLst/>
              <a:ahLst/>
              <a:rect l="l" t="t" r="r" b="b"/>
              <a:pathLst>
                <a:path w="820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7"/>
                  </a:lnTo>
                  <a:lnTo>
                    <a:pt x="366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6" y="1233"/>
                  </a:lnTo>
                  <a:lnTo>
                    <a:pt x="278" y="1239"/>
                  </a:lnTo>
                  <a:lnTo>
                    <a:pt x="270" y="1240"/>
                  </a:lnTo>
                  <a:lnTo>
                    <a:pt x="261" y="1244"/>
                  </a:lnTo>
                  <a:lnTo>
                    <a:pt x="253" y="1245"/>
                  </a:lnTo>
                  <a:lnTo>
                    <a:pt x="245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3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7" y="1199"/>
                  </a:lnTo>
                  <a:lnTo>
                    <a:pt x="98" y="1188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4" y="980"/>
                  </a:lnTo>
                  <a:lnTo>
                    <a:pt x="7" y="937"/>
                  </a:lnTo>
                  <a:lnTo>
                    <a:pt x="3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4" y="670"/>
                  </a:lnTo>
                  <a:lnTo>
                    <a:pt x="8" y="632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4" y="520"/>
                  </a:lnTo>
                  <a:lnTo>
                    <a:pt x="32" y="483"/>
                  </a:lnTo>
                  <a:lnTo>
                    <a:pt x="41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89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1" y="48"/>
                  </a:lnTo>
                  <a:lnTo>
                    <a:pt x="278" y="34"/>
                  </a:lnTo>
                  <a:lnTo>
                    <a:pt x="297" y="24"/>
                  </a:lnTo>
                  <a:lnTo>
                    <a:pt x="317" y="15"/>
                  </a:lnTo>
                  <a:lnTo>
                    <a:pt x="335" y="9"/>
                  </a:lnTo>
                  <a:lnTo>
                    <a:pt x="355" y="3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49" y="7"/>
                  </a:lnTo>
                  <a:lnTo>
                    <a:pt x="461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3"/>
                  </a:lnTo>
                  <a:lnTo>
                    <a:pt x="768" y="17"/>
                  </a:lnTo>
                  <a:lnTo>
                    <a:pt x="776" y="36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2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1"/>
                  </a:lnTo>
                  <a:lnTo>
                    <a:pt x="664" y="947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1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80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3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4"/>
                  </a:lnTo>
                  <a:lnTo>
                    <a:pt x="720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59" y="1064"/>
                  </a:lnTo>
                  <a:lnTo>
                    <a:pt x="771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2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2" y="1216"/>
                  </a:lnTo>
                  <a:lnTo>
                    <a:pt x="682" y="1221"/>
                  </a:lnTo>
                  <a:lnTo>
                    <a:pt x="671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7" y="1233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1" y="1232"/>
                  </a:lnTo>
                  <a:lnTo>
                    <a:pt x="567" y="1228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4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0" y="1098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1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6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3" y="119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3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6" y="190"/>
                  </a:lnTo>
                  <a:lnTo>
                    <a:pt x="338" y="206"/>
                  </a:lnTo>
                  <a:lnTo>
                    <a:pt x="329" y="223"/>
                  </a:lnTo>
                  <a:lnTo>
                    <a:pt x="321" y="242"/>
                  </a:lnTo>
                  <a:lnTo>
                    <a:pt x="313" y="261"/>
                  </a:lnTo>
                  <a:lnTo>
                    <a:pt x="306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7" y="428"/>
                  </a:lnTo>
                  <a:lnTo>
                    <a:pt x="261" y="454"/>
                  </a:lnTo>
                  <a:lnTo>
                    <a:pt x="256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4" y="850"/>
                  </a:lnTo>
                  <a:lnTo>
                    <a:pt x="235" y="876"/>
                  </a:lnTo>
                  <a:lnTo>
                    <a:pt x="238" y="902"/>
                  </a:lnTo>
                  <a:lnTo>
                    <a:pt x="239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5" y="949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7"/>
                  </a:lnTo>
                  <a:lnTo>
                    <a:pt x="256" y="996"/>
                  </a:lnTo>
                  <a:lnTo>
                    <a:pt x="260" y="1006"/>
                  </a:lnTo>
                  <a:lnTo>
                    <a:pt x="263" y="1013"/>
                  </a:lnTo>
                  <a:lnTo>
                    <a:pt x="267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3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8" y="1065"/>
                  </a:lnTo>
                  <a:lnTo>
                    <a:pt x="334" y="1065"/>
                  </a:lnTo>
                  <a:lnTo>
                    <a:pt x="342" y="1065"/>
                  </a:lnTo>
                  <a:lnTo>
                    <a:pt x="350" y="1064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2" y="1053"/>
                  </a:lnTo>
                  <a:lnTo>
                    <a:pt x="378" y="1046"/>
                  </a:lnTo>
                  <a:lnTo>
                    <a:pt x="386" y="1041"/>
                  </a:lnTo>
                  <a:lnTo>
                    <a:pt x="393" y="1032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2" y="975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41720" y="1722600"/>
              <a:ext cx="109440" cy="314280"/>
            </a:xfrm>
            <a:custGeom>
              <a:avLst/>
              <a:gdLst/>
              <a:ahLst/>
              <a:rect l="l" t="t" r="r" b="b"/>
              <a:pathLst>
                <a:path w="305" h="871">
                  <a:moveTo>
                    <a:pt x="304" y="248"/>
                  </a:moveTo>
                  <a:lnTo>
                    <a:pt x="304" y="271"/>
                  </a:lnTo>
                  <a:lnTo>
                    <a:pt x="302" y="295"/>
                  </a:lnTo>
                  <a:lnTo>
                    <a:pt x="301" y="317"/>
                  </a:lnTo>
                  <a:lnTo>
                    <a:pt x="299" y="340"/>
                  </a:lnTo>
                  <a:lnTo>
                    <a:pt x="296" y="363"/>
                  </a:lnTo>
                  <a:lnTo>
                    <a:pt x="292" y="385"/>
                  </a:lnTo>
                  <a:lnTo>
                    <a:pt x="288" y="408"/>
                  </a:lnTo>
                  <a:lnTo>
                    <a:pt x="283" y="430"/>
                  </a:lnTo>
                  <a:lnTo>
                    <a:pt x="271" y="475"/>
                  </a:lnTo>
                  <a:lnTo>
                    <a:pt x="258" y="518"/>
                  </a:lnTo>
                  <a:lnTo>
                    <a:pt x="241" y="562"/>
                  </a:lnTo>
                  <a:lnTo>
                    <a:pt x="221" y="605"/>
                  </a:lnTo>
                  <a:lnTo>
                    <a:pt x="200" y="647"/>
                  </a:lnTo>
                  <a:lnTo>
                    <a:pt x="178" y="686"/>
                  </a:lnTo>
                  <a:lnTo>
                    <a:pt x="155" y="725"/>
                  </a:lnTo>
                  <a:lnTo>
                    <a:pt x="130" y="759"/>
                  </a:lnTo>
                  <a:lnTo>
                    <a:pt x="105" y="790"/>
                  </a:lnTo>
                  <a:lnTo>
                    <a:pt x="78" y="820"/>
                  </a:lnTo>
                  <a:lnTo>
                    <a:pt x="50" y="846"/>
                  </a:lnTo>
                  <a:lnTo>
                    <a:pt x="21" y="870"/>
                  </a:lnTo>
                  <a:lnTo>
                    <a:pt x="0" y="785"/>
                  </a:lnTo>
                  <a:lnTo>
                    <a:pt x="36" y="751"/>
                  </a:lnTo>
                  <a:lnTo>
                    <a:pt x="53" y="735"/>
                  </a:lnTo>
                  <a:lnTo>
                    <a:pt x="67" y="719"/>
                  </a:lnTo>
                  <a:lnTo>
                    <a:pt x="74" y="712"/>
                  </a:lnTo>
                  <a:lnTo>
                    <a:pt x="82" y="704"/>
                  </a:lnTo>
                  <a:lnTo>
                    <a:pt x="89" y="693"/>
                  </a:lnTo>
                  <a:lnTo>
                    <a:pt x="96" y="683"/>
                  </a:lnTo>
                  <a:lnTo>
                    <a:pt x="111" y="660"/>
                  </a:lnTo>
                  <a:lnTo>
                    <a:pt x="126" y="634"/>
                  </a:lnTo>
                  <a:lnTo>
                    <a:pt x="133" y="622"/>
                  </a:lnTo>
                  <a:lnTo>
                    <a:pt x="139" y="612"/>
                  </a:lnTo>
                  <a:lnTo>
                    <a:pt x="144" y="600"/>
                  </a:lnTo>
                  <a:lnTo>
                    <a:pt x="150" y="588"/>
                  </a:lnTo>
                  <a:lnTo>
                    <a:pt x="156" y="574"/>
                  </a:lnTo>
                  <a:lnTo>
                    <a:pt x="161" y="562"/>
                  </a:lnTo>
                  <a:lnTo>
                    <a:pt x="172" y="534"/>
                  </a:lnTo>
                  <a:lnTo>
                    <a:pt x="177" y="520"/>
                  </a:lnTo>
                  <a:lnTo>
                    <a:pt x="181" y="506"/>
                  </a:lnTo>
                  <a:lnTo>
                    <a:pt x="185" y="491"/>
                  </a:lnTo>
                  <a:lnTo>
                    <a:pt x="189" y="475"/>
                  </a:lnTo>
                  <a:lnTo>
                    <a:pt x="193" y="458"/>
                  </a:lnTo>
                  <a:lnTo>
                    <a:pt x="196" y="440"/>
                  </a:lnTo>
                  <a:lnTo>
                    <a:pt x="199" y="423"/>
                  </a:lnTo>
                  <a:lnTo>
                    <a:pt x="202" y="406"/>
                  </a:lnTo>
                  <a:lnTo>
                    <a:pt x="164" y="406"/>
                  </a:lnTo>
                  <a:lnTo>
                    <a:pt x="150" y="406"/>
                  </a:lnTo>
                  <a:lnTo>
                    <a:pt x="135" y="402"/>
                  </a:lnTo>
                  <a:lnTo>
                    <a:pt x="122" y="401"/>
                  </a:lnTo>
                  <a:lnTo>
                    <a:pt x="111" y="395"/>
                  </a:lnTo>
                  <a:lnTo>
                    <a:pt x="100" y="388"/>
                  </a:lnTo>
                  <a:lnTo>
                    <a:pt x="91" y="382"/>
                  </a:lnTo>
                  <a:lnTo>
                    <a:pt x="86" y="378"/>
                  </a:lnTo>
                  <a:lnTo>
                    <a:pt x="82" y="373"/>
                  </a:lnTo>
                  <a:lnTo>
                    <a:pt x="78" y="368"/>
                  </a:lnTo>
                  <a:lnTo>
                    <a:pt x="74" y="363"/>
                  </a:lnTo>
                  <a:lnTo>
                    <a:pt x="71" y="357"/>
                  </a:lnTo>
                  <a:lnTo>
                    <a:pt x="67" y="350"/>
                  </a:lnTo>
                  <a:lnTo>
                    <a:pt x="64" y="345"/>
                  </a:lnTo>
                  <a:lnTo>
                    <a:pt x="61" y="338"/>
                  </a:lnTo>
                  <a:lnTo>
                    <a:pt x="59" y="331"/>
                  </a:lnTo>
                  <a:lnTo>
                    <a:pt x="56" y="324"/>
                  </a:lnTo>
                  <a:lnTo>
                    <a:pt x="55" y="317"/>
                  </a:lnTo>
                  <a:lnTo>
                    <a:pt x="52" y="309"/>
                  </a:lnTo>
                  <a:lnTo>
                    <a:pt x="50" y="302"/>
                  </a:lnTo>
                  <a:lnTo>
                    <a:pt x="50" y="293"/>
                  </a:lnTo>
                  <a:lnTo>
                    <a:pt x="48" y="285"/>
                  </a:lnTo>
                  <a:lnTo>
                    <a:pt x="47" y="276"/>
                  </a:lnTo>
                  <a:lnTo>
                    <a:pt x="46" y="267"/>
                  </a:lnTo>
                  <a:lnTo>
                    <a:pt x="46" y="259"/>
                  </a:lnTo>
                  <a:lnTo>
                    <a:pt x="45" y="240"/>
                  </a:lnTo>
                  <a:lnTo>
                    <a:pt x="45" y="227"/>
                  </a:lnTo>
                  <a:lnTo>
                    <a:pt x="46" y="217"/>
                  </a:lnTo>
                  <a:lnTo>
                    <a:pt x="47" y="207"/>
                  </a:lnTo>
                  <a:lnTo>
                    <a:pt x="48" y="194"/>
                  </a:lnTo>
                  <a:lnTo>
                    <a:pt x="50" y="184"/>
                  </a:lnTo>
                  <a:lnTo>
                    <a:pt x="51" y="174"/>
                  </a:lnTo>
                  <a:lnTo>
                    <a:pt x="53" y="163"/>
                  </a:lnTo>
                  <a:lnTo>
                    <a:pt x="56" y="153"/>
                  </a:lnTo>
                  <a:lnTo>
                    <a:pt x="58" y="142"/>
                  </a:lnTo>
                  <a:lnTo>
                    <a:pt x="61" y="132"/>
                  </a:lnTo>
                  <a:lnTo>
                    <a:pt x="68" y="111"/>
                  </a:lnTo>
                  <a:lnTo>
                    <a:pt x="77" y="92"/>
                  </a:lnTo>
                  <a:lnTo>
                    <a:pt x="86" y="73"/>
                  </a:lnTo>
                  <a:lnTo>
                    <a:pt x="96" y="56"/>
                  </a:lnTo>
                  <a:lnTo>
                    <a:pt x="107" y="42"/>
                  </a:lnTo>
                  <a:lnTo>
                    <a:pt x="118" y="28"/>
                  </a:lnTo>
                  <a:lnTo>
                    <a:pt x="130" y="19"/>
                  </a:lnTo>
                  <a:lnTo>
                    <a:pt x="142" y="11"/>
                  </a:lnTo>
                  <a:lnTo>
                    <a:pt x="154" y="6"/>
                  </a:lnTo>
                  <a:lnTo>
                    <a:pt x="166" y="2"/>
                  </a:lnTo>
                  <a:lnTo>
                    <a:pt x="180" y="0"/>
                  </a:lnTo>
                  <a:lnTo>
                    <a:pt x="195" y="2"/>
                  </a:lnTo>
                  <a:lnTo>
                    <a:pt x="210" y="4"/>
                  </a:lnTo>
                  <a:lnTo>
                    <a:pt x="223" y="11"/>
                  </a:lnTo>
                  <a:lnTo>
                    <a:pt x="229" y="14"/>
                  </a:lnTo>
                  <a:lnTo>
                    <a:pt x="235" y="18"/>
                  </a:lnTo>
                  <a:lnTo>
                    <a:pt x="241" y="23"/>
                  </a:lnTo>
                  <a:lnTo>
                    <a:pt x="247" y="26"/>
                  </a:lnTo>
                  <a:lnTo>
                    <a:pt x="252" y="33"/>
                  </a:lnTo>
                  <a:lnTo>
                    <a:pt x="257" y="39"/>
                  </a:lnTo>
                  <a:lnTo>
                    <a:pt x="261" y="45"/>
                  </a:lnTo>
                  <a:lnTo>
                    <a:pt x="265" y="54"/>
                  </a:lnTo>
                  <a:lnTo>
                    <a:pt x="270" y="61"/>
                  </a:lnTo>
                  <a:lnTo>
                    <a:pt x="274" y="70"/>
                  </a:lnTo>
                  <a:lnTo>
                    <a:pt x="281" y="87"/>
                  </a:lnTo>
                  <a:lnTo>
                    <a:pt x="287" y="108"/>
                  </a:lnTo>
                  <a:lnTo>
                    <a:pt x="292" y="127"/>
                  </a:lnTo>
                  <a:lnTo>
                    <a:pt x="296" y="149"/>
                  </a:lnTo>
                  <a:lnTo>
                    <a:pt x="299" y="172"/>
                  </a:lnTo>
                  <a:lnTo>
                    <a:pt x="302" y="196"/>
                  </a:lnTo>
                  <a:lnTo>
                    <a:pt x="303" y="22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6720" y="1436760"/>
              <a:ext cx="314280" cy="444600"/>
            </a:xfrm>
            <a:custGeom>
              <a:avLst/>
              <a:gdLst/>
              <a:ahLst/>
              <a:rect l="l" t="t" r="r" b="b"/>
              <a:pathLst>
                <a:path w="874" h="1234">
                  <a:moveTo>
                    <a:pt x="498" y="1006"/>
                  </a:moveTo>
                  <a:lnTo>
                    <a:pt x="494" y="1006"/>
                  </a:lnTo>
                  <a:lnTo>
                    <a:pt x="460" y="1062"/>
                  </a:lnTo>
                  <a:lnTo>
                    <a:pt x="444" y="1086"/>
                  </a:lnTo>
                  <a:lnTo>
                    <a:pt x="427" y="1108"/>
                  </a:lnTo>
                  <a:lnTo>
                    <a:pt x="411" y="1128"/>
                  </a:lnTo>
                  <a:lnTo>
                    <a:pt x="396" y="1147"/>
                  </a:lnTo>
                  <a:lnTo>
                    <a:pt x="380" y="1164"/>
                  </a:lnTo>
                  <a:lnTo>
                    <a:pt x="365" y="1178"/>
                  </a:lnTo>
                  <a:lnTo>
                    <a:pt x="349" y="1190"/>
                  </a:lnTo>
                  <a:lnTo>
                    <a:pt x="332" y="1202"/>
                  </a:lnTo>
                  <a:lnTo>
                    <a:pt x="315" y="1211"/>
                  </a:lnTo>
                  <a:lnTo>
                    <a:pt x="298" y="1219"/>
                  </a:lnTo>
                  <a:lnTo>
                    <a:pt x="280" y="1225"/>
                  </a:lnTo>
                  <a:lnTo>
                    <a:pt x="261" y="1230"/>
                  </a:lnTo>
                  <a:lnTo>
                    <a:pt x="242" y="1231"/>
                  </a:lnTo>
                  <a:lnTo>
                    <a:pt x="222" y="1233"/>
                  </a:lnTo>
                  <a:lnTo>
                    <a:pt x="204" y="1231"/>
                  </a:lnTo>
                  <a:lnTo>
                    <a:pt x="188" y="1228"/>
                  </a:lnTo>
                  <a:lnTo>
                    <a:pt x="172" y="1223"/>
                  </a:lnTo>
                  <a:lnTo>
                    <a:pt x="157" y="1216"/>
                  </a:lnTo>
                  <a:lnTo>
                    <a:pt x="144" y="1205"/>
                  </a:lnTo>
                  <a:lnTo>
                    <a:pt x="138" y="1199"/>
                  </a:lnTo>
                  <a:lnTo>
                    <a:pt x="132" y="1192"/>
                  </a:lnTo>
                  <a:lnTo>
                    <a:pt x="126" y="1185"/>
                  </a:lnTo>
                  <a:lnTo>
                    <a:pt x="120" y="1178"/>
                  </a:lnTo>
                  <a:lnTo>
                    <a:pt x="115" y="1169"/>
                  </a:lnTo>
                  <a:lnTo>
                    <a:pt x="110" y="1160"/>
                  </a:lnTo>
                  <a:lnTo>
                    <a:pt x="100" y="1141"/>
                  </a:lnTo>
                  <a:lnTo>
                    <a:pt x="96" y="1133"/>
                  </a:lnTo>
                  <a:lnTo>
                    <a:pt x="93" y="1122"/>
                  </a:lnTo>
                  <a:lnTo>
                    <a:pt x="89" y="1112"/>
                  </a:lnTo>
                  <a:lnTo>
                    <a:pt x="86" y="1102"/>
                  </a:lnTo>
                  <a:lnTo>
                    <a:pt x="83" y="1091"/>
                  </a:lnTo>
                  <a:lnTo>
                    <a:pt x="80" y="1081"/>
                  </a:lnTo>
                  <a:lnTo>
                    <a:pt x="78" y="1069"/>
                  </a:lnTo>
                  <a:lnTo>
                    <a:pt x="76" y="1056"/>
                  </a:lnTo>
                  <a:lnTo>
                    <a:pt x="74" y="1046"/>
                  </a:lnTo>
                  <a:lnTo>
                    <a:pt x="73" y="1034"/>
                  </a:lnTo>
                  <a:lnTo>
                    <a:pt x="73" y="1022"/>
                  </a:lnTo>
                  <a:lnTo>
                    <a:pt x="72" y="1010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6"/>
                  </a:lnTo>
                  <a:lnTo>
                    <a:pt x="73" y="927"/>
                  </a:lnTo>
                  <a:lnTo>
                    <a:pt x="73" y="907"/>
                  </a:lnTo>
                  <a:lnTo>
                    <a:pt x="74" y="897"/>
                  </a:lnTo>
                  <a:lnTo>
                    <a:pt x="74" y="887"/>
                  </a:lnTo>
                  <a:lnTo>
                    <a:pt x="77" y="862"/>
                  </a:lnTo>
                  <a:lnTo>
                    <a:pt x="81" y="833"/>
                  </a:lnTo>
                  <a:lnTo>
                    <a:pt x="85" y="800"/>
                  </a:lnTo>
                  <a:lnTo>
                    <a:pt x="134" y="464"/>
                  </a:lnTo>
                  <a:lnTo>
                    <a:pt x="144" y="372"/>
                  </a:lnTo>
                  <a:lnTo>
                    <a:pt x="147" y="346"/>
                  </a:lnTo>
                  <a:lnTo>
                    <a:pt x="150" y="322"/>
                  </a:lnTo>
                  <a:lnTo>
                    <a:pt x="150" y="303"/>
                  </a:lnTo>
                  <a:lnTo>
                    <a:pt x="151" y="294"/>
                  </a:lnTo>
                  <a:lnTo>
                    <a:pt x="151" y="287"/>
                  </a:lnTo>
                  <a:lnTo>
                    <a:pt x="151" y="272"/>
                  </a:lnTo>
                  <a:lnTo>
                    <a:pt x="150" y="258"/>
                  </a:lnTo>
                  <a:lnTo>
                    <a:pt x="149" y="244"/>
                  </a:lnTo>
                  <a:lnTo>
                    <a:pt x="148" y="232"/>
                  </a:lnTo>
                  <a:lnTo>
                    <a:pt x="146" y="227"/>
                  </a:lnTo>
                  <a:lnTo>
                    <a:pt x="145" y="221"/>
                  </a:lnTo>
                  <a:lnTo>
                    <a:pt x="144" y="216"/>
                  </a:lnTo>
                  <a:lnTo>
                    <a:pt x="143" y="211"/>
                  </a:lnTo>
                  <a:lnTo>
                    <a:pt x="141" y="206"/>
                  </a:lnTo>
                  <a:lnTo>
                    <a:pt x="139" y="202"/>
                  </a:lnTo>
                  <a:lnTo>
                    <a:pt x="138" y="199"/>
                  </a:lnTo>
                  <a:lnTo>
                    <a:pt x="136" y="195"/>
                  </a:lnTo>
                  <a:lnTo>
                    <a:pt x="134" y="192"/>
                  </a:lnTo>
                  <a:lnTo>
                    <a:pt x="132" y="189"/>
                  </a:lnTo>
                  <a:lnTo>
                    <a:pt x="130" y="185"/>
                  </a:lnTo>
                  <a:lnTo>
                    <a:pt x="128" y="183"/>
                  </a:lnTo>
                  <a:lnTo>
                    <a:pt x="124" y="180"/>
                  </a:lnTo>
                  <a:lnTo>
                    <a:pt x="122" y="178"/>
                  </a:lnTo>
                  <a:lnTo>
                    <a:pt x="115" y="175"/>
                  </a:lnTo>
                  <a:lnTo>
                    <a:pt x="107" y="171"/>
                  </a:lnTo>
                  <a:lnTo>
                    <a:pt x="99" y="169"/>
                  </a:lnTo>
                  <a:lnTo>
                    <a:pt x="89" y="168"/>
                  </a:lnTo>
                  <a:lnTo>
                    <a:pt x="79" y="168"/>
                  </a:lnTo>
                  <a:lnTo>
                    <a:pt x="74" y="168"/>
                  </a:lnTo>
                  <a:lnTo>
                    <a:pt x="69" y="168"/>
                  </a:lnTo>
                  <a:lnTo>
                    <a:pt x="64" y="169"/>
                  </a:lnTo>
                  <a:lnTo>
                    <a:pt x="58" y="171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6"/>
                  </a:lnTo>
                  <a:lnTo>
                    <a:pt x="37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2"/>
                  </a:lnTo>
                  <a:lnTo>
                    <a:pt x="14" y="95"/>
                  </a:lnTo>
                  <a:lnTo>
                    <a:pt x="115" y="27"/>
                  </a:lnTo>
                  <a:lnTo>
                    <a:pt x="127" y="20"/>
                  </a:lnTo>
                  <a:lnTo>
                    <a:pt x="139" y="15"/>
                  </a:lnTo>
                  <a:lnTo>
                    <a:pt x="150" y="10"/>
                  </a:lnTo>
                  <a:lnTo>
                    <a:pt x="161" y="7"/>
                  </a:lnTo>
                  <a:lnTo>
                    <a:pt x="172" y="3"/>
                  </a:lnTo>
                  <a:lnTo>
                    <a:pt x="183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24" y="1"/>
                  </a:lnTo>
                  <a:lnTo>
                    <a:pt x="242" y="5"/>
                  </a:lnTo>
                  <a:lnTo>
                    <a:pt x="259" y="10"/>
                  </a:lnTo>
                  <a:lnTo>
                    <a:pt x="274" y="17"/>
                  </a:lnTo>
                  <a:lnTo>
                    <a:pt x="288" y="27"/>
                  </a:lnTo>
                  <a:lnTo>
                    <a:pt x="302" y="40"/>
                  </a:lnTo>
                  <a:lnTo>
                    <a:pt x="308" y="46"/>
                  </a:lnTo>
                  <a:lnTo>
                    <a:pt x="314" y="53"/>
                  </a:lnTo>
                  <a:lnTo>
                    <a:pt x="320" y="62"/>
                  </a:lnTo>
                  <a:lnTo>
                    <a:pt x="325" y="71"/>
                  </a:lnTo>
                  <a:lnTo>
                    <a:pt x="335" y="88"/>
                  </a:lnTo>
                  <a:lnTo>
                    <a:pt x="339" y="98"/>
                  </a:lnTo>
                  <a:lnTo>
                    <a:pt x="343" y="109"/>
                  </a:lnTo>
                  <a:lnTo>
                    <a:pt x="347" y="118"/>
                  </a:lnTo>
                  <a:lnTo>
                    <a:pt x="350" y="128"/>
                  </a:lnTo>
                  <a:lnTo>
                    <a:pt x="354" y="138"/>
                  </a:lnTo>
                  <a:lnTo>
                    <a:pt x="356" y="150"/>
                  </a:lnTo>
                  <a:lnTo>
                    <a:pt x="359" y="161"/>
                  </a:lnTo>
                  <a:lnTo>
                    <a:pt x="360" y="173"/>
                  </a:lnTo>
                  <a:lnTo>
                    <a:pt x="362" y="185"/>
                  </a:lnTo>
                  <a:lnTo>
                    <a:pt x="364" y="197"/>
                  </a:lnTo>
                  <a:lnTo>
                    <a:pt x="365" y="209"/>
                  </a:lnTo>
                  <a:lnTo>
                    <a:pt x="365" y="221"/>
                  </a:lnTo>
                  <a:lnTo>
                    <a:pt x="366" y="234"/>
                  </a:lnTo>
                  <a:lnTo>
                    <a:pt x="366" y="247"/>
                  </a:lnTo>
                  <a:lnTo>
                    <a:pt x="366" y="260"/>
                  </a:lnTo>
                  <a:lnTo>
                    <a:pt x="365" y="277"/>
                  </a:lnTo>
                  <a:lnTo>
                    <a:pt x="364" y="325"/>
                  </a:lnTo>
                  <a:lnTo>
                    <a:pt x="362" y="353"/>
                  </a:lnTo>
                  <a:lnTo>
                    <a:pt x="360" y="381"/>
                  </a:lnTo>
                  <a:lnTo>
                    <a:pt x="357" y="407"/>
                  </a:lnTo>
                  <a:lnTo>
                    <a:pt x="354" y="433"/>
                  </a:lnTo>
                  <a:lnTo>
                    <a:pt x="306" y="750"/>
                  </a:lnTo>
                  <a:lnTo>
                    <a:pt x="303" y="771"/>
                  </a:lnTo>
                  <a:lnTo>
                    <a:pt x="300" y="793"/>
                  </a:lnTo>
                  <a:lnTo>
                    <a:pt x="298" y="817"/>
                  </a:lnTo>
                  <a:lnTo>
                    <a:pt x="296" y="840"/>
                  </a:lnTo>
                  <a:lnTo>
                    <a:pt x="293" y="882"/>
                  </a:lnTo>
                  <a:lnTo>
                    <a:pt x="292" y="897"/>
                  </a:lnTo>
                  <a:lnTo>
                    <a:pt x="292" y="904"/>
                  </a:lnTo>
                  <a:lnTo>
                    <a:pt x="292" y="911"/>
                  </a:lnTo>
                  <a:lnTo>
                    <a:pt x="292" y="925"/>
                  </a:lnTo>
                  <a:lnTo>
                    <a:pt x="293" y="937"/>
                  </a:lnTo>
                  <a:lnTo>
                    <a:pt x="293" y="949"/>
                  </a:lnTo>
                  <a:lnTo>
                    <a:pt x="295" y="961"/>
                  </a:lnTo>
                  <a:lnTo>
                    <a:pt x="298" y="972"/>
                  </a:lnTo>
                  <a:lnTo>
                    <a:pt x="300" y="982"/>
                  </a:lnTo>
                  <a:lnTo>
                    <a:pt x="303" y="991"/>
                  </a:lnTo>
                  <a:lnTo>
                    <a:pt x="306" y="999"/>
                  </a:lnTo>
                  <a:lnTo>
                    <a:pt x="308" y="1003"/>
                  </a:lnTo>
                  <a:lnTo>
                    <a:pt x="310" y="1008"/>
                  </a:lnTo>
                  <a:lnTo>
                    <a:pt x="312" y="1011"/>
                  </a:lnTo>
                  <a:lnTo>
                    <a:pt x="315" y="1013"/>
                  </a:lnTo>
                  <a:lnTo>
                    <a:pt x="317" y="1017"/>
                  </a:lnTo>
                  <a:lnTo>
                    <a:pt x="320" y="1020"/>
                  </a:lnTo>
                  <a:lnTo>
                    <a:pt x="322" y="1022"/>
                  </a:lnTo>
                  <a:lnTo>
                    <a:pt x="326" y="1024"/>
                  </a:lnTo>
                  <a:lnTo>
                    <a:pt x="332" y="1027"/>
                  </a:lnTo>
                  <a:lnTo>
                    <a:pt x="339" y="1031"/>
                  </a:lnTo>
                  <a:lnTo>
                    <a:pt x="347" y="1032"/>
                  </a:lnTo>
                  <a:lnTo>
                    <a:pt x="355" y="1032"/>
                  </a:lnTo>
                  <a:lnTo>
                    <a:pt x="362" y="1032"/>
                  </a:lnTo>
                  <a:lnTo>
                    <a:pt x="369" y="1031"/>
                  </a:lnTo>
                  <a:lnTo>
                    <a:pt x="376" y="1027"/>
                  </a:lnTo>
                  <a:lnTo>
                    <a:pt x="385" y="1022"/>
                  </a:lnTo>
                  <a:lnTo>
                    <a:pt x="393" y="1017"/>
                  </a:lnTo>
                  <a:lnTo>
                    <a:pt x="403" y="1010"/>
                  </a:lnTo>
                  <a:lnTo>
                    <a:pt x="412" y="1001"/>
                  </a:lnTo>
                  <a:lnTo>
                    <a:pt x="422" y="992"/>
                  </a:lnTo>
                  <a:lnTo>
                    <a:pt x="432" y="982"/>
                  </a:lnTo>
                  <a:lnTo>
                    <a:pt x="443" y="972"/>
                  </a:lnTo>
                  <a:lnTo>
                    <a:pt x="453" y="959"/>
                  </a:lnTo>
                  <a:lnTo>
                    <a:pt x="464" y="946"/>
                  </a:lnTo>
                  <a:lnTo>
                    <a:pt x="475" y="932"/>
                  </a:lnTo>
                  <a:lnTo>
                    <a:pt x="485" y="916"/>
                  </a:lnTo>
                  <a:lnTo>
                    <a:pt x="495" y="899"/>
                  </a:lnTo>
                  <a:lnTo>
                    <a:pt x="505" y="882"/>
                  </a:lnTo>
                  <a:lnTo>
                    <a:pt x="613" y="20"/>
                  </a:lnTo>
                  <a:lnTo>
                    <a:pt x="820" y="3"/>
                  </a:lnTo>
                  <a:lnTo>
                    <a:pt x="828" y="20"/>
                  </a:lnTo>
                  <a:lnTo>
                    <a:pt x="735" y="753"/>
                  </a:lnTo>
                  <a:lnTo>
                    <a:pt x="733" y="772"/>
                  </a:lnTo>
                  <a:lnTo>
                    <a:pt x="730" y="795"/>
                  </a:lnTo>
                  <a:lnTo>
                    <a:pt x="724" y="845"/>
                  </a:lnTo>
                  <a:lnTo>
                    <a:pt x="720" y="895"/>
                  </a:lnTo>
                  <a:lnTo>
                    <a:pt x="719" y="914"/>
                  </a:lnTo>
                  <a:lnTo>
                    <a:pt x="718" y="923"/>
                  </a:lnTo>
                  <a:lnTo>
                    <a:pt x="718" y="930"/>
                  </a:lnTo>
                  <a:lnTo>
                    <a:pt x="718" y="947"/>
                  </a:lnTo>
                  <a:lnTo>
                    <a:pt x="719" y="963"/>
                  </a:lnTo>
                  <a:lnTo>
                    <a:pt x="721" y="977"/>
                  </a:lnTo>
                  <a:lnTo>
                    <a:pt x="722" y="982"/>
                  </a:lnTo>
                  <a:lnTo>
                    <a:pt x="723" y="989"/>
                  </a:lnTo>
                  <a:lnTo>
                    <a:pt x="724" y="994"/>
                  </a:lnTo>
                  <a:lnTo>
                    <a:pt x="725" y="999"/>
                  </a:lnTo>
                  <a:lnTo>
                    <a:pt x="727" y="1005"/>
                  </a:lnTo>
                  <a:lnTo>
                    <a:pt x="728" y="1010"/>
                  </a:lnTo>
                  <a:lnTo>
                    <a:pt x="729" y="1015"/>
                  </a:lnTo>
                  <a:lnTo>
                    <a:pt x="731" y="1018"/>
                  </a:lnTo>
                  <a:lnTo>
                    <a:pt x="734" y="1022"/>
                  </a:lnTo>
                  <a:lnTo>
                    <a:pt x="735" y="1025"/>
                  </a:lnTo>
                  <a:lnTo>
                    <a:pt x="738" y="1029"/>
                  </a:lnTo>
                  <a:lnTo>
                    <a:pt x="740" y="1031"/>
                  </a:lnTo>
                  <a:lnTo>
                    <a:pt x="742" y="1034"/>
                  </a:lnTo>
                  <a:lnTo>
                    <a:pt x="746" y="1036"/>
                  </a:lnTo>
                  <a:lnTo>
                    <a:pt x="751" y="1039"/>
                  </a:lnTo>
                  <a:lnTo>
                    <a:pt x="758" y="1043"/>
                  </a:lnTo>
                  <a:lnTo>
                    <a:pt x="766" y="1046"/>
                  </a:lnTo>
                  <a:lnTo>
                    <a:pt x="774" y="1048"/>
                  </a:lnTo>
                  <a:lnTo>
                    <a:pt x="784" y="1050"/>
                  </a:lnTo>
                  <a:lnTo>
                    <a:pt x="794" y="1050"/>
                  </a:lnTo>
                  <a:lnTo>
                    <a:pt x="799" y="1050"/>
                  </a:lnTo>
                  <a:lnTo>
                    <a:pt x="804" y="1050"/>
                  </a:lnTo>
                  <a:lnTo>
                    <a:pt x="809" y="1048"/>
                  </a:lnTo>
                  <a:lnTo>
                    <a:pt x="814" y="1046"/>
                  </a:lnTo>
                  <a:lnTo>
                    <a:pt x="826" y="1043"/>
                  </a:lnTo>
                  <a:lnTo>
                    <a:pt x="838" y="1037"/>
                  </a:lnTo>
                  <a:lnTo>
                    <a:pt x="859" y="1025"/>
                  </a:lnTo>
                  <a:lnTo>
                    <a:pt x="867" y="1020"/>
                  </a:lnTo>
                  <a:lnTo>
                    <a:pt x="870" y="1018"/>
                  </a:lnTo>
                  <a:lnTo>
                    <a:pt x="873" y="1015"/>
                  </a:lnTo>
                  <a:lnTo>
                    <a:pt x="859" y="1122"/>
                  </a:lnTo>
                  <a:lnTo>
                    <a:pt x="757" y="1193"/>
                  </a:lnTo>
                  <a:lnTo>
                    <a:pt x="746" y="1199"/>
                  </a:lnTo>
                  <a:lnTo>
                    <a:pt x="736" y="1204"/>
                  </a:lnTo>
                  <a:lnTo>
                    <a:pt x="726" y="1207"/>
                  </a:lnTo>
                  <a:lnTo>
                    <a:pt x="715" y="1211"/>
                  </a:lnTo>
                  <a:lnTo>
                    <a:pt x="703" y="1214"/>
                  </a:lnTo>
                  <a:lnTo>
                    <a:pt x="691" y="1216"/>
                  </a:lnTo>
                  <a:lnTo>
                    <a:pt x="680" y="1218"/>
                  </a:lnTo>
                  <a:lnTo>
                    <a:pt x="667" y="1218"/>
                  </a:lnTo>
                  <a:lnTo>
                    <a:pt x="650" y="1216"/>
                  </a:lnTo>
                  <a:lnTo>
                    <a:pt x="633" y="1214"/>
                  </a:lnTo>
                  <a:lnTo>
                    <a:pt x="618" y="1209"/>
                  </a:lnTo>
                  <a:lnTo>
                    <a:pt x="602" y="1204"/>
                  </a:lnTo>
                  <a:lnTo>
                    <a:pt x="589" y="1195"/>
                  </a:lnTo>
                  <a:lnTo>
                    <a:pt x="576" y="1185"/>
                  </a:lnTo>
                  <a:lnTo>
                    <a:pt x="564" y="1173"/>
                  </a:lnTo>
                  <a:lnTo>
                    <a:pt x="553" y="1159"/>
                  </a:lnTo>
                  <a:lnTo>
                    <a:pt x="542" y="1143"/>
                  </a:lnTo>
                  <a:lnTo>
                    <a:pt x="533" y="1128"/>
                  </a:lnTo>
                  <a:lnTo>
                    <a:pt x="525" y="1110"/>
                  </a:lnTo>
                  <a:lnTo>
                    <a:pt x="518" y="1091"/>
                  </a:lnTo>
                  <a:lnTo>
                    <a:pt x="511" y="1072"/>
                  </a:lnTo>
                  <a:lnTo>
                    <a:pt x="506" y="1051"/>
                  </a:lnTo>
                  <a:lnTo>
                    <a:pt x="502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48160" y="1438200"/>
              <a:ext cx="422280" cy="438120"/>
            </a:xfrm>
            <a:custGeom>
              <a:avLst/>
              <a:gdLst/>
              <a:ahLst/>
              <a:rect l="l" t="t" r="r" b="b"/>
              <a:pathLst>
                <a:path w="1175" h="1219">
                  <a:moveTo>
                    <a:pt x="460" y="1177"/>
                  </a:moveTo>
                  <a:lnTo>
                    <a:pt x="440" y="683"/>
                  </a:lnTo>
                  <a:lnTo>
                    <a:pt x="435" y="603"/>
                  </a:lnTo>
                  <a:lnTo>
                    <a:pt x="429" y="510"/>
                  </a:lnTo>
                  <a:lnTo>
                    <a:pt x="419" y="402"/>
                  </a:lnTo>
                  <a:lnTo>
                    <a:pt x="407" y="285"/>
                  </a:lnTo>
                  <a:lnTo>
                    <a:pt x="400" y="285"/>
                  </a:lnTo>
                  <a:lnTo>
                    <a:pt x="387" y="409"/>
                  </a:lnTo>
                  <a:lnTo>
                    <a:pt x="372" y="524"/>
                  </a:lnTo>
                  <a:lnTo>
                    <a:pt x="356" y="628"/>
                  </a:lnTo>
                  <a:lnTo>
                    <a:pt x="339" y="723"/>
                  </a:lnTo>
                  <a:lnTo>
                    <a:pt x="320" y="808"/>
                  </a:lnTo>
                  <a:lnTo>
                    <a:pt x="301" y="886"/>
                  </a:lnTo>
                  <a:lnTo>
                    <a:pt x="291" y="920"/>
                  </a:lnTo>
                  <a:lnTo>
                    <a:pt x="281" y="953"/>
                  </a:lnTo>
                  <a:lnTo>
                    <a:pt x="270" y="984"/>
                  </a:lnTo>
                  <a:lnTo>
                    <a:pt x="260" y="1014"/>
                  </a:lnTo>
                  <a:lnTo>
                    <a:pt x="250" y="1040"/>
                  </a:lnTo>
                  <a:lnTo>
                    <a:pt x="240" y="1062"/>
                  </a:lnTo>
                  <a:lnTo>
                    <a:pt x="230" y="1085"/>
                  </a:lnTo>
                  <a:lnTo>
                    <a:pt x="220" y="1104"/>
                  </a:lnTo>
                  <a:lnTo>
                    <a:pt x="209" y="1123"/>
                  </a:lnTo>
                  <a:lnTo>
                    <a:pt x="199" y="1140"/>
                  </a:lnTo>
                  <a:lnTo>
                    <a:pt x="189" y="1154"/>
                  </a:lnTo>
                  <a:lnTo>
                    <a:pt x="179" y="1168"/>
                  </a:lnTo>
                  <a:lnTo>
                    <a:pt x="169" y="1180"/>
                  </a:lnTo>
                  <a:lnTo>
                    <a:pt x="159" y="1191"/>
                  </a:lnTo>
                  <a:lnTo>
                    <a:pt x="149" y="1199"/>
                  </a:lnTo>
                  <a:lnTo>
                    <a:pt x="140" y="1206"/>
                  </a:lnTo>
                  <a:lnTo>
                    <a:pt x="132" y="1211"/>
                  </a:lnTo>
                  <a:lnTo>
                    <a:pt x="122" y="1215"/>
                  </a:lnTo>
                  <a:lnTo>
                    <a:pt x="114" y="1218"/>
                  </a:lnTo>
                  <a:lnTo>
                    <a:pt x="105" y="1218"/>
                  </a:lnTo>
                  <a:lnTo>
                    <a:pt x="93" y="1218"/>
                  </a:lnTo>
                  <a:lnTo>
                    <a:pt x="82" y="1215"/>
                  </a:lnTo>
                  <a:lnTo>
                    <a:pt x="71" y="1211"/>
                  </a:lnTo>
                  <a:lnTo>
                    <a:pt x="61" y="1206"/>
                  </a:lnTo>
                  <a:lnTo>
                    <a:pt x="52" y="1199"/>
                  </a:lnTo>
                  <a:lnTo>
                    <a:pt x="48" y="1196"/>
                  </a:lnTo>
                  <a:lnTo>
                    <a:pt x="44" y="1192"/>
                  </a:lnTo>
                  <a:lnTo>
                    <a:pt x="39" y="1187"/>
                  </a:lnTo>
                  <a:lnTo>
                    <a:pt x="35" y="1182"/>
                  </a:lnTo>
                  <a:lnTo>
                    <a:pt x="32" y="1177"/>
                  </a:lnTo>
                  <a:lnTo>
                    <a:pt x="28" y="1172"/>
                  </a:lnTo>
                  <a:lnTo>
                    <a:pt x="25" y="1166"/>
                  </a:lnTo>
                  <a:lnTo>
                    <a:pt x="21" y="1159"/>
                  </a:lnTo>
                  <a:lnTo>
                    <a:pt x="19" y="1154"/>
                  </a:lnTo>
                  <a:lnTo>
                    <a:pt x="16" y="1147"/>
                  </a:lnTo>
                  <a:lnTo>
                    <a:pt x="14" y="1140"/>
                  </a:lnTo>
                  <a:lnTo>
                    <a:pt x="11" y="1133"/>
                  </a:lnTo>
                  <a:lnTo>
                    <a:pt x="9" y="1125"/>
                  </a:lnTo>
                  <a:lnTo>
                    <a:pt x="7" y="1118"/>
                  </a:lnTo>
                  <a:lnTo>
                    <a:pt x="5" y="1109"/>
                  </a:lnTo>
                  <a:lnTo>
                    <a:pt x="5" y="1101"/>
                  </a:lnTo>
                  <a:lnTo>
                    <a:pt x="3" y="1092"/>
                  </a:lnTo>
                  <a:lnTo>
                    <a:pt x="2" y="1083"/>
                  </a:lnTo>
                  <a:lnTo>
                    <a:pt x="1" y="1075"/>
                  </a:lnTo>
                  <a:lnTo>
                    <a:pt x="1" y="1064"/>
                  </a:lnTo>
                  <a:lnTo>
                    <a:pt x="0" y="1045"/>
                  </a:lnTo>
                  <a:lnTo>
                    <a:pt x="1" y="1021"/>
                  </a:lnTo>
                  <a:lnTo>
                    <a:pt x="2" y="997"/>
                  </a:lnTo>
                  <a:lnTo>
                    <a:pt x="5" y="976"/>
                  </a:lnTo>
                  <a:lnTo>
                    <a:pt x="8" y="955"/>
                  </a:lnTo>
                  <a:lnTo>
                    <a:pt x="10" y="945"/>
                  </a:lnTo>
                  <a:lnTo>
                    <a:pt x="12" y="934"/>
                  </a:lnTo>
                  <a:lnTo>
                    <a:pt x="15" y="926"/>
                  </a:lnTo>
                  <a:lnTo>
                    <a:pt x="17" y="917"/>
                  </a:lnTo>
                  <a:lnTo>
                    <a:pt x="20" y="908"/>
                  </a:lnTo>
                  <a:lnTo>
                    <a:pt x="23" y="900"/>
                  </a:lnTo>
                  <a:lnTo>
                    <a:pt x="27" y="891"/>
                  </a:lnTo>
                  <a:lnTo>
                    <a:pt x="30" y="884"/>
                  </a:lnTo>
                  <a:lnTo>
                    <a:pt x="38" y="870"/>
                  </a:lnTo>
                  <a:lnTo>
                    <a:pt x="42" y="863"/>
                  </a:lnTo>
                  <a:lnTo>
                    <a:pt x="45" y="858"/>
                  </a:lnTo>
                  <a:lnTo>
                    <a:pt x="49" y="853"/>
                  </a:lnTo>
                  <a:lnTo>
                    <a:pt x="54" y="848"/>
                  </a:lnTo>
                  <a:lnTo>
                    <a:pt x="59" y="844"/>
                  </a:lnTo>
                  <a:lnTo>
                    <a:pt x="63" y="839"/>
                  </a:lnTo>
                  <a:lnTo>
                    <a:pt x="67" y="835"/>
                  </a:lnTo>
                  <a:lnTo>
                    <a:pt x="72" y="834"/>
                  </a:lnTo>
                  <a:lnTo>
                    <a:pt x="82" y="829"/>
                  </a:lnTo>
                  <a:lnTo>
                    <a:pt x="92" y="827"/>
                  </a:lnTo>
                  <a:lnTo>
                    <a:pt x="103" y="825"/>
                  </a:lnTo>
                  <a:lnTo>
                    <a:pt x="110" y="825"/>
                  </a:lnTo>
                  <a:lnTo>
                    <a:pt x="118" y="827"/>
                  </a:lnTo>
                  <a:lnTo>
                    <a:pt x="126" y="829"/>
                  </a:lnTo>
                  <a:lnTo>
                    <a:pt x="133" y="832"/>
                  </a:lnTo>
                  <a:lnTo>
                    <a:pt x="140" y="837"/>
                  </a:lnTo>
                  <a:lnTo>
                    <a:pt x="147" y="842"/>
                  </a:lnTo>
                  <a:lnTo>
                    <a:pt x="154" y="848"/>
                  </a:lnTo>
                  <a:lnTo>
                    <a:pt x="160" y="855"/>
                  </a:lnTo>
                  <a:lnTo>
                    <a:pt x="172" y="870"/>
                  </a:lnTo>
                  <a:lnTo>
                    <a:pt x="183" y="886"/>
                  </a:lnTo>
                  <a:lnTo>
                    <a:pt x="194" y="901"/>
                  </a:lnTo>
                  <a:lnTo>
                    <a:pt x="199" y="910"/>
                  </a:lnTo>
                  <a:lnTo>
                    <a:pt x="204" y="919"/>
                  </a:lnTo>
                  <a:lnTo>
                    <a:pt x="219" y="879"/>
                  </a:lnTo>
                  <a:lnTo>
                    <a:pt x="232" y="837"/>
                  </a:lnTo>
                  <a:lnTo>
                    <a:pt x="246" y="792"/>
                  </a:lnTo>
                  <a:lnTo>
                    <a:pt x="259" y="747"/>
                  </a:lnTo>
                  <a:lnTo>
                    <a:pt x="270" y="699"/>
                  </a:lnTo>
                  <a:lnTo>
                    <a:pt x="281" y="648"/>
                  </a:lnTo>
                  <a:lnTo>
                    <a:pt x="292" y="596"/>
                  </a:lnTo>
                  <a:lnTo>
                    <a:pt x="301" y="543"/>
                  </a:lnTo>
                  <a:lnTo>
                    <a:pt x="318" y="435"/>
                  </a:lnTo>
                  <a:lnTo>
                    <a:pt x="331" y="328"/>
                  </a:lnTo>
                  <a:lnTo>
                    <a:pt x="336" y="276"/>
                  </a:lnTo>
                  <a:lnTo>
                    <a:pt x="339" y="224"/>
                  </a:lnTo>
                  <a:lnTo>
                    <a:pt x="342" y="174"/>
                  </a:lnTo>
                  <a:lnTo>
                    <a:pt x="345" y="123"/>
                  </a:lnTo>
                  <a:lnTo>
                    <a:pt x="226" y="123"/>
                  </a:lnTo>
                  <a:lnTo>
                    <a:pt x="241" y="25"/>
                  </a:lnTo>
                  <a:lnTo>
                    <a:pt x="568" y="0"/>
                  </a:lnTo>
                  <a:lnTo>
                    <a:pt x="580" y="92"/>
                  </a:lnTo>
                  <a:lnTo>
                    <a:pt x="592" y="186"/>
                  </a:lnTo>
                  <a:lnTo>
                    <a:pt x="603" y="283"/>
                  </a:lnTo>
                  <a:lnTo>
                    <a:pt x="612" y="383"/>
                  </a:lnTo>
                  <a:lnTo>
                    <a:pt x="621" y="486"/>
                  </a:lnTo>
                  <a:lnTo>
                    <a:pt x="629" y="593"/>
                  </a:lnTo>
                  <a:lnTo>
                    <a:pt x="634" y="702"/>
                  </a:lnTo>
                  <a:lnTo>
                    <a:pt x="639" y="813"/>
                  </a:lnTo>
                  <a:lnTo>
                    <a:pt x="914" y="19"/>
                  </a:lnTo>
                  <a:lnTo>
                    <a:pt x="1120" y="2"/>
                  </a:lnTo>
                  <a:lnTo>
                    <a:pt x="1128" y="19"/>
                  </a:lnTo>
                  <a:lnTo>
                    <a:pt x="1036" y="752"/>
                  </a:lnTo>
                  <a:lnTo>
                    <a:pt x="1033" y="771"/>
                  </a:lnTo>
                  <a:lnTo>
                    <a:pt x="1031" y="794"/>
                  </a:lnTo>
                  <a:lnTo>
                    <a:pt x="1028" y="816"/>
                  </a:lnTo>
                  <a:lnTo>
                    <a:pt x="1026" y="844"/>
                  </a:lnTo>
                  <a:lnTo>
                    <a:pt x="1023" y="872"/>
                  </a:lnTo>
                  <a:lnTo>
                    <a:pt x="1021" y="894"/>
                  </a:lnTo>
                  <a:lnTo>
                    <a:pt x="1020" y="913"/>
                  </a:lnTo>
                  <a:lnTo>
                    <a:pt x="1020" y="922"/>
                  </a:lnTo>
                  <a:lnTo>
                    <a:pt x="1020" y="929"/>
                  </a:lnTo>
                  <a:lnTo>
                    <a:pt x="1020" y="946"/>
                  </a:lnTo>
                  <a:lnTo>
                    <a:pt x="1020" y="962"/>
                  </a:lnTo>
                  <a:lnTo>
                    <a:pt x="1022" y="976"/>
                  </a:lnTo>
                  <a:lnTo>
                    <a:pt x="1023" y="981"/>
                  </a:lnTo>
                  <a:lnTo>
                    <a:pt x="1024" y="988"/>
                  </a:lnTo>
                  <a:lnTo>
                    <a:pt x="1025" y="993"/>
                  </a:lnTo>
                  <a:lnTo>
                    <a:pt x="1026" y="998"/>
                  </a:lnTo>
                  <a:lnTo>
                    <a:pt x="1027" y="1004"/>
                  </a:lnTo>
                  <a:lnTo>
                    <a:pt x="1029" y="1009"/>
                  </a:lnTo>
                  <a:lnTo>
                    <a:pt x="1030" y="1014"/>
                  </a:lnTo>
                  <a:lnTo>
                    <a:pt x="1031" y="1017"/>
                  </a:lnTo>
                  <a:lnTo>
                    <a:pt x="1034" y="1021"/>
                  </a:lnTo>
                  <a:lnTo>
                    <a:pt x="1036" y="1024"/>
                  </a:lnTo>
                  <a:lnTo>
                    <a:pt x="1038" y="1028"/>
                  </a:lnTo>
                  <a:lnTo>
                    <a:pt x="1040" y="1030"/>
                  </a:lnTo>
                  <a:lnTo>
                    <a:pt x="1042" y="1033"/>
                  </a:lnTo>
                  <a:lnTo>
                    <a:pt x="1046" y="1035"/>
                  </a:lnTo>
                  <a:lnTo>
                    <a:pt x="1052" y="1038"/>
                  </a:lnTo>
                  <a:lnTo>
                    <a:pt x="1059" y="1042"/>
                  </a:lnTo>
                  <a:lnTo>
                    <a:pt x="1066" y="1045"/>
                  </a:lnTo>
                  <a:lnTo>
                    <a:pt x="1075" y="1047"/>
                  </a:lnTo>
                  <a:lnTo>
                    <a:pt x="1083" y="1049"/>
                  </a:lnTo>
                  <a:lnTo>
                    <a:pt x="1093" y="1049"/>
                  </a:lnTo>
                  <a:lnTo>
                    <a:pt x="1098" y="1049"/>
                  </a:lnTo>
                  <a:lnTo>
                    <a:pt x="1103" y="1049"/>
                  </a:lnTo>
                  <a:lnTo>
                    <a:pt x="1109" y="1047"/>
                  </a:lnTo>
                  <a:lnTo>
                    <a:pt x="1114" y="1045"/>
                  </a:lnTo>
                  <a:lnTo>
                    <a:pt x="1126" y="1042"/>
                  </a:lnTo>
                  <a:lnTo>
                    <a:pt x="1138" y="1036"/>
                  </a:lnTo>
                  <a:lnTo>
                    <a:pt x="1159" y="1024"/>
                  </a:lnTo>
                  <a:lnTo>
                    <a:pt x="1167" y="1019"/>
                  </a:lnTo>
                  <a:lnTo>
                    <a:pt x="1170" y="1017"/>
                  </a:lnTo>
                  <a:lnTo>
                    <a:pt x="1174" y="1014"/>
                  </a:lnTo>
                  <a:lnTo>
                    <a:pt x="1159" y="1121"/>
                  </a:lnTo>
                  <a:lnTo>
                    <a:pt x="1059" y="1192"/>
                  </a:lnTo>
                  <a:lnTo>
                    <a:pt x="1049" y="1198"/>
                  </a:lnTo>
                  <a:lnTo>
                    <a:pt x="1039" y="1203"/>
                  </a:lnTo>
                  <a:lnTo>
                    <a:pt x="1029" y="1206"/>
                  </a:lnTo>
                  <a:lnTo>
                    <a:pt x="1018" y="1210"/>
                  </a:lnTo>
                  <a:lnTo>
                    <a:pt x="1007" y="1213"/>
                  </a:lnTo>
                  <a:lnTo>
                    <a:pt x="995" y="1215"/>
                  </a:lnTo>
                  <a:lnTo>
                    <a:pt x="983" y="1217"/>
                  </a:lnTo>
                  <a:lnTo>
                    <a:pt x="971" y="1217"/>
                  </a:lnTo>
                  <a:lnTo>
                    <a:pt x="954" y="1215"/>
                  </a:lnTo>
                  <a:lnTo>
                    <a:pt x="937" y="1213"/>
                  </a:lnTo>
                  <a:lnTo>
                    <a:pt x="921" y="1208"/>
                  </a:lnTo>
                  <a:lnTo>
                    <a:pt x="906" y="1199"/>
                  </a:lnTo>
                  <a:lnTo>
                    <a:pt x="892" y="1191"/>
                  </a:lnTo>
                  <a:lnTo>
                    <a:pt x="879" y="1178"/>
                  </a:lnTo>
                  <a:lnTo>
                    <a:pt x="866" y="1165"/>
                  </a:lnTo>
                  <a:lnTo>
                    <a:pt x="855" y="1149"/>
                  </a:lnTo>
                  <a:lnTo>
                    <a:pt x="849" y="1140"/>
                  </a:lnTo>
                  <a:lnTo>
                    <a:pt x="844" y="1132"/>
                  </a:lnTo>
                  <a:lnTo>
                    <a:pt x="839" y="1121"/>
                  </a:lnTo>
                  <a:lnTo>
                    <a:pt x="835" y="1113"/>
                  </a:lnTo>
                  <a:lnTo>
                    <a:pt x="831" y="1102"/>
                  </a:lnTo>
                  <a:lnTo>
                    <a:pt x="827" y="1092"/>
                  </a:lnTo>
                  <a:lnTo>
                    <a:pt x="824" y="1081"/>
                  </a:lnTo>
                  <a:lnTo>
                    <a:pt x="821" y="1069"/>
                  </a:lnTo>
                  <a:lnTo>
                    <a:pt x="818" y="1059"/>
                  </a:lnTo>
                  <a:lnTo>
                    <a:pt x="816" y="1047"/>
                  </a:lnTo>
                  <a:lnTo>
                    <a:pt x="814" y="1035"/>
                  </a:lnTo>
                  <a:lnTo>
                    <a:pt x="812" y="1023"/>
                  </a:lnTo>
                  <a:lnTo>
                    <a:pt x="811" y="1009"/>
                  </a:lnTo>
                  <a:lnTo>
                    <a:pt x="811" y="997"/>
                  </a:lnTo>
                  <a:lnTo>
                    <a:pt x="810" y="983"/>
                  </a:lnTo>
                  <a:lnTo>
                    <a:pt x="810" y="969"/>
                  </a:lnTo>
                  <a:lnTo>
                    <a:pt x="810" y="939"/>
                  </a:lnTo>
                  <a:lnTo>
                    <a:pt x="811" y="913"/>
                  </a:lnTo>
                  <a:lnTo>
                    <a:pt x="811" y="874"/>
                  </a:lnTo>
                  <a:lnTo>
                    <a:pt x="813" y="856"/>
                  </a:lnTo>
                  <a:lnTo>
                    <a:pt x="815" y="835"/>
                  </a:lnTo>
                  <a:lnTo>
                    <a:pt x="817" y="809"/>
                  </a:lnTo>
                  <a:lnTo>
                    <a:pt x="822" y="782"/>
                  </a:lnTo>
                  <a:lnTo>
                    <a:pt x="880" y="350"/>
                  </a:lnTo>
                  <a:lnTo>
                    <a:pt x="873" y="345"/>
                  </a:lnTo>
                  <a:lnTo>
                    <a:pt x="579" y="117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46680" y="1432080"/>
              <a:ext cx="239760" cy="450720"/>
            </a:xfrm>
            <a:custGeom>
              <a:avLst/>
              <a:gdLst/>
              <a:ahLst/>
              <a:rect l="l" t="t" r="r" b="b"/>
              <a:pathLst>
                <a:path w="667" h="1252">
                  <a:moveTo>
                    <a:pt x="309" y="1251"/>
                  </a:moveTo>
                  <a:lnTo>
                    <a:pt x="271" y="1249"/>
                  </a:lnTo>
                  <a:lnTo>
                    <a:pt x="253" y="1245"/>
                  </a:lnTo>
                  <a:lnTo>
                    <a:pt x="236" y="1242"/>
                  </a:lnTo>
                  <a:lnTo>
                    <a:pt x="219" y="1237"/>
                  </a:lnTo>
                  <a:lnTo>
                    <a:pt x="203" y="1230"/>
                  </a:lnTo>
                  <a:lnTo>
                    <a:pt x="187" y="1221"/>
                  </a:lnTo>
                  <a:lnTo>
                    <a:pt x="172" y="1213"/>
                  </a:lnTo>
                  <a:lnTo>
                    <a:pt x="157" y="1202"/>
                  </a:lnTo>
                  <a:lnTo>
                    <a:pt x="144" y="1192"/>
                  </a:lnTo>
                  <a:lnTo>
                    <a:pt x="131" y="1180"/>
                  </a:lnTo>
                  <a:lnTo>
                    <a:pt x="118" y="1166"/>
                  </a:lnTo>
                  <a:lnTo>
                    <a:pt x="106" y="1152"/>
                  </a:lnTo>
                  <a:lnTo>
                    <a:pt x="95" y="1136"/>
                  </a:lnTo>
                  <a:lnTo>
                    <a:pt x="85" y="1121"/>
                  </a:lnTo>
                  <a:lnTo>
                    <a:pt x="75" y="1103"/>
                  </a:lnTo>
                  <a:lnTo>
                    <a:pt x="66" y="1086"/>
                  </a:lnTo>
                  <a:lnTo>
                    <a:pt x="57" y="1069"/>
                  </a:lnTo>
                  <a:lnTo>
                    <a:pt x="50" y="1050"/>
                  </a:lnTo>
                  <a:lnTo>
                    <a:pt x="42" y="1029"/>
                  </a:lnTo>
                  <a:lnTo>
                    <a:pt x="35" y="1008"/>
                  </a:lnTo>
                  <a:lnTo>
                    <a:pt x="29" y="987"/>
                  </a:lnTo>
                  <a:lnTo>
                    <a:pt x="23" y="965"/>
                  </a:lnTo>
                  <a:lnTo>
                    <a:pt x="18" y="942"/>
                  </a:lnTo>
                  <a:lnTo>
                    <a:pt x="14" y="920"/>
                  </a:lnTo>
                  <a:lnTo>
                    <a:pt x="10" y="896"/>
                  </a:lnTo>
                  <a:lnTo>
                    <a:pt x="6" y="871"/>
                  </a:lnTo>
                  <a:lnTo>
                    <a:pt x="4" y="847"/>
                  </a:lnTo>
                  <a:lnTo>
                    <a:pt x="2" y="821"/>
                  </a:lnTo>
                  <a:lnTo>
                    <a:pt x="1" y="795"/>
                  </a:lnTo>
                  <a:lnTo>
                    <a:pt x="0" y="767"/>
                  </a:lnTo>
                  <a:lnTo>
                    <a:pt x="0" y="740"/>
                  </a:lnTo>
                  <a:lnTo>
                    <a:pt x="1" y="705"/>
                  </a:lnTo>
                  <a:lnTo>
                    <a:pt x="1" y="670"/>
                  </a:lnTo>
                  <a:lnTo>
                    <a:pt x="4" y="636"/>
                  </a:lnTo>
                  <a:lnTo>
                    <a:pt x="6" y="601"/>
                  </a:lnTo>
                  <a:lnTo>
                    <a:pt x="11" y="566"/>
                  </a:lnTo>
                  <a:lnTo>
                    <a:pt x="16" y="533"/>
                  </a:lnTo>
                  <a:lnTo>
                    <a:pt x="22" y="499"/>
                  </a:lnTo>
                  <a:lnTo>
                    <a:pt x="28" y="466"/>
                  </a:lnTo>
                  <a:lnTo>
                    <a:pt x="36" y="433"/>
                  </a:lnTo>
                  <a:lnTo>
                    <a:pt x="45" y="402"/>
                  </a:lnTo>
                  <a:lnTo>
                    <a:pt x="54" y="371"/>
                  </a:lnTo>
                  <a:lnTo>
                    <a:pt x="64" y="339"/>
                  </a:lnTo>
                  <a:lnTo>
                    <a:pt x="75" y="310"/>
                  </a:lnTo>
                  <a:lnTo>
                    <a:pt x="87" y="282"/>
                  </a:lnTo>
                  <a:lnTo>
                    <a:pt x="100" y="255"/>
                  </a:lnTo>
                  <a:lnTo>
                    <a:pt x="113" y="229"/>
                  </a:lnTo>
                  <a:lnTo>
                    <a:pt x="127" y="204"/>
                  </a:lnTo>
                  <a:lnTo>
                    <a:pt x="142" y="180"/>
                  </a:lnTo>
                  <a:lnTo>
                    <a:pt x="157" y="157"/>
                  </a:lnTo>
                  <a:lnTo>
                    <a:pt x="173" y="137"/>
                  </a:lnTo>
                  <a:lnTo>
                    <a:pt x="191" y="116"/>
                  </a:lnTo>
                  <a:lnTo>
                    <a:pt x="209" y="97"/>
                  </a:lnTo>
                  <a:lnTo>
                    <a:pt x="228" y="80"/>
                  </a:lnTo>
                  <a:lnTo>
                    <a:pt x="248" y="64"/>
                  </a:lnTo>
                  <a:lnTo>
                    <a:pt x="269" y="48"/>
                  </a:lnTo>
                  <a:lnTo>
                    <a:pt x="290" y="36"/>
                  </a:lnTo>
                  <a:lnTo>
                    <a:pt x="312" y="24"/>
                  </a:lnTo>
                  <a:lnTo>
                    <a:pt x="334" y="15"/>
                  </a:lnTo>
                  <a:lnTo>
                    <a:pt x="357" y="9"/>
                  </a:lnTo>
                  <a:lnTo>
                    <a:pt x="381" y="3"/>
                  </a:lnTo>
                  <a:lnTo>
                    <a:pt x="404" y="2"/>
                  </a:lnTo>
                  <a:lnTo>
                    <a:pt x="429" y="0"/>
                  </a:lnTo>
                  <a:lnTo>
                    <a:pt x="457" y="2"/>
                  </a:lnTo>
                  <a:lnTo>
                    <a:pt x="483" y="3"/>
                  </a:lnTo>
                  <a:lnTo>
                    <a:pt x="508" y="9"/>
                  </a:lnTo>
                  <a:lnTo>
                    <a:pt x="531" y="17"/>
                  </a:lnTo>
                  <a:lnTo>
                    <a:pt x="553" y="26"/>
                  </a:lnTo>
                  <a:lnTo>
                    <a:pt x="571" y="38"/>
                  </a:lnTo>
                  <a:lnTo>
                    <a:pt x="589" y="52"/>
                  </a:lnTo>
                  <a:lnTo>
                    <a:pt x="605" y="67"/>
                  </a:lnTo>
                  <a:lnTo>
                    <a:pt x="613" y="76"/>
                  </a:lnTo>
                  <a:lnTo>
                    <a:pt x="619" y="85"/>
                  </a:lnTo>
                  <a:lnTo>
                    <a:pt x="625" y="95"/>
                  </a:lnTo>
                  <a:lnTo>
                    <a:pt x="632" y="106"/>
                  </a:lnTo>
                  <a:lnTo>
                    <a:pt x="637" y="116"/>
                  </a:lnTo>
                  <a:lnTo>
                    <a:pt x="642" y="128"/>
                  </a:lnTo>
                  <a:lnTo>
                    <a:pt x="646" y="140"/>
                  </a:lnTo>
                  <a:lnTo>
                    <a:pt x="651" y="152"/>
                  </a:lnTo>
                  <a:lnTo>
                    <a:pt x="654" y="166"/>
                  </a:lnTo>
                  <a:lnTo>
                    <a:pt x="657" y="180"/>
                  </a:lnTo>
                  <a:lnTo>
                    <a:pt x="660" y="194"/>
                  </a:lnTo>
                  <a:lnTo>
                    <a:pt x="663" y="208"/>
                  </a:lnTo>
                  <a:lnTo>
                    <a:pt x="663" y="223"/>
                  </a:lnTo>
                  <a:lnTo>
                    <a:pt x="665" y="239"/>
                  </a:lnTo>
                  <a:lnTo>
                    <a:pt x="666" y="255"/>
                  </a:lnTo>
                  <a:lnTo>
                    <a:pt x="666" y="272"/>
                  </a:lnTo>
                  <a:lnTo>
                    <a:pt x="666" y="287"/>
                  </a:lnTo>
                  <a:lnTo>
                    <a:pt x="665" y="303"/>
                  </a:lnTo>
                  <a:lnTo>
                    <a:pt x="664" y="319"/>
                  </a:lnTo>
                  <a:lnTo>
                    <a:pt x="663" y="334"/>
                  </a:lnTo>
                  <a:lnTo>
                    <a:pt x="661" y="350"/>
                  </a:lnTo>
                  <a:lnTo>
                    <a:pt x="658" y="364"/>
                  </a:lnTo>
                  <a:lnTo>
                    <a:pt x="656" y="379"/>
                  </a:lnTo>
                  <a:lnTo>
                    <a:pt x="652" y="393"/>
                  </a:lnTo>
                  <a:lnTo>
                    <a:pt x="649" y="407"/>
                  </a:lnTo>
                  <a:lnTo>
                    <a:pt x="646" y="421"/>
                  </a:lnTo>
                  <a:lnTo>
                    <a:pt x="641" y="433"/>
                  </a:lnTo>
                  <a:lnTo>
                    <a:pt x="636" y="447"/>
                  </a:lnTo>
                  <a:lnTo>
                    <a:pt x="625" y="471"/>
                  </a:lnTo>
                  <a:lnTo>
                    <a:pt x="613" y="495"/>
                  </a:lnTo>
                  <a:lnTo>
                    <a:pt x="600" y="518"/>
                  </a:lnTo>
                  <a:lnTo>
                    <a:pt x="585" y="539"/>
                  </a:lnTo>
                  <a:lnTo>
                    <a:pt x="569" y="559"/>
                  </a:lnTo>
                  <a:lnTo>
                    <a:pt x="552" y="577"/>
                  </a:lnTo>
                  <a:lnTo>
                    <a:pt x="534" y="594"/>
                  </a:lnTo>
                  <a:lnTo>
                    <a:pt x="514" y="610"/>
                  </a:lnTo>
                  <a:lnTo>
                    <a:pt x="493" y="624"/>
                  </a:lnTo>
                  <a:lnTo>
                    <a:pt x="471" y="636"/>
                  </a:lnTo>
                  <a:lnTo>
                    <a:pt x="405" y="669"/>
                  </a:lnTo>
                  <a:lnTo>
                    <a:pt x="376" y="682"/>
                  </a:lnTo>
                  <a:lnTo>
                    <a:pt x="349" y="691"/>
                  </a:lnTo>
                  <a:lnTo>
                    <a:pt x="323" y="700"/>
                  </a:lnTo>
                  <a:lnTo>
                    <a:pt x="293" y="707"/>
                  </a:lnTo>
                  <a:lnTo>
                    <a:pt x="227" y="722"/>
                  </a:lnTo>
                  <a:lnTo>
                    <a:pt x="227" y="750"/>
                  </a:lnTo>
                  <a:lnTo>
                    <a:pt x="229" y="778"/>
                  </a:lnTo>
                  <a:lnTo>
                    <a:pt x="232" y="809"/>
                  </a:lnTo>
                  <a:lnTo>
                    <a:pt x="234" y="840"/>
                  </a:lnTo>
                  <a:lnTo>
                    <a:pt x="236" y="856"/>
                  </a:lnTo>
                  <a:lnTo>
                    <a:pt x="238" y="871"/>
                  </a:lnTo>
                  <a:lnTo>
                    <a:pt x="240" y="887"/>
                  </a:lnTo>
                  <a:lnTo>
                    <a:pt x="243" y="901"/>
                  </a:lnTo>
                  <a:lnTo>
                    <a:pt x="245" y="915"/>
                  </a:lnTo>
                  <a:lnTo>
                    <a:pt x="248" y="928"/>
                  </a:lnTo>
                  <a:lnTo>
                    <a:pt x="250" y="941"/>
                  </a:lnTo>
                  <a:lnTo>
                    <a:pt x="254" y="953"/>
                  </a:lnTo>
                  <a:lnTo>
                    <a:pt x="258" y="965"/>
                  </a:lnTo>
                  <a:lnTo>
                    <a:pt x="262" y="977"/>
                  </a:lnTo>
                  <a:lnTo>
                    <a:pt x="267" y="989"/>
                  </a:lnTo>
                  <a:lnTo>
                    <a:pt x="272" y="1001"/>
                  </a:lnTo>
                  <a:lnTo>
                    <a:pt x="278" y="1010"/>
                  </a:lnTo>
                  <a:lnTo>
                    <a:pt x="284" y="1020"/>
                  </a:lnTo>
                  <a:lnTo>
                    <a:pt x="291" y="1029"/>
                  </a:lnTo>
                  <a:lnTo>
                    <a:pt x="298" y="1038"/>
                  </a:lnTo>
                  <a:lnTo>
                    <a:pt x="305" y="1045"/>
                  </a:lnTo>
                  <a:lnTo>
                    <a:pt x="313" y="1051"/>
                  </a:lnTo>
                  <a:lnTo>
                    <a:pt x="321" y="1057"/>
                  </a:lnTo>
                  <a:lnTo>
                    <a:pt x="331" y="1062"/>
                  </a:lnTo>
                  <a:lnTo>
                    <a:pt x="339" y="1064"/>
                  </a:lnTo>
                  <a:lnTo>
                    <a:pt x="349" y="1067"/>
                  </a:lnTo>
                  <a:lnTo>
                    <a:pt x="359" y="1069"/>
                  </a:lnTo>
                  <a:lnTo>
                    <a:pt x="370" y="1069"/>
                  </a:lnTo>
                  <a:lnTo>
                    <a:pt x="389" y="1069"/>
                  </a:lnTo>
                  <a:lnTo>
                    <a:pt x="407" y="1065"/>
                  </a:lnTo>
                  <a:lnTo>
                    <a:pt x="425" y="1062"/>
                  </a:lnTo>
                  <a:lnTo>
                    <a:pt x="441" y="1055"/>
                  </a:lnTo>
                  <a:lnTo>
                    <a:pt x="457" y="1048"/>
                  </a:lnTo>
                  <a:lnTo>
                    <a:pt x="472" y="1039"/>
                  </a:lnTo>
                  <a:lnTo>
                    <a:pt x="486" y="1027"/>
                  </a:lnTo>
                  <a:lnTo>
                    <a:pt x="501" y="1015"/>
                  </a:lnTo>
                  <a:lnTo>
                    <a:pt x="514" y="1001"/>
                  </a:lnTo>
                  <a:lnTo>
                    <a:pt x="527" y="984"/>
                  </a:lnTo>
                  <a:lnTo>
                    <a:pt x="540" y="965"/>
                  </a:lnTo>
                  <a:lnTo>
                    <a:pt x="553" y="944"/>
                  </a:lnTo>
                  <a:lnTo>
                    <a:pt x="565" y="921"/>
                  </a:lnTo>
                  <a:lnTo>
                    <a:pt x="578" y="897"/>
                  </a:lnTo>
                  <a:lnTo>
                    <a:pt x="591" y="871"/>
                  </a:lnTo>
                  <a:lnTo>
                    <a:pt x="602" y="842"/>
                  </a:lnTo>
                  <a:lnTo>
                    <a:pt x="650" y="915"/>
                  </a:lnTo>
                  <a:lnTo>
                    <a:pt x="635" y="953"/>
                  </a:lnTo>
                  <a:lnTo>
                    <a:pt x="619" y="987"/>
                  </a:lnTo>
                  <a:lnTo>
                    <a:pt x="602" y="1020"/>
                  </a:lnTo>
                  <a:lnTo>
                    <a:pt x="583" y="1053"/>
                  </a:lnTo>
                  <a:lnTo>
                    <a:pt x="564" y="1083"/>
                  </a:lnTo>
                  <a:lnTo>
                    <a:pt x="544" y="1110"/>
                  </a:lnTo>
                  <a:lnTo>
                    <a:pt x="522" y="1135"/>
                  </a:lnTo>
                  <a:lnTo>
                    <a:pt x="500" y="1159"/>
                  </a:lnTo>
                  <a:lnTo>
                    <a:pt x="477" y="1180"/>
                  </a:lnTo>
                  <a:lnTo>
                    <a:pt x="454" y="1199"/>
                  </a:lnTo>
                  <a:lnTo>
                    <a:pt x="431" y="1214"/>
                  </a:lnTo>
                  <a:lnTo>
                    <a:pt x="407" y="1228"/>
                  </a:lnTo>
                  <a:lnTo>
                    <a:pt x="383" y="1237"/>
                  </a:lnTo>
                  <a:lnTo>
                    <a:pt x="359" y="1245"/>
                  </a:lnTo>
                  <a:lnTo>
                    <a:pt x="333" y="1249"/>
                  </a:lnTo>
                  <a:close/>
                  <a:moveTo>
                    <a:pt x="455" y="305"/>
                  </a:moveTo>
                  <a:lnTo>
                    <a:pt x="455" y="281"/>
                  </a:lnTo>
                  <a:lnTo>
                    <a:pt x="454" y="256"/>
                  </a:lnTo>
                  <a:lnTo>
                    <a:pt x="453" y="235"/>
                  </a:lnTo>
                  <a:lnTo>
                    <a:pt x="450" y="215"/>
                  </a:lnTo>
                  <a:lnTo>
                    <a:pt x="448" y="196"/>
                  </a:lnTo>
                  <a:lnTo>
                    <a:pt x="444" y="178"/>
                  </a:lnTo>
                  <a:lnTo>
                    <a:pt x="442" y="171"/>
                  </a:lnTo>
                  <a:lnTo>
                    <a:pt x="440" y="163"/>
                  </a:lnTo>
                  <a:lnTo>
                    <a:pt x="437" y="156"/>
                  </a:lnTo>
                  <a:lnTo>
                    <a:pt x="435" y="149"/>
                  </a:lnTo>
                  <a:lnTo>
                    <a:pt x="432" y="142"/>
                  </a:lnTo>
                  <a:lnTo>
                    <a:pt x="430" y="137"/>
                  </a:lnTo>
                  <a:lnTo>
                    <a:pt x="426" y="130"/>
                  </a:lnTo>
                  <a:lnTo>
                    <a:pt x="424" y="125"/>
                  </a:lnTo>
                  <a:lnTo>
                    <a:pt x="420" y="121"/>
                  </a:lnTo>
                  <a:lnTo>
                    <a:pt x="418" y="116"/>
                  </a:lnTo>
                  <a:lnTo>
                    <a:pt x="415" y="112"/>
                  </a:lnTo>
                  <a:lnTo>
                    <a:pt x="411" y="109"/>
                  </a:lnTo>
                  <a:lnTo>
                    <a:pt x="408" y="106"/>
                  </a:lnTo>
                  <a:lnTo>
                    <a:pt x="404" y="102"/>
                  </a:lnTo>
                  <a:lnTo>
                    <a:pt x="400" y="100"/>
                  </a:lnTo>
                  <a:lnTo>
                    <a:pt x="397" y="99"/>
                  </a:lnTo>
                  <a:lnTo>
                    <a:pt x="393" y="97"/>
                  </a:lnTo>
                  <a:lnTo>
                    <a:pt x="388" y="95"/>
                  </a:lnTo>
                  <a:lnTo>
                    <a:pt x="380" y="95"/>
                  </a:lnTo>
                  <a:lnTo>
                    <a:pt x="374" y="95"/>
                  </a:lnTo>
                  <a:lnTo>
                    <a:pt x="367" y="97"/>
                  </a:lnTo>
                  <a:lnTo>
                    <a:pt x="361" y="100"/>
                  </a:lnTo>
                  <a:lnTo>
                    <a:pt x="355" y="104"/>
                  </a:lnTo>
                  <a:lnTo>
                    <a:pt x="348" y="109"/>
                  </a:lnTo>
                  <a:lnTo>
                    <a:pt x="343" y="116"/>
                  </a:lnTo>
                  <a:lnTo>
                    <a:pt x="337" y="125"/>
                  </a:lnTo>
                  <a:lnTo>
                    <a:pt x="331" y="133"/>
                  </a:lnTo>
                  <a:lnTo>
                    <a:pt x="325" y="142"/>
                  </a:lnTo>
                  <a:lnTo>
                    <a:pt x="319" y="154"/>
                  </a:lnTo>
                  <a:lnTo>
                    <a:pt x="308" y="180"/>
                  </a:lnTo>
                  <a:lnTo>
                    <a:pt x="296" y="209"/>
                  </a:lnTo>
                  <a:lnTo>
                    <a:pt x="285" y="244"/>
                  </a:lnTo>
                  <a:lnTo>
                    <a:pt x="274" y="282"/>
                  </a:lnTo>
                  <a:lnTo>
                    <a:pt x="265" y="324"/>
                  </a:lnTo>
                  <a:lnTo>
                    <a:pt x="256" y="369"/>
                  </a:lnTo>
                  <a:lnTo>
                    <a:pt x="249" y="414"/>
                  </a:lnTo>
                  <a:lnTo>
                    <a:pt x="242" y="462"/>
                  </a:lnTo>
                  <a:lnTo>
                    <a:pt x="237" y="514"/>
                  </a:lnTo>
                  <a:lnTo>
                    <a:pt x="232" y="568"/>
                  </a:lnTo>
                  <a:lnTo>
                    <a:pt x="228" y="624"/>
                  </a:lnTo>
                  <a:lnTo>
                    <a:pt x="304" y="603"/>
                  </a:lnTo>
                  <a:lnTo>
                    <a:pt x="322" y="596"/>
                  </a:lnTo>
                  <a:lnTo>
                    <a:pt x="338" y="589"/>
                  </a:lnTo>
                  <a:lnTo>
                    <a:pt x="352" y="580"/>
                  </a:lnTo>
                  <a:lnTo>
                    <a:pt x="358" y="577"/>
                  </a:lnTo>
                  <a:lnTo>
                    <a:pt x="364" y="572"/>
                  </a:lnTo>
                  <a:lnTo>
                    <a:pt x="376" y="561"/>
                  </a:lnTo>
                  <a:lnTo>
                    <a:pt x="387" y="551"/>
                  </a:lnTo>
                  <a:lnTo>
                    <a:pt x="396" y="539"/>
                  </a:lnTo>
                  <a:lnTo>
                    <a:pt x="405" y="527"/>
                  </a:lnTo>
                  <a:lnTo>
                    <a:pt x="414" y="513"/>
                  </a:lnTo>
                  <a:lnTo>
                    <a:pt x="421" y="499"/>
                  </a:lnTo>
                  <a:lnTo>
                    <a:pt x="428" y="485"/>
                  </a:lnTo>
                  <a:lnTo>
                    <a:pt x="434" y="469"/>
                  </a:lnTo>
                  <a:lnTo>
                    <a:pt x="439" y="454"/>
                  </a:lnTo>
                  <a:lnTo>
                    <a:pt x="443" y="436"/>
                  </a:lnTo>
                  <a:lnTo>
                    <a:pt x="447" y="417"/>
                  </a:lnTo>
                  <a:lnTo>
                    <a:pt x="450" y="398"/>
                  </a:lnTo>
                  <a:lnTo>
                    <a:pt x="453" y="376"/>
                  </a:lnTo>
                  <a:lnTo>
                    <a:pt x="453" y="353"/>
                  </a:lnTo>
                  <a:lnTo>
                    <a:pt x="455" y="33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78520" y="1436760"/>
              <a:ext cx="315720" cy="439560"/>
            </a:xfrm>
            <a:custGeom>
              <a:avLst/>
              <a:gdLst/>
              <a:ahLst/>
              <a:rect l="l" t="t" r="r" b="b"/>
              <a:pathLst>
                <a:path w="876" h="1221">
                  <a:moveTo>
                    <a:pt x="344" y="516"/>
                  </a:moveTo>
                  <a:lnTo>
                    <a:pt x="553" y="516"/>
                  </a:lnTo>
                  <a:lnTo>
                    <a:pt x="614" y="22"/>
                  </a:lnTo>
                  <a:lnTo>
                    <a:pt x="822" y="5"/>
                  </a:lnTo>
                  <a:lnTo>
                    <a:pt x="829" y="22"/>
                  </a:lnTo>
                  <a:lnTo>
                    <a:pt x="737" y="755"/>
                  </a:lnTo>
                  <a:lnTo>
                    <a:pt x="735" y="774"/>
                  </a:lnTo>
                  <a:lnTo>
                    <a:pt x="732" y="797"/>
                  </a:lnTo>
                  <a:lnTo>
                    <a:pt x="730" y="819"/>
                  </a:lnTo>
                  <a:lnTo>
                    <a:pt x="727" y="847"/>
                  </a:lnTo>
                  <a:lnTo>
                    <a:pt x="724" y="875"/>
                  </a:lnTo>
                  <a:lnTo>
                    <a:pt x="723" y="897"/>
                  </a:lnTo>
                  <a:lnTo>
                    <a:pt x="721" y="916"/>
                  </a:lnTo>
                  <a:lnTo>
                    <a:pt x="721" y="925"/>
                  </a:lnTo>
                  <a:lnTo>
                    <a:pt x="721" y="932"/>
                  </a:lnTo>
                  <a:lnTo>
                    <a:pt x="721" y="949"/>
                  </a:lnTo>
                  <a:lnTo>
                    <a:pt x="722" y="965"/>
                  </a:lnTo>
                  <a:lnTo>
                    <a:pt x="724" y="979"/>
                  </a:lnTo>
                  <a:lnTo>
                    <a:pt x="724" y="984"/>
                  </a:lnTo>
                  <a:lnTo>
                    <a:pt x="725" y="991"/>
                  </a:lnTo>
                  <a:lnTo>
                    <a:pt x="726" y="996"/>
                  </a:lnTo>
                  <a:lnTo>
                    <a:pt x="727" y="1001"/>
                  </a:lnTo>
                  <a:lnTo>
                    <a:pt x="729" y="1007"/>
                  </a:lnTo>
                  <a:lnTo>
                    <a:pt x="730" y="1012"/>
                  </a:lnTo>
                  <a:lnTo>
                    <a:pt x="731" y="1017"/>
                  </a:lnTo>
                  <a:lnTo>
                    <a:pt x="733" y="1020"/>
                  </a:lnTo>
                  <a:lnTo>
                    <a:pt x="735" y="1024"/>
                  </a:lnTo>
                  <a:lnTo>
                    <a:pt x="737" y="1027"/>
                  </a:lnTo>
                  <a:lnTo>
                    <a:pt x="740" y="1031"/>
                  </a:lnTo>
                  <a:lnTo>
                    <a:pt x="741" y="1033"/>
                  </a:lnTo>
                  <a:lnTo>
                    <a:pt x="744" y="1036"/>
                  </a:lnTo>
                  <a:lnTo>
                    <a:pt x="747" y="1038"/>
                  </a:lnTo>
                  <a:lnTo>
                    <a:pt x="753" y="1041"/>
                  </a:lnTo>
                  <a:lnTo>
                    <a:pt x="760" y="1045"/>
                  </a:lnTo>
                  <a:lnTo>
                    <a:pt x="768" y="1048"/>
                  </a:lnTo>
                  <a:lnTo>
                    <a:pt x="776" y="1050"/>
                  </a:lnTo>
                  <a:lnTo>
                    <a:pt x="785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8"/>
                  </a:lnTo>
                  <a:lnTo>
                    <a:pt x="828" y="1045"/>
                  </a:lnTo>
                  <a:lnTo>
                    <a:pt x="840" y="1039"/>
                  </a:lnTo>
                  <a:lnTo>
                    <a:pt x="861" y="1027"/>
                  </a:lnTo>
                  <a:lnTo>
                    <a:pt x="868" y="1022"/>
                  </a:lnTo>
                  <a:lnTo>
                    <a:pt x="872" y="1020"/>
                  </a:lnTo>
                  <a:lnTo>
                    <a:pt x="875" y="1017"/>
                  </a:lnTo>
                  <a:lnTo>
                    <a:pt x="861" y="1124"/>
                  </a:lnTo>
                  <a:lnTo>
                    <a:pt x="758" y="1195"/>
                  </a:lnTo>
                  <a:lnTo>
                    <a:pt x="748" y="1201"/>
                  </a:lnTo>
                  <a:lnTo>
                    <a:pt x="738" y="1206"/>
                  </a:lnTo>
                  <a:lnTo>
                    <a:pt x="728" y="1209"/>
                  </a:lnTo>
                  <a:lnTo>
                    <a:pt x="717" y="1213"/>
                  </a:lnTo>
                  <a:lnTo>
                    <a:pt x="705" y="1216"/>
                  </a:lnTo>
                  <a:lnTo>
                    <a:pt x="693" y="1218"/>
                  </a:lnTo>
                  <a:lnTo>
                    <a:pt x="681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6"/>
                  </a:lnTo>
                  <a:lnTo>
                    <a:pt x="619" y="1211"/>
                  </a:lnTo>
                  <a:lnTo>
                    <a:pt x="604" y="1202"/>
                  </a:lnTo>
                  <a:lnTo>
                    <a:pt x="591" y="1194"/>
                  </a:lnTo>
                  <a:lnTo>
                    <a:pt x="577" y="1181"/>
                  </a:lnTo>
                  <a:lnTo>
                    <a:pt x="564" y="1168"/>
                  </a:lnTo>
                  <a:lnTo>
                    <a:pt x="553" y="1152"/>
                  </a:lnTo>
                  <a:lnTo>
                    <a:pt x="547" y="1143"/>
                  </a:lnTo>
                  <a:lnTo>
                    <a:pt x="542" y="1135"/>
                  </a:lnTo>
                  <a:lnTo>
                    <a:pt x="537" y="1124"/>
                  </a:lnTo>
                  <a:lnTo>
                    <a:pt x="532" y="1116"/>
                  </a:lnTo>
                  <a:lnTo>
                    <a:pt x="528" y="1105"/>
                  </a:lnTo>
                  <a:lnTo>
                    <a:pt x="524" y="1095"/>
                  </a:lnTo>
                  <a:lnTo>
                    <a:pt x="520" y="1084"/>
                  </a:lnTo>
                  <a:lnTo>
                    <a:pt x="518" y="1072"/>
                  </a:lnTo>
                  <a:lnTo>
                    <a:pt x="515" y="1062"/>
                  </a:lnTo>
                  <a:lnTo>
                    <a:pt x="513" y="1050"/>
                  </a:lnTo>
                  <a:lnTo>
                    <a:pt x="510" y="1038"/>
                  </a:lnTo>
                  <a:lnTo>
                    <a:pt x="509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2"/>
                  </a:lnTo>
                  <a:lnTo>
                    <a:pt x="507" y="918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8"/>
                  </a:lnTo>
                  <a:lnTo>
                    <a:pt x="509" y="870"/>
                  </a:lnTo>
                  <a:lnTo>
                    <a:pt x="509" y="861"/>
                  </a:lnTo>
                  <a:lnTo>
                    <a:pt x="512" y="840"/>
                  </a:lnTo>
                  <a:lnTo>
                    <a:pt x="515" y="814"/>
                  </a:lnTo>
                  <a:lnTo>
                    <a:pt x="518" y="785"/>
                  </a:lnTo>
                  <a:lnTo>
                    <a:pt x="537" y="631"/>
                  </a:lnTo>
                  <a:lnTo>
                    <a:pt x="329" y="631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4" y="464"/>
                  </a:lnTo>
                  <a:lnTo>
                    <a:pt x="145" y="378"/>
                  </a:lnTo>
                  <a:lnTo>
                    <a:pt x="147" y="352"/>
                  </a:lnTo>
                  <a:lnTo>
                    <a:pt x="149" y="327"/>
                  </a:lnTo>
                  <a:lnTo>
                    <a:pt x="150" y="307"/>
                  </a:lnTo>
                  <a:lnTo>
                    <a:pt x="150" y="296"/>
                  </a:lnTo>
                  <a:lnTo>
                    <a:pt x="150" y="288"/>
                  </a:lnTo>
                  <a:lnTo>
                    <a:pt x="150" y="272"/>
                  </a:lnTo>
                  <a:lnTo>
                    <a:pt x="150" y="256"/>
                  </a:lnTo>
                  <a:lnTo>
                    <a:pt x="148" y="243"/>
                  </a:lnTo>
                  <a:lnTo>
                    <a:pt x="147" y="230"/>
                  </a:lnTo>
                  <a:lnTo>
                    <a:pt x="145" y="225"/>
                  </a:lnTo>
                  <a:lnTo>
                    <a:pt x="145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0" y="204"/>
                  </a:lnTo>
                  <a:lnTo>
                    <a:pt x="139" y="201"/>
                  </a:lnTo>
                  <a:lnTo>
                    <a:pt x="137" y="197"/>
                  </a:lnTo>
                  <a:lnTo>
                    <a:pt x="135" y="194"/>
                  </a:lnTo>
                  <a:lnTo>
                    <a:pt x="134" y="191"/>
                  </a:lnTo>
                  <a:lnTo>
                    <a:pt x="131" y="187"/>
                  </a:lnTo>
                  <a:lnTo>
                    <a:pt x="128" y="185"/>
                  </a:lnTo>
                  <a:lnTo>
                    <a:pt x="126" y="182"/>
                  </a:lnTo>
                  <a:lnTo>
                    <a:pt x="123" y="180"/>
                  </a:lnTo>
                  <a:lnTo>
                    <a:pt x="120" y="178"/>
                  </a:lnTo>
                  <a:lnTo>
                    <a:pt x="114" y="175"/>
                  </a:lnTo>
                  <a:lnTo>
                    <a:pt x="106" y="171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9" y="171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0" y="10"/>
                  </a:lnTo>
                  <a:lnTo>
                    <a:pt x="161" y="7"/>
                  </a:lnTo>
                  <a:lnTo>
                    <a:pt x="173" y="3"/>
                  </a:lnTo>
                  <a:lnTo>
                    <a:pt x="184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3" y="5"/>
                  </a:lnTo>
                  <a:lnTo>
                    <a:pt x="260" y="10"/>
                  </a:lnTo>
                  <a:lnTo>
                    <a:pt x="276" y="17"/>
                  </a:lnTo>
                  <a:lnTo>
                    <a:pt x="290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1" y="62"/>
                  </a:lnTo>
                  <a:lnTo>
                    <a:pt x="327" y="71"/>
                  </a:lnTo>
                  <a:lnTo>
                    <a:pt x="336" y="90"/>
                  </a:lnTo>
                  <a:lnTo>
                    <a:pt x="344" y="109"/>
                  </a:lnTo>
                  <a:lnTo>
                    <a:pt x="348" y="120"/>
                  </a:lnTo>
                  <a:lnTo>
                    <a:pt x="350" y="130"/>
                  </a:lnTo>
                  <a:lnTo>
                    <a:pt x="354" y="140"/>
                  </a:lnTo>
                  <a:lnTo>
                    <a:pt x="356" y="152"/>
                  </a:lnTo>
                  <a:lnTo>
                    <a:pt x="359" y="163"/>
                  </a:lnTo>
                  <a:lnTo>
                    <a:pt x="360" y="175"/>
                  </a:lnTo>
                  <a:lnTo>
                    <a:pt x="362" y="187"/>
                  </a:lnTo>
                  <a:lnTo>
                    <a:pt x="364" y="199"/>
                  </a:lnTo>
                  <a:lnTo>
                    <a:pt x="365" y="211"/>
                  </a:lnTo>
                  <a:lnTo>
                    <a:pt x="366" y="223"/>
                  </a:lnTo>
                  <a:lnTo>
                    <a:pt x="366" y="236"/>
                  </a:lnTo>
                  <a:lnTo>
                    <a:pt x="366" y="249"/>
                  </a:lnTo>
                  <a:lnTo>
                    <a:pt x="366" y="270"/>
                  </a:lnTo>
                  <a:lnTo>
                    <a:pt x="366" y="293"/>
                  </a:lnTo>
                  <a:lnTo>
                    <a:pt x="365" y="314"/>
                  </a:lnTo>
                  <a:lnTo>
                    <a:pt x="364" y="334"/>
                  </a:lnTo>
                  <a:lnTo>
                    <a:pt x="362" y="357"/>
                  </a:lnTo>
                  <a:lnTo>
                    <a:pt x="360" y="381"/>
                  </a:lnTo>
                  <a:lnTo>
                    <a:pt x="357" y="407"/>
                  </a:lnTo>
                  <a:lnTo>
                    <a:pt x="354" y="4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76960" y="143208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8">
                  <a:moveTo>
                    <a:pt x="452" y="1062"/>
                  </a:moveTo>
                  <a:lnTo>
                    <a:pt x="446" y="1062"/>
                  </a:lnTo>
                  <a:lnTo>
                    <a:pt x="435" y="1079"/>
                  </a:lnTo>
                  <a:lnTo>
                    <a:pt x="425" y="1096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80" y="1157"/>
                  </a:lnTo>
                  <a:lnTo>
                    <a:pt x="366" y="1173"/>
                  </a:lnTo>
                  <a:lnTo>
                    <a:pt x="352" y="1187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7" y="1233"/>
                  </a:lnTo>
                  <a:lnTo>
                    <a:pt x="279" y="1239"/>
                  </a:lnTo>
                  <a:lnTo>
                    <a:pt x="271" y="1240"/>
                  </a:lnTo>
                  <a:lnTo>
                    <a:pt x="262" y="1244"/>
                  </a:lnTo>
                  <a:lnTo>
                    <a:pt x="254" y="1245"/>
                  </a:lnTo>
                  <a:lnTo>
                    <a:pt x="245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4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8" y="1199"/>
                  </a:lnTo>
                  <a:lnTo>
                    <a:pt x="99" y="1188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5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4" y="1093"/>
                  </a:lnTo>
                  <a:lnTo>
                    <a:pt x="38" y="1076"/>
                  </a:lnTo>
                  <a:lnTo>
                    <a:pt x="33" y="1058"/>
                  </a:lnTo>
                  <a:lnTo>
                    <a:pt x="28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5" y="980"/>
                  </a:lnTo>
                  <a:lnTo>
                    <a:pt x="8" y="937"/>
                  </a:lnTo>
                  <a:lnTo>
                    <a:pt x="4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5" y="670"/>
                  </a:lnTo>
                  <a:lnTo>
                    <a:pt x="9" y="632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20"/>
                  </a:lnTo>
                  <a:lnTo>
                    <a:pt x="33" y="483"/>
                  </a:lnTo>
                  <a:lnTo>
                    <a:pt x="41" y="449"/>
                  </a:lnTo>
                  <a:lnTo>
                    <a:pt x="50" y="414"/>
                  </a:lnTo>
                  <a:lnTo>
                    <a:pt x="60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89"/>
                  </a:lnTo>
                  <a:lnTo>
                    <a:pt x="105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6" y="137"/>
                  </a:lnTo>
                  <a:lnTo>
                    <a:pt x="192" y="116"/>
                  </a:lnTo>
                  <a:lnTo>
                    <a:pt x="208" y="97"/>
                  </a:lnTo>
                  <a:lnTo>
                    <a:pt x="225" y="78"/>
                  </a:lnTo>
                  <a:lnTo>
                    <a:pt x="243" y="62"/>
                  </a:lnTo>
                  <a:lnTo>
                    <a:pt x="261" y="48"/>
                  </a:lnTo>
                  <a:lnTo>
                    <a:pt x="279" y="34"/>
                  </a:lnTo>
                  <a:lnTo>
                    <a:pt x="298" y="24"/>
                  </a:lnTo>
                  <a:lnTo>
                    <a:pt x="317" y="15"/>
                  </a:lnTo>
                  <a:lnTo>
                    <a:pt x="336" y="9"/>
                  </a:lnTo>
                  <a:lnTo>
                    <a:pt x="355" y="3"/>
                  </a:lnTo>
                  <a:lnTo>
                    <a:pt x="375" y="2"/>
                  </a:lnTo>
                  <a:lnTo>
                    <a:pt x="395" y="0"/>
                  </a:lnTo>
                  <a:lnTo>
                    <a:pt x="423" y="2"/>
                  </a:lnTo>
                  <a:lnTo>
                    <a:pt x="450" y="7"/>
                  </a:lnTo>
                  <a:lnTo>
                    <a:pt x="462" y="10"/>
                  </a:lnTo>
                  <a:lnTo>
                    <a:pt x="474" y="14"/>
                  </a:lnTo>
                  <a:lnTo>
                    <a:pt x="486" y="19"/>
                  </a:lnTo>
                  <a:lnTo>
                    <a:pt x="497" y="24"/>
                  </a:lnTo>
                  <a:lnTo>
                    <a:pt x="508" y="31"/>
                  </a:lnTo>
                  <a:lnTo>
                    <a:pt x="518" y="38"/>
                  </a:lnTo>
                  <a:lnTo>
                    <a:pt x="527" y="47"/>
                  </a:lnTo>
                  <a:lnTo>
                    <a:pt x="536" y="54"/>
                  </a:lnTo>
                  <a:lnTo>
                    <a:pt x="546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9" y="93"/>
                  </a:lnTo>
                  <a:lnTo>
                    <a:pt x="768" y="17"/>
                  </a:lnTo>
                  <a:lnTo>
                    <a:pt x="777" y="36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2"/>
                  </a:lnTo>
                  <a:lnTo>
                    <a:pt x="671" y="863"/>
                  </a:lnTo>
                  <a:lnTo>
                    <a:pt x="668" y="889"/>
                  </a:lnTo>
                  <a:lnTo>
                    <a:pt x="667" y="913"/>
                  </a:lnTo>
                  <a:lnTo>
                    <a:pt x="665" y="932"/>
                  </a:lnTo>
                  <a:lnTo>
                    <a:pt x="665" y="941"/>
                  </a:lnTo>
                  <a:lnTo>
                    <a:pt x="665" y="947"/>
                  </a:lnTo>
                  <a:lnTo>
                    <a:pt x="665" y="963"/>
                  </a:lnTo>
                  <a:lnTo>
                    <a:pt x="666" y="979"/>
                  </a:lnTo>
                  <a:lnTo>
                    <a:pt x="668" y="993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2" y="1015"/>
                  </a:lnTo>
                  <a:lnTo>
                    <a:pt x="674" y="1020"/>
                  </a:lnTo>
                  <a:lnTo>
                    <a:pt x="674" y="1025"/>
                  </a:lnTo>
                  <a:lnTo>
                    <a:pt x="676" y="1031"/>
                  </a:lnTo>
                  <a:lnTo>
                    <a:pt x="678" y="1034"/>
                  </a:lnTo>
                  <a:lnTo>
                    <a:pt x="680" y="1038"/>
                  </a:lnTo>
                  <a:lnTo>
                    <a:pt x="682" y="1041"/>
                  </a:lnTo>
                  <a:lnTo>
                    <a:pt x="685" y="1045"/>
                  </a:lnTo>
                  <a:lnTo>
                    <a:pt x="686" y="1048"/>
                  </a:lnTo>
                  <a:lnTo>
                    <a:pt x="689" y="1050"/>
                  </a:lnTo>
                  <a:lnTo>
                    <a:pt x="692" y="1053"/>
                  </a:lnTo>
                  <a:lnTo>
                    <a:pt x="698" y="1057"/>
                  </a:lnTo>
                  <a:lnTo>
                    <a:pt x="705" y="1060"/>
                  </a:lnTo>
                  <a:lnTo>
                    <a:pt x="712" y="1064"/>
                  </a:lnTo>
                  <a:lnTo>
                    <a:pt x="721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5" y="1067"/>
                  </a:lnTo>
                  <a:lnTo>
                    <a:pt x="750" y="1065"/>
                  </a:lnTo>
                  <a:lnTo>
                    <a:pt x="755" y="1065"/>
                  </a:lnTo>
                  <a:lnTo>
                    <a:pt x="760" y="1064"/>
                  </a:lnTo>
                  <a:lnTo>
                    <a:pt x="772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2"/>
                  </a:lnTo>
                  <a:lnTo>
                    <a:pt x="806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3" y="1221"/>
                  </a:lnTo>
                  <a:lnTo>
                    <a:pt x="672" y="1225"/>
                  </a:lnTo>
                  <a:lnTo>
                    <a:pt x="661" y="1228"/>
                  </a:lnTo>
                  <a:lnTo>
                    <a:pt x="650" y="1232"/>
                  </a:lnTo>
                  <a:lnTo>
                    <a:pt x="638" y="1233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8" y="1228"/>
                  </a:lnTo>
                  <a:lnTo>
                    <a:pt x="554" y="1223"/>
                  </a:lnTo>
                  <a:lnTo>
                    <a:pt x="541" y="1216"/>
                  </a:lnTo>
                  <a:lnTo>
                    <a:pt x="529" y="1207"/>
                  </a:lnTo>
                  <a:lnTo>
                    <a:pt x="517" y="1199"/>
                  </a:lnTo>
                  <a:lnTo>
                    <a:pt x="507" y="1187"/>
                  </a:lnTo>
                  <a:lnTo>
                    <a:pt x="497" y="1174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6"/>
                  </a:lnTo>
                  <a:lnTo>
                    <a:pt x="461" y="1098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4" y="235"/>
                  </a:lnTo>
                  <a:lnTo>
                    <a:pt x="522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7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8" y="175"/>
                  </a:lnTo>
                  <a:lnTo>
                    <a:pt x="505" y="168"/>
                  </a:lnTo>
                  <a:lnTo>
                    <a:pt x="502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90" y="144"/>
                  </a:lnTo>
                  <a:lnTo>
                    <a:pt x="485" y="138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1" y="119"/>
                  </a:lnTo>
                  <a:lnTo>
                    <a:pt x="434" y="119"/>
                  </a:lnTo>
                  <a:lnTo>
                    <a:pt x="423" y="121"/>
                  </a:lnTo>
                  <a:lnTo>
                    <a:pt x="413" y="123"/>
                  </a:lnTo>
                  <a:lnTo>
                    <a:pt x="403" y="128"/>
                  </a:lnTo>
                  <a:lnTo>
                    <a:pt x="392" y="133"/>
                  </a:lnTo>
                  <a:lnTo>
                    <a:pt x="383" y="142"/>
                  </a:lnTo>
                  <a:lnTo>
                    <a:pt x="374" y="152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7" y="190"/>
                  </a:lnTo>
                  <a:lnTo>
                    <a:pt x="338" y="206"/>
                  </a:lnTo>
                  <a:lnTo>
                    <a:pt x="330" y="223"/>
                  </a:lnTo>
                  <a:lnTo>
                    <a:pt x="321" y="242"/>
                  </a:lnTo>
                  <a:lnTo>
                    <a:pt x="314" y="261"/>
                  </a:lnTo>
                  <a:lnTo>
                    <a:pt x="306" y="282"/>
                  </a:lnTo>
                  <a:lnTo>
                    <a:pt x="298" y="305"/>
                  </a:lnTo>
                  <a:lnTo>
                    <a:pt x="292" y="327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3"/>
                  </a:lnTo>
                  <a:lnTo>
                    <a:pt x="249" y="542"/>
                  </a:lnTo>
                  <a:lnTo>
                    <a:pt x="242" y="604"/>
                  </a:lnTo>
                  <a:lnTo>
                    <a:pt x="238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0"/>
                  </a:lnTo>
                  <a:lnTo>
                    <a:pt x="236" y="876"/>
                  </a:lnTo>
                  <a:lnTo>
                    <a:pt x="238" y="902"/>
                  </a:lnTo>
                  <a:lnTo>
                    <a:pt x="240" y="915"/>
                  </a:lnTo>
                  <a:lnTo>
                    <a:pt x="241" y="927"/>
                  </a:lnTo>
                  <a:lnTo>
                    <a:pt x="243" y="939"/>
                  </a:lnTo>
                  <a:lnTo>
                    <a:pt x="245" y="949"/>
                  </a:lnTo>
                  <a:lnTo>
                    <a:pt x="247" y="960"/>
                  </a:lnTo>
                  <a:lnTo>
                    <a:pt x="249" y="970"/>
                  </a:lnTo>
                  <a:lnTo>
                    <a:pt x="251" y="979"/>
                  </a:lnTo>
                  <a:lnTo>
                    <a:pt x="254" y="987"/>
                  </a:lnTo>
                  <a:lnTo>
                    <a:pt x="257" y="996"/>
                  </a:lnTo>
                  <a:lnTo>
                    <a:pt x="260" y="1006"/>
                  </a:lnTo>
                  <a:lnTo>
                    <a:pt x="264" y="1013"/>
                  </a:lnTo>
                  <a:lnTo>
                    <a:pt x="268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1" y="1039"/>
                  </a:lnTo>
                  <a:lnTo>
                    <a:pt x="286" y="1045"/>
                  </a:lnTo>
                  <a:lnTo>
                    <a:pt x="291" y="1050"/>
                  </a:lnTo>
                  <a:lnTo>
                    <a:pt x="296" y="1053"/>
                  </a:lnTo>
                  <a:lnTo>
                    <a:pt x="302" y="1057"/>
                  </a:lnTo>
                  <a:lnTo>
                    <a:pt x="308" y="1060"/>
                  </a:lnTo>
                  <a:lnTo>
                    <a:pt x="314" y="1062"/>
                  </a:lnTo>
                  <a:lnTo>
                    <a:pt x="320" y="1064"/>
                  </a:lnTo>
                  <a:lnTo>
                    <a:pt x="328" y="1065"/>
                  </a:lnTo>
                  <a:lnTo>
                    <a:pt x="335" y="1065"/>
                  </a:lnTo>
                  <a:lnTo>
                    <a:pt x="342" y="1065"/>
                  </a:lnTo>
                  <a:lnTo>
                    <a:pt x="350" y="1064"/>
                  </a:lnTo>
                  <a:lnTo>
                    <a:pt x="358" y="1060"/>
                  </a:lnTo>
                  <a:lnTo>
                    <a:pt x="364" y="1057"/>
                  </a:lnTo>
                  <a:lnTo>
                    <a:pt x="372" y="1053"/>
                  </a:lnTo>
                  <a:lnTo>
                    <a:pt x="379" y="1046"/>
                  </a:lnTo>
                  <a:lnTo>
                    <a:pt x="387" y="1041"/>
                  </a:lnTo>
                  <a:lnTo>
                    <a:pt x="393" y="1032"/>
                  </a:lnTo>
                  <a:lnTo>
                    <a:pt x="407" y="1015"/>
                  </a:lnTo>
                  <a:lnTo>
                    <a:pt x="420" y="996"/>
                  </a:lnTo>
                  <a:lnTo>
                    <a:pt x="433" y="975"/>
                  </a:lnTo>
                  <a:lnTo>
                    <a:pt x="440" y="965"/>
                  </a:lnTo>
                  <a:lnTo>
                    <a:pt x="446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520" y="1722600"/>
              <a:ext cx="109800" cy="314280"/>
            </a:xfrm>
            <a:custGeom>
              <a:avLst/>
              <a:gdLst/>
              <a:ahLst/>
              <a:rect l="l" t="t" r="r" b="b"/>
              <a:pathLst>
                <a:path w="305" h="871">
                  <a:moveTo>
                    <a:pt x="304" y="248"/>
                  </a:moveTo>
                  <a:lnTo>
                    <a:pt x="304" y="271"/>
                  </a:lnTo>
                  <a:lnTo>
                    <a:pt x="302" y="295"/>
                  </a:lnTo>
                  <a:lnTo>
                    <a:pt x="301" y="317"/>
                  </a:lnTo>
                  <a:lnTo>
                    <a:pt x="299" y="340"/>
                  </a:lnTo>
                  <a:lnTo>
                    <a:pt x="296" y="363"/>
                  </a:lnTo>
                  <a:lnTo>
                    <a:pt x="292" y="385"/>
                  </a:lnTo>
                  <a:lnTo>
                    <a:pt x="289" y="408"/>
                  </a:lnTo>
                  <a:lnTo>
                    <a:pt x="284" y="430"/>
                  </a:lnTo>
                  <a:lnTo>
                    <a:pt x="272" y="475"/>
                  </a:lnTo>
                  <a:lnTo>
                    <a:pt x="258" y="518"/>
                  </a:lnTo>
                  <a:lnTo>
                    <a:pt x="241" y="562"/>
                  </a:lnTo>
                  <a:lnTo>
                    <a:pt x="222" y="605"/>
                  </a:lnTo>
                  <a:lnTo>
                    <a:pt x="201" y="647"/>
                  </a:lnTo>
                  <a:lnTo>
                    <a:pt x="179" y="686"/>
                  </a:lnTo>
                  <a:lnTo>
                    <a:pt x="155" y="725"/>
                  </a:lnTo>
                  <a:lnTo>
                    <a:pt x="130" y="759"/>
                  </a:lnTo>
                  <a:lnTo>
                    <a:pt x="105" y="790"/>
                  </a:lnTo>
                  <a:lnTo>
                    <a:pt x="78" y="820"/>
                  </a:lnTo>
                  <a:lnTo>
                    <a:pt x="50" y="846"/>
                  </a:lnTo>
                  <a:lnTo>
                    <a:pt x="21" y="870"/>
                  </a:lnTo>
                  <a:lnTo>
                    <a:pt x="0" y="785"/>
                  </a:lnTo>
                  <a:lnTo>
                    <a:pt x="36" y="751"/>
                  </a:lnTo>
                  <a:lnTo>
                    <a:pt x="53" y="735"/>
                  </a:lnTo>
                  <a:lnTo>
                    <a:pt x="68" y="719"/>
                  </a:lnTo>
                  <a:lnTo>
                    <a:pt x="75" y="712"/>
                  </a:lnTo>
                  <a:lnTo>
                    <a:pt x="82" y="704"/>
                  </a:lnTo>
                  <a:lnTo>
                    <a:pt x="89" y="693"/>
                  </a:lnTo>
                  <a:lnTo>
                    <a:pt x="97" y="683"/>
                  </a:lnTo>
                  <a:lnTo>
                    <a:pt x="111" y="660"/>
                  </a:lnTo>
                  <a:lnTo>
                    <a:pt x="126" y="634"/>
                  </a:lnTo>
                  <a:lnTo>
                    <a:pt x="133" y="622"/>
                  </a:lnTo>
                  <a:lnTo>
                    <a:pt x="139" y="612"/>
                  </a:lnTo>
                  <a:lnTo>
                    <a:pt x="145" y="600"/>
                  </a:lnTo>
                  <a:lnTo>
                    <a:pt x="151" y="588"/>
                  </a:lnTo>
                  <a:lnTo>
                    <a:pt x="157" y="574"/>
                  </a:lnTo>
                  <a:lnTo>
                    <a:pt x="162" y="562"/>
                  </a:lnTo>
                  <a:lnTo>
                    <a:pt x="172" y="534"/>
                  </a:lnTo>
                  <a:lnTo>
                    <a:pt x="177" y="520"/>
                  </a:lnTo>
                  <a:lnTo>
                    <a:pt x="181" y="506"/>
                  </a:lnTo>
                  <a:lnTo>
                    <a:pt x="185" y="491"/>
                  </a:lnTo>
                  <a:lnTo>
                    <a:pt x="190" y="475"/>
                  </a:lnTo>
                  <a:lnTo>
                    <a:pt x="193" y="458"/>
                  </a:lnTo>
                  <a:lnTo>
                    <a:pt x="196" y="440"/>
                  </a:lnTo>
                  <a:lnTo>
                    <a:pt x="200" y="423"/>
                  </a:lnTo>
                  <a:lnTo>
                    <a:pt x="202" y="406"/>
                  </a:lnTo>
                  <a:lnTo>
                    <a:pt x="164" y="406"/>
                  </a:lnTo>
                  <a:lnTo>
                    <a:pt x="150" y="406"/>
                  </a:lnTo>
                  <a:lnTo>
                    <a:pt x="135" y="402"/>
                  </a:lnTo>
                  <a:lnTo>
                    <a:pt x="123" y="401"/>
                  </a:lnTo>
                  <a:lnTo>
                    <a:pt x="112" y="395"/>
                  </a:lnTo>
                  <a:lnTo>
                    <a:pt x="101" y="388"/>
                  </a:lnTo>
                  <a:lnTo>
                    <a:pt x="91" y="382"/>
                  </a:lnTo>
                  <a:lnTo>
                    <a:pt x="86" y="378"/>
                  </a:lnTo>
                  <a:lnTo>
                    <a:pt x="82" y="373"/>
                  </a:lnTo>
                  <a:lnTo>
                    <a:pt x="78" y="368"/>
                  </a:lnTo>
                  <a:lnTo>
                    <a:pt x="75" y="363"/>
                  </a:lnTo>
                  <a:lnTo>
                    <a:pt x="71" y="357"/>
                  </a:lnTo>
                  <a:lnTo>
                    <a:pt x="68" y="350"/>
                  </a:lnTo>
                  <a:lnTo>
                    <a:pt x="64" y="345"/>
                  </a:lnTo>
                  <a:lnTo>
                    <a:pt x="62" y="338"/>
                  </a:lnTo>
                  <a:lnTo>
                    <a:pt x="59" y="331"/>
                  </a:lnTo>
                  <a:lnTo>
                    <a:pt x="57" y="324"/>
                  </a:lnTo>
                  <a:lnTo>
                    <a:pt x="55" y="317"/>
                  </a:lnTo>
                  <a:lnTo>
                    <a:pt x="53" y="309"/>
                  </a:lnTo>
                  <a:lnTo>
                    <a:pt x="51" y="302"/>
                  </a:lnTo>
                  <a:lnTo>
                    <a:pt x="50" y="293"/>
                  </a:lnTo>
                  <a:lnTo>
                    <a:pt x="48" y="285"/>
                  </a:lnTo>
                  <a:lnTo>
                    <a:pt x="47" y="276"/>
                  </a:lnTo>
                  <a:lnTo>
                    <a:pt x="47" y="267"/>
                  </a:lnTo>
                  <a:lnTo>
                    <a:pt x="47" y="259"/>
                  </a:lnTo>
                  <a:lnTo>
                    <a:pt x="46" y="240"/>
                  </a:lnTo>
                  <a:lnTo>
                    <a:pt x="46" y="227"/>
                  </a:lnTo>
                  <a:lnTo>
                    <a:pt x="47" y="217"/>
                  </a:lnTo>
                  <a:lnTo>
                    <a:pt x="47" y="207"/>
                  </a:lnTo>
                  <a:lnTo>
                    <a:pt x="48" y="194"/>
                  </a:lnTo>
                  <a:lnTo>
                    <a:pt x="50" y="184"/>
                  </a:lnTo>
                  <a:lnTo>
                    <a:pt x="52" y="174"/>
                  </a:lnTo>
                  <a:lnTo>
                    <a:pt x="53" y="163"/>
                  </a:lnTo>
                  <a:lnTo>
                    <a:pt x="56" y="153"/>
                  </a:lnTo>
                  <a:lnTo>
                    <a:pt x="58" y="142"/>
                  </a:lnTo>
                  <a:lnTo>
                    <a:pt x="62" y="132"/>
                  </a:lnTo>
                  <a:lnTo>
                    <a:pt x="69" y="111"/>
                  </a:lnTo>
                  <a:lnTo>
                    <a:pt x="77" y="92"/>
                  </a:lnTo>
                  <a:lnTo>
                    <a:pt x="86" y="73"/>
                  </a:lnTo>
                  <a:lnTo>
                    <a:pt x="97" y="56"/>
                  </a:lnTo>
                  <a:lnTo>
                    <a:pt x="108" y="42"/>
                  </a:lnTo>
                  <a:lnTo>
                    <a:pt x="119" y="28"/>
                  </a:lnTo>
                  <a:lnTo>
                    <a:pt x="130" y="19"/>
                  </a:lnTo>
                  <a:lnTo>
                    <a:pt x="142" y="11"/>
                  </a:lnTo>
                  <a:lnTo>
                    <a:pt x="154" y="6"/>
                  </a:lnTo>
                  <a:lnTo>
                    <a:pt x="167" y="2"/>
                  </a:lnTo>
                  <a:lnTo>
                    <a:pt x="180" y="0"/>
                  </a:lnTo>
                  <a:lnTo>
                    <a:pt x="196" y="2"/>
                  </a:lnTo>
                  <a:lnTo>
                    <a:pt x="210" y="4"/>
                  </a:lnTo>
                  <a:lnTo>
                    <a:pt x="224" y="11"/>
                  </a:lnTo>
                  <a:lnTo>
                    <a:pt x="229" y="14"/>
                  </a:lnTo>
                  <a:lnTo>
                    <a:pt x="235" y="18"/>
                  </a:lnTo>
                  <a:lnTo>
                    <a:pt x="241" y="23"/>
                  </a:lnTo>
                  <a:lnTo>
                    <a:pt x="247" y="26"/>
                  </a:lnTo>
                  <a:lnTo>
                    <a:pt x="252" y="33"/>
                  </a:lnTo>
                  <a:lnTo>
                    <a:pt x="257" y="39"/>
                  </a:lnTo>
                  <a:lnTo>
                    <a:pt x="262" y="45"/>
                  </a:lnTo>
                  <a:lnTo>
                    <a:pt x="266" y="54"/>
                  </a:lnTo>
                  <a:lnTo>
                    <a:pt x="270" y="61"/>
                  </a:lnTo>
                  <a:lnTo>
                    <a:pt x="274" y="70"/>
                  </a:lnTo>
                  <a:lnTo>
                    <a:pt x="281" y="87"/>
                  </a:lnTo>
                  <a:lnTo>
                    <a:pt x="287" y="108"/>
                  </a:lnTo>
                  <a:lnTo>
                    <a:pt x="292" y="127"/>
                  </a:lnTo>
                  <a:lnTo>
                    <a:pt x="296" y="149"/>
                  </a:lnTo>
                  <a:lnTo>
                    <a:pt x="300" y="172"/>
                  </a:lnTo>
                  <a:lnTo>
                    <a:pt x="302" y="196"/>
                  </a:lnTo>
                  <a:lnTo>
                    <a:pt x="303" y="22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9520" y="1436760"/>
              <a:ext cx="314280" cy="444600"/>
            </a:xfrm>
            <a:custGeom>
              <a:avLst/>
              <a:gdLst/>
              <a:ahLst/>
              <a:rect l="l" t="t" r="r" b="b"/>
              <a:pathLst>
                <a:path w="875" h="1234">
                  <a:moveTo>
                    <a:pt x="499" y="1006"/>
                  </a:moveTo>
                  <a:lnTo>
                    <a:pt x="494" y="1006"/>
                  </a:lnTo>
                  <a:lnTo>
                    <a:pt x="461" y="1062"/>
                  </a:lnTo>
                  <a:lnTo>
                    <a:pt x="445" y="1086"/>
                  </a:lnTo>
                  <a:lnTo>
                    <a:pt x="428" y="1108"/>
                  </a:lnTo>
                  <a:lnTo>
                    <a:pt x="412" y="1128"/>
                  </a:lnTo>
                  <a:lnTo>
                    <a:pt x="396" y="1147"/>
                  </a:lnTo>
                  <a:lnTo>
                    <a:pt x="380" y="1164"/>
                  </a:lnTo>
                  <a:lnTo>
                    <a:pt x="365" y="1178"/>
                  </a:lnTo>
                  <a:lnTo>
                    <a:pt x="349" y="1190"/>
                  </a:lnTo>
                  <a:lnTo>
                    <a:pt x="333" y="1202"/>
                  </a:lnTo>
                  <a:lnTo>
                    <a:pt x="316" y="1211"/>
                  </a:lnTo>
                  <a:lnTo>
                    <a:pt x="298" y="1219"/>
                  </a:lnTo>
                  <a:lnTo>
                    <a:pt x="280" y="1225"/>
                  </a:lnTo>
                  <a:lnTo>
                    <a:pt x="262" y="1230"/>
                  </a:lnTo>
                  <a:lnTo>
                    <a:pt x="242" y="1231"/>
                  </a:lnTo>
                  <a:lnTo>
                    <a:pt x="222" y="1233"/>
                  </a:lnTo>
                  <a:lnTo>
                    <a:pt x="204" y="1231"/>
                  </a:lnTo>
                  <a:lnTo>
                    <a:pt x="188" y="1228"/>
                  </a:lnTo>
                  <a:lnTo>
                    <a:pt x="172" y="1223"/>
                  </a:lnTo>
                  <a:lnTo>
                    <a:pt x="158" y="1216"/>
                  </a:lnTo>
                  <a:lnTo>
                    <a:pt x="144" y="1205"/>
                  </a:lnTo>
                  <a:lnTo>
                    <a:pt x="138" y="1199"/>
                  </a:lnTo>
                  <a:lnTo>
                    <a:pt x="132" y="1192"/>
                  </a:lnTo>
                  <a:lnTo>
                    <a:pt x="126" y="1185"/>
                  </a:lnTo>
                  <a:lnTo>
                    <a:pt x="120" y="1178"/>
                  </a:lnTo>
                  <a:lnTo>
                    <a:pt x="115" y="1169"/>
                  </a:lnTo>
                  <a:lnTo>
                    <a:pt x="110" y="1160"/>
                  </a:lnTo>
                  <a:lnTo>
                    <a:pt x="101" y="1141"/>
                  </a:lnTo>
                  <a:lnTo>
                    <a:pt x="97" y="1133"/>
                  </a:lnTo>
                  <a:lnTo>
                    <a:pt x="93" y="1122"/>
                  </a:lnTo>
                  <a:lnTo>
                    <a:pt x="90" y="1112"/>
                  </a:lnTo>
                  <a:lnTo>
                    <a:pt x="86" y="1102"/>
                  </a:lnTo>
                  <a:lnTo>
                    <a:pt x="83" y="1091"/>
                  </a:lnTo>
                  <a:lnTo>
                    <a:pt x="80" y="1081"/>
                  </a:lnTo>
                  <a:lnTo>
                    <a:pt x="79" y="1069"/>
                  </a:lnTo>
                  <a:lnTo>
                    <a:pt x="76" y="1056"/>
                  </a:lnTo>
                  <a:lnTo>
                    <a:pt x="75" y="1046"/>
                  </a:lnTo>
                  <a:lnTo>
                    <a:pt x="74" y="1034"/>
                  </a:lnTo>
                  <a:lnTo>
                    <a:pt x="73" y="1022"/>
                  </a:lnTo>
                  <a:lnTo>
                    <a:pt x="72" y="1010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6"/>
                  </a:lnTo>
                  <a:lnTo>
                    <a:pt x="73" y="927"/>
                  </a:lnTo>
                  <a:lnTo>
                    <a:pt x="74" y="907"/>
                  </a:lnTo>
                  <a:lnTo>
                    <a:pt x="75" y="897"/>
                  </a:lnTo>
                  <a:lnTo>
                    <a:pt x="75" y="887"/>
                  </a:lnTo>
                  <a:lnTo>
                    <a:pt x="77" y="862"/>
                  </a:lnTo>
                  <a:lnTo>
                    <a:pt x="81" y="833"/>
                  </a:lnTo>
                  <a:lnTo>
                    <a:pt x="86" y="800"/>
                  </a:lnTo>
                  <a:lnTo>
                    <a:pt x="135" y="464"/>
                  </a:lnTo>
                  <a:lnTo>
                    <a:pt x="145" y="372"/>
                  </a:lnTo>
                  <a:lnTo>
                    <a:pt x="147" y="346"/>
                  </a:lnTo>
                  <a:lnTo>
                    <a:pt x="150" y="322"/>
                  </a:lnTo>
                  <a:lnTo>
                    <a:pt x="151" y="303"/>
                  </a:lnTo>
                  <a:lnTo>
                    <a:pt x="152" y="294"/>
                  </a:lnTo>
                  <a:lnTo>
                    <a:pt x="152" y="287"/>
                  </a:lnTo>
                  <a:lnTo>
                    <a:pt x="152" y="272"/>
                  </a:lnTo>
                  <a:lnTo>
                    <a:pt x="151" y="258"/>
                  </a:lnTo>
                  <a:lnTo>
                    <a:pt x="149" y="244"/>
                  </a:lnTo>
                  <a:lnTo>
                    <a:pt x="148" y="232"/>
                  </a:lnTo>
                  <a:lnTo>
                    <a:pt x="147" y="227"/>
                  </a:lnTo>
                  <a:lnTo>
                    <a:pt x="146" y="221"/>
                  </a:lnTo>
                  <a:lnTo>
                    <a:pt x="144" y="216"/>
                  </a:lnTo>
                  <a:lnTo>
                    <a:pt x="143" y="211"/>
                  </a:lnTo>
                  <a:lnTo>
                    <a:pt x="141" y="206"/>
                  </a:lnTo>
                  <a:lnTo>
                    <a:pt x="140" y="202"/>
                  </a:lnTo>
                  <a:lnTo>
                    <a:pt x="138" y="199"/>
                  </a:lnTo>
                  <a:lnTo>
                    <a:pt x="136" y="195"/>
                  </a:lnTo>
                  <a:lnTo>
                    <a:pt x="135" y="192"/>
                  </a:lnTo>
                  <a:lnTo>
                    <a:pt x="132" y="189"/>
                  </a:lnTo>
                  <a:lnTo>
                    <a:pt x="130" y="185"/>
                  </a:lnTo>
                  <a:lnTo>
                    <a:pt x="128" y="183"/>
                  </a:lnTo>
                  <a:lnTo>
                    <a:pt x="125" y="180"/>
                  </a:lnTo>
                  <a:lnTo>
                    <a:pt x="122" y="178"/>
                  </a:lnTo>
                  <a:lnTo>
                    <a:pt x="115" y="175"/>
                  </a:lnTo>
                  <a:lnTo>
                    <a:pt x="108" y="171"/>
                  </a:lnTo>
                  <a:lnTo>
                    <a:pt x="99" y="169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69" y="168"/>
                  </a:lnTo>
                  <a:lnTo>
                    <a:pt x="64" y="169"/>
                  </a:lnTo>
                  <a:lnTo>
                    <a:pt x="58" y="171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6"/>
                  </a:lnTo>
                  <a:lnTo>
                    <a:pt x="37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2"/>
                  </a:lnTo>
                  <a:lnTo>
                    <a:pt x="14" y="95"/>
                  </a:lnTo>
                  <a:lnTo>
                    <a:pt x="115" y="27"/>
                  </a:lnTo>
                  <a:lnTo>
                    <a:pt x="127" y="20"/>
                  </a:lnTo>
                  <a:lnTo>
                    <a:pt x="139" y="15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3" y="3"/>
                  </a:lnTo>
                  <a:lnTo>
                    <a:pt x="184" y="1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4" y="1"/>
                  </a:lnTo>
                  <a:lnTo>
                    <a:pt x="242" y="5"/>
                  </a:lnTo>
                  <a:lnTo>
                    <a:pt x="259" y="10"/>
                  </a:lnTo>
                  <a:lnTo>
                    <a:pt x="274" y="17"/>
                  </a:lnTo>
                  <a:lnTo>
                    <a:pt x="289" y="27"/>
                  </a:lnTo>
                  <a:lnTo>
                    <a:pt x="302" y="40"/>
                  </a:lnTo>
                  <a:lnTo>
                    <a:pt x="308" y="46"/>
                  </a:lnTo>
                  <a:lnTo>
                    <a:pt x="314" y="53"/>
                  </a:lnTo>
                  <a:lnTo>
                    <a:pt x="320" y="62"/>
                  </a:lnTo>
                  <a:lnTo>
                    <a:pt x="325" y="71"/>
                  </a:lnTo>
                  <a:lnTo>
                    <a:pt x="335" y="88"/>
                  </a:lnTo>
                  <a:lnTo>
                    <a:pt x="340" y="98"/>
                  </a:lnTo>
                  <a:lnTo>
                    <a:pt x="344" y="109"/>
                  </a:lnTo>
                  <a:lnTo>
                    <a:pt x="347" y="118"/>
                  </a:lnTo>
                  <a:lnTo>
                    <a:pt x="351" y="128"/>
                  </a:lnTo>
                  <a:lnTo>
                    <a:pt x="354" y="138"/>
                  </a:lnTo>
                  <a:lnTo>
                    <a:pt x="356" y="150"/>
                  </a:lnTo>
                  <a:lnTo>
                    <a:pt x="359" y="161"/>
                  </a:lnTo>
                  <a:lnTo>
                    <a:pt x="361" y="173"/>
                  </a:lnTo>
                  <a:lnTo>
                    <a:pt x="362" y="185"/>
                  </a:lnTo>
                  <a:lnTo>
                    <a:pt x="364" y="197"/>
                  </a:lnTo>
                  <a:lnTo>
                    <a:pt x="365" y="209"/>
                  </a:lnTo>
                  <a:lnTo>
                    <a:pt x="366" y="221"/>
                  </a:lnTo>
                  <a:lnTo>
                    <a:pt x="367" y="234"/>
                  </a:lnTo>
                  <a:lnTo>
                    <a:pt x="367" y="247"/>
                  </a:lnTo>
                  <a:lnTo>
                    <a:pt x="367" y="260"/>
                  </a:lnTo>
                  <a:lnTo>
                    <a:pt x="366" y="277"/>
                  </a:lnTo>
                  <a:lnTo>
                    <a:pt x="364" y="325"/>
                  </a:lnTo>
                  <a:lnTo>
                    <a:pt x="362" y="353"/>
                  </a:lnTo>
                  <a:lnTo>
                    <a:pt x="361" y="381"/>
                  </a:lnTo>
                  <a:lnTo>
                    <a:pt x="357" y="407"/>
                  </a:lnTo>
                  <a:lnTo>
                    <a:pt x="354" y="433"/>
                  </a:lnTo>
                  <a:lnTo>
                    <a:pt x="307" y="750"/>
                  </a:lnTo>
                  <a:lnTo>
                    <a:pt x="303" y="771"/>
                  </a:lnTo>
                  <a:lnTo>
                    <a:pt x="301" y="793"/>
                  </a:lnTo>
                  <a:lnTo>
                    <a:pt x="298" y="817"/>
                  </a:lnTo>
                  <a:lnTo>
                    <a:pt x="296" y="840"/>
                  </a:lnTo>
                  <a:lnTo>
                    <a:pt x="293" y="882"/>
                  </a:lnTo>
                  <a:lnTo>
                    <a:pt x="292" y="897"/>
                  </a:lnTo>
                  <a:lnTo>
                    <a:pt x="292" y="904"/>
                  </a:lnTo>
                  <a:lnTo>
                    <a:pt x="292" y="911"/>
                  </a:lnTo>
                  <a:lnTo>
                    <a:pt x="292" y="925"/>
                  </a:lnTo>
                  <a:lnTo>
                    <a:pt x="293" y="937"/>
                  </a:lnTo>
                  <a:lnTo>
                    <a:pt x="294" y="949"/>
                  </a:lnTo>
                  <a:lnTo>
                    <a:pt x="296" y="961"/>
                  </a:lnTo>
                  <a:lnTo>
                    <a:pt x="298" y="972"/>
                  </a:lnTo>
                  <a:lnTo>
                    <a:pt x="301" y="982"/>
                  </a:lnTo>
                  <a:lnTo>
                    <a:pt x="303" y="991"/>
                  </a:lnTo>
                  <a:lnTo>
                    <a:pt x="307" y="999"/>
                  </a:lnTo>
                  <a:lnTo>
                    <a:pt x="308" y="1003"/>
                  </a:lnTo>
                  <a:lnTo>
                    <a:pt x="311" y="1008"/>
                  </a:lnTo>
                  <a:lnTo>
                    <a:pt x="312" y="1011"/>
                  </a:lnTo>
                  <a:lnTo>
                    <a:pt x="315" y="1013"/>
                  </a:lnTo>
                  <a:lnTo>
                    <a:pt x="318" y="1017"/>
                  </a:lnTo>
                  <a:lnTo>
                    <a:pt x="320" y="1020"/>
                  </a:lnTo>
                  <a:lnTo>
                    <a:pt x="323" y="1022"/>
                  </a:lnTo>
                  <a:lnTo>
                    <a:pt x="326" y="1024"/>
                  </a:lnTo>
                  <a:lnTo>
                    <a:pt x="333" y="1027"/>
                  </a:lnTo>
                  <a:lnTo>
                    <a:pt x="340" y="1031"/>
                  </a:lnTo>
                  <a:lnTo>
                    <a:pt x="347" y="1032"/>
                  </a:lnTo>
                  <a:lnTo>
                    <a:pt x="356" y="1032"/>
                  </a:lnTo>
                  <a:lnTo>
                    <a:pt x="362" y="1032"/>
                  </a:lnTo>
                  <a:lnTo>
                    <a:pt x="369" y="1031"/>
                  </a:lnTo>
                  <a:lnTo>
                    <a:pt x="377" y="1027"/>
                  </a:lnTo>
                  <a:lnTo>
                    <a:pt x="385" y="1022"/>
                  </a:lnTo>
                  <a:lnTo>
                    <a:pt x="394" y="1017"/>
                  </a:lnTo>
                  <a:lnTo>
                    <a:pt x="403" y="1010"/>
                  </a:lnTo>
                  <a:lnTo>
                    <a:pt x="412" y="1001"/>
                  </a:lnTo>
                  <a:lnTo>
                    <a:pt x="423" y="992"/>
                  </a:lnTo>
                  <a:lnTo>
                    <a:pt x="433" y="982"/>
                  </a:lnTo>
                  <a:lnTo>
                    <a:pt x="444" y="972"/>
                  </a:lnTo>
                  <a:lnTo>
                    <a:pt x="454" y="959"/>
                  </a:lnTo>
                  <a:lnTo>
                    <a:pt x="464" y="946"/>
                  </a:lnTo>
                  <a:lnTo>
                    <a:pt x="475" y="932"/>
                  </a:lnTo>
                  <a:lnTo>
                    <a:pt x="485" y="916"/>
                  </a:lnTo>
                  <a:lnTo>
                    <a:pt x="495" y="899"/>
                  </a:lnTo>
                  <a:lnTo>
                    <a:pt x="505" y="882"/>
                  </a:lnTo>
                  <a:lnTo>
                    <a:pt x="613" y="20"/>
                  </a:lnTo>
                  <a:lnTo>
                    <a:pt x="820" y="3"/>
                  </a:lnTo>
                  <a:lnTo>
                    <a:pt x="828" y="20"/>
                  </a:lnTo>
                  <a:lnTo>
                    <a:pt x="736" y="753"/>
                  </a:lnTo>
                  <a:lnTo>
                    <a:pt x="733" y="772"/>
                  </a:lnTo>
                  <a:lnTo>
                    <a:pt x="731" y="795"/>
                  </a:lnTo>
                  <a:lnTo>
                    <a:pt x="725" y="845"/>
                  </a:lnTo>
                  <a:lnTo>
                    <a:pt x="721" y="895"/>
                  </a:lnTo>
                  <a:lnTo>
                    <a:pt x="720" y="914"/>
                  </a:lnTo>
                  <a:lnTo>
                    <a:pt x="719" y="923"/>
                  </a:lnTo>
                  <a:lnTo>
                    <a:pt x="719" y="930"/>
                  </a:lnTo>
                  <a:lnTo>
                    <a:pt x="719" y="947"/>
                  </a:lnTo>
                  <a:lnTo>
                    <a:pt x="720" y="963"/>
                  </a:lnTo>
                  <a:lnTo>
                    <a:pt x="721" y="977"/>
                  </a:lnTo>
                  <a:lnTo>
                    <a:pt x="722" y="982"/>
                  </a:lnTo>
                  <a:lnTo>
                    <a:pt x="723" y="989"/>
                  </a:lnTo>
                  <a:lnTo>
                    <a:pt x="724" y="994"/>
                  </a:lnTo>
                  <a:lnTo>
                    <a:pt x="726" y="999"/>
                  </a:lnTo>
                  <a:lnTo>
                    <a:pt x="727" y="1005"/>
                  </a:lnTo>
                  <a:lnTo>
                    <a:pt x="728" y="1010"/>
                  </a:lnTo>
                  <a:lnTo>
                    <a:pt x="730" y="1015"/>
                  </a:lnTo>
                  <a:lnTo>
                    <a:pt x="732" y="1018"/>
                  </a:lnTo>
                  <a:lnTo>
                    <a:pt x="734" y="1022"/>
                  </a:lnTo>
                  <a:lnTo>
                    <a:pt x="736" y="1025"/>
                  </a:lnTo>
                  <a:lnTo>
                    <a:pt x="738" y="1029"/>
                  </a:lnTo>
                  <a:lnTo>
                    <a:pt x="740" y="1031"/>
                  </a:lnTo>
                  <a:lnTo>
                    <a:pt x="743" y="1034"/>
                  </a:lnTo>
                  <a:lnTo>
                    <a:pt x="746" y="1036"/>
                  </a:lnTo>
                  <a:lnTo>
                    <a:pt x="752" y="1039"/>
                  </a:lnTo>
                  <a:lnTo>
                    <a:pt x="759" y="1043"/>
                  </a:lnTo>
                  <a:lnTo>
                    <a:pt x="766" y="1046"/>
                  </a:lnTo>
                  <a:lnTo>
                    <a:pt x="775" y="1048"/>
                  </a:lnTo>
                  <a:lnTo>
                    <a:pt x="784" y="1050"/>
                  </a:lnTo>
                  <a:lnTo>
                    <a:pt x="794" y="1050"/>
                  </a:lnTo>
                  <a:lnTo>
                    <a:pt x="799" y="1050"/>
                  </a:lnTo>
                  <a:lnTo>
                    <a:pt x="804" y="1050"/>
                  </a:lnTo>
                  <a:lnTo>
                    <a:pt x="809" y="1048"/>
                  </a:lnTo>
                  <a:lnTo>
                    <a:pt x="814" y="1046"/>
                  </a:lnTo>
                  <a:lnTo>
                    <a:pt x="826" y="1043"/>
                  </a:lnTo>
                  <a:lnTo>
                    <a:pt x="838" y="1037"/>
                  </a:lnTo>
                  <a:lnTo>
                    <a:pt x="859" y="1025"/>
                  </a:lnTo>
                  <a:lnTo>
                    <a:pt x="867" y="1020"/>
                  </a:lnTo>
                  <a:lnTo>
                    <a:pt x="870" y="1018"/>
                  </a:lnTo>
                  <a:lnTo>
                    <a:pt x="874" y="1015"/>
                  </a:lnTo>
                  <a:lnTo>
                    <a:pt x="859" y="1122"/>
                  </a:lnTo>
                  <a:lnTo>
                    <a:pt x="757" y="1193"/>
                  </a:lnTo>
                  <a:lnTo>
                    <a:pt x="747" y="1199"/>
                  </a:lnTo>
                  <a:lnTo>
                    <a:pt x="737" y="1204"/>
                  </a:lnTo>
                  <a:lnTo>
                    <a:pt x="726" y="1207"/>
                  </a:lnTo>
                  <a:lnTo>
                    <a:pt x="715" y="1211"/>
                  </a:lnTo>
                  <a:lnTo>
                    <a:pt x="704" y="1214"/>
                  </a:lnTo>
                  <a:lnTo>
                    <a:pt x="692" y="1216"/>
                  </a:lnTo>
                  <a:lnTo>
                    <a:pt x="680" y="1218"/>
                  </a:lnTo>
                  <a:lnTo>
                    <a:pt x="667" y="1218"/>
                  </a:lnTo>
                  <a:lnTo>
                    <a:pt x="650" y="1216"/>
                  </a:lnTo>
                  <a:lnTo>
                    <a:pt x="633" y="1214"/>
                  </a:lnTo>
                  <a:lnTo>
                    <a:pt x="618" y="1209"/>
                  </a:lnTo>
                  <a:lnTo>
                    <a:pt x="603" y="1204"/>
                  </a:lnTo>
                  <a:lnTo>
                    <a:pt x="589" y="1195"/>
                  </a:lnTo>
                  <a:lnTo>
                    <a:pt x="577" y="1185"/>
                  </a:lnTo>
                  <a:lnTo>
                    <a:pt x="564" y="1173"/>
                  </a:lnTo>
                  <a:lnTo>
                    <a:pt x="553" y="1159"/>
                  </a:lnTo>
                  <a:lnTo>
                    <a:pt x="543" y="1143"/>
                  </a:lnTo>
                  <a:lnTo>
                    <a:pt x="533" y="1128"/>
                  </a:lnTo>
                  <a:lnTo>
                    <a:pt x="525" y="1110"/>
                  </a:lnTo>
                  <a:lnTo>
                    <a:pt x="518" y="1091"/>
                  </a:lnTo>
                  <a:lnTo>
                    <a:pt x="511" y="1072"/>
                  </a:lnTo>
                  <a:lnTo>
                    <a:pt x="506" y="1051"/>
                  </a:lnTo>
                  <a:lnTo>
                    <a:pt x="502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60960" y="1438200"/>
              <a:ext cx="422280" cy="438120"/>
            </a:xfrm>
            <a:custGeom>
              <a:avLst/>
              <a:gdLst/>
              <a:ahLst/>
              <a:rect l="l" t="t" r="r" b="b"/>
              <a:pathLst>
                <a:path w="1174" h="1219">
                  <a:moveTo>
                    <a:pt x="459" y="1177"/>
                  </a:moveTo>
                  <a:lnTo>
                    <a:pt x="439" y="683"/>
                  </a:lnTo>
                  <a:lnTo>
                    <a:pt x="435" y="603"/>
                  </a:lnTo>
                  <a:lnTo>
                    <a:pt x="428" y="510"/>
                  </a:lnTo>
                  <a:lnTo>
                    <a:pt x="418" y="402"/>
                  </a:lnTo>
                  <a:lnTo>
                    <a:pt x="406" y="285"/>
                  </a:lnTo>
                  <a:lnTo>
                    <a:pt x="399" y="285"/>
                  </a:lnTo>
                  <a:lnTo>
                    <a:pt x="386" y="409"/>
                  </a:lnTo>
                  <a:lnTo>
                    <a:pt x="371" y="524"/>
                  </a:lnTo>
                  <a:lnTo>
                    <a:pt x="355" y="628"/>
                  </a:lnTo>
                  <a:lnTo>
                    <a:pt x="338" y="723"/>
                  </a:lnTo>
                  <a:lnTo>
                    <a:pt x="320" y="808"/>
                  </a:lnTo>
                  <a:lnTo>
                    <a:pt x="300" y="886"/>
                  </a:lnTo>
                  <a:lnTo>
                    <a:pt x="290" y="920"/>
                  </a:lnTo>
                  <a:lnTo>
                    <a:pt x="280" y="953"/>
                  </a:lnTo>
                  <a:lnTo>
                    <a:pt x="270" y="984"/>
                  </a:lnTo>
                  <a:lnTo>
                    <a:pt x="259" y="1014"/>
                  </a:lnTo>
                  <a:lnTo>
                    <a:pt x="249" y="1040"/>
                  </a:lnTo>
                  <a:lnTo>
                    <a:pt x="239" y="1062"/>
                  </a:lnTo>
                  <a:lnTo>
                    <a:pt x="229" y="1085"/>
                  </a:lnTo>
                  <a:lnTo>
                    <a:pt x="219" y="1104"/>
                  </a:lnTo>
                  <a:lnTo>
                    <a:pt x="209" y="1123"/>
                  </a:lnTo>
                  <a:lnTo>
                    <a:pt x="198" y="1140"/>
                  </a:lnTo>
                  <a:lnTo>
                    <a:pt x="188" y="1154"/>
                  </a:lnTo>
                  <a:lnTo>
                    <a:pt x="178" y="1168"/>
                  </a:lnTo>
                  <a:lnTo>
                    <a:pt x="168" y="1180"/>
                  </a:lnTo>
                  <a:lnTo>
                    <a:pt x="159" y="1191"/>
                  </a:lnTo>
                  <a:lnTo>
                    <a:pt x="149" y="1199"/>
                  </a:lnTo>
                  <a:lnTo>
                    <a:pt x="139" y="1206"/>
                  </a:lnTo>
                  <a:lnTo>
                    <a:pt x="131" y="1211"/>
                  </a:lnTo>
                  <a:lnTo>
                    <a:pt x="121" y="1215"/>
                  </a:lnTo>
                  <a:lnTo>
                    <a:pt x="113" y="1218"/>
                  </a:lnTo>
                  <a:lnTo>
                    <a:pt x="105" y="1218"/>
                  </a:lnTo>
                  <a:lnTo>
                    <a:pt x="93" y="1218"/>
                  </a:lnTo>
                  <a:lnTo>
                    <a:pt x="81" y="1215"/>
                  </a:lnTo>
                  <a:lnTo>
                    <a:pt x="71" y="1211"/>
                  </a:lnTo>
                  <a:lnTo>
                    <a:pt x="60" y="1206"/>
                  </a:lnTo>
                  <a:lnTo>
                    <a:pt x="51" y="1199"/>
                  </a:lnTo>
                  <a:lnTo>
                    <a:pt x="47" y="1196"/>
                  </a:lnTo>
                  <a:lnTo>
                    <a:pt x="43" y="1192"/>
                  </a:lnTo>
                  <a:lnTo>
                    <a:pt x="38" y="1187"/>
                  </a:lnTo>
                  <a:lnTo>
                    <a:pt x="34" y="1182"/>
                  </a:lnTo>
                  <a:lnTo>
                    <a:pt x="31" y="1177"/>
                  </a:lnTo>
                  <a:lnTo>
                    <a:pt x="27" y="1172"/>
                  </a:lnTo>
                  <a:lnTo>
                    <a:pt x="24" y="1166"/>
                  </a:lnTo>
                  <a:lnTo>
                    <a:pt x="21" y="1159"/>
                  </a:lnTo>
                  <a:lnTo>
                    <a:pt x="18" y="1154"/>
                  </a:lnTo>
                  <a:lnTo>
                    <a:pt x="16" y="1147"/>
                  </a:lnTo>
                  <a:lnTo>
                    <a:pt x="13" y="1140"/>
                  </a:lnTo>
                  <a:lnTo>
                    <a:pt x="11" y="1133"/>
                  </a:lnTo>
                  <a:lnTo>
                    <a:pt x="8" y="1125"/>
                  </a:lnTo>
                  <a:lnTo>
                    <a:pt x="6" y="1118"/>
                  </a:lnTo>
                  <a:lnTo>
                    <a:pt x="5" y="1109"/>
                  </a:lnTo>
                  <a:lnTo>
                    <a:pt x="4" y="1101"/>
                  </a:lnTo>
                  <a:lnTo>
                    <a:pt x="2" y="1092"/>
                  </a:lnTo>
                  <a:lnTo>
                    <a:pt x="1" y="1083"/>
                  </a:lnTo>
                  <a:lnTo>
                    <a:pt x="0" y="1075"/>
                  </a:lnTo>
                  <a:lnTo>
                    <a:pt x="0" y="1064"/>
                  </a:lnTo>
                  <a:lnTo>
                    <a:pt x="0" y="1045"/>
                  </a:lnTo>
                  <a:lnTo>
                    <a:pt x="0" y="1021"/>
                  </a:lnTo>
                  <a:lnTo>
                    <a:pt x="1" y="997"/>
                  </a:lnTo>
                  <a:lnTo>
                    <a:pt x="4" y="976"/>
                  </a:lnTo>
                  <a:lnTo>
                    <a:pt x="7" y="955"/>
                  </a:lnTo>
                  <a:lnTo>
                    <a:pt x="9" y="945"/>
                  </a:lnTo>
                  <a:lnTo>
                    <a:pt x="11" y="934"/>
                  </a:lnTo>
                  <a:lnTo>
                    <a:pt x="14" y="926"/>
                  </a:lnTo>
                  <a:lnTo>
                    <a:pt x="16" y="917"/>
                  </a:lnTo>
                  <a:lnTo>
                    <a:pt x="19" y="908"/>
                  </a:lnTo>
                  <a:lnTo>
                    <a:pt x="22" y="900"/>
                  </a:lnTo>
                  <a:lnTo>
                    <a:pt x="26" y="891"/>
                  </a:lnTo>
                  <a:lnTo>
                    <a:pt x="29" y="884"/>
                  </a:lnTo>
                  <a:lnTo>
                    <a:pt x="37" y="870"/>
                  </a:lnTo>
                  <a:lnTo>
                    <a:pt x="41" y="863"/>
                  </a:lnTo>
                  <a:lnTo>
                    <a:pt x="44" y="858"/>
                  </a:lnTo>
                  <a:lnTo>
                    <a:pt x="49" y="853"/>
                  </a:lnTo>
                  <a:lnTo>
                    <a:pt x="53" y="848"/>
                  </a:lnTo>
                  <a:lnTo>
                    <a:pt x="58" y="844"/>
                  </a:lnTo>
                  <a:lnTo>
                    <a:pt x="62" y="839"/>
                  </a:lnTo>
                  <a:lnTo>
                    <a:pt x="66" y="835"/>
                  </a:lnTo>
                  <a:lnTo>
                    <a:pt x="71" y="834"/>
                  </a:lnTo>
                  <a:lnTo>
                    <a:pt x="81" y="829"/>
                  </a:lnTo>
                  <a:lnTo>
                    <a:pt x="91" y="827"/>
                  </a:lnTo>
                  <a:lnTo>
                    <a:pt x="102" y="825"/>
                  </a:lnTo>
                  <a:lnTo>
                    <a:pt x="110" y="825"/>
                  </a:lnTo>
                  <a:lnTo>
                    <a:pt x="117" y="827"/>
                  </a:lnTo>
                  <a:lnTo>
                    <a:pt x="125" y="829"/>
                  </a:lnTo>
                  <a:lnTo>
                    <a:pt x="132" y="832"/>
                  </a:lnTo>
                  <a:lnTo>
                    <a:pt x="139" y="837"/>
                  </a:lnTo>
                  <a:lnTo>
                    <a:pt x="146" y="842"/>
                  </a:lnTo>
                  <a:lnTo>
                    <a:pt x="153" y="848"/>
                  </a:lnTo>
                  <a:lnTo>
                    <a:pt x="160" y="855"/>
                  </a:lnTo>
                  <a:lnTo>
                    <a:pt x="171" y="870"/>
                  </a:lnTo>
                  <a:lnTo>
                    <a:pt x="182" y="886"/>
                  </a:lnTo>
                  <a:lnTo>
                    <a:pt x="193" y="901"/>
                  </a:lnTo>
                  <a:lnTo>
                    <a:pt x="198" y="910"/>
                  </a:lnTo>
                  <a:lnTo>
                    <a:pt x="203" y="919"/>
                  </a:lnTo>
                  <a:lnTo>
                    <a:pt x="218" y="879"/>
                  </a:lnTo>
                  <a:lnTo>
                    <a:pt x="231" y="837"/>
                  </a:lnTo>
                  <a:lnTo>
                    <a:pt x="245" y="792"/>
                  </a:lnTo>
                  <a:lnTo>
                    <a:pt x="258" y="747"/>
                  </a:lnTo>
                  <a:lnTo>
                    <a:pt x="270" y="699"/>
                  </a:lnTo>
                  <a:lnTo>
                    <a:pt x="281" y="648"/>
                  </a:lnTo>
                  <a:lnTo>
                    <a:pt x="291" y="596"/>
                  </a:lnTo>
                  <a:lnTo>
                    <a:pt x="300" y="543"/>
                  </a:lnTo>
                  <a:lnTo>
                    <a:pt x="317" y="435"/>
                  </a:lnTo>
                  <a:lnTo>
                    <a:pt x="330" y="328"/>
                  </a:lnTo>
                  <a:lnTo>
                    <a:pt x="335" y="276"/>
                  </a:lnTo>
                  <a:lnTo>
                    <a:pt x="338" y="224"/>
                  </a:lnTo>
                  <a:lnTo>
                    <a:pt x="342" y="174"/>
                  </a:lnTo>
                  <a:lnTo>
                    <a:pt x="344" y="123"/>
                  </a:lnTo>
                  <a:lnTo>
                    <a:pt x="225" y="123"/>
                  </a:lnTo>
                  <a:lnTo>
                    <a:pt x="240" y="25"/>
                  </a:lnTo>
                  <a:lnTo>
                    <a:pt x="567" y="0"/>
                  </a:lnTo>
                  <a:lnTo>
                    <a:pt x="579" y="92"/>
                  </a:lnTo>
                  <a:lnTo>
                    <a:pt x="591" y="186"/>
                  </a:lnTo>
                  <a:lnTo>
                    <a:pt x="602" y="283"/>
                  </a:lnTo>
                  <a:lnTo>
                    <a:pt x="612" y="383"/>
                  </a:lnTo>
                  <a:lnTo>
                    <a:pt x="620" y="486"/>
                  </a:lnTo>
                  <a:lnTo>
                    <a:pt x="628" y="593"/>
                  </a:lnTo>
                  <a:lnTo>
                    <a:pt x="634" y="702"/>
                  </a:lnTo>
                  <a:lnTo>
                    <a:pt x="638" y="813"/>
                  </a:lnTo>
                  <a:lnTo>
                    <a:pt x="913" y="19"/>
                  </a:lnTo>
                  <a:lnTo>
                    <a:pt x="1120" y="2"/>
                  </a:lnTo>
                  <a:lnTo>
                    <a:pt x="1127" y="19"/>
                  </a:lnTo>
                  <a:lnTo>
                    <a:pt x="1035" y="752"/>
                  </a:lnTo>
                  <a:lnTo>
                    <a:pt x="1032" y="771"/>
                  </a:lnTo>
                  <a:lnTo>
                    <a:pt x="1030" y="794"/>
                  </a:lnTo>
                  <a:lnTo>
                    <a:pt x="1027" y="816"/>
                  </a:lnTo>
                  <a:lnTo>
                    <a:pt x="1025" y="844"/>
                  </a:lnTo>
                  <a:lnTo>
                    <a:pt x="1022" y="872"/>
                  </a:lnTo>
                  <a:lnTo>
                    <a:pt x="1021" y="894"/>
                  </a:lnTo>
                  <a:lnTo>
                    <a:pt x="1019" y="913"/>
                  </a:lnTo>
                  <a:lnTo>
                    <a:pt x="1019" y="922"/>
                  </a:lnTo>
                  <a:lnTo>
                    <a:pt x="1019" y="929"/>
                  </a:lnTo>
                  <a:lnTo>
                    <a:pt x="1019" y="946"/>
                  </a:lnTo>
                  <a:lnTo>
                    <a:pt x="1020" y="962"/>
                  </a:lnTo>
                  <a:lnTo>
                    <a:pt x="1021" y="976"/>
                  </a:lnTo>
                  <a:lnTo>
                    <a:pt x="1022" y="981"/>
                  </a:lnTo>
                  <a:lnTo>
                    <a:pt x="1023" y="988"/>
                  </a:lnTo>
                  <a:lnTo>
                    <a:pt x="1024" y="993"/>
                  </a:lnTo>
                  <a:lnTo>
                    <a:pt x="1025" y="998"/>
                  </a:lnTo>
                  <a:lnTo>
                    <a:pt x="1026" y="1004"/>
                  </a:lnTo>
                  <a:lnTo>
                    <a:pt x="1028" y="1009"/>
                  </a:lnTo>
                  <a:lnTo>
                    <a:pt x="1029" y="1014"/>
                  </a:lnTo>
                  <a:lnTo>
                    <a:pt x="1031" y="1017"/>
                  </a:lnTo>
                  <a:lnTo>
                    <a:pt x="1033" y="1021"/>
                  </a:lnTo>
                  <a:lnTo>
                    <a:pt x="1035" y="1024"/>
                  </a:lnTo>
                  <a:lnTo>
                    <a:pt x="1037" y="1028"/>
                  </a:lnTo>
                  <a:lnTo>
                    <a:pt x="1039" y="1030"/>
                  </a:lnTo>
                  <a:lnTo>
                    <a:pt x="1042" y="1033"/>
                  </a:lnTo>
                  <a:lnTo>
                    <a:pt x="1045" y="1035"/>
                  </a:lnTo>
                  <a:lnTo>
                    <a:pt x="1051" y="1038"/>
                  </a:lnTo>
                  <a:lnTo>
                    <a:pt x="1058" y="1042"/>
                  </a:lnTo>
                  <a:lnTo>
                    <a:pt x="1065" y="1045"/>
                  </a:lnTo>
                  <a:lnTo>
                    <a:pt x="1074" y="1047"/>
                  </a:lnTo>
                  <a:lnTo>
                    <a:pt x="1082" y="1049"/>
                  </a:lnTo>
                  <a:lnTo>
                    <a:pt x="1092" y="1049"/>
                  </a:lnTo>
                  <a:lnTo>
                    <a:pt x="1098" y="1049"/>
                  </a:lnTo>
                  <a:lnTo>
                    <a:pt x="1103" y="1049"/>
                  </a:lnTo>
                  <a:lnTo>
                    <a:pt x="1109" y="1047"/>
                  </a:lnTo>
                  <a:lnTo>
                    <a:pt x="1114" y="1045"/>
                  </a:lnTo>
                  <a:lnTo>
                    <a:pt x="1126" y="1042"/>
                  </a:lnTo>
                  <a:lnTo>
                    <a:pt x="1137" y="1036"/>
                  </a:lnTo>
                  <a:lnTo>
                    <a:pt x="1159" y="1024"/>
                  </a:lnTo>
                  <a:lnTo>
                    <a:pt x="1166" y="1019"/>
                  </a:lnTo>
                  <a:lnTo>
                    <a:pt x="1170" y="1017"/>
                  </a:lnTo>
                  <a:lnTo>
                    <a:pt x="1173" y="1014"/>
                  </a:lnTo>
                  <a:lnTo>
                    <a:pt x="1159" y="1121"/>
                  </a:lnTo>
                  <a:lnTo>
                    <a:pt x="1058" y="1192"/>
                  </a:lnTo>
                  <a:lnTo>
                    <a:pt x="1048" y="1198"/>
                  </a:lnTo>
                  <a:lnTo>
                    <a:pt x="1038" y="1203"/>
                  </a:lnTo>
                  <a:lnTo>
                    <a:pt x="1028" y="1206"/>
                  </a:lnTo>
                  <a:lnTo>
                    <a:pt x="1017" y="1210"/>
                  </a:lnTo>
                  <a:lnTo>
                    <a:pt x="1006" y="1213"/>
                  </a:lnTo>
                  <a:lnTo>
                    <a:pt x="994" y="1215"/>
                  </a:lnTo>
                  <a:lnTo>
                    <a:pt x="982" y="1217"/>
                  </a:lnTo>
                  <a:lnTo>
                    <a:pt x="970" y="1217"/>
                  </a:lnTo>
                  <a:lnTo>
                    <a:pt x="953" y="1215"/>
                  </a:lnTo>
                  <a:lnTo>
                    <a:pt x="936" y="1213"/>
                  </a:lnTo>
                  <a:lnTo>
                    <a:pt x="921" y="1208"/>
                  </a:lnTo>
                  <a:lnTo>
                    <a:pt x="905" y="1199"/>
                  </a:lnTo>
                  <a:lnTo>
                    <a:pt x="891" y="1191"/>
                  </a:lnTo>
                  <a:lnTo>
                    <a:pt x="878" y="1178"/>
                  </a:lnTo>
                  <a:lnTo>
                    <a:pt x="866" y="1165"/>
                  </a:lnTo>
                  <a:lnTo>
                    <a:pt x="854" y="1149"/>
                  </a:lnTo>
                  <a:lnTo>
                    <a:pt x="849" y="1140"/>
                  </a:lnTo>
                  <a:lnTo>
                    <a:pt x="844" y="1132"/>
                  </a:lnTo>
                  <a:lnTo>
                    <a:pt x="839" y="1121"/>
                  </a:lnTo>
                  <a:lnTo>
                    <a:pt x="834" y="1113"/>
                  </a:lnTo>
                  <a:lnTo>
                    <a:pt x="830" y="1102"/>
                  </a:lnTo>
                  <a:lnTo>
                    <a:pt x="827" y="1092"/>
                  </a:lnTo>
                  <a:lnTo>
                    <a:pt x="823" y="1081"/>
                  </a:lnTo>
                  <a:lnTo>
                    <a:pt x="820" y="1069"/>
                  </a:lnTo>
                  <a:lnTo>
                    <a:pt x="817" y="1059"/>
                  </a:lnTo>
                  <a:lnTo>
                    <a:pt x="816" y="1047"/>
                  </a:lnTo>
                  <a:lnTo>
                    <a:pt x="813" y="1035"/>
                  </a:lnTo>
                  <a:lnTo>
                    <a:pt x="811" y="1023"/>
                  </a:lnTo>
                  <a:lnTo>
                    <a:pt x="811" y="1009"/>
                  </a:lnTo>
                  <a:lnTo>
                    <a:pt x="810" y="997"/>
                  </a:lnTo>
                  <a:lnTo>
                    <a:pt x="809" y="983"/>
                  </a:lnTo>
                  <a:lnTo>
                    <a:pt x="809" y="969"/>
                  </a:lnTo>
                  <a:lnTo>
                    <a:pt x="809" y="939"/>
                  </a:lnTo>
                  <a:lnTo>
                    <a:pt x="810" y="913"/>
                  </a:lnTo>
                  <a:lnTo>
                    <a:pt x="811" y="874"/>
                  </a:lnTo>
                  <a:lnTo>
                    <a:pt x="812" y="856"/>
                  </a:lnTo>
                  <a:lnTo>
                    <a:pt x="814" y="835"/>
                  </a:lnTo>
                  <a:lnTo>
                    <a:pt x="816" y="809"/>
                  </a:lnTo>
                  <a:lnTo>
                    <a:pt x="821" y="782"/>
                  </a:lnTo>
                  <a:lnTo>
                    <a:pt x="879" y="350"/>
                  </a:lnTo>
                  <a:lnTo>
                    <a:pt x="872" y="345"/>
                  </a:lnTo>
                  <a:lnTo>
                    <a:pt x="579" y="117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59480" y="1432080"/>
              <a:ext cx="239760" cy="450720"/>
            </a:xfrm>
            <a:custGeom>
              <a:avLst/>
              <a:gdLst/>
              <a:ahLst/>
              <a:rect l="l" t="t" r="r" b="b"/>
              <a:pathLst>
                <a:path w="667" h="1252">
                  <a:moveTo>
                    <a:pt x="309" y="1251"/>
                  </a:moveTo>
                  <a:lnTo>
                    <a:pt x="272" y="1249"/>
                  </a:lnTo>
                  <a:lnTo>
                    <a:pt x="253" y="1245"/>
                  </a:lnTo>
                  <a:lnTo>
                    <a:pt x="236" y="1242"/>
                  </a:lnTo>
                  <a:lnTo>
                    <a:pt x="219" y="1237"/>
                  </a:lnTo>
                  <a:lnTo>
                    <a:pt x="203" y="1230"/>
                  </a:lnTo>
                  <a:lnTo>
                    <a:pt x="187" y="1221"/>
                  </a:lnTo>
                  <a:lnTo>
                    <a:pt x="172" y="1213"/>
                  </a:lnTo>
                  <a:lnTo>
                    <a:pt x="157" y="1202"/>
                  </a:lnTo>
                  <a:lnTo>
                    <a:pt x="144" y="1192"/>
                  </a:lnTo>
                  <a:lnTo>
                    <a:pt x="131" y="1180"/>
                  </a:lnTo>
                  <a:lnTo>
                    <a:pt x="118" y="1166"/>
                  </a:lnTo>
                  <a:lnTo>
                    <a:pt x="107" y="1152"/>
                  </a:lnTo>
                  <a:lnTo>
                    <a:pt x="96" y="1136"/>
                  </a:lnTo>
                  <a:lnTo>
                    <a:pt x="85" y="1121"/>
                  </a:lnTo>
                  <a:lnTo>
                    <a:pt x="75" y="1103"/>
                  </a:lnTo>
                  <a:lnTo>
                    <a:pt x="66" y="1086"/>
                  </a:lnTo>
                  <a:lnTo>
                    <a:pt x="57" y="1069"/>
                  </a:lnTo>
                  <a:lnTo>
                    <a:pt x="50" y="1050"/>
                  </a:lnTo>
                  <a:lnTo>
                    <a:pt x="42" y="1029"/>
                  </a:lnTo>
                  <a:lnTo>
                    <a:pt x="35" y="1008"/>
                  </a:lnTo>
                  <a:lnTo>
                    <a:pt x="30" y="987"/>
                  </a:lnTo>
                  <a:lnTo>
                    <a:pt x="24" y="965"/>
                  </a:lnTo>
                  <a:lnTo>
                    <a:pt x="19" y="942"/>
                  </a:lnTo>
                  <a:lnTo>
                    <a:pt x="14" y="920"/>
                  </a:lnTo>
                  <a:lnTo>
                    <a:pt x="10" y="896"/>
                  </a:lnTo>
                  <a:lnTo>
                    <a:pt x="7" y="871"/>
                  </a:lnTo>
                  <a:lnTo>
                    <a:pt x="4" y="847"/>
                  </a:lnTo>
                  <a:lnTo>
                    <a:pt x="2" y="821"/>
                  </a:lnTo>
                  <a:lnTo>
                    <a:pt x="1" y="795"/>
                  </a:lnTo>
                  <a:lnTo>
                    <a:pt x="0" y="767"/>
                  </a:lnTo>
                  <a:lnTo>
                    <a:pt x="0" y="740"/>
                  </a:lnTo>
                  <a:lnTo>
                    <a:pt x="1" y="705"/>
                  </a:lnTo>
                  <a:lnTo>
                    <a:pt x="2" y="670"/>
                  </a:lnTo>
                  <a:lnTo>
                    <a:pt x="4" y="636"/>
                  </a:lnTo>
                  <a:lnTo>
                    <a:pt x="7" y="601"/>
                  </a:lnTo>
                  <a:lnTo>
                    <a:pt x="11" y="566"/>
                  </a:lnTo>
                  <a:lnTo>
                    <a:pt x="16" y="533"/>
                  </a:lnTo>
                  <a:lnTo>
                    <a:pt x="22" y="499"/>
                  </a:lnTo>
                  <a:lnTo>
                    <a:pt x="29" y="466"/>
                  </a:lnTo>
                  <a:lnTo>
                    <a:pt x="36" y="433"/>
                  </a:lnTo>
                  <a:lnTo>
                    <a:pt x="45" y="402"/>
                  </a:lnTo>
                  <a:lnTo>
                    <a:pt x="54" y="371"/>
                  </a:lnTo>
                  <a:lnTo>
                    <a:pt x="64" y="339"/>
                  </a:lnTo>
                  <a:lnTo>
                    <a:pt x="75" y="310"/>
                  </a:lnTo>
                  <a:lnTo>
                    <a:pt x="87" y="282"/>
                  </a:lnTo>
                  <a:lnTo>
                    <a:pt x="100" y="255"/>
                  </a:lnTo>
                  <a:lnTo>
                    <a:pt x="113" y="229"/>
                  </a:lnTo>
                  <a:lnTo>
                    <a:pt x="127" y="204"/>
                  </a:lnTo>
                  <a:lnTo>
                    <a:pt x="142" y="180"/>
                  </a:lnTo>
                  <a:lnTo>
                    <a:pt x="157" y="157"/>
                  </a:lnTo>
                  <a:lnTo>
                    <a:pt x="173" y="137"/>
                  </a:lnTo>
                  <a:lnTo>
                    <a:pt x="191" y="116"/>
                  </a:lnTo>
                  <a:lnTo>
                    <a:pt x="209" y="97"/>
                  </a:lnTo>
                  <a:lnTo>
                    <a:pt x="228" y="80"/>
                  </a:lnTo>
                  <a:lnTo>
                    <a:pt x="248" y="64"/>
                  </a:lnTo>
                  <a:lnTo>
                    <a:pt x="269" y="48"/>
                  </a:lnTo>
                  <a:lnTo>
                    <a:pt x="290" y="36"/>
                  </a:lnTo>
                  <a:lnTo>
                    <a:pt x="312" y="24"/>
                  </a:lnTo>
                  <a:lnTo>
                    <a:pt x="334" y="15"/>
                  </a:lnTo>
                  <a:lnTo>
                    <a:pt x="357" y="9"/>
                  </a:lnTo>
                  <a:lnTo>
                    <a:pt x="381" y="3"/>
                  </a:lnTo>
                  <a:lnTo>
                    <a:pt x="405" y="2"/>
                  </a:lnTo>
                  <a:lnTo>
                    <a:pt x="429" y="0"/>
                  </a:lnTo>
                  <a:lnTo>
                    <a:pt x="457" y="2"/>
                  </a:lnTo>
                  <a:lnTo>
                    <a:pt x="483" y="3"/>
                  </a:lnTo>
                  <a:lnTo>
                    <a:pt x="508" y="9"/>
                  </a:lnTo>
                  <a:lnTo>
                    <a:pt x="532" y="17"/>
                  </a:lnTo>
                  <a:lnTo>
                    <a:pt x="553" y="26"/>
                  </a:lnTo>
                  <a:lnTo>
                    <a:pt x="571" y="38"/>
                  </a:lnTo>
                  <a:lnTo>
                    <a:pt x="589" y="52"/>
                  </a:lnTo>
                  <a:lnTo>
                    <a:pt x="605" y="67"/>
                  </a:lnTo>
                  <a:lnTo>
                    <a:pt x="613" y="76"/>
                  </a:lnTo>
                  <a:lnTo>
                    <a:pt x="620" y="85"/>
                  </a:lnTo>
                  <a:lnTo>
                    <a:pt x="626" y="95"/>
                  </a:lnTo>
                  <a:lnTo>
                    <a:pt x="632" y="106"/>
                  </a:lnTo>
                  <a:lnTo>
                    <a:pt x="637" y="116"/>
                  </a:lnTo>
                  <a:lnTo>
                    <a:pt x="642" y="128"/>
                  </a:lnTo>
                  <a:lnTo>
                    <a:pt x="647" y="140"/>
                  </a:lnTo>
                  <a:lnTo>
                    <a:pt x="651" y="152"/>
                  </a:lnTo>
                  <a:lnTo>
                    <a:pt x="654" y="166"/>
                  </a:lnTo>
                  <a:lnTo>
                    <a:pt x="658" y="180"/>
                  </a:lnTo>
                  <a:lnTo>
                    <a:pt x="660" y="194"/>
                  </a:lnTo>
                  <a:lnTo>
                    <a:pt x="663" y="208"/>
                  </a:lnTo>
                  <a:lnTo>
                    <a:pt x="664" y="223"/>
                  </a:lnTo>
                  <a:lnTo>
                    <a:pt x="665" y="239"/>
                  </a:lnTo>
                  <a:lnTo>
                    <a:pt x="666" y="255"/>
                  </a:lnTo>
                  <a:lnTo>
                    <a:pt x="666" y="272"/>
                  </a:lnTo>
                  <a:lnTo>
                    <a:pt x="666" y="287"/>
                  </a:lnTo>
                  <a:lnTo>
                    <a:pt x="665" y="303"/>
                  </a:lnTo>
                  <a:lnTo>
                    <a:pt x="664" y="319"/>
                  </a:lnTo>
                  <a:lnTo>
                    <a:pt x="663" y="334"/>
                  </a:lnTo>
                  <a:lnTo>
                    <a:pt x="661" y="350"/>
                  </a:lnTo>
                  <a:lnTo>
                    <a:pt x="659" y="364"/>
                  </a:lnTo>
                  <a:lnTo>
                    <a:pt x="656" y="379"/>
                  </a:lnTo>
                  <a:lnTo>
                    <a:pt x="653" y="393"/>
                  </a:lnTo>
                  <a:lnTo>
                    <a:pt x="649" y="407"/>
                  </a:lnTo>
                  <a:lnTo>
                    <a:pt x="646" y="421"/>
                  </a:lnTo>
                  <a:lnTo>
                    <a:pt x="642" y="433"/>
                  </a:lnTo>
                  <a:lnTo>
                    <a:pt x="637" y="447"/>
                  </a:lnTo>
                  <a:lnTo>
                    <a:pt x="626" y="471"/>
                  </a:lnTo>
                  <a:lnTo>
                    <a:pt x="614" y="495"/>
                  </a:lnTo>
                  <a:lnTo>
                    <a:pt x="600" y="518"/>
                  </a:lnTo>
                  <a:lnTo>
                    <a:pt x="585" y="539"/>
                  </a:lnTo>
                  <a:lnTo>
                    <a:pt x="570" y="559"/>
                  </a:lnTo>
                  <a:lnTo>
                    <a:pt x="552" y="577"/>
                  </a:lnTo>
                  <a:lnTo>
                    <a:pt x="534" y="594"/>
                  </a:lnTo>
                  <a:lnTo>
                    <a:pt x="514" y="610"/>
                  </a:lnTo>
                  <a:lnTo>
                    <a:pt x="493" y="624"/>
                  </a:lnTo>
                  <a:lnTo>
                    <a:pt x="471" y="636"/>
                  </a:lnTo>
                  <a:lnTo>
                    <a:pt x="405" y="669"/>
                  </a:lnTo>
                  <a:lnTo>
                    <a:pt x="376" y="682"/>
                  </a:lnTo>
                  <a:lnTo>
                    <a:pt x="350" y="691"/>
                  </a:lnTo>
                  <a:lnTo>
                    <a:pt x="323" y="700"/>
                  </a:lnTo>
                  <a:lnTo>
                    <a:pt x="294" y="707"/>
                  </a:lnTo>
                  <a:lnTo>
                    <a:pt x="227" y="722"/>
                  </a:lnTo>
                  <a:lnTo>
                    <a:pt x="228" y="750"/>
                  </a:lnTo>
                  <a:lnTo>
                    <a:pt x="229" y="778"/>
                  </a:lnTo>
                  <a:lnTo>
                    <a:pt x="232" y="809"/>
                  </a:lnTo>
                  <a:lnTo>
                    <a:pt x="234" y="840"/>
                  </a:lnTo>
                  <a:lnTo>
                    <a:pt x="236" y="856"/>
                  </a:lnTo>
                  <a:lnTo>
                    <a:pt x="238" y="871"/>
                  </a:lnTo>
                  <a:lnTo>
                    <a:pt x="240" y="887"/>
                  </a:lnTo>
                  <a:lnTo>
                    <a:pt x="243" y="901"/>
                  </a:lnTo>
                  <a:lnTo>
                    <a:pt x="245" y="915"/>
                  </a:lnTo>
                  <a:lnTo>
                    <a:pt x="248" y="928"/>
                  </a:lnTo>
                  <a:lnTo>
                    <a:pt x="250" y="941"/>
                  </a:lnTo>
                  <a:lnTo>
                    <a:pt x="254" y="953"/>
                  </a:lnTo>
                  <a:lnTo>
                    <a:pt x="258" y="965"/>
                  </a:lnTo>
                  <a:lnTo>
                    <a:pt x="262" y="977"/>
                  </a:lnTo>
                  <a:lnTo>
                    <a:pt x="267" y="989"/>
                  </a:lnTo>
                  <a:lnTo>
                    <a:pt x="272" y="1001"/>
                  </a:lnTo>
                  <a:lnTo>
                    <a:pt x="278" y="1010"/>
                  </a:lnTo>
                  <a:lnTo>
                    <a:pt x="284" y="1020"/>
                  </a:lnTo>
                  <a:lnTo>
                    <a:pt x="291" y="1029"/>
                  </a:lnTo>
                  <a:lnTo>
                    <a:pt x="298" y="1038"/>
                  </a:lnTo>
                  <a:lnTo>
                    <a:pt x="305" y="1045"/>
                  </a:lnTo>
                  <a:lnTo>
                    <a:pt x="313" y="1051"/>
                  </a:lnTo>
                  <a:lnTo>
                    <a:pt x="322" y="1057"/>
                  </a:lnTo>
                  <a:lnTo>
                    <a:pt x="331" y="1062"/>
                  </a:lnTo>
                  <a:lnTo>
                    <a:pt x="339" y="1064"/>
                  </a:lnTo>
                  <a:lnTo>
                    <a:pt x="350" y="1067"/>
                  </a:lnTo>
                  <a:lnTo>
                    <a:pt x="360" y="1069"/>
                  </a:lnTo>
                  <a:lnTo>
                    <a:pt x="371" y="1069"/>
                  </a:lnTo>
                  <a:lnTo>
                    <a:pt x="389" y="1069"/>
                  </a:lnTo>
                  <a:lnTo>
                    <a:pt x="407" y="1065"/>
                  </a:lnTo>
                  <a:lnTo>
                    <a:pt x="425" y="1062"/>
                  </a:lnTo>
                  <a:lnTo>
                    <a:pt x="441" y="1055"/>
                  </a:lnTo>
                  <a:lnTo>
                    <a:pt x="457" y="1048"/>
                  </a:lnTo>
                  <a:lnTo>
                    <a:pt x="472" y="1039"/>
                  </a:lnTo>
                  <a:lnTo>
                    <a:pt x="487" y="1027"/>
                  </a:lnTo>
                  <a:lnTo>
                    <a:pt x="501" y="1015"/>
                  </a:lnTo>
                  <a:lnTo>
                    <a:pt x="515" y="1001"/>
                  </a:lnTo>
                  <a:lnTo>
                    <a:pt x="527" y="984"/>
                  </a:lnTo>
                  <a:lnTo>
                    <a:pt x="540" y="965"/>
                  </a:lnTo>
                  <a:lnTo>
                    <a:pt x="554" y="944"/>
                  </a:lnTo>
                  <a:lnTo>
                    <a:pt x="565" y="921"/>
                  </a:lnTo>
                  <a:lnTo>
                    <a:pt x="578" y="897"/>
                  </a:lnTo>
                  <a:lnTo>
                    <a:pt x="591" y="871"/>
                  </a:lnTo>
                  <a:lnTo>
                    <a:pt x="603" y="842"/>
                  </a:lnTo>
                  <a:lnTo>
                    <a:pt x="650" y="915"/>
                  </a:lnTo>
                  <a:lnTo>
                    <a:pt x="635" y="953"/>
                  </a:lnTo>
                  <a:lnTo>
                    <a:pt x="619" y="987"/>
                  </a:lnTo>
                  <a:lnTo>
                    <a:pt x="602" y="1020"/>
                  </a:lnTo>
                  <a:lnTo>
                    <a:pt x="583" y="1053"/>
                  </a:lnTo>
                  <a:lnTo>
                    <a:pt x="565" y="1083"/>
                  </a:lnTo>
                  <a:lnTo>
                    <a:pt x="544" y="1110"/>
                  </a:lnTo>
                  <a:lnTo>
                    <a:pt x="522" y="1135"/>
                  </a:lnTo>
                  <a:lnTo>
                    <a:pt x="500" y="1159"/>
                  </a:lnTo>
                  <a:lnTo>
                    <a:pt x="477" y="1180"/>
                  </a:lnTo>
                  <a:lnTo>
                    <a:pt x="454" y="1199"/>
                  </a:lnTo>
                  <a:lnTo>
                    <a:pt x="431" y="1214"/>
                  </a:lnTo>
                  <a:lnTo>
                    <a:pt x="407" y="1228"/>
                  </a:lnTo>
                  <a:lnTo>
                    <a:pt x="383" y="1237"/>
                  </a:lnTo>
                  <a:lnTo>
                    <a:pt x="359" y="1245"/>
                  </a:lnTo>
                  <a:lnTo>
                    <a:pt x="333" y="1249"/>
                  </a:lnTo>
                  <a:close/>
                  <a:moveTo>
                    <a:pt x="455" y="305"/>
                  </a:moveTo>
                  <a:lnTo>
                    <a:pt x="455" y="281"/>
                  </a:lnTo>
                  <a:lnTo>
                    <a:pt x="454" y="256"/>
                  </a:lnTo>
                  <a:lnTo>
                    <a:pt x="453" y="235"/>
                  </a:lnTo>
                  <a:lnTo>
                    <a:pt x="450" y="215"/>
                  </a:lnTo>
                  <a:lnTo>
                    <a:pt x="448" y="196"/>
                  </a:lnTo>
                  <a:lnTo>
                    <a:pt x="444" y="178"/>
                  </a:lnTo>
                  <a:lnTo>
                    <a:pt x="442" y="171"/>
                  </a:lnTo>
                  <a:lnTo>
                    <a:pt x="440" y="163"/>
                  </a:lnTo>
                  <a:lnTo>
                    <a:pt x="438" y="156"/>
                  </a:lnTo>
                  <a:lnTo>
                    <a:pt x="435" y="149"/>
                  </a:lnTo>
                  <a:lnTo>
                    <a:pt x="432" y="142"/>
                  </a:lnTo>
                  <a:lnTo>
                    <a:pt x="430" y="137"/>
                  </a:lnTo>
                  <a:lnTo>
                    <a:pt x="427" y="130"/>
                  </a:lnTo>
                  <a:lnTo>
                    <a:pt x="424" y="125"/>
                  </a:lnTo>
                  <a:lnTo>
                    <a:pt x="421" y="121"/>
                  </a:lnTo>
                  <a:lnTo>
                    <a:pt x="418" y="116"/>
                  </a:lnTo>
                  <a:lnTo>
                    <a:pt x="415" y="112"/>
                  </a:lnTo>
                  <a:lnTo>
                    <a:pt x="411" y="109"/>
                  </a:lnTo>
                  <a:lnTo>
                    <a:pt x="408" y="106"/>
                  </a:lnTo>
                  <a:lnTo>
                    <a:pt x="405" y="102"/>
                  </a:lnTo>
                  <a:lnTo>
                    <a:pt x="400" y="100"/>
                  </a:lnTo>
                  <a:lnTo>
                    <a:pt x="397" y="99"/>
                  </a:lnTo>
                  <a:lnTo>
                    <a:pt x="393" y="97"/>
                  </a:lnTo>
                  <a:lnTo>
                    <a:pt x="388" y="95"/>
                  </a:lnTo>
                  <a:lnTo>
                    <a:pt x="380" y="95"/>
                  </a:lnTo>
                  <a:lnTo>
                    <a:pt x="374" y="95"/>
                  </a:lnTo>
                  <a:lnTo>
                    <a:pt x="367" y="97"/>
                  </a:lnTo>
                  <a:lnTo>
                    <a:pt x="361" y="100"/>
                  </a:lnTo>
                  <a:lnTo>
                    <a:pt x="355" y="104"/>
                  </a:lnTo>
                  <a:lnTo>
                    <a:pt x="349" y="109"/>
                  </a:lnTo>
                  <a:lnTo>
                    <a:pt x="343" y="116"/>
                  </a:lnTo>
                  <a:lnTo>
                    <a:pt x="337" y="125"/>
                  </a:lnTo>
                  <a:lnTo>
                    <a:pt x="331" y="133"/>
                  </a:lnTo>
                  <a:lnTo>
                    <a:pt x="325" y="142"/>
                  </a:lnTo>
                  <a:lnTo>
                    <a:pt x="319" y="154"/>
                  </a:lnTo>
                  <a:lnTo>
                    <a:pt x="308" y="180"/>
                  </a:lnTo>
                  <a:lnTo>
                    <a:pt x="296" y="209"/>
                  </a:lnTo>
                  <a:lnTo>
                    <a:pt x="285" y="244"/>
                  </a:lnTo>
                  <a:lnTo>
                    <a:pt x="274" y="282"/>
                  </a:lnTo>
                  <a:lnTo>
                    <a:pt x="265" y="324"/>
                  </a:lnTo>
                  <a:lnTo>
                    <a:pt x="256" y="369"/>
                  </a:lnTo>
                  <a:lnTo>
                    <a:pt x="249" y="414"/>
                  </a:lnTo>
                  <a:lnTo>
                    <a:pt x="242" y="462"/>
                  </a:lnTo>
                  <a:lnTo>
                    <a:pt x="237" y="514"/>
                  </a:lnTo>
                  <a:lnTo>
                    <a:pt x="232" y="568"/>
                  </a:lnTo>
                  <a:lnTo>
                    <a:pt x="228" y="624"/>
                  </a:lnTo>
                  <a:lnTo>
                    <a:pt x="305" y="603"/>
                  </a:lnTo>
                  <a:lnTo>
                    <a:pt x="322" y="596"/>
                  </a:lnTo>
                  <a:lnTo>
                    <a:pt x="339" y="589"/>
                  </a:lnTo>
                  <a:lnTo>
                    <a:pt x="352" y="580"/>
                  </a:lnTo>
                  <a:lnTo>
                    <a:pt x="358" y="577"/>
                  </a:lnTo>
                  <a:lnTo>
                    <a:pt x="364" y="572"/>
                  </a:lnTo>
                  <a:lnTo>
                    <a:pt x="376" y="561"/>
                  </a:lnTo>
                  <a:lnTo>
                    <a:pt x="387" y="551"/>
                  </a:lnTo>
                  <a:lnTo>
                    <a:pt x="396" y="539"/>
                  </a:lnTo>
                  <a:lnTo>
                    <a:pt x="405" y="527"/>
                  </a:lnTo>
                  <a:lnTo>
                    <a:pt x="414" y="513"/>
                  </a:lnTo>
                  <a:lnTo>
                    <a:pt x="421" y="499"/>
                  </a:lnTo>
                  <a:lnTo>
                    <a:pt x="428" y="485"/>
                  </a:lnTo>
                  <a:lnTo>
                    <a:pt x="434" y="469"/>
                  </a:lnTo>
                  <a:lnTo>
                    <a:pt x="439" y="454"/>
                  </a:lnTo>
                  <a:lnTo>
                    <a:pt x="443" y="436"/>
                  </a:lnTo>
                  <a:lnTo>
                    <a:pt x="447" y="417"/>
                  </a:lnTo>
                  <a:lnTo>
                    <a:pt x="450" y="398"/>
                  </a:lnTo>
                  <a:lnTo>
                    <a:pt x="453" y="376"/>
                  </a:lnTo>
                  <a:lnTo>
                    <a:pt x="454" y="353"/>
                  </a:lnTo>
                  <a:lnTo>
                    <a:pt x="455" y="33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1320" y="1436760"/>
              <a:ext cx="316080" cy="439560"/>
            </a:xfrm>
            <a:custGeom>
              <a:avLst/>
              <a:gdLst/>
              <a:ahLst/>
              <a:rect l="l" t="t" r="r" b="b"/>
              <a:pathLst>
                <a:path w="876" h="1221">
                  <a:moveTo>
                    <a:pt x="344" y="516"/>
                  </a:moveTo>
                  <a:lnTo>
                    <a:pt x="553" y="516"/>
                  </a:lnTo>
                  <a:lnTo>
                    <a:pt x="615" y="22"/>
                  </a:lnTo>
                  <a:lnTo>
                    <a:pt x="822" y="5"/>
                  </a:lnTo>
                  <a:lnTo>
                    <a:pt x="830" y="22"/>
                  </a:lnTo>
                  <a:lnTo>
                    <a:pt x="737" y="755"/>
                  </a:lnTo>
                  <a:lnTo>
                    <a:pt x="735" y="774"/>
                  </a:lnTo>
                  <a:lnTo>
                    <a:pt x="732" y="797"/>
                  </a:lnTo>
                  <a:lnTo>
                    <a:pt x="730" y="819"/>
                  </a:lnTo>
                  <a:lnTo>
                    <a:pt x="727" y="847"/>
                  </a:lnTo>
                  <a:lnTo>
                    <a:pt x="725" y="875"/>
                  </a:lnTo>
                  <a:lnTo>
                    <a:pt x="723" y="897"/>
                  </a:lnTo>
                  <a:lnTo>
                    <a:pt x="721" y="916"/>
                  </a:lnTo>
                  <a:lnTo>
                    <a:pt x="721" y="925"/>
                  </a:lnTo>
                  <a:lnTo>
                    <a:pt x="721" y="932"/>
                  </a:lnTo>
                  <a:lnTo>
                    <a:pt x="721" y="949"/>
                  </a:lnTo>
                  <a:lnTo>
                    <a:pt x="722" y="965"/>
                  </a:lnTo>
                  <a:lnTo>
                    <a:pt x="724" y="979"/>
                  </a:lnTo>
                  <a:lnTo>
                    <a:pt x="725" y="984"/>
                  </a:lnTo>
                  <a:lnTo>
                    <a:pt x="726" y="991"/>
                  </a:lnTo>
                  <a:lnTo>
                    <a:pt x="726" y="996"/>
                  </a:lnTo>
                  <a:lnTo>
                    <a:pt x="727" y="1001"/>
                  </a:lnTo>
                  <a:lnTo>
                    <a:pt x="729" y="1007"/>
                  </a:lnTo>
                  <a:lnTo>
                    <a:pt x="731" y="1012"/>
                  </a:lnTo>
                  <a:lnTo>
                    <a:pt x="731" y="1017"/>
                  </a:lnTo>
                  <a:lnTo>
                    <a:pt x="733" y="1020"/>
                  </a:lnTo>
                  <a:lnTo>
                    <a:pt x="736" y="1024"/>
                  </a:lnTo>
                  <a:lnTo>
                    <a:pt x="737" y="1027"/>
                  </a:lnTo>
                  <a:lnTo>
                    <a:pt x="740" y="1031"/>
                  </a:lnTo>
                  <a:lnTo>
                    <a:pt x="742" y="1033"/>
                  </a:lnTo>
                  <a:lnTo>
                    <a:pt x="744" y="1036"/>
                  </a:lnTo>
                  <a:lnTo>
                    <a:pt x="748" y="1038"/>
                  </a:lnTo>
                  <a:lnTo>
                    <a:pt x="753" y="1041"/>
                  </a:lnTo>
                  <a:lnTo>
                    <a:pt x="760" y="1045"/>
                  </a:lnTo>
                  <a:lnTo>
                    <a:pt x="768" y="1048"/>
                  </a:lnTo>
                  <a:lnTo>
                    <a:pt x="776" y="1050"/>
                  </a:lnTo>
                  <a:lnTo>
                    <a:pt x="785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8"/>
                  </a:lnTo>
                  <a:lnTo>
                    <a:pt x="828" y="1045"/>
                  </a:lnTo>
                  <a:lnTo>
                    <a:pt x="840" y="1039"/>
                  </a:lnTo>
                  <a:lnTo>
                    <a:pt x="861" y="1027"/>
                  </a:lnTo>
                  <a:lnTo>
                    <a:pt x="869" y="1022"/>
                  </a:lnTo>
                  <a:lnTo>
                    <a:pt x="872" y="1020"/>
                  </a:lnTo>
                  <a:lnTo>
                    <a:pt x="875" y="1017"/>
                  </a:lnTo>
                  <a:lnTo>
                    <a:pt x="861" y="1124"/>
                  </a:lnTo>
                  <a:lnTo>
                    <a:pt x="759" y="1195"/>
                  </a:lnTo>
                  <a:lnTo>
                    <a:pt x="748" y="1201"/>
                  </a:lnTo>
                  <a:lnTo>
                    <a:pt x="738" y="1206"/>
                  </a:lnTo>
                  <a:lnTo>
                    <a:pt x="728" y="1209"/>
                  </a:lnTo>
                  <a:lnTo>
                    <a:pt x="717" y="1213"/>
                  </a:lnTo>
                  <a:lnTo>
                    <a:pt x="705" y="1216"/>
                  </a:lnTo>
                  <a:lnTo>
                    <a:pt x="693" y="1218"/>
                  </a:lnTo>
                  <a:lnTo>
                    <a:pt x="681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6"/>
                  </a:lnTo>
                  <a:lnTo>
                    <a:pt x="620" y="1211"/>
                  </a:lnTo>
                  <a:lnTo>
                    <a:pt x="604" y="1202"/>
                  </a:lnTo>
                  <a:lnTo>
                    <a:pt x="591" y="1194"/>
                  </a:lnTo>
                  <a:lnTo>
                    <a:pt x="577" y="1181"/>
                  </a:lnTo>
                  <a:lnTo>
                    <a:pt x="565" y="1168"/>
                  </a:lnTo>
                  <a:lnTo>
                    <a:pt x="553" y="1152"/>
                  </a:lnTo>
                  <a:lnTo>
                    <a:pt x="547" y="1143"/>
                  </a:lnTo>
                  <a:lnTo>
                    <a:pt x="542" y="1135"/>
                  </a:lnTo>
                  <a:lnTo>
                    <a:pt x="537" y="1124"/>
                  </a:lnTo>
                  <a:lnTo>
                    <a:pt x="532" y="1116"/>
                  </a:lnTo>
                  <a:lnTo>
                    <a:pt x="528" y="1105"/>
                  </a:lnTo>
                  <a:lnTo>
                    <a:pt x="524" y="1095"/>
                  </a:lnTo>
                  <a:lnTo>
                    <a:pt x="521" y="1084"/>
                  </a:lnTo>
                  <a:lnTo>
                    <a:pt x="518" y="1072"/>
                  </a:lnTo>
                  <a:lnTo>
                    <a:pt x="515" y="1062"/>
                  </a:lnTo>
                  <a:lnTo>
                    <a:pt x="513" y="1050"/>
                  </a:lnTo>
                  <a:lnTo>
                    <a:pt x="510" y="1038"/>
                  </a:lnTo>
                  <a:lnTo>
                    <a:pt x="509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2"/>
                  </a:lnTo>
                  <a:lnTo>
                    <a:pt x="507" y="918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8"/>
                  </a:lnTo>
                  <a:lnTo>
                    <a:pt x="510" y="870"/>
                  </a:lnTo>
                  <a:lnTo>
                    <a:pt x="510" y="861"/>
                  </a:lnTo>
                  <a:lnTo>
                    <a:pt x="512" y="840"/>
                  </a:lnTo>
                  <a:lnTo>
                    <a:pt x="515" y="814"/>
                  </a:lnTo>
                  <a:lnTo>
                    <a:pt x="518" y="785"/>
                  </a:lnTo>
                  <a:lnTo>
                    <a:pt x="538" y="631"/>
                  </a:lnTo>
                  <a:lnTo>
                    <a:pt x="329" y="631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5" y="464"/>
                  </a:lnTo>
                  <a:lnTo>
                    <a:pt x="145" y="378"/>
                  </a:lnTo>
                  <a:lnTo>
                    <a:pt x="147" y="352"/>
                  </a:lnTo>
                  <a:lnTo>
                    <a:pt x="149" y="327"/>
                  </a:lnTo>
                  <a:lnTo>
                    <a:pt x="151" y="307"/>
                  </a:lnTo>
                  <a:lnTo>
                    <a:pt x="151" y="296"/>
                  </a:lnTo>
                  <a:lnTo>
                    <a:pt x="151" y="288"/>
                  </a:lnTo>
                  <a:lnTo>
                    <a:pt x="151" y="272"/>
                  </a:lnTo>
                  <a:lnTo>
                    <a:pt x="150" y="256"/>
                  </a:lnTo>
                  <a:lnTo>
                    <a:pt x="148" y="243"/>
                  </a:lnTo>
                  <a:lnTo>
                    <a:pt x="147" y="230"/>
                  </a:lnTo>
                  <a:lnTo>
                    <a:pt x="146" y="225"/>
                  </a:lnTo>
                  <a:lnTo>
                    <a:pt x="145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1" y="204"/>
                  </a:lnTo>
                  <a:lnTo>
                    <a:pt x="139" y="201"/>
                  </a:lnTo>
                  <a:lnTo>
                    <a:pt x="137" y="197"/>
                  </a:lnTo>
                  <a:lnTo>
                    <a:pt x="135" y="194"/>
                  </a:lnTo>
                  <a:lnTo>
                    <a:pt x="134" y="191"/>
                  </a:lnTo>
                  <a:lnTo>
                    <a:pt x="131" y="187"/>
                  </a:lnTo>
                  <a:lnTo>
                    <a:pt x="129" y="185"/>
                  </a:lnTo>
                  <a:lnTo>
                    <a:pt x="126" y="182"/>
                  </a:lnTo>
                  <a:lnTo>
                    <a:pt x="124" y="180"/>
                  </a:lnTo>
                  <a:lnTo>
                    <a:pt x="120" y="178"/>
                  </a:lnTo>
                  <a:lnTo>
                    <a:pt x="114" y="175"/>
                  </a:lnTo>
                  <a:lnTo>
                    <a:pt x="107" y="171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9" y="171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4" y="3"/>
                  </a:lnTo>
                  <a:lnTo>
                    <a:pt x="185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3" y="5"/>
                  </a:lnTo>
                  <a:lnTo>
                    <a:pt x="260" y="10"/>
                  </a:lnTo>
                  <a:lnTo>
                    <a:pt x="276" y="17"/>
                  </a:lnTo>
                  <a:lnTo>
                    <a:pt x="290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2" y="62"/>
                  </a:lnTo>
                  <a:lnTo>
                    <a:pt x="327" y="71"/>
                  </a:lnTo>
                  <a:lnTo>
                    <a:pt x="336" y="90"/>
                  </a:lnTo>
                  <a:lnTo>
                    <a:pt x="344" y="109"/>
                  </a:lnTo>
                  <a:lnTo>
                    <a:pt x="348" y="120"/>
                  </a:lnTo>
                  <a:lnTo>
                    <a:pt x="350" y="130"/>
                  </a:lnTo>
                  <a:lnTo>
                    <a:pt x="354" y="140"/>
                  </a:lnTo>
                  <a:lnTo>
                    <a:pt x="356" y="152"/>
                  </a:lnTo>
                  <a:lnTo>
                    <a:pt x="359" y="163"/>
                  </a:lnTo>
                  <a:lnTo>
                    <a:pt x="361" y="175"/>
                  </a:lnTo>
                  <a:lnTo>
                    <a:pt x="362" y="187"/>
                  </a:lnTo>
                  <a:lnTo>
                    <a:pt x="364" y="199"/>
                  </a:lnTo>
                  <a:lnTo>
                    <a:pt x="365" y="211"/>
                  </a:lnTo>
                  <a:lnTo>
                    <a:pt x="366" y="223"/>
                  </a:lnTo>
                  <a:lnTo>
                    <a:pt x="367" y="236"/>
                  </a:lnTo>
                  <a:lnTo>
                    <a:pt x="367" y="249"/>
                  </a:lnTo>
                  <a:lnTo>
                    <a:pt x="367" y="270"/>
                  </a:lnTo>
                  <a:lnTo>
                    <a:pt x="366" y="293"/>
                  </a:lnTo>
                  <a:lnTo>
                    <a:pt x="365" y="314"/>
                  </a:lnTo>
                  <a:lnTo>
                    <a:pt x="364" y="334"/>
                  </a:lnTo>
                  <a:lnTo>
                    <a:pt x="362" y="357"/>
                  </a:lnTo>
                  <a:lnTo>
                    <a:pt x="361" y="381"/>
                  </a:lnTo>
                  <a:lnTo>
                    <a:pt x="357" y="407"/>
                  </a:lnTo>
                  <a:lnTo>
                    <a:pt x="354" y="4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89760" y="1432080"/>
              <a:ext cx="295200" cy="449280"/>
            </a:xfrm>
            <a:custGeom>
              <a:avLst/>
              <a:gdLst/>
              <a:ahLst/>
              <a:rect l="l" t="t" r="r" b="b"/>
              <a:pathLst>
                <a:path w="820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7"/>
                  </a:lnTo>
                  <a:lnTo>
                    <a:pt x="365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1"/>
                  </a:lnTo>
                  <a:lnTo>
                    <a:pt x="293" y="1230"/>
                  </a:lnTo>
                  <a:lnTo>
                    <a:pt x="286" y="1233"/>
                  </a:lnTo>
                  <a:lnTo>
                    <a:pt x="278" y="1239"/>
                  </a:lnTo>
                  <a:lnTo>
                    <a:pt x="270" y="1240"/>
                  </a:lnTo>
                  <a:lnTo>
                    <a:pt x="261" y="1244"/>
                  </a:lnTo>
                  <a:lnTo>
                    <a:pt x="253" y="1245"/>
                  </a:lnTo>
                  <a:lnTo>
                    <a:pt x="244" y="1245"/>
                  </a:lnTo>
                  <a:lnTo>
                    <a:pt x="227" y="1247"/>
                  </a:lnTo>
                  <a:lnTo>
                    <a:pt x="199" y="1245"/>
                  </a:lnTo>
                  <a:lnTo>
                    <a:pt x="173" y="1240"/>
                  </a:lnTo>
                  <a:lnTo>
                    <a:pt x="149" y="1230"/>
                  </a:lnTo>
                  <a:lnTo>
                    <a:pt x="127" y="1216"/>
                  </a:lnTo>
                  <a:lnTo>
                    <a:pt x="117" y="1207"/>
                  </a:lnTo>
                  <a:lnTo>
                    <a:pt x="107" y="1199"/>
                  </a:lnTo>
                  <a:lnTo>
                    <a:pt x="98" y="1188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6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7" y="999"/>
                  </a:lnTo>
                  <a:lnTo>
                    <a:pt x="14" y="980"/>
                  </a:lnTo>
                  <a:lnTo>
                    <a:pt x="7" y="937"/>
                  </a:lnTo>
                  <a:lnTo>
                    <a:pt x="3" y="890"/>
                  </a:lnTo>
                  <a:lnTo>
                    <a:pt x="0" y="842"/>
                  </a:lnTo>
                  <a:lnTo>
                    <a:pt x="0" y="790"/>
                  </a:lnTo>
                  <a:lnTo>
                    <a:pt x="0" y="750"/>
                  </a:lnTo>
                  <a:lnTo>
                    <a:pt x="1" y="710"/>
                  </a:lnTo>
                  <a:lnTo>
                    <a:pt x="4" y="670"/>
                  </a:lnTo>
                  <a:lnTo>
                    <a:pt x="8" y="632"/>
                  </a:lnTo>
                  <a:lnTo>
                    <a:pt x="12" y="594"/>
                  </a:lnTo>
                  <a:lnTo>
                    <a:pt x="18" y="556"/>
                  </a:lnTo>
                  <a:lnTo>
                    <a:pt x="24" y="520"/>
                  </a:lnTo>
                  <a:lnTo>
                    <a:pt x="32" y="483"/>
                  </a:lnTo>
                  <a:lnTo>
                    <a:pt x="40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89"/>
                  </a:lnTo>
                  <a:lnTo>
                    <a:pt x="104" y="260"/>
                  </a:lnTo>
                  <a:lnTo>
                    <a:pt x="116" y="232"/>
                  </a:lnTo>
                  <a:lnTo>
                    <a:pt x="130" y="206"/>
                  </a:lnTo>
                  <a:lnTo>
                    <a:pt x="144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0" y="48"/>
                  </a:lnTo>
                  <a:lnTo>
                    <a:pt x="278" y="34"/>
                  </a:lnTo>
                  <a:lnTo>
                    <a:pt x="297" y="24"/>
                  </a:lnTo>
                  <a:lnTo>
                    <a:pt x="316" y="15"/>
                  </a:lnTo>
                  <a:lnTo>
                    <a:pt x="335" y="9"/>
                  </a:lnTo>
                  <a:lnTo>
                    <a:pt x="354" y="3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49" y="7"/>
                  </a:lnTo>
                  <a:lnTo>
                    <a:pt x="461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2" y="73"/>
                  </a:lnTo>
                  <a:lnTo>
                    <a:pt x="560" y="83"/>
                  </a:lnTo>
                  <a:lnTo>
                    <a:pt x="568" y="93"/>
                  </a:lnTo>
                  <a:lnTo>
                    <a:pt x="768" y="17"/>
                  </a:lnTo>
                  <a:lnTo>
                    <a:pt x="776" y="36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2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1"/>
                  </a:lnTo>
                  <a:lnTo>
                    <a:pt x="664" y="947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999"/>
                  </a:lnTo>
                  <a:lnTo>
                    <a:pt x="668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79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3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4"/>
                  </a:lnTo>
                  <a:lnTo>
                    <a:pt x="720" y="1065"/>
                  </a:lnTo>
                  <a:lnTo>
                    <a:pt x="729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59" y="1064"/>
                  </a:lnTo>
                  <a:lnTo>
                    <a:pt x="771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2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1"/>
                  </a:lnTo>
                  <a:lnTo>
                    <a:pt x="671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7" y="1233"/>
                  </a:lnTo>
                  <a:lnTo>
                    <a:pt x="625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1" y="1232"/>
                  </a:lnTo>
                  <a:lnTo>
                    <a:pt x="567" y="1228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4"/>
                  </a:lnTo>
                  <a:lnTo>
                    <a:pt x="487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0" y="1098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1" y="227"/>
                  </a:lnTo>
                  <a:lnTo>
                    <a:pt x="519" y="218"/>
                  </a:lnTo>
                  <a:lnTo>
                    <a:pt x="519" y="211"/>
                  </a:lnTo>
                  <a:lnTo>
                    <a:pt x="516" y="203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4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3" y="119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2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4" y="177"/>
                  </a:lnTo>
                  <a:lnTo>
                    <a:pt x="346" y="190"/>
                  </a:lnTo>
                  <a:lnTo>
                    <a:pt x="337" y="206"/>
                  </a:lnTo>
                  <a:lnTo>
                    <a:pt x="329" y="223"/>
                  </a:lnTo>
                  <a:lnTo>
                    <a:pt x="321" y="242"/>
                  </a:lnTo>
                  <a:lnTo>
                    <a:pt x="313" y="261"/>
                  </a:lnTo>
                  <a:lnTo>
                    <a:pt x="305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2" y="795"/>
                  </a:lnTo>
                  <a:lnTo>
                    <a:pt x="232" y="823"/>
                  </a:lnTo>
                  <a:lnTo>
                    <a:pt x="234" y="850"/>
                  </a:lnTo>
                  <a:lnTo>
                    <a:pt x="235" y="876"/>
                  </a:lnTo>
                  <a:lnTo>
                    <a:pt x="238" y="902"/>
                  </a:lnTo>
                  <a:lnTo>
                    <a:pt x="239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49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7"/>
                  </a:lnTo>
                  <a:lnTo>
                    <a:pt x="256" y="996"/>
                  </a:lnTo>
                  <a:lnTo>
                    <a:pt x="260" y="1006"/>
                  </a:lnTo>
                  <a:lnTo>
                    <a:pt x="263" y="1013"/>
                  </a:lnTo>
                  <a:lnTo>
                    <a:pt x="267" y="1022"/>
                  </a:lnTo>
                  <a:lnTo>
                    <a:pt x="271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3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7" y="1065"/>
                  </a:lnTo>
                  <a:lnTo>
                    <a:pt x="334" y="1065"/>
                  </a:lnTo>
                  <a:lnTo>
                    <a:pt x="342" y="1065"/>
                  </a:lnTo>
                  <a:lnTo>
                    <a:pt x="349" y="1064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3"/>
                  </a:lnTo>
                  <a:lnTo>
                    <a:pt x="378" y="1046"/>
                  </a:lnTo>
                  <a:lnTo>
                    <a:pt x="386" y="1041"/>
                  </a:lnTo>
                  <a:lnTo>
                    <a:pt x="392" y="1032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2" y="975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77120" y="1587600"/>
              <a:ext cx="154080" cy="95040"/>
            </a:xfrm>
            <a:custGeom>
              <a:avLst/>
              <a:gdLst/>
              <a:ahLst/>
              <a:rect l="l" t="t" r="r" b="b"/>
              <a:pathLst>
                <a:path w="427" h="263">
                  <a:moveTo>
                    <a:pt x="393" y="262"/>
                  </a:moveTo>
                  <a:lnTo>
                    <a:pt x="0" y="262"/>
                  </a:lnTo>
                  <a:lnTo>
                    <a:pt x="32" y="0"/>
                  </a:lnTo>
                  <a:lnTo>
                    <a:pt x="426" y="0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3640" y="2138400"/>
              <a:ext cx="369720" cy="609480"/>
            </a:xfrm>
            <a:custGeom>
              <a:avLst/>
              <a:gdLst/>
              <a:ahLst/>
              <a:rect l="l" t="t" r="r" b="b"/>
              <a:pathLst>
                <a:path w="1026" h="1695">
                  <a:moveTo>
                    <a:pt x="770" y="331"/>
                  </a:moveTo>
                  <a:lnTo>
                    <a:pt x="769" y="301"/>
                  </a:lnTo>
                  <a:lnTo>
                    <a:pt x="768" y="288"/>
                  </a:lnTo>
                  <a:lnTo>
                    <a:pt x="767" y="275"/>
                  </a:lnTo>
                  <a:lnTo>
                    <a:pt x="766" y="263"/>
                  </a:lnTo>
                  <a:lnTo>
                    <a:pt x="764" y="251"/>
                  </a:lnTo>
                  <a:lnTo>
                    <a:pt x="762" y="239"/>
                  </a:lnTo>
                  <a:lnTo>
                    <a:pt x="760" y="229"/>
                  </a:lnTo>
                  <a:lnTo>
                    <a:pt x="757" y="218"/>
                  </a:lnTo>
                  <a:lnTo>
                    <a:pt x="754" y="208"/>
                  </a:lnTo>
                  <a:lnTo>
                    <a:pt x="750" y="197"/>
                  </a:lnTo>
                  <a:lnTo>
                    <a:pt x="747" y="189"/>
                  </a:lnTo>
                  <a:lnTo>
                    <a:pt x="743" y="180"/>
                  </a:lnTo>
                  <a:lnTo>
                    <a:pt x="739" y="171"/>
                  </a:lnTo>
                  <a:lnTo>
                    <a:pt x="734" y="165"/>
                  </a:lnTo>
                  <a:lnTo>
                    <a:pt x="729" y="158"/>
                  </a:lnTo>
                  <a:lnTo>
                    <a:pt x="719" y="145"/>
                  </a:lnTo>
                  <a:lnTo>
                    <a:pt x="707" y="133"/>
                  </a:lnTo>
                  <a:lnTo>
                    <a:pt x="695" y="125"/>
                  </a:lnTo>
                  <a:lnTo>
                    <a:pt x="683" y="116"/>
                  </a:lnTo>
                  <a:lnTo>
                    <a:pt x="668" y="111"/>
                  </a:lnTo>
                  <a:lnTo>
                    <a:pt x="654" y="106"/>
                  </a:lnTo>
                  <a:lnTo>
                    <a:pt x="639" y="104"/>
                  </a:lnTo>
                  <a:lnTo>
                    <a:pt x="623" y="102"/>
                  </a:lnTo>
                  <a:lnTo>
                    <a:pt x="609" y="102"/>
                  </a:lnTo>
                  <a:lnTo>
                    <a:pt x="601" y="102"/>
                  </a:lnTo>
                  <a:lnTo>
                    <a:pt x="592" y="104"/>
                  </a:lnTo>
                  <a:lnTo>
                    <a:pt x="576" y="106"/>
                  </a:lnTo>
                  <a:lnTo>
                    <a:pt x="570" y="106"/>
                  </a:lnTo>
                  <a:lnTo>
                    <a:pt x="568" y="107"/>
                  </a:lnTo>
                  <a:lnTo>
                    <a:pt x="565" y="107"/>
                  </a:lnTo>
                  <a:lnTo>
                    <a:pt x="485" y="745"/>
                  </a:lnTo>
                  <a:lnTo>
                    <a:pt x="528" y="745"/>
                  </a:lnTo>
                  <a:lnTo>
                    <a:pt x="555" y="743"/>
                  </a:lnTo>
                  <a:lnTo>
                    <a:pt x="581" y="738"/>
                  </a:lnTo>
                  <a:lnTo>
                    <a:pt x="605" y="729"/>
                  </a:lnTo>
                  <a:lnTo>
                    <a:pt x="628" y="717"/>
                  </a:lnTo>
                  <a:lnTo>
                    <a:pt x="650" y="700"/>
                  </a:lnTo>
                  <a:lnTo>
                    <a:pt x="669" y="681"/>
                  </a:lnTo>
                  <a:lnTo>
                    <a:pt x="678" y="669"/>
                  </a:lnTo>
                  <a:lnTo>
                    <a:pt x="688" y="657"/>
                  </a:lnTo>
                  <a:lnTo>
                    <a:pt x="696" y="644"/>
                  </a:lnTo>
                  <a:lnTo>
                    <a:pt x="705" y="631"/>
                  </a:lnTo>
                  <a:lnTo>
                    <a:pt x="712" y="617"/>
                  </a:lnTo>
                  <a:lnTo>
                    <a:pt x="720" y="601"/>
                  </a:lnTo>
                  <a:lnTo>
                    <a:pt x="727" y="586"/>
                  </a:lnTo>
                  <a:lnTo>
                    <a:pt x="734" y="568"/>
                  </a:lnTo>
                  <a:lnTo>
                    <a:pt x="739" y="553"/>
                  </a:lnTo>
                  <a:lnTo>
                    <a:pt x="745" y="535"/>
                  </a:lnTo>
                  <a:lnTo>
                    <a:pt x="749" y="516"/>
                  </a:lnTo>
                  <a:lnTo>
                    <a:pt x="754" y="499"/>
                  </a:lnTo>
                  <a:lnTo>
                    <a:pt x="757" y="480"/>
                  </a:lnTo>
                  <a:lnTo>
                    <a:pt x="761" y="459"/>
                  </a:lnTo>
                  <a:lnTo>
                    <a:pt x="763" y="440"/>
                  </a:lnTo>
                  <a:lnTo>
                    <a:pt x="766" y="419"/>
                  </a:lnTo>
                  <a:lnTo>
                    <a:pt x="767" y="398"/>
                  </a:lnTo>
                  <a:lnTo>
                    <a:pt x="769" y="376"/>
                  </a:lnTo>
                  <a:close/>
                  <a:moveTo>
                    <a:pt x="719" y="1135"/>
                  </a:moveTo>
                  <a:lnTo>
                    <a:pt x="718" y="1102"/>
                  </a:lnTo>
                  <a:lnTo>
                    <a:pt x="717" y="1086"/>
                  </a:lnTo>
                  <a:lnTo>
                    <a:pt x="716" y="1071"/>
                  </a:lnTo>
                  <a:lnTo>
                    <a:pt x="714" y="1055"/>
                  </a:lnTo>
                  <a:lnTo>
                    <a:pt x="712" y="1041"/>
                  </a:lnTo>
                  <a:lnTo>
                    <a:pt x="710" y="1027"/>
                  </a:lnTo>
                  <a:lnTo>
                    <a:pt x="707" y="1013"/>
                  </a:lnTo>
                  <a:lnTo>
                    <a:pt x="704" y="1001"/>
                  </a:lnTo>
                  <a:lnTo>
                    <a:pt x="700" y="987"/>
                  </a:lnTo>
                  <a:lnTo>
                    <a:pt x="696" y="975"/>
                  </a:lnTo>
                  <a:lnTo>
                    <a:pt x="692" y="965"/>
                  </a:lnTo>
                  <a:lnTo>
                    <a:pt x="687" y="953"/>
                  </a:lnTo>
                  <a:lnTo>
                    <a:pt x="682" y="942"/>
                  </a:lnTo>
                  <a:lnTo>
                    <a:pt x="677" y="934"/>
                  </a:lnTo>
                  <a:lnTo>
                    <a:pt x="671" y="923"/>
                  </a:lnTo>
                  <a:lnTo>
                    <a:pt x="665" y="915"/>
                  </a:lnTo>
                  <a:lnTo>
                    <a:pt x="658" y="906"/>
                  </a:lnTo>
                  <a:lnTo>
                    <a:pt x="651" y="899"/>
                  </a:lnTo>
                  <a:lnTo>
                    <a:pt x="644" y="892"/>
                  </a:lnTo>
                  <a:lnTo>
                    <a:pt x="629" y="878"/>
                  </a:lnTo>
                  <a:lnTo>
                    <a:pt x="612" y="870"/>
                  </a:lnTo>
                  <a:lnTo>
                    <a:pt x="593" y="861"/>
                  </a:lnTo>
                  <a:lnTo>
                    <a:pt x="573" y="856"/>
                  </a:lnTo>
                  <a:lnTo>
                    <a:pt x="551" y="852"/>
                  </a:lnTo>
                  <a:lnTo>
                    <a:pt x="529" y="851"/>
                  </a:lnTo>
                  <a:lnTo>
                    <a:pt x="514" y="851"/>
                  </a:lnTo>
                  <a:lnTo>
                    <a:pt x="506" y="851"/>
                  </a:lnTo>
                  <a:lnTo>
                    <a:pt x="496" y="852"/>
                  </a:lnTo>
                  <a:lnTo>
                    <a:pt x="480" y="854"/>
                  </a:lnTo>
                  <a:lnTo>
                    <a:pt x="474" y="854"/>
                  </a:lnTo>
                  <a:lnTo>
                    <a:pt x="472" y="856"/>
                  </a:lnTo>
                  <a:lnTo>
                    <a:pt x="470" y="856"/>
                  </a:lnTo>
                  <a:lnTo>
                    <a:pt x="391" y="1486"/>
                  </a:lnTo>
                  <a:lnTo>
                    <a:pt x="391" y="1492"/>
                  </a:lnTo>
                  <a:lnTo>
                    <a:pt x="392" y="1497"/>
                  </a:lnTo>
                  <a:lnTo>
                    <a:pt x="392" y="1502"/>
                  </a:lnTo>
                  <a:lnTo>
                    <a:pt x="394" y="1507"/>
                  </a:lnTo>
                  <a:lnTo>
                    <a:pt x="395" y="1512"/>
                  </a:lnTo>
                  <a:lnTo>
                    <a:pt x="397" y="1518"/>
                  </a:lnTo>
                  <a:lnTo>
                    <a:pt x="398" y="1523"/>
                  </a:lnTo>
                  <a:lnTo>
                    <a:pt x="401" y="1526"/>
                  </a:lnTo>
                  <a:lnTo>
                    <a:pt x="402" y="1531"/>
                  </a:lnTo>
                  <a:lnTo>
                    <a:pt x="405" y="1537"/>
                  </a:lnTo>
                  <a:lnTo>
                    <a:pt x="408" y="1540"/>
                  </a:lnTo>
                  <a:lnTo>
                    <a:pt x="412" y="1545"/>
                  </a:lnTo>
                  <a:lnTo>
                    <a:pt x="419" y="1552"/>
                  </a:lnTo>
                  <a:lnTo>
                    <a:pt x="427" y="1561"/>
                  </a:lnTo>
                  <a:lnTo>
                    <a:pt x="435" y="1568"/>
                  </a:lnTo>
                  <a:lnTo>
                    <a:pt x="445" y="1575"/>
                  </a:lnTo>
                  <a:lnTo>
                    <a:pt x="454" y="1580"/>
                  </a:lnTo>
                  <a:lnTo>
                    <a:pt x="463" y="1585"/>
                  </a:lnTo>
                  <a:lnTo>
                    <a:pt x="474" y="1587"/>
                  </a:lnTo>
                  <a:lnTo>
                    <a:pt x="484" y="1590"/>
                  </a:lnTo>
                  <a:lnTo>
                    <a:pt x="494" y="1592"/>
                  </a:lnTo>
                  <a:lnTo>
                    <a:pt x="505" y="1592"/>
                  </a:lnTo>
                  <a:lnTo>
                    <a:pt x="526" y="1590"/>
                  </a:lnTo>
                  <a:lnTo>
                    <a:pt x="546" y="1583"/>
                  </a:lnTo>
                  <a:lnTo>
                    <a:pt x="557" y="1580"/>
                  </a:lnTo>
                  <a:lnTo>
                    <a:pt x="567" y="1575"/>
                  </a:lnTo>
                  <a:lnTo>
                    <a:pt x="576" y="1568"/>
                  </a:lnTo>
                  <a:lnTo>
                    <a:pt x="585" y="1559"/>
                  </a:lnTo>
                  <a:lnTo>
                    <a:pt x="595" y="1550"/>
                  </a:lnTo>
                  <a:lnTo>
                    <a:pt x="604" y="1542"/>
                  </a:lnTo>
                  <a:lnTo>
                    <a:pt x="622" y="1519"/>
                  </a:lnTo>
                  <a:lnTo>
                    <a:pt x="639" y="1493"/>
                  </a:lnTo>
                  <a:lnTo>
                    <a:pt x="655" y="1464"/>
                  </a:lnTo>
                  <a:lnTo>
                    <a:pt x="662" y="1448"/>
                  </a:lnTo>
                  <a:lnTo>
                    <a:pt x="670" y="1431"/>
                  </a:lnTo>
                  <a:lnTo>
                    <a:pt x="677" y="1414"/>
                  </a:lnTo>
                  <a:lnTo>
                    <a:pt x="683" y="1396"/>
                  </a:lnTo>
                  <a:lnTo>
                    <a:pt x="689" y="1377"/>
                  </a:lnTo>
                  <a:lnTo>
                    <a:pt x="694" y="1358"/>
                  </a:lnTo>
                  <a:lnTo>
                    <a:pt x="699" y="1339"/>
                  </a:lnTo>
                  <a:lnTo>
                    <a:pt x="703" y="1318"/>
                  </a:lnTo>
                  <a:lnTo>
                    <a:pt x="707" y="1298"/>
                  </a:lnTo>
                  <a:lnTo>
                    <a:pt x="710" y="1275"/>
                  </a:lnTo>
                  <a:lnTo>
                    <a:pt x="715" y="1232"/>
                  </a:lnTo>
                  <a:lnTo>
                    <a:pt x="718" y="1185"/>
                  </a:lnTo>
                  <a:close/>
                  <a:moveTo>
                    <a:pt x="701" y="0"/>
                  </a:moveTo>
                  <a:lnTo>
                    <a:pt x="742" y="2"/>
                  </a:lnTo>
                  <a:lnTo>
                    <a:pt x="779" y="5"/>
                  </a:lnTo>
                  <a:lnTo>
                    <a:pt x="814" y="10"/>
                  </a:lnTo>
                  <a:lnTo>
                    <a:pt x="846" y="19"/>
                  </a:lnTo>
                  <a:lnTo>
                    <a:pt x="876" y="29"/>
                  </a:lnTo>
                  <a:lnTo>
                    <a:pt x="902" y="43"/>
                  </a:lnTo>
                  <a:lnTo>
                    <a:pt x="926" y="59"/>
                  </a:lnTo>
                  <a:lnTo>
                    <a:pt x="947" y="76"/>
                  </a:lnTo>
                  <a:lnTo>
                    <a:pt x="956" y="87"/>
                  </a:lnTo>
                  <a:lnTo>
                    <a:pt x="965" y="97"/>
                  </a:lnTo>
                  <a:lnTo>
                    <a:pt x="973" y="107"/>
                  </a:lnTo>
                  <a:lnTo>
                    <a:pt x="981" y="119"/>
                  </a:lnTo>
                  <a:lnTo>
                    <a:pt x="987" y="132"/>
                  </a:lnTo>
                  <a:lnTo>
                    <a:pt x="994" y="144"/>
                  </a:lnTo>
                  <a:lnTo>
                    <a:pt x="1000" y="158"/>
                  </a:lnTo>
                  <a:lnTo>
                    <a:pt x="1005" y="171"/>
                  </a:lnTo>
                  <a:lnTo>
                    <a:pt x="1009" y="187"/>
                  </a:lnTo>
                  <a:lnTo>
                    <a:pt x="1014" y="203"/>
                  </a:lnTo>
                  <a:lnTo>
                    <a:pt x="1017" y="218"/>
                  </a:lnTo>
                  <a:lnTo>
                    <a:pt x="1020" y="236"/>
                  </a:lnTo>
                  <a:lnTo>
                    <a:pt x="1022" y="253"/>
                  </a:lnTo>
                  <a:lnTo>
                    <a:pt x="1024" y="270"/>
                  </a:lnTo>
                  <a:lnTo>
                    <a:pt x="1025" y="289"/>
                  </a:lnTo>
                  <a:lnTo>
                    <a:pt x="1025" y="308"/>
                  </a:lnTo>
                  <a:lnTo>
                    <a:pt x="1025" y="334"/>
                  </a:lnTo>
                  <a:lnTo>
                    <a:pt x="1023" y="359"/>
                  </a:lnTo>
                  <a:lnTo>
                    <a:pt x="1021" y="383"/>
                  </a:lnTo>
                  <a:lnTo>
                    <a:pt x="1019" y="405"/>
                  </a:lnTo>
                  <a:lnTo>
                    <a:pt x="1015" y="428"/>
                  </a:lnTo>
                  <a:lnTo>
                    <a:pt x="1010" y="450"/>
                  </a:lnTo>
                  <a:lnTo>
                    <a:pt x="1005" y="471"/>
                  </a:lnTo>
                  <a:lnTo>
                    <a:pt x="999" y="490"/>
                  </a:lnTo>
                  <a:lnTo>
                    <a:pt x="993" y="509"/>
                  </a:lnTo>
                  <a:lnTo>
                    <a:pt x="986" y="528"/>
                  </a:lnTo>
                  <a:lnTo>
                    <a:pt x="979" y="546"/>
                  </a:lnTo>
                  <a:lnTo>
                    <a:pt x="971" y="563"/>
                  </a:lnTo>
                  <a:lnTo>
                    <a:pt x="962" y="580"/>
                  </a:lnTo>
                  <a:lnTo>
                    <a:pt x="954" y="594"/>
                  </a:lnTo>
                  <a:lnTo>
                    <a:pt x="944" y="610"/>
                  </a:lnTo>
                  <a:lnTo>
                    <a:pt x="934" y="624"/>
                  </a:lnTo>
                  <a:lnTo>
                    <a:pt x="912" y="650"/>
                  </a:lnTo>
                  <a:lnTo>
                    <a:pt x="889" y="674"/>
                  </a:lnTo>
                  <a:lnTo>
                    <a:pt x="866" y="696"/>
                  </a:lnTo>
                  <a:lnTo>
                    <a:pt x="839" y="715"/>
                  </a:lnTo>
                  <a:lnTo>
                    <a:pt x="812" y="733"/>
                  </a:lnTo>
                  <a:lnTo>
                    <a:pt x="785" y="748"/>
                  </a:lnTo>
                  <a:lnTo>
                    <a:pt x="757" y="762"/>
                  </a:lnTo>
                  <a:lnTo>
                    <a:pt x="728" y="774"/>
                  </a:lnTo>
                  <a:lnTo>
                    <a:pt x="726" y="797"/>
                  </a:lnTo>
                  <a:lnTo>
                    <a:pt x="748" y="802"/>
                  </a:lnTo>
                  <a:lnTo>
                    <a:pt x="771" y="809"/>
                  </a:lnTo>
                  <a:lnTo>
                    <a:pt x="794" y="819"/>
                  </a:lnTo>
                  <a:lnTo>
                    <a:pt x="817" y="832"/>
                  </a:lnTo>
                  <a:lnTo>
                    <a:pt x="828" y="838"/>
                  </a:lnTo>
                  <a:lnTo>
                    <a:pt x="839" y="845"/>
                  </a:lnTo>
                  <a:lnTo>
                    <a:pt x="850" y="854"/>
                  </a:lnTo>
                  <a:lnTo>
                    <a:pt x="860" y="863"/>
                  </a:lnTo>
                  <a:lnTo>
                    <a:pt x="870" y="871"/>
                  </a:lnTo>
                  <a:lnTo>
                    <a:pt x="879" y="880"/>
                  </a:lnTo>
                  <a:lnTo>
                    <a:pt x="888" y="890"/>
                  </a:lnTo>
                  <a:lnTo>
                    <a:pt x="897" y="901"/>
                  </a:lnTo>
                  <a:lnTo>
                    <a:pt x="905" y="913"/>
                  </a:lnTo>
                  <a:lnTo>
                    <a:pt x="914" y="923"/>
                  </a:lnTo>
                  <a:lnTo>
                    <a:pt x="921" y="935"/>
                  </a:lnTo>
                  <a:lnTo>
                    <a:pt x="929" y="949"/>
                  </a:lnTo>
                  <a:lnTo>
                    <a:pt x="935" y="963"/>
                  </a:lnTo>
                  <a:lnTo>
                    <a:pt x="942" y="977"/>
                  </a:lnTo>
                  <a:lnTo>
                    <a:pt x="948" y="993"/>
                  </a:lnTo>
                  <a:lnTo>
                    <a:pt x="953" y="1008"/>
                  </a:lnTo>
                  <a:lnTo>
                    <a:pt x="958" y="1024"/>
                  </a:lnTo>
                  <a:lnTo>
                    <a:pt x="962" y="1041"/>
                  </a:lnTo>
                  <a:lnTo>
                    <a:pt x="965" y="1058"/>
                  </a:lnTo>
                  <a:lnTo>
                    <a:pt x="969" y="1078"/>
                  </a:lnTo>
                  <a:lnTo>
                    <a:pt x="971" y="1098"/>
                  </a:lnTo>
                  <a:lnTo>
                    <a:pt x="972" y="1119"/>
                  </a:lnTo>
                  <a:lnTo>
                    <a:pt x="974" y="1140"/>
                  </a:lnTo>
                  <a:lnTo>
                    <a:pt x="974" y="1162"/>
                  </a:lnTo>
                  <a:lnTo>
                    <a:pt x="973" y="1194"/>
                  </a:lnTo>
                  <a:lnTo>
                    <a:pt x="972" y="1225"/>
                  </a:lnTo>
                  <a:lnTo>
                    <a:pt x="970" y="1256"/>
                  </a:lnTo>
                  <a:lnTo>
                    <a:pt x="966" y="1285"/>
                  </a:lnTo>
                  <a:lnTo>
                    <a:pt x="962" y="1313"/>
                  </a:lnTo>
                  <a:lnTo>
                    <a:pt x="957" y="1341"/>
                  </a:lnTo>
                  <a:lnTo>
                    <a:pt x="951" y="1367"/>
                  </a:lnTo>
                  <a:lnTo>
                    <a:pt x="944" y="1393"/>
                  </a:lnTo>
                  <a:lnTo>
                    <a:pt x="936" y="1417"/>
                  </a:lnTo>
                  <a:lnTo>
                    <a:pt x="927" y="1440"/>
                  </a:lnTo>
                  <a:lnTo>
                    <a:pt x="917" y="1462"/>
                  </a:lnTo>
                  <a:lnTo>
                    <a:pt x="907" y="1483"/>
                  </a:lnTo>
                  <a:lnTo>
                    <a:pt x="895" y="1504"/>
                  </a:lnTo>
                  <a:lnTo>
                    <a:pt x="883" y="1523"/>
                  </a:lnTo>
                  <a:lnTo>
                    <a:pt x="869" y="1542"/>
                  </a:lnTo>
                  <a:lnTo>
                    <a:pt x="855" y="1559"/>
                  </a:lnTo>
                  <a:lnTo>
                    <a:pt x="823" y="1590"/>
                  </a:lnTo>
                  <a:lnTo>
                    <a:pt x="788" y="1618"/>
                  </a:lnTo>
                  <a:lnTo>
                    <a:pt x="750" y="1642"/>
                  </a:lnTo>
                  <a:lnTo>
                    <a:pt x="707" y="1661"/>
                  </a:lnTo>
                  <a:lnTo>
                    <a:pt x="662" y="1675"/>
                  </a:lnTo>
                  <a:lnTo>
                    <a:pt x="612" y="1686"/>
                  </a:lnTo>
                  <a:lnTo>
                    <a:pt x="560" y="1693"/>
                  </a:lnTo>
                  <a:lnTo>
                    <a:pt x="503" y="1694"/>
                  </a:lnTo>
                  <a:lnTo>
                    <a:pt x="0" y="1694"/>
                  </a:lnTo>
                  <a:lnTo>
                    <a:pt x="11" y="1608"/>
                  </a:lnTo>
                  <a:lnTo>
                    <a:pt x="20" y="1608"/>
                  </a:lnTo>
                  <a:lnTo>
                    <a:pt x="31" y="1606"/>
                  </a:lnTo>
                  <a:lnTo>
                    <a:pt x="59" y="1599"/>
                  </a:lnTo>
                  <a:lnTo>
                    <a:pt x="74" y="1596"/>
                  </a:lnTo>
                  <a:lnTo>
                    <a:pt x="87" y="1590"/>
                  </a:lnTo>
                  <a:lnTo>
                    <a:pt x="98" y="1587"/>
                  </a:lnTo>
                  <a:lnTo>
                    <a:pt x="102" y="1583"/>
                  </a:lnTo>
                  <a:lnTo>
                    <a:pt x="106" y="1582"/>
                  </a:lnTo>
                  <a:lnTo>
                    <a:pt x="112" y="1578"/>
                  </a:lnTo>
                  <a:lnTo>
                    <a:pt x="118" y="1573"/>
                  </a:lnTo>
                  <a:lnTo>
                    <a:pt x="124" y="1568"/>
                  </a:lnTo>
                  <a:lnTo>
                    <a:pt x="129" y="1563"/>
                  </a:lnTo>
                  <a:lnTo>
                    <a:pt x="133" y="1556"/>
                  </a:lnTo>
                  <a:lnTo>
                    <a:pt x="137" y="1549"/>
                  </a:lnTo>
                  <a:lnTo>
                    <a:pt x="142" y="1542"/>
                  </a:lnTo>
                  <a:lnTo>
                    <a:pt x="145" y="1535"/>
                  </a:lnTo>
                  <a:lnTo>
                    <a:pt x="149" y="1526"/>
                  </a:lnTo>
                  <a:lnTo>
                    <a:pt x="152" y="1519"/>
                  </a:lnTo>
                  <a:lnTo>
                    <a:pt x="154" y="1511"/>
                  </a:lnTo>
                  <a:lnTo>
                    <a:pt x="157" y="1502"/>
                  </a:lnTo>
                  <a:lnTo>
                    <a:pt x="159" y="1492"/>
                  </a:lnTo>
                  <a:lnTo>
                    <a:pt x="160" y="1483"/>
                  </a:lnTo>
                  <a:lnTo>
                    <a:pt x="162" y="1473"/>
                  </a:lnTo>
                  <a:lnTo>
                    <a:pt x="164" y="1462"/>
                  </a:lnTo>
                  <a:lnTo>
                    <a:pt x="313" y="277"/>
                  </a:lnTo>
                  <a:lnTo>
                    <a:pt x="314" y="265"/>
                  </a:lnTo>
                  <a:lnTo>
                    <a:pt x="316" y="255"/>
                  </a:lnTo>
                  <a:lnTo>
                    <a:pt x="317" y="244"/>
                  </a:lnTo>
                  <a:lnTo>
                    <a:pt x="318" y="236"/>
                  </a:lnTo>
                  <a:lnTo>
                    <a:pt x="319" y="227"/>
                  </a:lnTo>
                  <a:lnTo>
                    <a:pt x="319" y="220"/>
                  </a:lnTo>
                  <a:lnTo>
                    <a:pt x="319" y="215"/>
                  </a:lnTo>
                  <a:lnTo>
                    <a:pt x="319" y="210"/>
                  </a:lnTo>
                  <a:lnTo>
                    <a:pt x="319" y="203"/>
                  </a:lnTo>
                  <a:lnTo>
                    <a:pt x="318" y="197"/>
                  </a:lnTo>
                  <a:lnTo>
                    <a:pt x="318" y="192"/>
                  </a:lnTo>
                  <a:lnTo>
                    <a:pt x="317" y="187"/>
                  </a:lnTo>
                  <a:lnTo>
                    <a:pt x="316" y="180"/>
                  </a:lnTo>
                  <a:lnTo>
                    <a:pt x="314" y="175"/>
                  </a:lnTo>
                  <a:lnTo>
                    <a:pt x="314" y="170"/>
                  </a:lnTo>
                  <a:lnTo>
                    <a:pt x="312" y="166"/>
                  </a:lnTo>
                  <a:lnTo>
                    <a:pt x="310" y="161"/>
                  </a:lnTo>
                  <a:lnTo>
                    <a:pt x="308" y="156"/>
                  </a:lnTo>
                  <a:lnTo>
                    <a:pt x="306" y="151"/>
                  </a:lnTo>
                  <a:lnTo>
                    <a:pt x="303" y="147"/>
                  </a:lnTo>
                  <a:lnTo>
                    <a:pt x="301" y="144"/>
                  </a:lnTo>
                  <a:lnTo>
                    <a:pt x="298" y="139"/>
                  </a:lnTo>
                  <a:lnTo>
                    <a:pt x="292" y="132"/>
                  </a:lnTo>
                  <a:lnTo>
                    <a:pt x="284" y="125"/>
                  </a:lnTo>
                  <a:lnTo>
                    <a:pt x="275" y="118"/>
                  </a:lnTo>
                  <a:lnTo>
                    <a:pt x="265" y="113"/>
                  </a:lnTo>
                  <a:lnTo>
                    <a:pt x="255" y="106"/>
                  </a:lnTo>
                  <a:lnTo>
                    <a:pt x="243" y="100"/>
                  </a:lnTo>
                  <a:lnTo>
                    <a:pt x="230" y="95"/>
                  </a:lnTo>
                  <a:lnTo>
                    <a:pt x="201" y="87"/>
                  </a:lnTo>
                  <a:lnTo>
                    <a:pt x="2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09680" y="2316240"/>
              <a:ext cx="316080" cy="439560"/>
            </a:xfrm>
            <a:custGeom>
              <a:avLst/>
              <a:gdLst/>
              <a:ahLst/>
              <a:rect l="l" t="t" r="r" b="b"/>
              <a:pathLst>
                <a:path w="876" h="1221">
                  <a:moveTo>
                    <a:pt x="343" y="517"/>
                  </a:moveTo>
                  <a:lnTo>
                    <a:pt x="552" y="517"/>
                  </a:lnTo>
                  <a:lnTo>
                    <a:pt x="614" y="23"/>
                  </a:lnTo>
                  <a:lnTo>
                    <a:pt x="822" y="6"/>
                  </a:lnTo>
                  <a:lnTo>
                    <a:pt x="829" y="23"/>
                  </a:lnTo>
                  <a:lnTo>
                    <a:pt x="737" y="756"/>
                  </a:lnTo>
                  <a:lnTo>
                    <a:pt x="734" y="775"/>
                  </a:lnTo>
                  <a:lnTo>
                    <a:pt x="732" y="797"/>
                  </a:lnTo>
                  <a:lnTo>
                    <a:pt x="729" y="820"/>
                  </a:lnTo>
                  <a:lnTo>
                    <a:pt x="727" y="848"/>
                  </a:lnTo>
                  <a:lnTo>
                    <a:pt x="724" y="875"/>
                  </a:lnTo>
                  <a:lnTo>
                    <a:pt x="723" y="898"/>
                  </a:lnTo>
                  <a:lnTo>
                    <a:pt x="721" y="917"/>
                  </a:lnTo>
                  <a:lnTo>
                    <a:pt x="721" y="926"/>
                  </a:lnTo>
                  <a:lnTo>
                    <a:pt x="721" y="932"/>
                  </a:lnTo>
                  <a:lnTo>
                    <a:pt x="721" y="950"/>
                  </a:lnTo>
                  <a:lnTo>
                    <a:pt x="722" y="965"/>
                  </a:lnTo>
                  <a:lnTo>
                    <a:pt x="723" y="979"/>
                  </a:lnTo>
                  <a:lnTo>
                    <a:pt x="724" y="984"/>
                  </a:lnTo>
                  <a:lnTo>
                    <a:pt x="725" y="991"/>
                  </a:lnTo>
                  <a:lnTo>
                    <a:pt x="726" y="997"/>
                  </a:lnTo>
                  <a:lnTo>
                    <a:pt x="727" y="1002"/>
                  </a:lnTo>
                  <a:lnTo>
                    <a:pt x="729" y="1007"/>
                  </a:lnTo>
                  <a:lnTo>
                    <a:pt x="730" y="1012"/>
                  </a:lnTo>
                  <a:lnTo>
                    <a:pt x="731" y="1017"/>
                  </a:lnTo>
                  <a:lnTo>
                    <a:pt x="733" y="1021"/>
                  </a:lnTo>
                  <a:lnTo>
                    <a:pt x="735" y="1024"/>
                  </a:lnTo>
                  <a:lnTo>
                    <a:pt x="737" y="1028"/>
                  </a:lnTo>
                  <a:lnTo>
                    <a:pt x="740" y="1031"/>
                  </a:lnTo>
                  <a:lnTo>
                    <a:pt x="741" y="1033"/>
                  </a:lnTo>
                  <a:lnTo>
                    <a:pt x="744" y="1036"/>
                  </a:lnTo>
                  <a:lnTo>
                    <a:pt x="747" y="1038"/>
                  </a:lnTo>
                  <a:lnTo>
                    <a:pt x="753" y="1042"/>
                  </a:lnTo>
                  <a:lnTo>
                    <a:pt x="760" y="1045"/>
                  </a:lnTo>
                  <a:lnTo>
                    <a:pt x="767" y="1049"/>
                  </a:lnTo>
                  <a:lnTo>
                    <a:pt x="776" y="1050"/>
                  </a:lnTo>
                  <a:lnTo>
                    <a:pt x="784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9"/>
                  </a:lnTo>
                  <a:lnTo>
                    <a:pt x="828" y="1045"/>
                  </a:lnTo>
                  <a:lnTo>
                    <a:pt x="839" y="1040"/>
                  </a:lnTo>
                  <a:lnTo>
                    <a:pt x="861" y="1028"/>
                  </a:lnTo>
                  <a:lnTo>
                    <a:pt x="868" y="1023"/>
                  </a:lnTo>
                  <a:lnTo>
                    <a:pt x="872" y="1021"/>
                  </a:lnTo>
                  <a:lnTo>
                    <a:pt x="875" y="1017"/>
                  </a:lnTo>
                  <a:lnTo>
                    <a:pt x="861" y="1125"/>
                  </a:lnTo>
                  <a:lnTo>
                    <a:pt x="758" y="1196"/>
                  </a:lnTo>
                  <a:lnTo>
                    <a:pt x="748" y="1201"/>
                  </a:lnTo>
                  <a:lnTo>
                    <a:pt x="738" y="1206"/>
                  </a:lnTo>
                  <a:lnTo>
                    <a:pt x="728" y="1210"/>
                  </a:lnTo>
                  <a:lnTo>
                    <a:pt x="717" y="1213"/>
                  </a:lnTo>
                  <a:lnTo>
                    <a:pt x="705" y="1217"/>
                  </a:lnTo>
                  <a:lnTo>
                    <a:pt x="693" y="1218"/>
                  </a:lnTo>
                  <a:lnTo>
                    <a:pt x="681" y="1220"/>
                  </a:lnTo>
                  <a:lnTo>
                    <a:pt x="668" y="1220"/>
                  </a:lnTo>
                  <a:lnTo>
                    <a:pt x="651" y="1218"/>
                  </a:lnTo>
                  <a:lnTo>
                    <a:pt x="635" y="1217"/>
                  </a:lnTo>
                  <a:lnTo>
                    <a:pt x="619" y="1211"/>
                  </a:lnTo>
                  <a:lnTo>
                    <a:pt x="604" y="1203"/>
                  </a:lnTo>
                  <a:lnTo>
                    <a:pt x="591" y="1194"/>
                  </a:lnTo>
                  <a:lnTo>
                    <a:pt x="577" y="1182"/>
                  </a:lnTo>
                  <a:lnTo>
                    <a:pt x="564" y="1168"/>
                  </a:lnTo>
                  <a:lnTo>
                    <a:pt x="552" y="1152"/>
                  </a:lnTo>
                  <a:lnTo>
                    <a:pt x="547" y="1144"/>
                  </a:lnTo>
                  <a:lnTo>
                    <a:pt x="541" y="1135"/>
                  </a:lnTo>
                  <a:lnTo>
                    <a:pt x="536" y="1125"/>
                  </a:lnTo>
                  <a:lnTo>
                    <a:pt x="532" y="1116"/>
                  </a:lnTo>
                  <a:lnTo>
                    <a:pt x="528" y="1106"/>
                  </a:lnTo>
                  <a:lnTo>
                    <a:pt x="524" y="1095"/>
                  </a:lnTo>
                  <a:lnTo>
                    <a:pt x="520" y="1085"/>
                  </a:lnTo>
                  <a:lnTo>
                    <a:pt x="518" y="1073"/>
                  </a:lnTo>
                  <a:lnTo>
                    <a:pt x="514" y="1062"/>
                  </a:lnTo>
                  <a:lnTo>
                    <a:pt x="513" y="1050"/>
                  </a:lnTo>
                  <a:lnTo>
                    <a:pt x="510" y="1038"/>
                  </a:lnTo>
                  <a:lnTo>
                    <a:pt x="508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3"/>
                  </a:lnTo>
                  <a:lnTo>
                    <a:pt x="507" y="919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8" y="879"/>
                  </a:lnTo>
                  <a:lnTo>
                    <a:pt x="509" y="870"/>
                  </a:lnTo>
                  <a:lnTo>
                    <a:pt x="509" y="861"/>
                  </a:lnTo>
                  <a:lnTo>
                    <a:pt x="512" y="841"/>
                  </a:lnTo>
                  <a:lnTo>
                    <a:pt x="514" y="815"/>
                  </a:lnTo>
                  <a:lnTo>
                    <a:pt x="518" y="785"/>
                  </a:lnTo>
                  <a:lnTo>
                    <a:pt x="537" y="631"/>
                  </a:lnTo>
                  <a:lnTo>
                    <a:pt x="329" y="631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4" y="465"/>
                  </a:lnTo>
                  <a:lnTo>
                    <a:pt x="144" y="378"/>
                  </a:lnTo>
                  <a:lnTo>
                    <a:pt x="147" y="352"/>
                  </a:lnTo>
                  <a:lnTo>
                    <a:pt x="149" y="328"/>
                  </a:lnTo>
                  <a:lnTo>
                    <a:pt x="150" y="307"/>
                  </a:lnTo>
                  <a:lnTo>
                    <a:pt x="150" y="297"/>
                  </a:lnTo>
                  <a:lnTo>
                    <a:pt x="150" y="288"/>
                  </a:lnTo>
                  <a:lnTo>
                    <a:pt x="150" y="272"/>
                  </a:lnTo>
                  <a:lnTo>
                    <a:pt x="149" y="257"/>
                  </a:lnTo>
                  <a:lnTo>
                    <a:pt x="148" y="243"/>
                  </a:lnTo>
                  <a:lnTo>
                    <a:pt x="147" y="231"/>
                  </a:lnTo>
                  <a:lnTo>
                    <a:pt x="145" y="226"/>
                  </a:lnTo>
                  <a:lnTo>
                    <a:pt x="144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0" y="205"/>
                  </a:lnTo>
                  <a:lnTo>
                    <a:pt x="138" y="201"/>
                  </a:lnTo>
                  <a:lnTo>
                    <a:pt x="137" y="198"/>
                  </a:lnTo>
                  <a:lnTo>
                    <a:pt x="135" y="194"/>
                  </a:lnTo>
                  <a:lnTo>
                    <a:pt x="133" y="191"/>
                  </a:lnTo>
                  <a:lnTo>
                    <a:pt x="131" y="188"/>
                  </a:lnTo>
                  <a:lnTo>
                    <a:pt x="128" y="186"/>
                  </a:lnTo>
                  <a:lnTo>
                    <a:pt x="126" y="182"/>
                  </a:lnTo>
                  <a:lnTo>
                    <a:pt x="123" y="181"/>
                  </a:lnTo>
                  <a:lnTo>
                    <a:pt x="120" y="179"/>
                  </a:lnTo>
                  <a:lnTo>
                    <a:pt x="114" y="175"/>
                  </a:lnTo>
                  <a:lnTo>
                    <a:pt x="106" y="172"/>
                  </a:lnTo>
                  <a:lnTo>
                    <a:pt x="99" y="170"/>
                  </a:lnTo>
                  <a:lnTo>
                    <a:pt x="89" y="168"/>
                  </a:lnTo>
                  <a:lnTo>
                    <a:pt x="80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9" y="172"/>
                  </a:lnTo>
                  <a:lnTo>
                    <a:pt x="53" y="174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1"/>
                  </a:lnTo>
                  <a:lnTo>
                    <a:pt x="27" y="186"/>
                  </a:lnTo>
                  <a:lnTo>
                    <a:pt x="17" y="193"/>
                  </a:lnTo>
                  <a:lnTo>
                    <a:pt x="0" y="203"/>
                  </a:lnTo>
                  <a:lnTo>
                    <a:pt x="14" y="96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8" y="16"/>
                  </a:lnTo>
                  <a:lnTo>
                    <a:pt x="150" y="11"/>
                  </a:lnTo>
                  <a:lnTo>
                    <a:pt x="161" y="7"/>
                  </a:lnTo>
                  <a:lnTo>
                    <a:pt x="173" y="4"/>
                  </a:lnTo>
                  <a:lnTo>
                    <a:pt x="184" y="2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25" y="2"/>
                  </a:lnTo>
                  <a:lnTo>
                    <a:pt x="243" y="6"/>
                  </a:lnTo>
                  <a:lnTo>
                    <a:pt x="260" y="11"/>
                  </a:lnTo>
                  <a:lnTo>
                    <a:pt x="276" y="18"/>
                  </a:lnTo>
                  <a:lnTo>
                    <a:pt x="290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09" y="47"/>
                  </a:lnTo>
                  <a:lnTo>
                    <a:pt x="315" y="54"/>
                  </a:lnTo>
                  <a:lnTo>
                    <a:pt x="321" y="63"/>
                  </a:lnTo>
                  <a:lnTo>
                    <a:pt x="326" y="71"/>
                  </a:lnTo>
                  <a:lnTo>
                    <a:pt x="336" y="91"/>
                  </a:lnTo>
                  <a:lnTo>
                    <a:pt x="343" y="110"/>
                  </a:lnTo>
                  <a:lnTo>
                    <a:pt x="348" y="120"/>
                  </a:lnTo>
                  <a:lnTo>
                    <a:pt x="350" y="130"/>
                  </a:lnTo>
                  <a:lnTo>
                    <a:pt x="353" y="141"/>
                  </a:lnTo>
                  <a:lnTo>
                    <a:pt x="356" y="153"/>
                  </a:lnTo>
                  <a:lnTo>
                    <a:pt x="359" y="163"/>
                  </a:lnTo>
                  <a:lnTo>
                    <a:pt x="360" y="175"/>
                  </a:lnTo>
                  <a:lnTo>
                    <a:pt x="362" y="188"/>
                  </a:lnTo>
                  <a:lnTo>
                    <a:pt x="364" y="200"/>
                  </a:lnTo>
                  <a:lnTo>
                    <a:pt x="364" y="212"/>
                  </a:lnTo>
                  <a:lnTo>
                    <a:pt x="365" y="224"/>
                  </a:lnTo>
                  <a:lnTo>
                    <a:pt x="366" y="236"/>
                  </a:lnTo>
                  <a:lnTo>
                    <a:pt x="366" y="250"/>
                  </a:lnTo>
                  <a:lnTo>
                    <a:pt x="366" y="271"/>
                  </a:lnTo>
                  <a:lnTo>
                    <a:pt x="365" y="293"/>
                  </a:lnTo>
                  <a:lnTo>
                    <a:pt x="364" y="314"/>
                  </a:lnTo>
                  <a:lnTo>
                    <a:pt x="364" y="335"/>
                  </a:lnTo>
                  <a:lnTo>
                    <a:pt x="362" y="357"/>
                  </a:lnTo>
                  <a:lnTo>
                    <a:pt x="360" y="382"/>
                  </a:lnTo>
                  <a:lnTo>
                    <a:pt x="357" y="408"/>
                  </a:lnTo>
                  <a:lnTo>
                    <a:pt x="353" y="434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9560" y="2313000"/>
              <a:ext cx="295560" cy="449280"/>
            </a:xfrm>
            <a:custGeom>
              <a:avLst/>
              <a:gdLst/>
              <a:ahLst/>
              <a:rect l="l" t="t" r="r" b="b"/>
              <a:pathLst>
                <a:path w="821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8"/>
                  </a:lnTo>
                  <a:lnTo>
                    <a:pt x="366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2"/>
                  </a:lnTo>
                  <a:lnTo>
                    <a:pt x="294" y="1230"/>
                  </a:lnTo>
                  <a:lnTo>
                    <a:pt x="286" y="1234"/>
                  </a:lnTo>
                  <a:lnTo>
                    <a:pt x="279" y="1239"/>
                  </a:lnTo>
                  <a:lnTo>
                    <a:pt x="270" y="1241"/>
                  </a:lnTo>
                  <a:lnTo>
                    <a:pt x="262" y="1244"/>
                  </a:lnTo>
                  <a:lnTo>
                    <a:pt x="253" y="1246"/>
                  </a:lnTo>
                  <a:lnTo>
                    <a:pt x="245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4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8"/>
                  </a:lnTo>
                  <a:lnTo>
                    <a:pt x="108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8" y="1000"/>
                  </a:lnTo>
                  <a:lnTo>
                    <a:pt x="15" y="981"/>
                  </a:lnTo>
                  <a:lnTo>
                    <a:pt x="8" y="938"/>
                  </a:lnTo>
                  <a:lnTo>
                    <a:pt x="4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1"/>
                  </a:lnTo>
                  <a:lnTo>
                    <a:pt x="4" y="671"/>
                  </a:lnTo>
                  <a:lnTo>
                    <a:pt x="9" y="633"/>
                  </a:lnTo>
                  <a:lnTo>
                    <a:pt x="13" y="595"/>
                  </a:lnTo>
                  <a:lnTo>
                    <a:pt x="19" y="556"/>
                  </a:lnTo>
                  <a:lnTo>
                    <a:pt x="25" y="520"/>
                  </a:lnTo>
                  <a:lnTo>
                    <a:pt x="32" y="484"/>
                  </a:lnTo>
                  <a:lnTo>
                    <a:pt x="41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8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1" y="49"/>
                  </a:lnTo>
                  <a:lnTo>
                    <a:pt x="279" y="35"/>
                  </a:lnTo>
                  <a:lnTo>
                    <a:pt x="297" y="25"/>
                  </a:lnTo>
                  <a:lnTo>
                    <a:pt x="317" y="16"/>
                  </a:lnTo>
                  <a:lnTo>
                    <a:pt x="335" y="9"/>
                  </a:lnTo>
                  <a:lnTo>
                    <a:pt x="355" y="4"/>
                  </a:lnTo>
                  <a:lnTo>
                    <a:pt x="375" y="2"/>
                  </a:lnTo>
                  <a:lnTo>
                    <a:pt x="395" y="0"/>
                  </a:lnTo>
                  <a:lnTo>
                    <a:pt x="423" y="2"/>
                  </a:lnTo>
                  <a:lnTo>
                    <a:pt x="450" y="7"/>
                  </a:lnTo>
                  <a:lnTo>
                    <a:pt x="462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5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7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3"/>
                  </a:lnTo>
                  <a:lnTo>
                    <a:pt x="671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5" y="932"/>
                  </a:lnTo>
                  <a:lnTo>
                    <a:pt x="665" y="941"/>
                  </a:lnTo>
                  <a:lnTo>
                    <a:pt x="665" y="948"/>
                  </a:lnTo>
                  <a:lnTo>
                    <a:pt x="665" y="964"/>
                  </a:lnTo>
                  <a:lnTo>
                    <a:pt x="666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1" y="1016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6" y="1031"/>
                  </a:lnTo>
                  <a:lnTo>
                    <a:pt x="677" y="1035"/>
                  </a:lnTo>
                  <a:lnTo>
                    <a:pt x="680" y="1038"/>
                  </a:lnTo>
                  <a:lnTo>
                    <a:pt x="682" y="1041"/>
                  </a:lnTo>
                  <a:lnTo>
                    <a:pt x="684" y="1045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4"/>
                  </a:lnTo>
                  <a:lnTo>
                    <a:pt x="698" y="1057"/>
                  </a:lnTo>
                  <a:lnTo>
                    <a:pt x="704" y="1061"/>
                  </a:lnTo>
                  <a:lnTo>
                    <a:pt x="712" y="1064"/>
                  </a:lnTo>
                  <a:lnTo>
                    <a:pt x="721" y="1066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60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3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8" y="1234"/>
                  </a:lnTo>
                  <a:lnTo>
                    <a:pt x="626" y="1236"/>
                  </a:lnTo>
                  <a:lnTo>
                    <a:pt x="613" y="1236"/>
                  </a:lnTo>
                  <a:lnTo>
                    <a:pt x="597" y="1236"/>
                  </a:lnTo>
                  <a:lnTo>
                    <a:pt x="582" y="1232"/>
                  </a:lnTo>
                  <a:lnTo>
                    <a:pt x="567" y="1229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7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6"/>
                  </a:lnTo>
                  <a:lnTo>
                    <a:pt x="461" y="1099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2"/>
                  </a:lnTo>
                  <a:lnTo>
                    <a:pt x="524" y="245"/>
                  </a:lnTo>
                  <a:lnTo>
                    <a:pt x="523" y="236"/>
                  </a:lnTo>
                  <a:lnTo>
                    <a:pt x="522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7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9"/>
                  </a:lnTo>
                  <a:lnTo>
                    <a:pt x="465" y="127"/>
                  </a:lnTo>
                  <a:lnTo>
                    <a:pt x="459" y="123"/>
                  </a:lnTo>
                  <a:lnTo>
                    <a:pt x="453" y="122"/>
                  </a:lnTo>
                  <a:lnTo>
                    <a:pt x="447" y="122"/>
                  </a:lnTo>
                  <a:lnTo>
                    <a:pt x="440" y="120"/>
                  </a:lnTo>
                  <a:lnTo>
                    <a:pt x="434" y="120"/>
                  </a:lnTo>
                  <a:lnTo>
                    <a:pt x="423" y="122"/>
                  </a:lnTo>
                  <a:lnTo>
                    <a:pt x="412" y="123"/>
                  </a:lnTo>
                  <a:lnTo>
                    <a:pt x="402" y="129"/>
                  </a:lnTo>
                  <a:lnTo>
                    <a:pt x="392" y="134"/>
                  </a:lnTo>
                  <a:lnTo>
                    <a:pt x="383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6" y="191"/>
                  </a:lnTo>
                  <a:lnTo>
                    <a:pt x="338" y="206"/>
                  </a:lnTo>
                  <a:lnTo>
                    <a:pt x="329" y="224"/>
                  </a:lnTo>
                  <a:lnTo>
                    <a:pt x="321" y="243"/>
                  </a:lnTo>
                  <a:lnTo>
                    <a:pt x="313" y="262"/>
                  </a:lnTo>
                  <a:lnTo>
                    <a:pt x="306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4"/>
                  </a:lnTo>
                  <a:lnTo>
                    <a:pt x="248" y="543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40" y="915"/>
                  </a:lnTo>
                  <a:lnTo>
                    <a:pt x="241" y="927"/>
                  </a:lnTo>
                  <a:lnTo>
                    <a:pt x="242" y="939"/>
                  </a:lnTo>
                  <a:lnTo>
                    <a:pt x="245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8"/>
                  </a:lnTo>
                  <a:lnTo>
                    <a:pt x="257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8" y="1022"/>
                  </a:lnTo>
                  <a:lnTo>
                    <a:pt x="272" y="1028"/>
                  </a:lnTo>
                  <a:lnTo>
                    <a:pt x="276" y="1035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1" y="1050"/>
                  </a:lnTo>
                  <a:lnTo>
                    <a:pt x="296" y="1054"/>
                  </a:lnTo>
                  <a:lnTo>
                    <a:pt x="302" y="1057"/>
                  </a:lnTo>
                  <a:lnTo>
                    <a:pt x="307" y="1061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8" y="1066"/>
                  </a:lnTo>
                  <a:lnTo>
                    <a:pt x="335" y="1066"/>
                  </a:lnTo>
                  <a:lnTo>
                    <a:pt x="342" y="1066"/>
                  </a:lnTo>
                  <a:lnTo>
                    <a:pt x="350" y="1064"/>
                  </a:lnTo>
                  <a:lnTo>
                    <a:pt x="357" y="1061"/>
                  </a:lnTo>
                  <a:lnTo>
                    <a:pt x="364" y="1057"/>
                  </a:lnTo>
                  <a:lnTo>
                    <a:pt x="372" y="1054"/>
                  </a:lnTo>
                  <a:lnTo>
                    <a:pt x="379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6" y="1016"/>
                  </a:lnTo>
                  <a:lnTo>
                    <a:pt x="420" y="996"/>
                  </a:lnTo>
                  <a:lnTo>
                    <a:pt x="433" y="976"/>
                  </a:lnTo>
                  <a:lnTo>
                    <a:pt x="440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4240" y="2317680"/>
              <a:ext cx="455760" cy="444600"/>
            </a:xfrm>
            <a:custGeom>
              <a:avLst/>
              <a:gdLst/>
              <a:ahLst/>
              <a:rect l="l" t="t" r="r" b="b"/>
              <a:pathLst>
                <a:path w="1266" h="1235">
                  <a:moveTo>
                    <a:pt x="1061" y="1218"/>
                  </a:moveTo>
                  <a:lnTo>
                    <a:pt x="1044" y="1218"/>
                  </a:lnTo>
                  <a:lnTo>
                    <a:pt x="1028" y="1215"/>
                  </a:lnTo>
                  <a:lnTo>
                    <a:pt x="1013" y="1211"/>
                  </a:lnTo>
                  <a:lnTo>
                    <a:pt x="999" y="1206"/>
                  </a:lnTo>
                  <a:lnTo>
                    <a:pt x="986" y="1199"/>
                  </a:lnTo>
                  <a:lnTo>
                    <a:pt x="974" y="1190"/>
                  </a:lnTo>
                  <a:lnTo>
                    <a:pt x="963" y="1180"/>
                  </a:lnTo>
                  <a:lnTo>
                    <a:pt x="953" y="1168"/>
                  </a:lnTo>
                  <a:lnTo>
                    <a:pt x="944" y="1154"/>
                  </a:lnTo>
                  <a:lnTo>
                    <a:pt x="936" y="1140"/>
                  </a:lnTo>
                  <a:lnTo>
                    <a:pt x="928" y="1123"/>
                  </a:lnTo>
                  <a:lnTo>
                    <a:pt x="921" y="1104"/>
                  </a:lnTo>
                  <a:lnTo>
                    <a:pt x="914" y="1081"/>
                  </a:lnTo>
                  <a:lnTo>
                    <a:pt x="908" y="1059"/>
                  </a:lnTo>
                  <a:lnTo>
                    <a:pt x="903" y="1034"/>
                  </a:lnTo>
                  <a:lnTo>
                    <a:pt x="898" y="1007"/>
                  </a:lnTo>
                  <a:lnTo>
                    <a:pt x="894" y="1007"/>
                  </a:lnTo>
                  <a:lnTo>
                    <a:pt x="861" y="1062"/>
                  </a:lnTo>
                  <a:lnTo>
                    <a:pt x="829" y="1109"/>
                  </a:lnTo>
                  <a:lnTo>
                    <a:pt x="814" y="1128"/>
                  </a:lnTo>
                  <a:lnTo>
                    <a:pt x="800" y="1147"/>
                  </a:lnTo>
                  <a:lnTo>
                    <a:pt x="786" y="1164"/>
                  </a:lnTo>
                  <a:lnTo>
                    <a:pt x="773" y="1178"/>
                  </a:lnTo>
                  <a:lnTo>
                    <a:pt x="759" y="1190"/>
                  </a:lnTo>
                  <a:lnTo>
                    <a:pt x="745" y="1202"/>
                  </a:lnTo>
                  <a:lnTo>
                    <a:pt x="730" y="1211"/>
                  </a:lnTo>
                  <a:lnTo>
                    <a:pt x="713" y="1220"/>
                  </a:lnTo>
                  <a:lnTo>
                    <a:pt x="697" y="1225"/>
                  </a:lnTo>
                  <a:lnTo>
                    <a:pt x="680" y="1230"/>
                  </a:lnTo>
                  <a:lnTo>
                    <a:pt x="661" y="1232"/>
                  </a:lnTo>
                  <a:lnTo>
                    <a:pt x="642" y="1234"/>
                  </a:lnTo>
                  <a:lnTo>
                    <a:pt x="625" y="1232"/>
                  </a:lnTo>
                  <a:lnTo>
                    <a:pt x="609" y="1230"/>
                  </a:lnTo>
                  <a:lnTo>
                    <a:pt x="594" y="1225"/>
                  </a:lnTo>
                  <a:lnTo>
                    <a:pt x="580" y="1216"/>
                  </a:lnTo>
                  <a:lnTo>
                    <a:pt x="567" y="1208"/>
                  </a:lnTo>
                  <a:lnTo>
                    <a:pt x="554" y="1196"/>
                  </a:lnTo>
                  <a:lnTo>
                    <a:pt x="548" y="1189"/>
                  </a:lnTo>
                  <a:lnTo>
                    <a:pt x="543" y="1182"/>
                  </a:lnTo>
                  <a:lnTo>
                    <a:pt x="537" y="1175"/>
                  </a:lnTo>
                  <a:lnTo>
                    <a:pt x="532" y="1166"/>
                  </a:lnTo>
                  <a:lnTo>
                    <a:pt x="522" y="1149"/>
                  </a:lnTo>
                  <a:lnTo>
                    <a:pt x="514" y="1131"/>
                  </a:lnTo>
                  <a:lnTo>
                    <a:pt x="509" y="1123"/>
                  </a:lnTo>
                  <a:lnTo>
                    <a:pt x="506" y="1112"/>
                  </a:lnTo>
                  <a:lnTo>
                    <a:pt x="503" y="1102"/>
                  </a:lnTo>
                  <a:lnTo>
                    <a:pt x="500" y="1093"/>
                  </a:lnTo>
                  <a:lnTo>
                    <a:pt x="497" y="1083"/>
                  </a:lnTo>
                  <a:lnTo>
                    <a:pt x="494" y="1071"/>
                  </a:lnTo>
                  <a:lnTo>
                    <a:pt x="492" y="1060"/>
                  </a:lnTo>
                  <a:lnTo>
                    <a:pt x="491" y="1050"/>
                  </a:lnTo>
                  <a:lnTo>
                    <a:pt x="489" y="1038"/>
                  </a:lnTo>
                  <a:lnTo>
                    <a:pt x="487" y="1027"/>
                  </a:lnTo>
                  <a:lnTo>
                    <a:pt x="486" y="1003"/>
                  </a:lnTo>
                  <a:lnTo>
                    <a:pt x="481" y="1003"/>
                  </a:lnTo>
                  <a:lnTo>
                    <a:pt x="442" y="1064"/>
                  </a:lnTo>
                  <a:lnTo>
                    <a:pt x="407" y="1114"/>
                  </a:lnTo>
                  <a:lnTo>
                    <a:pt x="375" y="1154"/>
                  </a:lnTo>
                  <a:lnTo>
                    <a:pt x="361" y="1170"/>
                  </a:lnTo>
                  <a:lnTo>
                    <a:pt x="348" y="1183"/>
                  </a:lnTo>
                  <a:lnTo>
                    <a:pt x="335" y="1196"/>
                  </a:lnTo>
                  <a:lnTo>
                    <a:pt x="321" y="1206"/>
                  </a:lnTo>
                  <a:lnTo>
                    <a:pt x="307" y="1215"/>
                  </a:lnTo>
                  <a:lnTo>
                    <a:pt x="292" y="1222"/>
                  </a:lnTo>
                  <a:lnTo>
                    <a:pt x="277" y="1227"/>
                  </a:lnTo>
                  <a:lnTo>
                    <a:pt x="260" y="1230"/>
                  </a:lnTo>
                  <a:lnTo>
                    <a:pt x="243" y="1234"/>
                  </a:lnTo>
                  <a:lnTo>
                    <a:pt x="225" y="1234"/>
                  </a:lnTo>
                  <a:lnTo>
                    <a:pt x="207" y="1232"/>
                  </a:lnTo>
                  <a:lnTo>
                    <a:pt x="189" y="1228"/>
                  </a:lnTo>
                  <a:lnTo>
                    <a:pt x="174" y="1223"/>
                  </a:lnTo>
                  <a:lnTo>
                    <a:pt x="159" y="1216"/>
                  </a:lnTo>
                  <a:lnTo>
                    <a:pt x="145" y="1206"/>
                  </a:lnTo>
                  <a:lnTo>
                    <a:pt x="139" y="1199"/>
                  </a:lnTo>
                  <a:lnTo>
                    <a:pt x="133" y="1192"/>
                  </a:lnTo>
                  <a:lnTo>
                    <a:pt x="127" y="1185"/>
                  </a:lnTo>
                  <a:lnTo>
                    <a:pt x="121" y="1178"/>
                  </a:lnTo>
                  <a:lnTo>
                    <a:pt x="116" y="1170"/>
                  </a:lnTo>
                  <a:lnTo>
                    <a:pt x="111" y="1161"/>
                  </a:lnTo>
                  <a:lnTo>
                    <a:pt x="101" y="1142"/>
                  </a:lnTo>
                  <a:lnTo>
                    <a:pt x="94" y="1123"/>
                  </a:lnTo>
                  <a:lnTo>
                    <a:pt x="89" y="1112"/>
                  </a:lnTo>
                  <a:lnTo>
                    <a:pt x="87" y="1102"/>
                  </a:lnTo>
                  <a:lnTo>
                    <a:pt x="84" y="1092"/>
                  </a:lnTo>
                  <a:lnTo>
                    <a:pt x="81" y="1081"/>
                  </a:lnTo>
                  <a:lnTo>
                    <a:pt x="78" y="1069"/>
                  </a:lnTo>
                  <a:lnTo>
                    <a:pt x="77" y="1057"/>
                  </a:lnTo>
                  <a:lnTo>
                    <a:pt x="75" y="1047"/>
                  </a:lnTo>
                  <a:lnTo>
                    <a:pt x="73" y="1034"/>
                  </a:lnTo>
                  <a:lnTo>
                    <a:pt x="73" y="1022"/>
                  </a:lnTo>
                  <a:lnTo>
                    <a:pt x="72" y="1010"/>
                  </a:lnTo>
                  <a:lnTo>
                    <a:pt x="71" y="996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8"/>
                  </a:lnTo>
                  <a:lnTo>
                    <a:pt x="73" y="929"/>
                  </a:lnTo>
                  <a:lnTo>
                    <a:pt x="73" y="910"/>
                  </a:lnTo>
                  <a:lnTo>
                    <a:pt x="74" y="899"/>
                  </a:lnTo>
                  <a:lnTo>
                    <a:pt x="74" y="889"/>
                  </a:lnTo>
                  <a:lnTo>
                    <a:pt x="77" y="863"/>
                  </a:lnTo>
                  <a:lnTo>
                    <a:pt x="81" y="833"/>
                  </a:lnTo>
                  <a:lnTo>
                    <a:pt x="85" y="801"/>
                  </a:lnTo>
                  <a:lnTo>
                    <a:pt x="134" y="464"/>
                  </a:lnTo>
                  <a:lnTo>
                    <a:pt x="139" y="419"/>
                  </a:lnTo>
                  <a:lnTo>
                    <a:pt x="143" y="395"/>
                  </a:lnTo>
                  <a:lnTo>
                    <a:pt x="145" y="373"/>
                  </a:lnTo>
                  <a:lnTo>
                    <a:pt x="148" y="350"/>
                  </a:lnTo>
                  <a:lnTo>
                    <a:pt x="150" y="328"/>
                  </a:lnTo>
                  <a:lnTo>
                    <a:pt x="150" y="307"/>
                  </a:lnTo>
                  <a:lnTo>
                    <a:pt x="150" y="296"/>
                  </a:lnTo>
                  <a:lnTo>
                    <a:pt x="150" y="288"/>
                  </a:lnTo>
                  <a:lnTo>
                    <a:pt x="150" y="270"/>
                  </a:lnTo>
                  <a:lnTo>
                    <a:pt x="150" y="255"/>
                  </a:lnTo>
                  <a:lnTo>
                    <a:pt x="148" y="241"/>
                  </a:lnTo>
                  <a:lnTo>
                    <a:pt x="147" y="236"/>
                  </a:lnTo>
                  <a:lnTo>
                    <a:pt x="146" y="229"/>
                  </a:lnTo>
                  <a:lnTo>
                    <a:pt x="145" y="224"/>
                  </a:lnTo>
                  <a:lnTo>
                    <a:pt x="144" y="218"/>
                  </a:lnTo>
                  <a:lnTo>
                    <a:pt x="142" y="213"/>
                  </a:lnTo>
                  <a:lnTo>
                    <a:pt x="141" y="208"/>
                  </a:lnTo>
                  <a:lnTo>
                    <a:pt x="139" y="203"/>
                  </a:lnTo>
                  <a:lnTo>
                    <a:pt x="138" y="199"/>
                  </a:lnTo>
                  <a:lnTo>
                    <a:pt x="135" y="196"/>
                  </a:lnTo>
                  <a:lnTo>
                    <a:pt x="134" y="192"/>
                  </a:lnTo>
                  <a:lnTo>
                    <a:pt x="131" y="189"/>
                  </a:lnTo>
                  <a:lnTo>
                    <a:pt x="129" y="187"/>
                  </a:lnTo>
                  <a:lnTo>
                    <a:pt x="127" y="184"/>
                  </a:lnTo>
                  <a:lnTo>
                    <a:pt x="124" y="182"/>
                  </a:lnTo>
                  <a:lnTo>
                    <a:pt x="117" y="179"/>
                  </a:lnTo>
                  <a:lnTo>
                    <a:pt x="112" y="175"/>
                  </a:lnTo>
                  <a:lnTo>
                    <a:pt x="104" y="172"/>
                  </a:lnTo>
                  <a:lnTo>
                    <a:pt x="95" y="170"/>
                  </a:lnTo>
                  <a:lnTo>
                    <a:pt x="86" y="168"/>
                  </a:lnTo>
                  <a:lnTo>
                    <a:pt x="76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59" y="170"/>
                  </a:lnTo>
                  <a:lnTo>
                    <a:pt x="53" y="172"/>
                  </a:lnTo>
                  <a:lnTo>
                    <a:pt x="47" y="173"/>
                  </a:lnTo>
                  <a:lnTo>
                    <a:pt x="42" y="177"/>
                  </a:lnTo>
                  <a:lnTo>
                    <a:pt x="36" y="179"/>
                  </a:lnTo>
                  <a:lnTo>
                    <a:pt x="31" y="182"/>
                  </a:lnTo>
                  <a:lnTo>
                    <a:pt x="12" y="196"/>
                  </a:lnTo>
                  <a:lnTo>
                    <a:pt x="6" y="199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114" y="28"/>
                  </a:lnTo>
                  <a:lnTo>
                    <a:pt x="126" y="21"/>
                  </a:lnTo>
                  <a:lnTo>
                    <a:pt x="137" y="16"/>
                  </a:lnTo>
                  <a:lnTo>
                    <a:pt x="149" y="11"/>
                  </a:lnTo>
                  <a:lnTo>
                    <a:pt x="160" y="7"/>
                  </a:lnTo>
                  <a:lnTo>
                    <a:pt x="171" y="4"/>
                  </a:lnTo>
                  <a:lnTo>
                    <a:pt x="182" y="2"/>
                  </a:lnTo>
                  <a:lnTo>
                    <a:pt x="193" y="0"/>
                  </a:lnTo>
                  <a:lnTo>
                    <a:pt x="204" y="0"/>
                  </a:lnTo>
                  <a:lnTo>
                    <a:pt x="223" y="2"/>
                  </a:lnTo>
                  <a:lnTo>
                    <a:pt x="241" y="5"/>
                  </a:lnTo>
                  <a:lnTo>
                    <a:pt x="257" y="11"/>
                  </a:lnTo>
                  <a:lnTo>
                    <a:pt x="273" y="17"/>
                  </a:lnTo>
                  <a:lnTo>
                    <a:pt x="288" y="28"/>
                  </a:lnTo>
                  <a:lnTo>
                    <a:pt x="294" y="35"/>
                  </a:lnTo>
                  <a:lnTo>
                    <a:pt x="300" y="40"/>
                  </a:lnTo>
                  <a:lnTo>
                    <a:pt x="306" y="47"/>
                  </a:lnTo>
                  <a:lnTo>
                    <a:pt x="312" y="54"/>
                  </a:lnTo>
                  <a:lnTo>
                    <a:pt x="318" y="63"/>
                  </a:lnTo>
                  <a:lnTo>
                    <a:pt x="323" y="71"/>
                  </a:lnTo>
                  <a:lnTo>
                    <a:pt x="333" y="90"/>
                  </a:lnTo>
                  <a:lnTo>
                    <a:pt x="338" y="99"/>
                  </a:lnTo>
                  <a:lnTo>
                    <a:pt x="342" y="109"/>
                  </a:lnTo>
                  <a:lnTo>
                    <a:pt x="345" y="120"/>
                  </a:lnTo>
                  <a:lnTo>
                    <a:pt x="349" y="130"/>
                  </a:lnTo>
                  <a:lnTo>
                    <a:pt x="352" y="140"/>
                  </a:lnTo>
                  <a:lnTo>
                    <a:pt x="354" y="153"/>
                  </a:lnTo>
                  <a:lnTo>
                    <a:pt x="357" y="163"/>
                  </a:lnTo>
                  <a:lnTo>
                    <a:pt x="359" y="175"/>
                  </a:lnTo>
                  <a:lnTo>
                    <a:pt x="360" y="186"/>
                  </a:lnTo>
                  <a:lnTo>
                    <a:pt x="362" y="198"/>
                  </a:lnTo>
                  <a:lnTo>
                    <a:pt x="363" y="210"/>
                  </a:lnTo>
                  <a:lnTo>
                    <a:pt x="364" y="222"/>
                  </a:lnTo>
                  <a:lnTo>
                    <a:pt x="365" y="236"/>
                  </a:lnTo>
                  <a:lnTo>
                    <a:pt x="365" y="248"/>
                  </a:lnTo>
                  <a:lnTo>
                    <a:pt x="365" y="260"/>
                  </a:lnTo>
                  <a:lnTo>
                    <a:pt x="364" y="277"/>
                  </a:lnTo>
                  <a:lnTo>
                    <a:pt x="362" y="326"/>
                  </a:lnTo>
                  <a:lnTo>
                    <a:pt x="360" y="354"/>
                  </a:lnTo>
                  <a:lnTo>
                    <a:pt x="359" y="381"/>
                  </a:lnTo>
                  <a:lnTo>
                    <a:pt x="355" y="407"/>
                  </a:lnTo>
                  <a:lnTo>
                    <a:pt x="352" y="433"/>
                  </a:lnTo>
                  <a:lnTo>
                    <a:pt x="305" y="750"/>
                  </a:lnTo>
                  <a:lnTo>
                    <a:pt x="301" y="771"/>
                  </a:lnTo>
                  <a:lnTo>
                    <a:pt x="299" y="794"/>
                  </a:lnTo>
                  <a:lnTo>
                    <a:pt x="296" y="818"/>
                  </a:lnTo>
                  <a:lnTo>
                    <a:pt x="294" y="840"/>
                  </a:lnTo>
                  <a:lnTo>
                    <a:pt x="291" y="882"/>
                  </a:lnTo>
                  <a:lnTo>
                    <a:pt x="290" y="898"/>
                  </a:lnTo>
                  <a:lnTo>
                    <a:pt x="290" y="904"/>
                  </a:lnTo>
                  <a:lnTo>
                    <a:pt x="290" y="911"/>
                  </a:lnTo>
                  <a:lnTo>
                    <a:pt x="290" y="927"/>
                  </a:lnTo>
                  <a:lnTo>
                    <a:pt x="291" y="943"/>
                  </a:lnTo>
                  <a:lnTo>
                    <a:pt x="293" y="955"/>
                  </a:lnTo>
                  <a:lnTo>
                    <a:pt x="294" y="962"/>
                  </a:lnTo>
                  <a:lnTo>
                    <a:pt x="294" y="969"/>
                  </a:lnTo>
                  <a:lnTo>
                    <a:pt x="296" y="974"/>
                  </a:lnTo>
                  <a:lnTo>
                    <a:pt x="297" y="979"/>
                  </a:lnTo>
                  <a:lnTo>
                    <a:pt x="299" y="984"/>
                  </a:lnTo>
                  <a:lnTo>
                    <a:pt x="300" y="989"/>
                  </a:lnTo>
                  <a:lnTo>
                    <a:pt x="302" y="993"/>
                  </a:lnTo>
                  <a:lnTo>
                    <a:pt x="304" y="998"/>
                  </a:lnTo>
                  <a:lnTo>
                    <a:pt x="305" y="1002"/>
                  </a:lnTo>
                  <a:lnTo>
                    <a:pt x="308" y="1005"/>
                  </a:lnTo>
                  <a:lnTo>
                    <a:pt x="310" y="1008"/>
                  </a:lnTo>
                  <a:lnTo>
                    <a:pt x="312" y="1012"/>
                  </a:lnTo>
                  <a:lnTo>
                    <a:pt x="315" y="1015"/>
                  </a:lnTo>
                  <a:lnTo>
                    <a:pt x="317" y="1017"/>
                  </a:lnTo>
                  <a:lnTo>
                    <a:pt x="320" y="1021"/>
                  </a:lnTo>
                  <a:lnTo>
                    <a:pt x="322" y="1022"/>
                  </a:lnTo>
                  <a:lnTo>
                    <a:pt x="329" y="1026"/>
                  </a:lnTo>
                  <a:lnTo>
                    <a:pt x="335" y="1029"/>
                  </a:lnTo>
                  <a:lnTo>
                    <a:pt x="342" y="1031"/>
                  </a:lnTo>
                  <a:lnTo>
                    <a:pt x="349" y="1033"/>
                  </a:lnTo>
                  <a:lnTo>
                    <a:pt x="357" y="1033"/>
                  </a:lnTo>
                  <a:lnTo>
                    <a:pt x="362" y="1033"/>
                  </a:lnTo>
                  <a:lnTo>
                    <a:pt x="367" y="1031"/>
                  </a:lnTo>
                  <a:lnTo>
                    <a:pt x="372" y="1027"/>
                  </a:lnTo>
                  <a:lnTo>
                    <a:pt x="378" y="1026"/>
                  </a:lnTo>
                  <a:lnTo>
                    <a:pt x="384" y="1021"/>
                  </a:lnTo>
                  <a:lnTo>
                    <a:pt x="391" y="1015"/>
                  </a:lnTo>
                  <a:lnTo>
                    <a:pt x="398" y="1008"/>
                  </a:lnTo>
                  <a:lnTo>
                    <a:pt x="404" y="1002"/>
                  </a:lnTo>
                  <a:lnTo>
                    <a:pt x="412" y="993"/>
                  </a:lnTo>
                  <a:lnTo>
                    <a:pt x="421" y="982"/>
                  </a:lnTo>
                  <a:lnTo>
                    <a:pt x="439" y="956"/>
                  </a:lnTo>
                  <a:lnTo>
                    <a:pt x="462" y="922"/>
                  </a:lnTo>
                  <a:lnTo>
                    <a:pt x="487" y="882"/>
                  </a:lnTo>
                  <a:lnTo>
                    <a:pt x="593" y="21"/>
                  </a:lnTo>
                  <a:lnTo>
                    <a:pt x="799" y="4"/>
                  </a:lnTo>
                  <a:lnTo>
                    <a:pt x="807" y="21"/>
                  </a:lnTo>
                  <a:lnTo>
                    <a:pt x="716" y="750"/>
                  </a:lnTo>
                  <a:lnTo>
                    <a:pt x="710" y="799"/>
                  </a:lnTo>
                  <a:lnTo>
                    <a:pt x="708" y="821"/>
                  </a:lnTo>
                  <a:lnTo>
                    <a:pt x="706" y="844"/>
                  </a:lnTo>
                  <a:lnTo>
                    <a:pt x="704" y="865"/>
                  </a:lnTo>
                  <a:lnTo>
                    <a:pt x="703" y="884"/>
                  </a:lnTo>
                  <a:lnTo>
                    <a:pt x="702" y="899"/>
                  </a:lnTo>
                  <a:lnTo>
                    <a:pt x="702" y="911"/>
                  </a:lnTo>
                  <a:lnTo>
                    <a:pt x="702" y="920"/>
                  </a:lnTo>
                  <a:lnTo>
                    <a:pt x="703" y="929"/>
                  </a:lnTo>
                  <a:lnTo>
                    <a:pt x="703" y="937"/>
                  </a:lnTo>
                  <a:lnTo>
                    <a:pt x="704" y="946"/>
                  </a:lnTo>
                  <a:lnTo>
                    <a:pt x="705" y="953"/>
                  </a:lnTo>
                  <a:lnTo>
                    <a:pt x="707" y="960"/>
                  </a:lnTo>
                  <a:lnTo>
                    <a:pt x="708" y="967"/>
                  </a:lnTo>
                  <a:lnTo>
                    <a:pt x="709" y="974"/>
                  </a:lnTo>
                  <a:lnTo>
                    <a:pt x="711" y="981"/>
                  </a:lnTo>
                  <a:lnTo>
                    <a:pt x="713" y="986"/>
                  </a:lnTo>
                  <a:lnTo>
                    <a:pt x="714" y="991"/>
                  </a:lnTo>
                  <a:lnTo>
                    <a:pt x="717" y="996"/>
                  </a:lnTo>
                  <a:lnTo>
                    <a:pt x="719" y="1000"/>
                  </a:lnTo>
                  <a:lnTo>
                    <a:pt x="721" y="1005"/>
                  </a:lnTo>
                  <a:lnTo>
                    <a:pt x="724" y="1008"/>
                  </a:lnTo>
                  <a:lnTo>
                    <a:pt x="726" y="1012"/>
                  </a:lnTo>
                  <a:lnTo>
                    <a:pt x="729" y="1015"/>
                  </a:lnTo>
                  <a:lnTo>
                    <a:pt x="731" y="1019"/>
                  </a:lnTo>
                  <a:lnTo>
                    <a:pt x="734" y="1021"/>
                  </a:lnTo>
                  <a:lnTo>
                    <a:pt x="737" y="1024"/>
                  </a:lnTo>
                  <a:lnTo>
                    <a:pt x="740" y="1026"/>
                  </a:lnTo>
                  <a:lnTo>
                    <a:pt x="742" y="1027"/>
                  </a:lnTo>
                  <a:lnTo>
                    <a:pt x="746" y="1027"/>
                  </a:lnTo>
                  <a:lnTo>
                    <a:pt x="748" y="1029"/>
                  </a:lnTo>
                  <a:lnTo>
                    <a:pt x="759" y="1031"/>
                  </a:lnTo>
                  <a:lnTo>
                    <a:pt x="764" y="1033"/>
                  </a:lnTo>
                  <a:lnTo>
                    <a:pt x="770" y="1033"/>
                  </a:lnTo>
                  <a:lnTo>
                    <a:pt x="776" y="1033"/>
                  </a:lnTo>
                  <a:lnTo>
                    <a:pt x="782" y="1031"/>
                  </a:lnTo>
                  <a:lnTo>
                    <a:pt x="788" y="1027"/>
                  </a:lnTo>
                  <a:lnTo>
                    <a:pt x="795" y="1026"/>
                  </a:lnTo>
                  <a:lnTo>
                    <a:pt x="801" y="1021"/>
                  </a:lnTo>
                  <a:lnTo>
                    <a:pt x="807" y="1015"/>
                  </a:lnTo>
                  <a:lnTo>
                    <a:pt x="814" y="1008"/>
                  </a:lnTo>
                  <a:lnTo>
                    <a:pt x="821" y="1002"/>
                  </a:lnTo>
                  <a:lnTo>
                    <a:pt x="829" y="993"/>
                  </a:lnTo>
                  <a:lnTo>
                    <a:pt x="837" y="982"/>
                  </a:lnTo>
                  <a:lnTo>
                    <a:pt x="856" y="956"/>
                  </a:lnTo>
                  <a:lnTo>
                    <a:pt x="878" y="922"/>
                  </a:lnTo>
                  <a:lnTo>
                    <a:pt x="903" y="882"/>
                  </a:lnTo>
                  <a:lnTo>
                    <a:pt x="1010" y="21"/>
                  </a:lnTo>
                  <a:lnTo>
                    <a:pt x="1215" y="4"/>
                  </a:lnTo>
                  <a:lnTo>
                    <a:pt x="1223" y="21"/>
                  </a:lnTo>
                  <a:lnTo>
                    <a:pt x="1132" y="754"/>
                  </a:lnTo>
                  <a:lnTo>
                    <a:pt x="1129" y="773"/>
                  </a:lnTo>
                  <a:lnTo>
                    <a:pt x="1127" y="794"/>
                  </a:lnTo>
                  <a:lnTo>
                    <a:pt x="1124" y="818"/>
                  </a:lnTo>
                  <a:lnTo>
                    <a:pt x="1121" y="844"/>
                  </a:lnTo>
                  <a:lnTo>
                    <a:pt x="1119" y="870"/>
                  </a:lnTo>
                  <a:lnTo>
                    <a:pt x="1117" y="894"/>
                  </a:lnTo>
                  <a:lnTo>
                    <a:pt x="1116" y="913"/>
                  </a:lnTo>
                  <a:lnTo>
                    <a:pt x="1116" y="922"/>
                  </a:lnTo>
                  <a:lnTo>
                    <a:pt x="1116" y="930"/>
                  </a:lnTo>
                  <a:lnTo>
                    <a:pt x="1116" y="946"/>
                  </a:lnTo>
                  <a:lnTo>
                    <a:pt x="1116" y="962"/>
                  </a:lnTo>
                  <a:lnTo>
                    <a:pt x="1117" y="976"/>
                  </a:lnTo>
                  <a:lnTo>
                    <a:pt x="1119" y="988"/>
                  </a:lnTo>
                  <a:lnTo>
                    <a:pt x="1121" y="993"/>
                  </a:lnTo>
                  <a:lnTo>
                    <a:pt x="1121" y="998"/>
                  </a:lnTo>
                  <a:lnTo>
                    <a:pt x="1122" y="1003"/>
                  </a:lnTo>
                  <a:lnTo>
                    <a:pt x="1124" y="1008"/>
                  </a:lnTo>
                  <a:lnTo>
                    <a:pt x="1125" y="1014"/>
                  </a:lnTo>
                  <a:lnTo>
                    <a:pt x="1127" y="1017"/>
                  </a:lnTo>
                  <a:lnTo>
                    <a:pt x="1128" y="1021"/>
                  </a:lnTo>
                  <a:lnTo>
                    <a:pt x="1130" y="1024"/>
                  </a:lnTo>
                  <a:lnTo>
                    <a:pt x="1132" y="1027"/>
                  </a:lnTo>
                  <a:lnTo>
                    <a:pt x="1134" y="1031"/>
                  </a:lnTo>
                  <a:lnTo>
                    <a:pt x="1136" y="1033"/>
                  </a:lnTo>
                  <a:lnTo>
                    <a:pt x="1138" y="1036"/>
                  </a:lnTo>
                  <a:lnTo>
                    <a:pt x="1142" y="1038"/>
                  </a:lnTo>
                  <a:lnTo>
                    <a:pt x="1144" y="1040"/>
                  </a:lnTo>
                  <a:lnTo>
                    <a:pt x="1151" y="1043"/>
                  </a:lnTo>
                  <a:lnTo>
                    <a:pt x="1159" y="1047"/>
                  </a:lnTo>
                  <a:lnTo>
                    <a:pt x="1166" y="1048"/>
                  </a:lnTo>
                  <a:lnTo>
                    <a:pt x="1176" y="1050"/>
                  </a:lnTo>
                  <a:lnTo>
                    <a:pt x="1186" y="1050"/>
                  </a:lnTo>
                  <a:lnTo>
                    <a:pt x="1191" y="1050"/>
                  </a:lnTo>
                  <a:lnTo>
                    <a:pt x="1196" y="1050"/>
                  </a:lnTo>
                  <a:lnTo>
                    <a:pt x="1201" y="1048"/>
                  </a:lnTo>
                  <a:lnTo>
                    <a:pt x="1207" y="1047"/>
                  </a:lnTo>
                  <a:lnTo>
                    <a:pt x="1212" y="1045"/>
                  </a:lnTo>
                  <a:lnTo>
                    <a:pt x="1218" y="1043"/>
                  </a:lnTo>
                  <a:lnTo>
                    <a:pt x="1224" y="1041"/>
                  </a:lnTo>
                  <a:lnTo>
                    <a:pt x="1230" y="1038"/>
                  </a:lnTo>
                  <a:lnTo>
                    <a:pt x="1251" y="1026"/>
                  </a:lnTo>
                  <a:lnTo>
                    <a:pt x="1259" y="1021"/>
                  </a:lnTo>
                  <a:lnTo>
                    <a:pt x="1262" y="1019"/>
                  </a:lnTo>
                  <a:lnTo>
                    <a:pt x="1265" y="1015"/>
                  </a:lnTo>
                  <a:lnTo>
                    <a:pt x="1251" y="1123"/>
                  </a:lnTo>
                  <a:lnTo>
                    <a:pt x="1149" y="1194"/>
                  </a:lnTo>
                  <a:lnTo>
                    <a:pt x="1139" y="1199"/>
                  </a:lnTo>
                  <a:lnTo>
                    <a:pt x="1129" y="1204"/>
                  </a:lnTo>
                  <a:lnTo>
                    <a:pt x="1118" y="1208"/>
                  </a:lnTo>
                  <a:lnTo>
                    <a:pt x="1107" y="1211"/>
                  </a:lnTo>
                  <a:lnTo>
                    <a:pt x="1096" y="1215"/>
                  </a:lnTo>
                  <a:lnTo>
                    <a:pt x="1084" y="1216"/>
                  </a:lnTo>
                  <a:lnTo>
                    <a:pt x="1072" y="1218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11560" y="2313000"/>
              <a:ext cx="239400" cy="450720"/>
            </a:xfrm>
            <a:custGeom>
              <a:avLst/>
              <a:gdLst/>
              <a:ahLst/>
              <a:rect l="l" t="t" r="r" b="b"/>
              <a:pathLst>
                <a:path w="668" h="1252">
                  <a:moveTo>
                    <a:pt x="309" y="1251"/>
                  </a:moveTo>
                  <a:lnTo>
                    <a:pt x="272" y="1249"/>
                  </a:lnTo>
                  <a:lnTo>
                    <a:pt x="254" y="1246"/>
                  </a:lnTo>
                  <a:lnTo>
                    <a:pt x="237" y="1242"/>
                  </a:lnTo>
                  <a:lnTo>
                    <a:pt x="220" y="1237"/>
                  </a:lnTo>
                  <a:lnTo>
                    <a:pt x="204" y="1230"/>
                  </a:lnTo>
                  <a:lnTo>
                    <a:pt x="187" y="1222"/>
                  </a:lnTo>
                  <a:lnTo>
                    <a:pt x="172" y="1213"/>
                  </a:lnTo>
                  <a:lnTo>
                    <a:pt x="158" y="1203"/>
                  </a:lnTo>
                  <a:lnTo>
                    <a:pt x="144" y="1192"/>
                  </a:lnTo>
                  <a:lnTo>
                    <a:pt x="132" y="1180"/>
                  </a:lnTo>
                  <a:lnTo>
                    <a:pt x="119" y="1166"/>
                  </a:lnTo>
                  <a:lnTo>
                    <a:pt x="107" y="1152"/>
                  </a:lnTo>
                  <a:lnTo>
                    <a:pt x="96" y="1137"/>
                  </a:lnTo>
                  <a:lnTo>
                    <a:pt x="86" y="1121"/>
                  </a:lnTo>
                  <a:lnTo>
                    <a:pt x="76" y="1104"/>
                  </a:lnTo>
                  <a:lnTo>
                    <a:pt x="66" y="1087"/>
                  </a:lnTo>
                  <a:lnTo>
                    <a:pt x="58" y="1069"/>
                  </a:lnTo>
                  <a:lnTo>
                    <a:pt x="50" y="1050"/>
                  </a:lnTo>
                  <a:lnTo>
                    <a:pt x="43" y="1029"/>
                  </a:lnTo>
                  <a:lnTo>
                    <a:pt x="36" y="1009"/>
                  </a:lnTo>
                  <a:lnTo>
                    <a:pt x="30" y="988"/>
                  </a:lnTo>
                  <a:lnTo>
                    <a:pt x="24" y="965"/>
                  </a:lnTo>
                  <a:lnTo>
                    <a:pt x="19" y="943"/>
                  </a:lnTo>
                  <a:lnTo>
                    <a:pt x="15" y="920"/>
                  </a:lnTo>
                  <a:lnTo>
                    <a:pt x="11" y="896"/>
                  </a:lnTo>
                  <a:lnTo>
                    <a:pt x="7" y="872"/>
                  </a:lnTo>
                  <a:lnTo>
                    <a:pt x="5" y="847"/>
                  </a:lnTo>
                  <a:lnTo>
                    <a:pt x="3" y="821"/>
                  </a:lnTo>
                  <a:lnTo>
                    <a:pt x="1" y="795"/>
                  </a:lnTo>
                  <a:lnTo>
                    <a:pt x="0" y="768"/>
                  </a:lnTo>
                  <a:lnTo>
                    <a:pt x="0" y="740"/>
                  </a:lnTo>
                  <a:lnTo>
                    <a:pt x="1" y="705"/>
                  </a:lnTo>
                  <a:lnTo>
                    <a:pt x="2" y="671"/>
                  </a:lnTo>
                  <a:lnTo>
                    <a:pt x="5" y="636"/>
                  </a:lnTo>
                  <a:lnTo>
                    <a:pt x="7" y="601"/>
                  </a:lnTo>
                  <a:lnTo>
                    <a:pt x="11" y="567"/>
                  </a:lnTo>
                  <a:lnTo>
                    <a:pt x="16" y="534"/>
                  </a:lnTo>
                  <a:lnTo>
                    <a:pt x="22" y="499"/>
                  </a:lnTo>
                  <a:lnTo>
                    <a:pt x="29" y="466"/>
                  </a:lnTo>
                  <a:lnTo>
                    <a:pt x="37" y="433"/>
                  </a:lnTo>
                  <a:lnTo>
                    <a:pt x="45" y="402"/>
                  </a:lnTo>
                  <a:lnTo>
                    <a:pt x="55" y="371"/>
                  </a:lnTo>
                  <a:lnTo>
                    <a:pt x="65" y="340"/>
                  </a:lnTo>
                  <a:lnTo>
                    <a:pt x="76" y="310"/>
                  </a:lnTo>
                  <a:lnTo>
                    <a:pt x="88" y="283"/>
                  </a:lnTo>
                  <a:lnTo>
                    <a:pt x="100" y="255"/>
                  </a:lnTo>
                  <a:lnTo>
                    <a:pt x="114" y="229"/>
                  </a:lnTo>
                  <a:lnTo>
                    <a:pt x="127" y="205"/>
                  </a:lnTo>
                  <a:lnTo>
                    <a:pt x="143" y="180"/>
                  </a:lnTo>
                  <a:lnTo>
                    <a:pt x="158" y="158"/>
                  </a:lnTo>
                  <a:lnTo>
                    <a:pt x="174" y="137"/>
                  </a:lnTo>
                  <a:lnTo>
                    <a:pt x="192" y="116"/>
                  </a:lnTo>
                  <a:lnTo>
                    <a:pt x="209" y="97"/>
                  </a:lnTo>
                  <a:lnTo>
                    <a:pt x="229" y="80"/>
                  </a:lnTo>
                  <a:lnTo>
                    <a:pt x="248" y="64"/>
                  </a:lnTo>
                  <a:lnTo>
                    <a:pt x="270" y="49"/>
                  </a:lnTo>
                  <a:lnTo>
                    <a:pt x="291" y="37"/>
                  </a:lnTo>
                  <a:lnTo>
                    <a:pt x="313" y="25"/>
                  </a:lnTo>
                  <a:lnTo>
                    <a:pt x="335" y="16"/>
                  </a:lnTo>
                  <a:lnTo>
                    <a:pt x="358" y="9"/>
                  </a:lnTo>
                  <a:lnTo>
                    <a:pt x="381" y="4"/>
                  </a:lnTo>
                  <a:lnTo>
                    <a:pt x="405" y="2"/>
                  </a:lnTo>
                  <a:lnTo>
                    <a:pt x="430" y="0"/>
                  </a:lnTo>
                  <a:lnTo>
                    <a:pt x="458" y="2"/>
                  </a:lnTo>
                  <a:lnTo>
                    <a:pt x="484" y="4"/>
                  </a:lnTo>
                  <a:lnTo>
                    <a:pt x="508" y="9"/>
                  </a:lnTo>
                  <a:lnTo>
                    <a:pt x="532" y="18"/>
                  </a:lnTo>
                  <a:lnTo>
                    <a:pt x="553" y="26"/>
                  </a:lnTo>
                  <a:lnTo>
                    <a:pt x="572" y="38"/>
                  </a:lnTo>
                  <a:lnTo>
                    <a:pt x="590" y="52"/>
                  </a:lnTo>
                  <a:lnTo>
                    <a:pt x="606" y="68"/>
                  </a:lnTo>
                  <a:lnTo>
                    <a:pt x="613" y="77"/>
                  </a:lnTo>
                  <a:lnTo>
                    <a:pt x="620" y="85"/>
                  </a:lnTo>
                  <a:lnTo>
                    <a:pt x="626" y="96"/>
                  </a:lnTo>
                  <a:lnTo>
                    <a:pt x="633" y="106"/>
                  </a:lnTo>
                  <a:lnTo>
                    <a:pt x="638" y="116"/>
                  </a:lnTo>
                  <a:lnTo>
                    <a:pt x="643" y="129"/>
                  </a:lnTo>
                  <a:lnTo>
                    <a:pt x="647" y="141"/>
                  </a:lnTo>
                  <a:lnTo>
                    <a:pt x="651" y="153"/>
                  </a:lnTo>
                  <a:lnTo>
                    <a:pt x="655" y="167"/>
                  </a:lnTo>
                  <a:lnTo>
                    <a:pt x="658" y="180"/>
                  </a:lnTo>
                  <a:lnTo>
                    <a:pt x="661" y="194"/>
                  </a:lnTo>
                  <a:lnTo>
                    <a:pt x="663" y="208"/>
                  </a:lnTo>
                  <a:lnTo>
                    <a:pt x="664" y="224"/>
                  </a:lnTo>
                  <a:lnTo>
                    <a:pt x="666" y="239"/>
                  </a:lnTo>
                  <a:lnTo>
                    <a:pt x="667" y="255"/>
                  </a:lnTo>
                  <a:lnTo>
                    <a:pt x="667" y="272"/>
                  </a:lnTo>
                  <a:lnTo>
                    <a:pt x="667" y="288"/>
                  </a:lnTo>
                  <a:lnTo>
                    <a:pt x="666" y="303"/>
                  </a:lnTo>
                  <a:lnTo>
                    <a:pt x="665" y="319"/>
                  </a:lnTo>
                  <a:lnTo>
                    <a:pt x="663" y="335"/>
                  </a:lnTo>
                  <a:lnTo>
                    <a:pt x="662" y="350"/>
                  </a:lnTo>
                  <a:lnTo>
                    <a:pt x="659" y="364"/>
                  </a:lnTo>
                  <a:lnTo>
                    <a:pt x="656" y="380"/>
                  </a:lnTo>
                  <a:lnTo>
                    <a:pt x="653" y="394"/>
                  </a:lnTo>
                  <a:lnTo>
                    <a:pt x="650" y="407"/>
                  </a:lnTo>
                  <a:lnTo>
                    <a:pt x="646" y="421"/>
                  </a:lnTo>
                  <a:lnTo>
                    <a:pt x="642" y="433"/>
                  </a:lnTo>
                  <a:lnTo>
                    <a:pt x="637" y="447"/>
                  </a:lnTo>
                  <a:lnTo>
                    <a:pt x="626" y="472"/>
                  </a:lnTo>
                  <a:lnTo>
                    <a:pt x="614" y="496"/>
                  </a:lnTo>
                  <a:lnTo>
                    <a:pt x="601" y="518"/>
                  </a:lnTo>
                  <a:lnTo>
                    <a:pt x="585" y="539"/>
                  </a:lnTo>
                  <a:lnTo>
                    <a:pt x="570" y="560"/>
                  </a:lnTo>
                  <a:lnTo>
                    <a:pt x="552" y="577"/>
                  </a:lnTo>
                  <a:lnTo>
                    <a:pt x="535" y="595"/>
                  </a:lnTo>
                  <a:lnTo>
                    <a:pt x="514" y="610"/>
                  </a:lnTo>
                  <a:lnTo>
                    <a:pt x="494" y="624"/>
                  </a:lnTo>
                  <a:lnTo>
                    <a:pt x="472" y="636"/>
                  </a:lnTo>
                  <a:lnTo>
                    <a:pt x="406" y="669"/>
                  </a:lnTo>
                  <a:lnTo>
                    <a:pt x="376" y="683"/>
                  </a:lnTo>
                  <a:lnTo>
                    <a:pt x="350" y="692"/>
                  </a:lnTo>
                  <a:lnTo>
                    <a:pt x="324" y="700"/>
                  </a:lnTo>
                  <a:lnTo>
                    <a:pt x="294" y="707"/>
                  </a:lnTo>
                  <a:lnTo>
                    <a:pt x="227" y="723"/>
                  </a:lnTo>
                  <a:lnTo>
                    <a:pt x="228" y="750"/>
                  </a:lnTo>
                  <a:lnTo>
                    <a:pt x="230" y="778"/>
                  </a:lnTo>
                  <a:lnTo>
                    <a:pt x="232" y="809"/>
                  </a:lnTo>
                  <a:lnTo>
                    <a:pt x="235" y="841"/>
                  </a:lnTo>
                  <a:lnTo>
                    <a:pt x="237" y="856"/>
                  </a:lnTo>
                  <a:lnTo>
                    <a:pt x="238" y="872"/>
                  </a:lnTo>
                  <a:lnTo>
                    <a:pt x="241" y="887"/>
                  </a:lnTo>
                  <a:lnTo>
                    <a:pt x="243" y="901"/>
                  </a:lnTo>
                  <a:lnTo>
                    <a:pt x="246" y="915"/>
                  </a:lnTo>
                  <a:lnTo>
                    <a:pt x="248" y="929"/>
                  </a:lnTo>
                  <a:lnTo>
                    <a:pt x="251" y="941"/>
                  </a:lnTo>
                  <a:lnTo>
                    <a:pt x="254" y="953"/>
                  </a:lnTo>
                  <a:lnTo>
                    <a:pt x="259" y="965"/>
                  </a:lnTo>
                  <a:lnTo>
                    <a:pt x="263" y="977"/>
                  </a:lnTo>
                  <a:lnTo>
                    <a:pt x="268" y="990"/>
                  </a:lnTo>
                  <a:lnTo>
                    <a:pt x="273" y="1002"/>
                  </a:lnTo>
                  <a:lnTo>
                    <a:pt x="279" y="1010"/>
                  </a:lnTo>
                  <a:lnTo>
                    <a:pt x="285" y="1021"/>
                  </a:lnTo>
                  <a:lnTo>
                    <a:pt x="292" y="1029"/>
                  </a:lnTo>
                  <a:lnTo>
                    <a:pt x="298" y="1038"/>
                  </a:lnTo>
                  <a:lnTo>
                    <a:pt x="306" y="1045"/>
                  </a:lnTo>
                  <a:lnTo>
                    <a:pt x="314" y="1052"/>
                  </a:lnTo>
                  <a:lnTo>
                    <a:pt x="322" y="1057"/>
                  </a:lnTo>
                  <a:lnTo>
                    <a:pt x="331" y="1062"/>
                  </a:lnTo>
                  <a:lnTo>
                    <a:pt x="340" y="1064"/>
                  </a:lnTo>
                  <a:lnTo>
                    <a:pt x="350" y="1067"/>
                  </a:lnTo>
                  <a:lnTo>
                    <a:pt x="360" y="1069"/>
                  </a:lnTo>
                  <a:lnTo>
                    <a:pt x="371" y="1069"/>
                  </a:lnTo>
                  <a:lnTo>
                    <a:pt x="390" y="1069"/>
                  </a:lnTo>
                  <a:lnTo>
                    <a:pt x="408" y="1066"/>
                  </a:lnTo>
                  <a:lnTo>
                    <a:pt x="425" y="1062"/>
                  </a:lnTo>
                  <a:lnTo>
                    <a:pt x="441" y="1055"/>
                  </a:lnTo>
                  <a:lnTo>
                    <a:pt x="458" y="1048"/>
                  </a:lnTo>
                  <a:lnTo>
                    <a:pt x="473" y="1040"/>
                  </a:lnTo>
                  <a:lnTo>
                    <a:pt x="487" y="1028"/>
                  </a:lnTo>
                  <a:lnTo>
                    <a:pt x="502" y="1016"/>
                  </a:lnTo>
                  <a:lnTo>
                    <a:pt x="515" y="1002"/>
                  </a:lnTo>
                  <a:lnTo>
                    <a:pt x="528" y="984"/>
                  </a:lnTo>
                  <a:lnTo>
                    <a:pt x="541" y="965"/>
                  </a:lnTo>
                  <a:lnTo>
                    <a:pt x="554" y="944"/>
                  </a:lnTo>
                  <a:lnTo>
                    <a:pt x="566" y="922"/>
                  </a:lnTo>
                  <a:lnTo>
                    <a:pt x="579" y="898"/>
                  </a:lnTo>
                  <a:lnTo>
                    <a:pt x="591" y="872"/>
                  </a:lnTo>
                  <a:lnTo>
                    <a:pt x="603" y="842"/>
                  </a:lnTo>
                  <a:lnTo>
                    <a:pt x="651" y="915"/>
                  </a:lnTo>
                  <a:lnTo>
                    <a:pt x="635" y="953"/>
                  </a:lnTo>
                  <a:lnTo>
                    <a:pt x="619" y="988"/>
                  </a:lnTo>
                  <a:lnTo>
                    <a:pt x="602" y="1021"/>
                  </a:lnTo>
                  <a:lnTo>
                    <a:pt x="584" y="1054"/>
                  </a:lnTo>
                  <a:lnTo>
                    <a:pt x="565" y="1083"/>
                  </a:lnTo>
                  <a:lnTo>
                    <a:pt x="545" y="1111"/>
                  </a:lnTo>
                  <a:lnTo>
                    <a:pt x="523" y="1135"/>
                  </a:lnTo>
                  <a:lnTo>
                    <a:pt x="501" y="1159"/>
                  </a:lnTo>
                  <a:lnTo>
                    <a:pt x="478" y="1180"/>
                  </a:lnTo>
                  <a:lnTo>
                    <a:pt x="455" y="1199"/>
                  </a:lnTo>
                  <a:lnTo>
                    <a:pt x="431" y="1215"/>
                  </a:lnTo>
                  <a:lnTo>
                    <a:pt x="408" y="1229"/>
                  </a:lnTo>
                  <a:lnTo>
                    <a:pt x="384" y="1237"/>
                  </a:lnTo>
                  <a:lnTo>
                    <a:pt x="359" y="1246"/>
                  </a:lnTo>
                  <a:lnTo>
                    <a:pt x="334" y="1249"/>
                  </a:lnTo>
                  <a:close/>
                  <a:moveTo>
                    <a:pt x="456" y="305"/>
                  </a:moveTo>
                  <a:lnTo>
                    <a:pt x="456" y="281"/>
                  </a:lnTo>
                  <a:lnTo>
                    <a:pt x="455" y="257"/>
                  </a:lnTo>
                  <a:lnTo>
                    <a:pt x="453" y="236"/>
                  </a:lnTo>
                  <a:lnTo>
                    <a:pt x="451" y="215"/>
                  </a:lnTo>
                  <a:lnTo>
                    <a:pt x="448" y="196"/>
                  </a:lnTo>
                  <a:lnTo>
                    <a:pt x="445" y="179"/>
                  </a:lnTo>
                  <a:lnTo>
                    <a:pt x="442" y="172"/>
                  </a:lnTo>
                  <a:lnTo>
                    <a:pt x="441" y="163"/>
                  </a:lnTo>
                  <a:lnTo>
                    <a:pt x="438" y="156"/>
                  </a:lnTo>
                  <a:lnTo>
                    <a:pt x="436" y="149"/>
                  </a:lnTo>
                  <a:lnTo>
                    <a:pt x="433" y="142"/>
                  </a:lnTo>
                  <a:lnTo>
                    <a:pt x="430" y="137"/>
                  </a:lnTo>
                  <a:lnTo>
                    <a:pt x="427" y="130"/>
                  </a:lnTo>
                  <a:lnTo>
                    <a:pt x="425" y="125"/>
                  </a:lnTo>
                  <a:lnTo>
                    <a:pt x="421" y="122"/>
                  </a:lnTo>
                  <a:lnTo>
                    <a:pt x="419" y="116"/>
                  </a:lnTo>
                  <a:lnTo>
                    <a:pt x="415" y="113"/>
                  </a:lnTo>
                  <a:lnTo>
                    <a:pt x="412" y="109"/>
                  </a:lnTo>
                  <a:lnTo>
                    <a:pt x="408" y="106"/>
                  </a:lnTo>
                  <a:lnTo>
                    <a:pt x="405" y="103"/>
                  </a:lnTo>
                  <a:lnTo>
                    <a:pt x="401" y="101"/>
                  </a:lnTo>
                  <a:lnTo>
                    <a:pt x="397" y="99"/>
                  </a:lnTo>
                  <a:lnTo>
                    <a:pt x="393" y="97"/>
                  </a:lnTo>
                  <a:lnTo>
                    <a:pt x="389" y="96"/>
                  </a:lnTo>
                  <a:lnTo>
                    <a:pt x="381" y="96"/>
                  </a:lnTo>
                  <a:lnTo>
                    <a:pt x="375" y="96"/>
                  </a:lnTo>
                  <a:lnTo>
                    <a:pt x="368" y="97"/>
                  </a:lnTo>
                  <a:lnTo>
                    <a:pt x="362" y="101"/>
                  </a:lnTo>
                  <a:lnTo>
                    <a:pt x="356" y="104"/>
                  </a:lnTo>
                  <a:lnTo>
                    <a:pt x="349" y="109"/>
                  </a:lnTo>
                  <a:lnTo>
                    <a:pt x="343" y="116"/>
                  </a:lnTo>
                  <a:lnTo>
                    <a:pt x="337" y="125"/>
                  </a:lnTo>
                  <a:lnTo>
                    <a:pt x="331" y="134"/>
                  </a:lnTo>
                  <a:lnTo>
                    <a:pt x="325" y="142"/>
                  </a:lnTo>
                  <a:lnTo>
                    <a:pt x="320" y="154"/>
                  </a:lnTo>
                  <a:lnTo>
                    <a:pt x="309" y="180"/>
                  </a:lnTo>
                  <a:lnTo>
                    <a:pt x="297" y="210"/>
                  </a:lnTo>
                  <a:lnTo>
                    <a:pt x="286" y="245"/>
                  </a:lnTo>
                  <a:lnTo>
                    <a:pt x="275" y="283"/>
                  </a:lnTo>
                  <a:lnTo>
                    <a:pt x="265" y="324"/>
                  </a:lnTo>
                  <a:lnTo>
                    <a:pt x="257" y="369"/>
                  </a:lnTo>
                  <a:lnTo>
                    <a:pt x="249" y="414"/>
                  </a:lnTo>
                  <a:lnTo>
                    <a:pt x="243" y="463"/>
                  </a:lnTo>
                  <a:lnTo>
                    <a:pt x="237" y="515"/>
                  </a:lnTo>
                  <a:lnTo>
                    <a:pt x="232" y="569"/>
                  </a:lnTo>
                  <a:lnTo>
                    <a:pt x="229" y="624"/>
                  </a:lnTo>
                  <a:lnTo>
                    <a:pt x="305" y="603"/>
                  </a:lnTo>
                  <a:lnTo>
                    <a:pt x="323" y="596"/>
                  </a:lnTo>
                  <a:lnTo>
                    <a:pt x="339" y="589"/>
                  </a:lnTo>
                  <a:lnTo>
                    <a:pt x="353" y="581"/>
                  </a:lnTo>
                  <a:lnTo>
                    <a:pt x="358" y="577"/>
                  </a:lnTo>
                  <a:lnTo>
                    <a:pt x="364" y="572"/>
                  </a:lnTo>
                  <a:lnTo>
                    <a:pt x="376" y="562"/>
                  </a:lnTo>
                  <a:lnTo>
                    <a:pt x="387" y="551"/>
                  </a:lnTo>
                  <a:lnTo>
                    <a:pt x="397" y="539"/>
                  </a:lnTo>
                  <a:lnTo>
                    <a:pt x="406" y="527"/>
                  </a:lnTo>
                  <a:lnTo>
                    <a:pt x="414" y="513"/>
                  </a:lnTo>
                  <a:lnTo>
                    <a:pt x="422" y="499"/>
                  </a:lnTo>
                  <a:lnTo>
                    <a:pt x="429" y="485"/>
                  </a:lnTo>
                  <a:lnTo>
                    <a:pt x="435" y="470"/>
                  </a:lnTo>
                  <a:lnTo>
                    <a:pt x="440" y="454"/>
                  </a:lnTo>
                  <a:lnTo>
                    <a:pt x="444" y="437"/>
                  </a:lnTo>
                  <a:lnTo>
                    <a:pt x="447" y="418"/>
                  </a:lnTo>
                  <a:lnTo>
                    <a:pt x="451" y="399"/>
                  </a:lnTo>
                  <a:lnTo>
                    <a:pt x="453" y="376"/>
                  </a:lnTo>
                  <a:lnTo>
                    <a:pt x="454" y="354"/>
                  </a:lnTo>
                  <a:lnTo>
                    <a:pt x="456" y="33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44840" y="2073240"/>
              <a:ext cx="314280" cy="689040"/>
            </a:xfrm>
            <a:custGeom>
              <a:avLst/>
              <a:gdLst/>
              <a:ahLst/>
              <a:rect l="l" t="t" r="r" b="b"/>
              <a:pathLst>
                <a:path w="875" h="1912">
                  <a:moveTo>
                    <a:pt x="499" y="1684"/>
                  </a:moveTo>
                  <a:lnTo>
                    <a:pt x="494" y="1684"/>
                  </a:lnTo>
                  <a:lnTo>
                    <a:pt x="461" y="1739"/>
                  </a:lnTo>
                  <a:lnTo>
                    <a:pt x="444" y="1763"/>
                  </a:lnTo>
                  <a:lnTo>
                    <a:pt x="428" y="1786"/>
                  </a:lnTo>
                  <a:lnTo>
                    <a:pt x="411" y="1805"/>
                  </a:lnTo>
                  <a:lnTo>
                    <a:pt x="396" y="1824"/>
                  </a:lnTo>
                  <a:lnTo>
                    <a:pt x="380" y="1841"/>
                  </a:lnTo>
                  <a:lnTo>
                    <a:pt x="365" y="1855"/>
                  </a:lnTo>
                  <a:lnTo>
                    <a:pt x="349" y="1867"/>
                  </a:lnTo>
                  <a:lnTo>
                    <a:pt x="333" y="1879"/>
                  </a:lnTo>
                  <a:lnTo>
                    <a:pt x="316" y="1888"/>
                  </a:lnTo>
                  <a:lnTo>
                    <a:pt x="298" y="1897"/>
                  </a:lnTo>
                  <a:lnTo>
                    <a:pt x="280" y="1902"/>
                  </a:lnTo>
                  <a:lnTo>
                    <a:pt x="262" y="1907"/>
                  </a:lnTo>
                  <a:lnTo>
                    <a:pt x="242" y="1909"/>
                  </a:lnTo>
                  <a:lnTo>
                    <a:pt x="222" y="1911"/>
                  </a:lnTo>
                  <a:lnTo>
                    <a:pt x="204" y="1909"/>
                  </a:lnTo>
                  <a:lnTo>
                    <a:pt x="188" y="1905"/>
                  </a:lnTo>
                  <a:lnTo>
                    <a:pt x="172" y="1900"/>
                  </a:lnTo>
                  <a:lnTo>
                    <a:pt x="157" y="1893"/>
                  </a:lnTo>
                  <a:lnTo>
                    <a:pt x="144" y="1883"/>
                  </a:lnTo>
                  <a:lnTo>
                    <a:pt x="138" y="1876"/>
                  </a:lnTo>
                  <a:lnTo>
                    <a:pt x="132" y="1869"/>
                  </a:lnTo>
                  <a:lnTo>
                    <a:pt x="126" y="1862"/>
                  </a:lnTo>
                  <a:lnTo>
                    <a:pt x="120" y="1855"/>
                  </a:lnTo>
                  <a:lnTo>
                    <a:pt x="115" y="1847"/>
                  </a:lnTo>
                  <a:lnTo>
                    <a:pt x="110" y="1838"/>
                  </a:lnTo>
                  <a:lnTo>
                    <a:pt x="101" y="1819"/>
                  </a:lnTo>
                  <a:lnTo>
                    <a:pt x="97" y="1810"/>
                  </a:lnTo>
                  <a:lnTo>
                    <a:pt x="93" y="1800"/>
                  </a:lnTo>
                  <a:lnTo>
                    <a:pt x="90" y="1789"/>
                  </a:lnTo>
                  <a:lnTo>
                    <a:pt x="86" y="1779"/>
                  </a:lnTo>
                  <a:lnTo>
                    <a:pt x="83" y="1769"/>
                  </a:lnTo>
                  <a:lnTo>
                    <a:pt x="80" y="1758"/>
                  </a:lnTo>
                  <a:lnTo>
                    <a:pt x="79" y="1746"/>
                  </a:lnTo>
                  <a:lnTo>
                    <a:pt x="76" y="1734"/>
                  </a:lnTo>
                  <a:lnTo>
                    <a:pt x="75" y="1724"/>
                  </a:lnTo>
                  <a:lnTo>
                    <a:pt x="74" y="1711"/>
                  </a:lnTo>
                  <a:lnTo>
                    <a:pt x="73" y="1699"/>
                  </a:lnTo>
                  <a:lnTo>
                    <a:pt x="72" y="1687"/>
                  </a:lnTo>
                  <a:lnTo>
                    <a:pt x="71" y="1661"/>
                  </a:lnTo>
                  <a:lnTo>
                    <a:pt x="71" y="1642"/>
                  </a:lnTo>
                  <a:lnTo>
                    <a:pt x="72" y="1623"/>
                  </a:lnTo>
                  <a:lnTo>
                    <a:pt x="73" y="1604"/>
                  </a:lnTo>
                  <a:lnTo>
                    <a:pt x="74" y="1585"/>
                  </a:lnTo>
                  <a:lnTo>
                    <a:pt x="75" y="1575"/>
                  </a:lnTo>
                  <a:lnTo>
                    <a:pt x="75" y="1564"/>
                  </a:lnTo>
                  <a:lnTo>
                    <a:pt x="77" y="1540"/>
                  </a:lnTo>
                  <a:lnTo>
                    <a:pt x="81" y="1510"/>
                  </a:lnTo>
                  <a:lnTo>
                    <a:pt x="86" y="1478"/>
                  </a:lnTo>
                  <a:lnTo>
                    <a:pt x="135" y="1141"/>
                  </a:lnTo>
                  <a:lnTo>
                    <a:pt x="145" y="1050"/>
                  </a:lnTo>
                  <a:lnTo>
                    <a:pt x="147" y="1024"/>
                  </a:lnTo>
                  <a:lnTo>
                    <a:pt x="150" y="999"/>
                  </a:lnTo>
                  <a:lnTo>
                    <a:pt x="151" y="980"/>
                  </a:lnTo>
                  <a:lnTo>
                    <a:pt x="152" y="972"/>
                  </a:lnTo>
                  <a:lnTo>
                    <a:pt x="152" y="965"/>
                  </a:lnTo>
                  <a:lnTo>
                    <a:pt x="152" y="949"/>
                  </a:lnTo>
                  <a:lnTo>
                    <a:pt x="151" y="935"/>
                  </a:lnTo>
                  <a:lnTo>
                    <a:pt x="149" y="921"/>
                  </a:lnTo>
                  <a:lnTo>
                    <a:pt x="148" y="909"/>
                  </a:lnTo>
                  <a:lnTo>
                    <a:pt x="146" y="904"/>
                  </a:lnTo>
                  <a:lnTo>
                    <a:pt x="146" y="899"/>
                  </a:lnTo>
                  <a:lnTo>
                    <a:pt x="144" y="894"/>
                  </a:lnTo>
                  <a:lnTo>
                    <a:pt x="143" y="889"/>
                  </a:lnTo>
                  <a:lnTo>
                    <a:pt x="141" y="883"/>
                  </a:lnTo>
                  <a:lnTo>
                    <a:pt x="140" y="880"/>
                  </a:lnTo>
                  <a:lnTo>
                    <a:pt x="138" y="876"/>
                  </a:lnTo>
                  <a:lnTo>
                    <a:pt x="136" y="873"/>
                  </a:lnTo>
                  <a:lnTo>
                    <a:pt x="135" y="869"/>
                  </a:lnTo>
                  <a:lnTo>
                    <a:pt x="132" y="866"/>
                  </a:lnTo>
                  <a:lnTo>
                    <a:pt x="130" y="863"/>
                  </a:lnTo>
                  <a:lnTo>
                    <a:pt x="128" y="861"/>
                  </a:lnTo>
                  <a:lnTo>
                    <a:pt x="124" y="857"/>
                  </a:lnTo>
                  <a:lnTo>
                    <a:pt x="122" y="856"/>
                  </a:lnTo>
                  <a:lnTo>
                    <a:pt x="115" y="852"/>
                  </a:lnTo>
                  <a:lnTo>
                    <a:pt x="108" y="849"/>
                  </a:lnTo>
                  <a:lnTo>
                    <a:pt x="99" y="847"/>
                  </a:lnTo>
                  <a:lnTo>
                    <a:pt x="90" y="845"/>
                  </a:lnTo>
                  <a:lnTo>
                    <a:pt x="80" y="845"/>
                  </a:lnTo>
                  <a:lnTo>
                    <a:pt x="75" y="845"/>
                  </a:lnTo>
                  <a:lnTo>
                    <a:pt x="69" y="845"/>
                  </a:lnTo>
                  <a:lnTo>
                    <a:pt x="64" y="847"/>
                  </a:lnTo>
                  <a:lnTo>
                    <a:pt x="58" y="849"/>
                  </a:lnTo>
                  <a:lnTo>
                    <a:pt x="53" y="850"/>
                  </a:lnTo>
                  <a:lnTo>
                    <a:pt x="48" y="852"/>
                  </a:lnTo>
                  <a:lnTo>
                    <a:pt x="42" y="854"/>
                  </a:lnTo>
                  <a:lnTo>
                    <a:pt x="37" y="857"/>
                  </a:lnTo>
                  <a:lnTo>
                    <a:pt x="27" y="863"/>
                  </a:lnTo>
                  <a:lnTo>
                    <a:pt x="17" y="869"/>
                  </a:lnTo>
                  <a:lnTo>
                    <a:pt x="0" y="880"/>
                  </a:lnTo>
                  <a:lnTo>
                    <a:pt x="14" y="772"/>
                  </a:lnTo>
                  <a:lnTo>
                    <a:pt x="115" y="705"/>
                  </a:lnTo>
                  <a:lnTo>
                    <a:pt x="127" y="698"/>
                  </a:lnTo>
                  <a:lnTo>
                    <a:pt x="139" y="693"/>
                  </a:lnTo>
                  <a:lnTo>
                    <a:pt x="151" y="688"/>
                  </a:lnTo>
                  <a:lnTo>
                    <a:pt x="162" y="684"/>
                  </a:lnTo>
                  <a:lnTo>
                    <a:pt x="173" y="681"/>
                  </a:lnTo>
                  <a:lnTo>
                    <a:pt x="184" y="679"/>
                  </a:lnTo>
                  <a:lnTo>
                    <a:pt x="195" y="677"/>
                  </a:lnTo>
                  <a:lnTo>
                    <a:pt x="206" y="677"/>
                  </a:lnTo>
                  <a:lnTo>
                    <a:pt x="224" y="679"/>
                  </a:lnTo>
                  <a:lnTo>
                    <a:pt x="242" y="682"/>
                  </a:lnTo>
                  <a:lnTo>
                    <a:pt x="259" y="688"/>
                  </a:lnTo>
                  <a:lnTo>
                    <a:pt x="274" y="694"/>
                  </a:lnTo>
                  <a:lnTo>
                    <a:pt x="289" y="705"/>
                  </a:lnTo>
                  <a:lnTo>
                    <a:pt x="302" y="717"/>
                  </a:lnTo>
                  <a:lnTo>
                    <a:pt x="308" y="724"/>
                  </a:lnTo>
                  <a:lnTo>
                    <a:pt x="314" y="731"/>
                  </a:lnTo>
                  <a:lnTo>
                    <a:pt x="320" y="740"/>
                  </a:lnTo>
                  <a:lnTo>
                    <a:pt x="325" y="748"/>
                  </a:lnTo>
                  <a:lnTo>
                    <a:pt x="335" y="766"/>
                  </a:lnTo>
                  <a:lnTo>
                    <a:pt x="340" y="776"/>
                  </a:lnTo>
                  <a:lnTo>
                    <a:pt x="344" y="786"/>
                  </a:lnTo>
                  <a:lnTo>
                    <a:pt x="347" y="795"/>
                  </a:lnTo>
                  <a:lnTo>
                    <a:pt x="351" y="805"/>
                  </a:lnTo>
                  <a:lnTo>
                    <a:pt x="354" y="816"/>
                  </a:lnTo>
                  <a:lnTo>
                    <a:pt x="356" y="828"/>
                  </a:lnTo>
                  <a:lnTo>
                    <a:pt x="359" y="838"/>
                  </a:lnTo>
                  <a:lnTo>
                    <a:pt x="361" y="850"/>
                  </a:lnTo>
                  <a:lnTo>
                    <a:pt x="362" y="863"/>
                  </a:lnTo>
                  <a:lnTo>
                    <a:pt x="364" y="875"/>
                  </a:lnTo>
                  <a:lnTo>
                    <a:pt x="365" y="887"/>
                  </a:lnTo>
                  <a:lnTo>
                    <a:pt x="366" y="899"/>
                  </a:lnTo>
                  <a:lnTo>
                    <a:pt x="367" y="911"/>
                  </a:lnTo>
                  <a:lnTo>
                    <a:pt x="367" y="925"/>
                  </a:lnTo>
                  <a:lnTo>
                    <a:pt x="367" y="937"/>
                  </a:lnTo>
                  <a:lnTo>
                    <a:pt x="366" y="954"/>
                  </a:lnTo>
                  <a:lnTo>
                    <a:pt x="364" y="1003"/>
                  </a:lnTo>
                  <a:lnTo>
                    <a:pt x="362" y="1031"/>
                  </a:lnTo>
                  <a:lnTo>
                    <a:pt x="361" y="1058"/>
                  </a:lnTo>
                  <a:lnTo>
                    <a:pt x="357" y="1084"/>
                  </a:lnTo>
                  <a:lnTo>
                    <a:pt x="354" y="1110"/>
                  </a:lnTo>
                  <a:lnTo>
                    <a:pt x="306" y="1427"/>
                  </a:lnTo>
                  <a:lnTo>
                    <a:pt x="303" y="1448"/>
                  </a:lnTo>
                  <a:lnTo>
                    <a:pt x="301" y="1471"/>
                  </a:lnTo>
                  <a:lnTo>
                    <a:pt x="298" y="1495"/>
                  </a:lnTo>
                  <a:lnTo>
                    <a:pt x="296" y="1517"/>
                  </a:lnTo>
                  <a:lnTo>
                    <a:pt x="293" y="1559"/>
                  </a:lnTo>
                  <a:lnTo>
                    <a:pt x="292" y="1575"/>
                  </a:lnTo>
                  <a:lnTo>
                    <a:pt x="292" y="1581"/>
                  </a:lnTo>
                  <a:lnTo>
                    <a:pt x="292" y="1588"/>
                  </a:lnTo>
                  <a:lnTo>
                    <a:pt x="292" y="1602"/>
                  </a:lnTo>
                  <a:lnTo>
                    <a:pt x="293" y="1614"/>
                  </a:lnTo>
                  <a:lnTo>
                    <a:pt x="294" y="1627"/>
                  </a:lnTo>
                  <a:lnTo>
                    <a:pt x="295" y="1639"/>
                  </a:lnTo>
                  <a:lnTo>
                    <a:pt x="298" y="1649"/>
                  </a:lnTo>
                  <a:lnTo>
                    <a:pt x="301" y="1659"/>
                  </a:lnTo>
                  <a:lnTo>
                    <a:pt x="303" y="1668"/>
                  </a:lnTo>
                  <a:lnTo>
                    <a:pt x="306" y="1677"/>
                  </a:lnTo>
                  <a:lnTo>
                    <a:pt x="308" y="1680"/>
                  </a:lnTo>
                  <a:lnTo>
                    <a:pt x="311" y="1685"/>
                  </a:lnTo>
                  <a:lnTo>
                    <a:pt x="312" y="1689"/>
                  </a:lnTo>
                  <a:lnTo>
                    <a:pt x="315" y="1691"/>
                  </a:lnTo>
                  <a:lnTo>
                    <a:pt x="317" y="1694"/>
                  </a:lnTo>
                  <a:lnTo>
                    <a:pt x="320" y="1698"/>
                  </a:lnTo>
                  <a:lnTo>
                    <a:pt x="323" y="1699"/>
                  </a:lnTo>
                  <a:lnTo>
                    <a:pt x="326" y="1701"/>
                  </a:lnTo>
                  <a:lnTo>
                    <a:pt x="333" y="1704"/>
                  </a:lnTo>
                  <a:lnTo>
                    <a:pt x="340" y="1708"/>
                  </a:lnTo>
                  <a:lnTo>
                    <a:pt x="347" y="1710"/>
                  </a:lnTo>
                  <a:lnTo>
                    <a:pt x="356" y="1710"/>
                  </a:lnTo>
                  <a:lnTo>
                    <a:pt x="362" y="1710"/>
                  </a:lnTo>
                  <a:lnTo>
                    <a:pt x="369" y="1708"/>
                  </a:lnTo>
                  <a:lnTo>
                    <a:pt x="377" y="1704"/>
                  </a:lnTo>
                  <a:lnTo>
                    <a:pt x="385" y="1699"/>
                  </a:lnTo>
                  <a:lnTo>
                    <a:pt x="394" y="1694"/>
                  </a:lnTo>
                  <a:lnTo>
                    <a:pt x="403" y="1687"/>
                  </a:lnTo>
                  <a:lnTo>
                    <a:pt x="412" y="1679"/>
                  </a:lnTo>
                  <a:lnTo>
                    <a:pt x="422" y="1670"/>
                  </a:lnTo>
                  <a:lnTo>
                    <a:pt x="433" y="1659"/>
                  </a:lnTo>
                  <a:lnTo>
                    <a:pt x="444" y="1649"/>
                  </a:lnTo>
                  <a:lnTo>
                    <a:pt x="454" y="1637"/>
                  </a:lnTo>
                  <a:lnTo>
                    <a:pt x="464" y="1623"/>
                  </a:lnTo>
                  <a:lnTo>
                    <a:pt x="475" y="1609"/>
                  </a:lnTo>
                  <a:lnTo>
                    <a:pt x="485" y="1594"/>
                  </a:lnTo>
                  <a:lnTo>
                    <a:pt x="495" y="1576"/>
                  </a:lnTo>
                  <a:lnTo>
                    <a:pt x="505" y="1559"/>
                  </a:lnTo>
                  <a:lnTo>
                    <a:pt x="613" y="698"/>
                  </a:lnTo>
                  <a:lnTo>
                    <a:pt x="820" y="681"/>
                  </a:lnTo>
                  <a:lnTo>
                    <a:pt x="828" y="698"/>
                  </a:lnTo>
                  <a:lnTo>
                    <a:pt x="736" y="1431"/>
                  </a:lnTo>
                  <a:lnTo>
                    <a:pt x="733" y="1450"/>
                  </a:lnTo>
                  <a:lnTo>
                    <a:pt x="731" y="1472"/>
                  </a:lnTo>
                  <a:lnTo>
                    <a:pt x="725" y="1523"/>
                  </a:lnTo>
                  <a:lnTo>
                    <a:pt x="720" y="1573"/>
                  </a:lnTo>
                  <a:lnTo>
                    <a:pt x="720" y="1592"/>
                  </a:lnTo>
                  <a:lnTo>
                    <a:pt x="719" y="1601"/>
                  </a:lnTo>
                  <a:lnTo>
                    <a:pt x="719" y="1607"/>
                  </a:lnTo>
                  <a:lnTo>
                    <a:pt x="719" y="1625"/>
                  </a:lnTo>
                  <a:lnTo>
                    <a:pt x="720" y="1640"/>
                  </a:lnTo>
                  <a:lnTo>
                    <a:pt x="721" y="1654"/>
                  </a:lnTo>
                  <a:lnTo>
                    <a:pt x="722" y="1659"/>
                  </a:lnTo>
                  <a:lnTo>
                    <a:pt x="723" y="1666"/>
                  </a:lnTo>
                  <a:lnTo>
                    <a:pt x="724" y="1672"/>
                  </a:lnTo>
                  <a:lnTo>
                    <a:pt x="726" y="1677"/>
                  </a:lnTo>
                  <a:lnTo>
                    <a:pt x="727" y="1682"/>
                  </a:lnTo>
                  <a:lnTo>
                    <a:pt x="728" y="1687"/>
                  </a:lnTo>
                  <a:lnTo>
                    <a:pt x="730" y="1692"/>
                  </a:lnTo>
                  <a:lnTo>
                    <a:pt x="731" y="1696"/>
                  </a:lnTo>
                  <a:lnTo>
                    <a:pt x="734" y="1699"/>
                  </a:lnTo>
                  <a:lnTo>
                    <a:pt x="736" y="1703"/>
                  </a:lnTo>
                  <a:lnTo>
                    <a:pt x="738" y="1706"/>
                  </a:lnTo>
                  <a:lnTo>
                    <a:pt x="740" y="1708"/>
                  </a:lnTo>
                  <a:lnTo>
                    <a:pt x="742" y="1711"/>
                  </a:lnTo>
                  <a:lnTo>
                    <a:pt x="746" y="1713"/>
                  </a:lnTo>
                  <a:lnTo>
                    <a:pt x="752" y="1717"/>
                  </a:lnTo>
                  <a:lnTo>
                    <a:pt x="759" y="1720"/>
                  </a:lnTo>
                  <a:lnTo>
                    <a:pt x="766" y="1724"/>
                  </a:lnTo>
                  <a:lnTo>
                    <a:pt x="775" y="1725"/>
                  </a:lnTo>
                  <a:lnTo>
                    <a:pt x="784" y="1727"/>
                  </a:lnTo>
                  <a:lnTo>
                    <a:pt x="794" y="1727"/>
                  </a:lnTo>
                  <a:lnTo>
                    <a:pt x="799" y="1727"/>
                  </a:lnTo>
                  <a:lnTo>
                    <a:pt x="804" y="1727"/>
                  </a:lnTo>
                  <a:lnTo>
                    <a:pt x="809" y="1725"/>
                  </a:lnTo>
                  <a:lnTo>
                    <a:pt x="814" y="1724"/>
                  </a:lnTo>
                  <a:lnTo>
                    <a:pt x="826" y="1720"/>
                  </a:lnTo>
                  <a:lnTo>
                    <a:pt x="838" y="1715"/>
                  </a:lnTo>
                  <a:lnTo>
                    <a:pt x="859" y="1703"/>
                  </a:lnTo>
                  <a:lnTo>
                    <a:pt x="867" y="1698"/>
                  </a:lnTo>
                  <a:lnTo>
                    <a:pt x="870" y="1696"/>
                  </a:lnTo>
                  <a:lnTo>
                    <a:pt x="874" y="1692"/>
                  </a:lnTo>
                  <a:lnTo>
                    <a:pt x="859" y="1800"/>
                  </a:lnTo>
                  <a:lnTo>
                    <a:pt x="757" y="1871"/>
                  </a:lnTo>
                  <a:lnTo>
                    <a:pt x="747" y="1876"/>
                  </a:lnTo>
                  <a:lnTo>
                    <a:pt x="737" y="1881"/>
                  </a:lnTo>
                  <a:lnTo>
                    <a:pt x="726" y="1885"/>
                  </a:lnTo>
                  <a:lnTo>
                    <a:pt x="715" y="1888"/>
                  </a:lnTo>
                  <a:lnTo>
                    <a:pt x="704" y="1892"/>
                  </a:lnTo>
                  <a:lnTo>
                    <a:pt x="692" y="1893"/>
                  </a:lnTo>
                  <a:lnTo>
                    <a:pt x="680" y="1895"/>
                  </a:lnTo>
                  <a:lnTo>
                    <a:pt x="667" y="1895"/>
                  </a:lnTo>
                  <a:lnTo>
                    <a:pt x="650" y="1893"/>
                  </a:lnTo>
                  <a:lnTo>
                    <a:pt x="633" y="1892"/>
                  </a:lnTo>
                  <a:lnTo>
                    <a:pt x="618" y="1886"/>
                  </a:lnTo>
                  <a:lnTo>
                    <a:pt x="603" y="1881"/>
                  </a:lnTo>
                  <a:lnTo>
                    <a:pt x="589" y="1873"/>
                  </a:lnTo>
                  <a:lnTo>
                    <a:pt x="577" y="1862"/>
                  </a:lnTo>
                  <a:lnTo>
                    <a:pt x="564" y="1850"/>
                  </a:lnTo>
                  <a:lnTo>
                    <a:pt x="553" y="1836"/>
                  </a:lnTo>
                  <a:lnTo>
                    <a:pt x="543" y="1821"/>
                  </a:lnTo>
                  <a:lnTo>
                    <a:pt x="533" y="1805"/>
                  </a:lnTo>
                  <a:lnTo>
                    <a:pt x="525" y="1788"/>
                  </a:lnTo>
                  <a:lnTo>
                    <a:pt x="518" y="1769"/>
                  </a:lnTo>
                  <a:lnTo>
                    <a:pt x="511" y="1750"/>
                  </a:lnTo>
                  <a:lnTo>
                    <a:pt x="506" y="1729"/>
                  </a:lnTo>
                  <a:lnTo>
                    <a:pt x="502" y="1706"/>
                  </a:lnTo>
                  <a:close/>
                  <a:moveTo>
                    <a:pt x="753" y="45"/>
                  </a:moveTo>
                  <a:lnTo>
                    <a:pt x="744" y="92"/>
                  </a:lnTo>
                  <a:lnTo>
                    <a:pt x="740" y="114"/>
                  </a:lnTo>
                  <a:lnTo>
                    <a:pt x="735" y="137"/>
                  </a:lnTo>
                  <a:lnTo>
                    <a:pt x="729" y="157"/>
                  </a:lnTo>
                  <a:lnTo>
                    <a:pt x="723" y="180"/>
                  </a:lnTo>
                  <a:lnTo>
                    <a:pt x="717" y="202"/>
                  </a:lnTo>
                  <a:lnTo>
                    <a:pt x="710" y="223"/>
                  </a:lnTo>
                  <a:lnTo>
                    <a:pt x="704" y="244"/>
                  </a:lnTo>
                  <a:lnTo>
                    <a:pt x="696" y="265"/>
                  </a:lnTo>
                  <a:lnTo>
                    <a:pt x="688" y="286"/>
                  </a:lnTo>
                  <a:lnTo>
                    <a:pt x="680" y="305"/>
                  </a:lnTo>
                  <a:lnTo>
                    <a:pt x="671" y="324"/>
                  </a:lnTo>
                  <a:lnTo>
                    <a:pt x="662" y="341"/>
                  </a:lnTo>
                  <a:lnTo>
                    <a:pt x="653" y="358"/>
                  </a:lnTo>
                  <a:lnTo>
                    <a:pt x="643" y="376"/>
                  </a:lnTo>
                  <a:lnTo>
                    <a:pt x="631" y="393"/>
                  </a:lnTo>
                  <a:lnTo>
                    <a:pt x="620" y="410"/>
                  </a:lnTo>
                  <a:lnTo>
                    <a:pt x="608" y="424"/>
                  </a:lnTo>
                  <a:lnTo>
                    <a:pt x="595" y="440"/>
                  </a:lnTo>
                  <a:lnTo>
                    <a:pt x="583" y="452"/>
                  </a:lnTo>
                  <a:lnTo>
                    <a:pt x="571" y="464"/>
                  </a:lnTo>
                  <a:lnTo>
                    <a:pt x="558" y="474"/>
                  </a:lnTo>
                  <a:lnTo>
                    <a:pt x="545" y="483"/>
                  </a:lnTo>
                  <a:lnTo>
                    <a:pt x="532" y="492"/>
                  </a:lnTo>
                  <a:lnTo>
                    <a:pt x="518" y="499"/>
                  </a:lnTo>
                  <a:lnTo>
                    <a:pt x="505" y="506"/>
                  </a:lnTo>
                  <a:lnTo>
                    <a:pt x="490" y="511"/>
                  </a:lnTo>
                  <a:lnTo>
                    <a:pt x="476" y="514"/>
                  </a:lnTo>
                  <a:lnTo>
                    <a:pt x="461" y="518"/>
                  </a:lnTo>
                  <a:lnTo>
                    <a:pt x="446" y="520"/>
                  </a:lnTo>
                  <a:lnTo>
                    <a:pt x="430" y="520"/>
                  </a:lnTo>
                  <a:lnTo>
                    <a:pt x="405" y="518"/>
                  </a:lnTo>
                  <a:lnTo>
                    <a:pt x="393" y="516"/>
                  </a:lnTo>
                  <a:lnTo>
                    <a:pt x="381" y="514"/>
                  </a:lnTo>
                  <a:lnTo>
                    <a:pt x="370" y="511"/>
                  </a:lnTo>
                  <a:lnTo>
                    <a:pt x="360" y="507"/>
                  </a:lnTo>
                  <a:lnTo>
                    <a:pt x="350" y="502"/>
                  </a:lnTo>
                  <a:lnTo>
                    <a:pt x="340" y="497"/>
                  </a:lnTo>
                  <a:lnTo>
                    <a:pt x="330" y="490"/>
                  </a:lnTo>
                  <a:lnTo>
                    <a:pt x="322" y="485"/>
                  </a:lnTo>
                  <a:lnTo>
                    <a:pt x="313" y="478"/>
                  </a:lnTo>
                  <a:lnTo>
                    <a:pt x="306" y="471"/>
                  </a:lnTo>
                  <a:lnTo>
                    <a:pt x="298" y="462"/>
                  </a:lnTo>
                  <a:lnTo>
                    <a:pt x="291" y="455"/>
                  </a:lnTo>
                  <a:lnTo>
                    <a:pt x="284" y="447"/>
                  </a:lnTo>
                  <a:lnTo>
                    <a:pt x="279" y="438"/>
                  </a:lnTo>
                  <a:lnTo>
                    <a:pt x="273" y="429"/>
                  </a:lnTo>
                  <a:lnTo>
                    <a:pt x="268" y="419"/>
                  </a:lnTo>
                  <a:lnTo>
                    <a:pt x="264" y="410"/>
                  </a:lnTo>
                  <a:lnTo>
                    <a:pt x="260" y="400"/>
                  </a:lnTo>
                  <a:lnTo>
                    <a:pt x="256" y="391"/>
                  </a:lnTo>
                  <a:lnTo>
                    <a:pt x="252" y="381"/>
                  </a:lnTo>
                  <a:lnTo>
                    <a:pt x="249" y="371"/>
                  </a:lnTo>
                  <a:lnTo>
                    <a:pt x="246" y="360"/>
                  </a:lnTo>
                  <a:lnTo>
                    <a:pt x="244" y="350"/>
                  </a:lnTo>
                  <a:lnTo>
                    <a:pt x="241" y="338"/>
                  </a:lnTo>
                  <a:lnTo>
                    <a:pt x="240" y="327"/>
                  </a:lnTo>
                  <a:lnTo>
                    <a:pt x="238" y="317"/>
                  </a:lnTo>
                  <a:lnTo>
                    <a:pt x="237" y="305"/>
                  </a:lnTo>
                  <a:lnTo>
                    <a:pt x="236" y="294"/>
                  </a:lnTo>
                  <a:lnTo>
                    <a:pt x="235" y="284"/>
                  </a:lnTo>
                  <a:lnTo>
                    <a:pt x="235" y="274"/>
                  </a:lnTo>
                  <a:lnTo>
                    <a:pt x="236" y="253"/>
                  </a:lnTo>
                  <a:lnTo>
                    <a:pt x="237" y="232"/>
                  </a:lnTo>
                  <a:lnTo>
                    <a:pt x="240" y="215"/>
                  </a:lnTo>
                  <a:lnTo>
                    <a:pt x="240" y="204"/>
                  </a:lnTo>
                  <a:lnTo>
                    <a:pt x="242" y="196"/>
                  </a:lnTo>
                  <a:lnTo>
                    <a:pt x="244" y="187"/>
                  </a:lnTo>
                  <a:lnTo>
                    <a:pt x="246" y="180"/>
                  </a:lnTo>
                  <a:lnTo>
                    <a:pt x="248" y="171"/>
                  </a:lnTo>
                  <a:lnTo>
                    <a:pt x="251" y="164"/>
                  </a:lnTo>
                  <a:lnTo>
                    <a:pt x="253" y="157"/>
                  </a:lnTo>
                  <a:lnTo>
                    <a:pt x="257" y="149"/>
                  </a:lnTo>
                  <a:lnTo>
                    <a:pt x="259" y="144"/>
                  </a:lnTo>
                  <a:lnTo>
                    <a:pt x="262" y="137"/>
                  </a:lnTo>
                  <a:lnTo>
                    <a:pt x="269" y="125"/>
                  </a:lnTo>
                  <a:lnTo>
                    <a:pt x="277" y="114"/>
                  </a:lnTo>
                  <a:lnTo>
                    <a:pt x="285" y="105"/>
                  </a:lnTo>
                  <a:lnTo>
                    <a:pt x="294" y="99"/>
                  </a:lnTo>
                  <a:lnTo>
                    <a:pt x="303" y="92"/>
                  </a:lnTo>
                  <a:lnTo>
                    <a:pt x="312" y="88"/>
                  </a:lnTo>
                  <a:lnTo>
                    <a:pt x="323" y="85"/>
                  </a:lnTo>
                  <a:lnTo>
                    <a:pt x="333" y="85"/>
                  </a:lnTo>
                  <a:lnTo>
                    <a:pt x="340" y="85"/>
                  </a:lnTo>
                  <a:lnTo>
                    <a:pt x="347" y="86"/>
                  </a:lnTo>
                  <a:lnTo>
                    <a:pt x="354" y="90"/>
                  </a:lnTo>
                  <a:lnTo>
                    <a:pt x="362" y="93"/>
                  </a:lnTo>
                  <a:lnTo>
                    <a:pt x="368" y="97"/>
                  </a:lnTo>
                  <a:lnTo>
                    <a:pt x="375" y="102"/>
                  </a:lnTo>
                  <a:lnTo>
                    <a:pt x="382" y="109"/>
                  </a:lnTo>
                  <a:lnTo>
                    <a:pt x="389" y="116"/>
                  </a:lnTo>
                  <a:lnTo>
                    <a:pt x="392" y="119"/>
                  </a:lnTo>
                  <a:lnTo>
                    <a:pt x="395" y="125"/>
                  </a:lnTo>
                  <a:lnTo>
                    <a:pt x="398" y="128"/>
                  </a:lnTo>
                  <a:lnTo>
                    <a:pt x="400" y="133"/>
                  </a:lnTo>
                  <a:lnTo>
                    <a:pt x="402" y="138"/>
                  </a:lnTo>
                  <a:lnTo>
                    <a:pt x="405" y="144"/>
                  </a:lnTo>
                  <a:lnTo>
                    <a:pt x="406" y="149"/>
                  </a:lnTo>
                  <a:lnTo>
                    <a:pt x="408" y="156"/>
                  </a:lnTo>
                  <a:lnTo>
                    <a:pt x="410" y="161"/>
                  </a:lnTo>
                  <a:lnTo>
                    <a:pt x="411" y="168"/>
                  </a:lnTo>
                  <a:lnTo>
                    <a:pt x="412" y="173"/>
                  </a:lnTo>
                  <a:lnTo>
                    <a:pt x="413" y="180"/>
                  </a:lnTo>
                  <a:lnTo>
                    <a:pt x="414" y="187"/>
                  </a:lnTo>
                  <a:lnTo>
                    <a:pt x="415" y="194"/>
                  </a:lnTo>
                  <a:lnTo>
                    <a:pt x="415" y="202"/>
                  </a:lnTo>
                  <a:lnTo>
                    <a:pt x="415" y="209"/>
                  </a:lnTo>
                  <a:lnTo>
                    <a:pt x="415" y="220"/>
                  </a:lnTo>
                  <a:lnTo>
                    <a:pt x="414" y="230"/>
                  </a:lnTo>
                  <a:lnTo>
                    <a:pt x="413" y="241"/>
                  </a:lnTo>
                  <a:lnTo>
                    <a:pt x="412" y="251"/>
                  </a:lnTo>
                  <a:lnTo>
                    <a:pt x="411" y="261"/>
                  </a:lnTo>
                  <a:lnTo>
                    <a:pt x="409" y="272"/>
                  </a:lnTo>
                  <a:lnTo>
                    <a:pt x="407" y="280"/>
                  </a:lnTo>
                  <a:lnTo>
                    <a:pt x="405" y="291"/>
                  </a:lnTo>
                  <a:lnTo>
                    <a:pt x="400" y="310"/>
                  </a:lnTo>
                  <a:lnTo>
                    <a:pt x="394" y="327"/>
                  </a:lnTo>
                  <a:lnTo>
                    <a:pt x="389" y="343"/>
                  </a:lnTo>
                  <a:lnTo>
                    <a:pt x="383" y="358"/>
                  </a:lnTo>
                  <a:lnTo>
                    <a:pt x="391" y="365"/>
                  </a:lnTo>
                  <a:lnTo>
                    <a:pt x="399" y="371"/>
                  </a:lnTo>
                  <a:lnTo>
                    <a:pt x="407" y="376"/>
                  </a:lnTo>
                  <a:lnTo>
                    <a:pt x="411" y="377"/>
                  </a:lnTo>
                  <a:lnTo>
                    <a:pt x="415" y="379"/>
                  </a:lnTo>
                  <a:lnTo>
                    <a:pt x="419" y="381"/>
                  </a:lnTo>
                  <a:lnTo>
                    <a:pt x="422" y="383"/>
                  </a:lnTo>
                  <a:lnTo>
                    <a:pt x="427" y="384"/>
                  </a:lnTo>
                  <a:lnTo>
                    <a:pt x="431" y="384"/>
                  </a:lnTo>
                  <a:lnTo>
                    <a:pt x="440" y="386"/>
                  </a:lnTo>
                  <a:lnTo>
                    <a:pt x="450" y="386"/>
                  </a:lnTo>
                  <a:lnTo>
                    <a:pt x="462" y="386"/>
                  </a:lnTo>
                  <a:lnTo>
                    <a:pt x="475" y="384"/>
                  </a:lnTo>
                  <a:lnTo>
                    <a:pt x="487" y="381"/>
                  </a:lnTo>
                  <a:lnTo>
                    <a:pt x="500" y="377"/>
                  </a:lnTo>
                  <a:lnTo>
                    <a:pt x="511" y="372"/>
                  </a:lnTo>
                  <a:lnTo>
                    <a:pt x="522" y="367"/>
                  </a:lnTo>
                  <a:lnTo>
                    <a:pt x="533" y="360"/>
                  </a:lnTo>
                  <a:lnTo>
                    <a:pt x="544" y="351"/>
                  </a:lnTo>
                  <a:lnTo>
                    <a:pt x="554" y="343"/>
                  </a:lnTo>
                  <a:lnTo>
                    <a:pt x="564" y="334"/>
                  </a:lnTo>
                  <a:lnTo>
                    <a:pt x="573" y="324"/>
                  </a:lnTo>
                  <a:lnTo>
                    <a:pt x="582" y="313"/>
                  </a:lnTo>
                  <a:lnTo>
                    <a:pt x="591" y="301"/>
                  </a:lnTo>
                  <a:lnTo>
                    <a:pt x="599" y="289"/>
                  </a:lnTo>
                  <a:lnTo>
                    <a:pt x="607" y="277"/>
                  </a:lnTo>
                  <a:lnTo>
                    <a:pt x="615" y="265"/>
                  </a:lnTo>
                  <a:lnTo>
                    <a:pt x="629" y="237"/>
                  </a:lnTo>
                  <a:lnTo>
                    <a:pt x="642" y="208"/>
                  </a:lnTo>
                  <a:lnTo>
                    <a:pt x="654" y="176"/>
                  </a:lnTo>
                  <a:lnTo>
                    <a:pt x="666" y="142"/>
                  </a:lnTo>
                  <a:lnTo>
                    <a:pt x="676" y="107"/>
                  </a:lnTo>
                  <a:lnTo>
                    <a:pt x="686" y="71"/>
                  </a:lnTo>
                  <a:lnTo>
                    <a:pt x="694" y="36"/>
                  </a:lnTo>
                  <a:lnTo>
                    <a:pt x="7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90800" y="2313000"/>
              <a:ext cx="344520" cy="627120"/>
            </a:xfrm>
            <a:custGeom>
              <a:avLst/>
              <a:gdLst/>
              <a:ahLst/>
              <a:rect l="l" t="t" r="r" b="b"/>
              <a:pathLst>
                <a:path w="958" h="1742">
                  <a:moveTo>
                    <a:pt x="957" y="458"/>
                  </a:moveTo>
                  <a:lnTo>
                    <a:pt x="956" y="498"/>
                  </a:lnTo>
                  <a:lnTo>
                    <a:pt x="955" y="536"/>
                  </a:lnTo>
                  <a:lnTo>
                    <a:pt x="953" y="575"/>
                  </a:lnTo>
                  <a:lnTo>
                    <a:pt x="949" y="614"/>
                  </a:lnTo>
                  <a:lnTo>
                    <a:pt x="945" y="652"/>
                  </a:lnTo>
                  <a:lnTo>
                    <a:pt x="940" y="688"/>
                  </a:lnTo>
                  <a:lnTo>
                    <a:pt x="933" y="726"/>
                  </a:lnTo>
                  <a:lnTo>
                    <a:pt x="927" y="763"/>
                  </a:lnTo>
                  <a:lnTo>
                    <a:pt x="918" y="799"/>
                  </a:lnTo>
                  <a:lnTo>
                    <a:pt x="910" y="834"/>
                  </a:lnTo>
                  <a:lnTo>
                    <a:pt x="900" y="867"/>
                  </a:lnTo>
                  <a:lnTo>
                    <a:pt x="890" y="898"/>
                  </a:lnTo>
                  <a:lnTo>
                    <a:pt x="879" y="929"/>
                  </a:lnTo>
                  <a:lnTo>
                    <a:pt x="867" y="958"/>
                  </a:lnTo>
                  <a:lnTo>
                    <a:pt x="855" y="986"/>
                  </a:lnTo>
                  <a:lnTo>
                    <a:pt x="843" y="1014"/>
                  </a:lnTo>
                  <a:lnTo>
                    <a:pt x="828" y="1040"/>
                  </a:lnTo>
                  <a:lnTo>
                    <a:pt x="814" y="1066"/>
                  </a:lnTo>
                  <a:lnTo>
                    <a:pt x="800" y="1088"/>
                  </a:lnTo>
                  <a:lnTo>
                    <a:pt x="784" y="1111"/>
                  </a:lnTo>
                  <a:lnTo>
                    <a:pt x="768" y="1132"/>
                  </a:lnTo>
                  <a:lnTo>
                    <a:pt x="752" y="1151"/>
                  </a:lnTo>
                  <a:lnTo>
                    <a:pt x="736" y="1168"/>
                  </a:lnTo>
                  <a:lnTo>
                    <a:pt x="719" y="1184"/>
                  </a:lnTo>
                  <a:lnTo>
                    <a:pt x="701" y="1197"/>
                  </a:lnTo>
                  <a:lnTo>
                    <a:pt x="684" y="1210"/>
                  </a:lnTo>
                  <a:lnTo>
                    <a:pt x="666" y="1220"/>
                  </a:lnTo>
                  <a:lnTo>
                    <a:pt x="647" y="1229"/>
                  </a:lnTo>
                  <a:lnTo>
                    <a:pt x="628" y="1234"/>
                  </a:lnTo>
                  <a:lnTo>
                    <a:pt x="608" y="1239"/>
                  </a:lnTo>
                  <a:lnTo>
                    <a:pt x="588" y="1241"/>
                  </a:lnTo>
                  <a:lnTo>
                    <a:pt x="568" y="1242"/>
                  </a:lnTo>
                  <a:lnTo>
                    <a:pt x="538" y="1241"/>
                  </a:lnTo>
                  <a:lnTo>
                    <a:pt x="511" y="1237"/>
                  </a:lnTo>
                  <a:lnTo>
                    <a:pt x="499" y="1234"/>
                  </a:lnTo>
                  <a:lnTo>
                    <a:pt x="487" y="1230"/>
                  </a:lnTo>
                  <a:lnTo>
                    <a:pt x="477" y="1225"/>
                  </a:lnTo>
                  <a:lnTo>
                    <a:pt x="467" y="1220"/>
                  </a:lnTo>
                  <a:lnTo>
                    <a:pt x="458" y="1215"/>
                  </a:lnTo>
                  <a:lnTo>
                    <a:pt x="449" y="1208"/>
                  </a:lnTo>
                  <a:lnTo>
                    <a:pt x="441" y="1201"/>
                  </a:lnTo>
                  <a:lnTo>
                    <a:pt x="432" y="1194"/>
                  </a:lnTo>
                  <a:lnTo>
                    <a:pt x="424" y="1185"/>
                  </a:lnTo>
                  <a:lnTo>
                    <a:pt x="416" y="1177"/>
                  </a:lnTo>
                  <a:lnTo>
                    <a:pt x="408" y="1168"/>
                  </a:lnTo>
                  <a:lnTo>
                    <a:pt x="402" y="1158"/>
                  </a:lnTo>
                  <a:lnTo>
                    <a:pt x="362" y="1476"/>
                  </a:lnTo>
                  <a:lnTo>
                    <a:pt x="361" y="1480"/>
                  </a:lnTo>
                  <a:lnTo>
                    <a:pt x="361" y="1483"/>
                  </a:lnTo>
                  <a:lnTo>
                    <a:pt x="360" y="1492"/>
                  </a:lnTo>
                  <a:lnTo>
                    <a:pt x="358" y="1501"/>
                  </a:lnTo>
                  <a:lnTo>
                    <a:pt x="358" y="1509"/>
                  </a:lnTo>
                  <a:lnTo>
                    <a:pt x="357" y="1527"/>
                  </a:lnTo>
                  <a:lnTo>
                    <a:pt x="356" y="1532"/>
                  </a:lnTo>
                  <a:lnTo>
                    <a:pt x="356" y="1535"/>
                  </a:lnTo>
                  <a:lnTo>
                    <a:pt x="356" y="1537"/>
                  </a:lnTo>
                  <a:lnTo>
                    <a:pt x="356" y="1544"/>
                  </a:lnTo>
                  <a:lnTo>
                    <a:pt x="357" y="1551"/>
                  </a:lnTo>
                  <a:lnTo>
                    <a:pt x="357" y="1558"/>
                  </a:lnTo>
                  <a:lnTo>
                    <a:pt x="358" y="1565"/>
                  </a:lnTo>
                  <a:lnTo>
                    <a:pt x="358" y="1570"/>
                  </a:lnTo>
                  <a:lnTo>
                    <a:pt x="360" y="1577"/>
                  </a:lnTo>
                  <a:lnTo>
                    <a:pt x="361" y="1582"/>
                  </a:lnTo>
                  <a:lnTo>
                    <a:pt x="363" y="1587"/>
                  </a:lnTo>
                  <a:lnTo>
                    <a:pt x="364" y="1592"/>
                  </a:lnTo>
                  <a:lnTo>
                    <a:pt x="366" y="1598"/>
                  </a:lnTo>
                  <a:lnTo>
                    <a:pt x="369" y="1603"/>
                  </a:lnTo>
                  <a:lnTo>
                    <a:pt x="371" y="1608"/>
                  </a:lnTo>
                  <a:lnTo>
                    <a:pt x="374" y="1611"/>
                  </a:lnTo>
                  <a:lnTo>
                    <a:pt x="376" y="1615"/>
                  </a:lnTo>
                  <a:lnTo>
                    <a:pt x="379" y="1618"/>
                  </a:lnTo>
                  <a:lnTo>
                    <a:pt x="382" y="1622"/>
                  </a:lnTo>
                  <a:lnTo>
                    <a:pt x="391" y="1627"/>
                  </a:lnTo>
                  <a:lnTo>
                    <a:pt x="401" y="1634"/>
                  </a:lnTo>
                  <a:lnTo>
                    <a:pt x="414" y="1639"/>
                  </a:lnTo>
                  <a:lnTo>
                    <a:pt x="428" y="1644"/>
                  </a:lnTo>
                  <a:lnTo>
                    <a:pt x="457" y="1653"/>
                  </a:lnTo>
                  <a:lnTo>
                    <a:pt x="469" y="1657"/>
                  </a:lnTo>
                  <a:lnTo>
                    <a:pt x="480" y="1658"/>
                  </a:lnTo>
                  <a:lnTo>
                    <a:pt x="470" y="1741"/>
                  </a:lnTo>
                  <a:lnTo>
                    <a:pt x="0" y="1741"/>
                  </a:lnTo>
                  <a:lnTo>
                    <a:pt x="11" y="1658"/>
                  </a:lnTo>
                  <a:lnTo>
                    <a:pt x="53" y="1650"/>
                  </a:lnTo>
                  <a:lnTo>
                    <a:pt x="75" y="1643"/>
                  </a:lnTo>
                  <a:lnTo>
                    <a:pt x="84" y="1639"/>
                  </a:lnTo>
                  <a:lnTo>
                    <a:pt x="88" y="1637"/>
                  </a:lnTo>
                  <a:lnTo>
                    <a:pt x="91" y="1636"/>
                  </a:lnTo>
                  <a:lnTo>
                    <a:pt x="97" y="1632"/>
                  </a:lnTo>
                  <a:lnTo>
                    <a:pt x="102" y="1629"/>
                  </a:lnTo>
                  <a:lnTo>
                    <a:pt x="106" y="1624"/>
                  </a:lnTo>
                  <a:lnTo>
                    <a:pt x="110" y="1618"/>
                  </a:lnTo>
                  <a:lnTo>
                    <a:pt x="115" y="1613"/>
                  </a:lnTo>
                  <a:lnTo>
                    <a:pt x="118" y="1608"/>
                  </a:lnTo>
                  <a:lnTo>
                    <a:pt x="121" y="1601"/>
                  </a:lnTo>
                  <a:lnTo>
                    <a:pt x="125" y="1594"/>
                  </a:lnTo>
                  <a:lnTo>
                    <a:pt x="127" y="1587"/>
                  </a:lnTo>
                  <a:lnTo>
                    <a:pt x="130" y="1579"/>
                  </a:lnTo>
                  <a:lnTo>
                    <a:pt x="132" y="1570"/>
                  </a:lnTo>
                  <a:lnTo>
                    <a:pt x="135" y="1561"/>
                  </a:lnTo>
                  <a:lnTo>
                    <a:pt x="137" y="1551"/>
                  </a:lnTo>
                  <a:lnTo>
                    <a:pt x="138" y="1540"/>
                  </a:lnTo>
                  <a:lnTo>
                    <a:pt x="140" y="1530"/>
                  </a:lnTo>
                  <a:lnTo>
                    <a:pt x="142" y="1518"/>
                  </a:lnTo>
                  <a:lnTo>
                    <a:pt x="270" y="478"/>
                  </a:lnTo>
                  <a:lnTo>
                    <a:pt x="281" y="390"/>
                  </a:lnTo>
                  <a:lnTo>
                    <a:pt x="283" y="364"/>
                  </a:lnTo>
                  <a:lnTo>
                    <a:pt x="285" y="342"/>
                  </a:lnTo>
                  <a:lnTo>
                    <a:pt x="286" y="321"/>
                  </a:lnTo>
                  <a:lnTo>
                    <a:pt x="287" y="310"/>
                  </a:lnTo>
                  <a:lnTo>
                    <a:pt x="287" y="302"/>
                  </a:lnTo>
                  <a:lnTo>
                    <a:pt x="287" y="286"/>
                  </a:lnTo>
                  <a:lnTo>
                    <a:pt x="286" y="272"/>
                  </a:lnTo>
                  <a:lnTo>
                    <a:pt x="285" y="260"/>
                  </a:lnTo>
                  <a:lnTo>
                    <a:pt x="283" y="248"/>
                  </a:lnTo>
                  <a:lnTo>
                    <a:pt x="281" y="241"/>
                  </a:lnTo>
                  <a:lnTo>
                    <a:pt x="281" y="236"/>
                  </a:lnTo>
                  <a:lnTo>
                    <a:pt x="280" y="231"/>
                  </a:lnTo>
                  <a:lnTo>
                    <a:pt x="278" y="227"/>
                  </a:lnTo>
                  <a:lnTo>
                    <a:pt x="277" y="222"/>
                  </a:lnTo>
                  <a:lnTo>
                    <a:pt x="276" y="217"/>
                  </a:lnTo>
                  <a:lnTo>
                    <a:pt x="274" y="213"/>
                  </a:lnTo>
                  <a:lnTo>
                    <a:pt x="272" y="210"/>
                  </a:lnTo>
                  <a:lnTo>
                    <a:pt x="270" y="206"/>
                  </a:lnTo>
                  <a:lnTo>
                    <a:pt x="268" y="203"/>
                  </a:lnTo>
                  <a:lnTo>
                    <a:pt x="266" y="200"/>
                  </a:lnTo>
                  <a:lnTo>
                    <a:pt x="264" y="198"/>
                  </a:lnTo>
                  <a:lnTo>
                    <a:pt x="260" y="194"/>
                  </a:lnTo>
                  <a:lnTo>
                    <a:pt x="258" y="193"/>
                  </a:lnTo>
                  <a:lnTo>
                    <a:pt x="251" y="189"/>
                  </a:lnTo>
                  <a:lnTo>
                    <a:pt x="243" y="186"/>
                  </a:lnTo>
                  <a:lnTo>
                    <a:pt x="235" y="184"/>
                  </a:lnTo>
                  <a:lnTo>
                    <a:pt x="226" y="182"/>
                  </a:lnTo>
                  <a:lnTo>
                    <a:pt x="215" y="182"/>
                  </a:lnTo>
                  <a:lnTo>
                    <a:pt x="210" y="182"/>
                  </a:lnTo>
                  <a:lnTo>
                    <a:pt x="205" y="182"/>
                  </a:lnTo>
                  <a:lnTo>
                    <a:pt x="200" y="184"/>
                  </a:lnTo>
                  <a:lnTo>
                    <a:pt x="195" y="186"/>
                  </a:lnTo>
                  <a:lnTo>
                    <a:pt x="190" y="187"/>
                  </a:lnTo>
                  <a:lnTo>
                    <a:pt x="184" y="189"/>
                  </a:lnTo>
                  <a:lnTo>
                    <a:pt x="179" y="191"/>
                  </a:lnTo>
                  <a:lnTo>
                    <a:pt x="173" y="194"/>
                  </a:lnTo>
                  <a:lnTo>
                    <a:pt x="163" y="200"/>
                  </a:lnTo>
                  <a:lnTo>
                    <a:pt x="153" y="206"/>
                  </a:lnTo>
                  <a:lnTo>
                    <a:pt x="136" y="217"/>
                  </a:lnTo>
                  <a:lnTo>
                    <a:pt x="150" y="109"/>
                  </a:lnTo>
                  <a:lnTo>
                    <a:pt x="251" y="42"/>
                  </a:lnTo>
                  <a:lnTo>
                    <a:pt x="263" y="35"/>
                  </a:lnTo>
                  <a:lnTo>
                    <a:pt x="275" y="30"/>
                  </a:lnTo>
                  <a:lnTo>
                    <a:pt x="287" y="25"/>
                  </a:lnTo>
                  <a:lnTo>
                    <a:pt x="298" y="21"/>
                  </a:lnTo>
                  <a:lnTo>
                    <a:pt x="309" y="18"/>
                  </a:lnTo>
                  <a:lnTo>
                    <a:pt x="320" y="16"/>
                  </a:lnTo>
                  <a:lnTo>
                    <a:pt x="331" y="14"/>
                  </a:lnTo>
                  <a:lnTo>
                    <a:pt x="342" y="14"/>
                  </a:lnTo>
                  <a:lnTo>
                    <a:pt x="359" y="14"/>
                  </a:lnTo>
                  <a:lnTo>
                    <a:pt x="376" y="18"/>
                  </a:lnTo>
                  <a:lnTo>
                    <a:pt x="392" y="21"/>
                  </a:lnTo>
                  <a:lnTo>
                    <a:pt x="399" y="23"/>
                  </a:lnTo>
                  <a:lnTo>
                    <a:pt x="406" y="26"/>
                  </a:lnTo>
                  <a:lnTo>
                    <a:pt x="413" y="30"/>
                  </a:lnTo>
                  <a:lnTo>
                    <a:pt x="419" y="33"/>
                  </a:lnTo>
                  <a:lnTo>
                    <a:pt x="425" y="38"/>
                  </a:lnTo>
                  <a:lnTo>
                    <a:pt x="431" y="44"/>
                  </a:lnTo>
                  <a:lnTo>
                    <a:pt x="437" y="49"/>
                  </a:lnTo>
                  <a:lnTo>
                    <a:pt x="443" y="54"/>
                  </a:lnTo>
                  <a:lnTo>
                    <a:pt x="449" y="59"/>
                  </a:lnTo>
                  <a:lnTo>
                    <a:pt x="454" y="66"/>
                  </a:lnTo>
                  <a:lnTo>
                    <a:pt x="463" y="78"/>
                  </a:lnTo>
                  <a:lnTo>
                    <a:pt x="466" y="85"/>
                  </a:lnTo>
                  <a:lnTo>
                    <a:pt x="470" y="92"/>
                  </a:lnTo>
                  <a:lnTo>
                    <a:pt x="474" y="99"/>
                  </a:lnTo>
                  <a:lnTo>
                    <a:pt x="477" y="106"/>
                  </a:lnTo>
                  <a:lnTo>
                    <a:pt x="480" y="113"/>
                  </a:lnTo>
                  <a:lnTo>
                    <a:pt x="483" y="122"/>
                  </a:lnTo>
                  <a:lnTo>
                    <a:pt x="485" y="130"/>
                  </a:lnTo>
                  <a:lnTo>
                    <a:pt x="488" y="137"/>
                  </a:lnTo>
                  <a:lnTo>
                    <a:pt x="493" y="154"/>
                  </a:lnTo>
                  <a:lnTo>
                    <a:pt x="497" y="170"/>
                  </a:lnTo>
                  <a:lnTo>
                    <a:pt x="502" y="186"/>
                  </a:lnTo>
                  <a:lnTo>
                    <a:pt x="507" y="186"/>
                  </a:lnTo>
                  <a:lnTo>
                    <a:pt x="536" y="142"/>
                  </a:lnTo>
                  <a:lnTo>
                    <a:pt x="552" y="122"/>
                  </a:lnTo>
                  <a:lnTo>
                    <a:pt x="566" y="104"/>
                  </a:lnTo>
                  <a:lnTo>
                    <a:pt x="580" y="87"/>
                  </a:lnTo>
                  <a:lnTo>
                    <a:pt x="595" y="71"/>
                  </a:lnTo>
                  <a:lnTo>
                    <a:pt x="608" y="57"/>
                  </a:lnTo>
                  <a:lnTo>
                    <a:pt x="623" y="45"/>
                  </a:lnTo>
                  <a:lnTo>
                    <a:pt x="637" y="35"/>
                  </a:lnTo>
                  <a:lnTo>
                    <a:pt x="651" y="26"/>
                  </a:lnTo>
                  <a:lnTo>
                    <a:pt x="664" y="18"/>
                  </a:lnTo>
                  <a:lnTo>
                    <a:pt x="678" y="12"/>
                  </a:lnTo>
                  <a:lnTo>
                    <a:pt x="691" y="7"/>
                  </a:lnTo>
                  <a:lnTo>
                    <a:pt x="705" y="4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58" y="2"/>
                  </a:lnTo>
                  <a:lnTo>
                    <a:pt x="783" y="7"/>
                  </a:lnTo>
                  <a:lnTo>
                    <a:pt x="808" y="18"/>
                  </a:lnTo>
                  <a:lnTo>
                    <a:pt x="830" y="31"/>
                  </a:lnTo>
                  <a:lnTo>
                    <a:pt x="840" y="40"/>
                  </a:lnTo>
                  <a:lnTo>
                    <a:pt x="850" y="49"/>
                  </a:lnTo>
                  <a:lnTo>
                    <a:pt x="860" y="59"/>
                  </a:lnTo>
                  <a:lnTo>
                    <a:pt x="868" y="70"/>
                  </a:lnTo>
                  <a:lnTo>
                    <a:pt x="877" y="82"/>
                  </a:lnTo>
                  <a:lnTo>
                    <a:pt x="885" y="94"/>
                  </a:lnTo>
                  <a:lnTo>
                    <a:pt x="893" y="108"/>
                  </a:lnTo>
                  <a:lnTo>
                    <a:pt x="900" y="123"/>
                  </a:lnTo>
                  <a:lnTo>
                    <a:pt x="907" y="139"/>
                  </a:lnTo>
                  <a:lnTo>
                    <a:pt x="914" y="154"/>
                  </a:lnTo>
                  <a:lnTo>
                    <a:pt x="920" y="172"/>
                  </a:lnTo>
                  <a:lnTo>
                    <a:pt x="925" y="189"/>
                  </a:lnTo>
                  <a:lnTo>
                    <a:pt x="930" y="208"/>
                  </a:lnTo>
                  <a:lnTo>
                    <a:pt x="935" y="227"/>
                  </a:lnTo>
                  <a:lnTo>
                    <a:pt x="939" y="248"/>
                  </a:lnTo>
                  <a:lnTo>
                    <a:pt x="943" y="267"/>
                  </a:lnTo>
                  <a:lnTo>
                    <a:pt x="949" y="310"/>
                  </a:lnTo>
                  <a:lnTo>
                    <a:pt x="954" y="357"/>
                  </a:lnTo>
                  <a:lnTo>
                    <a:pt x="956" y="406"/>
                  </a:lnTo>
                  <a:close/>
                  <a:moveTo>
                    <a:pt x="668" y="927"/>
                  </a:moveTo>
                  <a:lnTo>
                    <a:pt x="675" y="901"/>
                  </a:lnTo>
                  <a:lnTo>
                    <a:pt x="681" y="875"/>
                  </a:lnTo>
                  <a:lnTo>
                    <a:pt x="687" y="847"/>
                  </a:lnTo>
                  <a:lnTo>
                    <a:pt x="693" y="821"/>
                  </a:lnTo>
                  <a:lnTo>
                    <a:pt x="697" y="794"/>
                  </a:lnTo>
                  <a:lnTo>
                    <a:pt x="702" y="766"/>
                  </a:lnTo>
                  <a:lnTo>
                    <a:pt x="710" y="709"/>
                  </a:lnTo>
                  <a:lnTo>
                    <a:pt x="713" y="679"/>
                  </a:lnTo>
                  <a:lnTo>
                    <a:pt x="716" y="650"/>
                  </a:lnTo>
                  <a:lnTo>
                    <a:pt x="718" y="619"/>
                  </a:lnTo>
                  <a:lnTo>
                    <a:pt x="721" y="588"/>
                  </a:lnTo>
                  <a:lnTo>
                    <a:pt x="723" y="522"/>
                  </a:lnTo>
                  <a:lnTo>
                    <a:pt x="724" y="452"/>
                  </a:lnTo>
                  <a:lnTo>
                    <a:pt x="724" y="425"/>
                  </a:lnTo>
                  <a:lnTo>
                    <a:pt x="723" y="397"/>
                  </a:lnTo>
                  <a:lnTo>
                    <a:pt x="722" y="371"/>
                  </a:lnTo>
                  <a:lnTo>
                    <a:pt x="720" y="345"/>
                  </a:lnTo>
                  <a:lnTo>
                    <a:pt x="718" y="333"/>
                  </a:lnTo>
                  <a:lnTo>
                    <a:pt x="717" y="321"/>
                  </a:lnTo>
                  <a:lnTo>
                    <a:pt x="716" y="310"/>
                  </a:lnTo>
                  <a:lnTo>
                    <a:pt x="713" y="298"/>
                  </a:lnTo>
                  <a:lnTo>
                    <a:pt x="712" y="288"/>
                  </a:lnTo>
                  <a:lnTo>
                    <a:pt x="709" y="277"/>
                  </a:lnTo>
                  <a:lnTo>
                    <a:pt x="706" y="269"/>
                  </a:lnTo>
                  <a:lnTo>
                    <a:pt x="704" y="260"/>
                  </a:lnTo>
                  <a:lnTo>
                    <a:pt x="701" y="252"/>
                  </a:lnTo>
                  <a:lnTo>
                    <a:pt x="698" y="243"/>
                  </a:lnTo>
                  <a:lnTo>
                    <a:pt x="694" y="234"/>
                  </a:lnTo>
                  <a:lnTo>
                    <a:pt x="690" y="227"/>
                  </a:lnTo>
                  <a:lnTo>
                    <a:pt x="686" y="220"/>
                  </a:lnTo>
                  <a:lnTo>
                    <a:pt x="682" y="213"/>
                  </a:lnTo>
                  <a:lnTo>
                    <a:pt x="678" y="208"/>
                  </a:lnTo>
                  <a:lnTo>
                    <a:pt x="673" y="203"/>
                  </a:lnTo>
                  <a:lnTo>
                    <a:pt x="667" y="198"/>
                  </a:lnTo>
                  <a:lnTo>
                    <a:pt x="662" y="194"/>
                  </a:lnTo>
                  <a:lnTo>
                    <a:pt x="656" y="191"/>
                  </a:lnTo>
                  <a:lnTo>
                    <a:pt x="651" y="187"/>
                  </a:lnTo>
                  <a:lnTo>
                    <a:pt x="644" y="186"/>
                  </a:lnTo>
                  <a:lnTo>
                    <a:pt x="638" y="184"/>
                  </a:lnTo>
                  <a:lnTo>
                    <a:pt x="630" y="182"/>
                  </a:lnTo>
                  <a:lnTo>
                    <a:pt x="623" y="182"/>
                  </a:lnTo>
                  <a:lnTo>
                    <a:pt x="615" y="182"/>
                  </a:lnTo>
                  <a:lnTo>
                    <a:pt x="607" y="184"/>
                  </a:lnTo>
                  <a:lnTo>
                    <a:pt x="598" y="187"/>
                  </a:lnTo>
                  <a:lnTo>
                    <a:pt x="590" y="193"/>
                  </a:lnTo>
                  <a:lnTo>
                    <a:pt x="581" y="198"/>
                  </a:lnTo>
                  <a:lnTo>
                    <a:pt x="573" y="205"/>
                  </a:lnTo>
                  <a:lnTo>
                    <a:pt x="564" y="213"/>
                  </a:lnTo>
                  <a:lnTo>
                    <a:pt x="556" y="222"/>
                  </a:lnTo>
                  <a:lnTo>
                    <a:pt x="541" y="241"/>
                  </a:lnTo>
                  <a:lnTo>
                    <a:pt x="528" y="260"/>
                  </a:lnTo>
                  <a:lnTo>
                    <a:pt x="522" y="269"/>
                  </a:lnTo>
                  <a:lnTo>
                    <a:pt x="517" y="277"/>
                  </a:lnTo>
                  <a:lnTo>
                    <a:pt x="512" y="286"/>
                  </a:lnTo>
                  <a:lnTo>
                    <a:pt x="507" y="295"/>
                  </a:lnTo>
                  <a:lnTo>
                    <a:pt x="427" y="950"/>
                  </a:lnTo>
                  <a:lnTo>
                    <a:pt x="428" y="970"/>
                  </a:lnTo>
                  <a:lnTo>
                    <a:pt x="429" y="990"/>
                  </a:lnTo>
                  <a:lnTo>
                    <a:pt x="431" y="1009"/>
                  </a:lnTo>
                  <a:lnTo>
                    <a:pt x="434" y="1026"/>
                  </a:lnTo>
                  <a:lnTo>
                    <a:pt x="437" y="1041"/>
                  </a:lnTo>
                  <a:lnTo>
                    <a:pt x="442" y="1057"/>
                  </a:lnTo>
                  <a:lnTo>
                    <a:pt x="447" y="1073"/>
                  </a:lnTo>
                  <a:lnTo>
                    <a:pt x="453" y="1087"/>
                  </a:lnTo>
                  <a:lnTo>
                    <a:pt x="457" y="1093"/>
                  </a:lnTo>
                  <a:lnTo>
                    <a:pt x="460" y="1099"/>
                  </a:lnTo>
                  <a:lnTo>
                    <a:pt x="463" y="1106"/>
                  </a:lnTo>
                  <a:lnTo>
                    <a:pt x="468" y="1111"/>
                  </a:lnTo>
                  <a:lnTo>
                    <a:pt x="471" y="1114"/>
                  </a:lnTo>
                  <a:lnTo>
                    <a:pt x="475" y="1119"/>
                  </a:lnTo>
                  <a:lnTo>
                    <a:pt x="480" y="1123"/>
                  </a:lnTo>
                  <a:lnTo>
                    <a:pt x="485" y="1126"/>
                  </a:lnTo>
                  <a:lnTo>
                    <a:pt x="494" y="1133"/>
                  </a:lnTo>
                  <a:lnTo>
                    <a:pt x="505" y="1137"/>
                  </a:lnTo>
                  <a:lnTo>
                    <a:pt x="516" y="1140"/>
                  </a:lnTo>
                  <a:lnTo>
                    <a:pt x="528" y="1140"/>
                  </a:lnTo>
                  <a:lnTo>
                    <a:pt x="538" y="1139"/>
                  </a:lnTo>
                  <a:lnTo>
                    <a:pt x="547" y="1137"/>
                  </a:lnTo>
                  <a:lnTo>
                    <a:pt x="557" y="1132"/>
                  </a:lnTo>
                  <a:lnTo>
                    <a:pt x="567" y="1126"/>
                  </a:lnTo>
                  <a:lnTo>
                    <a:pt x="576" y="1118"/>
                  </a:lnTo>
                  <a:lnTo>
                    <a:pt x="585" y="1107"/>
                  </a:lnTo>
                  <a:lnTo>
                    <a:pt x="596" y="1097"/>
                  </a:lnTo>
                  <a:lnTo>
                    <a:pt x="605" y="1083"/>
                  </a:lnTo>
                  <a:lnTo>
                    <a:pt x="614" y="1067"/>
                  </a:lnTo>
                  <a:lnTo>
                    <a:pt x="623" y="1052"/>
                  </a:lnTo>
                  <a:lnTo>
                    <a:pt x="631" y="1035"/>
                  </a:lnTo>
                  <a:lnTo>
                    <a:pt x="640" y="1016"/>
                  </a:lnTo>
                  <a:lnTo>
                    <a:pt x="647" y="995"/>
                  </a:lnTo>
                  <a:lnTo>
                    <a:pt x="655" y="974"/>
                  </a:lnTo>
                  <a:lnTo>
                    <a:pt x="662" y="95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32080" y="2313000"/>
              <a:ext cx="239760" cy="450720"/>
            </a:xfrm>
            <a:custGeom>
              <a:avLst/>
              <a:gdLst/>
              <a:ahLst/>
              <a:rect l="l" t="t" r="r" b="b"/>
              <a:pathLst>
                <a:path w="667" h="1252">
                  <a:moveTo>
                    <a:pt x="309" y="1251"/>
                  </a:moveTo>
                  <a:lnTo>
                    <a:pt x="271" y="1249"/>
                  </a:lnTo>
                  <a:lnTo>
                    <a:pt x="253" y="1246"/>
                  </a:lnTo>
                  <a:lnTo>
                    <a:pt x="236" y="1242"/>
                  </a:lnTo>
                  <a:lnTo>
                    <a:pt x="219" y="1237"/>
                  </a:lnTo>
                  <a:lnTo>
                    <a:pt x="203" y="1230"/>
                  </a:lnTo>
                  <a:lnTo>
                    <a:pt x="187" y="1222"/>
                  </a:lnTo>
                  <a:lnTo>
                    <a:pt x="172" y="1213"/>
                  </a:lnTo>
                  <a:lnTo>
                    <a:pt x="157" y="1203"/>
                  </a:lnTo>
                  <a:lnTo>
                    <a:pt x="144" y="1192"/>
                  </a:lnTo>
                  <a:lnTo>
                    <a:pt x="131" y="1180"/>
                  </a:lnTo>
                  <a:lnTo>
                    <a:pt x="118" y="1166"/>
                  </a:lnTo>
                  <a:lnTo>
                    <a:pt x="106" y="1152"/>
                  </a:lnTo>
                  <a:lnTo>
                    <a:pt x="95" y="1137"/>
                  </a:lnTo>
                  <a:lnTo>
                    <a:pt x="85" y="1121"/>
                  </a:lnTo>
                  <a:lnTo>
                    <a:pt x="75" y="1104"/>
                  </a:lnTo>
                  <a:lnTo>
                    <a:pt x="66" y="1087"/>
                  </a:lnTo>
                  <a:lnTo>
                    <a:pt x="57" y="1069"/>
                  </a:lnTo>
                  <a:lnTo>
                    <a:pt x="50" y="1050"/>
                  </a:lnTo>
                  <a:lnTo>
                    <a:pt x="42" y="1029"/>
                  </a:lnTo>
                  <a:lnTo>
                    <a:pt x="35" y="1009"/>
                  </a:lnTo>
                  <a:lnTo>
                    <a:pt x="29" y="988"/>
                  </a:lnTo>
                  <a:lnTo>
                    <a:pt x="23" y="965"/>
                  </a:lnTo>
                  <a:lnTo>
                    <a:pt x="18" y="943"/>
                  </a:lnTo>
                  <a:lnTo>
                    <a:pt x="14" y="920"/>
                  </a:lnTo>
                  <a:lnTo>
                    <a:pt x="10" y="896"/>
                  </a:lnTo>
                  <a:lnTo>
                    <a:pt x="6" y="872"/>
                  </a:lnTo>
                  <a:lnTo>
                    <a:pt x="4" y="847"/>
                  </a:lnTo>
                  <a:lnTo>
                    <a:pt x="2" y="821"/>
                  </a:lnTo>
                  <a:lnTo>
                    <a:pt x="1" y="795"/>
                  </a:lnTo>
                  <a:lnTo>
                    <a:pt x="0" y="768"/>
                  </a:lnTo>
                  <a:lnTo>
                    <a:pt x="0" y="740"/>
                  </a:lnTo>
                  <a:lnTo>
                    <a:pt x="1" y="705"/>
                  </a:lnTo>
                  <a:lnTo>
                    <a:pt x="1" y="671"/>
                  </a:lnTo>
                  <a:lnTo>
                    <a:pt x="4" y="636"/>
                  </a:lnTo>
                  <a:lnTo>
                    <a:pt x="6" y="601"/>
                  </a:lnTo>
                  <a:lnTo>
                    <a:pt x="11" y="567"/>
                  </a:lnTo>
                  <a:lnTo>
                    <a:pt x="16" y="534"/>
                  </a:lnTo>
                  <a:lnTo>
                    <a:pt x="22" y="499"/>
                  </a:lnTo>
                  <a:lnTo>
                    <a:pt x="29" y="466"/>
                  </a:lnTo>
                  <a:lnTo>
                    <a:pt x="36" y="433"/>
                  </a:lnTo>
                  <a:lnTo>
                    <a:pt x="45" y="402"/>
                  </a:lnTo>
                  <a:lnTo>
                    <a:pt x="54" y="371"/>
                  </a:lnTo>
                  <a:lnTo>
                    <a:pt x="64" y="340"/>
                  </a:lnTo>
                  <a:lnTo>
                    <a:pt x="75" y="310"/>
                  </a:lnTo>
                  <a:lnTo>
                    <a:pt x="87" y="283"/>
                  </a:lnTo>
                  <a:lnTo>
                    <a:pt x="100" y="255"/>
                  </a:lnTo>
                  <a:lnTo>
                    <a:pt x="113" y="229"/>
                  </a:lnTo>
                  <a:lnTo>
                    <a:pt x="127" y="205"/>
                  </a:lnTo>
                  <a:lnTo>
                    <a:pt x="142" y="180"/>
                  </a:lnTo>
                  <a:lnTo>
                    <a:pt x="157" y="158"/>
                  </a:lnTo>
                  <a:lnTo>
                    <a:pt x="173" y="137"/>
                  </a:lnTo>
                  <a:lnTo>
                    <a:pt x="191" y="116"/>
                  </a:lnTo>
                  <a:lnTo>
                    <a:pt x="209" y="97"/>
                  </a:lnTo>
                  <a:lnTo>
                    <a:pt x="228" y="80"/>
                  </a:lnTo>
                  <a:lnTo>
                    <a:pt x="248" y="64"/>
                  </a:lnTo>
                  <a:lnTo>
                    <a:pt x="269" y="49"/>
                  </a:lnTo>
                  <a:lnTo>
                    <a:pt x="290" y="37"/>
                  </a:lnTo>
                  <a:lnTo>
                    <a:pt x="312" y="25"/>
                  </a:lnTo>
                  <a:lnTo>
                    <a:pt x="334" y="16"/>
                  </a:lnTo>
                  <a:lnTo>
                    <a:pt x="357" y="9"/>
                  </a:lnTo>
                  <a:lnTo>
                    <a:pt x="381" y="4"/>
                  </a:lnTo>
                  <a:lnTo>
                    <a:pt x="404" y="2"/>
                  </a:lnTo>
                  <a:lnTo>
                    <a:pt x="429" y="0"/>
                  </a:lnTo>
                  <a:lnTo>
                    <a:pt x="457" y="2"/>
                  </a:lnTo>
                  <a:lnTo>
                    <a:pt x="483" y="4"/>
                  </a:lnTo>
                  <a:lnTo>
                    <a:pt x="508" y="9"/>
                  </a:lnTo>
                  <a:lnTo>
                    <a:pt x="531" y="18"/>
                  </a:lnTo>
                  <a:lnTo>
                    <a:pt x="553" y="26"/>
                  </a:lnTo>
                  <a:lnTo>
                    <a:pt x="571" y="38"/>
                  </a:lnTo>
                  <a:lnTo>
                    <a:pt x="589" y="52"/>
                  </a:lnTo>
                  <a:lnTo>
                    <a:pt x="605" y="68"/>
                  </a:lnTo>
                  <a:lnTo>
                    <a:pt x="613" y="77"/>
                  </a:lnTo>
                  <a:lnTo>
                    <a:pt x="619" y="85"/>
                  </a:lnTo>
                  <a:lnTo>
                    <a:pt x="625" y="96"/>
                  </a:lnTo>
                  <a:lnTo>
                    <a:pt x="632" y="106"/>
                  </a:lnTo>
                  <a:lnTo>
                    <a:pt x="637" y="116"/>
                  </a:lnTo>
                  <a:lnTo>
                    <a:pt x="642" y="129"/>
                  </a:lnTo>
                  <a:lnTo>
                    <a:pt x="647" y="141"/>
                  </a:lnTo>
                  <a:lnTo>
                    <a:pt x="651" y="153"/>
                  </a:lnTo>
                  <a:lnTo>
                    <a:pt x="654" y="167"/>
                  </a:lnTo>
                  <a:lnTo>
                    <a:pt x="658" y="180"/>
                  </a:lnTo>
                  <a:lnTo>
                    <a:pt x="660" y="194"/>
                  </a:lnTo>
                  <a:lnTo>
                    <a:pt x="663" y="208"/>
                  </a:lnTo>
                  <a:lnTo>
                    <a:pt x="663" y="224"/>
                  </a:lnTo>
                  <a:lnTo>
                    <a:pt x="665" y="239"/>
                  </a:lnTo>
                  <a:lnTo>
                    <a:pt x="666" y="255"/>
                  </a:lnTo>
                  <a:lnTo>
                    <a:pt x="666" y="272"/>
                  </a:lnTo>
                  <a:lnTo>
                    <a:pt x="666" y="288"/>
                  </a:lnTo>
                  <a:lnTo>
                    <a:pt x="665" y="303"/>
                  </a:lnTo>
                  <a:lnTo>
                    <a:pt x="664" y="319"/>
                  </a:lnTo>
                  <a:lnTo>
                    <a:pt x="663" y="335"/>
                  </a:lnTo>
                  <a:lnTo>
                    <a:pt x="661" y="350"/>
                  </a:lnTo>
                  <a:lnTo>
                    <a:pt x="658" y="364"/>
                  </a:lnTo>
                  <a:lnTo>
                    <a:pt x="656" y="380"/>
                  </a:lnTo>
                  <a:lnTo>
                    <a:pt x="652" y="394"/>
                  </a:lnTo>
                  <a:lnTo>
                    <a:pt x="649" y="407"/>
                  </a:lnTo>
                  <a:lnTo>
                    <a:pt x="646" y="421"/>
                  </a:lnTo>
                  <a:lnTo>
                    <a:pt x="641" y="433"/>
                  </a:lnTo>
                  <a:lnTo>
                    <a:pt x="636" y="447"/>
                  </a:lnTo>
                  <a:lnTo>
                    <a:pt x="625" y="472"/>
                  </a:lnTo>
                  <a:lnTo>
                    <a:pt x="613" y="496"/>
                  </a:lnTo>
                  <a:lnTo>
                    <a:pt x="600" y="518"/>
                  </a:lnTo>
                  <a:lnTo>
                    <a:pt x="585" y="539"/>
                  </a:lnTo>
                  <a:lnTo>
                    <a:pt x="569" y="560"/>
                  </a:lnTo>
                  <a:lnTo>
                    <a:pt x="552" y="577"/>
                  </a:lnTo>
                  <a:lnTo>
                    <a:pt x="534" y="595"/>
                  </a:lnTo>
                  <a:lnTo>
                    <a:pt x="514" y="610"/>
                  </a:lnTo>
                  <a:lnTo>
                    <a:pt x="493" y="624"/>
                  </a:lnTo>
                  <a:lnTo>
                    <a:pt x="471" y="636"/>
                  </a:lnTo>
                  <a:lnTo>
                    <a:pt x="405" y="669"/>
                  </a:lnTo>
                  <a:lnTo>
                    <a:pt x="376" y="683"/>
                  </a:lnTo>
                  <a:lnTo>
                    <a:pt x="349" y="692"/>
                  </a:lnTo>
                  <a:lnTo>
                    <a:pt x="323" y="700"/>
                  </a:lnTo>
                  <a:lnTo>
                    <a:pt x="293" y="707"/>
                  </a:lnTo>
                  <a:lnTo>
                    <a:pt x="227" y="723"/>
                  </a:lnTo>
                  <a:lnTo>
                    <a:pt x="227" y="750"/>
                  </a:lnTo>
                  <a:lnTo>
                    <a:pt x="229" y="778"/>
                  </a:lnTo>
                  <a:lnTo>
                    <a:pt x="232" y="809"/>
                  </a:lnTo>
                  <a:lnTo>
                    <a:pt x="234" y="841"/>
                  </a:lnTo>
                  <a:lnTo>
                    <a:pt x="236" y="856"/>
                  </a:lnTo>
                  <a:lnTo>
                    <a:pt x="238" y="872"/>
                  </a:lnTo>
                  <a:lnTo>
                    <a:pt x="240" y="887"/>
                  </a:lnTo>
                  <a:lnTo>
                    <a:pt x="243" y="901"/>
                  </a:lnTo>
                  <a:lnTo>
                    <a:pt x="245" y="915"/>
                  </a:lnTo>
                  <a:lnTo>
                    <a:pt x="248" y="929"/>
                  </a:lnTo>
                  <a:lnTo>
                    <a:pt x="250" y="941"/>
                  </a:lnTo>
                  <a:lnTo>
                    <a:pt x="254" y="953"/>
                  </a:lnTo>
                  <a:lnTo>
                    <a:pt x="258" y="965"/>
                  </a:lnTo>
                  <a:lnTo>
                    <a:pt x="262" y="977"/>
                  </a:lnTo>
                  <a:lnTo>
                    <a:pt x="267" y="990"/>
                  </a:lnTo>
                  <a:lnTo>
                    <a:pt x="272" y="1002"/>
                  </a:lnTo>
                  <a:lnTo>
                    <a:pt x="278" y="1010"/>
                  </a:lnTo>
                  <a:lnTo>
                    <a:pt x="284" y="1021"/>
                  </a:lnTo>
                  <a:lnTo>
                    <a:pt x="291" y="1029"/>
                  </a:lnTo>
                  <a:lnTo>
                    <a:pt x="298" y="1038"/>
                  </a:lnTo>
                  <a:lnTo>
                    <a:pt x="305" y="1045"/>
                  </a:lnTo>
                  <a:lnTo>
                    <a:pt x="313" y="1052"/>
                  </a:lnTo>
                  <a:lnTo>
                    <a:pt x="321" y="1057"/>
                  </a:lnTo>
                  <a:lnTo>
                    <a:pt x="331" y="1062"/>
                  </a:lnTo>
                  <a:lnTo>
                    <a:pt x="339" y="1064"/>
                  </a:lnTo>
                  <a:lnTo>
                    <a:pt x="349" y="1067"/>
                  </a:lnTo>
                  <a:lnTo>
                    <a:pt x="360" y="1069"/>
                  </a:lnTo>
                  <a:lnTo>
                    <a:pt x="371" y="1069"/>
                  </a:lnTo>
                  <a:lnTo>
                    <a:pt x="389" y="1069"/>
                  </a:lnTo>
                  <a:lnTo>
                    <a:pt x="407" y="1066"/>
                  </a:lnTo>
                  <a:lnTo>
                    <a:pt x="425" y="1062"/>
                  </a:lnTo>
                  <a:lnTo>
                    <a:pt x="441" y="1055"/>
                  </a:lnTo>
                  <a:lnTo>
                    <a:pt x="457" y="1048"/>
                  </a:lnTo>
                  <a:lnTo>
                    <a:pt x="472" y="1040"/>
                  </a:lnTo>
                  <a:lnTo>
                    <a:pt x="487" y="1028"/>
                  </a:lnTo>
                  <a:lnTo>
                    <a:pt x="501" y="1016"/>
                  </a:lnTo>
                  <a:lnTo>
                    <a:pt x="514" y="1002"/>
                  </a:lnTo>
                  <a:lnTo>
                    <a:pt x="527" y="984"/>
                  </a:lnTo>
                  <a:lnTo>
                    <a:pt x="540" y="965"/>
                  </a:lnTo>
                  <a:lnTo>
                    <a:pt x="553" y="944"/>
                  </a:lnTo>
                  <a:lnTo>
                    <a:pt x="565" y="922"/>
                  </a:lnTo>
                  <a:lnTo>
                    <a:pt x="578" y="898"/>
                  </a:lnTo>
                  <a:lnTo>
                    <a:pt x="591" y="872"/>
                  </a:lnTo>
                  <a:lnTo>
                    <a:pt x="602" y="842"/>
                  </a:lnTo>
                  <a:lnTo>
                    <a:pt x="650" y="915"/>
                  </a:lnTo>
                  <a:lnTo>
                    <a:pt x="635" y="953"/>
                  </a:lnTo>
                  <a:lnTo>
                    <a:pt x="619" y="988"/>
                  </a:lnTo>
                  <a:lnTo>
                    <a:pt x="602" y="1021"/>
                  </a:lnTo>
                  <a:lnTo>
                    <a:pt x="583" y="1054"/>
                  </a:lnTo>
                  <a:lnTo>
                    <a:pt x="564" y="1083"/>
                  </a:lnTo>
                  <a:lnTo>
                    <a:pt x="544" y="1111"/>
                  </a:lnTo>
                  <a:lnTo>
                    <a:pt x="522" y="1135"/>
                  </a:lnTo>
                  <a:lnTo>
                    <a:pt x="500" y="1159"/>
                  </a:lnTo>
                  <a:lnTo>
                    <a:pt x="477" y="1180"/>
                  </a:lnTo>
                  <a:lnTo>
                    <a:pt x="454" y="1199"/>
                  </a:lnTo>
                  <a:lnTo>
                    <a:pt x="431" y="1215"/>
                  </a:lnTo>
                  <a:lnTo>
                    <a:pt x="407" y="1229"/>
                  </a:lnTo>
                  <a:lnTo>
                    <a:pt x="383" y="1237"/>
                  </a:lnTo>
                  <a:lnTo>
                    <a:pt x="359" y="1246"/>
                  </a:lnTo>
                  <a:lnTo>
                    <a:pt x="333" y="1249"/>
                  </a:lnTo>
                  <a:close/>
                  <a:moveTo>
                    <a:pt x="455" y="305"/>
                  </a:moveTo>
                  <a:lnTo>
                    <a:pt x="455" y="281"/>
                  </a:lnTo>
                  <a:lnTo>
                    <a:pt x="454" y="257"/>
                  </a:lnTo>
                  <a:lnTo>
                    <a:pt x="453" y="236"/>
                  </a:lnTo>
                  <a:lnTo>
                    <a:pt x="450" y="215"/>
                  </a:lnTo>
                  <a:lnTo>
                    <a:pt x="448" y="196"/>
                  </a:lnTo>
                  <a:lnTo>
                    <a:pt x="444" y="179"/>
                  </a:lnTo>
                  <a:lnTo>
                    <a:pt x="442" y="172"/>
                  </a:lnTo>
                  <a:lnTo>
                    <a:pt x="440" y="163"/>
                  </a:lnTo>
                  <a:lnTo>
                    <a:pt x="437" y="156"/>
                  </a:lnTo>
                  <a:lnTo>
                    <a:pt x="435" y="149"/>
                  </a:lnTo>
                  <a:lnTo>
                    <a:pt x="432" y="142"/>
                  </a:lnTo>
                  <a:lnTo>
                    <a:pt x="430" y="137"/>
                  </a:lnTo>
                  <a:lnTo>
                    <a:pt x="426" y="130"/>
                  </a:lnTo>
                  <a:lnTo>
                    <a:pt x="424" y="125"/>
                  </a:lnTo>
                  <a:lnTo>
                    <a:pt x="420" y="122"/>
                  </a:lnTo>
                  <a:lnTo>
                    <a:pt x="418" y="116"/>
                  </a:lnTo>
                  <a:lnTo>
                    <a:pt x="415" y="113"/>
                  </a:lnTo>
                  <a:lnTo>
                    <a:pt x="411" y="109"/>
                  </a:lnTo>
                  <a:lnTo>
                    <a:pt x="408" y="106"/>
                  </a:lnTo>
                  <a:lnTo>
                    <a:pt x="404" y="103"/>
                  </a:lnTo>
                  <a:lnTo>
                    <a:pt x="400" y="101"/>
                  </a:lnTo>
                  <a:lnTo>
                    <a:pt x="397" y="99"/>
                  </a:lnTo>
                  <a:lnTo>
                    <a:pt x="393" y="97"/>
                  </a:lnTo>
                  <a:lnTo>
                    <a:pt x="388" y="96"/>
                  </a:lnTo>
                  <a:lnTo>
                    <a:pt x="380" y="96"/>
                  </a:lnTo>
                  <a:lnTo>
                    <a:pt x="374" y="96"/>
                  </a:lnTo>
                  <a:lnTo>
                    <a:pt x="367" y="97"/>
                  </a:lnTo>
                  <a:lnTo>
                    <a:pt x="361" y="101"/>
                  </a:lnTo>
                  <a:lnTo>
                    <a:pt x="355" y="104"/>
                  </a:lnTo>
                  <a:lnTo>
                    <a:pt x="349" y="109"/>
                  </a:lnTo>
                  <a:lnTo>
                    <a:pt x="343" y="116"/>
                  </a:lnTo>
                  <a:lnTo>
                    <a:pt x="337" y="125"/>
                  </a:lnTo>
                  <a:lnTo>
                    <a:pt x="331" y="134"/>
                  </a:lnTo>
                  <a:lnTo>
                    <a:pt x="325" y="142"/>
                  </a:lnTo>
                  <a:lnTo>
                    <a:pt x="319" y="154"/>
                  </a:lnTo>
                  <a:lnTo>
                    <a:pt x="308" y="180"/>
                  </a:lnTo>
                  <a:lnTo>
                    <a:pt x="296" y="210"/>
                  </a:lnTo>
                  <a:lnTo>
                    <a:pt x="285" y="245"/>
                  </a:lnTo>
                  <a:lnTo>
                    <a:pt x="274" y="283"/>
                  </a:lnTo>
                  <a:lnTo>
                    <a:pt x="265" y="324"/>
                  </a:lnTo>
                  <a:lnTo>
                    <a:pt x="256" y="369"/>
                  </a:lnTo>
                  <a:lnTo>
                    <a:pt x="249" y="414"/>
                  </a:lnTo>
                  <a:lnTo>
                    <a:pt x="242" y="463"/>
                  </a:lnTo>
                  <a:lnTo>
                    <a:pt x="237" y="515"/>
                  </a:lnTo>
                  <a:lnTo>
                    <a:pt x="232" y="569"/>
                  </a:lnTo>
                  <a:lnTo>
                    <a:pt x="228" y="624"/>
                  </a:lnTo>
                  <a:lnTo>
                    <a:pt x="304" y="603"/>
                  </a:lnTo>
                  <a:lnTo>
                    <a:pt x="322" y="596"/>
                  </a:lnTo>
                  <a:lnTo>
                    <a:pt x="338" y="589"/>
                  </a:lnTo>
                  <a:lnTo>
                    <a:pt x="352" y="581"/>
                  </a:lnTo>
                  <a:lnTo>
                    <a:pt x="358" y="577"/>
                  </a:lnTo>
                  <a:lnTo>
                    <a:pt x="364" y="572"/>
                  </a:lnTo>
                  <a:lnTo>
                    <a:pt x="376" y="562"/>
                  </a:lnTo>
                  <a:lnTo>
                    <a:pt x="387" y="551"/>
                  </a:lnTo>
                  <a:lnTo>
                    <a:pt x="396" y="539"/>
                  </a:lnTo>
                  <a:lnTo>
                    <a:pt x="405" y="527"/>
                  </a:lnTo>
                  <a:lnTo>
                    <a:pt x="414" y="513"/>
                  </a:lnTo>
                  <a:lnTo>
                    <a:pt x="421" y="499"/>
                  </a:lnTo>
                  <a:lnTo>
                    <a:pt x="428" y="485"/>
                  </a:lnTo>
                  <a:lnTo>
                    <a:pt x="434" y="470"/>
                  </a:lnTo>
                  <a:lnTo>
                    <a:pt x="439" y="454"/>
                  </a:lnTo>
                  <a:lnTo>
                    <a:pt x="443" y="437"/>
                  </a:lnTo>
                  <a:lnTo>
                    <a:pt x="447" y="418"/>
                  </a:lnTo>
                  <a:lnTo>
                    <a:pt x="450" y="399"/>
                  </a:lnTo>
                  <a:lnTo>
                    <a:pt x="453" y="376"/>
                  </a:lnTo>
                  <a:lnTo>
                    <a:pt x="453" y="354"/>
                  </a:lnTo>
                  <a:lnTo>
                    <a:pt x="455" y="33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6000" y="2317680"/>
              <a:ext cx="307800" cy="438120"/>
            </a:xfrm>
            <a:custGeom>
              <a:avLst/>
              <a:gdLst/>
              <a:ahLst/>
              <a:rect l="l" t="t" r="r" b="b"/>
              <a:pathLst>
                <a:path w="854" h="1219">
                  <a:moveTo>
                    <a:pt x="144" y="286"/>
                  </a:moveTo>
                  <a:lnTo>
                    <a:pt x="144" y="270"/>
                  </a:lnTo>
                  <a:lnTo>
                    <a:pt x="144" y="255"/>
                  </a:lnTo>
                  <a:lnTo>
                    <a:pt x="142" y="241"/>
                  </a:lnTo>
                  <a:lnTo>
                    <a:pt x="141" y="229"/>
                  </a:lnTo>
                  <a:lnTo>
                    <a:pt x="139" y="224"/>
                  </a:lnTo>
                  <a:lnTo>
                    <a:pt x="139" y="218"/>
                  </a:lnTo>
                  <a:lnTo>
                    <a:pt x="137" y="213"/>
                  </a:lnTo>
                  <a:lnTo>
                    <a:pt x="136" y="208"/>
                  </a:lnTo>
                  <a:lnTo>
                    <a:pt x="134" y="203"/>
                  </a:lnTo>
                  <a:lnTo>
                    <a:pt x="133" y="199"/>
                  </a:lnTo>
                  <a:lnTo>
                    <a:pt x="131" y="196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7"/>
                  </a:lnTo>
                  <a:lnTo>
                    <a:pt x="123" y="184"/>
                  </a:lnTo>
                  <a:lnTo>
                    <a:pt x="121" y="182"/>
                  </a:lnTo>
                  <a:lnTo>
                    <a:pt x="116" y="179"/>
                  </a:lnTo>
                  <a:lnTo>
                    <a:pt x="110" y="175"/>
                  </a:lnTo>
                  <a:lnTo>
                    <a:pt x="103" y="172"/>
                  </a:lnTo>
                  <a:lnTo>
                    <a:pt x="96" y="170"/>
                  </a:lnTo>
                  <a:lnTo>
                    <a:pt x="89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69" y="170"/>
                  </a:lnTo>
                  <a:lnTo>
                    <a:pt x="63" y="170"/>
                  </a:lnTo>
                  <a:lnTo>
                    <a:pt x="58" y="172"/>
                  </a:lnTo>
                  <a:lnTo>
                    <a:pt x="46" y="177"/>
                  </a:lnTo>
                  <a:lnTo>
                    <a:pt x="34" y="18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38" y="78"/>
                  </a:lnTo>
                  <a:lnTo>
                    <a:pt x="63" y="63"/>
                  </a:lnTo>
                  <a:lnTo>
                    <a:pt x="89" y="47"/>
                  </a:lnTo>
                  <a:lnTo>
                    <a:pt x="116" y="31"/>
                  </a:lnTo>
                  <a:lnTo>
                    <a:pt x="144" y="17"/>
                  </a:lnTo>
                  <a:lnTo>
                    <a:pt x="168" y="9"/>
                  </a:lnTo>
                  <a:lnTo>
                    <a:pt x="179" y="5"/>
                  </a:lnTo>
                  <a:lnTo>
                    <a:pt x="190" y="2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8" y="2"/>
                  </a:lnTo>
                  <a:lnTo>
                    <a:pt x="246" y="4"/>
                  </a:lnTo>
                  <a:lnTo>
                    <a:pt x="262" y="9"/>
                  </a:lnTo>
                  <a:lnTo>
                    <a:pt x="277" y="17"/>
                  </a:lnTo>
                  <a:lnTo>
                    <a:pt x="291" y="26"/>
                  </a:lnTo>
                  <a:lnTo>
                    <a:pt x="304" y="38"/>
                  </a:lnTo>
                  <a:lnTo>
                    <a:pt x="310" y="43"/>
                  </a:lnTo>
                  <a:lnTo>
                    <a:pt x="315" y="50"/>
                  </a:lnTo>
                  <a:lnTo>
                    <a:pt x="321" y="57"/>
                  </a:lnTo>
                  <a:lnTo>
                    <a:pt x="326" y="66"/>
                  </a:lnTo>
                  <a:lnTo>
                    <a:pt x="331" y="75"/>
                  </a:lnTo>
                  <a:lnTo>
                    <a:pt x="335" y="83"/>
                  </a:lnTo>
                  <a:lnTo>
                    <a:pt x="339" y="92"/>
                  </a:lnTo>
                  <a:lnTo>
                    <a:pt x="343" y="101"/>
                  </a:lnTo>
                  <a:lnTo>
                    <a:pt x="346" y="109"/>
                  </a:lnTo>
                  <a:lnTo>
                    <a:pt x="349" y="120"/>
                  </a:lnTo>
                  <a:lnTo>
                    <a:pt x="353" y="130"/>
                  </a:lnTo>
                  <a:lnTo>
                    <a:pt x="355" y="140"/>
                  </a:lnTo>
                  <a:lnTo>
                    <a:pt x="357" y="151"/>
                  </a:lnTo>
                  <a:lnTo>
                    <a:pt x="359" y="161"/>
                  </a:lnTo>
                  <a:lnTo>
                    <a:pt x="361" y="172"/>
                  </a:lnTo>
                  <a:lnTo>
                    <a:pt x="362" y="184"/>
                  </a:lnTo>
                  <a:lnTo>
                    <a:pt x="363" y="196"/>
                  </a:lnTo>
                  <a:lnTo>
                    <a:pt x="364" y="208"/>
                  </a:lnTo>
                  <a:lnTo>
                    <a:pt x="365" y="220"/>
                  </a:lnTo>
                  <a:lnTo>
                    <a:pt x="365" y="232"/>
                  </a:lnTo>
                  <a:lnTo>
                    <a:pt x="365" y="246"/>
                  </a:lnTo>
                  <a:lnTo>
                    <a:pt x="364" y="262"/>
                  </a:lnTo>
                  <a:lnTo>
                    <a:pt x="363" y="279"/>
                  </a:lnTo>
                  <a:lnTo>
                    <a:pt x="362" y="296"/>
                  </a:lnTo>
                  <a:lnTo>
                    <a:pt x="359" y="333"/>
                  </a:lnTo>
                  <a:lnTo>
                    <a:pt x="354" y="373"/>
                  </a:lnTo>
                  <a:lnTo>
                    <a:pt x="348" y="411"/>
                  </a:lnTo>
                  <a:lnTo>
                    <a:pt x="345" y="442"/>
                  </a:lnTo>
                  <a:lnTo>
                    <a:pt x="344" y="458"/>
                  </a:lnTo>
                  <a:lnTo>
                    <a:pt x="343" y="470"/>
                  </a:lnTo>
                  <a:lnTo>
                    <a:pt x="343" y="480"/>
                  </a:lnTo>
                  <a:lnTo>
                    <a:pt x="343" y="490"/>
                  </a:lnTo>
                  <a:lnTo>
                    <a:pt x="343" y="508"/>
                  </a:lnTo>
                  <a:lnTo>
                    <a:pt x="343" y="525"/>
                  </a:lnTo>
                  <a:lnTo>
                    <a:pt x="344" y="539"/>
                  </a:lnTo>
                  <a:lnTo>
                    <a:pt x="346" y="553"/>
                  </a:lnTo>
                  <a:lnTo>
                    <a:pt x="348" y="560"/>
                  </a:lnTo>
                  <a:lnTo>
                    <a:pt x="348" y="565"/>
                  </a:lnTo>
                  <a:lnTo>
                    <a:pt x="349" y="570"/>
                  </a:lnTo>
                  <a:lnTo>
                    <a:pt x="351" y="575"/>
                  </a:lnTo>
                  <a:lnTo>
                    <a:pt x="352" y="579"/>
                  </a:lnTo>
                  <a:lnTo>
                    <a:pt x="354" y="584"/>
                  </a:lnTo>
                  <a:lnTo>
                    <a:pt x="355" y="587"/>
                  </a:lnTo>
                  <a:lnTo>
                    <a:pt x="357" y="591"/>
                  </a:lnTo>
                  <a:lnTo>
                    <a:pt x="359" y="594"/>
                  </a:lnTo>
                  <a:lnTo>
                    <a:pt x="360" y="598"/>
                  </a:lnTo>
                  <a:lnTo>
                    <a:pt x="363" y="601"/>
                  </a:lnTo>
                  <a:lnTo>
                    <a:pt x="365" y="603"/>
                  </a:lnTo>
                  <a:lnTo>
                    <a:pt x="367" y="607"/>
                  </a:lnTo>
                  <a:lnTo>
                    <a:pt x="370" y="608"/>
                  </a:lnTo>
                  <a:lnTo>
                    <a:pt x="372" y="610"/>
                  </a:lnTo>
                  <a:lnTo>
                    <a:pt x="375" y="612"/>
                  </a:lnTo>
                  <a:lnTo>
                    <a:pt x="380" y="615"/>
                  </a:lnTo>
                  <a:lnTo>
                    <a:pt x="386" y="617"/>
                  </a:lnTo>
                  <a:lnTo>
                    <a:pt x="392" y="619"/>
                  </a:lnTo>
                  <a:lnTo>
                    <a:pt x="399" y="619"/>
                  </a:lnTo>
                  <a:lnTo>
                    <a:pt x="406" y="619"/>
                  </a:lnTo>
                  <a:lnTo>
                    <a:pt x="412" y="617"/>
                  </a:lnTo>
                  <a:lnTo>
                    <a:pt x="419" y="617"/>
                  </a:lnTo>
                  <a:lnTo>
                    <a:pt x="425" y="615"/>
                  </a:lnTo>
                  <a:lnTo>
                    <a:pt x="440" y="610"/>
                  </a:lnTo>
                  <a:lnTo>
                    <a:pt x="454" y="603"/>
                  </a:lnTo>
                  <a:lnTo>
                    <a:pt x="462" y="600"/>
                  </a:lnTo>
                  <a:lnTo>
                    <a:pt x="470" y="594"/>
                  </a:lnTo>
                  <a:lnTo>
                    <a:pt x="479" y="587"/>
                  </a:lnTo>
                  <a:lnTo>
                    <a:pt x="488" y="581"/>
                  </a:lnTo>
                  <a:lnTo>
                    <a:pt x="507" y="563"/>
                  </a:lnTo>
                  <a:lnTo>
                    <a:pt x="527" y="542"/>
                  </a:lnTo>
                  <a:lnTo>
                    <a:pt x="592" y="21"/>
                  </a:lnTo>
                  <a:lnTo>
                    <a:pt x="800" y="4"/>
                  </a:lnTo>
                  <a:lnTo>
                    <a:pt x="807" y="21"/>
                  </a:lnTo>
                  <a:lnTo>
                    <a:pt x="715" y="754"/>
                  </a:lnTo>
                  <a:lnTo>
                    <a:pt x="712" y="773"/>
                  </a:lnTo>
                  <a:lnTo>
                    <a:pt x="710" y="795"/>
                  </a:lnTo>
                  <a:lnTo>
                    <a:pt x="707" y="818"/>
                  </a:lnTo>
                  <a:lnTo>
                    <a:pt x="705" y="846"/>
                  </a:lnTo>
                  <a:lnTo>
                    <a:pt x="702" y="873"/>
                  </a:lnTo>
                  <a:lnTo>
                    <a:pt x="701" y="896"/>
                  </a:lnTo>
                  <a:lnTo>
                    <a:pt x="699" y="915"/>
                  </a:lnTo>
                  <a:lnTo>
                    <a:pt x="699" y="924"/>
                  </a:lnTo>
                  <a:lnTo>
                    <a:pt x="699" y="930"/>
                  </a:lnTo>
                  <a:lnTo>
                    <a:pt x="699" y="948"/>
                  </a:lnTo>
                  <a:lnTo>
                    <a:pt x="700" y="963"/>
                  </a:lnTo>
                  <a:lnTo>
                    <a:pt x="701" y="977"/>
                  </a:lnTo>
                  <a:lnTo>
                    <a:pt x="702" y="982"/>
                  </a:lnTo>
                  <a:lnTo>
                    <a:pt x="703" y="989"/>
                  </a:lnTo>
                  <a:lnTo>
                    <a:pt x="704" y="995"/>
                  </a:lnTo>
                  <a:lnTo>
                    <a:pt x="705" y="1000"/>
                  </a:lnTo>
                  <a:lnTo>
                    <a:pt x="707" y="1005"/>
                  </a:lnTo>
                  <a:lnTo>
                    <a:pt x="708" y="1010"/>
                  </a:lnTo>
                  <a:lnTo>
                    <a:pt x="709" y="1015"/>
                  </a:lnTo>
                  <a:lnTo>
                    <a:pt x="711" y="1019"/>
                  </a:lnTo>
                  <a:lnTo>
                    <a:pt x="713" y="1022"/>
                  </a:lnTo>
                  <a:lnTo>
                    <a:pt x="715" y="1026"/>
                  </a:lnTo>
                  <a:lnTo>
                    <a:pt x="718" y="1029"/>
                  </a:lnTo>
                  <a:lnTo>
                    <a:pt x="719" y="1031"/>
                  </a:lnTo>
                  <a:lnTo>
                    <a:pt x="722" y="1034"/>
                  </a:lnTo>
                  <a:lnTo>
                    <a:pt x="725" y="1036"/>
                  </a:lnTo>
                  <a:lnTo>
                    <a:pt x="731" y="1040"/>
                  </a:lnTo>
                  <a:lnTo>
                    <a:pt x="738" y="1043"/>
                  </a:lnTo>
                  <a:lnTo>
                    <a:pt x="746" y="1047"/>
                  </a:lnTo>
                  <a:lnTo>
                    <a:pt x="754" y="1048"/>
                  </a:lnTo>
                  <a:lnTo>
                    <a:pt x="762" y="1050"/>
                  </a:lnTo>
                  <a:lnTo>
                    <a:pt x="773" y="1050"/>
                  </a:lnTo>
                  <a:lnTo>
                    <a:pt x="778" y="1050"/>
                  </a:lnTo>
                  <a:lnTo>
                    <a:pt x="783" y="1050"/>
                  </a:lnTo>
                  <a:lnTo>
                    <a:pt x="789" y="1048"/>
                  </a:lnTo>
                  <a:lnTo>
                    <a:pt x="794" y="1047"/>
                  </a:lnTo>
                  <a:lnTo>
                    <a:pt x="806" y="1043"/>
                  </a:lnTo>
                  <a:lnTo>
                    <a:pt x="817" y="1038"/>
                  </a:lnTo>
                  <a:lnTo>
                    <a:pt x="839" y="1026"/>
                  </a:lnTo>
                  <a:lnTo>
                    <a:pt x="846" y="1021"/>
                  </a:lnTo>
                  <a:lnTo>
                    <a:pt x="850" y="1019"/>
                  </a:lnTo>
                  <a:lnTo>
                    <a:pt x="853" y="1015"/>
                  </a:lnTo>
                  <a:lnTo>
                    <a:pt x="839" y="1123"/>
                  </a:lnTo>
                  <a:lnTo>
                    <a:pt x="736" y="1194"/>
                  </a:lnTo>
                  <a:lnTo>
                    <a:pt x="727" y="1199"/>
                  </a:lnTo>
                  <a:lnTo>
                    <a:pt x="717" y="1204"/>
                  </a:lnTo>
                  <a:lnTo>
                    <a:pt x="706" y="1208"/>
                  </a:lnTo>
                  <a:lnTo>
                    <a:pt x="695" y="1211"/>
                  </a:lnTo>
                  <a:lnTo>
                    <a:pt x="684" y="1215"/>
                  </a:lnTo>
                  <a:lnTo>
                    <a:pt x="672" y="1216"/>
                  </a:lnTo>
                  <a:lnTo>
                    <a:pt x="660" y="1218"/>
                  </a:lnTo>
                  <a:lnTo>
                    <a:pt x="647" y="1218"/>
                  </a:lnTo>
                  <a:lnTo>
                    <a:pt x="630" y="1216"/>
                  </a:lnTo>
                  <a:lnTo>
                    <a:pt x="613" y="1215"/>
                  </a:lnTo>
                  <a:lnTo>
                    <a:pt x="597" y="1209"/>
                  </a:lnTo>
                  <a:lnTo>
                    <a:pt x="583" y="1201"/>
                  </a:lnTo>
                  <a:lnTo>
                    <a:pt x="569" y="1192"/>
                  </a:lnTo>
                  <a:lnTo>
                    <a:pt x="555" y="1180"/>
                  </a:lnTo>
                  <a:lnTo>
                    <a:pt x="542" y="1166"/>
                  </a:lnTo>
                  <a:lnTo>
                    <a:pt x="530" y="1150"/>
                  </a:lnTo>
                  <a:lnTo>
                    <a:pt x="525" y="1142"/>
                  </a:lnTo>
                  <a:lnTo>
                    <a:pt x="519" y="1133"/>
                  </a:lnTo>
                  <a:lnTo>
                    <a:pt x="515" y="1123"/>
                  </a:lnTo>
                  <a:lnTo>
                    <a:pt x="510" y="1114"/>
                  </a:lnTo>
                  <a:lnTo>
                    <a:pt x="507" y="1104"/>
                  </a:lnTo>
                  <a:lnTo>
                    <a:pt x="503" y="1093"/>
                  </a:lnTo>
                  <a:lnTo>
                    <a:pt x="499" y="1083"/>
                  </a:lnTo>
                  <a:lnTo>
                    <a:pt x="497" y="1071"/>
                  </a:lnTo>
                  <a:lnTo>
                    <a:pt x="493" y="1060"/>
                  </a:lnTo>
                  <a:lnTo>
                    <a:pt x="492" y="1048"/>
                  </a:lnTo>
                  <a:lnTo>
                    <a:pt x="489" y="1036"/>
                  </a:lnTo>
                  <a:lnTo>
                    <a:pt x="487" y="1024"/>
                  </a:lnTo>
                  <a:lnTo>
                    <a:pt x="486" y="1010"/>
                  </a:lnTo>
                  <a:lnTo>
                    <a:pt x="486" y="998"/>
                  </a:lnTo>
                  <a:lnTo>
                    <a:pt x="485" y="984"/>
                  </a:lnTo>
                  <a:lnTo>
                    <a:pt x="485" y="970"/>
                  </a:lnTo>
                  <a:lnTo>
                    <a:pt x="485" y="917"/>
                  </a:lnTo>
                  <a:lnTo>
                    <a:pt x="486" y="894"/>
                  </a:lnTo>
                  <a:lnTo>
                    <a:pt x="486" y="885"/>
                  </a:lnTo>
                  <a:lnTo>
                    <a:pt x="486" y="877"/>
                  </a:lnTo>
                  <a:lnTo>
                    <a:pt x="487" y="868"/>
                  </a:lnTo>
                  <a:lnTo>
                    <a:pt x="487" y="859"/>
                  </a:lnTo>
                  <a:lnTo>
                    <a:pt x="490" y="839"/>
                  </a:lnTo>
                  <a:lnTo>
                    <a:pt x="492" y="813"/>
                  </a:lnTo>
                  <a:lnTo>
                    <a:pt x="496" y="783"/>
                  </a:lnTo>
                  <a:lnTo>
                    <a:pt x="513" y="658"/>
                  </a:lnTo>
                  <a:lnTo>
                    <a:pt x="486" y="688"/>
                  </a:lnTo>
                  <a:lnTo>
                    <a:pt x="457" y="717"/>
                  </a:lnTo>
                  <a:lnTo>
                    <a:pt x="428" y="743"/>
                  </a:lnTo>
                  <a:lnTo>
                    <a:pt x="398" y="768"/>
                  </a:lnTo>
                  <a:lnTo>
                    <a:pt x="381" y="780"/>
                  </a:lnTo>
                  <a:lnTo>
                    <a:pt x="365" y="788"/>
                  </a:lnTo>
                  <a:lnTo>
                    <a:pt x="349" y="797"/>
                  </a:lnTo>
                  <a:lnTo>
                    <a:pt x="332" y="804"/>
                  </a:lnTo>
                  <a:lnTo>
                    <a:pt x="315" y="809"/>
                  </a:lnTo>
                  <a:lnTo>
                    <a:pt x="297" y="813"/>
                  </a:lnTo>
                  <a:lnTo>
                    <a:pt x="278" y="816"/>
                  </a:lnTo>
                  <a:lnTo>
                    <a:pt x="260" y="816"/>
                  </a:lnTo>
                  <a:lnTo>
                    <a:pt x="243" y="814"/>
                  </a:lnTo>
                  <a:lnTo>
                    <a:pt x="227" y="813"/>
                  </a:lnTo>
                  <a:lnTo>
                    <a:pt x="211" y="807"/>
                  </a:lnTo>
                  <a:lnTo>
                    <a:pt x="198" y="799"/>
                  </a:lnTo>
                  <a:lnTo>
                    <a:pt x="184" y="790"/>
                  </a:lnTo>
                  <a:lnTo>
                    <a:pt x="178" y="785"/>
                  </a:lnTo>
                  <a:lnTo>
                    <a:pt x="173" y="778"/>
                  </a:lnTo>
                  <a:lnTo>
                    <a:pt x="167" y="771"/>
                  </a:lnTo>
                  <a:lnTo>
                    <a:pt x="162" y="764"/>
                  </a:lnTo>
                  <a:lnTo>
                    <a:pt x="157" y="757"/>
                  </a:lnTo>
                  <a:lnTo>
                    <a:pt x="153" y="749"/>
                  </a:lnTo>
                  <a:lnTo>
                    <a:pt x="149" y="740"/>
                  </a:lnTo>
                  <a:lnTo>
                    <a:pt x="144" y="731"/>
                  </a:lnTo>
                  <a:lnTo>
                    <a:pt x="141" y="723"/>
                  </a:lnTo>
                  <a:lnTo>
                    <a:pt x="138" y="712"/>
                  </a:lnTo>
                  <a:lnTo>
                    <a:pt x="135" y="702"/>
                  </a:lnTo>
                  <a:lnTo>
                    <a:pt x="132" y="691"/>
                  </a:lnTo>
                  <a:lnTo>
                    <a:pt x="129" y="681"/>
                  </a:lnTo>
                  <a:lnTo>
                    <a:pt x="127" y="669"/>
                  </a:lnTo>
                  <a:lnTo>
                    <a:pt x="125" y="657"/>
                  </a:lnTo>
                  <a:lnTo>
                    <a:pt x="123" y="645"/>
                  </a:lnTo>
                  <a:lnTo>
                    <a:pt x="121" y="619"/>
                  </a:lnTo>
                  <a:lnTo>
                    <a:pt x="119" y="591"/>
                  </a:lnTo>
                  <a:lnTo>
                    <a:pt x="118" y="561"/>
                  </a:lnTo>
                  <a:lnTo>
                    <a:pt x="118" y="544"/>
                  </a:lnTo>
                  <a:lnTo>
                    <a:pt x="119" y="529"/>
                  </a:lnTo>
                  <a:lnTo>
                    <a:pt x="120" y="509"/>
                  </a:lnTo>
                  <a:lnTo>
                    <a:pt x="122" y="492"/>
                  </a:lnTo>
                  <a:lnTo>
                    <a:pt x="123" y="471"/>
                  </a:lnTo>
                  <a:lnTo>
                    <a:pt x="126" y="452"/>
                  </a:lnTo>
                  <a:lnTo>
                    <a:pt x="128" y="432"/>
                  </a:lnTo>
                  <a:lnTo>
                    <a:pt x="132" y="411"/>
                  </a:lnTo>
                  <a:lnTo>
                    <a:pt x="138" y="369"/>
                  </a:lnTo>
                  <a:lnTo>
                    <a:pt x="141" y="336"/>
                  </a:lnTo>
                  <a:lnTo>
                    <a:pt x="143" y="321"/>
                  </a:lnTo>
                  <a:lnTo>
                    <a:pt x="144" y="307"/>
                  </a:lnTo>
                  <a:lnTo>
                    <a:pt x="144" y="29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2317680"/>
              <a:ext cx="314280" cy="444600"/>
            </a:xfrm>
            <a:custGeom>
              <a:avLst/>
              <a:gdLst/>
              <a:ahLst/>
              <a:rect l="l" t="t" r="r" b="b"/>
              <a:pathLst>
                <a:path w="875" h="1235">
                  <a:moveTo>
                    <a:pt x="499" y="1007"/>
                  </a:moveTo>
                  <a:lnTo>
                    <a:pt x="495" y="1007"/>
                  </a:lnTo>
                  <a:lnTo>
                    <a:pt x="461" y="1062"/>
                  </a:lnTo>
                  <a:lnTo>
                    <a:pt x="445" y="1086"/>
                  </a:lnTo>
                  <a:lnTo>
                    <a:pt x="428" y="1109"/>
                  </a:lnTo>
                  <a:lnTo>
                    <a:pt x="412" y="1128"/>
                  </a:lnTo>
                  <a:lnTo>
                    <a:pt x="396" y="1147"/>
                  </a:lnTo>
                  <a:lnTo>
                    <a:pt x="380" y="1164"/>
                  </a:lnTo>
                  <a:lnTo>
                    <a:pt x="365" y="1178"/>
                  </a:lnTo>
                  <a:lnTo>
                    <a:pt x="349" y="1190"/>
                  </a:lnTo>
                  <a:lnTo>
                    <a:pt x="333" y="1202"/>
                  </a:lnTo>
                  <a:lnTo>
                    <a:pt x="316" y="1211"/>
                  </a:lnTo>
                  <a:lnTo>
                    <a:pt x="298" y="1220"/>
                  </a:lnTo>
                  <a:lnTo>
                    <a:pt x="280" y="1225"/>
                  </a:lnTo>
                  <a:lnTo>
                    <a:pt x="262" y="1230"/>
                  </a:lnTo>
                  <a:lnTo>
                    <a:pt x="242" y="1232"/>
                  </a:lnTo>
                  <a:lnTo>
                    <a:pt x="222" y="1234"/>
                  </a:lnTo>
                  <a:lnTo>
                    <a:pt x="204" y="1232"/>
                  </a:lnTo>
                  <a:lnTo>
                    <a:pt x="188" y="1228"/>
                  </a:lnTo>
                  <a:lnTo>
                    <a:pt x="172" y="1223"/>
                  </a:lnTo>
                  <a:lnTo>
                    <a:pt x="158" y="1216"/>
                  </a:lnTo>
                  <a:lnTo>
                    <a:pt x="144" y="1206"/>
                  </a:lnTo>
                  <a:lnTo>
                    <a:pt x="138" y="1199"/>
                  </a:lnTo>
                  <a:lnTo>
                    <a:pt x="132" y="1192"/>
                  </a:lnTo>
                  <a:lnTo>
                    <a:pt x="126" y="1185"/>
                  </a:lnTo>
                  <a:lnTo>
                    <a:pt x="120" y="1178"/>
                  </a:lnTo>
                  <a:lnTo>
                    <a:pt x="115" y="1170"/>
                  </a:lnTo>
                  <a:lnTo>
                    <a:pt x="110" y="1161"/>
                  </a:lnTo>
                  <a:lnTo>
                    <a:pt x="101" y="1142"/>
                  </a:lnTo>
                  <a:lnTo>
                    <a:pt x="97" y="1133"/>
                  </a:lnTo>
                  <a:lnTo>
                    <a:pt x="93" y="1123"/>
                  </a:lnTo>
                  <a:lnTo>
                    <a:pt x="90" y="1112"/>
                  </a:lnTo>
                  <a:lnTo>
                    <a:pt x="87" y="1102"/>
                  </a:lnTo>
                  <a:lnTo>
                    <a:pt x="83" y="1092"/>
                  </a:lnTo>
                  <a:lnTo>
                    <a:pt x="81" y="1081"/>
                  </a:lnTo>
                  <a:lnTo>
                    <a:pt x="79" y="1069"/>
                  </a:lnTo>
                  <a:lnTo>
                    <a:pt x="76" y="1057"/>
                  </a:lnTo>
                  <a:lnTo>
                    <a:pt x="75" y="1047"/>
                  </a:lnTo>
                  <a:lnTo>
                    <a:pt x="74" y="1034"/>
                  </a:lnTo>
                  <a:lnTo>
                    <a:pt x="73" y="1022"/>
                  </a:lnTo>
                  <a:lnTo>
                    <a:pt x="72" y="1010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6"/>
                  </a:lnTo>
                  <a:lnTo>
                    <a:pt x="73" y="927"/>
                  </a:lnTo>
                  <a:lnTo>
                    <a:pt x="74" y="908"/>
                  </a:lnTo>
                  <a:lnTo>
                    <a:pt x="75" y="898"/>
                  </a:lnTo>
                  <a:lnTo>
                    <a:pt x="75" y="887"/>
                  </a:lnTo>
                  <a:lnTo>
                    <a:pt x="77" y="863"/>
                  </a:lnTo>
                  <a:lnTo>
                    <a:pt x="81" y="833"/>
                  </a:lnTo>
                  <a:lnTo>
                    <a:pt x="86" y="801"/>
                  </a:lnTo>
                  <a:lnTo>
                    <a:pt x="135" y="464"/>
                  </a:lnTo>
                  <a:lnTo>
                    <a:pt x="145" y="373"/>
                  </a:lnTo>
                  <a:lnTo>
                    <a:pt x="147" y="347"/>
                  </a:lnTo>
                  <a:lnTo>
                    <a:pt x="150" y="322"/>
                  </a:lnTo>
                  <a:lnTo>
                    <a:pt x="151" y="303"/>
                  </a:lnTo>
                  <a:lnTo>
                    <a:pt x="152" y="295"/>
                  </a:lnTo>
                  <a:lnTo>
                    <a:pt x="152" y="288"/>
                  </a:lnTo>
                  <a:lnTo>
                    <a:pt x="152" y="272"/>
                  </a:lnTo>
                  <a:lnTo>
                    <a:pt x="151" y="258"/>
                  </a:lnTo>
                  <a:lnTo>
                    <a:pt x="149" y="244"/>
                  </a:lnTo>
                  <a:lnTo>
                    <a:pt x="148" y="232"/>
                  </a:lnTo>
                  <a:lnTo>
                    <a:pt x="147" y="227"/>
                  </a:lnTo>
                  <a:lnTo>
                    <a:pt x="146" y="222"/>
                  </a:lnTo>
                  <a:lnTo>
                    <a:pt x="144" y="217"/>
                  </a:lnTo>
                  <a:lnTo>
                    <a:pt x="143" y="212"/>
                  </a:lnTo>
                  <a:lnTo>
                    <a:pt x="142" y="206"/>
                  </a:lnTo>
                  <a:lnTo>
                    <a:pt x="140" y="203"/>
                  </a:lnTo>
                  <a:lnTo>
                    <a:pt x="138" y="199"/>
                  </a:lnTo>
                  <a:lnTo>
                    <a:pt x="136" y="196"/>
                  </a:lnTo>
                  <a:lnTo>
                    <a:pt x="135" y="192"/>
                  </a:lnTo>
                  <a:lnTo>
                    <a:pt x="132" y="189"/>
                  </a:lnTo>
                  <a:lnTo>
                    <a:pt x="131" y="186"/>
                  </a:lnTo>
                  <a:lnTo>
                    <a:pt x="128" y="184"/>
                  </a:lnTo>
                  <a:lnTo>
                    <a:pt x="125" y="180"/>
                  </a:lnTo>
                  <a:lnTo>
                    <a:pt x="122" y="179"/>
                  </a:lnTo>
                  <a:lnTo>
                    <a:pt x="115" y="175"/>
                  </a:lnTo>
                  <a:lnTo>
                    <a:pt x="108" y="172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59" y="172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0"/>
                  </a:lnTo>
                  <a:lnTo>
                    <a:pt x="27" y="186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1"/>
                  </a:lnTo>
                  <a:lnTo>
                    <a:pt x="162" y="7"/>
                  </a:lnTo>
                  <a:lnTo>
                    <a:pt x="173" y="4"/>
                  </a:lnTo>
                  <a:lnTo>
                    <a:pt x="184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2" y="5"/>
                  </a:lnTo>
                  <a:lnTo>
                    <a:pt x="259" y="11"/>
                  </a:lnTo>
                  <a:lnTo>
                    <a:pt x="274" y="17"/>
                  </a:lnTo>
                  <a:lnTo>
                    <a:pt x="289" y="28"/>
                  </a:lnTo>
                  <a:lnTo>
                    <a:pt x="302" y="40"/>
                  </a:lnTo>
                  <a:lnTo>
                    <a:pt x="308" y="47"/>
                  </a:lnTo>
                  <a:lnTo>
                    <a:pt x="314" y="54"/>
                  </a:lnTo>
                  <a:lnTo>
                    <a:pt x="320" y="63"/>
                  </a:lnTo>
                  <a:lnTo>
                    <a:pt x="325" y="71"/>
                  </a:lnTo>
                  <a:lnTo>
                    <a:pt x="335" y="89"/>
                  </a:lnTo>
                  <a:lnTo>
                    <a:pt x="340" y="99"/>
                  </a:lnTo>
                  <a:lnTo>
                    <a:pt x="344" y="109"/>
                  </a:lnTo>
                  <a:lnTo>
                    <a:pt x="347" y="118"/>
                  </a:lnTo>
                  <a:lnTo>
                    <a:pt x="351" y="128"/>
                  </a:lnTo>
                  <a:lnTo>
                    <a:pt x="354" y="139"/>
                  </a:lnTo>
                  <a:lnTo>
                    <a:pt x="357" y="151"/>
                  </a:lnTo>
                  <a:lnTo>
                    <a:pt x="359" y="161"/>
                  </a:lnTo>
                  <a:lnTo>
                    <a:pt x="361" y="173"/>
                  </a:lnTo>
                  <a:lnTo>
                    <a:pt x="363" y="186"/>
                  </a:lnTo>
                  <a:lnTo>
                    <a:pt x="364" y="198"/>
                  </a:lnTo>
                  <a:lnTo>
                    <a:pt x="365" y="210"/>
                  </a:lnTo>
                  <a:lnTo>
                    <a:pt x="366" y="222"/>
                  </a:lnTo>
                  <a:lnTo>
                    <a:pt x="367" y="234"/>
                  </a:lnTo>
                  <a:lnTo>
                    <a:pt x="367" y="248"/>
                  </a:lnTo>
                  <a:lnTo>
                    <a:pt x="367" y="260"/>
                  </a:lnTo>
                  <a:lnTo>
                    <a:pt x="366" y="277"/>
                  </a:lnTo>
                  <a:lnTo>
                    <a:pt x="364" y="326"/>
                  </a:lnTo>
                  <a:lnTo>
                    <a:pt x="363" y="354"/>
                  </a:lnTo>
                  <a:lnTo>
                    <a:pt x="361" y="381"/>
                  </a:lnTo>
                  <a:lnTo>
                    <a:pt x="357" y="407"/>
                  </a:lnTo>
                  <a:lnTo>
                    <a:pt x="354" y="433"/>
                  </a:lnTo>
                  <a:lnTo>
                    <a:pt x="307" y="750"/>
                  </a:lnTo>
                  <a:lnTo>
                    <a:pt x="303" y="771"/>
                  </a:lnTo>
                  <a:lnTo>
                    <a:pt x="301" y="794"/>
                  </a:lnTo>
                  <a:lnTo>
                    <a:pt x="298" y="818"/>
                  </a:lnTo>
                  <a:lnTo>
                    <a:pt x="296" y="840"/>
                  </a:lnTo>
                  <a:lnTo>
                    <a:pt x="293" y="882"/>
                  </a:lnTo>
                  <a:lnTo>
                    <a:pt x="292" y="898"/>
                  </a:lnTo>
                  <a:lnTo>
                    <a:pt x="292" y="904"/>
                  </a:lnTo>
                  <a:lnTo>
                    <a:pt x="292" y="911"/>
                  </a:lnTo>
                  <a:lnTo>
                    <a:pt x="292" y="925"/>
                  </a:lnTo>
                  <a:lnTo>
                    <a:pt x="293" y="937"/>
                  </a:lnTo>
                  <a:lnTo>
                    <a:pt x="294" y="950"/>
                  </a:lnTo>
                  <a:lnTo>
                    <a:pt x="296" y="962"/>
                  </a:lnTo>
                  <a:lnTo>
                    <a:pt x="298" y="972"/>
                  </a:lnTo>
                  <a:lnTo>
                    <a:pt x="301" y="982"/>
                  </a:lnTo>
                  <a:lnTo>
                    <a:pt x="303" y="991"/>
                  </a:lnTo>
                  <a:lnTo>
                    <a:pt x="307" y="1000"/>
                  </a:lnTo>
                  <a:lnTo>
                    <a:pt x="308" y="1003"/>
                  </a:lnTo>
                  <a:lnTo>
                    <a:pt x="311" y="1008"/>
                  </a:lnTo>
                  <a:lnTo>
                    <a:pt x="313" y="1012"/>
                  </a:lnTo>
                  <a:lnTo>
                    <a:pt x="315" y="1014"/>
                  </a:lnTo>
                  <a:lnTo>
                    <a:pt x="318" y="1017"/>
                  </a:lnTo>
                  <a:lnTo>
                    <a:pt x="320" y="1021"/>
                  </a:lnTo>
                  <a:lnTo>
                    <a:pt x="323" y="1022"/>
                  </a:lnTo>
                  <a:lnTo>
                    <a:pt x="326" y="1024"/>
                  </a:lnTo>
                  <a:lnTo>
                    <a:pt x="333" y="1027"/>
                  </a:lnTo>
                  <a:lnTo>
                    <a:pt x="340" y="1031"/>
                  </a:lnTo>
                  <a:lnTo>
                    <a:pt x="347" y="1033"/>
                  </a:lnTo>
                  <a:lnTo>
                    <a:pt x="356" y="1033"/>
                  </a:lnTo>
                  <a:lnTo>
                    <a:pt x="363" y="1033"/>
                  </a:lnTo>
                  <a:lnTo>
                    <a:pt x="369" y="1031"/>
                  </a:lnTo>
                  <a:lnTo>
                    <a:pt x="377" y="1027"/>
                  </a:lnTo>
                  <a:lnTo>
                    <a:pt x="385" y="1022"/>
                  </a:lnTo>
                  <a:lnTo>
                    <a:pt x="394" y="1017"/>
                  </a:lnTo>
                  <a:lnTo>
                    <a:pt x="403" y="1010"/>
                  </a:lnTo>
                  <a:lnTo>
                    <a:pt x="412" y="1002"/>
                  </a:lnTo>
                  <a:lnTo>
                    <a:pt x="423" y="993"/>
                  </a:lnTo>
                  <a:lnTo>
                    <a:pt x="433" y="982"/>
                  </a:lnTo>
                  <a:lnTo>
                    <a:pt x="444" y="972"/>
                  </a:lnTo>
                  <a:lnTo>
                    <a:pt x="454" y="960"/>
                  </a:lnTo>
                  <a:lnTo>
                    <a:pt x="464" y="946"/>
                  </a:lnTo>
                  <a:lnTo>
                    <a:pt x="475" y="932"/>
                  </a:lnTo>
                  <a:lnTo>
                    <a:pt x="485" y="917"/>
                  </a:lnTo>
                  <a:lnTo>
                    <a:pt x="495" y="899"/>
                  </a:lnTo>
                  <a:lnTo>
                    <a:pt x="506" y="882"/>
                  </a:lnTo>
                  <a:lnTo>
                    <a:pt x="613" y="21"/>
                  </a:lnTo>
                  <a:lnTo>
                    <a:pt x="821" y="4"/>
                  </a:lnTo>
                  <a:lnTo>
                    <a:pt x="828" y="21"/>
                  </a:lnTo>
                  <a:lnTo>
                    <a:pt x="736" y="754"/>
                  </a:lnTo>
                  <a:lnTo>
                    <a:pt x="733" y="773"/>
                  </a:lnTo>
                  <a:lnTo>
                    <a:pt x="731" y="795"/>
                  </a:lnTo>
                  <a:lnTo>
                    <a:pt x="725" y="846"/>
                  </a:lnTo>
                  <a:lnTo>
                    <a:pt x="721" y="896"/>
                  </a:lnTo>
                  <a:lnTo>
                    <a:pt x="720" y="915"/>
                  </a:lnTo>
                  <a:lnTo>
                    <a:pt x="719" y="924"/>
                  </a:lnTo>
                  <a:lnTo>
                    <a:pt x="719" y="930"/>
                  </a:lnTo>
                  <a:lnTo>
                    <a:pt x="719" y="948"/>
                  </a:lnTo>
                  <a:lnTo>
                    <a:pt x="720" y="963"/>
                  </a:lnTo>
                  <a:lnTo>
                    <a:pt x="721" y="977"/>
                  </a:lnTo>
                  <a:lnTo>
                    <a:pt x="722" y="982"/>
                  </a:lnTo>
                  <a:lnTo>
                    <a:pt x="723" y="989"/>
                  </a:lnTo>
                  <a:lnTo>
                    <a:pt x="724" y="995"/>
                  </a:lnTo>
                  <a:lnTo>
                    <a:pt x="726" y="1000"/>
                  </a:lnTo>
                  <a:lnTo>
                    <a:pt x="727" y="1005"/>
                  </a:lnTo>
                  <a:lnTo>
                    <a:pt x="728" y="1010"/>
                  </a:lnTo>
                  <a:lnTo>
                    <a:pt x="730" y="1015"/>
                  </a:lnTo>
                  <a:lnTo>
                    <a:pt x="732" y="1019"/>
                  </a:lnTo>
                  <a:lnTo>
                    <a:pt x="734" y="1022"/>
                  </a:lnTo>
                  <a:lnTo>
                    <a:pt x="736" y="1026"/>
                  </a:lnTo>
                  <a:lnTo>
                    <a:pt x="738" y="1029"/>
                  </a:lnTo>
                  <a:lnTo>
                    <a:pt x="740" y="1031"/>
                  </a:lnTo>
                  <a:lnTo>
                    <a:pt x="743" y="1034"/>
                  </a:lnTo>
                  <a:lnTo>
                    <a:pt x="746" y="1036"/>
                  </a:lnTo>
                  <a:lnTo>
                    <a:pt x="752" y="1040"/>
                  </a:lnTo>
                  <a:lnTo>
                    <a:pt x="759" y="1043"/>
                  </a:lnTo>
                  <a:lnTo>
                    <a:pt x="766" y="1047"/>
                  </a:lnTo>
                  <a:lnTo>
                    <a:pt x="775" y="1048"/>
                  </a:lnTo>
                  <a:lnTo>
                    <a:pt x="784" y="1050"/>
                  </a:lnTo>
                  <a:lnTo>
                    <a:pt x="794" y="1050"/>
                  </a:lnTo>
                  <a:lnTo>
                    <a:pt x="799" y="1050"/>
                  </a:lnTo>
                  <a:lnTo>
                    <a:pt x="804" y="1050"/>
                  </a:lnTo>
                  <a:lnTo>
                    <a:pt x="810" y="1048"/>
                  </a:lnTo>
                  <a:lnTo>
                    <a:pt x="815" y="1047"/>
                  </a:lnTo>
                  <a:lnTo>
                    <a:pt x="826" y="1043"/>
                  </a:lnTo>
                  <a:lnTo>
                    <a:pt x="838" y="1038"/>
                  </a:lnTo>
                  <a:lnTo>
                    <a:pt x="859" y="1026"/>
                  </a:lnTo>
                  <a:lnTo>
                    <a:pt x="867" y="1021"/>
                  </a:lnTo>
                  <a:lnTo>
                    <a:pt x="870" y="1019"/>
                  </a:lnTo>
                  <a:lnTo>
                    <a:pt x="874" y="1015"/>
                  </a:lnTo>
                  <a:lnTo>
                    <a:pt x="859" y="1123"/>
                  </a:lnTo>
                  <a:lnTo>
                    <a:pt x="757" y="1194"/>
                  </a:lnTo>
                  <a:lnTo>
                    <a:pt x="747" y="1199"/>
                  </a:lnTo>
                  <a:lnTo>
                    <a:pt x="737" y="1204"/>
                  </a:lnTo>
                  <a:lnTo>
                    <a:pt x="727" y="1208"/>
                  </a:lnTo>
                  <a:lnTo>
                    <a:pt x="716" y="1211"/>
                  </a:lnTo>
                  <a:lnTo>
                    <a:pt x="704" y="1215"/>
                  </a:lnTo>
                  <a:lnTo>
                    <a:pt x="692" y="1216"/>
                  </a:lnTo>
                  <a:lnTo>
                    <a:pt x="680" y="1218"/>
                  </a:lnTo>
                  <a:lnTo>
                    <a:pt x="667" y="1218"/>
                  </a:lnTo>
                  <a:lnTo>
                    <a:pt x="650" y="1216"/>
                  </a:lnTo>
                  <a:lnTo>
                    <a:pt x="633" y="1215"/>
                  </a:lnTo>
                  <a:lnTo>
                    <a:pt x="618" y="1209"/>
                  </a:lnTo>
                  <a:lnTo>
                    <a:pt x="603" y="1204"/>
                  </a:lnTo>
                  <a:lnTo>
                    <a:pt x="589" y="1196"/>
                  </a:lnTo>
                  <a:lnTo>
                    <a:pt x="577" y="1185"/>
                  </a:lnTo>
                  <a:lnTo>
                    <a:pt x="564" y="1173"/>
                  </a:lnTo>
                  <a:lnTo>
                    <a:pt x="553" y="1159"/>
                  </a:lnTo>
                  <a:lnTo>
                    <a:pt x="543" y="1144"/>
                  </a:lnTo>
                  <a:lnTo>
                    <a:pt x="534" y="1128"/>
                  </a:lnTo>
                  <a:lnTo>
                    <a:pt x="525" y="1111"/>
                  </a:lnTo>
                  <a:lnTo>
                    <a:pt x="518" y="1092"/>
                  </a:lnTo>
                  <a:lnTo>
                    <a:pt x="512" y="1073"/>
                  </a:lnTo>
                  <a:lnTo>
                    <a:pt x="506" y="1052"/>
                  </a:lnTo>
                  <a:lnTo>
                    <a:pt x="502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37120" y="2311560"/>
              <a:ext cx="241200" cy="449280"/>
            </a:xfrm>
            <a:custGeom>
              <a:avLst/>
              <a:gdLst/>
              <a:ahLst/>
              <a:rect l="l" t="t" r="r" b="b"/>
              <a:pathLst>
                <a:path w="672" h="1250">
                  <a:moveTo>
                    <a:pt x="671" y="273"/>
                  </a:moveTo>
                  <a:lnTo>
                    <a:pt x="671" y="291"/>
                  </a:lnTo>
                  <a:lnTo>
                    <a:pt x="670" y="308"/>
                  </a:lnTo>
                  <a:lnTo>
                    <a:pt x="668" y="324"/>
                  </a:lnTo>
                  <a:lnTo>
                    <a:pt x="668" y="339"/>
                  </a:lnTo>
                  <a:lnTo>
                    <a:pt x="665" y="353"/>
                  </a:lnTo>
                  <a:lnTo>
                    <a:pt x="663" y="369"/>
                  </a:lnTo>
                  <a:lnTo>
                    <a:pt x="659" y="382"/>
                  </a:lnTo>
                  <a:lnTo>
                    <a:pt x="656" y="396"/>
                  </a:lnTo>
                  <a:lnTo>
                    <a:pt x="652" y="408"/>
                  </a:lnTo>
                  <a:lnTo>
                    <a:pt x="646" y="421"/>
                  </a:lnTo>
                  <a:lnTo>
                    <a:pt x="641" y="433"/>
                  </a:lnTo>
                  <a:lnTo>
                    <a:pt x="636" y="445"/>
                  </a:lnTo>
                  <a:lnTo>
                    <a:pt x="630" y="455"/>
                  </a:lnTo>
                  <a:lnTo>
                    <a:pt x="624" y="466"/>
                  </a:lnTo>
                  <a:lnTo>
                    <a:pt x="617" y="476"/>
                  </a:lnTo>
                  <a:lnTo>
                    <a:pt x="610" y="485"/>
                  </a:lnTo>
                  <a:lnTo>
                    <a:pt x="603" y="493"/>
                  </a:lnTo>
                  <a:lnTo>
                    <a:pt x="597" y="500"/>
                  </a:lnTo>
                  <a:lnTo>
                    <a:pt x="589" y="507"/>
                  </a:lnTo>
                  <a:lnTo>
                    <a:pt x="581" y="516"/>
                  </a:lnTo>
                  <a:lnTo>
                    <a:pt x="565" y="528"/>
                  </a:lnTo>
                  <a:lnTo>
                    <a:pt x="547" y="540"/>
                  </a:lnTo>
                  <a:lnTo>
                    <a:pt x="529" y="550"/>
                  </a:lnTo>
                  <a:lnTo>
                    <a:pt x="508" y="561"/>
                  </a:lnTo>
                  <a:lnTo>
                    <a:pt x="488" y="570"/>
                  </a:lnTo>
                  <a:lnTo>
                    <a:pt x="466" y="576"/>
                  </a:lnTo>
                  <a:lnTo>
                    <a:pt x="464" y="594"/>
                  </a:lnTo>
                  <a:lnTo>
                    <a:pt x="482" y="596"/>
                  </a:lnTo>
                  <a:lnTo>
                    <a:pt x="500" y="601"/>
                  </a:lnTo>
                  <a:lnTo>
                    <a:pt x="518" y="606"/>
                  </a:lnTo>
                  <a:lnTo>
                    <a:pt x="535" y="613"/>
                  </a:lnTo>
                  <a:lnTo>
                    <a:pt x="543" y="616"/>
                  </a:lnTo>
                  <a:lnTo>
                    <a:pt x="552" y="622"/>
                  </a:lnTo>
                  <a:lnTo>
                    <a:pt x="559" y="627"/>
                  </a:lnTo>
                  <a:lnTo>
                    <a:pt x="567" y="632"/>
                  </a:lnTo>
                  <a:lnTo>
                    <a:pt x="574" y="639"/>
                  </a:lnTo>
                  <a:lnTo>
                    <a:pt x="581" y="644"/>
                  </a:lnTo>
                  <a:lnTo>
                    <a:pt x="595" y="658"/>
                  </a:lnTo>
                  <a:lnTo>
                    <a:pt x="601" y="667"/>
                  </a:lnTo>
                  <a:lnTo>
                    <a:pt x="607" y="673"/>
                  </a:lnTo>
                  <a:lnTo>
                    <a:pt x="613" y="682"/>
                  </a:lnTo>
                  <a:lnTo>
                    <a:pt x="619" y="693"/>
                  </a:lnTo>
                  <a:lnTo>
                    <a:pt x="624" y="701"/>
                  </a:lnTo>
                  <a:lnTo>
                    <a:pt x="629" y="712"/>
                  </a:lnTo>
                  <a:lnTo>
                    <a:pt x="633" y="722"/>
                  </a:lnTo>
                  <a:lnTo>
                    <a:pt x="637" y="734"/>
                  </a:lnTo>
                  <a:lnTo>
                    <a:pt x="641" y="746"/>
                  </a:lnTo>
                  <a:lnTo>
                    <a:pt x="644" y="760"/>
                  </a:lnTo>
                  <a:lnTo>
                    <a:pt x="647" y="772"/>
                  </a:lnTo>
                  <a:lnTo>
                    <a:pt x="649" y="786"/>
                  </a:lnTo>
                  <a:lnTo>
                    <a:pt x="651" y="800"/>
                  </a:lnTo>
                  <a:lnTo>
                    <a:pt x="652" y="816"/>
                  </a:lnTo>
                  <a:lnTo>
                    <a:pt x="653" y="829"/>
                  </a:lnTo>
                  <a:lnTo>
                    <a:pt x="653" y="845"/>
                  </a:lnTo>
                  <a:lnTo>
                    <a:pt x="652" y="869"/>
                  </a:lnTo>
                  <a:lnTo>
                    <a:pt x="652" y="894"/>
                  </a:lnTo>
                  <a:lnTo>
                    <a:pt x="649" y="916"/>
                  </a:lnTo>
                  <a:lnTo>
                    <a:pt x="645" y="939"/>
                  </a:lnTo>
                  <a:lnTo>
                    <a:pt x="641" y="959"/>
                  </a:lnTo>
                  <a:lnTo>
                    <a:pt x="635" y="980"/>
                  </a:lnTo>
                  <a:lnTo>
                    <a:pt x="629" y="1001"/>
                  </a:lnTo>
                  <a:lnTo>
                    <a:pt x="621" y="1020"/>
                  </a:lnTo>
                  <a:lnTo>
                    <a:pt x="613" y="1039"/>
                  </a:lnTo>
                  <a:lnTo>
                    <a:pt x="603" y="1056"/>
                  </a:lnTo>
                  <a:lnTo>
                    <a:pt x="593" y="1074"/>
                  </a:lnTo>
                  <a:lnTo>
                    <a:pt x="582" y="1089"/>
                  </a:lnTo>
                  <a:lnTo>
                    <a:pt x="570" y="1105"/>
                  </a:lnTo>
                  <a:lnTo>
                    <a:pt x="558" y="1120"/>
                  </a:lnTo>
                  <a:lnTo>
                    <a:pt x="544" y="1134"/>
                  </a:lnTo>
                  <a:lnTo>
                    <a:pt x="530" y="1148"/>
                  </a:lnTo>
                  <a:lnTo>
                    <a:pt x="500" y="1172"/>
                  </a:lnTo>
                  <a:lnTo>
                    <a:pt x="469" y="1193"/>
                  </a:lnTo>
                  <a:lnTo>
                    <a:pt x="437" y="1211"/>
                  </a:lnTo>
                  <a:lnTo>
                    <a:pt x="404" y="1224"/>
                  </a:lnTo>
                  <a:lnTo>
                    <a:pt x="370" y="1235"/>
                  </a:lnTo>
                  <a:lnTo>
                    <a:pt x="334" y="1242"/>
                  </a:lnTo>
                  <a:lnTo>
                    <a:pt x="296" y="1247"/>
                  </a:lnTo>
                  <a:lnTo>
                    <a:pt x="256" y="1249"/>
                  </a:lnTo>
                  <a:lnTo>
                    <a:pt x="228" y="1247"/>
                  </a:lnTo>
                  <a:lnTo>
                    <a:pt x="201" y="1243"/>
                  </a:lnTo>
                  <a:lnTo>
                    <a:pt x="176" y="1238"/>
                  </a:lnTo>
                  <a:lnTo>
                    <a:pt x="152" y="1231"/>
                  </a:lnTo>
                  <a:lnTo>
                    <a:pt x="129" y="1221"/>
                  </a:lnTo>
                  <a:lnTo>
                    <a:pt x="108" y="1207"/>
                  </a:lnTo>
                  <a:lnTo>
                    <a:pt x="89" y="1193"/>
                  </a:lnTo>
                  <a:lnTo>
                    <a:pt x="70" y="1176"/>
                  </a:lnTo>
                  <a:lnTo>
                    <a:pt x="61" y="1167"/>
                  </a:lnTo>
                  <a:lnTo>
                    <a:pt x="54" y="1157"/>
                  </a:lnTo>
                  <a:lnTo>
                    <a:pt x="46" y="1146"/>
                  </a:lnTo>
                  <a:lnTo>
                    <a:pt x="39" y="1136"/>
                  </a:lnTo>
                  <a:lnTo>
                    <a:pt x="33" y="1124"/>
                  </a:lnTo>
                  <a:lnTo>
                    <a:pt x="28" y="1112"/>
                  </a:lnTo>
                  <a:lnTo>
                    <a:pt x="22" y="1100"/>
                  </a:lnTo>
                  <a:lnTo>
                    <a:pt x="17" y="1086"/>
                  </a:lnTo>
                  <a:lnTo>
                    <a:pt x="13" y="1072"/>
                  </a:lnTo>
                  <a:lnTo>
                    <a:pt x="10" y="1058"/>
                  </a:lnTo>
                  <a:lnTo>
                    <a:pt x="6" y="1044"/>
                  </a:lnTo>
                  <a:lnTo>
                    <a:pt x="4" y="1029"/>
                  </a:lnTo>
                  <a:lnTo>
                    <a:pt x="2" y="1013"/>
                  </a:lnTo>
                  <a:lnTo>
                    <a:pt x="0" y="997"/>
                  </a:lnTo>
                  <a:lnTo>
                    <a:pt x="0" y="980"/>
                  </a:lnTo>
                  <a:lnTo>
                    <a:pt x="0" y="963"/>
                  </a:lnTo>
                  <a:lnTo>
                    <a:pt x="0" y="944"/>
                  </a:lnTo>
                  <a:lnTo>
                    <a:pt x="0" y="935"/>
                  </a:lnTo>
                  <a:lnTo>
                    <a:pt x="1" y="925"/>
                  </a:lnTo>
                  <a:lnTo>
                    <a:pt x="2" y="916"/>
                  </a:lnTo>
                  <a:lnTo>
                    <a:pt x="4" y="907"/>
                  </a:lnTo>
                  <a:lnTo>
                    <a:pt x="5" y="899"/>
                  </a:lnTo>
                  <a:lnTo>
                    <a:pt x="6" y="890"/>
                  </a:lnTo>
                  <a:lnTo>
                    <a:pt x="9" y="881"/>
                  </a:lnTo>
                  <a:lnTo>
                    <a:pt x="11" y="874"/>
                  </a:lnTo>
                  <a:lnTo>
                    <a:pt x="13" y="866"/>
                  </a:lnTo>
                  <a:lnTo>
                    <a:pt x="16" y="859"/>
                  </a:lnTo>
                  <a:lnTo>
                    <a:pt x="18" y="850"/>
                  </a:lnTo>
                  <a:lnTo>
                    <a:pt x="22" y="843"/>
                  </a:lnTo>
                  <a:lnTo>
                    <a:pt x="28" y="829"/>
                  </a:lnTo>
                  <a:lnTo>
                    <a:pt x="36" y="817"/>
                  </a:lnTo>
                  <a:lnTo>
                    <a:pt x="44" y="805"/>
                  </a:lnTo>
                  <a:lnTo>
                    <a:pt x="52" y="796"/>
                  </a:lnTo>
                  <a:lnTo>
                    <a:pt x="61" y="788"/>
                  </a:lnTo>
                  <a:lnTo>
                    <a:pt x="71" y="783"/>
                  </a:lnTo>
                  <a:lnTo>
                    <a:pt x="81" y="777"/>
                  </a:lnTo>
                  <a:lnTo>
                    <a:pt x="91" y="776"/>
                  </a:lnTo>
                  <a:lnTo>
                    <a:pt x="102" y="774"/>
                  </a:lnTo>
                  <a:lnTo>
                    <a:pt x="115" y="774"/>
                  </a:lnTo>
                  <a:lnTo>
                    <a:pt x="126" y="777"/>
                  </a:lnTo>
                  <a:lnTo>
                    <a:pt x="137" y="781"/>
                  </a:lnTo>
                  <a:lnTo>
                    <a:pt x="147" y="786"/>
                  </a:lnTo>
                  <a:lnTo>
                    <a:pt x="155" y="791"/>
                  </a:lnTo>
                  <a:lnTo>
                    <a:pt x="160" y="795"/>
                  </a:lnTo>
                  <a:lnTo>
                    <a:pt x="164" y="800"/>
                  </a:lnTo>
                  <a:lnTo>
                    <a:pt x="168" y="803"/>
                  </a:lnTo>
                  <a:lnTo>
                    <a:pt x="172" y="809"/>
                  </a:lnTo>
                  <a:lnTo>
                    <a:pt x="175" y="814"/>
                  </a:lnTo>
                  <a:lnTo>
                    <a:pt x="178" y="819"/>
                  </a:lnTo>
                  <a:lnTo>
                    <a:pt x="182" y="824"/>
                  </a:lnTo>
                  <a:lnTo>
                    <a:pt x="184" y="831"/>
                  </a:lnTo>
                  <a:lnTo>
                    <a:pt x="188" y="838"/>
                  </a:lnTo>
                  <a:lnTo>
                    <a:pt x="190" y="843"/>
                  </a:lnTo>
                  <a:lnTo>
                    <a:pt x="192" y="850"/>
                  </a:lnTo>
                  <a:lnTo>
                    <a:pt x="194" y="857"/>
                  </a:lnTo>
                  <a:lnTo>
                    <a:pt x="196" y="866"/>
                  </a:lnTo>
                  <a:lnTo>
                    <a:pt x="198" y="873"/>
                  </a:lnTo>
                  <a:lnTo>
                    <a:pt x="199" y="880"/>
                  </a:lnTo>
                  <a:lnTo>
                    <a:pt x="201" y="888"/>
                  </a:lnTo>
                  <a:lnTo>
                    <a:pt x="202" y="897"/>
                  </a:lnTo>
                  <a:lnTo>
                    <a:pt x="203" y="906"/>
                  </a:lnTo>
                  <a:lnTo>
                    <a:pt x="205" y="923"/>
                  </a:lnTo>
                  <a:lnTo>
                    <a:pt x="205" y="942"/>
                  </a:lnTo>
                  <a:lnTo>
                    <a:pt x="205" y="954"/>
                  </a:lnTo>
                  <a:lnTo>
                    <a:pt x="204" y="966"/>
                  </a:lnTo>
                  <a:lnTo>
                    <a:pt x="202" y="978"/>
                  </a:lnTo>
                  <a:lnTo>
                    <a:pt x="200" y="991"/>
                  </a:lnTo>
                  <a:lnTo>
                    <a:pt x="199" y="1003"/>
                  </a:lnTo>
                  <a:lnTo>
                    <a:pt x="195" y="1015"/>
                  </a:lnTo>
                  <a:lnTo>
                    <a:pt x="193" y="1027"/>
                  </a:lnTo>
                  <a:lnTo>
                    <a:pt x="188" y="1039"/>
                  </a:lnTo>
                  <a:lnTo>
                    <a:pt x="181" y="1062"/>
                  </a:lnTo>
                  <a:lnTo>
                    <a:pt x="174" y="1079"/>
                  </a:lnTo>
                  <a:lnTo>
                    <a:pt x="171" y="1086"/>
                  </a:lnTo>
                  <a:lnTo>
                    <a:pt x="167" y="1093"/>
                  </a:lnTo>
                  <a:lnTo>
                    <a:pt x="164" y="1098"/>
                  </a:lnTo>
                  <a:lnTo>
                    <a:pt x="163" y="1101"/>
                  </a:lnTo>
                  <a:lnTo>
                    <a:pt x="161" y="1103"/>
                  </a:lnTo>
                  <a:lnTo>
                    <a:pt x="168" y="1112"/>
                  </a:lnTo>
                  <a:lnTo>
                    <a:pt x="172" y="1117"/>
                  </a:lnTo>
                  <a:lnTo>
                    <a:pt x="176" y="1120"/>
                  </a:lnTo>
                  <a:lnTo>
                    <a:pt x="179" y="1126"/>
                  </a:lnTo>
                  <a:lnTo>
                    <a:pt x="183" y="1129"/>
                  </a:lnTo>
                  <a:lnTo>
                    <a:pt x="188" y="1133"/>
                  </a:lnTo>
                  <a:lnTo>
                    <a:pt x="193" y="1136"/>
                  </a:lnTo>
                  <a:lnTo>
                    <a:pt x="198" y="1140"/>
                  </a:lnTo>
                  <a:lnTo>
                    <a:pt x="204" y="1143"/>
                  </a:lnTo>
                  <a:lnTo>
                    <a:pt x="210" y="1145"/>
                  </a:lnTo>
                  <a:lnTo>
                    <a:pt x="216" y="1148"/>
                  </a:lnTo>
                  <a:lnTo>
                    <a:pt x="222" y="1150"/>
                  </a:lnTo>
                  <a:lnTo>
                    <a:pt x="229" y="1150"/>
                  </a:lnTo>
                  <a:lnTo>
                    <a:pt x="237" y="1152"/>
                  </a:lnTo>
                  <a:lnTo>
                    <a:pt x="244" y="1152"/>
                  </a:lnTo>
                  <a:lnTo>
                    <a:pt x="262" y="1150"/>
                  </a:lnTo>
                  <a:lnTo>
                    <a:pt x="279" y="1146"/>
                  </a:lnTo>
                  <a:lnTo>
                    <a:pt x="296" y="1138"/>
                  </a:lnTo>
                  <a:lnTo>
                    <a:pt x="312" y="1129"/>
                  </a:lnTo>
                  <a:lnTo>
                    <a:pt x="327" y="1115"/>
                  </a:lnTo>
                  <a:lnTo>
                    <a:pt x="342" y="1100"/>
                  </a:lnTo>
                  <a:lnTo>
                    <a:pt x="356" y="1081"/>
                  </a:lnTo>
                  <a:lnTo>
                    <a:pt x="370" y="1058"/>
                  </a:lnTo>
                  <a:lnTo>
                    <a:pt x="381" y="1034"/>
                  </a:lnTo>
                  <a:lnTo>
                    <a:pt x="387" y="1022"/>
                  </a:lnTo>
                  <a:lnTo>
                    <a:pt x="392" y="1008"/>
                  </a:lnTo>
                  <a:lnTo>
                    <a:pt x="398" y="994"/>
                  </a:lnTo>
                  <a:lnTo>
                    <a:pt x="402" y="980"/>
                  </a:lnTo>
                  <a:lnTo>
                    <a:pt x="405" y="966"/>
                  </a:lnTo>
                  <a:lnTo>
                    <a:pt x="409" y="952"/>
                  </a:lnTo>
                  <a:lnTo>
                    <a:pt x="412" y="937"/>
                  </a:lnTo>
                  <a:lnTo>
                    <a:pt x="414" y="921"/>
                  </a:lnTo>
                  <a:lnTo>
                    <a:pt x="417" y="906"/>
                  </a:lnTo>
                  <a:lnTo>
                    <a:pt x="419" y="888"/>
                  </a:lnTo>
                  <a:lnTo>
                    <a:pt x="420" y="871"/>
                  </a:lnTo>
                  <a:lnTo>
                    <a:pt x="421" y="855"/>
                  </a:lnTo>
                  <a:lnTo>
                    <a:pt x="422" y="819"/>
                  </a:lnTo>
                  <a:lnTo>
                    <a:pt x="422" y="802"/>
                  </a:lnTo>
                  <a:lnTo>
                    <a:pt x="420" y="786"/>
                  </a:lnTo>
                  <a:lnTo>
                    <a:pt x="419" y="771"/>
                  </a:lnTo>
                  <a:lnTo>
                    <a:pt x="416" y="757"/>
                  </a:lnTo>
                  <a:lnTo>
                    <a:pt x="414" y="741"/>
                  </a:lnTo>
                  <a:lnTo>
                    <a:pt x="409" y="727"/>
                  </a:lnTo>
                  <a:lnTo>
                    <a:pt x="405" y="715"/>
                  </a:lnTo>
                  <a:lnTo>
                    <a:pt x="400" y="701"/>
                  </a:lnTo>
                  <a:lnTo>
                    <a:pt x="398" y="696"/>
                  </a:lnTo>
                  <a:lnTo>
                    <a:pt x="394" y="689"/>
                  </a:lnTo>
                  <a:lnTo>
                    <a:pt x="391" y="684"/>
                  </a:lnTo>
                  <a:lnTo>
                    <a:pt x="387" y="679"/>
                  </a:lnTo>
                  <a:lnTo>
                    <a:pt x="383" y="675"/>
                  </a:lnTo>
                  <a:lnTo>
                    <a:pt x="380" y="670"/>
                  </a:lnTo>
                  <a:lnTo>
                    <a:pt x="376" y="667"/>
                  </a:lnTo>
                  <a:lnTo>
                    <a:pt x="371" y="663"/>
                  </a:lnTo>
                  <a:lnTo>
                    <a:pt x="362" y="658"/>
                  </a:lnTo>
                  <a:lnTo>
                    <a:pt x="353" y="654"/>
                  </a:lnTo>
                  <a:lnTo>
                    <a:pt x="342" y="651"/>
                  </a:lnTo>
                  <a:lnTo>
                    <a:pt x="331" y="651"/>
                  </a:lnTo>
                  <a:lnTo>
                    <a:pt x="244" y="651"/>
                  </a:lnTo>
                  <a:lnTo>
                    <a:pt x="260" y="530"/>
                  </a:lnTo>
                  <a:lnTo>
                    <a:pt x="326" y="530"/>
                  </a:lnTo>
                  <a:lnTo>
                    <a:pt x="340" y="528"/>
                  </a:lnTo>
                  <a:lnTo>
                    <a:pt x="353" y="526"/>
                  </a:lnTo>
                  <a:lnTo>
                    <a:pt x="365" y="521"/>
                  </a:lnTo>
                  <a:lnTo>
                    <a:pt x="376" y="514"/>
                  </a:lnTo>
                  <a:lnTo>
                    <a:pt x="381" y="511"/>
                  </a:lnTo>
                  <a:lnTo>
                    <a:pt x="386" y="505"/>
                  </a:lnTo>
                  <a:lnTo>
                    <a:pt x="391" y="500"/>
                  </a:lnTo>
                  <a:lnTo>
                    <a:pt x="396" y="495"/>
                  </a:lnTo>
                  <a:lnTo>
                    <a:pt x="400" y="488"/>
                  </a:lnTo>
                  <a:lnTo>
                    <a:pt x="404" y="481"/>
                  </a:lnTo>
                  <a:lnTo>
                    <a:pt x="409" y="474"/>
                  </a:lnTo>
                  <a:lnTo>
                    <a:pt x="413" y="467"/>
                  </a:lnTo>
                  <a:lnTo>
                    <a:pt x="417" y="460"/>
                  </a:lnTo>
                  <a:lnTo>
                    <a:pt x="420" y="452"/>
                  </a:lnTo>
                  <a:lnTo>
                    <a:pt x="424" y="443"/>
                  </a:lnTo>
                  <a:lnTo>
                    <a:pt x="426" y="434"/>
                  </a:lnTo>
                  <a:lnTo>
                    <a:pt x="430" y="426"/>
                  </a:lnTo>
                  <a:lnTo>
                    <a:pt x="432" y="415"/>
                  </a:lnTo>
                  <a:lnTo>
                    <a:pt x="434" y="405"/>
                  </a:lnTo>
                  <a:lnTo>
                    <a:pt x="436" y="395"/>
                  </a:lnTo>
                  <a:lnTo>
                    <a:pt x="438" y="384"/>
                  </a:lnTo>
                  <a:lnTo>
                    <a:pt x="440" y="372"/>
                  </a:lnTo>
                  <a:lnTo>
                    <a:pt x="442" y="348"/>
                  </a:lnTo>
                  <a:lnTo>
                    <a:pt x="443" y="324"/>
                  </a:lnTo>
                  <a:lnTo>
                    <a:pt x="444" y="296"/>
                  </a:lnTo>
                  <a:lnTo>
                    <a:pt x="444" y="287"/>
                  </a:lnTo>
                  <a:lnTo>
                    <a:pt x="444" y="280"/>
                  </a:lnTo>
                  <a:lnTo>
                    <a:pt x="443" y="272"/>
                  </a:lnTo>
                  <a:lnTo>
                    <a:pt x="442" y="265"/>
                  </a:lnTo>
                  <a:lnTo>
                    <a:pt x="442" y="258"/>
                  </a:lnTo>
                  <a:lnTo>
                    <a:pt x="441" y="251"/>
                  </a:lnTo>
                  <a:lnTo>
                    <a:pt x="439" y="244"/>
                  </a:lnTo>
                  <a:lnTo>
                    <a:pt x="437" y="237"/>
                  </a:lnTo>
                  <a:lnTo>
                    <a:pt x="436" y="232"/>
                  </a:lnTo>
                  <a:lnTo>
                    <a:pt x="434" y="225"/>
                  </a:lnTo>
                  <a:lnTo>
                    <a:pt x="431" y="220"/>
                  </a:lnTo>
                  <a:lnTo>
                    <a:pt x="430" y="213"/>
                  </a:lnTo>
                  <a:lnTo>
                    <a:pt x="427" y="207"/>
                  </a:lnTo>
                  <a:lnTo>
                    <a:pt x="424" y="202"/>
                  </a:lnTo>
                  <a:lnTo>
                    <a:pt x="421" y="197"/>
                  </a:lnTo>
                  <a:lnTo>
                    <a:pt x="418" y="192"/>
                  </a:lnTo>
                  <a:lnTo>
                    <a:pt x="411" y="183"/>
                  </a:lnTo>
                  <a:lnTo>
                    <a:pt x="403" y="175"/>
                  </a:lnTo>
                  <a:lnTo>
                    <a:pt x="395" y="168"/>
                  </a:lnTo>
                  <a:lnTo>
                    <a:pt x="387" y="162"/>
                  </a:lnTo>
                  <a:lnTo>
                    <a:pt x="378" y="157"/>
                  </a:lnTo>
                  <a:lnTo>
                    <a:pt x="368" y="154"/>
                  </a:lnTo>
                  <a:lnTo>
                    <a:pt x="358" y="152"/>
                  </a:lnTo>
                  <a:lnTo>
                    <a:pt x="348" y="152"/>
                  </a:lnTo>
                  <a:lnTo>
                    <a:pt x="334" y="154"/>
                  </a:lnTo>
                  <a:lnTo>
                    <a:pt x="320" y="155"/>
                  </a:lnTo>
                  <a:lnTo>
                    <a:pt x="306" y="161"/>
                  </a:lnTo>
                  <a:lnTo>
                    <a:pt x="292" y="166"/>
                  </a:lnTo>
                  <a:lnTo>
                    <a:pt x="278" y="175"/>
                  </a:lnTo>
                  <a:lnTo>
                    <a:pt x="264" y="185"/>
                  </a:lnTo>
                  <a:lnTo>
                    <a:pt x="250" y="195"/>
                  </a:lnTo>
                  <a:lnTo>
                    <a:pt x="237" y="209"/>
                  </a:lnTo>
                  <a:lnTo>
                    <a:pt x="223" y="225"/>
                  </a:lnTo>
                  <a:lnTo>
                    <a:pt x="210" y="242"/>
                  </a:lnTo>
                  <a:lnTo>
                    <a:pt x="196" y="259"/>
                  </a:lnTo>
                  <a:lnTo>
                    <a:pt x="183" y="280"/>
                  </a:lnTo>
                  <a:lnTo>
                    <a:pt x="169" y="301"/>
                  </a:lnTo>
                  <a:lnTo>
                    <a:pt x="156" y="324"/>
                  </a:lnTo>
                  <a:lnTo>
                    <a:pt x="143" y="346"/>
                  </a:lnTo>
                  <a:lnTo>
                    <a:pt x="130" y="372"/>
                  </a:lnTo>
                  <a:lnTo>
                    <a:pt x="83" y="299"/>
                  </a:lnTo>
                  <a:lnTo>
                    <a:pt x="98" y="265"/>
                  </a:lnTo>
                  <a:lnTo>
                    <a:pt x="114" y="232"/>
                  </a:lnTo>
                  <a:lnTo>
                    <a:pt x="130" y="201"/>
                  </a:lnTo>
                  <a:lnTo>
                    <a:pt x="148" y="173"/>
                  </a:lnTo>
                  <a:lnTo>
                    <a:pt x="166" y="145"/>
                  </a:lnTo>
                  <a:lnTo>
                    <a:pt x="184" y="121"/>
                  </a:lnTo>
                  <a:lnTo>
                    <a:pt x="205" y="98"/>
                  </a:lnTo>
                  <a:lnTo>
                    <a:pt x="225" y="78"/>
                  </a:lnTo>
                  <a:lnTo>
                    <a:pt x="246" y="58"/>
                  </a:lnTo>
                  <a:lnTo>
                    <a:pt x="268" y="43"/>
                  </a:lnTo>
                  <a:lnTo>
                    <a:pt x="291" y="31"/>
                  </a:lnTo>
                  <a:lnTo>
                    <a:pt x="314" y="19"/>
                  </a:lnTo>
                  <a:lnTo>
                    <a:pt x="337" y="10"/>
                  </a:lnTo>
                  <a:lnTo>
                    <a:pt x="361" y="5"/>
                  </a:lnTo>
                  <a:lnTo>
                    <a:pt x="386" y="1"/>
                  </a:lnTo>
                  <a:lnTo>
                    <a:pt x="411" y="0"/>
                  </a:lnTo>
                  <a:lnTo>
                    <a:pt x="442" y="1"/>
                  </a:lnTo>
                  <a:lnTo>
                    <a:pt x="471" y="5"/>
                  </a:lnTo>
                  <a:lnTo>
                    <a:pt x="498" y="10"/>
                  </a:lnTo>
                  <a:lnTo>
                    <a:pt x="524" y="17"/>
                  </a:lnTo>
                  <a:lnTo>
                    <a:pt x="547" y="27"/>
                  </a:lnTo>
                  <a:lnTo>
                    <a:pt x="568" y="39"/>
                  </a:lnTo>
                  <a:lnTo>
                    <a:pt x="587" y="53"/>
                  </a:lnTo>
                  <a:lnTo>
                    <a:pt x="605" y="71"/>
                  </a:lnTo>
                  <a:lnTo>
                    <a:pt x="613" y="79"/>
                  </a:lnTo>
                  <a:lnTo>
                    <a:pt x="620" y="90"/>
                  </a:lnTo>
                  <a:lnTo>
                    <a:pt x="628" y="98"/>
                  </a:lnTo>
                  <a:lnTo>
                    <a:pt x="634" y="110"/>
                  </a:lnTo>
                  <a:lnTo>
                    <a:pt x="640" y="121"/>
                  </a:lnTo>
                  <a:lnTo>
                    <a:pt x="646" y="131"/>
                  </a:lnTo>
                  <a:lnTo>
                    <a:pt x="650" y="143"/>
                  </a:lnTo>
                  <a:lnTo>
                    <a:pt x="655" y="157"/>
                  </a:lnTo>
                  <a:lnTo>
                    <a:pt x="658" y="169"/>
                  </a:lnTo>
                  <a:lnTo>
                    <a:pt x="662" y="183"/>
                  </a:lnTo>
                  <a:lnTo>
                    <a:pt x="664" y="197"/>
                  </a:lnTo>
                  <a:lnTo>
                    <a:pt x="667" y="211"/>
                  </a:lnTo>
                  <a:lnTo>
                    <a:pt x="668" y="227"/>
                  </a:lnTo>
                  <a:lnTo>
                    <a:pt x="670" y="240"/>
                  </a:lnTo>
                  <a:lnTo>
                    <a:pt x="671" y="258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84800" y="2313000"/>
              <a:ext cx="255600" cy="450720"/>
            </a:xfrm>
            <a:custGeom>
              <a:avLst/>
              <a:gdLst/>
              <a:ahLst/>
              <a:rect l="l" t="t" r="r" b="b"/>
              <a:pathLst>
                <a:path w="712" h="1252">
                  <a:moveTo>
                    <a:pt x="711" y="253"/>
                  </a:moveTo>
                  <a:lnTo>
                    <a:pt x="711" y="271"/>
                  </a:lnTo>
                  <a:lnTo>
                    <a:pt x="710" y="288"/>
                  </a:lnTo>
                  <a:lnTo>
                    <a:pt x="709" y="303"/>
                  </a:lnTo>
                  <a:lnTo>
                    <a:pt x="707" y="319"/>
                  </a:lnTo>
                  <a:lnTo>
                    <a:pt x="706" y="335"/>
                  </a:lnTo>
                  <a:lnTo>
                    <a:pt x="703" y="350"/>
                  </a:lnTo>
                  <a:lnTo>
                    <a:pt x="701" y="364"/>
                  </a:lnTo>
                  <a:lnTo>
                    <a:pt x="697" y="378"/>
                  </a:lnTo>
                  <a:lnTo>
                    <a:pt x="694" y="392"/>
                  </a:lnTo>
                  <a:lnTo>
                    <a:pt x="690" y="404"/>
                  </a:lnTo>
                  <a:lnTo>
                    <a:pt x="685" y="416"/>
                  </a:lnTo>
                  <a:lnTo>
                    <a:pt x="680" y="428"/>
                  </a:lnTo>
                  <a:lnTo>
                    <a:pt x="675" y="439"/>
                  </a:lnTo>
                  <a:lnTo>
                    <a:pt x="669" y="451"/>
                  </a:lnTo>
                  <a:lnTo>
                    <a:pt x="663" y="459"/>
                  </a:lnTo>
                  <a:lnTo>
                    <a:pt x="657" y="470"/>
                  </a:lnTo>
                  <a:lnTo>
                    <a:pt x="642" y="489"/>
                  </a:lnTo>
                  <a:lnTo>
                    <a:pt x="626" y="504"/>
                  </a:lnTo>
                  <a:lnTo>
                    <a:pt x="609" y="520"/>
                  </a:lnTo>
                  <a:lnTo>
                    <a:pt x="590" y="534"/>
                  </a:lnTo>
                  <a:lnTo>
                    <a:pt x="570" y="546"/>
                  </a:lnTo>
                  <a:lnTo>
                    <a:pt x="548" y="556"/>
                  </a:lnTo>
                  <a:lnTo>
                    <a:pt x="524" y="565"/>
                  </a:lnTo>
                  <a:lnTo>
                    <a:pt x="500" y="572"/>
                  </a:lnTo>
                  <a:lnTo>
                    <a:pt x="499" y="584"/>
                  </a:lnTo>
                  <a:lnTo>
                    <a:pt x="519" y="586"/>
                  </a:lnTo>
                  <a:lnTo>
                    <a:pt x="538" y="589"/>
                  </a:lnTo>
                  <a:lnTo>
                    <a:pt x="557" y="595"/>
                  </a:lnTo>
                  <a:lnTo>
                    <a:pt x="574" y="603"/>
                  </a:lnTo>
                  <a:lnTo>
                    <a:pt x="591" y="612"/>
                  </a:lnTo>
                  <a:lnTo>
                    <a:pt x="607" y="624"/>
                  </a:lnTo>
                  <a:lnTo>
                    <a:pt x="623" y="636"/>
                  </a:lnTo>
                  <a:lnTo>
                    <a:pt x="638" y="652"/>
                  </a:lnTo>
                  <a:lnTo>
                    <a:pt x="645" y="660"/>
                  </a:lnTo>
                  <a:lnTo>
                    <a:pt x="651" y="669"/>
                  </a:lnTo>
                  <a:lnTo>
                    <a:pt x="657" y="678"/>
                  </a:lnTo>
                  <a:lnTo>
                    <a:pt x="662" y="688"/>
                  </a:lnTo>
                  <a:lnTo>
                    <a:pt x="668" y="698"/>
                  </a:lnTo>
                  <a:lnTo>
                    <a:pt x="673" y="709"/>
                  </a:lnTo>
                  <a:lnTo>
                    <a:pt x="677" y="719"/>
                  </a:lnTo>
                  <a:lnTo>
                    <a:pt x="680" y="731"/>
                  </a:lnTo>
                  <a:lnTo>
                    <a:pt x="684" y="742"/>
                  </a:lnTo>
                  <a:lnTo>
                    <a:pt x="687" y="756"/>
                  </a:lnTo>
                  <a:lnTo>
                    <a:pt x="690" y="768"/>
                  </a:lnTo>
                  <a:lnTo>
                    <a:pt x="691" y="780"/>
                  </a:lnTo>
                  <a:lnTo>
                    <a:pt x="693" y="794"/>
                  </a:lnTo>
                  <a:lnTo>
                    <a:pt x="694" y="808"/>
                  </a:lnTo>
                  <a:lnTo>
                    <a:pt x="695" y="821"/>
                  </a:lnTo>
                  <a:lnTo>
                    <a:pt x="695" y="837"/>
                  </a:lnTo>
                  <a:lnTo>
                    <a:pt x="695" y="861"/>
                  </a:lnTo>
                  <a:lnTo>
                    <a:pt x="693" y="886"/>
                  </a:lnTo>
                  <a:lnTo>
                    <a:pt x="691" y="908"/>
                  </a:lnTo>
                  <a:lnTo>
                    <a:pt x="689" y="931"/>
                  </a:lnTo>
                  <a:lnTo>
                    <a:pt x="685" y="951"/>
                  </a:lnTo>
                  <a:lnTo>
                    <a:pt x="681" y="972"/>
                  </a:lnTo>
                  <a:lnTo>
                    <a:pt x="676" y="993"/>
                  </a:lnTo>
                  <a:lnTo>
                    <a:pt x="670" y="1012"/>
                  </a:lnTo>
                  <a:lnTo>
                    <a:pt x="663" y="1031"/>
                  </a:lnTo>
                  <a:lnTo>
                    <a:pt x="657" y="1050"/>
                  </a:lnTo>
                  <a:lnTo>
                    <a:pt x="648" y="1067"/>
                  </a:lnTo>
                  <a:lnTo>
                    <a:pt x="640" y="1083"/>
                  </a:lnTo>
                  <a:lnTo>
                    <a:pt x="629" y="1100"/>
                  </a:lnTo>
                  <a:lnTo>
                    <a:pt x="619" y="1114"/>
                  </a:lnTo>
                  <a:lnTo>
                    <a:pt x="608" y="1130"/>
                  </a:lnTo>
                  <a:lnTo>
                    <a:pt x="596" y="1144"/>
                  </a:lnTo>
                  <a:lnTo>
                    <a:pt x="571" y="1168"/>
                  </a:lnTo>
                  <a:lnTo>
                    <a:pt x="542" y="1190"/>
                  </a:lnTo>
                  <a:lnTo>
                    <a:pt x="511" y="1210"/>
                  </a:lnTo>
                  <a:lnTo>
                    <a:pt x="477" y="1223"/>
                  </a:lnTo>
                  <a:lnTo>
                    <a:pt x="441" y="1236"/>
                  </a:lnTo>
                  <a:lnTo>
                    <a:pt x="401" y="1244"/>
                  </a:lnTo>
                  <a:lnTo>
                    <a:pt x="359" y="1249"/>
                  </a:lnTo>
                  <a:lnTo>
                    <a:pt x="314" y="1251"/>
                  </a:lnTo>
                  <a:lnTo>
                    <a:pt x="276" y="1249"/>
                  </a:lnTo>
                  <a:lnTo>
                    <a:pt x="240" y="1244"/>
                  </a:lnTo>
                  <a:lnTo>
                    <a:pt x="207" y="1234"/>
                  </a:lnTo>
                  <a:lnTo>
                    <a:pt x="176" y="1222"/>
                  </a:lnTo>
                  <a:lnTo>
                    <a:pt x="148" y="1204"/>
                  </a:lnTo>
                  <a:lnTo>
                    <a:pt x="122" y="1185"/>
                  </a:lnTo>
                  <a:lnTo>
                    <a:pt x="110" y="1173"/>
                  </a:lnTo>
                  <a:lnTo>
                    <a:pt x="99" y="1161"/>
                  </a:lnTo>
                  <a:lnTo>
                    <a:pt x="88" y="1147"/>
                  </a:lnTo>
                  <a:lnTo>
                    <a:pt x="78" y="1133"/>
                  </a:lnTo>
                  <a:lnTo>
                    <a:pt x="69" y="1118"/>
                  </a:lnTo>
                  <a:lnTo>
                    <a:pt x="61" y="1100"/>
                  </a:lnTo>
                  <a:lnTo>
                    <a:pt x="52" y="1083"/>
                  </a:lnTo>
                  <a:lnTo>
                    <a:pt x="44" y="1064"/>
                  </a:lnTo>
                  <a:lnTo>
                    <a:pt x="38" y="1043"/>
                  </a:lnTo>
                  <a:lnTo>
                    <a:pt x="31" y="1022"/>
                  </a:lnTo>
                  <a:lnTo>
                    <a:pt x="25" y="998"/>
                  </a:lnTo>
                  <a:lnTo>
                    <a:pt x="20" y="976"/>
                  </a:lnTo>
                  <a:lnTo>
                    <a:pt x="16" y="950"/>
                  </a:lnTo>
                  <a:lnTo>
                    <a:pt x="11" y="924"/>
                  </a:lnTo>
                  <a:lnTo>
                    <a:pt x="8" y="896"/>
                  </a:lnTo>
                  <a:lnTo>
                    <a:pt x="5" y="867"/>
                  </a:lnTo>
                  <a:lnTo>
                    <a:pt x="1" y="804"/>
                  </a:lnTo>
                  <a:lnTo>
                    <a:pt x="0" y="738"/>
                  </a:lnTo>
                  <a:lnTo>
                    <a:pt x="0" y="700"/>
                  </a:lnTo>
                  <a:lnTo>
                    <a:pt x="2" y="664"/>
                  </a:lnTo>
                  <a:lnTo>
                    <a:pt x="4" y="627"/>
                  </a:lnTo>
                  <a:lnTo>
                    <a:pt x="7" y="593"/>
                  </a:lnTo>
                  <a:lnTo>
                    <a:pt x="11" y="558"/>
                  </a:lnTo>
                  <a:lnTo>
                    <a:pt x="15" y="523"/>
                  </a:lnTo>
                  <a:lnTo>
                    <a:pt x="21" y="489"/>
                  </a:lnTo>
                  <a:lnTo>
                    <a:pt x="27" y="456"/>
                  </a:lnTo>
                  <a:lnTo>
                    <a:pt x="33" y="423"/>
                  </a:lnTo>
                  <a:lnTo>
                    <a:pt x="41" y="392"/>
                  </a:lnTo>
                  <a:lnTo>
                    <a:pt x="50" y="361"/>
                  </a:lnTo>
                  <a:lnTo>
                    <a:pt x="60" y="331"/>
                  </a:lnTo>
                  <a:lnTo>
                    <a:pt x="71" y="302"/>
                  </a:lnTo>
                  <a:lnTo>
                    <a:pt x="82" y="274"/>
                  </a:lnTo>
                  <a:lnTo>
                    <a:pt x="94" y="246"/>
                  </a:lnTo>
                  <a:lnTo>
                    <a:pt x="108" y="220"/>
                  </a:lnTo>
                  <a:lnTo>
                    <a:pt x="122" y="196"/>
                  </a:lnTo>
                  <a:lnTo>
                    <a:pt x="138" y="172"/>
                  </a:lnTo>
                  <a:lnTo>
                    <a:pt x="154" y="151"/>
                  </a:lnTo>
                  <a:lnTo>
                    <a:pt x="171" y="130"/>
                  </a:lnTo>
                  <a:lnTo>
                    <a:pt x="189" y="109"/>
                  </a:lnTo>
                  <a:lnTo>
                    <a:pt x="209" y="92"/>
                  </a:lnTo>
                  <a:lnTo>
                    <a:pt x="229" y="75"/>
                  </a:lnTo>
                  <a:lnTo>
                    <a:pt x="250" y="59"/>
                  </a:lnTo>
                  <a:lnTo>
                    <a:pt x="272" y="45"/>
                  </a:lnTo>
                  <a:lnTo>
                    <a:pt x="295" y="33"/>
                  </a:lnTo>
                  <a:lnTo>
                    <a:pt x="320" y="23"/>
                  </a:lnTo>
                  <a:lnTo>
                    <a:pt x="344" y="14"/>
                  </a:lnTo>
                  <a:lnTo>
                    <a:pt x="370" y="9"/>
                  </a:lnTo>
                  <a:lnTo>
                    <a:pt x="397" y="4"/>
                  </a:lnTo>
                  <a:lnTo>
                    <a:pt x="425" y="2"/>
                  </a:lnTo>
                  <a:lnTo>
                    <a:pt x="454" y="0"/>
                  </a:lnTo>
                  <a:lnTo>
                    <a:pt x="484" y="2"/>
                  </a:lnTo>
                  <a:lnTo>
                    <a:pt x="513" y="4"/>
                  </a:lnTo>
                  <a:lnTo>
                    <a:pt x="539" y="9"/>
                  </a:lnTo>
                  <a:lnTo>
                    <a:pt x="563" y="18"/>
                  </a:lnTo>
                  <a:lnTo>
                    <a:pt x="586" y="26"/>
                  </a:lnTo>
                  <a:lnTo>
                    <a:pt x="607" y="38"/>
                  </a:lnTo>
                  <a:lnTo>
                    <a:pt x="626" y="51"/>
                  </a:lnTo>
                  <a:lnTo>
                    <a:pt x="644" y="66"/>
                  </a:lnTo>
                  <a:lnTo>
                    <a:pt x="660" y="83"/>
                  </a:lnTo>
                  <a:lnTo>
                    <a:pt x="667" y="92"/>
                  </a:lnTo>
                  <a:lnTo>
                    <a:pt x="673" y="103"/>
                  </a:lnTo>
                  <a:lnTo>
                    <a:pt x="679" y="113"/>
                  </a:lnTo>
                  <a:lnTo>
                    <a:pt x="684" y="123"/>
                  </a:lnTo>
                  <a:lnTo>
                    <a:pt x="690" y="134"/>
                  </a:lnTo>
                  <a:lnTo>
                    <a:pt x="694" y="146"/>
                  </a:lnTo>
                  <a:lnTo>
                    <a:pt x="698" y="158"/>
                  </a:lnTo>
                  <a:lnTo>
                    <a:pt x="701" y="170"/>
                  </a:lnTo>
                  <a:lnTo>
                    <a:pt x="704" y="182"/>
                  </a:lnTo>
                  <a:lnTo>
                    <a:pt x="706" y="196"/>
                  </a:lnTo>
                  <a:lnTo>
                    <a:pt x="708" y="210"/>
                  </a:lnTo>
                  <a:lnTo>
                    <a:pt x="710" y="224"/>
                  </a:lnTo>
                  <a:lnTo>
                    <a:pt x="711" y="238"/>
                  </a:lnTo>
                  <a:close/>
                  <a:moveTo>
                    <a:pt x="484" y="267"/>
                  </a:moveTo>
                  <a:lnTo>
                    <a:pt x="484" y="246"/>
                  </a:lnTo>
                  <a:lnTo>
                    <a:pt x="483" y="227"/>
                  </a:lnTo>
                  <a:lnTo>
                    <a:pt x="481" y="210"/>
                  </a:lnTo>
                  <a:lnTo>
                    <a:pt x="480" y="193"/>
                  </a:lnTo>
                  <a:lnTo>
                    <a:pt x="477" y="177"/>
                  </a:lnTo>
                  <a:lnTo>
                    <a:pt x="474" y="163"/>
                  </a:lnTo>
                  <a:lnTo>
                    <a:pt x="472" y="156"/>
                  </a:lnTo>
                  <a:lnTo>
                    <a:pt x="470" y="151"/>
                  </a:lnTo>
                  <a:lnTo>
                    <a:pt x="469" y="144"/>
                  </a:lnTo>
                  <a:lnTo>
                    <a:pt x="466" y="139"/>
                  </a:lnTo>
                  <a:lnTo>
                    <a:pt x="463" y="134"/>
                  </a:lnTo>
                  <a:lnTo>
                    <a:pt x="461" y="129"/>
                  </a:lnTo>
                  <a:lnTo>
                    <a:pt x="458" y="123"/>
                  </a:lnTo>
                  <a:lnTo>
                    <a:pt x="455" y="120"/>
                  </a:lnTo>
                  <a:lnTo>
                    <a:pt x="452" y="115"/>
                  </a:lnTo>
                  <a:lnTo>
                    <a:pt x="449" y="111"/>
                  </a:lnTo>
                  <a:lnTo>
                    <a:pt x="446" y="108"/>
                  </a:lnTo>
                  <a:lnTo>
                    <a:pt x="442" y="106"/>
                  </a:lnTo>
                  <a:lnTo>
                    <a:pt x="439" y="103"/>
                  </a:lnTo>
                  <a:lnTo>
                    <a:pt x="436" y="101"/>
                  </a:lnTo>
                  <a:lnTo>
                    <a:pt x="427" y="97"/>
                  </a:lnTo>
                  <a:lnTo>
                    <a:pt x="419" y="94"/>
                  </a:lnTo>
                  <a:lnTo>
                    <a:pt x="410" y="94"/>
                  </a:lnTo>
                  <a:lnTo>
                    <a:pt x="401" y="94"/>
                  </a:lnTo>
                  <a:lnTo>
                    <a:pt x="392" y="96"/>
                  </a:lnTo>
                  <a:lnTo>
                    <a:pt x="383" y="99"/>
                  </a:lnTo>
                  <a:lnTo>
                    <a:pt x="375" y="103"/>
                  </a:lnTo>
                  <a:lnTo>
                    <a:pt x="366" y="106"/>
                  </a:lnTo>
                  <a:lnTo>
                    <a:pt x="359" y="111"/>
                  </a:lnTo>
                  <a:lnTo>
                    <a:pt x="350" y="118"/>
                  </a:lnTo>
                  <a:lnTo>
                    <a:pt x="342" y="125"/>
                  </a:lnTo>
                  <a:lnTo>
                    <a:pt x="336" y="134"/>
                  </a:lnTo>
                  <a:lnTo>
                    <a:pt x="328" y="142"/>
                  </a:lnTo>
                  <a:lnTo>
                    <a:pt x="321" y="153"/>
                  </a:lnTo>
                  <a:lnTo>
                    <a:pt x="314" y="165"/>
                  </a:lnTo>
                  <a:lnTo>
                    <a:pt x="308" y="177"/>
                  </a:lnTo>
                  <a:lnTo>
                    <a:pt x="302" y="189"/>
                  </a:lnTo>
                  <a:lnTo>
                    <a:pt x="296" y="203"/>
                  </a:lnTo>
                  <a:lnTo>
                    <a:pt x="290" y="219"/>
                  </a:lnTo>
                  <a:lnTo>
                    <a:pt x="279" y="252"/>
                  </a:lnTo>
                  <a:lnTo>
                    <a:pt x="269" y="288"/>
                  </a:lnTo>
                  <a:lnTo>
                    <a:pt x="260" y="326"/>
                  </a:lnTo>
                  <a:lnTo>
                    <a:pt x="253" y="369"/>
                  </a:lnTo>
                  <a:lnTo>
                    <a:pt x="246" y="414"/>
                  </a:lnTo>
                  <a:lnTo>
                    <a:pt x="240" y="465"/>
                  </a:lnTo>
                  <a:lnTo>
                    <a:pt x="236" y="517"/>
                  </a:lnTo>
                  <a:lnTo>
                    <a:pt x="232" y="572"/>
                  </a:lnTo>
                  <a:lnTo>
                    <a:pt x="320" y="548"/>
                  </a:lnTo>
                  <a:lnTo>
                    <a:pt x="343" y="539"/>
                  </a:lnTo>
                  <a:lnTo>
                    <a:pt x="365" y="530"/>
                  </a:lnTo>
                  <a:lnTo>
                    <a:pt x="385" y="520"/>
                  </a:lnTo>
                  <a:lnTo>
                    <a:pt x="403" y="508"/>
                  </a:lnTo>
                  <a:lnTo>
                    <a:pt x="418" y="496"/>
                  </a:lnTo>
                  <a:lnTo>
                    <a:pt x="425" y="489"/>
                  </a:lnTo>
                  <a:lnTo>
                    <a:pt x="431" y="480"/>
                  </a:lnTo>
                  <a:lnTo>
                    <a:pt x="437" y="473"/>
                  </a:lnTo>
                  <a:lnTo>
                    <a:pt x="442" y="465"/>
                  </a:lnTo>
                  <a:lnTo>
                    <a:pt x="447" y="456"/>
                  </a:lnTo>
                  <a:lnTo>
                    <a:pt x="452" y="447"/>
                  </a:lnTo>
                  <a:lnTo>
                    <a:pt x="459" y="428"/>
                  </a:lnTo>
                  <a:lnTo>
                    <a:pt x="465" y="409"/>
                  </a:lnTo>
                  <a:lnTo>
                    <a:pt x="471" y="388"/>
                  </a:lnTo>
                  <a:lnTo>
                    <a:pt x="475" y="366"/>
                  </a:lnTo>
                  <a:lnTo>
                    <a:pt x="480" y="343"/>
                  </a:lnTo>
                  <a:lnTo>
                    <a:pt x="482" y="319"/>
                  </a:lnTo>
                  <a:lnTo>
                    <a:pt x="483" y="293"/>
                  </a:lnTo>
                  <a:close/>
                  <a:moveTo>
                    <a:pt x="443" y="1052"/>
                  </a:moveTo>
                  <a:lnTo>
                    <a:pt x="447" y="1040"/>
                  </a:lnTo>
                  <a:lnTo>
                    <a:pt x="450" y="1026"/>
                  </a:lnTo>
                  <a:lnTo>
                    <a:pt x="452" y="1014"/>
                  </a:lnTo>
                  <a:lnTo>
                    <a:pt x="455" y="1000"/>
                  </a:lnTo>
                  <a:lnTo>
                    <a:pt x="457" y="988"/>
                  </a:lnTo>
                  <a:lnTo>
                    <a:pt x="458" y="974"/>
                  </a:lnTo>
                  <a:lnTo>
                    <a:pt x="460" y="962"/>
                  </a:lnTo>
                  <a:lnTo>
                    <a:pt x="462" y="948"/>
                  </a:lnTo>
                  <a:lnTo>
                    <a:pt x="463" y="922"/>
                  </a:lnTo>
                  <a:lnTo>
                    <a:pt x="465" y="896"/>
                  </a:lnTo>
                  <a:lnTo>
                    <a:pt x="466" y="870"/>
                  </a:lnTo>
                  <a:lnTo>
                    <a:pt x="466" y="842"/>
                  </a:lnTo>
                  <a:lnTo>
                    <a:pt x="465" y="821"/>
                  </a:lnTo>
                  <a:lnTo>
                    <a:pt x="464" y="801"/>
                  </a:lnTo>
                  <a:lnTo>
                    <a:pt x="462" y="782"/>
                  </a:lnTo>
                  <a:lnTo>
                    <a:pt x="459" y="764"/>
                  </a:lnTo>
                  <a:lnTo>
                    <a:pt x="458" y="756"/>
                  </a:lnTo>
                  <a:lnTo>
                    <a:pt x="455" y="747"/>
                  </a:lnTo>
                  <a:lnTo>
                    <a:pt x="451" y="730"/>
                  </a:lnTo>
                  <a:lnTo>
                    <a:pt x="445" y="714"/>
                  </a:lnTo>
                  <a:lnTo>
                    <a:pt x="439" y="700"/>
                  </a:lnTo>
                  <a:lnTo>
                    <a:pt x="436" y="693"/>
                  </a:lnTo>
                  <a:lnTo>
                    <a:pt x="431" y="686"/>
                  </a:lnTo>
                  <a:lnTo>
                    <a:pt x="428" y="681"/>
                  </a:lnTo>
                  <a:lnTo>
                    <a:pt x="424" y="676"/>
                  </a:lnTo>
                  <a:lnTo>
                    <a:pt x="419" y="671"/>
                  </a:lnTo>
                  <a:lnTo>
                    <a:pt x="414" y="666"/>
                  </a:lnTo>
                  <a:lnTo>
                    <a:pt x="408" y="660"/>
                  </a:lnTo>
                  <a:lnTo>
                    <a:pt x="403" y="657"/>
                  </a:lnTo>
                  <a:lnTo>
                    <a:pt x="392" y="652"/>
                  </a:lnTo>
                  <a:lnTo>
                    <a:pt x="380" y="647"/>
                  </a:lnTo>
                  <a:lnTo>
                    <a:pt x="365" y="645"/>
                  </a:lnTo>
                  <a:lnTo>
                    <a:pt x="351" y="643"/>
                  </a:lnTo>
                  <a:lnTo>
                    <a:pt x="331" y="643"/>
                  </a:lnTo>
                  <a:lnTo>
                    <a:pt x="314" y="647"/>
                  </a:lnTo>
                  <a:lnTo>
                    <a:pt x="297" y="650"/>
                  </a:lnTo>
                  <a:lnTo>
                    <a:pt x="288" y="652"/>
                  </a:lnTo>
                  <a:lnTo>
                    <a:pt x="281" y="655"/>
                  </a:lnTo>
                  <a:lnTo>
                    <a:pt x="225" y="674"/>
                  </a:lnTo>
                  <a:lnTo>
                    <a:pt x="224" y="685"/>
                  </a:lnTo>
                  <a:lnTo>
                    <a:pt x="224" y="697"/>
                  </a:lnTo>
                  <a:lnTo>
                    <a:pt x="223" y="711"/>
                  </a:lnTo>
                  <a:lnTo>
                    <a:pt x="223" y="724"/>
                  </a:lnTo>
                  <a:lnTo>
                    <a:pt x="222" y="738"/>
                  </a:lnTo>
                  <a:lnTo>
                    <a:pt x="222" y="752"/>
                  </a:lnTo>
                  <a:lnTo>
                    <a:pt x="222" y="780"/>
                  </a:lnTo>
                  <a:lnTo>
                    <a:pt x="222" y="828"/>
                  </a:lnTo>
                  <a:lnTo>
                    <a:pt x="224" y="873"/>
                  </a:lnTo>
                  <a:lnTo>
                    <a:pt x="226" y="913"/>
                  </a:lnTo>
                  <a:lnTo>
                    <a:pt x="229" y="951"/>
                  </a:lnTo>
                  <a:lnTo>
                    <a:pt x="232" y="986"/>
                  </a:lnTo>
                  <a:lnTo>
                    <a:pt x="237" y="1017"/>
                  </a:lnTo>
                  <a:lnTo>
                    <a:pt x="243" y="1045"/>
                  </a:lnTo>
                  <a:lnTo>
                    <a:pt x="245" y="1057"/>
                  </a:lnTo>
                  <a:lnTo>
                    <a:pt x="248" y="1069"/>
                  </a:lnTo>
                  <a:lnTo>
                    <a:pt x="252" y="1080"/>
                  </a:lnTo>
                  <a:lnTo>
                    <a:pt x="256" y="1090"/>
                  </a:lnTo>
                  <a:lnTo>
                    <a:pt x="260" y="1099"/>
                  </a:lnTo>
                  <a:lnTo>
                    <a:pt x="265" y="1107"/>
                  </a:lnTo>
                  <a:lnTo>
                    <a:pt x="270" y="1116"/>
                  </a:lnTo>
                  <a:lnTo>
                    <a:pt x="275" y="1123"/>
                  </a:lnTo>
                  <a:lnTo>
                    <a:pt x="281" y="1130"/>
                  </a:lnTo>
                  <a:lnTo>
                    <a:pt x="287" y="1135"/>
                  </a:lnTo>
                  <a:lnTo>
                    <a:pt x="293" y="1140"/>
                  </a:lnTo>
                  <a:lnTo>
                    <a:pt x="299" y="1145"/>
                  </a:lnTo>
                  <a:lnTo>
                    <a:pt x="307" y="1149"/>
                  </a:lnTo>
                  <a:lnTo>
                    <a:pt x="314" y="1152"/>
                  </a:lnTo>
                  <a:lnTo>
                    <a:pt x="330" y="1156"/>
                  </a:lnTo>
                  <a:lnTo>
                    <a:pt x="347" y="1158"/>
                  </a:lnTo>
                  <a:lnTo>
                    <a:pt x="356" y="1158"/>
                  </a:lnTo>
                  <a:lnTo>
                    <a:pt x="364" y="1156"/>
                  </a:lnTo>
                  <a:lnTo>
                    <a:pt x="373" y="1152"/>
                  </a:lnTo>
                  <a:lnTo>
                    <a:pt x="381" y="1151"/>
                  </a:lnTo>
                  <a:lnTo>
                    <a:pt x="388" y="1145"/>
                  </a:lnTo>
                  <a:lnTo>
                    <a:pt x="395" y="1140"/>
                  </a:lnTo>
                  <a:lnTo>
                    <a:pt x="402" y="1133"/>
                  </a:lnTo>
                  <a:lnTo>
                    <a:pt x="408" y="1126"/>
                  </a:lnTo>
                  <a:lnTo>
                    <a:pt x="414" y="1119"/>
                  </a:lnTo>
                  <a:lnTo>
                    <a:pt x="419" y="1111"/>
                  </a:lnTo>
                  <a:lnTo>
                    <a:pt x="424" y="1102"/>
                  </a:lnTo>
                  <a:lnTo>
                    <a:pt x="428" y="1093"/>
                  </a:lnTo>
                  <a:lnTo>
                    <a:pt x="432" y="1083"/>
                  </a:lnTo>
                  <a:lnTo>
                    <a:pt x="436" y="1073"/>
                  </a:lnTo>
                  <a:lnTo>
                    <a:pt x="44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33920" y="2317680"/>
              <a:ext cx="297000" cy="622440"/>
            </a:xfrm>
            <a:custGeom>
              <a:avLst/>
              <a:gdLst/>
              <a:ahLst/>
              <a:rect l="l" t="t" r="r" b="b"/>
              <a:pathLst>
                <a:path w="826" h="1728">
                  <a:moveTo>
                    <a:pt x="499" y="1007"/>
                  </a:moveTo>
                  <a:lnTo>
                    <a:pt x="495" y="1007"/>
                  </a:lnTo>
                  <a:lnTo>
                    <a:pt x="459" y="1064"/>
                  </a:lnTo>
                  <a:lnTo>
                    <a:pt x="442" y="1088"/>
                  </a:lnTo>
                  <a:lnTo>
                    <a:pt x="425" y="1111"/>
                  </a:lnTo>
                  <a:lnTo>
                    <a:pt x="408" y="1130"/>
                  </a:lnTo>
                  <a:lnTo>
                    <a:pt x="392" y="1149"/>
                  </a:lnTo>
                  <a:lnTo>
                    <a:pt x="376" y="1164"/>
                  </a:lnTo>
                  <a:lnTo>
                    <a:pt x="360" y="1176"/>
                  </a:lnTo>
                  <a:lnTo>
                    <a:pt x="343" y="1189"/>
                  </a:lnTo>
                  <a:lnTo>
                    <a:pt x="327" y="1197"/>
                  </a:lnTo>
                  <a:lnTo>
                    <a:pt x="311" y="1206"/>
                  </a:lnTo>
                  <a:lnTo>
                    <a:pt x="294" y="1213"/>
                  </a:lnTo>
                  <a:lnTo>
                    <a:pt x="277" y="1218"/>
                  </a:lnTo>
                  <a:lnTo>
                    <a:pt x="260" y="1222"/>
                  </a:lnTo>
                  <a:lnTo>
                    <a:pt x="242" y="1225"/>
                  </a:lnTo>
                  <a:lnTo>
                    <a:pt x="223" y="1225"/>
                  </a:lnTo>
                  <a:lnTo>
                    <a:pt x="205" y="1223"/>
                  </a:lnTo>
                  <a:lnTo>
                    <a:pt x="189" y="1220"/>
                  </a:lnTo>
                  <a:lnTo>
                    <a:pt x="173" y="1215"/>
                  </a:lnTo>
                  <a:lnTo>
                    <a:pt x="159" y="1206"/>
                  </a:lnTo>
                  <a:lnTo>
                    <a:pt x="145" y="1196"/>
                  </a:lnTo>
                  <a:lnTo>
                    <a:pt x="139" y="1190"/>
                  </a:lnTo>
                  <a:lnTo>
                    <a:pt x="133" y="1183"/>
                  </a:lnTo>
                  <a:lnTo>
                    <a:pt x="127" y="1176"/>
                  </a:lnTo>
                  <a:lnTo>
                    <a:pt x="122" y="1168"/>
                  </a:lnTo>
                  <a:lnTo>
                    <a:pt x="116" y="1159"/>
                  </a:lnTo>
                  <a:lnTo>
                    <a:pt x="111" y="1150"/>
                  </a:lnTo>
                  <a:lnTo>
                    <a:pt x="101" y="1131"/>
                  </a:lnTo>
                  <a:lnTo>
                    <a:pt x="94" y="1112"/>
                  </a:lnTo>
                  <a:lnTo>
                    <a:pt x="89" y="1102"/>
                  </a:lnTo>
                  <a:lnTo>
                    <a:pt x="87" y="1092"/>
                  </a:lnTo>
                  <a:lnTo>
                    <a:pt x="84" y="1081"/>
                  </a:lnTo>
                  <a:lnTo>
                    <a:pt x="81" y="1071"/>
                  </a:lnTo>
                  <a:lnTo>
                    <a:pt x="78" y="1059"/>
                  </a:lnTo>
                  <a:lnTo>
                    <a:pt x="77" y="1047"/>
                  </a:lnTo>
                  <a:lnTo>
                    <a:pt x="75" y="1036"/>
                  </a:lnTo>
                  <a:lnTo>
                    <a:pt x="73" y="1024"/>
                  </a:lnTo>
                  <a:lnTo>
                    <a:pt x="73" y="1012"/>
                  </a:lnTo>
                  <a:lnTo>
                    <a:pt x="72" y="1000"/>
                  </a:lnTo>
                  <a:lnTo>
                    <a:pt x="71" y="986"/>
                  </a:lnTo>
                  <a:lnTo>
                    <a:pt x="71" y="974"/>
                  </a:lnTo>
                  <a:lnTo>
                    <a:pt x="71" y="955"/>
                  </a:lnTo>
                  <a:lnTo>
                    <a:pt x="72" y="936"/>
                  </a:lnTo>
                  <a:lnTo>
                    <a:pt x="73" y="917"/>
                  </a:lnTo>
                  <a:lnTo>
                    <a:pt x="73" y="898"/>
                  </a:lnTo>
                  <a:lnTo>
                    <a:pt x="74" y="887"/>
                  </a:lnTo>
                  <a:lnTo>
                    <a:pt x="74" y="877"/>
                  </a:lnTo>
                  <a:lnTo>
                    <a:pt x="77" y="853"/>
                  </a:lnTo>
                  <a:lnTo>
                    <a:pt x="81" y="823"/>
                  </a:lnTo>
                  <a:lnTo>
                    <a:pt x="85" y="790"/>
                  </a:lnTo>
                  <a:lnTo>
                    <a:pt x="134" y="464"/>
                  </a:lnTo>
                  <a:lnTo>
                    <a:pt x="136" y="445"/>
                  </a:lnTo>
                  <a:lnTo>
                    <a:pt x="139" y="425"/>
                  </a:lnTo>
                  <a:lnTo>
                    <a:pt x="145" y="373"/>
                  </a:lnTo>
                  <a:lnTo>
                    <a:pt x="147" y="345"/>
                  </a:lnTo>
                  <a:lnTo>
                    <a:pt x="149" y="322"/>
                  </a:lnTo>
                  <a:lnTo>
                    <a:pt x="150" y="303"/>
                  </a:lnTo>
                  <a:lnTo>
                    <a:pt x="150" y="295"/>
                  </a:lnTo>
                  <a:lnTo>
                    <a:pt x="150" y="288"/>
                  </a:lnTo>
                  <a:lnTo>
                    <a:pt x="150" y="272"/>
                  </a:lnTo>
                  <a:lnTo>
                    <a:pt x="150" y="257"/>
                  </a:lnTo>
                  <a:lnTo>
                    <a:pt x="149" y="243"/>
                  </a:lnTo>
                  <a:lnTo>
                    <a:pt x="147" y="231"/>
                  </a:lnTo>
                  <a:lnTo>
                    <a:pt x="145" y="225"/>
                  </a:lnTo>
                  <a:lnTo>
                    <a:pt x="145" y="220"/>
                  </a:lnTo>
                  <a:lnTo>
                    <a:pt x="144" y="215"/>
                  </a:lnTo>
                  <a:lnTo>
                    <a:pt x="142" y="210"/>
                  </a:lnTo>
                  <a:lnTo>
                    <a:pt x="141" y="205"/>
                  </a:lnTo>
                  <a:lnTo>
                    <a:pt x="139" y="201"/>
                  </a:lnTo>
                  <a:lnTo>
                    <a:pt x="138" y="198"/>
                  </a:lnTo>
                  <a:lnTo>
                    <a:pt x="136" y="194"/>
                  </a:lnTo>
                  <a:lnTo>
                    <a:pt x="134" y="191"/>
                  </a:lnTo>
                  <a:lnTo>
                    <a:pt x="132" y="187"/>
                  </a:lnTo>
                  <a:lnTo>
                    <a:pt x="129" y="186"/>
                  </a:lnTo>
                  <a:lnTo>
                    <a:pt x="127" y="182"/>
                  </a:lnTo>
                  <a:lnTo>
                    <a:pt x="124" y="180"/>
                  </a:lnTo>
                  <a:lnTo>
                    <a:pt x="121" y="179"/>
                  </a:lnTo>
                  <a:lnTo>
                    <a:pt x="114" y="175"/>
                  </a:lnTo>
                  <a:lnTo>
                    <a:pt x="107" y="172"/>
                  </a:lnTo>
                  <a:lnTo>
                    <a:pt x="99" y="170"/>
                  </a:lnTo>
                  <a:lnTo>
                    <a:pt x="89" y="168"/>
                  </a:lnTo>
                  <a:lnTo>
                    <a:pt x="79" y="168"/>
                  </a:lnTo>
                  <a:lnTo>
                    <a:pt x="74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8" y="172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0"/>
                  </a:lnTo>
                  <a:lnTo>
                    <a:pt x="27" y="186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114" y="28"/>
                  </a:lnTo>
                  <a:lnTo>
                    <a:pt x="126" y="21"/>
                  </a:lnTo>
                  <a:lnTo>
                    <a:pt x="138" y="16"/>
                  </a:lnTo>
                  <a:lnTo>
                    <a:pt x="150" y="11"/>
                  </a:lnTo>
                  <a:lnTo>
                    <a:pt x="161" y="7"/>
                  </a:lnTo>
                  <a:lnTo>
                    <a:pt x="172" y="4"/>
                  </a:lnTo>
                  <a:lnTo>
                    <a:pt x="183" y="2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23" y="2"/>
                  </a:lnTo>
                  <a:lnTo>
                    <a:pt x="241" y="5"/>
                  </a:lnTo>
                  <a:lnTo>
                    <a:pt x="258" y="11"/>
                  </a:lnTo>
                  <a:lnTo>
                    <a:pt x="273" y="17"/>
                  </a:lnTo>
                  <a:lnTo>
                    <a:pt x="288" y="28"/>
                  </a:lnTo>
                  <a:lnTo>
                    <a:pt x="301" y="40"/>
                  </a:lnTo>
                  <a:lnTo>
                    <a:pt x="307" y="47"/>
                  </a:lnTo>
                  <a:lnTo>
                    <a:pt x="313" y="54"/>
                  </a:lnTo>
                  <a:lnTo>
                    <a:pt x="319" y="63"/>
                  </a:lnTo>
                  <a:lnTo>
                    <a:pt x="324" y="71"/>
                  </a:lnTo>
                  <a:lnTo>
                    <a:pt x="334" y="89"/>
                  </a:lnTo>
                  <a:lnTo>
                    <a:pt x="338" y="99"/>
                  </a:lnTo>
                  <a:lnTo>
                    <a:pt x="343" y="109"/>
                  </a:lnTo>
                  <a:lnTo>
                    <a:pt x="346" y="118"/>
                  </a:lnTo>
                  <a:lnTo>
                    <a:pt x="349" y="128"/>
                  </a:lnTo>
                  <a:lnTo>
                    <a:pt x="353" y="139"/>
                  </a:lnTo>
                  <a:lnTo>
                    <a:pt x="355" y="151"/>
                  </a:lnTo>
                  <a:lnTo>
                    <a:pt x="358" y="161"/>
                  </a:lnTo>
                  <a:lnTo>
                    <a:pt x="360" y="173"/>
                  </a:lnTo>
                  <a:lnTo>
                    <a:pt x="361" y="186"/>
                  </a:lnTo>
                  <a:lnTo>
                    <a:pt x="363" y="198"/>
                  </a:lnTo>
                  <a:lnTo>
                    <a:pt x="364" y="210"/>
                  </a:lnTo>
                  <a:lnTo>
                    <a:pt x="365" y="222"/>
                  </a:lnTo>
                  <a:lnTo>
                    <a:pt x="365" y="234"/>
                  </a:lnTo>
                  <a:lnTo>
                    <a:pt x="365" y="248"/>
                  </a:lnTo>
                  <a:lnTo>
                    <a:pt x="365" y="260"/>
                  </a:lnTo>
                  <a:lnTo>
                    <a:pt x="365" y="277"/>
                  </a:lnTo>
                  <a:lnTo>
                    <a:pt x="363" y="326"/>
                  </a:lnTo>
                  <a:lnTo>
                    <a:pt x="361" y="354"/>
                  </a:lnTo>
                  <a:lnTo>
                    <a:pt x="360" y="381"/>
                  </a:lnTo>
                  <a:lnTo>
                    <a:pt x="356" y="407"/>
                  </a:lnTo>
                  <a:lnTo>
                    <a:pt x="353" y="433"/>
                  </a:lnTo>
                  <a:lnTo>
                    <a:pt x="305" y="743"/>
                  </a:lnTo>
                  <a:lnTo>
                    <a:pt x="302" y="764"/>
                  </a:lnTo>
                  <a:lnTo>
                    <a:pt x="299" y="787"/>
                  </a:lnTo>
                  <a:lnTo>
                    <a:pt x="297" y="809"/>
                  </a:lnTo>
                  <a:lnTo>
                    <a:pt x="295" y="833"/>
                  </a:lnTo>
                  <a:lnTo>
                    <a:pt x="292" y="873"/>
                  </a:lnTo>
                  <a:lnTo>
                    <a:pt x="291" y="889"/>
                  </a:lnTo>
                  <a:lnTo>
                    <a:pt x="291" y="896"/>
                  </a:lnTo>
                  <a:lnTo>
                    <a:pt x="291" y="903"/>
                  </a:lnTo>
                  <a:lnTo>
                    <a:pt x="291" y="917"/>
                  </a:lnTo>
                  <a:lnTo>
                    <a:pt x="292" y="930"/>
                  </a:lnTo>
                  <a:lnTo>
                    <a:pt x="294" y="943"/>
                  </a:lnTo>
                  <a:lnTo>
                    <a:pt x="294" y="950"/>
                  </a:lnTo>
                  <a:lnTo>
                    <a:pt x="295" y="955"/>
                  </a:lnTo>
                  <a:lnTo>
                    <a:pt x="296" y="960"/>
                  </a:lnTo>
                  <a:lnTo>
                    <a:pt x="297" y="965"/>
                  </a:lnTo>
                  <a:lnTo>
                    <a:pt x="299" y="970"/>
                  </a:lnTo>
                  <a:lnTo>
                    <a:pt x="300" y="976"/>
                  </a:lnTo>
                  <a:lnTo>
                    <a:pt x="301" y="981"/>
                  </a:lnTo>
                  <a:lnTo>
                    <a:pt x="303" y="984"/>
                  </a:lnTo>
                  <a:lnTo>
                    <a:pt x="305" y="989"/>
                  </a:lnTo>
                  <a:lnTo>
                    <a:pt x="307" y="993"/>
                  </a:lnTo>
                  <a:lnTo>
                    <a:pt x="310" y="996"/>
                  </a:lnTo>
                  <a:lnTo>
                    <a:pt x="311" y="1000"/>
                  </a:lnTo>
                  <a:lnTo>
                    <a:pt x="314" y="1003"/>
                  </a:lnTo>
                  <a:lnTo>
                    <a:pt x="316" y="1007"/>
                  </a:lnTo>
                  <a:lnTo>
                    <a:pt x="319" y="1008"/>
                  </a:lnTo>
                  <a:lnTo>
                    <a:pt x="322" y="1012"/>
                  </a:lnTo>
                  <a:lnTo>
                    <a:pt x="328" y="1017"/>
                  </a:lnTo>
                  <a:lnTo>
                    <a:pt x="335" y="1019"/>
                  </a:lnTo>
                  <a:lnTo>
                    <a:pt x="342" y="1022"/>
                  </a:lnTo>
                  <a:lnTo>
                    <a:pt x="349" y="1024"/>
                  </a:lnTo>
                  <a:lnTo>
                    <a:pt x="358" y="1024"/>
                  </a:lnTo>
                  <a:lnTo>
                    <a:pt x="365" y="1024"/>
                  </a:lnTo>
                  <a:lnTo>
                    <a:pt x="373" y="1022"/>
                  </a:lnTo>
                  <a:lnTo>
                    <a:pt x="382" y="1019"/>
                  </a:lnTo>
                  <a:lnTo>
                    <a:pt x="390" y="1014"/>
                  </a:lnTo>
                  <a:lnTo>
                    <a:pt x="399" y="1008"/>
                  </a:lnTo>
                  <a:lnTo>
                    <a:pt x="410" y="1002"/>
                  </a:lnTo>
                  <a:lnTo>
                    <a:pt x="431" y="984"/>
                  </a:lnTo>
                  <a:lnTo>
                    <a:pt x="442" y="974"/>
                  </a:lnTo>
                  <a:lnTo>
                    <a:pt x="453" y="962"/>
                  </a:lnTo>
                  <a:lnTo>
                    <a:pt x="463" y="950"/>
                  </a:lnTo>
                  <a:lnTo>
                    <a:pt x="473" y="937"/>
                  </a:lnTo>
                  <a:lnTo>
                    <a:pt x="483" y="924"/>
                  </a:lnTo>
                  <a:lnTo>
                    <a:pt x="493" y="908"/>
                  </a:lnTo>
                  <a:lnTo>
                    <a:pt x="503" y="892"/>
                  </a:lnTo>
                  <a:lnTo>
                    <a:pt x="512" y="877"/>
                  </a:lnTo>
                  <a:lnTo>
                    <a:pt x="610" y="21"/>
                  </a:lnTo>
                  <a:lnTo>
                    <a:pt x="816" y="4"/>
                  </a:lnTo>
                  <a:lnTo>
                    <a:pt x="825" y="23"/>
                  </a:lnTo>
                  <a:lnTo>
                    <a:pt x="713" y="993"/>
                  </a:lnTo>
                  <a:lnTo>
                    <a:pt x="706" y="1047"/>
                  </a:lnTo>
                  <a:lnTo>
                    <a:pt x="698" y="1097"/>
                  </a:lnTo>
                  <a:lnTo>
                    <a:pt x="690" y="1145"/>
                  </a:lnTo>
                  <a:lnTo>
                    <a:pt x="681" y="1192"/>
                  </a:lnTo>
                  <a:lnTo>
                    <a:pt x="672" y="1235"/>
                  </a:lnTo>
                  <a:lnTo>
                    <a:pt x="662" y="1277"/>
                  </a:lnTo>
                  <a:lnTo>
                    <a:pt x="651" y="1315"/>
                  </a:lnTo>
                  <a:lnTo>
                    <a:pt x="640" y="1351"/>
                  </a:lnTo>
                  <a:lnTo>
                    <a:pt x="628" y="1386"/>
                  </a:lnTo>
                  <a:lnTo>
                    <a:pt x="615" y="1419"/>
                  </a:lnTo>
                  <a:lnTo>
                    <a:pt x="603" y="1450"/>
                  </a:lnTo>
                  <a:lnTo>
                    <a:pt x="589" y="1480"/>
                  </a:lnTo>
                  <a:lnTo>
                    <a:pt x="575" y="1506"/>
                  </a:lnTo>
                  <a:lnTo>
                    <a:pt x="561" y="1532"/>
                  </a:lnTo>
                  <a:lnTo>
                    <a:pt x="546" y="1554"/>
                  </a:lnTo>
                  <a:lnTo>
                    <a:pt x="531" y="1577"/>
                  </a:lnTo>
                  <a:lnTo>
                    <a:pt x="516" y="1596"/>
                  </a:lnTo>
                  <a:lnTo>
                    <a:pt x="501" y="1615"/>
                  </a:lnTo>
                  <a:lnTo>
                    <a:pt x="485" y="1630"/>
                  </a:lnTo>
                  <a:lnTo>
                    <a:pt x="470" y="1646"/>
                  </a:lnTo>
                  <a:lnTo>
                    <a:pt x="453" y="1660"/>
                  </a:lnTo>
                  <a:lnTo>
                    <a:pt x="437" y="1672"/>
                  </a:lnTo>
                  <a:lnTo>
                    <a:pt x="420" y="1682"/>
                  </a:lnTo>
                  <a:lnTo>
                    <a:pt x="403" y="1693"/>
                  </a:lnTo>
                  <a:lnTo>
                    <a:pt x="368" y="1708"/>
                  </a:lnTo>
                  <a:lnTo>
                    <a:pt x="333" y="1719"/>
                  </a:lnTo>
                  <a:lnTo>
                    <a:pt x="299" y="1726"/>
                  </a:lnTo>
                  <a:lnTo>
                    <a:pt x="263" y="1727"/>
                  </a:lnTo>
                  <a:lnTo>
                    <a:pt x="226" y="1726"/>
                  </a:lnTo>
                  <a:lnTo>
                    <a:pt x="192" y="1722"/>
                  </a:lnTo>
                  <a:lnTo>
                    <a:pt x="161" y="1715"/>
                  </a:lnTo>
                  <a:lnTo>
                    <a:pt x="148" y="1712"/>
                  </a:lnTo>
                  <a:lnTo>
                    <a:pt x="134" y="1707"/>
                  </a:lnTo>
                  <a:lnTo>
                    <a:pt x="122" y="1701"/>
                  </a:lnTo>
                  <a:lnTo>
                    <a:pt x="111" y="1694"/>
                  </a:lnTo>
                  <a:lnTo>
                    <a:pt x="100" y="1689"/>
                  </a:lnTo>
                  <a:lnTo>
                    <a:pt x="89" y="1682"/>
                  </a:lnTo>
                  <a:lnTo>
                    <a:pt x="79" y="1674"/>
                  </a:lnTo>
                  <a:lnTo>
                    <a:pt x="71" y="1667"/>
                  </a:lnTo>
                  <a:lnTo>
                    <a:pt x="62" y="1658"/>
                  </a:lnTo>
                  <a:lnTo>
                    <a:pt x="55" y="1649"/>
                  </a:lnTo>
                  <a:lnTo>
                    <a:pt x="49" y="1641"/>
                  </a:lnTo>
                  <a:lnTo>
                    <a:pt x="43" y="1632"/>
                  </a:lnTo>
                  <a:lnTo>
                    <a:pt x="38" y="1623"/>
                  </a:lnTo>
                  <a:lnTo>
                    <a:pt x="34" y="1613"/>
                  </a:lnTo>
                  <a:lnTo>
                    <a:pt x="29" y="1604"/>
                  </a:lnTo>
                  <a:lnTo>
                    <a:pt x="25" y="1594"/>
                  </a:lnTo>
                  <a:lnTo>
                    <a:pt x="22" y="1584"/>
                  </a:lnTo>
                  <a:lnTo>
                    <a:pt x="19" y="1573"/>
                  </a:lnTo>
                  <a:lnTo>
                    <a:pt x="18" y="1563"/>
                  </a:lnTo>
                  <a:lnTo>
                    <a:pt x="15" y="1554"/>
                  </a:lnTo>
                  <a:lnTo>
                    <a:pt x="13" y="1544"/>
                  </a:lnTo>
                  <a:lnTo>
                    <a:pt x="12" y="1533"/>
                  </a:lnTo>
                  <a:lnTo>
                    <a:pt x="12" y="1523"/>
                  </a:lnTo>
                  <a:lnTo>
                    <a:pt x="11" y="1513"/>
                  </a:lnTo>
                  <a:lnTo>
                    <a:pt x="10" y="1504"/>
                  </a:lnTo>
                  <a:lnTo>
                    <a:pt x="10" y="1494"/>
                  </a:lnTo>
                  <a:lnTo>
                    <a:pt x="10" y="1476"/>
                  </a:lnTo>
                  <a:lnTo>
                    <a:pt x="11" y="1468"/>
                  </a:lnTo>
                  <a:lnTo>
                    <a:pt x="12" y="1459"/>
                  </a:lnTo>
                  <a:lnTo>
                    <a:pt x="12" y="1452"/>
                  </a:lnTo>
                  <a:lnTo>
                    <a:pt x="13" y="1443"/>
                  </a:lnTo>
                  <a:lnTo>
                    <a:pt x="15" y="1436"/>
                  </a:lnTo>
                  <a:lnTo>
                    <a:pt x="17" y="1428"/>
                  </a:lnTo>
                  <a:lnTo>
                    <a:pt x="18" y="1421"/>
                  </a:lnTo>
                  <a:lnTo>
                    <a:pt x="20" y="1414"/>
                  </a:lnTo>
                  <a:lnTo>
                    <a:pt x="24" y="1398"/>
                  </a:lnTo>
                  <a:lnTo>
                    <a:pt x="30" y="1384"/>
                  </a:lnTo>
                  <a:lnTo>
                    <a:pt x="36" y="1371"/>
                  </a:lnTo>
                  <a:lnTo>
                    <a:pt x="40" y="1364"/>
                  </a:lnTo>
                  <a:lnTo>
                    <a:pt x="43" y="1358"/>
                  </a:lnTo>
                  <a:lnTo>
                    <a:pt x="47" y="1351"/>
                  </a:lnTo>
                  <a:lnTo>
                    <a:pt x="51" y="1346"/>
                  </a:lnTo>
                  <a:lnTo>
                    <a:pt x="55" y="1343"/>
                  </a:lnTo>
                  <a:lnTo>
                    <a:pt x="59" y="1338"/>
                  </a:lnTo>
                  <a:lnTo>
                    <a:pt x="63" y="1334"/>
                  </a:lnTo>
                  <a:lnTo>
                    <a:pt x="68" y="1331"/>
                  </a:lnTo>
                  <a:lnTo>
                    <a:pt x="78" y="1324"/>
                  </a:lnTo>
                  <a:lnTo>
                    <a:pt x="88" y="1320"/>
                  </a:lnTo>
                  <a:lnTo>
                    <a:pt x="99" y="1317"/>
                  </a:lnTo>
                  <a:lnTo>
                    <a:pt x="110" y="1317"/>
                  </a:lnTo>
                  <a:lnTo>
                    <a:pt x="118" y="1317"/>
                  </a:lnTo>
                  <a:lnTo>
                    <a:pt x="127" y="1319"/>
                  </a:lnTo>
                  <a:lnTo>
                    <a:pt x="134" y="1322"/>
                  </a:lnTo>
                  <a:lnTo>
                    <a:pt x="143" y="1325"/>
                  </a:lnTo>
                  <a:lnTo>
                    <a:pt x="150" y="1331"/>
                  </a:lnTo>
                  <a:lnTo>
                    <a:pt x="158" y="1336"/>
                  </a:lnTo>
                  <a:lnTo>
                    <a:pt x="166" y="1343"/>
                  </a:lnTo>
                  <a:lnTo>
                    <a:pt x="172" y="1351"/>
                  </a:lnTo>
                  <a:lnTo>
                    <a:pt x="179" y="1360"/>
                  </a:lnTo>
                  <a:lnTo>
                    <a:pt x="185" y="1369"/>
                  </a:lnTo>
                  <a:lnTo>
                    <a:pt x="192" y="1379"/>
                  </a:lnTo>
                  <a:lnTo>
                    <a:pt x="198" y="1390"/>
                  </a:lnTo>
                  <a:lnTo>
                    <a:pt x="204" y="1400"/>
                  </a:lnTo>
                  <a:lnTo>
                    <a:pt x="210" y="1410"/>
                  </a:lnTo>
                  <a:lnTo>
                    <a:pt x="216" y="1422"/>
                  </a:lnTo>
                  <a:lnTo>
                    <a:pt x="221" y="1435"/>
                  </a:lnTo>
                  <a:lnTo>
                    <a:pt x="231" y="1459"/>
                  </a:lnTo>
                  <a:lnTo>
                    <a:pt x="240" y="1485"/>
                  </a:lnTo>
                  <a:lnTo>
                    <a:pt x="249" y="1511"/>
                  </a:lnTo>
                  <a:lnTo>
                    <a:pt x="256" y="1539"/>
                  </a:lnTo>
                  <a:lnTo>
                    <a:pt x="264" y="1565"/>
                  </a:lnTo>
                  <a:lnTo>
                    <a:pt x="271" y="1589"/>
                  </a:lnTo>
                  <a:lnTo>
                    <a:pt x="277" y="1611"/>
                  </a:lnTo>
                  <a:lnTo>
                    <a:pt x="281" y="1630"/>
                  </a:lnTo>
                  <a:lnTo>
                    <a:pt x="284" y="1630"/>
                  </a:lnTo>
                  <a:lnTo>
                    <a:pt x="287" y="1629"/>
                  </a:lnTo>
                  <a:lnTo>
                    <a:pt x="290" y="1627"/>
                  </a:lnTo>
                  <a:lnTo>
                    <a:pt x="294" y="1625"/>
                  </a:lnTo>
                  <a:lnTo>
                    <a:pt x="301" y="1620"/>
                  </a:lnTo>
                  <a:lnTo>
                    <a:pt x="310" y="1615"/>
                  </a:lnTo>
                  <a:lnTo>
                    <a:pt x="318" y="1610"/>
                  </a:lnTo>
                  <a:lnTo>
                    <a:pt x="326" y="1603"/>
                  </a:lnTo>
                  <a:lnTo>
                    <a:pt x="332" y="1597"/>
                  </a:lnTo>
                  <a:lnTo>
                    <a:pt x="339" y="1591"/>
                  </a:lnTo>
                  <a:lnTo>
                    <a:pt x="348" y="1580"/>
                  </a:lnTo>
                  <a:lnTo>
                    <a:pt x="355" y="1570"/>
                  </a:lnTo>
                  <a:lnTo>
                    <a:pt x="362" y="1559"/>
                  </a:lnTo>
                  <a:lnTo>
                    <a:pt x="369" y="1549"/>
                  </a:lnTo>
                  <a:lnTo>
                    <a:pt x="372" y="1544"/>
                  </a:lnTo>
                  <a:lnTo>
                    <a:pt x="376" y="1537"/>
                  </a:lnTo>
                  <a:lnTo>
                    <a:pt x="382" y="1523"/>
                  </a:lnTo>
                  <a:lnTo>
                    <a:pt x="390" y="1506"/>
                  </a:lnTo>
                  <a:lnTo>
                    <a:pt x="399" y="1487"/>
                  </a:lnTo>
                  <a:lnTo>
                    <a:pt x="407" y="1466"/>
                  </a:lnTo>
                  <a:lnTo>
                    <a:pt x="415" y="1445"/>
                  </a:lnTo>
                  <a:lnTo>
                    <a:pt x="422" y="1422"/>
                  </a:lnTo>
                  <a:lnTo>
                    <a:pt x="430" y="1398"/>
                  </a:lnTo>
                  <a:lnTo>
                    <a:pt x="437" y="1372"/>
                  </a:lnTo>
                  <a:lnTo>
                    <a:pt x="443" y="1346"/>
                  </a:lnTo>
                  <a:lnTo>
                    <a:pt x="450" y="1319"/>
                  </a:lnTo>
                  <a:lnTo>
                    <a:pt x="457" y="1289"/>
                  </a:lnTo>
                  <a:lnTo>
                    <a:pt x="463" y="1260"/>
                  </a:lnTo>
                  <a:lnTo>
                    <a:pt x="469" y="1227"/>
                  </a:lnTo>
                  <a:lnTo>
                    <a:pt x="481" y="1159"/>
                  </a:lnTo>
                  <a:lnTo>
                    <a:pt x="491" y="108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06800" y="2317680"/>
              <a:ext cx="308160" cy="438120"/>
            </a:xfrm>
            <a:custGeom>
              <a:avLst/>
              <a:gdLst/>
              <a:ahLst/>
              <a:rect l="l" t="t" r="r" b="b"/>
              <a:pathLst>
                <a:path w="855" h="1219">
                  <a:moveTo>
                    <a:pt x="145" y="286"/>
                  </a:moveTo>
                  <a:lnTo>
                    <a:pt x="145" y="270"/>
                  </a:lnTo>
                  <a:lnTo>
                    <a:pt x="144" y="255"/>
                  </a:lnTo>
                  <a:lnTo>
                    <a:pt x="142" y="241"/>
                  </a:lnTo>
                  <a:lnTo>
                    <a:pt x="142" y="229"/>
                  </a:lnTo>
                  <a:lnTo>
                    <a:pt x="140" y="224"/>
                  </a:lnTo>
                  <a:lnTo>
                    <a:pt x="139" y="218"/>
                  </a:lnTo>
                  <a:lnTo>
                    <a:pt x="137" y="213"/>
                  </a:lnTo>
                  <a:lnTo>
                    <a:pt x="136" y="208"/>
                  </a:lnTo>
                  <a:lnTo>
                    <a:pt x="135" y="203"/>
                  </a:lnTo>
                  <a:lnTo>
                    <a:pt x="133" y="199"/>
                  </a:lnTo>
                  <a:lnTo>
                    <a:pt x="131" y="196"/>
                  </a:lnTo>
                  <a:lnTo>
                    <a:pt x="130" y="192"/>
                  </a:lnTo>
                  <a:lnTo>
                    <a:pt x="128" y="189"/>
                  </a:lnTo>
                  <a:lnTo>
                    <a:pt x="125" y="187"/>
                  </a:lnTo>
                  <a:lnTo>
                    <a:pt x="124" y="184"/>
                  </a:lnTo>
                  <a:lnTo>
                    <a:pt x="121" y="182"/>
                  </a:lnTo>
                  <a:lnTo>
                    <a:pt x="116" y="179"/>
                  </a:lnTo>
                  <a:lnTo>
                    <a:pt x="110" y="175"/>
                  </a:lnTo>
                  <a:lnTo>
                    <a:pt x="103" y="172"/>
                  </a:lnTo>
                  <a:lnTo>
                    <a:pt x="97" y="170"/>
                  </a:lnTo>
                  <a:lnTo>
                    <a:pt x="89" y="168"/>
                  </a:lnTo>
                  <a:lnTo>
                    <a:pt x="81" y="168"/>
                  </a:lnTo>
                  <a:lnTo>
                    <a:pt x="76" y="168"/>
                  </a:lnTo>
                  <a:lnTo>
                    <a:pt x="70" y="170"/>
                  </a:lnTo>
                  <a:lnTo>
                    <a:pt x="64" y="170"/>
                  </a:lnTo>
                  <a:lnTo>
                    <a:pt x="59" y="172"/>
                  </a:lnTo>
                  <a:lnTo>
                    <a:pt x="47" y="177"/>
                  </a:lnTo>
                  <a:lnTo>
                    <a:pt x="35" y="18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38" y="78"/>
                  </a:lnTo>
                  <a:lnTo>
                    <a:pt x="64" y="63"/>
                  </a:lnTo>
                  <a:lnTo>
                    <a:pt x="90" y="47"/>
                  </a:lnTo>
                  <a:lnTo>
                    <a:pt x="117" y="31"/>
                  </a:lnTo>
                  <a:lnTo>
                    <a:pt x="144" y="17"/>
                  </a:lnTo>
                  <a:lnTo>
                    <a:pt x="169" y="9"/>
                  </a:lnTo>
                  <a:lnTo>
                    <a:pt x="180" y="5"/>
                  </a:lnTo>
                  <a:lnTo>
                    <a:pt x="191" y="2"/>
                  </a:lnTo>
                  <a:lnTo>
                    <a:pt x="201" y="0"/>
                  </a:lnTo>
                  <a:lnTo>
                    <a:pt x="210" y="0"/>
                  </a:lnTo>
                  <a:lnTo>
                    <a:pt x="229" y="2"/>
                  </a:lnTo>
                  <a:lnTo>
                    <a:pt x="247" y="4"/>
                  </a:lnTo>
                  <a:lnTo>
                    <a:pt x="263" y="9"/>
                  </a:lnTo>
                  <a:lnTo>
                    <a:pt x="278" y="17"/>
                  </a:lnTo>
                  <a:lnTo>
                    <a:pt x="291" y="26"/>
                  </a:lnTo>
                  <a:lnTo>
                    <a:pt x="304" y="38"/>
                  </a:lnTo>
                  <a:lnTo>
                    <a:pt x="310" y="43"/>
                  </a:lnTo>
                  <a:lnTo>
                    <a:pt x="316" y="50"/>
                  </a:lnTo>
                  <a:lnTo>
                    <a:pt x="321" y="57"/>
                  </a:lnTo>
                  <a:lnTo>
                    <a:pt x="326" y="66"/>
                  </a:lnTo>
                  <a:lnTo>
                    <a:pt x="331" y="75"/>
                  </a:lnTo>
                  <a:lnTo>
                    <a:pt x="335" y="83"/>
                  </a:lnTo>
                  <a:lnTo>
                    <a:pt x="340" y="92"/>
                  </a:lnTo>
                  <a:lnTo>
                    <a:pt x="343" y="101"/>
                  </a:lnTo>
                  <a:lnTo>
                    <a:pt x="346" y="109"/>
                  </a:lnTo>
                  <a:lnTo>
                    <a:pt x="350" y="120"/>
                  </a:lnTo>
                  <a:lnTo>
                    <a:pt x="353" y="130"/>
                  </a:lnTo>
                  <a:lnTo>
                    <a:pt x="356" y="140"/>
                  </a:lnTo>
                  <a:lnTo>
                    <a:pt x="357" y="151"/>
                  </a:lnTo>
                  <a:lnTo>
                    <a:pt x="360" y="161"/>
                  </a:lnTo>
                  <a:lnTo>
                    <a:pt x="362" y="172"/>
                  </a:lnTo>
                  <a:lnTo>
                    <a:pt x="362" y="184"/>
                  </a:lnTo>
                  <a:lnTo>
                    <a:pt x="363" y="196"/>
                  </a:lnTo>
                  <a:lnTo>
                    <a:pt x="364" y="208"/>
                  </a:lnTo>
                  <a:lnTo>
                    <a:pt x="365" y="220"/>
                  </a:lnTo>
                  <a:lnTo>
                    <a:pt x="365" y="232"/>
                  </a:lnTo>
                  <a:lnTo>
                    <a:pt x="365" y="246"/>
                  </a:lnTo>
                  <a:lnTo>
                    <a:pt x="364" y="262"/>
                  </a:lnTo>
                  <a:lnTo>
                    <a:pt x="363" y="279"/>
                  </a:lnTo>
                  <a:lnTo>
                    <a:pt x="362" y="296"/>
                  </a:lnTo>
                  <a:lnTo>
                    <a:pt x="359" y="333"/>
                  </a:lnTo>
                  <a:lnTo>
                    <a:pt x="354" y="373"/>
                  </a:lnTo>
                  <a:lnTo>
                    <a:pt x="349" y="411"/>
                  </a:lnTo>
                  <a:lnTo>
                    <a:pt x="346" y="442"/>
                  </a:lnTo>
                  <a:lnTo>
                    <a:pt x="345" y="458"/>
                  </a:lnTo>
                  <a:lnTo>
                    <a:pt x="344" y="470"/>
                  </a:lnTo>
                  <a:lnTo>
                    <a:pt x="343" y="480"/>
                  </a:lnTo>
                  <a:lnTo>
                    <a:pt x="343" y="490"/>
                  </a:lnTo>
                  <a:lnTo>
                    <a:pt x="343" y="508"/>
                  </a:lnTo>
                  <a:lnTo>
                    <a:pt x="344" y="525"/>
                  </a:lnTo>
                  <a:lnTo>
                    <a:pt x="345" y="539"/>
                  </a:lnTo>
                  <a:lnTo>
                    <a:pt x="346" y="553"/>
                  </a:lnTo>
                  <a:lnTo>
                    <a:pt x="348" y="560"/>
                  </a:lnTo>
                  <a:lnTo>
                    <a:pt x="349" y="565"/>
                  </a:lnTo>
                  <a:lnTo>
                    <a:pt x="350" y="570"/>
                  </a:lnTo>
                  <a:lnTo>
                    <a:pt x="351" y="575"/>
                  </a:lnTo>
                  <a:lnTo>
                    <a:pt x="352" y="579"/>
                  </a:lnTo>
                  <a:lnTo>
                    <a:pt x="354" y="584"/>
                  </a:lnTo>
                  <a:lnTo>
                    <a:pt x="356" y="587"/>
                  </a:lnTo>
                  <a:lnTo>
                    <a:pt x="357" y="591"/>
                  </a:lnTo>
                  <a:lnTo>
                    <a:pt x="359" y="594"/>
                  </a:lnTo>
                  <a:lnTo>
                    <a:pt x="361" y="598"/>
                  </a:lnTo>
                  <a:lnTo>
                    <a:pt x="363" y="601"/>
                  </a:lnTo>
                  <a:lnTo>
                    <a:pt x="365" y="603"/>
                  </a:lnTo>
                  <a:lnTo>
                    <a:pt x="368" y="607"/>
                  </a:lnTo>
                  <a:lnTo>
                    <a:pt x="370" y="608"/>
                  </a:lnTo>
                  <a:lnTo>
                    <a:pt x="373" y="610"/>
                  </a:lnTo>
                  <a:lnTo>
                    <a:pt x="375" y="612"/>
                  </a:lnTo>
                  <a:lnTo>
                    <a:pt x="380" y="615"/>
                  </a:lnTo>
                  <a:lnTo>
                    <a:pt x="386" y="617"/>
                  </a:lnTo>
                  <a:lnTo>
                    <a:pt x="393" y="619"/>
                  </a:lnTo>
                  <a:lnTo>
                    <a:pt x="400" y="619"/>
                  </a:lnTo>
                  <a:lnTo>
                    <a:pt x="407" y="619"/>
                  </a:lnTo>
                  <a:lnTo>
                    <a:pt x="412" y="617"/>
                  </a:lnTo>
                  <a:lnTo>
                    <a:pt x="419" y="617"/>
                  </a:lnTo>
                  <a:lnTo>
                    <a:pt x="426" y="615"/>
                  </a:lnTo>
                  <a:lnTo>
                    <a:pt x="440" y="610"/>
                  </a:lnTo>
                  <a:lnTo>
                    <a:pt x="455" y="603"/>
                  </a:lnTo>
                  <a:lnTo>
                    <a:pt x="462" y="600"/>
                  </a:lnTo>
                  <a:lnTo>
                    <a:pt x="471" y="594"/>
                  </a:lnTo>
                  <a:lnTo>
                    <a:pt x="479" y="587"/>
                  </a:lnTo>
                  <a:lnTo>
                    <a:pt x="489" y="581"/>
                  </a:lnTo>
                  <a:lnTo>
                    <a:pt x="507" y="563"/>
                  </a:lnTo>
                  <a:lnTo>
                    <a:pt x="528" y="542"/>
                  </a:lnTo>
                  <a:lnTo>
                    <a:pt x="593" y="21"/>
                  </a:lnTo>
                  <a:lnTo>
                    <a:pt x="800" y="4"/>
                  </a:lnTo>
                  <a:lnTo>
                    <a:pt x="808" y="21"/>
                  </a:lnTo>
                  <a:lnTo>
                    <a:pt x="716" y="754"/>
                  </a:lnTo>
                  <a:lnTo>
                    <a:pt x="713" y="773"/>
                  </a:lnTo>
                  <a:lnTo>
                    <a:pt x="710" y="795"/>
                  </a:lnTo>
                  <a:lnTo>
                    <a:pt x="708" y="818"/>
                  </a:lnTo>
                  <a:lnTo>
                    <a:pt x="705" y="846"/>
                  </a:lnTo>
                  <a:lnTo>
                    <a:pt x="703" y="873"/>
                  </a:lnTo>
                  <a:lnTo>
                    <a:pt x="701" y="896"/>
                  </a:lnTo>
                  <a:lnTo>
                    <a:pt x="699" y="915"/>
                  </a:lnTo>
                  <a:lnTo>
                    <a:pt x="699" y="924"/>
                  </a:lnTo>
                  <a:lnTo>
                    <a:pt x="699" y="930"/>
                  </a:lnTo>
                  <a:lnTo>
                    <a:pt x="699" y="948"/>
                  </a:lnTo>
                  <a:lnTo>
                    <a:pt x="700" y="963"/>
                  </a:lnTo>
                  <a:lnTo>
                    <a:pt x="702" y="977"/>
                  </a:lnTo>
                  <a:lnTo>
                    <a:pt x="703" y="982"/>
                  </a:lnTo>
                  <a:lnTo>
                    <a:pt x="704" y="989"/>
                  </a:lnTo>
                  <a:lnTo>
                    <a:pt x="705" y="995"/>
                  </a:lnTo>
                  <a:lnTo>
                    <a:pt x="705" y="1000"/>
                  </a:lnTo>
                  <a:lnTo>
                    <a:pt x="707" y="1005"/>
                  </a:lnTo>
                  <a:lnTo>
                    <a:pt x="709" y="1010"/>
                  </a:lnTo>
                  <a:lnTo>
                    <a:pt x="710" y="1015"/>
                  </a:lnTo>
                  <a:lnTo>
                    <a:pt x="711" y="1019"/>
                  </a:lnTo>
                  <a:lnTo>
                    <a:pt x="714" y="1022"/>
                  </a:lnTo>
                  <a:lnTo>
                    <a:pt x="716" y="1026"/>
                  </a:lnTo>
                  <a:lnTo>
                    <a:pt x="718" y="1029"/>
                  </a:lnTo>
                  <a:lnTo>
                    <a:pt x="720" y="1031"/>
                  </a:lnTo>
                  <a:lnTo>
                    <a:pt x="722" y="1034"/>
                  </a:lnTo>
                  <a:lnTo>
                    <a:pt x="726" y="1036"/>
                  </a:lnTo>
                  <a:lnTo>
                    <a:pt x="732" y="1040"/>
                  </a:lnTo>
                  <a:lnTo>
                    <a:pt x="738" y="1043"/>
                  </a:lnTo>
                  <a:lnTo>
                    <a:pt x="746" y="1047"/>
                  </a:lnTo>
                  <a:lnTo>
                    <a:pt x="754" y="1048"/>
                  </a:lnTo>
                  <a:lnTo>
                    <a:pt x="763" y="1050"/>
                  </a:lnTo>
                  <a:lnTo>
                    <a:pt x="773" y="1050"/>
                  </a:lnTo>
                  <a:lnTo>
                    <a:pt x="778" y="1050"/>
                  </a:lnTo>
                  <a:lnTo>
                    <a:pt x="783" y="1050"/>
                  </a:lnTo>
                  <a:lnTo>
                    <a:pt x="789" y="1048"/>
                  </a:lnTo>
                  <a:lnTo>
                    <a:pt x="794" y="1047"/>
                  </a:lnTo>
                  <a:lnTo>
                    <a:pt x="806" y="1043"/>
                  </a:lnTo>
                  <a:lnTo>
                    <a:pt x="818" y="1038"/>
                  </a:lnTo>
                  <a:lnTo>
                    <a:pt x="839" y="1026"/>
                  </a:lnTo>
                  <a:lnTo>
                    <a:pt x="847" y="1021"/>
                  </a:lnTo>
                  <a:lnTo>
                    <a:pt x="850" y="1019"/>
                  </a:lnTo>
                  <a:lnTo>
                    <a:pt x="854" y="1015"/>
                  </a:lnTo>
                  <a:lnTo>
                    <a:pt x="839" y="1123"/>
                  </a:lnTo>
                  <a:lnTo>
                    <a:pt x="737" y="1194"/>
                  </a:lnTo>
                  <a:lnTo>
                    <a:pt x="727" y="1199"/>
                  </a:lnTo>
                  <a:lnTo>
                    <a:pt x="717" y="1204"/>
                  </a:lnTo>
                  <a:lnTo>
                    <a:pt x="706" y="1208"/>
                  </a:lnTo>
                  <a:lnTo>
                    <a:pt x="695" y="1211"/>
                  </a:lnTo>
                  <a:lnTo>
                    <a:pt x="684" y="1215"/>
                  </a:lnTo>
                  <a:lnTo>
                    <a:pt x="672" y="1216"/>
                  </a:lnTo>
                  <a:lnTo>
                    <a:pt x="661" y="1218"/>
                  </a:lnTo>
                  <a:lnTo>
                    <a:pt x="648" y="1218"/>
                  </a:lnTo>
                  <a:lnTo>
                    <a:pt x="630" y="1216"/>
                  </a:lnTo>
                  <a:lnTo>
                    <a:pt x="614" y="1215"/>
                  </a:lnTo>
                  <a:lnTo>
                    <a:pt x="598" y="1209"/>
                  </a:lnTo>
                  <a:lnTo>
                    <a:pt x="583" y="1201"/>
                  </a:lnTo>
                  <a:lnTo>
                    <a:pt x="569" y="1192"/>
                  </a:lnTo>
                  <a:lnTo>
                    <a:pt x="556" y="1180"/>
                  </a:lnTo>
                  <a:lnTo>
                    <a:pt x="543" y="1166"/>
                  </a:lnTo>
                  <a:lnTo>
                    <a:pt x="531" y="1150"/>
                  </a:lnTo>
                  <a:lnTo>
                    <a:pt x="525" y="1142"/>
                  </a:lnTo>
                  <a:lnTo>
                    <a:pt x="520" y="1133"/>
                  </a:lnTo>
                  <a:lnTo>
                    <a:pt x="516" y="1123"/>
                  </a:lnTo>
                  <a:lnTo>
                    <a:pt x="511" y="1114"/>
                  </a:lnTo>
                  <a:lnTo>
                    <a:pt x="507" y="1104"/>
                  </a:lnTo>
                  <a:lnTo>
                    <a:pt x="503" y="1093"/>
                  </a:lnTo>
                  <a:lnTo>
                    <a:pt x="500" y="1083"/>
                  </a:lnTo>
                  <a:lnTo>
                    <a:pt x="497" y="1071"/>
                  </a:lnTo>
                  <a:lnTo>
                    <a:pt x="494" y="1060"/>
                  </a:lnTo>
                  <a:lnTo>
                    <a:pt x="492" y="1048"/>
                  </a:lnTo>
                  <a:lnTo>
                    <a:pt x="489" y="1036"/>
                  </a:lnTo>
                  <a:lnTo>
                    <a:pt x="488" y="1024"/>
                  </a:lnTo>
                  <a:lnTo>
                    <a:pt x="487" y="1010"/>
                  </a:lnTo>
                  <a:lnTo>
                    <a:pt x="486" y="998"/>
                  </a:lnTo>
                  <a:lnTo>
                    <a:pt x="485" y="984"/>
                  </a:lnTo>
                  <a:lnTo>
                    <a:pt x="485" y="970"/>
                  </a:lnTo>
                  <a:lnTo>
                    <a:pt x="485" y="917"/>
                  </a:lnTo>
                  <a:lnTo>
                    <a:pt x="486" y="894"/>
                  </a:lnTo>
                  <a:lnTo>
                    <a:pt x="486" y="885"/>
                  </a:lnTo>
                  <a:lnTo>
                    <a:pt x="487" y="877"/>
                  </a:lnTo>
                  <a:lnTo>
                    <a:pt x="488" y="868"/>
                  </a:lnTo>
                  <a:lnTo>
                    <a:pt x="488" y="859"/>
                  </a:lnTo>
                  <a:lnTo>
                    <a:pt x="490" y="839"/>
                  </a:lnTo>
                  <a:lnTo>
                    <a:pt x="493" y="813"/>
                  </a:lnTo>
                  <a:lnTo>
                    <a:pt x="496" y="783"/>
                  </a:lnTo>
                  <a:lnTo>
                    <a:pt x="513" y="658"/>
                  </a:lnTo>
                  <a:lnTo>
                    <a:pt x="486" y="688"/>
                  </a:lnTo>
                  <a:lnTo>
                    <a:pt x="457" y="717"/>
                  </a:lnTo>
                  <a:lnTo>
                    <a:pt x="429" y="743"/>
                  </a:lnTo>
                  <a:lnTo>
                    <a:pt x="398" y="768"/>
                  </a:lnTo>
                  <a:lnTo>
                    <a:pt x="382" y="780"/>
                  </a:lnTo>
                  <a:lnTo>
                    <a:pt x="366" y="788"/>
                  </a:lnTo>
                  <a:lnTo>
                    <a:pt x="350" y="797"/>
                  </a:lnTo>
                  <a:lnTo>
                    <a:pt x="333" y="804"/>
                  </a:lnTo>
                  <a:lnTo>
                    <a:pt x="315" y="809"/>
                  </a:lnTo>
                  <a:lnTo>
                    <a:pt x="297" y="813"/>
                  </a:lnTo>
                  <a:lnTo>
                    <a:pt x="279" y="816"/>
                  </a:lnTo>
                  <a:lnTo>
                    <a:pt x="260" y="816"/>
                  </a:lnTo>
                  <a:lnTo>
                    <a:pt x="243" y="814"/>
                  </a:lnTo>
                  <a:lnTo>
                    <a:pt x="227" y="813"/>
                  </a:lnTo>
                  <a:lnTo>
                    <a:pt x="212" y="807"/>
                  </a:lnTo>
                  <a:lnTo>
                    <a:pt x="198" y="799"/>
                  </a:lnTo>
                  <a:lnTo>
                    <a:pt x="185" y="790"/>
                  </a:lnTo>
                  <a:lnTo>
                    <a:pt x="179" y="785"/>
                  </a:lnTo>
                  <a:lnTo>
                    <a:pt x="174" y="778"/>
                  </a:lnTo>
                  <a:lnTo>
                    <a:pt x="168" y="771"/>
                  </a:lnTo>
                  <a:lnTo>
                    <a:pt x="163" y="764"/>
                  </a:lnTo>
                  <a:lnTo>
                    <a:pt x="158" y="757"/>
                  </a:lnTo>
                  <a:lnTo>
                    <a:pt x="153" y="749"/>
                  </a:lnTo>
                  <a:lnTo>
                    <a:pt x="149" y="740"/>
                  </a:lnTo>
                  <a:lnTo>
                    <a:pt x="145" y="731"/>
                  </a:lnTo>
                  <a:lnTo>
                    <a:pt x="142" y="723"/>
                  </a:lnTo>
                  <a:lnTo>
                    <a:pt x="138" y="712"/>
                  </a:lnTo>
                  <a:lnTo>
                    <a:pt x="136" y="702"/>
                  </a:lnTo>
                  <a:lnTo>
                    <a:pt x="132" y="691"/>
                  </a:lnTo>
                  <a:lnTo>
                    <a:pt x="130" y="681"/>
                  </a:lnTo>
                  <a:lnTo>
                    <a:pt x="127" y="669"/>
                  </a:lnTo>
                  <a:lnTo>
                    <a:pt x="125" y="657"/>
                  </a:lnTo>
                  <a:lnTo>
                    <a:pt x="124" y="645"/>
                  </a:lnTo>
                  <a:lnTo>
                    <a:pt x="121" y="619"/>
                  </a:lnTo>
                  <a:lnTo>
                    <a:pt x="120" y="591"/>
                  </a:lnTo>
                  <a:lnTo>
                    <a:pt x="119" y="561"/>
                  </a:lnTo>
                  <a:lnTo>
                    <a:pt x="119" y="544"/>
                  </a:lnTo>
                  <a:lnTo>
                    <a:pt x="120" y="529"/>
                  </a:lnTo>
                  <a:lnTo>
                    <a:pt x="120" y="509"/>
                  </a:lnTo>
                  <a:lnTo>
                    <a:pt x="122" y="492"/>
                  </a:lnTo>
                  <a:lnTo>
                    <a:pt x="124" y="471"/>
                  </a:lnTo>
                  <a:lnTo>
                    <a:pt x="126" y="452"/>
                  </a:lnTo>
                  <a:lnTo>
                    <a:pt x="129" y="432"/>
                  </a:lnTo>
                  <a:lnTo>
                    <a:pt x="132" y="411"/>
                  </a:lnTo>
                  <a:lnTo>
                    <a:pt x="138" y="369"/>
                  </a:lnTo>
                  <a:lnTo>
                    <a:pt x="142" y="336"/>
                  </a:lnTo>
                  <a:lnTo>
                    <a:pt x="143" y="321"/>
                  </a:lnTo>
                  <a:lnTo>
                    <a:pt x="144" y="307"/>
                  </a:lnTo>
                  <a:lnTo>
                    <a:pt x="145" y="29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05240" y="2313000"/>
              <a:ext cx="295560" cy="449280"/>
            </a:xfrm>
            <a:custGeom>
              <a:avLst/>
              <a:gdLst/>
              <a:ahLst/>
              <a:rect l="l" t="t" r="r" b="b"/>
              <a:pathLst>
                <a:path w="820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8"/>
                  </a:lnTo>
                  <a:lnTo>
                    <a:pt x="366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2"/>
                  </a:lnTo>
                  <a:lnTo>
                    <a:pt x="294" y="1230"/>
                  </a:lnTo>
                  <a:lnTo>
                    <a:pt x="286" y="1234"/>
                  </a:lnTo>
                  <a:lnTo>
                    <a:pt x="279" y="1239"/>
                  </a:lnTo>
                  <a:lnTo>
                    <a:pt x="270" y="1241"/>
                  </a:lnTo>
                  <a:lnTo>
                    <a:pt x="262" y="1244"/>
                  </a:lnTo>
                  <a:lnTo>
                    <a:pt x="253" y="1246"/>
                  </a:lnTo>
                  <a:lnTo>
                    <a:pt x="245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4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8"/>
                  </a:lnTo>
                  <a:lnTo>
                    <a:pt x="107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8" y="1000"/>
                  </a:lnTo>
                  <a:lnTo>
                    <a:pt x="14" y="981"/>
                  </a:lnTo>
                  <a:lnTo>
                    <a:pt x="8" y="938"/>
                  </a:lnTo>
                  <a:lnTo>
                    <a:pt x="3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1"/>
                  </a:lnTo>
                  <a:lnTo>
                    <a:pt x="4" y="671"/>
                  </a:lnTo>
                  <a:lnTo>
                    <a:pt x="8" y="633"/>
                  </a:lnTo>
                  <a:lnTo>
                    <a:pt x="13" y="595"/>
                  </a:lnTo>
                  <a:lnTo>
                    <a:pt x="19" y="556"/>
                  </a:lnTo>
                  <a:lnTo>
                    <a:pt x="25" y="520"/>
                  </a:lnTo>
                  <a:lnTo>
                    <a:pt x="32" y="484"/>
                  </a:lnTo>
                  <a:lnTo>
                    <a:pt x="41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80" y="319"/>
                  </a:lnTo>
                  <a:lnTo>
                    <a:pt x="91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5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1" y="49"/>
                  </a:lnTo>
                  <a:lnTo>
                    <a:pt x="279" y="35"/>
                  </a:lnTo>
                  <a:lnTo>
                    <a:pt x="297" y="25"/>
                  </a:lnTo>
                  <a:lnTo>
                    <a:pt x="317" y="16"/>
                  </a:lnTo>
                  <a:lnTo>
                    <a:pt x="335" y="9"/>
                  </a:lnTo>
                  <a:lnTo>
                    <a:pt x="355" y="4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50" y="7"/>
                  </a:lnTo>
                  <a:lnTo>
                    <a:pt x="461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5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7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3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5" y="932"/>
                  </a:lnTo>
                  <a:lnTo>
                    <a:pt x="665" y="941"/>
                  </a:lnTo>
                  <a:lnTo>
                    <a:pt x="665" y="948"/>
                  </a:lnTo>
                  <a:lnTo>
                    <a:pt x="665" y="964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1" y="1016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6" y="1031"/>
                  </a:lnTo>
                  <a:lnTo>
                    <a:pt x="677" y="1035"/>
                  </a:lnTo>
                  <a:lnTo>
                    <a:pt x="680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4"/>
                  </a:lnTo>
                  <a:lnTo>
                    <a:pt x="698" y="1057"/>
                  </a:lnTo>
                  <a:lnTo>
                    <a:pt x="704" y="1061"/>
                  </a:lnTo>
                  <a:lnTo>
                    <a:pt x="712" y="1064"/>
                  </a:lnTo>
                  <a:lnTo>
                    <a:pt x="720" y="1066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59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19" y="1033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2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7" y="1234"/>
                  </a:lnTo>
                  <a:lnTo>
                    <a:pt x="626" y="1236"/>
                  </a:lnTo>
                  <a:lnTo>
                    <a:pt x="613" y="1236"/>
                  </a:lnTo>
                  <a:lnTo>
                    <a:pt x="597" y="1236"/>
                  </a:lnTo>
                  <a:lnTo>
                    <a:pt x="582" y="1232"/>
                  </a:lnTo>
                  <a:lnTo>
                    <a:pt x="567" y="1229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1" y="1099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7" y="277"/>
                  </a:lnTo>
                  <a:lnTo>
                    <a:pt x="526" y="262"/>
                  </a:lnTo>
                  <a:lnTo>
                    <a:pt x="524" y="245"/>
                  </a:lnTo>
                  <a:lnTo>
                    <a:pt x="523" y="236"/>
                  </a:lnTo>
                  <a:lnTo>
                    <a:pt x="521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6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9"/>
                  </a:lnTo>
                  <a:lnTo>
                    <a:pt x="465" y="127"/>
                  </a:lnTo>
                  <a:lnTo>
                    <a:pt x="459" y="123"/>
                  </a:lnTo>
                  <a:lnTo>
                    <a:pt x="453" y="122"/>
                  </a:lnTo>
                  <a:lnTo>
                    <a:pt x="447" y="122"/>
                  </a:lnTo>
                  <a:lnTo>
                    <a:pt x="440" y="120"/>
                  </a:lnTo>
                  <a:lnTo>
                    <a:pt x="433" y="120"/>
                  </a:lnTo>
                  <a:lnTo>
                    <a:pt x="422" y="122"/>
                  </a:lnTo>
                  <a:lnTo>
                    <a:pt x="412" y="123"/>
                  </a:lnTo>
                  <a:lnTo>
                    <a:pt x="402" y="129"/>
                  </a:lnTo>
                  <a:lnTo>
                    <a:pt x="392" y="134"/>
                  </a:lnTo>
                  <a:lnTo>
                    <a:pt x="383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6" y="191"/>
                  </a:lnTo>
                  <a:lnTo>
                    <a:pt x="338" y="206"/>
                  </a:lnTo>
                  <a:lnTo>
                    <a:pt x="329" y="224"/>
                  </a:lnTo>
                  <a:lnTo>
                    <a:pt x="321" y="243"/>
                  </a:lnTo>
                  <a:lnTo>
                    <a:pt x="313" y="262"/>
                  </a:lnTo>
                  <a:lnTo>
                    <a:pt x="306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4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6" y="484"/>
                  </a:lnTo>
                  <a:lnTo>
                    <a:pt x="248" y="543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4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40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5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8"/>
                  </a:lnTo>
                  <a:lnTo>
                    <a:pt x="256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7" y="1022"/>
                  </a:lnTo>
                  <a:lnTo>
                    <a:pt x="272" y="1028"/>
                  </a:lnTo>
                  <a:lnTo>
                    <a:pt x="276" y="1035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4"/>
                  </a:lnTo>
                  <a:lnTo>
                    <a:pt x="301" y="1057"/>
                  </a:lnTo>
                  <a:lnTo>
                    <a:pt x="307" y="1061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8" y="1066"/>
                  </a:lnTo>
                  <a:lnTo>
                    <a:pt x="334" y="1066"/>
                  </a:lnTo>
                  <a:lnTo>
                    <a:pt x="342" y="1066"/>
                  </a:lnTo>
                  <a:lnTo>
                    <a:pt x="350" y="1064"/>
                  </a:lnTo>
                  <a:lnTo>
                    <a:pt x="357" y="1061"/>
                  </a:lnTo>
                  <a:lnTo>
                    <a:pt x="364" y="1057"/>
                  </a:lnTo>
                  <a:lnTo>
                    <a:pt x="372" y="1054"/>
                  </a:lnTo>
                  <a:lnTo>
                    <a:pt x="378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6" y="1016"/>
                  </a:lnTo>
                  <a:lnTo>
                    <a:pt x="420" y="996"/>
                  </a:lnTo>
                  <a:lnTo>
                    <a:pt x="433" y="976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8480" y="2313000"/>
              <a:ext cx="466560" cy="444600"/>
            </a:xfrm>
            <a:custGeom>
              <a:avLst/>
              <a:gdLst/>
              <a:ahLst/>
              <a:rect l="l" t="t" r="r" b="b"/>
              <a:pathLst>
                <a:path w="1297" h="1233">
                  <a:moveTo>
                    <a:pt x="1296" y="1029"/>
                  </a:moveTo>
                  <a:lnTo>
                    <a:pt x="1281" y="1137"/>
                  </a:lnTo>
                  <a:lnTo>
                    <a:pt x="1179" y="1208"/>
                  </a:lnTo>
                  <a:lnTo>
                    <a:pt x="1169" y="1213"/>
                  </a:lnTo>
                  <a:lnTo>
                    <a:pt x="1158" y="1218"/>
                  </a:lnTo>
                  <a:lnTo>
                    <a:pt x="1147" y="1222"/>
                  </a:lnTo>
                  <a:lnTo>
                    <a:pt x="1136" y="1225"/>
                  </a:lnTo>
                  <a:lnTo>
                    <a:pt x="1125" y="1229"/>
                  </a:lnTo>
                  <a:lnTo>
                    <a:pt x="1113" y="1230"/>
                  </a:lnTo>
                  <a:lnTo>
                    <a:pt x="1102" y="1232"/>
                  </a:lnTo>
                  <a:lnTo>
                    <a:pt x="1089" y="1232"/>
                  </a:lnTo>
                  <a:lnTo>
                    <a:pt x="1070" y="1230"/>
                  </a:lnTo>
                  <a:lnTo>
                    <a:pt x="1053" y="1227"/>
                  </a:lnTo>
                  <a:lnTo>
                    <a:pt x="1036" y="1222"/>
                  </a:lnTo>
                  <a:lnTo>
                    <a:pt x="1020" y="1215"/>
                  </a:lnTo>
                  <a:lnTo>
                    <a:pt x="1006" y="1204"/>
                  </a:lnTo>
                  <a:lnTo>
                    <a:pt x="992" y="1192"/>
                  </a:lnTo>
                  <a:lnTo>
                    <a:pt x="980" y="1178"/>
                  </a:lnTo>
                  <a:lnTo>
                    <a:pt x="975" y="1170"/>
                  </a:lnTo>
                  <a:lnTo>
                    <a:pt x="969" y="1161"/>
                  </a:lnTo>
                  <a:lnTo>
                    <a:pt x="959" y="1144"/>
                  </a:lnTo>
                  <a:lnTo>
                    <a:pt x="954" y="1133"/>
                  </a:lnTo>
                  <a:lnTo>
                    <a:pt x="950" y="1123"/>
                  </a:lnTo>
                  <a:lnTo>
                    <a:pt x="946" y="1114"/>
                  </a:lnTo>
                  <a:lnTo>
                    <a:pt x="942" y="1104"/>
                  </a:lnTo>
                  <a:lnTo>
                    <a:pt x="939" y="1093"/>
                  </a:lnTo>
                  <a:lnTo>
                    <a:pt x="937" y="1081"/>
                  </a:lnTo>
                  <a:lnTo>
                    <a:pt x="934" y="1071"/>
                  </a:lnTo>
                  <a:lnTo>
                    <a:pt x="931" y="1059"/>
                  </a:lnTo>
                  <a:lnTo>
                    <a:pt x="930" y="1047"/>
                  </a:lnTo>
                  <a:lnTo>
                    <a:pt x="928" y="1035"/>
                  </a:lnTo>
                  <a:lnTo>
                    <a:pt x="927" y="1022"/>
                  </a:lnTo>
                  <a:lnTo>
                    <a:pt x="926" y="1010"/>
                  </a:lnTo>
                  <a:lnTo>
                    <a:pt x="926" y="998"/>
                  </a:lnTo>
                  <a:lnTo>
                    <a:pt x="926" y="984"/>
                  </a:lnTo>
                  <a:lnTo>
                    <a:pt x="926" y="969"/>
                  </a:lnTo>
                  <a:lnTo>
                    <a:pt x="926" y="951"/>
                  </a:lnTo>
                  <a:lnTo>
                    <a:pt x="927" y="912"/>
                  </a:lnTo>
                  <a:lnTo>
                    <a:pt x="929" y="887"/>
                  </a:lnTo>
                  <a:lnTo>
                    <a:pt x="931" y="861"/>
                  </a:lnTo>
                  <a:lnTo>
                    <a:pt x="934" y="832"/>
                  </a:lnTo>
                  <a:lnTo>
                    <a:pt x="938" y="801"/>
                  </a:lnTo>
                  <a:lnTo>
                    <a:pt x="985" y="484"/>
                  </a:lnTo>
                  <a:lnTo>
                    <a:pt x="988" y="458"/>
                  </a:lnTo>
                  <a:lnTo>
                    <a:pt x="992" y="435"/>
                  </a:lnTo>
                  <a:lnTo>
                    <a:pt x="994" y="411"/>
                  </a:lnTo>
                  <a:lnTo>
                    <a:pt x="996" y="390"/>
                  </a:lnTo>
                  <a:lnTo>
                    <a:pt x="998" y="371"/>
                  </a:lnTo>
                  <a:lnTo>
                    <a:pt x="998" y="352"/>
                  </a:lnTo>
                  <a:lnTo>
                    <a:pt x="999" y="336"/>
                  </a:lnTo>
                  <a:lnTo>
                    <a:pt x="999" y="323"/>
                  </a:lnTo>
                  <a:lnTo>
                    <a:pt x="999" y="309"/>
                  </a:lnTo>
                  <a:lnTo>
                    <a:pt x="998" y="295"/>
                  </a:lnTo>
                  <a:lnTo>
                    <a:pt x="997" y="283"/>
                  </a:lnTo>
                  <a:lnTo>
                    <a:pt x="996" y="272"/>
                  </a:lnTo>
                  <a:lnTo>
                    <a:pt x="994" y="267"/>
                  </a:lnTo>
                  <a:lnTo>
                    <a:pt x="993" y="262"/>
                  </a:lnTo>
                  <a:lnTo>
                    <a:pt x="992" y="257"/>
                  </a:lnTo>
                  <a:lnTo>
                    <a:pt x="991" y="252"/>
                  </a:lnTo>
                  <a:lnTo>
                    <a:pt x="989" y="246"/>
                  </a:lnTo>
                  <a:lnTo>
                    <a:pt x="987" y="243"/>
                  </a:lnTo>
                  <a:lnTo>
                    <a:pt x="986" y="238"/>
                  </a:lnTo>
                  <a:lnTo>
                    <a:pt x="984" y="234"/>
                  </a:lnTo>
                  <a:lnTo>
                    <a:pt x="982" y="231"/>
                  </a:lnTo>
                  <a:lnTo>
                    <a:pt x="980" y="226"/>
                  </a:lnTo>
                  <a:lnTo>
                    <a:pt x="977" y="222"/>
                  </a:lnTo>
                  <a:lnTo>
                    <a:pt x="975" y="220"/>
                  </a:lnTo>
                  <a:lnTo>
                    <a:pt x="972" y="217"/>
                  </a:lnTo>
                  <a:lnTo>
                    <a:pt x="970" y="213"/>
                  </a:lnTo>
                  <a:lnTo>
                    <a:pt x="967" y="212"/>
                  </a:lnTo>
                  <a:lnTo>
                    <a:pt x="964" y="210"/>
                  </a:lnTo>
                  <a:lnTo>
                    <a:pt x="957" y="206"/>
                  </a:lnTo>
                  <a:lnTo>
                    <a:pt x="950" y="203"/>
                  </a:lnTo>
                  <a:lnTo>
                    <a:pt x="942" y="201"/>
                  </a:lnTo>
                  <a:lnTo>
                    <a:pt x="934" y="201"/>
                  </a:lnTo>
                  <a:lnTo>
                    <a:pt x="927" y="201"/>
                  </a:lnTo>
                  <a:lnTo>
                    <a:pt x="920" y="203"/>
                  </a:lnTo>
                  <a:lnTo>
                    <a:pt x="914" y="206"/>
                  </a:lnTo>
                  <a:lnTo>
                    <a:pt x="906" y="212"/>
                  </a:lnTo>
                  <a:lnTo>
                    <a:pt x="898" y="217"/>
                  </a:lnTo>
                  <a:lnTo>
                    <a:pt x="889" y="224"/>
                  </a:lnTo>
                  <a:lnTo>
                    <a:pt x="881" y="232"/>
                  </a:lnTo>
                  <a:lnTo>
                    <a:pt x="871" y="241"/>
                  </a:lnTo>
                  <a:lnTo>
                    <a:pt x="853" y="264"/>
                  </a:lnTo>
                  <a:lnTo>
                    <a:pt x="833" y="290"/>
                  </a:lnTo>
                  <a:lnTo>
                    <a:pt x="815" y="317"/>
                  </a:lnTo>
                  <a:lnTo>
                    <a:pt x="795" y="350"/>
                  </a:lnTo>
                  <a:lnTo>
                    <a:pt x="688" y="1211"/>
                  </a:lnTo>
                  <a:lnTo>
                    <a:pt x="473" y="1211"/>
                  </a:lnTo>
                  <a:lnTo>
                    <a:pt x="563" y="484"/>
                  </a:lnTo>
                  <a:lnTo>
                    <a:pt x="574" y="387"/>
                  </a:lnTo>
                  <a:lnTo>
                    <a:pt x="576" y="369"/>
                  </a:lnTo>
                  <a:lnTo>
                    <a:pt x="577" y="352"/>
                  </a:lnTo>
                  <a:lnTo>
                    <a:pt x="578" y="336"/>
                  </a:lnTo>
                  <a:lnTo>
                    <a:pt x="578" y="323"/>
                  </a:lnTo>
                  <a:lnTo>
                    <a:pt x="578" y="309"/>
                  </a:lnTo>
                  <a:lnTo>
                    <a:pt x="577" y="295"/>
                  </a:lnTo>
                  <a:lnTo>
                    <a:pt x="575" y="283"/>
                  </a:lnTo>
                  <a:lnTo>
                    <a:pt x="574" y="272"/>
                  </a:lnTo>
                  <a:lnTo>
                    <a:pt x="573" y="267"/>
                  </a:lnTo>
                  <a:lnTo>
                    <a:pt x="572" y="262"/>
                  </a:lnTo>
                  <a:lnTo>
                    <a:pt x="570" y="257"/>
                  </a:lnTo>
                  <a:lnTo>
                    <a:pt x="569" y="252"/>
                  </a:lnTo>
                  <a:lnTo>
                    <a:pt x="567" y="246"/>
                  </a:lnTo>
                  <a:lnTo>
                    <a:pt x="566" y="243"/>
                  </a:lnTo>
                  <a:lnTo>
                    <a:pt x="564" y="238"/>
                  </a:lnTo>
                  <a:lnTo>
                    <a:pt x="562" y="234"/>
                  </a:lnTo>
                  <a:lnTo>
                    <a:pt x="560" y="231"/>
                  </a:lnTo>
                  <a:lnTo>
                    <a:pt x="558" y="226"/>
                  </a:lnTo>
                  <a:lnTo>
                    <a:pt x="556" y="222"/>
                  </a:lnTo>
                  <a:lnTo>
                    <a:pt x="553" y="220"/>
                  </a:lnTo>
                  <a:lnTo>
                    <a:pt x="551" y="217"/>
                  </a:lnTo>
                  <a:lnTo>
                    <a:pt x="547" y="213"/>
                  </a:lnTo>
                  <a:lnTo>
                    <a:pt x="545" y="212"/>
                  </a:lnTo>
                  <a:lnTo>
                    <a:pt x="541" y="210"/>
                  </a:lnTo>
                  <a:lnTo>
                    <a:pt x="534" y="206"/>
                  </a:lnTo>
                  <a:lnTo>
                    <a:pt x="528" y="203"/>
                  </a:lnTo>
                  <a:lnTo>
                    <a:pt x="519" y="201"/>
                  </a:lnTo>
                  <a:lnTo>
                    <a:pt x="511" y="201"/>
                  </a:lnTo>
                  <a:lnTo>
                    <a:pt x="506" y="201"/>
                  </a:lnTo>
                  <a:lnTo>
                    <a:pt x="500" y="203"/>
                  </a:lnTo>
                  <a:lnTo>
                    <a:pt x="493" y="205"/>
                  </a:lnTo>
                  <a:lnTo>
                    <a:pt x="487" y="208"/>
                  </a:lnTo>
                  <a:lnTo>
                    <a:pt x="479" y="213"/>
                  </a:lnTo>
                  <a:lnTo>
                    <a:pt x="472" y="219"/>
                  </a:lnTo>
                  <a:lnTo>
                    <a:pt x="455" y="231"/>
                  </a:lnTo>
                  <a:lnTo>
                    <a:pt x="446" y="239"/>
                  </a:lnTo>
                  <a:lnTo>
                    <a:pt x="436" y="250"/>
                  </a:lnTo>
                  <a:lnTo>
                    <a:pt x="425" y="262"/>
                  </a:lnTo>
                  <a:lnTo>
                    <a:pt x="414" y="276"/>
                  </a:lnTo>
                  <a:lnTo>
                    <a:pt x="403" y="291"/>
                  </a:lnTo>
                  <a:lnTo>
                    <a:pt x="391" y="309"/>
                  </a:lnTo>
                  <a:lnTo>
                    <a:pt x="365" y="350"/>
                  </a:lnTo>
                  <a:lnTo>
                    <a:pt x="258" y="1211"/>
                  </a:lnTo>
                  <a:lnTo>
                    <a:pt x="43" y="1211"/>
                  </a:lnTo>
                  <a:lnTo>
                    <a:pt x="135" y="478"/>
                  </a:lnTo>
                  <a:lnTo>
                    <a:pt x="145" y="390"/>
                  </a:lnTo>
                  <a:lnTo>
                    <a:pt x="148" y="364"/>
                  </a:lnTo>
                  <a:lnTo>
                    <a:pt x="149" y="342"/>
                  </a:lnTo>
                  <a:lnTo>
                    <a:pt x="151" y="321"/>
                  </a:lnTo>
                  <a:lnTo>
                    <a:pt x="151" y="310"/>
                  </a:lnTo>
                  <a:lnTo>
                    <a:pt x="151" y="302"/>
                  </a:lnTo>
                  <a:lnTo>
                    <a:pt x="151" y="286"/>
                  </a:lnTo>
                  <a:lnTo>
                    <a:pt x="150" y="271"/>
                  </a:lnTo>
                  <a:lnTo>
                    <a:pt x="149" y="257"/>
                  </a:lnTo>
                  <a:lnTo>
                    <a:pt x="148" y="245"/>
                  </a:lnTo>
                  <a:lnTo>
                    <a:pt x="147" y="239"/>
                  </a:lnTo>
                  <a:lnTo>
                    <a:pt x="146" y="234"/>
                  </a:lnTo>
                  <a:lnTo>
                    <a:pt x="144" y="229"/>
                  </a:lnTo>
                  <a:lnTo>
                    <a:pt x="143" y="224"/>
                  </a:lnTo>
                  <a:lnTo>
                    <a:pt x="142" y="219"/>
                  </a:lnTo>
                  <a:lnTo>
                    <a:pt x="140" y="215"/>
                  </a:lnTo>
                  <a:lnTo>
                    <a:pt x="138" y="212"/>
                  </a:lnTo>
                  <a:lnTo>
                    <a:pt x="137" y="208"/>
                  </a:lnTo>
                  <a:lnTo>
                    <a:pt x="135" y="205"/>
                  </a:lnTo>
                  <a:lnTo>
                    <a:pt x="132" y="201"/>
                  </a:lnTo>
                  <a:lnTo>
                    <a:pt x="131" y="200"/>
                  </a:lnTo>
                  <a:lnTo>
                    <a:pt x="128" y="196"/>
                  </a:lnTo>
                  <a:lnTo>
                    <a:pt x="125" y="194"/>
                  </a:lnTo>
                  <a:lnTo>
                    <a:pt x="122" y="193"/>
                  </a:lnTo>
                  <a:lnTo>
                    <a:pt x="115" y="189"/>
                  </a:lnTo>
                  <a:lnTo>
                    <a:pt x="108" y="186"/>
                  </a:lnTo>
                  <a:lnTo>
                    <a:pt x="100" y="184"/>
                  </a:lnTo>
                  <a:lnTo>
                    <a:pt x="91" y="182"/>
                  </a:lnTo>
                  <a:lnTo>
                    <a:pt x="81" y="182"/>
                  </a:lnTo>
                  <a:lnTo>
                    <a:pt x="70" y="182"/>
                  </a:lnTo>
                  <a:lnTo>
                    <a:pt x="65" y="184"/>
                  </a:lnTo>
                  <a:lnTo>
                    <a:pt x="59" y="186"/>
                  </a:lnTo>
                  <a:lnTo>
                    <a:pt x="54" y="187"/>
                  </a:lnTo>
                  <a:lnTo>
                    <a:pt x="48" y="189"/>
                  </a:lnTo>
                  <a:lnTo>
                    <a:pt x="43" y="191"/>
                  </a:lnTo>
                  <a:lnTo>
                    <a:pt x="37" y="194"/>
                  </a:lnTo>
                  <a:lnTo>
                    <a:pt x="27" y="200"/>
                  </a:lnTo>
                  <a:lnTo>
                    <a:pt x="17" y="206"/>
                  </a:lnTo>
                  <a:lnTo>
                    <a:pt x="0" y="217"/>
                  </a:lnTo>
                  <a:lnTo>
                    <a:pt x="15" y="109"/>
                  </a:lnTo>
                  <a:lnTo>
                    <a:pt x="115" y="42"/>
                  </a:lnTo>
                  <a:lnTo>
                    <a:pt x="127" y="35"/>
                  </a:lnTo>
                  <a:lnTo>
                    <a:pt x="139" y="30"/>
                  </a:lnTo>
                  <a:lnTo>
                    <a:pt x="151" y="25"/>
                  </a:lnTo>
                  <a:lnTo>
                    <a:pt x="162" y="21"/>
                  </a:lnTo>
                  <a:lnTo>
                    <a:pt x="174" y="18"/>
                  </a:lnTo>
                  <a:lnTo>
                    <a:pt x="185" y="16"/>
                  </a:lnTo>
                  <a:lnTo>
                    <a:pt x="195" y="14"/>
                  </a:lnTo>
                  <a:lnTo>
                    <a:pt x="206" y="14"/>
                  </a:lnTo>
                  <a:lnTo>
                    <a:pt x="225" y="16"/>
                  </a:lnTo>
                  <a:lnTo>
                    <a:pt x="243" y="18"/>
                  </a:lnTo>
                  <a:lnTo>
                    <a:pt x="259" y="23"/>
                  </a:lnTo>
                  <a:lnTo>
                    <a:pt x="275" y="28"/>
                  </a:lnTo>
                  <a:lnTo>
                    <a:pt x="288" y="37"/>
                  </a:lnTo>
                  <a:lnTo>
                    <a:pt x="295" y="42"/>
                  </a:lnTo>
                  <a:lnTo>
                    <a:pt x="301" y="47"/>
                  </a:lnTo>
                  <a:lnTo>
                    <a:pt x="306" y="52"/>
                  </a:lnTo>
                  <a:lnTo>
                    <a:pt x="312" y="59"/>
                  </a:lnTo>
                  <a:lnTo>
                    <a:pt x="317" y="66"/>
                  </a:lnTo>
                  <a:lnTo>
                    <a:pt x="321" y="73"/>
                  </a:lnTo>
                  <a:lnTo>
                    <a:pt x="330" y="89"/>
                  </a:lnTo>
                  <a:lnTo>
                    <a:pt x="337" y="104"/>
                  </a:lnTo>
                  <a:lnTo>
                    <a:pt x="344" y="122"/>
                  </a:lnTo>
                  <a:lnTo>
                    <a:pt x="351" y="141"/>
                  </a:lnTo>
                  <a:lnTo>
                    <a:pt x="357" y="160"/>
                  </a:lnTo>
                  <a:lnTo>
                    <a:pt x="362" y="180"/>
                  </a:lnTo>
                  <a:lnTo>
                    <a:pt x="366" y="201"/>
                  </a:lnTo>
                  <a:lnTo>
                    <a:pt x="370" y="224"/>
                  </a:lnTo>
                  <a:lnTo>
                    <a:pt x="374" y="224"/>
                  </a:lnTo>
                  <a:lnTo>
                    <a:pt x="407" y="172"/>
                  </a:lnTo>
                  <a:lnTo>
                    <a:pt x="439" y="129"/>
                  </a:lnTo>
                  <a:lnTo>
                    <a:pt x="454" y="108"/>
                  </a:lnTo>
                  <a:lnTo>
                    <a:pt x="470" y="89"/>
                  </a:lnTo>
                  <a:lnTo>
                    <a:pt x="485" y="73"/>
                  </a:lnTo>
                  <a:lnTo>
                    <a:pt x="501" y="57"/>
                  </a:lnTo>
                  <a:lnTo>
                    <a:pt x="516" y="44"/>
                  </a:lnTo>
                  <a:lnTo>
                    <a:pt x="532" y="33"/>
                  </a:lnTo>
                  <a:lnTo>
                    <a:pt x="548" y="23"/>
                  </a:lnTo>
                  <a:lnTo>
                    <a:pt x="565" y="14"/>
                  </a:lnTo>
                  <a:lnTo>
                    <a:pt x="583" y="9"/>
                  </a:lnTo>
                  <a:lnTo>
                    <a:pt x="601" y="4"/>
                  </a:lnTo>
                  <a:lnTo>
                    <a:pt x="620" y="2"/>
                  </a:lnTo>
                  <a:lnTo>
                    <a:pt x="639" y="0"/>
                  </a:lnTo>
                  <a:lnTo>
                    <a:pt x="655" y="2"/>
                  </a:lnTo>
                  <a:lnTo>
                    <a:pt x="672" y="4"/>
                  </a:lnTo>
                  <a:lnTo>
                    <a:pt x="686" y="9"/>
                  </a:lnTo>
                  <a:lnTo>
                    <a:pt x="700" y="18"/>
                  </a:lnTo>
                  <a:lnTo>
                    <a:pt x="714" y="26"/>
                  </a:lnTo>
                  <a:lnTo>
                    <a:pt x="727" y="38"/>
                  </a:lnTo>
                  <a:lnTo>
                    <a:pt x="738" y="51"/>
                  </a:lnTo>
                  <a:lnTo>
                    <a:pt x="749" y="66"/>
                  </a:lnTo>
                  <a:lnTo>
                    <a:pt x="760" y="83"/>
                  </a:lnTo>
                  <a:lnTo>
                    <a:pt x="769" y="101"/>
                  </a:lnTo>
                  <a:lnTo>
                    <a:pt x="772" y="109"/>
                  </a:lnTo>
                  <a:lnTo>
                    <a:pt x="777" y="120"/>
                  </a:lnTo>
                  <a:lnTo>
                    <a:pt x="780" y="129"/>
                  </a:lnTo>
                  <a:lnTo>
                    <a:pt x="783" y="139"/>
                  </a:lnTo>
                  <a:lnTo>
                    <a:pt x="786" y="149"/>
                  </a:lnTo>
                  <a:lnTo>
                    <a:pt x="788" y="160"/>
                  </a:lnTo>
                  <a:lnTo>
                    <a:pt x="791" y="170"/>
                  </a:lnTo>
                  <a:lnTo>
                    <a:pt x="793" y="182"/>
                  </a:lnTo>
                  <a:lnTo>
                    <a:pt x="794" y="193"/>
                  </a:lnTo>
                  <a:lnTo>
                    <a:pt x="795" y="205"/>
                  </a:lnTo>
                  <a:lnTo>
                    <a:pt x="796" y="217"/>
                  </a:lnTo>
                  <a:lnTo>
                    <a:pt x="797" y="229"/>
                  </a:lnTo>
                  <a:lnTo>
                    <a:pt x="802" y="229"/>
                  </a:lnTo>
                  <a:lnTo>
                    <a:pt x="836" y="177"/>
                  </a:lnTo>
                  <a:lnTo>
                    <a:pt x="869" y="132"/>
                  </a:lnTo>
                  <a:lnTo>
                    <a:pt x="900" y="92"/>
                  </a:lnTo>
                  <a:lnTo>
                    <a:pt x="931" y="59"/>
                  </a:lnTo>
                  <a:lnTo>
                    <a:pt x="946" y="45"/>
                  </a:lnTo>
                  <a:lnTo>
                    <a:pt x="961" y="33"/>
                  </a:lnTo>
                  <a:lnTo>
                    <a:pt x="978" y="23"/>
                  </a:lnTo>
                  <a:lnTo>
                    <a:pt x="994" y="14"/>
                  </a:lnTo>
                  <a:lnTo>
                    <a:pt x="1012" y="9"/>
                  </a:lnTo>
                  <a:lnTo>
                    <a:pt x="1030" y="4"/>
                  </a:lnTo>
                  <a:lnTo>
                    <a:pt x="1047" y="2"/>
                  </a:lnTo>
                  <a:lnTo>
                    <a:pt x="1067" y="0"/>
                  </a:lnTo>
                  <a:lnTo>
                    <a:pt x="1084" y="2"/>
                  </a:lnTo>
                  <a:lnTo>
                    <a:pt x="1101" y="6"/>
                  </a:lnTo>
                  <a:lnTo>
                    <a:pt x="1116" y="11"/>
                  </a:lnTo>
                  <a:lnTo>
                    <a:pt x="1131" y="19"/>
                  </a:lnTo>
                  <a:lnTo>
                    <a:pt x="1145" y="28"/>
                  </a:lnTo>
                  <a:lnTo>
                    <a:pt x="1151" y="35"/>
                  </a:lnTo>
                  <a:lnTo>
                    <a:pt x="1158" y="42"/>
                  </a:lnTo>
                  <a:lnTo>
                    <a:pt x="1163" y="49"/>
                  </a:lnTo>
                  <a:lnTo>
                    <a:pt x="1169" y="56"/>
                  </a:lnTo>
                  <a:lnTo>
                    <a:pt x="1174" y="64"/>
                  </a:lnTo>
                  <a:lnTo>
                    <a:pt x="1180" y="73"/>
                  </a:lnTo>
                  <a:lnTo>
                    <a:pt x="1189" y="92"/>
                  </a:lnTo>
                  <a:lnTo>
                    <a:pt x="1197" y="111"/>
                  </a:lnTo>
                  <a:lnTo>
                    <a:pt x="1201" y="122"/>
                  </a:lnTo>
                  <a:lnTo>
                    <a:pt x="1204" y="132"/>
                  </a:lnTo>
                  <a:lnTo>
                    <a:pt x="1207" y="142"/>
                  </a:lnTo>
                  <a:lnTo>
                    <a:pt x="1210" y="154"/>
                  </a:lnTo>
                  <a:lnTo>
                    <a:pt x="1213" y="165"/>
                  </a:lnTo>
                  <a:lnTo>
                    <a:pt x="1214" y="177"/>
                  </a:lnTo>
                  <a:lnTo>
                    <a:pt x="1216" y="187"/>
                  </a:lnTo>
                  <a:lnTo>
                    <a:pt x="1218" y="200"/>
                  </a:lnTo>
                  <a:lnTo>
                    <a:pt x="1218" y="212"/>
                  </a:lnTo>
                  <a:lnTo>
                    <a:pt x="1219" y="224"/>
                  </a:lnTo>
                  <a:lnTo>
                    <a:pt x="1220" y="238"/>
                  </a:lnTo>
                  <a:lnTo>
                    <a:pt x="1220" y="250"/>
                  </a:lnTo>
                  <a:lnTo>
                    <a:pt x="1220" y="265"/>
                  </a:lnTo>
                  <a:lnTo>
                    <a:pt x="1219" y="283"/>
                  </a:lnTo>
                  <a:lnTo>
                    <a:pt x="1218" y="326"/>
                  </a:lnTo>
                  <a:lnTo>
                    <a:pt x="1217" y="340"/>
                  </a:lnTo>
                  <a:lnTo>
                    <a:pt x="1217" y="352"/>
                  </a:lnTo>
                  <a:lnTo>
                    <a:pt x="1215" y="366"/>
                  </a:lnTo>
                  <a:lnTo>
                    <a:pt x="1214" y="378"/>
                  </a:lnTo>
                  <a:lnTo>
                    <a:pt x="1211" y="404"/>
                  </a:lnTo>
                  <a:lnTo>
                    <a:pt x="1207" y="432"/>
                  </a:lnTo>
                  <a:lnTo>
                    <a:pt x="1158" y="768"/>
                  </a:lnTo>
                  <a:lnTo>
                    <a:pt x="1154" y="790"/>
                  </a:lnTo>
                  <a:lnTo>
                    <a:pt x="1152" y="813"/>
                  </a:lnTo>
                  <a:lnTo>
                    <a:pt x="1148" y="837"/>
                  </a:lnTo>
                  <a:lnTo>
                    <a:pt x="1146" y="863"/>
                  </a:lnTo>
                  <a:lnTo>
                    <a:pt x="1143" y="889"/>
                  </a:lnTo>
                  <a:lnTo>
                    <a:pt x="1142" y="912"/>
                  </a:lnTo>
                  <a:lnTo>
                    <a:pt x="1141" y="929"/>
                  </a:lnTo>
                  <a:lnTo>
                    <a:pt x="1141" y="938"/>
                  </a:lnTo>
                  <a:lnTo>
                    <a:pt x="1141" y="944"/>
                  </a:lnTo>
                  <a:lnTo>
                    <a:pt x="1141" y="962"/>
                  </a:lnTo>
                  <a:lnTo>
                    <a:pt x="1141" y="977"/>
                  </a:lnTo>
                  <a:lnTo>
                    <a:pt x="1143" y="991"/>
                  </a:lnTo>
                  <a:lnTo>
                    <a:pt x="1144" y="996"/>
                  </a:lnTo>
                  <a:lnTo>
                    <a:pt x="1145" y="1003"/>
                  </a:lnTo>
                  <a:lnTo>
                    <a:pt x="1146" y="1009"/>
                  </a:lnTo>
                  <a:lnTo>
                    <a:pt x="1147" y="1014"/>
                  </a:lnTo>
                  <a:lnTo>
                    <a:pt x="1149" y="1019"/>
                  </a:lnTo>
                  <a:lnTo>
                    <a:pt x="1150" y="1024"/>
                  </a:lnTo>
                  <a:lnTo>
                    <a:pt x="1152" y="1029"/>
                  </a:lnTo>
                  <a:lnTo>
                    <a:pt x="1153" y="1033"/>
                  </a:lnTo>
                  <a:lnTo>
                    <a:pt x="1156" y="1036"/>
                  </a:lnTo>
                  <a:lnTo>
                    <a:pt x="1158" y="1040"/>
                  </a:lnTo>
                  <a:lnTo>
                    <a:pt x="1160" y="1043"/>
                  </a:lnTo>
                  <a:lnTo>
                    <a:pt x="1162" y="1045"/>
                  </a:lnTo>
                  <a:lnTo>
                    <a:pt x="1164" y="1048"/>
                  </a:lnTo>
                  <a:lnTo>
                    <a:pt x="1168" y="1050"/>
                  </a:lnTo>
                  <a:lnTo>
                    <a:pt x="1174" y="1054"/>
                  </a:lnTo>
                  <a:lnTo>
                    <a:pt x="1180" y="1057"/>
                  </a:lnTo>
                  <a:lnTo>
                    <a:pt x="1188" y="1061"/>
                  </a:lnTo>
                  <a:lnTo>
                    <a:pt x="1196" y="1062"/>
                  </a:lnTo>
                  <a:lnTo>
                    <a:pt x="1206" y="1064"/>
                  </a:lnTo>
                  <a:lnTo>
                    <a:pt x="1216" y="1064"/>
                  </a:lnTo>
                  <a:lnTo>
                    <a:pt x="1221" y="1064"/>
                  </a:lnTo>
                  <a:lnTo>
                    <a:pt x="1226" y="1064"/>
                  </a:lnTo>
                  <a:lnTo>
                    <a:pt x="1231" y="1062"/>
                  </a:lnTo>
                  <a:lnTo>
                    <a:pt x="1236" y="1061"/>
                  </a:lnTo>
                  <a:lnTo>
                    <a:pt x="1248" y="1057"/>
                  </a:lnTo>
                  <a:lnTo>
                    <a:pt x="1260" y="1052"/>
                  </a:lnTo>
                  <a:lnTo>
                    <a:pt x="1281" y="1040"/>
                  </a:lnTo>
                  <a:lnTo>
                    <a:pt x="1289" y="1035"/>
                  </a:lnTo>
                  <a:lnTo>
                    <a:pt x="1292" y="10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2000" y="2316240"/>
              <a:ext cx="315720" cy="439560"/>
            </a:xfrm>
            <a:custGeom>
              <a:avLst/>
              <a:gdLst/>
              <a:ahLst/>
              <a:rect l="l" t="t" r="r" b="b"/>
              <a:pathLst>
                <a:path w="877" h="1221">
                  <a:moveTo>
                    <a:pt x="344" y="517"/>
                  </a:moveTo>
                  <a:lnTo>
                    <a:pt x="553" y="517"/>
                  </a:lnTo>
                  <a:lnTo>
                    <a:pt x="615" y="23"/>
                  </a:lnTo>
                  <a:lnTo>
                    <a:pt x="822" y="6"/>
                  </a:lnTo>
                  <a:lnTo>
                    <a:pt x="830" y="23"/>
                  </a:lnTo>
                  <a:lnTo>
                    <a:pt x="738" y="756"/>
                  </a:lnTo>
                  <a:lnTo>
                    <a:pt x="735" y="775"/>
                  </a:lnTo>
                  <a:lnTo>
                    <a:pt x="733" y="797"/>
                  </a:lnTo>
                  <a:lnTo>
                    <a:pt x="730" y="820"/>
                  </a:lnTo>
                  <a:lnTo>
                    <a:pt x="727" y="848"/>
                  </a:lnTo>
                  <a:lnTo>
                    <a:pt x="725" y="875"/>
                  </a:lnTo>
                  <a:lnTo>
                    <a:pt x="723" y="898"/>
                  </a:lnTo>
                  <a:lnTo>
                    <a:pt x="722" y="917"/>
                  </a:lnTo>
                  <a:lnTo>
                    <a:pt x="722" y="926"/>
                  </a:lnTo>
                  <a:lnTo>
                    <a:pt x="722" y="932"/>
                  </a:lnTo>
                  <a:lnTo>
                    <a:pt x="722" y="950"/>
                  </a:lnTo>
                  <a:lnTo>
                    <a:pt x="722" y="965"/>
                  </a:lnTo>
                  <a:lnTo>
                    <a:pt x="724" y="979"/>
                  </a:lnTo>
                  <a:lnTo>
                    <a:pt x="725" y="984"/>
                  </a:lnTo>
                  <a:lnTo>
                    <a:pt x="726" y="991"/>
                  </a:lnTo>
                  <a:lnTo>
                    <a:pt x="727" y="997"/>
                  </a:lnTo>
                  <a:lnTo>
                    <a:pt x="727" y="1002"/>
                  </a:lnTo>
                  <a:lnTo>
                    <a:pt x="729" y="1007"/>
                  </a:lnTo>
                  <a:lnTo>
                    <a:pt x="731" y="1012"/>
                  </a:lnTo>
                  <a:lnTo>
                    <a:pt x="732" y="1017"/>
                  </a:lnTo>
                  <a:lnTo>
                    <a:pt x="733" y="1021"/>
                  </a:lnTo>
                  <a:lnTo>
                    <a:pt x="736" y="1024"/>
                  </a:lnTo>
                  <a:lnTo>
                    <a:pt x="738" y="1028"/>
                  </a:lnTo>
                  <a:lnTo>
                    <a:pt x="740" y="1031"/>
                  </a:lnTo>
                  <a:lnTo>
                    <a:pt x="742" y="1033"/>
                  </a:lnTo>
                  <a:lnTo>
                    <a:pt x="744" y="1036"/>
                  </a:lnTo>
                  <a:lnTo>
                    <a:pt x="748" y="1038"/>
                  </a:lnTo>
                  <a:lnTo>
                    <a:pt x="754" y="1042"/>
                  </a:lnTo>
                  <a:lnTo>
                    <a:pt x="760" y="1045"/>
                  </a:lnTo>
                  <a:lnTo>
                    <a:pt x="768" y="1049"/>
                  </a:lnTo>
                  <a:lnTo>
                    <a:pt x="777" y="1050"/>
                  </a:lnTo>
                  <a:lnTo>
                    <a:pt x="785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9"/>
                  </a:lnTo>
                  <a:lnTo>
                    <a:pt x="828" y="1045"/>
                  </a:lnTo>
                  <a:lnTo>
                    <a:pt x="840" y="1040"/>
                  </a:lnTo>
                  <a:lnTo>
                    <a:pt x="861" y="1028"/>
                  </a:lnTo>
                  <a:lnTo>
                    <a:pt x="869" y="1023"/>
                  </a:lnTo>
                  <a:lnTo>
                    <a:pt x="872" y="1021"/>
                  </a:lnTo>
                  <a:lnTo>
                    <a:pt x="876" y="1017"/>
                  </a:lnTo>
                  <a:lnTo>
                    <a:pt x="861" y="1125"/>
                  </a:lnTo>
                  <a:lnTo>
                    <a:pt x="759" y="1196"/>
                  </a:lnTo>
                  <a:lnTo>
                    <a:pt x="749" y="1201"/>
                  </a:lnTo>
                  <a:lnTo>
                    <a:pt x="738" y="1206"/>
                  </a:lnTo>
                  <a:lnTo>
                    <a:pt x="728" y="1210"/>
                  </a:lnTo>
                  <a:lnTo>
                    <a:pt x="717" y="1213"/>
                  </a:lnTo>
                  <a:lnTo>
                    <a:pt x="705" y="1217"/>
                  </a:lnTo>
                  <a:lnTo>
                    <a:pt x="694" y="1218"/>
                  </a:lnTo>
                  <a:lnTo>
                    <a:pt x="682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7"/>
                  </a:lnTo>
                  <a:lnTo>
                    <a:pt x="620" y="1211"/>
                  </a:lnTo>
                  <a:lnTo>
                    <a:pt x="605" y="1203"/>
                  </a:lnTo>
                  <a:lnTo>
                    <a:pt x="591" y="1194"/>
                  </a:lnTo>
                  <a:lnTo>
                    <a:pt x="578" y="1182"/>
                  </a:lnTo>
                  <a:lnTo>
                    <a:pt x="565" y="1168"/>
                  </a:lnTo>
                  <a:lnTo>
                    <a:pt x="553" y="1152"/>
                  </a:lnTo>
                  <a:lnTo>
                    <a:pt x="547" y="1144"/>
                  </a:lnTo>
                  <a:lnTo>
                    <a:pt x="542" y="1135"/>
                  </a:lnTo>
                  <a:lnTo>
                    <a:pt x="537" y="1125"/>
                  </a:lnTo>
                  <a:lnTo>
                    <a:pt x="533" y="1116"/>
                  </a:lnTo>
                  <a:lnTo>
                    <a:pt x="529" y="1106"/>
                  </a:lnTo>
                  <a:lnTo>
                    <a:pt x="524" y="1095"/>
                  </a:lnTo>
                  <a:lnTo>
                    <a:pt x="521" y="1085"/>
                  </a:lnTo>
                  <a:lnTo>
                    <a:pt x="518" y="1073"/>
                  </a:lnTo>
                  <a:lnTo>
                    <a:pt x="515" y="1062"/>
                  </a:lnTo>
                  <a:lnTo>
                    <a:pt x="513" y="1050"/>
                  </a:lnTo>
                  <a:lnTo>
                    <a:pt x="511" y="1038"/>
                  </a:lnTo>
                  <a:lnTo>
                    <a:pt x="509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3"/>
                  </a:lnTo>
                  <a:lnTo>
                    <a:pt x="507" y="919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9"/>
                  </a:lnTo>
                  <a:lnTo>
                    <a:pt x="510" y="870"/>
                  </a:lnTo>
                  <a:lnTo>
                    <a:pt x="510" y="861"/>
                  </a:lnTo>
                  <a:lnTo>
                    <a:pt x="512" y="841"/>
                  </a:lnTo>
                  <a:lnTo>
                    <a:pt x="515" y="815"/>
                  </a:lnTo>
                  <a:lnTo>
                    <a:pt x="518" y="785"/>
                  </a:lnTo>
                  <a:lnTo>
                    <a:pt x="538" y="631"/>
                  </a:lnTo>
                  <a:lnTo>
                    <a:pt x="330" y="631"/>
                  </a:lnTo>
                  <a:lnTo>
                    <a:pt x="258" y="1199"/>
                  </a:lnTo>
                  <a:lnTo>
                    <a:pt x="43" y="1199"/>
                  </a:lnTo>
                  <a:lnTo>
                    <a:pt x="135" y="465"/>
                  </a:lnTo>
                  <a:lnTo>
                    <a:pt x="145" y="378"/>
                  </a:lnTo>
                  <a:lnTo>
                    <a:pt x="148" y="352"/>
                  </a:lnTo>
                  <a:lnTo>
                    <a:pt x="149" y="328"/>
                  </a:lnTo>
                  <a:lnTo>
                    <a:pt x="151" y="307"/>
                  </a:lnTo>
                  <a:lnTo>
                    <a:pt x="151" y="297"/>
                  </a:lnTo>
                  <a:lnTo>
                    <a:pt x="151" y="288"/>
                  </a:lnTo>
                  <a:lnTo>
                    <a:pt x="151" y="272"/>
                  </a:lnTo>
                  <a:lnTo>
                    <a:pt x="150" y="257"/>
                  </a:lnTo>
                  <a:lnTo>
                    <a:pt x="148" y="243"/>
                  </a:lnTo>
                  <a:lnTo>
                    <a:pt x="148" y="231"/>
                  </a:lnTo>
                  <a:lnTo>
                    <a:pt x="146" y="226"/>
                  </a:lnTo>
                  <a:lnTo>
                    <a:pt x="145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1" y="205"/>
                  </a:lnTo>
                  <a:lnTo>
                    <a:pt x="139" y="201"/>
                  </a:lnTo>
                  <a:lnTo>
                    <a:pt x="137" y="198"/>
                  </a:lnTo>
                  <a:lnTo>
                    <a:pt x="136" y="194"/>
                  </a:lnTo>
                  <a:lnTo>
                    <a:pt x="134" y="191"/>
                  </a:lnTo>
                  <a:lnTo>
                    <a:pt x="131" y="188"/>
                  </a:lnTo>
                  <a:lnTo>
                    <a:pt x="129" y="186"/>
                  </a:lnTo>
                  <a:lnTo>
                    <a:pt x="126" y="182"/>
                  </a:lnTo>
                  <a:lnTo>
                    <a:pt x="124" y="181"/>
                  </a:lnTo>
                  <a:lnTo>
                    <a:pt x="120" y="179"/>
                  </a:lnTo>
                  <a:lnTo>
                    <a:pt x="115" y="175"/>
                  </a:lnTo>
                  <a:lnTo>
                    <a:pt x="107" y="172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1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59" y="172"/>
                  </a:lnTo>
                  <a:lnTo>
                    <a:pt x="54" y="174"/>
                  </a:lnTo>
                  <a:lnTo>
                    <a:pt x="48" y="175"/>
                  </a:lnTo>
                  <a:lnTo>
                    <a:pt x="43" y="177"/>
                  </a:lnTo>
                  <a:lnTo>
                    <a:pt x="37" y="181"/>
                  </a:lnTo>
                  <a:lnTo>
                    <a:pt x="27" y="186"/>
                  </a:lnTo>
                  <a:lnTo>
                    <a:pt x="17" y="193"/>
                  </a:lnTo>
                  <a:lnTo>
                    <a:pt x="0" y="203"/>
                  </a:lnTo>
                  <a:lnTo>
                    <a:pt x="15" y="96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1"/>
                  </a:lnTo>
                  <a:lnTo>
                    <a:pt x="162" y="7"/>
                  </a:lnTo>
                  <a:lnTo>
                    <a:pt x="174" y="4"/>
                  </a:lnTo>
                  <a:lnTo>
                    <a:pt x="185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3" y="6"/>
                  </a:lnTo>
                  <a:lnTo>
                    <a:pt x="260" y="11"/>
                  </a:lnTo>
                  <a:lnTo>
                    <a:pt x="276" y="18"/>
                  </a:lnTo>
                  <a:lnTo>
                    <a:pt x="291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2" y="63"/>
                  </a:lnTo>
                  <a:lnTo>
                    <a:pt x="327" y="71"/>
                  </a:lnTo>
                  <a:lnTo>
                    <a:pt x="336" y="91"/>
                  </a:lnTo>
                  <a:lnTo>
                    <a:pt x="344" y="110"/>
                  </a:lnTo>
                  <a:lnTo>
                    <a:pt x="348" y="120"/>
                  </a:lnTo>
                  <a:lnTo>
                    <a:pt x="351" y="130"/>
                  </a:lnTo>
                  <a:lnTo>
                    <a:pt x="354" y="141"/>
                  </a:lnTo>
                  <a:lnTo>
                    <a:pt x="357" y="153"/>
                  </a:lnTo>
                  <a:lnTo>
                    <a:pt x="359" y="163"/>
                  </a:lnTo>
                  <a:lnTo>
                    <a:pt x="361" y="175"/>
                  </a:lnTo>
                  <a:lnTo>
                    <a:pt x="363" y="188"/>
                  </a:lnTo>
                  <a:lnTo>
                    <a:pt x="364" y="200"/>
                  </a:lnTo>
                  <a:lnTo>
                    <a:pt x="365" y="212"/>
                  </a:lnTo>
                  <a:lnTo>
                    <a:pt x="366" y="224"/>
                  </a:lnTo>
                  <a:lnTo>
                    <a:pt x="367" y="236"/>
                  </a:lnTo>
                  <a:lnTo>
                    <a:pt x="367" y="250"/>
                  </a:lnTo>
                  <a:lnTo>
                    <a:pt x="367" y="271"/>
                  </a:lnTo>
                  <a:lnTo>
                    <a:pt x="366" y="293"/>
                  </a:lnTo>
                  <a:lnTo>
                    <a:pt x="365" y="314"/>
                  </a:lnTo>
                  <a:lnTo>
                    <a:pt x="364" y="335"/>
                  </a:lnTo>
                  <a:lnTo>
                    <a:pt x="363" y="357"/>
                  </a:lnTo>
                  <a:lnTo>
                    <a:pt x="361" y="382"/>
                  </a:lnTo>
                  <a:lnTo>
                    <a:pt x="357" y="408"/>
                  </a:lnTo>
                  <a:lnTo>
                    <a:pt x="354" y="434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11880" y="2313000"/>
              <a:ext cx="239760" cy="450720"/>
            </a:xfrm>
            <a:custGeom>
              <a:avLst/>
              <a:gdLst/>
              <a:ahLst/>
              <a:rect l="l" t="t" r="r" b="b"/>
              <a:pathLst>
                <a:path w="668" h="1252">
                  <a:moveTo>
                    <a:pt x="309" y="1251"/>
                  </a:moveTo>
                  <a:lnTo>
                    <a:pt x="272" y="1249"/>
                  </a:lnTo>
                  <a:lnTo>
                    <a:pt x="253" y="1246"/>
                  </a:lnTo>
                  <a:lnTo>
                    <a:pt x="236" y="1242"/>
                  </a:lnTo>
                  <a:lnTo>
                    <a:pt x="220" y="1237"/>
                  </a:lnTo>
                  <a:lnTo>
                    <a:pt x="203" y="1230"/>
                  </a:lnTo>
                  <a:lnTo>
                    <a:pt x="187" y="1222"/>
                  </a:lnTo>
                  <a:lnTo>
                    <a:pt x="172" y="1213"/>
                  </a:lnTo>
                  <a:lnTo>
                    <a:pt x="158" y="1203"/>
                  </a:lnTo>
                  <a:lnTo>
                    <a:pt x="144" y="1192"/>
                  </a:lnTo>
                  <a:lnTo>
                    <a:pt x="131" y="1180"/>
                  </a:lnTo>
                  <a:lnTo>
                    <a:pt x="119" y="1166"/>
                  </a:lnTo>
                  <a:lnTo>
                    <a:pt x="107" y="1152"/>
                  </a:lnTo>
                  <a:lnTo>
                    <a:pt x="96" y="1137"/>
                  </a:lnTo>
                  <a:lnTo>
                    <a:pt x="86" y="1121"/>
                  </a:lnTo>
                  <a:lnTo>
                    <a:pt x="76" y="1104"/>
                  </a:lnTo>
                  <a:lnTo>
                    <a:pt x="66" y="1087"/>
                  </a:lnTo>
                  <a:lnTo>
                    <a:pt x="58" y="1069"/>
                  </a:lnTo>
                  <a:lnTo>
                    <a:pt x="50" y="1050"/>
                  </a:lnTo>
                  <a:lnTo>
                    <a:pt x="43" y="1029"/>
                  </a:lnTo>
                  <a:lnTo>
                    <a:pt x="36" y="1009"/>
                  </a:lnTo>
                  <a:lnTo>
                    <a:pt x="30" y="988"/>
                  </a:lnTo>
                  <a:lnTo>
                    <a:pt x="24" y="965"/>
                  </a:lnTo>
                  <a:lnTo>
                    <a:pt x="19" y="943"/>
                  </a:lnTo>
                  <a:lnTo>
                    <a:pt x="15" y="920"/>
                  </a:lnTo>
                  <a:lnTo>
                    <a:pt x="10" y="896"/>
                  </a:lnTo>
                  <a:lnTo>
                    <a:pt x="7" y="872"/>
                  </a:lnTo>
                  <a:lnTo>
                    <a:pt x="5" y="847"/>
                  </a:lnTo>
                  <a:lnTo>
                    <a:pt x="3" y="821"/>
                  </a:lnTo>
                  <a:lnTo>
                    <a:pt x="1" y="795"/>
                  </a:lnTo>
                  <a:lnTo>
                    <a:pt x="0" y="768"/>
                  </a:lnTo>
                  <a:lnTo>
                    <a:pt x="0" y="740"/>
                  </a:lnTo>
                  <a:lnTo>
                    <a:pt x="1" y="705"/>
                  </a:lnTo>
                  <a:lnTo>
                    <a:pt x="2" y="671"/>
                  </a:lnTo>
                  <a:lnTo>
                    <a:pt x="5" y="636"/>
                  </a:lnTo>
                  <a:lnTo>
                    <a:pt x="7" y="601"/>
                  </a:lnTo>
                  <a:lnTo>
                    <a:pt x="11" y="567"/>
                  </a:lnTo>
                  <a:lnTo>
                    <a:pt x="16" y="534"/>
                  </a:lnTo>
                  <a:lnTo>
                    <a:pt x="22" y="499"/>
                  </a:lnTo>
                  <a:lnTo>
                    <a:pt x="29" y="466"/>
                  </a:lnTo>
                  <a:lnTo>
                    <a:pt x="37" y="433"/>
                  </a:lnTo>
                  <a:lnTo>
                    <a:pt x="45" y="402"/>
                  </a:lnTo>
                  <a:lnTo>
                    <a:pt x="54" y="371"/>
                  </a:lnTo>
                  <a:lnTo>
                    <a:pt x="65" y="340"/>
                  </a:lnTo>
                  <a:lnTo>
                    <a:pt x="76" y="310"/>
                  </a:lnTo>
                  <a:lnTo>
                    <a:pt x="87" y="283"/>
                  </a:lnTo>
                  <a:lnTo>
                    <a:pt x="100" y="255"/>
                  </a:lnTo>
                  <a:lnTo>
                    <a:pt x="114" y="229"/>
                  </a:lnTo>
                  <a:lnTo>
                    <a:pt x="127" y="205"/>
                  </a:lnTo>
                  <a:lnTo>
                    <a:pt x="143" y="180"/>
                  </a:lnTo>
                  <a:lnTo>
                    <a:pt x="158" y="158"/>
                  </a:lnTo>
                  <a:lnTo>
                    <a:pt x="174" y="137"/>
                  </a:lnTo>
                  <a:lnTo>
                    <a:pt x="192" y="116"/>
                  </a:lnTo>
                  <a:lnTo>
                    <a:pt x="209" y="97"/>
                  </a:lnTo>
                  <a:lnTo>
                    <a:pt x="229" y="80"/>
                  </a:lnTo>
                  <a:lnTo>
                    <a:pt x="248" y="64"/>
                  </a:lnTo>
                  <a:lnTo>
                    <a:pt x="269" y="49"/>
                  </a:lnTo>
                  <a:lnTo>
                    <a:pt x="291" y="37"/>
                  </a:lnTo>
                  <a:lnTo>
                    <a:pt x="313" y="25"/>
                  </a:lnTo>
                  <a:lnTo>
                    <a:pt x="335" y="16"/>
                  </a:lnTo>
                  <a:lnTo>
                    <a:pt x="358" y="9"/>
                  </a:lnTo>
                  <a:lnTo>
                    <a:pt x="381" y="4"/>
                  </a:lnTo>
                  <a:lnTo>
                    <a:pt x="405" y="2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4" y="4"/>
                  </a:lnTo>
                  <a:lnTo>
                    <a:pt x="508" y="9"/>
                  </a:lnTo>
                  <a:lnTo>
                    <a:pt x="532" y="18"/>
                  </a:lnTo>
                  <a:lnTo>
                    <a:pt x="553" y="26"/>
                  </a:lnTo>
                  <a:lnTo>
                    <a:pt x="572" y="38"/>
                  </a:lnTo>
                  <a:lnTo>
                    <a:pt x="590" y="52"/>
                  </a:lnTo>
                  <a:lnTo>
                    <a:pt x="606" y="68"/>
                  </a:lnTo>
                  <a:lnTo>
                    <a:pt x="613" y="77"/>
                  </a:lnTo>
                  <a:lnTo>
                    <a:pt x="620" y="85"/>
                  </a:lnTo>
                  <a:lnTo>
                    <a:pt x="626" y="96"/>
                  </a:lnTo>
                  <a:lnTo>
                    <a:pt x="633" y="106"/>
                  </a:lnTo>
                  <a:lnTo>
                    <a:pt x="638" y="116"/>
                  </a:lnTo>
                  <a:lnTo>
                    <a:pt x="643" y="129"/>
                  </a:lnTo>
                  <a:lnTo>
                    <a:pt x="647" y="141"/>
                  </a:lnTo>
                  <a:lnTo>
                    <a:pt x="651" y="153"/>
                  </a:lnTo>
                  <a:lnTo>
                    <a:pt x="655" y="167"/>
                  </a:lnTo>
                  <a:lnTo>
                    <a:pt x="658" y="180"/>
                  </a:lnTo>
                  <a:lnTo>
                    <a:pt x="661" y="194"/>
                  </a:lnTo>
                  <a:lnTo>
                    <a:pt x="663" y="208"/>
                  </a:lnTo>
                  <a:lnTo>
                    <a:pt x="664" y="224"/>
                  </a:lnTo>
                  <a:lnTo>
                    <a:pt x="666" y="239"/>
                  </a:lnTo>
                  <a:lnTo>
                    <a:pt x="667" y="255"/>
                  </a:lnTo>
                  <a:lnTo>
                    <a:pt x="667" y="272"/>
                  </a:lnTo>
                  <a:lnTo>
                    <a:pt x="667" y="288"/>
                  </a:lnTo>
                  <a:lnTo>
                    <a:pt x="666" y="303"/>
                  </a:lnTo>
                  <a:lnTo>
                    <a:pt x="665" y="319"/>
                  </a:lnTo>
                  <a:lnTo>
                    <a:pt x="663" y="335"/>
                  </a:lnTo>
                  <a:lnTo>
                    <a:pt x="661" y="350"/>
                  </a:lnTo>
                  <a:lnTo>
                    <a:pt x="659" y="364"/>
                  </a:lnTo>
                  <a:lnTo>
                    <a:pt x="656" y="380"/>
                  </a:lnTo>
                  <a:lnTo>
                    <a:pt x="653" y="394"/>
                  </a:lnTo>
                  <a:lnTo>
                    <a:pt x="650" y="407"/>
                  </a:lnTo>
                  <a:lnTo>
                    <a:pt x="646" y="421"/>
                  </a:lnTo>
                  <a:lnTo>
                    <a:pt x="642" y="433"/>
                  </a:lnTo>
                  <a:lnTo>
                    <a:pt x="637" y="447"/>
                  </a:lnTo>
                  <a:lnTo>
                    <a:pt x="626" y="472"/>
                  </a:lnTo>
                  <a:lnTo>
                    <a:pt x="614" y="496"/>
                  </a:lnTo>
                  <a:lnTo>
                    <a:pt x="601" y="518"/>
                  </a:lnTo>
                  <a:lnTo>
                    <a:pt x="585" y="539"/>
                  </a:lnTo>
                  <a:lnTo>
                    <a:pt x="570" y="560"/>
                  </a:lnTo>
                  <a:lnTo>
                    <a:pt x="552" y="577"/>
                  </a:lnTo>
                  <a:lnTo>
                    <a:pt x="534" y="595"/>
                  </a:lnTo>
                  <a:lnTo>
                    <a:pt x="514" y="610"/>
                  </a:lnTo>
                  <a:lnTo>
                    <a:pt x="494" y="624"/>
                  </a:lnTo>
                  <a:lnTo>
                    <a:pt x="472" y="636"/>
                  </a:lnTo>
                  <a:lnTo>
                    <a:pt x="406" y="669"/>
                  </a:lnTo>
                  <a:lnTo>
                    <a:pt x="376" y="683"/>
                  </a:lnTo>
                  <a:lnTo>
                    <a:pt x="350" y="692"/>
                  </a:lnTo>
                  <a:lnTo>
                    <a:pt x="324" y="700"/>
                  </a:lnTo>
                  <a:lnTo>
                    <a:pt x="294" y="707"/>
                  </a:lnTo>
                  <a:lnTo>
                    <a:pt x="227" y="723"/>
                  </a:lnTo>
                  <a:lnTo>
                    <a:pt x="228" y="750"/>
                  </a:lnTo>
                  <a:lnTo>
                    <a:pt x="230" y="778"/>
                  </a:lnTo>
                  <a:lnTo>
                    <a:pt x="232" y="809"/>
                  </a:lnTo>
                  <a:lnTo>
                    <a:pt x="235" y="841"/>
                  </a:lnTo>
                  <a:lnTo>
                    <a:pt x="236" y="856"/>
                  </a:lnTo>
                  <a:lnTo>
                    <a:pt x="238" y="872"/>
                  </a:lnTo>
                  <a:lnTo>
                    <a:pt x="241" y="887"/>
                  </a:lnTo>
                  <a:lnTo>
                    <a:pt x="243" y="901"/>
                  </a:lnTo>
                  <a:lnTo>
                    <a:pt x="246" y="915"/>
                  </a:lnTo>
                  <a:lnTo>
                    <a:pt x="248" y="929"/>
                  </a:lnTo>
                  <a:lnTo>
                    <a:pt x="251" y="941"/>
                  </a:lnTo>
                  <a:lnTo>
                    <a:pt x="254" y="953"/>
                  </a:lnTo>
                  <a:lnTo>
                    <a:pt x="258" y="965"/>
                  </a:lnTo>
                  <a:lnTo>
                    <a:pt x="263" y="977"/>
                  </a:lnTo>
                  <a:lnTo>
                    <a:pt x="268" y="990"/>
                  </a:lnTo>
                  <a:lnTo>
                    <a:pt x="273" y="1002"/>
                  </a:lnTo>
                  <a:lnTo>
                    <a:pt x="279" y="1010"/>
                  </a:lnTo>
                  <a:lnTo>
                    <a:pt x="285" y="1021"/>
                  </a:lnTo>
                  <a:lnTo>
                    <a:pt x="292" y="1029"/>
                  </a:lnTo>
                  <a:lnTo>
                    <a:pt x="298" y="1038"/>
                  </a:lnTo>
                  <a:lnTo>
                    <a:pt x="306" y="1045"/>
                  </a:lnTo>
                  <a:lnTo>
                    <a:pt x="314" y="1052"/>
                  </a:lnTo>
                  <a:lnTo>
                    <a:pt x="322" y="1057"/>
                  </a:lnTo>
                  <a:lnTo>
                    <a:pt x="331" y="1062"/>
                  </a:lnTo>
                  <a:lnTo>
                    <a:pt x="340" y="1064"/>
                  </a:lnTo>
                  <a:lnTo>
                    <a:pt x="350" y="1067"/>
                  </a:lnTo>
                  <a:lnTo>
                    <a:pt x="360" y="1069"/>
                  </a:lnTo>
                  <a:lnTo>
                    <a:pt x="371" y="1069"/>
                  </a:lnTo>
                  <a:lnTo>
                    <a:pt x="390" y="1069"/>
                  </a:lnTo>
                  <a:lnTo>
                    <a:pt x="407" y="1066"/>
                  </a:lnTo>
                  <a:lnTo>
                    <a:pt x="425" y="1062"/>
                  </a:lnTo>
                  <a:lnTo>
                    <a:pt x="441" y="1055"/>
                  </a:lnTo>
                  <a:lnTo>
                    <a:pt x="457" y="1048"/>
                  </a:lnTo>
                  <a:lnTo>
                    <a:pt x="473" y="1040"/>
                  </a:lnTo>
                  <a:lnTo>
                    <a:pt x="487" y="1028"/>
                  </a:lnTo>
                  <a:lnTo>
                    <a:pt x="501" y="1016"/>
                  </a:lnTo>
                  <a:lnTo>
                    <a:pt x="515" y="1002"/>
                  </a:lnTo>
                  <a:lnTo>
                    <a:pt x="528" y="984"/>
                  </a:lnTo>
                  <a:lnTo>
                    <a:pt x="540" y="965"/>
                  </a:lnTo>
                  <a:lnTo>
                    <a:pt x="554" y="944"/>
                  </a:lnTo>
                  <a:lnTo>
                    <a:pt x="566" y="922"/>
                  </a:lnTo>
                  <a:lnTo>
                    <a:pt x="579" y="898"/>
                  </a:lnTo>
                  <a:lnTo>
                    <a:pt x="591" y="872"/>
                  </a:lnTo>
                  <a:lnTo>
                    <a:pt x="603" y="842"/>
                  </a:lnTo>
                  <a:lnTo>
                    <a:pt x="650" y="915"/>
                  </a:lnTo>
                  <a:lnTo>
                    <a:pt x="635" y="953"/>
                  </a:lnTo>
                  <a:lnTo>
                    <a:pt x="619" y="988"/>
                  </a:lnTo>
                  <a:lnTo>
                    <a:pt x="602" y="1021"/>
                  </a:lnTo>
                  <a:lnTo>
                    <a:pt x="584" y="1054"/>
                  </a:lnTo>
                  <a:lnTo>
                    <a:pt x="565" y="1083"/>
                  </a:lnTo>
                  <a:lnTo>
                    <a:pt x="545" y="1111"/>
                  </a:lnTo>
                  <a:lnTo>
                    <a:pt x="523" y="1135"/>
                  </a:lnTo>
                  <a:lnTo>
                    <a:pt x="501" y="1159"/>
                  </a:lnTo>
                  <a:lnTo>
                    <a:pt x="478" y="1180"/>
                  </a:lnTo>
                  <a:lnTo>
                    <a:pt x="455" y="1199"/>
                  </a:lnTo>
                  <a:lnTo>
                    <a:pt x="431" y="1215"/>
                  </a:lnTo>
                  <a:lnTo>
                    <a:pt x="407" y="1229"/>
                  </a:lnTo>
                  <a:lnTo>
                    <a:pt x="384" y="1237"/>
                  </a:lnTo>
                  <a:lnTo>
                    <a:pt x="359" y="1246"/>
                  </a:lnTo>
                  <a:lnTo>
                    <a:pt x="334" y="1249"/>
                  </a:lnTo>
                  <a:close/>
                  <a:moveTo>
                    <a:pt x="456" y="305"/>
                  </a:moveTo>
                  <a:lnTo>
                    <a:pt x="456" y="281"/>
                  </a:lnTo>
                  <a:lnTo>
                    <a:pt x="455" y="257"/>
                  </a:lnTo>
                  <a:lnTo>
                    <a:pt x="453" y="236"/>
                  </a:lnTo>
                  <a:lnTo>
                    <a:pt x="451" y="215"/>
                  </a:lnTo>
                  <a:lnTo>
                    <a:pt x="448" y="196"/>
                  </a:lnTo>
                  <a:lnTo>
                    <a:pt x="445" y="179"/>
                  </a:lnTo>
                  <a:lnTo>
                    <a:pt x="442" y="172"/>
                  </a:lnTo>
                  <a:lnTo>
                    <a:pt x="441" y="163"/>
                  </a:lnTo>
                  <a:lnTo>
                    <a:pt x="438" y="156"/>
                  </a:lnTo>
                  <a:lnTo>
                    <a:pt x="435" y="149"/>
                  </a:lnTo>
                  <a:lnTo>
                    <a:pt x="433" y="142"/>
                  </a:lnTo>
                  <a:lnTo>
                    <a:pt x="430" y="137"/>
                  </a:lnTo>
                  <a:lnTo>
                    <a:pt x="427" y="130"/>
                  </a:lnTo>
                  <a:lnTo>
                    <a:pt x="424" y="125"/>
                  </a:lnTo>
                  <a:lnTo>
                    <a:pt x="421" y="122"/>
                  </a:lnTo>
                  <a:lnTo>
                    <a:pt x="418" y="116"/>
                  </a:lnTo>
                  <a:lnTo>
                    <a:pt x="415" y="113"/>
                  </a:lnTo>
                  <a:lnTo>
                    <a:pt x="412" y="109"/>
                  </a:lnTo>
                  <a:lnTo>
                    <a:pt x="408" y="106"/>
                  </a:lnTo>
                  <a:lnTo>
                    <a:pt x="405" y="103"/>
                  </a:lnTo>
                  <a:lnTo>
                    <a:pt x="401" y="101"/>
                  </a:lnTo>
                  <a:lnTo>
                    <a:pt x="397" y="99"/>
                  </a:lnTo>
                  <a:lnTo>
                    <a:pt x="393" y="97"/>
                  </a:lnTo>
                  <a:lnTo>
                    <a:pt x="389" y="96"/>
                  </a:lnTo>
                  <a:lnTo>
                    <a:pt x="380" y="96"/>
                  </a:lnTo>
                  <a:lnTo>
                    <a:pt x="374" y="96"/>
                  </a:lnTo>
                  <a:lnTo>
                    <a:pt x="368" y="97"/>
                  </a:lnTo>
                  <a:lnTo>
                    <a:pt x="362" y="101"/>
                  </a:lnTo>
                  <a:lnTo>
                    <a:pt x="356" y="104"/>
                  </a:lnTo>
                  <a:lnTo>
                    <a:pt x="349" y="109"/>
                  </a:lnTo>
                  <a:lnTo>
                    <a:pt x="343" y="116"/>
                  </a:lnTo>
                  <a:lnTo>
                    <a:pt x="337" y="125"/>
                  </a:lnTo>
                  <a:lnTo>
                    <a:pt x="331" y="134"/>
                  </a:lnTo>
                  <a:lnTo>
                    <a:pt x="325" y="142"/>
                  </a:lnTo>
                  <a:lnTo>
                    <a:pt x="319" y="154"/>
                  </a:lnTo>
                  <a:lnTo>
                    <a:pt x="308" y="180"/>
                  </a:lnTo>
                  <a:lnTo>
                    <a:pt x="297" y="210"/>
                  </a:lnTo>
                  <a:lnTo>
                    <a:pt x="286" y="245"/>
                  </a:lnTo>
                  <a:lnTo>
                    <a:pt x="275" y="283"/>
                  </a:lnTo>
                  <a:lnTo>
                    <a:pt x="265" y="324"/>
                  </a:lnTo>
                  <a:lnTo>
                    <a:pt x="257" y="369"/>
                  </a:lnTo>
                  <a:lnTo>
                    <a:pt x="249" y="414"/>
                  </a:lnTo>
                  <a:lnTo>
                    <a:pt x="242" y="463"/>
                  </a:lnTo>
                  <a:lnTo>
                    <a:pt x="237" y="515"/>
                  </a:lnTo>
                  <a:lnTo>
                    <a:pt x="232" y="569"/>
                  </a:lnTo>
                  <a:lnTo>
                    <a:pt x="229" y="624"/>
                  </a:lnTo>
                  <a:lnTo>
                    <a:pt x="305" y="603"/>
                  </a:lnTo>
                  <a:lnTo>
                    <a:pt x="323" y="596"/>
                  </a:lnTo>
                  <a:lnTo>
                    <a:pt x="339" y="589"/>
                  </a:lnTo>
                  <a:lnTo>
                    <a:pt x="352" y="581"/>
                  </a:lnTo>
                  <a:lnTo>
                    <a:pt x="358" y="577"/>
                  </a:lnTo>
                  <a:lnTo>
                    <a:pt x="364" y="572"/>
                  </a:lnTo>
                  <a:lnTo>
                    <a:pt x="376" y="562"/>
                  </a:lnTo>
                  <a:lnTo>
                    <a:pt x="387" y="551"/>
                  </a:lnTo>
                  <a:lnTo>
                    <a:pt x="396" y="539"/>
                  </a:lnTo>
                  <a:lnTo>
                    <a:pt x="406" y="527"/>
                  </a:lnTo>
                  <a:lnTo>
                    <a:pt x="414" y="513"/>
                  </a:lnTo>
                  <a:lnTo>
                    <a:pt x="422" y="499"/>
                  </a:lnTo>
                  <a:lnTo>
                    <a:pt x="429" y="485"/>
                  </a:lnTo>
                  <a:lnTo>
                    <a:pt x="435" y="470"/>
                  </a:lnTo>
                  <a:lnTo>
                    <a:pt x="440" y="454"/>
                  </a:lnTo>
                  <a:lnTo>
                    <a:pt x="444" y="437"/>
                  </a:lnTo>
                  <a:lnTo>
                    <a:pt x="447" y="418"/>
                  </a:lnTo>
                  <a:lnTo>
                    <a:pt x="451" y="399"/>
                  </a:lnTo>
                  <a:lnTo>
                    <a:pt x="453" y="376"/>
                  </a:lnTo>
                  <a:lnTo>
                    <a:pt x="454" y="354"/>
                  </a:lnTo>
                  <a:lnTo>
                    <a:pt x="456" y="33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57840" y="2313000"/>
              <a:ext cx="236520" cy="450720"/>
            </a:xfrm>
            <a:custGeom>
              <a:avLst/>
              <a:gdLst/>
              <a:ahLst/>
              <a:rect l="l" t="t" r="r" b="b"/>
              <a:pathLst>
                <a:path w="658" h="1252">
                  <a:moveTo>
                    <a:pt x="316" y="1251"/>
                  </a:moveTo>
                  <a:lnTo>
                    <a:pt x="280" y="1249"/>
                  </a:lnTo>
                  <a:lnTo>
                    <a:pt x="245" y="1242"/>
                  </a:lnTo>
                  <a:lnTo>
                    <a:pt x="213" y="1232"/>
                  </a:lnTo>
                  <a:lnTo>
                    <a:pt x="183" y="1216"/>
                  </a:lnTo>
                  <a:lnTo>
                    <a:pt x="155" y="1197"/>
                  </a:lnTo>
                  <a:lnTo>
                    <a:pt x="129" y="1175"/>
                  </a:lnTo>
                  <a:lnTo>
                    <a:pt x="117" y="1161"/>
                  </a:lnTo>
                  <a:lnTo>
                    <a:pt x="106" y="1147"/>
                  </a:lnTo>
                  <a:lnTo>
                    <a:pt x="95" y="1132"/>
                  </a:lnTo>
                  <a:lnTo>
                    <a:pt x="84" y="1114"/>
                  </a:lnTo>
                  <a:lnTo>
                    <a:pt x="73" y="1097"/>
                  </a:lnTo>
                  <a:lnTo>
                    <a:pt x="64" y="1078"/>
                  </a:lnTo>
                  <a:lnTo>
                    <a:pt x="55" y="1059"/>
                  </a:lnTo>
                  <a:lnTo>
                    <a:pt x="47" y="1040"/>
                  </a:lnTo>
                  <a:lnTo>
                    <a:pt x="39" y="1017"/>
                  </a:lnTo>
                  <a:lnTo>
                    <a:pt x="33" y="996"/>
                  </a:lnTo>
                  <a:lnTo>
                    <a:pt x="26" y="974"/>
                  </a:lnTo>
                  <a:lnTo>
                    <a:pt x="21" y="951"/>
                  </a:lnTo>
                  <a:lnTo>
                    <a:pt x="16" y="927"/>
                  </a:lnTo>
                  <a:lnTo>
                    <a:pt x="12" y="901"/>
                  </a:lnTo>
                  <a:lnTo>
                    <a:pt x="8" y="877"/>
                  </a:lnTo>
                  <a:lnTo>
                    <a:pt x="5" y="849"/>
                  </a:lnTo>
                  <a:lnTo>
                    <a:pt x="2" y="823"/>
                  </a:lnTo>
                  <a:lnTo>
                    <a:pt x="1" y="795"/>
                  </a:lnTo>
                  <a:lnTo>
                    <a:pt x="0" y="737"/>
                  </a:lnTo>
                  <a:lnTo>
                    <a:pt x="0" y="700"/>
                  </a:lnTo>
                  <a:lnTo>
                    <a:pt x="1" y="666"/>
                  </a:lnTo>
                  <a:lnTo>
                    <a:pt x="3" y="631"/>
                  </a:lnTo>
                  <a:lnTo>
                    <a:pt x="6" y="596"/>
                  </a:lnTo>
                  <a:lnTo>
                    <a:pt x="10" y="562"/>
                  </a:lnTo>
                  <a:lnTo>
                    <a:pt x="14" y="529"/>
                  </a:lnTo>
                  <a:lnTo>
                    <a:pt x="20" y="496"/>
                  </a:lnTo>
                  <a:lnTo>
                    <a:pt x="26" y="463"/>
                  </a:lnTo>
                  <a:lnTo>
                    <a:pt x="33" y="430"/>
                  </a:lnTo>
                  <a:lnTo>
                    <a:pt x="41" y="399"/>
                  </a:lnTo>
                  <a:lnTo>
                    <a:pt x="51" y="369"/>
                  </a:lnTo>
                  <a:lnTo>
                    <a:pt x="60" y="340"/>
                  </a:lnTo>
                  <a:lnTo>
                    <a:pt x="71" y="310"/>
                  </a:lnTo>
                  <a:lnTo>
                    <a:pt x="83" y="283"/>
                  </a:lnTo>
                  <a:lnTo>
                    <a:pt x="95" y="255"/>
                  </a:lnTo>
                  <a:lnTo>
                    <a:pt x="108" y="227"/>
                  </a:lnTo>
                  <a:lnTo>
                    <a:pt x="122" y="203"/>
                  </a:lnTo>
                  <a:lnTo>
                    <a:pt x="136" y="179"/>
                  </a:lnTo>
                  <a:lnTo>
                    <a:pt x="151" y="156"/>
                  </a:lnTo>
                  <a:lnTo>
                    <a:pt x="167" y="135"/>
                  </a:lnTo>
                  <a:lnTo>
                    <a:pt x="184" y="116"/>
                  </a:lnTo>
                  <a:lnTo>
                    <a:pt x="202" y="97"/>
                  </a:lnTo>
                  <a:lnTo>
                    <a:pt x="221" y="80"/>
                  </a:lnTo>
                  <a:lnTo>
                    <a:pt x="240" y="64"/>
                  </a:lnTo>
                  <a:lnTo>
                    <a:pt x="260" y="49"/>
                  </a:lnTo>
                  <a:lnTo>
                    <a:pt x="282" y="37"/>
                  </a:lnTo>
                  <a:lnTo>
                    <a:pt x="303" y="25"/>
                  </a:lnTo>
                  <a:lnTo>
                    <a:pt x="326" y="16"/>
                  </a:lnTo>
                  <a:lnTo>
                    <a:pt x="349" y="9"/>
                  </a:lnTo>
                  <a:lnTo>
                    <a:pt x="371" y="4"/>
                  </a:lnTo>
                  <a:lnTo>
                    <a:pt x="396" y="2"/>
                  </a:lnTo>
                  <a:lnTo>
                    <a:pt x="420" y="0"/>
                  </a:lnTo>
                  <a:lnTo>
                    <a:pt x="448" y="2"/>
                  </a:lnTo>
                  <a:lnTo>
                    <a:pt x="475" y="6"/>
                  </a:lnTo>
                  <a:lnTo>
                    <a:pt x="498" y="11"/>
                  </a:lnTo>
                  <a:lnTo>
                    <a:pt x="521" y="19"/>
                  </a:lnTo>
                  <a:lnTo>
                    <a:pt x="542" y="31"/>
                  </a:lnTo>
                  <a:lnTo>
                    <a:pt x="562" y="44"/>
                  </a:lnTo>
                  <a:lnTo>
                    <a:pt x="580" y="59"/>
                  </a:lnTo>
                  <a:lnTo>
                    <a:pt x="588" y="70"/>
                  </a:lnTo>
                  <a:lnTo>
                    <a:pt x="596" y="78"/>
                  </a:lnTo>
                  <a:lnTo>
                    <a:pt x="603" y="89"/>
                  </a:lnTo>
                  <a:lnTo>
                    <a:pt x="610" y="99"/>
                  </a:lnTo>
                  <a:lnTo>
                    <a:pt x="616" y="109"/>
                  </a:lnTo>
                  <a:lnTo>
                    <a:pt x="623" y="122"/>
                  </a:lnTo>
                  <a:lnTo>
                    <a:pt x="628" y="132"/>
                  </a:lnTo>
                  <a:lnTo>
                    <a:pt x="633" y="144"/>
                  </a:lnTo>
                  <a:lnTo>
                    <a:pt x="637" y="158"/>
                  </a:lnTo>
                  <a:lnTo>
                    <a:pt x="641" y="170"/>
                  </a:lnTo>
                  <a:lnTo>
                    <a:pt x="645" y="184"/>
                  </a:lnTo>
                  <a:lnTo>
                    <a:pt x="648" y="198"/>
                  </a:lnTo>
                  <a:lnTo>
                    <a:pt x="651" y="212"/>
                  </a:lnTo>
                  <a:lnTo>
                    <a:pt x="653" y="227"/>
                  </a:lnTo>
                  <a:lnTo>
                    <a:pt x="654" y="243"/>
                  </a:lnTo>
                  <a:lnTo>
                    <a:pt x="656" y="258"/>
                  </a:lnTo>
                  <a:lnTo>
                    <a:pt x="657" y="274"/>
                  </a:lnTo>
                  <a:lnTo>
                    <a:pt x="657" y="291"/>
                  </a:lnTo>
                  <a:lnTo>
                    <a:pt x="657" y="300"/>
                  </a:lnTo>
                  <a:lnTo>
                    <a:pt x="656" y="310"/>
                  </a:lnTo>
                  <a:lnTo>
                    <a:pt x="656" y="321"/>
                  </a:lnTo>
                  <a:lnTo>
                    <a:pt x="655" y="329"/>
                  </a:lnTo>
                  <a:lnTo>
                    <a:pt x="652" y="350"/>
                  </a:lnTo>
                  <a:lnTo>
                    <a:pt x="650" y="373"/>
                  </a:lnTo>
                  <a:lnTo>
                    <a:pt x="648" y="385"/>
                  </a:lnTo>
                  <a:lnTo>
                    <a:pt x="647" y="395"/>
                  </a:lnTo>
                  <a:lnTo>
                    <a:pt x="644" y="406"/>
                  </a:lnTo>
                  <a:lnTo>
                    <a:pt x="642" y="416"/>
                  </a:lnTo>
                  <a:lnTo>
                    <a:pt x="640" y="425"/>
                  </a:lnTo>
                  <a:lnTo>
                    <a:pt x="637" y="433"/>
                  </a:lnTo>
                  <a:lnTo>
                    <a:pt x="634" y="442"/>
                  </a:lnTo>
                  <a:lnTo>
                    <a:pt x="630" y="451"/>
                  </a:lnTo>
                  <a:lnTo>
                    <a:pt x="626" y="459"/>
                  </a:lnTo>
                  <a:lnTo>
                    <a:pt x="623" y="468"/>
                  </a:lnTo>
                  <a:lnTo>
                    <a:pt x="619" y="475"/>
                  </a:lnTo>
                  <a:lnTo>
                    <a:pt x="614" y="484"/>
                  </a:lnTo>
                  <a:lnTo>
                    <a:pt x="609" y="491"/>
                  </a:lnTo>
                  <a:lnTo>
                    <a:pt x="605" y="496"/>
                  </a:lnTo>
                  <a:lnTo>
                    <a:pt x="600" y="503"/>
                  </a:lnTo>
                  <a:lnTo>
                    <a:pt x="595" y="508"/>
                  </a:lnTo>
                  <a:lnTo>
                    <a:pt x="590" y="513"/>
                  </a:lnTo>
                  <a:lnTo>
                    <a:pt x="584" y="517"/>
                  </a:lnTo>
                  <a:lnTo>
                    <a:pt x="578" y="520"/>
                  </a:lnTo>
                  <a:lnTo>
                    <a:pt x="571" y="523"/>
                  </a:lnTo>
                  <a:lnTo>
                    <a:pt x="564" y="525"/>
                  </a:lnTo>
                  <a:lnTo>
                    <a:pt x="556" y="527"/>
                  </a:lnTo>
                  <a:lnTo>
                    <a:pt x="547" y="529"/>
                  </a:lnTo>
                  <a:lnTo>
                    <a:pt x="538" y="529"/>
                  </a:lnTo>
                  <a:lnTo>
                    <a:pt x="525" y="529"/>
                  </a:lnTo>
                  <a:lnTo>
                    <a:pt x="514" y="525"/>
                  </a:lnTo>
                  <a:lnTo>
                    <a:pt x="503" y="522"/>
                  </a:lnTo>
                  <a:lnTo>
                    <a:pt x="493" y="517"/>
                  </a:lnTo>
                  <a:lnTo>
                    <a:pt x="483" y="510"/>
                  </a:lnTo>
                  <a:lnTo>
                    <a:pt x="475" y="503"/>
                  </a:lnTo>
                  <a:lnTo>
                    <a:pt x="466" y="492"/>
                  </a:lnTo>
                  <a:lnTo>
                    <a:pt x="462" y="487"/>
                  </a:lnTo>
                  <a:lnTo>
                    <a:pt x="459" y="482"/>
                  </a:lnTo>
                  <a:lnTo>
                    <a:pt x="452" y="472"/>
                  </a:lnTo>
                  <a:lnTo>
                    <a:pt x="447" y="459"/>
                  </a:lnTo>
                  <a:lnTo>
                    <a:pt x="442" y="447"/>
                  </a:lnTo>
                  <a:lnTo>
                    <a:pt x="439" y="442"/>
                  </a:lnTo>
                  <a:lnTo>
                    <a:pt x="437" y="435"/>
                  </a:lnTo>
                  <a:lnTo>
                    <a:pt x="436" y="430"/>
                  </a:lnTo>
                  <a:lnTo>
                    <a:pt x="435" y="423"/>
                  </a:lnTo>
                  <a:lnTo>
                    <a:pt x="433" y="418"/>
                  </a:lnTo>
                  <a:lnTo>
                    <a:pt x="432" y="411"/>
                  </a:lnTo>
                  <a:lnTo>
                    <a:pt x="431" y="406"/>
                  </a:lnTo>
                  <a:lnTo>
                    <a:pt x="431" y="399"/>
                  </a:lnTo>
                  <a:lnTo>
                    <a:pt x="431" y="394"/>
                  </a:lnTo>
                  <a:lnTo>
                    <a:pt x="431" y="387"/>
                  </a:lnTo>
                  <a:lnTo>
                    <a:pt x="431" y="371"/>
                  </a:lnTo>
                  <a:lnTo>
                    <a:pt x="431" y="357"/>
                  </a:lnTo>
                  <a:lnTo>
                    <a:pt x="432" y="342"/>
                  </a:lnTo>
                  <a:lnTo>
                    <a:pt x="434" y="328"/>
                  </a:lnTo>
                  <a:lnTo>
                    <a:pt x="436" y="312"/>
                  </a:lnTo>
                  <a:lnTo>
                    <a:pt x="438" y="298"/>
                  </a:lnTo>
                  <a:lnTo>
                    <a:pt x="441" y="283"/>
                  </a:lnTo>
                  <a:lnTo>
                    <a:pt x="444" y="269"/>
                  </a:lnTo>
                  <a:lnTo>
                    <a:pt x="452" y="239"/>
                  </a:lnTo>
                  <a:lnTo>
                    <a:pt x="459" y="208"/>
                  </a:lnTo>
                  <a:lnTo>
                    <a:pt x="469" y="177"/>
                  </a:lnTo>
                  <a:lnTo>
                    <a:pt x="479" y="146"/>
                  </a:lnTo>
                  <a:lnTo>
                    <a:pt x="477" y="142"/>
                  </a:lnTo>
                  <a:lnTo>
                    <a:pt x="475" y="139"/>
                  </a:lnTo>
                  <a:lnTo>
                    <a:pt x="473" y="135"/>
                  </a:lnTo>
                  <a:lnTo>
                    <a:pt x="470" y="130"/>
                  </a:lnTo>
                  <a:lnTo>
                    <a:pt x="467" y="127"/>
                  </a:lnTo>
                  <a:lnTo>
                    <a:pt x="464" y="122"/>
                  </a:lnTo>
                  <a:lnTo>
                    <a:pt x="459" y="118"/>
                  </a:lnTo>
                  <a:lnTo>
                    <a:pt x="455" y="113"/>
                  </a:lnTo>
                  <a:lnTo>
                    <a:pt x="451" y="109"/>
                  </a:lnTo>
                  <a:lnTo>
                    <a:pt x="446" y="104"/>
                  </a:lnTo>
                  <a:lnTo>
                    <a:pt x="440" y="101"/>
                  </a:lnTo>
                  <a:lnTo>
                    <a:pt x="435" y="99"/>
                  </a:lnTo>
                  <a:lnTo>
                    <a:pt x="428" y="97"/>
                  </a:lnTo>
                  <a:lnTo>
                    <a:pt x="422" y="96"/>
                  </a:lnTo>
                  <a:lnTo>
                    <a:pt x="415" y="94"/>
                  </a:lnTo>
                  <a:lnTo>
                    <a:pt x="409" y="94"/>
                  </a:lnTo>
                  <a:lnTo>
                    <a:pt x="399" y="94"/>
                  </a:lnTo>
                  <a:lnTo>
                    <a:pt x="390" y="97"/>
                  </a:lnTo>
                  <a:lnTo>
                    <a:pt x="381" y="99"/>
                  </a:lnTo>
                  <a:lnTo>
                    <a:pt x="372" y="104"/>
                  </a:lnTo>
                  <a:lnTo>
                    <a:pt x="364" y="111"/>
                  </a:lnTo>
                  <a:lnTo>
                    <a:pt x="355" y="118"/>
                  </a:lnTo>
                  <a:lnTo>
                    <a:pt x="347" y="127"/>
                  </a:lnTo>
                  <a:lnTo>
                    <a:pt x="339" y="137"/>
                  </a:lnTo>
                  <a:lnTo>
                    <a:pt x="331" y="148"/>
                  </a:lnTo>
                  <a:lnTo>
                    <a:pt x="323" y="160"/>
                  </a:lnTo>
                  <a:lnTo>
                    <a:pt x="316" y="174"/>
                  </a:lnTo>
                  <a:lnTo>
                    <a:pt x="309" y="189"/>
                  </a:lnTo>
                  <a:lnTo>
                    <a:pt x="302" y="206"/>
                  </a:lnTo>
                  <a:lnTo>
                    <a:pt x="295" y="224"/>
                  </a:lnTo>
                  <a:lnTo>
                    <a:pt x="282" y="264"/>
                  </a:lnTo>
                  <a:lnTo>
                    <a:pt x="271" y="307"/>
                  </a:lnTo>
                  <a:lnTo>
                    <a:pt x="260" y="354"/>
                  </a:lnTo>
                  <a:lnTo>
                    <a:pt x="252" y="402"/>
                  </a:lnTo>
                  <a:lnTo>
                    <a:pt x="245" y="452"/>
                  </a:lnTo>
                  <a:lnTo>
                    <a:pt x="239" y="506"/>
                  </a:lnTo>
                  <a:lnTo>
                    <a:pt x="236" y="562"/>
                  </a:lnTo>
                  <a:lnTo>
                    <a:pt x="233" y="621"/>
                  </a:lnTo>
                  <a:lnTo>
                    <a:pt x="233" y="681"/>
                  </a:lnTo>
                  <a:lnTo>
                    <a:pt x="233" y="728"/>
                  </a:lnTo>
                  <a:lnTo>
                    <a:pt x="235" y="771"/>
                  </a:lnTo>
                  <a:lnTo>
                    <a:pt x="238" y="811"/>
                  </a:lnTo>
                  <a:lnTo>
                    <a:pt x="242" y="849"/>
                  </a:lnTo>
                  <a:lnTo>
                    <a:pt x="248" y="882"/>
                  </a:lnTo>
                  <a:lnTo>
                    <a:pt x="254" y="915"/>
                  </a:lnTo>
                  <a:lnTo>
                    <a:pt x="258" y="929"/>
                  </a:lnTo>
                  <a:lnTo>
                    <a:pt x="261" y="943"/>
                  </a:lnTo>
                  <a:lnTo>
                    <a:pt x="266" y="957"/>
                  </a:lnTo>
                  <a:lnTo>
                    <a:pt x="271" y="969"/>
                  </a:lnTo>
                  <a:lnTo>
                    <a:pt x="276" y="981"/>
                  </a:lnTo>
                  <a:lnTo>
                    <a:pt x="281" y="991"/>
                  </a:lnTo>
                  <a:lnTo>
                    <a:pt x="286" y="1002"/>
                  </a:lnTo>
                  <a:lnTo>
                    <a:pt x="292" y="1012"/>
                  </a:lnTo>
                  <a:lnTo>
                    <a:pt x="298" y="1021"/>
                  </a:lnTo>
                  <a:lnTo>
                    <a:pt x="304" y="1029"/>
                  </a:lnTo>
                  <a:lnTo>
                    <a:pt x="310" y="1036"/>
                  </a:lnTo>
                  <a:lnTo>
                    <a:pt x="316" y="1043"/>
                  </a:lnTo>
                  <a:lnTo>
                    <a:pt x="323" y="1048"/>
                  </a:lnTo>
                  <a:lnTo>
                    <a:pt x="331" y="1054"/>
                  </a:lnTo>
                  <a:lnTo>
                    <a:pt x="338" y="1057"/>
                  </a:lnTo>
                  <a:lnTo>
                    <a:pt x="346" y="1061"/>
                  </a:lnTo>
                  <a:lnTo>
                    <a:pt x="354" y="1064"/>
                  </a:lnTo>
                  <a:lnTo>
                    <a:pt x="362" y="1066"/>
                  </a:lnTo>
                  <a:lnTo>
                    <a:pt x="379" y="1067"/>
                  </a:lnTo>
                  <a:lnTo>
                    <a:pt x="397" y="1067"/>
                  </a:lnTo>
                  <a:lnTo>
                    <a:pt x="413" y="1064"/>
                  </a:lnTo>
                  <a:lnTo>
                    <a:pt x="429" y="1061"/>
                  </a:lnTo>
                  <a:lnTo>
                    <a:pt x="444" y="1055"/>
                  </a:lnTo>
                  <a:lnTo>
                    <a:pt x="459" y="1048"/>
                  </a:lnTo>
                  <a:lnTo>
                    <a:pt x="472" y="1040"/>
                  </a:lnTo>
                  <a:lnTo>
                    <a:pt x="486" y="1029"/>
                  </a:lnTo>
                  <a:lnTo>
                    <a:pt x="498" y="1017"/>
                  </a:lnTo>
                  <a:lnTo>
                    <a:pt x="509" y="1003"/>
                  </a:lnTo>
                  <a:lnTo>
                    <a:pt x="522" y="986"/>
                  </a:lnTo>
                  <a:lnTo>
                    <a:pt x="534" y="969"/>
                  </a:lnTo>
                  <a:lnTo>
                    <a:pt x="546" y="948"/>
                  </a:lnTo>
                  <a:lnTo>
                    <a:pt x="558" y="924"/>
                  </a:lnTo>
                  <a:lnTo>
                    <a:pt x="570" y="899"/>
                  </a:lnTo>
                  <a:lnTo>
                    <a:pt x="583" y="872"/>
                  </a:lnTo>
                  <a:lnTo>
                    <a:pt x="596" y="842"/>
                  </a:lnTo>
                  <a:lnTo>
                    <a:pt x="642" y="915"/>
                  </a:lnTo>
                  <a:lnTo>
                    <a:pt x="629" y="953"/>
                  </a:lnTo>
                  <a:lnTo>
                    <a:pt x="613" y="988"/>
                  </a:lnTo>
                  <a:lnTo>
                    <a:pt x="597" y="1021"/>
                  </a:lnTo>
                  <a:lnTo>
                    <a:pt x="580" y="1052"/>
                  </a:lnTo>
                  <a:lnTo>
                    <a:pt x="563" y="1081"/>
                  </a:lnTo>
                  <a:lnTo>
                    <a:pt x="543" y="1109"/>
                  </a:lnTo>
                  <a:lnTo>
                    <a:pt x="523" y="1135"/>
                  </a:lnTo>
                  <a:lnTo>
                    <a:pt x="501" y="1159"/>
                  </a:lnTo>
                  <a:lnTo>
                    <a:pt x="479" y="1180"/>
                  </a:lnTo>
                  <a:lnTo>
                    <a:pt x="457" y="1199"/>
                  </a:lnTo>
                  <a:lnTo>
                    <a:pt x="434" y="1215"/>
                  </a:lnTo>
                  <a:lnTo>
                    <a:pt x="411" y="1229"/>
                  </a:lnTo>
                  <a:lnTo>
                    <a:pt x="387" y="1237"/>
                  </a:lnTo>
                  <a:lnTo>
                    <a:pt x="364" y="1246"/>
                  </a:lnTo>
                  <a:lnTo>
                    <a:pt x="340" y="124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6560" y="2313000"/>
              <a:ext cx="314280" cy="444600"/>
            </a:xfrm>
            <a:custGeom>
              <a:avLst/>
              <a:gdLst/>
              <a:ahLst/>
              <a:rect l="l" t="t" r="r" b="b"/>
              <a:pathLst>
                <a:path w="874" h="1235">
                  <a:moveTo>
                    <a:pt x="858" y="1137"/>
                  </a:moveTo>
                  <a:lnTo>
                    <a:pt x="756" y="1208"/>
                  </a:lnTo>
                  <a:lnTo>
                    <a:pt x="747" y="1213"/>
                  </a:lnTo>
                  <a:lnTo>
                    <a:pt x="737" y="1218"/>
                  </a:lnTo>
                  <a:lnTo>
                    <a:pt x="726" y="1222"/>
                  </a:lnTo>
                  <a:lnTo>
                    <a:pt x="715" y="1225"/>
                  </a:lnTo>
                  <a:lnTo>
                    <a:pt x="704" y="1229"/>
                  </a:lnTo>
                  <a:lnTo>
                    <a:pt x="692" y="1230"/>
                  </a:lnTo>
                  <a:lnTo>
                    <a:pt x="680" y="1232"/>
                  </a:lnTo>
                  <a:lnTo>
                    <a:pt x="667" y="1232"/>
                  </a:lnTo>
                  <a:lnTo>
                    <a:pt x="649" y="1230"/>
                  </a:lnTo>
                  <a:lnTo>
                    <a:pt x="633" y="1229"/>
                  </a:lnTo>
                  <a:lnTo>
                    <a:pt x="617" y="1223"/>
                  </a:lnTo>
                  <a:lnTo>
                    <a:pt x="603" y="1215"/>
                  </a:lnTo>
                  <a:lnTo>
                    <a:pt x="588" y="1206"/>
                  </a:lnTo>
                  <a:lnTo>
                    <a:pt x="575" y="1194"/>
                  </a:lnTo>
                  <a:lnTo>
                    <a:pt x="562" y="1180"/>
                  </a:lnTo>
                  <a:lnTo>
                    <a:pt x="550" y="1164"/>
                  </a:lnTo>
                  <a:lnTo>
                    <a:pt x="544" y="1156"/>
                  </a:lnTo>
                  <a:lnTo>
                    <a:pt x="539" y="1147"/>
                  </a:lnTo>
                  <a:lnTo>
                    <a:pt x="535" y="1137"/>
                  </a:lnTo>
                  <a:lnTo>
                    <a:pt x="530" y="1128"/>
                  </a:lnTo>
                  <a:lnTo>
                    <a:pt x="527" y="1118"/>
                  </a:lnTo>
                  <a:lnTo>
                    <a:pt x="522" y="1107"/>
                  </a:lnTo>
                  <a:lnTo>
                    <a:pt x="519" y="1097"/>
                  </a:lnTo>
                  <a:lnTo>
                    <a:pt x="516" y="1085"/>
                  </a:lnTo>
                  <a:lnTo>
                    <a:pt x="513" y="1074"/>
                  </a:lnTo>
                  <a:lnTo>
                    <a:pt x="511" y="1062"/>
                  </a:lnTo>
                  <a:lnTo>
                    <a:pt x="509" y="1050"/>
                  </a:lnTo>
                  <a:lnTo>
                    <a:pt x="507" y="1038"/>
                  </a:lnTo>
                  <a:lnTo>
                    <a:pt x="506" y="1024"/>
                  </a:lnTo>
                  <a:lnTo>
                    <a:pt x="505" y="1012"/>
                  </a:lnTo>
                  <a:lnTo>
                    <a:pt x="505" y="998"/>
                  </a:lnTo>
                  <a:lnTo>
                    <a:pt x="505" y="984"/>
                  </a:lnTo>
                  <a:lnTo>
                    <a:pt x="505" y="955"/>
                  </a:lnTo>
                  <a:lnTo>
                    <a:pt x="505" y="929"/>
                  </a:lnTo>
                  <a:lnTo>
                    <a:pt x="506" y="887"/>
                  </a:lnTo>
                  <a:lnTo>
                    <a:pt x="508" y="868"/>
                  </a:lnTo>
                  <a:lnTo>
                    <a:pt x="510" y="847"/>
                  </a:lnTo>
                  <a:lnTo>
                    <a:pt x="512" y="823"/>
                  </a:lnTo>
                  <a:lnTo>
                    <a:pt x="515" y="811"/>
                  </a:lnTo>
                  <a:lnTo>
                    <a:pt x="516" y="799"/>
                  </a:lnTo>
                  <a:lnTo>
                    <a:pt x="556" y="522"/>
                  </a:lnTo>
                  <a:lnTo>
                    <a:pt x="570" y="425"/>
                  </a:lnTo>
                  <a:lnTo>
                    <a:pt x="575" y="385"/>
                  </a:lnTo>
                  <a:lnTo>
                    <a:pt x="578" y="352"/>
                  </a:lnTo>
                  <a:lnTo>
                    <a:pt x="581" y="323"/>
                  </a:lnTo>
                  <a:lnTo>
                    <a:pt x="582" y="297"/>
                  </a:lnTo>
                  <a:lnTo>
                    <a:pt x="583" y="271"/>
                  </a:lnTo>
                  <a:lnTo>
                    <a:pt x="584" y="260"/>
                  </a:lnTo>
                  <a:lnTo>
                    <a:pt x="584" y="248"/>
                  </a:lnTo>
                  <a:lnTo>
                    <a:pt x="584" y="245"/>
                  </a:lnTo>
                  <a:lnTo>
                    <a:pt x="584" y="239"/>
                  </a:lnTo>
                  <a:lnTo>
                    <a:pt x="583" y="236"/>
                  </a:lnTo>
                  <a:lnTo>
                    <a:pt x="583" y="232"/>
                  </a:lnTo>
                  <a:lnTo>
                    <a:pt x="582" y="229"/>
                  </a:lnTo>
                  <a:lnTo>
                    <a:pt x="582" y="226"/>
                  </a:lnTo>
                  <a:lnTo>
                    <a:pt x="582" y="222"/>
                  </a:lnTo>
                  <a:lnTo>
                    <a:pt x="581" y="219"/>
                  </a:lnTo>
                  <a:lnTo>
                    <a:pt x="579" y="215"/>
                  </a:lnTo>
                  <a:lnTo>
                    <a:pt x="578" y="212"/>
                  </a:lnTo>
                  <a:lnTo>
                    <a:pt x="577" y="208"/>
                  </a:lnTo>
                  <a:lnTo>
                    <a:pt x="576" y="206"/>
                  </a:lnTo>
                  <a:lnTo>
                    <a:pt x="574" y="203"/>
                  </a:lnTo>
                  <a:lnTo>
                    <a:pt x="572" y="201"/>
                  </a:lnTo>
                  <a:lnTo>
                    <a:pt x="571" y="198"/>
                  </a:lnTo>
                  <a:lnTo>
                    <a:pt x="569" y="196"/>
                  </a:lnTo>
                  <a:lnTo>
                    <a:pt x="565" y="193"/>
                  </a:lnTo>
                  <a:lnTo>
                    <a:pt x="560" y="187"/>
                  </a:lnTo>
                  <a:lnTo>
                    <a:pt x="555" y="184"/>
                  </a:lnTo>
                  <a:lnTo>
                    <a:pt x="550" y="182"/>
                  </a:lnTo>
                  <a:lnTo>
                    <a:pt x="544" y="180"/>
                  </a:lnTo>
                  <a:lnTo>
                    <a:pt x="538" y="179"/>
                  </a:lnTo>
                  <a:lnTo>
                    <a:pt x="532" y="177"/>
                  </a:lnTo>
                  <a:lnTo>
                    <a:pt x="525" y="177"/>
                  </a:lnTo>
                  <a:lnTo>
                    <a:pt x="519" y="177"/>
                  </a:lnTo>
                  <a:lnTo>
                    <a:pt x="514" y="179"/>
                  </a:lnTo>
                  <a:lnTo>
                    <a:pt x="509" y="179"/>
                  </a:lnTo>
                  <a:lnTo>
                    <a:pt x="503" y="180"/>
                  </a:lnTo>
                  <a:lnTo>
                    <a:pt x="498" y="184"/>
                  </a:lnTo>
                  <a:lnTo>
                    <a:pt x="493" y="186"/>
                  </a:lnTo>
                  <a:lnTo>
                    <a:pt x="488" y="189"/>
                  </a:lnTo>
                  <a:lnTo>
                    <a:pt x="483" y="193"/>
                  </a:lnTo>
                  <a:lnTo>
                    <a:pt x="479" y="198"/>
                  </a:lnTo>
                  <a:lnTo>
                    <a:pt x="474" y="203"/>
                  </a:lnTo>
                  <a:lnTo>
                    <a:pt x="469" y="210"/>
                  </a:lnTo>
                  <a:lnTo>
                    <a:pt x="465" y="217"/>
                  </a:lnTo>
                  <a:lnTo>
                    <a:pt x="459" y="226"/>
                  </a:lnTo>
                  <a:lnTo>
                    <a:pt x="454" y="236"/>
                  </a:lnTo>
                  <a:lnTo>
                    <a:pt x="449" y="248"/>
                  </a:lnTo>
                  <a:lnTo>
                    <a:pt x="443" y="260"/>
                  </a:lnTo>
                  <a:lnTo>
                    <a:pt x="438" y="272"/>
                  </a:lnTo>
                  <a:lnTo>
                    <a:pt x="432" y="286"/>
                  </a:lnTo>
                  <a:lnTo>
                    <a:pt x="427" y="302"/>
                  </a:lnTo>
                  <a:lnTo>
                    <a:pt x="422" y="317"/>
                  </a:lnTo>
                  <a:lnTo>
                    <a:pt x="411" y="352"/>
                  </a:lnTo>
                  <a:lnTo>
                    <a:pt x="401" y="392"/>
                  </a:lnTo>
                  <a:lnTo>
                    <a:pt x="391" y="435"/>
                  </a:lnTo>
                  <a:lnTo>
                    <a:pt x="380" y="487"/>
                  </a:lnTo>
                  <a:lnTo>
                    <a:pt x="368" y="544"/>
                  </a:lnTo>
                  <a:lnTo>
                    <a:pt x="356" y="610"/>
                  </a:lnTo>
                  <a:lnTo>
                    <a:pt x="344" y="676"/>
                  </a:lnTo>
                  <a:lnTo>
                    <a:pt x="332" y="738"/>
                  </a:lnTo>
                  <a:lnTo>
                    <a:pt x="306" y="858"/>
                  </a:lnTo>
                  <a:lnTo>
                    <a:pt x="294" y="913"/>
                  </a:lnTo>
                  <a:lnTo>
                    <a:pt x="280" y="965"/>
                  </a:lnTo>
                  <a:lnTo>
                    <a:pt x="266" y="1012"/>
                  </a:lnTo>
                  <a:lnTo>
                    <a:pt x="251" y="1055"/>
                  </a:lnTo>
                  <a:lnTo>
                    <a:pt x="242" y="1076"/>
                  </a:lnTo>
                  <a:lnTo>
                    <a:pt x="234" y="1097"/>
                  </a:lnTo>
                  <a:lnTo>
                    <a:pt x="226" y="1116"/>
                  </a:lnTo>
                  <a:lnTo>
                    <a:pt x="218" y="1133"/>
                  </a:lnTo>
                  <a:lnTo>
                    <a:pt x="209" y="1149"/>
                  </a:lnTo>
                  <a:lnTo>
                    <a:pt x="201" y="1164"/>
                  </a:lnTo>
                  <a:lnTo>
                    <a:pt x="192" y="1177"/>
                  </a:lnTo>
                  <a:lnTo>
                    <a:pt x="184" y="1189"/>
                  </a:lnTo>
                  <a:lnTo>
                    <a:pt x="175" y="1199"/>
                  </a:lnTo>
                  <a:lnTo>
                    <a:pt x="165" y="1208"/>
                  </a:lnTo>
                  <a:lnTo>
                    <a:pt x="156" y="1216"/>
                  </a:lnTo>
                  <a:lnTo>
                    <a:pt x="145" y="1222"/>
                  </a:lnTo>
                  <a:lnTo>
                    <a:pt x="134" y="1227"/>
                  </a:lnTo>
                  <a:lnTo>
                    <a:pt x="123" y="1230"/>
                  </a:lnTo>
                  <a:lnTo>
                    <a:pt x="111" y="1234"/>
                  </a:lnTo>
                  <a:lnTo>
                    <a:pt x="98" y="1234"/>
                  </a:lnTo>
                  <a:lnTo>
                    <a:pt x="88" y="1234"/>
                  </a:lnTo>
                  <a:lnTo>
                    <a:pt x="78" y="1230"/>
                  </a:lnTo>
                  <a:lnTo>
                    <a:pt x="69" y="1227"/>
                  </a:lnTo>
                  <a:lnTo>
                    <a:pt x="59" y="1222"/>
                  </a:lnTo>
                  <a:lnTo>
                    <a:pt x="51" y="1216"/>
                  </a:lnTo>
                  <a:lnTo>
                    <a:pt x="43" y="1208"/>
                  </a:lnTo>
                  <a:lnTo>
                    <a:pt x="36" y="1199"/>
                  </a:lnTo>
                  <a:lnTo>
                    <a:pt x="28" y="1189"/>
                  </a:lnTo>
                  <a:lnTo>
                    <a:pt x="25" y="1184"/>
                  </a:lnTo>
                  <a:lnTo>
                    <a:pt x="21" y="1177"/>
                  </a:lnTo>
                  <a:lnTo>
                    <a:pt x="19" y="1171"/>
                  </a:lnTo>
                  <a:lnTo>
                    <a:pt x="16" y="1164"/>
                  </a:lnTo>
                  <a:lnTo>
                    <a:pt x="14" y="1158"/>
                  </a:lnTo>
                  <a:lnTo>
                    <a:pt x="11" y="1151"/>
                  </a:lnTo>
                  <a:lnTo>
                    <a:pt x="8" y="1142"/>
                  </a:lnTo>
                  <a:lnTo>
                    <a:pt x="7" y="1135"/>
                  </a:lnTo>
                  <a:lnTo>
                    <a:pt x="5" y="1126"/>
                  </a:lnTo>
                  <a:lnTo>
                    <a:pt x="4" y="1118"/>
                  </a:lnTo>
                  <a:lnTo>
                    <a:pt x="3" y="1109"/>
                  </a:lnTo>
                  <a:lnTo>
                    <a:pt x="2" y="1099"/>
                  </a:lnTo>
                  <a:lnTo>
                    <a:pt x="1" y="1080"/>
                  </a:lnTo>
                  <a:lnTo>
                    <a:pt x="0" y="1059"/>
                  </a:lnTo>
                  <a:lnTo>
                    <a:pt x="1" y="1035"/>
                  </a:lnTo>
                  <a:lnTo>
                    <a:pt x="2" y="1010"/>
                  </a:lnTo>
                  <a:lnTo>
                    <a:pt x="4" y="990"/>
                  </a:lnTo>
                  <a:lnTo>
                    <a:pt x="6" y="977"/>
                  </a:lnTo>
                  <a:lnTo>
                    <a:pt x="8" y="969"/>
                  </a:lnTo>
                  <a:lnTo>
                    <a:pt x="9" y="958"/>
                  </a:lnTo>
                  <a:lnTo>
                    <a:pt x="12" y="948"/>
                  </a:lnTo>
                  <a:lnTo>
                    <a:pt x="14" y="939"/>
                  </a:lnTo>
                  <a:lnTo>
                    <a:pt x="17" y="931"/>
                  </a:lnTo>
                  <a:lnTo>
                    <a:pt x="19" y="922"/>
                  </a:lnTo>
                  <a:lnTo>
                    <a:pt x="23" y="915"/>
                  </a:lnTo>
                  <a:lnTo>
                    <a:pt x="26" y="906"/>
                  </a:lnTo>
                  <a:lnTo>
                    <a:pt x="30" y="899"/>
                  </a:lnTo>
                  <a:lnTo>
                    <a:pt x="37" y="886"/>
                  </a:lnTo>
                  <a:lnTo>
                    <a:pt x="41" y="879"/>
                  </a:lnTo>
                  <a:lnTo>
                    <a:pt x="45" y="873"/>
                  </a:lnTo>
                  <a:lnTo>
                    <a:pt x="49" y="868"/>
                  </a:lnTo>
                  <a:lnTo>
                    <a:pt x="53" y="863"/>
                  </a:lnTo>
                  <a:lnTo>
                    <a:pt x="58" y="860"/>
                  </a:lnTo>
                  <a:lnTo>
                    <a:pt x="63" y="854"/>
                  </a:lnTo>
                  <a:lnTo>
                    <a:pt x="67" y="851"/>
                  </a:lnTo>
                  <a:lnTo>
                    <a:pt x="71" y="849"/>
                  </a:lnTo>
                  <a:lnTo>
                    <a:pt x="81" y="844"/>
                  </a:lnTo>
                  <a:lnTo>
                    <a:pt x="91" y="842"/>
                  </a:lnTo>
                  <a:lnTo>
                    <a:pt x="102" y="841"/>
                  </a:lnTo>
                  <a:lnTo>
                    <a:pt x="110" y="841"/>
                  </a:lnTo>
                  <a:lnTo>
                    <a:pt x="118" y="842"/>
                  </a:lnTo>
                  <a:lnTo>
                    <a:pt x="125" y="844"/>
                  </a:lnTo>
                  <a:lnTo>
                    <a:pt x="132" y="847"/>
                  </a:lnTo>
                  <a:lnTo>
                    <a:pt x="139" y="851"/>
                  </a:lnTo>
                  <a:lnTo>
                    <a:pt x="146" y="856"/>
                  </a:lnTo>
                  <a:lnTo>
                    <a:pt x="152" y="861"/>
                  </a:lnTo>
                  <a:lnTo>
                    <a:pt x="158" y="868"/>
                  </a:lnTo>
                  <a:lnTo>
                    <a:pt x="169" y="882"/>
                  </a:lnTo>
                  <a:lnTo>
                    <a:pt x="180" y="898"/>
                  </a:lnTo>
                  <a:lnTo>
                    <a:pt x="190" y="913"/>
                  </a:lnTo>
                  <a:lnTo>
                    <a:pt x="196" y="922"/>
                  </a:lnTo>
                  <a:lnTo>
                    <a:pt x="200" y="931"/>
                  </a:lnTo>
                  <a:lnTo>
                    <a:pt x="207" y="912"/>
                  </a:lnTo>
                  <a:lnTo>
                    <a:pt x="213" y="891"/>
                  </a:lnTo>
                  <a:lnTo>
                    <a:pt x="226" y="846"/>
                  </a:lnTo>
                  <a:lnTo>
                    <a:pt x="238" y="795"/>
                  </a:lnTo>
                  <a:lnTo>
                    <a:pt x="250" y="740"/>
                  </a:lnTo>
                  <a:lnTo>
                    <a:pt x="281" y="588"/>
                  </a:lnTo>
                  <a:lnTo>
                    <a:pt x="323" y="381"/>
                  </a:lnTo>
                  <a:lnTo>
                    <a:pt x="328" y="355"/>
                  </a:lnTo>
                  <a:lnTo>
                    <a:pt x="335" y="331"/>
                  </a:lnTo>
                  <a:lnTo>
                    <a:pt x="342" y="305"/>
                  </a:lnTo>
                  <a:lnTo>
                    <a:pt x="349" y="283"/>
                  </a:lnTo>
                  <a:lnTo>
                    <a:pt x="356" y="258"/>
                  </a:lnTo>
                  <a:lnTo>
                    <a:pt x="365" y="236"/>
                  </a:lnTo>
                  <a:lnTo>
                    <a:pt x="373" y="213"/>
                  </a:lnTo>
                  <a:lnTo>
                    <a:pt x="382" y="193"/>
                  </a:lnTo>
                  <a:lnTo>
                    <a:pt x="391" y="172"/>
                  </a:lnTo>
                  <a:lnTo>
                    <a:pt x="401" y="153"/>
                  </a:lnTo>
                  <a:lnTo>
                    <a:pt x="412" y="134"/>
                  </a:lnTo>
                  <a:lnTo>
                    <a:pt x="424" y="116"/>
                  </a:lnTo>
                  <a:lnTo>
                    <a:pt x="436" y="99"/>
                  </a:lnTo>
                  <a:lnTo>
                    <a:pt x="449" y="83"/>
                  </a:lnTo>
                  <a:lnTo>
                    <a:pt x="462" y="68"/>
                  </a:lnTo>
                  <a:lnTo>
                    <a:pt x="476" y="54"/>
                  </a:lnTo>
                  <a:lnTo>
                    <a:pt x="490" y="42"/>
                  </a:lnTo>
                  <a:lnTo>
                    <a:pt x="506" y="30"/>
                  </a:lnTo>
                  <a:lnTo>
                    <a:pt x="523" y="21"/>
                  </a:lnTo>
                  <a:lnTo>
                    <a:pt x="541" y="14"/>
                  </a:lnTo>
                  <a:lnTo>
                    <a:pt x="560" y="7"/>
                  </a:lnTo>
                  <a:lnTo>
                    <a:pt x="579" y="4"/>
                  </a:lnTo>
                  <a:lnTo>
                    <a:pt x="600" y="0"/>
                  </a:lnTo>
                  <a:lnTo>
                    <a:pt x="621" y="0"/>
                  </a:lnTo>
                  <a:lnTo>
                    <a:pt x="643" y="0"/>
                  </a:lnTo>
                  <a:lnTo>
                    <a:pt x="662" y="4"/>
                  </a:lnTo>
                  <a:lnTo>
                    <a:pt x="681" y="7"/>
                  </a:lnTo>
                  <a:lnTo>
                    <a:pt x="698" y="14"/>
                  </a:lnTo>
                  <a:lnTo>
                    <a:pt x="715" y="21"/>
                  </a:lnTo>
                  <a:lnTo>
                    <a:pt x="731" y="30"/>
                  </a:lnTo>
                  <a:lnTo>
                    <a:pt x="744" y="42"/>
                  </a:lnTo>
                  <a:lnTo>
                    <a:pt x="758" y="54"/>
                  </a:lnTo>
                  <a:lnTo>
                    <a:pt x="770" y="68"/>
                  </a:lnTo>
                  <a:lnTo>
                    <a:pt x="780" y="83"/>
                  </a:lnTo>
                  <a:lnTo>
                    <a:pt x="784" y="90"/>
                  </a:lnTo>
                  <a:lnTo>
                    <a:pt x="788" y="99"/>
                  </a:lnTo>
                  <a:lnTo>
                    <a:pt x="792" y="106"/>
                  </a:lnTo>
                  <a:lnTo>
                    <a:pt x="795" y="115"/>
                  </a:lnTo>
                  <a:lnTo>
                    <a:pt x="798" y="123"/>
                  </a:lnTo>
                  <a:lnTo>
                    <a:pt x="801" y="132"/>
                  </a:lnTo>
                  <a:lnTo>
                    <a:pt x="803" y="141"/>
                  </a:lnTo>
                  <a:lnTo>
                    <a:pt x="804" y="151"/>
                  </a:lnTo>
                  <a:lnTo>
                    <a:pt x="806" y="160"/>
                  </a:lnTo>
                  <a:lnTo>
                    <a:pt x="807" y="170"/>
                  </a:lnTo>
                  <a:lnTo>
                    <a:pt x="808" y="179"/>
                  </a:lnTo>
                  <a:lnTo>
                    <a:pt x="808" y="189"/>
                  </a:lnTo>
                  <a:lnTo>
                    <a:pt x="808" y="212"/>
                  </a:lnTo>
                  <a:lnTo>
                    <a:pt x="807" y="236"/>
                  </a:lnTo>
                  <a:lnTo>
                    <a:pt x="805" y="258"/>
                  </a:lnTo>
                  <a:lnTo>
                    <a:pt x="803" y="281"/>
                  </a:lnTo>
                  <a:lnTo>
                    <a:pt x="802" y="305"/>
                  </a:lnTo>
                  <a:lnTo>
                    <a:pt x="799" y="328"/>
                  </a:lnTo>
                  <a:lnTo>
                    <a:pt x="796" y="352"/>
                  </a:lnTo>
                  <a:lnTo>
                    <a:pt x="792" y="378"/>
                  </a:lnTo>
                  <a:lnTo>
                    <a:pt x="735" y="768"/>
                  </a:lnTo>
                  <a:lnTo>
                    <a:pt x="730" y="811"/>
                  </a:lnTo>
                  <a:lnTo>
                    <a:pt x="726" y="835"/>
                  </a:lnTo>
                  <a:lnTo>
                    <a:pt x="724" y="861"/>
                  </a:lnTo>
                  <a:lnTo>
                    <a:pt x="721" y="886"/>
                  </a:lnTo>
                  <a:lnTo>
                    <a:pt x="720" y="908"/>
                  </a:lnTo>
                  <a:lnTo>
                    <a:pt x="719" y="927"/>
                  </a:lnTo>
                  <a:lnTo>
                    <a:pt x="719" y="936"/>
                  </a:lnTo>
                  <a:lnTo>
                    <a:pt x="719" y="944"/>
                  </a:lnTo>
                  <a:lnTo>
                    <a:pt x="719" y="962"/>
                  </a:lnTo>
                  <a:lnTo>
                    <a:pt x="720" y="977"/>
                  </a:lnTo>
                  <a:lnTo>
                    <a:pt x="721" y="991"/>
                  </a:lnTo>
                  <a:lnTo>
                    <a:pt x="722" y="996"/>
                  </a:lnTo>
                  <a:lnTo>
                    <a:pt x="723" y="1003"/>
                  </a:lnTo>
                  <a:lnTo>
                    <a:pt x="724" y="1009"/>
                  </a:lnTo>
                  <a:lnTo>
                    <a:pt x="726" y="1014"/>
                  </a:lnTo>
                  <a:lnTo>
                    <a:pt x="726" y="1019"/>
                  </a:lnTo>
                  <a:lnTo>
                    <a:pt x="728" y="1024"/>
                  </a:lnTo>
                  <a:lnTo>
                    <a:pt x="730" y="1029"/>
                  </a:lnTo>
                  <a:lnTo>
                    <a:pt x="731" y="1033"/>
                  </a:lnTo>
                  <a:lnTo>
                    <a:pt x="733" y="1036"/>
                  </a:lnTo>
                  <a:lnTo>
                    <a:pt x="735" y="1040"/>
                  </a:lnTo>
                  <a:lnTo>
                    <a:pt x="737" y="1043"/>
                  </a:lnTo>
                  <a:lnTo>
                    <a:pt x="739" y="1045"/>
                  </a:lnTo>
                  <a:lnTo>
                    <a:pt x="742" y="1048"/>
                  </a:lnTo>
                  <a:lnTo>
                    <a:pt x="745" y="1050"/>
                  </a:lnTo>
                  <a:lnTo>
                    <a:pt x="751" y="1054"/>
                  </a:lnTo>
                  <a:lnTo>
                    <a:pt x="758" y="1057"/>
                  </a:lnTo>
                  <a:lnTo>
                    <a:pt x="765" y="1061"/>
                  </a:lnTo>
                  <a:lnTo>
                    <a:pt x="774" y="1062"/>
                  </a:lnTo>
                  <a:lnTo>
                    <a:pt x="783" y="1064"/>
                  </a:lnTo>
                  <a:lnTo>
                    <a:pt x="793" y="1064"/>
                  </a:lnTo>
                  <a:lnTo>
                    <a:pt x="798" y="1064"/>
                  </a:lnTo>
                  <a:lnTo>
                    <a:pt x="803" y="1064"/>
                  </a:lnTo>
                  <a:lnTo>
                    <a:pt x="808" y="1062"/>
                  </a:lnTo>
                  <a:lnTo>
                    <a:pt x="814" y="1061"/>
                  </a:lnTo>
                  <a:lnTo>
                    <a:pt x="825" y="1057"/>
                  </a:lnTo>
                  <a:lnTo>
                    <a:pt x="837" y="1052"/>
                  </a:lnTo>
                  <a:lnTo>
                    <a:pt x="858" y="1040"/>
                  </a:lnTo>
                  <a:lnTo>
                    <a:pt x="866" y="1035"/>
                  </a:lnTo>
                  <a:lnTo>
                    <a:pt x="869" y="1033"/>
                  </a:lnTo>
                  <a:lnTo>
                    <a:pt x="873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9960" y="2317680"/>
              <a:ext cx="298440" cy="622440"/>
            </a:xfrm>
            <a:custGeom>
              <a:avLst/>
              <a:gdLst/>
              <a:ahLst/>
              <a:rect l="l" t="t" r="r" b="b"/>
              <a:pathLst>
                <a:path w="827" h="1728">
                  <a:moveTo>
                    <a:pt x="500" y="1007"/>
                  </a:moveTo>
                  <a:lnTo>
                    <a:pt x="496" y="1007"/>
                  </a:lnTo>
                  <a:lnTo>
                    <a:pt x="459" y="1064"/>
                  </a:lnTo>
                  <a:lnTo>
                    <a:pt x="442" y="1088"/>
                  </a:lnTo>
                  <a:lnTo>
                    <a:pt x="425" y="1111"/>
                  </a:lnTo>
                  <a:lnTo>
                    <a:pt x="408" y="1130"/>
                  </a:lnTo>
                  <a:lnTo>
                    <a:pt x="392" y="1149"/>
                  </a:lnTo>
                  <a:lnTo>
                    <a:pt x="376" y="1164"/>
                  </a:lnTo>
                  <a:lnTo>
                    <a:pt x="360" y="1176"/>
                  </a:lnTo>
                  <a:lnTo>
                    <a:pt x="344" y="1189"/>
                  </a:lnTo>
                  <a:lnTo>
                    <a:pt x="328" y="1197"/>
                  </a:lnTo>
                  <a:lnTo>
                    <a:pt x="312" y="1206"/>
                  </a:lnTo>
                  <a:lnTo>
                    <a:pt x="295" y="1213"/>
                  </a:lnTo>
                  <a:lnTo>
                    <a:pt x="278" y="1218"/>
                  </a:lnTo>
                  <a:lnTo>
                    <a:pt x="260" y="1222"/>
                  </a:lnTo>
                  <a:lnTo>
                    <a:pt x="243" y="1225"/>
                  </a:lnTo>
                  <a:lnTo>
                    <a:pt x="224" y="1225"/>
                  </a:lnTo>
                  <a:lnTo>
                    <a:pt x="206" y="1223"/>
                  </a:lnTo>
                  <a:lnTo>
                    <a:pt x="190" y="1220"/>
                  </a:lnTo>
                  <a:lnTo>
                    <a:pt x="174" y="1215"/>
                  </a:lnTo>
                  <a:lnTo>
                    <a:pt x="160" y="1206"/>
                  </a:lnTo>
                  <a:lnTo>
                    <a:pt x="146" y="1196"/>
                  </a:lnTo>
                  <a:lnTo>
                    <a:pt x="140" y="1190"/>
                  </a:lnTo>
                  <a:lnTo>
                    <a:pt x="133" y="1183"/>
                  </a:lnTo>
                  <a:lnTo>
                    <a:pt x="127" y="1176"/>
                  </a:lnTo>
                  <a:lnTo>
                    <a:pt x="122" y="1168"/>
                  </a:lnTo>
                  <a:lnTo>
                    <a:pt x="116" y="1159"/>
                  </a:lnTo>
                  <a:lnTo>
                    <a:pt x="111" y="1150"/>
                  </a:lnTo>
                  <a:lnTo>
                    <a:pt x="102" y="1131"/>
                  </a:lnTo>
                  <a:lnTo>
                    <a:pt x="94" y="1112"/>
                  </a:lnTo>
                  <a:lnTo>
                    <a:pt x="90" y="1102"/>
                  </a:lnTo>
                  <a:lnTo>
                    <a:pt x="88" y="1092"/>
                  </a:lnTo>
                  <a:lnTo>
                    <a:pt x="84" y="1081"/>
                  </a:lnTo>
                  <a:lnTo>
                    <a:pt x="82" y="1071"/>
                  </a:lnTo>
                  <a:lnTo>
                    <a:pt x="79" y="1059"/>
                  </a:lnTo>
                  <a:lnTo>
                    <a:pt x="77" y="1047"/>
                  </a:lnTo>
                  <a:lnTo>
                    <a:pt x="76" y="1036"/>
                  </a:lnTo>
                  <a:lnTo>
                    <a:pt x="74" y="1024"/>
                  </a:lnTo>
                  <a:lnTo>
                    <a:pt x="73" y="1012"/>
                  </a:lnTo>
                  <a:lnTo>
                    <a:pt x="72" y="1000"/>
                  </a:lnTo>
                  <a:lnTo>
                    <a:pt x="72" y="986"/>
                  </a:lnTo>
                  <a:lnTo>
                    <a:pt x="72" y="974"/>
                  </a:lnTo>
                  <a:lnTo>
                    <a:pt x="72" y="955"/>
                  </a:lnTo>
                  <a:lnTo>
                    <a:pt x="72" y="936"/>
                  </a:lnTo>
                  <a:lnTo>
                    <a:pt x="73" y="917"/>
                  </a:lnTo>
                  <a:lnTo>
                    <a:pt x="74" y="898"/>
                  </a:lnTo>
                  <a:lnTo>
                    <a:pt x="75" y="887"/>
                  </a:lnTo>
                  <a:lnTo>
                    <a:pt x="75" y="877"/>
                  </a:lnTo>
                  <a:lnTo>
                    <a:pt x="77" y="853"/>
                  </a:lnTo>
                  <a:lnTo>
                    <a:pt x="82" y="823"/>
                  </a:lnTo>
                  <a:lnTo>
                    <a:pt x="86" y="790"/>
                  </a:lnTo>
                  <a:lnTo>
                    <a:pt x="134" y="464"/>
                  </a:lnTo>
                  <a:lnTo>
                    <a:pt x="137" y="445"/>
                  </a:lnTo>
                  <a:lnTo>
                    <a:pt x="139" y="425"/>
                  </a:lnTo>
                  <a:lnTo>
                    <a:pt x="145" y="373"/>
                  </a:lnTo>
                  <a:lnTo>
                    <a:pt x="148" y="345"/>
                  </a:lnTo>
                  <a:lnTo>
                    <a:pt x="149" y="322"/>
                  </a:lnTo>
                  <a:lnTo>
                    <a:pt x="151" y="303"/>
                  </a:lnTo>
                  <a:lnTo>
                    <a:pt x="151" y="295"/>
                  </a:lnTo>
                  <a:lnTo>
                    <a:pt x="151" y="288"/>
                  </a:lnTo>
                  <a:lnTo>
                    <a:pt x="151" y="272"/>
                  </a:lnTo>
                  <a:lnTo>
                    <a:pt x="150" y="257"/>
                  </a:lnTo>
                  <a:lnTo>
                    <a:pt x="149" y="243"/>
                  </a:lnTo>
                  <a:lnTo>
                    <a:pt x="148" y="231"/>
                  </a:lnTo>
                  <a:lnTo>
                    <a:pt x="146" y="225"/>
                  </a:lnTo>
                  <a:lnTo>
                    <a:pt x="145" y="220"/>
                  </a:lnTo>
                  <a:lnTo>
                    <a:pt x="144" y="215"/>
                  </a:lnTo>
                  <a:lnTo>
                    <a:pt x="143" y="210"/>
                  </a:lnTo>
                  <a:lnTo>
                    <a:pt x="142" y="205"/>
                  </a:lnTo>
                  <a:lnTo>
                    <a:pt x="140" y="201"/>
                  </a:lnTo>
                  <a:lnTo>
                    <a:pt x="138" y="198"/>
                  </a:lnTo>
                  <a:lnTo>
                    <a:pt x="137" y="194"/>
                  </a:lnTo>
                  <a:lnTo>
                    <a:pt x="135" y="191"/>
                  </a:lnTo>
                  <a:lnTo>
                    <a:pt x="132" y="187"/>
                  </a:lnTo>
                  <a:lnTo>
                    <a:pt x="130" y="186"/>
                  </a:lnTo>
                  <a:lnTo>
                    <a:pt x="127" y="182"/>
                  </a:lnTo>
                  <a:lnTo>
                    <a:pt x="125" y="180"/>
                  </a:lnTo>
                  <a:lnTo>
                    <a:pt x="121" y="179"/>
                  </a:lnTo>
                  <a:lnTo>
                    <a:pt x="115" y="175"/>
                  </a:lnTo>
                  <a:lnTo>
                    <a:pt x="108" y="172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59" y="172"/>
                  </a:lnTo>
                  <a:lnTo>
                    <a:pt x="54" y="173"/>
                  </a:lnTo>
                  <a:lnTo>
                    <a:pt x="49" y="175"/>
                  </a:lnTo>
                  <a:lnTo>
                    <a:pt x="43" y="177"/>
                  </a:lnTo>
                  <a:lnTo>
                    <a:pt x="38" y="180"/>
                  </a:lnTo>
                  <a:lnTo>
                    <a:pt x="28" y="186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8" y="16"/>
                  </a:lnTo>
                  <a:lnTo>
                    <a:pt x="150" y="11"/>
                  </a:lnTo>
                  <a:lnTo>
                    <a:pt x="161" y="7"/>
                  </a:lnTo>
                  <a:lnTo>
                    <a:pt x="173" y="4"/>
                  </a:lnTo>
                  <a:lnTo>
                    <a:pt x="184" y="2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24" y="2"/>
                  </a:lnTo>
                  <a:lnTo>
                    <a:pt x="242" y="5"/>
                  </a:lnTo>
                  <a:lnTo>
                    <a:pt x="259" y="11"/>
                  </a:lnTo>
                  <a:lnTo>
                    <a:pt x="274" y="17"/>
                  </a:lnTo>
                  <a:lnTo>
                    <a:pt x="288" y="28"/>
                  </a:lnTo>
                  <a:lnTo>
                    <a:pt x="302" y="40"/>
                  </a:lnTo>
                  <a:lnTo>
                    <a:pt x="308" y="47"/>
                  </a:lnTo>
                  <a:lnTo>
                    <a:pt x="314" y="54"/>
                  </a:lnTo>
                  <a:lnTo>
                    <a:pt x="320" y="63"/>
                  </a:lnTo>
                  <a:lnTo>
                    <a:pt x="325" y="71"/>
                  </a:lnTo>
                  <a:lnTo>
                    <a:pt x="335" y="89"/>
                  </a:lnTo>
                  <a:lnTo>
                    <a:pt x="339" y="99"/>
                  </a:lnTo>
                  <a:lnTo>
                    <a:pt x="343" y="109"/>
                  </a:lnTo>
                  <a:lnTo>
                    <a:pt x="347" y="118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56" y="151"/>
                  </a:lnTo>
                  <a:lnTo>
                    <a:pt x="359" y="161"/>
                  </a:lnTo>
                  <a:lnTo>
                    <a:pt x="360" y="173"/>
                  </a:lnTo>
                  <a:lnTo>
                    <a:pt x="362" y="186"/>
                  </a:lnTo>
                  <a:lnTo>
                    <a:pt x="364" y="198"/>
                  </a:lnTo>
                  <a:lnTo>
                    <a:pt x="364" y="210"/>
                  </a:lnTo>
                  <a:lnTo>
                    <a:pt x="365" y="222"/>
                  </a:lnTo>
                  <a:lnTo>
                    <a:pt x="366" y="234"/>
                  </a:lnTo>
                  <a:lnTo>
                    <a:pt x="366" y="248"/>
                  </a:lnTo>
                  <a:lnTo>
                    <a:pt x="366" y="260"/>
                  </a:lnTo>
                  <a:lnTo>
                    <a:pt x="365" y="277"/>
                  </a:lnTo>
                  <a:lnTo>
                    <a:pt x="364" y="326"/>
                  </a:lnTo>
                  <a:lnTo>
                    <a:pt x="362" y="354"/>
                  </a:lnTo>
                  <a:lnTo>
                    <a:pt x="360" y="381"/>
                  </a:lnTo>
                  <a:lnTo>
                    <a:pt x="357" y="407"/>
                  </a:lnTo>
                  <a:lnTo>
                    <a:pt x="353" y="433"/>
                  </a:lnTo>
                  <a:lnTo>
                    <a:pt x="306" y="743"/>
                  </a:lnTo>
                  <a:lnTo>
                    <a:pt x="303" y="764"/>
                  </a:lnTo>
                  <a:lnTo>
                    <a:pt x="300" y="787"/>
                  </a:lnTo>
                  <a:lnTo>
                    <a:pt x="298" y="809"/>
                  </a:lnTo>
                  <a:lnTo>
                    <a:pt x="296" y="833"/>
                  </a:lnTo>
                  <a:lnTo>
                    <a:pt x="292" y="873"/>
                  </a:lnTo>
                  <a:lnTo>
                    <a:pt x="292" y="889"/>
                  </a:lnTo>
                  <a:lnTo>
                    <a:pt x="292" y="896"/>
                  </a:lnTo>
                  <a:lnTo>
                    <a:pt x="292" y="903"/>
                  </a:lnTo>
                  <a:lnTo>
                    <a:pt x="292" y="917"/>
                  </a:lnTo>
                  <a:lnTo>
                    <a:pt x="292" y="930"/>
                  </a:lnTo>
                  <a:lnTo>
                    <a:pt x="294" y="943"/>
                  </a:lnTo>
                  <a:lnTo>
                    <a:pt x="295" y="950"/>
                  </a:lnTo>
                  <a:lnTo>
                    <a:pt x="296" y="955"/>
                  </a:lnTo>
                  <a:lnTo>
                    <a:pt x="297" y="960"/>
                  </a:lnTo>
                  <a:lnTo>
                    <a:pt x="298" y="965"/>
                  </a:lnTo>
                  <a:lnTo>
                    <a:pt x="299" y="970"/>
                  </a:lnTo>
                  <a:lnTo>
                    <a:pt x="301" y="976"/>
                  </a:lnTo>
                  <a:lnTo>
                    <a:pt x="302" y="981"/>
                  </a:lnTo>
                  <a:lnTo>
                    <a:pt x="304" y="984"/>
                  </a:lnTo>
                  <a:lnTo>
                    <a:pt x="306" y="989"/>
                  </a:lnTo>
                  <a:lnTo>
                    <a:pt x="308" y="993"/>
                  </a:lnTo>
                  <a:lnTo>
                    <a:pt x="310" y="996"/>
                  </a:lnTo>
                  <a:lnTo>
                    <a:pt x="312" y="1000"/>
                  </a:lnTo>
                  <a:lnTo>
                    <a:pt x="315" y="1003"/>
                  </a:lnTo>
                  <a:lnTo>
                    <a:pt x="317" y="1007"/>
                  </a:lnTo>
                  <a:lnTo>
                    <a:pt x="320" y="1008"/>
                  </a:lnTo>
                  <a:lnTo>
                    <a:pt x="323" y="1012"/>
                  </a:lnTo>
                  <a:lnTo>
                    <a:pt x="329" y="1017"/>
                  </a:lnTo>
                  <a:lnTo>
                    <a:pt x="336" y="1019"/>
                  </a:lnTo>
                  <a:lnTo>
                    <a:pt x="342" y="1022"/>
                  </a:lnTo>
                  <a:lnTo>
                    <a:pt x="350" y="1024"/>
                  </a:lnTo>
                  <a:lnTo>
                    <a:pt x="359" y="1024"/>
                  </a:lnTo>
                  <a:lnTo>
                    <a:pt x="366" y="1024"/>
                  </a:lnTo>
                  <a:lnTo>
                    <a:pt x="374" y="1022"/>
                  </a:lnTo>
                  <a:lnTo>
                    <a:pt x="382" y="1019"/>
                  </a:lnTo>
                  <a:lnTo>
                    <a:pt x="391" y="1014"/>
                  </a:lnTo>
                  <a:lnTo>
                    <a:pt x="400" y="1008"/>
                  </a:lnTo>
                  <a:lnTo>
                    <a:pt x="410" y="1002"/>
                  </a:lnTo>
                  <a:lnTo>
                    <a:pt x="431" y="984"/>
                  </a:lnTo>
                  <a:lnTo>
                    <a:pt x="442" y="974"/>
                  </a:lnTo>
                  <a:lnTo>
                    <a:pt x="453" y="962"/>
                  </a:lnTo>
                  <a:lnTo>
                    <a:pt x="464" y="950"/>
                  </a:lnTo>
                  <a:lnTo>
                    <a:pt x="474" y="937"/>
                  </a:lnTo>
                  <a:lnTo>
                    <a:pt x="484" y="924"/>
                  </a:lnTo>
                  <a:lnTo>
                    <a:pt x="494" y="908"/>
                  </a:lnTo>
                  <a:lnTo>
                    <a:pt x="503" y="892"/>
                  </a:lnTo>
                  <a:lnTo>
                    <a:pt x="513" y="877"/>
                  </a:lnTo>
                  <a:lnTo>
                    <a:pt x="611" y="21"/>
                  </a:lnTo>
                  <a:lnTo>
                    <a:pt x="817" y="4"/>
                  </a:lnTo>
                  <a:lnTo>
                    <a:pt x="826" y="23"/>
                  </a:lnTo>
                  <a:lnTo>
                    <a:pt x="713" y="993"/>
                  </a:lnTo>
                  <a:lnTo>
                    <a:pt x="706" y="1047"/>
                  </a:lnTo>
                  <a:lnTo>
                    <a:pt x="699" y="1097"/>
                  </a:lnTo>
                  <a:lnTo>
                    <a:pt x="690" y="1145"/>
                  </a:lnTo>
                  <a:lnTo>
                    <a:pt x="682" y="1192"/>
                  </a:lnTo>
                  <a:lnTo>
                    <a:pt x="673" y="1235"/>
                  </a:lnTo>
                  <a:lnTo>
                    <a:pt x="662" y="1277"/>
                  </a:lnTo>
                  <a:lnTo>
                    <a:pt x="651" y="1315"/>
                  </a:lnTo>
                  <a:lnTo>
                    <a:pt x="640" y="1351"/>
                  </a:lnTo>
                  <a:lnTo>
                    <a:pt x="629" y="1386"/>
                  </a:lnTo>
                  <a:lnTo>
                    <a:pt x="616" y="1419"/>
                  </a:lnTo>
                  <a:lnTo>
                    <a:pt x="603" y="1450"/>
                  </a:lnTo>
                  <a:lnTo>
                    <a:pt x="590" y="1480"/>
                  </a:lnTo>
                  <a:lnTo>
                    <a:pt x="576" y="1506"/>
                  </a:lnTo>
                  <a:lnTo>
                    <a:pt x="562" y="1532"/>
                  </a:lnTo>
                  <a:lnTo>
                    <a:pt x="546" y="1554"/>
                  </a:lnTo>
                  <a:lnTo>
                    <a:pt x="531" y="1577"/>
                  </a:lnTo>
                  <a:lnTo>
                    <a:pt x="517" y="1596"/>
                  </a:lnTo>
                  <a:lnTo>
                    <a:pt x="502" y="1615"/>
                  </a:lnTo>
                  <a:lnTo>
                    <a:pt x="486" y="1630"/>
                  </a:lnTo>
                  <a:lnTo>
                    <a:pt x="470" y="1646"/>
                  </a:lnTo>
                  <a:lnTo>
                    <a:pt x="453" y="1660"/>
                  </a:lnTo>
                  <a:lnTo>
                    <a:pt x="437" y="1672"/>
                  </a:lnTo>
                  <a:lnTo>
                    <a:pt x="420" y="1682"/>
                  </a:lnTo>
                  <a:lnTo>
                    <a:pt x="403" y="1693"/>
                  </a:lnTo>
                  <a:lnTo>
                    <a:pt x="369" y="1708"/>
                  </a:lnTo>
                  <a:lnTo>
                    <a:pt x="334" y="1719"/>
                  </a:lnTo>
                  <a:lnTo>
                    <a:pt x="299" y="1726"/>
                  </a:lnTo>
                  <a:lnTo>
                    <a:pt x="264" y="1727"/>
                  </a:lnTo>
                  <a:lnTo>
                    <a:pt x="226" y="1726"/>
                  </a:lnTo>
                  <a:lnTo>
                    <a:pt x="193" y="1722"/>
                  </a:lnTo>
                  <a:lnTo>
                    <a:pt x="162" y="1715"/>
                  </a:lnTo>
                  <a:lnTo>
                    <a:pt x="149" y="1712"/>
                  </a:lnTo>
                  <a:lnTo>
                    <a:pt x="135" y="1707"/>
                  </a:lnTo>
                  <a:lnTo>
                    <a:pt x="122" y="1701"/>
                  </a:lnTo>
                  <a:lnTo>
                    <a:pt x="111" y="1694"/>
                  </a:lnTo>
                  <a:lnTo>
                    <a:pt x="100" y="1689"/>
                  </a:lnTo>
                  <a:lnTo>
                    <a:pt x="90" y="1682"/>
                  </a:lnTo>
                  <a:lnTo>
                    <a:pt x="80" y="1674"/>
                  </a:lnTo>
                  <a:lnTo>
                    <a:pt x="72" y="1667"/>
                  </a:lnTo>
                  <a:lnTo>
                    <a:pt x="63" y="1658"/>
                  </a:lnTo>
                  <a:lnTo>
                    <a:pt x="55" y="1649"/>
                  </a:lnTo>
                  <a:lnTo>
                    <a:pt x="50" y="1641"/>
                  </a:lnTo>
                  <a:lnTo>
                    <a:pt x="44" y="1632"/>
                  </a:lnTo>
                  <a:lnTo>
                    <a:pt x="39" y="1623"/>
                  </a:lnTo>
                  <a:lnTo>
                    <a:pt x="34" y="1613"/>
                  </a:lnTo>
                  <a:lnTo>
                    <a:pt x="30" y="1604"/>
                  </a:lnTo>
                  <a:lnTo>
                    <a:pt x="26" y="1594"/>
                  </a:lnTo>
                  <a:lnTo>
                    <a:pt x="22" y="1584"/>
                  </a:lnTo>
                  <a:lnTo>
                    <a:pt x="20" y="1573"/>
                  </a:lnTo>
                  <a:lnTo>
                    <a:pt x="18" y="1563"/>
                  </a:lnTo>
                  <a:lnTo>
                    <a:pt x="16" y="1554"/>
                  </a:lnTo>
                  <a:lnTo>
                    <a:pt x="14" y="1544"/>
                  </a:lnTo>
                  <a:lnTo>
                    <a:pt x="13" y="1533"/>
                  </a:lnTo>
                  <a:lnTo>
                    <a:pt x="12" y="1523"/>
                  </a:lnTo>
                  <a:lnTo>
                    <a:pt x="11" y="1513"/>
                  </a:lnTo>
                  <a:lnTo>
                    <a:pt x="11" y="1504"/>
                  </a:lnTo>
                  <a:lnTo>
                    <a:pt x="11" y="1494"/>
                  </a:lnTo>
                  <a:lnTo>
                    <a:pt x="11" y="1476"/>
                  </a:lnTo>
                  <a:lnTo>
                    <a:pt x="11" y="1468"/>
                  </a:lnTo>
                  <a:lnTo>
                    <a:pt x="12" y="1459"/>
                  </a:lnTo>
                  <a:lnTo>
                    <a:pt x="13" y="1452"/>
                  </a:lnTo>
                  <a:lnTo>
                    <a:pt x="14" y="1443"/>
                  </a:lnTo>
                  <a:lnTo>
                    <a:pt x="16" y="1436"/>
                  </a:lnTo>
                  <a:lnTo>
                    <a:pt x="17" y="1428"/>
                  </a:lnTo>
                  <a:lnTo>
                    <a:pt x="19" y="1421"/>
                  </a:lnTo>
                  <a:lnTo>
                    <a:pt x="21" y="1414"/>
                  </a:lnTo>
                  <a:lnTo>
                    <a:pt x="25" y="1398"/>
                  </a:lnTo>
                  <a:lnTo>
                    <a:pt x="31" y="1384"/>
                  </a:lnTo>
                  <a:lnTo>
                    <a:pt x="37" y="1371"/>
                  </a:lnTo>
                  <a:lnTo>
                    <a:pt x="40" y="1364"/>
                  </a:lnTo>
                  <a:lnTo>
                    <a:pt x="44" y="1358"/>
                  </a:lnTo>
                  <a:lnTo>
                    <a:pt x="48" y="1351"/>
                  </a:lnTo>
                  <a:lnTo>
                    <a:pt x="51" y="1346"/>
                  </a:lnTo>
                  <a:lnTo>
                    <a:pt x="55" y="1343"/>
                  </a:lnTo>
                  <a:lnTo>
                    <a:pt x="60" y="1338"/>
                  </a:lnTo>
                  <a:lnTo>
                    <a:pt x="64" y="1334"/>
                  </a:lnTo>
                  <a:lnTo>
                    <a:pt x="69" y="1331"/>
                  </a:lnTo>
                  <a:lnTo>
                    <a:pt x="78" y="1324"/>
                  </a:lnTo>
                  <a:lnTo>
                    <a:pt x="88" y="1320"/>
                  </a:lnTo>
                  <a:lnTo>
                    <a:pt x="99" y="1317"/>
                  </a:lnTo>
                  <a:lnTo>
                    <a:pt x="110" y="1317"/>
                  </a:lnTo>
                  <a:lnTo>
                    <a:pt x="119" y="1317"/>
                  </a:lnTo>
                  <a:lnTo>
                    <a:pt x="127" y="1319"/>
                  </a:lnTo>
                  <a:lnTo>
                    <a:pt x="135" y="1322"/>
                  </a:lnTo>
                  <a:lnTo>
                    <a:pt x="143" y="1325"/>
                  </a:lnTo>
                  <a:lnTo>
                    <a:pt x="151" y="1331"/>
                  </a:lnTo>
                  <a:lnTo>
                    <a:pt x="159" y="1336"/>
                  </a:lnTo>
                  <a:lnTo>
                    <a:pt x="166" y="1343"/>
                  </a:lnTo>
                  <a:lnTo>
                    <a:pt x="173" y="1351"/>
                  </a:lnTo>
                  <a:lnTo>
                    <a:pt x="180" y="1360"/>
                  </a:lnTo>
                  <a:lnTo>
                    <a:pt x="186" y="1369"/>
                  </a:lnTo>
                  <a:lnTo>
                    <a:pt x="193" y="1379"/>
                  </a:lnTo>
                  <a:lnTo>
                    <a:pt x="199" y="1390"/>
                  </a:lnTo>
                  <a:lnTo>
                    <a:pt x="204" y="1400"/>
                  </a:lnTo>
                  <a:lnTo>
                    <a:pt x="210" y="1410"/>
                  </a:lnTo>
                  <a:lnTo>
                    <a:pt x="216" y="1422"/>
                  </a:lnTo>
                  <a:lnTo>
                    <a:pt x="221" y="1435"/>
                  </a:lnTo>
                  <a:lnTo>
                    <a:pt x="232" y="1459"/>
                  </a:lnTo>
                  <a:lnTo>
                    <a:pt x="241" y="1485"/>
                  </a:lnTo>
                  <a:lnTo>
                    <a:pt x="249" y="1511"/>
                  </a:lnTo>
                  <a:lnTo>
                    <a:pt x="257" y="1539"/>
                  </a:lnTo>
                  <a:lnTo>
                    <a:pt x="265" y="1565"/>
                  </a:lnTo>
                  <a:lnTo>
                    <a:pt x="271" y="1589"/>
                  </a:lnTo>
                  <a:lnTo>
                    <a:pt x="277" y="1611"/>
                  </a:lnTo>
                  <a:lnTo>
                    <a:pt x="281" y="1630"/>
                  </a:lnTo>
                  <a:lnTo>
                    <a:pt x="285" y="1630"/>
                  </a:lnTo>
                  <a:lnTo>
                    <a:pt x="287" y="1629"/>
                  </a:lnTo>
                  <a:lnTo>
                    <a:pt x="291" y="1627"/>
                  </a:lnTo>
                  <a:lnTo>
                    <a:pt x="295" y="1625"/>
                  </a:lnTo>
                  <a:lnTo>
                    <a:pt x="302" y="1620"/>
                  </a:lnTo>
                  <a:lnTo>
                    <a:pt x="310" y="1615"/>
                  </a:lnTo>
                  <a:lnTo>
                    <a:pt x="319" y="1610"/>
                  </a:lnTo>
                  <a:lnTo>
                    <a:pt x="326" y="1603"/>
                  </a:lnTo>
                  <a:lnTo>
                    <a:pt x="333" y="1597"/>
                  </a:lnTo>
                  <a:lnTo>
                    <a:pt x="340" y="1591"/>
                  </a:lnTo>
                  <a:lnTo>
                    <a:pt x="348" y="1580"/>
                  </a:lnTo>
                  <a:lnTo>
                    <a:pt x="356" y="1570"/>
                  </a:lnTo>
                  <a:lnTo>
                    <a:pt x="363" y="1559"/>
                  </a:lnTo>
                  <a:lnTo>
                    <a:pt x="370" y="1549"/>
                  </a:lnTo>
                  <a:lnTo>
                    <a:pt x="373" y="1544"/>
                  </a:lnTo>
                  <a:lnTo>
                    <a:pt x="376" y="1537"/>
                  </a:lnTo>
                  <a:lnTo>
                    <a:pt x="383" y="1523"/>
                  </a:lnTo>
                  <a:lnTo>
                    <a:pt x="391" y="1506"/>
                  </a:lnTo>
                  <a:lnTo>
                    <a:pt x="399" y="1487"/>
                  </a:lnTo>
                  <a:lnTo>
                    <a:pt x="408" y="1466"/>
                  </a:lnTo>
                  <a:lnTo>
                    <a:pt x="415" y="1445"/>
                  </a:lnTo>
                  <a:lnTo>
                    <a:pt x="423" y="1422"/>
                  </a:lnTo>
                  <a:lnTo>
                    <a:pt x="430" y="1398"/>
                  </a:lnTo>
                  <a:lnTo>
                    <a:pt x="437" y="1372"/>
                  </a:lnTo>
                  <a:lnTo>
                    <a:pt x="444" y="1346"/>
                  </a:lnTo>
                  <a:lnTo>
                    <a:pt x="451" y="1319"/>
                  </a:lnTo>
                  <a:lnTo>
                    <a:pt x="458" y="1289"/>
                  </a:lnTo>
                  <a:lnTo>
                    <a:pt x="464" y="1260"/>
                  </a:lnTo>
                  <a:lnTo>
                    <a:pt x="469" y="1227"/>
                  </a:lnTo>
                  <a:lnTo>
                    <a:pt x="481" y="1159"/>
                  </a:lnTo>
                  <a:lnTo>
                    <a:pt x="491" y="108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23200" y="2317680"/>
              <a:ext cx="307800" cy="438120"/>
            </a:xfrm>
            <a:custGeom>
              <a:avLst/>
              <a:gdLst/>
              <a:ahLst/>
              <a:rect l="l" t="t" r="r" b="b"/>
              <a:pathLst>
                <a:path w="854" h="1219">
                  <a:moveTo>
                    <a:pt x="145" y="286"/>
                  </a:moveTo>
                  <a:lnTo>
                    <a:pt x="145" y="270"/>
                  </a:lnTo>
                  <a:lnTo>
                    <a:pt x="144" y="255"/>
                  </a:lnTo>
                  <a:lnTo>
                    <a:pt x="142" y="241"/>
                  </a:lnTo>
                  <a:lnTo>
                    <a:pt x="141" y="229"/>
                  </a:lnTo>
                  <a:lnTo>
                    <a:pt x="140" y="224"/>
                  </a:lnTo>
                  <a:lnTo>
                    <a:pt x="139" y="218"/>
                  </a:lnTo>
                  <a:lnTo>
                    <a:pt x="137" y="213"/>
                  </a:lnTo>
                  <a:lnTo>
                    <a:pt x="136" y="208"/>
                  </a:lnTo>
                  <a:lnTo>
                    <a:pt x="134" y="203"/>
                  </a:lnTo>
                  <a:lnTo>
                    <a:pt x="133" y="199"/>
                  </a:lnTo>
                  <a:lnTo>
                    <a:pt x="131" y="196"/>
                  </a:lnTo>
                  <a:lnTo>
                    <a:pt x="129" y="192"/>
                  </a:lnTo>
                  <a:lnTo>
                    <a:pt x="128" y="189"/>
                  </a:lnTo>
                  <a:lnTo>
                    <a:pt x="125" y="187"/>
                  </a:lnTo>
                  <a:lnTo>
                    <a:pt x="123" y="184"/>
                  </a:lnTo>
                  <a:lnTo>
                    <a:pt x="121" y="182"/>
                  </a:lnTo>
                  <a:lnTo>
                    <a:pt x="116" y="179"/>
                  </a:lnTo>
                  <a:lnTo>
                    <a:pt x="110" y="175"/>
                  </a:lnTo>
                  <a:lnTo>
                    <a:pt x="103" y="172"/>
                  </a:lnTo>
                  <a:lnTo>
                    <a:pt x="96" y="170"/>
                  </a:lnTo>
                  <a:lnTo>
                    <a:pt x="89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69" y="170"/>
                  </a:lnTo>
                  <a:lnTo>
                    <a:pt x="63" y="170"/>
                  </a:lnTo>
                  <a:lnTo>
                    <a:pt x="58" y="172"/>
                  </a:lnTo>
                  <a:lnTo>
                    <a:pt x="46" y="177"/>
                  </a:lnTo>
                  <a:lnTo>
                    <a:pt x="35" y="18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38" y="78"/>
                  </a:lnTo>
                  <a:lnTo>
                    <a:pt x="63" y="63"/>
                  </a:lnTo>
                  <a:lnTo>
                    <a:pt x="90" y="47"/>
                  </a:lnTo>
                  <a:lnTo>
                    <a:pt x="117" y="31"/>
                  </a:lnTo>
                  <a:lnTo>
                    <a:pt x="144" y="17"/>
                  </a:lnTo>
                  <a:lnTo>
                    <a:pt x="168" y="9"/>
                  </a:lnTo>
                  <a:lnTo>
                    <a:pt x="179" y="5"/>
                  </a:lnTo>
                  <a:lnTo>
                    <a:pt x="190" y="2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8" y="2"/>
                  </a:lnTo>
                  <a:lnTo>
                    <a:pt x="246" y="4"/>
                  </a:lnTo>
                  <a:lnTo>
                    <a:pt x="262" y="9"/>
                  </a:lnTo>
                  <a:lnTo>
                    <a:pt x="278" y="17"/>
                  </a:lnTo>
                  <a:lnTo>
                    <a:pt x="291" y="26"/>
                  </a:lnTo>
                  <a:lnTo>
                    <a:pt x="304" y="38"/>
                  </a:lnTo>
                  <a:lnTo>
                    <a:pt x="310" y="43"/>
                  </a:lnTo>
                  <a:lnTo>
                    <a:pt x="316" y="50"/>
                  </a:lnTo>
                  <a:lnTo>
                    <a:pt x="321" y="57"/>
                  </a:lnTo>
                  <a:lnTo>
                    <a:pt x="326" y="66"/>
                  </a:lnTo>
                  <a:lnTo>
                    <a:pt x="331" y="75"/>
                  </a:lnTo>
                  <a:lnTo>
                    <a:pt x="335" y="83"/>
                  </a:lnTo>
                  <a:lnTo>
                    <a:pt x="339" y="92"/>
                  </a:lnTo>
                  <a:lnTo>
                    <a:pt x="343" y="101"/>
                  </a:lnTo>
                  <a:lnTo>
                    <a:pt x="346" y="109"/>
                  </a:lnTo>
                  <a:lnTo>
                    <a:pt x="349" y="120"/>
                  </a:lnTo>
                  <a:lnTo>
                    <a:pt x="353" y="130"/>
                  </a:lnTo>
                  <a:lnTo>
                    <a:pt x="355" y="140"/>
                  </a:lnTo>
                  <a:lnTo>
                    <a:pt x="357" y="151"/>
                  </a:lnTo>
                  <a:lnTo>
                    <a:pt x="360" y="161"/>
                  </a:lnTo>
                  <a:lnTo>
                    <a:pt x="361" y="172"/>
                  </a:lnTo>
                  <a:lnTo>
                    <a:pt x="362" y="184"/>
                  </a:lnTo>
                  <a:lnTo>
                    <a:pt x="363" y="196"/>
                  </a:lnTo>
                  <a:lnTo>
                    <a:pt x="364" y="208"/>
                  </a:lnTo>
                  <a:lnTo>
                    <a:pt x="365" y="220"/>
                  </a:lnTo>
                  <a:lnTo>
                    <a:pt x="365" y="232"/>
                  </a:lnTo>
                  <a:lnTo>
                    <a:pt x="365" y="246"/>
                  </a:lnTo>
                  <a:lnTo>
                    <a:pt x="364" y="262"/>
                  </a:lnTo>
                  <a:lnTo>
                    <a:pt x="363" y="279"/>
                  </a:lnTo>
                  <a:lnTo>
                    <a:pt x="362" y="296"/>
                  </a:lnTo>
                  <a:lnTo>
                    <a:pt x="359" y="333"/>
                  </a:lnTo>
                  <a:lnTo>
                    <a:pt x="354" y="373"/>
                  </a:lnTo>
                  <a:lnTo>
                    <a:pt x="349" y="411"/>
                  </a:lnTo>
                  <a:lnTo>
                    <a:pt x="345" y="442"/>
                  </a:lnTo>
                  <a:lnTo>
                    <a:pt x="344" y="458"/>
                  </a:lnTo>
                  <a:lnTo>
                    <a:pt x="344" y="470"/>
                  </a:lnTo>
                  <a:lnTo>
                    <a:pt x="343" y="480"/>
                  </a:lnTo>
                  <a:lnTo>
                    <a:pt x="343" y="490"/>
                  </a:lnTo>
                  <a:lnTo>
                    <a:pt x="343" y="508"/>
                  </a:lnTo>
                  <a:lnTo>
                    <a:pt x="344" y="525"/>
                  </a:lnTo>
                  <a:lnTo>
                    <a:pt x="344" y="539"/>
                  </a:lnTo>
                  <a:lnTo>
                    <a:pt x="346" y="553"/>
                  </a:lnTo>
                  <a:lnTo>
                    <a:pt x="348" y="560"/>
                  </a:lnTo>
                  <a:lnTo>
                    <a:pt x="349" y="565"/>
                  </a:lnTo>
                  <a:lnTo>
                    <a:pt x="349" y="570"/>
                  </a:lnTo>
                  <a:lnTo>
                    <a:pt x="351" y="575"/>
                  </a:lnTo>
                  <a:lnTo>
                    <a:pt x="352" y="579"/>
                  </a:lnTo>
                  <a:lnTo>
                    <a:pt x="354" y="584"/>
                  </a:lnTo>
                  <a:lnTo>
                    <a:pt x="355" y="587"/>
                  </a:lnTo>
                  <a:lnTo>
                    <a:pt x="357" y="591"/>
                  </a:lnTo>
                  <a:lnTo>
                    <a:pt x="359" y="594"/>
                  </a:lnTo>
                  <a:lnTo>
                    <a:pt x="360" y="598"/>
                  </a:lnTo>
                  <a:lnTo>
                    <a:pt x="363" y="601"/>
                  </a:lnTo>
                  <a:lnTo>
                    <a:pt x="365" y="603"/>
                  </a:lnTo>
                  <a:lnTo>
                    <a:pt x="367" y="607"/>
                  </a:lnTo>
                  <a:lnTo>
                    <a:pt x="370" y="608"/>
                  </a:lnTo>
                  <a:lnTo>
                    <a:pt x="372" y="610"/>
                  </a:lnTo>
                  <a:lnTo>
                    <a:pt x="375" y="612"/>
                  </a:lnTo>
                  <a:lnTo>
                    <a:pt x="380" y="615"/>
                  </a:lnTo>
                  <a:lnTo>
                    <a:pt x="386" y="617"/>
                  </a:lnTo>
                  <a:lnTo>
                    <a:pt x="393" y="619"/>
                  </a:lnTo>
                  <a:lnTo>
                    <a:pt x="399" y="619"/>
                  </a:lnTo>
                  <a:lnTo>
                    <a:pt x="406" y="619"/>
                  </a:lnTo>
                  <a:lnTo>
                    <a:pt x="412" y="617"/>
                  </a:lnTo>
                  <a:lnTo>
                    <a:pt x="419" y="617"/>
                  </a:lnTo>
                  <a:lnTo>
                    <a:pt x="426" y="615"/>
                  </a:lnTo>
                  <a:lnTo>
                    <a:pt x="440" y="610"/>
                  </a:lnTo>
                  <a:lnTo>
                    <a:pt x="454" y="603"/>
                  </a:lnTo>
                  <a:lnTo>
                    <a:pt x="462" y="600"/>
                  </a:lnTo>
                  <a:lnTo>
                    <a:pt x="471" y="594"/>
                  </a:lnTo>
                  <a:lnTo>
                    <a:pt x="479" y="587"/>
                  </a:lnTo>
                  <a:lnTo>
                    <a:pt x="488" y="581"/>
                  </a:lnTo>
                  <a:lnTo>
                    <a:pt x="507" y="563"/>
                  </a:lnTo>
                  <a:lnTo>
                    <a:pt x="527" y="542"/>
                  </a:lnTo>
                  <a:lnTo>
                    <a:pt x="592" y="21"/>
                  </a:lnTo>
                  <a:lnTo>
                    <a:pt x="800" y="4"/>
                  </a:lnTo>
                  <a:lnTo>
                    <a:pt x="807" y="21"/>
                  </a:lnTo>
                  <a:lnTo>
                    <a:pt x="715" y="754"/>
                  </a:lnTo>
                  <a:lnTo>
                    <a:pt x="713" y="773"/>
                  </a:lnTo>
                  <a:lnTo>
                    <a:pt x="710" y="795"/>
                  </a:lnTo>
                  <a:lnTo>
                    <a:pt x="708" y="818"/>
                  </a:lnTo>
                  <a:lnTo>
                    <a:pt x="705" y="846"/>
                  </a:lnTo>
                  <a:lnTo>
                    <a:pt x="702" y="873"/>
                  </a:lnTo>
                  <a:lnTo>
                    <a:pt x="701" y="896"/>
                  </a:lnTo>
                  <a:lnTo>
                    <a:pt x="699" y="915"/>
                  </a:lnTo>
                  <a:lnTo>
                    <a:pt x="699" y="924"/>
                  </a:lnTo>
                  <a:lnTo>
                    <a:pt x="699" y="930"/>
                  </a:lnTo>
                  <a:lnTo>
                    <a:pt x="699" y="948"/>
                  </a:lnTo>
                  <a:lnTo>
                    <a:pt x="700" y="963"/>
                  </a:lnTo>
                  <a:lnTo>
                    <a:pt x="702" y="977"/>
                  </a:lnTo>
                  <a:lnTo>
                    <a:pt x="702" y="982"/>
                  </a:lnTo>
                  <a:lnTo>
                    <a:pt x="703" y="989"/>
                  </a:lnTo>
                  <a:lnTo>
                    <a:pt x="704" y="995"/>
                  </a:lnTo>
                  <a:lnTo>
                    <a:pt x="705" y="1000"/>
                  </a:lnTo>
                  <a:lnTo>
                    <a:pt x="707" y="1005"/>
                  </a:lnTo>
                  <a:lnTo>
                    <a:pt x="708" y="1010"/>
                  </a:lnTo>
                  <a:lnTo>
                    <a:pt x="709" y="1015"/>
                  </a:lnTo>
                  <a:lnTo>
                    <a:pt x="711" y="1019"/>
                  </a:lnTo>
                  <a:lnTo>
                    <a:pt x="713" y="1022"/>
                  </a:lnTo>
                  <a:lnTo>
                    <a:pt x="715" y="1026"/>
                  </a:lnTo>
                  <a:lnTo>
                    <a:pt x="718" y="1029"/>
                  </a:lnTo>
                  <a:lnTo>
                    <a:pt x="719" y="1031"/>
                  </a:lnTo>
                  <a:lnTo>
                    <a:pt x="722" y="1034"/>
                  </a:lnTo>
                  <a:lnTo>
                    <a:pt x="725" y="1036"/>
                  </a:lnTo>
                  <a:lnTo>
                    <a:pt x="731" y="1040"/>
                  </a:lnTo>
                  <a:lnTo>
                    <a:pt x="738" y="1043"/>
                  </a:lnTo>
                  <a:lnTo>
                    <a:pt x="746" y="1047"/>
                  </a:lnTo>
                  <a:lnTo>
                    <a:pt x="754" y="1048"/>
                  </a:lnTo>
                  <a:lnTo>
                    <a:pt x="763" y="1050"/>
                  </a:lnTo>
                  <a:lnTo>
                    <a:pt x="773" y="1050"/>
                  </a:lnTo>
                  <a:lnTo>
                    <a:pt x="778" y="1050"/>
                  </a:lnTo>
                  <a:lnTo>
                    <a:pt x="783" y="1050"/>
                  </a:lnTo>
                  <a:lnTo>
                    <a:pt x="789" y="1048"/>
                  </a:lnTo>
                  <a:lnTo>
                    <a:pt x="794" y="1047"/>
                  </a:lnTo>
                  <a:lnTo>
                    <a:pt x="806" y="1043"/>
                  </a:lnTo>
                  <a:lnTo>
                    <a:pt x="818" y="1038"/>
                  </a:lnTo>
                  <a:lnTo>
                    <a:pt x="839" y="1026"/>
                  </a:lnTo>
                  <a:lnTo>
                    <a:pt x="846" y="1021"/>
                  </a:lnTo>
                  <a:lnTo>
                    <a:pt x="850" y="1019"/>
                  </a:lnTo>
                  <a:lnTo>
                    <a:pt x="853" y="1015"/>
                  </a:lnTo>
                  <a:lnTo>
                    <a:pt x="839" y="1123"/>
                  </a:lnTo>
                  <a:lnTo>
                    <a:pt x="736" y="1194"/>
                  </a:lnTo>
                  <a:lnTo>
                    <a:pt x="727" y="1199"/>
                  </a:lnTo>
                  <a:lnTo>
                    <a:pt x="717" y="1204"/>
                  </a:lnTo>
                  <a:lnTo>
                    <a:pt x="706" y="1208"/>
                  </a:lnTo>
                  <a:lnTo>
                    <a:pt x="695" y="1211"/>
                  </a:lnTo>
                  <a:lnTo>
                    <a:pt x="684" y="1215"/>
                  </a:lnTo>
                  <a:lnTo>
                    <a:pt x="672" y="1216"/>
                  </a:lnTo>
                  <a:lnTo>
                    <a:pt x="660" y="1218"/>
                  </a:lnTo>
                  <a:lnTo>
                    <a:pt x="647" y="1218"/>
                  </a:lnTo>
                  <a:lnTo>
                    <a:pt x="630" y="1216"/>
                  </a:lnTo>
                  <a:lnTo>
                    <a:pt x="614" y="1215"/>
                  </a:lnTo>
                  <a:lnTo>
                    <a:pt x="598" y="1209"/>
                  </a:lnTo>
                  <a:lnTo>
                    <a:pt x="583" y="1201"/>
                  </a:lnTo>
                  <a:lnTo>
                    <a:pt x="569" y="1192"/>
                  </a:lnTo>
                  <a:lnTo>
                    <a:pt x="555" y="1180"/>
                  </a:lnTo>
                  <a:lnTo>
                    <a:pt x="542" y="1166"/>
                  </a:lnTo>
                  <a:lnTo>
                    <a:pt x="531" y="1150"/>
                  </a:lnTo>
                  <a:lnTo>
                    <a:pt x="525" y="1142"/>
                  </a:lnTo>
                  <a:lnTo>
                    <a:pt x="520" y="1133"/>
                  </a:lnTo>
                  <a:lnTo>
                    <a:pt x="515" y="1123"/>
                  </a:lnTo>
                  <a:lnTo>
                    <a:pt x="510" y="1114"/>
                  </a:lnTo>
                  <a:lnTo>
                    <a:pt x="507" y="1104"/>
                  </a:lnTo>
                  <a:lnTo>
                    <a:pt x="503" y="1093"/>
                  </a:lnTo>
                  <a:lnTo>
                    <a:pt x="499" y="1083"/>
                  </a:lnTo>
                  <a:lnTo>
                    <a:pt x="497" y="1071"/>
                  </a:lnTo>
                  <a:lnTo>
                    <a:pt x="493" y="1060"/>
                  </a:lnTo>
                  <a:lnTo>
                    <a:pt x="492" y="1048"/>
                  </a:lnTo>
                  <a:lnTo>
                    <a:pt x="489" y="1036"/>
                  </a:lnTo>
                  <a:lnTo>
                    <a:pt x="487" y="1024"/>
                  </a:lnTo>
                  <a:lnTo>
                    <a:pt x="487" y="1010"/>
                  </a:lnTo>
                  <a:lnTo>
                    <a:pt x="486" y="998"/>
                  </a:lnTo>
                  <a:lnTo>
                    <a:pt x="485" y="984"/>
                  </a:lnTo>
                  <a:lnTo>
                    <a:pt x="485" y="970"/>
                  </a:lnTo>
                  <a:lnTo>
                    <a:pt x="485" y="917"/>
                  </a:lnTo>
                  <a:lnTo>
                    <a:pt x="486" y="894"/>
                  </a:lnTo>
                  <a:lnTo>
                    <a:pt x="486" y="885"/>
                  </a:lnTo>
                  <a:lnTo>
                    <a:pt x="487" y="877"/>
                  </a:lnTo>
                  <a:lnTo>
                    <a:pt x="487" y="868"/>
                  </a:lnTo>
                  <a:lnTo>
                    <a:pt x="487" y="859"/>
                  </a:lnTo>
                  <a:lnTo>
                    <a:pt x="490" y="839"/>
                  </a:lnTo>
                  <a:lnTo>
                    <a:pt x="493" y="813"/>
                  </a:lnTo>
                  <a:lnTo>
                    <a:pt x="496" y="783"/>
                  </a:lnTo>
                  <a:lnTo>
                    <a:pt x="513" y="658"/>
                  </a:lnTo>
                  <a:lnTo>
                    <a:pt x="486" y="688"/>
                  </a:lnTo>
                  <a:lnTo>
                    <a:pt x="457" y="717"/>
                  </a:lnTo>
                  <a:lnTo>
                    <a:pt x="428" y="743"/>
                  </a:lnTo>
                  <a:lnTo>
                    <a:pt x="398" y="768"/>
                  </a:lnTo>
                  <a:lnTo>
                    <a:pt x="382" y="780"/>
                  </a:lnTo>
                  <a:lnTo>
                    <a:pt x="366" y="788"/>
                  </a:lnTo>
                  <a:lnTo>
                    <a:pt x="349" y="797"/>
                  </a:lnTo>
                  <a:lnTo>
                    <a:pt x="333" y="804"/>
                  </a:lnTo>
                  <a:lnTo>
                    <a:pt x="315" y="809"/>
                  </a:lnTo>
                  <a:lnTo>
                    <a:pt x="297" y="813"/>
                  </a:lnTo>
                  <a:lnTo>
                    <a:pt x="278" y="816"/>
                  </a:lnTo>
                  <a:lnTo>
                    <a:pt x="260" y="816"/>
                  </a:lnTo>
                  <a:lnTo>
                    <a:pt x="243" y="814"/>
                  </a:lnTo>
                  <a:lnTo>
                    <a:pt x="227" y="813"/>
                  </a:lnTo>
                  <a:lnTo>
                    <a:pt x="211" y="807"/>
                  </a:lnTo>
                  <a:lnTo>
                    <a:pt x="198" y="799"/>
                  </a:lnTo>
                  <a:lnTo>
                    <a:pt x="184" y="790"/>
                  </a:lnTo>
                  <a:lnTo>
                    <a:pt x="178" y="785"/>
                  </a:lnTo>
                  <a:lnTo>
                    <a:pt x="173" y="778"/>
                  </a:lnTo>
                  <a:lnTo>
                    <a:pt x="167" y="771"/>
                  </a:lnTo>
                  <a:lnTo>
                    <a:pt x="162" y="764"/>
                  </a:lnTo>
                  <a:lnTo>
                    <a:pt x="157" y="757"/>
                  </a:lnTo>
                  <a:lnTo>
                    <a:pt x="153" y="749"/>
                  </a:lnTo>
                  <a:lnTo>
                    <a:pt x="149" y="740"/>
                  </a:lnTo>
                  <a:lnTo>
                    <a:pt x="145" y="731"/>
                  </a:lnTo>
                  <a:lnTo>
                    <a:pt x="141" y="723"/>
                  </a:lnTo>
                  <a:lnTo>
                    <a:pt x="138" y="712"/>
                  </a:lnTo>
                  <a:lnTo>
                    <a:pt x="135" y="702"/>
                  </a:lnTo>
                  <a:lnTo>
                    <a:pt x="132" y="691"/>
                  </a:lnTo>
                  <a:lnTo>
                    <a:pt x="129" y="681"/>
                  </a:lnTo>
                  <a:lnTo>
                    <a:pt x="127" y="669"/>
                  </a:lnTo>
                  <a:lnTo>
                    <a:pt x="125" y="657"/>
                  </a:lnTo>
                  <a:lnTo>
                    <a:pt x="123" y="645"/>
                  </a:lnTo>
                  <a:lnTo>
                    <a:pt x="121" y="619"/>
                  </a:lnTo>
                  <a:lnTo>
                    <a:pt x="119" y="591"/>
                  </a:lnTo>
                  <a:lnTo>
                    <a:pt x="118" y="561"/>
                  </a:lnTo>
                  <a:lnTo>
                    <a:pt x="118" y="544"/>
                  </a:lnTo>
                  <a:lnTo>
                    <a:pt x="119" y="529"/>
                  </a:lnTo>
                  <a:lnTo>
                    <a:pt x="120" y="509"/>
                  </a:lnTo>
                  <a:lnTo>
                    <a:pt x="122" y="492"/>
                  </a:lnTo>
                  <a:lnTo>
                    <a:pt x="123" y="471"/>
                  </a:lnTo>
                  <a:lnTo>
                    <a:pt x="126" y="452"/>
                  </a:lnTo>
                  <a:lnTo>
                    <a:pt x="129" y="432"/>
                  </a:lnTo>
                  <a:lnTo>
                    <a:pt x="132" y="411"/>
                  </a:lnTo>
                  <a:lnTo>
                    <a:pt x="138" y="369"/>
                  </a:lnTo>
                  <a:lnTo>
                    <a:pt x="141" y="336"/>
                  </a:lnTo>
                  <a:lnTo>
                    <a:pt x="143" y="321"/>
                  </a:lnTo>
                  <a:lnTo>
                    <a:pt x="144" y="307"/>
                  </a:lnTo>
                  <a:lnTo>
                    <a:pt x="145" y="29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21640" y="2313000"/>
              <a:ext cx="295200" cy="449280"/>
            </a:xfrm>
            <a:custGeom>
              <a:avLst/>
              <a:gdLst/>
              <a:ahLst/>
              <a:rect l="l" t="t" r="r" b="b"/>
              <a:pathLst>
                <a:path w="820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8"/>
                  </a:lnTo>
                  <a:lnTo>
                    <a:pt x="365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2"/>
                  </a:lnTo>
                  <a:lnTo>
                    <a:pt x="293" y="1230"/>
                  </a:lnTo>
                  <a:lnTo>
                    <a:pt x="286" y="1234"/>
                  </a:lnTo>
                  <a:lnTo>
                    <a:pt x="278" y="1239"/>
                  </a:lnTo>
                  <a:lnTo>
                    <a:pt x="270" y="1241"/>
                  </a:lnTo>
                  <a:lnTo>
                    <a:pt x="261" y="1244"/>
                  </a:lnTo>
                  <a:lnTo>
                    <a:pt x="253" y="1246"/>
                  </a:lnTo>
                  <a:lnTo>
                    <a:pt x="244" y="1246"/>
                  </a:lnTo>
                  <a:lnTo>
                    <a:pt x="227" y="1248"/>
                  </a:lnTo>
                  <a:lnTo>
                    <a:pt x="199" y="1246"/>
                  </a:lnTo>
                  <a:lnTo>
                    <a:pt x="173" y="1241"/>
                  </a:lnTo>
                  <a:lnTo>
                    <a:pt x="149" y="1230"/>
                  </a:lnTo>
                  <a:lnTo>
                    <a:pt x="127" y="1216"/>
                  </a:lnTo>
                  <a:lnTo>
                    <a:pt x="117" y="1208"/>
                  </a:lnTo>
                  <a:lnTo>
                    <a:pt x="107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6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7" y="1000"/>
                  </a:lnTo>
                  <a:lnTo>
                    <a:pt x="14" y="981"/>
                  </a:lnTo>
                  <a:lnTo>
                    <a:pt x="7" y="938"/>
                  </a:lnTo>
                  <a:lnTo>
                    <a:pt x="3" y="891"/>
                  </a:lnTo>
                  <a:lnTo>
                    <a:pt x="0" y="842"/>
                  </a:lnTo>
                  <a:lnTo>
                    <a:pt x="0" y="790"/>
                  </a:lnTo>
                  <a:lnTo>
                    <a:pt x="0" y="750"/>
                  </a:lnTo>
                  <a:lnTo>
                    <a:pt x="1" y="711"/>
                  </a:lnTo>
                  <a:lnTo>
                    <a:pt x="4" y="671"/>
                  </a:lnTo>
                  <a:lnTo>
                    <a:pt x="8" y="633"/>
                  </a:lnTo>
                  <a:lnTo>
                    <a:pt x="12" y="595"/>
                  </a:lnTo>
                  <a:lnTo>
                    <a:pt x="18" y="556"/>
                  </a:lnTo>
                  <a:lnTo>
                    <a:pt x="24" y="520"/>
                  </a:lnTo>
                  <a:lnTo>
                    <a:pt x="32" y="484"/>
                  </a:lnTo>
                  <a:lnTo>
                    <a:pt x="40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90"/>
                  </a:lnTo>
                  <a:lnTo>
                    <a:pt x="104" y="260"/>
                  </a:lnTo>
                  <a:lnTo>
                    <a:pt x="116" y="232"/>
                  </a:lnTo>
                  <a:lnTo>
                    <a:pt x="130" y="206"/>
                  </a:lnTo>
                  <a:lnTo>
                    <a:pt x="144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0" y="49"/>
                  </a:lnTo>
                  <a:lnTo>
                    <a:pt x="278" y="35"/>
                  </a:lnTo>
                  <a:lnTo>
                    <a:pt x="297" y="25"/>
                  </a:lnTo>
                  <a:lnTo>
                    <a:pt x="316" y="16"/>
                  </a:lnTo>
                  <a:lnTo>
                    <a:pt x="335" y="9"/>
                  </a:lnTo>
                  <a:lnTo>
                    <a:pt x="354" y="4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49" y="7"/>
                  </a:lnTo>
                  <a:lnTo>
                    <a:pt x="461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5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2" y="73"/>
                  </a:lnTo>
                  <a:lnTo>
                    <a:pt x="560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3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1"/>
                  </a:lnTo>
                  <a:lnTo>
                    <a:pt x="664" y="948"/>
                  </a:lnTo>
                  <a:lnTo>
                    <a:pt x="664" y="964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8" y="1005"/>
                  </a:lnTo>
                  <a:lnTo>
                    <a:pt x="669" y="1010"/>
                  </a:lnTo>
                  <a:lnTo>
                    <a:pt x="671" y="1016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5" y="1031"/>
                  </a:lnTo>
                  <a:lnTo>
                    <a:pt x="677" y="1035"/>
                  </a:lnTo>
                  <a:lnTo>
                    <a:pt x="679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4"/>
                  </a:lnTo>
                  <a:lnTo>
                    <a:pt x="697" y="1057"/>
                  </a:lnTo>
                  <a:lnTo>
                    <a:pt x="704" y="1061"/>
                  </a:lnTo>
                  <a:lnTo>
                    <a:pt x="712" y="1064"/>
                  </a:lnTo>
                  <a:lnTo>
                    <a:pt x="720" y="1066"/>
                  </a:lnTo>
                  <a:lnTo>
                    <a:pt x="729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59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3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7" y="1234"/>
                  </a:lnTo>
                  <a:lnTo>
                    <a:pt x="625" y="1236"/>
                  </a:lnTo>
                  <a:lnTo>
                    <a:pt x="613" y="1236"/>
                  </a:lnTo>
                  <a:lnTo>
                    <a:pt x="596" y="1236"/>
                  </a:lnTo>
                  <a:lnTo>
                    <a:pt x="581" y="1232"/>
                  </a:lnTo>
                  <a:lnTo>
                    <a:pt x="567" y="1229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7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0" y="1099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2"/>
                  </a:lnTo>
                  <a:lnTo>
                    <a:pt x="524" y="245"/>
                  </a:lnTo>
                  <a:lnTo>
                    <a:pt x="523" y="236"/>
                  </a:lnTo>
                  <a:lnTo>
                    <a:pt x="521" y="227"/>
                  </a:lnTo>
                  <a:lnTo>
                    <a:pt x="519" y="219"/>
                  </a:lnTo>
                  <a:lnTo>
                    <a:pt x="519" y="212"/>
                  </a:lnTo>
                  <a:lnTo>
                    <a:pt x="516" y="203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69" y="129"/>
                  </a:lnTo>
                  <a:lnTo>
                    <a:pt x="464" y="127"/>
                  </a:lnTo>
                  <a:lnTo>
                    <a:pt x="458" y="123"/>
                  </a:lnTo>
                  <a:lnTo>
                    <a:pt x="453" y="122"/>
                  </a:lnTo>
                  <a:lnTo>
                    <a:pt x="447" y="122"/>
                  </a:lnTo>
                  <a:lnTo>
                    <a:pt x="440" y="120"/>
                  </a:lnTo>
                  <a:lnTo>
                    <a:pt x="433" y="120"/>
                  </a:lnTo>
                  <a:lnTo>
                    <a:pt x="422" y="122"/>
                  </a:lnTo>
                  <a:lnTo>
                    <a:pt x="412" y="123"/>
                  </a:lnTo>
                  <a:lnTo>
                    <a:pt x="402" y="129"/>
                  </a:lnTo>
                  <a:lnTo>
                    <a:pt x="392" y="134"/>
                  </a:lnTo>
                  <a:lnTo>
                    <a:pt x="382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4" y="177"/>
                  </a:lnTo>
                  <a:lnTo>
                    <a:pt x="346" y="191"/>
                  </a:lnTo>
                  <a:lnTo>
                    <a:pt x="337" y="206"/>
                  </a:lnTo>
                  <a:lnTo>
                    <a:pt x="329" y="224"/>
                  </a:lnTo>
                  <a:lnTo>
                    <a:pt x="320" y="243"/>
                  </a:lnTo>
                  <a:lnTo>
                    <a:pt x="313" y="262"/>
                  </a:lnTo>
                  <a:lnTo>
                    <a:pt x="305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4"/>
                  </a:lnTo>
                  <a:lnTo>
                    <a:pt x="248" y="543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2" y="795"/>
                  </a:lnTo>
                  <a:lnTo>
                    <a:pt x="232" y="823"/>
                  </a:lnTo>
                  <a:lnTo>
                    <a:pt x="234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39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8"/>
                  </a:lnTo>
                  <a:lnTo>
                    <a:pt x="256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7" y="1022"/>
                  </a:lnTo>
                  <a:lnTo>
                    <a:pt x="271" y="1028"/>
                  </a:lnTo>
                  <a:lnTo>
                    <a:pt x="276" y="1035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4"/>
                  </a:lnTo>
                  <a:lnTo>
                    <a:pt x="301" y="1057"/>
                  </a:lnTo>
                  <a:lnTo>
                    <a:pt x="307" y="1061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7" y="1066"/>
                  </a:lnTo>
                  <a:lnTo>
                    <a:pt x="334" y="1066"/>
                  </a:lnTo>
                  <a:lnTo>
                    <a:pt x="342" y="1066"/>
                  </a:lnTo>
                  <a:lnTo>
                    <a:pt x="349" y="1064"/>
                  </a:lnTo>
                  <a:lnTo>
                    <a:pt x="357" y="1061"/>
                  </a:lnTo>
                  <a:lnTo>
                    <a:pt x="364" y="1057"/>
                  </a:lnTo>
                  <a:lnTo>
                    <a:pt x="371" y="1054"/>
                  </a:lnTo>
                  <a:lnTo>
                    <a:pt x="378" y="1047"/>
                  </a:lnTo>
                  <a:lnTo>
                    <a:pt x="386" y="1041"/>
                  </a:lnTo>
                  <a:lnTo>
                    <a:pt x="392" y="1033"/>
                  </a:lnTo>
                  <a:lnTo>
                    <a:pt x="406" y="1016"/>
                  </a:lnTo>
                  <a:lnTo>
                    <a:pt x="420" y="996"/>
                  </a:lnTo>
                  <a:lnTo>
                    <a:pt x="432" y="976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96320" y="2073240"/>
              <a:ext cx="314280" cy="689040"/>
            </a:xfrm>
            <a:custGeom>
              <a:avLst/>
              <a:gdLst/>
              <a:ahLst/>
              <a:rect l="l" t="t" r="r" b="b"/>
              <a:pathLst>
                <a:path w="875" h="1912">
                  <a:moveTo>
                    <a:pt x="499" y="1684"/>
                  </a:moveTo>
                  <a:lnTo>
                    <a:pt x="495" y="1684"/>
                  </a:lnTo>
                  <a:lnTo>
                    <a:pt x="461" y="1739"/>
                  </a:lnTo>
                  <a:lnTo>
                    <a:pt x="445" y="1763"/>
                  </a:lnTo>
                  <a:lnTo>
                    <a:pt x="428" y="1786"/>
                  </a:lnTo>
                  <a:lnTo>
                    <a:pt x="412" y="1805"/>
                  </a:lnTo>
                  <a:lnTo>
                    <a:pt x="396" y="1824"/>
                  </a:lnTo>
                  <a:lnTo>
                    <a:pt x="380" y="1841"/>
                  </a:lnTo>
                  <a:lnTo>
                    <a:pt x="365" y="1855"/>
                  </a:lnTo>
                  <a:lnTo>
                    <a:pt x="349" y="1867"/>
                  </a:lnTo>
                  <a:lnTo>
                    <a:pt x="333" y="1879"/>
                  </a:lnTo>
                  <a:lnTo>
                    <a:pt x="316" y="1888"/>
                  </a:lnTo>
                  <a:lnTo>
                    <a:pt x="298" y="1897"/>
                  </a:lnTo>
                  <a:lnTo>
                    <a:pt x="280" y="1902"/>
                  </a:lnTo>
                  <a:lnTo>
                    <a:pt x="262" y="1907"/>
                  </a:lnTo>
                  <a:lnTo>
                    <a:pt x="242" y="1909"/>
                  </a:lnTo>
                  <a:lnTo>
                    <a:pt x="222" y="1911"/>
                  </a:lnTo>
                  <a:lnTo>
                    <a:pt x="204" y="1909"/>
                  </a:lnTo>
                  <a:lnTo>
                    <a:pt x="188" y="1905"/>
                  </a:lnTo>
                  <a:lnTo>
                    <a:pt x="172" y="1900"/>
                  </a:lnTo>
                  <a:lnTo>
                    <a:pt x="158" y="1893"/>
                  </a:lnTo>
                  <a:lnTo>
                    <a:pt x="144" y="1883"/>
                  </a:lnTo>
                  <a:lnTo>
                    <a:pt x="138" y="1876"/>
                  </a:lnTo>
                  <a:lnTo>
                    <a:pt x="132" y="1869"/>
                  </a:lnTo>
                  <a:lnTo>
                    <a:pt x="126" y="1862"/>
                  </a:lnTo>
                  <a:lnTo>
                    <a:pt x="120" y="1855"/>
                  </a:lnTo>
                  <a:lnTo>
                    <a:pt x="115" y="1847"/>
                  </a:lnTo>
                  <a:lnTo>
                    <a:pt x="110" y="1838"/>
                  </a:lnTo>
                  <a:lnTo>
                    <a:pt x="101" y="1819"/>
                  </a:lnTo>
                  <a:lnTo>
                    <a:pt x="97" y="1810"/>
                  </a:lnTo>
                  <a:lnTo>
                    <a:pt x="93" y="1800"/>
                  </a:lnTo>
                  <a:lnTo>
                    <a:pt x="90" y="1789"/>
                  </a:lnTo>
                  <a:lnTo>
                    <a:pt x="87" y="1779"/>
                  </a:lnTo>
                  <a:lnTo>
                    <a:pt x="83" y="1769"/>
                  </a:lnTo>
                  <a:lnTo>
                    <a:pt x="81" y="1758"/>
                  </a:lnTo>
                  <a:lnTo>
                    <a:pt x="79" y="1746"/>
                  </a:lnTo>
                  <a:lnTo>
                    <a:pt x="76" y="1734"/>
                  </a:lnTo>
                  <a:lnTo>
                    <a:pt x="75" y="1724"/>
                  </a:lnTo>
                  <a:lnTo>
                    <a:pt x="74" y="1711"/>
                  </a:lnTo>
                  <a:lnTo>
                    <a:pt x="73" y="1699"/>
                  </a:lnTo>
                  <a:lnTo>
                    <a:pt x="72" y="1687"/>
                  </a:lnTo>
                  <a:lnTo>
                    <a:pt x="71" y="1661"/>
                  </a:lnTo>
                  <a:lnTo>
                    <a:pt x="71" y="1642"/>
                  </a:lnTo>
                  <a:lnTo>
                    <a:pt x="72" y="1623"/>
                  </a:lnTo>
                  <a:lnTo>
                    <a:pt x="73" y="1604"/>
                  </a:lnTo>
                  <a:lnTo>
                    <a:pt x="74" y="1585"/>
                  </a:lnTo>
                  <a:lnTo>
                    <a:pt x="75" y="1575"/>
                  </a:lnTo>
                  <a:lnTo>
                    <a:pt x="75" y="1564"/>
                  </a:lnTo>
                  <a:lnTo>
                    <a:pt x="77" y="1540"/>
                  </a:lnTo>
                  <a:lnTo>
                    <a:pt x="82" y="1510"/>
                  </a:lnTo>
                  <a:lnTo>
                    <a:pt x="86" y="1478"/>
                  </a:lnTo>
                  <a:lnTo>
                    <a:pt x="135" y="1141"/>
                  </a:lnTo>
                  <a:lnTo>
                    <a:pt x="145" y="1050"/>
                  </a:lnTo>
                  <a:lnTo>
                    <a:pt x="148" y="1024"/>
                  </a:lnTo>
                  <a:lnTo>
                    <a:pt x="150" y="999"/>
                  </a:lnTo>
                  <a:lnTo>
                    <a:pt x="151" y="980"/>
                  </a:lnTo>
                  <a:lnTo>
                    <a:pt x="152" y="972"/>
                  </a:lnTo>
                  <a:lnTo>
                    <a:pt x="152" y="965"/>
                  </a:lnTo>
                  <a:lnTo>
                    <a:pt x="152" y="949"/>
                  </a:lnTo>
                  <a:lnTo>
                    <a:pt x="151" y="935"/>
                  </a:lnTo>
                  <a:lnTo>
                    <a:pt x="149" y="921"/>
                  </a:lnTo>
                  <a:lnTo>
                    <a:pt x="148" y="909"/>
                  </a:lnTo>
                  <a:lnTo>
                    <a:pt x="147" y="904"/>
                  </a:lnTo>
                  <a:lnTo>
                    <a:pt x="146" y="899"/>
                  </a:lnTo>
                  <a:lnTo>
                    <a:pt x="144" y="894"/>
                  </a:lnTo>
                  <a:lnTo>
                    <a:pt x="143" y="889"/>
                  </a:lnTo>
                  <a:lnTo>
                    <a:pt x="142" y="883"/>
                  </a:lnTo>
                  <a:lnTo>
                    <a:pt x="140" y="880"/>
                  </a:lnTo>
                  <a:lnTo>
                    <a:pt x="138" y="876"/>
                  </a:lnTo>
                  <a:lnTo>
                    <a:pt x="137" y="873"/>
                  </a:lnTo>
                  <a:lnTo>
                    <a:pt x="135" y="869"/>
                  </a:lnTo>
                  <a:lnTo>
                    <a:pt x="132" y="866"/>
                  </a:lnTo>
                  <a:lnTo>
                    <a:pt x="131" y="863"/>
                  </a:lnTo>
                  <a:lnTo>
                    <a:pt x="128" y="861"/>
                  </a:lnTo>
                  <a:lnTo>
                    <a:pt x="125" y="857"/>
                  </a:lnTo>
                  <a:lnTo>
                    <a:pt x="122" y="856"/>
                  </a:lnTo>
                  <a:lnTo>
                    <a:pt x="115" y="852"/>
                  </a:lnTo>
                  <a:lnTo>
                    <a:pt x="108" y="849"/>
                  </a:lnTo>
                  <a:lnTo>
                    <a:pt x="99" y="847"/>
                  </a:lnTo>
                  <a:lnTo>
                    <a:pt x="90" y="845"/>
                  </a:lnTo>
                  <a:lnTo>
                    <a:pt x="80" y="845"/>
                  </a:lnTo>
                  <a:lnTo>
                    <a:pt x="75" y="845"/>
                  </a:lnTo>
                  <a:lnTo>
                    <a:pt x="70" y="845"/>
                  </a:lnTo>
                  <a:lnTo>
                    <a:pt x="65" y="847"/>
                  </a:lnTo>
                  <a:lnTo>
                    <a:pt x="59" y="849"/>
                  </a:lnTo>
                  <a:lnTo>
                    <a:pt x="54" y="850"/>
                  </a:lnTo>
                  <a:lnTo>
                    <a:pt x="49" y="852"/>
                  </a:lnTo>
                  <a:lnTo>
                    <a:pt x="43" y="854"/>
                  </a:lnTo>
                  <a:lnTo>
                    <a:pt x="38" y="857"/>
                  </a:lnTo>
                  <a:lnTo>
                    <a:pt x="27" y="863"/>
                  </a:lnTo>
                  <a:lnTo>
                    <a:pt x="17" y="869"/>
                  </a:lnTo>
                  <a:lnTo>
                    <a:pt x="0" y="880"/>
                  </a:lnTo>
                  <a:lnTo>
                    <a:pt x="15" y="772"/>
                  </a:lnTo>
                  <a:lnTo>
                    <a:pt x="115" y="705"/>
                  </a:lnTo>
                  <a:lnTo>
                    <a:pt x="127" y="698"/>
                  </a:lnTo>
                  <a:lnTo>
                    <a:pt x="139" y="693"/>
                  </a:lnTo>
                  <a:lnTo>
                    <a:pt x="151" y="688"/>
                  </a:lnTo>
                  <a:lnTo>
                    <a:pt x="162" y="684"/>
                  </a:lnTo>
                  <a:lnTo>
                    <a:pt x="173" y="681"/>
                  </a:lnTo>
                  <a:lnTo>
                    <a:pt x="184" y="679"/>
                  </a:lnTo>
                  <a:lnTo>
                    <a:pt x="195" y="677"/>
                  </a:lnTo>
                  <a:lnTo>
                    <a:pt x="206" y="677"/>
                  </a:lnTo>
                  <a:lnTo>
                    <a:pt x="225" y="679"/>
                  </a:lnTo>
                  <a:lnTo>
                    <a:pt x="242" y="682"/>
                  </a:lnTo>
                  <a:lnTo>
                    <a:pt x="259" y="688"/>
                  </a:lnTo>
                  <a:lnTo>
                    <a:pt x="275" y="694"/>
                  </a:lnTo>
                  <a:lnTo>
                    <a:pt x="289" y="705"/>
                  </a:lnTo>
                  <a:lnTo>
                    <a:pt x="303" y="717"/>
                  </a:lnTo>
                  <a:lnTo>
                    <a:pt x="308" y="724"/>
                  </a:lnTo>
                  <a:lnTo>
                    <a:pt x="314" y="731"/>
                  </a:lnTo>
                  <a:lnTo>
                    <a:pt x="320" y="740"/>
                  </a:lnTo>
                  <a:lnTo>
                    <a:pt x="325" y="748"/>
                  </a:lnTo>
                  <a:lnTo>
                    <a:pt x="336" y="766"/>
                  </a:lnTo>
                  <a:lnTo>
                    <a:pt x="340" y="776"/>
                  </a:lnTo>
                  <a:lnTo>
                    <a:pt x="344" y="786"/>
                  </a:lnTo>
                  <a:lnTo>
                    <a:pt x="347" y="795"/>
                  </a:lnTo>
                  <a:lnTo>
                    <a:pt x="351" y="805"/>
                  </a:lnTo>
                  <a:lnTo>
                    <a:pt x="354" y="816"/>
                  </a:lnTo>
                  <a:lnTo>
                    <a:pt x="357" y="828"/>
                  </a:lnTo>
                  <a:lnTo>
                    <a:pt x="359" y="838"/>
                  </a:lnTo>
                  <a:lnTo>
                    <a:pt x="361" y="850"/>
                  </a:lnTo>
                  <a:lnTo>
                    <a:pt x="363" y="863"/>
                  </a:lnTo>
                  <a:lnTo>
                    <a:pt x="364" y="875"/>
                  </a:lnTo>
                  <a:lnTo>
                    <a:pt x="365" y="887"/>
                  </a:lnTo>
                  <a:lnTo>
                    <a:pt x="366" y="899"/>
                  </a:lnTo>
                  <a:lnTo>
                    <a:pt x="367" y="911"/>
                  </a:lnTo>
                  <a:lnTo>
                    <a:pt x="367" y="925"/>
                  </a:lnTo>
                  <a:lnTo>
                    <a:pt x="367" y="937"/>
                  </a:lnTo>
                  <a:lnTo>
                    <a:pt x="366" y="954"/>
                  </a:lnTo>
                  <a:lnTo>
                    <a:pt x="364" y="1003"/>
                  </a:lnTo>
                  <a:lnTo>
                    <a:pt x="363" y="1031"/>
                  </a:lnTo>
                  <a:lnTo>
                    <a:pt x="361" y="1058"/>
                  </a:lnTo>
                  <a:lnTo>
                    <a:pt x="358" y="1084"/>
                  </a:lnTo>
                  <a:lnTo>
                    <a:pt x="354" y="1110"/>
                  </a:lnTo>
                  <a:lnTo>
                    <a:pt x="307" y="1427"/>
                  </a:lnTo>
                  <a:lnTo>
                    <a:pt x="303" y="1448"/>
                  </a:lnTo>
                  <a:lnTo>
                    <a:pt x="301" y="1471"/>
                  </a:lnTo>
                  <a:lnTo>
                    <a:pt x="298" y="1495"/>
                  </a:lnTo>
                  <a:lnTo>
                    <a:pt x="297" y="1517"/>
                  </a:lnTo>
                  <a:lnTo>
                    <a:pt x="293" y="1559"/>
                  </a:lnTo>
                  <a:lnTo>
                    <a:pt x="292" y="1575"/>
                  </a:lnTo>
                  <a:lnTo>
                    <a:pt x="292" y="1581"/>
                  </a:lnTo>
                  <a:lnTo>
                    <a:pt x="292" y="1588"/>
                  </a:lnTo>
                  <a:lnTo>
                    <a:pt x="292" y="1602"/>
                  </a:lnTo>
                  <a:lnTo>
                    <a:pt x="293" y="1614"/>
                  </a:lnTo>
                  <a:lnTo>
                    <a:pt x="294" y="1627"/>
                  </a:lnTo>
                  <a:lnTo>
                    <a:pt x="296" y="1639"/>
                  </a:lnTo>
                  <a:lnTo>
                    <a:pt x="298" y="1649"/>
                  </a:lnTo>
                  <a:lnTo>
                    <a:pt x="301" y="1659"/>
                  </a:lnTo>
                  <a:lnTo>
                    <a:pt x="303" y="1668"/>
                  </a:lnTo>
                  <a:lnTo>
                    <a:pt x="307" y="1677"/>
                  </a:lnTo>
                  <a:lnTo>
                    <a:pt x="308" y="1680"/>
                  </a:lnTo>
                  <a:lnTo>
                    <a:pt x="311" y="1685"/>
                  </a:lnTo>
                  <a:lnTo>
                    <a:pt x="313" y="1689"/>
                  </a:lnTo>
                  <a:lnTo>
                    <a:pt x="315" y="1691"/>
                  </a:lnTo>
                  <a:lnTo>
                    <a:pt x="318" y="1694"/>
                  </a:lnTo>
                  <a:lnTo>
                    <a:pt x="320" y="1698"/>
                  </a:lnTo>
                  <a:lnTo>
                    <a:pt x="323" y="1699"/>
                  </a:lnTo>
                  <a:lnTo>
                    <a:pt x="326" y="1701"/>
                  </a:lnTo>
                  <a:lnTo>
                    <a:pt x="333" y="1704"/>
                  </a:lnTo>
                  <a:lnTo>
                    <a:pt x="340" y="1708"/>
                  </a:lnTo>
                  <a:lnTo>
                    <a:pt x="347" y="1710"/>
                  </a:lnTo>
                  <a:lnTo>
                    <a:pt x="356" y="1710"/>
                  </a:lnTo>
                  <a:lnTo>
                    <a:pt x="363" y="1710"/>
                  </a:lnTo>
                  <a:lnTo>
                    <a:pt x="369" y="1708"/>
                  </a:lnTo>
                  <a:lnTo>
                    <a:pt x="377" y="1704"/>
                  </a:lnTo>
                  <a:lnTo>
                    <a:pt x="385" y="1699"/>
                  </a:lnTo>
                  <a:lnTo>
                    <a:pt x="394" y="1694"/>
                  </a:lnTo>
                  <a:lnTo>
                    <a:pt x="403" y="1687"/>
                  </a:lnTo>
                  <a:lnTo>
                    <a:pt x="413" y="1679"/>
                  </a:lnTo>
                  <a:lnTo>
                    <a:pt x="423" y="1670"/>
                  </a:lnTo>
                  <a:lnTo>
                    <a:pt x="433" y="1659"/>
                  </a:lnTo>
                  <a:lnTo>
                    <a:pt x="444" y="1649"/>
                  </a:lnTo>
                  <a:lnTo>
                    <a:pt x="454" y="1637"/>
                  </a:lnTo>
                  <a:lnTo>
                    <a:pt x="464" y="1623"/>
                  </a:lnTo>
                  <a:lnTo>
                    <a:pt x="475" y="1609"/>
                  </a:lnTo>
                  <a:lnTo>
                    <a:pt x="485" y="1594"/>
                  </a:lnTo>
                  <a:lnTo>
                    <a:pt x="496" y="1576"/>
                  </a:lnTo>
                  <a:lnTo>
                    <a:pt x="506" y="1559"/>
                  </a:lnTo>
                  <a:lnTo>
                    <a:pt x="613" y="698"/>
                  </a:lnTo>
                  <a:lnTo>
                    <a:pt x="821" y="681"/>
                  </a:lnTo>
                  <a:lnTo>
                    <a:pt x="828" y="698"/>
                  </a:lnTo>
                  <a:lnTo>
                    <a:pt x="736" y="1431"/>
                  </a:lnTo>
                  <a:lnTo>
                    <a:pt x="733" y="1450"/>
                  </a:lnTo>
                  <a:lnTo>
                    <a:pt x="731" y="1472"/>
                  </a:lnTo>
                  <a:lnTo>
                    <a:pt x="725" y="1523"/>
                  </a:lnTo>
                  <a:lnTo>
                    <a:pt x="721" y="1573"/>
                  </a:lnTo>
                  <a:lnTo>
                    <a:pt x="720" y="1592"/>
                  </a:lnTo>
                  <a:lnTo>
                    <a:pt x="719" y="1601"/>
                  </a:lnTo>
                  <a:lnTo>
                    <a:pt x="719" y="1607"/>
                  </a:lnTo>
                  <a:lnTo>
                    <a:pt x="719" y="1625"/>
                  </a:lnTo>
                  <a:lnTo>
                    <a:pt x="720" y="1640"/>
                  </a:lnTo>
                  <a:lnTo>
                    <a:pt x="722" y="1654"/>
                  </a:lnTo>
                  <a:lnTo>
                    <a:pt x="722" y="1659"/>
                  </a:lnTo>
                  <a:lnTo>
                    <a:pt x="723" y="1666"/>
                  </a:lnTo>
                  <a:lnTo>
                    <a:pt x="724" y="1672"/>
                  </a:lnTo>
                  <a:lnTo>
                    <a:pt x="726" y="1677"/>
                  </a:lnTo>
                  <a:lnTo>
                    <a:pt x="727" y="1682"/>
                  </a:lnTo>
                  <a:lnTo>
                    <a:pt x="728" y="1687"/>
                  </a:lnTo>
                  <a:lnTo>
                    <a:pt x="730" y="1692"/>
                  </a:lnTo>
                  <a:lnTo>
                    <a:pt x="732" y="1696"/>
                  </a:lnTo>
                  <a:lnTo>
                    <a:pt x="734" y="1699"/>
                  </a:lnTo>
                  <a:lnTo>
                    <a:pt x="736" y="1703"/>
                  </a:lnTo>
                  <a:lnTo>
                    <a:pt x="739" y="1706"/>
                  </a:lnTo>
                  <a:lnTo>
                    <a:pt x="740" y="1708"/>
                  </a:lnTo>
                  <a:lnTo>
                    <a:pt x="743" y="1711"/>
                  </a:lnTo>
                  <a:lnTo>
                    <a:pt x="746" y="1713"/>
                  </a:lnTo>
                  <a:lnTo>
                    <a:pt x="752" y="1717"/>
                  </a:lnTo>
                  <a:lnTo>
                    <a:pt x="759" y="1720"/>
                  </a:lnTo>
                  <a:lnTo>
                    <a:pt x="766" y="1724"/>
                  </a:lnTo>
                  <a:lnTo>
                    <a:pt x="775" y="1725"/>
                  </a:lnTo>
                  <a:lnTo>
                    <a:pt x="784" y="1727"/>
                  </a:lnTo>
                  <a:lnTo>
                    <a:pt x="794" y="1727"/>
                  </a:lnTo>
                  <a:lnTo>
                    <a:pt x="799" y="1727"/>
                  </a:lnTo>
                  <a:lnTo>
                    <a:pt x="805" y="1727"/>
                  </a:lnTo>
                  <a:lnTo>
                    <a:pt x="810" y="1725"/>
                  </a:lnTo>
                  <a:lnTo>
                    <a:pt x="815" y="1724"/>
                  </a:lnTo>
                  <a:lnTo>
                    <a:pt x="827" y="1720"/>
                  </a:lnTo>
                  <a:lnTo>
                    <a:pt x="838" y="1715"/>
                  </a:lnTo>
                  <a:lnTo>
                    <a:pt x="860" y="1703"/>
                  </a:lnTo>
                  <a:lnTo>
                    <a:pt x="867" y="1698"/>
                  </a:lnTo>
                  <a:lnTo>
                    <a:pt x="871" y="1696"/>
                  </a:lnTo>
                  <a:lnTo>
                    <a:pt x="874" y="1692"/>
                  </a:lnTo>
                  <a:lnTo>
                    <a:pt x="860" y="1800"/>
                  </a:lnTo>
                  <a:lnTo>
                    <a:pt x="757" y="1871"/>
                  </a:lnTo>
                  <a:lnTo>
                    <a:pt x="747" y="1876"/>
                  </a:lnTo>
                  <a:lnTo>
                    <a:pt x="737" y="1881"/>
                  </a:lnTo>
                  <a:lnTo>
                    <a:pt x="727" y="1885"/>
                  </a:lnTo>
                  <a:lnTo>
                    <a:pt x="716" y="1888"/>
                  </a:lnTo>
                  <a:lnTo>
                    <a:pt x="704" y="1892"/>
                  </a:lnTo>
                  <a:lnTo>
                    <a:pt x="692" y="1893"/>
                  </a:lnTo>
                  <a:lnTo>
                    <a:pt x="680" y="1895"/>
                  </a:lnTo>
                  <a:lnTo>
                    <a:pt x="667" y="1895"/>
                  </a:lnTo>
                  <a:lnTo>
                    <a:pt x="650" y="1893"/>
                  </a:lnTo>
                  <a:lnTo>
                    <a:pt x="634" y="1892"/>
                  </a:lnTo>
                  <a:lnTo>
                    <a:pt x="618" y="1886"/>
                  </a:lnTo>
                  <a:lnTo>
                    <a:pt x="603" y="1881"/>
                  </a:lnTo>
                  <a:lnTo>
                    <a:pt x="589" y="1873"/>
                  </a:lnTo>
                  <a:lnTo>
                    <a:pt x="577" y="1862"/>
                  </a:lnTo>
                  <a:lnTo>
                    <a:pt x="564" y="1850"/>
                  </a:lnTo>
                  <a:lnTo>
                    <a:pt x="553" y="1836"/>
                  </a:lnTo>
                  <a:lnTo>
                    <a:pt x="543" y="1821"/>
                  </a:lnTo>
                  <a:lnTo>
                    <a:pt x="534" y="1805"/>
                  </a:lnTo>
                  <a:lnTo>
                    <a:pt x="525" y="1788"/>
                  </a:lnTo>
                  <a:lnTo>
                    <a:pt x="518" y="1769"/>
                  </a:lnTo>
                  <a:lnTo>
                    <a:pt x="512" y="1750"/>
                  </a:lnTo>
                  <a:lnTo>
                    <a:pt x="507" y="1729"/>
                  </a:lnTo>
                  <a:lnTo>
                    <a:pt x="502" y="1706"/>
                  </a:lnTo>
                  <a:close/>
                  <a:moveTo>
                    <a:pt x="753" y="45"/>
                  </a:moveTo>
                  <a:lnTo>
                    <a:pt x="744" y="92"/>
                  </a:lnTo>
                  <a:lnTo>
                    <a:pt x="740" y="114"/>
                  </a:lnTo>
                  <a:lnTo>
                    <a:pt x="735" y="137"/>
                  </a:lnTo>
                  <a:lnTo>
                    <a:pt x="729" y="157"/>
                  </a:lnTo>
                  <a:lnTo>
                    <a:pt x="723" y="180"/>
                  </a:lnTo>
                  <a:lnTo>
                    <a:pt x="717" y="202"/>
                  </a:lnTo>
                  <a:lnTo>
                    <a:pt x="711" y="223"/>
                  </a:lnTo>
                  <a:lnTo>
                    <a:pt x="704" y="244"/>
                  </a:lnTo>
                  <a:lnTo>
                    <a:pt x="696" y="265"/>
                  </a:lnTo>
                  <a:lnTo>
                    <a:pt x="689" y="286"/>
                  </a:lnTo>
                  <a:lnTo>
                    <a:pt x="680" y="305"/>
                  </a:lnTo>
                  <a:lnTo>
                    <a:pt x="672" y="324"/>
                  </a:lnTo>
                  <a:lnTo>
                    <a:pt x="662" y="341"/>
                  </a:lnTo>
                  <a:lnTo>
                    <a:pt x="653" y="358"/>
                  </a:lnTo>
                  <a:lnTo>
                    <a:pt x="643" y="376"/>
                  </a:lnTo>
                  <a:lnTo>
                    <a:pt x="631" y="393"/>
                  </a:lnTo>
                  <a:lnTo>
                    <a:pt x="620" y="410"/>
                  </a:lnTo>
                  <a:lnTo>
                    <a:pt x="608" y="424"/>
                  </a:lnTo>
                  <a:lnTo>
                    <a:pt x="595" y="440"/>
                  </a:lnTo>
                  <a:lnTo>
                    <a:pt x="584" y="452"/>
                  </a:lnTo>
                  <a:lnTo>
                    <a:pt x="571" y="464"/>
                  </a:lnTo>
                  <a:lnTo>
                    <a:pt x="558" y="474"/>
                  </a:lnTo>
                  <a:lnTo>
                    <a:pt x="545" y="483"/>
                  </a:lnTo>
                  <a:lnTo>
                    <a:pt x="532" y="492"/>
                  </a:lnTo>
                  <a:lnTo>
                    <a:pt x="518" y="499"/>
                  </a:lnTo>
                  <a:lnTo>
                    <a:pt x="505" y="506"/>
                  </a:lnTo>
                  <a:lnTo>
                    <a:pt x="490" y="511"/>
                  </a:lnTo>
                  <a:lnTo>
                    <a:pt x="476" y="514"/>
                  </a:lnTo>
                  <a:lnTo>
                    <a:pt x="462" y="518"/>
                  </a:lnTo>
                  <a:lnTo>
                    <a:pt x="446" y="520"/>
                  </a:lnTo>
                  <a:lnTo>
                    <a:pt x="430" y="520"/>
                  </a:lnTo>
                  <a:lnTo>
                    <a:pt x="405" y="518"/>
                  </a:lnTo>
                  <a:lnTo>
                    <a:pt x="393" y="516"/>
                  </a:lnTo>
                  <a:lnTo>
                    <a:pt x="381" y="514"/>
                  </a:lnTo>
                  <a:lnTo>
                    <a:pt x="370" y="511"/>
                  </a:lnTo>
                  <a:lnTo>
                    <a:pt x="360" y="507"/>
                  </a:lnTo>
                  <a:lnTo>
                    <a:pt x="350" y="502"/>
                  </a:lnTo>
                  <a:lnTo>
                    <a:pt x="340" y="497"/>
                  </a:lnTo>
                  <a:lnTo>
                    <a:pt x="330" y="490"/>
                  </a:lnTo>
                  <a:lnTo>
                    <a:pt x="322" y="485"/>
                  </a:lnTo>
                  <a:lnTo>
                    <a:pt x="314" y="478"/>
                  </a:lnTo>
                  <a:lnTo>
                    <a:pt x="306" y="471"/>
                  </a:lnTo>
                  <a:lnTo>
                    <a:pt x="298" y="462"/>
                  </a:lnTo>
                  <a:lnTo>
                    <a:pt x="291" y="455"/>
                  </a:lnTo>
                  <a:lnTo>
                    <a:pt x="285" y="447"/>
                  </a:lnTo>
                  <a:lnTo>
                    <a:pt x="279" y="438"/>
                  </a:lnTo>
                  <a:lnTo>
                    <a:pt x="274" y="429"/>
                  </a:lnTo>
                  <a:lnTo>
                    <a:pt x="269" y="419"/>
                  </a:lnTo>
                  <a:lnTo>
                    <a:pt x="264" y="410"/>
                  </a:lnTo>
                  <a:lnTo>
                    <a:pt x="260" y="400"/>
                  </a:lnTo>
                  <a:lnTo>
                    <a:pt x="256" y="391"/>
                  </a:lnTo>
                  <a:lnTo>
                    <a:pt x="253" y="381"/>
                  </a:lnTo>
                  <a:lnTo>
                    <a:pt x="249" y="371"/>
                  </a:lnTo>
                  <a:lnTo>
                    <a:pt x="247" y="360"/>
                  </a:lnTo>
                  <a:lnTo>
                    <a:pt x="244" y="350"/>
                  </a:lnTo>
                  <a:lnTo>
                    <a:pt x="242" y="338"/>
                  </a:lnTo>
                  <a:lnTo>
                    <a:pt x="240" y="327"/>
                  </a:lnTo>
                  <a:lnTo>
                    <a:pt x="238" y="317"/>
                  </a:lnTo>
                  <a:lnTo>
                    <a:pt x="237" y="305"/>
                  </a:lnTo>
                  <a:lnTo>
                    <a:pt x="236" y="294"/>
                  </a:lnTo>
                  <a:lnTo>
                    <a:pt x="236" y="284"/>
                  </a:lnTo>
                  <a:lnTo>
                    <a:pt x="236" y="274"/>
                  </a:lnTo>
                  <a:lnTo>
                    <a:pt x="236" y="253"/>
                  </a:lnTo>
                  <a:lnTo>
                    <a:pt x="237" y="232"/>
                  </a:lnTo>
                  <a:lnTo>
                    <a:pt x="240" y="215"/>
                  </a:lnTo>
                  <a:lnTo>
                    <a:pt x="241" y="204"/>
                  </a:lnTo>
                  <a:lnTo>
                    <a:pt x="242" y="196"/>
                  </a:lnTo>
                  <a:lnTo>
                    <a:pt x="244" y="187"/>
                  </a:lnTo>
                  <a:lnTo>
                    <a:pt x="247" y="180"/>
                  </a:lnTo>
                  <a:lnTo>
                    <a:pt x="248" y="171"/>
                  </a:lnTo>
                  <a:lnTo>
                    <a:pt x="251" y="164"/>
                  </a:lnTo>
                  <a:lnTo>
                    <a:pt x="253" y="157"/>
                  </a:lnTo>
                  <a:lnTo>
                    <a:pt x="257" y="149"/>
                  </a:lnTo>
                  <a:lnTo>
                    <a:pt x="259" y="144"/>
                  </a:lnTo>
                  <a:lnTo>
                    <a:pt x="263" y="137"/>
                  </a:lnTo>
                  <a:lnTo>
                    <a:pt x="269" y="125"/>
                  </a:lnTo>
                  <a:lnTo>
                    <a:pt x="277" y="114"/>
                  </a:lnTo>
                  <a:lnTo>
                    <a:pt x="286" y="105"/>
                  </a:lnTo>
                  <a:lnTo>
                    <a:pt x="294" y="99"/>
                  </a:lnTo>
                  <a:lnTo>
                    <a:pt x="303" y="92"/>
                  </a:lnTo>
                  <a:lnTo>
                    <a:pt x="313" y="88"/>
                  </a:lnTo>
                  <a:lnTo>
                    <a:pt x="323" y="85"/>
                  </a:lnTo>
                  <a:lnTo>
                    <a:pt x="333" y="85"/>
                  </a:lnTo>
                  <a:lnTo>
                    <a:pt x="341" y="85"/>
                  </a:lnTo>
                  <a:lnTo>
                    <a:pt x="347" y="86"/>
                  </a:lnTo>
                  <a:lnTo>
                    <a:pt x="354" y="90"/>
                  </a:lnTo>
                  <a:lnTo>
                    <a:pt x="362" y="93"/>
                  </a:lnTo>
                  <a:lnTo>
                    <a:pt x="369" y="97"/>
                  </a:lnTo>
                  <a:lnTo>
                    <a:pt x="375" y="102"/>
                  </a:lnTo>
                  <a:lnTo>
                    <a:pt x="382" y="109"/>
                  </a:lnTo>
                  <a:lnTo>
                    <a:pt x="389" y="116"/>
                  </a:lnTo>
                  <a:lnTo>
                    <a:pt x="392" y="119"/>
                  </a:lnTo>
                  <a:lnTo>
                    <a:pt x="395" y="125"/>
                  </a:lnTo>
                  <a:lnTo>
                    <a:pt x="398" y="128"/>
                  </a:lnTo>
                  <a:lnTo>
                    <a:pt x="401" y="133"/>
                  </a:lnTo>
                  <a:lnTo>
                    <a:pt x="402" y="138"/>
                  </a:lnTo>
                  <a:lnTo>
                    <a:pt x="405" y="144"/>
                  </a:lnTo>
                  <a:lnTo>
                    <a:pt x="407" y="149"/>
                  </a:lnTo>
                  <a:lnTo>
                    <a:pt x="408" y="156"/>
                  </a:lnTo>
                  <a:lnTo>
                    <a:pt x="410" y="161"/>
                  </a:lnTo>
                  <a:lnTo>
                    <a:pt x="412" y="168"/>
                  </a:lnTo>
                  <a:lnTo>
                    <a:pt x="413" y="173"/>
                  </a:lnTo>
                  <a:lnTo>
                    <a:pt x="413" y="180"/>
                  </a:lnTo>
                  <a:lnTo>
                    <a:pt x="414" y="187"/>
                  </a:lnTo>
                  <a:lnTo>
                    <a:pt x="415" y="194"/>
                  </a:lnTo>
                  <a:lnTo>
                    <a:pt x="415" y="202"/>
                  </a:lnTo>
                  <a:lnTo>
                    <a:pt x="415" y="209"/>
                  </a:lnTo>
                  <a:lnTo>
                    <a:pt x="415" y="220"/>
                  </a:lnTo>
                  <a:lnTo>
                    <a:pt x="414" y="230"/>
                  </a:lnTo>
                  <a:lnTo>
                    <a:pt x="413" y="241"/>
                  </a:lnTo>
                  <a:lnTo>
                    <a:pt x="413" y="251"/>
                  </a:lnTo>
                  <a:lnTo>
                    <a:pt x="411" y="261"/>
                  </a:lnTo>
                  <a:lnTo>
                    <a:pt x="409" y="272"/>
                  </a:lnTo>
                  <a:lnTo>
                    <a:pt x="407" y="280"/>
                  </a:lnTo>
                  <a:lnTo>
                    <a:pt x="405" y="291"/>
                  </a:lnTo>
                  <a:lnTo>
                    <a:pt x="400" y="310"/>
                  </a:lnTo>
                  <a:lnTo>
                    <a:pt x="394" y="327"/>
                  </a:lnTo>
                  <a:lnTo>
                    <a:pt x="389" y="343"/>
                  </a:lnTo>
                  <a:lnTo>
                    <a:pt x="383" y="358"/>
                  </a:lnTo>
                  <a:lnTo>
                    <a:pt x="391" y="365"/>
                  </a:lnTo>
                  <a:lnTo>
                    <a:pt x="399" y="371"/>
                  </a:lnTo>
                  <a:lnTo>
                    <a:pt x="407" y="376"/>
                  </a:lnTo>
                  <a:lnTo>
                    <a:pt x="411" y="377"/>
                  </a:lnTo>
                  <a:lnTo>
                    <a:pt x="415" y="379"/>
                  </a:lnTo>
                  <a:lnTo>
                    <a:pt x="419" y="381"/>
                  </a:lnTo>
                  <a:lnTo>
                    <a:pt x="423" y="383"/>
                  </a:lnTo>
                  <a:lnTo>
                    <a:pt x="427" y="384"/>
                  </a:lnTo>
                  <a:lnTo>
                    <a:pt x="431" y="384"/>
                  </a:lnTo>
                  <a:lnTo>
                    <a:pt x="440" y="386"/>
                  </a:lnTo>
                  <a:lnTo>
                    <a:pt x="450" y="386"/>
                  </a:lnTo>
                  <a:lnTo>
                    <a:pt x="463" y="386"/>
                  </a:lnTo>
                  <a:lnTo>
                    <a:pt x="475" y="384"/>
                  </a:lnTo>
                  <a:lnTo>
                    <a:pt x="487" y="381"/>
                  </a:lnTo>
                  <a:lnTo>
                    <a:pt x="500" y="377"/>
                  </a:lnTo>
                  <a:lnTo>
                    <a:pt x="511" y="372"/>
                  </a:lnTo>
                  <a:lnTo>
                    <a:pt x="523" y="367"/>
                  </a:lnTo>
                  <a:lnTo>
                    <a:pt x="533" y="360"/>
                  </a:lnTo>
                  <a:lnTo>
                    <a:pt x="544" y="351"/>
                  </a:lnTo>
                  <a:lnTo>
                    <a:pt x="554" y="343"/>
                  </a:lnTo>
                  <a:lnTo>
                    <a:pt x="564" y="334"/>
                  </a:lnTo>
                  <a:lnTo>
                    <a:pt x="573" y="324"/>
                  </a:lnTo>
                  <a:lnTo>
                    <a:pt x="583" y="313"/>
                  </a:lnTo>
                  <a:lnTo>
                    <a:pt x="591" y="301"/>
                  </a:lnTo>
                  <a:lnTo>
                    <a:pt x="600" y="289"/>
                  </a:lnTo>
                  <a:lnTo>
                    <a:pt x="607" y="277"/>
                  </a:lnTo>
                  <a:lnTo>
                    <a:pt x="615" y="265"/>
                  </a:lnTo>
                  <a:lnTo>
                    <a:pt x="629" y="237"/>
                  </a:lnTo>
                  <a:lnTo>
                    <a:pt x="642" y="208"/>
                  </a:lnTo>
                  <a:lnTo>
                    <a:pt x="655" y="176"/>
                  </a:lnTo>
                  <a:lnTo>
                    <a:pt x="667" y="142"/>
                  </a:lnTo>
                  <a:lnTo>
                    <a:pt x="677" y="107"/>
                  </a:lnTo>
                  <a:lnTo>
                    <a:pt x="686" y="71"/>
                  </a:lnTo>
                  <a:lnTo>
                    <a:pt x="694" y="36"/>
                  </a:lnTo>
                  <a:lnTo>
                    <a:pt x="7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5040" y="2316240"/>
              <a:ext cx="316080" cy="439560"/>
            </a:xfrm>
            <a:custGeom>
              <a:avLst/>
              <a:gdLst/>
              <a:ahLst/>
              <a:rect l="l" t="t" r="r" b="b"/>
              <a:pathLst>
                <a:path w="876" h="1221">
                  <a:moveTo>
                    <a:pt x="343" y="517"/>
                  </a:moveTo>
                  <a:lnTo>
                    <a:pt x="553" y="517"/>
                  </a:lnTo>
                  <a:lnTo>
                    <a:pt x="614" y="23"/>
                  </a:lnTo>
                  <a:lnTo>
                    <a:pt x="822" y="6"/>
                  </a:lnTo>
                  <a:lnTo>
                    <a:pt x="829" y="23"/>
                  </a:lnTo>
                  <a:lnTo>
                    <a:pt x="737" y="756"/>
                  </a:lnTo>
                  <a:lnTo>
                    <a:pt x="735" y="775"/>
                  </a:lnTo>
                  <a:lnTo>
                    <a:pt x="732" y="797"/>
                  </a:lnTo>
                  <a:lnTo>
                    <a:pt x="729" y="820"/>
                  </a:lnTo>
                  <a:lnTo>
                    <a:pt x="727" y="848"/>
                  </a:lnTo>
                  <a:lnTo>
                    <a:pt x="724" y="875"/>
                  </a:lnTo>
                  <a:lnTo>
                    <a:pt x="723" y="898"/>
                  </a:lnTo>
                  <a:lnTo>
                    <a:pt x="721" y="917"/>
                  </a:lnTo>
                  <a:lnTo>
                    <a:pt x="721" y="926"/>
                  </a:lnTo>
                  <a:lnTo>
                    <a:pt x="721" y="932"/>
                  </a:lnTo>
                  <a:lnTo>
                    <a:pt x="721" y="950"/>
                  </a:lnTo>
                  <a:lnTo>
                    <a:pt x="722" y="965"/>
                  </a:lnTo>
                  <a:lnTo>
                    <a:pt x="724" y="979"/>
                  </a:lnTo>
                  <a:lnTo>
                    <a:pt x="724" y="984"/>
                  </a:lnTo>
                  <a:lnTo>
                    <a:pt x="725" y="991"/>
                  </a:lnTo>
                  <a:lnTo>
                    <a:pt x="726" y="997"/>
                  </a:lnTo>
                  <a:lnTo>
                    <a:pt x="727" y="1002"/>
                  </a:lnTo>
                  <a:lnTo>
                    <a:pt x="729" y="1007"/>
                  </a:lnTo>
                  <a:lnTo>
                    <a:pt x="730" y="1012"/>
                  </a:lnTo>
                  <a:lnTo>
                    <a:pt x="731" y="1017"/>
                  </a:lnTo>
                  <a:lnTo>
                    <a:pt x="733" y="1021"/>
                  </a:lnTo>
                  <a:lnTo>
                    <a:pt x="735" y="1024"/>
                  </a:lnTo>
                  <a:lnTo>
                    <a:pt x="737" y="1028"/>
                  </a:lnTo>
                  <a:lnTo>
                    <a:pt x="740" y="1031"/>
                  </a:lnTo>
                  <a:lnTo>
                    <a:pt x="741" y="1033"/>
                  </a:lnTo>
                  <a:lnTo>
                    <a:pt x="744" y="1036"/>
                  </a:lnTo>
                  <a:lnTo>
                    <a:pt x="747" y="1038"/>
                  </a:lnTo>
                  <a:lnTo>
                    <a:pt x="753" y="1042"/>
                  </a:lnTo>
                  <a:lnTo>
                    <a:pt x="760" y="1045"/>
                  </a:lnTo>
                  <a:lnTo>
                    <a:pt x="768" y="1049"/>
                  </a:lnTo>
                  <a:lnTo>
                    <a:pt x="776" y="1050"/>
                  </a:lnTo>
                  <a:lnTo>
                    <a:pt x="784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9"/>
                  </a:lnTo>
                  <a:lnTo>
                    <a:pt x="828" y="1045"/>
                  </a:lnTo>
                  <a:lnTo>
                    <a:pt x="840" y="1040"/>
                  </a:lnTo>
                  <a:lnTo>
                    <a:pt x="861" y="1028"/>
                  </a:lnTo>
                  <a:lnTo>
                    <a:pt x="868" y="1023"/>
                  </a:lnTo>
                  <a:lnTo>
                    <a:pt x="872" y="1021"/>
                  </a:lnTo>
                  <a:lnTo>
                    <a:pt x="875" y="1017"/>
                  </a:lnTo>
                  <a:lnTo>
                    <a:pt x="861" y="1125"/>
                  </a:lnTo>
                  <a:lnTo>
                    <a:pt x="758" y="1196"/>
                  </a:lnTo>
                  <a:lnTo>
                    <a:pt x="748" y="1201"/>
                  </a:lnTo>
                  <a:lnTo>
                    <a:pt x="738" y="1206"/>
                  </a:lnTo>
                  <a:lnTo>
                    <a:pt x="728" y="1210"/>
                  </a:lnTo>
                  <a:lnTo>
                    <a:pt x="717" y="1213"/>
                  </a:lnTo>
                  <a:lnTo>
                    <a:pt x="705" y="1217"/>
                  </a:lnTo>
                  <a:lnTo>
                    <a:pt x="693" y="1218"/>
                  </a:lnTo>
                  <a:lnTo>
                    <a:pt x="681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7"/>
                  </a:lnTo>
                  <a:lnTo>
                    <a:pt x="619" y="1211"/>
                  </a:lnTo>
                  <a:lnTo>
                    <a:pt x="604" y="1203"/>
                  </a:lnTo>
                  <a:lnTo>
                    <a:pt x="591" y="1194"/>
                  </a:lnTo>
                  <a:lnTo>
                    <a:pt x="577" y="1182"/>
                  </a:lnTo>
                  <a:lnTo>
                    <a:pt x="564" y="1168"/>
                  </a:lnTo>
                  <a:lnTo>
                    <a:pt x="553" y="1152"/>
                  </a:lnTo>
                  <a:lnTo>
                    <a:pt x="547" y="1144"/>
                  </a:lnTo>
                  <a:lnTo>
                    <a:pt x="542" y="1135"/>
                  </a:lnTo>
                  <a:lnTo>
                    <a:pt x="536" y="1125"/>
                  </a:lnTo>
                  <a:lnTo>
                    <a:pt x="532" y="1116"/>
                  </a:lnTo>
                  <a:lnTo>
                    <a:pt x="528" y="1106"/>
                  </a:lnTo>
                  <a:lnTo>
                    <a:pt x="524" y="1095"/>
                  </a:lnTo>
                  <a:lnTo>
                    <a:pt x="520" y="1085"/>
                  </a:lnTo>
                  <a:lnTo>
                    <a:pt x="518" y="1073"/>
                  </a:lnTo>
                  <a:lnTo>
                    <a:pt x="514" y="1062"/>
                  </a:lnTo>
                  <a:lnTo>
                    <a:pt x="513" y="1050"/>
                  </a:lnTo>
                  <a:lnTo>
                    <a:pt x="510" y="1038"/>
                  </a:lnTo>
                  <a:lnTo>
                    <a:pt x="508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3"/>
                  </a:lnTo>
                  <a:lnTo>
                    <a:pt x="507" y="919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8" y="879"/>
                  </a:lnTo>
                  <a:lnTo>
                    <a:pt x="509" y="870"/>
                  </a:lnTo>
                  <a:lnTo>
                    <a:pt x="509" y="861"/>
                  </a:lnTo>
                  <a:lnTo>
                    <a:pt x="512" y="841"/>
                  </a:lnTo>
                  <a:lnTo>
                    <a:pt x="514" y="815"/>
                  </a:lnTo>
                  <a:lnTo>
                    <a:pt x="518" y="785"/>
                  </a:lnTo>
                  <a:lnTo>
                    <a:pt x="537" y="631"/>
                  </a:lnTo>
                  <a:lnTo>
                    <a:pt x="329" y="631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4" y="465"/>
                  </a:lnTo>
                  <a:lnTo>
                    <a:pt x="144" y="378"/>
                  </a:lnTo>
                  <a:lnTo>
                    <a:pt x="147" y="352"/>
                  </a:lnTo>
                  <a:lnTo>
                    <a:pt x="149" y="328"/>
                  </a:lnTo>
                  <a:lnTo>
                    <a:pt x="150" y="307"/>
                  </a:lnTo>
                  <a:lnTo>
                    <a:pt x="150" y="297"/>
                  </a:lnTo>
                  <a:lnTo>
                    <a:pt x="150" y="288"/>
                  </a:lnTo>
                  <a:lnTo>
                    <a:pt x="150" y="272"/>
                  </a:lnTo>
                  <a:lnTo>
                    <a:pt x="150" y="257"/>
                  </a:lnTo>
                  <a:lnTo>
                    <a:pt x="148" y="243"/>
                  </a:lnTo>
                  <a:lnTo>
                    <a:pt x="147" y="231"/>
                  </a:lnTo>
                  <a:lnTo>
                    <a:pt x="145" y="226"/>
                  </a:lnTo>
                  <a:lnTo>
                    <a:pt x="144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0" y="205"/>
                  </a:lnTo>
                  <a:lnTo>
                    <a:pt x="139" y="201"/>
                  </a:lnTo>
                  <a:lnTo>
                    <a:pt x="137" y="198"/>
                  </a:lnTo>
                  <a:lnTo>
                    <a:pt x="135" y="194"/>
                  </a:lnTo>
                  <a:lnTo>
                    <a:pt x="133" y="191"/>
                  </a:lnTo>
                  <a:lnTo>
                    <a:pt x="131" y="188"/>
                  </a:lnTo>
                  <a:lnTo>
                    <a:pt x="128" y="186"/>
                  </a:lnTo>
                  <a:lnTo>
                    <a:pt x="126" y="182"/>
                  </a:lnTo>
                  <a:lnTo>
                    <a:pt x="123" y="181"/>
                  </a:lnTo>
                  <a:lnTo>
                    <a:pt x="120" y="179"/>
                  </a:lnTo>
                  <a:lnTo>
                    <a:pt x="114" y="175"/>
                  </a:lnTo>
                  <a:lnTo>
                    <a:pt x="106" y="172"/>
                  </a:lnTo>
                  <a:lnTo>
                    <a:pt x="99" y="170"/>
                  </a:lnTo>
                  <a:lnTo>
                    <a:pt x="89" y="168"/>
                  </a:lnTo>
                  <a:lnTo>
                    <a:pt x="80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9" y="172"/>
                  </a:lnTo>
                  <a:lnTo>
                    <a:pt x="53" y="174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1"/>
                  </a:lnTo>
                  <a:lnTo>
                    <a:pt x="27" y="186"/>
                  </a:lnTo>
                  <a:lnTo>
                    <a:pt x="17" y="193"/>
                  </a:lnTo>
                  <a:lnTo>
                    <a:pt x="0" y="203"/>
                  </a:lnTo>
                  <a:lnTo>
                    <a:pt x="14" y="96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0" y="11"/>
                  </a:lnTo>
                  <a:lnTo>
                    <a:pt x="161" y="7"/>
                  </a:lnTo>
                  <a:lnTo>
                    <a:pt x="173" y="4"/>
                  </a:lnTo>
                  <a:lnTo>
                    <a:pt x="184" y="2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25" y="2"/>
                  </a:lnTo>
                  <a:lnTo>
                    <a:pt x="243" y="6"/>
                  </a:lnTo>
                  <a:lnTo>
                    <a:pt x="260" y="11"/>
                  </a:lnTo>
                  <a:lnTo>
                    <a:pt x="276" y="18"/>
                  </a:lnTo>
                  <a:lnTo>
                    <a:pt x="290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5" y="54"/>
                  </a:lnTo>
                  <a:lnTo>
                    <a:pt x="321" y="63"/>
                  </a:lnTo>
                  <a:lnTo>
                    <a:pt x="326" y="71"/>
                  </a:lnTo>
                  <a:lnTo>
                    <a:pt x="336" y="91"/>
                  </a:lnTo>
                  <a:lnTo>
                    <a:pt x="343" y="110"/>
                  </a:lnTo>
                  <a:lnTo>
                    <a:pt x="348" y="120"/>
                  </a:lnTo>
                  <a:lnTo>
                    <a:pt x="350" y="130"/>
                  </a:lnTo>
                  <a:lnTo>
                    <a:pt x="354" y="141"/>
                  </a:lnTo>
                  <a:lnTo>
                    <a:pt x="356" y="153"/>
                  </a:lnTo>
                  <a:lnTo>
                    <a:pt x="359" y="163"/>
                  </a:lnTo>
                  <a:lnTo>
                    <a:pt x="360" y="175"/>
                  </a:lnTo>
                  <a:lnTo>
                    <a:pt x="362" y="188"/>
                  </a:lnTo>
                  <a:lnTo>
                    <a:pt x="364" y="200"/>
                  </a:lnTo>
                  <a:lnTo>
                    <a:pt x="365" y="212"/>
                  </a:lnTo>
                  <a:lnTo>
                    <a:pt x="365" y="224"/>
                  </a:lnTo>
                  <a:lnTo>
                    <a:pt x="366" y="236"/>
                  </a:lnTo>
                  <a:lnTo>
                    <a:pt x="366" y="250"/>
                  </a:lnTo>
                  <a:lnTo>
                    <a:pt x="366" y="271"/>
                  </a:lnTo>
                  <a:lnTo>
                    <a:pt x="365" y="293"/>
                  </a:lnTo>
                  <a:lnTo>
                    <a:pt x="365" y="314"/>
                  </a:lnTo>
                  <a:lnTo>
                    <a:pt x="364" y="335"/>
                  </a:lnTo>
                  <a:lnTo>
                    <a:pt x="362" y="357"/>
                  </a:lnTo>
                  <a:lnTo>
                    <a:pt x="360" y="382"/>
                  </a:lnTo>
                  <a:lnTo>
                    <a:pt x="357" y="408"/>
                  </a:lnTo>
                  <a:lnTo>
                    <a:pt x="354" y="434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5280" y="2311560"/>
              <a:ext cx="274680" cy="450720"/>
            </a:xfrm>
            <a:custGeom>
              <a:avLst/>
              <a:gdLst/>
              <a:ahLst/>
              <a:rect l="l" t="t" r="r" b="b"/>
              <a:pathLst>
                <a:path w="761" h="1252">
                  <a:moveTo>
                    <a:pt x="760" y="499"/>
                  </a:moveTo>
                  <a:lnTo>
                    <a:pt x="759" y="537"/>
                  </a:lnTo>
                  <a:lnTo>
                    <a:pt x="758" y="573"/>
                  </a:lnTo>
                  <a:lnTo>
                    <a:pt x="755" y="610"/>
                  </a:lnTo>
                  <a:lnTo>
                    <a:pt x="752" y="646"/>
                  </a:lnTo>
                  <a:lnTo>
                    <a:pt x="748" y="681"/>
                  </a:lnTo>
                  <a:lnTo>
                    <a:pt x="742" y="717"/>
                  </a:lnTo>
                  <a:lnTo>
                    <a:pt x="736" y="752"/>
                  </a:lnTo>
                  <a:lnTo>
                    <a:pt x="728" y="786"/>
                  </a:lnTo>
                  <a:lnTo>
                    <a:pt x="720" y="819"/>
                  </a:lnTo>
                  <a:lnTo>
                    <a:pt x="711" y="852"/>
                  </a:lnTo>
                  <a:lnTo>
                    <a:pt x="701" y="883"/>
                  </a:lnTo>
                  <a:lnTo>
                    <a:pt x="691" y="913"/>
                  </a:lnTo>
                  <a:lnTo>
                    <a:pt x="679" y="942"/>
                  </a:lnTo>
                  <a:lnTo>
                    <a:pt x="667" y="970"/>
                  </a:lnTo>
                  <a:lnTo>
                    <a:pt x="654" y="998"/>
                  </a:lnTo>
                  <a:lnTo>
                    <a:pt x="640" y="1024"/>
                  </a:lnTo>
                  <a:lnTo>
                    <a:pt x="624" y="1050"/>
                  </a:lnTo>
                  <a:lnTo>
                    <a:pt x="608" y="1076"/>
                  </a:lnTo>
                  <a:lnTo>
                    <a:pt x="591" y="1098"/>
                  </a:lnTo>
                  <a:lnTo>
                    <a:pt x="573" y="1121"/>
                  </a:lnTo>
                  <a:lnTo>
                    <a:pt x="555" y="1140"/>
                  </a:lnTo>
                  <a:lnTo>
                    <a:pt x="535" y="1159"/>
                  </a:lnTo>
                  <a:lnTo>
                    <a:pt x="516" y="1176"/>
                  </a:lnTo>
                  <a:lnTo>
                    <a:pt x="495" y="1192"/>
                  </a:lnTo>
                  <a:lnTo>
                    <a:pt x="474" y="1206"/>
                  </a:lnTo>
                  <a:lnTo>
                    <a:pt x="453" y="1218"/>
                  </a:lnTo>
                  <a:lnTo>
                    <a:pt x="430" y="1228"/>
                  </a:lnTo>
                  <a:lnTo>
                    <a:pt x="407" y="1237"/>
                  </a:lnTo>
                  <a:lnTo>
                    <a:pt x="384" y="1242"/>
                  </a:lnTo>
                  <a:lnTo>
                    <a:pt x="359" y="1247"/>
                  </a:lnTo>
                  <a:lnTo>
                    <a:pt x="335" y="1249"/>
                  </a:lnTo>
                  <a:lnTo>
                    <a:pt x="309" y="1251"/>
                  </a:lnTo>
                  <a:lnTo>
                    <a:pt x="275" y="1249"/>
                  </a:lnTo>
                  <a:lnTo>
                    <a:pt x="243" y="1242"/>
                  </a:lnTo>
                  <a:lnTo>
                    <a:pt x="213" y="1232"/>
                  </a:lnTo>
                  <a:lnTo>
                    <a:pt x="184" y="1218"/>
                  </a:lnTo>
                  <a:lnTo>
                    <a:pt x="157" y="1199"/>
                  </a:lnTo>
                  <a:lnTo>
                    <a:pt x="131" y="1174"/>
                  </a:lnTo>
                  <a:lnTo>
                    <a:pt x="108" y="1147"/>
                  </a:lnTo>
                  <a:lnTo>
                    <a:pt x="86" y="1116"/>
                  </a:lnTo>
                  <a:lnTo>
                    <a:pt x="76" y="1098"/>
                  </a:lnTo>
                  <a:lnTo>
                    <a:pt x="65" y="1081"/>
                  </a:lnTo>
                  <a:lnTo>
                    <a:pt x="57" y="1062"/>
                  </a:lnTo>
                  <a:lnTo>
                    <a:pt x="48" y="1041"/>
                  </a:lnTo>
                  <a:lnTo>
                    <a:pt x="41" y="1022"/>
                  </a:lnTo>
                  <a:lnTo>
                    <a:pt x="34" y="999"/>
                  </a:lnTo>
                  <a:lnTo>
                    <a:pt x="27" y="979"/>
                  </a:lnTo>
                  <a:lnTo>
                    <a:pt x="21" y="956"/>
                  </a:lnTo>
                  <a:lnTo>
                    <a:pt x="16" y="932"/>
                  </a:lnTo>
                  <a:lnTo>
                    <a:pt x="12" y="908"/>
                  </a:lnTo>
                  <a:lnTo>
                    <a:pt x="9" y="883"/>
                  </a:lnTo>
                  <a:lnTo>
                    <a:pt x="5" y="857"/>
                  </a:lnTo>
                  <a:lnTo>
                    <a:pt x="4" y="831"/>
                  </a:lnTo>
                  <a:lnTo>
                    <a:pt x="2" y="804"/>
                  </a:lnTo>
                  <a:lnTo>
                    <a:pt x="0" y="747"/>
                  </a:lnTo>
                  <a:lnTo>
                    <a:pt x="1" y="707"/>
                  </a:lnTo>
                  <a:lnTo>
                    <a:pt x="2" y="669"/>
                  </a:lnTo>
                  <a:lnTo>
                    <a:pt x="4" y="630"/>
                  </a:lnTo>
                  <a:lnTo>
                    <a:pt x="9" y="594"/>
                  </a:lnTo>
                  <a:lnTo>
                    <a:pt x="13" y="558"/>
                  </a:lnTo>
                  <a:lnTo>
                    <a:pt x="19" y="521"/>
                  </a:lnTo>
                  <a:lnTo>
                    <a:pt x="25" y="487"/>
                  </a:lnTo>
                  <a:lnTo>
                    <a:pt x="32" y="452"/>
                  </a:lnTo>
                  <a:lnTo>
                    <a:pt x="41" y="419"/>
                  </a:lnTo>
                  <a:lnTo>
                    <a:pt x="50" y="386"/>
                  </a:lnTo>
                  <a:lnTo>
                    <a:pt x="60" y="355"/>
                  </a:lnTo>
                  <a:lnTo>
                    <a:pt x="71" y="326"/>
                  </a:lnTo>
                  <a:lnTo>
                    <a:pt x="82" y="296"/>
                  </a:lnTo>
                  <a:lnTo>
                    <a:pt x="95" y="268"/>
                  </a:lnTo>
                  <a:lnTo>
                    <a:pt x="109" y="241"/>
                  </a:lnTo>
                  <a:lnTo>
                    <a:pt x="122" y="215"/>
                  </a:lnTo>
                  <a:lnTo>
                    <a:pt x="137" y="190"/>
                  </a:lnTo>
                  <a:lnTo>
                    <a:pt x="153" y="168"/>
                  </a:lnTo>
                  <a:lnTo>
                    <a:pt x="169" y="147"/>
                  </a:lnTo>
                  <a:lnTo>
                    <a:pt x="186" y="126"/>
                  </a:lnTo>
                  <a:lnTo>
                    <a:pt x="204" y="107"/>
                  </a:lnTo>
                  <a:lnTo>
                    <a:pt x="223" y="90"/>
                  </a:lnTo>
                  <a:lnTo>
                    <a:pt x="242" y="73"/>
                  </a:lnTo>
                  <a:lnTo>
                    <a:pt x="263" y="57"/>
                  </a:lnTo>
                  <a:lnTo>
                    <a:pt x="284" y="43"/>
                  </a:lnTo>
                  <a:lnTo>
                    <a:pt x="305" y="33"/>
                  </a:lnTo>
                  <a:lnTo>
                    <a:pt x="327" y="22"/>
                  </a:lnTo>
                  <a:lnTo>
                    <a:pt x="350" y="14"/>
                  </a:lnTo>
                  <a:lnTo>
                    <a:pt x="373" y="9"/>
                  </a:lnTo>
                  <a:lnTo>
                    <a:pt x="396" y="3"/>
                  </a:lnTo>
                  <a:lnTo>
                    <a:pt x="419" y="2"/>
                  </a:lnTo>
                  <a:lnTo>
                    <a:pt x="443" y="0"/>
                  </a:lnTo>
                  <a:lnTo>
                    <a:pt x="479" y="2"/>
                  </a:lnTo>
                  <a:lnTo>
                    <a:pt x="512" y="9"/>
                  </a:lnTo>
                  <a:lnTo>
                    <a:pt x="545" y="19"/>
                  </a:lnTo>
                  <a:lnTo>
                    <a:pt x="574" y="33"/>
                  </a:lnTo>
                  <a:lnTo>
                    <a:pt x="602" y="52"/>
                  </a:lnTo>
                  <a:lnTo>
                    <a:pt x="628" y="74"/>
                  </a:lnTo>
                  <a:lnTo>
                    <a:pt x="653" y="100"/>
                  </a:lnTo>
                  <a:lnTo>
                    <a:pt x="664" y="116"/>
                  </a:lnTo>
                  <a:lnTo>
                    <a:pt x="675" y="132"/>
                  </a:lnTo>
                  <a:lnTo>
                    <a:pt x="685" y="149"/>
                  </a:lnTo>
                  <a:lnTo>
                    <a:pt x="695" y="166"/>
                  </a:lnTo>
                  <a:lnTo>
                    <a:pt x="704" y="185"/>
                  </a:lnTo>
                  <a:lnTo>
                    <a:pt x="712" y="204"/>
                  </a:lnTo>
                  <a:lnTo>
                    <a:pt x="720" y="223"/>
                  </a:lnTo>
                  <a:lnTo>
                    <a:pt x="727" y="244"/>
                  </a:lnTo>
                  <a:lnTo>
                    <a:pt x="733" y="267"/>
                  </a:lnTo>
                  <a:lnTo>
                    <a:pt x="738" y="289"/>
                  </a:lnTo>
                  <a:lnTo>
                    <a:pt x="744" y="312"/>
                  </a:lnTo>
                  <a:lnTo>
                    <a:pt x="748" y="336"/>
                  </a:lnTo>
                  <a:lnTo>
                    <a:pt x="751" y="362"/>
                  </a:lnTo>
                  <a:lnTo>
                    <a:pt x="755" y="388"/>
                  </a:lnTo>
                  <a:lnTo>
                    <a:pt x="757" y="414"/>
                  </a:lnTo>
                  <a:lnTo>
                    <a:pt x="758" y="442"/>
                  </a:lnTo>
                  <a:close/>
                  <a:moveTo>
                    <a:pt x="531" y="364"/>
                  </a:moveTo>
                  <a:lnTo>
                    <a:pt x="531" y="329"/>
                  </a:lnTo>
                  <a:lnTo>
                    <a:pt x="529" y="298"/>
                  </a:lnTo>
                  <a:lnTo>
                    <a:pt x="528" y="270"/>
                  </a:lnTo>
                  <a:lnTo>
                    <a:pt x="525" y="242"/>
                  </a:lnTo>
                  <a:lnTo>
                    <a:pt x="521" y="218"/>
                  </a:lnTo>
                  <a:lnTo>
                    <a:pt x="517" y="196"/>
                  </a:lnTo>
                  <a:lnTo>
                    <a:pt x="514" y="187"/>
                  </a:lnTo>
                  <a:lnTo>
                    <a:pt x="512" y="177"/>
                  </a:lnTo>
                  <a:lnTo>
                    <a:pt x="509" y="168"/>
                  </a:lnTo>
                  <a:lnTo>
                    <a:pt x="506" y="159"/>
                  </a:lnTo>
                  <a:lnTo>
                    <a:pt x="502" y="151"/>
                  </a:lnTo>
                  <a:lnTo>
                    <a:pt x="499" y="144"/>
                  </a:lnTo>
                  <a:lnTo>
                    <a:pt x="495" y="137"/>
                  </a:lnTo>
                  <a:lnTo>
                    <a:pt x="491" y="132"/>
                  </a:lnTo>
                  <a:lnTo>
                    <a:pt x="487" y="125"/>
                  </a:lnTo>
                  <a:lnTo>
                    <a:pt x="483" y="119"/>
                  </a:lnTo>
                  <a:lnTo>
                    <a:pt x="479" y="114"/>
                  </a:lnTo>
                  <a:lnTo>
                    <a:pt x="473" y="111"/>
                  </a:lnTo>
                  <a:lnTo>
                    <a:pt x="469" y="106"/>
                  </a:lnTo>
                  <a:lnTo>
                    <a:pt x="464" y="102"/>
                  </a:lnTo>
                  <a:lnTo>
                    <a:pt x="459" y="100"/>
                  </a:lnTo>
                  <a:lnTo>
                    <a:pt x="454" y="97"/>
                  </a:lnTo>
                  <a:lnTo>
                    <a:pt x="443" y="95"/>
                  </a:lnTo>
                  <a:lnTo>
                    <a:pt x="431" y="93"/>
                  </a:lnTo>
                  <a:lnTo>
                    <a:pt x="418" y="95"/>
                  </a:lnTo>
                  <a:lnTo>
                    <a:pt x="407" y="99"/>
                  </a:lnTo>
                  <a:lnTo>
                    <a:pt x="395" y="104"/>
                  </a:lnTo>
                  <a:lnTo>
                    <a:pt x="383" y="112"/>
                  </a:lnTo>
                  <a:lnTo>
                    <a:pt x="371" y="121"/>
                  </a:lnTo>
                  <a:lnTo>
                    <a:pt x="360" y="135"/>
                  </a:lnTo>
                  <a:lnTo>
                    <a:pt x="350" y="149"/>
                  </a:lnTo>
                  <a:lnTo>
                    <a:pt x="339" y="166"/>
                  </a:lnTo>
                  <a:lnTo>
                    <a:pt x="329" y="185"/>
                  </a:lnTo>
                  <a:lnTo>
                    <a:pt x="319" y="208"/>
                  </a:lnTo>
                  <a:lnTo>
                    <a:pt x="310" y="230"/>
                  </a:lnTo>
                  <a:lnTo>
                    <a:pt x="302" y="256"/>
                  </a:lnTo>
                  <a:lnTo>
                    <a:pt x="293" y="284"/>
                  </a:lnTo>
                  <a:lnTo>
                    <a:pt x="286" y="315"/>
                  </a:lnTo>
                  <a:lnTo>
                    <a:pt x="278" y="346"/>
                  </a:lnTo>
                  <a:lnTo>
                    <a:pt x="271" y="381"/>
                  </a:lnTo>
                  <a:lnTo>
                    <a:pt x="260" y="442"/>
                  </a:lnTo>
                  <a:lnTo>
                    <a:pt x="252" y="504"/>
                  </a:lnTo>
                  <a:lnTo>
                    <a:pt x="244" y="570"/>
                  </a:lnTo>
                  <a:lnTo>
                    <a:pt x="239" y="637"/>
                  </a:lnTo>
                  <a:lnTo>
                    <a:pt x="235" y="705"/>
                  </a:lnTo>
                  <a:lnTo>
                    <a:pt x="231" y="767"/>
                  </a:lnTo>
                  <a:lnTo>
                    <a:pt x="230" y="828"/>
                  </a:lnTo>
                  <a:lnTo>
                    <a:pt x="229" y="883"/>
                  </a:lnTo>
                  <a:lnTo>
                    <a:pt x="229" y="918"/>
                  </a:lnTo>
                  <a:lnTo>
                    <a:pt x="230" y="951"/>
                  </a:lnTo>
                  <a:lnTo>
                    <a:pt x="232" y="980"/>
                  </a:lnTo>
                  <a:lnTo>
                    <a:pt x="236" y="1008"/>
                  </a:lnTo>
                  <a:lnTo>
                    <a:pt x="239" y="1032"/>
                  </a:lnTo>
                  <a:lnTo>
                    <a:pt x="241" y="1044"/>
                  </a:lnTo>
                  <a:lnTo>
                    <a:pt x="243" y="1055"/>
                  </a:lnTo>
                  <a:lnTo>
                    <a:pt x="246" y="1065"/>
                  </a:lnTo>
                  <a:lnTo>
                    <a:pt x="249" y="1076"/>
                  </a:lnTo>
                  <a:lnTo>
                    <a:pt x="252" y="1084"/>
                  </a:lnTo>
                  <a:lnTo>
                    <a:pt x="255" y="1093"/>
                  </a:lnTo>
                  <a:lnTo>
                    <a:pt x="258" y="1102"/>
                  </a:lnTo>
                  <a:lnTo>
                    <a:pt x="262" y="1109"/>
                  </a:lnTo>
                  <a:lnTo>
                    <a:pt x="265" y="1116"/>
                  </a:lnTo>
                  <a:lnTo>
                    <a:pt x="269" y="1121"/>
                  </a:lnTo>
                  <a:lnTo>
                    <a:pt x="274" y="1128"/>
                  </a:lnTo>
                  <a:lnTo>
                    <a:pt x="278" y="1133"/>
                  </a:lnTo>
                  <a:lnTo>
                    <a:pt x="282" y="1136"/>
                  </a:lnTo>
                  <a:lnTo>
                    <a:pt x="286" y="1142"/>
                  </a:lnTo>
                  <a:lnTo>
                    <a:pt x="291" y="1145"/>
                  </a:lnTo>
                  <a:lnTo>
                    <a:pt x="297" y="1148"/>
                  </a:lnTo>
                  <a:lnTo>
                    <a:pt x="302" y="1150"/>
                  </a:lnTo>
                  <a:lnTo>
                    <a:pt x="307" y="1154"/>
                  </a:lnTo>
                  <a:lnTo>
                    <a:pt x="319" y="1155"/>
                  </a:lnTo>
                  <a:lnTo>
                    <a:pt x="330" y="1157"/>
                  </a:lnTo>
                  <a:lnTo>
                    <a:pt x="343" y="1155"/>
                  </a:lnTo>
                  <a:lnTo>
                    <a:pt x="356" y="1152"/>
                  </a:lnTo>
                  <a:lnTo>
                    <a:pt x="363" y="1150"/>
                  </a:lnTo>
                  <a:lnTo>
                    <a:pt x="368" y="1147"/>
                  </a:lnTo>
                  <a:lnTo>
                    <a:pt x="374" y="1142"/>
                  </a:lnTo>
                  <a:lnTo>
                    <a:pt x="380" y="1138"/>
                  </a:lnTo>
                  <a:lnTo>
                    <a:pt x="385" y="1133"/>
                  </a:lnTo>
                  <a:lnTo>
                    <a:pt x="391" y="1126"/>
                  </a:lnTo>
                  <a:lnTo>
                    <a:pt x="402" y="1112"/>
                  </a:lnTo>
                  <a:lnTo>
                    <a:pt x="412" y="1096"/>
                  </a:lnTo>
                  <a:lnTo>
                    <a:pt x="423" y="1077"/>
                  </a:lnTo>
                  <a:lnTo>
                    <a:pt x="432" y="1057"/>
                  </a:lnTo>
                  <a:lnTo>
                    <a:pt x="441" y="1034"/>
                  </a:lnTo>
                  <a:lnTo>
                    <a:pt x="450" y="1012"/>
                  </a:lnTo>
                  <a:lnTo>
                    <a:pt x="457" y="987"/>
                  </a:lnTo>
                  <a:lnTo>
                    <a:pt x="465" y="963"/>
                  </a:lnTo>
                  <a:lnTo>
                    <a:pt x="472" y="935"/>
                  </a:lnTo>
                  <a:lnTo>
                    <a:pt x="479" y="909"/>
                  </a:lnTo>
                  <a:lnTo>
                    <a:pt x="484" y="880"/>
                  </a:lnTo>
                  <a:lnTo>
                    <a:pt x="495" y="821"/>
                  </a:lnTo>
                  <a:lnTo>
                    <a:pt x="505" y="760"/>
                  </a:lnTo>
                  <a:lnTo>
                    <a:pt x="512" y="695"/>
                  </a:lnTo>
                  <a:lnTo>
                    <a:pt x="519" y="627"/>
                  </a:lnTo>
                  <a:lnTo>
                    <a:pt x="524" y="559"/>
                  </a:lnTo>
                  <a:lnTo>
                    <a:pt x="528" y="492"/>
                  </a:lnTo>
                  <a:lnTo>
                    <a:pt x="530" y="42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75800" y="2320920"/>
              <a:ext cx="125280" cy="441360"/>
            </a:xfrm>
            <a:custGeom>
              <a:avLst/>
              <a:gdLst/>
              <a:ahLst/>
              <a:rect l="l" t="t" r="r" b="b"/>
              <a:pathLst>
                <a:path w="348" h="1224">
                  <a:moveTo>
                    <a:pt x="347" y="235"/>
                  </a:moveTo>
                  <a:lnTo>
                    <a:pt x="347" y="248"/>
                  </a:lnTo>
                  <a:lnTo>
                    <a:pt x="346" y="258"/>
                  </a:lnTo>
                  <a:lnTo>
                    <a:pt x="345" y="270"/>
                  </a:lnTo>
                  <a:lnTo>
                    <a:pt x="344" y="280"/>
                  </a:lnTo>
                  <a:lnTo>
                    <a:pt x="343" y="291"/>
                  </a:lnTo>
                  <a:lnTo>
                    <a:pt x="342" y="301"/>
                  </a:lnTo>
                  <a:lnTo>
                    <a:pt x="339" y="312"/>
                  </a:lnTo>
                  <a:lnTo>
                    <a:pt x="337" y="322"/>
                  </a:lnTo>
                  <a:lnTo>
                    <a:pt x="335" y="332"/>
                  </a:lnTo>
                  <a:lnTo>
                    <a:pt x="331" y="343"/>
                  </a:lnTo>
                  <a:lnTo>
                    <a:pt x="329" y="352"/>
                  </a:lnTo>
                  <a:lnTo>
                    <a:pt x="325" y="362"/>
                  </a:lnTo>
                  <a:lnTo>
                    <a:pt x="318" y="381"/>
                  </a:lnTo>
                  <a:lnTo>
                    <a:pt x="309" y="398"/>
                  </a:lnTo>
                  <a:lnTo>
                    <a:pt x="299" y="414"/>
                  </a:lnTo>
                  <a:lnTo>
                    <a:pt x="289" y="429"/>
                  </a:lnTo>
                  <a:lnTo>
                    <a:pt x="278" y="442"/>
                  </a:lnTo>
                  <a:lnTo>
                    <a:pt x="267" y="450"/>
                  </a:lnTo>
                  <a:lnTo>
                    <a:pt x="256" y="457"/>
                  </a:lnTo>
                  <a:lnTo>
                    <a:pt x="244" y="464"/>
                  </a:lnTo>
                  <a:lnTo>
                    <a:pt x="232" y="466"/>
                  </a:lnTo>
                  <a:lnTo>
                    <a:pt x="219" y="468"/>
                  </a:lnTo>
                  <a:lnTo>
                    <a:pt x="206" y="466"/>
                  </a:lnTo>
                  <a:lnTo>
                    <a:pt x="193" y="464"/>
                  </a:lnTo>
                  <a:lnTo>
                    <a:pt x="182" y="457"/>
                  </a:lnTo>
                  <a:lnTo>
                    <a:pt x="170" y="450"/>
                  </a:lnTo>
                  <a:lnTo>
                    <a:pt x="159" y="442"/>
                  </a:lnTo>
                  <a:lnTo>
                    <a:pt x="148" y="429"/>
                  </a:lnTo>
                  <a:lnTo>
                    <a:pt x="138" y="414"/>
                  </a:lnTo>
                  <a:lnTo>
                    <a:pt x="128" y="398"/>
                  </a:lnTo>
                  <a:lnTo>
                    <a:pt x="119" y="381"/>
                  </a:lnTo>
                  <a:lnTo>
                    <a:pt x="116" y="372"/>
                  </a:lnTo>
                  <a:lnTo>
                    <a:pt x="111" y="362"/>
                  </a:lnTo>
                  <a:lnTo>
                    <a:pt x="108" y="353"/>
                  </a:lnTo>
                  <a:lnTo>
                    <a:pt x="105" y="343"/>
                  </a:lnTo>
                  <a:lnTo>
                    <a:pt x="102" y="334"/>
                  </a:lnTo>
                  <a:lnTo>
                    <a:pt x="99" y="324"/>
                  </a:lnTo>
                  <a:lnTo>
                    <a:pt x="98" y="313"/>
                  </a:lnTo>
                  <a:lnTo>
                    <a:pt x="95" y="303"/>
                  </a:lnTo>
                  <a:lnTo>
                    <a:pt x="94" y="293"/>
                  </a:lnTo>
                  <a:lnTo>
                    <a:pt x="93" y="280"/>
                  </a:lnTo>
                  <a:lnTo>
                    <a:pt x="92" y="270"/>
                  </a:lnTo>
                  <a:lnTo>
                    <a:pt x="91" y="258"/>
                  </a:lnTo>
                  <a:lnTo>
                    <a:pt x="90" y="248"/>
                  </a:lnTo>
                  <a:lnTo>
                    <a:pt x="90" y="235"/>
                  </a:lnTo>
                  <a:lnTo>
                    <a:pt x="90" y="223"/>
                  </a:lnTo>
                  <a:lnTo>
                    <a:pt x="91" y="211"/>
                  </a:lnTo>
                  <a:lnTo>
                    <a:pt x="92" y="201"/>
                  </a:lnTo>
                  <a:lnTo>
                    <a:pt x="93" y="189"/>
                  </a:lnTo>
                  <a:lnTo>
                    <a:pt x="94" y="178"/>
                  </a:lnTo>
                  <a:lnTo>
                    <a:pt x="95" y="166"/>
                  </a:lnTo>
                  <a:lnTo>
                    <a:pt x="98" y="156"/>
                  </a:lnTo>
                  <a:lnTo>
                    <a:pt x="99" y="145"/>
                  </a:lnTo>
                  <a:lnTo>
                    <a:pt x="102" y="135"/>
                  </a:lnTo>
                  <a:lnTo>
                    <a:pt x="105" y="125"/>
                  </a:lnTo>
                  <a:lnTo>
                    <a:pt x="108" y="116"/>
                  </a:lnTo>
                  <a:lnTo>
                    <a:pt x="111" y="106"/>
                  </a:lnTo>
                  <a:lnTo>
                    <a:pt x="119" y="86"/>
                  </a:lnTo>
                  <a:lnTo>
                    <a:pt x="128" y="69"/>
                  </a:lnTo>
                  <a:lnTo>
                    <a:pt x="138" y="54"/>
                  </a:lnTo>
                  <a:lnTo>
                    <a:pt x="148" y="38"/>
                  </a:lnTo>
                  <a:lnTo>
                    <a:pt x="159" y="26"/>
                  </a:lnTo>
                  <a:lnTo>
                    <a:pt x="170" y="17"/>
                  </a:lnTo>
                  <a:lnTo>
                    <a:pt x="182" y="10"/>
                  </a:lnTo>
                  <a:lnTo>
                    <a:pt x="193" y="3"/>
                  </a:lnTo>
                  <a:lnTo>
                    <a:pt x="206" y="2"/>
                  </a:lnTo>
                  <a:lnTo>
                    <a:pt x="219" y="0"/>
                  </a:lnTo>
                  <a:lnTo>
                    <a:pt x="232" y="2"/>
                  </a:lnTo>
                  <a:lnTo>
                    <a:pt x="244" y="5"/>
                  </a:lnTo>
                  <a:lnTo>
                    <a:pt x="256" y="10"/>
                  </a:lnTo>
                  <a:lnTo>
                    <a:pt x="267" y="17"/>
                  </a:lnTo>
                  <a:lnTo>
                    <a:pt x="278" y="28"/>
                  </a:lnTo>
                  <a:lnTo>
                    <a:pt x="289" y="40"/>
                  </a:lnTo>
                  <a:lnTo>
                    <a:pt x="299" y="54"/>
                  </a:lnTo>
                  <a:lnTo>
                    <a:pt x="309" y="71"/>
                  </a:lnTo>
                  <a:lnTo>
                    <a:pt x="318" y="88"/>
                  </a:lnTo>
                  <a:lnTo>
                    <a:pt x="325" y="107"/>
                  </a:lnTo>
                  <a:lnTo>
                    <a:pt x="329" y="118"/>
                  </a:lnTo>
                  <a:lnTo>
                    <a:pt x="331" y="126"/>
                  </a:lnTo>
                  <a:lnTo>
                    <a:pt x="335" y="137"/>
                  </a:lnTo>
                  <a:lnTo>
                    <a:pt x="337" y="147"/>
                  </a:lnTo>
                  <a:lnTo>
                    <a:pt x="339" y="157"/>
                  </a:lnTo>
                  <a:lnTo>
                    <a:pt x="342" y="168"/>
                  </a:lnTo>
                  <a:lnTo>
                    <a:pt x="343" y="178"/>
                  </a:lnTo>
                  <a:lnTo>
                    <a:pt x="344" y="189"/>
                  </a:lnTo>
                  <a:lnTo>
                    <a:pt x="345" y="201"/>
                  </a:lnTo>
                  <a:lnTo>
                    <a:pt x="346" y="211"/>
                  </a:lnTo>
                  <a:lnTo>
                    <a:pt x="347" y="223"/>
                  </a:lnTo>
                  <a:close/>
                  <a:moveTo>
                    <a:pt x="256" y="991"/>
                  </a:moveTo>
                  <a:lnTo>
                    <a:pt x="256" y="1003"/>
                  </a:lnTo>
                  <a:lnTo>
                    <a:pt x="255" y="1013"/>
                  </a:lnTo>
                  <a:lnTo>
                    <a:pt x="254" y="1025"/>
                  </a:lnTo>
                  <a:lnTo>
                    <a:pt x="254" y="1036"/>
                  </a:lnTo>
                  <a:lnTo>
                    <a:pt x="253" y="1046"/>
                  </a:lnTo>
                  <a:lnTo>
                    <a:pt x="251" y="1057"/>
                  </a:lnTo>
                  <a:lnTo>
                    <a:pt x="248" y="1067"/>
                  </a:lnTo>
                  <a:lnTo>
                    <a:pt x="247" y="1077"/>
                  </a:lnTo>
                  <a:lnTo>
                    <a:pt x="244" y="1088"/>
                  </a:lnTo>
                  <a:lnTo>
                    <a:pt x="241" y="1098"/>
                  </a:lnTo>
                  <a:lnTo>
                    <a:pt x="238" y="1107"/>
                  </a:lnTo>
                  <a:lnTo>
                    <a:pt x="235" y="1117"/>
                  </a:lnTo>
                  <a:lnTo>
                    <a:pt x="227" y="1136"/>
                  </a:lnTo>
                  <a:lnTo>
                    <a:pt x="218" y="1154"/>
                  </a:lnTo>
                  <a:lnTo>
                    <a:pt x="209" y="1169"/>
                  </a:lnTo>
                  <a:lnTo>
                    <a:pt x="198" y="1185"/>
                  </a:lnTo>
                  <a:lnTo>
                    <a:pt x="187" y="1197"/>
                  </a:lnTo>
                  <a:lnTo>
                    <a:pt x="176" y="1206"/>
                  </a:lnTo>
                  <a:lnTo>
                    <a:pt x="165" y="1213"/>
                  </a:lnTo>
                  <a:lnTo>
                    <a:pt x="154" y="1219"/>
                  </a:lnTo>
                  <a:lnTo>
                    <a:pt x="141" y="1221"/>
                  </a:lnTo>
                  <a:lnTo>
                    <a:pt x="128" y="1223"/>
                  </a:lnTo>
                  <a:lnTo>
                    <a:pt x="116" y="1221"/>
                  </a:lnTo>
                  <a:lnTo>
                    <a:pt x="103" y="1219"/>
                  </a:lnTo>
                  <a:lnTo>
                    <a:pt x="91" y="1213"/>
                  </a:lnTo>
                  <a:lnTo>
                    <a:pt x="79" y="1206"/>
                  </a:lnTo>
                  <a:lnTo>
                    <a:pt x="68" y="1197"/>
                  </a:lnTo>
                  <a:lnTo>
                    <a:pt x="57" y="1185"/>
                  </a:lnTo>
                  <a:lnTo>
                    <a:pt x="47" y="1169"/>
                  </a:lnTo>
                  <a:lnTo>
                    <a:pt x="38" y="1154"/>
                  </a:lnTo>
                  <a:lnTo>
                    <a:pt x="28" y="1136"/>
                  </a:lnTo>
                  <a:lnTo>
                    <a:pt x="25" y="1128"/>
                  </a:lnTo>
                  <a:lnTo>
                    <a:pt x="21" y="1117"/>
                  </a:lnTo>
                  <a:lnTo>
                    <a:pt x="17" y="1109"/>
                  </a:lnTo>
                  <a:lnTo>
                    <a:pt x="15" y="1098"/>
                  </a:lnTo>
                  <a:lnTo>
                    <a:pt x="11" y="1090"/>
                  </a:lnTo>
                  <a:lnTo>
                    <a:pt x="9" y="1079"/>
                  </a:lnTo>
                  <a:lnTo>
                    <a:pt x="7" y="1069"/>
                  </a:lnTo>
                  <a:lnTo>
                    <a:pt x="5" y="1058"/>
                  </a:lnTo>
                  <a:lnTo>
                    <a:pt x="3" y="1048"/>
                  </a:lnTo>
                  <a:lnTo>
                    <a:pt x="2" y="1036"/>
                  </a:lnTo>
                  <a:lnTo>
                    <a:pt x="1" y="1025"/>
                  </a:lnTo>
                  <a:lnTo>
                    <a:pt x="0" y="1013"/>
                  </a:lnTo>
                  <a:lnTo>
                    <a:pt x="0" y="1003"/>
                  </a:lnTo>
                  <a:lnTo>
                    <a:pt x="0" y="991"/>
                  </a:lnTo>
                  <a:lnTo>
                    <a:pt x="0" y="979"/>
                  </a:lnTo>
                  <a:lnTo>
                    <a:pt x="0" y="967"/>
                  </a:lnTo>
                  <a:lnTo>
                    <a:pt x="1" y="956"/>
                  </a:lnTo>
                  <a:lnTo>
                    <a:pt x="2" y="944"/>
                  </a:lnTo>
                  <a:lnTo>
                    <a:pt x="3" y="934"/>
                  </a:lnTo>
                  <a:lnTo>
                    <a:pt x="5" y="921"/>
                  </a:lnTo>
                  <a:lnTo>
                    <a:pt x="7" y="911"/>
                  </a:lnTo>
                  <a:lnTo>
                    <a:pt x="9" y="901"/>
                  </a:lnTo>
                  <a:lnTo>
                    <a:pt x="11" y="890"/>
                  </a:lnTo>
                  <a:lnTo>
                    <a:pt x="15" y="880"/>
                  </a:lnTo>
                  <a:lnTo>
                    <a:pt x="17" y="871"/>
                  </a:lnTo>
                  <a:lnTo>
                    <a:pt x="21" y="861"/>
                  </a:lnTo>
                  <a:lnTo>
                    <a:pt x="28" y="842"/>
                  </a:lnTo>
                  <a:lnTo>
                    <a:pt x="38" y="824"/>
                  </a:lnTo>
                  <a:lnTo>
                    <a:pt x="47" y="809"/>
                  </a:lnTo>
                  <a:lnTo>
                    <a:pt x="57" y="793"/>
                  </a:lnTo>
                  <a:lnTo>
                    <a:pt x="68" y="781"/>
                  </a:lnTo>
                  <a:lnTo>
                    <a:pt x="79" y="772"/>
                  </a:lnTo>
                  <a:lnTo>
                    <a:pt x="91" y="766"/>
                  </a:lnTo>
                  <a:lnTo>
                    <a:pt x="103" y="759"/>
                  </a:lnTo>
                  <a:lnTo>
                    <a:pt x="116" y="757"/>
                  </a:lnTo>
                  <a:lnTo>
                    <a:pt x="128" y="755"/>
                  </a:lnTo>
                  <a:lnTo>
                    <a:pt x="141" y="757"/>
                  </a:lnTo>
                  <a:lnTo>
                    <a:pt x="154" y="760"/>
                  </a:lnTo>
                  <a:lnTo>
                    <a:pt x="165" y="766"/>
                  </a:lnTo>
                  <a:lnTo>
                    <a:pt x="176" y="772"/>
                  </a:lnTo>
                  <a:lnTo>
                    <a:pt x="187" y="783"/>
                  </a:lnTo>
                  <a:lnTo>
                    <a:pt x="198" y="795"/>
                  </a:lnTo>
                  <a:lnTo>
                    <a:pt x="209" y="809"/>
                  </a:lnTo>
                  <a:lnTo>
                    <a:pt x="218" y="826"/>
                  </a:lnTo>
                  <a:lnTo>
                    <a:pt x="227" y="844"/>
                  </a:lnTo>
                  <a:lnTo>
                    <a:pt x="235" y="863"/>
                  </a:lnTo>
                  <a:lnTo>
                    <a:pt x="238" y="873"/>
                  </a:lnTo>
                  <a:lnTo>
                    <a:pt x="241" y="882"/>
                  </a:lnTo>
                  <a:lnTo>
                    <a:pt x="244" y="892"/>
                  </a:lnTo>
                  <a:lnTo>
                    <a:pt x="247" y="902"/>
                  </a:lnTo>
                  <a:lnTo>
                    <a:pt x="248" y="913"/>
                  </a:lnTo>
                  <a:lnTo>
                    <a:pt x="251" y="923"/>
                  </a:lnTo>
                  <a:lnTo>
                    <a:pt x="253" y="934"/>
                  </a:lnTo>
                  <a:lnTo>
                    <a:pt x="254" y="944"/>
                  </a:lnTo>
                  <a:lnTo>
                    <a:pt x="254" y="956"/>
                  </a:lnTo>
                  <a:lnTo>
                    <a:pt x="255" y="967"/>
                  </a:lnTo>
                  <a:lnTo>
                    <a:pt x="256" y="979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84440" y="3009960"/>
              <a:ext cx="417240" cy="619200"/>
            </a:xfrm>
            <a:custGeom>
              <a:avLst/>
              <a:gdLst/>
              <a:ahLst/>
              <a:rect l="l" t="t" r="r" b="b"/>
              <a:pathLst>
                <a:path w="1159" h="1718">
                  <a:moveTo>
                    <a:pt x="1158" y="211"/>
                  </a:moveTo>
                  <a:lnTo>
                    <a:pt x="1157" y="237"/>
                  </a:lnTo>
                  <a:lnTo>
                    <a:pt x="1157" y="260"/>
                  </a:lnTo>
                  <a:lnTo>
                    <a:pt x="1155" y="272"/>
                  </a:lnTo>
                  <a:lnTo>
                    <a:pt x="1154" y="282"/>
                  </a:lnTo>
                  <a:lnTo>
                    <a:pt x="1152" y="293"/>
                  </a:lnTo>
                  <a:lnTo>
                    <a:pt x="1150" y="303"/>
                  </a:lnTo>
                  <a:lnTo>
                    <a:pt x="1148" y="313"/>
                  </a:lnTo>
                  <a:lnTo>
                    <a:pt x="1146" y="322"/>
                  </a:lnTo>
                  <a:lnTo>
                    <a:pt x="1143" y="333"/>
                  </a:lnTo>
                  <a:lnTo>
                    <a:pt x="1140" y="341"/>
                  </a:lnTo>
                  <a:lnTo>
                    <a:pt x="1136" y="350"/>
                  </a:lnTo>
                  <a:lnTo>
                    <a:pt x="1133" y="357"/>
                  </a:lnTo>
                  <a:lnTo>
                    <a:pt x="1129" y="365"/>
                  </a:lnTo>
                  <a:lnTo>
                    <a:pt x="1125" y="372"/>
                  </a:lnTo>
                  <a:lnTo>
                    <a:pt x="1117" y="386"/>
                  </a:lnTo>
                  <a:lnTo>
                    <a:pt x="1107" y="397"/>
                  </a:lnTo>
                  <a:lnTo>
                    <a:pt x="1098" y="407"/>
                  </a:lnTo>
                  <a:lnTo>
                    <a:pt x="1088" y="416"/>
                  </a:lnTo>
                  <a:lnTo>
                    <a:pt x="1078" y="421"/>
                  </a:lnTo>
                  <a:lnTo>
                    <a:pt x="1067" y="426"/>
                  </a:lnTo>
                  <a:lnTo>
                    <a:pt x="1055" y="428"/>
                  </a:lnTo>
                  <a:lnTo>
                    <a:pt x="1043" y="430"/>
                  </a:lnTo>
                  <a:lnTo>
                    <a:pt x="1035" y="430"/>
                  </a:lnTo>
                  <a:lnTo>
                    <a:pt x="1028" y="428"/>
                  </a:lnTo>
                  <a:lnTo>
                    <a:pt x="1020" y="424"/>
                  </a:lnTo>
                  <a:lnTo>
                    <a:pt x="1013" y="421"/>
                  </a:lnTo>
                  <a:lnTo>
                    <a:pt x="1005" y="417"/>
                  </a:lnTo>
                  <a:lnTo>
                    <a:pt x="997" y="410"/>
                  </a:lnTo>
                  <a:lnTo>
                    <a:pt x="990" y="405"/>
                  </a:lnTo>
                  <a:lnTo>
                    <a:pt x="982" y="397"/>
                  </a:lnTo>
                  <a:lnTo>
                    <a:pt x="975" y="388"/>
                  </a:lnTo>
                  <a:lnTo>
                    <a:pt x="967" y="376"/>
                  </a:lnTo>
                  <a:lnTo>
                    <a:pt x="958" y="362"/>
                  </a:lnTo>
                  <a:lnTo>
                    <a:pt x="950" y="348"/>
                  </a:lnTo>
                  <a:lnTo>
                    <a:pt x="941" y="331"/>
                  </a:lnTo>
                  <a:lnTo>
                    <a:pt x="932" y="312"/>
                  </a:lnTo>
                  <a:lnTo>
                    <a:pt x="913" y="267"/>
                  </a:lnTo>
                  <a:lnTo>
                    <a:pt x="908" y="275"/>
                  </a:lnTo>
                  <a:lnTo>
                    <a:pt x="902" y="286"/>
                  </a:lnTo>
                  <a:lnTo>
                    <a:pt x="897" y="298"/>
                  </a:lnTo>
                  <a:lnTo>
                    <a:pt x="891" y="310"/>
                  </a:lnTo>
                  <a:lnTo>
                    <a:pt x="886" y="324"/>
                  </a:lnTo>
                  <a:lnTo>
                    <a:pt x="880" y="338"/>
                  </a:lnTo>
                  <a:lnTo>
                    <a:pt x="869" y="372"/>
                  </a:lnTo>
                  <a:lnTo>
                    <a:pt x="820" y="516"/>
                  </a:lnTo>
                  <a:lnTo>
                    <a:pt x="799" y="575"/>
                  </a:lnTo>
                  <a:lnTo>
                    <a:pt x="780" y="625"/>
                  </a:lnTo>
                  <a:lnTo>
                    <a:pt x="762" y="667"/>
                  </a:lnTo>
                  <a:lnTo>
                    <a:pt x="754" y="686"/>
                  </a:lnTo>
                  <a:lnTo>
                    <a:pt x="746" y="702"/>
                  </a:lnTo>
                  <a:lnTo>
                    <a:pt x="738" y="715"/>
                  </a:lnTo>
                  <a:lnTo>
                    <a:pt x="731" y="729"/>
                  </a:lnTo>
                  <a:lnTo>
                    <a:pt x="715" y="755"/>
                  </a:lnTo>
                  <a:lnTo>
                    <a:pt x="697" y="781"/>
                  </a:lnTo>
                  <a:lnTo>
                    <a:pt x="679" y="804"/>
                  </a:lnTo>
                  <a:lnTo>
                    <a:pt x="679" y="825"/>
                  </a:lnTo>
                  <a:lnTo>
                    <a:pt x="699" y="837"/>
                  </a:lnTo>
                  <a:lnTo>
                    <a:pt x="718" y="849"/>
                  </a:lnTo>
                  <a:lnTo>
                    <a:pt x="736" y="864"/>
                  </a:lnTo>
                  <a:lnTo>
                    <a:pt x="753" y="880"/>
                  </a:lnTo>
                  <a:lnTo>
                    <a:pt x="768" y="899"/>
                  </a:lnTo>
                  <a:lnTo>
                    <a:pt x="783" y="920"/>
                  </a:lnTo>
                  <a:lnTo>
                    <a:pt x="796" y="941"/>
                  </a:lnTo>
                  <a:lnTo>
                    <a:pt x="809" y="965"/>
                  </a:lnTo>
                  <a:lnTo>
                    <a:pt x="820" y="991"/>
                  </a:lnTo>
                  <a:lnTo>
                    <a:pt x="831" y="1019"/>
                  </a:lnTo>
                  <a:lnTo>
                    <a:pt x="842" y="1046"/>
                  </a:lnTo>
                  <a:lnTo>
                    <a:pt x="851" y="1077"/>
                  </a:lnTo>
                  <a:lnTo>
                    <a:pt x="859" y="1110"/>
                  </a:lnTo>
                  <a:lnTo>
                    <a:pt x="867" y="1145"/>
                  </a:lnTo>
                  <a:lnTo>
                    <a:pt x="874" y="1181"/>
                  </a:lnTo>
                  <a:lnTo>
                    <a:pt x="881" y="1220"/>
                  </a:lnTo>
                  <a:lnTo>
                    <a:pt x="901" y="1353"/>
                  </a:lnTo>
                  <a:lnTo>
                    <a:pt x="905" y="1384"/>
                  </a:lnTo>
                  <a:lnTo>
                    <a:pt x="910" y="1415"/>
                  </a:lnTo>
                  <a:lnTo>
                    <a:pt x="919" y="1472"/>
                  </a:lnTo>
                  <a:lnTo>
                    <a:pt x="922" y="1488"/>
                  </a:lnTo>
                  <a:lnTo>
                    <a:pt x="925" y="1504"/>
                  </a:lnTo>
                  <a:lnTo>
                    <a:pt x="928" y="1518"/>
                  </a:lnTo>
                  <a:lnTo>
                    <a:pt x="931" y="1530"/>
                  </a:lnTo>
                  <a:lnTo>
                    <a:pt x="935" y="1542"/>
                  </a:lnTo>
                  <a:lnTo>
                    <a:pt x="939" y="1552"/>
                  </a:lnTo>
                  <a:lnTo>
                    <a:pt x="942" y="1563"/>
                  </a:lnTo>
                  <a:lnTo>
                    <a:pt x="947" y="1571"/>
                  </a:lnTo>
                  <a:lnTo>
                    <a:pt x="951" y="1580"/>
                  </a:lnTo>
                  <a:lnTo>
                    <a:pt x="956" y="1587"/>
                  </a:lnTo>
                  <a:lnTo>
                    <a:pt x="960" y="1594"/>
                  </a:lnTo>
                  <a:lnTo>
                    <a:pt x="964" y="1599"/>
                  </a:lnTo>
                  <a:lnTo>
                    <a:pt x="969" y="1604"/>
                  </a:lnTo>
                  <a:lnTo>
                    <a:pt x="974" y="1608"/>
                  </a:lnTo>
                  <a:lnTo>
                    <a:pt x="978" y="1609"/>
                  </a:lnTo>
                  <a:lnTo>
                    <a:pt x="983" y="1611"/>
                  </a:lnTo>
                  <a:lnTo>
                    <a:pt x="1022" y="1623"/>
                  </a:lnTo>
                  <a:lnTo>
                    <a:pt x="1031" y="1625"/>
                  </a:lnTo>
                  <a:lnTo>
                    <a:pt x="1041" y="1627"/>
                  </a:lnTo>
                  <a:lnTo>
                    <a:pt x="1057" y="1630"/>
                  </a:lnTo>
                  <a:lnTo>
                    <a:pt x="1045" y="1717"/>
                  </a:lnTo>
                  <a:lnTo>
                    <a:pt x="699" y="1717"/>
                  </a:lnTo>
                  <a:lnTo>
                    <a:pt x="677" y="1471"/>
                  </a:lnTo>
                  <a:lnTo>
                    <a:pt x="651" y="1242"/>
                  </a:lnTo>
                  <a:lnTo>
                    <a:pt x="644" y="1199"/>
                  </a:lnTo>
                  <a:lnTo>
                    <a:pt x="637" y="1159"/>
                  </a:lnTo>
                  <a:lnTo>
                    <a:pt x="628" y="1123"/>
                  </a:lnTo>
                  <a:lnTo>
                    <a:pt x="620" y="1091"/>
                  </a:lnTo>
                  <a:lnTo>
                    <a:pt x="611" y="1062"/>
                  </a:lnTo>
                  <a:lnTo>
                    <a:pt x="606" y="1050"/>
                  </a:lnTo>
                  <a:lnTo>
                    <a:pt x="601" y="1038"/>
                  </a:lnTo>
                  <a:lnTo>
                    <a:pt x="596" y="1027"/>
                  </a:lnTo>
                  <a:lnTo>
                    <a:pt x="591" y="1017"/>
                  </a:lnTo>
                  <a:lnTo>
                    <a:pt x="586" y="1008"/>
                  </a:lnTo>
                  <a:lnTo>
                    <a:pt x="581" y="1001"/>
                  </a:lnTo>
                  <a:lnTo>
                    <a:pt x="570" y="987"/>
                  </a:lnTo>
                  <a:lnTo>
                    <a:pt x="557" y="975"/>
                  </a:lnTo>
                  <a:lnTo>
                    <a:pt x="544" y="965"/>
                  </a:lnTo>
                  <a:lnTo>
                    <a:pt x="530" y="956"/>
                  </a:lnTo>
                  <a:lnTo>
                    <a:pt x="515" y="949"/>
                  </a:lnTo>
                  <a:lnTo>
                    <a:pt x="498" y="944"/>
                  </a:lnTo>
                  <a:lnTo>
                    <a:pt x="481" y="941"/>
                  </a:lnTo>
                  <a:lnTo>
                    <a:pt x="463" y="939"/>
                  </a:lnTo>
                  <a:lnTo>
                    <a:pt x="400" y="1446"/>
                  </a:lnTo>
                  <a:lnTo>
                    <a:pt x="397" y="1467"/>
                  </a:lnTo>
                  <a:lnTo>
                    <a:pt x="396" y="1476"/>
                  </a:lnTo>
                  <a:lnTo>
                    <a:pt x="395" y="1485"/>
                  </a:lnTo>
                  <a:lnTo>
                    <a:pt x="395" y="1502"/>
                  </a:lnTo>
                  <a:lnTo>
                    <a:pt x="394" y="1507"/>
                  </a:lnTo>
                  <a:lnTo>
                    <a:pt x="394" y="1511"/>
                  </a:lnTo>
                  <a:lnTo>
                    <a:pt x="394" y="1512"/>
                  </a:lnTo>
                  <a:lnTo>
                    <a:pt x="394" y="1521"/>
                  </a:lnTo>
                  <a:lnTo>
                    <a:pt x="395" y="1530"/>
                  </a:lnTo>
                  <a:lnTo>
                    <a:pt x="395" y="1537"/>
                  </a:lnTo>
                  <a:lnTo>
                    <a:pt x="396" y="1543"/>
                  </a:lnTo>
                  <a:lnTo>
                    <a:pt x="397" y="1550"/>
                  </a:lnTo>
                  <a:lnTo>
                    <a:pt x="399" y="1557"/>
                  </a:lnTo>
                  <a:lnTo>
                    <a:pt x="401" y="1564"/>
                  </a:lnTo>
                  <a:lnTo>
                    <a:pt x="403" y="1569"/>
                  </a:lnTo>
                  <a:lnTo>
                    <a:pt x="405" y="1575"/>
                  </a:lnTo>
                  <a:lnTo>
                    <a:pt x="407" y="1580"/>
                  </a:lnTo>
                  <a:lnTo>
                    <a:pt x="411" y="1585"/>
                  </a:lnTo>
                  <a:lnTo>
                    <a:pt x="414" y="1589"/>
                  </a:lnTo>
                  <a:lnTo>
                    <a:pt x="417" y="1592"/>
                  </a:lnTo>
                  <a:lnTo>
                    <a:pt x="421" y="1595"/>
                  </a:lnTo>
                  <a:lnTo>
                    <a:pt x="425" y="1599"/>
                  </a:lnTo>
                  <a:lnTo>
                    <a:pt x="429" y="1601"/>
                  </a:lnTo>
                  <a:lnTo>
                    <a:pt x="448" y="1609"/>
                  </a:lnTo>
                  <a:lnTo>
                    <a:pt x="467" y="1618"/>
                  </a:lnTo>
                  <a:lnTo>
                    <a:pt x="487" y="1625"/>
                  </a:lnTo>
                  <a:lnTo>
                    <a:pt x="509" y="1630"/>
                  </a:lnTo>
                  <a:lnTo>
                    <a:pt x="498" y="1717"/>
                  </a:lnTo>
                  <a:lnTo>
                    <a:pt x="0" y="1717"/>
                  </a:lnTo>
                  <a:lnTo>
                    <a:pt x="11" y="1630"/>
                  </a:lnTo>
                  <a:lnTo>
                    <a:pt x="20" y="1630"/>
                  </a:lnTo>
                  <a:lnTo>
                    <a:pt x="31" y="1628"/>
                  </a:lnTo>
                  <a:lnTo>
                    <a:pt x="59" y="1621"/>
                  </a:lnTo>
                  <a:lnTo>
                    <a:pt x="87" y="1615"/>
                  </a:lnTo>
                  <a:lnTo>
                    <a:pt x="98" y="1609"/>
                  </a:lnTo>
                  <a:lnTo>
                    <a:pt x="107" y="1606"/>
                  </a:lnTo>
                  <a:lnTo>
                    <a:pt x="113" y="1602"/>
                  </a:lnTo>
                  <a:lnTo>
                    <a:pt x="119" y="1597"/>
                  </a:lnTo>
                  <a:lnTo>
                    <a:pt x="125" y="1592"/>
                  </a:lnTo>
                  <a:lnTo>
                    <a:pt x="130" y="1585"/>
                  </a:lnTo>
                  <a:lnTo>
                    <a:pt x="134" y="1580"/>
                  </a:lnTo>
                  <a:lnTo>
                    <a:pt x="138" y="1573"/>
                  </a:lnTo>
                  <a:lnTo>
                    <a:pt x="142" y="1564"/>
                  </a:lnTo>
                  <a:lnTo>
                    <a:pt x="146" y="1557"/>
                  </a:lnTo>
                  <a:lnTo>
                    <a:pt x="149" y="1549"/>
                  </a:lnTo>
                  <a:lnTo>
                    <a:pt x="152" y="1542"/>
                  </a:lnTo>
                  <a:lnTo>
                    <a:pt x="155" y="1533"/>
                  </a:lnTo>
                  <a:lnTo>
                    <a:pt x="158" y="1524"/>
                  </a:lnTo>
                  <a:lnTo>
                    <a:pt x="159" y="1514"/>
                  </a:lnTo>
                  <a:lnTo>
                    <a:pt x="161" y="1505"/>
                  </a:lnTo>
                  <a:lnTo>
                    <a:pt x="163" y="1495"/>
                  </a:lnTo>
                  <a:lnTo>
                    <a:pt x="164" y="1485"/>
                  </a:lnTo>
                  <a:lnTo>
                    <a:pt x="313" y="300"/>
                  </a:lnTo>
                  <a:lnTo>
                    <a:pt x="315" y="287"/>
                  </a:lnTo>
                  <a:lnTo>
                    <a:pt x="317" y="277"/>
                  </a:lnTo>
                  <a:lnTo>
                    <a:pt x="318" y="267"/>
                  </a:lnTo>
                  <a:lnTo>
                    <a:pt x="318" y="258"/>
                  </a:lnTo>
                  <a:lnTo>
                    <a:pt x="319" y="249"/>
                  </a:lnTo>
                  <a:lnTo>
                    <a:pt x="319" y="242"/>
                  </a:lnTo>
                  <a:lnTo>
                    <a:pt x="319" y="237"/>
                  </a:lnTo>
                  <a:lnTo>
                    <a:pt x="319" y="232"/>
                  </a:lnTo>
                  <a:lnTo>
                    <a:pt x="319" y="225"/>
                  </a:lnTo>
                  <a:lnTo>
                    <a:pt x="318" y="220"/>
                  </a:lnTo>
                  <a:lnTo>
                    <a:pt x="318" y="215"/>
                  </a:lnTo>
                  <a:lnTo>
                    <a:pt x="318" y="210"/>
                  </a:lnTo>
                  <a:lnTo>
                    <a:pt x="317" y="203"/>
                  </a:lnTo>
                  <a:lnTo>
                    <a:pt x="315" y="197"/>
                  </a:lnTo>
                  <a:lnTo>
                    <a:pt x="314" y="192"/>
                  </a:lnTo>
                  <a:lnTo>
                    <a:pt x="312" y="189"/>
                  </a:lnTo>
                  <a:lnTo>
                    <a:pt x="311" y="184"/>
                  </a:lnTo>
                  <a:lnTo>
                    <a:pt x="308" y="178"/>
                  </a:lnTo>
                  <a:lnTo>
                    <a:pt x="307" y="173"/>
                  </a:lnTo>
                  <a:lnTo>
                    <a:pt x="304" y="170"/>
                  </a:lnTo>
                  <a:lnTo>
                    <a:pt x="301" y="166"/>
                  </a:lnTo>
                  <a:lnTo>
                    <a:pt x="298" y="161"/>
                  </a:lnTo>
                  <a:lnTo>
                    <a:pt x="292" y="154"/>
                  </a:lnTo>
                  <a:lnTo>
                    <a:pt x="285" y="147"/>
                  </a:lnTo>
                  <a:lnTo>
                    <a:pt x="276" y="140"/>
                  </a:lnTo>
                  <a:lnTo>
                    <a:pt x="266" y="135"/>
                  </a:lnTo>
                  <a:lnTo>
                    <a:pt x="256" y="128"/>
                  </a:lnTo>
                  <a:lnTo>
                    <a:pt x="244" y="123"/>
                  </a:lnTo>
                  <a:lnTo>
                    <a:pt x="230" y="118"/>
                  </a:lnTo>
                  <a:lnTo>
                    <a:pt x="202" y="109"/>
                  </a:lnTo>
                  <a:lnTo>
                    <a:pt x="213" y="22"/>
                  </a:lnTo>
                  <a:lnTo>
                    <a:pt x="711" y="22"/>
                  </a:lnTo>
                  <a:lnTo>
                    <a:pt x="700" y="109"/>
                  </a:lnTo>
                  <a:lnTo>
                    <a:pt x="689" y="111"/>
                  </a:lnTo>
                  <a:lnTo>
                    <a:pt x="678" y="113"/>
                  </a:lnTo>
                  <a:lnTo>
                    <a:pt x="666" y="116"/>
                  </a:lnTo>
                  <a:lnTo>
                    <a:pt x="651" y="121"/>
                  </a:lnTo>
                  <a:lnTo>
                    <a:pt x="625" y="130"/>
                  </a:lnTo>
                  <a:lnTo>
                    <a:pt x="615" y="135"/>
                  </a:lnTo>
                  <a:lnTo>
                    <a:pt x="606" y="138"/>
                  </a:lnTo>
                  <a:lnTo>
                    <a:pt x="599" y="142"/>
                  </a:lnTo>
                  <a:lnTo>
                    <a:pt x="594" y="147"/>
                  </a:lnTo>
                  <a:lnTo>
                    <a:pt x="588" y="152"/>
                  </a:lnTo>
                  <a:lnTo>
                    <a:pt x="583" y="159"/>
                  </a:lnTo>
                  <a:lnTo>
                    <a:pt x="577" y="166"/>
                  </a:lnTo>
                  <a:lnTo>
                    <a:pt x="573" y="173"/>
                  </a:lnTo>
                  <a:lnTo>
                    <a:pt x="570" y="180"/>
                  </a:lnTo>
                  <a:lnTo>
                    <a:pt x="566" y="189"/>
                  </a:lnTo>
                  <a:lnTo>
                    <a:pt x="563" y="197"/>
                  </a:lnTo>
                  <a:lnTo>
                    <a:pt x="561" y="206"/>
                  </a:lnTo>
                  <a:lnTo>
                    <a:pt x="558" y="215"/>
                  </a:lnTo>
                  <a:lnTo>
                    <a:pt x="555" y="223"/>
                  </a:lnTo>
                  <a:lnTo>
                    <a:pt x="554" y="234"/>
                  </a:lnTo>
                  <a:lnTo>
                    <a:pt x="552" y="242"/>
                  </a:lnTo>
                  <a:lnTo>
                    <a:pt x="550" y="251"/>
                  </a:lnTo>
                  <a:lnTo>
                    <a:pt x="549" y="261"/>
                  </a:lnTo>
                  <a:lnTo>
                    <a:pt x="477" y="833"/>
                  </a:lnTo>
                  <a:lnTo>
                    <a:pt x="507" y="833"/>
                  </a:lnTo>
                  <a:lnTo>
                    <a:pt x="514" y="833"/>
                  </a:lnTo>
                  <a:lnTo>
                    <a:pt x="521" y="831"/>
                  </a:lnTo>
                  <a:lnTo>
                    <a:pt x="528" y="831"/>
                  </a:lnTo>
                  <a:lnTo>
                    <a:pt x="534" y="830"/>
                  </a:lnTo>
                  <a:lnTo>
                    <a:pt x="549" y="825"/>
                  </a:lnTo>
                  <a:lnTo>
                    <a:pt x="564" y="818"/>
                  </a:lnTo>
                  <a:lnTo>
                    <a:pt x="572" y="814"/>
                  </a:lnTo>
                  <a:lnTo>
                    <a:pt x="579" y="809"/>
                  </a:lnTo>
                  <a:lnTo>
                    <a:pt x="587" y="804"/>
                  </a:lnTo>
                  <a:lnTo>
                    <a:pt x="594" y="797"/>
                  </a:lnTo>
                  <a:lnTo>
                    <a:pt x="601" y="790"/>
                  </a:lnTo>
                  <a:lnTo>
                    <a:pt x="608" y="781"/>
                  </a:lnTo>
                  <a:lnTo>
                    <a:pt x="615" y="773"/>
                  </a:lnTo>
                  <a:lnTo>
                    <a:pt x="621" y="762"/>
                  </a:lnTo>
                  <a:lnTo>
                    <a:pt x="649" y="717"/>
                  </a:lnTo>
                  <a:lnTo>
                    <a:pt x="673" y="672"/>
                  </a:lnTo>
                  <a:lnTo>
                    <a:pt x="694" y="629"/>
                  </a:lnTo>
                  <a:lnTo>
                    <a:pt x="704" y="606"/>
                  </a:lnTo>
                  <a:lnTo>
                    <a:pt x="713" y="585"/>
                  </a:lnTo>
                  <a:lnTo>
                    <a:pt x="730" y="542"/>
                  </a:lnTo>
                  <a:lnTo>
                    <a:pt x="745" y="499"/>
                  </a:lnTo>
                  <a:lnTo>
                    <a:pt x="760" y="454"/>
                  </a:lnTo>
                  <a:lnTo>
                    <a:pt x="774" y="409"/>
                  </a:lnTo>
                  <a:lnTo>
                    <a:pt x="825" y="244"/>
                  </a:lnTo>
                  <a:lnTo>
                    <a:pt x="831" y="223"/>
                  </a:lnTo>
                  <a:lnTo>
                    <a:pt x="839" y="204"/>
                  </a:lnTo>
                  <a:lnTo>
                    <a:pt x="847" y="185"/>
                  </a:lnTo>
                  <a:lnTo>
                    <a:pt x="854" y="166"/>
                  </a:lnTo>
                  <a:lnTo>
                    <a:pt x="863" y="147"/>
                  </a:lnTo>
                  <a:lnTo>
                    <a:pt x="872" y="130"/>
                  </a:lnTo>
                  <a:lnTo>
                    <a:pt x="891" y="93"/>
                  </a:lnTo>
                  <a:lnTo>
                    <a:pt x="897" y="83"/>
                  </a:lnTo>
                  <a:lnTo>
                    <a:pt x="903" y="73"/>
                  </a:lnTo>
                  <a:lnTo>
                    <a:pt x="910" y="64"/>
                  </a:lnTo>
                  <a:lnTo>
                    <a:pt x="917" y="54"/>
                  </a:lnTo>
                  <a:lnTo>
                    <a:pt x="925" y="47"/>
                  </a:lnTo>
                  <a:lnTo>
                    <a:pt x="932" y="38"/>
                  </a:lnTo>
                  <a:lnTo>
                    <a:pt x="940" y="31"/>
                  </a:lnTo>
                  <a:lnTo>
                    <a:pt x="947" y="24"/>
                  </a:lnTo>
                  <a:lnTo>
                    <a:pt x="956" y="19"/>
                  </a:lnTo>
                  <a:lnTo>
                    <a:pt x="964" y="14"/>
                  </a:lnTo>
                  <a:lnTo>
                    <a:pt x="973" y="10"/>
                  </a:lnTo>
                  <a:lnTo>
                    <a:pt x="982" y="7"/>
                  </a:lnTo>
                  <a:lnTo>
                    <a:pt x="991" y="3"/>
                  </a:lnTo>
                  <a:lnTo>
                    <a:pt x="1001" y="2"/>
                  </a:lnTo>
                  <a:lnTo>
                    <a:pt x="1010" y="0"/>
                  </a:lnTo>
                  <a:lnTo>
                    <a:pt x="1020" y="0"/>
                  </a:lnTo>
                  <a:lnTo>
                    <a:pt x="1038" y="2"/>
                  </a:lnTo>
                  <a:lnTo>
                    <a:pt x="1054" y="3"/>
                  </a:lnTo>
                  <a:lnTo>
                    <a:pt x="1069" y="9"/>
                  </a:lnTo>
                  <a:lnTo>
                    <a:pt x="1084" y="17"/>
                  </a:lnTo>
                  <a:lnTo>
                    <a:pt x="1090" y="21"/>
                  </a:lnTo>
                  <a:lnTo>
                    <a:pt x="1096" y="26"/>
                  </a:lnTo>
                  <a:lnTo>
                    <a:pt x="1102" y="31"/>
                  </a:lnTo>
                  <a:lnTo>
                    <a:pt x="1107" y="38"/>
                  </a:lnTo>
                  <a:lnTo>
                    <a:pt x="1113" y="43"/>
                  </a:lnTo>
                  <a:lnTo>
                    <a:pt x="1118" y="50"/>
                  </a:lnTo>
                  <a:lnTo>
                    <a:pt x="1122" y="57"/>
                  </a:lnTo>
                  <a:lnTo>
                    <a:pt x="1126" y="66"/>
                  </a:lnTo>
                  <a:lnTo>
                    <a:pt x="1134" y="83"/>
                  </a:lnTo>
                  <a:lnTo>
                    <a:pt x="1140" y="99"/>
                  </a:lnTo>
                  <a:lnTo>
                    <a:pt x="1146" y="116"/>
                  </a:lnTo>
                  <a:lnTo>
                    <a:pt x="1150" y="135"/>
                  </a:lnTo>
                  <a:lnTo>
                    <a:pt x="1152" y="144"/>
                  </a:lnTo>
                  <a:lnTo>
                    <a:pt x="1154" y="152"/>
                  </a:lnTo>
                  <a:lnTo>
                    <a:pt x="1155" y="163"/>
                  </a:lnTo>
                  <a:lnTo>
                    <a:pt x="1157" y="171"/>
                  </a:lnTo>
                  <a:lnTo>
                    <a:pt x="1157" y="182"/>
                  </a:lnTo>
                  <a:lnTo>
                    <a:pt x="1157" y="192"/>
                  </a:lnTo>
                  <a:lnTo>
                    <a:pt x="1158" y="201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0920" y="3192480"/>
              <a:ext cx="295560" cy="449280"/>
            </a:xfrm>
            <a:custGeom>
              <a:avLst/>
              <a:gdLst/>
              <a:ahLst/>
              <a:rect l="l" t="t" r="r" b="b"/>
              <a:pathLst>
                <a:path w="820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79" y="1157"/>
                  </a:lnTo>
                  <a:lnTo>
                    <a:pt x="365" y="1173"/>
                  </a:lnTo>
                  <a:lnTo>
                    <a:pt x="351" y="1186"/>
                  </a:lnTo>
                  <a:lnTo>
                    <a:pt x="336" y="1199"/>
                  </a:lnTo>
                  <a:lnTo>
                    <a:pt x="323" y="1211"/>
                  </a:lnTo>
                  <a:lnTo>
                    <a:pt x="309" y="1221"/>
                  </a:lnTo>
                  <a:lnTo>
                    <a:pt x="293" y="1230"/>
                  </a:lnTo>
                  <a:lnTo>
                    <a:pt x="286" y="1233"/>
                  </a:lnTo>
                  <a:lnTo>
                    <a:pt x="278" y="1238"/>
                  </a:lnTo>
                  <a:lnTo>
                    <a:pt x="270" y="1240"/>
                  </a:lnTo>
                  <a:lnTo>
                    <a:pt x="261" y="1244"/>
                  </a:lnTo>
                  <a:lnTo>
                    <a:pt x="253" y="1245"/>
                  </a:lnTo>
                  <a:lnTo>
                    <a:pt x="244" y="1245"/>
                  </a:lnTo>
                  <a:lnTo>
                    <a:pt x="226" y="1247"/>
                  </a:lnTo>
                  <a:lnTo>
                    <a:pt x="199" y="1245"/>
                  </a:lnTo>
                  <a:lnTo>
                    <a:pt x="173" y="1240"/>
                  </a:lnTo>
                  <a:lnTo>
                    <a:pt x="149" y="1230"/>
                  </a:lnTo>
                  <a:lnTo>
                    <a:pt x="127" y="1216"/>
                  </a:lnTo>
                  <a:lnTo>
                    <a:pt x="117" y="1207"/>
                  </a:lnTo>
                  <a:lnTo>
                    <a:pt x="107" y="1199"/>
                  </a:lnTo>
                  <a:lnTo>
                    <a:pt x="98" y="1188"/>
                  </a:lnTo>
                  <a:lnTo>
                    <a:pt x="88" y="1178"/>
                  </a:lnTo>
                  <a:lnTo>
                    <a:pt x="80" y="1166"/>
                  </a:lnTo>
                  <a:lnTo>
                    <a:pt x="71" y="1154"/>
                  </a:lnTo>
                  <a:lnTo>
                    <a:pt x="64" y="1140"/>
                  </a:lnTo>
                  <a:lnTo>
                    <a:pt x="56" y="1124"/>
                  </a:lnTo>
                  <a:lnTo>
                    <a:pt x="49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7" y="999"/>
                  </a:lnTo>
                  <a:lnTo>
                    <a:pt x="14" y="980"/>
                  </a:lnTo>
                  <a:lnTo>
                    <a:pt x="7" y="937"/>
                  </a:lnTo>
                  <a:lnTo>
                    <a:pt x="3" y="890"/>
                  </a:lnTo>
                  <a:lnTo>
                    <a:pt x="0" y="842"/>
                  </a:lnTo>
                  <a:lnTo>
                    <a:pt x="0" y="790"/>
                  </a:lnTo>
                  <a:lnTo>
                    <a:pt x="0" y="750"/>
                  </a:lnTo>
                  <a:lnTo>
                    <a:pt x="1" y="710"/>
                  </a:lnTo>
                  <a:lnTo>
                    <a:pt x="4" y="670"/>
                  </a:lnTo>
                  <a:lnTo>
                    <a:pt x="8" y="632"/>
                  </a:lnTo>
                  <a:lnTo>
                    <a:pt x="12" y="594"/>
                  </a:lnTo>
                  <a:lnTo>
                    <a:pt x="18" y="556"/>
                  </a:lnTo>
                  <a:lnTo>
                    <a:pt x="24" y="519"/>
                  </a:lnTo>
                  <a:lnTo>
                    <a:pt x="32" y="483"/>
                  </a:lnTo>
                  <a:lnTo>
                    <a:pt x="40" y="448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89"/>
                  </a:lnTo>
                  <a:lnTo>
                    <a:pt x="104" y="260"/>
                  </a:lnTo>
                  <a:lnTo>
                    <a:pt x="116" y="232"/>
                  </a:lnTo>
                  <a:lnTo>
                    <a:pt x="130" y="206"/>
                  </a:lnTo>
                  <a:lnTo>
                    <a:pt x="144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0" y="48"/>
                  </a:lnTo>
                  <a:lnTo>
                    <a:pt x="278" y="34"/>
                  </a:lnTo>
                  <a:lnTo>
                    <a:pt x="297" y="24"/>
                  </a:lnTo>
                  <a:lnTo>
                    <a:pt x="316" y="15"/>
                  </a:lnTo>
                  <a:lnTo>
                    <a:pt x="335" y="8"/>
                  </a:lnTo>
                  <a:lnTo>
                    <a:pt x="354" y="3"/>
                  </a:lnTo>
                  <a:lnTo>
                    <a:pt x="375" y="1"/>
                  </a:lnTo>
                  <a:lnTo>
                    <a:pt x="394" y="0"/>
                  </a:lnTo>
                  <a:lnTo>
                    <a:pt x="422" y="1"/>
                  </a:lnTo>
                  <a:lnTo>
                    <a:pt x="449" y="7"/>
                  </a:lnTo>
                  <a:lnTo>
                    <a:pt x="461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5" y="53"/>
                  </a:lnTo>
                  <a:lnTo>
                    <a:pt x="545" y="64"/>
                  </a:lnTo>
                  <a:lnTo>
                    <a:pt x="552" y="73"/>
                  </a:lnTo>
                  <a:lnTo>
                    <a:pt x="560" y="83"/>
                  </a:lnTo>
                  <a:lnTo>
                    <a:pt x="568" y="93"/>
                  </a:lnTo>
                  <a:lnTo>
                    <a:pt x="767" y="17"/>
                  </a:lnTo>
                  <a:lnTo>
                    <a:pt x="776" y="36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2"/>
                  </a:lnTo>
                  <a:lnTo>
                    <a:pt x="670" y="863"/>
                  </a:lnTo>
                  <a:lnTo>
                    <a:pt x="668" y="888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0"/>
                  </a:lnTo>
                  <a:lnTo>
                    <a:pt x="664" y="947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2"/>
                  </a:lnTo>
                  <a:lnTo>
                    <a:pt x="668" y="999"/>
                  </a:lnTo>
                  <a:lnTo>
                    <a:pt x="668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0"/>
                  </a:lnTo>
                  <a:lnTo>
                    <a:pt x="673" y="1025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79" y="1037"/>
                  </a:lnTo>
                  <a:lnTo>
                    <a:pt x="681" y="1041"/>
                  </a:lnTo>
                  <a:lnTo>
                    <a:pt x="684" y="1044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3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3"/>
                  </a:lnTo>
                  <a:lnTo>
                    <a:pt x="720" y="1065"/>
                  </a:lnTo>
                  <a:lnTo>
                    <a:pt x="729" y="1067"/>
                  </a:lnTo>
                  <a:lnTo>
                    <a:pt x="739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59" y="1063"/>
                  </a:lnTo>
                  <a:lnTo>
                    <a:pt x="771" y="1058"/>
                  </a:lnTo>
                  <a:lnTo>
                    <a:pt x="783" y="1053"/>
                  </a:lnTo>
                  <a:lnTo>
                    <a:pt x="805" y="1041"/>
                  </a:lnTo>
                  <a:lnTo>
                    <a:pt x="813" y="1036"/>
                  </a:lnTo>
                  <a:lnTo>
                    <a:pt x="819" y="1032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1"/>
                  </a:lnTo>
                  <a:lnTo>
                    <a:pt x="671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7" y="1233"/>
                  </a:lnTo>
                  <a:lnTo>
                    <a:pt x="625" y="1235"/>
                  </a:lnTo>
                  <a:lnTo>
                    <a:pt x="612" y="1235"/>
                  </a:lnTo>
                  <a:lnTo>
                    <a:pt x="596" y="1235"/>
                  </a:lnTo>
                  <a:lnTo>
                    <a:pt x="581" y="1232"/>
                  </a:lnTo>
                  <a:lnTo>
                    <a:pt x="567" y="1228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6" y="1199"/>
                  </a:lnTo>
                  <a:lnTo>
                    <a:pt x="506" y="1186"/>
                  </a:lnTo>
                  <a:lnTo>
                    <a:pt x="496" y="1174"/>
                  </a:lnTo>
                  <a:lnTo>
                    <a:pt x="487" y="1160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5"/>
                  </a:lnTo>
                  <a:lnTo>
                    <a:pt x="460" y="1098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1" y="227"/>
                  </a:lnTo>
                  <a:lnTo>
                    <a:pt x="519" y="218"/>
                  </a:lnTo>
                  <a:lnTo>
                    <a:pt x="519" y="211"/>
                  </a:lnTo>
                  <a:lnTo>
                    <a:pt x="516" y="202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6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4" y="131"/>
                  </a:lnTo>
                  <a:lnTo>
                    <a:pt x="469" y="128"/>
                  </a:lnTo>
                  <a:lnTo>
                    <a:pt x="464" y="126"/>
                  </a:lnTo>
                  <a:lnTo>
                    <a:pt x="458" y="123"/>
                  </a:lnTo>
                  <a:lnTo>
                    <a:pt x="452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3" y="119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2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4" y="176"/>
                  </a:lnTo>
                  <a:lnTo>
                    <a:pt x="346" y="190"/>
                  </a:lnTo>
                  <a:lnTo>
                    <a:pt x="337" y="206"/>
                  </a:lnTo>
                  <a:lnTo>
                    <a:pt x="329" y="223"/>
                  </a:lnTo>
                  <a:lnTo>
                    <a:pt x="320" y="242"/>
                  </a:lnTo>
                  <a:lnTo>
                    <a:pt x="313" y="261"/>
                  </a:lnTo>
                  <a:lnTo>
                    <a:pt x="305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2" y="795"/>
                  </a:lnTo>
                  <a:lnTo>
                    <a:pt x="232" y="823"/>
                  </a:lnTo>
                  <a:lnTo>
                    <a:pt x="234" y="850"/>
                  </a:lnTo>
                  <a:lnTo>
                    <a:pt x="235" y="876"/>
                  </a:lnTo>
                  <a:lnTo>
                    <a:pt x="237" y="902"/>
                  </a:lnTo>
                  <a:lnTo>
                    <a:pt x="239" y="914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49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7"/>
                  </a:lnTo>
                  <a:lnTo>
                    <a:pt x="256" y="996"/>
                  </a:lnTo>
                  <a:lnTo>
                    <a:pt x="259" y="1006"/>
                  </a:lnTo>
                  <a:lnTo>
                    <a:pt x="263" y="1013"/>
                  </a:lnTo>
                  <a:lnTo>
                    <a:pt x="267" y="1022"/>
                  </a:lnTo>
                  <a:lnTo>
                    <a:pt x="271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4"/>
                  </a:lnTo>
                  <a:lnTo>
                    <a:pt x="290" y="1050"/>
                  </a:lnTo>
                  <a:lnTo>
                    <a:pt x="295" y="1053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3"/>
                  </a:lnTo>
                  <a:lnTo>
                    <a:pt x="327" y="1065"/>
                  </a:lnTo>
                  <a:lnTo>
                    <a:pt x="334" y="1065"/>
                  </a:lnTo>
                  <a:lnTo>
                    <a:pt x="342" y="1065"/>
                  </a:lnTo>
                  <a:lnTo>
                    <a:pt x="349" y="1063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3"/>
                  </a:lnTo>
                  <a:lnTo>
                    <a:pt x="378" y="1046"/>
                  </a:lnTo>
                  <a:lnTo>
                    <a:pt x="386" y="1041"/>
                  </a:lnTo>
                  <a:lnTo>
                    <a:pt x="392" y="1032"/>
                  </a:lnTo>
                  <a:lnTo>
                    <a:pt x="406" y="1015"/>
                  </a:lnTo>
                  <a:lnTo>
                    <a:pt x="419" y="996"/>
                  </a:lnTo>
                  <a:lnTo>
                    <a:pt x="432" y="975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5600" y="3197160"/>
              <a:ext cx="292320" cy="439920"/>
            </a:xfrm>
            <a:custGeom>
              <a:avLst/>
              <a:gdLst/>
              <a:ahLst/>
              <a:rect l="l" t="t" r="r" b="b"/>
              <a:pathLst>
                <a:path w="813" h="1221">
                  <a:moveTo>
                    <a:pt x="804" y="178"/>
                  </a:moveTo>
                  <a:lnTo>
                    <a:pt x="803" y="203"/>
                  </a:lnTo>
                  <a:lnTo>
                    <a:pt x="802" y="225"/>
                  </a:lnTo>
                  <a:lnTo>
                    <a:pt x="800" y="248"/>
                  </a:lnTo>
                  <a:lnTo>
                    <a:pt x="798" y="258"/>
                  </a:lnTo>
                  <a:lnTo>
                    <a:pt x="796" y="268"/>
                  </a:lnTo>
                  <a:lnTo>
                    <a:pt x="795" y="277"/>
                  </a:lnTo>
                  <a:lnTo>
                    <a:pt x="792" y="287"/>
                  </a:lnTo>
                  <a:lnTo>
                    <a:pt x="790" y="296"/>
                  </a:lnTo>
                  <a:lnTo>
                    <a:pt x="787" y="305"/>
                  </a:lnTo>
                  <a:lnTo>
                    <a:pt x="784" y="313"/>
                  </a:lnTo>
                  <a:lnTo>
                    <a:pt x="780" y="320"/>
                  </a:lnTo>
                  <a:lnTo>
                    <a:pt x="777" y="329"/>
                  </a:lnTo>
                  <a:lnTo>
                    <a:pt x="774" y="336"/>
                  </a:lnTo>
                  <a:lnTo>
                    <a:pt x="766" y="350"/>
                  </a:lnTo>
                  <a:lnTo>
                    <a:pt x="757" y="360"/>
                  </a:lnTo>
                  <a:lnTo>
                    <a:pt x="749" y="371"/>
                  </a:lnTo>
                  <a:lnTo>
                    <a:pt x="740" y="379"/>
                  </a:lnTo>
                  <a:lnTo>
                    <a:pt x="730" y="384"/>
                  </a:lnTo>
                  <a:lnTo>
                    <a:pt x="720" y="390"/>
                  </a:lnTo>
                  <a:lnTo>
                    <a:pt x="710" y="391"/>
                  </a:lnTo>
                  <a:lnTo>
                    <a:pt x="699" y="393"/>
                  </a:lnTo>
                  <a:lnTo>
                    <a:pt x="691" y="393"/>
                  </a:lnTo>
                  <a:lnTo>
                    <a:pt x="683" y="391"/>
                  </a:lnTo>
                  <a:lnTo>
                    <a:pt x="675" y="388"/>
                  </a:lnTo>
                  <a:lnTo>
                    <a:pt x="668" y="384"/>
                  </a:lnTo>
                  <a:lnTo>
                    <a:pt x="660" y="381"/>
                  </a:lnTo>
                  <a:lnTo>
                    <a:pt x="653" y="374"/>
                  </a:lnTo>
                  <a:lnTo>
                    <a:pt x="646" y="369"/>
                  </a:lnTo>
                  <a:lnTo>
                    <a:pt x="638" y="360"/>
                  </a:lnTo>
                  <a:lnTo>
                    <a:pt x="625" y="343"/>
                  </a:lnTo>
                  <a:lnTo>
                    <a:pt x="612" y="326"/>
                  </a:lnTo>
                  <a:lnTo>
                    <a:pt x="606" y="317"/>
                  </a:lnTo>
                  <a:lnTo>
                    <a:pt x="600" y="307"/>
                  </a:lnTo>
                  <a:lnTo>
                    <a:pt x="595" y="298"/>
                  </a:lnTo>
                  <a:lnTo>
                    <a:pt x="591" y="289"/>
                  </a:lnTo>
                  <a:lnTo>
                    <a:pt x="576" y="343"/>
                  </a:lnTo>
                  <a:lnTo>
                    <a:pt x="568" y="374"/>
                  </a:lnTo>
                  <a:lnTo>
                    <a:pt x="559" y="407"/>
                  </a:lnTo>
                  <a:lnTo>
                    <a:pt x="553" y="424"/>
                  </a:lnTo>
                  <a:lnTo>
                    <a:pt x="548" y="442"/>
                  </a:lnTo>
                  <a:lnTo>
                    <a:pt x="542" y="457"/>
                  </a:lnTo>
                  <a:lnTo>
                    <a:pt x="537" y="473"/>
                  </a:lnTo>
                  <a:lnTo>
                    <a:pt x="531" y="487"/>
                  </a:lnTo>
                  <a:lnTo>
                    <a:pt x="525" y="501"/>
                  </a:lnTo>
                  <a:lnTo>
                    <a:pt x="517" y="514"/>
                  </a:lnTo>
                  <a:lnTo>
                    <a:pt x="510" y="528"/>
                  </a:lnTo>
                  <a:lnTo>
                    <a:pt x="510" y="537"/>
                  </a:lnTo>
                  <a:lnTo>
                    <a:pt x="528" y="546"/>
                  </a:lnTo>
                  <a:lnTo>
                    <a:pt x="544" y="554"/>
                  </a:lnTo>
                  <a:lnTo>
                    <a:pt x="559" y="566"/>
                  </a:lnTo>
                  <a:lnTo>
                    <a:pt x="573" y="579"/>
                  </a:lnTo>
                  <a:lnTo>
                    <a:pt x="585" y="592"/>
                  </a:lnTo>
                  <a:lnTo>
                    <a:pt x="590" y="599"/>
                  </a:lnTo>
                  <a:lnTo>
                    <a:pt x="595" y="606"/>
                  </a:lnTo>
                  <a:lnTo>
                    <a:pt x="600" y="615"/>
                  </a:lnTo>
                  <a:lnTo>
                    <a:pt x="604" y="622"/>
                  </a:lnTo>
                  <a:lnTo>
                    <a:pt x="608" y="630"/>
                  </a:lnTo>
                  <a:lnTo>
                    <a:pt x="612" y="639"/>
                  </a:lnTo>
                  <a:lnTo>
                    <a:pt x="619" y="658"/>
                  </a:lnTo>
                  <a:lnTo>
                    <a:pt x="625" y="679"/>
                  </a:lnTo>
                  <a:lnTo>
                    <a:pt x="631" y="703"/>
                  </a:lnTo>
                  <a:lnTo>
                    <a:pt x="636" y="729"/>
                  </a:lnTo>
                  <a:lnTo>
                    <a:pt x="642" y="757"/>
                  </a:lnTo>
                  <a:lnTo>
                    <a:pt x="647" y="788"/>
                  </a:lnTo>
                  <a:lnTo>
                    <a:pt x="651" y="823"/>
                  </a:lnTo>
                  <a:lnTo>
                    <a:pt x="655" y="859"/>
                  </a:lnTo>
                  <a:lnTo>
                    <a:pt x="658" y="890"/>
                  </a:lnTo>
                  <a:lnTo>
                    <a:pt x="660" y="904"/>
                  </a:lnTo>
                  <a:lnTo>
                    <a:pt x="663" y="918"/>
                  </a:lnTo>
                  <a:lnTo>
                    <a:pt x="665" y="932"/>
                  </a:lnTo>
                  <a:lnTo>
                    <a:pt x="668" y="944"/>
                  </a:lnTo>
                  <a:lnTo>
                    <a:pt x="670" y="954"/>
                  </a:lnTo>
                  <a:lnTo>
                    <a:pt x="673" y="967"/>
                  </a:lnTo>
                  <a:lnTo>
                    <a:pt x="675" y="977"/>
                  </a:lnTo>
                  <a:lnTo>
                    <a:pt x="679" y="987"/>
                  </a:lnTo>
                  <a:lnTo>
                    <a:pt x="681" y="996"/>
                  </a:lnTo>
                  <a:lnTo>
                    <a:pt x="684" y="1005"/>
                  </a:lnTo>
                  <a:lnTo>
                    <a:pt x="687" y="1012"/>
                  </a:lnTo>
                  <a:lnTo>
                    <a:pt x="690" y="1017"/>
                  </a:lnTo>
                  <a:lnTo>
                    <a:pt x="692" y="1022"/>
                  </a:lnTo>
                  <a:lnTo>
                    <a:pt x="695" y="1027"/>
                  </a:lnTo>
                  <a:lnTo>
                    <a:pt x="698" y="1032"/>
                  </a:lnTo>
                  <a:lnTo>
                    <a:pt x="702" y="1036"/>
                  </a:lnTo>
                  <a:lnTo>
                    <a:pt x="704" y="1039"/>
                  </a:lnTo>
                  <a:lnTo>
                    <a:pt x="708" y="1043"/>
                  </a:lnTo>
                  <a:lnTo>
                    <a:pt x="711" y="1046"/>
                  </a:lnTo>
                  <a:lnTo>
                    <a:pt x="714" y="1048"/>
                  </a:lnTo>
                  <a:lnTo>
                    <a:pt x="717" y="1048"/>
                  </a:lnTo>
                  <a:lnTo>
                    <a:pt x="720" y="1050"/>
                  </a:lnTo>
                  <a:lnTo>
                    <a:pt x="726" y="1051"/>
                  </a:lnTo>
                  <a:lnTo>
                    <a:pt x="731" y="1051"/>
                  </a:lnTo>
                  <a:lnTo>
                    <a:pt x="741" y="1051"/>
                  </a:lnTo>
                  <a:lnTo>
                    <a:pt x="744" y="1051"/>
                  </a:lnTo>
                  <a:lnTo>
                    <a:pt x="748" y="1051"/>
                  </a:lnTo>
                  <a:lnTo>
                    <a:pt x="752" y="1050"/>
                  </a:lnTo>
                  <a:lnTo>
                    <a:pt x="756" y="1050"/>
                  </a:lnTo>
                  <a:lnTo>
                    <a:pt x="765" y="1046"/>
                  </a:lnTo>
                  <a:lnTo>
                    <a:pt x="774" y="1041"/>
                  </a:lnTo>
                  <a:lnTo>
                    <a:pt x="785" y="1036"/>
                  </a:lnTo>
                  <a:lnTo>
                    <a:pt x="794" y="1029"/>
                  </a:lnTo>
                  <a:lnTo>
                    <a:pt x="802" y="1022"/>
                  </a:lnTo>
                  <a:lnTo>
                    <a:pt x="812" y="1015"/>
                  </a:lnTo>
                  <a:lnTo>
                    <a:pt x="797" y="1124"/>
                  </a:lnTo>
                  <a:lnTo>
                    <a:pt x="768" y="1147"/>
                  </a:lnTo>
                  <a:lnTo>
                    <a:pt x="741" y="1166"/>
                  </a:lnTo>
                  <a:lnTo>
                    <a:pt x="716" y="1181"/>
                  </a:lnTo>
                  <a:lnTo>
                    <a:pt x="693" y="1195"/>
                  </a:lnTo>
                  <a:lnTo>
                    <a:pt x="682" y="1200"/>
                  </a:lnTo>
                  <a:lnTo>
                    <a:pt x="669" y="1206"/>
                  </a:lnTo>
                  <a:lnTo>
                    <a:pt x="658" y="1209"/>
                  </a:lnTo>
                  <a:lnTo>
                    <a:pt x="644" y="1213"/>
                  </a:lnTo>
                  <a:lnTo>
                    <a:pt x="616" y="1218"/>
                  </a:lnTo>
                  <a:lnTo>
                    <a:pt x="586" y="1220"/>
                  </a:lnTo>
                  <a:lnTo>
                    <a:pt x="575" y="1220"/>
                  </a:lnTo>
                  <a:lnTo>
                    <a:pt x="563" y="1218"/>
                  </a:lnTo>
                  <a:lnTo>
                    <a:pt x="552" y="1214"/>
                  </a:lnTo>
                  <a:lnTo>
                    <a:pt x="541" y="1211"/>
                  </a:lnTo>
                  <a:lnTo>
                    <a:pt x="535" y="1209"/>
                  </a:lnTo>
                  <a:lnTo>
                    <a:pt x="530" y="1206"/>
                  </a:lnTo>
                  <a:lnTo>
                    <a:pt x="524" y="1202"/>
                  </a:lnTo>
                  <a:lnTo>
                    <a:pt x="519" y="1199"/>
                  </a:lnTo>
                  <a:lnTo>
                    <a:pt x="514" y="1194"/>
                  </a:lnTo>
                  <a:lnTo>
                    <a:pt x="509" y="1188"/>
                  </a:lnTo>
                  <a:lnTo>
                    <a:pt x="504" y="1183"/>
                  </a:lnTo>
                  <a:lnTo>
                    <a:pt x="498" y="1176"/>
                  </a:lnTo>
                  <a:lnTo>
                    <a:pt x="493" y="1169"/>
                  </a:lnTo>
                  <a:lnTo>
                    <a:pt x="489" y="1164"/>
                  </a:lnTo>
                  <a:lnTo>
                    <a:pt x="485" y="1155"/>
                  </a:lnTo>
                  <a:lnTo>
                    <a:pt x="481" y="1148"/>
                  </a:lnTo>
                  <a:lnTo>
                    <a:pt x="476" y="1138"/>
                  </a:lnTo>
                  <a:lnTo>
                    <a:pt x="473" y="1129"/>
                  </a:lnTo>
                  <a:lnTo>
                    <a:pt x="470" y="1119"/>
                  </a:lnTo>
                  <a:lnTo>
                    <a:pt x="466" y="1109"/>
                  </a:lnTo>
                  <a:lnTo>
                    <a:pt x="463" y="1097"/>
                  </a:lnTo>
                  <a:lnTo>
                    <a:pt x="459" y="1084"/>
                  </a:lnTo>
                  <a:lnTo>
                    <a:pt x="457" y="1072"/>
                  </a:lnTo>
                  <a:lnTo>
                    <a:pt x="454" y="1058"/>
                  </a:lnTo>
                  <a:lnTo>
                    <a:pt x="452" y="1045"/>
                  </a:lnTo>
                  <a:lnTo>
                    <a:pt x="449" y="1031"/>
                  </a:lnTo>
                  <a:lnTo>
                    <a:pt x="448" y="1015"/>
                  </a:lnTo>
                  <a:lnTo>
                    <a:pt x="446" y="998"/>
                  </a:lnTo>
                  <a:lnTo>
                    <a:pt x="444" y="980"/>
                  </a:lnTo>
                  <a:lnTo>
                    <a:pt x="443" y="963"/>
                  </a:lnTo>
                  <a:lnTo>
                    <a:pt x="440" y="927"/>
                  </a:lnTo>
                  <a:lnTo>
                    <a:pt x="440" y="918"/>
                  </a:lnTo>
                  <a:lnTo>
                    <a:pt x="439" y="909"/>
                  </a:lnTo>
                  <a:lnTo>
                    <a:pt x="437" y="892"/>
                  </a:lnTo>
                  <a:lnTo>
                    <a:pt x="435" y="861"/>
                  </a:lnTo>
                  <a:lnTo>
                    <a:pt x="430" y="809"/>
                  </a:lnTo>
                  <a:lnTo>
                    <a:pt x="426" y="785"/>
                  </a:lnTo>
                  <a:lnTo>
                    <a:pt x="423" y="766"/>
                  </a:lnTo>
                  <a:lnTo>
                    <a:pt x="420" y="747"/>
                  </a:lnTo>
                  <a:lnTo>
                    <a:pt x="416" y="731"/>
                  </a:lnTo>
                  <a:lnTo>
                    <a:pt x="414" y="724"/>
                  </a:lnTo>
                  <a:lnTo>
                    <a:pt x="412" y="717"/>
                  </a:lnTo>
                  <a:lnTo>
                    <a:pt x="410" y="712"/>
                  </a:lnTo>
                  <a:lnTo>
                    <a:pt x="408" y="707"/>
                  </a:lnTo>
                  <a:lnTo>
                    <a:pt x="405" y="702"/>
                  </a:lnTo>
                  <a:lnTo>
                    <a:pt x="403" y="698"/>
                  </a:lnTo>
                  <a:lnTo>
                    <a:pt x="400" y="693"/>
                  </a:lnTo>
                  <a:lnTo>
                    <a:pt x="397" y="689"/>
                  </a:lnTo>
                  <a:lnTo>
                    <a:pt x="393" y="686"/>
                  </a:lnTo>
                  <a:lnTo>
                    <a:pt x="390" y="682"/>
                  </a:lnTo>
                  <a:lnTo>
                    <a:pt x="387" y="681"/>
                  </a:lnTo>
                  <a:lnTo>
                    <a:pt x="382" y="677"/>
                  </a:lnTo>
                  <a:lnTo>
                    <a:pt x="373" y="674"/>
                  </a:lnTo>
                  <a:lnTo>
                    <a:pt x="364" y="670"/>
                  </a:lnTo>
                  <a:lnTo>
                    <a:pt x="353" y="669"/>
                  </a:lnTo>
                  <a:lnTo>
                    <a:pt x="341" y="669"/>
                  </a:lnTo>
                  <a:lnTo>
                    <a:pt x="322" y="669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4" y="466"/>
                  </a:lnTo>
                  <a:lnTo>
                    <a:pt x="145" y="378"/>
                  </a:lnTo>
                  <a:lnTo>
                    <a:pt x="147" y="353"/>
                  </a:lnTo>
                  <a:lnTo>
                    <a:pt x="149" y="329"/>
                  </a:lnTo>
                  <a:lnTo>
                    <a:pt x="150" y="319"/>
                  </a:lnTo>
                  <a:lnTo>
                    <a:pt x="150" y="308"/>
                  </a:lnTo>
                  <a:lnTo>
                    <a:pt x="150" y="298"/>
                  </a:lnTo>
                  <a:lnTo>
                    <a:pt x="150" y="289"/>
                  </a:lnTo>
                  <a:lnTo>
                    <a:pt x="150" y="274"/>
                  </a:lnTo>
                  <a:lnTo>
                    <a:pt x="150" y="258"/>
                  </a:lnTo>
                  <a:lnTo>
                    <a:pt x="148" y="244"/>
                  </a:lnTo>
                  <a:lnTo>
                    <a:pt x="147" y="232"/>
                  </a:lnTo>
                  <a:lnTo>
                    <a:pt x="145" y="227"/>
                  </a:lnTo>
                  <a:lnTo>
                    <a:pt x="145" y="222"/>
                  </a:lnTo>
                  <a:lnTo>
                    <a:pt x="143" y="216"/>
                  </a:lnTo>
                  <a:lnTo>
                    <a:pt x="142" y="211"/>
                  </a:lnTo>
                  <a:lnTo>
                    <a:pt x="140" y="206"/>
                  </a:lnTo>
                  <a:lnTo>
                    <a:pt x="139" y="203"/>
                  </a:lnTo>
                  <a:lnTo>
                    <a:pt x="137" y="199"/>
                  </a:lnTo>
                  <a:lnTo>
                    <a:pt x="135" y="196"/>
                  </a:lnTo>
                  <a:lnTo>
                    <a:pt x="134" y="192"/>
                  </a:lnTo>
                  <a:lnTo>
                    <a:pt x="131" y="189"/>
                  </a:lnTo>
                  <a:lnTo>
                    <a:pt x="128" y="187"/>
                  </a:lnTo>
                  <a:lnTo>
                    <a:pt x="126" y="184"/>
                  </a:lnTo>
                  <a:lnTo>
                    <a:pt x="123" y="182"/>
                  </a:lnTo>
                  <a:lnTo>
                    <a:pt x="120" y="180"/>
                  </a:lnTo>
                  <a:lnTo>
                    <a:pt x="114" y="177"/>
                  </a:lnTo>
                  <a:lnTo>
                    <a:pt x="106" y="173"/>
                  </a:lnTo>
                  <a:lnTo>
                    <a:pt x="99" y="171"/>
                  </a:lnTo>
                  <a:lnTo>
                    <a:pt x="90" y="170"/>
                  </a:lnTo>
                  <a:lnTo>
                    <a:pt x="80" y="170"/>
                  </a:lnTo>
                  <a:lnTo>
                    <a:pt x="69" y="170"/>
                  </a:lnTo>
                  <a:lnTo>
                    <a:pt x="64" y="171"/>
                  </a:lnTo>
                  <a:lnTo>
                    <a:pt x="59" y="173"/>
                  </a:lnTo>
                  <a:lnTo>
                    <a:pt x="53" y="175"/>
                  </a:lnTo>
                  <a:lnTo>
                    <a:pt x="48" y="177"/>
                  </a:lnTo>
                  <a:lnTo>
                    <a:pt x="42" y="178"/>
                  </a:lnTo>
                  <a:lnTo>
                    <a:pt x="37" y="182"/>
                  </a:lnTo>
                  <a:lnTo>
                    <a:pt x="27" y="187"/>
                  </a:lnTo>
                  <a:lnTo>
                    <a:pt x="17" y="194"/>
                  </a:lnTo>
                  <a:lnTo>
                    <a:pt x="0" y="204"/>
                  </a:lnTo>
                  <a:lnTo>
                    <a:pt x="14" y="97"/>
                  </a:lnTo>
                  <a:lnTo>
                    <a:pt x="115" y="29"/>
                  </a:lnTo>
                  <a:lnTo>
                    <a:pt x="127" y="22"/>
                  </a:lnTo>
                  <a:lnTo>
                    <a:pt x="139" y="17"/>
                  </a:lnTo>
                  <a:lnTo>
                    <a:pt x="150" y="12"/>
                  </a:lnTo>
                  <a:lnTo>
                    <a:pt x="161" y="9"/>
                  </a:lnTo>
                  <a:lnTo>
                    <a:pt x="173" y="5"/>
                  </a:lnTo>
                  <a:lnTo>
                    <a:pt x="184" y="3"/>
                  </a:lnTo>
                  <a:lnTo>
                    <a:pt x="194" y="2"/>
                  </a:lnTo>
                  <a:lnTo>
                    <a:pt x="206" y="2"/>
                  </a:lnTo>
                  <a:lnTo>
                    <a:pt x="225" y="3"/>
                  </a:lnTo>
                  <a:lnTo>
                    <a:pt x="243" y="7"/>
                  </a:lnTo>
                  <a:lnTo>
                    <a:pt x="260" y="12"/>
                  </a:lnTo>
                  <a:lnTo>
                    <a:pt x="276" y="19"/>
                  </a:lnTo>
                  <a:lnTo>
                    <a:pt x="290" y="29"/>
                  </a:lnTo>
                  <a:lnTo>
                    <a:pt x="297" y="36"/>
                  </a:lnTo>
                  <a:lnTo>
                    <a:pt x="304" y="41"/>
                  </a:lnTo>
                  <a:lnTo>
                    <a:pt x="310" y="48"/>
                  </a:lnTo>
                  <a:lnTo>
                    <a:pt x="316" y="55"/>
                  </a:lnTo>
                  <a:lnTo>
                    <a:pt x="321" y="64"/>
                  </a:lnTo>
                  <a:lnTo>
                    <a:pt x="326" y="73"/>
                  </a:lnTo>
                  <a:lnTo>
                    <a:pt x="335" y="92"/>
                  </a:lnTo>
                  <a:lnTo>
                    <a:pt x="339" y="100"/>
                  </a:lnTo>
                  <a:lnTo>
                    <a:pt x="344" y="111"/>
                  </a:lnTo>
                  <a:lnTo>
                    <a:pt x="347" y="121"/>
                  </a:lnTo>
                  <a:lnTo>
                    <a:pt x="350" y="132"/>
                  </a:lnTo>
                  <a:lnTo>
                    <a:pt x="354" y="142"/>
                  </a:lnTo>
                  <a:lnTo>
                    <a:pt x="356" y="154"/>
                  </a:lnTo>
                  <a:lnTo>
                    <a:pt x="359" y="164"/>
                  </a:lnTo>
                  <a:lnTo>
                    <a:pt x="360" y="177"/>
                  </a:lnTo>
                  <a:lnTo>
                    <a:pt x="362" y="189"/>
                  </a:lnTo>
                  <a:lnTo>
                    <a:pt x="364" y="201"/>
                  </a:lnTo>
                  <a:lnTo>
                    <a:pt x="365" y="213"/>
                  </a:lnTo>
                  <a:lnTo>
                    <a:pt x="366" y="225"/>
                  </a:lnTo>
                  <a:lnTo>
                    <a:pt x="366" y="237"/>
                  </a:lnTo>
                  <a:lnTo>
                    <a:pt x="366" y="251"/>
                  </a:lnTo>
                  <a:lnTo>
                    <a:pt x="366" y="272"/>
                  </a:lnTo>
                  <a:lnTo>
                    <a:pt x="366" y="293"/>
                  </a:lnTo>
                  <a:lnTo>
                    <a:pt x="365" y="313"/>
                  </a:lnTo>
                  <a:lnTo>
                    <a:pt x="364" y="336"/>
                  </a:lnTo>
                  <a:lnTo>
                    <a:pt x="362" y="359"/>
                  </a:lnTo>
                  <a:lnTo>
                    <a:pt x="360" y="383"/>
                  </a:lnTo>
                  <a:lnTo>
                    <a:pt x="357" y="409"/>
                  </a:lnTo>
                  <a:lnTo>
                    <a:pt x="354" y="435"/>
                  </a:lnTo>
                  <a:lnTo>
                    <a:pt x="336" y="566"/>
                  </a:lnTo>
                  <a:lnTo>
                    <a:pt x="355" y="566"/>
                  </a:lnTo>
                  <a:lnTo>
                    <a:pt x="363" y="566"/>
                  </a:lnTo>
                  <a:lnTo>
                    <a:pt x="372" y="565"/>
                  </a:lnTo>
                  <a:lnTo>
                    <a:pt x="381" y="561"/>
                  </a:lnTo>
                  <a:lnTo>
                    <a:pt x="389" y="558"/>
                  </a:lnTo>
                  <a:lnTo>
                    <a:pt x="398" y="553"/>
                  </a:lnTo>
                  <a:lnTo>
                    <a:pt x="406" y="547"/>
                  </a:lnTo>
                  <a:lnTo>
                    <a:pt x="415" y="540"/>
                  </a:lnTo>
                  <a:lnTo>
                    <a:pt x="423" y="532"/>
                  </a:lnTo>
                  <a:lnTo>
                    <a:pt x="431" y="523"/>
                  </a:lnTo>
                  <a:lnTo>
                    <a:pt x="438" y="513"/>
                  </a:lnTo>
                  <a:lnTo>
                    <a:pt x="445" y="502"/>
                  </a:lnTo>
                  <a:lnTo>
                    <a:pt x="452" y="490"/>
                  </a:lnTo>
                  <a:lnTo>
                    <a:pt x="458" y="478"/>
                  </a:lnTo>
                  <a:lnTo>
                    <a:pt x="463" y="464"/>
                  </a:lnTo>
                  <a:lnTo>
                    <a:pt x="468" y="450"/>
                  </a:lnTo>
                  <a:lnTo>
                    <a:pt x="473" y="436"/>
                  </a:lnTo>
                  <a:lnTo>
                    <a:pt x="482" y="405"/>
                  </a:lnTo>
                  <a:lnTo>
                    <a:pt x="493" y="371"/>
                  </a:lnTo>
                  <a:lnTo>
                    <a:pt x="515" y="286"/>
                  </a:lnTo>
                  <a:lnTo>
                    <a:pt x="520" y="261"/>
                  </a:lnTo>
                  <a:lnTo>
                    <a:pt x="527" y="239"/>
                  </a:lnTo>
                  <a:lnTo>
                    <a:pt x="534" y="216"/>
                  </a:lnTo>
                  <a:lnTo>
                    <a:pt x="542" y="194"/>
                  </a:lnTo>
                  <a:lnTo>
                    <a:pt x="549" y="173"/>
                  </a:lnTo>
                  <a:lnTo>
                    <a:pt x="557" y="151"/>
                  </a:lnTo>
                  <a:lnTo>
                    <a:pt x="575" y="109"/>
                  </a:lnTo>
                  <a:lnTo>
                    <a:pt x="581" y="97"/>
                  </a:lnTo>
                  <a:lnTo>
                    <a:pt x="586" y="85"/>
                  </a:lnTo>
                  <a:lnTo>
                    <a:pt x="592" y="74"/>
                  </a:lnTo>
                  <a:lnTo>
                    <a:pt x="599" y="64"/>
                  </a:lnTo>
                  <a:lnTo>
                    <a:pt x="606" y="54"/>
                  </a:lnTo>
                  <a:lnTo>
                    <a:pt x="613" y="45"/>
                  </a:lnTo>
                  <a:lnTo>
                    <a:pt x="619" y="36"/>
                  </a:lnTo>
                  <a:lnTo>
                    <a:pt x="627" y="29"/>
                  </a:lnTo>
                  <a:lnTo>
                    <a:pt x="635" y="22"/>
                  </a:lnTo>
                  <a:lnTo>
                    <a:pt x="642" y="17"/>
                  </a:lnTo>
                  <a:lnTo>
                    <a:pt x="651" y="12"/>
                  </a:lnTo>
                  <a:lnTo>
                    <a:pt x="660" y="7"/>
                  </a:lnTo>
                  <a:lnTo>
                    <a:pt x="669" y="3"/>
                  </a:lnTo>
                  <a:lnTo>
                    <a:pt x="680" y="2"/>
                  </a:lnTo>
                  <a:lnTo>
                    <a:pt x="691" y="0"/>
                  </a:lnTo>
                  <a:lnTo>
                    <a:pt x="702" y="0"/>
                  </a:lnTo>
                  <a:lnTo>
                    <a:pt x="713" y="0"/>
                  </a:lnTo>
                  <a:lnTo>
                    <a:pt x="724" y="3"/>
                  </a:lnTo>
                  <a:lnTo>
                    <a:pt x="735" y="7"/>
                  </a:lnTo>
                  <a:lnTo>
                    <a:pt x="745" y="12"/>
                  </a:lnTo>
                  <a:lnTo>
                    <a:pt x="754" y="19"/>
                  </a:lnTo>
                  <a:lnTo>
                    <a:pt x="758" y="22"/>
                  </a:lnTo>
                  <a:lnTo>
                    <a:pt x="763" y="28"/>
                  </a:lnTo>
                  <a:lnTo>
                    <a:pt x="766" y="31"/>
                  </a:lnTo>
                  <a:lnTo>
                    <a:pt x="770" y="36"/>
                  </a:lnTo>
                  <a:lnTo>
                    <a:pt x="774" y="43"/>
                  </a:lnTo>
                  <a:lnTo>
                    <a:pt x="777" y="48"/>
                  </a:lnTo>
                  <a:lnTo>
                    <a:pt x="780" y="55"/>
                  </a:lnTo>
                  <a:lnTo>
                    <a:pt x="783" y="61"/>
                  </a:lnTo>
                  <a:lnTo>
                    <a:pt x="786" y="67"/>
                  </a:lnTo>
                  <a:lnTo>
                    <a:pt x="789" y="74"/>
                  </a:lnTo>
                  <a:lnTo>
                    <a:pt x="791" y="83"/>
                  </a:lnTo>
                  <a:lnTo>
                    <a:pt x="793" y="90"/>
                  </a:lnTo>
                  <a:lnTo>
                    <a:pt x="796" y="97"/>
                  </a:lnTo>
                  <a:lnTo>
                    <a:pt x="797" y="106"/>
                  </a:lnTo>
                  <a:lnTo>
                    <a:pt x="799" y="114"/>
                  </a:lnTo>
                  <a:lnTo>
                    <a:pt x="800" y="123"/>
                  </a:lnTo>
                  <a:lnTo>
                    <a:pt x="802" y="132"/>
                  </a:lnTo>
                  <a:lnTo>
                    <a:pt x="802" y="140"/>
                  </a:lnTo>
                  <a:lnTo>
                    <a:pt x="803" y="15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00360" y="3192480"/>
              <a:ext cx="241200" cy="449280"/>
            </a:xfrm>
            <a:custGeom>
              <a:avLst/>
              <a:gdLst/>
              <a:ahLst/>
              <a:rect l="l" t="t" r="r" b="b"/>
              <a:pathLst>
                <a:path w="672" h="1250">
                  <a:moveTo>
                    <a:pt x="671" y="274"/>
                  </a:moveTo>
                  <a:lnTo>
                    <a:pt x="671" y="291"/>
                  </a:lnTo>
                  <a:lnTo>
                    <a:pt x="670" y="308"/>
                  </a:lnTo>
                  <a:lnTo>
                    <a:pt x="668" y="324"/>
                  </a:lnTo>
                  <a:lnTo>
                    <a:pt x="668" y="340"/>
                  </a:lnTo>
                  <a:lnTo>
                    <a:pt x="665" y="353"/>
                  </a:lnTo>
                  <a:lnTo>
                    <a:pt x="663" y="369"/>
                  </a:lnTo>
                  <a:lnTo>
                    <a:pt x="659" y="383"/>
                  </a:lnTo>
                  <a:lnTo>
                    <a:pt x="656" y="397"/>
                  </a:lnTo>
                  <a:lnTo>
                    <a:pt x="652" y="409"/>
                  </a:lnTo>
                  <a:lnTo>
                    <a:pt x="646" y="421"/>
                  </a:lnTo>
                  <a:lnTo>
                    <a:pt x="641" y="433"/>
                  </a:lnTo>
                  <a:lnTo>
                    <a:pt x="636" y="445"/>
                  </a:lnTo>
                  <a:lnTo>
                    <a:pt x="630" y="456"/>
                  </a:lnTo>
                  <a:lnTo>
                    <a:pt x="624" y="466"/>
                  </a:lnTo>
                  <a:lnTo>
                    <a:pt x="617" y="476"/>
                  </a:lnTo>
                  <a:lnTo>
                    <a:pt x="610" y="485"/>
                  </a:lnTo>
                  <a:lnTo>
                    <a:pt x="603" y="494"/>
                  </a:lnTo>
                  <a:lnTo>
                    <a:pt x="596" y="501"/>
                  </a:lnTo>
                  <a:lnTo>
                    <a:pt x="589" y="508"/>
                  </a:lnTo>
                  <a:lnTo>
                    <a:pt x="581" y="516"/>
                  </a:lnTo>
                  <a:lnTo>
                    <a:pt x="565" y="528"/>
                  </a:lnTo>
                  <a:lnTo>
                    <a:pt x="547" y="541"/>
                  </a:lnTo>
                  <a:lnTo>
                    <a:pt x="529" y="551"/>
                  </a:lnTo>
                  <a:lnTo>
                    <a:pt x="508" y="561"/>
                  </a:lnTo>
                  <a:lnTo>
                    <a:pt x="488" y="570"/>
                  </a:lnTo>
                  <a:lnTo>
                    <a:pt x="466" y="577"/>
                  </a:lnTo>
                  <a:lnTo>
                    <a:pt x="464" y="594"/>
                  </a:lnTo>
                  <a:lnTo>
                    <a:pt x="482" y="596"/>
                  </a:lnTo>
                  <a:lnTo>
                    <a:pt x="500" y="601"/>
                  </a:lnTo>
                  <a:lnTo>
                    <a:pt x="518" y="606"/>
                  </a:lnTo>
                  <a:lnTo>
                    <a:pt x="535" y="613"/>
                  </a:lnTo>
                  <a:lnTo>
                    <a:pt x="543" y="617"/>
                  </a:lnTo>
                  <a:lnTo>
                    <a:pt x="552" y="622"/>
                  </a:lnTo>
                  <a:lnTo>
                    <a:pt x="559" y="627"/>
                  </a:lnTo>
                  <a:lnTo>
                    <a:pt x="567" y="632"/>
                  </a:lnTo>
                  <a:lnTo>
                    <a:pt x="574" y="639"/>
                  </a:lnTo>
                  <a:lnTo>
                    <a:pt x="581" y="644"/>
                  </a:lnTo>
                  <a:lnTo>
                    <a:pt x="595" y="658"/>
                  </a:lnTo>
                  <a:lnTo>
                    <a:pt x="601" y="667"/>
                  </a:lnTo>
                  <a:lnTo>
                    <a:pt x="607" y="674"/>
                  </a:lnTo>
                  <a:lnTo>
                    <a:pt x="613" y="683"/>
                  </a:lnTo>
                  <a:lnTo>
                    <a:pt x="618" y="693"/>
                  </a:lnTo>
                  <a:lnTo>
                    <a:pt x="624" y="702"/>
                  </a:lnTo>
                  <a:lnTo>
                    <a:pt x="629" y="712"/>
                  </a:lnTo>
                  <a:lnTo>
                    <a:pt x="633" y="722"/>
                  </a:lnTo>
                  <a:lnTo>
                    <a:pt x="637" y="735"/>
                  </a:lnTo>
                  <a:lnTo>
                    <a:pt x="641" y="747"/>
                  </a:lnTo>
                  <a:lnTo>
                    <a:pt x="644" y="761"/>
                  </a:lnTo>
                  <a:lnTo>
                    <a:pt x="647" y="773"/>
                  </a:lnTo>
                  <a:lnTo>
                    <a:pt x="649" y="787"/>
                  </a:lnTo>
                  <a:lnTo>
                    <a:pt x="651" y="800"/>
                  </a:lnTo>
                  <a:lnTo>
                    <a:pt x="652" y="816"/>
                  </a:lnTo>
                  <a:lnTo>
                    <a:pt x="653" y="830"/>
                  </a:lnTo>
                  <a:lnTo>
                    <a:pt x="653" y="845"/>
                  </a:lnTo>
                  <a:lnTo>
                    <a:pt x="652" y="870"/>
                  </a:lnTo>
                  <a:lnTo>
                    <a:pt x="652" y="894"/>
                  </a:lnTo>
                  <a:lnTo>
                    <a:pt x="649" y="916"/>
                  </a:lnTo>
                  <a:lnTo>
                    <a:pt x="645" y="939"/>
                  </a:lnTo>
                  <a:lnTo>
                    <a:pt x="641" y="960"/>
                  </a:lnTo>
                  <a:lnTo>
                    <a:pt x="635" y="981"/>
                  </a:lnTo>
                  <a:lnTo>
                    <a:pt x="629" y="1001"/>
                  </a:lnTo>
                  <a:lnTo>
                    <a:pt x="621" y="1020"/>
                  </a:lnTo>
                  <a:lnTo>
                    <a:pt x="613" y="1039"/>
                  </a:lnTo>
                  <a:lnTo>
                    <a:pt x="603" y="1057"/>
                  </a:lnTo>
                  <a:lnTo>
                    <a:pt x="593" y="1074"/>
                  </a:lnTo>
                  <a:lnTo>
                    <a:pt x="582" y="1090"/>
                  </a:lnTo>
                  <a:lnTo>
                    <a:pt x="570" y="1105"/>
                  </a:lnTo>
                  <a:lnTo>
                    <a:pt x="558" y="1121"/>
                  </a:lnTo>
                  <a:lnTo>
                    <a:pt x="544" y="1135"/>
                  </a:lnTo>
                  <a:lnTo>
                    <a:pt x="530" y="1149"/>
                  </a:lnTo>
                  <a:lnTo>
                    <a:pt x="500" y="1173"/>
                  </a:lnTo>
                  <a:lnTo>
                    <a:pt x="469" y="1194"/>
                  </a:lnTo>
                  <a:lnTo>
                    <a:pt x="437" y="1211"/>
                  </a:lnTo>
                  <a:lnTo>
                    <a:pt x="404" y="1225"/>
                  </a:lnTo>
                  <a:lnTo>
                    <a:pt x="370" y="1235"/>
                  </a:lnTo>
                  <a:lnTo>
                    <a:pt x="334" y="1242"/>
                  </a:lnTo>
                  <a:lnTo>
                    <a:pt x="296" y="1247"/>
                  </a:lnTo>
                  <a:lnTo>
                    <a:pt x="256" y="1249"/>
                  </a:lnTo>
                  <a:lnTo>
                    <a:pt x="228" y="1247"/>
                  </a:lnTo>
                  <a:lnTo>
                    <a:pt x="201" y="1244"/>
                  </a:lnTo>
                  <a:lnTo>
                    <a:pt x="176" y="1239"/>
                  </a:lnTo>
                  <a:lnTo>
                    <a:pt x="152" y="1232"/>
                  </a:lnTo>
                  <a:lnTo>
                    <a:pt x="129" y="1221"/>
                  </a:lnTo>
                  <a:lnTo>
                    <a:pt x="108" y="1208"/>
                  </a:lnTo>
                  <a:lnTo>
                    <a:pt x="89" y="1194"/>
                  </a:lnTo>
                  <a:lnTo>
                    <a:pt x="70" y="1176"/>
                  </a:lnTo>
                  <a:lnTo>
                    <a:pt x="61" y="1168"/>
                  </a:lnTo>
                  <a:lnTo>
                    <a:pt x="54" y="1157"/>
                  </a:lnTo>
                  <a:lnTo>
                    <a:pt x="46" y="1147"/>
                  </a:lnTo>
                  <a:lnTo>
                    <a:pt x="39" y="1137"/>
                  </a:lnTo>
                  <a:lnTo>
                    <a:pt x="33" y="1124"/>
                  </a:lnTo>
                  <a:lnTo>
                    <a:pt x="28" y="1112"/>
                  </a:lnTo>
                  <a:lnTo>
                    <a:pt x="22" y="1100"/>
                  </a:lnTo>
                  <a:lnTo>
                    <a:pt x="17" y="1086"/>
                  </a:lnTo>
                  <a:lnTo>
                    <a:pt x="13" y="1072"/>
                  </a:lnTo>
                  <a:lnTo>
                    <a:pt x="10" y="1059"/>
                  </a:lnTo>
                  <a:lnTo>
                    <a:pt x="6" y="1045"/>
                  </a:lnTo>
                  <a:lnTo>
                    <a:pt x="4" y="1029"/>
                  </a:lnTo>
                  <a:lnTo>
                    <a:pt x="2" y="1014"/>
                  </a:lnTo>
                  <a:lnTo>
                    <a:pt x="0" y="998"/>
                  </a:lnTo>
                  <a:lnTo>
                    <a:pt x="0" y="981"/>
                  </a:lnTo>
                  <a:lnTo>
                    <a:pt x="0" y="963"/>
                  </a:lnTo>
                  <a:lnTo>
                    <a:pt x="0" y="944"/>
                  </a:lnTo>
                  <a:lnTo>
                    <a:pt x="0" y="936"/>
                  </a:lnTo>
                  <a:lnTo>
                    <a:pt x="1" y="925"/>
                  </a:lnTo>
                  <a:lnTo>
                    <a:pt x="2" y="916"/>
                  </a:lnTo>
                  <a:lnTo>
                    <a:pt x="4" y="908"/>
                  </a:lnTo>
                  <a:lnTo>
                    <a:pt x="5" y="899"/>
                  </a:lnTo>
                  <a:lnTo>
                    <a:pt x="6" y="890"/>
                  </a:lnTo>
                  <a:lnTo>
                    <a:pt x="9" y="882"/>
                  </a:lnTo>
                  <a:lnTo>
                    <a:pt x="11" y="875"/>
                  </a:lnTo>
                  <a:lnTo>
                    <a:pt x="13" y="866"/>
                  </a:lnTo>
                  <a:lnTo>
                    <a:pt x="16" y="859"/>
                  </a:lnTo>
                  <a:lnTo>
                    <a:pt x="18" y="851"/>
                  </a:lnTo>
                  <a:lnTo>
                    <a:pt x="22" y="844"/>
                  </a:lnTo>
                  <a:lnTo>
                    <a:pt x="28" y="830"/>
                  </a:lnTo>
                  <a:lnTo>
                    <a:pt x="36" y="818"/>
                  </a:lnTo>
                  <a:lnTo>
                    <a:pt x="44" y="806"/>
                  </a:lnTo>
                  <a:lnTo>
                    <a:pt x="52" y="797"/>
                  </a:lnTo>
                  <a:lnTo>
                    <a:pt x="61" y="788"/>
                  </a:lnTo>
                  <a:lnTo>
                    <a:pt x="71" y="783"/>
                  </a:lnTo>
                  <a:lnTo>
                    <a:pt x="81" y="778"/>
                  </a:lnTo>
                  <a:lnTo>
                    <a:pt x="91" y="776"/>
                  </a:lnTo>
                  <a:lnTo>
                    <a:pt x="102" y="774"/>
                  </a:lnTo>
                  <a:lnTo>
                    <a:pt x="115" y="774"/>
                  </a:lnTo>
                  <a:lnTo>
                    <a:pt x="126" y="778"/>
                  </a:lnTo>
                  <a:lnTo>
                    <a:pt x="137" y="781"/>
                  </a:lnTo>
                  <a:lnTo>
                    <a:pt x="147" y="787"/>
                  </a:lnTo>
                  <a:lnTo>
                    <a:pt x="155" y="792"/>
                  </a:lnTo>
                  <a:lnTo>
                    <a:pt x="160" y="795"/>
                  </a:lnTo>
                  <a:lnTo>
                    <a:pt x="164" y="800"/>
                  </a:lnTo>
                  <a:lnTo>
                    <a:pt x="168" y="804"/>
                  </a:lnTo>
                  <a:lnTo>
                    <a:pt x="171" y="809"/>
                  </a:lnTo>
                  <a:lnTo>
                    <a:pt x="175" y="814"/>
                  </a:lnTo>
                  <a:lnTo>
                    <a:pt x="178" y="819"/>
                  </a:lnTo>
                  <a:lnTo>
                    <a:pt x="182" y="825"/>
                  </a:lnTo>
                  <a:lnTo>
                    <a:pt x="184" y="832"/>
                  </a:lnTo>
                  <a:lnTo>
                    <a:pt x="188" y="839"/>
                  </a:lnTo>
                  <a:lnTo>
                    <a:pt x="190" y="844"/>
                  </a:lnTo>
                  <a:lnTo>
                    <a:pt x="192" y="851"/>
                  </a:lnTo>
                  <a:lnTo>
                    <a:pt x="194" y="858"/>
                  </a:lnTo>
                  <a:lnTo>
                    <a:pt x="196" y="866"/>
                  </a:lnTo>
                  <a:lnTo>
                    <a:pt x="198" y="873"/>
                  </a:lnTo>
                  <a:lnTo>
                    <a:pt x="199" y="880"/>
                  </a:lnTo>
                  <a:lnTo>
                    <a:pt x="201" y="889"/>
                  </a:lnTo>
                  <a:lnTo>
                    <a:pt x="202" y="897"/>
                  </a:lnTo>
                  <a:lnTo>
                    <a:pt x="203" y="906"/>
                  </a:lnTo>
                  <a:lnTo>
                    <a:pt x="205" y="923"/>
                  </a:lnTo>
                  <a:lnTo>
                    <a:pt x="205" y="942"/>
                  </a:lnTo>
                  <a:lnTo>
                    <a:pt x="205" y="955"/>
                  </a:lnTo>
                  <a:lnTo>
                    <a:pt x="204" y="967"/>
                  </a:lnTo>
                  <a:lnTo>
                    <a:pt x="202" y="979"/>
                  </a:lnTo>
                  <a:lnTo>
                    <a:pt x="200" y="991"/>
                  </a:lnTo>
                  <a:lnTo>
                    <a:pt x="199" y="1003"/>
                  </a:lnTo>
                  <a:lnTo>
                    <a:pt x="195" y="1015"/>
                  </a:lnTo>
                  <a:lnTo>
                    <a:pt x="193" y="1027"/>
                  </a:lnTo>
                  <a:lnTo>
                    <a:pt x="188" y="1039"/>
                  </a:lnTo>
                  <a:lnTo>
                    <a:pt x="181" y="1062"/>
                  </a:lnTo>
                  <a:lnTo>
                    <a:pt x="174" y="1079"/>
                  </a:lnTo>
                  <a:lnTo>
                    <a:pt x="171" y="1086"/>
                  </a:lnTo>
                  <a:lnTo>
                    <a:pt x="167" y="1093"/>
                  </a:lnTo>
                  <a:lnTo>
                    <a:pt x="164" y="1098"/>
                  </a:lnTo>
                  <a:lnTo>
                    <a:pt x="163" y="1102"/>
                  </a:lnTo>
                  <a:lnTo>
                    <a:pt x="161" y="1104"/>
                  </a:lnTo>
                  <a:lnTo>
                    <a:pt x="168" y="1112"/>
                  </a:lnTo>
                  <a:lnTo>
                    <a:pt x="171" y="1117"/>
                  </a:lnTo>
                  <a:lnTo>
                    <a:pt x="176" y="1121"/>
                  </a:lnTo>
                  <a:lnTo>
                    <a:pt x="179" y="1126"/>
                  </a:lnTo>
                  <a:lnTo>
                    <a:pt x="183" y="1130"/>
                  </a:lnTo>
                  <a:lnTo>
                    <a:pt x="188" y="1133"/>
                  </a:lnTo>
                  <a:lnTo>
                    <a:pt x="193" y="1137"/>
                  </a:lnTo>
                  <a:lnTo>
                    <a:pt x="198" y="1140"/>
                  </a:lnTo>
                  <a:lnTo>
                    <a:pt x="204" y="1143"/>
                  </a:lnTo>
                  <a:lnTo>
                    <a:pt x="210" y="1145"/>
                  </a:lnTo>
                  <a:lnTo>
                    <a:pt x="216" y="1149"/>
                  </a:lnTo>
                  <a:lnTo>
                    <a:pt x="222" y="1150"/>
                  </a:lnTo>
                  <a:lnTo>
                    <a:pt x="229" y="1150"/>
                  </a:lnTo>
                  <a:lnTo>
                    <a:pt x="237" y="1152"/>
                  </a:lnTo>
                  <a:lnTo>
                    <a:pt x="244" y="1152"/>
                  </a:lnTo>
                  <a:lnTo>
                    <a:pt x="262" y="1150"/>
                  </a:lnTo>
                  <a:lnTo>
                    <a:pt x="279" y="1147"/>
                  </a:lnTo>
                  <a:lnTo>
                    <a:pt x="296" y="1138"/>
                  </a:lnTo>
                  <a:lnTo>
                    <a:pt x="312" y="1130"/>
                  </a:lnTo>
                  <a:lnTo>
                    <a:pt x="327" y="1116"/>
                  </a:lnTo>
                  <a:lnTo>
                    <a:pt x="342" y="1100"/>
                  </a:lnTo>
                  <a:lnTo>
                    <a:pt x="356" y="1081"/>
                  </a:lnTo>
                  <a:lnTo>
                    <a:pt x="370" y="1059"/>
                  </a:lnTo>
                  <a:lnTo>
                    <a:pt x="381" y="1034"/>
                  </a:lnTo>
                  <a:lnTo>
                    <a:pt x="387" y="1022"/>
                  </a:lnTo>
                  <a:lnTo>
                    <a:pt x="392" y="1008"/>
                  </a:lnTo>
                  <a:lnTo>
                    <a:pt x="398" y="994"/>
                  </a:lnTo>
                  <a:lnTo>
                    <a:pt x="402" y="981"/>
                  </a:lnTo>
                  <a:lnTo>
                    <a:pt x="405" y="967"/>
                  </a:lnTo>
                  <a:lnTo>
                    <a:pt x="409" y="953"/>
                  </a:lnTo>
                  <a:lnTo>
                    <a:pt x="412" y="937"/>
                  </a:lnTo>
                  <a:lnTo>
                    <a:pt x="414" y="922"/>
                  </a:lnTo>
                  <a:lnTo>
                    <a:pt x="417" y="906"/>
                  </a:lnTo>
                  <a:lnTo>
                    <a:pt x="419" y="889"/>
                  </a:lnTo>
                  <a:lnTo>
                    <a:pt x="420" y="871"/>
                  </a:lnTo>
                  <a:lnTo>
                    <a:pt x="421" y="856"/>
                  </a:lnTo>
                  <a:lnTo>
                    <a:pt x="422" y="819"/>
                  </a:lnTo>
                  <a:lnTo>
                    <a:pt x="422" y="802"/>
                  </a:lnTo>
                  <a:lnTo>
                    <a:pt x="420" y="787"/>
                  </a:lnTo>
                  <a:lnTo>
                    <a:pt x="419" y="771"/>
                  </a:lnTo>
                  <a:lnTo>
                    <a:pt x="416" y="757"/>
                  </a:lnTo>
                  <a:lnTo>
                    <a:pt x="414" y="742"/>
                  </a:lnTo>
                  <a:lnTo>
                    <a:pt x="409" y="728"/>
                  </a:lnTo>
                  <a:lnTo>
                    <a:pt x="405" y="716"/>
                  </a:lnTo>
                  <a:lnTo>
                    <a:pt x="400" y="702"/>
                  </a:lnTo>
                  <a:lnTo>
                    <a:pt x="398" y="696"/>
                  </a:lnTo>
                  <a:lnTo>
                    <a:pt x="394" y="690"/>
                  </a:lnTo>
                  <a:lnTo>
                    <a:pt x="391" y="684"/>
                  </a:lnTo>
                  <a:lnTo>
                    <a:pt x="387" y="679"/>
                  </a:lnTo>
                  <a:lnTo>
                    <a:pt x="383" y="676"/>
                  </a:lnTo>
                  <a:lnTo>
                    <a:pt x="380" y="670"/>
                  </a:lnTo>
                  <a:lnTo>
                    <a:pt x="376" y="667"/>
                  </a:lnTo>
                  <a:lnTo>
                    <a:pt x="371" y="664"/>
                  </a:lnTo>
                  <a:lnTo>
                    <a:pt x="362" y="658"/>
                  </a:lnTo>
                  <a:lnTo>
                    <a:pt x="353" y="655"/>
                  </a:lnTo>
                  <a:lnTo>
                    <a:pt x="342" y="651"/>
                  </a:lnTo>
                  <a:lnTo>
                    <a:pt x="331" y="651"/>
                  </a:lnTo>
                  <a:lnTo>
                    <a:pt x="244" y="651"/>
                  </a:lnTo>
                  <a:lnTo>
                    <a:pt x="260" y="530"/>
                  </a:lnTo>
                  <a:lnTo>
                    <a:pt x="326" y="530"/>
                  </a:lnTo>
                  <a:lnTo>
                    <a:pt x="340" y="528"/>
                  </a:lnTo>
                  <a:lnTo>
                    <a:pt x="353" y="527"/>
                  </a:lnTo>
                  <a:lnTo>
                    <a:pt x="365" y="521"/>
                  </a:lnTo>
                  <a:lnTo>
                    <a:pt x="376" y="515"/>
                  </a:lnTo>
                  <a:lnTo>
                    <a:pt x="381" y="511"/>
                  </a:lnTo>
                  <a:lnTo>
                    <a:pt x="386" y="506"/>
                  </a:lnTo>
                  <a:lnTo>
                    <a:pt x="391" y="501"/>
                  </a:lnTo>
                  <a:lnTo>
                    <a:pt x="396" y="496"/>
                  </a:lnTo>
                  <a:lnTo>
                    <a:pt x="400" y="489"/>
                  </a:lnTo>
                  <a:lnTo>
                    <a:pt x="404" y="482"/>
                  </a:lnTo>
                  <a:lnTo>
                    <a:pt x="409" y="475"/>
                  </a:lnTo>
                  <a:lnTo>
                    <a:pt x="413" y="468"/>
                  </a:lnTo>
                  <a:lnTo>
                    <a:pt x="417" y="461"/>
                  </a:lnTo>
                  <a:lnTo>
                    <a:pt x="420" y="452"/>
                  </a:lnTo>
                  <a:lnTo>
                    <a:pt x="424" y="444"/>
                  </a:lnTo>
                  <a:lnTo>
                    <a:pt x="426" y="435"/>
                  </a:lnTo>
                  <a:lnTo>
                    <a:pt x="430" y="426"/>
                  </a:lnTo>
                  <a:lnTo>
                    <a:pt x="432" y="416"/>
                  </a:lnTo>
                  <a:lnTo>
                    <a:pt x="434" y="405"/>
                  </a:lnTo>
                  <a:lnTo>
                    <a:pt x="436" y="395"/>
                  </a:lnTo>
                  <a:lnTo>
                    <a:pt x="438" y="385"/>
                  </a:lnTo>
                  <a:lnTo>
                    <a:pt x="440" y="373"/>
                  </a:lnTo>
                  <a:lnTo>
                    <a:pt x="442" y="348"/>
                  </a:lnTo>
                  <a:lnTo>
                    <a:pt x="443" y="324"/>
                  </a:lnTo>
                  <a:lnTo>
                    <a:pt x="444" y="296"/>
                  </a:lnTo>
                  <a:lnTo>
                    <a:pt x="444" y="288"/>
                  </a:lnTo>
                  <a:lnTo>
                    <a:pt x="444" y="281"/>
                  </a:lnTo>
                  <a:lnTo>
                    <a:pt x="443" y="272"/>
                  </a:lnTo>
                  <a:lnTo>
                    <a:pt x="442" y="265"/>
                  </a:lnTo>
                  <a:lnTo>
                    <a:pt x="442" y="258"/>
                  </a:lnTo>
                  <a:lnTo>
                    <a:pt x="441" y="251"/>
                  </a:lnTo>
                  <a:lnTo>
                    <a:pt x="439" y="244"/>
                  </a:lnTo>
                  <a:lnTo>
                    <a:pt x="437" y="237"/>
                  </a:lnTo>
                  <a:lnTo>
                    <a:pt x="436" y="232"/>
                  </a:lnTo>
                  <a:lnTo>
                    <a:pt x="434" y="225"/>
                  </a:lnTo>
                  <a:lnTo>
                    <a:pt x="431" y="220"/>
                  </a:lnTo>
                  <a:lnTo>
                    <a:pt x="430" y="213"/>
                  </a:lnTo>
                  <a:lnTo>
                    <a:pt x="427" y="208"/>
                  </a:lnTo>
                  <a:lnTo>
                    <a:pt x="424" y="203"/>
                  </a:lnTo>
                  <a:lnTo>
                    <a:pt x="421" y="198"/>
                  </a:lnTo>
                  <a:lnTo>
                    <a:pt x="418" y="192"/>
                  </a:lnTo>
                  <a:lnTo>
                    <a:pt x="411" y="184"/>
                  </a:lnTo>
                  <a:lnTo>
                    <a:pt x="403" y="175"/>
                  </a:lnTo>
                  <a:lnTo>
                    <a:pt x="395" y="168"/>
                  </a:lnTo>
                  <a:lnTo>
                    <a:pt x="387" y="163"/>
                  </a:lnTo>
                  <a:lnTo>
                    <a:pt x="378" y="158"/>
                  </a:lnTo>
                  <a:lnTo>
                    <a:pt x="368" y="154"/>
                  </a:lnTo>
                  <a:lnTo>
                    <a:pt x="358" y="152"/>
                  </a:lnTo>
                  <a:lnTo>
                    <a:pt x="348" y="152"/>
                  </a:lnTo>
                  <a:lnTo>
                    <a:pt x="334" y="154"/>
                  </a:lnTo>
                  <a:lnTo>
                    <a:pt x="320" y="156"/>
                  </a:lnTo>
                  <a:lnTo>
                    <a:pt x="306" y="161"/>
                  </a:lnTo>
                  <a:lnTo>
                    <a:pt x="292" y="166"/>
                  </a:lnTo>
                  <a:lnTo>
                    <a:pt x="278" y="175"/>
                  </a:lnTo>
                  <a:lnTo>
                    <a:pt x="264" y="185"/>
                  </a:lnTo>
                  <a:lnTo>
                    <a:pt x="250" y="196"/>
                  </a:lnTo>
                  <a:lnTo>
                    <a:pt x="237" y="210"/>
                  </a:lnTo>
                  <a:lnTo>
                    <a:pt x="223" y="225"/>
                  </a:lnTo>
                  <a:lnTo>
                    <a:pt x="210" y="243"/>
                  </a:lnTo>
                  <a:lnTo>
                    <a:pt x="196" y="260"/>
                  </a:lnTo>
                  <a:lnTo>
                    <a:pt x="183" y="281"/>
                  </a:lnTo>
                  <a:lnTo>
                    <a:pt x="169" y="301"/>
                  </a:lnTo>
                  <a:lnTo>
                    <a:pt x="156" y="324"/>
                  </a:lnTo>
                  <a:lnTo>
                    <a:pt x="143" y="347"/>
                  </a:lnTo>
                  <a:lnTo>
                    <a:pt x="130" y="373"/>
                  </a:lnTo>
                  <a:lnTo>
                    <a:pt x="83" y="300"/>
                  </a:lnTo>
                  <a:lnTo>
                    <a:pt x="98" y="265"/>
                  </a:lnTo>
                  <a:lnTo>
                    <a:pt x="114" y="232"/>
                  </a:lnTo>
                  <a:lnTo>
                    <a:pt x="130" y="201"/>
                  </a:lnTo>
                  <a:lnTo>
                    <a:pt x="148" y="173"/>
                  </a:lnTo>
                  <a:lnTo>
                    <a:pt x="166" y="146"/>
                  </a:lnTo>
                  <a:lnTo>
                    <a:pt x="184" y="121"/>
                  </a:lnTo>
                  <a:lnTo>
                    <a:pt x="205" y="99"/>
                  </a:lnTo>
                  <a:lnTo>
                    <a:pt x="225" y="78"/>
                  </a:lnTo>
                  <a:lnTo>
                    <a:pt x="246" y="59"/>
                  </a:lnTo>
                  <a:lnTo>
                    <a:pt x="268" y="43"/>
                  </a:lnTo>
                  <a:lnTo>
                    <a:pt x="291" y="31"/>
                  </a:lnTo>
                  <a:lnTo>
                    <a:pt x="314" y="19"/>
                  </a:lnTo>
                  <a:lnTo>
                    <a:pt x="337" y="10"/>
                  </a:lnTo>
                  <a:lnTo>
                    <a:pt x="361" y="5"/>
                  </a:lnTo>
                  <a:lnTo>
                    <a:pt x="386" y="2"/>
                  </a:lnTo>
                  <a:lnTo>
                    <a:pt x="411" y="0"/>
                  </a:lnTo>
                  <a:lnTo>
                    <a:pt x="442" y="2"/>
                  </a:lnTo>
                  <a:lnTo>
                    <a:pt x="471" y="5"/>
                  </a:lnTo>
                  <a:lnTo>
                    <a:pt x="498" y="10"/>
                  </a:lnTo>
                  <a:lnTo>
                    <a:pt x="524" y="17"/>
                  </a:lnTo>
                  <a:lnTo>
                    <a:pt x="547" y="28"/>
                  </a:lnTo>
                  <a:lnTo>
                    <a:pt x="568" y="40"/>
                  </a:lnTo>
                  <a:lnTo>
                    <a:pt x="587" y="54"/>
                  </a:lnTo>
                  <a:lnTo>
                    <a:pt x="605" y="71"/>
                  </a:lnTo>
                  <a:lnTo>
                    <a:pt x="613" y="80"/>
                  </a:lnTo>
                  <a:lnTo>
                    <a:pt x="620" y="90"/>
                  </a:lnTo>
                  <a:lnTo>
                    <a:pt x="628" y="99"/>
                  </a:lnTo>
                  <a:lnTo>
                    <a:pt x="634" y="111"/>
                  </a:lnTo>
                  <a:lnTo>
                    <a:pt x="640" y="121"/>
                  </a:lnTo>
                  <a:lnTo>
                    <a:pt x="646" y="132"/>
                  </a:lnTo>
                  <a:lnTo>
                    <a:pt x="650" y="144"/>
                  </a:lnTo>
                  <a:lnTo>
                    <a:pt x="655" y="158"/>
                  </a:lnTo>
                  <a:lnTo>
                    <a:pt x="658" y="170"/>
                  </a:lnTo>
                  <a:lnTo>
                    <a:pt x="662" y="184"/>
                  </a:lnTo>
                  <a:lnTo>
                    <a:pt x="664" y="198"/>
                  </a:lnTo>
                  <a:lnTo>
                    <a:pt x="667" y="211"/>
                  </a:lnTo>
                  <a:lnTo>
                    <a:pt x="668" y="227"/>
                  </a:lnTo>
                  <a:lnTo>
                    <a:pt x="670" y="241"/>
                  </a:lnTo>
                  <a:lnTo>
                    <a:pt x="671" y="258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46240" y="3192480"/>
              <a:ext cx="295560" cy="449280"/>
            </a:xfrm>
            <a:custGeom>
              <a:avLst/>
              <a:gdLst/>
              <a:ahLst/>
              <a:rect l="l" t="t" r="r" b="b"/>
              <a:pathLst>
                <a:path w="821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79" y="1157"/>
                  </a:lnTo>
                  <a:lnTo>
                    <a:pt x="366" y="1173"/>
                  </a:lnTo>
                  <a:lnTo>
                    <a:pt x="351" y="1186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6" y="1233"/>
                  </a:lnTo>
                  <a:lnTo>
                    <a:pt x="279" y="1238"/>
                  </a:lnTo>
                  <a:lnTo>
                    <a:pt x="270" y="1240"/>
                  </a:lnTo>
                  <a:lnTo>
                    <a:pt x="262" y="1244"/>
                  </a:lnTo>
                  <a:lnTo>
                    <a:pt x="253" y="1245"/>
                  </a:lnTo>
                  <a:lnTo>
                    <a:pt x="245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4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8" y="1199"/>
                  </a:lnTo>
                  <a:lnTo>
                    <a:pt x="98" y="1188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4" y="980"/>
                  </a:lnTo>
                  <a:lnTo>
                    <a:pt x="8" y="937"/>
                  </a:lnTo>
                  <a:lnTo>
                    <a:pt x="3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4" y="670"/>
                  </a:lnTo>
                  <a:lnTo>
                    <a:pt x="8" y="632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19"/>
                  </a:lnTo>
                  <a:lnTo>
                    <a:pt x="32" y="483"/>
                  </a:lnTo>
                  <a:lnTo>
                    <a:pt x="41" y="448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80" y="319"/>
                  </a:lnTo>
                  <a:lnTo>
                    <a:pt x="91" y="289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1" y="48"/>
                  </a:lnTo>
                  <a:lnTo>
                    <a:pt x="279" y="34"/>
                  </a:lnTo>
                  <a:lnTo>
                    <a:pt x="297" y="24"/>
                  </a:lnTo>
                  <a:lnTo>
                    <a:pt x="317" y="15"/>
                  </a:lnTo>
                  <a:lnTo>
                    <a:pt x="335" y="8"/>
                  </a:lnTo>
                  <a:lnTo>
                    <a:pt x="355" y="3"/>
                  </a:lnTo>
                  <a:lnTo>
                    <a:pt x="375" y="1"/>
                  </a:lnTo>
                  <a:lnTo>
                    <a:pt x="395" y="0"/>
                  </a:lnTo>
                  <a:lnTo>
                    <a:pt x="422" y="1"/>
                  </a:lnTo>
                  <a:lnTo>
                    <a:pt x="450" y="7"/>
                  </a:lnTo>
                  <a:lnTo>
                    <a:pt x="461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7" y="47"/>
                  </a:lnTo>
                  <a:lnTo>
                    <a:pt x="536" y="53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3"/>
                  </a:lnTo>
                  <a:lnTo>
                    <a:pt x="768" y="17"/>
                  </a:lnTo>
                  <a:lnTo>
                    <a:pt x="776" y="36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6" y="812"/>
                  </a:lnTo>
                  <a:lnTo>
                    <a:pt x="670" y="863"/>
                  </a:lnTo>
                  <a:lnTo>
                    <a:pt x="668" y="888"/>
                  </a:lnTo>
                  <a:lnTo>
                    <a:pt x="666" y="913"/>
                  </a:lnTo>
                  <a:lnTo>
                    <a:pt x="665" y="932"/>
                  </a:lnTo>
                  <a:lnTo>
                    <a:pt x="665" y="940"/>
                  </a:lnTo>
                  <a:lnTo>
                    <a:pt x="665" y="947"/>
                  </a:lnTo>
                  <a:lnTo>
                    <a:pt x="665" y="963"/>
                  </a:lnTo>
                  <a:lnTo>
                    <a:pt x="665" y="979"/>
                  </a:lnTo>
                  <a:lnTo>
                    <a:pt x="667" y="992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1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6" y="1031"/>
                  </a:lnTo>
                  <a:lnTo>
                    <a:pt x="677" y="1034"/>
                  </a:lnTo>
                  <a:lnTo>
                    <a:pt x="680" y="1037"/>
                  </a:lnTo>
                  <a:lnTo>
                    <a:pt x="682" y="1041"/>
                  </a:lnTo>
                  <a:lnTo>
                    <a:pt x="684" y="1044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3"/>
                  </a:lnTo>
                  <a:lnTo>
                    <a:pt x="698" y="1057"/>
                  </a:lnTo>
                  <a:lnTo>
                    <a:pt x="704" y="1060"/>
                  </a:lnTo>
                  <a:lnTo>
                    <a:pt x="712" y="1063"/>
                  </a:lnTo>
                  <a:lnTo>
                    <a:pt x="720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59" y="1063"/>
                  </a:lnTo>
                  <a:lnTo>
                    <a:pt x="771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2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2" y="1221"/>
                  </a:lnTo>
                  <a:lnTo>
                    <a:pt x="671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7" y="1233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7" y="1228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6" y="1199"/>
                  </a:lnTo>
                  <a:lnTo>
                    <a:pt x="506" y="1186"/>
                  </a:lnTo>
                  <a:lnTo>
                    <a:pt x="497" y="1174"/>
                  </a:lnTo>
                  <a:lnTo>
                    <a:pt x="488" y="1160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5"/>
                  </a:lnTo>
                  <a:lnTo>
                    <a:pt x="461" y="1098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7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1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6" y="202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5" y="131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3" y="119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3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5" y="176"/>
                  </a:lnTo>
                  <a:lnTo>
                    <a:pt x="346" y="190"/>
                  </a:lnTo>
                  <a:lnTo>
                    <a:pt x="338" y="206"/>
                  </a:lnTo>
                  <a:lnTo>
                    <a:pt x="329" y="223"/>
                  </a:lnTo>
                  <a:lnTo>
                    <a:pt x="321" y="242"/>
                  </a:lnTo>
                  <a:lnTo>
                    <a:pt x="313" y="261"/>
                  </a:lnTo>
                  <a:lnTo>
                    <a:pt x="306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4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0"/>
                  </a:lnTo>
                  <a:lnTo>
                    <a:pt x="235" y="876"/>
                  </a:lnTo>
                  <a:lnTo>
                    <a:pt x="238" y="902"/>
                  </a:lnTo>
                  <a:lnTo>
                    <a:pt x="240" y="914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5" y="949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7"/>
                  </a:lnTo>
                  <a:lnTo>
                    <a:pt x="257" y="996"/>
                  </a:lnTo>
                  <a:lnTo>
                    <a:pt x="260" y="1006"/>
                  </a:lnTo>
                  <a:lnTo>
                    <a:pt x="263" y="1013"/>
                  </a:lnTo>
                  <a:lnTo>
                    <a:pt x="268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4"/>
                  </a:lnTo>
                  <a:lnTo>
                    <a:pt x="290" y="1050"/>
                  </a:lnTo>
                  <a:lnTo>
                    <a:pt x="295" y="1053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3"/>
                  </a:lnTo>
                  <a:lnTo>
                    <a:pt x="328" y="1065"/>
                  </a:lnTo>
                  <a:lnTo>
                    <a:pt x="334" y="1065"/>
                  </a:lnTo>
                  <a:lnTo>
                    <a:pt x="342" y="1065"/>
                  </a:lnTo>
                  <a:lnTo>
                    <a:pt x="350" y="1063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2" y="1053"/>
                  </a:lnTo>
                  <a:lnTo>
                    <a:pt x="378" y="1046"/>
                  </a:lnTo>
                  <a:lnTo>
                    <a:pt x="386" y="1041"/>
                  </a:lnTo>
                  <a:lnTo>
                    <a:pt x="393" y="1032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3" y="975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19480" y="3192480"/>
              <a:ext cx="239760" cy="450720"/>
            </a:xfrm>
            <a:custGeom>
              <a:avLst/>
              <a:gdLst/>
              <a:ahLst/>
              <a:rect l="l" t="t" r="r" b="b"/>
              <a:pathLst>
                <a:path w="666" h="1254">
                  <a:moveTo>
                    <a:pt x="665" y="284"/>
                  </a:moveTo>
                  <a:lnTo>
                    <a:pt x="665" y="308"/>
                  </a:lnTo>
                  <a:lnTo>
                    <a:pt x="664" y="333"/>
                  </a:lnTo>
                  <a:lnTo>
                    <a:pt x="662" y="355"/>
                  </a:lnTo>
                  <a:lnTo>
                    <a:pt x="660" y="376"/>
                  </a:lnTo>
                  <a:lnTo>
                    <a:pt x="657" y="397"/>
                  </a:lnTo>
                  <a:lnTo>
                    <a:pt x="653" y="416"/>
                  </a:lnTo>
                  <a:lnTo>
                    <a:pt x="648" y="435"/>
                  </a:lnTo>
                  <a:lnTo>
                    <a:pt x="643" y="452"/>
                  </a:lnTo>
                  <a:lnTo>
                    <a:pt x="637" y="468"/>
                  </a:lnTo>
                  <a:lnTo>
                    <a:pt x="632" y="483"/>
                  </a:lnTo>
                  <a:lnTo>
                    <a:pt x="625" y="497"/>
                  </a:lnTo>
                  <a:lnTo>
                    <a:pt x="618" y="511"/>
                  </a:lnTo>
                  <a:lnTo>
                    <a:pt x="610" y="523"/>
                  </a:lnTo>
                  <a:lnTo>
                    <a:pt x="602" y="535"/>
                  </a:lnTo>
                  <a:lnTo>
                    <a:pt x="593" y="547"/>
                  </a:lnTo>
                  <a:lnTo>
                    <a:pt x="584" y="558"/>
                  </a:lnTo>
                  <a:lnTo>
                    <a:pt x="575" y="567"/>
                  </a:lnTo>
                  <a:lnTo>
                    <a:pt x="566" y="577"/>
                  </a:lnTo>
                  <a:lnTo>
                    <a:pt x="556" y="584"/>
                  </a:lnTo>
                  <a:lnTo>
                    <a:pt x="546" y="593"/>
                  </a:lnTo>
                  <a:lnTo>
                    <a:pt x="526" y="606"/>
                  </a:lnTo>
                  <a:lnTo>
                    <a:pt x="505" y="619"/>
                  </a:lnTo>
                  <a:lnTo>
                    <a:pt x="416" y="660"/>
                  </a:lnTo>
                  <a:lnTo>
                    <a:pt x="383" y="677"/>
                  </a:lnTo>
                  <a:lnTo>
                    <a:pt x="366" y="686"/>
                  </a:lnTo>
                  <a:lnTo>
                    <a:pt x="349" y="696"/>
                  </a:lnTo>
                  <a:lnTo>
                    <a:pt x="333" y="709"/>
                  </a:lnTo>
                  <a:lnTo>
                    <a:pt x="317" y="721"/>
                  </a:lnTo>
                  <a:lnTo>
                    <a:pt x="310" y="726"/>
                  </a:lnTo>
                  <a:lnTo>
                    <a:pt x="303" y="733"/>
                  </a:lnTo>
                  <a:lnTo>
                    <a:pt x="297" y="740"/>
                  </a:lnTo>
                  <a:lnTo>
                    <a:pt x="291" y="747"/>
                  </a:lnTo>
                  <a:lnTo>
                    <a:pt x="285" y="754"/>
                  </a:lnTo>
                  <a:lnTo>
                    <a:pt x="279" y="762"/>
                  </a:lnTo>
                  <a:lnTo>
                    <a:pt x="274" y="771"/>
                  </a:lnTo>
                  <a:lnTo>
                    <a:pt x="269" y="780"/>
                  </a:lnTo>
                  <a:lnTo>
                    <a:pt x="265" y="790"/>
                  </a:lnTo>
                  <a:lnTo>
                    <a:pt x="261" y="800"/>
                  </a:lnTo>
                  <a:lnTo>
                    <a:pt x="257" y="811"/>
                  </a:lnTo>
                  <a:lnTo>
                    <a:pt x="252" y="823"/>
                  </a:lnTo>
                  <a:lnTo>
                    <a:pt x="249" y="835"/>
                  </a:lnTo>
                  <a:lnTo>
                    <a:pt x="246" y="847"/>
                  </a:lnTo>
                  <a:lnTo>
                    <a:pt x="244" y="861"/>
                  </a:lnTo>
                  <a:lnTo>
                    <a:pt x="241" y="875"/>
                  </a:lnTo>
                  <a:lnTo>
                    <a:pt x="240" y="889"/>
                  </a:lnTo>
                  <a:lnTo>
                    <a:pt x="239" y="904"/>
                  </a:lnTo>
                  <a:lnTo>
                    <a:pt x="238" y="920"/>
                  </a:lnTo>
                  <a:lnTo>
                    <a:pt x="238" y="936"/>
                  </a:lnTo>
                  <a:lnTo>
                    <a:pt x="238" y="944"/>
                  </a:lnTo>
                  <a:lnTo>
                    <a:pt x="239" y="953"/>
                  </a:lnTo>
                  <a:lnTo>
                    <a:pt x="239" y="960"/>
                  </a:lnTo>
                  <a:lnTo>
                    <a:pt x="240" y="968"/>
                  </a:lnTo>
                  <a:lnTo>
                    <a:pt x="241" y="975"/>
                  </a:lnTo>
                  <a:lnTo>
                    <a:pt x="242" y="982"/>
                  </a:lnTo>
                  <a:lnTo>
                    <a:pt x="244" y="989"/>
                  </a:lnTo>
                  <a:lnTo>
                    <a:pt x="246" y="996"/>
                  </a:lnTo>
                  <a:lnTo>
                    <a:pt x="248" y="1003"/>
                  </a:lnTo>
                  <a:lnTo>
                    <a:pt x="251" y="1010"/>
                  </a:lnTo>
                  <a:lnTo>
                    <a:pt x="253" y="1017"/>
                  </a:lnTo>
                  <a:lnTo>
                    <a:pt x="257" y="1022"/>
                  </a:lnTo>
                  <a:lnTo>
                    <a:pt x="259" y="1029"/>
                  </a:lnTo>
                  <a:lnTo>
                    <a:pt x="262" y="1034"/>
                  </a:lnTo>
                  <a:lnTo>
                    <a:pt x="270" y="1046"/>
                  </a:lnTo>
                  <a:lnTo>
                    <a:pt x="279" y="1057"/>
                  </a:lnTo>
                  <a:lnTo>
                    <a:pt x="287" y="1065"/>
                  </a:lnTo>
                  <a:lnTo>
                    <a:pt x="296" y="1072"/>
                  </a:lnTo>
                  <a:lnTo>
                    <a:pt x="306" y="1078"/>
                  </a:lnTo>
                  <a:lnTo>
                    <a:pt x="316" y="1083"/>
                  </a:lnTo>
                  <a:lnTo>
                    <a:pt x="327" y="1086"/>
                  </a:lnTo>
                  <a:lnTo>
                    <a:pt x="339" y="1088"/>
                  </a:lnTo>
                  <a:lnTo>
                    <a:pt x="350" y="1088"/>
                  </a:lnTo>
                  <a:lnTo>
                    <a:pt x="368" y="1086"/>
                  </a:lnTo>
                  <a:lnTo>
                    <a:pt x="385" y="1085"/>
                  </a:lnTo>
                  <a:lnTo>
                    <a:pt x="403" y="1079"/>
                  </a:lnTo>
                  <a:lnTo>
                    <a:pt x="420" y="1072"/>
                  </a:lnTo>
                  <a:lnTo>
                    <a:pt x="436" y="1064"/>
                  </a:lnTo>
                  <a:lnTo>
                    <a:pt x="453" y="1053"/>
                  </a:lnTo>
                  <a:lnTo>
                    <a:pt x="469" y="1039"/>
                  </a:lnTo>
                  <a:lnTo>
                    <a:pt x="485" y="1026"/>
                  </a:lnTo>
                  <a:lnTo>
                    <a:pt x="501" y="1010"/>
                  </a:lnTo>
                  <a:lnTo>
                    <a:pt x="516" y="993"/>
                  </a:lnTo>
                  <a:lnTo>
                    <a:pt x="530" y="975"/>
                  </a:lnTo>
                  <a:lnTo>
                    <a:pt x="544" y="956"/>
                  </a:lnTo>
                  <a:lnTo>
                    <a:pt x="556" y="937"/>
                  </a:lnTo>
                  <a:lnTo>
                    <a:pt x="569" y="918"/>
                  </a:lnTo>
                  <a:lnTo>
                    <a:pt x="580" y="897"/>
                  </a:lnTo>
                  <a:lnTo>
                    <a:pt x="591" y="875"/>
                  </a:lnTo>
                  <a:lnTo>
                    <a:pt x="640" y="953"/>
                  </a:lnTo>
                  <a:lnTo>
                    <a:pt x="624" y="988"/>
                  </a:lnTo>
                  <a:lnTo>
                    <a:pt x="608" y="1020"/>
                  </a:lnTo>
                  <a:lnTo>
                    <a:pt x="590" y="1052"/>
                  </a:lnTo>
                  <a:lnTo>
                    <a:pt x="571" y="1081"/>
                  </a:lnTo>
                  <a:lnTo>
                    <a:pt x="552" y="1107"/>
                  </a:lnTo>
                  <a:lnTo>
                    <a:pt x="531" y="1131"/>
                  </a:lnTo>
                  <a:lnTo>
                    <a:pt x="510" y="1154"/>
                  </a:lnTo>
                  <a:lnTo>
                    <a:pt x="487" y="1175"/>
                  </a:lnTo>
                  <a:lnTo>
                    <a:pt x="464" y="1194"/>
                  </a:lnTo>
                  <a:lnTo>
                    <a:pt x="439" y="1209"/>
                  </a:lnTo>
                  <a:lnTo>
                    <a:pt x="415" y="1221"/>
                  </a:lnTo>
                  <a:lnTo>
                    <a:pt x="389" y="1234"/>
                  </a:lnTo>
                  <a:lnTo>
                    <a:pt x="364" y="1242"/>
                  </a:lnTo>
                  <a:lnTo>
                    <a:pt x="337" y="1247"/>
                  </a:lnTo>
                  <a:lnTo>
                    <a:pt x="310" y="1251"/>
                  </a:lnTo>
                  <a:lnTo>
                    <a:pt x="282" y="1253"/>
                  </a:lnTo>
                  <a:lnTo>
                    <a:pt x="248" y="1251"/>
                  </a:lnTo>
                  <a:lnTo>
                    <a:pt x="216" y="1247"/>
                  </a:lnTo>
                  <a:lnTo>
                    <a:pt x="186" y="1242"/>
                  </a:lnTo>
                  <a:lnTo>
                    <a:pt x="158" y="1235"/>
                  </a:lnTo>
                  <a:lnTo>
                    <a:pt x="133" y="1225"/>
                  </a:lnTo>
                  <a:lnTo>
                    <a:pt x="110" y="1213"/>
                  </a:lnTo>
                  <a:lnTo>
                    <a:pt x="89" y="1199"/>
                  </a:lnTo>
                  <a:lnTo>
                    <a:pt x="70" y="1182"/>
                  </a:lnTo>
                  <a:lnTo>
                    <a:pt x="62" y="1173"/>
                  </a:lnTo>
                  <a:lnTo>
                    <a:pt x="54" y="1162"/>
                  </a:lnTo>
                  <a:lnTo>
                    <a:pt x="47" y="1152"/>
                  </a:lnTo>
                  <a:lnTo>
                    <a:pt x="40" y="1140"/>
                  </a:lnTo>
                  <a:lnTo>
                    <a:pt x="33" y="1130"/>
                  </a:lnTo>
                  <a:lnTo>
                    <a:pt x="28" y="1117"/>
                  </a:lnTo>
                  <a:lnTo>
                    <a:pt x="22" y="1104"/>
                  </a:lnTo>
                  <a:lnTo>
                    <a:pt x="18" y="1090"/>
                  </a:lnTo>
                  <a:lnTo>
                    <a:pt x="14" y="1076"/>
                  </a:lnTo>
                  <a:lnTo>
                    <a:pt x="10" y="1062"/>
                  </a:lnTo>
                  <a:lnTo>
                    <a:pt x="7" y="1046"/>
                  </a:lnTo>
                  <a:lnTo>
                    <a:pt x="4" y="1031"/>
                  </a:lnTo>
                  <a:lnTo>
                    <a:pt x="3" y="1014"/>
                  </a:lnTo>
                  <a:lnTo>
                    <a:pt x="1" y="998"/>
                  </a:lnTo>
                  <a:lnTo>
                    <a:pt x="0" y="981"/>
                  </a:lnTo>
                  <a:lnTo>
                    <a:pt x="0" y="962"/>
                  </a:lnTo>
                  <a:lnTo>
                    <a:pt x="0" y="939"/>
                  </a:lnTo>
                  <a:lnTo>
                    <a:pt x="2" y="916"/>
                  </a:lnTo>
                  <a:lnTo>
                    <a:pt x="3" y="896"/>
                  </a:lnTo>
                  <a:lnTo>
                    <a:pt x="6" y="875"/>
                  </a:lnTo>
                  <a:lnTo>
                    <a:pt x="9" y="856"/>
                  </a:lnTo>
                  <a:lnTo>
                    <a:pt x="14" y="837"/>
                  </a:lnTo>
                  <a:lnTo>
                    <a:pt x="19" y="818"/>
                  </a:lnTo>
                  <a:lnTo>
                    <a:pt x="25" y="800"/>
                  </a:lnTo>
                  <a:lnTo>
                    <a:pt x="31" y="783"/>
                  </a:lnTo>
                  <a:lnTo>
                    <a:pt x="38" y="767"/>
                  </a:lnTo>
                  <a:lnTo>
                    <a:pt x="47" y="752"/>
                  </a:lnTo>
                  <a:lnTo>
                    <a:pt x="55" y="738"/>
                  </a:lnTo>
                  <a:lnTo>
                    <a:pt x="64" y="724"/>
                  </a:lnTo>
                  <a:lnTo>
                    <a:pt x="74" y="712"/>
                  </a:lnTo>
                  <a:lnTo>
                    <a:pt x="84" y="700"/>
                  </a:lnTo>
                  <a:lnTo>
                    <a:pt x="95" y="688"/>
                  </a:lnTo>
                  <a:lnTo>
                    <a:pt x="115" y="669"/>
                  </a:lnTo>
                  <a:lnTo>
                    <a:pt x="135" y="653"/>
                  </a:lnTo>
                  <a:lnTo>
                    <a:pt x="146" y="646"/>
                  </a:lnTo>
                  <a:lnTo>
                    <a:pt x="157" y="639"/>
                  </a:lnTo>
                  <a:lnTo>
                    <a:pt x="167" y="634"/>
                  </a:lnTo>
                  <a:lnTo>
                    <a:pt x="178" y="629"/>
                  </a:lnTo>
                  <a:lnTo>
                    <a:pt x="259" y="591"/>
                  </a:lnTo>
                  <a:lnTo>
                    <a:pt x="279" y="580"/>
                  </a:lnTo>
                  <a:lnTo>
                    <a:pt x="299" y="570"/>
                  </a:lnTo>
                  <a:lnTo>
                    <a:pt x="317" y="558"/>
                  </a:lnTo>
                  <a:lnTo>
                    <a:pt x="334" y="544"/>
                  </a:lnTo>
                  <a:lnTo>
                    <a:pt x="349" y="530"/>
                  </a:lnTo>
                  <a:lnTo>
                    <a:pt x="362" y="515"/>
                  </a:lnTo>
                  <a:lnTo>
                    <a:pt x="375" y="499"/>
                  </a:lnTo>
                  <a:lnTo>
                    <a:pt x="386" y="482"/>
                  </a:lnTo>
                  <a:lnTo>
                    <a:pt x="391" y="473"/>
                  </a:lnTo>
                  <a:lnTo>
                    <a:pt x="396" y="464"/>
                  </a:lnTo>
                  <a:lnTo>
                    <a:pt x="400" y="456"/>
                  </a:lnTo>
                  <a:lnTo>
                    <a:pt x="405" y="445"/>
                  </a:lnTo>
                  <a:lnTo>
                    <a:pt x="408" y="435"/>
                  </a:lnTo>
                  <a:lnTo>
                    <a:pt x="411" y="424"/>
                  </a:lnTo>
                  <a:lnTo>
                    <a:pt x="415" y="414"/>
                  </a:lnTo>
                  <a:lnTo>
                    <a:pt x="417" y="404"/>
                  </a:lnTo>
                  <a:lnTo>
                    <a:pt x="420" y="392"/>
                  </a:lnTo>
                  <a:lnTo>
                    <a:pt x="422" y="381"/>
                  </a:lnTo>
                  <a:lnTo>
                    <a:pt x="423" y="369"/>
                  </a:lnTo>
                  <a:lnTo>
                    <a:pt x="425" y="357"/>
                  </a:lnTo>
                  <a:lnTo>
                    <a:pt x="426" y="343"/>
                  </a:lnTo>
                  <a:lnTo>
                    <a:pt x="427" y="331"/>
                  </a:lnTo>
                  <a:lnTo>
                    <a:pt x="428" y="303"/>
                  </a:lnTo>
                  <a:lnTo>
                    <a:pt x="428" y="295"/>
                  </a:lnTo>
                  <a:lnTo>
                    <a:pt x="428" y="288"/>
                  </a:lnTo>
                  <a:lnTo>
                    <a:pt x="427" y="281"/>
                  </a:lnTo>
                  <a:lnTo>
                    <a:pt x="426" y="272"/>
                  </a:lnTo>
                  <a:lnTo>
                    <a:pt x="425" y="265"/>
                  </a:lnTo>
                  <a:lnTo>
                    <a:pt x="424" y="258"/>
                  </a:lnTo>
                  <a:lnTo>
                    <a:pt x="422" y="251"/>
                  </a:lnTo>
                  <a:lnTo>
                    <a:pt x="422" y="246"/>
                  </a:lnTo>
                  <a:lnTo>
                    <a:pt x="420" y="239"/>
                  </a:lnTo>
                  <a:lnTo>
                    <a:pt x="418" y="234"/>
                  </a:lnTo>
                  <a:lnTo>
                    <a:pt x="416" y="227"/>
                  </a:lnTo>
                  <a:lnTo>
                    <a:pt x="414" y="222"/>
                  </a:lnTo>
                  <a:lnTo>
                    <a:pt x="411" y="217"/>
                  </a:lnTo>
                  <a:lnTo>
                    <a:pt x="409" y="211"/>
                  </a:lnTo>
                  <a:lnTo>
                    <a:pt x="403" y="201"/>
                  </a:lnTo>
                  <a:lnTo>
                    <a:pt x="400" y="196"/>
                  </a:lnTo>
                  <a:lnTo>
                    <a:pt x="397" y="192"/>
                  </a:lnTo>
                  <a:lnTo>
                    <a:pt x="389" y="185"/>
                  </a:lnTo>
                  <a:lnTo>
                    <a:pt x="382" y="178"/>
                  </a:lnTo>
                  <a:lnTo>
                    <a:pt x="374" y="173"/>
                  </a:lnTo>
                  <a:lnTo>
                    <a:pt x="365" y="170"/>
                  </a:lnTo>
                  <a:lnTo>
                    <a:pt x="356" y="166"/>
                  </a:lnTo>
                  <a:lnTo>
                    <a:pt x="345" y="165"/>
                  </a:lnTo>
                  <a:lnTo>
                    <a:pt x="335" y="165"/>
                  </a:lnTo>
                  <a:lnTo>
                    <a:pt x="319" y="166"/>
                  </a:lnTo>
                  <a:lnTo>
                    <a:pt x="303" y="168"/>
                  </a:lnTo>
                  <a:lnTo>
                    <a:pt x="287" y="173"/>
                  </a:lnTo>
                  <a:lnTo>
                    <a:pt x="272" y="180"/>
                  </a:lnTo>
                  <a:lnTo>
                    <a:pt x="257" y="189"/>
                  </a:lnTo>
                  <a:lnTo>
                    <a:pt x="241" y="199"/>
                  </a:lnTo>
                  <a:lnTo>
                    <a:pt x="226" y="213"/>
                  </a:lnTo>
                  <a:lnTo>
                    <a:pt x="211" y="227"/>
                  </a:lnTo>
                  <a:lnTo>
                    <a:pt x="196" y="244"/>
                  </a:lnTo>
                  <a:lnTo>
                    <a:pt x="182" y="262"/>
                  </a:lnTo>
                  <a:lnTo>
                    <a:pt x="169" y="279"/>
                  </a:lnTo>
                  <a:lnTo>
                    <a:pt x="157" y="298"/>
                  </a:lnTo>
                  <a:lnTo>
                    <a:pt x="144" y="317"/>
                  </a:lnTo>
                  <a:lnTo>
                    <a:pt x="133" y="336"/>
                  </a:lnTo>
                  <a:lnTo>
                    <a:pt x="122" y="357"/>
                  </a:lnTo>
                  <a:lnTo>
                    <a:pt x="112" y="378"/>
                  </a:lnTo>
                  <a:lnTo>
                    <a:pt x="63" y="300"/>
                  </a:lnTo>
                  <a:lnTo>
                    <a:pt x="77" y="267"/>
                  </a:lnTo>
                  <a:lnTo>
                    <a:pt x="92" y="234"/>
                  </a:lnTo>
                  <a:lnTo>
                    <a:pt x="109" y="204"/>
                  </a:lnTo>
                  <a:lnTo>
                    <a:pt x="127" y="177"/>
                  </a:lnTo>
                  <a:lnTo>
                    <a:pt x="146" y="151"/>
                  </a:lnTo>
                  <a:lnTo>
                    <a:pt x="165" y="126"/>
                  </a:lnTo>
                  <a:lnTo>
                    <a:pt x="186" y="102"/>
                  </a:lnTo>
                  <a:lnTo>
                    <a:pt x="208" y="81"/>
                  </a:lnTo>
                  <a:lnTo>
                    <a:pt x="231" y="62"/>
                  </a:lnTo>
                  <a:lnTo>
                    <a:pt x="254" y="47"/>
                  </a:lnTo>
                  <a:lnTo>
                    <a:pt x="278" y="33"/>
                  </a:lnTo>
                  <a:lnTo>
                    <a:pt x="301" y="21"/>
                  </a:lnTo>
                  <a:lnTo>
                    <a:pt x="325" y="12"/>
                  </a:lnTo>
                  <a:lnTo>
                    <a:pt x="350" y="5"/>
                  </a:lnTo>
                  <a:lnTo>
                    <a:pt x="374" y="2"/>
                  </a:lnTo>
                  <a:lnTo>
                    <a:pt x="400" y="0"/>
                  </a:lnTo>
                  <a:lnTo>
                    <a:pt x="431" y="2"/>
                  </a:lnTo>
                  <a:lnTo>
                    <a:pt x="461" y="5"/>
                  </a:lnTo>
                  <a:lnTo>
                    <a:pt x="488" y="10"/>
                  </a:lnTo>
                  <a:lnTo>
                    <a:pt x="515" y="19"/>
                  </a:lnTo>
                  <a:lnTo>
                    <a:pt x="538" y="28"/>
                  </a:lnTo>
                  <a:lnTo>
                    <a:pt x="560" y="42"/>
                  </a:lnTo>
                  <a:lnTo>
                    <a:pt x="580" y="55"/>
                  </a:lnTo>
                  <a:lnTo>
                    <a:pt x="598" y="73"/>
                  </a:lnTo>
                  <a:lnTo>
                    <a:pt x="606" y="81"/>
                  </a:lnTo>
                  <a:lnTo>
                    <a:pt x="614" y="92"/>
                  </a:lnTo>
                  <a:lnTo>
                    <a:pt x="621" y="102"/>
                  </a:lnTo>
                  <a:lnTo>
                    <a:pt x="627" y="113"/>
                  </a:lnTo>
                  <a:lnTo>
                    <a:pt x="633" y="123"/>
                  </a:lnTo>
                  <a:lnTo>
                    <a:pt x="639" y="135"/>
                  </a:lnTo>
                  <a:lnTo>
                    <a:pt x="644" y="147"/>
                  </a:lnTo>
                  <a:lnTo>
                    <a:pt x="648" y="161"/>
                  </a:lnTo>
                  <a:lnTo>
                    <a:pt x="653" y="175"/>
                  </a:lnTo>
                  <a:lnTo>
                    <a:pt x="656" y="189"/>
                  </a:lnTo>
                  <a:lnTo>
                    <a:pt x="659" y="203"/>
                  </a:lnTo>
                  <a:lnTo>
                    <a:pt x="661" y="218"/>
                  </a:lnTo>
                  <a:lnTo>
                    <a:pt x="663" y="234"/>
                  </a:lnTo>
                  <a:lnTo>
                    <a:pt x="665" y="249"/>
                  </a:lnTo>
                  <a:lnTo>
                    <a:pt x="665" y="26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54560" y="319248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8">
                  <a:moveTo>
                    <a:pt x="452" y="1062"/>
                  </a:moveTo>
                  <a:lnTo>
                    <a:pt x="446" y="1062"/>
                  </a:lnTo>
                  <a:lnTo>
                    <a:pt x="435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80" y="1157"/>
                  </a:lnTo>
                  <a:lnTo>
                    <a:pt x="366" y="1173"/>
                  </a:lnTo>
                  <a:lnTo>
                    <a:pt x="352" y="1186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6" y="1233"/>
                  </a:lnTo>
                  <a:lnTo>
                    <a:pt x="279" y="1238"/>
                  </a:lnTo>
                  <a:lnTo>
                    <a:pt x="270" y="1240"/>
                  </a:lnTo>
                  <a:lnTo>
                    <a:pt x="262" y="1244"/>
                  </a:lnTo>
                  <a:lnTo>
                    <a:pt x="253" y="1245"/>
                  </a:lnTo>
                  <a:lnTo>
                    <a:pt x="245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4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8" y="1199"/>
                  </a:lnTo>
                  <a:lnTo>
                    <a:pt x="98" y="1188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5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8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5" y="980"/>
                  </a:lnTo>
                  <a:lnTo>
                    <a:pt x="8" y="937"/>
                  </a:lnTo>
                  <a:lnTo>
                    <a:pt x="4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5" y="670"/>
                  </a:lnTo>
                  <a:lnTo>
                    <a:pt x="9" y="632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19"/>
                  </a:lnTo>
                  <a:lnTo>
                    <a:pt x="32" y="483"/>
                  </a:lnTo>
                  <a:lnTo>
                    <a:pt x="41" y="448"/>
                  </a:lnTo>
                  <a:lnTo>
                    <a:pt x="49" y="414"/>
                  </a:lnTo>
                  <a:lnTo>
                    <a:pt x="60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89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6" y="137"/>
                  </a:lnTo>
                  <a:lnTo>
                    <a:pt x="192" y="116"/>
                  </a:lnTo>
                  <a:lnTo>
                    <a:pt x="208" y="97"/>
                  </a:lnTo>
                  <a:lnTo>
                    <a:pt x="225" y="78"/>
                  </a:lnTo>
                  <a:lnTo>
                    <a:pt x="242" y="62"/>
                  </a:lnTo>
                  <a:lnTo>
                    <a:pt x="261" y="48"/>
                  </a:lnTo>
                  <a:lnTo>
                    <a:pt x="279" y="34"/>
                  </a:lnTo>
                  <a:lnTo>
                    <a:pt x="297" y="24"/>
                  </a:lnTo>
                  <a:lnTo>
                    <a:pt x="317" y="15"/>
                  </a:lnTo>
                  <a:lnTo>
                    <a:pt x="336" y="8"/>
                  </a:lnTo>
                  <a:lnTo>
                    <a:pt x="355" y="3"/>
                  </a:lnTo>
                  <a:lnTo>
                    <a:pt x="375" y="1"/>
                  </a:lnTo>
                  <a:lnTo>
                    <a:pt x="395" y="0"/>
                  </a:lnTo>
                  <a:lnTo>
                    <a:pt x="423" y="1"/>
                  </a:lnTo>
                  <a:lnTo>
                    <a:pt x="450" y="7"/>
                  </a:lnTo>
                  <a:lnTo>
                    <a:pt x="462" y="10"/>
                  </a:lnTo>
                  <a:lnTo>
                    <a:pt x="474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8" y="38"/>
                  </a:lnTo>
                  <a:lnTo>
                    <a:pt x="527" y="47"/>
                  </a:lnTo>
                  <a:lnTo>
                    <a:pt x="536" y="53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8" y="93"/>
                  </a:lnTo>
                  <a:lnTo>
                    <a:pt x="768" y="17"/>
                  </a:lnTo>
                  <a:lnTo>
                    <a:pt x="777" y="36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2"/>
                  </a:lnTo>
                  <a:lnTo>
                    <a:pt x="671" y="863"/>
                  </a:lnTo>
                  <a:lnTo>
                    <a:pt x="668" y="888"/>
                  </a:lnTo>
                  <a:lnTo>
                    <a:pt x="667" y="913"/>
                  </a:lnTo>
                  <a:lnTo>
                    <a:pt x="665" y="932"/>
                  </a:lnTo>
                  <a:lnTo>
                    <a:pt x="665" y="940"/>
                  </a:lnTo>
                  <a:lnTo>
                    <a:pt x="665" y="947"/>
                  </a:lnTo>
                  <a:lnTo>
                    <a:pt x="665" y="963"/>
                  </a:lnTo>
                  <a:lnTo>
                    <a:pt x="666" y="979"/>
                  </a:lnTo>
                  <a:lnTo>
                    <a:pt x="667" y="992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2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6" y="1031"/>
                  </a:lnTo>
                  <a:lnTo>
                    <a:pt x="678" y="1034"/>
                  </a:lnTo>
                  <a:lnTo>
                    <a:pt x="680" y="1037"/>
                  </a:lnTo>
                  <a:lnTo>
                    <a:pt x="682" y="1041"/>
                  </a:lnTo>
                  <a:lnTo>
                    <a:pt x="684" y="1044"/>
                  </a:lnTo>
                  <a:lnTo>
                    <a:pt x="686" y="1048"/>
                  </a:lnTo>
                  <a:lnTo>
                    <a:pt x="689" y="1050"/>
                  </a:lnTo>
                  <a:lnTo>
                    <a:pt x="692" y="1053"/>
                  </a:lnTo>
                  <a:lnTo>
                    <a:pt x="698" y="1057"/>
                  </a:lnTo>
                  <a:lnTo>
                    <a:pt x="705" y="1060"/>
                  </a:lnTo>
                  <a:lnTo>
                    <a:pt x="712" y="1063"/>
                  </a:lnTo>
                  <a:lnTo>
                    <a:pt x="721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50" y="1065"/>
                  </a:lnTo>
                  <a:lnTo>
                    <a:pt x="755" y="1065"/>
                  </a:lnTo>
                  <a:lnTo>
                    <a:pt x="760" y="1063"/>
                  </a:lnTo>
                  <a:lnTo>
                    <a:pt x="772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2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3" y="1221"/>
                  </a:lnTo>
                  <a:lnTo>
                    <a:pt x="672" y="1225"/>
                  </a:lnTo>
                  <a:lnTo>
                    <a:pt x="661" y="1228"/>
                  </a:lnTo>
                  <a:lnTo>
                    <a:pt x="650" y="1232"/>
                  </a:lnTo>
                  <a:lnTo>
                    <a:pt x="638" y="1233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7" y="1228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9" y="1207"/>
                  </a:lnTo>
                  <a:lnTo>
                    <a:pt x="517" y="1199"/>
                  </a:lnTo>
                  <a:lnTo>
                    <a:pt x="507" y="1186"/>
                  </a:lnTo>
                  <a:lnTo>
                    <a:pt x="497" y="1174"/>
                  </a:lnTo>
                  <a:lnTo>
                    <a:pt x="488" y="1160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5"/>
                  </a:lnTo>
                  <a:lnTo>
                    <a:pt x="461" y="1098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2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7" y="202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90" y="144"/>
                  </a:lnTo>
                  <a:lnTo>
                    <a:pt x="485" y="138"/>
                  </a:lnTo>
                  <a:lnTo>
                    <a:pt x="480" y="135"/>
                  </a:lnTo>
                  <a:lnTo>
                    <a:pt x="475" y="131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1" y="119"/>
                  </a:lnTo>
                  <a:lnTo>
                    <a:pt x="434" y="119"/>
                  </a:lnTo>
                  <a:lnTo>
                    <a:pt x="423" y="121"/>
                  </a:lnTo>
                  <a:lnTo>
                    <a:pt x="413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3" y="142"/>
                  </a:lnTo>
                  <a:lnTo>
                    <a:pt x="374" y="152"/>
                  </a:lnTo>
                  <a:lnTo>
                    <a:pt x="364" y="163"/>
                  </a:lnTo>
                  <a:lnTo>
                    <a:pt x="355" y="176"/>
                  </a:lnTo>
                  <a:lnTo>
                    <a:pt x="347" y="190"/>
                  </a:lnTo>
                  <a:lnTo>
                    <a:pt x="338" y="206"/>
                  </a:lnTo>
                  <a:lnTo>
                    <a:pt x="330" y="223"/>
                  </a:lnTo>
                  <a:lnTo>
                    <a:pt x="321" y="242"/>
                  </a:lnTo>
                  <a:lnTo>
                    <a:pt x="314" y="261"/>
                  </a:lnTo>
                  <a:lnTo>
                    <a:pt x="306" y="282"/>
                  </a:lnTo>
                  <a:lnTo>
                    <a:pt x="298" y="305"/>
                  </a:lnTo>
                  <a:lnTo>
                    <a:pt x="292" y="327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3"/>
                  </a:lnTo>
                  <a:lnTo>
                    <a:pt x="248" y="542"/>
                  </a:lnTo>
                  <a:lnTo>
                    <a:pt x="242" y="604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0"/>
                  </a:lnTo>
                  <a:lnTo>
                    <a:pt x="236" y="876"/>
                  </a:lnTo>
                  <a:lnTo>
                    <a:pt x="238" y="902"/>
                  </a:lnTo>
                  <a:lnTo>
                    <a:pt x="240" y="914"/>
                  </a:lnTo>
                  <a:lnTo>
                    <a:pt x="241" y="927"/>
                  </a:lnTo>
                  <a:lnTo>
                    <a:pt x="242" y="939"/>
                  </a:lnTo>
                  <a:lnTo>
                    <a:pt x="245" y="949"/>
                  </a:lnTo>
                  <a:lnTo>
                    <a:pt x="247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7"/>
                  </a:lnTo>
                  <a:lnTo>
                    <a:pt x="257" y="996"/>
                  </a:lnTo>
                  <a:lnTo>
                    <a:pt x="260" y="1006"/>
                  </a:lnTo>
                  <a:lnTo>
                    <a:pt x="264" y="1013"/>
                  </a:lnTo>
                  <a:lnTo>
                    <a:pt x="268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6" y="1044"/>
                  </a:lnTo>
                  <a:lnTo>
                    <a:pt x="291" y="1050"/>
                  </a:lnTo>
                  <a:lnTo>
                    <a:pt x="296" y="1053"/>
                  </a:lnTo>
                  <a:lnTo>
                    <a:pt x="302" y="1057"/>
                  </a:lnTo>
                  <a:lnTo>
                    <a:pt x="308" y="1060"/>
                  </a:lnTo>
                  <a:lnTo>
                    <a:pt x="314" y="1062"/>
                  </a:lnTo>
                  <a:lnTo>
                    <a:pt x="320" y="1063"/>
                  </a:lnTo>
                  <a:lnTo>
                    <a:pt x="328" y="1065"/>
                  </a:lnTo>
                  <a:lnTo>
                    <a:pt x="335" y="1065"/>
                  </a:lnTo>
                  <a:lnTo>
                    <a:pt x="342" y="1065"/>
                  </a:lnTo>
                  <a:lnTo>
                    <a:pt x="350" y="1063"/>
                  </a:lnTo>
                  <a:lnTo>
                    <a:pt x="358" y="1060"/>
                  </a:lnTo>
                  <a:lnTo>
                    <a:pt x="364" y="1057"/>
                  </a:lnTo>
                  <a:lnTo>
                    <a:pt x="372" y="1053"/>
                  </a:lnTo>
                  <a:lnTo>
                    <a:pt x="379" y="1046"/>
                  </a:lnTo>
                  <a:lnTo>
                    <a:pt x="386" y="1041"/>
                  </a:lnTo>
                  <a:lnTo>
                    <a:pt x="393" y="1032"/>
                  </a:lnTo>
                  <a:lnTo>
                    <a:pt x="407" y="1015"/>
                  </a:lnTo>
                  <a:lnTo>
                    <a:pt x="420" y="996"/>
                  </a:lnTo>
                  <a:lnTo>
                    <a:pt x="433" y="975"/>
                  </a:lnTo>
                  <a:lnTo>
                    <a:pt x="440" y="965"/>
                  </a:lnTo>
                  <a:lnTo>
                    <a:pt x="446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36800" y="2962440"/>
              <a:ext cx="273240" cy="679320"/>
            </a:xfrm>
            <a:custGeom>
              <a:avLst/>
              <a:gdLst/>
              <a:ahLst/>
              <a:rect l="l" t="t" r="r" b="b"/>
              <a:pathLst>
                <a:path w="757" h="1886">
                  <a:moveTo>
                    <a:pt x="480" y="1485"/>
                  </a:moveTo>
                  <a:lnTo>
                    <a:pt x="492" y="1416"/>
                  </a:lnTo>
                  <a:lnTo>
                    <a:pt x="503" y="1343"/>
                  </a:lnTo>
                  <a:lnTo>
                    <a:pt x="512" y="1268"/>
                  </a:lnTo>
                  <a:lnTo>
                    <a:pt x="520" y="1190"/>
                  </a:lnTo>
                  <a:lnTo>
                    <a:pt x="526" y="1111"/>
                  </a:lnTo>
                  <a:lnTo>
                    <a:pt x="530" y="1033"/>
                  </a:lnTo>
                  <a:lnTo>
                    <a:pt x="533" y="958"/>
                  </a:lnTo>
                  <a:lnTo>
                    <a:pt x="534" y="884"/>
                  </a:lnTo>
                  <a:lnTo>
                    <a:pt x="530" y="865"/>
                  </a:lnTo>
                  <a:lnTo>
                    <a:pt x="525" y="849"/>
                  </a:lnTo>
                  <a:lnTo>
                    <a:pt x="520" y="834"/>
                  </a:lnTo>
                  <a:lnTo>
                    <a:pt x="515" y="818"/>
                  </a:lnTo>
                  <a:lnTo>
                    <a:pt x="509" y="806"/>
                  </a:lnTo>
                  <a:lnTo>
                    <a:pt x="503" y="794"/>
                  </a:lnTo>
                  <a:lnTo>
                    <a:pt x="497" y="783"/>
                  </a:lnTo>
                  <a:lnTo>
                    <a:pt x="491" y="773"/>
                  </a:lnTo>
                  <a:lnTo>
                    <a:pt x="484" y="764"/>
                  </a:lnTo>
                  <a:lnTo>
                    <a:pt x="478" y="757"/>
                  </a:lnTo>
                  <a:lnTo>
                    <a:pt x="470" y="750"/>
                  </a:lnTo>
                  <a:lnTo>
                    <a:pt x="462" y="745"/>
                  </a:lnTo>
                  <a:lnTo>
                    <a:pt x="454" y="742"/>
                  </a:lnTo>
                  <a:lnTo>
                    <a:pt x="445" y="738"/>
                  </a:lnTo>
                  <a:lnTo>
                    <a:pt x="436" y="737"/>
                  </a:lnTo>
                  <a:lnTo>
                    <a:pt x="427" y="737"/>
                  </a:lnTo>
                  <a:lnTo>
                    <a:pt x="417" y="737"/>
                  </a:lnTo>
                  <a:lnTo>
                    <a:pt x="407" y="740"/>
                  </a:lnTo>
                  <a:lnTo>
                    <a:pt x="397" y="743"/>
                  </a:lnTo>
                  <a:lnTo>
                    <a:pt x="388" y="750"/>
                  </a:lnTo>
                  <a:lnTo>
                    <a:pt x="379" y="757"/>
                  </a:lnTo>
                  <a:lnTo>
                    <a:pt x="370" y="766"/>
                  </a:lnTo>
                  <a:lnTo>
                    <a:pt x="361" y="776"/>
                  </a:lnTo>
                  <a:lnTo>
                    <a:pt x="352" y="788"/>
                  </a:lnTo>
                  <a:lnTo>
                    <a:pt x="344" y="802"/>
                  </a:lnTo>
                  <a:lnTo>
                    <a:pt x="335" y="818"/>
                  </a:lnTo>
                  <a:lnTo>
                    <a:pt x="327" y="835"/>
                  </a:lnTo>
                  <a:lnTo>
                    <a:pt x="319" y="854"/>
                  </a:lnTo>
                  <a:lnTo>
                    <a:pt x="303" y="896"/>
                  </a:lnTo>
                  <a:lnTo>
                    <a:pt x="288" y="944"/>
                  </a:lnTo>
                  <a:lnTo>
                    <a:pt x="274" y="996"/>
                  </a:lnTo>
                  <a:lnTo>
                    <a:pt x="262" y="1052"/>
                  </a:lnTo>
                  <a:lnTo>
                    <a:pt x="252" y="1109"/>
                  </a:lnTo>
                  <a:lnTo>
                    <a:pt x="243" y="1170"/>
                  </a:lnTo>
                  <a:lnTo>
                    <a:pt x="237" y="1230"/>
                  </a:lnTo>
                  <a:lnTo>
                    <a:pt x="232" y="1296"/>
                  </a:lnTo>
                  <a:lnTo>
                    <a:pt x="229" y="1362"/>
                  </a:lnTo>
                  <a:lnTo>
                    <a:pt x="229" y="1431"/>
                  </a:lnTo>
                  <a:lnTo>
                    <a:pt x="229" y="1475"/>
                  </a:lnTo>
                  <a:lnTo>
                    <a:pt x="230" y="1516"/>
                  </a:lnTo>
                  <a:lnTo>
                    <a:pt x="232" y="1554"/>
                  </a:lnTo>
                  <a:lnTo>
                    <a:pt x="235" y="1591"/>
                  </a:lnTo>
                  <a:lnTo>
                    <a:pt x="237" y="1622"/>
                  </a:lnTo>
                  <a:lnTo>
                    <a:pt x="241" y="1651"/>
                  </a:lnTo>
                  <a:lnTo>
                    <a:pt x="246" y="1677"/>
                  </a:lnTo>
                  <a:lnTo>
                    <a:pt x="251" y="1701"/>
                  </a:lnTo>
                  <a:lnTo>
                    <a:pt x="253" y="1712"/>
                  </a:lnTo>
                  <a:lnTo>
                    <a:pt x="257" y="1722"/>
                  </a:lnTo>
                  <a:lnTo>
                    <a:pt x="260" y="1733"/>
                  </a:lnTo>
                  <a:lnTo>
                    <a:pt x="263" y="1741"/>
                  </a:lnTo>
                  <a:lnTo>
                    <a:pt x="268" y="1750"/>
                  </a:lnTo>
                  <a:lnTo>
                    <a:pt x="272" y="1757"/>
                  </a:lnTo>
                  <a:lnTo>
                    <a:pt x="276" y="1764"/>
                  </a:lnTo>
                  <a:lnTo>
                    <a:pt x="281" y="1769"/>
                  </a:lnTo>
                  <a:lnTo>
                    <a:pt x="286" y="1774"/>
                  </a:lnTo>
                  <a:lnTo>
                    <a:pt x="291" y="1779"/>
                  </a:lnTo>
                  <a:lnTo>
                    <a:pt x="296" y="1783"/>
                  </a:lnTo>
                  <a:lnTo>
                    <a:pt x="302" y="1786"/>
                  </a:lnTo>
                  <a:lnTo>
                    <a:pt x="308" y="1788"/>
                  </a:lnTo>
                  <a:lnTo>
                    <a:pt x="314" y="1790"/>
                  </a:lnTo>
                  <a:lnTo>
                    <a:pt x="321" y="1792"/>
                  </a:lnTo>
                  <a:lnTo>
                    <a:pt x="328" y="1792"/>
                  </a:lnTo>
                  <a:lnTo>
                    <a:pt x="334" y="1792"/>
                  </a:lnTo>
                  <a:lnTo>
                    <a:pt x="340" y="1790"/>
                  </a:lnTo>
                  <a:lnTo>
                    <a:pt x="345" y="1788"/>
                  </a:lnTo>
                  <a:lnTo>
                    <a:pt x="351" y="1786"/>
                  </a:lnTo>
                  <a:lnTo>
                    <a:pt x="356" y="1783"/>
                  </a:lnTo>
                  <a:lnTo>
                    <a:pt x="362" y="1779"/>
                  </a:lnTo>
                  <a:lnTo>
                    <a:pt x="368" y="1776"/>
                  </a:lnTo>
                  <a:lnTo>
                    <a:pt x="373" y="1771"/>
                  </a:lnTo>
                  <a:lnTo>
                    <a:pt x="378" y="1766"/>
                  </a:lnTo>
                  <a:lnTo>
                    <a:pt x="384" y="1759"/>
                  </a:lnTo>
                  <a:lnTo>
                    <a:pt x="390" y="1752"/>
                  </a:lnTo>
                  <a:lnTo>
                    <a:pt x="395" y="1745"/>
                  </a:lnTo>
                  <a:lnTo>
                    <a:pt x="405" y="1727"/>
                  </a:lnTo>
                  <a:lnTo>
                    <a:pt x="414" y="1707"/>
                  </a:lnTo>
                  <a:lnTo>
                    <a:pt x="423" y="1684"/>
                  </a:lnTo>
                  <a:lnTo>
                    <a:pt x="433" y="1662"/>
                  </a:lnTo>
                  <a:lnTo>
                    <a:pt x="441" y="1636"/>
                  </a:lnTo>
                  <a:lnTo>
                    <a:pt x="450" y="1610"/>
                  </a:lnTo>
                  <a:lnTo>
                    <a:pt x="458" y="1580"/>
                  </a:lnTo>
                  <a:lnTo>
                    <a:pt x="466" y="1551"/>
                  </a:lnTo>
                  <a:lnTo>
                    <a:pt x="473" y="1518"/>
                  </a:lnTo>
                  <a:close/>
                  <a:moveTo>
                    <a:pt x="756" y="821"/>
                  </a:moveTo>
                  <a:lnTo>
                    <a:pt x="756" y="873"/>
                  </a:lnTo>
                  <a:lnTo>
                    <a:pt x="754" y="925"/>
                  </a:lnTo>
                  <a:lnTo>
                    <a:pt x="753" y="976"/>
                  </a:lnTo>
                  <a:lnTo>
                    <a:pt x="749" y="1026"/>
                  </a:lnTo>
                  <a:lnTo>
                    <a:pt x="746" y="1076"/>
                  </a:lnTo>
                  <a:lnTo>
                    <a:pt x="742" y="1126"/>
                  </a:lnTo>
                  <a:lnTo>
                    <a:pt x="736" y="1177"/>
                  </a:lnTo>
                  <a:lnTo>
                    <a:pt x="730" y="1225"/>
                  </a:lnTo>
                  <a:lnTo>
                    <a:pt x="723" y="1272"/>
                  </a:lnTo>
                  <a:lnTo>
                    <a:pt x="715" y="1319"/>
                  </a:lnTo>
                  <a:lnTo>
                    <a:pt x="706" y="1362"/>
                  </a:lnTo>
                  <a:lnTo>
                    <a:pt x="697" y="1405"/>
                  </a:lnTo>
                  <a:lnTo>
                    <a:pt x="686" y="1447"/>
                  </a:lnTo>
                  <a:lnTo>
                    <a:pt x="675" y="1487"/>
                  </a:lnTo>
                  <a:lnTo>
                    <a:pt x="663" y="1525"/>
                  </a:lnTo>
                  <a:lnTo>
                    <a:pt x="649" y="1561"/>
                  </a:lnTo>
                  <a:lnTo>
                    <a:pt x="634" y="1599"/>
                  </a:lnTo>
                  <a:lnTo>
                    <a:pt x="619" y="1634"/>
                  </a:lnTo>
                  <a:lnTo>
                    <a:pt x="602" y="1669"/>
                  </a:lnTo>
                  <a:lnTo>
                    <a:pt x="585" y="1700"/>
                  </a:lnTo>
                  <a:lnTo>
                    <a:pt x="566" y="1727"/>
                  </a:lnTo>
                  <a:lnTo>
                    <a:pt x="548" y="1753"/>
                  </a:lnTo>
                  <a:lnTo>
                    <a:pt x="527" y="1778"/>
                  </a:lnTo>
                  <a:lnTo>
                    <a:pt x="507" y="1800"/>
                  </a:lnTo>
                  <a:lnTo>
                    <a:pt x="486" y="1821"/>
                  </a:lnTo>
                  <a:lnTo>
                    <a:pt x="463" y="1838"/>
                  </a:lnTo>
                  <a:lnTo>
                    <a:pt x="439" y="1852"/>
                  </a:lnTo>
                  <a:lnTo>
                    <a:pt x="415" y="1864"/>
                  </a:lnTo>
                  <a:lnTo>
                    <a:pt x="390" y="1873"/>
                  </a:lnTo>
                  <a:lnTo>
                    <a:pt x="363" y="1880"/>
                  </a:lnTo>
                  <a:lnTo>
                    <a:pt x="335" y="1883"/>
                  </a:lnTo>
                  <a:lnTo>
                    <a:pt x="307" y="1885"/>
                  </a:lnTo>
                  <a:lnTo>
                    <a:pt x="272" y="1883"/>
                  </a:lnTo>
                  <a:lnTo>
                    <a:pt x="240" y="1876"/>
                  </a:lnTo>
                  <a:lnTo>
                    <a:pt x="209" y="1866"/>
                  </a:lnTo>
                  <a:lnTo>
                    <a:pt x="180" y="1850"/>
                  </a:lnTo>
                  <a:lnTo>
                    <a:pt x="153" y="1831"/>
                  </a:lnTo>
                  <a:lnTo>
                    <a:pt x="128" y="1809"/>
                  </a:lnTo>
                  <a:lnTo>
                    <a:pt x="116" y="1795"/>
                  </a:lnTo>
                  <a:lnTo>
                    <a:pt x="104" y="1781"/>
                  </a:lnTo>
                  <a:lnTo>
                    <a:pt x="93" y="1766"/>
                  </a:lnTo>
                  <a:lnTo>
                    <a:pt x="83" y="1748"/>
                  </a:lnTo>
                  <a:lnTo>
                    <a:pt x="73" y="1731"/>
                  </a:lnTo>
                  <a:lnTo>
                    <a:pt x="64" y="1712"/>
                  </a:lnTo>
                  <a:lnTo>
                    <a:pt x="55" y="1693"/>
                  </a:lnTo>
                  <a:lnTo>
                    <a:pt x="47" y="1674"/>
                  </a:lnTo>
                  <a:lnTo>
                    <a:pt x="39" y="1651"/>
                  </a:lnTo>
                  <a:lnTo>
                    <a:pt x="32" y="1630"/>
                  </a:lnTo>
                  <a:lnTo>
                    <a:pt x="26" y="1608"/>
                  </a:lnTo>
                  <a:lnTo>
                    <a:pt x="21" y="1585"/>
                  </a:lnTo>
                  <a:lnTo>
                    <a:pt x="16" y="1561"/>
                  </a:lnTo>
                  <a:lnTo>
                    <a:pt x="12" y="1535"/>
                  </a:lnTo>
                  <a:lnTo>
                    <a:pt x="9" y="1509"/>
                  </a:lnTo>
                  <a:lnTo>
                    <a:pt x="5" y="1483"/>
                  </a:lnTo>
                  <a:lnTo>
                    <a:pt x="3" y="1455"/>
                  </a:lnTo>
                  <a:lnTo>
                    <a:pt x="2" y="1428"/>
                  </a:lnTo>
                  <a:lnTo>
                    <a:pt x="0" y="1369"/>
                  </a:lnTo>
                  <a:lnTo>
                    <a:pt x="2" y="1294"/>
                  </a:lnTo>
                  <a:lnTo>
                    <a:pt x="4" y="1258"/>
                  </a:lnTo>
                  <a:lnTo>
                    <a:pt x="7" y="1223"/>
                  </a:lnTo>
                  <a:lnTo>
                    <a:pt x="11" y="1189"/>
                  </a:lnTo>
                  <a:lnTo>
                    <a:pt x="16" y="1154"/>
                  </a:lnTo>
                  <a:lnTo>
                    <a:pt x="21" y="1121"/>
                  </a:lnTo>
                  <a:lnTo>
                    <a:pt x="28" y="1088"/>
                  </a:lnTo>
                  <a:lnTo>
                    <a:pt x="36" y="1057"/>
                  </a:lnTo>
                  <a:lnTo>
                    <a:pt x="44" y="1026"/>
                  </a:lnTo>
                  <a:lnTo>
                    <a:pt x="53" y="995"/>
                  </a:lnTo>
                  <a:lnTo>
                    <a:pt x="64" y="965"/>
                  </a:lnTo>
                  <a:lnTo>
                    <a:pt x="75" y="936"/>
                  </a:lnTo>
                  <a:lnTo>
                    <a:pt x="86" y="908"/>
                  </a:lnTo>
                  <a:lnTo>
                    <a:pt x="113" y="854"/>
                  </a:lnTo>
                  <a:lnTo>
                    <a:pt x="142" y="806"/>
                  </a:lnTo>
                  <a:lnTo>
                    <a:pt x="174" y="762"/>
                  </a:lnTo>
                  <a:lnTo>
                    <a:pt x="207" y="726"/>
                  </a:lnTo>
                  <a:lnTo>
                    <a:pt x="242" y="697"/>
                  </a:lnTo>
                  <a:lnTo>
                    <a:pt x="279" y="672"/>
                  </a:lnTo>
                  <a:lnTo>
                    <a:pt x="319" y="657"/>
                  </a:lnTo>
                  <a:lnTo>
                    <a:pt x="361" y="646"/>
                  </a:lnTo>
                  <a:lnTo>
                    <a:pt x="404" y="643"/>
                  </a:lnTo>
                  <a:lnTo>
                    <a:pt x="426" y="643"/>
                  </a:lnTo>
                  <a:lnTo>
                    <a:pt x="445" y="646"/>
                  </a:lnTo>
                  <a:lnTo>
                    <a:pt x="463" y="650"/>
                  </a:lnTo>
                  <a:lnTo>
                    <a:pt x="471" y="652"/>
                  </a:lnTo>
                  <a:lnTo>
                    <a:pt x="478" y="655"/>
                  </a:lnTo>
                  <a:lnTo>
                    <a:pt x="485" y="659"/>
                  </a:lnTo>
                  <a:lnTo>
                    <a:pt x="492" y="662"/>
                  </a:lnTo>
                  <a:lnTo>
                    <a:pt x="505" y="672"/>
                  </a:lnTo>
                  <a:lnTo>
                    <a:pt x="519" y="683"/>
                  </a:lnTo>
                  <a:lnTo>
                    <a:pt x="533" y="695"/>
                  </a:lnTo>
                  <a:lnTo>
                    <a:pt x="529" y="631"/>
                  </a:lnTo>
                  <a:lnTo>
                    <a:pt x="524" y="568"/>
                  </a:lnTo>
                  <a:lnTo>
                    <a:pt x="517" y="513"/>
                  </a:lnTo>
                  <a:lnTo>
                    <a:pt x="510" y="459"/>
                  </a:lnTo>
                  <a:lnTo>
                    <a:pt x="500" y="411"/>
                  </a:lnTo>
                  <a:lnTo>
                    <a:pt x="489" y="366"/>
                  </a:lnTo>
                  <a:lnTo>
                    <a:pt x="478" y="324"/>
                  </a:lnTo>
                  <a:lnTo>
                    <a:pt x="464" y="286"/>
                  </a:lnTo>
                  <a:lnTo>
                    <a:pt x="449" y="253"/>
                  </a:lnTo>
                  <a:lnTo>
                    <a:pt x="434" y="224"/>
                  </a:lnTo>
                  <a:lnTo>
                    <a:pt x="425" y="212"/>
                  </a:lnTo>
                  <a:lnTo>
                    <a:pt x="417" y="199"/>
                  </a:lnTo>
                  <a:lnTo>
                    <a:pt x="409" y="189"/>
                  </a:lnTo>
                  <a:lnTo>
                    <a:pt x="401" y="179"/>
                  </a:lnTo>
                  <a:lnTo>
                    <a:pt x="391" y="172"/>
                  </a:lnTo>
                  <a:lnTo>
                    <a:pt x="383" y="163"/>
                  </a:lnTo>
                  <a:lnTo>
                    <a:pt x="373" y="158"/>
                  </a:lnTo>
                  <a:lnTo>
                    <a:pt x="364" y="153"/>
                  </a:lnTo>
                  <a:lnTo>
                    <a:pt x="355" y="149"/>
                  </a:lnTo>
                  <a:lnTo>
                    <a:pt x="345" y="146"/>
                  </a:lnTo>
                  <a:lnTo>
                    <a:pt x="335" y="144"/>
                  </a:lnTo>
                  <a:lnTo>
                    <a:pt x="325" y="144"/>
                  </a:lnTo>
                  <a:lnTo>
                    <a:pt x="313" y="144"/>
                  </a:lnTo>
                  <a:lnTo>
                    <a:pt x="301" y="146"/>
                  </a:lnTo>
                  <a:lnTo>
                    <a:pt x="290" y="149"/>
                  </a:lnTo>
                  <a:lnTo>
                    <a:pt x="279" y="153"/>
                  </a:lnTo>
                  <a:lnTo>
                    <a:pt x="268" y="156"/>
                  </a:lnTo>
                  <a:lnTo>
                    <a:pt x="258" y="163"/>
                  </a:lnTo>
                  <a:lnTo>
                    <a:pt x="248" y="168"/>
                  </a:lnTo>
                  <a:lnTo>
                    <a:pt x="238" y="177"/>
                  </a:lnTo>
                  <a:lnTo>
                    <a:pt x="219" y="193"/>
                  </a:lnTo>
                  <a:lnTo>
                    <a:pt x="202" y="210"/>
                  </a:lnTo>
                  <a:lnTo>
                    <a:pt x="185" y="229"/>
                  </a:lnTo>
                  <a:lnTo>
                    <a:pt x="170" y="246"/>
                  </a:lnTo>
                  <a:lnTo>
                    <a:pt x="141" y="173"/>
                  </a:lnTo>
                  <a:lnTo>
                    <a:pt x="154" y="153"/>
                  </a:lnTo>
                  <a:lnTo>
                    <a:pt x="169" y="132"/>
                  </a:lnTo>
                  <a:lnTo>
                    <a:pt x="183" y="115"/>
                  </a:lnTo>
                  <a:lnTo>
                    <a:pt x="197" y="97"/>
                  </a:lnTo>
                  <a:lnTo>
                    <a:pt x="212" y="82"/>
                  </a:lnTo>
                  <a:lnTo>
                    <a:pt x="226" y="68"/>
                  </a:lnTo>
                  <a:lnTo>
                    <a:pt x="241" y="54"/>
                  </a:lnTo>
                  <a:lnTo>
                    <a:pt x="257" y="44"/>
                  </a:lnTo>
                  <a:lnTo>
                    <a:pt x="272" y="33"/>
                  </a:lnTo>
                  <a:lnTo>
                    <a:pt x="288" y="24"/>
                  </a:lnTo>
                  <a:lnTo>
                    <a:pt x="304" y="18"/>
                  </a:lnTo>
                  <a:lnTo>
                    <a:pt x="321" y="11"/>
                  </a:lnTo>
                  <a:lnTo>
                    <a:pt x="338" y="5"/>
                  </a:lnTo>
                  <a:lnTo>
                    <a:pt x="355" y="4"/>
                  </a:lnTo>
                  <a:lnTo>
                    <a:pt x="373" y="0"/>
                  </a:lnTo>
                  <a:lnTo>
                    <a:pt x="391" y="0"/>
                  </a:lnTo>
                  <a:lnTo>
                    <a:pt x="433" y="4"/>
                  </a:lnTo>
                  <a:lnTo>
                    <a:pt x="472" y="14"/>
                  </a:lnTo>
                  <a:lnTo>
                    <a:pt x="509" y="30"/>
                  </a:lnTo>
                  <a:lnTo>
                    <a:pt x="527" y="42"/>
                  </a:lnTo>
                  <a:lnTo>
                    <a:pt x="544" y="54"/>
                  </a:lnTo>
                  <a:lnTo>
                    <a:pt x="560" y="68"/>
                  </a:lnTo>
                  <a:lnTo>
                    <a:pt x="576" y="83"/>
                  </a:lnTo>
                  <a:lnTo>
                    <a:pt x="591" y="101"/>
                  </a:lnTo>
                  <a:lnTo>
                    <a:pt x="605" y="120"/>
                  </a:lnTo>
                  <a:lnTo>
                    <a:pt x="620" y="141"/>
                  </a:lnTo>
                  <a:lnTo>
                    <a:pt x="633" y="163"/>
                  </a:lnTo>
                  <a:lnTo>
                    <a:pt x="646" y="187"/>
                  </a:lnTo>
                  <a:lnTo>
                    <a:pt x="659" y="213"/>
                  </a:lnTo>
                  <a:lnTo>
                    <a:pt x="671" y="241"/>
                  </a:lnTo>
                  <a:lnTo>
                    <a:pt x="682" y="269"/>
                  </a:lnTo>
                  <a:lnTo>
                    <a:pt x="692" y="300"/>
                  </a:lnTo>
                  <a:lnTo>
                    <a:pt x="701" y="331"/>
                  </a:lnTo>
                  <a:lnTo>
                    <a:pt x="710" y="364"/>
                  </a:lnTo>
                  <a:lnTo>
                    <a:pt x="718" y="399"/>
                  </a:lnTo>
                  <a:lnTo>
                    <a:pt x="726" y="435"/>
                  </a:lnTo>
                  <a:lnTo>
                    <a:pt x="732" y="471"/>
                  </a:lnTo>
                  <a:lnTo>
                    <a:pt x="743" y="551"/>
                  </a:lnTo>
                  <a:lnTo>
                    <a:pt x="750" y="636"/>
                  </a:lnTo>
                  <a:lnTo>
                    <a:pt x="754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3560" y="3191040"/>
              <a:ext cx="274680" cy="450720"/>
            </a:xfrm>
            <a:custGeom>
              <a:avLst/>
              <a:gdLst/>
              <a:ahLst/>
              <a:rect l="l" t="t" r="r" b="b"/>
              <a:pathLst>
                <a:path w="761" h="1252">
                  <a:moveTo>
                    <a:pt x="760" y="499"/>
                  </a:moveTo>
                  <a:lnTo>
                    <a:pt x="759" y="537"/>
                  </a:lnTo>
                  <a:lnTo>
                    <a:pt x="758" y="574"/>
                  </a:lnTo>
                  <a:lnTo>
                    <a:pt x="755" y="610"/>
                  </a:lnTo>
                  <a:lnTo>
                    <a:pt x="752" y="646"/>
                  </a:lnTo>
                  <a:lnTo>
                    <a:pt x="748" y="681"/>
                  </a:lnTo>
                  <a:lnTo>
                    <a:pt x="742" y="718"/>
                  </a:lnTo>
                  <a:lnTo>
                    <a:pt x="736" y="752"/>
                  </a:lnTo>
                  <a:lnTo>
                    <a:pt x="728" y="787"/>
                  </a:lnTo>
                  <a:lnTo>
                    <a:pt x="720" y="820"/>
                  </a:lnTo>
                  <a:lnTo>
                    <a:pt x="711" y="853"/>
                  </a:lnTo>
                  <a:lnTo>
                    <a:pt x="701" y="884"/>
                  </a:lnTo>
                  <a:lnTo>
                    <a:pt x="691" y="913"/>
                  </a:lnTo>
                  <a:lnTo>
                    <a:pt x="679" y="943"/>
                  </a:lnTo>
                  <a:lnTo>
                    <a:pt x="667" y="970"/>
                  </a:lnTo>
                  <a:lnTo>
                    <a:pt x="654" y="998"/>
                  </a:lnTo>
                  <a:lnTo>
                    <a:pt x="640" y="1024"/>
                  </a:lnTo>
                  <a:lnTo>
                    <a:pt x="624" y="1050"/>
                  </a:lnTo>
                  <a:lnTo>
                    <a:pt x="608" y="1076"/>
                  </a:lnTo>
                  <a:lnTo>
                    <a:pt x="591" y="1099"/>
                  </a:lnTo>
                  <a:lnTo>
                    <a:pt x="573" y="1121"/>
                  </a:lnTo>
                  <a:lnTo>
                    <a:pt x="555" y="1140"/>
                  </a:lnTo>
                  <a:lnTo>
                    <a:pt x="535" y="1159"/>
                  </a:lnTo>
                  <a:lnTo>
                    <a:pt x="516" y="1177"/>
                  </a:lnTo>
                  <a:lnTo>
                    <a:pt x="495" y="1192"/>
                  </a:lnTo>
                  <a:lnTo>
                    <a:pt x="474" y="1206"/>
                  </a:lnTo>
                  <a:lnTo>
                    <a:pt x="453" y="1218"/>
                  </a:lnTo>
                  <a:lnTo>
                    <a:pt x="430" y="1229"/>
                  </a:lnTo>
                  <a:lnTo>
                    <a:pt x="407" y="1237"/>
                  </a:lnTo>
                  <a:lnTo>
                    <a:pt x="384" y="1242"/>
                  </a:lnTo>
                  <a:lnTo>
                    <a:pt x="359" y="1248"/>
                  </a:lnTo>
                  <a:lnTo>
                    <a:pt x="335" y="1249"/>
                  </a:lnTo>
                  <a:lnTo>
                    <a:pt x="309" y="1251"/>
                  </a:lnTo>
                  <a:lnTo>
                    <a:pt x="275" y="1249"/>
                  </a:lnTo>
                  <a:lnTo>
                    <a:pt x="243" y="1242"/>
                  </a:lnTo>
                  <a:lnTo>
                    <a:pt x="213" y="1232"/>
                  </a:lnTo>
                  <a:lnTo>
                    <a:pt x="184" y="1218"/>
                  </a:lnTo>
                  <a:lnTo>
                    <a:pt x="157" y="1199"/>
                  </a:lnTo>
                  <a:lnTo>
                    <a:pt x="131" y="1175"/>
                  </a:lnTo>
                  <a:lnTo>
                    <a:pt x="108" y="1147"/>
                  </a:lnTo>
                  <a:lnTo>
                    <a:pt x="86" y="1116"/>
                  </a:lnTo>
                  <a:lnTo>
                    <a:pt x="75" y="1099"/>
                  </a:lnTo>
                  <a:lnTo>
                    <a:pt x="65" y="1081"/>
                  </a:lnTo>
                  <a:lnTo>
                    <a:pt x="57" y="1062"/>
                  </a:lnTo>
                  <a:lnTo>
                    <a:pt x="48" y="1041"/>
                  </a:lnTo>
                  <a:lnTo>
                    <a:pt x="41" y="1022"/>
                  </a:lnTo>
                  <a:lnTo>
                    <a:pt x="34" y="1000"/>
                  </a:lnTo>
                  <a:lnTo>
                    <a:pt x="27" y="979"/>
                  </a:lnTo>
                  <a:lnTo>
                    <a:pt x="21" y="957"/>
                  </a:lnTo>
                  <a:lnTo>
                    <a:pt x="16" y="932"/>
                  </a:lnTo>
                  <a:lnTo>
                    <a:pt x="12" y="908"/>
                  </a:lnTo>
                  <a:lnTo>
                    <a:pt x="9" y="884"/>
                  </a:lnTo>
                  <a:lnTo>
                    <a:pt x="5" y="858"/>
                  </a:lnTo>
                  <a:lnTo>
                    <a:pt x="4" y="832"/>
                  </a:lnTo>
                  <a:lnTo>
                    <a:pt x="2" y="804"/>
                  </a:lnTo>
                  <a:lnTo>
                    <a:pt x="0" y="747"/>
                  </a:lnTo>
                  <a:lnTo>
                    <a:pt x="1" y="707"/>
                  </a:lnTo>
                  <a:lnTo>
                    <a:pt x="2" y="669"/>
                  </a:lnTo>
                  <a:lnTo>
                    <a:pt x="4" y="631"/>
                  </a:lnTo>
                  <a:lnTo>
                    <a:pt x="9" y="595"/>
                  </a:lnTo>
                  <a:lnTo>
                    <a:pt x="13" y="558"/>
                  </a:lnTo>
                  <a:lnTo>
                    <a:pt x="19" y="522"/>
                  </a:lnTo>
                  <a:lnTo>
                    <a:pt x="25" y="487"/>
                  </a:lnTo>
                  <a:lnTo>
                    <a:pt x="32" y="452"/>
                  </a:lnTo>
                  <a:lnTo>
                    <a:pt x="41" y="420"/>
                  </a:lnTo>
                  <a:lnTo>
                    <a:pt x="50" y="387"/>
                  </a:lnTo>
                  <a:lnTo>
                    <a:pt x="60" y="355"/>
                  </a:lnTo>
                  <a:lnTo>
                    <a:pt x="71" y="326"/>
                  </a:lnTo>
                  <a:lnTo>
                    <a:pt x="82" y="297"/>
                  </a:lnTo>
                  <a:lnTo>
                    <a:pt x="95" y="269"/>
                  </a:lnTo>
                  <a:lnTo>
                    <a:pt x="109" y="241"/>
                  </a:lnTo>
                  <a:lnTo>
                    <a:pt x="122" y="215"/>
                  </a:lnTo>
                  <a:lnTo>
                    <a:pt x="136" y="191"/>
                  </a:lnTo>
                  <a:lnTo>
                    <a:pt x="153" y="168"/>
                  </a:lnTo>
                  <a:lnTo>
                    <a:pt x="169" y="148"/>
                  </a:lnTo>
                  <a:lnTo>
                    <a:pt x="186" y="127"/>
                  </a:lnTo>
                  <a:lnTo>
                    <a:pt x="204" y="108"/>
                  </a:lnTo>
                  <a:lnTo>
                    <a:pt x="223" y="90"/>
                  </a:lnTo>
                  <a:lnTo>
                    <a:pt x="242" y="73"/>
                  </a:lnTo>
                  <a:lnTo>
                    <a:pt x="263" y="57"/>
                  </a:lnTo>
                  <a:lnTo>
                    <a:pt x="284" y="44"/>
                  </a:lnTo>
                  <a:lnTo>
                    <a:pt x="305" y="33"/>
                  </a:lnTo>
                  <a:lnTo>
                    <a:pt x="327" y="23"/>
                  </a:lnTo>
                  <a:lnTo>
                    <a:pt x="350" y="14"/>
                  </a:lnTo>
                  <a:lnTo>
                    <a:pt x="373" y="9"/>
                  </a:lnTo>
                  <a:lnTo>
                    <a:pt x="396" y="4"/>
                  </a:lnTo>
                  <a:lnTo>
                    <a:pt x="419" y="2"/>
                  </a:lnTo>
                  <a:lnTo>
                    <a:pt x="443" y="0"/>
                  </a:lnTo>
                  <a:lnTo>
                    <a:pt x="478" y="2"/>
                  </a:lnTo>
                  <a:lnTo>
                    <a:pt x="512" y="9"/>
                  </a:lnTo>
                  <a:lnTo>
                    <a:pt x="545" y="19"/>
                  </a:lnTo>
                  <a:lnTo>
                    <a:pt x="574" y="33"/>
                  </a:lnTo>
                  <a:lnTo>
                    <a:pt x="602" y="52"/>
                  </a:lnTo>
                  <a:lnTo>
                    <a:pt x="628" y="75"/>
                  </a:lnTo>
                  <a:lnTo>
                    <a:pt x="653" y="101"/>
                  </a:lnTo>
                  <a:lnTo>
                    <a:pt x="664" y="116"/>
                  </a:lnTo>
                  <a:lnTo>
                    <a:pt x="675" y="132"/>
                  </a:lnTo>
                  <a:lnTo>
                    <a:pt x="685" y="149"/>
                  </a:lnTo>
                  <a:lnTo>
                    <a:pt x="695" y="167"/>
                  </a:lnTo>
                  <a:lnTo>
                    <a:pt x="704" y="186"/>
                  </a:lnTo>
                  <a:lnTo>
                    <a:pt x="712" y="205"/>
                  </a:lnTo>
                  <a:lnTo>
                    <a:pt x="720" y="224"/>
                  </a:lnTo>
                  <a:lnTo>
                    <a:pt x="727" y="245"/>
                  </a:lnTo>
                  <a:lnTo>
                    <a:pt x="732" y="267"/>
                  </a:lnTo>
                  <a:lnTo>
                    <a:pt x="738" y="290"/>
                  </a:lnTo>
                  <a:lnTo>
                    <a:pt x="743" y="312"/>
                  </a:lnTo>
                  <a:lnTo>
                    <a:pt x="748" y="336"/>
                  </a:lnTo>
                  <a:lnTo>
                    <a:pt x="751" y="362"/>
                  </a:lnTo>
                  <a:lnTo>
                    <a:pt x="754" y="388"/>
                  </a:lnTo>
                  <a:lnTo>
                    <a:pt x="757" y="414"/>
                  </a:lnTo>
                  <a:lnTo>
                    <a:pt x="758" y="442"/>
                  </a:lnTo>
                  <a:close/>
                  <a:moveTo>
                    <a:pt x="531" y="364"/>
                  </a:moveTo>
                  <a:lnTo>
                    <a:pt x="531" y="329"/>
                  </a:lnTo>
                  <a:lnTo>
                    <a:pt x="529" y="298"/>
                  </a:lnTo>
                  <a:lnTo>
                    <a:pt x="528" y="271"/>
                  </a:lnTo>
                  <a:lnTo>
                    <a:pt x="525" y="243"/>
                  </a:lnTo>
                  <a:lnTo>
                    <a:pt x="521" y="219"/>
                  </a:lnTo>
                  <a:lnTo>
                    <a:pt x="517" y="196"/>
                  </a:lnTo>
                  <a:lnTo>
                    <a:pt x="514" y="187"/>
                  </a:lnTo>
                  <a:lnTo>
                    <a:pt x="511" y="177"/>
                  </a:lnTo>
                  <a:lnTo>
                    <a:pt x="509" y="168"/>
                  </a:lnTo>
                  <a:lnTo>
                    <a:pt x="506" y="160"/>
                  </a:lnTo>
                  <a:lnTo>
                    <a:pt x="502" y="151"/>
                  </a:lnTo>
                  <a:lnTo>
                    <a:pt x="499" y="144"/>
                  </a:lnTo>
                  <a:lnTo>
                    <a:pt x="495" y="137"/>
                  </a:lnTo>
                  <a:lnTo>
                    <a:pt x="491" y="132"/>
                  </a:lnTo>
                  <a:lnTo>
                    <a:pt x="487" y="125"/>
                  </a:lnTo>
                  <a:lnTo>
                    <a:pt x="483" y="120"/>
                  </a:lnTo>
                  <a:lnTo>
                    <a:pt x="478" y="115"/>
                  </a:lnTo>
                  <a:lnTo>
                    <a:pt x="473" y="111"/>
                  </a:lnTo>
                  <a:lnTo>
                    <a:pt x="469" y="106"/>
                  </a:lnTo>
                  <a:lnTo>
                    <a:pt x="464" y="103"/>
                  </a:lnTo>
                  <a:lnTo>
                    <a:pt x="459" y="101"/>
                  </a:lnTo>
                  <a:lnTo>
                    <a:pt x="454" y="97"/>
                  </a:lnTo>
                  <a:lnTo>
                    <a:pt x="443" y="96"/>
                  </a:lnTo>
                  <a:lnTo>
                    <a:pt x="431" y="94"/>
                  </a:lnTo>
                  <a:lnTo>
                    <a:pt x="418" y="96"/>
                  </a:lnTo>
                  <a:lnTo>
                    <a:pt x="407" y="99"/>
                  </a:lnTo>
                  <a:lnTo>
                    <a:pt x="395" y="104"/>
                  </a:lnTo>
                  <a:lnTo>
                    <a:pt x="383" y="113"/>
                  </a:lnTo>
                  <a:lnTo>
                    <a:pt x="371" y="122"/>
                  </a:lnTo>
                  <a:lnTo>
                    <a:pt x="360" y="135"/>
                  </a:lnTo>
                  <a:lnTo>
                    <a:pt x="350" y="149"/>
                  </a:lnTo>
                  <a:lnTo>
                    <a:pt x="339" y="167"/>
                  </a:lnTo>
                  <a:lnTo>
                    <a:pt x="329" y="186"/>
                  </a:lnTo>
                  <a:lnTo>
                    <a:pt x="319" y="208"/>
                  </a:lnTo>
                  <a:lnTo>
                    <a:pt x="310" y="231"/>
                  </a:lnTo>
                  <a:lnTo>
                    <a:pt x="302" y="257"/>
                  </a:lnTo>
                  <a:lnTo>
                    <a:pt x="293" y="284"/>
                  </a:lnTo>
                  <a:lnTo>
                    <a:pt x="285" y="316"/>
                  </a:lnTo>
                  <a:lnTo>
                    <a:pt x="278" y="347"/>
                  </a:lnTo>
                  <a:lnTo>
                    <a:pt x="271" y="381"/>
                  </a:lnTo>
                  <a:lnTo>
                    <a:pt x="260" y="442"/>
                  </a:lnTo>
                  <a:lnTo>
                    <a:pt x="252" y="504"/>
                  </a:lnTo>
                  <a:lnTo>
                    <a:pt x="244" y="570"/>
                  </a:lnTo>
                  <a:lnTo>
                    <a:pt x="239" y="638"/>
                  </a:lnTo>
                  <a:lnTo>
                    <a:pt x="235" y="705"/>
                  </a:lnTo>
                  <a:lnTo>
                    <a:pt x="231" y="768"/>
                  </a:lnTo>
                  <a:lnTo>
                    <a:pt x="230" y="828"/>
                  </a:lnTo>
                  <a:lnTo>
                    <a:pt x="229" y="884"/>
                  </a:lnTo>
                  <a:lnTo>
                    <a:pt x="229" y="918"/>
                  </a:lnTo>
                  <a:lnTo>
                    <a:pt x="230" y="951"/>
                  </a:lnTo>
                  <a:lnTo>
                    <a:pt x="232" y="981"/>
                  </a:lnTo>
                  <a:lnTo>
                    <a:pt x="236" y="1009"/>
                  </a:lnTo>
                  <a:lnTo>
                    <a:pt x="239" y="1033"/>
                  </a:lnTo>
                  <a:lnTo>
                    <a:pt x="241" y="1045"/>
                  </a:lnTo>
                  <a:lnTo>
                    <a:pt x="243" y="1055"/>
                  </a:lnTo>
                  <a:lnTo>
                    <a:pt x="246" y="1066"/>
                  </a:lnTo>
                  <a:lnTo>
                    <a:pt x="249" y="1076"/>
                  </a:lnTo>
                  <a:lnTo>
                    <a:pt x="252" y="1085"/>
                  </a:lnTo>
                  <a:lnTo>
                    <a:pt x="255" y="1093"/>
                  </a:lnTo>
                  <a:lnTo>
                    <a:pt x="258" y="1102"/>
                  </a:lnTo>
                  <a:lnTo>
                    <a:pt x="262" y="1109"/>
                  </a:lnTo>
                  <a:lnTo>
                    <a:pt x="265" y="1116"/>
                  </a:lnTo>
                  <a:lnTo>
                    <a:pt x="269" y="1121"/>
                  </a:lnTo>
                  <a:lnTo>
                    <a:pt x="274" y="1128"/>
                  </a:lnTo>
                  <a:lnTo>
                    <a:pt x="278" y="1133"/>
                  </a:lnTo>
                  <a:lnTo>
                    <a:pt x="282" y="1137"/>
                  </a:lnTo>
                  <a:lnTo>
                    <a:pt x="286" y="1142"/>
                  </a:lnTo>
                  <a:lnTo>
                    <a:pt x="291" y="1145"/>
                  </a:lnTo>
                  <a:lnTo>
                    <a:pt x="296" y="1149"/>
                  </a:lnTo>
                  <a:lnTo>
                    <a:pt x="302" y="1151"/>
                  </a:lnTo>
                  <a:lnTo>
                    <a:pt x="307" y="1154"/>
                  </a:lnTo>
                  <a:lnTo>
                    <a:pt x="318" y="1156"/>
                  </a:lnTo>
                  <a:lnTo>
                    <a:pt x="330" y="1158"/>
                  </a:lnTo>
                  <a:lnTo>
                    <a:pt x="343" y="1156"/>
                  </a:lnTo>
                  <a:lnTo>
                    <a:pt x="356" y="1152"/>
                  </a:lnTo>
                  <a:lnTo>
                    <a:pt x="362" y="1151"/>
                  </a:lnTo>
                  <a:lnTo>
                    <a:pt x="368" y="1147"/>
                  </a:lnTo>
                  <a:lnTo>
                    <a:pt x="374" y="1142"/>
                  </a:lnTo>
                  <a:lnTo>
                    <a:pt x="380" y="1139"/>
                  </a:lnTo>
                  <a:lnTo>
                    <a:pt x="385" y="1133"/>
                  </a:lnTo>
                  <a:lnTo>
                    <a:pt x="391" y="1126"/>
                  </a:lnTo>
                  <a:lnTo>
                    <a:pt x="402" y="1113"/>
                  </a:lnTo>
                  <a:lnTo>
                    <a:pt x="412" y="1097"/>
                  </a:lnTo>
                  <a:lnTo>
                    <a:pt x="423" y="1078"/>
                  </a:lnTo>
                  <a:lnTo>
                    <a:pt x="432" y="1057"/>
                  </a:lnTo>
                  <a:lnTo>
                    <a:pt x="441" y="1035"/>
                  </a:lnTo>
                  <a:lnTo>
                    <a:pt x="450" y="1012"/>
                  </a:lnTo>
                  <a:lnTo>
                    <a:pt x="457" y="988"/>
                  </a:lnTo>
                  <a:lnTo>
                    <a:pt x="465" y="964"/>
                  </a:lnTo>
                  <a:lnTo>
                    <a:pt x="472" y="936"/>
                  </a:lnTo>
                  <a:lnTo>
                    <a:pt x="478" y="910"/>
                  </a:lnTo>
                  <a:lnTo>
                    <a:pt x="484" y="880"/>
                  </a:lnTo>
                  <a:lnTo>
                    <a:pt x="495" y="821"/>
                  </a:lnTo>
                  <a:lnTo>
                    <a:pt x="505" y="761"/>
                  </a:lnTo>
                  <a:lnTo>
                    <a:pt x="512" y="695"/>
                  </a:lnTo>
                  <a:lnTo>
                    <a:pt x="519" y="627"/>
                  </a:lnTo>
                  <a:lnTo>
                    <a:pt x="524" y="560"/>
                  </a:lnTo>
                  <a:lnTo>
                    <a:pt x="528" y="492"/>
                  </a:lnTo>
                  <a:lnTo>
                    <a:pt x="530" y="42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0960" y="3197160"/>
              <a:ext cx="307800" cy="438120"/>
            </a:xfrm>
            <a:custGeom>
              <a:avLst/>
              <a:gdLst/>
              <a:ahLst/>
              <a:rect l="l" t="t" r="r" b="b"/>
              <a:pathLst>
                <a:path w="855" h="1219">
                  <a:moveTo>
                    <a:pt x="145" y="285"/>
                  </a:moveTo>
                  <a:lnTo>
                    <a:pt x="145" y="270"/>
                  </a:lnTo>
                  <a:lnTo>
                    <a:pt x="144" y="254"/>
                  </a:lnTo>
                  <a:lnTo>
                    <a:pt x="143" y="240"/>
                  </a:lnTo>
                  <a:lnTo>
                    <a:pt x="142" y="228"/>
                  </a:lnTo>
                  <a:lnTo>
                    <a:pt x="140" y="223"/>
                  </a:lnTo>
                  <a:lnTo>
                    <a:pt x="139" y="218"/>
                  </a:lnTo>
                  <a:lnTo>
                    <a:pt x="138" y="213"/>
                  </a:lnTo>
                  <a:lnTo>
                    <a:pt x="137" y="208"/>
                  </a:lnTo>
                  <a:lnTo>
                    <a:pt x="135" y="202"/>
                  </a:lnTo>
                  <a:lnTo>
                    <a:pt x="133" y="199"/>
                  </a:lnTo>
                  <a:lnTo>
                    <a:pt x="132" y="195"/>
                  </a:lnTo>
                  <a:lnTo>
                    <a:pt x="130" y="192"/>
                  </a:lnTo>
                  <a:lnTo>
                    <a:pt x="128" y="188"/>
                  </a:lnTo>
                  <a:lnTo>
                    <a:pt x="126" y="187"/>
                  </a:lnTo>
                  <a:lnTo>
                    <a:pt x="124" y="183"/>
                  </a:lnTo>
                  <a:lnTo>
                    <a:pt x="121" y="182"/>
                  </a:lnTo>
                  <a:lnTo>
                    <a:pt x="116" y="178"/>
                  </a:lnTo>
                  <a:lnTo>
                    <a:pt x="110" y="175"/>
                  </a:lnTo>
                  <a:lnTo>
                    <a:pt x="104" y="171"/>
                  </a:lnTo>
                  <a:lnTo>
                    <a:pt x="97" y="169"/>
                  </a:lnTo>
                  <a:lnTo>
                    <a:pt x="89" y="168"/>
                  </a:lnTo>
                  <a:lnTo>
                    <a:pt x="81" y="168"/>
                  </a:lnTo>
                  <a:lnTo>
                    <a:pt x="76" y="168"/>
                  </a:lnTo>
                  <a:lnTo>
                    <a:pt x="70" y="169"/>
                  </a:lnTo>
                  <a:lnTo>
                    <a:pt x="64" y="169"/>
                  </a:lnTo>
                  <a:lnTo>
                    <a:pt x="59" y="171"/>
                  </a:lnTo>
                  <a:lnTo>
                    <a:pt x="47" y="176"/>
                  </a:lnTo>
                  <a:lnTo>
                    <a:pt x="35" y="182"/>
                  </a:lnTo>
                  <a:lnTo>
                    <a:pt x="0" y="202"/>
                  </a:lnTo>
                  <a:lnTo>
                    <a:pt x="15" y="95"/>
                  </a:lnTo>
                  <a:lnTo>
                    <a:pt x="38" y="78"/>
                  </a:lnTo>
                  <a:lnTo>
                    <a:pt x="64" y="62"/>
                  </a:lnTo>
                  <a:lnTo>
                    <a:pt x="90" y="46"/>
                  </a:lnTo>
                  <a:lnTo>
                    <a:pt x="117" y="31"/>
                  </a:lnTo>
                  <a:lnTo>
                    <a:pt x="144" y="17"/>
                  </a:lnTo>
                  <a:lnTo>
                    <a:pt x="169" y="8"/>
                  </a:lnTo>
                  <a:lnTo>
                    <a:pt x="180" y="5"/>
                  </a:lnTo>
                  <a:lnTo>
                    <a:pt x="191" y="1"/>
                  </a:lnTo>
                  <a:lnTo>
                    <a:pt x="201" y="0"/>
                  </a:lnTo>
                  <a:lnTo>
                    <a:pt x="210" y="0"/>
                  </a:lnTo>
                  <a:lnTo>
                    <a:pt x="229" y="1"/>
                  </a:lnTo>
                  <a:lnTo>
                    <a:pt x="247" y="3"/>
                  </a:lnTo>
                  <a:lnTo>
                    <a:pt x="263" y="8"/>
                  </a:lnTo>
                  <a:lnTo>
                    <a:pt x="278" y="17"/>
                  </a:lnTo>
                  <a:lnTo>
                    <a:pt x="292" y="26"/>
                  </a:lnTo>
                  <a:lnTo>
                    <a:pt x="304" y="38"/>
                  </a:lnTo>
                  <a:lnTo>
                    <a:pt x="310" y="43"/>
                  </a:lnTo>
                  <a:lnTo>
                    <a:pt x="316" y="50"/>
                  </a:lnTo>
                  <a:lnTo>
                    <a:pt x="321" y="57"/>
                  </a:lnTo>
                  <a:lnTo>
                    <a:pt x="326" y="65"/>
                  </a:lnTo>
                  <a:lnTo>
                    <a:pt x="331" y="74"/>
                  </a:lnTo>
                  <a:lnTo>
                    <a:pt x="336" y="83"/>
                  </a:lnTo>
                  <a:lnTo>
                    <a:pt x="340" y="91"/>
                  </a:lnTo>
                  <a:lnTo>
                    <a:pt x="343" y="100"/>
                  </a:lnTo>
                  <a:lnTo>
                    <a:pt x="347" y="109"/>
                  </a:lnTo>
                  <a:lnTo>
                    <a:pt x="350" y="119"/>
                  </a:lnTo>
                  <a:lnTo>
                    <a:pt x="353" y="130"/>
                  </a:lnTo>
                  <a:lnTo>
                    <a:pt x="356" y="140"/>
                  </a:lnTo>
                  <a:lnTo>
                    <a:pt x="358" y="150"/>
                  </a:lnTo>
                  <a:lnTo>
                    <a:pt x="360" y="161"/>
                  </a:lnTo>
                  <a:lnTo>
                    <a:pt x="362" y="171"/>
                  </a:lnTo>
                  <a:lnTo>
                    <a:pt x="363" y="183"/>
                  </a:lnTo>
                  <a:lnTo>
                    <a:pt x="364" y="195"/>
                  </a:lnTo>
                  <a:lnTo>
                    <a:pt x="364" y="208"/>
                  </a:lnTo>
                  <a:lnTo>
                    <a:pt x="365" y="220"/>
                  </a:lnTo>
                  <a:lnTo>
                    <a:pt x="365" y="232"/>
                  </a:lnTo>
                  <a:lnTo>
                    <a:pt x="365" y="246"/>
                  </a:lnTo>
                  <a:lnTo>
                    <a:pt x="364" y="261"/>
                  </a:lnTo>
                  <a:lnTo>
                    <a:pt x="364" y="279"/>
                  </a:lnTo>
                  <a:lnTo>
                    <a:pt x="363" y="296"/>
                  </a:lnTo>
                  <a:lnTo>
                    <a:pt x="359" y="332"/>
                  </a:lnTo>
                  <a:lnTo>
                    <a:pt x="354" y="372"/>
                  </a:lnTo>
                  <a:lnTo>
                    <a:pt x="349" y="410"/>
                  </a:lnTo>
                  <a:lnTo>
                    <a:pt x="346" y="441"/>
                  </a:lnTo>
                  <a:lnTo>
                    <a:pt x="345" y="457"/>
                  </a:lnTo>
                  <a:lnTo>
                    <a:pt x="344" y="469"/>
                  </a:lnTo>
                  <a:lnTo>
                    <a:pt x="343" y="480"/>
                  </a:lnTo>
                  <a:lnTo>
                    <a:pt x="343" y="490"/>
                  </a:lnTo>
                  <a:lnTo>
                    <a:pt x="343" y="507"/>
                  </a:lnTo>
                  <a:lnTo>
                    <a:pt x="344" y="525"/>
                  </a:lnTo>
                  <a:lnTo>
                    <a:pt x="345" y="538"/>
                  </a:lnTo>
                  <a:lnTo>
                    <a:pt x="347" y="552"/>
                  </a:lnTo>
                  <a:lnTo>
                    <a:pt x="348" y="559"/>
                  </a:lnTo>
                  <a:lnTo>
                    <a:pt x="349" y="564"/>
                  </a:lnTo>
                  <a:lnTo>
                    <a:pt x="350" y="570"/>
                  </a:lnTo>
                  <a:lnTo>
                    <a:pt x="352" y="575"/>
                  </a:lnTo>
                  <a:lnTo>
                    <a:pt x="353" y="578"/>
                  </a:lnTo>
                  <a:lnTo>
                    <a:pt x="354" y="583"/>
                  </a:lnTo>
                  <a:lnTo>
                    <a:pt x="356" y="587"/>
                  </a:lnTo>
                  <a:lnTo>
                    <a:pt x="358" y="590"/>
                  </a:lnTo>
                  <a:lnTo>
                    <a:pt x="359" y="594"/>
                  </a:lnTo>
                  <a:lnTo>
                    <a:pt x="361" y="597"/>
                  </a:lnTo>
                  <a:lnTo>
                    <a:pt x="364" y="601"/>
                  </a:lnTo>
                  <a:lnTo>
                    <a:pt x="365" y="603"/>
                  </a:lnTo>
                  <a:lnTo>
                    <a:pt x="368" y="606"/>
                  </a:lnTo>
                  <a:lnTo>
                    <a:pt x="370" y="608"/>
                  </a:lnTo>
                  <a:lnTo>
                    <a:pt x="373" y="609"/>
                  </a:lnTo>
                  <a:lnTo>
                    <a:pt x="375" y="611"/>
                  </a:lnTo>
                  <a:lnTo>
                    <a:pt x="380" y="615"/>
                  </a:lnTo>
                  <a:lnTo>
                    <a:pt x="386" y="616"/>
                  </a:lnTo>
                  <a:lnTo>
                    <a:pt x="393" y="618"/>
                  </a:lnTo>
                  <a:lnTo>
                    <a:pt x="400" y="618"/>
                  </a:lnTo>
                  <a:lnTo>
                    <a:pt x="407" y="618"/>
                  </a:lnTo>
                  <a:lnTo>
                    <a:pt x="413" y="616"/>
                  </a:lnTo>
                  <a:lnTo>
                    <a:pt x="419" y="616"/>
                  </a:lnTo>
                  <a:lnTo>
                    <a:pt x="426" y="615"/>
                  </a:lnTo>
                  <a:lnTo>
                    <a:pt x="441" y="609"/>
                  </a:lnTo>
                  <a:lnTo>
                    <a:pt x="455" y="603"/>
                  </a:lnTo>
                  <a:lnTo>
                    <a:pt x="463" y="599"/>
                  </a:lnTo>
                  <a:lnTo>
                    <a:pt x="471" y="594"/>
                  </a:lnTo>
                  <a:lnTo>
                    <a:pt x="480" y="587"/>
                  </a:lnTo>
                  <a:lnTo>
                    <a:pt x="489" y="580"/>
                  </a:lnTo>
                  <a:lnTo>
                    <a:pt x="507" y="563"/>
                  </a:lnTo>
                  <a:lnTo>
                    <a:pt x="528" y="542"/>
                  </a:lnTo>
                  <a:lnTo>
                    <a:pt x="593" y="20"/>
                  </a:lnTo>
                  <a:lnTo>
                    <a:pt x="800" y="3"/>
                  </a:lnTo>
                  <a:lnTo>
                    <a:pt x="808" y="20"/>
                  </a:lnTo>
                  <a:lnTo>
                    <a:pt x="716" y="753"/>
                  </a:lnTo>
                  <a:lnTo>
                    <a:pt x="713" y="772"/>
                  </a:lnTo>
                  <a:lnTo>
                    <a:pt x="711" y="795"/>
                  </a:lnTo>
                  <a:lnTo>
                    <a:pt x="708" y="817"/>
                  </a:lnTo>
                  <a:lnTo>
                    <a:pt x="706" y="845"/>
                  </a:lnTo>
                  <a:lnTo>
                    <a:pt x="703" y="873"/>
                  </a:lnTo>
                  <a:lnTo>
                    <a:pt x="701" y="895"/>
                  </a:lnTo>
                  <a:lnTo>
                    <a:pt x="700" y="914"/>
                  </a:lnTo>
                  <a:lnTo>
                    <a:pt x="700" y="923"/>
                  </a:lnTo>
                  <a:lnTo>
                    <a:pt x="700" y="930"/>
                  </a:lnTo>
                  <a:lnTo>
                    <a:pt x="700" y="947"/>
                  </a:lnTo>
                  <a:lnTo>
                    <a:pt x="701" y="963"/>
                  </a:lnTo>
                  <a:lnTo>
                    <a:pt x="702" y="977"/>
                  </a:lnTo>
                  <a:lnTo>
                    <a:pt x="703" y="982"/>
                  </a:lnTo>
                  <a:lnTo>
                    <a:pt x="704" y="989"/>
                  </a:lnTo>
                  <a:lnTo>
                    <a:pt x="705" y="994"/>
                  </a:lnTo>
                  <a:lnTo>
                    <a:pt x="706" y="999"/>
                  </a:lnTo>
                  <a:lnTo>
                    <a:pt x="707" y="1004"/>
                  </a:lnTo>
                  <a:lnTo>
                    <a:pt x="709" y="1010"/>
                  </a:lnTo>
                  <a:lnTo>
                    <a:pt x="710" y="1015"/>
                  </a:lnTo>
                  <a:lnTo>
                    <a:pt x="712" y="1018"/>
                  </a:lnTo>
                  <a:lnTo>
                    <a:pt x="714" y="1022"/>
                  </a:lnTo>
                  <a:lnTo>
                    <a:pt x="716" y="1025"/>
                  </a:lnTo>
                  <a:lnTo>
                    <a:pt x="718" y="1029"/>
                  </a:lnTo>
                  <a:lnTo>
                    <a:pt x="720" y="1030"/>
                  </a:lnTo>
                  <a:lnTo>
                    <a:pt x="723" y="1034"/>
                  </a:lnTo>
                  <a:lnTo>
                    <a:pt x="726" y="1036"/>
                  </a:lnTo>
                  <a:lnTo>
                    <a:pt x="732" y="1039"/>
                  </a:lnTo>
                  <a:lnTo>
                    <a:pt x="739" y="1043"/>
                  </a:lnTo>
                  <a:lnTo>
                    <a:pt x="746" y="1046"/>
                  </a:lnTo>
                  <a:lnTo>
                    <a:pt x="755" y="1048"/>
                  </a:lnTo>
                  <a:lnTo>
                    <a:pt x="763" y="1049"/>
                  </a:lnTo>
                  <a:lnTo>
                    <a:pt x="773" y="1049"/>
                  </a:lnTo>
                  <a:lnTo>
                    <a:pt x="778" y="1049"/>
                  </a:lnTo>
                  <a:lnTo>
                    <a:pt x="783" y="1049"/>
                  </a:lnTo>
                  <a:lnTo>
                    <a:pt x="789" y="1048"/>
                  </a:lnTo>
                  <a:lnTo>
                    <a:pt x="794" y="1046"/>
                  </a:lnTo>
                  <a:lnTo>
                    <a:pt x="806" y="1043"/>
                  </a:lnTo>
                  <a:lnTo>
                    <a:pt x="818" y="1037"/>
                  </a:lnTo>
                  <a:lnTo>
                    <a:pt x="839" y="1025"/>
                  </a:lnTo>
                  <a:lnTo>
                    <a:pt x="847" y="1020"/>
                  </a:lnTo>
                  <a:lnTo>
                    <a:pt x="850" y="1018"/>
                  </a:lnTo>
                  <a:lnTo>
                    <a:pt x="854" y="1015"/>
                  </a:lnTo>
                  <a:lnTo>
                    <a:pt x="839" y="1122"/>
                  </a:lnTo>
                  <a:lnTo>
                    <a:pt x="737" y="1193"/>
                  </a:lnTo>
                  <a:lnTo>
                    <a:pt x="728" y="1198"/>
                  </a:lnTo>
                  <a:lnTo>
                    <a:pt x="717" y="1204"/>
                  </a:lnTo>
                  <a:lnTo>
                    <a:pt x="706" y="1207"/>
                  </a:lnTo>
                  <a:lnTo>
                    <a:pt x="695" y="1211"/>
                  </a:lnTo>
                  <a:lnTo>
                    <a:pt x="684" y="1214"/>
                  </a:lnTo>
                  <a:lnTo>
                    <a:pt x="673" y="1216"/>
                  </a:lnTo>
                  <a:lnTo>
                    <a:pt x="661" y="1218"/>
                  </a:lnTo>
                  <a:lnTo>
                    <a:pt x="648" y="1218"/>
                  </a:lnTo>
                  <a:lnTo>
                    <a:pt x="630" y="1216"/>
                  </a:lnTo>
                  <a:lnTo>
                    <a:pt x="614" y="1214"/>
                  </a:lnTo>
                  <a:lnTo>
                    <a:pt x="598" y="1209"/>
                  </a:lnTo>
                  <a:lnTo>
                    <a:pt x="584" y="1200"/>
                  </a:lnTo>
                  <a:lnTo>
                    <a:pt x="569" y="1192"/>
                  </a:lnTo>
                  <a:lnTo>
                    <a:pt x="556" y="1179"/>
                  </a:lnTo>
                  <a:lnTo>
                    <a:pt x="543" y="1166"/>
                  </a:lnTo>
                  <a:lnTo>
                    <a:pt x="531" y="1150"/>
                  </a:lnTo>
                  <a:lnTo>
                    <a:pt x="525" y="1141"/>
                  </a:lnTo>
                  <a:lnTo>
                    <a:pt x="520" y="1133"/>
                  </a:lnTo>
                  <a:lnTo>
                    <a:pt x="516" y="1122"/>
                  </a:lnTo>
                  <a:lnTo>
                    <a:pt x="511" y="1114"/>
                  </a:lnTo>
                  <a:lnTo>
                    <a:pt x="507" y="1103"/>
                  </a:lnTo>
                  <a:lnTo>
                    <a:pt x="503" y="1093"/>
                  </a:lnTo>
                  <a:lnTo>
                    <a:pt x="500" y="1082"/>
                  </a:lnTo>
                  <a:lnTo>
                    <a:pt x="497" y="1070"/>
                  </a:lnTo>
                  <a:lnTo>
                    <a:pt x="494" y="1060"/>
                  </a:lnTo>
                  <a:lnTo>
                    <a:pt x="492" y="1048"/>
                  </a:lnTo>
                  <a:lnTo>
                    <a:pt x="490" y="1036"/>
                  </a:lnTo>
                  <a:lnTo>
                    <a:pt x="488" y="1023"/>
                  </a:lnTo>
                  <a:lnTo>
                    <a:pt x="487" y="1010"/>
                  </a:lnTo>
                  <a:lnTo>
                    <a:pt x="486" y="998"/>
                  </a:lnTo>
                  <a:lnTo>
                    <a:pt x="485" y="984"/>
                  </a:lnTo>
                  <a:lnTo>
                    <a:pt x="485" y="970"/>
                  </a:lnTo>
                  <a:lnTo>
                    <a:pt x="485" y="916"/>
                  </a:lnTo>
                  <a:lnTo>
                    <a:pt x="486" y="894"/>
                  </a:lnTo>
                  <a:lnTo>
                    <a:pt x="486" y="885"/>
                  </a:lnTo>
                  <a:lnTo>
                    <a:pt x="487" y="876"/>
                  </a:lnTo>
                  <a:lnTo>
                    <a:pt x="488" y="868"/>
                  </a:lnTo>
                  <a:lnTo>
                    <a:pt x="488" y="859"/>
                  </a:lnTo>
                  <a:lnTo>
                    <a:pt x="491" y="838"/>
                  </a:lnTo>
                  <a:lnTo>
                    <a:pt x="493" y="812"/>
                  </a:lnTo>
                  <a:lnTo>
                    <a:pt x="496" y="783"/>
                  </a:lnTo>
                  <a:lnTo>
                    <a:pt x="513" y="658"/>
                  </a:lnTo>
                  <a:lnTo>
                    <a:pt x="486" y="687"/>
                  </a:lnTo>
                  <a:lnTo>
                    <a:pt x="458" y="717"/>
                  </a:lnTo>
                  <a:lnTo>
                    <a:pt x="429" y="743"/>
                  </a:lnTo>
                  <a:lnTo>
                    <a:pt x="398" y="767"/>
                  </a:lnTo>
                  <a:lnTo>
                    <a:pt x="382" y="779"/>
                  </a:lnTo>
                  <a:lnTo>
                    <a:pt x="366" y="788"/>
                  </a:lnTo>
                  <a:lnTo>
                    <a:pt x="350" y="797"/>
                  </a:lnTo>
                  <a:lnTo>
                    <a:pt x="333" y="803"/>
                  </a:lnTo>
                  <a:lnTo>
                    <a:pt x="315" y="809"/>
                  </a:lnTo>
                  <a:lnTo>
                    <a:pt x="298" y="812"/>
                  </a:lnTo>
                  <a:lnTo>
                    <a:pt x="279" y="816"/>
                  </a:lnTo>
                  <a:lnTo>
                    <a:pt x="260" y="816"/>
                  </a:lnTo>
                  <a:lnTo>
                    <a:pt x="243" y="814"/>
                  </a:lnTo>
                  <a:lnTo>
                    <a:pt x="227" y="812"/>
                  </a:lnTo>
                  <a:lnTo>
                    <a:pt x="212" y="807"/>
                  </a:lnTo>
                  <a:lnTo>
                    <a:pt x="198" y="798"/>
                  </a:lnTo>
                  <a:lnTo>
                    <a:pt x="185" y="790"/>
                  </a:lnTo>
                  <a:lnTo>
                    <a:pt x="179" y="784"/>
                  </a:lnTo>
                  <a:lnTo>
                    <a:pt x="174" y="777"/>
                  </a:lnTo>
                  <a:lnTo>
                    <a:pt x="168" y="771"/>
                  </a:lnTo>
                  <a:lnTo>
                    <a:pt x="163" y="764"/>
                  </a:lnTo>
                  <a:lnTo>
                    <a:pt x="158" y="757"/>
                  </a:lnTo>
                  <a:lnTo>
                    <a:pt x="154" y="748"/>
                  </a:lnTo>
                  <a:lnTo>
                    <a:pt x="149" y="739"/>
                  </a:lnTo>
                  <a:lnTo>
                    <a:pt x="145" y="731"/>
                  </a:lnTo>
                  <a:lnTo>
                    <a:pt x="142" y="722"/>
                  </a:lnTo>
                  <a:lnTo>
                    <a:pt x="138" y="712"/>
                  </a:lnTo>
                  <a:lnTo>
                    <a:pt x="136" y="701"/>
                  </a:lnTo>
                  <a:lnTo>
                    <a:pt x="132" y="691"/>
                  </a:lnTo>
                  <a:lnTo>
                    <a:pt x="130" y="680"/>
                  </a:lnTo>
                  <a:lnTo>
                    <a:pt x="127" y="668"/>
                  </a:lnTo>
                  <a:lnTo>
                    <a:pt x="126" y="656"/>
                  </a:lnTo>
                  <a:lnTo>
                    <a:pt x="124" y="644"/>
                  </a:lnTo>
                  <a:lnTo>
                    <a:pt x="121" y="618"/>
                  </a:lnTo>
                  <a:lnTo>
                    <a:pt x="120" y="590"/>
                  </a:lnTo>
                  <a:lnTo>
                    <a:pt x="119" y="561"/>
                  </a:lnTo>
                  <a:lnTo>
                    <a:pt x="119" y="544"/>
                  </a:lnTo>
                  <a:lnTo>
                    <a:pt x="120" y="528"/>
                  </a:lnTo>
                  <a:lnTo>
                    <a:pt x="121" y="509"/>
                  </a:lnTo>
                  <a:lnTo>
                    <a:pt x="122" y="492"/>
                  </a:lnTo>
                  <a:lnTo>
                    <a:pt x="124" y="471"/>
                  </a:lnTo>
                  <a:lnTo>
                    <a:pt x="127" y="452"/>
                  </a:lnTo>
                  <a:lnTo>
                    <a:pt x="129" y="431"/>
                  </a:lnTo>
                  <a:lnTo>
                    <a:pt x="132" y="410"/>
                  </a:lnTo>
                  <a:lnTo>
                    <a:pt x="138" y="369"/>
                  </a:lnTo>
                  <a:lnTo>
                    <a:pt x="142" y="336"/>
                  </a:lnTo>
                  <a:lnTo>
                    <a:pt x="143" y="320"/>
                  </a:lnTo>
                  <a:lnTo>
                    <a:pt x="144" y="306"/>
                  </a:lnTo>
                  <a:lnTo>
                    <a:pt x="145" y="29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1480" y="3197160"/>
              <a:ext cx="315720" cy="439920"/>
            </a:xfrm>
            <a:custGeom>
              <a:avLst/>
              <a:gdLst/>
              <a:ahLst/>
              <a:rect l="l" t="t" r="r" b="b"/>
              <a:pathLst>
                <a:path w="877" h="1221">
                  <a:moveTo>
                    <a:pt x="344" y="516"/>
                  </a:moveTo>
                  <a:lnTo>
                    <a:pt x="553" y="516"/>
                  </a:lnTo>
                  <a:lnTo>
                    <a:pt x="615" y="22"/>
                  </a:lnTo>
                  <a:lnTo>
                    <a:pt x="823" y="5"/>
                  </a:lnTo>
                  <a:lnTo>
                    <a:pt x="830" y="22"/>
                  </a:lnTo>
                  <a:lnTo>
                    <a:pt x="738" y="755"/>
                  </a:lnTo>
                  <a:lnTo>
                    <a:pt x="735" y="774"/>
                  </a:lnTo>
                  <a:lnTo>
                    <a:pt x="733" y="797"/>
                  </a:lnTo>
                  <a:lnTo>
                    <a:pt x="730" y="819"/>
                  </a:lnTo>
                  <a:lnTo>
                    <a:pt x="728" y="847"/>
                  </a:lnTo>
                  <a:lnTo>
                    <a:pt x="725" y="875"/>
                  </a:lnTo>
                  <a:lnTo>
                    <a:pt x="723" y="897"/>
                  </a:lnTo>
                  <a:lnTo>
                    <a:pt x="722" y="916"/>
                  </a:lnTo>
                  <a:lnTo>
                    <a:pt x="722" y="925"/>
                  </a:lnTo>
                  <a:lnTo>
                    <a:pt x="722" y="932"/>
                  </a:lnTo>
                  <a:lnTo>
                    <a:pt x="722" y="949"/>
                  </a:lnTo>
                  <a:lnTo>
                    <a:pt x="723" y="965"/>
                  </a:lnTo>
                  <a:lnTo>
                    <a:pt x="724" y="979"/>
                  </a:lnTo>
                  <a:lnTo>
                    <a:pt x="725" y="984"/>
                  </a:lnTo>
                  <a:lnTo>
                    <a:pt x="726" y="991"/>
                  </a:lnTo>
                  <a:lnTo>
                    <a:pt x="727" y="996"/>
                  </a:lnTo>
                  <a:lnTo>
                    <a:pt x="728" y="1001"/>
                  </a:lnTo>
                  <a:lnTo>
                    <a:pt x="729" y="1006"/>
                  </a:lnTo>
                  <a:lnTo>
                    <a:pt x="731" y="1012"/>
                  </a:lnTo>
                  <a:lnTo>
                    <a:pt x="732" y="1017"/>
                  </a:lnTo>
                  <a:lnTo>
                    <a:pt x="734" y="1020"/>
                  </a:lnTo>
                  <a:lnTo>
                    <a:pt x="736" y="1024"/>
                  </a:lnTo>
                  <a:lnTo>
                    <a:pt x="738" y="1027"/>
                  </a:lnTo>
                  <a:lnTo>
                    <a:pt x="740" y="1031"/>
                  </a:lnTo>
                  <a:lnTo>
                    <a:pt x="742" y="1032"/>
                  </a:lnTo>
                  <a:lnTo>
                    <a:pt x="745" y="1036"/>
                  </a:lnTo>
                  <a:lnTo>
                    <a:pt x="748" y="1038"/>
                  </a:lnTo>
                  <a:lnTo>
                    <a:pt x="754" y="1041"/>
                  </a:lnTo>
                  <a:lnTo>
                    <a:pt x="761" y="1045"/>
                  </a:lnTo>
                  <a:lnTo>
                    <a:pt x="768" y="1048"/>
                  </a:lnTo>
                  <a:lnTo>
                    <a:pt x="777" y="1050"/>
                  </a:lnTo>
                  <a:lnTo>
                    <a:pt x="785" y="1051"/>
                  </a:lnTo>
                  <a:lnTo>
                    <a:pt x="795" y="1051"/>
                  </a:lnTo>
                  <a:lnTo>
                    <a:pt x="801" y="1051"/>
                  </a:lnTo>
                  <a:lnTo>
                    <a:pt x="806" y="1051"/>
                  </a:lnTo>
                  <a:lnTo>
                    <a:pt x="812" y="1050"/>
                  </a:lnTo>
                  <a:lnTo>
                    <a:pt x="817" y="1048"/>
                  </a:lnTo>
                  <a:lnTo>
                    <a:pt x="828" y="1045"/>
                  </a:lnTo>
                  <a:lnTo>
                    <a:pt x="840" y="1039"/>
                  </a:lnTo>
                  <a:lnTo>
                    <a:pt x="861" y="1027"/>
                  </a:lnTo>
                  <a:lnTo>
                    <a:pt x="869" y="1022"/>
                  </a:lnTo>
                  <a:lnTo>
                    <a:pt x="872" y="1020"/>
                  </a:lnTo>
                  <a:lnTo>
                    <a:pt x="876" y="1017"/>
                  </a:lnTo>
                  <a:lnTo>
                    <a:pt x="861" y="1124"/>
                  </a:lnTo>
                  <a:lnTo>
                    <a:pt x="759" y="1195"/>
                  </a:lnTo>
                  <a:lnTo>
                    <a:pt x="749" y="1200"/>
                  </a:lnTo>
                  <a:lnTo>
                    <a:pt x="739" y="1206"/>
                  </a:lnTo>
                  <a:lnTo>
                    <a:pt x="729" y="1209"/>
                  </a:lnTo>
                  <a:lnTo>
                    <a:pt x="718" y="1213"/>
                  </a:lnTo>
                  <a:lnTo>
                    <a:pt x="706" y="1216"/>
                  </a:lnTo>
                  <a:lnTo>
                    <a:pt x="694" y="1218"/>
                  </a:lnTo>
                  <a:lnTo>
                    <a:pt x="682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6"/>
                  </a:lnTo>
                  <a:lnTo>
                    <a:pt x="620" y="1211"/>
                  </a:lnTo>
                  <a:lnTo>
                    <a:pt x="605" y="1202"/>
                  </a:lnTo>
                  <a:lnTo>
                    <a:pt x="591" y="1194"/>
                  </a:lnTo>
                  <a:lnTo>
                    <a:pt x="578" y="1181"/>
                  </a:lnTo>
                  <a:lnTo>
                    <a:pt x="565" y="1168"/>
                  </a:lnTo>
                  <a:lnTo>
                    <a:pt x="553" y="1152"/>
                  </a:lnTo>
                  <a:lnTo>
                    <a:pt x="547" y="1143"/>
                  </a:lnTo>
                  <a:lnTo>
                    <a:pt x="542" y="1135"/>
                  </a:lnTo>
                  <a:lnTo>
                    <a:pt x="537" y="1124"/>
                  </a:lnTo>
                  <a:lnTo>
                    <a:pt x="533" y="1116"/>
                  </a:lnTo>
                  <a:lnTo>
                    <a:pt x="529" y="1105"/>
                  </a:lnTo>
                  <a:lnTo>
                    <a:pt x="525" y="1095"/>
                  </a:lnTo>
                  <a:lnTo>
                    <a:pt x="521" y="1084"/>
                  </a:lnTo>
                  <a:lnTo>
                    <a:pt x="519" y="1072"/>
                  </a:lnTo>
                  <a:lnTo>
                    <a:pt x="515" y="1062"/>
                  </a:lnTo>
                  <a:lnTo>
                    <a:pt x="514" y="1050"/>
                  </a:lnTo>
                  <a:lnTo>
                    <a:pt x="511" y="1038"/>
                  </a:lnTo>
                  <a:lnTo>
                    <a:pt x="509" y="1025"/>
                  </a:lnTo>
                  <a:lnTo>
                    <a:pt x="508" y="1012"/>
                  </a:lnTo>
                  <a:lnTo>
                    <a:pt x="508" y="1000"/>
                  </a:lnTo>
                  <a:lnTo>
                    <a:pt x="507" y="986"/>
                  </a:lnTo>
                  <a:lnTo>
                    <a:pt x="507" y="972"/>
                  </a:lnTo>
                  <a:lnTo>
                    <a:pt x="507" y="942"/>
                  </a:lnTo>
                  <a:lnTo>
                    <a:pt x="508" y="918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8"/>
                  </a:lnTo>
                  <a:lnTo>
                    <a:pt x="510" y="870"/>
                  </a:lnTo>
                  <a:lnTo>
                    <a:pt x="510" y="861"/>
                  </a:lnTo>
                  <a:lnTo>
                    <a:pt x="513" y="840"/>
                  </a:lnTo>
                  <a:lnTo>
                    <a:pt x="515" y="814"/>
                  </a:lnTo>
                  <a:lnTo>
                    <a:pt x="519" y="785"/>
                  </a:lnTo>
                  <a:lnTo>
                    <a:pt x="538" y="630"/>
                  </a:lnTo>
                  <a:lnTo>
                    <a:pt x="330" y="630"/>
                  </a:lnTo>
                  <a:lnTo>
                    <a:pt x="258" y="1199"/>
                  </a:lnTo>
                  <a:lnTo>
                    <a:pt x="43" y="1199"/>
                  </a:lnTo>
                  <a:lnTo>
                    <a:pt x="135" y="464"/>
                  </a:lnTo>
                  <a:lnTo>
                    <a:pt x="145" y="378"/>
                  </a:lnTo>
                  <a:lnTo>
                    <a:pt x="148" y="352"/>
                  </a:lnTo>
                  <a:lnTo>
                    <a:pt x="149" y="327"/>
                  </a:lnTo>
                  <a:lnTo>
                    <a:pt x="151" y="307"/>
                  </a:lnTo>
                  <a:lnTo>
                    <a:pt x="151" y="296"/>
                  </a:lnTo>
                  <a:lnTo>
                    <a:pt x="151" y="287"/>
                  </a:lnTo>
                  <a:lnTo>
                    <a:pt x="151" y="272"/>
                  </a:lnTo>
                  <a:lnTo>
                    <a:pt x="150" y="256"/>
                  </a:lnTo>
                  <a:lnTo>
                    <a:pt x="149" y="242"/>
                  </a:lnTo>
                  <a:lnTo>
                    <a:pt x="148" y="230"/>
                  </a:lnTo>
                  <a:lnTo>
                    <a:pt x="146" y="225"/>
                  </a:lnTo>
                  <a:lnTo>
                    <a:pt x="145" y="220"/>
                  </a:lnTo>
                  <a:lnTo>
                    <a:pt x="144" y="215"/>
                  </a:lnTo>
                  <a:lnTo>
                    <a:pt x="143" y="210"/>
                  </a:lnTo>
                  <a:lnTo>
                    <a:pt x="141" y="204"/>
                  </a:lnTo>
                  <a:lnTo>
                    <a:pt x="139" y="201"/>
                  </a:lnTo>
                  <a:lnTo>
                    <a:pt x="138" y="197"/>
                  </a:lnTo>
                  <a:lnTo>
                    <a:pt x="136" y="194"/>
                  </a:lnTo>
                  <a:lnTo>
                    <a:pt x="134" y="190"/>
                  </a:lnTo>
                  <a:lnTo>
                    <a:pt x="132" y="187"/>
                  </a:lnTo>
                  <a:lnTo>
                    <a:pt x="129" y="185"/>
                  </a:lnTo>
                  <a:lnTo>
                    <a:pt x="127" y="182"/>
                  </a:lnTo>
                  <a:lnTo>
                    <a:pt x="124" y="180"/>
                  </a:lnTo>
                  <a:lnTo>
                    <a:pt x="121" y="178"/>
                  </a:lnTo>
                  <a:lnTo>
                    <a:pt x="115" y="175"/>
                  </a:lnTo>
                  <a:lnTo>
                    <a:pt x="107" y="171"/>
                  </a:lnTo>
                  <a:lnTo>
                    <a:pt x="100" y="170"/>
                  </a:lnTo>
                  <a:lnTo>
                    <a:pt x="90" y="168"/>
                  </a:lnTo>
                  <a:lnTo>
                    <a:pt x="81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60" y="171"/>
                  </a:lnTo>
                  <a:lnTo>
                    <a:pt x="54" y="173"/>
                  </a:lnTo>
                  <a:lnTo>
                    <a:pt x="49" y="175"/>
                  </a:lnTo>
                  <a:lnTo>
                    <a:pt x="43" y="177"/>
                  </a:lnTo>
                  <a:lnTo>
                    <a:pt x="38" y="180"/>
                  </a:lnTo>
                  <a:lnTo>
                    <a:pt x="28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116" y="28"/>
                  </a:lnTo>
                  <a:lnTo>
                    <a:pt x="127" y="21"/>
                  </a:lnTo>
                  <a:lnTo>
                    <a:pt x="139" y="15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4" y="3"/>
                  </a:lnTo>
                  <a:lnTo>
                    <a:pt x="185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6" y="2"/>
                  </a:lnTo>
                  <a:lnTo>
                    <a:pt x="243" y="5"/>
                  </a:lnTo>
                  <a:lnTo>
                    <a:pt x="260" y="10"/>
                  </a:lnTo>
                  <a:lnTo>
                    <a:pt x="276" y="17"/>
                  </a:lnTo>
                  <a:lnTo>
                    <a:pt x="291" y="28"/>
                  </a:lnTo>
                  <a:lnTo>
                    <a:pt x="298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2" y="62"/>
                  </a:lnTo>
                  <a:lnTo>
                    <a:pt x="327" y="71"/>
                  </a:lnTo>
                  <a:lnTo>
                    <a:pt x="337" y="90"/>
                  </a:lnTo>
                  <a:lnTo>
                    <a:pt x="344" y="109"/>
                  </a:lnTo>
                  <a:lnTo>
                    <a:pt x="348" y="119"/>
                  </a:lnTo>
                  <a:lnTo>
                    <a:pt x="351" y="130"/>
                  </a:lnTo>
                  <a:lnTo>
                    <a:pt x="354" y="140"/>
                  </a:lnTo>
                  <a:lnTo>
                    <a:pt x="357" y="152"/>
                  </a:lnTo>
                  <a:lnTo>
                    <a:pt x="359" y="163"/>
                  </a:lnTo>
                  <a:lnTo>
                    <a:pt x="361" y="175"/>
                  </a:lnTo>
                  <a:lnTo>
                    <a:pt x="363" y="187"/>
                  </a:lnTo>
                  <a:lnTo>
                    <a:pt x="365" y="199"/>
                  </a:lnTo>
                  <a:lnTo>
                    <a:pt x="365" y="211"/>
                  </a:lnTo>
                  <a:lnTo>
                    <a:pt x="366" y="223"/>
                  </a:lnTo>
                  <a:lnTo>
                    <a:pt x="367" y="235"/>
                  </a:lnTo>
                  <a:lnTo>
                    <a:pt x="367" y="249"/>
                  </a:lnTo>
                  <a:lnTo>
                    <a:pt x="367" y="270"/>
                  </a:lnTo>
                  <a:lnTo>
                    <a:pt x="366" y="293"/>
                  </a:lnTo>
                  <a:lnTo>
                    <a:pt x="365" y="313"/>
                  </a:lnTo>
                  <a:lnTo>
                    <a:pt x="365" y="334"/>
                  </a:lnTo>
                  <a:lnTo>
                    <a:pt x="363" y="357"/>
                  </a:lnTo>
                  <a:lnTo>
                    <a:pt x="361" y="381"/>
                  </a:lnTo>
                  <a:lnTo>
                    <a:pt x="358" y="407"/>
                  </a:lnTo>
                  <a:lnTo>
                    <a:pt x="354" y="4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49920" y="319248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79" y="1157"/>
                  </a:lnTo>
                  <a:lnTo>
                    <a:pt x="366" y="1173"/>
                  </a:lnTo>
                  <a:lnTo>
                    <a:pt x="351" y="1186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6" y="1233"/>
                  </a:lnTo>
                  <a:lnTo>
                    <a:pt x="279" y="1238"/>
                  </a:lnTo>
                  <a:lnTo>
                    <a:pt x="270" y="1240"/>
                  </a:lnTo>
                  <a:lnTo>
                    <a:pt x="262" y="1244"/>
                  </a:lnTo>
                  <a:lnTo>
                    <a:pt x="253" y="1245"/>
                  </a:lnTo>
                  <a:lnTo>
                    <a:pt x="245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4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8" y="1199"/>
                  </a:lnTo>
                  <a:lnTo>
                    <a:pt x="98" y="1188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5" y="980"/>
                  </a:lnTo>
                  <a:lnTo>
                    <a:pt x="8" y="937"/>
                  </a:lnTo>
                  <a:lnTo>
                    <a:pt x="4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4" y="670"/>
                  </a:lnTo>
                  <a:lnTo>
                    <a:pt x="9" y="632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19"/>
                  </a:lnTo>
                  <a:lnTo>
                    <a:pt x="32" y="483"/>
                  </a:lnTo>
                  <a:lnTo>
                    <a:pt x="41" y="448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89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8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1" y="48"/>
                  </a:lnTo>
                  <a:lnTo>
                    <a:pt x="279" y="34"/>
                  </a:lnTo>
                  <a:lnTo>
                    <a:pt x="297" y="24"/>
                  </a:lnTo>
                  <a:lnTo>
                    <a:pt x="317" y="15"/>
                  </a:lnTo>
                  <a:lnTo>
                    <a:pt x="335" y="8"/>
                  </a:lnTo>
                  <a:lnTo>
                    <a:pt x="355" y="3"/>
                  </a:lnTo>
                  <a:lnTo>
                    <a:pt x="375" y="1"/>
                  </a:lnTo>
                  <a:lnTo>
                    <a:pt x="395" y="0"/>
                  </a:lnTo>
                  <a:lnTo>
                    <a:pt x="423" y="1"/>
                  </a:lnTo>
                  <a:lnTo>
                    <a:pt x="450" y="7"/>
                  </a:lnTo>
                  <a:lnTo>
                    <a:pt x="462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7" y="47"/>
                  </a:lnTo>
                  <a:lnTo>
                    <a:pt x="536" y="53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8" y="93"/>
                  </a:lnTo>
                  <a:lnTo>
                    <a:pt x="768" y="17"/>
                  </a:lnTo>
                  <a:lnTo>
                    <a:pt x="776" y="36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2"/>
                  </a:lnTo>
                  <a:lnTo>
                    <a:pt x="671" y="863"/>
                  </a:lnTo>
                  <a:lnTo>
                    <a:pt x="668" y="888"/>
                  </a:lnTo>
                  <a:lnTo>
                    <a:pt x="666" y="913"/>
                  </a:lnTo>
                  <a:lnTo>
                    <a:pt x="665" y="932"/>
                  </a:lnTo>
                  <a:lnTo>
                    <a:pt x="665" y="940"/>
                  </a:lnTo>
                  <a:lnTo>
                    <a:pt x="665" y="947"/>
                  </a:lnTo>
                  <a:lnTo>
                    <a:pt x="665" y="963"/>
                  </a:lnTo>
                  <a:lnTo>
                    <a:pt x="666" y="979"/>
                  </a:lnTo>
                  <a:lnTo>
                    <a:pt x="667" y="992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2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6" y="1031"/>
                  </a:lnTo>
                  <a:lnTo>
                    <a:pt x="677" y="1034"/>
                  </a:lnTo>
                  <a:lnTo>
                    <a:pt x="680" y="1037"/>
                  </a:lnTo>
                  <a:lnTo>
                    <a:pt x="682" y="1041"/>
                  </a:lnTo>
                  <a:lnTo>
                    <a:pt x="684" y="1044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3"/>
                  </a:lnTo>
                  <a:lnTo>
                    <a:pt x="698" y="1057"/>
                  </a:lnTo>
                  <a:lnTo>
                    <a:pt x="705" y="1060"/>
                  </a:lnTo>
                  <a:lnTo>
                    <a:pt x="712" y="1063"/>
                  </a:lnTo>
                  <a:lnTo>
                    <a:pt x="721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60" y="1063"/>
                  </a:lnTo>
                  <a:lnTo>
                    <a:pt x="771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2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3" y="1221"/>
                  </a:lnTo>
                  <a:lnTo>
                    <a:pt x="672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8" y="1233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7" y="1228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7" y="1199"/>
                  </a:lnTo>
                  <a:lnTo>
                    <a:pt x="506" y="1186"/>
                  </a:lnTo>
                  <a:lnTo>
                    <a:pt x="497" y="1174"/>
                  </a:lnTo>
                  <a:lnTo>
                    <a:pt x="488" y="1160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5"/>
                  </a:lnTo>
                  <a:lnTo>
                    <a:pt x="461" y="1098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2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7" y="202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5" y="131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4" y="119"/>
                  </a:lnTo>
                  <a:lnTo>
                    <a:pt x="423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3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5" y="176"/>
                  </a:lnTo>
                  <a:lnTo>
                    <a:pt x="346" y="190"/>
                  </a:lnTo>
                  <a:lnTo>
                    <a:pt x="338" y="206"/>
                  </a:lnTo>
                  <a:lnTo>
                    <a:pt x="329" y="223"/>
                  </a:lnTo>
                  <a:lnTo>
                    <a:pt x="321" y="242"/>
                  </a:lnTo>
                  <a:lnTo>
                    <a:pt x="313" y="261"/>
                  </a:lnTo>
                  <a:lnTo>
                    <a:pt x="306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0"/>
                  </a:lnTo>
                  <a:lnTo>
                    <a:pt x="236" y="876"/>
                  </a:lnTo>
                  <a:lnTo>
                    <a:pt x="238" y="902"/>
                  </a:lnTo>
                  <a:lnTo>
                    <a:pt x="240" y="914"/>
                  </a:lnTo>
                  <a:lnTo>
                    <a:pt x="241" y="927"/>
                  </a:lnTo>
                  <a:lnTo>
                    <a:pt x="242" y="939"/>
                  </a:lnTo>
                  <a:lnTo>
                    <a:pt x="245" y="949"/>
                  </a:lnTo>
                  <a:lnTo>
                    <a:pt x="247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7"/>
                  </a:lnTo>
                  <a:lnTo>
                    <a:pt x="257" y="996"/>
                  </a:lnTo>
                  <a:lnTo>
                    <a:pt x="260" y="1006"/>
                  </a:lnTo>
                  <a:lnTo>
                    <a:pt x="263" y="1013"/>
                  </a:lnTo>
                  <a:lnTo>
                    <a:pt x="268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4"/>
                  </a:lnTo>
                  <a:lnTo>
                    <a:pt x="291" y="1050"/>
                  </a:lnTo>
                  <a:lnTo>
                    <a:pt x="296" y="1053"/>
                  </a:lnTo>
                  <a:lnTo>
                    <a:pt x="302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3"/>
                  </a:lnTo>
                  <a:lnTo>
                    <a:pt x="328" y="1065"/>
                  </a:lnTo>
                  <a:lnTo>
                    <a:pt x="335" y="1065"/>
                  </a:lnTo>
                  <a:lnTo>
                    <a:pt x="342" y="1065"/>
                  </a:lnTo>
                  <a:lnTo>
                    <a:pt x="350" y="1063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2" y="1053"/>
                  </a:lnTo>
                  <a:lnTo>
                    <a:pt x="379" y="1046"/>
                  </a:lnTo>
                  <a:lnTo>
                    <a:pt x="386" y="1041"/>
                  </a:lnTo>
                  <a:lnTo>
                    <a:pt x="393" y="1032"/>
                  </a:lnTo>
                  <a:lnTo>
                    <a:pt x="407" y="1015"/>
                  </a:lnTo>
                  <a:lnTo>
                    <a:pt x="420" y="996"/>
                  </a:lnTo>
                  <a:lnTo>
                    <a:pt x="433" y="975"/>
                  </a:lnTo>
                  <a:lnTo>
                    <a:pt x="440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24320" y="3192480"/>
              <a:ext cx="239760" cy="449280"/>
            </a:xfrm>
            <a:custGeom>
              <a:avLst/>
              <a:gdLst/>
              <a:ahLst/>
              <a:rect l="l" t="t" r="r" b="b"/>
              <a:pathLst>
                <a:path w="666" h="1250">
                  <a:moveTo>
                    <a:pt x="665" y="504"/>
                  </a:moveTo>
                  <a:lnTo>
                    <a:pt x="664" y="539"/>
                  </a:lnTo>
                  <a:lnTo>
                    <a:pt x="663" y="573"/>
                  </a:lnTo>
                  <a:lnTo>
                    <a:pt x="661" y="608"/>
                  </a:lnTo>
                  <a:lnTo>
                    <a:pt x="658" y="643"/>
                  </a:lnTo>
                  <a:lnTo>
                    <a:pt x="654" y="677"/>
                  </a:lnTo>
                  <a:lnTo>
                    <a:pt x="649" y="712"/>
                  </a:lnTo>
                  <a:lnTo>
                    <a:pt x="643" y="745"/>
                  </a:lnTo>
                  <a:lnTo>
                    <a:pt x="636" y="780"/>
                  </a:lnTo>
                  <a:lnTo>
                    <a:pt x="628" y="814"/>
                  </a:lnTo>
                  <a:lnTo>
                    <a:pt x="620" y="845"/>
                  </a:lnTo>
                  <a:lnTo>
                    <a:pt x="611" y="878"/>
                  </a:lnTo>
                  <a:lnTo>
                    <a:pt x="601" y="908"/>
                  </a:lnTo>
                  <a:lnTo>
                    <a:pt x="590" y="937"/>
                  </a:lnTo>
                  <a:lnTo>
                    <a:pt x="578" y="967"/>
                  </a:lnTo>
                  <a:lnTo>
                    <a:pt x="565" y="994"/>
                  </a:lnTo>
                  <a:lnTo>
                    <a:pt x="551" y="1020"/>
                  </a:lnTo>
                  <a:lnTo>
                    <a:pt x="537" y="1046"/>
                  </a:lnTo>
                  <a:lnTo>
                    <a:pt x="521" y="1071"/>
                  </a:lnTo>
                  <a:lnTo>
                    <a:pt x="505" y="1095"/>
                  </a:lnTo>
                  <a:lnTo>
                    <a:pt x="488" y="1116"/>
                  </a:lnTo>
                  <a:lnTo>
                    <a:pt x="470" y="1137"/>
                  </a:lnTo>
                  <a:lnTo>
                    <a:pt x="452" y="1156"/>
                  </a:lnTo>
                  <a:lnTo>
                    <a:pt x="433" y="1173"/>
                  </a:lnTo>
                  <a:lnTo>
                    <a:pt x="413" y="1188"/>
                  </a:lnTo>
                  <a:lnTo>
                    <a:pt x="393" y="1202"/>
                  </a:lnTo>
                  <a:lnTo>
                    <a:pt x="372" y="1214"/>
                  </a:lnTo>
                  <a:lnTo>
                    <a:pt x="351" y="1225"/>
                  </a:lnTo>
                  <a:lnTo>
                    <a:pt x="329" y="1234"/>
                  </a:lnTo>
                  <a:lnTo>
                    <a:pt x="306" y="1240"/>
                  </a:lnTo>
                  <a:lnTo>
                    <a:pt x="282" y="1246"/>
                  </a:lnTo>
                  <a:lnTo>
                    <a:pt x="259" y="1247"/>
                  </a:lnTo>
                  <a:lnTo>
                    <a:pt x="234" y="1249"/>
                  </a:lnTo>
                  <a:lnTo>
                    <a:pt x="206" y="1247"/>
                  </a:lnTo>
                  <a:lnTo>
                    <a:pt x="180" y="1244"/>
                  </a:lnTo>
                  <a:lnTo>
                    <a:pt x="156" y="1239"/>
                  </a:lnTo>
                  <a:lnTo>
                    <a:pt x="133" y="1230"/>
                  </a:lnTo>
                  <a:lnTo>
                    <a:pt x="112" y="1220"/>
                  </a:lnTo>
                  <a:lnTo>
                    <a:pt x="93" y="1206"/>
                  </a:lnTo>
                  <a:lnTo>
                    <a:pt x="76" y="1190"/>
                  </a:lnTo>
                  <a:lnTo>
                    <a:pt x="67" y="1182"/>
                  </a:lnTo>
                  <a:lnTo>
                    <a:pt x="60" y="1173"/>
                  </a:lnTo>
                  <a:lnTo>
                    <a:pt x="52" y="1162"/>
                  </a:lnTo>
                  <a:lnTo>
                    <a:pt x="45" y="1154"/>
                  </a:lnTo>
                  <a:lnTo>
                    <a:pt x="39" y="1143"/>
                  </a:lnTo>
                  <a:lnTo>
                    <a:pt x="33" y="1131"/>
                  </a:lnTo>
                  <a:lnTo>
                    <a:pt x="28" y="1121"/>
                  </a:lnTo>
                  <a:lnTo>
                    <a:pt x="23" y="1109"/>
                  </a:lnTo>
                  <a:lnTo>
                    <a:pt x="19" y="1097"/>
                  </a:lnTo>
                  <a:lnTo>
                    <a:pt x="15" y="1085"/>
                  </a:lnTo>
                  <a:lnTo>
                    <a:pt x="11" y="1072"/>
                  </a:lnTo>
                  <a:lnTo>
                    <a:pt x="9" y="1059"/>
                  </a:lnTo>
                  <a:lnTo>
                    <a:pt x="6" y="1046"/>
                  </a:lnTo>
                  <a:lnTo>
                    <a:pt x="4" y="1033"/>
                  </a:lnTo>
                  <a:lnTo>
                    <a:pt x="2" y="1019"/>
                  </a:lnTo>
                  <a:lnTo>
                    <a:pt x="1" y="1003"/>
                  </a:lnTo>
                  <a:lnTo>
                    <a:pt x="0" y="989"/>
                  </a:lnTo>
                  <a:lnTo>
                    <a:pt x="0" y="974"/>
                  </a:lnTo>
                  <a:lnTo>
                    <a:pt x="0" y="965"/>
                  </a:lnTo>
                  <a:lnTo>
                    <a:pt x="0" y="956"/>
                  </a:lnTo>
                  <a:lnTo>
                    <a:pt x="1" y="946"/>
                  </a:lnTo>
                  <a:lnTo>
                    <a:pt x="2" y="937"/>
                  </a:lnTo>
                  <a:lnTo>
                    <a:pt x="3" y="929"/>
                  </a:lnTo>
                  <a:lnTo>
                    <a:pt x="4" y="920"/>
                  </a:lnTo>
                  <a:lnTo>
                    <a:pt x="5" y="910"/>
                  </a:lnTo>
                  <a:lnTo>
                    <a:pt x="6" y="901"/>
                  </a:lnTo>
                  <a:lnTo>
                    <a:pt x="8" y="892"/>
                  </a:lnTo>
                  <a:lnTo>
                    <a:pt x="10" y="884"/>
                  </a:lnTo>
                  <a:lnTo>
                    <a:pt x="11" y="875"/>
                  </a:lnTo>
                  <a:lnTo>
                    <a:pt x="13" y="866"/>
                  </a:lnTo>
                  <a:lnTo>
                    <a:pt x="16" y="858"/>
                  </a:lnTo>
                  <a:lnTo>
                    <a:pt x="18" y="849"/>
                  </a:lnTo>
                  <a:lnTo>
                    <a:pt x="21" y="840"/>
                  </a:lnTo>
                  <a:lnTo>
                    <a:pt x="25" y="832"/>
                  </a:lnTo>
                  <a:lnTo>
                    <a:pt x="28" y="825"/>
                  </a:lnTo>
                  <a:lnTo>
                    <a:pt x="32" y="816"/>
                  </a:lnTo>
                  <a:lnTo>
                    <a:pt x="36" y="809"/>
                  </a:lnTo>
                  <a:lnTo>
                    <a:pt x="40" y="804"/>
                  </a:lnTo>
                  <a:lnTo>
                    <a:pt x="44" y="797"/>
                  </a:lnTo>
                  <a:lnTo>
                    <a:pt x="49" y="790"/>
                  </a:lnTo>
                  <a:lnTo>
                    <a:pt x="54" y="785"/>
                  </a:lnTo>
                  <a:lnTo>
                    <a:pt x="60" y="780"/>
                  </a:lnTo>
                  <a:lnTo>
                    <a:pt x="65" y="776"/>
                  </a:lnTo>
                  <a:lnTo>
                    <a:pt x="71" y="771"/>
                  </a:lnTo>
                  <a:lnTo>
                    <a:pt x="77" y="767"/>
                  </a:lnTo>
                  <a:lnTo>
                    <a:pt x="84" y="766"/>
                  </a:lnTo>
                  <a:lnTo>
                    <a:pt x="90" y="764"/>
                  </a:lnTo>
                  <a:lnTo>
                    <a:pt x="97" y="762"/>
                  </a:lnTo>
                  <a:lnTo>
                    <a:pt x="104" y="761"/>
                  </a:lnTo>
                  <a:lnTo>
                    <a:pt x="111" y="761"/>
                  </a:lnTo>
                  <a:lnTo>
                    <a:pt x="121" y="761"/>
                  </a:lnTo>
                  <a:lnTo>
                    <a:pt x="131" y="762"/>
                  </a:lnTo>
                  <a:lnTo>
                    <a:pt x="140" y="766"/>
                  </a:lnTo>
                  <a:lnTo>
                    <a:pt x="148" y="771"/>
                  </a:lnTo>
                  <a:lnTo>
                    <a:pt x="157" y="776"/>
                  </a:lnTo>
                  <a:lnTo>
                    <a:pt x="165" y="783"/>
                  </a:lnTo>
                  <a:lnTo>
                    <a:pt x="173" y="792"/>
                  </a:lnTo>
                  <a:lnTo>
                    <a:pt x="180" y="800"/>
                  </a:lnTo>
                  <a:lnTo>
                    <a:pt x="187" y="811"/>
                  </a:lnTo>
                  <a:lnTo>
                    <a:pt x="192" y="823"/>
                  </a:lnTo>
                  <a:lnTo>
                    <a:pt x="194" y="828"/>
                  </a:lnTo>
                  <a:lnTo>
                    <a:pt x="197" y="833"/>
                  </a:lnTo>
                  <a:lnTo>
                    <a:pt x="199" y="840"/>
                  </a:lnTo>
                  <a:lnTo>
                    <a:pt x="201" y="845"/>
                  </a:lnTo>
                  <a:lnTo>
                    <a:pt x="203" y="852"/>
                  </a:lnTo>
                  <a:lnTo>
                    <a:pt x="203" y="859"/>
                  </a:lnTo>
                  <a:lnTo>
                    <a:pt x="205" y="865"/>
                  </a:lnTo>
                  <a:lnTo>
                    <a:pt x="206" y="871"/>
                  </a:lnTo>
                  <a:lnTo>
                    <a:pt x="207" y="878"/>
                  </a:lnTo>
                  <a:lnTo>
                    <a:pt x="207" y="885"/>
                  </a:lnTo>
                  <a:lnTo>
                    <a:pt x="208" y="892"/>
                  </a:lnTo>
                  <a:lnTo>
                    <a:pt x="208" y="899"/>
                  </a:lnTo>
                  <a:lnTo>
                    <a:pt x="208" y="915"/>
                  </a:lnTo>
                  <a:lnTo>
                    <a:pt x="207" y="930"/>
                  </a:lnTo>
                  <a:lnTo>
                    <a:pt x="206" y="944"/>
                  </a:lnTo>
                  <a:lnTo>
                    <a:pt x="205" y="960"/>
                  </a:lnTo>
                  <a:lnTo>
                    <a:pt x="203" y="972"/>
                  </a:lnTo>
                  <a:lnTo>
                    <a:pt x="202" y="986"/>
                  </a:lnTo>
                  <a:lnTo>
                    <a:pt x="199" y="998"/>
                  </a:lnTo>
                  <a:lnTo>
                    <a:pt x="197" y="1010"/>
                  </a:lnTo>
                  <a:lnTo>
                    <a:pt x="193" y="1020"/>
                  </a:lnTo>
                  <a:lnTo>
                    <a:pt x="191" y="1033"/>
                  </a:lnTo>
                  <a:lnTo>
                    <a:pt x="187" y="1045"/>
                  </a:lnTo>
                  <a:lnTo>
                    <a:pt x="183" y="1055"/>
                  </a:lnTo>
                  <a:lnTo>
                    <a:pt x="174" y="1079"/>
                  </a:lnTo>
                  <a:lnTo>
                    <a:pt x="164" y="1104"/>
                  </a:lnTo>
                  <a:lnTo>
                    <a:pt x="165" y="1105"/>
                  </a:lnTo>
                  <a:lnTo>
                    <a:pt x="165" y="1107"/>
                  </a:lnTo>
                  <a:lnTo>
                    <a:pt x="167" y="1111"/>
                  </a:lnTo>
                  <a:lnTo>
                    <a:pt x="170" y="1114"/>
                  </a:lnTo>
                  <a:lnTo>
                    <a:pt x="172" y="1117"/>
                  </a:lnTo>
                  <a:lnTo>
                    <a:pt x="179" y="1126"/>
                  </a:lnTo>
                  <a:lnTo>
                    <a:pt x="187" y="1137"/>
                  </a:lnTo>
                  <a:lnTo>
                    <a:pt x="189" y="1138"/>
                  </a:lnTo>
                  <a:lnTo>
                    <a:pt x="192" y="1140"/>
                  </a:lnTo>
                  <a:lnTo>
                    <a:pt x="197" y="1145"/>
                  </a:lnTo>
                  <a:lnTo>
                    <a:pt x="203" y="1149"/>
                  </a:lnTo>
                  <a:lnTo>
                    <a:pt x="210" y="1150"/>
                  </a:lnTo>
                  <a:lnTo>
                    <a:pt x="219" y="1152"/>
                  </a:lnTo>
                  <a:lnTo>
                    <a:pt x="227" y="1154"/>
                  </a:lnTo>
                  <a:lnTo>
                    <a:pt x="237" y="1156"/>
                  </a:lnTo>
                  <a:lnTo>
                    <a:pt x="247" y="1156"/>
                  </a:lnTo>
                  <a:lnTo>
                    <a:pt x="255" y="1156"/>
                  </a:lnTo>
                  <a:lnTo>
                    <a:pt x="264" y="1154"/>
                  </a:lnTo>
                  <a:lnTo>
                    <a:pt x="271" y="1150"/>
                  </a:lnTo>
                  <a:lnTo>
                    <a:pt x="280" y="1147"/>
                  </a:lnTo>
                  <a:lnTo>
                    <a:pt x="287" y="1143"/>
                  </a:lnTo>
                  <a:lnTo>
                    <a:pt x="296" y="1138"/>
                  </a:lnTo>
                  <a:lnTo>
                    <a:pt x="303" y="1131"/>
                  </a:lnTo>
                  <a:lnTo>
                    <a:pt x="311" y="1124"/>
                  </a:lnTo>
                  <a:lnTo>
                    <a:pt x="319" y="1116"/>
                  </a:lnTo>
                  <a:lnTo>
                    <a:pt x="326" y="1107"/>
                  </a:lnTo>
                  <a:lnTo>
                    <a:pt x="341" y="1085"/>
                  </a:lnTo>
                  <a:lnTo>
                    <a:pt x="355" y="1059"/>
                  </a:lnTo>
                  <a:lnTo>
                    <a:pt x="369" y="1029"/>
                  </a:lnTo>
                  <a:lnTo>
                    <a:pt x="381" y="996"/>
                  </a:lnTo>
                  <a:lnTo>
                    <a:pt x="393" y="958"/>
                  </a:lnTo>
                  <a:lnTo>
                    <a:pt x="404" y="918"/>
                  </a:lnTo>
                  <a:lnTo>
                    <a:pt x="413" y="873"/>
                  </a:lnTo>
                  <a:lnTo>
                    <a:pt x="421" y="826"/>
                  </a:lnTo>
                  <a:lnTo>
                    <a:pt x="428" y="774"/>
                  </a:lnTo>
                  <a:lnTo>
                    <a:pt x="434" y="721"/>
                  </a:lnTo>
                  <a:lnTo>
                    <a:pt x="438" y="664"/>
                  </a:lnTo>
                  <a:lnTo>
                    <a:pt x="206" y="664"/>
                  </a:lnTo>
                  <a:lnTo>
                    <a:pt x="222" y="537"/>
                  </a:lnTo>
                  <a:lnTo>
                    <a:pt x="441" y="537"/>
                  </a:lnTo>
                  <a:lnTo>
                    <a:pt x="441" y="496"/>
                  </a:lnTo>
                  <a:lnTo>
                    <a:pt x="440" y="457"/>
                  </a:lnTo>
                  <a:lnTo>
                    <a:pt x="436" y="421"/>
                  </a:lnTo>
                  <a:lnTo>
                    <a:pt x="433" y="388"/>
                  </a:lnTo>
                  <a:lnTo>
                    <a:pt x="429" y="355"/>
                  </a:lnTo>
                  <a:lnTo>
                    <a:pt x="423" y="327"/>
                  </a:lnTo>
                  <a:lnTo>
                    <a:pt x="419" y="314"/>
                  </a:lnTo>
                  <a:lnTo>
                    <a:pt x="415" y="300"/>
                  </a:lnTo>
                  <a:lnTo>
                    <a:pt x="412" y="288"/>
                  </a:lnTo>
                  <a:lnTo>
                    <a:pt x="408" y="275"/>
                  </a:lnTo>
                  <a:lnTo>
                    <a:pt x="403" y="265"/>
                  </a:lnTo>
                  <a:lnTo>
                    <a:pt x="398" y="255"/>
                  </a:lnTo>
                  <a:lnTo>
                    <a:pt x="393" y="244"/>
                  </a:lnTo>
                  <a:lnTo>
                    <a:pt x="387" y="236"/>
                  </a:lnTo>
                  <a:lnTo>
                    <a:pt x="381" y="227"/>
                  </a:lnTo>
                  <a:lnTo>
                    <a:pt x="375" y="220"/>
                  </a:lnTo>
                  <a:lnTo>
                    <a:pt x="369" y="213"/>
                  </a:lnTo>
                  <a:lnTo>
                    <a:pt x="362" y="206"/>
                  </a:lnTo>
                  <a:lnTo>
                    <a:pt x="355" y="201"/>
                  </a:lnTo>
                  <a:lnTo>
                    <a:pt x="347" y="198"/>
                  </a:lnTo>
                  <a:lnTo>
                    <a:pt x="330" y="189"/>
                  </a:lnTo>
                  <a:lnTo>
                    <a:pt x="313" y="185"/>
                  </a:lnTo>
                  <a:lnTo>
                    <a:pt x="294" y="184"/>
                  </a:lnTo>
                  <a:lnTo>
                    <a:pt x="278" y="184"/>
                  </a:lnTo>
                  <a:lnTo>
                    <a:pt x="263" y="187"/>
                  </a:lnTo>
                  <a:lnTo>
                    <a:pt x="248" y="191"/>
                  </a:lnTo>
                  <a:lnTo>
                    <a:pt x="233" y="196"/>
                  </a:lnTo>
                  <a:lnTo>
                    <a:pt x="219" y="203"/>
                  </a:lnTo>
                  <a:lnTo>
                    <a:pt x="204" y="211"/>
                  </a:lnTo>
                  <a:lnTo>
                    <a:pt x="191" y="222"/>
                  </a:lnTo>
                  <a:lnTo>
                    <a:pt x="177" y="234"/>
                  </a:lnTo>
                  <a:lnTo>
                    <a:pt x="165" y="248"/>
                  </a:lnTo>
                  <a:lnTo>
                    <a:pt x="151" y="263"/>
                  </a:lnTo>
                  <a:lnTo>
                    <a:pt x="138" y="282"/>
                  </a:lnTo>
                  <a:lnTo>
                    <a:pt x="126" y="303"/>
                  </a:lnTo>
                  <a:lnTo>
                    <a:pt x="113" y="326"/>
                  </a:lnTo>
                  <a:lnTo>
                    <a:pt x="100" y="352"/>
                  </a:lnTo>
                  <a:lnTo>
                    <a:pt x="88" y="379"/>
                  </a:lnTo>
                  <a:lnTo>
                    <a:pt x="76" y="409"/>
                  </a:lnTo>
                  <a:lnTo>
                    <a:pt x="30" y="336"/>
                  </a:lnTo>
                  <a:lnTo>
                    <a:pt x="43" y="300"/>
                  </a:lnTo>
                  <a:lnTo>
                    <a:pt x="59" y="265"/>
                  </a:lnTo>
                  <a:lnTo>
                    <a:pt x="75" y="232"/>
                  </a:lnTo>
                  <a:lnTo>
                    <a:pt x="92" y="201"/>
                  </a:lnTo>
                  <a:lnTo>
                    <a:pt x="110" y="172"/>
                  </a:lnTo>
                  <a:lnTo>
                    <a:pt x="128" y="144"/>
                  </a:lnTo>
                  <a:lnTo>
                    <a:pt x="148" y="118"/>
                  </a:lnTo>
                  <a:lnTo>
                    <a:pt x="170" y="94"/>
                  </a:lnTo>
                  <a:lnTo>
                    <a:pt x="192" y="71"/>
                  </a:lnTo>
                  <a:lnTo>
                    <a:pt x="214" y="52"/>
                  </a:lnTo>
                  <a:lnTo>
                    <a:pt x="236" y="36"/>
                  </a:lnTo>
                  <a:lnTo>
                    <a:pt x="259" y="24"/>
                  </a:lnTo>
                  <a:lnTo>
                    <a:pt x="282" y="14"/>
                  </a:lnTo>
                  <a:lnTo>
                    <a:pt x="306" y="5"/>
                  </a:lnTo>
                  <a:lnTo>
                    <a:pt x="330" y="2"/>
                  </a:lnTo>
                  <a:lnTo>
                    <a:pt x="354" y="0"/>
                  </a:lnTo>
                  <a:lnTo>
                    <a:pt x="390" y="2"/>
                  </a:lnTo>
                  <a:lnTo>
                    <a:pt x="424" y="9"/>
                  </a:lnTo>
                  <a:lnTo>
                    <a:pt x="455" y="19"/>
                  </a:lnTo>
                  <a:lnTo>
                    <a:pt x="485" y="33"/>
                  </a:lnTo>
                  <a:lnTo>
                    <a:pt x="512" y="52"/>
                  </a:lnTo>
                  <a:lnTo>
                    <a:pt x="538" y="75"/>
                  </a:lnTo>
                  <a:lnTo>
                    <a:pt x="550" y="87"/>
                  </a:lnTo>
                  <a:lnTo>
                    <a:pt x="561" y="101"/>
                  </a:lnTo>
                  <a:lnTo>
                    <a:pt x="573" y="116"/>
                  </a:lnTo>
                  <a:lnTo>
                    <a:pt x="583" y="132"/>
                  </a:lnTo>
                  <a:lnTo>
                    <a:pt x="593" y="149"/>
                  </a:lnTo>
                  <a:lnTo>
                    <a:pt x="602" y="166"/>
                  </a:lnTo>
                  <a:lnTo>
                    <a:pt x="611" y="185"/>
                  </a:lnTo>
                  <a:lnTo>
                    <a:pt x="619" y="204"/>
                  </a:lnTo>
                  <a:lnTo>
                    <a:pt x="626" y="225"/>
                  </a:lnTo>
                  <a:lnTo>
                    <a:pt x="633" y="246"/>
                  </a:lnTo>
                  <a:lnTo>
                    <a:pt x="639" y="269"/>
                  </a:lnTo>
                  <a:lnTo>
                    <a:pt x="645" y="291"/>
                  </a:lnTo>
                  <a:lnTo>
                    <a:pt x="650" y="315"/>
                  </a:lnTo>
                  <a:lnTo>
                    <a:pt x="653" y="340"/>
                  </a:lnTo>
                  <a:lnTo>
                    <a:pt x="657" y="366"/>
                  </a:lnTo>
                  <a:lnTo>
                    <a:pt x="660" y="392"/>
                  </a:lnTo>
                  <a:lnTo>
                    <a:pt x="662" y="418"/>
                  </a:lnTo>
                  <a:lnTo>
                    <a:pt x="663" y="445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2640" y="3192480"/>
              <a:ext cx="466560" cy="444600"/>
            </a:xfrm>
            <a:custGeom>
              <a:avLst/>
              <a:gdLst/>
              <a:ahLst/>
              <a:rect l="l" t="t" r="r" b="b"/>
              <a:pathLst>
                <a:path w="1296" h="1233">
                  <a:moveTo>
                    <a:pt x="1295" y="1029"/>
                  </a:moveTo>
                  <a:lnTo>
                    <a:pt x="1281" y="1136"/>
                  </a:lnTo>
                  <a:lnTo>
                    <a:pt x="1178" y="1207"/>
                  </a:lnTo>
                  <a:lnTo>
                    <a:pt x="1168" y="1212"/>
                  </a:lnTo>
                  <a:lnTo>
                    <a:pt x="1158" y="1218"/>
                  </a:lnTo>
                  <a:lnTo>
                    <a:pt x="1147" y="1221"/>
                  </a:lnTo>
                  <a:lnTo>
                    <a:pt x="1136" y="1225"/>
                  </a:lnTo>
                  <a:lnTo>
                    <a:pt x="1125" y="1228"/>
                  </a:lnTo>
                  <a:lnTo>
                    <a:pt x="1113" y="1230"/>
                  </a:lnTo>
                  <a:lnTo>
                    <a:pt x="1101" y="1232"/>
                  </a:lnTo>
                  <a:lnTo>
                    <a:pt x="1089" y="1232"/>
                  </a:lnTo>
                  <a:lnTo>
                    <a:pt x="1070" y="1230"/>
                  </a:lnTo>
                  <a:lnTo>
                    <a:pt x="1052" y="1226"/>
                  </a:lnTo>
                  <a:lnTo>
                    <a:pt x="1035" y="1221"/>
                  </a:lnTo>
                  <a:lnTo>
                    <a:pt x="1020" y="1214"/>
                  </a:lnTo>
                  <a:lnTo>
                    <a:pt x="1006" y="1204"/>
                  </a:lnTo>
                  <a:lnTo>
                    <a:pt x="992" y="1192"/>
                  </a:lnTo>
                  <a:lnTo>
                    <a:pt x="979" y="1178"/>
                  </a:lnTo>
                  <a:lnTo>
                    <a:pt x="974" y="1169"/>
                  </a:lnTo>
                  <a:lnTo>
                    <a:pt x="968" y="1160"/>
                  </a:lnTo>
                  <a:lnTo>
                    <a:pt x="958" y="1143"/>
                  </a:lnTo>
                  <a:lnTo>
                    <a:pt x="954" y="1133"/>
                  </a:lnTo>
                  <a:lnTo>
                    <a:pt x="950" y="1122"/>
                  </a:lnTo>
                  <a:lnTo>
                    <a:pt x="945" y="1114"/>
                  </a:lnTo>
                  <a:lnTo>
                    <a:pt x="942" y="1103"/>
                  </a:lnTo>
                  <a:lnTo>
                    <a:pt x="939" y="1093"/>
                  </a:lnTo>
                  <a:lnTo>
                    <a:pt x="936" y="1081"/>
                  </a:lnTo>
                  <a:lnTo>
                    <a:pt x="934" y="1070"/>
                  </a:lnTo>
                  <a:lnTo>
                    <a:pt x="931" y="1058"/>
                  </a:lnTo>
                  <a:lnTo>
                    <a:pt x="929" y="1046"/>
                  </a:lnTo>
                  <a:lnTo>
                    <a:pt x="928" y="1034"/>
                  </a:lnTo>
                  <a:lnTo>
                    <a:pt x="927" y="1022"/>
                  </a:lnTo>
                  <a:lnTo>
                    <a:pt x="926" y="1010"/>
                  </a:lnTo>
                  <a:lnTo>
                    <a:pt x="925" y="998"/>
                  </a:lnTo>
                  <a:lnTo>
                    <a:pt x="925" y="984"/>
                  </a:lnTo>
                  <a:lnTo>
                    <a:pt x="925" y="968"/>
                  </a:lnTo>
                  <a:lnTo>
                    <a:pt x="926" y="951"/>
                  </a:lnTo>
                  <a:lnTo>
                    <a:pt x="927" y="911"/>
                  </a:lnTo>
                  <a:lnTo>
                    <a:pt x="929" y="887"/>
                  </a:lnTo>
                  <a:lnTo>
                    <a:pt x="931" y="861"/>
                  </a:lnTo>
                  <a:lnTo>
                    <a:pt x="934" y="831"/>
                  </a:lnTo>
                  <a:lnTo>
                    <a:pt x="938" y="800"/>
                  </a:lnTo>
                  <a:lnTo>
                    <a:pt x="984" y="483"/>
                  </a:lnTo>
                  <a:lnTo>
                    <a:pt x="988" y="457"/>
                  </a:lnTo>
                  <a:lnTo>
                    <a:pt x="991" y="435"/>
                  </a:lnTo>
                  <a:lnTo>
                    <a:pt x="994" y="410"/>
                  </a:lnTo>
                  <a:lnTo>
                    <a:pt x="995" y="390"/>
                  </a:lnTo>
                  <a:lnTo>
                    <a:pt x="997" y="371"/>
                  </a:lnTo>
                  <a:lnTo>
                    <a:pt x="998" y="351"/>
                  </a:lnTo>
                  <a:lnTo>
                    <a:pt x="999" y="336"/>
                  </a:lnTo>
                  <a:lnTo>
                    <a:pt x="999" y="322"/>
                  </a:lnTo>
                  <a:lnTo>
                    <a:pt x="999" y="308"/>
                  </a:lnTo>
                  <a:lnTo>
                    <a:pt x="998" y="294"/>
                  </a:lnTo>
                  <a:lnTo>
                    <a:pt x="996" y="282"/>
                  </a:lnTo>
                  <a:lnTo>
                    <a:pt x="995" y="272"/>
                  </a:lnTo>
                  <a:lnTo>
                    <a:pt x="994" y="267"/>
                  </a:lnTo>
                  <a:lnTo>
                    <a:pt x="993" y="261"/>
                  </a:lnTo>
                  <a:lnTo>
                    <a:pt x="991" y="256"/>
                  </a:lnTo>
                  <a:lnTo>
                    <a:pt x="990" y="251"/>
                  </a:lnTo>
                  <a:lnTo>
                    <a:pt x="989" y="246"/>
                  </a:lnTo>
                  <a:lnTo>
                    <a:pt x="987" y="242"/>
                  </a:lnTo>
                  <a:lnTo>
                    <a:pt x="985" y="237"/>
                  </a:lnTo>
                  <a:lnTo>
                    <a:pt x="984" y="234"/>
                  </a:lnTo>
                  <a:lnTo>
                    <a:pt x="982" y="230"/>
                  </a:lnTo>
                  <a:lnTo>
                    <a:pt x="979" y="225"/>
                  </a:lnTo>
                  <a:lnTo>
                    <a:pt x="977" y="222"/>
                  </a:lnTo>
                  <a:lnTo>
                    <a:pt x="975" y="220"/>
                  </a:lnTo>
                  <a:lnTo>
                    <a:pt x="972" y="216"/>
                  </a:lnTo>
                  <a:lnTo>
                    <a:pt x="969" y="213"/>
                  </a:lnTo>
                  <a:lnTo>
                    <a:pt x="967" y="211"/>
                  </a:lnTo>
                  <a:lnTo>
                    <a:pt x="963" y="209"/>
                  </a:lnTo>
                  <a:lnTo>
                    <a:pt x="956" y="206"/>
                  </a:lnTo>
                  <a:lnTo>
                    <a:pt x="950" y="202"/>
                  </a:lnTo>
                  <a:lnTo>
                    <a:pt x="942" y="201"/>
                  </a:lnTo>
                  <a:lnTo>
                    <a:pt x="934" y="201"/>
                  </a:lnTo>
                  <a:lnTo>
                    <a:pt x="927" y="201"/>
                  </a:lnTo>
                  <a:lnTo>
                    <a:pt x="920" y="202"/>
                  </a:lnTo>
                  <a:lnTo>
                    <a:pt x="913" y="206"/>
                  </a:lnTo>
                  <a:lnTo>
                    <a:pt x="906" y="211"/>
                  </a:lnTo>
                  <a:lnTo>
                    <a:pt x="897" y="216"/>
                  </a:lnTo>
                  <a:lnTo>
                    <a:pt x="889" y="223"/>
                  </a:lnTo>
                  <a:lnTo>
                    <a:pt x="880" y="232"/>
                  </a:lnTo>
                  <a:lnTo>
                    <a:pt x="871" y="241"/>
                  </a:lnTo>
                  <a:lnTo>
                    <a:pt x="852" y="263"/>
                  </a:lnTo>
                  <a:lnTo>
                    <a:pt x="833" y="289"/>
                  </a:lnTo>
                  <a:lnTo>
                    <a:pt x="814" y="317"/>
                  </a:lnTo>
                  <a:lnTo>
                    <a:pt x="795" y="350"/>
                  </a:lnTo>
                  <a:lnTo>
                    <a:pt x="687" y="1211"/>
                  </a:lnTo>
                  <a:lnTo>
                    <a:pt x="472" y="1211"/>
                  </a:lnTo>
                  <a:lnTo>
                    <a:pt x="563" y="483"/>
                  </a:lnTo>
                  <a:lnTo>
                    <a:pt x="574" y="386"/>
                  </a:lnTo>
                  <a:lnTo>
                    <a:pt x="575" y="369"/>
                  </a:lnTo>
                  <a:lnTo>
                    <a:pt x="576" y="351"/>
                  </a:lnTo>
                  <a:lnTo>
                    <a:pt x="577" y="336"/>
                  </a:lnTo>
                  <a:lnTo>
                    <a:pt x="577" y="322"/>
                  </a:lnTo>
                  <a:lnTo>
                    <a:pt x="577" y="308"/>
                  </a:lnTo>
                  <a:lnTo>
                    <a:pt x="576" y="294"/>
                  </a:lnTo>
                  <a:lnTo>
                    <a:pt x="575" y="282"/>
                  </a:lnTo>
                  <a:lnTo>
                    <a:pt x="574" y="272"/>
                  </a:lnTo>
                  <a:lnTo>
                    <a:pt x="572" y="267"/>
                  </a:lnTo>
                  <a:lnTo>
                    <a:pt x="571" y="261"/>
                  </a:lnTo>
                  <a:lnTo>
                    <a:pt x="570" y="256"/>
                  </a:lnTo>
                  <a:lnTo>
                    <a:pt x="569" y="251"/>
                  </a:lnTo>
                  <a:lnTo>
                    <a:pt x="567" y="246"/>
                  </a:lnTo>
                  <a:lnTo>
                    <a:pt x="565" y="242"/>
                  </a:lnTo>
                  <a:lnTo>
                    <a:pt x="564" y="237"/>
                  </a:lnTo>
                  <a:lnTo>
                    <a:pt x="562" y="234"/>
                  </a:lnTo>
                  <a:lnTo>
                    <a:pt x="559" y="230"/>
                  </a:lnTo>
                  <a:lnTo>
                    <a:pt x="558" y="225"/>
                  </a:lnTo>
                  <a:lnTo>
                    <a:pt x="555" y="222"/>
                  </a:lnTo>
                  <a:lnTo>
                    <a:pt x="553" y="220"/>
                  </a:lnTo>
                  <a:lnTo>
                    <a:pt x="550" y="216"/>
                  </a:lnTo>
                  <a:lnTo>
                    <a:pt x="547" y="213"/>
                  </a:lnTo>
                  <a:lnTo>
                    <a:pt x="544" y="211"/>
                  </a:lnTo>
                  <a:lnTo>
                    <a:pt x="541" y="209"/>
                  </a:lnTo>
                  <a:lnTo>
                    <a:pt x="534" y="206"/>
                  </a:lnTo>
                  <a:lnTo>
                    <a:pt x="527" y="202"/>
                  </a:lnTo>
                  <a:lnTo>
                    <a:pt x="519" y="201"/>
                  </a:lnTo>
                  <a:lnTo>
                    <a:pt x="510" y="201"/>
                  </a:lnTo>
                  <a:lnTo>
                    <a:pt x="505" y="201"/>
                  </a:lnTo>
                  <a:lnTo>
                    <a:pt x="499" y="202"/>
                  </a:lnTo>
                  <a:lnTo>
                    <a:pt x="493" y="204"/>
                  </a:lnTo>
                  <a:lnTo>
                    <a:pt x="487" y="208"/>
                  </a:lnTo>
                  <a:lnTo>
                    <a:pt x="479" y="213"/>
                  </a:lnTo>
                  <a:lnTo>
                    <a:pt x="471" y="218"/>
                  </a:lnTo>
                  <a:lnTo>
                    <a:pt x="454" y="230"/>
                  </a:lnTo>
                  <a:lnTo>
                    <a:pt x="445" y="239"/>
                  </a:lnTo>
                  <a:lnTo>
                    <a:pt x="436" y="249"/>
                  </a:lnTo>
                  <a:lnTo>
                    <a:pt x="425" y="261"/>
                  </a:lnTo>
                  <a:lnTo>
                    <a:pt x="414" y="275"/>
                  </a:lnTo>
                  <a:lnTo>
                    <a:pt x="403" y="291"/>
                  </a:lnTo>
                  <a:lnTo>
                    <a:pt x="390" y="308"/>
                  </a:lnTo>
                  <a:lnTo>
                    <a:pt x="365" y="350"/>
                  </a:lnTo>
                  <a:lnTo>
                    <a:pt x="257" y="1211"/>
                  </a:lnTo>
                  <a:lnTo>
                    <a:pt x="42" y="1211"/>
                  </a:lnTo>
                  <a:lnTo>
                    <a:pt x="134" y="478"/>
                  </a:lnTo>
                  <a:lnTo>
                    <a:pt x="145" y="390"/>
                  </a:lnTo>
                  <a:lnTo>
                    <a:pt x="147" y="364"/>
                  </a:lnTo>
                  <a:lnTo>
                    <a:pt x="149" y="341"/>
                  </a:lnTo>
                  <a:lnTo>
                    <a:pt x="151" y="320"/>
                  </a:lnTo>
                  <a:lnTo>
                    <a:pt x="151" y="310"/>
                  </a:lnTo>
                  <a:lnTo>
                    <a:pt x="151" y="301"/>
                  </a:lnTo>
                  <a:lnTo>
                    <a:pt x="151" y="286"/>
                  </a:lnTo>
                  <a:lnTo>
                    <a:pt x="150" y="270"/>
                  </a:lnTo>
                  <a:lnTo>
                    <a:pt x="149" y="256"/>
                  </a:lnTo>
                  <a:lnTo>
                    <a:pt x="147" y="244"/>
                  </a:lnTo>
                  <a:lnTo>
                    <a:pt x="146" y="239"/>
                  </a:lnTo>
                  <a:lnTo>
                    <a:pt x="145" y="234"/>
                  </a:lnTo>
                  <a:lnTo>
                    <a:pt x="144" y="228"/>
                  </a:lnTo>
                  <a:lnTo>
                    <a:pt x="143" y="223"/>
                  </a:lnTo>
                  <a:lnTo>
                    <a:pt x="141" y="218"/>
                  </a:lnTo>
                  <a:lnTo>
                    <a:pt x="139" y="215"/>
                  </a:lnTo>
                  <a:lnTo>
                    <a:pt x="138" y="211"/>
                  </a:lnTo>
                  <a:lnTo>
                    <a:pt x="136" y="208"/>
                  </a:lnTo>
                  <a:lnTo>
                    <a:pt x="134" y="204"/>
                  </a:lnTo>
                  <a:lnTo>
                    <a:pt x="132" y="201"/>
                  </a:lnTo>
                  <a:lnTo>
                    <a:pt x="130" y="199"/>
                  </a:lnTo>
                  <a:lnTo>
                    <a:pt x="128" y="196"/>
                  </a:lnTo>
                  <a:lnTo>
                    <a:pt x="124" y="194"/>
                  </a:lnTo>
                  <a:lnTo>
                    <a:pt x="122" y="192"/>
                  </a:lnTo>
                  <a:lnTo>
                    <a:pt x="115" y="189"/>
                  </a:lnTo>
                  <a:lnTo>
                    <a:pt x="107" y="185"/>
                  </a:lnTo>
                  <a:lnTo>
                    <a:pt x="100" y="183"/>
                  </a:lnTo>
                  <a:lnTo>
                    <a:pt x="90" y="182"/>
                  </a:lnTo>
                  <a:lnTo>
                    <a:pt x="80" y="182"/>
                  </a:lnTo>
                  <a:lnTo>
                    <a:pt x="69" y="182"/>
                  </a:lnTo>
                  <a:lnTo>
                    <a:pt x="64" y="183"/>
                  </a:lnTo>
                  <a:lnTo>
                    <a:pt x="59" y="185"/>
                  </a:lnTo>
                  <a:lnTo>
                    <a:pt x="53" y="187"/>
                  </a:lnTo>
                  <a:lnTo>
                    <a:pt x="48" y="189"/>
                  </a:lnTo>
                  <a:lnTo>
                    <a:pt x="42" y="190"/>
                  </a:lnTo>
                  <a:lnTo>
                    <a:pt x="37" y="194"/>
                  </a:lnTo>
                  <a:lnTo>
                    <a:pt x="27" y="199"/>
                  </a:lnTo>
                  <a:lnTo>
                    <a:pt x="17" y="206"/>
                  </a:lnTo>
                  <a:lnTo>
                    <a:pt x="0" y="216"/>
                  </a:lnTo>
                  <a:lnTo>
                    <a:pt x="14" y="109"/>
                  </a:lnTo>
                  <a:lnTo>
                    <a:pt x="115" y="41"/>
                  </a:lnTo>
                  <a:lnTo>
                    <a:pt x="127" y="34"/>
                  </a:lnTo>
                  <a:lnTo>
                    <a:pt x="139" y="29"/>
                  </a:lnTo>
                  <a:lnTo>
                    <a:pt x="151" y="24"/>
                  </a:lnTo>
                  <a:lnTo>
                    <a:pt x="162" y="21"/>
                  </a:lnTo>
                  <a:lnTo>
                    <a:pt x="173" y="17"/>
                  </a:lnTo>
                  <a:lnTo>
                    <a:pt x="184" y="15"/>
                  </a:lnTo>
                  <a:lnTo>
                    <a:pt x="195" y="14"/>
                  </a:lnTo>
                  <a:lnTo>
                    <a:pt x="206" y="14"/>
                  </a:lnTo>
                  <a:lnTo>
                    <a:pt x="225" y="15"/>
                  </a:lnTo>
                  <a:lnTo>
                    <a:pt x="243" y="17"/>
                  </a:lnTo>
                  <a:lnTo>
                    <a:pt x="259" y="22"/>
                  </a:lnTo>
                  <a:lnTo>
                    <a:pt x="274" y="27"/>
                  </a:lnTo>
                  <a:lnTo>
                    <a:pt x="288" y="36"/>
                  </a:lnTo>
                  <a:lnTo>
                    <a:pt x="294" y="41"/>
                  </a:lnTo>
                  <a:lnTo>
                    <a:pt x="300" y="47"/>
                  </a:lnTo>
                  <a:lnTo>
                    <a:pt x="305" y="52"/>
                  </a:lnTo>
                  <a:lnTo>
                    <a:pt x="311" y="59"/>
                  </a:lnTo>
                  <a:lnTo>
                    <a:pt x="316" y="66"/>
                  </a:lnTo>
                  <a:lnTo>
                    <a:pt x="321" y="73"/>
                  </a:lnTo>
                  <a:lnTo>
                    <a:pt x="329" y="88"/>
                  </a:lnTo>
                  <a:lnTo>
                    <a:pt x="337" y="104"/>
                  </a:lnTo>
                  <a:lnTo>
                    <a:pt x="344" y="121"/>
                  </a:lnTo>
                  <a:lnTo>
                    <a:pt x="350" y="140"/>
                  </a:lnTo>
                  <a:lnTo>
                    <a:pt x="356" y="159"/>
                  </a:lnTo>
                  <a:lnTo>
                    <a:pt x="361" y="180"/>
                  </a:lnTo>
                  <a:lnTo>
                    <a:pt x="366" y="201"/>
                  </a:lnTo>
                  <a:lnTo>
                    <a:pt x="370" y="223"/>
                  </a:lnTo>
                  <a:lnTo>
                    <a:pt x="374" y="223"/>
                  </a:lnTo>
                  <a:lnTo>
                    <a:pt x="406" y="171"/>
                  </a:lnTo>
                  <a:lnTo>
                    <a:pt x="438" y="128"/>
                  </a:lnTo>
                  <a:lnTo>
                    <a:pt x="454" y="107"/>
                  </a:lnTo>
                  <a:lnTo>
                    <a:pt x="470" y="88"/>
                  </a:lnTo>
                  <a:lnTo>
                    <a:pt x="485" y="73"/>
                  </a:lnTo>
                  <a:lnTo>
                    <a:pt x="500" y="57"/>
                  </a:lnTo>
                  <a:lnTo>
                    <a:pt x="515" y="43"/>
                  </a:lnTo>
                  <a:lnTo>
                    <a:pt x="531" y="33"/>
                  </a:lnTo>
                  <a:lnTo>
                    <a:pt x="548" y="22"/>
                  </a:lnTo>
                  <a:lnTo>
                    <a:pt x="564" y="14"/>
                  </a:lnTo>
                  <a:lnTo>
                    <a:pt x="582" y="8"/>
                  </a:lnTo>
                  <a:lnTo>
                    <a:pt x="601" y="3"/>
                  </a:lnTo>
                  <a:lnTo>
                    <a:pt x="620" y="1"/>
                  </a:lnTo>
                  <a:lnTo>
                    <a:pt x="639" y="0"/>
                  </a:lnTo>
                  <a:lnTo>
                    <a:pt x="655" y="1"/>
                  </a:lnTo>
                  <a:lnTo>
                    <a:pt x="671" y="3"/>
                  </a:lnTo>
                  <a:lnTo>
                    <a:pt x="686" y="8"/>
                  </a:lnTo>
                  <a:lnTo>
                    <a:pt x="700" y="17"/>
                  </a:lnTo>
                  <a:lnTo>
                    <a:pt x="713" y="26"/>
                  </a:lnTo>
                  <a:lnTo>
                    <a:pt x="726" y="38"/>
                  </a:lnTo>
                  <a:lnTo>
                    <a:pt x="738" y="50"/>
                  </a:lnTo>
                  <a:lnTo>
                    <a:pt x="749" y="66"/>
                  </a:lnTo>
                  <a:lnTo>
                    <a:pt x="759" y="83"/>
                  </a:lnTo>
                  <a:lnTo>
                    <a:pt x="769" y="100"/>
                  </a:lnTo>
                  <a:lnTo>
                    <a:pt x="772" y="109"/>
                  </a:lnTo>
                  <a:lnTo>
                    <a:pt x="776" y="119"/>
                  </a:lnTo>
                  <a:lnTo>
                    <a:pt x="780" y="128"/>
                  </a:lnTo>
                  <a:lnTo>
                    <a:pt x="783" y="138"/>
                  </a:lnTo>
                  <a:lnTo>
                    <a:pt x="785" y="149"/>
                  </a:lnTo>
                  <a:lnTo>
                    <a:pt x="788" y="159"/>
                  </a:lnTo>
                  <a:lnTo>
                    <a:pt x="791" y="170"/>
                  </a:lnTo>
                  <a:lnTo>
                    <a:pt x="792" y="182"/>
                  </a:lnTo>
                  <a:lnTo>
                    <a:pt x="794" y="192"/>
                  </a:lnTo>
                  <a:lnTo>
                    <a:pt x="795" y="204"/>
                  </a:lnTo>
                  <a:lnTo>
                    <a:pt x="796" y="216"/>
                  </a:lnTo>
                  <a:lnTo>
                    <a:pt x="796" y="228"/>
                  </a:lnTo>
                  <a:lnTo>
                    <a:pt x="802" y="228"/>
                  </a:lnTo>
                  <a:lnTo>
                    <a:pt x="835" y="176"/>
                  </a:lnTo>
                  <a:lnTo>
                    <a:pt x="868" y="131"/>
                  </a:lnTo>
                  <a:lnTo>
                    <a:pt x="900" y="92"/>
                  </a:lnTo>
                  <a:lnTo>
                    <a:pt x="930" y="59"/>
                  </a:lnTo>
                  <a:lnTo>
                    <a:pt x="945" y="45"/>
                  </a:lnTo>
                  <a:lnTo>
                    <a:pt x="961" y="33"/>
                  </a:lnTo>
                  <a:lnTo>
                    <a:pt x="978" y="22"/>
                  </a:lnTo>
                  <a:lnTo>
                    <a:pt x="994" y="14"/>
                  </a:lnTo>
                  <a:lnTo>
                    <a:pt x="1011" y="8"/>
                  </a:lnTo>
                  <a:lnTo>
                    <a:pt x="1029" y="3"/>
                  </a:lnTo>
                  <a:lnTo>
                    <a:pt x="1047" y="1"/>
                  </a:lnTo>
                  <a:lnTo>
                    <a:pt x="1067" y="0"/>
                  </a:lnTo>
                  <a:lnTo>
                    <a:pt x="1083" y="1"/>
                  </a:lnTo>
                  <a:lnTo>
                    <a:pt x="1100" y="5"/>
                  </a:lnTo>
                  <a:lnTo>
                    <a:pt x="1116" y="10"/>
                  </a:lnTo>
                  <a:lnTo>
                    <a:pt x="1131" y="19"/>
                  </a:lnTo>
                  <a:lnTo>
                    <a:pt x="1144" y="27"/>
                  </a:lnTo>
                  <a:lnTo>
                    <a:pt x="1150" y="34"/>
                  </a:lnTo>
                  <a:lnTo>
                    <a:pt x="1157" y="41"/>
                  </a:lnTo>
                  <a:lnTo>
                    <a:pt x="1163" y="48"/>
                  </a:lnTo>
                  <a:lnTo>
                    <a:pt x="1168" y="55"/>
                  </a:lnTo>
                  <a:lnTo>
                    <a:pt x="1174" y="64"/>
                  </a:lnTo>
                  <a:lnTo>
                    <a:pt x="1179" y="73"/>
                  </a:lnTo>
                  <a:lnTo>
                    <a:pt x="1188" y="92"/>
                  </a:lnTo>
                  <a:lnTo>
                    <a:pt x="1197" y="111"/>
                  </a:lnTo>
                  <a:lnTo>
                    <a:pt x="1200" y="121"/>
                  </a:lnTo>
                  <a:lnTo>
                    <a:pt x="1204" y="131"/>
                  </a:lnTo>
                  <a:lnTo>
                    <a:pt x="1207" y="142"/>
                  </a:lnTo>
                  <a:lnTo>
                    <a:pt x="1210" y="154"/>
                  </a:lnTo>
                  <a:lnTo>
                    <a:pt x="1212" y="164"/>
                  </a:lnTo>
                  <a:lnTo>
                    <a:pt x="1214" y="176"/>
                  </a:lnTo>
                  <a:lnTo>
                    <a:pt x="1216" y="187"/>
                  </a:lnTo>
                  <a:lnTo>
                    <a:pt x="1217" y="199"/>
                  </a:lnTo>
                  <a:lnTo>
                    <a:pt x="1218" y="211"/>
                  </a:lnTo>
                  <a:lnTo>
                    <a:pt x="1219" y="223"/>
                  </a:lnTo>
                  <a:lnTo>
                    <a:pt x="1220" y="237"/>
                  </a:lnTo>
                  <a:lnTo>
                    <a:pt x="1220" y="249"/>
                  </a:lnTo>
                  <a:lnTo>
                    <a:pt x="1220" y="265"/>
                  </a:lnTo>
                  <a:lnTo>
                    <a:pt x="1219" y="282"/>
                  </a:lnTo>
                  <a:lnTo>
                    <a:pt x="1217" y="325"/>
                  </a:lnTo>
                  <a:lnTo>
                    <a:pt x="1216" y="339"/>
                  </a:lnTo>
                  <a:lnTo>
                    <a:pt x="1216" y="351"/>
                  </a:lnTo>
                  <a:lnTo>
                    <a:pt x="1215" y="365"/>
                  </a:lnTo>
                  <a:lnTo>
                    <a:pt x="1214" y="377"/>
                  </a:lnTo>
                  <a:lnTo>
                    <a:pt x="1210" y="403"/>
                  </a:lnTo>
                  <a:lnTo>
                    <a:pt x="1207" y="431"/>
                  </a:lnTo>
                  <a:lnTo>
                    <a:pt x="1157" y="767"/>
                  </a:lnTo>
                  <a:lnTo>
                    <a:pt x="1154" y="790"/>
                  </a:lnTo>
                  <a:lnTo>
                    <a:pt x="1151" y="812"/>
                  </a:lnTo>
                  <a:lnTo>
                    <a:pt x="1148" y="837"/>
                  </a:lnTo>
                  <a:lnTo>
                    <a:pt x="1145" y="863"/>
                  </a:lnTo>
                  <a:lnTo>
                    <a:pt x="1143" y="888"/>
                  </a:lnTo>
                  <a:lnTo>
                    <a:pt x="1142" y="911"/>
                  </a:lnTo>
                  <a:lnTo>
                    <a:pt x="1140" y="928"/>
                  </a:lnTo>
                  <a:lnTo>
                    <a:pt x="1140" y="937"/>
                  </a:lnTo>
                  <a:lnTo>
                    <a:pt x="1140" y="944"/>
                  </a:lnTo>
                  <a:lnTo>
                    <a:pt x="1140" y="961"/>
                  </a:lnTo>
                  <a:lnTo>
                    <a:pt x="1141" y="977"/>
                  </a:lnTo>
                  <a:lnTo>
                    <a:pt x="1143" y="991"/>
                  </a:lnTo>
                  <a:lnTo>
                    <a:pt x="1144" y="996"/>
                  </a:lnTo>
                  <a:lnTo>
                    <a:pt x="1144" y="1003"/>
                  </a:lnTo>
                  <a:lnTo>
                    <a:pt x="1145" y="1008"/>
                  </a:lnTo>
                  <a:lnTo>
                    <a:pt x="1147" y="1013"/>
                  </a:lnTo>
                  <a:lnTo>
                    <a:pt x="1149" y="1018"/>
                  </a:lnTo>
                  <a:lnTo>
                    <a:pt x="1149" y="1024"/>
                  </a:lnTo>
                  <a:lnTo>
                    <a:pt x="1151" y="1029"/>
                  </a:lnTo>
                  <a:lnTo>
                    <a:pt x="1153" y="1032"/>
                  </a:lnTo>
                  <a:lnTo>
                    <a:pt x="1155" y="1036"/>
                  </a:lnTo>
                  <a:lnTo>
                    <a:pt x="1157" y="1039"/>
                  </a:lnTo>
                  <a:lnTo>
                    <a:pt x="1160" y="1043"/>
                  </a:lnTo>
                  <a:lnTo>
                    <a:pt x="1161" y="1044"/>
                  </a:lnTo>
                  <a:lnTo>
                    <a:pt x="1164" y="1048"/>
                  </a:lnTo>
                  <a:lnTo>
                    <a:pt x="1167" y="1050"/>
                  </a:lnTo>
                  <a:lnTo>
                    <a:pt x="1173" y="1053"/>
                  </a:lnTo>
                  <a:lnTo>
                    <a:pt x="1180" y="1057"/>
                  </a:lnTo>
                  <a:lnTo>
                    <a:pt x="1188" y="1060"/>
                  </a:lnTo>
                  <a:lnTo>
                    <a:pt x="1196" y="1062"/>
                  </a:lnTo>
                  <a:lnTo>
                    <a:pt x="1205" y="1063"/>
                  </a:lnTo>
                  <a:lnTo>
                    <a:pt x="1216" y="1063"/>
                  </a:lnTo>
                  <a:lnTo>
                    <a:pt x="1221" y="1063"/>
                  </a:lnTo>
                  <a:lnTo>
                    <a:pt x="1226" y="1063"/>
                  </a:lnTo>
                  <a:lnTo>
                    <a:pt x="1231" y="1062"/>
                  </a:lnTo>
                  <a:lnTo>
                    <a:pt x="1236" y="1060"/>
                  </a:lnTo>
                  <a:lnTo>
                    <a:pt x="1248" y="1057"/>
                  </a:lnTo>
                  <a:lnTo>
                    <a:pt x="1260" y="1051"/>
                  </a:lnTo>
                  <a:lnTo>
                    <a:pt x="1281" y="1039"/>
                  </a:lnTo>
                  <a:lnTo>
                    <a:pt x="1288" y="1034"/>
                  </a:lnTo>
                  <a:lnTo>
                    <a:pt x="1292" y="103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7520" y="319248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8">
                  <a:moveTo>
                    <a:pt x="452" y="1062"/>
                  </a:moveTo>
                  <a:lnTo>
                    <a:pt x="446" y="1062"/>
                  </a:lnTo>
                  <a:lnTo>
                    <a:pt x="435" y="1079"/>
                  </a:lnTo>
                  <a:lnTo>
                    <a:pt x="425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80" y="1157"/>
                  </a:lnTo>
                  <a:lnTo>
                    <a:pt x="366" y="1173"/>
                  </a:lnTo>
                  <a:lnTo>
                    <a:pt x="352" y="1186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7" y="1233"/>
                  </a:lnTo>
                  <a:lnTo>
                    <a:pt x="279" y="1238"/>
                  </a:lnTo>
                  <a:lnTo>
                    <a:pt x="271" y="1240"/>
                  </a:lnTo>
                  <a:lnTo>
                    <a:pt x="262" y="1244"/>
                  </a:lnTo>
                  <a:lnTo>
                    <a:pt x="254" y="1245"/>
                  </a:lnTo>
                  <a:lnTo>
                    <a:pt x="245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4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8" y="1199"/>
                  </a:lnTo>
                  <a:lnTo>
                    <a:pt x="99" y="1188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5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4" y="1093"/>
                  </a:lnTo>
                  <a:lnTo>
                    <a:pt x="38" y="1076"/>
                  </a:lnTo>
                  <a:lnTo>
                    <a:pt x="33" y="1058"/>
                  </a:lnTo>
                  <a:lnTo>
                    <a:pt x="28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5" y="980"/>
                  </a:lnTo>
                  <a:lnTo>
                    <a:pt x="8" y="937"/>
                  </a:lnTo>
                  <a:lnTo>
                    <a:pt x="4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5" y="670"/>
                  </a:lnTo>
                  <a:lnTo>
                    <a:pt x="9" y="632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19"/>
                  </a:lnTo>
                  <a:lnTo>
                    <a:pt x="33" y="483"/>
                  </a:lnTo>
                  <a:lnTo>
                    <a:pt x="41" y="448"/>
                  </a:lnTo>
                  <a:lnTo>
                    <a:pt x="50" y="414"/>
                  </a:lnTo>
                  <a:lnTo>
                    <a:pt x="60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89"/>
                  </a:lnTo>
                  <a:lnTo>
                    <a:pt x="105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6" y="137"/>
                  </a:lnTo>
                  <a:lnTo>
                    <a:pt x="192" y="116"/>
                  </a:lnTo>
                  <a:lnTo>
                    <a:pt x="208" y="97"/>
                  </a:lnTo>
                  <a:lnTo>
                    <a:pt x="225" y="78"/>
                  </a:lnTo>
                  <a:lnTo>
                    <a:pt x="243" y="62"/>
                  </a:lnTo>
                  <a:lnTo>
                    <a:pt x="261" y="48"/>
                  </a:lnTo>
                  <a:lnTo>
                    <a:pt x="279" y="34"/>
                  </a:lnTo>
                  <a:lnTo>
                    <a:pt x="298" y="24"/>
                  </a:lnTo>
                  <a:lnTo>
                    <a:pt x="317" y="15"/>
                  </a:lnTo>
                  <a:lnTo>
                    <a:pt x="336" y="8"/>
                  </a:lnTo>
                  <a:lnTo>
                    <a:pt x="355" y="3"/>
                  </a:lnTo>
                  <a:lnTo>
                    <a:pt x="375" y="1"/>
                  </a:lnTo>
                  <a:lnTo>
                    <a:pt x="395" y="0"/>
                  </a:lnTo>
                  <a:lnTo>
                    <a:pt x="423" y="1"/>
                  </a:lnTo>
                  <a:lnTo>
                    <a:pt x="450" y="7"/>
                  </a:lnTo>
                  <a:lnTo>
                    <a:pt x="462" y="10"/>
                  </a:lnTo>
                  <a:lnTo>
                    <a:pt x="474" y="14"/>
                  </a:lnTo>
                  <a:lnTo>
                    <a:pt x="486" y="19"/>
                  </a:lnTo>
                  <a:lnTo>
                    <a:pt x="497" y="24"/>
                  </a:lnTo>
                  <a:lnTo>
                    <a:pt x="508" y="31"/>
                  </a:lnTo>
                  <a:lnTo>
                    <a:pt x="518" y="38"/>
                  </a:lnTo>
                  <a:lnTo>
                    <a:pt x="527" y="47"/>
                  </a:lnTo>
                  <a:lnTo>
                    <a:pt x="536" y="53"/>
                  </a:lnTo>
                  <a:lnTo>
                    <a:pt x="546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9" y="93"/>
                  </a:lnTo>
                  <a:lnTo>
                    <a:pt x="768" y="17"/>
                  </a:lnTo>
                  <a:lnTo>
                    <a:pt x="777" y="36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2"/>
                  </a:lnTo>
                  <a:lnTo>
                    <a:pt x="671" y="863"/>
                  </a:lnTo>
                  <a:lnTo>
                    <a:pt x="668" y="888"/>
                  </a:lnTo>
                  <a:lnTo>
                    <a:pt x="667" y="913"/>
                  </a:lnTo>
                  <a:lnTo>
                    <a:pt x="665" y="932"/>
                  </a:lnTo>
                  <a:lnTo>
                    <a:pt x="665" y="940"/>
                  </a:lnTo>
                  <a:lnTo>
                    <a:pt x="665" y="947"/>
                  </a:lnTo>
                  <a:lnTo>
                    <a:pt x="665" y="963"/>
                  </a:lnTo>
                  <a:lnTo>
                    <a:pt x="666" y="979"/>
                  </a:lnTo>
                  <a:lnTo>
                    <a:pt x="668" y="992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2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6" y="1031"/>
                  </a:lnTo>
                  <a:lnTo>
                    <a:pt x="678" y="1034"/>
                  </a:lnTo>
                  <a:lnTo>
                    <a:pt x="680" y="1037"/>
                  </a:lnTo>
                  <a:lnTo>
                    <a:pt x="682" y="1041"/>
                  </a:lnTo>
                  <a:lnTo>
                    <a:pt x="684" y="1044"/>
                  </a:lnTo>
                  <a:lnTo>
                    <a:pt x="686" y="1048"/>
                  </a:lnTo>
                  <a:lnTo>
                    <a:pt x="689" y="1050"/>
                  </a:lnTo>
                  <a:lnTo>
                    <a:pt x="692" y="1053"/>
                  </a:lnTo>
                  <a:lnTo>
                    <a:pt x="698" y="1057"/>
                  </a:lnTo>
                  <a:lnTo>
                    <a:pt x="705" y="1060"/>
                  </a:lnTo>
                  <a:lnTo>
                    <a:pt x="712" y="1063"/>
                  </a:lnTo>
                  <a:lnTo>
                    <a:pt x="721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5" y="1067"/>
                  </a:lnTo>
                  <a:lnTo>
                    <a:pt x="750" y="1065"/>
                  </a:lnTo>
                  <a:lnTo>
                    <a:pt x="755" y="1065"/>
                  </a:lnTo>
                  <a:lnTo>
                    <a:pt x="760" y="1063"/>
                  </a:lnTo>
                  <a:lnTo>
                    <a:pt x="772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2"/>
                  </a:lnTo>
                  <a:lnTo>
                    <a:pt x="806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3" y="1221"/>
                  </a:lnTo>
                  <a:lnTo>
                    <a:pt x="672" y="1225"/>
                  </a:lnTo>
                  <a:lnTo>
                    <a:pt x="661" y="1228"/>
                  </a:lnTo>
                  <a:lnTo>
                    <a:pt x="650" y="1232"/>
                  </a:lnTo>
                  <a:lnTo>
                    <a:pt x="638" y="1233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8" y="1228"/>
                  </a:lnTo>
                  <a:lnTo>
                    <a:pt x="554" y="1223"/>
                  </a:lnTo>
                  <a:lnTo>
                    <a:pt x="541" y="1216"/>
                  </a:lnTo>
                  <a:lnTo>
                    <a:pt x="529" y="1207"/>
                  </a:lnTo>
                  <a:lnTo>
                    <a:pt x="517" y="1199"/>
                  </a:lnTo>
                  <a:lnTo>
                    <a:pt x="507" y="1186"/>
                  </a:lnTo>
                  <a:lnTo>
                    <a:pt x="497" y="1174"/>
                  </a:lnTo>
                  <a:lnTo>
                    <a:pt x="488" y="1160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5"/>
                  </a:lnTo>
                  <a:lnTo>
                    <a:pt x="461" y="1098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4" y="235"/>
                  </a:lnTo>
                  <a:lnTo>
                    <a:pt x="522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7" y="202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8" y="175"/>
                  </a:lnTo>
                  <a:lnTo>
                    <a:pt x="505" y="168"/>
                  </a:lnTo>
                  <a:lnTo>
                    <a:pt x="502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90" y="144"/>
                  </a:lnTo>
                  <a:lnTo>
                    <a:pt x="485" y="138"/>
                  </a:lnTo>
                  <a:lnTo>
                    <a:pt x="480" y="135"/>
                  </a:lnTo>
                  <a:lnTo>
                    <a:pt x="475" y="131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1" y="119"/>
                  </a:lnTo>
                  <a:lnTo>
                    <a:pt x="434" y="119"/>
                  </a:lnTo>
                  <a:lnTo>
                    <a:pt x="423" y="121"/>
                  </a:lnTo>
                  <a:lnTo>
                    <a:pt x="413" y="123"/>
                  </a:lnTo>
                  <a:lnTo>
                    <a:pt x="403" y="128"/>
                  </a:lnTo>
                  <a:lnTo>
                    <a:pt x="392" y="133"/>
                  </a:lnTo>
                  <a:lnTo>
                    <a:pt x="383" y="142"/>
                  </a:lnTo>
                  <a:lnTo>
                    <a:pt x="374" y="152"/>
                  </a:lnTo>
                  <a:lnTo>
                    <a:pt x="364" y="163"/>
                  </a:lnTo>
                  <a:lnTo>
                    <a:pt x="355" y="176"/>
                  </a:lnTo>
                  <a:lnTo>
                    <a:pt x="347" y="190"/>
                  </a:lnTo>
                  <a:lnTo>
                    <a:pt x="338" y="206"/>
                  </a:lnTo>
                  <a:lnTo>
                    <a:pt x="330" y="223"/>
                  </a:lnTo>
                  <a:lnTo>
                    <a:pt x="321" y="242"/>
                  </a:lnTo>
                  <a:lnTo>
                    <a:pt x="314" y="261"/>
                  </a:lnTo>
                  <a:lnTo>
                    <a:pt x="306" y="282"/>
                  </a:lnTo>
                  <a:lnTo>
                    <a:pt x="298" y="305"/>
                  </a:lnTo>
                  <a:lnTo>
                    <a:pt x="292" y="327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3"/>
                  </a:lnTo>
                  <a:lnTo>
                    <a:pt x="248" y="542"/>
                  </a:lnTo>
                  <a:lnTo>
                    <a:pt x="242" y="604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0"/>
                  </a:lnTo>
                  <a:lnTo>
                    <a:pt x="236" y="876"/>
                  </a:lnTo>
                  <a:lnTo>
                    <a:pt x="238" y="902"/>
                  </a:lnTo>
                  <a:lnTo>
                    <a:pt x="240" y="914"/>
                  </a:lnTo>
                  <a:lnTo>
                    <a:pt x="241" y="927"/>
                  </a:lnTo>
                  <a:lnTo>
                    <a:pt x="243" y="939"/>
                  </a:lnTo>
                  <a:lnTo>
                    <a:pt x="245" y="949"/>
                  </a:lnTo>
                  <a:lnTo>
                    <a:pt x="247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4" y="987"/>
                  </a:lnTo>
                  <a:lnTo>
                    <a:pt x="257" y="996"/>
                  </a:lnTo>
                  <a:lnTo>
                    <a:pt x="260" y="1006"/>
                  </a:lnTo>
                  <a:lnTo>
                    <a:pt x="264" y="1013"/>
                  </a:lnTo>
                  <a:lnTo>
                    <a:pt x="268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1" y="1039"/>
                  </a:lnTo>
                  <a:lnTo>
                    <a:pt x="286" y="1044"/>
                  </a:lnTo>
                  <a:lnTo>
                    <a:pt x="291" y="1050"/>
                  </a:lnTo>
                  <a:lnTo>
                    <a:pt x="296" y="1053"/>
                  </a:lnTo>
                  <a:lnTo>
                    <a:pt x="302" y="1057"/>
                  </a:lnTo>
                  <a:lnTo>
                    <a:pt x="308" y="1060"/>
                  </a:lnTo>
                  <a:lnTo>
                    <a:pt x="314" y="1062"/>
                  </a:lnTo>
                  <a:lnTo>
                    <a:pt x="320" y="1063"/>
                  </a:lnTo>
                  <a:lnTo>
                    <a:pt x="328" y="1065"/>
                  </a:lnTo>
                  <a:lnTo>
                    <a:pt x="335" y="1065"/>
                  </a:lnTo>
                  <a:lnTo>
                    <a:pt x="342" y="1065"/>
                  </a:lnTo>
                  <a:lnTo>
                    <a:pt x="350" y="1063"/>
                  </a:lnTo>
                  <a:lnTo>
                    <a:pt x="358" y="1060"/>
                  </a:lnTo>
                  <a:lnTo>
                    <a:pt x="364" y="1057"/>
                  </a:lnTo>
                  <a:lnTo>
                    <a:pt x="372" y="1053"/>
                  </a:lnTo>
                  <a:lnTo>
                    <a:pt x="379" y="1046"/>
                  </a:lnTo>
                  <a:lnTo>
                    <a:pt x="386" y="1041"/>
                  </a:lnTo>
                  <a:lnTo>
                    <a:pt x="393" y="1032"/>
                  </a:lnTo>
                  <a:lnTo>
                    <a:pt x="407" y="1015"/>
                  </a:lnTo>
                  <a:lnTo>
                    <a:pt x="420" y="996"/>
                  </a:lnTo>
                  <a:lnTo>
                    <a:pt x="433" y="975"/>
                  </a:lnTo>
                  <a:lnTo>
                    <a:pt x="440" y="965"/>
                  </a:lnTo>
                  <a:lnTo>
                    <a:pt x="446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6680" y="3192480"/>
              <a:ext cx="236520" cy="450720"/>
            </a:xfrm>
            <a:custGeom>
              <a:avLst/>
              <a:gdLst/>
              <a:ahLst/>
              <a:rect l="l" t="t" r="r" b="b"/>
              <a:pathLst>
                <a:path w="658" h="1252">
                  <a:moveTo>
                    <a:pt x="317" y="1251"/>
                  </a:moveTo>
                  <a:lnTo>
                    <a:pt x="280" y="1249"/>
                  </a:lnTo>
                  <a:lnTo>
                    <a:pt x="246" y="1242"/>
                  </a:lnTo>
                  <a:lnTo>
                    <a:pt x="213" y="1232"/>
                  </a:lnTo>
                  <a:lnTo>
                    <a:pt x="184" y="1216"/>
                  </a:lnTo>
                  <a:lnTo>
                    <a:pt x="155" y="1197"/>
                  </a:lnTo>
                  <a:lnTo>
                    <a:pt x="130" y="1174"/>
                  </a:lnTo>
                  <a:lnTo>
                    <a:pt x="117" y="1160"/>
                  </a:lnTo>
                  <a:lnTo>
                    <a:pt x="106" y="1147"/>
                  </a:lnTo>
                  <a:lnTo>
                    <a:pt x="95" y="1131"/>
                  </a:lnTo>
                  <a:lnTo>
                    <a:pt x="84" y="1114"/>
                  </a:lnTo>
                  <a:lnTo>
                    <a:pt x="74" y="1096"/>
                  </a:lnTo>
                  <a:lnTo>
                    <a:pt x="64" y="1077"/>
                  </a:lnTo>
                  <a:lnTo>
                    <a:pt x="55" y="1058"/>
                  </a:lnTo>
                  <a:lnTo>
                    <a:pt x="47" y="1039"/>
                  </a:lnTo>
                  <a:lnTo>
                    <a:pt x="40" y="1017"/>
                  </a:lnTo>
                  <a:lnTo>
                    <a:pt x="33" y="996"/>
                  </a:lnTo>
                  <a:lnTo>
                    <a:pt x="26" y="973"/>
                  </a:lnTo>
                  <a:lnTo>
                    <a:pt x="21" y="951"/>
                  </a:lnTo>
                  <a:lnTo>
                    <a:pt x="16" y="927"/>
                  </a:lnTo>
                  <a:lnTo>
                    <a:pt x="12" y="901"/>
                  </a:lnTo>
                  <a:lnTo>
                    <a:pt x="8" y="876"/>
                  </a:lnTo>
                  <a:lnTo>
                    <a:pt x="5" y="849"/>
                  </a:lnTo>
                  <a:lnTo>
                    <a:pt x="3" y="823"/>
                  </a:lnTo>
                  <a:lnTo>
                    <a:pt x="2" y="795"/>
                  </a:lnTo>
                  <a:lnTo>
                    <a:pt x="0" y="736"/>
                  </a:lnTo>
                  <a:lnTo>
                    <a:pt x="0" y="700"/>
                  </a:lnTo>
                  <a:lnTo>
                    <a:pt x="2" y="665"/>
                  </a:lnTo>
                  <a:lnTo>
                    <a:pt x="3" y="630"/>
                  </a:lnTo>
                  <a:lnTo>
                    <a:pt x="7" y="596"/>
                  </a:lnTo>
                  <a:lnTo>
                    <a:pt x="10" y="561"/>
                  </a:lnTo>
                  <a:lnTo>
                    <a:pt x="14" y="528"/>
                  </a:lnTo>
                  <a:lnTo>
                    <a:pt x="20" y="495"/>
                  </a:lnTo>
                  <a:lnTo>
                    <a:pt x="26" y="462"/>
                  </a:lnTo>
                  <a:lnTo>
                    <a:pt x="33" y="429"/>
                  </a:lnTo>
                  <a:lnTo>
                    <a:pt x="41" y="398"/>
                  </a:lnTo>
                  <a:lnTo>
                    <a:pt x="51" y="369"/>
                  </a:lnTo>
                  <a:lnTo>
                    <a:pt x="60" y="339"/>
                  </a:lnTo>
                  <a:lnTo>
                    <a:pt x="71" y="310"/>
                  </a:lnTo>
                  <a:lnTo>
                    <a:pt x="83" y="282"/>
                  </a:lnTo>
                  <a:lnTo>
                    <a:pt x="95" y="254"/>
                  </a:lnTo>
                  <a:lnTo>
                    <a:pt x="108" y="227"/>
                  </a:lnTo>
                  <a:lnTo>
                    <a:pt x="122" y="202"/>
                  </a:lnTo>
                  <a:lnTo>
                    <a:pt x="136" y="178"/>
                  </a:lnTo>
                  <a:lnTo>
                    <a:pt x="152" y="156"/>
                  </a:lnTo>
                  <a:lnTo>
                    <a:pt x="168" y="135"/>
                  </a:lnTo>
                  <a:lnTo>
                    <a:pt x="185" y="116"/>
                  </a:lnTo>
                  <a:lnTo>
                    <a:pt x="202" y="97"/>
                  </a:lnTo>
                  <a:lnTo>
                    <a:pt x="221" y="79"/>
                  </a:lnTo>
                  <a:lnTo>
                    <a:pt x="240" y="64"/>
                  </a:lnTo>
                  <a:lnTo>
                    <a:pt x="261" y="48"/>
                  </a:lnTo>
                  <a:lnTo>
                    <a:pt x="282" y="36"/>
                  </a:lnTo>
                  <a:lnTo>
                    <a:pt x="303" y="24"/>
                  </a:lnTo>
                  <a:lnTo>
                    <a:pt x="326" y="15"/>
                  </a:lnTo>
                  <a:lnTo>
                    <a:pt x="349" y="8"/>
                  </a:lnTo>
                  <a:lnTo>
                    <a:pt x="372" y="3"/>
                  </a:lnTo>
                  <a:lnTo>
                    <a:pt x="396" y="1"/>
                  </a:lnTo>
                  <a:lnTo>
                    <a:pt x="421" y="0"/>
                  </a:lnTo>
                  <a:lnTo>
                    <a:pt x="449" y="1"/>
                  </a:lnTo>
                  <a:lnTo>
                    <a:pt x="475" y="5"/>
                  </a:lnTo>
                  <a:lnTo>
                    <a:pt x="499" y="10"/>
                  </a:lnTo>
                  <a:lnTo>
                    <a:pt x="522" y="19"/>
                  </a:lnTo>
                  <a:lnTo>
                    <a:pt x="543" y="31"/>
                  </a:lnTo>
                  <a:lnTo>
                    <a:pt x="562" y="43"/>
                  </a:lnTo>
                  <a:lnTo>
                    <a:pt x="580" y="59"/>
                  </a:lnTo>
                  <a:lnTo>
                    <a:pt x="588" y="69"/>
                  </a:lnTo>
                  <a:lnTo>
                    <a:pt x="596" y="78"/>
                  </a:lnTo>
                  <a:lnTo>
                    <a:pt x="604" y="88"/>
                  </a:lnTo>
                  <a:lnTo>
                    <a:pt x="610" y="99"/>
                  </a:lnTo>
                  <a:lnTo>
                    <a:pt x="616" y="109"/>
                  </a:lnTo>
                  <a:lnTo>
                    <a:pt x="623" y="121"/>
                  </a:lnTo>
                  <a:lnTo>
                    <a:pt x="628" y="131"/>
                  </a:lnTo>
                  <a:lnTo>
                    <a:pt x="633" y="144"/>
                  </a:lnTo>
                  <a:lnTo>
                    <a:pt x="637" y="157"/>
                  </a:lnTo>
                  <a:lnTo>
                    <a:pt x="642" y="170"/>
                  </a:lnTo>
                  <a:lnTo>
                    <a:pt x="645" y="183"/>
                  </a:lnTo>
                  <a:lnTo>
                    <a:pt x="649" y="197"/>
                  </a:lnTo>
                  <a:lnTo>
                    <a:pt x="651" y="211"/>
                  </a:lnTo>
                  <a:lnTo>
                    <a:pt x="654" y="227"/>
                  </a:lnTo>
                  <a:lnTo>
                    <a:pt x="654" y="242"/>
                  </a:lnTo>
                  <a:lnTo>
                    <a:pt x="656" y="258"/>
                  </a:lnTo>
                  <a:lnTo>
                    <a:pt x="657" y="273"/>
                  </a:lnTo>
                  <a:lnTo>
                    <a:pt x="657" y="291"/>
                  </a:lnTo>
                  <a:lnTo>
                    <a:pt x="657" y="299"/>
                  </a:lnTo>
                  <a:lnTo>
                    <a:pt x="656" y="310"/>
                  </a:lnTo>
                  <a:lnTo>
                    <a:pt x="656" y="320"/>
                  </a:lnTo>
                  <a:lnTo>
                    <a:pt x="655" y="329"/>
                  </a:lnTo>
                  <a:lnTo>
                    <a:pt x="653" y="350"/>
                  </a:lnTo>
                  <a:lnTo>
                    <a:pt x="650" y="372"/>
                  </a:lnTo>
                  <a:lnTo>
                    <a:pt x="649" y="384"/>
                  </a:lnTo>
                  <a:lnTo>
                    <a:pt x="647" y="395"/>
                  </a:lnTo>
                  <a:lnTo>
                    <a:pt x="644" y="405"/>
                  </a:lnTo>
                  <a:lnTo>
                    <a:pt x="643" y="416"/>
                  </a:lnTo>
                  <a:lnTo>
                    <a:pt x="640" y="424"/>
                  </a:lnTo>
                  <a:lnTo>
                    <a:pt x="637" y="433"/>
                  </a:lnTo>
                  <a:lnTo>
                    <a:pt x="634" y="442"/>
                  </a:lnTo>
                  <a:lnTo>
                    <a:pt x="631" y="450"/>
                  </a:lnTo>
                  <a:lnTo>
                    <a:pt x="626" y="459"/>
                  </a:lnTo>
                  <a:lnTo>
                    <a:pt x="623" y="468"/>
                  </a:lnTo>
                  <a:lnTo>
                    <a:pt x="619" y="474"/>
                  </a:lnTo>
                  <a:lnTo>
                    <a:pt x="615" y="483"/>
                  </a:lnTo>
                  <a:lnTo>
                    <a:pt x="610" y="490"/>
                  </a:lnTo>
                  <a:lnTo>
                    <a:pt x="605" y="495"/>
                  </a:lnTo>
                  <a:lnTo>
                    <a:pt x="600" y="502"/>
                  </a:lnTo>
                  <a:lnTo>
                    <a:pt x="595" y="507"/>
                  </a:lnTo>
                  <a:lnTo>
                    <a:pt x="590" y="513"/>
                  </a:lnTo>
                  <a:lnTo>
                    <a:pt x="584" y="516"/>
                  </a:lnTo>
                  <a:lnTo>
                    <a:pt x="578" y="519"/>
                  </a:lnTo>
                  <a:lnTo>
                    <a:pt x="571" y="523"/>
                  </a:lnTo>
                  <a:lnTo>
                    <a:pt x="564" y="525"/>
                  </a:lnTo>
                  <a:lnTo>
                    <a:pt x="556" y="526"/>
                  </a:lnTo>
                  <a:lnTo>
                    <a:pt x="548" y="528"/>
                  </a:lnTo>
                  <a:lnTo>
                    <a:pt x="538" y="528"/>
                  </a:lnTo>
                  <a:lnTo>
                    <a:pt x="526" y="528"/>
                  </a:lnTo>
                  <a:lnTo>
                    <a:pt x="515" y="525"/>
                  </a:lnTo>
                  <a:lnTo>
                    <a:pt x="504" y="521"/>
                  </a:lnTo>
                  <a:lnTo>
                    <a:pt x="494" y="516"/>
                  </a:lnTo>
                  <a:lnTo>
                    <a:pt x="483" y="509"/>
                  </a:lnTo>
                  <a:lnTo>
                    <a:pt x="475" y="502"/>
                  </a:lnTo>
                  <a:lnTo>
                    <a:pt x="466" y="492"/>
                  </a:lnTo>
                  <a:lnTo>
                    <a:pt x="462" y="487"/>
                  </a:lnTo>
                  <a:lnTo>
                    <a:pt x="459" y="481"/>
                  </a:lnTo>
                  <a:lnTo>
                    <a:pt x="452" y="471"/>
                  </a:lnTo>
                  <a:lnTo>
                    <a:pt x="447" y="459"/>
                  </a:lnTo>
                  <a:lnTo>
                    <a:pt x="442" y="447"/>
                  </a:lnTo>
                  <a:lnTo>
                    <a:pt x="439" y="442"/>
                  </a:lnTo>
                  <a:lnTo>
                    <a:pt x="438" y="435"/>
                  </a:lnTo>
                  <a:lnTo>
                    <a:pt x="436" y="429"/>
                  </a:lnTo>
                  <a:lnTo>
                    <a:pt x="435" y="422"/>
                  </a:lnTo>
                  <a:lnTo>
                    <a:pt x="433" y="417"/>
                  </a:lnTo>
                  <a:lnTo>
                    <a:pt x="433" y="410"/>
                  </a:lnTo>
                  <a:lnTo>
                    <a:pt x="432" y="405"/>
                  </a:lnTo>
                  <a:lnTo>
                    <a:pt x="432" y="398"/>
                  </a:lnTo>
                  <a:lnTo>
                    <a:pt x="431" y="393"/>
                  </a:lnTo>
                  <a:lnTo>
                    <a:pt x="431" y="386"/>
                  </a:lnTo>
                  <a:lnTo>
                    <a:pt x="431" y="371"/>
                  </a:lnTo>
                  <a:lnTo>
                    <a:pt x="432" y="357"/>
                  </a:lnTo>
                  <a:lnTo>
                    <a:pt x="433" y="341"/>
                  </a:lnTo>
                  <a:lnTo>
                    <a:pt x="434" y="327"/>
                  </a:lnTo>
                  <a:lnTo>
                    <a:pt x="436" y="312"/>
                  </a:lnTo>
                  <a:lnTo>
                    <a:pt x="439" y="298"/>
                  </a:lnTo>
                  <a:lnTo>
                    <a:pt x="441" y="282"/>
                  </a:lnTo>
                  <a:lnTo>
                    <a:pt x="444" y="268"/>
                  </a:lnTo>
                  <a:lnTo>
                    <a:pt x="452" y="239"/>
                  </a:lnTo>
                  <a:lnTo>
                    <a:pt x="460" y="208"/>
                  </a:lnTo>
                  <a:lnTo>
                    <a:pt x="469" y="176"/>
                  </a:lnTo>
                  <a:lnTo>
                    <a:pt x="479" y="145"/>
                  </a:lnTo>
                  <a:lnTo>
                    <a:pt x="477" y="142"/>
                  </a:lnTo>
                  <a:lnTo>
                    <a:pt x="475" y="138"/>
                  </a:lnTo>
                  <a:lnTo>
                    <a:pt x="473" y="135"/>
                  </a:lnTo>
                  <a:lnTo>
                    <a:pt x="470" y="130"/>
                  </a:lnTo>
                  <a:lnTo>
                    <a:pt x="467" y="126"/>
                  </a:lnTo>
                  <a:lnTo>
                    <a:pt x="464" y="121"/>
                  </a:lnTo>
                  <a:lnTo>
                    <a:pt x="460" y="118"/>
                  </a:lnTo>
                  <a:lnTo>
                    <a:pt x="455" y="112"/>
                  </a:lnTo>
                  <a:lnTo>
                    <a:pt x="451" y="109"/>
                  </a:lnTo>
                  <a:lnTo>
                    <a:pt x="446" y="104"/>
                  </a:lnTo>
                  <a:lnTo>
                    <a:pt x="440" y="100"/>
                  </a:lnTo>
                  <a:lnTo>
                    <a:pt x="435" y="99"/>
                  </a:lnTo>
                  <a:lnTo>
                    <a:pt x="428" y="97"/>
                  </a:lnTo>
                  <a:lnTo>
                    <a:pt x="422" y="95"/>
                  </a:lnTo>
                  <a:lnTo>
                    <a:pt x="416" y="93"/>
                  </a:lnTo>
                  <a:lnTo>
                    <a:pt x="409" y="93"/>
                  </a:lnTo>
                  <a:lnTo>
                    <a:pt x="400" y="93"/>
                  </a:lnTo>
                  <a:lnTo>
                    <a:pt x="390" y="97"/>
                  </a:lnTo>
                  <a:lnTo>
                    <a:pt x="381" y="99"/>
                  </a:lnTo>
                  <a:lnTo>
                    <a:pt x="373" y="104"/>
                  </a:lnTo>
                  <a:lnTo>
                    <a:pt x="364" y="111"/>
                  </a:lnTo>
                  <a:lnTo>
                    <a:pt x="356" y="118"/>
                  </a:lnTo>
                  <a:lnTo>
                    <a:pt x="347" y="126"/>
                  </a:lnTo>
                  <a:lnTo>
                    <a:pt x="339" y="137"/>
                  </a:lnTo>
                  <a:lnTo>
                    <a:pt x="331" y="147"/>
                  </a:lnTo>
                  <a:lnTo>
                    <a:pt x="323" y="159"/>
                  </a:lnTo>
                  <a:lnTo>
                    <a:pt x="317" y="173"/>
                  </a:lnTo>
                  <a:lnTo>
                    <a:pt x="309" y="189"/>
                  </a:lnTo>
                  <a:lnTo>
                    <a:pt x="302" y="206"/>
                  </a:lnTo>
                  <a:lnTo>
                    <a:pt x="295" y="223"/>
                  </a:lnTo>
                  <a:lnTo>
                    <a:pt x="283" y="263"/>
                  </a:lnTo>
                  <a:lnTo>
                    <a:pt x="271" y="306"/>
                  </a:lnTo>
                  <a:lnTo>
                    <a:pt x="261" y="353"/>
                  </a:lnTo>
                  <a:lnTo>
                    <a:pt x="252" y="402"/>
                  </a:lnTo>
                  <a:lnTo>
                    <a:pt x="246" y="452"/>
                  </a:lnTo>
                  <a:lnTo>
                    <a:pt x="240" y="506"/>
                  </a:lnTo>
                  <a:lnTo>
                    <a:pt x="236" y="561"/>
                  </a:lnTo>
                  <a:lnTo>
                    <a:pt x="234" y="620"/>
                  </a:lnTo>
                  <a:lnTo>
                    <a:pt x="233" y="681"/>
                  </a:lnTo>
                  <a:lnTo>
                    <a:pt x="234" y="727"/>
                  </a:lnTo>
                  <a:lnTo>
                    <a:pt x="235" y="771"/>
                  </a:lnTo>
                  <a:lnTo>
                    <a:pt x="238" y="811"/>
                  </a:lnTo>
                  <a:lnTo>
                    <a:pt x="242" y="849"/>
                  </a:lnTo>
                  <a:lnTo>
                    <a:pt x="248" y="882"/>
                  </a:lnTo>
                  <a:lnTo>
                    <a:pt x="254" y="914"/>
                  </a:lnTo>
                  <a:lnTo>
                    <a:pt x="258" y="928"/>
                  </a:lnTo>
                  <a:lnTo>
                    <a:pt x="262" y="942"/>
                  </a:lnTo>
                  <a:lnTo>
                    <a:pt x="267" y="956"/>
                  </a:lnTo>
                  <a:lnTo>
                    <a:pt x="271" y="968"/>
                  </a:lnTo>
                  <a:lnTo>
                    <a:pt x="276" y="980"/>
                  </a:lnTo>
                  <a:lnTo>
                    <a:pt x="281" y="991"/>
                  </a:lnTo>
                  <a:lnTo>
                    <a:pt x="286" y="1001"/>
                  </a:lnTo>
                  <a:lnTo>
                    <a:pt x="292" y="1012"/>
                  </a:lnTo>
                  <a:lnTo>
                    <a:pt x="298" y="1020"/>
                  </a:lnTo>
                  <a:lnTo>
                    <a:pt x="304" y="1029"/>
                  </a:lnTo>
                  <a:lnTo>
                    <a:pt x="310" y="1036"/>
                  </a:lnTo>
                  <a:lnTo>
                    <a:pt x="317" y="1043"/>
                  </a:lnTo>
                  <a:lnTo>
                    <a:pt x="323" y="1048"/>
                  </a:lnTo>
                  <a:lnTo>
                    <a:pt x="331" y="1053"/>
                  </a:lnTo>
                  <a:lnTo>
                    <a:pt x="339" y="1057"/>
                  </a:lnTo>
                  <a:lnTo>
                    <a:pt x="346" y="1060"/>
                  </a:lnTo>
                  <a:lnTo>
                    <a:pt x="354" y="1063"/>
                  </a:lnTo>
                  <a:lnTo>
                    <a:pt x="362" y="1065"/>
                  </a:lnTo>
                  <a:lnTo>
                    <a:pt x="379" y="1067"/>
                  </a:lnTo>
                  <a:lnTo>
                    <a:pt x="397" y="1067"/>
                  </a:lnTo>
                  <a:lnTo>
                    <a:pt x="413" y="1063"/>
                  </a:lnTo>
                  <a:lnTo>
                    <a:pt x="429" y="1060"/>
                  </a:lnTo>
                  <a:lnTo>
                    <a:pt x="444" y="1055"/>
                  </a:lnTo>
                  <a:lnTo>
                    <a:pt x="459" y="1048"/>
                  </a:lnTo>
                  <a:lnTo>
                    <a:pt x="472" y="1039"/>
                  </a:lnTo>
                  <a:lnTo>
                    <a:pt x="486" y="1029"/>
                  </a:lnTo>
                  <a:lnTo>
                    <a:pt x="498" y="1017"/>
                  </a:lnTo>
                  <a:lnTo>
                    <a:pt x="510" y="1003"/>
                  </a:lnTo>
                  <a:lnTo>
                    <a:pt x="522" y="986"/>
                  </a:lnTo>
                  <a:lnTo>
                    <a:pt x="534" y="968"/>
                  </a:lnTo>
                  <a:lnTo>
                    <a:pt x="546" y="947"/>
                  </a:lnTo>
                  <a:lnTo>
                    <a:pt x="559" y="923"/>
                  </a:lnTo>
                  <a:lnTo>
                    <a:pt x="571" y="899"/>
                  </a:lnTo>
                  <a:lnTo>
                    <a:pt x="583" y="871"/>
                  </a:lnTo>
                  <a:lnTo>
                    <a:pt x="596" y="842"/>
                  </a:lnTo>
                  <a:lnTo>
                    <a:pt x="643" y="914"/>
                  </a:lnTo>
                  <a:lnTo>
                    <a:pt x="629" y="953"/>
                  </a:lnTo>
                  <a:lnTo>
                    <a:pt x="614" y="987"/>
                  </a:lnTo>
                  <a:lnTo>
                    <a:pt x="598" y="1020"/>
                  </a:lnTo>
                  <a:lnTo>
                    <a:pt x="581" y="1051"/>
                  </a:lnTo>
                  <a:lnTo>
                    <a:pt x="563" y="1081"/>
                  </a:lnTo>
                  <a:lnTo>
                    <a:pt x="544" y="1109"/>
                  </a:lnTo>
                  <a:lnTo>
                    <a:pt x="523" y="1135"/>
                  </a:lnTo>
                  <a:lnTo>
                    <a:pt x="501" y="1159"/>
                  </a:lnTo>
                  <a:lnTo>
                    <a:pt x="479" y="1180"/>
                  </a:lnTo>
                  <a:lnTo>
                    <a:pt x="457" y="1199"/>
                  </a:lnTo>
                  <a:lnTo>
                    <a:pt x="434" y="1214"/>
                  </a:lnTo>
                  <a:lnTo>
                    <a:pt x="411" y="1228"/>
                  </a:lnTo>
                  <a:lnTo>
                    <a:pt x="388" y="1237"/>
                  </a:lnTo>
                  <a:lnTo>
                    <a:pt x="364" y="1245"/>
                  </a:lnTo>
                  <a:lnTo>
                    <a:pt x="340" y="124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02320" y="3192480"/>
              <a:ext cx="466920" cy="444600"/>
            </a:xfrm>
            <a:custGeom>
              <a:avLst/>
              <a:gdLst/>
              <a:ahLst/>
              <a:rect l="l" t="t" r="r" b="b"/>
              <a:pathLst>
                <a:path w="1297" h="1233">
                  <a:moveTo>
                    <a:pt x="1296" y="1029"/>
                  </a:moveTo>
                  <a:lnTo>
                    <a:pt x="1281" y="1136"/>
                  </a:lnTo>
                  <a:lnTo>
                    <a:pt x="1179" y="1207"/>
                  </a:lnTo>
                  <a:lnTo>
                    <a:pt x="1169" y="1212"/>
                  </a:lnTo>
                  <a:lnTo>
                    <a:pt x="1158" y="1218"/>
                  </a:lnTo>
                  <a:lnTo>
                    <a:pt x="1147" y="1221"/>
                  </a:lnTo>
                  <a:lnTo>
                    <a:pt x="1136" y="1225"/>
                  </a:lnTo>
                  <a:lnTo>
                    <a:pt x="1125" y="1228"/>
                  </a:lnTo>
                  <a:lnTo>
                    <a:pt x="1114" y="1230"/>
                  </a:lnTo>
                  <a:lnTo>
                    <a:pt x="1102" y="1232"/>
                  </a:lnTo>
                  <a:lnTo>
                    <a:pt x="1089" y="1232"/>
                  </a:lnTo>
                  <a:lnTo>
                    <a:pt x="1070" y="1230"/>
                  </a:lnTo>
                  <a:lnTo>
                    <a:pt x="1053" y="1226"/>
                  </a:lnTo>
                  <a:lnTo>
                    <a:pt x="1036" y="1221"/>
                  </a:lnTo>
                  <a:lnTo>
                    <a:pt x="1020" y="1214"/>
                  </a:lnTo>
                  <a:lnTo>
                    <a:pt x="1006" y="1204"/>
                  </a:lnTo>
                  <a:lnTo>
                    <a:pt x="992" y="1192"/>
                  </a:lnTo>
                  <a:lnTo>
                    <a:pt x="980" y="1178"/>
                  </a:lnTo>
                  <a:lnTo>
                    <a:pt x="975" y="1169"/>
                  </a:lnTo>
                  <a:lnTo>
                    <a:pt x="969" y="1160"/>
                  </a:lnTo>
                  <a:lnTo>
                    <a:pt x="959" y="1143"/>
                  </a:lnTo>
                  <a:lnTo>
                    <a:pt x="954" y="1133"/>
                  </a:lnTo>
                  <a:lnTo>
                    <a:pt x="950" y="1122"/>
                  </a:lnTo>
                  <a:lnTo>
                    <a:pt x="946" y="1114"/>
                  </a:lnTo>
                  <a:lnTo>
                    <a:pt x="943" y="1103"/>
                  </a:lnTo>
                  <a:lnTo>
                    <a:pt x="939" y="1093"/>
                  </a:lnTo>
                  <a:lnTo>
                    <a:pt x="937" y="1081"/>
                  </a:lnTo>
                  <a:lnTo>
                    <a:pt x="934" y="1070"/>
                  </a:lnTo>
                  <a:lnTo>
                    <a:pt x="932" y="1058"/>
                  </a:lnTo>
                  <a:lnTo>
                    <a:pt x="930" y="1046"/>
                  </a:lnTo>
                  <a:lnTo>
                    <a:pt x="928" y="1034"/>
                  </a:lnTo>
                  <a:lnTo>
                    <a:pt x="927" y="1022"/>
                  </a:lnTo>
                  <a:lnTo>
                    <a:pt x="926" y="1010"/>
                  </a:lnTo>
                  <a:lnTo>
                    <a:pt x="926" y="998"/>
                  </a:lnTo>
                  <a:lnTo>
                    <a:pt x="926" y="984"/>
                  </a:lnTo>
                  <a:lnTo>
                    <a:pt x="926" y="968"/>
                  </a:lnTo>
                  <a:lnTo>
                    <a:pt x="926" y="951"/>
                  </a:lnTo>
                  <a:lnTo>
                    <a:pt x="927" y="911"/>
                  </a:lnTo>
                  <a:lnTo>
                    <a:pt x="929" y="887"/>
                  </a:lnTo>
                  <a:lnTo>
                    <a:pt x="932" y="861"/>
                  </a:lnTo>
                  <a:lnTo>
                    <a:pt x="934" y="831"/>
                  </a:lnTo>
                  <a:lnTo>
                    <a:pt x="938" y="800"/>
                  </a:lnTo>
                  <a:lnTo>
                    <a:pt x="985" y="483"/>
                  </a:lnTo>
                  <a:lnTo>
                    <a:pt x="988" y="457"/>
                  </a:lnTo>
                  <a:lnTo>
                    <a:pt x="992" y="435"/>
                  </a:lnTo>
                  <a:lnTo>
                    <a:pt x="994" y="410"/>
                  </a:lnTo>
                  <a:lnTo>
                    <a:pt x="996" y="390"/>
                  </a:lnTo>
                  <a:lnTo>
                    <a:pt x="998" y="371"/>
                  </a:lnTo>
                  <a:lnTo>
                    <a:pt x="998" y="351"/>
                  </a:lnTo>
                  <a:lnTo>
                    <a:pt x="999" y="336"/>
                  </a:lnTo>
                  <a:lnTo>
                    <a:pt x="999" y="322"/>
                  </a:lnTo>
                  <a:lnTo>
                    <a:pt x="999" y="308"/>
                  </a:lnTo>
                  <a:lnTo>
                    <a:pt x="998" y="294"/>
                  </a:lnTo>
                  <a:lnTo>
                    <a:pt x="997" y="282"/>
                  </a:lnTo>
                  <a:lnTo>
                    <a:pt x="996" y="272"/>
                  </a:lnTo>
                  <a:lnTo>
                    <a:pt x="994" y="267"/>
                  </a:lnTo>
                  <a:lnTo>
                    <a:pt x="993" y="261"/>
                  </a:lnTo>
                  <a:lnTo>
                    <a:pt x="992" y="256"/>
                  </a:lnTo>
                  <a:lnTo>
                    <a:pt x="991" y="251"/>
                  </a:lnTo>
                  <a:lnTo>
                    <a:pt x="989" y="246"/>
                  </a:lnTo>
                  <a:lnTo>
                    <a:pt x="987" y="242"/>
                  </a:lnTo>
                  <a:lnTo>
                    <a:pt x="986" y="237"/>
                  </a:lnTo>
                  <a:lnTo>
                    <a:pt x="984" y="234"/>
                  </a:lnTo>
                  <a:lnTo>
                    <a:pt x="982" y="230"/>
                  </a:lnTo>
                  <a:lnTo>
                    <a:pt x="980" y="225"/>
                  </a:lnTo>
                  <a:lnTo>
                    <a:pt x="977" y="222"/>
                  </a:lnTo>
                  <a:lnTo>
                    <a:pt x="976" y="220"/>
                  </a:lnTo>
                  <a:lnTo>
                    <a:pt x="972" y="216"/>
                  </a:lnTo>
                  <a:lnTo>
                    <a:pt x="970" y="213"/>
                  </a:lnTo>
                  <a:lnTo>
                    <a:pt x="967" y="211"/>
                  </a:lnTo>
                  <a:lnTo>
                    <a:pt x="964" y="209"/>
                  </a:lnTo>
                  <a:lnTo>
                    <a:pt x="957" y="206"/>
                  </a:lnTo>
                  <a:lnTo>
                    <a:pt x="950" y="202"/>
                  </a:lnTo>
                  <a:lnTo>
                    <a:pt x="943" y="201"/>
                  </a:lnTo>
                  <a:lnTo>
                    <a:pt x="934" y="201"/>
                  </a:lnTo>
                  <a:lnTo>
                    <a:pt x="927" y="201"/>
                  </a:lnTo>
                  <a:lnTo>
                    <a:pt x="920" y="202"/>
                  </a:lnTo>
                  <a:lnTo>
                    <a:pt x="914" y="206"/>
                  </a:lnTo>
                  <a:lnTo>
                    <a:pt x="906" y="211"/>
                  </a:lnTo>
                  <a:lnTo>
                    <a:pt x="898" y="216"/>
                  </a:lnTo>
                  <a:lnTo>
                    <a:pt x="889" y="223"/>
                  </a:lnTo>
                  <a:lnTo>
                    <a:pt x="881" y="232"/>
                  </a:lnTo>
                  <a:lnTo>
                    <a:pt x="871" y="241"/>
                  </a:lnTo>
                  <a:lnTo>
                    <a:pt x="853" y="263"/>
                  </a:lnTo>
                  <a:lnTo>
                    <a:pt x="833" y="289"/>
                  </a:lnTo>
                  <a:lnTo>
                    <a:pt x="815" y="317"/>
                  </a:lnTo>
                  <a:lnTo>
                    <a:pt x="795" y="350"/>
                  </a:lnTo>
                  <a:lnTo>
                    <a:pt x="688" y="1211"/>
                  </a:lnTo>
                  <a:lnTo>
                    <a:pt x="473" y="1211"/>
                  </a:lnTo>
                  <a:lnTo>
                    <a:pt x="563" y="483"/>
                  </a:lnTo>
                  <a:lnTo>
                    <a:pt x="574" y="386"/>
                  </a:lnTo>
                  <a:lnTo>
                    <a:pt x="576" y="369"/>
                  </a:lnTo>
                  <a:lnTo>
                    <a:pt x="577" y="351"/>
                  </a:lnTo>
                  <a:lnTo>
                    <a:pt x="578" y="336"/>
                  </a:lnTo>
                  <a:lnTo>
                    <a:pt x="578" y="322"/>
                  </a:lnTo>
                  <a:lnTo>
                    <a:pt x="578" y="308"/>
                  </a:lnTo>
                  <a:lnTo>
                    <a:pt x="577" y="294"/>
                  </a:lnTo>
                  <a:lnTo>
                    <a:pt x="575" y="282"/>
                  </a:lnTo>
                  <a:lnTo>
                    <a:pt x="574" y="272"/>
                  </a:lnTo>
                  <a:lnTo>
                    <a:pt x="573" y="267"/>
                  </a:lnTo>
                  <a:lnTo>
                    <a:pt x="572" y="261"/>
                  </a:lnTo>
                  <a:lnTo>
                    <a:pt x="570" y="256"/>
                  </a:lnTo>
                  <a:lnTo>
                    <a:pt x="569" y="251"/>
                  </a:lnTo>
                  <a:lnTo>
                    <a:pt x="567" y="246"/>
                  </a:lnTo>
                  <a:lnTo>
                    <a:pt x="566" y="242"/>
                  </a:lnTo>
                  <a:lnTo>
                    <a:pt x="564" y="237"/>
                  </a:lnTo>
                  <a:lnTo>
                    <a:pt x="562" y="234"/>
                  </a:lnTo>
                  <a:lnTo>
                    <a:pt x="560" y="230"/>
                  </a:lnTo>
                  <a:lnTo>
                    <a:pt x="558" y="225"/>
                  </a:lnTo>
                  <a:lnTo>
                    <a:pt x="556" y="222"/>
                  </a:lnTo>
                  <a:lnTo>
                    <a:pt x="553" y="220"/>
                  </a:lnTo>
                  <a:lnTo>
                    <a:pt x="551" y="216"/>
                  </a:lnTo>
                  <a:lnTo>
                    <a:pt x="547" y="213"/>
                  </a:lnTo>
                  <a:lnTo>
                    <a:pt x="545" y="211"/>
                  </a:lnTo>
                  <a:lnTo>
                    <a:pt x="541" y="209"/>
                  </a:lnTo>
                  <a:lnTo>
                    <a:pt x="534" y="206"/>
                  </a:lnTo>
                  <a:lnTo>
                    <a:pt x="528" y="202"/>
                  </a:lnTo>
                  <a:lnTo>
                    <a:pt x="519" y="201"/>
                  </a:lnTo>
                  <a:lnTo>
                    <a:pt x="511" y="201"/>
                  </a:lnTo>
                  <a:lnTo>
                    <a:pt x="506" y="201"/>
                  </a:lnTo>
                  <a:lnTo>
                    <a:pt x="500" y="202"/>
                  </a:lnTo>
                  <a:lnTo>
                    <a:pt x="493" y="204"/>
                  </a:lnTo>
                  <a:lnTo>
                    <a:pt x="487" y="208"/>
                  </a:lnTo>
                  <a:lnTo>
                    <a:pt x="479" y="213"/>
                  </a:lnTo>
                  <a:lnTo>
                    <a:pt x="472" y="218"/>
                  </a:lnTo>
                  <a:lnTo>
                    <a:pt x="455" y="230"/>
                  </a:lnTo>
                  <a:lnTo>
                    <a:pt x="446" y="239"/>
                  </a:lnTo>
                  <a:lnTo>
                    <a:pt x="436" y="249"/>
                  </a:lnTo>
                  <a:lnTo>
                    <a:pt x="425" y="261"/>
                  </a:lnTo>
                  <a:lnTo>
                    <a:pt x="414" y="275"/>
                  </a:lnTo>
                  <a:lnTo>
                    <a:pt x="403" y="291"/>
                  </a:lnTo>
                  <a:lnTo>
                    <a:pt x="391" y="308"/>
                  </a:lnTo>
                  <a:lnTo>
                    <a:pt x="365" y="350"/>
                  </a:lnTo>
                  <a:lnTo>
                    <a:pt x="258" y="1211"/>
                  </a:lnTo>
                  <a:lnTo>
                    <a:pt x="43" y="1211"/>
                  </a:lnTo>
                  <a:lnTo>
                    <a:pt x="135" y="478"/>
                  </a:lnTo>
                  <a:lnTo>
                    <a:pt x="145" y="390"/>
                  </a:lnTo>
                  <a:lnTo>
                    <a:pt x="148" y="364"/>
                  </a:lnTo>
                  <a:lnTo>
                    <a:pt x="149" y="341"/>
                  </a:lnTo>
                  <a:lnTo>
                    <a:pt x="151" y="320"/>
                  </a:lnTo>
                  <a:lnTo>
                    <a:pt x="151" y="310"/>
                  </a:lnTo>
                  <a:lnTo>
                    <a:pt x="151" y="301"/>
                  </a:lnTo>
                  <a:lnTo>
                    <a:pt x="151" y="286"/>
                  </a:lnTo>
                  <a:lnTo>
                    <a:pt x="150" y="270"/>
                  </a:lnTo>
                  <a:lnTo>
                    <a:pt x="149" y="256"/>
                  </a:lnTo>
                  <a:lnTo>
                    <a:pt x="148" y="244"/>
                  </a:lnTo>
                  <a:lnTo>
                    <a:pt x="147" y="239"/>
                  </a:lnTo>
                  <a:lnTo>
                    <a:pt x="146" y="234"/>
                  </a:lnTo>
                  <a:lnTo>
                    <a:pt x="144" y="228"/>
                  </a:lnTo>
                  <a:lnTo>
                    <a:pt x="143" y="223"/>
                  </a:lnTo>
                  <a:lnTo>
                    <a:pt x="142" y="218"/>
                  </a:lnTo>
                  <a:lnTo>
                    <a:pt x="140" y="215"/>
                  </a:lnTo>
                  <a:lnTo>
                    <a:pt x="138" y="211"/>
                  </a:lnTo>
                  <a:lnTo>
                    <a:pt x="137" y="208"/>
                  </a:lnTo>
                  <a:lnTo>
                    <a:pt x="135" y="204"/>
                  </a:lnTo>
                  <a:lnTo>
                    <a:pt x="132" y="201"/>
                  </a:lnTo>
                  <a:lnTo>
                    <a:pt x="131" y="199"/>
                  </a:lnTo>
                  <a:lnTo>
                    <a:pt x="128" y="196"/>
                  </a:lnTo>
                  <a:lnTo>
                    <a:pt x="125" y="194"/>
                  </a:lnTo>
                  <a:lnTo>
                    <a:pt x="122" y="192"/>
                  </a:lnTo>
                  <a:lnTo>
                    <a:pt x="115" y="189"/>
                  </a:lnTo>
                  <a:lnTo>
                    <a:pt x="108" y="185"/>
                  </a:lnTo>
                  <a:lnTo>
                    <a:pt x="100" y="183"/>
                  </a:lnTo>
                  <a:lnTo>
                    <a:pt x="91" y="182"/>
                  </a:lnTo>
                  <a:lnTo>
                    <a:pt x="81" y="182"/>
                  </a:lnTo>
                  <a:lnTo>
                    <a:pt x="70" y="182"/>
                  </a:lnTo>
                  <a:lnTo>
                    <a:pt x="65" y="183"/>
                  </a:lnTo>
                  <a:lnTo>
                    <a:pt x="60" y="185"/>
                  </a:lnTo>
                  <a:lnTo>
                    <a:pt x="54" y="187"/>
                  </a:lnTo>
                  <a:lnTo>
                    <a:pt x="49" y="189"/>
                  </a:lnTo>
                  <a:lnTo>
                    <a:pt x="43" y="190"/>
                  </a:lnTo>
                  <a:lnTo>
                    <a:pt x="37" y="194"/>
                  </a:lnTo>
                  <a:lnTo>
                    <a:pt x="27" y="199"/>
                  </a:lnTo>
                  <a:lnTo>
                    <a:pt x="17" y="206"/>
                  </a:lnTo>
                  <a:lnTo>
                    <a:pt x="0" y="216"/>
                  </a:lnTo>
                  <a:lnTo>
                    <a:pt x="15" y="109"/>
                  </a:lnTo>
                  <a:lnTo>
                    <a:pt x="115" y="41"/>
                  </a:lnTo>
                  <a:lnTo>
                    <a:pt x="127" y="34"/>
                  </a:lnTo>
                  <a:lnTo>
                    <a:pt x="139" y="29"/>
                  </a:lnTo>
                  <a:lnTo>
                    <a:pt x="151" y="24"/>
                  </a:lnTo>
                  <a:lnTo>
                    <a:pt x="162" y="21"/>
                  </a:lnTo>
                  <a:lnTo>
                    <a:pt x="174" y="17"/>
                  </a:lnTo>
                  <a:lnTo>
                    <a:pt x="185" y="15"/>
                  </a:lnTo>
                  <a:lnTo>
                    <a:pt x="195" y="14"/>
                  </a:lnTo>
                  <a:lnTo>
                    <a:pt x="206" y="14"/>
                  </a:lnTo>
                  <a:lnTo>
                    <a:pt x="225" y="15"/>
                  </a:lnTo>
                  <a:lnTo>
                    <a:pt x="243" y="17"/>
                  </a:lnTo>
                  <a:lnTo>
                    <a:pt x="259" y="22"/>
                  </a:lnTo>
                  <a:lnTo>
                    <a:pt x="275" y="27"/>
                  </a:lnTo>
                  <a:lnTo>
                    <a:pt x="288" y="36"/>
                  </a:lnTo>
                  <a:lnTo>
                    <a:pt x="295" y="41"/>
                  </a:lnTo>
                  <a:lnTo>
                    <a:pt x="301" y="47"/>
                  </a:lnTo>
                  <a:lnTo>
                    <a:pt x="306" y="52"/>
                  </a:lnTo>
                  <a:lnTo>
                    <a:pt x="312" y="59"/>
                  </a:lnTo>
                  <a:lnTo>
                    <a:pt x="317" y="66"/>
                  </a:lnTo>
                  <a:lnTo>
                    <a:pt x="321" y="73"/>
                  </a:lnTo>
                  <a:lnTo>
                    <a:pt x="330" y="88"/>
                  </a:lnTo>
                  <a:lnTo>
                    <a:pt x="337" y="104"/>
                  </a:lnTo>
                  <a:lnTo>
                    <a:pt x="344" y="121"/>
                  </a:lnTo>
                  <a:lnTo>
                    <a:pt x="351" y="140"/>
                  </a:lnTo>
                  <a:lnTo>
                    <a:pt x="357" y="159"/>
                  </a:lnTo>
                  <a:lnTo>
                    <a:pt x="362" y="180"/>
                  </a:lnTo>
                  <a:lnTo>
                    <a:pt x="366" y="201"/>
                  </a:lnTo>
                  <a:lnTo>
                    <a:pt x="370" y="223"/>
                  </a:lnTo>
                  <a:lnTo>
                    <a:pt x="374" y="223"/>
                  </a:lnTo>
                  <a:lnTo>
                    <a:pt x="407" y="171"/>
                  </a:lnTo>
                  <a:lnTo>
                    <a:pt x="439" y="128"/>
                  </a:lnTo>
                  <a:lnTo>
                    <a:pt x="454" y="107"/>
                  </a:lnTo>
                  <a:lnTo>
                    <a:pt x="470" y="88"/>
                  </a:lnTo>
                  <a:lnTo>
                    <a:pt x="485" y="73"/>
                  </a:lnTo>
                  <a:lnTo>
                    <a:pt x="501" y="57"/>
                  </a:lnTo>
                  <a:lnTo>
                    <a:pt x="516" y="43"/>
                  </a:lnTo>
                  <a:lnTo>
                    <a:pt x="532" y="33"/>
                  </a:lnTo>
                  <a:lnTo>
                    <a:pt x="548" y="22"/>
                  </a:lnTo>
                  <a:lnTo>
                    <a:pt x="565" y="14"/>
                  </a:lnTo>
                  <a:lnTo>
                    <a:pt x="583" y="8"/>
                  </a:lnTo>
                  <a:lnTo>
                    <a:pt x="601" y="3"/>
                  </a:lnTo>
                  <a:lnTo>
                    <a:pt x="620" y="1"/>
                  </a:lnTo>
                  <a:lnTo>
                    <a:pt x="639" y="0"/>
                  </a:lnTo>
                  <a:lnTo>
                    <a:pt x="656" y="1"/>
                  </a:lnTo>
                  <a:lnTo>
                    <a:pt x="672" y="3"/>
                  </a:lnTo>
                  <a:lnTo>
                    <a:pt x="686" y="8"/>
                  </a:lnTo>
                  <a:lnTo>
                    <a:pt x="700" y="17"/>
                  </a:lnTo>
                  <a:lnTo>
                    <a:pt x="714" y="26"/>
                  </a:lnTo>
                  <a:lnTo>
                    <a:pt x="727" y="38"/>
                  </a:lnTo>
                  <a:lnTo>
                    <a:pt x="738" y="50"/>
                  </a:lnTo>
                  <a:lnTo>
                    <a:pt x="749" y="66"/>
                  </a:lnTo>
                  <a:lnTo>
                    <a:pt x="760" y="83"/>
                  </a:lnTo>
                  <a:lnTo>
                    <a:pt x="769" y="100"/>
                  </a:lnTo>
                  <a:lnTo>
                    <a:pt x="772" y="109"/>
                  </a:lnTo>
                  <a:lnTo>
                    <a:pt x="777" y="119"/>
                  </a:lnTo>
                  <a:lnTo>
                    <a:pt x="780" y="128"/>
                  </a:lnTo>
                  <a:lnTo>
                    <a:pt x="783" y="138"/>
                  </a:lnTo>
                  <a:lnTo>
                    <a:pt x="786" y="149"/>
                  </a:lnTo>
                  <a:lnTo>
                    <a:pt x="788" y="159"/>
                  </a:lnTo>
                  <a:lnTo>
                    <a:pt x="791" y="170"/>
                  </a:lnTo>
                  <a:lnTo>
                    <a:pt x="793" y="182"/>
                  </a:lnTo>
                  <a:lnTo>
                    <a:pt x="794" y="192"/>
                  </a:lnTo>
                  <a:lnTo>
                    <a:pt x="795" y="204"/>
                  </a:lnTo>
                  <a:lnTo>
                    <a:pt x="796" y="216"/>
                  </a:lnTo>
                  <a:lnTo>
                    <a:pt x="797" y="228"/>
                  </a:lnTo>
                  <a:lnTo>
                    <a:pt x="802" y="228"/>
                  </a:lnTo>
                  <a:lnTo>
                    <a:pt x="836" y="176"/>
                  </a:lnTo>
                  <a:lnTo>
                    <a:pt x="869" y="131"/>
                  </a:lnTo>
                  <a:lnTo>
                    <a:pt x="900" y="92"/>
                  </a:lnTo>
                  <a:lnTo>
                    <a:pt x="931" y="59"/>
                  </a:lnTo>
                  <a:lnTo>
                    <a:pt x="946" y="45"/>
                  </a:lnTo>
                  <a:lnTo>
                    <a:pt x="961" y="33"/>
                  </a:lnTo>
                  <a:lnTo>
                    <a:pt x="978" y="22"/>
                  </a:lnTo>
                  <a:lnTo>
                    <a:pt x="994" y="14"/>
                  </a:lnTo>
                  <a:lnTo>
                    <a:pt x="1012" y="8"/>
                  </a:lnTo>
                  <a:lnTo>
                    <a:pt x="1030" y="3"/>
                  </a:lnTo>
                  <a:lnTo>
                    <a:pt x="1047" y="1"/>
                  </a:lnTo>
                  <a:lnTo>
                    <a:pt x="1067" y="0"/>
                  </a:lnTo>
                  <a:lnTo>
                    <a:pt x="1084" y="1"/>
                  </a:lnTo>
                  <a:lnTo>
                    <a:pt x="1101" y="5"/>
                  </a:lnTo>
                  <a:lnTo>
                    <a:pt x="1116" y="10"/>
                  </a:lnTo>
                  <a:lnTo>
                    <a:pt x="1131" y="19"/>
                  </a:lnTo>
                  <a:lnTo>
                    <a:pt x="1145" y="27"/>
                  </a:lnTo>
                  <a:lnTo>
                    <a:pt x="1151" y="34"/>
                  </a:lnTo>
                  <a:lnTo>
                    <a:pt x="1158" y="41"/>
                  </a:lnTo>
                  <a:lnTo>
                    <a:pt x="1163" y="48"/>
                  </a:lnTo>
                  <a:lnTo>
                    <a:pt x="1169" y="55"/>
                  </a:lnTo>
                  <a:lnTo>
                    <a:pt x="1174" y="64"/>
                  </a:lnTo>
                  <a:lnTo>
                    <a:pt x="1180" y="73"/>
                  </a:lnTo>
                  <a:lnTo>
                    <a:pt x="1189" y="92"/>
                  </a:lnTo>
                  <a:lnTo>
                    <a:pt x="1197" y="111"/>
                  </a:lnTo>
                  <a:lnTo>
                    <a:pt x="1201" y="121"/>
                  </a:lnTo>
                  <a:lnTo>
                    <a:pt x="1204" y="131"/>
                  </a:lnTo>
                  <a:lnTo>
                    <a:pt x="1207" y="142"/>
                  </a:lnTo>
                  <a:lnTo>
                    <a:pt x="1210" y="154"/>
                  </a:lnTo>
                  <a:lnTo>
                    <a:pt x="1213" y="164"/>
                  </a:lnTo>
                  <a:lnTo>
                    <a:pt x="1214" y="176"/>
                  </a:lnTo>
                  <a:lnTo>
                    <a:pt x="1216" y="187"/>
                  </a:lnTo>
                  <a:lnTo>
                    <a:pt x="1218" y="199"/>
                  </a:lnTo>
                  <a:lnTo>
                    <a:pt x="1219" y="211"/>
                  </a:lnTo>
                  <a:lnTo>
                    <a:pt x="1219" y="223"/>
                  </a:lnTo>
                  <a:lnTo>
                    <a:pt x="1220" y="237"/>
                  </a:lnTo>
                  <a:lnTo>
                    <a:pt x="1220" y="249"/>
                  </a:lnTo>
                  <a:lnTo>
                    <a:pt x="1220" y="265"/>
                  </a:lnTo>
                  <a:lnTo>
                    <a:pt x="1219" y="282"/>
                  </a:lnTo>
                  <a:lnTo>
                    <a:pt x="1218" y="325"/>
                  </a:lnTo>
                  <a:lnTo>
                    <a:pt x="1217" y="339"/>
                  </a:lnTo>
                  <a:lnTo>
                    <a:pt x="1217" y="351"/>
                  </a:lnTo>
                  <a:lnTo>
                    <a:pt x="1215" y="365"/>
                  </a:lnTo>
                  <a:lnTo>
                    <a:pt x="1214" y="377"/>
                  </a:lnTo>
                  <a:lnTo>
                    <a:pt x="1211" y="403"/>
                  </a:lnTo>
                  <a:lnTo>
                    <a:pt x="1207" y="431"/>
                  </a:lnTo>
                  <a:lnTo>
                    <a:pt x="1158" y="767"/>
                  </a:lnTo>
                  <a:lnTo>
                    <a:pt x="1154" y="790"/>
                  </a:lnTo>
                  <a:lnTo>
                    <a:pt x="1152" y="812"/>
                  </a:lnTo>
                  <a:lnTo>
                    <a:pt x="1148" y="837"/>
                  </a:lnTo>
                  <a:lnTo>
                    <a:pt x="1146" y="863"/>
                  </a:lnTo>
                  <a:lnTo>
                    <a:pt x="1143" y="888"/>
                  </a:lnTo>
                  <a:lnTo>
                    <a:pt x="1142" y="911"/>
                  </a:lnTo>
                  <a:lnTo>
                    <a:pt x="1141" y="928"/>
                  </a:lnTo>
                  <a:lnTo>
                    <a:pt x="1141" y="937"/>
                  </a:lnTo>
                  <a:lnTo>
                    <a:pt x="1141" y="944"/>
                  </a:lnTo>
                  <a:lnTo>
                    <a:pt x="1141" y="961"/>
                  </a:lnTo>
                  <a:lnTo>
                    <a:pt x="1141" y="977"/>
                  </a:lnTo>
                  <a:lnTo>
                    <a:pt x="1143" y="991"/>
                  </a:lnTo>
                  <a:lnTo>
                    <a:pt x="1144" y="996"/>
                  </a:lnTo>
                  <a:lnTo>
                    <a:pt x="1145" y="1003"/>
                  </a:lnTo>
                  <a:lnTo>
                    <a:pt x="1146" y="1008"/>
                  </a:lnTo>
                  <a:lnTo>
                    <a:pt x="1147" y="1013"/>
                  </a:lnTo>
                  <a:lnTo>
                    <a:pt x="1149" y="1018"/>
                  </a:lnTo>
                  <a:lnTo>
                    <a:pt x="1150" y="1024"/>
                  </a:lnTo>
                  <a:lnTo>
                    <a:pt x="1152" y="1029"/>
                  </a:lnTo>
                  <a:lnTo>
                    <a:pt x="1153" y="1032"/>
                  </a:lnTo>
                  <a:lnTo>
                    <a:pt x="1156" y="1036"/>
                  </a:lnTo>
                  <a:lnTo>
                    <a:pt x="1158" y="1039"/>
                  </a:lnTo>
                  <a:lnTo>
                    <a:pt x="1160" y="1043"/>
                  </a:lnTo>
                  <a:lnTo>
                    <a:pt x="1162" y="1044"/>
                  </a:lnTo>
                  <a:lnTo>
                    <a:pt x="1164" y="1048"/>
                  </a:lnTo>
                  <a:lnTo>
                    <a:pt x="1168" y="1050"/>
                  </a:lnTo>
                  <a:lnTo>
                    <a:pt x="1174" y="1053"/>
                  </a:lnTo>
                  <a:lnTo>
                    <a:pt x="1180" y="1057"/>
                  </a:lnTo>
                  <a:lnTo>
                    <a:pt x="1188" y="1060"/>
                  </a:lnTo>
                  <a:lnTo>
                    <a:pt x="1196" y="1062"/>
                  </a:lnTo>
                  <a:lnTo>
                    <a:pt x="1206" y="1063"/>
                  </a:lnTo>
                  <a:lnTo>
                    <a:pt x="1216" y="1063"/>
                  </a:lnTo>
                  <a:lnTo>
                    <a:pt x="1221" y="1063"/>
                  </a:lnTo>
                  <a:lnTo>
                    <a:pt x="1226" y="1063"/>
                  </a:lnTo>
                  <a:lnTo>
                    <a:pt x="1231" y="1062"/>
                  </a:lnTo>
                  <a:lnTo>
                    <a:pt x="1236" y="1060"/>
                  </a:lnTo>
                  <a:lnTo>
                    <a:pt x="1248" y="1057"/>
                  </a:lnTo>
                  <a:lnTo>
                    <a:pt x="1260" y="1051"/>
                  </a:lnTo>
                  <a:lnTo>
                    <a:pt x="1281" y="1039"/>
                  </a:lnTo>
                  <a:lnTo>
                    <a:pt x="1289" y="1034"/>
                  </a:lnTo>
                  <a:lnTo>
                    <a:pt x="1292" y="103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80320" y="3192480"/>
              <a:ext cx="344520" cy="627120"/>
            </a:xfrm>
            <a:custGeom>
              <a:avLst/>
              <a:gdLst/>
              <a:ahLst/>
              <a:rect l="l" t="t" r="r" b="b"/>
              <a:pathLst>
                <a:path w="958" h="1742">
                  <a:moveTo>
                    <a:pt x="957" y="457"/>
                  </a:moveTo>
                  <a:lnTo>
                    <a:pt x="956" y="497"/>
                  </a:lnTo>
                  <a:lnTo>
                    <a:pt x="955" y="535"/>
                  </a:lnTo>
                  <a:lnTo>
                    <a:pt x="952" y="575"/>
                  </a:lnTo>
                  <a:lnTo>
                    <a:pt x="949" y="613"/>
                  </a:lnTo>
                  <a:lnTo>
                    <a:pt x="945" y="651"/>
                  </a:lnTo>
                  <a:lnTo>
                    <a:pt x="940" y="688"/>
                  </a:lnTo>
                  <a:lnTo>
                    <a:pt x="933" y="726"/>
                  </a:lnTo>
                  <a:lnTo>
                    <a:pt x="926" y="762"/>
                  </a:lnTo>
                  <a:lnTo>
                    <a:pt x="918" y="798"/>
                  </a:lnTo>
                  <a:lnTo>
                    <a:pt x="909" y="833"/>
                  </a:lnTo>
                  <a:lnTo>
                    <a:pt x="900" y="866"/>
                  </a:lnTo>
                  <a:lnTo>
                    <a:pt x="890" y="897"/>
                  </a:lnTo>
                  <a:lnTo>
                    <a:pt x="879" y="928"/>
                  </a:lnTo>
                  <a:lnTo>
                    <a:pt x="867" y="958"/>
                  </a:lnTo>
                  <a:lnTo>
                    <a:pt x="855" y="986"/>
                  </a:lnTo>
                  <a:lnTo>
                    <a:pt x="842" y="1013"/>
                  </a:lnTo>
                  <a:lnTo>
                    <a:pt x="828" y="1039"/>
                  </a:lnTo>
                  <a:lnTo>
                    <a:pt x="813" y="1065"/>
                  </a:lnTo>
                  <a:lnTo>
                    <a:pt x="799" y="1088"/>
                  </a:lnTo>
                  <a:lnTo>
                    <a:pt x="784" y="1110"/>
                  </a:lnTo>
                  <a:lnTo>
                    <a:pt x="768" y="1131"/>
                  </a:lnTo>
                  <a:lnTo>
                    <a:pt x="752" y="1150"/>
                  </a:lnTo>
                  <a:lnTo>
                    <a:pt x="736" y="1167"/>
                  </a:lnTo>
                  <a:lnTo>
                    <a:pt x="719" y="1183"/>
                  </a:lnTo>
                  <a:lnTo>
                    <a:pt x="701" y="1197"/>
                  </a:lnTo>
                  <a:lnTo>
                    <a:pt x="683" y="1209"/>
                  </a:lnTo>
                  <a:lnTo>
                    <a:pt x="665" y="1219"/>
                  </a:lnTo>
                  <a:lnTo>
                    <a:pt x="647" y="1228"/>
                  </a:lnTo>
                  <a:lnTo>
                    <a:pt x="627" y="1233"/>
                  </a:lnTo>
                  <a:lnTo>
                    <a:pt x="608" y="1238"/>
                  </a:lnTo>
                  <a:lnTo>
                    <a:pt x="587" y="1240"/>
                  </a:lnTo>
                  <a:lnTo>
                    <a:pt x="567" y="1242"/>
                  </a:lnTo>
                  <a:lnTo>
                    <a:pt x="537" y="1240"/>
                  </a:lnTo>
                  <a:lnTo>
                    <a:pt x="510" y="1237"/>
                  </a:lnTo>
                  <a:lnTo>
                    <a:pt x="499" y="1233"/>
                  </a:lnTo>
                  <a:lnTo>
                    <a:pt x="487" y="1230"/>
                  </a:lnTo>
                  <a:lnTo>
                    <a:pt x="477" y="1225"/>
                  </a:lnTo>
                  <a:lnTo>
                    <a:pt x="466" y="1219"/>
                  </a:lnTo>
                  <a:lnTo>
                    <a:pt x="457" y="1214"/>
                  </a:lnTo>
                  <a:lnTo>
                    <a:pt x="449" y="1207"/>
                  </a:lnTo>
                  <a:lnTo>
                    <a:pt x="440" y="1200"/>
                  </a:lnTo>
                  <a:lnTo>
                    <a:pt x="432" y="1193"/>
                  </a:lnTo>
                  <a:lnTo>
                    <a:pt x="423" y="1185"/>
                  </a:lnTo>
                  <a:lnTo>
                    <a:pt x="416" y="1176"/>
                  </a:lnTo>
                  <a:lnTo>
                    <a:pt x="408" y="1167"/>
                  </a:lnTo>
                  <a:lnTo>
                    <a:pt x="401" y="1157"/>
                  </a:lnTo>
                  <a:lnTo>
                    <a:pt x="361" y="1476"/>
                  </a:lnTo>
                  <a:lnTo>
                    <a:pt x="361" y="1479"/>
                  </a:lnTo>
                  <a:lnTo>
                    <a:pt x="361" y="1483"/>
                  </a:lnTo>
                  <a:lnTo>
                    <a:pt x="360" y="1491"/>
                  </a:lnTo>
                  <a:lnTo>
                    <a:pt x="358" y="1500"/>
                  </a:lnTo>
                  <a:lnTo>
                    <a:pt x="357" y="1509"/>
                  </a:lnTo>
                  <a:lnTo>
                    <a:pt x="356" y="1526"/>
                  </a:lnTo>
                  <a:lnTo>
                    <a:pt x="355" y="1531"/>
                  </a:lnTo>
                  <a:lnTo>
                    <a:pt x="355" y="1535"/>
                  </a:lnTo>
                  <a:lnTo>
                    <a:pt x="355" y="1536"/>
                  </a:lnTo>
                  <a:lnTo>
                    <a:pt x="355" y="1543"/>
                  </a:lnTo>
                  <a:lnTo>
                    <a:pt x="356" y="1550"/>
                  </a:lnTo>
                  <a:lnTo>
                    <a:pt x="356" y="1557"/>
                  </a:lnTo>
                  <a:lnTo>
                    <a:pt x="357" y="1564"/>
                  </a:lnTo>
                  <a:lnTo>
                    <a:pt x="358" y="1569"/>
                  </a:lnTo>
                  <a:lnTo>
                    <a:pt x="360" y="1576"/>
                  </a:lnTo>
                  <a:lnTo>
                    <a:pt x="361" y="1581"/>
                  </a:lnTo>
                  <a:lnTo>
                    <a:pt x="362" y="1587"/>
                  </a:lnTo>
                  <a:lnTo>
                    <a:pt x="364" y="1592"/>
                  </a:lnTo>
                  <a:lnTo>
                    <a:pt x="366" y="1597"/>
                  </a:lnTo>
                  <a:lnTo>
                    <a:pt x="368" y="1602"/>
                  </a:lnTo>
                  <a:lnTo>
                    <a:pt x="371" y="1607"/>
                  </a:lnTo>
                  <a:lnTo>
                    <a:pt x="373" y="1611"/>
                  </a:lnTo>
                  <a:lnTo>
                    <a:pt x="376" y="1614"/>
                  </a:lnTo>
                  <a:lnTo>
                    <a:pt x="378" y="1618"/>
                  </a:lnTo>
                  <a:lnTo>
                    <a:pt x="382" y="1621"/>
                  </a:lnTo>
                  <a:lnTo>
                    <a:pt x="390" y="1627"/>
                  </a:lnTo>
                  <a:lnTo>
                    <a:pt x="400" y="1633"/>
                  </a:lnTo>
                  <a:lnTo>
                    <a:pt x="413" y="1639"/>
                  </a:lnTo>
                  <a:lnTo>
                    <a:pt x="427" y="1644"/>
                  </a:lnTo>
                  <a:lnTo>
                    <a:pt x="456" y="1652"/>
                  </a:lnTo>
                  <a:lnTo>
                    <a:pt x="469" y="1656"/>
                  </a:lnTo>
                  <a:lnTo>
                    <a:pt x="480" y="1658"/>
                  </a:lnTo>
                  <a:lnTo>
                    <a:pt x="470" y="1741"/>
                  </a:lnTo>
                  <a:lnTo>
                    <a:pt x="0" y="1741"/>
                  </a:lnTo>
                  <a:lnTo>
                    <a:pt x="10" y="1658"/>
                  </a:lnTo>
                  <a:lnTo>
                    <a:pt x="52" y="1649"/>
                  </a:lnTo>
                  <a:lnTo>
                    <a:pt x="74" y="1642"/>
                  </a:lnTo>
                  <a:lnTo>
                    <a:pt x="84" y="1639"/>
                  </a:lnTo>
                  <a:lnTo>
                    <a:pt x="87" y="1637"/>
                  </a:lnTo>
                  <a:lnTo>
                    <a:pt x="90" y="1635"/>
                  </a:lnTo>
                  <a:lnTo>
                    <a:pt x="96" y="1632"/>
                  </a:lnTo>
                  <a:lnTo>
                    <a:pt x="101" y="1628"/>
                  </a:lnTo>
                  <a:lnTo>
                    <a:pt x="106" y="1623"/>
                  </a:lnTo>
                  <a:lnTo>
                    <a:pt x="110" y="1618"/>
                  </a:lnTo>
                  <a:lnTo>
                    <a:pt x="114" y="1613"/>
                  </a:lnTo>
                  <a:lnTo>
                    <a:pt x="118" y="1607"/>
                  </a:lnTo>
                  <a:lnTo>
                    <a:pt x="121" y="1601"/>
                  </a:lnTo>
                  <a:lnTo>
                    <a:pt x="124" y="1594"/>
                  </a:lnTo>
                  <a:lnTo>
                    <a:pt x="127" y="1587"/>
                  </a:lnTo>
                  <a:lnTo>
                    <a:pt x="129" y="1578"/>
                  </a:lnTo>
                  <a:lnTo>
                    <a:pt x="132" y="1569"/>
                  </a:lnTo>
                  <a:lnTo>
                    <a:pt x="134" y="1561"/>
                  </a:lnTo>
                  <a:lnTo>
                    <a:pt x="136" y="1550"/>
                  </a:lnTo>
                  <a:lnTo>
                    <a:pt x="138" y="1540"/>
                  </a:lnTo>
                  <a:lnTo>
                    <a:pt x="140" y="1529"/>
                  </a:lnTo>
                  <a:lnTo>
                    <a:pt x="141" y="1517"/>
                  </a:lnTo>
                  <a:lnTo>
                    <a:pt x="270" y="478"/>
                  </a:lnTo>
                  <a:lnTo>
                    <a:pt x="280" y="390"/>
                  </a:lnTo>
                  <a:lnTo>
                    <a:pt x="283" y="364"/>
                  </a:lnTo>
                  <a:lnTo>
                    <a:pt x="284" y="341"/>
                  </a:lnTo>
                  <a:lnTo>
                    <a:pt x="285" y="320"/>
                  </a:lnTo>
                  <a:lnTo>
                    <a:pt x="286" y="310"/>
                  </a:lnTo>
                  <a:lnTo>
                    <a:pt x="286" y="301"/>
                  </a:lnTo>
                  <a:lnTo>
                    <a:pt x="286" y="286"/>
                  </a:lnTo>
                  <a:lnTo>
                    <a:pt x="285" y="272"/>
                  </a:lnTo>
                  <a:lnTo>
                    <a:pt x="284" y="260"/>
                  </a:lnTo>
                  <a:lnTo>
                    <a:pt x="283" y="247"/>
                  </a:lnTo>
                  <a:lnTo>
                    <a:pt x="281" y="241"/>
                  </a:lnTo>
                  <a:lnTo>
                    <a:pt x="280" y="235"/>
                  </a:lnTo>
                  <a:lnTo>
                    <a:pt x="279" y="230"/>
                  </a:lnTo>
                  <a:lnTo>
                    <a:pt x="278" y="227"/>
                  </a:lnTo>
                  <a:lnTo>
                    <a:pt x="277" y="222"/>
                  </a:lnTo>
                  <a:lnTo>
                    <a:pt x="275" y="216"/>
                  </a:lnTo>
                  <a:lnTo>
                    <a:pt x="273" y="213"/>
                  </a:lnTo>
                  <a:lnTo>
                    <a:pt x="272" y="209"/>
                  </a:lnTo>
                  <a:lnTo>
                    <a:pt x="270" y="206"/>
                  </a:lnTo>
                  <a:lnTo>
                    <a:pt x="267" y="202"/>
                  </a:lnTo>
                  <a:lnTo>
                    <a:pt x="266" y="199"/>
                  </a:lnTo>
                  <a:lnTo>
                    <a:pt x="263" y="197"/>
                  </a:lnTo>
                  <a:lnTo>
                    <a:pt x="260" y="194"/>
                  </a:lnTo>
                  <a:lnTo>
                    <a:pt x="257" y="192"/>
                  </a:lnTo>
                  <a:lnTo>
                    <a:pt x="250" y="189"/>
                  </a:lnTo>
                  <a:lnTo>
                    <a:pt x="243" y="185"/>
                  </a:lnTo>
                  <a:lnTo>
                    <a:pt x="234" y="183"/>
                  </a:lnTo>
                  <a:lnTo>
                    <a:pt x="225" y="182"/>
                  </a:lnTo>
                  <a:lnTo>
                    <a:pt x="215" y="182"/>
                  </a:lnTo>
                  <a:lnTo>
                    <a:pt x="210" y="182"/>
                  </a:lnTo>
                  <a:lnTo>
                    <a:pt x="205" y="182"/>
                  </a:lnTo>
                  <a:lnTo>
                    <a:pt x="200" y="183"/>
                  </a:lnTo>
                  <a:lnTo>
                    <a:pt x="195" y="185"/>
                  </a:lnTo>
                  <a:lnTo>
                    <a:pt x="190" y="187"/>
                  </a:lnTo>
                  <a:lnTo>
                    <a:pt x="184" y="189"/>
                  </a:lnTo>
                  <a:lnTo>
                    <a:pt x="179" y="190"/>
                  </a:lnTo>
                  <a:lnTo>
                    <a:pt x="173" y="194"/>
                  </a:lnTo>
                  <a:lnTo>
                    <a:pt x="162" y="199"/>
                  </a:lnTo>
                  <a:lnTo>
                    <a:pt x="152" y="206"/>
                  </a:lnTo>
                  <a:lnTo>
                    <a:pt x="135" y="216"/>
                  </a:lnTo>
                  <a:lnTo>
                    <a:pt x="150" y="109"/>
                  </a:lnTo>
                  <a:lnTo>
                    <a:pt x="250" y="41"/>
                  </a:lnTo>
                  <a:lnTo>
                    <a:pt x="262" y="34"/>
                  </a:lnTo>
                  <a:lnTo>
                    <a:pt x="274" y="29"/>
                  </a:lnTo>
                  <a:lnTo>
                    <a:pt x="286" y="24"/>
                  </a:lnTo>
                  <a:lnTo>
                    <a:pt x="298" y="21"/>
                  </a:lnTo>
                  <a:lnTo>
                    <a:pt x="309" y="17"/>
                  </a:lnTo>
                  <a:lnTo>
                    <a:pt x="320" y="15"/>
                  </a:lnTo>
                  <a:lnTo>
                    <a:pt x="331" y="14"/>
                  </a:lnTo>
                  <a:lnTo>
                    <a:pt x="342" y="14"/>
                  </a:lnTo>
                  <a:lnTo>
                    <a:pt x="359" y="14"/>
                  </a:lnTo>
                  <a:lnTo>
                    <a:pt x="376" y="17"/>
                  </a:lnTo>
                  <a:lnTo>
                    <a:pt x="391" y="21"/>
                  </a:lnTo>
                  <a:lnTo>
                    <a:pt x="399" y="22"/>
                  </a:lnTo>
                  <a:lnTo>
                    <a:pt x="405" y="26"/>
                  </a:lnTo>
                  <a:lnTo>
                    <a:pt x="412" y="29"/>
                  </a:lnTo>
                  <a:lnTo>
                    <a:pt x="418" y="33"/>
                  </a:lnTo>
                  <a:lnTo>
                    <a:pt x="425" y="38"/>
                  </a:lnTo>
                  <a:lnTo>
                    <a:pt x="431" y="43"/>
                  </a:lnTo>
                  <a:lnTo>
                    <a:pt x="437" y="48"/>
                  </a:lnTo>
                  <a:lnTo>
                    <a:pt x="443" y="53"/>
                  </a:lnTo>
                  <a:lnTo>
                    <a:pt x="449" y="59"/>
                  </a:lnTo>
                  <a:lnTo>
                    <a:pt x="454" y="66"/>
                  </a:lnTo>
                  <a:lnTo>
                    <a:pt x="462" y="78"/>
                  </a:lnTo>
                  <a:lnTo>
                    <a:pt x="466" y="85"/>
                  </a:lnTo>
                  <a:lnTo>
                    <a:pt x="470" y="92"/>
                  </a:lnTo>
                  <a:lnTo>
                    <a:pt x="473" y="99"/>
                  </a:lnTo>
                  <a:lnTo>
                    <a:pt x="477" y="105"/>
                  </a:lnTo>
                  <a:lnTo>
                    <a:pt x="479" y="112"/>
                  </a:lnTo>
                  <a:lnTo>
                    <a:pt x="482" y="121"/>
                  </a:lnTo>
                  <a:lnTo>
                    <a:pt x="485" y="130"/>
                  </a:lnTo>
                  <a:lnTo>
                    <a:pt x="488" y="137"/>
                  </a:lnTo>
                  <a:lnTo>
                    <a:pt x="493" y="154"/>
                  </a:lnTo>
                  <a:lnTo>
                    <a:pt x="497" y="170"/>
                  </a:lnTo>
                  <a:lnTo>
                    <a:pt x="501" y="185"/>
                  </a:lnTo>
                  <a:lnTo>
                    <a:pt x="507" y="185"/>
                  </a:lnTo>
                  <a:lnTo>
                    <a:pt x="536" y="142"/>
                  </a:lnTo>
                  <a:lnTo>
                    <a:pt x="551" y="121"/>
                  </a:lnTo>
                  <a:lnTo>
                    <a:pt x="565" y="104"/>
                  </a:lnTo>
                  <a:lnTo>
                    <a:pt x="580" y="86"/>
                  </a:lnTo>
                  <a:lnTo>
                    <a:pt x="594" y="71"/>
                  </a:lnTo>
                  <a:lnTo>
                    <a:pt x="608" y="57"/>
                  </a:lnTo>
                  <a:lnTo>
                    <a:pt x="622" y="45"/>
                  </a:lnTo>
                  <a:lnTo>
                    <a:pt x="637" y="34"/>
                  </a:lnTo>
                  <a:lnTo>
                    <a:pt x="650" y="26"/>
                  </a:lnTo>
                  <a:lnTo>
                    <a:pt x="664" y="17"/>
                  </a:lnTo>
                  <a:lnTo>
                    <a:pt x="678" y="12"/>
                  </a:lnTo>
                  <a:lnTo>
                    <a:pt x="691" y="7"/>
                  </a:lnTo>
                  <a:lnTo>
                    <a:pt x="704" y="3"/>
                  </a:lnTo>
                  <a:lnTo>
                    <a:pt x="718" y="0"/>
                  </a:lnTo>
                  <a:lnTo>
                    <a:pt x="730" y="0"/>
                  </a:lnTo>
                  <a:lnTo>
                    <a:pt x="758" y="1"/>
                  </a:lnTo>
                  <a:lnTo>
                    <a:pt x="783" y="7"/>
                  </a:lnTo>
                  <a:lnTo>
                    <a:pt x="808" y="17"/>
                  </a:lnTo>
                  <a:lnTo>
                    <a:pt x="830" y="31"/>
                  </a:lnTo>
                  <a:lnTo>
                    <a:pt x="840" y="40"/>
                  </a:lnTo>
                  <a:lnTo>
                    <a:pt x="849" y="48"/>
                  </a:lnTo>
                  <a:lnTo>
                    <a:pt x="859" y="59"/>
                  </a:lnTo>
                  <a:lnTo>
                    <a:pt x="868" y="69"/>
                  </a:lnTo>
                  <a:lnTo>
                    <a:pt x="876" y="81"/>
                  </a:lnTo>
                  <a:lnTo>
                    <a:pt x="885" y="93"/>
                  </a:lnTo>
                  <a:lnTo>
                    <a:pt x="892" y="107"/>
                  </a:lnTo>
                  <a:lnTo>
                    <a:pt x="900" y="123"/>
                  </a:lnTo>
                  <a:lnTo>
                    <a:pt x="907" y="138"/>
                  </a:lnTo>
                  <a:lnTo>
                    <a:pt x="913" y="154"/>
                  </a:lnTo>
                  <a:lnTo>
                    <a:pt x="919" y="171"/>
                  </a:lnTo>
                  <a:lnTo>
                    <a:pt x="924" y="189"/>
                  </a:lnTo>
                  <a:lnTo>
                    <a:pt x="929" y="208"/>
                  </a:lnTo>
                  <a:lnTo>
                    <a:pt x="935" y="227"/>
                  </a:lnTo>
                  <a:lnTo>
                    <a:pt x="939" y="247"/>
                  </a:lnTo>
                  <a:lnTo>
                    <a:pt x="942" y="267"/>
                  </a:lnTo>
                  <a:lnTo>
                    <a:pt x="949" y="310"/>
                  </a:lnTo>
                  <a:lnTo>
                    <a:pt x="953" y="357"/>
                  </a:lnTo>
                  <a:lnTo>
                    <a:pt x="956" y="405"/>
                  </a:lnTo>
                  <a:close/>
                  <a:moveTo>
                    <a:pt x="668" y="927"/>
                  </a:moveTo>
                  <a:lnTo>
                    <a:pt x="675" y="901"/>
                  </a:lnTo>
                  <a:lnTo>
                    <a:pt x="681" y="875"/>
                  </a:lnTo>
                  <a:lnTo>
                    <a:pt x="686" y="847"/>
                  </a:lnTo>
                  <a:lnTo>
                    <a:pt x="692" y="821"/>
                  </a:lnTo>
                  <a:lnTo>
                    <a:pt x="697" y="793"/>
                  </a:lnTo>
                  <a:lnTo>
                    <a:pt x="702" y="765"/>
                  </a:lnTo>
                  <a:lnTo>
                    <a:pt x="709" y="708"/>
                  </a:lnTo>
                  <a:lnTo>
                    <a:pt x="713" y="679"/>
                  </a:lnTo>
                  <a:lnTo>
                    <a:pt x="715" y="649"/>
                  </a:lnTo>
                  <a:lnTo>
                    <a:pt x="718" y="618"/>
                  </a:lnTo>
                  <a:lnTo>
                    <a:pt x="720" y="587"/>
                  </a:lnTo>
                  <a:lnTo>
                    <a:pt x="723" y="521"/>
                  </a:lnTo>
                  <a:lnTo>
                    <a:pt x="724" y="452"/>
                  </a:lnTo>
                  <a:lnTo>
                    <a:pt x="724" y="424"/>
                  </a:lnTo>
                  <a:lnTo>
                    <a:pt x="723" y="396"/>
                  </a:lnTo>
                  <a:lnTo>
                    <a:pt x="721" y="371"/>
                  </a:lnTo>
                  <a:lnTo>
                    <a:pt x="719" y="345"/>
                  </a:lnTo>
                  <a:lnTo>
                    <a:pt x="718" y="332"/>
                  </a:lnTo>
                  <a:lnTo>
                    <a:pt x="717" y="320"/>
                  </a:lnTo>
                  <a:lnTo>
                    <a:pt x="715" y="310"/>
                  </a:lnTo>
                  <a:lnTo>
                    <a:pt x="713" y="298"/>
                  </a:lnTo>
                  <a:lnTo>
                    <a:pt x="711" y="287"/>
                  </a:lnTo>
                  <a:lnTo>
                    <a:pt x="708" y="277"/>
                  </a:lnTo>
                  <a:lnTo>
                    <a:pt x="706" y="268"/>
                  </a:lnTo>
                  <a:lnTo>
                    <a:pt x="703" y="260"/>
                  </a:lnTo>
                  <a:lnTo>
                    <a:pt x="700" y="251"/>
                  </a:lnTo>
                  <a:lnTo>
                    <a:pt x="697" y="242"/>
                  </a:lnTo>
                  <a:lnTo>
                    <a:pt x="693" y="234"/>
                  </a:lnTo>
                  <a:lnTo>
                    <a:pt x="690" y="227"/>
                  </a:lnTo>
                  <a:lnTo>
                    <a:pt x="686" y="220"/>
                  </a:lnTo>
                  <a:lnTo>
                    <a:pt x="681" y="213"/>
                  </a:lnTo>
                  <a:lnTo>
                    <a:pt x="677" y="208"/>
                  </a:lnTo>
                  <a:lnTo>
                    <a:pt x="672" y="202"/>
                  </a:lnTo>
                  <a:lnTo>
                    <a:pt x="667" y="197"/>
                  </a:lnTo>
                  <a:lnTo>
                    <a:pt x="661" y="194"/>
                  </a:lnTo>
                  <a:lnTo>
                    <a:pt x="656" y="190"/>
                  </a:lnTo>
                  <a:lnTo>
                    <a:pt x="650" y="187"/>
                  </a:lnTo>
                  <a:lnTo>
                    <a:pt x="643" y="185"/>
                  </a:lnTo>
                  <a:lnTo>
                    <a:pt x="637" y="183"/>
                  </a:lnTo>
                  <a:lnTo>
                    <a:pt x="630" y="182"/>
                  </a:lnTo>
                  <a:lnTo>
                    <a:pt x="623" y="182"/>
                  </a:lnTo>
                  <a:lnTo>
                    <a:pt x="615" y="182"/>
                  </a:lnTo>
                  <a:lnTo>
                    <a:pt x="606" y="183"/>
                  </a:lnTo>
                  <a:lnTo>
                    <a:pt x="598" y="187"/>
                  </a:lnTo>
                  <a:lnTo>
                    <a:pt x="589" y="192"/>
                  </a:lnTo>
                  <a:lnTo>
                    <a:pt x="581" y="197"/>
                  </a:lnTo>
                  <a:lnTo>
                    <a:pt x="572" y="204"/>
                  </a:lnTo>
                  <a:lnTo>
                    <a:pt x="564" y="213"/>
                  </a:lnTo>
                  <a:lnTo>
                    <a:pt x="555" y="222"/>
                  </a:lnTo>
                  <a:lnTo>
                    <a:pt x="540" y="241"/>
                  </a:lnTo>
                  <a:lnTo>
                    <a:pt x="527" y="260"/>
                  </a:lnTo>
                  <a:lnTo>
                    <a:pt x="521" y="268"/>
                  </a:lnTo>
                  <a:lnTo>
                    <a:pt x="516" y="277"/>
                  </a:lnTo>
                  <a:lnTo>
                    <a:pt x="511" y="286"/>
                  </a:lnTo>
                  <a:lnTo>
                    <a:pt x="507" y="294"/>
                  </a:lnTo>
                  <a:lnTo>
                    <a:pt x="427" y="949"/>
                  </a:lnTo>
                  <a:lnTo>
                    <a:pt x="427" y="970"/>
                  </a:lnTo>
                  <a:lnTo>
                    <a:pt x="428" y="989"/>
                  </a:lnTo>
                  <a:lnTo>
                    <a:pt x="431" y="1008"/>
                  </a:lnTo>
                  <a:lnTo>
                    <a:pt x="433" y="1025"/>
                  </a:lnTo>
                  <a:lnTo>
                    <a:pt x="437" y="1041"/>
                  </a:lnTo>
                  <a:lnTo>
                    <a:pt x="442" y="1057"/>
                  </a:lnTo>
                  <a:lnTo>
                    <a:pt x="447" y="1072"/>
                  </a:lnTo>
                  <a:lnTo>
                    <a:pt x="453" y="1086"/>
                  </a:lnTo>
                  <a:lnTo>
                    <a:pt x="456" y="1093"/>
                  </a:lnTo>
                  <a:lnTo>
                    <a:pt x="460" y="1098"/>
                  </a:lnTo>
                  <a:lnTo>
                    <a:pt x="463" y="1105"/>
                  </a:lnTo>
                  <a:lnTo>
                    <a:pt x="467" y="1110"/>
                  </a:lnTo>
                  <a:lnTo>
                    <a:pt x="471" y="1114"/>
                  </a:lnTo>
                  <a:lnTo>
                    <a:pt x="475" y="1119"/>
                  </a:lnTo>
                  <a:lnTo>
                    <a:pt x="480" y="1122"/>
                  </a:lnTo>
                  <a:lnTo>
                    <a:pt x="484" y="1126"/>
                  </a:lnTo>
                  <a:lnTo>
                    <a:pt x="493" y="1133"/>
                  </a:lnTo>
                  <a:lnTo>
                    <a:pt x="504" y="1136"/>
                  </a:lnTo>
                  <a:lnTo>
                    <a:pt x="515" y="1140"/>
                  </a:lnTo>
                  <a:lnTo>
                    <a:pt x="527" y="1140"/>
                  </a:lnTo>
                  <a:lnTo>
                    <a:pt x="537" y="1138"/>
                  </a:lnTo>
                  <a:lnTo>
                    <a:pt x="547" y="1136"/>
                  </a:lnTo>
                  <a:lnTo>
                    <a:pt x="557" y="1131"/>
                  </a:lnTo>
                  <a:lnTo>
                    <a:pt x="566" y="1126"/>
                  </a:lnTo>
                  <a:lnTo>
                    <a:pt x="576" y="1117"/>
                  </a:lnTo>
                  <a:lnTo>
                    <a:pt x="585" y="1107"/>
                  </a:lnTo>
                  <a:lnTo>
                    <a:pt x="595" y="1096"/>
                  </a:lnTo>
                  <a:lnTo>
                    <a:pt x="604" y="1083"/>
                  </a:lnTo>
                  <a:lnTo>
                    <a:pt x="614" y="1067"/>
                  </a:lnTo>
                  <a:lnTo>
                    <a:pt x="622" y="1051"/>
                  </a:lnTo>
                  <a:lnTo>
                    <a:pt x="631" y="1034"/>
                  </a:lnTo>
                  <a:lnTo>
                    <a:pt x="639" y="1015"/>
                  </a:lnTo>
                  <a:lnTo>
                    <a:pt x="647" y="994"/>
                  </a:lnTo>
                  <a:lnTo>
                    <a:pt x="654" y="973"/>
                  </a:lnTo>
                  <a:lnTo>
                    <a:pt x="661" y="95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19800" y="3192480"/>
              <a:ext cx="295560" cy="449280"/>
            </a:xfrm>
            <a:custGeom>
              <a:avLst/>
              <a:gdLst/>
              <a:ahLst/>
              <a:rect l="l" t="t" r="r" b="b"/>
              <a:pathLst>
                <a:path w="820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79" y="1157"/>
                  </a:lnTo>
                  <a:lnTo>
                    <a:pt x="366" y="1173"/>
                  </a:lnTo>
                  <a:lnTo>
                    <a:pt x="351" y="1186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1"/>
                  </a:lnTo>
                  <a:lnTo>
                    <a:pt x="294" y="1230"/>
                  </a:lnTo>
                  <a:lnTo>
                    <a:pt x="286" y="1233"/>
                  </a:lnTo>
                  <a:lnTo>
                    <a:pt x="278" y="1238"/>
                  </a:lnTo>
                  <a:lnTo>
                    <a:pt x="270" y="1240"/>
                  </a:lnTo>
                  <a:lnTo>
                    <a:pt x="261" y="1244"/>
                  </a:lnTo>
                  <a:lnTo>
                    <a:pt x="253" y="1245"/>
                  </a:lnTo>
                  <a:lnTo>
                    <a:pt x="244" y="1245"/>
                  </a:lnTo>
                  <a:lnTo>
                    <a:pt x="227" y="1247"/>
                  </a:lnTo>
                  <a:lnTo>
                    <a:pt x="200" y="1245"/>
                  </a:lnTo>
                  <a:lnTo>
                    <a:pt x="173" y="1240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7"/>
                  </a:lnTo>
                  <a:lnTo>
                    <a:pt x="107" y="1199"/>
                  </a:lnTo>
                  <a:lnTo>
                    <a:pt x="98" y="1188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8" y="999"/>
                  </a:lnTo>
                  <a:lnTo>
                    <a:pt x="14" y="980"/>
                  </a:lnTo>
                  <a:lnTo>
                    <a:pt x="7" y="937"/>
                  </a:lnTo>
                  <a:lnTo>
                    <a:pt x="3" y="890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0"/>
                  </a:lnTo>
                  <a:lnTo>
                    <a:pt x="4" y="670"/>
                  </a:lnTo>
                  <a:lnTo>
                    <a:pt x="8" y="632"/>
                  </a:lnTo>
                  <a:lnTo>
                    <a:pt x="13" y="594"/>
                  </a:lnTo>
                  <a:lnTo>
                    <a:pt x="18" y="556"/>
                  </a:lnTo>
                  <a:lnTo>
                    <a:pt x="24" y="519"/>
                  </a:lnTo>
                  <a:lnTo>
                    <a:pt x="32" y="483"/>
                  </a:lnTo>
                  <a:lnTo>
                    <a:pt x="40" y="448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89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5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1" y="48"/>
                  </a:lnTo>
                  <a:lnTo>
                    <a:pt x="278" y="34"/>
                  </a:lnTo>
                  <a:lnTo>
                    <a:pt x="297" y="24"/>
                  </a:lnTo>
                  <a:lnTo>
                    <a:pt x="316" y="15"/>
                  </a:lnTo>
                  <a:lnTo>
                    <a:pt x="335" y="8"/>
                  </a:lnTo>
                  <a:lnTo>
                    <a:pt x="355" y="3"/>
                  </a:lnTo>
                  <a:lnTo>
                    <a:pt x="375" y="1"/>
                  </a:lnTo>
                  <a:lnTo>
                    <a:pt x="394" y="0"/>
                  </a:lnTo>
                  <a:lnTo>
                    <a:pt x="422" y="1"/>
                  </a:lnTo>
                  <a:lnTo>
                    <a:pt x="449" y="7"/>
                  </a:lnTo>
                  <a:lnTo>
                    <a:pt x="461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3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3"/>
                  </a:lnTo>
                  <a:lnTo>
                    <a:pt x="768" y="17"/>
                  </a:lnTo>
                  <a:lnTo>
                    <a:pt x="776" y="36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2"/>
                  </a:lnTo>
                  <a:lnTo>
                    <a:pt x="670" y="863"/>
                  </a:lnTo>
                  <a:lnTo>
                    <a:pt x="668" y="888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0"/>
                  </a:lnTo>
                  <a:lnTo>
                    <a:pt x="664" y="947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2"/>
                  </a:lnTo>
                  <a:lnTo>
                    <a:pt x="668" y="999"/>
                  </a:lnTo>
                  <a:lnTo>
                    <a:pt x="669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0"/>
                  </a:lnTo>
                  <a:lnTo>
                    <a:pt x="674" y="1025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80" y="1037"/>
                  </a:lnTo>
                  <a:lnTo>
                    <a:pt x="681" y="1041"/>
                  </a:lnTo>
                  <a:lnTo>
                    <a:pt x="684" y="1044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3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3"/>
                  </a:lnTo>
                  <a:lnTo>
                    <a:pt x="720" y="1065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59" y="1063"/>
                  </a:lnTo>
                  <a:lnTo>
                    <a:pt x="771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2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2" y="1216"/>
                  </a:lnTo>
                  <a:lnTo>
                    <a:pt x="682" y="1221"/>
                  </a:lnTo>
                  <a:lnTo>
                    <a:pt x="671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7" y="1233"/>
                  </a:lnTo>
                  <a:lnTo>
                    <a:pt x="625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1" y="1232"/>
                  </a:lnTo>
                  <a:lnTo>
                    <a:pt x="567" y="1228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6" y="1199"/>
                  </a:lnTo>
                  <a:lnTo>
                    <a:pt x="506" y="1186"/>
                  </a:lnTo>
                  <a:lnTo>
                    <a:pt x="497" y="1174"/>
                  </a:lnTo>
                  <a:lnTo>
                    <a:pt x="487" y="1160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5"/>
                  </a:lnTo>
                  <a:lnTo>
                    <a:pt x="460" y="1098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6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1" y="227"/>
                  </a:lnTo>
                  <a:lnTo>
                    <a:pt x="520" y="218"/>
                  </a:lnTo>
                  <a:lnTo>
                    <a:pt x="519" y="211"/>
                  </a:lnTo>
                  <a:lnTo>
                    <a:pt x="516" y="202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5" y="131"/>
                  </a:lnTo>
                  <a:lnTo>
                    <a:pt x="470" y="128"/>
                  </a:lnTo>
                  <a:lnTo>
                    <a:pt x="465" y="126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3" y="119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2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5" y="176"/>
                  </a:lnTo>
                  <a:lnTo>
                    <a:pt x="346" y="190"/>
                  </a:lnTo>
                  <a:lnTo>
                    <a:pt x="338" y="206"/>
                  </a:lnTo>
                  <a:lnTo>
                    <a:pt x="329" y="223"/>
                  </a:lnTo>
                  <a:lnTo>
                    <a:pt x="321" y="242"/>
                  </a:lnTo>
                  <a:lnTo>
                    <a:pt x="313" y="261"/>
                  </a:lnTo>
                  <a:lnTo>
                    <a:pt x="305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7" y="428"/>
                  </a:lnTo>
                  <a:lnTo>
                    <a:pt x="261" y="454"/>
                  </a:lnTo>
                  <a:lnTo>
                    <a:pt x="256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4" y="850"/>
                  </a:lnTo>
                  <a:lnTo>
                    <a:pt x="235" y="876"/>
                  </a:lnTo>
                  <a:lnTo>
                    <a:pt x="238" y="902"/>
                  </a:lnTo>
                  <a:lnTo>
                    <a:pt x="239" y="914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49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7"/>
                  </a:lnTo>
                  <a:lnTo>
                    <a:pt x="256" y="996"/>
                  </a:lnTo>
                  <a:lnTo>
                    <a:pt x="260" y="1006"/>
                  </a:lnTo>
                  <a:lnTo>
                    <a:pt x="263" y="1013"/>
                  </a:lnTo>
                  <a:lnTo>
                    <a:pt x="267" y="1022"/>
                  </a:lnTo>
                  <a:lnTo>
                    <a:pt x="272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4"/>
                  </a:lnTo>
                  <a:lnTo>
                    <a:pt x="290" y="1050"/>
                  </a:lnTo>
                  <a:lnTo>
                    <a:pt x="295" y="1053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3"/>
                  </a:lnTo>
                  <a:lnTo>
                    <a:pt x="327" y="1065"/>
                  </a:lnTo>
                  <a:lnTo>
                    <a:pt x="334" y="1065"/>
                  </a:lnTo>
                  <a:lnTo>
                    <a:pt x="342" y="1065"/>
                  </a:lnTo>
                  <a:lnTo>
                    <a:pt x="349" y="1063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3"/>
                  </a:lnTo>
                  <a:lnTo>
                    <a:pt x="378" y="1046"/>
                  </a:lnTo>
                  <a:lnTo>
                    <a:pt x="386" y="1041"/>
                  </a:lnTo>
                  <a:lnTo>
                    <a:pt x="393" y="1032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2" y="975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4480" y="3197160"/>
              <a:ext cx="316080" cy="439920"/>
            </a:xfrm>
            <a:custGeom>
              <a:avLst/>
              <a:gdLst/>
              <a:ahLst/>
              <a:rect l="l" t="t" r="r" b="b"/>
              <a:pathLst>
                <a:path w="876" h="1221">
                  <a:moveTo>
                    <a:pt x="344" y="516"/>
                  </a:moveTo>
                  <a:lnTo>
                    <a:pt x="553" y="516"/>
                  </a:lnTo>
                  <a:lnTo>
                    <a:pt x="615" y="22"/>
                  </a:lnTo>
                  <a:lnTo>
                    <a:pt x="822" y="5"/>
                  </a:lnTo>
                  <a:lnTo>
                    <a:pt x="830" y="22"/>
                  </a:lnTo>
                  <a:lnTo>
                    <a:pt x="737" y="755"/>
                  </a:lnTo>
                  <a:lnTo>
                    <a:pt x="735" y="774"/>
                  </a:lnTo>
                  <a:lnTo>
                    <a:pt x="732" y="797"/>
                  </a:lnTo>
                  <a:lnTo>
                    <a:pt x="730" y="819"/>
                  </a:lnTo>
                  <a:lnTo>
                    <a:pt x="727" y="847"/>
                  </a:lnTo>
                  <a:lnTo>
                    <a:pt x="725" y="875"/>
                  </a:lnTo>
                  <a:lnTo>
                    <a:pt x="723" y="897"/>
                  </a:lnTo>
                  <a:lnTo>
                    <a:pt x="721" y="916"/>
                  </a:lnTo>
                  <a:lnTo>
                    <a:pt x="721" y="925"/>
                  </a:lnTo>
                  <a:lnTo>
                    <a:pt x="721" y="932"/>
                  </a:lnTo>
                  <a:lnTo>
                    <a:pt x="721" y="949"/>
                  </a:lnTo>
                  <a:lnTo>
                    <a:pt x="722" y="965"/>
                  </a:lnTo>
                  <a:lnTo>
                    <a:pt x="724" y="979"/>
                  </a:lnTo>
                  <a:lnTo>
                    <a:pt x="725" y="984"/>
                  </a:lnTo>
                  <a:lnTo>
                    <a:pt x="726" y="991"/>
                  </a:lnTo>
                  <a:lnTo>
                    <a:pt x="726" y="996"/>
                  </a:lnTo>
                  <a:lnTo>
                    <a:pt x="727" y="1001"/>
                  </a:lnTo>
                  <a:lnTo>
                    <a:pt x="729" y="1006"/>
                  </a:lnTo>
                  <a:lnTo>
                    <a:pt x="731" y="1012"/>
                  </a:lnTo>
                  <a:lnTo>
                    <a:pt x="732" y="1017"/>
                  </a:lnTo>
                  <a:lnTo>
                    <a:pt x="733" y="1020"/>
                  </a:lnTo>
                  <a:lnTo>
                    <a:pt x="736" y="1024"/>
                  </a:lnTo>
                  <a:lnTo>
                    <a:pt x="737" y="1027"/>
                  </a:lnTo>
                  <a:lnTo>
                    <a:pt x="740" y="1031"/>
                  </a:lnTo>
                  <a:lnTo>
                    <a:pt x="742" y="1032"/>
                  </a:lnTo>
                  <a:lnTo>
                    <a:pt x="744" y="1036"/>
                  </a:lnTo>
                  <a:lnTo>
                    <a:pt x="748" y="1038"/>
                  </a:lnTo>
                  <a:lnTo>
                    <a:pt x="754" y="1041"/>
                  </a:lnTo>
                  <a:lnTo>
                    <a:pt x="760" y="1045"/>
                  </a:lnTo>
                  <a:lnTo>
                    <a:pt x="768" y="1048"/>
                  </a:lnTo>
                  <a:lnTo>
                    <a:pt x="776" y="1050"/>
                  </a:lnTo>
                  <a:lnTo>
                    <a:pt x="785" y="1051"/>
                  </a:lnTo>
                  <a:lnTo>
                    <a:pt x="795" y="1051"/>
                  </a:lnTo>
                  <a:lnTo>
                    <a:pt x="800" y="1051"/>
                  </a:lnTo>
                  <a:lnTo>
                    <a:pt x="805" y="1051"/>
                  </a:lnTo>
                  <a:lnTo>
                    <a:pt x="811" y="1050"/>
                  </a:lnTo>
                  <a:lnTo>
                    <a:pt x="816" y="1048"/>
                  </a:lnTo>
                  <a:lnTo>
                    <a:pt x="828" y="1045"/>
                  </a:lnTo>
                  <a:lnTo>
                    <a:pt x="840" y="1039"/>
                  </a:lnTo>
                  <a:lnTo>
                    <a:pt x="861" y="1027"/>
                  </a:lnTo>
                  <a:lnTo>
                    <a:pt x="869" y="1022"/>
                  </a:lnTo>
                  <a:lnTo>
                    <a:pt x="872" y="1020"/>
                  </a:lnTo>
                  <a:lnTo>
                    <a:pt x="875" y="1017"/>
                  </a:lnTo>
                  <a:lnTo>
                    <a:pt x="861" y="1124"/>
                  </a:lnTo>
                  <a:lnTo>
                    <a:pt x="759" y="1195"/>
                  </a:lnTo>
                  <a:lnTo>
                    <a:pt x="748" y="1200"/>
                  </a:lnTo>
                  <a:lnTo>
                    <a:pt x="738" y="1206"/>
                  </a:lnTo>
                  <a:lnTo>
                    <a:pt x="728" y="1209"/>
                  </a:lnTo>
                  <a:lnTo>
                    <a:pt x="717" y="1213"/>
                  </a:lnTo>
                  <a:lnTo>
                    <a:pt x="705" y="1216"/>
                  </a:lnTo>
                  <a:lnTo>
                    <a:pt x="693" y="1218"/>
                  </a:lnTo>
                  <a:lnTo>
                    <a:pt x="682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6"/>
                  </a:lnTo>
                  <a:lnTo>
                    <a:pt x="620" y="1211"/>
                  </a:lnTo>
                  <a:lnTo>
                    <a:pt x="605" y="1202"/>
                  </a:lnTo>
                  <a:lnTo>
                    <a:pt x="591" y="1194"/>
                  </a:lnTo>
                  <a:lnTo>
                    <a:pt x="577" y="1181"/>
                  </a:lnTo>
                  <a:lnTo>
                    <a:pt x="565" y="1168"/>
                  </a:lnTo>
                  <a:lnTo>
                    <a:pt x="553" y="1152"/>
                  </a:lnTo>
                  <a:lnTo>
                    <a:pt x="547" y="1143"/>
                  </a:lnTo>
                  <a:lnTo>
                    <a:pt x="542" y="1135"/>
                  </a:lnTo>
                  <a:lnTo>
                    <a:pt x="537" y="1124"/>
                  </a:lnTo>
                  <a:lnTo>
                    <a:pt x="533" y="1116"/>
                  </a:lnTo>
                  <a:lnTo>
                    <a:pt x="528" y="1105"/>
                  </a:lnTo>
                  <a:lnTo>
                    <a:pt x="524" y="1095"/>
                  </a:lnTo>
                  <a:lnTo>
                    <a:pt x="521" y="1084"/>
                  </a:lnTo>
                  <a:lnTo>
                    <a:pt x="518" y="1072"/>
                  </a:lnTo>
                  <a:lnTo>
                    <a:pt x="515" y="1062"/>
                  </a:lnTo>
                  <a:lnTo>
                    <a:pt x="513" y="1050"/>
                  </a:lnTo>
                  <a:lnTo>
                    <a:pt x="511" y="1038"/>
                  </a:lnTo>
                  <a:lnTo>
                    <a:pt x="509" y="1025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2"/>
                  </a:lnTo>
                  <a:lnTo>
                    <a:pt x="507" y="918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8"/>
                  </a:lnTo>
                  <a:lnTo>
                    <a:pt x="510" y="870"/>
                  </a:lnTo>
                  <a:lnTo>
                    <a:pt x="510" y="861"/>
                  </a:lnTo>
                  <a:lnTo>
                    <a:pt x="512" y="840"/>
                  </a:lnTo>
                  <a:lnTo>
                    <a:pt x="515" y="814"/>
                  </a:lnTo>
                  <a:lnTo>
                    <a:pt x="518" y="785"/>
                  </a:lnTo>
                  <a:lnTo>
                    <a:pt x="538" y="630"/>
                  </a:lnTo>
                  <a:lnTo>
                    <a:pt x="329" y="630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5" y="464"/>
                  </a:lnTo>
                  <a:lnTo>
                    <a:pt x="145" y="378"/>
                  </a:lnTo>
                  <a:lnTo>
                    <a:pt x="147" y="352"/>
                  </a:lnTo>
                  <a:lnTo>
                    <a:pt x="149" y="327"/>
                  </a:lnTo>
                  <a:lnTo>
                    <a:pt x="151" y="307"/>
                  </a:lnTo>
                  <a:lnTo>
                    <a:pt x="151" y="296"/>
                  </a:lnTo>
                  <a:lnTo>
                    <a:pt x="151" y="287"/>
                  </a:lnTo>
                  <a:lnTo>
                    <a:pt x="151" y="272"/>
                  </a:lnTo>
                  <a:lnTo>
                    <a:pt x="150" y="256"/>
                  </a:lnTo>
                  <a:lnTo>
                    <a:pt x="148" y="242"/>
                  </a:lnTo>
                  <a:lnTo>
                    <a:pt x="147" y="230"/>
                  </a:lnTo>
                  <a:lnTo>
                    <a:pt x="146" y="225"/>
                  </a:lnTo>
                  <a:lnTo>
                    <a:pt x="145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1" y="204"/>
                  </a:lnTo>
                  <a:lnTo>
                    <a:pt x="139" y="201"/>
                  </a:lnTo>
                  <a:lnTo>
                    <a:pt x="137" y="197"/>
                  </a:lnTo>
                  <a:lnTo>
                    <a:pt x="136" y="194"/>
                  </a:lnTo>
                  <a:lnTo>
                    <a:pt x="134" y="190"/>
                  </a:lnTo>
                  <a:lnTo>
                    <a:pt x="131" y="187"/>
                  </a:lnTo>
                  <a:lnTo>
                    <a:pt x="129" y="185"/>
                  </a:lnTo>
                  <a:lnTo>
                    <a:pt x="126" y="182"/>
                  </a:lnTo>
                  <a:lnTo>
                    <a:pt x="124" y="180"/>
                  </a:lnTo>
                  <a:lnTo>
                    <a:pt x="120" y="178"/>
                  </a:lnTo>
                  <a:lnTo>
                    <a:pt x="114" y="175"/>
                  </a:lnTo>
                  <a:lnTo>
                    <a:pt x="107" y="171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1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9" y="171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5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4" y="3"/>
                  </a:lnTo>
                  <a:lnTo>
                    <a:pt x="185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3" y="5"/>
                  </a:lnTo>
                  <a:lnTo>
                    <a:pt x="260" y="10"/>
                  </a:lnTo>
                  <a:lnTo>
                    <a:pt x="276" y="17"/>
                  </a:lnTo>
                  <a:lnTo>
                    <a:pt x="290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2" y="62"/>
                  </a:lnTo>
                  <a:lnTo>
                    <a:pt x="327" y="71"/>
                  </a:lnTo>
                  <a:lnTo>
                    <a:pt x="336" y="90"/>
                  </a:lnTo>
                  <a:lnTo>
                    <a:pt x="344" y="109"/>
                  </a:lnTo>
                  <a:lnTo>
                    <a:pt x="348" y="119"/>
                  </a:lnTo>
                  <a:lnTo>
                    <a:pt x="351" y="130"/>
                  </a:lnTo>
                  <a:lnTo>
                    <a:pt x="354" y="140"/>
                  </a:lnTo>
                  <a:lnTo>
                    <a:pt x="356" y="152"/>
                  </a:lnTo>
                  <a:lnTo>
                    <a:pt x="359" y="163"/>
                  </a:lnTo>
                  <a:lnTo>
                    <a:pt x="361" y="175"/>
                  </a:lnTo>
                  <a:lnTo>
                    <a:pt x="362" y="187"/>
                  </a:lnTo>
                  <a:lnTo>
                    <a:pt x="364" y="199"/>
                  </a:lnTo>
                  <a:lnTo>
                    <a:pt x="365" y="211"/>
                  </a:lnTo>
                  <a:lnTo>
                    <a:pt x="366" y="223"/>
                  </a:lnTo>
                  <a:lnTo>
                    <a:pt x="367" y="235"/>
                  </a:lnTo>
                  <a:lnTo>
                    <a:pt x="367" y="249"/>
                  </a:lnTo>
                  <a:lnTo>
                    <a:pt x="367" y="270"/>
                  </a:lnTo>
                  <a:lnTo>
                    <a:pt x="366" y="293"/>
                  </a:lnTo>
                  <a:lnTo>
                    <a:pt x="365" y="313"/>
                  </a:lnTo>
                  <a:lnTo>
                    <a:pt x="364" y="334"/>
                  </a:lnTo>
                  <a:lnTo>
                    <a:pt x="362" y="357"/>
                  </a:lnTo>
                  <a:lnTo>
                    <a:pt x="361" y="381"/>
                  </a:lnTo>
                  <a:lnTo>
                    <a:pt x="357" y="407"/>
                  </a:lnTo>
                  <a:lnTo>
                    <a:pt x="354" y="4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92920" y="3192480"/>
              <a:ext cx="295560" cy="449280"/>
            </a:xfrm>
            <a:custGeom>
              <a:avLst/>
              <a:gdLst/>
              <a:ahLst/>
              <a:rect l="l" t="t" r="r" b="b"/>
              <a:pathLst>
                <a:path w="820" h="1248">
                  <a:moveTo>
                    <a:pt x="451" y="1062"/>
                  </a:moveTo>
                  <a:lnTo>
                    <a:pt x="445" y="1062"/>
                  </a:lnTo>
                  <a:lnTo>
                    <a:pt x="434" y="1079"/>
                  </a:lnTo>
                  <a:lnTo>
                    <a:pt x="424" y="1096"/>
                  </a:lnTo>
                  <a:lnTo>
                    <a:pt x="403" y="1128"/>
                  </a:lnTo>
                  <a:lnTo>
                    <a:pt x="392" y="1141"/>
                  </a:lnTo>
                  <a:lnTo>
                    <a:pt x="379" y="1157"/>
                  </a:lnTo>
                  <a:lnTo>
                    <a:pt x="365" y="1173"/>
                  </a:lnTo>
                  <a:lnTo>
                    <a:pt x="351" y="1186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1"/>
                  </a:lnTo>
                  <a:lnTo>
                    <a:pt x="293" y="1230"/>
                  </a:lnTo>
                  <a:lnTo>
                    <a:pt x="286" y="1233"/>
                  </a:lnTo>
                  <a:lnTo>
                    <a:pt x="278" y="1238"/>
                  </a:lnTo>
                  <a:lnTo>
                    <a:pt x="270" y="1240"/>
                  </a:lnTo>
                  <a:lnTo>
                    <a:pt x="261" y="1244"/>
                  </a:lnTo>
                  <a:lnTo>
                    <a:pt x="253" y="1245"/>
                  </a:lnTo>
                  <a:lnTo>
                    <a:pt x="244" y="1245"/>
                  </a:lnTo>
                  <a:lnTo>
                    <a:pt x="226" y="1247"/>
                  </a:lnTo>
                  <a:lnTo>
                    <a:pt x="199" y="1245"/>
                  </a:lnTo>
                  <a:lnTo>
                    <a:pt x="173" y="1240"/>
                  </a:lnTo>
                  <a:lnTo>
                    <a:pt x="149" y="1230"/>
                  </a:lnTo>
                  <a:lnTo>
                    <a:pt x="127" y="1216"/>
                  </a:lnTo>
                  <a:lnTo>
                    <a:pt x="117" y="1207"/>
                  </a:lnTo>
                  <a:lnTo>
                    <a:pt x="107" y="1199"/>
                  </a:lnTo>
                  <a:lnTo>
                    <a:pt x="98" y="1188"/>
                  </a:lnTo>
                  <a:lnTo>
                    <a:pt x="88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6" y="1124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8"/>
                  </a:lnTo>
                  <a:lnTo>
                    <a:pt x="27" y="1039"/>
                  </a:lnTo>
                  <a:lnTo>
                    <a:pt x="22" y="1020"/>
                  </a:lnTo>
                  <a:lnTo>
                    <a:pt x="17" y="999"/>
                  </a:lnTo>
                  <a:lnTo>
                    <a:pt x="14" y="980"/>
                  </a:lnTo>
                  <a:lnTo>
                    <a:pt x="7" y="937"/>
                  </a:lnTo>
                  <a:lnTo>
                    <a:pt x="3" y="890"/>
                  </a:lnTo>
                  <a:lnTo>
                    <a:pt x="0" y="842"/>
                  </a:lnTo>
                  <a:lnTo>
                    <a:pt x="0" y="790"/>
                  </a:lnTo>
                  <a:lnTo>
                    <a:pt x="0" y="750"/>
                  </a:lnTo>
                  <a:lnTo>
                    <a:pt x="1" y="710"/>
                  </a:lnTo>
                  <a:lnTo>
                    <a:pt x="4" y="670"/>
                  </a:lnTo>
                  <a:lnTo>
                    <a:pt x="8" y="632"/>
                  </a:lnTo>
                  <a:lnTo>
                    <a:pt x="12" y="594"/>
                  </a:lnTo>
                  <a:lnTo>
                    <a:pt x="18" y="556"/>
                  </a:lnTo>
                  <a:lnTo>
                    <a:pt x="24" y="519"/>
                  </a:lnTo>
                  <a:lnTo>
                    <a:pt x="32" y="483"/>
                  </a:lnTo>
                  <a:lnTo>
                    <a:pt x="40" y="448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89"/>
                  </a:lnTo>
                  <a:lnTo>
                    <a:pt x="104" y="260"/>
                  </a:lnTo>
                  <a:lnTo>
                    <a:pt x="116" y="232"/>
                  </a:lnTo>
                  <a:lnTo>
                    <a:pt x="130" y="206"/>
                  </a:lnTo>
                  <a:lnTo>
                    <a:pt x="144" y="182"/>
                  </a:lnTo>
                  <a:lnTo>
                    <a:pt x="160" y="157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2"/>
                  </a:lnTo>
                  <a:lnTo>
                    <a:pt x="260" y="48"/>
                  </a:lnTo>
                  <a:lnTo>
                    <a:pt x="278" y="34"/>
                  </a:lnTo>
                  <a:lnTo>
                    <a:pt x="297" y="24"/>
                  </a:lnTo>
                  <a:lnTo>
                    <a:pt x="316" y="15"/>
                  </a:lnTo>
                  <a:lnTo>
                    <a:pt x="335" y="8"/>
                  </a:lnTo>
                  <a:lnTo>
                    <a:pt x="354" y="3"/>
                  </a:lnTo>
                  <a:lnTo>
                    <a:pt x="375" y="1"/>
                  </a:lnTo>
                  <a:lnTo>
                    <a:pt x="394" y="0"/>
                  </a:lnTo>
                  <a:lnTo>
                    <a:pt x="422" y="1"/>
                  </a:lnTo>
                  <a:lnTo>
                    <a:pt x="449" y="7"/>
                  </a:lnTo>
                  <a:lnTo>
                    <a:pt x="461" y="10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5" y="53"/>
                  </a:lnTo>
                  <a:lnTo>
                    <a:pt x="545" y="64"/>
                  </a:lnTo>
                  <a:lnTo>
                    <a:pt x="552" y="73"/>
                  </a:lnTo>
                  <a:lnTo>
                    <a:pt x="560" y="83"/>
                  </a:lnTo>
                  <a:lnTo>
                    <a:pt x="568" y="93"/>
                  </a:lnTo>
                  <a:lnTo>
                    <a:pt x="767" y="17"/>
                  </a:lnTo>
                  <a:lnTo>
                    <a:pt x="776" y="36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2"/>
                  </a:lnTo>
                  <a:lnTo>
                    <a:pt x="670" y="863"/>
                  </a:lnTo>
                  <a:lnTo>
                    <a:pt x="668" y="888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0"/>
                  </a:lnTo>
                  <a:lnTo>
                    <a:pt x="664" y="947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2"/>
                  </a:lnTo>
                  <a:lnTo>
                    <a:pt x="668" y="999"/>
                  </a:lnTo>
                  <a:lnTo>
                    <a:pt x="668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0"/>
                  </a:lnTo>
                  <a:lnTo>
                    <a:pt x="673" y="1025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79" y="1037"/>
                  </a:lnTo>
                  <a:lnTo>
                    <a:pt x="681" y="1041"/>
                  </a:lnTo>
                  <a:lnTo>
                    <a:pt x="684" y="1044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3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3"/>
                  </a:lnTo>
                  <a:lnTo>
                    <a:pt x="720" y="1065"/>
                  </a:lnTo>
                  <a:lnTo>
                    <a:pt x="729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5"/>
                  </a:lnTo>
                  <a:lnTo>
                    <a:pt x="754" y="1065"/>
                  </a:lnTo>
                  <a:lnTo>
                    <a:pt x="759" y="1063"/>
                  </a:lnTo>
                  <a:lnTo>
                    <a:pt x="771" y="1058"/>
                  </a:lnTo>
                  <a:lnTo>
                    <a:pt x="784" y="1053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2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1"/>
                  </a:lnTo>
                  <a:lnTo>
                    <a:pt x="671" y="1225"/>
                  </a:lnTo>
                  <a:lnTo>
                    <a:pt x="660" y="1228"/>
                  </a:lnTo>
                  <a:lnTo>
                    <a:pt x="649" y="1232"/>
                  </a:lnTo>
                  <a:lnTo>
                    <a:pt x="637" y="1233"/>
                  </a:lnTo>
                  <a:lnTo>
                    <a:pt x="625" y="1235"/>
                  </a:lnTo>
                  <a:lnTo>
                    <a:pt x="613" y="1235"/>
                  </a:lnTo>
                  <a:lnTo>
                    <a:pt x="596" y="1235"/>
                  </a:lnTo>
                  <a:lnTo>
                    <a:pt x="581" y="1232"/>
                  </a:lnTo>
                  <a:lnTo>
                    <a:pt x="567" y="1228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7"/>
                  </a:lnTo>
                  <a:lnTo>
                    <a:pt x="516" y="1199"/>
                  </a:lnTo>
                  <a:lnTo>
                    <a:pt x="506" y="1186"/>
                  </a:lnTo>
                  <a:lnTo>
                    <a:pt x="497" y="1174"/>
                  </a:lnTo>
                  <a:lnTo>
                    <a:pt x="487" y="1160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5"/>
                  </a:lnTo>
                  <a:lnTo>
                    <a:pt x="460" y="1098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1"/>
                  </a:lnTo>
                  <a:lnTo>
                    <a:pt x="524" y="244"/>
                  </a:lnTo>
                  <a:lnTo>
                    <a:pt x="523" y="235"/>
                  </a:lnTo>
                  <a:lnTo>
                    <a:pt x="521" y="227"/>
                  </a:lnTo>
                  <a:lnTo>
                    <a:pt x="519" y="218"/>
                  </a:lnTo>
                  <a:lnTo>
                    <a:pt x="519" y="211"/>
                  </a:lnTo>
                  <a:lnTo>
                    <a:pt x="516" y="202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8"/>
                  </a:lnTo>
                  <a:lnTo>
                    <a:pt x="480" y="135"/>
                  </a:lnTo>
                  <a:lnTo>
                    <a:pt x="475" y="131"/>
                  </a:lnTo>
                  <a:lnTo>
                    <a:pt x="469" y="128"/>
                  </a:lnTo>
                  <a:lnTo>
                    <a:pt x="464" y="126"/>
                  </a:lnTo>
                  <a:lnTo>
                    <a:pt x="458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19"/>
                  </a:lnTo>
                  <a:lnTo>
                    <a:pt x="433" y="119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3"/>
                  </a:lnTo>
                  <a:lnTo>
                    <a:pt x="382" y="142"/>
                  </a:lnTo>
                  <a:lnTo>
                    <a:pt x="373" y="152"/>
                  </a:lnTo>
                  <a:lnTo>
                    <a:pt x="364" y="163"/>
                  </a:lnTo>
                  <a:lnTo>
                    <a:pt x="354" y="176"/>
                  </a:lnTo>
                  <a:lnTo>
                    <a:pt x="346" y="190"/>
                  </a:lnTo>
                  <a:lnTo>
                    <a:pt x="337" y="206"/>
                  </a:lnTo>
                  <a:lnTo>
                    <a:pt x="329" y="223"/>
                  </a:lnTo>
                  <a:lnTo>
                    <a:pt x="320" y="242"/>
                  </a:lnTo>
                  <a:lnTo>
                    <a:pt x="313" y="261"/>
                  </a:lnTo>
                  <a:lnTo>
                    <a:pt x="305" y="282"/>
                  </a:lnTo>
                  <a:lnTo>
                    <a:pt x="298" y="305"/>
                  </a:lnTo>
                  <a:lnTo>
                    <a:pt x="291" y="327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3"/>
                  </a:lnTo>
                  <a:lnTo>
                    <a:pt x="248" y="542"/>
                  </a:lnTo>
                  <a:lnTo>
                    <a:pt x="241" y="604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2" y="795"/>
                  </a:lnTo>
                  <a:lnTo>
                    <a:pt x="232" y="823"/>
                  </a:lnTo>
                  <a:lnTo>
                    <a:pt x="234" y="850"/>
                  </a:lnTo>
                  <a:lnTo>
                    <a:pt x="235" y="876"/>
                  </a:lnTo>
                  <a:lnTo>
                    <a:pt x="237" y="902"/>
                  </a:lnTo>
                  <a:lnTo>
                    <a:pt x="239" y="914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49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7"/>
                  </a:lnTo>
                  <a:lnTo>
                    <a:pt x="256" y="996"/>
                  </a:lnTo>
                  <a:lnTo>
                    <a:pt x="259" y="1006"/>
                  </a:lnTo>
                  <a:lnTo>
                    <a:pt x="263" y="1013"/>
                  </a:lnTo>
                  <a:lnTo>
                    <a:pt x="267" y="1022"/>
                  </a:lnTo>
                  <a:lnTo>
                    <a:pt x="271" y="1027"/>
                  </a:lnTo>
                  <a:lnTo>
                    <a:pt x="276" y="1034"/>
                  </a:lnTo>
                  <a:lnTo>
                    <a:pt x="280" y="1039"/>
                  </a:lnTo>
                  <a:lnTo>
                    <a:pt x="285" y="1044"/>
                  </a:lnTo>
                  <a:lnTo>
                    <a:pt x="290" y="1050"/>
                  </a:lnTo>
                  <a:lnTo>
                    <a:pt x="295" y="1053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3"/>
                  </a:lnTo>
                  <a:lnTo>
                    <a:pt x="327" y="1065"/>
                  </a:lnTo>
                  <a:lnTo>
                    <a:pt x="334" y="1065"/>
                  </a:lnTo>
                  <a:lnTo>
                    <a:pt x="342" y="1065"/>
                  </a:lnTo>
                  <a:lnTo>
                    <a:pt x="349" y="1063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3"/>
                  </a:lnTo>
                  <a:lnTo>
                    <a:pt x="378" y="1046"/>
                  </a:lnTo>
                  <a:lnTo>
                    <a:pt x="386" y="1041"/>
                  </a:lnTo>
                  <a:lnTo>
                    <a:pt x="392" y="1032"/>
                  </a:lnTo>
                  <a:lnTo>
                    <a:pt x="406" y="1015"/>
                  </a:lnTo>
                  <a:lnTo>
                    <a:pt x="419" y="996"/>
                  </a:lnTo>
                  <a:lnTo>
                    <a:pt x="432" y="975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0840" y="3483000"/>
              <a:ext cx="109440" cy="314280"/>
            </a:xfrm>
            <a:custGeom>
              <a:avLst/>
              <a:gdLst/>
              <a:ahLst/>
              <a:rect l="l" t="t" r="r" b="b"/>
              <a:pathLst>
                <a:path w="305" h="871">
                  <a:moveTo>
                    <a:pt x="304" y="248"/>
                  </a:moveTo>
                  <a:lnTo>
                    <a:pt x="304" y="271"/>
                  </a:lnTo>
                  <a:lnTo>
                    <a:pt x="302" y="295"/>
                  </a:lnTo>
                  <a:lnTo>
                    <a:pt x="302" y="317"/>
                  </a:lnTo>
                  <a:lnTo>
                    <a:pt x="299" y="340"/>
                  </a:lnTo>
                  <a:lnTo>
                    <a:pt x="296" y="362"/>
                  </a:lnTo>
                  <a:lnTo>
                    <a:pt x="292" y="385"/>
                  </a:lnTo>
                  <a:lnTo>
                    <a:pt x="289" y="407"/>
                  </a:lnTo>
                  <a:lnTo>
                    <a:pt x="284" y="430"/>
                  </a:lnTo>
                  <a:lnTo>
                    <a:pt x="272" y="475"/>
                  </a:lnTo>
                  <a:lnTo>
                    <a:pt x="258" y="518"/>
                  </a:lnTo>
                  <a:lnTo>
                    <a:pt x="241" y="562"/>
                  </a:lnTo>
                  <a:lnTo>
                    <a:pt x="222" y="605"/>
                  </a:lnTo>
                  <a:lnTo>
                    <a:pt x="201" y="647"/>
                  </a:lnTo>
                  <a:lnTo>
                    <a:pt x="179" y="686"/>
                  </a:lnTo>
                  <a:lnTo>
                    <a:pt x="155" y="724"/>
                  </a:lnTo>
                  <a:lnTo>
                    <a:pt x="131" y="759"/>
                  </a:lnTo>
                  <a:lnTo>
                    <a:pt x="105" y="790"/>
                  </a:lnTo>
                  <a:lnTo>
                    <a:pt x="78" y="820"/>
                  </a:lnTo>
                  <a:lnTo>
                    <a:pt x="50" y="846"/>
                  </a:lnTo>
                  <a:lnTo>
                    <a:pt x="21" y="870"/>
                  </a:lnTo>
                  <a:lnTo>
                    <a:pt x="0" y="785"/>
                  </a:lnTo>
                  <a:lnTo>
                    <a:pt x="37" y="750"/>
                  </a:lnTo>
                  <a:lnTo>
                    <a:pt x="53" y="735"/>
                  </a:lnTo>
                  <a:lnTo>
                    <a:pt x="68" y="719"/>
                  </a:lnTo>
                  <a:lnTo>
                    <a:pt x="75" y="712"/>
                  </a:lnTo>
                  <a:lnTo>
                    <a:pt x="82" y="704"/>
                  </a:lnTo>
                  <a:lnTo>
                    <a:pt x="89" y="693"/>
                  </a:lnTo>
                  <a:lnTo>
                    <a:pt x="97" y="683"/>
                  </a:lnTo>
                  <a:lnTo>
                    <a:pt x="111" y="660"/>
                  </a:lnTo>
                  <a:lnTo>
                    <a:pt x="126" y="634"/>
                  </a:lnTo>
                  <a:lnTo>
                    <a:pt x="133" y="622"/>
                  </a:lnTo>
                  <a:lnTo>
                    <a:pt x="139" y="612"/>
                  </a:lnTo>
                  <a:lnTo>
                    <a:pt x="145" y="600"/>
                  </a:lnTo>
                  <a:lnTo>
                    <a:pt x="151" y="588"/>
                  </a:lnTo>
                  <a:lnTo>
                    <a:pt x="157" y="574"/>
                  </a:lnTo>
                  <a:lnTo>
                    <a:pt x="162" y="562"/>
                  </a:lnTo>
                  <a:lnTo>
                    <a:pt x="172" y="534"/>
                  </a:lnTo>
                  <a:lnTo>
                    <a:pt x="177" y="520"/>
                  </a:lnTo>
                  <a:lnTo>
                    <a:pt x="181" y="506"/>
                  </a:lnTo>
                  <a:lnTo>
                    <a:pt x="186" y="491"/>
                  </a:lnTo>
                  <a:lnTo>
                    <a:pt x="190" y="475"/>
                  </a:lnTo>
                  <a:lnTo>
                    <a:pt x="193" y="458"/>
                  </a:lnTo>
                  <a:lnTo>
                    <a:pt x="197" y="440"/>
                  </a:lnTo>
                  <a:lnTo>
                    <a:pt x="200" y="423"/>
                  </a:lnTo>
                  <a:lnTo>
                    <a:pt x="202" y="406"/>
                  </a:lnTo>
                  <a:lnTo>
                    <a:pt x="164" y="406"/>
                  </a:lnTo>
                  <a:lnTo>
                    <a:pt x="150" y="406"/>
                  </a:lnTo>
                  <a:lnTo>
                    <a:pt x="136" y="402"/>
                  </a:lnTo>
                  <a:lnTo>
                    <a:pt x="123" y="401"/>
                  </a:lnTo>
                  <a:lnTo>
                    <a:pt x="112" y="395"/>
                  </a:lnTo>
                  <a:lnTo>
                    <a:pt x="101" y="388"/>
                  </a:lnTo>
                  <a:lnTo>
                    <a:pt x="92" y="381"/>
                  </a:lnTo>
                  <a:lnTo>
                    <a:pt x="86" y="378"/>
                  </a:lnTo>
                  <a:lnTo>
                    <a:pt x="82" y="373"/>
                  </a:lnTo>
                  <a:lnTo>
                    <a:pt x="78" y="368"/>
                  </a:lnTo>
                  <a:lnTo>
                    <a:pt x="75" y="362"/>
                  </a:lnTo>
                  <a:lnTo>
                    <a:pt x="71" y="357"/>
                  </a:lnTo>
                  <a:lnTo>
                    <a:pt x="68" y="350"/>
                  </a:lnTo>
                  <a:lnTo>
                    <a:pt x="64" y="345"/>
                  </a:lnTo>
                  <a:lnTo>
                    <a:pt x="62" y="338"/>
                  </a:lnTo>
                  <a:lnTo>
                    <a:pt x="59" y="331"/>
                  </a:lnTo>
                  <a:lnTo>
                    <a:pt x="57" y="324"/>
                  </a:lnTo>
                  <a:lnTo>
                    <a:pt x="55" y="317"/>
                  </a:lnTo>
                  <a:lnTo>
                    <a:pt x="53" y="309"/>
                  </a:lnTo>
                  <a:lnTo>
                    <a:pt x="51" y="302"/>
                  </a:lnTo>
                  <a:lnTo>
                    <a:pt x="50" y="293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47" y="267"/>
                  </a:lnTo>
                  <a:lnTo>
                    <a:pt x="47" y="258"/>
                  </a:lnTo>
                  <a:lnTo>
                    <a:pt x="46" y="239"/>
                  </a:lnTo>
                  <a:lnTo>
                    <a:pt x="46" y="227"/>
                  </a:lnTo>
                  <a:lnTo>
                    <a:pt x="47" y="217"/>
                  </a:lnTo>
                  <a:lnTo>
                    <a:pt x="48" y="207"/>
                  </a:lnTo>
                  <a:lnTo>
                    <a:pt x="48" y="194"/>
                  </a:lnTo>
                  <a:lnTo>
                    <a:pt x="50" y="184"/>
                  </a:lnTo>
                  <a:lnTo>
                    <a:pt x="52" y="174"/>
                  </a:lnTo>
                  <a:lnTo>
                    <a:pt x="53" y="163"/>
                  </a:lnTo>
                  <a:lnTo>
                    <a:pt x="56" y="153"/>
                  </a:lnTo>
                  <a:lnTo>
                    <a:pt x="59" y="142"/>
                  </a:lnTo>
                  <a:lnTo>
                    <a:pt x="62" y="132"/>
                  </a:lnTo>
                  <a:lnTo>
                    <a:pt x="69" y="111"/>
                  </a:lnTo>
                  <a:lnTo>
                    <a:pt x="77" y="92"/>
                  </a:lnTo>
                  <a:lnTo>
                    <a:pt x="86" y="73"/>
                  </a:lnTo>
                  <a:lnTo>
                    <a:pt x="97" y="56"/>
                  </a:lnTo>
                  <a:lnTo>
                    <a:pt x="108" y="42"/>
                  </a:lnTo>
                  <a:lnTo>
                    <a:pt x="119" y="28"/>
                  </a:lnTo>
                  <a:lnTo>
                    <a:pt x="131" y="19"/>
                  </a:lnTo>
                  <a:lnTo>
                    <a:pt x="142" y="11"/>
                  </a:lnTo>
                  <a:lnTo>
                    <a:pt x="154" y="6"/>
                  </a:lnTo>
                  <a:lnTo>
                    <a:pt x="167" y="2"/>
                  </a:lnTo>
                  <a:lnTo>
                    <a:pt x="180" y="0"/>
                  </a:lnTo>
                  <a:lnTo>
                    <a:pt x="196" y="2"/>
                  </a:lnTo>
                  <a:lnTo>
                    <a:pt x="210" y="4"/>
                  </a:lnTo>
                  <a:lnTo>
                    <a:pt x="224" y="11"/>
                  </a:lnTo>
                  <a:lnTo>
                    <a:pt x="230" y="14"/>
                  </a:lnTo>
                  <a:lnTo>
                    <a:pt x="235" y="18"/>
                  </a:lnTo>
                  <a:lnTo>
                    <a:pt x="241" y="23"/>
                  </a:lnTo>
                  <a:lnTo>
                    <a:pt x="247" y="26"/>
                  </a:lnTo>
                  <a:lnTo>
                    <a:pt x="252" y="33"/>
                  </a:lnTo>
                  <a:lnTo>
                    <a:pt x="258" y="38"/>
                  </a:lnTo>
                  <a:lnTo>
                    <a:pt x="262" y="45"/>
                  </a:lnTo>
                  <a:lnTo>
                    <a:pt x="266" y="54"/>
                  </a:lnTo>
                  <a:lnTo>
                    <a:pt x="270" y="61"/>
                  </a:lnTo>
                  <a:lnTo>
                    <a:pt x="274" y="70"/>
                  </a:lnTo>
                  <a:lnTo>
                    <a:pt x="281" y="87"/>
                  </a:lnTo>
                  <a:lnTo>
                    <a:pt x="287" y="108"/>
                  </a:lnTo>
                  <a:lnTo>
                    <a:pt x="292" y="127"/>
                  </a:lnTo>
                  <a:lnTo>
                    <a:pt x="296" y="149"/>
                  </a:lnTo>
                  <a:lnTo>
                    <a:pt x="300" y="172"/>
                  </a:lnTo>
                  <a:lnTo>
                    <a:pt x="302" y="196"/>
                  </a:lnTo>
                  <a:lnTo>
                    <a:pt x="303" y="22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73200" y="3898800"/>
              <a:ext cx="344520" cy="609840"/>
            </a:xfrm>
            <a:custGeom>
              <a:avLst/>
              <a:gdLst/>
              <a:ahLst/>
              <a:rect l="l" t="t" r="r" b="b"/>
              <a:pathLst>
                <a:path w="955" h="1695">
                  <a:moveTo>
                    <a:pt x="954" y="0"/>
                  </a:moveTo>
                  <a:lnTo>
                    <a:pt x="893" y="485"/>
                  </a:lnTo>
                  <a:lnTo>
                    <a:pt x="843" y="485"/>
                  </a:lnTo>
                  <a:lnTo>
                    <a:pt x="841" y="462"/>
                  </a:lnTo>
                  <a:lnTo>
                    <a:pt x="840" y="440"/>
                  </a:lnTo>
                  <a:lnTo>
                    <a:pt x="836" y="412"/>
                  </a:lnTo>
                  <a:lnTo>
                    <a:pt x="833" y="383"/>
                  </a:lnTo>
                  <a:lnTo>
                    <a:pt x="829" y="353"/>
                  </a:lnTo>
                  <a:lnTo>
                    <a:pt x="825" y="324"/>
                  </a:lnTo>
                  <a:lnTo>
                    <a:pt x="819" y="293"/>
                  </a:lnTo>
                  <a:lnTo>
                    <a:pt x="813" y="263"/>
                  </a:lnTo>
                  <a:lnTo>
                    <a:pt x="806" y="234"/>
                  </a:lnTo>
                  <a:lnTo>
                    <a:pt x="798" y="206"/>
                  </a:lnTo>
                  <a:lnTo>
                    <a:pt x="795" y="194"/>
                  </a:lnTo>
                  <a:lnTo>
                    <a:pt x="791" y="182"/>
                  </a:lnTo>
                  <a:lnTo>
                    <a:pt x="787" y="170"/>
                  </a:lnTo>
                  <a:lnTo>
                    <a:pt x="783" y="159"/>
                  </a:lnTo>
                  <a:lnTo>
                    <a:pt x="779" y="151"/>
                  </a:lnTo>
                  <a:lnTo>
                    <a:pt x="775" y="142"/>
                  </a:lnTo>
                  <a:lnTo>
                    <a:pt x="770" y="135"/>
                  </a:lnTo>
                  <a:lnTo>
                    <a:pt x="766" y="128"/>
                  </a:lnTo>
                  <a:lnTo>
                    <a:pt x="761" y="123"/>
                  </a:lnTo>
                  <a:lnTo>
                    <a:pt x="756" y="118"/>
                  </a:lnTo>
                  <a:lnTo>
                    <a:pt x="751" y="114"/>
                  </a:lnTo>
                  <a:lnTo>
                    <a:pt x="745" y="112"/>
                  </a:lnTo>
                  <a:lnTo>
                    <a:pt x="735" y="111"/>
                  </a:lnTo>
                  <a:lnTo>
                    <a:pt x="723" y="107"/>
                  </a:lnTo>
                  <a:lnTo>
                    <a:pt x="710" y="106"/>
                  </a:lnTo>
                  <a:lnTo>
                    <a:pt x="696" y="104"/>
                  </a:lnTo>
                  <a:lnTo>
                    <a:pt x="643" y="100"/>
                  </a:lnTo>
                  <a:lnTo>
                    <a:pt x="611" y="100"/>
                  </a:lnTo>
                  <a:lnTo>
                    <a:pt x="445" y="1417"/>
                  </a:lnTo>
                  <a:lnTo>
                    <a:pt x="443" y="1438"/>
                  </a:lnTo>
                  <a:lnTo>
                    <a:pt x="442" y="1448"/>
                  </a:lnTo>
                  <a:lnTo>
                    <a:pt x="441" y="1457"/>
                  </a:lnTo>
                  <a:lnTo>
                    <a:pt x="440" y="1462"/>
                  </a:lnTo>
                  <a:lnTo>
                    <a:pt x="440" y="1466"/>
                  </a:lnTo>
                  <a:lnTo>
                    <a:pt x="439" y="1469"/>
                  </a:lnTo>
                  <a:lnTo>
                    <a:pt x="439" y="1472"/>
                  </a:lnTo>
                  <a:lnTo>
                    <a:pt x="439" y="1476"/>
                  </a:lnTo>
                  <a:lnTo>
                    <a:pt x="439" y="1478"/>
                  </a:lnTo>
                  <a:lnTo>
                    <a:pt x="439" y="1483"/>
                  </a:lnTo>
                  <a:lnTo>
                    <a:pt x="439" y="1490"/>
                  </a:lnTo>
                  <a:lnTo>
                    <a:pt x="439" y="1497"/>
                  </a:lnTo>
                  <a:lnTo>
                    <a:pt x="440" y="1504"/>
                  </a:lnTo>
                  <a:lnTo>
                    <a:pt x="441" y="1511"/>
                  </a:lnTo>
                  <a:lnTo>
                    <a:pt x="442" y="1516"/>
                  </a:lnTo>
                  <a:lnTo>
                    <a:pt x="443" y="1523"/>
                  </a:lnTo>
                  <a:lnTo>
                    <a:pt x="444" y="1530"/>
                  </a:lnTo>
                  <a:lnTo>
                    <a:pt x="445" y="1535"/>
                  </a:lnTo>
                  <a:lnTo>
                    <a:pt x="446" y="1537"/>
                  </a:lnTo>
                  <a:lnTo>
                    <a:pt x="447" y="1540"/>
                  </a:lnTo>
                  <a:lnTo>
                    <a:pt x="449" y="1545"/>
                  </a:lnTo>
                  <a:lnTo>
                    <a:pt x="451" y="1550"/>
                  </a:lnTo>
                  <a:lnTo>
                    <a:pt x="455" y="1554"/>
                  </a:lnTo>
                  <a:lnTo>
                    <a:pt x="457" y="1559"/>
                  </a:lnTo>
                  <a:lnTo>
                    <a:pt x="460" y="1563"/>
                  </a:lnTo>
                  <a:lnTo>
                    <a:pt x="464" y="1566"/>
                  </a:lnTo>
                  <a:lnTo>
                    <a:pt x="468" y="1569"/>
                  </a:lnTo>
                  <a:lnTo>
                    <a:pt x="472" y="1573"/>
                  </a:lnTo>
                  <a:lnTo>
                    <a:pt x="477" y="1576"/>
                  </a:lnTo>
                  <a:lnTo>
                    <a:pt x="488" y="1582"/>
                  </a:lnTo>
                  <a:lnTo>
                    <a:pt x="500" y="1587"/>
                  </a:lnTo>
                  <a:lnTo>
                    <a:pt x="514" y="1592"/>
                  </a:lnTo>
                  <a:lnTo>
                    <a:pt x="528" y="1597"/>
                  </a:lnTo>
                  <a:lnTo>
                    <a:pt x="541" y="1602"/>
                  </a:lnTo>
                  <a:lnTo>
                    <a:pt x="553" y="1606"/>
                  </a:lnTo>
                  <a:lnTo>
                    <a:pt x="563" y="1608"/>
                  </a:lnTo>
                  <a:lnTo>
                    <a:pt x="552" y="1694"/>
                  </a:lnTo>
                  <a:lnTo>
                    <a:pt x="38" y="1694"/>
                  </a:lnTo>
                  <a:lnTo>
                    <a:pt x="50" y="1608"/>
                  </a:lnTo>
                  <a:lnTo>
                    <a:pt x="102" y="1597"/>
                  </a:lnTo>
                  <a:lnTo>
                    <a:pt x="118" y="1594"/>
                  </a:lnTo>
                  <a:lnTo>
                    <a:pt x="133" y="1590"/>
                  </a:lnTo>
                  <a:lnTo>
                    <a:pt x="139" y="1589"/>
                  </a:lnTo>
                  <a:lnTo>
                    <a:pt x="144" y="1587"/>
                  </a:lnTo>
                  <a:lnTo>
                    <a:pt x="148" y="1583"/>
                  </a:lnTo>
                  <a:lnTo>
                    <a:pt x="152" y="1582"/>
                  </a:lnTo>
                  <a:lnTo>
                    <a:pt x="159" y="1576"/>
                  </a:lnTo>
                  <a:lnTo>
                    <a:pt x="165" y="1571"/>
                  </a:lnTo>
                  <a:lnTo>
                    <a:pt x="170" y="1564"/>
                  </a:lnTo>
                  <a:lnTo>
                    <a:pt x="175" y="1559"/>
                  </a:lnTo>
                  <a:lnTo>
                    <a:pt x="180" y="1552"/>
                  </a:lnTo>
                  <a:lnTo>
                    <a:pt x="184" y="1545"/>
                  </a:lnTo>
                  <a:lnTo>
                    <a:pt x="189" y="1538"/>
                  </a:lnTo>
                  <a:lnTo>
                    <a:pt x="192" y="1530"/>
                  </a:lnTo>
                  <a:lnTo>
                    <a:pt x="195" y="1521"/>
                  </a:lnTo>
                  <a:lnTo>
                    <a:pt x="198" y="1512"/>
                  </a:lnTo>
                  <a:lnTo>
                    <a:pt x="201" y="1504"/>
                  </a:lnTo>
                  <a:lnTo>
                    <a:pt x="203" y="1495"/>
                  </a:lnTo>
                  <a:lnTo>
                    <a:pt x="205" y="1485"/>
                  </a:lnTo>
                  <a:lnTo>
                    <a:pt x="206" y="1474"/>
                  </a:lnTo>
                  <a:lnTo>
                    <a:pt x="208" y="1464"/>
                  </a:lnTo>
                  <a:lnTo>
                    <a:pt x="210" y="1453"/>
                  </a:lnTo>
                  <a:lnTo>
                    <a:pt x="380" y="100"/>
                  </a:lnTo>
                  <a:lnTo>
                    <a:pt x="355" y="100"/>
                  </a:lnTo>
                  <a:lnTo>
                    <a:pt x="306" y="104"/>
                  </a:lnTo>
                  <a:lnTo>
                    <a:pt x="248" y="112"/>
                  </a:lnTo>
                  <a:lnTo>
                    <a:pt x="242" y="114"/>
                  </a:lnTo>
                  <a:lnTo>
                    <a:pt x="236" y="118"/>
                  </a:lnTo>
                  <a:lnTo>
                    <a:pt x="230" y="123"/>
                  </a:lnTo>
                  <a:lnTo>
                    <a:pt x="223" y="128"/>
                  </a:lnTo>
                  <a:lnTo>
                    <a:pt x="217" y="135"/>
                  </a:lnTo>
                  <a:lnTo>
                    <a:pt x="210" y="144"/>
                  </a:lnTo>
                  <a:lnTo>
                    <a:pt x="203" y="154"/>
                  </a:lnTo>
                  <a:lnTo>
                    <a:pt x="195" y="164"/>
                  </a:lnTo>
                  <a:lnTo>
                    <a:pt x="182" y="187"/>
                  </a:lnTo>
                  <a:lnTo>
                    <a:pt x="168" y="211"/>
                  </a:lnTo>
                  <a:lnTo>
                    <a:pt x="154" y="237"/>
                  </a:lnTo>
                  <a:lnTo>
                    <a:pt x="140" y="263"/>
                  </a:lnTo>
                  <a:lnTo>
                    <a:pt x="124" y="296"/>
                  </a:lnTo>
                  <a:lnTo>
                    <a:pt x="110" y="327"/>
                  </a:lnTo>
                  <a:lnTo>
                    <a:pt x="97" y="357"/>
                  </a:lnTo>
                  <a:lnTo>
                    <a:pt x="86" y="384"/>
                  </a:lnTo>
                  <a:lnTo>
                    <a:pt x="76" y="410"/>
                  </a:lnTo>
                  <a:lnTo>
                    <a:pt x="67" y="436"/>
                  </a:lnTo>
                  <a:lnTo>
                    <a:pt x="57" y="461"/>
                  </a:lnTo>
                  <a:lnTo>
                    <a:pt x="50" y="485"/>
                  </a:lnTo>
                  <a:lnTo>
                    <a:pt x="0" y="485"/>
                  </a:lnTo>
                  <a:lnTo>
                    <a:pt x="61" y="0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51120" y="407196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9">
                  <a:moveTo>
                    <a:pt x="452" y="1062"/>
                  </a:moveTo>
                  <a:lnTo>
                    <a:pt x="446" y="1062"/>
                  </a:lnTo>
                  <a:lnTo>
                    <a:pt x="435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80" y="1157"/>
                  </a:lnTo>
                  <a:lnTo>
                    <a:pt x="366" y="1173"/>
                  </a:lnTo>
                  <a:lnTo>
                    <a:pt x="352" y="1187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2"/>
                  </a:lnTo>
                  <a:lnTo>
                    <a:pt x="294" y="1230"/>
                  </a:lnTo>
                  <a:lnTo>
                    <a:pt x="286" y="1234"/>
                  </a:lnTo>
                  <a:lnTo>
                    <a:pt x="279" y="1239"/>
                  </a:lnTo>
                  <a:lnTo>
                    <a:pt x="270" y="1241"/>
                  </a:lnTo>
                  <a:lnTo>
                    <a:pt x="262" y="1244"/>
                  </a:lnTo>
                  <a:lnTo>
                    <a:pt x="253" y="1246"/>
                  </a:lnTo>
                  <a:lnTo>
                    <a:pt x="245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4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8"/>
                  </a:lnTo>
                  <a:lnTo>
                    <a:pt x="108" y="1199"/>
                  </a:lnTo>
                  <a:lnTo>
                    <a:pt x="99" y="1189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5" y="1140"/>
                  </a:lnTo>
                  <a:lnTo>
                    <a:pt x="57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8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8" y="1000"/>
                  </a:lnTo>
                  <a:lnTo>
                    <a:pt x="15" y="981"/>
                  </a:lnTo>
                  <a:lnTo>
                    <a:pt x="8" y="937"/>
                  </a:lnTo>
                  <a:lnTo>
                    <a:pt x="4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1"/>
                  </a:lnTo>
                  <a:lnTo>
                    <a:pt x="5" y="671"/>
                  </a:lnTo>
                  <a:lnTo>
                    <a:pt x="9" y="633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20"/>
                  </a:lnTo>
                  <a:lnTo>
                    <a:pt x="32" y="484"/>
                  </a:lnTo>
                  <a:lnTo>
                    <a:pt x="41" y="449"/>
                  </a:lnTo>
                  <a:lnTo>
                    <a:pt x="49" y="414"/>
                  </a:lnTo>
                  <a:lnTo>
                    <a:pt x="60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8"/>
                  </a:lnTo>
                  <a:lnTo>
                    <a:pt x="176" y="137"/>
                  </a:lnTo>
                  <a:lnTo>
                    <a:pt x="192" y="116"/>
                  </a:lnTo>
                  <a:lnTo>
                    <a:pt x="208" y="97"/>
                  </a:lnTo>
                  <a:lnTo>
                    <a:pt x="225" y="78"/>
                  </a:lnTo>
                  <a:lnTo>
                    <a:pt x="242" y="63"/>
                  </a:lnTo>
                  <a:lnTo>
                    <a:pt x="261" y="49"/>
                  </a:lnTo>
                  <a:lnTo>
                    <a:pt x="279" y="35"/>
                  </a:lnTo>
                  <a:lnTo>
                    <a:pt x="297" y="24"/>
                  </a:lnTo>
                  <a:lnTo>
                    <a:pt x="317" y="16"/>
                  </a:lnTo>
                  <a:lnTo>
                    <a:pt x="336" y="9"/>
                  </a:lnTo>
                  <a:lnTo>
                    <a:pt x="355" y="4"/>
                  </a:lnTo>
                  <a:lnTo>
                    <a:pt x="375" y="2"/>
                  </a:lnTo>
                  <a:lnTo>
                    <a:pt x="395" y="0"/>
                  </a:lnTo>
                  <a:lnTo>
                    <a:pt x="423" y="2"/>
                  </a:lnTo>
                  <a:lnTo>
                    <a:pt x="450" y="7"/>
                  </a:lnTo>
                  <a:lnTo>
                    <a:pt x="462" y="11"/>
                  </a:lnTo>
                  <a:lnTo>
                    <a:pt x="474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8" y="38"/>
                  </a:lnTo>
                  <a:lnTo>
                    <a:pt x="527" y="47"/>
                  </a:lnTo>
                  <a:lnTo>
                    <a:pt x="536" y="54"/>
                  </a:lnTo>
                  <a:lnTo>
                    <a:pt x="546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7" y="37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3"/>
                  </a:lnTo>
                  <a:lnTo>
                    <a:pt x="671" y="863"/>
                  </a:lnTo>
                  <a:lnTo>
                    <a:pt x="668" y="889"/>
                  </a:lnTo>
                  <a:lnTo>
                    <a:pt x="667" y="913"/>
                  </a:lnTo>
                  <a:lnTo>
                    <a:pt x="665" y="932"/>
                  </a:lnTo>
                  <a:lnTo>
                    <a:pt x="665" y="941"/>
                  </a:lnTo>
                  <a:lnTo>
                    <a:pt x="665" y="948"/>
                  </a:lnTo>
                  <a:lnTo>
                    <a:pt x="665" y="963"/>
                  </a:lnTo>
                  <a:lnTo>
                    <a:pt x="666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2" y="1015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6" y="1031"/>
                  </a:lnTo>
                  <a:lnTo>
                    <a:pt x="678" y="1034"/>
                  </a:lnTo>
                  <a:lnTo>
                    <a:pt x="680" y="1038"/>
                  </a:lnTo>
                  <a:lnTo>
                    <a:pt x="682" y="1041"/>
                  </a:lnTo>
                  <a:lnTo>
                    <a:pt x="684" y="1045"/>
                  </a:lnTo>
                  <a:lnTo>
                    <a:pt x="686" y="1048"/>
                  </a:lnTo>
                  <a:lnTo>
                    <a:pt x="689" y="1050"/>
                  </a:lnTo>
                  <a:lnTo>
                    <a:pt x="692" y="1054"/>
                  </a:lnTo>
                  <a:lnTo>
                    <a:pt x="698" y="1057"/>
                  </a:lnTo>
                  <a:lnTo>
                    <a:pt x="705" y="1060"/>
                  </a:lnTo>
                  <a:lnTo>
                    <a:pt x="712" y="1064"/>
                  </a:lnTo>
                  <a:lnTo>
                    <a:pt x="721" y="1066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50" y="1066"/>
                  </a:lnTo>
                  <a:lnTo>
                    <a:pt x="755" y="1066"/>
                  </a:lnTo>
                  <a:lnTo>
                    <a:pt x="760" y="1064"/>
                  </a:lnTo>
                  <a:lnTo>
                    <a:pt x="772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3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3" y="1222"/>
                  </a:lnTo>
                  <a:lnTo>
                    <a:pt x="672" y="1225"/>
                  </a:lnTo>
                  <a:lnTo>
                    <a:pt x="661" y="1229"/>
                  </a:lnTo>
                  <a:lnTo>
                    <a:pt x="650" y="1232"/>
                  </a:lnTo>
                  <a:lnTo>
                    <a:pt x="638" y="1234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8" y="1229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9" y="1208"/>
                  </a:lnTo>
                  <a:lnTo>
                    <a:pt x="517" y="1199"/>
                  </a:lnTo>
                  <a:lnTo>
                    <a:pt x="507" y="1187"/>
                  </a:lnTo>
                  <a:lnTo>
                    <a:pt x="497" y="1175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6"/>
                  </a:lnTo>
                  <a:lnTo>
                    <a:pt x="461" y="1099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2"/>
                  </a:lnTo>
                  <a:lnTo>
                    <a:pt x="524" y="244"/>
                  </a:lnTo>
                  <a:lnTo>
                    <a:pt x="524" y="236"/>
                  </a:lnTo>
                  <a:lnTo>
                    <a:pt x="522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7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2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90" y="144"/>
                  </a:lnTo>
                  <a:lnTo>
                    <a:pt x="485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5" y="127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1" y="120"/>
                  </a:lnTo>
                  <a:lnTo>
                    <a:pt x="434" y="120"/>
                  </a:lnTo>
                  <a:lnTo>
                    <a:pt x="423" y="121"/>
                  </a:lnTo>
                  <a:lnTo>
                    <a:pt x="413" y="123"/>
                  </a:lnTo>
                  <a:lnTo>
                    <a:pt x="402" y="128"/>
                  </a:lnTo>
                  <a:lnTo>
                    <a:pt x="392" y="134"/>
                  </a:lnTo>
                  <a:lnTo>
                    <a:pt x="383" y="142"/>
                  </a:lnTo>
                  <a:lnTo>
                    <a:pt x="374" y="153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7" y="191"/>
                  </a:lnTo>
                  <a:lnTo>
                    <a:pt x="338" y="206"/>
                  </a:lnTo>
                  <a:lnTo>
                    <a:pt x="330" y="224"/>
                  </a:lnTo>
                  <a:lnTo>
                    <a:pt x="321" y="243"/>
                  </a:lnTo>
                  <a:lnTo>
                    <a:pt x="314" y="262"/>
                  </a:lnTo>
                  <a:lnTo>
                    <a:pt x="306" y="283"/>
                  </a:lnTo>
                  <a:lnTo>
                    <a:pt x="298" y="305"/>
                  </a:lnTo>
                  <a:lnTo>
                    <a:pt x="292" y="328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4"/>
                  </a:lnTo>
                  <a:lnTo>
                    <a:pt x="248" y="542"/>
                  </a:lnTo>
                  <a:lnTo>
                    <a:pt x="242" y="605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1"/>
                  </a:lnTo>
                  <a:lnTo>
                    <a:pt x="236" y="877"/>
                  </a:lnTo>
                  <a:lnTo>
                    <a:pt x="238" y="903"/>
                  </a:lnTo>
                  <a:lnTo>
                    <a:pt x="240" y="915"/>
                  </a:lnTo>
                  <a:lnTo>
                    <a:pt x="241" y="927"/>
                  </a:lnTo>
                  <a:lnTo>
                    <a:pt x="242" y="939"/>
                  </a:lnTo>
                  <a:lnTo>
                    <a:pt x="245" y="950"/>
                  </a:lnTo>
                  <a:lnTo>
                    <a:pt x="247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8"/>
                  </a:lnTo>
                  <a:lnTo>
                    <a:pt x="257" y="996"/>
                  </a:lnTo>
                  <a:lnTo>
                    <a:pt x="260" y="1007"/>
                  </a:lnTo>
                  <a:lnTo>
                    <a:pt x="264" y="1014"/>
                  </a:lnTo>
                  <a:lnTo>
                    <a:pt x="268" y="1022"/>
                  </a:lnTo>
                  <a:lnTo>
                    <a:pt x="272" y="1028"/>
                  </a:lnTo>
                  <a:lnTo>
                    <a:pt x="276" y="1034"/>
                  </a:lnTo>
                  <a:lnTo>
                    <a:pt x="281" y="1040"/>
                  </a:lnTo>
                  <a:lnTo>
                    <a:pt x="286" y="1045"/>
                  </a:lnTo>
                  <a:lnTo>
                    <a:pt x="291" y="1050"/>
                  </a:lnTo>
                  <a:lnTo>
                    <a:pt x="296" y="1054"/>
                  </a:lnTo>
                  <a:lnTo>
                    <a:pt x="302" y="1057"/>
                  </a:lnTo>
                  <a:lnTo>
                    <a:pt x="308" y="1060"/>
                  </a:lnTo>
                  <a:lnTo>
                    <a:pt x="314" y="1062"/>
                  </a:lnTo>
                  <a:lnTo>
                    <a:pt x="320" y="1064"/>
                  </a:lnTo>
                  <a:lnTo>
                    <a:pt x="328" y="1066"/>
                  </a:lnTo>
                  <a:lnTo>
                    <a:pt x="335" y="1066"/>
                  </a:lnTo>
                  <a:lnTo>
                    <a:pt x="342" y="1066"/>
                  </a:lnTo>
                  <a:lnTo>
                    <a:pt x="350" y="1064"/>
                  </a:lnTo>
                  <a:lnTo>
                    <a:pt x="358" y="1060"/>
                  </a:lnTo>
                  <a:lnTo>
                    <a:pt x="364" y="1057"/>
                  </a:lnTo>
                  <a:lnTo>
                    <a:pt x="372" y="1054"/>
                  </a:lnTo>
                  <a:lnTo>
                    <a:pt x="379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7" y="1015"/>
                  </a:lnTo>
                  <a:lnTo>
                    <a:pt x="420" y="996"/>
                  </a:lnTo>
                  <a:lnTo>
                    <a:pt x="433" y="976"/>
                  </a:lnTo>
                  <a:lnTo>
                    <a:pt x="440" y="965"/>
                  </a:lnTo>
                  <a:lnTo>
                    <a:pt x="446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4076640"/>
              <a:ext cx="291960" cy="439920"/>
            </a:xfrm>
            <a:custGeom>
              <a:avLst/>
              <a:gdLst/>
              <a:ahLst/>
              <a:rect l="l" t="t" r="r" b="b"/>
              <a:pathLst>
                <a:path w="812" h="1221">
                  <a:moveTo>
                    <a:pt x="804" y="179"/>
                  </a:moveTo>
                  <a:lnTo>
                    <a:pt x="803" y="203"/>
                  </a:lnTo>
                  <a:lnTo>
                    <a:pt x="802" y="226"/>
                  </a:lnTo>
                  <a:lnTo>
                    <a:pt x="800" y="248"/>
                  </a:lnTo>
                  <a:lnTo>
                    <a:pt x="798" y="258"/>
                  </a:lnTo>
                  <a:lnTo>
                    <a:pt x="796" y="269"/>
                  </a:lnTo>
                  <a:lnTo>
                    <a:pt x="795" y="278"/>
                  </a:lnTo>
                  <a:lnTo>
                    <a:pt x="792" y="288"/>
                  </a:lnTo>
                  <a:lnTo>
                    <a:pt x="789" y="297"/>
                  </a:lnTo>
                  <a:lnTo>
                    <a:pt x="787" y="305"/>
                  </a:lnTo>
                  <a:lnTo>
                    <a:pt x="784" y="314"/>
                  </a:lnTo>
                  <a:lnTo>
                    <a:pt x="780" y="321"/>
                  </a:lnTo>
                  <a:lnTo>
                    <a:pt x="777" y="330"/>
                  </a:lnTo>
                  <a:lnTo>
                    <a:pt x="773" y="336"/>
                  </a:lnTo>
                  <a:lnTo>
                    <a:pt x="766" y="350"/>
                  </a:lnTo>
                  <a:lnTo>
                    <a:pt x="757" y="361"/>
                  </a:lnTo>
                  <a:lnTo>
                    <a:pt x="749" y="371"/>
                  </a:lnTo>
                  <a:lnTo>
                    <a:pt x="739" y="380"/>
                  </a:lnTo>
                  <a:lnTo>
                    <a:pt x="730" y="385"/>
                  </a:lnTo>
                  <a:lnTo>
                    <a:pt x="720" y="390"/>
                  </a:lnTo>
                  <a:lnTo>
                    <a:pt x="710" y="392"/>
                  </a:lnTo>
                  <a:lnTo>
                    <a:pt x="699" y="394"/>
                  </a:lnTo>
                  <a:lnTo>
                    <a:pt x="691" y="394"/>
                  </a:lnTo>
                  <a:lnTo>
                    <a:pt x="683" y="392"/>
                  </a:lnTo>
                  <a:lnTo>
                    <a:pt x="675" y="388"/>
                  </a:lnTo>
                  <a:lnTo>
                    <a:pt x="668" y="385"/>
                  </a:lnTo>
                  <a:lnTo>
                    <a:pt x="660" y="381"/>
                  </a:lnTo>
                  <a:lnTo>
                    <a:pt x="652" y="375"/>
                  </a:lnTo>
                  <a:lnTo>
                    <a:pt x="646" y="369"/>
                  </a:lnTo>
                  <a:lnTo>
                    <a:pt x="638" y="361"/>
                  </a:lnTo>
                  <a:lnTo>
                    <a:pt x="624" y="343"/>
                  </a:lnTo>
                  <a:lnTo>
                    <a:pt x="612" y="326"/>
                  </a:lnTo>
                  <a:lnTo>
                    <a:pt x="606" y="317"/>
                  </a:lnTo>
                  <a:lnTo>
                    <a:pt x="600" y="307"/>
                  </a:lnTo>
                  <a:lnTo>
                    <a:pt x="595" y="298"/>
                  </a:lnTo>
                  <a:lnTo>
                    <a:pt x="590" y="290"/>
                  </a:lnTo>
                  <a:lnTo>
                    <a:pt x="576" y="343"/>
                  </a:lnTo>
                  <a:lnTo>
                    <a:pt x="568" y="375"/>
                  </a:lnTo>
                  <a:lnTo>
                    <a:pt x="558" y="407"/>
                  </a:lnTo>
                  <a:lnTo>
                    <a:pt x="553" y="425"/>
                  </a:lnTo>
                  <a:lnTo>
                    <a:pt x="548" y="442"/>
                  </a:lnTo>
                  <a:lnTo>
                    <a:pt x="542" y="458"/>
                  </a:lnTo>
                  <a:lnTo>
                    <a:pt x="537" y="473"/>
                  </a:lnTo>
                  <a:lnTo>
                    <a:pt x="530" y="487"/>
                  </a:lnTo>
                  <a:lnTo>
                    <a:pt x="524" y="501"/>
                  </a:lnTo>
                  <a:lnTo>
                    <a:pt x="517" y="515"/>
                  </a:lnTo>
                  <a:lnTo>
                    <a:pt x="510" y="529"/>
                  </a:lnTo>
                  <a:lnTo>
                    <a:pt x="510" y="537"/>
                  </a:lnTo>
                  <a:lnTo>
                    <a:pt x="528" y="546"/>
                  </a:lnTo>
                  <a:lnTo>
                    <a:pt x="544" y="555"/>
                  </a:lnTo>
                  <a:lnTo>
                    <a:pt x="559" y="567"/>
                  </a:lnTo>
                  <a:lnTo>
                    <a:pt x="573" y="579"/>
                  </a:lnTo>
                  <a:lnTo>
                    <a:pt x="585" y="593"/>
                  </a:lnTo>
                  <a:lnTo>
                    <a:pt x="590" y="600"/>
                  </a:lnTo>
                  <a:lnTo>
                    <a:pt x="595" y="607"/>
                  </a:lnTo>
                  <a:lnTo>
                    <a:pt x="600" y="615"/>
                  </a:lnTo>
                  <a:lnTo>
                    <a:pt x="604" y="622"/>
                  </a:lnTo>
                  <a:lnTo>
                    <a:pt x="608" y="631"/>
                  </a:lnTo>
                  <a:lnTo>
                    <a:pt x="612" y="640"/>
                  </a:lnTo>
                  <a:lnTo>
                    <a:pt x="618" y="659"/>
                  </a:lnTo>
                  <a:lnTo>
                    <a:pt x="625" y="679"/>
                  </a:lnTo>
                  <a:lnTo>
                    <a:pt x="631" y="704"/>
                  </a:lnTo>
                  <a:lnTo>
                    <a:pt x="636" y="730"/>
                  </a:lnTo>
                  <a:lnTo>
                    <a:pt x="641" y="757"/>
                  </a:lnTo>
                  <a:lnTo>
                    <a:pt x="646" y="789"/>
                  </a:lnTo>
                  <a:lnTo>
                    <a:pt x="651" y="823"/>
                  </a:lnTo>
                  <a:lnTo>
                    <a:pt x="655" y="860"/>
                  </a:lnTo>
                  <a:lnTo>
                    <a:pt x="658" y="891"/>
                  </a:lnTo>
                  <a:lnTo>
                    <a:pt x="660" y="905"/>
                  </a:lnTo>
                  <a:lnTo>
                    <a:pt x="662" y="919"/>
                  </a:lnTo>
                  <a:lnTo>
                    <a:pt x="665" y="932"/>
                  </a:lnTo>
                  <a:lnTo>
                    <a:pt x="668" y="945"/>
                  </a:lnTo>
                  <a:lnTo>
                    <a:pt x="670" y="955"/>
                  </a:lnTo>
                  <a:lnTo>
                    <a:pt x="673" y="967"/>
                  </a:lnTo>
                  <a:lnTo>
                    <a:pt x="675" y="977"/>
                  </a:lnTo>
                  <a:lnTo>
                    <a:pt x="679" y="988"/>
                  </a:lnTo>
                  <a:lnTo>
                    <a:pt x="681" y="996"/>
                  </a:lnTo>
                  <a:lnTo>
                    <a:pt x="684" y="1005"/>
                  </a:lnTo>
                  <a:lnTo>
                    <a:pt x="687" y="1012"/>
                  </a:lnTo>
                  <a:lnTo>
                    <a:pt x="690" y="1017"/>
                  </a:lnTo>
                  <a:lnTo>
                    <a:pt x="692" y="1022"/>
                  </a:lnTo>
                  <a:lnTo>
                    <a:pt x="695" y="1028"/>
                  </a:lnTo>
                  <a:lnTo>
                    <a:pt x="698" y="1033"/>
                  </a:lnTo>
                  <a:lnTo>
                    <a:pt x="701" y="1036"/>
                  </a:lnTo>
                  <a:lnTo>
                    <a:pt x="704" y="1040"/>
                  </a:lnTo>
                  <a:lnTo>
                    <a:pt x="707" y="1043"/>
                  </a:lnTo>
                  <a:lnTo>
                    <a:pt x="711" y="1047"/>
                  </a:lnTo>
                  <a:lnTo>
                    <a:pt x="714" y="1048"/>
                  </a:lnTo>
                  <a:lnTo>
                    <a:pt x="717" y="1048"/>
                  </a:lnTo>
                  <a:lnTo>
                    <a:pt x="720" y="1050"/>
                  </a:lnTo>
                  <a:lnTo>
                    <a:pt x="726" y="1052"/>
                  </a:lnTo>
                  <a:lnTo>
                    <a:pt x="731" y="1052"/>
                  </a:lnTo>
                  <a:lnTo>
                    <a:pt x="740" y="1052"/>
                  </a:lnTo>
                  <a:lnTo>
                    <a:pt x="744" y="1052"/>
                  </a:lnTo>
                  <a:lnTo>
                    <a:pt x="748" y="1052"/>
                  </a:lnTo>
                  <a:lnTo>
                    <a:pt x="751" y="1050"/>
                  </a:lnTo>
                  <a:lnTo>
                    <a:pt x="756" y="1050"/>
                  </a:lnTo>
                  <a:lnTo>
                    <a:pt x="765" y="1047"/>
                  </a:lnTo>
                  <a:lnTo>
                    <a:pt x="774" y="1042"/>
                  </a:lnTo>
                  <a:lnTo>
                    <a:pt x="784" y="1036"/>
                  </a:lnTo>
                  <a:lnTo>
                    <a:pt x="794" y="1029"/>
                  </a:lnTo>
                  <a:lnTo>
                    <a:pt x="802" y="1022"/>
                  </a:lnTo>
                  <a:lnTo>
                    <a:pt x="811" y="1016"/>
                  </a:lnTo>
                  <a:lnTo>
                    <a:pt x="797" y="1125"/>
                  </a:lnTo>
                  <a:lnTo>
                    <a:pt x="768" y="1147"/>
                  </a:lnTo>
                  <a:lnTo>
                    <a:pt x="741" y="1166"/>
                  </a:lnTo>
                  <a:lnTo>
                    <a:pt x="716" y="1182"/>
                  </a:lnTo>
                  <a:lnTo>
                    <a:pt x="693" y="1196"/>
                  </a:lnTo>
                  <a:lnTo>
                    <a:pt x="682" y="1201"/>
                  </a:lnTo>
                  <a:lnTo>
                    <a:pt x="669" y="1206"/>
                  </a:lnTo>
                  <a:lnTo>
                    <a:pt x="657" y="1210"/>
                  </a:lnTo>
                  <a:lnTo>
                    <a:pt x="644" y="1213"/>
                  </a:lnTo>
                  <a:lnTo>
                    <a:pt x="616" y="1218"/>
                  </a:lnTo>
                  <a:lnTo>
                    <a:pt x="586" y="1220"/>
                  </a:lnTo>
                  <a:lnTo>
                    <a:pt x="574" y="1220"/>
                  </a:lnTo>
                  <a:lnTo>
                    <a:pt x="563" y="1218"/>
                  </a:lnTo>
                  <a:lnTo>
                    <a:pt x="552" y="1215"/>
                  </a:lnTo>
                  <a:lnTo>
                    <a:pt x="541" y="1211"/>
                  </a:lnTo>
                  <a:lnTo>
                    <a:pt x="535" y="1210"/>
                  </a:lnTo>
                  <a:lnTo>
                    <a:pt x="530" y="1206"/>
                  </a:lnTo>
                  <a:lnTo>
                    <a:pt x="524" y="1203"/>
                  </a:lnTo>
                  <a:lnTo>
                    <a:pt x="519" y="1199"/>
                  </a:lnTo>
                  <a:lnTo>
                    <a:pt x="513" y="1194"/>
                  </a:lnTo>
                  <a:lnTo>
                    <a:pt x="508" y="1189"/>
                  </a:lnTo>
                  <a:lnTo>
                    <a:pt x="503" y="1184"/>
                  </a:lnTo>
                  <a:lnTo>
                    <a:pt x="498" y="1177"/>
                  </a:lnTo>
                  <a:lnTo>
                    <a:pt x="493" y="1170"/>
                  </a:lnTo>
                  <a:lnTo>
                    <a:pt x="489" y="1165"/>
                  </a:lnTo>
                  <a:lnTo>
                    <a:pt x="485" y="1156"/>
                  </a:lnTo>
                  <a:lnTo>
                    <a:pt x="480" y="1149"/>
                  </a:lnTo>
                  <a:lnTo>
                    <a:pt x="476" y="1139"/>
                  </a:lnTo>
                  <a:lnTo>
                    <a:pt x="473" y="1130"/>
                  </a:lnTo>
                  <a:lnTo>
                    <a:pt x="469" y="1119"/>
                  </a:lnTo>
                  <a:lnTo>
                    <a:pt x="466" y="1109"/>
                  </a:lnTo>
                  <a:lnTo>
                    <a:pt x="463" y="1097"/>
                  </a:lnTo>
                  <a:lnTo>
                    <a:pt x="459" y="1085"/>
                  </a:lnTo>
                  <a:lnTo>
                    <a:pt x="457" y="1073"/>
                  </a:lnTo>
                  <a:lnTo>
                    <a:pt x="454" y="1059"/>
                  </a:lnTo>
                  <a:lnTo>
                    <a:pt x="452" y="1045"/>
                  </a:lnTo>
                  <a:lnTo>
                    <a:pt x="449" y="1031"/>
                  </a:lnTo>
                  <a:lnTo>
                    <a:pt x="447" y="1016"/>
                  </a:lnTo>
                  <a:lnTo>
                    <a:pt x="446" y="998"/>
                  </a:lnTo>
                  <a:lnTo>
                    <a:pt x="444" y="981"/>
                  </a:lnTo>
                  <a:lnTo>
                    <a:pt x="442" y="964"/>
                  </a:lnTo>
                  <a:lnTo>
                    <a:pt x="440" y="927"/>
                  </a:lnTo>
                  <a:lnTo>
                    <a:pt x="440" y="919"/>
                  </a:lnTo>
                  <a:lnTo>
                    <a:pt x="439" y="910"/>
                  </a:lnTo>
                  <a:lnTo>
                    <a:pt x="437" y="893"/>
                  </a:lnTo>
                  <a:lnTo>
                    <a:pt x="435" y="861"/>
                  </a:lnTo>
                  <a:lnTo>
                    <a:pt x="430" y="809"/>
                  </a:lnTo>
                  <a:lnTo>
                    <a:pt x="426" y="785"/>
                  </a:lnTo>
                  <a:lnTo>
                    <a:pt x="423" y="766"/>
                  </a:lnTo>
                  <a:lnTo>
                    <a:pt x="419" y="747"/>
                  </a:lnTo>
                  <a:lnTo>
                    <a:pt x="416" y="731"/>
                  </a:lnTo>
                  <a:lnTo>
                    <a:pt x="414" y="725"/>
                  </a:lnTo>
                  <a:lnTo>
                    <a:pt x="412" y="718"/>
                  </a:lnTo>
                  <a:lnTo>
                    <a:pt x="410" y="712"/>
                  </a:lnTo>
                  <a:lnTo>
                    <a:pt x="408" y="707"/>
                  </a:lnTo>
                  <a:lnTo>
                    <a:pt x="405" y="702"/>
                  </a:lnTo>
                  <a:lnTo>
                    <a:pt x="403" y="699"/>
                  </a:lnTo>
                  <a:lnTo>
                    <a:pt x="400" y="693"/>
                  </a:lnTo>
                  <a:lnTo>
                    <a:pt x="397" y="690"/>
                  </a:lnTo>
                  <a:lnTo>
                    <a:pt x="393" y="686"/>
                  </a:lnTo>
                  <a:lnTo>
                    <a:pt x="390" y="683"/>
                  </a:lnTo>
                  <a:lnTo>
                    <a:pt x="386" y="681"/>
                  </a:lnTo>
                  <a:lnTo>
                    <a:pt x="382" y="678"/>
                  </a:lnTo>
                  <a:lnTo>
                    <a:pt x="373" y="674"/>
                  </a:lnTo>
                  <a:lnTo>
                    <a:pt x="364" y="671"/>
                  </a:lnTo>
                  <a:lnTo>
                    <a:pt x="353" y="669"/>
                  </a:lnTo>
                  <a:lnTo>
                    <a:pt x="341" y="669"/>
                  </a:lnTo>
                  <a:lnTo>
                    <a:pt x="322" y="669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4" y="466"/>
                  </a:lnTo>
                  <a:lnTo>
                    <a:pt x="144" y="378"/>
                  </a:lnTo>
                  <a:lnTo>
                    <a:pt x="147" y="354"/>
                  </a:lnTo>
                  <a:lnTo>
                    <a:pt x="149" y="330"/>
                  </a:lnTo>
                  <a:lnTo>
                    <a:pt x="149" y="319"/>
                  </a:lnTo>
                  <a:lnTo>
                    <a:pt x="150" y="309"/>
                  </a:lnTo>
                  <a:lnTo>
                    <a:pt x="150" y="298"/>
                  </a:lnTo>
                  <a:lnTo>
                    <a:pt x="150" y="290"/>
                  </a:lnTo>
                  <a:lnTo>
                    <a:pt x="150" y="274"/>
                  </a:lnTo>
                  <a:lnTo>
                    <a:pt x="149" y="258"/>
                  </a:lnTo>
                  <a:lnTo>
                    <a:pt x="148" y="245"/>
                  </a:lnTo>
                  <a:lnTo>
                    <a:pt x="147" y="232"/>
                  </a:lnTo>
                  <a:lnTo>
                    <a:pt x="145" y="227"/>
                  </a:lnTo>
                  <a:lnTo>
                    <a:pt x="144" y="222"/>
                  </a:lnTo>
                  <a:lnTo>
                    <a:pt x="143" y="217"/>
                  </a:lnTo>
                  <a:lnTo>
                    <a:pt x="142" y="212"/>
                  </a:lnTo>
                  <a:lnTo>
                    <a:pt x="140" y="207"/>
                  </a:lnTo>
                  <a:lnTo>
                    <a:pt x="138" y="203"/>
                  </a:lnTo>
                  <a:lnTo>
                    <a:pt x="137" y="200"/>
                  </a:lnTo>
                  <a:lnTo>
                    <a:pt x="135" y="196"/>
                  </a:lnTo>
                  <a:lnTo>
                    <a:pt x="133" y="193"/>
                  </a:lnTo>
                  <a:lnTo>
                    <a:pt x="131" y="189"/>
                  </a:lnTo>
                  <a:lnTo>
                    <a:pt x="128" y="187"/>
                  </a:lnTo>
                  <a:lnTo>
                    <a:pt x="126" y="184"/>
                  </a:lnTo>
                  <a:lnTo>
                    <a:pt x="123" y="182"/>
                  </a:lnTo>
                  <a:lnTo>
                    <a:pt x="120" y="181"/>
                  </a:lnTo>
                  <a:lnTo>
                    <a:pt x="114" y="177"/>
                  </a:lnTo>
                  <a:lnTo>
                    <a:pt x="106" y="174"/>
                  </a:lnTo>
                  <a:lnTo>
                    <a:pt x="99" y="172"/>
                  </a:lnTo>
                  <a:lnTo>
                    <a:pt x="89" y="170"/>
                  </a:lnTo>
                  <a:lnTo>
                    <a:pt x="80" y="170"/>
                  </a:lnTo>
                  <a:lnTo>
                    <a:pt x="69" y="170"/>
                  </a:lnTo>
                  <a:lnTo>
                    <a:pt x="64" y="172"/>
                  </a:lnTo>
                  <a:lnTo>
                    <a:pt x="59" y="174"/>
                  </a:lnTo>
                  <a:lnTo>
                    <a:pt x="53" y="175"/>
                  </a:lnTo>
                  <a:lnTo>
                    <a:pt x="48" y="177"/>
                  </a:lnTo>
                  <a:lnTo>
                    <a:pt x="42" y="179"/>
                  </a:lnTo>
                  <a:lnTo>
                    <a:pt x="37" y="182"/>
                  </a:lnTo>
                  <a:lnTo>
                    <a:pt x="27" y="187"/>
                  </a:lnTo>
                  <a:lnTo>
                    <a:pt x="16" y="194"/>
                  </a:lnTo>
                  <a:lnTo>
                    <a:pt x="0" y="205"/>
                  </a:lnTo>
                  <a:lnTo>
                    <a:pt x="14" y="97"/>
                  </a:lnTo>
                  <a:lnTo>
                    <a:pt x="115" y="30"/>
                  </a:lnTo>
                  <a:lnTo>
                    <a:pt x="127" y="23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1" y="9"/>
                  </a:lnTo>
                  <a:lnTo>
                    <a:pt x="173" y="6"/>
                  </a:lnTo>
                  <a:lnTo>
                    <a:pt x="184" y="4"/>
                  </a:lnTo>
                  <a:lnTo>
                    <a:pt x="194" y="2"/>
                  </a:lnTo>
                  <a:lnTo>
                    <a:pt x="205" y="2"/>
                  </a:lnTo>
                  <a:lnTo>
                    <a:pt x="225" y="4"/>
                  </a:lnTo>
                  <a:lnTo>
                    <a:pt x="243" y="7"/>
                  </a:lnTo>
                  <a:lnTo>
                    <a:pt x="259" y="12"/>
                  </a:lnTo>
                  <a:lnTo>
                    <a:pt x="276" y="19"/>
                  </a:lnTo>
                  <a:lnTo>
                    <a:pt x="290" y="30"/>
                  </a:lnTo>
                  <a:lnTo>
                    <a:pt x="297" y="37"/>
                  </a:lnTo>
                  <a:lnTo>
                    <a:pt x="303" y="42"/>
                  </a:lnTo>
                  <a:lnTo>
                    <a:pt x="309" y="49"/>
                  </a:lnTo>
                  <a:lnTo>
                    <a:pt x="315" y="56"/>
                  </a:lnTo>
                  <a:lnTo>
                    <a:pt x="320" y="64"/>
                  </a:lnTo>
                  <a:lnTo>
                    <a:pt x="326" y="73"/>
                  </a:lnTo>
                  <a:lnTo>
                    <a:pt x="335" y="92"/>
                  </a:lnTo>
                  <a:lnTo>
                    <a:pt x="339" y="101"/>
                  </a:lnTo>
                  <a:lnTo>
                    <a:pt x="343" y="111"/>
                  </a:lnTo>
                  <a:lnTo>
                    <a:pt x="347" y="122"/>
                  </a:lnTo>
                  <a:lnTo>
                    <a:pt x="350" y="132"/>
                  </a:lnTo>
                  <a:lnTo>
                    <a:pt x="353" y="142"/>
                  </a:lnTo>
                  <a:lnTo>
                    <a:pt x="356" y="155"/>
                  </a:lnTo>
                  <a:lnTo>
                    <a:pt x="359" y="165"/>
                  </a:lnTo>
                  <a:lnTo>
                    <a:pt x="360" y="177"/>
                  </a:lnTo>
                  <a:lnTo>
                    <a:pt x="362" y="189"/>
                  </a:lnTo>
                  <a:lnTo>
                    <a:pt x="364" y="201"/>
                  </a:lnTo>
                  <a:lnTo>
                    <a:pt x="364" y="213"/>
                  </a:lnTo>
                  <a:lnTo>
                    <a:pt x="365" y="226"/>
                  </a:lnTo>
                  <a:lnTo>
                    <a:pt x="366" y="238"/>
                  </a:lnTo>
                  <a:lnTo>
                    <a:pt x="366" y="252"/>
                  </a:lnTo>
                  <a:lnTo>
                    <a:pt x="366" y="272"/>
                  </a:lnTo>
                  <a:lnTo>
                    <a:pt x="365" y="293"/>
                  </a:lnTo>
                  <a:lnTo>
                    <a:pt x="364" y="314"/>
                  </a:lnTo>
                  <a:lnTo>
                    <a:pt x="364" y="336"/>
                  </a:lnTo>
                  <a:lnTo>
                    <a:pt x="362" y="359"/>
                  </a:lnTo>
                  <a:lnTo>
                    <a:pt x="360" y="383"/>
                  </a:lnTo>
                  <a:lnTo>
                    <a:pt x="357" y="409"/>
                  </a:lnTo>
                  <a:lnTo>
                    <a:pt x="353" y="435"/>
                  </a:lnTo>
                  <a:lnTo>
                    <a:pt x="336" y="567"/>
                  </a:lnTo>
                  <a:lnTo>
                    <a:pt x="354" y="567"/>
                  </a:lnTo>
                  <a:lnTo>
                    <a:pt x="363" y="567"/>
                  </a:lnTo>
                  <a:lnTo>
                    <a:pt x="372" y="565"/>
                  </a:lnTo>
                  <a:lnTo>
                    <a:pt x="381" y="562"/>
                  </a:lnTo>
                  <a:lnTo>
                    <a:pt x="389" y="558"/>
                  </a:lnTo>
                  <a:lnTo>
                    <a:pt x="397" y="553"/>
                  </a:lnTo>
                  <a:lnTo>
                    <a:pt x="406" y="548"/>
                  </a:lnTo>
                  <a:lnTo>
                    <a:pt x="414" y="541"/>
                  </a:lnTo>
                  <a:lnTo>
                    <a:pt x="423" y="532"/>
                  </a:lnTo>
                  <a:lnTo>
                    <a:pt x="430" y="524"/>
                  </a:lnTo>
                  <a:lnTo>
                    <a:pt x="438" y="513"/>
                  </a:lnTo>
                  <a:lnTo>
                    <a:pt x="445" y="503"/>
                  </a:lnTo>
                  <a:lnTo>
                    <a:pt x="452" y="491"/>
                  </a:lnTo>
                  <a:lnTo>
                    <a:pt x="458" y="478"/>
                  </a:lnTo>
                  <a:lnTo>
                    <a:pt x="463" y="465"/>
                  </a:lnTo>
                  <a:lnTo>
                    <a:pt x="468" y="451"/>
                  </a:lnTo>
                  <a:lnTo>
                    <a:pt x="473" y="437"/>
                  </a:lnTo>
                  <a:lnTo>
                    <a:pt x="482" y="406"/>
                  </a:lnTo>
                  <a:lnTo>
                    <a:pt x="492" y="371"/>
                  </a:lnTo>
                  <a:lnTo>
                    <a:pt x="514" y="286"/>
                  </a:lnTo>
                  <a:lnTo>
                    <a:pt x="520" y="262"/>
                  </a:lnTo>
                  <a:lnTo>
                    <a:pt x="527" y="239"/>
                  </a:lnTo>
                  <a:lnTo>
                    <a:pt x="534" y="217"/>
                  </a:lnTo>
                  <a:lnTo>
                    <a:pt x="541" y="194"/>
                  </a:lnTo>
                  <a:lnTo>
                    <a:pt x="549" y="174"/>
                  </a:lnTo>
                  <a:lnTo>
                    <a:pt x="557" y="151"/>
                  </a:lnTo>
                  <a:lnTo>
                    <a:pt x="574" y="109"/>
                  </a:lnTo>
                  <a:lnTo>
                    <a:pt x="580" y="97"/>
                  </a:lnTo>
                  <a:lnTo>
                    <a:pt x="586" y="85"/>
                  </a:lnTo>
                  <a:lnTo>
                    <a:pt x="592" y="75"/>
                  </a:lnTo>
                  <a:lnTo>
                    <a:pt x="599" y="64"/>
                  </a:lnTo>
                  <a:lnTo>
                    <a:pt x="606" y="54"/>
                  </a:lnTo>
                  <a:lnTo>
                    <a:pt x="613" y="45"/>
                  </a:lnTo>
                  <a:lnTo>
                    <a:pt x="619" y="37"/>
                  </a:lnTo>
                  <a:lnTo>
                    <a:pt x="627" y="30"/>
                  </a:lnTo>
                  <a:lnTo>
                    <a:pt x="635" y="23"/>
                  </a:lnTo>
                  <a:lnTo>
                    <a:pt x="642" y="18"/>
                  </a:lnTo>
                  <a:lnTo>
                    <a:pt x="651" y="12"/>
                  </a:lnTo>
                  <a:lnTo>
                    <a:pt x="660" y="7"/>
                  </a:lnTo>
                  <a:lnTo>
                    <a:pt x="669" y="4"/>
                  </a:lnTo>
                  <a:lnTo>
                    <a:pt x="679" y="2"/>
                  </a:lnTo>
                  <a:lnTo>
                    <a:pt x="690" y="0"/>
                  </a:lnTo>
                  <a:lnTo>
                    <a:pt x="701" y="0"/>
                  </a:lnTo>
                  <a:lnTo>
                    <a:pt x="713" y="0"/>
                  </a:lnTo>
                  <a:lnTo>
                    <a:pt x="724" y="4"/>
                  </a:lnTo>
                  <a:lnTo>
                    <a:pt x="734" y="7"/>
                  </a:lnTo>
                  <a:lnTo>
                    <a:pt x="745" y="12"/>
                  </a:lnTo>
                  <a:lnTo>
                    <a:pt x="754" y="19"/>
                  </a:lnTo>
                  <a:lnTo>
                    <a:pt x="758" y="23"/>
                  </a:lnTo>
                  <a:lnTo>
                    <a:pt x="762" y="28"/>
                  </a:lnTo>
                  <a:lnTo>
                    <a:pt x="766" y="32"/>
                  </a:lnTo>
                  <a:lnTo>
                    <a:pt x="770" y="37"/>
                  </a:lnTo>
                  <a:lnTo>
                    <a:pt x="773" y="44"/>
                  </a:lnTo>
                  <a:lnTo>
                    <a:pt x="777" y="49"/>
                  </a:lnTo>
                  <a:lnTo>
                    <a:pt x="780" y="56"/>
                  </a:lnTo>
                  <a:lnTo>
                    <a:pt x="783" y="61"/>
                  </a:lnTo>
                  <a:lnTo>
                    <a:pt x="786" y="68"/>
                  </a:lnTo>
                  <a:lnTo>
                    <a:pt x="789" y="75"/>
                  </a:lnTo>
                  <a:lnTo>
                    <a:pt x="791" y="84"/>
                  </a:lnTo>
                  <a:lnTo>
                    <a:pt x="793" y="90"/>
                  </a:lnTo>
                  <a:lnTo>
                    <a:pt x="795" y="97"/>
                  </a:lnTo>
                  <a:lnTo>
                    <a:pt x="797" y="106"/>
                  </a:lnTo>
                  <a:lnTo>
                    <a:pt x="799" y="115"/>
                  </a:lnTo>
                  <a:lnTo>
                    <a:pt x="800" y="123"/>
                  </a:lnTo>
                  <a:lnTo>
                    <a:pt x="801" y="132"/>
                  </a:lnTo>
                  <a:lnTo>
                    <a:pt x="802" y="141"/>
                  </a:lnTo>
                  <a:lnTo>
                    <a:pt x="803" y="160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5240" y="4076640"/>
              <a:ext cx="314280" cy="444600"/>
            </a:xfrm>
            <a:custGeom>
              <a:avLst/>
              <a:gdLst/>
              <a:ahLst/>
              <a:rect l="l" t="t" r="r" b="b"/>
              <a:pathLst>
                <a:path w="875" h="1235">
                  <a:moveTo>
                    <a:pt x="499" y="1007"/>
                  </a:moveTo>
                  <a:lnTo>
                    <a:pt x="495" y="1007"/>
                  </a:lnTo>
                  <a:lnTo>
                    <a:pt x="461" y="1062"/>
                  </a:lnTo>
                  <a:lnTo>
                    <a:pt x="445" y="1086"/>
                  </a:lnTo>
                  <a:lnTo>
                    <a:pt x="428" y="1109"/>
                  </a:lnTo>
                  <a:lnTo>
                    <a:pt x="412" y="1128"/>
                  </a:lnTo>
                  <a:lnTo>
                    <a:pt x="396" y="1147"/>
                  </a:lnTo>
                  <a:lnTo>
                    <a:pt x="380" y="1164"/>
                  </a:lnTo>
                  <a:lnTo>
                    <a:pt x="365" y="1178"/>
                  </a:lnTo>
                  <a:lnTo>
                    <a:pt x="349" y="1190"/>
                  </a:lnTo>
                  <a:lnTo>
                    <a:pt x="333" y="1202"/>
                  </a:lnTo>
                  <a:lnTo>
                    <a:pt x="316" y="1211"/>
                  </a:lnTo>
                  <a:lnTo>
                    <a:pt x="298" y="1220"/>
                  </a:lnTo>
                  <a:lnTo>
                    <a:pt x="280" y="1225"/>
                  </a:lnTo>
                  <a:lnTo>
                    <a:pt x="262" y="1230"/>
                  </a:lnTo>
                  <a:lnTo>
                    <a:pt x="242" y="1232"/>
                  </a:lnTo>
                  <a:lnTo>
                    <a:pt x="222" y="1234"/>
                  </a:lnTo>
                  <a:lnTo>
                    <a:pt x="204" y="1232"/>
                  </a:lnTo>
                  <a:lnTo>
                    <a:pt x="188" y="1228"/>
                  </a:lnTo>
                  <a:lnTo>
                    <a:pt x="172" y="1223"/>
                  </a:lnTo>
                  <a:lnTo>
                    <a:pt x="158" y="1216"/>
                  </a:lnTo>
                  <a:lnTo>
                    <a:pt x="144" y="1206"/>
                  </a:lnTo>
                  <a:lnTo>
                    <a:pt x="138" y="1199"/>
                  </a:lnTo>
                  <a:lnTo>
                    <a:pt x="132" y="1192"/>
                  </a:lnTo>
                  <a:lnTo>
                    <a:pt x="126" y="1185"/>
                  </a:lnTo>
                  <a:lnTo>
                    <a:pt x="120" y="1178"/>
                  </a:lnTo>
                  <a:lnTo>
                    <a:pt x="115" y="1169"/>
                  </a:lnTo>
                  <a:lnTo>
                    <a:pt x="110" y="1161"/>
                  </a:lnTo>
                  <a:lnTo>
                    <a:pt x="101" y="1142"/>
                  </a:lnTo>
                  <a:lnTo>
                    <a:pt x="97" y="1133"/>
                  </a:lnTo>
                  <a:lnTo>
                    <a:pt x="93" y="1123"/>
                  </a:lnTo>
                  <a:lnTo>
                    <a:pt x="90" y="1112"/>
                  </a:lnTo>
                  <a:lnTo>
                    <a:pt x="87" y="1102"/>
                  </a:lnTo>
                  <a:lnTo>
                    <a:pt x="83" y="1092"/>
                  </a:lnTo>
                  <a:lnTo>
                    <a:pt x="81" y="1081"/>
                  </a:lnTo>
                  <a:lnTo>
                    <a:pt x="79" y="1069"/>
                  </a:lnTo>
                  <a:lnTo>
                    <a:pt x="76" y="1057"/>
                  </a:lnTo>
                  <a:lnTo>
                    <a:pt x="75" y="1046"/>
                  </a:lnTo>
                  <a:lnTo>
                    <a:pt x="74" y="1034"/>
                  </a:lnTo>
                  <a:lnTo>
                    <a:pt x="73" y="1022"/>
                  </a:lnTo>
                  <a:lnTo>
                    <a:pt x="72" y="1010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6"/>
                  </a:lnTo>
                  <a:lnTo>
                    <a:pt x="73" y="927"/>
                  </a:lnTo>
                  <a:lnTo>
                    <a:pt x="74" y="908"/>
                  </a:lnTo>
                  <a:lnTo>
                    <a:pt x="75" y="897"/>
                  </a:lnTo>
                  <a:lnTo>
                    <a:pt x="75" y="887"/>
                  </a:lnTo>
                  <a:lnTo>
                    <a:pt x="77" y="863"/>
                  </a:lnTo>
                  <a:lnTo>
                    <a:pt x="82" y="833"/>
                  </a:lnTo>
                  <a:lnTo>
                    <a:pt x="86" y="800"/>
                  </a:lnTo>
                  <a:lnTo>
                    <a:pt x="135" y="464"/>
                  </a:lnTo>
                  <a:lnTo>
                    <a:pt x="145" y="373"/>
                  </a:lnTo>
                  <a:lnTo>
                    <a:pt x="148" y="347"/>
                  </a:lnTo>
                  <a:lnTo>
                    <a:pt x="150" y="322"/>
                  </a:lnTo>
                  <a:lnTo>
                    <a:pt x="151" y="303"/>
                  </a:lnTo>
                  <a:lnTo>
                    <a:pt x="152" y="295"/>
                  </a:lnTo>
                  <a:lnTo>
                    <a:pt x="152" y="288"/>
                  </a:lnTo>
                  <a:lnTo>
                    <a:pt x="152" y="272"/>
                  </a:lnTo>
                  <a:lnTo>
                    <a:pt x="151" y="258"/>
                  </a:lnTo>
                  <a:lnTo>
                    <a:pt x="149" y="244"/>
                  </a:lnTo>
                  <a:lnTo>
                    <a:pt x="148" y="232"/>
                  </a:lnTo>
                  <a:lnTo>
                    <a:pt x="147" y="227"/>
                  </a:lnTo>
                  <a:lnTo>
                    <a:pt x="146" y="222"/>
                  </a:lnTo>
                  <a:lnTo>
                    <a:pt x="144" y="217"/>
                  </a:lnTo>
                  <a:lnTo>
                    <a:pt x="143" y="211"/>
                  </a:lnTo>
                  <a:lnTo>
                    <a:pt x="142" y="206"/>
                  </a:lnTo>
                  <a:lnTo>
                    <a:pt x="140" y="203"/>
                  </a:lnTo>
                  <a:lnTo>
                    <a:pt x="138" y="199"/>
                  </a:lnTo>
                  <a:lnTo>
                    <a:pt x="137" y="196"/>
                  </a:lnTo>
                  <a:lnTo>
                    <a:pt x="135" y="192"/>
                  </a:lnTo>
                  <a:lnTo>
                    <a:pt x="132" y="189"/>
                  </a:lnTo>
                  <a:lnTo>
                    <a:pt x="131" y="185"/>
                  </a:lnTo>
                  <a:lnTo>
                    <a:pt x="128" y="184"/>
                  </a:lnTo>
                  <a:lnTo>
                    <a:pt x="125" y="180"/>
                  </a:lnTo>
                  <a:lnTo>
                    <a:pt x="122" y="179"/>
                  </a:lnTo>
                  <a:lnTo>
                    <a:pt x="115" y="175"/>
                  </a:lnTo>
                  <a:lnTo>
                    <a:pt x="108" y="172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59" y="172"/>
                  </a:lnTo>
                  <a:lnTo>
                    <a:pt x="54" y="173"/>
                  </a:lnTo>
                  <a:lnTo>
                    <a:pt x="49" y="175"/>
                  </a:lnTo>
                  <a:lnTo>
                    <a:pt x="43" y="177"/>
                  </a:lnTo>
                  <a:lnTo>
                    <a:pt x="38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3" y="4"/>
                  </a:lnTo>
                  <a:lnTo>
                    <a:pt x="184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2" y="5"/>
                  </a:lnTo>
                  <a:lnTo>
                    <a:pt x="259" y="10"/>
                  </a:lnTo>
                  <a:lnTo>
                    <a:pt x="275" y="17"/>
                  </a:lnTo>
                  <a:lnTo>
                    <a:pt x="289" y="28"/>
                  </a:lnTo>
                  <a:lnTo>
                    <a:pt x="303" y="40"/>
                  </a:lnTo>
                  <a:lnTo>
                    <a:pt x="308" y="47"/>
                  </a:lnTo>
                  <a:lnTo>
                    <a:pt x="314" y="54"/>
                  </a:lnTo>
                  <a:lnTo>
                    <a:pt x="320" y="62"/>
                  </a:lnTo>
                  <a:lnTo>
                    <a:pt x="325" y="71"/>
                  </a:lnTo>
                  <a:lnTo>
                    <a:pt x="336" y="88"/>
                  </a:lnTo>
                  <a:lnTo>
                    <a:pt x="340" y="99"/>
                  </a:lnTo>
                  <a:lnTo>
                    <a:pt x="344" y="109"/>
                  </a:lnTo>
                  <a:lnTo>
                    <a:pt x="347" y="118"/>
                  </a:lnTo>
                  <a:lnTo>
                    <a:pt x="351" y="128"/>
                  </a:lnTo>
                  <a:lnTo>
                    <a:pt x="354" y="139"/>
                  </a:lnTo>
                  <a:lnTo>
                    <a:pt x="357" y="151"/>
                  </a:lnTo>
                  <a:lnTo>
                    <a:pt x="359" y="161"/>
                  </a:lnTo>
                  <a:lnTo>
                    <a:pt x="361" y="173"/>
                  </a:lnTo>
                  <a:lnTo>
                    <a:pt x="363" y="185"/>
                  </a:lnTo>
                  <a:lnTo>
                    <a:pt x="364" y="198"/>
                  </a:lnTo>
                  <a:lnTo>
                    <a:pt x="365" y="210"/>
                  </a:lnTo>
                  <a:lnTo>
                    <a:pt x="366" y="222"/>
                  </a:lnTo>
                  <a:lnTo>
                    <a:pt x="367" y="234"/>
                  </a:lnTo>
                  <a:lnTo>
                    <a:pt x="367" y="248"/>
                  </a:lnTo>
                  <a:lnTo>
                    <a:pt x="367" y="260"/>
                  </a:lnTo>
                  <a:lnTo>
                    <a:pt x="366" y="277"/>
                  </a:lnTo>
                  <a:lnTo>
                    <a:pt x="364" y="326"/>
                  </a:lnTo>
                  <a:lnTo>
                    <a:pt x="363" y="353"/>
                  </a:lnTo>
                  <a:lnTo>
                    <a:pt x="361" y="381"/>
                  </a:lnTo>
                  <a:lnTo>
                    <a:pt x="358" y="407"/>
                  </a:lnTo>
                  <a:lnTo>
                    <a:pt x="354" y="433"/>
                  </a:lnTo>
                  <a:lnTo>
                    <a:pt x="307" y="750"/>
                  </a:lnTo>
                  <a:lnTo>
                    <a:pt x="303" y="771"/>
                  </a:lnTo>
                  <a:lnTo>
                    <a:pt x="301" y="794"/>
                  </a:lnTo>
                  <a:lnTo>
                    <a:pt x="298" y="818"/>
                  </a:lnTo>
                  <a:lnTo>
                    <a:pt x="297" y="840"/>
                  </a:lnTo>
                  <a:lnTo>
                    <a:pt x="293" y="882"/>
                  </a:lnTo>
                  <a:lnTo>
                    <a:pt x="292" y="897"/>
                  </a:lnTo>
                  <a:lnTo>
                    <a:pt x="292" y="904"/>
                  </a:lnTo>
                  <a:lnTo>
                    <a:pt x="292" y="911"/>
                  </a:lnTo>
                  <a:lnTo>
                    <a:pt x="292" y="925"/>
                  </a:lnTo>
                  <a:lnTo>
                    <a:pt x="293" y="937"/>
                  </a:lnTo>
                  <a:lnTo>
                    <a:pt x="294" y="949"/>
                  </a:lnTo>
                  <a:lnTo>
                    <a:pt x="296" y="962"/>
                  </a:lnTo>
                  <a:lnTo>
                    <a:pt x="298" y="972"/>
                  </a:lnTo>
                  <a:lnTo>
                    <a:pt x="301" y="982"/>
                  </a:lnTo>
                  <a:lnTo>
                    <a:pt x="303" y="991"/>
                  </a:lnTo>
                  <a:lnTo>
                    <a:pt x="307" y="1000"/>
                  </a:lnTo>
                  <a:lnTo>
                    <a:pt x="308" y="1003"/>
                  </a:lnTo>
                  <a:lnTo>
                    <a:pt x="311" y="1008"/>
                  </a:lnTo>
                  <a:lnTo>
                    <a:pt x="313" y="1012"/>
                  </a:lnTo>
                  <a:lnTo>
                    <a:pt x="315" y="1014"/>
                  </a:lnTo>
                  <a:lnTo>
                    <a:pt x="318" y="1017"/>
                  </a:lnTo>
                  <a:lnTo>
                    <a:pt x="320" y="1020"/>
                  </a:lnTo>
                  <a:lnTo>
                    <a:pt x="323" y="1022"/>
                  </a:lnTo>
                  <a:lnTo>
                    <a:pt x="326" y="1024"/>
                  </a:lnTo>
                  <a:lnTo>
                    <a:pt x="333" y="1027"/>
                  </a:lnTo>
                  <a:lnTo>
                    <a:pt x="340" y="1031"/>
                  </a:lnTo>
                  <a:lnTo>
                    <a:pt x="347" y="1033"/>
                  </a:lnTo>
                  <a:lnTo>
                    <a:pt x="356" y="1033"/>
                  </a:lnTo>
                  <a:lnTo>
                    <a:pt x="363" y="1033"/>
                  </a:lnTo>
                  <a:lnTo>
                    <a:pt x="369" y="1031"/>
                  </a:lnTo>
                  <a:lnTo>
                    <a:pt x="377" y="1027"/>
                  </a:lnTo>
                  <a:lnTo>
                    <a:pt x="385" y="1022"/>
                  </a:lnTo>
                  <a:lnTo>
                    <a:pt x="394" y="1017"/>
                  </a:lnTo>
                  <a:lnTo>
                    <a:pt x="403" y="1010"/>
                  </a:lnTo>
                  <a:lnTo>
                    <a:pt x="413" y="1001"/>
                  </a:lnTo>
                  <a:lnTo>
                    <a:pt x="423" y="993"/>
                  </a:lnTo>
                  <a:lnTo>
                    <a:pt x="433" y="982"/>
                  </a:lnTo>
                  <a:lnTo>
                    <a:pt x="444" y="972"/>
                  </a:lnTo>
                  <a:lnTo>
                    <a:pt x="454" y="960"/>
                  </a:lnTo>
                  <a:lnTo>
                    <a:pt x="464" y="946"/>
                  </a:lnTo>
                  <a:lnTo>
                    <a:pt x="475" y="932"/>
                  </a:lnTo>
                  <a:lnTo>
                    <a:pt x="485" y="917"/>
                  </a:lnTo>
                  <a:lnTo>
                    <a:pt x="496" y="899"/>
                  </a:lnTo>
                  <a:lnTo>
                    <a:pt x="506" y="882"/>
                  </a:lnTo>
                  <a:lnTo>
                    <a:pt x="613" y="21"/>
                  </a:lnTo>
                  <a:lnTo>
                    <a:pt x="821" y="4"/>
                  </a:lnTo>
                  <a:lnTo>
                    <a:pt x="828" y="21"/>
                  </a:lnTo>
                  <a:lnTo>
                    <a:pt x="736" y="754"/>
                  </a:lnTo>
                  <a:lnTo>
                    <a:pt x="733" y="773"/>
                  </a:lnTo>
                  <a:lnTo>
                    <a:pt x="731" y="795"/>
                  </a:lnTo>
                  <a:lnTo>
                    <a:pt x="725" y="846"/>
                  </a:lnTo>
                  <a:lnTo>
                    <a:pt x="721" y="896"/>
                  </a:lnTo>
                  <a:lnTo>
                    <a:pt x="720" y="915"/>
                  </a:lnTo>
                  <a:lnTo>
                    <a:pt x="719" y="923"/>
                  </a:lnTo>
                  <a:lnTo>
                    <a:pt x="719" y="930"/>
                  </a:lnTo>
                  <a:lnTo>
                    <a:pt x="719" y="948"/>
                  </a:lnTo>
                  <a:lnTo>
                    <a:pt x="720" y="963"/>
                  </a:lnTo>
                  <a:lnTo>
                    <a:pt x="722" y="977"/>
                  </a:lnTo>
                  <a:lnTo>
                    <a:pt x="722" y="982"/>
                  </a:lnTo>
                  <a:lnTo>
                    <a:pt x="723" y="989"/>
                  </a:lnTo>
                  <a:lnTo>
                    <a:pt x="724" y="994"/>
                  </a:lnTo>
                  <a:lnTo>
                    <a:pt x="726" y="1000"/>
                  </a:lnTo>
                  <a:lnTo>
                    <a:pt x="728" y="1005"/>
                  </a:lnTo>
                  <a:lnTo>
                    <a:pt x="728" y="1010"/>
                  </a:lnTo>
                  <a:lnTo>
                    <a:pt x="730" y="1015"/>
                  </a:lnTo>
                  <a:lnTo>
                    <a:pt x="732" y="1019"/>
                  </a:lnTo>
                  <a:lnTo>
                    <a:pt x="734" y="1022"/>
                  </a:lnTo>
                  <a:lnTo>
                    <a:pt x="736" y="1026"/>
                  </a:lnTo>
                  <a:lnTo>
                    <a:pt x="739" y="1029"/>
                  </a:lnTo>
                  <a:lnTo>
                    <a:pt x="740" y="1031"/>
                  </a:lnTo>
                  <a:lnTo>
                    <a:pt x="743" y="1034"/>
                  </a:lnTo>
                  <a:lnTo>
                    <a:pt x="746" y="1036"/>
                  </a:lnTo>
                  <a:lnTo>
                    <a:pt x="752" y="1040"/>
                  </a:lnTo>
                  <a:lnTo>
                    <a:pt x="759" y="1043"/>
                  </a:lnTo>
                  <a:lnTo>
                    <a:pt x="766" y="1046"/>
                  </a:lnTo>
                  <a:lnTo>
                    <a:pt x="775" y="1048"/>
                  </a:lnTo>
                  <a:lnTo>
                    <a:pt x="784" y="1050"/>
                  </a:lnTo>
                  <a:lnTo>
                    <a:pt x="794" y="1050"/>
                  </a:lnTo>
                  <a:lnTo>
                    <a:pt x="799" y="1050"/>
                  </a:lnTo>
                  <a:lnTo>
                    <a:pt x="805" y="1050"/>
                  </a:lnTo>
                  <a:lnTo>
                    <a:pt x="810" y="1048"/>
                  </a:lnTo>
                  <a:lnTo>
                    <a:pt x="815" y="1046"/>
                  </a:lnTo>
                  <a:lnTo>
                    <a:pt x="827" y="1043"/>
                  </a:lnTo>
                  <a:lnTo>
                    <a:pt x="838" y="1038"/>
                  </a:lnTo>
                  <a:lnTo>
                    <a:pt x="860" y="1026"/>
                  </a:lnTo>
                  <a:lnTo>
                    <a:pt x="867" y="1020"/>
                  </a:lnTo>
                  <a:lnTo>
                    <a:pt x="871" y="1019"/>
                  </a:lnTo>
                  <a:lnTo>
                    <a:pt x="874" y="1015"/>
                  </a:lnTo>
                  <a:lnTo>
                    <a:pt x="860" y="1123"/>
                  </a:lnTo>
                  <a:lnTo>
                    <a:pt x="757" y="1194"/>
                  </a:lnTo>
                  <a:lnTo>
                    <a:pt x="747" y="1199"/>
                  </a:lnTo>
                  <a:lnTo>
                    <a:pt x="737" y="1204"/>
                  </a:lnTo>
                  <a:lnTo>
                    <a:pt x="727" y="1208"/>
                  </a:lnTo>
                  <a:lnTo>
                    <a:pt x="716" y="1211"/>
                  </a:lnTo>
                  <a:lnTo>
                    <a:pt x="704" y="1215"/>
                  </a:lnTo>
                  <a:lnTo>
                    <a:pt x="692" y="1216"/>
                  </a:lnTo>
                  <a:lnTo>
                    <a:pt x="680" y="1218"/>
                  </a:lnTo>
                  <a:lnTo>
                    <a:pt x="667" y="1218"/>
                  </a:lnTo>
                  <a:lnTo>
                    <a:pt x="650" y="1216"/>
                  </a:lnTo>
                  <a:lnTo>
                    <a:pt x="634" y="1215"/>
                  </a:lnTo>
                  <a:lnTo>
                    <a:pt x="618" y="1209"/>
                  </a:lnTo>
                  <a:lnTo>
                    <a:pt x="603" y="1204"/>
                  </a:lnTo>
                  <a:lnTo>
                    <a:pt x="590" y="1195"/>
                  </a:lnTo>
                  <a:lnTo>
                    <a:pt x="577" y="1185"/>
                  </a:lnTo>
                  <a:lnTo>
                    <a:pt x="564" y="1173"/>
                  </a:lnTo>
                  <a:lnTo>
                    <a:pt x="553" y="1159"/>
                  </a:lnTo>
                  <a:lnTo>
                    <a:pt x="543" y="1143"/>
                  </a:lnTo>
                  <a:lnTo>
                    <a:pt x="534" y="1128"/>
                  </a:lnTo>
                  <a:lnTo>
                    <a:pt x="525" y="1111"/>
                  </a:lnTo>
                  <a:lnTo>
                    <a:pt x="518" y="1092"/>
                  </a:lnTo>
                  <a:lnTo>
                    <a:pt x="512" y="1072"/>
                  </a:lnTo>
                  <a:lnTo>
                    <a:pt x="507" y="1052"/>
                  </a:lnTo>
                  <a:lnTo>
                    <a:pt x="502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0520" y="4076640"/>
              <a:ext cx="314280" cy="444600"/>
            </a:xfrm>
            <a:custGeom>
              <a:avLst/>
              <a:gdLst/>
              <a:ahLst/>
              <a:rect l="l" t="t" r="r" b="b"/>
              <a:pathLst>
                <a:path w="875" h="1235">
                  <a:moveTo>
                    <a:pt x="499" y="1007"/>
                  </a:moveTo>
                  <a:lnTo>
                    <a:pt x="495" y="1007"/>
                  </a:lnTo>
                  <a:lnTo>
                    <a:pt x="461" y="1062"/>
                  </a:lnTo>
                  <a:lnTo>
                    <a:pt x="445" y="1086"/>
                  </a:lnTo>
                  <a:lnTo>
                    <a:pt x="428" y="1109"/>
                  </a:lnTo>
                  <a:lnTo>
                    <a:pt x="412" y="1128"/>
                  </a:lnTo>
                  <a:lnTo>
                    <a:pt x="397" y="1147"/>
                  </a:lnTo>
                  <a:lnTo>
                    <a:pt x="380" y="1164"/>
                  </a:lnTo>
                  <a:lnTo>
                    <a:pt x="365" y="1178"/>
                  </a:lnTo>
                  <a:lnTo>
                    <a:pt x="349" y="1190"/>
                  </a:lnTo>
                  <a:lnTo>
                    <a:pt x="333" y="1202"/>
                  </a:lnTo>
                  <a:lnTo>
                    <a:pt x="316" y="1211"/>
                  </a:lnTo>
                  <a:lnTo>
                    <a:pt x="298" y="1220"/>
                  </a:lnTo>
                  <a:lnTo>
                    <a:pt x="281" y="1225"/>
                  </a:lnTo>
                  <a:lnTo>
                    <a:pt x="262" y="1230"/>
                  </a:lnTo>
                  <a:lnTo>
                    <a:pt x="242" y="1232"/>
                  </a:lnTo>
                  <a:lnTo>
                    <a:pt x="222" y="1234"/>
                  </a:lnTo>
                  <a:lnTo>
                    <a:pt x="204" y="1232"/>
                  </a:lnTo>
                  <a:lnTo>
                    <a:pt x="188" y="1228"/>
                  </a:lnTo>
                  <a:lnTo>
                    <a:pt x="172" y="1223"/>
                  </a:lnTo>
                  <a:lnTo>
                    <a:pt x="158" y="1216"/>
                  </a:lnTo>
                  <a:lnTo>
                    <a:pt x="144" y="1206"/>
                  </a:lnTo>
                  <a:lnTo>
                    <a:pt x="138" y="1199"/>
                  </a:lnTo>
                  <a:lnTo>
                    <a:pt x="132" y="1192"/>
                  </a:lnTo>
                  <a:lnTo>
                    <a:pt x="126" y="1185"/>
                  </a:lnTo>
                  <a:lnTo>
                    <a:pt x="121" y="1178"/>
                  </a:lnTo>
                  <a:lnTo>
                    <a:pt x="115" y="1169"/>
                  </a:lnTo>
                  <a:lnTo>
                    <a:pt x="110" y="1161"/>
                  </a:lnTo>
                  <a:lnTo>
                    <a:pt x="101" y="1142"/>
                  </a:lnTo>
                  <a:lnTo>
                    <a:pt x="97" y="1133"/>
                  </a:lnTo>
                  <a:lnTo>
                    <a:pt x="93" y="1123"/>
                  </a:lnTo>
                  <a:lnTo>
                    <a:pt x="90" y="1112"/>
                  </a:lnTo>
                  <a:lnTo>
                    <a:pt x="87" y="1102"/>
                  </a:lnTo>
                  <a:lnTo>
                    <a:pt x="83" y="1092"/>
                  </a:lnTo>
                  <a:lnTo>
                    <a:pt x="81" y="1081"/>
                  </a:lnTo>
                  <a:lnTo>
                    <a:pt x="79" y="1069"/>
                  </a:lnTo>
                  <a:lnTo>
                    <a:pt x="77" y="1057"/>
                  </a:lnTo>
                  <a:lnTo>
                    <a:pt x="75" y="1046"/>
                  </a:lnTo>
                  <a:lnTo>
                    <a:pt x="74" y="1034"/>
                  </a:lnTo>
                  <a:lnTo>
                    <a:pt x="73" y="1022"/>
                  </a:lnTo>
                  <a:lnTo>
                    <a:pt x="72" y="1010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6"/>
                  </a:lnTo>
                  <a:lnTo>
                    <a:pt x="73" y="927"/>
                  </a:lnTo>
                  <a:lnTo>
                    <a:pt x="74" y="908"/>
                  </a:lnTo>
                  <a:lnTo>
                    <a:pt x="75" y="897"/>
                  </a:lnTo>
                  <a:lnTo>
                    <a:pt x="75" y="887"/>
                  </a:lnTo>
                  <a:lnTo>
                    <a:pt x="77" y="863"/>
                  </a:lnTo>
                  <a:lnTo>
                    <a:pt x="82" y="833"/>
                  </a:lnTo>
                  <a:lnTo>
                    <a:pt x="86" y="800"/>
                  </a:lnTo>
                  <a:lnTo>
                    <a:pt x="135" y="464"/>
                  </a:lnTo>
                  <a:lnTo>
                    <a:pt x="145" y="373"/>
                  </a:lnTo>
                  <a:lnTo>
                    <a:pt x="148" y="347"/>
                  </a:lnTo>
                  <a:lnTo>
                    <a:pt x="150" y="322"/>
                  </a:lnTo>
                  <a:lnTo>
                    <a:pt x="151" y="303"/>
                  </a:lnTo>
                  <a:lnTo>
                    <a:pt x="152" y="295"/>
                  </a:lnTo>
                  <a:lnTo>
                    <a:pt x="152" y="288"/>
                  </a:lnTo>
                  <a:lnTo>
                    <a:pt x="152" y="272"/>
                  </a:lnTo>
                  <a:lnTo>
                    <a:pt x="151" y="258"/>
                  </a:lnTo>
                  <a:lnTo>
                    <a:pt x="149" y="244"/>
                  </a:lnTo>
                  <a:lnTo>
                    <a:pt x="148" y="232"/>
                  </a:lnTo>
                  <a:lnTo>
                    <a:pt x="147" y="227"/>
                  </a:lnTo>
                  <a:lnTo>
                    <a:pt x="146" y="222"/>
                  </a:lnTo>
                  <a:lnTo>
                    <a:pt x="144" y="217"/>
                  </a:lnTo>
                  <a:lnTo>
                    <a:pt x="143" y="211"/>
                  </a:lnTo>
                  <a:lnTo>
                    <a:pt x="142" y="206"/>
                  </a:lnTo>
                  <a:lnTo>
                    <a:pt x="140" y="203"/>
                  </a:lnTo>
                  <a:lnTo>
                    <a:pt x="138" y="199"/>
                  </a:lnTo>
                  <a:lnTo>
                    <a:pt x="137" y="196"/>
                  </a:lnTo>
                  <a:lnTo>
                    <a:pt x="135" y="192"/>
                  </a:lnTo>
                  <a:lnTo>
                    <a:pt x="132" y="189"/>
                  </a:lnTo>
                  <a:lnTo>
                    <a:pt x="131" y="185"/>
                  </a:lnTo>
                  <a:lnTo>
                    <a:pt x="128" y="184"/>
                  </a:lnTo>
                  <a:lnTo>
                    <a:pt x="125" y="180"/>
                  </a:lnTo>
                  <a:lnTo>
                    <a:pt x="122" y="179"/>
                  </a:lnTo>
                  <a:lnTo>
                    <a:pt x="115" y="175"/>
                  </a:lnTo>
                  <a:lnTo>
                    <a:pt x="108" y="172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75" y="168"/>
                  </a:lnTo>
                  <a:lnTo>
                    <a:pt x="70" y="168"/>
                  </a:lnTo>
                  <a:lnTo>
                    <a:pt x="65" y="170"/>
                  </a:lnTo>
                  <a:lnTo>
                    <a:pt x="59" y="172"/>
                  </a:lnTo>
                  <a:lnTo>
                    <a:pt x="54" y="173"/>
                  </a:lnTo>
                  <a:lnTo>
                    <a:pt x="49" y="175"/>
                  </a:lnTo>
                  <a:lnTo>
                    <a:pt x="43" y="177"/>
                  </a:lnTo>
                  <a:lnTo>
                    <a:pt x="38" y="180"/>
                  </a:lnTo>
                  <a:lnTo>
                    <a:pt x="27" y="185"/>
                  </a:lnTo>
                  <a:lnTo>
                    <a:pt x="17" y="192"/>
                  </a:lnTo>
                  <a:lnTo>
                    <a:pt x="0" y="203"/>
                  </a:lnTo>
                  <a:lnTo>
                    <a:pt x="15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0"/>
                  </a:lnTo>
                  <a:lnTo>
                    <a:pt x="162" y="7"/>
                  </a:lnTo>
                  <a:lnTo>
                    <a:pt x="173" y="4"/>
                  </a:lnTo>
                  <a:lnTo>
                    <a:pt x="184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2" y="5"/>
                  </a:lnTo>
                  <a:lnTo>
                    <a:pt x="259" y="10"/>
                  </a:lnTo>
                  <a:lnTo>
                    <a:pt x="275" y="17"/>
                  </a:lnTo>
                  <a:lnTo>
                    <a:pt x="289" y="28"/>
                  </a:lnTo>
                  <a:lnTo>
                    <a:pt x="303" y="40"/>
                  </a:lnTo>
                  <a:lnTo>
                    <a:pt x="308" y="47"/>
                  </a:lnTo>
                  <a:lnTo>
                    <a:pt x="314" y="54"/>
                  </a:lnTo>
                  <a:lnTo>
                    <a:pt x="320" y="62"/>
                  </a:lnTo>
                  <a:lnTo>
                    <a:pt x="325" y="71"/>
                  </a:lnTo>
                  <a:lnTo>
                    <a:pt x="336" y="88"/>
                  </a:lnTo>
                  <a:lnTo>
                    <a:pt x="340" y="99"/>
                  </a:lnTo>
                  <a:lnTo>
                    <a:pt x="344" y="109"/>
                  </a:lnTo>
                  <a:lnTo>
                    <a:pt x="347" y="118"/>
                  </a:lnTo>
                  <a:lnTo>
                    <a:pt x="351" y="128"/>
                  </a:lnTo>
                  <a:lnTo>
                    <a:pt x="354" y="139"/>
                  </a:lnTo>
                  <a:lnTo>
                    <a:pt x="357" y="151"/>
                  </a:lnTo>
                  <a:lnTo>
                    <a:pt x="359" y="161"/>
                  </a:lnTo>
                  <a:lnTo>
                    <a:pt x="361" y="173"/>
                  </a:lnTo>
                  <a:lnTo>
                    <a:pt x="363" y="185"/>
                  </a:lnTo>
                  <a:lnTo>
                    <a:pt x="364" y="198"/>
                  </a:lnTo>
                  <a:lnTo>
                    <a:pt x="365" y="210"/>
                  </a:lnTo>
                  <a:lnTo>
                    <a:pt x="366" y="222"/>
                  </a:lnTo>
                  <a:lnTo>
                    <a:pt x="367" y="234"/>
                  </a:lnTo>
                  <a:lnTo>
                    <a:pt x="367" y="248"/>
                  </a:lnTo>
                  <a:lnTo>
                    <a:pt x="367" y="260"/>
                  </a:lnTo>
                  <a:lnTo>
                    <a:pt x="366" y="277"/>
                  </a:lnTo>
                  <a:lnTo>
                    <a:pt x="364" y="326"/>
                  </a:lnTo>
                  <a:lnTo>
                    <a:pt x="363" y="353"/>
                  </a:lnTo>
                  <a:lnTo>
                    <a:pt x="361" y="381"/>
                  </a:lnTo>
                  <a:lnTo>
                    <a:pt x="358" y="407"/>
                  </a:lnTo>
                  <a:lnTo>
                    <a:pt x="354" y="433"/>
                  </a:lnTo>
                  <a:lnTo>
                    <a:pt x="307" y="750"/>
                  </a:lnTo>
                  <a:lnTo>
                    <a:pt x="303" y="771"/>
                  </a:lnTo>
                  <a:lnTo>
                    <a:pt x="301" y="794"/>
                  </a:lnTo>
                  <a:lnTo>
                    <a:pt x="298" y="818"/>
                  </a:lnTo>
                  <a:lnTo>
                    <a:pt x="297" y="840"/>
                  </a:lnTo>
                  <a:lnTo>
                    <a:pt x="293" y="882"/>
                  </a:lnTo>
                  <a:lnTo>
                    <a:pt x="292" y="897"/>
                  </a:lnTo>
                  <a:lnTo>
                    <a:pt x="292" y="904"/>
                  </a:lnTo>
                  <a:lnTo>
                    <a:pt x="292" y="911"/>
                  </a:lnTo>
                  <a:lnTo>
                    <a:pt x="292" y="925"/>
                  </a:lnTo>
                  <a:lnTo>
                    <a:pt x="293" y="937"/>
                  </a:lnTo>
                  <a:lnTo>
                    <a:pt x="294" y="949"/>
                  </a:lnTo>
                  <a:lnTo>
                    <a:pt x="296" y="962"/>
                  </a:lnTo>
                  <a:lnTo>
                    <a:pt x="298" y="972"/>
                  </a:lnTo>
                  <a:lnTo>
                    <a:pt x="301" y="982"/>
                  </a:lnTo>
                  <a:lnTo>
                    <a:pt x="303" y="991"/>
                  </a:lnTo>
                  <a:lnTo>
                    <a:pt x="307" y="1000"/>
                  </a:lnTo>
                  <a:lnTo>
                    <a:pt x="308" y="1003"/>
                  </a:lnTo>
                  <a:lnTo>
                    <a:pt x="311" y="1008"/>
                  </a:lnTo>
                  <a:lnTo>
                    <a:pt x="313" y="1012"/>
                  </a:lnTo>
                  <a:lnTo>
                    <a:pt x="315" y="1014"/>
                  </a:lnTo>
                  <a:lnTo>
                    <a:pt x="318" y="1017"/>
                  </a:lnTo>
                  <a:lnTo>
                    <a:pt x="320" y="1020"/>
                  </a:lnTo>
                  <a:lnTo>
                    <a:pt x="323" y="1022"/>
                  </a:lnTo>
                  <a:lnTo>
                    <a:pt x="326" y="1024"/>
                  </a:lnTo>
                  <a:lnTo>
                    <a:pt x="333" y="1027"/>
                  </a:lnTo>
                  <a:lnTo>
                    <a:pt x="340" y="1031"/>
                  </a:lnTo>
                  <a:lnTo>
                    <a:pt x="347" y="1033"/>
                  </a:lnTo>
                  <a:lnTo>
                    <a:pt x="356" y="1033"/>
                  </a:lnTo>
                  <a:lnTo>
                    <a:pt x="363" y="1033"/>
                  </a:lnTo>
                  <a:lnTo>
                    <a:pt x="369" y="1031"/>
                  </a:lnTo>
                  <a:lnTo>
                    <a:pt x="377" y="1027"/>
                  </a:lnTo>
                  <a:lnTo>
                    <a:pt x="386" y="1022"/>
                  </a:lnTo>
                  <a:lnTo>
                    <a:pt x="394" y="1017"/>
                  </a:lnTo>
                  <a:lnTo>
                    <a:pt x="403" y="1010"/>
                  </a:lnTo>
                  <a:lnTo>
                    <a:pt x="413" y="1001"/>
                  </a:lnTo>
                  <a:lnTo>
                    <a:pt x="423" y="993"/>
                  </a:lnTo>
                  <a:lnTo>
                    <a:pt x="433" y="982"/>
                  </a:lnTo>
                  <a:lnTo>
                    <a:pt x="444" y="972"/>
                  </a:lnTo>
                  <a:lnTo>
                    <a:pt x="454" y="960"/>
                  </a:lnTo>
                  <a:lnTo>
                    <a:pt x="464" y="946"/>
                  </a:lnTo>
                  <a:lnTo>
                    <a:pt x="475" y="932"/>
                  </a:lnTo>
                  <a:lnTo>
                    <a:pt x="485" y="917"/>
                  </a:lnTo>
                  <a:lnTo>
                    <a:pt x="496" y="899"/>
                  </a:lnTo>
                  <a:lnTo>
                    <a:pt x="506" y="882"/>
                  </a:lnTo>
                  <a:lnTo>
                    <a:pt x="613" y="21"/>
                  </a:lnTo>
                  <a:lnTo>
                    <a:pt x="821" y="4"/>
                  </a:lnTo>
                  <a:lnTo>
                    <a:pt x="828" y="21"/>
                  </a:lnTo>
                  <a:lnTo>
                    <a:pt x="736" y="754"/>
                  </a:lnTo>
                  <a:lnTo>
                    <a:pt x="733" y="773"/>
                  </a:lnTo>
                  <a:lnTo>
                    <a:pt x="731" y="795"/>
                  </a:lnTo>
                  <a:lnTo>
                    <a:pt x="725" y="846"/>
                  </a:lnTo>
                  <a:lnTo>
                    <a:pt x="721" y="896"/>
                  </a:lnTo>
                  <a:lnTo>
                    <a:pt x="720" y="915"/>
                  </a:lnTo>
                  <a:lnTo>
                    <a:pt x="719" y="923"/>
                  </a:lnTo>
                  <a:lnTo>
                    <a:pt x="719" y="930"/>
                  </a:lnTo>
                  <a:lnTo>
                    <a:pt x="719" y="948"/>
                  </a:lnTo>
                  <a:lnTo>
                    <a:pt x="720" y="963"/>
                  </a:lnTo>
                  <a:lnTo>
                    <a:pt x="722" y="977"/>
                  </a:lnTo>
                  <a:lnTo>
                    <a:pt x="722" y="982"/>
                  </a:lnTo>
                  <a:lnTo>
                    <a:pt x="723" y="989"/>
                  </a:lnTo>
                  <a:lnTo>
                    <a:pt x="724" y="994"/>
                  </a:lnTo>
                  <a:lnTo>
                    <a:pt x="726" y="1000"/>
                  </a:lnTo>
                  <a:lnTo>
                    <a:pt x="728" y="1005"/>
                  </a:lnTo>
                  <a:lnTo>
                    <a:pt x="728" y="1010"/>
                  </a:lnTo>
                  <a:lnTo>
                    <a:pt x="730" y="1015"/>
                  </a:lnTo>
                  <a:lnTo>
                    <a:pt x="732" y="1019"/>
                  </a:lnTo>
                  <a:lnTo>
                    <a:pt x="734" y="1022"/>
                  </a:lnTo>
                  <a:lnTo>
                    <a:pt x="736" y="1026"/>
                  </a:lnTo>
                  <a:lnTo>
                    <a:pt x="739" y="1029"/>
                  </a:lnTo>
                  <a:lnTo>
                    <a:pt x="740" y="1031"/>
                  </a:lnTo>
                  <a:lnTo>
                    <a:pt x="743" y="1034"/>
                  </a:lnTo>
                  <a:lnTo>
                    <a:pt x="746" y="1036"/>
                  </a:lnTo>
                  <a:lnTo>
                    <a:pt x="752" y="1040"/>
                  </a:lnTo>
                  <a:lnTo>
                    <a:pt x="759" y="1043"/>
                  </a:lnTo>
                  <a:lnTo>
                    <a:pt x="766" y="1046"/>
                  </a:lnTo>
                  <a:lnTo>
                    <a:pt x="775" y="1048"/>
                  </a:lnTo>
                  <a:lnTo>
                    <a:pt x="784" y="1050"/>
                  </a:lnTo>
                  <a:lnTo>
                    <a:pt x="794" y="1050"/>
                  </a:lnTo>
                  <a:lnTo>
                    <a:pt x="799" y="1050"/>
                  </a:lnTo>
                  <a:lnTo>
                    <a:pt x="805" y="1050"/>
                  </a:lnTo>
                  <a:lnTo>
                    <a:pt x="810" y="1048"/>
                  </a:lnTo>
                  <a:lnTo>
                    <a:pt x="815" y="1046"/>
                  </a:lnTo>
                  <a:lnTo>
                    <a:pt x="827" y="1043"/>
                  </a:lnTo>
                  <a:lnTo>
                    <a:pt x="838" y="1038"/>
                  </a:lnTo>
                  <a:lnTo>
                    <a:pt x="860" y="1026"/>
                  </a:lnTo>
                  <a:lnTo>
                    <a:pt x="867" y="1020"/>
                  </a:lnTo>
                  <a:lnTo>
                    <a:pt x="871" y="1019"/>
                  </a:lnTo>
                  <a:lnTo>
                    <a:pt x="874" y="1015"/>
                  </a:lnTo>
                  <a:lnTo>
                    <a:pt x="860" y="1123"/>
                  </a:lnTo>
                  <a:lnTo>
                    <a:pt x="757" y="1194"/>
                  </a:lnTo>
                  <a:lnTo>
                    <a:pt x="747" y="1199"/>
                  </a:lnTo>
                  <a:lnTo>
                    <a:pt x="737" y="1204"/>
                  </a:lnTo>
                  <a:lnTo>
                    <a:pt x="727" y="1208"/>
                  </a:lnTo>
                  <a:lnTo>
                    <a:pt x="716" y="1211"/>
                  </a:lnTo>
                  <a:lnTo>
                    <a:pt x="704" y="1215"/>
                  </a:lnTo>
                  <a:lnTo>
                    <a:pt x="692" y="1216"/>
                  </a:lnTo>
                  <a:lnTo>
                    <a:pt x="680" y="1218"/>
                  </a:lnTo>
                  <a:lnTo>
                    <a:pt x="667" y="1218"/>
                  </a:lnTo>
                  <a:lnTo>
                    <a:pt x="650" y="1216"/>
                  </a:lnTo>
                  <a:lnTo>
                    <a:pt x="634" y="1215"/>
                  </a:lnTo>
                  <a:lnTo>
                    <a:pt x="618" y="1209"/>
                  </a:lnTo>
                  <a:lnTo>
                    <a:pt x="603" y="1204"/>
                  </a:lnTo>
                  <a:lnTo>
                    <a:pt x="590" y="1195"/>
                  </a:lnTo>
                  <a:lnTo>
                    <a:pt x="577" y="1185"/>
                  </a:lnTo>
                  <a:lnTo>
                    <a:pt x="564" y="1173"/>
                  </a:lnTo>
                  <a:lnTo>
                    <a:pt x="553" y="1159"/>
                  </a:lnTo>
                  <a:lnTo>
                    <a:pt x="543" y="1143"/>
                  </a:lnTo>
                  <a:lnTo>
                    <a:pt x="534" y="1128"/>
                  </a:lnTo>
                  <a:lnTo>
                    <a:pt x="525" y="1111"/>
                  </a:lnTo>
                  <a:lnTo>
                    <a:pt x="518" y="1092"/>
                  </a:lnTo>
                  <a:lnTo>
                    <a:pt x="512" y="1072"/>
                  </a:lnTo>
                  <a:lnTo>
                    <a:pt x="507" y="1052"/>
                  </a:lnTo>
                  <a:lnTo>
                    <a:pt x="502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71960" y="4078440"/>
              <a:ext cx="422280" cy="438120"/>
            </a:xfrm>
            <a:custGeom>
              <a:avLst/>
              <a:gdLst/>
              <a:ahLst/>
              <a:rect l="l" t="t" r="r" b="b"/>
              <a:pathLst>
                <a:path w="1174" h="1219">
                  <a:moveTo>
                    <a:pt x="460" y="1176"/>
                  </a:moveTo>
                  <a:lnTo>
                    <a:pt x="439" y="682"/>
                  </a:lnTo>
                  <a:lnTo>
                    <a:pt x="435" y="603"/>
                  </a:lnTo>
                  <a:lnTo>
                    <a:pt x="428" y="509"/>
                  </a:lnTo>
                  <a:lnTo>
                    <a:pt x="418" y="402"/>
                  </a:lnTo>
                  <a:lnTo>
                    <a:pt x="406" y="284"/>
                  </a:lnTo>
                  <a:lnTo>
                    <a:pt x="400" y="284"/>
                  </a:lnTo>
                  <a:lnTo>
                    <a:pt x="387" y="409"/>
                  </a:lnTo>
                  <a:lnTo>
                    <a:pt x="372" y="523"/>
                  </a:lnTo>
                  <a:lnTo>
                    <a:pt x="356" y="627"/>
                  </a:lnTo>
                  <a:lnTo>
                    <a:pt x="339" y="722"/>
                  </a:lnTo>
                  <a:lnTo>
                    <a:pt x="320" y="807"/>
                  </a:lnTo>
                  <a:lnTo>
                    <a:pt x="300" y="885"/>
                  </a:lnTo>
                  <a:lnTo>
                    <a:pt x="290" y="920"/>
                  </a:lnTo>
                  <a:lnTo>
                    <a:pt x="280" y="953"/>
                  </a:lnTo>
                  <a:lnTo>
                    <a:pt x="270" y="984"/>
                  </a:lnTo>
                  <a:lnTo>
                    <a:pt x="260" y="1013"/>
                  </a:lnTo>
                  <a:lnTo>
                    <a:pt x="250" y="1039"/>
                  </a:lnTo>
                  <a:lnTo>
                    <a:pt x="240" y="1062"/>
                  </a:lnTo>
                  <a:lnTo>
                    <a:pt x="229" y="1084"/>
                  </a:lnTo>
                  <a:lnTo>
                    <a:pt x="219" y="1103"/>
                  </a:lnTo>
                  <a:lnTo>
                    <a:pt x="209" y="1122"/>
                  </a:lnTo>
                  <a:lnTo>
                    <a:pt x="199" y="1140"/>
                  </a:lnTo>
                  <a:lnTo>
                    <a:pt x="189" y="1154"/>
                  </a:lnTo>
                  <a:lnTo>
                    <a:pt x="179" y="1167"/>
                  </a:lnTo>
                  <a:lnTo>
                    <a:pt x="168" y="1180"/>
                  </a:lnTo>
                  <a:lnTo>
                    <a:pt x="159" y="1190"/>
                  </a:lnTo>
                  <a:lnTo>
                    <a:pt x="149" y="1199"/>
                  </a:lnTo>
                  <a:lnTo>
                    <a:pt x="140" y="1206"/>
                  </a:lnTo>
                  <a:lnTo>
                    <a:pt x="131" y="1211"/>
                  </a:lnTo>
                  <a:lnTo>
                    <a:pt x="122" y="1214"/>
                  </a:lnTo>
                  <a:lnTo>
                    <a:pt x="113" y="1218"/>
                  </a:lnTo>
                  <a:lnTo>
                    <a:pt x="105" y="1218"/>
                  </a:lnTo>
                  <a:lnTo>
                    <a:pt x="93" y="1218"/>
                  </a:lnTo>
                  <a:lnTo>
                    <a:pt x="81" y="1214"/>
                  </a:lnTo>
                  <a:lnTo>
                    <a:pt x="71" y="1211"/>
                  </a:lnTo>
                  <a:lnTo>
                    <a:pt x="61" y="1206"/>
                  </a:lnTo>
                  <a:lnTo>
                    <a:pt x="52" y="1199"/>
                  </a:lnTo>
                  <a:lnTo>
                    <a:pt x="47" y="1195"/>
                  </a:lnTo>
                  <a:lnTo>
                    <a:pt x="43" y="1192"/>
                  </a:lnTo>
                  <a:lnTo>
                    <a:pt x="39" y="1187"/>
                  </a:lnTo>
                  <a:lnTo>
                    <a:pt x="35" y="1181"/>
                  </a:lnTo>
                  <a:lnTo>
                    <a:pt x="31" y="1176"/>
                  </a:lnTo>
                  <a:lnTo>
                    <a:pt x="28" y="1171"/>
                  </a:lnTo>
                  <a:lnTo>
                    <a:pt x="24" y="1166"/>
                  </a:lnTo>
                  <a:lnTo>
                    <a:pt x="21" y="1159"/>
                  </a:lnTo>
                  <a:lnTo>
                    <a:pt x="19" y="1154"/>
                  </a:lnTo>
                  <a:lnTo>
                    <a:pt x="16" y="1147"/>
                  </a:lnTo>
                  <a:lnTo>
                    <a:pt x="13" y="1140"/>
                  </a:lnTo>
                  <a:lnTo>
                    <a:pt x="11" y="1133"/>
                  </a:lnTo>
                  <a:lnTo>
                    <a:pt x="8" y="1124"/>
                  </a:lnTo>
                  <a:lnTo>
                    <a:pt x="7" y="1117"/>
                  </a:lnTo>
                  <a:lnTo>
                    <a:pt x="5" y="1109"/>
                  </a:lnTo>
                  <a:lnTo>
                    <a:pt x="4" y="1100"/>
                  </a:lnTo>
                  <a:lnTo>
                    <a:pt x="2" y="1091"/>
                  </a:lnTo>
                  <a:lnTo>
                    <a:pt x="2" y="1083"/>
                  </a:lnTo>
                  <a:lnTo>
                    <a:pt x="1" y="1074"/>
                  </a:lnTo>
                  <a:lnTo>
                    <a:pt x="1" y="1064"/>
                  </a:lnTo>
                  <a:lnTo>
                    <a:pt x="0" y="1044"/>
                  </a:lnTo>
                  <a:lnTo>
                    <a:pt x="1" y="1020"/>
                  </a:lnTo>
                  <a:lnTo>
                    <a:pt x="2" y="996"/>
                  </a:lnTo>
                  <a:lnTo>
                    <a:pt x="4" y="975"/>
                  </a:lnTo>
                  <a:lnTo>
                    <a:pt x="8" y="954"/>
                  </a:lnTo>
                  <a:lnTo>
                    <a:pt x="9" y="944"/>
                  </a:lnTo>
                  <a:lnTo>
                    <a:pt x="12" y="934"/>
                  </a:lnTo>
                  <a:lnTo>
                    <a:pt x="14" y="925"/>
                  </a:lnTo>
                  <a:lnTo>
                    <a:pt x="17" y="916"/>
                  </a:lnTo>
                  <a:lnTo>
                    <a:pt x="19" y="908"/>
                  </a:lnTo>
                  <a:lnTo>
                    <a:pt x="23" y="899"/>
                  </a:lnTo>
                  <a:lnTo>
                    <a:pt x="26" y="890"/>
                  </a:lnTo>
                  <a:lnTo>
                    <a:pt x="30" y="883"/>
                  </a:lnTo>
                  <a:lnTo>
                    <a:pt x="37" y="869"/>
                  </a:lnTo>
                  <a:lnTo>
                    <a:pt x="41" y="863"/>
                  </a:lnTo>
                  <a:lnTo>
                    <a:pt x="45" y="857"/>
                  </a:lnTo>
                  <a:lnTo>
                    <a:pt x="49" y="852"/>
                  </a:lnTo>
                  <a:lnTo>
                    <a:pt x="53" y="847"/>
                  </a:lnTo>
                  <a:lnTo>
                    <a:pt x="58" y="844"/>
                  </a:lnTo>
                  <a:lnTo>
                    <a:pt x="63" y="838"/>
                  </a:lnTo>
                  <a:lnTo>
                    <a:pt x="67" y="835"/>
                  </a:lnTo>
                  <a:lnTo>
                    <a:pt x="72" y="833"/>
                  </a:lnTo>
                  <a:lnTo>
                    <a:pt x="81" y="828"/>
                  </a:lnTo>
                  <a:lnTo>
                    <a:pt x="91" y="826"/>
                  </a:lnTo>
                  <a:lnTo>
                    <a:pt x="102" y="824"/>
                  </a:lnTo>
                  <a:lnTo>
                    <a:pt x="110" y="824"/>
                  </a:lnTo>
                  <a:lnTo>
                    <a:pt x="118" y="826"/>
                  </a:lnTo>
                  <a:lnTo>
                    <a:pt x="125" y="828"/>
                  </a:lnTo>
                  <a:lnTo>
                    <a:pt x="133" y="831"/>
                  </a:lnTo>
                  <a:lnTo>
                    <a:pt x="140" y="837"/>
                  </a:lnTo>
                  <a:lnTo>
                    <a:pt x="146" y="842"/>
                  </a:lnTo>
                  <a:lnTo>
                    <a:pt x="153" y="847"/>
                  </a:lnTo>
                  <a:lnTo>
                    <a:pt x="160" y="854"/>
                  </a:lnTo>
                  <a:lnTo>
                    <a:pt x="172" y="869"/>
                  </a:lnTo>
                  <a:lnTo>
                    <a:pt x="183" y="885"/>
                  </a:lnTo>
                  <a:lnTo>
                    <a:pt x="194" y="901"/>
                  </a:lnTo>
                  <a:lnTo>
                    <a:pt x="199" y="909"/>
                  </a:lnTo>
                  <a:lnTo>
                    <a:pt x="203" y="918"/>
                  </a:lnTo>
                  <a:lnTo>
                    <a:pt x="218" y="878"/>
                  </a:lnTo>
                  <a:lnTo>
                    <a:pt x="232" y="837"/>
                  </a:lnTo>
                  <a:lnTo>
                    <a:pt x="245" y="792"/>
                  </a:lnTo>
                  <a:lnTo>
                    <a:pt x="258" y="746"/>
                  </a:lnTo>
                  <a:lnTo>
                    <a:pt x="270" y="698"/>
                  </a:lnTo>
                  <a:lnTo>
                    <a:pt x="281" y="648"/>
                  </a:lnTo>
                  <a:lnTo>
                    <a:pt x="291" y="596"/>
                  </a:lnTo>
                  <a:lnTo>
                    <a:pt x="300" y="542"/>
                  </a:lnTo>
                  <a:lnTo>
                    <a:pt x="317" y="435"/>
                  </a:lnTo>
                  <a:lnTo>
                    <a:pt x="330" y="327"/>
                  </a:lnTo>
                  <a:lnTo>
                    <a:pt x="335" y="275"/>
                  </a:lnTo>
                  <a:lnTo>
                    <a:pt x="339" y="223"/>
                  </a:lnTo>
                  <a:lnTo>
                    <a:pt x="342" y="173"/>
                  </a:lnTo>
                  <a:lnTo>
                    <a:pt x="345" y="123"/>
                  </a:lnTo>
                  <a:lnTo>
                    <a:pt x="225" y="123"/>
                  </a:lnTo>
                  <a:lnTo>
                    <a:pt x="240" y="24"/>
                  </a:lnTo>
                  <a:lnTo>
                    <a:pt x="567" y="0"/>
                  </a:lnTo>
                  <a:lnTo>
                    <a:pt x="580" y="92"/>
                  </a:lnTo>
                  <a:lnTo>
                    <a:pt x="592" y="185"/>
                  </a:lnTo>
                  <a:lnTo>
                    <a:pt x="603" y="282"/>
                  </a:lnTo>
                  <a:lnTo>
                    <a:pt x="612" y="383"/>
                  </a:lnTo>
                  <a:lnTo>
                    <a:pt x="620" y="485"/>
                  </a:lnTo>
                  <a:lnTo>
                    <a:pt x="628" y="592"/>
                  </a:lnTo>
                  <a:lnTo>
                    <a:pt x="634" y="701"/>
                  </a:lnTo>
                  <a:lnTo>
                    <a:pt x="638" y="812"/>
                  </a:lnTo>
                  <a:lnTo>
                    <a:pt x="913" y="19"/>
                  </a:lnTo>
                  <a:lnTo>
                    <a:pt x="1120" y="2"/>
                  </a:lnTo>
                  <a:lnTo>
                    <a:pt x="1128" y="19"/>
                  </a:lnTo>
                  <a:lnTo>
                    <a:pt x="1035" y="752"/>
                  </a:lnTo>
                  <a:lnTo>
                    <a:pt x="1033" y="771"/>
                  </a:lnTo>
                  <a:lnTo>
                    <a:pt x="1030" y="793"/>
                  </a:lnTo>
                  <a:lnTo>
                    <a:pt x="1028" y="816"/>
                  </a:lnTo>
                  <a:lnTo>
                    <a:pt x="1025" y="844"/>
                  </a:lnTo>
                  <a:lnTo>
                    <a:pt x="1023" y="871"/>
                  </a:lnTo>
                  <a:lnTo>
                    <a:pt x="1021" y="894"/>
                  </a:lnTo>
                  <a:lnTo>
                    <a:pt x="1019" y="913"/>
                  </a:lnTo>
                  <a:lnTo>
                    <a:pt x="1019" y="921"/>
                  </a:lnTo>
                  <a:lnTo>
                    <a:pt x="1019" y="928"/>
                  </a:lnTo>
                  <a:lnTo>
                    <a:pt x="1019" y="946"/>
                  </a:lnTo>
                  <a:lnTo>
                    <a:pt x="1020" y="961"/>
                  </a:lnTo>
                  <a:lnTo>
                    <a:pt x="1022" y="975"/>
                  </a:lnTo>
                  <a:lnTo>
                    <a:pt x="1023" y="980"/>
                  </a:lnTo>
                  <a:lnTo>
                    <a:pt x="1023" y="987"/>
                  </a:lnTo>
                  <a:lnTo>
                    <a:pt x="1024" y="992"/>
                  </a:lnTo>
                  <a:lnTo>
                    <a:pt x="1025" y="998"/>
                  </a:lnTo>
                  <a:lnTo>
                    <a:pt x="1027" y="1003"/>
                  </a:lnTo>
                  <a:lnTo>
                    <a:pt x="1029" y="1008"/>
                  </a:lnTo>
                  <a:lnTo>
                    <a:pt x="1029" y="1013"/>
                  </a:lnTo>
                  <a:lnTo>
                    <a:pt x="1031" y="1017"/>
                  </a:lnTo>
                  <a:lnTo>
                    <a:pt x="1034" y="1020"/>
                  </a:lnTo>
                  <a:lnTo>
                    <a:pt x="1035" y="1024"/>
                  </a:lnTo>
                  <a:lnTo>
                    <a:pt x="1038" y="1027"/>
                  </a:lnTo>
                  <a:lnTo>
                    <a:pt x="1040" y="1029"/>
                  </a:lnTo>
                  <a:lnTo>
                    <a:pt x="1042" y="1032"/>
                  </a:lnTo>
                  <a:lnTo>
                    <a:pt x="1045" y="1034"/>
                  </a:lnTo>
                  <a:lnTo>
                    <a:pt x="1051" y="1038"/>
                  </a:lnTo>
                  <a:lnTo>
                    <a:pt x="1058" y="1041"/>
                  </a:lnTo>
                  <a:lnTo>
                    <a:pt x="1066" y="1044"/>
                  </a:lnTo>
                  <a:lnTo>
                    <a:pt x="1074" y="1046"/>
                  </a:lnTo>
                  <a:lnTo>
                    <a:pt x="1083" y="1048"/>
                  </a:lnTo>
                  <a:lnTo>
                    <a:pt x="1093" y="1048"/>
                  </a:lnTo>
                  <a:lnTo>
                    <a:pt x="1098" y="1048"/>
                  </a:lnTo>
                  <a:lnTo>
                    <a:pt x="1103" y="1048"/>
                  </a:lnTo>
                  <a:lnTo>
                    <a:pt x="1109" y="1046"/>
                  </a:lnTo>
                  <a:lnTo>
                    <a:pt x="1114" y="1044"/>
                  </a:lnTo>
                  <a:lnTo>
                    <a:pt x="1126" y="1041"/>
                  </a:lnTo>
                  <a:lnTo>
                    <a:pt x="1138" y="1036"/>
                  </a:lnTo>
                  <a:lnTo>
                    <a:pt x="1159" y="1024"/>
                  </a:lnTo>
                  <a:lnTo>
                    <a:pt x="1167" y="1018"/>
                  </a:lnTo>
                  <a:lnTo>
                    <a:pt x="1170" y="1017"/>
                  </a:lnTo>
                  <a:lnTo>
                    <a:pt x="1173" y="1013"/>
                  </a:lnTo>
                  <a:lnTo>
                    <a:pt x="1159" y="1121"/>
                  </a:lnTo>
                  <a:lnTo>
                    <a:pt x="1058" y="1192"/>
                  </a:lnTo>
                  <a:lnTo>
                    <a:pt x="1049" y="1197"/>
                  </a:lnTo>
                  <a:lnTo>
                    <a:pt x="1039" y="1202"/>
                  </a:lnTo>
                  <a:lnTo>
                    <a:pt x="1029" y="1206"/>
                  </a:lnTo>
                  <a:lnTo>
                    <a:pt x="1018" y="1209"/>
                  </a:lnTo>
                  <a:lnTo>
                    <a:pt x="1007" y="1213"/>
                  </a:lnTo>
                  <a:lnTo>
                    <a:pt x="995" y="1214"/>
                  </a:lnTo>
                  <a:lnTo>
                    <a:pt x="983" y="1216"/>
                  </a:lnTo>
                  <a:lnTo>
                    <a:pt x="970" y="1216"/>
                  </a:lnTo>
                  <a:lnTo>
                    <a:pt x="953" y="1214"/>
                  </a:lnTo>
                  <a:lnTo>
                    <a:pt x="936" y="1213"/>
                  </a:lnTo>
                  <a:lnTo>
                    <a:pt x="921" y="1207"/>
                  </a:lnTo>
                  <a:lnTo>
                    <a:pt x="906" y="1199"/>
                  </a:lnTo>
                  <a:lnTo>
                    <a:pt x="891" y="1190"/>
                  </a:lnTo>
                  <a:lnTo>
                    <a:pt x="879" y="1178"/>
                  </a:lnTo>
                  <a:lnTo>
                    <a:pt x="866" y="1164"/>
                  </a:lnTo>
                  <a:lnTo>
                    <a:pt x="854" y="1148"/>
                  </a:lnTo>
                  <a:lnTo>
                    <a:pt x="849" y="1140"/>
                  </a:lnTo>
                  <a:lnTo>
                    <a:pt x="844" y="1131"/>
                  </a:lnTo>
                  <a:lnTo>
                    <a:pt x="839" y="1121"/>
                  </a:lnTo>
                  <a:lnTo>
                    <a:pt x="835" y="1112"/>
                  </a:lnTo>
                  <a:lnTo>
                    <a:pt x="830" y="1102"/>
                  </a:lnTo>
                  <a:lnTo>
                    <a:pt x="827" y="1091"/>
                  </a:lnTo>
                  <a:lnTo>
                    <a:pt x="824" y="1081"/>
                  </a:lnTo>
                  <a:lnTo>
                    <a:pt x="820" y="1069"/>
                  </a:lnTo>
                  <a:lnTo>
                    <a:pt x="818" y="1058"/>
                  </a:lnTo>
                  <a:lnTo>
                    <a:pt x="816" y="1046"/>
                  </a:lnTo>
                  <a:lnTo>
                    <a:pt x="814" y="1034"/>
                  </a:lnTo>
                  <a:lnTo>
                    <a:pt x="812" y="1022"/>
                  </a:lnTo>
                  <a:lnTo>
                    <a:pt x="811" y="1008"/>
                  </a:lnTo>
                  <a:lnTo>
                    <a:pt x="810" y="996"/>
                  </a:lnTo>
                  <a:lnTo>
                    <a:pt x="809" y="982"/>
                  </a:lnTo>
                  <a:lnTo>
                    <a:pt x="809" y="968"/>
                  </a:lnTo>
                  <a:lnTo>
                    <a:pt x="809" y="939"/>
                  </a:lnTo>
                  <a:lnTo>
                    <a:pt x="810" y="913"/>
                  </a:lnTo>
                  <a:lnTo>
                    <a:pt x="811" y="873"/>
                  </a:lnTo>
                  <a:lnTo>
                    <a:pt x="813" y="856"/>
                  </a:lnTo>
                  <a:lnTo>
                    <a:pt x="814" y="835"/>
                  </a:lnTo>
                  <a:lnTo>
                    <a:pt x="817" y="809"/>
                  </a:lnTo>
                  <a:lnTo>
                    <a:pt x="821" y="781"/>
                  </a:lnTo>
                  <a:lnTo>
                    <a:pt x="880" y="350"/>
                  </a:lnTo>
                  <a:lnTo>
                    <a:pt x="873" y="345"/>
                  </a:lnTo>
                  <a:lnTo>
                    <a:pt x="579" y="1176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44920" y="4071960"/>
              <a:ext cx="307800" cy="444600"/>
            </a:xfrm>
            <a:custGeom>
              <a:avLst/>
              <a:gdLst/>
              <a:ahLst/>
              <a:rect l="l" t="t" r="r" b="b"/>
              <a:pathLst>
                <a:path w="857" h="1235">
                  <a:moveTo>
                    <a:pt x="503" y="94"/>
                  </a:moveTo>
                  <a:lnTo>
                    <a:pt x="497" y="94"/>
                  </a:lnTo>
                  <a:lnTo>
                    <a:pt x="490" y="96"/>
                  </a:lnTo>
                  <a:lnTo>
                    <a:pt x="483" y="96"/>
                  </a:lnTo>
                  <a:lnTo>
                    <a:pt x="477" y="97"/>
                  </a:lnTo>
                  <a:lnTo>
                    <a:pt x="470" y="101"/>
                  </a:lnTo>
                  <a:lnTo>
                    <a:pt x="464" y="102"/>
                  </a:lnTo>
                  <a:lnTo>
                    <a:pt x="458" y="108"/>
                  </a:lnTo>
                  <a:lnTo>
                    <a:pt x="452" y="111"/>
                  </a:lnTo>
                  <a:lnTo>
                    <a:pt x="446" y="115"/>
                  </a:lnTo>
                  <a:lnTo>
                    <a:pt x="439" y="120"/>
                  </a:lnTo>
                  <a:lnTo>
                    <a:pt x="433" y="125"/>
                  </a:lnTo>
                  <a:lnTo>
                    <a:pt x="428" y="132"/>
                  </a:lnTo>
                  <a:lnTo>
                    <a:pt x="422" y="139"/>
                  </a:lnTo>
                  <a:lnTo>
                    <a:pt x="416" y="146"/>
                  </a:lnTo>
                  <a:lnTo>
                    <a:pt x="411" y="153"/>
                  </a:lnTo>
                  <a:lnTo>
                    <a:pt x="406" y="161"/>
                  </a:lnTo>
                  <a:lnTo>
                    <a:pt x="401" y="170"/>
                  </a:lnTo>
                  <a:lnTo>
                    <a:pt x="397" y="180"/>
                  </a:lnTo>
                  <a:lnTo>
                    <a:pt x="392" y="189"/>
                  </a:lnTo>
                  <a:lnTo>
                    <a:pt x="388" y="201"/>
                  </a:lnTo>
                  <a:lnTo>
                    <a:pt x="384" y="212"/>
                  </a:lnTo>
                  <a:lnTo>
                    <a:pt x="381" y="224"/>
                  </a:lnTo>
                  <a:lnTo>
                    <a:pt x="377" y="238"/>
                  </a:lnTo>
                  <a:lnTo>
                    <a:pt x="374" y="251"/>
                  </a:lnTo>
                  <a:lnTo>
                    <a:pt x="371" y="265"/>
                  </a:lnTo>
                  <a:lnTo>
                    <a:pt x="369" y="279"/>
                  </a:lnTo>
                  <a:lnTo>
                    <a:pt x="367" y="295"/>
                  </a:lnTo>
                  <a:lnTo>
                    <a:pt x="365" y="310"/>
                  </a:lnTo>
                  <a:lnTo>
                    <a:pt x="364" y="326"/>
                  </a:lnTo>
                  <a:lnTo>
                    <a:pt x="363" y="343"/>
                  </a:lnTo>
                  <a:lnTo>
                    <a:pt x="362" y="361"/>
                  </a:lnTo>
                  <a:lnTo>
                    <a:pt x="362" y="378"/>
                  </a:lnTo>
                  <a:lnTo>
                    <a:pt x="363" y="402"/>
                  </a:lnTo>
                  <a:lnTo>
                    <a:pt x="364" y="423"/>
                  </a:lnTo>
                  <a:lnTo>
                    <a:pt x="366" y="445"/>
                  </a:lnTo>
                  <a:lnTo>
                    <a:pt x="369" y="465"/>
                  </a:lnTo>
                  <a:lnTo>
                    <a:pt x="371" y="475"/>
                  </a:lnTo>
                  <a:lnTo>
                    <a:pt x="373" y="484"/>
                  </a:lnTo>
                  <a:lnTo>
                    <a:pt x="375" y="492"/>
                  </a:lnTo>
                  <a:lnTo>
                    <a:pt x="378" y="501"/>
                  </a:lnTo>
                  <a:lnTo>
                    <a:pt x="381" y="510"/>
                  </a:lnTo>
                  <a:lnTo>
                    <a:pt x="384" y="518"/>
                  </a:lnTo>
                  <a:lnTo>
                    <a:pt x="387" y="527"/>
                  </a:lnTo>
                  <a:lnTo>
                    <a:pt x="391" y="534"/>
                  </a:lnTo>
                  <a:lnTo>
                    <a:pt x="394" y="541"/>
                  </a:lnTo>
                  <a:lnTo>
                    <a:pt x="398" y="548"/>
                  </a:lnTo>
                  <a:lnTo>
                    <a:pt x="403" y="555"/>
                  </a:lnTo>
                  <a:lnTo>
                    <a:pt x="407" y="560"/>
                  </a:lnTo>
                  <a:lnTo>
                    <a:pt x="411" y="565"/>
                  </a:lnTo>
                  <a:lnTo>
                    <a:pt x="416" y="570"/>
                  </a:lnTo>
                  <a:lnTo>
                    <a:pt x="421" y="574"/>
                  </a:lnTo>
                  <a:lnTo>
                    <a:pt x="427" y="579"/>
                  </a:lnTo>
                  <a:lnTo>
                    <a:pt x="438" y="584"/>
                  </a:lnTo>
                  <a:lnTo>
                    <a:pt x="451" y="589"/>
                  </a:lnTo>
                  <a:lnTo>
                    <a:pt x="465" y="591"/>
                  </a:lnTo>
                  <a:lnTo>
                    <a:pt x="480" y="593"/>
                  </a:lnTo>
                  <a:lnTo>
                    <a:pt x="529" y="593"/>
                  </a:lnTo>
                  <a:lnTo>
                    <a:pt x="549" y="459"/>
                  </a:lnTo>
                  <a:lnTo>
                    <a:pt x="561" y="369"/>
                  </a:lnTo>
                  <a:lnTo>
                    <a:pt x="565" y="328"/>
                  </a:lnTo>
                  <a:lnTo>
                    <a:pt x="569" y="286"/>
                  </a:lnTo>
                  <a:lnTo>
                    <a:pt x="574" y="250"/>
                  </a:lnTo>
                  <a:lnTo>
                    <a:pt x="576" y="219"/>
                  </a:lnTo>
                  <a:lnTo>
                    <a:pt x="577" y="194"/>
                  </a:lnTo>
                  <a:lnTo>
                    <a:pt x="578" y="184"/>
                  </a:lnTo>
                  <a:lnTo>
                    <a:pt x="578" y="175"/>
                  </a:lnTo>
                  <a:lnTo>
                    <a:pt x="578" y="170"/>
                  </a:lnTo>
                  <a:lnTo>
                    <a:pt x="578" y="167"/>
                  </a:lnTo>
                  <a:lnTo>
                    <a:pt x="577" y="161"/>
                  </a:lnTo>
                  <a:lnTo>
                    <a:pt x="577" y="158"/>
                  </a:lnTo>
                  <a:lnTo>
                    <a:pt x="576" y="154"/>
                  </a:lnTo>
                  <a:lnTo>
                    <a:pt x="575" y="149"/>
                  </a:lnTo>
                  <a:lnTo>
                    <a:pt x="574" y="146"/>
                  </a:lnTo>
                  <a:lnTo>
                    <a:pt x="573" y="142"/>
                  </a:lnTo>
                  <a:lnTo>
                    <a:pt x="571" y="139"/>
                  </a:lnTo>
                  <a:lnTo>
                    <a:pt x="570" y="135"/>
                  </a:lnTo>
                  <a:lnTo>
                    <a:pt x="568" y="132"/>
                  </a:lnTo>
                  <a:lnTo>
                    <a:pt x="567" y="128"/>
                  </a:lnTo>
                  <a:lnTo>
                    <a:pt x="564" y="125"/>
                  </a:lnTo>
                  <a:lnTo>
                    <a:pt x="563" y="121"/>
                  </a:lnTo>
                  <a:lnTo>
                    <a:pt x="557" y="116"/>
                  </a:lnTo>
                  <a:lnTo>
                    <a:pt x="552" y="111"/>
                  </a:lnTo>
                  <a:lnTo>
                    <a:pt x="546" y="106"/>
                  </a:lnTo>
                  <a:lnTo>
                    <a:pt x="541" y="102"/>
                  </a:lnTo>
                  <a:lnTo>
                    <a:pt x="534" y="99"/>
                  </a:lnTo>
                  <a:lnTo>
                    <a:pt x="527" y="97"/>
                  </a:lnTo>
                  <a:lnTo>
                    <a:pt x="519" y="96"/>
                  </a:lnTo>
                  <a:lnTo>
                    <a:pt x="512" y="94"/>
                  </a:lnTo>
                  <a:close/>
                  <a:moveTo>
                    <a:pt x="791" y="205"/>
                  </a:moveTo>
                  <a:lnTo>
                    <a:pt x="791" y="229"/>
                  </a:lnTo>
                  <a:lnTo>
                    <a:pt x="790" y="253"/>
                  </a:lnTo>
                  <a:lnTo>
                    <a:pt x="789" y="277"/>
                  </a:lnTo>
                  <a:lnTo>
                    <a:pt x="786" y="302"/>
                  </a:lnTo>
                  <a:lnTo>
                    <a:pt x="784" y="324"/>
                  </a:lnTo>
                  <a:lnTo>
                    <a:pt x="781" y="345"/>
                  </a:lnTo>
                  <a:lnTo>
                    <a:pt x="778" y="364"/>
                  </a:lnTo>
                  <a:lnTo>
                    <a:pt x="777" y="378"/>
                  </a:lnTo>
                  <a:lnTo>
                    <a:pt x="719" y="768"/>
                  </a:lnTo>
                  <a:lnTo>
                    <a:pt x="716" y="788"/>
                  </a:lnTo>
                  <a:lnTo>
                    <a:pt x="713" y="811"/>
                  </a:lnTo>
                  <a:lnTo>
                    <a:pt x="711" y="835"/>
                  </a:lnTo>
                  <a:lnTo>
                    <a:pt x="708" y="861"/>
                  </a:lnTo>
                  <a:lnTo>
                    <a:pt x="706" y="885"/>
                  </a:lnTo>
                  <a:lnTo>
                    <a:pt x="705" y="908"/>
                  </a:lnTo>
                  <a:lnTo>
                    <a:pt x="703" y="927"/>
                  </a:lnTo>
                  <a:lnTo>
                    <a:pt x="703" y="936"/>
                  </a:lnTo>
                  <a:lnTo>
                    <a:pt x="703" y="944"/>
                  </a:lnTo>
                  <a:lnTo>
                    <a:pt x="703" y="962"/>
                  </a:lnTo>
                  <a:lnTo>
                    <a:pt x="704" y="977"/>
                  </a:lnTo>
                  <a:lnTo>
                    <a:pt x="706" y="991"/>
                  </a:lnTo>
                  <a:lnTo>
                    <a:pt x="706" y="996"/>
                  </a:lnTo>
                  <a:lnTo>
                    <a:pt x="707" y="1003"/>
                  </a:lnTo>
                  <a:lnTo>
                    <a:pt x="708" y="1008"/>
                  </a:lnTo>
                  <a:lnTo>
                    <a:pt x="709" y="1014"/>
                  </a:lnTo>
                  <a:lnTo>
                    <a:pt x="711" y="1019"/>
                  </a:lnTo>
                  <a:lnTo>
                    <a:pt x="712" y="1024"/>
                  </a:lnTo>
                  <a:lnTo>
                    <a:pt x="713" y="1029"/>
                  </a:lnTo>
                  <a:lnTo>
                    <a:pt x="715" y="1033"/>
                  </a:lnTo>
                  <a:lnTo>
                    <a:pt x="717" y="1036"/>
                  </a:lnTo>
                  <a:lnTo>
                    <a:pt x="719" y="1040"/>
                  </a:lnTo>
                  <a:lnTo>
                    <a:pt x="722" y="1043"/>
                  </a:lnTo>
                  <a:lnTo>
                    <a:pt x="723" y="1045"/>
                  </a:lnTo>
                  <a:lnTo>
                    <a:pt x="726" y="1048"/>
                  </a:lnTo>
                  <a:lnTo>
                    <a:pt x="728" y="1050"/>
                  </a:lnTo>
                  <a:lnTo>
                    <a:pt x="735" y="1054"/>
                  </a:lnTo>
                  <a:lnTo>
                    <a:pt x="742" y="1057"/>
                  </a:lnTo>
                  <a:lnTo>
                    <a:pt x="749" y="1060"/>
                  </a:lnTo>
                  <a:lnTo>
                    <a:pt x="757" y="1062"/>
                  </a:lnTo>
                  <a:lnTo>
                    <a:pt x="767" y="1064"/>
                  </a:lnTo>
                  <a:lnTo>
                    <a:pt x="777" y="1064"/>
                  </a:lnTo>
                  <a:lnTo>
                    <a:pt x="782" y="1064"/>
                  </a:lnTo>
                  <a:lnTo>
                    <a:pt x="787" y="1064"/>
                  </a:lnTo>
                  <a:lnTo>
                    <a:pt x="792" y="1062"/>
                  </a:lnTo>
                  <a:lnTo>
                    <a:pt x="798" y="1060"/>
                  </a:lnTo>
                  <a:lnTo>
                    <a:pt x="803" y="1059"/>
                  </a:lnTo>
                  <a:lnTo>
                    <a:pt x="809" y="1057"/>
                  </a:lnTo>
                  <a:lnTo>
                    <a:pt x="815" y="1055"/>
                  </a:lnTo>
                  <a:lnTo>
                    <a:pt x="821" y="1052"/>
                  </a:lnTo>
                  <a:lnTo>
                    <a:pt x="842" y="1040"/>
                  </a:lnTo>
                  <a:lnTo>
                    <a:pt x="850" y="1034"/>
                  </a:lnTo>
                  <a:lnTo>
                    <a:pt x="853" y="1033"/>
                  </a:lnTo>
                  <a:lnTo>
                    <a:pt x="856" y="1029"/>
                  </a:lnTo>
                  <a:lnTo>
                    <a:pt x="842" y="1137"/>
                  </a:lnTo>
                  <a:lnTo>
                    <a:pt x="739" y="1208"/>
                  </a:lnTo>
                  <a:lnTo>
                    <a:pt x="729" y="1213"/>
                  </a:lnTo>
                  <a:lnTo>
                    <a:pt x="719" y="1218"/>
                  </a:lnTo>
                  <a:lnTo>
                    <a:pt x="709" y="1222"/>
                  </a:lnTo>
                  <a:lnTo>
                    <a:pt x="698" y="1225"/>
                  </a:lnTo>
                  <a:lnTo>
                    <a:pt x="686" y="1229"/>
                  </a:lnTo>
                  <a:lnTo>
                    <a:pt x="675" y="1230"/>
                  </a:lnTo>
                  <a:lnTo>
                    <a:pt x="662" y="1232"/>
                  </a:lnTo>
                  <a:lnTo>
                    <a:pt x="651" y="1232"/>
                  </a:lnTo>
                  <a:lnTo>
                    <a:pt x="633" y="1230"/>
                  </a:lnTo>
                  <a:lnTo>
                    <a:pt x="617" y="1229"/>
                  </a:lnTo>
                  <a:lnTo>
                    <a:pt x="601" y="1223"/>
                  </a:lnTo>
                  <a:lnTo>
                    <a:pt x="586" y="1215"/>
                  </a:lnTo>
                  <a:lnTo>
                    <a:pt x="572" y="1206"/>
                  </a:lnTo>
                  <a:lnTo>
                    <a:pt x="558" y="1194"/>
                  </a:lnTo>
                  <a:lnTo>
                    <a:pt x="546" y="1180"/>
                  </a:lnTo>
                  <a:lnTo>
                    <a:pt x="534" y="1164"/>
                  </a:lnTo>
                  <a:lnTo>
                    <a:pt x="528" y="1156"/>
                  </a:lnTo>
                  <a:lnTo>
                    <a:pt x="523" y="1147"/>
                  </a:lnTo>
                  <a:lnTo>
                    <a:pt x="519" y="1137"/>
                  </a:lnTo>
                  <a:lnTo>
                    <a:pt x="513" y="1128"/>
                  </a:lnTo>
                  <a:lnTo>
                    <a:pt x="510" y="1118"/>
                  </a:lnTo>
                  <a:lnTo>
                    <a:pt x="506" y="1107"/>
                  </a:lnTo>
                  <a:lnTo>
                    <a:pt x="502" y="1097"/>
                  </a:lnTo>
                  <a:lnTo>
                    <a:pt x="500" y="1085"/>
                  </a:lnTo>
                  <a:lnTo>
                    <a:pt x="497" y="1074"/>
                  </a:lnTo>
                  <a:lnTo>
                    <a:pt x="495" y="1062"/>
                  </a:lnTo>
                  <a:lnTo>
                    <a:pt x="492" y="1050"/>
                  </a:lnTo>
                  <a:lnTo>
                    <a:pt x="491" y="1038"/>
                  </a:lnTo>
                  <a:lnTo>
                    <a:pt x="490" y="1024"/>
                  </a:lnTo>
                  <a:lnTo>
                    <a:pt x="489" y="1012"/>
                  </a:lnTo>
                  <a:lnTo>
                    <a:pt x="488" y="998"/>
                  </a:lnTo>
                  <a:lnTo>
                    <a:pt x="488" y="984"/>
                  </a:lnTo>
                  <a:lnTo>
                    <a:pt x="488" y="955"/>
                  </a:lnTo>
                  <a:lnTo>
                    <a:pt x="489" y="929"/>
                  </a:lnTo>
                  <a:lnTo>
                    <a:pt x="490" y="905"/>
                  </a:lnTo>
                  <a:lnTo>
                    <a:pt x="491" y="885"/>
                  </a:lnTo>
                  <a:lnTo>
                    <a:pt x="492" y="866"/>
                  </a:lnTo>
                  <a:lnTo>
                    <a:pt x="494" y="846"/>
                  </a:lnTo>
                  <a:lnTo>
                    <a:pt x="497" y="821"/>
                  </a:lnTo>
                  <a:lnTo>
                    <a:pt x="500" y="795"/>
                  </a:lnTo>
                  <a:lnTo>
                    <a:pt x="515" y="695"/>
                  </a:lnTo>
                  <a:lnTo>
                    <a:pt x="474" y="695"/>
                  </a:lnTo>
                  <a:lnTo>
                    <a:pt x="459" y="695"/>
                  </a:lnTo>
                  <a:lnTo>
                    <a:pt x="447" y="698"/>
                  </a:lnTo>
                  <a:lnTo>
                    <a:pt x="440" y="698"/>
                  </a:lnTo>
                  <a:lnTo>
                    <a:pt x="435" y="700"/>
                  </a:lnTo>
                  <a:lnTo>
                    <a:pt x="430" y="704"/>
                  </a:lnTo>
                  <a:lnTo>
                    <a:pt x="425" y="705"/>
                  </a:lnTo>
                  <a:lnTo>
                    <a:pt x="421" y="707"/>
                  </a:lnTo>
                  <a:lnTo>
                    <a:pt x="416" y="711"/>
                  </a:lnTo>
                  <a:lnTo>
                    <a:pt x="411" y="716"/>
                  </a:lnTo>
                  <a:lnTo>
                    <a:pt x="406" y="721"/>
                  </a:lnTo>
                  <a:lnTo>
                    <a:pt x="400" y="726"/>
                  </a:lnTo>
                  <a:lnTo>
                    <a:pt x="394" y="733"/>
                  </a:lnTo>
                  <a:lnTo>
                    <a:pt x="382" y="750"/>
                  </a:lnTo>
                  <a:lnTo>
                    <a:pt x="376" y="759"/>
                  </a:lnTo>
                  <a:lnTo>
                    <a:pt x="370" y="769"/>
                  </a:lnTo>
                  <a:lnTo>
                    <a:pt x="364" y="780"/>
                  </a:lnTo>
                  <a:lnTo>
                    <a:pt x="359" y="788"/>
                  </a:lnTo>
                  <a:lnTo>
                    <a:pt x="353" y="799"/>
                  </a:lnTo>
                  <a:lnTo>
                    <a:pt x="348" y="809"/>
                  </a:lnTo>
                  <a:lnTo>
                    <a:pt x="343" y="821"/>
                  </a:lnTo>
                  <a:lnTo>
                    <a:pt x="339" y="832"/>
                  </a:lnTo>
                  <a:lnTo>
                    <a:pt x="330" y="854"/>
                  </a:lnTo>
                  <a:lnTo>
                    <a:pt x="321" y="877"/>
                  </a:lnTo>
                  <a:lnTo>
                    <a:pt x="305" y="922"/>
                  </a:lnTo>
                  <a:lnTo>
                    <a:pt x="271" y="1021"/>
                  </a:lnTo>
                  <a:lnTo>
                    <a:pt x="266" y="1034"/>
                  </a:lnTo>
                  <a:lnTo>
                    <a:pt x="261" y="1050"/>
                  </a:lnTo>
                  <a:lnTo>
                    <a:pt x="251" y="1078"/>
                  </a:lnTo>
                  <a:lnTo>
                    <a:pt x="239" y="1104"/>
                  </a:lnTo>
                  <a:lnTo>
                    <a:pt x="227" y="1128"/>
                  </a:lnTo>
                  <a:lnTo>
                    <a:pt x="220" y="1144"/>
                  </a:lnTo>
                  <a:lnTo>
                    <a:pt x="213" y="1157"/>
                  </a:lnTo>
                  <a:lnTo>
                    <a:pt x="205" y="1170"/>
                  </a:lnTo>
                  <a:lnTo>
                    <a:pt x="199" y="1182"/>
                  </a:lnTo>
                  <a:lnTo>
                    <a:pt x="191" y="1192"/>
                  </a:lnTo>
                  <a:lnTo>
                    <a:pt x="184" y="1199"/>
                  </a:lnTo>
                  <a:lnTo>
                    <a:pt x="177" y="1208"/>
                  </a:lnTo>
                  <a:lnTo>
                    <a:pt x="171" y="1213"/>
                  </a:lnTo>
                  <a:lnTo>
                    <a:pt x="164" y="1218"/>
                  </a:lnTo>
                  <a:lnTo>
                    <a:pt x="156" y="1222"/>
                  </a:lnTo>
                  <a:lnTo>
                    <a:pt x="149" y="1225"/>
                  </a:lnTo>
                  <a:lnTo>
                    <a:pt x="141" y="1229"/>
                  </a:lnTo>
                  <a:lnTo>
                    <a:pt x="133" y="1230"/>
                  </a:lnTo>
                  <a:lnTo>
                    <a:pt x="125" y="1232"/>
                  </a:lnTo>
                  <a:lnTo>
                    <a:pt x="116" y="1234"/>
                  </a:lnTo>
                  <a:lnTo>
                    <a:pt x="106" y="1234"/>
                  </a:lnTo>
                  <a:lnTo>
                    <a:pt x="94" y="1234"/>
                  </a:lnTo>
                  <a:lnTo>
                    <a:pt x="83" y="1230"/>
                  </a:lnTo>
                  <a:lnTo>
                    <a:pt x="72" y="1227"/>
                  </a:lnTo>
                  <a:lnTo>
                    <a:pt x="61" y="1222"/>
                  </a:lnTo>
                  <a:lnTo>
                    <a:pt x="52" y="1215"/>
                  </a:lnTo>
                  <a:lnTo>
                    <a:pt x="48" y="1211"/>
                  </a:lnTo>
                  <a:lnTo>
                    <a:pt x="44" y="1208"/>
                  </a:lnTo>
                  <a:lnTo>
                    <a:pt x="39" y="1203"/>
                  </a:lnTo>
                  <a:lnTo>
                    <a:pt x="35" y="1197"/>
                  </a:lnTo>
                  <a:lnTo>
                    <a:pt x="32" y="1192"/>
                  </a:lnTo>
                  <a:lnTo>
                    <a:pt x="28" y="1187"/>
                  </a:lnTo>
                  <a:lnTo>
                    <a:pt x="25" y="1182"/>
                  </a:lnTo>
                  <a:lnTo>
                    <a:pt x="22" y="1175"/>
                  </a:lnTo>
                  <a:lnTo>
                    <a:pt x="19" y="1170"/>
                  </a:lnTo>
                  <a:lnTo>
                    <a:pt x="16" y="1163"/>
                  </a:lnTo>
                  <a:lnTo>
                    <a:pt x="14" y="1156"/>
                  </a:lnTo>
                  <a:lnTo>
                    <a:pt x="11" y="1149"/>
                  </a:lnTo>
                  <a:lnTo>
                    <a:pt x="9" y="1140"/>
                  </a:lnTo>
                  <a:lnTo>
                    <a:pt x="7" y="1133"/>
                  </a:lnTo>
                  <a:lnTo>
                    <a:pt x="5" y="1125"/>
                  </a:lnTo>
                  <a:lnTo>
                    <a:pt x="5" y="1116"/>
                  </a:lnTo>
                  <a:lnTo>
                    <a:pt x="3" y="1107"/>
                  </a:lnTo>
                  <a:lnTo>
                    <a:pt x="2" y="1099"/>
                  </a:lnTo>
                  <a:lnTo>
                    <a:pt x="1" y="1090"/>
                  </a:lnTo>
                  <a:lnTo>
                    <a:pt x="1" y="1080"/>
                  </a:lnTo>
                  <a:lnTo>
                    <a:pt x="0" y="1060"/>
                  </a:lnTo>
                  <a:lnTo>
                    <a:pt x="1" y="1036"/>
                  </a:lnTo>
                  <a:lnTo>
                    <a:pt x="2" y="1012"/>
                  </a:lnTo>
                  <a:lnTo>
                    <a:pt x="5" y="991"/>
                  </a:lnTo>
                  <a:lnTo>
                    <a:pt x="6" y="979"/>
                  </a:lnTo>
                  <a:lnTo>
                    <a:pt x="8" y="970"/>
                  </a:lnTo>
                  <a:lnTo>
                    <a:pt x="10" y="960"/>
                  </a:lnTo>
                  <a:lnTo>
                    <a:pt x="12" y="950"/>
                  </a:lnTo>
                  <a:lnTo>
                    <a:pt x="15" y="941"/>
                  </a:lnTo>
                  <a:lnTo>
                    <a:pt x="17" y="932"/>
                  </a:lnTo>
                  <a:lnTo>
                    <a:pt x="20" y="924"/>
                  </a:lnTo>
                  <a:lnTo>
                    <a:pt x="23" y="917"/>
                  </a:lnTo>
                  <a:lnTo>
                    <a:pt x="27" y="908"/>
                  </a:lnTo>
                  <a:lnTo>
                    <a:pt x="30" y="901"/>
                  </a:lnTo>
                  <a:lnTo>
                    <a:pt x="38" y="887"/>
                  </a:lnTo>
                  <a:lnTo>
                    <a:pt x="42" y="880"/>
                  </a:lnTo>
                  <a:lnTo>
                    <a:pt x="45" y="875"/>
                  </a:lnTo>
                  <a:lnTo>
                    <a:pt x="50" y="870"/>
                  </a:lnTo>
                  <a:lnTo>
                    <a:pt x="54" y="865"/>
                  </a:lnTo>
                  <a:lnTo>
                    <a:pt x="59" y="861"/>
                  </a:lnTo>
                  <a:lnTo>
                    <a:pt x="63" y="856"/>
                  </a:lnTo>
                  <a:lnTo>
                    <a:pt x="67" y="853"/>
                  </a:lnTo>
                  <a:lnTo>
                    <a:pt x="72" y="851"/>
                  </a:lnTo>
                  <a:lnTo>
                    <a:pt x="82" y="846"/>
                  </a:lnTo>
                  <a:lnTo>
                    <a:pt x="92" y="844"/>
                  </a:lnTo>
                  <a:lnTo>
                    <a:pt x="103" y="842"/>
                  </a:lnTo>
                  <a:lnTo>
                    <a:pt x="110" y="842"/>
                  </a:lnTo>
                  <a:lnTo>
                    <a:pt x="118" y="844"/>
                  </a:lnTo>
                  <a:lnTo>
                    <a:pt x="126" y="847"/>
                  </a:lnTo>
                  <a:lnTo>
                    <a:pt x="133" y="851"/>
                  </a:lnTo>
                  <a:lnTo>
                    <a:pt x="141" y="854"/>
                  </a:lnTo>
                  <a:lnTo>
                    <a:pt x="148" y="860"/>
                  </a:lnTo>
                  <a:lnTo>
                    <a:pt x="155" y="866"/>
                  </a:lnTo>
                  <a:lnTo>
                    <a:pt x="162" y="873"/>
                  </a:lnTo>
                  <a:lnTo>
                    <a:pt x="187" y="903"/>
                  </a:lnTo>
                  <a:lnTo>
                    <a:pt x="198" y="917"/>
                  </a:lnTo>
                  <a:lnTo>
                    <a:pt x="208" y="931"/>
                  </a:lnTo>
                  <a:lnTo>
                    <a:pt x="217" y="899"/>
                  </a:lnTo>
                  <a:lnTo>
                    <a:pt x="227" y="866"/>
                  </a:lnTo>
                  <a:lnTo>
                    <a:pt x="238" y="835"/>
                  </a:lnTo>
                  <a:lnTo>
                    <a:pt x="250" y="802"/>
                  </a:lnTo>
                  <a:lnTo>
                    <a:pt x="257" y="787"/>
                  </a:lnTo>
                  <a:lnTo>
                    <a:pt x="264" y="771"/>
                  </a:lnTo>
                  <a:lnTo>
                    <a:pt x="271" y="757"/>
                  </a:lnTo>
                  <a:lnTo>
                    <a:pt x="279" y="743"/>
                  </a:lnTo>
                  <a:lnTo>
                    <a:pt x="287" y="731"/>
                  </a:lnTo>
                  <a:lnTo>
                    <a:pt x="296" y="719"/>
                  </a:lnTo>
                  <a:lnTo>
                    <a:pt x="305" y="707"/>
                  </a:lnTo>
                  <a:lnTo>
                    <a:pt x="314" y="697"/>
                  </a:lnTo>
                  <a:lnTo>
                    <a:pt x="314" y="686"/>
                  </a:lnTo>
                  <a:lnTo>
                    <a:pt x="293" y="681"/>
                  </a:lnTo>
                  <a:lnTo>
                    <a:pt x="274" y="674"/>
                  </a:lnTo>
                  <a:lnTo>
                    <a:pt x="255" y="665"/>
                  </a:lnTo>
                  <a:lnTo>
                    <a:pt x="237" y="655"/>
                  </a:lnTo>
                  <a:lnTo>
                    <a:pt x="221" y="641"/>
                  </a:lnTo>
                  <a:lnTo>
                    <a:pt x="207" y="624"/>
                  </a:lnTo>
                  <a:lnTo>
                    <a:pt x="193" y="607"/>
                  </a:lnTo>
                  <a:lnTo>
                    <a:pt x="187" y="596"/>
                  </a:lnTo>
                  <a:lnTo>
                    <a:pt x="181" y="586"/>
                  </a:lnTo>
                  <a:lnTo>
                    <a:pt x="170" y="563"/>
                  </a:lnTo>
                  <a:lnTo>
                    <a:pt x="160" y="541"/>
                  </a:lnTo>
                  <a:lnTo>
                    <a:pt x="156" y="529"/>
                  </a:lnTo>
                  <a:lnTo>
                    <a:pt x="152" y="516"/>
                  </a:lnTo>
                  <a:lnTo>
                    <a:pt x="149" y="504"/>
                  </a:lnTo>
                  <a:lnTo>
                    <a:pt x="145" y="492"/>
                  </a:lnTo>
                  <a:lnTo>
                    <a:pt x="143" y="478"/>
                  </a:lnTo>
                  <a:lnTo>
                    <a:pt x="140" y="466"/>
                  </a:lnTo>
                  <a:lnTo>
                    <a:pt x="138" y="452"/>
                  </a:lnTo>
                  <a:lnTo>
                    <a:pt x="137" y="439"/>
                  </a:lnTo>
                  <a:lnTo>
                    <a:pt x="135" y="425"/>
                  </a:lnTo>
                  <a:lnTo>
                    <a:pt x="134" y="409"/>
                  </a:lnTo>
                  <a:lnTo>
                    <a:pt x="133" y="395"/>
                  </a:lnTo>
                  <a:lnTo>
                    <a:pt x="133" y="380"/>
                  </a:lnTo>
                  <a:lnTo>
                    <a:pt x="133" y="357"/>
                  </a:lnTo>
                  <a:lnTo>
                    <a:pt x="135" y="336"/>
                  </a:lnTo>
                  <a:lnTo>
                    <a:pt x="137" y="316"/>
                  </a:lnTo>
                  <a:lnTo>
                    <a:pt x="139" y="295"/>
                  </a:lnTo>
                  <a:lnTo>
                    <a:pt x="143" y="276"/>
                  </a:lnTo>
                  <a:lnTo>
                    <a:pt x="147" y="257"/>
                  </a:lnTo>
                  <a:lnTo>
                    <a:pt x="152" y="238"/>
                  </a:lnTo>
                  <a:lnTo>
                    <a:pt x="158" y="220"/>
                  </a:lnTo>
                  <a:lnTo>
                    <a:pt x="164" y="203"/>
                  </a:lnTo>
                  <a:lnTo>
                    <a:pt x="171" y="187"/>
                  </a:lnTo>
                  <a:lnTo>
                    <a:pt x="179" y="172"/>
                  </a:lnTo>
                  <a:lnTo>
                    <a:pt x="188" y="156"/>
                  </a:lnTo>
                  <a:lnTo>
                    <a:pt x="198" y="141"/>
                  </a:lnTo>
                  <a:lnTo>
                    <a:pt x="208" y="127"/>
                  </a:lnTo>
                  <a:lnTo>
                    <a:pt x="231" y="101"/>
                  </a:lnTo>
                  <a:lnTo>
                    <a:pt x="256" y="76"/>
                  </a:lnTo>
                  <a:lnTo>
                    <a:pt x="285" y="56"/>
                  </a:lnTo>
                  <a:lnTo>
                    <a:pt x="316" y="40"/>
                  </a:lnTo>
                  <a:lnTo>
                    <a:pt x="351" y="24"/>
                  </a:lnTo>
                  <a:lnTo>
                    <a:pt x="389" y="14"/>
                  </a:lnTo>
                  <a:lnTo>
                    <a:pt x="429" y="7"/>
                  </a:lnTo>
                  <a:lnTo>
                    <a:pt x="472" y="2"/>
                  </a:lnTo>
                  <a:lnTo>
                    <a:pt x="519" y="0"/>
                  </a:lnTo>
                  <a:lnTo>
                    <a:pt x="585" y="4"/>
                  </a:lnTo>
                  <a:lnTo>
                    <a:pt x="613" y="9"/>
                  </a:lnTo>
                  <a:lnTo>
                    <a:pt x="640" y="14"/>
                  </a:lnTo>
                  <a:lnTo>
                    <a:pt x="665" y="23"/>
                  </a:lnTo>
                  <a:lnTo>
                    <a:pt x="688" y="33"/>
                  </a:lnTo>
                  <a:lnTo>
                    <a:pt x="707" y="44"/>
                  </a:lnTo>
                  <a:lnTo>
                    <a:pt x="725" y="57"/>
                  </a:lnTo>
                  <a:lnTo>
                    <a:pt x="740" y="73"/>
                  </a:lnTo>
                  <a:lnTo>
                    <a:pt x="754" y="89"/>
                  </a:lnTo>
                  <a:lnTo>
                    <a:pt x="760" y="97"/>
                  </a:lnTo>
                  <a:lnTo>
                    <a:pt x="766" y="106"/>
                  </a:lnTo>
                  <a:lnTo>
                    <a:pt x="770" y="115"/>
                  </a:lnTo>
                  <a:lnTo>
                    <a:pt x="775" y="123"/>
                  </a:lnTo>
                  <a:lnTo>
                    <a:pt x="778" y="134"/>
                  </a:lnTo>
                  <a:lnTo>
                    <a:pt x="782" y="142"/>
                  </a:lnTo>
                  <a:lnTo>
                    <a:pt x="784" y="153"/>
                  </a:lnTo>
                  <a:lnTo>
                    <a:pt x="787" y="163"/>
                  </a:lnTo>
                  <a:lnTo>
                    <a:pt x="789" y="173"/>
                  </a:lnTo>
                  <a:lnTo>
                    <a:pt x="790" y="184"/>
                  </a:lnTo>
                  <a:lnTo>
                    <a:pt x="791" y="194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6040" y="4227480"/>
              <a:ext cx="297000" cy="69840"/>
            </a:xfrm>
            <a:custGeom>
              <a:avLst/>
              <a:gdLst/>
              <a:ahLst/>
              <a:rect l="l" t="t" r="r" b="b"/>
              <a:pathLst>
                <a:path w="825" h="193">
                  <a:moveTo>
                    <a:pt x="800" y="192"/>
                  </a:moveTo>
                  <a:lnTo>
                    <a:pt x="0" y="192"/>
                  </a:lnTo>
                  <a:lnTo>
                    <a:pt x="24" y="0"/>
                  </a:lnTo>
                  <a:lnTo>
                    <a:pt x="824" y="0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38720" y="4071960"/>
              <a:ext cx="241200" cy="450720"/>
            </a:xfrm>
            <a:custGeom>
              <a:avLst/>
              <a:gdLst/>
              <a:ahLst/>
              <a:rect l="l" t="t" r="r" b="b"/>
              <a:pathLst>
                <a:path w="672" h="1251">
                  <a:moveTo>
                    <a:pt x="671" y="274"/>
                  </a:moveTo>
                  <a:lnTo>
                    <a:pt x="671" y="292"/>
                  </a:lnTo>
                  <a:lnTo>
                    <a:pt x="671" y="309"/>
                  </a:lnTo>
                  <a:lnTo>
                    <a:pt x="669" y="324"/>
                  </a:lnTo>
                  <a:lnTo>
                    <a:pt x="668" y="340"/>
                  </a:lnTo>
                  <a:lnTo>
                    <a:pt x="666" y="354"/>
                  </a:lnTo>
                  <a:lnTo>
                    <a:pt x="663" y="369"/>
                  </a:lnTo>
                  <a:lnTo>
                    <a:pt x="660" y="383"/>
                  </a:lnTo>
                  <a:lnTo>
                    <a:pt x="656" y="397"/>
                  </a:lnTo>
                  <a:lnTo>
                    <a:pt x="652" y="409"/>
                  </a:lnTo>
                  <a:lnTo>
                    <a:pt x="647" y="421"/>
                  </a:lnTo>
                  <a:lnTo>
                    <a:pt x="642" y="434"/>
                  </a:lnTo>
                  <a:lnTo>
                    <a:pt x="637" y="446"/>
                  </a:lnTo>
                  <a:lnTo>
                    <a:pt x="631" y="456"/>
                  </a:lnTo>
                  <a:lnTo>
                    <a:pt x="624" y="467"/>
                  </a:lnTo>
                  <a:lnTo>
                    <a:pt x="617" y="477"/>
                  </a:lnTo>
                  <a:lnTo>
                    <a:pt x="610" y="486"/>
                  </a:lnTo>
                  <a:lnTo>
                    <a:pt x="604" y="494"/>
                  </a:lnTo>
                  <a:lnTo>
                    <a:pt x="597" y="501"/>
                  </a:lnTo>
                  <a:lnTo>
                    <a:pt x="589" y="508"/>
                  </a:lnTo>
                  <a:lnTo>
                    <a:pt x="582" y="517"/>
                  </a:lnTo>
                  <a:lnTo>
                    <a:pt x="566" y="529"/>
                  </a:lnTo>
                  <a:lnTo>
                    <a:pt x="548" y="541"/>
                  </a:lnTo>
                  <a:lnTo>
                    <a:pt x="529" y="551"/>
                  </a:lnTo>
                  <a:lnTo>
                    <a:pt x="509" y="562"/>
                  </a:lnTo>
                  <a:lnTo>
                    <a:pt x="489" y="570"/>
                  </a:lnTo>
                  <a:lnTo>
                    <a:pt x="467" y="577"/>
                  </a:lnTo>
                  <a:lnTo>
                    <a:pt x="465" y="595"/>
                  </a:lnTo>
                  <a:lnTo>
                    <a:pt x="483" y="596"/>
                  </a:lnTo>
                  <a:lnTo>
                    <a:pt x="500" y="602"/>
                  </a:lnTo>
                  <a:lnTo>
                    <a:pt x="518" y="607"/>
                  </a:lnTo>
                  <a:lnTo>
                    <a:pt x="535" y="614"/>
                  </a:lnTo>
                  <a:lnTo>
                    <a:pt x="544" y="617"/>
                  </a:lnTo>
                  <a:lnTo>
                    <a:pt x="552" y="622"/>
                  </a:lnTo>
                  <a:lnTo>
                    <a:pt x="560" y="628"/>
                  </a:lnTo>
                  <a:lnTo>
                    <a:pt x="567" y="633"/>
                  </a:lnTo>
                  <a:lnTo>
                    <a:pt x="574" y="640"/>
                  </a:lnTo>
                  <a:lnTo>
                    <a:pt x="582" y="645"/>
                  </a:lnTo>
                  <a:lnTo>
                    <a:pt x="595" y="659"/>
                  </a:lnTo>
                  <a:lnTo>
                    <a:pt x="601" y="667"/>
                  </a:lnTo>
                  <a:lnTo>
                    <a:pt x="607" y="674"/>
                  </a:lnTo>
                  <a:lnTo>
                    <a:pt x="613" y="683"/>
                  </a:lnTo>
                  <a:lnTo>
                    <a:pt x="619" y="693"/>
                  </a:lnTo>
                  <a:lnTo>
                    <a:pt x="624" y="702"/>
                  </a:lnTo>
                  <a:lnTo>
                    <a:pt x="629" y="713"/>
                  </a:lnTo>
                  <a:lnTo>
                    <a:pt x="633" y="723"/>
                  </a:lnTo>
                  <a:lnTo>
                    <a:pt x="638" y="735"/>
                  </a:lnTo>
                  <a:lnTo>
                    <a:pt x="642" y="747"/>
                  </a:lnTo>
                  <a:lnTo>
                    <a:pt x="644" y="761"/>
                  </a:lnTo>
                  <a:lnTo>
                    <a:pt x="648" y="773"/>
                  </a:lnTo>
                  <a:lnTo>
                    <a:pt x="649" y="787"/>
                  </a:lnTo>
                  <a:lnTo>
                    <a:pt x="651" y="801"/>
                  </a:lnTo>
                  <a:lnTo>
                    <a:pt x="653" y="816"/>
                  </a:lnTo>
                  <a:lnTo>
                    <a:pt x="654" y="830"/>
                  </a:lnTo>
                  <a:lnTo>
                    <a:pt x="654" y="846"/>
                  </a:lnTo>
                  <a:lnTo>
                    <a:pt x="653" y="870"/>
                  </a:lnTo>
                  <a:lnTo>
                    <a:pt x="652" y="894"/>
                  </a:lnTo>
                  <a:lnTo>
                    <a:pt x="649" y="917"/>
                  </a:lnTo>
                  <a:lnTo>
                    <a:pt x="645" y="939"/>
                  </a:lnTo>
                  <a:lnTo>
                    <a:pt x="641" y="960"/>
                  </a:lnTo>
                  <a:lnTo>
                    <a:pt x="635" y="981"/>
                  </a:lnTo>
                  <a:lnTo>
                    <a:pt x="629" y="1002"/>
                  </a:lnTo>
                  <a:lnTo>
                    <a:pt x="622" y="1021"/>
                  </a:lnTo>
                  <a:lnTo>
                    <a:pt x="613" y="1040"/>
                  </a:lnTo>
                  <a:lnTo>
                    <a:pt x="604" y="1057"/>
                  </a:lnTo>
                  <a:lnTo>
                    <a:pt x="594" y="1075"/>
                  </a:lnTo>
                  <a:lnTo>
                    <a:pt x="583" y="1090"/>
                  </a:lnTo>
                  <a:lnTo>
                    <a:pt x="571" y="1106"/>
                  </a:lnTo>
                  <a:lnTo>
                    <a:pt x="558" y="1121"/>
                  </a:lnTo>
                  <a:lnTo>
                    <a:pt x="544" y="1135"/>
                  </a:lnTo>
                  <a:lnTo>
                    <a:pt x="531" y="1149"/>
                  </a:lnTo>
                  <a:lnTo>
                    <a:pt x="500" y="1173"/>
                  </a:lnTo>
                  <a:lnTo>
                    <a:pt x="469" y="1194"/>
                  </a:lnTo>
                  <a:lnTo>
                    <a:pt x="438" y="1211"/>
                  </a:lnTo>
                  <a:lnTo>
                    <a:pt x="405" y="1225"/>
                  </a:lnTo>
                  <a:lnTo>
                    <a:pt x="371" y="1236"/>
                  </a:lnTo>
                  <a:lnTo>
                    <a:pt x="335" y="1243"/>
                  </a:lnTo>
                  <a:lnTo>
                    <a:pt x="296" y="1248"/>
                  </a:lnTo>
                  <a:lnTo>
                    <a:pt x="257" y="1250"/>
                  </a:lnTo>
                  <a:lnTo>
                    <a:pt x="229" y="1248"/>
                  </a:lnTo>
                  <a:lnTo>
                    <a:pt x="202" y="1244"/>
                  </a:lnTo>
                  <a:lnTo>
                    <a:pt x="176" y="1239"/>
                  </a:lnTo>
                  <a:lnTo>
                    <a:pt x="152" y="1232"/>
                  </a:lnTo>
                  <a:lnTo>
                    <a:pt x="130" y="1222"/>
                  </a:lnTo>
                  <a:lnTo>
                    <a:pt x="108" y="1208"/>
                  </a:lnTo>
                  <a:lnTo>
                    <a:pt x="89" y="1194"/>
                  </a:lnTo>
                  <a:lnTo>
                    <a:pt x="70" y="1177"/>
                  </a:lnTo>
                  <a:lnTo>
                    <a:pt x="62" y="1168"/>
                  </a:lnTo>
                  <a:lnTo>
                    <a:pt x="54" y="1158"/>
                  </a:lnTo>
                  <a:lnTo>
                    <a:pt x="47" y="1147"/>
                  </a:lnTo>
                  <a:lnTo>
                    <a:pt x="40" y="1137"/>
                  </a:lnTo>
                  <a:lnTo>
                    <a:pt x="33" y="1125"/>
                  </a:lnTo>
                  <a:lnTo>
                    <a:pt x="28" y="1113"/>
                  </a:lnTo>
                  <a:lnTo>
                    <a:pt x="22" y="1101"/>
                  </a:lnTo>
                  <a:lnTo>
                    <a:pt x="18" y="1087"/>
                  </a:lnTo>
                  <a:lnTo>
                    <a:pt x="14" y="1073"/>
                  </a:lnTo>
                  <a:lnTo>
                    <a:pt x="10" y="1059"/>
                  </a:lnTo>
                  <a:lnTo>
                    <a:pt x="7" y="1045"/>
                  </a:lnTo>
                  <a:lnTo>
                    <a:pt x="4" y="1030"/>
                  </a:lnTo>
                  <a:lnTo>
                    <a:pt x="3" y="1014"/>
                  </a:lnTo>
                  <a:lnTo>
                    <a:pt x="1" y="998"/>
                  </a:lnTo>
                  <a:lnTo>
                    <a:pt x="0" y="981"/>
                  </a:lnTo>
                  <a:lnTo>
                    <a:pt x="0" y="964"/>
                  </a:lnTo>
                  <a:lnTo>
                    <a:pt x="1" y="945"/>
                  </a:lnTo>
                  <a:lnTo>
                    <a:pt x="1" y="936"/>
                  </a:lnTo>
                  <a:lnTo>
                    <a:pt x="2" y="926"/>
                  </a:lnTo>
                  <a:lnTo>
                    <a:pt x="3" y="917"/>
                  </a:lnTo>
                  <a:lnTo>
                    <a:pt x="4" y="908"/>
                  </a:lnTo>
                  <a:lnTo>
                    <a:pt x="5" y="900"/>
                  </a:lnTo>
                  <a:lnTo>
                    <a:pt x="7" y="891"/>
                  </a:lnTo>
                  <a:lnTo>
                    <a:pt x="9" y="882"/>
                  </a:lnTo>
                  <a:lnTo>
                    <a:pt x="11" y="875"/>
                  </a:lnTo>
                  <a:lnTo>
                    <a:pt x="14" y="867"/>
                  </a:lnTo>
                  <a:lnTo>
                    <a:pt x="16" y="860"/>
                  </a:lnTo>
                  <a:lnTo>
                    <a:pt x="19" y="851"/>
                  </a:lnTo>
                  <a:lnTo>
                    <a:pt x="22" y="844"/>
                  </a:lnTo>
                  <a:lnTo>
                    <a:pt x="29" y="830"/>
                  </a:lnTo>
                  <a:lnTo>
                    <a:pt x="37" y="818"/>
                  </a:lnTo>
                  <a:lnTo>
                    <a:pt x="44" y="806"/>
                  </a:lnTo>
                  <a:lnTo>
                    <a:pt x="53" y="797"/>
                  </a:lnTo>
                  <a:lnTo>
                    <a:pt x="62" y="789"/>
                  </a:lnTo>
                  <a:lnTo>
                    <a:pt x="71" y="784"/>
                  </a:lnTo>
                  <a:lnTo>
                    <a:pt x="81" y="778"/>
                  </a:lnTo>
                  <a:lnTo>
                    <a:pt x="92" y="777"/>
                  </a:lnTo>
                  <a:lnTo>
                    <a:pt x="103" y="775"/>
                  </a:lnTo>
                  <a:lnTo>
                    <a:pt x="115" y="775"/>
                  </a:lnTo>
                  <a:lnTo>
                    <a:pt x="126" y="778"/>
                  </a:lnTo>
                  <a:lnTo>
                    <a:pt x="137" y="782"/>
                  </a:lnTo>
                  <a:lnTo>
                    <a:pt x="147" y="787"/>
                  </a:lnTo>
                  <a:lnTo>
                    <a:pt x="156" y="792"/>
                  </a:lnTo>
                  <a:lnTo>
                    <a:pt x="160" y="796"/>
                  </a:lnTo>
                  <a:lnTo>
                    <a:pt x="164" y="801"/>
                  </a:lnTo>
                  <a:lnTo>
                    <a:pt x="169" y="804"/>
                  </a:lnTo>
                  <a:lnTo>
                    <a:pt x="172" y="810"/>
                  </a:lnTo>
                  <a:lnTo>
                    <a:pt x="175" y="815"/>
                  </a:lnTo>
                  <a:lnTo>
                    <a:pt x="179" y="820"/>
                  </a:lnTo>
                  <a:lnTo>
                    <a:pt x="182" y="825"/>
                  </a:lnTo>
                  <a:lnTo>
                    <a:pt x="185" y="832"/>
                  </a:lnTo>
                  <a:lnTo>
                    <a:pt x="188" y="839"/>
                  </a:lnTo>
                  <a:lnTo>
                    <a:pt x="191" y="844"/>
                  </a:lnTo>
                  <a:lnTo>
                    <a:pt x="192" y="851"/>
                  </a:lnTo>
                  <a:lnTo>
                    <a:pt x="195" y="858"/>
                  </a:lnTo>
                  <a:lnTo>
                    <a:pt x="197" y="867"/>
                  </a:lnTo>
                  <a:lnTo>
                    <a:pt x="198" y="874"/>
                  </a:lnTo>
                  <a:lnTo>
                    <a:pt x="200" y="881"/>
                  </a:lnTo>
                  <a:lnTo>
                    <a:pt x="202" y="889"/>
                  </a:lnTo>
                  <a:lnTo>
                    <a:pt x="202" y="898"/>
                  </a:lnTo>
                  <a:lnTo>
                    <a:pt x="203" y="907"/>
                  </a:lnTo>
                  <a:lnTo>
                    <a:pt x="205" y="924"/>
                  </a:lnTo>
                  <a:lnTo>
                    <a:pt x="205" y="943"/>
                  </a:lnTo>
                  <a:lnTo>
                    <a:pt x="205" y="955"/>
                  </a:lnTo>
                  <a:lnTo>
                    <a:pt x="204" y="967"/>
                  </a:lnTo>
                  <a:lnTo>
                    <a:pt x="202" y="979"/>
                  </a:lnTo>
                  <a:lnTo>
                    <a:pt x="201" y="991"/>
                  </a:lnTo>
                  <a:lnTo>
                    <a:pt x="199" y="1004"/>
                  </a:lnTo>
                  <a:lnTo>
                    <a:pt x="196" y="1016"/>
                  </a:lnTo>
                  <a:lnTo>
                    <a:pt x="193" y="1028"/>
                  </a:lnTo>
                  <a:lnTo>
                    <a:pt x="189" y="1040"/>
                  </a:lnTo>
                  <a:lnTo>
                    <a:pt x="181" y="1062"/>
                  </a:lnTo>
                  <a:lnTo>
                    <a:pt x="174" y="1080"/>
                  </a:lnTo>
                  <a:lnTo>
                    <a:pt x="171" y="1087"/>
                  </a:lnTo>
                  <a:lnTo>
                    <a:pt x="168" y="1094"/>
                  </a:lnTo>
                  <a:lnTo>
                    <a:pt x="164" y="1099"/>
                  </a:lnTo>
                  <a:lnTo>
                    <a:pt x="163" y="1102"/>
                  </a:lnTo>
                  <a:lnTo>
                    <a:pt x="162" y="1104"/>
                  </a:lnTo>
                  <a:lnTo>
                    <a:pt x="169" y="1113"/>
                  </a:lnTo>
                  <a:lnTo>
                    <a:pt x="172" y="1118"/>
                  </a:lnTo>
                  <a:lnTo>
                    <a:pt x="176" y="1121"/>
                  </a:lnTo>
                  <a:lnTo>
                    <a:pt x="180" y="1127"/>
                  </a:lnTo>
                  <a:lnTo>
                    <a:pt x="184" y="1130"/>
                  </a:lnTo>
                  <a:lnTo>
                    <a:pt x="189" y="1133"/>
                  </a:lnTo>
                  <a:lnTo>
                    <a:pt x="193" y="1137"/>
                  </a:lnTo>
                  <a:lnTo>
                    <a:pt x="198" y="1140"/>
                  </a:lnTo>
                  <a:lnTo>
                    <a:pt x="204" y="1144"/>
                  </a:lnTo>
                  <a:lnTo>
                    <a:pt x="210" y="1146"/>
                  </a:lnTo>
                  <a:lnTo>
                    <a:pt x="216" y="1149"/>
                  </a:lnTo>
                  <a:lnTo>
                    <a:pt x="223" y="1151"/>
                  </a:lnTo>
                  <a:lnTo>
                    <a:pt x="230" y="1151"/>
                  </a:lnTo>
                  <a:lnTo>
                    <a:pt x="237" y="1153"/>
                  </a:lnTo>
                  <a:lnTo>
                    <a:pt x="245" y="1153"/>
                  </a:lnTo>
                  <a:lnTo>
                    <a:pt x="263" y="1151"/>
                  </a:lnTo>
                  <a:lnTo>
                    <a:pt x="279" y="1147"/>
                  </a:lnTo>
                  <a:lnTo>
                    <a:pt x="296" y="1139"/>
                  </a:lnTo>
                  <a:lnTo>
                    <a:pt x="312" y="1130"/>
                  </a:lnTo>
                  <a:lnTo>
                    <a:pt x="328" y="1116"/>
                  </a:lnTo>
                  <a:lnTo>
                    <a:pt x="342" y="1101"/>
                  </a:lnTo>
                  <a:lnTo>
                    <a:pt x="357" y="1082"/>
                  </a:lnTo>
                  <a:lnTo>
                    <a:pt x="370" y="1059"/>
                  </a:lnTo>
                  <a:lnTo>
                    <a:pt x="382" y="1035"/>
                  </a:lnTo>
                  <a:lnTo>
                    <a:pt x="388" y="1023"/>
                  </a:lnTo>
                  <a:lnTo>
                    <a:pt x="393" y="1009"/>
                  </a:lnTo>
                  <a:lnTo>
                    <a:pt x="398" y="995"/>
                  </a:lnTo>
                  <a:lnTo>
                    <a:pt x="402" y="981"/>
                  </a:lnTo>
                  <a:lnTo>
                    <a:pt x="406" y="967"/>
                  </a:lnTo>
                  <a:lnTo>
                    <a:pt x="409" y="953"/>
                  </a:lnTo>
                  <a:lnTo>
                    <a:pt x="412" y="938"/>
                  </a:lnTo>
                  <a:lnTo>
                    <a:pt x="415" y="922"/>
                  </a:lnTo>
                  <a:lnTo>
                    <a:pt x="417" y="907"/>
                  </a:lnTo>
                  <a:lnTo>
                    <a:pt x="419" y="889"/>
                  </a:lnTo>
                  <a:lnTo>
                    <a:pt x="421" y="872"/>
                  </a:lnTo>
                  <a:lnTo>
                    <a:pt x="422" y="856"/>
                  </a:lnTo>
                  <a:lnTo>
                    <a:pt x="423" y="820"/>
                  </a:lnTo>
                  <a:lnTo>
                    <a:pt x="423" y="803"/>
                  </a:lnTo>
                  <a:lnTo>
                    <a:pt x="421" y="787"/>
                  </a:lnTo>
                  <a:lnTo>
                    <a:pt x="419" y="771"/>
                  </a:lnTo>
                  <a:lnTo>
                    <a:pt x="417" y="758"/>
                  </a:lnTo>
                  <a:lnTo>
                    <a:pt x="414" y="742"/>
                  </a:lnTo>
                  <a:lnTo>
                    <a:pt x="410" y="728"/>
                  </a:lnTo>
                  <a:lnTo>
                    <a:pt x="406" y="716"/>
                  </a:lnTo>
                  <a:lnTo>
                    <a:pt x="401" y="702"/>
                  </a:lnTo>
                  <a:lnTo>
                    <a:pt x="398" y="697"/>
                  </a:lnTo>
                  <a:lnTo>
                    <a:pt x="395" y="690"/>
                  </a:lnTo>
                  <a:lnTo>
                    <a:pt x="391" y="685"/>
                  </a:lnTo>
                  <a:lnTo>
                    <a:pt x="388" y="680"/>
                  </a:lnTo>
                  <a:lnTo>
                    <a:pt x="384" y="676"/>
                  </a:lnTo>
                  <a:lnTo>
                    <a:pt x="380" y="671"/>
                  </a:lnTo>
                  <a:lnTo>
                    <a:pt x="376" y="667"/>
                  </a:lnTo>
                  <a:lnTo>
                    <a:pt x="372" y="664"/>
                  </a:lnTo>
                  <a:lnTo>
                    <a:pt x="362" y="659"/>
                  </a:lnTo>
                  <a:lnTo>
                    <a:pt x="353" y="655"/>
                  </a:lnTo>
                  <a:lnTo>
                    <a:pt x="342" y="652"/>
                  </a:lnTo>
                  <a:lnTo>
                    <a:pt x="331" y="652"/>
                  </a:lnTo>
                  <a:lnTo>
                    <a:pt x="245" y="652"/>
                  </a:lnTo>
                  <a:lnTo>
                    <a:pt x="260" y="531"/>
                  </a:lnTo>
                  <a:lnTo>
                    <a:pt x="327" y="531"/>
                  </a:lnTo>
                  <a:lnTo>
                    <a:pt x="340" y="529"/>
                  </a:lnTo>
                  <a:lnTo>
                    <a:pt x="353" y="527"/>
                  </a:lnTo>
                  <a:lnTo>
                    <a:pt x="365" y="522"/>
                  </a:lnTo>
                  <a:lnTo>
                    <a:pt x="376" y="515"/>
                  </a:lnTo>
                  <a:lnTo>
                    <a:pt x="381" y="512"/>
                  </a:lnTo>
                  <a:lnTo>
                    <a:pt x="386" y="506"/>
                  </a:lnTo>
                  <a:lnTo>
                    <a:pt x="391" y="501"/>
                  </a:lnTo>
                  <a:lnTo>
                    <a:pt x="396" y="496"/>
                  </a:lnTo>
                  <a:lnTo>
                    <a:pt x="401" y="489"/>
                  </a:lnTo>
                  <a:lnTo>
                    <a:pt x="405" y="482"/>
                  </a:lnTo>
                  <a:lnTo>
                    <a:pt x="409" y="475"/>
                  </a:lnTo>
                  <a:lnTo>
                    <a:pt x="413" y="468"/>
                  </a:lnTo>
                  <a:lnTo>
                    <a:pt x="417" y="461"/>
                  </a:lnTo>
                  <a:lnTo>
                    <a:pt x="421" y="453"/>
                  </a:lnTo>
                  <a:lnTo>
                    <a:pt x="424" y="444"/>
                  </a:lnTo>
                  <a:lnTo>
                    <a:pt x="427" y="435"/>
                  </a:lnTo>
                  <a:lnTo>
                    <a:pt x="430" y="427"/>
                  </a:lnTo>
                  <a:lnTo>
                    <a:pt x="433" y="416"/>
                  </a:lnTo>
                  <a:lnTo>
                    <a:pt x="434" y="406"/>
                  </a:lnTo>
                  <a:lnTo>
                    <a:pt x="437" y="395"/>
                  </a:lnTo>
                  <a:lnTo>
                    <a:pt x="439" y="385"/>
                  </a:lnTo>
                  <a:lnTo>
                    <a:pt x="440" y="373"/>
                  </a:lnTo>
                  <a:lnTo>
                    <a:pt x="443" y="349"/>
                  </a:lnTo>
                  <a:lnTo>
                    <a:pt x="444" y="324"/>
                  </a:lnTo>
                  <a:lnTo>
                    <a:pt x="445" y="297"/>
                  </a:lnTo>
                  <a:lnTo>
                    <a:pt x="445" y="288"/>
                  </a:lnTo>
                  <a:lnTo>
                    <a:pt x="445" y="281"/>
                  </a:lnTo>
                  <a:lnTo>
                    <a:pt x="444" y="272"/>
                  </a:lnTo>
                  <a:lnTo>
                    <a:pt x="443" y="266"/>
                  </a:lnTo>
                  <a:lnTo>
                    <a:pt x="442" y="259"/>
                  </a:lnTo>
                  <a:lnTo>
                    <a:pt x="441" y="252"/>
                  </a:lnTo>
                  <a:lnTo>
                    <a:pt x="439" y="245"/>
                  </a:lnTo>
                  <a:lnTo>
                    <a:pt x="438" y="238"/>
                  </a:lnTo>
                  <a:lnTo>
                    <a:pt x="436" y="233"/>
                  </a:lnTo>
                  <a:lnTo>
                    <a:pt x="434" y="226"/>
                  </a:lnTo>
                  <a:lnTo>
                    <a:pt x="432" y="221"/>
                  </a:lnTo>
                  <a:lnTo>
                    <a:pt x="430" y="214"/>
                  </a:lnTo>
                  <a:lnTo>
                    <a:pt x="428" y="208"/>
                  </a:lnTo>
                  <a:lnTo>
                    <a:pt x="424" y="203"/>
                  </a:lnTo>
                  <a:lnTo>
                    <a:pt x="422" y="198"/>
                  </a:lnTo>
                  <a:lnTo>
                    <a:pt x="418" y="193"/>
                  </a:lnTo>
                  <a:lnTo>
                    <a:pt x="412" y="184"/>
                  </a:lnTo>
                  <a:lnTo>
                    <a:pt x="404" y="175"/>
                  </a:lnTo>
                  <a:lnTo>
                    <a:pt x="395" y="169"/>
                  </a:lnTo>
                  <a:lnTo>
                    <a:pt x="387" y="163"/>
                  </a:lnTo>
                  <a:lnTo>
                    <a:pt x="379" y="158"/>
                  </a:lnTo>
                  <a:lnTo>
                    <a:pt x="368" y="155"/>
                  </a:lnTo>
                  <a:lnTo>
                    <a:pt x="358" y="153"/>
                  </a:lnTo>
                  <a:lnTo>
                    <a:pt x="348" y="153"/>
                  </a:lnTo>
                  <a:lnTo>
                    <a:pt x="335" y="155"/>
                  </a:lnTo>
                  <a:lnTo>
                    <a:pt x="320" y="156"/>
                  </a:lnTo>
                  <a:lnTo>
                    <a:pt x="307" y="162"/>
                  </a:lnTo>
                  <a:lnTo>
                    <a:pt x="292" y="167"/>
                  </a:lnTo>
                  <a:lnTo>
                    <a:pt x="279" y="175"/>
                  </a:lnTo>
                  <a:lnTo>
                    <a:pt x="264" y="186"/>
                  </a:lnTo>
                  <a:lnTo>
                    <a:pt x="251" y="196"/>
                  </a:lnTo>
                  <a:lnTo>
                    <a:pt x="237" y="210"/>
                  </a:lnTo>
                  <a:lnTo>
                    <a:pt x="224" y="226"/>
                  </a:lnTo>
                  <a:lnTo>
                    <a:pt x="210" y="243"/>
                  </a:lnTo>
                  <a:lnTo>
                    <a:pt x="197" y="260"/>
                  </a:lnTo>
                  <a:lnTo>
                    <a:pt x="183" y="281"/>
                  </a:lnTo>
                  <a:lnTo>
                    <a:pt x="169" y="302"/>
                  </a:lnTo>
                  <a:lnTo>
                    <a:pt x="157" y="324"/>
                  </a:lnTo>
                  <a:lnTo>
                    <a:pt x="143" y="347"/>
                  </a:lnTo>
                  <a:lnTo>
                    <a:pt x="130" y="373"/>
                  </a:lnTo>
                  <a:lnTo>
                    <a:pt x="84" y="300"/>
                  </a:lnTo>
                  <a:lnTo>
                    <a:pt x="98" y="266"/>
                  </a:lnTo>
                  <a:lnTo>
                    <a:pt x="114" y="233"/>
                  </a:lnTo>
                  <a:lnTo>
                    <a:pt x="130" y="201"/>
                  </a:lnTo>
                  <a:lnTo>
                    <a:pt x="148" y="174"/>
                  </a:lnTo>
                  <a:lnTo>
                    <a:pt x="166" y="146"/>
                  </a:lnTo>
                  <a:lnTo>
                    <a:pt x="185" y="122"/>
                  </a:lnTo>
                  <a:lnTo>
                    <a:pt x="205" y="99"/>
                  </a:lnTo>
                  <a:lnTo>
                    <a:pt x="225" y="78"/>
                  </a:lnTo>
                  <a:lnTo>
                    <a:pt x="246" y="59"/>
                  </a:lnTo>
                  <a:lnTo>
                    <a:pt x="268" y="44"/>
                  </a:lnTo>
                  <a:lnTo>
                    <a:pt x="291" y="32"/>
                  </a:lnTo>
                  <a:lnTo>
                    <a:pt x="314" y="20"/>
                  </a:lnTo>
                  <a:lnTo>
                    <a:pt x="338" y="11"/>
                  </a:lnTo>
                  <a:lnTo>
                    <a:pt x="362" y="6"/>
                  </a:lnTo>
                  <a:lnTo>
                    <a:pt x="386" y="2"/>
                  </a:lnTo>
                  <a:lnTo>
                    <a:pt x="412" y="0"/>
                  </a:lnTo>
                  <a:lnTo>
                    <a:pt x="443" y="2"/>
                  </a:lnTo>
                  <a:lnTo>
                    <a:pt x="472" y="6"/>
                  </a:lnTo>
                  <a:lnTo>
                    <a:pt x="499" y="11"/>
                  </a:lnTo>
                  <a:lnTo>
                    <a:pt x="524" y="18"/>
                  </a:lnTo>
                  <a:lnTo>
                    <a:pt x="547" y="28"/>
                  </a:lnTo>
                  <a:lnTo>
                    <a:pt x="568" y="40"/>
                  </a:lnTo>
                  <a:lnTo>
                    <a:pt x="588" y="54"/>
                  </a:lnTo>
                  <a:lnTo>
                    <a:pt x="605" y="72"/>
                  </a:lnTo>
                  <a:lnTo>
                    <a:pt x="613" y="80"/>
                  </a:lnTo>
                  <a:lnTo>
                    <a:pt x="621" y="91"/>
                  </a:lnTo>
                  <a:lnTo>
                    <a:pt x="628" y="99"/>
                  </a:lnTo>
                  <a:lnTo>
                    <a:pt x="634" y="111"/>
                  </a:lnTo>
                  <a:lnTo>
                    <a:pt x="640" y="122"/>
                  </a:lnTo>
                  <a:lnTo>
                    <a:pt x="646" y="132"/>
                  </a:lnTo>
                  <a:lnTo>
                    <a:pt x="650" y="144"/>
                  </a:lnTo>
                  <a:lnTo>
                    <a:pt x="655" y="158"/>
                  </a:lnTo>
                  <a:lnTo>
                    <a:pt x="659" y="170"/>
                  </a:lnTo>
                  <a:lnTo>
                    <a:pt x="662" y="184"/>
                  </a:lnTo>
                  <a:lnTo>
                    <a:pt x="665" y="198"/>
                  </a:lnTo>
                  <a:lnTo>
                    <a:pt x="667" y="212"/>
                  </a:lnTo>
                  <a:lnTo>
                    <a:pt x="669" y="227"/>
                  </a:lnTo>
                  <a:lnTo>
                    <a:pt x="671" y="241"/>
                  </a:lnTo>
                  <a:lnTo>
                    <a:pt x="671" y="25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84600" y="407196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9">
                  <a:moveTo>
                    <a:pt x="452" y="1062"/>
                  </a:moveTo>
                  <a:lnTo>
                    <a:pt x="446" y="1062"/>
                  </a:lnTo>
                  <a:lnTo>
                    <a:pt x="435" y="1080"/>
                  </a:lnTo>
                  <a:lnTo>
                    <a:pt x="425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80" y="1157"/>
                  </a:lnTo>
                  <a:lnTo>
                    <a:pt x="366" y="1173"/>
                  </a:lnTo>
                  <a:lnTo>
                    <a:pt x="352" y="1187"/>
                  </a:lnTo>
                  <a:lnTo>
                    <a:pt x="337" y="1199"/>
                  </a:lnTo>
                  <a:lnTo>
                    <a:pt x="324" y="1211"/>
                  </a:lnTo>
                  <a:lnTo>
                    <a:pt x="309" y="1222"/>
                  </a:lnTo>
                  <a:lnTo>
                    <a:pt x="294" y="1230"/>
                  </a:lnTo>
                  <a:lnTo>
                    <a:pt x="287" y="1234"/>
                  </a:lnTo>
                  <a:lnTo>
                    <a:pt x="279" y="1239"/>
                  </a:lnTo>
                  <a:lnTo>
                    <a:pt x="271" y="1241"/>
                  </a:lnTo>
                  <a:lnTo>
                    <a:pt x="262" y="1244"/>
                  </a:lnTo>
                  <a:lnTo>
                    <a:pt x="254" y="1246"/>
                  </a:lnTo>
                  <a:lnTo>
                    <a:pt x="245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4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8"/>
                  </a:lnTo>
                  <a:lnTo>
                    <a:pt x="108" y="1199"/>
                  </a:lnTo>
                  <a:lnTo>
                    <a:pt x="99" y="1189"/>
                  </a:lnTo>
                  <a:lnTo>
                    <a:pt x="89" y="1178"/>
                  </a:lnTo>
                  <a:lnTo>
                    <a:pt x="81" y="1166"/>
                  </a:lnTo>
                  <a:lnTo>
                    <a:pt x="72" y="1154"/>
                  </a:lnTo>
                  <a:lnTo>
                    <a:pt x="65" y="1140"/>
                  </a:lnTo>
                  <a:lnTo>
                    <a:pt x="57" y="1125"/>
                  </a:lnTo>
                  <a:lnTo>
                    <a:pt x="50" y="1109"/>
                  </a:lnTo>
                  <a:lnTo>
                    <a:pt x="44" y="1093"/>
                  </a:lnTo>
                  <a:lnTo>
                    <a:pt x="38" y="1076"/>
                  </a:lnTo>
                  <a:lnTo>
                    <a:pt x="33" y="1059"/>
                  </a:lnTo>
                  <a:lnTo>
                    <a:pt x="28" y="1040"/>
                  </a:lnTo>
                  <a:lnTo>
                    <a:pt x="22" y="1021"/>
                  </a:lnTo>
                  <a:lnTo>
                    <a:pt x="18" y="1000"/>
                  </a:lnTo>
                  <a:lnTo>
                    <a:pt x="15" y="981"/>
                  </a:lnTo>
                  <a:lnTo>
                    <a:pt x="8" y="937"/>
                  </a:lnTo>
                  <a:lnTo>
                    <a:pt x="4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1"/>
                  </a:lnTo>
                  <a:lnTo>
                    <a:pt x="5" y="671"/>
                  </a:lnTo>
                  <a:lnTo>
                    <a:pt x="9" y="633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20"/>
                  </a:lnTo>
                  <a:lnTo>
                    <a:pt x="33" y="484"/>
                  </a:lnTo>
                  <a:lnTo>
                    <a:pt x="41" y="449"/>
                  </a:lnTo>
                  <a:lnTo>
                    <a:pt x="50" y="414"/>
                  </a:lnTo>
                  <a:lnTo>
                    <a:pt x="60" y="381"/>
                  </a:lnTo>
                  <a:lnTo>
                    <a:pt x="70" y="350"/>
                  </a:lnTo>
                  <a:lnTo>
                    <a:pt x="80" y="319"/>
                  </a:lnTo>
                  <a:lnTo>
                    <a:pt x="92" y="290"/>
                  </a:lnTo>
                  <a:lnTo>
                    <a:pt x="105" y="260"/>
                  </a:lnTo>
                  <a:lnTo>
                    <a:pt x="117" y="232"/>
                  </a:lnTo>
                  <a:lnTo>
                    <a:pt x="131" y="206"/>
                  </a:lnTo>
                  <a:lnTo>
                    <a:pt x="145" y="182"/>
                  </a:lnTo>
                  <a:lnTo>
                    <a:pt x="160" y="158"/>
                  </a:lnTo>
                  <a:lnTo>
                    <a:pt x="176" y="137"/>
                  </a:lnTo>
                  <a:lnTo>
                    <a:pt x="192" y="116"/>
                  </a:lnTo>
                  <a:lnTo>
                    <a:pt x="208" y="97"/>
                  </a:lnTo>
                  <a:lnTo>
                    <a:pt x="225" y="78"/>
                  </a:lnTo>
                  <a:lnTo>
                    <a:pt x="243" y="63"/>
                  </a:lnTo>
                  <a:lnTo>
                    <a:pt x="261" y="49"/>
                  </a:lnTo>
                  <a:lnTo>
                    <a:pt x="279" y="35"/>
                  </a:lnTo>
                  <a:lnTo>
                    <a:pt x="298" y="24"/>
                  </a:lnTo>
                  <a:lnTo>
                    <a:pt x="317" y="16"/>
                  </a:lnTo>
                  <a:lnTo>
                    <a:pt x="336" y="9"/>
                  </a:lnTo>
                  <a:lnTo>
                    <a:pt x="355" y="4"/>
                  </a:lnTo>
                  <a:lnTo>
                    <a:pt x="375" y="2"/>
                  </a:lnTo>
                  <a:lnTo>
                    <a:pt x="395" y="0"/>
                  </a:lnTo>
                  <a:lnTo>
                    <a:pt x="423" y="2"/>
                  </a:lnTo>
                  <a:lnTo>
                    <a:pt x="450" y="7"/>
                  </a:lnTo>
                  <a:lnTo>
                    <a:pt x="462" y="11"/>
                  </a:lnTo>
                  <a:lnTo>
                    <a:pt x="474" y="14"/>
                  </a:lnTo>
                  <a:lnTo>
                    <a:pt x="486" y="19"/>
                  </a:lnTo>
                  <a:lnTo>
                    <a:pt x="497" y="24"/>
                  </a:lnTo>
                  <a:lnTo>
                    <a:pt x="508" y="31"/>
                  </a:lnTo>
                  <a:lnTo>
                    <a:pt x="518" y="38"/>
                  </a:lnTo>
                  <a:lnTo>
                    <a:pt x="527" y="47"/>
                  </a:lnTo>
                  <a:lnTo>
                    <a:pt x="536" y="54"/>
                  </a:lnTo>
                  <a:lnTo>
                    <a:pt x="546" y="64"/>
                  </a:lnTo>
                  <a:lnTo>
                    <a:pt x="553" y="73"/>
                  </a:lnTo>
                  <a:lnTo>
                    <a:pt x="561" y="83"/>
                  </a:lnTo>
                  <a:lnTo>
                    <a:pt x="569" y="94"/>
                  </a:lnTo>
                  <a:lnTo>
                    <a:pt x="768" y="18"/>
                  </a:lnTo>
                  <a:lnTo>
                    <a:pt x="777" y="37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7" y="813"/>
                  </a:lnTo>
                  <a:lnTo>
                    <a:pt x="671" y="863"/>
                  </a:lnTo>
                  <a:lnTo>
                    <a:pt x="668" y="889"/>
                  </a:lnTo>
                  <a:lnTo>
                    <a:pt x="667" y="913"/>
                  </a:lnTo>
                  <a:lnTo>
                    <a:pt x="665" y="932"/>
                  </a:lnTo>
                  <a:lnTo>
                    <a:pt x="665" y="941"/>
                  </a:lnTo>
                  <a:lnTo>
                    <a:pt x="665" y="948"/>
                  </a:lnTo>
                  <a:lnTo>
                    <a:pt x="665" y="963"/>
                  </a:lnTo>
                  <a:lnTo>
                    <a:pt x="666" y="979"/>
                  </a:lnTo>
                  <a:lnTo>
                    <a:pt x="668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2" y="1015"/>
                  </a:lnTo>
                  <a:lnTo>
                    <a:pt x="674" y="1021"/>
                  </a:lnTo>
                  <a:lnTo>
                    <a:pt x="674" y="1026"/>
                  </a:lnTo>
                  <a:lnTo>
                    <a:pt x="676" y="1031"/>
                  </a:lnTo>
                  <a:lnTo>
                    <a:pt x="678" y="1034"/>
                  </a:lnTo>
                  <a:lnTo>
                    <a:pt x="680" y="1038"/>
                  </a:lnTo>
                  <a:lnTo>
                    <a:pt x="682" y="1041"/>
                  </a:lnTo>
                  <a:lnTo>
                    <a:pt x="685" y="1045"/>
                  </a:lnTo>
                  <a:lnTo>
                    <a:pt x="686" y="1048"/>
                  </a:lnTo>
                  <a:lnTo>
                    <a:pt x="689" y="1050"/>
                  </a:lnTo>
                  <a:lnTo>
                    <a:pt x="692" y="1054"/>
                  </a:lnTo>
                  <a:lnTo>
                    <a:pt x="698" y="1057"/>
                  </a:lnTo>
                  <a:lnTo>
                    <a:pt x="705" y="1060"/>
                  </a:lnTo>
                  <a:lnTo>
                    <a:pt x="712" y="1064"/>
                  </a:lnTo>
                  <a:lnTo>
                    <a:pt x="721" y="1066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5" y="1067"/>
                  </a:lnTo>
                  <a:lnTo>
                    <a:pt x="750" y="1066"/>
                  </a:lnTo>
                  <a:lnTo>
                    <a:pt x="755" y="1066"/>
                  </a:lnTo>
                  <a:lnTo>
                    <a:pt x="760" y="1064"/>
                  </a:lnTo>
                  <a:lnTo>
                    <a:pt x="772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3"/>
                  </a:lnTo>
                  <a:lnTo>
                    <a:pt x="806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3" y="1222"/>
                  </a:lnTo>
                  <a:lnTo>
                    <a:pt x="672" y="1225"/>
                  </a:lnTo>
                  <a:lnTo>
                    <a:pt x="661" y="1229"/>
                  </a:lnTo>
                  <a:lnTo>
                    <a:pt x="650" y="1232"/>
                  </a:lnTo>
                  <a:lnTo>
                    <a:pt x="638" y="1234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8" y="1229"/>
                  </a:lnTo>
                  <a:lnTo>
                    <a:pt x="554" y="1223"/>
                  </a:lnTo>
                  <a:lnTo>
                    <a:pt x="541" y="1216"/>
                  </a:lnTo>
                  <a:lnTo>
                    <a:pt x="529" y="1208"/>
                  </a:lnTo>
                  <a:lnTo>
                    <a:pt x="517" y="1199"/>
                  </a:lnTo>
                  <a:lnTo>
                    <a:pt x="507" y="1187"/>
                  </a:lnTo>
                  <a:lnTo>
                    <a:pt x="497" y="1175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3" y="1133"/>
                  </a:lnTo>
                  <a:lnTo>
                    <a:pt x="467" y="1116"/>
                  </a:lnTo>
                  <a:lnTo>
                    <a:pt x="461" y="1099"/>
                  </a:lnTo>
                  <a:lnTo>
                    <a:pt x="456" y="1081"/>
                  </a:lnTo>
                  <a:close/>
                  <a:moveTo>
                    <a:pt x="528" y="305"/>
                  </a:moveTo>
                  <a:lnTo>
                    <a:pt x="528" y="291"/>
                  </a:lnTo>
                  <a:lnTo>
                    <a:pt x="527" y="277"/>
                  </a:lnTo>
                  <a:lnTo>
                    <a:pt x="526" y="262"/>
                  </a:lnTo>
                  <a:lnTo>
                    <a:pt x="524" y="244"/>
                  </a:lnTo>
                  <a:lnTo>
                    <a:pt x="524" y="236"/>
                  </a:lnTo>
                  <a:lnTo>
                    <a:pt x="522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7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1" y="182"/>
                  </a:lnTo>
                  <a:lnTo>
                    <a:pt x="508" y="175"/>
                  </a:lnTo>
                  <a:lnTo>
                    <a:pt x="505" y="168"/>
                  </a:lnTo>
                  <a:lnTo>
                    <a:pt x="502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90" y="144"/>
                  </a:lnTo>
                  <a:lnTo>
                    <a:pt x="485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5" y="127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1" y="120"/>
                  </a:lnTo>
                  <a:lnTo>
                    <a:pt x="434" y="120"/>
                  </a:lnTo>
                  <a:lnTo>
                    <a:pt x="423" y="121"/>
                  </a:lnTo>
                  <a:lnTo>
                    <a:pt x="413" y="123"/>
                  </a:lnTo>
                  <a:lnTo>
                    <a:pt x="403" y="128"/>
                  </a:lnTo>
                  <a:lnTo>
                    <a:pt x="392" y="134"/>
                  </a:lnTo>
                  <a:lnTo>
                    <a:pt x="383" y="142"/>
                  </a:lnTo>
                  <a:lnTo>
                    <a:pt x="374" y="153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7" y="191"/>
                  </a:lnTo>
                  <a:lnTo>
                    <a:pt x="338" y="206"/>
                  </a:lnTo>
                  <a:lnTo>
                    <a:pt x="330" y="224"/>
                  </a:lnTo>
                  <a:lnTo>
                    <a:pt x="321" y="243"/>
                  </a:lnTo>
                  <a:lnTo>
                    <a:pt x="314" y="262"/>
                  </a:lnTo>
                  <a:lnTo>
                    <a:pt x="306" y="283"/>
                  </a:lnTo>
                  <a:lnTo>
                    <a:pt x="298" y="305"/>
                  </a:lnTo>
                  <a:lnTo>
                    <a:pt x="292" y="328"/>
                  </a:lnTo>
                  <a:lnTo>
                    <a:pt x="285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4"/>
                  </a:lnTo>
                  <a:lnTo>
                    <a:pt x="249" y="542"/>
                  </a:lnTo>
                  <a:lnTo>
                    <a:pt x="242" y="605"/>
                  </a:lnTo>
                  <a:lnTo>
                    <a:pt x="238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1"/>
                  </a:lnTo>
                  <a:lnTo>
                    <a:pt x="236" y="877"/>
                  </a:lnTo>
                  <a:lnTo>
                    <a:pt x="238" y="903"/>
                  </a:lnTo>
                  <a:lnTo>
                    <a:pt x="240" y="915"/>
                  </a:lnTo>
                  <a:lnTo>
                    <a:pt x="241" y="927"/>
                  </a:lnTo>
                  <a:lnTo>
                    <a:pt x="243" y="939"/>
                  </a:lnTo>
                  <a:lnTo>
                    <a:pt x="245" y="950"/>
                  </a:lnTo>
                  <a:lnTo>
                    <a:pt x="247" y="960"/>
                  </a:lnTo>
                  <a:lnTo>
                    <a:pt x="249" y="970"/>
                  </a:lnTo>
                  <a:lnTo>
                    <a:pt x="251" y="979"/>
                  </a:lnTo>
                  <a:lnTo>
                    <a:pt x="254" y="988"/>
                  </a:lnTo>
                  <a:lnTo>
                    <a:pt x="257" y="996"/>
                  </a:lnTo>
                  <a:lnTo>
                    <a:pt x="260" y="1007"/>
                  </a:lnTo>
                  <a:lnTo>
                    <a:pt x="264" y="1014"/>
                  </a:lnTo>
                  <a:lnTo>
                    <a:pt x="268" y="1022"/>
                  </a:lnTo>
                  <a:lnTo>
                    <a:pt x="272" y="1028"/>
                  </a:lnTo>
                  <a:lnTo>
                    <a:pt x="276" y="1034"/>
                  </a:lnTo>
                  <a:lnTo>
                    <a:pt x="281" y="1040"/>
                  </a:lnTo>
                  <a:lnTo>
                    <a:pt x="286" y="1045"/>
                  </a:lnTo>
                  <a:lnTo>
                    <a:pt x="291" y="1050"/>
                  </a:lnTo>
                  <a:lnTo>
                    <a:pt x="296" y="1054"/>
                  </a:lnTo>
                  <a:lnTo>
                    <a:pt x="302" y="1057"/>
                  </a:lnTo>
                  <a:lnTo>
                    <a:pt x="308" y="1060"/>
                  </a:lnTo>
                  <a:lnTo>
                    <a:pt x="314" y="1062"/>
                  </a:lnTo>
                  <a:lnTo>
                    <a:pt x="320" y="1064"/>
                  </a:lnTo>
                  <a:lnTo>
                    <a:pt x="328" y="1066"/>
                  </a:lnTo>
                  <a:lnTo>
                    <a:pt x="335" y="1066"/>
                  </a:lnTo>
                  <a:lnTo>
                    <a:pt x="342" y="1066"/>
                  </a:lnTo>
                  <a:lnTo>
                    <a:pt x="350" y="1064"/>
                  </a:lnTo>
                  <a:lnTo>
                    <a:pt x="358" y="1060"/>
                  </a:lnTo>
                  <a:lnTo>
                    <a:pt x="364" y="1057"/>
                  </a:lnTo>
                  <a:lnTo>
                    <a:pt x="372" y="1054"/>
                  </a:lnTo>
                  <a:lnTo>
                    <a:pt x="379" y="1047"/>
                  </a:lnTo>
                  <a:lnTo>
                    <a:pt x="387" y="1041"/>
                  </a:lnTo>
                  <a:lnTo>
                    <a:pt x="393" y="1033"/>
                  </a:lnTo>
                  <a:lnTo>
                    <a:pt x="407" y="1015"/>
                  </a:lnTo>
                  <a:lnTo>
                    <a:pt x="420" y="996"/>
                  </a:lnTo>
                  <a:lnTo>
                    <a:pt x="433" y="976"/>
                  </a:lnTo>
                  <a:lnTo>
                    <a:pt x="440" y="965"/>
                  </a:lnTo>
                  <a:lnTo>
                    <a:pt x="446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4071960"/>
              <a:ext cx="239760" cy="450720"/>
            </a:xfrm>
            <a:custGeom>
              <a:avLst/>
              <a:gdLst/>
              <a:ahLst/>
              <a:rect l="l" t="t" r="r" b="b"/>
              <a:pathLst>
                <a:path w="667" h="1254">
                  <a:moveTo>
                    <a:pt x="666" y="285"/>
                  </a:moveTo>
                  <a:lnTo>
                    <a:pt x="666" y="309"/>
                  </a:lnTo>
                  <a:lnTo>
                    <a:pt x="664" y="333"/>
                  </a:lnTo>
                  <a:lnTo>
                    <a:pt x="663" y="356"/>
                  </a:lnTo>
                  <a:lnTo>
                    <a:pt x="660" y="376"/>
                  </a:lnTo>
                  <a:lnTo>
                    <a:pt x="657" y="397"/>
                  </a:lnTo>
                  <a:lnTo>
                    <a:pt x="653" y="416"/>
                  </a:lnTo>
                  <a:lnTo>
                    <a:pt x="649" y="435"/>
                  </a:lnTo>
                  <a:lnTo>
                    <a:pt x="644" y="453"/>
                  </a:lnTo>
                  <a:lnTo>
                    <a:pt x="638" y="468"/>
                  </a:lnTo>
                  <a:lnTo>
                    <a:pt x="632" y="484"/>
                  </a:lnTo>
                  <a:lnTo>
                    <a:pt x="625" y="498"/>
                  </a:lnTo>
                  <a:lnTo>
                    <a:pt x="618" y="512"/>
                  </a:lnTo>
                  <a:lnTo>
                    <a:pt x="611" y="524"/>
                  </a:lnTo>
                  <a:lnTo>
                    <a:pt x="602" y="536"/>
                  </a:lnTo>
                  <a:lnTo>
                    <a:pt x="594" y="548"/>
                  </a:lnTo>
                  <a:lnTo>
                    <a:pt x="585" y="558"/>
                  </a:lnTo>
                  <a:lnTo>
                    <a:pt x="575" y="567"/>
                  </a:lnTo>
                  <a:lnTo>
                    <a:pt x="566" y="577"/>
                  </a:lnTo>
                  <a:lnTo>
                    <a:pt x="557" y="584"/>
                  </a:lnTo>
                  <a:lnTo>
                    <a:pt x="547" y="593"/>
                  </a:lnTo>
                  <a:lnTo>
                    <a:pt x="526" y="607"/>
                  </a:lnTo>
                  <a:lnTo>
                    <a:pt x="505" y="619"/>
                  </a:lnTo>
                  <a:lnTo>
                    <a:pt x="416" y="661"/>
                  </a:lnTo>
                  <a:lnTo>
                    <a:pt x="383" y="678"/>
                  </a:lnTo>
                  <a:lnTo>
                    <a:pt x="366" y="687"/>
                  </a:lnTo>
                  <a:lnTo>
                    <a:pt x="349" y="697"/>
                  </a:lnTo>
                  <a:lnTo>
                    <a:pt x="333" y="709"/>
                  </a:lnTo>
                  <a:lnTo>
                    <a:pt x="318" y="721"/>
                  </a:lnTo>
                  <a:lnTo>
                    <a:pt x="310" y="726"/>
                  </a:lnTo>
                  <a:lnTo>
                    <a:pt x="304" y="733"/>
                  </a:lnTo>
                  <a:lnTo>
                    <a:pt x="298" y="740"/>
                  </a:lnTo>
                  <a:lnTo>
                    <a:pt x="292" y="747"/>
                  </a:lnTo>
                  <a:lnTo>
                    <a:pt x="286" y="754"/>
                  </a:lnTo>
                  <a:lnTo>
                    <a:pt x="280" y="763"/>
                  </a:lnTo>
                  <a:lnTo>
                    <a:pt x="275" y="771"/>
                  </a:lnTo>
                  <a:lnTo>
                    <a:pt x="270" y="780"/>
                  </a:lnTo>
                  <a:lnTo>
                    <a:pt x="265" y="790"/>
                  </a:lnTo>
                  <a:lnTo>
                    <a:pt x="261" y="801"/>
                  </a:lnTo>
                  <a:lnTo>
                    <a:pt x="257" y="811"/>
                  </a:lnTo>
                  <a:lnTo>
                    <a:pt x="253" y="823"/>
                  </a:lnTo>
                  <a:lnTo>
                    <a:pt x="249" y="836"/>
                  </a:lnTo>
                  <a:lnTo>
                    <a:pt x="247" y="848"/>
                  </a:lnTo>
                  <a:lnTo>
                    <a:pt x="244" y="862"/>
                  </a:lnTo>
                  <a:lnTo>
                    <a:pt x="242" y="875"/>
                  </a:lnTo>
                  <a:lnTo>
                    <a:pt x="240" y="889"/>
                  </a:lnTo>
                  <a:lnTo>
                    <a:pt x="239" y="905"/>
                  </a:lnTo>
                  <a:lnTo>
                    <a:pt x="238" y="920"/>
                  </a:lnTo>
                  <a:lnTo>
                    <a:pt x="238" y="936"/>
                  </a:lnTo>
                  <a:lnTo>
                    <a:pt x="238" y="945"/>
                  </a:lnTo>
                  <a:lnTo>
                    <a:pt x="239" y="953"/>
                  </a:lnTo>
                  <a:lnTo>
                    <a:pt x="239" y="960"/>
                  </a:lnTo>
                  <a:lnTo>
                    <a:pt x="240" y="969"/>
                  </a:lnTo>
                  <a:lnTo>
                    <a:pt x="242" y="976"/>
                  </a:lnTo>
                  <a:lnTo>
                    <a:pt x="243" y="983"/>
                  </a:lnTo>
                  <a:lnTo>
                    <a:pt x="244" y="990"/>
                  </a:lnTo>
                  <a:lnTo>
                    <a:pt x="247" y="997"/>
                  </a:lnTo>
                  <a:lnTo>
                    <a:pt x="249" y="1004"/>
                  </a:lnTo>
                  <a:lnTo>
                    <a:pt x="251" y="1010"/>
                  </a:lnTo>
                  <a:lnTo>
                    <a:pt x="254" y="1017"/>
                  </a:lnTo>
                  <a:lnTo>
                    <a:pt x="257" y="1023"/>
                  </a:lnTo>
                  <a:lnTo>
                    <a:pt x="260" y="1030"/>
                  </a:lnTo>
                  <a:lnTo>
                    <a:pt x="263" y="1035"/>
                  </a:lnTo>
                  <a:lnTo>
                    <a:pt x="271" y="1047"/>
                  </a:lnTo>
                  <a:lnTo>
                    <a:pt x="279" y="1057"/>
                  </a:lnTo>
                  <a:lnTo>
                    <a:pt x="287" y="1066"/>
                  </a:lnTo>
                  <a:lnTo>
                    <a:pt x="297" y="1073"/>
                  </a:lnTo>
                  <a:lnTo>
                    <a:pt x="306" y="1078"/>
                  </a:lnTo>
                  <a:lnTo>
                    <a:pt x="316" y="1083"/>
                  </a:lnTo>
                  <a:lnTo>
                    <a:pt x="327" y="1087"/>
                  </a:lnTo>
                  <a:lnTo>
                    <a:pt x="339" y="1088"/>
                  </a:lnTo>
                  <a:lnTo>
                    <a:pt x="351" y="1088"/>
                  </a:lnTo>
                  <a:lnTo>
                    <a:pt x="369" y="1087"/>
                  </a:lnTo>
                  <a:lnTo>
                    <a:pt x="386" y="1085"/>
                  </a:lnTo>
                  <a:lnTo>
                    <a:pt x="403" y="1080"/>
                  </a:lnTo>
                  <a:lnTo>
                    <a:pt x="420" y="1073"/>
                  </a:lnTo>
                  <a:lnTo>
                    <a:pt x="436" y="1064"/>
                  </a:lnTo>
                  <a:lnTo>
                    <a:pt x="453" y="1054"/>
                  </a:lnTo>
                  <a:lnTo>
                    <a:pt x="469" y="1040"/>
                  </a:lnTo>
                  <a:lnTo>
                    <a:pt x="486" y="1026"/>
                  </a:lnTo>
                  <a:lnTo>
                    <a:pt x="502" y="1010"/>
                  </a:lnTo>
                  <a:lnTo>
                    <a:pt x="516" y="993"/>
                  </a:lnTo>
                  <a:lnTo>
                    <a:pt x="530" y="976"/>
                  </a:lnTo>
                  <a:lnTo>
                    <a:pt x="544" y="957"/>
                  </a:lnTo>
                  <a:lnTo>
                    <a:pt x="557" y="938"/>
                  </a:lnTo>
                  <a:lnTo>
                    <a:pt x="569" y="919"/>
                  </a:lnTo>
                  <a:lnTo>
                    <a:pt x="580" y="898"/>
                  </a:lnTo>
                  <a:lnTo>
                    <a:pt x="591" y="875"/>
                  </a:lnTo>
                  <a:lnTo>
                    <a:pt x="640" y="953"/>
                  </a:lnTo>
                  <a:lnTo>
                    <a:pt x="624" y="988"/>
                  </a:lnTo>
                  <a:lnTo>
                    <a:pt x="608" y="1021"/>
                  </a:lnTo>
                  <a:lnTo>
                    <a:pt x="591" y="1052"/>
                  </a:lnTo>
                  <a:lnTo>
                    <a:pt x="572" y="1082"/>
                  </a:lnTo>
                  <a:lnTo>
                    <a:pt x="552" y="1108"/>
                  </a:lnTo>
                  <a:lnTo>
                    <a:pt x="531" y="1132"/>
                  </a:lnTo>
                  <a:lnTo>
                    <a:pt x="510" y="1154"/>
                  </a:lnTo>
                  <a:lnTo>
                    <a:pt x="487" y="1175"/>
                  </a:lnTo>
                  <a:lnTo>
                    <a:pt x="464" y="1194"/>
                  </a:lnTo>
                  <a:lnTo>
                    <a:pt x="440" y="1210"/>
                  </a:lnTo>
                  <a:lnTo>
                    <a:pt x="415" y="1222"/>
                  </a:lnTo>
                  <a:lnTo>
                    <a:pt x="390" y="1234"/>
                  </a:lnTo>
                  <a:lnTo>
                    <a:pt x="365" y="1243"/>
                  </a:lnTo>
                  <a:lnTo>
                    <a:pt x="337" y="1248"/>
                  </a:lnTo>
                  <a:lnTo>
                    <a:pt x="310" y="1251"/>
                  </a:lnTo>
                  <a:lnTo>
                    <a:pt x="282" y="1253"/>
                  </a:lnTo>
                  <a:lnTo>
                    <a:pt x="249" y="1251"/>
                  </a:lnTo>
                  <a:lnTo>
                    <a:pt x="216" y="1248"/>
                  </a:lnTo>
                  <a:lnTo>
                    <a:pt x="187" y="1243"/>
                  </a:lnTo>
                  <a:lnTo>
                    <a:pt x="159" y="1236"/>
                  </a:lnTo>
                  <a:lnTo>
                    <a:pt x="133" y="1225"/>
                  </a:lnTo>
                  <a:lnTo>
                    <a:pt x="111" y="1213"/>
                  </a:lnTo>
                  <a:lnTo>
                    <a:pt x="89" y="1199"/>
                  </a:lnTo>
                  <a:lnTo>
                    <a:pt x="71" y="1182"/>
                  </a:lnTo>
                  <a:lnTo>
                    <a:pt x="62" y="1173"/>
                  </a:lnTo>
                  <a:lnTo>
                    <a:pt x="55" y="1163"/>
                  </a:lnTo>
                  <a:lnTo>
                    <a:pt x="47" y="1153"/>
                  </a:lnTo>
                  <a:lnTo>
                    <a:pt x="40" y="1140"/>
                  </a:lnTo>
                  <a:lnTo>
                    <a:pt x="33" y="1130"/>
                  </a:lnTo>
                  <a:lnTo>
                    <a:pt x="28" y="1118"/>
                  </a:lnTo>
                  <a:lnTo>
                    <a:pt x="22" y="1104"/>
                  </a:lnTo>
                  <a:lnTo>
                    <a:pt x="18" y="1090"/>
                  </a:lnTo>
                  <a:lnTo>
                    <a:pt x="14" y="1076"/>
                  </a:lnTo>
                  <a:lnTo>
                    <a:pt x="11" y="1062"/>
                  </a:lnTo>
                  <a:lnTo>
                    <a:pt x="7" y="1047"/>
                  </a:lnTo>
                  <a:lnTo>
                    <a:pt x="5" y="1031"/>
                  </a:lnTo>
                  <a:lnTo>
                    <a:pt x="3" y="1014"/>
                  </a:lnTo>
                  <a:lnTo>
                    <a:pt x="1" y="998"/>
                  </a:lnTo>
                  <a:lnTo>
                    <a:pt x="0" y="981"/>
                  </a:lnTo>
                  <a:lnTo>
                    <a:pt x="0" y="962"/>
                  </a:lnTo>
                  <a:lnTo>
                    <a:pt x="0" y="939"/>
                  </a:lnTo>
                  <a:lnTo>
                    <a:pt x="2" y="917"/>
                  </a:lnTo>
                  <a:lnTo>
                    <a:pt x="4" y="896"/>
                  </a:lnTo>
                  <a:lnTo>
                    <a:pt x="6" y="875"/>
                  </a:lnTo>
                  <a:lnTo>
                    <a:pt x="10" y="856"/>
                  </a:lnTo>
                  <a:lnTo>
                    <a:pt x="14" y="837"/>
                  </a:lnTo>
                  <a:lnTo>
                    <a:pt x="19" y="818"/>
                  </a:lnTo>
                  <a:lnTo>
                    <a:pt x="25" y="801"/>
                  </a:lnTo>
                  <a:lnTo>
                    <a:pt x="32" y="784"/>
                  </a:lnTo>
                  <a:lnTo>
                    <a:pt x="39" y="768"/>
                  </a:lnTo>
                  <a:lnTo>
                    <a:pt x="47" y="752"/>
                  </a:lnTo>
                  <a:lnTo>
                    <a:pt x="55" y="739"/>
                  </a:lnTo>
                  <a:lnTo>
                    <a:pt x="64" y="725"/>
                  </a:lnTo>
                  <a:lnTo>
                    <a:pt x="74" y="713"/>
                  </a:lnTo>
                  <a:lnTo>
                    <a:pt x="84" y="700"/>
                  </a:lnTo>
                  <a:lnTo>
                    <a:pt x="95" y="688"/>
                  </a:lnTo>
                  <a:lnTo>
                    <a:pt x="116" y="669"/>
                  </a:lnTo>
                  <a:lnTo>
                    <a:pt x="136" y="654"/>
                  </a:lnTo>
                  <a:lnTo>
                    <a:pt x="146" y="647"/>
                  </a:lnTo>
                  <a:lnTo>
                    <a:pt x="157" y="640"/>
                  </a:lnTo>
                  <a:lnTo>
                    <a:pt x="167" y="635"/>
                  </a:lnTo>
                  <a:lnTo>
                    <a:pt x="178" y="629"/>
                  </a:lnTo>
                  <a:lnTo>
                    <a:pt x="260" y="591"/>
                  </a:lnTo>
                  <a:lnTo>
                    <a:pt x="280" y="581"/>
                  </a:lnTo>
                  <a:lnTo>
                    <a:pt x="299" y="570"/>
                  </a:lnTo>
                  <a:lnTo>
                    <a:pt x="317" y="558"/>
                  </a:lnTo>
                  <a:lnTo>
                    <a:pt x="334" y="544"/>
                  </a:lnTo>
                  <a:lnTo>
                    <a:pt x="349" y="531"/>
                  </a:lnTo>
                  <a:lnTo>
                    <a:pt x="363" y="515"/>
                  </a:lnTo>
                  <a:lnTo>
                    <a:pt x="376" y="499"/>
                  </a:lnTo>
                  <a:lnTo>
                    <a:pt x="387" y="482"/>
                  </a:lnTo>
                  <a:lnTo>
                    <a:pt x="392" y="473"/>
                  </a:lnTo>
                  <a:lnTo>
                    <a:pt x="397" y="465"/>
                  </a:lnTo>
                  <a:lnTo>
                    <a:pt x="401" y="456"/>
                  </a:lnTo>
                  <a:lnTo>
                    <a:pt x="405" y="446"/>
                  </a:lnTo>
                  <a:lnTo>
                    <a:pt x="409" y="435"/>
                  </a:lnTo>
                  <a:lnTo>
                    <a:pt x="412" y="425"/>
                  </a:lnTo>
                  <a:lnTo>
                    <a:pt x="415" y="415"/>
                  </a:lnTo>
                  <a:lnTo>
                    <a:pt x="418" y="404"/>
                  </a:lnTo>
                  <a:lnTo>
                    <a:pt x="420" y="392"/>
                  </a:lnTo>
                  <a:lnTo>
                    <a:pt x="422" y="382"/>
                  </a:lnTo>
                  <a:lnTo>
                    <a:pt x="424" y="369"/>
                  </a:lnTo>
                  <a:lnTo>
                    <a:pt x="425" y="357"/>
                  </a:lnTo>
                  <a:lnTo>
                    <a:pt x="426" y="344"/>
                  </a:lnTo>
                  <a:lnTo>
                    <a:pt x="427" y="331"/>
                  </a:lnTo>
                  <a:lnTo>
                    <a:pt x="428" y="304"/>
                  </a:lnTo>
                  <a:lnTo>
                    <a:pt x="428" y="295"/>
                  </a:lnTo>
                  <a:lnTo>
                    <a:pt x="428" y="288"/>
                  </a:lnTo>
                  <a:lnTo>
                    <a:pt x="427" y="281"/>
                  </a:lnTo>
                  <a:lnTo>
                    <a:pt x="426" y="272"/>
                  </a:lnTo>
                  <a:lnTo>
                    <a:pt x="425" y="266"/>
                  </a:lnTo>
                  <a:lnTo>
                    <a:pt x="425" y="259"/>
                  </a:lnTo>
                  <a:lnTo>
                    <a:pt x="423" y="252"/>
                  </a:lnTo>
                  <a:lnTo>
                    <a:pt x="422" y="246"/>
                  </a:lnTo>
                  <a:lnTo>
                    <a:pt x="420" y="240"/>
                  </a:lnTo>
                  <a:lnTo>
                    <a:pt x="419" y="234"/>
                  </a:lnTo>
                  <a:lnTo>
                    <a:pt x="416" y="227"/>
                  </a:lnTo>
                  <a:lnTo>
                    <a:pt x="414" y="222"/>
                  </a:lnTo>
                  <a:lnTo>
                    <a:pt x="412" y="217"/>
                  </a:lnTo>
                  <a:lnTo>
                    <a:pt x="409" y="212"/>
                  </a:lnTo>
                  <a:lnTo>
                    <a:pt x="403" y="201"/>
                  </a:lnTo>
                  <a:lnTo>
                    <a:pt x="400" y="196"/>
                  </a:lnTo>
                  <a:lnTo>
                    <a:pt x="398" y="193"/>
                  </a:lnTo>
                  <a:lnTo>
                    <a:pt x="390" y="186"/>
                  </a:lnTo>
                  <a:lnTo>
                    <a:pt x="382" y="179"/>
                  </a:lnTo>
                  <a:lnTo>
                    <a:pt x="375" y="174"/>
                  </a:lnTo>
                  <a:lnTo>
                    <a:pt x="365" y="170"/>
                  </a:lnTo>
                  <a:lnTo>
                    <a:pt x="356" y="167"/>
                  </a:lnTo>
                  <a:lnTo>
                    <a:pt x="346" y="165"/>
                  </a:lnTo>
                  <a:lnTo>
                    <a:pt x="336" y="165"/>
                  </a:lnTo>
                  <a:lnTo>
                    <a:pt x="320" y="167"/>
                  </a:lnTo>
                  <a:lnTo>
                    <a:pt x="304" y="169"/>
                  </a:lnTo>
                  <a:lnTo>
                    <a:pt x="287" y="174"/>
                  </a:lnTo>
                  <a:lnTo>
                    <a:pt x="272" y="181"/>
                  </a:lnTo>
                  <a:lnTo>
                    <a:pt x="257" y="189"/>
                  </a:lnTo>
                  <a:lnTo>
                    <a:pt x="242" y="200"/>
                  </a:lnTo>
                  <a:lnTo>
                    <a:pt x="227" y="214"/>
                  </a:lnTo>
                  <a:lnTo>
                    <a:pt x="211" y="227"/>
                  </a:lnTo>
                  <a:lnTo>
                    <a:pt x="197" y="245"/>
                  </a:lnTo>
                  <a:lnTo>
                    <a:pt x="182" y="262"/>
                  </a:lnTo>
                  <a:lnTo>
                    <a:pt x="170" y="279"/>
                  </a:lnTo>
                  <a:lnTo>
                    <a:pt x="157" y="298"/>
                  </a:lnTo>
                  <a:lnTo>
                    <a:pt x="144" y="318"/>
                  </a:lnTo>
                  <a:lnTo>
                    <a:pt x="133" y="337"/>
                  </a:lnTo>
                  <a:lnTo>
                    <a:pt x="122" y="357"/>
                  </a:lnTo>
                  <a:lnTo>
                    <a:pt x="112" y="378"/>
                  </a:lnTo>
                  <a:lnTo>
                    <a:pt x="63" y="300"/>
                  </a:lnTo>
                  <a:lnTo>
                    <a:pt x="78" y="267"/>
                  </a:lnTo>
                  <a:lnTo>
                    <a:pt x="93" y="234"/>
                  </a:lnTo>
                  <a:lnTo>
                    <a:pt x="110" y="205"/>
                  </a:lnTo>
                  <a:lnTo>
                    <a:pt x="127" y="177"/>
                  </a:lnTo>
                  <a:lnTo>
                    <a:pt x="146" y="151"/>
                  </a:lnTo>
                  <a:lnTo>
                    <a:pt x="166" y="127"/>
                  </a:lnTo>
                  <a:lnTo>
                    <a:pt x="187" y="103"/>
                  </a:lnTo>
                  <a:lnTo>
                    <a:pt x="209" y="82"/>
                  </a:lnTo>
                  <a:lnTo>
                    <a:pt x="232" y="63"/>
                  </a:lnTo>
                  <a:lnTo>
                    <a:pt x="254" y="47"/>
                  </a:lnTo>
                  <a:lnTo>
                    <a:pt x="278" y="33"/>
                  </a:lnTo>
                  <a:lnTo>
                    <a:pt x="302" y="21"/>
                  </a:lnTo>
                  <a:lnTo>
                    <a:pt x="326" y="13"/>
                  </a:lnTo>
                  <a:lnTo>
                    <a:pt x="350" y="6"/>
                  </a:lnTo>
                  <a:lnTo>
                    <a:pt x="375" y="2"/>
                  </a:lnTo>
                  <a:lnTo>
                    <a:pt x="400" y="0"/>
                  </a:lnTo>
                  <a:lnTo>
                    <a:pt x="431" y="2"/>
                  </a:lnTo>
                  <a:lnTo>
                    <a:pt x="462" y="6"/>
                  </a:lnTo>
                  <a:lnTo>
                    <a:pt x="489" y="11"/>
                  </a:lnTo>
                  <a:lnTo>
                    <a:pt x="515" y="20"/>
                  </a:lnTo>
                  <a:lnTo>
                    <a:pt x="539" y="28"/>
                  </a:lnTo>
                  <a:lnTo>
                    <a:pt x="561" y="42"/>
                  </a:lnTo>
                  <a:lnTo>
                    <a:pt x="580" y="56"/>
                  </a:lnTo>
                  <a:lnTo>
                    <a:pt x="598" y="73"/>
                  </a:lnTo>
                  <a:lnTo>
                    <a:pt x="607" y="82"/>
                  </a:lnTo>
                  <a:lnTo>
                    <a:pt x="614" y="92"/>
                  </a:lnTo>
                  <a:lnTo>
                    <a:pt x="621" y="103"/>
                  </a:lnTo>
                  <a:lnTo>
                    <a:pt x="628" y="113"/>
                  </a:lnTo>
                  <a:lnTo>
                    <a:pt x="634" y="123"/>
                  </a:lnTo>
                  <a:lnTo>
                    <a:pt x="640" y="136"/>
                  </a:lnTo>
                  <a:lnTo>
                    <a:pt x="645" y="148"/>
                  </a:lnTo>
                  <a:lnTo>
                    <a:pt x="649" y="162"/>
                  </a:lnTo>
                  <a:lnTo>
                    <a:pt x="653" y="175"/>
                  </a:lnTo>
                  <a:lnTo>
                    <a:pt x="657" y="189"/>
                  </a:lnTo>
                  <a:lnTo>
                    <a:pt x="659" y="203"/>
                  </a:lnTo>
                  <a:lnTo>
                    <a:pt x="662" y="219"/>
                  </a:lnTo>
                  <a:lnTo>
                    <a:pt x="663" y="234"/>
                  </a:lnTo>
                  <a:lnTo>
                    <a:pt x="665" y="250"/>
                  </a:lnTo>
                  <a:lnTo>
                    <a:pt x="666" y="26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92560" y="4071960"/>
              <a:ext cx="295560" cy="449280"/>
            </a:xfrm>
            <a:custGeom>
              <a:avLst/>
              <a:gdLst/>
              <a:ahLst/>
              <a:rect l="l" t="t" r="r" b="b"/>
              <a:pathLst>
                <a:path w="820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7"/>
                  </a:lnTo>
                  <a:lnTo>
                    <a:pt x="365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2"/>
                  </a:lnTo>
                  <a:lnTo>
                    <a:pt x="294" y="1230"/>
                  </a:lnTo>
                  <a:lnTo>
                    <a:pt x="286" y="1234"/>
                  </a:lnTo>
                  <a:lnTo>
                    <a:pt x="278" y="1239"/>
                  </a:lnTo>
                  <a:lnTo>
                    <a:pt x="270" y="1241"/>
                  </a:lnTo>
                  <a:lnTo>
                    <a:pt x="261" y="1244"/>
                  </a:lnTo>
                  <a:lnTo>
                    <a:pt x="253" y="1246"/>
                  </a:lnTo>
                  <a:lnTo>
                    <a:pt x="244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3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7" y="1208"/>
                  </a:lnTo>
                  <a:lnTo>
                    <a:pt x="107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6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8" y="1000"/>
                  </a:lnTo>
                  <a:lnTo>
                    <a:pt x="14" y="981"/>
                  </a:lnTo>
                  <a:lnTo>
                    <a:pt x="7" y="937"/>
                  </a:lnTo>
                  <a:lnTo>
                    <a:pt x="3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1" y="711"/>
                  </a:lnTo>
                  <a:lnTo>
                    <a:pt x="4" y="671"/>
                  </a:lnTo>
                  <a:lnTo>
                    <a:pt x="8" y="633"/>
                  </a:lnTo>
                  <a:lnTo>
                    <a:pt x="12" y="594"/>
                  </a:lnTo>
                  <a:lnTo>
                    <a:pt x="18" y="556"/>
                  </a:lnTo>
                  <a:lnTo>
                    <a:pt x="24" y="520"/>
                  </a:lnTo>
                  <a:lnTo>
                    <a:pt x="32" y="484"/>
                  </a:lnTo>
                  <a:lnTo>
                    <a:pt x="40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5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0" y="49"/>
                  </a:lnTo>
                  <a:lnTo>
                    <a:pt x="278" y="35"/>
                  </a:lnTo>
                  <a:lnTo>
                    <a:pt x="297" y="24"/>
                  </a:lnTo>
                  <a:lnTo>
                    <a:pt x="316" y="16"/>
                  </a:lnTo>
                  <a:lnTo>
                    <a:pt x="335" y="9"/>
                  </a:lnTo>
                  <a:lnTo>
                    <a:pt x="354" y="4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49" y="7"/>
                  </a:lnTo>
                  <a:lnTo>
                    <a:pt x="461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3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1"/>
                  </a:lnTo>
                  <a:lnTo>
                    <a:pt x="664" y="948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80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4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4"/>
                  </a:lnTo>
                  <a:lnTo>
                    <a:pt x="720" y="1066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59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3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7" y="1234"/>
                  </a:lnTo>
                  <a:lnTo>
                    <a:pt x="625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1" y="1232"/>
                  </a:lnTo>
                  <a:lnTo>
                    <a:pt x="567" y="1229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7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0" y="1099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2"/>
                  </a:lnTo>
                  <a:lnTo>
                    <a:pt x="524" y="244"/>
                  </a:lnTo>
                  <a:lnTo>
                    <a:pt x="523" y="236"/>
                  </a:lnTo>
                  <a:lnTo>
                    <a:pt x="521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6" y="203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5" y="127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20"/>
                  </a:lnTo>
                  <a:lnTo>
                    <a:pt x="433" y="120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4"/>
                  </a:lnTo>
                  <a:lnTo>
                    <a:pt x="382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4" y="177"/>
                  </a:lnTo>
                  <a:lnTo>
                    <a:pt x="346" y="191"/>
                  </a:lnTo>
                  <a:lnTo>
                    <a:pt x="338" y="206"/>
                  </a:lnTo>
                  <a:lnTo>
                    <a:pt x="329" y="224"/>
                  </a:lnTo>
                  <a:lnTo>
                    <a:pt x="321" y="243"/>
                  </a:lnTo>
                  <a:lnTo>
                    <a:pt x="313" y="262"/>
                  </a:lnTo>
                  <a:lnTo>
                    <a:pt x="305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4"/>
                  </a:lnTo>
                  <a:lnTo>
                    <a:pt x="248" y="542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4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39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8"/>
                  </a:lnTo>
                  <a:lnTo>
                    <a:pt x="256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7" y="1022"/>
                  </a:lnTo>
                  <a:lnTo>
                    <a:pt x="271" y="1028"/>
                  </a:lnTo>
                  <a:lnTo>
                    <a:pt x="276" y="1034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4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7" y="1066"/>
                  </a:lnTo>
                  <a:lnTo>
                    <a:pt x="334" y="1066"/>
                  </a:lnTo>
                  <a:lnTo>
                    <a:pt x="342" y="1066"/>
                  </a:lnTo>
                  <a:lnTo>
                    <a:pt x="349" y="1064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4"/>
                  </a:lnTo>
                  <a:lnTo>
                    <a:pt x="378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2" y="976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5160" y="3843360"/>
              <a:ext cx="273240" cy="679320"/>
            </a:xfrm>
            <a:custGeom>
              <a:avLst/>
              <a:gdLst/>
              <a:ahLst/>
              <a:rect l="l" t="t" r="r" b="b"/>
              <a:pathLst>
                <a:path w="757" h="1886">
                  <a:moveTo>
                    <a:pt x="480" y="1484"/>
                  </a:moveTo>
                  <a:lnTo>
                    <a:pt x="491" y="1415"/>
                  </a:lnTo>
                  <a:lnTo>
                    <a:pt x="502" y="1342"/>
                  </a:lnTo>
                  <a:lnTo>
                    <a:pt x="512" y="1268"/>
                  </a:lnTo>
                  <a:lnTo>
                    <a:pt x="519" y="1190"/>
                  </a:lnTo>
                  <a:lnTo>
                    <a:pt x="525" y="1110"/>
                  </a:lnTo>
                  <a:lnTo>
                    <a:pt x="529" y="1032"/>
                  </a:lnTo>
                  <a:lnTo>
                    <a:pt x="532" y="958"/>
                  </a:lnTo>
                  <a:lnTo>
                    <a:pt x="534" y="883"/>
                  </a:lnTo>
                  <a:lnTo>
                    <a:pt x="529" y="864"/>
                  </a:lnTo>
                  <a:lnTo>
                    <a:pt x="524" y="849"/>
                  </a:lnTo>
                  <a:lnTo>
                    <a:pt x="519" y="833"/>
                  </a:lnTo>
                  <a:lnTo>
                    <a:pt x="514" y="817"/>
                  </a:lnTo>
                  <a:lnTo>
                    <a:pt x="508" y="805"/>
                  </a:lnTo>
                  <a:lnTo>
                    <a:pt x="502" y="793"/>
                  </a:lnTo>
                  <a:lnTo>
                    <a:pt x="496" y="783"/>
                  </a:lnTo>
                  <a:lnTo>
                    <a:pt x="491" y="772"/>
                  </a:lnTo>
                  <a:lnTo>
                    <a:pt x="484" y="764"/>
                  </a:lnTo>
                  <a:lnTo>
                    <a:pt x="477" y="757"/>
                  </a:lnTo>
                  <a:lnTo>
                    <a:pt x="469" y="750"/>
                  </a:lnTo>
                  <a:lnTo>
                    <a:pt x="462" y="745"/>
                  </a:lnTo>
                  <a:lnTo>
                    <a:pt x="453" y="741"/>
                  </a:lnTo>
                  <a:lnTo>
                    <a:pt x="445" y="738"/>
                  </a:lnTo>
                  <a:lnTo>
                    <a:pt x="436" y="736"/>
                  </a:lnTo>
                  <a:lnTo>
                    <a:pt x="426" y="736"/>
                  </a:lnTo>
                  <a:lnTo>
                    <a:pt x="416" y="736"/>
                  </a:lnTo>
                  <a:lnTo>
                    <a:pt x="407" y="739"/>
                  </a:lnTo>
                  <a:lnTo>
                    <a:pt x="397" y="743"/>
                  </a:lnTo>
                  <a:lnTo>
                    <a:pt x="387" y="750"/>
                  </a:lnTo>
                  <a:lnTo>
                    <a:pt x="379" y="757"/>
                  </a:lnTo>
                  <a:lnTo>
                    <a:pt x="369" y="765"/>
                  </a:lnTo>
                  <a:lnTo>
                    <a:pt x="360" y="776"/>
                  </a:lnTo>
                  <a:lnTo>
                    <a:pt x="352" y="788"/>
                  </a:lnTo>
                  <a:lnTo>
                    <a:pt x="343" y="802"/>
                  </a:lnTo>
                  <a:lnTo>
                    <a:pt x="335" y="817"/>
                  </a:lnTo>
                  <a:lnTo>
                    <a:pt x="326" y="835"/>
                  </a:lnTo>
                  <a:lnTo>
                    <a:pt x="319" y="854"/>
                  </a:lnTo>
                  <a:lnTo>
                    <a:pt x="303" y="895"/>
                  </a:lnTo>
                  <a:lnTo>
                    <a:pt x="287" y="944"/>
                  </a:lnTo>
                  <a:lnTo>
                    <a:pt x="273" y="996"/>
                  </a:lnTo>
                  <a:lnTo>
                    <a:pt x="261" y="1051"/>
                  </a:lnTo>
                  <a:lnTo>
                    <a:pt x="251" y="1108"/>
                  </a:lnTo>
                  <a:lnTo>
                    <a:pt x="243" y="1169"/>
                  </a:lnTo>
                  <a:lnTo>
                    <a:pt x="237" y="1230"/>
                  </a:lnTo>
                  <a:lnTo>
                    <a:pt x="231" y="1296"/>
                  </a:lnTo>
                  <a:lnTo>
                    <a:pt x="229" y="1361"/>
                  </a:lnTo>
                  <a:lnTo>
                    <a:pt x="228" y="1431"/>
                  </a:lnTo>
                  <a:lnTo>
                    <a:pt x="228" y="1474"/>
                  </a:lnTo>
                  <a:lnTo>
                    <a:pt x="230" y="1516"/>
                  </a:lnTo>
                  <a:lnTo>
                    <a:pt x="231" y="1554"/>
                  </a:lnTo>
                  <a:lnTo>
                    <a:pt x="234" y="1590"/>
                  </a:lnTo>
                  <a:lnTo>
                    <a:pt x="237" y="1621"/>
                  </a:lnTo>
                  <a:lnTo>
                    <a:pt x="241" y="1651"/>
                  </a:lnTo>
                  <a:lnTo>
                    <a:pt x="245" y="1677"/>
                  </a:lnTo>
                  <a:lnTo>
                    <a:pt x="250" y="1701"/>
                  </a:lnTo>
                  <a:lnTo>
                    <a:pt x="253" y="1711"/>
                  </a:lnTo>
                  <a:lnTo>
                    <a:pt x="256" y="1722"/>
                  </a:lnTo>
                  <a:lnTo>
                    <a:pt x="259" y="1732"/>
                  </a:lnTo>
                  <a:lnTo>
                    <a:pt x="263" y="1741"/>
                  </a:lnTo>
                  <a:lnTo>
                    <a:pt x="267" y="1749"/>
                  </a:lnTo>
                  <a:lnTo>
                    <a:pt x="271" y="1756"/>
                  </a:lnTo>
                  <a:lnTo>
                    <a:pt x="276" y="1763"/>
                  </a:lnTo>
                  <a:lnTo>
                    <a:pt x="281" y="1768"/>
                  </a:lnTo>
                  <a:lnTo>
                    <a:pt x="286" y="1774"/>
                  </a:lnTo>
                  <a:lnTo>
                    <a:pt x="291" y="1779"/>
                  </a:lnTo>
                  <a:lnTo>
                    <a:pt x="296" y="1782"/>
                  </a:lnTo>
                  <a:lnTo>
                    <a:pt x="302" y="1786"/>
                  </a:lnTo>
                  <a:lnTo>
                    <a:pt x="308" y="1788"/>
                  </a:lnTo>
                  <a:lnTo>
                    <a:pt x="314" y="1789"/>
                  </a:lnTo>
                  <a:lnTo>
                    <a:pt x="320" y="1791"/>
                  </a:lnTo>
                  <a:lnTo>
                    <a:pt x="327" y="1791"/>
                  </a:lnTo>
                  <a:lnTo>
                    <a:pt x="333" y="1791"/>
                  </a:lnTo>
                  <a:lnTo>
                    <a:pt x="339" y="1789"/>
                  </a:lnTo>
                  <a:lnTo>
                    <a:pt x="345" y="1788"/>
                  </a:lnTo>
                  <a:lnTo>
                    <a:pt x="351" y="1786"/>
                  </a:lnTo>
                  <a:lnTo>
                    <a:pt x="356" y="1782"/>
                  </a:lnTo>
                  <a:lnTo>
                    <a:pt x="362" y="1779"/>
                  </a:lnTo>
                  <a:lnTo>
                    <a:pt x="368" y="1775"/>
                  </a:lnTo>
                  <a:lnTo>
                    <a:pt x="373" y="1770"/>
                  </a:lnTo>
                  <a:lnTo>
                    <a:pt x="378" y="1765"/>
                  </a:lnTo>
                  <a:lnTo>
                    <a:pt x="384" y="1758"/>
                  </a:lnTo>
                  <a:lnTo>
                    <a:pt x="389" y="1751"/>
                  </a:lnTo>
                  <a:lnTo>
                    <a:pt x="394" y="1744"/>
                  </a:lnTo>
                  <a:lnTo>
                    <a:pt x="404" y="1727"/>
                  </a:lnTo>
                  <a:lnTo>
                    <a:pt x="414" y="1706"/>
                  </a:lnTo>
                  <a:lnTo>
                    <a:pt x="423" y="1684"/>
                  </a:lnTo>
                  <a:lnTo>
                    <a:pt x="432" y="1661"/>
                  </a:lnTo>
                  <a:lnTo>
                    <a:pt x="441" y="1635"/>
                  </a:lnTo>
                  <a:lnTo>
                    <a:pt x="449" y="1609"/>
                  </a:lnTo>
                  <a:lnTo>
                    <a:pt x="458" y="1580"/>
                  </a:lnTo>
                  <a:lnTo>
                    <a:pt x="465" y="1550"/>
                  </a:lnTo>
                  <a:lnTo>
                    <a:pt x="473" y="1517"/>
                  </a:lnTo>
                  <a:close/>
                  <a:moveTo>
                    <a:pt x="756" y="821"/>
                  </a:moveTo>
                  <a:lnTo>
                    <a:pt x="756" y="873"/>
                  </a:lnTo>
                  <a:lnTo>
                    <a:pt x="754" y="925"/>
                  </a:lnTo>
                  <a:lnTo>
                    <a:pt x="752" y="975"/>
                  </a:lnTo>
                  <a:lnTo>
                    <a:pt x="749" y="1025"/>
                  </a:lnTo>
                  <a:lnTo>
                    <a:pt x="745" y="1076"/>
                  </a:lnTo>
                  <a:lnTo>
                    <a:pt x="741" y="1126"/>
                  </a:lnTo>
                  <a:lnTo>
                    <a:pt x="735" y="1176"/>
                  </a:lnTo>
                  <a:lnTo>
                    <a:pt x="729" y="1225"/>
                  </a:lnTo>
                  <a:lnTo>
                    <a:pt x="723" y="1271"/>
                  </a:lnTo>
                  <a:lnTo>
                    <a:pt x="714" y="1318"/>
                  </a:lnTo>
                  <a:lnTo>
                    <a:pt x="706" y="1361"/>
                  </a:lnTo>
                  <a:lnTo>
                    <a:pt x="696" y="1405"/>
                  </a:lnTo>
                  <a:lnTo>
                    <a:pt x="685" y="1446"/>
                  </a:lnTo>
                  <a:lnTo>
                    <a:pt x="674" y="1486"/>
                  </a:lnTo>
                  <a:lnTo>
                    <a:pt x="662" y="1524"/>
                  </a:lnTo>
                  <a:lnTo>
                    <a:pt x="649" y="1561"/>
                  </a:lnTo>
                  <a:lnTo>
                    <a:pt x="634" y="1599"/>
                  </a:lnTo>
                  <a:lnTo>
                    <a:pt x="618" y="1633"/>
                  </a:lnTo>
                  <a:lnTo>
                    <a:pt x="601" y="1668"/>
                  </a:lnTo>
                  <a:lnTo>
                    <a:pt x="585" y="1699"/>
                  </a:lnTo>
                  <a:lnTo>
                    <a:pt x="566" y="1727"/>
                  </a:lnTo>
                  <a:lnTo>
                    <a:pt x="547" y="1753"/>
                  </a:lnTo>
                  <a:lnTo>
                    <a:pt x="527" y="1777"/>
                  </a:lnTo>
                  <a:lnTo>
                    <a:pt x="507" y="1800"/>
                  </a:lnTo>
                  <a:lnTo>
                    <a:pt x="485" y="1820"/>
                  </a:lnTo>
                  <a:lnTo>
                    <a:pt x="463" y="1838"/>
                  </a:lnTo>
                  <a:lnTo>
                    <a:pt x="439" y="1852"/>
                  </a:lnTo>
                  <a:lnTo>
                    <a:pt x="414" y="1864"/>
                  </a:lnTo>
                  <a:lnTo>
                    <a:pt x="389" y="1872"/>
                  </a:lnTo>
                  <a:lnTo>
                    <a:pt x="363" y="1879"/>
                  </a:lnTo>
                  <a:lnTo>
                    <a:pt x="335" y="1883"/>
                  </a:lnTo>
                  <a:lnTo>
                    <a:pt x="306" y="1885"/>
                  </a:lnTo>
                  <a:lnTo>
                    <a:pt x="271" y="1883"/>
                  </a:lnTo>
                  <a:lnTo>
                    <a:pt x="239" y="1876"/>
                  </a:lnTo>
                  <a:lnTo>
                    <a:pt x="209" y="1866"/>
                  </a:lnTo>
                  <a:lnTo>
                    <a:pt x="180" y="1850"/>
                  </a:lnTo>
                  <a:lnTo>
                    <a:pt x="153" y="1831"/>
                  </a:lnTo>
                  <a:lnTo>
                    <a:pt x="127" y="1808"/>
                  </a:lnTo>
                  <a:lnTo>
                    <a:pt x="116" y="1794"/>
                  </a:lnTo>
                  <a:lnTo>
                    <a:pt x="104" y="1781"/>
                  </a:lnTo>
                  <a:lnTo>
                    <a:pt x="93" y="1765"/>
                  </a:lnTo>
                  <a:lnTo>
                    <a:pt x="82" y="1748"/>
                  </a:lnTo>
                  <a:lnTo>
                    <a:pt x="72" y="1730"/>
                  </a:lnTo>
                  <a:lnTo>
                    <a:pt x="63" y="1711"/>
                  </a:lnTo>
                  <a:lnTo>
                    <a:pt x="55" y="1692"/>
                  </a:lnTo>
                  <a:lnTo>
                    <a:pt x="46" y="1673"/>
                  </a:lnTo>
                  <a:lnTo>
                    <a:pt x="38" y="1651"/>
                  </a:lnTo>
                  <a:lnTo>
                    <a:pt x="32" y="1630"/>
                  </a:lnTo>
                  <a:lnTo>
                    <a:pt x="26" y="1607"/>
                  </a:lnTo>
                  <a:lnTo>
                    <a:pt x="21" y="1585"/>
                  </a:lnTo>
                  <a:lnTo>
                    <a:pt x="16" y="1561"/>
                  </a:lnTo>
                  <a:lnTo>
                    <a:pt x="11" y="1535"/>
                  </a:lnTo>
                  <a:lnTo>
                    <a:pt x="8" y="1509"/>
                  </a:lnTo>
                  <a:lnTo>
                    <a:pt x="5" y="1483"/>
                  </a:lnTo>
                  <a:lnTo>
                    <a:pt x="2" y="1455"/>
                  </a:lnTo>
                  <a:lnTo>
                    <a:pt x="1" y="1427"/>
                  </a:lnTo>
                  <a:lnTo>
                    <a:pt x="0" y="1368"/>
                  </a:lnTo>
                  <a:lnTo>
                    <a:pt x="1" y="1294"/>
                  </a:lnTo>
                  <a:lnTo>
                    <a:pt x="4" y="1257"/>
                  </a:lnTo>
                  <a:lnTo>
                    <a:pt x="6" y="1223"/>
                  </a:lnTo>
                  <a:lnTo>
                    <a:pt x="11" y="1188"/>
                  </a:lnTo>
                  <a:lnTo>
                    <a:pt x="16" y="1153"/>
                  </a:lnTo>
                  <a:lnTo>
                    <a:pt x="21" y="1121"/>
                  </a:lnTo>
                  <a:lnTo>
                    <a:pt x="27" y="1088"/>
                  </a:lnTo>
                  <a:lnTo>
                    <a:pt x="35" y="1056"/>
                  </a:lnTo>
                  <a:lnTo>
                    <a:pt x="44" y="1025"/>
                  </a:lnTo>
                  <a:lnTo>
                    <a:pt x="53" y="994"/>
                  </a:lnTo>
                  <a:lnTo>
                    <a:pt x="63" y="965"/>
                  </a:lnTo>
                  <a:lnTo>
                    <a:pt x="74" y="935"/>
                  </a:lnTo>
                  <a:lnTo>
                    <a:pt x="86" y="907"/>
                  </a:lnTo>
                  <a:lnTo>
                    <a:pt x="112" y="854"/>
                  </a:lnTo>
                  <a:lnTo>
                    <a:pt x="142" y="805"/>
                  </a:lnTo>
                  <a:lnTo>
                    <a:pt x="173" y="762"/>
                  </a:lnTo>
                  <a:lnTo>
                    <a:pt x="206" y="726"/>
                  </a:lnTo>
                  <a:lnTo>
                    <a:pt x="242" y="696"/>
                  </a:lnTo>
                  <a:lnTo>
                    <a:pt x="279" y="672"/>
                  </a:lnTo>
                  <a:lnTo>
                    <a:pt x="319" y="656"/>
                  </a:lnTo>
                  <a:lnTo>
                    <a:pt x="360" y="646"/>
                  </a:lnTo>
                  <a:lnTo>
                    <a:pt x="403" y="642"/>
                  </a:lnTo>
                  <a:lnTo>
                    <a:pt x="425" y="642"/>
                  </a:lnTo>
                  <a:lnTo>
                    <a:pt x="445" y="646"/>
                  </a:lnTo>
                  <a:lnTo>
                    <a:pt x="463" y="649"/>
                  </a:lnTo>
                  <a:lnTo>
                    <a:pt x="470" y="651"/>
                  </a:lnTo>
                  <a:lnTo>
                    <a:pt x="478" y="655"/>
                  </a:lnTo>
                  <a:lnTo>
                    <a:pt x="485" y="658"/>
                  </a:lnTo>
                  <a:lnTo>
                    <a:pt x="491" y="661"/>
                  </a:lnTo>
                  <a:lnTo>
                    <a:pt x="505" y="672"/>
                  </a:lnTo>
                  <a:lnTo>
                    <a:pt x="518" y="682"/>
                  </a:lnTo>
                  <a:lnTo>
                    <a:pt x="532" y="694"/>
                  </a:lnTo>
                  <a:lnTo>
                    <a:pt x="529" y="630"/>
                  </a:lnTo>
                  <a:lnTo>
                    <a:pt x="524" y="568"/>
                  </a:lnTo>
                  <a:lnTo>
                    <a:pt x="517" y="512"/>
                  </a:lnTo>
                  <a:lnTo>
                    <a:pt x="509" y="459"/>
                  </a:lnTo>
                  <a:lnTo>
                    <a:pt x="500" y="410"/>
                  </a:lnTo>
                  <a:lnTo>
                    <a:pt x="489" y="365"/>
                  </a:lnTo>
                  <a:lnTo>
                    <a:pt x="477" y="324"/>
                  </a:lnTo>
                  <a:lnTo>
                    <a:pt x="463" y="286"/>
                  </a:lnTo>
                  <a:lnTo>
                    <a:pt x="448" y="253"/>
                  </a:lnTo>
                  <a:lnTo>
                    <a:pt x="433" y="223"/>
                  </a:lnTo>
                  <a:lnTo>
                    <a:pt x="425" y="211"/>
                  </a:lnTo>
                  <a:lnTo>
                    <a:pt x="417" y="199"/>
                  </a:lnTo>
                  <a:lnTo>
                    <a:pt x="408" y="189"/>
                  </a:lnTo>
                  <a:lnTo>
                    <a:pt x="400" y="178"/>
                  </a:lnTo>
                  <a:lnTo>
                    <a:pt x="391" y="171"/>
                  </a:lnTo>
                  <a:lnTo>
                    <a:pt x="382" y="163"/>
                  </a:lnTo>
                  <a:lnTo>
                    <a:pt x="373" y="157"/>
                  </a:lnTo>
                  <a:lnTo>
                    <a:pt x="364" y="152"/>
                  </a:lnTo>
                  <a:lnTo>
                    <a:pt x="354" y="149"/>
                  </a:lnTo>
                  <a:lnTo>
                    <a:pt x="345" y="145"/>
                  </a:lnTo>
                  <a:lnTo>
                    <a:pt x="335" y="143"/>
                  </a:lnTo>
                  <a:lnTo>
                    <a:pt x="325" y="143"/>
                  </a:lnTo>
                  <a:lnTo>
                    <a:pt x="313" y="143"/>
                  </a:lnTo>
                  <a:lnTo>
                    <a:pt x="301" y="145"/>
                  </a:lnTo>
                  <a:lnTo>
                    <a:pt x="290" y="149"/>
                  </a:lnTo>
                  <a:lnTo>
                    <a:pt x="279" y="152"/>
                  </a:lnTo>
                  <a:lnTo>
                    <a:pt x="268" y="156"/>
                  </a:lnTo>
                  <a:lnTo>
                    <a:pt x="258" y="163"/>
                  </a:lnTo>
                  <a:lnTo>
                    <a:pt x="248" y="168"/>
                  </a:lnTo>
                  <a:lnTo>
                    <a:pt x="237" y="176"/>
                  </a:lnTo>
                  <a:lnTo>
                    <a:pt x="219" y="192"/>
                  </a:lnTo>
                  <a:lnTo>
                    <a:pt x="201" y="209"/>
                  </a:lnTo>
                  <a:lnTo>
                    <a:pt x="184" y="228"/>
                  </a:lnTo>
                  <a:lnTo>
                    <a:pt x="170" y="246"/>
                  </a:lnTo>
                  <a:lnTo>
                    <a:pt x="140" y="173"/>
                  </a:lnTo>
                  <a:lnTo>
                    <a:pt x="154" y="152"/>
                  </a:lnTo>
                  <a:lnTo>
                    <a:pt x="168" y="131"/>
                  </a:lnTo>
                  <a:lnTo>
                    <a:pt x="182" y="114"/>
                  </a:lnTo>
                  <a:lnTo>
                    <a:pt x="197" y="97"/>
                  </a:lnTo>
                  <a:lnTo>
                    <a:pt x="211" y="81"/>
                  </a:lnTo>
                  <a:lnTo>
                    <a:pt x="226" y="67"/>
                  </a:lnTo>
                  <a:lnTo>
                    <a:pt x="241" y="53"/>
                  </a:lnTo>
                  <a:lnTo>
                    <a:pt x="256" y="43"/>
                  </a:lnTo>
                  <a:lnTo>
                    <a:pt x="271" y="33"/>
                  </a:lnTo>
                  <a:lnTo>
                    <a:pt x="287" y="24"/>
                  </a:lnTo>
                  <a:lnTo>
                    <a:pt x="303" y="17"/>
                  </a:lnTo>
                  <a:lnTo>
                    <a:pt x="320" y="10"/>
                  </a:lnTo>
                  <a:lnTo>
                    <a:pt x="337" y="5"/>
                  </a:lnTo>
                  <a:lnTo>
                    <a:pt x="354" y="3"/>
                  </a:lnTo>
                  <a:lnTo>
                    <a:pt x="372" y="0"/>
                  </a:lnTo>
                  <a:lnTo>
                    <a:pt x="391" y="0"/>
                  </a:lnTo>
                  <a:lnTo>
                    <a:pt x="432" y="3"/>
                  </a:lnTo>
                  <a:lnTo>
                    <a:pt x="471" y="14"/>
                  </a:lnTo>
                  <a:lnTo>
                    <a:pt x="508" y="29"/>
                  </a:lnTo>
                  <a:lnTo>
                    <a:pt x="526" y="41"/>
                  </a:lnTo>
                  <a:lnTo>
                    <a:pt x="543" y="53"/>
                  </a:lnTo>
                  <a:lnTo>
                    <a:pt x="559" y="67"/>
                  </a:lnTo>
                  <a:lnTo>
                    <a:pt x="575" y="83"/>
                  </a:lnTo>
                  <a:lnTo>
                    <a:pt x="590" y="100"/>
                  </a:lnTo>
                  <a:lnTo>
                    <a:pt x="605" y="119"/>
                  </a:lnTo>
                  <a:lnTo>
                    <a:pt x="619" y="140"/>
                  </a:lnTo>
                  <a:lnTo>
                    <a:pt x="633" y="163"/>
                  </a:lnTo>
                  <a:lnTo>
                    <a:pt x="645" y="187"/>
                  </a:lnTo>
                  <a:lnTo>
                    <a:pt x="658" y="213"/>
                  </a:lnTo>
                  <a:lnTo>
                    <a:pt x="670" y="240"/>
                  </a:lnTo>
                  <a:lnTo>
                    <a:pt x="681" y="268"/>
                  </a:lnTo>
                  <a:lnTo>
                    <a:pt x="691" y="299"/>
                  </a:lnTo>
                  <a:lnTo>
                    <a:pt x="701" y="331"/>
                  </a:lnTo>
                  <a:lnTo>
                    <a:pt x="710" y="363"/>
                  </a:lnTo>
                  <a:lnTo>
                    <a:pt x="717" y="398"/>
                  </a:lnTo>
                  <a:lnTo>
                    <a:pt x="725" y="435"/>
                  </a:lnTo>
                  <a:lnTo>
                    <a:pt x="731" y="471"/>
                  </a:lnTo>
                  <a:lnTo>
                    <a:pt x="742" y="551"/>
                  </a:lnTo>
                  <a:lnTo>
                    <a:pt x="750" y="635"/>
                  </a:lnTo>
                  <a:lnTo>
                    <a:pt x="754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2560" y="4076640"/>
              <a:ext cx="291960" cy="439920"/>
            </a:xfrm>
            <a:custGeom>
              <a:avLst/>
              <a:gdLst/>
              <a:ahLst/>
              <a:rect l="l" t="t" r="r" b="b"/>
              <a:pathLst>
                <a:path w="813" h="1221">
                  <a:moveTo>
                    <a:pt x="804" y="179"/>
                  </a:moveTo>
                  <a:lnTo>
                    <a:pt x="803" y="203"/>
                  </a:lnTo>
                  <a:lnTo>
                    <a:pt x="803" y="226"/>
                  </a:lnTo>
                  <a:lnTo>
                    <a:pt x="800" y="248"/>
                  </a:lnTo>
                  <a:lnTo>
                    <a:pt x="798" y="258"/>
                  </a:lnTo>
                  <a:lnTo>
                    <a:pt x="797" y="269"/>
                  </a:lnTo>
                  <a:lnTo>
                    <a:pt x="795" y="278"/>
                  </a:lnTo>
                  <a:lnTo>
                    <a:pt x="792" y="288"/>
                  </a:lnTo>
                  <a:lnTo>
                    <a:pt x="790" y="297"/>
                  </a:lnTo>
                  <a:lnTo>
                    <a:pt x="787" y="305"/>
                  </a:lnTo>
                  <a:lnTo>
                    <a:pt x="784" y="314"/>
                  </a:lnTo>
                  <a:lnTo>
                    <a:pt x="781" y="321"/>
                  </a:lnTo>
                  <a:lnTo>
                    <a:pt x="777" y="330"/>
                  </a:lnTo>
                  <a:lnTo>
                    <a:pt x="774" y="336"/>
                  </a:lnTo>
                  <a:lnTo>
                    <a:pt x="766" y="350"/>
                  </a:lnTo>
                  <a:lnTo>
                    <a:pt x="758" y="361"/>
                  </a:lnTo>
                  <a:lnTo>
                    <a:pt x="749" y="371"/>
                  </a:lnTo>
                  <a:lnTo>
                    <a:pt x="740" y="380"/>
                  </a:lnTo>
                  <a:lnTo>
                    <a:pt x="731" y="385"/>
                  </a:lnTo>
                  <a:lnTo>
                    <a:pt x="721" y="390"/>
                  </a:lnTo>
                  <a:lnTo>
                    <a:pt x="710" y="392"/>
                  </a:lnTo>
                  <a:lnTo>
                    <a:pt x="699" y="394"/>
                  </a:lnTo>
                  <a:lnTo>
                    <a:pt x="692" y="394"/>
                  </a:lnTo>
                  <a:lnTo>
                    <a:pt x="683" y="392"/>
                  </a:lnTo>
                  <a:lnTo>
                    <a:pt x="676" y="388"/>
                  </a:lnTo>
                  <a:lnTo>
                    <a:pt x="668" y="385"/>
                  </a:lnTo>
                  <a:lnTo>
                    <a:pt x="660" y="381"/>
                  </a:lnTo>
                  <a:lnTo>
                    <a:pt x="653" y="375"/>
                  </a:lnTo>
                  <a:lnTo>
                    <a:pt x="646" y="369"/>
                  </a:lnTo>
                  <a:lnTo>
                    <a:pt x="638" y="361"/>
                  </a:lnTo>
                  <a:lnTo>
                    <a:pt x="625" y="343"/>
                  </a:lnTo>
                  <a:lnTo>
                    <a:pt x="612" y="326"/>
                  </a:lnTo>
                  <a:lnTo>
                    <a:pt x="606" y="317"/>
                  </a:lnTo>
                  <a:lnTo>
                    <a:pt x="600" y="307"/>
                  </a:lnTo>
                  <a:lnTo>
                    <a:pt x="595" y="298"/>
                  </a:lnTo>
                  <a:lnTo>
                    <a:pt x="591" y="290"/>
                  </a:lnTo>
                  <a:lnTo>
                    <a:pt x="577" y="343"/>
                  </a:lnTo>
                  <a:lnTo>
                    <a:pt x="568" y="375"/>
                  </a:lnTo>
                  <a:lnTo>
                    <a:pt x="559" y="407"/>
                  </a:lnTo>
                  <a:lnTo>
                    <a:pt x="554" y="425"/>
                  </a:lnTo>
                  <a:lnTo>
                    <a:pt x="549" y="442"/>
                  </a:lnTo>
                  <a:lnTo>
                    <a:pt x="543" y="458"/>
                  </a:lnTo>
                  <a:lnTo>
                    <a:pt x="538" y="473"/>
                  </a:lnTo>
                  <a:lnTo>
                    <a:pt x="531" y="487"/>
                  </a:lnTo>
                  <a:lnTo>
                    <a:pt x="525" y="501"/>
                  </a:lnTo>
                  <a:lnTo>
                    <a:pt x="517" y="515"/>
                  </a:lnTo>
                  <a:lnTo>
                    <a:pt x="511" y="529"/>
                  </a:lnTo>
                  <a:lnTo>
                    <a:pt x="511" y="537"/>
                  </a:lnTo>
                  <a:lnTo>
                    <a:pt x="528" y="546"/>
                  </a:lnTo>
                  <a:lnTo>
                    <a:pt x="544" y="555"/>
                  </a:lnTo>
                  <a:lnTo>
                    <a:pt x="560" y="567"/>
                  </a:lnTo>
                  <a:lnTo>
                    <a:pt x="573" y="579"/>
                  </a:lnTo>
                  <a:lnTo>
                    <a:pt x="585" y="593"/>
                  </a:lnTo>
                  <a:lnTo>
                    <a:pt x="590" y="600"/>
                  </a:lnTo>
                  <a:lnTo>
                    <a:pt x="595" y="607"/>
                  </a:lnTo>
                  <a:lnTo>
                    <a:pt x="600" y="615"/>
                  </a:lnTo>
                  <a:lnTo>
                    <a:pt x="605" y="622"/>
                  </a:lnTo>
                  <a:lnTo>
                    <a:pt x="609" y="631"/>
                  </a:lnTo>
                  <a:lnTo>
                    <a:pt x="612" y="640"/>
                  </a:lnTo>
                  <a:lnTo>
                    <a:pt x="619" y="659"/>
                  </a:lnTo>
                  <a:lnTo>
                    <a:pt x="626" y="679"/>
                  </a:lnTo>
                  <a:lnTo>
                    <a:pt x="632" y="704"/>
                  </a:lnTo>
                  <a:lnTo>
                    <a:pt x="637" y="730"/>
                  </a:lnTo>
                  <a:lnTo>
                    <a:pt x="642" y="757"/>
                  </a:lnTo>
                  <a:lnTo>
                    <a:pt x="647" y="789"/>
                  </a:lnTo>
                  <a:lnTo>
                    <a:pt x="651" y="823"/>
                  </a:lnTo>
                  <a:lnTo>
                    <a:pt x="655" y="860"/>
                  </a:lnTo>
                  <a:lnTo>
                    <a:pt x="659" y="891"/>
                  </a:lnTo>
                  <a:lnTo>
                    <a:pt x="660" y="905"/>
                  </a:lnTo>
                  <a:lnTo>
                    <a:pt x="663" y="919"/>
                  </a:lnTo>
                  <a:lnTo>
                    <a:pt x="665" y="932"/>
                  </a:lnTo>
                  <a:lnTo>
                    <a:pt x="668" y="945"/>
                  </a:lnTo>
                  <a:lnTo>
                    <a:pt x="671" y="955"/>
                  </a:lnTo>
                  <a:lnTo>
                    <a:pt x="673" y="967"/>
                  </a:lnTo>
                  <a:lnTo>
                    <a:pt x="676" y="977"/>
                  </a:lnTo>
                  <a:lnTo>
                    <a:pt x="679" y="988"/>
                  </a:lnTo>
                  <a:lnTo>
                    <a:pt x="682" y="996"/>
                  </a:lnTo>
                  <a:lnTo>
                    <a:pt x="684" y="1005"/>
                  </a:lnTo>
                  <a:lnTo>
                    <a:pt x="687" y="1012"/>
                  </a:lnTo>
                  <a:lnTo>
                    <a:pt x="690" y="1017"/>
                  </a:lnTo>
                  <a:lnTo>
                    <a:pt x="693" y="1022"/>
                  </a:lnTo>
                  <a:lnTo>
                    <a:pt x="695" y="1028"/>
                  </a:lnTo>
                  <a:lnTo>
                    <a:pt x="699" y="1033"/>
                  </a:lnTo>
                  <a:lnTo>
                    <a:pt x="702" y="1036"/>
                  </a:lnTo>
                  <a:lnTo>
                    <a:pt x="704" y="1040"/>
                  </a:lnTo>
                  <a:lnTo>
                    <a:pt x="708" y="1043"/>
                  </a:lnTo>
                  <a:lnTo>
                    <a:pt x="711" y="1047"/>
                  </a:lnTo>
                  <a:lnTo>
                    <a:pt x="715" y="1048"/>
                  </a:lnTo>
                  <a:lnTo>
                    <a:pt x="717" y="1048"/>
                  </a:lnTo>
                  <a:lnTo>
                    <a:pt x="721" y="1050"/>
                  </a:lnTo>
                  <a:lnTo>
                    <a:pt x="726" y="1052"/>
                  </a:lnTo>
                  <a:lnTo>
                    <a:pt x="732" y="1052"/>
                  </a:lnTo>
                  <a:lnTo>
                    <a:pt x="741" y="1052"/>
                  </a:lnTo>
                  <a:lnTo>
                    <a:pt x="744" y="1052"/>
                  </a:lnTo>
                  <a:lnTo>
                    <a:pt x="748" y="1052"/>
                  </a:lnTo>
                  <a:lnTo>
                    <a:pt x="752" y="1050"/>
                  </a:lnTo>
                  <a:lnTo>
                    <a:pt x="756" y="1050"/>
                  </a:lnTo>
                  <a:lnTo>
                    <a:pt x="765" y="1047"/>
                  </a:lnTo>
                  <a:lnTo>
                    <a:pt x="775" y="1042"/>
                  </a:lnTo>
                  <a:lnTo>
                    <a:pt x="785" y="1036"/>
                  </a:lnTo>
                  <a:lnTo>
                    <a:pt x="794" y="1029"/>
                  </a:lnTo>
                  <a:lnTo>
                    <a:pt x="803" y="1022"/>
                  </a:lnTo>
                  <a:lnTo>
                    <a:pt x="812" y="1016"/>
                  </a:lnTo>
                  <a:lnTo>
                    <a:pt x="798" y="1125"/>
                  </a:lnTo>
                  <a:lnTo>
                    <a:pt x="769" y="1147"/>
                  </a:lnTo>
                  <a:lnTo>
                    <a:pt x="742" y="1166"/>
                  </a:lnTo>
                  <a:lnTo>
                    <a:pt x="716" y="1182"/>
                  </a:lnTo>
                  <a:lnTo>
                    <a:pt x="693" y="1196"/>
                  </a:lnTo>
                  <a:lnTo>
                    <a:pt x="682" y="1201"/>
                  </a:lnTo>
                  <a:lnTo>
                    <a:pt x="670" y="1206"/>
                  </a:lnTo>
                  <a:lnTo>
                    <a:pt x="658" y="1210"/>
                  </a:lnTo>
                  <a:lnTo>
                    <a:pt x="644" y="1213"/>
                  </a:lnTo>
                  <a:lnTo>
                    <a:pt x="616" y="1218"/>
                  </a:lnTo>
                  <a:lnTo>
                    <a:pt x="587" y="1220"/>
                  </a:lnTo>
                  <a:lnTo>
                    <a:pt x="575" y="1220"/>
                  </a:lnTo>
                  <a:lnTo>
                    <a:pt x="563" y="1218"/>
                  </a:lnTo>
                  <a:lnTo>
                    <a:pt x="552" y="1215"/>
                  </a:lnTo>
                  <a:lnTo>
                    <a:pt x="541" y="1211"/>
                  </a:lnTo>
                  <a:lnTo>
                    <a:pt x="535" y="1210"/>
                  </a:lnTo>
                  <a:lnTo>
                    <a:pt x="530" y="1206"/>
                  </a:lnTo>
                  <a:lnTo>
                    <a:pt x="524" y="1203"/>
                  </a:lnTo>
                  <a:lnTo>
                    <a:pt x="519" y="1199"/>
                  </a:lnTo>
                  <a:lnTo>
                    <a:pt x="514" y="1194"/>
                  </a:lnTo>
                  <a:lnTo>
                    <a:pt x="509" y="1189"/>
                  </a:lnTo>
                  <a:lnTo>
                    <a:pt x="504" y="1184"/>
                  </a:lnTo>
                  <a:lnTo>
                    <a:pt x="499" y="1177"/>
                  </a:lnTo>
                  <a:lnTo>
                    <a:pt x="494" y="1170"/>
                  </a:lnTo>
                  <a:lnTo>
                    <a:pt x="489" y="1165"/>
                  </a:lnTo>
                  <a:lnTo>
                    <a:pt x="485" y="1156"/>
                  </a:lnTo>
                  <a:lnTo>
                    <a:pt x="481" y="1149"/>
                  </a:lnTo>
                  <a:lnTo>
                    <a:pt x="477" y="1139"/>
                  </a:lnTo>
                  <a:lnTo>
                    <a:pt x="473" y="1130"/>
                  </a:lnTo>
                  <a:lnTo>
                    <a:pt x="470" y="1119"/>
                  </a:lnTo>
                  <a:lnTo>
                    <a:pt x="467" y="1109"/>
                  </a:lnTo>
                  <a:lnTo>
                    <a:pt x="463" y="1097"/>
                  </a:lnTo>
                  <a:lnTo>
                    <a:pt x="460" y="1085"/>
                  </a:lnTo>
                  <a:lnTo>
                    <a:pt x="457" y="1073"/>
                  </a:lnTo>
                  <a:lnTo>
                    <a:pt x="455" y="1059"/>
                  </a:lnTo>
                  <a:lnTo>
                    <a:pt x="452" y="1045"/>
                  </a:lnTo>
                  <a:lnTo>
                    <a:pt x="450" y="1031"/>
                  </a:lnTo>
                  <a:lnTo>
                    <a:pt x="448" y="1016"/>
                  </a:lnTo>
                  <a:lnTo>
                    <a:pt x="446" y="998"/>
                  </a:lnTo>
                  <a:lnTo>
                    <a:pt x="445" y="981"/>
                  </a:lnTo>
                  <a:lnTo>
                    <a:pt x="443" y="964"/>
                  </a:lnTo>
                  <a:lnTo>
                    <a:pt x="440" y="927"/>
                  </a:lnTo>
                  <a:lnTo>
                    <a:pt x="440" y="919"/>
                  </a:lnTo>
                  <a:lnTo>
                    <a:pt x="439" y="910"/>
                  </a:lnTo>
                  <a:lnTo>
                    <a:pt x="438" y="893"/>
                  </a:lnTo>
                  <a:lnTo>
                    <a:pt x="435" y="861"/>
                  </a:lnTo>
                  <a:lnTo>
                    <a:pt x="430" y="809"/>
                  </a:lnTo>
                  <a:lnTo>
                    <a:pt x="427" y="785"/>
                  </a:lnTo>
                  <a:lnTo>
                    <a:pt x="423" y="766"/>
                  </a:lnTo>
                  <a:lnTo>
                    <a:pt x="420" y="747"/>
                  </a:lnTo>
                  <a:lnTo>
                    <a:pt x="417" y="731"/>
                  </a:lnTo>
                  <a:lnTo>
                    <a:pt x="414" y="725"/>
                  </a:lnTo>
                  <a:lnTo>
                    <a:pt x="412" y="718"/>
                  </a:lnTo>
                  <a:lnTo>
                    <a:pt x="411" y="712"/>
                  </a:lnTo>
                  <a:lnTo>
                    <a:pt x="408" y="707"/>
                  </a:lnTo>
                  <a:lnTo>
                    <a:pt x="406" y="702"/>
                  </a:lnTo>
                  <a:lnTo>
                    <a:pt x="403" y="699"/>
                  </a:lnTo>
                  <a:lnTo>
                    <a:pt x="400" y="693"/>
                  </a:lnTo>
                  <a:lnTo>
                    <a:pt x="397" y="690"/>
                  </a:lnTo>
                  <a:lnTo>
                    <a:pt x="394" y="686"/>
                  </a:lnTo>
                  <a:lnTo>
                    <a:pt x="390" y="683"/>
                  </a:lnTo>
                  <a:lnTo>
                    <a:pt x="387" y="681"/>
                  </a:lnTo>
                  <a:lnTo>
                    <a:pt x="383" y="678"/>
                  </a:lnTo>
                  <a:lnTo>
                    <a:pt x="373" y="674"/>
                  </a:lnTo>
                  <a:lnTo>
                    <a:pt x="364" y="671"/>
                  </a:lnTo>
                  <a:lnTo>
                    <a:pt x="353" y="669"/>
                  </a:lnTo>
                  <a:lnTo>
                    <a:pt x="341" y="669"/>
                  </a:lnTo>
                  <a:lnTo>
                    <a:pt x="323" y="669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5" y="466"/>
                  </a:lnTo>
                  <a:lnTo>
                    <a:pt x="145" y="378"/>
                  </a:lnTo>
                  <a:lnTo>
                    <a:pt x="147" y="354"/>
                  </a:lnTo>
                  <a:lnTo>
                    <a:pt x="149" y="330"/>
                  </a:lnTo>
                  <a:lnTo>
                    <a:pt x="150" y="319"/>
                  </a:lnTo>
                  <a:lnTo>
                    <a:pt x="151" y="309"/>
                  </a:lnTo>
                  <a:lnTo>
                    <a:pt x="151" y="298"/>
                  </a:lnTo>
                  <a:lnTo>
                    <a:pt x="151" y="290"/>
                  </a:lnTo>
                  <a:lnTo>
                    <a:pt x="151" y="274"/>
                  </a:lnTo>
                  <a:lnTo>
                    <a:pt x="150" y="258"/>
                  </a:lnTo>
                  <a:lnTo>
                    <a:pt x="148" y="245"/>
                  </a:lnTo>
                  <a:lnTo>
                    <a:pt x="147" y="232"/>
                  </a:lnTo>
                  <a:lnTo>
                    <a:pt x="146" y="227"/>
                  </a:lnTo>
                  <a:lnTo>
                    <a:pt x="145" y="222"/>
                  </a:lnTo>
                  <a:lnTo>
                    <a:pt x="143" y="217"/>
                  </a:lnTo>
                  <a:lnTo>
                    <a:pt x="142" y="212"/>
                  </a:lnTo>
                  <a:lnTo>
                    <a:pt x="141" y="207"/>
                  </a:lnTo>
                  <a:lnTo>
                    <a:pt x="139" y="203"/>
                  </a:lnTo>
                  <a:lnTo>
                    <a:pt x="137" y="200"/>
                  </a:lnTo>
                  <a:lnTo>
                    <a:pt x="136" y="196"/>
                  </a:lnTo>
                  <a:lnTo>
                    <a:pt x="134" y="193"/>
                  </a:lnTo>
                  <a:lnTo>
                    <a:pt x="131" y="189"/>
                  </a:lnTo>
                  <a:lnTo>
                    <a:pt x="129" y="187"/>
                  </a:lnTo>
                  <a:lnTo>
                    <a:pt x="126" y="184"/>
                  </a:lnTo>
                  <a:lnTo>
                    <a:pt x="124" y="182"/>
                  </a:lnTo>
                  <a:lnTo>
                    <a:pt x="120" y="181"/>
                  </a:lnTo>
                  <a:lnTo>
                    <a:pt x="114" y="177"/>
                  </a:lnTo>
                  <a:lnTo>
                    <a:pt x="107" y="174"/>
                  </a:lnTo>
                  <a:lnTo>
                    <a:pt x="99" y="172"/>
                  </a:lnTo>
                  <a:lnTo>
                    <a:pt x="90" y="170"/>
                  </a:lnTo>
                  <a:lnTo>
                    <a:pt x="80" y="170"/>
                  </a:lnTo>
                  <a:lnTo>
                    <a:pt x="69" y="170"/>
                  </a:lnTo>
                  <a:lnTo>
                    <a:pt x="64" y="172"/>
                  </a:lnTo>
                  <a:lnTo>
                    <a:pt x="59" y="174"/>
                  </a:lnTo>
                  <a:lnTo>
                    <a:pt x="53" y="175"/>
                  </a:lnTo>
                  <a:lnTo>
                    <a:pt x="48" y="177"/>
                  </a:lnTo>
                  <a:lnTo>
                    <a:pt x="42" y="179"/>
                  </a:lnTo>
                  <a:lnTo>
                    <a:pt x="37" y="182"/>
                  </a:lnTo>
                  <a:lnTo>
                    <a:pt x="27" y="187"/>
                  </a:lnTo>
                  <a:lnTo>
                    <a:pt x="17" y="194"/>
                  </a:lnTo>
                  <a:lnTo>
                    <a:pt x="0" y="205"/>
                  </a:lnTo>
                  <a:lnTo>
                    <a:pt x="14" y="97"/>
                  </a:lnTo>
                  <a:lnTo>
                    <a:pt x="115" y="30"/>
                  </a:lnTo>
                  <a:lnTo>
                    <a:pt x="127" y="23"/>
                  </a:lnTo>
                  <a:lnTo>
                    <a:pt x="139" y="18"/>
                  </a:lnTo>
                  <a:lnTo>
                    <a:pt x="151" y="12"/>
                  </a:lnTo>
                  <a:lnTo>
                    <a:pt x="162" y="9"/>
                  </a:lnTo>
                  <a:lnTo>
                    <a:pt x="174" y="6"/>
                  </a:lnTo>
                  <a:lnTo>
                    <a:pt x="185" y="4"/>
                  </a:lnTo>
                  <a:lnTo>
                    <a:pt x="195" y="2"/>
                  </a:lnTo>
                  <a:lnTo>
                    <a:pt x="206" y="2"/>
                  </a:lnTo>
                  <a:lnTo>
                    <a:pt x="225" y="4"/>
                  </a:lnTo>
                  <a:lnTo>
                    <a:pt x="243" y="7"/>
                  </a:lnTo>
                  <a:lnTo>
                    <a:pt x="260" y="12"/>
                  </a:lnTo>
                  <a:lnTo>
                    <a:pt x="276" y="19"/>
                  </a:lnTo>
                  <a:lnTo>
                    <a:pt x="290" y="30"/>
                  </a:lnTo>
                  <a:lnTo>
                    <a:pt x="297" y="37"/>
                  </a:lnTo>
                  <a:lnTo>
                    <a:pt x="304" y="42"/>
                  </a:lnTo>
                  <a:lnTo>
                    <a:pt x="310" y="49"/>
                  </a:lnTo>
                  <a:lnTo>
                    <a:pt x="316" y="56"/>
                  </a:lnTo>
                  <a:lnTo>
                    <a:pt x="321" y="64"/>
                  </a:lnTo>
                  <a:lnTo>
                    <a:pt x="326" y="73"/>
                  </a:lnTo>
                  <a:lnTo>
                    <a:pt x="335" y="92"/>
                  </a:lnTo>
                  <a:lnTo>
                    <a:pt x="340" y="101"/>
                  </a:lnTo>
                  <a:lnTo>
                    <a:pt x="344" y="111"/>
                  </a:lnTo>
                  <a:lnTo>
                    <a:pt x="347" y="122"/>
                  </a:lnTo>
                  <a:lnTo>
                    <a:pt x="351" y="132"/>
                  </a:lnTo>
                  <a:lnTo>
                    <a:pt x="354" y="142"/>
                  </a:lnTo>
                  <a:lnTo>
                    <a:pt x="356" y="155"/>
                  </a:lnTo>
                  <a:lnTo>
                    <a:pt x="359" y="165"/>
                  </a:lnTo>
                  <a:lnTo>
                    <a:pt x="361" y="177"/>
                  </a:lnTo>
                  <a:lnTo>
                    <a:pt x="362" y="189"/>
                  </a:lnTo>
                  <a:lnTo>
                    <a:pt x="364" y="201"/>
                  </a:lnTo>
                  <a:lnTo>
                    <a:pt x="365" y="213"/>
                  </a:lnTo>
                  <a:lnTo>
                    <a:pt x="366" y="226"/>
                  </a:lnTo>
                  <a:lnTo>
                    <a:pt x="367" y="238"/>
                  </a:lnTo>
                  <a:lnTo>
                    <a:pt x="367" y="252"/>
                  </a:lnTo>
                  <a:lnTo>
                    <a:pt x="367" y="272"/>
                  </a:lnTo>
                  <a:lnTo>
                    <a:pt x="366" y="293"/>
                  </a:lnTo>
                  <a:lnTo>
                    <a:pt x="365" y="314"/>
                  </a:lnTo>
                  <a:lnTo>
                    <a:pt x="364" y="336"/>
                  </a:lnTo>
                  <a:lnTo>
                    <a:pt x="362" y="359"/>
                  </a:lnTo>
                  <a:lnTo>
                    <a:pt x="361" y="383"/>
                  </a:lnTo>
                  <a:lnTo>
                    <a:pt x="357" y="409"/>
                  </a:lnTo>
                  <a:lnTo>
                    <a:pt x="354" y="435"/>
                  </a:lnTo>
                  <a:lnTo>
                    <a:pt x="336" y="567"/>
                  </a:lnTo>
                  <a:lnTo>
                    <a:pt x="355" y="567"/>
                  </a:lnTo>
                  <a:lnTo>
                    <a:pt x="363" y="567"/>
                  </a:lnTo>
                  <a:lnTo>
                    <a:pt x="373" y="565"/>
                  </a:lnTo>
                  <a:lnTo>
                    <a:pt x="381" y="562"/>
                  </a:lnTo>
                  <a:lnTo>
                    <a:pt x="389" y="558"/>
                  </a:lnTo>
                  <a:lnTo>
                    <a:pt x="398" y="553"/>
                  </a:lnTo>
                  <a:lnTo>
                    <a:pt x="406" y="548"/>
                  </a:lnTo>
                  <a:lnTo>
                    <a:pt x="415" y="541"/>
                  </a:lnTo>
                  <a:lnTo>
                    <a:pt x="423" y="532"/>
                  </a:lnTo>
                  <a:lnTo>
                    <a:pt x="431" y="524"/>
                  </a:lnTo>
                  <a:lnTo>
                    <a:pt x="439" y="513"/>
                  </a:lnTo>
                  <a:lnTo>
                    <a:pt x="445" y="503"/>
                  </a:lnTo>
                  <a:lnTo>
                    <a:pt x="452" y="491"/>
                  </a:lnTo>
                  <a:lnTo>
                    <a:pt x="458" y="478"/>
                  </a:lnTo>
                  <a:lnTo>
                    <a:pt x="463" y="465"/>
                  </a:lnTo>
                  <a:lnTo>
                    <a:pt x="468" y="451"/>
                  </a:lnTo>
                  <a:lnTo>
                    <a:pt x="473" y="437"/>
                  </a:lnTo>
                  <a:lnTo>
                    <a:pt x="483" y="406"/>
                  </a:lnTo>
                  <a:lnTo>
                    <a:pt x="493" y="371"/>
                  </a:lnTo>
                  <a:lnTo>
                    <a:pt x="515" y="286"/>
                  </a:lnTo>
                  <a:lnTo>
                    <a:pt x="521" y="262"/>
                  </a:lnTo>
                  <a:lnTo>
                    <a:pt x="527" y="239"/>
                  </a:lnTo>
                  <a:lnTo>
                    <a:pt x="534" y="217"/>
                  </a:lnTo>
                  <a:lnTo>
                    <a:pt x="542" y="194"/>
                  </a:lnTo>
                  <a:lnTo>
                    <a:pt x="549" y="174"/>
                  </a:lnTo>
                  <a:lnTo>
                    <a:pt x="557" y="151"/>
                  </a:lnTo>
                  <a:lnTo>
                    <a:pt x="575" y="109"/>
                  </a:lnTo>
                  <a:lnTo>
                    <a:pt x="581" y="97"/>
                  </a:lnTo>
                  <a:lnTo>
                    <a:pt x="587" y="85"/>
                  </a:lnTo>
                  <a:lnTo>
                    <a:pt x="593" y="75"/>
                  </a:lnTo>
                  <a:lnTo>
                    <a:pt x="599" y="64"/>
                  </a:lnTo>
                  <a:lnTo>
                    <a:pt x="606" y="54"/>
                  </a:lnTo>
                  <a:lnTo>
                    <a:pt x="613" y="45"/>
                  </a:lnTo>
                  <a:lnTo>
                    <a:pt x="620" y="37"/>
                  </a:lnTo>
                  <a:lnTo>
                    <a:pt x="627" y="30"/>
                  </a:lnTo>
                  <a:lnTo>
                    <a:pt x="635" y="23"/>
                  </a:lnTo>
                  <a:lnTo>
                    <a:pt x="643" y="18"/>
                  </a:lnTo>
                  <a:lnTo>
                    <a:pt x="651" y="12"/>
                  </a:lnTo>
                  <a:lnTo>
                    <a:pt x="660" y="7"/>
                  </a:lnTo>
                  <a:lnTo>
                    <a:pt x="670" y="4"/>
                  </a:lnTo>
                  <a:lnTo>
                    <a:pt x="680" y="2"/>
                  </a:lnTo>
                  <a:lnTo>
                    <a:pt x="691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25" y="4"/>
                  </a:lnTo>
                  <a:lnTo>
                    <a:pt x="735" y="7"/>
                  </a:lnTo>
                  <a:lnTo>
                    <a:pt x="745" y="12"/>
                  </a:lnTo>
                  <a:lnTo>
                    <a:pt x="754" y="19"/>
                  </a:lnTo>
                  <a:lnTo>
                    <a:pt x="759" y="23"/>
                  </a:lnTo>
                  <a:lnTo>
                    <a:pt x="763" y="28"/>
                  </a:lnTo>
                  <a:lnTo>
                    <a:pt x="766" y="32"/>
                  </a:lnTo>
                  <a:lnTo>
                    <a:pt x="770" y="37"/>
                  </a:lnTo>
                  <a:lnTo>
                    <a:pt x="774" y="44"/>
                  </a:lnTo>
                  <a:lnTo>
                    <a:pt x="777" y="49"/>
                  </a:lnTo>
                  <a:lnTo>
                    <a:pt x="781" y="56"/>
                  </a:lnTo>
                  <a:lnTo>
                    <a:pt x="783" y="61"/>
                  </a:lnTo>
                  <a:lnTo>
                    <a:pt x="787" y="68"/>
                  </a:lnTo>
                  <a:lnTo>
                    <a:pt x="789" y="75"/>
                  </a:lnTo>
                  <a:lnTo>
                    <a:pt x="792" y="84"/>
                  </a:lnTo>
                  <a:lnTo>
                    <a:pt x="793" y="90"/>
                  </a:lnTo>
                  <a:lnTo>
                    <a:pt x="796" y="97"/>
                  </a:lnTo>
                  <a:lnTo>
                    <a:pt x="798" y="106"/>
                  </a:lnTo>
                  <a:lnTo>
                    <a:pt x="799" y="115"/>
                  </a:lnTo>
                  <a:lnTo>
                    <a:pt x="800" y="123"/>
                  </a:lnTo>
                  <a:lnTo>
                    <a:pt x="802" y="132"/>
                  </a:lnTo>
                  <a:lnTo>
                    <a:pt x="803" y="141"/>
                  </a:lnTo>
                  <a:lnTo>
                    <a:pt x="803" y="160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5160" y="4071960"/>
              <a:ext cx="295200" cy="449280"/>
            </a:xfrm>
            <a:custGeom>
              <a:avLst/>
              <a:gdLst/>
              <a:ahLst/>
              <a:rect l="l" t="t" r="r" b="b"/>
              <a:pathLst>
                <a:path w="820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7"/>
                  </a:lnTo>
                  <a:lnTo>
                    <a:pt x="365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2"/>
                  </a:lnTo>
                  <a:lnTo>
                    <a:pt x="293" y="1230"/>
                  </a:lnTo>
                  <a:lnTo>
                    <a:pt x="286" y="1234"/>
                  </a:lnTo>
                  <a:lnTo>
                    <a:pt x="278" y="1239"/>
                  </a:lnTo>
                  <a:lnTo>
                    <a:pt x="270" y="1241"/>
                  </a:lnTo>
                  <a:lnTo>
                    <a:pt x="261" y="1244"/>
                  </a:lnTo>
                  <a:lnTo>
                    <a:pt x="253" y="1246"/>
                  </a:lnTo>
                  <a:lnTo>
                    <a:pt x="244" y="1246"/>
                  </a:lnTo>
                  <a:lnTo>
                    <a:pt x="227" y="1248"/>
                  </a:lnTo>
                  <a:lnTo>
                    <a:pt x="199" y="1246"/>
                  </a:lnTo>
                  <a:lnTo>
                    <a:pt x="173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7" y="1208"/>
                  </a:lnTo>
                  <a:lnTo>
                    <a:pt x="107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6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7" y="1000"/>
                  </a:lnTo>
                  <a:lnTo>
                    <a:pt x="14" y="981"/>
                  </a:lnTo>
                  <a:lnTo>
                    <a:pt x="7" y="937"/>
                  </a:lnTo>
                  <a:lnTo>
                    <a:pt x="3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1" y="711"/>
                  </a:lnTo>
                  <a:lnTo>
                    <a:pt x="4" y="671"/>
                  </a:lnTo>
                  <a:lnTo>
                    <a:pt x="8" y="633"/>
                  </a:lnTo>
                  <a:lnTo>
                    <a:pt x="12" y="594"/>
                  </a:lnTo>
                  <a:lnTo>
                    <a:pt x="18" y="556"/>
                  </a:lnTo>
                  <a:lnTo>
                    <a:pt x="24" y="520"/>
                  </a:lnTo>
                  <a:lnTo>
                    <a:pt x="32" y="484"/>
                  </a:lnTo>
                  <a:lnTo>
                    <a:pt x="40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4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0" y="49"/>
                  </a:lnTo>
                  <a:lnTo>
                    <a:pt x="278" y="35"/>
                  </a:lnTo>
                  <a:lnTo>
                    <a:pt x="297" y="24"/>
                  </a:lnTo>
                  <a:lnTo>
                    <a:pt x="316" y="16"/>
                  </a:lnTo>
                  <a:lnTo>
                    <a:pt x="335" y="9"/>
                  </a:lnTo>
                  <a:lnTo>
                    <a:pt x="354" y="4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49" y="7"/>
                  </a:lnTo>
                  <a:lnTo>
                    <a:pt x="461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3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1"/>
                  </a:lnTo>
                  <a:lnTo>
                    <a:pt x="664" y="948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80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4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4"/>
                  </a:lnTo>
                  <a:lnTo>
                    <a:pt x="720" y="1066"/>
                  </a:lnTo>
                  <a:lnTo>
                    <a:pt x="729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59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3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7" y="1234"/>
                  </a:lnTo>
                  <a:lnTo>
                    <a:pt x="625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1" y="1232"/>
                  </a:lnTo>
                  <a:lnTo>
                    <a:pt x="567" y="1229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7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0" y="1099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2"/>
                  </a:lnTo>
                  <a:lnTo>
                    <a:pt x="524" y="244"/>
                  </a:lnTo>
                  <a:lnTo>
                    <a:pt x="523" y="236"/>
                  </a:lnTo>
                  <a:lnTo>
                    <a:pt x="521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6" y="203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4" y="127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20"/>
                  </a:lnTo>
                  <a:lnTo>
                    <a:pt x="433" y="120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4"/>
                  </a:lnTo>
                  <a:lnTo>
                    <a:pt x="382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4" y="177"/>
                  </a:lnTo>
                  <a:lnTo>
                    <a:pt x="346" y="191"/>
                  </a:lnTo>
                  <a:lnTo>
                    <a:pt x="337" y="206"/>
                  </a:lnTo>
                  <a:lnTo>
                    <a:pt x="329" y="224"/>
                  </a:lnTo>
                  <a:lnTo>
                    <a:pt x="321" y="243"/>
                  </a:lnTo>
                  <a:lnTo>
                    <a:pt x="313" y="262"/>
                  </a:lnTo>
                  <a:lnTo>
                    <a:pt x="305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4"/>
                  </a:lnTo>
                  <a:lnTo>
                    <a:pt x="248" y="542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4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39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8"/>
                  </a:lnTo>
                  <a:lnTo>
                    <a:pt x="256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7" y="1022"/>
                  </a:lnTo>
                  <a:lnTo>
                    <a:pt x="271" y="1028"/>
                  </a:lnTo>
                  <a:lnTo>
                    <a:pt x="276" y="1034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4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7" y="1066"/>
                  </a:lnTo>
                  <a:lnTo>
                    <a:pt x="334" y="1066"/>
                  </a:lnTo>
                  <a:lnTo>
                    <a:pt x="342" y="1066"/>
                  </a:lnTo>
                  <a:lnTo>
                    <a:pt x="349" y="1064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4"/>
                  </a:lnTo>
                  <a:lnTo>
                    <a:pt x="378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2" y="976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6040" y="4076640"/>
              <a:ext cx="314280" cy="444600"/>
            </a:xfrm>
            <a:custGeom>
              <a:avLst/>
              <a:gdLst/>
              <a:ahLst/>
              <a:rect l="l" t="t" r="r" b="b"/>
              <a:pathLst>
                <a:path w="874" h="1235">
                  <a:moveTo>
                    <a:pt x="498" y="1007"/>
                  </a:moveTo>
                  <a:lnTo>
                    <a:pt x="494" y="1007"/>
                  </a:lnTo>
                  <a:lnTo>
                    <a:pt x="460" y="1062"/>
                  </a:lnTo>
                  <a:lnTo>
                    <a:pt x="444" y="1086"/>
                  </a:lnTo>
                  <a:lnTo>
                    <a:pt x="427" y="1109"/>
                  </a:lnTo>
                  <a:lnTo>
                    <a:pt x="411" y="1128"/>
                  </a:lnTo>
                  <a:lnTo>
                    <a:pt x="396" y="1147"/>
                  </a:lnTo>
                  <a:lnTo>
                    <a:pt x="380" y="1164"/>
                  </a:lnTo>
                  <a:lnTo>
                    <a:pt x="364" y="1178"/>
                  </a:lnTo>
                  <a:lnTo>
                    <a:pt x="348" y="1190"/>
                  </a:lnTo>
                  <a:lnTo>
                    <a:pt x="332" y="1202"/>
                  </a:lnTo>
                  <a:lnTo>
                    <a:pt x="315" y="1211"/>
                  </a:lnTo>
                  <a:lnTo>
                    <a:pt x="298" y="1220"/>
                  </a:lnTo>
                  <a:lnTo>
                    <a:pt x="280" y="1225"/>
                  </a:lnTo>
                  <a:lnTo>
                    <a:pt x="261" y="1230"/>
                  </a:lnTo>
                  <a:lnTo>
                    <a:pt x="242" y="1232"/>
                  </a:lnTo>
                  <a:lnTo>
                    <a:pt x="221" y="1234"/>
                  </a:lnTo>
                  <a:lnTo>
                    <a:pt x="204" y="1232"/>
                  </a:lnTo>
                  <a:lnTo>
                    <a:pt x="188" y="1228"/>
                  </a:lnTo>
                  <a:lnTo>
                    <a:pt x="171" y="1223"/>
                  </a:lnTo>
                  <a:lnTo>
                    <a:pt x="157" y="1216"/>
                  </a:lnTo>
                  <a:lnTo>
                    <a:pt x="143" y="1206"/>
                  </a:lnTo>
                  <a:lnTo>
                    <a:pt x="138" y="1199"/>
                  </a:lnTo>
                  <a:lnTo>
                    <a:pt x="132" y="1192"/>
                  </a:lnTo>
                  <a:lnTo>
                    <a:pt x="126" y="1185"/>
                  </a:lnTo>
                  <a:lnTo>
                    <a:pt x="120" y="1178"/>
                  </a:lnTo>
                  <a:lnTo>
                    <a:pt x="115" y="1169"/>
                  </a:lnTo>
                  <a:lnTo>
                    <a:pt x="110" y="1161"/>
                  </a:lnTo>
                  <a:lnTo>
                    <a:pt x="100" y="1142"/>
                  </a:lnTo>
                  <a:lnTo>
                    <a:pt x="96" y="1133"/>
                  </a:lnTo>
                  <a:lnTo>
                    <a:pt x="93" y="1123"/>
                  </a:lnTo>
                  <a:lnTo>
                    <a:pt x="89" y="1112"/>
                  </a:lnTo>
                  <a:lnTo>
                    <a:pt x="86" y="1102"/>
                  </a:lnTo>
                  <a:lnTo>
                    <a:pt x="83" y="1092"/>
                  </a:lnTo>
                  <a:lnTo>
                    <a:pt x="80" y="1081"/>
                  </a:lnTo>
                  <a:lnTo>
                    <a:pt x="78" y="1069"/>
                  </a:lnTo>
                  <a:lnTo>
                    <a:pt x="76" y="1057"/>
                  </a:lnTo>
                  <a:lnTo>
                    <a:pt x="74" y="1046"/>
                  </a:lnTo>
                  <a:lnTo>
                    <a:pt x="73" y="1034"/>
                  </a:lnTo>
                  <a:lnTo>
                    <a:pt x="72" y="1022"/>
                  </a:lnTo>
                  <a:lnTo>
                    <a:pt x="72" y="1010"/>
                  </a:lnTo>
                  <a:lnTo>
                    <a:pt x="71" y="984"/>
                  </a:lnTo>
                  <a:lnTo>
                    <a:pt x="71" y="965"/>
                  </a:lnTo>
                  <a:lnTo>
                    <a:pt x="72" y="946"/>
                  </a:lnTo>
                  <a:lnTo>
                    <a:pt x="72" y="927"/>
                  </a:lnTo>
                  <a:lnTo>
                    <a:pt x="73" y="908"/>
                  </a:lnTo>
                  <a:lnTo>
                    <a:pt x="74" y="897"/>
                  </a:lnTo>
                  <a:lnTo>
                    <a:pt x="74" y="887"/>
                  </a:lnTo>
                  <a:lnTo>
                    <a:pt x="77" y="863"/>
                  </a:lnTo>
                  <a:lnTo>
                    <a:pt x="81" y="833"/>
                  </a:lnTo>
                  <a:lnTo>
                    <a:pt x="85" y="800"/>
                  </a:lnTo>
                  <a:lnTo>
                    <a:pt x="134" y="464"/>
                  </a:lnTo>
                  <a:lnTo>
                    <a:pt x="144" y="373"/>
                  </a:lnTo>
                  <a:lnTo>
                    <a:pt x="147" y="347"/>
                  </a:lnTo>
                  <a:lnTo>
                    <a:pt x="149" y="322"/>
                  </a:lnTo>
                  <a:lnTo>
                    <a:pt x="150" y="303"/>
                  </a:lnTo>
                  <a:lnTo>
                    <a:pt x="151" y="295"/>
                  </a:lnTo>
                  <a:lnTo>
                    <a:pt x="151" y="288"/>
                  </a:lnTo>
                  <a:lnTo>
                    <a:pt x="151" y="272"/>
                  </a:lnTo>
                  <a:lnTo>
                    <a:pt x="150" y="258"/>
                  </a:lnTo>
                  <a:lnTo>
                    <a:pt x="149" y="244"/>
                  </a:lnTo>
                  <a:lnTo>
                    <a:pt x="148" y="232"/>
                  </a:lnTo>
                  <a:lnTo>
                    <a:pt x="146" y="227"/>
                  </a:lnTo>
                  <a:lnTo>
                    <a:pt x="145" y="222"/>
                  </a:lnTo>
                  <a:lnTo>
                    <a:pt x="143" y="217"/>
                  </a:lnTo>
                  <a:lnTo>
                    <a:pt x="143" y="211"/>
                  </a:lnTo>
                  <a:lnTo>
                    <a:pt x="141" y="206"/>
                  </a:lnTo>
                  <a:lnTo>
                    <a:pt x="139" y="203"/>
                  </a:lnTo>
                  <a:lnTo>
                    <a:pt x="138" y="199"/>
                  </a:lnTo>
                  <a:lnTo>
                    <a:pt x="136" y="196"/>
                  </a:lnTo>
                  <a:lnTo>
                    <a:pt x="134" y="192"/>
                  </a:lnTo>
                  <a:lnTo>
                    <a:pt x="132" y="189"/>
                  </a:lnTo>
                  <a:lnTo>
                    <a:pt x="130" y="185"/>
                  </a:lnTo>
                  <a:lnTo>
                    <a:pt x="127" y="184"/>
                  </a:lnTo>
                  <a:lnTo>
                    <a:pt x="124" y="180"/>
                  </a:lnTo>
                  <a:lnTo>
                    <a:pt x="121" y="179"/>
                  </a:lnTo>
                  <a:lnTo>
                    <a:pt x="115" y="175"/>
                  </a:lnTo>
                  <a:lnTo>
                    <a:pt x="107" y="172"/>
                  </a:lnTo>
                  <a:lnTo>
                    <a:pt x="99" y="170"/>
                  </a:lnTo>
                  <a:lnTo>
                    <a:pt x="89" y="168"/>
                  </a:lnTo>
                  <a:lnTo>
                    <a:pt x="79" y="168"/>
                  </a:lnTo>
                  <a:lnTo>
                    <a:pt x="74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8" y="172"/>
                  </a:lnTo>
                  <a:lnTo>
                    <a:pt x="53" y="173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0"/>
                  </a:lnTo>
                  <a:lnTo>
                    <a:pt x="27" y="185"/>
                  </a:lnTo>
                  <a:lnTo>
                    <a:pt x="16" y="192"/>
                  </a:lnTo>
                  <a:lnTo>
                    <a:pt x="0" y="203"/>
                  </a:lnTo>
                  <a:lnTo>
                    <a:pt x="14" y="95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8" y="16"/>
                  </a:lnTo>
                  <a:lnTo>
                    <a:pt x="150" y="10"/>
                  </a:lnTo>
                  <a:lnTo>
                    <a:pt x="161" y="7"/>
                  </a:lnTo>
                  <a:lnTo>
                    <a:pt x="172" y="4"/>
                  </a:lnTo>
                  <a:lnTo>
                    <a:pt x="183" y="2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24" y="2"/>
                  </a:lnTo>
                  <a:lnTo>
                    <a:pt x="242" y="5"/>
                  </a:lnTo>
                  <a:lnTo>
                    <a:pt x="259" y="10"/>
                  </a:lnTo>
                  <a:lnTo>
                    <a:pt x="274" y="17"/>
                  </a:lnTo>
                  <a:lnTo>
                    <a:pt x="288" y="28"/>
                  </a:lnTo>
                  <a:lnTo>
                    <a:pt x="302" y="40"/>
                  </a:lnTo>
                  <a:lnTo>
                    <a:pt x="308" y="47"/>
                  </a:lnTo>
                  <a:lnTo>
                    <a:pt x="314" y="54"/>
                  </a:lnTo>
                  <a:lnTo>
                    <a:pt x="320" y="62"/>
                  </a:lnTo>
                  <a:lnTo>
                    <a:pt x="325" y="71"/>
                  </a:lnTo>
                  <a:lnTo>
                    <a:pt x="335" y="88"/>
                  </a:lnTo>
                  <a:lnTo>
                    <a:pt x="339" y="99"/>
                  </a:lnTo>
                  <a:lnTo>
                    <a:pt x="343" y="109"/>
                  </a:lnTo>
                  <a:lnTo>
                    <a:pt x="347" y="118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56" y="151"/>
                  </a:lnTo>
                  <a:lnTo>
                    <a:pt x="359" y="161"/>
                  </a:lnTo>
                  <a:lnTo>
                    <a:pt x="360" y="173"/>
                  </a:lnTo>
                  <a:lnTo>
                    <a:pt x="362" y="185"/>
                  </a:lnTo>
                  <a:lnTo>
                    <a:pt x="364" y="198"/>
                  </a:lnTo>
                  <a:lnTo>
                    <a:pt x="364" y="210"/>
                  </a:lnTo>
                  <a:lnTo>
                    <a:pt x="365" y="222"/>
                  </a:lnTo>
                  <a:lnTo>
                    <a:pt x="366" y="234"/>
                  </a:lnTo>
                  <a:lnTo>
                    <a:pt x="366" y="248"/>
                  </a:lnTo>
                  <a:lnTo>
                    <a:pt x="366" y="260"/>
                  </a:lnTo>
                  <a:lnTo>
                    <a:pt x="365" y="277"/>
                  </a:lnTo>
                  <a:lnTo>
                    <a:pt x="364" y="326"/>
                  </a:lnTo>
                  <a:lnTo>
                    <a:pt x="362" y="353"/>
                  </a:lnTo>
                  <a:lnTo>
                    <a:pt x="360" y="381"/>
                  </a:lnTo>
                  <a:lnTo>
                    <a:pt x="357" y="407"/>
                  </a:lnTo>
                  <a:lnTo>
                    <a:pt x="353" y="433"/>
                  </a:lnTo>
                  <a:lnTo>
                    <a:pt x="306" y="750"/>
                  </a:lnTo>
                  <a:lnTo>
                    <a:pt x="303" y="771"/>
                  </a:lnTo>
                  <a:lnTo>
                    <a:pt x="300" y="794"/>
                  </a:lnTo>
                  <a:lnTo>
                    <a:pt x="298" y="818"/>
                  </a:lnTo>
                  <a:lnTo>
                    <a:pt x="296" y="840"/>
                  </a:lnTo>
                  <a:lnTo>
                    <a:pt x="292" y="882"/>
                  </a:lnTo>
                  <a:lnTo>
                    <a:pt x="292" y="897"/>
                  </a:lnTo>
                  <a:lnTo>
                    <a:pt x="292" y="904"/>
                  </a:lnTo>
                  <a:lnTo>
                    <a:pt x="292" y="911"/>
                  </a:lnTo>
                  <a:lnTo>
                    <a:pt x="292" y="925"/>
                  </a:lnTo>
                  <a:lnTo>
                    <a:pt x="292" y="937"/>
                  </a:lnTo>
                  <a:lnTo>
                    <a:pt x="293" y="949"/>
                  </a:lnTo>
                  <a:lnTo>
                    <a:pt x="295" y="962"/>
                  </a:lnTo>
                  <a:lnTo>
                    <a:pt x="298" y="972"/>
                  </a:lnTo>
                  <a:lnTo>
                    <a:pt x="300" y="982"/>
                  </a:lnTo>
                  <a:lnTo>
                    <a:pt x="303" y="991"/>
                  </a:lnTo>
                  <a:lnTo>
                    <a:pt x="306" y="1000"/>
                  </a:lnTo>
                  <a:lnTo>
                    <a:pt x="308" y="1003"/>
                  </a:lnTo>
                  <a:lnTo>
                    <a:pt x="310" y="1008"/>
                  </a:lnTo>
                  <a:lnTo>
                    <a:pt x="312" y="1012"/>
                  </a:lnTo>
                  <a:lnTo>
                    <a:pt x="314" y="1014"/>
                  </a:lnTo>
                  <a:lnTo>
                    <a:pt x="317" y="1017"/>
                  </a:lnTo>
                  <a:lnTo>
                    <a:pt x="320" y="1020"/>
                  </a:lnTo>
                  <a:lnTo>
                    <a:pt x="322" y="1022"/>
                  </a:lnTo>
                  <a:lnTo>
                    <a:pt x="326" y="1024"/>
                  </a:lnTo>
                  <a:lnTo>
                    <a:pt x="332" y="1027"/>
                  </a:lnTo>
                  <a:lnTo>
                    <a:pt x="339" y="1031"/>
                  </a:lnTo>
                  <a:lnTo>
                    <a:pt x="347" y="1033"/>
                  </a:lnTo>
                  <a:lnTo>
                    <a:pt x="355" y="1033"/>
                  </a:lnTo>
                  <a:lnTo>
                    <a:pt x="362" y="1033"/>
                  </a:lnTo>
                  <a:lnTo>
                    <a:pt x="369" y="1031"/>
                  </a:lnTo>
                  <a:lnTo>
                    <a:pt x="376" y="1027"/>
                  </a:lnTo>
                  <a:lnTo>
                    <a:pt x="385" y="1022"/>
                  </a:lnTo>
                  <a:lnTo>
                    <a:pt x="393" y="1017"/>
                  </a:lnTo>
                  <a:lnTo>
                    <a:pt x="403" y="1010"/>
                  </a:lnTo>
                  <a:lnTo>
                    <a:pt x="412" y="1001"/>
                  </a:lnTo>
                  <a:lnTo>
                    <a:pt x="422" y="993"/>
                  </a:lnTo>
                  <a:lnTo>
                    <a:pt x="432" y="982"/>
                  </a:lnTo>
                  <a:lnTo>
                    <a:pt x="443" y="972"/>
                  </a:lnTo>
                  <a:lnTo>
                    <a:pt x="453" y="960"/>
                  </a:lnTo>
                  <a:lnTo>
                    <a:pt x="463" y="946"/>
                  </a:lnTo>
                  <a:lnTo>
                    <a:pt x="475" y="932"/>
                  </a:lnTo>
                  <a:lnTo>
                    <a:pt x="485" y="917"/>
                  </a:lnTo>
                  <a:lnTo>
                    <a:pt x="495" y="899"/>
                  </a:lnTo>
                  <a:lnTo>
                    <a:pt x="505" y="882"/>
                  </a:lnTo>
                  <a:lnTo>
                    <a:pt x="612" y="21"/>
                  </a:lnTo>
                  <a:lnTo>
                    <a:pt x="820" y="4"/>
                  </a:lnTo>
                  <a:lnTo>
                    <a:pt x="828" y="21"/>
                  </a:lnTo>
                  <a:lnTo>
                    <a:pt x="735" y="754"/>
                  </a:lnTo>
                  <a:lnTo>
                    <a:pt x="733" y="773"/>
                  </a:lnTo>
                  <a:lnTo>
                    <a:pt x="730" y="795"/>
                  </a:lnTo>
                  <a:lnTo>
                    <a:pt x="724" y="846"/>
                  </a:lnTo>
                  <a:lnTo>
                    <a:pt x="720" y="896"/>
                  </a:lnTo>
                  <a:lnTo>
                    <a:pt x="719" y="915"/>
                  </a:lnTo>
                  <a:lnTo>
                    <a:pt x="718" y="923"/>
                  </a:lnTo>
                  <a:lnTo>
                    <a:pt x="718" y="930"/>
                  </a:lnTo>
                  <a:lnTo>
                    <a:pt x="718" y="948"/>
                  </a:lnTo>
                  <a:lnTo>
                    <a:pt x="719" y="963"/>
                  </a:lnTo>
                  <a:lnTo>
                    <a:pt x="721" y="977"/>
                  </a:lnTo>
                  <a:lnTo>
                    <a:pt x="722" y="982"/>
                  </a:lnTo>
                  <a:lnTo>
                    <a:pt x="723" y="989"/>
                  </a:lnTo>
                  <a:lnTo>
                    <a:pt x="723" y="994"/>
                  </a:lnTo>
                  <a:lnTo>
                    <a:pt x="725" y="1000"/>
                  </a:lnTo>
                  <a:lnTo>
                    <a:pt x="727" y="1005"/>
                  </a:lnTo>
                  <a:lnTo>
                    <a:pt x="728" y="1010"/>
                  </a:lnTo>
                  <a:lnTo>
                    <a:pt x="729" y="1015"/>
                  </a:lnTo>
                  <a:lnTo>
                    <a:pt x="731" y="1019"/>
                  </a:lnTo>
                  <a:lnTo>
                    <a:pt x="734" y="1022"/>
                  </a:lnTo>
                  <a:lnTo>
                    <a:pt x="735" y="1026"/>
                  </a:lnTo>
                  <a:lnTo>
                    <a:pt x="738" y="1029"/>
                  </a:lnTo>
                  <a:lnTo>
                    <a:pt x="739" y="1031"/>
                  </a:lnTo>
                  <a:lnTo>
                    <a:pt x="742" y="1034"/>
                  </a:lnTo>
                  <a:lnTo>
                    <a:pt x="745" y="1036"/>
                  </a:lnTo>
                  <a:lnTo>
                    <a:pt x="751" y="1040"/>
                  </a:lnTo>
                  <a:lnTo>
                    <a:pt x="758" y="1043"/>
                  </a:lnTo>
                  <a:lnTo>
                    <a:pt x="766" y="1046"/>
                  </a:lnTo>
                  <a:lnTo>
                    <a:pt x="774" y="1048"/>
                  </a:lnTo>
                  <a:lnTo>
                    <a:pt x="784" y="1050"/>
                  </a:lnTo>
                  <a:lnTo>
                    <a:pt x="794" y="1050"/>
                  </a:lnTo>
                  <a:lnTo>
                    <a:pt x="799" y="1050"/>
                  </a:lnTo>
                  <a:lnTo>
                    <a:pt x="804" y="1050"/>
                  </a:lnTo>
                  <a:lnTo>
                    <a:pt x="809" y="1048"/>
                  </a:lnTo>
                  <a:lnTo>
                    <a:pt x="814" y="1046"/>
                  </a:lnTo>
                  <a:lnTo>
                    <a:pt x="826" y="1043"/>
                  </a:lnTo>
                  <a:lnTo>
                    <a:pt x="838" y="1038"/>
                  </a:lnTo>
                  <a:lnTo>
                    <a:pt x="859" y="1026"/>
                  </a:lnTo>
                  <a:lnTo>
                    <a:pt x="866" y="1020"/>
                  </a:lnTo>
                  <a:lnTo>
                    <a:pt x="870" y="1019"/>
                  </a:lnTo>
                  <a:lnTo>
                    <a:pt x="873" y="1015"/>
                  </a:lnTo>
                  <a:lnTo>
                    <a:pt x="859" y="1123"/>
                  </a:lnTo>
                  <a:lnTo>
                    <a:pt x="756" y="1194"/>
                  </a:lnTo>
                  <a:lnTo>
                    <a:pt x="746" y="1199"/>
                  </a:lnTo>
                  <a:lnTo>
                    <a:pt x="736" y="1204"/>
                  </a:lnTo>
                  <a:lnTo>
                    <a:pt x="726" y="1208"/>
                  </a:lnTo>
                  <a:lnTo>
                    <a:pt x="715" y="1211"/>
                  </a:lnTo>
                  <a:lnTo>
                    <a:pt x="703" y="1215"/>
                  </a:lnTo>
                  <a:lnTo>
                    <a:pt x="691" y="1216"/>
                  </a:lnTo>
                  <a:lnTo>
                    <a:pt x="679" y="1218"/>
                  </a:lnTo>
                  <a:lnTo>
                    <a:pt x="667" y="1218"/>
                  </a:lnTo>
                  <a:lnTo>
                    <a:pt x="650" y="1216"/>
                  </a:lnTo>
                  <a:lnTo>
                    <a:pt x="633" y="1215"/>
                  </a:lnTo>
                  <a:lnTo>
                    <a:pt x="618" y="1209"/>
                  </a:lnTo>
                  <a:lnTo>
                    <a:pt x="602" y="1204"/>
                  </a:lnTo>
                  <a:lnTo>
                    <a:pt x="589" y="1195"/>
                  </a:lnTo>
                  <a:lnTo>
                    <a:pt x="576" y="1185"/>
                  </a:lnTo>
                  <a:lnTo>
                    <a:pt x="563" y="1173"/>
                  </a:lnTo>
                  <a:lnTo>
                    <a:pt x="552" y="1159"/>
                  </a:lnTo>
                  <a:lnTo>
                    <a:pt x="542" y="1143"/>
                  </a:lnTo>
                  <a:lnTo>
                    <a:pt x="533" y="1128"/>
                  </a:lnTo>
                  <a:lnTo>
                    <a:pt x="524" y="1111"/>
                  </a:lnTo>
                  <a:lnTo>
                    <a:pt x="518" y="1092"/>
                  </a:lnTo>
                  <a:lnTo>
                    <a:pt x="511" y="1072"/>
                  </a:lnTo>
                  <a:lnTo>
                    <a:pt x="506" y="1052"/>
                  </a:lnTo>
                  <a:lnTo>
                    <a:pt x="502" y="1029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8080" y="4071960"/>
              <a:ext cx="466920" cy="444600"/>
            </a:xfrm>
            <a:custGeom>
              <a:avLst/>
              <a:gdLst/>
              <a:ahLst/>
              <a:rect l="l" t="t" r="r" b="b"/>
              <a:pathLst>
                <a:path w="1297" h="1233">
                  <a:moveTo>
                    <a:pt x="1296" y="1029"/>
                  </a:moveTo>
                  <a:lnTo>
                    <a:pt x="1281" y="1137"/>
                  </a:lnTo>
                  <a:lnTo>
                    <a:pt x="1179" y="1208"/>
                  </a:lnTo>
                  <a:lnTo>
                    <a:pt x="1169" y="1213"/>
                  </a:lnTo>
                  <a:lnTo>
                    <a:pt x="1159" y="1218"/>
                  </a:lnTo>
                  <a:lnTo>
                    <a:pt x="1148" y="1222"/>
                  </a:lnTo>
                  <a:lnTo>
                    <a:pt x="1136" y="1225"/>
                  </a:lnTo>
                  <a:lnTo>
                    <a:pt x="1125" y="1229"/>
                  </a:lnTo>
                  <a:lnTo>
                    <a:pt x="1114" y="1230"/>
                  </a:lnTo>
                  <a:lnTo>
                    <a:pt x="1102" y="1232"/>
                  </a:lnTo>
                  <a:lnTo>
                    <a:pt x="1089" y="1232"/>
                  </a:lnTo>
                  <a:lnTo>
                    <a:pt x="1070" y="1230"/>
                  </a:lnTo>
                  <a:lnTo>
                    <a:pt x="1053" y="1227"/>
                  </a:lnTo>
                  <a:lnTo>
                    <a:pt x="1036" y="1222"/>
                  </a:lnTo>
                  <a:lnTo>
                    <a:pt x="1021" y="1215"/>
                  </a:lnTo>
                  <a:lnTo>
                    <a:pt x="1006" y="1204"/>
                  </a:lnTo>
                  <a:lnTo>
                    <a:pt x="993" y="1192"/>
                  </a:lnTo>
                  <a:lnTo>
                    <a:pt x="980" y="1178"/>
                  </a:lnTo>
                  <a:lnTo>
                    <a:pt x="975" y="1170"/>
                  </a:lnTo>
                  <a:lnTo>
                    <a:pt x="969" y="1161"/>
                  </a:lnTo>
                  <a:lnTo>
                    <a:pt x="959" y="1144"/>
                  </a:lnTo>
                  <a:lnTo>
                    <a:pt x="954" y="1133"/>
                  </a:lnTo>
                  <a:lnTo>
                    <a:pt x="950" y="1123"/>
                  </a:lnTo>
                  <a:lnTo>
                    <a:pt x="946" y="1114"/>
                  </a:lnTo>
                  <a:lnTo>
                    <a:pt x="943" y="1104"/>
                  </a:lnTo>
                  <a:lnTo>
                    <a:pt x="939" y="1093"/>
                  </a:lnTo>
                  <a:lnTo>
                    <a:pt x="937" y="1081"/>
                  </a:lnTo>
                  <a:lnTo>
                    <a:pt x="934" y="1071"/>
                  </a:lnTo>
                  <a:lnTo>
                    <a:pt x="932" y="1059"/>
                  </a:lnTo>
                  <a:lnTo>
                    <a:pt x="930" y="1047"/>
                  </a:lnTo>
                  <a:lnTo>
                    <a:pt x="928" y="1034"/>
                  </a:lnTo>
                  <a:lnTo>
                    <a:pt x="927" y="1022"/>
                  </a:lnTo>
                  <a:lnTo>
                    <a:pt x="927" y="1010"/>
                  </a:lnTo>
                  <a:lnTo>
                    <a:pt x="926" y="998"/>
                  </a:lnTo>
                  <a:lnTo>
                    <a:pt x="926" y="984"/>
                  </a:lnTo>
                  <a:lnTo>
                    <a:pt x="926" y="969"/>
                  </a:lnTo>
                  <a:lnTo>
                    <a:pt x="927" y="951"/>
                  </a:lnTo>
                  <a:lnTo>
                    <a:pt x="927" y="911"/>
                  </a:lnTo>
                  <a:lnTo>
                    <a:pt x="929" y="887"/>
                  </a:lnTo>
                  <a:lnTo>
                    <a:pt x="932" y="861"/>
                  </a:lnTo>
                  <a:lnTo>
                    <a:pt x="934" y="832"/>
                  </a:lnTo>
                  <a:lnTo>
                    <a:pt x="938" y="801"/>
                  </a:lnTo>
                  <a:lnTo>
                    <a:pt x="985" y="484"/>
                  </a:lnTo>
                  <a:lnTo>
                    <a:pt x="988" y="458"/>
                  </a:lnTo>
                  <a:lnTo>
                    <a:pt x="992" y="435"/>
                  </a:lnTo>
                  <a:lnTo>
                    <a:pt x="994" y="411"/>
                  </a:lnTo>
                  <a:lnTo>
                    <a:pt x="996" y="390"/>
                  </a:lnTo>
                  <a:lnTo>
                    <a:pt x="998" y="371"/>
                  </a:lnTo>
                  <a:lnTo>
                    <a:pt x="999" y="352"/>
                  </a:lnTo>
                  <a:lnTo>
                    <a:pt x="999" y="336"/>
                  </a:lnTo>
                  <a:lnTo>
                    <a:pt x="999" y="322"/>
                  </a:lnTo>
                  <a:lnTo>
                    <a:pt x="999" y="309"/>
                  </a:lnTo>
                  <a:lnTo>
                    <a:pt x="999" y="295"/>
                  </a:lnTo>
                  <a:lnTo>
                    <a:pt x="997" y="283"/>
                  </a:lnTo>
                  <a:lnTo>
                    <a:pt x="996" y="272"/>
                  </a:lnTo>
                  <a:lnTo>
                    <a:pt x="994" y="267"/>
                  </a:lnTo>
                  <a:lnTo>
                    <a:pt x="993" y="262"/>
                  </a:lnTo>
                  <a:lnTo>
                    <a:pt x="992" y="257"/>
                  </a:lnTo>
                  <a:lnTo>
                    <a:pt x="991" y="251"/>
                  </a:lnTo>
                  <a:lnTo>
                    <a:pt x="989" y="246"/>
                  </a:lnTo>
                  <a:lnTo>
                    <a:pt x="987" y="243"/>
                  </a:lnTo>
                  <a:lnTo>
                    <a:pt x="986" y="238"/>
                  </a:lnTo>
                  <a:lnTo>
                    <a:pt x="984" y="234"/>
                  </a:lnTo>
                  <a:lnTo>
                    <a:pt x="982" y="231"/>
                  </a:lnTo>
                  <a:lnTo>
                    <a:pt x="980" y="225"/>
                  </a:lnTo>
                  <a:lnTo>
                    <a:pt x="977" y="222"/>
                  </a:lnTo>
                  <a:lnTo>
                    <a:pt x="976" y="220"/>
                  </a:lnTo>
                  <a:lnTo>
                    <a:pt x="972" y="217"/>
                  </a:lnTo>
                  <a:lnTo>
                    <a:pt x="970" y="213"/>
                  </a:lnTo>
                  <a:lnTo>
                    <a:pt x="967" y="212"/>
                  </a:lnTo>
                  <a:lnTo>
                    <a:pt x="964" y="210"/>
                  </a:lnTo>
                  <a:lnTo>
                    <a:pt x="957" y="206"/>
                  </a:lnTo>
                  <a:lnTo>
                    <a:pt x="950" y="203"/>
                  </a:lnTo>
                  <a:lnTo>
                    <a:pt x="943" y="201"/>
                  </a:lnTo>
                  <a:lnTo>
                    <a:pt x="934" y="201"/>
                  </a:lnTo>
                  <a:lnTo>
                    <a:pt x="927" y="201"/>
                  </a:lnTo>
                  <a:lnTo>
                    <a:pt x="921" y="203"/>
                  </a:lnTo>
                  <a:lnTo>
                    <a:pt x="914" y="206"/>
                  </a:lnTo>
                  <a:lnTo>
                    <a:pt x="906" y="212"/>
                  </a:lnTo>
                  <a:lnTo>
                    <a:pt x="898" y="217"/>
                  </a:lnTo>
                  <a:lnTo>
                    <a:pt x="889" y="224"/>
                  </a:lnTo>
                  <a:lnTo>
                    <a:pt x="881" y="232"/>
                  </a:lnTo>
                  <a:lnTo>
                    <a:pt x="872" y="241"/>
                  </a:lnTo>
                  <a:lnTo>
                    <a:pt x="853" y="264"/>
                  </a:lnTo>
                  <a:lnTo>
                    <a:pt x="833" y="290"/>
                  </a:lnTo>
                  <a:lnTo>
                    <a:pt x="815" y="317"/>
                  </a:lnTo>
                  <a:lnTo>
                    <a:pt x="795" y="350"/>
                  </a:lnTo>
                  <a:lnTo>
                    <a:pt x="688" y="1211"/>
                  </a:lnTo>
                  <a:lnTo>
                    <a:pt x="473" y="1211"/>
                  </a:lnTo>
                  <a:lnTo>
                    <a:pt x="563" y="484"/>
                  </a:lnTo>
                  <a:lnTo>
                    <a:pt x="574" y="387"/>
                  </a:lnTo>
                  <a:lnTo>
                    <a:pt x="576" y="369"/>
                  </a:lnTo>
                  <a:lnTo>
                    <a:pt x="577" y="352"/>
                  </a:lnTo>
                  <a:lnTo>
                    <a:pt x="578" y="336"/>
                  </a:lnTo>
                  <a:lnTo>
                    <a:pt x="578" y="322"/>
                  </a:lnTo>
                  <a:lnTo>
                    <a:pt x="578" y="309"/>
                  </a:lnTo>
                  <a:lnTo>
                    <a:pt x="577" y="295"/>
                  </a:lnTo>
                  <a:lnTo>
                    <a:pt x="575" y="283"/>
                  </a:lnTo>
                  <a:lnTo>
                    <a:pt x="574" y="272"/>
                  </a:lnTo>
                  <a:lnTo>
                    <a:pt x="573" y="267"/>
                  </a:lnTo>
                  <a:lnTo>
                    <a:pt x="572" y="262"/>
                  </a:lnTo>
                  <a:lnTo>
                    <a:pt x="570" y="257"/>
                  </a:lnTo>
                  <a:lnTo>
                    <a:pt x="569" y="251"/>
                  </a:lnTo>
                  <a:lnTo>
                    <a:pt x="568" y="246"/>
                  </a:lnTo>
                  <a:lnTo>
                    <a:pt x="566" y="243"/>
                  </a:lnTo>
                  <a:lnTo>
                    <a:pt x="564" y="238"/>
                  </a:lnTo>
                  <a:lnTo>
                    <a:pt x="563" y="234"/>
                  </a:lnTo>
                  <a:lnTo>
                    <a:pt x="560" y="231"/>
                  </a:lnTo>
                  <a:lnTo>
                    <a:pt x="558" y="225"/>
                  </a:lnTo>
                  <a:lnTo>
                    <a:pt x="556" y="222"/>
                  </a:lnTo>
                  <a:lnTo>
                    <a:pt x="553" y="220"/>
                  </a:lnTo>
                  <a:lnTo>
                    <a:pt x="551" y="217"/>
                  </a:lnTo>
                  <a:lnTo>
                    <a:pt x="547" y="213"/>
                  </a:lnTo>
                  <a:lnTo>
                    <a:pt x="545" y="212"/>
                  </a:lnTo>
                  <a:lnTo>
                    <a:pt x="541" y="210"/>
                  </a:lnTo>
                  <a:lnTo>
                    <a:pt x="535" y="206"/>
                  </a:lnTo>
                  <a:lnTo>
                    <a:pt x="528" y="203"/>
                  </a:lnTo>
                  <a:lnTo>
                    <a:pt x="519" y="201"/>
                  </a:lnTo>
                  <a:lnTo>
                    <a:pt x="511" y="201"/>
                  </a:lnTo>
                  <a:lnTo>
                    <a:pt x="506" y="201"/>
                  </a:lnTo>
                  <a:lnTo>
                    <a:pt x="500" y="203"/>
                  </a:lnTo>
                  <a:lnTo>
                    <a:pt x="493" y="205"/>
                  </a:lnTo>
                  <a:lnTo>
                    <a:pt x="487" y="208"/>
                  </a:lnTo>
                  <a:lnTo>
                    <a:pt x="480" y="213"/>
                  </a:lnTo>
                  <a:lnTo>
                    <a:pt x="472" y="219"/>
                  </a:lnTo>
                  <a:lnTo>
                    <a:pt x="455" y="231"/>
                  </a:lnTo>
                  <a:lnTo>
                    <a:pt x="446" y="239"/>
                  </a:lnTo>
                  <a:lnTo>
                    <a:pt x="436" y="250"/>
                  </a:lnTo>
                  <a:lnTo>
                    <a:pt x="425" y="262"/>
                  </a:lnTo>
                  <a:lnTo>
                    <a:pt x="414" y="276"/>
                  </a:lnTo>
                  <a:lnTo>
                    <a:pt x="403" y="291"/>
                  </a:lnTo>
                  <a:lnTo>
                    <a:pt x="391" y="309"/>
                  </a:lnTo>
                  <a:lnTo>
                    <a:pt x="365" y="350"/>
                  </a:lnTo>
                  <a:lnTo>
                    <a:pt x="258" y="1211"/>
                  </a:lnTo>
                  <a:lnTo>
                    <a:pt x="43" y="1211"/>
                  </a:lnTo>
                  <a:lnTo>
                    <a:pt x="135" y="478"/>
                  </a:lnTo>
                  <a:lnTo>
                    <a:pt x="145" y="390"/>
                  </a:lnTo>
                  <a:lnTo>
                    <a:pt x="148" y="364"/>
                  </a:lnTo>
                  <a:lnTo>
                    <a:pt x="149" y="342"/>
                  </a:lnTo>
                  <a:lnTo>
                    <a:pt x="151" y="321"/>
                  </a:lnTo>
                  <a:lnTo>
                    <a:pt x="151" y="310"/>
                  </a:lnTo>
                  <a:lnTo>
                    <a:pt x="151" y="302"/>
                  </a:lnTo>
                  <a:lnTo>
                    <a:pt x="151" y="286"/>
                  </a:lnTo>
                  <a:lnTo>
                    <a:pt x="150" y="270"/>
                  </a:lnTo>
                  <a:lnTo>
                    <a:pt x="149" y="257"/>
                  </a:lnTo>
                  <a:lnTo>
                    <a:pt x="148" y="244"/>
                  </a:lnTo>
                  <a:lnTo>
                    <a:pt x="147" y="239"/>
                  </a:lnTo>
                  <a:lnTo>
                    <a:pt x="146" y="234"/>
                  </a:lnTo>
                  <a:lnTo>
                    <a:pt x="144" y="229"/>
                  </a:lnTo>
                  <a:lnTo>
                    <a:pt x="143" y="224"/>
                  </a:lnTo>
                  <a:lnTo>
                    <a:pt x="142" y="219"/>
                  </a:lnTo>
                  <a:lnTo>
                    <a:pt x="140" y="215"/>
                  </a:lnTo>
                  <a:lnTo>
                    <a:pt x="138" y="212"/>
                  </a:lnTo>
                  <a:lnTo>
                    <a:pt x="137" y="208"/>
                  </a:lnTo>
                  <a:lnTo>
                    <a:pt x="135" y="205"/>
                  </a:lnTo>
                  <a:lnTo>
                    <a:pt x="132" y="201"/>
                  </a:lnTo>
                  <a:lnTo>
                    <a:pt x="131" y="199"/>
                  </a:lnTo>
                  <a:lnTo>
                    <a:pt x="128" y="196"/>
                  </a:lnTo>
                  <a:lnTo>
                    <a:pt x="125" y="194"/>
                  </a:lnTo>
                  <a:lnTo>
                    <a:pt x="122" y="193"/>
                  </a:lnTo>
                  <a:lnTo>
                    <a:pt x="116" y="189"/>
                  </a:lnTo>
                  <a:lnTo>
                    <a:pt x="108" y="186"/>
                  </a:lnTo>
                  <a:lnTo>
                    <a:pt x="100" y="184"/>
                  </a:lnTo>
                  <a:lnTo>
                    <a:pt x="91" y="182"/>
                  </a:lnTo>
                  <a:lnTo>
                    <a:pt x="81" y="182"/>
                  </a:lnTo>
                  <a:lnTo>
                    <a:pt x="70" y="182"/>
                  </a:lnTo>
                  <a:lnTo>
                    <a:pt x="65" y="184"/>
                  </a:lnTo>
                  <a:lnTo>
                    <a:pt x="60" y="186"/>
                  </a:lnTo>
                  <a:lnTo>
                    <a:pt x="54" y="187"/>
                  </a:lnTo>
                  <a:lnTo>
                    <a:pt x="49" y="189"/>
                  </a:lnTo>
                  <a:lnTo>
                    <a:pt x="43" y="191"/>
                  </a:lnTo>
                  <a:lnTo>
                    <a:pt x="38" y="194"/>
                  </a:lnTo>
                  <a:lnTo>
                    <a:pt x="27" y="199"/>
                  </a:lnTo>
                  <a:lnTo>
                    <a:pt x="17" y="206"/>
                  </a:lnTo>
                  <a:lnTo>
                    <a:pt x="0" y="217"/>
                  </a:lnTo>
                  <a:lnTo>
                    <a:pt x="15" y="109"/>
                  </a:lnTo>
                  <a:lnTo>
                    <a:pt x="116" y="42"/>
                  </a:lnTo>
                  <a:lnTo>
                    <a:pt x="127" y="35"/>
                  </a:lnTo>
                  <a:lnTo>
                    <a:pt x="139" y="30"/>
                  </a:lnTo>
                  <a:lnTo>
                    <a:pt x="151" y="24"/>
                  </a:lnTo>
                  <a:lnTo>
                    <a:pt x="162" y="21"/>
                  </a:lnTo>
                  <a:lnTo>
                    <a:pt x="174" y="18"/>
                  </a:lnTo>
                  <a:lnTo>
                    <a:pt x="185" y="16"/>
                  </a:lnTo>
                  <a:lnTo>
                    <a:pt x="195" y="14"/>
                  </a:lnTo>
                  <a:lnTo>
                    <a:pt x="206" y="14"/>
                  </a:lnTo>
                  <a:lnTo>
                    <a:pt x="226" y="16"/>
                  </a:lnTo>
                  <a:lnTo>
                    <a:pt x="243" y="18"/>
                  </a:lnTo>
                  <a:lnTo>
                    <a:pt x="259" y="23"/>
                  </a:lnTo>
                  <a:lnTo>
                    <a:pt x="275" y="28"/>
                  </a:lnTo>
                  <a:lnTo>
                    <a:pt x="288" y="37"/>
                  </a:lnTo>
                  <a:lnTo>
                    <a:pt x="295" y="42"/>
                  </a:lnTo>
                  <a:lnTo>
                    <a:pt x="301" y="47"/>
                  </a:lnTo>
                  <a:lnTo>
                    <a:pt x="306" y="52"/>
                  </a:lnTo>
                  <a:lnTo>
                    <a:pt x="312" y="59"/>
                  </a:lnTo>
                  <a:lnTo>
                    <a:pt x="317" y="66"/>
                  </a:lnTo>
                  <a:lnTo>
                    <a:pt x="321" y="73"/>
                  </a:lnTo>
                  <a:lnTo>
                    <a:pt x="330" y="89"/>
                  </a:lnTo>
                  <a:lnTo>
                    <a:pt x="337" y="104"/>
                  </a:lnTo>
                  <a:lnTo>
                    <a:pt x="344" y="121"/>
                  </a:lnTo>
                  <a:lnTo>
                    <a:pt x="351" y="141"/>
                  </a:lnTo>
                  <a:lnTo>
                    <a:pt x="357" y="160"/>
                  </a:lnTo>
                  <a:lnTo>
                    <a:pt x="362" y="180"/>
                  </a:lnTo>
                  <a:lnTo>
                    <a:pt x="366" y="201"/>
                  </a:lnTo>
                  <a:lnTo>
                    <a:pt x="370" y="224"/>
                  </a:lnTo>
                  <a:lnTo>
                    <a:pt x="375" y="224"/>
                  </a:lnTo>
                  <a:lnTo>
                    <a:pt x="407" y="172"/>
                  </a:lnTo>
                  <a:lnTo>
                    <a:pt x="439" y="128"/>
                  </a:lnTo>
                  <a:lnTo>
                    <a:pt x="454" y="108"/>
                  </a:lnTo>
                  <a:lnTo>
                    <a:pt x="470" y="89"/>
                  </a:lnTo>
                  <a:lnTo>
                    <a:pt x="485" y="73"/>
                  </a:lnTo>
                  <a:lnTo>
                    <a:pt x="501" y="57"/>
                  </a:lnTo>
                  <a:lnTo>
                    <a:pt x="516" y="44"/>
                  </a:lnTo>
                  <a:lnTo>
                    <a:pt x="532" y="33"/>
                  </a:lnTo>
                  <a:lnTo>
                    <a:pt x="548" y="23"/>
                  </a:lnTo>
                  <a:lnTo>
                    <a:pt x="565" y="14"/>
                  </a:lnTo>
                  <a:lnTo>
                    <a:pt x="583" y="9"/>
                  </a:lnTo>
                  <a:lnTo>
                    <a:pt x="601" y="4"/>
                  </a:lnTo>
                  <a:lnTo>
                    <a:pt x="620" y="2"/>
                  </a:lnTo>
                  <a:lnTo>
                    <a:pt x="640" y="0"/>
                  </a:lnTo>
                  <a:lnTo>
                    <a:pt x="656" y="2"/>
                  </a:lnTo>
                  <a:lnTo>
                    <a:pt x="672" y="4"/>
                  </a:lnTo>
                  <a:lnTo>
                    <a:pt x="686" y="9"/>
                  </a:lnTo>
                  <a:lnTo>
                    <a:pt x="701" y="18"/>
                  </a:lnTo>
                  <a:lnTo>
                    <a:pt x="714" y="26"/>
                  </a:lnTo>
                  <a:lnTo>
                    <a:pt x="727" y="38"/>
                  </a:lnTo>
                  <a:lnTo>
                    <a:pt x="739" y="50"/>
                  </a:lnTo>
                  <a:lnTo>
                    <a:pt x="750" y="66"/>
                  </a:lnTo>
                  <a:lnTo>
                    <a:pt x="760" y="83"/>
                  </a:lnTo>
                  <a:lnTo>
                    <a:pt x="769" y="101"/>
                  </a:lnTo>
                  <a:lnTo>
                    <a:pt x="772" y="109"/>
                  </a:lnTo>
                  <a:lnTo>
                    <a:pt x="777" y="120"/>
                  </a:lnTo>
                  <a:lnTo>
                    <a:pt x="780" y="128"/>
                  </a:lnTo>
                  <a:lnTo>
                    <a:pt x="783" y="139"/>
                  </a:lnTo>
                  <a:lnTo>
                    <a:pt x="786" y="149"/>
                  </a:lnTo>
                  <a:lnTo>
                    <a:pt x="789" y="160"/>
                  </a:lnTo>
                  <a:lnTo>
                    <a:pt x="791" y="170"/>
                  </a:lnTo>
                  <a:lnTo>
                    <a:pt x="793" y="182"/>
                  </a:lnTo>
                  <a:lnTo>
                    <a:pt x="794" y="193"/>
                  </a:lnTo>
                  <a:lnTo>
                    <a:pt x="795" y="205"/>
                  </a:lnTo>
                  <a:lnTo>
                    <a:pt x="796" y="217"/>
                  </a:lnTo>
                  <a:lnTo>
                    <a:pt x="797" y="229"/>
                  </a:lnTo>
                  <a:lnTo>
                    <a:pt x="802" y="229"/>
                  </a:lnTo>
                  <a:lnTo>
                    <a:pt x="836" y="177"/>
                  </a:lnTo>
                  <a:lnTo>
                    <a:pt x="869" y="132"/>
                  </a:lnTo>
                  <a:lnTo>
                    <a:pt x="900" y="92"/>
                  </a:lnTo>
                  <a:lnTo>
                    <a:pt x="931" y="59"/>
                  </a:lnTo>
                  <a:lnTo>
                    <a:pt x="946" y="45"/>
                  </a:lnTo>
                  <a:lnTo>
                    <a:pt x="961" y="33"/>
                  </a:lnTo>
                  <a:lnTo>
                    <a:pt x="978" y="23"/>
                  </a:lnTo>
                  <a:lnTo>
                    <a:pt x="994" y="14"/>
                  </a:lnTo>
                  <a:lnTo>
                    <a:pt x="1012" y="9"/>
                  </a:lnTo>
                  <a:lnTo>
                    <a:pt x="1030" y="4"/>
                  </a:lnTo>
                  <a:lnTo>
                    <a:pt x="1048" y="2"/>
                  </a:lnTo>
                  <a:lnTo>
                    <a:pt x="1067" y="0"/>
                  </a:lnTo>
                  <a:lnTo>
                    <a:pt x="1084" y="2"/>
                  </a:lnTo>
                  <a:lnTo>
                    <a:pt x="1101" y="5"/>
                  </a:lnTo>
                  <a:lnTo>
                    <a:pt x="1116" y="11"/>
                  </a:lnTo>
                  <a:lnTo>
                    <a:pt x="1131" y="19"/>
                  </a:lnTo>
                  <a:lnTo>
                    <a:pt x="1145" y="28"/>
                  </a:lnTo>
                  <a:lnTo>
                    <a:pt x="1151" y="35"/>
                  </a:lnTo>
                  <a:lnTo>
                    <a:pt x="1158" y="42"/>
                  </a:lnTo>
                  <a:lnTo>
                    <a:pt x="1164" y="49"/>
                  </a:lnTo>
                  <a:lnTo>
                    <a:pt x="1169" y="56"/>
                  </a:lnTo>
                  <a:lnTo>
                    <a:pt x="1175" y="64"/>
                  </a:lnTo>
                  <a:lnTo>
                    <a:pt x="1180" y="73"/>
                  </a:lnTo>
                  <a:lnTo>
                    <a:pt x="1189" y="92"/>
                  </a:lnTo>
                  <a:lnTo>
                    <a:pt x="1197" y="111"/>
                  </a:lnTo>
                  <a:lnTo>
                    <a:pt x="1201" y="121"/>
                  </a:lnTo>
                  <a:lnTo>
                    <a:pt x="1204" y="132"/>
                  </a:lnTo>
                  <a:lnTo>
                    <a:pt x="1208" y="142"/>
                  </a:lnTo>
                  <a:lnTo>
                    <a:pt x="1210" y="154"/>
                  </a:lnTo>
                  <a:lnTo>
                    <a:pt x="1213" y="165"/>
                  </a:lnTo>
                  <a:lnTo>
                    <a:pt x="1214" y="177"/>
                  </a:lnTo>
                  <a:lnTo>
                    <a:pt x="1216" y="187"/>
                  </a:lnTo>
                  <a:lnTo>
                    <a:pt x="1218" y="199"/>
                  </a:lnTo>
                  <a:lnTo>
                    <a:pt x="1219" y="212"/>
                  </a:lnTo>
                  <a:lnTo>
                    <a:pt x="1219" y="224"/>
                  </a:lnTo>
                  <a:lnTo>
                    <a:pt x="1220" y="238"/>
                  </a:lnTo>
                  <a:lnTo>
                    <a:pt x="1220" y="250"/>
                  </a:lnTo>
                  <a:lnTo>
                    <a:pt x="1220" y="265"/>
                  </a:lnTo>
                  <a:lnTo>
                    <a:pt x="1219" y="283"/>
                  </a:lnTo>
                  <a:lnTo>
                    <a:pt x="1218" y="326"/>
                  </a:lnTo>
                  <a:lnTo>
                    <a:pt x="1217" y="340"/>
                  </a:lnTo>
                  <a:lnTo>
                    <a:pt x="1217" y="352"/>
                  </a:lnTo>
                  <a:lnTo>
                    <a:pt x="1215" y="366"/>
                  </a:lnTo>
                  <a:lnTo>
                    <a:pt x="1214" y="378"/>
                  </a:lnTo>
                  <a:lnTo>
                    <a:pt x="1211" y="404"/>
                  </a:lnTo>
                  <a:lnTo>
                    <a:pt x="1208" y="432"/>
                  </a:lnTo>
                  <a:lnTo>
                    <a:pt x="1158" y="768"/>
                  </a:lnTo>
                  <a:lnTo>
                    <a:pt x="1154" y="790"/>
                  </a:lnTo>
                  <a:lnTo>
                    <a:pt x="1152" y="813"/>
                  </a:lnTo>
                  <a:lnTo>
                    <a:pt x="1148" y="837"/>
                  </a:lnTo>
                  <a:lnTo>
                    <a:pt x="1146" y="863"/>
                  </a:lnTo>
                  <a:lnTo>
                    <a:pt x="1143" y="889"/>
                  </a:lnTo>
                  <a:lnTo>
                    <a:pt x="1142" y="911"/>
                  </a:lnTo>
                  <a:lnTo>
                    <a:pt x="1141" y="929"/>
                  </a:lnTo>
                  <a:lnTo>
                    <a:pt x="1141" y="937"/>
                  </a:lnTo>
                  <a:lnTo>
                    <a:pt x="1141" y="944"/>
                  </a:lnTo>
                  <a:lnTo>
                    <a:pt x="1141" y="962"/>
                  </a:lnTo>
                  <a:lnTo>
                    <a:pt x="1142" y="977"/>
                  </a:lnTo>
                  <a:lnTo>
                    <a:pt x="1143" y="991"/>
                  </a:lnTo>
                  <a:lnTo>
                    <a:pt x="1144" y="996"/>
                  </a:lnTo>
                  <a:lnTo>
                    <a:pt x="1145" y="1003"/>
                  </a:lnTo>
                  <a:lnTo>
                    <a:pt x="1146" y="1008"/>
                  </a:lnTo>
                  <a:lnTo>
                    <a:pt x="1148" y="1014"/>
                  </a:lnTo>
                  <a:lnTo>
                    <a:pt x="1149" y="1019"/>
                  </a:lnTo>
                  <a:lnTo>
                    <a:pt x="1150" y="1024"/>
                  </a:lnTo>
                  <a:lnTo>
                    <a:pt x="1152" y="1029"/>
                  </a:lnTo>
                  <a:lnTo>
                    <a:pt x="1153" y="1033"/>
                  </a:lnTo>
                  <a:lnTo>
                    <a:pt x="1156" y="1036"/>
                  </a:lnTo>
                  <a:lnTo>
                    <a:pt x="1158" y="1040"/>
                  </a:lnTo>
                  <a:lnTo>
                    <a:pt x="1160" y="1043"/>
                  </a:lnTo>
                  <a:lnTo>
                    <a:pt x="1162" y="1045"/>
                  </a:lnTo>
                  <a:lnTo>
                    <a:pt x="1164" y="1048"/>
                  </a:lnTo>
                  <a:lnTo>
                    <a:pt x="1168" y="1050"/>
                  </a:lnTo>
                  <a:lnTo>
                    <a:pt x="1174" y="1054"/>
                  </a:lnTo>
                  <a:lnTo>
                    <a:pt x="1181" y="1057"/>
                  </a:lnTo>
                  <a:lnTo>
                    <a:pt x="1188" y="1060"/>
                  </a:lnTo>
                  <a:lnTo>
                    <a:pt x="1197" y="1062"/>
                  </a:lnTo>
                  <a:lnTo>
                    <a:pt x="1206" y="1064"/>
                  </a:lnTo>
                  <a:lnTo>
                    <a:pt x="1216" y="1064"/>
                  </a:lnTo>
                  <a:lnTo>
                    <a:pt x="1221" y="1064"/>
                  </a:lnTo>
                  <a:lnTo>
                    <a:pt x="1226" y="1064"/>
                  </a:lnTo>
                  <a:lnTo>
                    <a:pt x="1231" y="1062"/>
                  </a:lnTo>
                  <a:lnTo>
                    <a:pt x="1236" y="1060"/>
                  </a:lnTo>
                  <a:lnTo>
                    <a:pt x="1248" y="1057"/>
                  </a:lnTo>
                  <a:lnTo>
                    <a:pt x="1260" y="1052"/>
                  </a:lnTo>
                  <a:lnTo>
                    <a:pt x="1281" y="1040"/>
                  </a:lnTo>
                  <a:lnTo>
                    <a:pt x="1289" y="1034"/>
                  </a:lnTo>
                  <a:lnTo>
                    <a:pt x="1292" y="10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24760" y="4071960"/>
              <a:ext cx="295200" cy="449280"/>
            </a:xfrm>
            <a:custGeom>
              <a:avLst/>
              <a:gdLst/>
              <a:ahLst/>
              <a:rect l="l" t="t" r="r" b="b"/>
              <a:pathLst>
                <a:path w="821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7"/>
                  </a:lnTo>
                  <a:lnTo>
                    <a:pt x="366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2"/>
                  </a:lnTo>
                  <a:lnTo>
                    <a:pt x="294" y="1230"/>
                  </a:lnTo>
                  <a:lnTo>
                    <a:pt x="286" y="1234"/>
                  </a:lnTo>
                  <a:lnTo>
                    <a:pt x="279" y="1239"/>
                  </a:lnTo>
                  <a:lnTo>
                    <a:pt x="270" y="1241"/>
                  </a:lnTo>
                  <a:lnTo>
                    <a:pt x="262" y="1244"/>
                  </a:lnTo>
                  <a:lnTo>
                    <a:pt x="253" y="1246"/>
                  </a:lnTo>
                  <a:lnTo>
                    <a:pt x="245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4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8" y="1208"/>
                  </a:lnTo>
                  <a:lnTo>
                    <a:pt x="108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7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8" y="1000"/>
                  </a:lnTo>
                  <a:lnTo>
                    <a:pt x="14" y="981"/>
                  </a:lnTo>
                  <a:lnTo>
                    <a:pt x="8" y="937"/>
                  </a:lnTo>
                  <a:lnTo>
                    <a:pt x="3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2" y="711"/>
                  </a:lnTo>
                  <a:lnTo>
                    <a:pt x="4" y="671"/>
                  </a:lnTo>
                  <a:lnTo>
                    <a:pt x="8" y="633"/>
                  </a:lnTo>
                  <a:lnTo>
                    <a:pt x="13" y="594"/>
                  </a:lnTo>
                  <a:lnTo>
                    <a:pt x="19" y="556"/>
                  </a:lnTo>
                  <a:lnTo>
                    <a:pt x="25" y="520"/>
                  </a:lnTo>
                  <a:lnTo>
                    <a:pt x="32" y="484"/>
                  </a:lnTo>
                  <a:lnTo>
                    <a:pt x="41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80" y="319"/>
                  </a:lnTo>
                  <a:lnTo>
                    <a:pt x="91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5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1" y="49"/>
                  </a:lnTo>
                  <a:lnTo>
                    <a:pt x="279" y="35"/>
                  </a:lnTo>
                  <a:lnTo>
                    <a:pt x="297" y="24"/>
                  </a:lnTo>
                  <a:lnTo>
                    <a:pt x="317" y="16"/>
                  </a:lnTo>
                  <a:lnTo>
                    <a:pt x="335" y="9"/>
                  </a:lnTo>
                  <a:lnTo>
                    <a:pt x="355" y="4"/>
                  </a:lnTo>
                  <a:lnTo>
                    <a:pt x="375" y="2"/>
                  </a:lnTo>
                  <a:lnTo>
                    <a:pt x="395" y="0"/>
                  </a:lnTo>
                  <a:lnTo>
                    <a:pt x="422" y="2"/>
                  </a:lnTo>
                  <a:lnTo>
                    <a:pt x="450" y="7"/>
                  </a:lnTo>
                  <a:lnTo>
                    <a:pt x="461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7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2" y="771"/>
                  </a:lnTo>
                  <a:lnTo>
                    <a:pt x="679" y="790"/>
                  </a:lnTo>
                  <a:lnTo>
                    <a:pt x="676" y="813"/>
                  </a:lnTo>
                  <a:lnTo>
                    <a:pt x="671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5" y="932"/>
                  </a:lnTo>
                  <a:lnTo>
                    <a:pt x="665" y="941"/>
                  </a:lnTo>
                  <a:lnTo>
                    <a:pt x="665" y="948"/>
                  </a:lnTo>
                  <a:lnTo>
                    <a:pt x="665" y="963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70" y="1010"/>
                  </a:lnTo>
                  <a:lnTo>
                    <a:pt x="671" y="1015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6" y="1031"/>
                  </a:lnTo>
                  <a:lnTo>
                    <a:pt x="677" y="1034"/>
                  </a:lnTo>
                  <a:lnTo>
                    <a:pt x="680" y="1038"/>
                  </a:lnTo>
                  <a:lnTo>
                    <a:pt x="682" y="1041"/>
                  </a:lnTo>
                  <a:lnTo>
                    <a:pt x="684" y="1045"/>
                  </a:lnTo>
                  <a:lnTo>
                    <a:pt x="686" y="1048"/>
                  </a:lnTo>
                  <a:lnTo>
                    <a:pt x="688" y="1050"/>
                  </a:lnTo>
                  <a:lnTo>
                    <a:pt x="692" y="1054"/>
                  </a:lnTo>
                  <a:lnTo>
                    <a:pt x="698" y="1057"/>
                  </a:lnTo>
                  <a:lnTo>
                    <a:pt x="704" y="1060"/>
                  </a:lnTo>
                  <a:lnTo>
                    <a:pt x="712" y="1064"/>
                  </a:lnTo>
                  <a:lnTo>
                    <a:pt x="720" y="1066"/>
                  </a:lnTo>
                  <a:lnTo>
                    <a:pt x="730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59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4" y="1036"/>
                  </a:lnTo>
                  <a:lnTo>
                    <a:pt x="820" y="1033"/>
                  </a:lnTo>
                  <a:lnTo>
                    <a:pt x="805" y="1140"/>
                  </a:lnTo>
                  <a:lnTo>
                    <a:pt x="703" y="1211"/>
                  </a:lnTo>
                  <a:lnTo>
                    <a:pt x="693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7" y="1234"/>
                  </a:lnTo>
                  <a:lnTo>
                    <a:pt x="626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2" y="1232"/>
                  </a:lnTo>
                  <a:lnTo>
                    <a:pt x="567" y="1229"/>
                  </a:lnTo>
                  <a:lnTo>
                    <a:pt x="554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8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1" y="1099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7" y="277"/>
                  </a:lnTo>
                  <a:lnTo>
                    <a:pt x="526" y="262"/>
                  </a:lnTo>
                  <a:lnTo>
                    <a:pt x="524" y="244"/>
                  </a:lnTo>
                  <a:lnTo>
                    <a:pt x="523" y="236"/>
                  </a:lnTo>
                  <a:lnTo>
                    <a:pt x="522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6" y="203"/>
                  </a:lnTo>
                  <a:lnTo>
                    <a:pt x="515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5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4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5" y="127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20"/>
                  </a:lnTo>
                  <a:lnTo>
                    <a:pt x="433" y="120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4"/>
                  </a:lnTo>
                  <a:lnTo>
                    <a:pt x="383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5" y="177"/>
                  </a:lnTo>
                  <a:lnTo>
                    <a:pt x="346" y="191"/>
                  </a:lnTo>
                  <a:lnTo>
                    <a:pt x="338" y="206"/>
                  </a:lnTo>
                  <a:lnTo>
                    <a:pt x="329" y="224"/>
                  </a:lnTo>
                  <a:lnTo>
                    <a:pt x="321" y="243"/>
                  </a:lnTo>
                  <a:lnTo>
                    <a:pt x="313" y="262"/>
                  </a:lnTo>
                  <a:lnTo>
                    <a:pt x="306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4" y="350"/>
                  </a:lnTo>
                  <a:lnTo>
                    <a:pt x="279" y="376"/>
                  </a:lnTo>
                  <a:lnTo>
                    <a:pt x="273" y="400"/>
                  </a:lnTo>
                  <a:lnTo>
                    <a:pt x="267" y="428"/>
                  </a:lnTo>
                  <a:lnTo>
                    <a:pt x="262" y="454"/>
                  </a:lnTo>
                  <a:lnTo>
                    <a:pt x="257" y="484"/>
                  </a:lnTo>
                  <a:lnTo>
                    <a:pt x="248" y="542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4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5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40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5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1" y="979"/>
                  </a:lnTo>
                  <a:lnTo>
                    <a:pt x="253" y="988"/>
                  </a:lnTo>
                  <a:lnTo>
                    <a:pt x="257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8" y="1022"/>
                  </a:lnTo>
                  <a:lnTo>
                    <a:pt x="272" y="1028"/>
                  </a:lnTo>
                  <a:lnTo>
                    <a:pt x="276" y="1034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4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8" y="1066"/>
                  </a:lnTo>
                  <a:lnTo>
                    <a:pt x="334" y="1066"/>
                  </a:lnTo>
                  <a:lnTo>
                    <a:pt x="342" y="1066"/>
                  </a:lnTo>
                  <a:lnTo>
                    <a:pt x="350" y="1064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2" y="1054"/>
                  </a:lnTo>
                  <a:lnTo>
                    <a:pt x="378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3" y="976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9440" y="3833640"/>
              <a:ext cx="314280" cy="689040"/>
            </a:xfrm>
            <a:custGeom>
              <a:avLst/>
              <a:gdLst/>
              <a:ahLst/>
              <a:rect l="l" t="t" r="r" b="b"/>
              <a:pathLst>
                <a:path w="874" h="1912">
                  <a:moveTo>
                    <a:pt x="498" y="1684"/>
                  </a:moveTo>
                  <a:lnTo>
                    <a:pt x="494" y="1684"/>
                  </a:lnTo>
                  <a:lnTo>
                    <a:pt x="460" y="1739"/>
                  </a:lnTo>
                  <a:lnTo>
                    <a:pt x="444" y="1763"/>
                  </a:lnTo>
                  <a:lnTo>
                    <a:pt x="427" y="1786"/>
                  </a:lnTo>
                  <a:lnTo>
                    <a:pt x="411" y="1805"/>
                  </a:lnTo>
                  <a:lnTo>
                    <a:pt x="396" y="1824"/>
                  </a:lnTo>
                  <a:lnTo>
                    <a:pt x="380" y="1841"/>
                  </a:lnTo>
                  <a:lnTo>
                    <a:pt x="365" y="1855"/>
                  </a:lnTo>
                  <a:lnTo>
                    <a:pt x="348" y="1867"/>
                  </a:lnTo>
                  <a:lnTo>
                    <a:pt x="332" y="1879"/>
                  </a:lnTo>
                  <a:lnTo>
                    <a:pt x="315" y="1888"/>
                  </a:lnTo>
                  <a:lnTo>
                    <a:pt x="298" y="1897"/>
                  </a:lnTo>
                  <a:lnTo>
                    <a:pt x="280" y="1902"/>
                  </a:lnTo>
                  <a:lnTo>
                    <a:pt x="261" y="1907"/>
                  </a:lnTo>
                  <a:lnTo>
                    <a:pt x="242" y="1909"/>
                  </a:lnTo>
                  <a:lnTo>
                    <a:pt x="221" y="1911"/>
                  </a:lnTo>
                  <a:lnTo>
                    <a:pt x="204" y="1909"/>
                  </a:lnTo>
                  <a:lnTo>
                    <a:pt x="188" y="1905"/>
                  </a:lnTo>
                  <a:lnTo>
                    <a:pt x="171" y="1900"/>
                  </a:lnTo>
                  <a:lnTo>
                    <a:pt x="157" y="1893"/>
                  </a:lnTo>
                  <a:lnTo>
                    <a:pt x="144" y="1883"/>
                  </a:lnTo>
                  <a:lnTo>
                    <a:pt x="138" y="1876"/>
                  </a:lnTo>
                  <a:lnTo>
                    <a:pt x="132" y="1869"/>
                  </a:lnTo>
                  <a:lnTo>
                    <a:pt x="126" y="1862"/>
                  </a:lnTo>
                  <a:lnTo>
                    <a:pt x="120" y="1855"/>
                  </a:lnTo>
                  <a:lnTo>
                    <a:pt x="115" y="1846"/>
                  </a:lnTo>
                  <a:lnTo>
                    <a:pt x="110" y="1838"/>
                  </a:lnTo>
                  <a:lnTo>
                    <a:pt x="100" y="1819"/>
                  </a:lnTo>
                  <a:lnTo>
                    <a:pt x="96" y="1810"/>
                  </a:lnTo>
                  <a:lnTo>
                    <a:pt x="93" y="1800"/>
                  </a:lnTo>
                  <a:lnTo>
                    <a:pt x="89" y="1789"/>
                  </a:lnTo>
                  <a:lnTo>
                    <a:pt x="86" y="1779"/>
                  </a:lnTo>
                  <a:lnTo>
                    <a:pt x="83" y="1769"/>
                  </a:lnTo>
                  <a:lnTo>
                    <a:pt x="80" y="1758"/>
                  </a:lnTo>
                  <a:lnTo>
                    <a:pt x="78" y="1746"/>
                  </a:lnTo>
                  <a:lnTo>
                    <a:pt x="76" y="1734"/>
                  </a:lnTo>
                  <a:lnTo>
                    <a:pt x="74" y="1723"/>
                  </a:lnTo>
                  <a:lnTo>
                    <a:pt x="73" y="1711"/>
                  </a:lnTo>
                  <a:lnTo>
                    <a:pt x="72" y="1699"/>
                  </a:lnTo>
                  <a:lnTo>
                    <a:pt x="72" y="1687"/>
                  </a:lnTo>
                  <a:lnTo>
                    <a:pt x="71" y="1661"/>
                  </a:lnTo>
                  <a:lnTo>
                    <a:pt x="71" y="1642"/>
                  </a:lnTo>
                  <a:lnTo>
                    <a:pt x="72" y="1623"/>
                  </a:lnTo>
                  <a:lnTo>
                    <a:pt x="72" y="1604"/>
                  </a:lnTo>
                  <a:lnTo>
                    <a:pt x="73" y="1585"/>
                  </a:lnTo>
                  <a:lnTo>
                    <a:pt x="74" y="1574"/>
                  </a:lnTo>
                  <a:lnTo>
                    <a:pt x="74" y="1564"/>
                  </a:lnTo>
                  <a:lnTo>
                    <a:pt x="77" y="1540"/>
                  </a:lnTo>
                  <a:lnTo>
                    <a:pt x="81" y="1510"/>
                  </a:lnTo>
                  <a:lnTo>
                    <a:pt x="85" y="1477"/>
                  </a:lnTo>
                  <a:lnTo>
                    <a:pt x="134" y="1141"/>
                  </a:lnTo>
                  <a:lnTo>
                    <a:pt x="144" y="1050"/>
                  </a:lnTo>
                  <a:lnTo>
                    <a:pt x="147" y="1024"/>
                  </a:lnTo>
                  <a:lnTo>
                    <a:pt x="149" y="999"/>
                  </a:lnTo>
                  <a:lnTo>
                    <a:pt x="150" y="980"/>
                  </a:lnTo>
                  <a:lnTo>
                    <a:pt x="151" y="972"/>
                  </a:lnTo>
                  <a:lnTo>
                    <a:pt x="151" y="965"/>
                  </a:lnTo>
                  <a:lnTo>
                    <a:pt x="151" y="949"/>
                  </a:lnTo>
                  <a:lnTo>
                    <a:pt x="150" y="935"/>
                  </a:lnTo>
                  <a:lnTo>
                    <a:pt x="149" y="921"/>
                  </a:lnTo>
                  <a:lnTo>
                    <a:pt x="148" y="909"/>
                  </a:lnTo>
                  <a:lnTo>
                    <a:pt x="146" y="904"/>
                  </a:lnTo>
                  <a:lnTo>
                    <a:pt x="145" y="899"/>
                  </a:lnTo>
                  <a:lnTo>
                    <a:pt x="144" y="894"/>
                  </a:lnTo>
                  <a:lnTo>
                    <a:pt x="143" y="888"/>
                  </a:lnTo>
                  <a:lnTo>
                    <a:pt x="141" y="883"/>
                  </a:lnTo>
                  <a:lnTo>
                    <a:pt x="139" y="880"/>
                  </a:lnTo>
                  <a:lnTo>
                    <a:pt x="138" y="876"/>
                  </a:lnTo>
                  <a:lnTo>
                    <a:pt x="136" y="873"/>
                  </a:lnTo>
                  <a:lnTo>
                    <a:pt x="134" y="869"/>
                  </a:lnTo>
                  <a:lnTo>
                    <a:pt x="132" y="866"/>
                  </a:lnTo>
                  <a:lnTo>
                    <a:pt x="130" y="862"/>
                  </a:lnTo>
                  <a:lnTo>
                    <a:pt x="127" y="861"/>
                  </a:lnTo>
                  <a:lnTo>
                    <a:pt x="124" y="857"/>
                  </a:lnTo>
                  <a:lnTo>
                    <a:pt x="122" y="856"/>
                  </a:lnTo>
                  <a:lnTo>
                    <a:pt x="115" y="852"/>
                  </a:lnTo>
                  <a:lnTo>
                    <a:pt x="107" y="849"/>
                  </a:lnTo>
                  <a:lnTo>
                    <a:pt x="99" y="847"/>
                  </a:lnTo>
                  <a:lnTo>
                    <a:pt x="89" y="845"/>
                  </a:lnTo>
                  <a:lnTo>
                    <a:pt x="79" y="845"/>
                  </a:lnTo>
                  <a:lnTo>
                    <a:pt x="74" y="845"/>
                  </a:lnTo>
                  <a:lnTo>
                    <a:pt x="69" y="845"/>
                  </a:lnTo>
                  <a:lnTo>
                    <a:pt x="64" y="847"/>
                  </a:lnTo>
                  <a:lnTo>
                    <a:pt x="58" y="849"/>
                  </a:lnTo>
                  <a:lnTo>
                    <a:pt x="53" y="850"/>
                  </a:lnTo>
                  <a:lnTo>
                    <a:pt x="48" y="852"/>
                  </a:lnTo>
                  <a:lnTo>
                    <a:pt x="42" y="854"/>
                  </a:lnTo>
                  <a:lnTo>
                    <a:pt x="37" y="857"/>
                  </a:lnTo>
                  <a:lnTo>
                    <a:pt x="27" y="862"/>
                  </a:lnTo>
                  <a:lnTo>
                    <a:pt x="17" y="869"/>
                  </a:lnTo>
                  <a:lnTo>
                    <a:pt x="0" y="880"/>
                  </a:lnTo>
                  <a:lnTo>
                    <a:pt x="14" y="772"/>
                  </a:lnTo>
                  <a:lnTo>
                    <a:pt x="115" y="705"/>
                  </a:lnTo>
                  <a:lnTo>
                    <a:pt x="127" y="698"/>
                  </a:lnTo>
                  <a:lnTo>
                    <a:pt x="138" y="693"/>
                  </a:lnTo>
                  <a:lnTo>
                    <a:pt x="150" y="687"/>
                  </a:lnTo>
                  <a:lnTo>
                    <a:pt x="161" y="684"/>
                  </a:lnTo>
                  <a:lnTo>
                    <a:pt x="172" y="681"/>
                  </a:lnTo>
                  <a:lnTo>
                    <a:pt x="183" y="679"/>
                  </a:lnTo>
                  <a:lnTo>
                    <a:pt x="194" y="677"/>
                  </a:lnTo>
                  <a:lnTo>
                    <a:pt x="205" y="677"/>
                  </a:lnTo>
                  <a:lnTo>
                    <a:pt x="224" y="679"/>
                  </a:lnTo>
                  <a:lnTo>
                    <a:pt x="242" y="682"/>
                  </a:lnTo>
                  <a:lnTo>
                    <a:pt x="259" y="687"/>
                  </a:lnTo>
                  <a:lnTo>
                    <a:pt x="274" y="694"/>
                  </a:lnTo>
                  <a:lnTo>
                    <a:pt x="288" y="705"/>
                  </a:lnTo>
                  <a:lnTo>
                    <a:pt x="302" y="717"/>
                  </a:lnTo>
                  <a:lnTo>
                    <a:pt x="308" y="724"/>
                  </a:lnTo>
                  <a:lnTo>
                    <a:pt x="314" y="731"/>
                  </a:lnTo>
                  <a:lnTo>
                    <a:pt x="320" y="739"/>
                  </a:lnTo>
                  <a:lnTo>
                    <a:pt x="325" y="748"/>
                  </a:lnTo>
                  <a:lnTo>
                    <a:pt x="335" y="765"/>
                  </a:lnTo>
                  <a:lnTo>
                    <a:pt x="339" y="776"/>
                  </a:lnTo>
                  <a:lnTo>
                    <a:pt x="343" y="786"/>
                  </a:lnTo>
                  <a:lnTo>
                    <a:pt x="347" y="795"/>
                  </a:lnTo>
                  <a:lnTo>
                    <a:pt x="350" y="805"/>
                  </a:lnTo>
                  <a:lnTo>
                    <a:pt x="354" y="816"/>
                  </a:lnTo>
                  <a:lnTo>
                    <a:pt x="356" y="828"/>
                  </a:lnTo>
                  <a:lnTo>
                    <a:pt x="359" y="838"/>
                  </a:lnTo>
                  <a:lnTo>
                    <a:pt x="360" y="850"/>
                  </a:lnTo>
                  <a:lnTo>
                    <a:pt x="362" y="862"/>
                  </a:lnTo>
                  <a:lnTo>
                    <a:pt x="364" y="875"/>
                  </a:lnTo>
                  <a:lnTo>
                    <a:pt x="365" y="887"/>
                  </a:lnTo>
                  <a:lnTo>
                    <a:pt x="365" y="899"/>
                  </a:lnTo>
                  <a:lnTo>
                    <a:pt x="366" y="911"/>
                  </a:lnTo>
                  <a:lnTo>
                    <a:pt x="366" y="925"/>
                  </a:lnTo>
                  <a:lnTo>
                    <a:pt x="366" y="937"/>
                  </a:lnTo>
                  <a:lnTo>
                    <a:pt x="365" y="954"/>
                  </a:lnTo>
                  <a:lnTo>
                    <a:pt x="364" y="1003"/>
                  </a:lnTo>
                  <a:lnTo>
                    <a:pt x="362" y="1030"/>
                  </a:lnTo>
                  <a:lnTo>
                    <a:pt x="360" y="1058"/>
                  </a:lnTo>
                  <a:lnTo>
                    <a:pt x="357" y="1084"/>
                  </a:lnTo>
                  <a:lnTo>
                    <a:pt x="354" y="1110"/>
                  </a:lnTo>
                  <a:lnTo>
                    <a:pt x="306" y="1427"/>
                  </a:lnTo>
                  <a:lnTo>
                    <a:pt x="303" y="1448"/>
                  </a:lnTo>
                  <a:lnTo>
                    <a:pt x="300" y="1471"/>
                  </a:lnTo>
                  <a:lnTo>
                    <a:pt x="298" y="1495"/>
                  </a:lnTo>
                  <a:lnTo>
                    <a:pt x="296" y="1517"/>
                  </a:lnTo>
                  <a:lnTo>
                    <a:pt x="293" y="1559"/>
                  </a:lnTo>
                  <a:lnTo>
                    <a:pt x="292" y="1574"/>
                  </a:lnTo>
                  <a:lnTo>
                    <a:pt x="292" y="1581"/>
                  </a:lnTo>
                  <a:lnTo>
                    <a:pt x="292" y="1588"/>
                  </a:lnTo>
                  <a:lnTo>
                    <a:pt x="292" y="1602"/>
                  </a:lnTo>
                  <a:lnTo>
                    <a:pt x="293" y="1614"/>
                  </a:lnTo>
                  <a:lnTo>
                    <a:pt x="293" y="1626"/>
                  </a:lnTo>
                  <a:lnTo>
                    <a:pt x="295" y="1639"/>
                  </a:lnTo>
                  <a:lnTo>
                    <a:pt x="298" y="1649"/>
                  </a:lnTo>
                  <a:lnTo>
                    <a:pt x="300" y="1659"/>
                  </a:lnTo>
                  <a:lnTo>
                    <a:pt x="303" y="1668"/>
                  </a:lnTo>
                  <a:lnTo>
                    <a:pt x="306" y="1677"/>
                  </a:lnTo>
                  <a:lnTo>
                    <a:pt x="308" y="1680"/>
                  </a:lnTo>
                  <a:lnTo>
                    <a:pt x="310" y="1685"/>
                  </a:lnTo>
                  <a:lnTo>
                    <a:pt x="312" y="1689"/>
                  </a:lnTo>
                  <a:lnTo>
                    <a:pt x="315" y="1691"/>
                  </a:lnTo>
                  <a:lnTo>
                    <a:pt x="317" y="1694"/>
                  </a:lnTo>
                  <a:lnTo>
                    <a:pt x="320" y="1697"/>
                  </a:lnTo>
                  <a:lnTo>
                    <a:pt x="322" y="1699"/>
                  </a:lnTo>
                  <a:lnTo>
                    <a:pt x="326" y="1701"/>
                  </a:lnTo>
                  <a:lnTo>
                    <a:pt x="332" y="1704"/>
                  </a:lnTo>
                  <a:lnTo>
                    <a:pt x="339" y="1708"/>
                  </a:lnTo>
                  <a:lnTo>
                    <a:pt x="347" y="1710"/>
                  </a:lnTo>
                  <a:lnTo>
                    <a:pt x="355" y="1710"/>
                  </a:lnTo>
                  <a:lnTo>
                    <a:pt x="362" y="1710"/>
                  </a:lnTo>
                  <a:lnTo>
                    <a:pt x="369" y="1708"/>
                  </a:lnTo>
                  <a:lnTo>
                    <a:pt x="376" y="1704"/>
                  </a:lnTo>
                  <a:lnTo>
                    <a:pt x="385" y="1699"/>
                  </a:lnTo>
                  <a:lnTo>
                    <a:pt x="393" y="1694"/>
                  </a:lnTo>
                  <a:lnTo>
                    <a:pt x="403" y="1687"/>
                  </a:lnTo>
                  <a:lnTo>
                    <a:pt x="412" y="1678"/>
                  </a:lnTo>
                  <a:lnTo>
                    <a:pt x="422" y="1670"/>
                  </a:lnTo>
                  <a:lnTo>
                    <a:pt x="432" y="1659"/>
                  </a:lnTo>
                  <a:lnTo>
                    <a:pt x="443" y="1649"/>
                  </a:lnTo>
                  <a:lnTo>
                    <a:pt x="453" y="1637"/>
                  </a:lnTo>
                  <a:lnTo>
                    <a:pt x="464" y="1623"/>
                  </a:lnTo>
                  <a:lnTo>
                    <a:pt x="475" y="1609"/>
                  </a:lnTo>
                  <a:lnTo>
                    <a:pt x="485" y="1594"/>
                  </a:lnTo>
                  <a:lnTo>
                    <a:pt x="495" y="1576"/>
                  </a:lnTo>
                  <a:lnTo>
                    <a:pt x="505" y="1559"/>
                  </a:lnTo>
                  <a:lnTo>
                    <a:pt x="613" y="698"/>
                  </a:lnTo>
                  <a:lnTo>
                    <a:pt x="820" y="681"/>
                  </a:lnTo>
                  <a:lnTo>
                    <a:pt x="828" y="698"/>
                  </a:lnTo>
                  <a:lnTo>
                    <a:pt x="735" y="1431"/>
                  </a:lnTo>
                  <a:lnTo>
                    <a:pt x="733" y="1450"/>
                  </a:lnTo>
                  <a:lnTo>
                    <a:pt x="730" y="1472"/>
                  </a:lnTo>
                  <a:lnTo>
                    <a:pt x="724" y="1523"/>
                  </a:lnTo>
                  <a:lnTo>
                    <a:pt x="720" y="1573"/>
                  </a:lnTo>
                  <a:lnTo>
                    <a:pt x="719" y="1592"/>
                  </a:lnTo>
                  <a:lnTo>
                    <a:pt x="718" y="1600"/>
                  </a:lnTo>
                  <a:lnTo>
                    <a:pt x="718" y="1607"/>
                  </a:lnTo>
                  <a:lnTo>
                    <a:pt x="718" y="1625"/>
                  </a:lnTo>
                  <a:lnTo>
                    <a:pt x="719" y="1640"/>
                  </a:lnTo>
                  <a:lnTo>
                    <a:pt x="721" y="1654"/>
                  </a:lnTo>
                  <a:lnTo>
                    <a:pt x="722" y="1659"/>
                  </a:lnTo>
                  <a:lnTo>
                    <a:pt x="723" y="1666"/>
                  </a:lnTo>
                  <a:lnTo>
                    <a:pt x="723" y="1671"/>
                  </a:lnTo>
                  <a:lnTo>
                    <a:pt x="725" y="1677"/>
                  </a:lnTo>
                  <a:lnTo>
                    <a:pt x="727" y="1682"/>
                  </a:lnTo>
                  <a:lnTo>
                    <a:pt x="728" y="1687"/>
                  </a:lnTo>
                  <a:lnTo>
                    <a:pt x="729" y="1692"/>
                  </a:lnTo>
                  <a:lnTo>
                    <a:pt x="731" y="1696"/>
                  </a:lnTo>
                  <a:lnTo>
                    <a:pt x="734" y="1699"/>
                  </a:lnTo>
                  <a:lnTo>
                    <a:pt x="735" y="1703"/>
                  </a:lnTo>
                  <a:lnTo>
                    <a:pt x="738" y="1706"/>
                  </a:lnTo>
                  <a:lnTo>
                    <a:pt x="740" y="1708"/>
                  </a:lnTo>
                  <a:lnTo>
                    <a:pt x="742" y="1711"/>
                  </a:lnTo>
                  <a:lnTo>
                    <a:pt x="745" y="1713"/>
                  </a:lnTo>
                  <a:lnTo>
                    <a:pt x="751" y="1717"/>
                  </a:lnTo>
                  <a:lnTo>
                    <a:pt x="758" y="1720"/>
                  </a:lnTo>
                  <a:lnTo>
                    <a:pt x="766" y="1723"/>
                  </a:lnTo>
                  <a:lnTo>
                    <a:pt x="774" y="1725"/>
                  </a:lnTo>
                  <a:lnTo>
                    <a:pt x="784" y="1727"/>
                  </a:lnTo>
                  <a:lnTo>
                    <a:pt x="794" y="1727"/>
                  </a:lnTo>
                  <a:lnTo>
                    <a:pt x="799" y="1727"/>
                  </a:lnTo>
                  <a:lnTo>
                    <a:pt x="804" y="1727"/>
                  </a:lnTo>
                  <a:lnTo>
                    <a:pt x="809" y="1725"/>
                  </a:lnTo>
                  <a:lnTo>
                    <a:pt x="814" y="1723"/>
                  </a:lnTo>
                  <a:lnTo>
                    <a:pt x="826" y="1720"/>
                  </a:lnTo>
                  <a:lnTo>
                    <a:pt x="838" y="1715"/>
                  </a:lnTo>
                  <a:lnTo>
                    <a:pt x="859" y="1703"/>
                  </a:lnTo>
                  <a:lnTo>
                    <a:pt x="867" y="1697"/>
                  </a:lnTo>
                  <a:lnTo>
                    <a:pt x="870" y="1696"/>
                  </a:lnTo>
                  <a:lnTo>
                    <a:pt x="873" y="1692"/>
                  </a:lnTo>
                  <a:lnTo>
                    <a:pt x="859" y="1800"/>
                  </a:lnTo>
                  <a:lnTo>
                    <a:pt x="756" y="1871"/>
                  </a:lnTo>
                  <a:lnTo>
                    <a:pt x="746" y="1876"/>
                  </a:lnTo>
                  <a:lnTo>
                    <a:pt x="736" y="1881"/>
                  </a:lnTo>
                  <a:lnTo>
                    <a:pt x="726" y="1885"/>
                  </a:lnTo>
                  <a:lnTo>
                    <a:pt x="715" y="1888"/>
                  </a:lnTo>
                  <a:lnTo>
                    <a:pt x="703" y="1892"/>
                  </a:lnTo>
                  <a:lnTo>
                    <a:pt x="691" y="1893"/>
                  </a:lnTo>
                  <a:lnTo>
                    <a:pt x="679" y="1895"/>
                  </a:lnTo>
                  <a:lnTo>
                    <a:pt x="667" y="1895"/>
                  </a:lnTo>
                  <a:lnTo>
                    <a:pt x="650" y="1893"/>
                  </a:lnTo>
                  <a:lnTo>
                    <a:pt x="633" y="1892"/>
                  </a:lnTo>
                  <a:lnTo>
                    <a:pt x="618" y="1886"/>
                  </a:lnTo>
                  <a:lnTo>
                    <a:pt x="602" y="1881"/>
                  </a:lnTo>
                  <a:lnTo>
                    <a:pt x="589" y="1872"/>
                  </a:lnTo>
                  <a:lnTo>
                    <a:pt x="576" y="1862"/>
                  </a:lnTo>
                  <a:lnTo>
                    <a:pt x="563" y="1850"/>
                  </a:lnTo>
                  <a:lnTo>
                    <a:pt x="552" y="1836"/>
                  </a:lnTo>
                  <a:lnTo>
                    <a:pt x="542" y="1820"/>
                  </a:lnTo>
                  <a:lnTo>
                    <a:pt x="533" y="1805"/>
                  </a:lnTo>
                  <a:lnTo>
                    <a:pt x="525" y="1788"/>
                  </a:lnTo>
                  <a:lnTo>
                    <a:pt x="518" y="1769"/>
                  </a:lnTo>
                  <a:lnTo>
                    <a:pt x="511" y="1749"/>
                  </a:lnTo>
                  <a:lnTo>
                    <a:pt x="506" y="1729"/>
                  </a:lnTo>
                  <a:lnTo>
                    <a:pt x="502" y="1706"/>
                  </a:lnTo>
                  <a:close/>
                  <a:moveTo>
                    <a:pt x="752" y="45"/>
                  </a:moveTo>
                  <a:lnTo>
                    <a:pt x="744" y="92"/>
                  </a:lnTo>
                  <a:lnTo>
                    <a:pt x="740" y="114"/>
                  </a:lnTo>
                  <a:lnTo>
                    <a:pt x="734" y="137"/>
                  </a:lnTo>
                  <a:lnTo>
                    <a:pt x="729" y="157"/>
                  </a:lnTo>
                  <a:lnTo>
                    <a:pt x="723" y="180"/>
                  </a:lnTo>
                  <a:lnTo>
                    <a:pt x="717" y="202"/>
                  </a:lnTo>
                  <a:lnTo>
                    <a:pt x="710" y="223"/>
                  </a:lnTo>
                  <a:lnTo>
                    <a:pt x="703" y="244"/>
                  </a:lnTo>
                  <a:lnTo>
                    <a:pt x="696" y="265"/>
                  </a:lnTo>
                  <a:lnTo>
                    <a:pt x="688" y="286"/>
                  </a:lnTo>
                  <a:lnTo>
                    <a:pt x="679" y="305"/>
                  </a:lnTo>
                  <a:lnTo>
                    <a:pt x="671" y="324"/>
                  </a:lnTo>
                  <a:lnTo>
                    <a:pt x="662" y="341"/>
                  </a:lnTo>
                  <a:lnTo>
                    <a:pt x="652" y="358"/>
                  </a:lnTo>
                  <a:lnTo>
                    <a:pt x="642" y="376"/>
                  </a:lnTo>
                  <a:lnTo>
                    <a:pt x="630" y="393"/>
                  </a:lnTo>
                  <a:lnTo>
                    <a:pt x="619" y="410"/>
                  </a:lnTo>
                  <a:lnTo>
                    <a:pt x="607" y="424"/>
                  </a:lnTo>
                  <a:lnTo>
                    <a:pt x="595" y="440"/>
                  </a:lnTo>
                  <a:lnTo>
                    <a:pt x="583" y="452"/>
                  </a:lnTo>
                  <a:lnTo>
                    <a:pt x="570" y="464"/>
                  </a:lnTo>
                  <a:lnTo>
                    <a:pt x="558" y="474"/>
                  </a:lnTo>
                  <a:lnTo>
                    <a:pt x="545" y="483"/>
                  </a:lnTo>
                  <a:lnTo>
                    <a:pt x="531" y="492"/>
                  </a:lnTo>
                  <a:lnTo>
                    <a:pt x="518" y="499"/>
                  </a:lnTo>
                  <a:lnTo>
                    <a:pt x="504" y="506"/>
                  </a:lnTo>
                  <a:lnTo>
                    <a:pt x="490" y="511"/>
                  </a:lnTo>
                  <a:lnTo>
                    <a:pt x="475" y="514"/>
                  </a:lnTo>
                  <a:lnTo>
                    <a:pt x="461" y="518"/>
                  </a:lnTo>
                  <a:lnTo>
                    <a:pt x="446" y="519"/>
                  </a:lnTo>
                  <a:lnTo>
                    <a:pt x="430" y="519"/>
                  </a:lnTo>
                  <a:lnTo>
                    <a:pt x="404" y="518"/>
                  </a:lnTo>
                  <a:lnTo>
                    <a:pt x="392" y="516"/>
                  </a:lnTo>
                  <a:lnTo>
                    <a:pt x="381" y="514"/>
                  </a:lnTo>
                  <a:lnTo>
                    <a:pt x="370" y="511"/>
                  </a:lnTo>
                  <a:lnTo>
                    <a:pt x="359" y="507"/>
                  </a:lnTo>
                  <a:lnTo>
                    <a:pt x="349" y="502"/>
                  </a:lnTo>
                  <a:lnTo>
                    <a:pt x="339" y="497"/>
                  </a:lnTo>
                  <a:lnTo>
                    <a:pt x="330" y="490"/>
                  </a:lnTo>
                  <a:lnTo>
                    <a:pt x="321" y="485"/>
                  </a:lnTo>
                  <a:lnTo>
                    <a:pt x="313" y="478"/>
                  </a:lnTo>
                  <a:lnTo>
                    <a:pt x="305" y="471"/>
                  </a:lnTo>
                  <a:lnTo>
                    <a:pt x="298" y="462"/>
                  </a:lnTo>
                  <a:lnTo>
                    <a:pt x="291" y="455"/>
                  </a:lnTo>
                  <a:lnTo>
                    <a:pt x="284" y="447"/>
                  </a:lnTo>
                  <a:lnTo>
                    <a:pt x="278" y="438"/>
                  </a:lnTo>
                  <a:lnTo>
                    <a:pt x="273" y="429"/>
                  </a:lnTo>
                  <a:lnTo>
                    <a:pt x="268" y="419"/>
                  </a:lnTo>
                  <a:lnTo>
                    <a:pt x="264" y="410"/>
                  </a:lnTo>
                  <a:lnTo>
                    <a:pt x="260" y="400"/>
                  </a:lnTo>
                  <a:lnTo>
                    <a:pt x="255" y="391"/>
                  </a:lnTo>
                  <a:lnTo>
                    <a:pt x="252" y="381"/>
                  </a:lnTo>
                  <a:lnTo>
                    <a:pt x="249" y="370"/>
                  </a:lnTo>
                  <a:lnTo>
                    <a:pt x="246" y="360"/>
                  </a:lnTo>
                  <a:lnTo>
                    <a:pt x="243" y="350"/>
                  </a:lnTo>
                  <a:lnTo>
                    <a:pt x="241" y="338"/>
                  </a:lnTo>
                  <a:lnTo>
                    <a:pt x="239" y="327"/>
                  </a:lnTo>
                  <a:lnTo>
                    <a:pt x="238" y="317"/>
                  </a:lnTo>
                  <a:lnTo>
                    <a:pt x="237" y="305"/>
                  </a:lnTo>
                  <a:lnTo>
                    <a:pt x="236" y="294"/>
                  </a:lnTo>
                  <a:lnTo>
                    <a:pt x="235" y="284"/>
                  </a:lnTo>
                  <a:lnTo>
                    <a:pt x="235" y="273"/>
                  </a:lnTo>
                  <a:lnTo>
                    <a:pt x="236" y="253"/>
                  </a:lnTo>
                  <a:lnTo>
                    <a:pt x="237" y="232"/>
                  </a:lnTo>
                  <a:lnTo>
                    <a:pt x="239" y="215"/>
                  </a:lnTo>
                  <a:lnTo>
                    <a:pt x="240" y="204"/>
                  </a:lnTo>
                  <a:lnTo>
                    <a:pt x="242" y="195"/>
                  </a:lnTo>
                  <a:lnTo>
                    <a:pt x="243" y="187"/>
                  </a:lnTo>
                  <a:lnTo>
                    <a:pt x="246" y="180"/>
                  </a:lnTo>
                  <a:lnTo>
                    <a:pt x="248" y="171"/>
                  </a:lnTo>
                  <a:lnTo>
                    <a:pt x="250" y="164"/>
                  </a:lnTo>
                  <a:lnTo>
                    <a:pt x="253" y="157"/>
                  </a:lnTo>
                  <a:lnTo>
                    <a:pt x="256" y="149"/>
                  </a:lnTo>
                  <a:lnTo>
                    <a:pt x="259" y="143"/>
                  </a:lnTo>
                  <a:lnTo>
                    <a:pt x="262" y="137"/>
                  </a:lnTo>
                  <a:lnTo>
                    <a:pt x="269" y="124"/>
                  </a:lnTo>
                  <a:lnTo>
                    <a:pt x="276" y="114"/>
                  </a:lnTo>
                  <a:lnTo>
                    <a:pt x="285" y="105"/>
                  </a:lnTo>
                  <a:lnTo>
                    <a:pt x="293" y="98"/>
                  </a:lnTo>
                  <a:lnTo>
                    <a:pt x="303" y="92"/>
                  </a:lnTo>
                  <a:lnTo>
                    <a:pt x="312" y="88"/>
                  </a:lnTo>
                  <a:lnTo>
                    <a:pt x="322" y="85"/>
                  </a:lnTo>
                  <a:lnTo>
                    <a:pt x="332" y="85"/>
                  </a:lnTo>
                  <a:lnTo>
                    <a:pt x="340" y="85"/>
                  </a:lnTo>
                  <a:lnTo>
                    <a:pt x="347" y="86"/>
                  </a:lnTo>
                  <a:lnTo>
                    <a:pt x="354" y="90"/>
                  </a:lnTo>
                  <a:lnTo>
                    <a:pt x="361" y="93"/>
                  </a:lnTo>
                  <a:lnTo>
                    <a:pt x="368" y="97"/>
                  </a:lnTo>
                  <a:lnTo>
                    <a:pt x="375" y="102"/>
                  </a:lnTo>
                  <a:lnTo>
                    <a:pt x="381" y="109"/>
                  </a:lnTo>
                  <a:lnTo>
                    <a:pt x="388" y="116"/>
                  </a:lnTo>
                  <a:lnTo>
                    <a:pt x="392" y="119"/>
                  </a:lnTo>
                  <a:lnTo>
                    <a:pt x="394" y="124"/>
                  </a:lnTo>
                  <a:lnTo>
                    <a:pt x="398" y="128"/>
                  </a:lnTo>
                  <a:lnTo>
                    <a:pt x="400" y="133"/>
                  </a:lnTo>
                  <a:lnTo>
                    <a:pt x="402" y="138"/>
                  </a:lnTo>
                  <a:lnTo>
                    <a:pt x="404" y="143"/>
                  </a:lnTo>
                  <a:lnTo>
                    <a:pt x="406" y="149"/>
                  </a:lnTo>
                  <a:lnTo>
                    <a:pt x="408" y="156"/>
                  </a:lnTo>
                  <a:lnTo>
                    <a:pt x="409" y="161"/>
                  </a:lnTo>
                  <a:lnTo>
                    <a:pt x="411" y="168"/>
                  </a:lnTo>
                  <a:lnTo>
                    <a:pt x="412" y="173"/>
                  </a:lnTo>
                  <a:lnTo>
                    <a:pt x="413" y="180"/>
                  </a:lnTo>
                  <a:lnTo>
                    <a:pt x="414" y="187"/>
                  </a:lnTo>
                  <a:lnTo>
                    <a:pt x="414" y="194"/>
                  </a:lnTo>
                  <a:lnTo>
                    <a:pt x="414" y="202"/>
                  </a:lnTo>
                  <a:lnTo>
                    <a:pt x="414" y="209"/>
                  </a:lnTo>
                  <a:lnTo>
                    <a:pt x="414" y="220"/>
                  </a:lnTo>
                  <a:lnTo>
                    <a:pt x="414" y="230"/>
                  </a:lnTo>
                  <a:lnTo>
                    <a:pt x="413" y="241"/>
                  </a:lnTo>
                  <a:lnTo>
                    <a:pt x="412" y="251"/>
                  </a:lnTo>
                  <a:lnTo>
                    <a:pt x="410" y="261"/>
                  </a:lnTo>
                  <a:lnTo>
                    <a:pt x="409" y="272"/>
                  </a:lnTo>
                  <a:lnTo>
                    <a:pt x="407" y="280"/>
                  </a:lnTo>
                  <a:lnTo>
                    <a:pt x="404" y="291"/>
                  </a:lnTo>
                  <a:lnTo>
                    <a:pt x="399" y="310"/>
                  </a:lnTo>
                  <a:lnTo>
                    <a:pt x="393" y="327"/>
                  </a:lnTo>
                  <a:lnTo>
                    <a:pt x="388" y="343"/>
                  </a:lnTo>
                  <a:lnTo>
                    <a:pt x="382" y="358"/>
                  </a:lnTo>
                  <a:lnTo>
                    <a:pt x="391" y="365"/>
                  </a:lnTo>
                  <a:lnTo>
                    <a:pt x="398" y="370"/>
                  </a:lnTo>
                  <a:lnTo>
                    <a:pt x="407" y="376"/>
                  </a:lnTo>
                  <a:lnTo>
                    <a:pt x="410" y="377"/>
                  </a:lnTo>
                  <a:lnTo>
                    <a:pt x="414" y="379"/>
                  </a:lnTo>
                  <a:lnTo>
                    <a:pt x="419" y="381"/>
                  </a:lnTo>
                  <a:lnTo>
                    <a:pt x="422" y="383"/>
                  </a:lnTo>
                  <a:lnTo>
                    <a:pt x="426" y="384"/>
                  </a:lnTo>
                  <a:lnTo>
                    <a:pt x="431" y="384"/>
                  </a:lnTo>
                  <a:lnTo>
                    <a:pt x="440" y="386"/>
                  </a:lnTo>
                  <a:lnTo>
                    <a:pt x="449" y="386"/>
                  </a:lnTo>
                  <a:lnTo>
                    <a:pt x="462" y="386"/>
                  </a:lnTo>
                  <a:lnTo>
                    <a:pt x="475" y="384"/>
                  </a:lnTo>
                  <a:lnTo>
                    <a:pt x="486" y="381"/>
                  </a:lnTo>
                  <a:lnTo>
                    <a:pt x="499" y="377"/>
                  </a:lnTo>
                  <a:lnTo>
                    <a:pt x="510" y="372"/>
                  </a:lnTo>
                  <a:lnTo>
                    <a:pt x="522" y="367"/>
                  </a:lnTo>
                  <a:lnTo>
                    <a:pt x="532" y="360"/>
                  </a:lnTo>
                  <a:lnTo>
                    <a:pt x="543" y="351"/>
                  </a:lnTo>
                  <a:lnTo>
                    <a:pt x="553" y="343"/>
                  </a:lnTo>
                  <a:lnTo>
                    <a:pt x="563" y="334"/>
                  </a:lnTo>
                  <a:lnTo>
                    <a:pt x="573" y="324"/>
                  </a:lnTo>
                  <a:lnTo>
                    <a:pt x="582" y="313"/>
                  </a:lnTo>
                  <a:lnTo>
                    <a:pt x="591" y="301"/>
                  </a:lnTo>
                  <a:lnTo>
                    <a:pt x="599" y="289"/>
                  </a:lnTo>
                  <a:lnTo>
                    <a:pt x="607" y="277"/>
                  </a:lnTo>
                  <a:lnTo>
                    <a:pt x="614" y="265"/>
                  </a:lnTo>
                  <a:lnTo>
                    <a:pt x="629" y="237"/>
                  </a:lnTo>
                  <a:lnTo>
                    <a:pt x="641" y="208"/>
                  </a:lnTo>
                  <a:lnTo>
                    <a:pt x="654" y="176"/>
                  </a:lnTo>
                  <a:lnTo>
                    <a:pt x="666" y="142"/>
                  </a:lnTo>
                  <a:lnTo>
                    <a:pt x="676" y="107"/>
                  </a:lnTo>
                  <a:lnTo>
                    <a:pt x="685" y="71"/>
                  </a:lnTo>
                  <a:lnTo>
                    <a:pt x="694" y="36"/>
                  </a:lnTo>
                  <a:lnTo>
                    <a:pt x="701" y="0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8160" y="4076640"/>
              <a:ext cx="316080" cy="439920"/>
            </a:xfrm>
            <a:custGeom>
              <a:avLst/>
              <a:gdLst/>
              <a:ahLst/>
              <a:rect l="l" t="t" r="r" b="b"/>
              <a:pathLst>
                <a:path w="876" h="1221">
                  <a:moveTo>
                    <a:pt x="344" y="517"/>
                  </a:moveTo>
                  <a:lnTo>
                    <a:pt x="553" y="517"/>
                  </a:lnTo>
                  <a:lnTo>
                    <a:pt x="615" y="23"/>
                  </a:lnTo>
                  <a:lnTo>
                    <a:pt x="822" y="6"/>
                  </a:lnTo>
                  <a:lnTo>
                    <a:pt x="830" y="23"/>
                  </a:lnTo>
                  <a:lnTo>
                    <a:pt x="737" y="756"/>
                  </a:lnTo>
                  <a:lnTo>
                    <a:pt x="735" y="775"/>
                  </a:lnTo>
                  <a:lnTo>
                    <a:pt x="732" y="797"/>
                  </a:lnTo>
                  <a:lnTo>
                    <a:pt x="730" y="820"/>
                  </a:lnTo>
                  <a:lnTo>
                    <a:pt x="727" y="848"/>
                  </a:lnTo>
                  <a:lnTo>
                    <a:pt x="725" y="875"/>
                  </a:lnTo>
                  <a:lnTo>
                    <a:pt x="723" y="898"/>
                  </a:lnTo>
                  <a:lnTo>
                    <a:pt x="721" y="917"/>
                  </a:lnTo>
                  <a:lnTo>
                    <a:pt x="721" y="925"/>
                  </a:lnTo>
                  <a:lnTo>
                    <a:pt x="721" y="932"/>
                  </a:lnTo>
                  <a:lnTo>
                    <a:pt x="721" y="950"/>
                  </a:lnTo>
                  <a:lnTo>
                    <a:pt x="722" y="965"/>
                  </a:lnTo>
                  <a:lnTo>
                    <a:pt x="724" y="979"/>
                  </a:lnTo>
                  <a:lnTo>
                    <a:pt x="725" y="984"/>
                  </a:lnTo>
                  <a:lnTo>
                    <a:pt x="726" y="991"/>
                  </a:lnTo>
                  <a:lnTo>
                    <a:pt x="726" y="996"/>
                  </a:lnTo>
                  <a:lnTo>
                    <a:pt x="727" y="1002"/>
                  </a:lnTo>
                  <a:lnTo>
                    <a:pt x="729" y="1007"/>
                  </a:lnTo>
                  <a:lnTo>
                    <a:pt x="731" y="1012"/>
                  </a:lnTo>
                  <a:lnTo>
                    <a:pt x="732" y="1017"/>
                  </a:lnTo>
                  <a:lnTo>
                    <a:pt x="733" y="1021"/>
                  </a:lnTo>
                  <a:lnTo>
                    <a:pt x="736" y="1024"/>
                  </a:lnTo>
                  <a:lnTo>
                    <a:pt x="737" y="1028"/>
                  </a:lnTo>
                  <a:lnTo>
                    <a:pt x="740" y="1031"/>
                  </a:lnTo>
                  <a:lnTo>
                    <a:pt x="742" y="1033"/>
                  </a:lnTo>
                  <a:lnTo>
                    <a:pt x="744" y="1036"/>
                  </a:lnTo>
                  <a:lnTo>
                    <a:pt x="748" y="1038"/>
                  </a:lnTo>
                  <a:lnTo>
                    <a:pt x="754" y="1042"/>
                  </a:lnTo>
                  <a:lnTo>
                    <a:pt x="760" y="1045"/>
                  </a:lnTo>
                  <a:lnTo>
                    <a:pt x="768" y="1048"/>
                  </a:lnTo>
                  <a:lnTo>
                    <a:pt x="776" y="1050"/>
                  </a:lnTo>
                  <a:lnTo>
                    <a:pt x="785" y="1052"/>
                  </a:lnTo>
                  <a:lnTo>
                    <a:pt x="795" y="1052"/>
                  </a:lnTo>
                  <a:lnTo>
                    <a:pt x="800" y="1052"/>
                  </a:lnTo>
                  <a:lnTo>
                    <a:pt x="805" y="1052"/>
                  </a:lnTo>
                  <a:lnTo>
                    <a:pt x="811" y="1050"/>
                  </a:lnTo>
                  <a:lnTo>
                    <a:pt x="816" y="1048"/>
                  </a:lnTo>
                  <a:lnTo>
                    <a:pt x="828" y="1045"/>
                  </a:lnTo>
                  <a:lnTo>
                    <a:pt x="840" y="1040"/>
                  </a:lnTo>
                  <a:lnTo>
                    <a:pt x="861" y="1028"/>
                  </a:lnTo>
                  <a:lnTo>
                    <a:pt x="869" y="1022"/>
                  </a:lnTo>
                  <a:lnTo>
                    <a:pt x="872" y="1021"/>
                  </a:lnTo>
                  <a:lnTo>
                    <a:pt x="875" y="1017"/>
                  </a:lnTo>
                  <a:lnTo>
                    <a:pt x="861" y="1125"/>
                  </a:lnTo>
                  <a:lnTo>
                    <a:pt x="759" y="1196"/>
                  </a:lnTo>
                  <a:lnTo>
                    <a:pt x="748" y="1201"/>
                  </a:lnTo>
                  <a:lnTo>
                    <a:pt x="738" y="1206"/>
                  </a:lnTo>
                  <a:lnTo>
                    <a:pt x="728" y="1210"/>
                  </a:lnTo>
                  <a:lnTo>
                    <a:pt x="717" y="1213"/>
                  </a:lnTo>
                  <a:lnTo>
                    <a:pt x="705" y="1217"/>
                  </a:lnTo>
                  <a:lnTo>
                    <a:pt x="693" y="1218"/>
                  </a:lnTo>
                  <a:lnTo>
                    <a:pt x="682" y="1220"/>
                  </a:lnTo>
                  <a:lnTo>
                    <a:pt x="669" y="1220"/>
                  </a:lnTo>
                  <a:lnTo>
                    <a:pt x="652" y="1218"/>
                  </a:lnTo>
                  <a:lnTo>
                    <a:pt x="635" y="1217"/>
                  </a:lnTo>
                  <a:lnTo>
                    <a:pt x="620" y="1211"/>
                  </a:lnTo>
                  <a:lnTo>
                    <a:pt x="605" y="1203"/>
                  </a:lnTo>
                  <a:lnTo>
                    <a:pt x="591" y="1194"/>
                  </a:lnTo>
                  <a:lnTo>
                    <a:pt x="577" y="1182"/>
                  </a:lnTo>
                  <a:lnTo>
                    <a:pt x="565" y="1168"/>
                  </a:lnTo>
                  <a:lnTo>
                    <a:pt x="553" y="1152"/>
                  </a:lnTo>
                  <a:lnTo>
                    <a:pt x="547" y="1144"/>
                  </a:lnTo>
                  <a:lnTo>
                    <a:pt x="542" y="1135"/>
                  </a:lnTo>
                  <a:lnTo>
                    <a:pt x="537" y="1125"/>
                  </a:lnTo>
                  <a:lnTo>
                    <a:pt x="533" y="1116"/>
                  </a:lnTo>
                  <a:lnTo>
                    <a:pt x="528" y="1106"/>
                  </a:lnTo>
                  <a:lnTo>
                    <a:pt x="524" y="1095"/>
                  </a:lnTo>
                  <a:lnTo>
                    <a:pt x="521" y="1085"/>
                  </a:lnTo>
                  <a:lnTo>
                    <a:pt x="518" y="1073"/>
                  </a:lnTo>
                  <a:lnTo>
                    <a:pt x="515" y="1062"/>
                  </a:lnTo>
                  <a:lnTo>
                    <a:pt x="513" y="1050"/>
                  </a:lnTo>
                  <a:lnTo>
                    <a:pt x="511" y="1038"/>
                  </a:lnTo>
                  <a:lnTo>
                    <a:pt x="509" y="1026"/>
                  </a:lnTo>
                  <a:lnTo>
                    <a:pt x="508" y="1012"/>
                  </a:lnTo>
                  <a:lnTo>
                    <a:pt x="507" y="1000"/>
                  </a:lnTo>
                  <a:lnTo>
                    <a:pt x="506" y="986"/>
                  </a:lnTo>
                  <a:lnTo>
                    <a:pt x="506" y="972"/>
                  </a:lnTo>
                  <a:lnTo>
                    <a:pt x="506" y="943"/>
                  </a:lnTo>
                  <a:lnTo>
                    <a:pt x="507" y="919"/>
                  </a:lnTo>
                  <a:lnTo>
                    <a:pt x="508" y="896"/>
                  </a:lnTo>
                  <a:lnTo>
                    <a:pt x="508" y="887"/>
                  </a:lnTo>
                  <a:lnTo>
                    <a:pt x="509" y="879"/>
                  </a:lnTo>
                  <a:lnTo>
                    <a:pt x="510" y="870"/>
                  </a:lnTo>
                  <a:lnTo>
                    <a:pt x="510" y="861"/>
                  </a:lnTo>
                  <a:lnTo>
                    <a:pt x="512" y="841"/>
                  </a:lnTo>
                  <a:lnTo>
                    <a:pt x="515" y="815"/>
                  </a:lnTo>
                  <a:lnTo>
                    <a:pt x="518" y="785"/>
                  </a:lnTo>
                  <a:lnTo>
                    <a:pt x="538" y="631"/>
                  </a:lnTo>
                  <a:lnTo>
                    <a:pt x="329" y="631"/>
                  </a:lnTo>
                  <a:lnTo>
                    <a:pt x="257" y="1199"/>
                  </a:lnTo>
                  <a:lnTo>
                    <a:pt x="42" y="1199"/>
                  </a:lnTo>
                  <a:lnTo>
                    <a:pt x="135" y="465"/>
                  </a:lnTo>
                  <a:lnTo>
                    <a:pt x="145" y="378"/>
                  </a:lnTo>
                  <a:lnTo>
                    <a:pt x="147" y="352"/>
                  </a:lnTo>
                  <a:lnTo>
                    <a:pt x="149" y="328"/>
                  </a:lnTo>
                  <a:lnTo>
                    <a:pt x="151" y="307"/>
                  </a:lnTo>
                  <a:lnTo>
                    <a:pt x="151" y="297"/>
                  </a:lnTo>
                  <a:lnTo>
                    <a:pt x="151" y="288"/>
                  </a:lnTo>
                  <a:lnTo>
                    <a:pt x="151" y="272"/>
                  </a:lnTo>
                  <a:lnTo>
                    <a:pt x="150" y="257"/>
                  </a:lnTo>
                  <a:lnTo>
                    <a:pt x="148" y="243"/>
                  </a:lnTo>
                  <a:lnTo>
                    <a:pt x="147" y="231"/>
                  </a:lnTo>
                  <a:lnTo>
                    <a:pt x="146" y="226"/>
                  </a:lnTo>
                  <a:lnTo>
                    <a:pt x="145" y="220"/>
                  </a:lnTo>
                  <a:lnTo>
                    <a:pt x="143" y="215"/>
                  </a:lnTo>
                  <a:lnTo>
                    <a:pt x="142" y="210"/>
                  </a:lnTo>
                  <a:lnTo>
                    <a:pt x="141" y="205"/>
                  </a:lnTo>
                  <a:lnTo>
                    <a:pt x="139" y="201"/>
                  </a:lnTo>
                  <a:lnTo>
                    <a:pt x="137" y="198"/>
                  </a:lnTo>
                  <a:lnTo>
                    <a:pt x="136" y="194"/>
                  </a:lnTo>
                  <a:lnTo>
                    <a:pt x="134" y="191"/>
                  </a:lnTo>
                  <a:lnTo>
                    <a:pt x="131" y="187"/>
                  </a:lnTo>
                  <a:lnTo>
                    <a:pt x="129" y="186"/>
                  </a:lnTo>
                  <a:lnTo>
                    <a:pt x="126" y="182"/>
                  </a:lnTo>
                  <a:lnTo>
                    <a:pt x="124" y="181"/>
                  </a:lnTo>
                  <a:lnTo>
                    <a:pt x="120" y="179"/>
                  </a:lnTo>
                  <a:lnTo>
                    <a:pt x="114" y="175"/>
                  </a:lnTo>
                  <a:lnTo>
                    <a:pt x="107" y="172"/>
                  </a:lnTo>
                  <a:lnTo>
                    <a:pt x="99" y="170"/>
                  </a:lnTo>
                  <a:lnTo>
                    <a:pt x="90" y="168"/>
                  </a:lnTo>
                  <a:lnTo>
                    <a:pt x="80" y="168"/>
                  </a:lnTo>
                  <a:lnTo>
                    <a:pt x="69" y="168"/>
                  </a:lnTo>
                  <a:lnTo>
                    <a:pt x="64" y="170"/>
                  </a:lnTo>
                  <a:lnTo>
                    <a:pt x="59" y="172"/>
                  </a:lnTo>
                  <a:lnTo>
                    <a:pt x="53" y="174"/>
                  </a:lnTo>
                  <a:lnTo>
                    <a:pt x="48" y="175"/>
                  </a:lnTo>
                  <a:lnTo>
                    <a:pt x="42" y="177"/>
                  </a:lnTo>
                  <a:lnTo>
                    <a:pt x="37" y="181"/>
                  </a:lnTo>
                  <a:lnTo>
                    <a:pt x="27" y="186"/>
                  </a:lnTo>
                  <a:lnTo>
                    <a:pt x="17" y="193"/>
                  </a:lnTo>
                  <a:lnTo>
                    <a:pt x="0" y="203"/>
                  </a:lnTo>
                  <a:lnTo>
                    <a:pt x="14" y="96"/>
                  </a:lnTo>
                  <a:lnTo>
                    <a:pt x="115" y="28"/>
                  </a:lnTo>
                  <a:lnTo>
                    <a:pt x="127" y="21"/>
                  </a:lnTo>
                  <a:lnTo>
                    <a:pt x="139" y="16"/>
                  </a:lnTo>
                  <a:lnTo>
                    <a:pt x="151" y="11"/>
                  </a:lnTo>
                  <a:lnTo>
                    <a:pt x="162" y="7"/>
                  </a:lnTo>
                  <a:lnTo>
                    <a:pt x="174" y="4"/>
                  </a:lnTo>
                  <a:lnTo>
                    <a:pt x="185" y="2"/>
                  </a:lnTo>
                  <a:lnTo>
                    <a:pt x="195" y="0"/>
                  </a:lnTo>
                  <a:lnTo>
                    <a:pt x="206" y="0"/>
                  </a:lnTo>
                  <a:lnTo>
                    <a:pt x="225" y="2"/>
                  </a:lnTo>
                  <a:lnTo>
                    <a:pt x="243" y="6"/>
                  </a:lnTo>
                  <a:lnTo>
                    <a:pt x="260" y="11"/>
                  </a:lnTo>
                  <a:lnTo>
                    <a:pt x="276" y="18"/>
                  </a:lnTo>
                  <a:lnTo>
                    <a:pt x="290" y="28"/>
                  </a:lnTo>
                  <a:lnTo>
                    <a:pt x="297" y="35"/>
                  </a:lnTo>
                  <a:lnTo>
                    <a:pt x="304" y="40"/>
                  </a:lnTo>
                  <a:lnTo>
                    <a:pt x="310" y="47"/>
                  </a:lnTo>
                  <a:lnTo>
                    <a:pt x="316" y="54"/>
                  </a:lnTo>
                  <a:lnTo>
                    <a:pt x="322" y="63"/>
                  </a:lnTo>
                  <a:lnTo>
                    <a:pt x="327" y="71"/>
                  </a:lnTo>
                  <a:lnTo>
                    <a:pt x="336" y="90"/>
                  </a:lnTo>
                  <a:lnTo>
                    <a:pt x="344" y="109"/>
                  </a:lnTo>
                  <a:lnTo>
                    <a:pt x="348" y="120"/>
                  </a:lnTo>
                  <a:lnTo>
                    <a:pt x="351" y="130"/>
                  </a:lnTo>
                  <a:lnTo>
                    <a:pt x="354" y="141"/>
                  </a:lnTo>
                  <a:lnTo>
                    <a:pt x="356" y="153"/>
                  </a:lnTo>
                  <a:lnTo>
                    <a:pt x="359" y="163"/>
                  </a:lnTo>
                  <a:lnTo>
                    <a:pt x="361" y="175"/>
                  </a:lnTo>
                  <a:lnTo>
                    <a:pt x="362" y="187"/>
                  </a:lnTo>
                  <a:lnTo>
                    <a:pt x="364" y="200"/>
                  </a:lnTo>
                  <a:lnTo>
                    <a:pt x="365" y="212"/>
                  </a:lnTo>
                  <a:lnTo>
                    <a:pt x="366" y="224"/>
                  </a:lnTo>
                  <a:lnTo>
                    <a:pt x="367" y="236"/>
                  </a:lnTo>
                  <a:lnTo>
                    <a:pt x="367" y="250"/>
                  </a:lnTo>
                  <a:lnTo>
                    <a:pt x="367" y="271"/>
                  </a:lnTo>
                  <a:lnTo>
                    <a:pt x="366" y="293"/>
                  </a:lnTo>
                  <a:lnTo>
                    <a:pt x="365" y="314"/>
                  </a:lnTo>
                  <a:lnTo>
                    <a:pt x="364" y="335"/>
                  </a:lnTo>
                  <a:lnTo>
                    <a:pt x="362" y="357"/>
                  </a:lnTo>
                  <a:lnTo>
                    <a:pt x="361" y="381"/>
                  </a:lnTo>
                  <a:lnTo>
                    <a:pt x="357" y="407"/>
                  </a:lnTo>
                  <a:lnTo>
                    <a:pt x="354" y="43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88400" y="4071960"/>
              <a:ext cx="295200" cy="449280"/>
            </a:xfrm>
            <a:custGeom>
              <a:avLst/>
              <a:gdLst/>
              <a:ahLst/>
              <a:rect l="l" t="t" r="r" b="b"/>
              <a:pathLst>
                <a:path w="820" h="1249">
                  <a:moveTo>
                    <a:pt x="451" y="1062"/>
                  </a:moveTo>
                  <a:lnTo>
                    <a:pt x="445" y="1062"/>
                  </a:lnTo>
                  <a:lnTo>
                    <a:pt x="434" y="1080"/>
                  </a:lnTo>
                  <a:lnTo>
                    <a:pt x="424" y="1097"/>
                  </a:lnTo>
                  <a:lnTo>
                    <a:pt x="403" y="1128"/>
                  </a:lnTo>
                  <a:lnTo>
                    <a:pt x="392" y="1142"/>
                  </a:lnTo>
                  <a:lnTo>
                    <a:pt x="379" y="1157"/>
                  </a:lnTo>
                  <a:lnTo>
                    <a:pt x="365" y="1173"/>
                  </a:lnTo>
                  <a:lnTo>
                    <a:pt x="351" y="1187"/>
                  </a:lnTo>
                  <a:lnTo>
                    <a:pt x="337" y="1199"/>
                  </a:lnTo>
                  <a:lnTo>
                    <a:pt x="323" y="1211"/>
                  </a:lnTo>
                  <a:lnTo>
                    <a:pt x="309" y="1222"/>
                  </a:lnTo>
                  <a:lnTo>
                    <a:pt x="293" y="1230"/>
                  </a:lnTo>
                  <a:lnTo>
                    <a:pt x="286" y="1234"/>
                  </a:lnTo>
                  <a:lnTo>
                    <a:pt x="278" y="1239"/>
                  </a:lnTo>
                  <a:lnTo>
                    <a:pt x="270" y="1241"/>
                  </a:lnTo>
                  <a:lnTo>
                    <a:pt x="261" y="1244"/>
                  </a:lnTo>
                  <a:lnTo>
                    <a:pt x="253" y="1246"/>
                  </a:lnTo>
                  <a:lnTo>
                    <a:pt x="244" y="1246"/>
                  </a:lnTo>
                  <a:lnTo>
                    <a:pt x="227" y="1248"/>
                  </a:lnTo>
                  <a:lnTo>
                    <a:pt x="200" y="1246"/>
                  </a:lnTo>
                  <a:lnTo>
                    <a:pt x="173" y="1241"/>
                  </a:lnTo>
                  <a:lnTo>
                    <a:pt x="150" y="1230"/>
                  </a:lnTo>
                  <a:lnTo>
                    <a:pt x="128" y="1216"/>
                  </a:lnTo>
                  <a:lnTo>
                    <a:pt x="117" y="1208"/>
                  </a:lnTo>
                  <a:lnTo>
                    <a:pt x="107" y="1199"/>
                  </a:lnTo>
                  <a:lnTo>
                    <a:pt x="98" y="1189"/>
                  </a:lnTo>
                  <a:lnTo>
                    <a:pt x="89" y="1178"/>
                  </a:lnTo>
                  <a:lnTo>
                    <a:pt x="80" y="1166"/>
                  </a:lnTo>
                  <a:lnTo>
                    <a:pt x="72" y="1154"/>
                  </a:lnTo>
                  <a:lnTo>
                    <a:pt x="64" y="1140"/>
                  </a:lnTo>
                  <a:lnTo>
                    <a:pt x="56" y="1125"/>
                  </a:lnTo>
                  <a:lnTo>
                    <a:pt x="50" y="1109"/>
                  </a:lnTo>
                  <a:lnTo>
                    <a:pt x="43" y="1093"/>
                  </a:lnTo>
                  <a:lnTo>
                    <a:pt x="37" y="1076"/>
                  </a:lnTo>
                  <a:lnTo>
                    <a:pt x="32" y="1059"/>
                  </a:lnTo>
                  <a:lnTo>
                    <a:pt x="27" y="1040"/>
                  </a:lnTo>
                  <a:lnTo>
                    <a:pt x="22" y="1021"/>
                  </a:lnTo>
                  <a:lnTo>
                    <a:pt x="17" y="1000"/>
                  </a:lnTo>
                  <a:lnTo>
                    <a:pt x="14" y="981"/>
                  </a:lnTo>
                  <a:lnTo>
                    <a:pt x="7" y="937"/>
                  </a:lnTo>
                  <a:lnTo>
                    <a:pt x="3" y="891"/>
                  </a:lnTo>
                  <a:lnTo>
                    <a:pt x="1" y="842"/>
                  </a:lnTo>
                  <a:lnTo>
                    <a:pt x="0" y="790"/>
                  </a:lnTo>
                  <a:lnTo>
                    <a:pt x="1" y="750"/>
                  </a:lnTo>
                  <a:lnTo>
                    <a:pt x="1" y="711"/>
                  </a:lnTo>
                  <a:lnTo>
                    <a:pt x="4" y="671"/>
                  </a:lnTo>
                  <a:lnTo>
                    <a:pt x="8" y="633"/>
                  </a:lnTo>
                  <a:lnTo>
                    <a:pt x="12" y="594"/>
                  </a:lnTo>
                  <a:lnTo>
                    <a:pt x="18" y="556"/>
                  </a:lnTo>
                  <a:lnTo>
                    <a:pt x="24" y="520"/>
                  </a:lnTo>
                  <a:lnTo>
                    <a:pt x="32" y="484"/>
                  </a:lnTo>
                  <a:lnTo>
                    <a:pt x="40" y="449"/>
                  </a:lnTo>
                  <a:lnTo>
                    <a:pt x="49" y="414"/>
                  </a:lnTo>
                  <a:lnTo>
                    <a:pt x="59" y="381"/>
                  </a:lnTo>
                  <a:lnTo>
                    <a:pt x="69" y="350"/>
                  </a:lnTo>
                  <a:lnTo>
                    <a:pt x="79" y="319"/>
                  </a:lnTo>
                  <a:lnTo>
                    <a:pt x="91" y="290"/>
                  </a:lnTo>
                  <a:lnTo>
                    <a:pt x="104" y="260"/>
                  </a:lnTo>
                  <a:lnTo>
                    <a:pt x="117" y="232"/>
                  </a:lnTo>
                  <a:lnTo>
                    <a:pt x="130" y="206"/>
                  </a:lnTo>
                  <a:lnTo>
                    <a:pt x="144" y="182"/>
                  </a:lnTo>
                  <a:lnTo>
                    <a:pt x="160" y="158"/>
                  </a:lnTo>
                  <a:lnTo>
                    <a:pt x="175" y="137"/>
                  </a:lnTo>
                  <a:lnTo>
                    <a:pt x="191" y="116"/>
                  </a:lnTo>
                  <a:lnTo>
                    <a:pt x="207" y="97"/>
                  </a:lnTo>
                  <a:lnTo>
                    <a:pt x="224" y="78"/>
                  </a:lnTo>
                  <a:lnTo>
                    <a:pt x="242" y="63"/>
                  </a:lnTo>
                  <a:lnTo>
                    <a:pt x="260" y="49"/>
                  </a:lnTo>
                  <a:lnTo>
                    <a:pt x="278" y="35"/>
                  </a:lnTo>
                  <a:lnTo>
                    <a:pt x="297" y="24"/>
                  </a:lnTo>
                  <a:lnTo>
                    <a:pt x="316" y="16"/>
                  </a:lnTo>
                  <a:lnTo>
                    <a:pt x="335" y="9"/>
                  </a:lnTo>
                  <a:lnTo>
                    <a:pt x="354" y="4"/>
                  </a:lnTo>
                  <a:lnTo>
                    <a:pt x="375" y="2"/>
                  </a:lnTo>
                  <a:lnTo>
                    <a:pt x="394" y="0"/>
                  </a:lnTo>
                  <a:lnTo>
                    <a:pt x="422" y="2"/>
                  </a:lnTo>
                  <a:lnTo>
                    <a:pt x="449" y="7"/>
                  </a:lnTo>
                  <a:lnTo>
                    <a:pt x="461" y="11"/>
                  </a:lnTo>
                  <a:lnTo>
                    <a:pt x="473" y="14"/>
                  </a:lnTo>
                  <a:lnTo>
                    <a:pt x="485" y="19"/>
                  </a:lnTo>
                  <a:lnTo>
                    <a:pt x="496" y="24"/>
                  </a:lnTo>
                  <a:lnTo>
                    <a:pt x="507" y="31"/>
                  </a:lnTo>
                  <a:lnTo>
                    <a:pt x="517" y="38"/>
                  </a:lnTo>
                  <a:lnTo>
                    <a:pt x="526" y="47"/>
                  </a:lnTo>
                  <a:lnTo>
                    <a:pt x="536" y="54"/>
                  </a:lnTo>
                  <a:lnTo>
                    <a:pt x="545" y="64"/>
                  </a:lnTo>
                  <a:lnTo>
                    <a:pt x="553" y="73"/>
                  </a:lnTo>
                  <a:lnTo>
                    <a:pt x="560" y="83"/>
                  </a:lnTo>
                  <a:lnTo>
                    <a:pt x="568" y="94"/>
                  </a:lnTo>
                  <a:lnTo>
                    <a:pt x="768" y="18"/>
                  </a:lnTo>
                  <a:lnTo>
                    <a:pt x="776" y="37"/>
                  </a:lnTo>
                  <a:lnTo>
                    <a:pt x="681" y="771"/>
                  </a:lnTo>
                  <a:lnTo>
                    <a:pt x="679" y="790"/>
                  </a:lnTo>
                  <a:lnTo>
                    <a:pt x="676" y="813"/>
                  </a:lnTo>
                  <a:lnTo>
                    <a:pt x="670" y="863"/>
                  </a:lnTo>
                  <a:lnTo>
                    <a:pt x="668" y="889"/>
                  </a:lnTo>
                  <a:lnTo>
                    <a:pt x="666" y="913"/>
                  </a:lnTo>
                  <a:lnTo>
                    <a:pt x="664" y="932"/>
                  </a:lnTo>
                  <a:lnTo>
                    <a:pt x="664" y="941"/>
                  </a:lnTo>
                  <a:lnTo>
                    <a:pt x="664" y="948"/>
                  </a:lnTo>
                  <a:lnTo>
                    <a:pt x="664" y="963"/>
                  </a:lnTo>
                  <a:lnTo>
                    <a:pt x="665" y="979"/>
                  </a:lnTo>
                  <a:lnTo>
                    <a:pt x="667" y="993"/>
                  </a:lnTo>
                  <a:lnTo>
                    <a:pt x="668" y="1000"/>
                  </a:lnTo>
                  <a:lnTo>
                    <a:pt x="669" y="1005"/>
                  </a:lnTo>
                  <a:lnTo>
                    <a:pt x="669" y="1010"/>
                  </a:lnTo>
                  <a:lnTo>
                    <a:pt x="671" y="1015"/>
                  </a:lnTo>
                  <a:lnTo>
                    <a:pt x="673" y="1021"/>
                  </a:lnTo>
                  <a:lnTo>
                    <a:pt x="674" y="1026"/>
                  </a:lnTo>
                  <a:lnTo>
                    <a:pt x="675" y="1031"/>
                  </a:lnTo>
                  <a:lnTo>
                    <a:pt x="677" y="1034"/>
                  </a:lnTo>
                  <a:lnTo>
                    <a:pt x="680" y="1038"/>
                  </a:lnTo>
                  <a:lnTo>
                    <a:pt x="681" y="1041"/>
                  </a:lnTo>
                  <a:lnTo>
                    <a:pt x="684" y="1045"/>
                  </a:lnTo>
                  <a:lnTo>
                    <a:pt x="685" y="1048"/>
                  </a:lnTo>
                  <a:lnTo>
                    <a:pt x="688" y="1050"/>
                  </a:lnTo>
                  <a:lnTo>
                    <a:pt x="691" y="1054"/>
                  </a:lnTo>
                  <a:lnTo>
                    <a:pt x="697" y="1057"/>
                  </a:lnTo>
                  <a:lnTo>
                    <a:pt x="704" y="1060"/>
                  </a:lnTo>
                  <a:lnTo>
                    <a:pt x="712" y="1064"/>
                  </a:lnTo>
                  <a:lnTo>
                    <a:pt x="720" y="1066"/>
                  </a:lnTo>
                  <a:lnTo>
                    <a:pt x="729" y="1067"/>
                  </a:lnTo>
                  <a:lnTo>
                    <a:pt x="740" y="1067"/>
                  </a:lnTo>
                  <a:lnTo>
                    <a:pt x="744" y="1067"/>
                  </a:lnTo>
                  <a:lnTo>
                    <a:pt x="749" y="1066"/>
                  </a:lnTo>
                  <a:lnTo>
                    <a:pt x="754" y="1066"/>
                  </a:lnTo>
                  <a:lnTo>
                    <a:pt x="759" y="1064"/>
                  </a:lnTo>
                  <a:lnTo>
                    <a:pt x="771" y="1059"/>
                  </a:lnTo>
                  <a:lnTo>
                    <a:pt x="784" y="1054"/>
                  </a:lnTo>
                  <a:lnTo>
                    <a:pt x="806" y="1041"/>
                  </a:lnTo>
                  <a:lnTo>
                    <a:pt x="813" y="1036"/>
                  </a:lnTo>
                  <a:lnTo>
                    <a:pt x="819" y="1033"/>
                  </a:lnTo>
                  <a:lnTo>
                    <a:pt x="805" y="1140"/>
                  </a:lnTo>
                  <a:lnTo>
                    <a:pt x="702" y="1211"/>
                  </a:lnTo>
                  <a:lnTo>
                    <a:pt x="692" y="1216"/>
                  </a:lnTo>
                  <a:lnTo>
                    <a:pt x="682" y="1222"/>
                  </a:lnTo>
                  <a:lnTo>
                    <a:pt x="671" y="1225"/>
                  </a:lnTo>
                  <a:lnTo>
                    <a:pt x="660" y="1229"/>
                  </a:lnTo>
                  <a:lnTo>
                    <a:pt x="649" y="1232"/>
                  </a:lnTo>
                  <a:lnTo>
                    <a:pt x="637" y="1234"/>
                  </a:lnTo>
                  <a:lnTo>
                    <a:pt x="625" y="1235"/>
                  </a:lnTo>
                  <a:lnTo>
                    <a:pt x="613" y="1235"/>
                  </a:lnTo>
                  <a:lnTo>
                    <a:pt x="597" y="1235"/>
                  </a:lnTo>
                  <a:lnTo>
                    <a:pt x="581" y="1232"/>
                  </a:lnTo>
                  <a:lnTo>
                    <a:pt x="567" y="1229"/>
                  </a:lnTo>
                  <a:lnTo>
                    <a:pt x="553" y="1223"/>
                  </a:lnTo>
                  <a:lnTo>
                    <a:pt x="540" y="1216"/>
                  </a:lnTo>
                  <a:lnTo>
                    <a:pt x="528" y="1208"/>
                  </a:lnTo>
                  <a:lnTo>
                    <a:pt x="516" y="1199"/>
                  </a:lnTo>
                  <a:lnTo>
                    <a:pt x="506" y="1187"/>
                  </a:lnTo>
                  <a:lnTo>
                    <a:pt x="497" y="1175"/>
                  </a:lnTo>
                  <a:lnTo>
                    <a:pt x="487" y="1161"/>
                  </a:lnTo>
                  <a:lnTo>
                    <a:pt x="480" y="1147"/>
                  </a:lnTo>
                  <a:lnTo>
                    <a:pt x="472" y="1133"/>
                  </a:lnTo>
                  <a:lnTo>
                    <a:pt x="466" y="1116"/>
                  </a:lnTo>
                  <a:lnTo>
                    <a:pt x="460" y="1099"/>
                  </a:lnTo>
                  <a:lnTo>
                    <a:pt x="455" y="1081"/>
                  </a:lnTo>
                  <a:close/>
                  <a:moveTo>
                    <a:pt x="527" y="305"/>
                  </a:moveTo>
                  <a:lnTo>
                    <a:pt x="527" y="291"/>
                  </a:lnTo>
                  <a:lnTo>
                    <a:pt x="526" y="277"/>
                  </a:lnTo>
                  <a:lnTo>
                    <a:pt x="525" y="262"/>
                  </a:lnTo>
                  <a:lnTo>
                    <a:pt x="524" y="244"/>
                  </a:lnTo>
                  <a:lnTo>
                    <a:pt x="523" y="236"/>
                  </a:lnTo>
                  <a:lnTo>
                    <a:pt x="521" y="227"/>
                  </a:lnTo>
                  <a:lnTo>
                    <a:pt x="520" y="219"/>
                  </a:lnTo>
                  <a:lnTo>
                    <a:pt x="519" y="212"/>
                  </a:lnTo>
                  <a:lnTo>
                    <a:pt x="516" y="203"/>
                  </a:lnTo>
                  <a:lnTo>
                    <a:pt x="514" y="196"/>
                  </a:lnTo>
                  <a:lnTo>
                    <a:pt x="513" y="189"/>
                  </a:lnTo>
                  <a:lnTo>
                    <a:pt x="510" y="182"/>
                  </a:lnTo>
                  <a:lnTo>
                    <a:pt x="507" y="175"/>
                  </a:lnTo>
                  <a:lnTo>
                    <a:pt x="504" y="168"/>
                  </a:lnTo>
                  <a:lnTo>
                    <a:pt x="501" y="161"/>
                  </a:lnTo>
                  <a:lnTo>
                    <a:pt x="497" y="156"/>
                  </a:lnTo>
                  <a:lnTo>
                    <a:pt x="493" y="149"/>
                  </a:lnTo>
                  <a:lnTo>
                    <a:pt x="489" y="144"/>
                  </a:lnTo>
                  <a:lnTo>
                    <a:pt x="484" y="139"/>
                  </a:lnTo>
                  <a:lnTo>
                    <a:pt x="480" y="135"/>
                  </a:lnTo>
                  <a:lnTo>
                    <a:pt x="475" y="132"/>
                  </a:lnTo>
                  <a:lnTo>
                    <a:pt x="470" y="128"/>
                  </a:lnTo>
                  <a:lnTo>
                    <a:pt x="464" y="127"/>
                  </a:lnTo>
                  <a:lnTo>
                    <a:pt x="459" y="123"/>
                  </a:lnTo>
                  <a:lnTo>
                    <a:pt x="453" y="121"/>
                  </a:lnTo>
                  <a:lnTo>
                    <a:pt x="447" y="121"/>
                  </a:lnTo>
                  <a:lnTo>
                    <a:pt x="440" y="120"/>
                  </a:lnTo>
                  <a:lnTo>
                    <a:pt x="433" y="120"/>
                  </a:lnTo>
                  <a:lnTo>
                    <a:pt x="422" y="121"/>
                  </a:lnTo>
                  <a:lnTo>
                    <a:pt x="412" y="123"/>
                  </a:lnTo>
                  <a:lnTo>
                    <a:pt x="402" y="128"/>
                  </a:lnTo>
                  <a:lnTo>
                    <a:pt x="392" y="134"/>
                  </a:lnTo>
                  <a:lnTo>
                    <a:pt x="382" y="142"/>
                  </a:lnTo>
                  <a:lnTo>
                    <a:pt x="373" y="153"/>
                  </a:lnTo>
                  <a:lnTo>
                    <a:pt x="364" y="163"/>
                  </a:lnTo>
                  <a:lnTo>
                    <a:pt x="354" y="177"/>
                  </a:lnTo>
                  <a:lnTo>
                    <a:pt x="346" y="191"/>
                  </a:lnTo>
                  <a:lnTo>
                    <a:pt x="338" y="206"/>
                  </a:lnTo>
                  <a:lnTo>
                    <a:pt x="329" y="224"/>
                  </a:lnTo>
                  <a:lnTo>
                    <a:pt x="321" y="243"/>
                  </a:lnTo>
                  <a:lnTo>
                    <a:pt x="313" y="262"/>
                  </a:lnTo>
                  <a:lnTo>
                    <a:pt x="305" y="283"/>
                  </a:lnTo>
                  <a:lnTo>
                    <a:pt x="298" y="305"/>
                  </a:lnTo>
                  <a:lnTo>
                    <a:pt x="291" y="328"/>
                  </a:lnTo>
                  <a:lnTo>
                    <a:pt x="284" y="350"/>
                  </a:lnTo>
                  <a:lnTo>
                    <a:pt x="278" y="376"/>
                  </a:lnTo>
                  <a:lnTo>
                    <a:pt x="272" y="400"/>
                  </a:lnTo>
                  <a:lnTo>
                    <a:pt x="266" y="428"/>
                  </a:lnTo>
                  <a:lnTo>
                    <a:pt x="261" y="454"/>
                  </a:lnTo>
                  <a:lnTo>
                    <a:pt x="256" y="484"/>
                  </a:lnTo>
                  <a:lnTo>
                    <a:pt x="248" y="542"/>
                  </a:lnTo>
                  <a:lnTo>
                    <a:pt x="241" y="605"/>
                  </a:lnTo>
                  <a:lnTo>
                    <a:pt x="237" y="667"/>
                  </a:lnTo>
                  <a:lnTo>
                    <a:pt x="233" y="731"/>
                  </a:lnTo>
                  <a:lnTo>
                    <a:pt x="233" y="795"/>
                  </a:lnTo>
                  <a:lnTo>
                    <a:pt x="233" y="823"/>
                  </a:lnTo>
                  <a:lnTo>
                    <a:pt x="234" y="851"/>
                  </a:lnTo>
                  <a:lnTo>
                    <a:pt x="235" y="877"/>
                  </a:lnTo>
                  <a:lnTo>
                    <a:pt x="238" y="903"/>
                  </a:lnTo>
                  <a:lnTo>
                    <a:pt x="239" y="915"/>
                  </a:lnTo>
                  <a:lnTo>
                    <a:pt x="240" y="927"/>
                  </a:lnTo>
                  <a:lnTo>
                    <a:pt x="242" y="939"/>
                  </a:lnTo>
                  <a:lnTo>
                    <a:pt x="244" y="950"/>
                  </a:lnTo>
                  <a:lnTo>
                    <a:pt x="246" y="960"/>
                  </a:lnTo>
                  <a:lnTo>
                    <a:pt x="248" y="970"/>
                  </a:lnTo>
                  <a:lnTo>
                    <a:pt x="250" y="979"/>
                  </a:lnTo>
                  <a:lnTo>
                    <a:pt x="253" y="988"/>
                  </a:lnTo>
                  <a:lnTo>
                    <a:pt x="256" y="996"/>
                  </a:lnTo>
                  <a:lnTo>
                    <a:pt x="260" y="1007"/>
                  </a:lnTo>
                  <a:lnTo>
                    <a:pt x="263" y="1014"/>
                  </a:lnTo>
                  <a:lnTo>
                    <a:pt x="267" y="1022"/>
                  </a:lnTo>
                  <a:lnTo>
                    <a:pt x="271" y="1028"/>
                  </a:lnTo>
                  <a:lnTo>
                    <a:pt x="276" y="1034"/>
                  </a:lnTo>
                  <a:lnTo>
                    <a:pt x="280" y="1040"/>
                  </a:lnTo>
                  <a:lnTo>
                    <a:pt x="285" y="1045"/>
                  </a:lnTo>
                  <a:lnTo>
                    <a:pt x="290" y="1050"/>
                  </a:lnTo>
                  <a:lnTo>
                    <a:pt x="295" y="1054"/>
                  </a:lnTo>
                  <a:lnTo>
                    <a:pt x="301" y="1057"/>
                  </a:lnTo>
                  <a:lnTo>
                    <a:pt x="307" y="1060"/>
                  </a:lnTo>
                  <a:lnTo>
                    <a:pt x="313" y="1062"/>
                  </a:lnTo>
                  <a:lnTo>
                    <a:pt x="320" y="1064"/>
                  </a:lnTo>
                  <a:lnTo>
                    <a:pt x="327" y="1066"/>
                  </a:lnTo>
                  <a:lnTo>
                    <a:pt x="334" y="1066"/>
                  </a:lnTo>
                  <a:lnTo>
                    <a:pt x="342" y="1066"/>
                  </a:lnTo>
                  <a:lnTo>
                    <a:pt x="349" y="1064"/>
                  </a:lnTo>
                  <a:lnTo>
                    <a:pt x="357" y="1060"/>
                  </a:lnTo>
                  <a:lnTo>
                    <a:pt x="364" y="1057"/>
                  </a:lnTo>
                  <a:lnTo>
                    <a:pt x="371" y="1054"/>
                  </a:lnTo>
                  <a:lnTo>
                    <a:pt x="378" y="1047"/>
                  </a:lnTo>
                  <a:lnTo>
                    <a:pt x="386" y="1041"/>
                  </a:lnTo>
                  <a:lnTo>
                    <a:pt x="393" y="1033"/>
                  </a:lnTo>
                  <a:lnTo>
                    <a:pt x="406" y="1015"/>
                  </a:lnTo>
                  <a:lnTo>
                    <a:pt x="420" y="996"/>
                  </a:lnTo>
                  <a:lnTo>
                    <a:pt x="432" y="976"/>
                  </a:lnTo>
                  <a:lnTo>
                    <a:pt x="439" y="965"/>
                  </a:lnTo>
                  <a:lnTo>
                    <a:pt x="445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80360" y="4352760"/>
              <a:ext cx="93600" cy="168480"/>
            </a:xfrm>
            <a:custGeom>
              <a:avLst/>
              <a:gdLst/>
              <a:ahLst/>
              <a:rect l="l" t="t" r="r" b="b"/>
              <a:pathLst>
                <a:path w="258" h="469">
                  <a:moveTo>
                    <a:pt x="257" y="236"/>
                  </a:moveTo>
                  <a:lnTo>
                    <a:pt x="257" y="248"/>
                  </a:lnTo>
                  <a:lnTo>
                    <a:pt x="256" y="258"/>
                  </a:lnTo>
                  <a:lnTo>
                    <a:pt x="255" y="270"/>
                  </a:lnTo>
                  <a:lnTo>
                    <a:pt x="254" y="281"/>
                  </a:lnTo>
                  <a:lnTo>
                    <a:pt x="254" y="291"/>
                  </a:lnTo>
                  <a:lnTo>
                    <a:pt x="252" y="302"/>
                  </a:lnTo>
                  <a:lnTo>
                    <a:pt x="249" y="312"/>
                  </a:lnTo>
                  <a:lnTo>
                    <a:pt x="248" y="322"/>
                  </a:lnTo>
                  <a:lnTo>
                    <a:pt x="245" y="333"/>
                  </a:lnTo>
                  <a:lnTo>
                    <a:pt x="242" y="343"/>
                  </a:lnTo>
                  <a:lnTo>
                    <a:pt x="239" y="352"/>
                  </a:lnTo>
                  <a:lnTo>
                    <a:pt x="236" y="362"/>
                  </a:lnTo>
                  <a:lnTo>
                    <a:pt x="228" y="381"/>
                  </a:lnTo>
                  <a:lnTo>
                    <a:pt x="219" y="399"/>
                  </a:lnTo>
                  <a:lnTo>
                    <a:pt x="210" y="414"/>
                  </a:lnTo>
                  <a:lnTo>
                    <a:pt x="199" y="430"/>
                  </a:lnTo>
                  <a:lnTo>
                    <a:pt x="188" y="442"/>
                  </a:lnTo>
                  <a:lnTo>
                    <a:pt x="177" y="451"/>
                  </a:lnTo>
                  <a:lnTo>
                    <a:pt x="166" y="457"/>
                  </a:lnTo>
                  <a:lnTo>
                    <a:pt x="155" y="464"/>
                  </a:lnTo>
                  <a:lnTo>
                    <a:pt x="142" y="466"/>
                  </a:lnTo>
                  <a:lnTo>
                    <a:pt x="129" y="468"/>
                  </a:lnTo>
                  <a:lnTo>
                    <a:pt x="116" y="466"/>
                  </a:lnTo>
                  <a:lnTo>
                    <a:pt x="104" y="464"/>
                  </a:lnTo>
                  <a:lnTo>
                    <a:pt x="92" y="457"/>
                  </a:lnTo>
                  <a:lnTo>
                    <a:pt x="80" y="451"/>
                  </a:lnTo>
                  <a:lnTo>
                    <a:pt x="69" y="442"/>
                  </a:lnTo>
                  <a:lnTo>
                    <a:pt x="58" y="430"/>
                  </a:lnTo>
                  <a:lnTo>
                    <a:pt x="48" y="414"/>
                  </a:lnTo>
                  <a:lnTo>
                    <a:pt x="39" y="399"/>
                  </a:lnTo>
                  <a:lnTo>
                    <a:pt x="29" y="381"/>
                  </a:lnTo>
                  <a:lnTo>
                    <a:pt x="26" y="373"/>
                  </a:lnTo>
                  <a:lnTo>
                    <a:pt x="22" y="362"/>
                  </a:lnTo>
                  <a:lnTo>
                    <a:pt x="18" y="353"/>
                  </a:lnTo>
                  <a:lnTo>
                    <a:pt x="16" y="343"/>
                  </a:lnTo>
                  <a:lnTo>
                    <a:pt x="12" y="334"/>
                  </a:lnTo>
                  <a:lnTo>
                    <a:pt x="10" y="324"/>
                  </a:lnTo>
                  <a:lnTo>
                    <a:pt x="8" y="314"/>
                  </a:lnTo>
                  <a:lnTo>
                    <a:pt x="6" y="303"/>
                  </a:lnTo>
                  <a:lnTo>
                    <a:pt x="4" y="293"/>
                  </a:lnTo>
                  <a:lnTo>
                    <a:pt x="3" y="281"/>
                  </a:lnTo>
                  <a:lnTo>
                    <a:pt x="2" y="270"/>
                  </a:lnTo>
                  <a:lnTo>
                    <a:pt x="1" y="258"/>
                  </a:lnTo>
                  <a:lnTo>
                    <a:pt x="0" y="248"/>
                  </a:lnTo>
                  <a:lnTo>
                    <a:pt x="0" y="236"/>
                  </a:lnTo>
                  <a:lnTo>
                    <a:pt x="0" y="224"/>
                  </a:lnTo>
                  <a:lnTo>
                    <a:pt x="1" y="211"/>
                  </a:lnTo>
                  <a:lnTo>
                    <a:pt x="2" y="201"/>
                  </a:lnTo>
                  <a:lnTo>
                    <a:pt x="3" y="189"/>
                  </a:lnTo>
                  <a:lnTo>
                    <a:pt x="4" y="179"/>
                  </a:lnTo>
                  <a:lnTo>
                    <a:pt x="6" y="166"/>
                  </a:lnTo>
                  <a:lnTo>
                    <a:pt x="8" y="156"/>
                  </a:lnTo>
                  <a:lnTo>
                    <a:pt x="10" y="146"/>
                  </a:lnTo>
                  <a:lnTo>
                    <a:pt x="12" y="135"/>
                  </a:lnTo>
                  <a:lnTo>
                    <a:pt x="16" y="125"/>
                  </a:lnTo>
                  <a:lnTo>
                    <a:pt x="18" y="116"/>
                  </a:lnTo>
                  <a:lnTo>
                    <a:pt x="22" y="106"/>
                  </a:lnTo>
                  <a:lnTo>
                    <a:pt x="29" y="87"/>
                  </a:lnTo>
                  <a:lnTo>
                    <a:pt x="39" y="69"/>
                  </a:lnTo>
                  <a:lnTo>
                    <a:pt x="48" y="54"/>
                  </a:lnTo>
                  <a:lnTo>
                    <a:pt x="58" y="38"/>
                  </a:lnTo>
                  <a:lnTo>
                    <a:pt x="69" y="26"/>
                  </a:lnTo>
                  <a:lnTo>
                    <a:pt x="80" y="17"/>
                  </a:lnTo>
                  <a:lnTo>
                    <a:pt x="92" y="10"/>
                  </a:lnTo>
                  <a:lnTo>
                    <a:pt x="104" y="4"/>
                  </a:lnTo>
                  <a:lnTo>
                    <a:pt x="116" y="2"/>
                  </a:lnTo>
                  <a:lnTo>
                    <a:pt x="129" y="0"/>
                  </a:lnTo>
                  <a:lnTo>
                    <a:pt x="142" y="2"/>
                  </a:lnTo>
                  <a:lnTo>
                    <a:pt x="155" y="5"/>
                  </a:lnTo>
                  <a:lnTo>
                    <a:pt x="166" y="10"/>
                  </a:lnTo>
                  <a:lnTo>
                    <a:pt x="177" y="17"/>
                  </a:lnTo>
                  <a:lnTo>
                    <a:pt x="188" y="28"/>
                  </a:lnTo>
                  <a:lnTo>
                    <a:pt x="199" y="40"/>
                  </a:lnTo>
                  <a:lnTo>
                    <a:pt x="210" y="54"/>
                  </a:lnTo>
                  <a:lnTo>
                    <a:pt x="219" y="71"/>
                  </a:lnTo>
                  <a:lnTo>
                    <a:pt x="228" y="88"/>
                  </a:lnTo>
                  <a:lnTo>
                    <a:pt x="236" y="107"/>
                  </a:lnTo>
                  <a:lnTo>
                    <a:pt x="239" y="118"/>
                  </a:lnTo>
                  <a:lnTo>
                    <a:pt x="242" y="127"/>
                  </a:lnTo>
                  <a:lnTo>
                    <a:pt x="245" y="137"/>
                  </a:lnTo>
                  <a:lnTo>
                    <a:pt x="248" y="147"/>
                  </a:lnTo>
                  <a:lnTo>
                    <a:pt x="249" y="158"/>
                  </a:lnTo>
                  <a:lnTo>
                    <a:pt x="252" y="168"/>
                  </a:lnTo>
                  <a:lnTo>
                    <a:pt x="254" y="179"/>
                  </a:lnTo>
                  <a:lnTo>
                    <a:pt x="254" y="189"/>
                  </a:lnTo>
                  <a:lnTo>
                    <a:pt x="255" y="201"/>
                  </a:lnTo>
                  <a:lnTo>
                    <a:pt x="256" y="211"/>
                  </a:lnTo>
                  <a:lnTo>
                    <a:pt x="257" y="224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1360" y="4770360"/>
              <a:ext cx="393840" cy="619200"/>
            </a:xfrm>
            <a:custGeom>
              <a:avLst/>
              <a:gdLst/>
              <a:ahLst/>
              <a:rect l="l" t="t" r="r" b="b"/>
              <a:pathLst>
                <a:path w="1093" h="1718">
                  <a:moveTo>
                    <a:pt x="692" y="1036"/>
                  </a:moveTo>
                  <a:lnTo>
                    <a:pt x="635" y="421"/>
                  </a:lnTo>
                  <a:lnTo>
                    <a:pt x="426" y="1036"/>
                  </a:lnTo>
                  <a:close/>
                  <a:moveTo>
                    <a:pt x="588" y="1717"/>
                  </a:moveTo>
                  <a:lnTo>
                    <a:pt x="599" y="1630"/>
                  </a:lnTo>
                  <a:lnTo>
                    <a:pt x="631" y="1625"/>
                  </a:lnTo>
                  <a:lnTo>
                    <a:pt x="659" y="1618"/>
                  </a:lnTo>
                  <a:lnTo>
                    <a:pt x="682" y="1609"/>
                  </a:lnTo>
                  <a:lnTo>
                    <a:pt x="693" y="1604"/>
                  </a:lnTo>
                  <a:lnTo>
                    <a:pt x="704" y="1599"/>
                  </a:lnTo>
                  <a:lnTo>
                    <a:pt x="712" y="1594"/>
                  </a:lnTo>
                  <a:lnTo>
                    <a:pt x="720" y="1588"/>
                  </a:lnTo>
                  <a:lnTo>
                    <a:pt x="726" y="1583"/>
                  </a:lnTo>
                  <a:lnTo>
                    <a:pt x="732" y="1578"/>
                  </a:lnTo>
                  <a:lnTo>
                    <a:pt x="733" y="1575"/>
                  </a:lnTo>
                  <a:lnTo>
                    <a:pt x="736" y="1573"/>
                  </a:lnTo>
                  <a:lnTo>
                    <a:pt x="737" y="1569"/>
                  </a:lnTo>
                  <a:lnTo>
                    <a:pt x="738" y="1566"/>
                  </a:lnTo>
                  <a:lnTo>
                    <a:pt x="739" y="1562"/>
                  </a:lnTo>
                  <a:lnTo>
                    <a:pt x="740" y="1562"/>
                  </a:lnTo>
                  <a:lnTo>
                    <a:pt x="740" y="1561"/>
                  </a:lnTo>
                  <a:lnTo>
                    <a:pt x="741" y="1559"/>
                  </a:lnTo>
                  <a:lnTo>
                    <a:pt x="741" y="1557"/>
                  </a:lnTo>
                  <a:lnTo>
                    <a:pt x="741" y="1556"/>
                  </a:lnTo>
                  <a:lnTo>
                    <a:pt x="741" y="1554"/>
                  </a:lnTo>
                  <a:lnTo>
                    <a:pt x="741" y="1543"/>
                  </a:lnTo>
                  <a:lnTo>
                    <a:pt x="740" y="1535"/>
                  </a:lnTo>
                  <a:lnTo>
                    <a:pt x="740" y="1526"/>
                  </a:lnTo>
                  <a:lnTo>
                    <a:pt x="739" y="1517"/>
                  </a:lnTo>
                  <a:lnTo>
                    <a:pt x="737" y="1500"/>
                  </a:lnTo>
                  <a:lnTo>
                    <a:pt x="737" y="1491"/>
                  </a:lnTo>
                  <a:lnTo>
                    <a:pt x="736" y="1481"/>
                  </a:lnTo>
                  <a:lnTo>
                    <a:pt x="704" y="1148"/>
                  </a:lnTo>
                  <a:lnTo>
                    <a:pt x="387" y="1148"/>
                  </a:lnTo>
                  <a:lnTo>
                    <a:pt x="379" y="1173"/>
                  </a:lnTo>
                  <a:lnTo>
                    <a:pt x="369" y="1199"/>
                  </a:lnTo>
                  <a:lnTo>
                    <a:pt x="347" y="1264"/>
                  </a:lnTo>
                  <a:lnTo>
                    <a:pt x="307" y="1387"/>
                  </a:lnTo>
                  <a:lnTo>
                    <a:pt x="296" y="1426"/>
                  </a:lnTo>
                  <a:lnTo>
                    <a:pt x="288" y="1457"/>
                  </a:lnTo>
                  <a:lnTo>
                    <a:pt x="285" y="1469"/>
                  </a:lnTo>
                  <a:lnTo>
                    <a:pt x="282" y="1481"/>
                  </a:lnTo>
                  <a:lnTo>
                    <a:pt x="280" y="1490"/>
                  </a:lnTo>
                  <a:lnTo>
                    <a:pt x="279" y="1495"/>
                  </a:lnTo>
                  <a:lnTo>
                    <a:pt x="279" y="1498"/>
                  </a:lnTo>
                  <a:lnTo>
                    <a:pt x="275" y="1523"/>
                  </a:lnTo>
                  <a:lnTo>
                    <a:pt x="274" y="1531"/>
                  </a:lnTo>
                  <a:lnTo>
                    <a:pt x="274" y="1535"/>
                  </a:lnTo>
                  <a:lnTo>
                    <a:pt x="274" y="1535"/>
                  </a:lnTo>
                  <a:lnTo>
                    <a:pt x="274" y="1536"/>
                  </a:lnTo>
                  <a:lnTo>
                    <a:pt x="274" y="1542"/>
                  </a:lnTo>
                  <a:lnTo>
                    <a:pt x="275" y="1545"/>
                  </a:lnTo>
                  <a:lnTo>
                    <a:pt x="275" y="1550"/>
                  </a:lnTo>
                  <a:lnTo>
                    <a:pt x="276" y="1554"/>
                  </a:lnTo>
                  <a:lnTo>
                    <a:pt x="278" y="1557"/>
                  </a:lnTo>
                  <a:lnTo>
                    <a:pt x="279" y="1562"/>
                  </a:lnTo>
                  <a:lnTo>
                    <a:pt x="280" y="1566"/>
                  </a:lnTo>
                  <a:lnTo>
                    <a:pt x="282" y="1569"/>
                  </a:lnTo>
                  <a:lnTo>
                    <a:pt x="284" y="1573"/>
                  </a:lnTo>
                  <a:lnTo>
                    <a:pt x="286" y="1576"/>
                  </a:lnTo>
                  <a:lnTo>
                    <a:pt x="289" y="1580"/>
                  </a:lnTo>
                  <a:lnTo>
                    <a:pt x="291" y="1583"/>
                  </a:lnTo>
                  <a:lnTo>
                    <a:pt x="298" y="1590"/>
                  </a:lnTo>
                  <a:lnTo>
                    <a:pt x="305" y="1595"/>
                  </a:lnTo>
                  <a:lnTo>
                    <a:pt x="313" y="1601"/>
                  </a:lnTo>
                  <a:lnTo>
                    <a:pt x="322" y="1606"/>
                  </a:lnTo>
                  <a:lnTo>
                    <a:pt x="332" y="1611"/>
                  </a:lnTo>
                  <a:lnTo>
                    <a:pt x="344" y="1616"/>
                  </a:lnTo>
                  <a:lnTo>
                    <a:pt x="369" y="1623"/>
                  </a:lnTo>
                  <a:lnTo>
                    <a:pt x="399" y="1630"/>
                  </a:lnTo>
                  <a:lnTo>
                    <a:pt x="388" y="1717"/>
                  </a:lnTo>
                  <a:lnTo>
                    <a:pt x="0" y="1717"/>
                  </a:lnTo>
                  <a:lnTo>
                    <a:pt x="11" y="1630"/>
                  </a:lnTo>
                  <a:lnTo>
                    <a:pt x="21" y="1628"/>
                  </a:lnTo>
                  <a:lnTo>
                    <a:pt x="32" y="1627"/>
                  </a:lnTo>
                  <a:lnTo>
                    <a:pt x="45" y="1623"/>
                  </a:lnTo>
                  <a:lnTo>
                    <a:pt x="58" y="1618"/>
                  </a:lnTo>
                  <a:lnTo>
                    <a:pt x="72" y="1613"/>
                  </a:lnTo>
                  <a:lnTo>
                    <a:pt x="85" y="1606"/>
                  </a:lnTo>
                  <a:lnTo>
                    <a:pt x="91" y="1602"/>
                  </a:lnTo>
                  <a:lnTo>
                    <a:pt x="96" y="1599"/>
                  </a:lnTo>
                  <a:lnTo>
                    <a:pt x="102" y="1595"/>
                  </a:lnTo>
                  <a:lnTo>
                    <a:pt x="107" y="1590"/>
                  </a:lnTo>
                  <a:lnTo>
                    <a:pt x="120" y="1575"/>
                  </a:lnTo>
                  <a:lnTo>
                    <a:pt x="133" y="1559"/>
                  </a:lnTo>
                  <a:lnTo>
                    <a:pt x="146" y="1540"/>
                  </a:lnTo>
                  <a:lnTo>
                    <a:pt x="158" y="1521"/>
                  </a:lnTo>
                  <a:lnTo>
                    <a:pt x="169" y="1498"/>
                  </a:lnTo>
                  <a:lnTo>
                    <a:pt x="175" y="1488"/>
                  </a:lnTo>
                  <a:lnTo>
                    <a:pt x="181" y="1476"/>
                  </a:lnTo>
                  <a:lnTo>
                    <a:pt x="186" y="1462"/>
                  </a:lnTo>
                  <a:lnTo>
                    <a:pt x="192" y="1450"/>
                  </a:lnTo>
                  <a:lnTo>
                    <a:pt x="197" y="1434"/>
                  </a:lnTo>
                  <a:lnTo>
                    <a:pt x="202" y="1420"/>
                  </a:lnTo>
                  <a:lnTo>
                    <a:pt x="445" y="733"/>
                  </a:lnTo>
                  <a:lnTo>
                    <a:pt x="700" y="0"/>
                  </a:lnTo>
                  <a:lnTo>
                    <a:pt x="829" y="0"/>
                  </a:lnTo>
                  <a:lnTo>
                    <a:pt x="912" y="883"/>
                  </a:lnTo>
                  <a:lnTo>
                    <a:pt x="969" y="1469"/>
                  </a:lnTo>
                  <a:lnTo>
                    <a:pt x="970" y="1478"/>
                  </a:lnTo>
                  <a:lnTo>
                    <a:pt x="972" y="1486"/>
                  </a:lnTo>
                  <a:lnTo>
                    <a:pt x="973" y="1495"/>
                  </a:lnTo>
                  <a:lnTo>
                    <a:pt x="975" y="1504"/>
                  </a:lnTo>
                  <a:lnTo>
                    <a:pt x="976" y="1510"/>
                  </a:lnTo>
                  <a:lnTo>
                    <a:pt x="978" y="1519"/>
                  </a:lnTo>
                  <a:lnTo>
                    <a:pt x="980" y="1526"/>
                  </a:lnTo>
                  <a:lnTo>
                    <a:pt x="982" y="1535"/>
                  </a:lnTo>
                  <a:lnTo>
                    <a:pt x="985" y="1542"/>
                  </a:lnTo>
                  <a:lnTo>
                    <a:pt x="987" y="1549"/>
                  </a:lnTo>
                  <a:lnTo>
                    <a:pt x="991" y="1556"/>
                  </a:lnTo>
                  <a:lnTo>
                    <a:pt x="994" y="1562"/>
                  </a:lnTo>
                  <a:lnTo>
                    <a:pt x="998" y="1569"/>
                  </a:lnTo>
                  <a:lnTo>
                    <a:pt x="1002" y="1576"/>
                  </a:lnTo>
                  <a:lnTo>
                    <a:pt x="1013" y="1590"/>
                  </a:lnTo>
                  <a:lnTo>
                    <a:pt x="1017" y="1595"/>
                  </a:lnTo>
                  <a:lnTo>
                    <a:pt x="1021" y="1599"/>
                  </a:lnTo>
                  <a:lnTo>
                    <a:pt x="1025" y="1602"/>
                  </a:lnTo>
                  <a:lnTo>
                    <a:pt x="1030" y="1606"/>
                  </a:lnTo>
                  <a:lnTo>
                    <a:pt x="1035" y="1609"/>
                  </a:lnTo>
                  <a:lnTo>
                    <a:pt x="1040" y="1613"/>
                  </a:lnTo>
                  <a:lnTo>
                    <a:pt x="1051" y="1618"/>
                  </a:lnTo>
                  <a:lnTo>
                    <a:pt x="1062" y="1623"/>
                  </a:lnTo>
                  <a:lnTo>
                    <a:pt x="1072" y="1627"/>
                  </a:lnTo>
                  <a:lnTo>
                    <a:pt x="1082" y="1628"/>
                  </a:lnTo>
                  <a:lnTo>
                    <a:pt x="1092" y="1630"/>
                  </a:lnTo>
                  <a:lnTo>
                    <a:pt x="1081" y="1717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40520" y="5232240"/>
              <a:ext cx="93600" cy="168480"/>
            </a:xfrm>
            <a:custGeom>
              <a:avLst/>
              <a:gdLst/>
              <a:ahLst/>
              <a:rect l="l" t="t" r="r" b="b"/>
              <a:pathLst>
                <a:path w="258" h="468">
                  <a:moveTo>
                    <a:pt x="257" y="235"/>
                  </a:moveTo>
                  <a:lnTo>
                    <a:pt x="257" y="247"/>
                  </a:lnTo>
                  <a:lnTo>
                    <a:pt x="256" y="258"/>
                  </a:lnTo>
                  <a:lnTo>
                    <a:pt x="255" y="270"/>
                  </a:lnTo>
                  <a:lnTo>
                    <a:pt x="254" y="280"/>
                  </a:lnTo>
                  <a:lnTo>
                    <a:pt x="253" y="291"/>
                  </a:lnTo>
                  <a:lnTo>
                    <a:pt x="252" y="301"/>
                  </a:lnTo>
                  <a:lnTo>
                    <a:pt x="249" y="311"/>
                  </a:lnTo>
                  <a:lnTo>
                    <a:pt x="248" y="322"/>
                  </a:lnTo>
                  <a:lnTo>
                    <a:pt x="245" y="332"/>
                  </a:lnTo>
                  <a:lnTo>
                    <a:pt x="242" y="343"/>
                  </a:lnTo>
                  <a:lnTo>
                    <a:pt x="239" y="351"/>
                  </a:lnTo>
                  <a:lnTo>
                    <a:pt x="236" y="362"/>
                  </a:lnTo>
                  <a:lnTo>
                    <a:pt x="228" y="381"/>
                  </a:lnTo>
                  <a:lnTo>
                    <a:pt x="219" y="398"/>
                  </a:lnTo>
                  <a:lnTo>
                    <a:pt x="209" y="414"/>
                  </a:lnTo>
                  <a:lnTo>
                    <a:pt x="199" y="429"/>
                  </a:lnTo>
                  <a:lnTo>
                    <a:pt x="188" y="441"/>
                  </a:lnTo>
                  <a:lnTo>
                    <a:pt x="177" y="450"/>
                  </a:lnTo>
                  <a:lnTo>
                    <a:pt x="166" y="457"/>
                  </a:lnTo>
                  <a:lnTo>
                    <a:pt x="154" y="464"/>
                  </a:lnTo>
                  <a:lnTo>
                    <a:pt x="142" y="466"/>
                  </a:lnTo>
                  <a:lnTo>
                    <a:pt x="129" y="467"/>
                  </a:lnTo>
                  <a:lnTo>
                    <a:pt x="116" y="466"/>
                  </a:lnTo>
                  <a:lnTo>
                    <a:pt x="104" y="464"/>
                  </a:lnTo>
                  <a:lnTo>
                    <a:pt x="92" y="457"/>
                  </a:lnTo>
                  <a:lnTo>
                    <a:pt x="80" y="450"/>
                  </a:lnTo>
                  <a:lnTo>
                    <a:pt x="69" y="441"/>
                  </a:lnTo>
                  <a:lnTo>
                    <a:pt x="58" y="429"/>
                  </a:lnTo>
                  <a:lnTo>
                    <a:pt x="48" y="414"/>
                  </a:lnTo>
                  <a:lnTo>
                    <a:pt x="38" y="398"/>
                  </a:lnTo>
                  <a:lnTo>
                    <a:pt x="29" y="381"/>
                  </a:lnTo>
                  <a:lnTo>
                    <a:pt x="26" y="372"/>
                  </a:lnTo>
                  <a:lnTo>
                    <a:pt x="22" y="362"/>
                  </a:lnTo>
                  <a:lnTo>
                    <a:pt x="18" y="353"/>
                  </a:lnTo>
                  <a:lnTo>
                    <a:pt x="16" y="343"/>
                  </a:lnTo>
                  <a:lnTo>
                    <a:pt x="12" y="334"/>
                  </a:lnTo>
                  <a:lnTo>
                    <a:pt x="10" y="324"/>
                  </a:lnTo>
                  <a:lnTo>
                    <a:pt x="8" y="313"/>
                  </a:lnTo>
                  <a:lnTo>
                    <a:pt x="5" y="303"/>
                  </a:lnTo>
                  <a:lnTo>
                    <a:pt x="4" y="292"/>
                  </a:lnTo>
                  <a:lnTo>
                    <a:pt x="3" y="280"/>
                  </a:lnTo>
                  <a:lnTo>
                    <a:pt x="2" y="270"/>
                  </a:lnTo>
                  <a:lnTo>
                    <a:pt x="1" y="258"/>
                  </a:lnTo>
                  <a:lnTo>
                    <a:pt x="0" y="247"/>
                  </a:lnTo>
                  <a:lnTo>
                    <a:pt x="0" y="235"/>
                  </a:lnTo>
                  <a:lnTo>
                    <a:pt x="0" y="223"/>
                  </a:lnTo>
                  <a:lnTo>
                    <a:pt x="1" y="211"/>
                  </a:lnTo>
                  <a:lnTo>
                    <a:pt x="2" y="200"/>
                  </a:lnTo>
                  <a:lnTo>
                    <a:pt x="3" y="188"/>
                  </a:lnTo>
                  <a:lnTo>
                    <a:pt x="4" y="178"/>
                  </a:lnTo>
                  <a:lnTo>
                    <a:pt x="5" y="166"/>
                  </a:lnTo>
                  <a:lnTo>
                    <a:pt x="8" y="155"/>
                  </a:lnTo>
                  <a:lnTo>
                    <a:pt x="10" y="145"/>
                  </a:lnTo>
                  <a:lnTo>
                    <a:pt x="12" y="135"/>
                  </a:lnTo>
                  <a:lnTo>
                    <a:pt x="16" y="124"/>
                  </a:lnTo>
                  <a:lnTo>
                    <a:pt x="18" y="116"/>
                  </a:lnTo>
                  <a:lnTo>
                    <a:pt x="22" y="105"/>
                  </a:lnTo>
                  <a:lnTo>
                    <a:pt x="29" y="86"/>
                  </a:lnTo>
                  <a:lnTo>
                    <a:pt x="38" y="69"/>
                  </a:lnTo>
                  <a:lnTo>
                    <a:pt x="48" y="53"/>
                  </a:lnTo>
                  <a:lnTo>
                    <a:pt x="58" y="38"/>
                  </a:lnTo>
                  <a:lnTo>
                    <a:pt x="69" y="26"/>
                  </a:lnTo>
                  <a:lnTo>
                    <a:pt x="80" y="17"/>
                  </a:lnTo>
                  <a:lnTo>
                    <a:pt x="92" y="10"/>
                  </a:lnTo>
                  <a:lnTo>
                    <a:pt x="104" y="3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42" y="1"/>
                  </a:lnTo>
                  <a:lnTo>
                    <a:pt x="154" y="5"/>
                  </a:lnTo>
                  <a:lnTo>
                    <a:pt x="166" y="10"/>
                  </a:lnTo>
                  <a:lnTo>
                    <a:pt x="177" y="17"/>
                  </a:lnTo>
                  <a:lnTo>
                    <a:pt x="188" y="27"/>
                  </a:lnTo>
                  <a:lnTo>
                    <a:pt x="199" y="39"/>
                  </a:lnTo>
                  <a:lnTo>
                    <a:pt x="209" y="53"/>
                  </a:lnTo>
                  <a:lnTo>
                    <a:pt x="219" y="71"/>
                  </a:lnTo>
                  <a:lnTo>
                    <a:pt x="228" y="88"/>
                  </a:lnTo>
                  <a:lnTo>
                    <a:pt x="236" y="107"/>
                  </a:lnTo>
                  <a:lnTo>
                    <a:pt x="239" y="117"/>
                  </a:lnTo>
                  <a:lnTo>
                    <a:pt x="242" y="126"/>
                  </a:lnTo>
                  <a:lnTo>
                    <a:pt x="245" y="136"/>
                  </a:lnTo>
                  <a:lnTo>
                    <a:pt x="248" y="147"/>
                  </a:lnTo>
                  <a:lnTo>
                    <a:pt x="249" y="157"/>
                  </a:lnTo>
                  <a:lnTo>
                    <a:pt x="252" y="168"/>
                  </a:lnTo>
                  <a:lnTo>
                    <a:pt x="253" y="178"/>
                  </a:lnTo>
                  <a:lnTo>
                    <a:pt x="254" y="188"/>
                  </a:lnTo>
                  <a:lnTo>
                    <a:pt x="255" y="200"/>
                  </a:lnTo>
                  <a:lnTo>
                    <a:pt x="256" y="211"/>
                  </a:lnTo>
                  <a:lnTo>
                    <a:pt x="257" y="223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3560" y="4778280"/>
              <a:ext cx="370080" cy="611280"/>
            </a:xfrm>
            <a:custGeom>
              <a:avLst/>
              <a:gdLst/>
              <a:ahLst/>
              <a:rect l="l" t="t" r="r" b="b"/>
              <a:pathLst>
                <a:path w="1027" h="1696">
                  <a:moveTo>
                    <a:pt x="715" y="1114"/>
                  </a:moveTo>
                  <a:lnTo>
                    <a:pt x="715" y="1080"/>
                  </a:lnTo>
                  <a:lnTo>
                    <a:pt x="713" y="1048"/>
                  </a:lnTo>
                  <a:lnTo>
                    <a:pt x="711" y="1033"/>
                  </a:lnTo>
                  <a:lnTo>
                    <a:pt x="709" y="1019"/>
                  </a:lnTo>
                  <a:lnTo>
                    <a:pt x="707" y="1003"/>
                  </a:lnTo>
                  <a:lnTo>
                    <a:pt x="704" y="991"/>
                  </a:lnTo>
                  <a:lnTo>
                    <a:pt x="701" y="977"/>
                  </a:lnTo>
                  <a:lnTo>
                    <a:pt x="698" y="964"/>
                  </a:lnTo>
                  <a:lnTo>
                    <a:pt x="693" y="951"/>
                  </a:lnTo>
                  <a:lnTo>
                    <a:pt x="689" y="941"/>
                  </a:lnTo>
                  <a:lnTo>
                    <a:pt x="685" y="929"/>
                  </a:lnTo>
                  <a:lnTo>
                    <a:pt x="680" y="919"/>
                  </a:lnTo>
                  <a:lnTo>
                    <a:pt x="675" y="908"/>
                  </a:lnTo>
                  <a:lnTo>
                    <a:pt x="669" y="898"/>
                  </a:lnTo>
                  <a:lnTo>
                    <a:pt x="663" y="889"/>
                  </a:lnTo>
                  <a:lnTo>
                    <a:pt x="656" y="880"/>
                  </a:lnTo>
                  <a:lnTo>
                    <a:pt x="649" y="872"/>
                  </a:lnTo>
                  <a:lnTo>
                    <a:pt x="643" y="865"/>
                  </a:lnTo>
                  <a:lnTo>
                    <a:pt x="627" y="851"/>
                  </a:lnTo>
                  <a:lnTo>
                    <a:pt x="610" y="841"/>
                  </a:lnTo>
                  <a:lnTo>
                    <a:pt x="593" y="832"/>
                  </a:lnTo>
                  <a:lnTo>
                    <a:pt x="573" y="827"/>
                  </a:lnTo>
                  <a:lnTo>
                    <a:pt x="553" y="823"/>
                  </a:lnTo>
                  <a:lnTo>
                    <a:pt x="531" y="822"/>
                  </a:lnTo>
                  <a:lnTo>
                    <a:pt x="517" y="822"/>
                  </a:lnTo>
                  <a:lnTo>
                    <a:pt x="509" y="822"/>
                  </a:lnTo>
                  <a:lnTo>
                    <a:pt x="500" y="823"/>
                  </a:lnTo>
                  <a:lnTo>
                    <a:pt x="484" y="825"/>
                  </a:lnTo>
                  <a:lnTo>
                    <a:pt x="479" y="825"/>
                  </a:lnTo>
                  <a:lnTo>
                    <a:pt x="477" y="827"/>
                  </a:lnTo>
                  <a:lnTo>
                    <a:pt x="475" y="827"/>
                  </a:lnTo>
                  <a:lnTo>
                    <a:pt x="392" y="1485"/>
                  </a:lnTo>
                  <a:lnTo>
                    <a:pt x="392" y="1490"/>
                  </a:lnTo>
                  <a:lnTo>
                    <a:pt x="393" y="1497"/>
                  </a:lnTo>
                  <a:lnTo>
                    <a:pt x="394" y="1502"/>
                  </a:lnTo>
                  <a:lnTo>
                    <a:pt x="395" y="1508"/>
                  </a:lnTo>
                  <a:lnTo>
                    <a:pt x="396" y="1513"/>
                  </a:lnTo>
                  <a:lnTo>
                    <a:pt x="398" y="1518"/>
                  </a:lnTo>
                  <a:lnTo>
                    <a:pt x="400" y="1523"/>
                  </a:lnTo>
                  <a:lnTo>
                    <a:pt x="401" y="1528"/>
                  </a:lnTo>
                  <a:lnTo>
                    <a:pt x="404" y="1532"/>
                  </a:lnTo>
                  <a:lnTo>
                    <a:pt x="406" y="1537"/>
                  </a:lnTo>
                  <a:lnTo>
                    <a:pt x="409" y="1542"/>
                  </a:lnTo>
                  <a:lnTo>
                    <a:pt x="412" y="1546"/>
                  </a:lnTo>
                  <a:lnTo>
                    <a:pt x="419" y="1554"/>
                  </a:lnTo>
                  <a:lnTo>
                    <a:pt x="428" y="1561"/>
                  </a:lnTo>
                  <a:lnTo>
                    <a:pt x="436" y="1568"/>
                  </a:lnTo>
                  <a:lnTo>
                    <a:pt x="444" y="1575"/>
                  </a:lnTo>
                  <a:lnTo>
                    <a:pt x="454" y="1580"/>
                  </a:lnTo>
                  <a:lnTo>
                    <a:pt x="464" y="1586"/>
                  </a:lnTo>
                  <a:lnTo>
                    <a:pt x="473" y="1587"/>
                  </a:lnTo>
                  <a:lnTo>
                    <a:pt x="484" y="1591"/>
                  </a:lnTo>
                  <a:lnTo>
                    <a:pt x="494" y="1592"/>
                  </a:lnTo>
                  <a:lnTo>
                    <a:pt x="505" y="1592"/>
                  </a:lnTo>
                  <a:lnTo>
                    <a:pt x="516" y="1592"/>
                  </a:lnTo>
                  <a:lnTo>
                    <a:pt x="527" y="1591"/>
                  </a:lnTo>
                  <a:lnTo>
                    <a:pt x="538" y="1587"/>
                  </a:lnTo>
                  <a:lnTo>
                    <a:pt x="549" y="1584"/>
                  </a:lnTo>
                  <a:lnTo>
                    <a:pt x="560" y="1579"/>
                  </a:lnTo>
                  <a:lnTo>
                    <a:pt x="571" y="1572"/>
                  </a:lnTo>
                  <a:lnTo>
                    <a:pt x="581" y="1563"/>
                  </a:lnTo>
                  <a:lnTo>
                    <a:pt x="591" y="1554"/>
                  </a:lnTo>
                  <a:lnTo>
                    <a:pt x="601" y="1544"/>
                  </a:lnTo>
                  <a:lnTo>
                    <a:pt x="610" y="1534"/>
                  </a:lnTo>
                  <a:lnTo>
                    <a:pt x="620" y="1521"/>
                  </a:lnTo>
                  <a:lnTo>
                    <a:pt x="628" y="1508"/>
                  </a:lnTo>
                  <a:lnTo>
                    <a:pt x="637" y="1494"/>
                  </a:lnTo>
                  <a:lnTo>
                    <a:pt x="644" y="1480"/>
                  </a:lnTo>
                  <a:lnTo>
                    <a:pt x="652" y="1464"/>
                  </a:lnTo>
                  <a:lnTo>
                    <a:pt x="659" y="1447"/>
                  </a:lnTo>
                  <a:lnTo>
                    <a:pt x="665" y="1430"/>
                  </a:lnTo>
                  <a:lnTo>
                    <a:pt x="671" y="1414"/>
                  </a:lnTo>
                  <a:lnTo>
                    <a:pt x="677" y="1395"/>
                  </a:lnTo>
                  <a:lnTo>
                    <a:pt x="682" y="1378"/>
                  </a:lnTo>
                  <a:lnTo>
                    <a:pt x="687" y="1357"/>
                  </a:lnTo>
                  <a:lnTo>
                    <a:pt x="693" y="1338"/>
                  </a:lnTo>
                  <a:lnTo>
                    <a:pt x="697" y="1317"/>
                  </a:lnTo>
                  <a:lnTo>
                    <a:pt x="700" y="1296"/>
                  </a:lnTo>
                  <a:lnTo>
                    <a:pt x="704" y="1275"/>
                  </a:lnTo>
                  <a:lnTo>
                    <a:pt x="707" y="1253"/>
                  </a:lnTo>
                  <a:lnTo>
                    <a:pt x="709" y="1232"/>
                  </a:lnTo>
                  <a:lnTo>
                    <a:pt x="712" y="1210"/>
                  </a:lnTo>
                  <a:lnTo>
                    <a:pt x="713" y="1185"/>
                  </a:lnTo>
                  <a:lnTo>
                    <a:pt x="715" y="1163"/>
                  </a:lnTo>
                  <a:lnTo>
                    <a:pt x="715" y="1139"/>
                  </a:lnTo>
                  <a:close/>
                  <a:moveTo>
                    <a:pt x="970" y="1106"/>
                  </a:moveTo>
                  <a:lnTo>
                    <a:pt x="969" y="1140"/>
                  </a:lnTo>
                  <a:lnTo>
                    <a:pt x="968" y="1173"/>
                  </a:lnTo>
                  <a:lnTo>
                    <a:pt x="965" y="1206"/>
                  </a:lnTo>
                  <a:lnTo>
                    <a:pt x="962" y="1237"/>
                  </a:lnTo>
                  <a:lnTo>
                    <a:pt x="957" y="1268"/>
                  </a:lnTo>
                  <a:lnTo>
                    <a:pt x="950" y="1300"/>
                  </a:lnTo>
                  <a:lnTo>
                    <a:pt x="943" y="1329"/>
                  </a:lnTo>
                  <a:lnTo>
                    <a:pt x="935" y="1357"/>
                  </a:lnTo>
                  <a:lnTo>
                    <a:pt x="925" y="1385"/>
                  </a:lnTo>
                  <a:lnTo>
                    <a:pt x="916" y="1411"/>
                  </a:lnTo>
                  <a:lnTo>
                    <a:pt x="905" y="1437"/>
                  </a:lnTo>
                  <a:lnTo>
                    <a:pt x="895" y="1461"/>
                  </a:lnTo>
                  <a:lnTo>
                    <a:pt x="883" y="1482"/>
                  </a:lnTo>
                  <a:lnTo>
                    <a:pt x="870" y="1504"/>
                  </a:lnTo>
                  <a:lnTo>
                    <a:pt x="858" y="1523"/>
                  </a:lnTo>
                  <a:lnTo>
                    <a:pt x="844" y="1542"/>
                  </a:lnTo>
                  <a:lnTo>
                    <a:pt x="830" y="1560"/>
                  </a:lnTo>
                  <a:lnTo>
                    <a:pt x="815" y="1577"/>
                  </a:lnTo>
                  <a:lnTo>
                    <a:pt x="800" y="1592"/>
                  </a:lnTo>
                  <a:lnTo>
                    <a:pt x="785" y="1606"/>
                  </a:lnTo>
                  <a:lnTo>
                    <a:pt x="768" y="1620"/>
                  </a:lnTo>
                  <a:lnTo>
                    <a:pt x="752" y="1632"/>
                  </a:lnTo>
                  <a:lnTo>
                    <a:pt x="735" y="1644"/>
                  </a:lnTo>
                  <a:lnTo>
                    <a:pt x="717" y="1655"/>
                  </a:lnTo>
                  <a:lnTo>
                    <a:pt x="699" y="1663"/>
                  </a:lnTo>
                  <a:lnTo>
                    <a:pt x="682" y="1672"/>
                  </a:lnTo>
                  <a:lnTo>
                    <a:pt x="664" y="1679"/>
                  </a:lnTo>
                  <a:lnTo>
                    <a:pt x="646" y="1684"/>
                  </a:lnTo>
                  <a:lnTo>
                    <a:pt x="627" y="1689"/>
                  </a:lnTo>
                  <a:lnTo>
                    <a:pt x="609" y="1693"/>
                  </a:lnTo>
                  <a:lnTo>
                    <a:pt x="590" y="1695"/>
                  </a:lnTo>
                  <a:lnTo>
                    <a:pt x="571" y="1695"/>
                  </a:lnTo>
                  <a:lnTo>
                    <a:pt x="0" y="1695"/>
                  </a:lnTo>
                  <a:lnTo>
                    <a:pt x="11" y="1608"/>
                  </a:lnTo>
                  <a:lnTo>
                    <a:pt x="23" y="1606"/>
                  </a:lnTo>
                  <a:lnTo>
                    <a:pt x="36" y="1603"/>
                  </a:lnTo>
                  <a:lnTo>
                    <a:pt x="64" y="1596"/>
                  </a:lnTo>
                  <a:lnTo>
                    <a:pt x="91" y="1589"/>
                  </a:lnTo>
                  <a:lnTo>
                    <a:pt x="101" y="1586"/>
                  </a:lnTo>
                  <a:lnTo>
                    <a:pt x="104" y="1584"/>
                  </a:lnTo>
                  <a:lnTo>
                    <a:pt x="108" y="1582"/>
                  </a:lnTo>
                  <a:lnTo>
                    <a:pt x="114" y="1577"/>
                  </a:lnTo>
                  <a:lnTo>
                    <a:pt x="120" y="1572"/>
                  </a:lnTo>
                  <a:lnTo>
                    <a:pt x="125" y="1566"/>
                  </a:lnTo>
                  <a:lnTo>
                    <a:pt x="131" y="1561"/>
                  </a:lnTo>
                  <a:lnTo>
                    <a:pt x="135" y="1554"/>
                  </a:lnTo>
                  <a:lnTo>
                    <a:pt x="140" y="1547"/>
                  </a:lnTo>
                  <a:lnTo>
                    <a:pt x="141" y="1544"/>
                  </a:lnTo>
                  <a:lnTo>
                    <a:pt x="143" y="1540"/>
                  </a:lnTo>
                  <a:lnTo>
                    <a:pt x="145" y="1537"/>
                  </a:lnTo>
                  <a:lnTo>
                    <a:pt x="146" y="1534"/>
                  </a:lnTo>
                  <a:lnTo>
                    <a:pt x="150" y="1525"/>
                  </a:lnTo>
                  <a:lnTo>
                    <a:pt x="152" y="1518"/>
                  </a:lnTo>
                  <a:lnTo>
                    <a:pt x="155" y="1509"/>
                  </a:lnTo>
                  <a:lnTo>
                    <a:pt x="157" y="1499"/>
                  </a:lnTo>
                  <a:lnTo>
                    <a:pt x="159" y="1490"/>
                  </a:lnTo>
                  <a:lnTo>
                    <a:pt x="161" y="1480"/>
                  </a:lnTo>
                  <a:lnTo>
                    <a:pt x="163" y="1469"/>
                  </a:lnTo>
                  <a:lnTo>
                    <a:pt x="164" y="1459"/>
                  </a:lnTo>
                  <a:lnTo>
                    <a:pt x="313" y="278"/>
                  </a:lnTo>
                  <a:lnTo>
                    <a:pt x="314" y="271"/>
                  </a:lnTo>
                  <a:lnTo>
                    <a:pt x="315" y="264"/>
                  </a:lnTo>
                  <a:lnTo>
                    <a:pt x="316" y="255"/>
                  </a:lnTo>
                  <a:lnTo>
                    <a:pt x="317" y="245"/>
                  </a:lnTo>
                  <a:lnTo>
                    <a:pt x="317" y="234"/>
                  </a:lnTo>
                  <a:lnTo>
                    <a:pt x="318" y="226"/>
                  </a:lnTo>
                  <a:lnTo>
                    <a:pt x="319" y="220"/>
                  </a:lnTo>
                  <a:lnTo>
                    <a:pt x="319" y="217"/>
                  </a:lnTo>
                  <a:lnTo>
                    <a:pt x="319" y="212"/>
                  </a:lnTo>
                  <a:lnTo>
                    <a:pt x="319" y="208"/>
                  </a:lnTo>
                  <a:lnTo>
                    <a:pt x="319" y="201"/>
                  </a:lnTo>
                  <a:lnTo>
                    <a:pt x="318" y="196"/>
                  </a:lnTo>
                  <a:lnTo>
                    <a:pt x="318" y="189"/>
                  </a:lnTo>
                  <a:lnTo>
                    <a:pt x="317" y="184"/>
                  </a:lnTo>
                  <a:lnTo>
                    <a:pt x="317" y="179"/>
                  </a:lnTo>
                  <a:lnTo>
                    <a:pt x="315" y="172"/>
                  </a:lnTo>
                  <a:lnTo>
                    <a:pt x="314" y="167"/>
                  </a:lnTo>
                  <a:lnTo>
                    <a:pt x="312" y="161"/>
                  </a:lnTo>
                  <a:lnTo>
                    <a:pt x="310" y="158"/>
                  </a:lnTo>
                  <a:lnTo>
                    <a:pt x="308" y="153"/>
                  </a:lnTo>
                  <a:lnTo>
                    <a:pt x="306" y="148"/>
                  </a:lnTo>
                  <a:lnTo>
                    <a:pt x="303" y="144"/>
                  </a:lnTo>
                  <a:lnTo>
                    <a:pt x="301" y="141"/>
                  </a:lnTo>
                  <a:lnTo>
                    <a:pt x="297" y="137"/>
                  </a:lnTo>
                  <a:lnTo>
                    <a:pt x="294" y="134"/>
                  </a:lnTo>
                  <a:lnTo>
                    <a:pt x="290" y="130"/>
                  </a:lnTo>
                  <a:lnTo>
                    <a:pt x="283" y="123"/>
                  </a:lnTo>
                  <a:lnTo>
                    <a:pt x="274" y="118"/>
                  </a:lnTo>
                  <a:lnTo>
                    <a:pt x="265" y="113"/>
                  </a:lnTo>
                  <a:lnTo>
                    <a:pt x="254" y="106"/>
                  </a:lnTo>
                  <a:lnTo>
                    <a:pt x="230" y="96"/>
                  </a:lnTo>
                  <a:lnTo>
                    <a:pt x="202" y="87"/>
                  </a:lnTo>
                  <a:lnTo>
                    <a:pt x="213" y="0"/>
                  </a:lnTo>
                  <a:lnTo>
                    <a:pt x="1026" y="0"/>
                  </a:lnTo>
                  <a:lnTo>
                    <a:pt x="965" y="485"/>
                  </a:lnTo>
                  <a:lnTo>
                    <a:pt x="916" y="485"/>
                  </a:lnTo>
                  <a:lnTo>
                    <a:pt x="913" y="459"/>
                  </a:lnTo>
                  <a:lnTo>
                    <a:pt x="911" y="433"/>
                  </a:lnTo>
                  <a:lnTo>
                    <a:pt x="907" y="406"/>
                  </a:lnTo>
                  <a:lnTo>
                    <a:pt x="902" y="378"/>
                  </a:lnTo>
                  <a:lnTo>
                    <a:pt x="897" y="350"/>
                  </a:lnTo>
                  <a:lnTo>
                    <a:pt x="891" y="321"/>
                  </a:lnTo>
                  <a:lnTo>
                    <a:pt x="878" y="260"/>
                  </a:lnTo>
                  <a:lnTo>
                    <a:pt x="870" y="231"/>
                  </a:lnTo>
                  <a:lnTo>
                    <a:pt x="863" y="203"/>
                  </a:lnTo>
                  <a:lnTo>
                    <a:pt x="854" y="181"/>
                  </a:lnTo>
                  <a:lnTo>
                    <a:pt x="850" y="170"/>
                  </a:lnTo>
                  <a:lnTo>
                    <a:pt x="846" y="161"/>
                  </a:lnTo>
                  <a:lnTo>
                    <a:pt x="842" y="153"/>
                  </a:lnTo>
                  <a:lnTo>
                    <a:pt x="837" y="146"/>
                  </a:lnTo>
                  <a:lnTo>
                    <a:pt x="833" y="139"/>
                  </a:lnTo>
                  <a:lnTo>
                    <a:pt x="829" y="132"/>
                  </a:lnTo>
                  <a:lnTo>
                    <a:pt x="825" y="129"/>
                  </a:lnTo>
                  <a:lnTo>
                    <a:pt x="820" y="123"/>
                  </a:lnTo>
                  <a:lnTo>
                    <a:pt x="815" y="120"/>
                  </a:lnTo>
                  <a:lnTo>
                    <a:pt x="811" y="118"/>
                  </a:lnTo>
                  <a:lnTo>
                    <a:pt x="801" y="115"/>
                  </a:lnTo>
                  <a:lnTo>
                    <a:pt x="790" y="111"/>
                  </a:lnTo>
                  <a:lnTo>
                    <a:pt x="778" y="108"/>
                  </a:lnTo>
                  <a:lnTo>
                    <a:pt x="764" y="106"/>
                  </a:lnTo>
                  <a:lnTo>
                    <a:pt x="709" y="103"/>
                  </a:lnTo>
                  <a:lnTo>
                    <a:pt x="566" y="103"/>
                  </a:lnTo>
                  <a:lnTo>
                    <a:pt x="489" y="716"/>
                  </a:lnTo>
                  <a:lnTo>
                    <a:pt x="546" y="711"/>
                  </a:lnTo>
                  <a:lnTo>
                    <a:pt x="617" y="707"/>
                  </a:lnTo>
                  <a:lnTo>
                    <a:pt x="656" y="709"/>
                  </a:lnTo>
                  <a:lnTo>
                    <a:pt x="693" y="712"/>
                  </a:lnTo>
                  <a:lnTo>
                    <a:pt x="727" y="719"/>
                  </a:lnTo>
                  <a:lnTo>
                    <a:pt x="759" y="728"/>
                  </a:lnTo>
                  <a:lnTo>
                    <a:pt x="788" y="740"/>
                  </a:lnTo>
                  <a:lnTo>
                    <a:pt x="803" y="747"/>
                  </a:lnTo>
                  <a:lnTo>
                    <a:pt x="816" y="756"/>
                  </a:lnTo>
                  <a:lnTo>
                    <a:pt x="830" y="764"/>
                  </a:lnTo>
                  <a:lnTo>
                    <a:pt x="843" y="775"/>
                  </a:lnTo>
                  <a:lnTo>
                    <a:pt x="856" y="785"/>
                  </a:lnTo>
                  <a:lnTo>
                    <a:pt x="869" y="797"/>
                  </a:lnTo>
                  <a:lnTo>
                    <a:pt x="880" y="809"/>
                  </a:lnTo>
                  <a:lnTo>
                    <a:pt x="891" y="823"/>
                  </a:lnTo>
                  <a:lnTo>
                    <a:pt x="902" y="837"/>
                  </a:lnTo>
                  <a:lnTo>
                    <a:pt x="912" y="853"/>
                  </a:lnTo>
                  <a:lnTo>
                    <a:pt x="921" y="868"/>
                  </a:lnTo>
                  <a:lnTo>
                    <a:pt x="930" y="884"/>
                  </a:lnTo>
                  <a:lnTo>
                    <a:pt x="937" y="901"/>
                  </a:lnTo>
                  <a:lnTo>
                    <a:pt x="944" y="920"/>
                  </a:lnTo>
                  <a:lnTo>
                    <a:pt x="950" y="939"/>
                  </a:lnTo>
                  <a:lnTo>
                    <a:pt x="956" y="958"/>
                  </a:lnTo>
                  <a:lnTo>
                    <a:pt x="960" y="981"/>
                  </a:lnTo>
                  <a:lnTo>
                    <a:pt x="963" y="1003"/>
                  </a:lnTo>
                  <a:lnTo>
                    <a:pt x="967" y="1028"/>
                  </a:lnTo>
                  <a:lnTo>
                    <a:pt x="969" y="1052"/>
                  </a:lnTo>
                  <a:lnTo>
                    <a:pt x="970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86640" y="4951440"/>
              <a:ext cx="274680" cy="450720"/>
            </a:xfrm>
            <a:custGeom>
              <a:avLst/>
              <a:gdLst/>
              <a:ahLst/>
              <a:rect l="l" t="t" r="r" b="b"/>
              <a:pathLst>
                <a:path w="761" h="1252">
                  <a:moveTo>
                    <a:pt x="760" y="499"/>
                  </a:moveTo>
                  <a:lnTo>
                    <a:pt x="759" y="537"/>
                  </a:lnTo>
                  <a:lnTo>
                    <a:pt x="758" y="574"/>
                  </a:lnTo>
                  <a:lnTo>
                    <a:pt x="756" y="610"/>
                  </a:lnTo>
                  <a:lnTo>
                    <a:pt x="752" y="646"/>
                  </a:lnTo>
                  <a:lnTo>
                    <a:pt x="748" y="681"/>
                  </a:lnTo>
                  <a:lnTo>
                    <a:pt x="742" y="717"/>
                  </a:lnTo>
                  <a:lnTo>
                    <a:pt x="736" y="752"/>
                  </a:lnTo>
                  <a:lnTo>
                    <a:pt x="729" y="787"/>
                  </a:lnTo>
                  <a:lnTo>
                    <a:pt x="720" y="820"/>
                  </a:lnTo>
                  <a:lnTo>
                    <a:pt x="712" y="853"/>
                  </a:lnTo>
                  <a:lnTo>
                    <a:pt x="701" y="884"/>
                  </a:lnTo>
                  <a:lnTo>
                    <a:pt x="691" y="913"/>
                  </a:lnTo>
                  <a:lnTo>
                    <a:pt x="679" y="943"/>
                  </a:lnTo>
                  <a:lnTo>
                    <a:pt x="668" y="970"/>
                  </a:lnTo>
                  <a:lnTo>
                    <a:pt x="654" y="998"/>
                  </a:lnTo>
                  <a:lnTo>
                    <a:pt x="640" y="1024"/>
                  </a:lnTo>
                  <a:lnTo>
                    <a:pt x="624" y="1050"/>
                  </a:lnTo>
                  <a:lnTo>
                    <a:pt x="608" y="1076"/>
                  </a:lnTo>
                  <a:lnTo>
                    <a:pt x="591" y="1099"/>
                  </a:lnTo>
                  <a:lnTo>
                    <a:pt x="574" y="1121"/>
                  </a:lnTo>
                  <a:lnTo>
                    <a:pt x="555" y="1140"/>
                  </a:lnTo>
                  <a:lnTo>
                    <a:pt x="535" y="1159"/>
                  </a:lnTo>
                  <a:lnTo>
                    <a:pt x="516" y="1177"/>
                  </a:lnTo>
                  <a:lnTo>
                    <a:pt x="496" y="1192"/>
                  </a:lnTo>
                  <a:lnTo>
                    <a:pt x="475" y="1206"/>
                  </a:lnTo>
                  <a:lnTo>
                    <a:pt x="453" y="1218"/>
                  </a:lnTo>
                  <a:lnTo>
                    <a:pt x="431" y="1229"/>
                  </a:lnTo>
                  <a:lnTo>
                    <a:pt x="408" y="1237"/>
                  </a:lnTo>
                  <a:lnTo>
                    <a:pt x="384" y="1242"/>
                  </a:lnTo>
                  <a:lnTo>
                    <a:pt x="359" y="1248"/>
                  </a:lnTo>
                  <a:lnTo>
                    <a:pt x="335" y="1249"/>
                  </a:lnTo>
                  <a:lnTo>
                    <a:pt x="309" y="1251"/>
                  </a:lnTo>
                  <a:lnTo>
                    <a:pt x="276" y="1249"/>
                  </a:lnTo>
                  <a:lnTo>
                    <a:pt x="243" y="1242"/>
                  </a:lnTo>
                  <a:lnTo>
                    <a:pt x="213" y="1232"/>
                  </a:lnTo>
                  <a:lnTo>
                    <a:pt x="184" y="1218"/>
                  </a:lnTo>
                  <a:lnTo>
                    <a:pt x="157" y="1199"/>
                  </a:lnTo>
                  <a:lnTo>
                    <a:pt x="132" y="1175"/>
                  </a:lnTo>
                  <a:lnTo>
                    <a:pt x="108" y="1147"/>
                  </a:lnTo>
                  <a:lnTo>
                    <a:pt x="86" y="1116"/>
                  </a:lnTo>
                  <a:lnTo>
                    <a:pt x="76" y="1099"/>
                  </a:lnTo>
                  <a:lnTo>
                    <a:pt x="66" y="1081"/>
                  </a:lnTo>
                  <a:lnTo>
                    <a:pt x="57" y="1062"/>
                  </a:lnTo>
                  <a:lnTo>
                    <a:pt x="49" y="1041"/>
                  </a:lnTo>
                  <a:lnTo>
                    <a:pt x="41" y="1022"/>
                  </a:lnTo>
                  <a:lnTo>
                    <a:pt x="34" y="1000"/>
                  </a:lnTo>
                  <a:lnTo>
                    <a:pt x="28" y="979"/>
                  </a:lnTo>
                  <a:lnTo>
                    <a:pt x="22" y="957"/>
                  </a:lnTo>
                  <a:lnTo>
                    <a:pt x="17" y="932"/>
                  </a:lnTo>
                  <a:lnTo>
                    <a:pt x="12" y="908"/>
                  </a:lnTo>
                  <a:lnTo>
                    <a:pt x="9" y="884"/>
                  </a:lnTo>
                  <a:lnTo>
                    <a:pt x="6" y="858"/>
                  </a:lnTo>
                  <a:lnTo>
                    <a:pt x="4" y="832"/>
                  </a:lnTo>
                  <a:lnTo>
                    <a:pt x="2" y="804"/>
                  </a:lnTo>
                  <a:lnTo>
                    <a:pt x="0" y="747"/>
                  </a:lnTo>
                  <a:lnTo>
                    <a:pt x="1" y="707"/>
                  </a:lnTo>
                  <a:lnTo>
                    <a:pt x="2" y="669"/>
                  </a:lnTo>
                  <a:lnTo>
                    <a:pt x="5" y="631"/>
                  </a:lnTo>
                  <a:lnTo>
                    <a:pt x="9" y="594"/>
                  </a:lnTo>
                  <a:lnTo>
                    <a:pt x="13" y="558"/>
                  </a:lnTo>
                  <a:lnTo>
                    <a:pt x="19" y="522"/>
                  </a:lnTo>
                  <a:lnTo>
                    <a:pt x="25" y="487"/>
                  </a:lnTo>
                  <a:lnTo>
                    <a:pt x="33" y="452"/>
                  </a:lnTo>
                  <a:lnTo>
                    <a:pt x="41" y="419"/>
                  </a:lnTo>
                  <a:lnTo>
                    <a:pt x="50" y="387"/>
                  </a:lnTo>
                  <a:lnTo>
                    <a:pt x="61" y="355"/>
                  </a:lnTo>
                  <a:lnTo>
                    <a:pt x="72" y="326"/>
                  </a:lnTo>
                  <a:lnTo>
                    <a:pt x="83" y="296"/>
                  </a:lnTo>
                  <a:lnTo>
                    <a:pt x="95" y="269"/>
                  </a:lnTo>
                  <a:lnTo>
                    <a:pt x="109" y="241"/>
                  </a:lnTo>
                  <a:lnTo>
                    <a:pt x="122" y="215"/>
                  </a:lnTo>
                  <a:lnTo>
                    <a:pt x="137" y="191"/>
                  </a:lnTo>
                  <a:lnTo>
                    <a:pt x="153" y="168"/>
                  </a:lnTo>
                  <a:lnTo>
                    <a:pt x="169" y="147"/>
                  </a:lnTo>
                  <a:lnTo>
                    <a:pt x="187" y="127"/>
                  </a:lnTo>
                  <a:lnTo>
                    <a:pt x="204" y="108"/>
                  </a:lnTo>
                  <a:lnTo>
                    <a:pt x="223" y="90"/>
                  </a:lnTo>
                  <a:lnTo>
                    <a:pt x="243" y="73"/>
                  </a:lnTo>
                  <a:lnTo>
                    <a:pt x="263" y="57"/>
                  </a:lnTo>
                  <a:lnTo>
                    <a:pt x="284" y="44"/>
                  </a:lnTo>
                  <a:lnTo>
                    <a:pt x="305" y="33"/>
                  </a:lnTo>
                  <a:lnTo>
                    <a:pt x="327" y="23"/>
                  </a:lnTo>
                  <a:lnTo>
                    <a:pt x="350" y="14"/>
                  </a:lnTo>
                  <a:lnTo>
                    <a:pt x="373" y="9"/>
                  </a:lnTo>
                  <a:lnTo>
                    <a:pt x="396" y="4"/>
                  </a:lnTo>
                  <a:lnTo>
                    <a:pt x="420" y="2"/>
                  </a:lnTo>
                  <a:lnTo>
                    <a:pt x="443" y="0"/>
                  </a:lnTo>
                  <a:lnTo>
                    <a:pt x="479" y="2"/>
                  </a:lnTo>
                  <a:lnTo>
                    <a:pt x="513" y="9"/>
                  </a:lnTo>
                  <a:lnTo>
                    <a:pt x="545" y="19"/>
                  </a:lnTo>
                  <a:lnTo>
                    <a:pt x="574" y="33"/>
                  </a:lnTo>
                  <a:lnTo>
                    <a:pt x="602" y="52"/>
                  </a:lnTo>
                  <a:lnTo>
                    <a:pt x="629" y="75"/>
                  </a:lnTo>
                  <a:lnTo>
                    <a:pt x="653" y="101"/>
                  </a:lnTo>
                  <a:lnTo>
                    <a:pt x="664" y="116"/>
                  </a:lnTo>
                  <a:lnTo>
                    <a:pt x="675" y="132"/>
                  </a:lnTo>
                  <a:lnTo>
                    <a:pt x="685" y="149"/>
                  </a:lnTo>
                  <a:lnTo>
                    <a:pt x="695" y="167"/>
                  </a:lnTo>
                  <a:lnTo>
                    <a:pt x="704" y="186"/>
                  </a:lnTo>
                  <a:lnTo>
                    <a:pt x="712" y="205"/>
                  </a:lnTo>
                  <a:lnTo>
                    <a:pt x="720" y="224"/>
                  </a:lnTo>
                  <a:lnTo>
                    <a:pt x="727" y="244"/>
                  </a:lnTo>
                  <a:lnTo>
                    <a:pt x="733" y="267"/>
                  </a:lnTo>
                  <a:lnTo>
                    <a:pt x="739" y="290"/>
                  </a:lnTo>
                  <a:lnTo>
                    <a:pt x="744" y="312"/>
                  </a:lnTo>
                  <a:lnTo>
                    <a:pt x="748" y="336"/>
                  </a:lnTo>
                  <a:lnTo>
                    <a:pt x="751" y="362"/>
                  </a:lnTo>
                  <a:lnTo>
                    <a:pt x="755" y="388"/>
                  </a:lnTo>
                  <a:lnTo>
                    <a:pt x="757" y="414"/>
                  </a:lnTo>
                  <a:lnTo>
                    <a:pt x="758" y="442"/>
                  </a:lnTo>
                  <a:close/>
                  <a:moveTo>
                    <a:pt x="531" y="364"/>
                  </a:moveTo>
                  <a:lnTo>
                    <a:pt x="531" y="329"/>
                  </a:lnTo>
                  <a:lnTo>
                    <a:pt x="530" y="298"/>
                  </a:lnTo>
                  <a:lnTo>
                    <a:pt x="528" y="270"/>
                  </a:lnTo>
                  <a:lnTo>
                    <a:pt x="525" y="243"/>
                  </a:lnTo>
                  <a:lnTo>
                    <a:pt x="521" y="218"/>
                  </a:lnTo>
                  <a:lnTo>
                    <a:pt x="517" y="196"/>
                  </a:lnTo>
                  <a:lnTo>
                    <a:pt x="514" y="187"/>
                  </a:lnTo>
                  <a:lnTo>
                    <a:pt x="512" y="177"/>
                  </a:lnTo>
                  <a:lnTo>
                    <a:pt x="509" y="168"/>
                  </a:lnTo>
                  <a:lnTo>
                    <a:pt x="506" y="160"/>
                  </a:lnTo>
                  <a:lnTo>
                    <a:pt x="502" y="151"/>
                  </a:lnTo>
                  <a:lnTo>
                    <a:pt x="499" y="144"/>
                  </a:lnTo>
                  <a:lnTo>
                    <a:pt x="495" y="137"/>
                  </a:lnTo>
                  <a:lnTo>
                    <a:pt x="491" y="132"/>
                  </a:lnTo>
                  <a:lnTo>
                    <a:pt x="487" y="125"/>
                  </a:lnTo>
                  <a:lnTo>
                    <a:pt x="483" y="120"/>
                  </a:lnTo>
                  <a:lnTo>
                    <a:pt x="479" y="115"/>
                  </a:lnTo>
                  <a:lnTo>
                    <a:pt x="474" y="111"/>
                  </a:lnTo>
                  <a:lnTo>
                    <a:pt x="469" y="106"/>
                  </a:lnTo>
                  <a:lnTo>
                    <a:pt x="464" y="102"/>
                  </a:lnTo>
                  <a:lnTo>
                    <a:pt x="459" y="101"/>
                  </a:lnTo>
                  <a:lnTo>
                    <a:pt x="454" y="97"/>
                  </a:lnTo>
                  <a:lnTo>
                    <a:pt x="443" y="95"/>
                  </a:lnTo>
                  <a:lnTo>
                    <a:pt x="431" y="94"/>
                  </a:lnTo>
                  <a:lnTo>
                    <a:pt x="419" y="95"/>
                  </a:lnTo>
                  <a:lnTo>
                    <a:pt x="407" y="99"/>
                  </a:lnTo>
                  <a:lnTo>
                    <a:pt x="395" y="104"/>
                  </a:lnTo>
                  <a:lnTo>
                    <a:pt x="383" y="113"/>
                  </a:lnTo>
                  <a:lnTo>
                    <a:pt x="371" y="121"/>
                  </a:lnTo>
                  <a:lnTo>
                    <a:pt x="360" y="135"/>
                  </a:lnTo>
                  <a:lnTo>
                    <a:pt x="350" y="149"/>
                  </a:lnTo>
                  <a:lnTo>
                    <a:pt x="339" y="167"/>
                  </a:lnTo>
                  <a:lnTo>
                    <a:pt x="329" y="186"/>
                  </a:lnTo>
                  <a:lnTo>
                    <a:pt x="320" y="208"/>
                  </a:lnTo>
                  <a:lnTo>
                    <a:pt x="310" y="231"/>
                  </a:lnTo>
                  <a:lnTo>
                    <a:pt x="302" y="257"/>
                  </a:lnTo>
                  <a:lnTo>
                    <a:pt x="293" y="284"/>
                  </a:lnTo>
                  <a:lnTo>
                    <a:pt x="286" y="316"/>
                  </a:lnTo>
                  <a:lnTo>
                    <a:pt x="278" y="347"/>
                  </a:lnTo>
                  <a:lnTo>
                    <a:pt x="271" y="381"/>
                  </a:lnTo>
                  <a:lnTo>
                    <a:pt x="260" y="442"/>
                  </a:lnTo>
                  <a:lnTo>
                    <a:pt x="252" y="504"/>
                  </a:lnTo>
                  <a:lnTo>
                    <a:pt x="244" y="570"/>
                  </a:lnTo>
                  <a:lnTo>
                    <a:pt x="239" y="638"/>
                  </a:lnTo>
                  <a:lnTo>
                    <a:pt x="235" y="705"/>
                  </a:lnTo>
                  <a:lnTo>
                    <a:pt x="232" y="768"/>
                  </a:lnTo>
                  <a:lnTo>
                    <a:pt x="230" y="828"/>
                  </a:lnTo>
                  <a:lnTo>
                    <a:pt x="229" y="884"/>
                  </a:lnTo>
                  <a:lnTo>
                    <a:pt x="229" y="918"/>
                  </a:lnTo>
                  <a:lnTo>
                    <a:pt x="231" y="951"/>
                  </a:lnTo>
                  <a:lnTo>
                    <a:pt x="232" y="981"/>
                  </a:lnTo>
                  <a:lnTo>
                    <a:pt x="236" y="1008"/>
                  </a:lnTo>
                  <a:lnTo>
                    <a:pt x="239" y="1033"/>
                  </a:lnTo>
                  <a:lnTo>
                    <a:pt x="242" y="1045"/>
                  </a:lnTo>
                  <a:lnTo>
                    <a:pt x="243" y="1055"/>
                  </a:lnTo>
                  <a:lnTo>
                    <a:pt x="246" y="1066"/>
                  </a:lnTo>
                  <a:lnTo>
                    <a:pt x="249" y="1076"/>
                  </a:lnTo>
                  <a:lnTo>
                    <a:pt x="252" y="1085"/>
                  </a:lnTo>
                  <a:lnTo>
                    <a:pt x="255" y="1093"/>
                  </a:lnTo>
                  <a:lnTo>
                    <a:pt x="259" y="1102"/>
                  </a:lnTo>
                  <a:lnTo>
                    <a:pt x="262" y="1109"/>
                  </a:lnTo>
                  <a:lnTo>
                    <a:pt x="265" y="1116"/>
                  </a:lnTo>
                  <a:lnTo>
                    <a:pt x="270" y="1121"/>
                  </a:lnTo>
                  <a:lnTo>
                    <a:pt x="274" y="1128"/>
                  </a:lnTo>
                  <a:lnTo>
                    <a:pt x="278" y="1133"/>
                  </a:lnTo>
                  <a:lnTo>
                    <a:pt x="282" y="1137"/>
                  </a:lnTo>
                  <a:lnTo>
                    <a:pt x="287" y="1142"/>
                  </a:lnTo>
                  <a:lnTo>
                    <a:pt x="292" y="1145"/>
                  </a:lnTo>
                  <a:lnTo>
                    <a:pt x="297" y="1149"/>
                  </a:lnTo>
                  <a:lnTo>
                    <a:pt x="302" y="1151"/>
                  </a:lnTo>
                  <a:lnTo>
                    <a:pt x="307" y="1154"/>
                  </a:lnTo>
                  <a:lnTo>
                    <a:pt x="319" y="1156"/>
                  </a:lnTo>
                  <a:lnTo>
                    <a:pt x="331" y="1157"/>
                  </a:lnTo>
                  <a:lnTo>
                    <a:pt x="343" y="1156"/>
                  </a:lnTo>
                  <a:lnTo>
                    <a:pt x="356" y="1152"/>
                  </a:lnTo>
                  <a:lnTo>
                    <a:pt x="363" y="1151"/>
                  </a:lnTo>
                  <a:lnTo>
                    <a:pt x="369" y="1147"/>
                  </a:lnTo>
                  <a:lnTo>
                    <a:pt x="375" y="1142"/>
                  </a:lnTo>
                  <a:lnTo>
                    <a:pt x="381" y="1138"/>
                  </a:lnTo>
                  <a:lnTo>
                    <a:pt x="386" y="1133"/>
                  </a:lnTo>
                  <a:lnTo>
                    <a:pt x="392" y="1126"/>
                  </a:lnTo>
                  <a:lnTo>
                    <a:pt x="403" y="1112"/>
                  </a:lnTo>
                  <a:lnTo>
                    <a:pt x="413" y="1097"/>
                  </a:lnTo>
                  <a:lnTo>
                    <a:pt x="423" y="1078"/>
                  </a:lnTo>
                  <a:lnTo>
                    <a:pt x="432" y="1057"/>
                  </a:lnTo>
                  <a:lnTo>
                    <a:pt x="442" y="1034"/>
                  </a:lnTo>
                  <a:lnTo>
                    <a:pt x="450" y="1012"/>
                  </a:lnTo>
                  <a:lnTo>
                    <a:pt x="458" y="988"/>
                  </a:lnTo>
                  <a:lnTo>
                    <a:pt x="465" y="963"/>
                  </a:lnTo>
                  <a:lnTo>
                    <a:pt x="472" y="936"/>
                  </a:lnTo>
                  <a:lnTo>
                    <a:pt x="479" y="910"/>
                  </a:lnTo>
                  <a:lnTo>
                    <a:pt x="485" y="880"/>
                  </a:lnTo>
                  <a:lnTo>
                    <a:pt x="496" y="821"/>
                  </a:lnTo>
                  <a:lnTo>
                    <a:pt x="505" y="761"/>
                  </a:lnTo>
                  <a:lnTo>
                    <a:pt x="513" y="695"/>
                  </a:lnTo>
                  <a:lnTo>
                    <a:pt x="519" y="627"/>
                  </a:lnTo>
                  <a:lnTo>
                    <a:pt x="524" y="560"/>
                  </a:lnTo>
                  <a:lnTo>
                    <a:pt x="528" y="492"/>
                  </a:lnTo>
                  <a:lnTo>
                    <a:pt x="530" y="42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61320" y="4727520"/>
              <a:ext cx="295200" cy="674640"/>
            </a:xfrm>
            <a:custGeom>
              <a:avLst/>
              <a:gdLst/>
              <a:ahLst/>
              <a:rect l="l" t="t" r="r" b="b"/>
              <a:pathLst>
                <a:path w="822" h="1875">
                  <a:moveTo>
                    <a:pt x="518" y="1044"/>
                  </a:moveTo>
                  <a:lnTo>
                    <a:pt x="518" y="1001"/>
                  </a:lnTo>
                  <a:lnTo>
                    <a:pt x="516" y="963"/>
                  </a:lnTo>
                  <a:lnTo>
                    <a:pt x="515" y="926"/>
                  </a:lnTo>
                  <a:lnTo>
                    <a:pt x="512" y="895"/>
                  </a:lnTo>
                  <a:lnTo>
                    <a:pt x="508" y="866"/>
                  </a:lnTo>
                  <a:lnTo>
                    <a:pt x="506" y="854"/>
                  </a:lnTo>
                  <a:lnTo>
                    <a:pt x="504" y="841"/>
                  </a:lnTo>
                  <a:lnTo>
                    <a:pt x="501" y="829"/>
                  </a:lnTo>
                  <a:lnTo>
                    <a:pt x="499" y="819"/>
                  </a:lnTo>
                  <a:lnTo>
                    <a:pt x="496" y="810"/>
                  </a:lnTo>
                  <a:lnTo>
                    <a:pt x="493" y="802"/>
                  </a:lnTo>
                  <a:lnTo>
                    <a:pt x="489" y="793"/>
                  </a:lnTo>
                  <a:lnTo>
                    <a:pt x="486" y="786"/>
                  </a:lnTo>
                  <a:lnTo>
                    <a:pt x="482" y="779"/>
                  </a:lnTo>
                  <a:lnTo>
                    <a:pt x="478" y="774"/>
                  </a:lnTo>
                  <a:lnTo>
                    <a:pt x="474" y="767"/>
                  </a:lnTo>
                  <a:lnTo>
                    <a:pt x="470" y="762"/>
                  </a:lnTo>
                  <a:lnTo>
                    <a:pt x="466" y="758"/>
                  </a:lnTo>
                  <a:lnTo>
                    <a:pt x="461" y="753"/>
                  </a:lnTo>
                  <a:lnTo>
                    <a:pt x="456" y="750"/>
                  </a:lnTo>
                  <a:lnTo>
                    <a:pt x="451" y="746"/>
                  </a:lnTo>
                  <a:lnTo>
                    <a:pt x="446" y="744"/>
                  </a:lnTo>
                  <a:lnTo>
                    <a:pt x="441" y="741"/>
                  </a:lnTo>
                  <a:lnTo>
                    <a:pt x="430" y="739"/>
                  </a:lnTo>
                  <a:lnTo>
                    <a:pt x="418" y="738"/>
                  </a:lnTo>
                  <a:lnTo>
                    <a:pt x="407" y="739"/>
                  </a:lnTo>
                  <a:lnTo>
                    <a:pt x="396" y="741"/>
                  </a:lnTo>
                  <a:lnTo>
                    <a:pt x="385" y="746"/>
                  </a:lnTo>
                  <a:lnTo>
                    <a:pt x="374" y="753"/>
                  </a:lnTo>
                  <a:lnTo>
                    <a:pt x="364" y="762"/>
                  </a:lnTo>
                  <a:lnTo>
                    <a:pt x="353" y="772"/>
                  </a:lnTo>
                  <a:lnTo>
                    <a:pt x="343" y="784"/>
                  </a:lnTo>
                  <a:lnTo>
                    <a:pt x="333" y="798"/>
                  </a:lnTo>
                  <a:lnTo>
                    <a:pt x="323" y="814"/>
                  </a:lnTo>
                  <a:lnTo>
                    <a:pt x="314" y="833"/>
                  </a:lnTo>
                  <a:lnTo>
                    <a:pt x="305" y="852"/>
                  </a:lnTo>
                  <a:lnTo>
                    <a:pt x="296" y="874"/>
                  </a:lnTo>
                  <a:lnTo>
                    <a:pt x="288" y="899"/>
                  </a:lnTo>
                  <a:lnTo>
                    <a:pt x="279" y="925"/>
                  </a:lnTo>
                  <a:lnTo>
                    <a:pt x="272" y="952"/>
                  </a:lnTo>
                  <a:lnTo>
                    <a:pt x="264" y="982"/>
                  </a:lnTo>
                  <a:lnTo>
                    <a:pt x="259" y="1004"/>
                  </a:lnTo>
                  <a:lnTo>
                    <a:pt x="254" y="1030"/>
                  </a:lnTo>
                  <a:lnTo>
                    <a:pt x="249" y="1056"/>
                  </a:lnTo>
                  <a:lnTo>
                    <a:pt x="245" y="1082"/>
                  </a:lnTo>
                  <a:lnTo>
                    <a:pt x="236" y="1139"/>
                  </a:lnTo>
                  <a:lnTo>
                    <a:pt x="229" y="1202"/>
                  </a:lnTo>
                  <a:lnTo>
                    <a:pt x="224" y="1266"/>
                  </a:lnTo>
                  <a:lnTo>
                    <a:pt x="219" y="1332"/>
                  </a:lnTo>
                  <a:lnTo>
                    <a:pt x="217" y="1398"/>
                  </a:lnTo>
                  <a:lnTo>
                    <a:pt x="216" y="1463"/>
                  </a:lnTo>
                  <a:lnTo>
                    <a:pt x="216" y="1498"/>
                  </a:lnTo>
                  <a:lnTo>
                    <a:pt x="218" y="1533"/>
                  </a:lnTo>
                  <a:lnTo>
                    <a:pt x="219" y="1564"/>
                  </a:lnTo>
                  <a:lnTo>
                    <a:pt x="222" y="1595"/>
                  </a:lnTo>
                  <a:lnTo>
                    <a:pt x="225" y="1623"/>
                  </a:lnTo>
                  <a:lnTo>
                    <a:pt x="229" y="1649"/>
                  </a:lnTo>
                  <a:lnTo>
                    <a:pt x="235" y="1673"/>
                  </a:lnTo>
                  <a:lnTo>
                    <a:pt x="241" y="1696"/>
                  </a:lnTo>
                  <a:lnTo>
                    <a:pt x="244" y="1706"/>
                  </a:lnTo>
                  <a:lnTo>
                    <a:pt x="247" y="1716"/>
                  </a:lnTo>
                  <a:lnTo>
                    <a:pt x="251" y="1725"/>
                  </a:lnTo>
                  <a:lnTo>
                    <a:pt x="255" y="1734"/>
                  </a:lnTo>
                  <a:lnTo>
                    <a:pt x="259" y="1741"/>
                  </a:lnTo>
                  <a:lnTo>
                    <a:pt x="263" y="1748"/>
                  </a:lnTo>
                  <a:lnTo>
                    <a:pt x="268" y="1754"/>
                  </a:lnTo>
                  <a:lnTo>
                    <a:pt x="273" y="1760"/>
                  </a:lnTo>
                  <a:lnTo>
                    <a:pt x="279" y="1765"/>
                  </a:lnTo>
                  <a:lnTo>
                    <a:pt x="284" y="1768"/>
                  </a:lnTo>
                  <a:lnTo>
                    <a:pt x="290" y="1772"/>
                  </a:lnTo>
                  <a:lnTo>
                    <a:pt x="296" y="1775"/>
                  </a:lnTo>
                  <a:lnTo>
                    <a:pt x="302" y="1777"/>
                  </a:lnTo>
                  <a:lnTo>
                    <a:pt x="308" y="1779"/>
                  </a:lnTo>
                  <a:lnTo>
                    <a:pt x="323" y="1780"/>
                  </a:lnTo>
                  <a:lnTo>
                    <a:pt x="334" y="1779"/>
                  </a:lnTo>
                  <a:lnTo>
                    <a:pt x="345" y="1777"/>
                  </a:lnTo>
                  <a:lnTo>
                    <a:pt x="356" y="1772"/>
                  </a:lnTo>
                  <a:lnTo>
                    <a:pt x="367" y="1765"/>
                  </a:lnTo>
                  <a:lnTo>
                    <a:pt x="378" y="1756"/>
                  </a:lnTo>
                  <a:lnTo>
                    <a:pt x="388" y="1744"/>
                  </a:lnTo>
                  <a:lnTo>
                    <a:pt x="398" y="1732"/>
                  </a:lnTo>
                  <a:lnTo>
                    <a:pt x="407" y="1716"/>
                  </a:lnTo>
                  <a:lnTo>
                    <a:pt x="417" y="1701"/>
                  </a:lnTo>
                  <a:lnTo>
                    <a:pt x="425" y="1683"/>
                  </a:lnTo>
                  <a:lnTo>
                    <a:pt x="434" y="1664"/>
                  </a:lnTo>
                  <a:lnTo>
                    <a:pt x="441" y="1644"/>
                  </a:lnTo>
                  <a:lnTo>
                    <a:pt x="449" y="1623"/>
                  </a:lnTo>
                  <a:lnTo>
                    <a:pt x="456" y="1600"/>
                  </a:lnTo>
                  <a:lnTo>
                    <a:pt x="462" y="1576"/>
                  </a:lnTo>
                  <a:lnTo>
                    <a:pt x="468" y="1550"/>
                  </a:lnTo>
                  <a:lnTo>
                    <a:pt x="474" y="1522"/>
                  </a:lnTo>
                  <a:lnTo>
                    <a:pt x="480" y="1495"/>
                  </a:lnTo>
                  <a:lnTo>
                    <a:pt x="485" y="1465"/>
                  </a:lnTo>
                  <a:lnTo>
                    <a:pt x="490" y="1437"/>
                  </a:lnTo>
                  <a:lnTo>
                    <a:pt x="494" y="1406"/>
                  </a:lnTo>
                  <a:lnTo>
                    <a:pt x="499" y="1377"/>
                  </a:lnTo>
                  <a:lnTo>
                    <a:pt x="502" y="1346"/>
                  </a:lnTo>
                  <a:lnTo>
                    <a:pt x="505" y="1313"/>
                  </a:lnTo>
                  <a:lnTo>
                    <a:pt x="511" y="1249"/>
                  </a:lnTo>
                  <a:lnTo>
                    <a:pt x="515" y="1181"/>
                  </a:lnTo>
                  <a:lnTo>
                    <a:pt x="517" y="1113"/>
                  </a:lnTo>
                  <a:close/>
                  <a:moveTo>
                    <a:pt x="747" y="1131"/>
                  </a:moveTo>
                  <a:lnTo>
                    <a:pt x="746" y="1167"/>
                  </a:lnTo>
                  <a:lnTo>
                    <a:pt x="745" y="1204"/>
                  </a:lnTo>
                  <a:lnTo>
                    <a:pt x="743" y="1238"/>
                  </a:lnTo>
                  <a:lnTo>
                    <a:pt x="739" y="1275"/>
                  </a:lnTo>
                  <a:lnTo>
                    <a:pt x="735" y="1309"/>
                  </a:lnTo>
                  <a:lnTo>
                    <a:pt x="730" y="1344"/>
                  </a:lnTo>
                  <a:lnTo>
                    <a:pt x="724" y="1377"/>
                  </a:lnTo>
                  <a:lnTo>
                    <a:pt x="717" y="1411"/>
                  </a:lnTo>
                  <a:lnTo>
                    <a:pt x="710" y="1444"/>
                  </a:lnTo>
                  <a:lnTo>
                    <a:pt x="701" y="1477"/>
                  </a:lnTo>
                  <a:lnTo>
                    <a:pt x="692" y="1508"/>
                  </a:lnTo>
                  <a:lnTo>
                    <a:pt x="682" y="1538"/>
                  </a:lnTo>
                  <a:lnTo>
                    <a:pt x="671" y="1567"/>
                  </a:lnTo>
                  <a:lnTo>
                    <a:pt x="659" y="1595"/>
                  </a:lnTo>
                  <a:lnTo>
                    <a:pt x="645" y="1623"/>
                  </a:lnTo>
                  <a:lnTo>
                    <a:pt x="632" y="1649"/>
                  </a:lnTo>
                  <a:lnTo>
                    <a:pt x="616" y="1675"/>
                  </a:lnTo>
                  <a:lnTo>
                    <a:pt x="601" y="1699"/>
                  </a:lnTo>
                  <a:lnTo>
                    <a:pt x="584" y="1722"/>
                  </a:lnTo>
                  <a:lnTo>
                    <a:pt x="567" y="1744"/>
                  </a:lnTo>
                  <a:lnTo>
                    <a:pt x="550" y="1763"/>
                  </a:lnTo>
                  <a:lnTo>
                    <a:pt x="530" y="1782"/>
                  </a:lnTo>
                  <a:lnTo>
                    <a:pt x="511" y="1800"/>
                  </a:lnTo>
                  <a:lnTo>
                    <a:pt x="491" y="1815"/>
                  </a:lnTo>
                  <a:lnTo>
                    <a:pt x="471" y="1829"/>
                  </a:lnTo>
                  <a:lnTo>
                    <a:pt x="450" y="1841"/>
                  </a:lnTo>
                  <a:lnTo>
                    <a:pt x="428" y="1852"/>
                  </a:lnTo>
                  <a:lnTo>
                    <a:pt x="405" y="1860"/>
                  </a:lnTo>
                  <a:lnTo>
                    <a:pt x="382" y="1865"/>
                  </a:lnTo>
                  <a:lnTo>
                    <a:pt x="358" y="1871"/>
                  </a:lnTo>
                  <a:lnTo>
                    <a:pt x="334" y="1872"/>
                  </a:lnTo>
                  <a:lnTo>
                    <a:pt x="308" y="1874"/>
                  </a:lnTo>
                  <a:lnTo>
                    <a:pt x="272" y="1872"/>
                  </a:lnTo>
                  <a:lnTo>
                    <a:pt x="237" y="1865"/>
                  </a:lnTo>
                  <a:lnTo>
                    <a:pt x="205" y="1853"/>
                  </a:lnTo>
                  <a:lnTo>
                    <a:pt x="175" y="1836"/>
                  </a:lnTo>
                  <a:lnTo>
                    <a:pt x="162" y="1826"/>
                  </a:lnTo>
                  <a:lnTo>
                    <a:pt x="148" y="1815"/>
                  </a:lnTo>
                  <a:lnTo>
                    <a:pt x="135" y="1803"/>
                  </a:lnTo>
                  <a:lnTo>
                    <a:pt x="123" y="1789"/>
                  </a:lnTo>
                  <a:lnTo>
                    <a:pt x="111" y="1774"/>
                  </a:lnTo>
                  <a:lnTo>
                    <a:pt x="100" y="1758"/>
                  </a:lnTo>
                  <a:lnTo>
                    <a:pt x="89" y="1741"/>
                  </a:lnTo>
                  <a:lnTo>
                    <a:pt x="79" y="1722"/>
                  </a:lnTo>
                  <a:lnTo>
                    <a:pt x="69" y="1703"/>
                  </a:lnTo>
                  <a:lnTo>
                    <a:pt x="60" y="1682"/>
                  </a:lnTo>
                  <a:lnTo>
                    <a:pt x="52" y="1659"/>
                  </a:lnTo>
                  <a:lnTo>
                    <a:pt x="44" y="1635"/>
                  </a:lnTo>
                  <a:lnTo>
                    <a:pt x="37" y="1611"/>
                  </a:lnTo>
                  <a:lnTo>
                    <a:pt x="31" y="1585"/>
                  </a:lnTo>
                  <a:lnTo>
                    <a:pt x="25" y="1559"/>
                  </a:lnTo>
                  <a:lnTo>
                    <a:pt x="20" y="1531"/>
                  </a:lnTo>
                  <a:lnTo>
                    <a:pt x="11" y="1470"/>
                  </a:lnTo>
                  <a:lnTo>
                    <a:pt x="5" y="1406"/>
                  </a:lnTo>
                  <a:lnTo>
                    <a:pt x="1" y="1339"/>
                  </a:lnTo>
                  <a:lnTo>
                    <a:pt x="0" y="1264"/>
                  </a:lnTo>
                  <a:lnTo>
                    <a:pt x="1" y="1211"/>
                  </a:lnTo>
                  <a:lnTo>
                    <a:pt x="3" y="1155"/>
                  </a:lnTo>
                  <a:lnTo>
                    <a:pt x="6" y="1101"/>
                  </a:lnTo>
                  <a:lnTo>
                    <a:pt x="11" y="1046"/>
                  </a:lnTo>
                  <a:lnTo>
                    <a:pt x="17" y="992"/>
                  </a:lnTo>
                  <a:lnTo>
                    <a:pt x="24" y="940"/>
                  </a:lnTo>
                  <a:lnTo>
                    <a:pt x="31" y="890"/>
                  </a:lnTo>
                  <a:lnTo>
                    <a:pt x="40" y="840"/>
                  </a:lnTo>
                  <a:lnTo>
                    <a:pt x="48" y="793"/>
                  </a:lnTo>
                  <a:lnTo>
                    <a:pt x="58" y="748"/>
                  </a:lnTo>
                  <a:lnTo>
                    <a:pt x="67" y="706"/>
                  </a:lnTo>
                  <a:lnTo>
                    <a:pt x="77" y="665"/>
                  </a:lnTo>
                  <a:lnTo>
                    <a:pt x="117" y="521"/>
                  </a:lnTo>
                  <a:lnTo>
                    <a:pt x="130" y="481"/>
                  </a:lnTo>
                  <a:lnTo>
                    <a:pt x="144" y="443"/>
                  </a:lnTo>
                  <a:lnTo>
                    <a:pt x="159" y="407"/>
                  </a:lnTo>
                  <a:lnTo>
                    <a:pt x="175" y="372"/>
                  </a:lnTo>
                  <a:lnTo>
                    <a:pt x="193" y="337"/>
                  </a:lnTo>
                  <a:lnTo>
                    <a:pt x="213" y="306"/>
                  </a:lnTo>
                  <a:lnTo>
                    <a:pt x="233" y="275"/>
                  </a:lnTo>
                  <a:lnTo>
                    <a:pt x="254" y="246"/>
                  </a:lnTo>
                  <a:lnTo>
                    <a:pt x="277" y="218"/>
                  </a:lnTo>
                  <a:lnTo>
                    <a:pt x="300" y="195"/>
                  </a:lnTo>
                  <a:lnTo>
                    <a:pt x="323" y="175"/>
                  </a:lnTo>
                  <a:lnTo>
                    <a:pt x="346" y="157"/>
                  </a:lnTo>
                  <a:lnTo>
                    <a:pt x="370" y="143"/>
                  </a:lnTo>
                  <a:lnTo>
                    <a:pt x="395" y="133"/>
                  </a:lnTo>
                  <a:lnTo>
                    <a:pt x="419" y="126"/>
                  </a:lnTo>
                  <a:lnTo>
                    <a:pt x="444" y="123"/>
                  </a:lnTo>
                  <a:lnTo>
                    <a:pt x="571" y="112"/>
                  </a:lnTo>
                  <a:lnTo>
                    <a:pt x="680" y="102"/>
                  </a:lnTo>
                  <a:lnTo>
                    <a:pt x="688" y="100"/>
                  </a:lnTo>
                  <a:lnTo>
                    <a:pt x="695" y="98"/>
                  </a:lnTo>
                  <a:lnTo>
                    <a:pt x="702" y="95"/>
                  </a:lnTo>
                  <a:lnTo>
                    <a:pt x="709" y="93"/>
                  </a:lnTo>
                  <a:lnTo>
                    <a:pt x="715" y="90"/>
                  </a:lnTo>
                  <a:lnTo>
                    <a:pt x="721" y="84"/>
                  </a:lnTo>
                  <a:lnTo>
                    <a:pt x="727" y="81"/>
                  </a:lnTo>
                  <a:lnTo>
                    <a:pt x="732" y="76"/>
                  </a:lnTo>
                  <a:lnTo>
                    <a:pt x="737" y="71"/>
                  </a:lnTo>
                  <a:lnTo>
                    <a:pt x="743" y="64"/>
                  </a:lnTo>
                  <a:lnTo>
                    <a:pt x="748" y="55"/>
                  </a:lnTo>
                  <a:lnTo>
                    <a:pt x="754" y="46"/>
                  </a:lnTo>
                  <a:lnTo>
                    <a:pt x="760" y="36"/>
                  </a:lnTo>
                  <a:lnTo>
                    <a:pt x="766" y="26"/>
                  </a:lnTo>
                  <a:lnTo>
                    <a:pt x="773" y="13"/>
                  </a:lnTo>
                  <a:lnTo>
                    <a:pt x="779" y="0"/>
                  </a:lnTo>
                  <a:lnTo>
                    <a:pt x="821" y="58"/>
                  </a:lnTo>
                  <a:lnTo>
                    <a:pt x="775" y="166"/>
                  </a:lnTo>
                  <a:lnTo>
                    <a:pt x="763" y="192"/>
                  </a:lnTo>
                  <a:lnTo>
                    <a:pt x="751" y="218"/>
                  </a:lnTo>
                  <a:lnTo>
                    <a:pt x="726" y="268"/>
                  </a:lnTo>
                  <a:lnTo>
                    <a:pt x="719" y="284"/>
                  </a:lnTo>
                  <a:lnTo>
                    <a:pt x="710" y="299"/>
                  </a:lnTo>
                  <a:lnTo>
                    <a:pt x="694" y="329"/>
                  </a:lnTo>
                  <a:lnTo>
                    <a:pt x="690" y="336"/>
                  </a:lnTo>
                  <a:lnTo>
                    <a:pt x="686" y="343"/>
                  </a:lnTo>
                  <a:lnTo>
                    <a:pt x="682" y="349"/>
                  </a:lnTo>
                  <a:lnTo>
                    <a:pt x="677" y="356"/>
                  </a:lnTo>
                  <a:lnTo>
                    <a:pt x="672" y="362"/>
                  </a:lnTo>
                  <a:lnTo>
                    <a:pt x="668" y="369"/>
                  </a:lnTo>
                  <a:lnTo>
                    <a:pt x="663" y="374"/>
                  </a:lnTo>
                  <a:lnTo>
                    <a:pt x="658" y="379"/>
                  </a:lnTo>
                  <a:lnTo>
                    <a:pt x="648" y="388"/>
                  </a:lnTo>
                  <a:lnTo>
                    <a:pt x="638" y="396"/>
                  </a:lnTo>
                  <a:lnTo>
                    <a:pt x="627" y="403"/>
                  </a:lnTo>
                  <a:lnTo>
                    <a:pt x="617" y="408"/>
                  </a:lnTo>
                  <a:lnTo>
                    <a:pt x="611" y="412"/>
                  </a:lnTo>
                  <a:lnTo>
                    <a:pt x="605" y="414"/>
                  </a:lnTo>
                  <a:lnTo>
                    <a:pt x="593" y="419"/>
                  </a:lnTo>
                  <a:lnTo>
                    <a:pt x="577" y="422"/>
                  </a:lnTo>
                  <a:lnTo>
                    <a:pt x="561" y="426"/>
                  </a:lnTo>
                  <a:lnTo>
                    <a:pt x="492" y="434"/>
                  </a:lnTo>
                  <a:lnTo>
                    <a:pt x="409" y="445"/>
                  </a:lnTo>
                  <a:lnTo>
                    <a:pt x="380" y="450"/>
                  </a:lnTo>
                  <a:lnTo>
                    <a:pt x="354" y="457"/>
                  </a:lnTo>
                  <a:lnTo>
                    <a:pt x="341" y="460"/>
                  </a:lnTo>
                  <a:lnTo>
                    <a:pt x="329" y="466"/>
                  </a:lnTo>
                  <a:lnTo>
                    <a:pt x="318" y="471"/>
                  </a:lnTo>
                  <a:lnTo>
                    <a:pt x="308" y="478"/>
                  </a:lnTo>
                  <a:lnTo>
                    <a:pt x="288" y="492"/>
                  </a:lnTo>
                  <a:lnTo>
                    <a:pt x="270" y="505"/>
                  </a:lnTo>
                  <a:lnTo>
                    <a:pt x="262" y="512"/>
                  </a:lnTo>
                  <a:lnTo>
                    <a:pt x="253" y="521"/>
                  </a:lnTo>
                  <a:lnTo>
                    <a:pt x="246" y="530"/>
                  </a:lnTo>
                  <a:lnTo>
                    <a:pt x="238" y="538"/>
                  </a:lnTo>
                  <a:lnTo>
                    <a:pt x="230" y="547"/>
                  </a:lnTo>
                  <a:lnTo>
                    <a:pt x="224" y="557"/>
                  </a:lnTo>
                  <a:lnTo>
                    <a:pt x="217" y="566"/>
                  </a:lnTo>
                  <a:lnTo>
                    <a:pt x="211" y="576"/>
                  </a:lnTo>
                  <a:lnTo>
                    <a:pt x="205" y="587"/>
                  </a:lnTo>
                  <a:lnTo>
                    <a:pt x="199" y="597"/>
                  </a:lnTo>
                  <a:lnTo>
                    <a:pt x="194" y="608"/>
                  </a:lnTo>
                  <a:lnTo>
                    <a:pt x="189" y="618"/>
                  </a:lnTo>
                  <a:lnTo>
                    <a:pt x="173" y="658"/>
                  </a:lnTo>
                  <a:lnTo>
                    <a:pt x="165" y="675"/>
                  </a:lnTo>
                  <a:lnTo>
                    <a:pt x="159" y="691"/>
                  </a:lnTo>
                  <a:lnTo>
                    <a:pt x="147" y="729"/>
                  </a:lnTo>
                  <a:lnTo>
                    <a:pt x="135" y="769"/>
                  </a:lnTo>
                  <a:lnTo>
                    <a:pt x="125" y="809"/>
                  </a:lnTo>
                  <a:lnTo>
                    <a:pt x="115" y="850"/>
                  </a:lnTo>
                  <a:lnTo>
                    <a:pt x="107" y="890"/>
                  </a:lnTo>
                  <a:lnTo>
                    <a:pt x="100" y="926"/>
                  </a:lnTo>
                  <a:lnTo>
                    <a:pt x="94" y="959"/>
                  </a:lnTo>
                  <a:lnTo>
                    <a:pt x="89" y="989"/>
                  </a:lnTo>
                  <a:lnTo>
                    <a:pt x="99" y="994"/>
                  </a:lnTo>
                  <a:lnTo>
                    <a:pt x="114" y="954"/>
                  </a:lnTo>
                  <a:lnTo>
                    <a:pt x="129" y="916"/>
                  </a:lnTo>
                  <a:lnTo>
                    <a:pt x="146" y="881"/>
                  </a:lnTo>
                  <a:lnTo>
                    <a:pt x="163" y="847"/>
                  </a:lnTo>
                  <a:lnTo>
                    <a:pt x="181" y="816"/>
                  </a:lnTo>
                  <a:lnTo>
                    <a:pt x="201" y="788"/>
                  </a:lnTo>
                  <a:lnTo>
                    <a:pt x="221" y="760"/>
                  </a:lnTo>
                  <a:lnTo>
                    <a:pt x="243" y="736"/>
                  </a:lnTo>
                  <a:lnTo>
                    <a:pt x="265" y="713"/>
                  </a:lnTo>
                  <a:lnTo>
                    <a:pt x="288" y="694"/>
                  </a:lnTo>
                  <a:lnTo>
                    <a:pt x="312" y="679"/>
                  </a:lnTo>
                  <a:lnTo>
                    <a:pt x="335" y="667"/>
                  </a:lnTo>
                  <a:lnTo>
                    <a:pt x="360" y="656"/>
                  </a:lnTo>
                  <a:lnTo>
                    <a:pt x="384" y="647"/>
                  </a:lnTo>
                  <a:lnTo>
                    <a:pt x="410" y="644"/>
                  </a:lnTo>
                  <a:lnTo>
                    <a:pt x="436" y="642"/>
                  </a:lnTo>
                  <a:lnTo>
                    <a:pt x="476" y="644"/>
                  </a:lnTo>
                  <a:lnTo>
                    <a:pt x="495" y="647"/>
                  </a:lnTo>
                  <a:lnTo>
                    <a:pt x="513" y="651"/>
                  </a:lnTo>
                  <a:lnTo>
                    <a:pt x="530" y="656"/>
                  </a:lnTo>
                  <a:lnTo>
                    <a:pt x="547" y="663"/>
                  </a:lnTo>
                  <a:lnTo>
                    <a:pt x="562" y="670"/>
                  </a:lnTo>
                  <a:lnTo>
                    <a:pt x="577" y="679"/>
                  </a:lnTo>
                  <a:lnTo>
                    <a:pt x="592" y="689"/>
                  </a:lnTo>
                  <a:lnTo>
                    <a:pt x="605" y="699"/>
                  </a:lnTo>
                  <a:lnTo>
                    <a:pt x="618" y="712"/>
                  </a:lnTo>
                  <a:lnTo>
                    <a:pt x="631" y="724"/>
                  </a:lnTo>
                  <a:lnTo>
                    <a:pt x="643" y="736"/>
                  </a:lnTo>
                  <a:lnTo>
                    <a:pt x="654" y="750"/>
                  </a:lnTo>
                  <a:lnTo>
                    <a:pt x="664" y="765"/>
                  </a:lnTo>
                  <a:lnTo>
                    <a:pt x="673" y="781"/>
                  </a:lnTo>
                  <a:lnTo>
                    <a:pt x="682" y="798"/>
                  </a:lnTo>
                  <a:lnTo>
                    <a:pt x="691" y="816"/>
                  </a:lnTo>
                  <a:lnTo>
                    <a:pt x="699" y="833"/>
                  </a:lnTo>
                  <a:lnTo>
                    <a:pt x="706" y="852"/>
                  </a:lnTo>
                  <a:lnTo>
                    <a:pt x="713" y="871"/>
                  </a:lnTo>
                  <a:lnTo>
                    <a:pt x="719" y="892"/>
                  </a:lnTo>
                  <a:lnTo>
                    <a:pt x="724" y="913"/>
                  </a:lnTo>
                  <a:lnTo>
                    <a:pt x="729" y="935"/>
                  </a:lnTo>
                  <a:lnTo>
                    <a:pt x="733" y="958"/>
                  </a:lnTo>
                  <a:lnTo>
                    <a:pt x="737" y="982"/>
                  </a:lnTo>
                  <a:lnTo>
                    <a:pt x="740" y="1004"/>
                  </a:lnTo>
                  <a:lnTo>
                    <a:pt x="743" y="1029"/>
                  </a:lnTo>
                  <a:lnTo>
                    <a:pt x="744" y="1053"/>
                  </a:lnTo>
                  <a:lnTo>
                    <a:pt x="746" y="1079"/>
                  </a:lnTo>
                  <a:lnTo>
                    <a:pt x="747" y="1105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9040" y="4952880"/>
              <a:ext cx="344520" cy="627120"/>
            </a:xfrm>
            <a:custGeom>
              <a:avLst/>
              <a:gdLst/>
              <a:ahLst/>
              <a:rect l="l" t="t" r="r" b="b"/>
              <a:pathLst>
                <a:path w="957" h="1742">
                  <a:moveTo>
                    <a:pt x="956" y="457"/>
                  </a:moveTo>
                  <a:lnTo>
                    <a:pt x="955" y="497"/>
                  </a:lnTo>
                  <a:lnTo>
                    <a:pt x="955" y="535"/>
                  </a:lnTo>
                  <a:lnTo>
                    <a:pt x="952" y="575"/>
                  </a:lnTo>
                  <a:lnTo>
                    <a:pt x="949" y="613"/>
                  </a:lnTo>
                  <a:lnTo>
                    <a:pt x="944" y="651"/>
                  </a:lnTo>
                  <a:lnTo>
                    <a:pt x="939" y="687"/>
                  </a:lnTo>
                  <a:lnTo>
                    <a:pt x="933" y="726"/>
                  </a:lnTo>
                  <a:lnTo>
                    <a:pt x="926" y="762"/>
                  </a:lnTo>
                  <a:lnTo>
                    <a:pt x="917" y="798"/>
                  </a:lnTo>
                  <a:lnTo>
                    <a:pt x="909" y="833"/>
                  </a:lnTo>
                  <a:lnTo>
                    <a:pt x="900" y="866"/>
                  </a:lnTo>
                  <a:lnTo>
                    <a:pt x="889" y="897"/>
                  </a:lnTo>
                  <a:lnTo>
                    <a:pt x="878" y="928"/>
                  </a:lnTo>
                  <a:lnTo>
                    <a:pt x="867" y="958"/>
                  </a:lnTo>
                  <a:lnTo>
                    <a:pt x="855" y="985"/>
                  </a:lnTo>
                  <a:lnTo>
                    <a:pt x="842" y="1013"/>
                  </a:lnTo>
                  <a:lnTo>
                    <a:pt x="828" y="1039"/>
                  </a:lnTo>
                  <a:lnTo>
                    <a:pt x="813" y="1065"/>
                  </a:lnTo>
                  <a:lnTo>
                    <a:pt x="799" y="1088"/>
                  </a:lnTo>
                  <a:lnTo>
                    <a:pt x="784" y="1110"/>
                  </a:lnTo>
                  <a:lnTo>
                    <a:pt x="767" y="1131"/>
                  </a:lnTo>
                  <a:lnTo>
                    <a:pt x="751" y="1150"/>
                  </a:lnTo>
                  <a:lnTo>
                    <a:pt x="735" y="1167"/>
                  </a:lnTo>
                  <a:lnTo>
                    <a:pt x="718" y="1183"/>
                  </a:lnTo>
                  <a:lnTo>
                    <a:pt x="701" y="1197"/>
                  </a:lnTo>
                  <a:lnTo>
                    <a:pt x="683" y="1209"/>
                  </a:lnTo>
                  <a:lnTo>
                    <a:pt x="665" y="1219"/>
                  </a:lnTo>
                  <a:lnTo>
                    <a:pt x="646" y="1228"/>
                  </a:lnTo>
                  <a:lnTo>
                    <a:pt x="627" y="1233"/>
                  </a:lnTo>
                  <a:lnTo>
                    <a:pt x="607" y="1238"/>
                  </a:lnTo>
                  <a:lnTo>
                    <a:pt x="587" y="1240"/>
                  </a:lnTo>
                  <a:lnTo>
                    <a:pt x="567" y="1242"/>
                  </a:lnTo>
                  <a:lnTo>
                    <a:pt x="537" y="1240"/>
                  </a:lnTo>
                  <a:lnTo>
                    <a:pt x="510" y="1237"/>
                  </a:lnTo>
                  <a:lnTo>
                    <a:pt x="498" y="1233"/>
                  </a:lnTo>
                  <a:lnTo>
                    <a:pt x="486" y="1230"/>
                  </a:lnTo>
                  <a:lnTo>
                    <a:pt x="476" y="1225"/>
                  </a:lnTo>
                  <a:lnTo>
                    <a:pt x="466" y="1219"/>
                  </a:lnTo>
                  <a:lnTo>
                    <a:pt x="457" y="1214"/>
                  </a:lnTo>
                  <a:lnTo>
                    <a:pt x="448" y="1207"/>
                  </a:lnTo>
                  <a:lnTo>
                    <a:pt x="440" y="1200"/>
                  </a:lnTo>
                  <a:lnTo>
                    <a:pt x="431" y="1193"/>
                  </a:lnTo>
                  <a:lnTo>
                    <a:pt x="423" y="1185"/>
                  </a:lnTo>
                  <a:lnTo>
                    <a:pt x="415" y="1176"/>
                  </a:lnTo>
                  <a:lnTo>
                    <a:pt x="408" y="1167"/>
                  </a:lnTo>
                  <a:lnTo>
                    <a:pt x="401" y="1157"/>
                  </a:lnTo>
                  <a:lnTo>
                    <a:pt x="361" y="1476"/>
                  </a:lnTo>
                  <a:lnTo>
                    <a:pt x="360" y="1479"/>
                  </a:lnTo>
                  <a:lnTo>
                    <a:pt x="360" y="1483"/>
                  </a:lnTo>
                  <a:lnTo>
                    <a:pt x="359" y="1491"/>
                  </a:lnTo>
                  <a:lnTo>
                    <a:pt x="358" y="1500"/>
                  </a:lnTo>
                  <a:lnTo>
                    <a:pt x="357" y="1509"/>
                  </a:lnTo>
                  <a:lnTo>
                    <a:pt x="356" y="1526"/>
                  </a:lnTo>
                  <a:lnTo>
                    <a:pt x="355" y="1531"/>
                  </a:lnTo>
                  <a:lnTo>
                    <a:pt x="355" y="1535"/>
                  </a:lnTo>
                  <a:lnTo>
                    <a:pt x="355" y="1536"/>
                  </a:lnTo>
                  <a:lnTo>
                    <a:pt x="355" y="1543"/>
                  </a:lnTo>
                  <a:lnTo>
                    <a:pt x="356" y="1550"/>
                  </a:lnTo>
                  <a:lnTo>
                    <a:pt x="356" y="1557"/>
                  </a:lnTo>
                  <a:lnTo>
                    <a:pt x="357" y="1564"/>
                  </a:lnTo>
                  <a:lnTo>
                    <a:pt x="358" y="1569"/>
                  </a:lnTo>
                  <a:lnTo>
                    <a:pt x="359" y="1576"/>
                  </a:lnTo>
                  <a:lnTo>
                    <a:pt x="360" y="1581"/>
                  </a:lnTo>
                  <a:lnTo>
                    <a:pt x="362" y="1587"/>
                  </a:lnTo>
                  <a:lnTo>
                    <a:pt x="364" y="1592"/>
                  </a:lnTo>
                  <a:lnTo>
                    <a:pt x="365" y="1597"/>
                  </a:lnTo>
                  <a:lnTo>
                    <a:pt x="368" y="1602"/>
                  </a:lnTo>
                  <a:lnTo>
                    <a:pt x="370" y="1607"/>
                  </a:lnTo>
                  <a:lnTo>
                    <a:pt x="373" y="1611"/>
                  </a:lnTo>
                  <a:lnTo>
                    <a:pt x="375" y="1614"/>
                  </a:lnTo>
                  <a:lnTo>
                    <a:pt x="378" y="1618"/>
                  </a:lnTo>
                  <a:lnTo>
                    <a:pt x="381" y="1621"/>
                  </a:lnTo>
                  <a:lnTo>
                    <a:pt x="390" y="1626"/>
                  </a:lnTo>
                  <a:lnTo>
                    <a:pt x="400" y="1633"/>
                  </a:lnTo>
                  <a:lnTo>
                    <a:pt x="413" y="1639"/>
                  </a:lnTo>
                  <a:lnTo>
                    <a:pt x="427" y="1644"/>
                  </a:lnTo>
                  <a:lnTo>
                    <a:pt x="456" y="1652"/>
                  </a:lnTo>
                  <a:lnTo>
                    <a:pt x="469" y="1656"/>
                  </a:lnTo>
                  <a:lnTo>
                    <a:pt x="480" y="1658"/>
                  </a:lnTo>
                  <a:lnTo>
                    <a:pt x="469" y="1741"/>
                  </a:lnTo>
                  <a:lnTo>
                    <a:pt x="0" y="1741"/>
                  </a:lnTo>
                  <a:lnTo>
                    <a:pt x="10" y="1658"/>
                  </a:lnTo>
                  <a:lnTo>
                    <a:pt x="52" y="1649"/>
                  </a:lnTo>
                  <a:lnTo>
                    <a:pt x="74" y="1642"/>
                  </a:lnTo>
                  <a:lnTo>
                    <a:pt x="83" y="1639"/>
                  </a:lnTo>
                  <a:lnTo>
                    <a:pt x="87" y="1637"/>
                  </a:lnTo>
                  <a:lnTo>
                    <a:pt x="90" y="1635"/>
                  </a:lnTo>
                  <a:lnTo>
                    <a:pt x="96" y="1632"/>
                  </a:lnTo>
                  <a:lnTo>
                    <a:pt x="101" y="1628"/>
                  </a:lnTo>
                  <a:lnTo>
                    <a:pt x="105" y="1623"/>
                  </a:lnTo>
                  <a:lnTo>
                    <a:pt x="110" y="1618"/>
                  </a:lnTo>
                  <a:lnTo>
                    <a:pt x="114" y="1613"/>
                  </a:lnTo>
                  <a:lnTo>
                    <a:pt x="117" y="1607"/>
                  </a:lnTo>
                  <a:lnTo>
                    <a:pt x="121" y="1600"/>
                  </a:lnTo>
                  <a:lnTo>
                    <a:pt x="124" y="1594"/>
                  </a:lnTo>
                  <a:lnTo>
                    <a:pt x="127" y="1587"/>
                  </a:lnTo>
                  <a:lnTo>
                    <a:pt x="129" y="1578"/>
                  </a:lnTo>
                  <a:lnTo>
                    <a:pt x="132" y="1569"/>
                  </a:lnTo>
                  <a:lnTo>
                    <a:pt x="134" y="1561"/>
                  </a:lnTo>
                  <a:lnTo>
                    <a:pt x="136" y="1550"/>
                  </a:lnTo>
                  <a:lnTo>
                    <a:pt x="138" y="1540"/>
                  </a:lnTo>
                  <a:lnTo>
                    <a:pt x="139" y="1529"/>
                  </a:lnTo>
                  <a:lnTo>
                    <a:pt x="141" y="1517"/>
                  </a:lnTo>
                  <a:lnTo>
                    <a:pt x="270" y="478"/>
                  </a:lnTo>
                  <a:lnTo>
                    <a:pt x="280" y="389"/>
                  </a:lnTo>
                  <a:lnTo>
                    <a:pt x="282" y="363"/>
                  </a:lnTo>
                  <a:lnTo>
                    <a:pt x="284" y="341"/>
                  </a:lnTo>
                  <a:lnTo>
                    <a:pt x="285" y="320"/>
                  </a:lnTo>
                  <a:lnTo>
                    <a:pt x="286" y="310"/>
                  </a:lnTo>
                  <a:lnTo>
                    <a:pt x="286" y="301"/>
                  </a:lnTo>
                  <a:lnTo>
                    <a:pt x="286" y="286"/>
                  </a:lnTo>
                  <a:lnTo>
                    <a:pt x="285" y="272"/>
                  </a:lnTo>
                  <a:lnTo>
                    <a:pt x="284" y="260"/>
                  </a:lnTo>
                  <a:lnTo>
                    <a:pt x="282" y="247"/>
                  </a:lnTo>
                  <a:lnTo>
                    <a:pt x="281" y="240"/>
                  </a:lnTo>
                  <a:lnTo>
                    <a:pt x="280" y="235"/>
                  </a:lnTo>
                  <a:lnTo>
                    <a:pt x="279" y="230"/>
                  </a:lnTo>
                  <a:lnTo>
                    <a:pt x="277" y="227"/>
                  </a:lnTo>
                  <a:lnTo>
                    <a:pt x="276" y="221"/>
                  </a:lnTo>
                  <a:lnTo>
                    <a:pt x="275" y="216"/>
                  </a:lnTo>
                  <a:lnTo>
                    <a:pt x="273" y="213"/>
                  </a:lnTo>
                  <a:lnTo>
                    <a:pt x="271" y="209"/>
                  </a:lnTo>
                  <a:lnTo>
                    <a:pt x="270" y="206"/>
                  </a:lnTo>
                  <a:lnTo>
                    <a:pt x="267" y="202"/>
                  </a:lnTo>
                  <a:lnTo>
                    <a:pt x="265" y="199"/>
                  </a:lnTo>
                  <a:lnTo>
                    <a:pt x="263" y="197"/>
                  </a:lnTo>
                  <a:lnTo>
                    <a:pt x="260" y="194"/>
                  </a:lnTo>
                  <a:lnTo>
                    <a:pt x="257" y="192"/>
                  </a:lnTo>
                  <a:lnTo>
                    <a:pt x="250" y="189"/>
                  </a:lnTo>
                  <a:lnTo>
                    <a:pt x="243" y="185"/>
                  </a:lnTo>
                  <a:lnTo>
                    <a:pt x="234" y="183"/>
                  </a:lnTo>
                  <a:lnTo>
                    <a:pt x="225" y="182"/>
                  </a:lnTo>
                  <a:lnTo>
                    <a:pt x="215" y="182"/>
                  </a:lnTo>
                  <a:lnTo>
                    <a:pt x="210" y="182"/>
                  </a:lnTo>
                  <a:lnTo>
                    <a:pt x="204" y="182"/>
                  </a:lnTo>
                  <a:lnTo>
                    <a:pt x="199" y="183"/>
                  </a:lnTo>
                  <a:lnTo>
                    <a:pt x="194" y="185"/>
                  </a:lnTo>
                  <a:lnTo>
                    <a:pt x="189" y="187"/>
                  </a:lnTo>
                  <a:lnTo>
                    <a:pt x="183" y="189"/>
                  </a:lnTo>
                  <a:lnTo>
                    <a:pt x="178" y="190"/>
                  </a:lnTo>
                  <a:lnTo>
                    <a:pt x="172" y="194"/>
                  </a:lnTo>
                  <a:lnTo>
                    <a:pt x="162" y="199"/>
                  </a:lnTo>
                  <a:lnTo>
                    <a:pt x="152" y="206"/>
                  </a:lnTo>
                  <a:lnTo>
                    <a:pt x="135" y="216"/>
                  </a:lnTo>
                  <a:lnTo>
                    <a:pt x="149" y="109"/>
                  </a:lnTo>
                  <a:lnTo>
                    <a:pt x="250" y="41"/>
                  </a:lnTo>
                  <a:lnTo>
                    <a:pt x="262" y="34"/>
                  </a:lnTo>
                  <a:lnTo>
                    <a:pt x="274" y="29"/>
                  </a:lnTo>
                  <a:lnTo>
                    <a:pt x="286" y="24"/>
                  </a:lnTo>
                  <a:lnTo>
                    <a:pt x="298" y="20"/>
                  </a:lnTo>
                  <a:lnTo>
                    <a:pt x="309" y="17"/>
                  </a:lnTo>
                  <a:lnTo>
                    <a:pt x="320" y="15"/>
                  </a:lnTo>
                  <a:lnTo>
                    <a:pt x="331" y="14"/>
                  </a:lnTo>
                  <a:lnTo>
                    <a:pt x="342" y="14"/>
                  </a:lnTo>
                  <a:lnTo>
                    <a:pt x="359" y="14"/>
                  </a:lnTo>
                  <a:lnTo>
                    <a:pt x="375" y="17"/>
                  </a:lnTo>
                  <a:lnTo>
                    <a:pt x="391" y="20"/>
                  </a:lnTo>
                  <a:lnTo>
                    <a:pt x="398" y="22"/>
                  </a:lnTo>
                  <a:lnTo>
                    <a:pt x="405" y="26"/>
                  </a:lnTo>
                  <a:lnTo>
                    <a:pt x="412" y="29"/>
                  </a:lnTo>
                  <a:lnTo>
                    <a:pt x="418" y="33"/>
                  </a:lnTo>
                  <a:lnTo>
                    <a:pt x="425" y="38"/>
                  </a:lnTo>
                  <a:lnTo>
                    <a:pt x="431" y="43"/>
                  </a:lnTo>
                  <a:lnTo>
                    <a:pt x="436" y="48"/>
                  </a:lnTo>
                  <a:lnTo>
                    <a:pt x="442" y="53"/>
                  </a:lnTo>
                  <a:lnTo>
                    <a:pt x="448" y="59"/>
                  </a:lnTo>
                  <a:lnTo>
                    <a:pt x="453" y="66"/>
                  </a:lnTo>
                  <a:lnTo>
                    <a:pt x="462" y="78"/>
                  </a:lnTo>
                  <a:lnTo>
                    <a:pt x="465" y="85"/>
                  </a:lnTo>
                  <a:lnTo>
                    <a:pt x="469" y="91"/>
                  </a:lnTo>
                  <a:lnTo>
                    <a:pt x="473" y="98"/>
                  </a:lnTo>
                  <a:lnTo>
                    <a:pt x="476" y="105"/>
                  </a:lnTo>
                  <a:lnTo>
                    <a:pt x="479" y="112"/>
                  </a:lnTo>
                  <a:lnTo>
                    <a:pt x="482" y="121"/>
                  </a:lnTo>
                  <a:lnTo>
                    <a:pt x="485" y="130"/>
                  </a:lnTo>
                  <a:lnTo>
                    <a:pt x="487" y="137"/>
                  </a:lnTo>
                  <a:lnTo>
                    <a:pt x="492" y="154"/>
                  </a:lnTo>
                  <a:lnTo>
                    <a:pt x="497" y="169"/>
                  </a:lnTo>
                  <a:lnTo>
                    <a:pt x="501" y="185"/>
                  </a:lnTo>
                  <a:lnTo>
                    <a:pt x="507" y="185"/>
                  </a:lnTo>
                  <a:lnTo>
                    <a:pt x="535" y="142"/>
                  </a:lnTo>
                  <a:lnTo>
                    <a:pt x="551" y="121"/>
                  </a:lnTo>
                  <a:lnTo>
                    <a:pt x="565" y="104"/>
                  </a:lnTo>
                  <a:lnTo>
                    <a:pt x="580" y="86"/>
                  </a:lnTo>
                  <a:lnTo>
                    <a:pt x="594" y="71"/>
                  </a:lnTo>
                  <a:lnTo>
                    <a:pt x="607" y="57"/>
                  </a:lnTo>
                  <a:lnTo>
                    <a:pt x="622" y="45"/>
                  </a:lnTo>
                  <a:lnTo>
                    <a:pt x="636" y="34"/>
                  </a:lnTo>
                  <a:lnTo>
                    <a:pt x="650" y="26"/>
                  </a:lnTo>
                  <a:lnTo>
                    <a:pt x="663" y="17"/>
                  </a:lnTo>
                  <a:lnTo>
                    <a:pt x="678" y="12"/>
                  </a:lnTo>
                  <a:lnTo>
                    <a:pt x="690" y="7"/>
                  </a:lnTo>
                  <a:lnTo>
                    <a:pt x="704" y="3"/>
                  </a:lnTo>
                  <a:lnTo>
                    <a:pt x="718" y="0"/>
                  </a:lnTo>
                  <a:lnTo>
                    <a:pt x="730" y="0"/>
                  </a:lnTo>
                  <a:lnTo>
                    <a:pt x="757" y="1"/>
                  </a:lnTo>
                  <a:lnTo>
                    <a:pt x="783" y="7"/>
                  </a:lnTo>
                  <a:lnTo>
                    <a:pt x="807" y="17"/>
                  </a:lnTo>
                  <a:lnTo>
                    <a:pt x="829" y="31"/>
                  </a:lnTo>
                  <a:lnTo>
                    <a:pt x="839" y="40"/>
                  </a:lnTo>
                  <a:lnTo>
                    <a:pt x="849" y="48"/>
                  </a:lnTo>
                  <a:lnTo>
                    <a:pt x="859" y="59"/>
                  </a:lnTo>
                  <a:lnTo>
                    <a:pt x="867" y="69"/>
                  </a:lnTo>
                  <a:lnTo>
                    <a:pt x="876" y="81"/>
                  </a:lnTo>
                  <a:lnTo>
                    <a:pt x="884" y="93"/>
                  </a:lnTo>
                  <a:lnTo>
                    <a:pt x="892" y="107"/>
                  </a:lnTo>
                  <a:lnTo>
                    <a:pt x="900" y="123"/>
                  </a:lnTo>
                  <a:lnTo>
                    <a:pt x="906" y="138"/>
                  </a:lnTo>
                  <a:lnTo>
                    <a:pt x="913" y="154"/>
                  </a:lnTo>
                  <a:lnTo>
                    <a:pt x="919" y="171"/>
                  </a:lnTo>
                  <a:lnTo>
                    <a:pt x="924" y="189"/>
                  </a:lnTo>
                  <a:lnTo>
                    <a:pt x="929" y="208"/>
                  </a:lnTo>
                  <a:lnTo>
                    <a:pt x="934" y="227"/>
                  </a:lnTo>
                  <a:lnTo>
                    <a:pt x="938" y="247"/>
                  </a:lnTo>
                  <a:lnTo>
                    <a:pt x="942" y="266"/>
                  </a:lnTo>
                  <a:lnTo>
                    <a:pt x="949" y="310"/>
                  </a:lnTo>
                  <a:lnTo>
                    <a:pt x="953" y="357"/>
                  </a:lnTo>
                  <a:lnTo>
                    <a:pt x="955" y="405"/>
                  </a:lnTo>
                  <a:close/>
                  <a:moveTo>
                    <a:pt x="668" y="927"/>
                  </a:moveTo>
                  <a:lnTo>
                    <a:pt x="674" y="901"/>
                  </a:lnTo>
                  <a:lnTo>
                    <a:pt x="680" y="875"/>
                  </a:lnTo>
                  <a:lnTo>
                    <a:pt x="686" y="847"/>
                  </a:lnTo>
                  <a:lnTo>
                    <a:pt x="692" y="821"/>
                  </a:lnTo>
                  <a:lnTo>
                    <a:pt x="696" y="793"/>
                  </a:lnTo>
                  <a:lnTo>
                    <a:pt x="701" y="765"/>
                  </a:lnTo>
                  <a:lnTo>
                    <a:pt x="709" y="708"/>
                  </a:lnTo>
                  <a:lnTo>
                    <a:pt x="712" y="679"/>
                  </a:lnTo>
                  <a:lnTo>
                    <a:pt x="715" y="649"/>
                  </a:lnTo>
                  <a:lnTo>
                    <a:pt x="718" y="618"/>
                  </a:lnTo>
                  <a:lnTo>
                    <a:pt x="720" y="587"/>
                  </a:lnTo>
                  <a:lnTo>
                    <a:pt x="723" y="521"/>
                  </a:lnTo>
                  <a:lnTo>
                    <a:pt x="723" y="452"/>
                  </a:lnTo>
                  <a:lnTo>
                    <a:pt x="723" y="424"/>
                  </a:lnTo>
                  <a:lnTo>
                    <a:pt x="723" y="396"/>
                  </a:lnTo>
                  <a:lnTo>
                    <a:pt x="721" y="370"/>
                  </a:lnTo>
                  <a:lnTo>
                    <a:pt x="719" y="344"/>
                  </a:lnTo>
                  <a:lnTo>
                    <a:pt x="718" y="332"/>
                  </a:lnTo>
                  <a:lnTo>
                    <a:pt x="717" y="320"/>
                  </a:lnTo>
                  <a:lnTo>
                    <a:pt x="715" y="310"/>
                  </a:lnTo>
                  <a:lnTo>
                    <a:pt x="712" y="298"/>
                  </a:lnTo>
                  <a:lnTo>
                    <a:pt x="711" y="287"/>
                  </a:lnTo>
                  <a:lnTo>
                    <a:pt x="708" y="277"/>
                  </a:lnTo>
                  <a:lnTo>
                    <a:pt x="706" y="268"/>
                  </a:lnTo>
                  <a:lnTo>
                    <a:pt x="703" y="260"/>
                  </a:lnTo>
                  <a:lnTo>
                    <a:pt x="700" y="251"/>
                  </a:lnTo>
                  <a:lnTo>
                    <a:pt x="697" y="242"/>
                  </a:lnTo>
                  <a:lnTo>
                    <a:pt x="693" y="234"/>
                  </a:lnTo>
                  <a:lnTo>
                    <a:pt x="690" y="227"/>
                  </a:lnTo>
                  <a:lnTo>
                    <a:pt x="685" y="220"/>
                  </a:lnTo>
                  <a:lnTo>
                    <a:pt x="681" y="213"/>
                  </a:lnTo>
                  <a:lnTo>
                    <a:pt x="677" y="208"/>
                  </a:lnTo>
                  <a:lnTo>
                    <a:pt x="672" y="202"/>
                  </a:lnTo>
                  <a:lnTo>
                    <a:pt x="667" y="197"/>
                  </a:lnTo>
                  <a:lnTo>
                    <a:pt x="661" y="194"/>
                  </a:lnTo>
                  <a:lnTo>
                    <a:pt x="656" y="190"/>
                  </a:lnTo>
                  <a:lnTo>
                    <a:pt x="650" y="187"/>
                  </a:lnTo>
                  <a:lnTo>
                    <a:pt x="643" y="185"/>
                  </a:lnTo>
                  <a:lnTo>
                    <a:pt x="637" y="183"/>
                  </a:lnTo>
                  <a:lnTo>
                    <a:pt x="629" y="182"/>
                  </a:lnTo>
                  <a:lnTo>
                    <a:pt x="623" y="182"/>
                  </a:lnTo>
                  <a:lnTo>
                    <a:pt x="614" y="182"/>
                  </a:lnTo>
                  <a:lnTo>
                    <a:pt x="606" y="183"/>
                  </a:lnTo>
                  <a:lnTo>
                    <a:pt x="597" y="187"/>
                  </a:lnTo>
                  <a:lnTo>
                    <a:pt x="589" y="192"/>
                  </a:lnTo>
                  <a:lnTo>
                    <a:pt x="580" y="197"/>
                  </a:lnTo>
                  <a:lnTo>
                    <a:pt x="572" y="204"/>
                  </a:lnTo>
                  <a:lnTo>
                    <a:pt x="563" y="213"/>
                  </a:lnTo>
                  <a:lnTo>
                    <a:pt x="555" y="221"/>
                  </a:lnTo>
                  <a:lnTo>
                    <a:pt x="540" y="240"/>
                  </a:lnTo>
                  <a:lnTo>
                    <a:pt x="527" y="260"/>
                  </a:lnTo>
                  <a:lnTo>
                    <a:pt x="521" y="268"/>
                  </a:lnTo>
                  <a:lnTo>
                    <a:pt x="516" y="277"/>
                  </a:lnTo>
                  <a:lnTo>
                    <a:pt x="511" y="286"/>
                  </a:lnTo>
                  <a:lnTo>
                    <a:pt x="507" y="294"/>
                  </a:lnTo>
                  <a:lnTo>
                    <a:pt x="426" y="949"/>
                  </a:lnTo>
                  <a:lnTo>
                    <a:pt x="427" y="970"/>
                  </a:lnTo>
                  <a:lnTo>
                    <a:pt x="428" y="989"/>
                  </a:lnTo>
                  <a:lnTo>
                    <a:pt x="431" y="1008"/>
                  </a:lnTo>
                  <a:lnTo>
                    <a:pt x="433" y="1025"/>
                  </a:lnTo>
                  <a:lnTo>
                    <a:pt x="436" y="1041"/>
                  </a:lnTo>
                  <a:lnTo>
                    <a:pt x="442" y="1056"/>
                  </a:lnTo>
                  <a:lnTo>
                    <a:pt x="447" y="1072"/>
                  </a:lnTo>
                  <a:lnTo>
                    <a:pt x="453" y="1086"/>
                  </a:lnTo>
                  <a:lnTo>
                    <a:pt x="456" y="1093"/>
                  </a:lnTo>
                  <a:lnTo>
                    <a:pt x="459" y="1098"/>
                  </a:lnTo>
                  <a:lnTo>
                    <a:pt x="463" y="1105"/>
                  </a:lnTo>
                  <a:lnTo>
                    <a:pt x="467" y="1110"/>
                  </a:lnTo>
                  <a:lnTo>
                    <a:pt x="470" y="1114"/>
                  </a:lnTo>
                  <a:lnTo>
                    <a:pt x="475" y="1119"/>
                  </a:lnTo>
                  <a:lnTo>
                    <a:pt x="480" y="1122"/>
                  </a:lnTo>
                  <a:lnTo>
                    <a:pt x="484" y="1126"/>
                  </a:lnTo>
                  <a:lnTo>
                    <a:pt x="493" y="1133"/>
                  </a:lnTo>
                  <a:lnTo>
                    <a:pt x="504" y="1136"/>
                  </a:lnTo>
                  <a:lnTo>
                    <a:pt x="515" y="1140"/>
                  </a:lnTo>
                  <a:lnTo>
                    <a:pt x="527" y="1140"/>
                  </a:lnTo>
                  <a:lnTo>
                    <a:pt x="537" y="1138"/>
                  </a:lnTo>
                  <a:lnTo>
                    <a:pt x="547" y="1136"/>
                  </a:lnTo>
                  <a:lnTo>
                    <a:pt x="557" y="1131"/>
                  </a:lnTo>
                  <a:lnTo>
                    <a:pt x="566" y="1126"/>
                  </a:lnTo>
                  <a:lnTo>
                    <a:pt x="575" y="1117"/>
                  </a:lnTo>
                  <a:lnTo>
                    <a:pt x="585" y="1107"/>
                  </a:lnTo>
                  <a:lnTo>
                    <a:pt x="595" y="1096"/>
                  </a:lnTo>
                  <a:lnTo>
                    <a:pt x="604" y="1082"/>
                  </a:lnTo>
                  <a:lnTo>
                    <a:pt x="613" y="1067"/>
                  </a:lnTo>
                  <a:lnTo>
                    <a:pt x="622" y="1051"/>
                  </a:lnTo>
                  <a:lnTo>
                    <a:pt x="630" y="1034"/>
                  </a:lnTo>
                  <a:lnTo>
                    <a:pt x="639" y="1015"/>
                  </a:lnTo>
                  <a:lnTo>
                    <a:pt x="646" y="994"/>
                  </a:lnTo>
                  <a:lnTo>
                    <a:pt x="654" y="973"/>
                  </a:lnTo>
                  <a:lnTo>
                    <a:pt x="661" y="951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08880" y="4951440"/>
              <a:ext cx="274680" cy="450720"/>
            </a:xfrm>
            <a:custGeom>
              <a:avLst/>
              <a:gdLst/>
              <a:ahLst/>
              <a:rect l="l" t="t" r="r" b="b"/>
              <a:pathLst>
                <a:path w="761" h="1252">
                  <a:moveTo>
                    <a:pt x="760" y="499"/>
                  </a:moveTo>
                  <a:lnTo>
                    <a:pt x="759" y="537"/>
                  </a:lnTo>
                  <a:lnTo>
                    <a:pt x="758" y="574"/>
                  </a:lnTo>
                  <a:lnTo>
                    <a:pt x="756" y="610"/>
                  </a:lnTo>
                  <a:lnTo>
                    <a:pt x="752" y="646"/>
                  </a:lnTo>
                  <a:lnTo>
                    <a:pt x="748" y="681"/>
                  </a:lnTo>
                  <a:lnTo>
                    <a:pt x="742" y="717"/>
                  </a:lnTo>
                  <a:lnTo>
                    <a:pt x="736" y="752"/>
                  </a:lnTo>
                  <a:lnTo>
                    <a:pt x="728" y="787"/>
                  </a:lnTo>
                  <a:lnTo>
                    <a:pt x="720" y="820"/>
                  </a:lnTo>
                  <a:lnTo>
                    <a:pt x="712" y="853"/>
                  </a:lnTo>
                  <a:lnTo>
                    <a:pt x="701" y="884"/>
                  </a:lnTo>
                  <a:lnTo>
                    <a:pt x="691" y="913"/>
                  </a:lnTo>
                  <a:lnTo>
                    <a:pt x="679" y="943"/>
                  </a:lnTo>
                  <a:lnTo>
                    <a:pt x="668" y="970"/>
                  </a:lnTo>
                  <a:lnTo>
                    <a:pt x="654" y="998"/>
                  </a:lnTo>
                  <a:lnTo>
                    <a:pt x="640" y="1024"/>
                  </a:lnTo>
                  <a:lnTo>
                    <a:pt x="624" y="1050"/>
                  </a:lnTo>
                  <a:lnTo>
                    <a:pt x="608" y="1076"/>
                  </a:lnTo>
                  <a:lnTo>
                    <a:pt x="591" y="1099"/>
                  </a:lnTo>
                  <a:lnTo>
                    <a:pt x="574" y="1121"/>
                  </a:lnTo>
                  <a:lnTo>
                    <a:pt x="555" y="1140"/>
                  </a:lnTo>
                  <a:lnTo>
                    <a:pt x="535" y="1159"/>
                  </a:lnTo>
                  <a:lnTo>
                    <a:pt x="516" y="1177"/>
                  </a:lnTo>
                  <a:lnTo>
                    <a:pt x="496" y="1192"/>
                  </a:lnTo>
                  <a:lnTo>
                    <a:pt x="474" y="1206"/>
                  </a:lnTo>
                  <a:lnTo>
                    <a:pt x="453" y="1218"/>
                  </a:lnTo>
                  <a:lnTo>
                    <a:pt x="430" y="1229"/>
                  </a:lnTo>
                  <a:lnTo>
                    <a:pt x="408" y="1237"/>
                  </a:lnTo>
                  <a:lnTo>
                    <a:pt x="384" y="1242"/>
                  </a:lnTo>
                  <a:lnTo>
                    <a:pt x="359" y="1248"/>
                  </a:lnTo>
                  <a:lnTo>
                    <a:pt x="335" y="1249"/>
                  </a:lnTo>
                  <a:lnTo>
                    <a:pt x="309" y="1251"/>
                  </a:lnTo>
                  <a:lnTo>
                    <a:pt x="276" y="1249"/>
                  </a:lnTo>
                  <a:lnTo>
                    <a:pt x="243" y="1242"/>
                  </a:lnTo>
                  <a:lnTo>
                    <a:pt x="213" y="1232"/>
                  </a:lnTo>
                  <a:lnTo>
                    <a:pt x="184" y="1218"/>
                  </a:lnTo>
                  <a:lnTo>
                    <a:pt x="157" y="1199"/>
                  </a:lnTo>
                  <a:lnTo>
                    <a:pt x="132" y="1175"/>
                  </a:lnTo>
                  <a:lnTo>
                    <a:pt x="108" y="1147"/>
                  </a:lnTo>
                  <a:lnTo>
                    <a:pt x="86" y="1116"/>
                  </a:lnTo>
                  <a:lnTo>
                    <a:pt x="76" y="1099"/>
                  </a:lnTo>
                  <a:lnTo>
                    <a:pt x="66" y="1081"/>
                  </a:lnTo>
                  <a:lnTo>
                    <a:pt x="57" y="1062"/>
                  </a:lnTo>
                  <a:lnTo>
                    <a:pt x="49" y="1041"/>
                  </a:lnTo>
                  <a:lnTo>
                    <a:pt x="41" y="1022"/>
                  </a:lnTo>
                  <a:lnTo>
                    <a:pt x="34" y="1000"/>
                  </a:lnTo>
                  <a:lnTo>
                    <a:pt x="27" y="979"/>
                  </a:lnTo>
                  <a:lnTo>
                    <a:pt x="22" y="957"/>
                  </a:lnTo>
                  <a:lnTo>
                    <a:pt x="16" y="932"/>
                  </a:lnTo>
                  <a:lnTo>
                    <a:pt x="12" y="908"/>
                  </a:lnTo>
                  <a:lnTo>
                    <a:pt x="9" y="884"/>
                  </a:lnTo>
                  <a:lnTo>
                    <a:pt x="5" y="858"/>
                  </a:lnTo>
                  <a:lnTo>
                    <a:pt x="4" y="832"/>
                  </a:lnTo>
                  <a:lnTo>
                    <a:pt x="2" y="804"/>
                  </a:lnTo>
                  <a:lnTo>
                    <a:pt x="0" y="747"/>
                  </a:lnTo>
                  <a:lnTo>
                    <a:pt x="1" y="707"/>
                  </a:lnTo>
                  <a:lnTo>
                    <a:pt x="2" y="669"/>
                  </a:lnTo>
                  <a:lnTo>
                    <a:pt x="5" y="631"/>
                  </a:lnTo>
                  <a:lnTo>
                    <a:pt x="9" y="594"/>
                  </a:lnTo>
                  <a:lnTo>
                    <a:pt x="13" y="558"/>
                  </a:lnTo>
                  <a:lnTo>
                    <a:pt x="19" y="522"/>
                  </a:lnTo>
                  <a:lnTo>
                    <a:pt x="25" y="487"/>
                  </a:lnTo>
                  <a:lnTo>
                    <a:pt x="33" y="452"/>
                  </a:lnTo>
                  <a:lnTo>
                    <a:pt x="41" y="419"/>
                  </a:lnTo>
                  <a:lnTo>
                    <a:pt x="50" y="387"/>
                  </a:lnTo>
                  <a:lnTo>
                    <a:pt x="61" y="355"/>
                  </a:lnTo>
                  <a:lnTo>
                    <a:pt x="72" y="326"/>
                  </a:lnTo>
                  <a:lnTo>
                    <a:pt x="83" y="296"/>
                  </a:lnTo>
                  <a:lnTo>
                    <a:pt x="95" y="269"/>
                  </a:lnTo>
                  <a:lnTo>
                    <a:pt x="109" y="241"/>
                  </a:lnTo>
                  <a:lnTo>
                    <a:pt x="122" y="215"/>
                  </a:lnTo>
                  <a:lnTo>
                    <a:pt x="137" y="191"/>
                  </a:lnTo>
                  <a:lnTo>
                    <a:pt x="153" y="168"/>
                  </a:lnTo>
                  <a:lnTo>
                    <a:pt x="169" y="147"/>
                  </a:lnTo>
                  <a:lnTo>
                    <a:pt x="187" y="127"/>
                  </a:lnTo>
                  <a:lnTo>
                    <a:pt x="204" y="108"/>
                  </a:lnTo>
                  <a:lnTo>
                    <a:pt x="223" y="90"/>
                  </a:lnTo>
                  <a:lnTo>
                    <a:pt x="243" y="73"/>
                  </a:lnTo>
                  <a:lnTo>
                    <a:pt x="263" y="57"/>
                  </a:lnTo>
                  <a:lnTo>
                    <a:pt x="284" y="44"/>
                  </a:lnTo>
                  <a:lnTo>
                    <a:pt x="305" y="33"/>
                  </a:lnTo>
                  <a:lnTo>
                    <a:pt x="327" y="23"/>
                  </a:lnTo>
                  <a:lnTo>
                    <a:pt x="350" y="14"/>
                  </a:lnTo>
                  <a:lnTo>
                    <a:pt x="373" y="9"/>
                  </a:lnTo>
                  <a:lnTo>
                    <a:pt x="396" y="4"/>
                  </a:lnTo>
                  <a:lnTo>
                    <a:pt x="419" y="2"/>
                  </a:lnTo>
                  <a:lnTo>
                    <a:pt x="443" y="0"/>
                  </a:lnTo>
                  <a:lnTo>
                    <a:pt x="479" y="2"/>
                  </a:lnTo>
                  <a:lnTo>
                    <a:pt x="513" y="9"/>
                  </a:lnTo>
                  <a:lnTo>
                    <a:pt x="545" y="19"/>
                  </a:lnTo>
                  <a:lnTo>
                    <a:pt x="574" y="33"/>
                  </a:lnTo>
                  <a:lnTo>
                    <a:pt x="602" y="52"/>
                  </a:lnTo>
                  <a:lnTo>
                    <a:pt x="629" y="75"/>
                  </a:lnTo>
                  <a:lnTo>
                    <a:pt x="653" y="101"/>
                  </a:lnTo>
                  <a:lnTo>
                    <a:pt x="664" y="116"/>
                  </a:lnTo>
                  <a:lnTo>
                    <a:pt x="675" y="132"/>
                  </a:lnTo>
                  <a:lnTo>
                    <a:pt x="685" y="149"/>
                  </a:lnTo>
                  <a:lnTo>
                    <a:pt x="695" y="167"/>
                  </a:lnTo>
                  <a:lnTo>
                    <a:pt x="704" y="186"/>
                  </a:lnTo>
                  <a:lnTo>
                    <a:pt x="712" y="205"/>
                  </a:lnTo>
                  <a:lnTo>
                    <a:pt x="720" y="224"/>
                  </a:lnTo>
                  <a:lnTo>
                    <a:pt x="727" y="244"/>
                  </a:lnTo>
                  <a:lnTo>
                    <a:pt x="733" y="267"/>
                  </a:lnTo>
                  <a:lnTo>
                    <a:pt x="739" y="290"/>
                  </a:lnTo>
                  <a:lnTo>
                    <a:pt x="744" y="312"/>
                  </a:lnTo>
                  <a:lnTo>
                    <a:pt x="748" y="336"/>
                  </a:lnTo>
                  <a:lnTo>
                    <a:pt x="751" y="362"/>
                  </a:lnTo>
                  <a:lnTo>
                    <a:pt x="755" y="388"/>
                  </a:lnTo>
                  <a:lnTo>
                    <a:pt x="757" y="414"/>
                  </a:lnTo>
                  <a:lnTo>
                    <a:pt x="758" y="442"/>
                  </a:lnTo>
                  <a:close/>
                  <a:moveTo>
                    <a:pt x="531" y="364"/>
                  </a:moveTo>
                  <a:lnTo>
                    <a:pt x="531" y="329"/>
                  </a:lnTo>
                  <a:lnTo>
                    <a:pt x="530" y="298"/>
                  </a:lnTo>
                  <a:lnTo>
                    <a:pt x="528" y="270"/>
                  </a:lnTo>
                  <a:lnTo>
                    <a:pt x="525" y="243"/>
                  </a:lnTo>
                  <a:lnTo>
                    <a:pt x="521" y="218"/>
                  </a:lnTo>
                  <a:lnTo>
                    <a:pt x="517" y="196"/>
                  </a:lnTo>
                  <a:lnTo>
                    <a:pt x="514" y="187"/>
                  </a:lnTo>
                  <a:lnTo>
                    <a:pt x="512" y="177"/>
                  </a:lnTo>
                  <a:lnTo>
                    <a:pt x="509" y="168"/>
                  </a:lnTo>
                  <a:lnTo>
                    <a:pt x="506" y="160"/>
                  </a:lnTo>
                  <a:lnTo>
                    <a:pt x="502" y="151"/>
                  </a:lnTo>
                  <a:lnTo>
                    <a:pt x="499" y="144"/>
                  </a:lnTo>
                  <a:lnTo>
                    <a:pt x="495" y="137"/>
                  </a:lnTo>
                  <a:lnTo>
                    <a:pt x="491" y="132"/>
                  </a:lnTo>
                  <a:lnTo>
                    <a:pt x="487" y="125"/>
                  </a:lnTo>
                  <a:lnTo>
                    <a:pt x="483" y="120"/>
                  </a:lnTo>
                  <a:lnTo>
                    <a:pt x="479" y="115"/>
                  </a:lnTo>
                  <a:lnTo>
                    <a:pt x="474" y="111"/>
                  </a:lnTo>
                  <a:lnTo>
                    <a:pt x="469" y="106"/>
                  </a:lnTo>
                  <a:lnTo>
                    <a:pt x="464" y="102"/>
                  </a:lnTo>
                  <a:lnTo>
                    <a:pt x="459" y="101"/>
                  </a:lnTo>
                  <a:lnTo>
                    <a:pt x="454" y="97"/>
                  </a:lnTo>
                  <a:lnTo>
                    <a:pt x="443" y="95"/>
                  </a:lnTo>
                  <a:lnTo>
                    <a:pt x="431" y="94"/>
                  </a:lnTo>
                  <a:lnTo>
                    <a:pt x="419" y="95"/>
                  </a:lnTo>
                  <a:lnTo>
                    <a:pt x="407" y="99"/>
                  </a:lnTo>
                  <a:lnTo>
                    <a:pt x="395" y="104"/>
                  </a:lnTo>
                  <a:lnTo>
                    <a:pt x="383" y="113"/>
                  </a:lnTo>
                  <a:lnTo>
                    <a:pt x="371" y="121"/>
                  </a:lnTo>
                  <a:lnTo>
                    <a:pt x="360" y="135"/>
                  </a:lnTo>
                  <a:lnTo>
                    <a:pt x="350" y="149"/>
                  </a:lnTo>
                  <a:lnTo>
                    <a:pt x="339" y="167"/>
                  </a:lnTo>
                  <a:lnTo>
                    <a:pt x="329" y="186"/>
                  </a:lnTo>
                  <a:lnTo>
                    <a:pt x="320" y="208"/>
                  </a:lnTo>
                  <a:lnTo>
                    <a:pt x="310" y="231"/>
                  </a:lnTo>
                  <a:lnTo>
                    <a:pt x="302" y="257"/>
                  </a:lnTo>
                  <a:lnTo>
                    <a:pt x="293" y="284"/>
                  </a:lnTo>
                  <a:lnTo>
                    <a:pt x="286" y="316"/>
                  </a:lnTo>
                  <a:lnTo>
                    <a:pt x="278" y="347"/>
                  </a:lnTo>
                  <a:lnTo>
                    <a:pt x="271" y="381"/>
                  </a:lnTo>
                  <a:lnTo>
                    <a:pt x="260" y="442"/>
                  </a:lnTo>
                  <a:lnTo>
                    <a:pt x="252" y="504"/>
                  </a:lnTo>
                  <a:lnTo>
                    <a:pt x="244" y="570"/>
                  </a:lnTo>
                  <a:lnTo>
                    <a:pt x="239" y="638"/>
                  </a:lnTo>
                  <a:lnTo>
                    <a:pt x="235" y="705"/>
                  </a:lnTo>
                  <a:lnTo>
                    <a:pt x="232" y="768"/>
                  </a:lnTo>
                  <a:lnTo>
                    <a:pt x="230" y="828"/>
                  </a:lnTo>
                  <a:lnTo>
                    <a:pt x="229" y="884"/>
                  </a:lnTo>
                  <a:lnTo>
                    <a:pt x="229" y="918"/>
                  </a:lnTo>
                  <a:lnTo>
                    <a:pt x="231" y="951"/>
                  </a:lnTo>
                  <a:lnTo>
                    <a:pt x="232" y="981"/>
                  </a:lnTo>
                  <a:lnTo>
                    <a:pt x="236" y="1008"/>
                  </a:lnTo>
                  <a:lnTo>
                    <a:pt x="239" y="1033"/>
                  </a:lnTo>
                  <a:lnTo>
                    <a:pt x="242" y="1045"/>
                  </a:lnTo>
                  <a:lnTo>
                    <a:pt x="243" y="1055"/>
                  </a:lnTo>
                  <a:lnTo>
                    <a:pt x="246" y="1066"/>
                  </a:lnTo>
                  <a:lnTo>
                    <a:pt x="249" y="1076"/>
                  </a:lnTo>
                  <a:lnTo>
                    <a:pt x="252" y="1085"/>
                  </a:lnTo>
                  <a:lnTo>
                    <a:pt x="255" y="1093"/>
                  </a:lnTo>
                  <a:lnTo>
                    <a:pt x="259" y="1102"/>
                  </a:lnTo>
                  <a:lnTo>
                    <a:pt x="262" y="1109"/>
                  </a:lnTo>
                  <a:lnTo>
                    <a:pt x="265" y="1116"/>
                  </a:lnTo>
                  <a:lnTo>
                    <a:pt x="270" y="1121"/>
                  </a:lnTo>
                  <a:lnTo>
                    <a:pt x="274" y="1128"/>
                  </a:lnTo>
                  <a:lnTo>
                    <a:pt x="278" y="1133"/>
                  </a:lnTo>
                  <a:lnTo>
                    <a:pt x="282" y="1137"/>
                  </a:lnTo>
                  <a:lnTo>
                    <a:pt x="287" y="1142"/>
                  </a:lnTo>
                  <a:lnTo>
                    <a:pt x="292" y="1145"/>
                  </a:lnTo>
                  <a:lnTo>
                    <a:pt x="297" y="1149"/>
                  </a:lnTo>
                  <a:lnTo>
                    <a:pt x="302" y="1151"/>
                  </a:lnTo>
                  <a:lnTo>
                    <a:pt x="307" y="1154"/>
                  </a:lnTo>
                  <a:lnTo>
                    <a:pt x="319" y="1156"/>
                  </a:lnTo>
                  <a:lnTo>
                    <a:pt x="331" y="1157"/>
                  </a:lnTo>
                  <a:lnTo>
                    <a:pt x="343" y="1156"/>
                  </a:lnTo>
                  <a:lnTo>
                    <a:pt x="356" y="1152"/>
                  </a:lnTo>
                  <a:lnTo>
                    <a:pt x="363" y="1151"/>
                  </a:lnTo>
                  <a:lnTo>
                    <a:pt x="369" y="1147"/>
                  </a:lnTo>
                  <a:lnTo>
                    <a:pt x="375" y="1142"/>
                  </a:lnTo>
                  <a:lnTo>
                    <a:pt x="381" y="1138"/>
                  </a:lnTo>
                  <a:lnTo>
                    <a:pt x="386" y="1133"/>
                  </a:lnTo>
                  <a:lnTo>
                    <a:pt x="392" y="1126"/>
                  </a:lnTo>
                  <a:lnTo>
                    <a:pt x="403" y="1112"/>
                  </a:lnTo>
                  <a:lnTo>
                    <a:pt x="413" y="1097"/>
                  </a:lnTo>
                  <a:lnTo>
                    <a:pt x="423" y="1078"/>
                  </a:lnTo>
                  <a:lnTo>
                    <a:pt x="432" y="1057"/>
                  </a:lnTo>
                  <a:lnTo>
                    <a:pt x="441" y="1034"/>
                  </a:lnTo>
                  <a:lnTo>
                    <a:pt x="450" y="1012"/>
                  </a:lnTo>
                  <a:lnTo>
                    <a:pt x="458" y="988"/>
                  </a:lnTo>
                  <a:lnTo>
                    <a:pt x="465" y="963"/>
                  </a:lnTo>
                  <a:lnTo>
                    <a:pt x="472" y="936"/>
                  </a:lnTo>
                  <a:lnTo>
                    <a:pt x="479" y="910"/>
                  </a:lnTo>
                  <a:lnTo>
                    <a:pt x="485" y="880"/>
                  </a:lnTo>
                  <a:lnTo>
                    <a:pt x="496" y="821"/>
                  </a:lnTo>
                  <a:lnTo>
                    <a:pt x="505" y="761"/>
                  </a:lnTo>
                  <a:lnTo>
                    <a:pt x="513" y="695"/>
                  </a:lnTo>
                  <a:lnTo>
                    <a:pt x="519" y="627"/>
                  </a:lnTo>
                  <a:lnTo>
                    <a:pt x="524" y="560"/>
                  </a:lnTo>
                  <a:lnTo>
                    <a:pt x="528" y="492"/>
                  </a:lnTo>
                  <a:lnTo>
                    <a:pt x="530" y="42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85000" y="4952880"/>
              <a:ext cx="255600" cy="451080"/>
            </a:xfrm>
            <a:custGeom>
              <a:avLst/>
              <a:gdLst/>
              <a:ahLst/>
              <a:rect l="l" t="t" r="r" b="b"/>
              <a:pathLst>
                <a:path w="711" h="1251">
                  <a:moveTo>
                    <a:pt x="710" y="253"/>
                  </a:moveTo>
                  <a:lnTo>
                    <a:pt x="710" y="270"/>
                  </a:lnTo>
                  <a:lnTo>
                    <a:pt x="709" y="287"/>
                  </a:lnTo>
                  <a:lnTo>
                    <a:pt x="708" y="303"/>
                  </a:lnTo>
                  <a:lnTo>
                    <a:pt x="707" y="318"/>
                  </a:lnTo>
                  <a:lnTo>
                    <a:pt x="705" y="334"/>
                  </a:lnTo>
                  <a:lnTo>
                    <a:pt x="703" y="350"/>
                  </a:lnTo>
                  <a:lnTo>
                    <a:pt x="700" y="363"/>
                  </a:lnTo>
                  <a:lnTo>
                    <a:pt x="697" y="377"/>
                  </a:lnTo>
                  <a:lnTo>
                    <a:pt x="693" y="391"/>
                  </a:lnTo>
                  <a:lnTo>
                    <a:pt x="689" y="403"/>
                  </a:lnTo>
                  <a:lnTo>
                    <a:pt x="685" y="415"/>
                  </a:lnTo>
                  <a:lnTo>
                    <a:pt x="680" y="428"/>
                  </a:lnTo>
                  <a:lnTo>
                    <a:pt x="675" y="438"/>
                  </a:lnTo>
                  <a:lnTo>
                    <a:pt x="669" y="450"/>
                  </a:lnTo>
                  <a:lnTo>
                    <a:pt x="663" y="459"/>
                  </a:lnTo>
                  <a:lnTo>
                    <a:pt x="656" y="469"/>
                  </a:lnTo>
                  <a:lnTo>
                    <a:pt x="642" y="488"/>
                  </a:lnTo>
                  <a:lnTo>
                    <a:pt x="626" y="504"/>
                  </a:lnTo>
                  <a:lnTo>
                    <a:pt x="609" y="519"/>
                  </a:lnTo>
                  <a:lnTo>
                    <a:pt x="590" y="533"/>
                  </a:lnTo>
                  <a:lnTo>
                    <a:pt x="570" y="545"/>
                  </a:lnTo>
                  <a:lnTo>
                    <a:pt x="548" y="556"/>
                  </a:lnTo>
                  <a:lnTo>
                    <a:pt x="524" y="564"/>
                  </a:lnTo>
                  <a:lnTo>
                    <a:pt x="499" y="571"/>
                  </a:lnTo>
                  <a:lnTo>
                    <a:pt x="499" y="584"/>
                  </a:lnTo>
                  <a:lnTo>
                    <a:pt x="519" y="585"/>
                  </a:lnTo>
                  <a:lnTo>
                    <a:pt x="537" y="589"/>
                  </a:lnTo>
                  <a:lnTo>
                    <a:pt x="556" y="594"/>
                  </a:lnTo>
                  <a:lnTo>
                    <a:pt x="574" y="603"/>
                  </a:lnTo>
                  <a:lnTo>
                    <a:pt x="591" y="611"/>
                  </a:lnTo>
                  <a:lnTo>
                    <a:pt x="607" y="623"/>
                  </a:lnTo>
                  <a:lnTo>
                    <a:pt x="623" y="635"/>
                  </a:lnTo>
                  <a:lnTo>
                    <a:pt x="637" y="651"/>
                  </a:lnTo>
                  <a:lnTo>
                    <a:pt x="644" y="660"/>
                  </a:lnTo>
                  <a:lnTo>
                    <a:pt x="651" y="668"/>
                  </a:lnTo>
                  <a:lnTo>
                    <a:pt x="657" y="677"/>
                  </a:lnTo>
                  <a:lnTo>
                    <a:pt x="662" y="687"/>
                  </a:lnTo>
                  <a:lnTo>
                    <a:pt x="667" y="698"/>
                  </a:lnTo>
                  <a:lnTo>
                    <a:pt x="672" y="708"/>
                  </a:lnTo>
                  <a:lnTo>
                    <a:pt x="676" y="719"/>
                  </a:lnTo>
                  <a:lnTo>
                    <a:pt x="680" y="731"/>
                  </a:lnTo>
                  <a:lnTo>
                    <a:pt x="683" y="741"/>
                  </a:lnTo>
                  <a:lnTo>
                    <a:pt x="686" y="755"/>
                  </a:lnTo>
                  <a:lnTo>
                    <a:pt x="689" y="767"/>
                  </a:lnTo>
                  <a:lnTo>
                    <a:pt x="691" y="779"/>
                  </a:lnTo>
                  <a:lnTo>
                    <a:pt x="692" y="793"/>
                  </a:lnTo>
                  <a:lnTo>
                    <a:pt x="693" y="807"/>
                  </a:lnTo>
                  <a:lnTo>
                    <a:pt x="694" y="821"/>
                  </a:lnTo>
                  <a:lnTo>
                    <a:pt x="694" y="836"/>
                  </a:lnTo>
                  <a:lnTo>
                    <a:pt x="694" y="861"/>
                  </a:lnTo>
                  <a:lnTo>
                    <a:pt x="692" y="885"/>
                  </a:lnTo>
                  <a:lnTo>
                    <a:pt x="691" y="907"/>
                  </a:lnTo>
                  <a:lnTo>
                    <a:pt x="688" y="930"/>
                  </a:lnTo>
                  <a:lnTo>
                    <a:pt x="685" y="951"/>
                  </a:lnTo>
                  <a:lnTo>
                    <a:pt x="681" y="972"/>
                  </a:lnTo>
                  <a:lnTo>
                    <a:pt x="675" y="992"/>
                  </a:lnTo>
                  <a:lnTo>
                    <a:pt x="670" y="1011"/>
                  </a:lnTo>
                  <a:lnTo>
                    <a:pt x="663" y="1030"/>
                  </a:lnTo>
                  <a:lnTo>
                    <a:pt x="656" y="1050"/>
                  </a:lnTo>
                  <a:lnTo>
                    <a:pt x="648" y="1067"/>
                  </a:lnTo>
                  <a:lnTo>
                    <a:pt x="639" y="1082"/>
                  </a:lnTo>
                  <a:lnTo>
                    <a:pt x="629" y="1100"/>
                  </a:lnTo>
                  <a:lnTo>
                    <a:pt x="619" y="1114"/>
                  </a:lnTo>
                  <a:lnTo>
                    <a:pt x="608" y="1129"/>
                  </a:lnTo>
                  <a:lnTo>
                    <a:pt x="596" y="1143"/>
                  </a:lnTo>
                  <a:lnTo>
                    <a:pt x="570" y="1167"/>
                  </a:lnTo>
                  <a:lnTo>
                    <a:pt x="542" y="1190"/>
                  </a:lnTo>
                  <a:lnTo>
                    <a:pt x="510" y="1209"/>
                  </a:lnTo>
                  <a:lnTo>
                    <a:pt x="477" y="1223"/>
                  </a:lnTo>
                  <a:lnTo>
                    <a:pt x="440" y="1235"/>
                  </a:lnTo>
                  <a:lnTo>
                    <a:pt x="400" y="1244"/>
                  </a:lnTo>
                  <a:lnTo>
                    <a:pt x="359" y="1249"/>
                  </a:lnTo>
                  <a:lnTo>
                    <a:pt x="314" y="1250"/>
                  </a:lnTo>
                  <a:lnTo>
                    <a:pt x="276" y="1249"/>
                  </a:lnTo>
                  <a:lnTo>
                    <a:pt x="239" y="1244"/>
                  </a:lnTo>
                  <a:lnTo>
                    <a:pt x="206" y="1233"/>
                  </a:lnTo>
                  <a:lnTo>
                    <a:pt x="176" y="1221"/>
                  </a:lnTo>
                  <a:lnTo>
                    <a:pt x="147" y="1204"/>
                  </a:lnTo>
                  <a:lnTo>
                    <a:pt x="122" y="1185"/>
                  </a:lnTo>
                  <a:lnTo>
                    <a:pt x="110" y="1173"/>
                  </a:lnTo>
                  <a:lnTo>
                    <a:pt x="98" y="1160"/>
                  </a:lnTo>
                  <a:lnTo>
                    <a:pt x="88" y="1147"/>
                  </a:lnTo>
                  <a:lnTo>
                    <a:pt x="78" y="1133"/>
                  </a:lnTo>
                  <a:lnTo>
                    <a:pt x="68" y="1117"/>
                  </a:lnTo>
                  <a:lnTo>
                    <a:pt x="60" y="1100"/>
                  </a:lnTo>
                  <a:lnTo>
                    <a:pt x="52" y="1082"/>
                  </a:lnTo>
                  <a:lnTo>
                    <a:pt x="44" y="1063"/>
                  </a:lnTo>
                  <a:lnTo>
                    <a:pt x="37" y="1043"/>
                  </a:lnTo>
                  <a:lnTo>
                    <a:pt x="30" y="1022"/>
                  </a:lnTo>
                  <a:lnTo>
                    <a:pt x="24" y="998"/>
                  </a:lnTo>
                  <a:lnTo>
                    <a:pt x="19" y="975"/>
                  </a:lnTo>
                  <a:lnTo>
                    <a:pt x="15" y="949"/>
                  </a:lnTo>
                  <a:lnTo>
                    <a:pt x="11" y="923"/>
                  </a:lnTo>
                  <a:lnTo>
                    <a:pt x="8" y="895"/>
                  </a:lnTo>
                  <a:lnTo>
                    <a:pt x="5" y="866"/>
                  </a:lnTo>
                  <a:lnTo>
                    <a:pt x="1" y="804"/>
                  </a:lnTo>
                  <a:lnTo>
                    <a:pt x="0" y="738"/>
                  </a:lnTo>
                  <a:lnTo>
                    <a:pt x="0" y="700"/>
                  </a:lnTo>
                  <a:lnTo>
                    <a:pt x="2" y="663"/>
                  </a:lnTo>
                  <a:lnTo>
                    <a:pt x="3" y="627"/>
                  </a:lnTo>
                  <a:lnTo>
                    <a:pt x="7" y="592"/>
                  </a:lnTo>
                  <a:lnTo>
                    <a:pt x="10" y="558"/>
                  </a:lnTo>
                  <a:lnTo>
                    <a:pt x="14" y="523"/>
                  </a:lnTo>
                  <a:lnTo>
                    <a:pt x="20" y="488"/>
                  </a:lnTo>
                  <a:lnTo>
                    <a:pt x="26" y="455"/>
                  </a:lnTo>
                  <a:lnTo>
                    <a:pt x="33" y="422"/>
                  </a:lnTo>
                  <a:lnTo>
                    <a:pt x="41" y="391"/>
                  </a:lnTo>
                  <a:lnTo>
                    <a:pt x="50" y="360"/>
                  </a:lnTo>
                  <a:lnTo>
                    <a:pt x="59" y="331"/>
                  </a:lnTo>
                  <a:lnTo>
                    <a:pt x="70" y="301"/>
                  </a:lnTo>
                  <a:lnTo>
                    <a:pt x="81" y="273"/>
                  </a:lnTo>
                  <a:lnTo>
                    <a:pt x="94" y="246"/>
                  </a:lnTo>
                  <a:lnTo>
                    <a:pt x="107" y="220"/>
                  </a:lnTo>
                  <a:lnTo>
                    <a:pt x="122" y="195"/>
                  </a:lnTo>
                  <a:lnTo>
                    <a:pt x="137" y="171"/>
                  </a:lnTo>
                  <a:lnTo>
                    <a:pt x="153" y="150"/>
                  </a:lnTo>
                  <a:lnTo>
                    <a:pt x="171" y="130"/>
                  </a:lnTo>
                  <a:lnTo>
                    <a:pt x="189" y="109"/>
                  </a:lnTo>
                  <a:lnTo>
                    <a:pt x="208" y="91"/>
                  </a:lnTo>
                  <a:lnTo>
                    <a:pt x="228" y="74"/>
                  </a:lnTo>
                  <a:lnTo>
                    <a:pt x="250" y="59"/>
                  </a:lnTo>
                  <a:lnTo>
                    <a:pt x="272" y="45"/>
                  </a:lnTo>
                  <a:lnTo>
                    <a:pt x="294" y="33"/>
                  </a:lnTo>
                  <a:lnTo>
                    <a:pt x="319" y="22"/>
                  </a:lnTo>
                  <a:lnTo>
                    <a:pt x="344" y="14"/>
                  </a:lnTo>
                  <a:lnTo>
                    <a:pt x="370" y="8"/>
                  </a:lnTo>
                  <a:lnTo>
                    <a:pt x="397" y="3"/>
                  </a:lnTo>
                  <a:lnTo>
                    <a:pt x="425" y="1"/>
                  </a:lnTo>
                  <a:lnTo>
                    <a:pt x="454" y="0"/>
                  </a:lnTo>
                  <a:lnTo>
                    <a:pt x="483" y="1"/>
                  </a:lnTo>
                  <a:lnTo>
                    <a:pt x="512" y="3"/>
                  </a:lnTo>
                  <a:lnTo>
                    <a:pt x="538" y="8"/>
                  </a:lnTo>
                  <a:lnTo>
                    <a:pt x="563" y="17"/>
                  </a:lnTo>
                  <a:lnTo>
                    <a:pt x="586" y="26"/>
                  </a:lnTo>
                  <a:lnTo>
                    <a:pt x="607" y="38"/>
                  </a:lnTo>
                  <a:lnTo>
                    <a:pt x="626" y="50"/>
                  </a:lnTo>
                  <a:lnTo>
                    <a:pt x="643" y="66"/>
                  </a:lnTo>
                  <a:lnTo>
                    <a:pt x="659" y="83"/>
                  </a:lnTo>
                  <a:lnTo>
                    <a:pt x="666" y="91"/>
                  </a:lnTo>
                  <a:lnTo>
                    <a:pt x="673" y="102"/>
                  </a:lnTo>
                  <a:lnTo>
                    <a:pt x="679" y="112"/>
                  </a:lnTo>
                  <a:lnTo>
                    <a:pt x="684" y="123"/>
                  </a:lnTo>
                  <a:lnTo>
                    <a:pt x="689" y="133"/>
                  </a:lnTo>
                  <a:lnTo>
                    <a:pt x="693" y="145"/>
                  </a:lnTo>
                  <a:lnTo>
                    <a:pt x="697" y="157"/>
                  </a:lnTo>
                  <a:lnTo>
                    <a:pt x="701" y="169"/>
                  </a:lnTo>
                  <a:lnTo>
                    <a:pt x="703" y="182"/>
                  </a:lnTo>
                  <a:lnTo>
                    <a:pt x="706" y="195"/>
                  </a:lnTo>
                  <a:lnTo>
                    <a:pt x="708" y="209"/>
                  </a:lnTo>
                  <a:lnTo>
                    <a:pt x="709" y="223"/>
                  </a:lnTo>
                  <a:lnTo>
                    <a:pt x="710" y="237"/>
                  </a:lnTo>
                  <a:close/>
                  <a:moveTo>
                    <a:pt x="483" y="266"/>
                  </a:moveTo>
                  <a:lnTo>
                    <a:pt x="483" y="246"/>
                  </a:lnTo>
                  <a:lnTo>
                    <a:pt x="482" y="227"/>
                  </a:lnTo>
                  <a:lnTo>
                    <a:pt x="481" y="209"/>
                  </a:lnTo>
                  <a:lnTo>
                    <a:pt x="479" y="192"/>
                  </a:lnTo>
                  <a:lnTo>
                    <a:pt x="477" y="176"/>
                  </a:lnTo>
                  <a:lnTo>
                    <a:pt x="473" y="163"/>
                  </a:lnTo>
                  <a:lnTo>
                    <a:pt x="471" y="156"/>
                  </a:lnTo>
                  <a:lnTo>
                    <a:pt x="470" y="150"/>
                  </a:lnTo>
                  <a:lnTo>
                    <a:pt x="468" y="143"/>
                  </a:lnTo>
                  <a:lnTo>
                    <a:pt x="466" y="138"/>
                  </a:lnTo>
                  <a:lnTo>
                    <a:pt x="463" y="133"/>
                  </a:lnTo>
                  <a:lnTo>
                    <a:pt x="460" y="128"/>
                  </a:lnTo>
                  <a:lnTo>
                    <a:pt x="458" y="123"/>
                  </a:lnTo>
                  <a:lnTo>
                    <a:pt x="455" y="119"/>
                  </a:lnTo>
                  <a:lnTo>
                    <a:pt x="452" y="114"/>
                  </a:lnTo>
                  <a:lnTo>
                    <a:pt x="449" y="111"/>
                  </a:lnTo>
                  <a:lnTo>
                    <a:pt x="445" y="107"/>
                  </a:lnTo>
                  <a:lnTo>
                    <a:pt x="442" y="105"/>
                  </a:lnTo>
                  <a:lnTo>
                    <a:pt x="438" y="102"/>
                  </a:lnTo>
                  <a:lnTo>
                    <a:pt x="435" y="100"/>
                  </a:lnTo>
                  <a:lnTo>
                    <a:pt x="427" y="97"/>
                  </a:lnTo>
                  <a:lnTo>
                    <a:pt x="419" y="93"/>
                  </a:lnTo>
                  <a:lnTo>
                    <a:pt x="410" y="93"/>
                  </a:lnTo>
                  <a:lnTo>
                    <a:pt x="400" y="93"/>
                  </a:lnTo>
                  <a:lnTo>
                    <a:pt x="391" y="95"/>
                  </a:lnTo>
                  <a:lnTo>
                    <a:pt x="383" y="98"/>
                  </a:lnTo>
                  <a:lnTo>
                    <a:pt x="374" y="102"/>
                  </a:lnTo>
                  <a:lnTo>
                    <a:pt x="366" y="105"/>
                  </a:lnTo>
                  <a:lnTo>
                    <a:pt x="358" y="111"/>
                  </a:lnTo>
                  <a:lnTo>
                    <a:pt x="350" y="117"/>
                  </a:lnTo>
                  <a:lnTo>
                    <a:pt x="342" y="124"/>
                  </a:lnTo>
                  <a:lnTo>
                    <a:pt x="335" y="133"/>
                  </a:lnTo>
                  <a:lnTo>
                    <a:pt x="328" y="142"/>
                  </a:lnTo>
                  <a:lnTo>
                    <a:pt x="321" y="152"/>
                  </a:lnTo>
                  <a:lnTo>
                    <a:pt x="314" y="164"/>
                  </a:lnTo>
                  <a:lnTo>
                    <a:pt x="307" y="176"/>
                  </a:lnTo>
                  <a:lnTo>
                    <a:pt x="301" y="189"/>
                  </a:lnTo>
                  <a:lnTo>
                    <a:pt x="295" y="202"/>
                  </a:lnTo>
                  <a:lnTo>
                    <a:pt x="289" y="218"/>
                  </a:lnTo>
                  <a:lnTo>
                    <a:pt x="278" y="251"/>
                  </a:lnTo>
                  <a:lnTo>
                    <a:pt x="268" y="287"/>
                  </a:lnTo>
                  <a:lnTo>
                    <a:pt x="260" y="325"/>
                  </a:lnTo>
                  <a:lnTo>
                    <a:pt x="252" y="369"/>
                  </a:lnTo>
                  <a:lnTo>
                    <a:pt x="245" y="414"/>
                  </a:lnTo>
                  <a:lnTo>
                    <a:pt x="239" y="464"/>
                  </a:lnTo>
                  <a:lnTo>
                    <a:pt x="235" y="516"/>
                  </a:lnTo>
                  <a:lnTo>
                    <a:pt x="232" y="571"/>
                  </a:lnTo>
                  <a:lnTo>
                    <a:pt x="319" y="547"/>
                  </a:lnTo>
                  <a:lnTo>
                    <a:pt x="343" y="538"/>
                  </a:lnTo>
                  <a:lnTo>
                    <a:pt x="365" y="530"/>
                  </a:lnTo>
                  <a:lnTo>
                    <a:pt x="384" y="519"/>
                  </a:lnTo>
                  <a:lnTo>
                    <a:pt x="402" y="507"/>
                  </a:lnTo>
                  <a:lnTo>
                    <a:pt x="417" y="495"/>
                  </a:lnTo>
                  <a:lnTo>
                    <a:pt x="425" y="488"/>
                  </a:lnTo>
                  <a:lnTo>
                    <a:pt x="431" y="480"/>
                  </a:lnTo>
                  <a:lnTo>
                    <a:pt x="437" y="473"/>
                  </a:lnTo>
                  <a:lnTo>
                    <a:pt x="442" y="464"/>
                  </a:lnTo>
                  <a:lnTo>
                    <a:pt x="447" y="455"/>
                  </a:lnTo>
                  <a:lnTo>
                    <a:pt x="451" y="447"/>
                  </a:lnTo>
                  <a:lnTo>
                    <a:pt x="459" y="428"/>
                  </a:lnTo>
                  <a:lnTo>
                    <a:pt x="465" y="409"/>
                  </a:lnTo>
                  <a:lnTo>
                    <a:pt x="471" y="388"/>
                  </a:lnTo>
                  <a:lnTo>
                    <a:pt x="475" y="365"/>
                  </a:lnTo>
                  <a:lnTo>
                    <a:pt x="479" y="343"/>
                  </a:lnTo>
                  <a:lnTo>
                    <a:pt x="482" y="318"/>
                  </a:lnTo>
                  <a:lnTo>
                    <a:pt x="482" y="292"/>
                  </a:lnTo>
                  <a:close/>
                  <a:moveTo>
                    <a:pt x="443" y="1051"/>
                  </a:moveTo>
                  <a:lnTo>
                    <a:pt x="446" y="1039"/>
                  </a:lnTo>
                  <a:lnTo>
                    <a:pt x="449" y="1025"/>
                  </a:lnTo>
                  <a:lnTo>
                    <a:pt x="452" y="1013"/>
                  </a:lnTo>
                  <a:lnTo>
                    <a:pt x="455" y="999"/>
                  </a:lnTo>
                  <a:lnTo>
                    <a:pt x="456" y="987"/>
                  </a:lnTo>
                  <a:lnTo>
                    <a:pt x="458" y="973"/>
                  </a:lnTo>
                  <a:lnTo>
                    <a:pt x="460" y="961"/>
                  </a:lnTo>
                  <a:lnTo>
                    <a:pt x="461" y="947"/>
                  </a:lnTo>
                  <a:lnTo>
                    <a:pt x="463" y="921"/>
                  </a:lnTo>
                  <a:lnTo>
                    <a:pt x="465" y="895"/>
                  </a:lnTo>
                  <a:lnTo>
                    <a:pt x="466" y="869"/>
                  </a:lnTo>
                  <a:lnTo>
                    <a:pt x="466" y="842"/>
                  </a:lnTo>
                  <a:lnTo>
                    <a:pt x="465" y="821"/>
                  </a:lnTo>
                  <a:lnTo>
                    <a:pt x="464" y="800"/>
                  </a:lnTo>
                  <a:lnTo>
                    <a:pt x="461" y="781"/>
                  </a:lnTo>
                  <a:lnTo>
                    <a:pt x="459" y="764"/>
                  </a:lnTo>
                  <a:lnTo>
                    <a:pt x="457" y="755"/>
                  </a:lnTo>
                  <a:lnTo>
                    <a:pt x="455" y="746"/>
                  </a:lnTo>
                  <a:lnTo>
                    <a:pt x="450" y="729"/>
                  </a:lnTo>
                  <a:lnTo>
                    <a:pt x="444" y="713"/>
                  </a:lnTo>
                  <a:lnTo>
                    <a:pt x="438" y="700"/>
                  </a:lnTo>
                  <a:lnTo>
                    <a:pt x="435" y="693"/>
                  </a:lnTo>
                  <a:lnTo>
                    <a:pt x="431" y="686"/>
                  </a:lnTo>
                  <a:lnTo>
                    <a:pt x="427" y="681"/>
                  </a:lnTo>
                  <a:lnTo>
                    <a:pt x="423" y="675"/>
                  </a:lnTo>
                  <a:lnTo>
                    <a:pt x="418" y="670"/>
                  </a:lnTo>
                  <a:lnTo>
                    <a:pt x="414" y="665"/>
                  </a:lnTo>
                  <a:lnTo>
                    <a:pt x="408" y="660"/>
                  </a:lnTo>
                  <a:lnTo>
                    <a:pt x="403" y="656"/>
                  </a:lnTo>
                  <a:lnTo>
                    <a:pt x="391" y="651"/>
                  </a:lnTo>
                  <a:lnTo>
                    <a:pt x="379" y="646"/>
                  </a:lnTo>
                  <a:lnTo>
                    <a:pt x="365" y="644"/>
                  </a:lnTo>
                  <a:lnTo>
                    <a:pt x="350" y="642"/>
                  </a:lnTo>
                  <a:lnTo>
                    <a:pt x="331" y="642"/>
                  </a:lnTo>
                  <a:lnTo>
                    <a:pt x="313" y="646"/>
                  </a:lnTo>
                  <a:lnTo>
                    <a:pt x="296" y="649"/>
                  </a:lnTo>
                  <a:lnTo>
                    <a:pt x="288" y="651"/>
                  </a:lnTo>
                  <a:lnTo>
                    <a:pt x="280" y="655"/>
                  </a:lnTo>
                  <a:lnTo>
                    <a:pt x="224" y="674"/>
                  </a:lnTo>
                  <a:lnTo>
                    <a:pt x="223" y="684"/>
                  </a:lnTo>
                  <a:lnTo>
                    <a:pt x="223" y="696"/>
                  </a:lnTo>
                  <a:lnTo>
                    <a:pt x="223" y="710"/>
                  </a:lnTo>
                  <a:lnTo>
                    <a:pt x="223" y="724"/>
                  </a:lnTo>
                  <a:lnTo>
                    <a:pt x="222" y="738"/>
                  </a:lnTo>
                  <a:lnTo>
                    <a:pt x="222" y="752"/>
                  </a:lnTo>
                  <a:lnTo>
                    <a:pt x="222" y="779"/>
                  </a:lnTo>
                  <a:lnTo>
                    <a:pt x="222" y="828"/>
                  </a:lnTo>
                  <a:lnTo>
                    <a:pt x="223" y="873"/>
                  </a:lnTo>
                  <a:lnTo>
                    <a:pt x="225" y="913"/>
                  </a:lnTo>
                  <a:lnTo>
                    <a:pt x="228" y="951"/>
                  </a:lnTo>
                  <a:lnTo>
                    <a:pt x="232" y="985"/>
                  </a:lnTo>
                  <a:lnTo>
                    <a:pt x="236" y="1017"/>
                  </a:lnTo>
                  <a:lnTo>
                    <a:pt x="242" y="1044"/>
                  </a:lnTo>
                  <a:lnTo>
                    <a:pt x="245" y="1056"/>
                  </a:lnTo>
                  <a:lnTo>
                    <a:pt x="248" y="1069"/>
                  </a:lnTo>
                  <a:lnTo>
                    <a:pt x="251" y="1079"/>
                  </a:lnTo>
                  <a:lnTo>
                    <a:pt x="256" y="1089"/>
                  </a:lnTo>
                  <a:lnTo>
                    <a:pt x="260" y="1098"/>
                  </a:lnTo>
                  <a:lnTo>
                    <a:pt x="264" y="1107"/>
                  </a:lnTo>
                  <a:lnTo>
                    <a:pt x="269" y="1115"/>
                  </a:lnTo>
                  <a:lnTo>
                    <a:pt x="274" y="1122"/>
                  </a:lnTo>
                  <a:lnTo>
                    <a:pt x="280" y="1129"/>
                  </a:lnTo>
                  <a:lnTo>
                    <a:pt x="286" y="1134"/>
                  </a:lnTo>
                  <a:lnTo>
                    <a:pt x="293" y="1140"/>
                  </a:lnTo>
                  <a:lnTo>
                    <a:pt x="299" y="1145"/>
                  </a:lnTo>
                  <a:lnTo>
                    <a:pt x="306" y="1148"/>
                  </a:lnTo>
                  <a:lnTo>
                    <a:pt x="314" y="1152"/>
                  </a:lnTo>
                  <a:lnTo>
                    <a:pt x="329" y="1155"/>
                  </a:lnTo>
                  <a:lnTo>
                    <a:pt x="347" y="1157"/>
                  </a:lnTo>
                  <a:lnTo>
                    <a:pt x="355" y="1157"/>
                  </a:lnTo>
                  <a:lnTo>
                    <a:pt x="364" y="1155"/>
                  </a:lnTo>
                  <a:lnTo>
                    <a:pt x="372" y="1152"/>
                  </a:lnTo>
                  <a:lnTo>
                    <a:pt x="380" y="1150"/>
                  </a:lnTo>
                  <a:lnTo>
                    <a:pt x="388" y="1145"/>
                  </a:lnTo>
                  <a:lnTo>
                    <a:pt x="394" y="1140"/>
                  </a:lnTo>
                  <a:lnTo>
                    <a:pt x="401" y="1133"/>
                  </a:lnTo>
                  <a:lnTo>
                    <a:pt x="407" y="1126"/>
                  </a:lnTo>
                  <a:lnTo>
                    <a:pt x="413" y="1119"/>
                  </a:lnTo>
                  <a:lnTo>
                    <a:pt x="418" y="1110"/>
                  </a:lnTo>
                  <a:lnTo>
                    <a:pt x="423" y="1102"/>
                  </a:lnTo>
                  <a:lnTo>
                    <a:pt x="427" y="1093"/>
                  </a:lnTo>
                  <a:lnTo>
                    <a:pt x="432" y="1082"/>
                  </a:lnTo>
                  <a:lnTo>
                    <a:pt x="436" y="1072"/>
                  </a:lnTo>
                  <a:lnTo>
                    <a:pt x="439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dcff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Имена ,имена,имена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В нашей речи звучат не случайн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Как загадочна эта стран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Так и имя – загадка и тайн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                  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А. Бобр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93080" y="5075280"/>
            <a:ext cx="15667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31640" y="1042920"/>
            <a:ext cx="92901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4c13ed"/>
                </a:solidFill>
                <a:latin typeface="Bookman Old Style"/>
              </a:rPr>
              <a:t>изучить влияние имени на характер человека .</a:t>
            </a:r>
            <a:endParaRPr b="0" lang="en-US" sz="6000" spc="-1" strike="noStrike">
              <a:solidFill>
                <a:srgbClr val="00808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8424720" cy="2116080"/>
            <a:chOff x="0" y="0"/>
            <a:chExt cx="8424720" cy="2116080"/>
          </a:xfrm>
        </p:grpSpPr>
        <p:sp>
          <p:nvSpPr>
            <p:cNvPr id="162" name=""/>
            <p:cNvSpPr/>
            <p:nvPr/>
          </p:nvSpPr>
          <p:spPr>
            <a:xfrm>
              <a:off x="1440000" y="693720"/>
              <a:ext cx="869760" cy="1422360"/>
            </a:xfrm>
            <a:custGeom>
              <a:avLst/>
              <a:gdLst/>
              <a:ahLst/>
              <a:rect l="l" t="t" r="r" b="b"/>
              <a:pathLst>
                <a:path w="2415" h="3953">
                  <a:moveTo>
                    <a:pt x="560" y="3952"/>
                  </a:moveTo>
                  <a:lnTo>
                    <a:pt x="546" y="3950"/>
                  </a:lnTo>
                  <a:lnTo>
                    <a:pt x="533" y="3948"/>
                  </a:lnTo>
                  <a:lnTo>
                    <a:pt x="527" y="3945"/>
                  </a:lnTo>
                  <a:lnTo>
                    <a:pt x="522" y="3941"/>
                  </a:lnTo>
                  <a:lnTo>
                    <a:pt x="516" y="3938"/>
                  </a:lnTo>
                  <a:lnTo>
                    <a:pt x="510" y="3935"/>
                  </a:lnTo>
                  <a:lnTo>
                    <a:pt x="504" y="3929"/>
                  </a:lnTo>
                  <a:lnTo>
                    <a:pt x="499" y="3926"/>
                  </a:lnTo>
                  <a:lnTo>
                    <a:pt x="494" y="3919"/>
                  </a:lnTo>
                  <a:lnTo>
                    <a:pt x="489" y="3914"/>
                  </a:lnTo>
                  <a:lnTo>
                    <a:pt x="484" y="3907"/>
                  </a:lnTo>
                  <a:lnTo>
                    <a:pt x="479" y="3898"/>
                  </a:lnTo>
                  <a:lnTo>
                    <a:pt x="474" y="3891"/>
                  </a:lnTo>
                  <a:lnTo>
                    <a:pt x="470" y="3883"/>
                  </a:lnTo>
                  <a:lnTo>
                    <a:pt x="462" y="3866"/>
                  </a:lnTo>
                  <a:lnTo>
                    <a:pt x="455" y="3847"/>
                  </a:lnTo>
                  <a:lnTo>
                    <a:pt x="449" y="3828"/>
                  </a:lnTo>
                  <a:lnTo>
                    <a:pt x="445" y="3809"/>
                  </a:lnTo>
                  <a:lnTo>
                    <a:pt x="441" y="3788"/>
                  </a:lnTo>
                  <a:lnTo>
                    <a:pt x="438" y="3766"/>
                  </a:lnTo>
                  <a:lnTo>
                    <a:pt x="437" y="3743"/>
                  </a:lnTo>
                  <a:lnTo>
                    <a:pt x="436" y="3721"/>
                  </a:lnTo>
                  <a:lnTo>
                    <a:pt x="436" y="3697"/>
                  </a:lnTo>
                  <a:lnTo>
                    <a:pt x="438" y="3673"/>
                  </a:lnTo>
                  <a:lnTo>
                    <a:pt x="440" y="3648"/>
                  </a:lnTo>
                  <a:lnTo>
                    <a:pt x="444" y="3624"/>
                  </a:lnTo>
                  <a:lnTo>
                    <a:pt x="448" y="3598"/>
                  </a:lnTo>
                  <a:lnTo>
                    <a:pt x="453" y="3574"/>
                  </a:lnTo>
                  <a:lnTo>
                    <a:pt x="460" y="3550"/>
                  </a:lnTo>
                  <a:lnTo>
                    <a:pt x="466" y="3526"/>
                  </a:lnTo>
                  <a:lnTo>
                    <a:pt x="483" y="3476"/>
                  </a:lnTo>
                  <a:lnTo>
                    <a:pt x="505" y="3428"/>
                  </a:lnTo>
                  <a:lnTo>
                    <a:pt x="529" y="3378"/>
                  </a:lnTo>
                  <a:lnTo>
                    <a:pt x="558" y="3330"/>
                  </a:lnTo>
                  <a:lnTo>
                    <a:pt x="574" y="3305"/>
                  </a:lnTo>
                  <a:lnTo>
                    <a:pt x="591" y="3283"/>
                  </a:lnTo>
                  <a:lnTo>
                    <a:pt x="607" y="3262"/>
                  </a:lnTo>
                  <a:lnTo>
                    <a:pt x="625" y="3243"/>
                  </a:lnTo>
                  <a:lnTo>
                    <a:pt x="644" y="3226"/>
                  </a:lnTo>
                  <a:lnTo>
                    <a:pt x="662" y="3211"/>
                  </a:lnTo>
                  <a:lnTo>
                    <a:pt x="704" y="3183"/>
                  </a:lnTo>
                  <a:lnTo>
                    <a:pt x="747" y="3161"/>
                  </a:lnTo>
                  <a:lnTo>
                    <a:pt x="793" y="3145"/>
                  </a:lnTo>
                  <a:lnTo>
                    <a:pt x="842" y="3137"/>
                  </a:lnTo>
                  <a:lnTo>
                    <a:pt x="894" y="3133"/>
                  </a:lnTo>
                  <a:lnTo>
                    <a:pt x="923" y="3135"/>
                  </a:lnTo>
                  <a:lnTo>
                    <a:pt x="955" y="3138"/>
                  </a:lnTo>
                  <a:lnTo>
                    <a:pt x="989" y="3147"/>
                  </a:lnTo>
                  <a:lnTo>
                    <a:pt x="1025" y="3157"/>
                  </a:lnTo>
                  <a:lnTo>
                    <a:pt x="1103" y="3185"/>
                  </a:lnTo>
                  <a:lnTo>
                    <a:pt x="1189" y="3226"/>
                  </a:lnTo>
                  <a:lnTo>
                    <a:pt x="1284" y="3261"/>
                  </a:lnTo>
                  <a:lnTo>
                    <a:pt x="1363" y="3287"/>
                  </a:lnTo>
                  <a:lnTo>
                    <a:pt x="1426" y="3300"/>
                  </a:lnTo>
                  <a:lnTo>
                    <a:pt x="1452" y="3304"/>
                  </a:lnTo>
                  <a:lnTo>
                    <a:pt x="1474" y="3305"/>
                  </a:lnTo>
                  <a:lnTo>
                    <a:pt x="1485" y="3305"/>
                  </a:lnTo>
                  <a:lnTo>
                    <a:pt x="1496" y="3302"/>
                  </a:lnTo>
                  <a:lnTo>
                    <a:pt x="1507" y="3299"/>
                  </a:lnTo>
                  <a:lnTo>
                    <a:pt x="1517" y="3293"/>
                  </a:lnTo>
                  <a:lnTo>
                    <a:pt x="1529" y="3285"/>
                  </a:lnTo>
                  <a:lnTo>
                    <a:pt x="1541" y="3276"/>
                  </a:lnTo>
                  <a:lnTo>
                    <a:pt x="1553" y="3266"/>
                  </a:lnTo>
                  <a:lnTo>
                    <a:pt x="1565" y="3254"/>
                  </a:lnTo>
                  <a:lnTo>
                    <a:pt x="1571" y="3247"/>
                  </a:lnTo>
                  <a:lnTo>
                    <a:pt x="1577" y="3238"/>
                  </a:lnTo>
                  <a:lnTo>
                    <a:pt x="1582" y="3230"/>
                  </a:lnTo>
                  <a:lnTo>
                    <a:pt x="1586" y="3221"/>
                  </a:lnTo>
                  <a:lnTo>
                    <a:pt x="1591" y="3211"/>
                  </a:lnTo>
                  <a:lnTo>
                    <a:pt x="1595" y="3199"/>
                  </a:lnTo>
                  <a:lnTo>
                    <a:pt x="1599" y="3187"/>
                  </a:lnTo>
                  <a:lnTo>
                    <a:pt x="1602" y="3173"/>
                  </a:lnTo>
                  <a:lnTo>
                    <a:pt x="1605" y="3159"/>
                  </a:lnTo>
                  <a:lnTo>
                    <a:pt x="1608" y="3143"/>
                  </a:lnTo>
                  <a:lnTo>
                    <a:pt x="1610" y="3128"/>
                  </a:lnTo>
                  <a:lnTo>
                    <a:pt x="1612" y="3111"/>
                  </a:lnTo>
                  <a:lnTo>
                    <a:pt x="1614" y="3075"/>
                  </a:lnTo>
                  <a:lnTo>
                    <a:pt x="1615" y="3033"/>
                  </a:lnTo>
                  <a:lnTo>
                    <a:pt x="1602" y="3031"/>
                  </a:lnTo>
                  <a:lnTo>
                    <a:pt x="1571" y="3030"/>
                  </a:lnTo>
                  <a:lnTo>
                    <a:pt x="1450" y="3019"/>
                  </a:lnTo>
                  <a:lnTo>
                    <a:pt x="1110" y="3002"/>
                  </a:lnTo>
                  <a:lnTo>
                    <a:pt x="321" y="2995"/>
                  </a:lnTo>
                  <a:lnTo>
                    <a:pt x="245" y="2997"/>
                  </a:lnTo>
                  <a:lnTo>
                    <a:pt x="171" y="3004"/>
                  </a:lnTo>
                  <a:lnTo>
                    <a:pt x="99" y="3016"/>
                  </a:lnTo>
                  <a:lnTo>
                    <a:pt x="30" y="3033"/>
                  </a:lnTo>
                  <a:lnTo>
                    <a:pt x="59" y="2821"/>
                  </a:lnTo>
                  <a:lnTo>
                    <a:pt x="96" y="2818"/>
                  </a:lnTo>
                  <a:lnTo>
                    <a:pt x="130" y="2811"/>
                  </a:lnTo>
                  <a:lnTo>
                    <a:pt x="161" y="2802"/>
                  </a:lnTo>
                  <a:lnTo>
                    <a:pt x="190" y="2792"/>
                  </a:lnTo>
                  <a:lnTo>
                    <a:pt x="214" y="2776"/>
                  </a:lnTo>
                  <a:lnTo>
                    <a:pt x="226" y="2770"/>
                  </a:lnTo>
                  <a:lnTo>
                    <a:pt x="237" y="2761"/>
                  </a:lnTo>
                  <a:lnTo>
                    <a:pt x="248" y="2751"/>
                  </a:lnTo>
                  <a:lnTo>
                    <a:pt x="257" y="2742"/>
                  </a:lnTo>
                  <a:lnTo>
                    <a:pt x="265" y="2732"/>
                  </a:lnTo>
                  <a:lnTo>
                    <a:pt x="273" y="2720"/>
                  </a:lnTo>
                  <a:lnTo>
                    <a:pt x="281" y="2706"/>
                  </a:lnTo>
                  <a:lnTo>
                    <a:pt x="289" y="2690"/>
                  </a:lnTo>
                  <a:lnTo>
                    <a:pt x="298" y="2670"/>
                  </a:lnTo>
                  <a:lnTo>
                    <a:pt x="307" y="2645"/>
                  </a:lnTo>
                  <a:lnTo>
                    <a:pt x="327" y="2587"/>
                  </a:lnTo>
                  <a:lnTo>
                    <a:pt x="346" y="2513"/>
                  </a:lnTo>
                  <a:lnTo>
                    <a:pt x="368" y="2425"/>
                  </a:lnTo>
                  <a:lnTo>
                    <a:pt x="392" y="2321"/>
                  </a:lnTo>
                  <a:lnTo>
                    <a:pt x="442" y="2072"/>
                  </a:lnTo>
                  <a:lnTo>
                    <a:pt x="588" y="1312"/>
                  </a:lnTo>
                  <a:lnTo>
                    <a:pt x="730" y="522"/>
                  </a:lnTo>
                  <a:lnTo>
                    <a:pt x="668" y="526"/>
                  </a:lnTo>
                  <a:lnTo>
                    <a:pt x="610" y="533"/>
                  </a:lnTo>
                  <a:lnTo>
                    <a:pt x="556" y="543"/>
                  </a:lnTo>
                  <a:lnTo>
                    <a:pt x="505" y="558"/>
                  </a:lnTo>
                  <a:lnTo>
                    <a:pt x="458" y="577"/>
                  </a:lnTo>
                  <a:lnTo>
                    <a:pt x="414" y="600"/>
                  </a:lnTo>
                  <a:lnTo>
                    <a:pt x="374" y="627"/>
                  </a:lnTo>
                  <a:lnTo>
                    <a:pt x="337" y="658"/>
                  </a:lnTo>
                  <a:lnTo>
                    <a:pt x="305" y="693"/>
                  </a:lnTo>
                  <a:lnTo>
                    <a:pt x="276" y="727"/>
                  </a:lnTo>
                  <a:lnTo>
                    <a:pt x="264" y="745"/>
                  </a:lnTo>
                  <a:lnTo>
                    <a:pt x="253" y="763"/>
                  </a:lnTo>
                  <a:lnTo>
                    <a:pt x="243" y="781"/>
                  </a:lnTo>
                  <a:lnTo>
                    <a:pt x="233" y="800"/>
                  </a:lnTo>
                  <a:lnTo>
                    <a:pt x="225" y="819"/>
                  </a:lnTo>
                  <a:lnTo>
                    <a:pt x="218" y="838"/>
                  </a:lnTo>
                  <a:lnTo>
                    <a:pt x="212" y="857"/>
                  </a:lnTo>
                  <a:lnTo>
                    <a:pt x="207" y="875"/>
                  </a:lnTo>
                  <a:lnTo>
                    <a:pt x="203" y="894"/>
                  </a:lnTo>
                  <a:lnTo>
                    <a:pt x="200" y="915"/>
                  </a:lnTo>
                  <a:lnTo>
                    <a:pt x="199" y="934"/>
                  </a:lnTo>
                  <a:lnTo>
                    <a:pt x="198" y="955"/>
                  </a:lnTo>
                  <a:lnTo>
                    <a:pt x="198" y="962"/>
                  </a:lnTo>
                  <a:lnTo>
                    <a:pt x="199" y="967"/>
                  </a:lnTo>
                  <a:lnTo>
                    <a:pt x="199" y="974"/>
                  </a:lnTo>
                  <a:lnTo>
                    <a:pt x="200" y="982"/>
                  </a:lnTo>
                  <a:lnTo>
                    <a:pt x="203" y="996"/>
                  </a:lnTo>
                  <a:lnTo>
                    <a:pt x="206" y="1013"/>
                  </a:lnTo>
                  <a:lnTo>
                    <a:pt x="211" y="1031"/>
                  </a:lnTo>
                  <a:lnTo>
                    <a:pt x="217" y="1048"/>
                  </a:lnTo>
                  <a:lnTo>
                    <a:pt x="223" y="1067"/>
                  </a:lnTo>
                  <a:lnTo>
                    <a:pt x="231" y="1087"/>
                  </a:lnTo>
                  <a:lnTo>
                    <a:pt x="240" y="1112"/>
                  </a:lnTo>
                  <a:lnTo>
                    <a:pt x="248" y="1136"/>
                  </a:lnTo>
                  <a:lnTo>
                    <a:pt x="255" y="1158"/>
                  </a:lnTo>
                  <a:lnTo>
                    <a:pt x="260" y="1181"/>
                  </a:lnTo>
                  <a:lnTo>
                    <a:pt x="264" y="1199"/>
                  </a:lnTo>
                  <a:lnTo>
                    <a:pt x="267" y="1220"/>
                  </a:lnTo>
                  <a:lnTo>
                    <a:pt x="268" y="1229"/>
                  </a:lnTo>
                  <a:lnTo>
                    <a:pt x="268" y="1239"/>
                  </a:lnTo>
                  <a:lnTo>
                    <a:pt x="269" y="1248"/>
                  </a:lnTo>
                  <a:lnTo>
                    <a:pt x="269" y="1256"/>
                  </a:lnTo>
                  <a:lnTo>
                    <a:pt x="268" y="1275"/>
                  </a:lnTo>
                  <a:lnTo>
                    <a:pt x="268" y="1284"/>
                  </a:lnTo>
                  <a:lnTo>
                    <a:pt x="267" y="1294"/>
                  </a:lnTo>
                  <a:lnTo>
                    <a:pt x="266" y="1303"/>
                  </a:lnTo>
                  <a:lnTo>
                    <a:pt x="264" y="1312"/>
                  </a:lnTo>
                  <a:lnTo>
                    <a:pt x="263" y="1320"/>
                  </a:lnTo>
                  <a:lnTo>
                    <a:pt x="262" y="1329"/>
                  </a:lnTo>
                  <a:lnTo>
                    <a:pt x="259" y="1337"/>
                  </a:lnTo>
                  <a:lnTo>
                    <a:pt x="257" y="1346"/>
                  </a:lnTo>
                  <a:lnTo>
                    <a:pt x="254" y="1353"/>
                  </a:lnTo>
                  <a:lnTo>
                    <a:pt x="251" y="1361"/>
                  </a:lnTo>
                  <a:lnTo>
                    <a:pt x="244" y="1377"/>
                  </a:lnTo>
                  <a:lnTo>
                    <a:pt x="236" y="1391"/>
                  </a:lnTo>
                  <a:lnTo>
                    <a:pt x="227" y="1405"/>
                  </a:lnTo>
                  <a:lnTo>
                    <a:pt x="218" y="1415"/>
                  </a:lnTo>
                  <a:lnTo>
                    <a:pt x="213" y="1420"/>
                  </a:lnTo>
                  <a:lnTo>
                    <a:pt x="208" y="1425"/>
                  </a:lnTo>
                  <a:lnTo>
                    <a:pt x="202" y="1430"/>
                  </a:lnTo>
                  <a:lnTo>
                    <a:pt x="197" y="1434"/>
                  </a:lnTo>
                  <a:lnTo>
                    <a:pt x="187" y="1439"/>
                  </a:lnTo>
                  <a:lnTo>
                    <a:pt x="175" y="1444"/>
                  </a:lnTo>
                  <a:lnTo>
                    <a:pt x="163" y="1446"/>
                  </a:lnTo>
                  <a:lnTo>
                    <a:pt x="150" y="1448"/>
                  </a:lnTo>
                  <a:lnTo>
                    <a:pt x="134" y="1446"/>
                  </a:lnTo>
                  <a:lnTo>
                    <a:pt x="127" y="1444"/>
                  </a:lnTo>
                  <a:lnTo>
                    <a:pt x="119" y="1442"/>
                  </a:lnTo>
                  <a:lnTo>
                    <a:pt x="111" y="1439"/>
                  </a:lnTo>
                  <a:lnTo>
                    <a:pt x="104" y="1436"/>
                  </a:lnTo>
                  <a:lnTo>
                    <a:pt x="97" y="1430"/>
                  </a:lnTo>
                  <a:lnTo>
                    <a:pt x="90" y="1425"/>
                  </a:lnTo>
                  <a:lnTo>
                    <a:pt x="83" y="1420"/>
                  </a:lnTo>
                  <a:lnTo>
                    <a:pt x="76" y="1413"/>
                  </a:lnTo>
                  <a:lnTo>
                    <a:pt x="70" y="1406"/>
                  </a:lnTo>
                  <a:lnTo>
                    <a:pt x="65" y="1398"/>
                  </a:lnTo>
                  <a:lnTo>
                    <a:pt x="59" y="1389"/>
                  </a:lnTo>
                  <a:lnTo>
                    <a:pt x="53" y="1379"/>
                  </a:lnTo>
                  <a:lnTo>
                    <a:pt x="47" y="1368"/>
                  </a:lnTo>
                  <a:lnTo>
                    <a:pt x="42" y="1358"/>
                  </a:lnTo>
                  <a:lnTo>
                    <a:pt x="37" y="1346"/>
                  </a:lnTo>
                  <a:lnTo>
                    <a:pt x="32" y="1334"/>
                  </a:lnTo>
                  <a:lnTo>
                    <a:pt x="27" y="1322"/>
                  </a:lnTo>
                  <a:lnTo>
                    <a:pt x="23" y="1308"/>
                  </a:lnTo>
                  <a:lnTo>
                    <a:pt x="16" y="1280"/>
                  </a:lnTo>
                  <a:lnTo>
                    <a:pt x="10" y="1251"/>
                  </a:lnTo>
                  <a:lnTo>
                    <a:pt x="5" y="1220"/>
                  </a:lnTo>
                  <a:lnTo>
                    <a:pt x="2" y="1186"/>
                  </a:lnTo>
                  <a:lnTo>
                    <a:pt x="0" y="1150"/>
                  </a:lnTo>
                  <a:lnTo>
                    <a:pt x="0" y="1112"/>
                  </a:lnTo>
                  <a:lnTo>
                    <a:pt x="0" y="1053"/>
                  </a:lnTo>
                  <a:lnTo>
                    <a:pt x="5" y="996"/>
                  </a:lnTo>
                  <a:lnTo>
                    <a:pt x="12" y="941"/>
                  </a:lnTo>
                  <a:lnTo>
                    <a:pt x="22" y="888"/>
                  </a:lnTo>
                  <a:lnTo>
                    <a:pt x="36" y="836"/>
                  </a:lnTo>
                  <a:lnTo>
                    <a:pt x="52" y="786"/>
                  </a:lnTo>
                  <a:lnTo>
                    <a:pt x="70" y="738"/>
                  </a:lnTo>
                  <a:lnTo>
                    <a:pt x="92" y="691"/>
                  </a:lnTo>
                  <a:lnTo>
                    <a:pt x="116" y="646"/>
                  </a:lnTo>
                  <a:lnTo>
                    <a:pt x="141" y="605"/>
                  </a:lnTo>
                  <a:lnTo>
                    <a:pt x="167" y="567"/>
                  </a:lnTo>
                  <a:lnTo>
                    <a:pt x="195" y="533"/>
                  </a:lnTo>
                  <a:lnTo>
                    <a:pt x="223" y="502"/>
                  </a:lnTo>
                  <a:lnTo>
                    <a:pt x="254" y="472"/>
                  </a:lnTo>
                  <a:lnTo>
                    <a:pt x="284" y="446"/>
                  </a:lnTo>
                  <a:lnTo>
                    <a:pt x="317" y="424"/>
                  </a:lnTo>
                  <a:lnTo>
                    <a:pt x="382" y="384"/>
                  </a:lnTo>
                  <a:lnTo>
                    <a:pt x="445" y="353"/>
                  </a:lnTo>
                  <a:lnTo>
                    <a:pt x="506" y="329"/>
                  </a:lnTo>
                  <a:lnTo>
                    <a:pt x="566" y="312"/>
                  </a:lnTo>
                  <a:lnTo>
                    <a:pt x="599" y="305"/>
                  </a:lnTo>
                  <a:lnTo>
                    <a:pt x="641" y="300"/>
                  </a:lnTo>
                  <a:lnTo>
                    <a:pt x="750" y="291"/>
                  </a:lnTo>
                  <a:lnTo>
                    <a:pt x="1069" y="284"/>
                  </a:lnTo>
                  <a:lnTo>
                    <a:pt x="989" y="614"/>
                  </a:lnTo>
                  <a:lnTo>
                    <a:pt x="852" y="1215"/>
                  </a:lnTo>
                  <a:lnTo>
                    <a:pt x="724" y="2013"/>
                  </a:lnTo>
                  <a:lnTo>
                    <a:pt x="675" y="2278"/>
                  </a:lnTo>
                  <a:lnTo>
                    <a:pt x="655" y="2380"/>
                  </a:lnTo>
                  <a:lnTo>
                    <a:pt x="637" y="2458"/>
                  </a:lnTo>
                  <a:lnTo>
                    <a:pt x="620" y="2521"/>
                  </a:lnTo>
                  <a:lnTo>
                    <a:pt x="604" y="2578"/>
                  </a:lnTo>
                  <a:lnTo>
                    <a:pt x="590" y="2626"/>
                  </a:lnTo>
                  <a:lnTo>
                    <a:pt x="574" y="2668"/>
                  </a:lnTo>
                  <a:lnTo>
                    <a:pt x="560" y="2702"/>
                  </a:lnTo>
                  <a:lnTo>
                    <a:pt x="553" y="2716"/>
                  </a:lnTo>
                  <a:lnTo>
                    <a:pt x="546" y="2728"/>
                  </a:lnTo>
                  <a:lnTo>
                    <a:pt x="539" y="2738"/>
                  </a:lnTo>
                  <a:lnTo>
                    <a:pt x="532" y="2747"/>
                  </a:lnTo>
                  <a:lnTo>
                    <a:pt x="526" y="2752"/>
                  </a:lnTo>
                  <a:lnTo>
                    <a:pt x="520" y="2757"/>
                  </a:lnTo>
                  <a:lnTo>
                    <a:pt x="567" y="2763"/>
                  </a:lnTo>
                  <a:lnTo>
                    <a:pt x="620" y="2768"/>
                  </a:lnTo>
                  <a:lnTo>
                    <a:pt x="742" y="2771"/>
                  </a:lnTo>
                  <a:lnTo>
                    <a:pt x="836" y="2768"/>
                  </a:lnTo>
                  <a:lnTo>
                    <a:pt x="937" y="2759"/>
                  </a:lnTo>
                  <a:lnTo>
                    <a:pt x="1049" y="2742"/>
                  </a:lnTo>
                  <a:lnTo>
                    <a:pt x="1169" y="2720"/>
                  </a:lnTo>
                  <a:lnTo>
                    <a:pt x="1169" y="2720"/>
                  </a:lnTo>
                  <a:lnTo>
                    <a:pt x="1169" y="2720"/>
                  </a:lnTo>
                  <a:lnTo>
                    <a:pt x="1169" y="2720"/>
                  </a:lnTo>
                  <a:lnTo>
                    <a:pt x="1169" y="2720"/>
                  </a:lnTo>
                  <a:lnTo>
                    <a:pt x="1169" y="2720"/>
                  </a:lnTo>
                  <a:lnTo>
                    <a:pt x="1169" y="2718"/>
                  </a:lnTo>
                  <a:lnTo>
                    <a:pt x="1169" y="2716"/>
                  </a:lnTo>
                  <a:lnTo>
                    <a:pt x="1170" y="2706"/>
                  </a:lnTo>
                  <a:lnTo>
                    <a:pt x="1176" y="2661"/>
                  </a:lnTo>
                  <a:lnTo>
                    <a:pt x="1205" y="2478"/>
                  </a:lnTo>
                  <a:lnTo>
                    <a:pt x="1332" y="1734"/>
                  </a:lnTo>
                  <a:lnTo>
                    <a:pt x="1391" y="1405"/>
                  </a:lnTo>
                  <a:lnTo>
                    <a:pt x="1447" y="1120"/>
                  </a:lnTo>
                  <a:lnTo>
                    <a:pt x="1499" y="882"/>
                  </a:lnTo>
                  <a:lnTo>
                    <a:pt x="1547" y="691"/>
                  </a:lnTo>
                  <a:lnTo>
                    <a:pt x="1571" y="610"/>
                  </a:lnTo>
                  <a:lnTo>
                    <a:pt x="1596" y="534"/>
                  </a:lnTo>
                  <a:lnTo>
                    <a:pt x="1624" y="462"/>
                  </a:lnTo>
                  <a:lnTo>
                    <a:pt x="1652" y="396"/>
                  </a:lnTo>
                  <a:lnTo>
                    <a:pt x="1683" y="334"/>
                  </a:lnTo>
                  <a:lnTo>
                    <a:pt x="1715" y="277"/>
                  </a:lnTo>
                  <a:lnTo>
                    <a:pt x="1748" y="224"/>
                  </a:lnTo>
                  <a:lnTo>
                    <a:pt x="1783" y="178"/>
                  </a:lnTo>
                  <a:lnTo>
                    <a:pt x="1820" y="136"/>
                  </a:lnTo>
                  <a:lnTo>
                    <a:pt x="1858" y="100"/>
                  </a:lnTo>
                  <a:lnTo>
                    <a:pt x="1899" y="69"/>
                  </a:lnTo>
                  <a:lnTo>
                    <a:pt x="1940" y="45"/>
                  </a:lnTo>
                  <a:lnTo>
                    <a:pt x="1982" y="24"/>
                  </a:lnTo>
                  <a:lnTo>
                    <a:pt x="2027" y="10"/>
                  </a:lnTo>
                  <a:lnTo>
                    <a:pt x="2072" y="3"/>
                  </a:lnTo>
                  <a:lnTo>
                    <a:pt x="2119" y="0"/>
                  </a:lnTo>
                  <a:lnTo>
                    <a:pt x="2152" y="2"/>
                  </a:lnTo>
                  <a:lnTo>
                    <a:pt x="2182" y="5"/>
                  </a:lnTo>
                  <a:lnTo>
                    <a:pt x="2211" y="12"/>
                  </a:lnTo>
                  <a:lnTo>
                    <a:pt x="2239" y="21"/>
                  </a:lnTo>
                  <a:lnTo>
                    <a:pt x="2264" y="33"/>
                  </a:lnTo>
                  <a:lnTo>
                    <a:pt x="2289" y="47"/>
                  </a:lnTo>
                  <a:lnTo>
                    <a:pt x="2311" y="64"/>
                  </a:lnTo>
                  <a:lnTo>
                    <a:pt x="2333" y="83"/>
                  </a:lnTo>
                  <a:lnTo>
                    <a:pt x="2352" y="105"/>
                  </a:lnTo>
                  <a:lnTo>
                    <a:pt x="2361" y="115"/>
                  </a:lnTo>
                  <a:lnTo>
                    <a:pt x="2369" y="128"/>
                  </a:lnTo>
                  <a:lnTo>
                    <a:pt x="2375" y="140"/>
                  </a:lnTo>
                  <a:lnTo>
                    <a:pt x="2382" y="153"/>
                  </a:lnTo>
                  <a:lnTo>
                    <a:pt x="2388" y="165"/>
                  </a:lnTo>
                  <a:lnTo>
                    <a:pt x="2394" y="179"/>
                  </a:lnTo>
                  <a:lnTo>
                    <a:pt x="2398" y="191"/>
                  </a:lnTo>
                  <a:lnTo>
                    <a:pt x="2403" y="205"/>
                  </a:lnTo>
                  <a:lnTo>
                    <a:pt x="2406" y="219"/>
                  </a:lnTo>
                  <a:lnTo>
                    <a:pt x="2409" y="234"/>
                  </a:lnTo>
                  <a:lnTo>
                    <a:pt x="2411" y="248"/>
                  </a:lnTo>
                  <a:lnTo>
                    <a:pt x="2413" y="264"/>
                  </a:lnTo>
                  <a:lnTo>
                    <a:pt x="2414" y="279"/>
                  </a:lnTo>
                  <a:lnTo>
                    <a:pt x="2414" y="295"/>
                  </a:lnTo>
                  <a:lnTo>
                    <a:pt x="2414" y="315"/>
                  </a:lnTo>
                  <a:lnTo>
                    <a:pt x="2412" y="336"/>
                  </a:lnTo>
                  <a:lnTo>
                    <a:pt x="2410" y="353"/>
                  </a:lnTo>
                  <a:lnTo>
                    <a:pt x="2407" y="371"/>
                  </a:lnTo>
                  <a:lnTo>
                    <a:pt x="2403" y="386"/>
                  </a:lnTo>
                  <a:lnTo>
                    <a:pt x="2398" y="400"/>
                  </a:lnTo>
                  <a:lnTo>
                    <a:pt x="2392" y="412"/>
                  </a:lnTo>
                  <a:lnTo>
                    <a:pt x="2385" y="424"/>
                  </a:lnTo>
                  <a:lnTo>
                    <a:pt x="2378" y="434"/>
                  </a:lnTo>
                  <a:lnTo>
                    <a:pt x="2370" y="443"/>
                  </a:lnTo>
                  <a:lnTo>
                    <a:pt x="2360" y="450"/>
                  </a:lnTo>
                  <a:lnTo>
                    <a:pt x="2350" y="457"/>
                  </a:lnTo>
                  <a:lnTo>
                    <a:pt x="2339" y="462"/>
                  </a:lnTo>
                  <a:lnTo>
                    <a:pt x="2326" y="464"/>
                  </a:lnTo>
                  <a:lnTo>
                    <a:pt x="2313" y="467"/>
                  </a:lnTo>
                  <a:lnTo>
                    <a:pt x="2300" y="467"/>
                  </a:lnTo>
                  <a:lnTo>
                    <a:pt x="2292" y="467"/>
                  </a:lnTo>
                  <a:lnTo>
                    <a:pt x="2284" y="465"/>
                  </a:lnTo>
                  <a:lnTo>
                    <a:pt x="2276" y="464"/>
                  </a:lnTo>
                  <a:lnTo>
                    <a:pt x="2268" y="460"/>
                  </a:lnTo>
                  <a:lnTo>
                    <a:pt x="2259" y="455"/>
                  </a:lnTo>
                  <a:lnTo>
                    <a:pt x="2251" y="450"/>
                  </a:lnTo>
                  <a:lnTo>
                    <a:pt x="2243" y="445"/>
                  </a:lnTo>
                  <a:lnTo>
                    <a:pt x="2235" y="438"/>
                  </a:lnTo>
                  <a:lnTo>
                    <a:pt x="2218" y="421"/>
                  </a:lnTo>
                  <a:lnTo>
                    <a:pt x="2200" y="398"/>
                  </a:lnTo>
                  <a:lnTo>
                    <a:pt x="2182" y="374"/>
                  </a:lnTo>
                  <a:lnTo>
                    <a:pt x="2165" y="345"/>
                  </a:lnTo>
                  <a:lnTo>
                    <a:pt x="2150" y="322"/>
                  </a:lnTo>
                  <a:lnTo>
                    <a:pt x="2136" y="302"/>
                  </a:lnTo>
                  <a:lnTo>
                    <a:pt x="2123" y="284"/>
                  </a:lnTo>
                  <a:lnTo>
                    <a:pt x="2111" y="271"/>
                  </a:lnTo>
                  <a:lnTo>
                    <a:pt x="2098" y="260"/>
                  </a:lnTo>
                  <a:lnTo>
                    <a:pt x="2092" y="257"/>
                  </a:lnTo>
                  <a:lnTo>
                    <a:pt x="2087" y="253"/>
                  </a:lnTo>
                  <a:lnTo>
                    <a:pt x="2081" y="250"/>
                  </a:lnTo>
                  <a:lnTo>
                    <a:pt x="2075" y="248"/>
                  </a:lnTo>
                  <a:lnTo>
                    <a:pt x="2070" y="246"/>
                  </a:lnTo>
                  <a:lnTo>
                    <a:pt x="2065" y="246"/>
                  </a:lnTo>
                  <a:lnTo>
                    <a:pt x="2048" y="248"/>
                  </a:lnTo>
                  <a:lnTo>
                    <a:pt x="2032" y="255"/>
                  </a:lnTo>
                  <a:lnTo>
                    <a:pt x="2015" y="267"/>
                  </a:lnTo>
                  <a:lnTo>
                    <a:pt x="1998" y="283"/>
                  </a:lnTo>
                  <a:lnTo>
                    <a:pt x="1980" y="303"/>
                  </a:lnTo>
                  <a:lnTo>
                    <a:pt x="1964" y="329"/>
                  </a:lnTo>
                  <a:lnTo>
                    <a:pt x="1946" y="358"/>
                  </a:lnTo>
                  <a:lnTo>
                    <a:pt x="1929" y="393"/>
                  </a:lnTo>
                  <a:lnTo>
                    <a:pt x="1912" y="431"/>
                  </a:lnTo>
                  <a:lnTo>
                    <a:pt x="1894" y="474"/>
                  </a:lnTo>
                  <a:lnTo>
                    <a:pt x="1858" y="576"/>
                  </a:lnTo>
                  <a:lnTo>
                    <a:pt x="1823" y="695"/>
                  </a:lnTo>
                  <a:lnTo>
                    <a:pt x="1786" y="831"/>
                  </a:lnTo>
                  <a:lnTo>
                    <a:pt x="1749" y="989"/>
                  </a:lnTo>
                  <a:lnTo>
                    <a:pt x="1710" y="1174"/>
                  </a:lnTo>
                  <a:lnTo>
                    <a:pt x="1626" y="1615"/>
                  </a:lnTo>
                  <a:lnTo>
                    <a:pt x="1534" y="2156"/>
                  </a:lnTo>
                  <a:lnTo>
                    <a:pt x="1437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6" y="2795"/>
                  </a:lnTo>
                  <a:lnTo>
                    <a:pt x="1437" y="2795"/>
                  </a:lnTo>
                  <a:lnTo>
                    <a:pt x="1437" y="2795"/>
                  </a:lnTo>
                  <a:lnTo>
                    <a:pt x="1446" y="2797"/>
                  </a:lnTo>
                  <a:lnTo>
                    <a:pt x="1487" y="2807"/>
                  </a:lnTo>
                  <a:lnTo>
                    <a:pt x="1523" y="2816"/>
                  </a:lnTo>
                  <a:lnTo>
                    <a:pt x="1557" y="2823"/>
                  </a:lnTo>
                  <a:lnTo>
                    <a:pt x="1586" y="2826"/>
                  </a:lnTo>
                  <a:lnTo>
                    <a:pt x="1613" y="2828"/>
                  </a:lnTo>
                  <a:lnTo>
                    <a:pt x="1647" y="2826"/>
                  </a:lnTo>
                  <a:lnTo>
                    <a:pt x="1685" y="2823"/>
                  </a:lnTo>
                  <a:lnTo>
                    <a:pt x="1728" y="2816"/>
                  </a:lnTo>
                  <a:lnTo>
                    <a:pt x="1777" y="2806"/>
                  </a:lnTo>
                  <a:lnTo>
                    <a:pt x="1737" y="3143"/>
                  </a:lnTo>
                  <a:lnTo>
                    <a:pt x="1731" y="3185"/>
                  </a:lnTo>
                  <a:lnTo>
                    <a:pt x="1724" y="3224"/>
                  </a:lnTo>
                  <a:lnTo>
                    <a:pt x="1716" y="3261"/>
                  </a:lnTo>
                  <a:lnTo>
                    <a:pt x="1709" y="3297"/>
                  </a:lnTo>
                  <a:lnTo>
                    <a:pt x="1700" y="3330"/>
                  </a:lnTo>
                  <a:lnTo>
                    <a:pt x="1690" y="3361"/>
                  </a:lnTo>
                  <a:lnTo>
                    <a:pt x="1680" y="3390"/>
                  </a:lnTo>
                  <a:lnTo>
                    <a:pt x="1669" y="3418"/>
                  </a:lnTo>
                  <a:lnTo>
                    <a:pt x="1663" y="3431"/>
                  </a:lnTo>
                  <a:lnTo>
                    <a:pt x="1657" y="3443"/>
                  </a:lnTo>
                  <a:lnTo>
                    <a:pt x="1644" y="3467"/>
                  </a:lnTo>
                  <a:lnTo>
                    <a:pt x="1628" y="3492"/>
                  </a:lnTo>
                  <a:lnTo>
                    <a:pt x="1611" y="3512"/>
                  </a:lnTo>
                  <a:lnTo>
                    <a:pt x="1592" y="3531"/>
                  </a:lnTo>
                  <a:lnTo>
                    <a:pt x="1572" y="3548"/>
                  </a:lnTo>
                  <a:lnTo>
                    <a:pt x="1549" y="3566"/>
                  </a:lnTo>
                  <a:lnTo>
                    <a:pt x="1525" y="3580"/>
                  </a:lnTo>
                  <a:lnTo>
                    <a:pt x="1500" y="3593"/>
                  </a:lnTo>
                  <a:lnTo>
                    <a:pt x="1472" y="3604"/>
                  </a:lnTo>
                  <a:lnTo>
                    <a:pt x="1444" y="3614"/>
                  </a:lnTo>
                  <a:lnTo>
                    <a:pt x="1413" y="3623"/>
                  </a:lnTo>
                  <a:lnTo>
                    <a:pt x="1381" y="3628"/>
                  </a:lnTo>
                  <a:lnTo>
                    <a:pt x="1347" y="3633"/>
                  </a:lnTo>
                  <a:lnTo>
                    <a:pt x="1274" y="3636"/>
                  </a:lnTo>
                  <a:lnTo>
                    <a:pt x="1244" y="3635"/>
                  </a:lnTo>
                  <a:lnTo>
                    <a:pt x="1211" y="3629"/>
                  </a:lnTo>
                  <a:lnTo>
                    <a:pt x="1177" y="3623"/>
                  </a:lnTo>
                  <a:lnTo>
                    <a:pt x="1140" y="3612"/>
                  </a:lnTo>
                  <a:lnTo>
                    <a:pt x="1060" y="3583"/>
                  </a:lnTo>
                  <a:lnTo>
                    <a:pt x="973" y="3542"/>
                  </a:lnTo>
                  <a:lnTo>
                    <a:pt x="900" y="3507"/>
                  </a:lnTo>
                  <a:lnTo>
                    <a:pt x="835" y="3483"/>
                  </a:lnTo>
                  <a:lnTo>
                    <a:pt x="805" y="3474"/>
                  </a:lnTo>
                  <a:lnTo>
                    <a:pt x="778" y="3469"/>
                  </a:lnTo>
                  <a:lnTo>
                    <a:pt x="751" y="3466"/>
                  </a:lnTo>
                  <a:lnTo>
                    <a:pt x="726" y="3464"/>
                  </a:lnTo>
                  <a:lnTo>
                    <a:pt x="703" y="3466"/>
                  </a:lnTo>
                  <a:lnTo>
                    <a:pt x="693" y="3467"/>
                  </a:lnTo>
                  <a:lnTo>
                    <a:pt x="683" y="3471"/>
                  </a:lnTo>
                  <a:lnTo>
                    <a:pt x="674" y="3474"/>
                  </a:lnTo>
                  <a:lnTo>
                    <a:pt x="666" y="3478"/>
                  </a:lnTo>
                  <a:lnTo>
                    <a:pt x="659" y="3485"/>
                  </a:lnTo>
                  <a:lnTo>
                    <a:pt x="652" y="3490"/>
                  </a:lnTo>
                  <a:lnTo>
                    <a:pt x="646" y="3497"/>
                  </a:lnTo>
                  <a:lnTo>
                    <a:pt x="641" y="3505"/>
                  </a:lnTo>
                  <a:lnTo>
                    <a:pt x="637" y="3514"/>
                  </a:lnTo>
                  <a:lnTo>
                    <a:pt x="633" y="3523"/>
                  </a:lnTo>
                  <a:lnTo>
                    <a:pt x="631" y="3533"/>
                  </a:lnTo>
                  <a:lnTo>
                    <a:pt x="629" y="3545"/>
                  </a:lnTo>
                  <a:lnTo>
                    <a:pt x="627" y="3557"/>
                  </a:lnTo>
                  <a:lnTo>
                    <a:pt x="627" y="3569"/>
                  </a:lnTo>
                  <a:lnTo>
                    <a:pt x="627" y="3573"/>
                  </a:lnTo>
                  <a:lnTo>
                    <a:pt x="627" y="3578"/>
                  </a:lnTo>
                  <a:lnTo>
                    <a:pt x="628" y="3586"/>
                  </a:lnTo>
                  <a:lnTo>
                    <a:pt x="630" y="3597"/>
                  </a:lnTo>
                  <a:lnTo>
                    <a:pt x="632" y="3607"/>
                  </a:lnTo>
                  <a:lnTo>
                    <a:pt x="634" y="3617"/>
                  </a:lnTo>
                  <a:lnTo>
                    <a:pt x="637" y="3629"/>
                  </a:lnTo>
                  <a:lnTo>
                    <a:pt x="641" y="3643"/>
                  </a:lnTo>
                  <a:lnTo>
                    <a:pt x="645" y="3657"/>
                  </a:lnTo>
                  <a:lnTo>
                    <a:pt x="651" y="3676"/>
                  </a:lnTo>
                  <a:lnTo>
                    <a:pt x="657" y="3693"/>
                  </a:lnTo>
                  <a:lnTo>
                    <a:pt x="660" y="3710"/>
                  </a:lnTo>
                  <a:lnTo>
                    <a:pt x="664" y="3726"/>
                  </a:lnTo>
                  <a:lnTo>
                    <a:pt x="667" y="3740"/>
                  </a:lnTo>
                  <a:lnTo>
                    <a:pt x="668" y="3754"/>
                  </a:lnTo>
                  <a:lnTo>
                    <a:pt x="670" y="3766"/>
                  </a:lnTo>
                  <a:lnTo>
                    <a:pt x="670" y="3773"/>
                  </a:lnTo>
                  <a:lnTo>
                    <a:pt x="670" y="3778"/>
                  </a:lnTo>
                  <a:lnTo>
                    <a:pt x="670" y="3798"/>
                  </a:lnTo>
                  <a:lnTo>
                    <a:pt x="668" y="3819"/>
                  </a:lnTo>
                  <a:lnTo>
                    <a:pt x="666" y="3838"/>
                  </a:lnTo>
                  <a:lnTo>
                    <a:pt x="663" y="3854"/>
                  </a:lnTo>
                  <a:lnTo>
                    <a:pt x="659" y="3871"/>
                  </a:lnTo>
                  <a:lnTo>
                    <a:pt x="655" y="3885"/>
                  </a:lnTo>
                  <a:lnTo>
                    <a:pt x="650" y="3897"/>
                  </a:lnTo>
                  <a:lnTo>
                    <a:pt x="643" y="3909"/>
                  </a:lnTo>
                  <a:lnTo>
                    <a:pt x="636" y="3919"/>
                  </a:lnTo>
                  <a:lnTo>
                    <a:pt x="627" y="3928"/>
                  </a:lnTo>
                  <a:lnTo>
                    <a:pt x="618" y="3935"/>
                  </a:lnTo>
                  <a:lnTo>
                    <a:pt x="608" y="3941"/>
                  </a:lnTo>
                  <a:lnTo>
                    <a:pt x="597" y="3947"/>
                  </a:lnTo>
                  <a:lnTo>
                    <a:pt x="586" y="3948"/>
                  </a:lnTo>
                  <a:lnTo>
                    <a:pt x="574" y="395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7920" y="1065240"/>
              <a:ext cx="347760" cy="727200"/>
            </a:xfrm>
            <a:custGeom>
              <a:avLst/>
              <a:gdLst/>
              <a:ahLst/>
              <a:rect l="l" t="t" r="r" b="b"/>
              <a:pathLst>
                <a:path w="966" h="2019">
                  <a:moveTo>
                    <a:pt x="809" y="1313"/>
                  </a:moveTo>
                  <a:lnTo>
                    <a:pt x="878" y="1463"/>
                  </a:lnTo>
                  <a:lnTo>
                    <a:pt x="787" y="1592"/>
                  </a:lnTo>
                  <a:lnTo>
                    <a:pt x="698" y="1706"/>
                  </a:lnTo>
                  <a:lnTo>
                    <a:pt x="613" y="1801"/>
                  </a:lnTo>
                  <a:lnTo>
                    <a:pt x="532" y="1879"/>
                  </a:lnTo>
                  <a:lnTo>
                    <a:pt x="453" y="1941"/>
                  </a:lnTo>
                  <a:lnTo>
                    <a:pt x="415" y="1963"/>
                  </a:lnTo>
                  <a:lnTo>
                    <a:pt x="378" y="1984"/>
                  </a:lnTo>
                  <a:lnTo>
                    <a:pt x="341" y="1999"/>
                  </a:lnTo>
                  <a:lnTo>
                    <a:pt x="306" y="2010"/>
                  </a:lnTo>
                  <a:lnTo>
                    <a:pt x="272" y="2016"/>
                  </a:lnTo>
                  <a:lnTo>
                    <a:pt x="238" y="2018"/>
                  </a:lnTo>
                  <a:lnTo>
                    <a:pt x="210" y="2016"/>
                  </a:lnTo>
                  <a:lnTo>
                    <a:pt x="184" y="2011"/>
                  </a:lnTo>
                  <a:lnTo>
                    <a:pt x="159" y="2001"/>
                  </a:lnTo>
                  <a:lnTo>
                    <a:pt x="147" y="1996"/>
                  </a:lnTo>
                  <a:lnTo>
                    <a:pt x="137" y="1989"/>
                  </a:lnTo>
                  <a:lnTo>
                    <a:pt x="125" y="1980"/>
                  </a:lnTo>
                  <a:lnTo>
                    <a:pt x="115" y="1972"/>
                  </a:lnTo>
                  <a:lnTo>
                    <a:pt x="105" y="1961"/>
                  </a:lnTo>
                  <a:lnTo>
                    <a:pt x="95" y="1951"/>
                  </a:lnTo>
                  <a:lnTo>
                    <a:pt x="86" y="1939"/>
                  </a:lnTo>
                  <a:lnTo>
                    <a:pt x="77" y="1927"/>
                  </a:lnTo>
                  <a:lnTo>
                    <a:pt x="69" y="1913"/>
                  </a:lnTo>
                  <a:lnTo>
                    <a:pt x="61" y="1898"/>
                  </a:lnTo>
                  <a:lnTo>
                    <a:pt x="53" y="1882"/>
                  </a:lnTo>
                  <a:lnTo>
                    <a:pt x="46" y="1865"/>
                  </a:lnTo>
                  <a:lnTo>
                    <a:pt x="40" y="1848"/>
                  </a:lnTo>
                  <a:lnTo>
                    <a:pt x="34" y="1829"/>
                  </a:lnTo>
                  <a:lnTo>
                    <a:pt x="28" y="1810"/>
                  </a:lnTo>
                  <a:lnTo>
                    <a:pt x="23" y="1789"/>
                  </a:lnTo>
                  <a:lnTo>
                    <a:pt x="14" y="1744"/>
                  </a:lnTo>
                  <a:lnTo>
                    <a:pt x="8" y="1696"/>
                  </a:lnTo>
                  <a:lnTo>
                    <a:pt x="4" y="1642"/>
                  </a:lnTo>
                  <a:lnTo>
                    <a:pt x="1" y="1586"/>
                  </a:lnTo>
                  <a:lnTo>
                    <a:pt x="0" y="1525"/>
                  </a:lnTo>
                  <a:lnTo>
                    <a:pt x="3" y="1403"/>
                  </a:lnTo>
                  <a:lnTo>
                    <a:pt x="11" y="1281"/>
                  </a:lnTo>
                  <a:lnTo>
                    <a:pt x="27" y="1158"/>
                  </a:lnTo>
                  <a:lnTo>
                    <a:pt x="48" y="1038"/>
                  </a:lnTo>
                  <a:lnTo>
                    <a:pt x="75" y="917"/>
                  </a:lnTo>
                  <a:lnTo>
                    <a:pt x="109" y="795"/>
                  </a:lnTo>
                  <a:lnTo>
                    <a:pt x="148" y="674"/>
                  </a:lnTo>
                  <a:lnTo>
                    <a:pt x="194" y="553"/>
                  </a:lnTo>
                  <a:lnTo>
                    <a:pt x="251" y="424"/>
                  </a:lnTo>
                  <a:lnTo>
                    <a:pt x="310" y="312"/>
                  </a:lnTo>
                  <a:lnTo>
                    <a:pt x="340" y="262"/>
                  </a:lnTo>
                  <a:lnTo>
                    <a:pt x="372" y="215"/>
                  </a:lnTo>
                  <a:lnTo>
                    <a:pt x="404" y="176"/>
                  </a:lnTo>
                  <a:lnTo>
                    <a:pt x="437" y="138"/>
                  </a:lnTo>
                  <a:lnTo>
                    <a:pt x="470" y="105"/>
                  </a:lnTo>
                  <a:lnTo>
                    <a:pt x="505" y="78"/>
                  </a:lnTo>
                  <a:lnTo>
                    <a:pt x="539" y="53"/>
                  </a:lnTo>
                  <a:lnTo>
                    <a:pt x="575" y="35"/>
                  </a:lnTo>
                  <a:lnTo>
                    <a:pt x="611" y="19"/>
                  </a:lnTo>
                  <a:lnTo>
                    <a:pt x="649" y="9"/>
                  </a:lnTo>
                  <a:lnTo>
                    <a:pt x="686" y="2"/>
                  </a:lnTo>
                  <a:lnTo>
                    <a:pt x="725" y="0"/>
                  </a:lnTo>
                  <a:lnTo>
                    <a:pt x="752" y="2"/>
                  </a:lnTo>
                  <a:lnTo>
                    <a:pt x="779" y="5"/>
                  </a:lnTo>
                  <a:lnTo>
                    <a:pt x="802" y="12"/>
                  </a:lnTo>
                  <a:lnTo>
                    <a:pt x="826" y="22"/>
                  </a:lnTo>
                  <a:lnTo>
                    <a:pt x="847" y="35"/>
                  </a:lnTo>
                  <a:lnTo>
                    <a:pt x="858" y="43"/>
                  </a:lnTo>
                  <a:lnTo>
                    <a:pt x="867" y="52"/>
                  </a:lnTo>
                  <a:lnTo>
                    <a:pt x="876" y="60"/>
                  </a:lnTo>
                  <a:lnTo>
                    <a:pt x="885" y="69"/>
                  </a:lnTo>
                  <a:lnTo>
                    <a:pt x="894" y="79"/>
                  </a:lnTo>
                  <a:lnTo>
                    <a:pt x="902" y="91"/>
                  </a:lnTo>
                  <a:lnTo>
                    <a:pt x="910" y="103"/>
                  </a:lnTo>
                  <a:lnTo>
                    <a:pt x="917" y="116"/>
                  </a:lnTo>
                  <a:lnTo>
                    <a:pt x="924" y="128"/>
                  </a:lnTo>
                  <a:lnTo>
                    <a:pt x="930" y="141"/>
                  </a:lnTo>
                  <a:lnTo>
                    <a:pt x="935" y="155"/>
                  </a:lnTo>
                  <a:lnTo>
                    <a:pt x="940" y="169"/>
                  </a:lnTo>
                  <a:lnTo>
                    <a:pt x="945" y="183"/>
                  </a:lnTo>
                  <a:lnTo>
                    <a:pt x="949" y="198"/>
                  </a:lnTo>
                  <a:lnTo>
                    <a:pt x="953" y="214"/>
                  </a:lnTo>
                  <a:lnTo>
                    <a:pt x="956" y="231"/>
                  </a:lnTo>
                  <a:lnTo>
                    <a:pt x="959" y="248"/>
                  </a:lnTo>
                  <a:lnTo>
                    <a:pt x="961" y="265"/>
                  </a:lnTo>
                  <a:lnTo>
                    <a:pt x="964" y="302"/>
                  </a:lnTo>
                  <a:lnTo>
                    <a:pt x="965" y="340"/>
                  </a:lnTo>
                  <a:lnTo>
                    <a:pt x="964" y="379"/>
                  </a:lnTo>
                  <a:lnTo>
                    <a:pt x="961" y="419"/>
                  </a:lnTo>
                  <a:lnTo>
                    <a:pt x="955" y="458"/>
                  </a:lnTo>
                  <a:lnTo>
                    <a:pt x="947" y="498"/>
                  </a:lnTo>
                  <a:lnTo>
                    <a:pt x="937" y="536"/>
                  </a:lnTo>
                  <a:lnTo>
                    <a:pt x="926" y="574"/>
                  </a:lnTo>
                  <a:lnTo>
                    <a:pt x="912" y="612"/>
                  </a:lnTo>
                  <a:lnTo>
                    <a:pt x="895" y="650"/>
                  </a:lnTo>
                  <a:lnTo>
                    <a:pt x="876" y="688"/>
                  </a:lnTo>
                  <a:lnTo>
                    <a:pt x="854" y="724"/>
                  </a:lnTo>
                  <a:lnTo>
                    <a:pt x="829" y="762"/>
                  </a:lnTo>
                  <a:lnTo>
                    <a:pt x="801" y="798"/>
                  </a:lnTo>
                  <a:lnTo>
                    <a:pt x="772" y="834"/>
                  </a:lnTo>
                  <a:lnTo>
                    <a:pt x="738" y="870"/>
                  </a:lnTo>
                  <a:lnTo>
                    <a:pt x="702" y="907"/>
                  </a:lnTo>
                  <a:lnTo>
                    <a:pt x="664" y="943"/>
                  </a:lnTo>
                  <a:lnTo>
                    <a:pt x="603" y="991"/>
                  </a:lnTo>
                  <a:lnTo>
                    <a:pt x="523" y="1053"/>
                  </a:lnTo>
                  <a:lnTo>
                    <a:pt x="298" y="1212"/>
                  </a:lnTo>
                  <a:lnTo>
                    <a:pt x="294" y="1256"/>
                  </a:lnTo>
                  <a:lnTo>
                    <a:pt x="291" y="1305"/>
                  </a:lnTo>
                  <a:lnTo>
                    <a:pt x="290" y="1355"/>
                  </a:lnTo>
                  <a:lnTo>
                    <a:pt x="289" y="1406"/>
                  </a:lnTo>
                  <a:lnTo>
                    <a:pt x="289" y="1441"/>
                  </a:lnTo>
                  <a:lnTo>
                    <a:pt x="291" y="1472"/>
                  </a:lnTo>
                  <a:lnTo>
                    <a:pt x="292" y="1499"/>
                  </a:lnTo>
                  <a:lnTo>
                    <a:pt x="295" y="1524"/>
                  </a:lnTo>
                  <a:lnTo>
                    <a:pt x="299" y="1546"/>
                  </a:lnTo>
                  <a:lnTo>
                    <a:pt x="301" y="1556"/>
                  </a:lnTo>
                  <a:lnTo>
                    <a:pt x="303" y="1565"/>
                  </a:lnTo>
                  <a:lnTo>
                    <a:pt x="305" y="1574"/>
                  </a:lnTo>
                  <a:lnTo>
                    <a:pt x="308" y="1580"/>
                  </a:lnTo>
                  <a:lnTo>
                    <a:pt x="311" y="1587"/>
                  </a:lnTo>
                  <a:lnTo>
                    <a:pt x="314" y="1594"/>
                  </a:lnTo>
                  <a:lnTo>
                    <a:pt x="317" y="1599"/>
                  </a:lnTo>
                  <a:lnTo>
                    <a:pt x="321" y="1606"/>
                  </a:lnTo>
                  <a:lnTo>
                    <a:pt x="325" y="1611"/>
                  </a:lnTo>
                  <a:lnTo>
                    <a:pt x="328" y="1615"/>
                  </a:lnTo>
                  <a:lnTo>
                    <a:pt x="333" y="1620"/>
                  </a:lnTo>
                  <a:lnTo>
                    <a:pt x="337" y="1623"/>
                  </a:lnTo>
                  <a:lnTo>
                    <a:pt x="340" y="1627"/>
                  </a:lnTo>
                  <a:lnTo>
                    <a:pt x="345" y="1630"/>
                  </a:lnTo>
                  <a:lnTo>
                    <a:pt x="350" y="1634"/>
                  </a:lnTo>
                  <a:lnTo>
                    <a:pt x="355" y="1636"/>
                  </a:lnTo>
                  <a:lnTo>
                    <a:pt x="366" y="1639"/>
                  </a:lnTo>
                  <a:lnTo>
                    <a:pt x="378" y="1642"/>
                  </a:lnTo>
                  <a:lnTo>
                    <a:pt x="391" y="1642"/>
                  </a:lnTo>
                  <a:lnTo>
                    <a:pt x="404" y="1642"/>
                  </a:lnTo>
                  <a:lnTo>
                    <a:pt x="419" y="1639"/>
                  </a:lnTo>
                  <a:lnTo>
                    <a:pt x="433" y="1636"/>
                  </a:lnTo>
                  <a:lnTo>
                    <a:pt x="449" y="1630"/>
                  </a:lnTo>
                  <a:lnTo>
                    <a:pt x="464" y="1623"/>
                  </a:lnTo>
                  <a:lnTo>
                    <a:pt x="479" y="1617"/>
                  </a:lnTo>
                  <a:lnTo>
                    <a:pt x="495" y="1606"/>
                  </a:lnTo>
                  <a:lnTo>
                    <a:pt x="512" y="1596"/>
                  </a:lnTo>
                  <a:lnTo>
                    <a:pt x="537" y="1577"/>
                  </a:lnTo>
                  <a:lnTo>
                    <a:pt x="566" y="1553"/>
                  </a:lnTo>
                  <a:lnTo>
                    <a:pt x="634" y="1491"/>
                  </a:lnTo>
                  <a:lnTo>
                    <a:pt x="715" y="1412"/>
                  </a:lnTo>
                  <a:close/>
                  <a:moveTo>
                    <a:pt x="320" y="991"/>
                  </a:moveTo>
                  <a:lnTo>
                    <a:pt x="411" y="913"/>
                  </a:lnTo>
                  <a:lnTo>
                    <a:pt x="492" y="836"/>
                  </a:lnTo>
                  <a:lnTo>
                    <a:pt x="528" y="798"/>
                  </a:lnTo>
                  <a:lnTo>
                    <a:pt x="561" y="758"/>
                  </a:lnTo>
                  <a:lnTo>
                    <a:pt x="593" y="720"/>
                  </a:lnTo>
                  <a:lnTo>
                    <a:pt x="620" y="681"/>
                  </a:lnTo>
                  <a:lnTo>
                    <a:pt x="639" y="646"/>
                  </a:lnTo>
                  <a:lnTo>
                    <a:pt x="655" y="614"/>
                  </a:lnTo>
                  <a:lnTo>
                    <a:pt x="668" y="583"/>
                  </a:lnTo>
                  <a:lnTo>
                    <a:pt x="680" y="552"/>
                  </a:lnTo>
                  <a:lnTo>
                    <a:pt x="684" y="536"/>
                  </a:lnTo>
                  <a:lnTo>
                    <a:pt x="689" y="521"/>
                  </a:lnTo>
                  <a:lnTo>
                    <a:pt x="692" y="505"/>
                  </a:lnTo>
                  <a:lnTo>
                    <a:pt x="695" y="491"/>
                  </a:lnTo>
                  <a:lnTo>
                    <a:pt x="697" y="477"/>
                  </a:lnTo>
                  <a:lnTo>
                    <a:pt x="699" y="464"/>
                  </a:lnTo>
                  <a:lnTo>
                    <a:pt x="700" y="450"/>
                  </a:lnTo>
                  <a:lnTo>
                    <a:pt x="700" y="436"/>
                  </a:lnTo>
                  <a:lnTo>
                    <a:pt x="700" y="417"/>
                  </a:lnTo>
                  <a:lnTo>
                    <a:pt x="698" y="400"/>
                  </a:lnTo>
                  <a:lnTo>
                    <a:pt x="697" y="384"/>
                  </a:lnTo>
                  <a:lnTo>
                    <a:pt x="695" y="376"/>
                  </a:lnTo>
                  <a:lnTo>
                    <a:pt x="694" y="369"/>
                  </a:lnTo>
                  <a:lnTo>
                    <a:pt x="692" y="362"/>
                  </a:lnTo>
                  <a:lnTo>
                    <a:pt x="690" y="355"/>
                  </a:lnTo>
                  <a:lnTo>
                    <a:pt x="688" y="348"/>
                  </a:lnTo>
                  <a:lnTo>
                    <a:pt x="686" y="341"/>
                  </a:lnTo>
                  <a:lnTo>
                    <a:pt x="683" y="334"/>
                  </a:lnTo>
                  <a:lnTo>
                    <a:pt x="680" y="329"/>
                  </a:lnTo>
                  <a:lnTo>
                    <a:pt x="677" y="322"/>
                  </a:lnTo>
                  <a:lnTo>
                    <a:pt x="674" y="317"/>
                  </a:lnTo>
                  <a:lnTo>
                    <a:pt x="671" y="312"/>
                  </a:lnTo>
                  <a:lnTo>
                    <a:pt x="668" y="307"/>
                  </a:lnTo>
                  <a:lnTo>
                    <a:pt x="665" y="302"/>
                  </a:lnTo>
                  <a:lnTo>
                    <a:pt x="661" y="298"/>
                  </a:lnTo>
                  <a:lnTo>
                    <a:pt x="658" y="295"/>
                  </a:lnTo>
                  <a:lnTo>
                    <a:pt x="654" y="291"/>
                  </a:lnTo>
                  <a:lnTo>
                    <a:pt x="650" y="288"/>
                  </a:lnTo>
                  <a:lnTo>
                    <a:pt x="646" y="284"/>
                  </a:lnTo>
                  <a:lnTo>
                    <a:pt x="641" y="283"/>
                  </a:lnTo>
                  <a:lnTo>
                    <a:pt x="637" y="279"/>
                  </a:lnTo>
                  <a:lnTo>
                    <a:pt x="627" y="278"/>
                  </a:lnTo>
                  <a:lnTo>
                    <a:pt x="618" y="274"/>
                  </a:lnTo>
                  <a:lnTo>
                    <a:pt x="607" y="274"/>
                  </a:lnTo>
                  <a:lnTo>
                    <a:pt x="597" y="274"/>
                  </a:lnTo>
                  <a:lnTo>
                    <a:pt x="585" y="278"/>
                  </a:lnTo>
                  <a:lnTo>
                    <a:pt x="574" y="281"/>
                  </a:lnTo>
                  <a:lnTo>
                    <a:pt x="563" y="288"/>
                  </a:lnTo>
                  <a:lnTo>
                    <a:pt x="551" y="295"/>
                  </a:lnTo>
                  <a:lnTo>
                    <a:pt x="540" y="303"/>
                  </a:lnTo>
                  <a:lnTo>
                    <a:pt x="529" y="315"/>
                  </a:lnTo>
                  <a:lnTo>
                    <a:pt x="518" y="327"/>
                  </a:lnTo>
                  <a:lnTo>
                    <a:pt x="502" y="348"/>
                  </a:lnTo>
                  <a:lnTo>
                    <a:pt x="487" y="372"/>
                  </a:lnTo>
                  <a:lnTo>
                    <a:pt x="472" y="398"/>
                  </a:lnTo>
                  <a:lnTo>
                    <a:pt x="458" y="429"/>
                  </a:lnTo>
                  <a:lnTo>
                    <a:pt x="444" y="462"/>
                  </a:lnTo>
                  <a:lnTo>
                    <a:pt x="429" y="500"/>
                  </a:lnTo>
                  <a:lnTo>
                    <a:pt x="415" y="539"/>
                  </a:lnTo>
                  <a:lnTo>
                    <a:pt x="402" y="584"/>
                  </a:lnTo>
                  <a:lnTo>
                    <a:pt x="376" y="689"/>
                  </a:lnTo>
                  <a:lnTo>
                    <a:pt x="353" y="793"/>
                  </a:lnTo>
                  <a:lnTo>
                    <a:pt x="335" y="89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7280" y="1068480"/>
              <a:ext cx="544680" cy="725400"/>
            </a:xfrm>
            <a:custGeom>
              <a:avLst/>
              <a:gdLst/>
              <a:ahLst/>
              <a:rect l="l" t="t" r="r" b="b"/>
              <a:pathLst>
                <a:path w="1511" h="2014">
                  <a:moveTo>
                    <a:pt x="1510" y="1522"/>
                  </a:moveTo>
                  <a:lnTo>
                    <a:pt x="1439" y="1637"/>
                  </a:lnTo>
                  <a:lnTo>
                    <a:pt x="1371" y="1737"/>
                  </a:lnTo>
                  <a:lnTo>
                    <a:pt x="1307" y="1822"/>
                  </a:lnTo>
                  <a:lnTo>
                    <a:pt x="1247" y="1891"/>
                  </a:lnTo>
                  <a:lnTo>
                    <a:pt x="1191" y="1944"/>
                  </a:lnTo>
                  <a:lnTo>
                    <a:pt x="1164" y="1965"/>
                  </a:lnTo>
                  <a:lnTo>
                    <a:pt x="1138" y="1982"/>
                  </a:lnTo>
                  <a:lnTo>
                    <a:pt x="1113" y="1996"/>
                  </a:lnTo>
                  <a:lnTo>
                    <a:pt x="1088" y="2006"/>
                  </a:lnTo>
                  <a:lnTo>
                    <a:pt x="1066" y="2011"/>
                  </a:lnTo>
                  <a:lnTo>
                    <a:pt x="1043" y="2013"/>
                  </a:lnTo>
                  <a:lnTo>
                    <a:pt x="1029" y="2011"/>
                  </a:lnTo>
                  <a:lnTo>
                    <a:pt x="1015" y="2008"/>
                  </a:lnTo>
                  <a:lnTo>
                    <a:pt x="1003" y="2003"/>
                  </a:lnTo>
                  <a:lnTo>
                    <a:pt x="990" y="1994"/>
                  </a:lnTo>
                  <a:lnTo>
                    <a:pt x="976" y="1984"/>
                  </a:lnTo>
                  <a:lnTo>
                    <a:pt x="963" y="1972"/>
                  </a:lnTo>
                  <a:lnTo>
                    <a:pt x="951" y="1956"/>
                  </a:lnTo>
                  <a:lnTo>
                    <a:pt x="939" y="1937"/>
                  </a:lnTo>
                  <a:lnTo>
                    <a:pt x="933" y="1927"/>
                  </a:lnTo>
                  <a:lnTo>
                    <a:pt x="927" y="1915"/>
                  </a:lnTo>
                  <a:lnTo>
                    <a:pt x="921" y="1901"/>
                  </a:lnTo>
                  <a:lnTo>
                    <a:pt x="916" y="1887"/>
                  </a:lnTo>
                  <a:lnTo>
                    <a:pt x="911" y="1870"/>
                  </a:lnTo>
                  <a:lnTo>
                    <a:pt x="906" y="1851"/>
                  </a:lnTo>
                  <a:lnTo>
                    <a:pt x="897" y="1810"/>
                  </a:lnTo>
                  <a:lnTo>
                    <a:pt x="889" y="1760"/>
                  </a:lnTo>
                  <a:lnTo>
                    <a:pt x="882" y="1704"/>
                  </a:lnTo>
                  <a:lnTo>
                    <a:pt x="877" y="1642"/>
                  </a:lnTo>
                  <a:lnTo>
                    <a:pt x="872" y="1573"/>
                  </a:lnTo>
                  <a:lnTo>
                    <a:pt x="822" y="686"/>
                  </a:lnTo>
                  <a:lnTo>
                    <a:pt x="738" y="1067"/>
                  </a:lnTo>
                  <a:lnTo>
                    <a:pt x="697" y="1230"/>
                  </a:lnTo>
                  <a:lnTo>
                    <a:pt x="657" y="1375"/>
                  </a:lnTo>
                  <a:lnTo>
                    <a:pt x="618" y="1501"/>
                  </a:lnTo>
                  <a:lnTo>
                    <a:pt x="579" y="1608"/>
                  </a:lnTo>
                  <a:lnTo>
                    <a:pt x="542" y="1697"/>
                  </a:lnTo>
                  <a:lnTo>
                    <a:pt x="523" y="1735"/>
                  </a:lnTo>
                  <a:lnTo>
                    <a:pt x="505" y="1768"/>
                  </a:lnTo>
                  <a:lnTo>
                    <a:pt x="469" y="1825"/>
                  </a:lnTo>
                  <a:lnTo>
                    <a:pt x="431" y="1875"/>
                  </a:lnTo>
                  <a:lnTo>
                    <a:pt x="392" y="1918"/>
                  </a:lnTo>
                  <a:lnTo>
                    <a:pt x="353" y="1953"/>
                  </a:lnTo>
                  <a:lnTo>
                    <a:pt x="333" y="1966"/>
                  </a:lnTo>
                  <a:lnTo>
                    <a:pt x="312" y="1978"/>
                  </a:lnTo>
                  <a:lnTo>
                    <a:pt x="291" y="1989"/>
                  </a:lnTo>
                  <a:lnTo>
                    <a:pt x="271" y="1997"/>
                  </a:lnTo>
                  <a:lnTo>
                    <a:pt x="250" y="2004"/>
                  </a:lnTo>
                  <a:lnTo>
                    <a:pt x="228" y="2009"/>
                  </a:lnTo>
                  <a:lnTo>
                    <a:pt x="207" y="2011"/>
                  </a:lnTo>
                  <a:lnTo>
                    <a:pt x="185" y="2013"/>
                  </a:lnTo>
                  <a:lnTo>
                    <a:pt x="166" y="2011"/>
                  </a:lnTo>
                  <a:lnTo>
                    <a:pt x="148" y="2009"/>
                  </a:lnTo>
                  <a:lnTo>
                    <a:pt x="130" y="2004"/>
                  </a:lnTo>
                  <a:lnTo>
                    <a:pt x="113" y="1996"/>
                  </a:lnTo>
                  <a:lnTo>
                    <a:pt x="96" y="1987"/>
                  </a:lnTo>
                  <a:lnTo>
                    <a:pt x="82" y="1975"/>
                  </a:lnTo>
                  <a:lnTo>
                    <a:pt x="67" y="1961"/>
                  </a:lnTo>
                  <a:lnTo>
                    <a:pt x="53" y="1946"/>
                  </a:lnTo>
                  <a:lnTo>
                    <a:pt x="46" y="1937"/>
                  </a:lnTo>
                  <a:lnTo>
                    <a:pt x="40" y="1928"/>
                  </a:lnTo>
                  <a:lnTo>
                    <a:pt x="35" y="1918"/>
                  </a:lnTo>
                  <a:lnTo>
                    <a:pt x="29" y="1909"/>
                  </a:lnTo>
                  <a:lnTo>
                    <a:pt x="25" y="1899"/>
                  </a:lnTo>
                  <a:lnTo>
                    <a:pt x="21" y="1889"/>
                  </a:lnTo>
                  <a:lnTo>
                    <a:pt x="17" y="1877"/>
                  </a:lnTo>
                  <a:lnTo>
                    <a:pt x="14" y="1866"/>
                  </a:lnTo>
                  <a:lnTo>
                    <a:pt x="10" y="1854"/>
                  </a:lnTo>
                  <a:lnTo>
                    <a:pt x="8" y="1842"/>
                  </a:lnTo>
                  <a:lnTo>
                    <a:pt x="5" y="1830"/>
                  </a:lnTo>
                  <a:lnTo>
                    <a:pt x="3" y="1816"/>
                  </a:lnTo>
                  <a:lnTo>
                    <a:pt x="2" y="1803"/>
                  </a:lnTo>
                  <a:lnTo>
                    <a:pt x="1" y="1789"/>
                  </a:lnTo>
                  <a:lnTo>
                    <a:pt x="0" y="1775"/>
                  </a:lnTo>
                  <a:lnTo>
                    <a:pt x="0" y="1761"/>
                  </a:lnTo>
                  <a:lnTo>
                    <a:pt x="1" y="1735"/>
                  </a:lnTo>
                  <a:lnTo>
                    <a:pt x="2" y="1722"/>
                  </a:lnTo>
                  <a:lnTo>
                    <a:pt x="3" y="1710"/>
                  </a:lnTo>
                  <a:lnTo>
                    <a:pt x="5" y="1697"/>
                  </a:lnTo>
                  <a:lnTo>
                    <a:pt x="7" y="1685"/>
                  </a:lnTo>
                  <a:lnTo>
                    <a:pt x="9" y="1673"/>
                  </a:lnTo>
                  <a:lnTo>
                    <a:pt x="12" y="1663"/>
                  </a:lnTo>
                  <a:lnTo>
                    <a:pt x="15" y="1653"/>
                  </a:lnTo>
                  <a:lnTo>
                    <a:pt x="19" y="1641"/>
                  </a:lnTo>
                  <a:lnTo>
                    <a:pt x="22" y="1630"/>
                  </a:lnTo>
                  <a:lnTo>
                    <a:pt x="26" y="1622"/>
                  </a:lnTo>
                  <a:lnTo>
                    <a:pt x="30" y="1611"/>
                  </a:lnTo>
                  <a:lnTo>
                    <a:pt x="35" y="1601"/>
                  </a:lnTo>
                  <a:lnTo>
                    <a:pt x="46" y="1584"/>
                  </a:lnTo>
                  <a:lnTo>
                    <a:pt x="58" y="1568"/>
                  </a:lnTo>
                  <a:lnTo>
                    <a:pt x="70" y="1554"/>
                  </a:lnTo>
                  <a:lnTo>
                    <a:pt x="83" y="1542"/>
                  </a:lnTo>
                  <a:lnTo>
                    <a:pt x="95" y="1532"/>
                  </a:lnTo>
                  <a:lnTo>
                    <a:pt x="109" y="1525"/>
                  </a:lnTo>
                  <a:lnTo>
                    <a:pt x="123" y="1520"/>
                  </a:lnTo>
                  <a:lnTo>
                    <a:pt x="138" y="1517"/>
                  </a:lnTo>
                  <a:lnTo>
                    <a:pt x="154" y="1515"/>
                  </a:lnTo>
                  <a:lnTo>
                    <a:pt x="161" y="1515"/>
                  </a:lnTo>
                  <a:lnTo>
                    <a:pt x="171" y="1517"/>
                  </a:lnTo>
                  <a:lnTo>
                    <a:pt x="181" y="1520"/>
                  </a:lnTo>
                  <a:lnTo>
                    <a:pt x="192" y="1523"/>
                  </a:lnTo>
                  <a:lnTo>
                    <a:pt x="204" y="1529"/>
                  </a:lnTo>
                  <a:lnTo>
                    <a:pt x="216" y="1535"/>
                  </a:lnTo>
                  <a:lnTo>
                    <a:pt x="243" y="1551"/>
                  </a:lnTo>
                  <a:lnTo>
                    <a:pt x="266" y="1563"/>
                  </a:lnTo>
                  <a:lnTo>
                    <a:pt x="277" y="1568"/>
                  </a:lnTo>
                  <a:lnTo>
                    <a:pt x="287" y="1572"/>
                  </a:lnTo>
                  <a:lnTo>
                    <a:pt x="295" y="1575"/>
                  </a:lnTo>
                  <a:lnTo>
                    <a:pt x="303" y="1577"/>
                  </a:lnTo>
                  <a:lnTo>
                    <a:pt x="311" y="1579"/>
                  </a:lnTo>
                  <a:lnTo>
                    <a:pt x="318" y="1579"/>
                  </a:lnTo>
                  <a:lnTo>
                    <a:pt x="326" y="1579"/>
                  </a:lnTo>
                  <a:lnTo>
                    <a:pt x="334" y="1577"/>
                  </a:lnTo>
                  <a:lnTo>
                    <a:pt x="342" y="1575"/>
                  </a:lnTo>
                  <a:lnTo>
                    <a:pt x="350" y="1572"/>
                  </a:lnTo>
                  <a:lnTo>
                    <a:pt x="358" y="1568"/>
                  </a:lnTo>
                  <a:lnTo>
                    <a:pt x="366" y="1565"/>
                  </a:lnTo>
                  <a:lnTo>
                    <a:pt x="382" y="1554"/>
                  </a:lnTo>
                  <a:lnTo>
                    <a:pt x="398" y="1541"/>
                  </a:lnTo>
                  <a:lnTo>
                    <a:pt x="415" y="1523"/>
                  </a:lnTo>
                  <a:lnTo>
                    <a:pt x="430" y="1503"/>
                  </a:lnTo>
                  <a:lnTo>
                    <a:pt x="446" y="1480"/>
                  </a:lnTo>
                  <a:lnTo>
                    <a:pt x="455" y="1467"/>
                  </a:lnTo>
                  <a:lnTo>
                    <a:pt x="464" y="1451"/>
                  </a:lnTo>
                  <a:lnTo>
                    <a:pt x="484" y="1408"/>
                  </a:lnTo>
                  <a:lnTo>
                    <a:pt x="505" y="1353"/>
                  </a:lnTo>
                  <a:lnTo>
                    <a:pt x="529" y="1286"/>
                  </a:lnTo>
                  <a:lnTo>
                    <a:pt x="584" y="1113"/>
                  </a:lnTo>
                  <a:lnTo>
                    <a:pt x="649" y="893"/>
                  </a:lnTo>
                  <a:lnTo>
                    <a:pt x="753" y="514"/>
                  </a:lnTo>
                  <a:lnTo>
                    <a:pt x="779" y="408"/>
                  </a:lnTo>
                  <a:lnTo>
                    <a:pt x="786" y="377"/>
                  </a:lnTo>
                  <a:lnTo>
                    <a:pt x="787" y="367"/>
                  </a:lnTo>
                  <a:lnTo>
                    <a:pt x="788" y="364"/>
                  </a:lnTo>
                  <a:lnTo>
                    <a:pt x="788" y="360"/>
                  </a:lnTo>
                  <a:lnTo>
                    <a:pt x="788" y="357"/>
                  </a:lnTo>
                  <a:lnTo>
                    <a:pt x="788" y="355"/>
                  </a:lnTo>
                  <a:lnTo>
                    <a:pt x="787" y="352"/>
                  </a:lnTo>
                  <a:lnTo>
                    <a:pt x="787" y="350"/>
                  </a:lnTo>
                  <a:lnTo>
                    <a:pt x="787" y="348"/>
                  </a:lnTo>
                  <a:lnTo>
                    <a:pt x="786" y="346"/>
                  </a:lnTo>
                  <a:lnTo>
                    <a:pt x="785" y="345"/>
                  </a:lnTo>
                  <a:lnTo>
                    <a:pt x="784" y="343"/>
                  </a:lnTo>
                  <a:lnTo>
                    <a:pt x="783" y="341"/>
                  </a:lnTo>
                  <a:lnTo>
                    <a:pt x="782" y="339"/>
                  </a:lnTo>
                  <a:lnTo>
                    <a:pt x="781" y="338"/>
                  </a:lnTo>
                  <a:lnTo>
                    <a:pt x="780" y="338"/>
                  </a:lnTo>
                  <a:lnTo>
                    <a:pt x="778" y="338"/>
                  </a:lnTo>
                  <a:lnTo>
                    <a:pt x="777" y="336"/>
                  </a:lnTo>
                  <a:lnTo>
                    <a:pt x="775" y="336"/>
                  </a:lnTo>
                  <a:lnTo>
                    <a:pt x="773" y="336"/>
                  </a:lnTo>
                  <a:lnTo>
                    <a:pt x="762" y="338"/>
                  </a:lnTo>
                  <a:lnTo>
                    <a:pt x="751" y="339"/>
                  </a:lnTo>
                  <a:lnTo>
                    <a:pt x="740" y="345"/>
                  </a:lnTo>
                  <a:lnTo>
                    <a:pt x="727" y="353"/>
                  </a:lnTo>
                  <a:lnTo>
                    <a:pt x="713" y="362"/>
                  </a:lnTo>
                  <a:lnTo>
                    <a:pt x="698" y="374"/>
                  </a:lnTo>
                  <a:lnTo>
                    <a:pt x="668" y="401"/>
                  </a:lnTo>
                  <a:lnTo>
                    <a:pt x="633" y="439"/>
                  </a:lnTo>
                  <a:lnTo>
                    <a:pt x="595" y="484"/>
                  </a:lnTo>
                  <a:lnTo>
                    <a:pt x="554" y="538"/>
                  </a:lnTo>
                  <a:lnTo>
                    <a:pt x="510" y="600"/>
                  </a:lnTo>
                  <a:lnTo>
                    <a:pt x="420" y="479"/>
                  </a:lnTo>
                  <a:lnTo>
                    <a:pt x="498" y="367"/>
                  </a:lnTo>
                  <a:lnTo>
                    <a:pt x="573" y="269"/>
                  </a:lnTo>
                  <a:lnTo>
                    <a:pt x="642" y="186"/>
                  </a:lnTo>
                  <a:lnTo>
                    <a:pt x="707" y="119"/>
                  </a:lnTo>
                  <a:lnTo>
                    <a:pt x="768" y="67"/>
                  </a:lnTo>
                  <a:lnTo>
                    <a:pt x="797" y="46"/>
                  </a:lnTo>
                  <a:lnTo>
                    <a:pt x="823" y="29"/>
                  </a:lnTo>
                  <a:lnTo>
                    <a:pt x="850" y="17"/>
                  </a:lnTo>
                  <a:lnTo>
                    <a:pt x="875" y="7"/>
                  </a:lnTo>
                  <a:lnTo>
                    <a:pt x="898" y="2"/>
                  </a:lnTo>
                  <a:lnTo>
                    <a:pt x="921" y="0"/>
                  </a:lnTo>
                  <a:lnTo>
                    <a:pt x="940" y="2"/>
                  </a:lnTo>
                  <a:lnTo>
                    <a:pt x="956" y="5"/>
                  </a:lnTo>
                  <a:lnTo>
                    <a:pt x="964" y="7"/>
                  </a:lnTo>
                  <a:lnTo>
                    <a:pt x="972" y="10"/>
                  </a:lnTo>
                  <a:lnTo>
                    <a:pt x="979" y="14"/>
                  </a:lnTo>
                  <a:lnTo>
                    <a:pt x="986" y="19"/>
                  </a:lnTo>
                  <a:lnTo>
                    <a:pt x="992" y="22"/>
                  </a:lnTo>
                  <a:lnTo>
                    <a:pt x="998" y="29"/>
                  </a:lnTo>
                  <a:lnTo>
                    <a:pt x="1004" y="34"/>
                  </a:lnTo>
                  <a:lnTo>
                    <a:pt x="1009" y="41"/>
                  </a:lnTo>
                  <a:lnTo>
                    <a:pt x="1014" y="48"/>
                  </a:lnTo>
                  <a:lnTo>
                    <a:pt x="1017" y="57"/>
                  </a:lnTo>
                  <a:lnTo>
                    <a:pt x="1021" y="65"/>
                  </a:lnTo>
                  <a:lnTo>
                    <a:pt x="1024" y="74"/>
                  </a:lnTo>
                  <a:lnTo>
                    <a:pt x="1027" y="84"/>
                  </a:lnTo>
                  <a:lnTo>
                    <a:pt x="1030" y="95"/>
                  </a:lnTo>
                  <a:lnTo>
                    <a:pt x="1036" y="119"/>
                  </a:lnTo>
                  <a:lnTo>
                    <a:pt x="1041" y="146"/>
                  </a:lnTo>
                  <a:lnTo>
                    <a:pt x="1046" y="181"/>
                  </a:lnTo>
                  <a:lnTo>
                    <a:pt x="1051" y="217"/>
                  </a:lnTo>
                  <a:lnTo>
                    <a:pt x="1055" y="258"/>
                  </a:lnTo>
                  <a:lnTo>
                    <a:pt x="1062" y="353"/>
                  </a:lnTo>
                  <a:lnTo>
                    <a:pt x="1120" y="1420"/>
                  </a:lnTo>
                  <a:lnTo>
                    <a:pt x="1124" y="1480"/>
                  </a:lnTo>
                  <a:lnTo>
                    <a:pt x="1130" y="1534"/>
                  </a:lnTo>
                  <a:lnTo>
                    <a:pt x="1137" y="1579"/>
                  </a:lnTo>
                  <a:lnTo>
                    <a:pt x="1141" y="1598"/>
                  </a:lnTo>
                  <a:lnTo>
                    <a:pt x="1145" y="1615"/>
                  </a:lnTo>
                  <a:lnTo>
                    <a:pt x="1148" y="1630"/>
                  </a:lnTo>
                  <a:lnTo>
                    <a:pt x="1153" y="1644"/>
                  </a:lnTo>
                  <a:lnTo>
                    <a:pt x="1158" y="1654"/>
                  </a:lnTo>
                  <a:lnTo>
                    <a:pt x="1163" y="1665"/>
                  </a:lnTo>
                  <a:lnTo>
                    <a:pt x="1166" y="1668"/>
                  </a:lnTo>
                  <a:lnTo>
                    <a:pt x="1169" y="1672"/>
                  </a:lnTo>
                  <a:lnTo>
                    <a:pt x="1172" y="1673"/>
                  </a:lnTo>
                  <a:lnTo>
                    <a:pt x="1175" y="1677"/>
                  </a:lnTo>
                  <a:lnTo>
                    <a:pt x="1178" y="1679"/>
                  </a:lnTo>
                  <a:lnTo>
                    <a:pt x="1181" y="1679"/>
                  </a:lnTo>
                  <a:lnTo>
                    <a:pt x="1185" y="1680"/>
                  </a:lnTo>
                  <a:lnTo>
                    <a:pt x="1188" y="1680"/>
                  </a:lnTo>
                  <a:lnTo>
                    <a:pt x="1192" y="1680"/>
                  </a:lnTo>
                  <a:lnTo>
                    <a:pt x="1197" y="1679"/>
                  </a:lnTo>
                  <a:lnTo>
                    <a:pt x="1202" y="1677"/>
                  </a:lnTo>
                  <a:lnTo>
                    <a:pt x="1207" y="1673"/>
                  </a:lnTo>
                  <a:lnTo>
                    <a:pt x="1218" y="1665"/>
                  </a:lnTo>
                  <a:lnTo>
                    <a:pt x="1232" y="1653"/>
                  </a:lnTo>
                  <a:lnTo>
                    <a:pt x="1247" y="1635"/>
                  </a:lnTo>
                  <a:lnTo>
                    <a:pt x="1264" y="1616"/>
                  </a:lnTo>
                  <a:lnTo>
                    <a:pt x="1302" y="1567"/>
                  </a:lnTo>
                  <a:lnTo>
                    <a:pt x="1345" y="1510"/>
                  </a:lnTo>
                  <a:lnTo>
                    <a:pt x="1385" y="1461"/>
                  </a:lnTo>
                  <a:lnTo>
                    <a:pt x="1420" y="1422"/>
                  </a:lnTo>
                  <a:lnTo>
                    <a:pt x="1436" y="1406"/>
                  </a:lnTo>
                  <a:lnTo>
                    <a:pt x="1451" y="139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068480"/>
              <a:ext cx="403200" cy="728640"/>
            </a:xfrm>
            <a:custGeom>
              <a:avLst/>
              <a:gdLst/>
              <a:ahLst/>
              <a:rect l="l" t="t" r="r" b="b"/>
              <a:pathLst>
                <a:path w="1118" h="2022">
                  <a:moveTo>
                    <a:pt x="511" y="805"/>
                  </a:moveTo>
                  <a:lnTo>
                    <a:pt x="554" y="774"/>
                  </a:lnTo>
                  <a:lnTo>
                    <a:pt x="593" y="748"/>
                  </a:lnTo>
                  <a:lnTo>
                    <a:pt x="632" y="725"/>
                  </a:lnTo>
                  <a:lnTo>
                    <a:pt x="667" y="707"/>
                  </a:lnTo>
                  <a:lnTo>
                    <a:pt x="699" y="693"/>
                  </a:lnTo>
                  <a:lnTo>
                    <a:pt x="731" y="682"/>
                  </a:lnTo>
                  <a:lnTo>
                    <a:pt x="760" y="676"/>
                  </a:lnTo>
                  <a:lnTo>
                    <a:pt x="786" y="674"/>
                  </a:lnTo>
                  <a:lnTo>
                    <a:pt x="822" y="676"/>
                  </a:lnTo>
                  <a:lnTo>
                    <a:pt x="856" y="682"/>
                  </a:lnTo>
                  <a:lnTo>
                    <a:pt x="888" y="691"/>
                  </a:lnTo>
                  <a:lnTo>
                    <a:pt x="919" y="705"/>
                  </a:lnTo>
                  <a:lnTo>
                    <a:pt x="948" y="722"/>
                  </a:lnTo>
                  <a:lnTo>
                    <a:pt x="975" y="744"/>
                  </a:lnTo>
                  <a:lnTo>
                    <a:pt x="1001" y="770"/>
                  </a:lnTo>
                  <a:lnTo>
                    <a:pt x="1025" y="800"/>
                  </a:lnTo>
                  <a:lnTo>
                    <a:pt x="1035" y="815"/>
                  </a:lnTo>
                  <a:lnTo>
                    <a:pt x="1046" y="832"/>
                  </a:lnTo>
                  <a:lnTo>
                    <a:pt x="1056" y="850"/>
                  </a:lnTo>
                  <a:lnTo>
                    <a:pt x="1065" y="867"/>
                  </a:lnTo>
                  <a:lnTo>
                    <a:pt x="1074" y="886"/>
                  </a:lnTo>
                  <a:lnTo>
                    <a:pt x="1081" y="906"/>
                  </a:lnTo>
                  <a:lnTo>
                    <a:pt x="1088" y="925"/>
                  </a:lnTo>
                  <a:lnTo>
                    <a:pt x="1094" y="948"/>
                  </a:lnTo>
                  <a:lnTo>
                    <a:pt x="1099" y="968"/>
                  </a:lnTo>
                  <a:lnTo>
                    <a:pt x="1104" y="991"/>
                  </a:lnTo>
                  <a:lnTo>
                    <a:pt x="1108" y="1015"/>
                  </a:lnTo>
                  <a:lnTo>
                    <a:pt x="1111" y="1037"/>
                  </a:lnTo>
                  <a:lnTo>
                    <a:pt x="1114" y="1063"/>
                  </a:lnTo>
                  <a:lnTo>
                    <a:pt x="1116" y="1087"/>
                  </a:lnTo>
                  <a:lnTo>
                    <a:pt x="1117" y="1141"/>
                  </a:lnTo>
                  <a:lnTo>
                    <a:pt x="1116" y="1186"/>
                  </a:lnTo>
                  <a:lnTo>
                    <a:pt x="1114" y="1230"/>
                  </a:lnTo>
                  <a:lnTo>
                    <a:pt x="1109" y="1274"/>
                  </a:lnTo>
                  <a:lnTo>
                    <a:pt x="1104" y="1317"/>
                  </a:lnTo>
                  <a:lnTo>
                    <a:pt x="1096" y="1358"/>
                  </a:lnTo>
                  <a:lnTo>
                    <a:pt x="1088" y="1399"/>
                  </a:lnTo>
                  <a:lnTo>
                    <a:pt x="1077" y="1439"/>
                  </a:lnTo>
                  <a:lnTo>
                    <a:pt x="1064" y="1479"/>
                  </a:lnTo>
                  <a:lnTo>
                    <a:pt x="1050" y="1517"/>
                  </a:lnTo>
                  <a:lnTo>
                    <a:pt x="1034" y="1554"/>
                  </a:lnTo>
                  <a:lnTo>
                    <a:pt x="1017" y="1591"/>
                  </a:lnTo>
                  <a:lnTo>
                    <a:pt x="998" y="1627"/>
                  </a:lnTo>
                  <a:lnTo>
                    <a:pt x="955" y="1697"/>
                  </a:lnTo>
                  <a:lnTo>
                    <a:pt x="905" y="1763"/>
                  </a:lnTo>
                  <a:lnTo>
                    <a:pt x="851" y="1823"/>
                  </a:lnTo>
                  <a:lnTo>
                    <a:pt x="797" y="1877"/>
                  </a:lnTo>
                  <a:lnTo>
                    <a:pt x="740" y="1920"/>
                  </a:lnTo>
                  <a:lnTo>
                    <a:pt x="683" y="1958"/>
                  </a:lnTo>
                  <a:lnTo>
                    <a:pt x="624" y="1985"/>
                  </a:lnTo>
                  <a:lnTo>
                    <a:pt x="564" y="2006"/>
                  </a:lnTo>
                  <a:lnTo>
                    <a:pt x="502" y="2018"/>
                  </a:lnTo>
                  <a:lnTo>
                    <a:pt x="439" y="2021"/>
                  </a:lnTo>
                  <a:lnTo>
                    <a:pt x="366" y="2016"/>
                  </a:lnTo>
                  <a:lnTo>
                    <a:pt x="332" y="2009"/>
                  </a:lnTo>
                  <a:lnTo>
                    <a:pt x="302" y="2001"/>
                  </a:lnTo>
                  <a:lnTo>
                    <a:pt x="273" y="1990"/>
                  </a:lnTo>
                  <a:lnTo>
                    <a:pt x="246" y="1977"/>
                  </a:lnTo>
                  <a:lnTo>
                    <a:pt x="224" y="1959"/>
                  </a:lnTo>
                  <a:lnTo>
                    <a:pt x="202" y="1940"/>
                  </a:lnTo>
                  <a:lnTo>
                    <a:pt x="183" y="1920"/>
                  </a:lnTo>
                  <a:lnTo>
                    <a:pt x="168" y="1896"/>
                  </a:lnTo>
                  <a:lnTo>
                    <a:pt x="154" y="1870"/>
                  </a:lnTo>
                  <a:lnTo>
                    <a:pt x="143" y="1841"/>
                  </a:lnTo>
                  <a:lnTo>
                    <a:pt x="134" y="1810"/>
                  </a:lnTo>
                  <a:lnTo>
                    <a:pt x="128" y="1775"/>
                  </a:lnTo>
                  <a:lnTo>
                    <a:pt x="124" y="1739"/>
                  </a:lnTo>
                  <a:lnTo>
                    <a:pt x="123" y="1699"/>
                  </a:lnTo>
                  <a:lnTo>
                    <a:pt x="123" y="1687"/>
                  </a:lnTo>
                  <a:lnTo>
                    <a:pt x="124" y="1675"/>
                  </a:lnTo>
                  <a:lnTo>
                    <a:pt x="127" y="1641"/>
                  </a:lnTo>
                  <a:lnTo>
                    <a:pt x="137" y="1548"/>
                  </a:lnTo>
                  <a:lnTo>
                    <a:pt x="155" y="1422"/>
                  </a:lnTo>
                  <a:lnTo>
                    <a:pt x="180" y="1260"/>
                  </a:lnTo>
                  <a:lnTo>
                    <a:pt x="310" y="469"/>
                  </a:lnTo>
                  <a:lnTo>
                    <a:pt x="315" y="441"/>
                  </a:lnTo>
                  <a:lnTo>
                    <a:pt x="316" y="429"/>
                  </a:lnTo>
                  <a:lnTo>
                    <a:pt x="318" y="419"/>
                  </a:lnTo>
                  <a:lnTo>
                    <a:pt x="319" y="408"/>
                  </a:lnTo>
                  <a:lnTo>
                    <a:pt x="319" y="398"/>
                  </a:lnTo>
                  <a:lnTo>
                    <a:pt x="320" y="389"/>
                  </a:lnTo>
                  <a:lnTo>
                    <a:pt x="320" y="383"/>
                  </a:lnTo>
                  <a:lnTo>
                    <a:pt x="320" y="377"/>
                  </a:lnTo>
                  <a:lnTo>
                    <a:pt x="320" y="374"/>
                  </a:lnTo>
                  <a:lnTo>
                    <a:pt x="319" y="372"/>
                  </a:lnTo>
                  <a:lnTo>
                    <a:pt x="319" y="370"/>
                  </a:lnTo>
                  <a:lnTo>
                    <a:pt x="319" y="369"/>
                  </a:lnTo>
                  <a:lnTo>
                    <a:pt x="319" y="367"/>
                  </a:lnTo>
                  <a:lnTo>
                    <a:pt x="318" y="365"/>
                  </a:lnTo>
                  <a:lnTo>
                    <a:pt x="318" y="365"/>
                  </a:lnTo>
                  <a:lnTo>
                    <a:pt x="317" y="364"/>
                  </a:lnTo>
                  <a:lnTo>
                    <a:pt x="317" y="364"/>
                  </a:lnTo>
                  <a:lnTo>
                    <a:pt x="317" y="364"/>
                  </a:lnTo>
                  <a:lnTo>
                    <a:pt x="317" y="362"/>
                  </a:lnTo>
                  <a:lnTo>
                    <a:pt x="316" y="362"/>
                  </a:lnTo>
                  <a:lnTo>
                    <a:pt x="316" y="362"/>
                  </a:lnTo>
                  <a:lnTo>
                    <a:pt x="316" y="362"/>
                  </a:lnTo>
                  <a:lnTo>
                    <a:pt x="316" y="362"/>
                  </a:lnTo>
                  <a:lnTo>
                    <a:pt x="315" y="362"/>
                  </a:lnTo>
                  <a:lnTo>
                    <a:pt x="315" y="362"/>
                  </a:lnTo>
                  <a:lnTo>
                    <a:pt x="308" y="364"/>
                  </a:lnTo>
                  <a:lnTo>
                    <a:pt x="300" y="365"/>
                  </a:lnTo>
                  <a:lnTo>
                    <a:pt x="291" y="370"/>
                  </a:lnTo>
                  <a:lnTo>
                    <a:pt x="281" y="377"/>
                  </a:lnTo>
                  <a:lnTo>
                    <a:pt x="258" y="395"/>
                  </a:lnTo>
                  <a:lnTo>
                    <a:pt x="233" y="422"/>
                  </a:lnTo>
                  <a:lnTo>
                    <a:pt x="203" y="455"/>
                  </a:lnTo>
                  <a:lnTo>
                    <a:pt x="170" y="496"/>
                  </a:lnTo>
                  <a:lnTo>
                    <a:pt x="92" y="600"/>
                  </a:lnTo>
                  <a:lnTo>
                    <a:pt x="0" y="482"/>
                  </a:lnTo>
                  <a:lnTo>
                    <a:pt x="79" y="369"/>
                  </a:lnTo>
                  <a:lnTo>
                    <a:pt x="152" y="271"/>
                  </a:lnTo>
                  <a:lnTo>
                    <a:pt x="221" y="188"/>
                  </a:lnTo>
                  <a:lnTo>
                    <a:pt x="285" y="121"/>
                  </a:lnTo>
                  <a:lnTo>
                    <a:pt x="343" y="67"/>
                  </a:lnTo>
                  <a:lnTo>
                    <a:pt x="370" y="46"/>
                  </a:lnTo>
                  <a:lnTo>
                    <a:pt x="397" y="29"/>
                  </a:lnTo>
                  <a:lnTo>
                    <a:pt x="422" y="17"/>
                  </a:lnTo>
                  <a:lnTo>
                    <a:pt x="445" y="7"/>
                  </a:lnTo>
                  <a:lnTo>
                    <a:pt x="468" y="2"/>
                  </a:lnTo>
                  <a:lnTo>
                    <a:pt x="490" y="0"/>
                  </a:lnTo>
                  <a:lnTo>
                    <a:pt x="502" y="0"/>
                  </a:lnTo>
                  <a:lnTo>
                    <a:pt x="515" y="3"/>
                  </a:lnTo>
                  <a:lnTo>
                    <a:pt x="526" y="7"/>
                  </a:lnTo>
                  <a:lnTo>
                    <a:pt x="537" y="14"/>
                  </a:lnTo>
                  <a:lnTo>
                    <a:pt x="547" y="21"/>
                  </a:lnTo>
                  <a:lnTo>
                    <a:pt x="556" y="29"/>
                  </a:lnTo>
                  <a:lnTo>
                    <a:pt x="564" y="40"/>
                  </a:lnTo>
                  <a:lnTo>
                    <a:pt x="570" y="52"/>
                  </a:lnTo>
                  <a:lnTo>
                    <a:pt x="577" y="65"/>
                  </a:lnTo>
                  <a:lnTo>
                    <a:pt x="582" y="81"/>
                  </a:lnTo>
                  <a:lnTo>
                    <a:pt x="587" y="98"/>
                  </a:lnTo>
                  <a:lnTo>
                    <a:pt x="591" y="117"/>
                  </a:lnTo>
                  <a:lnTo>
                    <a:pt x="594" y="136"/>
                  </a:lnTo>
                  <a:lnTo>
                    <a:pt x="596" y="158"/>
                  </a:lnTo>
                  <a:lnTo>
                    <a:pt x="598" y="181"/>
                  </a:lnTo>
                  <a:lnTo>
                    <a:pt x="598" y="207"/>
                  </a:lnTo>
                  <a:lnTo>
                    <a:pt x="597" y="252"/>
                  </a:lnTo>
                  <a:lnTo>
                    <a:pt x="592" y="305"/>
                  </a:lnTo>
                  <a:lnTo>
                    <a:pt x="585" y="367"/>
                  </a:lnTo>
                  <a:lnTo>
                    <a:pt x="576" y="438"/>
                  </a:lnTo>
                  <a:lnTo>
                    <a:pt x="549" y="605"/>
                  </a:lnTo>
                  <a:close/>
                  <a:moveTo>
                    <a:pt x="403" y="1632"/>
                  </a:moveTo>
                  <a:lnTo>
                    <a:pt x="403" y="1651"/>
                  </a:lnTo>
                  <a:lnTo>
                    <a:pt x="405" y="1666"/>
                  </a:lnTo>
                  <a:lnTo>
                    <a:pt x="406" y="1682"/>
                  </a:lnTo>
                  <a:lnTo>
                    <a:pt x="408" y="1691"/>
                  </a:lnTo>
                  <a:lnTo>
                    <a:pt x="409" y="1697"/>
                  </a:lnTo>
                  <a:lnTo>
                    <a:pt x="411" y="1704"/>
                  </a:lnTo>
                  <a:lnTo>
                    <a:pt x="412" y="1710"/>
                  </a:lnTo>
                  <a:lnTo>
                    <a:pt x="414" y="1716"/>
                  </a:lnTo>
                  <a:lnTo>
                    <a:pt x="417" y="1722"/>
                  </a:lnTo>
                  <a:lnTo>
                    <a:pt x="419" y="1727"/>
                  </a:lnTo>
                  <a:lnTo>
                    <a:pt x="421" y="1732"/>
                  </a:lnTo>
                  <a:lnTo>
                    <a:pt x="424" y="1737"/>
                  </a:lnTo>
                  <a:lnTo>
                    <a:pt x="427" y="1742"/>
                  </a:lnTo>
                  <a:lnTo>
                    <a:pt x="430" y="1747"/>
                  </a:lnTo>
                  <a:lnTo>
                    <a:pt x="434" y="1751"/>
                  </a:lnTo>
                  <a:lnTo>
                    <a:pt x="437" y="1754"/>
                  </a:lnTo>
                  <a:lnTo>
                    <a:pt x="442" y="1758"/>
                  </a:lnTo>
                  <a:lnTo>
                    <a:pt x="447" y="1761"/>
                  </a:lnTo>
                  <a:lnTo>
                    <a:pt x="452" y="1765"/>
                  </a:lnTo>
                  <a:lnTo>
                    <a:pt x="464" y="1770"/>
                  </a:lnTo>
                  <a:lnTo>
                    <a:pt x="478" y="1773"/>
                  </a:lnTo>
                  <a:lnTo>
                    <a:pt x="494" y="1777"/>
                  </a:lnTo>
                  <a:lnTo>
                    <a:pt x="511" y="1778"/>
                  </a:lnTo>
                  <a:lnTo>
                    <a:pt x="530" y="1778"/>
                  </a:lnTo>
                  <a:lnTo>
                    <a:pt x="566" y="1777"/>
                  </a:lnTo>
                  <a:lnTo>
                    <a:pt x="602" y="1770"/>
                  </a:lnTo>
                  <a:lnTo>
                    <a:pt x="634" y="1760"/>
                  </a:lnTo>
                  <a:lnTo>
                    <a:pt x="666" y="1746"/>
                  </a:lnTo>
                  <a:lnTo>
                    <a:pt x="696" y="1729"/>
                  </a:lnTo>
                  <a:lnTo>
                    <a:pt x="722" y="1706"/>
                  </a:lnTo>
                  <a:lnTo>
                    <a:pt x="748" y="1680"/>
                  </a:lnTo>
                  <a:lnTo>
                    <a:pt x="760" y="1665"/>
                  </a:lnTo>
                  <a:lnTo>
                    <a:pt x="771" y="1649"/>
                  </a:lnTo>
                  <a:lnTo>
                    <a:pt x="782" y="1632"/>
                  </a:lnTo>
                  <a:lnTo>
                    <a:pt x="792" y="1615"/>
                  </a:lnTo>
                  <a:lnTo>
                    <a:pt x="802" y="1596"/>
                  </a:lnTo>
                  <a:lnTo>
                    <a:pt x="811" y="1577"/>
                  </a:lnTo>
                  <a:lnTo>
                    <a:pt x="819" y="1556"/>
                  </a:lnTo>
                  <a:lnTo>
                    <a:pt x="827" y="1535"/>
                  </a:lnTo>
                  <a:lnTo>
                    <a:pt x="832" y="1513"/>
                  </a:lnTo>
                  <a:lnTo>
                    <a:pt x="838" y="1489"/>
                  </a:lnTo>
                  <a:lnTo>
                    <a:pt x="844" y="1465"/>
                  </a:lnTo>
                  <a:lnTo>
                    <a:pt x="848" y="1439"/>
                  </a:lnTo>
                  <a:lnTo>
                    <a:pt x="852" y="1413"/>
                  </a:lnTo>
                  <a:lnTo>
                    <a:pt x="855" y="1386"/>
                  </a:lnTo>
                  <a:lnTo>
                    <a:pt x="860" y="1329"/>
                  </a:lnTo>
                  <a:lnTo>
                    <a:pt x="861" y="1268"/>
                  </a:lnTo>
                  <a:lnTo>
                    <a:pt x="860" y="1232"/>
                  </a:lnTo>
                  <a:lnTo>
                    <a:pt x="858" y="1199"/>
                  </a:lnTo>
                  <a:lnTo>
                    <a:pt x="854" y="1167"/>
                  </a:lnTo>
                  <a:lnTo>
                    <a:pt x="848" y="1137"/>
                  </a:lnTo>
                  <a:lnTo>
                    <a:pt x="841" y="1112"/>
                  </a:lnTo>
                  <a:lnTo>
                    <a:pt x="832" y="1087"/>
                  </a:lnTo>
                  <a:lnTo>
                    <a:pt x="823" y="1065"/>
                  </a:lnTo>
                  <a:lnTo>
                    <a:pt x="811" y="1044"/>
                  </a:lnTo>
                  <a:lnTo>
                    <a:pt x="797" y="1027"/>
                  </a:lnTo>
                  <a:lnTo>
                    <a:pt x="782" y="1012"/>
                  </a:lnTo>
                  <a:lnTo>
                    <a:pt x="765" y="1000"/>
                  </a:lnTo>
                  <a:lnTo>
                    <a:pt x="748" y="989"/>
                  </a:lnTo>
                  <a:lnTo>
                    <a:pt x="728" y="981"/>
                  </a:lnTo>
                  <a:lnTo>
                    <a:pt x="706" y="975"/>
                  </a:lnTo>
                  <a:lnTo>
                    <a:pt x="684" y="972"/>
                  </a:lnTo>
                  <a:lnTo>
                    <a:pt x="659" y="970"/>
                  </a:lnTo>
                  <a:lnTo>
                    <a:pt x="640" y="972"/>
                  </a:lnTo>
                  <a:lnTo>
                    <a:pt x="621" y="974"/>
                  </a:lnTo>
                  <a:lnTo>
                    <a:pt x="601" y="979"/>
                  </a:lnTo>
                  <a:lnTo>
                    <a:pt x="580" y="986"/>
                  </a:lnTo>
                  <a:lnTo>
                    <a:pt x="559" y="994"/>
                  </a:lnTo>
                  <a:lnTo>
                    <a:pt x="537" y="1005"/>
                  </a:lnTo>
                  <a:lnTo>
                    <a:pt x="514" y="1017"/>
                  </a:lnTo>
                  <a:lnTo>
                    <a:pt x="492" y="1031"/>
                  </a:lnTo>
                  <a:lnTo>
                    <a:pt x="426" y="1448"/>
                  </a:lnTo>
                  <a:lnTo>
                    <a:pt x="409" y="1568"/>
                  </a:lnTo>
                  <a:lnTo>
                    <a:pt x="404" y="1608"/>
                  </a:lnTo>
                  <a:lnTo>
                    <a:pt x="403" y="1622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40160" y="1068480"/>
              <a:ext cx="479520" cy="731880"/>
            </a:xfrm>
            <a:custGeom>
              <a:avLst/>
              <a:gdLst/>
              <a:ahLst/>
              <a:rect l="l" t="t" r="r" b="b"/>
              <a:pathLst>
                <a:path w="1331" h="2033">
                  <a:moveTo>
                    <a:pt x="1003" y="55"/>
                  </a:moveTo>
                  <a:lnTo>
                    <a:pt x="1258" y="55"/>
                  </a:lnTo>
                  <a:lnTo>
                    <a:pt x="1110" y="922"/>
                  </a:lnTo>
                  <a:lnTo>
                    <a:pt x="1027" y="1420"/>
                  </a:lnTo>
                  <a:lnTo>
                    <a:pt x="1006" y="1567"/>
                  </a:lnTo>
                  <a:lnTo>
                    <a:pt x="1001" y="1615"/>
                  </a:lnTo>
                  <a:lnTo>
                    <a:pt x="999" y="1632"/>
                  </a:lnTo>
                  <a:lnTo>
                    <a:pt x="999" y="1644"/>
                  </a:lnTo>
                  <a:lnTo>
                    <a:pt x="999" y="1649"/>
                  </a:lnTo>
                  <a:lnTo>
                    <a:pt x="999" y="1654"/>
                  </a:lnTo>
                  <a:lnTo>
                    <a:pt x="1000" y="1660"/>
                  </a:lnTo>
                  <a:lnTo>
                    <a:pt x="1000" y="1663"/>
                  </a:lnTo>
                  <a:lnTo>
                    <a:pt x="1001" y="1668"/>
                  </a:lnTo>
                  <a:lnTo>
                    <a:pt x="1002" y="1672"/>
                  </a:lnTo>
                  <a:lnTo>
                    <a:pt x="1003" y="1673"/>
                  </a:lnTo>
                  <a:lnTo>
                    <a:pt x="1004" y="1677"/>
                  </a:lnTo>
                  <a:lnTo>
                    <a:pt x="1007" y="1680"/>
                  </a:lnTo>
                  <a:lnTo>
                    <a:pt x="1008" y="1682"/>
                  </a:lnTo>
                  <a:lnTo>
                    <a:pt x="1010" y="1684"/>
                  </a:lnTo>
                  <a:lnTo>
                    <a:pt x="1011" y="1684"/>
                  </a:lnTo>
                  <a:lnTo>
                    <a:pt x="1011" y="1684"/>
                  </a:lnTo>
                  <a:lnTo>
                    <a:pt x="1012" y="1685"/>
                  </a:lnTo>
                  <a:lnTo>
                    <a:pt x="1013" y="1685"/>
                  </a:lnTo>
                  <a:lnTo>
                    <a:pt x="1014" y="1685"/>
                  </a:lnTo>
                  <a:lnTo>
                    <a:pt x="1014" y="1685"/>
                  </a:lnTo>
                  <a:lnTo>
                    <a:pt x="1015" y="1685"/>
                  </a:lnTo>
                  <a:lnTo>
                    <a:pt x="1020" y="1685"/>
                  </a:lnTo>
                  <a:lnTo>
                    <a:pt x="1024" y="1684"/>
                  </a:lnTo>
                  <a:lnTo>
                    <a:pt x="1029" y="1682"/>
                  </a:lnTo>
                  <a:lnTo>
                    <a:pt x="1035" y="1679"/>
                  </a:lnTo>
                  <a:lnTo>
                    <a:pt x="1040" y="1675"/>
                  </a:lnTo>
                  <a:lnTo>
                    <a:pt x="1045" y="1672"/>
                  </a:lnTo>
                  <a:lnTo>
                    <a:pt x="1051" y="1666"/>
                  </a:lnTo>
                  <a:lnTo>
                    <a:pt x="1057" y="1661"/>
                  </a:lnTo>
                  <a:lnTo>
                    <a:pt x="1071" y="1646"/>
                  </a:lnTo>
                  <a:lnTo>
                    <a:pt x="1088" y="1625"/>
                  </a:lnTo>
                  <a:lnTo>
                    <a:pt x="1130" y="1570"/>
                  </a:lnTo>
                  <a:lnTo>
                    <a:pt x="1256" y="1396"/>
                  </a:lnTo>
                  <a:lnTo>
                    <a:pt x="1330" y="1523"/>
                  </a:lnTo>
                  <a:lnTo>
                    <a:pt x="1255" y="1642"/>
                  </a:lnTo>
                  <a:lnTo>
                    <a:pt x="1185" y="1746"/>
                  </a:lnTo>
                  <a:lnTo>
                    <a:pt x="1120" y="1832"/>
                  </a:lnTo>
                  <a:lnTo>
                    <a:pt x="1060" y="1904"/>
                  </a:lnTo>
                  <a:lnTo>
                    <a:pt x="1005" y="1959"/>
                  </a:lnTo>
                  <a:lnTo>
                    <a:pt x="980" y="1982"/>
                  </a:lnTo>
                  <a:lnTo>
                    <a:pt x="956" y="1999"/>
                  </a:lnTo>
                  <a:lnTo>
                    <a:pt x="933" y="2015"/>
                  </a:lnTo>
                  <a:lnTo>
                    <a:pt x="911" y="2023"/>
                  </a:lnTo>
                  <a:lnTo>
                    <a:pt x="891" y="2030"/>
                  </a:lnTo>
                  <a:lnTo>
                    <a:pt x="871" y="2032"/>
                  </a:lnTo>
                  <a:lnTo>
                    <a:pt x="857" y="2030"/>
                  </a:lnTo>
                  <a:lnTo>
                    <a:pt x="844" y="2028"/>
                  </a:lnTo>
                  <a:lnTo>
                    <a:pt x="831" y="2023"/>
                  </a:lnTo>
                  <a:lnTo>
                    <a:pt x="818" y="2015"/>
                  </a:lnTo>
                  <a:lnTo>
                    <a:pt x="812" y="2011"/>
                  </a:lnTo>
                  <a:lnTo>
                    <a:pt x="806" y="2006"/>
                  </a:lnTo>
                  <a:lnTo>
                    <a:pt x="794" y="1994"/>
                  </a:lnTo>
                  <a:lnTo>
                    <a:pt x="783" y="1980"/>
                  </a:lnTo>
                  <a:lnTo>
                    <a:pt x="774" y="1965"/>
                  </a:lnTo>
                  <a:lnTo>
                    <a:pt x="769" y="1956"/>
                  </a:lnTo>
                  <a:lnTo>
                    <a:pt x="764" y="1947"/>
                  </a:lnTo>
                  <a:lnTo>
                    <a:pt x="760" y="1937"/>
                  </a:lnTo>
                  <a:lnTo>
                    <a:pt x="756" y="1928"/>
                  </a:lnTo>
                  <a:lnTo>
                    <a:pt x="752" y="1918"/>
                  </a:lnTo>
                  <a:lnTo>
                    <a:pt x="749" y="1906"/>
                  </a:lnTo>
                  <a:lnTo>
                    <a:pt x="746" y="1896"/>
                  </a:lnTo>
                  <a:lnTo>
                    <a:pt x="743" y="1884"/>
                  </a:lnTo>
                  <a:lnTo>
                    <a:pt x="741" y="1872"/>
                  </a:lnTo>
                  <a:lnTo>
                    <a:pt x="739" y="1859"/>
                  </a:lnTo>
                  <a:lnTo>
                    <a:pt x="735" y="1834"/>
                  </a:lnTo>
                  <a:lnTo>
                    <a:pt x="734" y="1806"/>
                  </a:lnTo>
                  <a:lnTo>
                    <a:pt x="733" y="1777"/>
                  </a:lnTo>
                  <a:lnTo>
                    <a:pt x="733" y="1746"/>
                  </a:lnTo>
                  <a:lnTo>
                    <a:pt x="735" y="1715"/>
                  </a:lnTo>
                  <a:lnTo>
                    <a:pt x="737" y="1682"/>
                  </a:lnTo>
                  <a:lnTo>
                    <a:pt x="741" y="1651"/>
                  </a:lnTo>
                  <a:lnTo>
                    <a:pt x="745" y="1616"/>
                  </a:lnTo>
                  <a:lnTo>
                    <a:pt x="751" y="1584"/>
                  </a:lnTo>
                  <a:lnTo>
                    <a:pt x="757" y="1549"/>
                  </a:lnTo>
                  <a:lnTo>
                    <a:pt x="765" y="1515"/>
                  </a:lnTo>
                  <a:lnTo>
                    <a:pt x="741" y="1568"/>
                  </a:lnTo>
                  <a:lnTo>
                    <a:pt x="714" y="1622"/>
                  </a:lnTo>
                  <a:lnTo>
                    <a:pt x="684" y="1672"/>
                  </a:lnTo>
                  <a:lnTo>
                    <a:pt x="650" y="1722"/>
                  </a:lnTo>
                  <a:lnTo>
                    <a:pt x="613" y="1770"/>
                  </a:lnTo>
                  <a:lnTo>
                    <a:pt x="573" y="1818"/>
                  </a:lnTo>
                  <a:lnTo>
                    <a:pt x="529" y="1863"/>
                  </a:lnTo>
                  <a:lnTo>
                    <a:pt x="482" y="1908"/>
                  </a:lnTo>
                  <a:lnTo>
                    <a:pt x="450" y="1935"/>
                  </a:lnTo>
                  <a:lnTo>
                    <a:pt x="418" y="1959"/>
                  </a:lnTo>
                  <a:lnTo>
                    <a:pt x="387" y="1978"/>
                  </a:lnTo>
                  <a:lnTo>
                    <a:pt x="358" y="1996"/>
                  </a:lnTo>
                  <a:lnTo>
                    <a:pt x="329" y="2008"/>
                  </a:lnTo>
                  <a:lnTo>
                    <a:pt x="301" y="2018"/>
                  </a:lnTo>
                  <a:lnTo>
                    <a:pt x="274" y="2023"/>
                  </a:lnTo>
                  <a:lnTo>
                    <a:pt x="249" y="2025"/>
                  </a:lnTo>
                  <a:lnTo>
                    <a:pt x="234" y="2023"/>
                  </a:lnTo>
                  <a:lnTo>
                    <a:pt x="219" y="2021"/>
                  </a:lnTo>
                  <a:lnTo>
                    <a:pt x="205" y="2016"/>
                  </a:lnTo>
                  <a:lnTo>
                    <a:pt x="192" y="2009"/>
                  </a:lnTo>
                  <a:lnTo>
                    <a:pt x="186" y="2004"/>
                  </a:lnTo>
                  <a:lnTo>
                    <a:pt x="181" y="1999"/>
                  </a:lnTo>
                  <a:lnTo>
                    <a:pt x="175" y="1994"/>
                  </a:lnTo>
                  <a:lnTo>
                    <a:pt x="170" y="1989"/>
                  </a:lnTo>
                  <a:lnTo>
                    <a:pt x="165" y="1982"/>
                  </a:lnTo>
                  <a:lnTo>
                    <a:pt x="159" y="1975"/>
                  </a:lnTo>
                  <a:lnTo>
                    <a:pt x="155" y="1968"/>
                  </a:lnTo>
                  <a:lnTo>
                    <a:pt x="150" y="1961"/>
                  </a:lnTo>
                  <a:lnTo>
                    <a:pt x="145" y="1953"/>
                  </a:lnTo>
                  <a:lnTo>
                    <a:pt x="141" y="1944"/>
                  </a:lnTo>
                  <a:lnTo>
                    <a:pt x="137" y="1935"/>
                  </a:lnTo>
                  <a:lnTo>
                    <a:pt x="134" y="1925"/>
                  </a:lnTo>
                  <a:lnTo>
                    <a:pt x="130" y="1915"/>
                  </a:lnTo>
                  <a:lnTo>
                    <a:pt x="127" y="1903"/>
                  </a:lnTo>
                  <a:lnTo>
                    <a:pt x="125" y="1892"/>
                  </a:lnTo>
                  <a:lnTo>
                    <a:pt x="122" y="1880"/>
                  </a:lnTo>
                  <a:lnTo>
                    <a:pt x="119" y="1854"/>
                  </a:lnTo>
                  <a:lnTo>
                    <a:pt x="116" y="1827"/>
                  </a:lnTo>
                  <a:lnTo>
                    <a:pt x="115" y="1797"/>
                  </a:lnTo>
                  <a:lnTo>
                    <a:pt x="114" y="1766"/>
                  </a:lnTo>
                  <a:lnTo>
                    <a:pt x="115" y="1720"/>
                  </a:lnTo>
                  <a:lnTo>
                    <a:pt x="117" y="1672"/>
                  </a:lnTo>
                  <a:lnTo>
                    <a:pt x="121" y="1622"/>
                  </a:lnTo>
                  <a:lnTo>
                    <a:pt x="124" y="1596"/>
                  </a:lnTo>
                  <a:lnTo>
                    <a:pt x="127" y="1570"/>
                  </a:lnTo>
                  <a:lnTo>
                    <a:pt x="140" y="1484"/>
                  </a:lnTo>
                  <a:lnTo>
                    <a:pt x="161" y="1360"/>
                  </a:lnTo>
                  <a:lnTo>
                    <a:pt x="225" y="1005"/>
                  </a:lnTo>
                  <a:lnTo>
                    <a:pt x="267" y="769"/>
                  </a:lnTo>
                  <a:lnTo>
                    <a:pt x="297" y="584"/>
                  </a:lnTo>
                  <a:lnTo>
                    <a:pt x="316" y="455"/>
                  </a:lnTo>
                  <a:lnTo>
                    <a:pt x="319" y="408"/>
                  </a:lnTo>
                  <a:lnTo>
                    <a:pt x="321" y="391"/>
                  </a:lnTo>
                  <a:lnTo>
                    <a:pt x="321" y="377"/>
                  </a:lnTo>
                  <a:lnTo>
                    <a:pt x="321" y="374"/>
                  </a:lnTo>
                  <a:lnTo>
                    <a:pt x="321" y="370"/>
                  </a:lnTo>
                  <a:lnTo>
                    <a:pt x="321" y="369"/>
                  </a:lnTo>
                  <a:lnTo>
                    <a:pt x="320" y="367"/>
                  </a:lnTo>
                  <a:lnTo>
                    <a:pt x="320" y="365"/>
                  </a:lnTo>
                  <a:lnTo>
                    <a:pt x="320" y="365"/>
                  </a:lnTo>
                  <a:lnTo>
                    <a:pt x="320" y="364"/>
                  </a:lnTo>
                  <a:lnTo>
                    <a:pt x="320" y="364"/>
                  </a:lnTo>
                  <a:lnTo>
                    <a:pt x="319" y="364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8" y="362"/>
                  </a:lnTo>
                  <a:lnTo>
                    <a:pt x="318" y="362"/>
                  </a:lnTo>
                  <a:lnTo>
                    <a:pt x="318" y="362"/>
                  </a:lnTo>
                  <a:lnTo>
                    <a:pt x="316" y="362"/>
                  </a:lnTo>
                  <a:lnTo>
                    <a:pt x="313" y="362"/>
                  </a:lnTo>
                  <a:lnTo>
                    <a:pt x="307" y="364"/>
                  </a:lnTo>
                  <a:lnTo>
                    <a:pt x="301" y="367"/>
                  </a:lnTo>
                  <a:lnTo>
                    <a:pt x="293" y="370"/>
                  </a:lnTo>
                  <a:lnTo>
                    <a:pt x="285" y="376"/>
                  </a:lnTo>
                  <a:lnTo>
                    <a:pt x="277" y="383"/>
                  </a:lnTo>
                  <a:lnTo>
                    <a:pt x="257" y="398"/>
                  </a:lnTo>
                  <a:lnTo>
                    <a:pt x="246" y="408"/>
                  </a:lnTo>
                  <a:lnTo>
                    <a:pt x="232" y="424"/>
                  </a:lnTo>
                  <a:lnTo>
                    <a:pt x="196" y="467"/>
                  </a:lnTo>
                  <a:lnTo>
                    <a:pt x="93" y="600"/>
                  </a:lnTo>
                  <a:lnTo>
                    <a:pt x="0" y="479"/>
                  </a:lnTo>
                  <a:lnTo>
                    <a:pt x="99" y="339"/>
                  </a:lnTo>
                  <a:lnTo>
                    <a:pt x="184" y="227"/>
                  </a:lnTo>
                  <a:lnTo>
                    <a:pt x="222" y="181"/>
                  </a:lnTo>
                  <a:lnTo>
                    <a:pt x="256" y="143"/>
                  </a:lnTo>
                  <a:lnTo>
                    <a:pt x="288" y="110"/>
                  </a:lnTo>
                  <a:lnTo>
                    <a:pt x="317" y="86"/>
                  </a:lnTo>
                  <a:lnTo>
                    <a:pt x="342" y="65"/>
                  </a:lnTo>
                  <a:lnTo>
                    <a:pt x="368" y="48"/>
                  </a:lnTo>
                  <a:lnTo>
                    <a:pt x="391" y="33"/>
                  </a:lnTo>
                  <a:lnTo>
                    <a:pt x="414" y="21"/>
                  </a:lnTo>
                  <a:lnTo>
                    <a:pt x="435" y="12"/>
                  </a:lnTo>
                  <a:lnTo>
                    <a:pt x="455" y="5"/>
                  </a:lnTo>
                  <a:lnTo>
                    <a:pt x="474" y="2"/>
                  </a:lnTo>
                  <a:lnTo>
                    <a:pt x="492" y="0"/>
                  </a:lnTo>
                  <a:lnTo>
                    <a:pt x="504" y="0"/>
                  </a:lnTo>
                  <a:lnTo>
                    <a:pt x="515" y="3"/>
                  </a:lnTo>
                  <a:lnTo>
                    <a:pt x="524" y="7"/>
                  </a:lnTo>
                  <a:lnTo>
                    <a:pt x="529" y="10"/>
                  </a:lnTo>
                  <a:lnTo>
                    <a:pt x="534" y="14"/>
                  </a:lnTo>
                  <a:lnTo>
                    <a:pt x="539" y="15"/>
                  </a:lnTo>
                  <a:lnTo>
                    <a:pt x="544" y="21"/>
                  </a:lnTo>
                  <a:lnTo>
                    <a:pt x="548" y="24"/>
                  </a:lnTo>
                  <a:lnTo>
                    <a:pt x="552" y="29"/>
                  </a:lnTo>
                  <a:lnTo>
                    <a:pt x="561" y="40"/>
                  </a:lnTo>
                  <a:lnTo>
                    <a:pt x="569" y="52"/>
                  </a:lnTo>
                  <a:lnTo>
                    <a:pt x="573" y="59"/>
                  </a:lnTo>
                  <a:lnTo>
                    <a:pt x="576" y="65"/>
                  </a:lnTo>
                  <a:lnTo>
                    <a:pt x="579" y="74"/>
                  </a:lnTo>
                  <a:lnTo>
                    <a:pt x="582" y="81"/>
                  </a:lnTo>
                  <a:lnTo>
                    <a:pt x="584" y="90"/>
                  </a:lnTo>
                  <a:lnTo>
                    <a:pt x="586" y="98"/>
                  </a:lnTo>
                  <a:lnTo>
                    <a:pt x="589" y="107"/>
                  </a:lnTo>
                  <a:lnTo>
                    <a:pt x="591" y="117"/>
                  </a:lnTo>
                  <a:lnTo>
                    <a:pt x="594" y="136"/>
                  </a:lnTo>
                  <a:lnTo>
                    <a:pt x="596" y="158"/>
                  </a:lnTo>
                  <a:lnTo>
                    <a:pt x="598" y="181"/>
                  </a:lnTo>
                  <a:lnTo>
                    <a:pt x="598" y="205"/>
                  </a:lnTo>
                  <a:lnTo>
                    <a:pt x="598" y="226"/>
                  </a:lnTo>
                  <a:lnTo>
                    <a:pt x="596" y="252"/>
                  </a:lnTo>
                  <a:lnTo>
                    <a:pt x="591" y="312"/>
                  </a:lnTo>
                  <a:lnTo>
                    <a:pt x="583" y="386"/>
                  </a:lnTo>
                  <a:lnTo>
                    <a:pt x="572" y="476"/>
                  </a:lnTo>
                  <a:lnTo>
                    <a:pt x="538" y="694"/>
                  </a:lnTo>
                  <a:lnTo>
                    <a:pt x="492" y="970"/>
                  </a:lnTo>
                  <a:lnTo>
                    <a:pt x="422" y="1387"/>
                  </a:lnTo>
                  <a:lnTo>
                    <a:pt x="405" y="1508"/>
                  </a:lnTo>
                  <a:lnTo>
                    <a:pt x="400" y="1548"/>
                  </a:lnTo>
                  <a:lnTo>
                    <a:pt x="399" y="1561"/>
                  </a:lnTo>
                  <a:lnTo>
                    <a:pt x="399" y="1572"/>
                  </a:lnTo>
                  <a:lnTo>
                    <a:pt x="399" y="1579"/>
                  </a:lnTo>
                  <a:lnTo>
                    <a:pt x="399" y="1582"/>
                  </a:lnTo>
                  <a:lnTo>
                    <a:pt x="400" y="1585"/>
                  </a:lnTo>
                  <a:lnTo>
                    <a:pt x="400" y="1589"/>
                  </a:lnTo>
                  <a:lnTo>
                    <a:pt x="401" y="1592"/>
                  </a:lnTo>
                  <a:lnTo>
                    <a:pt x="401" y="1594"/>
                  </a:lnTo>
                  <a:lnTo>
                    <a:pt x="402" y="1598"/>
                  </a:lnTo>
                  <a:lnTo>
                    <a:pt x="403" y="1601"/>
                  </a:lnTo>
                  <a:lnTo>
                    <a:pt x="404" y="1604"/>
                  </a:lnTo>
                  <a:lnTo>
                    <a:pt x="406" y="1610"/>
                  </a:lnTo>
                  <a:lnTo>
                    <a:pt x="408" y="1615"/>
                  </a:lnTo>
                  <a:lnTo>
                    <a:pt x="411" y="1620"/>
                  </a:lnTo>
                  <a:lnTo>
                    <a:pt x="414" y="1625"/>
                  </a:lnTo>
                  <a:lnTo>
                    <a:pt x="417" y="1629"/>
                  </a:lnTo>
                  <a:lnTo>
                    <a:pt x="420" y="1632"/>
                  </a:lnTo>
                  <a:lnTo>
                    <a:pt x="422" y="1634"/>
                  </a:lnTo>
                  <a:lnTo>
                    <a:pt x="423" y="1635"/>
                  </a:lnTo>
                  <a:lnTo>
                    <a:pt x="425" y="1635"/>
                  </a:lnTo>
                  <a:lnTo>
                    <a:pt x="426" y="1637"/>
                  </a:lnTo>
                  <a:lnTo>
                    <a:pt x="428" y="1637"/>
                  </a:lnTo>
                  <a:lnTo>
                    <a:pt x="429" y="1637"/>
                  </a:lnTo>
                  <a:lnTo>
                    <a:pt x="431" y="1639"/>
                  </a:lnTo>
                  <a:lnTo>
                    <a:pt x="432" y="1639"/>
                  </a:lnTo>
                  <a:lnTo>
                    <a:pt x="435" y="1639"/>
                  </a:lnTo>
                  <a:lnTo>
                    <a:pt x="444" y="1639"/>
                  </a:lnTo>
                  <a:lnTo>
                    <a:pt x="454" y="1635"/>
                  </a:lnTo>
                  <a:lnTo>
                    <a:pt x="464" y="1632"/>
                  </a:lnTo>
                  <a:lnTo>
                    <a:pt x="475" y="1627"/>
                  </a:lnTo>
                  <a:lnTo>
                    <a:pt x="499" y="1611"/>
                  </a:lnTo>
                  <a:lnTo>
                    <a:pt x="525" y="1591"/>
                  </a:lnTo>
                  <a:lnTo>
                    <a:pt x="553" y="1563"/>
                  </a:lnTo>
                  <a:lnTo>
                    <a:pt x="583" y="1530"/>
                  </a:lnTo>
                  <a:lnTo>
                    <a:pt x="616" y="1491"/>
                  </a:lnTo>
                  <a:lnTo>
                    <a:pt x="650" y="1444"/>
                  </a:lnTo>
                  <a:lnTo>
                    <a:pt x="685" y="1394"/>
                  </a:lnTo>
                  <a:lnTo>
                    <a:pt x="716" y="1341"/>
                  </a:lnTo>
                  <a:lnTo>
                    <a:pt x="745" y="1286"/>
                  </a:lnTo>
                  <a:lnTo>
                    <a:pt x="771" y="1227"/>
                  </a:lnTo>
                  <a:lnTo>
                    <a:pt x="793" y="1167"/>
                  </a:lnTo>
                  <a:lnTo>
                    <a:pt x="814" y="1103"/>
                  </a:lnTo>
                  <a:lnTo>
                    <a:pt x="831" y="1036"/>
                  </a:lnTo>
                  <a:lnTo>
                    <a:pt x="845" y="96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94120" y="1066680"/>
              <a:ext cx="361800" cy="727200"/>
            </a:xfrm>
            <a:custGeom>
              <a:avLst/>
              <a:gdLst/>
              <a:ahLst/>
              <a:rect l="l" t="t" r="r" b="b"/>
              <a:pathLst>
                <a:path w="1005" h="2020">
                  <a:moveTo>
                    <a:pt x="837" y="1386"/>
                  </a:moveTo>
                  <a:lnTo>
                    <a:pt x="884" y="1577"/>
                  </a:lnTo>
                  <a:lnTo>
                    <a:pt x="794" y="1681"/>
                  </a:lnTo>
                  <a:lnTo>
                    <a:pt x="708" y="1770"/>
                  </a:lnTo>
                  <a:lnTo>
                    <a:pt x="626" y="1846"/>
                  </a:lnTo>
                  <a:lnTo>
                    <a:pt x="547" y="1908"/>
                  </a:lnTo>
                  <a:lnTo>
                    <a:pt x="472" y="1957"/>
                  </a:lnTo>
                  <a:lnTo>
                    <a:pt x="401" y="1991"/>
                  </a:lnTo>
                  <a:lnTo>
                    <a:pt x="367" y="2003"/>
                  </a:lnTo>
                  <a:lnTo>
                    <a:pt x="333" y="2012"/>
                  </a:lnTo>
                  <a:lnTo>
                    <a:pt x="301" y="2017"/>
                  </a:lnTo>
                  <a:lnTo>
                    <a:pt x="269" y="2019"/>
                  </a:lnTo>
                  <a:lnTo>
                    <a:pt x="236" y="2017"/>
                  </a:lnTo>
                  <a:lnTo>
                    <a:pt x="204" y="2010"/>
                  </a:lnTo>
                  <a:lnTo>
                    <a:pt x="189" y="2003"/>
                  </a:lnTo>
                  <a:lnTo>
                    <a:pt x="175" y="1998"/>
                  </a:lnTo>
                  <a:lnTo>
                    <a:pt x="161" y="1989"/>
                  </a:lnTo>
                  <a:lnTo>
                    <a:pt x="148" y="1981"/>
                  </a:lnTo>
                  <a:lnTo>
                    <a:pt x="135" y="1970"/>
                  </a:lnTo>
                  <a:lnTo>
                    <a:pt x="123" y="1960"/>
                  </a:lnTo>
                  <a:lnTo>
                    <a:pt x="112" y="1948"/>
                  </a:lnTo>
                  <a:lnTo>
                    <a:pt x="102" y="1934"/>
                  </a:lnTo>
                  <a:lnTo>
                    <a:pt x="91" y="1919"/>
                  </a:lnTo>
                  <a:lnTo>
                    <a:pt x="82" y="1903"/>
                  </a:lnTo>
                  <a:lnTo>
                    <a:pt x="73" y="1886"/>
                  </a:lnTo>
                  <a:lnTo>
                    <a:pt x="64" y="1867"/>
                  </a:lnTo>
                  <a:lnTo>
                    <a:pt x="49" y="1827"/>
                  </a:lnTo>
                  <a:lnTo>
                    <a:pt x="37" y="1786"/>
                  </a:lnTo>
                  <a:lnTo>
                    <a:pt x="26" y="1743"/>
                  </a:lnTo>
                  <a:lnTo>
                    <a:pt x="16" y="1696"/>
                  </a:lnTo>
                  <a:lnTo>
                    <a:pt x="9" y="1648"/>
                  </a:lnTo>
                  <a:lnTo>
                    <a:pt x="4" y="1596"/>
                  </a:lnTo>
                  <a:lnTo>
                    <a:pt x="1" y="1543"/>
                  </a:lnTo>
                  <a:lnTo>
                    <a:pt x="0" y="1488"/>
                  </a:lnTo>
                  <a:lnTo>
                    <a:pt x="2" y="1396"/>
                  </a:lnTo>
                  <a:lnTo>
                    <a:pt x="8" y="1305"/>
                  </a:lnTo>
                  <a:lnTo>
                    <a:pt x="18" y="1214"/>
                  </a:lnTo>
                  <a:lnTo>
                    <a:pt x="32" y="1121"/>
                  </a:lnTo>
                  <a:lnTo>
                    <a:pt x="49" y="1028"/>
                  </a:lnTo>
                  <a:lnTo>
                    <a:pt x="71" y="935"/>
                  </a:lnTo>
                  <a:lnTo>
                    <a:pt x="97" y="840"/>
                  </a:lnTo>
                  <a:lnTo>
                    <a:pt x="126" y="745"/>
                  </a:lnTo>
                  <a:lnTo>
                    <a:pt x="159" y="652"/>
                  </a:lnTo>
                  <a:lnTo>
                    <a:pt x="192" y="566"/>
                  </a:lnTo>
                  <a:lnTo>
                    <a:pt x="229" y="485"/>
                  </a:lnTo>
                  <a:lnTo>
                    <a:pt x="266" y="409"/>
                  </a:lnTo>
                  <a:lnTo>
                    <a:pt x="306" y="338"/>
                  </a:lnTo>
                  <a:lnTo>
                    <a:pt x="346" y="275"/>
                  </a:lnTo>
                  <a:lnTo>
                    <a:pt x="389" y="216"/>
                  </a:lnTo>
                  <a:lnTo>
                    <a:pt x="434" y="162"/>
                  </a:lnTo>
                  <a:lnTo>
                    <a:pt x="470" y="125"/>
                  </a:lnTo>
                  <a:lnTo>
                    <a:pt x="508" y="92"/>
                  </a:lnTo>
                  <a:lnTo>
                    <a:pt x="547" y="64"/>
                  </a:lnTo>
                  <a:lnTo>
                    <a:pt x="587" y="40"/>
                  </a:lnTo>
                  <a:lnTo>
                    <a:pt x="628" y="23"/>
                  </a:lnTo>
                  <a:lnTo>
                    <a:pt x="670" y="11"/>
                  </a:lnTo>
                  <a:lnTo>
                    <a:pt x="713" y="2"/>
                  </a:lnTo>
                  <a:lnTo>
                    <a:pt x="758" y="0"/>
                  </a:lnTo>
                  <a:lnTo>
                    <a:pt x="785" y="2"/>
                  </a:lnTo>
                  <a:lnTo>
                    <a:pt x="812" y="6"/>
                  </a:lnTo>
                  <a:lnTo>
                    <a:pt x="837" y="11"/>
                  </a:lnTo>
                  <a:lnTo>
                    <a:pt x="860" y="19"/>
                  </a:lnTo>
                  <a:lnTo>
                    <a:pt x="883" y="30"/>
                  </a:lnTo>
                  <a:lnTo>
                    <a:pt x="903" y="42"/>
                  </a:lnTo>
                  <a:lnTo>
                    <a:pt x="921" y="57"/>
                  </a:lnTo>
                  <a:lnTo>
                    <a:pt x="939" y="75"/>
                  </a:lnTo>
                  <a:lnTo>
                    <a:pt x="954" y="94"/>
                  </a:lnTo>
                  <a:lnTo>
                    <a:pt x="961" y="104"/>
                  </a:lnTo>
                  <a:lnTo>
                    <a:pt x="968" y="113"/>
                  </a:lnTo>
                  <a:lnTo>
                    <a:pt x="973" y="125"/>
                  </a:lnTo>
                  <a:lnTo>
                    <a:pt x="978" y="135"/>
                  </a:lnTo>
                  <a:lnTo>
                    <a:pt x="983" y="145"/>
                  </a:lnTo>
                  <a:lnTo>
                    <a:pt x="988" y="157"/>
                  </a:lnTo>
                  <a:lnTo>
                    <a:pt x="991" y="169"/>
                  </a:lnTo>
                  <a:lnTo>
                    <a:pt x="995" y="181"/>
                  </a:lnTo>
                  <a:lnTo>
                    <a:pt x="998" y="194"/>
                  </a:lnTo>
                  <a:lnTo>
                    <a:pt x="1000" y="206"/>
                  </a:lnTo>
                  <a:lnTo>
                    <a:pt x="1002" y="219"/>
                  </a:lnTo>
                  <a:lnTo>
                    <a:pt x="1003" y="231"/>
                  </a:lnTo>
                  <a:lnTo>
                    <a:pt x="1004" y="245"/>
                  </a:lnTo>
                  <a:lnTo>
                    <a:pt x="1004" y="259"/>
                  </a:lnTo>
                  <a:lnTo>
                    <a:pt x="1003" y="281"/>
                  </a:lnTo>
                  <a:lnTo>
                    <a:pt x="1003" y="292"/>
                  </a:lnTo>
                  <a:lnTo>
                    <a:pt x="1002" y="302"/>
                  </a:lnTo>
                  <a:lnTo>
                    <a:pt x="1000" y="312"/>
                  </a:lnTo>
                  <a:lnTo>
                    <a:pt x="999" y="321"/>
                  </a:lnTo>
                  <a:lnTo>
                    <a:pt x="997" y="331"/>
                  </a:lnTo>
                  <a:lnTo>
                    <a:pt x="994" y="340"/>
                  </a:lnTo>
                  <a:lnTo>
                    <a:pt x="992" y="349"/>
                  </a:lnTo>
                  <a:lnTo>
                    <a:pt x="989" y="357"/>
                  </a:lnTo>
                  <a:lnTo>
                    <a:pt x="986" y="366"/>
                  </a:lnTo>
                  <a:lnTo>
                    <a:pt x="982" y="374"/>
                  </a:lnTo>
                  <a:lnTo>
                    <a:pt x="979" y="381"/>
                  </a:lnTo>
                  <a:lnTo>
                    <a:pt x="975" y="390"/>
                  </a:lnTo>
                  <a:lnTo>
                    <a:pt x="971" y="397"/>
                  </a:lnTo>
                  <a:lnTo>
                    <a:pt x="967" y="404"/>
                  </a:lnTo>
                  <a:lnTo>
                    <a:pt x="957" y="418"/>
                  </a:lnTo>
                  <a:lnTo>
                    <a:pt x="946" y="428"/>
                  </a:lnTo>
                  <a:lnTo>
                    <a:pt x="934" y="438"/>
                  </a:lnTo>
                  <a:lnTo>
                    <a:pt x="922" y="447"/>
                  </a:lnTo>
                  <a:lnTo>
                    <a:pt x="909" y="452"/>
                  </a:lnTo>
                  <a:lnTo>
                    <a:pt x="896" y="457"/>
                  </a:lnTo>
                  <a:lnTo>
                    <a:pt x="881" y="459"/>
                  </a:lnTo>
                  <a:lnTo>
                    <a:pt x="866" y="461"/>
                  </a:lnTo>
                  <a:lnTo>
                    <a:pt x="851" y="459"/>
                  </a:lnTo>
                  <a:lnTo>
                    <a:pt x="836" y="455"/>
                  </a:lnTo>
                  <a:lnTo>
                    <a:pt x="821" y="450"/>
                  </a:lnTo>
                  <a:lnTo>
                    <a:pt x="805" y="443"/>
                  </a:lnTo>
                  <a:lnTo>
                    <a:pt x="788" y="433"/>
                  </a:lnTo>
                  <a:lnTo>
                    <a:pt x="772" y="419"/>
                  </a:lnTo>
                  <a:lnTo>
                    <a:pt x="755" y="405"/>
                  </a:lnTo>
                  <a:lnTo>
                    <a:pt x="738" y="388"/>
                  </a:lnTo>
                  <a:lnTo>
                    <a:pt x="694" y="356"/>
                  </a:lnTo>
                  <a:lnTo>
                    <a:pt x="674" y="342"/>
                  </a:lnTo>
                  <a:lnTo>
                    <a:pt x="655" y="331"/>
                  </a:lnTo>
                  <a:lnTo>
                    <a:pt x="639" y="323"/>
                  </a:lnTo>
                  <a:lnTo>
                    <a:pt x="623" y="318"/>
                  </a:lnTo>
                  <a:lnTo>
                    <a:pt x="608" y="314"/>
                  </a:lnTo>
                  <a:lnTo>
                    <a:pt x="601" y="312"/>
                  </a:lnTo>
                  <a:lnTo>
                    <a:pt x="595" y="312"/>
                  </a:lnTo>
                  <a:lnTo>
                    <a:pt x="587" y="312"/>
                  </a:lnTo>
                  <a:lnTo>
                    <a:pt x="579" y="314"/>
                  </a:lnTo>
                  <a:lnTo>
                    <a:pt x="572" y="316"/>
                  </a:lnTo>
                  <a:lnTo>
                    <a:pt x="564" y="318"/>
                  </a:lnTo>
                  <a:lnTo>
                    <a:pt x="548" y="326"/>
                  </a:lnTo>
                  <a:lnTo>
                    <a:pt x="532" y="335"/>
                  </a:lnTo>
                  <a:lnTo>
                    <a:pt x="516" y="349"/>
                  </a:lnTo>
                  <a:lnTo>
                    <a:pt x="501" y="364"/>
                  </a:lnTo>
                  <a:lnTo>
                    <a:pt x="485" y="383"/>
                  </a:lnTo>
                  <a:lnTo>
                    <a:pt x="469" y="404"/>
                  </a:lnTo>
                  <a:lnTo>
                    <a:pt x="461" y="416"/>
                  </a:lnTo>
                  <a:lnTo>
                    <a:pt x="453" y="428"/>
                  </a:lnTo>
                  <a:lnTo>
                    <a:pt x="437" y="459"/>
                  </a:lnTo>
                  <a:lnTo>
                    <a:pt x="421" y="497"/>
                  </a:lnTo>
                  <a:lnTo>
                    <a:pt x="405" y="538"/>
                  </a:lnTo>
                  <a:lnTo>
                    <a:pt x="389" y="586"/>
                  </a:lnTo>
                  <a:lnTo>
                    <a:pt x="374" y="642"/>
                  </a:lnTo>
                  <a:lnTo>
                    <a:pt x="358" y="700"/>
                  </a:lnTo>
                  <a:lnTo>
                    <a:pt x="342" y="766"/>
                  </a:lnTo>
                  <a:lnTo>
                    <a:pt x="327" y="835"/>
                  </a:lnTo>
                  <a:lnTo>
                    <a:pt x="314" y="904"/>
                  </a:lnTo>
                  <a:lnTo>
                    <a:pt x="305" y="972"/>
                  </a:lnTo>
                  <a:lnTo>
                    <a:pt x="296" y="1041"/>
                  </a:lnTo>
                  <a:lnTo>
                    <a:pt x="289" y="1110"/>
                  </a:lnTo>
                  <a:lnTo>
                    <a:pt x="284" y="1179"/>
                  </a:lnTo>
                  <a:lnTo>
                    <a:pt x="281" y="1248"/>
                  </a:lnTo>
                  <a:lnTo>
                    <a:pt x="280" y="1317"/>
                  </a:lnTo>
                  <a:lnTo>
                    <a:pt x="281" y="1365"/>
                  </a:lnTo>
                  <a:lnTo>
                    <a:pt x="283" y="1410"/>
                  </a:lnTo>
                  <a:lnTo>
                    <a:pt x="287" y="1452"/>
                  </a:lnTo>
                  <a:lnTo>
                    <a:pt x="293" y="1491"/>
                  </a:lnTo>
                  <a:lnTo>
                    <a:pt x="300" y="1527"/>
                  </a:lnTo>
                  <a:lnTo>
                    <a:pt x="309" y="1562"/>
                  </a:lnTo>
                  <a:lnTo>
                    <a:pt x="313" y="1577"/>
                  </a:lnTo>
                  <a:lnTo>
                    <a:pt x="318" y="1593"/>
                  </a:lnTo>
                  <a:lnTo>
                    <a:pt x="324" y="1607"/>
                  </a:lnTo>
                  <a:lnTo>
                    <a:pt x="330" y="1620"/>
                  </a:lnTo>
                  <a:lnTo>
                    <a:pt x="334" y="1629"/>
                  </a:lnTo>
                  <a:lnTo>
                    <a:pt x="338" y="1636"/>
                  </a:lnTo>
                  <a:lnTo>
                    <a:pt x="342" y="1643"/>
                  </a:lnTo>
                  <a:lnTo>
                    <a:pt x="347" y="1650"/>
                  </a:lnTo>
                  <a:lnTo>
                    <a:pt x="352" y="1655"/>
                  </a:lnTo>
                  <a:lnTo>
                    <a:pt x="357" y="1660"/>
                  </a:lnTo>
                  <a:lnTo>
                    <a:pt x="362" y="1665"/>
                  </a:lnTo>
                  <a:lnTo>
                    <a:pt x="367" y="1670"/>
                  </a:lnTo>
                  <a:lnTo>
                    <a:pt x="373" y="1674"/>
                  </a:lnTo>
                  <a:lnTo>
                    <a:pt x="378" y="1677"/>
                  </a:lnTo>
                  <a:lnTo>
                    <a:pt x="384" y="1679"/>
                  </a:lnTo>
                  <a:lnTo>
                    <a:pt x="390" y="1683"/>
                  </a:lnTo>
                  <a:lnTo>
                    <a:pt x="404" y="1684"/>
                  </a:lnTo>
                  <a:lnTo>
                    <a:pt x="418" y="1686"/>
                  </a:lnTo>
                  <a:lnTo>
                    <a:pt x="439" y="1684"/>
                  </a:lnTo>
                  <a:lnTo>
                    <a:pt x="460" y="1681"/>
                  </a:lnTo>
                  <a:lnTo>
                    <a:pt x="482" y="1676"/>
                  </a:lnTo>
                  <a:lnTo>
                    <a:pt x="506" y="1667"/>
                  </a:lnTo>
                  <a:lnTo>
                    <a:pt x="553" y="1645"/>
                  </a:lnTo>
                  <a:lnTo>
                    <a:pt x="604" y="1612"/>
                  </a:lnTo>
                  <a:lnTo>
                    <a:pt x="658" y="1569"/>
                  </a:lnTo>
                  <a:lnTo>
                    <a:pt x="715" y="1517"/>
                  </a:lnTo>
                  <a:lnTo>
                    <a:pt x="774" y="145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32160" y="1066680"/>
              <a:ext cx="362160" cy="727200"/>
            </a:xfrm>
            <a:custGeom>
              <a:avLst/>
              <a:gdLst/>
              <a:ahLst/>
              <a:rect l="l" t="t" r="r" b="b"/>
              <a:pathLst>
                <a:path w="1005" h="2020">
                  <a:moveTo>
                    <a:pt x="837" y="1386"/>
                  </a:moveTo>
                  <a:lnTo>
                    <a:pt x="884" y="1577"/>
                  </a:lnTo>
                  <a:lnTo>
                    <a:pt x="794" y="1681"/>
                  </a:lnTo>
                  <a:lnTo>
                    <a:pt x="708" y="1770"/>
                  </a:lnTo>
                  <a:lnTo>
                    <a:pt x="625" y="1846"/>
                  </a:lnTo>
                  <a:lnTo>
                    <a:pt x="547" y="1908"/>
                  </a:lnTo>
                  <a:lnTo>
                    <a:pt x="472" y="1957"/>
                  </a:lnTo>
                  <a:lnTo>
                    <a:pt x="401" y="1991"/>
                  </a:lnTo>
                  <a:lnTo>
                    <a:pt x="366" y="2003"/>
                  </a:lnTo>
                  <a:lnTo>
                    <a:pt x="333" y="2012"/>
                  </a:lnTo>
                  <a:lnTo>
                    <a:pt x="300" y="2017"/>
                  </a:lnTo>
                  <a:lnTo>
                    <a:pt x="269" y="2019"/>
                  </a:lnTo>
                  <a:lnTo>
                    <a:pt x="235" y="2017"/>
                  </a:lnTo>
                  <a:lnTo>
                    <a:pt x="204" y="2010"/>
                  </a:lnTo>
                  <a:lnTo>
                    <a:pt x="189" y="2003"/>
                  </a:lnTo>
                  <a:lnTo>
                    <a:pt x="174" y="1998"/>
                  </a:lnTo>
                  <a:lnTo>
                    <a:pt x="161" y="1989"/>
                  </a:lnTo>
                  <a:lnTo>
                    <a:pt x="148" y="1981"/>
                  </a:lnTo>
                  <a:lnTo>
                    <a:pt x="135" y="1970"/>
                  </a:lnTo>
                  <a:lnTo>
                    <a:pt x="123" y="1960"/>
                  </a:lnTo>
                  <a:lnTo>
                    <a:pt x="112" y="1948"/>
                  </a:lnTo>
                  <a:lnTo>
                    <a:pt x="101" y="1934"/>
                  </a:lnTo>
                  <a:lnTo>
                    <a:pt x="91" y="1919"/>
                  </a:lnTo>
                  <a:lnTo>
                    <a:pt x="82" y="1903"/>
                  </a:lnTo>
                  <a:lnTo>
                    <a:pt x="73" y="1886"/>
                  </a:lnTo>
                  <a:lnTo>
                    <a:pt x="64" y="1867"/>
                  </a:lnTo>
                  <a:lnTo>
                    <a:pt x="49" y="1827"/>
                  </a:lnTo>
                  <a:lnTo>
                    <a:pt x="36" y="1786"/>
                  </a:lnTo>
                  <a:lnTo>
                    <a:pt x="26" y="1743"/>
                  </a:lnTo>
                  <a:lnTo>
                    <a:pt x="16" y="1696"/>
                  </a:lnTo>
                  <a:lnTo>
                    <a:pt x="9" y="1648"/>
                  </a:lnTo>
                  <a:lnTo>
                    <a:pt x="4" y="1596"/>
                  </a:lnTo>
                  <a:lnTo>
                    <a:pt x="1" y="1543"/>
                  </a:lnTo>
                  <a:lnTo>
                    <a:pt x="0" y="1488"/>
                  </a:lnTo>
                  <a:lnTo>
                    <a:pt x="2" y="1396"/>
                  </a:lnTo>
                  <a:lnTo>
                    <a:pt x="8" y="1305"/>
                  </a:lnTo>
                  <a:lnTo>
                    <a:pt x="18" y="1214"/>
                  </a:lnTo>
                  <a:lnTo>
                    <a:pt x="31" y="1121"/>
                  </a:lnTo>
                  <a:lnTo>
                    <a:pt x="49" y="1028"/>
                  </a:lnTo>
                  <a:lnTo>
                    <a:pt x="71" y="935"/>
                  </a:lnTo>
                  <a:lnTo>
                    <a:pt x="97" y="840"/>
                  </a:lnTo>
                  <a:lnTo>
                    <a:pt x="126" y="745"/>
                  </a:lnTo>
                  <a:lnTo>
                    <a:pt x="159" y="652"/>
                  </a:lnTo>
                  <a:lnTo>
                    <a:pt x="192" y="566"/>
                  </a:lnTo>
                  <a:lnTo>
                    <a:pt x="229" y="485"/>
                  </a:lnTo>
                  <a:lnTo>
                    <a:pt x="266" y="409"/>
                  </a:lnTo>
                  <a:lnTo>
                    <a:pt x="305" y="338"/>
                  </a:lnTo>
                  <a:lnTo>
                    <a:pt x="346" y="275"/>
                  </a:lnTo>
                  <a:lnTo>
                    <a:pt x="389" y="216"/>
                  </a:lnTo>
                  <a:lnTo>
                    <a:pt x="433" y="162"/>
                  </a:lnTo>
                  <a:lnTo>
                    <a:pt x="470" y="125"/>
                  </a:lnTo>
                  <a:lnTo>
                    <a:pt x="508" y="92"/>
                  </a:lnTo>
                  <a:lnTo>
                    <a:pt x="547" y="64"/>
                  </a:lnTo>
                  <a:lnTo>
                    <a:pt x="587" y="40"/>
                  </a:lnTo>
                  <a:lnTo>
                    <a:pt x="627" y="23"/>
                  </a:lnTo>
                  <a:lnTo>
                    <a:pt x="670" y="11"/>
                  </a:lnTo>
                  <a:lnTo>
                    <a:pt x="713" y="2"/>
                  </a:lnTo>
                  <a:lnTo>
                    <a:pt x="757" y="0"/>
                  </a:lnTo>
                  <a:lnTo>
                    <a:pt x="785" y="2"/>
                  </a:lnTo>
                  <a:lnTo>
                    <a:pt x="812" y="6"/>
                  </a:lnTo>
                  <a:lnTo>
                    <a:pt x="837" y="11"/>
                  </a:lnTo>
                  <a:lnTo>
                    <a:pt x="860" y="19"/>
                  </a:lnTo>
                  <a:lnTo>
                    <a:pt x="883" y="30"/>
                  </a:lnTo>
                  <a:lnTo>
                    <a:pt x="902" y="42"/>
                  </a:lnTo>
                  <a:lnTo>
                    <a:pt x="921" y="57"/>
                  </a:lnTo>
                  <a:lnTo>
                    <a:pt x="939" y="75"/>
                  </a:lnTo>
                  <a:lnTo>
                    <a:pt x="954" y="94"/>
                  </a:lnTo>
                  <a:lnTo>
                    <a:pt x="960" y="104"/>
                  </a:lnTo>
                  <a:lnTo>
                    <a:pt x="967" y="113"/>
                  </a:lnTo>
                  <a:lnTo>
                    <a:pt x="973" y="125"/>
                  </a:lnTo>
                  <a:lnTo>
                    <a:pt x="978" y="135"/>
                  </a:lnTo>
                  <a:lnTo>
                    <a:pt x="983" y="145"/>
                  </a:lnTo>
                  <a:lnTo>
                    <a:pt x="988" y="157"/>
                  </a:lnTo>
                  <a:lnTo>
                    <a:pt x="991" y="169"/>
                  </a:lnTo>
                  <a:lnTo>
                    <a:pt x="995" y="181"/>
                  </a:lnTo>
                  <a:lnTo>
                    <a:pt x="998" y="194"/>
                  </a:lnTo>
                  <a:lnTo>
                    <a:pt x="1000" y="206"/>
                  </a:lnTo>
                  <a:lnTo>
                    <a:pt x="1002" y="219"/>
                  </a:lnTo>
                  <a:lnTo>
                    <a:pt x="1003" y="231"/>
                  </a:lnTo>
                  <a:lnTo>
                    <a:pt x="1004" y="245"/>
                  </a:lnTo>
                  <a:lnTo>
                    <a:pt x="1004" y="259"/>
                  </a:lnTo>
                  <a:lnTo>
                    <a:pt x="1003" y="281"/>
                  </a:lnTo>
                  <a:lnTo>
                    <a:pt x="1003" y="292"/>
                  </a:lnTo>
                  <a:lnTo>
                    <a:pt x="1002" y="302"/>
                  </a:lnTo>
                  <a:lnTo>
                    <a:pt x="1000" y="312"/>
                  </a:lnTo>
                  <a:lnTo>
                    <a:pt x="999" y="321"/>
                  </a:lnTo>
                  <a:lnTo>
                    <a:pt x="997" y="331"/>
                  </a:lnTo>
                  <a:lnTo>
                    <a:pt x="994" y="340"/>
                  </a:lnTo>
                  <a:lnTo>
                    <a:pt x="992" y="349"/>
                  </a:lnTo>
                  <a:lnTo>
                    <a:pt x="989" y="357"/>
                  </a:lnTo>
                  <a:lnTo>
                    <a:pt x="986" y="366"/>
                  </a:lnTo>
                  <a:lnTo>
                    <a:pt x="982" y="374"/>
                  </a:lnTo>
                  <a:lnTo>
                    <a:pt x="979" y="381"/>
                  </a:lnTo>
                  <a:lnTo>
                    <a:pt x="975" y="390"/>
                  </a:lnTo>
                  <a:lnTo>
                    <a:pt x="971" y="397"/>
                  </a:lnTo>
                  <a:lnTo>
                    <a:pt x="966" y="404"/>
                  </a:lnTo>
                  <a:lnTo>
                    <a:pt x="956" y="418"/>
                  </a:lnTo>
                  <a:lnTo>
                    <a:pt x="946" y="428"/>
                  </a:lnTo>
                  <a:lnTo>
                    <a:pt x="934" y="438"/>
                  </a:lnTo>
                  <a:lnTo>
                    <a:pt x="922" y="447"/>
                  </a:lnTo>
                  <a:lnTo>
                    <a:pt x="909" y="452"/>
                  </a:lnTo>
                  <a:lnTo>
                    <a:pt x="895" y="457"/>
                  </a:lnTo>
                  <a:lnTo>
                    <a:pt x="881" y="459"/>
                  </a:lnTo>
                  <a:lnTo>
                    <a:pt x="866" y="461"/>
                  </a:lnTo>
                  <a:lnTo>
                    <a:pt x="851" y="459"/>
                  </a:lnTo>
                  <a:lnTo>
                    <a:pt x="835" y="455"/>
                  </a:lnTo>
                  <a:lnTo>
                    <a:pt x="821" y="450"/>
                  </a:lnTo>
                  <a:lnTo>
                    <a:pt x="805" y="443"/>
                  </a:lnTo>
                  <a:lnTo>
                    <a:pt x="788" y="433"/>
                  </a:lnTo>
                  <a:lnTo>
                    <a:pt x="772" y="419"/>
                  </a:lnTo>
                  <a:lnTo>
                    <a:pt x="755" y="405"/>
                  </a:lnTo>
                  <a:lnTo>
                    <a:pt x="738" y="388"/>
                  </a:lnTo>
                  <a:lnTo>
                    <a:pt x="693" y="356"/>
                  </a:lnTo>
                  <a:lnTo>
                    <a:pt x="674" y="342"/>
                  </a:lnTo>
                  <a:lnTo>
                    <a:pt x="655" y="331"/>
                  </a:lnTo>
                  <a:lnTo>
                    <a:pt x="638" y="323"/>
                  </a:lnTo>
                  <a:lnTo>
                    <a:pt x="623" y="318"/>
                  </a:lnTo>
                  <a:lnTo>
                    <a:pt x="608" y="314"/>
                  </a:lnTo>
                  <a:lnTo>
                    <a:pt x="601" y="312"/>
                  </a:lnTo>
                  <a:lnTo>
                    <a:pt x="595" y="312"/>
                  </a:lnTo>
                  <a:lnTo>
                    <a:pt x="587" y="312"/>
                  </a:lnTo>
                  <a:lnTo>
                    <a:pt x="579" y="314"/>
                  </a:lnTo>
                  <a:lnTo>
                    <a:pt x="571" y="316"/>
                  </a:lnTo>
                  <a:lnTo>
                    <a:pt x="563" y="318"/>
                  </a:lnTo>
                  <a:lnTo>
                    <a:pt x="548" y="326"/>
                  </a:lnTo>
                  <a:lnTo>
                    <a:pt x="532" y="335"/>
                  </a:lnTo>
                  <a:lnTo>
                    <a:pt x="516" y="349"/>
                  </a:lnTo>
                  <a:lnTo>
                    <a:pt x="500" y="364"/>
                  </a:lnTo>
                  <a:lnTo>
                    <a:pt x="485" y="383"/>
                  </a:lnTo>
                  <a:lnTo>
                    <a:pt x="469" y="404"/>
                  </a:lnTo>
                  <a:lnTo>
                    <a:pt x="461" y="416"/>
                  </a:lnTo>
                  <a:lnTo>
                    <a:pt x="453" y="428"/>
                  </a:lnTo>
                  <a:lnTo>
                    <a:pt x="436" y="459"/>
                  </a:lnTo>
                  <a:lnTo>
                    <a:pt x="421" y="497"/>
                  </a:lnTo>
                  <a:lnTo>
                    <a:pt x="405" y="538"/>
                  </a:lnTo>
                  <a:lnTo>
                    <a:pt x="389" y="586"/>
                  </a:lnTo>
                  <a:lnTo>
                    <a:pt x="373" y="642"/>
                  </a:lnTo>
                  <a:lnTo>
                    <a:pt x="358" y="700"/>
                  </a:lnTo>
                  <a:lnTo>
                    <a:pt x="342" y="766"/>
                  </a:lnTo>
                  <a:lnTo>
                    <a:pt x="327" y="835"/>
                  </a:lnTo>
                  <a:lnTo>
                    <a:pt x="314" y="904"/>
                  </a:lnTo>
                  <a:lnTo>
                    <a:pt x="304" y="972"/>
                  </a:lnTo>
                  <a:lnTo>
                    <a:pt x="295" y="1041"/>
                  </a:lnTo>
                  <a:lnTo>
                    <a:pt x="289" y="1110"/>
                  </a:lnTo>
                  <a:lnTo>
                    <a:pt x="284" y="1179"/>
                  </a:lnTo>
                  <a:lnTo>
                    <a:pt x="281" y="1248"/>
                  </a:lnTo>
                  <a:lnTo>
                    <a:pt x="280" y="1317"/>
                  </a:lnTo>
                  <a:lnTo>
                    <a:pt x="281" y="1365"/>
                  </a:lnTo>
                  <a:lnTo>
                    <a:pt x="283" y="1410"/>
                  </a:lnTo>
                  <a:lnTo>
                    <a:pt x="287" y="1452"/>
                  </a:lnTo>
                  <a:lnTo>
                    <a:pt x="293" y="1491"/>
                  </a:lnTo>
                  <a:lnTo>
                    <a:pt x="299" y="1527"/>
                  </a:lnTo>
                  <a:lnTo>
                    <a:pt x="308" y="1562"/>
                  </a:lnTo>
                  <a:lnTo>
                    <a:pt x="313" y="1577"/>
                  </a:lnTo>
                  <a:lnTo>
                    <a:pt x="318" y="1593"/>
                  </a:lnTo>
                  <a:lnTo>
                    <a:pt x="324" y="1607"/>
                  </a:lnTo>
                  <a:lnTo>
                    <a:pt x="330" y="1620"/>
                  </a:lnTo>
                  <a:lnTo>
                    <a:pt x="334" y="1629"/>
                  </a:lnTo>
                  <a:lnTo>
                    <a:pt x="338" y="1636"/>
                  </a:lnTo>
                  <a:lnTo>
                    <a:pt x="342" y="1643"/>
                  </a:lnTo>
                  <a:lnTo>
                    <a:pt x="347" y="1650"/>
                  </a:lnTo>
                  <a:lnTo>
                    <a:pt x="352" y="1655"/>
                  </a:lnTo>
                  <a:lnTo>
                    <a:pt x="357" y="1660"/>
                  </a:lnTo>
                  <a:lnTo>
                    <a:pt x="361" y="1665"/>
                  </a:lnTo>
                  <a:lnTo>
                    <a:pt x="366" y="1670"/>
                  </a:lnTo>
                  <a:lnTo>
                    <a:pt x="372" y="1674"/>
                  </a:lnTo>
                  <a:lnTo>
                    <a:pt x="378" y="1677"/>
                  </a:lnTo>
                  <a:lnTo>
                    <a:pt x="384" y="1679"/>
                  </a:lnTo>
                  <a:lnTo>
                    <a:pt x="390" y="1683"/>
                  </a:lnTo>
                  <a:lnTo>
                    <a:pt x="404" y="1684"/>
                  </a:lnTo>
                  <a:lnTo>
                    <a:pt x="418" y="1686"/>
                  </a:lnTo>
                  <a:lnTo>
                    <a:pt x="438" y="1684"/>
                  </a:lnTo>
                  <a:lnTo>
                    <a:pt x="460" y="1681"/>
                  </a:lnTo>
                  <a:lnTo>
                    <a:pt x="482" y="1676"/>
                  </a:lnTo>
                  <a:lnTo>
                    <a:pt x="505" y="1667"/>
                  </a:lnTo>
                  <a:lnTo>
                    <a:pt x="553" y="1645"/>
                  </a:lnTo>
                  <a:lnTo>
                    <a:pt x="604" y="1612"/>
                  </a:lnTo>
                  <a:lnTo>
                    <a:pt x="658" y="1569"/>
                  </a:lnTo>
                  <a:lnTo>
                    <a:pt x="715" y="1517"/>
                  </a:lnTo>
                  <a:lnTo>
                    <a:pt x="774" y="145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06840" y="1068480"/>
              <a:ext cx="544680" cy="725400"/>
            </a:xfrm>
            <a:custGeom>
              <a:avLst/>
              <a:gdLst/>
              <a:ahLst/>
              <a:rect l="l" t="t" r="r" b="b"/>
              <a:pathLst>
                <a:path w="1512" h="2014">
                  <a:moveTo>
                    <a:pt x="1511" y="1522"/>
                  </a:moveTo>
                  <a:lnTo>
                    <a:pt x="1440" y="1637"/>
                  </a:lnTo>
                  <a:lnTo>
                    <a:pt x="1372" y="1737"/>
                  </a:lnTo>
                  <a:lnTo>
                    <a:pt x="1308" y="1822"/>
                  </a:lnTo>
                  <a:lnTo>
                    <a:pt x="1248" y="1891"/>
                  </a:lnTo>
                  <a:lnTo>
                    <a:pt x="1191" y="1944"/>
                  </a:lnTo>
                  <a:lnTo>
                    <a:pt x="1165" y="1965"/>
                  </a:lnTo>
                  <a:lnTo>
                    <a:pt x="1138" y="1982"/>
                  </a:lnTo>
                  <a:lnTo>
                    <a:pt x="1114" y="1996"/>
                  </a:lnTo>
                  <a:lnTo>
                    <a:pt x="1089" y="2006"/>
                  </a:lnTo>
                  <a:lnTo>
                    <a:pt x="1066" y="2011"/>
                  </a:lnTo>
                  <a:lnTo>
                    <a:pt x="1044" y="2013"/>
                  </a:lnTo>
                  <a:lnTo>
                    <a:pt x="1030" y="2011"/>
                  </a:lnTo>
                  <a:lnTo>
                    <a:pt x="1016" y="2008"/>
                  </a:lnTo>
                  <a:lnTo>
                    <a:pt x="1003" y="2003"/>
                  </a:lnTo>
                  <a:lnTo>
                    <a:pt x="990" y="1994"/>
                  </a:lnTo>
                  <a:lnTo>
                    <a:pt x="977" y="1984"/>
                  </a:lnTo>
                  <a:lnTo>
                    <a:pt x="964" y="1972"/>
                  </a:lnTo>
                  <a:lnTo>
                    <a:pt x="952" y="1956"/>
                  </a:lnTo>
                  <a:lnTo>
                    <a:pt x="939" y="1937"/>
                  </a:lnTo>
                  <a:lnTo>
                    <a:pt x="933" y="1927"/>
                  </a:lnTo>
                  <a:lnTo>
                    <a:pt x="927" y="1915"/>
                  </a:lnTo>
                  <a:lnTo>
                    <a:pt x="921" y="1901"/>
                  </a:lnTo>
                  <a:lnTo>
                    <a:pt x="917" y="1887"/>
                  </a:lnTo>
                  <a:lnTo>
                    <a:pt x="912" y="1870"/>
                  </a:lnTo>
                  <a:lnTo>
                    <a:pt x="907" y="1851"/>
                  </a:lnTo>
                  <a:lnTo>
                    <a:pt x="898" y="1810"/>
                  </a:lnTo>
                  <a:lnTo>
                    <a:pt x="890" y="1760"/>
                  </a:lnTo>
                  <a:lnTo>
                    <a:pt x="883" y="1704"/>
                  </a:lnTo>
                  <a:lnTo>
                    <a:pt x="877" y="1642"/>
                  </a:lnTo>
                  <a:lnTo>
                    <a:pt x="872" y="1573"/>
                  </a:lnTo>
                  <a:lnTo>
                    <a:pt x="823" y="686"/>
                  </a:lnTo>
                  <a:lnTo>
                    <a:pt x="738" y="1067"/>
                  </a:lnTo>
                  <a:lnTo>
                    <a:pt x="698" y="1230"/>
                  </a:lnTo>
                  <a:lnTo>
                    <a:pt x="657" y="1375"/>
                  </a:lnTo>
                  <a:lnTo>
                    <a:pt x="618" y="1501"/>
                  </a:lnTo>
                  <a:lnTo>
                    <a:pt x="580" y="1608"/>
                  </a:lnTo>
                  <a:lnTo>
                    <a:pt x="542" y="1697"/>
                  </a:lnTo>
                  <a:lnTo>
                    <a:pt x="524" y="1735"/>
                  </a:lnTo>
                  <a:lnTo>
                    <a:pt x="506" y="1768"/>
                  </a:lnTo>
                  <a:lnTo>
                    <a:pt x="469" y="1825"/>
                  </a:lnTo>
                  <a:lnTo>
                    <a:pt x="432" y="1875"/>
                  </a:lnTo>
                  <a:lnTo>
                    <a:pt x="392" y="1918"/>
                  </a:lnTo>
                  <a:lnTo>
                    <a:pt x="353" y="1953"/>
                  </a:lnTo>
                  <a:lnTo>
                    <a:pt x="333" y="1966"/>
                  </a:lnTo>
                  <a:lnTo>
                    <a:pt x="313" y="1978"/>
                  </a:lnTo>
                  <a:lnTo>
                    <a:pt x="292" y="1989"/>
                  </a:lnTo>
                  <a:lnTo>
                    <a:pt x="271" y="1997"/>
                  </a:lnTo>
                  <a:lnTo>
                    <a:pt x="251" y="2004"/>
                  </a:lnTo>
                  <a:lnTo>
                    <a:pt x="229" y="2009"/>
                  </a:lnTo>
                  <a:lnTo>
                    <a:pt x="207" y="2011"/>
                  </a:lnTo>
                  <a:lnTo>
                    <a:pt x="186" y="2013"/>
                  </a:lnTo>
                  <a:lnTo>
                    <a:pt x="167" y="2011"/>
                  </a:lnTo>
                  <a:lnTo>
                    <a:pt x="148" y="2009"/>
                  </a:lnTo>
                  <a:lnTo>
                    <a:pt x="130" y="2004"/>
                  </a:lnTo>
                  <a:lnTo>
                    <a:pt x="114" y="1996"/>
                  </a:lnTo>
                  <a:lnTo>
                    <a:pt x="97" y="1987"/>
                  </a:lnTo>
                  <a:lnTo>
                    <a:pt x="82" y="1975"/>
                  </a:lnTo>
                  <a:lnTo>
                    <a:pt x="67" y="1961"/>
                  </a:lnTo>
                  <a:lnTo>
                    <a:pt x="54" y="1946"/>
                  </a:lnTo>
                  <a:lnTo>
                    <a:pt x="47" y="1937"/>
                  </a:lnTo>
                  <a:lnTo>
                    <a:pt x="41" y="1928"/>
                  </a:lnTo>
                  <a:lnTo>
                    <a:pt x="36" y="1918"/>
                  </a:lnTo>
                  <a:lnTo>
                    <a:pt x="30" y="1909"/>
                  </a:lnTo>
                  <a:lnTo>
                    <a:pt x="26" y="1899"/>
                  </a:lnTo>
                  <a:lnTo>
                    <a:pt x="21" y="1889"/>
                  </a:lnTo>
                  <a:lnTo>
                    <a:pt x="17" y="1877"/>
                  </a:lnTo>
                  <a:lnTo>
                    <a:pt x="14" y="1866"/>
                  </a:lnTo>
                  <a:lnTo>
                    <a:pt x="10" y="1854"/>
                  </a:lnTo>
                  <a:lnTo>
                    <a:pt x="8" y="1842"/>
                  </a:lnTo>
                  <a:lnTo>
                    <a:pt x="5" y="1830"/>
                  </a:lnTo>
                  <a:lnTo>
                    <a:pt x="3" y="1816"/>
                  </a:lnTo>
                  <a:lnTo>
                    <a:pt x="2" y="1803"/>
                  </a:lnTo>
                  <a:lnTo>
                    <a:pt x="1" y="1789"/>
                  </a:lnTo>
                  <a:lnTo>
                    <a:pt x="0" y="1775"/>
                  </a:lnTo>
                  <a:lnTo>
                    <a:pt x="0" y="1761"/>
                  </a:lnTo>
                  <a:lnTo>
                    <a:pt x="1" y="1735"/>
                  </a:lnTo>
                  <a:lnTo>
                    <a:pt x="2" y="1722"/>
                  </a:lnTo>
                  <a:lnTo>
                    <a:pt x="3" y="1710"/>
                  </a:lnTo>
                  <a:lnTo>
                    <a:pt x="5" y="1697"/>
                  </a:lnTo>
                  <a:lnTo>
                    <a:pt x="7" y="1685"/>
                  </a:lnTo>
                  <a:lnTo>
                    <a:pt x="9" y="1673"/>
                  </a:lnTo>
                  <a:lnTo>
                    <a:pt x="12" y="1663"/>
                  </a:lnTo>
                  <a:lnTo>
                    <a:pt x="15" y="1653"/>
                  </a:lnTo>
                  <a:lnTo>
                    <a:pt x="19" y="1641"/>
                  </a:lnTo>
                  <a:lnTo>
                    <a:pt x="22" y="1630"/>
                  </a:lnTo>
                  <a:lnTo>
                    <a:pt x="27" y="1622"/>
                  </a:lnTo>
                  <a:lnTo>
                    <a:pt x="31" y="1611"/>
                  </a:lnTo>
                  <a:lnTo>
                    <a:pt x="36" y="1601"/>
                  </a:lnTo>
                  <a:lnTo>
                    <a:pt x="47" y="1584"/>
                  </a:lnTo>
                  <a:lnTo>
                    <a:pt x="59" y="1568"/>
                  </a:lnTo>
                  <a:lnTo>
                    <a:pt x="70" y="1554"/>
                  </a:lnTo>
                  <a:lnTo>
                    <a:pt x="83" y="1542"/>
                  </a:lnTo>
                  <a:lnTo>
                    <a:pt x="96" y="1532"/>
                  </a:lnTo>
                  <a:lnTo>
                    <a:pt x="110" y="1525"/>
                  </a:lnTo>
                  <a:lnTo>
                    <a:pt x="124" y="1520"/>
                  </a:lnTo>
                  <a:lnTo>
                    <a:pt x="138" y="1517"/>
                  </a:lnTo>
                  <a:lnTo>
                    <a:pt x="154" y="1515"/>
                  </a:lnTo>
                  <a:lnTo>
                    <a:pt x="162" y="1515"/>
                  </a:lnTo>
                  <a:lnTo>
                    <a:pt x="172" y="1517"/>
                  </a:lnTo>
                  <a:lnTo>
                    <a:pt x="182" y="1520"/>
                  </a:lnTo>
                  <a:lnTo>
                    <a:pt x="193" y="1523"/>
                  </a:lnTo>
                  <a:lnTo>
                    <a:pt x="204" y="1529"/>
                  </a:lnTo>
                  <a:lnTo>
                    <a:pt x="216" y="1535"/>
                  </a:lnTo>
                  <a:lnTo>
                    <a:pt x="244" y="1551"/>
                  </a:lnTo>
                  <a:lnTo>
                    <a:pt x="266" y="1563"/>
                  </a:lnTo>
                  <a:lnTo>
                    <a:pt x="277" y="1568"/>
                  </a:lnTo>
                  <a:lnTo>
                    <a:pt x="287" y="1572"/>
                  </a:lnTo>
                  <a:lnTo>
                    <a:pt x="296" y="1575"/>
                  </a:lnTo>
                  <a:lnTo>
                    <a:pt x="304" y="1577"/>
                  </a:lnTo>
                  <a:lnTo>
                    <a:pt x="312" y="1579"/>
                  </a:lnTo>
                  <a:lnTo>
                    <a:pt x="319" y="1579"/>
                  </a:lnTo>
                  <a:lnTo>
                    <a:pt x="326" y="1579"/>
                  </a:lnTo>
                  <a:lnTo>
                    <a:pt x="334" y="1577"/>
                  </a:lnTo>
                  <a:lnTo>
                    <a:pt x="342" y="1575"/>
                  </a:lnTo>
                  <a:lnTo>
                    <a:pt x="350" y="1572"/>
                  </a:lnTo>
                  <a:lnTo>
                    <a:pt x="359" y="1568"/>
                  </a:lnTo>
                  <a:lnTo>
                    <a:pt x="367" y="1565"/>
                  </a:lnTo>
                  <a:lnTo>
                    <a:pt x="383" y="1554"/>
                  </a:lnTo>
                  <a:lnTo>
                    <a:pt x="398" y="1541"/>
                  </a:lnTo>
                  <a:lnTo>
                    <a:pt x="415" y="1523"/>
                  </a:lnTo>
                  <a:lnTo>
                    <a:pt x="431" y="1503"/>
                  </a:lnTo>
                  <a:lnTo>
                    <a:pt x="447" y="1480"/>
                  </a:lnTo>
                  <a:lnTo>
                    <a:pt x="456" y="1467"/>
                  </a:lnTo>
                  <a:lnTo>
                    <a:pt x="464" y="1451"/>
                  </a:lnTo>
                  <a:lnTo>
                    <a:pt x="484" y="1408"/>
                  </a:lnTo>
                  <a:lnTo>
                    <a:pt x="506" y="1353"/>
                  </a:lnTo>
                  <a:lnTo>
                    <a:pt x="529" y="1286"/>
                  </a:lnTo>
                  <a:lnTo>
                    <a:pt x="585" y="1113"/>
                  </a:lnTo>
                  <a:lnTo>
                    <a:pt x="650" y="893"/>
                  </a:lnTo>
                  <a:lnTo>
                    <a:pt x="754" y="514"/>
                  </a:lnTo>
                  <a:lnTo>
                    <a:pt x="780" y="408"/>
                  </a:lnTo>
                  <a:lnTo>
                    <a:pt x="787" y="377"/>
                  </a:lnTo>
                  <a:lnTo>
                    <a:pt x="788" y="367"/>
                  </a:lnTo>
                  <a:lnTo>
                    <a:pt x="788" y="364"/>
                  </a:lnTo>
                  <a:lnTo>
                    <a:pt x="788" y="360"/>
                  </a:lnTo>
                  <a:lnTo>
                    <a:pt x="788" y="357"/>
                  </a:lnTo>
                  <a:lnTo>
                    <a:pt x="788" y="355"/>
                  </a:lnTo>
                  <a:lnTo>
                    <a:pt x="788" y="352"/>
                  </a:lnTo>
                  <a:lnTo>
                    <a:pt x="788" y="350"/>
                  </a:lnTo>
                  <a:lnTo>
                    <a:pt x="788" y="348"/>
                  </a:lnTo>
                  <a:lnTo>
                    <a:pt x="787" y="346"/>
                  </a:lnTo>
                  <a:lnTo>
                    <a:pt x="786" y="345"/>
                  </a:lnTo>
                  <a:lnTo>
                    <a:pt x="785" y="343"/>
                  </a:lnTo>
                  <a:lnTo>
                    <a:pt x="784" y="341"/>
                  </a:lnTo>
                  <a:lnTo>
                    <a:pt x="783" y="339"/>
                  </a:lnTo>
                  <a:lnTo>
                    <a:pt x="782" y="338"/>
                  </a:lnTo>
                  <a:lnTo>
                    <a:pt x="781" y="338"/>
                  </a:lnTo>
                  <a:lnTo>
                    <a:pt x="779" y="338"/>
                  </a:lnTo>
                  <a:lnTo>
                    <a:pt x="778" y="336"/>
                  </a:lnTo>
                  <a:lnTo>
                    <a:pt x="776" y="336"/>
                  </a:lnTo>
                  <a:lnTo>
                    <a:pt x="774" y="336"/>
                  </a:lnTo>
                  <a:lnTo>
                    <a:pt x="763" y="338"/>
                  </a:lnTo>
                  <a:lnTo>
                    <a:pt x="752" y="339"/>
                  </a:lnTo>
                  <a:lnTo>
                    <a:pt x="740" y="345"/>
                  </a:lnTo>
                  <a:lnTo>
                    <a:pt x="727" y="353"/>
                  </a:lnTo>
                  <a:lnTo>
                    <a:pt x="714" y="362"/>
                  </a:lnTo>
                  <a:lnTo>
                    <a:pt x="699" y="374"/>
                  </a:lnTo>
                  <a:lnTo>
                    <a:pt x="668" y="401"/>
                  </a:lnTo>
                  <a:lnTo>
                    <a:pt x="634" y="439"/>
                  </a:lnTo>
                  <a:lnTo>
                    <a:pt x="595" y="484"/>
                  </a:lnTo>
                  <a:lnTo>
                    <a:pt x="555" y="538"/>
                  </a:lnTo>
                  <a:lnTo>
                    <a:pt x="511" y="600"/>
                  </a:lnTo>
                  <a:lnTo>
                    <a:pt x="420" y="479"/>
                  </a:lnTo>
                  <a:lnTo>
                    <a:pt x="499" y="367"/>
                  </a:lnTo>
                  <a:lnTo>
                    <a:pt x="574" y="269"/>
                  </a:lnTo>
                  <a:lnTo>
                    <a:pt x="643" y="186"/>
                  </a:lnTo>
                  <a:lnTo>
                    <a:pt x="708" y="119"/>
                  </a:lnTo>
                  <a:lnTo>
                    <a:pt x="769" y="67"/>
                  </a:lnTo>
                  <a:lnTo>
                    <a:pt x="797" y="46"/>
                  </a:lnTo>
                  <a:lnTo>
                    <a:pt x="824" y="29"/>
                  </a:lnTo>
                  <a:lnTo>
                    <a:pt x="851" y="17"/>
                  </a:lnTo>
                  <a:lnTo>
                    <a:pt x="875" y="7"/>
                  </a:lnTo>
                  <a:lnTo>
                    <a:pt x="899" y="2"/>
                  </a:lnTo>
                  <a:lnTo>
                    <a:pt x="921" y="0"/>
                  </a:lnTo>
                  <a:lnTo>
                    <a:pt x="940" y="2"/>
                  </a:lnTo>
                  <a:lnTo>
                    <a:pt x="957" y="5"/>
                  </a:lnTo>
                  <a:lnTo>
                    <a:pt x="965" y="7"/>
                  </a:lnTo>
                  <a:lnTo>
                    <a:pt x="973" y="10"/>
                  </a:lnTo>
                  <a:lnTo>
                    <a:pt x="980" y="14"/>
                  </a:lnTo>
                  <a:lnTo>
                    <a:pt x="986" y="19"/>
                  </a:lnTo>
                  <a:lnTo>
                    <a:pt x="992" y="22"/>
                  </a:lnTo>
                  <a:lnTo>
                    <a:pt x="998" y="29"/>
                  </a:lnTo>
                  <a:lnTo>
                    <a:pt x="1004" y="34"/>
                  </a:lnTo>
                  <a:lnTo>
                    <a:pt x="1009" y="41"/>
                  </a:lnTo>
                  <a:lnTo>
                    <a:pt x="1014" y="48"/>
                  </a:lnTo>
                  <a:lnTo>
                    <a:pt x="1018" y="57"/>
                  </a:lnTo>
                  <a:lnTo>
                    <a:pt x="1022" y="65"/>
                  </a:lnTo>
                  <a:lnTo>
                    <a:pt x="1025" y="74"/>
                  </a:lnTo>
                  <a:lnTo>
                    <a:pt x="1028" y="84"/>
                  </a:lnTo>
                  <a:lnTo>
                    <a:pt x="1031" y="95"/>
                  </a:lnTo>
                  <a:lnTo>
                    <a:pt x="1037" y="119"/>
                  </a:lnTo>
                  <a:lnTo>
                    <a:pt x="1042" y="146"/>
                  </a:lnTo>
                  <a:lnTo>
                    <a:pt x="1047" y="181"/>
                  </a:lnTo>
                  <a:lnTo>
                    <a:pt x="1052" y="217"/>
                  </a:lnTo>
                  <a:lnTo>
                    <a:pt x="1055" y="258"/>
                  </a:lnTo>
                  <a:lnTo>
                    <a:pt x="1062" y="353"/>
                  </a:lnTo>
                  <a:lnTo>
                    <a:pt x="1120" y="1420"/>
                  </a:lnTo>
                  <a:lnTo>
                    <a:pt x="1124" y="1480"/>
                  </a:lnTo>
                  <a:lnTo>
                    <a:pt x="1130" y="1534"/>
                  </a:lnTo>
                  <a:lnTo>
                    <a:pt x="1137" y="1579"/>
                  </a:lnTo>
                  <a:lnTo>
                    <a:pt x="1141" y="1598"/>
                  </a:lnTo>
                  <a:lnTo>
                    <a:pt x="1145" y="1615"/>
                  </a:lnTo>
                  <a:lnTo>
                    <a:pt x="1149" y="1630"/>
                  </a:lnTo>
                  <a:lnTo>
                    <a:pt x="1154" y="1644"/>
                  </a:lnTo>
                  <a:lnTo>
                    <a:pt x="1159" y="1654"/>
                  </a:lnTo>
                  <a:lnTo>
                    <a:pt x="1164" y="1665"/>
                  </a:lnTo>
                  <a:lnTo>
                    <a:pt x="1167" y="1668"/>
                  </a:lnTo>
                  <a:lnTo>
                    <a:pt x="1170" y="1672"/>
                  </a:lnTo>
                  <a:lnTo>
                    <a:pt x="1173" y="1673"/>
                  </a:lnTo>
                  <a:lnTo>
                    <a:pt x="1176" y="1677"/>
                  </a:lnTo>
                  <a:lnTo>
                    <a:pt x="1179" y="1679"/>
                  </a:lnTo>
                  <a:lnTo>
                    <a:pt x="1182" y="1679"/>
                  </a:lnTo>
                  <a:lnTo>
                    <a:pt x="1185" y="1680"/>
                  </a:lnTo>
                  <a:lnTo>
                    <a:pt x="1188" y="1680"/>
                  </a:lnTo>
                  <a:lnTo>
                    <a:pt x="1192" y="1680"/>
                  </a:lnTo>
                  <a:lnTo>
                    <a:pt x="1197" y="1679"/>
                  </a:lnTo>
                  <a:lnTo>
                    <a:pt x="1202" y="1677"/>
                  </a:lnTo>
                  <a:lnTo>
                    <a:pt x="1207" y="1673"/>
                  </a:lnTo>
                  <a:lnTo>
                    <a:pt x="1219" y="1665"/>
                  </a:lnTo>
                  <a:lnTo>
                    <a:pt x="1233" y="1653"/>
                  </a:lnTo>
                  <a:lnTo>
                    <a:pt x="1248" y="1635"/>
                  </a:lnTo>
                  <a:lnTo>
                    <a:pt x="1264" y="1616"/>
                  </a:lnTo>
                  <a:lnTo>
                    <a:pt x="1303" y="1567"/>
                  </a:lnTo>
                  <a:lnTo>
                    <a:pt x="1346" y="1510"/>
                  </a:lnTo>
                  <a:lnTo>
                    <a:pt x="1385" y="1461"/>
                  </a:lnTo>
                  <a:lnTo>
                    <a:pt x="1421" y="1422"/>
                  </a:lnTo>
                  <a:lnTo>
                    <a:pt x="1437" y="1406"/>
                  </a:lnTo>
                  <a:lnTo>
                    <a:pt x="1451" y="139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78440" y="1065240"/>
              <a:ext cx="347760" cy="727200"/>
            </a:xfrm>
            <a:custGeom>
              <a:avLst/>
              <a:gdLst/>
              <a:ahLst/>
              <a:rect l="l" t="t" r="r" b="b"/>
              <a:pathLst>
                <a:path w="966" h="2019">
                  <a:moveTo>
                    <a:pt x="809" y="1313"/>
                  </a:moveTo>
                  <a:lnTo>
                    <a:pt x="878" y="1463"/>
                  </a:lnTo>
                  <a:lnTo>
                    <a:pt x="787" y="1592"/>
                  </a:lnTo>
                  <a:lnTo>
                    <a:pt x="698" y="1706"/>
                  </a:lnTo>
                  <a:lnTo>
                    <a:pt x="613" y="1801"/>
                  </a:lnTo>
                  <a:lnTo>
                    <a:pt x="532" y="1879"/>
                  </a:lnTo>
                  <a:lnTo>
                    <a:pt x="453" y="1941"/>
                  </a:lnTo>
                  <a:lnTo>
                    <a:pt x="415" y="1963"/>
                  </a:lnTo>
                  <a:lnTo>
                    <a:pt x="378" y="1984"/>
                  </a:lnTo>
                  <a:lnTo>
                    <a:pt x="341" y="1999"/>
                  </a:lnTo>
                  <a:lnTo>
                    <a:pt x="306" y="2010"/>
                  </a:lnTo>
                  <a:lnTo>
                    <a:pt x="271" y="2016"/>
                  </a:lnTo>
                  <a:lnTo>
                    <a:pt x="238" y="2018"/>
                  </a:lnTo>
                  <a:lnTo>
                    <a:pt x="210" y="2016"/>
                  </a:lnTo>
                  <a:lnTo>
                    <a:pt x="184" y="2011"/>
                  </a:lnTo>
                  <a:lnTo>
                    <a:pt x="159" y="2001"/>
                  </a:lnTo>
                  <a:lnTo>
                    <a:pt x="147" y="1996"/>
                  </a:lnTo>
                  <a:lnTo>
                    <a:pt x="137" y="1989"/>
                  </a:lnTo>
                  <a:lnTo>
                    <a:pt x="125" y="1980"/>
                  </a:lnTo>
                  <a:lnTo>
                    <a:pt x="115" y="1972"/>
                  </a:lnTo>
                  <a:lnTo>
                    <a:pt x="105" y="1961"/>
                  </a:lnTo>
                  <a:lnTo>
                    <a:pt x="95" y="1951"/>
                  </a:lnTo>
                  <a:lnTo>
                    <a:pt x="86" y="1939"/>
                  </a:lnTo>
                  <a:lnTo>
                    <a:pt x="77" y="1927"/>
                  </a:lnTo>
                  <a:lnTo>
                    <a:pt x="69" y="1913"/>
                  </a:lnTo>
                  <a:lnTo>
                    <a:pt x="61" y="1898"/>
                  </a:lnTo>
                  <a:lnTo>
                    <a:pt x="53" y="1882"/>
                  </a:lnTo>
                  <a:lnTo>
                    <a:pt x="46" y="1865"/>
                  </a:lnTo>
                  <a:lnTo>
                    <a:pt x="40" y="1848"/>
                  </a:lnTo>
                  <a:lnTo>
                    <a:pt x="34" y="1829"/>
                  </a:lnTo>
                  <a:lnTo>
                    <a:pt x="28" y="1810"/>
                  </a:lnTo>
                  <a:lnTo>
                    <a:pt x="23" y="1789"/>
                  </a:lnTo>
                  <a:lnTo>
                    <a:pt x="14" y="1744"/>
                  </a:lnTo>
                  <a:lnTo>
                    <a:pt x="8" y="1696"/>
                  </a:lnTo>
                  <a:lnTo>
                    <a:pt x="4" y="1642"/>
                  </a:lnTo>
                  <a:lnTo>
                    <a:pt x="1" y="1586"/>
                  </a:lnTo>
                  <a:lnTo>
                    <a:pt x="0" y="1525"/>
                  </a:lnTo>
                  <a:lnTo>
                    <a:pt x="3" y="1403"/>
                  </a:lnTo>
                  <a:lnTo>
                    <a:pt x="11" y="1281"/>
                  </a:lnTo>
                  <a:lnTo>
                    <a:pt x="27" y="1158"/>
                  </a:lnTo>
                  <a:lnTo>
                    <a:pt x="48" y="1038"/>
                  </a:lnTo>
                  <a:lnTo>
                    <a:pt x="75" y="917"/>
                  </a:lnTo>
                  <a:lnTo>
                    <a:pt x="109" y="795"/>
                  </a:lnTo>
                  <a:lnTo>
                    <a:pt x="148" y="674"/>
                  </a:lnTo>
                  <a:lnTo>
                    <a:pt x="194" y="553"/>
                  </a:lnTo>
                  <a:lnTo>
                    <a:pt x="251" y="424"/>
                  </a:lnTo>
                  <a:lnTo>
                    <a:pt x="310" y="312"/>
                  </a:lnTo>
                  <a:lnTo>
                    <a:pt x="340" y="262"/>
                  </a:lnTo>
                  <a:lnTo>
                    <a:pt x="372" y="215"/>
                  </a:lnTo>
                  <a:lnTo>
                    <a:pt x="404" y="176"/>
                  </a:lnTo>
                  <a:lnTo>
                    <a:pt x="437" y="138"/>
                  </a:lnTo>
                  <a:lnTo>
                    <a:pt x="470" y="105"/>
                  </a:lnTo>
                  <a:lnTo>
                    <a:pt x="505" y="78"/>
                  </a:lnTo>
                  <a:lnTo>
                    <a:pt x="539" y="53"/>
                  </a:lnTo>
                  <a:lnTo>
                    <a:pt x="575" y="35"/>
                  </a:lnTo>
                  <a:lnTo>
                    <a:pt x="611" y="19"/>
                  </a:lnTo>
                  <a:lnTo>
                    <a:pt x="649" y="9"/>
                  </a:lnTo>
                  <a:lnTo>
                    <a:pt x="686" y="2"/>
                  </a:lnTo>
                  <a:lnTo>
                    <a:pt x="725" y="0"/>
                  </a:lnTo>
                  <a:lnTo>
                    <a:pt x="752" y="2"/>
                  </a:lnTo>
                  <a:lnTo>
                    <a:pt x="779" y="5"/>
                  </a:lnTo>
                  <a:lnTo>
                    <a:pt x="802" y="12"/>
                  </a:lnTo>
                  <a:lnTo>
                    <a:pt x="826" y="22"/>
                  </a:lnTo>
                  <a:lnTo>
                    <a:pt x="847" y="35"/>
                  </a:lnTo>
                  <a:lnTo>
                    <a:pt x="858" y="43"/>
                  </a:lnTo>
                  <a:lnTo>
                    <a:pt x="867" y="52"/>
                  </a:lnTo>
                  <a:lnTo>
                    <a:pt x="876" y="60"/>
                  </a:lnTo>
                  <a:lnTo>
                    <a:pt x="885" y="69"/>
                  </a:lnTo>
                  <a:lnTo>
                    <a:pt x="894" y="79"/>
                  </a:lnTo>
                  <a:lnTo>
                    <a:pt x="902" y="91"/>
                  </a:lnTo>
                  <a:lnTo>
                    <a:pt x="910" y="103"/>
                  </a:lnTo>
                  <a:lnTo>
                    <a:pt x="917" y="116"/>
                  </a:lnTo>
                  <a:lnTo>
                    <a:pt x="924" y="128"/>
                  </a:lnTo>
                  <a:lnTo>
                    <a:pt x="930" y="141"/>
                  </a:lnTo>
                  <a:lnTo>
                    <a:pt x="935" y="155"/>
                  </a:lnTo>
                  <a:lnTo>
                    <a:pt x="940" y="169"/>
                  </a:lnTo>
                  <a:lnTo>
                    <a:pt x="945" y="183"/>
                  </a:lnTo>
                  <a:lnTo>
                    <a:pt x="949" y="198"/>
                  </a:lnTo>
                  <a:lnTo>
                    <a:pt x="953" y="214"/>
                  </a:lnTo>
                  <a:lnTo>
                    <a:pt x="956" y="231"/>
                  </a:lnTo>
                  <a:lnTo>
                    <a:pt x="959" y="248"/>
                  </a:lnTo>
                  <a:lnTo>
                    <a:pt x="961" y="265"/>
                  </a:lnTo>
                  <a:lnTo>
                    <a:pt x="964" y="302"/>
                  </a:lnTo>
                  <a:lnTo>
                    <a:pt x="965" y="340"/>
                  </a:lnTo>
                  <a:lnTo>
                    <a:pt x="964" y="379"/>
                  </a:lnTo>
                  <a:lnTo>
                    <a:pt x="961" y="419"/>
                  </a:lnTo>
                  <a:lnTo>
                    <a:pt x="955" y="458"/>
                  </a:lnTo>
                  <a:lnTo>
                    <a:pt x="947" y="498"/>
                  </a:lnTo>
                  <a:lnTo>
                    <a:pt x="937" y="536"/>
                  </a:lnTo>
                  <a:lnTo>
                    <a:pt x="926" y="574"/>
                  </a:lnTo>
                  <a:lnTo>
                    <a:pt x="912" y="612"/>
                  </a:lnTo>
                  <a:lnTo>
                    <a:pt x="895" y="650"/>
                  </a:lnTo>
                  <a:lnTo>
                    <a:pt x="876" y="688"/>
                  </a:lnTo>
                  <a:lnTo>
                    <a:pt x="854" y="724"/>
                  </a:lnTo>
                  <a:lnTo>
                    <a:pt x="829" y="762"/>
                  </a:lnTo>
                  <a:lnTo>
                    <a:pt x="801" y="798"/>
                  </a:lnTo>
                  <a:lnTo>
                    <a:pt x="772" y="834"/>
                  </a:lnTo>
                  <a:lnTo>
                    <a:pt x="738" y="870"/>
                  </a:lnTo>
                  <a:lnTo>
                    <a:pt x="702" y="907"/>
                  </a:lnTo>
                  <a:lnTo>
                    <a:pt x="664" y="943"/>
                  </a:lnTo>
                  <a:lnTo>
                    <a:pt x="603" y="991"/>
                  </a:lnTo>
                  <a:lnTo>
                    <a:pt x="523" y="1053"/>
                  </a:lnTo>
                  <a:lnTo>
                    <a:pt x="298" y="1212"/>
                  </a:lnTo>
                  <a:lnTo>
                    <a:pt x="294" y="1256"/>
                  </a:lnTo>
                  <a:lnTo>
                    <a:pt x="291" y="1305"/>
                  </a:lnTo>
                  <a:lnTo>
                    <a:pt x="290" y="1355"/>
                  </a:lnTo>
                  <a:lnTo>
                    <a:pt x="289" y="1406"/>
                  </a:lnTo>
                  <a:lnTo>
                    <a:pt x="289" y="1441"/>
                  </a:lnTo>
                  <a:lnTo>
                    <a:pt x="291" y="1472"/>
                  </a:lnTo>
                  <a:lnTo>
                    <a:pt x="292" y="1499"/>
                  </a:lnTo>
                  <a:lnTo>
                    <a:pt x="295" y="1524"/>
                  </a:lnTo>
                  <a:lnTo>
                    <a:pt x="299" y="1546"/>
                  </a:lnTo>
                  <a:lnTo>
                    <a:pt x="301" y="1556"/>
                  </a:lnTo>
                  <a:lnTo>
                    <a:pt x="303" y="1565"/>
                  </a:lnTo>
                  <a:lnTo>
                    <a:pt x="305" y="1574"/>
                  </a:lnTo>
                  <a:lnTo>
                    <a:pt x="308" y="1580"/>
                  </a:lnTo>
                  <a:lnTo>
                    <a:pt x="311" y="1587"/>
                  </a:lnTo>
                  <a:lnTo>
                    <a:pt x="314" y="1594"/>
                  </a:lnTo>
                  <a:lnTo>
                    <a:pt x="317" y="1599"/>
                  </a:lnTo>
                  <a:lnTo>
                    <a:pt x="321" y="1606"/>
                  </a:lnTo>
                  <a:lnTo>
                    <a:pt x="325" y="1611"/>
                  </a:lnTo>
                  <a:lnTo>
                    <a:pt x="328" y="1615"/>
                  </a:lnTo>
                  <a:lnTo>
                    <a:pt x="333" y="1620"/>
                  </a:lnTo>
                  <a:lnTo>
                    <a:pt x="336" y="1623"/>
                  </a:lnTo>
                  <a:lnTo>
                    <a:pt x="340" y="1627"/>
                  </a:lnTo>
                  <a:lnTo>
                    <a:pt x="345" y="1630"/>
                  </a:lnTo>
                  <a:lnTo>
                    <a:pt x="350" y="1634"/>
                  </a:lnTo>
                  <a:lnTo>
                    <a:pt x="355" y="1636"/>
                  </a:lnTo>
                  <a:lnTo>
                    <a:pt x="366" y="1639"/>
                  </a:lnTo>
                  <a:lnTo>
                    <a:pt x="378" y="1642"/>
                  </a:lnTo>
                  <a:lnTo>
                    <a:pt x="391" y="1642"/>
                  </a:lnTo>
                  <a:lnTo>
                    <a:pt x="404" y="1642"/>
                  </a:lnTo>
                  <a:lnTo>
                    <a:pt x="419" y="1639"/>
                  </a:lnTo>
                  <a:lnTo>
                    <a:pt x="433" y="1636"/>
                  </a:lnTo>
                  <a:lnTo>
                    <a:pt x="449" y="1630"/>
                  </a:lnTo>
                  <a:lnTo>
                    <a:pt x="464" y="1623"/>
                  </a:lnTo>
                  <a:lnTo>
                    <a:pt x="479" y="1617"/>
                  </a:lnTo>
                  <a:lnTo>
                    <a:pt x="495" y="1606"/>
                  </a:lnTo>
                  <a:lnTo>
                    <a:pt x="512" y="1596"/>
                  </a:lnTo>
                  <a:lnTo>
                    <a:pt x="537" y="1577"/>
                  </a:lnTo>
                  <a:lnTo>
                    <a:pt x="566" y="1553"/>
                  </a:lnTo>
                  <a:lnTo>
                    <a:pt x="634" y="1491"/>
                  </a:lnTo>
                  <a:lnTo>
                    <a:pt x="715" y="1412"/>
                  </a:lnTo>
                  <a:close/>
                  <a:moveTo>
                    <a:pt x="320" y="991"/>
                  </a:moveTo>
                  <a:lnTo>
                    <a:pt x="411" y="913"/>
                  </a:lnTo>
                  <a:lnTo>
                    <a:pt x="492" y="836"/>
                  </a:lnTo>
                  <a:lnTo>
                    <a:pt x="528" y="798"/>
                  </a:lnTo>
                  <a:lnTo>
                    <a:pt x="561" y="758"/>
                  </a:lnTo>
                  <a:lnTo>
                    <a:pt x="593" y="720"/>
                  </a:lnTo>
                  <a:lnTo>
                    <a:pt x="620" y="681"/>
                  </a:lnTo>
                  <a:lnTo>
                    <a:pt x="639" y="646"/>
                  </a:lnTo>
                  <a:lnTo>
                    <a:pt x="655" y="614"/>
                  </a:lnTo>
                  <a:lnTo>
                    <a:pt x="668" y="583"/>
                  </a:lnTo>
                  <a:lnTo>
                    <a:pt x="680" y="552"/>
                  </a:lnTo>
                  <a:lnTo>
                    <a:pt x="684" y="536"/>
                  </a:lnTo>
                  <a:lnTo>
                    <a:pt x="689" y="521"/>
                  </a:lnTo>
                  <a:lnTo>
                    <a:pt x="692" y="505"/>
                  </a:lnTo>
                  <a:lnTo>
                    <a:pt x="695" y="491"/>
                  </a:lnTo>
                  <a:lnTo>
                    <a:pt x="697" y="477"/>
                  </a:lnTo>
                  <a:lnTo>
                    <a:pt x="699" y="464"/>
                  </a:lnTo>
                  <a:lnTo>
                    <a:pt x="700" y="450"/>
                  </a:lnTo>
                  <a:lnTo>
                    <a:pt x="700" y="436"/>
                  </a:lnTo>
                  <a:lnTo>
                    <a:pt x="700" y="417"/>
                  </a:lnTo>
                  <a:lnTo>
                    <a:pt x="698" y="400"/>
                  </a:lnTo>
                  <a:lnTo>
                    <a:pt x="697" y="384"/>
                  </a:lnTo>
                  <a:lnTo>
                    <a:pt x="695" y="376"/>
                  </a:lnTo>
                  <a:lnTo>
                    <a:pt x="694" y="369"/>
                  </a:lnTo>
                  <a:lnTo>
                    <a:pt x="692" y="362"/>
                  </a:lnTo>
                  <a:lnTo>
                    <a:pt x="690" y="355"/>
                  </a:lnTo>
                  <a:lnTo>
                    <a:pt x="688" y="348"/>
                  </a:lnTo>
                  <a:lnTo>
                    <a:pt x="686" y="341"/>
                  </a:lnTo>
                  <a:lnTo>
                    <a:pt x="683" y="334"/>
                  </a:lnTo>
                  <a:lnTo>
                    <a:pt x="680" y="329"/>
                  </a:lnTo>
                  <a:lnTo>
                    <a:pt x="677" y="322"/>
                  </a:lnTo>
                  <a:lnTo>
                    <a:pt x="674" y="317"/>
                  </a:lnTo>
                  <a:lnTo>
                    <a:pt x="671" y="312"/>
                  </a:lnTo>
                  <a:lnTo>
                    <a:pt x="667" y="307"/>
                  </a:lnTo>
                  <a:lnTo>
                    <a:pt x="665" y="302"/>
                  </a:lnTo>
                  <a:lnTo>
                    <a:pt x="661" y="298"/>
                  </a:lnTo>
                  <a:lnTo>
                    <a:pt x="658" y="295"/>
                  </a:lnTo>
                  <a:lnTo>
                    <a:pt x="654" y="291"/>
                  </a:lnTo>
                  <a:lnTo>
                    <a:pt x="650" y="288"/>
                  </a:lnTo>
                  <a:lnTo>
                    <a:pt x="646" y="284"/>
                  </a:lnTo>
                  <a:lnTo>
                    <a:pt x="641" y="283"/>
                  </a:lnTo>
                  <a:lnTo>
                    <a:pt x="637" y="279"/>
                  </a:lnTo>
                  <a:lnTo>
                    <a:pt x="627" y="278"/>
                  </a:lnTo>
                  <a:lnTo>
                    <a:pt x="618" y="274"/>
                  </a:lnTo>
                  <a:lnTo>
                    <a:pt x="607" y="274"/>
                  </a:lnTo>
                  <a:lnTo>
                    <a:pt x="597" y="274"/>
                  </a:lnTo>
                  <a:lnTo>
                    <a:pt x="585" y="278"/>
                  </a:lnTo>
                  <a:lnTo>
                    <a:pt x="574" y="281"/>
                  </a:lnTo>
                  <a:lnTo>
                    <a:pt x="563" y="288"/>
                  </a:lnTo>
                  <a:lnTo>
                    <a:pt x="551" y="295"/>
                  </a:lnTo>
                  <a:lnTo>
                    <a:pt x="540" y="303"/>
                  </a:lnTo>
                  <a:lnTo>
                    <a:pt x="529" y="315"/>
                  </a:lnTo>
                  <a:lnTo>
                    <a:pt x="518" y="327"/>
                  </a:lnTo>
                  <a:lnTo>
                    <a:pt x="502" y="348"/>
                  </a:lnTo>
                  <a:lnTo>
                    <a:pt x="487" y="372"/>
                  </a:lnTo>
                  <a:lnTo>
                    <a:pt x="472" y="398"/>
                  </a:lnTo>
                  <a:lnTo>
                    <a:pt x="458" y="429"/>
                  </a:lnTo>
                  <a:lnTo>
                    <a:pt x="444" y="462"/>
                  </a:lnTo>
                  <a:lnTo>
                    <a:pt x="429" y="500"/>
                  </a:lnTo>
                  <a:lnTo>
                    <a:pt x="415" y="539"/>
                  </a:lnTo>
                  <a:lnTo>
                    <a:pt x="402" y="584"/>
                  </a:lnTo>
                  <a:lnTo>
                    <a:pt x="376" y="689"/>
                  </a:lnTo>
                  <a:lnTo>
                    <a:pt x="353" y="793"/>
                  </a:lnTo>
                  <a:lnTo>
                    <a:pt x="335" y="893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8280" y="611280"/>
              <a:ext cx="401400" cy="1181160"/>
            </a:xfrm>
            <a:custGeom>
              <a:avLst/>
              <a:gdLst/>
              <a:ahLst/>
              <a:rect l="l" t="t" r="r" b="b"/>
              <a:pathLst>
                <a:path w="1117" h="3282">
                  <a:moveTo>
                    <a:pt x="171" y="141"/>
                  </a:moveTo>
                  <a:lnTo>
                    <a:pt x="218" y="0"/>
                  </a:lnTo>
                  <a:lnTo>
                    <a:pt x="326" y="18"/>
                  </a:lnTo>
                  <a:lnTo>
                    <a:pt x="429" y="46"/>
                  </a:lnTo>
                  <a:lnTo>
                    <a:pt x="523" y="86"/>
                  </a:lnTo>
                  <a:lnTo>
                    <a:pt x="611" y="136"/>
                  </a:lnTo>
                  <a:lnTo>
                    <a:pt x="692" y="196"/>
                  </a:lnTo>
                  <a:lnTo>
                    <a:pt x="766" y="268"/>
                  </a:lnTo>
                  <a:lnTo>
                    <a:pt x="832" y="349"/>
                  </a:lnTo>
                  <a:lnTo>
                    <a:pt x="892" y="442"/>
                  </a:lnTo>
                  <a:lnTo>
                    <a:pt x="944" y="544"/>
                  </a:lnTo>
                  <a:lnTo>
                    <a:pt x="990" y="658"/>
                  </a:lnTo>
                  <a:lnTo>
                    <a:pt x="1029" y="782"/>
                  </a:lnTo>
                  <a:lnTo>
                    <a:pt x="1060" y="916"/>
                  </a:lnTo>
                  <a:lnTo>
                    <a:pt x="1085" y="1061"/>
                  </a:lnTo>
                  <a:lnTo>
                    <a:pt x="1103" y="1218"/>
                  </a:lnTo>
                  <a:lnTo>
                    <a:pt x="1112" y="1383"/>
                  </a:lnTo>
                  <a:lnTo>
                    <a:pt x="1116" y="1561"/>
                  </a:lnTo>
                  <a:lnTo>
                    <a:pt x="1113" y="1738"/>
                  </a:lnTo>
                  <a:lnTo>
                    <a:pt x="1103" y="1909"/>
                  </a:lnTo>
                  <a:lnTo>
                    <a:pt x="1087" y="2073"/>
                  </a:lnTo>
                  <a:lnTo>
                    <a:pt x="1063" y="2230"/>
                  </a:lnTo>
                  <a:lnTo>
                    <a:pt x="1033" y="2378"/>
                  </a:lnTo>
                  <a:lnTo>
                    <a:pt x="996" y="2521"/>
                  </a:lnTo>
                  <a:lnTo>
                    <a:pt x="953" y="2655"/>
                  </a:lnTo>
                  <a:lnTo>
                    <a:pt x="903" y="2783"/>
                  </a:lnTo>
                  <a:lnTo>
                    <a:pt x="847" y="2900"/>
                  </a:lnTo>
                  <a:lnTo>
                    <a:pt x="819" y="2952"/>
                  </a:lnTo>
                  <a:lnTo>
                    <a:pt x="789" y="3002"/>
                  </a:lnTo>
                  <a:lnTo>
                    <a:pt x="759" y="3046"/>
                  </a:lnTo>
                  <a:lnTo>
                    <a:pt x="727" y="3086"/>
                  </a:lnTo>
                  <a:lnTo>
                    <a:pt x="696" y="3124"/>
                  </a:lnTo>
                  <a:lnTo>
                    <a:pt x="662" y="3157"/>
                  </a:lnTo>
                  <a:lnTo>
                    <a:pt x="629" y="3186"/>
                  </a:lnTo>
                  <a:lnTo>
                    <a:pt x="594" y="3210"/>
                  </a:lnTo>
                  <a:lnTo>
                    <a:pt x="559" y="3233"/>
                  </a:lnTo>
                  <a:lnTo>
                    <a:pt x="522" y="3250"/>
                  </a:lnTo>
                  <a:lnTo>
                    <a:pt x="485" y="3264"/>
                  </a:lnTo>
                  <a:lnTo>
                    <a:pt x="446" y="3272"/>
                  </a:lnTo>
                  <a:lnTo>
                    <a:pt x="407" y="3279"/>
                  </a:lnTo>
                  <a:lnTo>
                    <a:pt x="368" y="3281"/>
                  </a:lnTo>
                  <a:lnTo>
                    <a:pt x="325" y="3277"/>
                  </a:lnTo>
                  <a:lnTo>
                    <a:pt x="285" y="3269"/>
                  </a:lnTo>
                  <a:lnTo>
                    <a:pt x="247" y="3255"/>
                  </a:lnTo>
                  <a:lnTo>
                    <a:pt x="229" y="3245"/>
                  </a:lnTo>
                  <a:lnTo>
                    <a:pt x="211" y="3234"/>
                  </a:lnTo>
                  <a:lnTo>
                    <a:pt x="194" y="3222"/>
                  </a:lnTo>
                  <a:lnTo>
                    <a:pt x="179" y="3208"/>
                  </a:lnTo>
                  <a:lnTo>
                    <a:pt x="163" y="3193"/>
                  </a:lnTo>
                  <a:lnTo>
                    <a:pt x="148" y="3176"/>
                  </a:lnTo>
                  <a:lnTo>
                    <a:pt x="134" y="3159"/>
                  </a:lnTo>
                  <a:lnTo>
                    <a:pt x="120" y="3138"/>
                  </a:lnTo>
                  <a:lnTo>
                    <a:pt x="108" y="3117"/>
                  </a:lnTo>
                  <a:lnTo>
                    <a:pt x="96" y="3095"/>
                  </a:lnTo>
                  <a:lnTo>
                    <a:pt x="73" y="3048"/>
                  </a:lnTo>
                  <a:lnTo>
                    <a:pt x="53" y="2998"/>
                  </a:lnTo>
                  <a:lnTo>
                    <a:pt x="38" y="2947"/>
                  </a:lnTo>
                  <a:lnTo>
                    <a:pt x="24" y="2893"/>
                  </a:lnTo>
                  <a:lnTo>
                    <a:pt x="14" y="2838"/>
                  </a:lnTo>
                  <a:lnTo>
                    <a:pt x="6" y="2779"/>
                  </a:lnTo>
                  <a:lnTo>
                    <a:pt x="2" y="2721"/>
                  </a:lnTo>
                  <a:lnTo>
                    <a:pt x="0" y="2659"/>
                  </a:lnTo>
                  <a:lnTo>
                    <a:pt x="3" y="2533"/>
                  </a:lnTo>
                  <a:lnTo>
                    <a:pt x="13" y="2411"/>
                  </a:lnTo>
                  <a:lnTo>
                    <a:pt x="30" y="2290"/>
                  </a:lnTo>
                  <a:lnTo>
                    <a:pt x="52" y="2171"/>
                  </a:lnTo>
                  <a:lnTo>
                    <a:pt x="82" y="2056"/>
                  </a:lnTo>
                  <a:lnTo>
                    <a:pt x="118" y="1942"/>
                  </a:lnTo>
                  <a:lnTo>
                    <a:pt x="162" y="1831"/>
                  </a:lnTo>
                  <a:lnTo>
                    <a:pt x="211" y="1723"/>
                  </a:lnTo>
                  <a:lnTo>
                    <a:pt x="264" y="1623"/>
                  </a:lnTo>
                  <a:lnTo>
                    <a:pt x="318" y="1535"/>
                  </a:lnTo>
                  <a:lnTo>
                    <a:pt x="375" y="1461"/>
                  </a:lnTo>
                  <a:lnTo>
                    <a:pt x="402" y="1430"/>
                  </a:lnTo>
                  <a:lnTo>
                    <a:pt x="431" y="1401"/>
                  </a:lnTo>
                  <a:lnTo>
                    <a:pt x="459" y="1377"/>
                  </a:lnTo>
                  <a:lnTo>
                    <a:pt x="488" y="1354"/>
                  </a:lnTo>
                  <a:lnTo>
                    <a:pt x="517" y="1335"/>
                  </a:lnTo>
                  <a:lnTo>
                    <a:pt x="547" y="1321"/>
                  </a:lnTo>
                  <a:lnTo>
                    <a:pt x="577" y="1309"/>
                  </a:lnTo>
                  <a:lnTo>
                    <a:pt x="606" y="1301"/>
                  </a:lnTo>
                  <a:lnTo>
                    <a:pt x="637" y="1296"/>
                  </a:lnTo>
                  <a:lnTo>
                    <a:pt x="667" y="1294"/>
                  </a:lnTo>
                  <a:lnTo>
                    <a:pt x="686" y="1294"/>
                  </a:lnTo>
                  <a:lnTo>
                    <a:pt x="703" y="1297"/>
                  </a:lnTo>
                  <a:lnTo>
                    <a:pt x="719" y="1301"/>
                  </a:lnTo>
                  <a:lnTo>
                    <a:pt x="736" y="1306"/>
                  </a:lnTo>
                  <a:lnTo>
                    <a:pt x="751" y="1314"/>
                  </a:lnTo>
                  <a:lnTo>
                    <a:pt x="766" y="1323"/>
                  </a:lnTo>
                  <a:lnTo>
                    <a:pt x="779" y="1333"/>
                  </a:lnTo>
                  <a:lnTo>
                    <a:pt x="792" y="1345"/>
                  </a:lnTo>
                  <a:lnTo>
                    <a:pt x="804" y="1359"/>
                  </a:lnTo>
                  <a:lnTo>
                    <a:pt x="816" y="1375"/>
                  </a:lnTo>
                  <a:lnTo>
                    <a:pt x="827" y="1390"/>
                  </a:lnTo>
                  <a:lnTo>
                    <a:pt x="837" y="1409"/>
                  </a:lnTo>
                  <a:lnTo>
                    <a:pt x="845" y="1430"/>
                  </a:lnTo>
                  <a:lnTo>
                    <a:pt x="854" y="1451"/>
                  </a:lnTo>
                  <a:lnTo>
                    <a:pt x="862" y="1475"/>
                  </a:lnTo>
                  <a:lnTo>
                    <a:pt x="869" y="1499"/>
                  </a:lnTo>
                  <a:lnTo>
                    <a:pt x="866" y="1354"/>
                  </a:lnTo>
                  <a:lnTo>
                    <a:pt x="859" y="1218"/>
                  </a:lnTo>
                  <a:lnTo>
                    <a:pt x="846" y="1090"/>
                  </a:lnTo>
                  <a:lnTo>
                    <a:pt x="830" y="972"/>
                  </a:lnTo>
                  <a:lnTo>
                    <a:pt x="807" y="859"/>
                  </a:lnTo>
                  <a:lnTo>
                    <a:pt x="780" y="756"/>
                  </a:lnTo>
                  <a:lnTo>
                    <a:pt x="766" y="708"/>
                  </a:lnTo>
                  <a:lnTo>
                    <a:pt x="750" y="663"/>
                  </a:lnTo>
                  <a:lnTo>
                    <a:pt x="732" y="618"/>
                  </a:lnTo>
                  <a:lnTo>
                    <a:pt x="713" y="577"/>
                  </a:lnTo>
                  <a:lnTo>
                    <a:pt x="694" y="537"/>
                  </a:lnTo>
                  <a:lnTo>
                    <a:pt x="671" y="499"/>
                  </a:lnTo>
                  <a:lnTo>
                    <a:pt x="647" y="461"/>
                  </a:lnTo>
                  <a:lnTo>
                    <a:pt x="622" y="427"/>
                  </a:lnTo>
                  <a:lnTo>
                    <a:pt x="594" y="394"/>
                  </a:lnTo>
                  <a:lnTo>
                    <a:pt x="565" y="363"/>
                  </a:lnTo>
                  <a:lnTo>
                    <a:pt x="501" y="305"/>
                  </a:lnTo>
                  <a:lnTo>
                    <a:pt x="429" y="253"/>
                  </a:lnTo>
                  <a:lnTo>
                    <a:pt x="350" y="210"/>
                  </a:lnTo>
                  <a:lnTo>
                    <a:pt x="264" y="172"/>
                  </a:lnTo>
                  <a:close/>
                  <a:moveTo>
                    <a:pt x="816" y="2106"/>
                  </a:moveTo>
                  <a:lnTo>
                    <a:pt x="815" y="2042"/>
                  </a:lnTo>
                  <a:lnTo>
                    <a:pt x="813" y="1981"/>
                  </a:lnTo>
                  <a:lnTo>
                    <a:pt x="809" y="1925"/>
                  </a:lnTo>
                  <a:lnTo>
                    <a:pt x="804" y="1869"/>
                  </a:lnTo>
                  <a:lnTo>
                    <a:pt x="797" y="1819"/>
                  </a:lnTo>
                  <a:lnTo>
                    <a:pt x="789" y="1771"/>
                  </a:lnTo>
                  <a:lnTo>
                    <a:pt x="780" y="1726"/>
                  </a:lnTo>
                  <a:lnTo>
                    <a:pt x="770" y="1685"/>
                  </a:lnTo>
                  <a:lnTo>
                    <a:pt x="764" y="1666"/>
                  </a:lnTo>
                  <a:lnTo>
                    <a:pt x="757" y="1647"/>
                  </a:lnTo>
                  <a:lnTo>
                    <a:pt x="751" y="1630"/>
                  </a:lnTo>
                  <a:lnTo>
                    <a:pt x="743" y="1614"/>
                  </a:lnTo>
                  <a:lnTo>
                    <a:pt x="736" y="1601"/>
                  </a:lnTo>
                  <a:lnTo>
                    <a:pt x="728" y="1587"/>
                  </a:lnTo>
                  <a:lnTo>
                    <a:pt x="720" y="1575"/>
                  </a:lnTo>
                  <a:lnTo>
                    <a:pt x="711" y="1564"/>
                  </a:lnTo>
                  <a:lnTo>
                    <a:pt x="704" y="1556"/>
                  </a:lnTo>
                  <a:lnTo>
                    <a:pt x="694" y="1547"/>
                  </a:lnTo>
                  <a:lnTo>
                    <a:pt x="685" y="1540"/>
                  </a:lnTo>
                  <a:lnTo>
                    <a:pt x="675" y="1535"/>
                  </a:lnTo>
                  <a:lnTo>
                    <a:pt x="665" y="1530"/>
                  </a:lnTo>
                  <a:lnTo>
                    <a:pt x="654" y="1526"/>
                  </a:lnTo>
                  <a:lnTo>
                    <a:pt x="644" y="1525"/>
                  </a:lnTo>
                  <a:lnTo>
                    <a:pt x="633" y="1525"/>
                  </a:lnTo>
                  <a:lnTo>
                    <a:pt x="615" y="1526"/>
                  </a:lnTo>
                  <a:lnTo>
                    <a:pt x="597" y="1530"/>
                  </a:lnTo>
                  <a:lnTo>
                    <a:pt x="580" y="1535"/>
                  </a:lnTo>
                  <a:lnTo>
                    <a:pt x="564" y="1544"/>
                  </a:lnTo>
                  <a:lnTo>
                    <a:pt x="547" y="1554"/>
                  </a:lnTo>
                  <a:lnTo>
                    <a:pt x="531" y="1566"/>
                  </a:lnTo>
                  <a:lnTo>
                    <a:pt x="516" y="1582"/>
                  </a:lnTo>
                  <a:lnTo>
                    <a:pt x="501" y="1601"/>
                  </a:lnTo>
                  <a:lnTo>
                    <a:pt x="487" y="1620"/>
                  </a:lnTo>
                  <a:lnTo>
                    <a:pt x="472" y="1642"/>
                  </a:lnTo>
                  <a:lnTo>
                    <a:pt x="458" y="1666"/>
                  </a:lnTo>
                  <a:lnTo>
                    <a:pt x="445" y="1694"/>
                  </a:lnTo>
                  <a:lnTo>
                    <a:pt x="432" y="1723"/>
                  </a:lnTo>
                  <a:lnTo>
                    <a:pt x="419" y="1754"/>
                  </a:lnTo>
                  <a:lnTo>
                    <a:pt x="395" y="1825"/>
                  </a:lnTo>
                  <a:lnTo>
                    <a:pt x="374" y="1900"/>
                  </a:lnTo>
                  <a:lnTo>
                    <a:pt x="354" y="1978"/>
                  </a:lnTo>
                  <a:lnTo>
                    <a:pt x="338" y="2057"/>
                  </a:lnTo>
                  <a:lnTo>
                    <a:pt x="325" y="2138"/>
                  </a:lnTo>
                  <a:lnTo>
                    <a:pt x="314" y="2219"/>
                  </a:lnTo>
                  <a:lnTo>
                    <a:pt x="308" y="2304"/>
                  </a:lnTo>
                  <a:lnTo>
                    <a:pt x="303" y="2388"/>
                  </a:lnTo>
                  <a:lnTo>
                    <a:pt x="302" y="2474"/>
                  </a:lnTo>
                  <a:lnTo>
                    <a:pt x="303" y="2531"/>
                  </a:lnTo>
                  <a:lnTo>
                    <a:pt x="305" y="2586"/>
                  </a:lnTo>
                  <a:lnTo>
                    <a:pt x="309" y="2640"/>
                  </a:lnTo>
                  <a:lnTo>
                    <a:pt x="314" y="2690"/>
                  </a:lnTo>
                  <a:lnTo>
                    <a:pt x="320" y="2738"/>
                  </a:lnTo>
                  <a:lnTo>
                    <a:pt x="328" y="2783"/>
                  </a:lnTo>
                  <a:lnTo>
                    <a:pt x="338" y="2826"/>
                  </a:lnTo>
                  <a:lnTo>
                    <a:pt x="349" y="2867"/>
                  </a:lnTo>
                  <a:lnTo>
                    <a:pt x="362" y="2903"/>
                  </a:lnTo>
                  <a:lnTo>
                    <a:pt x="368" y="2921"/>
                  </a:lnTo>
                  <a:lnTo>
                    <a:pt x="375" y="2934"/>
                  </a:lnTo>
                  <a:lnTo>
                    <a:pt x="382" y="2948"/>
                  </a:lnTo>
                  <a:lnTo>
                    <a:pt x="389" y="2962"/>
                  </a:lnTo>
                  <a:lnTo>
                    <a:pt x="397" y="2974"/>
                  </a:lnTo>
                  <a:lnTo>
                    <a:pt x="405" y="2984"/>
                  </a:lnTo>
                  <a:lnTo>
                    <a:pt x="414" y="2993"/>
                  </a:lnTo>
                  <a:lnTo>
                    <a:pt x="423" y="3000"/>
                  </a:lnTo>
                  <a:lnTo>
                    <a:pt x="432" y="3007"/>
                  </a:lnTo>
                  <a:lnTo>
                    <a:pt x="441" y="3012"/>
                  </a:lnTo>
                  <a:lnTo>
                    <a:pt x="450" y="3017"/>
                  </a:lnTo>
                  <a:lnTo>
                    <a:pt x="460" y="3021"/>
                  </a:lnTo>
                  <a:lnTo>
                    <a:pt x="470" y="3022"/>
                  </a:lnTo>
                  <a:lnTo>
                    <a:pt x="481" y="3022"/>
                  </a:lnTo>
                  <a:lnTo>
                    <a:pt x="498" y="3021"/>
                  </a:lnTo>
                  <a:lnTo>
                    <a:pt x="514" y="3017"/>
                  </a:lnTo>
                  <a:lnTo>
                    <a:pt x="531" y="3012"/>
                  </a:lnTo>
                  <a:lnTo>
                    <a:pt x="547" y="3005"/>
                  </a:lnTo>
                  <a:lnTo>
                    <a:pt x="564" y="2995"/>
                  </a:lnTo>
                  <a:lnTo>
                    <a:pt x="578" y="2981"/>
                  </a:lnTo>
                  <a:lnTo>
                    <a:pt x="594" y="2967"/>
                  </a:lnTo>
                  <a:lnTo>
                    <a:pt x="609" y="2950"/>
                  </a:lnTo>
                  <a:lnTo>
                    <a:pt x="624" y="2931"/>
                  </a:lnTo>
                  <a:lnTo>
                    <a:pt x="639" y="2909"/>
                  </a:lnTo>
                  <a:lnTo>
                    <a:pt x="652" y="2886"/>
                  </a:lnTo>
                  <a:lnTo>
                    <a:pt x="666" y="2860"/>
                  </a:lnTo>
                  <a:lnTo>
                    <a:pt x="693" y="2800"/>
                  </a:lnTo>
                  <a:lnTo>
                    <a:pt x="717" y="2733"/>
                  </a:lnTo>
                  <a:lnTo>
                    <a:pt x="741" y="2659"/>
                  </a:lnTo>
                  <a:lnTo>
                    <a:pt x="761" y="2585"/>
                  </a:lnTo>
                  <a:lnTo>
                    <a:pt x="777" y="2507"/>
                  </a:lnTo>
                  <a:lnTo>
                    <a:pt x="791" y="2430"/>
                  </a:lnTo>
                  <a:lnTo>
                    <a:pt x="802" y="2352"/>
                  </a:lnTo>
                  <a:lnTo>
                    <a:pt x="810" y="2271"/>
                  </a:lnTo>
                  <a:lnTo>
                    <a:pt x="814" y="218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3560" y="1066680"/>
              <a:ext cx="399960" cy="728640"/>
            </a:xfrm>
            <a:custGeom>
              <a:avLst/>
              <a:gdLst/>
              <a:ahLst/>
              <a:rect l="l" t="t" r="r" b="b"/>
              <a:pathLst>
                <a:path w="1112" h="2023">
                  <a:moveTo>
                    <a:pt x="750" y="0"/>
                  </a:moveTo>
                  <a:lnTo>
                    <a:pt x="789" y="4"/>
                  </a:lnTo>
                  <a:lnTo>
                    <a:pt x="824" y="13"/>
                  </a:lnTo>
                  <a:lnTo>
                    <a:pt x="842" y="19"/>
                  </a:lnTo>
                  <a:lnTo>
                    <a:pt x="860" y="26"/>
                  </a:lnTo>
                  <a:lnTo>
                    <a:pt x="875" y="37"/>
                  </a:lnTo>
                  <a:lnTo>
                    <a:pt x="892" y="47"/>
                  </a:lnTo>
                  <a:lnTo>
                    <a:pt x="908" y="59"/>
                  </a:lnTo>
                  <a:lnTo>
                    <a:pt x="924" y="73"/>
                  </a:lnTo>
                  <a:lnTo>
                    <a:pt x="938" y="88"/>
                  </a:lnTo>
                  <a:lnTo>
                    <a:pt x="953" y="106"/>
                  </a:lnTo>
                  <a:lnTo>
                    <a:pt x="967" y="125"/>
                  </a:lnTo>
                  <a:lnTo>
                    <a:pt x="981" y="144"/>
                  </a:lnTo>
                  <a:lnTo>
                    <a:pt x="1007" y="188"/>
                  </a:lnTo>
                  <a:lnTo>
                    <a:pt x="1020" y="212"/>
                  </a:lnTo>
                  <a:lnTo>
                    <a:pt x="1032" y="237"/>
                  </a:lnTo>
                  <a:lnTo>
                    <a:pt x="1043" y="262"/>
                  </a:lnTo>
                  <a:lnTo>
                    <a:pt x="1053" y="290"/>
                  </a:lnTo>
                  <a:lnTo>
                    <a:pt x="1062" y="318"/>
                  </a:lnTo>
                  <a:lnTo>
                    <a:pt x="1070" y="347"/>
                  </a:lnTo>
                  <a:lnTo>
                    <a:pt x="1078" y="378"/>
                  </a:lnTo>
                  <a:lnTo>
                    <a:pt x="1085" y="409"/>
                  </a:lnTo>
                  <a:lnTo>
                    <a:pt x="1096" y="476"/>
                  </a:lnTo>
                  <a:lnTo>
                    <a:pt x="1104" y="547"/>
                  </a:lnTo>
                  <a:lnTo>
                    <a:pt x="1109" y="621"/>
                  </a:lnTo>
                  <a:lnTo>
                    <a:pt x="1111" y="700"/>
                  </a:lnTo>
                  <a:lnTo>
                    <a:pt x="1110" y="764"/>
                  </a:lnTo>
                  <a:lnTo>
                    <a:pt x="1107" y="826"/>
                  </a:lnTo>
                  <a:lnTo>
                    <a:pt x="1103" y="888"/>
                  </a:lnTo>
                  <a:lnTo>
                    <a:pt x="1096" y="950"/>
                  </a:lnTo>
                  <a:lnTo>
                    <a:pt x="1088" y="1010"/>
                  </a:lnTo>
                  <a:lnTo>
                    <a:pt x="1077" y="1069"/>
                  </a:lnTo>
                  <a:lnTo>
                    <a:pt x="1065" y="1128"/>
                  </a:lnTo>
                  <a:lnTo>
                    <a:pt x="1052" y="1184"/>
                  </a:lnTo>
                  <a:lnTo>
                    <a:pt x="1036" y="1241"/>
                  </a:lnTo>
                  <a:lnTo>
                    <a:pt x="1018" y="1298"/>
                  </a:lnTo>
                  <a:lnTo>
                    <a:pt x="978" y="1407"/>
                  </a:lnTo>
                  <a:lnTo>
                    <a:pt x="930" y="1514"/>
                  </a:lnTo>
                  <a:lnTo>
                    <a:pt x="874" y="1617"/>
                  </a:lnTo>
                  <a:lnTo>
                    <a:pt x="815" y="1712"/>
                  </a:lnTo>
                  <a:lnTo>
                    <a:pt x="754" y="1795"/>
                  </a:lnTo>
                  <a:lnTo>
                    <a:pt x="693" y="1863"/>
                  </a:lnTo>
                  <a:lnTo>
                    <a:pt x="631" y="1920"/>
                  </a:lnTo>
                  <a:lnTo>
                    <a:pt x="600" y="1944"/>
                  </a:lnTo>
                  <a:lnTo>
                    <a:pt x="568" y="1965"/>
                  </a:lnTo>
                  <a:lnTo>
                    <a:pt x="536" y="1982"/>
                  </a:lnTo>
                  <a:lnTo>
                    <a:pt x="504" y="1996"/>
                  </a:lnTo>
                  <a:lnTo>
                    <a:pt x="471" y="2008"/>
                  </a:lnTo>
                  <a:lnTo>
                    <a:pt x="439" y="2015"/>
                  </a:lnTo>
                  <a:lnTo>
                    <a:pt x="406" y="2020"/>
                  </a:lnTo>
                  <a:lnTo>
                    <a:pt x="373" y="2022"/>
                  </a:lnTo>
                  <a:lnTo>
                    <a:pt x="333" y="2019"/>
                  </a:lnTo>
                  <a:lnTo>
                    <a:pt x="293" y="2012"/>
                  </a:lnTo>
                  <a:lnTo>
                    <a:pt x="257" y="1998"/>
                  </a:lnTo>
                  <a:lnTo>
                    <a:pt x="222" y="1979"/>
                  </a:lnTo>
                  <a:lnTo>
                    <a:pt x="190" y="1957"/>
                  </a:lnTo>
                  <a:lnTo>
                    <a:pt x="174" y="1943"/>
                  </a:lnTo>
                  <a:lnTo>
                    <a:pt x="158" y="1927"/>
                  </a:lnTo>
                  <a:lnTo>
                    <a:pt x="144" y="1910"/>
                  </a:lnTo>
                  <a:lnTo>
                    <a:pt x="130" y="1893"/>
                  </a:lnTo>
                  <a:lnTo>
                    <a:pt x="103" y="1853"/>
                  </a:lnTo>
                  <a:lnTo>
                    <a:pt x="90" y="1832"/>
                  </a:lnTo>
                  <a:lnTo>
                    <a:pt x="78" y="1810"/>
                  </a:lnTo>
                  <a:lnTo>
                    <a:pt x="68" y="1786"/>
                  </a:lnTo>
                  <a:lnTo>
                    <a:pt x="58" y="1762"/>
                  </a:lnTo>
                  <a:lnTo>
                    <a:pt x="49" y="1736"/>
                  </a:lnTo>
                  <a:lnTo>
                    <a:pt x="40" y="1710"/>
                  </a:lnTo>
                  <a:lnTo>
                    <a:pt x="32" y="1683"/>
                  </a:lnTo>
                  <a:lnTo>
                    <a:pt x="25" y="1655"/>
                  </a:lnTo>
                  <a:lnTo>
                    <a:pt x="19" y="1626"/>
                  </a:lnTo>
                  <a:lnTo>
                    <a:pt x="14" y="1596"/>
                  </a:lnTo>
                  <a:lnTo>
                    <a:pt x="7" y="1534"/>
                  </a:lnTo>
                  <a:lnTo>
                    <a:pt x="2" y="1469"/>
                  </a:lnTo>
                  <a:lnTo>
                    <a:pt x="0" y="1398"/>
                  </a:lnTo>
                  <a:lnTo>
                    <a:pt x="3" y="1279"/>
                  </a:lnTo>
                  <a:lnTo>
                    <a:pt x="10" y="1162"/>
                  </a:lnTo>
                  <a:lnTo>
                    <a:pt x="25" y="1047"/>
                  </a:lnTo>
                  <a:lnTo>
                    <a:pt x="45" y="935"/>
                  </a:lnTo>
                  <a:lnTo>
                    <a:pt x="70" y="824"/>
                  </a:lnTo>
                  <a:lnTo>
                    <a:pt x="101" y="717"/>
                  </a:lnTo>
                  <a:lnTo>
                    <a:pt x="138" y="612"/>
                  </a:lnTo>
                  <a:lnTo>
                    <a:pt x="180" y="509"/>
                  </a:lnTo>
                  <a:lnTo>
                    <a:pt x="239" y="390"/>
                  </a:lnTo>
                  <a:lnTo>
                    <a:pt x="270" y="337"/>
                  </a:lnTo>
                  <a:lnTo>
                    <a:pt x="301" y="287"/>
                  </a:lnTo>
                  <a:lnTo>
                    <a:pt x="334" y="242"/>
                  </a:lnTo>
                  <a:lnTo>
                    <a:pt x="367" y="200"/>
                  </a:lnTo>
                  <a:lnTo>
                    <a:pt x="402" y="162"/>
                  </a:lnTo>
                  <a:lnTo>
                    <a:pt x="437" y="128"/>
                  </a:lnTo>
                  <a:lnTo>
                    <a:pt x="473" y="99"/>
                  </a:lnTo>
                  <a:lnTo>
                    <a:pt x="510" y="73"/>
                  </a:lnTo>
                  <a:lnTo>
                    <a:pt x="548" y="50"/>
                  </a:lnTo>
                  <a:lnTo>
                    <a:pt x="587" y="33"/>
                  </a:lnTo>
                  <a:lnTo>
                    <a:pt x="626" y="18"/>
                  </a:lnTo>
                  <a:lnTo>
                    <a:pt x="667" y="9"/>
                  </a:lnTo>
                  <a:lnTo>
                    <a:pt x="708" y="2"/>
                  </a:lnTo>
                  <a:close/>
                  <a:moveTo>
                    <a:pt x="626" y="259"/>
                  </a:moveTo>
                  <a:lnTo>
                    <a:pt x="612" y="261"/>
                  </a:lnTo>
                  <a:lnTo>
                    <a:pt x="599" y="262"/>
                  </a:lnTo>
                  <a:lnTo>
                    <a:pt x="585" y="268"/>
                  </a:lnTo>
                  <a:lnTo>
                    <a:pt x="571" y="275"/>
                  </a:lnTo>
                  <a:lnTo>
                    <a:pt x="557" y="283"/>
                  </a:lnTo>
                  <a:lnTo>
                    <a:pt x="543" y="295"/>
                  </a:lnTo>
                  <a:lnTo>
                    <a:pt x="530" y="307"/>
                  </a:lnTo>
                  <a:lnTo>
                    <a:pt x="516" y="323"/>
                  </a:lnTo>
                  <a:lnTo>
                    <a:pt x="502" y="340"/>
                  </a:lnTo>
                  <a:lnTo>
                    <a:pt x="488" y="359"/>
                  </a:lnTo>
                  <a:lnTo>
                    <a:pt x="462" y="402"/>
                  </a:lnTo>
                  <a:lnTo>
                    <a:pt x="434" y="454"/>
                  </a:lnTo>
                  <a:lnTo>
                    <a:pt x="406" y="514"/>
                  </a:lnTo>
                  <a:lnTo>
                    <a:pt x="394" y="547"/>
                  </a:lnTo>
                  <a:lnTo>
                    <a:pt x="381" y="581"/>
                  </a:lnTo>
                  <a:lnTo>
                    <a:pt x="358" y="654"/>
                  </a:lnTo>
                  <a:lnTo>
                    <a:pt x="339" y="733"/>
                  </a:lnTo>
                  <a:lnTo>
                    <a:pt x="325" y="819"/>
                  </a:lnTo>
                  <a:lnTo>
                    <a:pt x="313" y="912"/>
                  </a:lnTo>
                  <a:lnTo>
                    <a:pt x="304" y="1010"/>
                  </a:lnTo>
                  <a:lnTo>
                    <a:pt x="299" y="1116"/>
                  </a:lnTo>
                  <a:lnTo>
                    <a:pt x="297" y="1228"/>
                  </a:lnTo>
                  <a:lnTo>
                    <a:pt x="298" y="1295"/>
                  </a:lnTo>
                  <a:lnTo>
                    <a:pt x="301" y="1357"/>
                  </a:lnTo>
                  <a:lnTo>
                    <a:pt x="306" y="1415"/>
                  </a:lnTo>
                  <a:lnTo>
                    <a:pt x="314" y="1472"/>
                  </a:lnTo>
                  <a:lnTo>
                    <a:pt x="323" y="1524"/>
                  </a:lnTo>
                  <a:lnTo>
                    <a:pt x="335" y="1571"/>
                  </a:lnTo>
                  <a:lnTo>
                    <a:pt x="340" y="1593"/>
                  </a:lnTo>
                  <a:lnTo>
                    <a:pt x="347" y="1615"/>
                  </a:lnTo>
                  <a:lnTo>
                    <a:pt x="355" y="1636"/>
                  </a:lnTo>
                  <a:lnTo>
                    <a:pt x="363" y="1655"/>
                  </a:lnTo>
                  <a:lnTo>
                    <a:pt x="369" y="1667"/>
                  </a:lnTo>
                  <a:lnTo>
                    <a:pt x="375" y="1679"/>
                  </a:lnTo>
                  <a:lnTo>
                    <a:pt x="381" y="1689"/>
                  </a:lnTo>
                  <a:lnTo>
                    <a:pt x="387" y="1700"/>
                  </a:lnTo>
                  <a:lnTo>
                    <a:pt x="394" y="1710"/>
                  </a:lnTo>
                  <a:lnTo>
                    <a:pt x="401" y="1719"/>
                  </a:lnTo>
                  <a:lnTo>
                    <a:pt x="407" y="1726"/>
                  </a:lnTo>
                  <a:lnTo>
                    <a:pt x="415" y="1733"/>
                  </a:lnTo>
                  <a:lnTo>
                    <a:pt x="422" y="1739"/>
                  </a:lnTo>
                  <a:lnTo>
                    <a:pt x="430" y="1745"/>
                  </a:lnTo>
                  <a:lnTo>
                    <a:pt x="438" y="1748"/>
                  </a:lnTo>
                  <a:lnTo>
                    <a:pt x="446" y="1751"/>
                  </a:lnTo>
                  <a:lnTo>
                    <a:pt x="455" y="1755"/>
                  </a:lnTo>
                  <a:lnTo>
                    <a:pt x="464" y="1757"/>
                  </a:lnTo>
                  <a:lnTo>
                    <a:pt x="472" y="1758"/>
                  </a:lnTo>
                  <a:lnTo>
                    <a:pt x="481" y="1758"/>
                  </a:lnTo>
                  <a:lnTo>
                    <a:pt x="495" y="1758"/>
                  </a:lnTo>
                  <a:lnTo>
                    <a:pt x="509" y="1757"/>
                  </a:lnTo>
                  <a:lnTo>
                    <a:pt x="522" y="1753"/>
                  </a:lnTo>
                  <a:lnTo>
                    <a:pt x="535" y="1748"/>
                  </a:lnTo>
                  <a:lnTo>
                    <a:pt x="548" y="1743"/>
                  </a:lnTo>
                  <a:lnTo>
                    <a:pt x="561" y="1736"/>
                  </a:lnTo>
                  <a:lnTo>
                    <a:pt x="574" y="1729"/>
                  </a:lnTo>
                  <a:lnTo>
                    <a:pt x="587" y="1719"/>
                  </a:lnTo>
                  <a:lnTo>
                    <a:pt x="599" y="1708"/>
                  </a:lnTo>
                  <a:lnTo>
                    <a:pt x="610" y="1696"/>
                  </a:lnTo>
                  <a:lnTo>
                    <a:pt x="634" y="1670"/>
                  </a:lnTo>
                  <a:lnTo>
                    <a:pt x="658" y="1638"/>
                  </a:lnTo>
                  <a:lnTo>
                    <a:pt x="679" y="1600"/>
                  </a:lnTo>
                  <a:lnTo>
                    <a:pt x="710" y="1514"/>
                  </a:lnTo>
                  <a:lnTo>
                    <a:pt x="735" y="1424"/>
                  </a:lnTo>
                  <a:lnTo>
                    <a:pt x="757" y="1331"/>
                  </a:lnTo>
                  <a:lnTo>
                    <a:pt x="776" y="1236"/>
                  </a:lnTo>
                  <a:lnTo>
                    <a:pt x="790" y="1140"/>
                  </a:lnTo>
                  <a:lnTo>
                    <a:pt x="799" y="1040"/>
                  </a:lnTo>
                  <a:lnTo>
                    <a:pt x="805" y="936"/>
                  </a:lnTo>
                  <a:lnTo>
                    <a:pt x="807" y="831"/>
                  </a:lnTo>
                  <a:lnTo>
                    <a:pt x="806" y="755"/>
                  </a:lnTo>
                  <a:lnTo>
                    <a:pt x="804" y="685"/>
                  </a:lnTo>
                  <a:lnTo>
                    <a:pt x="799" y="619"/>
                  </a:lnTo>
                  <a:lnTo>
                    <a:pt x="795" y="561"/>
                  </a:lnTo>
                  <a:lnTo>
                    <a:pt x="787" y="509"/>
                  </a:lnTo>
                  <a:lnTo>
                    <a:pt x="778" y="462"/>
                  </a:lnTo>
                  <a:lnTo>
                    <a:pt x="773" y="440"/>
                  </a:lnTo>
                  <a:lnTo>
                    <a:pt x="767" y="421"/>
                  </a:lnTo>
                  <a:lnTo>
                    <a:pt x="761" y="404"/>
                  </a:lnTo>
                  <a:lnTo>
                    <a:pt x="755" y="387"/>
                  </a:lnTo>
                  <a:lnTo>
                    <a:pt x="741" y="357"/>
                  </a:lnTo>
                  <a:lnTo>
                    <a:pt x="734" y="343"/>
                  </a:lnTo>
                  <a:lnTo>
                    <a:pt x="728" y="331"/>
                  </a:lnTo>
                  <a:lnTo>
                    <a:pt x="720" y="319"/>
                  </a:lnTo>
                  <a:lnTo>
                    <a:pt x="712" y="309"/>
                  </a:lnTo>
                  <a:lnTo>
                    <a:pt x="704" y="300"/>
                  </a:lnTo>
                  <a:lnTo>
                    <a:pt x="696" y="292"/>
                  </a:lnTo>
                  <a:lnTo>
                    <a:pt x="688" y="283"/>
                  </a:lnTo>
                  <a:lnTo>
                    <a:pt x="679" y="276"/>
                  </a:lnTo>
                  <a:lnTo>
                    <a:pt x="671" y="271"/>
                  </a:lnTo>
                  <a:lnTo>
                    <a:pt x="663" y="268"/>
                  </a:lnTo>
                  <a:lnTo>
                    <a:pt x="654" y="264"/>
                  </a:lnTo>
                  <a:lnTo>
                    <a:pt x="645" y="261"/>
                  </a:lnTo>
                  <a:lnTo>
                    <a:pt x="635" y="259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03800" y="1065240"/>
              <a:ext cx="358920" cy="728640"/>
            </a:xfrm>
            <a:custGeom>
              <a:avLst/>
              <a:gdLst/>
              <a:ahLst/>
              <a:rect l="l" t="t" r="r" b="b"/>
              <a:pathLst>
                <a:path w="998" h="2023">
                  <a:moveTo>
                    <a:pt x="729" y="817"/>
                  </a:moveTo>
                  <a:lnTo>
                    <a:pt x="796" y="813"/>
                  </a:lnTo>
                  <a:lnTo>
                    <a:pt x="821" y="815"/>
                  </a:lnTo>
                  <a:lnTo>
                    <a:pt x="843" y="819"/>
                  </a:lnTo>
                  <a:lnTo>
                    <a:pt x="864" y="826"/>
                  </a:lnTo>
                  <a:lnTo>
                    <a:pt x="884" y="834"/>
                  </a:lnTo>
                  <a:lnTo>
                    <a:pt x="903" y="846"/>
                  </a:lnTo>
                  <a:lnTo>
                    <a:pt x="918" y="862"/>
                  </a:lnTo>
                  <a:lnTo>
                    <a:pt x="933" y="879"/>
                  </a:lnTo>
                  <a:lnTo>
                    <a:pt x="947" y="898"/>
                  </a:lnTo>
                  <a:lnTo>
                    <a:pt x="959" y="920"/>
                  </a:lnTo>
                  <a:lnTo>
                    <a:pt x="969" y="946"/>
                  </a:lnTo>
                  <a:lnTo>
                    <a:pt x="977" y="974"/>
                  </a:lnTo>
                  <a:lnTo>
                    <a:pt x="984" y="1005"/>
                  </a:lnTo>
                  <a:lnTo>
                    <a:pt x="990" y="1038"/>
                  </a:lnTo>
                  <a:lnTo>
                    <a:pt x="994" y="1072"/>
                  </a:lnTo>
                  <a:lnTo>
                    <a:pt x="996" y="1110"/>
                  </a:lnTo>
                  <a:lnTo>
                    <a:pt x="997" y="1151"/>
                  </a:lnTo>
                  <a:lnTo>
                    <a:pt x="996" y="1191"/>
                  </a:lnTo>
                  <a:lnTo>
                    <a:pt x="993" y="1232"/>
                  </a:lnTo>
                  <a:lnTo>
                    <a:pt x="989" y="1272"/>
                  </a:lnTo>
                  <a:lnTo>
                    <a:pt x="982" y="1310"/>
                  </a:lnTo>
                  <a:lnTo>
                    <a:pt x="974" y="1349"/>
                  </a:lnTo>
                  <a:lnTo>
                    <a:pt x="964" y="1387"/>
                  </a:lnTo>
                  <a:lnTo>
                    <a:pt x="952" y="1425"/>
                  </a:lnTo>
                  <a:lnTo>
                    <a:pt x="938" y="1463"/>
                  </a:lnTo>
                  <a:lnTo>
                    <a:pt x="922" y="1501"/>
                  </a:lnTo>
                  <a:lnTo>
                    <a:pt x="905" y="1537"/>
                  </a:lnTo>
                  <a:lnTo>
                    <a:pt x="885" y="1574"/>
                  </a:lnTo>
                  <a:lnTo>
                    <a:pt x="864" y="1610"/>
                  </a:lnTo>
                  <a:lnTo>
                    <a:pt x="816" y="1680"/>
                  </a:lnTo>
                  <a:lnTo>
                    <a:pt x="760" y="1749"/>
                  </a:lnTo>
                  <a:lnTo>
                    <a:pt x="701" y="1813"/>
                  </a:lnTo>
                  <a:lnTo>
                    <a:pt x="641" y="1868"/>
                  </a:lnTo>
                  <a:lnTo>
                    <a:pt x="583" y="1916"/>
                  </a:lnTo>
                  <a:lnTo>
                    <a:pt x="525" y="1954"/>
                  </a:lnTo>
                  <a:lnTo>
                    <a:pt x="467" y="1984"/>
                  </a:lnTo>
                  <a:lnTo>
                    <a:pt x="410" y="2004"/>
                  </a:lnTo>
                  <a:lnTo>
                    <a:pt x="353" y="2018"/>
                  </a:lnTo>
                  <a:lnTo>
                    <a:pt x="296" y="2022"/>
                  </a:lnTo>
                  <a:lnTo>
                    <a:pt x="260" y="2020"/>
                  </a:lnTo>
                  <a:lnTo>
                    <a:pt x="227" y="2015"/>
                  </a:lnTo>
                  <a:lnTo>
                    <a:pt x="195" y="2004"/>
                  </a:lnTo>
                  <a:lnTo>
                    <a:pt x="167" y="1992"/>
                  </a:lnTo>
                  <a:lnTo>
                    <a:pt x="140" y="1975"/>
                  </a:lnTo>
                  <a:lnTo>
                    <a:pt x="115" y="1954"/>
                  </a:lnTo>
                  <a:lnTo>
                    <a:pt x="94" y="1930"/>
                  </a:lnTo>
                  <a:lnTo>
                    <a:pt x="74" y="1901"/>
                  </a:lnTo>
                  <a:lnTo>
                    <a:pt x="56" y="1870"/>
                  </a:lnTo>
                  <a:lnTo>
                    <a:pt x="42" y="1834"/>
                  </a:lnTo>
                  <a:lnTo>
                    <a:pt x="29" y="1794"/>
                  </a:lnTo>
                  <a:lnTo>
                    <a:pt x="19" y="1751"/>
                  </a:lnTo>
                  <a:lnTo>
                    <a:pt x="11" y="1704"/>
                  </a:lnTo>
                  <a:lnTo>
                    <a:pt x="5" y="1653"/>
                  </a:lnTo>
                  <a:lnTo>
                    <a:pt x="1" y="1599"/>
                  </a:lnTo>
                  <a:lnTo>
                    <a:pt x="0" y="1541"/>
                  </a:lnTo>
                  <a:lnTo>
                    <a:pt x="3" y="1408"/>
                  </a:lnTo>
                  <a:lnTo>
                    <a:pt x="14" y="1275"/>
                  </a:lnTo>
                  <a:lnTo>
                    <a:pt x="31" y="1144"/>
                  </a:lnTo>
                  <a:lnTo>
                    <a:pt x="54" y="1013"/>
                  </a:lnTo>
                  <a:lnTo>
                    <a:pt x="85" y="884"/>
                  </a:lnTo>
                  <a:lnTo>
                    <a:pt x="121" y="755"/>
                  </a:lnTo>
                  <a:lnTo>
                    <a:pt x="166" y="627"/>
                  </a:lnTo>
                  <a:lnTo>
                    <a:pt x="216" y="502"/>
                  </a:lnTo>
                  <a:lnTo>
                    <a:pt x="271" y="384"/>
                  </a:lnTo>
                  <a:lnTo>
                    <a:pt x="328" y="283"/>
                  </a:lnTo>
                  <a:lnTo>
                    <a:pt x="359" y="238"/>
                  </a:lnTo>
                  <a:lnTo>
                    <a:pt x="388" y="197"/>
                  </a:lnTo>
                  <a:lnTo>
                    <a:pt x="420" y="159"/>
                  </a:lnTo>
                  <a:lnTo>
                    <a:pt x="451" y="126"/>
                  </a:lnTo>
                  <a:lnTo>
                    <a:pt x="483" y="97"/>
                  </a:lnTo>
                  <a:lnTo>
                    <a:pt x="515" y="71"/>
                  </a:lnTo>
                  <a:lnTo>
                    <a:pt x="549" y="48"/>
                  </a:lnTo>
                  <a:lnTo>
                    <a:pt x="583" y="31"/>
                  </a:lnTo>
                  <a:lnTo>
                    <a:pt x="618" y="17"/>
                  </a:lnTo>
                  <a:lnTo>
                    <a:pt x="653" y="9"/>
                  </a:lnTo>
                  <a:lnTo>
                    <a:pt x="689" y="2"/>
                  </a:lnTo>
                  <a:lnTo>
                    <a:pt x="725" y="0"/>
                  </a:lnTo>
                  <a:lnTo>
                    <a:pt x="755" y="2"/>
                  </a:lnTo>
                  <a:lnTo>
                    <a:pt x="781" y="5"/>
                  </a:lnTo>
                  <a:lnTo>
                    <a:pt x="807" y="12"/>
                  </a:lnTo>
                  <a:lnTo>
                    <a:pt x="831" y="21"/>
                  </a:lnTo>
                  <a:lnTo>
                    <a:pt x="852" y="33"/>
                  </a:lnTo>
                  <a:lnTo>
                    <a:pt x="872" y="48"/>
                  </a:lnTo>
                  <a:lnTo>
                    <a:pt x="890" y="64"/>
                  </a:lnTo>
                  <a:lnTo>
                    <a:pt x="905" y="84"/>
                  </a:lnTo>
                  <a:lnTo>
                    <a:pt x="919" y="107"/>
                  </a:lnTo>
                  <a:lnTo>
                    <a:pt x="932" y="133"/>
                  </a:lnTo>
                  <a:lnTo>
                    <a:pt x="942" y="160"/>
                  </a:lnTo>
                  <a:lnTo>
                    <a:pt x="951" y="191"/>
                  </a:lnTo>
                  <a:lnTo>
                    <a:pt x="957" y="224"/>
                  </a:lnTo>
                  <a:lnTo>
                    <a:pt x="962" y="260"/>
                  </a:lnTo>
                  <a:lnTo>
                    <a:pt x="965" y="298"/>
                  </a:lnTo>
                  <a:lnTo>
                    <a:pt x="966" y="340"/>
                  </a:lnTo>
                  <a:lnTo>
                    <a:pt x="965" y="379"/>
                  </a:lnTo>
                  <a:lnTo>
                    <a:pt x="962" y="415"/>
                  </a:lnTo>
                  <a:lnTo>
                    <a:pt x="958" y="452"/>
                  </a:lnTo>
                  <a:lnTo>
                    <a:pt x="951" y="488"/>
                  </a:lnTo>
                  <a:lnTo>
                    <a:pt x="943" y="522"/>
                  </a:lnTo>
                  <a:lnTo>
                    <a:pt x="932" y="555"/>
                  </a:lnTo>
                  <a:lnTo>
                    <a:pt x="920" y="586"/>
                  </a:lnTo>
                  <a:lnTo>
                    <a:pt x="906" y="617"/>
                  </a:lnTo>
                  <a:lnTo>
                    <a:pt x="891" y="646"/>
                  </a:lnTo>
                  <a:lnTo>
                    <a:pt x="873" y="674"/>
                  </a:lnTo>
                  <a:lnTo>
                    <a:pt x="854" y="700"/>
                  </a:lnTo>
                  <a:lnTo>
                    <a:pt x="833" y="726"/>
                  </a:lnTo>
                  <a:lnTo>
                    <a:pt x="810" y="750"/>
                  </a:lnTo>
                  <a:lnTo>
                    <a:pt x="784" y="774"/>
                  </a:lnTo>
                  <a:close/>
                  <a:moveTo>
                    <a:pt x="322" y="993"/>
                  </a:moveTo>
                  <a:lnTo>
                    <a:pt x="411" y="924"/>
                  </a:lnTo>
                  <a:lnTo>
                    <a:pt x="489" y="855"/>
                  </a:lnTo>
                  <a:lnTo>
                    <a:pt x="554" y="784"/>
                  </a:lnTo>
                  <a:lnTo>
                    <a:pt x="581" y="750"/>
                  </a:lnTo>
                  <a:lnTo>
                    <a:pt x="607" y="714"/>
                  </a:lnTo>
                  <a:lnTo>
                    <a:pt x="629" y="677"/>
                  </a:lnTo>
                  <a:lnTo>
                    <a:pt x="648" y="641"/>
                  </a:lnTo>
                  <a:lnTo>
                    <a:pt x="664" y="605"/>
                  </a:lnTo>
                  <a:lnTo>
                    <a:pt x="678" y="569"/>
                  </a:lnTo>
                  <a:lnTo>
                    <a:pt x="688" y="531"/>
                  </a:lnTo>
                  <a:lnTo>
                    <a:pt x="696" y="495"/>
                  </a:lnTo>
                  <a:lnTo>
                    <a:pt x="700" y="457"/>
                  </a:lnTo>
                  <a:lnTo>
                    <a:pt x="702" y="419"/>
                  </a:lnTo>
                  <a:lnTo>
                    <a:pt x="702" y="398"/>
                  </a:lnTo>
                  <a:lnTo>
                    <a:pt x="701" y="381"/>
                  </a:lnTo>
                  <a:lnTo>
                    <a:pt x="699" y="362"/>
                  </a:lnTo>
                  <a:lnTo>
                    <a:pt x="696" y="346"/>
                  </a:lnTo>
                  <a:lnTo>
                    <a:pt x="693" y="331"/>
                  </a:lnTo>
                  <a:lnTo>
                    <a:pt x="689" y="319"/>
                  </a:lnTo>
                  <a:lnTo>
                    <a:pt x="685" y="305"/>
                  </a:lnTo>
                  <a:lnTo>
                    <a:pt x="680" y="295"/>
                  </a:lnTo>
                  <a:lnTo>
                    <a:pt x="674" y="284"/>
                  </a:lnTo>
                  <a:lnTo>
                    <a:pt x="667" y="278"/>
                  </a:lnTo>
                  <a:lnTo>
                    <a:pt x="659" y="269"/>
                  </a:lnTo>
                  <a:lnTo>
                    <a:pt x="651" y="264"/>
                  </a:lnTo>
                  <a:lnTo>
                    <a:pt x="643" y="259"/>
                  </a:lnTo>
                  <a:lnTo>
                    <a:pt x="634" y="257"/>
                  </a:lnTo>
                  <a:lnTo>
                    <a:pt x="624" y="253"/>
                  </a:lnTo>
                  <a:lnTo>
                    <a:pt x="613" y="253"/>
                  </a:lnTo>
                  <a:lnTo>
                    <a:pt x="588" y="257"/>
                  </a:lnTo>
                  <a:lnTo>
                    <a:pt x="564" y="265"/>
                  </a:lnTo>
                  <a:lnTo>
                    <a:pt x="541" y="279"/>
                  </a:lnTo>
                  <a:lnTo>
                    <a:pt x="518" y="300"/>
                  </a:lnTo>
                  <a:lnTo>
                    <a:pt x="498" y="326"/>
                  </a:lnTo>
                  <a:lnTo>
                    <a:pt x="477" y="357"/>
                  </a:lnTo>
                  <a:lnTo>
                    <a:pt x="457" y="395"/>
                  </a:lnTo>
                  <a:lnTo>
                    <a:pt x="439" y="438"/>
                  </a:lnTo>
                  <a:lnTo>
                    <a:pt x="421" y="488"/>
                  </a:lnTo>
                  <a:lnTo>
                    <a:pt x="404" y="543"/>
                  </a:lnTo>
                  <a:lnTo>
                    <a:pt x="388" y="603"/>
                  </a:lnTo>
                  <a:lnTo>
                    <a:pt x="374" y="669"/>
                  </a:lnTo>
                  <a:lnTo>
                    <a:pt x="346" y="819"/>
                  </a:lnTo>
                  <a:close/>
                  <a:moveTo>
                    <a:pt x="308" y="1227"/>
                  </a:moveTo>
                  <a:lnTo>
                    <a:pt x="303" y="1277"/>
                  </a:lnTo>
                  <a:lnTo>
                    <a:pt x="300" y="1329"/>
                  </a:lnTo>
                  <a:lnTo>
                    <a:pt x="299" y="1382"/>
                  </a:lnTo>
                  <a:lnTo>
                    <a:pt x="298" y="1441"/>
                  </a:lnTo>
                  <a:lnTo>
                    <a:pt x="299" y="1527"/>
                  </a:lnTo>
                  <a:lnTo>
                    <a:pt x="301" y="1565"/>
                  </a:lnTo>
                  <a:lnTo>
                    <a:pt x="304" y="1598"/>
                  </a:lnTo>
                  <a:lnTo>
                    <a:pt x="307" y="1629"/>
                  </a:lnTo>
                  <a:lnTo>
                    <a:pt x="311" y="1653"/>
                  </a:lnTo>
                  <a:lnTo>
                    <a:pt x="312" y="1665"/>
                  </a:lnTo>
                  <a:lnTo>
                    <a:pt x="314" y="1675"/>
                  </a:lnTo>
                  <a:lnTo>
                    <a:pt x="317" y="1684"/>
                  </a:lnTo>
                  <a:lnTo>
                    <a:pt x="320" y="1692"/>
                  </a:lnTo>
                  <a:lnTo>
                    <a:pt x="323" y="1699"/>
                  </a:lnTo>
                  <a:lnTo>
                    <a:pt x="327" y="1706"/>
                  </a:lnTo>
                  <a:lnTo>
                    <a:pt x="330" y="1713"/>
                  </a:lnTo>
                  <a:lnTo>
                    <a:pt x="334" y="1720"/>
                  </a:lnTo>
                  <a:lnTo>
                    <a:pt x="338" y="1725"/>
                  </a:lnTo>
                  <a:lnTo>
                    <a:pt x="343" y="1730"/>
                  </a:lnTo>
                  <a:lnTo>
                    <a:pt x="348" y="1736"/>
                  </a:lnTo>
                  <a:lnTo>
                    <a:pt x="353" y="1741"/>
                  </a:lnTo>
                  <a:lnTo>
                    <a:pt x="358" y="1744"/>
                  </a:lnTo>
                  <a:lnTo>
                    <a:pt x="364" y="1748"/>
                  </a:lnTo>
                  <a:lnTo>
                    <a:pt x="370" y="1749"/>
                  </a:lnTo>
                  <a:lnTo>
                    <a:pt x="376" y="1753"/>
                  </a:lnTo>
                  <a:lnTo>
                    <a:pt x="388" y="1754"/>
                  </a:lnTo>
                  <a:lnTo>
                    <a:pt x="402" y="1756"/>
                  </a:lnTo>
                  <a:lnTo>
                    <a:pt x="414" y="1756"/>
                  </a:lnTo>
                  <a:lnTo>
                    <a:pt x="426" y="1754"/>
                  </a:lnTo>
                  <a:lnTo>
                    <a:pt x="439" y="1751"/>
                  </a:lnTo>
                  <a:lnTo>
                    <a:pt x="450" y="1746"/>
                  </a:lnTo>
                  <a:lnTo>
                    <a:pt x="462" y="1741"/>
                  </a:lnTo>
                  <a:lnTo>
                    <a:pt x="475" y="1734"/>
                  </a:lnTo>
                  <a:lnTo>
                    <a:pt x="500" y="1717"/>
                  </a:lnTo>
                  <a:lnTo>
                    <a:pt x="524" y="1694"/>
                  </a:lnTo>
                  <a:lnTo>
                    <a:pt x="549" y="1667"/>
                  </a:lnTo>
                  <a:lnTo>
                    <a:pt x="575" y="1634"/>
                  </a:lnTo>
                  <a:lnTo>
                    <a:pt x="600" y="1596"/>
                  </a:lnTo>
                  <a:lnTo>
                    <a:pt x="624" y="1555"/>
                  </a:lnTo>
                  <a:lnTo>
                    <a:pt x="644" y="1513"/>
                  </a:lnTo>
                  <a:lnTo>
                    <a:pt x="653" y="1491"/>
                  </a:lnTo>
                  <a:lnTo>
                    <a:pt x="662" y="1470"/>
                  </a:lnTo>
                  <a:lnTo>
                    <a:pt x="670" y="1448"/>
                  </a:lnTo>
                  <a:lnTo>
                    <a:pt x="676" y="1425"/>
                  </a:lnTo>
                  <a:lnTo>
                    <a:pt x="682" y="1401"/>
                  </a:lnTo>
                  <a:lnTo>
                    <a:pt x="688" y="1379"/>
                  </a:lnTo>
                  <a:lnTo>
                    <a:pt x="692" y="1355"/>
                  </a:lnTo>
                  <a:lnTo>
                    <a:pt x="696" y="1331"/>
                  </a:lnTo>
                  <a:lnTo>
                    <a:pt x="698" y="1306"/>
                  </a:lnTo>
                  <a:lnTo>
                    <a:pt x="700" y="1282"/>
                  </a:lnTo>
                  <a:lnTo>
                    <a:pt x="702" y="1256"/>
                  </a:lnTo>
                  <a:lnTo>
                    <a:pt x="702" y="1231"/>
                  </a:lnTo>
                  <a:lnTo>
                    <a:pt x="702" y="1208"/>
                  </a:lnTo>
                  <a:lnTo>
                    <a:pt x="701" y="1186"/>
                  </a:lnTo>
                  <a:lnTo>
                    <a:pt x="699" y="1167"/>
                  </a:lnTo>
                  <a:lnTo>
                    <a:pt x="696" y="1148"/>
                  </a:lnTo>
                  <a:lnTo>
                    <a:pt x="693" y="1131"/>
                  </a:lnTo>
                  <a:lnTo>
                    <a:pt x="689" y="1115"/>
                  </a:lnTo>
                  <a:lnTo>
                    <a:pt x="685" y="1101"/>
                  </a:lnTo>
                  <a:lnTo>
                    <a:pt x="679" y="1089"/>
                  </a:lnTo>
                  <a:lnTo>
                    <a:pt x="673" y="1079"/>
                  </a:lnTo>
                  <a:lnTo>
                    <a:pt x="667" y="1069"/>
                  </a:lnTo>
                  <a:lnTo>
                    <a:pt x="659" y="1062"/>
                  </a:lnTo>
                  <a:lnTo>
                    <a:pt x="651" y="1055"/>
                  </a:lnTo>
                  <a:lnTo>
                    <a:pt x="642" y="1050"/>
                  </a:lnTo>
                  <a:lnTo>
                    <a:pt x="633" y="1046"/>
                  </a:lnTo>
                  <a:lnTo>
                    <a:pt x="623" y="1043"/>
                  </a:lnTo>
                  <a:lnTo>
                    <a:pt x="612" y="1043"/>
                  </a:lnTo>
                  <a:lnTo>
                    <a:pt x="600" y="1043"/>
                  </a:lnTo>
                  <a:lnTo>
                    <a:pt x="588" y="1046"/>
                  </a:lnTo>
                  <a:lnTo>
                    <a:pt x="561" y="1055"/>
                  </a:lnTo>
                  <a:lnTo>
                    <a:pt x="528" y="1069"/>
                  </a:lnTo>
                  <a:lnTo>
                    <a:pt x="493" y="1089"/>
                  </a:lnTo>
                  <a:lnTo>
                    <a:pt x="452" y="1115"/>
                  </a:lnTo>
                  <a:lnTo>
                    <a:pt x="408" y="1146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53360" y="1042920"/>
              <a:ext cx="448920" cy="752400"/>
            </a:xfrm>
            <a:custGeom>
              <a:avLst/>
              <a:gdLst/>
              <a:ahLst/>
              <a:rect l="l" t="t" r="r" b="b"/>
              <a:pathLst>
                <a:path w="1246" h="2090">
                  <a:moveTo>
                    <a:pt x="1040" y="36"/>
                  </a:moveTo>
                  <a:lnTo>
                    <a:pt x="1179" y="0"/>
                  </a:lnTo>
                  <a:lnTo>
                    <a:pt x="1067" y="621"/>
                  </a:lnTo>
                  <a:lnTo>
                    <a:pt x="1036" y="793"/>
                  </a:lnTo>
                  <a:lnTo>
                    <a:pt x="1004" y="979"/>
                  </a:lnTo>
                  <a:lnTo>
                    <a:pt x="974" y="1177"/>
                  </a:lnTo>
                  <a:lnTo>
                    <a:pt x="944" y="1389"/>
                  </a:lnTo>
                  <a:lnTo>
                    <a:pt x="930" y="1494"/>
                  </a:lnTo>
                  <a:lnTo>
                    <a:pt x="921" y="1579"/>
                  </a:lnTo>
                  <a:lnTo>
                    <a:pt x="915" y="1643"/>
                  </a:lnTo>
                  <a:lnTo>
                    <a:pt x="914" y="1667"/>
                  </a:lnTo>
                  <a:lnTo>
                    <a:pt x="913" y="1686"/>
                  </a:lnTo>
                  <a:lnTo>
                    <a:pt x="913" y="1689"/>
                  </a:lnTo>
                  <a:lnTo>
                    <a:pt x="913" y="1691"/>
                  </a:lnTo>
                  <a:lnTo>
                    <a:pt x="913" y="1694"/>
                  </a:lnTo>
                  <a:lnTo>
                    <a:pt x="914" y="1696"/>
                  </a:lnTo>
                  <a:lnTo>
                    <a:pt x="914" y="1698"/>
                  </a:lnTo>
                  <a:lnTo>
                    <a:pt x="915" y="1700"/>
                  </a:lnTo>
                  <a:lnTo>
                    <a:pt x="915" y="1701"/>
                  </a:lnTo>
                  <a:lnTo>
                    <a:pt x="916" y="1703"/>
                  </a:lnTo>
                  <a:lnTo>
                    <a:pt x="916" y="1705"/>
                  </a:lnTo>
                  <a:lnTo>
                    <a:pt x="917" y="1705"/>
                  </a:lnTo>
                  <a:lnTo>
                    <a:pt x="918" y="1706"/>
                  </a:lnTo>
                  <a:lnTo>
                    <a:pt x="919" y="1706"/>
                  </a:lnTo>
                  <a:lnTo>
                    <a:pt x="920" y="1708"/>
                  </a:lnTo>
                  <a:lnTo>
                    <a:pt x="921" y="1708"/>
                  </a:lnTo>
                  <a:lnTo>
                    <a:pt x="922" y="1708"/>
                  </a:lnTo>
                  <a:lnTo>
                    <a:pt x="923" y="1708"/>
                  </a:lnTo>
                  <a:lnTo>
                    <a:pt x="925" y="1708"/>
                  </a:lnTo>
                  <a:lnTo>
                    <a:pt x="927" y="1708"/>
                  </a:lnTo>
                  <a:lnTo>
                    <a:pt x="933" y="1706"/>
                  </a:lnTo>
                  <a:lnTo>
                    <a:pt x="939" y="1703"/>
                  </a:lnTo>
                  <a:lnTo>
                    <a:pt x="947" y="1698"/>
                  </a:lnTo>
                  <a:lnTo>
                    <a:pt x="955" y="1693"/>
                  </a:lnTo>
                  <a:lnTo>
                    <a:pt x="964" y="1686"/>
                  </a:lnTo>
                  <a:lnTo>
                    <a:pt x="985" y="1667"/>
                  </a:lnTo>
                  <a:lnTo>
                    <a:pt x="1029" y="1624"/>
                  </a:lnTo>
                  <a:lnTo>
                    <a:pt x="1075" y="1575"/>
                  </a:lnTo>
                  <a:lnTo>
                    <a:pt x="1123" y="1519"/>
                  </a:lnTo>
                  <a:lnTo>
                    <a:pt x="1173" y="1457"/>
                  </a:lnTo>
                  <a:lnTo>
                    <a:pt x="1245" y="1593"/>
                  </a:lnTo>
                  <a:lnTo>
                    <a:pt x="1100" y="1801"/>
                  </a:lnTo>
                  <a:lnTo>
                    <a:pt x="1052" y="1867"/>
                  </a:lnTo>
                  <a:lnTo>
                    <a:pt x="1033" y="1891"/>
                  </a:lnTo>
                  <a:lnTo>
                    <a:pt x="1018" y="1906"/>
                  </a:lnTo>
                  <a:lnTo>
                    <a:pt x="970" y="1955"/>
                  </a:lnTo>
                  <a:lnTo>
                    <a:pt x="924" y="1994"/>
                  </a:lnTo>
                  <a:lnTo>
                    <a:pt x="878" y="2029"/>
                  </a:lnTo>
                  <a:lnTo>
                    <a:pt x="834" y="2056"/>
                  </a:lnTo>
                  <a:lnTo>
                    <a:pt x="804" y="2070"/>
                  </a:lnTo>
                  <a:lnTo>
                    <a:pt x="790" y="2075"/>
                  </a:lnTo>
                  <a:lnTo>
                    <a:pt x="776" y="2080"/>
                  </a:lnTo>
                  <a:lnTo>
                    <a:pt x="761" y="2084"/>
                  </a:lnTo>
                  <a:lnTo>
                    <a:pt x="746" y="2087"/>
                  </a:lnTo>
                  <a:lnTo>
                    <a:pt x="732" y="2089"/>
                  </a:lnTo>
                  <a:lnTo>
                    <a:pt x="718" y="2089"/>
                  </a:lnTo>
                  <a:lnTo>
                    <a:pt x="706" y="2089"/>
                  </a:lnTo>
                  <a:lnTo>
                    <a:pt x="695" y="2087"/>
                  </a:lnTo>
                  <a:lnTo>
                    <a:pt x="685" y="2084"/>
                  </a:lnTo>
                  <a:lnTo>
                    <a:pt x="675" y="2079"/>
                  </a:lnTo>
                  <a:lnTo>
                    <a:pt x="666" y="2074"/>
                  </a:lnTo>
                  <a:lnTo>
                    <a:pt x="658" y="2067"/>
                  </a:lnTo>
                  <a:lnTo>
                    <a:pt x="650" y="2060"/>
                  </a:lnTo>
                  <a:lnTo>
                    <a:pt x="643" y="2051"/>
                  </a:lnTo>
                  <a:lnTo>
                    <a:pt x="640" y="2046"/>
                  </a:lnTo>
                  <a:lnTo>
                    <a:pt x="637" y="2041"/>
                  </a:lnTo>
                  <a:lnTo>
                    <a:pt x="634" y="2036"/>
                  </a:lnTo>
                  <a:lnTo>
                    <a:pt x="631" y="2030"/>
                  </a:lnTo>
                  <a:lnTo>
                    <a:pt x="629" y="2024"/>
                  </a:lnTo>
                  <a:lnTo>
                    <a:pt x="627" y="2017"/>
                  </a:lnTo>
                  <a:lnTo>
                    <a:pt x="625" y="2011"/>
                  </a:lnTo>
                  <a:lnTo>
                    <a:pt x="623" y="2005"/>
                  </a:lnTo>
                  <a:lnTo>
                    <a:pt x="621" y="1998"/>
                  </a:lnTo>
                  <a:lnTo>
                    <a:pt x="620" y="1989"/>
                  </a:lnTo>
                  <a:lnTo>
                    <a:pt x="619" y="1982"/>
                  </a:lnTo>
                  <a:lnTo>
                    <a:pt x="618" y="1974"/>
                  </a:lnTo>
                  <a:lnTo>
                    <a:pt x="616" y="1958"/>
                  </a:lnTo>
                  <a:lnTo>
                    <a:pt x="616" y="1939"/>
                  </a:lnTo>
                  <a:lnTo>
                    <a:pt x="616" y="1929"/>
                  </a:lnTo>
                  <a:lnTo>
                    <a:pt x="617" y="1917"/>
                  </a:lnTo>
                  <a:lnTo>
                    <a:pt x="618" y="1903"/>
                  </a:lnTo>
                  <a:lnTo>
                    <a:pt x="620" y="1889"/>
                  </a:lnTo>
                  <a:lnTo>
                    <a:pt x="622" y="1874"/>
                  </a:lnTo>
                  <a:lnTo>
                    <a:pt x="625" y="1856"/>
                  </a:lnTo>
                  <a:lnTo>
                    <a:pt x="632" y="1820"/>
                  </a:lnTo>
                  <a:lnTo>
                    <a:pt x="686" y="1593"/>
                  </a:lnTo>
                  <a:lnTo>
                    <a:pt x="663" y="1646"/>
                  </a:lnTo>
                  <a:lnTo>
                    <a:pt x="639" y="1700"/>
                  </a:lnTo>
                  <a:lnTo>
                    <a:pt x="610" y="1750"/>
                  </a:lnTo>
                  <a:lnTo>
                    <a:pt x="580" y="1800"/>
                  </a:lnTo>
                  <a:lnTo>
                    <a:pt x="545" y="1846"/>
                  </a:lnTo>
                  <a:lnTo>
                    <a:pt x="509" y="1893"/>
                  </a:lnTo>
                  <a:lnTo>
                    <a:pt x="468" y="1936"/>
                  </a:lnTo>
                  <a:lnTo>
                    <a:pt x="425" y="1979"/>
                  </a:lnTo>
                  <a:lnTo>
                    <a:pt x="397" y="2005"/>
                  </a:lnTo>
                  <a:lnTo>
                    <a:pt x="370" y="2025"/>
                  </a:lnTo>
                  <a:lnTo>
                    <a:pt x="343" y="2044"/>
                  </a:lnTo>
                  <a:lnTo>
                    <a:pt x="317" y="2060"/>
                  </a:lnTo>
                  <a:lnTo>
                    <a:pt x="291" y="2070"/>
                  </a:lnTo>
                  <a:lnTo>
                    <a:pt x="265" y="2079"/>
                  </a:lnTo>
                  <a:lnTo>
                    <a:pt x="241" y="2084"/>
                  </a:lnTo>
                  <a:lnTo>
                    <a:pt x="216" y="2086"/>
                  </a:lnTo>
                  <a:lnTo>
                    <a:pt x="193" y="2084"/>
                  </a:lnTo>
                  <a:lnTo>
                    <a:pt x="170" y="2079"/>
                  </a:lnTo>
                  <a:lnTo>
                    <a:pt x="160" y="2075"/>
                  </a:lnTo>
                  <a:lnTo>
                    <a:pt x="149" y="2072"/>
                  </a:lnTo>
                  <a:lnTo>
                    <a:pt x="139" y="2065"/>
                  </a:lnTo>
                  <a:lnTo>
                    <a:pt x="131" y="2060"/>
                  </a:lnTo>
                  <a:lnTo>
                    <a:pt x="121" y="2053"/>
                  </a:lnTo>
                  <a:lnTo>
                    <a:pt x="113" y="2044"/>
                  </a:lnTo>
                  <a:lnTo>
                    <a:pt x="104" y="2036"/>
                  </a:lnTo>
                  <a:lnTo>
                    <a:pt x="96" y="2027"/>
                  </a:lnTo>
                  <a:lnTo>
                    <a:pt x="88" y="2017"/>
                  </a:lnTo>
                  <a:lnTo>
                    <a:pt x="80" y="2005"/>
                  </a:lnTo>
                  <a:lnTo>
                    <a:pt x="73" y="1993"/>
                  </a:lnTo>
                  <a:lnTo>
                    <a:pt x="67" y="1980"/>
                  </a:lnTo>
                  <a:lnTo>
                    <a:pt x="59" y="1963"/>
                  </a:lnTo>
                  <a:lnTo>
                    <a:pt x="51" y="1946"/>
                  </a:lnTo>
                  <a:lnTo>
                    <a:pt x="44" y="1927"/>
                  </a:lnTo>
                  <a:lnTo>
                    <a:pt x="37" y="1908"/>
                  </a:lnTo>
                  <a:lnTo>
                    <a:pt x="31" y="1889"/>
                  </a:lnTo>
                  <a:lnTo>
                    <a:pt x="25" y="1868"/>
                  </a:lnTo>
                  <a:lnTo>
                    <a:pt x="16" y="1827"/>
                  </a:lnTo>
                  <a:lnTo>
                    <a:pt x="8" y="1781"/>
                  </a:lnTo>
                  <a:lnTo>
                    <a:pt x="3" y="1734"/>
                  </a:lnTo>
                  <a:lnTo>
                    <a:pt x="1" y="1684"/>
                  </a:lnTo>
                  <a:lnTo>
                    <a:pt x="0" y="1631"/>
                  </a:lnTo>
                  <a:lnTo>
                    <a:pt x="1" y="1569"/>
                  </a:lnTo>
                  <a:lnTo>
                    <a:pt x="4" y="1505"/>
                  </a:lnTo>
                  <a:lnTo>
                    <a:pt x="11" y="1439"/>
                  </a:lnTo>
                  <a:lnTo>
                    <a:pt x="20" y="1372"/>
                  </a:lnTo>
                  <a:lnTo>
                    <a:pt x="32" y="1303"/>
                  </a:lnTo>
                  <a:lnTo>
                    <a:pt x="47" y="1234"/>
                  </a:lnTo>
                  <a:lnTo>
                    <a:pt x="64" y="1162"/>
                  </a:lnTo>
                  <a:lnTo>
                    <a:pt x="83" y="1089"/>
                  </a:lnTo>
                  <a:lnTo>
                    <a:pt x="106" y="1015"/>
                  </a:lnTo>
                  <a:lnTo>
                    <a:pt x="130" y="945"/>
                  </a:lnTo>
                  <a:lnTo>
                    <a:pt x="155" y="874"/>
                  </a:lnTo>
                  <a:lnTo>
                    <a:pt x="183" y="807"/>
                  </a:lnTo>
                  <a:lnTo>
                    <a:pt x="212" y="740"/>
                  </a:lnTo>
                  <a:lnTo>
                    <a:pt x="244" y="676"/>
                  </a:lnTo>
                  <a:lnTo>
                    <a:pt x="276" y="612"/>
                  </a:lnTo>
                  <a:lnTo>
                    <a:pt x="311" y="552"/>
                  </a:lnTo>
                  <a:lnTo>
                    <a:pt x="347" y="493"/>
                  </a:lnTo>
                  <a:lnTo>
                    <a:pt x="384" y="440"/>
                  </a:lnTo>
                  <a:lnTo>
                    <a:pt x="420" y="390"/>
                  </a:lnTo>
                  <a:lnTo>
                    <a:pt x="458" y="343"/>
                  </a:lnTo>
                  <a:lnTo>
                    <a:pt x="495" y="300"/>
                  </a:lnTo>
                  <a:lnTo>
                    <a:pt x="533" y="262"/>
                  </a:lnTo>
                  <a:lnTo>
                    <a:pt x="572" y="228"/>
                  </a:lnTo>
                  <a:lnTo>
                    <a:pt x="611" y="197"/>
                  </a:lnTo>
                  <a:lnTo>
                    <a:pt x="643" y="176"/>
                  </a:lnTo>
                  <a:lnTo>
                    <a:pt x="677" y="159"/>
                  </a:lnTo>
                  <a:lnTo>
                    <a:pt x="713" y="143"/>
                  </a:lnTo>
                  <a:lnTo>
                    <a:pt x="751" y="131"/>
                  </a:lnTo>
                  <a:lnTo>
                    <a:pt x="792" y="121"/>
                  </a:lnTo>
                  <a:lnTo>
                    <a:pt x="834" y="114"/>
                  </a:lnTo>
                  <a:lnTo>
                    <a:pt x="879" y="111"/>
                  </a:lnTo>
                  <a:lnTo>
                    <a:pt x="925" y="109"/>
                  </a:lnTo>
                  <a:lnTo>
                    <a:pt x="948" y="109"/>
                  </a:lnTo>
                  <a:lnTo>
                    <a:pt x="969" y="111"/>
                  </a:lnTo>
                  <a:lnTo>
                    <a:pt x="989" y="114"/>
                  </a:lnTo>
                  <a:lnTo>
                    <a:pt x="1007" y="117"/>
                  </a:lnTo>
                  <a:close/>
                  <a:moveTo>
                    <a:pt x="849" y="452"/>
                  </a:moveTo>
                  <a:lnTo>
                    <a:pt x="820" y="445"/>
                  </a:lnTo>
                  <a:lnTo>
                    <a:pt x="793" y="440"/>
                  </a:lnTo>
                  <a:lnTo>
                    <a:pt x="766" y="438"/>
                  </a:lnTo>
                  <a:lnTo>
                    <a:pt x="741" y="436"/>
                  </a:lnTo>
                  <a:lnTo>
                    <a:pt x="711" y="438"/>
                  </a:lnTo>
                  <a:lnTo>
                    <a:pt x="681" y="443"/>
                  </a:lnTo>
                  <a:lnTo>
                    <a:pt x="653" y="450"/>
                  </a:lnTo>
                  <a:lnTo>
                    <a:pt x="626" y="462"/>
                  </a:lnTo>
                  <a:lnTo>
                    <a:pt x="599" y="476"/>
                  </a:lnTo>
                  <a:lnTo>
                    <a:pt x="574" y="495"/>
                  </a:lnTo>
                  <a:lnTo>
                    <a:pt x="550" y="516"/>
                  </a:lnTo>
                  <a:lnTo>
                    <a:pt x="527" y="540"/>
                  </a:lnTo>
                  <a:lnTo>
                    <a:pt x="504" y="569"/>
                  </a:lnTo>
                  <a:lnTo>
                    <a:pt x="481" y="602"/>
                  </a:lnTo>
                  <a:lnTo>
                    <a:pt x="460" y="641"/>
                  </a:lnTo>
                  <a:lnTo>
                    <a:pt x="438" y="684"/>
                  </a:lnTo>
                  <a:lnTo>
                    <a:pt x="416" y="734"/>
                  </a:lnTo>
                  <a:lnTo>
                    <a:pt x="396" y="790"/>
                  </a:lnTo>
                  <a:lnTo>
                    <a:pt x="375" y="852"/>
                  </a:lnTo>
                  <a:lnTo>
                    <a:pt x="354" y="917"/>
                  </a:lnTo>
                  <a:lnTo>
                    <a:pt x="335" y="986"/>
                  </a:lnTo>
                  <a:lnTo>
                    <a:pt x="319" y="1055"/>
                  </a:lnTo>
                  <a:lnTo>
                    <a:pt x="305" y="1122"/>
                  </a:lnTo>
                  <a:lnTo>
                    <a:pt x="293" y="1191"/>
                  </a:lnTo>
                  <a:lnTo>
                    <a:pt x="284" y="1260"/>
                  </a:lnTo>
                  <a:lnTo>
                    <a:pt x="278" y="1329"/>
                  </a:lnTo>
                  <a:lnTo>
                    <a:pt x="274" y="1396"/>
                  </a:lnTo>
                  <a:lnTo>
                    <a:pt x="273" y="1465"/>
                  </a:lnTo>
                  <a:lnTo>
                    <a:pt x="273" y="1498"/>
                  </a:lnTo>
                  <a:lnTo>
                    <a:pt x="275" y="1527"/>
                  </a:lnTo>
                  <a:lnTo>
                    <a:pt x="277" y="1555"/>
                  </a:lnTo>
                  <a:lnTo>
                    <a:pt x="280" y="1581"/>
                  </a:lnTo>
                  <a:lnTo>
                    <a:pt x="283" y="1601"/>
                  </a:lnTo>
                  <a:lnTo>
                    <a:pt x="285" y="1612"/>
                  </a:lnTo>
                  <a:lnTo>
                    <a:pt x="288" y="1622"/>
                  </a:lnTo>
                  <a:lnTo>
                    <a:pt x="290" y="1631"/>
                  </a:lnTo>
                  <a:lnTo>
                    <a:pt x="293" y="1639"/>
                  </a:lnTo>
                  <a:lnTo>
                    <a:pt x="296" y="1646"/>
                  </a:lnTo>
                  <a:lnTo>
                    <a:pt x="299" y="1653"/>
                  </a:lnTo>
                  <a:lnTo>
                    <a:pt x="306" y="1665"/>
                  </a:lnTo>
                  <a:lnTo>
                    <a:pt x="310" y="1670"/>
                  </a:lnTo>
                  <a:lnTo>
                    <a:pt x="313" y="1675"/>
                  </a:lnTo>
                  <a:lnTo>
                    <a:pt x="317" y="1681"/>
                  </a:lnTo>
                  <a:lnTo>
                    <a:pt x="321" y="1684"/>
                  </a:lnTo>
                  <a:lnTo>
                    <a:pt x="325" y="1689"/>
                  </a:lnTo>
                  <a:lnTo>
                    <a:pt x="330" y="1693"/>
                  </a:lnTo>
                  <a:lnTo>
                    <a:pt x="333" y="1694"/>
                  </a:lnTo>
                  <a:lnTo>
                    <a:pt x="338" y="1698"/>
                  </a:lnTo>
                  <a:lnTo>
                    <a:pt x="342" y="1700"/>
                  </a:lnTo>
                  <a:lnTo>
                    <a:pt x="347" y="1701"/>
                  </a:lnTo>
                  <a:lnTo>
                    <a:pt x="357" y="1705"/>
                  </a:lnTo>
                  <a:lnTo>
                    <a:pt x="367" y="1705"/>
                  </a:lnTo>
                  <a:lnTo>
                    <a:pt x="379" y="1705"/>
                  </a:lnTo>
                  <a:lnTo>
                    <a:pt x="391" y="1703"/>
                  </a:lnTo>
                  <a:lnTo>
                    <a:pt x="402" y="1700"/>
                  </a:lnTo>
                  <a:lnTo>
                    <a:pt x="414" y="1694"/>
                  </a:lnTo>
                  <a:lnTo>
                    <a:pt x="438" y="1682"/>
                  </a:lnTo>
                  <a:lnTo>
                    <a:pt x="463" y="1665"/>
                  </a:lnTo>
                  <a:lnTo>
                    <a:pt x="488" y="1643"/>
                  </a:lnTo>
                  <a:lnTo>
                    <a:pt x="515" y="1617"/>
                  </a:lnTo>
                  <a:lnTo>
                    <a:pt x="541" y="1584"/>
                  </a:lnTo>
                  <a:lnTo>
                    <a:pt x="568" y="1548"/>
                  </a:lnTo>
                  <a:lnTo>
                    <a:pt x="594" y="1507"/>
                  </a:lnTo>
                  <a:lnTo>
                    <a:pt x="618" y="1462"/>
                  </a:lnTo>
                  <a:lnTo>
                    <a:pt x="641" y="1412"/>
                  </a:lnTo>
                  <a:lnTo>
                    <a:pt x="661" y="1358"/>
                  </a:lnTo>
                  <a:lnTo>
                    <a:pt x="681" y="1298"/>
                  </a:lnTo>
                  <a:lnTo>
                    <a:pt x="698" y="1236"/>
                  </a:lnTo>
                  <a:lnTo>
                    <a:pt x="714" y="1167"/>
                  </a:lnTo>
                  <a:lnTo>
                    <a:pt x="727" y="1095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3840" y="1068480"/>
              <a:ext cx="479520" cy="731880"/>
            </a:xfrm>
            <a:custGeom>
              <a:avLst/>
              <a:gdLst/>
              <a:ahLst/>
              <a:rect l="l" t="t" r="r" b="b"/>
              <a:pathLst>
                <a:path w="1333" h="2033">
                  <a:moveTo>
                    <a:pt x="1332" y="1522"/>
                  </a:moveTo>
                  <a:lnTo>
                    <a:pt x="1257" y="1641"/>
                  </a:lnTo>
                  <a:lnTo>
                    <a:pt x="1187" y="1744"/>
                  </a:lnTo>
                  <a:lnTo>
                    <a:pt x="1121" y="1832"/>
                  </a:lnTo>
                  <a:lnTo>
                    <a:pt x="1061" y="1904"/>
                  </a:lnTo>
                  <a:lnTo>
                    <a:pt x="1006" y="1959"/>
                  </a:lnTo>
                  <a:lnTo>
                    <a:pt x="980" y="1982"/>
                  </a:lnTo>
                  <a:lnTo>
                    <a:pt x="955" y="1999"/>
                  </a:lnTo>
                  <a:lnTo>
                    <a:pt x="933" y="2015"/>
                  </a:lnTo>
                  <a:lnTo>
                    <a:pt x="910" y="2023"/>
                  </a:lnTo>
                  <a:lnTo>
                    <a:pt x="889" y="2030"/>
                  </a:lnTo>
                  <a:lnTo>
                    <a:pt x="870" y="2032"/>
                  </a:lnTo>
                  <a:lnTo>
                    <a:pt x="857" y="2030"/>
                  </a:lnTo>
                  <a:lnTo>
                    <a:pt x="844" y="2028"/>
                  </a:lnTo>
                  <a:lnTo>
                    <a:pt x="832" y="2023"/>
                  </a:lnTo>
                  <a:lnTo>
                    <a:pt x="820" y="2015"/>
                  </a:lnTo>
                  <a:lnTo>
                    <a:pt x="809" y="2006"/>
                  </a:lnTo>
                  <a:lnTo>
                    <a:pt x="797" y="1994"/>
                  </a:lnTo>
                  <a:lnTo>
                    <a:pt x="786" y="1980"/>
                  </a:lnTo>
                  <a:lnTo>
                    <a:pt x="775" y="1965"/>
                  </a:lnTo>
                  <a:lnTo>
                    <a:pt x="770" y="1956"/>
                  </a:lnTo>
                  <a:lnTo>
                    <a:pt x="764" y="1947"/>
                  </a:lnTo>
                  <a:lnTo>
                    <a:pt x="760" y="1937"/>
                  </a:lnTo>
                  <a:lnTo>
                    <a:pt x="755" y="1928"/>
                  </a:lnTo>
                  <a:lnTo>
                    <a:pt x="751" y="1918"/>
                  </a:lnTo>
                  <a:lnTo>
                    <a:pt x="748" y="1908"/>
                  </a:lnTo>
                  <a:lnTo>
                    <a:pt x="745" y="1896"/>
                  </a:lnTo>
                  <a:lnTo>
                    <a:pt x="742" y="1885"/>
                  </a:lnTo>
                  <a:lnTo>
                    <a:pt x="740" y="1873"/>
                  </a:lnTo>
                  <a:lnTo>
                    <a:pt x="737" y="1861"/>
                  </a:lnTo>
                  <a:lnTo>
                    <a:pt x="735" y="1847"/>
                  </a:lnTo>
                  <a:lnTo>
                    <a:pt x="734" y="1835"/>
                  </a:lnTo>
                  <a:lnTo>
                    <a:pt x="732" y="1808"/>
                  </a:lnTo>
                  <a:lnTo>
                    <a:pt x="731" y="1778"/>
                  </a:lnTo>
                  <a:lnTo>
                    <a:pt x="732" y="1747"/>
                  </a:lnTo>
                  <a:lnTo>
                    <a:pt x="733" y="1715"/>
                  </a:lnTo>
                  <a:lnTo>
                    <a:pt x="736" y="1679"/>
                  </a:lnTo>
                  <a:lnTo>
                    <a:pt x="739" y="1642"/>
                  </a:lnTo>
                  <a:lnTo>
                    <a:pt x="748" y="1561"/>
                  </a:lnTo>
                  <a:lnTo>
                    <a:pt x="761" y="1473"/>
                  </a:lnTo>
                  <a:lnTo>
                    <a:pt x="830" y="1093"/>
                  </a:lnTo>
                  <a:lnTo>
                    <a:pt x="472" y="1093"/>
                  </a:lnTo>
                  <a:lnTo>
                    <a:pt x="336" y="1954"/>
                  </a:lnTo>
                  <a:lnTo>
                    <a:pt x="72" y="1954"/>
                  </a:lnTo>
                  <a:lnTo>
                    <a:pt x="73" y="1932"/>
                  </a:lnTo>
                  <a:lnTo>
                    <a:pt x="75" y="1909"/>
                  </a:lnTo>
                  <a:lnTo>
                    <a:pt x="78" y="1887"/>
                  </a:lnTo>
                  <a:lnTo>
                    <a:pt x="82" y="1865"/>
                  </a:lnTo>
                  <a:lnTo>
                    <a:pt x="85" y="1842"/>
                  </a:lnTo>
                  <a:lnTo>
                    <a:pt x="90" y="1820"/>
                  </a:lnTo>
                  <a:lnTo>
                    <a:pt x="96" y="1797"/>
                  </a:lnTo>
                  <a:lnTo>
                    <a:pt x="102" y="1775"/>
                  </a:lnTo>
                  <a:lnTo>
                    <a:pt x="115" y="1682"/>
                  </a:lnTo>
                  <a:lnTo>
                    <a:pt x="132" y="1565"/>
                  </a:lnTo>
                  <a:lnTo>
                    <a:pt x="180" y="1260"/>
                  </a:lnTo>
                  <a:lnTo>
                    <a:pt x="310" y="469"/>
                  </a:lnTo>
                  <a:lnTo>
                    <a:pt x="315" y="441"/>
                  </a:lnTo>
                  <a:lnTo>
                    <a:pt x="316" y="429"/>
                  </a:lnTo>
                  <a:lnTo>
                    <a:pt x="318" y="419"/>
                  </a:lnTo>
                  <a:lnTo>
                    <a:pt x="319" y="408"/>
                  </a:lnTo>
                  <a:lnTo>
                    <a:pt x="319" y="398"/>
                  </a:lnTo>
                  <a:lnTo>
                    <a:pt x="320" y="389"/>
                  </a:lnTo>
                  <a:lnTo>
                    <a:pt x="320" y="383"/>
                  </a:lnTo>
                  <a:lnTo>
                    <a:pt x="320" y="377"/>
                  </a:lnTo>
                  <a:lnTo>
                    <a:pt x="320" y="374"/>
                  </a:lnTo>
                  <a:lnTo>
                    <a:pt x="319" y="372"/>
                  </a:lnTo>
                  <a:lnTo>
                    <a:pt x="319" y="370"/>
                  </a:lnTo>
                  <a:lnTo>
                    <a:pt x="319" y="369"/>
                  </a:lnTo>
                  <a:lnTo>
                    <a:pt x="319" y="367"/>
                  </a:lnTo>
                  <a:lnTo>
                    <a:pt x="318" y="365"/>
                  </a:lnTo>
                  <a:lnTo>
                    <a:pt x="318" y="365"/>
                  </a:lnTo>
                  <a:lnTo>
                    <a:pt x="317" y="364"/>
                  </a:lnTo>
                  <a:lnTo>
                    <a:pt x="317" y="364"/>
                  </a:lnTo>
                  <a:lnTo>
                    <a:pt x="317" y="364"/>
                  </a:lnTo>
                  <a:lnTo>
                    <a:pt x="317" y="362"/>
                  </a:lnTo>
                  <a:lnTo>
                    <a:pt x="316" y="362"/>
                  </a:lnTo>
                  <a:lnTo>
                    <a:pt x="316" y="362"/>
                  </a:lnTo>
                  <a:lnTo>
                    <a:pt x="316" y="362"/>
                  </a:lnTo>
                  <a:lnTo>
                    <a:pt x="316" y="362"/>
                  </a:lnTo>
                  <a:lnTo>
                    <a:pt x="315" y="362"/>
                  </a:lnTo>
                  <a:lnTo>
                    <a:pt x="315" y="362"/>
                  </a:lnTo>
                  <a:lnTo>
                    <a:pt x="308" y="364"/>
                  </a:lnTo>
                  <a:lnTo>
                    <a:pt x="300" y="365"/>
                  </a:lnTo>
                  <a:lnTo>
                    <a:pt x="291" y="370"/>
                  </a:lnTo>
                  <a:lnTo>
                    <a:pt x="282" y="377"/>
                  </a:lnTo>
                  <a:lnTo>
                    <a:pt x="259" y="395"/>
                  </a:lnTo>
                  <a:lnTo>
                    <a:pt x="232" y="422"/>
                  </a:lnTo>
                  <a:lnTo>
                    <a:pt x="203" y="455"/>
                  </a:lnTo>
                  <a:lnTo>
                    <a:pt x="169" y="496"/>
                  </a:lnTo>
                  <a:lnTo>
                    <a:pt x="92" y="600"/>
                  </a:lnTo>
                  <a:lnTo>
                    <a:pt x="0" y="482"/>
                  </a:lnTo>
                  <a:lnTo>
                    <a:pt x="79" y="369"/>
                  </a:lnTo>
                  <a:lnTo>
                    <a:pt x="152" y="271"/>
                  </a:lnTo>
                  <a:lnTo>
                    <a:pt x="220" y="188"/>
                  </a:lnTo>
                  <a:lnTo>
                    <a:pt x="284" y="121"/>
                  </a:lnTo>
                  <a:lnTo>
                    <a:pt x="344" y="67"/>
                  </a:lnTo>
                  <a:lnTo>
                    <a:pt x="370" y="46"/>
                  </a:lnTo>
                  <a:lnTo>
                    <a:pt x="397" y="29"/>
                  </a:lnTo>
                  <a:lnTo>
                    <a:pt x="421" y="17"/>
                  </a:lnTo>
                  <a:lnTo>
                    <a:pt x="446" y="7"/>
                  </a:lnTo>
                  <a:lnTo>
                    <a:pt x="468" y="2"/>
                  </a:lnTo>
                  <a:lnTo>
                    <a:pt x="489" y="0"/>
                  </a:lnTo>
                  <a:lnTo>
                    <a:pt x="502" y="0"/>
                  </a:lnTo>
                  <a:lnTo>
                    <a:pt x="515" y="3"/>
                  </a:lnTo>
                  <a:lnTo>
                    <a:pt x="526" y="7"/>
                  </a:lnTo>
                  <a:lnTo>
                    <a:pt x="537" y="14"/>
                  </a:lnTo>
                  <a:lnTo>
                    <a:pt x="547" y="21"/>
                  </a:lnTo>
                  <a:lnTo>
                    <a:pt x="555" y="29"/>
                  </a:lnTo>
                  <a:lnTo>
                    <a:pt x="563" y="40"/>
                  </a:lnTo>
                  <a:lnTo>
                    <a:pt x="570" y="52"/>
                  </a:lnTo>
                  <a:lnTo>
                    <a:pt x="577" y="65"/>
                  </a:lnTo>
                  <a:lnTo>
                    <a:pt x="582" y="81"/>
                  </a:lnTo>
                  <a:lnTo>
                    <a:pt x="587" y="98"/>
                  </a:lnTo>
                  <a:lnTo>
                    <a:pt x="591" y="117"/>
                  </a:lnTo>
                  <a:lnTo>
                    <a:pt x="594" y="136"/>
                  </a:lnTo>
                  <a:lnTo>
                    <a:pt x="596" y="158"/>
                  </a:lnTo>
                  <a:lnTo>
                    <a:pt x="598" y="181"/>
                  </a:lnTo>
                  <a:lnTo>
                    <a:pt x="598" y="207"/>
                  </a:lnTo>
                  <a:lnTo>
                    <a:pt x="598" y="229"/>
                  </a:lnTo>
                  <a:lnTo>
                    <a:pt x="596" y="253"/>
                  </a:lnTo>
                  <a:lnTo>
                    <a:pt x="592" y="308"/>
                  </a:lnTo>
                  <a:lnTo>
                    <a:pt x="584" y="376"/>
                  </a:lnTo>
                  <a:lnTo>
                    <a:pt x="573" y="453"/>
                  </a:lnTo>
                  <a:lnTo>
                    <a:pt x="544" y="638"/>
                  </a:lnTo>
                  <a:lnTo>
                    <a:pt x="501" y="865"/>
                  </a:lnTo>
                  <a:lnTo>
                    <a:pt x="861" y="865"/>
                  </a:lnTo>
                  <a:lnTo>
                    <a:pt x="1004" y="55"/>
                  </a:lnTo>
                  <a:lnTo>
                    <a:pt x="1258" y="55"/>
                  </a:lnTo>
                  <a:lnTo>
                    <a:pt x="1110" y="920"/>
                  </a:lnTo>
                  <a:lnTo>
                    <a:pt x="1026" y="1418"/>
                  </a:lnTo>
                  <a:lnTo>
                    <a:pt x="1006" y="1565"/>
                  </a:lnTo>
                  <a:lnTo>
                    <a:pt x="1001" y="1611"/>
                  </a:lnTo>
                  <a:lnTo>
                    <a:pt x="999" y="1629"/>
                  </a:lnTo>
                  <a:lnTo>
                    <a:pt x="999" y="1642"/>
                  </a:lnTo>
                  <a:lnTo>
                    <a:pt x="999" y="1651"/>
                  </a:lnTo>
                  <a:lnTo>
                    <a:pt x="1000" y="1656"/>
                  </a:lnTo>
                  <a:lnTo>
                    <a:pt x="1000" y="1660"/>
                  </a:lnTo>
                  <a:lnTo>
                    <a:pt x="1000" y="1663"/>
                  </a:lnTo>
                  <a:lnTo>
                    <a:pt x="1001" y="1666"/>
                  </a:lnTo>
                  <a:lnTo>
                    <a:pt x="1002" y="1670"/>
                  </a:lnTo>
                  <a:lnTo>
                    <a:pt x="1003" y="1672"/>
                  </a:lnTo>
                  <a:lnTo>
                    <a:pt x="1004" y="1673"/>
                  </a:lnTo>
                  <a:lnTo>
                    <a:pt x="1005" y="1677"/>
                  </a:lnTo>
                  <a:lnTo>
                    <a:pt x="1006" y="1679"/>
                  </a:lnTo>
                  <a:lnTo>
                    <a:pt x="1008" y="1680"/>
                  </a:lnTo>
                  <a:lnTo>
                    <a:pt x="1009" y="1680"/>
                  </a:lnTo>
                  <a:lnTo>
                    <a:pt x="1010" y="1682"/>
                  </a:lnTo>
                  <a:lnTo>
                    <a:pt x="1012" y="1682"/>
                  </a:lnTo>
                  <a:lnTo>
                    <a:pt x="1014" y="1682"/>
                  </a:lnTo>
                  <a:lnTo>
                    <a:pt x="1017" y="1682"/>
                  </a:lnTo>
                  <a:lnTo>
                    <a:pt x="1020" y="1680"/>
                  </a:lnTo>
                  <a:lnTo>
                    <a:pt x="1027" y="1677"/>
                  </a:lnTo>
                  <a:lnTo>
                    <a:pt x="1036" y="1672"/>
                  </a:lnTo>
                  <a:lnTo>
                    <a:pt x="1046" y="1665"/>
                  </a:lnTo>
                  <a:lnTo>
                    <a:pt x="1069" y="1641"/>
                  </a:lnTo>
                  <a:lnTo>
                    <a:pt x="1096" y="1610"/>
                  </a:lnTo>
                  <a:lnTo>
                    <a:pt x="1167" y="1520"/>
                  </a:lnTo>
                  <a:lnTo>
                    <a:pt x="1257" y="1392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24560" y="1068480"/>
              <a:ext cx="479520" cy="731880"/>
            </a:xfrm>
            <a:custGeom>
              <a:avLst/>
              <a:gdLst/>
              <a:ahLst/>
              <a:rect l="l" t="t" r="r" b="b"/>
              <a:pathLst>
                <a:path w="1331" h="2033">
                  <a:moveTo>
                    <a:pt x="1003" y="55"/>
                  </a:moveTo>
                  <a:lnTo>
                    <a:pt x="1258" y="55"/>
                  </a:lnTo>
                  <a:lnTo>
                    <a:pt x="1110" y="922"/>
                  </a:lnTo>
                  <a:lnTo>
                    <a:pt x="1026" y="1420"/>
                  </a:lnTo>
                  <a:lnTo>
                    <a:pt x="1006" y="1567"/>
                  </a:lnTo>
                  <a:lnTo>
                    <a:pt x="1001" y="1615"/>
                  </a:lnTo>
                  <a:lnTo>
                    <a:pt x="999" y="1632"/>
                  </a:lnTo>
                  <a:lnTo>
                    <a:pt x="999" y="1644"/>
                  </a:lnTo>
                  <a:lnTo>
                    <a:pt x="999" y="1649"/>
                  </a:lnTo>
                  <a:lnTo>
                    <a:pt x="999" y="1654"/>
                  </a:lnTo>
                  <a:lnTo>
                    <a:pt x="1000" y="1660"/>
                  </a:lnTo>
                  <a:lnTo>
                    <a:pt x="1000" y="1663"/>
                  </a:lnTo>
                  <a:lnTo>
                    <a:pt x="1001" y="1668"/>
                  </a:lnTo>
                  <a:lnTo>
                    <a:pt x="1002" y="1672"/>
                  </a:lnTo>
                  <a:lnTo>
                    <a:pt x="1003" y="1673"/>
                  </a:lnTo>
                  <a:lnTo>
                    <a:pt x="1004" y="1677"/>
                  </a:lnTo>
                  <a:lnTo>
                    <a:pt x="1007" y="1680"/>
                  </a:lnTo>
                  <a:lnTo>
                    <a:pt x="1008" y="1682"/>
                  </a:lnTo>
                  <a:lnTo>
                    <a:pt x="1010" y="1684"/>
                  </a:lnTo>
                  <a:lnTo>
                    <a:pt x="1011" y="1684"/>
                  </a:lnTo>
                  <a:lnTo>
                    <a:pt x="1011" y="1684"/>
                  </a:lnTo>
                  <a:lnTo>
                    <a:pt x="1012" y="1685"/>
                  </a:lnTo>
                  <a:lnTo>
                    <a:pt x="1012" y="1685"/>
                  </a:lnTo>
                  <a:lnTo>
                    <a:pt x="1013" y="1685"/>
                  </a:lnTo>
                  <a:lnTo>
                    <a:pt x="1013" y="1685"/>
                  </a:lnTo>
                  <a:lnTo>
                    <a:pt x="1014" y="1685"/>
                  </a:lnTo>
                  <a:lnTo>
                    <a:pt x="1019" y="1685"/>
                  </a:lnTo>
                  <a:lnTo>
                    <a:pt x="1023" y="1684"/>
                  </a:lnTo>
                  <a:lnTo>
                    <a:pt x="1028" y="1682"/>
                  </a:lnTo>
                  <a:lnTo>
                    <a:pt x="1034" y="1679"/>
                  </a:lnTo>
                  <a:lnTo>
                    <a:pt x="1039" y="1675"/>
                  </a:lnTo>
                  <a:lnTo>
                    <a:pt x="1045" y="1672"/>
                  </a:lnTo>
                  <a:lnTo>
                    <a:pt x="1051" y="1666"/>
                  </a:lnTo>
                  <a:lnTo>
                    <a:pt x="1057" y="1661"/>
                  </a:lnTo>
                  <a:lnTo>
                    <a:pt x="1071" y="1646"/>
                  </a:lnTo>
                  <a:lnTo>
                    <a:pt x="1087" y="1625"/>
                  </a:lnTo>
                  <a:lnTo>
                    <a:pt x="1130" y="1570"/>
                  </a:lnTo>
                  <a:lnTo>
                    <a:pt x="1256" y="1396"/>
                  </a:lnTo>
                  <a:lnTo>
                    <a:pt x="1330" y="1523"/>
                  </a:lnTo>
                  <a:lnTo>
                    <a:pt x="1255" y="1642"/>
                  </a:lnTo>
                  <a:lnTo>
                    <a:pt x="1185" y="1746"/>
                  </a:lnTo>
                  <a:lnTo>
                    <a:pt x="1120" y="1832"/>
                  </a:lnTo>
                  <a:lnTo>
                    <a:pt x="1060" y="1904"/>
                  </a:lnTo>
                  <a:lnTo>
                    <a:pt x="1005" y="1959"/>
                  </a:lnTo>
                  <a:lnTo>
                    <a:pt x="980" y="1982"/>
                  </a:lnTo>
                  <a:lnTo>
                    <a:pt x="955" y="1999"/>
                  </a:lnTo>
                  <a:lnTo>
                    <a:pt x="933" y="2015"/>
                  </a:lnTo>
                  <a:lnTo>
                    <a:pt x="910" y="2023"/>
                  </a:lnTo>
                  <a:lnTo>
                    <a:pt x="890" y="2030"/>
                  </a:lnTo>
                  <a:lnTo>
                    <a:pt x="871" y="2032"/>
                  </a:lnTo>
                  <a:lnTo>
                    <a:pt x="857" y="2030"/>
                  </a:lnTo>
                  <a:lnTo>
                    <a:pt x="843" y="2028"/>
                  </a:lnTo>
                  <a:lnTo>
                    <a:pt x="830" y="2023"/>
                  </a:lnTo>
                  <a:lnTo>
                    <a:pt x="817" y="2015"/>
                  </a:lnTo>
                  <a:lnTo>
                    <a:pt x="812" y="2011"/>
                  </a:lnTo>
                  <a:lnTo>
                    <a:pt x="806" y="2006"/>
                  </a:lnTo>
                  <a:lnTo>
                    <a:pt x="794" y="1994"/>
                  </a:lnTo>
                  <a:lnTo>
                    <a:pt x="783" y="1980"/>
                  </a:lnTo>
                  <a:lnTo>
                    <a:pt x="773" y="1965"/>
                  </a:lnTo>
                  <a:lnTo>
                    <a:pt x="768" y="1956"/>
                  </a:lnTo>
                  <a:lnTo>
                    <a:pt x="763" y="1947"/>
                  </a:lnTo>
                  <a:lnTo>
                    <a:pt x="759" y="1937"/>
                  </a:lnTo>
                  <a:lnTo>
                    <a:pt x="755" y="1928"/>
                  </a:lnTo>
                  <a:lnTo>
                    <a:pt x="751" y="1918"/>
                  </a:lnTo>
                  <a:lnTo>
                    <a:pt x="748" y="1906"/>
                  </a:lnTo>
                  <a:lnTo>
                    <a:pt x="746" y="1896"/>
                  </a:lnTo>
                  <a:lnTo>
                    <a:pt x="743" y="1884"/>
                  </a:lnTo>
                  <a:lnTo>
                    <a:pt x="741" y="1872"/>
                  </a:lnTo>
                  <a:lnTo>
                    <a:pt x="739" y="1859"/>
                  </a:lnTo>
                  <a:lnTo>
                    <a:pt x="735" y="1834"/>
                  </a:lnTo>
                  <a:lnTo>
                    <a:pt x="734" y="1806"/>
                  </a:lnTo>
                  <a:lnTo>
                    <a:pt x="733" y="1777"/>
                  </a:lnTo>
                  <a:lnTo>
                    <a:pt x="733" y="1746"/>
                  </a:lnTo>
                  <a:lnTo>
                    <a:pt x="735" y="1715"/>
                  </a:lnTo>
                  <a:lnTo>
                    <a:pt x="737" y="1682"/>
                  </a:lnTo>
                  <a:lnTo>
                    <a:pt x="741" y="1651"/>
                  </a:lnTo>
                  <a:lnTo>
                    <a:pt x="745" y="1616"/>
                  </a:lnTo>
                  <a:lnTo>
                    <a:pt x="750" y="1584"/>
                  </a:lnTo>
                  <a:lnTo>
                    <a:pt x="756" y="1549"/>
                  </a:lnTo>
                  <a:lnTo>
                    <a:pt x="764" y="1515"/>
                  </a:lnTo>
                  <a:lnTo>
                    <a:pt x="741" y="1568"/>
                  </a:lnTo>
                  <a:lnTo>
                    <a:pt x="714" y="1622"/>
                  </a:lnTo>
                  <a:lnTo>
                    <a:pt x="683" y="1672"/>
                  </a:lnTo>
                  <a:lnTo>
                    <a:pt x="650" y="1722"/>
                  </a:lnTo>
                  <a:lnTo>
                    <a:pt x="613" y="1770"/>
                  </a:lnTo>
                  <a:lnTo>
                    <a:pt x="572" y="1818"/>
                  </a:lnTo>
                  <a:lnTo>
                    <a:pt x="529" y="1863"/>
                  </a:lnTo>
                  <a:lnTo>
                    <a:pt x="482" y="1908"/>
                  </a:lnTo>
                  <a:lnTo>
                    <a:pt x="449" y="1935"/>
                  </a:lnTo>
                  <a:lnTo>
                    <a:pt x="418" y="1959"/>
                  </a:lnTo>
                  <a:lnTo>
                    <a:pt x="387" y="1978"/>
                  </a:lnTo>
                  <a:lnTo>
                    <a:pt x="357" y="1996"/>
                  </a:lnTo>
                  <a:lnTo>
                    <a:pt x="329" y="2008"/>
                  </a:lnTo>
                  <a:lnTo>
                    <a:pt x="300" y="2018"/>
                  </a:lnTo>
                  <a:lnTo>
                    <a:pt x="274" y="2023"/>
                  </a:lnTo>
                  <a:lnTo>
                    <a:pt x="248" y="2025"/>
                  </a:lnTo>
                  <a:lnTo>
                    <a:pt x="233" y="2023"/>
                  </a:lnTo>
                  <a:lnTo>
                    <a:pt x="219" y="2021"/>
                  </a:lnTo>
                  <a:lnTo>
                    <a:pt x="205" y="2016"/>
                  </a:lnTo>
                  <a:lnTo>
                    <a:pt x="192" y="2009"/>
                  </a:lnTo>
                  <a:lnTo>
                    <a:pt x="186" y="2004"/>
                  </a:lnTo>
                  <a:lnTo>
                    <a:pt x="180" y="1999"/>
                  </a:lnTo>
                  <a:lnTo>
                    <a:pt x="174" y="1994"/>
                  </a:lnTo>
                  <a:lnTo>
                    <a:pt x="169" y="1989"/>
                  </a:lnTo>
                  <a:lnTo>
                    <a:pt x="164" y="1982"/>
                  </a:lnTo>
                  <a:lnTo>
                    <a:pt x="158" y="1975"/>
                  </a:lnTo>
                  <a:lnTo>
                    <a:pt x="154" y="1968"/>
                  </a:lnTo>
                  <a:lnTo>
                    <a:pt x="150" y="1961"/>
                  </a:lnTo>
                  <a:lnTo>
                    <a:pt x="145" y="1953"/>
                  </a:lnTo>
                  <a:lnTo>
                    <a:pt x="141" y="1944"/>
                  </a:lnTo>
                  <a:lnTo>
                    <a:pt x="137" y="1935"/>
                  </a:lnTo>
                  <a:lnTo>
                    <a:pt x="134" y="1925"/>
                  </a:lnTo>
                  <a:lnTo>
                    <a:pt x="130" y="1915"/>
                  </a:lnTo>
                  <a:lnTo>
                    <a:pt x="127" y="1903"/>
                  </a:lnTo>
                  <a:lnTo>
                    <a:pt x="125" y="1892"/>
                  </a:lnTo>
                  <a:lnTo>
                    <a:pt x="122" y="1880"/>
                  </a:lnTo>
                  <a:lnTo>
                    <a:pt x="118" y="1854"/>
                  </a:lnTo>
                  <a:lnTo>
                    <a:pt x="115" y="1827"/>
                  </a:lnTo>
                  <a:lnTo>
                    <a:pt x="114" y="1797"/>
                  </a:lnTo>
                  <a:lnTo>
                    <a:pt x="113" y="1766"/>
                  </a:lnTo>
                  <a:lnTo>
                    <a:pt x="114" y="1720"/>
                  </a:lnTo>
                  <a:lnTo>
                    <a:pt x="116" y="1672"/>
                  </a:lnTo>
                  <a:lnTo>
                    <a:pt x="121" y="1622"/>
                  </a:lnTo>
                  <a:lnTo>
                    <a:pt x="124" y="1596"/>
                  </a:lnTo>
                  <a:lnTo>
                    <a:pt x="127" y="1570"/>
                  </a:lnTo>
                  <a:lnTo>
                    <a:pt x="140" y="1484"/>
                  </a:lnTo>
                  <a:lnTo>
                    <a:pt x="160" y="1360"/>
                  </a:lnTo>
                  <a:lnTo>
                    <a:pt x="224" y="1005"/>
                  </a:lnTo>
                  <a:lnTo>
                    <a:pt x="267" y="769"/>
                  </a:lnTo>
                  <a:lnTo>
                    <a:pt x="296" y="584"/>
                  </a:lnTo>
                  <a:lnTo>
                    <a:pt x="315" y="455"/>
                  </a:lnTo>
                  <a:lnTo>
                    <a:pt x="319" y="408"/>
                  </a:lnTo>
                  <a:lnTo>
                    <a:pt x="321" y="391"/>
                  </a:lnTo>
                  <a:lnTo>
                    <a:pt x="321" y="377"/>
                  </a:lnTo>
                  <a:lnTo>
                    <a:pt x="321" y="374"/>
                  </a:lnTo>
                  <a:lnTo>
                    <a:pt x="321" y="370"/>
                  </a:lnTo>
                  <a:lnTo>
                    <a:pt x="321" y="369"/>
                  </a:lnTo>
                  <a:lnTo>
                    <a:pt x="320" y="367"/>
                  </a:lnTo>
                  <a:lnTo>
                    <a:pt x="320" y="365"/>
                  </a:lnTo>
                  <a:lnTo>
                    <a:pt x="320" y="365"/>
                  </a:lnTo>
                  <a:lnTo>
                    <a:pt x="320" y="364"/>
                  </a:lnTo>
                  <a:lnTo>
                    <a:pt x="320" y="364"/>
                  </a:lnTo>
                  <a:lnTo>
                    <a:pt x="319" y="364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9" y="362"/>
                  </a:lnTo>
                  <a:lnTo>
                    <a:pt x="318" y="362"/>
                  </a:lnTo>
                  <a:lnTo>
                    <a:pt x="318" y="362"/>
                  </a:lnTo>
                  <a:lnTo>
                    <a:pt x="318" y="362"/>
                  </a:lnTo>
                  <a:lnTo>
                    <a:pt x="315" y="362"/>
                  </a:lnTo>
                  <a:lnTo>
                    <a:pt x="312" y="362"/>
                  </a:lnTo>
                  <a:lnTo>
                    <a:pt x="306" y="364"/>
                  </a:lnTo>
                  <a:lnTo>
                    <a:pt x="300" y="367"/>
                  </a:lnTo>
                  <a:lnTo>
                    <a:pt x="292" y="370"/>
                  </a:lnTo>
                  <a:lnTo>
                    <a:pt x="285" y="376"/>
                  </a:lnTo>
                  <a:lnTo>
                    <a:pt x="277" y="383"/>
                  </a:lnTo>
                  <a:lnTo>
                    <a:pt x="257" y="398"/>
                  </a:lnTo>
                  <a:lnTo>
                    <a:pt x="245" y="408"/>
                  </a:lnTo>
                  <a:lnTo>
                    <a:pt x="231" y="424"/>
                  </a:lnTo>
                  <a:lnTo>
                    <a:pt x="196" y="467"/>
                  </a:lnTo>
                  <a:lnTo>
                    <a:pt x="92" y="600"/>
                  </a:lnTo>
                  <a:lnTo>
                    <a:pt x="0" y="479"/>
                  </a:lnTo>
                  <a:lnTo>
                    <a:pt x="98" y="339"/>
                  </a:lnTo>
                  <a:lnTo>
                    <a:pt x="183" y="227"/>
                  </a:lnTo>
                  <a:lnTo>
                    <a:pt x="221" y="181"/>
                  </a:lnTo>
                  <a:lnTo>
                    <a:pt x="256" y="143"/>
                  </a:lnTo>
                  <a:lnTo>
                    <a:pt x="287" y="110"/>
                  </a:lnTo>
                  <a:lnTo>
                    <a:pt x="316" y="86"/>
                  </a:lnTo>
                  <a:lnTo>
                    <a:pt x="342" y="65"/>
                  </a:lnTo>
                  <a:lnTo>
                    <a:pt x="367" y="48"/>
                  </a:lnTo>
                  <a:lnTo>
                    <a:pt x="391" y="33"/>
                  </a:lnTo>
                  <a:lnTo>
                    <a:pt x="414" y="21"/>
                  </a:lnTo>
                  <a:lnTo>
                    <a:pt x="434" y="12"/>
                  </a:lnTo>
                  <a:lnTo>
                    <a:pt x="455" y="5"/>
                  </a:lnTo>
                  <a:lnTo>
                    <a:pt x="474" y="2"/>
                  </a:lnTo>
                  <a:lnTo>
                    <a:pt x="491" y="0"/>
                  </a:lnTo>
                  <a:lnTo>
                    <a:pt x="503" y="0"/>
                  </a:lnTo>
                  <a:lnTo>
                    <a:pt x="514" y="3"/>
                  </a:lnTo>
                  <a:lnTo>
                    <a:pt x="524" y="7"/>
                  </a:lnTo>
                  <a:lnTo>
                    <a:pt x="529" y="10"/>
                  </a:lnTo>
                  <a:lnTo>
                    <a:pt x="534" y="14"/>
                  </a:lnTo>
                  <a:lnTo>
                    <a:pt x="539" y="15"/>
                  </a:lnTo>
                  <a:lnTo>
                    <a:pt x="544" y="21"/>
                  </a:lnTo>
                  <a:lnTo>
                    <a:pt x="548" y="24"/>
                  </a:lnTo>
                  <a:lnTo>
                    <a:pt x="551" y="29"/>
                  </a:lnTo>
                  <a:lnTo>
                    <a:pt x="560" y="40"/>
                  </a:lnTo>
                  <a:lnTo>
                    <a:pt x="568" y="52"/>
                  </a:lnTo>
                  <a:lnTo>
                    <a:pt x="572" y="59"/>
                  </a:lnTo>
                  <a:lnTo>
                    <a:pt x="575" y="65"/>
                  </a:lnTo>
                  <a:lnTo>
                    <a:pt x="578" y="74"/>
                  </a:lnTo>
                  <a:lnTo>
                    <a:pt x="581" y="81"/>
                  </a:lnTo>
                  <a:lnTo>
                    <a:pt x="584" y="90"/>
                  </a:lnTo>
                  <a:lnTo>
                    <a:pt x="586" y="98"/>
                  </a:lnTo>
                  <a:lnTo>
                    <a:pt x="589" y="107"/>
                  </a:lnTo>
                  <a:lnTo>
                    <a:pt x="591" y="117"/>
                  </a:lnTo>
                  <a:lnTo>
                    <a:pt x="594" y="136"/>
                  </a:lnTo>
                  <a:lnTo>
                    <a:pt x="596" y="158"/>
                  </a:lnTo>
                  <a:lnTo>
                    <a:pt x="598" y="181"/>
                  </a:lnTo>
                  <a:lnTo>
                    <a:pt x="598" y="205"/>
                  </a:lnTo>
                  <a:lnTo>
                    <a:pt x="598" y="226"/>
                  </a:lnTo>
                  <a:lnTo>
                    <a:pt x="596" y="252"/>
                  </a:lnTo>
                  <a:lnTo>
                    <a:pt x="591" y="312"/>
                  </a:lnTo>
                  <a:lnTo>
                    <a:pt x="583" y="386"/>
                  </a:lnTo>
                  <a:lnTo>
                    <a:pt x="571" y="476"/>
                  </a:lnTo>
                  <a:lnTo>
                    <a:pt x="538" y="694"/>
                  </a:lnTo>
                  <a:lnTo>
                    <a:pt x="491" y="970"/>
                  </a:lnTo>
                  <a:lnTo>
                    <a:pt x="421" y="1387"/>
                  </a:lnTo>
                  <a:lnTo>
                    <a:pt x="405" y="1508"/>
                  </a:lnTo>
                  <a:lnTo>
                    <a:pt x="400" y="1548"/>
                  </a:lnTo>
                  <a:lnTo>
                    <a:pt x="399" y="1561"/>
                  </a:lnTo>
                  <a:lnTo>
                    <a:pt x="399" y="1572"/>
                  </a:lnTo>
                  <a:lnTo>
                    <a:pt x="399" y="1579"/>
                  </a:lnTo>
                  <a:lnTo>
                    <a:pt x="399" y="1582"/>
                  </a:lnTo>
                  <a:lnTo>
                    <a:pt x="400" y="1585"/>
                  </a:lnTo>
                  <a:lnTo>
                    <a:pt x="400" y="1589"/>
                  </a:lnTo>
                  <a:lnTo>
                    <a:pt x="401" y="1592"/>
                  </a:lnTo>
                  <a:lnTo>
                    <a:pt x="401" y="1594"/>
                  </a:lnTo>
                  <a:lnTo>
                    <a:pt x="402" y="1598"/>
                  </a:lnTo>
                  <a:lnTo>
                    <a:pt x="403" y="1601"/>
                  </a:lnTo>
                  <a:lnTo>
                    <a:pt x="404" y="1604"/>
                  </a:lnTo>
                  <a:lnTo>
                    <a:pt x="406" y="1610"/>
                  </a:lnTo>
                  <a:lnTo>
                    <a:pt x="408" y="1615"/>
                  </a:lnTo>
                  <a:lnTo>
                    <a:pt x="411" y="1620"/>
                  </a:lnTo>
                  <a:lnTo>
                    <a:pt x="414" y="1625"/>
                  </a:lnTo>
                  <a:lnTo>
                    <a:pt x="417" y="1629"/>
                  </a:lnTo>
                  <a:lnTo>
                    <a:pt x="419" y="1632"/>
                  </a:lnTo>
                  <a:lnTo>
                    <a:pt x="421" y="1634"/>
                  </a:lnTo>
                  <a:lnTo>
                    <a:pt x="422" y="1635"/>
                  </a:lnTo>
                  <a:lnTo>
                    <a:pt x="424" y="1635"/>
                  </a:lnTo>
                  <a:lnTo>
                    <a:pt x="425" y="1637"/>
                  </a:lnTo>
                  <a:lnTo>
                    <a:pt x="427" y="1637"/>
                  </a:lnTo>
                  <a:lnTo>
                    <a:pt x="428" y="1637"/>
                  </a:lnTo>
                  <a:lnTo>
                    <a:pt x="430" y="1639"/>
                  </a:lnTo>
                  <a:lnTo>
                    <a:pt x="431" y="1639"/>
                  </a:lnTo>
                  <a:lnTo>
                    <a:pt x="434" y="1639"/>
                  </a:lnTo>
                  <a:lnTo>
                    <a:pt x="443" y="1639"/>
                  </a:lnTo>
                  <a:lnTo>
                    <a:pt x="454" y="1635"/>
                  </a:lnTo>
                  <a:lnTo>
                    <a:pt x="464" y="1632"/>
                  </a:lnTo>
                  <a:lnTo>
                    <a:pt x="475" y="1627"/>
                  </a:lnTo>
                  <a:lnTo>
                    <a:pt x="498" y="1611"/>
                  </a:lnTo>
                  <a:lnTo>
                    <a:pt x="525" y="1591"/>
                  </a:lnTo>
                  <a:lnTo>
                    <a:pt x="552" y="1563"/>
                  </a:lnTo>
                  <a:lnTo>
                    <a:pt x="583" y="1530"/>
                  </a:lnTo>
                  <a:lnTo>
                    <a:pt x="616" y="1491"/>
                  </a:lnTo>
                  <a:lnTo>
                    <a:pt x="650" y="1444"/>
                  </a:lnTo>
                  <a:lnTo>
                    <a:pt x="684" y="1394"/>
                  </a:lnTo>
                  <a:lnTo>
                    <a:pt x="716" y="1341"/>
                  </a:lnTo>
                  <a:lnTo>
                    <a:pt x="745" y="1286"/>
                  </a:lnTo>
                  <a:lnTo>
                    <a:pt x="770" y="1227"/>
                  </a:lnTo>
                  <a:lnTo>
                    <a:pt x="793" y="1167"/>
                  </a:lnTo>
                  <a:lnTo>
                    <a:pt x="814" y="1103"/>
                  </a:lnTo>
                  <a:lnTo>
                    <a:pt x="830" y="1036"/>
                  </a:lnTo>
                  <a:lnTo>
                    <a:pt x="844" y="967"/>
                  </a:lnTo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43960" y="1084320"/>
              <a:ext cx="519120" cy="714240"/>
            </a:xfrm>
            <a:custGeom>
              <a:avLst/>
              <a:gdLst/>
              <a:ahLst/>
              <a:rect l="l" t="t" r="r" b="b"/>
              <a:pathLst>
                <a:path w="1443" h="1985">
                  <a:moveTo>
                    <a:pt x="117" y="1372"/>
                  </a:moveTo>
                  <a:lnTo>
                    <a:pt x="153" y="1551"/>
                  </a:lnTo>
                  <a:lnTo>
                    <a:pt x="166" y="1605"/>
                  </a:lnTo>
                  <a:lnTo>
                    <a:pt x="170" y="1622"/>
                  </a:lnTo>
                  <a:lnTo>
                    <a:pt x="172" y="1627"/>
                  </a:lnTo>
                  <a:lnTo>
                    <a:pt x="174" y="1632"/>
                  </a:lnTo>
                  <a:lnTo>
                    <a:pt x="176" y="1636"/>
                  </a:lnTo>
                  <a:lnTo>
                    <a:pt x="177" y="1639"/>
                  </a:lnTo>
                  <a:lnTo>
                    <a:pt x="178" y="1643"/>
                  </a:lnTo>
                  <a:lnTo>
                    <a:pt x="180" y="1644"/>
                  </a:lnTo>
                  <a:lnTo>
                    <a:pt x="182" y="1648"/>
                  </a:lnTo>
                  <a:lnTo>
                    <a:pt x="184" y="1649"/>
                  </a:lnTo>
                  <a:lnTo>
                    <a:pt x="186" y="1651"/>
                  </a:lnTo>
                  <a:lnTo>
                    <a:pt x="188" y="1655"/>
                  </a:lnTo>
                  <a:lnTo>
                    <a:pt x="190" y="1656"/>
                  </a:lnTo>
                  <a:lnTo>
                    <a:pt x="192" y="1658"/>
                  </a:lnTo>
                  <a:lnTo>
                    <a:pt x="195" y="1658"/>
                  </a:lnTo>
                  <a:lnTo>
                    <a:pt x="197" y="1660"/>
                  </a:lnTo>
                  <a:lnTo>
                    <a:pt x="200" y="1660"/>
                  </a:lnTo>
                  <a:lnTo>
                    <a:pt x="203" y="1662"/>
                  </a:lnTo>
                  <a:lnTo>
                    <a:pt x="205" y="1662"/>
                  </a:lnTo>
                  <a:lnTo>
                    <a:pt x="208" y="1662"/>
                  </a:lnTo>
                  <a:lnTo>
                    <a:pt x="215" y="1662"/>
                  </a:lnTo>
                  <a:lnTo>
                    <a:pt x="222" y="1658"/>
                  </a:lnTo>
                  <a:lnTo>
                    <a:pt x="230" y="1655"/>
                  </a:lnTo>
                  <a:lnTo>
                    <a:pt x="238" y="1648"/>
                  </a:lnTo>
                  <a:lnTo>
                    <a:pt x="245" y="1641"/>
                  </a:lnTo>
                  <a:lnTo>
                    <a:pt x="253" y="1632"/>
                  </a:lnTo>
                  <a:lnTo>
                    <a:pt x="261" y="1622"/>
                  </a:lnTo>
                  <a:lnTo>
                    <a:pt x="270" y="1610"/>
                  </a:lnTo>
                  <a:lnTo>
                    <a:pt x="288" y="1581"/>
                  </a:lnTo>
                  <a:lnTo>
                    <a:pt x="307" y="1544"/>
                  </a:lnTo>
                  <a:lnTo>
                    <a:pt x="325" y="1501"/>
                  </a:lnTo>
                  <a:lnTo>
                    <a:pt x="346" y="1453"/>
                  </a:lnTo>
                  <a:lnTo>
                    <a:pt x="392" y="1343"/>
                  </a:lnTo>
                  <a:lnTo>
                    <a:pt x="414" y="1294"/>
                  </a:lnTo>
                  <a:lnTo>
                    <a:pt x="435" y="1251"/>
                  </a:lnTo>
                  <a:lnTo>
                    <a:pt x="455" y="1213"/>
                  </a:lnTo>
                  <a:lnTo>
                    <a:pt x="475" y="1179"/>
                  </a:lnTo>
                  <a:lnTo>
                    <a:pt x="494" y="1151"/>
                  </a:lnTo>
                  <a:lnTo>
                    <a:pt x="512" y="1127"/>
                  </a:lnTo>
                  <a:lnTo>
                    <a:pt x="531" y="1107"/>
                  </a:lnTo>
                  <a:lnTo>
                    <a:pt x="553" y="1086"/>
                  </a:lnTo>
                  <a:lnTo>
                    <a:pt x="575" y="1067"/>
                  </a:lnTo>
                  <a:lnTo>
                    <a:pt x="601" y="1048"/>
                  </a:lnTo>
                  <a:lnTo>
                    <a:pt x="629" y="1031"/>
                  </a:lnTo>
                  <a:lnTo>
                    <a:pt x="659" y="1015"/>
                  </a:lnTo>
                  <a:lnTo>
                    <a:pt x="691" y="1000"/>
                  </a:lnTo>
                  <a:lnTo>
                    <a:pt x="725" y="986"/>
                  </a:lnTo>
                  <a:lnTo>
                    <a:pt x="725" y="1038"/>
                  </a:lnTo>
                  <a:lnTo>
                    <a:pt x="712" y="1038"/>
                  </a:lnTo>
                  <a:lnTo>
                    <a:pt x="665" y="1036"/>
                  </a:lnTo>
                  <a:lnTo>
                    <a:pt x="622" y="1031"/>
                  </a:lnTo>
                  <a:lnTo>
                    <a:pt x="580" y="1022"/>
                  </a:lnTo>
                  <a:lnTo>
                    <a:pt x="542" y="1008"/>
                  </a:lnTo>
                  <a:lnTo>
                    <a:pt x="507" y="993"/>
                  </a:lnTo>
                  <a:lnTo>
                    <a:pt x="474" y="972"/>
                  </a:lnTo>
                  <a:lnTo>
                    <a:pt x="443" y="948"/>
                  </a:lnTo>
                  <a:lnTo>
                    <a:pt x="430" y="934"/>
                  </a:lnTo>
                  <a:lnTo>
                    <a:pt x="417" y="920"/>
                  </a:lnTo>
                  <a:lnTo>
                    <a:pt x="393" y="889"/>
                  </a:lnTo>
                  <a:lnTo>
                    <a:pt x="382" y="874"/>
                  </a:lnTo>
                  <a:lnTo>
                    <a:pt x="373" y="858"/>
                  </a:lnTo>
                  <a:lnTo>
                    <a:pt x="364" y="841"/>
                  </a:lnTo>
                  <a:lnTo>
                    <a:pt x="355" y="824"/>
                  </a:lnTo>
                  <a:lnTo>
                    <a:pt x="347" y="805"/>
                  </a:lnTo>
                  <a:lnTo>
                    <a:pt x="341" y="786"/>
                  </a:lnTo>
                  <a:lnTo>
                    <a:pt x="335" y="767"/>
                  </a:lnTo>
                  <a:lnTo>
                    <a:pt x="329" y="748"/>
                  </a:lnTo>
                  <a:lnTo>
                    <a:pt x="325" y="727"/>
                  </a:lnTo>
                  <a:lnTo>
                    <a:pt x="321" y="707"/>
                  </a:lnTo>
                  <a:lnTo>
                    <a:pt x="319" y="686"/>
                  </a:lnTo>
                  <a:lnTo>
                    <a:pt x="317" y="664"/>
                  </a:lnTo>
                  <a:lnTo>
                    <a:pt x="315" y="641"/>
                  </a:lnTo>
                  <a:lnTo>
                    <a:pt x="315" y="619"/>
                  </a:lnTo>
                  <a:lnTo>
                    <a:pt x="316" y="584"/>
                  </a:lnTo>
                  <a:lnTo>
                    <a:pt x="318" y="552"/>
                  </a:lnTo>
                  <a:lnTo>
                    <a:pt x="323" y="519"/>
                  </a:lnTo>
                  <a:lnTo>
                    <a:pt x="329" y="486"/>
                  </a:lnTo>
                  <a:lnTo>
                    <a:pt x="336" y="455"/>
                  </a:lnTo>
                  <a:lnTo>
                    <a:pt x="345" y="426"/>
                  </a:lnTo>
                  <a:lnTo>
                    <a:pt x="356" y="397"/>
                  </a:lnTo>
                  <a:lnTo>
                    <a:pt x="369" y="367"/>
                  </a:lnTo>
                  <a:lnTo>
                    <a:pt x="382" y="340"/>
                  </a:lnTo>
                  <a:lnTo>
                    <a:pt x="398" y="314"/>
                  </a:lnTo>
                  <a:lnTo>
                    <a:pt x="416" y="288"/>
                  </a:lnTo>
                  <a:lnTo>
                    <a:pt x="436" y="262"/>
                  </a:lnTo>
                  <a:lnTo>
                    <a:pt x="456" y="238"/>
                  </a:lnTo>
                  <a:lnTo>
                    <a:pt x="478" y="216"/>
                  </a:lnTo>
                  <a:lnTo>
                    <a:pt x="528" y="171"/>
                  </a:lnTo>
                  <a:lnTo>
                    <a:pt x="583" y="131"/>
                  </a:lnTo>
                  <a:lnTo>
                    <a:pt x="641" y="97"/>
                  </a:lnTo>
                  <a:lnTo>
                    <a:pt x="703" y="67"/>
                  </a:lnTo>
                  <a:lnTo>
                    <a:pt x="768" y="43"/>
                  </a:lnTo>
                  <a:lnTo>
                    <a:pt x="836" y="24"/>
                  </a:lnTo>
                  <a:lnTo>
                    <a:pt x="906" y="11"/>
                  </a:lnTo>
                  <a:lnTo>
                    <a:pt x="981" y="4"/>
                  </a:lnTo>
                  <a:lnTo>
                    <a:pt x="1059" y="0"/>
                  </a:lnTo>
                  <a:lnTo>
                    <a:pt x="1369" y="12"/>
                  </a:lnTo>
                  <a:lnTo>
                    <a:pt x="1231" y="841"/>
                  </a:lnTo>
                  <a:lnTo>
                    <a:pt x="1141" y="1363"/>
                  </a:lnTo>
                  <a:lnTo>
                    <a:pt x="1119" y="1515"/>
                  </a:lnTo>
                  <a:lnTo>
                    <a:pt x="1113" y="1563"/>
                  </a:lnTo>
                  <a:lnTo>
                    <a:pt x="1111" y="1581"/>
                  </a:lnTo>
                  <a:lnTo>
                    <a:pt x="1111" y="1594"/>
                  </a:lnTo>
                  <a:lnTo>
                    <a:pt x="1111" y="1603"/>
                  </a:lnTo>
                  <a:lnTo>
                    <a:pt x="1112" y="1608"/>
                  </a:lnTo>
                  <a:lnTo>
                    <a:pt x="1112" y="1612"/>
                  </a:lnTo>
                  <a:lnTo>
                    <a:pt x="1112" y="1615"/>
                  </a:lnTo>
                  <a:lnTo>
                    <a:pt x="1113" y="1618"/>
                  </a:lnTo>
                  <a:lnTo>
                    <a:pt x="1114" y="1622"/>
                  </a:lnTo>
                  <a:lnTo>
                    <a:pt x="1115" y="1624"/>
                  </a:lnTo>
                  <a:lnTo>
                    <a:pt x="1116" y="1625"/>
                  </a:lnTo>
                  <a:lnTo>
                    <a:pt x="1117" y="1629"/>
                  </a:lnTo>
                  <a:lnTo>
                    <a:pt x="1118" y="1631"/>
                  </a:lnTo>
                  <a:lnTo>
                    <a:pt x="1119" y="1632"/>
                  </a:lnTo>
                  <a:lnTo>
                    <a:pt x="1120" y="1632"/>
                  </a:lnTo>
                  <a:lnTo>
                    <a:pt x="1122" y="1634"/>
                  </a:lnTo>
                  <a:lnTo>
                    <a:pt x="1123" y="1634"/>
                  </a:lnTo>
                  <a:lnTo>
                    <a:pt x="1125" y="1634"/>
                  </a:lnTo>
                  <a:lnTo>
                    <a:pt x="1128" y="1634"/>
                  </a:lnTo>
                  <a:lnTo>
                    <a:pt x="1131" y="1632"/>
                  </a:lnTo>
                  <a:lnTo>
                    <a:pt x="1138" y="1629"/>
                  </a:lnTo>
                  <a:lnTo>
                    <a:pt x="1147" y="1624"/>
                  </a:lnTo>
                  <a:lnTo>
                    <a:pt x="1157" y="1617"/>
                  </a:lnTo>
                  <a:lnTo>
                    <a:pt x="1179" y="1594"/>
                  </a:lnTo>
                  <a:lnTo>
                    <a:pt x="1207" y="1563"/>
                  </a:lnTo>
                  <a:lnTo>
                    <a:pt x="1278" y="1474"/>
                  </a:lnTo>
                  <a:lnTo>
                    <a:pt x="1367" y="1348"/>
                  </a:lnTo>
                  <a:lnTo>
                    <a:pt x="1442" y="1475"/>
                  </a:lnTo>
                  <a:lnTo>
                    <a:pt x="1367" y="1594"/>
                  </a:lnTo>
                  <a:lnTo>
                    <a:pt x="1298" y="1698"/>
                  </a:lnTo>
                  <a:lnTo>
                    <a:pt x="1233" y="1786"/>
                  </a:lnTo>
                  <a:lnTo>
                    <a:pt x="1173" y="1856"/>
                  </a:lnTo>
                  <a:lnTo>
                    <a:pt x="1118" y="1913"/>
                  </a:lnTo>
                  <a:lnTo>
                    <a:pt x="1093" y="1934"/>
                  </a:lnTo>
                  <a:lnTo>
                    <a:pt x="1068" y="1953"/>
                  </a:lnTo>
                  <a:lnTo>
                    <a:pt x="1045" y="1967"/>
                  </a:lnTo>
                  <a:lnTo>
                    <a:pt x="1023" y="1975"/>
                  </a:lnTo>
                  <a:lnTo>
                    <a:pt x="1003" y="1982"/>
                  </a:lnTo>
                  <a:lnTo>
                    <a:pt x="983" y="1984"/>
                  </a:lnTo>
                  <a:lnTo>
                    <a:pt x="969" y="1982"/>
                  </a:lnTo>
                  <a:lnTo>
                    <a:pt x="955" y="1979"/>
                  </a:lnTo>
                  <a:lnTo>
                    <a:pt x="948" y="1977"/>
                  </a:lnTo>
                  <a:lnTo>
                    <a:pt x="941" y="1973"/>
                  </a:lnTo>
                  <a:lnTo>
                    <a:pt x="935" y="1970"/>
                  </a:lnTo>
                  <a:lnTo>
                    <a:pt x="928" y="1965"/>
                  </a:lnTo>
                  <a:lnTo>
                    <a:pt x="922" y="1961"/>
                  </a:lnTo>
                  <a:lnTo>
                    <a:pt x="916" y="1955"/>
                  </a:lnTo>
                  <a:lnTo>
                    <a:pt x="910" y="1949"/>
                  </a:lnTo>
                  <a:lnTo>
                    <a:pt x="904" y="1942"/>
                  </a:lnTo>
                  <a:lnTo>
                    <a:pt x="894" y="1927"/>
                  </a:lnTo>
                  <a:lnTo>
                    <a:pt x="883" y="1910"/>
                  </a:lnTo>
                  <a:lnTo>
                    <a:pt x="878" y="1901"/>
                  </a:lnTo>
                  <a:lnTo>
                    <a:pt x="874" y="1891"/>
                  </a:lnTo>
                  <a:lnTo>
                    <a:pt x="869" y="1880"/>
                  </a:lnTo>
                  <a:lnTo>
                    <a:pt x="865" y="1870"/>
                  </a:lnTo>
                  <a:lnTo>
                    <a:pt x="862" y="1858"/>
                  </a:lnTo>
                  <a:lnTo>
                    <a:pt x="858" y="1846"/>
                  </a:lnTo>
                  <a:lnTo>
                    <a:pt x="856" y="1834"/>
                  </a:lnTo>
                  <a:lnTo>
                    <a:pt x="853" y="1822"/>
                  </a:lnTo>
                  <a:lnTo>
                    <a:pt x="849" y="1794"/>
                  </a:lnTo>
                  <a:lnTo>
                    <a:pt x="845" y="1765"/>
                  </a:lnTo>
                  <a:lnTo>
                    <a:pt x="844" y="1734"/>
                  </a:lnTo>
                  <a:lnTo>
                    <a:pt x="843" y="1701"/>
                  </a:lnTo>
                  <a:lnTo>
                    <a:pt x="843" y="1668"/>
                  </a:lnTo>
                  <a:lnTo>
                    <a:pt x="845" y="1636"/>
                  </a:lnTo>
                  <a:lnTo>
                    <a:pt x="847" y="1600"/>
                  </a:lnTo>
                  <a:lnTo>
                    <a:pt x="851" y="1563"/>
                  </a:lnTo>
                  <a:lnTo>
                    <a:pt x="855" y="1525"/>
                  </a:lnTo>
                  <a:lnTo>
                    <a:pt x="860" y="1486"/>
                  </a:lnTo>
                  <a:lnTo>
                    <a:pt x="873" y="1403"/>
                  </a:lnTo>
                  <a:lnTo>
                    <a:pt x="940" y="1077"/>
                  </a:lnTo>
                  <a:lnTo>
                    <a:pt x="918" y="1079"/>
                  </a:lnTo>
                  <a:lnTo>
                    <a:pt x="898" y="1084"/>
                  </a:lnTo>
                  <a:lnTo>
                    <a:pt x="877" y="1091"/>
                  </a:lnTo>
                  <a:lnTo>
                    <a:pt x="857" y="1101"/>
                  </a:lnTo>
                  <a:lnTo>
                    <a:pt x="838" y="1115"/>
                  </a:lnTo>
                  <a:lnTo>
                    <a:pt x="819" y="1132"/>
                  </a:lnTo>
                  <a:lnTo>
                    <a:pt x="800" y="1153"/>
                  </a:lnTo>
                  <a:lnTo>
                    <a:pt x="782" y="1176"/>
                  </a:lnTo>
                  <a:lnTo>
                    <a:pt x="764" y="1205"/>
                  </a:lnTo>
                  <a:lnTo>
                    <a:pt x="743" y="1241"/>
                  </a:lnTo>
                  <a:lnTo>
                    <a:pt x="719" y="1284"/>
                  </a:lnTo>
                  <a:lnTo>
                    <a:pt x="695" y="1336"/>
                  </a:lnTo>
                  <a:lnTo>
                    <a:pt x="638" y="1460"/>
                  </a:lnTo>
                  <a:lnTo>
                    <a:pt x="573" y="1615"/>
                  </a:lnTo>
                  <a:lnTo>
                    <a:pt x="540" y="1701"/>
                  </a:lnTo>
                  <a:lnTo>
                    <a:pt x="522" y="1739"/>
                  </a:lnTo>
                  <a:lnTo>
                    <a:pt x="506" y="1775"/>
                  </a:lnTo>
                  <a:lnTo>
                    <a:pt x="487" y="1810"/>
                  </a:lnTo>
                  <a:lnTo>
                    <a:pt x="468" y="1839"/>
                  </a:lnTo>
                  <a:lnTo>
                    <a:pt x="449" y="1867"/>
                  </a:lnTo>
                  <a:lnTo>
                    <a:pt x="430" y="1891"/>
                  </a:lnTo>
                  <a:lnTo>
                    <a:pt x="410" y="1913"/>
                  </a:lnTo>
                  <a:lnTo>
                    <a:pt x="389" y="1932"/>
                  </a:lnTo>
                  <a:lnTo>
                    <a:pt x="369" y="1948"/>
                  </a:lnTo>
                  <a:lnTo>
                    <a:pt x="347" y="1961"/>
                  </a:lnTo>
                  <a:lnTo>
                    <a:pt x="325" y="1970"/>
                  </a:lnTo>
                  <a:lnTo>
                    <a:pt x="304" y="1979"/>
                  </a:lnTo>
                  <a:lnTo>
                    <a:pt x="281" y="1982"/>
                  </a:lnTo>
                  <a:lnTo>
                    <a:pt x="257" y="1984"/>
                  </a:lnTo>
                  <a:lnTo>
                    <a:pt x="239" y="1982"/>
                  </a:lnTo>
                  <a:lnTo>
                    <a:pt x="220" y="1979"/>
                  </a:lnTo>
                  <a:lnTo>
                    <a:pt x="202" y="1972"/>
                  </a:lnTo>
                  <a:lnTo>
                    <a:pt x="184" y="1963"/>
                  </a:lnTo>
                  <a:lnTo>
                    <a:pt x="167" y="1951"/>
                  </a:lnTo>
                  <a:lnTo>
                    <a:pt x="150" y="1937"/>
                  </a:lnTo>
                  <a:lnTo>
                    <a:pt x="134" y="1922"/>
                  </a:lnTo>
                  <a:lnTo>
                    <a:pt x="118" y="1903"/>
                  </a:lnTo>
                  <a:lnTo>
                    <a:pt x="111" y="1892"/>
                  </a:lnTo>
                  <a:lnTo>
                    <a:pt x="104" y="1879"/>
                  </a:lnTo>
                  <a:lnTo>
                    <a:pt x="96" y="1861"/>
                  </a:lnTo>
                  <a:lnTo>
                    <a:pt x="88" y="1844"/>
                  </a:lnTo>
                  <a:lnTo>
                    <a:pt x="81" y="1822"/>
                  </a:lnTo>
                  <a:lnTo>
                    <a:pt x="73" y="1799"/>
                  </a:lnTo>
                  <a:lnTo>
                    <a:pt x="58" y="1744"/>
                  </a:lnTo>
                  <a:lnTo>
                    <a:pt x="44" y="1679"/>
                  </a:lnTo>
                  <a:lnTo>
                    <a:pt x="29" y="1605"/>
                  </a:lnTo>
                  <a:lnTo>
                    <a:pt x="0" y="1424"/>
                  </a:lnTo>
                  <a:close/>
                  <a:moveTo>
                    <a:pt x="1078" y="279"/>
                  </a:moveTo>
                  <a:lnTo>
                    <a:pt x="1061" y="274"/>
                  </a:lnTo>
                  <a:lnTo>
                    <a:pt x="1042" y="269"/>
                  </a:lnTo>
                  <a:lnTo>
                    <a:pt x="1003" y="260"/>
                  </a:lnTo>
                  <a:lnTo>
                    <a:pt x="959" y="257"/>
                  </a:lnTo>
                  <a:lnTo>
                    <a:pt x="909" y="255"/>
                  </a:lnTo>
                  <a:lnTo>
                    <a:pt x="881" y="257"/>
                  </a:lnTo>
                  <a:lnTo>
                    <a:pt x="852" y="262"/>
                  </a:lnTo>
                  <a:lnTo>
                    <a:pt x="826" y="269"/>
                  </a:lnTo>
                  <a:lnTo>
                    <a:pt x="799" y="279"/>
                  </a:lnTo>
                  <a:lnTo>
                    <a:pt x="773" y="295"/>
                  </a:lnTo>
                  <a:lnTo>
                    <a:pt x="749" y="310"/>
                  </a:lnTo>
                  <a:lnTo>
                    <a:pt x="725" y="331"/>
                  </a:lnTo>
                  <a:lnTo>
                    <a:pt x="702" y="355"/>
                  </a:lnTo>
                  <a:lnTo>
                    <a:pt x="680" y="381"/>
                  </a:lnTo>
                  <a:lnTo>
                    <a:pt x="670" y="395"/>
                  </a:lnTo>
                  <a:lnTo>
                    <a:pt x="661" y="409"/>
                  </a:lnTo>
                  <a:lnTo>
                    <a:pt x="653" y="422"/>
                  </a:lnTo>
                  <a:lnTo>
                    <a:pt x="645" y="438"/>
                  </a:lnTo>
                  <a:lnTo>
                    <a:pt x="639" y="453"/>
                  </a:lnTo>
                  <a:lnTo>
                    <a:pt x="633" y="469"/>
                  </a:lnTo>
                  <a:lnTo>
                    <a:pt x="628" y="484"/>
                  </a:lnTo>
                  <a:lnTo>
                    <a:pt x="623" y="500"/>
                  </a:lnTo>
                  <a:lnTo>
                    <a:pt x="619" y="517"/>
                  </a:lnTo>
                  <a:lnTo>
                    <a:pt x="616" y="534"/>
                  </a:lnTo>
                  <a:lnTo>
                    <a:pt x="613" y="552"/>
                  </a:lnTo>
                  <a:lnTo>
                    <a:pt x="611" y="569"/>
                  </a:lnTo>
                  <a:lnTo>
                    <a:pt x="610" y="588"/>
                  </a:lnTo>
                  <a:lnTo>
                    <a:pt x="610" y="607"/>
                  </a:lnTo>
                  <a:lnTo>
                    <a:pt x="611" y="640"/>
                  </a:lnTo>
                  <a:lnTo>
                    <a:pt x="614" y="669"/>
                  </a:lnTo>
                  <a:lnTo>
                    <a:pt x="619" y="696"/>
                  </a:lnTo>
                  <a:lnTo>
                    <a:pt x="626" y="722"/>
                  </a:lnTo>
                  <a:lnTo>
                    <a:pt x="634" y="746"/>
                  </a:lnTo>
                  <a:lnTo>
                    <a:pt x="644" y="767"/>
                  </a:lnTo>
                  <a:lnTo>
                    <a:pt x="657" y="788"/>
                  </a:lnTo>
                  <a:lnTo>
                    <a:pt x="671" y="805"/>
                  </a:lnTo>
                  <a:lnTo>
                    <a:pt x="688" y="821"/>
                  </a:lnTo>
                  <a:lnTo>
                    <a:pt x="706" y="833"/>
                  </a:lnTo>
                  <a:lnTo>
                    <a:pt x="726" y="845"/>
                  </a:lnTo>
                  <a:lnTo>
                    <a:pt x="748" y="853"/>
                  </a:lnTo>
                  <a:lnTo>
                    <a:pt x="772" y="862"/>
                  </a:lnTo>
                  <a:lnTo>
                    <a:pt x="798" y="867"/>
                  </a:lnTo>
                  <a:lnTo>
                    <a:pt x="855" y="871"/>
                  </a:lnTo>
                  <a:lnTo>
                    <a:pt x="880" y="869"/>
                  </a:lnTo>
                  <a:lnTo>
                    <a:pt x="907" y="867"/>
                  </a:lnTo>
                  <a:lnTo>
                    <a:pt x="970" y="858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4920" y="1073160"/>
              <a:ext cx="199800" cy="719280"/>
            </a:xfrm>
            <a:custGeom>
              <a:avLst/>
              <a:gdLst/>
              <a:ahLst/>
              <a:rect l="l" t="t" r="r" b="b"/>
              <a:pathLst>
                <a:path w="557" h="1997">
                  <a:moveTo>
                    <a:pt x="394" y="0"/>
                  </a:moveTo>
                  <a:lnTo>
                    <a:pt x="411" y="2"/>
                  </a:lnTo>
                  <a:lnTo>
                    <a:pt x="426" y="5"/>
                  </a:lnTo>
                  <a:lnTo>
                    <a:pt x="442" y="11"/>
                  </a:lnTo>
                  <a:lnTo>
                    <a:pt x="457" y="19"/>
                  </a:lnTo>
                  <a:lnTo>
                    <a:pt x="471" y="31"/>
                  </a:lnTo>
                  <a:lnTo>
                    <a:pt x="485" y="43"/>
                  </a:lnTo>
                  <a:lnTo>
                    <a:pt x="497" y="59"/>
                  </a:lnTo>
                  <a:lnTo>
                    <a:pt x="509" y="78"/>
                  </a:lnTo>
                  <a:lnTo>
                    <a:pt x="520" y="98"/>
                  </a:lnTo>
                  <a:lnTo>
                    <a:pt x="525" y="109"/>
                  </a:lnTo>
                  <a:lnTo>
                    <a:pt x="529" y="119"/>
                  </a:lnTo>
                  <a:lnTo>
                    <a:pt x="534" y="129"/>
                  </a:lnTo>
                  <a:lnTo>
                    <a:pt x="537" y="141"/>
                  </a:lnTo>
                  <a:lnTo>
                    <a:pt x="541" y="154"/>
                  </a:lnTo>
                  <a:lnTo>
                    <a:pt x="544" y="166"/>
                  </a:lnTo>
                  <a:lnTo>
                    <a:pt x="547" y="178"/>
                  </a:lnTo>
                  <a:lnTo>
                    <a:pt x="549" y="191"/>
                  </a:lnTo>
                  <a:lnTo>
                    <a:pt x="551" y="204"/>
                  </a:lnTo>
                  <a:lnTo>
                    <a:pt x="553" y="217"/>
                  </a:lnTo>
                  <a:lnTo>
                    <a:pt x="555" y="245"/>
                  </a:lnTo>
                  <a:lnTo>
                    <a:pt x="556" y="274"/>
                  </a:lnTo>
                  <a:lnTo>
                    <a:pt x="555" y="314"/>
                  </a:lnTo>
                  <a:lnTo>
                    <a:pt x="553" y="352"/>
                  </a:lnTo>
                  <a:lnTo>
                    <a:pt x="548" y="386"/>
                  </a:lnTo>
                  <a:lnTo>
                    <a:pt x="543" y="421"/>
                  </a:lnTo>
                  <a:lnTo>
                    <a:pt x="539" y="436"/>
                  </a:lnTo>
                  <a:lnTo>
                    <a:pt x="535" y="452"/>
                  </a:lnTo>
                  <a:lnTo>
                    <a:pt x="530" y="467"/>
                  </a:lnTo>
                  <a:lnTo>
                    <a:pt x="526" y="481"/>
                  </a:lnTo>
                  <a:lnTo>
                    <a:pt x="520" y="495"/>
                  </a:lnTo>
                  <a:lnTo>
                    <a:pt x="515" y="509"/>
                  </a:lnTo>
                  <a:lnTo>
                    <a:pt x="509" y="521"/>
                  </a:lnTo>
                  <a:lnTo>
                    <a:pt x="502" y="533"/>
                  </a:lnTo>
                  <a:lnTo>
                    <a:pt x="489" y="555"/>
                  </a:lnTo>
                  <a:lnTo>
                    <a:pt x="474" y="574"/>
                  </a:lnTo>
                  <a:lnTo>
                    <a:pt x="467" y="583"/>
                  </a:lnTo>
                  <a:lnTo>
                    <a:pt x="459" y="590"/>
                  </a:lnTo>
                  <a:lnTo>
                    <a:pt x="451" y="596"/>
                  </a:lnTo>
                  <a:lnTo>
                    <a:pt x="442" y="603"/>
                  </a:lnTo>
                  <a:lnTo>
                    <a:pt x="434" y="609"/>
                  </a:lnTo>
                  <a:lnTo>
                    <a:pt x="425" y="614"/>
                  </a:lnTo>
                  <a:lnTo>
                    <a:pt x="408" y="621"/>
                  </a:lnTo>
                  <a:lnTo>
                    <a:pt x="389" y="626"/>
                  </a:lnTo>
                  <a:lnTo>
                    <a:pt x="369" y="627"/>
                  </a:lnTo>
                  <a:lnTo>
                    <a:pt x="353" y="626"/>
                  </a:lnTo>
                  <a:lnTo>
                    <a:pt x="337" y="622"/>
                  </a:lnTo>
                  <a:lnTo>
                    <a:pt x="322" y="617"/>
                  </a:lnTo>
                  <a:lnTo>
                    <a:pt x="307" y="609"/>
                  </a:lnTo>
                  <a:lnTo>
                    <a:pt x="293" y="598"/>
                  </a:lnTo>
                  <a:lnTo>
                    <a:pt x="281" y="586"/>
                  </a:lnTo>
                  <a:lnTo>
                    <a:pt x="268" y="571"/>
                  </a:lnTo>
                  <a:lnTo>
                    <a:pt x="256" y="553"/>
                  </a:lnTo>
                  <a:lnTo>
                    <a:pt x="250" y="545"/>
                  </a:lnTo>
                  <a:lnTo>
                    <a:pt x="245" y="534"/>
                  </a:lnTo>
                  <a:lnTo>
                    <a:pt x="240" y="524"/>
                  </a:lnTo>
                  <a:lnTo>
                    <a:pt x="235" y="514"/>
                  </a:lnTo>
                  <a:lnTo>
                    <a:pt x="231" y="503"/>
                  </a:lnTo>
                  <a:lnTo>
                    <a:pt x="227" y="493"/>
                  </a:lnTo>
                  <a:lnTo>
                    <a:pt x="224" y="481"/>
                  </a:lnTo>
                  <a:lnTo>
                    <a:pt x="221" y="471"/>
                  </a:lnTo>
                  <a:lnTo>
                    <a:pt x="218" y="459"/>
                  </a:lnTo>
                  <a:lnTo>
                    <a:pt x="216" y="445"/>
                  </a:lnTo>
                  <a:lnTo>
                    <a:pt x="214" y="433"/>
                  </a:lnTo>
                  <a:lnTo>
                    <a:pt x="212" y="421"/>
                  </a:lnTo>
                  <a:lnTo>
                    <a:pt x="211" y="407"/>
                  </a:lnTo>
                  <a:lnTo>
                    <a:pt x="210" y="393"/>
                  </a:lnTo>
                  <a:lnTo>
                    <a:pt x="209" y="366"/>
                  </a:lnTo>
                  <a:lnTo>
                    <a:pt x="209" y="347"/>
                  </a:lnTo>
                  <a:lnTo>
                    <a:pt x="210" y="326"/>
                  </a:lnTo>
                  <a:lnTo>
                    <a:pt x="212" y="307"/>
                  </a:lnTo>
                  <a:lnTo>
                    <a:pt x="214" y="288"/>
                  </a:lnTo>
                  <a:lnTo>
                    <a:pt x="217" y="271"/>
                  </a:lnTo>
                  <a:lnTo>
                    <a:pt x="220" y="252"/>
                  </a:lnTo>
                  <a:lnTo>
                    <a:pt x="224" y="233"/>
                  </a:lnTo>
                  <a:lnTo>
                    <a:pt x="228" y="216"/>
                  </a:lnTo>
                  <a:lnTo>
                    <a:pt x="233" y="197"/>
                  </a:lnTo>
                  <a:lnTo>
                    <a:pt x="239" y="179"/>
                  </a:lnTo>
                  <a:lnTo>
                    <a:pt x="253" y="145"/>
                  </a:lnTo>
                  <a:lnTo>
                    <a:pt x="269" y="110"/>
                  </a:lnTo>
                  <a:lnTo>
                    <a:pt x="288" y="78"/>
                  </a:lnTo>
                  <a:lnTo>
                    <a:pt x="292" y="69"/>
                  </a:lnTo>
                  <a:lnTo>
                    <a:pt x="295" y="59"/>
                  </a:lnTo>
                  <a:lnTo>
                    <a:pt x="300" y="52"/>
                  </a:lnTo>
                  <a:lnTo>
                    <a:pt x="305" y="43"/>
                  </a:lnTo>
                  <a:lnTo>
                    <a:pt x="310" y="36"/>
                  </a:lnTo>
                  <a:lnTo>
                    <a:pt x="316" y="31"/>
                  </a:lnTo>
                  <a:lnTo>
                    <a:pt x="322" y="24"/>
                  </a:lnTo>
                  <a:lnTo>
                    <a:pt x="329" y="19"/>
                  </a:lnTo>
                  <a:lnTo>
                    <a:pt x="336" y="16"/>
                  </a:lnTo>
                  <a:lnTo>
                    <a:pt x="343" y="11"/>
                  </a:lnTo>
                  <a:lnTo>
                    <a:pt x="351" y="7"/>
                  </a:lnTo>
                  <a:lnTo>
                    <a:pt x="359" y="5"/>
                  </a:lnTo>
                  <a:lnTo>
                    <a:pt x="375" y="2"/>
                  </a:lnTo>
                  <a:close/>
                  <a:moveTo>
                    <a:pt x="184" y="1367"/>
                  </a:moveTo>
                  <a:lnTo>
                    <a:pt x="201" y="1369"/>
                  </a:lnTo>
                  <a:lnTo>
                    <a:pt x="218" y="1372"/>
                  </a:lnTo>
                  <a:lnTo>
                    <a:pt x="232" y="1377"/>
                  </a:lnTo>
                  <a:lnTo>
                    <a:pt x="240" y="1382"/>
                  </a:lnTo>
                  <a:lnTo>
                    <a:pt x="247" y="1386"/>
                  </a:lnTo>
                  <a:lnTo>
                    <a:pt x="254" y="1391"/>
                  </a:lnTo>
                  <a:lnTo>
                    <a:pt x="261" y="1398"/>
                  </a:lnTo>
                  <a:lnTo>
                    <a:pt x="268" y="1405"/>
                  </a:lnTo>
                  <a:lnTo>
                    <a:pt x="275" y="1412"/>
                  </a:lnTo>
                  <a:lnTo>
                    <a:pt x="288" y="1427"/>
                  </a:lnTo>
                  <a:lnTo>
                    <a:pt x="299" y="1446"/>
                  </a:lnTo>
                  <a:lnTo>
                    <a:pt x="305" y="1456"/>
                  </a:lnTo>
                  <a:lnTo>
                    <a:pt x="310" y="1467"/>
                  </a:lnTo>
                  <a:lnTo>
                    <a:pt x="315" y="1477"/>
                  </a:lnTo>
                  <a:lnTo>
                    <a:pt x="320" y="1487"/>
                  </a:lnTo>
                  <a:lnTo>
                    <a:pt x="324" y="1500"/>
                  </a:lnTo>
                  <a:lnTo>
                    <a:pt x="328" y="1510"/>
                  </a:lnTo>
                  <a:lnTo>
                    <a:pt x="331" y="1522"/>
                  </a:lnTo>
                  <a:lnTo>
                    <a:pt x="335" y="1534"/>
                  </a:lnTo>
                  <a:lnTo>
                    <a:pt x="337" y="1548"/>
                  </a:lnTo>
                  <a:lnTo>
                    <a:pt x="340" y="1560"/>
                  </a:lnTo>
                  <a:lnTo>
                    <a:pt x="343" y="1586"/>
                  </a:lnTo>
                  <a:lnTo>
                    <a:pt x="345" y="1613"/>
                  </a:lnTo>
                  <a:lnTo>
                    <a:pt x="346" y="1643"/>
                  </a:lnTo>
                  <a:lnTo>
                    <a:pt x="345" y="1682"/>
                  </a:lnTo>
                  <a:lnTo>
                    <a:pt x="343" y="1720"/>
                  </a:lnTo>
                  <a:lnTo>
                    <a:pt x="339" y="1755"/>
                  </a:lnTo>
                  <a:lnTo>
                    <a:pt x="333" y="1789"/>
                  </a:lnTo>
                  <a:lnTo>
                    <a:pt x="330" y="1805"/>
                  </a:lnTo>
                  <a:lnTo>
                    <a:pt x="326" y="1820"/>
                  </a:lnTo>
                  <a:lnTo>
                    <a:pt x="321" y="1836"/>
                  </a:lnTo>
                  <a:lnTo>
                    <a:pt x="316" y="1849"/>
                  </a:lnTo>
                  <a:lnTo>
                    <a:pt x="311" y="1863"/>
                  </a:lnTo>
                  <a:lnTo>
                    <a:pt x="306" y="1877"/>
                  </a:lnTo>
                  <a:lnTo>
                    <a:pt x="300" y="1889"/>
                  </a:lnTo>
                  <a:lnTo>
                    <a:pt x="293" y="1901"/>
                  </a:lnTo>
                  <a:lnTo>
                    <a:pt x="280" y="1923"/>
                  </a:lnTo>
                  <a:lnTo>
                    <a:pt x="273" y="1934"/>
                  </a:lnTo>
                  <a:lnTo>
                    <a:pt x="265" y="1942"/>
                  </a:lnTo>
                  <a:lnTo>
                    <a:pt x="258" y="1951"/>
                  </a:lnTo>
                  <a:lnTo>
                    <a:pt x="250" y="1960"/>
                  </a:lnTo>
                  <a:lnTo>
                    <a:pt x="241" y="1967"/>
                  </a:lnTo>
                  <a:lnTo>
                    <a:pt x="233" y="1972"/>
                  </a:lnTo>
                  <a:lnTo>
                    <a:pt x="226" y="1979"/>
                  </a:lnTo>
                  <a:lnTo>
                    <a:pt x="217" y="1982"/>
                  </a:lnTo>
                  <a:lnTo>
                    <a:pt x="198" y="1991"/>
                  </a:lnTo>
                  <a:lnTo>
                    <a:pt x="179" y="1994"/>
                  </a:lnTo>
                  <a:lnTo>
                    <a:pt x="160" y="1996"/>
                  </a:lnTo>
                  <a:lnTo>
                    <a:pt x="143" y="1994"/>
                  </a:lnTo>
                  <a:lnTo>
                    <a:pt x="127" y="1991"/>
                  </a:lnTo>
                  <a:lnTo>
                    <a:pt x="112" y="1986"/>
                  </a:lnTo>
                  <a:lnTo>
                    <a:pt x="97" y="1979"/>
                  </a:lnTo>
                  <a:lnTo>
                    <a:pt x="84" y="1968"/>
                  </a:lnTo>
                  <a:lnTo>
                    <a:pt x="71" y="1955"/>
                  </a:lnTo>
                  <a:lnTo>
                    <a:pt x="58" y="1941"/>
                  </a:lnTo>
                  <a:lnTo>
                    <a:pt x="46" y="1923"/>
                  </a:lnTo>
                  <a:lnTo>
                    <a:pt x="35" y="1905"/>
                  </a:lnTo>
                  <a:lnTo>
                    <a:pt x="30" y="1894"/>
                  </a:lnTo>
                  <a:lnTo>
                    <a:pt x="26" y="1884"/>
                  </a:lnTo>
                  <a:lnTo>
                    <a:pt x="22" y="1874"/>
                  </a:lnTo>
                  <a:lnTo>
                    <a:pt x="18" y="1861"/>
                  </a:lnTo>
                  <a:lnTo>
                    <a:pt x="15" y="1851"/>
                  </a:lnTo>
                  <a:lnTo>
                    <a:pt x="12" y="1839"/>
                  </a:lnTo>
                  <a:lnTo>
                    <a:pt x="9" y="1827"/>
                  </a:lnTo>
                  <a:lnTo>
                    <a:pt x="6" y="1815"/>
                  </a:lnTo>
                  <a:lnTo>
                    <a:pt x="4" y="1803"/>
                  </a:lnTo>
                  <a:lnTo>
                    <a:pt x="3" y="1789"/>
                  </a:lnTo>
                  <a:lnTo>
                    <a:pt x="1" y="1761"/>
                  </a:lnTo>
                  <a:lnTo>
                    <a:pt x="0" y="1734"/>
                  </a:lnTo>
                  <a:lnTo>
                    <a:pt x="0" y="1715"/>
                  </a:lnTo>
                  <a:lnTo>
                    <a:pt x="1" y="1694"/>
                  </a:lnTo>
                  <a:lnTo>
                    <a:pt x="3" y="1675"/>
                  </a:lnTo>
                  <a:lnTo>
                    <a:pt x="5" y="1656"/>
                  </a:lnTo>
                  <a:lnTo>
                    <a:pt x="8" y="1637"/>
                  </a:lnTo>
                  <a:lnTo>
                    <a:pt x="11" y="1618"/>
                  </a:lnTo>
                  <a:lnTo>
                    <a:pt x="15" y="1601"/>
                  </a:lnTo>
                  <a:lnTo>
                    <a:pt x="20" y="1582"/>
                  </a:lnTo>
                  <a:lnTo>
                    <a:pt x="25" y="1565"/>
                  </a:lnTo>
                  <a:lnTo>
                    <a:pt x="30" y="1546"/>
                  </a:lnTo>
                  <a:lnTo>
                    <a:pt x="43" y="1512"/>
                  </a:lnTo>
                  <a:lnTo>
                    <a:pt x="59" y="1477"/>
                  </a:lnTo>
                  <a:lnTo>
                    <a:pt x="78" y="1444"/>
                  </a:lnTo>
                  <a:lnTo>
                    <a:pt x="82" y="1436"/>
                  </a:lnTo>
                  <a:lnTo>
                    <a:pt x="86" y="1425"/>
                  </a:lnTo>
                  <a:lnTo>
                    <a:pt x="91" y="1419"/>
                  </a:lnTo>
                  <a:lnTo>
                    <a:pt x="95" y="1410"/>
                  </a:lnTo>
                  <a:lnTo>
                    <a:pt x="100" y="1403"/>
                  </a:lnTo>
                  <a:lnTo>
                    <a:pt x="106" y="1398"/>
                  </a:lnTo>
                  <a:lnTo>
                    <a:pt x="112" y="1391"/>
                  </a:lnTo>
                  <a:lnTo>
                    <a:pt x="119" y="1386"/>
                  </a:lnTo>
                  <a:lnTo>
                    <a:pt x="126" y="1382"/>
                  </a:lnTo>
                  <a:lnTo>
                    <a:pt x="133" y="1377"/>
                  </a:lnTo>
                  <a:lnTo>
                    <a:pt x="141" y="1374"/>
                  </a:lnTo>
                  <a:lnTo>
                    <a:pt x="149" y="1372"/>
                  </a:lnTo>
                  <a:lnTo>
                    <a:pt x="165" y="1369"/>
                  </a:lnTo>
                  <a:close/>
                </a:path>
              </a:pathLst>
            </a:custGeom>
            <a:gradFill rotWithShape="0">
              <a:gsLst>
                <a:gs pos="0">
                  <a:srgbClr val="f20e1e"/>
                </a:gs>
                <a:gs pos="100000">
                  <a:srgbClr val="4c13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Цель исследования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3280" y="450072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92000" y="140292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52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собрать информацию об именах учащихся     5-9 классов;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52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выявить  повторяющиеся     имена;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52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  </a:t>
            </a: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составить портрет учащихся по характеристикам имени;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52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  </a:t>
            </a:r>
            <a:r>
              <a:rPr b="0" i="1" lang="en-GB" sz="3200" spc="-1" strike="noStrike">
                <a:solidFill>
                  <a:srgbClr val="008000"/>
                </a:solidFill>
                <a:latin typeface="Georgia"/>
              </a:rPr>
              <a:t>изучить историю имен учащихся</a:t>
            </a:r>
            <a:r>
              <a:rPr b="0" i="1" lang="en-GB" sz="32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80360" cy="1366920"/>
            <a:chOff x="0" y="0"/>
            <a:chExt cx="9180360" cy="1366920"/>
          </a:xfrm>
        </p:grpSpPr>
        <p:sp>
          <p:nvSpPr>
            <p:cNvPr id="184" name=""/>
            <p:cNvSpPr/>
            <p:nvPr/>
          </p:nvSpPr>
          <p:spPr>
            <a:xfrm>
              <a:off x="2160720" y="517680"/>
              <a:ext cx="412560" cy="849240"/>
            </a:xfrm>
            <a:custGeom>
              <a:avLst/>
              <a:gdLst/>
              <a:ahLst/>
              <a:rect l="l" t="t" r="r" b="b"/>
              <a:pathLst>
                <a:path w="1147" h="2359">
                  <a:moveTo>
                    <a:pt x="1146" y="450"/>
                  </a:moveTo>
                  <a:lnTo>
                    <a:pt x="1146" y="472"/>
                  </a:lnTo>
                  <a:lnTo>
                    <a:pt x="1145" y="493"/>
                  </a:lnTo>
                  <a:lnTo>
                    <a:pt x="1144" y="517"/>
                  </a:lnTo>
                  <a:lnTo>
                    <a:pt x="1142" y="539"/>
                  </a:lnTo>
                  <a:lnTo>
                    <a:pt x="1139" y="562"/>
                  </a:lnTo>
                  <a:lnTo>
                    <a:pt x="1136" y="586"/>
                  </a:lnTo>
                  <a:lnTo>
                    <a:pt x="1133" y="609"/>
                  </a:lnTo>
                  <a:lnTo>
                    <a:pt x="1128" y="632"/>
                  </a:lnTo>
                  <a:lnTo>
                    <a:pt x="1123" y="656"/>
                  </a:lnTo>
                  <a:lnTo>
                    <a:pt x="1118" y="679"/>
                  </a:lnTo>
                  <a:lnTo>
                    <a:pt x="1111" y="703"/>
                  </a:lnTo>
                  <a:lnTo>
                    <a:pt x="1104" y="725"/>
                  </a:lnTo>
                  <a:lnTo>
                    <a:pt x="1096" y="746"/>
                  </a:lnTo>
                  <a:lnTo>
                    <a:pt x="1087" y="768"/>
                  </a:lnTo>
                  <a:lnTo>
                    <a:pt x="1077" y="790"/>
                  </a:lnTo>
                  <a:lnTo>
                    <a:pt x="1067" y="811"/>
                  </a:lnTo>
                  <a:lnTo>
                    <a:pt x="1055" y="833"/>
                  </a:lnTo>
                  <a:lnTo>
                    <a:pt x="1043" y="853"/>
                  </a:lnTo>
                  <a:lnTo>
                    <a:pt x="1029" y="875"/>
                  </a:lnTo>
                  <a:lnTo>
                    <a:pt x="1016" y="894"/>
                  </a:lnTo>
                  <a:lnTo>
                    <a:pt x="1000" y="912"/>
                  </a:lnTo>
                  <a:lnTo>
                    <a:pt x="985" y="932"/>
                  </a:lnTo>
                  <a:lnTo>
                    <a:pt x="967" y="950"/>
                  </a:lnTo>
                  <a:lnTo>
                    <a:pt x="950" y="968"/>
                  </a:lnTo>
                  <a:lnTo>
                    <a:pt x="931" y="985"/>
                  </a:lnTo>
                  <a:lnTo>
                    <a:pt x="911" y="1001"/>
                  </a:lnTo>
                  <a:lnTo>
                    <a:pt x="891" y="1017"/>
                  </a:lnTo>
                  <a:lnTo>
                    <a:pt x="868" y="1032"/>
                  </a:lnTo>
                  <a:lnTo>
                    <a:pt x="819" y="1057"/>
                  </a:lnTo>
                  <a:lnTo>
                    <a:pt x="765" y="1079"/>
                  </a:lnTo>
                  <a:lnTo>
                    <a:pt x="763" y="1099"/>
                  </a:lnTo>
                  <a:lnTo>
                    <a:pt x="791" y="1102"/>
                  </a:lnTo>
                  <a:lnTo>
                    <a:pt x="819" y="1109"/>
                  </a:lnTo>
                  <a:lnTo>
                    <a:pt x="848" y="1117"/>
                  </a:lnTo>
                  <a:lnTo>
                    <a:pt x="877" y="1129"/>
                  </a:lnTo>
                  <a:lnTo>
                    <a:pt x="892" y="1137"/>
                  </a:lnTo>
                  <a:lnTo>
                    <a:pt x="905" y="1144"/>
                  </a:lnTo>
                  <a:lnTo>
                    <a:pt x="919" y="1151"/>
                  </a:lnTo>
                  <a:lnTo>
                    <a:pt x="932" y="1160"/>
                  </a:lnTo>
                  <a:lnTo>
                    <a:pt x="945" y="1169"/>
                  </a:lnTo>
                  <a:lnTo>
                    <a:pt x="957" y="1180"/>
                  </a:lnTo>
                  <a:lnTo>
                    <a:pt x="969" y="1191"/>
                  </a:lnTo>
                  <a:lnTo>
                    <a:pt x="981" y="1203"/>
                  </a:lnTo>
                  <a:lnTo>
                    <a:pt x="992" y="1218"/>
                  </a:lnTo>
                  <a:lnTo>
                    <a:pt x="1003" y="1232"/>
                  </a:lnTo>
                  <a:lnTo>
                    <a:pt x="1014" y="1249"/>
                  </a:lnTo>
                  <a:lnTo>
                    <a:pt x="1023" y="1265"/>
                  </a:lnTo>
                  <a:lnTo>
                    <a:pt x="1033" y="1283"/>
                  </a:lnTo>
                  <a:lnTo>
                    <a:pt x="1041" y="1301"/>
                  </a:lnTo>
                  <a:lnTo>
                    <a:pt x="1049" y="1321"/>
                  </a:lnTo>
                  <a:lnTo>
                    <a:pt x="1057" y="1341"/>
                  </a:lnTo>
                  <a:lnTo>
                    <a:pt x="1060" y="1351"/>
                  </a:lnTo>
                  <a:lnTo>
                    <a:pt x="1064" y="1362"/>
                  </a:lnTo>
                  <a:lnTo>
                    <a:pt x="1070" y="1384"/>
                  </a:lnTo>
                  <a:lnTo>
                    <a:pt x="1075" y="1409"/>
                  </a:lnTo>
                  <a:lnTo>
                    <a:pt x="1079" y="1435"/>
                  </a:lnTo>
                  <a:lnTo>
                    <a:pt x="1082" y="1463"/>
                  </a:lnTo>
                  <a:lnTo>
                    <a:pt x="1084" y="1492"/>
                  </a:lnTo>
                  <a:lnTo>
                    <a:pt x="1085" y="1523"/>
                  </a:lnTo>
                  <a:lnTo>
                    <a:pt x="1086" y="1556"/>
                  </a:lnTo>
                  <a:lnTo>
                    <a:pt x="1085" y="1603"/>
                  </a:lnTo>
                  <a:lnTo>
                    <a:pt x="1083" y="1646"/>
                  </a:lnTo>
                  <a:lnTo>
                    <a:pt x="1078" y="1691"/>
                  </a:lnTo>
                  <a:lnTo>
                    <a:pt x="1072" y="1733"/>
                  </a:lnTo>
                  <a:lnTo>
                    <a:pt x="1064" y="1774"/>
                  </a:lnTo>
                  <a:lnTo>
                    <a:pt x="1054" y="1816"/>
                  </a:lnTo>
                  <a:lnTo>
                    <a:pt x="1043" y="1855"/>
                  </a:lnTo>
                  <a:lnTo>
                    <a:pt x="1030" y="1893"/>
                  </a:lnTo>
                  <a:lnTo>
                    <a:pt x="1016" y="1931"/>
                  </a:lnTo>
                  <a:lnTo>
                    <a:pt x="1000" y="1966"/>
                  </a:lnTo>
                  <a:lnTo>
                    <a:pt x="984" y="2000"/>
                  </a:lnTo>
                  <a:lnTo>
                    <a:pt x="966" y="2033"/>
                  </a:lnTo>
                  <a:lnTo>
                    <a:pt x="947" y="2063"/>
                  </a:lnTo>
                  <a:lnTo>
                    <a:pt x="927" y="2092"/>
                  </a:lnTo>
                  <a:lnTo>
                    <a:pt x="905" y="2119"/>
                  </a:lnTo>
                  <a:lnTo>
                    <a:pt x="883" y="2145"/>
                  </a:lnTo>
                  <a:lnTo>
                    <a:pt x="859" y="2170"/>
                  </a:lnTo>
                  <a:lnTo>
                    <a:pt x="834" y="2195"/>
                  </a:lnTo>
                  <a:lnTo>
                    <a:pt x="809" y="2217"/>
                  </a:lnTo>
                  <a:lnTo>
                    <a:pt x="783" y="2238"/>
                  </a:lnTo>
                  <a:lnTo>
                    <a:pt x="757" y="2258"/>
                  </a:lnTo>
                  <a:lnTo>
                    <a:pt x="730" y="2275"/>
                  </a:lnTo>
                  <a:lnTo>
                    <a:pt x="674" y="2305"/>
                  </a:lnTo>
                  <a:lnTo>
                    <a:pt x="616" y="2329"/>
                  </a:lnTo>
                  <a:lnTo>
                    <a:pt x="556" y="2345"/>
                  </a:lnTo>
                  <a:lnTo>
                    <a:pt x="493" y="2354"/>
                  </a:lnTo>
                  <a:lnTo>
                    <a:pt x="429" y="2358"/>
                  </a:lnTo>
                  <a:lnTo>
                    <a:pt x="379" y="2356"/>
                  </a:lnTo>
                  <a:lnTo>
                    <a:pt x="332" y="2349"/>
                  </a:lnTo>
                  <a:lnTo>
                    <a:pt x="288" y="2338"/>
                  </a:lnTo>
                  <a:lnTo>
                    <a:pt x="247" y="2322"/>
                  </a:lnTo>
                  <a:lnTo>
                    <a:pt x="209" y="2300"/>
                  </a:lnTo>
                  <a:lnTo>
                    <a:pt x="173" y="2275"/>
                  </a:lnTo>
                  <a:lnTo>
                    <a:pt x="141" y="2244"/>
                  </a:lnTo>
                  <a:lnTo>
                    <a:pt x="111" y="2210"/>
                  </a:lnTo>
                  <a:lnTo>
                    <a:pt x="98" y="2191"/>
                  </a:lnTo>
                  <a:lnTo>
                    <a:pt x="85" y="2172"/>
                  </a:lnTo>
                  <a:lnTo>
                    <a:pt x="73" y="2152"/>
                  </a:lnTo>
                  <a:lnTo>
                    <a:pt x="62" y="2130"/>
                  </a:lnTo>
                  <a:lnTo>
                    <a:pt x="52" y="2108"/>
                  </a:lnTo>
                  <a:lnTo>
                    <a:pt x="43" y="2085"/>
                  </a:lnTo>
                  <a:lnTo>
                    <a:pt x="35" y="2061"/>
                  </a:lnTo>
                  <a:lnTo>
                    <a:pt x="27" y="2036"/>
                  </a:lnTo>
                  <a:lnTo>
                    <a:pt x="21" y="2011"/>
                  </a:lnTo>
                  <a:lnTo>
                    <a:pt x="15" y="1986"/>
                  </a:lnTo>
                  <a:lnTo>
                    <a:pt x="11" y="1958"/>
                  </a:lnTo>
                  <a:lnTo>
                    <a:pt x="6" y="1930"/>
                  </a:lnTo>
                  <a:lnTo>
                    <a:pt x="4" y="1901"/>
                  </a:lnTo>
                  <a:lnTo>
                    <a:pt x="1" y="1872"/>
                  </a:lnTo>
                  <a:lnTo>
                    <a:pt x="0" y="1841"/>
                  </a:lnTo>
                  <a:lnTo>
                    <a:pt x="0" y="1810"/>
                  </a:lnTo>
                  <a:lnTo>
                    <a:pt x="0" y="1798"/>
                  </a:lnTo>
                  <a:lnTo>
                    <a:pt x="0" y="1785"/>
                  </a:lnTo>
                  <a:lnTo>
                    <a:pt x="1" y="1772"/>
                  </a:lnTo>
                  <a:lnTo>
                    <a:pt x="2" y="1760"/>
                  </a:lnTo>
                  <a:lnTo>
                    <a:pt x="4" y="1749"/>
                  </a:lnTo>
                  <a:lnTo>
                    <a:pt x="6" y="1736"/>
                  </a:lnTo>
                  <a:lnTo>
                    <a:pt x="8" y="1724"/>
                  </a:lnTo>
                  <a:lnTo>
                    <a:pt x="11" y="1713"/>
                  </a:lnTo>
                  <a:lnTo>
                    <a:pt x="14" y="1700"/>
                  </a:lnTo>
                  <a:lnTo>
                    <a:pt x="18" y="1689"/>
                  </a:lnTo>
                  <a:lnTo>
                    <a:pt x="25" y="1668"/>
                  </a:lnTo>
                  <a:lnTo>
                    <a:pt x="35" y="1646"/>
                  </a:lnTo>
                  <a:lnTo>
                    <a:pt x="45" y="1624"/>
                  </a:lnTo>
                  <a:lnTo>
                    <a:pt x="57" y="1604"/>
                  </a:lnTo>
                  <a:lnTo>
                    <a:pt x="69" y="1588"/>
                  </a:lnTo>
                  <a:lnTo>
                    <a:pt x="82" y="1575"/>
                  </a:lnTo>
                  <a:lnTo>
                    <a:pt x="96" y="1563"/>
                  </a:lnTo>
                  <a:lnTo>
                    <a:pt x="110" y="1554"/>
                  </a:lnTo>
                  <a:lnTo>
                    <a:pt x="124" y="1548"/>
                  </a:lnTo>
                  <a:lnTo>
                    <a:pt x="139" y="1545"/>
                  </a:lnTo>
                  <a:lnTo>
                    <a:pt x="154" y="1543"/>
                  </a:lnTo>
                  <a:lnTo>
                    <a:pt x="172" y="1545"/>
                  </a:lnTo>
                  <a:lnTo>
                    <a:pt x="189" y="1547"/>
                  </a:lnTo>
                  <a:lnTo>
                    <a:pt x="205" y="1552"/>
                  </a:lnTo>
                  <a:lnTo>
                    <a:pt x="220" y="1559"/>
                  </a:lnTo>
                  <a:lnTo>
                    <a:pt x="234" y="1568"/>
                  </a:lnTo>
                  <a:lnTo>
                    <a:pt x="246" y="1581"/>
                  </a:lnTo>
                  <a:lnTo>
                    <a:pt x="252" y="1586"/>
                  </a:lnTo>
                  <a:lnTo>
                    <a:pt x="258" y="1594"/>
                  </a:lnTo>
                  <a:lnTo>
                    <a:pt x="263" y="1601"/>
                  </a:lnTo>
                  <a:lnTo>
                    <a:pt x="268" y="1610"/>
                  </a:lnTo>
                  <a:lnTo>
                    <a:pt x="273" y="1619"/>
                  </a:lnTo>
                  <a:lnTo>
                    <a:pt x="277" y="1628"/>
                  </a:lnTo>
                  <a:lnTo>
                    <a:pt x="282" y="1637"/>
                  </a:lnTo>
                  <a:lnTo>
                    <a:pt x="285" y="1648"/>
                  </a:lnTo>
                  <a:lnTo>
                    <a:pt x="289" y="1657"/>
                  </a:lnTo>
                  <a:lnTo>
                    <a:pt x="292" y="1668"/>
                  </a:lnTo>
                  <a:lnTo>
                    <a:pt x="295" y="1678"/>
                  </a:lnTo>
                  <a:lnTo>
                    <a:pt x="298" y="1691"/>
                  </a:lnTo>
                  <a:lnTo>
                    <a:pt x="301" y="1704"/>
                  </a:lnTo>
                  <a:lnTo>
                    <a:pt x="302" y="1715"/>
                  </a:lnTo>
                  <a:lnTo>
                    <a:pt x="304" y="1727"/>
                  </a:lnTo>
                  <a:lnTo>
                    <a:pt x="306" y="1742"/>
                  </a:lnTo>
                  <a:lnTo>
                    <a:pt x="307" y="1754"/>
                  </a:lnTo>
                  <a:lnTo>
                    <a:pt x="307" y="1769"/>
                  </a:lnTo>
                  <a:lnTo>
                    <a:pt x="308" y="1798"/>
                  </a:lnTo>
                  <a:lnTo>
                    <a:pt x="308" y="1819"/>
                  </a:lnTo>
                  <a:lnTo>
                    <a:pt x="307" y="1841"/>
                  </a:lnTo>
                  <a:lnTo>
                    <a:pt x="306" y="1863"/>
                  </a:lnTo>
                  <a:lnTo>
                    <a:pt x="303" y="1886"/>
                  </a:lnTo>
                  <a:lnTo>
                    <a:pt x="301" y="1908"/>
                  </a:lnTo>
                  <a:lnTo>
                    <a:pt x="297" y="1931"/>
                  </a:lnTo>
                  <a:lnTo>
                    <a:pt x="293" y="1955"/>
                  </a:lnTo>
                  <a:lnTo>
                    <a:pt x="288" y="1978"/>
                  </a:lnTo>
                  <a:lnTo>
                    <a:pt x="256" y="2121"/>
                  </a:lnTo>
                  <a:lnTo>
                    <a:pt x="264" y="2132"/>
                  </a:lnTo>
                  <a:lnTo>
                    <a:pt x="272" y="2143"/>
                  </a:lnTo>
                  <a:lnTo>
                    <a:pt x="280" y="2154"/>
                  </a:lnTo>
                  <a:lnTo>
                    <a:pt x="288" y="2163"/>
                  </a:lnTo>
                  <a:lnTo>
                    <a:pt x="295" y="2170"/>
                  </a:lnTo>
                  <a:lnTo>
                    <a:pt x="303" y="2177"/>
                  </a:lnTo>
                  <a:lnTo>
                    <a:pt x="310" y="2184"/>
                  </a:lnTo>
                  <a:lnTo>
                    <a:pt x="318" y="2190"/>
                  </a:lnTo>
                  <a:lnTo>
                    <a:pt x="326" y="2195"/>
                  </a:lnTo>
                  <a:lnTo>
                    <a:pt x="335" y="2199"/>
                  </a:lnTo>
                  <a:lnTo>
                    <a:pt x="344" y="2202"/>
                  </a:lnTo>
                  <a:lnTo>
                    <a:pt x="356" y="2206"/>
                  </a:lnTo>
                  <a:lnTo>
                    <a:pt x="368" y="2208"/>
                  </a:lnTo>
                  <a:lnTo>
                    <a:pt x="381" y="2210"/>
                  </a:lnTo>
                  <a:lnTo>
                    <a:pt x="410" y="2211"/>
                  </a:lnTo>
                  <a:lnTo>
                    <a:pt x="448" y="2208"/>
                  </a:lnTo>
                  <a:lnTo>
                    <a:pt x="484" y="2199"/>
                  </a:lnTo>
                  <a:lnTo>
                    <a:pt x="517" y="2184"/>
                  </a:lnTo>
                  <a:lnTo>
                    <a:pt x="549" y="2163"/>
                  </a:lnTo>
                  <a:lnTo>
                    <a:pt x="565" y="2150"/>
                  </a:lnTo>
                  <a:lnTo>
                    <a:pt x="579" y="2135"/>
                  </a:lnTo>
                  <a:lnTo>
                    <a:pt x="594" y="2119"/>
                  </a:lnTo>
                  <a:lnTo>
                    <a:pt x="608" y="2101"/>
                  </a:lnTo>
                  <a:lnTo>
                    <a:pt x="622" y="2081"/>
                  </a:lnTo>
                  <a:lnTo>
                    <a:pt x="634" y="2061"/>
                  </a:lnTo>
                  <a:lnTo>
                    <a:pt x="646" y="2038"/>
                  </a:lnTo>
                  <a:lnTo>
                    <a:pt x="659" y="2014"/>
                  </a:lnTo>
                  <a:lnTo>
                    <a:pt x="681" y="1964"/>
                  </a:lnTo>
                  <a:lnTo>
                    <a:pt x="700" y="1911"/>
                  </a:lnTo>
                  <a:lnTo>
                    <a:pt x="708" y="1883"/>
                  </a:lnTo>
                  <a:lnTo>
                    <a:pt x="716" y="1854"/>
                  </a:lnTo>
                  <a:lnTo>
                    <a:pt x="723" y="1825"/>
                  </a:lnTo>
                  <a:lnTo>
                    <a:pt x="729" y="1796"/>
                  </a:lnTo>
                  <a:lnTo>
                    <a:pt x="735" y="1765"/>
                  </a:lnTo>
                  <a:lnTo>
                    <a:pt x="739" y="1733"/>
                  </a:lnTo>
                  <a:lnTo>
                    <a:pt x="747" y="1668"/>
                  </a:lnTo>
                  <a:lnTo>
                    <a:pt x="751" y="1599"/>
                  </a:lnTo>
                  <a:lnTo>
                    <a:pt x="753" y="1529"/>
                  </a:lnTo>
                  <a:lnTo>
                    <a:pt x="753" y="1512"/>
                  </a:lnTo>
                  <a:lnTo>
                    <a:pt x="752" y="1496"/>
                  </a:lnTo>
                  <a:lnTo>
                    <a:pt x="752" y="1480"/>
                  </a:lnTo>
                  <a:lnTo>
                    <a:pt x="751" y="1463"/>
                  </a:lnTo>
                  <a:lnTo>
                    <a:pt x="750" y="1449"/>
                  </a:lnTo>
                  <a:lnTo>
                    <a:pt x="749" y="1435"/>
                  </a:lnTo>
                  <a:lnTo>
                    <a:pt x="746" y="1420"/>
                  </a:lnTo>
                  <a:lnTo>
                    <a:pt x="745" y="1406"/>
                  </a:lnTo>
                  <a:lnTo>
                    <a:pt x="742" y="1393"/>
                  </a:lnTo>
                  <a:lnTo>
                    <a:pt x="739" y="1379"/>
                  </a:lnTo>
                  <a:lnTo>
                    <a:pt x="735" y="1366"/>
                  </a:lnTo>
                  <a:lnTo>
                    <a:pt x="731" y="1353"/>
                  </a:lnTo>
                  <a:lnTo>
                    <a:pt x="726" y="1341"/>
                  </a:lnTo>
                  <a:lnTo>
                    <a:pt x="721" y="1330"/>
                  </a:lnTo>
                  <a:lnTo>
                    <a:pt x="715" y="1317"/>
                  </a:lnTo>
                  <a:lnTo>
                    <a:pt x="709" y="1305"/>
                  </a:lnTo>
                  <a:lnTo>
                    <a:pt x="703" y="1294"/>
                  </a:lnTo>
                  <a:lnTo>
                    <a:pt x="696" y="1285"/>
                  </a:lnTo>
                  <a:lnTo>
                    <a:pt x="689" y="1274"/>
                  </a:lnTo>
                  <a:lnTo>
                    <a:pt x="681" y="1265"/>
                  </a:lnTo>
                  <a:lnTo>
                    <a:pt x="672" y="1258"/>
                  </a:lnTo>
                  <a:lnTo>
                    <a:pt x="664" y="1249"/>
                  </a:lnTo>
                  <a:lnTo>
                    <a:pt x="654" y="1243"/>
                  </a:lnTo>
                  <a:lnTo>
                    <a:pt x="644" y="1236"/>
                  </a:lnTo>
                  <a:lnTo>
                    <a:pt x="633" y="1230"/>
                  </a:lnTo>
                  <a:lnTo>
                    <a:pt x="622" y="1225"/>
                  </a:lnTo>
                  <a:lnTo>
                    <a:pt x="609" y="1221"/>
                  </a:lnTo>
                  <a:lnTo>
                    <a:pt x="597" y="1218"/>
                  </a:lnTo>
                  <a:lnTo>
                    <a:pt x="584" y="1214"/>
                  </a:lnTo>
                  <a:lnTo>
                    <a:pt x="570" y="1212"/>
                  </a:lnTo>
                  <a:lnTo>
                    <a:pt x="541" y="1211"/>
                  </a:lnTo>
                  <a:lnTo>
                    <a:pt x="421" y="1211"/>
                  </a:lnTo>
                  <a:lnTo>
                    <a:pt x="447" y="1023"/>
                  </a:lnTo>
                  <a:lnTo>
                    <a:pt x="538" y="1023"/>
                  </a:lnTo>
                  <a:lnTo>
                    <a:pt x="572" y="1021"/>
                  </a:lnTo>
                  <a:lnTo>
                    <a:pt x="603" y="1014"/>
                  </a:lnTo>
                  <a:lnTo>
                    <a:pt x="632" y="1001"/>
                  </a:lnTo>
                  <a:lnTo>
                    <a:pt x="646" y="992"/>
                  </a:lnTo>
                  <a:lnTo>
                    <a:pt x="659" y="983"/>
                  </a:lnTo>
                  <a:lnTo>
                    <a:pt x="671" y="972"/>
                  </a:lnTo>
                  <a:lnTo>
                    <a:pt x="683" y="961"/>
                  </a:lnTo>
                  <a:lnTo>
                    <a:pt x="695" y="949"/>
                  </a:lnTo>
                  <a:lnTo>
                    <a:pt x="707" y="934"/>
                  </a:lnTo>
                  <a:lnTo>
                    <a:pt x="717" y="918"/>
                  </a:lnTo>
                  <a:lnTo>
                    <a:pt x="727" y="902"/>
                  </a:lnTo>
                  <a:lnTo>
                    <a:pt x="737" y="884"/>
                  </a:lnTo>
                  <a:lnTo>
                    <a:pt x="746" y="864"/>
                  </a:lnTo>
                  <a:lnTo>
                    <a:pt x="755" y="844"/>
                  </a:lnTo>
                  <a:lnTo>
                    <a:pt x="763" y="822"/>
                  </a:lnTo>
                  <a:lnTo>
                    <a:pt x="770" y="800"/>
                  </a:lnTo>
                  <a:lnTo>
                    <a:pt x="777" y="779"/>
                  </a:lnTo>
                  <a:lnTo>
                    <a:pt x="783" y="755"/>
                  </a:lnTo>
                  <a:lnTo>
                    <a:pt x="789" y="732"/>
                  </a:lnTo>
                  <a:lnTo>
                    <a:pt x="794" y="707"/>
                  </a:lnTo>
                  <a:lnTo>
                    <a:pt x="800" y="681"/>
                  </a:lnTo>
                  <a:lnTo>
                    <a:pt x="807" y="627"/>
                  </a:lnTo>
                  <a:lnTo>
                    <a:pt x="813" y="571"/>
                  </a:lnTo>
                  <a:lnTo>
                    <a:pt x="816" y="511"/>
                  </a:lnTo>
                  <a:lnTo>
                    <a:pt x="817" y="450"/>
                  </a:lnTo>
                  <a:lnTo>
                    <a:pt x="816" y="419"/>
                  </a:lnTo>
                  <a:lnTo>
                    <a:pt x="814" y="389"/>
                  </a:lnTo>
                  <a:lnTo>
                    <a:pt x="811" y="360"/>
                  </a:lnTo>
                  <a:lnTo>
                    <a:pt x="806" y="333"/>
                  </a:lnTo>
                  <a:lnTo>
                    <a:pt x="800" y="307"/>
                  </a:lnTo>
                  <a:lnTo>
                    <a:pt x="794" y="282"/>
                  </a:lnTo>
                  <a:lnTo>
                    <a:pt x="786" y="259"/>
                  </a:lnTo>
                  <a:lnTo>
                    <a:pt x="776" y="235"/>
                  </a:lnTo>
                  <a:lnTo>
                    <a:pt x="771" y="224"/>
                  </a:lnTo>
                  <a:lnTo>
                    <a:pt x="765" y="213"/>
                  </a:lnTo>
                  <a:lnTo>
                    <a:pt x="759" y="204"/>
                  </a:lnTo>
                  <a:lnTo>
                    <a:pt x="753" y="195"/>
                  </a:lnTo>
                  <a:lnTo>
                    <a:pt x="747" y="188"/>
                  </a:lnTo>
                  <a:lnTo>
                    <a:pt x="740" y="181"/>
                  </a:lnTo>
                  <a:lnTo>
                    <a:pt x="732" y="174"/>
                  </a:lnTo>
                  <a:lnTo>
                    <a:pt x="726" y="168"/>
                  </a:lnTo>
                  <a:lnTo>
                    <a:pt x="709" y="159"/>
                  </a:lnTo>
                  <a:lnTo>
                    <a:pt x="693" y="152"/>
                  </a:lnTo>
                  <a:lnTo>
                    <a:pt x="675" y="148"/>
                  </a:lnTo>
                  <a:lnTo>
                    <a:pt x="655" y="147"/>
                  </a:lnTo>
                  <a:lnTo>
                    <a:pt x="641" y="147"/>
                  </a:lnTo>
                  <a:lnTo>
                    <a:pt x="628" y="150"/>
                  </a:lnTo>
                  <a:lnTo>
                    <a:pt x="614" y="154"/>
                  </a:lnTo>
                  <a:lnTo>
                    <a:pt x="600" y="159"/>
                  </a:lnTo>
                  <a:lnTo>
                    <a:pt x="572" y="174"/>
                  </a:lnTo>
                  <a:lnTo>
                    <a:pt x="544" y="195"/>
                  </a:lnTo>
                  <a:lnTo>
                    <a:pt x="517" y="222"/>
                  </a:lnTo>
                  <a:lnTo>
                    <a:pt x="488" y="257"/>
                  </a:lnTo>
                  <a:lnTo>
                    <a:pt x="460" y="296"/>
                  </a:lnTo>
                  <a:lnTo>
                    <a:pt x="431" y="343"/>
                  </a:lnTo>
                  <a:lnTo>
                    <a:pt x="403" y="394"/>
                  </a:lnTo>
                  <a:lnTo>
                    <a:pt x="376" y="448"/>
                  </a:lnTo>
                  <a:lnTo>
                    <a:pt x="350" y="508"/>
                  </a:lnTo>
                  <a:lnTo>
                    <a:pt x="325" y="569"/>
                  </a:lnTo>
                  <a:lnTo>
                    <a:pt x="300" y="636"/>
                  </a:lnTo>
                  <a:lnTo>
                    <a:pt x="276" y="707"/>
                  </a:lnTo>
                  <a:lnTo>
                    <a:pt x="253" y="781"/>
                  </a:lnTo>
                  <a:lnTo>
                    <a:pt x="231" y="858"/>
                  </a:lnTo>
                  <a:lnTo>
                    <a:pt x="154" y="858"/>
                  </a:lnTo>
                  <a:lnTo>
                    <a:pt x="262" y="62"/>
                  </a:lnTo>
                  <a:lnTo>
                    <a:pt x="338" y="62"/>
                  </a:lnTo>
                  <a:lnTo>
                    <a:pt x="380" y="148"/>
                  </a:lnTo>
                  <a:lnTo>
                    <a:pt x="417" y="119"/>
                  </a:lnTo>
                  <a:lnTo>
                    <a:pt x="456" y="92"/>
                  </a:lnTo>
                  <a:lnTo>
                    <a:pt x="497" y="67"/>
                  </a:lnTo>
                  <a:lnTo>
                    <a:pt x="540" y="44"/>
                  </a:lnTo>
                  <a:lnTo>
                    <a:pt x="562" y="33"/>
                  </a:lnTo>
                  <a:lnTo>
                    <a:pt x="585" y="26"/>
                  </a:lnTo>
                  <a:lnTo>
                    <a:pt x="633" y="11"/>
                  </a:lnTo>
                  <a:lnTo>
                    <a:pt x="683" y="4"/>
                  </a:lnTo>
                  <a:lnTo>
                    <a:pt x="736" y="0"/>
                  </a:lnTo>
                  <a:lnTo>
                    <a:pt x="782" y="2"/>
                  </a:lnTo>
                  <a:lnTo>
                    <a:pt x="826" y="7"/>
                  </a:lnTo>
                  <a:lnTo>
                    <a:pt x="868" y="18"/>
                  </a:lnTo>
                  <a:lnTo>
                    <a:pt x="906" y="31"/>
                  </a:lnTo>
                  <a:lnTo>
                    <a:pt x="942" y="49"/>
                  </a:lnTo>
                  <a:lnTo>
                    <a:pt x="976" y="69"/>
                  </a:lnTo>
                  <a:lnTo>
                    <a:pt x="1008" y="94"/>
                  </a:lnTo>
                  <a:lnTo>
                    <a:pt x="1036" y="123"/>
                  </a:lnTo>
                  <a:lnTo>
                    <a:pt x="1062" y="156"/>
                  </a:lnTo>
                  <a:lnTo>
                    <a:pt x="1073" y="172"/>
                  </a:lnTo>
                  <a:lnTo>
                    <a:pt x="1084" y="190"/>
                  </a:lnTo>
                  <a:lnTo>
                    <a:pt x="1094" y="208"/>
                  </a:lnTo>
                  <a:lnTo>
                    <a:pt x="1103" y="228"/>
                  </a:lnTo>
                  <a:lnTo>
                    <a:pt x="1111" y="246"/>
                  </a:lnTo>
                  <a:lnTo>
                    <a:pt x="1119" y="268"/>
                  </a:lnTo>
                  <a:lnTo>
                    <a:pt x="1125" y="287"/>
                  </a:lnTo>
                  <a:lnTo>
                    <a:pt x="1131" y="309"/>
                  </a:lnTo>
                  <a:lnTo>
                    <a:pt x="1135" y="331"/>
                  </a:lnTo>
                  <a:lnTo>
                    <a:pt x="1139" y="354"/>
                  </a:lnTo>
                  <a:lnTo>
                    <a:pt x="1142" y="376"/>
                  </a:lnTo>
                  <a:lnTo>
                    <a:pt x="1145" y="401"/>
                  </a:lnTo>
                  <a:lnTo>
                    <a:pt x="1145" y="425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60680" y="768240"/>
              <a:ext cx="385560" cy="592200"/>
            </a:xfrm>
            <a:custGeom>
              <a:avLst/>
              <a:gdLst/>
              <a:ahLst/>
              <a:rect l="l" t="t" r="r" b="b"/>
              <a:pathLst>
                <a:path w="1073" h="1646">
                  <a:moveTo>
                    <a:pt x="590" y="1401"/>
                  </a:moveTo>
                  <a:lnTo>
                    <a:pt x="583" y="1401"/>
                  </a:lnTo>
                  <a:lnTo>
                    <a:pt x="527" y="1486"/>
                  </a:lnTo>
                  <a:lnTo>
                    <a:pt x="520" y="1497"/>
                  </a:lnTo>
                  <a:lnTo>
                    <a:pt x="512" y="1506"/>
                  </a:lnTo>
                  <a:lnTo>
                    <a:pt x="497" y="1526"/>
                  </a:lnTo>
                  <a:lnTo>
                    <a:pt x="479" y="1546"/>
                  </a:lnTo>
                  <a:lnTo>
                    <a:pt x="459" y="1566"/>
                  </a:lnTo>
                  <a:lnTo>
                    <a:pt x="441" y="1582"/>
                  </a:lnTo>
                  <a:lnTo>
                    <a:pt x="423" y="1596"/>
                  </a:lnTo>
                  <a:lnTo>
                    <a:pt x="404" y="1609"/>
                  </a:lnTo>
                  <a:lnTo>
                    <a:pt x="384" y="1622"/>
                  </a:lnTo>
                  <a:lnTo>
                    <a:pt x="375" y="1627"/>
                  </a:lnTo>
                  <a:lnTo>
                    <a:pt x="364" y="1633"/>
                  </a:lnTo>
                  <a:lnTo>
                    <a:pt x="354" y="1636"/>
                  </a:lnTo>
                  <a:lnTo>
                    <a:pt x="343" y="1640"/>
                  </a:lnTo>
                  <a:lnTo>
                    <a:pt x="332" y="1642"/>
                  </a:lnTo>
                  <a:lnTo>
                    <a:pt x="321" y="1643"/>
                  </a:lnTo>
                  <a:lnTo>
                    <a:pt x="297" y="1645"/>
                  </a:lnTo>
                  <a:lnTo>
                    <a:pt x="262" y="1643"/>
                  </a:lnTo>
                  <a:lnTo>
                    <a:pt x="228" y="1634"/>
                  </a:lnTo>
                  <a:lnTo>
                    <a:pt x="197" y="1622"/>
                  </a:lnTo>
                  <a:lnTo>
                    <a:pt x="168" y="1605"/>
                  </a:lnTo>
                  <a:lnTo>
                    <a:pt x="154" y="1595"/>
                  </a:lnTo>
                  <a:lnTo>
                    <a:pt x="142" y="1582"/>
                  </a:lnTo>
                  <a:lnTo>
                    <a:pt x="130" y="1569"/>
                  </a:lnTo>
                  <a:lnTo>
                    <a:pt x="117" y="1555"/>
                  </a:lnTo>
                  <a:lnTo>
                    <a:pt x="106" y="1539"/>
                  </a:lnTo>
                  <a:lnTo>
                    <a:pt x="95" y="1522"/>
                  </a:lnTo>
                  <a:lnTo>
                    <a:pt x="85" y="1504"/>
                  </a:lnTo>
                  <a:lnTo>
                    <a:pt x="75" y="1484"/>
                  </a:lnTo>
                  <a:lnTo>
                    <a:pt x="66" y="1465"/>
                  </a:lnTo>
                  <a:lnTo>
                    <a:pt x="58" y="1443"/>
                  </a:lnTo>
                  <a:lnTo>
                    <a:pt x="50" y="1419"/>
                  </a:lnTo>
                  <a:lnTo>
                    <a:pt x="43" y="1396"/>
                  </a:lnTo>
                  <a:lnTo>
                    <a:pt x="36" y="1372"/>
                  </a:lnTo>
                  <a:lnTo>
                    <a:pt x="30" y="1347"/>
                  </a:lnTo>
                  <a:lnTo>
                    <a:pt x="25" y="1320"/>
                  </a:lnTo>
                  <a:lnTo>
                    <a:pt x="19" y="1293"/>
                  </a:lnTo>
                  <a:lnTo>
                    <a:pt x="11" y="1235"/>
                  </a:lnTo>
                  <a:lnTo>
                    <a:pt x="5" y="1176"/>
                  </a:lnTo>
                  <a:lnTo>
                    <a:pt x="1" y="1111"/>
                  </a:lnTo>
                  <a:lnTo>
                    <a:pt x="0" y="1042"/>
                  </a:lnTo>
                  <a:lnTo>
                    <a:pt x="1" y="989"/>
                  </a:lnTo>
                  <a:lnTo>
                    <a:pt x="3" y="937"/>
                  </a:lnTo>
                  <a:lnTo>
                    <a:pt x="6" y="885"/>
                  </a:lnTo>
                  <a:lnTo>
                    <a:pt x="11" y="834"/>
                  </a:lnTo>
                  <a:lnTo>
                    <a:pt x="17" y="784"/>
                  </a:lnTo>
                  <a:lnTo>
                    <a:pt x="24" y="735"/>
                  </a:lnTo>
                  <a:lnTo>
                    <a:pt x="32" y="686"/>
                  </a:lnTo>
                  <a:lnTo>
                    <a:pt x="42" y="639"/>
                  </a:lnTo>
                  <a:lnTo>
                    <a:pt x="53" y="592"/>
                  </a:lnTo>
                  <a:lnTo>
                    <a:pt x="65" y="547"/>
                  </a:lnTo>
                  <a:lnTo>
                    <a:pt x="77" y="504"/>
                  </a:lnTo>
                  <a:lnTo>
                    <a:pt x="91" y="462"/>
                  </a:lnTo>
                  <a:lnTo>
                    <a:pt x="105" y="420"/>
                  </a:lnTo>
                  <a:lnTo>
                    <a:pt x="121" y="381"/>
                  </a:lnTo>
                  <a:lnTo>
                    <a:pt x="136" y="343"/>
                  </a:lnTo>
                  <a:lnTo>
                    <a:pt x="154" y="307"/>
                  </a:lnTo>
                  <a:lnTo>
                    <a:pt x="172" y="272"/>
                  </a:lnTo>
                  <a:lnTo>
                    <a:pt x="190" y="240"/>
                  </a:lnTo>
                  <a:lnTo>
                    <a:pt x="210" y="209"/>
                  </a:lnTo>
                  <a:lnTo>
                    <a:pt x="229" y="180"/>
                  </a:lnTo>
                  <a:lnTo>
                    <a:pt x="251" y="153"/>
                  </a:lnTo>
                  <a:lnTo>
                    <a:pt x="272" y="128"/>
                  </a:lnTo>
                  <a:lnTo>
                    <a:pt x="295" y="104"/>
                  </a:lnTo>
                  <a:lnTo>
                    <a:pt x="318" y="83"/>
                  </a:lnTo>
                  <a:lnTo>
                    <a:pt x="342" y="63"/>
                  </a:lnTo>
                  <a:lnTo>
                    <a:pt x="366" y="46"/>
                  </a:lnTo>
                  <a:lnTo>
                    <a:pt x="390" y="32"/>
                  </a:lnTo>
                  <a:lnTo>
                    <a:pt x="415" y="19"/>
                  </a:lnTo>
                  <a:lnTo>
                    <a:pt x="440" y="10"/>
                  </a:lnTo>
                  <a:lnTo>
                    <a:pt x="465" y="5"/>
                  </a:lnTo>
                  <a:lnTo>
                    <a:pt x="491" y="1"/>
                  </a:lnTo>
                  <a:lnTo>
                    <a:pt x="517" y="0"/>
                  </a:lnTo>
                  <a:lnTo>
                    <a:pt x="554" y="1"/>
                  </a:lnTo>
                  <a:lnTo>
                    <a:pt x="588" y="9"/>
                  </a:lnTo>
                  <a:lnTo>
                    <a:pt x="604" y="12"/>
                  </a:lnTo>
                  <a:lnTo>
                    <a:pt x="620" y="18"/>
                  </a:lnTo>
                  <a:lnTo>
                    <a:pt x="635" y="25"/>
                  </a:lnTo>
                  <a:lnTo>
                    <a:pt x="650" y="32"/>
                  </a:lnTo>
                  <a:lnTo>
                    <a:pt x="678" y="50"/>
                  </a:lnTo>
                  <a:lnTo>
                    <a:pt x="690" y="61"/>
                  </a:lnTo>
                  <a:lnTo>
                    <a:pt x="702" y="72"/>
                  </a:lnTo>
                  <a:lnTo>
                    <a:pt x="714" y="83"/>
                  </a:lnTo>
                  <a:lnTo>
                    <a:pt x="724" y="95"/>
                  </a:lnTo>
                  <a:lnTo>
                    <a:pt x="734" y="108"/>
                  </a:lnTo>
                  <a:lnTo>
                    <a:pt x="744" y="122"/>
                  </a:lnTo>
                  <a:lnTo>
                    <a:pt x="1004" y="23"/>
                  </a:lnTo>
                  <a:lnTo>
                    <a:pt x="1017" y="48"/>
                  </a:lnTo>
                  <a:lnTo>
                    <a:pt x="892" y="1017"/>
                  </a:lnTo>
                  <a:lnTo>
                    <a:pt x="888" y="1042"/>
                  </a:lnTo>
                  <a:lnTo>
                    <a:pt x="885" y="1071"/>
                  </a:lnTo>
                  <a:lnTo>
                    <a:pt x="877" y="1138"/>
                  </a:lnTo>
                  <a:lnTo>
                    <a:pt x="874" y="1172"/>
                  </a:lnTo>
                  <a:lnTo>
                    <a:pt x="871" y="1203"/>
                  </a:lnTo>
                  <a:lnTo>
                    <a:pt x="870" y="1228"/>
                  </a:lnTo>
                  <a:lnTo>
                    <a:pt x="869" y="1239"/>
                  </a:lnTo>
                  <a:lnTo>
                    <a:pt x="869" y="1250"/>
                  </a:lnTo>
                  <a:lnTo>
                    <a:pt x="869" y="1271"/>
                  </a:lnTo>
                  <a:lnTo>
                    <a:pt x="871" y="1291"/>
                  </a:lnTo>
                  <a:lnTo>
                    <a:pt x="873" y="1309"/>
                  </a:lnTo>
                  <a:lnTo>
                    <a:pt x="874" y="1316"/>
                  </a:lnTo>
                  <a:lnTo>
                    <a:pt x="875" y="1325"/>
                  </a:lnTo>
                  <a:lnTo>
                    <a:pt x="876" y="1333"/>
                  </a:lnTo>
                  <a:lnTo>
                    <a:pt x="878" y="1340"/>
                  </a:lnTo>
                  <a:lnTo>
                    <a:pt x="880" y="1347"/>
                  </a:lnTo>
                  <a:lnTo>
                    <a:pt x="882" y="1353"/>
                  </a:lnTo>
                  <a:lnTo>
                    <a:pt x="884" y="1358"/>
                  </a:lnTo>
                  <a:lnTo>
                    <a:pt x="887" y="1363"/>
                  </a:lnTo>
                  <a:lnTo>
                    <a:pt x="889" y="1369"/>
                  </a:lnTo>
                  <a:lnTo>
                    <a:pt x="892" y="1372"/>
                  </a:lnTo>
                  <a:lnTo>
                    <a:pt x="894" y="1376"/>
                  </a:lnTo>
                  <a:lnTo>
                    <a:pt x="898" y="1381"/>
                  </a:lnTo>
                  <a:lnTo>
                    <a:pt x="901" y="1385"/>
                  </a:lnTo>
                  <a:lnTo>
                    <a:pt x="905" y="1387"/>
                  </a:lnTo>
                  <a:lnTo>
                    <a:pt x="912" y="1394"/>
                  </a:lnTo>
                  <a:lnTo>
                    <a:pt x="922" y="1398"/>
                  </a:lnTo>
                  <a:lnTo>
                    <a:pt x="931" y="1401"/>
                  </a:lnTo>
                  <a:lnTo>
                    <a:pt x="943" y="1405"/>
                  </a:lnTo>
                  <a:lnTo>
                    <a:pt x="955" y="1407"/>
                  </a:lnTo>
                  <a:lnTo>
                    <a:pt x="968" y="1407"/>
                  </a:lnTo>
                  <a:lnTo>
                    <a:pt x="974" y="1407"/>
                  </a:lnTo>
                  <a:lnTo>
                    <a:pt x="980" y="1405"/>
                  </a:lnTo>
                  <a:lnTo>
                    <a:pt x="994" y="1403"/>
                  </a:lnTo>
                  <a:lnTo>
                    <a:pt x="1009" y="1398"/>
                  </a:lnTo>
                  <a:lnTo>
                    <a:pt x="1025" y="1391"/>
                  </a:lnTo>
                  <a:lnTo>
                    <a:pt x="1054" y="1374"/>
                  </a:lnTo>
                  <a:lnTo>
                    <a:pt x="1064" y="1367"/>
                  </a:lnTo>
                  <a:lnTo>
                    <a:pt x="1072" y="1362"/>
                  </a:lnTo>
                  <a:lnTo>
                    <a:pt x="1054" y="1503"/>
                  </a:lnTo>
                  <a:lnTo>
                    <a:pt x="919" y="1596"/>
                  </a:lnTo>
                  <a:lnTo>
                    <a:pt x="906" y="1604"/>
                  </a:lnTo>
                  <a:lnTo>
                    <a:pt x="893" y="1611"/>
                  </a:lnTo>
                  <a:lnTo>
                    <a:pt x="879" y="1616"/>
                  </a:lnTo>
                  <a:lnTo>
                    <a:pt x="865" y="1622"/>
                  </a:lnTo>
                  <a:lnTo>
                    <a:pt x="850" y="1624"/>
                  </a:lnTo>
                  <a:lnTo>
                    <a:pt x="834" y="1627"/>
                  </a:lnTo>
                  <a:lnTo>
                    <a:pt x="802" y="1629"/>
                  </a:lnTo>
                  <a:lnTo>
                    <a:pt x="781" y="1627"/>
                  </a:lnTo>
                  <a:lnTo>
                    <a:pt x="761" y="1625"/>
                  </a:lnTo>
                  <a:lnTo>
                    <a:pt x="741" y="1620"/>
                  </a:lnTo>
                  <a:lnTo>
                    <a:pt x="724" y="1613"/>
                  </a:lnTo>
                  <a:lnTo>
                    <a:pt x="707" y="1604"/>
                  </a:lnTo>
                  <a:lnTo>
                    <a:pt x="691" y="1593"/>
                  </a:lnTo>
                  <a:lnTo>
                    <a:pt x="677" y="1580"/>
                  </a:lnTo>
                  <a:lnTo>
                    <a:pt x="663" y="1566"/>
                  </a:lnTo>
                  <a:lnTo>
                    <a:pt x="650" y="1549"/>
                  </a:lnTo>
                  <a:lnTo>
                    <a:pt x="639" y="1531"/>
                  </a:lnTo>
                  <a:lnTo>
                    <a:pt x="628" y="1512"/>
                  </a:lnTo>
                  <a:lnTo>
                    <a:pt x="618" y="1492"/>
                  </a:lnTo>
                  <a:lnTo>
                    <a:pt x="610" y="1472"/>
                  </a:lnTo>
                  <a:lnTo>
                    <a:pt x="602" y="1448"/>
                  </a:lnTo>
                  <a:lnTo>
                    <a:pt x="596" y="1427"/>
                  </a:lnTo>
                  <a:close/>
                  <a:moveTo>
                    <a:pt x="691" y="402"/>
                  </a:moveTo>
                  <a:lnTo>
                    <a:pt x="691" y="393"/>
                  </a:lnTo>
                  <a:lnTo>
                    <a:pt x="691" y="384"/>
                  </a:lnTo>
                  <a:lnTo>
                    <a:pt x="690" y="364"/>
                  </a:lnTo>
                  <a:lnTo>
                    <a:pt x="689" y="343"/>
                  </a:lnTo>
                  <a:lnTo>
                    <a:pt x="686" y="321"/>
                  </a:lnTo>
                  <a:lnTo>
                    <a:pt x="684" y="308"/>
                  </a:lnTo>
                  <a:lnTo>
                    <a:pt x="683" y="298"/>
                  </a:lnTo>
                  <a:lnTo>
                    <a:pt x="681" y="287"/>
                  </a:lnTo>
                  <a:lnTo>
                    <a:pt x="679" y="276"/>
                  </a:lnTo>
                  <a:lnTo>
                    <a:pt x="677" y="267"/>
                  </a:lnTo>
                  <a:lnTo>
                    <a:pt x="674" y="258"/>
                  </a:lnTo>
                  <a:lnTo>
                    <a:pt x="672" y="249"/>
                  </a:lnTo>
                  <a:lnTo>
                    <a:pt x="668" y="240"/>
                  </a:lnTo>
                  <a:lnTo>
                    <a:pt x="664" y="231"/>
                  </a:lnTo>
                  <a:lnTo>
                    <a:pt x="659" y="220"/>
                  </a:lnTo>
                  <a:lnTo>
                    <a:pt x="655" y="213"/>
                  </a:lnTo>
                  <a:lnTo>
                    <a:pt x="651" y="204"/>
                  </a:lnTo>
                  <a:lnTo>
                    <a:pt x="646" y="196"/>
                  </a:lnTo>
                  <a:lnTo>
                    <a:pt x="641" y="191"/>
                  </a:lnTo>
                  <a:lnTo>
                    <a:pt x="635" y="184"/>
                  </a:lnTo>
                  <a:lnTo>
                    <a:pt x="629" y="178"/>
                  </a:lnTo>
                  <a:lnTo>
                    <a:pt x="622" y="173"/>
                  </a:lnTo>
                  <a:lnTo>
                    <a:pt x="616" y="169"/>
                  </a:lnTo>
                  <a:lnTo>
                    <a:pt x="609" y="166"/>
                  </a:lnTo>
                  <a:lnTo>
                    <a:pt x="601" y="162"/>
                  </a:lnTo>
                  <a:lnTo>
                    <a:pt x="593" y="160"/>
                  </a:lnTo>
                  <a:lnTo>
                    <a:pt x="585" y="158"/>
                  </a:lnTo>
                  <a:lnTo>
                    <a:pt x="576" y="157"/>
                  </a:lnTo>
                  <a:lnTo>
                    <a:pt x="567" y="157"/>
                  </a:lnTo>
                  <a:lnTo>
                    <a:pt x="554" y="158"/>
                  </a:lnTo>
                  <a:lnTo>
                    <a:pt x="540" y="162"/>
                  </a:lnTo>
                  <a:lnTo>
                    <a:pt x="526" y="168"/>
                  </a:lnTo>
                  <a:lnTo>
                    <a:pt x="513" y="175"/>
                  </a:lnTo>
                  <a:lnTo>
                    <a:pt x="500" y="186"/>
                  </a:lnTo>
                  <a:lnTo>
                    <a:pt x="488" y="198"/>
                  </a:lnTo>
                  <a:lnTo>
                    <a:pt x="476" y="213"/>
                  </a:lnTo>
                  <a:lnTo>
                    <a:pt x="464" y="231"/>
                  </a:lnTo>
                  <a:lnTo>
                    <a:pt x="452" y="251"/>
                  </a:lnTo>
                  <a:lnTo>
                    <a:pt x="441" y="272"/>
                  </a:lnTo>
                  <a:lnTo>
                    <a:pt x="430" y="294"/>
                  </a:lnTo>
                  <a:lnTo>
                    <a:pt x="419" y="319"/>
                  </a:lnTo>
                  <a:lnTo>
                    <a:pt x="409" y="345"/>
                  </a:lnTo>
                  <a:lnTo>
                    <a:pt x="400" y="372"/>
                  </a:lnTo>
                  <a:lnTo>
                    <a:pt x="390" y="401"/>
                  </a:lnTo>
                  <a:lnTo>
                    <a:pt x="381" y="429"/>
                  </a:lnTo>
                  <a:lnTo>
                    <a:pt x="372" y="462"/>
                  </a:lnTo>
                  <a:lnTo>
                    <a:pt x="364" y="495"/>
                  </a:lnTo>
                  <a:lnTo>
                    <a:pt x="356" y="527"/>
                  </a:lnTo>
                  <a:lnTo>
                    <a:pt x="349" y="563"/>
                  </a:lnTo>
                  <a:lnTo>
                    <a:pt x="342" y="599"/>
                  </a:lnTo>
                  <a:lnTo>
                    <a:pt x="336" y="635"/>
                  </a:lnTo>
                  <a:lnTo>
                    <a:pt x="330" y="675"/>
                  </a:lnTo>
                  <a:lnTo>
                    <a:pt x="325" y="715"/>
                  </a:lnTo>
                  <a:lnTo>
                    <a:pt x="320" y="756"/>
                  </a:lnTo>
                  <a:lnTo>
                    <a:pt x="316" y="796"/>
                  </a:lnTo>
                  <a:lnTo>
                    <a:pt x="312" y="838"/>
                  </a:lnTo>
                  <a:lnTo>
                    <a:pt x="309" y="879"/>
                  </a:lnTo>
                  <a:lnTo>
                    <a:pt x="307" y="921"/>
                  </a:lnTo>
                  <a:lnTo>
                    <a:pt x="306" y="964"/>
                  </a:lnTo>
                  <a:lnTo>
                    <a:pt x="304" y="1006"/>
                  </a:lnTo>
                  <a:lnTo>
                    <a:pt x="304" y="1047"/>
                  </a:lnTo>
                  <a:lnTo>
                    <a:pt x="304" y="1085"/>
                  </a:lnTo>
                  <a:lnTo>
                    <a:pt x="306" y="1123"/>
                  </a:lnTo>
                  <a:lnTo>
                    <a:pt x="308" y="1157"/>
                  </a:lnTo>
                  <a:lnTo>
                    <a:pt x="310" y="1192"/>
                  </a:lnTo>
                  <a:lnTo>
                    <a:pt x="312" y="1208"/>
                  </a:lnTo>
                  <a:lnTo>
                    <a:pt x="314" y="1223"/>
                  </a:lnTo>
                  <a:lnTo>
                    <a:pt x="316" y="1239"/>
                  </a:lnTo>
                  <a:lnTo>
                    <a:pt x="319" y="1253"/>
                  </a:lnTo>
                  <a:lnTo>
                    <a:pt x="321" y="1266"/>
                  </a:lnTo>
                  <a:lnTo>
                    <a:pt x="325" y="1279"/>
                  </a:lnTo>
                  <a:lnTo>
                    <a:pt x="328" y="1291"/>
                  </a:lnTo>
                  <a:lnTo>
                    <a:pt x="332" y="1302"/>
                  </a:lnTo>
                  <a:lnTo>
                    <a:pt x="335" y="1315"/>
                  </a:lnTo>
                  <a:lnTo>
                    <a:pt x="339" y="1325"/>
                  </a:lnTo>
                  <a:lnTo>
                    <a:pt x="344" y="1336"/>
                  </a:lnTo>
                  <a:lnTo>
                    <a:pt x="349" y="1345"/>
                  </a:lnTo>
                  <a:lnTo>
                    <a:pt x="354" y="1354"/>
                  </a:lnTo>
                  <a:lnTo>
                    <a:pt x="360" y="1363"/>
                  </a:lnTo>
                  <a:lnTo>
                    <a:pt x="366" y="1371"/>
                  </a:lnTo>
                  <a:lnTo>
                    <a:pt x="372" y="1378"/>
                  </a:lnTo>
                  <a:lnTo>
                    <a:pt x="379" y="1385"/>
                  </a:lnTo>
                  <a:lnTo>
                    <a:pt x="386" y="1391"/>
                  </a:lnTo>
                  <a:lnTo>
                    <a:pt x="394" y="1394"/>
                  </a:lnTo>
                  <a:lnTo>
                    <a:pt x="401" y="1398"/>
                  </a:lnTo>
                  <a:lnTo>
                    <a:pt x="410" y="1401"/>
                  </a:lnTo>
                  <a:lnTo>
                    <a:pt x="419" y="1403"/>
                  </a:lnTo>
                  <a:lnTo>
                    <a:pt x="428" y="1405"/>
                  </a:lnTo>
                  <a:lnTo>
                    <a:pt x="438" y="1405"/>
                  </a:lnTo>
                  <a:lnTo>
                    <a:pt x="448" y="1405"/>
                  </a:lnTo>
                  <a:lnTo>
                    <a:pt x="457" y="1403"/>
                  </a:lnTo>
                  <a:lnTo>
                    <a:pt x="467" y="1400"/>
                  </a:lnTo>
                  <a:lnTo>
                    <a:pt x="477" y="1394"/>
                  </a:lnTo>
                  <a:lnTo>
                    <a:pt x="487" y="1389"/>
                  </a:lnTo>
                  <a:lnTo>
                    <a:pt x="496" y="1381"/>
                  </a:lnTo>
                  <a:lnTo>
                    <a:pt x="505" y="1372"/>
                  </a:lnTo>
                  <a:lnTo>
                    <a:pt x="514" y="1362"/>
                  </a:lnTo>
                  <a:lnTo>
                    <a:pt x="524" y="1351"/>
                  </a:lnTo>
                  <a:lnTo>
                    <a:pt x="532" y="1338"/>
                  </a:lnTo>
                  <a:lnTo>
                    <a:pt x="541" y="1327"/>
                  </a:lnTo>
                  <a:lnTo>
                    <a:pt x="550" y="1315"/>
                  </a:lnTo>
                  <a:lnTo>
                    <a:pt x="558" y="1300"/>
                  </a:lnTo>
                  <a:lnTo>
                    <a:pt x="567" y="1286"/>
                  </a:lnTo>
                  <a:lnTo>
                    <a:pt x="575" y="1271"/>
                  </a:lnTo>
                  <a:lnTo>
                    <a:pt x="583" y="1255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30400" y="466560"/>
              <a:ext cx="355680" cy="897120"/>
            </a:xfrm>
            <a:custGeom>
              <a:avLst/>
              <a:gdLst/>
              <a:ahLst/>
              <a:rect l="l" t="t" r="r" b="b"/>
              <a:pathLst>
                <a:path w="989" h="2490">
                  <a:moveTo>
                    <a:pt x="627" y="1960"/>
                  </a:moveTo>
                  <a:lnTo>
                    <a:pt x="643" y="1867"/>
                  </a:lnTo>
                  <a:lnTo>
                    <a:pt x="657" y="1773"/>
                  </a:lnTo>
                  <a:lnTo>
                    <a:pt x="669" y="1672"/>
                  </a:lnTo>
                  <a:lnTo>
                    <a:pt x="680" y="1569"/>
                  </a:lnTo>
                  <a:lnTo>
                    <a:pt x="687" y="1465"/>
                  </a:lnTo>
                  <a:lnTo>
                    <a:pt x="693" y="1362"/>
                  </a:lnTo>
                  <a:lnTo>
                    <a:pt x="697" y="1262"/>
                  </a:lnTo>
                  <a:lnTo>
                    <a:pt x="699" y="1163"/>
                  </a:lnTo>
                  <a:lnTo>
                    <a:pt x="693" y="1139"/>
                  </a:lnTo>
                  <a:lnTo>
                    <a:pt x="687" y="1118"/>
                  </a:lnTo>
                  <a:lnTo>
                    <a:pt x="680" y="1096"/>
                  </a:lnTo>
                  <a:lnTo>
                    <a:pt x="674" y="1078"/>
                  </a:lnTo>
                  <a:lnTo>
                    <a:pt x="666" y="1060"/>
                  </a:lnTo>
                  <a:lnTo>
                    <a:pt x="659" y="1045"/>
                  </a:lnTo>
                  <a:lnTo>
                    <a:pt x="651" y="1031"/>
                  </a:lnTo>
                  <a:lnTo>
                    <a:pt x="643" y="1018"/>
                  </a:lnTo>
                  <a:lnTo>
                    <a:pt x="634" y="1008"/>
                  </a:lnTo>
                  <a:lnTo>
                    <a:pt x="625" y="997"/>
                  </a:lnTo>
                  <a:lnTo>
                    <a:pt x="615" y="989"/>
                  </a:lnTo>
                  <a:lnTo>
                    <a:pt x="605" y="982"/>
                  </a:lnTo>
                  <a:lnTo>
                    <a:pt x="594" y="977"/>
                  </a:lnTo>
                  <a:lnTo>
                    <a:pt x="582" y="973"/>
                  </a:lnTo>
                  <a:lnTo>
                    <a:pt x="570" y="970"/>
                  </a:lnTo>
                  <a:lnTo>
                    <a:pt x="557" y="970"/>
                  </a:lnTo>
                  <a:lnTo>
                    <a:pt x="545" y="971"/>
                  </a:lnTo>
                  <a:lnTo>
                    <a:pt x="532" y="973"/>
                  </a:lnTo>
                  <a:lnTo>
                    <a:pt x="520" y="979"/>
                  </a:lnTo>
                  <a:lnTo>
                    <a:pt x="508" y="988"/>
                  </a:lnTo>
                  <a:lnTo>
                    <a:pt x="496" y="997"/>
                  </a:lnTo>
                  <a:lnTo>
                    <a:pt x="483" y="1008"/>
                  </a:lnTo>
                  <a:lnTo>
                    <a:pt x="472" y="1022"/>
                  </a:lnTo>
                  <a:lnTo>
                    <a:pt x="460" y="1038"/>
                  </a:lnTo>
                  <a:lnTo>
                    <a:pt x="449" y="1056"/>
                  </a:lnTo>
                  <a:lnTo>
                    <a:pt x="438" y="1078"/>
                  </a:lnTo>
                  <a:lnTo>
                    <a:pt x="428" y="1100"/>
                  </a:lnTo>
                  <a:lnTo>
                    <a:pt x="416" y="1125"/>
                  </a:lnTo>
                  <a:lnTo>
                    <a:pt x="396" y="1179"/>
                  </a:lnTo>
                  <a:lnTo>
                    <a:pt x="376" y="1244"/>
                  </a:lnTo>
                  <a:lnTo>
                    <a:pt x="358" y="1315"/>
                  </a:lnTo>
                  <a:lnTo>
                    <a:pt x="342" y="1387"/>
                  </a:lnTo>
                  <a:lnTo>
                    <a:pt x="329" y="1463"/>
                  </a:lnTo>
                  <a:lnTo>
                    <a:pt x="318" y="1542"/>
                  </a:lnTo>
                  <a:lnTo>
                    <a:pt x="310" y="1625"/>
                  </a:lnTo>
                  <a:lnTo>
                    <a:pt x="304" y="1710"/>
                  </a:lnTo>
                  <a:lnTo>
                    <a:pt x="299" y="1799"/>
                  </a:lnTo>
                  <a:lnTo>
                    <a:pt x="299" y="1891"/>
                  </a:lnTo>
                  <a:lnTo>
                    <a:pt x="299" y="1949"/>
                  </a:lnTo>
                  <a:lnTo>
                    <a:pt x="300" y="2001"/>
                  </a:lnTo>
                  <a:lnTo>
                    <a:pt x="303" y="2052"/>
                  </a:lnTo>
                  <a:lnTo>
                    <a:pt x="305" y="2099"/>
                  </a:lnTo>
                  <a:lnTo>
                    <a:pt x="310" y="2140"/>
                  </a:lnTo>
                  <a:lnTo>
                    <a:pt x="315" y="2180"/>
                  </a:lnTo>
                  <a:lnTo>
                    <a:pt x="321" y="2214"/>
                  </a:lnTo>
                  <a:lnTo>
                    <a:pt x="328" y="2247"/>
                  </a:lnTo>
                  <a:lnTo>
                    <a:pt x="331" y="2261"/>
                  </a:lnTo>
                  <a:lnTo>
                    <a:pt x="335" y="2274"/>
                  </a:lnTo>
                  <a:lnTo>
                    <a:pt x="340" y="2287"/>
                  </a:lnTo>
                  <a:lnTo>
                    <a:pt x="345" y="2299"/>
                  </a:lnTo>
                  <a:lnTo>
                    <a:pt x="350" y="2310"/>
                  </a:lnTo>
                  <a:lnTo>
                    <a:pt x="355" y="2319"/>
                  </a:lnTo>
                  <a:lnTo>
                    <a:pt x="361" y="2328"/>
                  </a:lnTo>
                  <a:lnTo>
                    <a:pt x="367" y="2337"/>
                  </a:lnTo>
                  <a:lnTo>
                    <a:pt x="373" y="2343"/>
                  </a:lnTo>
                  <a:lnTo>
                    <a:pt x="380" y="2350"/>
                  </a:lnTo>
                  <a:lnTo>
                    <a:pt x="387" y="2355"/>
                  </a:lnTo>
                  <a:lnTo>
                    <a:pt x="395" y="2359"/>
                  </a:lnTo>
                  <a:lnTo>
                    <a:pt x="403" y="2362"/>
                  </a:lnTo>
                  <a:lnTo>
                    <a:pt x="410" y="2364"/>
                  </a:lnTo>
                  <a:lnTo>
                    <a:pt x="419" y="2366"/>
                  </a:lnTo>
                  <a:lnTo>
                    <a:pt x="428" y="2366"/>
                  </a:lnTo>
                  <a:lnTo>
                    <a:pt x="435" y="2366"/>
                  </a:lnTo>
                  <a:lnTo>
                    <a:pt x="443" y="2364"/>
                  </a:lnTo>
                  <a:lnTo>
                    <a:pt x="451" y="2362"/>
                  </a:lnTo>
                  <a:lnTo>
                    <a:pt x="459" y="2359"/>
                  </a:lnTo>
                  <a:lnTo>
                    <a:pt x="466" y="2355"/>
                  </a:lnTo>
                  <a:lnTo>
                    <a:pt x="473" y="2350"/>
                  </a:lnTo>
                  <a:lnTo>
                    <a:pt x="481" y="2344"/>
                  </a:lnTo>
                  <a:lnTo>
                    <a:pt x="488" y="2337"/>
                  </a:lnTo>
                  <a:lnTo>
                    <a:pt x="495" y="2330"/>
                  </a:lnTo>
                  <a:lnTo>
                    <a:pt x="502" y="2323"/>
                  </a:lnTo>
                  <a:lnTo>
                    <a:pt x="515" y="2303"/>
                  </a:lnTo>
                  <a:lnTo>
                    <a:pt x="528" y="2279"/>
                  </a:lnTo>
                  <a:lnTo>
                    <a:pt x="541" y="2254"/>
                  </a:lnTo>
                  <a:lnTo>
                    <a:pt x="553" y="2225"/>
                  </a:lnTo>
                  <a:lnTo>
                    <a:pt x="565" y="2194"/>
                  </a:lnTo>
                  <a:lnTo>
                    <a:pt x="576" y="2160"/>
                  </a:lnTo>
                  <a:lnTo>
                    <a:pt x="588" y="2124"/>
                  </a:lnTo>
                  <a:lnTo>
                    <a:pt x="598" y="2086"/>
                  </a:lnTo>
                  <a:lnTo>
                    <a:pt x="608" y="2046"/>
                  </a:lnTo>
                  <a:lnTo>
                    <a:pt x="618" y="2005"/>
                  </a:lnTo>
                  <a:close/>
                  <a:moveTo>
                    <a:pt x="988" y="1083"/>
                  </a:moveTo>
                  <a:lnTo>
                    <a:pt x="987" y="1152"/>
                  </a:lnTo>
                  <a:lnTo>
                    <a:pt x="986" y="1221"/>
                  </a:lnTo>
                  <a:lnTo>
                    <a:pt x="982" y="1288"/>
                  </a:lnTo>
                  <a:lnTo>
                    <a:pt x="979" y="1354"/>
                  </a:lnTo>
                  <a:lnTo>
                    <a:pt x="975" y="1421"/>
                  </a:lnTo>
                  <a:lnTo>
                    <a:pt x="969" y="1486"/>
                  </a:lnTo>
                  <a:lnTo>
                    <a:pt x="961" y="1551"/>
                  </a:lnTo>
                  <a:lnTo>
                    <a:pt x="953" y="1616"/>
                  </a:lnTo>
                  <a:lnTo>
                    <a:pt x="944" y="1680"/>
                  </a:lnTo>
                  <a:lnTo>
                    <a:pt x="933" y="1741"/>
                  </a:lnTo>
                  <a:lnTo>
                    <a:pt x="922" y="1799"/>
                  </a:lnTo>
                  <a:lnTo>
                    <a:pt x="910" y="1857"/>
                  </a:lnTo>
                  <a:lnTo>
                    <a:pt x="896" y="1911"/>
                  </a:lnTo>
                  <a:lnTo>
                    <a:pt x="881" y="1963"/>
                  </a:lnTo>
                  <a:lnTo>
                    <a:pt x="865" y="2014"/>
                  </a:lnTo>
                  <a:lnTo>
                    <a:pt x="848" y="2063"/>
                  </a:lnTo>
                  <a:lnTo>
                    <a:pt x="828" y="2111"/>
                  </a:lnTo>
                  <a:lnTo>
                    <a:pt x="808" y="2158"/>
                  </a:lnTo>
                  <a:lnTo>
                    <a:pt x="786" y="2203"/>
                  </a:lnTo>
                  <a:lnTo>
                    <a:pt x="764" y="2243"/>
                  </a:lnTo>
                  <a:lnTo>
                    <a:pt x="740" y="2281"/>
                  </a:lnTo>
                  <a:lnTo>
                    <a:pt x="715" y="2317"/>
                  </a:lnTo>
                  <a:lnTo>
                    <a:pt x="689" y="2350"/>
                  </a:lnTo>
                  <a:lnTo>
                    <a:pt x="662" y="2379"/>
                  </a:lnTo>
                  <a:lnTo>
                    <a:pt x="634" y="2404"/>
                  </a:lnTo>
                  <a:lnTo>
                    <a:pt x="605" y="2427"/>
                  </a:lnTo>
                  <a:lnTo>
                    <a:pt x="574" y="2445"/>
                  </a:lnTo>
                  <a:lnTo>
                    <a:pt x="542" y="2462"/>
                  </a:lnTo>
                  <a:lnTo>
                    <a:pt x="508" y="2474"/>
                  </a:lnTo>
                  <a:lnTo>
                    <a:pt x="474" y="2482"/>
                  </a:lnTo>
                  <a:lnTo>
                    <a:pt x="438" y="2487"/>
                  </a:lnTo>
                  <a:lnTo>
                    <a:pt x="401" y="2489"/>
                  </a:lnTo>
                  <a:lnTo>
                    <a:pt x="356" y="2485"/>
                  </a:lnTo>
                  <a:lnTo>
                    <a:pt x="313" y="2478"/>
                  </a:lnTo>
                  <a:lnTo>
                    <a:pt x="274" y="2464"/>
                  </a:lnTo>
                  <a:lnTo>
                    <a:pt x="236" y="2444"/>
                  </a:lnTo>
                  <a:lnTo>
                    <a:pt x="200" y="2418"/>
                  </a:lnTo>
                  <a:lnTo>
                    <a:pt x="167" y="2388"/>
                  </a:lnTo>
                  <a:lnTo>
                    <a:pt x="137" y="2352"/>
                  </a:lnTo>
                  <a:lnTo>
                    <a:pt x="122" y="2330"/>
                  </a:lnTo>
                  <a:lnTo>
                    <a:pt x="108" y="2308"/>
                  </a:lnTo>
                  <a:lnTo>
                    <a:pt x="95" y="2285"/>
                  </a:lnTo>
                  <a:lnTo>
                    <a:pt x="83" y="2261"/>
                  </a:lnTo>
                  <a:lnTo>
                    <a:pt x="71" y="2236"/>
                  </a:lnTo>
                  <a:lnTo>
                    <a:pt x="61" y="2209"/>
                  </a:lnTo>
                  <a:lnTo>
                    <a:pt x="52" y="2182"/>
                  </a:lnTo>
                  <a:lnTo>
                    <a:pt x="42" y="2153"/>
                  </a:lnTo>
                  <a:lnTo>
                    <a:pt x="34" y="2122"/>
                  </a:lnTo>
                  <a:lnTo>
                    <a:pt x="28" y="2091"/>
                  </a:lnTo>
                  <a:lnTo>
                    <a:pt x="21" y="2059"/>
                  </a:lnTo>
                  <a:lnTo>
                    <a:pt x="15" y="2026"/>
                  </a:lnTo>
                  <a:lnTo>
                    <a:pt x="10" y="1992"/>
                  </a:lnTo>
                  <a:lnTo>
                    <a:pt x="7" y="1958"/>
                  </a:lnTo>
                  <a:lnTo>
                    <a:pt x="3" y="1922"/>
                  </a:lnTo>
                  <a:lnTo>
                    <a:pt x="2" y="1884"/>
                  </a:lnTo>
                  <a:lnTo>
                    <a:pt x="0" y="1806"/>
                  </a:lnTo>
                  <a:lnTo>
                    <a:pt x="3" y="1707"/>
                  </a:lnTo>
                  <a:lnTo>
                    <a:pt x="5" y="1660"/>
                  </a:lnTo>
                  <a:lnTo>
                    <a:pt x="9" y="1613"/>
                  </a:lnTo>
                  <a:lnTo>
                    <a:pt x="15" y="1566"/>
                  </a:lnTo>
                  <a:lnTo>
                    <a:pt x="21" y="1521"/>
                  </a:lnTo>
                  <a:lnTo>
                    <a:pt x="28" y="1477"/>
                  </a:lnTo>
                  <a:lnTo>
                    <a:pt x="37" y="1434"/>
                  </a:lnTo>
                  <a:lnTo>
                    <a:pt x="46" y="1391"/>
                  </a:lnTo>
                  <a:lnTo>
                    <a:pt x="58" y="1351"/>
                  </a:lnTo>
                  <a:lnTo>
                    <a:pt x="70" y="1309"/>
                  </a:lnTo>
                  <a:lnTo>
                    <a:pt x="83" y="1271"/>
                  </a:lnTo>
                  <a:lnTo>
                    <a:pt x="97" y="1232"/>
                  </a:lnTo>
                  <a:lnTo>
                    <a:pt x="114" y="1195"/>
                  </a:lnTo>
                  <a:lnTo>
                    <a:pt x="148" y="1123"/>
                  </a:lnTo>
                  <a:lnTo>
                    <a:pt x="186" y="1058"/>
                  </a:lnTo>
                  <a:lnTo>
                    <a:pt x="206" y="1029"/>
                  </a:lnTo>
                  <a:lnTo>
                    <a:pt x="227" y="1000"/>
                  </a:lnTo>
                  <a:lnTo>
                    <a:pt x="249" y="977"/>
                  </a:lnTo>
                  <a:lnTo>
                    <a:pt x="270" y="953"/>
                  </a:lnTo>
                  <a:lnTo>
                    <a:pt x="317" y="914"/>
                  </a:lnTo>
                  <a:lnTo>
                    <a:pt x="366" y="885"/>
                  </a:lnTo>
                  <a:lnTo>
                    <a:pt x="417" y="863"/>
                  </a:lnTo>
                  <a:lnTo>
                    <a:pt x="471" y="849"/>
                  </a:lnTo>
                  <a:lnTo>
                    <a:pt x="528" y="845"/>
                  </a:lnTo>
                  <a:lnTo>
                    <a:pt x="557" y="847"/>
                  </a:lnTo>
                  <a:lnTo>
                    <a:pt x="582" y="849"/>
                  </a:lnTo>
                  <a:lnTo>
                    <a:pt x="606" y="854"/>
                  </a:lnTo>
                  <a:lnTo>
                    <a:pt x="616" y="858"/>
                  </a:lnTo>
                  <a:lnTo>
                    <a:pt x="625" y="861"/>
                  </a:lnTo>
                  <a:lnTo>
                    <a:pt x="634" y="865"/>
                  </a:lnTo>
                  <a:lnTo>
                    <a:pt x="643" y="870"/>
                  </a:lnTo>
                  <a:lnTo>
                    <a:pt x="662" y="883"/>
                  </a:lnTo>
                  <a:lnTo>
                    <a:pt x="679" y="896"/>
                  </a:lnTo>
                  <a:lnTo>
                    <a:pt x="696" y="912"/>
                  </a:lnTo>
                  <a:lnTo>
                    <a:pt x="692" y="827"/>
                  </a:lnTo>
                  <a:lnTo>
                    <a:pt x="685" y="747"/>
                  </a:lnTo>
                  <a:lnTo>
                    <a:pt x="677" y="673"/>
                  </a:lnTo>
                  <a:lnTo>
                    <a:pt x="667" y="605"/>
                  </a:lnTo>
                  <a:lnTo>
                    <a:pt x="654" y="540"/>
                  </a:lnTo>
                  <a:lnTo>
                    <a:pt x="640" y="480"/>
                  </a:lnTo>
                  <a:lnTo>
                    <a:pt x="625" y="426"/>
                  </a:lnTo>
                  <a:lnTo>
                    <a:pt x="606" y="377"/>
                  </a:lnTo>
                  <a:lnTo>
                    <a:pt x="588" y="334"/>
                  </a:lnTo>
                  <a:lnTo>
                    <a:pt x="567" y="296"/>
                  </a:lnTo>
                  <a:lnTo>
                    <a:pt x="557" y="278"/>
                  </a:lnTo>
                  <a:lnTo>
                    <a:pt x="545" y="263"/>
                  </a:lnTo>
                  <a:lnTo>
                    <a:pt x="535" y="249"/>
                  </a:lnTo>
                  <a:lnTo>
                    <a:pt x="524" y="236"/>
                  </a:lnTo>
                  <a:lnTo>
                    <a:pt x="512" y="225"/>
                  </a:lnTo>
                  <a:lnTo>
                    <a:pt x="501" y="216"/>
                  </a:lnTo>
                  <a:lnTo>
                    <a:pt x="489" y="207"/>
                  </a:lnTo>
                  <a:lnTo>
                    <a:pt x="476" y="202"/>
                  </a:lnTo>
                  <a:lnTo>
                    <a:pt x="464" y="196"/>
                  </a:lnTo>
                  <a:lnTo>
                    <a:pt x="451" y="193"/>
                  </a:lnTo>
                  <a:lnTo>
                    <a:pt x="438" y="189"/>
                  </a:lnTo>
                  <a:lnTo>
                    <a:pt x="425" y="189"/>
                  </a:lnTo>
                  <a:lnTo>
                    <a:pt x="409" y="189"/>
                  </a:lnTo>
                  <a:lnTo>
                    <a:pt x="395" y="193"/>
                  </a:lnTo>
                  <a:lnTo>
                    <a:pt x="379" y="195"/>
                  </a:lnTo>
                  <a:lnTo>
                    <a:pt x="366" y="200"/>
                  </a:lnTo>
                  <a:lnTo>
                    <a:pt x="351" y="205"/>
                  </a:lnTo>
                  <a:lnTo>
                    <a:pt x="337" y="214"/>
                  </a:lnTo>
                  <a:lnTo>
                    <a:pt x="324" y="222"/>
                  </a:lnTo>
                  <a:lnTo>
                    <a:pt x="311" y="233"/>
                  </a:lnTo>
                  <a:lnTo>
                    <a:pt x="286" y="254"/>
                  </a:lnTo>
                  <a:lnTo>
                    <a:pt x="263" y="278"/>
                  </a:lnTo>
                  <a:lnTo>
                    <a:pt x="243" y="301"/>
                  </a:lnTo>
                  <a:lnTo>
                    <a:pt x="223" y="325"/>
                  </a:lnTo>
                  <a:lnTo>
                    <a:pt x="184" y="229"/>
                  </a:lnTo>
                  <a:lnTo>
                    <a:pt x="202" y="200"/>
                  </a:lnTo>
                  <a:lnTo>
                    <a:pt x="220" y="175"/>
                  </a:lnTo>
                  <a:lnTo>
                    <a:pt x="239" y="149"/>
                  </a:lnTo>
                  <a:lnTo>
                    <a:pt x="257" y="128"/>
                  </a:lnTo>
                  <a:lnTo>
                    <a:pt x="277" y="106"/>
                  </a:lnTo>
                  <a:lnTo>
                    <a:pt x="296" y="88"/>
                  </a:lnTo>
                  <a:lnTo>
                    <a:pt x="316" y="70"/>
                  </a:lnTo>
                  <a:lnTo>
                    <a:pt x="335" y="56"/>
                  </a:lnTo>
                  <a:lnTo>
                    <a:pt x="355" y="43"/>
                  </a:lnTo>
                  <a:lnTo>
                    <a:pt x="376" y="30"/>
                  </a:lnTo>
                  <a:lnTo>
                    <a:pt x="397" y="21"/>
                  </a:lnTo>
                  <a:lnTo>
                    <a:pt x="419" y="14"/>
                  </a:lnTo>
                  <a:lnTo>
                    <a:pt x="441" y="7"/>
                  </a:lnTo>
                  <a:lnTo>
                    <a:pt x="465" y="3"/>
                  </a:lnTo>
                  <a:lnTo>
                    <a:pt x="488" y="0"/>
                  </a:lnTo>
                  <a:lnTo>
                    <a:pt x="512" y="0"/>
                  </a:lnTo>
                  <a:lnTo>
                    <a:pt x="566" y="3"/>
                  </a:lnTo>
                  <a:lnTo>
                    <a:pt x="617" y="18"/>
                  </a:lnTo>
                  <a:lnTo>
                    <a:pt x="665" y="39"/>
                  </a:lnTo>
                  <a:lnTo>
                    <a:pt x="688" y="54"/>
                  </a:lnTo>
                  <a:lnTo>
                    <a:pt x="710" y="70"/>
                  </a:lnTo>
                  <a:lnTo>
                    <a:pt x="731" y="88"/>
                  </a:lnTo>
                  <a:lnTo>
                    <a:pt x="752" y="110"/>
                  </a:lnTo>
                  <a:lnTo>
                    <a:pt x="773" y="133"/>
                  </a:lnTo>
                  <a:lnTo>
                    <a:pt x="791" y="158"/>
                  </a:lnTo>
                  <a:lnTo>
                    <a:pt x="810" y="186"/>
                  </a:lnTo>
                  <a:lnTo>
                    <a:pt x="828" y="214"/>
                  </a:lnTo>
                  <a:lnTo>
                    <a:pt x="845" y="247"/>
                  </a:lnTo>
                  <a:lnTo>
                    <a:pt x="861" y="281"/>
                  </a:lnTo>
                  <a:lnTo>
                    <a:pt x="877" y="317"/>
                  </a:lnTo>
                  <a:lnTo>
                    <a:pt x="890" y="355"/>
                  </a:lnTo>
                  <a:lnTo>
                    <a:pt x="904" y="395"/>
                  </a:lnTo>
                  <a:lnTo>
                    <a:pt x="916" y="437"/>
                  </a:lnTo>
                  <a:lnTo>
                    <a:pt x="928" y="480"/>
                  </a:lnTo>
                  <a:lnTo>
                    <a:pt x="939" y="527"/>
                  </a:lnTo>
                  <a:lnTo>
                    <a:pt x="947" y="574"/>
                  </a:lnTo>
                  <a:lnTo>
                    <a:pt x="956" y="623"/>
                  </a:lnTo>
                  <a:lnTo>
                    <a:pt x="970" y="728"/>
                  </a:lnTo>
                  <a:lnTo>
                    <a:pt x="980" y="838"/>
                  </a:lnTo>
                  <a:lnTo>
                    <a:pt x="986" y="957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3480" y="768240"/>
              <a:ext cx="385560" cy="592200"/>
            </a:xfrm>
            <a:custGeom>
              <a:avLst/>
              <a:gdLst/>
              <a:ahLst/>
              <a:rect l="l" t="t" r="r" b="b"/>
              <a:pathLst>
                <a:path w="1073" h="1646">
                  <a:moveTo>
                    <a:pt x="589" y="1401"/>
                  </a:moveTo>
                  <a:lnTo>
                    <a:pt x="583" y="1401"/>
                  </a:lnTo>
                  <a:lnTo>
                    <a:pt x="527" y="1486"/>
                  </a:lnTo>
                  <a:lnTo>
                    <a:pt x="520" y="1497"/>
                  </a:lnTo>
                  <a:lnTo>
                    <a:pt x="512" y="1506"/>
                  </a:lnTo>
                  <a:lnTo>
                    <a:pt x="496" y="1526"/>
                  </a:lnTo>
                  <a:lnTo>
                    <a:pt x="478" y="1546"/>
                  </a:lnTo>
                  <a:lnTo>
                    <a:pt x="459" y="1566"/>
                  </a:lnTo>
                  <a:lnTo>
                    <a:pt x="441" y="1582"/>
                  </a:lnTo>
                  <a:lnTo>
                    <a:pt x="422" y="1596"/>
                  </a:lnTo>
                  <a:lnTo>
                    <a:pt x="404" y="1609"/>
                  </a:lnTo>
                  <a:lnTo>
                    <a:pt x="384" y="1622"/>
                  </a:lnTo>
                  <a:lnTo>
                    <a:pt x="374" y="1627"/>
                  </a:lnTo>
                  <a:lnTo>
                    <a:pt x="364" y="1633"/>
                  </a:lnTo>
                  <a:lnTo>
                    <a:pt x="354" y="1636"/>
                  </a:lnTo>
                  <a:lnTo>
                    <a:pt x="342" y="1640"/>
                  </a:lnTo>
                  <a:lnTo>
                    <a:pt x="331" y="1642"/>
                  </a:lnTo>
                  <a:lnTo>
                    <a:pt x="320" y="1643"/>
                  </a:lnTo>
                  <a:lnTo>
                    <a:pt x="297" y="1645"/>
                  </a:lnTo>
                  <a:lnTo>
                    <a:pt x="262" y="1643"/>
                  </a:lnTo>
                  <a:lnTo>
                    <a:pt x="228" y="1634"/>
                  </a:lnTo>
                  <a:lnTo>
                    <a:pt x="197" y="1622"/>
                  </a:lnTo>
                  <a:lnTo>
                    <a:pt x="168" y="1605"/>
                  </a:lnTo>
                  <a:lnTo>
                    <a:pt x="154" y="1595"/>
                  </a:lnTo>
                  <a:lnTo>
                    <a:pt x="141" y="1582"/>
                  </a:lnTo>
                  <a:lnTo>
                    <a:pt x="129" y="1569"/>
                  </a:lnTo>
                  <a:lnTo>
                    <a:pt x="117" y="1555"/>
                  </a:lnTo>
                  <a:lnTo>
                    <a:pt x="106" y="1539"/>
                  </a:lnTo>
                  <a:lnTo>
                    <a:pt x="95" y="1522"/>
                  </a:lnTo>
                  <a:lnTo>
                    <a:pt x="84" y="1504"/>
                  </a:lnTo>
                  <a:lnTo>
                    <a:pt x="75" y="1484"/>
                  </a:lnTo>
                  <a:lnTo>
                    <a:pt x="65" y="1465"/>
                  </a:lnTo>
                  <a:lnTo>
                    <a:pt x="58" y="1443"/>
                  </a:lnTo>
                  <a:lnTo>
                    <a:pt x="49" y="1419"/>
                  </a:lnTo>
                  <a:lnTo>
                    <a:pt x="42" y="1396"/>
                  </a:lnTo>
                  <a:lnTo>
                    <a:pt x="35" y="1372"/>
                  </a:lnTo>
                  <a:lnTo>
                    <a:pt x="29" y="1347"/>
                  </a:lnTo>
                  <a:lnTo>
                    <a:pt x="24" y="1320"/>
                  </a:lnTo>
                  <a:lnTo>
                    <a:pt x="19" y="1293"/>
                  </a:lnTo>
                  <a:lnTo>
                    <a:pt x="10" y="1235"/>
                  </a:lnTo>
                  <a:lnTo>
                    <a:pt x="4" y="1176"/>
                  </a:lnTo>
                  <a:lnTo>
                    <a:pt x="1" y="1111"/>
                  </a:lnTo>
                  <a:lnTo>
                    <a:pt x="0" y="1042"/>
                  </a:lnTo>
                  <a:lnTo>
                    <a:pt x="1" y="989"/>
                  </a:lnTo>
                  <a:lnTo>
                    <a:pt x="3" y="937"/>
                  </a:lnTo>
                  <a:lnTo>
                    <a:pt x="6" y="885"/>
                  </a:lnTo>
                  <a:lnTo>
                    <a:pt x="10" y="834"/>
                  </a:lnTo>
                  <a:lnTo>
                    <a:pt x="16" y="784"/>
                  </a:lnTo>
                  <a:lnTo>
                    <a:pt x="23" y="735"/>
                  </a:lnTo>
                  <a:lnTo>
                    <a:pt x="32" y="686"/>
                  </a:lnTo>
                  <a:lnTo>
                    <a:pt x="41" y="639"/>
                  </a:lnTo>
                  <a:lnTo>
                    <a:pt x="53" y="592"/>
                  </a:lnTo>
                  <a:lnTo>
                    <a:pt x="65" y="547"/>
                  </a:lnTo>
                  <a:lnTo>
                    <a:pt x="77" y="504"/>
                  </a:lnTo>
                  <a:lnTo>
                    <a:pt x="90" y="462"/>
                  </a:lnTo>
                  <a:lnTo>
                    <a:pt x="105" y="420"/>
                  </a:lnTo>
                  <a:lnTo>
                    <a:pt x="121" y="381"/>
                  </a:lnTo>
                  <a:lnTo>
                    <a:pt x="136" y="343"/>
                  </a:lnTo>
                  <a:lnTo>
                    <a:pt x="153" y="307"/>
                  </a:lnTo>
                  <a:lnTo>
                    <a:pt x="171" y="272"/>
                  </a:lnTo>
                  <a:lnTo>
                    <a:pt x="189" y="240"/>
                  </a:lnTo>
                  <a:lnTo>
                    <a:pt x="209" y="209"/>
                  </a:lnTo>
                  <a:lnTo>
                    <a:pt x="229" y="180"/>
                  </a:lnTo>
                  <a:lnTo>
                    <a:pt x="250" y="153"/>
                  </a:lnTo>
                  <a:lnTo>
                    <a:pt x="272" y="128"/>
                  </a:lnTo>
                  <a:lnTo>
                    <a:pt x="294" y="104"/>
                  </a:lnTo>
                  <a:lnTo>
                    <a:pt x="318" y="83"/>
                  </a:lnTo>
                  <a:lnTo>
                    <a:pt x="342" y="63"/>
                  </a:lnTo>
                  <a:lnTo>
                    <a:pt x="366" y="46"/>
                  </a:lnTo>
                  <a:lnTo>
                    <a:pt x="390" y="32"/>
                  </a:lnTo>
                  <a:lnTo>
                    <a:pt x="415" y="19"/>
                  </a:lnTo>
                  <a:lnTo>
                    <a:pt x="440" y="10"/>
                  </a:lnTo>
                  <a:lnTo>
                    <a:pt x="465" y="5"/>
                  </a:lnTo>
                  <a:lnTo>
                    <a:pt x="490" y="1"/>
                  </a:lnTo>
                  <a:lnTo>
                    <a:pt x="516" y="0"/>
                  </a:lnTo>
                  <a:lnTo>
                    <a:pt x="553" y="1"/>
                  </a:lnTo>
                  <a:lnTo>
                    <a:pt x="588" y="9"/>
                  </a:lnTo>
                  <a:lnTo>
                    <a:pt x="604" y="12"/>
                  </a:lnTo>
                  <a:lnTo>
                    <a:pt x="619" y="18"/>
                  </a:lnTo>
                  <a:lnTo>
                    <a:pt x="635" y="25"/>
                  </a:lnTo>
                  <a:lnTo>
                    <a:pt x="650" y="32"/>
                  </a:lnTo>
                  <a:lnTo>
                    <a:pt x="677" y="50"/>
                  </a:lnTo>
                  <a:lnTo>
                    <a:pt x="689" y="61"/>
                  </a:lnTo>
                  <a:lnTo>
                    <a:pt x="702" y="72"/>
                  </a:lnTo>
                  <a:lnTo>
                    <a:pt x="713" y="83"/>
                  </a:lnTo>
                  <a:lnTo>
                    <a:pt x="724" y="95"/>
                  </a:lnTo>
                  <a:lnTo>
                    <a:pt x="734" y="108"/>
                  </a:lnTo>
                  <a:lnTo>
                    <a:pt x="743" y="122"/>
                  </a:lnTo>
                  <a:lnTo>
                    <a:pt x="1004" y="23"/>
                  </a:lnTo>
                  <a:lnTo>
                    <a:pt x="1016" y="48"/>
                  </a:lnTo>
                  <a:lnTo>
                    <a:pt x="891" y="1017"/>
                  </a:lnTo>
                  <a:lnTo>
                    <a:pt x="888" y="1042"/>
                  </a:lnTo>
                  <a:lnTo>
                    <a:pt x="884" y="1071"/>
                  </a:lnTo>
                  <a:lnTo>
                    <a:pt x="877" y="1138"/>
                  </a:lnTo>
                  <a:lnTo>
                    <a:pt x="873" y="1172"/>
                  </a:lnTo>
                  <a:lnTo>
                    <a:pt x="871" y="1203"/>
                  </a:lnTo>
                  <a:lnTo>
                    <a:pt x="870" y="1228"/>
                  </a:lnTo>
                  <a:lnTo>
                    <a:pt x="869" y="1239"/>
                  </a:lnTo>
                  <a:lnTo>
                    <a:pt x="869" y="1250"/>
                  </a:lnTo>
                  <a:lnTo>
                    <a:pt x="869" y="1271"/>
                  </a:lnTo>
                  <a:lnTo>
                    <a:pt x="871" y="1291"/>
                  </a:lnTo>
                  <a:lnTo>
                    <a:pt x="872" y="1309"/>
                  </a:lnTo>
                  <a:lnTo>
                    <a:pt x="873" y="1316"/>
                  </a:lnTo>
                  <a:lnTo>
                    <a:pt x="875" y="1325"/>
                  </a:lnTo>
                  <a:lnTo>
                    <a:pt x="876" y="1333"/>
                  </a:lnTo>
                  <a:lnTo>
                    <a:pt x="878" y="1340"/>
                  </a:lnTo>
                  <a:lnTo>
                    <a:pt x="879" y="1347"/>
                  </a:lnTo>
                  <a:lnTo>
                    <a:pt x="882" y="1353"/>
                  </a:lnTo>
                  <a:lnTo>
                    <a:pt x="884" y="1358"/>
                  </a:lnTo>
                  <a:lnTo>
                    <a:pt x="886" y="1363"/>
                  </a:lnTo>
                  <a:lnTo>
                    <a:pt x="889" y="1369"/>
                  </a:lnTo>
                  <a:lnTo>
                    <a:pt x="891" y="1372"/>
                  </a:lnTo>
                  <a:lnTo>
                    <a:pt x="894" y="1376"/>
                  </a:lnTo>
                  <a:lnTo>
                    <a:pt x="897" y="1381"/>
                  </a:lnTo>
                  <a:lnTo>
                    <a:pt x="901" y="1385"/>
                  </a:lnTo>
                  <a:lnTo>
                    <a:pt x="904" y="1387"/>
                  </a:lnTo>
                  <a:lnTo>
                    <a:pt x="912" y="1394"/>
                  </a:lnTo>
                  <a:lnTo>
                    <a:pt x="921" y="1398"/>
                  </a:lnTo>
                  <a:lnTo>
                    <a:pt x="931" y="1401"/>
                  </a:lnTo>
                  <a:lnTo>
                    <a:pt x="942" y="1405"/>
                  </a:lnTo>
                  <a:lnTo>
                    <a:pt x="955" y="1407"/>
                  </a:lnTo>
                  <a:lnTo>
                    <a:pt x="968" y="1407"/>
                  </a:lnTo>
                  <a:lnTo>
                    <a:pt x="974" y="1407"/>
                  </a:lnTo>
                  <a:lnTo>
                    <a:pt x="980" y="1405"/>
                  </a:lnTo>
                  <a:lnTo>
                    <a:pt x="994" y="1403"/>
                  </a:lnTo>
                  <a:lnTo>
                    <a:pt x="1008" y="1398"/>
                  </a:lnTo>
                  <a:lnTo>
                    <a:pt x="1025" y="1391"/>
                  </a:lnTo>
                  <a:lnTo>
                    <a:pt x="1053" y="1374"/>
                  </a:lnTo>
                  <a:lnTo>
                    <a:pt x="1063" y="1367"/>
                  </a:lnTo>
                  <a:lnTo>
                    <a:pt x="1072" y="1362"/>
                  </a:lnTo>
                  <a:lnTo>
                    <a:pt x="1053" y="1503"/>
                  </a:lnTo>
                  <a:lnTo>
                    <a:pt x="919" y="1596"/>
                  </a:lnTo>
                  <a:lnTo>
                    <a:pt x="906" y="1604"/>
                  </a:lnTo>
                  <a:lnTo>
                    <a:pt x="892" y="1611"/>
                  </a:lnTo>
                  <a:lnTo>
                    <a:pt x="878" y="1616"/>
                  </a:lnTo>
                  <a:lnTo>
                    <a:pt x="865" y="1622"/>
                  </a:lnTo>
                  <a:lnTo>
                    <a:pt x="849" y="1624"/>
                  </a:lnTo>
                  <a:lnTo>
                    <a:pt x="834" y="1627"/>
                  </a:lnTo>
                  <a:lnTo>
                    <a:pt x="802" y="1629"/>
                  </a:lnTo>
                  <a:lnTo>
                    <a:pt x="780" y="1627"/>
                  </a:lnTo>
                  <a:lnTo>
                    <a:pt x="761" y="1625"/>
                  </a:lnTo>
                  <a:lnTo>
                    <a:pt x="741" y="1620"/>
                  </a:lnTo>
                  <a:lnTo>
                    <a:pt x="724" y="1613"/>
                  </a:lnTo>
                  <a:lnTo>
                    <a:pt x="706" y="1604"/>
                  </a:lnTo>
                  <a:lnTo>
                    <a:pt x="691" y="1593"/>
                  </a:lnTo>
                  <a:lnTo>
                    <a:pt x="676" y="1580"/>
                  </a:lnTo>
                  <a:lnTo>
                    <a:pt x="663" y="1566"/>
                  </a:lnTo>
                  <a:lnTo>
                    <a:pt x="650" y="1549"/>
                  </a:lnTo>
                  <a:lnTo>
                    <a:pt x="638" y="1531"/>
                  </a:lnTo>
                  <a:lnTo>
                    <a:pt x="627" y="1512"/>
                  </a:lnTo>
                  <a:lnTo>
                    <a:pt x="618" y="1492"/>
                  </a:lnTo>
                  <a:lnTo>
                    <a:pt x="609" y="1472"/>
                  </a:lnTo>
                  <a:lnTo>
                    <a:pt x="601" y="1448"/>
                  </a:lnTo>
                  <a:lnTo>
                    <a:pt x="595" y="1427"/>
                  </a:lnTo>
                  <a:close/>
                  <a:moveTo>
                    <a:pt x="691" y="402"/>
                  </a:moveTo>
                  <a:lnTo>
                    <a:pt x="691" y="393"/>
                  </a:lnTo>
                  <a:lnTo>
                    <a:pt x="691" y="384"/>
                  </a:lnTo>
                  <a:lnTo>
                    <a:pt x="690" y="364"/>
                  </a:lnTo>
                  <a:lnTo>
                    <a:pt x="688" y="343"/>
                  </a:lnTo>
                  <a:lnTo>
                    <a:pt x="686" y="321"/>
                  </a:lnTo>
                  <a:lnTo>
                    <a:pt x="684" y="308"/>
                  </a:lnTo>
                  <a:lnTo>
                    <a:pt x="682" y="298"/>
                  </a:lnTo>
                  <a:lnTo>
                    <a:pt x="681" y="287"/>
                  </a:lnTo>
                  <a:lnTo>
                    <a:pt x="679" y="276"/>
                  </a:lnTo>
                  <a:lnTo>
                    <a:pt x="676" y="267"/>
                  </a:lnTo>
                  <a:lnTo>
                    <a:pt x="674" y="258"/>
                  </a:lnTo>
                  <a:lnTo>
                    <a:pt x="671" y="249"/>
                  </a:lnTo>
                  <a:lnTo>
                    <a:pt x="668" y="240"/>
                  </a:lnTo>
                  <a:lnTo>
                    <a:pt x="663" y="231"/>
                  </a:lnTo>
                  <a:lnTo>
                    <a:pt x="659" y="220"/>
                  </a:lnTo>
                  <a:lnTo>
                    <a:pt x="655" y="213"/>
                  </a:lnTo>
                  <a:lnTo>
                    <a:pt x="650" y="204"/>
                  </a:lnTo>
                  <a:lnTo>
                    <a:pt x="645" y="196"/>
                  </a:lnTo>
                  <a:lnTo>
                    <a:pt x="640" y="191"/>
                  </a:lnTo>
                  <a:lnTo>
                    <a:pt x="634" y="184"/>
                  </a:lnTo>
                  <a:lnTo>
                    <a:pt x="628" y="178"/>
                  </a:lnTo>
                  <a:lnTo>
                    <a:pt x="622" y="173"/>
                  </a:lnTo>
                  <a:lnTo>
                    <a:pt x="615" y="169"/>
                  </a:lnTo>
                  <a:lnTo>
                    <a:pt x="608" y="166"/>
                  </a:lnTo>
                  <a:lnTo>
                    <a:pt x="601" y="162"/>
                  </a:lnTo>
                  <a:lnTo>
                    <a:pt x="593" y="160"/>
                  </a:lnTo>
                  <a:lnTo>
                    <a:pt x="584" y="158"/>
                  </a:lnTo>
                  <a:lnTo>
                    <a:pt x="576" y="157"/>
                  </a:lnTo>
                  <a:lnTo>
                    <a:pt x="567" y="157"/>
                  </a:lnTo>
                  <a:lnTo>
                    <a:pt x="553" y="158"/>
                  </a:lnTo>
                  <a:lnTo>
                    <a:pt x="539" y="162"/>
                  </a:lnTo>
                  <a:lnTo>
                    <a:pt x="526" y="168"/>
                  </a:lnTo>
                  <a:lnTo>
                    <a:pt x="513" y="175"/>
                  </a:lnTo>
                  <a:lnTo>
                    <a:pt x="500" y="186"/>
                  </a:lnTo>
                  <a:lnTo>
                    <a:pt x="488" y="198"/>
                  </a:lnTo>
                  <a:lnTo>
                    <a:pt x="476" y="213"/>
                  </a:lnTo>
                  <a:lnTo>
                    <a:pt x="464" y="231"/>
                  </a:lnTo>
                  <a:lnTo>
                    <a:pt x="452" y="251"/>
                  </a:lnTo>
                  <a:lnTo>
                    <a:pt x="441" y="272"/>
                  </a:lnTo>
                  <a:lnTo>
                    <a:pt x="429" y="294"/>
                  </a:lnTo>
                  <a:lnTo>
                    <a:pt x="419" y="319"/>
                  </a:lnTo>
                  <a:lnTo>
                    <a:pt x="409" y="345"/>
                  </a:lnTo>
                  <a:lnTo>
                    <a:pt x="399" y="372"/>
                  </a:lnTo>
                  <a:lnTo>
                    <a:pt x="390" y="401"/>
                  </a:lnTo>
                  <a:lnTo>
                    <a:pt x="380" y="429"/>
                  </a:lnTo>
                  <a:lnTo>
                    <a:pt x="372" y="462"/>
                  </a:lnTo>
                  <a:lnTo>
                    <a:pt x="363" y="495"/>
                  </a:lnTo>
                  <a:lnTo>
                    <a:pt x="355" y="527"/>
                  </a:lnTo>
                  <a:lnTo>
                    <a:pt x="348" y="563"/>
                  </a:lnTo>
                  <a:lnTo>
                    <a:pt x="342" y="599"/>
                  </a:lnTo>
                  <a:lnTo>
                    <a:pt x="336" y="635"/>
                  </a:lnTo>
                  <a:lnTo>
                    <a:pt x="330" y="675"/>
                  </a:lnTo>
                  <a:lnTo>
                    <a:pt x="324" y="715"/>
                  </a:lnTo>
                  <a:lnTo>
                    <a:pt x="319" y="756"/>
                  </a:lnTo>
                  <a:lnTo>
                    <a:pt x="316" y="796"/>
                  </a:lnTo>
                  <a:lnTo>
                    <a:pt x="312" y="838"/>
                  </a:lnTo>
                  <a:lnTo>
                    <a:pt x="309" y="879"/>
                  </a:lnTo>
                  <a:lnTo>
                    <a:pt x="306" y="921"/>
                  </a:lnTo>
                  <a:lnTo>
                    <a:pt x="305" y="964"/>
                  </a:lnTo>
                  <a:lnTo>
                    <a:pt x="304" y="1006"/>
                  </a:lnTo>
                  <a:lnTo>
                    <a:pt x="304" y="1047"/>
                  </a:lnTo>
                  <a:lnTo>
                    <a:pt x="304" y="1085"/>
                  </a:lnTo>
                  <a:lnTo>
                    <a:pt x="305" y="1123"/>
                  </a:lnTo>
                  <a:lnTo>
                    <a:pt x="307" y="1157"/>
                  </a:lnTo>
                  <a:lnTo>
                    <a:pt x="310" y="1192"/>
                  </a:lnTo>
                  <a:lnTo>
                    <a:pt x="312" y="1208"/>
                  </a:lnTo>
                  <a:lnTo>
                    <a:pt x="313" y="1223"/>
                  </a:lnTo>
                  <a:lnTo>
                    <a:pt x="316" y="1239"/>
                  </a:lnTo>
                  <a:lnTo>
                    <a:pt x="318" y="1253"/>
                  </a:lnTo>
                  <a:lnTo>
                    <a:pt x="321" y="1266"/>
                  </a:lnTo>
                  <a:lnTo>
                    <a:pt x="324" y="1279"/>
                  </a:lnTo>
                  <a:lnTo>
                    <a:pt x="328" y="1291"/>
                  </a:lnTo>
                  <a:lnTo>
                    <a:pt x="331" y="1302"/>
                  </a:lnTo>
                  <a:lnTo>
                    <a:pt x="335" y="1315"/>
                  </a:lnTo>
                  <a:lnTo>
                    <a:pt x="339" y="1325"/>
                  </a:lnTo>
                  <a:lnTo>
                    <a:pt x="343" y="1336"/>
                  </a:lnTo>
                  <a:lnTo>
                    <a:pt x="348" y="1345"/>
                  </a:lnTo>
                  <a:lnTo>
                    <a:pt x="354" y="1354"/>
                  </a:lnTo>
                  <a:lnTo>
                    <a:pt x="360" y="1363"/>
                  </a:lnTo>
                  <a:lnTo>
                    <a:pt x="366" y="1371"/>
                  </a:lnTo>
                  <a:lnTo>
                    <a:pt x="372" y="1378"/>
                  </a:lnTo>
                  <a:lnTo>
                    <a:pt x="379" y="1385"/>
                  </a:lnTo>
                  <a:lnTo>
                    <a:pt x="385" y="1391"/>
                  </a:lnTo>
                  <a:lnTo>
                    <a:pt x="393" y="1394"/>
                  </a:lnTo>
                  <a:lnTo>
                    <a:pt x="401" y="1398"/>
                  </a:lnTo>
                  <a:lnTo>
                    <a:pt x="410" y="1401"/>
                  </a:lnTo>
                  <a:lnTo>
                    <a:pt x="418" y="1403"/>
                  </a:lnTo>
                  <a:lnTo>
                    <a:pt x="428" y="1405"/>
                  </a:lnTo>
                  <a:lnTo>
                    <a:pt x="437" y="1405"/>
                  </a:lnTo>
                  <a:lnTo>
                    <a:pt x="447" y="1405"/>
                  </a:lnTo>
                  <a:lnTo>
                    <a:pt x="457" y="1403"/>
                  </a:lnTo>
                  <a:lnTo>
                    <a:pt x="466" y="1400"/>
                  </a:lnTo>
                  <a:lnTo>
                    <a:pt x="477" y="1394"/>
                  </a:lnTo>
                  <a:lnTo>
                    <a:pt x="486" y="1389"/>
                  </a:lnTo>
                  <a:lnTo>
                    <a:pt x="496" y="1381"/>
                  </a:lnTo>
                  <a:lnTo>
                    <a:pt x="504" y="1372"/>
                  </a:lnTo>
                  <a:lnTo>
                    <a:pt x="514" y="1362"/>
                  </a:lnTo>
                  <a:lnTo>
                    <a:pt x="523" y="1351"/>
                  </a:lnTo>
                  <a:lnTo>
                    <a:pt x="532" y="1338"/>
                  </a:lnTo>
                  <a:lnTo>
                    <a:pt x="540" y="1327"/>
                  </a:lnTo>
                  <a:lnTo>
                    <a:pt x="550" y="1315"/>
                  </a:lnTo>
                  <a:lnTo>
                    <a:pt x="558" y="1300"/>
                  </a:lnTo>
                  <a:lnTo>
                    <a:pt x="566" y="1286"/>
                  </a:lnTo>
                  <a:lnTo>
                    <a:pt x="575" y="1271"/>
                  </a:lnTo>
                  <a:lnTo>
                    <a:pt x="583" y="1255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22680" y="774720"/>
              <a:ext cx="401760" cy="579240"/>
            </a:xfrm>
            <a:custGeom>
              <a:avLst/>
              <a:gdLst/>
              <a:ahLst/>
              <a:rect l="l" t="t" r="r" b="b"/>
              <a:pathLst>
                <a:path w="1114" h="1608">
                  <a:moveTo>
                    <a:pt x="188" y="377"/>
                  </a:moveTo>
                  <a:lnTo>
                    <a:pt x="188" y="355"/>
                  </a:lnTo>
                  <a:lnTo>
                    <a:pt x="188" y="336"/>
                  </a:lnTo>
                  <a:lnTo>
                    <a:pt x="186" y="318"/>
                  </a:lnTo>
                  <a:lnTo>
                    <a:pt x="184" y="310"/>
                  </a:lnTo>
                  <a:lnTo>
                    <a:pt x="183" y="301"/>
                  </a:lnTo>
                  <a:lnTo>
                    <a:pt x="182" y="294"/>
                  </a:lnTo>
                  <a:lnTo>
                    <a:pt x="181" y="287"/>
                  </a:lnTo>
                  <a:lnTo>
                    <a:pt x="179" y="280"/>
                  </a:lnTo>
                  <a:lnTo>
                    <a:pt x="177" y="274"/>
                  </a:lnTo>
                  <a:lnTo>
                    <a:pt x="176" y="269"/>
                  </a:lnTo>
                  <a:lnTo>
                    <a:pt x="173" y="263"/>
                  </a:lnTo>
                  <a:lnTo>
                    <a:pt x="171" y="258"/>
                  </a:lnTo>
                  <a:lnTo>
                    <a:pt x="169" y="254"/>
                  </a:lnTo>
                  <a:lnTo>
                    <a:pt x="166" y="251"/>
                  </a:lnTo>
                  <a:lnTo>
                    <a:pt x="164" y="247"/>
                  </a:lnTo>
                  <a:lnTo>
                    <a:pt x="161" y="243"/>
                  </a:lnTo>
                  <a:lnTo>
                    <a:pt x="158" y="240"/>
                  </a:lnTo>
                  <a:lnTo>
                    <a:pt x="151" y="234"/>
                  </a:lnTo>
                  <a:lnTo>
                    <a:pt x="143" y="231"/>
                  </a:lnTo>
                  <a:lnTo>
                    <a:pt x="134" y="227"/>
                  </a:lnTo>
                  <a:lnTo>
                    <a:pt x="126" y="224"/>
                  </a:lnTo>
                  <a:lnTo>
                    <a:pt x="115" y="222"/>
                  </a:lnTo>
                  <a:lnTo>
                    <a:pt x="105" y="222"/>
                  </a:lnTo>
                  <a:lnTo>
                    <a:pt x="98" y="222"/>
                  </a:lnTo>
                  <a:lnTo>
                    <a:pt x="90" y="224"/>
                  </a:lnTo>
                  <a:lnTo>
                    <a:pt x="84" y="224"/>
                  </a:lnTo>
                  <a:lnTo>
                    <a:pt x="76" y="225"/>
                  </a:lnTo>
                  <a:lnTo>
                    <a:pt x="68" y="229"/>
                  </a:lnTo>
                  <a:lnTo>
                    <a:pt x="60" y="231"/>
                  </a:lnTo>
                  <a:lnTo>
                    <a:pt x="53" y="236"/>
                  </a:lnTo>
                  <a:lnTo>
                    <a:pt x="46" y="240"/>
                  </a:lnTo>
                  <a:lnTo>
                    <a:pt x="0" y="267"/>
                  </a:lnTo>
                  <a:lnTo>
                    <a:pt x="19" y="126"/>
                  </a:lnTo>
                  <a:lnTo>
                    <a:pt x="50" y="103"/>
                  </a:lnTo>
                  <a:lnTo>
                    <a:pt x="82" y="81"/>
                  </a:lnTo>
                  <a:lnTo>
                    <a:pt x="116" y="59"/>
                  </a:lnTo>
                  <a:lnTo>
                    <a:pt x="152" y="39"/>
                  </a:lnTo>
                  <a:lnTo>
                    <a:pt x="188" y="21"/>
                  </a:lnTo>
                  <a:lnTo>
                    <a:pt x="219" y="9"/>
                  </a:lnTo>
                  <a:lnTo>
                    <a:pt x="234" y="5"/>
                  </a:lnTo>
                  <a:lnTo>
                    <a:pt x="248" y="1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98" y="1"/>
                  </a:lnTo>
                  <a:lnTo>
                    <a:pt x="321" y="5"/>
                  </a:lnTo>
                  <a:lnTo>
                    <a:pt x="342" y="12"/>
                  </a:lnTo>
                  <a:lnTo>
                    <a:pt x="362" y="21"/>
                  </a:lnTo>
                  <a:lnTo>
                    <a:pt x="380" y="34"/>
                  </a:lnTo>
                  <a:lnTo>
                    <a:pt x="397" y="48"/>
                  </a:lnTo>
                  <a:lnTo>
                    <a:pt x="404" y="56"/>
                  </a:lnTo>
                  <a:lnTo>
                    <a:pt x="411" y="65"/>
                  </a:lnTo>
                  <a:lnTo>
                    <a:pt x="418" y="74"/>
                  </a:lnTo>
                  <a:lnTo>
                    <a:pt x="425" y="84"/>
                  </a:lnTo>
                  <a:lnTo>
                    <a:pt x="437" y="106"/>
                  </a:lnTo>
                  <a:lnTo>
                    <a:pt x="442" y="119"/>
                  </a:lnTo>
                  <a:lnTo>
                    <a:pt x="447" y="131"/>
                  </a:lnTo>
                  <a:lnTo>
                    <a:pt x="452" y="144"/>
                  </a:lnTo>
                  <a:lnTo>
                    <a:pt x="456" y="157"/>
                  </a:lnTo>
                  <a:lnTo>
                    <a:pt x="459" y="169"/>
                  </a:lnTo>
                  <a:lnTo>
                    <a:pt x="463" y="184"/>
                  </a:lnTo>
                  <a:lnTo>
                    <a:pt x="466" y="198"/>
                  </a:lnTo>
                  <a:lnTo>
                    <a:pt x="469" y="213"/>
                  </a:lnTo>
                  <a:lnTo>
                    <a:pt x="471" y="227"/>
                  </a:lnTo>
                  <a:lnTo>
                    <a:pt x="472" y="242"/>
                  </a:lnTo>
                  <a:lnTo>
                    <a:pt x="474" y="258"/>
                  </a:lnTo>
                  <a:lnTo>
                    <a:pt x="475" y="274"/>
                  </a:lnTo>
                  <a:lnTo>
                    <a:pt x="476" y="290"/>
                  </a:lnTo>
                  <a:lnTo>
                    <a:pt x="476" y="307"/>
                  </a:lnTo>
                  <a:lnTo>
                    <a:pt x="476" y="327"/>
                  </a:lnTo>
                  <a:lnTo>
                    <a:pt x="475" y="346"/>
                  </a:lnTo>
                  <a:lnTo>
                    <a:pt x="474" y="368"/>
                  </a:lnTo>
                  <a:lnTo>
                    <a:pt x="472" y="390"/>
                  </a:lnTo>
                  <a:lnTo>
                    <a:pt x="467" y="437"/>
                  </a:lnTo>
                  <a:lnTo>
                    <a:pt x="461" y="489"/>
                  </a:lnTo>
                  <a:lnTo>
                    <a:pt x="455" y="540"/>
                  </a:lnTo>
                  <a:lnTo>
                    <a:pt x="450" y="583"/>
                  </a:lnTo>
                  <a:lnTo>
                    <a:pt x="448" y="601"/>
                  </a:lnTo>
                  <a:lnTo>
                    <a:pt x="447" y="617"/>
                  </a:lnTo>
                  <a:lnTo>
                    <a:pt x="447" y="634"/>
                  </a:lnTo>
                  <a:lnTo>
                    <a:pt x="447" y="646"/>
                  </a:lnTo>
                  <a:lnTo>
                    <a:pt x="447" y="670"/>
                  </a:lnTo>
                  <a:lnTo>
                    <a:pt x="447" y="691"/>
                  </a:lnTo>
                  <a:lnTo>
                    <a:pt x="449" y="710"/>
                  </a:lnTo>
                  <a:lnTo>
                    <a:pt x="451" y="728"/>
                  </a:lnTo>
                  <a:lnTo>
                    <a:pt x="453" y="737"/>
                  </a:lnTo>
                  <a:lnTo>
                    <a:pt x="453" y="744"/>
                  </a:lnTo>
                  <a:lnTo>
                    <a:pt x="455" y="751"/>
                  </a:lnTo>
                  <a:lnTo>
                    <a:pt x="457" y="757"/>
                  </a:lnTo>
                  <a:lnTo>
                    <a:pt x="459" y="764"/>
                  </a:lnTo>
                  <a:lnTo>
                    <a:pt x="461" y="769"/>
                  </a:lnTo>
                  <a:lnTo>
                    <a:pt x="463" y="773"/>
                  </a:lnTo>
                  <a:lnTo>
                    <a:pt x="466" y="778"/>
                  </a:lnTo>
                  <a:lnTo>
                    <a:pt x="468" y="782"/>
                  </a:lnTo>
                  <a:lnTo>
                    <a:pt x="471" y="787"/>
                  </a:lnTo>
                  <a:lnTo>
                    <a:pt x="473" y="791"/>
                  </a:lnTo>
                  <a:lnTo>
                    <a:pt x="476" y="794"/>
                  </a:lnTo>
                  <a:lnTo>
                    <a:pt x="478" y="796"/>
                  </a:lnTo>
                  <a:lnTo>
                    <a:pt x="482" y="800"/>
                  </a:lnTo>
                  <a:lnTo>
                    <a:pt x="489" y="805"/>
                  </a:lnTo>
                  <a:lnTo>
                    <a:pt x="496" y="809"/>
                  </a:lnTo>
                  <a:lnTo>
                    <a:pt x="504" y="813"/>
                  </a:lnTo>
                  <a:lnTo>
                    <a:pt x="512" y="814"/>
                  </a:lnTo>
                  <a:lnTo>
                    <a:pt x="521" y="814"/>
                  </a:lnTo>
                  <a:lnTo>
                    <a:pt x="530" y="814"/>
                  </a:lnTo>
                  <a:lnTo>
                    <a:pt x="538" y="813"/>
                  </a:lnTo>
                  <a:lnTo>
                    <a:pt x="556" y="809"/>
                  </a:lnTo>
                  <a:lnTo>
                    <a:pt x="574" y="803"/>
                  </a:lnTo>
                  <a:lnTo>
                    <a:pt x="594" y="794"/>
                  </a:lnTo>
                  <a:lnTo>
                    <a:pt x="604" y="789"/>
                  </a:lnTo>
                  <a:lnTo>
                    <a:pt x="614" y="782"/>
                  </a:lnTo>
                  <a:lnTo>
                    <a:pt x="626" y="775"/>
                  </a:lnTo>
                  <a:lnTo>
                    <a:pt x="638" y="766"/>
                  </a:lnTo>
                  <a:lnTo>
                    <a:pt x="663" y="742"/>
                  </a:lnTo>
                  <a:lnTo>
                    <a:pt x="689" y="713"/>
                  </a:lnTo>
                  <a:lnTo>
                    <a:pt x="774" y="27"/>
                  </a:lnTo>
                  <a:lnTo>
                    <a:pt x="1044" y="5"/>
                  </a:lnTo>
                  <a:lnTo>
                    <a:pt x="1054" y="27"/>
                  </a:lnTo>
                  <a:lnTo>
                    <a:pt x="934" y="995"/>
                  </a:lnTo>
                  <a:lnTo>
                    <a:pt x="920" y="1116"/>
                  </a:lnTo>
                  <a:lnTo>
                    <a:pt x="916" y="1152"/>
                  </a:lnTo>
                  <a:lnTo>
                    <a:pt x="914" y="1183"/>
                  </a:lnTo>
                  <a:lnTo>
                    <a:pt x="913" y="1208"/>
                  </a:lnTo>
                  <a:lnTo>
                    <a:pt x="912" y="1219"/>
                  </a:lnTo>
                  <a:lnTo>
                    <a:pt x="912" y="1228"/>
                  </a:lnTo>
                  <a:lnTo>
                    <a:pt x="912" y="1250"/>
                  </a:lnTo>
                  <a:lnTo>
                    <a:pt x="914" y="1270"/>
                  </a:lnTo>
                  <a:lnTo>
                    <a:pt x="915" y="1289"/>
                  </a:lnTo>
                  <a:lnTo>
                    <a:pt x="916" y="1297"/>
                  </a:lnTo>
                  <a:lnTo>
                    <a:pt x="918" y="1306"/>
                  </a:lnTo>
                  <a:lnTo>
                    <a:pt x="919" y="1313"/>
                  </a:lnTo>
                  <a:lnTo>
                    <a:pt x="921" y="1320"/>
                  </a:lnTo>
                  <a:lnTo>
                    <a:pt x="922" y="1327"/>
                  </a:lnTo>
                  <a:lnTo>
                    <a:pt x="924" y="1333"/>
                  </a:lnTo>
                  <a:lnTo>
                    <a:pt x="927" y="1338"/>
                  </a:lnTo>
                  <a:lnTo>
                    <a:pt x="928" y="1344"/>
                  </a:lnTo>
                  <a:lnTo>
                    <a:pt x="931" y="1349"/>
                  </a:lnTo>
                  <a:lnTo>
                    <a:pt x="934" y="1353"/>
                  </a:lnTo>
                  <a:lnTo>
                    <a:pt x="936" y="1356"/>
                  </a:lnTo>
                  <a:lnTo>
                    <a:pt x="940" y="1360"/>
                  </a:lnTo>
                  <a:lnTo>
                    <a:pt x="943" y="1363"/>
                  </a:lnTo>
                  <a:lnTo>
                    <a:pt x="946" y="1367"/>
                  </a:lnTo>
                  <a:lnTo>
                    <a:pt x="954" y="1373"/>
                  </a:lnTo>
                  <a:lnTo>
                    <a:pt x="964" y="1378"/>
                  </a:lnTo>
                  <a:lnTo>
                    <a:pt x="973" y="1380"/>
                  </a:lnTo>
                  <a:lnTo>
                    <a:pt x="984" y="1383"/>
                  </a:lnTo>
                  <a:lnTo>
                    <a:pt x="996" y="1385"/>
                  </a:lnTo>
                  <a:lnTo>
                    <a:pt x="1009" y="1385"/>
                  </a:lnTo>
                  <a:lnTo>
                    <a:pt x="1016" y="1385"/>
                  </a:lnTo>
                  <a:lnTo>
                    <a:pt x="1022" y="1383"/>
                  </a:lnTo>
                  <a:lnTo>
                    <a:pt x="1029" y="1383"/>
                  </a:lnTo>
                  <a:lnTo>
                    <a:pt x="1037" y="1382"/>
                  </a:lnTo>
                  <a:lnTo>
                    <a:pt x="1051" y="1376"/>
                  </a:lnTo>
                  <a:lnTo>
                    <a:pt x="1067" y="1369"/>
                  </a:lnTo>
                  <a:lnTo>
                    <a:pt x="1081" y="1362"/>
                  </a:lnTo>
                  <a:lnTo>
                    <a:pt x="1094" y="1354"/>
                  </a:lnTo>
                  <a:lnTo>
                    <a:pt x="1105" y="1347"/>
                  </a:lnTo>
                  <a:lnTo>
                    <a:pt x="1110" y="1344"/>
                  </a:lnTo>
                  <a:lnTo>
                    <a:pt x="1113" y="1340"/>
                  </a:lnTo>
                  <a:lnTo>
                    <a:pt x="1094" y="1481"/>
                  </a:lnTo>
                  <a:lnTo>
                    <a:pt x="961" y="1575"/>
                  </a:lnTo>
                  <a:lnTo>
                    <a:pt x="948" y="1582"/>
                  </a:lnTo>
                  <a:lnTo>
                    <a:pt x="935" y="1589"/>
                  </a:lnTo>
                  <a:lnTo>
                    <a:pt x="921" y="1595"/>
                  </a:lnTo>
                  <a:lnTo>
                    <a:pt x="907" y="1600"/>
                  </a:lnTo>
                  <a:lnTo>
                    <a:pt x="892" y="1602"/>
                  </a:lnTo>
                  <a:lnTo>
                    <a:pt x="877" y="1606"/>
                  </a:lnTo>
                  <a:lnTo>
                    <a:pt x="845" y="1607"/>
                  </a:lnTo>
                  <a:lnTo>
                    <a:pt x="823" y="1606"/>
                  </a:lnTo>
                  <a:lnTo>
                    <a:pt x="801" y="1602"/>
                  </a:lnTo>
                  <a:lnTo>
                    <a:pt x="780" y="1595"/>
                  </a:lnTo>
                  <a:lnTo>
                    <a:pt x="761" y="1586"/>
                  </a:lnTo>
                  <a:lnTo>
                    <a:pt x="743" y="1573"/>
                  </a:lnTo>
                  <a:lnTo>
                    <a:pt x="725" y="1559"/>
                  </a:lnTo>
                  <a:lnTo>
                    <a:pt x="709" y="1541"/>
                  </a:lnTo>
                  <a:lnTo>
                    <a:pt x="693" y="1519"/>
                  </a:lnTo>
                  <a:lnTo>
                    <a:pt x="686" y="1508"/>
                  </a:lnTo>
                  <a:lnTo>
                    <a:pt x="679" y="1495"/>
                  </a:lnTo>
                  <a:lnTo>
                    <a:pt x="673" y="1483"/>
                  </a:lnTo>
                  <a:lnTo>
                    <a:pt x="667" y="1470"/>
                  </a:lnTo>
                  <a:lnTo>
                    <a:pt x="662" y="1457"/>
                  </a:lnTo>
                  <a:lnTo>
                    <a:pt x="656" y="1443"/>
                  </a:lnTo>
                  <a:lnTo>
                    <a:pt x="652" y="1429"/>
                  </a:lnTo>
                  <a:lnTo>
                    <a:pt x="648" y="1414"/>
                  </a:lnTo>
                  <a:lnTo>
                    <a:pt x="644" y="1400"/>
                  </a:lnTo>
                  <a:lnTo>
                    <a:pt x="642" y="1383"/>
                  </a:lnTo>
                  <a:lnTo>
                    <a:pt x="639" y="1367"/>
                  </a:lnTo>
                  <a:lnTo>
                    <a:pt x="637" y="1351"/>
                  </a:lnTo>
                  <a:lnTo>
                    <a:pt x="635" y="1335"/>
                  </a:lnTo>
                  <a:lnTo>
                    <a:pt x="634" y="1317"/>
                  </a:lnTo>
                  <a:lnTo>
                    <a:pt x="633" y="1298"/>
                  </a:lnTo>
                  <a:lnTo>
                    <a:pt x="633" y="1280"/>
                  </a:lnTo>
                  <a:lnTo>
                    <a:pt x="633" y="1241"/>
                  </a:lnTo>
                  <a:lnTo>
                    <a:pt x="634" y="1208"/>
                  </a:lnTo>
                  <a:lnTo>
                    <a:pt x="635" y="1179"/>
                  </a:lnTo>
                  <a:lnTo>
                    <a:pt x="636" y="1156"/>
                  </a:lnTo>
                  <a:lnTo>
                    <a:pt x="638" y="1132"/>
                  </a:lnTo>
                  <a:lnTo>
                    <a:pt x="640" y="1105"/>
                  </a:lnTo>
                  <a:lnTo>
                    <a:pt x="649" y="1033"/>
                  </a:lnTo>
                  <a:lnTo>
                    <a:pt x="670" y="869"/>
                  </a:lnTo>
                  <a:lnTo>
                    <a:pt x="635" y="908"/>
                  </a:lnTo>
                  <a:lnTo>
                    <a:pt x="598" y="946"/>
                  </a:lnTo>
                  <a:lnTo>
                    <a:pt x="559" y="981"/>
                  </a:lnTo>
                  <a:lnTo>
                    <a:pt x="520" y="1013"/>
                  </a:lnTo>
                  <a:lnTo>
                    <a:pt x="499" y="1027"/>
                  </a:lnTo>
                  <a:lnTo>
                    <a:pt x="478" y="1040"/>
                  </a:lnTo>
                  <a:lnTo>
                    <a:pt x="456" y="1051"/>
                  </a:lnTo>
                  <a:lnTo>
                    <a:pt x="434" y="1060"/>
                  </a:lnTo>
                  <a:lnTo>
                    <a:pt x="411" y="1067"/>
                  </a:lnTo>
                  <a:lnTo>
                    <a:pt x="387" y="1073"/>
                  </a:lnTo>
                  <a:lnTo>
                    <a:pt x="364" y="1074"/>
                  </a:lnTo>
                  <a:lnTo>
                    <a:pt x="339" y="1076"/>
                  </a:lnTo>
                  <a:lnTo>
                    <a:pt x="317" y="1074"/>
                  </a:lnTo>
                  <a:lnTo>
                    <a:pt x="295" y="1071"/>
                  </a:lnTo>
                  <a:lnTo>
                    <a:pt x="276" y="1064"/>
                  </a:lnTo>
                  <a:lnTo>
                    <a:pt x="258" y="1055"/>
                  </a:lnTo>
                  <a:lnTo>
                    <a:pt x="241" y="1042"/>
                  </a:lnTo>
                  <a:lnTo>
                    <a:pt x="233" y="1035"/>
                  </a:lnTo>
                  <a:lnTo>
                    <a:pt x="225" y="1027"/>
                  </a:lnTo>
                  <a:lnTo>
                    <a:pt x="219" y="1018"/>
                  </a:lnTo>
                  <a:lnTo>
                    <a:pt x="212" y="1009"/>
                  </a:lnTo>
                  <a:lnTo>
                    <a:pt x="206" y="999"/>
                  </a:lnTo>
                  <a:lnTo>
                    <a:pt x="200" y="988"/>
                  </a:lnTo>
                  <a:lnTo>
                    <a:pt x="195" y="977"/>
                  </a:lnTo>
                  <a:lnTo>
                    <a:pt x="189" y="964"/>
                  </a:lnTo>
                  <a:lnTo>
                    <a:pt x="184" y="953"/>
                  </a:lnTo>
                  <a:lnTo>
                    <a:pt x="180" y="939"/>
                  </a:lnTo>
                  <a:lnTo>
                    <a:pt x="176" y="926"/>
                  </a:lnTo>
                  <a:lnTo>
                    <a:pt x="172" y="912"/>
                  </a:lnTo>
                  <a:lnTo>
                    <a:pt x="169" y="897"/>
                  </a:lnTo>
                  <a:lnTo>
                    <a:pt x="165" y="883"/>
                  </a:lnTo>
                  <a:lnTo>
                    <a:pt x="163" y="867"/>
                  </a:lnTo>
                  <a:lnTo>
                    <a:pt x="161" y="850"/>
                  </a:lnTo>
                  <a:lnTo>
                    <a:pt x="157" y="816"/>
                  </a:lnTo>
                  <a:lnTo>
                    <a:pt x="155" y="780"/>
                  </a:lnTo>
                  <a:lnTo>
                    <a:pt x="154" y="740"/>
                  </a:lnTo>
                  <a:lnTo>
                    <a:pt x="154" y="719"/>
                  </a:lnTo>
                  <a:lnTo>
                    <a:pt x="155" y="697"/>
                  </a:lnTo>
                  <a:lnTo>
                    <a:pt x="157" y="673"/>
                  </a:lnTo>
                  <a:lnTo>
                    <a:pt x="158" y="648"/>
                  </a:lnTo>
                  <a:lnTo>
                    <a:pt x="161" y="623"/>
                  </a:lnTo>
                  <a:lnTo>
                    <a:pt x="164" y="598"/>
                  </a:lnTo>
                  <a:lnTo>
                    <a:pt x="171" y="542"/>
                  </a:lnTo>
                  <a:lnTo>
                    <a:pt x="179" y="487"/>
                  </a:lnTo>
                  <a:lnTo>
                    <a:pt x="184" y="442"/>
                  </a:lnTo>
                  <a:lnTo>
                    <a:pt x="186" y="422"/>
                  </a:lnTo>
                  <a:lnTo>
                    <a:pt x="188" y="406"/>
                  </a:lnTo>
                  <a:lnTo>
                    <a:pt x="188" y="390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02120" y="774720"/>
              <a:ext cx="411120" cy="585720"/>
            </a:xfrm>
            <a:custGeom>
              <a:avLst/>
              <a:gdLst/>
              <a:ahLst/>
              <a:rect l="l" t="t" r="r" b="b"/>
              <a:pathLst>
                <a:path w="1140" h="1628">
                  <a:moveTo>
                    <a:pt x="650" y="1329"/>
                  </a:moveTo>
                  <a:lnTo>
                    <a:pt x="644" y="1329"/>
                  </a:lnTo>
                  <a:lnTo>
                    <a:pt x="600" y="1400"/>
                  </a:lnTo>
                  <a:lnTo>
                    <a:pt x="557" y="1461"/>
                  </a:lnTo>
                  <a:lnTo>
                    <a:pt x="536" y="1488"/>
                  </a:lnTo>
                  <a:lnTo>
                    <a:pt x="516" y="1513"/>
                  </a:lnTo>
                  <a:lnTo>
                    <a:pt x="495" y="1535"/>
                  </a:lnTo>
                  <a:lnTo>
                    <a:pt x="475" y="1555"/>
                  </a:lnTo>
                  <a:lnTo>
                    <a:pt x="455" y="1571"/>
                  </a:lnTo>
                  <a:lnTo>
                    <a:pt x="433" y="1587"/>
                  </a:lnTo>
                  <a:lnTo>
                    <a:pt x="411" y="1600"/>
                  </a:lnTo>
                  <a:lnTo>
                    <a:pt x="388" y="1609"/>
                  </a:lnTo>
                  <a:lnTo>
                    <a:pt x="364" y="1616"/>
                  </a:lnTo>
                  <a:lnTo>
                    <a:pt x="340" y="1624"/>
                  </a:lnTo>
                  <a:lnTo>
                    <a:pt x="314" y="1625"/>
                  </a:lnTo>
                  <a:lnTo>
                    <a:pt x="289" y="1627"/>
                  </a:lnTo>
                  <a:lnTo>
                    <a:pt x="265" y="1625"/>
                  </a:lnTo>
                  <a:lnTo>
                    <a:pt x="244" y="1622"/>
                  </a:lnTo>
                  <a:lnTo>
                    <a:pt x="224" y="1613"/>
                  </a:lnTo>
                  <a:lnTo>
                    <a:pt x="205" y="1604"/>
                  </a:lnTo>
                  <a:lnTo>
                    <a:pt x="188" y="1589"/>
                  </a:lnTo>
                  <a:lnTo>
                    <a:pt x="180" y="1582"/>
                  </a:lnTo>
                  <a:lnTo>
                    <a:pt x="172" y="1573"/>
                  </a:lnTo>
                  <a:lnTo>
                    <a:pt x="165" y="1564"/>
                  </a:lnTo>
                  <a:lnTo>
                    <a:pt x="157" y="1553"/>
                  </a:lnTo>
                  <a:lnTo>
                    <a:pt x="151" y="1542"/>
                  </a:lnTo>
                  <a:lnTo>
                    <a:pt x="144" y="1531"/>
                  </a:lnTo>
                  <a:lnTo>
                    <a:pt x="132" y="1506"/>
                  </a:lnTo>
                  <a:lnTo>
                    <a:pt x="122" y="1481"/>
                  </a:lnTo>
                  <a:lnTo>
                    <a:pt x="117" y="1466"/>
                  </a:lnTo>
                  <a:lnTo>
                    <a:pt x="112" y="1454"/>
                  </a:lnTo>
                  <a:lnTo>
                    <a:pt x="109" y="1439"/>
                  </a:lnTo>
                  <a:lnTo>
                    <a:pt x="105" y="1425"/>
                  </a:lnTo>
                  <a:lnTo>
                    <a:pt x="102" y="1410"/>
                  </a:lnTo>
                  <a:lnTo>
                    <a:pt x="99" y="1394"/>
                  </a:lnTo>
                  <a:lnTo>
                    <a:pt x="98" y="1380"/>
                  </a:lnTo>
                  <a:lnTo>
                    <a:pt x="96" y="1363"/>
                  </a:lnTo>
                  <a:lnTo>
                    <a:pt x="94" y="1347"/>
                  </a:lnTo>
                  <a:lnTo>
                    <a:pt x="93" y="1331"/>
                  </a:lnTo>
                  <a:lnTo>
                    <a:pt x="92" y="1315"/>
                  </a:lnTo>
                  <a:lnTo>
                    <a:pt x="92" y="1298"/>
                  </a:lnTo>
                  <a:lnTo>
                    <a:pt x="92" y="1273"/>
                  </a:lnTo>
                  <a:lnTo>
                    <a:pt x="93" y="1248"/>
                  </a:lnTo>
                  <a:lnTo>
                    <a:pt x="94" y="1223"/>
                  </a:lnTo>
                  <a:lnTo>
                    <a:pt x="95" y="1197"/>
                  </a:lnTo>
                  <a:lnTo>
                    <a:pt x="98" y="1170"/>
                  </a:lnTo>
                  <a:lnTo>
                    <a:pt x="101" y="1138"/>
                  </a:lnTo>
                  <a:lnTo>
                    <a:pt x="105" y="1100"/>
                  </a:lnTo>
                  <a:lnTo>
                    <a:pt x="111" y="1056"/>
                  </a:lnTo>
                  <a:lnTo>
                    <a:pt x="175" y="614"/>
                  </a:lnTo>
                  <a:lnTo>
                    <a:pt x="178" y="589"/>
                  </a:lnTo>
                  <a:lnTo>
                    <a:pt x="182" y="561"/>
                  </a:lnTo>
                  <a:lnTo>
                    <a:pt x="189" y="493"/>
                  </a:lnTo>
                  <a:lnTo>
                    <a:pt x="193" y="457"/>
                  </a:lnTo>
                  <a:lnTo>
                    <a:pt x="196" y="426"/>
                  </a:lnTo>
                  <a:lnTo>
                    <a:pt x="197" y="413"/>
                  </a:lnTo>
                  <a:lnTo>
                    <a:pt x="197" y="401"/>
                  </a:lnTo>
                  <a:lnTo>
                    <a:pt x="197" y="390"/>
                  </a:lnTo>
                  <a:lnTo>
                    <a:pt x="197" y="379"/>
                  </a:lnTo>
                  <a:lnTo>
                    <a:pt x="197" y="357"/>
                  </a:lnTo>
                  <a:lnTo>
                    <a:pt x="197" y="339"/>
                  </a:lnTo>
                  <a:lnTo>
                    <a:pt x="195" y="321"/>
                  </a:lnTo>
                  <a:lnTo>
                    <a:pt x="192" y="305"/>
                  </a:lnTo>
                  <a:lnTo>
                    <a:pt x="191" y="298"/>
                  </a:lnTo>
                  <a:lnTo>
                    <a:pt x="190" y="290"/>
                  </a:lnTo>
                  <a:lnTo>
                    <a:pt x="188" y="285"/>
                  </a:lnTo>
                  <a:lnTo>
                    <a:pt x="186" y="278"/>
                  </a:lnTo>
                  <a:lnTo>
                    <a:pt x="185" y="272"/>
                  </a:lnTo>
                  <a:lnTo>
                    <a:pt x="183" y="267"/>
                  </a:lnTo>
                  <a:lnTo>
                    <a:pt x="181" y="263"/>
                  </a:lnTo>
                  <a:lnTo>
                    <a:pt x="178" y="258"/>
                  </a:lnTo>
                  <a:lnTo>
                    <a:pt x="176" y="254"/>
                  </a:lnTo>
                  <a:lnTo>
                    <a:pt x="173" y="249"/>
                  </a:lnTo>
                  <a:lnTo>
                    <a:pt x="170" y="245"/>
                  </a:lnTo>
                  <a:lnTo>
                    <a:pt x="166" y="242"/>
                  </a:lnTo>
                  <a:lnTo>
                    <a:pt x="163" y="240"/>
                  </a:lnTo>
                  <a:lnTo>
                    <a:pt x="159" y="236"/>
                  </a:lnTo>
                  <a:lnTo>
                    <a:pt x="150" y="231"/>
                  </a:lnTo>
                  <a:lnTo>
                    <a:pt x="140" y="227"/>
                  </a:lnTo>
                  <a:lnTo>
                    <a:pt x="129" y="224"/>
                  </a:lnTo>
                  <a:lnTo>
                    <a:pt x="117" y="222"/>
                  </a:lnTo>
                  <a:lnTo>
                    <a:pt x="104" y="222"/>
                  </a:lnTo>
                  <a:lnTo>
                    <a:pt x="97" y="222"/>
                  </a:lnTo>
                  <a:lnTo>
                    <a:pt x="90" y="224"/>
                  </a:lnTo>
                  <a:lnTo>
                    <a:pt x="83" y="224"/>
                  </a:lnTo>
                  <a:lnTo>
                    <a:pt x="76" y="225"/>
                  </a:lnTo>
                  <a:lnTo>
                    <a:pt x="69" y="229"/>
                  </a:lnTo>
                  <a:lnTo>
                    <a:pt x="62" y="231"/>
                  </a:lnTo>
                  <a:lnTo>
                    <a:pt x="49" y="238"/>
                  </a:lnTo>
                  <a:lnTo>
                    <a:pt x="35" y="245"/>
                  </a:lnTo>
                  <a:lnTo>
                    <a:pt x="22" y="252"/>
                  </a:lnTo>
                  <a:lnTo>
                    <a:pt x="0" y="267"/>
                  </a:lnTo>
                  <a:lnTo>
                    <a:pt x="18" y="126"/>
                  </a:lnTo>
                  <a:lnTo>
                    <a:pt x="52" y="101"/>
                  </a:lnTo>
                  <a:lnTo>
                    <a:pt x="86" y="77"/>
                  </a:lnTo>
                  <a:lnTo>
                    <a:pt x="150" y="36"/>
                  </a:lnTo>
                  <a:lnTo>
                    <a:pt x="181" y="19"/>
                  </a:lnTo>
                  <a:lnTo>
                    <a:pt x="211" y="9"/>
                  </a:lnTo>
                  <a:lnTo>
                    <a:pt x="226" y="5"/>
                  </a:lnTo>
                  <a:lnTo>
                    <a:pt x="240" y="1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93" y="1"/>
                  </a:lnTo>
                  <a:lnTo>
                    <a:pt x="316" y="5"/>
                  </a:lnTo>
                  <a:lnTo>
                    <a:pt x="338" y="12"/>
                  </a:lnTo>
                  <a:lnTo>
                    <a:pt x="358" y="23"/>
                  </a:lnTo>
                  <a:lnTo>
                    <a:pt x="376" y="36"/>
                  </a:lnTo>
                  <a:lnTo>
                    <a:pt x="394" y="52"/>
                  </a:lnTo>
                  <a:lnTo>
                    <a:pt x="402" y="61"/>
                  </a:lnTo>
                  <a:lnTo>
                    <a:pt x="410" y="72"/>
                  </a:lnTo>
                  <a:lnTo>
                    <a:pt x="418" y="83"/>
                  </a:lnTo>
                  <a:lnTo>
                    <a:pt x="425" y="94"/>
                  </a:lnTo>
                  <a:lnTo>
                    <a:pt x="437" y="117"/>
                  </a:lnTo>
                  <a:lnTo>
                    <a:pt x="443" y="130"/>
                  </a:lnTo>
                  <a:lnTo>
                    <a:pt x="449" y="144"/>
                  </a:lnTo>
                  <a:lnTo>
                    <a:pt x="453" y="157"/>
                  </a:lnTo>
                  <a:lnTo>
                    <a:pt x="457" y="169"/>
                  </a:lnTo>
                  <a:lnTo>
                    <a:pt x="462" y="184"/>
                  </a:lnTo>
                  <a:lnTo>
                    <a:pt x="465" y="198"/>
                  </a:lnTo>
                  <a:lnTo>
                    <a:pt x="468" y="213"/>
                  </a:lnTo>
                  <a:lnTo>
                    <a:pt x="471" y="229"/>
                  </a:lnTo>
                  <a:lnTo>
                    <a:pt x="474" y="243"/>
                  </a:lnTo>
                  <a:lnTo>
                    <a:pt x="475" y="260"/>
                  </a:lnTo>
                  <a:lnTo>
                    <a:pt x="477" y="276"/>
                  </a:lnTo>
                  <a:lnTo>
                    <a:pt x="478" y="292"/>
                  </a:lnTo>
                  <a:lnTo>
                    <a:pt x="479" y="308"/>
                  </a:lnTo>
                  <a:lnTo>
                    <a:pt x="479" y="327"/>
                  </a:lnTo>
                  <a:lnTo>
                    <a:pt x="479" y="343"/>
                  </a:lnTo>
                  <a:lnTo>
                    <a:pt x="478" y="366"/>
                  </a:lnTo>
                  <a:lnTo>
                    <a:pt x="477" y="395"/>
                  </a:lnTo>
                  <a:lnTo>
                    <a:pt x="475" y="430"/>
                  </a:lnTo>
                  <a:lnTo>
                    <a:pt x="474" y="448"/>
                  </a:lnTo>
                  <a:lnTo>
                    <a:pt x="474" y="467"/>
                  </a:lnTo>
                  <a:lnTo>
                    <a:pt x="472" y="486"/>
                  </a:lnTo>
                  <a:lnTo>
                    <a:pt x="470" y="504"/>
                  </a:lnTo>
                  <a:lnTo>
                    <a:pt x="467" y="538"/>
                  </a:lnTo>
                  <a:lnTo>
                    <a:pt x="462" y="570"/>
                  </a:lnTo>
                  <a:lnTo>
                    <a:pt x="400" y="990"/>
                  </a:lnTo>
                  <a:lnTo>
                    <a:pt x="396" y="1017"/>
                  </a:lnTo>
                  <a:lnTo>
                    <a:pt x="392" y="1047"/>
                  </a:lnTo>
                  <a:lnTo>
                    <a:pt x="388" y="1076"/>
                  </a:lnTo>
                  <a:lnTo>
                    <a:pt x="386" y="1109"/>
                  </a:lnTo>
                  <a:lnTo>
                    <a:pt x="383" y="1139"/>
                  </a:lnTo>
                  <a:lnTo>
                    <a:pt x="382" y="1165"/>
                  </a:lnTo>
                  <a:lnTo>
                    <a:pt x="381" y="1185"/>
                  </a:lnTo>
                  <a:lnTo>
                    <a:pt x="381" y="1194"/>
                  </a:lnTo>
                  <a:lnTo>
                    <a:pt x="381" y="1201"/>
                  </a:lnTo>
                  <a:lnTo>
                    <a:pt x="381" y="1219"/>
                  </a:lnTo>
                  <a:lnTo>
                    <a:pt x="382" y="1235"/>
                  </a:lnTo>
                  <a:lnTo>
                    <a:pt x="383" y="1251"/>
                  </a:lnTo>
                  <a:lnTo>
                    <a:pt x="386" y="1268"/>
                  </a:lnTo>
                  <a:lnTo>
                    <a:pt x="388" y="1282"/>
                  </a:lnTo>
                  <a:lnTo>
                    <a:pt x="392" y="1295"/>
                  </a:lnTo>
                  <a:lnTo>
                    <a:pt x="395" y="1307"/>
                  </a:lnTo>
                  <a:lnTo>
                    <a:pt x="400" y="1318"/>
                  </a:lnTo>
                  <a:lnTo>
                    <a:pt x="402" y="1324"/>
                  </a:lnTo>
                  <a:lnTo>
                    <a:pt x="405" y="1329"/>
                  </a:lnTo>
                  <a:lnTo>
                    <a:pt x="407" y="1333"/>
                  </a:lnTo>
                  <a:lnTo>
                    <a:pt x="411" y="1338"/>
                  </a:lnTo>
                  <a:lnTo>
                    <a:pt x="414" y="1342"/>
                  </a:lnTo>
                  <a:lnTo>
                    <a:pt x="418" y="1345"/>
                  </a:lnTo>
                  <a:lnTo>
                    <a:pt x="421" y="1347"/>
                  </a:lnTo>
                  <a:lnTo>
                    <a:pt x="425" y="1351"/>
                  </a:lnTo>
                  <a:lnTo>
                    <a:pt x="433" y="1356"/>
                  </a:lnTo>
                  <a:lnTo>
                    <a:pt x="443" y="1360"/>
                  </a:lnTo>
                  <a:lnTo>
                    <a:pt x="453" y="1362"/>
                  </a:lnTo>
                  <a:lnTo>
                    <a:pt x="464" y="1362"/>
                  </a:lnTo>
                  <a:lnTo>
                    <a:pt x="473" y="1362"/>
                  </a:lnTo>
                  <a:lnTo>
                    <a:pt x="481" y="1358"/>
                  </a:lnTo>
                  <a:lnTo>
                    <a:pt x="492" y="1354"/>
                  </a:lnTo>
                  <a:lnTo>
                    <a:pt x="502" y="1349"/>
                  </a:lnTo>
                  <a:lnTo>
                    <a:pt x="513" y="1342"/>
                  </a:lnTo>
                  <a:lnTo>
                    <a:pt x="525" y="1333"/>
                  </a:lnTo>
                  <a:lnTo>
                    <a:pt x="551" y="1309"/>
                  </a:lnTo>
                  <a:lnTo>
                    <a:pt x="565" y="1297"/>
                  </a:lnTo>
                  <a:lnTo>
                    <a:pt x="578" y="1280"/>
                  </a:lnTo>
                  <a:lnTo>
                    <a:pt x="591" y="1264"/>
                  </a:lnTo>
                  <a:lnTo>
                    <a:pt x="605" y="1248"/>
                  </a:lnTo>
                  <a:lnTo>
                    <a:pt x="619" y="1228"/>
                  </a:lnTo>
                  <a:lnTo>
                    <a:pt x="632" y="1208"/>
                  </a:lnTo>
                  <a:lnTo>
                    <a:pt x="646" y="1186"/>
                  </a:lnTo>
                  <a:lnTo>
                    <a:pt x="659" y="1163"/>
                  </a:lnTo>
                  <a:lnTo>
                    <a:pt x="799" y="27"/>
                  </a:lnTo>
                  <a:lnTo>
                    <a:pt x="1070" y="5"/>
                  </a:lnTo>
                  <a:lnTo>
                    <a:pt x="1080" y="27"/>
                  </a:lnTo>
                  <a:lnTo>
                    <a:pt x="960" y="995"/>
                  </a:lnTo>
                  <a:lnTo>
                    <a:pt x="956" y="1020"/>
                  </a:lnTo>
                  <a:lnTo>
                    <a:pt x="953" y="1047"/>
                  </a:lnTo>
                  <a:lnTo>
                    <a:pt x="945" y="1116"/>
                  </a:lnTo>
                  <a:lnTo>
                    <a:pt x="942" y="1152"/>
                  </a:lnTo>
                  <a:lnTo>
                    <a:pt x="939" y="1183"/>
                  </a:lnTo>
                  <a:lnTo>
                    <a:pt x="938" y="1208"/>
                  </a:lnTo>
                  <a:lnTo>
                    <a:pt x="937" y="1219"/>
                  </a:lnTo>
                  <a:lnTo>
                    <a:pt x="937" y="1228"/>
                  </a:lnTo>
                  <a:lnTo>
                    <a:pt x="937" y="1250"/>
                  </a:lnTo>
                  <a:lnTo>
                    <a:pt x="939" y="1270"/>
                  </a:lnTo>
                  <a:lnTo>
                    <a:pt x="940" y="1289"/>
                  </a:lnTo>
                  <a:lnTo>
                    <a:pt x="942" y="1297"/>
                  </a:lnTo>
                  <a:lnTo>
                    <a:pt x="942" y="1306"/>
                  </a:lnTo>
                  <a:lnTo>
                    <a:pt x="944" y="1313"/>
                  </a:lnTo>
                  <a:lnTo>
                    <a:pt x="946" y="1320"/>
                  </a:lnTo>
                  <a:lnTo>
                    <a:pt x="948" y="1327"/>
                  </a:lnTo>
                  <a:lnTo>
                    <a:pt x="949" y="1333"/>
                  </a:lnTo>
                  <a:lnTo>
                    <a:pt x="951" y="1338"/>
                  </a:lnTo>
                  <a:lnTo>
                    <a:pt x="954" y="1344"/>
                  </a:lnTo>
                  <a:lnTo>
                    <a:pt x="956" y="1349"/>
                  </a:lnTo>
                  <a:lnTo>
                    <a:pt x="959" y="1353"/>
                  </a:lnTo>
                  <a:lnTo>
                    <a:pt x="961" y="1356"/>
                  </a:lnTo>
                  <a:lnTo>
                    <a:pt x="965" y="1360"/>
                  </a:lnTo>
                  <a:lnTo>
                    <a:pt x="968" y="1363"/>
                  </a:lnTo>
                  <a:lnTo>
                    <a:pt x="972" y="1367"/>
                  </a:lnTo>
                  <a:lnTo>
                    <a:pt x="979" y="1373"/>
                  </a:lnTo>
                  <a:lnTo>
                    <a:pt x="989" y="1378"/>
                  </a:lnTo>
                  <a:lnTo>
                    <a:pt x="998" y="1380"/>
                  </a:lnTo>
                  <a:lnTo>
                    <a:pt x="1010" y="1383"/>
                  </a:lnTo>
                  <a:lnTo>
                    <a:pt x="1022" y="1385"/>
                  </a:lnTo>
                  <a:lnTo>
                    <a:pt x="1035" y="1385"/>
                  </a:lnTo>
                  <a:lnTo>
                    <a:pt x="1041" y="1385"/>
                  </a:lnTo>
                  <a:lnTo>
                    <a:pt x="1048" y="1383"/>
                  </a:lnTo>
                  <a:lnTo>
                    <a:pt x="1062" y="1382"/>
                  </a:lnTo>
                  <a:lnTo>
                    <a:pt x="1078" y="1376"/>
                  </a:lnTo>
                  <a:lnTo>
                    <a:pt x="1093" y="1369"/>
                  </a:lnTo>
                  <a:lnTo>
                    <a:pt x="1108" y="1362"/>
                  </a:lnTo>
                  <a:lnTo>
                    <a:pt x="1121" y="1354"/>
                  </a:lnTo>
                  <a:lnTo>
                    <a:pt x="1131" y="1347"/>
                  </a:lnTo>
                  <a:lnTo>
                    <a:pt x="1136" y="1344"/>
                  </a:lnTo>
                  <a:lnTo>
                    <a:pt x="1139" y="1340"/>
                  </a:lnTo>
                  <a:lnTo>
                    <a:pt x="1121" y="1481"/>
                  </a:lnTo>
                  <a:lnTo>
                    <a:pt x="986" y="1575"/>
                  </a:lnTo>
                  <a:lnTo>
                    <a:pt x="973" y="1582"/>
                  </a:lnTo>
                  <a:lnTo>
                    <a:pt x="961" y="1589"/>
                  </a:lnTo>
                  <a:lnTo>
                    <a:pt x="947" y="1595"/>
                  </a:lnTo>
                  <a:lnTo>
                    <a:pt x="932" y="1600"/>
                  </a:lnTo>
                  <a:lnTo>
                    <a:pt x="918" y="1602"/>
                  </a:lnTo>
                  <a:lnTo>
                    <a:pt x="902" y="1606"/>
                  </a:lnTo>
                  <a:lnTo>
                    <a:pt x="870" y="1607"/>
                  </a:lnTo>
                  <a:lnTo>
                    <a:pt x="848" y="1606"/>
                  </a:lnTo>
                  <a:lnTo>
                    <a:pt x="826" y="1602"/>
                  </a:lnTo>
                  <a:lnTo>
                    <a:pt x="806" y="1597"/>
                  </a:lnTo>
                  <a:lnTo>
                    <a:pt x="787" y="1587"/>
                  </a:lnTo>
                  <a:lnTo>
                    <a:pt x="768" y="1577"/>
                  </a:lnTo>
                  <a:lnTo>
                    <a:pt x="751" y="1564"/>
                  </a:lnTo>
                  <a:lnTo>
                    <a:pt x="735" y="1548"/>
                  </a:lnTo>
                  <a:lnTo>
                    <a:pt x="720" y="1530"/>
                  </a:lnTo>
                  <a:lnTo>
                    <a:pt x="708" y="1510"/>
                  </a:lnTo>
                  <a:lnTo>
                    <a:pt x="696" y="1488"/>
                  </a:lnTo>
                  <a:lnTo>
                    <a:pt x="684" y="1465"/>
                  </a:lnTo>
                  <a:lnTo>
                    <a:pt x="675" y="1441"/>
                  </a:lnTo>
                  <a:lnTo>
                    <a:pt x="666" y="1414"/>
                  </a:lnTo>
                  <a:lnTo>
                    <a:pt x="659" y="1387"/>
                  </a:lnTo>
                  <a:lnTo>
                    <a:pt x="657" y="1373"/>
                  </a:lnTo>
                  <a:lnTo>
                    <a:pt x="654" y="1360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5600" y="774720"/>
              <a:ext cx="411120" cy="585720"/>
            </a:xfrm>
            <a:custGeom>
              <a:avLst/>
              <a:gdLst/>
              <a:ahLst/>
              <a:rect l="l" t="t" r="r" b="b"/>
              <a:pathLst>
                <a:path w="1141" h="1628">
                  <a:moveTo>
                    <a:pt x="651" y="1329"/>
                  </a:moveTo>
                  <a:lnTo>
                    <a:pt x="645" y="1329"/>
                  </a:lnTo>
                  <a:lnTo>
                    <a:pt x="601" y="1400"/>
                  </a:lnTo>
                  <a:lnTo>
                    <a:pt x="558" y="1461"/>
                  </a:lnTo>
                  <a:lnTo>
                    <a:pt x="537" y="1488"/>
                  </a:lnTo>
                  <a:lnTo>
                    <a:pt x="516" y="1513"/>
                  </a:lnTo>
                  <a:lnTo>
                    <a:pt x="496" y="1535"/>
                  </a:lnTo>
                  <a:lnTo>
                    <a:pt x="476" y="1555"/>
                  </a:lnTo>
                  <a:lnTo>
                    <a:pt x="455" y="1571"/>
                  </a:lnTo>
                  <a:lnTo>
                    <a:pt x="434" y="1587"/>
                  </a:lnTo>
                  <a:lnTo>
                    <a:pt x="411" y="1600"/>
                  </a:lnTo>
                  <a:lnTo>
                    <a:pt x="389" y="1609"/>
                  </a:lnTo>
                  <a:lnTo>
                    <a:pt x="365" y="1616"/>
                  </a:lnTo>
                  <a:lnTo>
                    <a:pt x="341" y="1624"/>
                  </a:lnTo>
                  <a:lnTo>
                    <a:pt x="315" y="1625"/>
                  </a:lnTo>
                  <a:lnTo>
                    <a:pt x="289" y="1627"/>
                  </a:lnTo>
                  <a:lnTo>
                    <a:pt x="266" y="1625"/>
                  </a:lnTo>
                  <a:lnTo>
                    <a:pt x="245" y="1622"/>
                  </a:lnTo>
                  <a:lnTo>
                    <a:pt x="225" y="1613"/>
                  </a:lnTo>
                  <a:lnTo>
                    <a:pt x="206" y="1604"/>
                  </a:lnTo>
                  <a:lnTo>
                    <a:pt x="189" y="1589"/>
                  </a:lnTo>
                  <a:lnTo>
                    <a:pt x="181" y="1582"/>
                  </a:lnTo>
                  <a:lnTo>
                    <a:pt x="172" y="1573"/>
                  </a:lnTo>
                  <a:lnTo>
                    <a:pt x="165" y="1564"/>
                  </a:lnTo>
                  <a:lnTo>
                    <a:pt x="158" y="1553"/>
                  </a:lnTo>
                  <a:lnTo>
                    <a:pt x="152" y="1542"/>
                  </a:lnTo>
                  <a:lnTo>
                    <a:pt x="145" y="1531"/>
                  </a:lnTo>
                  <a:lnTo>
                    <a:pt x="133" y="1506"/>
                  </a:lnTo>
                  <a:lnTo>
                    <a:pt x="122" y="1481"/>
                  </a:lnTo>
                  <a:lnTo>
                    <a:pt x="117" y="1466"/>
                  </a:lnTo>
                  <a:lnTo>
                    <a:pt x="113" y="1454"/>
                  </a:lnTo>
                  <a:lnTo>
                    <a:pt x="109" y="1439"/>
                  </a:lnTo>
                  <a:lnTo>
                    <a:pt x="106" y="1425"/>
                  </a:lnTo>
                  <a:lnTo>
                    <a:pt x="103" y="1410"/>
                  </a:lnTo>
                  <a:lnTo>
                    <a:pt x="100" y="1394"/>
                  </a:lnTo>
                  <a:lnTo>
                    <a:pt x="98" y="1380"/>
                  </a:lnTo>
                  <a:lnTo>
                    <a:pt x="97" y="1363"/>
                  </a:lnTo>
                  <a:lnTo>
                    <a:pt x="95" y="1347"/>
                  </a:lnTo>
                  <a:lnTo>
                    <a:pt x="94" y="1331"/>
                  </a:lnTo>
                  <a:lnTo>
                    <a:pt x="93" y="1315"/>
                  </a:lnTo>
                  <a:lnTo>
                    <a:pt x="93" y="1298"/>
                  </a:lnTo>
                  <a:lnTo>
                    <a:pt x="93" y="1273"/>
                  </a:lnTo>
                  <a:lnTo>
                    <a:pt x="94" y="1248"/>
                  </a:lnTo>
                  <a:lnTo>
                    <a:pt x="95" y="1223"/>
                  </a:lnTo>
                  <a:lnTo>
                    <a:pt x="96" y="1197"/>
                  </a:lnTo>
                  <a:lnTo>
                    <a:pt x="98" y="1170"/>
                  </a:lnTo>
                  <a:lnTo>
                    <a:pt x="102" y="1138"/>
                  </a:lnTo>
                  <a:lnTo>
                    <a:pt x="106" y="1100"/>
                  </a:lnTo>
                  <a:lnTo>
                    <a:pt x="112" y="1056"/>
                  </a:lnTo>
                  <a:lnTo>
                    <a:pt x="176" y="614"/>
                  </a:lnTo>
                  <a:lnTo>
                    <a:pt x="179" y="589"/>
                  </a:lnTo>
                  <a:lnTo>
                    <a:pt x="183" y="561"/>
                  </a:lnTo>
                  <a:lnTo>
                    <a:pt x="189" y="493"/>
                  </a:lnTo>
                  <a:lnTo>
                    <a:pt x="194" y="457"/>
                  </a:lnTo>
                  <a:lnTo>
                    <a:pt x="196" y="426"/>
                  </a:lnTo>
                  <a:lnTo>
                    <a:pt x="197" y="413"/>
                  </a:lnTo>
                  <a:lnTo>
                    <a:pt x="197" y="401"/>
                  </a:lnTo>
                  <a:lnTo>
                    <a:pt x="198" y="390"/>
                  </a:lnTo>
                  <a:lnTo>
                    <a:pt x="198" y="379"/>
                  </a:lnTo>
                  <a:lnTo>
                    <a:pt x="198" y="357"/>
                  </a:lnTo>
                  <a:lnTo>
                    <a:pt x="197" y="339"/>
                  </a:lnTo>
                  <a:lnTo>
                    <a:pt x="195" y="321"/>
                  </a:lnTo>
                  <a:lnTo>
                    <a:pt x="193" y="305"/>
                  </a:lnTo>
                  <a:lnTo>
                    <a:pt x="192" y="298"/>
                  </a:lnTo>
                  <a:lnTo>
                    <a:pt x="190" y="290"/>
                  </a:lnTo>
                  <a:lnTo>
                    <a:pt x="189" y="285"/>
                  </a:lnTo>
                  <a:lnTo>
                    <a:pt x="187" y="278"/>
                  </a:lnTo>
                  <a:lnTo>
                    <a:pt x="185" y="272"/>
                  </a:lnTo>
                  <a:lnTo>
                    <a:pt x="183" y="267"/>
                  </a:lnTo>
                  <a:lnTo>
                    <a:pt x="182" y="263"/>
                  </a:lnTo>
                  <a:lnTo>
                    <a:pt x="179" y="258"/>
                  </a:lnTo>
                  <a:lnTo>
                    <a:pt x="177" y="254"/>
                  </a:lnTo>
                  <a:lnTo>
                    <a:pt x="174" y="249"/>
                  </a:lnTo>
                  <a:lnTo>
                    <a:pt x="171" y="245"/>
                  </a:lnTo>
                  <a:lnTo>
                    <a:pt x="167" y="242"/>
                  </a:lnTo>
                  <a:lnTo>
                    <a:pt x="164" y="240"/>
                  </a:lnTo>
                  <a:lnTo>
                    <a:pt x="159" y="236"/>
                  </a:lnTo>
                  <a:lnTo>
                    <a:pt x="151" y="231"/>
                  </a:lnTo>
                  <a:lnTo>
                    <a:pt x="140" y="227"/>
                  </a:lnTo>
                  <a:lnTo>
                    <a:pt x="130" y="224"/>
                  </a:lnTo>
                  <a:lnTo>
                    <a:pt x="117" y="222"/>
                  </a:lnTo>
                  <a:lnTo>
                    <a:pt x="104" y="222"/>
                  </a:lnTo>
                  <a:lnTo>
                    <a:pt x="97" y="222"/>
                  </a:lnTo>
                  <a:lnTo>
                    <a:pt x="91" y="224"/>
                  </a:lnTo>
                  <a:lnTo>
                    <a:pt x="84" y="224"/>
                  </a:lnTo>
                  <a:lnTo>
                    <a:pt x="77" y="225"/>
                  </a:lnTo>
                  <a:lnTo>
                    <a:pt x="70" y="229"/>
                  </a:lnTo>
                  <a:lnTo>
                    <a:pt x="63" y="231"/>
                  </a:lnTo>
                  <a:lnTo>
                    <a:pt x="49" y="238"/>
                  </a:lnTo>
                  <a:lnTo>
                    <a:pt x="35" y="245"/>
                  </a:lnTo>
                  <a:lnTo>
                    <a:pt x="23" y="252"/>
                  </a:lnTo>
                  <a:lnTo>
                    <a:pt x="0" y="267"/>
                  </a:lnTo>
                  <a:lnTo>
                    <a:pt x="19" y="126"/>
                  </a:lnTo>
                  <a:lnTo>
                    <a:pt x="53" y="101"/>
                  </a:lnTo>
                  <a:lnTo>
                    <a:pt x="86" y="77"/>
                  </a:lnTo>
                  <a:lnTo>
                    <a:pt x="151" y="36"/>
                  </a:lnTo>
                  <a:lnTo>
                    <a:pt x="182" y="19"/>
                  </a:lnTo>
                  <a:lnTo>
                    <a:pt x="212" y="9"/>
                  </a:lnTo>
                  <a:lnTo>
                    <a:pt x="226" y="5"/>
                  </a:lnTo>
                  <a:lnTo>
                    <a:pt x="241" y="1"/>
                  </a:lnTo>
                  <a:lnTo>
                    <a:pt x="255" y="0"/>
                  </a:lnTo>
                  <a:lnTo>
                    <a:pt x="269" y="0"/>
                  </a:lnTo>
                  <a:lnTo>
                    <a:pt x="294" y="1"/>
                  </a:lnTo>
                  <a:lnTo>
                    <a:pt x="317" y="5"/>
                  </a:lnTo>
                  <a:lnTo>
                    <a:pt x="338" y="12"/>
                  </a:lnTo>
                  <a:lnTo>
                    <a:pt x="359" y="23"/>
                  </a:lnTo>
                  <a:lnTo>
                    <a:pt x="377" y="36"/>
                  </a:lnTo>
                  <a:lnTo>
                    <a:pt x="395" y="52"/>
                  </a:lnTo>
                  <a:lnTo>
                    <a:pt x="403" y="61"/>
                  </a:lnTo>
                  <a:lnTo>
                    <a:pt x="411" y="72"/>
                  </a:lnTo>
                  <a:lnTo>
                    <a:pt x="418" y="83"/>
                  </a:lnTo>
                  <a:lnTo>
                    <a:pt x="425" y="94"/>
                  </a:lnTo>
                  <a:lnTo>
                    <a:pt x="438" y="117"/>
                  </a:lnTo>
                  <a:lnTo>
                    <a:pt x="443" y="130"/>
                  </a:lnTo>
                  <a:lnTo>
                    <a:pt x="449" y="144"/>
                  </a:lnTo>
                  <a:lnTo>
                    <a:pt x="454" y="157"/>
                  </a:lnTo>
                  <a:lnTo>
                    <a:pt x="458" y="169"/>
                  </a:lnTo>
                  <a:lnTo>
                    <a:pt x="462" y="184"/>
                  </a:lnTo>
                  <a:lnTo>
                    <a:pt x="466" y="198"/>
                  </a:lnTo>
                  <a:lnTo>
                    <a:pt x="469" y="213"/>
                  </a:lnTo>
                  <a:lnTo>
                    <a:pt x="472" y="229"/>
                  </a:lnTo>
                  <a:lnTo>
                    <a:pt x="474" y="243"/>
                  </a:lnTo>
                  <a:lnTo>
                    <a:pt x="476" y="260"/>
                  </a:lnTo>
                  <a:lnTo>
                    <a:pt x="478" y="276"/>
                  </a:lnTo>
                  <a:lnTo>
                    <a:pt x="479" y="292"/>
                  </a:lnTo>
                  <a:lnTo>
                    <a:pt x="479" y="308"/>
                  </a:lnTo>
                  <a:lnTo>
                    <a:pt x="479" y="327"/>
                  </a:lnTo>
                  <a:lnTo>
                    <a:pt x="479" y="343"/>
                  </a:lnTo>
                  <a:lnTo>
                    <a:pt x="479" y="366"/>
                  </a:lnTo>
                  <a:lnTo>
                    <a:pt x="478" y="395"/>
                  </a:lnTo>
                  <a:lnTo>
                    <a:pt x="476" y="430"/>
                  </a:lnTo>
                  <a:lnTo>
                    <a:pt x="475" y="448"/>
                  </a:lnTo>
                  <a:lnTo>
                    <a:pt x="474" y="467"/>
                  </a:lnTo>
                  <a:lnTo>
                    <a:pt x="473" y="486"/>
                  </a:lnTo>
                  <a:lnTo>
                    <a:pt x="471" y="504"/>
                  </a:lnTo>
                  <a:lnTo>
                    <a:pt x="467" y="538"/>
                  </a:lnTo>
                  <a:lnTo>
                    <a:pt x="462" y="570"/>
                  </a:lnTo>
                  <a:lnTo>
                    <a:pt x="400" y="990"/>
                  </a:lnTo>
                  <a:lnTo>
                    <a:pt x="397" y="1017"/>
                  </a:lnTo>
                  <a:lnTo>
                    <a:pt x="393" y="1047"/>
                  </a:lnTo>
                  <a:lnTo>
                    <a:pt x="389" y="1076"/>
                  </a:lnTo>
                  <a:lnTo>
                    <a:pt x="386" y="1109"/>
                  </a:lnTo>
                  <a:lnTo>
                    <a:pt x="384" y="1139"/>
                  </a:lnTo>
                  <a:lnTo>
                    <a:pt x="383" y="1165"/>
                  </a:lnTo>
                  <a:lnTo>
                    <a:pt x="381" y="1185"/>
                  </a:lnTo>
                  <a:lnTo>
                    <a:pt x="381" y="1194"/>
                  </a:lnTo>
                  <a:lnTo>
                    <a:pt x="381" y="1201"/>
                  </a:lnTo>
                  <a:lnTo>
                    <a:pt x="381" y="1219"/>
                  </a:lnTo>
                  <a:lnTo>
                    <a:pt x="382" y="1235"/>
                  </a:lnTo>
                  <a:lnTo>
                    <a:pt x="384" y="1251"/>
                  </a:lnTo>
                  <a:lnTo>
                    <a:pt x="386" y="1268"/>
                  </a:lnTo>
                  <a:lnTo>
                    <a:pt x="389" y="1282"/>
                  </a:lnTo>
                  <a:lnTo>
                    <a:pt x="393" y="1295"/>
                  </a:lnTo>
                  <a:lnTo>
                    <a:pt x="396" y="1307"/>
                  </a:lnTo>
                  <a:lnTo>
                    <a:pt x="400" y="1318"/>
                  </a:lnTo>
                  <a:lnTo>
                    <a:pt x="403" y="1324"/>
                  </a:lnTo>
                  <a:lnTo>
                    <a:pt x="405" y="1329"/>
                  </a:lnTo>
                  <a:lnTo>
                    <a:pt x="408" y="1333"/>
                  </a:lnTo>
                  <a:lnTo>
                    <a:pt x="411" y="1338"/>
                  </a:lnTo>
                  <a:lnTo>
                    <a:pt x="415" y="1342"/>
                  </a:lnTo>
                  <a:lnTo>
                    <a:pt x="418" y="1345"/>
                  </a:lnTo>
                  <a:lnTo>
                    <a:pt x="422" y="1347"/>
                  </a:lnTo>
                  <a:lnTo>
                    <a:pt x="426" y="1351"/>
                  </a:lnTo>
                  <a:lnTo>
                    <a:pt x="434" y="1356"/>
                  </a:lnTo>
                  <a:lnTo>
                    <a:pt x="443" y="1360"/>
                  </a:lnTo>
                  <a:lnTo>
                    <a:pt x="454" y="1362"/>
                  </a:lnTo>
                  <a:lnTo>
                    <a:pt x="465" y="1362"/>
                  </a:lnTo>
                  <a:lnTo>
                    <a:pt x="473" y="1362"/>
                  </a:lnTo>
                  <a:lnTo>
                    <a:pt x="482" y="1358"/>
                  </a:lnTo>
                  <a:lnTo>
                    <a:pt x="492" y="1354"/>
                  </a:lnTo>
                  <a:lnTo>
                    <a:pt x="503" y="1349"/>
                  </a:lnTo>
                  <a:lnTo>
                    <a:pt x="514" y="1342"/>
                  </a:lnTo>
                  <a:lnTo>
                    <a:pt x="526" y="1333"/>
                  </a:lnTo>
                  <a:lnTo>
                    <a:pt x="552" y="1309"/>
                  </a:lnTo>
                  <a:lnTo>
                    <a:pt x="565" y="1297"/>
                  </a:lnTo>
                  <a:lnTo>
                    <a:pt x="578" y="1280"/>
                  </a:lnTo>
                  <a:lnTo>
                    <a:pt x="592" y="1264"/>
                  </a:lnTo>
                  <a:lnTo>
                    <a:pt x="606" y="1248"/>
                  </a:lnTo>
                  <a:lnTo>
                    <a:pt x="620" y="1228"/>
                  </a:lnTo>
                  <a:lnTo>
                    <a:pt x="633" y="1208"/>
                  </a:lnTo>
                  <a:lnTo>
                    <a:pt x="646" y="1186"/>
                  </a:lnTo>
                  <a:lnTo>
                    <a:pt x="659" y="1163"/>
                  </a:lnTo>
                  <a:lnTo>
                    <a:pt x="799" y="27"/>
                  </a:lnTo>
                  <a:lnTo>
                    <a:pt x="1070" y="5"/>
                  </a:lnTo>
                  <a:lnTo>
                    <a:pt x="1081" y="27"/>
                  </a:lnTo>
                  <a:lnTo>
                    <a:pt x="960" y="995"/>
                  </a:lnTo>
                  <a:lnTo>
                    <a:pt x="957" y="1020"/>
                  </a:lnTo>
                  <a:lnTo>
                    <a:pt x="953" y="1047"/>
                  </a:lnTo>
                  <a:lnTo>
                    <a:pt x="946" y="1116"/>
                  </a:lnTo>
                  <a:lnTo>
                    <a:pt x="942" y="1152"/>
                  </a:lnTo>
                  <a:lnTo>
                    <a:pt x="940" y="1183"/>
                  </a:lnTo>
                  <a:lnTo>
                    <a:pt x="939" y="1208"/>
                  </a:lnTo>
                  <a:lnTo>
                    <a:pt x="938" y="1219"/>
                  </a:lnTo>
                  <a:lnTo>
                    <a:pt x="938" y="1228"/>
                  </a:lnTo>
                  <a:lnTo>
                    <a:pt x="938" y="1250"/>
                  </a:lnTo>
                  <a:lnTo>
                    <a:pt x="940" y="1270"/>
                  </a:lnTo>
                  <a:lnTo>
                    <a:pt x="941" y="1289"/>
                  </a:lnTo>
                  <a:lnTo>
                    <a:pt x="942" y="1297"/>
                  </a:lnTo>
                  <a:lnTo>
                    <a:pt x="943" y="1306"/>
                  </a:lnTo>
                  <a:lnTo>
                    <a:pt x="945" y="1313"/>
                  </a:lnTo>
                  <a:lnTo>
                    <a:pt x="947" y="1320"/>
                  </a:lnTo>
                  <a:lnTo>
                    <a:pt x="948" y="1327"/>
                  </a:lnTo>
                  <a:lnTo>
                    <a:pt x="950" y="1333"/>
                  </a:lnTo>
                  <a:lnTo>
                    <a:pt x="952" y="1338"/>
                  </a:lnTo>
                  <a:lnTo>
                    <a:pt x="954" y="1344"/>
                  </a:lnTo>
                  <a:lnTo>
                    <a:pt x="957" y="1349"/>
                  </a:lnTo>
                  <a:lnTo>
                    <a:pt x="959" y="1353"/>
                  </a:lnTo>
                  <a:lnTo>
                    <a:pt x="962" y="1356"/>
                  </a:lnTo>
                  <a:lnTo>
                    <a:pt x="965" y="1360"/>
                  </a:lnTo>
                  <a:lnTo>
                    <a:pt x="969" y="1363"/>
                  </a:lnTo>
                  <a:lnTo>
                    <a:pt x="972" y="1367"/>
                  </a:lnTo>
                  <a:lnTo>
                    <a:pt x="980" y="1373"/>
                  </a:lnTo>
                  <a:lnTo>
                    <a:pt x="990" y="1378"/>
                  </a:lnTo>
                  <a:lnTo>
                    <a:pt x="999" y="1380"/>
                  </a:lnTo>
                  <a:lnTo>
                    <a:pt x="1010" y="1383"/>
                  </a:lnTo>
                  <a:lnTo>
                    <a:pt x="1023" y="1385"/>
                  </a:lnTo>
                  <a:lnTo>
                    <a:pt x="1036" y="1385"/>
                  </a:lnTo>
                  <a:lnTo>
                    <a:pt x="1042" y="1385"/>
                  </a:lnTo>
                  <a:lnTo>
                    <a:pt x="1049" y="1383"/>
                  </a:lnTo>
                  <a:lnTo>
                    <a:pt x="1063" y="1382"/>
                  </a:lnTo>
                  <a:lnTo>
                    <a:pt x="1078" y="1376"/>
                  </a:lnTo>
                  <a:lnTo>
                    <a:pt x="1094" y="1369"/>
                  </a:lnTo>
                  <a:lnTo>
                    <a:pt x="1108" y="1362"/>
                  </a:lnTo>
                  <a:lnTo>
                    <a:pt x="1121" y="1354"/>
                  </a:lnTo>
                  <a:lnTo>
                    <a:pt x="1132" y="1347"/>
                  </a:lnTo>
                  <a:lnTo>
                    <a:pt x="1137" y="1344"/>
                  </a:lnTo>
                  <a:lnTo>
                    <a:pt x="1140" y="1340"/>
                  </a:lnTo>
                  <a:lnTo>
                    <a:pt x="1121" y="1481"/>
                  </a:lnTo>
                  <a:lnTo>
                    <a:pt x="987" y="1575"/>
                  </a:lnTo>
                  <a:lnTo>
                    <a:pt x="974" y="1582"/>
                  </a:lnTo>
                  <a:lnTo>
                    <a:pt x="961" y="1589"/>
                  </a:lnTo>
                  <a:lnTo>
                    <a:pt x="947" y="1595"/>
                  </a:lnTo>
                  <a:lnTo>
                    <a:pt x="933" y="1600"/>
                  </a:lnTo>
                  <a:lnTo>
                    <a:pt x="918" y="1602"/>
                  </a:lnTo>
                  <a:lnTo>
                    <a:pt x="903" y="1606"/>
                  </a:lnTo>
                  <a:lnTo>
                    <a:pt x="871" y="1607"/>
                  </a:lnTo>
                  <a:lnTo>
                    <a:pt x="848" y="1606"/>
                  </a:lnTo>
                  <a:lnTo>
                    <a:pt x="827" y="1602"/>
                  </a:lnTo>
                  <a:lnTo>
                    <a:pt x="806" y="1597"/>
                  </a:lnTo>
                  <a:lnTo>
                    <a:pt x="787" y="1587"/>
                  </a:lnTo>
                  <a:lnTo>
                    <a:pt x="768" y="1577"/>
                  </a:lnTo>
                  <a:lnTo>
                    <a:pt x="752" y="1564"/>
                  </a:lnTo>
                  <a:lnTo>
                    <a:pt x="736" y="1548"/>
                  </a:lnTo>
                  <a:lnTo>
                    <a:pt x="721" y="1530"/>
                  </a:lnTo>
                  <a:lnTo>
                    <a:pt x="708" y="1510"/>
                  </a:lnTo>
                  <a:lnTo>
                    <a:pt x="696" y="1488"/>
                  </a:lnTo>
                  <a:lnTo>
                    <a:pt x="685" y="1465"/>
                  </a:lnTo>
                  <a:lnTo>
                    <a:pt x="676" y="1441"/>
                  </a:lnTo>
                  <a:lnTo>
                    <a:pt x="667" y="1414"/>
                  </a:lnTo>
                  <a:lnTo>
                    <a:pt x="660" y="1387"/>
                  </a:lnTo>
                  <a:lnTo>
                    <a:pt x="657" y="1373"/>
                  </a:lnTo>
                  <a:lnTo>
                    <a:pt x="655" y="1360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2680" y="768240"/>
              <a:ext cx="309600" cy="595440"/>
            </a:xfrm>
            <a:custGeom>
              <a:avLst/>
              <a:gdLst/>
              <a:ahLst/>
              <a:rect l="l" t="t" r="r" b="b"/>
              <a:pathLst>
                <a:path w="858" h="1652">
                  <a:moveTo>
                    <a:pt x="413" y="1651"/>
                  </a:moveTo>
                  <a:lnTo>
                    <a:pt x="365" y="1647"/>
                  </a:lnTo>
                  <a:lnTo>
                    <a:pt x="321" y="1640"/>
                  </a:lnTo>
                  <a:lnTo>
                    <a:pt x="278" y="1625"/>
                  </a:lnTo>
                  <a:lnTo>
                    <a:pt x="239" y="1605"/>
                  </a:lnTo>
                  <a:lnTo>
                    <a:pt x="203" y="1580"/>
                  </a:lnTo>
                  <a:lnTo>
                    <a:pt x="168" y="1549"/>
                  </a:lnTo>
                  <a:lnTo>
                    <a:pt x="153" y="1531"/>
                  </a:lnTo>
                  <a:lnTo>
                    <a:pt x="137" y="1513"/>
                  </a:lnTo>
                  <a:lnTo>
                    <a:pt x="123" y="1492"/>
                  </a:lnTo>
                  <a:lnTo>
                    <a:pt x="109" y="1470"/>
                  </a:lnTo>
                  <a:lnTo>
                    <a:pt x="96" y="1447"/>
                  </a:lnTo>
                  <a:lnTo>
                    <a:pt x="83" y="1423"/>
                  </a:lnTo>
                  <a:lnTo>
                    <a:pt x="72" y="1398"/>
                  </a:lnTo>
                  <a:lnTo>
                    <a:pt x="61" y="1371"/>
                  </a:lnTo>
                  <a:lnTo>
                    <a:pt x="51" y="1344"/>
                  </a:lnTo>
                  <a:lnTo>
                    <a:pt x="42" y="1315"/>
                  </a:lnTo>
                  <a:lnTo>
                    <a:pt x="34" y="1286"/>
                  </a:lnTo>
                  <a:lnTo>
                    <a:pt x="27" y="1255"/>
                  </a:lnTo>
                  <a:lnTo>
                    <a:pt x="20" y="1223"/>
                  </a:lnTo>
                  <a:lnTo>
                    <a:pt x="15" y="1190"/>
                  </a:lnTo>
                  <a:lnTo>
                    <a:pt x="10" y="1156"/>
                  </a:lnTo>
                  <a:lnTo>
                    <a:pt x="7" y="1121"/>
                  </a:lnTo>
                  <a:lnTo>
                    <a:pt x="3" y="1085"/>
                  </a:lnTo>
                  <a:lnTo>
                    <a:pt x="1" y="1049"/>
                  </a:lnTo>
                  <a:lnTo>
                    <a:pt x="0" y="971"/>
                  </a:lnTo>
                  <a:lnTo>
                    <a:pt x="1" y="924"/>
                  </a:lnTo>
                  <a:lnTo>
                    <a:pt x="1" y="877"/>
                  </a:lnTo>
                  <a:lnTo>
                    <a:pt x="5" y="832"/>
                  </a:lnTo>
                  <a:lnTo>
                    <a:pt x="8" y="785"/>
                  </a:lnTo>
                  <a:lnTo>
                    <a:pt x="13" y="742"/>
                  </a:lnTo>
                  <a:lnTo>
                    <a:pt x="19" y="697"/>
                  </a:lnTo>
                  <a:lnTo>
                    <a:pt x="26" y="653"/>
                  </a:lnTo>
                  <a:lnTo>
                    <a:pt x="34" y="610"/>
                  </a:lnTo>
                  <a:lnTo>
                    <a:pt x="44" y="569"/>
                  </a:lnTo>
                  <a:lnTo>
                    <a:pt x="54" y="527"/>
                  </a:lnTo>
                  <a:lnTo>
                    <a:pt x="66" y="485"/>
                  </a:lnTo>
                  <a:lnTo>
                    <a:pt x="79" y="448"/>
                  </a:lnTo>
                  <a:lnTo>
                    <a:pt x="93" y="408"/>
                  </a:lnTo>
                  <a:lnTo>
                    <a:pt x="108" y="372"/>
                  </a:lnTo>
                  <a:lnTo>
                    <a:pt x="124" y="334"/>
                  </a:lnTo>
                  <a:lnTo>
                    <a:pt x="142" y="299"/>
                  </a:lnTo>
                  <a:lnTo>
                    <a:pt x="159" y="267"/>
                  </a:lnTo>
                  <a:lnTo>
                    <a:pt x="177" y="236"/>
                  </a:lnTo>
                  <a:lnTo>
                    <a:pt x="197" y="207"/>
                  </a:lnTo>
                  <a:lnTo>
                    <a:pt x="217" y="178"/>
                  </a:lnTo>
                  <a:lnTo>
                    <a:pt x="240" y="153"/>
                  </a:lnTo>
                  <a:lnTo>
                    <a:pt x="263" y="128"/>
                  </a:lnTo>
                  <a:lnTo>
                    <a:pt x="288" y="104"/>
                  </a:lnTo>
                  <a:lnTo>
                    <a:pt x="314" y="83"/>
                  </a:lnTo>
                  <a:lnTo>
                    <a:pt x="340" y="63"/>
                  </a:lnTo>
                  <a:lnTo>
                    <a:pt x="368" y="46"/>
                  </a:lnTo>
                  <a:lnTo>
                    <a:pt x="395" y="32"/>
                  </a:lnTo>
                  <a:lnTo>
                    <a:pt x="425" y="19"/>
                  </a:lnTo>
                  <a:lnTo>
                    <a:pt x="454" y="10"/>
                  </a:lnTo>
                  <a:lnTo>
                    <a:pt x="485" y="5"/>
                  </a:lnTo>
                  <a:lnTo>
                    <a:pt x="516" y="1"/>
                  </a:lnTo>
                  <a:lnTo>
                    <a:pt x="548" y="0"/>
                  </a:lnTo>
                  <a:lnTo>
                    <a:pt x="585" y="1"/>
                  </a:lnTo>
                  <a:lnTo>
                    <a:pt x="618" y="7"/>
                  </a:lnTo>
                  <a:lnTo>
                    <a:pt x="651" y="14"/>
                  </a:lnTo>
                  <a:lnTo>
                    <a:pt x="680" y="25"/>
                  </a:lnTo>
                  <a:lnTo>
                    <a:pt x="708" y="39"/>
                  </a:lnTo>
                  <a:lnTo>
                    <a:pt x="734" y="57"/>
                  </a:lnTo>
                  <a:lnTo>
                    <a:pt x="757" y="79"/>
                  </a:lnTo>
                  <a:lnTo>
                    <a:pt x="777" y="102"/>
                  </a:lnTo>
                  <a:lnTo>
                    <a:pt x="787" y="115"/>
                  </a:lnTo>
                  <a:lnTo>
                    <a:pt x="795" y="130"/>
                  </a:lnTo>
                  <a:lnTo>
                    <a:pt x="804" y="142"/>
                  </a:lnTo>
                  <a:lnTo>
                    <a:pt x="812" y="158"/>
                  </a:lnTo>
                  <a:lnTo>
                    <a:pt x="819" y="173"/>
                  </a:lnTo>
                  <a:lnTo>
                    <a:pt x="826" y="189"/>
                  </a:lnTo>
                  <a:lnTo>
                    <a:pt x="832" y="205"/>
                  </a:lnTo>
                  <a:lnTo>
                    <a:pt x="837" y="224"/>
                  </a:lnTo>
                  <a:lnTo>
                    <a:pt x="841" y="242"/>
                  </a:lnTo>
                  <a:lnTo>
                    <a:pt x="845" y="260"/>
                  </a:lnTo>
                  <a:lnTo>
                    <a:pt x="849" y="280"/>
                  </a:lnTo>
                  <a:lnTo>
                    <a:pt x="851" y="299"/>
                  </a:lnTo>
                  <a:lnTo>
                    <a:pt x="854" y="319"/>
                  </a:lnTo>
                  <a:lnTo>
                    <a:pt x="856" y="341"/>
                  </a:lnTo>
                  <a:lnTo>
                    <a:pt x="857" y="363"/>
                  </a:lnTo>
                  <a:lnTo>
                    <a:pt x="857" y="384"/>
                  </a:lnTo>
                  <a:lnTo>
                    <a:pt x="857" y="397"/>
                  </a:lnTo>
                  <a:lnTo>
                    <a:pt x="856" y="410"/>
                  </a:lnTo>
                  <a:lnTo>
                    <a:pt x="856" y="422"/>
                  </a:lnTo>
                  <a:lnTo>
                    <a:pt x="855" y="437"/>
                  </a:lnTo>
                  <a:lnTo>
                    <a:pt x="853" y="449"/>
                  </a:lnTo>
                  <a:lnTo>
                    <a:pt x="852" y="464"/>
                  </a:lnTo>
                  <a:lnTo>
                    <a:pt x="850" y="478"/>
                  </a:lnTo>
                  <a:lnTo>
                    <a:pt x="848" y="493"/>
                  </a:lnTo>
                  <a:lnTo>
                    <a:pt x="846" y="507"/>
                  </a:lnTo>
                  <a:lnTo>
                    <a:pt x="844" y="522"/>
                  </a:lnTo>
                  <a:lnTo>
                    <a:pt x="841" y="534"/>
                  </a:lnTo>
                  <a:lnTo>
                    <a:pt x="838" y="547"/>
                  </a:lnTo>
                  <a:lnTo>
                    <a:pt x="834" y="560"/>
                  </a:lnTo>
                  <a:lnTo>
                    <a:pt x="831" y="570"/>
                  </a:lnTo>
                  <a:lnTo>
                    <a:pt x="827" y="581"/>
                  </a:lnTo>
                  <a:lnTo>
                    <a:pt x="823" y="592"/>
                  </a:lnTo>
                  <a:lnTo>
                    <a:pt x="818" y="605"/>
                  </a:lnTo>
                  <a:lnTo>
                    <a:pt x="812" y="616"/>
                  </a:lnTo>
                  <a:lnTo>
                    <a:pt x="806" y="626"/>
                  </a:lnTo>
                  <a:lnTo>
                    <a:pt x="801" y="637"/>
                  </a:lnTo>
                  <a:lnTo>
                    <a:pt x="795" y="646"/>
                  </a:lnTo>
                  <a:lnTo>
                    <a:pt x="789" y="655"/>
                  </a:lnTo>
                  <a:lnTo>
                    <a:pt x="783" y="663"/>
                  </a:lnTo>
                  <a:lnTo>
                    <a:pt x="777" y="670"/>
                  </a:lnTo>
                  <a:lnTo>
                    <a:pt x="770" y="677"/>
                  </a:lnTo>
                  <a:lnTo>
                    <a:pt x="762" y="682"/>
                  </a:lnTo>
                  <a:lnTo>
                    <a:pt x="754" y="686"/>
                  </a:lnTo>
                  <a:lnTo>
                    <a:pt x="745" y="690"/>
                  </a:lnTo>
                  <a:lnTo>
                    <a:pt x="735" y="693"/>
                  </a:lnTo>
                  <a:lnTo>
                    <a:pt x="725" y="695"/>
                  </a:lnTo>
                  <a:lnTo>
                    <a:pt x="714" y="697"/>
                  </a:lnTo>
                  <a:lnTo>
                    <a:pt x="702" y="697"/>
                  </a:lnTo>
                  <a:lnTo>
                    <a:pt x="685" y="695"/>
                  </a:lnTo>
                  <a:lnTo>
                    <a:pt x="670" y="693"/>
                  </a:lnTo>
                  <a:lnTo>
                    <a:pt x="656" y="688"/>
                  </a:lnTo>
                  <a:lnTo>
                    <a:pt x="642" y="682"/>
                  </a:lnTo>
                  <a:lnTo>
                    <a:pt x="630" y="673"/>
                  </a:lnTo>
                  <a:lnTo>
                    <a:pt x="618" y="663"/>
                  </a:lnTo>
                  <a:lnTo>
                    <a:pt x="613" y="657"/>
                  </a:lnTo>
                  <a:lnTo>
                    <a:pt x="608" y="650"/>
                  </a:lnTo>
                  <a:lnTo>
                    <a:pt x="603" y="643"/>
                  </a:lnTo>
                  <a:lnTo>
                    <a:pt x="598" y="635"/>
                  </a:lnTo>
                  <a:lnTo>
                    <a:pt x="590" y="621"/>
                  </a:lnTo>
                  <a:lnTo>
                    <a:pt x="582" y="605"/>
                  </a:lnTo>
                  <a:lnTo>
                    <a:pt x="576" y="590"/>
                  </a:lnTo>
                  <a:lnTo>
                    <a:pt x="573" y="581"/>
                  </a:lnTo>
                  <a:lnTo>
                    <a:pt x="571" y="574"/>
                  </a:lnTo>
                  <a:lnTo>
                    <a:pt x="568" y="567"/>
                  </a:lnTo>
                  <a:lnTo>
                    <a:pt x="567" y="558"/>
                  </a:lnTo>
                  <a:lnTo>
                    <a:pt x="565" y="551"/>
                  </a:lnTo>
                  <a:lnTo>
                    <a:pt x="564" y="541"/>
                  </a:lnTo>
                  <a:lnTo>
                    <a:pt x="562" y="534"/>
                  </a:lnTo>
                  <a:lnTo>
                    <a:pt x="562" y="525"/>
                  </a:lnTo>
                  <a:lnTo>
                    <a:pt x="561" y="518"/>
                  </a:lnTo>
                  <a:lnTo>
                    <a:pt x="561" y="509"/>
                  </a:lnTo>
                  <a:lnTo>
                    <a:pt x="561" y="489"/>
                  </a:lnTo>
                  <a:lnTo>
                    <a:pt x="562" y="469"/>
                  </a:lnTo>
                  <a:lnTo>
                    <a:pt x="564" y="451"/>
                  </a:lnTo>
                  <a:lnTo>
                    <a:pt x="566" y="431"/>
                  </a:lnTo>
                  <a:lnTo>
                    <a:pt x="568" y="411"/>
                  </a:lnTo>
                  <a:lnTo>
                    <a:pt x="572" y="393"/>
                  </a:lnTo>
                  <a:lnTo>
                    <a:pt x="575" y="373"/>
                  </a:lnTo>
                  <a:lnTo>
                    <a:pt x="580" y="354"/>
                  </a:lnTo>
                  <a:lnTo>
                    <a:pt x="589" y="316"/>
                  </a:lnTo>
                  <a:lnTo>
                    <a:pt x="599" y="276"/>
                  </a:lnTo>
                  <a:lnTo>
                    <a:pt x="611" y="234"/>
                  </a:lnTo>
                  <a:lnTo>
                    <a:pt x="624" y="191"/>
                  </a:lnTo>
                  <a:lnTo>
                    <a:pt x="622" y="187"/>
                  </a:lnTo>
                  <a:lnTo>
                    <a:pt x="619" y="182"/>
                  </a:lnTo>
                  <a:lnTo>
                    <a:pt x="617" y="177"/>
                  </a:lnTo>
                  <a:lnTo>
                    <a:pt x="613" y="173"/>
                  </a:lnTo>
                  <a:lnTo>
                    <a:pt x="604" y="162"/>
                  </a:lnTo>
                  <a:lnTo>
                    <a:pt x="593" y="149"/>
                  </a:lnTo>
                  <a:lnTo>
                    <a:pt x="587" y="144"/>
                  </a:lnTo>
                  <a:lnTo>
                    <a:pt x="581" y="139"/>
                  </a:lnTo>
                  <a:lnTo>
                    <a:pt x="574" y="135"/>
                  </a:lnTo>
                  <a:lnTo>
                    <a:pt x="567" y="131"/>
                  </a:lnTo>
                  <a:lnTo>
                    <a:pt x="559" y="128"/>
                  </a:lnTo>
                  <a:lnTo>
                    <a:pt x="551" y="126"/>
                  </a:lnTo>
                  <a:lnTo>
                    <a:pt x="543" y="124"/>
                  </a:lnTo>
                  <a:lnTo>
                    <a:pt x="533" y="124"/>
                  </a:lnTo>
                  <a:lnTo>
                    <a:pt x="521" y="124"/>
                  </a:lnTo>
                  <a:lnTo>
                    <a:pt x="509" y="128"/>
                  </a:lnTo>
                  <a:lnTo>
                    <a:pt x="497" y="131"/>
                  </a:lnTo>
                  <a:lnTo>
                    <a:pt x="486" y="139"/>
                  </a:lnTo>
                  <a:lnTo>
                    <a:pt x="475" y="146"/>
                  </a:lnTo>
                  <a:lnTo>
                    <a:pt x="463" y="155"/>
                  </a:lnTo>
                  <a:lnTo>
                    <a:pt x="452" y="168"/>
                  </a:lnTo>
                  <a:lnTo>
                    <a:pt x="442" y="180"/>
                  </a:lnTo>
                  <a:lnTo>
                    <a:pt x="432" y="195"/>
                  </a:lnTo>
                  <a:lnTo>
                    <a:pt x="422" y="211"/>
                  </a:lnTo>
                  <a:lnTo>
                    <a:pt x="413" y="229"/>
                  </a:lnTo>
                  <a:lnTo>
                    <a:pt x="403" y="249"/>
                  </a:lnTo>
                  <a:lnTo>
                    <a:pt x="395" y="270"/>
                  </a:lnTo>
                  <a:lnTo>
                    <a:pt x="385" y="294"/>
                  </a:lnTo>
                  <a:lnTo>
                    <a:pt x="369" y="346"/>
                  </a:lnTo>
                  <a:lnTo>
                    <a:pt x="353" y="404"/>
                  </a:lnTo>
                  <a:lnTo>
                    <a:pt x="340" y="466"/>
                  </a:lnTo>
                  <a:lnTo>
                    <a:pt x="329" y="529"/>
                  </a:lnTo>
                  <a:lnTo>
                    <a:pt x="320" y="597"/>
                  </a:lnTo>
                  <a:lnTo>
                    <a:pt x="313" y="668"/>
                  </a:lnTo>
                  <a:lnTo>
                    <a:pt x="308" y="742"/>
                  </a:lnTo>
                  <a:lnTo>
                    <a:pt x="304" y="820"/>
                  </a:lnTo>
                  <a:lnTo>
                    <a:pt x="303" y="899"/>
                  </a:lnTo>
                  <a:lnTo>
                    <a:pt x="304" y="961"/>
                  </a:lnTo>
                  <a:lnTo>
                    <a:pt x="307" y="1017"/>
                  </a:lnTo>
                  <a:lnTo>
                    <a:pt x="310" y="1071"/>
                  </a:lnTo>
                  <a:lnTo>
                    <a:pt x="315" y="1120"/>
                  </a:lnTo>
                  <a:lnTo>
                    <a:pt x="323" y="1165"/>
                  </a:lnTo>
                  <a:lnTo>
                    <a:pt x="327" y="1186"/>
                  </a:lnTo>
                  <a:lnTo>
                    <a:pt x="331" y="1206"/>
                  </a:lnTo>
                  <a:lnTo>
                    <a:pt x="336" y="1226"/>
                  </a:lnTo>
                  <a:lnTo>
                    <a:pt x="341" y="1244"/>
                  </a:lnTo>
                  <a:lnTo>
                    <a:pt x="347" y="1262"/>
                  </a:lnTo>
                  <a:lnTo>
                    <a:pt x="353" y="1279"/>
                  </a:lnTo>
                  <a:lnTo>
                    <a:pt x="359" y="1295"/>
                  </a:lnTo>
                  <a:lnTo>
                    <a:pt x="366" y="1309"/>
                  </a:lnTo>
                  <a:lnTo>
                    <a:pt x="373" y="1322"/>
                  </a:lnTo>
                  <a:lnTo>
                    <a:pt x="381" y="1336"/>
                  </a:lnTo>
                  <a:lnTo>
                    <a:pt x="389" y="1347"/>
                  </a:lnTo>
                  <a:lnTo>
                    <a:pt x="396" y="1358"/>
                  </a:lnTo>
                  <a:lnTo>
                    <a:pt x="404" y="1367"/>
                  </a:lnTo>
                  <a:lnTo>
                    <a:pt x="414" y="1376"/>
                  </a:lnTo>
                  <a:lnTo>
                    <a:pt x="422" y="1383"/>
                  </a:lnTo>
                  <a:lnTo>
                    <a:pt x="432" y="1391"/>
                  </a:lnTo>
                  <a:lnTo>
                    <a:pt x="441" y="1396"/>
                  </a:lnTo>
                  <a:lnTo>
                    <a:pt x="451" y="1401"/>
                  </a:lnTo>
                  <a:lnTo>
                    <a:pt x="471" y="1407"/>
                  </a:lnTo>
                  <a:lnTo>
                    <a:pt x="494" y="1409"/>
                  </a:lnTo>
                  <a:lnTo>
                    <a:pt x="517" y="1407"/>
                  </a:lnTo>
                  <a:lnTo>
                    <a:pt x="538" y="1405"/>
                  </a:lnTo>
                  <a:lnTo>
                    <a:pt x="560" y="1400"/>
                  </a:lnTo>
                  <a:lnTo>
                    <a:pt x="580" y="1392"/>
                  </a:lnTo>
                  <a:lnTo>
                    <a:pt x="598" y="1383"/>
                  </a:lnTo>
                  <a:lnTo>
                    <a:pt x="617" y="1371"/>
                  </a:lnTo>
                  <a:lnTo>
                    <a:pt x="633" y="1358"/>
                  </a:lnTo>
                  <a:lnTo>
                    <a:pt x="649" y="1342"/>
                  </a:lnTo>
                  <a:lnTo>
                    <a:pt x="665" y="1324"/>
                  </a:lnTo>
                  <a:lnTo>
                    <a:pt x="680" y="1302"/>
                  </a:lnTo>
                  <a:lnTo>
                    <a:pt x="697" y="1279"/>
                  </a:lnTo>
                  <a:lnTo>
                    <a:pt x="712" y="1251"/>
                  </a:lnTo>
                  <a:lnTo>
                    <a:pt x="728" y="1221"/>
                  </a:lnTo>
                  <a:lnTo>
                    <a:pt x="745" y="1188"/>
                  </a:lnTo>
                  <a:lnTo>
                    <a:pt x="760" y="1152"/>
                  </a:lnTo>
                  <a:lnTo>
                    <a:pt x="777" y="1112"/>
                  </a:lnTo>
                  <a:lnTo>
                    <a:pt x="838" y="1208"/>
                  </a:lnTo>
                  <a:lnTo>
                    <a:pt x="820" y="1257"/>
                  </a:lnTo>
                  <a:lnTo>
                    <a:pt x="800" y="1304"/>
                  </a:lnTo>
                  <a:lnTo>
                    <a:pt x="779" y="1347"/>
                  </a:lnTo>
                  <a:lnTo>
                    <a:pt x="757" y="1389"/>
                  </a:lnTo>
                  <a:lnTo>
                    <a:pt x="734" y="1427"/>
                  </a:lnTo>
                  <a:lnTo>
                    <a:pt x="708" y="1465"/>
                  </a:lnTo>
                  <a:lnTo>
                    <a:pt x="682" y="1497"/>
                  </a:lnTo>
                  <a:lnTo>
                    <a:pt x="654" y="1530"/>
                  </a:lnTo>
                  <a:lnTo>
                    <a:pt x="625" y="1559"/>
                  </a:lnTo>
                  <a:lnTo>
                    <a:pt x="596" y="1582"/>
                  </a:lnTo>
                  <a:lnTo>
                    <a:pt x="567" y="1604"/>
                  </a:lnTo>
                  <a:lnTo>
                    <a:pt x="537" y="1620"/>
                  </a:lnTo>
                  <a:lnTo>
                    <a:pt x="506" y="1634"/>
                  </a:lnTo>
                  <a:lnTo>
                    <a:pt x="475" y="1643"/>
                  </a:lnTo>
                  <a:lnTo>
                    <a:pt x="444" y="1649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57880" y="768240"/>
              <a:ext cx="307800" cy="595440"/>
            </a:xfrm>
            <a:custGeom>
              <a:avLst/>
              <a:gdLst/>
              <a:ahLst/>
              <a:rect l="l" t="t" r="r" b="b"/>
              <a:pathLst>
                <a:path w="857" h="1652">
                  <a:moveTo>
                    <a:pt x="413" y="1651"/>
                  </a:moveTo>
                  <a:lnTo>
                    <a:pt x="365" y="1647"/>
                  </a:lnTo>
                  <a:lnTo>
                    <a:pt x="320" y="1640"/>
                  </a:lnTo>
                  <a:lnTo>
                    <a:pt x="278" y="1625"/>
                  </a:lnTo>
                  <a:lnTo>
                    <a:pt x="239" y="1605"/>
                  </a:lnTo>
                  <a:lnTo>
                    <a:pt x="203" y="1580"/>
                  </a:lnTo>
                  <a:lnTo>
                    <a:pt x="168" y="1549"/>
                  </a:lnTo>
                  <a:lnTo>
                    <a:pt x="153" y="1531"/>
                  </a:lnTo>
                  <a:lnTo>
                    <a:pt x="137" y="1513"/>
                  </a:lnTo>
                  <a:lnTo>
                    <a:pt x="123" y="1492"/>
                  </a:lnTo>
                  <a:lnTo>
                    <a:pt x="109" y="1470"/>
                  </a:lnTo>
                  <a:lnTo>
                    <a:pt x="96" y="1447"/>
                  </a:lnTo>
                  <a:lnTo>
                    <a:pt x="83" y="1423"/>
                  </a:lnTo>
                  <a:lnTo>
                    <a:pt x="72" y="1398"/>
                  </a:lnTo>
                  <a:lnTo>
                    <a:pt x="61" y="1371"/>
                  </a:lnTo>
                  <a:lnTo>
                    <a:pt x="51" y="1344"/>
                  </a:lnTo>
                  <a:lnTo>
                    <a:pt x="42" y="1315"/>
                  </a:lnTo>
                  <a:lnTo>
                    <a:pt x="34" y="1286"/>
                  </a:lnTo>
                  <a:lnTo>
                    <a:pt x="27" y="1255"/>
                  </a:lnTo>
                  <a:lnTo>
                    <a:pt x="20" y="1223"/>
                  </a:lnTo>
                  <a:lnTo>
                    <a:pt x="15" y="1190"/>
                  </a:lnTo>
                  <a:lnTo>
                    <a:pt x="10" y="1156"/>
                  </a:lnTo>
                  <a:lnTo>
                    <a:pt x="6" y="1121"/>
                  </a:lnTo>
                  <a:lnTo>
                    <a:pt x="3" y="1085"/>
                  </a:lnTo>
                  <a:lnTo>
                    <a:pt x="1" y="1049"/>
                  </a:lnTo>
                  <a:lnTo>
                    <a:pt x="0" y="971"/>
                  </a:lnTo>
                  <a:lnTo>
                    <a:pt x="0" y="924"/>
                  </a:lnTo>
                  <a:lnTo>
                    <a:pt x="1" y="877"/>
                  </a:lnTo>
                  <a:lnTo>
                    <a:pt x="5" y="832"/>
                  </a:lnTo>
                  <a:lnTo>
                    <a:pt x="8" y="785"/>
                  </a:lnTo>
                  <a:lnTo>
                    <a:pt x="12" y="742"/>
                  </a:lnTo>
                  <a:lnTo>
                    <a:pt x="19" y="697"/>
                  </a:lnTo>
                  <a:lnTo>
                    <a:pt x="26" y="653"/>
                  </a:lnTo>
                  <a:lnTo>
                    <a:pt x="34" y="610"/>
                  </a:lnTo>
                  <a:lnTo>
                    <a:pt x="43" y="569"/>
                  </a:lnTo>
                  <a:lnTo>
                    <a:pt x="54" y="527"/>
                  </a:lnTo>
                  <a:lnTo>
                    <a:pt x="66" y="485"/>
                  </a:lnTo>
                  <a:lnTo>
                    <a:pt x="79" y="448"/>
                  </a:lnTo>
                  <a:lnTo>
                    <a:pt x="92" y="408"/>
                  </a:lnTo>
                  <a:lnTo>
                    <a:pt x="108" y="372"/>
                  </a:lnTo>
                  <a:lnTo>
                    <a:pt x="124" y="334"/>
                  </a:lnTo>
                  <a:lnTo>
                    <a:pt x="142" y="299"/>
                  </a:lnTo>
                  <a:lnTo>
                    <a:pt x="159" y="267"/>
                  </a:lnTo>
                  <a:lnTo>
                    <a:pt x="177" y="236"/>
                  </a:lnTo>
                  <a:lnTo>
                    <a:pt x="197" y="207"/>
                  </a:lnTo>
                  <a:lnTo>
                    <a:pt x="217" y="178"/>
                  </a:lnTo>
                  <a:lnTo>
                    <a:pt x="240" y="153"/>
                  </a:lnTo>
                  <a:lnTo>
                    <a:pt x="263" y="128"/>
                  </a:lnTo>
                  <a:lnTo>
                    <a:pt x="288" y="104"/>
                  </a:lnTo>
                  <a:lnTo>
                    <a:pt x="314" y="83"/>
                  </a:lnTo>
                  <a:lnTo>
                    <a:pt x="340" y="63"/>
                  </a:lnTo>
                  <a:lnTo>
                    <a:pt x="368" y="46"/>
                  </a:lnTo>
                  <a:lnTo>
                    <a:pt x="395" y="32"/>
                  </a:lnTo>
                  <a:lnTo>
                    <a:pt x="425" y="19"/>
                  </a:lnTo>
                  <a:lnTo>
                    <a:pt x="454" y="10"/>
                  </a:lnTo>
                  <a:lnTo>
                    <a:pt x="485" y="5"/>
                  </a:lnTo>
                  <a:lnTo>
                    <a:pt x="516" y="1"/>
                  </a:lnTo>
                  <a:lnTo>
                    <a:pt x="548" y="0"/>
                  </a:lnTo>
                  <a:lnTo>
                    <a:pt x="585" y="1"/>
                  </a:lnTo>
                  <a:lnTo>
                    <a:pt x="618" y="7"/>
                  </a:lnTo>
                  <a:lnTo>
                    <a:pt x="651" y="14"/>
                  </a:lnTo>
                  <a:lnTo>
                    <a:pt x="680" y="25"/>
                  </a:lnTo>
                  <a:lnTo>
                    <a:pt x="708" y="39"/>
                  </a:lnTo>
                  <a:lnTo>
                    <a:pt x="733" y="57"/>
                  </a:lnTo>
                  <a:lnTo>
                    <a:pt x="757" y="79"/>
                  </a:lnTo>
                  <a:lnTo>
                    <a:pt x="777" y="102"/>
                  </a:lnTo>
                  <a:lnTo>
                    <a:pt x="787" y="115"/>
                  </a:lnTo>
                  <a:lnTo>
                    <a:pt x="795" y="130"/>
                  </a:lnTo>
                  <a:lnTo>
                    <a:pt x="804" y="142"/>
                  </a:lnTo>
                  <a:lnTo>
                    <a:pt x="812" y="158"/>
                  </a:lnTo>
                  <a:lnTo>
                    <a:pt x="819" y="173"/>
                  </a:lnTo>
                  <a:lnTo>
                    <a:pt x="825" y="189"/>
                  </a:lnTo>
                  <a:lnTo>
                    <a:pt x="832" y="205"/>
                  </a:lnTo>
                  <a:lnTo>
                    <a:pt x="837" y="224"/>
                  </a:lnTo>
                  <a:lnTo>
                    <a:pt x="841" y="242"/>
                  </a:lnTo>
                  <a:lnTo>
                    <a:pt x="845" y="260"/>
                  </a:lnTo>
                  <a:lnTo>
                    <a:pt x="849" y="280"/>
                  </a:lnTo>
                  <a:lnTo>
                    <a:pt x="851" y="299"/>
                  </a:lnTo>
                  <a:lnTo>
                    <a:pt x="854" y="319"/>
                  </a:lnTo>
                  <a:lnTo>
                    <a:pt x="856" y="341"/>
                  </a:lnTo>
                  <a:lnTo>
                    <a:pt x="856" y="363"/>
                  </a:lnTo>
                  <a:lnTo>
                    <a:pt x="856" y="384"/>
                  </a:lnTo>
                  <a:lnTo>
                    <a:pt x="856" y="397"/>
                  </a:lnTo>
                  <a:lnTo>
                    <a:pt x="856" y="410"/>
                  </a:lnTo>
                  <a:lnTo>
                    <a:pt x="856" y="422"/>
                  </a:lnTo>
                  <a:lnTo>
                    <a:pt x="855" y="437"/>
                  </a:lnTo>
                  <a:lnTo>
                    <a:pt x="853" y="449"/>
                  </a:lnTo>
                  <a:lnTo>
                    <a:pt x="852" y="464"/>
                  </a:lnTo>
                  <a:lnTo>
                    <a:pt x="850" y="478"/>
                  </a:lnTo>
                  <a:lnTo>
                    <a:pt x="848" y="493"/>
                  </a:lnTo>
                  <a:lnTo>
                    <a:pt x="846" y="507"/>
                  </a:lnTo>
                  <a:lnTo>
                    <a:pt x="844" y="522"/>
                  </a:lnTo>
                  <a:lnTo>
                    <a:pt x="841" y="534"/>
                  </a:lnTo>
                  <a:lnTo>
                    <a:pt x="838" y="547"/>
                  </a:lnTo>
                  <a:lnTo>
                    <a:pt x="834" y="560"/>
                  </a:lnTo>
                  <a:lnTo>
                    <a:pt x="831" y="570"/>
                  </a:lnTo>
                  <a:lnTo>
                    <a:pt x="827" y="581"/>
                  </a:lnTo>
                  <a:lnTo>
                    <a:pt x="823" y="592"/>
                  </a:lnTo>
                  <a:lnTo>
                    <a:pt x="818" y="605"/>
                  </a:lnTo>
                  <a:lnTo>
                    <a:pt x="812" y="616"/>
                  </a:lnTo>
                  <a:lnTo>
                    <a:pt x="806" y="626"/>
                  </a:lnTo>
                  <a:lnTo>
                    <a:pt x="801" y="637"/>
                  </a:lnTo>
                  <a:lnTo>
                    <a:pt x="795" y="646"/>
                  </a:lnTo>
                  <a:lnTo>
                    <a:pt x="788" y="655"/>
                  </a:lnTo>
                  <a:lnTo>
                    <a:pt x="782" y="663"/>
                  </a:lnTo>
                  <a:lnTo>
                    <a:pt x="776" y="670"/>
                  </a:lnTo>
                  <a:lnTo>
                    <a:pt x="770" y="677"/>
                  </a:lnTo>
                  <a:lnTo>
                    <a:pt x="762" y="682"/>
                  </a:lnTo>
                  <a:lnTo>
                    <a:pt x="754" y="686"/>
                  </a:lnTo>
                  <a:lnTo>
                    <a:pt x="745" y="690"/>
                  </a:lnTo>
                  <a:lnTo>
                    <a:pt x="735" y="693"/>
                  </a:lnTo>
                  <a:lnTo>
                    <a:pt x="725" y="695"/>
                  </a:lnTo>
                  <a:lnTo>
                    <a:pt x="714" y="697"/>
                  </a:lnTo>
                  <a:lnTo>
                    <a:pt x="702" y="697"/>
                  </a:lnTo>
                  <a:lnTo>
                    <a:pt x="685" y="695"/>
                  </a:lnTo>
                  <a:lnTo>
                    <a:pt x="670" y="693"/>
                  </a:lnTo>
                  <a:lnTo>
                    <a:pt x="656" y="688"/>
                  </a:lnTo>
                  <a:lnTo>
                    <a:pt x="642" y="682"/>
                  </a:lnTo>
                  <a:lnTo>
                    <a:pt x="630" y="673"/>
                  </a:lnTo>
                  <a:lnTo>
                    <a:pt x="618" y="663"/>
                  </a:lnTo>
                  <a:lnTo>
                    <a:pt x="613" y="657"/>
                  </a:lnTo>
                  <a:lnTo>
                    <a:pt x="608" y="650"/>
                  </a:lnTo>
                  <a:lnTo>
                    <a:pt x="603" y="643"/>
                  </a:lnTo>
                  <a:lnTo>
                    <a:pt x="598" y="635"/>
                  </a:lnTo>
                  <a:lnTo>
                    <a:pt x="590" y="621"/>
                  </a:lnTo>
                  <a:lnTo>
                    <a:pt x="582" y="605"/>
                  </a:lnTo>
                  <a:lnTo>
                    <a:pt x="576" y="590"/>
                  </a:lnTo>
                  <a:lnTo>
                    <a:pt x="573" y="581"/>
                  </a:lnTo>
                  <a:lnTo>
                    <a:pt x="571" y="574"/>
                  </a:lnTo>
                  <a:lnTo>
                    <a:pt x="568" y="567"/>
                  </a:lnTo>
                  <a:lnTo>
                    <a:pt x="567" y="558"/>
                  </a:lnTo>
                  <a:lnTo>
                    <a:pt x="565" y="551"/>
                  </a:lnTo>
                  <a:lnTo>
                    <a:pt x="564" y="541"/>
                  </a:lnTo>
                  <a:lnTo>
                    <a:pt x="562" y="534"/>
                  </a:lnTo>
                  <a:lnTo>
                    <a:pt x="562" y="525"/>
                  </a:lnTo>
                  <a:lnTo>
                    <a:pt x="561" y="518"/>
                  </a:lnTo>
                  <a:lnTo>
                    <a:pt x="561" y="509"/>
                  </a:lnTo>
                  <a:lnTo>
                    <a:pt x="561" y="489"/>
                  </a:lnTo>
                  <a:lnTo>
                    <a:pt x="562" y="469"/>
                  </a:lnTo>
                  <a:lnTo>
                    <a:pt x="564" y="451"/>
                  </a:lnTo>
                  <a:lnTo>
                    <a:pt x="566" y="431"/>
                  </a:lnTo>
                  <a:lnTo>
                    <a:pt x="568" y="411"/>
                  </a:lnTo>
                  <a:lnTo>
                    <a:pt x="572" y="393"/>
                  </a:lnTo>
                  <a:lnTo>
                    <a:pt x="575" y="373"/>
                  </a:lnTo>
                  <a:lnTo>
                    <a:pt x="579" y="354"/>
                  </a:lnTo>
                  <a:lnTo>
                    <a:pt x="589" y="316"/>
                  </a:lnTo>
                  <a:lnTo>
                    <a:pt x="599" y="276"/>
                  </a:lnTo>
                  <a:lnTo>
                    <a:pt x="611" y="234"/>
                  </a:lnTo>
                  <a:lnTo>
                    <a:pt x="624" y="191"/>
                  </a:lnTo>
                  <a:lnTo>
                    <a:pt x="622" y="187"/>
                  </a:lnTo>
                  <a:lnTo>
                    <a:pt x="619" y="182"/>
                  </a:lnTo>
                  <a:lnTo>
                    <a:pt x="616" y="177"/>
                  </a:lnTo>
                  <a:lnTo>
                    <a:pt x="613" y="173"/>
                  </a:lnTo>
                  <a:lnTo>
                    <a:pt x="604" y="162"/>
                  </a:lnTo>
                  <a:lnTo>
                    <a:pt x="593" y="149"/>
                  </a:lnTo>
                  <a:lnTo>
                    <a:pt x="587" y="144"/>
                  </a:lnTo>
                  <a:lnTo>
                    <a:pt x="581" y="139"/>
                  </a:lnTo>
                  <a:lnTo>
                    <a:pt x="574" y="135"/>
                  </a:lnTo>
                  <a:lnTo>
                    <a:pt x="567" y="131"/>
                  </a:lnTo>
                  <a:lnTo>
                    <a:pt x="559" y="128"/>
                  </a:lnTo>
                  <a:lnTo>
                    <a:pt x="551" y="126"/>
                  </a:lnTo>
                  <a:lnTo>
                    <a:pt x="542" y="124"/>
                  </a:lnTo>
                  <a:lnTo>
                    <a:pt x="533" y="124"/>
                  </a:lnTo>
                  <a:lnTo>
                    <a:pt x="521" y="124"/>
                  </a:lnTo>
                  <a:lnTo>
                    <a:pt x="509" y="128"/>
                  </a:lnTo>
                  <a:lnTo>
                    <a:pt x="497" y="131"/>
                  </a:lnTo>
                  <a:lnTo>
                    <a:pt x="486" y="139"/>
                  </a:lnTo>
                  <a:lnTo>
                    <a:pt x="474" y="146"/>
                  </a:lnTo>
                  <a:lnTo>
                    <a:pt x="463" y="155"/>
                  </a:lnTo>
                  <a:lnTo>
                    <a:pt x="452" y="168"/>
                  </a:lnTo>
                  <a:lnTo>
                    <a:pt x="442" y="180"/>
                  </a:lnTo>
                  <a:lnTo>
                    <a:pt x="432" y="195"/>
                  </a:lnTo>
                  <a:lnTo>
                    <a:pt x="422" y="211"/>
                  </a:lnTo>
                  <a:lnTo>
                    <a:pt x="413" y="229"/>
                  </a:lnTo>
                  <a:lnTo>
                    <a:pt x="403" y="249"/>
                  </a:lnTo>
                  <a:lnTo>
                    <a:pt x="394" y="270"/>
                  </a:lnTo>
                  <a:lnTo>
                    <a:pt x="385" y="294"/>
                  </a:lnTo>
                  <a:lnTo>
                    <a:pt x="369" y="346"/>
                  </a:lnTo>
                  <a:lnTo>
                    <a:pt x="353" y="404"/>
                  </a:lnTo>
                  <a:lnTo>
                    <a:pt x="340" y="466"/>
                  </a:lnTo>
                  <a:lnTo>
                    <a:pt x="329" y="529"/>
                  </a:lnTo>
                  <a:lnTo>
                    <a:pt x="320" y="597"/>
                  </a:lnTo>
                  <a:lnTo>
                    <a:pt x="313" y="668"/>
                  </a:lnTo>
                  <a:lnTo>
                    <a:pt x="308" y="742"/>
                  </a:lnTo>
                  <a:lnTo>
                    <a:pt x="304" y="820"/>
                  </a:lnTo>
                  <a:lnTo>
                    <a:pt x="303" y="899"/>
                  </a:lnTo>
                  <a:lnTo>
                    <a:pt x="304" y="961"/>
                  </a:lnTo>
                  <a:lnTo>
                    <a:pt x="307" y="1017"/>
                  </a:lnTo>
                  <a:lnTo>
                    <a:pt x="310" y="1071"/>
                  </a:lnTo>
                  <a:lnTo>
                    <a:pt x="315" y="1120"/>
                  </a:lnTo>
                  <a:lnTo>
                    <a:pt x="323" y="1165"/>
                  </a:lnTo>
                  <a:lnTo>
                    <a:pt x="326" y="1186"/>
                  </a:lnTo>
                  <a:lnTo>
                    <a:pt x="331" y="1206"/>
                  </a:lnTo>
                  <a:lnTo>
                    <a:pt x="336" y="1226"/>
                  </a:lnTo>
                  <a:lnTo>
                    <a:pt x="341" y="1244"/>
                  </a:lnTo>
                  <a:lnTo>
                    <a:pt x="347" y="1262"/>
                  </a:lnTo>
                  <a:lnTo>
                    <a:pt x="353" y="1279"/>
                  </a:lnTo>
                  <a:lnTo>
                    <a:pt x="359" y="1295"/>
                  </a:lnTo>
                  <a:lnTo>
                    <a:pt x="366" y="1309"/>
                  </a:lnTo>
                  <a:lnTo>
                    <a:pt x="373" y="1322"/>
                  </a:lnTo>
                  <a:lnTo>
                    <a:pt x="381" y="1336"/>
                  </a:lnTo>
                  <a:lnTo>
                    <a:pt x="388" y="1347"/>
                  </a:lnTo>
                  <a:lnTo>
                    <a:pt x="396" y="1358"/>
                  </a:lnTo>
                  <a:lnTo>
                    <a:pt x="404" y="1367"/>
                  </a:lnTo>
                  <a:lnTo>
                    <a:pt x="413" y="1376"/>
                  </a:lnTo>
                  <a:lnTo>
                    <a:pt x="422" y="1383"/>
                  </a:lnTo>
                  <a:lnTo>
                    <a:pt x="431" y="1391"/>
                  </a:lnTo>
                  <a:lnTo>
                    <a:pt x="441" y="1396"/>
                  </a:lnTo>
                  <a:lnTo>
                    <a:pt x="450" y="1401"/>
                  </a:lnTo>
                  <a:lnTo>
                    <a:pt x="471" y="1407"/>
                  </a:lnTo>
                  <a:lnTo>
                    <a:pt x="493" y="1409"/>
                  </a:lnTo>
                  <a:lnTo>
                    <a:pt x="517" y="1407"/>
                  </a:lnTo>
                  <a:lnTo>
                    <a:pt x="538" y="1405"/>
                  </a:lnTo>
                  <a:lnTo>
                    <a:pt x="560" y="1400"/>
                  </a:lnTo>
                  <a:lnTo>
                    <a:pt x="579" y="1392"/>
                  </a:lnTo>
                  <a:lnTo>
                    <a:pt x="598" y="1383"/>
                  </a:lnTo>
                  <a:lnTo>
                    <a:pt x="616" y="1371"/>
                  </a:lnTo>
                  <a:lnTo>
                    <a:pt x="633" y="1358"/>
                  </a:lnTo>
                  <a:lnTo>
                    <a:pt x="649" y="1342"/>
                  </a:lnTo>
                  <a:lnTo>
                    <a:pt x="665" y="1324"/>
                  </a:lnTo>
                  <a:lnTo>
                    <a:pt x="680" y="1302"/>
                  </a:lnTo>
                  <a:lnTo>
                    <a:pt x="696" y="1279"/>
                  </a:lnTo>
                  <a:lnTo>
                    <a:pt x="712" y="1251"/>
                  </a:lnTo>
                  <a:lnTo>
                    <a:pt x="728" y="1221"/>
                  </a:lnTo>
                  <a:lnTo>
                    <a:pt x="745" y="1188"/>
                  </a:lnTo>
                  <a:lnTo>
                    <a:pt x="760" y="1152"/>
                  </a:lnTo>
                  <a:lnTo>
                    <a:pt x="776" y="1112"/>
                  </a:lnTo>
                  <a:lnTo>
                    <a:pt x="838" y="1208"/>
                  </a:lnTo>
                  <a:lnTo>
                    <a:pt x="819" y="1257"/>
                  </a:lnTo>
                  <a:lnTo>
                    <a:pt x="800" y="1304"/>
                  </a:lnTo>
                  <a:lnTo>
                    <a:pt x="779" y="1347"/>
                  </a:lnTo>
                  <a:lnTo>
                    <a:pt x="757" y="1389"/>
                  </a:lnTo>
                  <a:lnTo>
                    <a:pt x="733" y="1427"/>
                  </a:lnTo>
                  <a:lnTo>
                    <a:pt x="708" y="1465"/>
                  </a:lnTo>
                  <a:lnTo>
                    <a:pt x="682" y="1497"/>
                  </a:lnTo>
                  <a:lnTo>
                    <a:pt x="653" y="1530"/>
                  </a:lnTo>
                  <a:lnTo>
                    <a:pt x="625" y="1559"/>
                  </a:lnTo>
                  <a:lnTo>
                    <a:pt x="596" y="1582"/>
                  </a:lnTo>
                  <a:lnTo>
                    <a:pt x="567" y="1604"/>
                  </a:lnTo>
                  <a:lnTo>
                    <a:pt x="536" y="1620"/>
                  </a:lnTo>
                  <a:lnTo>
                    <a:pt x="505" y="1634"/>
                  </a:lnTo>
                  <a:lnTo>
                    <a:pt x="475" y="1643"/>
                  </a:lnTo>
                  <a:lnTo>
                    <a:pt x="444" y="1649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16720" y="768240"/>
              <a:ext cx="411120" cy="587520"/>
            </a:xfrm>
            <a:custGeom>
              <a:avLst/>
              <a:gdLst/>
              <a:ahLst/>
              <a:rect l="l" t="t" r="r" b="b"/>
              <a:pathLst>
                <a:path w="1140" h="1630">
                  <a:moveTo>
                    <a:pt x="1120" y="1499"/>
                  </a:moveTo>
                  <a:lnTo>
                    <a:pt x="986" y="1593"/>
                  </a:lnTo>
                  <a:lnTo>
                    <a:pt x="973" y="1600"/>
                  </a:lnTo>
                  <a:lnTo>
                    <a:pt x="960" y="1607"/>
                  </a:lnTo>
                  <a:lnTo>
                    <a:pt x="946" y="1613"/>
                  </a:lnTo>
                  <a:lnTo>
                    <a:pt x="932" y="1618"/>
                  </a:lnTo>
                  <a:lnTo>
                    <a:pt x="917" y="1620"/>
                  </a:lnTo>
                  <a:lnTo>
                    <a:pt x="901" y="1624"/>
                  </a:lnTo>
                  <a:lnTo>
                    <a:pt x="870" y="1625"/>
                  </a:lnTo>
                  <a:lnTo>
                    <a:pt x="847" y="1624"/>
                  </a:lnTo>
                  <a:lnTo>
                    <a:pt x="825" y="1620"/>
                  </a:lnTo>
                  <a:lnTo>
                    <a:pt x="804" y="1613"/>
                  </a:lnTo>
                  <a:lnTo>
                    <a:pt x="785" y="1604"/>
                  </a:lnTo>
                  <a:lnTo>
                    <a:pt x="766" y="1591"/>
                  </a:lnTo>
                  <a:lnTo>
                    <a:pt x="749" y="1577"/>
                  </a:lnTo>
                  <a:lnTo>
                    <a:pt x="733" y="1559"/>
                  </a:lnTo>
                  <a:lnTo>
                    <a:pt x="717" y="1537"/>
                  </a:lnTo>
                  <a:lnTo>
                    <a:pt x="710" y="1526"/>
                  </a:lnTo>
                  <a:lnTo>
                    <a:pt x="703" y="1513"/>
                  </a:lnTo>
                  <a:lnTo>
                    <a:pt x="697" y="1501"/>
                  </a:lnTo>
                  <a:lnTo>
                    <a:pt x="691" y="1488"/>
                  </a:lnTo>
                  <a:lnTo>
                    <a:pt x="685" y="1475"/>
                  </a:lnTo>
                  <a:lnTo>
                    <a:pt x="680" y="1461"/>
                  </a:lnTo>
                  <a:lnTo>
                    <a:pt x="676" y="1447"/>
                  </a:lnTo>
                  <a:lnTo>
                    <a:pt x="672" y="1432"/>
                  </a:lnTo>
                  <a:lnTo>
                    <a:pt x="668" y="1418"/>
                  </a:lnTo>
                  <a:lnTo>
                    <a:pt x="666" y="1401"/>
                  </a:lnTo>
                  <a:lnTo>
                    <a:pt x="663" y="1385"/>
                  </a:lnTo>
                  <a:lnTo>
                    <a:pt x="661" y="1369"/>
                  </a:lnTo>
                  <a:lnTo>
                    <a:pt x="659" y="1353"/>
                  </a:lnTo>
                  <a:lnTo>
                    <a:pt x="658" y="1335"/>
                  </a:lnTo>
                  <a:lnTo>
                    <a:pt x="657" y="1316"/>
                  </a:lnTo>
                  <a:lnTo>
                    <a:pt x="657" y="1298"/>
                  </a:lnTo>
                  <a:lnTo>
                    <a:pt x="657" y="1260"/>
                  </a:lnTo>
                  <a:lnTo>
                    <a:pt x="658" y="1226"/>
                  </a:lnTo>
                  <a:lnTo>
                    <a:pt x="659" y="1195"/>
                  </a:lnTo>
                  <a:lnTo>
                    <a:pt x="660" y="1170"/>
                  </a:lnTo>
                  <a:lnTo>
                    <a:pt x="661" y="1145"/>
                  </a:lnTo>
                  <a:lnTo>
                    <a:pt x="664" y="1118"/>
                  </a:lnTo>
                  <a:lnTo>
                    <a:pt x="668" y="1087"/>
                  </a:lnTo>
                  <a:lnTo>
                    <a:pt x="673" y="1053"/>
                  </a:lnTo>
                  <a:lnTo>
                    <a:pt x="725" y="688"/>
                  </a:lnTo>
                  <a:lnTo>
                    <a:pt x="742" y="560"/>
                  </a:lnTo>
                  <a:lnTo>
                    <a:pt x="749" y="507"/>
                  </a:lnTo>
                  <a:lnTo>
                    <a:pt x="753" y="464"/>
                  </a:lnTo>
                  <a:lnTo>
                    <a:pt x="757" y="424"/>
                  </a:lnTo>
                  <a:lnTo>
                    <a:pt x="759" y="390"/>
                  </a:lnTo>
                  <a:lnTo>
                    <a:pt x="760" y="357"/>
                  </a:lnTo>
                  <a:lnTo>
                    <a:pt x="761" y="341"/>
                  </a:lnTo>
                  <a:lnTo>
                    <a:pt x="761" y="326"/>
                  </a:lnTo>
                  <a:lnTo>
                    <a:pt x="761" y="321"/>
                  </a:lnTo>
                  <a:lnTo>
                    <a:pt x="761" y="316"/>
                  </a:lnTo>
                  <a:lnTo>
                    <a:pt x="760" y="310"/>
                  </a:lnTo>
                  <a:lnTo>
                    <a:pt x="760" y="305"/>
                  </a:lnTo>
                  <a:lnTo>
                    <a:pt x="759" y="299"/>
                  </a:lnTo>
                  <a:lnTo>
                    <a:pt x="759" y="296"/>
                  </a:lnTo>
                  <a:lnTo>
                    <a:pt x="758" y="290"/>
                  </a:lnTo>
                  <a:lnTo>
                    <a:pt x="757" y="287"/>
                  </a:lnTo>
                  <a:lnTo>
                    <a:pt x="755" y="283"/>
                  </a:lnTo>
                  <a:lnTo>
                    <a:pt x="753" y="278"/>
                  </a:lnTo>
                  <a:lnTo>
                    <a:pt x="752" y="274"/>
                  </a:lnTo>
                  <a:lnTo>
                    <a:pt x="750" y="270"/>
                  </a:lnTo>
                  <a:lnTo>
                    <a:pt x="748" y="267"/>
                  </a:lnTo>
                  <a:lnTo>
                    <a:pt x="747" y="265"/>
                  </a:lnTo>
                  <a:lnTo>
                    <a:pt x="744" y="261"/>
                  </a:lnTo>
                  <a:lnTo>
                    <a:pt x="741" y="258"/>
                  </a:lnTo>
                  <a:lnTo>
                    <a:pt x="736" y="252"/>
                  </a:lnTo>
                  <a:lnTo>
                    <a:pt x="730" y="247"/>
                  </a:lnTo>
                  <a:lnTo>
                    <a:pt x="724" y="243"/>
                  </a:lnTo>
                  <a:lnTo>
                    <a:pt x="717" y="240"/>
                  </a:lnTo>
                  <a:lnTo>
                    <a:pt x="710" y="236"/>
                  </a:lnTo>
                  <a:lnTo>
                    <a:pt x="702" y="234"/>
                  </a:lnTo>
                  <a:lnTo>
                    <a:pt x="694" y="233"/>
                  </a:lnTo>
                  <a:lnTo>
                    <a:pt x="685" y="233"/>
                  </a:lnTo>
                  <a:lnTo>
                    <a:pt x="677" y="233"/>
                  </a:lnTo>
                  <a:lnTo>
                    <a:pt x="670" y="234"/>
                  </a:lnTo>
                  <a:lnTo>
                    <a:pt x="663" y="236"/>
                  </a:lnTo>
                  <a:lnTo>
                    <a:pt x="656" y="238"/>
                  </a:lnTo>
                  <a:lnTo>
                    <a:pt x="649" y="242"/>
                  </a:lnTo>
                  <a:lnTo>
                    <a:pt x="643" y="245"/>
                  </a:lnTo>
                  <a:lnTo>
                    <a:pt x="636" y="249"/>
                  </a:lnTo>
                  <a:lnTo>
                    <a:pt x="630" y="254"/>
                  </a:lnTo>
                  <a:lnTo>
                    <a:pt x="624" y="260"/>
                  </a:lnTo>
                  <a:lnTo>
                    <a:pt x="618" y="269"/>
                  </a:lnTo>
                  <a:lnTo>
                    <a:pt x="612" y="276"/>
                  </a:lnTo>
                  <a:lnTo>
                    <a:pt x="605" y="287"/>
                  </a:lnTo>
                  <a:lnTo>
                    <a:pt x="599" y="298"/>
                  </a:lnTo>
                  <a:lnTo>
                    <a:pt x="592" y="312"/>
                  </a:lnTo>
                  <a:lnTo>
                    <a:pt x="585" y="325"/>
                  </a:lnTo>
                  <a:lnTo>
                    <a:pt x="578" y="341"/>
                  </a:lnTo>
                  <a:lnTo>
                    <a:pt x="571" y="359"/>
                  </a:lnTo>
                  <a:lnTo>
                    <a:pt x="564" y="377"/>
                  </a:lnTo>
                  <a:lnTo>
                    <a:pt x="557" y="397"/>
                  </a:lnTo>
                  <a:lnTo>
                    <a:pt x="550" y="419"/>
                  </a:lnTo>
                  <a:lnTo>
                    <a:pt x="538" y="464"/>
                  </a:lnTo>
                  <a:lnTo>
                    <a:pt x="524" y="516"/>
                  </a:lnTo>
                  <a:lnTo>
                    <a:pt x="510" y="574"/>
                  </a:lnTo>
                  <a:lnTo>
                    <a:pt x="496" y="643"/>
                  </a:lnTo>
                  <a:lnTo>
                    <a:pt x="464" y="805"/>
                  </a:lnTo>
                  <a:lnTo>
                    <a:pt x="433" y="975"/>
                  </a:lnTo>
                  <a:lnTo>
                    <a:pt x="416" y="1055"/>
                  </a:lnTo>
                  <a:lnTo>
                    <a:pt x="400" y="1132"/>
                  </a:lnTo>
                  <a:lnTo>
                    <a:pt x="384" y="1206"/>
                  </a:lnTo>
                  <a:lnTo>
                    <a:pt x="365" y="1273"/>
                  </a:lnTo>
                  <a:lnTo>
                    <a:pt x="347" y="1336"/>
                  </a:lnTo>
                  <a:lnTo>
                    <a:pt x="337" y="1365"/>
                  </a:lnTo>
                  <a:lnTo>
                    <a:pt x="328" y="1392"/>
                  </a:lnTo>
                  <a:lnTo>
                    <a:pt x="316" y="1421"/>
                  </a:lnTo>
                  <a:lnTo>
                    <a:pt x="306" y="1448"/>
                  </a:lnTo>
                  <a:lnTo>
                    <a:pt x="295" y="1474"/>
                  </a:lnTo>
                  <a:lnTo>
                    <a:pt x="284" y="1495"/>
                  </a:lnTo>
                  <a:lnTo>
                    <a:pt x="273" y="1517"/>
                  </a:lnTo>
                  <a:lnTo>
                    <a:pt x="262" y="1537"/>
                  </a:lnTo>
                  <a:lnTo>
                    <a:pt x="251" y="1553"/>
                  </a:lnTo>
                  <a:lnTo>
                    <a:pt x="240" y="1569"/>
                  </a:lnTo>
                  <a:lnTo>
                    <a:pt x="228" y="1584"/>
                  </a:lnTo>
                  <a:lnTo>
                    <a:pt x="216" y="1595"/>
                  </a:lnTo>
                  <a:lnTo>
                    <a:pt x="203" y="1605"/>
                  </a:lnTo>
                  <a:lnTo>
                    <a:pt x="189" y="1615"/>
                  </a:lnTo>
                  <a:lnTo>
                    <a:pt x="175" y="1620"/>
                  </a:lnTo>
                  <a:lnTo>
                    <a:pt x="160" y="1625"/>
                  </a:lnTo>
                  <a:lnTo>
                    <a:pt x="144" y="1627"/>
                  </a:lnTo>
                  <a:lnTo>
                    <a:pt x="128" y="1629"/>
                  </a:lnTo>
                  <a:lnTo>
                    <a:pt x="114" y="1627"/>
                  </a:lnTo>
                  <a:lnTo>
                    <a:pt x="101" y="1625"/>
                  </a:lnTo>
                  <a:lnTo>
                    <a:pt x="89" y="1620"/>
                  </a:lnTo>
                  <a:lnTo>
                    <a:pt x="77" y="1615"/>
                  </a:lnTo>
                  <a:lnTo>
                    <a:pt x="66" y="1605"/>
                  </a:lnTo>
                  <a:lnTo>
                    <a:pt x="56" y="1595"/>
                  </a:lnTo>
                  <a:lnTo>
                    <a:pt x="45" y="1584"/>
                  </a:lnTo>
                  <a:lnTo>
                    <a:pt x="36" y="1569"/>
                  </a:lnTo>
                  <a:lnTo>
                    <a:pt x="32" y="1562"/>
                  </a:lnTo>
                  <a:lnTo>
                    <a:pt x="27" y="1553"/>
                  </a:lnTo>
                  <a:lnTo>
                    <a:pt x="24" y="1546"/>
                  </a:lnTo>
                  <a:lnTo>
                    <a:pt x="20" y="1537"/>
                  </a:lnTo>
                  <a:lnTo>
                    <a:pt x="17" y="1528"/>
                  </a:lnTo>
                  <a:lnTo>
                    <a:pt x="14" y="1517"/>
                  </a:lnTo>
                  <a:lnTo>
                    <a:pt x="11" y="1508"/>
                  </a:lnTo>
                  <a:lnTo>
                    <a:pt x="9" y="1497"/>
                  </a:lnTo>
                  <a:lnTo>
                    <a:pt x="7" y="1486"/>
                  </a:lnTo>
                  <a:lnTo>
                    <a:pt x="5" y="1475"/>
                  </a:lnTo>
                  <a:lnTo>
                    <a:pt x="3" y="1465"/>
                  </a:lnTo>
                  <a:lnTo>
                    <a:pt x="2" y="1452"/>
                  </a:lnTo>
                  <a:lnTo>
                    <a:pt x="1" y="1439"/>
                  </a:lnTo>
                  <a:lnTo>
                    <a:pt x="1" y="1427"/>
                  </a:lnTo>
                  <a:lnTo>
                    <a:pt x="0" y="1400"/>
                  </a:lnTo>
                  <a:lnTo>
                    <a:pt x="1" y="1367"/>
                  </a:lnTo>
                  <a:lnTo>
                    <a:pt x="2" y="1336"/>
                  </a:lnTo>
                  <a:lnTo>
                    <a:pt x="5" y="1306"/>
                  </a:lnTo>
                  <a:lnTo>
                    <a:pt x="8" y="1293"/>
                  </a:lnTo>
                  <a:lnTo>
                    <a:pt x="9" y="1279"/>
                  </a:lnTo>
                  <a:lnTo>
                    <a:pt x="12" y="1266"/>
                  </a:lnTo>
                  <a:lnTo>
                    <a:pt x="14" y="1253"/>
                  </a:lnTo>
                  <a:lnTo>
                    <a:pt x="18" y="1241"/>
                  </a:lnTo>
                  <a:lnTo>
                    <a:pt x="21" y="1230"/>
                  </a:lnTo>
                  <a:lnTo>
                    <a:pt x="25" y="1219"/>
                  </a:lnTo>
                  <a:lnTo>
                    <a:pt x="29" y="1208"/>
                  </a:lnTo>
                  <a:lnTo>
                    <a:pt x="33" y="1197"/>
                  </a:lnTo>
                  <a:lnTo>
                    <a:pt x="38" y="1188"/>
                  </a:lnTo>
                  <a:lnTo>
                    <a:pt x="48" y="1170"/>
                  </a:lnTo>
                  <a:lnTo>
                    <a:pt x="58" y="1154"/>
                  </a:lnTo>
                  <a:lnTo>
                    <a:pt x="63" y="1147"/>
                  </a:lnTo>
                  <a:lnTo>
                    <a:pt x="69" y="1141"/>
                  </a:lnTo>
                  <a:lnTo>
                    <a:pt x="75" y="1134"/>
                  </a:lnTo>
                  <a:lnTo>
                    <a:pt x="81" y="1130"/>
                  </a:lnTo>
                  <a:lnTo>
                    <a:pt x="93" y="1121"/>
                  </a:lnTo>
                  <a:lnTo>
                    <a:pt x="106" y="1116"/>
                  </a:lnTo>
                  <a:lnTo>
                    <a:pt x="119" y="1112"/>
                  </a:lnTo>
                  <a:lnTo>
                    <a:pt x="133" y="1111"/>
                  </a:lnTo>
                  <a:lnTo>
                    <a:pt x="143" y="1111"/>
                  </a:lnTo>
                  <a:lnTo>
                    <a:pt x="153" y="1112"/>
                  </a:lnTo>
                  <a:lnTo>
                    <a:pt x="162" y="1116"/>
                  </a:lnTo>
                  <a:lnTo>
                    <a:pt x="172" y="1120"/>
                  </a:lnTo>
                  <a:lnTo>
                    <a:pt x="180" y="1125"/>
                  </a:lnTo>
                  <a:lnTo>
                    <a:pt x="189" y="1130"/>
                  </a:lnTo>
                  <a:lnTo>
                    <a:pt x="198" y="1138"/>
                  </a:lnTo>
                  <a:lnTo>
                    <a:pt x="205" y="1147"/>
                  </a:lnTo>
                  <a:lnTo>
                    <a:pt x="221" y="1167"/>
                  </a:lnTo>
                  <a:lnTo>
                    <a:pt x="236" y="1186"/>
                  </a:lnTo>
                  <a:lnTo>
                    <a:pt x="248" y="1206"/>
                  </a:lnTo>
                  <a:lnTo>
                    <a:pt x="261" y="1228"/>
                  </a:lnTo>
                  <a:lnTo>
                    <a:pt x="270" y="1203"/>
                  </a:lnTo>
                  <a:lnTo>
                    <a:pt x="278" y="1176"/>
                  </a:lnTo>
                  <a:lnTo>
                    <a:pt x="294" y="1116"/>
                  </a:lnTo>
                  <a:lnTo>
                    <a:pt x="310" y="1049"/>
                  </a:lnTo>
                  <a:lnTo>
                    <a:pt x="326" y="977"/>
                  </a:lnTo>
                  <a:lnTo>
                    <a:pt x="366" y="776"/>
                  </a:lnTo>
                  <a:lnTo>
                    <a:pt x="421" y="504"/>
                  </a:lnTo>
                  <a:lnTo>
                    <a:pt x="429" y="469"/>
                  </a:lnTo>
                  <a:lnTo>
                    <a:pt x="438" y="437"/>
                  </a:lnTo>
                  <a:lnTo>
                    <a:pt x="446" y="404"/>
                  </a:lnTo>
                  <a:lnTo>
                    <a:pt x="456" y="372"/>
                  </a:lnTo>
                  <a:lnTo>
                    <a:pt x="465" y="341"/>
                  </a:lnTo>
                  <a:lnTo>
                    <a:pt x="476" y="310"/>
                  </a:lnTo>
                  <a:lnTo>
                    <a:pt x="487" y="281"/>
                  </a:lnTo>
                  <a:lnTo>
                    <a:pt x="498" y="252"/>
                  </a:lnTo>
                  <a:lnTo>
                    <a:pt x="510" y="225"/>
                  </a:lnTo>
                  <a:lnTo>
                    <a:pt x="524" y="200"/>
                  </a:lnTo>
                  <a:lnTo>
                    <a:pt x="538" y="175"/>
                  </a:lnTo>
                  <a:lnTo>
                    <a:pt x="553" y="151"/>
                  </a:lnTo>
                  <a:lnTo>
                    <a:pt x="568" y="130"/>
                  </a:lnTo>
                  <a:lnTo>
                    <a:pt x="585" y="108"/>
                  </a:lnTo>
                  <a:lnTo>
                    <a:pt x="603" y="88"/>
                  </a:lnTo>
                  <a:lnTo>
                    <a:pt x="621" y="70"/>
                  </a:lnTo>
                  <a:lnTo>
                    <a:pt x="640" y="54"/>
                  </a:lnTo>
                  <a:lnTo>
                    <a:pt x="661" y="39"/>
                  </a:lnTo>
                  <a:lnTo>
                    <a:pt x="683" y="27"/>
                  </a:lnTo>
                  <a:lnTo>
                    <a:pt x="705" y="18"/>
                  </a:lnTo>
                  <a:lnTo>
                    <a:pt x="730" y="9"/>
                  </a:lnTo>
                  <a:lnTo>
                    <a:pt x="755" y="3"/>
                  </a:lnTo>
                  <a:lnTo>
                    <a:pt x="782" y="1"/>
                  </a:lnTo>
                  <a:lnTo>
                    <a:pt x="810" y="0"/>
                  </a:lnTo>
                  <a:lnTo>
                    <a:pt x="838" y="1"/>
                  </a:lnTo>
                  <a:lnTo>
                    <a:pt x="864" y="3"/>
                  </a:lnTo>
                  <a:lnTo>
                    <a:pt x="889" y="10"/>
                  </a:lnTo>
                  <a:lnTo>
                    <a:pt x="912" y="18"/>
                  </a:lnTo>
                  <a:lnTo>
                    <a:pt x="933" y="27"/>
                  </a:lnTo>
                  <a:lnTo>
                    <a:pt x="953" y="39"/>
                  </a:lnTo>
                  <a:lnTo>
                    <a:pt x="971" y="56"/>
                  </a:lnTo>
                  <a:lnTo>
                    <a:pt x="988" y="72"/>
                  </a:lnTo>
                  <a:lnTo>
                    <a:pt x="1004" y="90"/>
                  </a:lnTo>
                  <a:lnTo>
                    <a:pt x="1011" y="99"/>
                  </a:lnTo>
                  <a:lnTo>
                    <a:pt x="1017" y="110"/>
                  </a:lnTo>
                  <a:lnTo>
                    <a:pt x="1023" y="119"/>
                  </a:lnTo>
                  <a:lnTo>
                    <a:pt x="1028" y="130"/>
                  </a:lnTo>
                  <a:lnTo>
                    <a:pt x="1033" y="140"/>
                  </a:lnTo>
                  <a:lnTo>
                    <a:pt x="1037" y="151"/>
                  </a:lnTo>
                  <a:lnTo>
                    <a:pt x="1042" y="162"/>
                  </a:lnTo>
                  <a:lnTo>
                    <a:pt x="1044" y="175"/>
                  </a:lnTo>
                  <a:lnTo>
                    <a:pt x="1048" y="186"/>
                  </a:lnTo>
                  <a:lnTo>
                    <a:pt x="1049" y="198"/>
                  </a:lnTo>
                  <a:lnTo>
                    <a:pt x="1051" y="211"/>
                  </a:lnTo>
                  <a:lnTo>
                    <a:pt x="1053" y="224"/>
                  </a:lnTo>
                  <a:lnTo>
                    <a:pt x="1054" y="236"/>
                  </a:lnTo>
                  <a:lnTo>
                    <a:pt x="1054" y="249"/>
                  </a:lnTo>
                  <a:lnTo>
                    <a:pt x="1054" y="280"/>
                  </a:lnTo>
                  <a:lnTo>
                    <a:pt x="1053" y="310"/>
                  </a:lnTo>
                  <a:lnTo>
                    <a:pt x="1051" y="339"/>
                  </a:lnTo>
                  <a:lnTo>
                    <a:pt x="1049" y="370"/>
                  </a:lnTo>
                  <a:lnTo>
                    <a:pt x="1046" y="401"/>
                  </a:lnTo>
                  <a:lnTo>
                    <a:pt x="1043" y="431"/>
                  </a:lnTo>
                  <a:lnTo>
                    <a:pt x="1038" y="464"/>
                  </a:lnTo>
                  <a:lnTo>
                    <a:pt x="1033" y="498"/>
                  </a:lnTo>
                  <a:lnTo>
                    <a:pt x="959" y="1013"/>
                  </a:lnTo>
                  <a:lnTo>
                    <a:pt x="956" y="1040"/>
                  </a:lnTo>
                  <a:lnTo>
                    <a:pt x="951" y="1069"/>
                  </a:lnTo>
                  <a:lnTo>
                    <a:pt x="948" y="1101"/>
                  </a:lnTo>
                  <a:lnTo>
                    <a:pt x="944" y="1134"/>
                  </a:lnTo>
                  <a:lnTo>
                    <a:pt x="942" y="1168"/>
                  </a:lnTo>
                  <a:lnTo>
                    <a:pt x="939" y="1197"/>
                  </a:lnTo>
                  <a:lnTo>
                    <a:pt x="938" y="1224"/>
                  </a:lnTo>
                  <a:lnTo>
                    <a:pt x="938" y="1235"/>
                  </a:lnTo>
                  <a:lnTo>
                    <a:pt x="938" y="1246"/>
                  </a:lnTo>
                  <a:lnTo>
                    <a:pt x="938" y="1268"/>
                  </a:lnTo>
                  <a:lnTo>
                    <a:pt x="939" y="1288"/>
                  </a:lnTo>
                  <a:lnTo>
                    <a:pt x="940" y="1307"/>
                  </a:lnTo>
                  <a:lnTo>
                    <a:pt x="942" y="1315"/>
                  </a:lnTo>
                  <a:lnTo>
                    <a:pt x="943" y="1324"/>
                  </a:lnTo>
                  <a:lnTo>
                    <a:pt x="944" y="1331"/>
                  </a:lnTo>
                  <a:lnTo>
                    <a:pt x="946" y="1338"/>
                  </a:lnTo>
                  <a:lnTo>
                    <a:pt x="948" y="1345"/>
                  </a:lnTo>
                  <a:lnTo>
                    <a:pt x="950" y="1351"/>
                  </a:lnTo>
                  <a:lnTo>
                    <a:pt x="951" y="1356"/>
                  </a:lnTo>
                  <a:lnTo>
                    <a:pt x="954" y="1362"/>
                  </a:lnTo>
                  <a:lnTo>
                    <a:pt x="956" y="1367"/>
                  </a:lnTo>
                  <a:lnTo>
                    <a:pt x="959" y="1371"/>
                  </a:lnTo>
                  <a:lnTo>
                    <a:pt x="962" y="1374"/>
                  </a:lnTo>
                  <a:lnTo>
                    <a:pt x="965" y="1378"/>
                  </a:lnTo>
                  <a:lnTo>
                    <a:pt x="968" y="1381"/>
                  </a:lnTo>
                  <a:lnTo>
                    <a:pt x="971" y="1385"/>
                  </a:lnTo>
                  <a:lnTo>
                    <a:pt x="980" y="1391"/>
                  </a:lnTo>
                  <a:lnTo>
                    <a:pt x="988" y="1396"/>
                  </a:lnTo>
                  <a:lnTo>
                    <a:pt x="998" y="1398"/>
                  </a:lnTo>
                  <a:lnTo>
                    <a:pt x="1009" y="1401"/>
                  </a:lnTo>
                  <a:lnTo>
                    <a:pt x="1022" y="1403"/>
                  </a:lnTo>
                  <a:lnTo>
                    <a:pt x="1035" y="1403"/>
                  </a:lnTo>
                  <a:lnTo>
                    <a:pt x="1041" y="1403"/>
                  </a:lnTo>
                  <a:lnTo>
                    <a:pt x="1048" y="1401"/>
                  </a:lnTo>
                  <a:lnTo>
                    <a:pt x="1061" y="1400"/>
                  </a:lnTo>
                  <a:lnTo>
                    <a:pt x="1077" y="1394"/>
                  </a:lnTo>
                  <a:lnTo>
                    <a:pt x="1092" y="1387"/>
                  </a:lnTo>
                  <a:lnTo>
                    <a:pt x="1107" y="1380"/>
                  </a:lnTo>
                  <a:lnTo>
                    <a:pt x="1120" y="1372"/>
                  </a:lnTo>
                  <a:lnTo>
                    <a:pt x="1130" y="1365"/>
                  </a:lnTo>
                  <a:lnTo>
                    <a:pt x="1135" y="1362"/>
                  </a:lnTo>
                  <a:lnTo>
                    <a:pt x="1139" y="1358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3440" y="768240"/>
              <a:ext cx="314280" cy="595440"/>
            </a:xfrm>
            <a:custGeom>
              <a:avLst/>
              <a:gdLst/>
              <a:ahLst/>
              <a:rect l="l" t="t" r="r" b="b"/>
              <a:pathLst>
                <a:path w="872" h="1652">
                  <a:moveTo>
                    <a:pt x="403" y="1651"/>
                  </a:moveTo>
                  <a:lnTo>
                    <a:pt x="354" y="1647"/>
                  </a:lnTo>
                  <a:lnTo>
                    <a:pt x="330" y="1643"/>
                  </a:lnTo>
                  <a:lnTo>
                    <a:pt x="308" y="1638"/>
                  </a:lnTo>
                  <a:lnTo>
                    <a:pt x="286" y="1631"/>
                  </a:lnTo>
                  <a:lnTo>
                    <a:pt x="265" y="1622"/>
                  </a:lnTo>
                  <a:lnTo>
                    <a:pt x="245" y="1613"/>
                  </a:lnTo>
                  <a:lnTo>
                    <a:pt x="225" y="1600"/>
                  </a:lnTo>
                  <a:lnTo>
                    <a:pt x="206" y="1587"/>
                  </a:lnTo>
                  <a:lnTo>
                    <a:pt x="188" y="1571"/>
                  </a:lnTo>
                  <a:lnTo>
                    <a:pt x="171" y="1555"/>
                  </a:lnTo>
                  <a:lnTo>
                    <a:pt x="155" y="1539"/>
                  </a:lnTo>
                  <a:lnTo>
                    <a:pt x="139" y="1519"/>
                  </a:lnTo>
                  <a:lnTo>
                    <a:pt x="125" y="1501"/>
                  </a:lnTo>
                  <a:lnTo>
                    <a:pt x="111" y="1479"/>
                  </a:lnTo>
                  <a:lnTo>
                    <a:pt x="98" y="1457"/>
                  </a:lnTo>
                  <a:lnTo>
                    <a:pt x="86" y="1434"/>
                  </a:lnTo>
                  <a:lnTo>
                    <a:pt x="75" y="1410"/>
                  </a:lnTo>
                  <a:lnTo>
                    <a:pt x="64" y="1385"/>
                  </a:lnTo>
                  <a:lnTo>
                    <a:pt x="55" y="1358"/>
                  </a:lnTo>
                  <a:lnTo>
                    <a:pt x="46" y="1331"/>
                  </a:lnTo>
                  <a:lnTo>
                    <a:pt x="39" y="1304"/>
                  </a:lnTo>
                  <a:lnTo>
                    <a:pt x="32" y="1275"/>
                  </a:lnTo>
                  <a:lnTo>
                    <a:pt x="25" y="1244"/>
                  </a:lnTo>
                  <a:lnTo>
                    <a:pt x="19" y="1213"/>
                  </a:lnTo>
                  <a:lnTo>
                    <a:pt x="14" y="1181"/>
                  </a:lnTo>
                  <a:lnTo>
                    <a:pt x="9" y="1150"/>
                  </a:lnTo>
                  <a:lnTo>
                    <a:pt x="6" y="1116"/>
                  </a:lnTo>
                  <a:lnTo>
                    <a:pt x="3" y="1083"/>
                  </a:lnTo>
                  <a:lnTo>
                    <a:pt x="2" y="1049"/>
                  </a:lnTo>
                  <a:lnTo>
                    <a:pt x="0" y="1013"/>
                  </a:lnTo>
                  <a:lnTo>
                    <a:pt x="0" y="977"/>
                  </a:lnTo>
                  <a:lnTo>
                    <a:pt x="1" y="930"/>
                  </a:lnTo>
                  <a:lnTo>
                    <a:pt x="2" y="885"/>
                  </a:lnTo>
                  <a:lnTo>
                    <a:pt x="5" y="840"/>
                  </a:lnTo>
                  <a:lnTo>
                    <a:pt x="9" y="794"/>
                  </a:lnTo>
                  <a:lnTo>
                    <a:pt x="14" y="749"/>
                  </a:lnTo>
                  <a:lnTo>
                    <a:pt x="21" y="704"/>
                  </a:lnTo>
                  <a:lnTo>
                    <a:pt x="28" y="659"/>
                  </a:lnTo>
                  <a:lnTo>
                    <a:pt x="37" y="616"/>
                  </a:lnTo>
                  <a:lnTo>
                    <a:pt x="47" y="572"/>
                  </a:lnTo>
                  <a:lnTo>
                    <a:pt x="58" y="531"/>
                  </a:lnTo>
                  <a:lnTo>
                    <a:pt x="70" y="489"/>
                  </a:lnTo>
                  <a:lnTo>
                    <a:pt x="83" y="449"/>
                  </a:lnTo>
                  <a:lnTo>
                    <a:pt x="98" y="410"/>
                  </a:lnTo>
                  <a:lnTo>
                    <a:pt x="113" y="373"/>
                  </a:lnTo>
                  <a:lnTo>
                    <a:pt x="131" y="336"/>
                  </a:lnTo>
                  <a:lnTo>
                    <a:pt x="149" y="301"/>
                  </a:lnTo>
                  <a:lnTo>
                    <a:pt x="167" y="269"/>
                  </a:lnTo>
                  <a:lnTo>
                    <a:pt x="186" y="236"/>
                  </a:lnTo>
                  <a:lnTo>
                    <a:pt x="206" y="207"/>
                  </a:lnTo>
                  <a:lnTo>
                    <a:pt x="228" y="178"/>
                  </a:lnTo>
                  <a:lnTo>
                    <a:pt x="250" y="153"/>
                  </a:lnTo>
                  <a:lnTo>
                    <a:pt x="274" y="128"/>
                  </a:lnTo>
                  <a:lnTo>
                    <a:pt x="299" y="104"/>
                  </a:lnTo>
                  <a:lnTo>
                    <a:pt x="325" y="83"/>
                  </a:lnTo>
                  <a:lnTo>
                    <a:pt x="353" y="63"/>
                  </a:lnTo>
                  <a:lnTo>
                    <a:pt x="380" y="46"/>
                  </a:lnTo>
                  <a:lnTo>
                    <a:pt x="409" y="32"/>
                  </a:lnTo>
                  <a:lnTo>
                    <a:pt x="438" y="19"/>
                  </a:lnTo>
                  <a:lnTo>
                    <a:pt x="467" y="10"/>
                  </a:lnTo>
                  <a:lnTo>
                    <a:pt x="498" y="5"/>
                  </a:lnTo>
                  <a:lnTo>
                    <a:pt x="529" y="1"/>
                  </a:lnTo>
                  <a:lnTo>
                    <a:pt x="561" y="0"/>
                  </a:lnTo>
                  <a:lnTo>
                    <a:pt x="598" y="1"/>
                  </a:lnTo>
                  <a:lnTo>
                    <a:pt x="632" y="5"/>
                  </a:lnTo>
                  <a:lnTo>
                    <a:pt x="665" y="12"/>
                  </a:lnTo>
                  <a:lnTo>
                    <a:pt x="695" y="23"/>
                  </a:lnTo>
                  <a:lnTo>
                    <a:pt x="723" y="36"/>
                  </a:lnTo>
                  <a:lnTo>
                    <a:pt x="747" y="50"/>
                  </a:lnTo>
                  <a:lnTo>
                    <a:pt x="771" y="68"/>
                  </a:lnTo>
                  <a:lnTo>
                    <a:pt x="792" y="90"/>
                  </a:lnTo>
                  <a:lnTo>
                    <a:pt x="802" y="101"/>
                  </a:lnTo>
                  <a:lnTo>
                    <a:pt x="810" y="113"/>
                  </a:lnTo>
                  <a:lnTo>
                    <a:pt x="819" y="126"/>
                  </a:lnTo>
                  <a:lnTo>
                    <a:pt x="827" y="140"/>
                  </a:lnTo>
                  <a:lnTo>
                    <a:pt x="834" y="155"/>
                  </a:lnTo>
                  <a:lnTo>
                    <a:pt x="840" y="169"/>
                  </a:lnTo>
                  <a:lnTo>
                    <a:pt x="846" y="186"/>
                  </a:lnTo>
                  <a:lnTo>
                    <a:pt x="852" y="202"/>
                  </a:lnTo>
                  <a:lnTo>
                    <a:pt x="856" y="220"/>
                  </a:lnTo>
                  <a:lnTo>
                    <a:pt x="860" y="238"/>
                  </a:lnTo>
                  <a:lnTo>
                    <a:pt x="864" y="256"/>
                  </a:lnTo>
                  <a:lnTo>
                    <a:pt x="866" y="276"/>
                  </a:lnTo>
                  <a:lnTo>
                    <a:pt x="869" y="296"/>
                  </a:lnTo>
                  <a:lnTo>
                    <a:pt x="871" y="316"/>
                  </a:lnTo>
                  <a:lnTo>
                    <a:pt x="871" y="337"/>
                  </a:lnTo>
                  <a:lnTo>
                    <a:pt x="871" y="359"/>
                  </a:lnTo>
                  <a:lnTo>
                    <a:pt x="871" y="381"/>
                  </a:lnTo>
                  <a:lnTo>
                    <a:pt x="871" y="401"/>
                  </a:lnTo>
                  <a:lnTo>
                    <a:pt x="869" y="422"/>
                  </a:lnTo>
                  <a:lnTo>
                    <a:pt x="867" y="442"/>
                  </a:lnTo>
                  <a:lnTo>
                    <a:pt x="864" y="462"/>
                  </a:lnTo>
                  <a:lnTo>
                    <a:pt x="862" y="480"/>
                  </a:lnTo>
                  <a:lnTo>
                    <a:pt x="858" y="500"/>
                  </a:lnTo>
                  <a:lnTo>
                    <a:pt x="854" y="518"/>
                  </a:lnTo>
                  <a:lnTo>
                    <a:pt x="850" y="538"/>
                  </a:lnTo>
                  <a:lnTo>
                    <a:pt x="845" y="556"/>
                  </a:lnTo>
                  <a:lnTo>
                    <a:pt x="839" y="572"/>
                  </a:lnTo>
                  <a:lnTo>
                    <a:pt x="833" y="590"/>
                  </a:lnTo>
                  <a:lnTo>
                    <a:pt x="819" y="623"/>
                  </a:lnTo>
                  <a:lnTo>
                    <a:pt x="803" y="655"/>
                  </a:lnTo>
                  <a:lnTo>
                    <a:pt x="784" y="684"/>
                  </a:lnTo>
                  <a:lnTo>
                    <a:pt x="766" y="713"/>
                  </a:lnTo>
                  <a:lnTo>
                    <a:pt x="744" y="738"/>
                  </a:lnTo>
                  <a:lnTo>
                    <a:pt x="722" y="762"/>
                  </a:lnTo>
                  <a:lnTo>
                    <a:pt x="698" y="784"/>
                  </a:lnTo>
                  <a:lnTo>
                    <a:pt x="672" y="803"/>
                  </a:lnTo>
                  <a:lnTo>
                    <a:pt x="644" y="821"/>
                  </a:lnTo>
                  <a:lnTo>
                    <a:pt x="616" y="838"/>
                  </a:lnTo>
                  <a:lnTo>
                    <a:pt x="530" y="883"/>
                  </a:lnTo>
                  <a:lnTo>
                    <a:pt x="491" y="899"/>
                  </a:lnTo>
                  <a:lnTo>
                    <a:pt x="457" y="912"/>
                  </a:lnTo>
                  <a:lnTo>
                    <a:pt x="296" y="953"/>
                  </a:lnTo>
                  <a:lnTo>
                    <a:pt x="297" y="989"/>
                  </a:lnTo>
                  <a:lnTo>
                    <a:pt x="299" y="1027"/>
                  </a:lnTo>
                  <a:lnTo>
                    <a:pt x="302" y="1067"/>
                  </a:lnTo>
                  <a:lnTo>
                    <a:pt x="306" y="1109"/>
                  </a:lnTo>
                  <a:lnTo>
                    <a:pt x="308" y="1130"/>
                  </a:lnTo>
                  <a:lnTo>
                    <a:pt x="310" y="1150"/>
                  </a:lnTo>
                  <a:lnTo>
                    <a:pt x="313" y="1170"/>
                  </a:lnTo>
                  <a:lnTo>
                    <a:pt x="316" y="1188"/>
                  </a:lnTo>
                  <a:lnTo>
                    <a:pt x="320" y="1206"/>
                  </a:lnTo>
                  <a:lnTo>
                    <a:pt x="323" y="1224"/>
                  </a:lnTo>
                  <a:lnTo>
                    <a:pt x="327" y="1241"/>
                  </a:lnTo>
                  <a:lnTo>
                    <a:pt x="331" y="1257"/>
                  </a:lnTo>
                  <a:lnTo>
                    <a:pt x="336" y="1275"/>
                  </a:lnTo>
                  <a:lnTo>
                    <a:pt x="342" y="1291"/>
                  </a:lnTo>
                  <a:lnTo>
                    <a:pt x="349" y="1306"/>
                  </a:lnTo>
                  <a:lnTo>
                    <a:pt x="356" y="1320"/>
                  </a:lnTo>
                  <a:lnTo>
                    <a:pt x="364" y="1335"/>
                  </a:lnTo>
                  <a:lnTo>
                    <a:pt x="372" y="1347"/>
                  </a:lnTo>
                  <a:lnTo>
                    <a:pt x="380" y="1358"/>
                  </a:lnTo>
                  <a:lnTo>
                    <a:pt x="389" y="1369"/>
                  </a:lnTo>
                  <a:lnTo>
                    <a:pt x="398" y="1378"/>
                  </a:lnTo>
                  <a:lnTo>
                    <a:pt x="409" y="1387"/>
                  </a:lnTo>
                  <a:lnTo>
                    <a:pt x="420" y="1394"/>
                  </a:lnTo>
                  <a:lnTo>
                    <a:pt x="432" y="1400"/>
                  </a:lnTo>
                  <a:lnTo>
                    <a:pt x="444" y="1405"/>
                  </a:lnTo>
                  <a:lnTo>
                    <a:pt x="457" y="1409"/>
                  </a:lnTo>
                  <a:lnTo>
                    <a:pt x="470" y="1410"/>
                  </a:lnTo>
                  <a:lnTo>
                    <a:pt x="484" y="1410"/>
                  </a:lnTo>
                  <a:lnTo>
                    <a:pt x="509" y="1409"/>
                  </a:lnTo>
                  <a:lnTo>
                    <a:pt x="532" y="1407"/>
                  </a:lnTo>
                  <a:lnTo>
                    <a:pt x="555" y="1400"/>
                  </a:lnTo>
                  <a:lnTo>
                    <a:pt x="577" y="1392"/>
                  </a:lnTo>
                  <a:lnTo>
                    <a:pt x="598" y="1383"/>
                  </a:lnTo>
                  <a:lnTo>
                    <a:pt x="618" y="1371"/>
                  </a:lnTo>
                  <a:lnTo>
                    <a:pt x="637" y="1354"/>
                  </a:lnTo>
                  <a:lnTo>
                    <a:pt x="655" y="1338"/>
                  </a:lnTo>
                  <a:lnTo>
                    <a:pt x="672" y="1320"/>
                  </a:lnTo>
                  <a:lnTo>
                    <a:pt x="689" y="1298"/>
                  </a:lnTo>
                  <a:lnTo>
                    <a:pt x="706" y="1273"/>
                  </a:lnTo>
                  <a:lnTo>
                    <a:pt x="723" y="1246"/>
                  </a:lnTo>
                  <a:lnTo>
                    <a:pt x="740" y="1217"/>
                  </a:lnTo>
                  <a:lnTo>
                    <a:pt x="756" y="1185"/>
                  </a:lnTo>
                  <a:lnTo>
                    <a:pt x="772" y="1150"/>
                  </a:lnTo>
                  <a:lnTo>
                    <a:pt x="788" y="1112"/>
                  </a:lnTo>
                  <a:lnTo>
                    <a:pt x="850" y="1208"/>
                  </a:lnTo>
                  <a:lnTo>
                    <a:pt x="830" y="1257"/>
                  </a:lnTo>
                  <a:lnTo>
                    <a:pt x="809" y="1304"/>
                  </a:lnTo>
                  <a:lnTo>
                    <a:pt x="787" y="1349"/>
                  </a:lnTo>
                  <a:lnTo>
                    <a:pt x="763" y="1391"/>
                  </a:lnTo>
                  <a:lnTo>
                    <a:pt x="738" y="1428"/>
                  </a:lnTo>
                  <a:lnTo>
                    <a:pt x="711" y="1465"/>
                  </a:lnTo>
                  <a:lnTo>
                    <a:pt x="684" y="1499"/>
                  </a:lnTo>
                  <a:lnTo>
                    <a:pt x="655" y="1530"/>
                  </a:lnTo>
                  <a:lnTo>
                    <a:pt x="624" y="1559"/>
                  </a:lnTo>
                  <a:lnTo>
                    <a:pt x="593" y="1582"/>
                  </a:lnTo>
                  <a:lnTo>
                    <a:pt x="563" y="1604"/>
                  </a:lnTo>
                  <a:lnTo>
                    <a:pt x="532" y="1620"/>
                  </a:lnTo>
                  <a:lnTo>
                    <a:pt x="501" y="1634"/>
                  </a:lnTo>
                  <a:lnTo>
                    <a:pt x="469" y="1643"/>
                  </a:lnTo>
                  <a:lnTo>
                    <a:pt x="436" y="1649"/>
                  </a:lnTo>
                  <a:close/>
                  <a:moveTo>
                    <a:pt x="596" y="402"/>
                  </a:moveTo>
                  <a:lnTo>
                    <a:pt x="596" y="370"/>
                  </a:lnTo>
                  <a:lnTo>
                    <a:pt x="594" y="339"/>
                  </a:lnTo>
                  <a:lnTo>
                    <a:pt x="593" y="312"/>
                  </a:lnTo>
                  <a:lnTo>
                    <a:pt x="589" y="285"/>
                  </a:lnTo>
                  <a:lnTo>
                    <a:pt x="586" y="260"/>
                  </a:lnTo>
                  <a:lnTo>
                    <a:pt x="581" y="238"/>
                  </a:lnTo>
                  <a:lnTo>
                    <a:pt x="579" y="227"/>
                  </a:lnTo>
                  <a:lnTo>
                    <a:pt x="575" y="216"/>
                  </a:lnTo>
                  <a:lnTo>
                    <a:pt x="573" y="207"/>
                  </a:lnTo>
                  <a:lnTo>
                    <a:pt x="569" y="198"/>
                  </a:lnTo>
                  <a:lnTo>
                    <a:pt x="566" y="189"/>
                  </a:lnTo>
                  <a:lnTo>
                    <a:pt x="563" y="182"/>
                  </a:lnTo>
                  <a:lnTo>
                    <a:pt x="559" y="173"/>
                  </a:lnTo>
                  <a:lnTo>
                    <a:pt x="555" y="166"/>
                  </a:lnTo>
                  <a:lnTo>
                    <a:pt x="551" y="160"/>
                  </a:lnTo>
                  <a:lnTo>
                    <a:pt x="547" y="153"/>
                  </a:lnTo>
                  <a:lnTo>
                    <a:pt x="543" y="149"/>
                  </a:lnTo>
                  <a:lnTo>
                    <a:pt x="538" y="144"/>
                  </a:lnTo>
                  <a:lnTo>
                    <a:pt x="533" y="140"/>
                  </a:lnTo>
                  <a:lnTo>
                    <a:pt x="529" y="137"/>
                  </a:lnTo>
                  <a:lnTo>
                    <a:pt x="524" y="133"/>
                  </a:lnTo>
                  <a:lnTo>
                    <a:pt x="519" y="130"/>
                  </a:lnTo>
                  <a:lnTo>
                    <a:pt x="513" y="128"/>
                  </a:lnTo>
                  <a:lnTo>
                    <a:pt x="507" y="128"/>
                  </a:lnTo>
                  <a:lnTo>
                    <a:pt x="496" y="126"/>
                  </a:lnTo>
                  <a:lnTo>
                    <a:pt x="489" y="126"/>
                  </a:lnTo>
                  <a:lnTo>
                    <a:pt x="480" y="130"/>
                  </a:lnTo>
                  <a:lnTo>
                    <a:pt x="472" y="133"/>
                  </a:lnTo>
                  <a:lnTo>
                    <a:pt x="464" y="139"/>
                  </a:lnTo>
                  <a:lnTo>
                    <a:pt x="457" y="146"/>
                  </a:lnTo>
                  <a:lnTo>
                    <a:pt x="449" y="153"/>
                  </a:lnTo>
                  <a:lnTo>
                    <a:pt x="441" y="164"/>
                  </a:lnTo>
                  <a:lnTo>
                    <a:pt x="433" y="175"/>
                  </a:lnTo>
                  <a:lnTo>
                    <a:pt x="426" y="187"/>
                  </a:lnTo>
                  <a:lnTo>
                    <a:pt x="418" y="202"/>
                  </a:lnTo>
                  <a:lnTo>
                    <a:pt x="403" y="236"/>
                  </a:lnTo>
                  <a:lnTo>
                    <a:pt x="387" y="276"/>
                  </a:lnTo>
                  <a:lnTo>
                    <a:pt x="372" y="323"/>
                  </a:lnTo>
                  <a:lnTo>
                    <a:pt x="359" y="373"/>
                  </a:lnTo>
                  <a:lnTo>
                    <a:pt x="346" y="428"/>
                  </a:lnTo>
                  <a:lnTo>
                    <a:pt x="335" y="485"/>
                  </a:lnTo>
                  <a:lnTo>
                    <a:pt x="325" y="547"/>
                  </a:lnTo>
                  <a:lnTo>
                    <a:pt x="316" y="610"/>
                  </a:lnTo>
                  <a:lnTo>
                    <a:pt x="309" y="679"/>
                  </a:lnTo>
                  <a:lnTo>
                    <a:pt x="303" y="749"/>
                  </a:lnTo>
                  <a:lnTo>
                    <a:pt x="298" y="823"/>
                  </a:lnTo>
                  <a:lnTo>
                    <a:pt x="348" y="811"/>
                  </a:lnTo>
                  <a:lnTo>
                    <a:pt x="373" y="803"/>
                  </a:lnTo>
                  <a:lnTo>
                    <a:pt x="398" y="794"/>
                  </a:lnTo>
                  <a:lnTo>
                    <a:pt x="421" y="785"/>
                  </a:lnTo>
                  <a:lnTo>
                    <a:pt x="442" y="776"/>
                  </a:lnTo>
                  <a:lnTo>
                    <a:pt x="460" y="765"/>
                  </a:lnTo>
                  <a:lnTo>
                    <a:pt x="476" y="755"/>
                  </a:lnTo>
                  <a:lnTo>
                    <a:pt x="492" y="740"/>
                  </a:lnTo>
                  <a:lnTo>
                    <a:pt x="506" y="726"/>
                  </a:lnTo>
                  <a:lnTo>
                    <a:pt x="520" y="711"/>
                  </a:lnTo>
                  <a:lnTo>
                    <a:pt x="532" y="695"/>
                  </a:lnTo>
                  <a:lnTo>
                    <a:pt x="542" y="677"/>
                  </a:lnTo>
                  <a:lnTo>
                    <a:pt x="551" y="659"/>
                  </a:lnTo>
                  <a:lnTo>
                    <a:pt x="560" y="641"/>
                  </a:lnTo>
                  <a:lnTo>
                    <a:pt x="564" y="632"/>
                  </a:lnTo>
                  <a:lnTo>
                    <a:pt x="568" y="621"/>
                  </a:lnTo>
                  <a:lnTo>
                    <a:pt x="575" y="599"/>
                  </a:lnTo>
                  <a:lnTo>
                    <a:pt x="580" y="576"/>
                  </a:lnTo>
                  <a:lnTo>
                    <a:pt x="585" y="551"/>
                  </a:lnTo>
                  <a:lnTo>
                    <a:pt x="589" y="525"/>
                  </a:lnTo>
                  <a:lnTo>
                    <a:pt x="592" y="496"/>
                  </a:lnTo>
                  <a:lnTo>
                    <a:pt x="594" y="467"/>
                  </a:lnTo>
                  <a:lnTo>
                    <a:pt x="595" y="435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3040" y="466560"/>
              <a:ext cx="355680" cy="897120"/>
            </a:xfrm>
            <a:custGeom>
              <a:avLst/>
              <a:gdLst/>
              <a:ahLst/>
              <a:rect l="l" t="t" r="r" b="b"/>
              <a:pathLst>
                <a:path w="989" h="2490">
                  <a:moveTo>
                    <a:pt x="627" y="1960"/>
                  </a:moveTo>
                  <a:lnTo>
                    <a:pt x="643" y="1867"/>
                  </a:lnTo>
                  <a:lnTo>
                    <a:pt x="657" y="1773"/>
                  </a:lnTo>
                  <a:lnTo>
                    <a:pt x="669" y="1672"/>
                  </a:lnTo>
                  <a:lnTo>
                    <a:pt x="680" y="1569"/>
                  </a:lnTo>
                  <a:lnTo>
                    <a:pt x="687" y="1465"/>
                  </a:lnTo>
                  <a:lnTo>
                    <a:pt x="693" y="1362"/>
                  </a:lnTo>
                  <a:lnTo>
                    <a:pt x="697" y="1262"/>
                  </a:lnTo>
                  <a:lnTo>
                    <a:pt x="698" y="1163"/>
                  </a:lnTo>
                  <a:lnTo>
                    <a:pt x="692" y="1139"/>
                  </a:lnTo>
                  <a:lnTo>
                    <a:pt x="686" y="1118"/>
                  </a:lnTo>
                  <a:lnTo>
                    <a:pt x="680" y="1096"/>
                  </a:lnTo>
                  <a:lnTo>
                    <a:pt x="674" y="1078"/>
                  </a:lnTo>
                  <a:lnTo>
                    <a:pt x="666" y="1060"/>
                  </a:lnTo>
                  <a:lnTo>
                    <a:pt x="659" y="1045"/>
                  </a:lnTo>
                  <a:lnTo>
                    <a:pt x="651" y="1031"/>
                  </a:lnTo>
                  <a:lnTo>
                    <a:pt x="643" y="1018"/>
                  </a:lnTo>
                  <a:lnTo>
                    <a:pt x="634" y="1008"/>
                  </a:lnTo>
                  <a:lnTo>
                    <a:pt x="625" y="997"/>
                  </a:lnTo>
                  <a:lnTo>
                    <a:pt x="615" y="989"/>
                  </a:lnTo>
                  <a:lnTo>
                    <a:pt x="605" y="982"/>
                  </a:lnTo>
                  <a:lnTo>
                    <a:pt x="594" y="977"/>
                  </a:lnTo>
                  <a:lnTo>
                    <a:pt x="582" y="973"/>
                  </a:lnTo>
                  <a:lnTo>
                    <a:pt x="570" y="970"/>
                  </a:lnTo>
                  <a:lnTo>
                    <a:pt x="557" y="970"/>
                  </a:lnTo>
                  <a:lnTo>
                    <a:pt x="544" y="971"/>
                  </a:lnTo>
                  <a:lnTo>
                    <a:pt x="532" y="973"/>
                  </a:lnTo>
                  <a:lnTo>
                    <a:pt x="520" y="979"/>
                  </a:lnTo>
                  <a:lnTo>
                    <a:pt x="508" y="988"/>
                  </a:lnTo>
                  <a:lnTo>
                    <a:pt x="495" y="997"/>
                  </a:lnTo>
                  <a:lnTo>
                    <a:pt x="483" y="1008"/>
                  </a:lnTo>
                  <a:lnTo>
                    <a:pt x="472" y="1022"/>
                  </a:lnTo>
                  <a:lnTo>
                    <a:pt x="460" y="1038"/>
                  </a:lnTo>
                  <a:lnTo>
                    <a:pt x="449" y="1056"/>
                  </a:lnTo>
                  <a:lnTo>
                    <a:pt x="438" y="1078"/>
                  </a:lnTo>
                  <a:lnTo>
                    <a:pt x="427" y="1100"/>
                  </a:lnTo>
                  <a:lnTo>
                    <a:pt x="416" y="1125"/>
                  </a:lnTo>
                  <a:lnTo>
                    <a:pt x="396" y="1179"/>
                  </a:lnTo>
                  <a:lnTo>
                    <a:pt x="376" y="1244"/>
                  </a:lnTo>
                  <a:lnTo>
                    <a:pt x="358" y="1315"/>
                  </a:lnTo>
                  <a:lnTo>
                    <a:pt x="342" y="1387"/>
                  </a:lnTo>
                  <a:lnTo>
                    <a:pt x="329" y="1463"/>
                  </a:lnTo>
                  <a:lnTo>
                    <a:pt x="318" y="1542"/>
                  </a:lnTo>
                  <a:lnTo>
                    <a:pt x="310" y="1625"/>
                  </a:lnTo>
                  <a:lnTo>
                    <a:pt x="304" y="1710"/>
                  </a:lnTo>
                  <a:lnTo>
                    <a:pt x="299" y="1799"/>
                  </a:lnTo>
                  <a:lnTo>
                    <a:pt x="298" y="1891"/>
                  </a:lnTo>
                  <a:lnTo>
                    <a:pt x="299" y="1949"/>
                  </a:lnTo>
                  <a:lnTo>
                    <a:pt x="300" y="2001"/>
                  </a:lnTo>
                  <a:lnTo>
                    <a:pt x="303" y="2052"/>
                  </a:lnTo>
                  <a:lnTo>
                    <a:pt x="305" y="2099"/>
                  </a:lnTo>
                  <a:lnTo>
                    <a:pt x="310" y="2140"/>
                  </a:lnTo>
                  <a:lnTo>
                    <a:pt x="315" y="2180"/>
                  </a:lnTo>
                  <a:lnTo>
                    <a:pt x="321" y="2214"/>
                  </a:lnTo>
                  <a:lnTo>
                    <a:pt x="328" y="2247"/>
                  </a:lnTo>
                  <a:lnTo>
                    <a:pt x="331" y="2261"/>
                  </a:lnTo>
                  <a:lnTo>
                    <a:pt x="335" y="2274"/>
                  </a:lnTo>
                  <a:lnTo>
                    <a:pt x="340" y="2287"/>
                  </a:lnTo>
                  <a:lnTo>
                    <a:pt x="345" y="2299"/>
                  </a:lnTo>
                  <a:lnTo>
                    <a:pt x="350" y="2310"/>
                  </a:lnTo>
                  <a:lnTo>
                    <a:pt x="355" y="2319"/>
                  </a:lnTo>
                  <a:lnTo>
                    <a:pt x="361" y="2328"/>
                  </a:lnTo>
                  <a:lnTo>
                    <a:pt x="367" y="2337"/>
                  </a:lnTo>
                  <a:lnTo>
                    <a:pt x="373" y="2343"/>
                  </a:lnTo>
                  <a:lnTo>
                    <a:pt x="380" y="2350"/>
                  </a:lnTo>
                  <a:lnTo>
                    <a:pt x="387" y="2355"/>
                  </a:lnTo>
                  <a:lnTo>
                    <a:pt x="395" y="2359"/>
                  </a:lnTo>
                  <a:lnTo>
                    <a:pt x="403" y="2362"/>
                  </a:lnTo>
                  <a:lnTo>
                    <a:pt x="410" y="2364"/>
                  </a:lnTo>
                  <a:lnTo>
                    <a:pt x="419" y="2366"/>
                  </a:lnTo>
                  <a:lnTo>
                    <a:pt x="427" y="2366"/>
                  </a:lnTo>
                  <a:lnTo>
                    <a:pt x="435" y="2366"/>
                  </a:lnTo>
                  <a:lnTo>
                    <a:pt x="443" y="2364"/>
                  </a:lnTo>
                  <a:lnTo>
                    <a:pt x="451" y="2362"/>
                  </a:lnTo>
                  <a:lnTo>
                    <a:pt x="458" y="2359"/>
                  </a:lnTo>
                  <a:lnTo>
                    <a:pt x="466" y="2355"/>
                  </a:lnTo>
                  <a:lnTo>
                    <a:pt x="473" y="2350"/>
                  </a:lnTo>
                  <a:lnTo>
                    <a:pt x="481" y="2344"/>
                  </a:lnTo>
                  <a:lnTo>
                    <a:pt x="488" y="2337"/>
                  </a:lnTo>
                  <a:lnTo>
                    <a:pt x="495" y="2330"/>
                  </a:lnTo>
                  <a:lnTo>
                    <a:pt x="501" y="2323"/>
                  </a:lnTo>
                  <a:lnTo>
                    <a:pt x="515" y="2303"/>
                  </a:lnTo>
                  <a:lnTo>
                    <a:pt x="528" y="2279"/>
                  </a:lnTo>
                  <a:lnTo>
                    <a:pt x="541" y="2254"/>
                  </a:lnTo>
                  <a:lnTo>
                    <a:pt x="553" y="2225"/>
                  </a:lnTo>
                  <a:lnTo>
                    <a:pt x="565" y="2194"/>
                  </a:lnTo>
                  <a:lnTo>
                    <a:pt x="576" y="2160"/>
                  </a:lnTo>
                  <a:lnTo>
                    <a:pt x="588" y="2124"/>
                  </a:lnTo>
                  <a:lnTo>
                    <a:pt x="598" y="2086"/>
                  </a:lnTo>
                  <a:lnTo>
                    <a:pt x="608" y="2046"/>
                  </a:lnTo>
                  <a:lnTo>
                    <a:pt x="618" y="2005"/>
                  </a:lnTo>
                  <a:close/>
                  <a:moveTo>
                    <a:pt x="988" y="1083"/>
                  </a:moveTo>
                  <a:lnTo>
                    <a:pt x="987" y="1152"/>
                  </a:lnTo>
                  <a:lnTo>
                    <a:pt x="986" y="1221"/>
                  </a:lnTo>
                  <a:lnTo>
                    <a:pt x="982" y="1288"/>
                  </a:lnTo>
                  <a:lnTo>
                    <a:pt x="979" y="1354"/>
                  </a:lnTo>
                  <a:lnTo>
                    <a:pt x="975" y="1421"/>
                  </a:lnTo>
                  <a:lnTo>
                    <a:pt x="969" y="1486"/>
                  </a:lnTo>
                  <a:lnTo>
                    <a:pt x="961" y="1551"/>
                  </a:lnTo>
                  <a:lnTo>
                    <a:pt x="953" y="1616"/>
                  </a:lnTo>
                  <a:lnTo>
                    <a:pt x="944" y="1680"/>
                  </a:lnTo>
                  <a:lnTo>
                    <a:pt x="933" y="1741"/>
                  </a:lnTo>
                  <a:lnTo>
                    <a:pt x="922" y="1799"/>
                  </a:lnTo>
                  <a:lnTo>
                    <a:pt x="910" y="1857"/>
                  </a:lnTo>
                  <a:lnTo>
                    <a:pt x="896" y="1911"/>
                  </a:lnTo>
                  <a:lnTo>
                    <a:pt x="881" y="1963"/>
                  </a:lnTo>
                  <a:lnTo>
                    <a:pt x="865" y="2014"/>
                  </a:lnTo>
                  <a:lnTo>
                    <a:pt x="848" y="2063"/>
                  </a:lnTo>
                  <a:lnTo>
                    <a:pt x="828" y="2111"/>
                  </a:lnTo>
                  <a:lnTo>
                    <a:pt x="808" y="2158"/>
                  </a:lnTo>
                  <a:lnTo>
                    <a:pt x="786" y="2203"/>
                  </a:lnTo>
                  <a:lnTo>
                    <a:pt x="764" y="2243"/>
                  </a:lnTo>
                  <a:lnTo>
                    <a:pt x="740" y="2281"/>
                  </a:lnTo>
                  <a:lnTo>
                    <a:pt x="715" y="2317"/>
                  </a:lnTo>
                  <a:lnTo>
                    <a:pt x="689" y="2350"/>
                  </a:lnTo>
                  <a:lnTo>
                    <a:pt x="662" y="2379"/>
                  </a:lnTo>
                  <a:lnTo>
                    <a:pt x="634" y="2404"/>
                  </a:lnTo>
                  <a:lnTo>
                    <a:pt x="605" y="2427"/>
                  </a:lnTo>
                  <a:lnTo>
                    <a:pt x="574" y="2445"/>
                  </a:lnTo>
                  <a:lnTo>
                    <a:pt x="542" y="2462"/>
                  </a:lnTo>
                  <a:lnTo>
                    <a:pt x="508" y="2474"/>
                  </a:lnTo>
                  <a:lnTo>
                    <a:pt x="474" y="2482"/>
                  </a:lnTo>
                  <a:lnTo>
                    <a:pt x="438" y="2487"/>
                  </a:lnTo>
                  <a:lnTo>
                    <a:pt x="401" y="2489"/>
                  </a:lnTo>
                  <a:lnTo>
                    <a:pt x="356" y="2485"/>
                  </a:lnTo>
                  <a:lnTo>
                    <a:pt x="313" y="2478"/>
                  </a:lnTo>
                  <a:lnTo>
                    <a:pt x="273" y="2464"/>
                  </a:lnTo>
                  <a:lnTo>
                    <a:pt x="236" y="2444"/>
                  </a:lnTo>
                  <a:lnTo>
                    <a:pt x="200" y="2418"/>
                  </a:lnTo>
                  <a:lnTo>
                    <a:pt x="167" y="2388"/>
                  </a:lnTo>
                  <a:lnTo>
                    <a:pt x="137" y="2352"/>
                  </a:lnTo>
                  <a:lnTo>
                    <a:pt x="122" y="2330"/>
                  </a:lnTo>
                  <a:lnTo>
                    <a:pt x="108" y="2308"/>
                  </a:lnTo>
                  <a:lnTo>
                    <a:pt x="95" y="2285"/>
                  </a:lnTo>
                  <a:lnTo>
                    <a:pt x="83" y="2261"/>
                  </a:lnTo>
                  <a:lnTo>
                    <a:pt x="71" y="2236"/>
                  </a:lnTo>
                  <a:lnTo>
                    <a:pt x="61" y="2209"/>
                  </a:lnTo>
                  <a:lnTo>
                    <a:pt x="52" y="2182"/>
                  </a:lnTo>
                  <a:lnTo>
                    <a:pt x="42" y="2153"/>
                  </a:lnTo>
                  <a:lnTo>
                    <a:pt x="34" y="2122"/>
                  </a:lnTo>
                  <a:lnTo>
                    <a:pt x="27" y="2091"/>
                  </a:lnTo>
                  <a:lnTo>
                    <a:pt x="21" y="2059"/>
                  </a:lnTo>
                  <a:lnTo>
                    <a:pt x="15" y="2026"/>
                  </a:lnTo>
                  <a:lnTo>
                    <a:pt x="10" y="1992"/>
                  </a:lnTo>
                  <a:lnTo>
                    <a:pt x="7" y="1958"/>
                  </a:lnTo>
                  <a:lnTo>
                    <a:pt x="3" y="1922"/>
                  </a:lnTo>
                  <a:lnTo>
                    <a:pt x="2" y="1884"/>
                  </a:lnTo>
                  <a:lnTo>
                    <a:pt x="0" y="1806"/>
                  </a:lnTo>
                  <a:lnTo>
                    <a:pt x="2" y="1707"/>
                  </a:lnTo>
                  <a:lnTo>
                    <a:pt x="5" y="1660"/>
                  </a:lnTo>
                  <a:lnTo>
                    <a:pt x="9" y="1613"/>
                  </a:lnTo>
                  <a:lnTo>
                    <a:pt x="15" y="1566"/>
                  </a:lnTo>
                  <a:lnTo>
                    <a:pt x="21" y="1521"/>
                  </a:lnTo>
                  <a:lnTo>
                    <a:pt x="28" y="1477"/>
                  </a:lnTo>
                  <a:lnTo>
                    <a:pt x="37" y="1434"/>
                  </a:lnTo>
                  <a:lnTo>
                    <a:pt x="46" y="1391"/>
                  </a:lnTo>
                  <a:lnTo>
                    <a:pt x="58" y="1351"/>
                  </a:lnTo>
                  <a:lnTo>
                    <a:pt x="70" y="1309"/>
                  </a:lnTo>
                  <a:lnTo>
                    <a:pt x="83" y="1271"/>
                  </a:lnTo>
                  <a:lnTo>
                    <a:pt x="97" y="1232"/>
                  </a:lnTo>
                  <a:lnTo>
                    <a:pt x="113" y="1195"/>
                  </a:lnTo>
                  <a:lnTo>
                    <a:pt x="148" y="1123"/>
                  </a:lnTo>
                  <a:lnTo>
                    <a:pt x="186" y="1058"/>
                  </a:lnTo>
                  <a:lnTo>
                    <a:pt x="206" y="1029"/>
                  </a:lnTo>
                  <a:lnTo>
                    <a:pt x="227" y="1000"/>
                  </a:lnTo>
                  <a:lnTo>
                    <a:pt x="249" y="977"/>
                  </a:lnTo>
                  <a:lnTo>
                    <a:pt x="270" y="953"/>
                  </a:lnTo>
                  <a:lnTo>
                    <a:pt x="317" y="914"/>
                  </a:lnTo>
                  <a:lnTo>
                    <a:pt x="366" y="885"/>
                  </a:lnTo>
                  <a:lnTo>
                    <a:pt x="417" y="863"/>
                  </a:lnTo>
                  <a:lnTo>
                    <a:pt x="471" y="849"/>
                  </a:lnTo>
                  <a:lnTo>
                    <a:pt x="528" y="845"/>
                  </a:lnTo>
                  <a:lnTo>
                    <a:pt x="557" y="847"/>
                  </a:lnTo>
                  <a:lnTo>
                    <a:pt x="582" y="849"/>
                  </a:lnTo>
                  <a:lnTo>
                    <a:pt x="606" y="854"/>
                  </a:lnTo>
                  <a:lnTo>
                    <a:pt x="616" y="858"/>
                  </a:lnTo>
                  <a:lnTo>
                    <a:pt x="625" y="861"/>
                  </a:lnTo>
                  <a:lnTo>
                    <a:pt x="634" y="865"/>
                  </a:lnTo>
                  <a:lnTo>
                    <a:pt x="643" y="870"/>
                  </a:lnTo>
                  <a:lnTo>
                    <a:pt x="661" y="883"/>
                  </a:lnTo>
                  <a:lnTo>
                    <a:pt x="679" y="896"/>
                  </a:lnTo>
                  <a:lnTo>
                    <a:pt x="696" y="912"/>
                  </a:lnTo>
                  <a:lnTo>
                    <a:pt x="692" y="827"/>
                  </a:lnTo>
                  <a:lnTo>
                    <a:pt x="685" y="747"/>
                  </a:lnTo>
                  <a:lnTo>
                    <a:pt x="677" y="673"/>
                  </a:lnTo>
                  <a:lnTo>
                    <a:pt x="667" y="605"/>
                  </a:lnTo>
                  <a:lnTo>
                    <a:pt x="654" y="540"/>
                  </a:lnTo>
                  <a:lnTo>
                    <a:pt x="640" y="480"/>
                  </a:lnTo>
                  <a:lnTo>
                    <a:pt x="625" y="426"/>
                  </a:lnTo>
                  <a:lnTo>
                    <a:pt x="606" y="377"/>
                  </a:lnTo>
                  <a:lnTo>
                    <a:pt x="588" y="334"/>
                  </a:lnTo>
                  <a:lnTo>
                    <a:pt x="567" y="296"/>
                  </a:lnTo>
                  <a:lnTo>
                    <a:pt x="557" y="278"/>
                  </a:lnTo>
                  <a:lnTo>
                    <a:pt x="545" y="263"/>
                  </a:lnTo>
                  <a:lnTo>
                    <a:pt x="535" y="249"/>
                  </a:lnTo>
                  <a:lnTo>
                    <a:pt x="524" y="236"/>
                  </a:lnTo>
                  <a:lnTo>
                    <a:pt x="512" y="225"/>
                  </a:lnTo>
                  <a:lnTo>
                    <a:pt x="501" y="216"/>
                  </a:lnTo>
                  <a:lnTo>
                    <a:pt x="489" y="207"/>
                  </a:lnTo>
                  <a:lnTo>
                    <a:pt x="476" y="202"/>
                  </a:lnTo>
                  <a:lnTo>
                    <a:pt x="464" y="196"/>
                  </a:lnTo>
                  <a:lnTo>
                    <a:pt x="451" y="193"/>
                  </a:lnTo>
                  <a:lnTo>
                    <a:pt x="438" y="189"/>
                  </a:lnTo>
                  <a:lnTo>
                    <a:pt x="425" y="189"/>
                  </a:lnTo>
                  <a:lnTo>
                    <a:pt x="409" y="189"/>
                  </a:lnTo>
                  <a:lnTo>
                    <a:pt x="395" y="193"/>
                  </a:lnTo>
                  <a:lnTo>
                    <a:pt x="379" y="195"/>
                  </a:lnTo>
                  <a:lnTo>
                    <a:pt x="366" y="200"/>
                  </a:lnTo>
                  <a:lnTo>
                    <a:pt x="351" y="205"/>
                  </a:lnTo>
                  <a:lnTo>
                    <a:pt x="337" y="214"/>
                  </a:lnTo>
                  <a:lnTo>
                    <a:pt x="324" y="222"/>
                  </a:lnTo>
                  <a:lnTo>
                    <a:pt x="311" y="233"/>
                  </a:lnTo>
                  <a:lnTo>
                    <a:pt x="286" y="254"/>
                  </a:lnTo>
                  <a:lnTo>
                    <a:pt x="263" y="278"/>
                  </a:lnTo>
                  <a:lnTo>
                    <a:pt x="243" y="301"/>
                  </a:lnTo>
                  <a:lnTo>
                    <a:pt x="223" y="325"/>
                  </a:lnTo>
                  <a:lnTo>
                    <a:pt x="184" y="229"/>
                  </a:lnTo>
                  <a:lnTo>
                    <a:pt x="202" y="200"/>
                  </a:lnTo>
                  <a:lnTo>
                    <a:pt x="220" y="175"/>
                  </a:lnTo>
                  <a:lnTo>
                    <a:pt x="239" y="149"/>
                  </a:lnTo>
                  <a:lnTo>
                    <a:pt x="257" y="128"/>
                  </a:lnTo>
                  <a:lnTo>
                    <a:pt x="277" y="106"/>
                  </a:lnTo>
                  <a:lnTo>
                    <a:pt x="296" y="88"/>
                  </a:lnTo>
                  <a:lnTo>
                    <a:pt x="316" y="70"/>
                  </a:lnTo>
                  <a:lnTo>
                    <a:pt x="335" y="56"/>
                  </a:lnTo>
                  <a:lnTo>
                    <a:pt x="355" y="43"/>
                  </a:lnTo>
                  <a:lnTo>
                    <a:pt x="376" y="30"/>
                  </a:lnTo>
                  <a:lnTo>
                    <a:pt x="397" y="21"/>
                  </a:lnTo>
                  <a:lnTo>
                    <a:pt x="419" y="14"/>
                  </a:lnTo>
                  <a:lnTo>
                    <a:pt x="441" y="7"/>
                  </a:lnTo>
                  <a:lnTo>
                    <a:pt x="464" y="3"/>
                  </a:lnTo>
                  <a:lnTo>
                    <a:pt x="488" y="0"/>
                  </a:lnTo>
                  <a:lnTo>
                    <a:pt x="512" y="0"/>
                  </a:lnTo>
                  <a:lnTo>
                    <a:pt x="566" y="3"/>
                  </a:lnTo>
                  <a:lnTo>
                    <a:pt x="617" y="18"/>
                  </a:lnTo>
                  <a:lnTo>
                    <a:pt x="665" y="39"/>
                  </a:lnTo>
                  <a:lnTo>
                    <a:pt x="688" y="54"/>
                  </a:lnTo>
                  <a:lnTo>
                    <a:pt x="710" y="70"/>
                  </a:lnTo>
                  <a:lnTo>
                    <a:pt x="731" y="88"/>
                  </a:lnTo>
                  <a:lnTo>
                    <a:pt x="752" y="110"/>
                  </a:lnTo>
                  <a:lnTo>
                    <a:pt x="772" y="133"/>
                  </a:lnTo>
                  <a:lnTo>
                    <a:pt x="791" y="158"/>
                  </a:lnTo>
                  <a:lnTo>
                    <a:pt x="810" y="186"/>
                  </a:lnTo>
                  <a:lnTo>
                    <a:pt x="828" y="214"/>
                  </a:lnTo>
                  <a:lnTo>
                    <a:pt x="845" y="247"/>
                  </a:lnTo>
                  <a:lnTo>
                    <a:pt x="861" y="281"/>
                  </a:lnTo>
                  <a:lnTo>
                    <a:pt x="877" y="317"/>
                  </a:lnTo>
                  <a:lnTo>
                    <a:pt x="890" y="355"/>
                  </a:lnTo>
                  <a:lnTo>
                    <a:pt x="904" y="395"/>
                  </a:lnTo>
                  <a:lnTo>
                    <a:pt x="916" y="437"/>
                  </a:lnTo>
                  <a:lnTo>
                    <a:pt x="928" y="480"/>
                  </a:lnTo>
                  <a:lnTo>
                    <a:pt x="939" y="527"/>
                  </a:lnTo>
                  <a:lnTo>
                    <a:pt x="947" y="574"/>
                  </a:lnTo>
                  <a:lnTo>
                    <a:pt x="956" y="623"/>
                  </a:lnTo>
                  <a:lnTo>
                    <a:pt x="969" y="728"/>
                  </a:lnTo>
                  <a:lnTo>
                    <a:pt x="980" y="838"/>
                  </a:lnTo>
                  <a:lnTo>
                    <a:pt x="986" y="957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7560" y="766800"/>
              <a:ext cx="357120" cy="595440"/>
            </a:xfrm>
            <a:custGeom>
              <a:avLst/>
              <a:gdLst/>
              <a:ahLst/>
              <a:rect l="l" t="t" r="r" b="b"/>
              <a:pathLst>
                <a:path w="992" h="1654">
                  <a:moveTo>
                    <a:pt x="991" y="659"/>
                  </a:moveTo>
                  <a:lnTo>
                    <a:pt x="990" y="708"/>
                  </a:lnTo>
                  <a:lnTo>
                    <a:pt x="988" y="757"/>
                  </a:lnTo>
                  <a:lnTo>
                    <a:pt x="985" y="806"/>
                  </a:lnTo>
                  <a:lnTo>
                    <a:pt x="980" y="853"/>
                  </a:lnTo>
                  <a:lnTo>
                    <a:pt x="974" y="900"/>
                  </a:lnTo>
                  <a:lnTo>
                    <a:pt x="968" y="947"/>
                  </a:lnTo>
                  <a:lnTo>
                    <a:pt x="960" y="993"/>
                  </a:lnTo>
                  <a:lnTo>
                    <a:pt x="950" y="1039"/>
                  </a:lnTo>
                  <a:lnTo>
                    <a:pt x="939" y="1084"/>
                  </a:lnTo>
                  <a:lnTo>
                    <a:pt x="928" y="1127"/>
                  </a:lnTo>
                  <a:lnTo>
                    <a:pt x="915" y="1169"/>
                  </a:lnTo>
                  <a:lnTo>
                    <a:pt x="900" y="1208"/>
                  </a:lnTo>
                  <a:lnTo>
                    <a:pt x="886" y="1246"/>
                  </a:lnTo>
                  <a:lnTo>
                    <a:pt x="870" y="1284"/>
                  </a:lnTo>
                  <a:lnTo>
                    <a:pt x="853" y="1319"/>
                  </a:lnTo>
                  <a:lnTo>
                    <a:pt x="835" y="1353"/>
                  </a:lnTo>
                  <a:lnTo>
                    <a:pt x="814" y="1387"/>
                  </a:lnTo>
                  <a:lnTo>
                    <a:pt x="793" y="1422"/>
                  </a:lnTo>
                  <a:lnTo>
                    <a:pt x="771" y="1452"/>
                  </a:lnTo>
                  <a:lnTo>
                    <a:pt x="747" y="1481"/>
                  </a:lnTo>
                  <a:lnTo>
                    <a:pt x="723" y="1507"/>
                  </a:lnTo>
                  <a:lnTo>
                    <a:pt x="698" y="1532"/>
                  </a:lnTo>
                  <a:lnTo>
                    <a:pt x="672" y="1555"/>
                  </a:lnTo>
                  <a:lnTo>
                    <a:pt x="646" y="1575"/>
                  </a:lnTo>
                  <a:lnTo>
                    <a:pt x="618" y="1593"/>
                  </a:lnTo>
                  <a:lnTo>
                    <a:pt x="590" y="1609"/>
                  </a:lnTo>
                  <a:lnTo>
                    <a:pt x="561" y="1622"/>
                  </a:lnTo>
                  <a:lnTo>
                    <a:pt x="531" y="1633"/>
                  </a:lnTo>
                  <a:lnTo>
                    <a:pt x="500" y="1642"/>
                  </a:lnTo>
                  <a:lnTo>
                    <a:pt x="469" y="1647"/>
                  </a:lnTo>
                  <a:lnTo>
                    <a:pt x="437" y="1651"/>
                  </a:lnTo>
                  <a:lnTo>
                    <a:pt x="403" y="1653"/>
                  </a:lnTo>
                  <a:lnTo>
                    <a:pt x="358" y="1649"/>
                  </a:lnTo>
                  <a:lnTo>
                    <a:pt x="316" y="1642"/>
                  </a:lnTo>
                  <a:lnTo>
                    <a:pt x="277" y="1628"/>
                  </a:lnTo>
                  <a:lnTo>
                    <a:pt x="239" y="1608"/>
                  </a:lnTo>
                  <a:lnTo>
                    <a:pt x="204" y="1582"/>
                  </a:lnTo>
                  <a:lnTo>
                    <a:pt x="171" y="1552"/>
                  </a:lnTo>
                  <a:lnTo>
                    <a:pt x="140" y="1516"/>
                  </a:lnTo>
                  <a:lnTo>
                    <a:pt x="111" y="1474"/>
                  </a:lnTo>
                  <a:lnTo>
                    <a:pt x="97" y="1451"/>
                  </a:lnTo>
                  <a:lnTo>
                    <a:pt x="85" y="1427"/>
                  </a:lnTo>
                  <a:lnTo>
                    <a:pt x="73" y="1402"/>
                  </a:lnTo>
                  <a:lnTo>
                    <a:pt x="63" y="1376"/>
                  </a:lnTo>
                  <a:lnTo>
                    <a:pt x="52" y="1349"/>
                  </a:lnTo>
                  <a:lnTo>
                    <a:pt x="43" y="1322"/>
                  </a:lnTo>
                  <a:lnTo>
                    <a:pt x="35" y="1293"/>
                  </a:lnTo>
                  <a:lnTo>
                    <a:pt x="27" y="1263"/>
                  </a:lnTo>
                  <a:lnTo>
                    <a:pt x="21" y="1232"/>
                  </a:lnTo>
                  <a:lnTo>
                    <a:pt x="15" y="1199"/>
                  </a:lnTo>
                  <a:lnTo>
                    <a:pt x="11" y="1167"/>
                  </a:lnTo>
                  <a:lnTo>
                    <a:pt x="7" y="1133"/>
                  </a:lnTo>
                  <a:lnTo>
                    <a:pt x="4" y="1098"/>
                  </a:lnTo>
                  <a:lnTo>
                    <a:pt x="1" y="1062"/>
                  </a:lnTo>
                  <a:lnTo>
                    <a:pt x="0" y="986"/>
                  </a:lnTo>
                  <a:lnTo>
                    <a:pt x="1" y="934"/>
                  </a:lnTo>
                  <a:lnTo>
                    <a:pt x="2" y="883"/>
                  </a:lnTo>
                  <a:lnTo>
                    <a:pt x="6" y="835"/>
                  </a:lnTo>
                  <a:lnTo>
                    <a:pt x="10" y="784"/>
                  </a:lnTo>
                  <a:lnTo>
                    <a:pt x="16" y="737"/>
                  </a:lnTo>
                  <a:lnTo>
                    <a:pt x="23" y="690"/>
                  </a:lnTo>
                  <a:lnTo>
                    <a:pt x="32" y="643"/>
                  </a:lnTo>
                  <a:lnTo>
                    <a:pt x="42" y="598"/>
                  </a:lnTo>
                  <a:lnTo>
                    <a:pt x="53" y="553"/>
                  </a:lnTo>
                  <a:lnTo>
                    <a:pt x="65" y="509"/>
                  </a:lnTo>
                  <a:lnTo>
                    <a:pt x="78" y="468"/>
                  </a:lnTo>
                  <a:lnTo>
                    <a:pt x="92" y="428"/>
                  </a:lnTo>
                  <a:lnTo>
                    <a:pt x="107" y="390"/>
                  </a:lnTo>
                  <a:lnTo>
                    <a:pt x="124" y="352"/>
                  </a:lnTo>
                  <a:lnTo>
                    <a:pt x="141" y="318"/>
                  </a:lnTo>
                  <a:lnTo>
                    <a:pt x="159" y="284"/>
                  </a:lnTo>
                  <a:lnTo>
                    <a:pt x="178" y="251"/>
                  </a:lnTo>
                  <a:lnTo>
                    <a:pt x="198" y="222"/>
                  </a:lnTo>
                  <a:lnTo>
                    <a:pt x="220" y="193"/>
                  </a:lnTo>
                  <a:lnTo>
                    <a:pt x="242" y="166"/>
                  </a:lnTo>
                  <a:lnTo>
                    <a:pt x="266" y="141"/>
                  </a:lnTo>
                  <a:lnTo>
                    <a:pt x="290" y="117"/>
                  </a:lnTo>
                  <a:lnTo>
                    <a:pt x="315" y="96"/>
                  </a:lnTo>
                  <a:lnTo>
                    <a:pt x="342" y="76"/>
                  </a:lnTo>
                  <a:lnTo>
                    <a:pt x="370" y="58"/>
                  </a:lnTo>
                  <a:lnTo>
                    <a:pt x="398" y="43"/>
                  </a:lnTo>
                  <a:lnTo>
                    <a:pt x="426" y="29"/>
                  </a:lnTo>
                  <a:lnTo>
                    <a:pt x="456" y="20"/>
                  </a:lnTo>
                  <a:lnTo>
                    <a:pt x="486" y="11"/>
                  </a:lnTo>
                  <a:lnTo>
                    <a:pt x="516" y="5"/>
                  </a:lnTo>
                  <a:lnTo>
                    <a:pt x="547" y="2"/>
                  </a:lnTo>
                  <a:lnTo>
                    <a:pt x="578" y="0"/>
                  </a:lnTo>
                  <a:lnTo>
                    <a:pt x="624" y="4"/>
                  </a:lnTo>
                  <a:lnTo>
                    <a:pt x="668" y="11"/>
                  </a:lnTo>
                  <a:lnTo>
                    <a:pt x="709" y="25"/>
                  </a:lnTo>
                  <a:lnTo>
                    <a:pt x="749" y="43"/>
                  </a:lnTo>
                  <a:lnTo>
                    <a:pt x="785" y="69"/>
                  </a:lnTo>
                  <a:lnTo>
                    <a:pt x="820" y="97"/>
                  </a:lnTo>
                  <a:lnTo>
                    <a:pt x="851" y="134"/>
                  </a:lnTo>
                  <a:lnTo>
                    <a:pt x="866" y="152"/>
                  </a:lnTo>
                  <a:lnTo>
                    <a:pt x="880" y="173"/>
                  </a:lnTo>
                  <a:lnTo>
                    <a:pt x="894" y="195"/>
                  </a:lnTo>
                  <a:lnTo>
                    <a:pt x="906" y="220"/>
                  </a:lnTo>
                  <a:lnTo>
                    <a:pt x="918" y="244"/>
                  </a:lnTo>
                  <a:lnTo>
                    <a:pt x="928" y="269"/>
                  </a:lnTo>
                  <a:lnTo>
                    <a:pt x="938" y="296"/>
                  </a:lnTo>
                  <a:lnTo>
                    <a:pt x="948" y="323"/>
                  </a:lnTo>
                  <a:lnTo>
                    <a:pt x="956" y="352"/>
                  </a:lnTo>
                  <a:lnTo>
                    <a:pt x="963" y="383"/>
                  </a:lnTo>
                  <a:lnTo>
                    <a:pt x="969" y="414"/>
                  </a:lnTo>
                  <a:lnTo>
                    <a:pt x="975" y="444"/>
                  </a:lnTo>
                  <a:lnTo>
                    <a:pt x="980" y="479"/>
                  </a:lnTo>
                  <a:lnTo>
                    <a:pt x="984" y="513"/>
                  </a:lnTo>
                  <a:lnTo>
                    <a:pt x="987" y="547"/>
                  </a:lnTo>
                  <a:lnTo>
                    <a:pt x="989" y="583"/>
                  </a:lnTo>
                  <a:close/>
                  <a:moveTo>
                    <a:pt x="692" y="480"/>
                  </a:moveTo>
                  <a:lnTo>
                    <a:pt x="691" y="435"/>
                  </a:lnTo>
                  <a:lnTo>
                    <a:pt x="691" y="394"/>
                  </a:lnTo>
                  <a:lnTo>
                    <a:pt x="688" y="356"/>
                  </a:lnTo>
                  <a:lnTo>
                    <a:pt x="684" y="321"/>
                  </a:lnTo>
                  <a:lnTo>
                    <a:pt x="679" y="289"/>
                  </a:lnTo>
                  <a:lnTo>
                    <a:pt x="677" y="273"/>
                  </a:lnTo>
                  <a:lnTo>
                    <a:pt x="673" y="258"/>
                  </a:lnTo>
                  <a:lnTo>
                    <a:pt x="670" y="246"/>
                  </a:lnTo>
                  <a:lnTo>
                    <a:pt x="666" y="233"/>
                  </a:lnTo>
                  <a:lnTo>
                    <a:pt x="663" y="220"/>
                  </a:lnTo>
                  <a:lnTo>
                    <a:pt x="659" y="209"/>
                  </a:lnTo>
                  <a:lnTo>
                    <a:pt x="654" y="199"/>
                  </a:lnTo>
                  <a:lnTo>
                    <a:pt x="650" y="190"/>
                  </a:lnTo>
                  <a:lnTo>
                    <a:pt x="645" y="181"/>
                  </a:lnTo>
                  <a:lnTo>
                    <a:pt x="640" y="172"/>
                  </a:lnTo>
                  <a:lnTo>
                    <a:pt x="635" y="164"/>
                  </a:lnTo>
                  <a:lnTo>
                    <a:pt x="629" y="157"/>
                  </a:lnTo>
                  <a:lnTo>
                    <a:pt x="623" y="150"/>
                  </a:lnTo>
                  <a:lnTo>
                    <a:pt x="617" y="144"/>
                  </a:lnTo>
                  <a:lnTo>
                    <a:pt x="611" y="139"/>
                  </a:lnTo>
                  <a:lnTo>
                    <a:pt x="605" y="135"/>
                  </a:lnTo>
                  <a:lnTo>
                    <a:pt x="599" y="132"/>
                  </a:lnTo>
                  <a:lnTo>
                    <a:pt x="592" y="128"/>
                  </a:lnTo>
                  <a:lnTo>
                    <a:pt x="577" y="125"/>
                  </a:lnTo>
                  <a:lnTo>
                    <a:pt x="562" y="123"/>
                  </a:lnTo>
                  <a:lnTo>
                    <a:pt x="545" y="125"/>
                  </a:lnTo>
                  <a:lnTo>
                    <a:pt x="530" y="128"/>
                  </a:lnTo>
                  <a:lnTo>
                    <a:pt x="514" y="137"/>
                  </a:lnTo>
                  <a:lnTo>
                    <a:pt x="499" y="148"/>
                  </a:lnTo>
                  <a:lnTo>
                    <a:pt x="484" y="161"/>
                  </a:lnTo>
                  <a:lnTo>
                    <a:pt x="469" y="177"/>
                  </a:lnTo>
                  <a:lnTo>
                    <a:pt x="456" y="197"/>
                  </a:lnTo>
                  <a:lnTo>
                    <a:pt x="442" y="220"/>
                  </a:lnTo>
                  <a:lnTo>
                    <a:pt x="429" y="246"/>
                  </a:lnTo>
                  <a:lnTo>
                    <a:pt x="416" y="274"/>
                  </a:lnTo>
                  <a:lnTo>
                    <a:pt x="404" y="305"/>
                  </a:lnTo>
                  <a:lnTo>
                    <a:pt x="393" y="340"/>
                  </a:lnTo>
                  <a:lnTo>
                    <a:pt x="382" y="376"/>
                  </a:lnTo>
                  <a:lnTo>
                    <a:pt x="371" y="415"/>
                  </a:lnTo>
                  <a:lnTo>
                    <a:pt x="362" y="459"/>
                  </a:lnTo>
                  <a:lnTo>
                    <a:pt x="353" y="504"/>
                  </a:lnTo>
                  <a:lnTo>
                    <a:pt x="340" y="583"/>
                  </a:lnTo>
                  <a:lnTo>
                    <a:pt x="328" y="667"/>
                  </a:lnTo>
                  <a:lnTo>
                    <a:pt x="319" y="753"/>
                  </a:lnTo>
                  <a:lnTo>
                    <a:pt x="311" y="842"/>
                  </a:lnTo>
                  <a:lnTo>
                    <a:pt x="305" y="930"/>
                  </a:lnTo>
                  <a:lnTo>
                    <a:pt x="302" y="1013"/>
                  </a:lnTo>
                  <a:lnTo>
                    <a:pt x="299" y="1093"/>
                  </a:lnTo>
                  <a:lnTo>
                    <a:pt x="298" y="1167"/>
                  </a:lnTo>
                  <a:lnTo>
                    <a:pt x="299" y="1214"/>
                  </a:lnTo>
                  <a:lnTo>
                    <a:pt x="300" y="1257"/>
                  </a:lnTo>
                  <a:lnTo>
                    <a:pt x="303" y="1295"/>
                  </a:lnTo>
                  <a:lnTo>
                    <a:pt x="307" y="1333"/>
                  </a:lnTo>
                  <a:lnTo>
                    <a:pt x="311" y="1366"/>
                  </a:lnTo>
                  <a:lnTo>
                    <a:pt x="314" y="1380"/>
                  </a:lnTo>
                  <a:lnTo>
                    <a:pt x="317" y="1395"/>
                  </a:lnTo>
                  <a:lnTo>
                    <a:pt x="321" y="1407"/>
                  </a:lnTo>
                  <a:lnTo>
                    <a:pt x="324" y="1420"/>
                  </a:lnTo>
                  <a:lnTo>
                    <a:pt x="328" y="1432"/>
                  </a:lnTo>
                  <a:lnTo>
                    <a:pt x="332" y="1443"/>
                  </a:lnTo>
                  <a:lnTo>
                    <a:pt x="336" y="1454"/>
                  </a:lnTo>
                  <a:lnTo>
                    <a:pt x="341" y="1463"/>
                  </a:lnTo>
                  <a:lnTo>
                    <a:pt x="346" y="1472"/>
                  </a:lnTo>
                  <a:lnTo>
                    <a:pt x="351" y="1481"/>
                  </a:lnTo>
                  <a:lnTo>
                    <a:pt x="357" y="1488"/>
                  </a:lnTo>
                  <a:lnTo>
                    <a:pt x="362" y="1496"/>
                  </a:lnTo>
                  <a:lnTo>
                    <a:pt x="368" y="1503"/>
                  </a:lnTo>
                  <a:lnTo>
                    <a:pt x="374" y="1508"/>
                  </a:lnTo>
                  <a:lnTo>
                    <a:pt x="380" y="1514"/>
                  </a:lnTo>
                  <a:lnTo>
                    <a:pt x="387" y="1517"/>
                  </a:lnTo>
                  <a:lnTo>
                    <a:pt x="394" y="1521"/>
                  </a:lnTo>
                  <a:lnTo>
                    <a:pt x="401" y="1525"/>
                  </a:lnTo>
                  <a:lnTo>
                    <a:pt x="415" y="1528"/>
                  </a:lnTo>
                  <a:lnTo>
                    <a:pt x="431" y="1530"/>
                  </a:lnTo>
                  <a:lnTo>
                    <a:pt x="448" y="1528"/>
                  </a:lnTo>
                  <a:lnTo>
                    <a:pt x="464" y="1523"/>
                  </a:lnTo>
                  <a:lnTo>
                    <a:pt x="481" y="1516"/>
                  </a:lnTo>
                  <a:lnTo>
                    <a:pt x="488" y="1510"/>
                  </a:lnTo>
                  <a:lnTo>
                    <a:pt x="496" y="1505"/>
                  </a:lnTo>
                  <a:lnTo>
                    <a:pt x="503" y="1497"/>
                  </a:lnTo>
                  <a:lnTo>
                    <a:pt x="511" y="1488"/>
                  </a:lnTo>
                  <a:lnTo>
                    <a:pt x="518" y="1481"/>
                  </a:lnTo>
                  <a:lnTo>
                    <a:pt x="525" y="1472"/>
                  </a:lnTo>
                  <a:lnTo>
                    <a:pt x="538" y="1451"/>
                  </a:lnTo>
                  <a:lnTo>
                    <a:pt x="551" y="1425"/>
                  </a:lnTo>
                  <a:lnTo>
                    <a:pt x="564" y="1398"/>
                  </a:lnTo>
                  <a:lnTo>
                    <a:pt x="575" y="1369"/>
                  </a:lnTo>
                  <a:lnTo>
                    <a:pt x="586" y="1339"/>
                  </a:lnTo>
                  <a:lnTo>
                    <a:pt x="597" y="1308"/>
                  </a:lnTo>
                  <a:lnTo>
                    <a:pt x="607" y="1273"/>
                  </a:lnTo>
                  <a:lnTo>
                    <a:pt x="616" y="1239"/>
                  </a:lnTo>
                  <a:lnTo>
                    <a:pt x="624" y="1203"/>
                  </a:lnTo>
                  <a:lnTo>
                    <a:pt x="632" y="1165"/>
                  </a:lnTo>
                  <a:lnTo>
                    <a:pt x="646" y="1087"/>
                  </a:lnTo>
                  <a:lnTo>
                    <a:pt x="658" y="1006"/>
                  </a:lnTo>
                  <a:lnTo>
                    <a:pt x="668" y="919"/>
                  </a:lnTo>
                  <a:lnTo>
                    <a:pt x="677" y="829"/>
                  </a:lnTo>
                  <a:lnTo>
                    <a:pt x="684" y="739"/>
                  </a:lnTo>
                  <a:lnTo>
                    <a:pt x="689" y="650"/>
                  </a:lnTo>
                  <a:lnTo>
                    <a:pt x="69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1440" y="768240"/>
              <a:ext cx="335160" cy="595440"/>
            </a:xfrm>
            <a:custGeom>
              <a:avLst/>
              <a:gdLst/>
              <a:ahLst/>
              <a:rect l="l" t="t" r="r" b="b"/>
              <a:pathLst>
                <a:path w="930" h="1652">
                  <a:moveTo>
                    <a:pt x="929" y="332"/>
                  </a:moveTo>
                  <a:lnTo>
                    <a:pt x="929" y="355"/>
                  </a:lnTo>
                  <a:lnTo>
                    <a:pt x="929" y="377"/>
                  </a:lnTo>
                  <a:lnTo>
                    <a:pt x="927" y="399"/>
                  </a:lnTo>
                  <a:lnTo>
                    <a:pt x="925" y="419"/>
                  </a:lnTo>
                  <a:lnTo>
                    <a:pt x="923" y="439"/>
                  </a:lnTo>
                  <a:lnTo>
                    <a:pt x="920" y="458"/>
                  </a:lnTo>
                  <a:lnTo>
                    <a:pt x="916" y="478"/>
                  </a:lnTo>
                  <a:lnTo>
                    <a:pt x="912" y="496"/>
                  </a:lnTo>
                  <a:lnTo>
                    <a:pt x="907" y="513"/>
                  </a:lnTo>
                  <a:lnTo>
                    <a:pt x="902" y="531"/>
                  </a:lnTo>
                  <a:lnTo>
                    <a:pt x="896" y="547"/>
                  </a:lnTo>
                  <a:lnTo>
                    <a:pt x="890" y="561"/>
                  </a:lnTo>
                  <a:lnTo>
                    <a:pt x="883" y="578"/>
                  </a:lnTo>
                  <a:lnTo>
                    <a:pt x="875" y="590"/>
                  </a:lnTo>
                  <a:lnTo>
                    <a:pt x="868" y="605"/>
                  </a:lnTo>
                  <a:lnTo>
                    <a:pt x="859" y="617"/>
                  </a:lnTo>
                  <a:lnTo>
                    <a:pt x="840" y="643"/>
                  </a:lnTo>
                  <a:lnTo>
                    <a:pt x="819" y="664"/>
                  </a:lnTo>
                  <a:lnTo>
                    <a:pt x="797" y="684"/>
                  </a:lnTo>
                  <a:lnTo>
                    <a:pt x="772" y="702"/>
                  </a:lnTo>
                  <a:lnTo>
                    <a:pt x="745" y="719"/>
                  </a:lnTo>
                  <a:lnTo>
                    <a:pt x="716" y="731"/>
                  </a:lnTo>
                  <a:lnTo>
                    <a:pt x="686" y="744"/>
                  </a:lnTo>
                  <a:lnTo>
                    <a:pt x="653" y="753"/>
                  </a:lnTo>
                  <a:lnTo>
                    <a:pt x="652" y="769"/>
                  </a:lnTo>
                  <a:lnTo>
                    <a:pt x="679" y="771"/>
                  </a:lnTo>
                  <a:lnTo>
                    <a:pt x="704" y="776"/>
                  </a:lnTo>
                  <a:lnTo>
                    <a:pt x="728" y="784"/>
                  </a:lnTo>
                  <a:lnTo>
                    <a:pt x="751" y="793"/>
                  </a:lnTo>
                  <a:lnTo>
                    <a:pt x="773" y="805"/>
                  </a:lnTo>
                  <a:lnTo>
                    <a:pt x="794" y="820"/>
                  </a:lnTo>
                  <a:lnTo>
                    <a:pt x="814" y="838"/>
                  </a:lnTo>
                  <a:lnTo>
                    <a:pt x="833" y="858"/>
                  </a:lnTo>
                  <a:lnTo>
                    <a:pt x="843" y="868"/>
                  </a:lnTo>
                  <a:lnTo>
                    <a:pt x="850" y="881"/>
                  </a:lnTo>
                  <a:lnTo>
                    <a:pt x="859" y="892"/>
                  </a:lnTo>
                  <a:lnTo>
                    <a:pt x="866" y="905"/>
                  </a:lnTo>
                  <a:lnTo>
                    <a:pt x="873" y="919"/>
                  </a:lnTo>
                  <a:lnTo>
                    <a:pt x="879" y="933"/>
                  </a:lnTo>
                  <a:lnTo>
                    <a:pt x="884" y="948"/>
                  </a:lnTo>
                  <a:lnTo>
                    <a:pt x="889" y="962"/>
                  </a:lnTo>
                  <a:lnTo>
                    <a:pt x="893" y="979"/>
                  </a:lnTo>
                  <a:lnTo>
                    <a:pt x="898" y="993"/>
                  </a:lnTo>
                  <a:lnTo>
                    <a:pt x="901" y="1011"/>
                  </a:lnTo>
                  <a:lnTo>
                    <a:pt x="904" y="1027"/>
                  </a:lnTo>
                  <a:lnTo>
                    <a:pt x="905" y="1045"/>
                  </a:lnTo>
                  <a:lnTo>
                    <a:pt x="907" y="1065"/>
                  </a:lnTo>
                  <a:lnTo>
                    <a:pt x="908" y="1083"/>
                  </a:lnTo>
                  <a:lnTo>
                    <a:pt x="908" y="1103"/>
                  </a:lnTo>
                  <a:lnTo>
                    <a:pt x="907" y="1136"/>
                  </a:lnTo>
                  <a:lnTo>
                    <a:pt x="906" y="1167"/>
                  </a:lnTo>
                  <a:lnTo>
                    <a:pt x="904" y="1197"/>
                  </a:lnTo>
                  <a:lnTo>
                    <a:pt x="900" y="1226"/>
                  </a:lnTo>
                  <a:lnTo>
                    <a:pt x="895" y="1255"/>
                  </a:lnTo>
                  <a:lnTo>
                    <a:pt x="890" y="1284"/>
                  </a:lnTo>
                  <a:lnTo>
                    <a:pt x="883" y="1309"/>
                  </a:lnTo>
                  <a:lnTo>
                    <a:pt x="876" y="1336"/>
                  </a:lnTo>
                  <a:lnTo>
                    <a:pt x="868" y="1360"/>
                  </a:lnTo>
                  <a:lnTo>
                    <a:pt x="858" y="1383"/>
                  </a:lnTo>
                  <a:lnTo>
                    <a:pt x="847" y="1407"/>
                  </a:lnTo>
                  <a:lnTo>
                    <a:pt x="836" y="1428"/>
                  </a:lnTo>
                  <a:lnTo>
                    <a:pt x="824" y="1450"/>
                  </a:lnTo>
                  <a:lnTo>
                    <a:pt x="810" y="1470"/>
                  </a:lnTo>
                  <a:lnTo>
                    <a:pt x="780" y="1508"/>
                  </a:lnTo>
                  <a:lnTo>
                    <a:pt x="746" y="1542"/>
                  </a:lnTo>
                  <a:lnTo>
                    <a:pt x="709" y="1571"/>
                  </a:lnTo>
                  <a:lnTo>
                    <a:pt x="668" y="1595"/>
                  </a:lnTo>
                  <a:lnTo>
                    <a:pt x="624" y="1615"/>
                  </a:lnTo>
                  <a:lnTo>
                    <a:pt x="576" y="1631"/>
                  </a:lnTo>
                  <a:lnTo>
                    <a:pt x="524" y="1642"/>
                  </a:lnTo>
                  <a:lnTo>
                    <a:pt x="469" y="1649"/>
                  </a:lnTo>
                  <a:lnTo>
                    <a:pt x="411" y="1651"/>
                  </a:lnTo>
                  <a:lnTo>
                    <a:pt x="361" y="1649"/>
                  </a:lnTo>
                  <a:lnTo>
                    <a:pt x="314" y="1642"/>
                  </a:lnTo>
                  <a:lnTo>
                    <a:pt x="270" y="1629"/>
                  </a:lnTo>
                  <a:lnTo>
                    <a:pt x="229" y="1611"/>
                  </a:lnTo>
                  <a:lnTo>
                    <a:pt x="192" y="1589"/>
                  </a:lnTo>
                  <a:lnTo>
                    <a:pt x="159" y="1562"/>
                  </a:lnTo>
                  <a:lnTo>
                    <a:pt x="143" y="1548"/>
                  </a:lnTo>
                  <a:lnTo>
                    <a:pt x="129" y="1531"/>
                  </a:lnTo>
                  <a:lnTo>
                    <a:pt x="115" y="1513"/>
                  </a:lnTo>
                  <a:lnTo>
                    <a:pt x="102" y="1495"/>
                  </a:lnTo>
                  <a:lnTo>
                    <a:pt x="90" y="1475"/>
                  </a:lnTo>
                  <a:lnTo>
                    <a:pt x="78" y="1452"/>
                  </a:lnTo>
                  <a:lnTo>
                    <a:pt x="67" y="1428"/>
                  </a:lnTo>
                  <a:lnTo>
                    <a:pt x="57" y="1403"/>
                  </a:lnTo>
                  <a:lnTo>
                    <a:pt x="49" y="1376"/>
                  </a:lnTo>
                  <a:lnTo>
                    <a:pt x="40" y="1349"/>
                  </a:lnTo>
                  <a:lnTo>
                    <a:pt x="32" y="1318"/>
                  </a:lnTo>
                  <a:lnTo>
                    <a:pt x="25" y="1286"/>
                  </a:lnTo>
                  <a:lnTo>
                    <a:pt x="19" y="1253"/>
                  </a:lnTo>
                  <a:lnTo>
                    <a:pt x="15" y="1217"/>
                  </a:lnTo>
                  <a:lnTo>
                    <a:pt x="10" y="1181"/>
                  </a:lnTo>
                  <a:lnTo>
                    <a:pt x="6" y="1143"/>
                  </a:lnTo>
                  <a:lnTo>
                    <a:pt x="2" y="1062"/>
                  </a:lnTo>
                  <a:lnTo>
                    <a:pt x="0" y="973"/>
                  </a:lnTo>
                  <a:lnTo>
                    <a:pt x="1" y="924"/>
                  </a:lnTo>
                  <a:lnTo>
                    <a:pt x="2" y="876"/>
                  </a:lnTo>
                  <a:lnTo>
                    <a:pt x="5" y="829"/>
                  </a:lnTo>
                  <a:lnTo>
                    <a:pt x="9" y="782"/>
                  </a:lnTo>
                  <a:lnTo>
                    <a:pt x="13" y="735"/>
                  </a:lnTo>
                  <a:lnTo>
                    <a:pt x="19" y="690"/>
                  </a:lnTo>
                  <a:lnTo>
                    <a:pt x="26" y="644"/>
                  </a:lnTo>
                  <a:lnTo>
                    <a:pt x="34" y="601"/>
                  </a:lnTo>
                  <a:lnTo>
                    <a:pt x="43" y="558"/>
                  </a:lnTo>
                  <a:lnTo>
                    <a:pt x="54" y="516"/>
                  </a:lnTo>
                  <a:lnTo>
                    <a:pt x="65" y="475"/>
                  </a:lnTo>
                  <a:lnTo>
                    <a:pt x="78" y="435"/>
                  </a:lnTo>
                  <a:lnTo>
                    <a:pt x="92" y="397"/>
                  </a:lnTo>
                  <a:lnTo>
                    <a:pt x="107" y="359"/>
                  </a:lnTo>
                  <a:lnTo>
                    <a:pt x="123" y="323"/>
                  </a:lnTo>
                  <a:lnTo>
                    <a:pt x="141" y="289"/>
                  </a:lnTo>
                  <a:lnTo>
                    <a:pt x="160" y="256"/>
                  </a:lnTo>
                  <a:lnTo>
                    <a:pt x="180" y="225"/>
                  </a:lnTo>
                  <a:lnTo>
                    <a:pt x="201" y="196"/>
                  </a:lnTo>
                  <a:lnTo>
                    <a:pt x="224" y="169"/>
                  </a:lnTo>
                  <a:lnTo>
                    <a:pt x="247" y="144"/>
                  </a:lnTo>
                  <a:lnTo>
                    <a:pt x="272" y="121"/>
                  </a:lnTo>
                  <a:lnTo>
                    <a:pt x="299" y="97"/>
                  </a:lnTo>
                  <a:lnTo>
                    <a:pt x="326" y="77"/>
                  </a:lnTo>
                  <a:lnTo>
                    <a:pt x="356" y="59"/>
                  </a:lnTo>
                  <a:lnTo>
                    <a:pt x="386" y="43"/>
                  </a:lnTo>
                  <a:lnTo>
                    <a:pt x="418" y="30"/>
                  </a:lnTo>
                  <a:lnTo>
                    <a:pt x="450" y="19"/>
                  </a:lnTo>
                  <a:lnTo>
                    <a:pt x="485" y="10"/>
                  </a:lnTo>
                  <a:lnTo>
                    <a:pt x="520" y="5"/>
                  </a:lnTo>
                  <a:lnTo>
                    <a:pt x="556" y="1"/>
                  </a:lnTo>
                  <a:lnTo>
                    <a:pt x="594" y="0"/>
                  </a:lnTo>
                  <a:lnTo>
                    <a:pt x="634" y="1"/>
                  </a:lnTo>
                  <a:lnTo>
                    <a:pt x="670" y="5"/>
                  </a:lnTo>
                  <a:lnTo>
                    <a:pt x="705" y="12"/>
                  </a:lnTo>
                  <a:lnTo>
                    <a:pt x="737" y="21"/>
                  </a:lnTo>
                  <a:lnTo>
                    <a:pt x="767" y="34"/>
                  </a:lnTo>
                  <a:lnTo>
                    <a:pt x="794" y="48"/>
                  </a:lnTo>
                  <a:lnTo>
                    <a:pt x="819" y="66"/>
                  </a:lnTo>
                  <a:lnTo>
                    <a:pt x="843" y="86"/>
                  </a:lnTo>
                  <a:lnTo>
                    <a:pt x="863" y="110"/>
                  </a:lnTo>
                  <a:lnTo>
                    <a:pt x="872" y="121"/>
                  </a:lnTo>
                  <a:lnTo>
                    <a:pt x="880" y="133"/>
                  </a:lnTo>
                  <a:lnTo>
                    <a:pt x="888" y="148"/>
                  </a:lnTo>
                  <a:lnTo>
                    <a:pt x="895" y="162"/>
                  </a:lnTo>
                  <a:lnTo>
                    <a:pt x="902" y="177"/>
                  </a:lnTo>
                  <a:lnTo>
                    <a:pt x="908" y="191"/>
                  </a:lnTo>
                  <a:lnTo>
                    <a:pt x="913" y="207"/>
                  </a:lnTo>
                  <a:lnTo>
                    <a:pt x="917" y="222"/>
                  </a:lnTo>
                  <a:lnTo>
                    <a:pt x="921" y="240"/>
                  </a:lnTo>
                  <a:lnTo>
                    <a:pt x="924" y="256"/>
                  </a:lnTo>
                  <a:lnTo>
                    <a:pt x="926" y="274"/>
                  </a:lnTo>
                  <a:lnTo>
                    <a:pt x="928" y="294"/>
                  </a:lnTo>
                  <a:lnTo>
                    <a:pt x="929" y="312"/>
                  </a:lnTo>
                  <a:close/>
                  <a:moveTo>
                    <a:pt x="633" y="352"/>
                  </a:moveTo>
                  <a:lnTo>
                    <a:pt x="633" y="325"/>
                  </a:lnTo>
                  <a:lnTo>
                    <a:pt x="631" y="299"/>
                  </a:lnTo>
                  <a:lnTo>
                    <a:pt x="629" y="276"/>
                  </a:lnTo>
                  <a:lnTo>
                    <a:pt x="627" y="254"/>
                  </a:lnTo>
                  <a:lnTo>
                    <a:pt x="623" y="234"/>
                  </a:lnTo>
                  <a:lnTo>
                    <a:pt x="622" y="224"/>
                  </a:lnTo>
                  <a:lnTo>
                    <a:pt x="619" y="214"/>
                  </a:lnTo>
                  <a:lnTo>
                    <a:pt x="617" y="205"/>
                  </a:lnTo>
                  <a:lnTo>
                    <a:pt x="615" y="198"/>
                  </a:lnTo>
                  <a:lnTo>
                    <a:pt x="611" y="189"/>
                  </a:lnTo>
                  <a:lnTo>
                    <a:pt x="609" y="182"/>
                  </a:lnTo>
                  <a:lnTo>
                    <a:pt x="606" y="175"/>
                  </a:lnTo>
                  <a:lnTo>
                    <a:pt x="603" y="169"/>
                  </a:lnTo>
                  <a:lnTo>
                    <a:pt x="599" y="162"/>
                  </a:lnTo>
                  <a:lnTo>
                    <a:pt x="596" y="157"/>
                  </a:lnTo>
                  <a:lnTo>
                    <a:pt x="591" y="151"/>
                  </a:lnTo>
                  <a:lnTo>
                    <a:pt x="588" y="148"/>
                  </a:lnTo>
                  <a:lnTo>
                    <a:pt x="584" y="142"/>
                  </a:lnTo>
                  <a:lnTo>
                    <a:pt x="579" y="139"/>
                  </a:lnTo>
                  <a:lnTo>
                    <a:pt x="574" y="135"/>
                  </a:lnTo>
                  <a:lnTo>
                    <a:pt x="570" y="133"/>
                  </a:lnTo>
                  <a:lnTo>
                    <a:pt x="560" y="128"/>
                  </a:lnTo>
                  <a:lnTo>
                    <a:pt x="548" y="126"/>
                  </a:lnTo>
                  <a:lnTo>
                    <a:pt x="536" y="124"/>
                  </a:lnTo>
                  <a:lnTo>
                    <a:pt x="524" y="124"/>
                  </a:lnTo>
                  <a:lnTo>
                    <a:pt x="512" y="126"/>
                  </a:lnTo>
                  <a:lnTo>
                    <a:pt x="501" y="130"/>
                  </a:lnTo>
                  <a:lnTo>
                    <a:pt x="490" y="135"/>
                  </a:lnTo>
                  <a:lnTo>
                    <a:pt x="479" y="140"/>
                  </a:lnTo>
                  <a:lnTo>
                    <a:pt x="468" y="148"/>
                  </a:lnTo>
                  <a:lnTo>
                    <a:pt x="458" y="155"/>
                  </a:lnTo>
                  <a:lnTo>
                    <a:pt x="448" y="166"/>
                  </a:lnTo>
                  <a:lnTo>
                    <a:pt x="438" y="177"/>
                  </a:lnTo>
                  <a:lnTo>
                    <a:pt x="429" y="187"/>
                  </a:lnTo>
                  <a:lnTo>
                    <a:pt x="420" y="202"/>
                  </a:lnTo>
                  <a:lnTo>
                    <a:pt x="411" y="216"/>
                  </a:lnTo>
                  <a:lnTo>
                    <a:pt x="402" y="233"/>
                  </a:lnTo>
                  <a:lnTo>
                    <a:pt x="394" y="251"/>
                  </a:lnTo>
                  <a:lnTo>
                    <a:pt x="387" y="269"/>
                  </a:lnTo>
                  <a:lnTo>
                    <a:pt x="379" y="289"/>
                  </a:lnTo>
                  <a:lnTo>
                    <a:pt x="365" y="332"/>
                  </a:lnTo>
                  <a:lnTo>
                    <a:pt x="352" y="379"/>
                  </a:lnTo>
                  <a:lnTo>
                    <a:pt x="340" y="429"/>
                  </a:lnTo>
                  <a:lnTo>
                    <a:pt x="330" y="485"/>
                  </a:lnTo>
                  <a:lnTo>
                    <a:pt x="321" y="545"/>
                  </a:lnTo>
                  <a:lnTo>
                    <a:pt x="314" y="610"/>
                  </a:lnTo>
                  <a:lnTo>
                    <a:pt x="307" y="679"/>
                  </a:lnTo>
                  <a:lnTo>
                    <a:pt x="303" y="751"/>
                  </a:lnTo>
                  <a:lnTo>
                    <a:pt x="418" y="720"/>
                  </a:lnTo>
                  <a:lnTo>
                    <a:pt x="449" y="709"/>
                  </a:lnTo>
                  <a:lnTo>
                    <a:pt x="478" y="699"/>
                  </a:lnTo>
                  <a:lnTo>
                    <a:pt x="504" y="684"/>
                  </a:lnTo>
                  <a:lnTo>
                    <a:pt x="527" y="668"/>
                  </a:lnTo>
                  <a:lnTo>
                    <a:pt x="547" y="652"/>
                  </a:lnTo>
                  <a:lnTo>
                    <a:pt x="556" y="643"/>
                  </a:lnTo>
                  <a:lnTo>
                    <a:pt x="564" y="632"/>
                  </a:lnTo>
                  <a:lnTo>
                    <a:pt x="572" y="623"/>
                  </a:lnTo>
                  <a:lnTo>
                    <a:pt x="578" y="612"/>
                  </a:lnTo>
                  <a:lnTo>
                    <a:pt x="585" y="599"/>
                  </a:lnTo>
                  <a:lnTo>
                    <a:pt x="591" y="588"/>
                  </a:lnTo>
                  <a:lnTo>
                    <a:pt x="601" y="563"/>
                  </a:lnTo>
                  <a:lnTo>
                    <a:pt x="609" y="538"/>
                  </a:lnTo>
                  <a:lnTo>
                    <a:pt x="613" y="525"/>
                  </a:lnTo>
                  <a:lnTo>
                    <a:pt x="616" y="511"/>
                  </a:lnTo>
                  <a:lnTo>
                    <a:pt x="620" y="496"/>
                  </a:lnTo>
                  <a:lnTo>
                    <a:pt x="622" y="482"/>
                  </a:lnTo>
                  <a:lnTo>
                    <a:pt x="627" y="453"/>
                  </a:lnTo>
                  <a:lnTo>
                    <a:pt x="630" y="420"/>
                  </a:lnTo>
                  <a:lnTo>
                    <a:pt x="632" y="386"/>
                  </a:lnTo>
                  <a:close/>
                  <a:moveTo>
                    <a:pt x="579" y="1385"/>
                  </a:moveTo>
                  <a:lnTo>
                    <a:pt x="584" y="1369"/>
                  </a:lnTo>
                  <a:lnTo>
                    <a:pt x="588" y="1353"/>
                  </a:lnTo>
                  <a:lnTo>
                    <a:pt x="591" y="1336"/>
                  </a:lnTo>
                  <a:lnTo>
                    <a:pt x="594" y="1318"/>
                  </a:lnTo>
                  <a:lnTo>
                    <a:pt x="597" y="1302"/>
                  </a:lnTo>
                  <a:lnTo>
                    <a:pt x="599" y="1284"/>
                  </a:lnTo>
                  <a:lnTo>
                    <a:pt x="602" y="1268"/>
                  </a:lnTo>
                  <a:lnTo>
                    <a:pt x="603" y="1250"/>
                  </a:lnTo>
                  <a:lnTo>
                    <a:pt x="606" y="1215"/>
                  </a:lnTo>
                  <a:lnTo>
                    <a:pt x="608" y="1181"/>
                  </a:lnTo>
                  <a:lnTo>
                    <a:pt x="609" y="1145"/>
                  </a:lnTo>
                  <a:lnTo>
                    <a:pt x="609" y="1111"/>
                  </a:lnTo>
                  <a:lnTo>
                    <a:pt x="609" y="1083"/>
                  </a:lnTo>
                  <a:lnTo>
                    <a:pt x="607" y="1056"/>
                  </a:lnTo>
                  <a:lnTo>
                    <a:pt x="604" y="1031"/>
                  </a:lnTo>
                  <a:lnTo>
                    <a:pt x="601" y="1006"/>
                  </a:lnTo>
                  <a:lnTo>
                    <a:pt x="598" y="995"/>
                  </a:lnTo>
                  <a:lnTo>
                    <a:pt x="596" y="982"/>
                  </a:lnTo>
                  <a:lnTo>
                    <a:pt x="590" y="961"/>
                  </a:lnTo>
                  <a:lnTo>
                    <a:pt x="583" y="941"/>
                  </a:lnTo>
                  <a:lnTo>
                    <a:pt x="574" y="921"/>
                  </a:lnTo>
                  <a:lnTo>
                    <a:pt x="570" y="912"/>
                  </a:lnTo>
                  <a:lnTo>
                    <a:pt x="565" y="903"/>
                  </a:lnTo>
                  <a:lnTo>
                    <a:pt x="560" y="896"/>
                  </a:lnTo>
                  <a:lnTo>
                    <a:pt x="554" y="888"/>
                  </a:lnTo>
                  <a:lnTo>
                    <a:pt x="548" y="883"/>
                  </a:lnTo>
                  <a:lnTo>
                    <a:pt x="541" y="876"/>
                  </a:lnTo>
                  <a:lnTo>
                    <a:pt x="535" y="870"/>
                  </a:lnTo>
                  <a:lnTo>
                    <a:pt x="528" y="865"/>
                  </a:lnTo>
                  <a:lnTo>
                    <a:pt x="512" y="858"/>
                  </a:lnTo>
                  <a:lnTo>
                    <a:pt x="496" y="852"/>
                  </a:lnTo>
                  <a:lnTo>
                    <a:pt x="478" y="849"/>
                  </a:lnTo>
                  <a:lnTo>
                    <a:pt x="458" y="847"/>
                  </a:lnTo>
                  <a:lnTo>
                    <a:pt x="433" y="849"/>
                  </a:lnTo>
                  <a:lnTo>
                    <a:pt x="410" y="850"/>
                  </a:lnTo>
                  <a:lnTo>
                    <a:pt x="387" y="856"/>
                  </a:lnTo>
                  <a:lnTo>
                    <a:pt x="367" y="861"/>
                  </a:lnTo>
                  <a:lnTo>
                    <a:pt x="294" y="888"/>
                  </a:lnTo>
                  <a:lnTo>
                    <a:pt x="291" y="953"/>
                  </a:lnTo>
                  <a:lnTo>
                    <a:pt x="290" y="971"/>
                  </a:lnTo>
                  <a:lnTo>
                    <a:pt x="290" y="991"/>
                  </a:lnTo>
                  <a:lnTo>
                    <a:pt x="290" y="1027"/>
                  </a:lnTo>
                  <a:lnTo>
                    <a:pt x="291" y="1091"/>
                  </a:lnTo>
                  <a:lnTo>
                    <a:pt x="292" y="1150"/>
                  </a:lnTo>
                  <a:lnTo>
                    <a:pt x="295" y="1204"/>
                  </a:lnTo>
                  <a:lnTo>
                    <a:pt x="299" y="1255"/>
                  </a:lnTo>
                  <a:lnTo>
                    <a:pt x="303" y="1300"/>
                  </a:lnTo>
                  <a:lnTo>
                    <a:pt x="309" y="1342"/>
                  </a:lnTo>
                  <a:lnTo>
                    <a:pt x="313" y="1360"/>
                  </a:lnTo>
                  <a:lnTo>
                    <a:pt x="317" y="1378"/>
                  </a:lnTo>
                  <a:lnTo>
                    <a:pt x="320" y="1394"/>
                  </a:lnTo>
                  <a:lnTo>
                    <a:pt x="325" y="1409"/>
                  </a:lnTo>
                  <a:lnTo>
                    <a:pt x="329" y="1423"/>
                  </a:lnTo>
                  <a:lnTo>
                    <a:pt x="334" y="1436"/>
                  </a:lnTo>
                  <a:lnTo>
                    <a:pt x="340" y="1448"/>
                  </a:lnTo>
                  <a:lnTo>
                    <a:pt x="346" y="1459"/>
                  </a:lnTo>
                  <a:lnTo>
                    <a:pt x="352" y="1470"/>
                  </a:lnTo>
                  <a:lnTo>
                    <a:pt x="359" y="1479"/>
                  </a:lnTo>
                  <a:lnTo>
                    <a:pt x="367" y="1488"/>
                  </a:lnTo>
                  <a:lnTo>
                    <a:pt x="375" y="1497"/>
                  </a:lnTo>
                  <a:lnTo>
                    <a:pt x="382" y="1503"/>
                  </a:lnTo>
                  <a:lnTo>
                    <a:pt x="392" y="1510"/>
                  </a:lnTo>
                  <a:lnTo>
                    <a:pt x="400" y="1515"/>
                  </a:lnTo>
                  <a:lnTo>
                    <a:pt x="411" y="1519"/>
                  </a:lnTo>
                  <a:lnTo>
                    <a:pt x="431" y="1524"/>
                  </a:lnTo>
                  <a:lnTo>
                    <a:pt x="454" y="1526"/>
                  </a:lnTo>
                  <a:lnTo>
                    <a:pt x="466" y="1526"/>
                  </a:lnTo>
                  <a:lnTo>
                    <a:pt x="477" y="1524"/>
                  </a:lnTo>
                  <a:lnTo>
                    <a:pt x="487" y="1521"/>
                  </a:lnTo>
                  <a:lnTo>
                    <a:pt x="498" y="1517"/>
                  </a:lnTo>
                  <a:lnTo>
                    <a:pt x="507" y="1512"/>
                  </a:lnTo>
                  <a:lnTo>
                    <a:pt x="517" y="1504"/>
                  </a:lnTo>
                  <a:lnTo>
                    <a:pt x="525" y="1495"/>
                  </a:lnTo>
                  <a:lnTo>
                    <a:pt x="533" y="1486"/>
                  </a:lnTo>
                  <a:lnTo>
                    <a:pt x="541" y="1475"/>
                  </a:lnTo>
                  <a:lnTo>
                    <a:pt x="548" y="1465"/>
                  </a:lnTo>
                  <a:lnTo>
                    <a:pt x="554" y="1452"/>
                  </a:lnTo>
                  <a:lnTo>
                    <a:pt x="560" y="1441"/>
                  </a:lnTo>
                  <a:lnTo>
                    <a:pt x="566" y="1427"/>
                  </a:lnTo>
                  <a:lnTo>
                    <a:pt x="571" y="1414"/>
                  </a:lnTo>
                  <a:lnTo>
                    <a:pt x="575" y="1400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54800" y="768240"/>
              <a:ext cx="385920" cy="592200"/>
            </a:xfrm>
            <a:custGeom>
              <a:avLst/>
              <a:gdLst/>
              <a:ahLst/>
              <a:rect l="l" t="t" r="r" b="b"/>
              <a:pathLst>
                <a:path w="1073" h="1646">
                  <a:moveTo>
                    <a:pt x="590" y="1401"/>
                  </a:moveTo>
                  <a:lnTo>
                    <a:pt x="583" y="1401"/>
                  </a:lnTo>
                  <a:lnTo>
                    <a:pt x="527" y="1486"/>
                  </a:lnTo>
                  <a:lnTo>
                    <a:pt x="520" y="1497"/>
                  </a:lnTo>
                  <a:lnTo>
                    <a:pt x="512" y="1506"/>
                  </a:lnTo>
                  <a:lnTo>
                    <a:pt x="497" y="1526"/>
                  </a:lnTo>
                  <a:lnTo>
                    <a:pt x="479" y="1546"/>
                  </a:lnTo>
                  <a:lnTo>
                    <a:pt x="459" y="1566"/>
                  </a:lnTo>
                  <a:lnTo>
                    <a:pt x="441" y="1582"/>
                  </a:lnTo>
                  <a:lnTo>
                    <a:pt x="423" y="1596"/>
                  </a:lnTo>
                  <a:lnTo>
                    <a:pt x="404" y="1609"/>
                  </a:lnTo>
                  <a:lnTo>
                    <a:pt x="384" y="1622"/>
                  </a:lnTo>
                  <a:lnTo>
                    <a:pt x="375" y="1627"/>
                  </a:lnTo>
                  <a:lnTo>
                    <a:pt x="364" y="1633"/>
                  </a:lnTo>
                  <a:lnTo>
                    <a:pt x="354" y="1636"/>
                  </a:lnTo>
                  <a:lnTo>
                    <a:pt x="343" y="1640"/>
                  </a:lnTo>
                  <a:lnTo>
                    <a:pt x="332" y="1642"/>
                  </a:lnTo>
                  <a:lnTo>
                    <a:pt x="321" y="1643"/>
                  </a:lnTo>
                  <a:lnTo>
                    <a:pt x="297" y="1645"/>
                  </a:lnTo>
                  <a:lnTo>
                    <a:pt x="262" y="1643"/>
                  </a:lnTo>
                  <a:lnTo>
                    <a:pt x="228" y="1634"/>
                  </a:lnTo>
                  <a:lnTo>
                    <a:pt x="198" y="1622"/>
                  </a:lnTo>
                  <a:lnTo>
                    <a:pt x="168" y="1605"/>
                  </a:lnTo>
                  <a:lnTo>
                    <a:pt x="154" y="1595"/>
                  </a:lnTo>
                  <a:lnTo>
                    <a:pt x="142" y="1582"/>
                  </a:lnTo>
                  <a:lnTo>
                    <a:pt x="130" y="1569"/>
                  </a:lnTo>
                  <a:lnTo>
                    <a:pt x="118" y="1555"/>
                  </a:lnTo>
                  <a:lnTo>
                    <a:pt x="106" y="1539"/>
                  </a:lnTo>
                  <a:lnTo>
                    <a:pt x="95" y="1522"/>
                  </a:lnTo>
                  <a:lnTo>
                    <a:pt x="85" y="1504"/>
                  </a:lnTo>
                  <a:lnTo>
                    <a:pt x="75" y="1484"/>
                  </a:lnTo>
                  <a:lnTo>
                    <a:pt x="66" y="1465"/>
                  </a:lnTo>
                  <a:lnTo>
                    <a:pt x="58" y="1443"/>
                  </a:lnTo>
                  <a:lnTo>
                    <a:pt x="50" y="1419"/>
                  </a:lnTo>
                  <a:lnTo>
                    <a:pt x="43" y="1396"/>
                  </a:lnTo>
                  <a:lnTo>
                    <a:pt x="36" y="1372"/>
                  </a:lnTo>
                  <a:lnTo>
                    <a:pt x="30" y="1347"/>
                  </a:lnTo>
                  <a:lnTo>
                    <a:pt x="25" y="1320"/>
                  </a:lnTo>
                  <a:lnTo>
                    <a:pt x="19" y="1293"/>
                  </a:lnTo>
                  <a:lnTo>
                    <a:pt x="11" y="1235"/>
                  </a:lnTo>
                  <a:lnTo>
                    <a:pt x="5" y="1176"/>
                  </a:lnTo>
                  <a:lnTo>
                    <a:pt x="1" y="1111"/>
                  </a:lnTo>
                  <a:lnTo>
                    <a:pt x="0" y="1042"/>
                  </a:lnTo>
                  <a:lnTo>
                    <a:pt x="1" y="989"/>
                  </a:lnTo>
                  <a:lnTo>
                    <a:pt x="3" y="937"/>
                  </a:lnTo>
                  <a:lnTo>
                    <a:pt x="7" y="885"/>
                  </a:lnTo>
                  <a:lnTo>
                    <a:pt x="11" y="834"/>
                  </a:lnTo>
                  <a:lnTo>
                    <a:pt x="17" y="784"/>
                  </a:lnTo>
                  <a:lnTo>
                    <a:pt x="24" y="735"/>
                  </a:lnTo>
                  <a:lnTo>
                    <a:pt x="32" y="686"/>
                  </a:lnTo>
                  <a:lnTo>
                    <a:pt x="42" y="639"/>
                  </a:lnTo>
                  <a:lnTo>
                    <a:pt x="53" y="592"/>
                  </a:lnTo>
                  <a:lnTo>
                    <a:pt x="65" y="547"/>
                  </a:lnTo>
                  <a:lnTo>
                    <a:pt x="77" y="504"/>
                  </a:lnTo>
                  <a:lnTo>
                    <a:pt x="91" y="462"/>
                  </a:lnTo>
                  <a:lnTo>
                    <a:pt x="105" y="420"/>
                  </a:lnTo>
                  <a:lnTo>
                    <a:pt x="121" y="381"/>
                  </a:lnTo>
                  <a:lnTo>
                    <a:pt x="136" y="343"/>
                  </a:lnTo>
                  <a:lnTo>
                    <a:pt x="154" y="307"/>
                  </a:lnTo>
                  <a:lnTo>
                    <a:pt x="172" y="272"/>
                  </a:lnTo>
                  <a:lnTo>
                    <a:pt x="190" y="240"/>
                  </a:lnTo>
                  <a:lnTo>
                    <a:pt x="210" y="209"/>
                  </a:lnTo>
                  <a:lnTo>
                    <a:pt x="229" y="180"/>
                  </a:lnTo>
                  <a:lnTo>
                    <a:pt x="251" y="153"/>
                  </a:lnTo>
                  <a:lnTo>
                    <a:pt x="272" y="128"/>
                  </a:lnTo>
                  <a:lnTo>
                    <a:pt x="295" y="104"/>
                  </a:lnTo>
                  <a:lnTo>
                    <a:pt x="318" y="83"/>
                  </a:lnTo>
                  <a:lnTo>
                    <a:pt x="342" y="63"/>
                  </a:lnTo>
                  <a:lnTo>
                    <a:pt x="366" y="46"/>
                  </a:lnTo>
                  <a:lnTo>
                    <a:pt x="390" y="32"/>
                  </a:lnTo>
                  <a:lnTo>
                    <a:pt x="415" y="19"/>
                  </a:lnTo>
                  <a:lnTo>
                    <a:pt x="440" y="10"/>
                  </a:lnTo>
                  <a:lnTo>
                    <a:pt x="465" y="5"/>
                  </a:lnTo>
                  <a:lnTo>
                    <a:pt x="491" y="1"/>
                  </a:lnTo>
                  <a:lnTo>
                    <a:pt x="517" y="0"/>
                  </a:lnTo>
                  <a:lnTo>
                    <a:pt x="554" y="1"/>
                  </a:lnTo>
                  <a:lnTo>
                    <a:pt x="588" y="9"/>
                  </a:lnTo>
                  <a:lnTo>
                    <a:pt x="604" y="12"/>
                  </a:lnTo>
                  <a:lnTo>
                    <a:pt x="620" y="18"/>
                  </a:lnTo>
                  <a:lnTo>
                    <a:pt x="635" y="25"/>
                  </a:lnTo>
                  <a:lnTo>
                    <a:pt x="650" y="32"/>
                  </a:lnTo>
                  <a:lnTo>
                    <a:pt x="678" y="50"/>
                  </a:lnTo>
                  <a:lnTo>
                    <a:pt x="690" y="61"/>
                  </a:lnTo>
                  <a:lnTo>
                    <a:pt x="703" y="72"/>
                  </a:lnTo>
                  <a:lnTo>
                    <a:pt x="714" y="83"/>
                  </a:lnTo>
                  <a:lnTo>
                    <a:pt x="724" y="95"/>
                  </a:lnTo>
                  <a:lnTo>
                    <a:pt x="734" y="108"/>
                  </a:lnTo>
                  <a:lnTo>
                    <a:pt x="744" y="122"/>
                  </a:lnTo>
                  <a:lnTo>
                    <a:pt x="1004" y="23"/>
                  </a:lnTo>
                  <a:lnTo>
                    <a:pt x="1017" y="48"/>
                  </a:lnTo>
                  <a:lnTo>
                    <a:pt x="892" y="1017"/>
                  </a:lnTo>
                  <a:lnTo>
                    <a:pt x="888" y="1042"/>
                  </a:lnTo>
                  <a:lnTo>
                    <a:pt x="885" y="1071"/>
                  </a:lnTo>
                  <a:lnTo>
                    <a:pt x="877" y="1138"/>
                  </a:lnTo>
                  <a:lnTo>
                    <a:pt x="874" y="1172"/>
                  </a:lnTo>
                  <a:lnTo>
                    <a:pt x="871" y="1203"/>
                  </a:lnTo>
                  <a:lnTo>
                    <a:pt x="870" y="1228"/>
                  </a:lnTo>
                  <a:lnTo>
                    <a:pt x="869" y="1239"/>
                  </a:lnTo>
                  <a:lnTo>
                    <a:pt x="869" y="1250"/>
                  </a:lnTo>
                  <a:lnTo>
                    <a:pt x="869" y="1271"/>
                  </a:lnTo>
                  <a:lnTo>
                    <a:pt x="871" y="1291"/>
                  </a:lnTo>
                  <a:lnTo>
                    <a:pt x="873" y="1309"/>
                  </a:lnTo>
                  <a:lnTo>
                    <a:pt x="874" y="1316"/>
                  </a:lnTo>
                  <a:lnTo>
                    <a:pt x="875" y="1325"/>
                  </a:lnTo>
                  <a:lnTo>
                    <a:pt x="876" y="1333"/>
                  </a:lnTo>
                  <a:lnTo>
                    <a:pt x="878" y="1340"/>
                  </a:lnTo>
                  <a:lnTo>
                    <a:pt x="880" y="1347"/>
                  </a:lnTo>
                  <a:lnTo>
                    <a:pt x="882" y="1353"/>
                  </a:lnTo>
                  <a:lnTo>
                    <a:pt x="884" y="1358"/>
                  </a:lnTo>
                  <a:lnTo>
                    <a:pt x="887" y="1363"/>
                  </a:lnTo>
                  <a:lnTo>
                    <a:pt x="889" y="1369"/>
                  </a:lnTo>
                  <a:lnTo>
                    <a:pt x="892" y="1372"/>
                  </a:lnTo>
                  <a:lnTo>
                    <a:pt x="894" y="1376"/>
                  </a:lnTo>
                  <a:lnTo>
                    <a:pt x="898" y="1381"/>
                  </a:lnTo>
                  <a:lnTo>
                    <a:pt x="901" y="1385"/>
                  </a:lnTo>
                  <a:lnTo>
                    <a:pt x="905" y="1387"/>
                  </a:lnTo>
                  <a:lnTo>
                    <a:pt x="912" y="1394"/>
                  </a:lnTo>
                  <a:lnTo>
                    <a:pt x="922" y="1398"/>
                  </a:lnTo>
                  <a:lnTo>
                    <a:pt x="931" y="1401"/>
                  </a:lnTo>
                  <a:lnTo>
                    <a:pt x="943" y="1405"/>
                  </a:lnTo>
                  <a:lnTo>
                    <a:pt x="955" y="1407"/>
                  </a:lnTo>
                  <a:lnTo>
                    <a:pt x="968" y="1407"/>
                  </a:lnTo>
                  <a:lnTo>
                    <a:pt x="974" y="1407"/>
                  </a:lnTo>
                  <a:lnTo>
                    <a:pt x="980" y="1405"/>
                  </a:lnTo>
                  <a:lnTo>
                    <a:pt x="994" y="1403"/>
                  </a:lnTo>
                  <a:lnTo>
                    <a:pt x="1009" y="1398"/>
                  </a:lnTo>
                  <a:lnTo>
                    <a:pt x="1025" y="1391"/>
                  </a:lnTo>
                  <a:lnTo>
                    <a:pt x="1054" y="1374"/>
                  </a:lnTo>
                  <a:lnTo>
                    <a:pt x="1064" y="1367"/>
                  </a:lnTo>
                  <a:lnTo>
                    <a:pt x="1072" y="1362"/>
                  </a:lnTo>
                  <a:lnTo>
                    <a:pt x="1054" y="1503"/>
                  </a:lnTo>
                  <a:lnTo>
                    <a:pt x="919" y="1596"/>
                  </a:lnTo>
                  <a:lnTo>
                    <a:pt x="906" y="1604"/>
                  </a:lnTo>
                  <a:lnTo>
                    <a:pt x="893" y="1611"/>
                  </a:lnTo>
                  <a:lnTo>
                    <a:pt x="879" y="1616"/>
                  </a:lnTo>
                  <a:lnTo>
                    <a:pt x="865" y="1622"/>
                  </a:lnTo>
                  <a:lnTo>
                    <a:pt x="850" y="1624"/>
                  </a:lnTo>
                  <a:lnTo>
                    <a:pt x="834" y="1627"/>
                  </a:lnTo>
                  <a:lnTo>
                    <a:pt x="802" y="1629"/>
                  </a:lnTo>
                  <a:lnTo>
                    <a:pt x="781" y="1627"/>
                  </a:lnTo>
                  <a:lnTo>
                    <a:pt x="761" y="1625"/>
                  </a:lnTo>
                  <a:lnTo>
                    <a:pt x="741" y="1620"/>
                  </a:lnTo>
                  <a:lnTo>
                    <a:pt x="724" y="1613"/>
                  </a:lnTo>
                  <a:lnTo>
                    <a:pt x="707" y="1604"/>
                  </a:lnTo>
                  <a:lnTo>
                    <a:pt x="691" y="1593"/>
                  </a:lnTo>
                  <a:lnTo>
                    <a:pt x="677" y="1580"/>
                  </a:lnTo>
                  <a:lnTo>
                    <a:pt x="663" y="1566"/>
                  </a:lnTo>
                  <a:lnTo>
                    <a:pt x="650" y="1549"/>
                  </a:lnTo>
                  <a:lnTo>
                    <a:pt x="639" y="1531"/>
                  </a:lnTo>
                  <a:lnTo>
                    <a:pt x="628" y="1512"/>
                  </a:lnTo>
                  <a:lnTo>
                    <a:pt x="618" y="1492"/>
                  </a:lnTo>
                  <a:lnTo>
                    <a:pt x="610" y="1472"/>
                  </a:lnTo>
                  <a:lnTo>
                    <a:pt x="602" y="1448"/>
                  </a:lnTo>
                  <a:lnTo>
                    <a:pt x="596" y="1427"/>
                  </a:lnTo>
                  <a:close/>
                  <a:moveTo>
                    <a:pt x="691" y="402"/>
                  </a:moveTo>
                  <a:lnTo>
                    <a:pt x="691" y="393"/>
                  </a:lnTo>
                  <a:lnTo>
                    <a:pt x="691" y="384"/>
                  </a:lnTo>
                  <a:lnTo>
                    <a:pt x="690" y="364"/>
                  </a:lnTo>
                  <a:lnTo>
                    <a:pt x="689" y="343"/>
                  </a:lnTo>
                  <a:lnTo>
                    <a:pt x="686" y="321"/>
                  </a:lnTo>
                  <a:lnTo>
                    <a:pt x="684" y="308"/>
                  </a:lnTo>
                  <a:lnTo>
                    <a:pt x="683" y="298"/>
                  </a:lnTo>
                  <a:lnTo>
                    <a:pt x="681" y="287"/>
                  </a:lnTo>
                  <a:lnTo>
                    <a:pt x="679" y="276"/>
                  </a:lnTo>
                  <a:lnTo>
                    <a:pt x="677" y="267"/>
                  </a:lnTo>
                  <a:lnTo>
                    <a:pt x="674" y="258"/>
                  </a:lnTo>
                  <a:lnTo>
                    <a:pt x="672" y="249"/>
                  </a:lnTo>
                  <a:lnTo>
                    <a:pt x="668" y="240"/>
                  </a:lnTo>
                  <a:lnTo>
                    <a:pt x="664" y="231"/>
                  </a:lnTo>
                  <a:lnTo>
                    <a:pt x="660" y="220"/>
                  </a:lnTo>
                  <a:lnTo>
                    <a:pt x="655" y="213"/>
                  </a:lnTo>
                  <a:lnTo>
                    <a:pt x="651" y="204"/>
                  </a:lnTo>
                  <a:lnTo>
                    <a:pt x="646" y="196"/>
                  </a:lnTo>
                  <a:lnTo>
                    <a:pt x="641" y="191"/>
                  </a:lnTo>
                  <a:lnTo>
                    <a:pt x="635" y="184"/>
                  </a:lnTo>
                  <a:lnTo>
                    <a:pt x="629" y="178"/>
                  </a:lnTo>
                  <a:lnTo>
                    <a:pt x="623" y="173"/>
                  </a:lnTo>
                  <a:lnTo>
                    <a:pt x="616" y="169"/>
                  </a:lnTo>
                  <a:lnTo>
                    <a:pt x="609" y="166"/>
                  </a:lnTo>
                  <a:lnTo>
                    <a:pt x="601" y="162"/>
                  </a:lnTo>
                  <a:lnTo>
                    <a:pt x="593" y="160"/>
                  </a:lnTo>
                  <a:lnTo>
                    <a:pt x="585" y="158"/>
                  </a:lnTo>
                  <a:lnTo>
                    <a:pt x="576" y="157"/>
                  </a:lnTo>
                  <a:lnTo>
                    <a:pt x="567" y="157"/>
                  </a:lnTo>
                  <a:lnTo>
                    <a:pt x="554" y="158"/>
                  </a:lnTo>
                  <a:lnTo>
                    <a:pt x="540" y="162"/>
                  </a:lnTo>
                  <a:lnTo>
                    <a:pt x="526" y="168"/>
                  </a:lnTo>
                  <a:lnTo>
                    <a:pt x="513" y="175"/>
                  </a:lnTo>
                  <a:lnTo>
                    <a:pt x="500" y="186"/>
                  </a:lnTo>
                  <a:lnTo>
                    <a:pt x="488" y="198"/>
                  </a:lnTo>
                  <a:lnTo>
                    <a:pt x="476" y="213"/>
                  </a:lnTo>
                  <a:lnTo>
                    <a:pt x="464" y="231"/>
                  </a:lnTo>
                  <a:lnTo>
                    <a:pt x="452" y="251"/>
                  </a:lnTo>
                  <a:lnTo>
                    <a:pt x="441" y="272"/>
                  </a:lnTo>
                  <a:lnTo>
                    <a:pt x="430" y="294"/>
                  </a:lnTo>
                  <a:lnTo>
                    <a:pt x="419" y="319"/>
                  </a:lnTo>
                  <a:lnTo>
                    <a:pt x="409" y="345"/>
                  </a:lnTo>
                  <a:lnTo>
                    <a:pt x="400" y="372"/>
                  </a:lnTo>
                  <a:lnTo>
                    <a:pt x="390" y="401"/>
                  </a:lnTo>
                  <a:lnTo>
                    <a:pt x="381" y="429"/>
                  </a:lnTo>
                  <a:lnTo>
                    <a:pt x="372" y="462"/>
                  </a:lnTo>
                  <a:lnTo>
                    <a:pt x="364" y="495"/>
                  </a:lnTo>
                  <a:lnTo>
                    <a:pt x="356" y="527"/>
                  </a:lnTo>
                  <a:lnTo>
                    <a:pt x="349" y="563"/>
                  </a:lnTo>
                  <a:lnTo>
                    <a:pt x="342" y="599"/>
                  </a:lnTo>
                  <a:lnTo>
                    <a:pt x="336" y="635"/>
                  </a:lnTo>
                  <a:lnTo>
                    <a:pt x="330" y="675"/>
                  </a:lnTo>
                  <a:lnTo>
                    <a:pt x="325" y="715"/>
                  </a:lnTo>
                  <a:lnTo>
                    <a:pt x="320" y="756"/>
                  </a:lnTo>
                  <a:lnTo>
                    <a:pt x="316" y="796"/>
                  </a:lnTo>
                  <a:lnTo>
                    <a:pt x="312" y="838"/>
                  </a:lnTo>
                  <a:lnTo>
                    <a:pt x="309" y="879"/>
                  </a:lnTo>
                  <a:lnTo>
                    <a:pt x="307" y="921"/>
                  </a:lnTo>
                  <a:lnTo>
                    <a:pt x="306" y="964"/>
                  </a:lnTo>
                  <a:lnTo>
                    <a:pt x="304" y="1006"/>
                  </a:lnTo>
                  <a:lnTo>
                    <a:pt x="304" y="1047"/>
                  </a:lnTo>
                  <a:lnTo>
                    <a:pt x="304" y="1085"/>
                  </a:lnTo>
                  <a:lnTo>
                    <a:pt x="306" y="1123"/>
                  </a:lnTo>
                  <a:lnTo>
                    <a:pt x="308" y="1157"/>
                  </a:lnTo>
                  <a:lnTo>
                    <a:pt x="310" y="1192"/>
                  </a:lnTo>
                  <a:lnTo>
                    <a:pt x="312" y="1208"/>
                  </a:lnTo>
                  <a:lnTo>
                    <a:pt x="314" y="1223"/>
                  </a:lnTo>
                  <a:lnTo>
                    <a:pt x="316" y="1239"/>
                  </a:lnTo>
                  <a:lnTo>
                    <a:pt x="319" y="1253"/>
                  </a:lnTo>
                  <a:lnTo>
                    <a:pt x="321" y="1266"/>
                  </a:lnTo>
                  <a:lnTo>
                    <a:pt x="325" y="1279"/>
                  </a:lnTo>
                  <a:lnTo>
                    <a:pt x="328" y="1291"/>
                  </a:lnTo>
                  <a:lnTo>
                    <a:pt x="332" y="1302"/>
                  </a:lnTo>
                  <a:lnTo>
                    <a:pt x="335" y="1315"/>
                  </a:lnTo>
                  <a:lnTo>
                    <a:pt x="339" y="1325"/>
                  </a:lnTo>
                  <a:lnTo>
                    <a:pt x="344" y="1336"/>
                  </a:lnTo>
                  <a:lnTo>
                    <a:pt x="349" y="1345"/>
                  </a:lnTo>
                  <a:lnTo>
                    <a:pt x="354" y="1354"/>
                  </a:lnTo>
                  <a:lnTo>
                    <a:pt x="360" y="1363"/>
                  </a:lnTo>
                  <a:lnTo>
                    <a:pt x="366" y="1371"/>
                  </a:lnTo>
                  <a:lnTo>
                    <a:pt x="372" y="1378"/>
                  </a:lnTo>
                  <a:lnTo>
                    <a:pt x="379" y="1385"/>
                  </a:lnTo>
                  <a:lnTo>
                    <a:pt x="386" y="1391"/>
                  </a:lnTo>
                  <a:lnTo>
                    <a:pt x="394" y="1394"/>
                  </a:lnTo>
                  <a:lnTo>
                    <a:pt x="401" y="1398"/>
                  </a:lnTo>
                  <a:lnTo>
                    <a:pt x="410" y="1401"/>
                  </a:lnTo>
                  <a:lnTo>
                    <a:pt x="419" y="1403"/>
                  </a:lnTo>
                  <a:lnTo>
                    <a:pt x="428" y="1405"/>
                  </a:lnTo>
                  <a:lnTo>
                    <a:pt x="438" y="1405"/>
                  </a:lnTo>
                  <a:lnTo>
                    <a:pt x="448" y="1405"/>
                  </a:lnTo>
                  <a:lnTo>
                    <a:pt x="457" y="1403"/>
                  </a:lnTo>
                  <a:lnTo>
                    <a:pt x="467" y="1400"/>
                  </a:lnTo>
                  <a:lnTo>
                    <a:pt x="477" y="1394"/>
                  </a:lnTo>
                  <a:lnTo>
                    <a:pt x="487" y="1389"/>
                  </a:lnTo>
                  <a:lnTo>
                    <a:pt x="496" y="1381"/>
                  </a:lnTo>
                  <a:lnTo>
                    <a:pt x="505" y="1372"/>
                  </a:lnTo>
                  <a:lnTo>
                    <a:pt x="514" y="1362"/>
                  </a:lnTo>
                  <a:lnTo>
                    <a:pt x="524" y="1351"/>
                  </a:lnTo>
                  <a:lnTo>
                    <a:pt x="532" y="1338"/>
                  </a:lnTo>
                  <a:lnTo>
                    <a:pt x="541" y="1327"/>
                  </a:lnTo>
                  <a:lnTo>
                    <a:pt x="550" y="1315"/>
                  </a:lnTo>
                  <a:lnTo>
                    <a:pt x="558" y="1300"/>
                  </a:lnTo>
                  <a:lnTo>
                    <a:pt x="567" y="1286"/>
                  </a:lnTo>
                  <a:lnTo>
                    <a:pt x="575" y="1271"/>
                  </a:lnTo>
                  <a:lnTo>
                    <a:pt x="583" y="1255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3720" y="774720"/>
              <a:ext cx="411120" cy="579240"/>
            </a:xfrm>
            <a:custGeom>
              <a:avLst/>
              <a:gdLst/>
              <a:ahLst/>
              <a:rect l="l" t="t" r="r" b="b"/>
              <a:pathLst>
                <a:path w="1143" h="1610">
                  <a:moveTo>
                    <a:pt x="448" y="681"/>
                  </a:moveTo>
                  <a:lnTo>
                    <a:pt x="722" y="681"/>
                  </a:lnTo>
                  <a:lnTo>
                    <a:pt x="802" y="27"/>
                  </a:lnTo>
                  <a:lnTo>
                    <a:pt x="1072" y="5"/>
                  </a:lnTo>
                  <a:lnTo>
                    <a:pt x="1082" y="27"/>
                  </a:lnTo>
                  <a:lnTo>
                    <a:pt x="962" y="997"/>
                  </a:lnTo>
                  <a:lnTo>
                    <a:pt x="959" y="1022"/>
                  </a:lnTo>
                  <a:lnTo>
                    <a:pt x="955" y="1049"/>
                  </a:lnTo>
                  <a:lnTo>
                    <a:pt x="948" y="1118"/>
                  </a:lnTo>
                  <a:lnTo>
                    <a:pt x="945" y="1154"/>
                  </a:lnTo>
                  <a:lnTo>
                    <a:pt x="942" y="1183"/>
                  </a:lnTo>
                  <a:lnTo>
                    <a:pt x="941" y="1208"/>
                  </a:lnTo>
                  <a:lnTo>
                    <a:pt x="940" y="1219"/>
                  </a:lnTo>
                  <a:lnTo>
                    <a:pt x="940" y="1230"/>
                  </a:lnTo>
                  <a:lnTo>
                    <a:pt x="940" y="1252"/>
                  </a:lnTo>
                  <a:lnTo>
                    <a:pt x="942" y="1272"/>
                  </a:lnTo>
                  <a:lnTo>
                    <a:pt x="944" y="1290"/>
                  </a:lnTo>
                  <a:lnTo>
                    <a:pt x="945" y="1299"/>
                  </a:lnTo>
                  <a:lnTo>
                    <a:pt x="947" y="1306"/>
                  </a:lnTo>
                  <a:lnTo>
                    <a:pt x="947" y="1313"/>
                  </a:lnTo>
                  <a:lnTo>
                    <a:pt x="949" y="1320"/>
                  </a:lnTo>
                  <a:lnTo>
                    <a:pt x="951" y="1328"/>
                  </a:lnTo>
                  <a:lnTo>
                    <a:pt x="953" y="1333"/>
                  </a:lnTo>
                  <a:lnTo>
                    <a:pt x="955" y="1340"/>
                  </a:lnTo>
                  <a:lnTo>
                    <a:pt x="957" y="1346"/>
                  </a:lnTo>
                  <a:lnTo>
                    <a:pt x="959" y="1349"/>
                  </a:lnTo>
                  <a:lnTo>
                    <a:pt x="962" y="1355"/>
                  </a:lnTo>
                  <a:lnTo>
                    <a:pt x="965" y="1358"/>
                  </a:lnTo>
                  <a:lnTo>
                    <a:pt x="968" y="1362"/>
                  </a:lnTo>
                  <a:lnTo>
                    <a:pt x="971" y="1365"/>
                  </a:lnTo>
                  <a:lnTo>
                    <a:pt x="975" y="1369"/>
                  </a:lnTo>
                  <a:lnTo>
                    <a:pt x="983" y="1375"/>
                  </a:lnTo>
                  <a:lnTo>
                    <a:pt x="991" y="1380"/>
                  </a:lnTo>
                  <a:lnTo>
                    <a:pt x="1002" y="1382"/>
                  </a:lnTo>
                  <a:lnTo>
                    <a:pt x="1013" y="1385"/>
                  </a:lnTo>
                  <a:lnTo>
                    <a:pt x="1025" y="1387"/>
                  </a:lnTo>
                  <a:lnTo>
                    <a:pt x="1038" y="1387"/>
                  </a:lnTo>
                  <a:lnTo>
                    <a:pt x="1044" y="1387"/>
                  </a:lnTo>
                  <a:lnTo>
                    <a:pt x="1051" y="1385"/>
                  </a:lnTo>
                  <a:lnTo>
                    <a:pt x="1064" y="1384"/>
                  </a:lnTo>
                  <a:lnTo>
                    <a:pt x="1080" y="1378"/>
                  </a:lnTo>
                  <a:lnTo>
                    <a:pt x="1095" y="1371"/>
                  </a:lnTo>
                  <a:lnTo>
                    <a:pt x="1110" y="1364"/>
                  </a:lnTo>
                  <a:lnTo>
                    <a:pt x="1123" y="1356"/>
                  </a:lnTo>
                  <a:lnTo>
                    <a:pt x="1133" y="1349"/>
                  </a:lnTo>
                  <a:lnTo>
                    <a:pt x="1138" y="1346"/>
                  </a:lnTo>
                  <a:lnTo>
                    <a:pt x="1142" y="1342"/>
                  </a:lnTo>
                  <a:lnTo>
                    <a:pt x="1123" y="1483"/>
                  </a:lnTo>
                  <a:lnTo>
                    <a:pt x="990" y="1577"/>
                  </a:lnTo>
                  <a:lnTo>
                    <a:pt x="977" y="1584"/>
                  </a:lnTo>
                  <a:lnTo>
                    <a:pt x="964" y="1591"/>
                  </a:lnTo>
                  <a:lnTo>
                    <a:pt x="950" y="1597"/>
                  </a:lnTo>
                  <a:lnTo>
                    <a:pt x="935" y="1602"/>
                  </a:lnTo>
                  <a:lnTo>
                    <a:pt x="921" y="1604"/>
                  </a:lnTo>
                  <a:lnTo>
                    <a:pt x="905" y="1608"/>
                  </a:lnTo>
                  <a:lnTo>
                    <a:pt x="873" y="1609"/>
                  </a:lnTo>
                  <a:lnTo>
                    <a:pt x="851" y="1608"/>
                  </a:lnTo>
                  <a:lnTo>
                    <a:pt x="829" y="1604"/>
                  </a:lnTo>
                  <a:lnTo>
                    <a:pt x="808" y="1597"/>
                  </a:lnTo>
                  <a:lnTo>
                    <a:pt x="789" y="1588"/>
                  </a:lnTo>
                  <a:lnTo>
                    <a:pt x="770" y="1575"/>
                  </a:lnTo>
                  <a:lnTo>
                    <a:pt x="753" y="1561"/>
                  </a:lnTo>
                  <a:lnTo>
                    <a:pt x="737" y="1543"/>
                  </a:lnTo>
                  <a:lnTo>
                    <a:pt x="721" y="1521"/>
                  </a:lnTo>
                  <a:lnTo>
                    <a:pt x="714" y="1510"/>
                  </a:lnTo>
                  <a:lnTo>
                    <a:pt x="707" y="1497"/>
                  </a:lnTo>
                  <a:lnTo>
                    <a:pt x="701" y="1485"/>
                  </a:lnTo>
                  <a:lnTo>
                    <a:pt x="695" y="1472"/>
                  </a:lnTo>
                  <a:lnTo>
                    <a:pt x="690" y="1459"/>
                  </a:lnTo>
                  <a:lnTo>
                    <a:pt x="685" y="1445"/>
                  </a:lnTo>
                  <a:lnTo>
                    <a:pt x="681" y="1431"/>
                  </a:lnTo>
                  <a:lnTo>
                    <a:pt x="676" y="1416"/>
                  </a:lnTo>
                  <a:lnTo>
                    <a:pt x="673" y="1402"/>
                  </a:lnTo>
                  <a:lnTo>
                    <a:pt x="670" y="1385"/>
                  </a:lnTo>
                  <a:lnTo>
                    <a:pt x="668" y="1369"/>
                  </a:lnTo>
                  <a:lnTo>
                    <a:pt x="665" y="1353"/>
                  </a:lnTo>
                  <a:lnTo>
                    <a:pt x="663" y="1337"/>
                  </a:lnTo>
                  <a:lnTo>
                    <a:pt x="663" y="1319"/>
                  </a:lnTo>
                  <a:lnTo>
                    <a:pt x="662" y="1300"/>
                  </a:lnTo>
                  <a:lnTo>
                    <a:pt x="662" y="1282"/>
                  </a:lnTo>
                  <a:lnTo>
                    <a:pt x="662" y="1244"/>
                  </a:lnTo>
                  <a:lnTo>
                    <a:pt x="663" y="1210"/>
                  </a:lnTo>
                  <a:lnTo>
                    <a:pt x="663" y="1183"/>
                  </a:lnTo>
                  <a:lnTo>
                    <a:pt x="664" y="1160"/>
                  </a:lnTo>
                  <a:lnTo>
                    <a:pt x="666" y="1136"/>
                  </a:lnTo>
                  <a:lnTo>
                    <a:pt x="669" y="1109"/>
                  </a:lnTo>
                  <a:lnTo>
                    <a:pt x="672" y="1075"/>
                  </a:lnTo>
                  <a:lnTo>
                    <a:pt x="676" y="1037"/>
                  </a:lnTo>
                  <a:lnTo>
                    <a:pt x="702" y="833"/>
                  </a:lnTo>
                  <a:lnTo>
                    <a:pt x="429" y="833"/>
                  </a:lnTo>
                  <a:lnTo>
                    <a:pt x="336" y="1582"/>
                  </a:lnTo>
                  <a:lnTo>
                    <a:pt x="55" y="1582"/>
                  </a:lnTo>
                  <a:lnTo>
                    <a:pt x="176" y="612"/>
                  </a:lnTo>
                  <a:lnTo>
                    <a:pt x="189" y="498"/>
                  </a:lnTo>
                  <a:lnTo>
                    <a:pt x="193" y="464"/>
                  </a:lnTo>
                  <a:lnTo>
                    <a:pt x="195" y="433"/>
                  </a:lnTo>
                  <a:lnTo>
                    <a:pt x="196" y="419"/>
                  </a:lnTo>
                  <a:lnTo>
                    <a:pt x="196" y="404"/>
                  </a:lnTo>
                  <a:lnTo>
                    <a:pt x="197" y="392"/>
                  </a:lnTo>
                  <a:lnTo>
                    <a:pt x="197" y="379"/>
                  </a:lnTo>
                  <a:lnTo>
                    <a:pt x="197" y="357"/>
                  </a:lnTo>
                  <a:lnTo>
                    <a:pt x="196" y="338"/>
                  </a:lnTo>
                  <a:lnTo>
                    <a:pt x="195" y="320"/>
                  </a:lnTo>
                  <a:lnTo>
                    <a:pt x="193" y="312"/>
                  </a:lnTo>
                  <a:lnTo>
                    <a:pt x="192" y="303"/>
                  </a:lnTo>
                  <a:lnTo>
                    <a:pt x="191" y="296"/>
                  </a:lnTo>
                  <a:lnTo>
                    <a:pt x="189" y="289"/>
                  </a:lnTo>
                  <a:lnTo>
                    <a:pt x="188" y="282"/>
                  </a:lnTo>
                  <a:lnTo>
                    <a:pt x="186" y="276"/>
                  </a:lnTo>
                  <a:lnTo>
                    <a:pt x="184" y="271"/>
                  </a:lnTo>
                  <a:lnTo>
                    <a:pt x="182" y="265"/>
                  </a:lnTo>
                  <a:lnTo>
                    <a:pt x="180" y="260"/>
                  </a:lnTo>
                  <a:lnTo>
                    <a:pt x="177" y="256"/>
                  </a:lnTo>
                  <a:lnTo>
                    <a:pt x="175" y="253"/>
                  </a:lnTo>
                  <a:lnTo>
                    <a:pt x="171" y="247"/>
                  </a:lnTo>
                  <a:lnTo>
                    <a:pt x="169" y="244"/>
                  </a:lnTo>
                  <a:lnTo>
                    <a:pt x="165" y="242"/>
                  </a:lnTo>
                  <a:lnTo>
                    <a:pt x="161" y="238"/>
                  </a:lnTo>
                  <a:lnTo>
                    <a:pt x="158" y="235"/>
                  </a:lnTo>
                  <a:lnTo>
                    <a:pt x="149" y="231"/>
                  </a:lnTo>
                  <a:lnTo>
                    <a:pt x="140" y="227"/>
                  </a:lnTo>
                  <a:lnTo>
                    <a:pt x="128" y="224"/>
                  </a:lnTo>
                  <a:lnTo>
                    <a:pt x="117" y="222"/>
                  </a:lnTo>
                  <a:lnTo>
                    <a:pt x="104" y="222"/>
                  </a:lnTo>
                  <a:lnTo>
                    <a:pt x="97" y="222"/>
                  </a:lnTo>
                  <a:lnTo>
                    <a:pt x="91" y="224"/>
                  </a:lnTo>
                  <a:lnTo>
                    <a:pt x="84" y="224"/>
                  </a:lnTo>
                  <a:lnTo>
                    <a:pt x="77" y="226"/>
                  </a:lnTo>
                  <a:lnTo>
                    <a:pt x="70" y="229"/>
                  </a:lnTo>
                  <a:lnTo>
                    <a:pt x="63" y="231"/>
                  </a:lnTo>
                  <a:lnTo>
                    <a:pt x="49" y="238"/>
                  </a:lnTo>
                  <a:lnTo>
                    <a:pt x="35" y="245"/>
                  </a:lnTo>
                  <a:lnTo>
                    <a:pt x="23" y="253"/>
                  </a:lnTo>
                  <a:lnTo>
                    <a:pt x="0" y="267"/>
                  </a:lnTo>
                  <a:lnTo>
                    <a:pt x="19" y="126"/>
                  </a:lnTo>
                  <a:lnTo>
                    <a:pt x="53" y="101"/>
                  </a:lnTo>
                  <a:lnTo>
                    <a:pt x="86" y="77"/>
                  </a:lnTo>
                  <a:lnTo>
                    <a:pt x="150" y="36"/>
                  </a:lnTo>
                  <a:lnTo>
                    <a:pt x="181" y="20"/>
                  </a:lnTo>
                  <a:lnTo>
                    <a:pt x="211" y="9"/>
                  </a:lnTo>
                  <a:lnTo>
                    <a:pt x="226" y="5"/>
                  </a:lnTo>
                  <a:lnTo>
                    <a:pt x="240" y="2"/>
                  </a:lnTo>
                  <a:lnTo>
                    <a:pt x="255" y="0"/>
                  </a:lnTo>
                  <a:lnTo>
                    <a:pt x="269" y="0"/>
                  </a:lnTo>
                  <a:lnTo>
                    <a:pt x="294" y="2"/>
                  </a:lnTo>
                  <a:lnTo>
                    <a:pt x="318" y="5"/>
                  </a:lnTo>
                  <a:lnTo>
                    <a:pt x="340" y="12"/>
                  </a:lnTo>
                  <a:lnTo>
                    <a:pt x="360" y="23"/>
                  </a:lnTo>
                  <a:lnTo>
                    <a:pt x="379" y="36"/>
                  </a:lnTo>
                  <a:lnTo>
                    <a:pt x="387" y="43"/>
                  </a:lnTo>
                  <a:lnTo>
                    <a:pt x="396" y="52"/>
                  </a:lnTo>
                  <a:lnTo>
                    <a:pt x="404" y="61"/>
                  </a:lnTo>
                  <a:lnTo>
                    <a:pt x="411" y="72"/>
                  </a:lnTo>
                  <a:lnTo>
                    <a:pt x="418" y="83"/>
                  </a:lnTo>
                  <a:lnTo>
                    <a:pt x="425" y="94"/>
                  </a:lnTo>
                  <a:lnTo>
                    <a:pt x="437" y="119"/>
                  </a:lnTo>
                  <a:lnTo>
                    <a:pt x="443" y="132"/>
                  </a:lnTo>
                  <a:lnTo>
                    <a:pt x="448" y="144"/>
                  </a:lnTo>
                  <a:lnTo>
                    <a:pt x="453" y="157"/>
                  </a:lnTo>
                  <a:lnTo>
                    <a:pt x="457" y="171"/>
                  </a:lnTo>
                  <a:lnTo>
                    <a:pt x="461" y="186"/>
                  </a:lnTo>
                  <a:lnTo>
                    <a:pt x="465" y="200"/>
                  </a:lnTo>
                  <a:lnTo>
                    <a:pt x="467" y="215"/>
                  </a:lnTo>
                  <a:lnTo>
                    <a:pt x="471" y="231"/>
                  </a:lnTo>
                  <a:lnTo>
                    <a:pt x="472" y="245"/>
                  </a:lnTo>
                  <a:lnTo>
                    <a:pt x="474" y="262"/>
                  </a:lnTo>
                  <a:lnTo>
                    <a:pt x="476" y="278"/>
                  </a:lnTo>
                  <a:lnTo>
                    <a:pt x="477" y="294"/>
                  </a:lnTo>
                  <a:lnTo>
                    <a:pt x="478" y="312"/>
                  </a:lnTo>
                  <a:lnTo>
                    <a:pt x="478" y="329"/>
                  </a:lnTo>
                  <a:lnTo>
                    <a:pt x="478" y="357"/>
                  </a:lnTo>
                  <a:lnTo>
                    <a:pt x="477" y="385"/>
                  </a:lnTo>
                  <a:lnTo>
                    <a:pt x="476" y="412"/>
                  </a:lnTo>
                  <a:lnTo>
                    <a:pt x="474" y="441"/>
                  </a:lnTo>
                  <a:lnTo>
                    <a:pt x="473" y="455"/>
                  </a:lnTo>
                  <a:lnTo>
                    <a:pt x="472" y="469"/>
                  </a:lnTo>
                  <a:lnTo>
                    <a:pt x="469" y="502"/>
                  </a:lnTo>
                  <a:lnTo>
                    <a:pt x="461" y="572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99280" y="774720"/>
              <a:ext cx="411480" cy="585720"/>
            </a:xfrm>
            <a:custGeom>
              <a:avLst/>
              <a:gdLst/>
              <a:ahLst/>
              <a:rect l="l" t="t" r="r" b="b"/>
              <a:pathLst>
                <a:path w="1141" h="1628">
                  <a:moveTo>
                    <a:pt x="650" y="1329"/>
                  </a:moveTo>
                  <a:lnTo>
                    <a:pt x="644" y="1329"/>
                  </a:lnTo>
                  <a:lnTo>
                    <a:pt x="600" y="1400"/>
                  </a:lnTo>
                  <a:lnTo>
                    <a:pt x="557" y="1461"/>
                  </a:lnTo>
                  <a:lnTo>
                    <a:pt x="537" y="1488"/>
                  </a:lnTo>
                  <a:lnTo>
                    <a:pt x="516" y="1513"/>
                  </a:lnTo>
                  <a:lnTo>
                    <a:pt x="495" y="1535"/>
                  </a:lnTo>
                  <a:lnTo>
                    <a:pt x="475" y="1555"/>
                  </a:lnTo>
                  <a:lnTo>
                    <a:pt x="455" y="1571"/>
                  </a:lnTo>
                  <a:lnTo>
                    <a:pt x="433" y="1587"/>
                  </a:lnTo>
                  <a:lnTo>
                    <a:pt x="411" y="1600"/>
                  </a:lnTo>
                  <a:lnTo>
                    <a:pt x="389" y="1609"/>
                  </a:lnTo>
                  <a:lnTo>
                    <a:pt x="364" y="1616"/>
                  </a:lnTo>
                  <a:lnTo>
                    <a:pt x="340" y="1624"/>
                  </a:lnTo>
                  <a:lnTo>
                    <a:pt x="315" y="1625"/>
                  </a:lnTo>
                  <a:lnTo>
                    <a:pt x="289" y="1627"/>
                  </a:lnTo>
                  <a:lnTo>
                    <a:pt x="266" y="1625"/>
                  </a:lnTo>
                  <a:lnTo>
                    <a:pt x="244" y="1622"/>
                  </a:lnTo>
                  <a:lnTo>
                    <a:pt x="224" y="1613"/>
                  </a:lnTo>
                  <a:lnTo>
                    <a:pt x="205" y="1604"/>
                  </a:lnTo>
                  <a:lnTo>
                    <a:pt x="188" y="1589"/>
                  </a:lnTo>
                  <a:lnTo>
                    <a:pt x="180" y="1582"/>
                  </a:lnTo>
                  <a:lnTo>
                    <a:pt x="172" y="1573"/>
                  </a:lnTo>
                  <a:lnTo>
                    <a:pt x="165" y="1564"/>
                  </a:lnTo>
                  <a:lnTo>
                    <a:pt x="157" y="1553"/>
                  </a:lnTo>
                  <a:lnTo>
                    <a:pt x="151" y="1542"/>
                  </a:lnTo>
                  <a:lnTo>
                    <a:pt x="144" y="1531"/>
                  </a:lnTo>
                  <a:lnTo>
                    <a:pt x="132" y="1506"/>
                  </a:lnTo>
                  <a:lnTo>
                    <a:pt x="122" y="1481"/>
                  </a:lnTo>
                  <a:lnTo>
                    <a:pt x="117" y="1466"/>
                  </a:lnTo>
                  <a:lnTo>
                    <a:pt x="112" y="1454"/>
                  </a:lnTo>
                  <a:lnTo>
                    <a:pt x="109" y="1439"/>
                  </a:lnTo>
                  <a:lnTo>
                    <a:pt x="106" y="1425"/>
                  </a:lnTo>
                  <a:lnTo>
                    <a:pt x="102" y="1410"/>
                  </a:lnTo>
                  <a:lnTo>
                    <a:pt x="100" y="1394"/>
                  </a:lnTo>
                  <a:lnTo>
                    <a:pt x="98" y="1380"/>
                  </a:lnTo>
                  <a:lnTo>
                    <a:pt x="96" y="1363"/>
                  </a:lnTo>
                  <a:lnTo>
                    <a:pt x="94" y="1347"/>
                  </a:lnTo>
                  <a:lnTo>
                    <a:pt x="93" y="1331"/>
                  </a:lnTo>
                  <a:lnTo>
                    <a:pt x="93" y="1315"/>
                  </a:lnTo>
                  <a:lnTo>
                    <a:pt x="93" y="1298"/>
                  </a:lnTo>
                  <a:lnTo>
                    <a:pt x="93" y="1273"/>
                  </a:lnTo>
                  <a:lnTo>
                    <a:pt x="93" y="1248"/>
                  </a:lnTo>
                  <a:lnTo>
                    <a:pt x="94" y="1223"/>
                  </a:lnTo>
                  <a:lnTo>
                    <a:pt x="95" y="1197"/>
                  </a:lnTo>
                  <a:lnTo>
                    <a:pt x="98" y="1170"/>
                  </a:lnTo>
                  <a:lnTo>
                    <a:pt x="101" y="1138"/>
                  </a:lnTo>
                  <a:lnTo>
                    <a:pt x="106" y="1100"/>
                  </a:lnTo>
                  <a:lnTo>
                    <a:pt x="112" y="1056"/>
                  </a:lnTo>
                  <a:lnTo>
                    <a:pt x="175" y="614"/>
                  </a:lnTo>
                  <a:lnTo>
                    <a:pt x="179" y="589"/>
                  </a:lnTo>
                  <a:lnTo>
                    <a:pt x="182" y="561"/>
                  </a:lnTo>
                  <a:lnTo>
                    <a:pt x="189" y="493"/>
                  </a:lnTo>
                  <a:lnTo>
                    <a:pt x="193" y="457"/>
                  </a:lnTo>
                  <a:lnTo>
                    <a:pt x="196" y="426"/>
                  </a:lnTo>
                  <a:lnTo>
                    <a:pt x="197" y="413"/>
                  </a:lnTo>
                  <a:lnTo>
                    <a:pt x="197" y="401"/>
                  </a:lnTo>
                  <a:lnTo>
                    <a:pt x="198" y="390"/>
                  </a:lnTo>
                  <a:lnTo>
                    <a:pt x="198" y="379"/>
                  </a:lnTo>
                  <a:lnTo>
                    <a:pt x="198" y="357"/>
                  </a:lnTo>
                  <a:lnTo>
                    <a:pt x="197" y="339"/>
                  </a:lnTo>
                  <a:lnTo>
                    <a:pt x="195" y="321"/>
                  </a:lnTo>
                  <a:lnTo>
                    <a:pt x="192" y="305"/>
                  </a:lnTo>
                  <a:lnTo>
                    <a:pt x="192" y="298"/>
                  </a:lnTo>
                  <a:lnTo>
                    <a:pt x="190" y="290"/>
                  </a:lnTo>
                  <a:lnTo>
                    <a:pt x="188" y="285"/>
                  </a:lnTo>
                  <a:lnTo>
                    <a:pt x="186" y="278"/>
                  </a:lnTo>
                  <a:lnTo>
                    <a:pt x="185" y="272"/>
                  </a:lnTo>
                  <a:lnTo>
                    <a:pt x="183" y="267"/>
                  </a:lnTo>
                  <a:lnTo>
                    <a:pt x="181" y="263"/>
                  </a:lnTo>
                  <a:lnTo>
                    <a:pt x="179" y="258"/>
                  </a:lnTo>
                  <a:lnTo>
                    <a:pt x="176" y="254"/>
                  </a:lnTo>
                  <a:lnTo>
                    <a:pt x="173" y="249"/>
                  </a:lnTo>
                  <a:lnTo>
                    <a:pt x="170" y="245"/>
                  </a:lnTo>
                  <a:lnTo>
                    <a:pt x="167" y="242"/>
                  </a:lnTo>
                  <a:lnTo>
                    <a:pt x="163" y="240"/>
                  </a:lnTo>
                  <a:lnTo>
                    <a:pt x="159" y="236"/>
                  </a:lnTo>
                  <a:lnTo>
                    <a:pt x="150" y="231"/>
                  </a:lnTo>
                  <a:lnTo>
                    <a:pt x="140" y="227"/>
                  </a:lnTo>
                  <a:lnTo>
                    <a:pt x="130" y="224"/>
                  </a:lnTo>
                  <a:lnTo>
                    <a:pt x="117" y="222"/>
                  </a:lnTo>
                  <a:lnTo>
                    <a:pt x="104" y="222"/>
                  </a:lnTo>
                  <a:lnTo>
                    <a:pt x="97" y="222"/>
                  </a:lnTo>
                  <a:lnTo>
                    <a:pt x="90" y="224"/>
                  </a:lnTo>
                  <a:lnTo>
                    <a:pt x="83" y="224"/>
                  </a:lnTo>
                  <a:lnTo>
                    <a:pt x="76" y="225"/>
                  </a:lnTo>
                  <a:lnTo>
                    <a:pt x="69" y="229"/>
                  </a:lnTo>
                  <a:lnTo>
                    <a:pt x="63" y="231"/>
                  </a:lnTo>
                  <a:lnTo>
                    <a:pt x="49" y="238"/>
                  </a:lnTo>
                  <a:lnTo>
                    <a:pt x="35" y="245"/>
                  </a:lnTo>
                  <a:lnTo>
                    <a:pt x="22" y="252"/>
                  </a:lnTo>
                  <a:lnTo>
                    <a:pt x="0" y="267"/>
                  </a:lnTo>
                  <a:lnTo>
                    <a:pt x="19" y="126"/>
                  </a:lnTo>
                  <a:lnTo>
                    <a:pt x="52" y="101"/>
                  </a:lnTo>
                  <a:lnTo>
                    <a:pt x="86" y="77"/>
                  </a:lnTo>
                  <a:lnTo>
                    <a:pt x="150" y="36"/>
                  </a:lnTo>
                  <a:lnTo>
                    <a:pt x="181" y="19"/>
                  </a:lnTo>
                  <a:lnTo>
                    <a:pt x="211" y="9"/>
                  </a:lnTo>
                  <a:lnTo>
                    <a:pt x="226" y="5"/>
                  </a:lnTo>
                  <a:lnTo>
                    <a:pt x="241" y="1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93" y="1"/>
                  </a:lnTo>
                  <a:lnTo>
                    <a:pt x="316" y="5"/>
                  </a:lnTo>
                  <a:lnTo>
                    <a:pt x="338" y="12"/>
                  </a:lnTo>
                  <a:lnTo>
                    <a:pt x="358" y="23"/>
                  </a:lnTo>
                  <a:lnTo>
                    <a:pt x="377" y="36"/>
                  </a:lnTo>
                  <a:lnTo>
                    <a:pt x="395" y="52"/>
                  </a:lnTo>
                  <a:lnTo>
                    <a:pt x="402" y="61"/>
                  </a:lnTo>
                  <a:lnTo>
                    <a:pt x="410" y="72"/>
                  </a:lnTo>
                  <a:lnTo>
                    <a:pt x="418" y="83"/>
                  </a:lnTo>
                  <a:lnTo>
                    <a:pt x="425" y="94"/>
                  </a:lnTo>
                  <a:lnTo>
                    <a:pt x="438" y="117"/>
                  </a:lnTo>
                  <a:lnTo>
                    <a:pt x="443" y="130"/>
                  </a:lnTo>
                  <a:lnTo>
                    <a:pt x="449" y="144"/>
                  </a:lnTo>
                  <a:lnTo>
                    <a:pt x="453" y="157"/>
                  </a:lnTo>
                  <a:lnTo>
                    <a:pt x="457" y="169"/>
                  </a:lnTo>
                  <a:lnTo>
                    <a:pt x="462" y="184"/>
                  </a:lnTo>
                  <a:lnTo>
                    <a:pt x="465" y="198"/>
                  </a:lnTo>
                  <a:lnTo>
                    <a:pt x="469" y="213"/>
                  </a:lnTo>
                  <a:lnTo>
                    <a:pt x="471" y="229"/>
                  </a:lnTo>
                  <a:lnTo>
                    <a:pt x="474" y="243"/>
                  </a:lnTo>
                  <a:lnTo>
                    <a:pt x="475" y="260"/>
                  </a:lnTo>
                  <a:lnTo>
                    <a:pt x="477" y="276"/>
                  </a:lnTo>
                  <a:lnTo>
                    <a:pt x="478" y="292"/>
                  </a:lnTo>
                  <a:lnTo>
                    <a:pt x="479" y="308"/>
                  </a:lnTo>
                  <a:lnTo>
                    <a:pt x="479" y="327"/>
                  </a:lnTo>
                  <a:lnTo>
                    <a:pt x="479" y="343"/>
                  </a:lnTo>
                  <a:lnTo>
                    <a:pt x="478" y="366"/>
                  </a:lnTo>
                  <a:lnTo>
                    <a:pt x="477" y="395"/>
                  </a:lnTo>
                  <a:lnTo>
                    <a:pt x="475" y="430"/>
                  </a:lnTo>
                  <a:lnTo>
                    <a:pt x="475" y="448"/>
                  </a:lnTo>
                  <a:lnTo>
                    <a:pt x="474" y="467"/>
                  </a:lnTo>
                  <a:lnTo>
                    <a:pt x="472" y="486"/>
                  </a:lnTo>
                  <a:lnTo>
                    <a:pt x="470" y="504"/>
                  </a:lnTo>
                  <a:lnTo>
                    <a:pt x="467" y="538"/>
                  </a:lnTo>
                  <a:lnTo>
                    <a:pt x="462" y="570"/>
                  </a:lnTo>
                  <a:lnTo>
                    <a:pt x="400" y="990"/>
                  </a:lnTo>
                  <a:lnTo>
                    <a:pt x="396" y="1017"/>
                  </a:lnTo>
                  <a:lnTo>
                    <a:pt x="392" y="1047"/>
                  </a:lnTo>
                  <a:lnTo>
                    <a:pt x="389" y="1076"/>
                  </a:lnTo>
                  <a:lnTo>
                    <a:pt x="386" y="1109"/>
                  </a:lnTo>
                  <a:lnTo>
                    <a:pt x="383" y="1139"/>
                  </a:lnTo>
                  <a:lnTo>
                    <a:pt x="383" y="1165"/>
                  </a:lnTo>
                  <a:lnTo>
                    <a:pt x="381" y="1185"/>
                  </a:lnTo>
                  <a:lnTo>
                    <a:pt x="381" y="1194"/>
                  </a:lnTo>
                  <a:lnTo>
                    <a:pt x="381" y="1201"/>
                  </a:lnTo>
                  <a:lnTo>
                    <a:pt x="381" y="1219"/>
                  </a:lnTo>
                  <a:lnTo>
                    <a:pt x="382" y="1235"/>
                  </a:lnTo>
                  <a:lnTo>
                    <a:pt x="383" y="1251"/>
                  </a:lnTo>
                  <a:lnTo>
                    <a:pt x="386" y="1268"/>
                  </a:lnTo>
                  <a:lnTo>
                    <a:pt x="389" y="1282"/>
                  </a:lnTo>
                  <a:lnTo>
                    <a:pt x="392" y="1295"/>
                  </a:lnTo>
                  <a:lnTo>
                    <a:pt x="395" y="1307"/>
                  </a:lnTo>
                  <a:lnTo>
                    <a:pt x="400" y="1318"/>
                  </a:lnTo>
                  <a:lnTo>
                    <a:pt x="402" y="1324"/>
                  </a:lnTo>
                  <a:lnTo>
                    <a:pt x="405" y="1329"/>
                  </a:lnTo>
                  <a:lnTo>
                    <a:pt x="407" y="1333"/>
                  </a:lnTo>
                  <a:lnTo>
                    <a:pt x="411" y="1338"/>
                  </a:lnTo>
                  <a:lnTo>
                    <a:pt x="414" y="1342"/>
                  </a:lnTo>
                  <a:lnTo>
                    <a:pt x="418" y="1345"/>
                  </a:lnTo>
                  <a:lnTo>
                    <a:pt x="421" y="1347"/>
                  </a:lnTo>
                  <a:lnTo>
                    <a:pt x="426" y="1351"/>
                  </a:lnTo>
                  <a:lnTo>
                    <a:pt x="433" y="1356"/>
                  </a:lnTo>
                  <a:lnTo>
                    <a:pt x="443" y="1360"/>
                  </a:lnTo>
                  <a:lnTo>
                    <a:pt x="453" y="1362"/>
                  </a:lnTo>
                  <a:lnTo>
                    <a:pt x="464" y="1362"/>
                  </a:lnTo>
                  <a:lnTo>
                    <a:pt x="473" y="1362"/>
                  </a:lnTo>
                  <a:lnTo>
                    <a:pt x="481" y="1358"/>
                  </a:lnTo>
                  <a:lnTo>
                    <a:pt x="492" y="1354"/>
                  </a:lnTo>
                  <a:lnTo>
                    <a:pt x="502" y="1349"/>
                  </a:lnTo>
                  <a:lnTo>
                    <a:pt x="513" y="1342"/>
                  </a:lnTo>
                  <a:lnTo>
                    <a:pt x="525" y="1333"/>
                  </a:lnTo>
                  <a:lnTo>
                    <a:pt x="551" y="1309"/>
                  </a:lnTo>
                  <a:lnTo>
                    <a:pt x="565" y="1297"/>
                  </a:lnTo>
                  <a:lnTo>
                    <a:pt x="578" y="1280"/>
                  </a:lnTo>
                  <a:lnTo>
                    <a:pt x="592" y="1264"/>
                  </a:lnTo>
                  <a:lnTo>
                    <a:pt x="605" y="1248"/>
                  </a:lnTo>
                  <a:lnTo>
                    <a:pt x="619" y="1228"/>
                  </a:lnTo>
                  <a:lnTo>
                    <a:pt x="632" y="1208"/>
                  </a:lnTo>
                  <a:lnTo>
                    <a:pt x="646" y="1186"/>
                  </a:lnTo>
                  <a:lnTo>
                    <a:pt x="659" y="1163"/>
                  </a:lnTo>
                  <a:lnTo>
                    <a:pt x="799" y="27"/>
                  </a:lnTo>
                  <a:lnTo>
                    <a:pt x="1070" y="5"/>
                  </a:lnTo>
                  <a:lnTo>
                    <a:pt x="1080" y="27"/>
                  </a:lnTo>
                  <a:lnTo>
                    <a:pt x="960" y="995"/>
                  </a:lnTo>
                  <a:lnTo>
                    <a:pt x="956" y="1020"/>
                  </a:lnTo>
                  <a:lnTo>
                    <a:pt x="953" y="1047"/>
                  </a:lnTo>
                  <a:lnTo>
                    <a:pt x="945" y="1116"/>
                  </a:lnTo>
                  <a:lnTo>
                    <a:pt x="942" y="1152"/>
                  </a:lnTo>
                  <a:lnTo>
                    <a:pt x="939" y="1183"/>
                  </a:lnTo>
                  <a:lnTo>
                    <a:pt x="938" y="1208"/>
                  </a:lnTo>
                  <a:lnTo>
                    <a:pt x="937" y="1219"/>
                  </a:lnTo>
                  <a:lnTo>
                    <a:pt x="937" y="1228"/>
                  </a:lnTo>
                  <a:lnTo>
                    <a:pt x="937" y="1250"/>
                  </a:lnTo>
                  <a:lnTo>
                    <a:pt x="939" y="1270"/>
                  </a:lnTo>
                  <a:lnTo>
                    <a:pt x="940" y="1289"/>
                  </a:lnTo>
                  <a:lnTo>
                    <a:pt x="942" y="1297"/>
                  </a:lnTo>
                  <a:lnTo>
                    <a:pt x="943" y="1306"/>
                  </a:lnTo>
                  <a:lnTo>
                    <a:pt x="944" y="1313"/>
                  </a:lnTo>
                  <a:lnTo>
                    <a:pt x="946" y="1320"/>
                  </a:lnTo>
                  <a:lnTo>
                    <a:pt x="948" y="1327"/>
                  </a:lnTo>
                  <a:lnTo>
                    <a:pt x="949" y="1333"/>
                  </a:lnTo>
                  <a:lnTo>
                    <a:pt x="951" y="1338"/>
                  </a:lnTo>
                  <a:lnTo>
                    <a:pt x="954" y="1344"/>
                  </a:lnTo>
                  <a:lnTo>
                    <a:pt x="956" y="1349"/>
                  </a:lnTo>
                  <a:lnTo>
                    <a:pt x="959" y="1353"/>
                  </a:lnTo>
                  <a:lnTo>
                    <a:pt x="962" y="1356"/>
                  </a:lnTo>
                  <a:lnTo>
                    <a:pt x="965" y="1360"/>
                  </a:lnTo>
                  <a:lnTo>
                    <a:pt x="968" y="1363"/>
                  </a:lnTo>
                  <a:lnTo>
                    <a:pt x="972" y="1367"/>
                  </a:lnTo>
                  <a:lnTo>
                    <a:pt x="980" y="1373"/>
                  </a:lnTo>
                  <a:lnTo>
                    <a:pt x="989" y="1378"/>
                  </a:lnTo>
                  <a:lnTo>
                    <a:pt x="999" y="1380"/>
                  </a:lnTo>
                  <a:lnTo>
                    <a:pt x="1010" y="1383"/>
                  </a:lnTo>
                  <a:lnTo>
                    <a:pt x="1023" y="1385"/>
                  </a:lnTo>
                  <a:lnTo>
                    <a:pt x="1036" y="1385"/>
                  </a:lnTo>
                  <a:lnTo>
                    <a:pt x="1042" y="1385"/>
                  </a:lnTo>
                  <a:lnTo>
                    <a:pt x="1048" y="1383"/>
                  </a:lnTo>
                  <a:lnTo>
                    <a:pt x="1062" y="1382"/>
                  </a:lnTo>
                  <a:lnTo>
                    <a:pt x="1078" y="1376"/>
                  </a:lnTo>
                  <a:lnTo>
                    <a:pt x="1093" y="1369"/>
                  </a:lnTo>
                  <a:lnTo>
                    <a:pt x="1108" y="1362"/>
                  </a:lnTo>
                  <a:lnTo>
                    <a:pt x="1121" y="1354"/>
                  </a:lnTo>
                  <a:lnTo>
                    <a:pt x="1131" y="1347"/>
                  </a:lnTo>
                  <a:lnTo>
                    <a:pt x="1136" y="1344"/>
                  </a:lnTo>
                  <a:lnTo>
                    <a:pt x="1140" y="1340"/>
                  </a:lnTo>
                  <a:lnTo>
                    <a:pt x="1121" y="1481"/>
                  </a:lnTo>
                  <a:lnTo>
                    <a:pt x="986" y="1575"/>
                  </a:lnTo>
                  <a:lnTo>
                    <a:pt x="974" y="1582"/>
                  </a:lnTo>
                  <a:lnTo>
                    <a:pt x="961" y="1589"/>
                  </a:lnTo>
                  <a:lnTo>
                    <a:pt x="947" y="1595"/>
                  </a:lnTo>
                  <a:lnTo>
                    <a:pt x="932" y="1600"/>
                  </a:lnTo>
                  <a:lnTo>
                    <a:pt x="918" y="1602"/>
                  </a:lnTo>
                  <a:lnTo>
                    <a:pt x="902" y="1606"/>
                  </a:lnTo>
                  <a:lnTo>
                    <a:pt x="870" y="1607"/>
                  </a:lnTo>
                  <a:lnTo>
                    <a:pt x="848" y="1606"/>
                  </a:lnTo>
                  <a:lnTo>
                    <a:pt x="826" y="1602"/>
                  </a:lnTo>
                  <a:lnTo>
                    <a:pt x="806" y="1597"/>
                  </a:lnTo>
                  <a:lnTo>
                    <a:pt x="787" y="1587"/>
                  </a:lnTo>
                  <a:lnTo>
                    <a:pt x="768" y="1577"/>
                  </a:lnTo>
                  <a:lnTo>
                    <a:pt x="752" y="1564"/>
                  </a:lnTo>
                  <a:lnTo>
                    <a:pt x="735" y="1548"/>
                  </a:lnTo>
                  <a:lnTo>
                    <a:pt x="721" y="1530"/>
                  </a:lnTo>
                  <a:lnTo>
                    <a:pt x="708" y="1510"/>
                  </a:lnTo>
                  <a:lnTo>
                    <a:pt x="696" y="1488"/>
                  </a:lnTo>
                  <a:lnTo>
                    <a:pt x="685" y="1465"/>
                  </a:lnTo>
                  <a:lnTo>
                    <a:pt x="675" y="1441"/>
                  </a:lnTo>
                  <a:lnTo>
                    <a:pt x="666" y="1414"/>
                  </a:lnTo>
                  <a:lnTo>
                    <a:pt x="660" y="1387"/>
                  </a:lnTo>
                  <a:lnTo>
                    <a:pt x="657" y="1373"/>
                  </a:lnTo>
                  <a:lnTo>
                    <a:pt x="654" y="1360"/>
                  </a:lnTo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64680" y="768240"/>
              <a:ext cx="403200" cy="587520"/>
            </a:xfrm>
            <a:custGeom>
              <a:avLst/>
              <a:gdLst/>
              <a:ahLst/>
              <a:rect l="l" t="t" r="r" b="b"/>
              <a:pathLst>
                <a:path w="1120" h="1630">
                  <a:moveTo>
                    <a:pt x="657" y="124"/>
                  </a:moveTo>
                  <a:lnTo>
                    <a:pt x="648" y="124"/>
                  </a:lnTo>
                  <a:lnTo>
                    <a:pt x="639" y="126"/>
                  </a:lnTo>
                  <a:lnTo>
                    <a:pt x="630" y="128"/>
                  </a:lnTo>
                  <a:lnTo>
                    <a:pt x="622" y="130"/>
                  </a:lnTo>
                  <a:lnTo>
                    <a:pt x="614" y="133"/>
                  </a:lnTo>
                  <a:lnTo>
                    <a:pt x="605" y="137"/>
                  </a:lnTo>
                  <a:lnTo>
                    <a:pt x="597" y="140"/>
                  </a:lnTo>
                  <a:lnTo>
                    <a:pt x="589" y="146"/>
                  </a:lnTo>
                  <a:lnTo>
                    <a:pt x="581" y="151"/>
                  </a:lnTo>
                  <a:lnTo>
                    <a:pt x="573" y="158"/>
                  </a:lnTo>
                  <a:lnTo>
                    <a:pt x="566" y="166"/>
                  </a:lnTo>
                  <a:lnTo>
                    <a:pt x="558" y="175"/>
                  </a:lnTo>
                  <a:lnTo>
                    <a:pt x="550" y="184"/>
                  </a:lnTo>
                  <a:lnTo>
                    <a:pt x="543" y="193"/>
                  </a:lnTo>
                  <a:lnTo>
                    <a:pt x="536" y="204"/>
                  </a:lnTo>
                  <a:lnTo>
                    <a:pt x="530" y="214"/>
                  </a:lnTo>
                  <a:lnTo>
                    <a:pt x="523" y="225"/>
                  </a:lnTo>
                  <a:lnTo>
                    <a:pt x="517" y="238"/>
                  </a:lnTo>
                  <a:lnTo>
                    <a:pt x="511" y="251"/>
                  </a:lnTo>
                  <a:lnTo>
                    <a:pt x="505" y="265"/>
                  </a:lnTo>
                  <a:lnTo>
                    <a:pt x="500" y="281"/>
                  </a:lnTo>
                  <a:lnTo>
                    <a:pt x="496" y="298"/>
                  </a:lnTo>
                  <a:lnTo>
                    <a:pt x="492" y="314"/>
                  </a:lnTo>
                  <a:lnTo>
                    <a:pt x="487" y="332"/>
                  </a:lnTo>
                  <a:lnTo>
                    <a:pt x="484" y="350"/>
                  </a:lnTo>
                  <a:lnTo>
                    <a:pt x="480" y="368"/>
                  </a:lnTo>
                  <a:lnTo>
                    <a:pt x="478" y="388"/>
                  </a:lnTo>
                  <a:lnTo>
                    <a:pt x="476" y="410"/>
                  </a:lnTo>
                  <a:lnTo>
                    <a:pt x="474" y="431"/>
                  </a:lnTo>
                  <a:lnTo>
                    <a:pt x="473" y="453"/>
                  </a:lnTo>
                  <a:lnTo>
                    <a:pt x="472" y="476"/>
                  </a:lnTo>
                  <a:lnTo>
                    <a:pt x="472" y="500"/>
                  </a:lnTo>
                  <a:lnTo>
                    <a:pt x="473" y="531"/>
                  </a:lnTo>
                  <a:lnTo>
                    <a:pt x="474" y="561"/>
                  </a:lnTo>
                  <a:lnTo>
                    <a:pt x="477" y="588"/>
                  </a:lnTo>
                  <a:lnTo>
                    <a:pt x="481" y="616"/>
                  </a:lnTo>
                  <a:lnTo>
                    <a:pt x="483" y="628"/>
                  </a:lnTo>
                  <a:lnTo>
                    <a:pt x="487" y="641"/>
                  </a:lnTo>
                  <a:lnTo>
                    <a:pt x="489" y="652"/>
                  </a:lnTo>
                  <a:lnTo>
                    <a:pt x="493" y="664"/>
                  </a:lnTo>
                  <a:lnTo>
                    <a:pt x="496" y="675"/>
                  </a:lnTo>
                  <a:lnTo>
                    <a:pt x="500" y="686"/>
                  </a:lnTo>
                  <a:lnTo>
                    <a:pt x="505" y="695"/>
                  </a:lnTo>
                  <a:lnTo>
                    <a:pt x="509" y="706"/>
                  </a:lnTo>
                  <a:lnTo>
                    <a:pt x="514" y="715"/>
                  </a:lnTo>
                  <a:lnTo>
                    <a:pt x="519" y="724"/>
                  </a:lnTo>
                  <a:lnTo>
                    <a:pt x="524" y="733"/>
                  </a:lnTo>
                  <a:lnTo>
                    <a:pt x="530" y="740"/>
                  </a:lnTo>
                  <a:lnTo>
                    <a:pt x="536" y="747"/>
                  </a:lnTo>
                  <a:lnTo>
                    <a:pt x="542" y="753"/>
                  </a:lnTo>
                  <a:lnTo>
                    <a:pt x="549" y="760"/>
                  </a:lnTo>
                  <a:lnTo>
                    <a:pt x="557" y="764"/>
                  </a:lnTo>
                  <a:lnTo>
                    <a:pt x="572" y="773"/>
                  </a:lnTo>
                  <a:lnTo>
                    <a:pt x="589" y="778"/>
                  </a:lnTo>
                  <a:lnTo>
                    <a:pt x="607" y="782"/>
                  </a:lnTo>
                  <a:lnTo>
                    <a:pt x="626" y="784"/>
                  </a:lnTo>
                  <a:lnTo>
                    <a:pt x="690" y="784"/>
                  </a:lnTo>
                  <a:lnTo>
                    <a:pt x="717" y="607"/>
                  </a:lnTo>
                  <a:lnTo>
                    <a:pt x="725" y="547"/>
                  </a:lnTo>
                  <a:lnTo>
                    <a:pt x="732" y="489"/>
                  </a:lnTo>
                  <a:lnTo>
                    <a:pt x="744" y="379"/>
                  </a:lnTo>
                  <a:lnTo>
                    <a:pt x="748" y="330"/>
                  </a:lnTo>
                  <a:lnTo>
                    <a:pt x="752" y="289"/>
                  </a:lnTo>
                  <a:lnTo>
                    <a:pt x="753" y="256"/>
                  </a:lnTo>
                  <a:lnTo>
                    <a:pt x="754" y="243"/>
                  </a:lnTo>
                  <a:lnTo>
                    <a:pt x="754" y="231"/>
                  </a:lnTo>
                  <a:lnTo>
                    <a:pt x="754" y="225"/>
                  </a:lnTo>
                  <a:lnTo>
                    <a:pt x="754" y="220"/>
                  </a:lnTo>
                  <a:lnTo>
                    <a:pt x="753" y="214"/>
                  </a:lnTo>
                  <a:lnTo>
                    <a:pt x="752" y="209"/>
                  </a:lnTo>
                  <a:lnTo>
                    <a:pt x="752" y="204"/>
                  </a:lnTo>
                  <a:lnTo>
                    <a:pt x="751" y="198"/>
                  </a:lnTo>
                  <a:lnTo>
                    <a:pt x="749" y="193"/>
                  </a:lnTo>
                  <a:lnTo>
                    <a:pt x="747" y="189"/>
                  </a:lnTo>
                  <a:lnTo>
                    <a:pt x="745" y="184"/>
                  </a:lnTo>
                  <a:lnTo>
                    <a:pt x="744" y="180"/>
                  </a:lnTo>
                  <a:lnTo>
                    <a:pt x="741" y="175"/>
                  </a:lnTo>
                  <a:lnTo>
                    <a:pt x="739" y="171"/>
                  </a:lnTo>
                  <a:lnTo>
                    <a:pt x="737" y="168"/>
                  </a:lnTo>
                  <a:lnTo>
                    <a:pt x="733" y="162"/>
                  </a:lnTo>
                  <a:lnTo>
                    <a:pt x="727" y="155"/>
                  </a:lnTo>
                  <a:lnTo>
                    <a:pt x="721" y="148"/>
                  </a:lnTo>
                  <a:lnTo>
                    <a:pt x="714" y="142"/>
                  </a:lnTo>
                  <a:lnTo>
                    <a:pt x="705" y="137"/>
                  </a:lnTo>
                  <a:lnTo>
                    <a:pt x="697" y="131"/>
                  </a:lnTo>
                  <a:lnTo>
                    <a:pt x="688" y="128"/>
                  </a:lnTo>
                  <a:lnTo>
                    <a:pt x="678" y="126"/>
                  </a:lnTo>
                  <a:lnTo>
                    <a:pt x="668" y="124"/>
                  </a:lnTo>
                  <a:close/>
                  <a:moveTo>
                    <a:pt x="1033" y="269"/>
                  </a:moveTo>
                  <a:lnTo>
                    <a:pt x="1032" y="299"/>
                  </a:lnTo>
                  <a:lnTo>
                    <a:pt x="1031" y="332"/>
                  </a:lnTo>
                  <a:lnTo>
                    <a:pt x="1029" y="364"/>
                  </a:lnTo>
                  <a:lnTo>
                    <a:pt x="1026" y="397"/>
                  </a:lnTo>
                  <a:lnTo>
                    <a:pt x="1023" y="428"/>
                  </a:lnTo>
                  <a:lnTo>
                    <a:pt x="1020" y="457"/>
                  </a:lnTo>
                  <a:lnTo>
                    <a:pt x="1016" y="478"/>
                  </a:lnTo>
                  <a:lnTo>
                    <a:pt x="1014" y="498"/>
                  </a:lnTo>
                  <a:lnTo>
                    <a:pt x="939" y="1013"/>
                  </a:lnTo>
                  <a:lnTo>
                    <a:pt x="936" y="1040"/>
                  </a:lnTo>
                  <a:lnTo>
                    <a:pt x="931" y="1069"/>
                  </a:lnTo>
                  <a:lnTo>
                    <a:pt x="928" y="1101"/>
                  </a:lnTo>
                  <a:lnTo>
                    <a:pt x="924" y="1134"/>
                  </a:lnTo>
                  <a:lnTo>
                    <a:pt x="921" y="1168"/>
                  </a:lnTo>
                  <a:lnTo>
                    <a:pt x="919" y="1197"/>
                  </a:lnTo>
                  <a:lnTo>
                    <a:pt x="918" y="1224"/>
                  </a:lnTo>
                  <a:lnTo>
                    <a:pt x="918" y="1246"/>
                  </a:lnTo>
                  <a:lnTo>
                    <a:pt x="918" y="1268"/>
                  </a:lnTo>
                  <a:lnTo>
                    <a:pt x="919" y="1288"/>
                  </a:lnTo>
                  <a:lnTo>
                    <a:pt x="920" y="1307"/>
                  </a:lnTo>
                  <a:lnTo>
                    <a:pt x="922" y="1315"/>
                  </a:lnTo>
                  <a:lnTo>
                    <a:pt x="923" y="1324"/>
                  </a:lnTo>
                  <a:lnTo>
                    <a:pt x="924" y="1331"/>
                  </a:lnTo>
                  <a:lnTo>
                    <a:pt x="926" y="1338"/>
                  </a:lnTo>
                  <a:lnTo>
                    <a:pt x="928" y="1345"/>
                  </a:lnTo>
                  <a:lnTo>
                    <a:pt x="930" y="1351"/>
                  </a:lnTo>
                  <a:lnTo>
                    <a:pt x="931" y="1356"/>
                  </a:lnTo>
                  <a:lnTo>
                    <a:pt x="934" y="1362"/>
                  </a:lnTo>
                  <a:lnTo>
                    <a:pt x="936" y="1367"/>
                  </a:lnTo>
                  <a:lnTo>
                    <a:pt x="939" y="1371"/>
                  </a:lnTo>
                  <a:lnTo>
                    <a:pt x="942" y="1374"/>
                  </a:lnTo>
                  <a:lnTo>
                    <a:pt x="945" y="1378"/>
                  </a:lnTo>
                  <a:lnTo>
                    <a:pt x="948" y="1381"/>
                  </a:lnTo>
                  <a:lnTo>
                    <a:pt x="951" y="1385"/>
                  </a:lnTo>
                  <a:lnTo>
                    <a:pt x="959" y="1391"/>
                  </a:lnTo>
                  <a:lnTo>
                    <a:pt x="968" y="1396"/>
                  </a:lnTo>
                  <a:lnTo>
                    <a:pt x="978" y="1398"/>
                  </a:lnTo>
                  <a:lnTo>
                    <a:pt x="989" y="1401"/>
                  </a:lnTo>
                  <a:lnTo>
                    <a:pt x="1001" y="1403"/>
                  </a:lnTo>
                  <a:lnTo>
                    <a:pt x="1014" y="1403"/>
                  </a:lnTo>
                  <a:lnTo>
                    <a:pt x="1021" y="1403"/>
                  </a:lnTo>
                  <a:lnTo>
                    <a:pt x="1028" y="1401"/>
                  </a:lnTo>
                  <a:lnTo>
                    <a:pt x="1041" y="1400"/>
                  </a:lnTo>
                  <a:lnTo>
                    <a:pt x="1057" y="1394"/>
                  </a:lnTo>
                  <a:lnTo>
                    <a:pt x="1072" y="1387"/>
                  </a:lnTo>
                  <a:lnTo>
                    <a:pt x="1087" y="1380"/>
                  </a:lnTo>
                  <a:lnTo>
                    <a:pt x="1100" y="1372"/>
                  </a:lnTo>
                  <a:lnTo>
                    <a:pt x="1110" y="1365"/>
                  </a:lnTo>
                  <a:lnTo>
                    <a:pt x="1115" y="1362"/>
                  </a:lnTo>
                  <a:lnTo>
                    <a:pt x="1119" y="1358"/>
                  </a:lnTo>
                  <a:lnTo>
                    <a:pt x="1100" y="1499"/>
                  </a:lnTo>
                  <a:lnTo>
                    <a:pt x="966" y="1593"/>
                  </a:lnTo>
                  <a:lnTo>
                    <a:pt x="953" y="1600"/>
                  </a:lnTo>
                  <a:lnTo>
                    <a:pt x="940" y="1607"/>
                  </a:lnTo>
                  <a:lnTo>
                    <a:pt x="926" y="1613"/>
                  </a:lnTo>
                  <a:lnTo>
                    <a:pt x="912" y="1618"/>
                  </a:lnTo>
                  <a:lnTo>
                    <a:pt x="897" y="1620"/>
                  </a:lnTo>
                  <a:lnTo>
                    <a:pt x="881" y="1624"/>
                  </a:lnTo>
                  <a:lnTo>
                    <a:pt x="850" y="1625"/>
                  </a:lnTo>
                  <a:lnTo>
                    <a:pt x="827" y="1624"/>
                  </a:lnTo>
                  <a:lnTo>
                    <a:pt x="805" y="1620"/>
                  </a:lnTo>
                  <a:lnTo>
                    <a:pt x="784" y="1613"/>
                  </a:lnTo>
                  <a:lnTo>
                    <a:pt x="765" y="1604"/>
                  </a:lnTo>
                  <a:lnTo>
                    <a:pt x="746" y="1591"/>
                  </a:lnTo>
                  <a:lnTo>
                    <a:pt x="729" y="1577"/>
                  </a:lnTo>
                  <a:lnTo>
                    <a:pt x="712" y="1559"/>
                  </a:lnTo>
                  <a:lnTo>
                    <a:pt x="696" y="1537"/>
                  </a:lnTo>
                  <a:lnTo>
                    <a:pt x="690" y="1526"/>
                  </a:lnTo>
                  <a:lnTo>
                    <a:pt x="683" y="1513"/>
                  </a:lnTo>
                  <a:lnTo>
                    <a:pt x="677" y="1501"/>
                  </a:lnTo>
                  <a:lnTo>
                    <a:pt x="671" y="1488"/>
                  </a:lnTo>
                  <a:lnTo>
                    <a:pt x="665" y="1475"/>
                  </a:lnTo>
                  <a:lnTo>
                    <a:pt x="660" y="1461"/>
                  </a:lnTo>
                  <a:lnTo>
                    <a:pt x="656" y="1447"/>
                  </a:lnTo>
                  <a:lnTo>
                    <a:pt x="652" y="1432"/>
                  </a:lnTo>
                  <a:lnTo>
                    <a:pt x="648" y="1418"/>
                  </a:lnTo>
                  <a:lnTo>
                    <a:pt x="646" y="1401"/>
                  </a:lnTo>
                  <a:lnTo>
                    <a:pt x="643" y="1385"/>
                  </a:lnTo>
                  <a:lnTo>
                    <a:pt x="641" y="1369"/>
                  </a:lnTo>
                  <a:lnTo>
                    <a:pt x="639" y="1353"/>
                  </a:lnTo>
                  <a:lnTo>
                    <a:pt x="638" y="1335"/>
                  </a:lnTo>
                  <a:lnTo>
                    <a:pt x="637" y="1316"/>
                  </a:lnTo>
                  <a:lnTo>
                    <a:pt x="637" y="1298"/>
                  </a:lnTo>
                  <a:lnTo>
                    <a:pt x="637" y="1260"/>
                  </a:lnTo>
                  <a:lnTo>
                    <a:pt x="638" y="1226"/>
                  </a:lnTo>
                  <a:lnTo>
                    <a:pt x="639" y="1195"/>
                  </a:lnTo>
                  <a:lnTo>
                    <a:pt x="640" y="1181"/>
                  </a:lnTo>
                  <a:lnTo>
                    <a:pt x="641" y="1168"/>
                  </a:lnTo>
                  <a:lnTo>
                    <a:pt x="642" y="1143"/>
                  </a:lnTo>
                  <a:lnTo>
                    <a:pt x="645" y="1114"/>
                  </a:lnTo>
                  <a:lnTo>
                    <a:pt x="648" y="1083"/>
                  </a:lnTo>
                  <a:lnTo>
                    <a:pt x="653" y="1049"/>
                  </a:lnTo>
                  <a:lnTo>
                    <a:pt x="672" y="917"/>
                  </a:lnTo>
                  <a:lnTo>
                    <a:pt x="620" y="917"/>
                  </a:lnTo>
                  <a:lnTo>
                    <a:pt x="600" y="917"/>
                  </a:lnTo>
                  <a:lnTo>
                    <a:pt x="583" y="921"/>
                  </a:lnTo>
                  <a:lnTo>
                    <a:pt x="575" y="923"/>
                  </a:lnTo>
                  <a:lnTo>
                    <a:pt x="567" y="924"/>
                  </a:lnTo>
                  <a:lnTo>
                    <a:pt x="561" y="926"/>
                  </a:lnTo>
                  <a:lnTo>
                    <a:pt x="555" y="930"/>
                  </a:lnTo>
                  <a:lnTo>
                    <a:pt x="549" y="933"/>
                  </a:lnTo>
                  <a:lnTo>
                    <a:pt x="543" y="939"/>
                  </a:lnTo>
                  <a:lnTo>
                    <a:pt x="536" y="944"/>
                  </a:lnTo>
                  <a:lnTo>
                    <a:pt x="530" y="952"/>
                  </a:lnTo>
                  <a:lnTo>
                    <a:pt x="523" y="959"/>
                  </a:lnTo>
                  <a:lnTo>
                    <a:pt x="515" y="968"/>
                  </a:lnTo>
                  <a:lnTo>
                    <a:pt x="499" y="989"/>
                  </a:lnTo>
                  <a:lnTo>
                    <a:pt x="483" y="1015"/>
                  </a:lnTo>
                  <a:lnTo>
                    <a:pt x="475" y="1027"/>
                  </a:lnTo>
                  <a:lnTo>
                    <a:pt x="468" y="1042"/>
                  </a:lnTo>
                  <a:lnTo>
                    <a:pt x="462" y="1055"/>
                  </a:lnTo>
                  <a:lnTo>
                    <a:pt x="455" y="1069"/>
                  </a:lnTo>
                  <a:lnTo>
                    <a:pt x="442" y="1098"/>
                  </a:lnTo>
                  <a:lnTo>
                    <a:pt x="398" y="1217"/>
                  </a:lnTo>
                  <a:lnTo>
                    <a:pt x="354" y="1347"/>
                  </a:lnTo>
                  <a:lnTo>
                    <a:pt x="341" y="1385"/>
                  </a:lnTo>
                  <a:lnTo>
                    <a:pt x="327" y="1421"/>
                  </a:lnTo>
                  <a:lnTo>
                    <a:pt x="313" y="1457"/>
                  </a:lnTo>
                  <a:lnTo>
                    <a:pt x="297" y="1490"/>
                  </a:lnTo>
                  <a:lnTo>
                    <a:pt x="288" y="1510"/>
                  </a:lnTo>
                  <a:lnTo>
                    <a:pt x="277" y="1528"/>
                  </a:lnTo>
                  <a:lnTo>
                    <a:pt x="268" y="1546"/>
                  </a:lnTo>
                  <a:lnTo>
                    <a:pt x="259" y="1560"/>
                  </a:lnTo>
                  <a:lnTo>
                    <a:pt x="250" y="1573"/>
                  </a:lnTo>
                  <a:lnTo>
                    <a:pt x="240" y="1584"/>
                  </a:lnTo>
                  <a:lnTo>
                    <a:pt x="232" y="1595"/>
                  </a:lnTo>
                  <a:lnTo>
                    <a:pt x="223" y="1602"/>
                  </a:lnTo>
                  <a:lnTo>
                    <a:pt x="215" y="1609"/>
                  </a:lnTo>
                  <a:lnTo>
                    <a:pt x="205" y="1615"/>
                  </a:lnTo>
                  <a:lnTo>
                    <a:pt x="195" y="1618"/>
                  </a:lnTo>
                  <a:lnTo>
                    <a:pt x="185" y="1622"/>
                  </a:lnTo>
                  <a:lnTo>
                    <a:pt x="173" y="1625"/>
                  </a:lnTo>
                  <a:lnTo>
                    <a:pt x="162" y="1627"/>
                  </a:lnTo>
                  <a:lnTo>
                    <a:pt x="150" y="1629"/>
                  </a:lnTo>
                  <a:lnTo>
                    <a:pt x="138" y="1629"/>
                  </a:lnTo>
                  <a:lnTo>
                    <a:pt x="122" y="1627"/>
                  </a:lnTo>
                  <a:lnTo>
                    <a:pt x="107" y="1625"/>
                  </a:lnTo>
                  <a:lnTo>
                    <a:pt x="93" y="1620"/>
                  </a:lnTo>
                  <a:lnTo>
                    <a:pt x="80" y="1615"/>
                  </a:lnTo>
                  <a:lnTo>
                    <a:pt x="68" y="1605"/>
                  </a:lnTo>
                  <a:lnTo>
                    <a:pt x="56" y="1595"/>
                  </a:lnTo>
                  <a:lnTo>
                    <a:pt x="51" y="1589"/>
                  </a:lnTo>
                  <a:lnTo>
                    <a:pt x="46" y="1582"/>
                  </a:lnTo>
                  <a:lnTo>
                    <a:pt x="41" y="1575"/>
                  </a:lnTo>
                  <a:lnTo>
                    <a:pt x="37" y="1568"/>
                  </a:lnTo>
                  <a:lnTo>
                    <a:pt x="32" y="1560"/>
                  </a:lnTo>
                  <a:lnTo>
                    <a:pt x="28" y="1551"/>
                  </a:lnTo>
                  <a:lnTo>
                    <a:pt x="25" y="1544"/>
                  </a:lnTo>
                  <a:lnTo>
                    <a:pt x="21" y="1535"/>
                  </a:lnTo>
                  <a:lnTo>
                    <a:pt x="18" y="1526"/>
                  </a:lnTo>
                  <a:lnTo>
                    <a:pt x="14" y="1517"/>
                  </a:lnTo>
                  <a:lnTo>
                    <a:pt x="12" y="1506"/>
                  </a:lnTo>
                  <a:lnTo>
                    <a:pt x="10" y="1495"/>
                  </a:lnTo>
                  <a:lnTo>
                    <a:pt x="7" y="1486"/>
                  </a:lnTo>
                  <a:lnTo>
                    <a:pt x="6" y="1474"/>
                  </a:lnTo>
                  <a:lnTo>
                    <a:pt x="4" y="1463"/>
                  </a:lnTo>
                  <a:lnTo>
                    <a:pt x="3" y="1452"/>
                  </a:lnTo>
                  <a:lnTo>
                    <a:pt x="1" y="1439"/>
                  </a:lnTo>
                  <a:lnTo>
                    <a:pt x="1" y="1427"/>
                  </a:lnTo>
                  <a:lnTo>
                    <a:pt x="0" y="1401"/>
                  </a:lnTo>
                  <a:lnTo>
                    <a:pt x="1" y="1369"/>
                  </a:lnTo>
                  <a:lnTo>
                    <a:pt x="3" y="1338"/>
                  </a:lnTo>
                  <a:lnTo>
                    <a:pt x="6" y="1307"/>
                  </a:lnTo>
                  <a:lnTo>
                    <a:pt x="8" y="1295"/>
                  </a:lnTo>
                  <a:lnTo>
                    <a:pt x="10" y="1280"/>
                  </a:lnTo>
                  <a:lnTo>
                    <a:pt x="12" y="1268"/>
                  </a:lnTo>
                  <a:lnTo>
                    <a:pt x="16" y="1255"/>
                  </a:lnTo>
                  <a:lnTo>
                    <a:pt x="19" y="1242"/>
                  </a:lnTo>
                  <a:lnTo>
                    <a:pt x="22" y="1232"/>
                  </a:lnTo>
                  <a:lnTo>
                    <a:pt x="26" y="1221"/>
                  </a:lnTo>
                  <a:lnTo>
                    <a:pt x="30" y="1210"/>
                  </a:lnTo>
                  <a:lnTo>
                    <a:pt x="35" y="1199"/>
                  </a:lnTo>
                  <a:lnTo>
                    <a:pt x="39" y="1190"/>
                  </a:lnTo>
                  <a:lnTo>
                    <a:pt x="49" y="1172"/>
                  </a:lnTo>
                  <a:lnTo>
                    <a:pt x="60" y="1156"/>
                  </a:lnTo>
                  <a:lnTo>
                    <a:pt x="65" y="1148"/>
                  </a:lnTo>
                  <a:lnTo>
                    <a:pt x="71" y="1143"/>
                  </a:lnTo>
                  <a:lnTo>
                    <a:pt x="76" y="1136"/>
                  </a:lnTo>
                  <a:lnTo>
                    <a:pt x="82" y="1132"/>
                  </a:lnTo>
                  <a:lnTo>
                    <a:pt x="94" y="1123"/>
                  </a:lnTo>
                  <a:lnTo>
                    <a:pt x="107" y="1118"/>
                  </a:lnTo>
                  <a:lnTo>
                    <a:pt x="121" y="1114"/>
                  </a:lnTo>
                  <a:lnTo>
                    <a:pt x="135" y="1112"/>
                  </a:lnTo>
                  <a:lnTo>
                    <a:pt x="145" y="1112"/>
                  </a:lnTo>
                  <a:lnTo>
                    <a:pt x="154" y="1114"/>
                  </a:lnTo>
                  <a:lnTo>
                    <a:pt x="164" y="1118"/>
                  </a:lnTo>
                  <a:lnTo>
                    <a:pt x="174" y="1123"/>
                  </a:lnTo>
                  <a:lnTo>
                    <a:pt x="184" y="1129"/>
                  </a:lnTo>
                  <a:lnTo>
                    <a:pt x="193" y="1136"/>
                  </a:lnTo>
                  <a:lnTo>
                    <a:pt x="202" y="1145"/>
                  </a:lnTo>
                  <a:lnTo>
                    <a:pt x="211" y="1154"/>
                  </a:lnTo>
                  <a:lnTo>
                    <a:pt x="228" y="1174"/>
                  </a:lnTo>
                  <a:lnTo>
                    <a:pt x="244" y="1194"/>
                  </a:lnTo>
                  <a:lnTo>
                    <a:pt x="259" y="1212"/>
                  </a:lnTo>
                  <a:lnTo>
                    <a:pt x="271" y="1230"/>
                  </a:lnTo>
                  <a:lnTo>
                    <a:pt x="283" y="1188"/>
                  </a:lnTo>
                  <a:lnTo>
                    <a:pt x="297" y="1145"/>
                  </a:lnTo>
                  <a:lnTo>
                    <a:pt x="312" y="1103"/>
                  </a:lnTo>
                  <a:lnTo>
                    <a:pt x="327" y="1060"/>
                  </a:lnTo>
                  <a:lnTo>
                    <a:pt x="336" y="1038"/>
                  </a:lnTo>
                  <a:lnTo>
                    <a:pt x="345" y="1018"/>
                  </a:lnTo>
                  <a:lnTo>
                    <a:pt x="354" y="1000"/>
                  </a:lnTo>
                  <a:lnTo>
                    <a:pt x="364" y="982"/>
                  </a:lnTo>
                  <a:lnTo>
                    <a:pt x="375" y="964"/>
                  </a:lnTo>
                  <a:lnTo>
                    <a:pt x="386" y="950"/>
                  </a:lnTo>
                  <a:lnTo>
                    <a:pt x="398" y="933"/>
                  </a:lnTo>
                  <a:lnTo>
                    <a:pt x="411" y="921"/>
                  </a:lnTo>
                  <a:lnTo>
                    <a:pt x="411" y="906"/>
                  </a:lnTo>
                  <a:lnTo>
                    <a:pt x="383" y="901"/>
                  </a:lnTo>
                  <a:lnTo>
                    <a:pt x="357" y="892"/>
                  </a:lnTo>
                  <a:lnTo>
                    <a:pt x="333" y="879"/>
                  </a:lnTo>
                  <a:lnTo>
                    <a:pt x="309" y="865"/>
                  </a:lnTo>
                  <a:lnTo>
                    <a:pt x="289" y="847"/>
                  </a:lnTo>
                  <a:lnTo>
                    <a:pt x="269" y="825"/>
                  </a:lnTo>
                  <a:lnTo>
                    <a:pt x="260" y="814"/>
                  </a:lnTo>
                  <a:lnTo>
                    <a:pt x="252" y="802"/>
                  </a:lnTo>
                  <a:lnTo>
                    <a:pt x="243" y="789"/>
                  </a:lnTo>
                  <a:lnTo>
                    <a:pt x="235" y="775"/>
                  </a:lnTo>
                  <a:lnTo>
                    <a:pt x="221" y="746"/>
                  </a:lnTo>
                  <a:lnTo>
                    <a:pt x="209" y="715"/>
                  </a:lnTo>
                  <a:lnTo>
                    <a:pt x="203" y="699"/>
                  </a:lnTo>
                  <a:lnTo>
                    <a:pt x="197" y="682"/>
                  </a:lnTo>
                  <a:lnTo>
                    <a:pt x="193" y="666"/>
                  </a:lnTo>
                  <a:lnTo>
                    <a:pt x="189" y="648"/>
                  </a:lnTo>
                  <a:lnTo>
                    <a:pt x="185" y="632"/>
                  </a:lnTo>
                  <a:lnTo>
                    <a:pt x="182" y="614"/>
                  </a:lnTo>
                  <a:lnTo>
                    <a:pt x="179" y="596"/>
                  </a:lnTo>
                  <a:lnTo>
                    <a:pt x="178" y="578"/>
                  </a:lnTo>
                  <a:lnTo>
                    <a:pt x="176" y="558"/>
                  </a:lnTo>
                  <a:lnTo>
                    <a:pt x="174" y="540"/>
                  </a:lnTo>
                  <a:lnTo>
                    <a:pt x="173" y="520"/>
                  </a:lnTo>
                  <a:lnTo>
                    <a:pt x="173" y="500"/>
                  </a:lnTo>
                  <a:lnTo>
                    <a:pt x="174" y="471"/>
                  </a:lnTo>
                  <a:lnTo>
                    <a:pt x="175" y="444"/>
                  </a:lnTo>
                  <a:lnTo>
                    <a:pt x="178" y="417"/>
                  </a:lnTo>
                  <a:lnTo>
                    <a:pt x="181" y="390"/>
                  </a:lnTo>
                  <a:lnTo>
                    <a:pt x="185" y="364"/>
                  </a:lnTo>
                  <a:lnTo>
                    <a:pt x="191" y="339"/>
                  </a:lnTo>
                  <a:lnTo>
                    <a:pt x="197" y="316"/>
                  </a:lnTo>
                  <a:lnTo>
                    <a:pt x="205" y="292"/>
                  </a:lnTo>
                  <a:lnTo>
                    <a:pt x="214" y="269"/>
                  </a:lnTo>
                  <a:lnTo>
                    <a:pt x="222" y="247"/>
                  </a:lnTo>
                  <a:lnTo>
                    <a:pt x="233" y="225"/>
                  </a:lnTo>
                  <a:lnTo>
                    <a:pt x="245" y="205"/>
                  </a:lnTo>
                  <a:lnTo>
                    <a:pt x="257" y="187"/>
                  </a:lnTo>
                  <a:lnTo>
                    <a:pt x="271" y="168"/>
                  </a:lnTo>
                  <a:lnTo>
                    <a:pt x="300" y="133"/>
                  </a:lnTo>
                  <a:lnTo>
                    <a:pt x="333" y="102"/>
                  </a:lnTo>
                  <a:lnTo>
                    <a:pt x="371" y="75"/>
                  </a:lnTo>
                  <a:lnTo>
                    <a:pt x="413" y="52"/>
                  </a:lnTo>
                  <a:lnTo>
                    <a:pt x="458" y="34"/>
                  </a:lnTo>
                  <a:lnTo>
                    <a:pt x="507" y="18"/>
                  </a:lnTo>
                  <a:lnTo>
                    <a:pt x="560" y="9"/>
                  </a:lnTo>
                  <a:lnTo>
                    <a:pt x="616" y="1"/>
                  </a:lnTo>
                  <a:lnTo>
                    <a:pt x="677" y="0"/>
                  </a:lnTo>
                  <a:lnTo>
                    <a:pt x="763" y="5"/>
                  </a:lnTo>
                  <a:lnTo>
                    <a:pt x="801" y="10"/>
                  </a:lnTo>
                  <a:lnTo>
                    <a:pt x="836" y="19"/>
                  </a:lnTo>
                  <a:lnTo>
                    <a:pt x="869" y="28"/>
                  </a:lnTo>
                  <a:lnTo>
                    <a:pt x="898" y="43"/>
                  </a:lnTo>
                  <a:lnTo>
                    <a:pt x="924" y="57"/>
                  </a:lnTo>
                  <a:lnTo>
                    <a:pt x="947" y="75"/>
                  </a:lnTo>
                  <a:lnTo>
                    <a:pt x="967" y="95"/>
                  </a:lnTo>
                  <a:lnTo>
                    <a:pt x="985" y="115"/>
                  </a:lnTo>
                  <a:lnTo>
                    <a:pt x="992" y="128"/>
                  </a:lnTo>
                  <a:lnTo>
                    <a:pt x="999" y="139"/>
                  </a:lnTo>
                  <a:lnTo>
                    <a:pt x="1005" y="149"/>
                  </a:lnTo>
                  <a:lnTo>
                    <a:pt x="1011" y="162"/>
                  </a:lnTo>
                  <a:lnTo>
                    <a:pt x="1016" y="175"/>
                  </a:lnTo>
                  <a:lnTo>
                    <a:pt x="1021" y="187"/>
                  </a:lnTo>
                  <a:lnTo>
                    <a:pt x="1024" y="200"/>
                  </a:lnTo>
                  <a:lnTo>
                    <a:pt x="1028" y="213"/>
                  </a:lnTo>
                  <a:lnTo>
                    <a:pt x="1030" y="227"/>
                  </a:lnTo>
                  <a:lnTo>
                    <a:pt x="1031" y="240"/>
                  </a:lnTo>
                  <a:lnTo>
                    <a:pt x="1033" y="254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16920" y="779400"/>
              <a:ext cx="163440" cy="581040"/>
            </a:xfrm>
            <a:custGeom>
              <a:avLst/>
              <a:gdLst/>
              <a:ahLst/>
              <a:rect l="l" t="t" r="r" b="b"/>
              <a:pathLst>
                <a:path w="455" h="1616">
                  <a:moveTo>
                    <a:pt x="454" y="311"/>
                  </a:moveTo>
                  <a:lnTo>
                    <a:pt x="454" y="327"/>
                  </a:lnTo>
                  <a:lnTo>
                    <a:pt x="453" y="342"/>
                  </a:lnTo>
                  <a:lnTo>
                    <a:pt x="452" y="356"/>
                  </a:lnTo>
                  <a:lnTo>
                    <a:pt x="450" y="371"/>
                  </a:lnTo>
                  <a:lnTo>
                    <a:pt x="448" y="385"/>
                  </a:lnTo>
                  <a:lnTo>
                    <a:pt x="447" y="400"/>
                  </a:lnTo>
                  <a:lnTo>
                    <a:pt x="444" y="414"/>
                  </a:lnTo>
                  <a:lnTo>
                    <a:pt x="442" y="427"/>
                  </a:lnTo>
                  <a:lnTo>
                    <a:pt x="438" y="441"/>
                  </a:lnTo>
                  <a:lnTo>
                    <a:pt x="434" y="454"/>
                  </a:lnTo>
                  <a:lnTo>
                    <a:pt x="430" y="467"/>
                  </a:lnTo>
                  <a:lnTo>
                    <a:pt x="426" y="479"/>
                  </a:lnTo>
                  <a:lnTo>
                    <a:pt x="421" y="492"/>
                  </a:lnTo>
                  <a:lnTo>
                    <a:pt x="416" y="503"/>
                  </a:lnTo>
                  <a:lnTo>
                    <a:pt x="404" y="526"/>
                  </a:lnTo>
                  <a:lnTo>
                    <a:pt x="391" y="548"/>
                  </a:lnTo>
                  <a:lnTo>
                    <a:pt x="378" y="566"/>
                  </a:lnTo>
                  <a:lnTo>
                    <a:pt x="364" y="582"/>
                  </a:lnTo>
                  <a:lnTo>
                    <a:pt x="350" y="595"/>
                  </a:lnTo>
                  <a:lnTo>
                    <a:pt x="335" y="606"/>
                  </a:lnTo>
                  <a:lnTo>
                    <a:pt x="319" y="613"/>
                  </a:lnTo>
                  <a:lnTo>
                    <a:pt x="304" y="616"/>
                  </a:lnTo>
                  <a:lnTo>
                    <a:pt x="287" y="618"/>
                  </a:lnTo>
                  <a:lnTo>
                    <a:pt x="270" y="616"/>
                  </a:lnTo>
                  <a:lnTo>
                    <a:pt x="254" y="613"/>
                  </a:lnTo>
                  <a:lnTo>
                    <a:pt x="238" y="606"/>
                  </a:lnTo>
                  <a:lnTo>
                    <a:pt x="223" y="595"/>
                  </a:lnTo>
                  <a:lnTo>
                    <a:pt x="208" y="582"/>
                  </a:lnTo>
                  <a:lnTo>
                    <a:pt x="195" y="568"/>
                  </a:lnTo>
                  <a:lnTo>
                    <a:pt x="182" y="550"/>
                  </a:lnTo>
                  <a:lnTo>
                    <a:pt x="169" y="528"/>
                  </a:lnTo>
                  <a:lnTo>
                    <a:pt x="157" y="504"/>
                  </a:lnTo>
                  <a:lnTo>
                    <a:pt x="147" y="479"/>
                  </a:lnTo>
                  <a:lnTo>
                    <a:pt x="142" y="467"/>
                  </a:lnTo>
                  <a:lnTo>
                    <a:pt x="139" y="454"/>
                  </a:lnTo>
                  <a:lnTo>
                    <a:pt x="134" y="441"/>
                  </a:lnTo>
                  <a:lnTo>
                    <a:pt x="131" y="429"/>
                  </a:lnTo>
                  <a:lnTo>
                    <a:pt x="128" y="414"/>
                  </a:lnTo>
                  <a:lnTo>
                    <a:pt x="126" y="400"/>
                  </a:lnTo>
                  <a:lnTo>
                    <a:pt x="124" y="385"/>
                  </a:lnTo>
                  <a:lnTo>
                    <a:pt x="122" y="371"/>
                  </a:lnTo>
                  <a:lnTo>
                    <a:pt x="121" y="356"/>
                  </a:lnTo>
                  <a:lnTo>
                    <a:pt x="120" y="342"/>
                  </a:lnTo>
                  <a:lnTo>
                    <a:pt x="119" y="327"/>
                  </a:lnTo>
                  <a:lnTo>
                    <a:pt x="119" y="311"/>
                  </a:lnTo>
                  <a:lnTo>
                    <a:pt x="119" y="295"/>
                  </a:lnTo>
                  <a:lnTo>
                    <a:pt x="120" y="280"/>
                  </a:lnTo>
                  <a:lnTo>
                    <a:pt x="121" y="264"/>
                  </a:lnTo>
                  <a:lnTo>
                    <a:pt x="122" y="250"/>
                  </a:lnTo>
                  <a:lnTo>
                    <a:pt x="124" y="235"/>
                  </a:lnTo>
                  <a:lnTo>
                    <a:pt x="126" y="221"/>
                  </a:lnTo>
                  <a:lnTo>
                    <a:pt x="128" y="206"/>
                  </a:lnTo>
                  <a:lnTo>
                    <a:pt x="131" y="194"/>
                  </a:lnTo>
                  <a:lnTo>
                    <a:pt x="134" y="179"/>
                  </a:lnTo>
                  <a:lnTo>
                    <a:pt x="139" y="167"/>
                  </a:lnTo>
                  <a:lnTo>
                    <a:pt x="142" y="154"/>
                  </a:lnTo>
                  <a:lnTo>
                    <a:pt x="147" y="141"/>
                  </a:lnTo>
                  <a:lnTo>
                    <a:pt x="157" y="116"/>
                  </a:lnTo>
                  <a:lnTo>
                    <a:pt x="169" y="93"/>
                  </a:lnTo>
                  <a:lnTo>
                    <a:pt x="182" y="71"/>
                  </a:lnTo>
                  <a:lnTo>
                    <a:pt x="195" y="53"/>
                  </a:lnTo>
                  <a:lnTo>
                    <a:pt x="208" y="37"/>
                  </a:lnTo>
                  <a:lnTo>
                    <a:pt x="223" y="24"/>
                  </a:lnTo>
                  <a:lnTo>
                    <a:pt x="238" y="13"/>
                  </a:lnTo>
                  <a:lnTo>
                    <a:pt x="254" y="6"/>
                  </a:lnTo>
                  <a:lnTo>
                    <a:pt x="270" y="2"/>
                  </a:lnTo>
                  <a:lnTo>
                    <a:pt x="287" y="0"/>
                  </a:lnTo>
                  <a:lnTo>
                    <a:pt x="304" y="2"/>
                  </a:lnTo>
                  <a:lnTo>
                    <a:pt x="319" y="6"/>
                  </a:lnTo>
                  <a:lnTo>
                    <a:pt x="335" y="13"/>
                  </a:lnTo>
                  <a:lnTo>
                    <a:pt x="350" y="24"/>
                  </a:lnTo>
                  <a:lnTo>
                    <a:pt x="364" y="37"/>
                  </a:lnTo>
                  <a:lnTo>
                    <a:pt x="378" y="53"/>
                  </a:lnTo>
                  <a:lnTo>
                    <a:pt x="391" y="71"/>
                  </a:lnTo>
                  <a:lnTo>
                    <a:pt x="404" y="93"/>
                  </a:lnTo>
                  <a:lnTo>
                    <a:pt x="416" y="116"/>
                  </a:lnTo>
                  <a:lnTo>
                    <a:pt x="426" y="141"/>
                  </a:lnTo>
                  <a:lnTo>
                    <a:pt x="430" y="154"/>
                  </a:lnTo>
                  <a:lnTo>
                    <a:pt x="434" y="168"/>
                  </a:lnTo>
                  <a:lnTo>
                    <a:pt x="438" y="181"/>
                  </a:lnTo>
                  <a:lnTo>
                    <a:pt x="442" y="194"/>
                  </a:lnTo>
                  <a:lnTo>
                    <a:pt x="444" y="208"/>
                  </a:lnTo>
                  <a:lnTo>
                    <a:pt x="447" y="223"/>
                  </a:lnTo>
                  <a:lnTo>
                    <a:pt x="448" y="237"/>
                  </a:lnTo>
                  <a:lnTo>
                    <a:pt x="450" y="252"/>
                  </a:lnTo>
                  <a:lnTo>
                    <a:pt x="452" y="266"/>
                  </a:lnTo>
                  <a:lnTo>
                    <a:pt x="453" y="280"/>
                  </a:lnTo>
                  <a:lnTo>
                    <a:pt x="454" y="295"/>
                  </a:lnTo>
                  <a:close/>
                  <a:moveTo>
                    <a:pt x="335" y="1308"/>
                  </a:moveTo>
                  <a:lnTo>
                    <a:pt x="335" y="1325"/>
                  </a:lnTo>
                  <a:lnTo>
                    <a:pt x="334" y="1339"/>
                  </a:lnTo>
                  <a:lnTo>
                    <a:pt x="333" y="1353"/>
                  </a:lnTo>
                  <a:lnTo>
                    <a:pt x="331" y="1368"/>
                  </a:lnTo>
                  <a:lnTo>
                    <a:pt x="330" y="1382"/>
                  </a:lnTo>
                  <a:lnTo>
                    <a:pt x="328" y="1397"/>
                  </a:lnTo>
                  <a:lnTo>
                    <a:pt x="325" y="1411"/>
                  </a:lnTo>
                  <a:lnTo>
                    <a:pt x="323" y="1424"/>
                  </a:lnTo>
                  <a:lnTo>
                    <a:pt x="319" y="1438"/>
                  </a:lnTo>
                  <a:lnTo>
                    <a:pt x="315" y="1451"/>
                  </a:lnTo>
                  <a:lnTo>
                    <a:pt x="312" y="1464"/>
                  </a:lnTo>
                  <a:lnTo>
                    <a:pt x="307" y="1476"/>
                  </a:lnTo>
                  <a:lnTo>
                    <a:pt x="302" y="1489"/>
                  </a:lnTo>
                  <a:lnTo>
                    <a:pt x="297" y="1500"/>
                  </a:lnTo>
                  <a:lnTo>
                    <a:pt x="285" y="1523"/>
                  </a:lnTo>
                  <a:lnTo>
                    <a:pt x="272" y="1545"/>
                  </a:lnTo>
                  <a:lnTo>
                    <a:pt x="259" y="1563"/>
                  </a:lnTo>
                  <a:lnTo>
                    <a:pt x="245" y="1579"/>
                  </a:lnTo>
                  <a:lnTo>
                    <a:pt x="232" y="1592"/>
                  </a:lnTo>
                  <a:lnTo>
                    <a:pt x="216" y="1603"/>
                  </a:lnTo>
                  <a:lnTo>
                    <a:pt x="201" y="1610"/>
                  </a:lnTo>
                  <a:lnTo>
                    <a:pt x="185" y="1614"/>
                  </a:lnTo>
                  <a:lnTo>
                    <a:pt x="168" y="1615"/>
                  </a:lnTo>
                  <a:lnTo>
                    <a:pt x="151" y="1614"/>
                  </a:lnTo>
                  <a:lnTo>
                    <a:pt x="135" y="1610"/>
                  </a:lnTo>
                  <a:lnTo>
                    <a:pt x="119" y="1603"/>
                  </a:lnTo>
                  <a:lnTo>
                    <a:pt x="104" y="1592"/>
                  </a:lnTo>
                  <a:lnTo>
                    <a:pt x="90" y="1579"/>
                  </a:lnTo>
                  <a:lnTo>
                    <a:pt x="76" y="1565"/>
                  </a:lnTo>
                  <a:lnTo>
                    <a:pt x="63" y="1547"/>
                  </a:lnTo>
                  <a:lnTo>
                    <a:pt x="50" y="1525"/>
                  </a:lnTo>
                  <a:lnTo>
                    <a:pt x="38" y="1502"/>
                  </a:lnTo>
                  <a:lnTo>
                    <a:pt x="28" y="1476"/>
                  </a:lnTo>
                  <a:lnTo>
                    <a:pt x="23" y="1464"/>
                  </a:lnTo>
                  <a:lnTo>
                    <a:pt x="20" y="1451"/>
                  </a:lnTo>
                  <a:lnTo>
                    <a:pt x="16" y="1438"/>
                  </a:lnTo>
                  <a:lnTo>
                    <a:pt x="12" y="1426"/>
                  </a:lnTo>
                  <a:lnTo>
                    <a:pt x="10" y="1411"/>
                  </a:lnTo>
                  <a:lnTo>
                    <a:pt x="7" y="1397"/>
                  </a:lnTo>
                  <a:lnTo>
                    <a:pt x="5" y="1382"/>
                  </a:lnTo>
                  <a:lnTo>
                    <a:pt x="4" y="1368"/>
                  </a:lnTo>
                  <a:lnTo>
                    <a:pt x="2" y="1353"/>
                  </a:lnTo>
                  <a:lnTo>
                    <a:pt x="1" y="1339"/>
                  </a:lnTo>
                  <a:lnTo>
                    <a:pt x="0" y="1325"/>
                  </a:lnTo>
                  <a:lnTo>
                    <a:pt x="0" y="1308"/>
                  </a:lnTo>
                  <a:lnTo>
                    <a:pt x="0" y="1292"/>
                  </a:lnTo>
                  <a:lnTo>
                    <a:pt x="1" y="1278"/>
                  </a:lnTo>
                  <a:lnTo>
                    <a:pt x="2" y="1261"/>
                  </a:lnTo>
                  <a:lnTo>
                    <a:pt x="4" y="1247"/>
                  </a:lnTo>
                  <a:lnTo>
                    <a:pt x="5" y="1232"/>
                  </a:lnTo>
                  <a:lnTo>
                    <a:pt x="7" y="1218"/>
                  </a:lnTo>
                  <a:lnTo>
                    <a:pt x="10" y="1204"/>
                  </a:lnTo>
                  <a:lnTo>
                    <a:pt x="12" y="1191"/>
                  </a:lnTo>
                  <a:lnTo>
                    <a:pt x="16" y="1176"/>
                  </a:lnTo>
                  <a:lnTo>
                    <a:pt x="20" y="1164"/>
                  </a:lnTo>
                  <a:lnTo>
                    <a:pt x="23" y="1151"/>
                  </a:lnTo>
                  <a:lnTo>
                    <a:pt x="28" y="1139"/>
                  </a:lnTo>
                  <a:lnTo>
                    <a:pt x="38" y="1113"/>
                  </a:lnTo>
                  <a:lnTo>
                    <a:pt x="50" y="1090"/>
                  </a:lnTo>
                  <a:lnTo>
                    <a:pt x="63" y="1068"/>
                  </a:lnTo>
                  <a:lnTo>
                    <a:pt x="76" y="1050"/>
                  </a:lnTo>
                  <a:lnTo>
                    <a:pt x="90" y="1034"/>
                  </a:lnTo>
                  <a:lnTo>
                    <a:pt x="104" y="1021"/>
                  </a:lnTo>
                  <a:lnTo>
                    <a:pt x="119" y="1010"/>
                  </a:lnTo>
                  <a:lnTo>
                    <a:pt x="135" y="1003"/>
                  </a:lnTo>
                  <a:lnTo>
                    <a:pt x="151" y="999"/>
                  </a:lnTo>
                  <a:lnTo>
                    <a:pt x="168" y="998"/>
                  </a:lnTo>
                  <a:lnTo>
                    <a:pt x="185" y="999"/>
                  </a:lnTo>
                  <a:lnTo>
                    <a:pt x="201" y="1003"/>
                  </a:lnTo>
                  <a:lnTo>
                    <a:pt x="216" y="1010"/>
                  </a:lnTo>
                  <a:lnTo>
                    <a:pt x="232" y="1021"/>
                  </a:lnTo>
                  <a:lnTo>
                    <a:pt x="245" y="1034"/>
                  </a:lnTo>
                  <a:lnTo>
                    <a:pt x="259" y="1050"/>
                  </a:lnTo>
                  <a:lnTo>
                    <a:pt x="272" y="1068"/>
                  </a:lnTo>
                  <a:lnTo>
                    <a:pt x="285" y="1090"/>
                  </a:lnTo>
                  <a:lnTo>
                    <a:pt x="297" y="1113"/>
                  </a:lnTo>
                  <a:lnTo>
                    <a:pt x="307" y="1139"/>
                  </a:lnTo>
                  <a:lnTo>
                    <a:pt x="312" y="1151"/>
                  </a:lnTo>
                  <a:lnTo>
                    <a:pt x="315" y="1166"/>
                  </a:lnTo>
                  <a:lnTo>
                    <a:pt x="319" y="1178"/>
                  </a:lnTo>
                  <a:lnTo>
                    <a:pt x="323" y="1191"/>
                  </a:lnTo>
                  <a:lnTo>
                    <a:pt x="325" y="1205"/>
                  </a:lnTo>
                  <a:lnTo>
                    <a:pt x="328" y="1220"/>
                  </a:lnTo>
                  <a:lnTo>
                    <a:pt x="330" y="1234"/>
                  </a:lnTo>
                  <a:lnTo>
                    <a:pt x="331" y="1249"/>
                  </a:lnTo>
                  <a:lnTo>
                    <a:pt x="333" y="1263"/>
                  </a:lnTo>
                  <a:lnTo>
                    <a:pt x="334" y="1278"/>
                  </a:lnTo>
                  <a:lnTo>
                    <a:pt x="335" y="1292"/>
                  </a:lnTo>
                  <a:close/>
                </a:path>
              </a:pathLst>
            </a:custGeom>
            <a:gradFill rotWithShape="0">
              <a:gsLst>
                <a:gs pos="0">
                  <a:srgbClr val="0047ff"/>
                </a:gs>
                <a:gs pos="100000">
                  <a:srgbClr val="f43e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Задачи  исследования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60360" y="5940360"/>
            <a:ext cx="1871640" cy="12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6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200"/>
                            </p:stCondLst>
                            <p:childTnLst>
                              <p:par>
                                <p:cTn id="6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300"/>
                            </p:stCondLst>
                            <p:childTnLst>
                              <p:par>
                                <p:cTn id="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400"/>
                            </p:stCondLst>
                            <p:childTnLst>
                              <p:par>
                                <p:cTn id="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752400" y="1274400"/>
            <a:ext cx="860904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сбор материалов о роли и влиянии имени на характер человека;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>
              <a:lnSpc>
                <a:spcPct val="105000"/>
              </a:lnSpc>
              <a:buSzPct val="100000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анкетирование учащихся 5-9 классов; 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>
              <a:lnSpc>
                <a:spcPct val="105000"/>
              </a:lnSpc>
              <a:buSzPct val="100000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обобщить результаты анкетирования в форме графиков;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  <a:p>
            <a:pPr marL="214200" indent="-214200">
              <a:lnSpc>
                <a:spcPct val="105000"/>
              </a:lnSpc>
              <a:buSzPct val="100000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Georgia"/>
              </a:rPr>
              <a:t>сделать вывод.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002880" cy="1085760"/>
            <a:chOff x="0" y="0"/>
            <a:chExt cx="9002880" cy="1085760"/>
          </a:xfrm>
        </p:grpSpPr>
        <p:sp>
          <p:nvSpPr>
            <p:cNvPr id="208" name=""/>
            <p:cNvSpPr/>
            <p:nvPr/>
          </p:nvSpPr>
          <p:spPr>
            <a:xfrm>
              <a:off x="1260360" y="433440"/>
              <a:ext cx="505080" cy="652320"/>
            </a:xfrm>
            <a:custGeom>
              <a:avLst/>
              <a:gdLst/>
              <a:ahLst/>
              <a:rect l="l" t="t" r="r" b="b"/>
              <a:pathLst>
                <a:path w="1403" h="1813">
                  <a:moveTo>
                    <a:pt x="1402" y="668"/>
                  </a:moveTo>
                  <a:lnTo>
                    <a:pt x="1401" y="722"/>
                  </a:lnTo>
                  <a:lnTo>
                    <a:pt x="1398" y="776"/>
                  </a:lnTo>
                  <a:lnTo>
                    <a:pt x="1393" y="829"/>
                  </a:lnTo>
                  <a:lnTo>
                    <a:pt x="1385" y="884"/>
                  </a:lnTo>
                  <a:lnTo>
                    <a:pt x="1375" y="937"/>
                  </a:lnTo>
                  <a:lnTo>
                    <a:pt x="1364" y="989"/>
                  </a:lnTo>
                  <a:lnTo>
                    <a:pt x="1351" y="1042"/>
                  </a:lnTo>
                  <a:lnTo>
                    <a:pt x="1335" y="1094"/>
                  </a:lnTo>
                  <a:lnTo>
                    <a:pt x="1316" y="1145"/>
                  </a:lnTo>
                  <a:lnTo>
                    <a:pt x="1297" y="1194"/>
                  </a:lnTo>
                  <a:lnTo>
                    <a:pt x="1276" y="1243"/>
                  </a:lnTo>
                  <a:lnTo>
                    <a:pt x="1254" y="1289"/>
                  </a:lnTo>
                  <a:lnTo>
                    <a:pt x="1229" y="1334"/>
                  </a:lnTo>
                  <a:lnTo>
                    <a:pt x="1204" y="1378"/>
                  </a:lnTo>
                  <a:lnTo>
                    <a:pt x="1177" y="1419"/>
                  </a:lnTo>
                  <a:lnTo>
                    <a:pt x="1148" y="1460"/>
                  </a:lnTo>
                  <a:lnTo>
                    <a:pt x="1117" y="1499"/>
                  </a:lnTo>
                  <a:lnTo>
                    <a:pt x="1084" y="1536"/>
                  </a:lnTo>
                  <a:lnTo>
                    <a:pt x="1051" y="1572"/>
                  </a:lnTo>
                  <a:lnTo>
                    <a:pt x="1016" y="1604"/>
                  </a:lnTo>
                  <a:lnTo>
                    <a:pt x="980" y="1635"/>
                  </a:lnTo>
                  <a:lnTo>
                    <a:pt x="944" y="1664"/>
                  </a:lnTo>
                  <a:lnTo>
                    <a:pt x="905" y="1691"/>
                  </a:lnTo>
                  <a:lnTo>
                    <a:pt x="866" y="1716"/>
                  </a:lnTo>
                  <a:lnTo>
                    <a:pt x="826" y="1738"/>
                  </a:lnTo>
                  <a:lnTo>
                    <a:pt x="785" y="1758"/>
                  </a:lnTo>
                  <a:lnTo>
                    <a:pt x="742" y="1774"/>
                  </a:lnTo>
                  <a:lnTo>
                    <a:pt x="699" y="1788"/>
                  </a:lnTo>
                  <a:lnTo>
                    <a:pt x="654" y="1798"/>
                  </a:lnTo>
                  <a:lnTo>
                    <a:pt x="609" y="1806"/>
                  </a:lnTo>
                  <a:lnTo>
                    <a:pt x="562" y="1811"/>
                  </a:lnTo>
                  <a:lnTo>
                    <a:pt x="514" y="1812"/>
                  </a:lnTo>
                  <a:lnTo>
                    <a:pt x="453" y="1811"/>
                  </a:lnTo>
                  <a:lnTo>
                    <a:pt x="395" y="1805"/>
                  </a:lnTo>
                  <a:lnTo>
                    <a:pt x="341" y="1797"/>
                  </a:lnTo>
                  <a:lnTo>
                    <a:pt x="291" y="1784"/>
                  </a:lnTo>
                  <a:lnTo>
                    <a:pt x="245" y="1769"/>
                  </a:lnTo>
                  <a:lnTo>
                    <a:pt x="202" y="1750"/>
                  </a:lnTo>
                  <a:lnTo>
                    <a:pt x="164" y="1728"/>
                  </a:lnTo>
                  <a:lnTo>
                    <a:pt x="129" y="1702"/>
                  </a:lnTo>
                  <a:lnTo>
                    <a:pt x="98" y="1673"/>
                  </a:lnTo>
                  <a:lnTo>
                    <a:pt x="85" y="1658"/>
                  </a:lnTo>
                  <a:lnTo>
                    <a:pt x="73" y="1643"/>
                  </a:lnTo>
                  <a:lnTo>
                    <a:pt x="61" y="1627"/>
                  </a:lnTo>
                  <a:lnTo>
                    <a:pt x="50" y="1610"/>
                  </a:lnTo>
                  <a:lnTo>
                    <a:pt x="40" y="1593"/>
                  </a:lnTo>
                  <a:lnTo>
                    <a:pt x="32" y="1575"/>
                  </a:lnTo>
                  <a:lnTo>
                    <a:pt x="24" y="1557"/>
                  </a:lnTo>
                  <a:lnTo>
                    <a:pt x="18" y="1537"/>
                  </a:lnTo>
                  <a:lnTo>
                    <a:pt x="12" y="1518"/>
                  </a:lnTo>
                  <a:lnTo>
                    <a:pt x="8" y="1498"/>
                  </a:lnTo>
                  <a:lnTo>
                    <a:pt x="4" y="1477"/>
                  </a:lnTo>
                  <a:lnTo>
                    <a:pt x="1" y="1455"/>
                  </a:lnTo>
                  <a:lnTo>
                    <a:pt x="0" y="1433"/>
                  </a:lnTo>
                  <a:lnTo>
                    <a:pt x="0" y="1411"/>
                  </a:lnTo>
                  <a:lnTo>
                    <a:pt x="0" y="1391"/>
                  </a:lnTo>
                  <a:lnTo>
                    <a:pt x="2" y="1370"/>
                  </a:lnTo>
                  <a:lnTo>
                    <a:pt x="4" y="1361"/>
                  </a:lnTo>
                  <a:lnTo>
                    <a:pt x="6" y="1350"/>
                  </a:lnTo>
                  <a:lnTo>
                    <a:pt x="8" y="1341"/>
                  </a:lnTo>
                  <a:lnTo>
                    <a:pt x="11" y="1331"/>
                  </a:lnTo>
                  <a:lnTo>
                    <a:pt x="17" y="1312"/>
                  </a:lnTo>
                  <a:lnTo>
                    <a:pt x="25" y="1295"/>
                  </a:lnTo>
                  <a:lnTo>
                    <a:pt x="34" y="1277"/>
                  </a:lnTo>
                  <a:lnTo>
                    <a:pt x="45" y="1260"/>
                  </a:lnTo>
                  <a:lnTo>
                    <a:pt x="51" y="1252"/>
                  </a:lnTo>
                  <a:lnTo>
                    <a:pt x="57" y="1245"/>
                  </a:lnTo>
                  <a:lnTo>
                    <a:pt x="64" y="1238"/>
                  </a:lnTo>
                  <a:lnTo>
                    <a:pt x="70" y="1231"/>
                  </a:lnTo>
                  <a:lnTo>
                    <a:pt x="77" y="1225"/>
                  </a:lnTo>
                  <a:lnTo>
                    <a:pt x="84" y="1220"/>
                  </a:lnTo>
                  <a:lnTo>
                    <a:pt x="92" y="1215"/>
                  </a:lnTo>
                  <a:lnTo>
                    <a:pt x="99" y="1210"/>
                  </a:lnTo>
                  <a:lnTo>
                    <a:pt x="108" y="1207"/>
                  </a:lnTo>
                  <a:lnTo>
                    <a:pt x="116" y="1203"/>
                  </a:lnTo>
                  <a:lnTo>
                    <a:pt x="133" y="1199"/>
                  </a:lnTo>
                  <a:lnTo>
                    <a:pt x="151" y="1195"/>
                  </a:lnTo>
                  <a:lnTo>
                    <a:pt x="170" y="1194"/>
                  </a:lnTo>
                  <a:lnTo>
                    <a:pt x="190" y="1195"/>
                  </a:lnTo>
                  <a:lnTo>
                    <a:pt x="209" y="1198"/>
                  </a:lnTo>
                  <a:lnTo>
                    <a:pt x="227" y="1202"/>
                  </a:lnTo>
                  <a:lnTo>
                    <a:pt x="244" y="1208"/>
                  </a:lnTo>
                  <a:lnTo>
                    <a:pt x="260" y="1216"/>
                  </a:lnTo>
                  <a:lnTo>
                    <a:pt x="267" y="1221"/>
                  </a:lnTo>
                  <a:lnTo>
                    <a:pt x="274" y="1225"/>
                  </a:lnTo>
                  <a:lnTo>
                    <a:pt x="282" y="1231"/>
                  </a:lnTo>
                  <a:lnTo>
                    <a:pt x="287" y="1237"/>
                  </a:lnTo>
                  <a:lnTo>
                    <a:pt x="294" y="1243"/>
                  </a:lnTo>
                  <a:lnTo>
                    <a:pt x="300" y="1250"/>
                  </a:lnTo>
                  <a:lnTo>
                    <a:pt x="306" y="1257"/>
                  </a:lnTo>
                  <a:lnTo>
                    <a:pt x="311" y="1264"/>
                  </a:lnTo>
                  <a:lnTo>
                    <a:pt x="316" y="1272"/>
                  </a:lnTo>
                  <a:lnTo>
                    <a:pt x="320" y="1280"/>
                  </a:lnTo>
                  <a:lnTo>
                    <a:pt x="324" y="1288"/>
                  </a:lnTo>
                  <a:lnTo>
                    <a:pt x="328" y="1296"/>
                  </a:lnTo>
                  <a:lnTo>
                    <a:pt x="331" y="1305"/>
                  </a:lnTo>
                  <a:lnTo>
                    <a:pt x="335" y="1314"/>
                  </a:lnTo>
                  <a:lnTo>
                    <a:pt x="337" y="1322"/>
                  </a:lnTo>
                  <a:lnTo>
                    <a:pt x="340" y="1333"/>
                  </a:lnTo>
                  <a:lnTo>
                    <a:pt x="341" y="1342"/>
                  </a:lnTo>
                  <a:lnTo>
                    <a:pt x="343" y="1352"/>
                  </a:lnTo>
                  <a:lnTo>
                    <a:pt x="345" y="1363"/>
                  </a:lnTo>
                  <a:lnTo>
                    <a:pt x="346" y="1373"/>
                  </a:lnTo>
                  <a:lnTo>
                    <a:pt x="346" y="1395"/>
                  </a:lnTo>
                  <a:lnTo>
                    <a:pt x="346" y="1411"/>
                  </a:lnTo>
                  <a:lnTo>
                    <a:pt x="345" y="1428"/>
                  </a:lnTo>
                  <a:lnTo>
                    <a:pt x="343" y="1444"/>
                  </a:lnTo>
                  <a:lnTo>
                    <a:pt x="341" y="1460"/>
                  </a:lnTo>
                  <a:lnTo>
                    <a:pt x="337" y="1475"/>
                  </a:lnTo>
                  <a:lnTo>
                    <a:pt x="333" y="1491"/>
                  </a:lnTo>
                  <a:lnTo>
                    <a:pt x="329" y="1507"/>
                  </a:lnTo>
                  <a:lnTo>
                    <a:pt x="323" y="1523"/>
                  </a:lnTo>
                  <a:lnTo>
                    <a:pt x="286" y="1623"/>
                  </a:lnTo>
                  <a:lnTo>
                    <a:pt x="290" y="1628"/>
                  </a:lnTo>
                  <a:lnTo>
                    <a:pt x="296" y="1635"/>
                  </a:lnTo>
                  <a:lnTo>
                    <a:pt x="302" y="1641"/>
                  </a:lnTo>
                  <a:lnTo>
                    <a:pt x="310" y="1648"/>
                  </a:lnTo>
                  <a:lnTo>
                    <a:pt x="318" y="1654"/>
                  </a:lnTo>
                  <a:lnTo>
                    <a:pt x="327" y="1661"/>
                  </a:lnTo>
                  <a:lnTo>
                    <a:pt x="349" y="1675"/>
                  </a:lnTo>
                  <a:lnTo>
                    <a:pt x="361" y="1682"/>
                  </a:lnTo>
                  <a:lnTo>
                    <a:pt x="373" y="1686"/>
                  </a:lnTo>
                  <a:lnTo>
                    <a:pt x="386" y="1691"/>
                  </a:lnTo>
                  <a:lnTo>
                    <a:pt x="400" y="1695"/>
                  </a:lnTo>
                  <a:lnTo>
                    <a:pt x="413" y="1698"/>
                  </a:lnTo>
                  <a:lnTo>
                    <a:pt x="428" y="1700"/>
                  </a:lnTo>
                  <a:lnTo>
                    <a:pt x="443" y="1701"/>
                  </a:lnTo>
                  <a:lnTo>
                    <a:pt x="458" y="1701"/>
                  </a:lnTo>
                  <a:lnTo>
                    <a:pt x="482" y="1700"/>
                  </a:lnTo>
                  <a:lnTo>
                    <a:pt x="505" y="1698"/>
                  </a:lnTo>
                  <a:lnTo>
                    <a:pt x="529" y="1694"/>
                  </a:lnTo>
                  <a:lnTo>
                    <a:pt x="553" y="1688"/>
                  </a:lnTo>
                  <a:lnTo>
                    <a:pt x="576" y="1680"/>
                  </a:lnTo>
                  <a:lnTo>
                    <a:pt x="599" y="1671"/>
                  </a:lnTo>
                  <a:lnTo>
                    <a:pt x="623" y="1660"/>
                  </a:lnTo>
                  <a:lnTo>
                    <a:pt x="645" y="1647"/>
                  </a:lnTo>
                  <a:lnTo>
                    <a:pt x="668" y="1632"/>
                  </a:lnTo>
                  <a:lnTo>
                    <a:pt x="689" y="1616"/>
                  </a:lnTo>
                  <a:lnTo>
                    <a:pt x="710" y="1598"/>
                  </a:lnTo>
                  <a:lnTo>
                    <a:pt x="731" y="1580"/>
                  </a:lnTo>
                  <a:lnTo>
                    <a:pt x="752" y="1559"/>
                  </a:lnTo>
                  <a:lnTo>
                    <a:pt x="771" y="1537"/>
                  </a:lnTo>
                  <a:lnTo>
                    <a:pt x="791" y="1514"/>
                  </a:lnTo>
                  <a:lnTo>
                    <a:pt x="809" y="1489"/>
                  </a:lnTo>
                  <a:lnTo>
                    <a:pt x="827" y="1461"/>
                  </a:lnTo>
                  <a:lnTo>
                    <a:pt x="846" y="1432"/>
                  </a:lnTo>
                  <a:lnTo>
                    <a:pt x="862" y="1401"/>
                  </a:lnTo>
                  <a:lnTo>
                    <a:pt x="880" y="1370"/>
                  </a:lnTo>
                  <a:lnTo>
                    <a:pt x="895" y="1335"/>
                  </a:lnTo>
                  <a:lnTo>
                    <a:pt x="911" y="1300"/>
                  </a:lnTo>
                  <a:lnTo>
                    <a:pt x="926" y="1264"/>
                  </a:lnTo>
                  <a:lnTo>
                    <a:pt x="940" y="1225"/>
                  </a:lnTo>
                  <a:lnTo>
                    <a:pt x="954" y="1185"/>
                  </a:lnTo>
                  <a:lnTo>
                    <a:pt x="967" y="1143"/>
                  </a:lnTo>
                  <a:lnTo>
                    <a:pt x="979" y="1101"/>
                  </a:lnTo>
                  <a:lnTo>
                    <a:pt x="989" y="1057"/>
                  </a:lnTo>
                  <a:lnTo>
                    <a:pt x="999" y="1011"/>
                  </a:lnTo>
                  <a:lnTo>
                    <a:pt x="1009" y="963"/>
                  </a:lnTo>
                  <a:lnTo>
                    <a:pt x="1017" y="915"/>
                  </a:lnTo>
                  <a:lnTo>
                    <a:pt x="1024" y="864"/>
                  </a:lnTo>
                  <a:lnTo>
                    <a:pt x="984" y="904"/>
                  </a:lnTo>
                  <a:lnTo>
                    <a:pt x="946" y="942"/>
                  </a:lnTo>
                  <a:lnTo>
                    <a:pt x="909" y="976"/>
                  </a:lnTo>
                  <a:lnTo>
                    <a:pt x="873" y="1006"/>
                  </a:lnTo>
                  <a:lnTo>
                    <a:pt x="856" y="1020"/>
                  </a:lnTo>
                  <a:lnTo>
                    <a:pt x="838" y="1031"/>
                  </a:lnTo>
                  <a:lnTo>
                    <a:pt x="821" y="1041"/>
                  </a:lnTo>
                  <a:lnTo>
                    <a:pt x="805" y="1049"/>
                  </a:lnTo>
                  <a:lnTo>
                    <a:pt x="788" y="1055"/>
                  </a:lnTo>
                  <a:lnTo>
                    <a:pt x="772" y="1059"/>
                  </a:lnTo>
                  <a:lnTo>
                    <a:pt x="757" y="1061"/>
                  </a:lnTo>
                  <a:lnTo>
                    <a:pt x="741" y="1063"/>
                  </a:lnTo>
                  <a:lnTo>
                    <a:pt x="730" y="1063"/>
                  </a:lnTo>
                  <a:lnTo>
                    <a:pt x="719" y="1061"/>
                  </a:lnTo>
                  <a:lnTo>
                    <a:pt x="708" y="1060"/>
                  </a:lnTo>
                  <a:lnTo>
                    <a:pt x="698" y="1058"/>
                  </a:lnTo>
                  <a:lnTo>
                    <a:pt x="689" y="1056"/>
                  </a:lnTo>
                  <a:lnTo>
                    <a:pt x="680" y="1053"/>
                  </a:lnTo>
                  <a:lnTo>
                    <a:pt x="671" y="1050"/>
                  </a:lnTo>
                  <a:lnTo>
                    <a:pt x="663" y="1046"/>
                  </a:lnTo>
                  <a:lnTo>
                    <a:pt x="646" y="1038"/>
                  </a:lnTo>
                  <a:lnTo>
                    <a:pt x="629" y="1029"/>
                  </a:lnTo>
                  <a:lnTo>
                    <a:pt x="613" y="1019"/>
                  </a:lnTo>
                  <a:lnTo>
                    <a:pt x="597" y="1007"/>
                  </a:lnTo>
                  <a:lnTo>
                    <a:pt x="583" y="998"/>
                  </a:lnTo>
                  <a:lnTo>
                    <a:pt x="568" y="989"/>
                  </a:lnTo>
                  <a:lnTo>
                    <a:pt x="551" y="979"/>
                  </a:lnTo>
                  <a:lnTo>
                    <a:pt x="534" y="970"/>
                  </a:lnTo>
                  <a:lnTo>
                    <a:pt x="525" y="966"/>
                  </a:lnTo>
                  <a:lnTo>
                    <a:pt x="516" y="962"/>
                  </a:lnTo>
                  <a:lnTo>
                    <a:pt x="507" y="960"/>
                  </a:lnTo>
                  <a:lnTo>
                    <a:pt x="497" y="958"/>
                  </a:lnTo>
                  <a:lnTo>
                    <a:pt x="487" y="955"/>
                  </a:lnTo>
                  <a:lnTo>
                    <a:pt x="477" y="954"/>
                  </a:lnTo>
                  <a:lnTo>
                    <a:pt x="466" y="953"/>
                  </a:lnTo>
                  <a:lnTo>
                    <a:pt x="455" y="953"/>
                  </a:lnTo>
                  <a:lnTo>
                    <a:pt x="430" y="954"/>
                  </a:lnTo>
                  <a:lnTo>
                    <a:pt x="407" y="956"/>
                  </a:lnTo>
                  <a:lnTo>
                    <a:pt x="396" y="958"/>
                  </a:lnTo>
                  <a:lnTo>
                    <a:pt x="386" y="960"/>
                  </a:lnTo>
                  <a:lnTo>
                    <a:pt x="377" y="962"/>
                  </a:lnTo>
                  <a:lnTo>
                    <a:pt x="368" y="966"/>
                  </a:lnTo>
                  <a:lnTo>
                    <a:pt x="351" y="973"/>
                  </a:lnTo>
                  <a:lnTo>
                    <a:pt x="336" y="981"/>
                  </a:lnTo>
                  <a:lnTo>
                    <a:pt x="321" y="989"/>
                  </a:lnTo>
                  <a:lnTo>
                    <a:pt x="307" y="997"/>
                  </a:lnTo>
                  <a:lnTo>
                    <a:pt x="281" y="939"/>
                  </a:lnTo>
                  <a:lnTo>
                    <a:pt x="322" y="891"/>
                  </a:lnTo>
                  <a:lnTo>
                    <a:pt x="364" y="847"/>
                  </a:lnTo>
                  <a:lnTo>
                    <a:pt x="405" y="807"/>
                  </a:lnTo>
                  <a:lnTo>
                    <a:pt x="446" y="773"/>
                  </a:lnTo>
                  <a:lnTo>
                    <a:pt x="467" y="758"/>
                  </a:lnTo>
                  <a:lnTo>
                    <a:pt x="487" y="744"/>
                  </a:lnTo>
                  <a:lnTo>
                    <a:pt x="507" y="733"/>
                  </a:lnTo>
                  <a:lnTo>
                    <a:pt x="527" y="724"/>
                  </a:lnTo>
                  <a:lnTo>
                    <a:pt x="546" y="717"/>
                  </a:lnTo>
                  <a:lnTo>
                    <a:pt x="565" y="712"/>
                  </a:lnTo>
                  <a:lnTo>
                    <a:pt x="583" y="709"/>
                  </a:lnTo>
                  <a:lnTo>
                    <a:pt x="602" y="708"/>
                  </a:lnTo>
                  <a:lnTo>
                    <a:pt x="626" y="709"/>
                  </a:lnTo>
                  <a:lnTo>
                    <a:pt x="637" y="710"/>
                  </a:lnTo>
                  <a:lnTo>
                    <a:pt x="648" y="712"/>
                  </a:lnTo>
                  <a:lnTo>
                    <a:pt x="657" y="714"/>
                  </a:lnTo>
                  <a:lnTo>
                    <a:pt x="666" y="716"/>
                  </a:lnTo>
                  <a:lnTo>
                    <a:pt x="675" y="720"/>
                  </a:lnTo>
                  <a:lnTo>
                    <a:pt x="682" y="723"/>
                  </a:lnTo>
                  <a:lnTo>
                    <a:pt x="712" y="740"/>
                  </a:lnTo>
                  <a:lnTo>
                    <a:pt x="727" y="751"/>
                  </a:lnTo>
                  <a:lnTo>
                    <a:pt x="743" y="761"/>
                  </a:lnTo>
                  <a:lnTo>
                    <a:pt x="755" y="769"/>
                  </a:lnTo>
                  <a:lnTo>
                    <a:pt x="768" y="777"/>
                  </a:lnTo>
                  <a:lnTo>
                    <a:pt x="783" y="787"/>
                  </a:lnTo>
                  <a:lnTo>
                    <a:pt x="801" y="795"/>
                  </a:lnTo>
                  <a:lnTo>
                    <a:pt x="810" y="799"/>
                  </a:lnTo>
                  <a:lnTo>
                    <a:pt x="820" y="803"/>
                  </a:lnTo>
                  <a:lnTo>
                    <a:pt x="829" y="806"/>
                  </a:lnTo>
                  <a:lnTo>
                    <a:pt x="838" y="809"/>
                  </a:lnTo>
                  <a:lnTo>
                    <a:pt x="848" y="811"/>
                  </a:lnTo>
                  <a:lnTo>
                    <a:pt x="858" y="812"/>
                  </a:lnTo>
                  <a:lnTo>
                    <a:pt x="868" y="813"/>
                  </a:lnTo>
                  <a:lnTo>
                    <a:pt x="878" y="813"/>
                  </a:lnTo>
                  <a:lnTo>
                    <a:pt x="901" y="812"/>
                  </a:lnTo>
                  <a:lnTo>
                    <a:pt x="923" y="811"/>
                  </a:lnTo>
                  <a:lnTo>
                    <a:pt x="933" y="809"/>
                  </a:lnTo>
                  <a:lnTo>
                    <a:pt x="943" y="807"/>
                  </a:lnTo>
                  <a:lnTo>
                    <a:pt x="952" y="804"/>
                  </a:lnTo>
                  <a:lnTo>
                    <a:pt x="960" y="802"/>
                  </a:lnTo>
                  <a:lnTo>
                    <a:pt x="977" y="795"/>
                  </a:lnTo>
                  <a:lnTo>
                    <a:pt x="995" y="787"/>
                  </a:lnTo>
                  <a:lnTo>
                    <a:pt x="1014" y="777"/>
                  </a:lnTo>
                  <a:lnTo>
                    <a:pt x="1035" y="767"/>
                  </a:lnTo>
                  <a:lnTo>
                    <a:pt x="1038" y="743"/>
                  </a:lnTo>
                  <a:lnTo>
                    <a:pt x="1040" y="718"/>
                  </a:lnTo>
                  <a:lnTo>
                    <a:pt x="1044" y="675"/>
                  </a:lnTo>
                  <a:lnTo>
                    <a:pt x="1044" y="655"/>
                  </a:lnTo>
                  <a:lnTo>
                    <a:pt x="1045" y="635"/>
                  </a:lnTo>
                  <a:lnTo>
                    <a:pt x="1046" y="617"/>
                  </a:lnTo>
                  <a:lnTo>
                    <a:pt x="1046" y="600"/>
                  </a:lnTo>
                  <a:lnTo>
                    <a:pt x="1044" y="541"/>
                  </a:lnTo>
                  <a:lnTo>
                    <a:pt x="1041" y="486"/>
                  </a:lnTo>
                  <a:lnTo>
                    <a:pt x="1034" y="436"/>
                  </a:lnTo>
                  <a:lnTo>
                    <a:pt x="1025" y="388"/>
                  </a:lnTo>
                  <a:lnTo>
                    <a:pt x="1014" y="344"/>
                  </a:lnTo>
                  <a:lnTo>
                    <a:pt x="1007" y="325"/>
                  </a:lnTo>
                  <a:lnTo>
                    <a:pt x="999" y="305"/>
                  </a:lnTo>
                  <a:lnTo>
                    <a:pt x="992" y="287"/>
                  </a:lnTo>
                  <a:lnTo>
                    <a:pt x="983" y="268"/>
                  </a:lnTo>
                  <a:lnTo>
                    <a:pt x="974" y="252"/>
                  </a:lnTo>
                  <a:lnTo>
                    <a:pt x="964" y="236"/>
                  </a:lnTo>
                  <a:lnTo>
                    <a:pt x="942" y="207"/>
                  </a:lnTo>
                  <a:lnTo>
                    <a:pt x="931" y="194"/>
                  </a:lnTo>
                  <a:lnTo>
                    <a:pt x="920" y="183"/>
                  </a:lnTo>
                  <a:lnTo>
                    <a:pt x="908" y="172"/>
                  </a:lnTo>
                  <a:lnTo>
                    <a:pt x="895" y="162"/>
                  </a:lnTo>
                  <a:lnTo>
                    <a:pt x="883" y="153"/>
                  </a:lnTo>
                  <a:lnTo>
                    <a:pt x="871" y="145"/>
                  </a:lnTo>
                  <a:lnTo>
                    <a:pt x="857" y="138"/>
                  </a:lnTo>
                  <a:lnTo>
                    <a:pt x="843" y="132"/>
                  </a:lnTo>
                  <a:lnTo>
                    <a:pt x="829" y="126"/>
                  </a:lnTo>
                  <a:lnTo>
                    <a:pt x="815" y="123"/>
                  </a:lnTo>
                  <a:lnTo>
                    <a:pt x="785" y="117"/>
                  </a:lnTo>
                  <a:lnTo>
                    <a:pt x="754" y="115"/>
                  </a:lnTo>
                  <a:lnTo>
                    <a:pt x="734" y="116"/>
                  </a:lnTo>
                  <a:lnTo>
                    <a:pt x="715" y="118"/>
                  </a:lnTo>
                  <a:lnTo>
                    <a:pt x="696" y="121"/>
                  </a:lnTo>
                  <a:lnTo>
                    <a:pt x="677" y="127"/>
                  </a:lnTo>
                  <a:lnTo>
                    <a:pt x="658" y="135"/>
                  </a:lnTo>
                  <a:lnTo>
                    <a:pt x="639" y="145"/>
                  </a:lnTo>
                  <a:lnTo>
                    <a:pt x="621" y="155"/>
                  </a:lnTo>
                  <a:lnTo>
                    <a:pt x="603" y="168"/>
                  </a:lnTo>
                  <a:lnTo>
                    <a:pt x="584" y="182"/>
                  </a:lnTo>
                  <a:lnTo>
                    <a:pt x="566" y="195"/>
                  </a:lnTo>
                  <a:lnTo>
                    <a:pt x="549" y="212"/>
                  </a:lnTo>
                  <a:lnTo>
                    <a:pt x="531" y="228"/>
                  </a:lnTo>
                  <a:lnTo>
                    <a:pt x="514" y="245"/>
                  </a:lnTo>
                  <a:lnTo>
                    <a:pt x="496" y="263"/>
                  </a:lnTo>
                  <a:lnTo>
                    <a:pt x="480" y="283"/>
                  </a:lnTo>
                  <a:lnTo>
                    <a:pt x="463" y="304"/>
                  </a:lnTo>
                  <a:lnTo>
                    <a:pt x="431" y="345"/>
                  </a:lnTo>
                  <a:lnTo>
                    <a:pt x="401" y="388"/>
                  </a:lnTo>
                  <a:lnTo>
                    <a:pt x="372" y="434"/>
                  </a:lnTo>
                  <a:lnTo>
                    <a:pt x="345" y="483"/>
                  </a:lnTo>
                  <a:lnTo>
                    <a:pt x="296" y="578"/>
                  </a:lnTo>
                  <a:lnTo>
                    <a:pt x="275" y="620"/>
                  </a:lnTo>
                  <a:lnTo>
                    <a:pt x="257" y="660"/>
                  </a:lnTo>
                  <a:lnTo>
                    <a:pt x="170" y="660"/>
                  </a:lnTo>
                  <a:lnTo>
                    <a:pt x="291" y="46"/>
                  </a:lnTo>
                  <a:lnTo>
                    <a:pt x="376" y="46"/>
                  </a:lnTo>
                  <a:lnTo>
                    <a:pt x="420" y="113"/>
                  </a:lnTo>
                  <a:lnTo>
                    <a:pt x="464" y="90"/>
                  </a:lnTo>
                  <a:lnTo>
                    <a:pt x="508" y="69"/>
                  </a:lnTo>
                  <a:lnTo>
                    <a:pt x="554" y="50"/>
                  </a:lnTo>
                  <a:lnTo>
                    <a:pt x="602" y="33"/>
                  </a:lnTo>
                  <a:lnTo>
                    <a:pt x="626" y="24"/>
                  </a:lnTo>
                  <a:lnTo>
                    <a:pt x="651" y="19"/>
                  </a:lnTo>
                  <a:lnTo>
                    <a:pt x="677" y="13"/>
                  </a:lnTo>
                  <a:lnTo>
                    <a:pt x="703" y="8"/>
                  </a:lnTo>
                  <a:lnTo>
                    <a:pt x="758" y="3"/>
                  </a:lnTo>
                  <a:lnTo>
                    <a:pt x="816" y="0"/>
                  </a:lnTo>
                  <a:lnTo>
                    <a:pt x="880" y="3"/>
                  </a:lnTo>
                  <a:lnTo>
                    <a:pt x="942" y="12"/>
                  </a:lnTo>
                  <a:lnTo>
                    <a:pt x="1001" y="26"/>
                  </a:lnTo>
                  <a:lnTo>
                    <a:pt x="1056" y="45"/>
                  </a:lnTo>
                  <a:lnTo>
                    <a:pt x="1108" y="69"/>
                  </a:lnTo>
                  <a:lnTo>
                    <a:pt x="1156" y="101"/>
                  </a:lnTo>
                  <a:lnTo>
                    <a:pt x="1201" y="136"/>
                  </a:lnTo>
                  <a:lnTo>
                    <a:pt x="1222" y="157"/>
                  </a:lnTo>
                  <a:lnTo>
                    <a:pt x="1242" y="179"/>
                  </a:lnTo>
                  <a:lnTo>
                    <a:pt x="1261" y="202"/>
                  </a:lnTo>
                  <a:lnTo>
                    <a:pt x="1280" y="225"/>
                  </a:lnTo>
                  <a:lnTo>
                    <a:pt x="1296" y="251"/>
                  </a:lnTo>
                  <a:lnTo>
                    <a:pt x="1312" y="276"/>
                  </a:lnTo>
                  <a:lnTo>
                    <a:pt x="1326" y="304"/>
                  </a:lnTo>
                  <a:lnTo>
                    <a:pt x="1340" y="332"/>
                  </a:lnTo>
                  <a:lnTo>
                    <a:pt x="1351" y="360"/>
                  </a:lnTo>
                  <a:lnTo>
                    <a:pt x="1362" y="391"/>
                  </a:lnTo>
                  <a:lnTo>
                    <a:pt x="1371" y="422"/>
                  </a:lnTo>
                  <a:lnTo>
                    <a:pt x="1380" y="454"/>
                  </a:lnTo>
                  <a:lnTo>
                    <a:pt x="1386" y="486"/>
                  </a:lnTo>
                  <a:lnTo>
                    <a:pt x="1392" y="521"/>
                  </a:lnTo>
                  <a:lnTo>
                    <a:pt x="1396" y="556"/>
                  </a:lnTo>
                  <a:lnTo>
                    <a:pt x="1400" y="593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3400" y="627120"/>
              <a:ext cx="687600" cy="449280"/>
            </a:xfrm>
            <a:custGeom>
              <a:avLst/>
              <a:gdLst/>
              <a:ahLst/>
              <a:rect l="l" t="t" r="r" b="b"/>
              <a:pathLst>
                <a:path w="1908" h="1250">
                  <a:moveTo>
                    <a:pt x="1907" y="1044"/>
                  </a:moveTo>
                  <a:lnTo>
                    <a:pt x="1886" y="1152"/>
                  </a:lnTo>
                  <a:lnTo>
                    <a:pt x="1735" y="1224"/>
                  </a:lnTo>
                  <a:lnTo>
                    <a:pt x="1721" y="1230"/>
                  </a:lnTo>
                  <a:lnTo>
                    <a:pt x="1706" y="1236"/>
                  </a:lnTo>
                  <a:lnTo>
                    <a:pt x="1690" y="1240"/>
                  </a:lnTo>
                  <a:lnTo>
                    <a:pt x="1674" y="1244"/>
                  </a:lnTo>
                  <a:lnTo>
                    <a:pt x="1658" y="1246"/>
                  </a:lnTo>
                  <a:lnTo>
                    <a:pt x="1641" y="1248"/>
                  </a:lnTo>
                  <a:lnTo>
                    <a:pt x="1623" y="1249"/>
                  </a:lnTo>
                  <a:lnTo>
                    <a:pt x="1604" y="1249"/>
                  </a:lnTo>
                  <a:lnTo>
                    <a:pt x="1577" y="1248"/>
                  </a:lnTo>
                  <a:lnTo>
                    <a:pt x="1551" y="1245"/>
                  </a:lnTo>
                  <a:lnTo>
                    <a:pt x="1526" y="1239"/>
                  </a:lnTo>
                  <a:lnTo>
                    <a:pt x="1504" y="1231"/>
                  </a:lnTo>
                  <a:lnTo>
                    <a:pt x="1482" y="1221"/>
                  </a:lnTo>
                  <a:lnTo>
                    <a:pt x="1462" y="1209"/>
                  </a:lnTo>
                  <a:lnTo>
                    <a:pt x="1453" y="1201"/>
                  </a:lnTo>
                  <a:lnTo>
                    <a:pt x="1444" y="1194"/>
                  </a:lnTo>
                  <a:lnTo>
                    <a:pt x="1435" y="1186"/>
                  </a:lnTo>
                  <a:lnTo>
                    <a:pt x="1427" y="1177"/>
                  </a:lnTo>
                  <a:lnTo>
                    <a:pt x="1412" y="1158"/>
                  </a:lnTo>
                  <a:lnTo>
                    <a:pt x="1405" y="1149"/>
                  </a:lnTo>
                  <a:lnTo>
                    <a:pt x="1400" y="1139"/>
                  </a:lnTo>
                  <a:lnTo>
                    <a:pt x="1394" y="1128"/>
                  </a:lnTo>
                  <a:lnTo>
                    <a:pt x="1389" y="1118"/>
                  </a:lnTo>
                  <a:lnTo>
                    <a:pt x="1384" y="1107"/>
                  </a:lnTo>
                  <a:lnTo>
                    <a:pt x="1380" y="1097"/>
                  </a:lnTo>
                  <a:lnTo>
                    <a:pt x="1376" y="1086"/>
                  </a:lnTo>
                  <a:lnTo>
                    <a:pt x="1373" y="1074"/>
                  </a:lnTo>
                  <a:lnTo>
                    <a:pt x="1371" y="1061"/>
                  </a:lnTo>
                  <a:lnTo>
                    <a:pt x="1368" y="1050"/>
                  </a:lnTo>
                  <a:lnTo>
                    <a:pt x="1366" y="1037"/>
                  </a:lnTo>
                  <a:lnTo>
                    <a:pt x="1365" y="1024"/>
                  </a:lnTo>
                  <a:lnTo>
                    <a:pt x="1364" y="1012"/>
                  </a:lnTo>
                  <a:lnTo>
                    <a:pt x="1364" y="999"/>
                  </a:lnTo>
                  <a:lnTo>
                    <a:pt x="1364" y="983"/>
                  </a:lnTo>
                  <a:lnTo>
                    <a:pt x="1365" y="965"/>
                  </a:lnTo>
                  <a:lnTo>
                    <a:pt x="1366" y="924"/>
                  </a:lnTo>
                  <a:lnTo>
                    <a:pt x="1368" y="900"/>
                  </a:lnTo>
                  <a:lnTo>
                    <a:pt x="1371" y="873"/>
                  </a:lnTo>
                  <a:lnTo>
                    <a:pt x="1376" y="843"/>
                  </a:lnTo>
                  <a:lnTo>
                    <a:pt x="1382" y="811"/>
                  </a:lnTo>
                  <a:lnTo>
                    <a:pt x="1451" y="488"/>
                  </a:lnTo>
                  <a:lnTo>
                    <a:pt x="1456" y="463"/>
                  </a:lnTo>
                  <a:lnTo>
                    <a:pt x="1460" y="439"/>
                  </a:lnTo>
                  <a:lnTo>
                    <a:pt x="1465" y="417"/>
                  </a:lnTo>
                  <a:lnTo>
                    <a:pt x="1467" y="395"/>
                  </a:lnTo>
                  <a:lnTo>
                    <a:pt x="1470" y="375"/>
                  </a:lnTo>
                  <a:lnTo>
                    <a:pt x="1471" y="357"/>
                  </a:lnTo>
                  <a:lnTo>
                    <a:pt x="1472" y="341"/>
                  </a:lnTo>
                  <a:lnTo>
                    <a:pt x="1472" y="327"/>
                  </a:lnTo>
                  <a:lnTo>
                    <a:pt x="1472" y="313"/>
                  </a:lnTo>
                  <a:lnTo>
                    <a:pt x="1470" y="299"/>
                  </a:lnTo>
                  <a:lnTo>
                    <a:pt x="1469" y="286"/>
                  </a:lnTo>
                  <a:lnTo>
                    <a:pt x="1466" y="275"/>
                  </a:lnTo>
                  <a:lnTo>
                    <a:pt x="1465" y="269"/>
                  </a:lnTo>
                  <a:lnTo>
                    <a:pt x="1463" y="263"/>
                  </a:lnTo>
                  <a:lnTo>
                    <a:pt x="1461" y="259"/>
                  </a:lnTo>
                  <a:lnTo>
                    <a:pt x="1460" y="254"/>
                  </a:lnTo>
                  <a:lnTo>
                    <a:pt x="1457" y="248"/>
                  </a:lnTo>
                  <a:lnTo>
                    <a:pt x="1455" y="244"/>
                  </a:lnTo>
                  <a:lnTo>
                    <a:pt x="1452" y="240"/>
                  </a:lnTo>
                  <a:lnTo>
                    <a:pt x="1450" y="236"/>
                  </a:lnTo>
                  <a:lnTo>
                    <a:pt x="1446" y="232"/>
                  </a:lnTo>
                  <a:lnTo>
                    <a:pt x="1443" y="228"/>
                  </a:lnTo>
                  <a:lnTo>
                    <a:pt x="1440" y="224"/>
                  </a:lnTo>
                  <a:lnTo>
                    <a:pt x="1436" y="222"/>
                  </a:lnTo>
                  <a:lnTo>
                    <a:pt x="1432" y="218"/>
                  </a:lnTo>
                  <a:lnTo>
                    <a:pt x="1428" y="216"/>
                  </a:lnTo>
                  <a:lnTo>
                    <a:pt x="1424" y="214"/>
                  </a:lnTo>
                  <a:lnTo>
                    <a:pt x="1420" y="211"/>
                  </a:lnTo>
                  <a:lnTo>
                    <a:pt x="1410" y="208"/>
                  </a:lnTo>
                  <a:lnTo>
                    <a:pt x="1399" y="206"/>
                  </a:lnTo>
                  <a:lnTo>
                    <a:pt x="1387" y="203"/>
                  </a:lnTo>
                  <a:lnTo>
                    <a:pt x="1375" y="203"/>
                  </a:lnTo>
                  <a:lnTo>
                    <a:pt x="1366" y="204"/>
                  </a:lnTo>
                  <a:lnTo>
                    <a:pt x="1356" y="206"/>
                  </a:lnTo>
                  <a:lnTo>
                    <a:pt x="1345" y="209"/>
                  </a:lnTo>
                  <a:lnTo>
                    <a:pt x="1334" y="214"/>
                  </a:lnTo>
                  <a:lnTo>
                    <a:pt x="1321" y="219"/>
                  </a:lnTo>
                  <a:lnTo>
                    <a:pt x="1309" y="226"/>
                  </a:lnTo>
                  <a:lnTo>
                    <a:pt x="1297" y="236"/>
                  </a:lnTo>
                  <a:lnTo>
                    <a:pt x="1282" y="245"/>
                  </a:lnTo>
                  <a:lnTo>
                    <a:pt x="1268" y="255"/>
                  </a:lnTo>
                  <a:lnTo>
                    <a:pt x="1254" y="267"/>
                  </a:lnTo>
                  <a:lnTo>
                    <a:pt x="1240" y="279"/>
                  </a:lnTo>
                  <a:lnTo>
                    <a:pt x="1226" y="292"/>
                  </a:lnTo>
                  <a:lnTo>
                    <a:pt x="1198" y="322"/>
                  </a:lnTo>
                  <a:lnTo>
                    <a:pt x="1169" y="355"/>
                  </a:lnTo>
                  <a:lnTo>
                    <a:pt x="1011" y="1229"/>
                  </a:lnTo>
                  <a:lnTo>
                    <a:pt x="694" y="1229"/>
                  </a:lnTo>
                  <a:lnTo>
                    <a:pt x="828" y="491"/>
                  </a:lnTo>
                  <a:lnTo>
                    <a:pt x="844" y="393"/>
                  </a:lnTo>
                  <a:lnTo>
                    <a:pt x="846" y="374"/>
                  </a:lnTo>
                  <a:lnTo>
                    <a:pt x="848" y="357"/>
                  </a:lnTo>
                  <a:lnTo>
                    <a:pt x="850" y="342"/>
                  </a:lnTo>
                  <a:lnTo>
                    <a:pt x="850" y="327"/>
                  </a:lnTo>
                  <a:lnTo>
                    <a:pt x="850" y="313"/>
                  </a:lnTo>
                  <a:lnTo>
                    <a:pt x="848" y="299"/>
                  </a:lnTo>
                  <a:lnTo>
                    <a:pt x="846" y="286"/>
                  </a:lnTo>
                  <a:lnTo>
                    <a:pt x="844" y="275"/>
                  </a:lnTo>
                  <a:lnTo>
                    <a:pt x="842" y="269"/>
                  </a:lnTo>
                  <a:lnTo>
                    <a:pt x="841" y="263"/>
                  </a:lnTo>
                  <a:lnTo>
                    <a:pt x="838" y="259"/>
                  </a:lnTo>
                  <a:lnTo>
                    <a:pt x="836" y="254"/>
                  </a:lnTo>
                  <a:lnTo>
                    <a:pt x="834" y="248"/>
                  </a:lnTo>
                  <a:lnTo>
                    <a:pt x="831" y="244"/>
                  </a:lnTo>
                  <a:lnTo>
                    <a:pt x="829" y="240"/>
                  </a:lnTo>
                  <a:lnTo>
                    <a:pt x="826" y="236"/>
                  </a:lnTo>
                  <a:lnTo>
                    <a:pt x="823" y="232"/>
                  </a:lnTo>
                  <a:lnTo>
                    <a:pt x="821" y="228"/>
                  </a:lnTo>
                  <a:lnTo>
                    <a:pt x="817" y="224"/>
                  </a:lnTo>
                  <a:lnTo>
                    <a:pt x="813" y="222"/>
                  </a:lnTo>
                  <a:lnTo>
                    <a:pt x="809" y="218"/>
                  </a:lnTo>
                  <a:lnTo>
                    <a:pt x="805" y="216"/>
                  </a:lnTo>
                  <a:lnTo>
                    <a:pt x="801" y="214"/>
                  </a:lnTo>
                  <a:lnTo>
                    <a:pt x="797" y="211"/>
                  </a:lnTo>
                  <a:lnTo>
                    <a:pt x="787" y="208"/>
                  </a:lnTo>
                  <a:lnTo>
                    <a:pt x="775" y="206"/>
                  </a:lnTo>
                  <a:lnTo>
                    <a:pt x="763" y="203"/>
                  </a:lnTo>
                  <a:lnTo>
                    <a:pt x="751" y="203"/>
                  </a:lnTo>
                  <a:lnTo>
                    <a:pt x="743" y="203"/>
                  </a:lnTo>
                  <a:lnTo>
                    <a:pt x="734" y="206"/>
                  </a:lnTo>
                  <a:lnTo>
                    <a:pt x="725" y="208"/>
                  </a:lnTo>
                  <a:lnTo>
                    <a:pt x="715" y="211"/>
                  </a:lnTo>
                  <a:lnTo>
                    <a:pt x="704" y="215"/>
                  </a:lnTo>
                  <a:lnTo>
                    <a:pt x="693" y="221"/>
                  </a:lnTo>
                  <a:lnTo>
                    <a:pt x="668" y="233"/>
                  </a:lnTo>
                  <a:lnTo>
                    <a:pt x="654" y="243"/>
                  </a:lnTo>
                  <a:lnTo>
                    <a:pt x="640" y="253"/>
                  </a:lnTo>
                  <a:lnTo>
                    <a:pt x="624" y="264"/>
                  </a:lnTo>
                  <a:lnTo>
                    <a:pt x="609" y="279"/>
                  </a:lnTo>
                  <a:lnTo>
                    <a:pt x="574" y="313"/>
                  </a:lnTo>
                  <a:lnTo>
                    <a:pt x="536" y="355"/>
                  </a:lnTo>
                  <a:lnTo>
                    <a:pt x="378" y="1229"/>
                  </a:lnTo>
                  <a:lnTo>
                    <a:pt x="62" y="1229"/>
                  </a:lnTo>
                  <a:lnTo>
                    <a:pt x="198" y="484"/>
                  </a:lnTo>
                  <a:lnTo>
                    <a:pt x="213" y="395"/>
                  </a:lnTo>
                  <a:lnTo>
                    <a:pt x="217" y="368"/>
                  </a:lnTo>
                  <a:lnTo>
                    <a:pt x="220" y="345"/>
                  </a:lnTo>
                  <a:lnTo>
                    <a:pt x="221" y="334"/>
                  </a:lnTo>
                  <a:lnTo>
                    <a:pt x="221" y="323"/>
                  </a:lnTo>
                  <a:lnTo>
                    <a:pt x="222" y="314"/>
                  </a:lnTo>
                  <a:lnTo>
                    <a:pt x="222" y="305"/>
                  </a:lnTo>
                  <a:lnTo>
                    <a:pt x="222" y="289"/>
                  </a:lnTo>
                  <a:lnTo>
                    <a:pt x="220" y="273"/>
                  </a:lnTo>
                  <a:lnTo>
                    <a:pt x="219" y="259"/>
                  </a:lnTo>
                  <a:lnTo>
                    <a:pt x="217" y="247"/>
                  </a:lnTo>
                  <a:lnTo>
                    <a:pt x="215" y="241"/>
                  </a:lnTo>
                  <a:lnTo>
                    <a:pt x="213" y="236"/>
                  </a:lnTo>
                  <a:lnTo>
                    <a:pt x="212" y="231"/>
                  </a:lnTo>
                  <a:lnTo>
                    <a:pt x="210" y="226"/>
                  </a:lnTo>
                  <a:lnTo>
                    <a:pt x="208" y="222"/>
                  </a:lnTo>
                  <a:lnTo>
                    <a:pt x="206" y="217"/>
                  </a:lnTo>
                  <a:lnTo>
                    <a:pt x="203" y="214"/>
                  </a:lnTo>
                  <a:lnTo>
                    <a:pt x="201" y="210"/>
                  </a:lnTo>
                  <a:lnTo>
                    <a:pt x="198" y="207"/>
                  </a:lnTo>
                  <a:lnTo>
                    <a:pt x="195" y="204"/>
                  </a:lnTo>
                  <a:lnTo>
                    <a:pt x="192" y="201"/>
                  </a:lnTo>
                  <a:lnTo>
                    <a:pt x="188" y="199"/>
                  </a:lnTo>
                  <a:lnTo>
                    <a:pt x="183" y="196"/>
                  </a:lnTo>
                  <a:lnTo>
                    <a:pt x="179" y="194"/>
                  </a:lnTo>
                  <a:lnTo>
                    <a:pt x="169" y="191"/>
                  </a:lnTo>
                  <a:lnTo>
                    <a:pt x="158" y="187"/>
                  </a:lnTo>
                  <a:lnTo>
                    <a:pt x="146" y="185"/>
                  </a:lnTo>
                  <a:lnTo>
                    <a:pt x="133" y="184"/>
                  </a:lnTo>
                  <a:lnTo>
                    <a:pt x="118" y="184"/>
                  </a:lnTo>
                  <a:lnTo>
                    <a:pt x="110" y="184"/>
                  </a:lnTo>
                  <a:lnTo>
                    <a:pt x="102" y="185"/>
                  </a:lnTo>
                  <a:lnTo>
                    <a:pt x="94" y="186"/>
                  </a:lnTo>
                  <a:lnTo>
                    <a:pt x="87" y="187"/>
                  </a:lnTo>
                  <a:lnTo>
                    <a:pt x="79" y="188"/>
                  </a:lnTo>
                  <a:lnTo>
                    <a:pt x="71" y="191"/>
                  </a:lnTo>
                  <a:lnTo>
                    <a:pt x="55" y="196"/>
                  </a:lnTo>
                  <a:lnTo>
                    <a:pt x="25" y="208"/>
                  </a:lnTo>
                  <a:lnTo>
                    <a:pt x="12" y="214"/>
                  </a:lnTo>
                  <a:lnTo>
                    <a:pt x="0" y="219"/>
                  </a:lnTo>
                  <a:lnTo>
                    <a:pt x="21" y="110"/>
                  </a:lnTo>
                  <a:lnTo>
                    <a:pt x="169" y="42"/>
                  </a:lnTo>
                  <a:lnTo>
                    <a:pt x="204" y="29"/>
                  </a:lnTo>
                  <a:lnTo>
                    <a:pt x="221" y="24"/>
                  </a:lnTo>
                  <a:lnTo>
                    <a:pt x="237" y="21"/>
                  </a:lnTo>
                  <a:lnTo>
                    <a:pt x="254" y="17"/>
                  </a:lnTo>
                  <a:lnTo>
                    <a:pt x="271" y="15"/>
                  </a:lnTo>
                  <a:lnTo>
                    <a:pt x="287" y="13"/>
                  </a:lnTo>
                  <a:lnTo>
                    <a:pt x="303" y="13"/>
                  </a:lnTo>
                  <a:lnTo>
                    <a:pt x="331" y="14"/>
                  </a:lnTo>
                  <a:lnTo>
                    <a:pt x="357" y="16"/>
                  </a:lnTo>
                  <a:lnTo>
                    <a:pt x="381" y="21"/>
                  </a:lnTo>
                  <a:lnTo>
                    <a:pt x="403" y="28"/>
                  </a:lnTo>
                  <a:lnTo>
                    <a:pt x="423" y="37"/>
                  </a:lnTo>
                  <a:lnTo>
                    <a:pt x="441" y="47"/>
                  </a:lnTo>
                  <a:lnTo>
                    <a:pt x="450" y="53"/>
                  </a:lnTo>
                  <a:lnTo>
                    <a:pt x="457" y="59"/>
                  </a:lnTo>
                  <a:lnTo>
                    <a:pt x="465" y="66"/>
                  </a:lnTo>
                  <a:lnTo>
                    <a:pt x="471" y="73"/>
                  </a:lnTo>
                  <a:lnTo>
                    <a:pt x="484" y="89"/>
                  </a:lnTo>
                  <a:lnTo>
                    <a:pt x="495" y="105"/>
                  </a:lnTo>
                  <a:lnTo>
                    <a:pt x="505" y="124"/>
                  </a:lnTo>
                  <a:lnTo>
                    <a:pt x="515" y="142"/>
                  </a:lnTo>
                  <a:lnTo>
                    <a:pt x="524" y="162"/>
                  </a:lnTo>
                  <a:lnTo>
                    <a:pt x="531" y="182"/>
                  </a:lnTo>
                  <a:lnTo>
                    <a:pt x="538" y="204"/>
                  </a:lnTo>
                  <a:lnTo>
                    <a:pt x="544" y="228"/>
                  </a:lnTo>
                  <a:lnTo>
                    <a:pt x="550" y="228"/>
                  </a:lnTo>
                  <a:lnTo>
                    <a:pt x="598" y="176"/>
                  </a:lnTo>
                  <a:lnTo>
                    <a:pt x="644" y="129"/>
                  </a:lnTo>
                  <a:lnTo>
                    <a:pt x="668" y="110"/>
                  </a:lnTo>
                  <a:lnTo>
                    <a:pt x="690" y="90"/>
                  </a:lnTo>
                  <a:lnTo>
                    <a:pt x="713" y="73"/>
                  </a:lnTo>
                  <a:lnTo>
                    <a:pt x="735" y="58"/>
                  </a:lnTo>
                  <a:lnTo>
                    <a:pt x="757" y="44"/>
                  </a:lnTo>
                  <a:lnTo>
                    <a:pt x="782" y="32"/>
                  </a:lnTo>
                  <a:lnTo>
                    <a:pt x="806" y="23"/>
                  </a:lnTo>
                  <a:lnTo>
                    <a:pt x="831" y="15"/>
                  </a:lnTo>
                  <a:lnTo>
                    <a:pt x="857" y="8"/>
                  </a:lnTo>
                  <a:lnTo>
                    <a:pt x="884" y="3"/>
                  </a:lnTo>
                  <a:lnTo>
                    <a:pt x="912" y="1"/>
                  </a:lnTo>
                  <a:lnTo>
                    <a:pt x="940" y="0"/>
                  </a:lnTo>
                  <a:lnTo>
                    <a:pt x="965" y="1"/>
                  </a:lnTo>
                  <a:lnTo>
                    <a:pt x="988" y="5"/>
                  </a:lnTo>
                  <a:lnTo>
                    <a:pt x="1009" y="9"/>
                  </a:lnTo>
                  <a:lnTo>
                    <a:pt x="1030" y="16"/>
                  </a:lnTo>
                  <a:lnTo>
                    <a:pt x="1049" y="27"/>
                  </a:lnTo>
                  <a:lnTo>
                    <a:pt x="1069" y="37"/>
                  </a:lnTo>
                  <a:lnTo>
                    <a:pt x="1086" y="51"/>
                  </a:lnTo>
                  <a:lnTo>
                    <a:pt x="1102" y="67"/>
                  </a:lnTo>
                  <a:lnTo>
                    <a:pt x="1117" y="84"/>
                  </a:lnTo>
                  <a:lnTo>
                    <a:pt x="1130" y="102"/>
                  </a:lnTo>
                  <a:lnTo>
                    <a:pt x="1136" y="111"/>
                  </a:lnTo>
                  <a:lnTo>
                    <a:pt x="1142" y="121"/>
                  </a:lnTo>
                  <a:lnTo>
                    <a:pt x="1147" y="131"/>
                  </a:lnTo>
                  <a:lnTo>
                    <a:pt x="1151" y="141"/>
                  </a:lnTo>
                  <a:lnTo>
                    <a:pt x="1155" y="151"/>
                  </a:lnTo>
                  <a:lnTo>
                    <a:pt x="1159" y="162"/>
                  </a:lnTo>
                  <a:lnTo>
                    <a:pt x="1163" y="173"/>
                  </a:lnTo>
                  <a:lnTo>
                    <a:pt x="1165" y="185"/>
                  </a:lnTo>
                  <a:lnTo>
                    <a:pt x="1168" y="195"/>
                  </a:lnTo>
                  <a:lnTo>
                    <a:pt x="1169" y="207"/>
                  </a:lnTo>
                  <a:lnTo>
                    <a:pt x="1171" y="219"/>
                  </a:lnTo>
                  <a:lnTo>
                    <a:pt x="1172" y="231"/>
                  </a:lnTo>
                  <a:lnTo>
                    <a:pt x="1178" y="231"/>
                  </a:lnTo>
                  <a:lnTo>
                    <a:pt x="1229" y="179"/>
                  </a:lnTo>
                  <a:lnTo>
                    <a:pt x="1277" y="133"/>
                  </a:lnTo>
                  <a:lnTo>
                    <a:pt x="1324" y="92"/>
                  </a:lnTo>
                  <a:lnTo>
                    <a:pt x="1346" y="75"/>
                  </a:lnTo>
                  <a:lnTo>
                    <a:pt x="1369" y="60"/>
                  </a:lnTo>
                  <a:lnTo>
                    <a:pt x="1391" y="46"/>
                  </a:lnTo>
                  <a:lnTo>
                    <a:pt x="1415" y="34"/>
                  </a:lnTo>
                  <a:lnTo>
                    <a:pt x="1439" y="23"/>
                  </a:lnTo>
                  <a:lnTo>
                    <a:pt x="1464" y="15"/>
                  </a:lnTo>
                  <a:lnTo>
                    <a:pt x="1489" y="8"/>
                  </a:lnTo>
                  <a:lnTo>
                    <a:pt x="1515" y="3"/>
                  </a:lnTo>
                  <a:lnTo>
                    <a:pt x="1542" y="1"/>
                  </a:lnTo>
                  <a:lnTo>
                    <a:pt x="1570" y="0"/>
                  </a:lnTo>
                  <a:lnTo>
                    <a:pt x="1596" y="1"/>
                  </a:lnTo>
                  <a:lnTo>
                    <a:pt x="1620" y="5"/>
                  </a:lnTo>
                  <a:lnTo>
                    <a:pt x="1643" y="10"/>
                  </a:lnTo>
                  <a:lnTo>
                    <a:pt x="1665" y="18"/>
                  </a:lnTo>
                  <a:lnTo>
                    <a:pt x="1685" y="29"/>
                  </a:lnTo>
                  <a:lnTo>
                    <a:pt x="1694" y="35"/>
                  </a:lnTo>
                  <a:lnTo>
                    <a:pt x="1703" y="42"/>
                  </a:lnTo>
                  <a:lnTo>
                    <a:pt x="1712" y="49"/>
                  </a:lnTo>
                  <a:lnTo>
                    <a:pt x="1721" y="57"/>
                  </a:lnTo>
                  <a:lnTo>
                    <a:pt x="1729" y="65"/>
                  </a:lnTo>
                  <a:lnTo>
                    <a:pt x="1737" y="74"/>
                  </a:lnTo>
                  <a:lnTo>
                    <a:pt x="1751" y="94"/>
                  </a:lnTo>
                  <a:lnTo>
                    <a:pt x="1763" y="113"/>
                  </a:lnTo>
                  <a:lnTo>
                    <a:pt x="1768" y="124"/>
                  </a:lnTo>
                  <a:lnTo>
                    <a:pt x="1773" y="134"/>
                  </a:lnTo>
                  <a:lnTo>
                    <a:pt x="1777" y="144"/>
                  </a:lnTo>
                  <a:lnTo>
                    <a:pt x="1782" y="156"/>
                  </a:lnTo>
                  <a:lnTo>
                    <a:pt x="1785" y="167"/>
                  </a:lnTo>
                  <a:lnTo>
                    <a:pt x="1788" y="178"/>
                  </a:lnTo>
                  <a:lnTo>
                    <a:pt x="1791" y="191"/>
                  </a:lnTo>
                  <a:lnTo>
                    <a:pt x="1793" y="202"/>
                  </a:lnTo>
                  <a:lnTo>
                    <a:pt x="1794" y="215"/>
                  </a:lnTo>
                  <a:lnTo>
                    <a:pt x="1796" y="228"/>
                  </a:lnTo>
                  <a:lnTo>
                    <a:pt x="1796" y="240"/>
                  </a:lnTo>
                  <a:lnTo>
                    <a:pt x="1796" y="253"/>
                  </a:lnTo>
                  <a:lnTo>
                    <a:pt x="1796" y="268"/>
                  </a:lnTo>
                  <a:lnTo>
                    <a:pt x="1796" y="286"/>
                  </a:lnTo>
                  <a:lnTo>
                    <a:pt x="1795" y="307"/>
                  </a:lnTo>
                  <a:lnTo>
                    <a:pt x="1793" y="331"/>
                  </a:lnTo>
                  <a:lnTo>
                    <a:pt x="1791" y="357"/>
                  </a:lnTo>
                  <a:lnTo>
                    <a:pt x="1787" y="383"/>
                  </a:lnTo>
                  <a:lnTo>
                    <a:pt x="1783" y="410"/>
                  </a:lnTo>
                  <a:lnTo>
                    <a:pt x="1777" y="438"/>
                  </a:lnTo>
                  <a:lnTo>
                    <a:pt x="1705" y="778"/>
                  </a:lnTo>
                  <a:lnTo>
                    <a:pt x="1700" y="800"/>
                  </a:lnTo>
                  <a:lnTo>
                    <a:pt x="1696" y="823"/>
                  </a:lnTo>
                  <a:lnTo>
                    <a:pt x="1692" y="849"/>
                  </a:lnTo>
                  <a:lnTo>
                    <a:pt x="1687" y="875"/>
                  </a:lnTo>
                  <a:lnTo>
                    <a:pt x="1684" y="901"/>
                  </a:lnTo>
                  <a:lnTo>
                    <a:pt x="1682" y="923"/>
                  </a:lnTo>
                  <a:lnTo>
                    <a:pt x="1681" y="942"/>
                  </a:lnTo>
                  <a:lnTo>
                    <a:pt x="1680" y="950"/>
                  </a:lnTo>
                  <a:lnTo>
                    <a:pt x="1680" y="957"/>
                  </a:lnTo>
                  <a:lnTo>
                    <a:pt x="1680" y="975"/>
                  </a:lnTo>
                  <a:lnTo>
                    <a:pt x="1682" y="990"/>
                  </a:lnTo>
                  <a:lnTo>
                    <a:pt x="1683" y="1004"/>
                  </a:lnTo>
                  <a:lnTo>
                    <a:pt x="1684" y="1010"/>
                  </a:lnTo>
                  <a:lnTo>
                    <a:pt x="1686" y="1016"/>
                  </a:lnTo>
                  <a:lnTo>
                    <a:pt x="1687" y="1022"/>
                  </a:lnTo>
                  <a:lnTo>
                    <a:pt x="1689" y="1028"/>
                  </a:lnTo>
                  <a:lnTo>
                    <a:pt x="1691" y="1032"/>
                  </a:lnTo>
                  <a:lnTo>
                    <a:pt x="1693" y="1037"/>
                  </a:lnTo>
                  <a:lnTo>
                    <a:pt x="1696" y="1042"/>
                  </a:lnTo>
                  <a:lnTo>
                    <a:pt x="1698" y="1046"/>
                  </a:lnTo>
                  <a:lnTo>
                    <a:pt x="1701" y="1050"/>
                  </a:lnTo>
                  <a:lnTo>
                    <a:pt x="1704" y="1053"/>
                  </a:lnTo>
                  <a:lnTo>
                    <a:pt x="1707" y="1057"/>
                  </a:lnTo>
                  <a:lnTo>
                    <a:pt x="1711" y="1059"/>
                  </a:lnTo>
                  <a:lnTo>
                    <a:pt x="1714" y="1062"/>
                  </a:lnTo>
                  <a:lnTo>
                    <a:pt x="1718" y="1065"/>
                  </a:lnTo>
                  <a:lnTo>
                    <a:pt x="1722" y="1067"/>
                  </a:lnTo>
                  <a:lnTo>
                    <a:pt x="1727" y="1069"/>
                  </a:lnTo>
                  <a:lnTo>
                    <a:pt x="1737" y="1073"/>
                  </a:lnTo>
                  <a:lnTo>
                    <a:pt x="1749" y="1075"/>
                  </a:lnTo>
                  <a:lnTo>
                    <a:pt x="1762" y="1077"/>
                  </a:lnTo>
                  <a:lnTo>
                    <a:pt x="1775" y="1079"/>
                  </a:lnTo>
                  <a:lnTo>
                    <a:pt x="1790" y="1079"/>
                  </a:lnTo>
                  <a:lnTo>
                    <a:pt x="1797" y="1079"/>
                  </a:lnTo>
                  <a:lnTo>
                    <a:pt x="1805" y="1077"/>
                  </a:lnTo>
                  <a:lnTo>
                    <a:pt x="1812" y="1076"/>
                  </a:lnTo>
                  <a:lnTo>
                    <a:pt x="1821" y="1075"/>
                  </a:lnTo>
                  <a:lnTo>
                    <a:pt x="1837" y="1072"/>
                  </a:lnTo>
                  <a:lnTo>
                    <a:pt x="1855" y="1066"/>
                  </a:lnTo>
                  <a:lnTo>
                    <a:pt x="1871" y="1060"/>
                  </a:lnTo>
                  <a:lnTo>
                    <a:pt x="1886" y="1054"/>
                  </a:lnTo>
                  <a:lnTo>
                    <a:pt x="1898" y="104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7520" y="627120"/>
              <a:ext cx="434880" cy="455400"/>
            </a:xfrm>
            <a:custGeom>
              <a:avLst/>
              <a:gdLst/>
              <a:ahLst/>
              <a:rect l="l" t="t" r="r" b="b"/>
              <a:pathLst>
                <a:path w="1209" h="1265">
                  <a:moveTo>
                    <a:pt x="665" y="1077"/>
                  </a:moveTo>
                  <a:lnTo>
                    <a:pt x="658" y="1077"/>
                  </a:lnTo>
                  <a:lnTo>
                    <a:pt x="594" y="1143"/>
                  </a:lnTo>
                  <a:lnTo>
                    <a:pt x="586" y="1151"/>
                  </a:lnTo>
                  <a:lnTo>
                    <a:pt x="578" y="1158"/>
                  </a:lnTo>
                  <a:lnTo>
                    <a:pt x="559" y="1173"/>
                  </a:lnTo>
                  <a:lnTo>
                    <a:pt x="540" y="1188"/>
                  </a:lnTo>
                  <a:lnTo>
                    <a:pt x="518" y="1203"/>
                  </a:lnTo>
                  <a:lnTo>
                    <a:pt x="498" y="1216"/>
                  </a:lnTo>
                  <a:lnTo>
                    <a:pt x="477" y="1228"/>
                  </a:lnTo>
                  <a:lnTo>
                    <a:pt x="455" y="1238"/>
                  </a:lnTo>
                  <a:lnTo>
                    <a:pt x="433" y="1247"/>
                  </a:lnTo>
                  <a:lnTo>
                    <a:pt x="422" y="1252"/>
                  </a:lnTo>
                  <a:lnTo>
                    <a:pt x="411" y="1255"/>
                  </a:lnTo>
                  <a:lnTo>
                    <a:pt x="399" y="1258"/>
                  </a:lnTo>
                  <a:lnTo>
                    <a:pt x="386" y="1260"/>
                  </a:lnTo>
                  <a:lnTo>
                    <a:pt x="374" y="1262"/>
                  </a:lnTo>
                  <a:lnTo>
                    <a:pt x="361" y="1263"/>
                  </a:lnTo>
                  <a:lnTo>
                    <a:pt x="336" y="1264"/>
                  </a:lnTo>
                  <a:lnTo>
                    <a:pt x="295" y="1262"/>
                  </a:lnTo>
                  <a:lnTo>
                    <a:pt x="258" y="1256"/>
                  </a:lnTo>
                  <a:lnTo>
                    <a:pt x="223" y="1247"/>
                  </a:lnTo>
                  <a:lnTo>
                    <a:pt x="206" y="1241"/>
                  </a:lnTo>
                  <a:lnTo>
                    <a:pt x="189" y="1234"/>
                  </a:lnTo>
                  <a:lnTo>
                    <a:pt x="174" y="1225"/>
                  </a:lnTo>
                  <a:lnTo>
                    <a:pt x="159" y="1216"/>
                  </a:lnTo>
                  <a:lnTo>
                    <a:pt x="146" y="1207"/>
                  </a:lnTo>
                  <a:lnTo>
                    <a:pt x="132" y="1195"/>
                  </a:lnTo>
                  <a:lnTo>
                    <a:pt x="119" y="1184"/>
                  </a:lnTo>
                  <a:lnTo>
                    <a:pt x="108" y="1170"/>
                  </a:lnTo>
                  <a:lnTo>
                    <a:pt x="96" y="1156"/>
                  </a:lnTo>
                  <a:lnTo>
                    <a:pt x="85" y="1141"/>
                  </a:lnTo>
                  <a:lnTo>
                    <a:pt x="75" y="1125"/>
                  </a:lnTo>
                  <a:lnTo>
                    <a:pt x="65" y="1109"/>
                  </a:lnTo>
                  <a:lnTo>
                    <a:pt x="56" y="1091"/>
                  </a:lnTo>
                  <a:lnTo>
                    <a:pt x="48" y="1074"/>
                  </a:lnTo>
                  <a:lnTo>
                    <a:pt x="40" y="1055"/>
                  </a:lnTo>
                  <a:lnTo>
                    <a:pt x="34" y="1036"/>
                  </a:lnTo>
                  <a:lnTo>
                    <a:pt x="27" y="1015"/>
                  </a:lnTo>
                  <a:lnTo>
                    <a:pt x="22" y="994"/>
                  </a:lnTo>
                  <a:lnTo>
                    <a:pt x="12" y="950"/>
                  </a:lnTo>
                  <a:lnTo>
                    <a:pt x="5" y="904"/>
                  </a:lnTo>
                  <a:lnTo>
                    <a:pt x="2" y="855"/>
                  </a:lnTo>
                  <a:lnTo>
                    <a:pt x="0" y="801"/>
                  </a:lnTo>
                  <a:lnTo>
                    <a:pt x="1" y="761"/>
                  </a:lnTo>
                  <a:lnTo>
                    <a:pt x="4" y="721"/>
                  </a:lnTo>
                  <a:lnTo>
                    <a:pt x="7" y="680"/>
                  </a:lnTo>
                  <a:lnTo>
                    <a:pt x="12" y="641"/>
                  </a:lnTo>
                  <a:lnTo>
                    <a:pt x="19" y="603"/>
                  </a:lnTo>
                  <a:lnTo>
                    <a:pt x="27" y="565"/>
                  </a:lnTo>
                  <a:lnTo>
                    <a:pt x="37" y="528"/>
                  </a:lnTo>
                  <a:lnTo>
                    <a:pt x="48" y="491"/>
                  </a:lnTo>
                  <a:lnTo>
                    <a:pt x="60" y="455"/>
                  </a:lnTo>
                  <a:lnTo>
                    <a:pt x="73" y="420"/>
                  </a:lnTo>
                  <a:lnTo>
                    <a:pt x="87" y="387"/>
                  </a:lnTo>
                  <a:lnTo>
                    <a:pt x="102" y="355"/>
                  </a:lnTo>
                  <a:lnTo>
                    <a:pt x="119" y="323"/>
                  </a:lnTo>
                  <a:lnTo>
                    <a:pt x="135" y="293"/>
                  </a:lnTo>
                  <a:lnTo>
                    <a:pt x="154" y="263"/>
                  </a:lnTo>
                  <a:lnTo>
                    <a:pt x="173" y="236"/>
                  </a:lnTo>
                  <a:lnTo>
                    <a:pt x="193" y="209"/>
                  </a:lnTo>
                  <a:lnTo>
                    <a:pt x="214" y="184"/>
                  </a:lnTo>
                  <a:lnTo>
                    <a:pt x="236" y="161"/>
                  </a:lnTo>
                  <a:lnTo>
                    <a:pt x="259" y="139"/>
                  </a:lnTo>
                  <a:lnTo>
                    <a:pt x="282" y="118"/>
                  </a:lnTo>
                  <a:lnTo>
                    <a:pt x="307" y="98"/>
                  </a:lnTo>
                  <a:lnTo>
                    <a:pt x="332" y="80"/>
                  </a:lnTo>
                  <a:lnTo>
                    <a:pt x="358" y="64"/>
                  </a:lnTo>
                  <a:lnTo>
                    <a:pt x="385" y="49"/>
                  </a:lnTo>
                  <a:lnTo>
                    <a:pt x="412" y="36"/>
                  </a:lnTo>
                  <a:lnTo>
                    <a:pt x="440" y="24"/>
                  </a:lnTo>
                  <a:lnTo>
                    <a:pt x="467" y="16"/>
                  </a:lnTo>
                  <a:lnTo>
                    <a:pt x="495" y="9"/>
                  </a:lnTo>
                  <a:lnTo>
                    <a:pt x="524" y="3"/>
                  </a:lnTo>
                  <a:lnTo>
                    <a:pt x="553" y="1"/>
                  </a:lnTo>
                  <a:lnTo>
                    <a:pt x="582" y="0"/>
                  </a:lnTo>
                  <a:lnTo>
                    <a:pt x="624" y="1"/>
                  </a:lnTo>
                  <a:lnTo>
                    <a:pt x="644" y="3"/>
                  </a:lnTo>
                  <a:lnTo>
                    <a:pt x="663" y="6"/>
                  </a:lnTo>
                  <a:lnTo>
                    <a:pt x="681" y="9"/>
                  </a:lnTo>
                  <a:lnTo>
                    <a:pt x="698" y="14"/>
                  </a:lnTo>
                  <a:lnTo>
                    <a:pt x="716" y="20"/>
                  </a:lnTo>
                  <a:lnTo>
                    <a:pt x="733" y="25"/>
                  </a:lnTo>
                  <a:lnTo>
                    <a:pt x="748" y="32"/>
                  </a:lnTo>
                  <a:lnTo>
                    <a:pt x="763" y="39"/>
                  </a:lnTo>
                  <a:lnTo>
                    <a:pt x="777" y="47"/>
                  </a:lnTo>
                  <a:lnTo>
                    <a:pt x="792" y="55"/>
                  </a:lnTo>
                  <a:lnTo>
                    <a:pt x="804" y="65"/>
                  </a:lnTo>
                  <a:lnTo>
                    <a:pt x="817" y="74"/>
                  </a:lnTo>
                  <a:lnTo>
                    <a:pt x="827" y="84"/>
                  </a:lnTo>
                  <a:lnTo>
                    <a:pt x="838" y="95"/>
                  </a:lnTo>
                  <a:lnTo>
                    <a:pt x="1132" y="18"/>
                  </a:lnTo>
                  <a:lnTo>
                    <a:pt x="1146" y="37"/>
                  </a:lnTo>
                  <a:lnTo>
                    <a:pt x="1005" y="782"/>
                  </a:lnTo>
                  <a:lnTo>
                    <a:pt x="1001" y="801"/>
                  </a:lnTo>
                  <a:lnTo>
                    <a:pt x="997" y="825"/>
                  </a:lnTo>
                  <a:lnTo>
                    <a:pt x="989" y="875"/>
                  </a:lnTo>
                  <a:lnTo>
                    <a:pt x="985" y="902"/>
                  </a:lnTo>
                  <a:lnTo>
                    <a:pt x="982" y="925"/>
                  </a:lnTo>
                  <a:lnTo>
                    <a:pt x="981" y="945"/>
                  </a:lnTo>
                  <a:lnTo>
                    <a:pt x="980" y="954"/>
                  </a:lnTo>
                  <a:lnTo>
                    <a:pt x="980" y="961"/>
                  </a:lnTo>
                  <a:lnTo>
                    <a:pt x="980" y="977"/>
                  </a:lnTo>
                  <a:lnTo>
                    <a:pt x="982" y="993"/>
                  </a:lnTo>
                  <a:lnTo>
                    <a:pt x="984" y="1007"/>
                  </a:lnTo>
                  <a:lnTo>
                    <a:pt x="985" y="1014"/>
                  </a:lnTo>
                  <a:lnTo>
                    <a:pt x="987" y="1020"/>
                  </a:lnTo>
                  <a:lnTo>
                    <a:pt x="988" y="1025"/>
                  </a:lnTo>
                  <a:lnTo>
                    <a:pt x="990" y="1031"/>
                  </a:lnTo>
                  <a:lnTo>
                    <a:pt x="992" y="1036"/>
                  </a:lnTo>
                  <a:lnTo>
                    <a:pt x="995" y="1040"/>
                  </a:lnTo>
                  <a:lnTo>
                    <a:pt x="997" y="1045"/>
                  </a:lnTo>
                  <a:lnTo>
                    <a:pt x="1000" y="1050"/>
                  </a:lnTo>
                  <a:lnTo>
                    <a:pt x="1002" y="1053"/>
                  </a:lnTo>
                  <a:lnTo>
                    <a:pt x="1005" y="1057"/>
                  </a:lnTo>
                  <a:lnTo>
                    <a:pt x="1009" y="1060"/>
                  </a:lnTo>
                  <a:lnTo>
                    <a:pt x="1012" y="1062"/>
                  </a:lnTo>
                  <a:lnTo>
                    <a:pt x="1016" y="1066"/>
                  </a:lnTo>
                  <a:lnTo>
                    <a:pt x="1020" y="1068"/>
                  </a:lnTo>
                  <a:lnTo>
                    <a:pt x="1029" y="1073"/>
                  </a:lnTo>
                  <a:lnTo>
                    <a:pt x="1039" y="1076"/>
                  </a:lnTo>
                  <a:lnTo>
                    <a:pt x="1050" y="1079"/>
                  </a:lnTo>
                  <a:lnTo>
                    <a:pt x="1063" y="1081"/>
                  </a:lnTo>
                  <a:lnTo>
                    <a:pt x="1076" y="1082"/>
                  </a:lnTo>
                  <a:lnTo>
                    <a:pt x="1091" y="1082"/>
                  </a:lnTo>
                  <a:lnTo>
                    <a:pt x="1098" y="1082"/>
                  </a:lnTo>
                  <a:lnTo>
                    <a:pt x="1105" y="1081"/>
                  </a:lnTo>
                  <a:lnTo>
                    <a:pt x="1120" y="1079"/>
                  </a:lnTo>
                  <a:lnTo>
                    <a:pt x="1138" y="1075"/>
                  </a:lnTo>
                  <a:lnTo>
                    <a:pt x="1156" y="1069"/>
                  </a:lnTo>
                  <a:lnTo>
                    <a:pt x="1188" y="1057"/>
                  </a:lnTo>
                  <a:lnTo>
                    <a:pt x="1199" y="1052"/>
                  </a:lnTo>
                  <a:lnTo>
                    <a:pt x="1204" y="1050"/>
                  </a:lnTo>
                  <a:lnTo>
                    <a:pt x="1208" y="1047"/>
                  </a:lnTo>
                  <a:lnTo>
                    <a:pt x="1188" y="1156"/>
                  </a:lnTo>
                  <a:lnTo>
                    <a:pt x="1036" y="1228"/>
                  </a:lnTo>
                  <a:lnTo>
                    <a:pt x="1021" y="1233"/>
                  </a:lnTo>
                  <a:lnTo>
                    <a:pt x="1006" y="1239"/>
                  </a:lnTo>
                  <a:lnTo>
                    <a:pt x="990" y="1244"/>
                  </a:lnTo>
                  <a:lnTo>
                    <a:pt x="975" y="1247"/>
                  </a:lnTo>
                  <a:lnTo>
                    <a:pt x="958" y="1249"/>
                  </a:lnTo>
                  <a:lnTo>
                    <a:pt x="940" y="1252"/>
                  </a:lnTo>
                  <a:lnTo>
                    <a:pt x="922" y="1253"/>
                  </a:lnTo>
                  <a:lnTo>
                    <a:pt x="904" y="1253"/>
                  </a:lnTo>
                  <a:lnTo>
                    <a:pt x="880" y="1252"/>
                  </a:lnTo>
                  <a:lnTo>
                    <a:pt x="857" y="1249"/>
                  </a:lnTo>
                  <a:lnTo>
                    <a:pt x="836" y="1246"/>
                  </a:lnTo>
                  <a:lnTo>
                    <a:pt x="816" y="1241"/>
                  </a:lnTo>
                  <a:lnTo>
                    <a:pt x="797" y="1234"/>
                  </a:lnTo>
                  <a:lnTo>
                    <a:pt x="778" y="1225"/>
                  </a:lnTo>
                  <a:lnTo>
                    <a:pt x="762" y="1216"/>
                  </a:lnTo>
                  <a:lnTo>
                    <a:pt x="747" y="1204"/>
                  </a:lnTo>
                  <a:lnTo>
                    <a:pt x="733" y="1192"/>
                  </a:lnTo>
                  <a:lnTo>
                    <a:pt x="719" y="1178"/>
                  </a:lnTo>
                  <a:lnTo>
                    <a:pt x="708" y="1163"/>
                  </a:lnTo>
                  <a:lnTo>
                    <a:pt x="697" y="1148"/>
                  </a:lnTo>
                  <a:lnTo>
                    <a:pt x="688" y="1132"/>
                  </a:lnTo>
                  <a:lnTo>
                    <a:pt x="678" y="1114"/>
                  </a:lnTo>
                  <a:lnTo>
                    <a:pt x="671" y="1096"/>
                  </a:lnTo>
                  <a:close/>
                  <a:moveTo>
                    <a:pt x="779" y="309"/>
                  </a:moveTo>
                  <a:lnTo>
                    <a:pt x="779" y="303"/>
                  </a:lnTo>
                  <a:lnTo>
                    <a:pt x="778" y="296"/>
                  </a:lnTo>
                  <a:lnTo>
                    <a:pt x="777" y="281"/>
                  </a:lnTo>
                  <a:lnTo>
                    <a:pt x="776" y="264"/>
                  </a:lnTo>
                  <a:lnTo>
                    <a:pt x="773" y="247"/>
                  </a:lnTo>
                  <a:lnTo>
                    <a:pt x="772" y="238"/>
                  </a:lnTo>
                  <a:lnTo>
                    <a:pt x="770" y="230"/>
                  </a:lnTo>
                  <a:lnTo>
                    <a:pt x="767" y="222"/>
                  </a:lnTo>
                  <a:lnTo>
                    <a:pt x="765" y="214"/>
                  </a:lnTo>
                  <a:lnTo>
                    <a:pt x="762" y="206"/>
                  </a:lnTo>
                  <a:lnTo>
                    <a:pt x="760" y="199"/>
                  </a:lnTo>
                  <a:lnTo>
                    <a:pt x="757" y="192"/>
                  </a:lnTo>
                  <a:lnTo>
                    <a:pt x="753" y="185"/>
                  </a:lnTo>
                  <a:lnTo>
                    <a:pt x="749" y="177"/>
                  </a:lnTo>
                  <a:lnTo>
                    <a:pt x="744" y="170"/>
                  </a:lnTo>
                  <a:lnTo>
                    <a:pt x="739" y="163"/>
                  </a:lnTo>
                  <a:lnTo>
                    <a:pt x="733" y="157"/>
                  </a:lnTo>
                  <a:lnTo>
                    <a:pt x="728" y="151"/>
                  </a:lnTo>
                  <a:lnTo>
                    <a:pt x="722" y="147"/>
                  </a:lnTo>
                  <a:lnTo>
                    <a:pt x="715" y="142"/>
                  </a:lnTo>
                  <a:lnTo>
                    <a:pt x="708" y="137"/>
                  </a:lnTo>
                  <a:lnTo>
                    <a:pt x="701" y="134"/>
                  </a:lnTo>
                  <a:lnTo>
                    <a:pt x="693" y="131"/>
                  </a:lnTo>
                  <a:lnTo>
                    <a:pt x="686" y="127"/>
                  </a:lnTo>
                  <a:lnTo>
                    <a:pt x="678" y="125"/>
                  </a:lnTo>
                  <a:lnTo>
                    <a:pt x="668" y="124"/>
                  </a:lnTo>
                  <a:lnTo>
                    <a:pt x="659" y="122"/>
                  </a:lnTo>
                  <a:lnTo>
                    <a:pt x="649" y="121"/>
                  </a:lnTo>
                  <a:lnTo>
                    <a:pt x="639" y="121"/>
                  </a:lnTo>
                  <a:lnTo>
                    <a:pt x="624" y="122"/>
                  </a:lnTo>
                  <a:lnTo>
                    <a:pt x="609" y="125"/>
                  </a:lnTo>
                  <a:lnTo>
                    <a:pt x="594" y="129"/>
                  </a:lnTo>
                  <a:lnTo>
                    <a:pt x="579" y="135"/>
                  </a:lnTo>
                  <a:lnTo>
                    <a:pt x="564" y="143"/>
                  </a:lnTo>
                  <a:lnTo>
                    <a:pt x="550" y="152"/>
                  </a:lnTo>
                  <a:lnTo>
                    <a:pt x="537" y="164"/>
                  </a:lnTo>
                  <a:lnTo>
                    <a:pt x="524" y="178"/>
                  </a:lnTo>
                  <a:lnTo>
                    <a:pt x="510" y="193"/>
                  </a:lnTo>
                  <a:lnTo>
                    <a:pt x="498" y="209"/>
                  </a:lnTo>
                  <a:lnTo>
                    <a:pt x="485" y="228"/>
                  </a:lnTo>
                  <a:lnTo>
                    <a:pt x="474" y="246"/>
                  </a:lnTo>
                  <a:lnTo>
                    <a:pt x="462" y="266"/>
                  </a:lnTo>
                  <a:lnTo>
                    <a:pt x="451" y="286"/>
                  </a:lnTo>
                  <a:lnTo>
                    <a:pt x="441" y="308"/>
                  </a:lnTo>
                  <a:lnTo>
                    <a:pt x="430" y="331"/>
                  </a:lnTo>
                  <a:lnTo>
                    <a:pt x="420" y="356"/>
                  </a:lnTo>
                  <a:lnTo>
                    <a:pt x="411" y="380"/>
                  </a:lnTo>
                  <a:lnTo>
                    <a:pt x="402" y="406"/>
                  </a:lnTo>
                  <a:lnTo>
                    <a:pt x="394" y="433"/>
                  </a:lnTo>
                  <a:lnTo>
                    <a:pt x="386" y="461"/>
                  </a:lnTo>
                  <a:lnTo>
                    <a:pt x="379" y="491"/>
                  </a:lnTo>
                  <a:lnTo>
                    <a:pt x="372" y="520"/>
                  </a:lnTo>
                  <a:lnTo>
                    <a:pt x="366" y="551"/>
                  </a:lnTo>
                  <a:lnTo>
                    <a:pt x="356" y="613"/>
                  </a:lnTo>
                  <a:lnTo>
                    <a:pt x="349" y="677"/>
                  </a:lnTo>
                  <a:lnTo>
                    <a:pt x="345" y="741"/>
                  </a:lnTo>
                  <a:lnTo>
                    <a:pt x="343" y="774"/>
                  </a:lnTo>
                  <a:lnTo>
                    <a:pt x="343" y="806"/>
                  </a:lnTo>
                  <a:lnTo>
                    <a:pt x="344" y="836"/>
                  </a:lnTo>
                  <a:lnTo>
                    <a:pt x="345" y="864"/>
                  </a:lnTo>
                  <a:lnTo>
                    <a:pt x="347" y="890"/>
                  </a:lnTo>
                  <a:lnTo>
                    <a:pt x="351" y="917"/>
                  </a:lnTo>
                  <a:lnTo>
                    <a:pt x="352" y="930"/>
                  </a:lnTo>
                  <a:lnTo>
                    <a:pt x="355" y="941"/>
                  </a:lnTo>
                  <a:lnTo>
                    <a:pt x="357" y="953"/>
                  </a:lnTo>
                  <a:lnTo>
                    <a:pt x="360" y="963"/>
                  </a:lnTo>
                  <a:lnTo>
                    <a:pt x="363" y="973"/>
                  </a:lnTo>
                  <a:lnTo>
                    <a:pt x="366" y="984"/>
                  </a:lnTo>
                  <a:lnTo>
                    <a:pt x="370" y="993"/>
                  </a:lnTo>
                  <a:lnTo>
                    <a:pt x="374" y="1002"/>
                  </a:lnTo>
                  <a:lnTo>
                    <a:pt x="378" y="1012"/>
                  </a:lnTo>
                  <a:lnTo>
                    <a:pt x="383" y="1020"/>
                  </a:lnTo>
                  <a:lnTo>
                    <a:pt x="389" y="1028"/>
                  </a:lnTo>
                  <a:lnTo>
                    <a:pt x="394" y="1036"/>
                  </a:lnTo>
                  <a:lnTo>
                    <a:pt x="400" y="1043"/>
                  </a:lnTo>
                  <a:lnTo>
                    <a:pt x="406" y="1049"/>
                  </a:lnTo>
                  <a:lnTo>
                    <a:pt x="413" y="1054"/>
                  </a:lnTo>
                  <a:lnTo>
                    <a:pt x="421" y="1060"/>
                  </a:lnTo>
                  <a:lnTo>
                    <a:pt x="428" y="1065"/>
                  </a:lnTo>
                  <a:lnTo>
                    <a:pt x="436" y="1069"/>
                  </a:lnTo>
                  <a:lnTo>
                    <a:pt x="444" y="1073"/>
                  </a:lnTo>
                  <a:lnTo>
                    <a:pt x="453" y="1076"/>
                  </a:lnTo>
                  <a:lnTo>
                    <a:pt x="462" y="1077"/>
                  </a:lnTo>
                  <a:lnTo>
                    <a:pt x="472" y="1080"/>
                  </a:lnTo>
                  <a:lnTo>
                    <a:pt x="483" y="1081"/>
                  </a:lnTo>
                  <a:lnTo>
                    <a:pt x="494" y="1081"/>
                  </a:lnTo>
                  <a:lnTo>
                    <a:pt x="505" y="1081"/>
                  </a:lnTo>
                  <a:lnTo>
                    <a:pt x="515" y="1079"/>
                  </a:lnTo>
                  <a:lnTo>
                    <a:pt x="526" y="1076"/>
                  </a:lnTo>
                  <a:lnTo>
                    <a:pt x="537" y="1073"/>
                  </a:lnTo>
                  <a:lnTo>
                    <a:pt x="548" y="1068"/>
                  </a:lnTo>
                  <a:lnTo>
                    <a:pt x="559" y="1062"/>
                  </a:lnTo>
                  <a:lnTo>
                    <a:pt x="569" y="1055"/>
                  </a:lnTo>
                  <a:lnTo>
                    <a:pt x="579" y="1047"/>
                  </a:lnTo>
                  <a:lnTo>
                    <a:pt x="590" y="1039"/>
                  </a:lnTo>
                  <a:lnTo>
                    <a:pt x="600" y="1030"/>
                  </a:lnTo>
                  <a:lnTo>
                    <a:pt x="610" y="1021"/>
                  </a:lnTo>
                  <a:lnTo>
                    <a:pt x="619" y="1010"/>
                  </a:lnTo>
                  <a:lnTo>
                    <a:pt x="629" y="1000"/>
                  </a:lnTo>
                  <a:lnTo>
                    <a:pt x="639" y="990"/>
                  </a:lnTo>
                  <a:lnTo>
                    <a:pt x="657" y="96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95760" y="627120"/>
              <a:ext cx="466560" cy="449280"/>
            </a:xfrm>
            <a:custGeom>
              <a:avLst/>
              <a:gdLst/>
              <a:ahLst/>
              <a:rect l="l" t="t" r="r" b="b"/>
              <a:pathLst>
                <a:path w="1297" h="1250">
                  <a:moveTo>
                    <a:pt x="1296" y="1044"/>
                  </a:moveTo>
                  <a:lnTo>
                    <a:pt x="1275" y="1152"/>
                  </a:lnTo>
                  <a:lnTo>
                    <a:pt x="1124" y="1224"/>
                  </a:lnTo>
                  <a:lnTo>
                    <a:pt x="1109" y="1230"/>
                  </a:lnTo>
                  <a:lnTo>
                    <a:pt x="1094" y="1236"/>
                  </a:lnTo>
                  <a:lnTo>
                    <a:pt x="1079" y="1240"/>
                  </a:lnTo>
                  <a:lnTo>
                    <a:pt x="1063" y="1244"/>
                  </a:lnTo>
                  <a:lnTo>
                    <a:pt x="1046" y="1246"/>
                  </a:lnTo>
                  <a:lnTo>
                    <a:pt x="1030" y="1248"/>
                  </a:lnTo>
                  <a:lnTo>
                    <a:pt x="1011" y="1249"/>
                  </a:lnTo>
                  <a:lnTo>
                    <a:pt x="993" y="1249"/>
                  </a:lnTo>
                  <a:lnTo>
                    <a:pt x="965" y="1248"/>
                  </a:lnTo>
                  <a:lnTo>
                    <a:pt x="940" y="1245"/>
                  </a:lnTo>
                  <a:lnTo>
                    <a:pt x="915" y="1239"/>
                  </a:lnTo>
                  <a:lnTo>
                    <a:pt x="892" y="1231"/>
                  </a:lnTo>
                  <a:lnTo>
                    <a:pt x="871" y="1221"/>
                  </a:lnTo>
                  <a:lnTo>
                    <a:pt x="851" y="1209"/>
                  </a:lnTo>
                  <a:lnTo>
                    <a:pt x="842" y="1201"/>
                  </a:lnTo>
                  <a:lnTo>
                    <a:pt x="832" y="1194"/>
                  </a:lnTo>
                  <a:lnTo>
                    <a:pt x="824" y="1186"/>
                  </a:lnTo>
                  <a:lnTo>
                    <a:pt x="816" y="1177"/>
                  </a:lnTo>
                  <a:lnTo>
                    <a:pt x="801" y="1158"/>
                  </a:lnTo>
                  <a:lnTo>
                    <a:pt x="794" y="1149"/>
                  </a:lnTo>
                  <a:lnTo>
                    <a:pt x="788" y="1139"/>
                  </a:lnTo>
                  <a:lnTo>
                    <a:pt x="782" y="1128"/>
                  </a:lnTo>
                  <a:lnTo>
                    <a:pt x="777" y="1118"/>
                  </a:lnTo>
                  <a:lnTo>
                    <a:pt x="772" y="1107"/>
                  </a:lnTo>
                  <a:lnTo>
                    <a:pt x="768" y="1097"/>
                  </a:lnTo>
                  <a:lnTo>
                    <a:pt x="765" y="1086"/>
                  </a:lnTo>
                  <a:lnTo>
                    <a:pt x="762" y="1074"/>
                  </a:lnTo>
                  <a:lnTo>
                    <a:pt x="759" y="1061"/>
                  </a:lnTo>
                  <a:lnTo>
                    <a:pt x="757" y="1050"/>
                  </a:lnTo>
                  <a:lnTo>
                    <a:pt x="755" y="1037"/>
                  </a:lnTo>
                  <a:lnTo>
                    <a:pt x="753" y="1024"/>
                  </a:lnTo>
                  <a:lnTo>
                    <a:pt x="753" y="1012"/>
                  </a:lnTo>
                  <a:lnTo>
                    <a:pt x="753" y="999"/>
                  </a:lnTo>
                  <a:lnTo>
                    <a:pt x="753" y="983"/>
                  </a:lnTo>
                  <a:lnTo>
                    <a:pt x="753" y="965"/>
                  </a:lnTo>
                  <a:lnTo>
                    <a:pt x="755" y="924"/>
                  </a:lnTo>
                  <a:lnTo>
                    <a:pt x="756" y="912"/>
                  </a:lnTo>
                  <a:lnTo>
                    <a:pt x="757" y="900"/>
                  </a:lnTo>
                  <a:lnTo>
                    <a:pt x="761" y="873"/>
                  </a:lnTo>
                  <a:lnTo>
                    <a:pt x="765" y="843"/>
                  </a:lnTo>
                  <a:lnTo>
                    <a:pt x="771" y="811"/>
                  </a:lnTo>
                  <a:lnTo>
                    <a:pt x="840" y="488"/>
                  </a:lnTo>
                  <a:lnTo>
                    <a:pt x="845" y="463"/>
                  </a:lnTo>
                  <a:lnTo>
                    <a:pt x="849" y="439"/>
                  </a:lnTo>
                  <a:lnTo>
                    <a:pt x="853" y="417"/>
                  </a:lnTo>
                  <a:lnTo>
                    <a:pt x="856" y="395"/>
                  </a:lnTo>
                  <a:lnTo>
                    <a:pt x="860" y="357"/>
                  </a:lnTo>
                  <a:lnTo>
                    <a:pt x="861" y="341"/>
                  </a:lnTo>
                  <a:lnTo>
                    <a:pt x="862" y="334"/>
                  </a:lnTo>
                  <a:lnTo>
                    <a:pt x="862" y="327"/>
                  </a:lnTo>
                  <a:lnTo>
                    <a:pt x="862" y="313"/>
                  </a:lnTo>
                  <a:lnTo>
                    <a:pt x="860" y="299"/>
                  </a:lnTo>
                  <a:lnTo>
                    <a:pt x="858" y="286"/>
                  </a:lnTo>
                  <a:lnTo>
                    <a:pt x="856" y="275"/>
                  </a:lnTo>
                  <a:lnTo>
                    <a:pt x="854" y="269"/>
                  </a:lnTo>
                  <a:lnTo>
                    <a:pt x="852" y="263"/>
                  </a:lnTo>
                  <a:lnTo>
                    <a:pt x="851" y="259"/>
                  </a:lnTo>
                  <a:lnTo>
                    <a:pt x="849" y="254"/>
                  </a:lnTo>
                  <a:lnTo>
                    <a:pt x="847" y="248"/>
                  </a:lnTo>
                  <a:lnTo>
                    <a:pt x="844" y="244"/>
                  </a:lnTo>
                  <a:lnTo>
                    <a:pt x="842" y="240"/>
                  </a:lnTo>
                  <a:lnTo>
                    <a:pt x="839" y="236"/>
                  </a:lnTo>
                  <a:lnTo>
                    <a:pt x="836" y="232"/>
                  </a:lnTo>
                  <a:lnTo>
                    <a:pt x="833" y="228"/>
                  </a:lnTo>
                  <a:lnTo>
                    <a:pt x="830" y="224"/>
                  </a:lnTo>
                  <a:lnTo>
                    <a:pt x="826" y="222"/>
                  </a:lnTo>
                  <a:lnTo>
                    <a:pt x="822" y="218"/>
                  </a:lnTo>
                  <a:lnTo>
                    <a:pt x="818" y="216"/>
                  </a:lnTo>
                  <a:lnTo>
                    <a:pt x="813" y="214"/>
                  </a:lnTo>
                  <a:lnTo>
                    <a:pt x="809" y="211"/>
                  </a:lnTo>
                  <a:lnTo>
                    <a:pt x="799" y="208"/>
                  </a:lnTo>
                  <a:lnTo>
                    <a:pt x="788" y="206"/>
                  </a:lnTo>
                  <a:lnTo>
                    <a:pt x="777" y="203"/>
                  </a:lnTo>
                  <a:lnTo>
                    <a:pt x="764" y="203"/>
                  </a:lnTo>
                  <a:lnTo>
                    <a:pt x="756" y="203"/>
                  </a:lnTo>
                  <a:lnTo>
                    <a:pt x="746" y="206"/>
                  </a:lnTo>
                  <a:lnTo>
                    <a:pt x="736" y="208"/>
                  </a:lnTo>
                  <a:lnTo>
                    <a:pt x="725" y="211"/>
                  </a:lnTo>
                  <a:lnTo>
                    <a:pt x="713" y="216"/>
                  </a:lnTo>
                  <a:lnTo>
                    <a:pt x="700" y="222"/>
                  </a:lnTo>
                  <a:lnTo>
                    <a:pt x="671" y="236"/>
                  </a:lnTo>
                  <a:lnTo>
                    <a:pt x="656" y="245"/>
                  </a:lnTo>
                  <a:lnTo>
                    <a:pt x="640" y="255"/>
                  </a:lnTo>
                  <a:lnTo>
                    <a:pt x="624" y="267"/>
                  </a:lnTo>
                  <a:lnTo>
                    <a:pt x="608" y="282"/>
                  </a:lnTo>
                  <a:lnTo>
                    <a:pt x="590" y="297"/>
                  </a:lnTo>
                  <a:lnTo>
                    <a:pt x="573" y="314"/>
                  </a:lnTo>
                  <a:lnTo>
                    <a:pt x="536" y="355"/>
                  </a:lnTo>
                  <a:lnTo>
                    <a:pt x="378" y="1229"/>
                  </a:lnTo>
                  <a:lnTo>
                    <a:pt x="62" y="1229"/>
                  </a:lnTo>
                  <a:lnTo>
                    <a:pt x="198" y="484"/>
                  </a:lnTo>
                  <a:lnTo>
                    <a:pt x="213" y="396"/>
                  </a:lnTo>
                  <a:lnTo>
                    <a:pt x="217" y="370"/>
                  </a:lnTo>
                  <a:lnTo>
                    <a:pt x="220" y="345"/>
                  </a:lnTo>
                  <a:lnTo>
                    <a:pt x="221" y="335"/>
                  </a:lnTo>
                  <a:lnTo>
                    <a:pt x="221" y="325"/>
                  </a:lnTo>
                  <a:lnTo>
                    <a:pt x="222" y="314"/>
                  </a:lnTo>
                  <a:lnTo>
                    <a:pt x="222" y="305"/>
                  </a:lnTo>
                  <a:lnTo>
                    <a:pt x="222" y="289"/>
                  </a:lnTo>
                  <a:lnTo>
                    <a:pt x="220" y="273"/>
                  </a:lnTo>
                  <a:lnTo>
                    <a:pt x="218" y="259"/>
                  </a:lnTo>
                  <a:lnTo>
                    <a:pt x="216" y="247"/>
                  </a:lnTo>
                  <a:lnTo>
                    <a:pt x="214" y="241"/>
                  </a:lnTo>
                  <a:lnTo>
                    <a:pt x="213" y="236"/>
                  </a:lnTo>
                  <a:lnTo>
                    <a:pt x="211" y="231"/>
                  </a:lnTo>
                  <a:lnTo>
                    <a:pt x="209" y="226"/>
                  </a:lnTo>
                  <a:lnTo>
                    <a:pt x="207" y="222"/>
                  </a:lnTo>
                  <a:lnTo>
                    <a:pt x="204" y="217"/>
                  </a:lnTo>
                  <a:lnTo>
                    <a:pt x="202" y="214"/>
                  </a:lnTo>
                  <a:lnTo>
                    <a:pt x="199" y="210"/>
                  </a:lnTo>
                  <a:lnTo>
                    <a:pt x="196" y="207"/>
                  </a:lnTo>
                  <a:lnTo>
                    <a:pt x="193" y="204"/>
                  </a:lnTo>
                  <a:lnTo>
                    <a:pt x="189" y="201"/>
                  </a:lnTo>
                  <a:lnTo>
                    <a:pt x="186" y="199"/>
                  </a:lnTo>
                  <a:lnTo>
                    <a:pt x="182" y="196"/>
                  </a:lnTo>
                  <a:lnTo>
                    <a:pt x="177" y="194"/>
                  </a:lnTo>
                  <a:lnTo>
                    <a:pt x="168" y="191"/>
                  </a:lnTo>
                  <a:lnTo>
                    <a:pt x="157" y="187"/>
                  </a:lnTo>
                  <a:lnTo>
                    <a:pt x="145" y="185"/>
                  </a:lnTo>
                  <a:lnTo>
                    <a:pt x="132" y="184"/>
                  </a:lnTo>
                  <a:lnTo>
                    <a:pt x="118" y="184"/>
                  </a:lnTo>
                  <a:lnTo>
                    <a:pt x="110" y="184"/>
                  </a:lnTo>
                  <a:lnTo>
                    <a:pt x="102" y="185"/>
                  </a:lnTo>
                  <a:lnTo>
                    <a:pt x="94" y="186"/>
                  </a:lnTo>
                  <a:lnTo>
                    <a:pt x="87" y="187"/>
                  </a:lnTo>
                  <a:lnTo>
                    <a:pt x="79" y="188"/>
                  </a:lnTo>
                  <a:lnTo>
                    <a:pt x="71" y="191"/>
                  </a:lnTo>
                  <a:lnTo>
                    <a:pt x="55" y="196"/>
                  </a:lnTo>
                  <a:lnTo>
                    <a:pt x="25" y="208"/>
                  </a:lnTo>
                  <a:lnTo>
                    <a:pt x="12" y="214"/>
                  </a:lnTo>
                  <a:lnTo>
                    <a:pt x="0" y="219"/>
                  </a:lnTo>
                  <a:lnTo>
                    <a:pt x="21" y="110"/>
                  </a:lnTo>
                  <a:lnTo>
                    <a:pt x="169" y="42"/>
                  </a:lnTo>
                  <a:lnTo>
                    <a:pt x="204" y="29"/>
                  </a:lnTo>
                  <a:lnTo>
                    <a:pt x="221" y="24"/>
                  </a:lnTo>
                  <a:lnTo>
                    <a:pt x="238" y="21"/>
                  </a:lnTo>
                  <a:lnTo>
                    <a:pt x="254" y="17"/>
                  </a:lnTo>
                  <a:lnTo>
                    <a:pt x="271" y="15"/>
                  </a:lnTo>
                  <a:lnTo>
                    <a:pt x="287" y="13"/>
                  </a:lnTo>
                  <a:lnTo>
                    <a:pt x="303" y="13"/>
                  </a:lnTo>
                  <a:lnTo>
                    <a:pt x="331" y="14"/>
                  </a:lnTo>
                  <a:lnTo>
                    <a:pt x="356" y="16"/>
                  </a:lnTo>
                  <a:lnTo>
                    <a:pt x="380" y="21"/>
                  </a:lnTo>
                  <a:lnTo>
                    <a:pt x="401" y="28"/>
                  </a:lnTo>
                  <a:lnTo>
                    <a:pt x="421" y="35"/>
                  </a:lnTo>
                  <a:lnTo>
                    <a:pt x="440" y="45"/>
                  </a:lnTo>
                  <a:lnTo>
                    <a:pt x="456" y="57"/>
                  </a:lnTo>
                  <a:lnTo>
                    <a:pt x="464" y="62"/>
                  </a:lnTo>
                  <a:lnTo>
                    <a:pt x="471" y="69"/>
                  </a:lnTo>
                  <a:lnTo>
                    <a:pt x="485" y="84"/>
                  </a:lnTo>
                  <a:lnTo>
                    <a:pt x="497" y="100"/>
                  </a:lnTo>
                  <a:lnTo>
                    <a:pt x="508" y="118"/>
                  </a:lnTo>
                  <a:lnTo>
                    <a:pt x="518" y="137"/>
                  </a:lnTo>
                  <a:lnTo>
                    <a:pt x="527" y="157"/>
                  </a:lnTo>
                  <a:lnTo>
                    <a:pt x="535" y="179"/>
                  </a:lnTo>
                  <a:lnTo>
                    <a:pt x="540" y="203"/>
                  </a:lnTo>
                  <a:lnTo>
                    <a:pt x="545" y="228"/>
                  </a:lnTo>
                  <a:lnTo>
                    <a:pt x="552" y="228"/>
                  </a:lnTo>
                  <a:lnTo>
                    <a:pt x="599" y="177"/>
                  </a:lnTo>
                  <a:lnTo>
                    <a:pt x="624" y="154"/>
                  </a:lnTo>
                  <a:lnTo>
                    <a:pt x="648" y="132"/>
                  </a:lnTo>
                  <a:lnTo>
                    <a:pt x="672" y="111"/>
                  </a:lnTo>
                  <a:lnTo>
                    <a:pt x="697" y="92"/>
                  </a:lnTo>
                  <a:lnTo>
                    <a:pt x="721" y="75"/>
                  </a:lnTo>
                  <a:lnTo>
                    <a:pt x="746" y="60"/>
                  </a:lnTo>
                  <a:lnTo>
                    <a:pt x="772" y="46"/>
                  </a:lnTo>
                  <a:lnTo>
                    <a:pt x="797" y="34"/>
                  </a:lnTo>
                  <a:lnTo>
                    <a:pt x="823" y="23"/>
                  </a:lnTo>
                  <a:lnTo>
                    <a:pt x="850" y="15"/>
                  </a:lnTo>
                  <a:lnTo>
                    <a:pt x="876" y="8"/>
                  </a:lnTo>
                  <a:lnTo>
                    <a:pt x="904" y="3"/>
                  </a:lnTo>
                  <a:lnTo>
                    <a:pt x="931" y="1"/>
                  </a:lnTo>
                  <a:lnTo>
                    <a:pt x="960" y="0"/>
                  </a:lnTo>
                  <a:lnTo>
                    <a:pt x="985" y="1"/>
                  </a:lnTo>
                  <a:lnTo>
                    <a:pt x="1010" y="5"/>
                  </a:lnTo>
                  <a:lnTo>
                    <a:pt x="1033" y="10"/>
                  </a:lnTo>
                  <a:lnTo>
                    <a:pt x="1054" y="18"/>
                  </a:lnTo>
                  <a:lnTo>
                    <a:pt x="1074" y="29"/>
                  </a:lnTo>
                  <a:lnTo>
                    <a:pt x="1084" y="35"/>
                  </a:lnTo>
                  <a:lnTo>
                    <a:pt x="1093" y="42"/>
                  </a:lnTo>
                  <a:lnTo>
                    <a:pt x="1101" y="49"/>
                  </a:lnTo>
                  <a:lnTo>
                    <a:pt x="1109" y="57"/>
                  </a:lnTo>
                  <a:lnTo>
                    <a:pt x="1118" y="65"/>
                  </a:lnTo>
                  <a:lnTo>
                    <a:pt x="1125" y="74"/>
                  </a:lnTo>
                  <a:lnTo>
                    <a:pt x="1139" y="94"/>
                  </a:lnTo>
                  <a:lnTo>
                    <a:pt x="1152" y="113"/>
                  </a:lnTo>
                  <a:lnTo>
                    <a:pt x="1157" y="124"/>
                  </a:lnTo>
                  <a:lnTo>
                    <a:pt x="1162" y="134"/>
                  </a:lnTo>
                  <a:lnTo>
                    <a:pt x="1166" y="144"/>
                  </a:lnTo>
                  <a:lnTo>
                    <a:pt x="1170" y="156"/>
                  </a:lnTo>
                  <a:lnTo>
                    <a:pt x="1173" y="167"/>
                  </a:lnTo>
                  <a:lnTo>
                    <a:pt x="1177" y="178"/>
                  </a:lnTo>
                  <a:lnTo>
                    <a:pt x="1179" y="191"/>
                  </a:lnTo>
                  <a:lnTo>
                    <a:pt x="1182" y="202"/>
                  </a:lnTo>
                  <a:lnTo>
                    <a:pt x="1183" y="215"/>
                  </a:lnTo>
                  <a:lnTo>
                    <a:pt x="1184" y="228"/>
                  </a:lnTo>
                  <a:lnTo>
                    <a:pt x="1185" y="240"/>
                  </a:lnTo>
                  <a:lnTo>
                    <a:pt x="1185" y="253"/>
                  </a:lnTo>
                  <a:lnTo>
                    <a:pt x="1185" y="268"/>
                  </a:lnTo>
                  <a:lnTo>
                    <a:pt x="1184" y="286"/>
                  </a:lnTo>
                  <a:lnTo>
                    <a:pt x="1183" y="307"/>
                  </a:lnTo>
                  <a:lnTo>
                    <a:pt x="1182" y="331"/>
                  </a:lnTo>
                  <a:lnTo>
                    <a:pt x="1181" y="344"/>
                  </a:lnTo>
                  <a:lnTo>
                    <a:pt x="1180" y="357"/>
                  </a:lnTo>
                  <a:lnTo>
                    <a:pt x="1178" y="370"/>
                  </a:lnTo>
                  <a:lnTo>
                    <a:pt x="1177" y="383"/>
                  </a:lnTo>
                  <a:lnTo>
                    <a:pt x="1172" y="410"/>
                  </a:lnTo>
                  <a:lnTo>
                    <a:pt x="1166" y="438"/>
                  </a:lnTo>
                  <a:lnTo>
                    <a:pt x="1094" y="778"/>
                  </a:lnTo>
                  <a:lnTo>
                    <a:pt x="1089" y="800"/>
                  </a:lnTo>
                  <a:lnTo>
                    <a:pt x="1084" y="823"/>
                  </a:lnTo>
                  <a:lnTo>
                    <a:pt x="1080" y="849"/>
                  </a:lnTo>
                  <a:lnTo>
                    <a:pt x="1076" y="875"/>
                  </a:lnTo>
                  <a:lnTo>
                    <a:pt x="1073" y="901"/>
                  </a:lnTo>
                  <a:lnTo>
                    <a:pt x="1070" y="923"/>
                  </a:lnTo>
                  <a:lnTo>
                    <a:pt x="1069" y="942"/>
                  </a:lnTo>
                  <a:lnTo>
                    <a:pt x="1069" y="950"/>
                  </a:lnTo>
                  <a:lnTo>
                    <a:pt x="1069" y="957"/>
                  </a:lnTo>
                  <a:lnTo>
                    <a:pt x="1069" y="975"/>
                  </a:lnTo>
                  <a:lnTo>
                    <a:pt x="1070" y="990"/>
                  </a:lnTo>
                  <a:lnTo>
                    <a:pt x="1072" y="1004"/>
                  </a:lnTo>
                  <a:lnTo>
                    <a:pt x="1074" y="1010"/>
                  </a:lnTo>
                  <a:lnTo>
                    <a:pt x="1074" y="1016"/>
                  </a:lnTo>
                  <a:lnTo>
                    <a:pt x="1076" y="1022"/>
                  </a:lnTo>
                  <a:lnTo>
                    <a:pt x="1078" y="1028"/>
                  </a:lnTo>
                  <a:lnTo>
                    <a:pt x="1080" y="1032"/>
                  </a:lnTo>
                  <a:lnTo>
                    <a:pt x="1082" y="1037"/>
                  </a:lnTo>
                  <a:lnTo>
                    <a:pt x="1084" y="1042"/>
                  </a:lnTo>
                  <a:lnTo>
                    <a:pt x="1087" y="1046"/>
                  </a:lnTo>
                  <a:lnTo>
                    <a:pt x="1090" y="1050"/>
                  </a:lnTo>
                  <a:lnTo>
                    <a:pt x="1093" y="1053"/>
                  </a:lnTo>
                  <a:lnTo>
                    <a:pt x="1096" y="1057"/>
                  </a:lnTo>
                  <a:lnTo>
                    <a:pt x="1099" y="1059"/>
                  </a:lnTo>
                  <a:lnTo>
                    <a:pt x="1104" y="1062"/>
                  </a:lnTo>
                  <a:lnTo>
                    <a:pt x="1108" y="1065"/>
                  </a:lnTo>
                  <a:lnTo>
                    <a:pt x="1116" y="1069"/>
                  </a:lnTo>
                  <a:lnTo>
                    <a:pt x="1127" y="1073"/>
                  </a:lnTo>
                  <a:lnTo>
                    <a:pt x="1138" y="1075"/>
                  </a:lnTo>
                  <a:lnTo>
                    <a:pt x="1150" y="1077"/>
                  </a:lnTo>
                  <a:lnTo>
                    <a:pt x="1163" y="1079"/>
                  </a:lnTo>
                  <a:lnTo>
                    <a:pt x="1178" y="1079"/>
                  </a:lnTo>
                  <a:lnTo>
                    <a:pt x="1186" y="1079"/>
                  </a:lnTo>
                  <a:lnTo>
                    <a:pt x="1193" y="1077"/>
                  </a:lnTo>
                  <a:lnTo>
                    <a:pt x="1201" y="1076"/>
                  </a:lnTo>
                  <a:lnTo>
                    <a:pt x="1209" y="1075"/>
                  </a:lnTo>
                  <a:lnTo>
                    <a:pt x="1226" y="1072"/>
                  </a:lnTo>
                  <a:lnTo>
                    <a:pt x="1243" y="1066"/>
                  </a:lnTo>
                  <a:lnTo>
                    <a:pt x="1260" y="1060"/>
                  </a:lnTo>
                  <a:lnTo>
                    <a:pt x="1275" y="1054"/>
                  </a:lnTo>
                  <a:lnTo>
                    <a:pt x="1287" y="104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1800" y="631800"/>
              <a:ext cx="630000" cy="449280"/>
            </a:xfrm>
            <a:custGeom>
              <a:avLst/>
              <a:gdLst/>
              <a:ahLst/>
              <a:rect l="l" t="t" r="r" b="b"/>
              <a:pathLst>
                <a:path w="1749" h="1250">
                  <a:moveTo>
                    <a:pt x="776" y="799"/>
                  </a:moveTo>
                  <a:lnTo>
                    <a:pt x="775" y="773"/>
                  </a:lnTo>
                  <a:lnTo>
                    <a:pt x="773" y="747"/>
                  </a:lnTo>
                  <a:lnTo>
                    <a:pt x="770" y="723"/>
                  </a:lnTo>
                  <a:lnTo>
                    <a:pt x="765" y="701"/>
                  </a:lnTo>
                  <a:lnTo>
                    <a:pt x="763" y="691"/>
                  </a:lnTo>
                  <a:lnTo>
                    <a:pt x="759" y="681"/>
                  </a:lnTo>
                  <a:lnTo>
                    <a:pt x="756" y="671"/>
                  </a:lnTo>
                  <a:lnTo>
                    <a:pt x="752" y="662"/>
                  </a:lnTo>
                  <a:lnTo>
                    <a:pt x="748" y="654"/>
                  </a:lnTo>
                  <a:lnTo>
                    <a:pt x="743" y="644"/>
                  </a:lnTo>
                  <a:lnTo>
                    <a:pt x="738" y="637"/>
                  </a:lnTo>
                  <a:lnTo>
                    <a:pt x="733" y="629"/>
                  </a:lnTo>
                  <a:lnTo>
                    <a:pt x="727" y="622"/>
                  </a:lnTo>
                  <a:lnTo>
                    <a:pt x="722" y="616"/>
                  </a:lnTo>
                  <a:lnTo>
                    <a:pt x="715" y="610"/>
                  </a:lnTo>
                  <a:lnTo>
                    <a:pt x="709" y="604"/>
                  </a:lnTo>
                  <a:lnTo>
                    <a:pt x="703" y="598"/>
                  </a:lnTo>
                  <a:lnTo>
                    <a:pt x="696" y="594"/>
                  </a:lnTo>
                  <a:lnTo>
                    <a:pt x="689" y="589"/>
                  </a:lnTo>
                  <a:lnTo>
                    <a:pt x="682" y="586"/>
                  </a:lnTo>
                  <a:lnTo>
                    <a:pt x="666" y="579"/>
                  </a:lnTo>
                  <a:lnTo>
                    <a:pt x="649" y="574"/>
                  </a:lnTo>
                  <a:lnTo>
                    <a:pt x="632" y="572"/>
                  </a:lnTo>
                  <a:lnTo>
                    <a:pt x="613" y="570"/>
                  </a:lnTo>
                  <a:lnTo>
                    <a:pt x="593" y="572"/>
                  </a:lnTo>
                  <a:lnTo>
                    <a:pt x="574" y="573"/>
                  </a:lnTo>
                  <a:lnTo>
                    <a:pt x="565" y="575"/>
                  </a:lnTo>
                  <a:lnTo>
                    <a:pt x="556" y="576"/>
                  </a:lnTo>
                  <a:lnTo>
                    <a:pt x="547" y="580"/>
                  </a:lnTo>
                  <a:lnTo>
                    <a:pt x="539" y="582"/>
                  </a:lnTo>
                  <a:lnTo>
                    <a:pt x="487" y="598"/>
                  </a:lnTo>
                  <a:lnTo>
                    <a:pt x="446" y="788"/>
                  </a:lnTo>
                  <a:lnTo>
                    <a:pt x="443" y="804"/>
                  </a:lnTo>
                  <a:lnTo>
                    <a:pt x="441" y="822"/>
                  </a:lnTo>
                  <a:lnTo>
                    <a:pt x="437" y="843"/>
                  </a:lnTo>
                  <a:lnTo>
                    <a:pt x="434" y="866"/>
                  </a:lnTo>
                  <a:lnTo>
                    <a:pt x="431" y="892"/>
                  </a:lnTo>
                  <a:lnTo>
                    <a:pt x="431" y="918"/>
                  </a:lnTo>
                  <a:lnTo>
                    <a:pt x="429" y="946"/>
                  </a:lnTo>
                  <a:lnTo>
                    <a:pt x="429" y="975"/>
                  </a:lnTo>
                  <a:lnTo>
                    <a:pt x="430" y="997"/>
                  </a:lnTo>
                  <a:lnTo>
                    <a:pt x="431" y="1017"/>
                  </a:lnTo>
                  <a:lnTo>
                    <a:pt x="434" y="1036"/>
                  </a:lnTo>
                  <a:lnTo>
                    <a:pt x="436" y="1045"/>
                  </a:lnTo>
                  <a:lnTo>
                    <a:pt x="438" y="1054"/>
                  </a:lnTo>
                  <a:lnTo>
                    <a:pt x="441" y="1062"/>
                  </a:lnTo>
                  <a:lnTo>
                    <a:pt x="443" y="1071"/>
                  </a:lnTo>
                  <a:lnTo>
                    <a:pt x="446" y="1079"/>
                  </a:lnTo>
                  <a:lnTo>
                    <a:pt x="449" y="1086"/>
                  </a:lnTo>
                  <a:lnTo>
                    <a:pt x="453" y="1092"/>
                  </a:lnTo>
                  <a:lnTo>
                    <a:pt x="456" y="1099"/>
                  </a:lnTo>
                  <a:lnTo>
                    <a:pt x="461" y="1105"/>
                  </a:lnTo>
                  <a:lnTo>
                    <a:pt x="466" y="1111"/>
                  </a:lnTo>
                  <a:lnTo>
                    <a:pt x="476" y="1122"/>
                  </a:lnTo>
                  <a:lnTo>
                    <a:pt x="486" y="1132"/>
                  </a:lnTo>
                  <a:lnTo>
                    <a:pt x="496" y="1140"/>
                  </a:lnTo>
                  <a:lnTo>
                    <a:pt x="509" y="1147"/>
                  </a:lnTo>
                  <a:lnTo>
                    <a:pt x="521" y="1151"/>
                  </a:lnTo>
                  <a:lnTo>
                    <a:pt x="534" y="1155"/>
                  </a:lnTo>
                  <a:lnTo>
                    <a:pt x="548" y="1157"/>
                  </a:lnTo>
                  <a:lnTo>
                    <a:pt x="562" y="1158"/>
                  </a:lnTo>
                  <a:lnTo>
                    <a:pt x="579" y="1157"/>
                  </a:lnTo>
                  <a:lnTo>
                    <a:pt x="595" y="1156"/>
                  </a:lnTo>
                  <a:lnTo>
                    <a:pt x="609" y="1152"/>
                  </a:lnTo>
                  <a:lnTo>
                    <a:pt x="624" y="1149"/>
                  </a:lnTo>
                  <a:lnTo>
                    <a:pt x="637" y="1143"/>
                  </a:lnTo>
                  <a:lnTo>
                    <a:pt x="649" y="1136"/>
                  </a:lnTo>
                  <a:lnTo>
                    <a:pt x="661" y="1129"/>
                  </a:lnTo>
                  <a:lnTo>
                    <a:pt x="672" y="1120"/>
                  </a:lnTo>
                  <a:lnTo>
                    <a:pt x="682" y="1111"/>
                  </a:lnTo>
                  <a:lnTo>
                    <a:pt x="692" y="1101"/>
                  </a:lnTo>
                  <a:lnTo>
                    <a:pt x="701" y="1090"/>
                  </a:lnTo>
                  <a:lnTo>
                    <a:pt x="709" y="1079"/>
                  </a:lnTo>
                  <a:lnTo>
                    <a:pt x="718" y="1067"/>
                  </a:lnTo>
                  <a:lnTo>
                    <a:pt x="724" y="1055"/>
                  </a:lnTo>
                  <a:lnTo>
                    <a:pt x="732" y="1043"/>
                  </a:lnTo>
                  <a:lnTo>
                    <a:pt x="738" y="1030"/>
                  </a:lnTo>
                  <a:lnTo>
                    <a:pt x="743" y="1017"/>
                  </a:lnTo>
                  <a:lnTo>
                    <a:pt x="748" y="1005"/>
                  </a:lnTo>
                  <a:lnTo>
                    <a:pt x="752" y="991"/>
                  </a:lnTo>
                  <a:lnTo>
                    <a:pt x="756" y="977"/>
                  </a:lnTo>
                  <a:lnTo>
                    <a:pt x="759" y="962"/>
                  </a:lnTo>
                  <a:lnTo>
                    <a:pt x="763" y="947"/>
                  </a:lnTo>
                  <a:lnTo>
                    <a:pt x="765" y="932"/>
                  </a:lnTo>
                  <a:lnTo>
                    <a:pt x="768" y="917"/>
                  </a:lnTo>
                  <a:lnTo>
                    <a:pt x="772" y="886"/>
                  </a:lnTo>
                  <a:lnTo>
                    <a:pt x="774" y="856"/>
                  </a:lnTo>
                  <a:lnTo>
                    <a:pt x="775" y="827"/>
                  </a:lnTo>
                  <a:close/>
                  <a:moveTo>
                    <a:pt x="1112" y="783"/>
                  </a:moveTo>
                  <a:lnTo>
                    <a:pt x="1111" y="811"/>
                  </a:lnTo>
                  <a:lnTo>
                    <a:pt x="1109" y="837"/>
                  </a:lnTo>
                  <a:lnTo>
                    <a:pt x="1107" y="863"/>
                  </a:lnTo>
                  <a:lnTo>
                    <a:pt x="1103" y="888"/>
                  </a:lnTo>
                  <a:lnTo>
                    <a:pt x="1097" y="912"/>
                  </a:lnTo>
                  <a:lnTo>
                    <a:pt x="1091" y="935"/>
                  </a:lnTo>
                  <a:lnTo>
                    <a:pt x="1084" y="958"/>
                  </a:lnTo>
                  <a:lnTo>
                    <a:pt x="1075" y="980"/>
                  </a:lnTo>
                  <a:lnTo>
                    <a:pt x="1065" y="1001"/>
                  </a:lnTo>
                  <a:lnTo>
                    <a:pt x="1054" y="1022"/>
                  </a:lnTo>
                  <a:lnTo>
                    <a:pt x="1041" y="1042"/>
                  </a:lnTo>
                  <a:lnTo>
                    <a:pt x="1028" y="1060"/>
                  </a:lnTo>
                  <a:lnTo>
                    <a:pt x="1013" y="1079"/>
                  </a:lnTo>
                  <a:lnTo>
                    <a:pt x="997" y="1096"/>
                  </a:lnTo>
                  <a:lnTo>
                    <a:pt x="981" y="1112"/>
                  </a:lnTo>
                  <a:lnTo>
                    <a:pt x="962" y="1128"/>
                  </a:lnTo>
                  <a:lnTo>
                    <a:pt x="943" y="1143"/>
                  </a:lnTo>
                  <a:lnTo>
                    <a:pt x="922" y="1157"/>
                  </a:lnTo>
                  <a:lnTo>
                    <a:pt x="877" y="1181"/>
                  </a:lnTo>
                  <a:lnTo>
                    <a:pt x="827" y="1202"/>
                  </a:lnTo>
                  <a:lnTo>
                    <a:pt x="771" y="1219"/>
                  </a:lnTo>
                  <a:lnTo>
                    <a:pt x="709" y="1232"/>
                  </a:lnTo>
                  <a:lnTo>
                    <a:pt x="644" y="1241"/>
                  </a:lnTo>
                  <a:lnTo>
                    <a:pt x="572" y="1247"/>
                  </a:lnTo>
                  <a:lnTo>
                    <a:pt x="496" y="1249"/>
                  </a:lnTo>
                  <a:lnTo>
                    <a:pt x="440" y="1247"/>
                  </a:lnTo>
                  <a:lnTo>
                    <a:pt x="388" y="1243"/>
                  </a:lnTo>
                  <a:lnTo>
                    <a:pt x="365" y="1238"/>
                  </a:lnTo>
                  <a:lnTo>
                    <a:pt x="342" y="1233"/>
                  </a:lnTo>
                  <a:lnTo>
                    <a:pt x="322" y="1228"/>
                  </a:lnTo>
                  <a:lnTo>
                    <a:pt x="303" y="1221"/>
                  </a:lnTo>
                  <a:lnTo>
                    <a:pt x="284" y="1214"/>
                  </a:lnTo>
                  <a:lnTo>
                    <a:pt x="267" y="1206"/>
                  </a:lnTo>
                  <a:lnTo>
                    <a:pt x="251" y="1198"/>
                  </a:lnTo>
                  <a:lnTo>
                    <a:pt x="236" y="1188"/>
                  </a:lnTo>
                  <a:lnTo>
                    <a:pt x="222" y="1178"/>
                  </a:lnTo>
                  <a:lnTo>
                    <a:pt x="209" y="1168"/>
                  </a:lnTo>
                  <a:lnTo>
                    <a:pt x="197" y="1157"/>
                  </a:lnTo>
                  <a:lnTo>
                    <a:pt x="186" y="1146"/>
                  </a:lnTo>
                  <a:lnTo>
                    <a:pt x="176" y="1134"/>
                  </a:lnTo>
                  <a:lnTo>
                    <a:pt x="168" y="1122"/>
                  </a:lnTo>
                  <a:lnTo>
                    <a:pt x="159" y="1110"/>
                  </a:lnTo>
                  <a:lnTo>
                    <a:pt x="152" y="1098"/>
                  </a:lnTo>
                  <a:lnTo>
                    <a:pt x="145" y="1084"/>
                  </a:lnTo>
                  <a:lnTo>
                    <a:pt x="139" y="1072"/>
                  </a:lnTo>
                  <a:lnTo>
                    <a:pt x="134" y="1058"/>
                  </a:lnTo>
                  <a:lnTo>
                    <a:pt x="130" y="1044"/>
                  </a:lnTo>
                  <a:lnTo>
                    <a:pt x="126" y="1030"/>
                  </a:lnTo>
                  <a:lnTo>
                    <a:pt x="123" y="1015"/>
                  </a:lnTo>
                  <a:lnTo>
                    <a:pt x="120" y="1001"/>
                  </a:lnTo>
                  <a:lnTo>
                    <a:pt x="118" y="987"/>
                  </a:lnTo>
                  <a:lnTo>
                    <a:pt x="116" y="972"/>
                  </a:lnTo>
                  <a:lnTo>
                    <a:pt x="115" y="958"/>
                  </a:lnTo>
                  <a:lnTo>
                    <a:pt x="114" y="943"/>
                  </a:lnTo>
                  <a:lnTo>
                    <a:pt x="114" y="930"/>
                  </a:lnTo>
                  <a:lnTo>
                    <a:pt x="114" y="907"/>
                  </a:lnTo>
                  <a:lnTo>
                    <a:pt x="115" y="886"/>
                  </a:lnTo>
                  <a:lnTo>
                    <a:pt x="116" y="866"/>
                  </a:lnTo>
                  <a:lnTo>
                    <a:pt x="119" y="848"/>
                  </a:lnTo>
                  <a:lnTo>
                    <a:pt x="122" y="828"/>
                  </a:lnTo>
                  <a:lnTo>
                    <a:pt x="126" y="805"/>
                  </a:lnTo>
                  <a:lnTo>
                    <a:pt x="131" y="777"/>
                  </a:lnTo>
                  <a:lnTo>
                    <a:pt x="138" y="745"/>
                  </a:lnTo>
                  <a:lnTo>
                    <a:pt x="201" y="470"/>
                  </a:lnTo>
                  <a:lnTo>
                    <a:pt x="219" y="378"/>
                  </a:lnTo>
                  <a:lnTo>
                    <a:pt x="223" y="355"/>
                  </a:lnTo>
                  <a:lnTo>
                    <a:pt x="226" y="331"/>
                  </a:lnTo>
                  <a:lnTo>
                    <a:pt x="227" y="321"/>
                  </a:lnTo>
                  <a:lnTo>
                    <a:pt x="227" y="311"/>
                  </a:lnTo>
                  <a:lnTo>
                    <a:pt x="228" y="300"/>
                  </a:lnTo>
                  <a:lnTo>
                    <a:pt x="228" y="291"/>
                  </a:lnTo>
                  <a:lnTo>
                    <a:pt x="228" y="275"/>
                  </a:lnTo>
                  <a:lnTo>
                    <a:pt x="226" y="261"/>
                  </a:lnTo>
                  <a:lnTo>
                    <a:pt x="225" y="247"/>
                  </a:lnTo>
                  <a:lnTo>
                    <a:pt x="223" y="234"/>
                  </a:lnTo>
                  <a:lnTo>
                    <a:pt x="221" y="229"/>
                  </a:lnTo>
                  <a:lnTo>
                    <a:pt x="219" y="224"/>
                  </a:lnTo>
                  <a:lnTo>
                    <a:pt x="218" y="218"/>
                  </a:lnTo>
                  <a:lnTo>
                    <a:pt x="216" y="214"/>
                  </a:lnTo>
                  <a:lnTo>
                    <a:pt x="213" y="209"/>
                  </a:lnTo>
                  <a:lnTo>
                    <a:pt x="211" y="206"/>
                  </a:lnTo>
                  <a:lnTo>
                    <a:pt x="209" y="201"/>
                  </a:lnTo>
                  <a:lnTo>
                    <a:pt x="206" y="197"/>
                  </a:lnTo>
                  <a:lnTo>
                    <a:pt x="204" y="194"/>
                  </a:lnTo>
                  <a:lnTo>
                    <a:pt x="200" y="191"/>
                  </a:lnTo>
                  <a:lnTo>
                    <a:pt x="197" y="188"/>
                  </a:lnTo>
                  <a:lnTo>
                    <a:pt x="193" y="186"/>
                  </a:lnTo>
                  <a:lnTo>
                    <a:pt x="189" y="182"/>
                  </a:lnTo>
                  <a:lnTo>
                    <a:pt x="184" y="180"/>
                  </a:lnTo>
                  <a:lnTo>
                    <a:pt x="174" y="177"/>
                  </a:lnTo>
                  <a:lnTo>
                    <a:pt x="163" y="173"/>
                  </a:lnTo>
                  <a:lnTo>
                    <a:pt x="150" y="172"/>
                  </a:lnTo>
                  <a:lnTo>
                    <a:pt x="137" y="170"/>
                  </a:lnTo>
                  <a:lnTo>
                    <a:pt x="122" y="170"/>
                  </a:lnTo>
                  <a:lnTo>
                    <a:pt x="115" y="170"/>
                  </a:lnTo>
                  <a:lnTo>
                    <a:pt x="107" y="171"/>
                  </a:lnTo>
                  <a:lnTo>
                    <a:pt x="100" y="172"/>
                  </a:lnTo>
                  <a:lnTo>
                    <a:pt x="91" y="173"/>
                  </a:lnTo>
                  <a:lnTo>
                    <a:pt x="75" y="177"/>
                  </a:lnTo>
                  <a:lnTo>
                    <a:pt x="57" y="182"/>
                  </a:lnTo>
                  <a:lnTo>
                    <a:pt x="25" y="195"/>
                  </a:lnTo>
                  <a:lnTo>
                    <a:pt x="11" y="201"/>
                  </a:lnTo>
                  <a:lnTo>
                    <a:pt x="6" y="203"/>
                  </a:lnTo>
                  <a:lnTo>
                    <a:pt x="0" y="207"/>
                  </a:lnTo>
                  <a:lnTo>
                    <a:pt x="20" y="97"/>
                  </a:lnTo>
                  <a:lnTo>
                    <a:pt x="59" y="77"/>
                  </a:lnTo>
                  <a:lnTo>
                    <a:pt x="97" y="60"/>
                  </a:lnTo>
                  <a:lnTo>
                    <a:pt x="134" y="44"/>
                  </a:lnTo>
                  <a:lnTo>
                    <a:pt x="171" y="29"/>
                  </a:lnTo>
                  <a:lnTo>
                    <a:pt x="189" y="22"/>
                  </a:lnTo>
                  <a:lnTo>
                    <a:pt x="207" y="16"/>
                  </a:lnTo>
                  <a:lnTo>
                    <a:pt x="225" y="12"/>
                  </a:lnTo>
                  <a:lnTo>
                    <a:pt x="242" y="7"/>
                  </a:lnTo>
                  <a:lnTo>
                    <a:pt x="259" y="3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08" y="0"/>
                  </a:lnTo>
                  <a:lnTo>
                    <a:pt x="335" y="1"/>
                  </a:lnTo>
                  <a:lnTo>
                    <a:pt x="362" y="5"/>
                  </a:lnTo>
                  <a:lnTo>
                    <a:pt x="386" y="9"/>
                  </a:lnTo>
                  <a:lnTo>
                    <a:pt x="409" y="17"/>
                  </a:lnTo>
                  <a:lnTo>
                    <a:pt x="430" y="28"/>
                  </a:lnTo>
                  <a:lnTo>
                    <a:pt x="450" y="39"/>
                  </a:lnTo>
                  <a:lnTo>
                    <a:pt x="459" y="46"/>
                  </a:lnTo>
                  <a:lnTo>
                    <a:pt x="467" y="54"/>
                  </a:lnTo>
                  <a:lnTo>
                    <a:pt x="476" y="62"/>
                  </a:lnTo>
                  <a:lnTo>
                    <a:pt x="484" y="70"/>
                  </a:lnTo>
                  <a:lnTo>
                    <a:pt x="499" y="89"/>
                  </a:lnTo>
                  <a:lnTo>
                    <a:pt x="505" y="98"/>
                  </a:lnTo>
                  <a:lnTo>
                    <a:pt x="511" y="109"/>
                  </a:lnTo>
                  <a:lnTo>
                    <a:pt x="517" y="118"/>
                  </a:lnTo>
                  <a:lnTo>
                    <a:pt x="522" y="128"/>
                  </a:lnTo>
                  <a:lnTo>
                    <a:pt x="526" y="140"/>
                  </a:lnTo>
                  <a:lnTo>
                    <a:pt x="530" y="150"/>
                  </a:lnTo>
                  <a:lnTo>
                    <a:pt x="535" y="162"/>
                  </a:lnTo>
                  <a:lnTo>
                    <a:pt x="537" y="173"/>
                  </a:lnTo>
                  <a:lnTo>
                    <a:pt x="540" y="185"/>
                  </a:lnTo>
                  <a:lnTo>
                    <a:pt x="542" y="196"/>
                  </a:lnTo>
                  <a:lnTo>
                    <a:pt x="544" y="209"/>
                  </a:lnTo>
                  <a:lnTo>
                    <a:pt x="545" y="222"/>
                  </a:lnTo>
                  <a:lnTo>
                    <a:pt x="546" y="234"/>
                  </a:lnTo>
                  <a:lnTo>
                    <a:pt x="546" y="247"/>
                  </a:lnTo>
                  <a:lnTo>
                    <a:pt x="546" y="262"/>
                  </a:lnTo>
                  <a:lnTo>
                    <a:pt x="545" y="281"/>
                  </a:lnTo>
                  <a:lnTo>
                    <a:pt x="544" y="301"/>
                  </a:lnTo>
                  <a:lnTo>
                    <a:pt x="541" y="326"/>
                  </a:lnTo>
                  <a:lnTo>
                    <a:pt x="538" y="351"/>
                  </a:lnTo>
                  <a:lnTo>
                    <a:pt x="534" y="379"/>
                  </a:lnTo>
                  <a:lnTo>
                    <a:pt x="528" y="407"/>
                  </a:lnTo>
                  <a:lnTo>
                    <a:pt x="521" y="435"/>
                  </a:lnTo>
                  <a:lnTo>
                    <a:pt x="508" y="497"/>
                  </a:lnTo>
                  <a:lnTo>
                    <a:pt x="601" y="476"/>
                  </a:lnTo>
                  <a:lnTo>
                    <a:pt x="630" y="470"/>
                  </a:lnTo>
                  <a:lnTo>
                    <a:pt x="657" y="467"/>
                  </a:lnTo>
                  <a:lnTo>
                    <a:pt x="682" y="465"/>
                  </a:lnTo>
                  <a:lnTo>
                    <a:pt x="705" y="464"/>
                  </a:lnTo>
                  <a:lnTo>
                    <a:pt x="752" y="465"/>
                  </a:lnTo>
                  <a:lnTo>
                    <a:pt x="796" y="469"/>
                  </a:lnTo>
                  <a:lnTo>
                    <a:pt x="837" y="476"/>
                  </a:lnTo>
                  <a:lnTo>
                    <a:pt x="877" y="484"/>
                  </a:lnTo>
                  <a:lnTo>
                    <a:pt x="912" y="495"/>
                  </a:lnTo>
                  <a:lnTo>
                    <a:pt x="946" y="509"/>
                  </a:lnTo>
                  <a:lnTo>
                    <a:pt x="976" y="525"/>
                  </a:lnTo>
                  <a:lnTo>
                    <a:pt x="1005" y="545"/>
                  </a:lnTo>
                  <a:lnTo>
                    <a:pt x="1018" y="555"/>
                  </a:lnTo>
                  <a:lnTo>
                    <a:pt x="1030" y="567"/>
                  </a:lnTo>
                  <a:lnTo>
                    <a:pt x="1041" y="579"/>
                  </a:lnTo>
                  <a:lnTo>
                    <a:pt x="1051" y="590"/>
                  </a:lnTo>
                  <a:lnTo>
                    <a:pt x="1061" y="603"/>
                  </a:lnTo>
                  <a:lnTo>
                    <a:pt x="1070" y="617"/>
                  </a:lnTo>
                  <a:lnTo>
                    <a:pt x="1078" y="631"/>
                  </a:lnTo>
                  <a:lnTo>
                    <a:pt x="1085" y="646"/>
                  </a:lnTo>
                  <a:lnTo>
                    <a:pt x="1091" y="661"/>
                  </a:lnTo>
                  <a:lnTo>
                    <a:pt x="1097" y="677"/>
                  </a:lnTo>
                  <a:lnTo>
                    <a:pt x="1101" y="693"/>
                  </a:lnTo>
                  <a:lnTo>
                    <a:pt x="1105" y="709"/>
                  </a:lnTo>
                  <a:lnTo>
                    <a:pt x="1108" y="728"/>
                  </a:lnTo>
                  <a:lnTo>
                    <a:pt x="1110" y="745"/>
                  </a:lnTo>
                  <a:lnTo>
                    <a:pt x="1111" y="763"/>
                  </a:lnTo>
                  <a:close/>
                  <a:moveTo>
                    <a:pt x="1748" y="1029"/>
                  </a:moveTo>
                  <a:lnTo>
                    <a:pt x="1727" y="1137"/>
                  </a:lnTo>
                  <a:lnTo>
                    <a:pt x="1577" y="1209"/>
                  </a:lnTo>
                  <a:lnTo>
                    <a:pt x="1563" y="1215"/>
                  </a:lnTo>
                  <a:lnTo>
                    <a:pt x="1548" y="1221"/>
                  </a:lnTo>
                  <a:lnTo>
                    <a:pt x="1532" y="1225"/>
                  </a:lnTo>
                  <a:lnTo>
                    <a:pt x="1516" y="1229"/>
                  </a:lnTo>
                  <a:lnTo>
                    <a:pt x="1500" y="1231"/>
                  </a:lnTo>
                  <a:lnTo>
                    <a:pt x="1483" y="1233"/>
                  </a:lnTo>
                  <a:lnTo>
                    <a:pt x="1465" y="1234"/>
                  </a:lnTo>
                  <a:lnTo>
                    <a:pt x="1446" y="1234"/>
                  </a:lnTo>
                  <a:lnTo>
                    <a:pt x="1421" y="1233"/>
                  </a:lnTo>
                  <a:lnTo>
                    <a:pt x="1396" y="1230"/>
                  </a:lnTo>
                  <a:lnTo>
                    <a:pt x="1374" y="1225"/>
                  </a:lnTo>
                  <a:lnTo>
                    <a:pt x="1352" y="1217"/>
                  </a:lnTo>
                  <a:lnTo>
                    <a:pt x="1331" y="1208"/>
                  </a:lnTo>
                  <a:lnTo>
                    <a:pt x="1311" y="1196"/>
                  </a:lnTo>
                  <a:lnTo>
                    <a:pt x="1292" y="1183"/>
                  </a:lnTo>
                  <a:lnTo>
                    <a:pt x="1274" y="1166"/>
                  </a:lnTo>
                  <a:lnTo>
                    <a:pt x="1266" y="1157"/>
                  </a:lnTo>
                  <a:lnTo>
                    <a:pt x="1258" y="1148"/>
                  </a:lnTo>
                  <a:lnTo>
                    <a:pt x="1251" y="1139"/>
                  </a:lnTo>
                  <a:lnTo>
                    <a:pt x="1245" y="1129"/>
                  </a:lnTo>
                  <a:lnTo>
                    <a:pt x="1238" y="1119"/>
                  </a:lnTo>
                  <a:lnTo>
                    <a:pt x="1233" y="1109"/>
                  </a:lnTo>
                  <a:lnTo>
                    <a:pt x="1228" y="1097"/>
                  </a:lnTo>
                  <a:lnTo>
                    <a:pt x="1223" y="1086"/>
                  </a:lnTo>
                  <a:lnTo>
                    <a:pt x="1220" y="1074"/>
                  </a:lnTo>
                  <a:lnTo>
                    <a:pt x="1216" y="1062"/>
                  </a:lnTo>
                  <a:lnTo>
                    <a:pt x="1213" y="1050"/>
                  </a:lnTo>
                  <a:lnTo>
                    <a:pt x="1211" y="1037"/>
                  </a:lnTo>
                  <a:lnTo>
                    <a:pt x="1209" y="1024"/>
                  </a:lnTo>
                  <a:lnTo>
                    <a:pt x="1208" y="1010"/>
                  </a:lnTo>
                  <a:lnTo>
                    <a:pt x="1207" y="997"/>
                  </a:lnTo>
                  <a:lnTo>
                    <a:pt x="1207" y="983"/>
                  </a:lnTo>
                  <a:lnTo>
                    <a:pt x="1207" y="953"/>
                  </a:lnTo>
                  <a:lnTo>
                    <a:pt x="1208" y="927"/>
                  </a:lnTo>
                  <a:lnTo>
                    <a:pt x="1208" y="904"/>
                  </a:lnTo>
                  <a:lnTo>
                    <a:pt x="1210" y="885"/>
                  </a:lnTo>
                  <a:lnTo>
                    <a:pt x="1213" y="865"/>
                  </a:lnTo>
                  <a:lnTo>
                    <a:pt x="1216" y="844"/>
                  </a:lnTo>
                  <a:lnTo>
                    <a:pt x="1223" y="795"/>
                  </a:lnTo>
                  <a:lnTo>
                    <a:pt x="1365" y="20"/>
                  </a:lnTo>
                  <a:lnTo>
                    <a:pt x="1672" y="3"/>
                  </a:lnTo>
                  <a:lnTo>
                    <a:pt x="1683" y="20"/>
                  </a:lnTo>
                  <a:lnTo>
                    <a:pt x="1545" y="763"/>
                  </a:lnTo>
                  <a:lnTo>
                    <a:pt x="1541" y="783"/>
                  </a:lnTo>
                  <a:lnTo>
                    <a:pt x="1538" y="805"/>
                  </a:lnTo>
                  <a:lnTo>
                    <a:pt x="1530" y="857"/>
                  </a:lnTo>
                  <a:lnTo>
                    <a:pt x="1525" y="883"/>
                  </a:lnTo>
                  <a:lnTo>
                    <a:pt x="1523" y="907"/>
                  </a:lnTo>
                  <a:lnTo>
                    <a:pt x="1522" y="926"/>
                  </a:lnTo>
                  <a:lnTo>
                    <a:pt x="1521" y="935"/>
                  </a:lnTo>
                  <a:lnTo>
                    <a:pt x="1521" y="942"/>
                  </a:lnTo>
                  <a:lnTo>
                    <a:pt x="1521" y="960"/>
                  </a:lnTo>
                  <a:lnTo>
                    <a:pt x="1523" y="975"/>
                  </a:lnTo>
                  <a:lnTo>
                    <a:pt x="1525" y="989"/>
                  </a:lnTo>
                  <a:lnTo>
                    <a:pt x="1525" y="995"/>
                  </a:lnTo>
                  <a:lnTo>
                    <a:pt x="1527" y="1001"/>
                  </a:lnTo>
                  <a:lnTo>
                    <a:pt x="1529" y="1007"/>
                  </a:lnTo>
                  <a:lnTo>
                    <a:pt x="1530" y="1013"/>
                  </a:lnTo>
                  <a:lnTo>
                    <a:pt x="1532" y="1017"/>
                  </a:lnTo>
                  <a:lnTo>
                    <a:pt x="1535" y="1022"/>
                  </a:lnTo>
                  <a:lnTo>
                    <a:pt x="1537" y="1027"/>
                  </a:lnTo>
                  <a:lnTo>
                    <a:pt x="1540" y="1031"/>
                  </a:lnTo>
                  <a:lnTo>
                    <a:pt x="1542" y="1035"/>
                  </a:lnTo>
                  <a:lnTo>
                    <a:pt x="1545" y="1038"/>
                  </a:lnTo>
                  <a:lnTo>
                    <a:pt x="1549" y="1042"/>
                  </a:lnTo>
                  <a:lnTo>
                    <a:pt x="1552" y="1044"/>
                  </a:lnTo>
                  <a:lnTo>
                    <a:pt x="1555" y="1047"/>
                  </a:lnTo>
                  <a:lnTo>
                    <a:pt x="1560" y="1050"/>
                  </a:lnTo>
                  <a:lnTo>
                    <a:pt x="1564" y="1052"/>
                  </a:lnTo>
                  <a:lnTo>
                    <a:pt x="1569" y="1054"/>
                  </a:lnTo>
                  <a:lnTo>
                    <a:pt x="1579" y="1058"/>
                  </a:lnTo>
                  <a:lnTo>
                    <a:pt x="1589" y="1060"/>
                  </a:lnTo>
                  <a:lnTo>
                    <a:pt x="1602" y="1062"/>
                  </a:lnTo>
                  <a:lnTo>
                    <a:pt x="1615" y="1064"/>
                  </a:lnTo>
                  <a:lnTo>
                    <a:pt x="1630" y="1064"/>
                  </a:lnTo>
                  <a:lnTo>
                    <a:pt x="1638" y="1064"/>
                  </a:lnTo>
                  <a:lnTo>
                    <a:pt x="1645" y="1062"/>
                  </a:lnTo>
                  <a:lnTo>
                    <a:pt x="1653" y="1061"/>
                  </a:lnTo>
                  <a:lnTo>
                    <a:pt x="1661" y="1060"/>
                  </a:lnTo>
                  <a:lnTo>
                    <a:pt x="1678" y="1057"/>
                  </a:lnTo>
                  <a:lnTo>
                    <a:pt x="1695" y="1051"/>
                  </a:lnTo>
                  <a:lnTo>
                    <a:pt x="1713" y="1045"/>
                  </a:lnTo>
                  <a:lnTo>
                    <a:pt x="1727" y="1039"/>
                  </a:lnTo>
                  <a:lnTo>
                    <a:pt x="1739" y="1034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02120" y="631800"/>
              <a:ext cx="463680" cy="449280"/>
            </a:xfrm>
            <a:custGeom>
              <a:avLst/>
              <a:gdLst/>
              <a:ahLst/>
              <a:rect l="l" t="t" r="r" b="b"/>
              <a:pathLst>
                <a:path w="1288" h="1250">
                  <a:moveTo>
                    <a:pt x="735" y="1020"/>
                  </a:moveTo>
                  <a:lnTo>
                    <a:pt x="728" y="1020"/>
                  </a:lnTo>
                  <a:lnTo>
                    <a:pt x="679" y="1075"/>
                  </a:lnTo>
                  <a:lnTo>
                    <a:pt x="654" y="1099"/>
                  </a:lnTo>
                  <a:lnTo>
                    <a:pt x="630" y="1122"/>
                  </a:lnTo>
                  <a:lnTo>
                    <a:pt x="607" y="1143"/>
                  </a:lnTo>
                  <a:lnTo>
                    <a:pt x="583" y="1162"/>
                  </a:lnTo>
                  <a:lnTo>
                    <a:pt x="560" y="1179"/>
                  </a:lnTo>
                  <a:lnTo>
                    <a:pt x="537" y="1194"/>
                  </a:lnTo>
                  <a:lnTo>
                    <a:pt x="514" y="1207"/>
                  </a:lnTo>
                  <a:lnTo>
                    <a:pt x="490" y="1218"/>
                  </a:lnTo>
                  <a:lnTo>
                    <a:pt x="465" y="1228"/>
                  </a:lnTo>
                  <a:lnTo>
                    <a:pt x="439" y="1236"/>
                  </a:lnTo>
                  <a:lnTo>
                    <a:pt x="412" y="1241"/>
                  </a:lnTo>
                  <a:lnTo>
                    <a:pt x="385" y="1246"/>
                  </a:lnTo>
                  <a:lnTo>
                    <a:pt x="356" y="1248"/>
                  </a:lnTo>
                  <a:lnTo>
                    <a:pt x="326" y="1249"/>
                  </a:lnTo>
                  <a:lnTo>
                    <a:pt x="301" y="1248"/>
                  </a:lnTo>
                  <a:lnTo>
                    <a:pt x="277" y="1245"/>
                  </a:lnTo>
                  <a:lnTo>
                    <a:pt x="254" y="1239"/>
                  </a:lnTo>
                  <a:lnTo>
                    <a:pt x="232" y="1231"/>
                  </a:lnTo>
                  <a:lnTo>
                    <a:pt x="213" y="1221"/>
                  </a:lnTo>
                  <a:lnTo>
                    <a:pt x="203" y="1215"/>
                  </a:lnTo>
                  <a:lnTo>
                    <a:pt x="195" y="1208"/>
                  </a:lnTo>
                  <a:lnTo>
                    <a:pt x="186" y="1201"/>
                  </a:lnTo>
                  <a:lnTo>
                    <a:pt x="178" y="1193"/>
                  </a:lnTo>
                  <a:lnTo>
                    <a:pt x="170" y="1185"/>
                  </a:lnTo>
                  <a:lnTo>
                    <a:pt x="163" y="1176"/>
                  </a:lnTo>
                  <a:lnTo>
                    <a:pt x="149" y="1157"/>
                  </a:lnTo>
                  <a:lnTo>
                    <a:pt x="143" y="1147"/>
                  </a:lnTo>
                  <a:lnTo>
                    <a:pt x="138" y="1137"/>
                  </a:lnTo>
                  <a:lnTo>
                    <a:pt x="133" y="1127"/>
                  </a:lnTo>
                  <a:lnTo>
                    <a:pt x="128" y="1117"/>
                  </a:lnTo>
                  <a:lnTo>
                    <a:pt x="124" y="1105"/>
                  </a:lnTo>
                  <a:lnTo>
                    <a:pt x="119" y="1095"/>
                  </a:lnTo>
                  <a:lnTo>
                    <a:pt x="116" y="1083"/>
                  </a:lnTo>
                  <a:lnTo>
                    <a:pt x="114" y="1072"/>
                  </a:lnTo>
                  <a:lnTo>
                    <a:pt x="111" y="1060"/>
                  </a:lnTo>
                  <a:lnTo>
                    <a:pt x="109" y="1047"/>
                  </a:lnTo>
                  <a:lnTo>
                    <a:pt x="107" y="1035"/>
                  </a:lnTo>
                  <a:lnTo>
                    <a:pt x="106" y="1022"/>
                  </a:lnTo>
                  <a:lnTo>
                    <a:pt x="105" y="997"/>
                  </a:lnTo>
                  <a:lnTo>
                    <a:pt x="105" y="978"/>
                  </a:lnTo>
                  <a:lnTo>
                    <a:pt x="106" y="958"/>
                  </a:lnTo>
                  <a:lnTo>
                    <a:pt x="107" y="940"/>
                  </a:lnTo>
                  <a:lnTo>
                    <a:pt x="109" y="920"/>
                  </a:lnTo>
                  <a:lnTo>
                    <a:pt x="109" y="910"/>
                  </a:lnTo>
                  <a:lnTo>
                    <a:pt x="110" y="900"/>
                  </a:lnTo>
                  <a:lnTo>
                    <a:pt x="114" y="874"/>
                  </a:lnTo>
                  <a:lnTo>
                    <a:pt x="119" y="844"/>
                  </a:lnTo>
                  <a:lnTo>
                    <a:pt x="126" y="812"/>
                  </a:lnTo>
                  <a:lnTo>
                    <a:pt x="198" y="471"/>
                  </a:lnTo>
                  <a:lnTo>
                    <a:pt x="202" y="453"/>
                  </a:lnTo>
                  <a:lnTo>
                    <a:pt x="205" y="431"/>
                  </a:lnTo>
                  <a:lnTo>
                    <a:pt x="213" y="378"/>
                  </a:lnTo>
                  <a:lnTo>
                    <a:pt x="218" y="350"/>
                  </a:lnTo>
                  <a:lnTo>
                    <a:pt x="221" y="327"/>
                  </a:lnTo>
                  <a:lnTo>
                    <a:pt x="222" y="307"/>
                  </a:lnTo>
                  <a:lnTo>
                    <a:pt x="223" y="298"/>
                  </a:lnTo>
                  <a:lnTo>
                    <a:pt x="223" y="291"/>
                  </a:lnTo>
                  <a:lnTo>
                    <a:pt x="223" y="275"/>
                  </a:lnTo>
                  <a:lnTo>
                    <a:pt x="221" y="261"/>
                  </a:lnTo>
                  <a:lnTo>
                    <a:pt x="220" y="247"/>
                  </a:lnTo>
                  <a:lnTo>
                    <a:pt x="218" y="234"/>
                  </a:lnTo>
                  <a:lnTo>
                    <a:pt x="216" y="229"/>
                  </a:lnTo>
                  <a:lnTo>
                    <a:pt x="214" y="224"/>
                  </a:lnTo>
                  <a:lnTo>
                    <a:pt x="213" y="218"/>
                  </a:lnTo>
                  <a:lnTo>
                    <a:pt x="211" y="214"/>
                  </a:lnTo>
                  <a:lnTo>
                    <a:pt x="208" y="209"/>
                  </a:lnTo>
                  <a:lnTo>
                    <a:pt x="206" y="206"/>
                  </a:lnTo>
                  <a:lnTo>
                    <a:pt x="203" y="201"/>
                  </a:lnTo>
                  <a:lnTo>
                    <a:pt x="201" y="197"/>
                  </a:lnTo>
                  <a:lnTo>
                    <a:pt x="198" y="194"/>
                  </a:lnTo>
                  <a:lnTo>
                    <a:pt x="195" y="191"/>
                  </a:lnTo>
                  <a:lnTo>
                    <a:pt x="192" y="188"/>
                  </a:lnTo>
                  <a:lnTo>
                    <a:pt x="188" y="186"/>
                  </a:lnTo>
                  <a:lnTo>
                    <a:pt x="183" y="182"/>
                  </a:lnTo>
                  <a:lnTo>
                    <a:pt x="179" y="180"/>
                  </a:lnTo>
                  <a:lnTo>
                    <a:pt x="169" y="177"/>
                  </a:lnTo>
                  <a:lnTo>
                    <a:pt x="158" y="173"/>
                  </a:lnTo>
                  <a:lnTo>
                    <a:pt x="146" y="172"/>
                  </a:lnTo>
                  <a:lnTo>
                    <a:pt x="133" y="170"/>
                  </a:lnTo>
                  <a:lnTo>
                    <a:pt x="118" y="170"/>
                  </a:lnTo>
                  <a:lnTo>
                    <a:pt x="110" y="170"/>
                  </a:lnTo>
                  <a:lnTo>
                    <a:pt x="102" y="171"/>
                  </a:lnTo>
                  <a:lnTo>
                    <a:pt x="94" y="172"/>
                  </a:lnTo>
                  <a:lnTo>
                    <a:pt x="86" y="173"/>
                  </a:lnTo>
                  <a:lnTo>
                    <a:pt x="70" y="177"/>
                  </a:lnTo>
                  <a:lnTo>
                    <a:pt x="54" y="182"/>
                  </a:lnTo>
                  <a:lnTo>
                    <a:pt x="25" y="194"/>
                  </a:lnTo>
                  <a:lnTo>
                    <a:pt x="11" y="200"/>
                  </a:lnTo>
                  <a:lnTo>
                    <a:pt x="0" y="206"/>
                  </a:lnTo>
                  <a:lnTo>
                    <a:pt x="20" y="96"/>
                  </a:lnTo>
                  <a:lnTo>
                    <a:pt x="59" y="76"/>
                  </a:lnTo>
                  <a:lnTo>
                    <a:pt x="96" y="59"/>
                  </a:lnTo>
                  <a:lnTo>
                    <a:pt x="169" y="28"/>
                  </a:lnTo>
                  <a:lnTo>
                    <a:pt x="187" y="21"/>
                  </a:lnTo>
                  <a:lnTo>
                    <a:pt x="204" y="16"/>
                  </a:lnTo>
                  <a:lnTo>
                    <a:pt x="221" y="10"/>
                  </a:lnTo>
                  <a:lnTo>
                    <a:pt x="237" y="7"/>
                  </a:lnTo>
                  <a:lnTo>
                    <a:pt x="254" y="3"/>
                  </a:lnTo>
                  <a:lnTo>
                    <a:pt x="271" y="2"/>
                  </a:lnTo>
                  <a:lnTo>
                    <a:pt x="287" y="0"/>
                  </a:lnTo>
                  <a:lnTo>
                    <a:pt x="303" y="0"/>
                  </a:lnTo>
                  <a:lnTo>
                    <a:pt x="331" y="1"/>
                  </a:lnTo>
                  <a:lnTo>
                    <a:pt x="356" y="5"/>
                  </a:lnTo>
                  <a:lnTo>
                    <a:pt x="381" y="10"/>
                  </a:lnTo>
                  <a:lnTo>
                    <a:pt x="404" y="17"/>
                  </a:lnTo>
                  <a:lnTo>
                    <a:pt x="425" y="28"/>
                  </a:lnTo>
                  <a:lnTo>
                    <a:pt x="435" y="34"/>
                  </a:lnTo>
                  <a:lnTo>
                    <a:pt x="445" y="40"/>
                  </a:lnTo>
                  <a:lnTo>
                    <a:pt x="454" y="47"/>
                  </a:lnTo>
                  <a:lnTo>
                    <a:pt x="462" y="54"/>
                  </a:lnTo>
                  <a:lnTo>
                    <a:pt x="470" y="62"/>
                  </a:lnTo>
                  <a:lnTo>
                    <a:pt x="479" y="72"/>
                  </a:lnTo>
                  <a:lnTo>
                    <a:pt x="493" y="90"/>
                  </a:lnTo>
                  <a:lnTo>
                    <a:pt x="500" y="100"/>
                  </a:lnTo>
                  <a:lnTo>
                    <a:pt x="505" y="110"/>
                  </a:lnTo>
                  <a:lnTo>
                    <a:pt x="511" y="120"/>
                  </a:lnTo>
                  <a:lnTo>
                    <a:pt x="516" y="131"/>
                  </a:lnTo>
                  <a:lnTo>
                    <a:pt x="520" y="141"/>
                  </a:lnTo>
                  <a:lnTo>
                    <a:pt x="524" y="152"/>
                  </a:lnTo>
                  <a:lnTo>
                    <a:pt x="529" y="164"/>
                  </a:lnTo>
                  <a:lnTo>
                    <a:pt x="532" y="176"/>
                  </a:lnTo>
                  <a:lnTo>
                    <a:pt x="534" y="187"/>
                  </a:lnTo>
                  <a:lnTo>
                    <a:pt x="536" y="200"/>
                  </a:lnTo>
                  <a:lnTo>
                    <a:pt x="538" y="211"/>
                  </a:lnTo>
                  <a:lnTo>
                    <a:pt x="539" y="224"/>
                  </a:lnTo>
                  <a:lnTo>
                    <a:pt x="540" y="238"/>
                  </a:lnTo>
                  <a:lnTo>
                    <a:pt x="540" y="251"/>
                  </a:lnTo>
                  <a:lnTo>
                    <a:pt x="540" y="263"/>
                  </a:lnTo>
                  <a:lnTo>
                    <a:pt x="539" y="281"/>
                  </a:lnTo>
                  <a:lnTo>
                    <a:pt x="538" y="304"/>
                  </a:lnTo>
                  <a:lnTo>
                    <a:pt x="536" y="330"/>
                  </a:lnTo>
                  <a:lnTo>
                    <a:pt x="534" y="359"/>
                  </a:lnTo>
                  <a:lnTo>
                    <a:pt x="530" y="387"/>
                  </a:lnTo>
                  <a:lnTo>
                    <a:pt x="526" y="412"/>
                  </a:lnTo>
                  <a:lnTo>
                    <a:pt x="521" y="438"/>
                  </a:lnTo>
                  <a:lnTo>
                    <a:pt x="451" y="761"/>
                  </a:lnTo>
                  <a:lnTo>
                    <a:pt x="446" y="783"/>
                  </a:lnTo>
                  <a:lnTo>
                    <a:pt x="443" y="805"/>
                  </a:lnTo>
                  <a:lnTo>
                    <a:pt x="439" y="828"/>
                  </a:lnTo>
                  <a:lnTo>
                    <a:pt x="436" y="852"/>
                  </a:lnTo>
                  <a:lnTo>
                    <a:pt x="434" y="875"/>
                  </a:lnTo>
                  <a:lnTo>
                    <a:pt x="432" y="895"/>
                  </a:lnTo>
                  <a:lnTo>
                    <a:pt x="430" y="910"/>
                  </a:lnTo>
                  <a:lnTo>
                    <a:pt x="430" y="917"/>
                  </a:lnTo>
                  <a:lnTo>
                    <a:pt x="430" y="923"/>
                  </a:lnTo>
                  <a:lnTo>
                    <a:pt x="430" y="937"/>
                  </a:lnTo>
                  <a:lnTo>
                    <a:pt x="432" y="949"/>
                  </a:lnTo>
                  <a:lnTo>
                    <a:pt x="433" y="962"/>
                  </a:lnTo>
                  <a:lnTo>
                    <a:pt x="435" y="974"/>
                  </a:lnTo>
                  <a:lnTo>
                    <a:pt x="439" y="985"/>
                  </a:lnTo>
                  <a:lnTo>
                    <a:pt x="440" y="990"/>
                  </a:lnTo>
                  <a:lnTo>
                    <a:pt x="442" y="994"/>
                  </a:lnTo>
                  <a:lnTo>
                    <a:pt x="444" y="1000"/>
                  </a:lnTo>
                  <a:lnTo>
                    <a:pt x="446" y="1005"/>
                  </a:lnTo>
                  <a:lnTo>
                    <a:pt x="449" y="1008"/>
                  </a:lnTo>
                  <a:lnTo>
                    <a:pt x="451" y="1013"/>
                  </a:lnTo>
                  <a:lnTo>
                    <a:pt x="454" y="1017"/>
                  </a:lnTo>
                  <a:lnTo>
                    <a:pt x="457" y="1021"/>
                  </a:lnTo>
                  <a:lnTo>
                    <a:pt x="460" y="1024"/>
                  </a:lnTo>
                  <a:lnTo>
                    <a:pt x="464" y="1028"/>
                  </a:lnTo>
                  <a:lnTo>
                    <a:pt x="467" y="1031"/>
                  </a:lnTo>
                  <a:lnTo>
                    <a:pt x="471" y="1034"/>
                  </a:lnTo>
                  <a:lnTo>
                    <a:pt x="475" y="1036"/>
                  </a:lnTo>
                  <a:lnTo>
                    <a:pt x="480" y="1038"/>
                  </a:lnTo>
                  <a:lnTo>
                    <a:pt x="490" y="1042"/>
                  </a:lnTo>
                  <a:lnTo>
                    <a:pt x="500" y="1044"/>
                  </a:lnTo>
                  <a:lnTo>
                    <a:pt x="511" y="1046"/>
                  </a:lnTo>
                  <a:lnTo>
                    <a:pt x="524" y="1046"/>
                  </a:lnTo>
                  <a:lnTo>
                    <a:pt x="534" y="1045"/>
                  </a:lnTo>
                  <a:lnTo>
                    <a:pt x="544" y="1044"/>
                  </a:lnTo>
                  <a:lnTo>
                    <a:pt x="555" y="1040"/>
                  </a:lnTo>
                  <a:lnTo>
                    <a:pt x="567" y="1037"/>
                  </a:lnTo>
                  <a:lnTo>
                    <a:pt x="580" y="1031"/>
                  </a:lnTo>
                  <a:lnTo>
                    <a:pt x="594" y="1024"/>
                  </a:lnTo>
                  <a:lnTo>
                    <a:pt x="608" y="1016"/>
                  </a:lnTo>
                  <a:lnTo>
                    <a:pt x="623" y="1007"/>
                  </a:lnTo>
                  <a:lnTo>
                    <a:pt x="638" y="997"/>
                  </a:lnTo>
                  <a:lnTo>
                    <a:pt x="653" y="985"/>
                  </a:lnTo>
                  <a:lnTo>
                    <a:pt x="669" y="972"/>
                  </a:lnTo>
                  <a:lnTo>
                    <a:pt x="684" y="958"/>
                  </a:lnTo>
                  <a:lnTo>
                    <a:pt x="699" y="943"/>
                  </a:lnTo>
                  <a:lnTo>
                    <a:pt x="714" y="927"/>
                  </a:lnTo>
                  <a:lnTo>
                    <a:pt x="745" y="893"/>
                  </a:lnTo>
                  <a:lnTo>
                    <a:pt x="902" y="20"/>
                  </a:lnTo>
                  <a:lnTo>
                    <a:pt x="1208" y="3"/>
                  </a:lnTo>
                  <a:lnTo>
                    <a:pt x="1219" y="20"/>
                  </a:lnTo>
                  <a:lnTo>
                    <a:pt x="1084" y="763"/>
                  </a:lnTo>
                  <a:lnTo>
                    <a:pt x="1068" y="857"/>
                  </a:lnTo>
                  <a:lnTo>
                    <a:pt x="1064" y="883"/>
                  </a:lnTo>
                  <a:lnTo>
                    <a:pt x="1061" y="907"/>
                  </a:lnTo>
                  <a:lnTo>
                    <a:pt x="1059" y="926"/>
                  </a:lnTo>
                  <a:lnTo>
                    <a:pt x="1059" y="935"/>
                  </a:lnTo>
                  <a:lnTo>
                    <a:pt x="1059" y="942"/>
                  </a:lnTo>
                  <a:lnTo>
                    <a:pt x="1059" y="960"/>
                  </a:lnTo>
                  <a:lnTo>
                    <a:pt x="1060" y="975"/>
                  </a:lnTo>
                  <a:lnTo>
                    <a:pt x="1062" y="989"/>
                  </a:lnTo>
                  <a:lnTo>
                    <a:pt x="1064" y="995"/>
                  </a:lnTo>
                  <a:lnTo>
                    <a:pt x="1065" y="1001"/>
                  </a:lnTo>
                  <a:lnTo>
                    <a:pt x="1066" y="1007"/>
                  </a:lnTo>
                  <a:lnTo>
                    <a:pt x="1069" y="1013"/>
                  </a:lnTo>
                  <a:lnTo>
                    <a:pt x="1070" y="1017"/>
                  </a:lnTo>
                  <a:lnTo>
                    <a:pt x="1073" y="1022"/>
                  </a:lnTo>
                  <a:lnTo>
                    <a:pt x="1075" y="1027"/>
                  </a:lnTo>
                  <a:lnTo>
                    <a:pt x="1078" y="1031"/>
                  </a:lnTo>
                  <a:lnTo>
                    <a:pt x="1080" y="1035"/>
                  </a:lnTo>
                  <a:lnTo>
                    <a:pt x="1084" y="1038"/>
                  </a:lnTo>
                  <a:lnTo>
                    <a:pt x="1087" y="1042"/>
                  </a:lnTo>
                  <a:lnTo>
                    <a:pt x="1090" y="1044"/>
                  </a:lnTo>
                  <a:lnTo>
                    <a:pt x="1094" y="1047"/>
                  </a:lnTo>
                  <a:lnTo>
                    <a:pt x="1098" y="1050"/>
                  </a:lnTo>
                  <a:lnTo>
                    <a:pt x="1102" y="1052"/>
                  </a:lnTo>
                  <a:lnTo>
                    <a:pt x="1107" y="1054"/>
                  </a:lnTo>
                  <a:lnTo>
                    <a:pt x="1117" y="1058"/>
                  </a:lnTo>
                  <a:lnTo>
                    <a:pt x="1128" y="1060"/>
                  </a:lnTo>
                  <a:lnTo>
                    <a:pt x="1141" y="1062"/>
                  </a:lnTo>
                  <a:lnTo>
                    <a:pt x="1154" y="1064"/>
                  </a:lnTo>
                  <a:lnTo>
                    <a:pt x="1169" y="1064"/>
                  </a:lnTo>
                  <a:lnTo>
                    <a:pt x="1177" y="1064"/>
                  </a:lnTo>
                  <a:lnTo>
                    <a:pt x="1184" y="1062"/>
                  </a:lnTo>
                  <a:lnTo>
                    <a:pt x="1192" y="1061"/>
                  </a:lnTo>
                  <a:lnTo>
                    <a:pt x="1200" y="1060"/>
                  </a:lnTo>
                  <a:lnTo>
                    <a:pt x="1217" y="1057"/>
                  </a:lnTo>
                  <a:lnTo>
                    <a:pt x="1234" y="1051"/>
                  </a:lnTo>
                  <a:lnTo>
                    <a:pt x="1251" y="1045"/>
                  </a:lnTo>
                  <a:lnTo>
                    <a:pt x="1266" y="1039"/>
                  </a:lnTo>
                  <a:lnTo>
                    <a:pt x="1277" y="1034"/>
                  </a:lnTo>
                  <a:lnTo>
                    <a:pt x="1287" y="1029"/>
                  </a:lnTo>
                  <a:lnTo>
                    <a:pt x="1266" y="1137"/>
                  </a:lnTo>
                  <a:lnTo>
                    <a:pt x="1114" y="1209"/>
                  </a:lnTo>
                  <a:lnTo>
                    <a:pt x="1100" y="1215"/>
                  </a:lnTo>
                  <a:lnTo>
                    <a:pt x="1085" y="1221"/>
                  </a:lnTo>
                  <a:lnTo>
                    <a:pt x="1069" y="1225"/>
                  </a:lnTo>
                  <a:lnTo>
                    <a:pt x="1054" y="1229"/>
                  </a:lnTo>
                  <a:lnTo>
                    <a:pt x="1036" y="1231"/>
                  </a:lnTo>
                  <a:lnTo>
                    <a:pt x="1019" y="1233"/>
                  </a:lnTo>
                  <a:lnTo>
                    <a:pt x="1001" y="1234"/>
                  </a:lnTo>
                  <a:lnTo>
                    <a:pt x="983" y="1234"/>
                  </a:lnTo>
                  <a:lnTo>
                    <a:pt x="957" y="1233"/>
                  </a:lnTo>
                  <a:lnTo>
                    <a:pt x="933" y="1231"/>
                  </a:lnTo>
                  <a:lnTo>
                    <a:pt x="910" y="1226"/>
                  </a:lnTo>
                  <a:lnTo>
                    <a:pt x="888" y="1219"/>
                  </a:lnTo>
                  <a:lnTo>
                    <a:pt x="868" y="1211"/>
                  </a:lnTo>
                  <a:lnTo>
                    <a:pt x="849" y="1201"/>
                  </a:lnTo>
                  <a:lnTo>
                    <a:pt x="831" y="1188"/>
                  </a:lnTo>
                  <a:lnTo>
                    <a:pt x="815" y="1174"/>
                  </a:lnTo>
                  <a:lnTo>
                    <a:pt x="800" y="1158"/>
                  </a:lnTo>
                  <a:lnTo>
                    <a:pt x="786" y="1142"/>
                  </a:lnTo>
                  <a:lnTo>
                    <a:pt x="774" y="1125"/>
                  </a:lnTo>
                  <a:lnTo>
                    <a:pt x="763" y="1106"/>
                  </a:lnTo>
                  <a:lnTo>
                    <a:pt x="754" y="1086"/>
                  </a:lnTo>
                  <a:lnTo>
                    <a:pt x="746" y="1065"/>
                  </a:lnTo>
                  <a:lnTo>
                    <a:pt x="740" y="1043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49600" y="627120"/>
              <a:ext cx="349560" cy="457200"/>
            </a:xfrm>
            <a:custGeom>
              <a:avLst/>
              <a:gdLst/>
              <a:ahLst/>
              <a:rect l="l" t="t" r="r" b="b"/>
              <a:pathLst>
                <a:path w="968" h="1270">
                  <a:moveTo>
                    <a:pt x="466" y="1269"/>
                  </a:moveTo>
                  <a:lnTo>
                    <a:pt x="412" y="1267"/>
                  </a:lnTo>
                  <a:lnTo>
                    <a:pt x="362" y="1260"/>
                  </a:lnTo>
                  <a:lnTo>
                    <a:pt x="314" y="1249"/>
                  </a:lnTo>
                  <a:lnTo>
                    <a:pt x="269" y="1234"/>
                  </a:lnTo>
                  <a:lnTo>
                    <a:pt x="229" y="1214"/>
                  </a:lnTo>
                  <a:lnTo>
                    <a:pt x="190" y="1191"/>
                  </a:lnTo>
                  <a:lnTo>
                    <a:pt x="172" y="1177"/>
                  </a:lnTo>
                  <a:lnTo>
                    <a:pt x="155" y="1162"/>
                  </a:lnTo>
                  <a:lnTo>
                    <a:pt x="139" y="1147"/>
                  </a:lnTo>
                  <a:lnTo>
                    <a:pt x="123" y="1129"/>
                  </a:lnTo>
                  <a:lnTo>
                    <a:pt x="108" y="1112"/>
                  </a:lnTo>
                  <a:lnTo>
                    <a:pt x="94" y="1094"/>
                  </a:lnTo>
                  <a:lnTo>
                    <a:pt x="81" y="1074"/>
                  </a:lnTo>
                  <a:lnTo>
                    <a:pt x="69" y="1053"/>
                  </a:lnTo>
                  <a:lnTo>
                    <a:pt x="58" y="1032"/>
                  </a:lnTo>
                  <a:lnTo>
                    <a:pt x="48" y="1010"/>
                  </a:lnTo>
                  <a:lnTo>
                    <a:pt x="39" y="987"/>
                  </a:lnTo>
                  <a:lnTo>
                    <a:pt x="31" y="964"/>
                  </a:lnTo>
                  <a:lnTo>
                    <a:pt x="23" y="940"/>
                  </a:lnTo>
                  <a:lnTo>
                    <a:pt x="17" y="915"/>
                  </a:lnTo>
                  <a:lnTo>
                    <a:pt x="12" y="889"/>
                  </a:lnTo>
                  <a:lnTo>
                    <a:pt x="7" y="863"/>
                  </a:lnTo>
                  <a:lnTo>
                    <a:pt x="4" y="835"/>
                  </a:lnTo>
                  <a:lnTo>
                    <a:pt x="2" y="806"/>
                  </a:lnTo>
                  <a:lnTo>
                    <a:pt x="0" y="747"/>
                  </a:lnTo>
                  <a:lnTo>
                    <a:pt x="1" y="710"/>
                  </a:lnTo>
                  <a:lnTo>
                    <a:pt x="2" y="674"/>
                  </a:lnTo>
                  <a:lnTo>
                    <a:pt x="5" y="639"/>
                  </a:lnTo>
                  <a:lnTo>
                    <a:pt x="10" y="604"/>
                  </a:lnTo>
                  <a:lnTo>
                    <a:pt x="15" y="569"/>
                  </a:lnTo>
                  <a:lnTo>
                    <a:pt x="22" y="536"/>
                  </a:lnTo>
                  <a:lnTo>
                    <a:pt x="30" y="502"/>
                  </a:lnTo>
                  <a:lnTo>
                    <a:pt x="39" y="469"/>
                  </a:lnTo>
                  <a:lnTo>
                    <a:pt x="49" y="437"/>
                  </a:lnTo>
                  <a:lnTo>
                    <a:pt x="61" y="404"/>
                  </a:lnTo>
                  <a:lnTo>
                    <a:pt x="74" y="373"/>
                  </a:lnTo>
                  <a:lnTo>
                    <a:pt x="89" y="343"/>
                  </a:lnTo>
                  <a:lnTo>
                    <a:pt x="105" y="314"/>
                  </a:lnTo>
                  <a:lnTo>
                    <a:pt x="121" y="285"/>
                  </a:lnTo>
                  <a:lnTo>
                    <a:pt x="140" y="258"/>
                  </a:lnTo>
                  <a:lnTo>
                    <a:pt x="160" y="230"/>
                  </a:lnTo>
                  <a:lnTo>
                    <a:pt x="179" y="204"/>
                  </a:lnTo>
                  <a:lnTo>
                    <a:pt x="200" y="181"/>
                  </a:lnTo>
                  <a:lnTo>
                    <a:pt x="222" y="159"/>
                  </a:lnTo>
                  <a:lnTo>
                    <a:pt x="245" y="137"/>
                  </a:lnTo>
                  <a:lnTo>
                    <a:pt x="270" y="118"/>
                  </a:lnTo>
                  <a:lnTo>
                    <a:pt x="297" y="98"/>
                  </a:lnTo>
                  <a:lnTo>
                    <a:pt x="324" y="81"/>
                  </a:lnTo>
                  <a:lnTo>
                    <a:pt x="353" y="64"/>
                  </a:lnTo>
                  <a:lnTo>
                    <a:pt x="383" y="49"/>
                  </a:lnTo>
                  <a:lnTo>
                    <a:pt x="414" y="36"/>
                  </a:lnTo>
                  <a:lnTo>
                    <a:pt x="447" y="24"/>
                  </a:lnTo>
                  <a:lnTo>
                    <a:pt x="479" y="16"/>
                  </a:lnTo>
                  <a:lnTo>
                    <a:pt x="512" y="9"/>
                  </a:lnTo>
                  <a:lnTo>
                    <a:pt x="547" y="3"/>
                  </a:lnTo>
                  <a:lnTo>
                    <a:pt x="582" y="1"/>
                  </a:lnTo>
                  <a:lnTo>
                    <a:pt x="619" y="0"/>
                  </a:lnTo>
                  <a:lnTo>
                    <a:pt x="660" y="1"/>
                  </a:lnTo>
                  <a:lnTo>
                    <a:pt x="698" y="5"/>
                  </a:lnTo>
                  <a:lnTo>
                    <a:pt x="734" y="12"/>
                  </a:lnTo>
                  <a:lnTo>
                    <a:pt x="768" y="20"/>
                  </a:lnTo>
                  <a:lnTo>
                    <a:pt x="799" y="31"/>
                  </a:lnTo>
                  <a:lnTo>
                    <a:pt x="828" y="44"/>
                  </a:lnTo>
                  <a:lnTo>
                    <a:pt x="854" y="60"/>
                  </a:lnTo>
                  <a:lnTo>
                    <a:pt x="878" y="79"/>
                  </a:lnTo>
                  <a:lnTo>
                    <a:pt x="888" y="89"/>
                  </a:lnTo>
                  <a:lnTo>
                    <a:pt x="898" y="99"/>
                  </a:lnTo>
                  <a:lnTo>
                    <a:pt x="908" y="111"/>
                  </a:lnTo>
                  <a:lnTo>
                    <a:pt x="917" y="122"/>
                  </a:lnTo>
                  <a:lnTo>
                    <a:pt x="924" y="134"/>
                  </a:lnTo>
                  <a:lnTo>
                    <a:pt x="932" y="147"/>
                  </a:lnTo>
                  <a:lnTo>
                    <a:pt x="938" y="159"/>
                  </a:lnTo>
                  <a:lnTo>
                    <a:pt x="944" y="172"/>
                  </a:lnTo>
                  <a:lnTo>
                    <a:pt x="949" y="186"/>
                  </a:lnTo>
                  <a:lnTo>
                    <a:pt x="954" y="200"/>
                  </a:lnTo>
                  <a:lnTo>
                    <a:pt x="957" y="215"/>
                  </a:lnTo>
                  <a:lnTo>
                    <a:pt x="961" y="230"/>
                  </a:lnTo>
                  <a:lnTo>
                    <a:pt x="963" y="246"/>
                  </a:lnTo>
                  <a:lnTo>
                    <a:pt x="965" y="262"/>
                  </a:lnTo>
                  <a:lnTo>
                    <a:pt x="967" y="278"/>
                  </a:lnTo>
                  <a:lnTo>
                    <a:pt x="967" y="296"/>
                  </a:lnTo>
                  <a:lnTo>
                    <a:pt x="967" y="305"/>
                  </a:lnTo>
                  <a:lnTo>
                    <a:pt x="966" y="314"/>
                  </a:lnTo>
                  <a:lnTo>
                    <a:pt x="965" y="325"/>
                  </a:lnTo>
                  <a:lnTo>
                    <a:pt x="964" y="335"/>
                  </a:lnTo>
                  <a:lnTo>
                    <a:pt x="962" y="357"/>
                  </a:lnTo>
                  <a:lnTo>
                    <a:pt x="957" y="379"/>
                  </a:lnTo>
                  <a:lnTo>
                    <a:pt x="955" y="390"/>
                  </a:lnTo>
                  <a:lnTo>
                    <a:pt x="952" y="401"/>
                  </a:lnTo>
                  <a:lnTo>
                    <a:pt x="949" y="411"/>
                  </a:lnTo>
                  <a:lnTo>
                    <a:pt x="946" y="422"/>
                  </a:lnTo>
                  <a:lnTo>
                    <a:pt x="942" y="431"/>
                  </a:lnTo>
                  <a:lnTo>
                    <a:pt x="937" y="440"/>
                  </a:lnTo>
                  <a:lnTo>
                    <a:pt x="933" y="448"/>
                  </a:lnTo>
                  <a:lnTo>
                    <a:pt x="928" y="456"/>
                  </a:lnTo>
                  <a:lnTo>
                    <a:pt x="922" y="465"/>
                  </a:lnTo>
                  <a:lnTo>
                    <a:pt x="916" y="475"/>
                  </a:lnTo>
                  <a:lnTo>
                    <a:pt x="910" y="483"/>
                  </a:lnTo>
                  <a:lnTo>
                    <a:pt x="903" y="491"/>
                  </a:lnTo>
                  <a:lnTo>
                    <a:pt x="897" y="498"/>
                  </a:lnTo>
                  <a:lnTo>
                    <a:pt x="890" y="505"/>
                  </a:lnTo>
                  <a:lnTo>
                    <a:pt x="883" y="510"/>
                  </a:lnTo>
                  <a:lnTo>
                    <a:pt x="877" y="516"/>
                  </a:lnTo>
                  <a:lnTo>
                    <a:pt x="869" y="521"/>
                  </a:lnTo>
                  <a:lnTo>
                    <a:pt x="861" y="524"/>
                  </a:lnTo>
                  <a:lnTo>
                    <a:pt x="851" y="528"/>
                  </a:lnTo>
                  <a:lnTo>
                    <a:pt x="841" y="531"/>
                  </a:lnTo>
                  <a:lnTo>
                    <a:pt x="830" y="534"/>
                  </a:lnTo>
                  <a:lnTo>
                    <a:pt x="819" y="535"/>
                  </a:lnTo>
                  <a:lnTo>
                    <a:pt x="805" y="536"/>
                  </a:lnTo>
                  <a:lnTo>
                    <a:pt x="792" y="536"/>
                  </a:lnTo>
                  <a:lnTo>
                    <a:pt x="774" y="535"/>
                  </a:lnTo>
                  <a:lnTo>
                    <a:pt x="756" y="534"/>
                  </a:lnTo>
                  <a:lnTo>
                    <a:pt x="740" y="529"/>
                  </a:lnTo>
                  <a:lnTo>
                    <a:pt x="725" y="524"/>
                  </a:lnTo>
                  <a:lnTo>
                    <a:pt x="711" y="519"/>
                  </a:lnTo>
                  <a:lnTo>
                    <a:pt x="698" y="510"/>
                  </a:lnTo>
                  <a:lnTo>
                    <a:pt x="692" y="506"/>
                  </a:lnTo>
                  <a:lnTo>
                    <a:pt x="686" y="500"/>
                  </a:lnTo>
                  <a:lnTo>
                    <a:pt x="680" y="495"/>
                  </a:lnTo>
                  <a:lnTo>
                    <a:pt x="675" y="490"/>
                  </a:lnTo>
                  <a:lnTo>
                    <a:pt x="665" y="478"/>
                  </a:lnTo>
                  <a:lnTo>
                    <a:pt x="657" y="467"/>
                  </a:lnTo>
                  <a:lnTo>
                    <a:pt x="650" y="454"/>
                  </a:lnTo>
                  <a:lnTo>
                    <a:pt x="647" y="448"/>
                  </a:lnTo>
                  <a:lnTo>
                    <a:pt x="645" y="442"/>
                  </a:lnTo>
                  <a:lnTo>
                    <a:pt x="642" y="435"/>
                  </a:lnTo>
                  <a:lnTo>
                    <a:pt x="640" y="430"/>
                  </a:lnTo>
                  <a:lnTo>
                    <a:pt x="638" y="424"/>
                  </a:lnTo>
                  <a:lnTo>
                    <a:pt x="636" y="418"/>
                  </a:lnTo>
                  <a:lnTo>
                    <a:pt x="635" y="411"/>
                  </a:lnTo>
                  <a:lnTo>
                    <a:pt x="635" y="405"/>
                  </a:lnTo>
                  <a:lnTo>
                    <a:pt x="634" y="398"/>
                  </a:lnTo>
                  <a:lnTo>
                    <a:pt x="634" y="393"/>
                  </a:lnTo>
                  <a:lnTo>
                    <a:pt x="634" y="378"/>
                  </a:lnTo>
                  <a:lnTo>
                    <a:pt x="635" y="363"/>
                  </a:lnTo>
                  <a:lnTo>
                    <a:pt x="636" y="348"/>
                  </a:lnTo>
                  <a:lnTo>
                    <a:pt x="639" y="333"/>
                  </a:lnTo>
                  <a:lnTo>
                    <a:pt x="641" y="318"/>
                  </a:lnTo>
                  <a:lnTo>
                    <a:pt x="645" y="303"/>
                  </a:lnTo>
                  <a:lnTo>
                    <a:pt x="649" y="288"/>
                  </a:lnTo>
                  <a:lnTo>
                    <a:pt x="654" y="273"/>
                  </a:lnTo>
                  <a:lnTo>
                    <a:pt x="665" y="243"/>
                  </a:lnTo>
                  <a:lnTo>
                    <a:pt x="676" y="212"/>
                  </a:lnTo>
                  <a:lnTo>
                    <a:pt x="690" y="180"/>
                  </a:lnTo>
                  <a:lnTo>
                    <a:pt x="705" y="148"/>
                  </a:lnTo>
                  <a:lnTo>
                    <a:pt x="702" y="144"/>
                  </a:lnTo>
                  <a:lnTo>
                    <a:pt x="699" y="141"/>
                  </a:lnTo>
                  <a:lnTo>
                    <a:pt x="695" y="137"/>
                  </a:lnTo>
                  <a:lnTo>
                    <a:pt x="691" y="133"/>
                  </a:lnTo>
                  <a:lnTo>
                    <a:pt x="681" y="125"/>
                  </a:lnTo>
                  <a:lnTo>
                    <a:pt x="670" y="115"/>
                  </a:lnTo>
                  <a:lnTo>
                    <a:pt x="663" y="111"/>
                  </a:lnTo>
                  <a:lnTo>
                    <a:pt x="655" y="106"/>
                  </a:lnTo>
                  <a:lnTo>
                    <a:pt x="648" y="103"/>
                  </a:lnTo>
                  <a:lnTo>
                    <a:pt x="640" y="100"/>
                  </a:lnTo>
                  <a:lnTo>
                    <a:pt x="631" y="98"/>
                  </a:lnTo>
                  <a:lnTo>
                    <a:pt x="621" y="97"/>
                  </a:lnTo>
                  <a:lnTo>
                    <a:pt x="611" y="96"/>
                  </a:lnTo>
                  <a:lnTo>
                    <a:pt x="601" y="96"/>
                  </a:lnTo>
                  <a:lnTo>
                    <a:pt x="587" y="97"/>
                  </a:lnTo>
                  <a:lnTo>
                    <a:pt x="574" y="98"/>
                  </a:lnTo>
                  <a:lnTo>
                    <a:pt x="561" y="102"/>
                  </a:lnTo>
                  <a:lnTo>
                    <a:pt x="547" y="106"/>
                  </a:lnTo>
                  <a:lnTo>
                    <a:pt x="535" y="112"/>
                  </a:lnTo>
                  <a:lnTo>
                    <a:pt x="522" y="120"/>
                  </a:lnTo>
                  <a:lnTo>
                    <a:pt x="511" y="128"/>
                  </a:lnTo>
                  <a:lnTo>
                    <a:pt x="499" y="139"/>
                  </a:lnTo>
                  <a:lnTo>
                    <a:pt x="487" y="150"/>
                  </a:lnTo>
                  <a:lnTo>
                    <a:pt x="477" y="163"/>
                  </a:lnTo>
                  <a:lnTo>
                    <a:pt x="466" y="177"/>
                  </a:lnTo>
                  <a:lnTo>
                    <a:pt x="455" y="192"/>
                  </a:lnTo>
                  <a:lnTo>
                    <a:pt x="445" y="209"/>
                  </a:lnTo>
                  <a:lnTo>
                    <a:pt x="435" y="226"/>
                  </a:lnTo>
                  <a:lnTo>
                    <a:pt x="416" y="267"/>
                  </a:lnTo>
                  <a:lnTo>
                    <a:pt x="398" y="311"/>
                  </a:lnTo>
                  <a:lnTo>
                    <a:pt x="383" y="358"/>
                  </a:lnTo>
                  <a:lnTo>
                    <a:pt x="371" y="406"/>
                  </a:lnTo>
                  <a:lnTo>
                    <a:pt x="361" y="458"/>
                  </a:lnTo>
                  <a:lnTo>
                    <a:pt x="353" y="513"/>
                  </a:lnTo>
                  <a:lnTo>
                    <a:pt x="347" y="569"/>
                  </a:lnTo>
                  <a:lnTo>
                    <a:pt x="343" y="629"/>
                  </a:lnTo>
                  <a:lnTo>
                    <a:pt x="343" y="692"/>
                  </a:lnTo>
                  <a:lnTo>
                    <a:pt x="343" y="738"/>
                  </a:lnTo>
                  <a:lnTo>
                    <a:pt x="346" y="782"/>
                  </a:lnTo>
                  <a:lnTo>
                    <a:pt x="350" y="822"/>
                  </a:lnTo>
                  <a:lnTo>
                    <a:pt x="357" y="860"/>
                  </a:lnTo>
                  <a:lnTo>
                    <a:pt x="364" y="895"/>
                  </a:lnTo>
                  <a:lnTo>
                    <a:pt x="374" y="927"/>
                  </a:lnTo>
                  <a:lnTo>
                    <a:pt x="379" y="942"/>
                  </a:lnTo>
                  <a:lnTo>
                    <a:pt x="385" y="956"/>
                  </a:lnTo>
                  <a:lnTo>
                    <a:pt x="392" y="970"/>
                  </a:lnTo>
                  <a:lnTo>
                    <a:pt x="398" y="983"/>
                  </a:lnTo>
                  <a:lnTo>
                    <a:pt x="406" y="994"/>
                  </a:lnTo>
                  <a:lnTo>
                    <a:pt x="413" y="1006"/>
                  </a:lnTo>
                  <a:lnTo>
                    <a:pt x="421" y="1016"/>
                  </a:lnTo>
                  <a:lnTo>
                    <a:pt x="429" y="1025"/>
                  </a:lnTo>
                  <a:lnTo>
                    <a:pt x="438" y="1035"/>
                  </a:lnTo>
                  <a:lnTo>
                    <a:pt x="447" y="1043"/>
                  </a:lnTo>
                  <a:lnTo>
                    <a:pt x="457" y="1051"/>
                  </a:lnTo>
                  <a:lnTo>
                    <a:pt x="467" y="1057"/>
                  </a:lnTo>
                  <a:lnTo>
                    <a:pt x="477" y="1062"/>
                  </a:lnTo>
                  <a:lnTo>
                    <a:pt x="487" y="1068"/>
                  </a:lnTo>
                  <a:lnTo>
                    <a:pt x="497" y="1073"/>
                  </a:lnTo>
                  <a:lnTo>
                    <a:pt x="509" y="1076"/>
                  </a:lnTo>
                  <a:lnTo>
                    <a:pt x="521" y="1079"/>
                  </a:lnTo>
                  <a:lnTo>
                    <a:pt x="532" y="1081"/>
                  </a:lnTo>
                  <a:lnTo>
                    <a:pt x="557" y="1082"/>
                  </a:lnTo>
                  <a:lnTo>
                    <a:pt x="583" y="1081"/>
                  </a:lnTo>
                  <a:lnTo>
                    <a:pt x="608" y="1079"/>
                  </a:lnTo>
                  <a:lnTo>
                    <a:pt x="631" y="1075"/>
                  </a:lnTo>
                  <a:lnTo>
                    <a:pt x="654" y="1069"/>
                  </a:lnTo>
                  <a:lnTo>
                    <a:pt x="675" y="1062"/>
                  </a:lnTo>
                  <a:lnTo>
                    <a:pt x="695" y="1053"/>
                  </a:lnTo>
                  <a:lnTo>
                    <a:pt x="715" y="1043"/>
                  </a:lnTo>
                  <a:lnTo>
                    <a:pt x="733" y="1031"/>
                  </a:lnTo>
                  <a:lnTo>
                    <a:pt x="750" y="1017"/>
                  </a:lnTo>
                  <a:lnTo>
                    <a:pt x="769" y="1001"/>
                  </a:lnTo>
                  <a:lnTo>
                    <a:pt x="786" y="982"/>
                  </a:lnTo>
                  <a:lnTo>
                    <a:pt x="804" y="961"/>
                  </a:lnTo>
                  <a:lnTo>
                    <a:pt x="822" y="938"/>
                  </a:lnTo>
                  <a:lnTo>
                    <a:pt x="840" y="912"/>
                  </a:lnTo>
                  <a:lnTo>
                    <a:pt x="858" y="885"/>
                  </a:lnTo>
                  <a:lnTo>
                    <a:pt x="877" y="855"/>
                  </a:lnTo>
                  <a:lnTo>
                    <a:pt x="946" y="928"/>
                  </a:lnTo>
                  <a:lnTo>
                    <a:pt x="925" y="967"/>
                  </a:lnTo>
                  <a:lnTo>
                    <a:pt x="903" y="1001"/>
                  </a:lnTo>
                  <a:lnTo>
                    <a:pt x="880" y="1036"/>
                  </a:lnTo>
                  <a:lnTo>
                    <a:pt x="855" y="1067"/>
                  </a:lnTo>
                  <a:lnTo>
                    <a:pt x="828" y="1097"/>
                  </a:lnTo>
                  <a:lnTo>
                    <a:pt x="800" y="1125"/>
                  </a:lnTo>
                  <a:lnTo>
                    <a:pt x="770" y="1151"/>
                  </a:lnTo>
                  <a:lnTo>
                    <a:pt x="739" y="1176"/>
                  </a:lnTo>
                  <a:lnTo>
                    <a:pt x="706" y="1198"/>
                  </a:lnTo>
                  <a:lnTo>
                    <a:pt x="673" y="1216"/>
                  </a:lnTo>
                  <a:lnTo>
                    <a:pt x="640" y="1232"/>
                  </a:lnTo>
                  <a:lnTo>
                    <a:pt x="606" y="1246"/>
                  </a:lnTo>
                  <a:lnTo>
                    <a:pt x="571" y="1256"/>
                  </a:lnTo>
                  <a:lnTo>
                    <a:pt x="536" y="1263"/>
                  </a:lnTo>
                  <a:lnTo>
                    <a:pt x="502" y="1268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1240" y="627120"/>
              <a:ext cx="347400" cy="457200"/>
            </a:xfrm>
            <a:custGeom>
              <a:avLst/>
              <a:gdLst/>
              <a:ahLst/>
              <a:rect l="l" t="t" r="r" b="b"/>
              <a:pathLst>
                <a:path w="967" h="1270">
                  <a:moveTo>
                    <a:pt x="465" y="1269"/>
                  </a:moveTo>
                  <a:lnTo>
                    <a:pt x="411" y="1267"/>
                  </a:lnTo>
                  <a:lnTo>
                    <a:pt x="362" y="1260"/>
                  </a:lnTo>
                  <a:lnTo>
                    <a:pt x="314" y="1249"/>
                  </a:lnTo>
                  <a:lnTo>
                    <a:pt x="269" y="1234"/>
                  </a:lnTo>
                  <a:lnTo>
                    <a:pt x="228" y="1214"/>
                  </a:lnTo>
                  <a:lnTo>
                    <a:pt x="190" y="1191"/>
                  </a:lnTo>
                  <a:lnTo>
                    <a:pt x="172" y="1177"/>
                  </a:lnTo>
                  <a:lnTo>
                    <a:pt x="155" y="1162"/>
                  </a:lnTo>
                  <a:lnTo>
                    <a:pt x="139" y="1147"/>
                  </a:lnTo>
                  <a:lnTo>
                    <a:pt x="123" y="1129"/>
                  </a:lnTo>
                  <a:lnTo>
                    <a:pt x="108" y="1112"/>
                  </a:lnTo>
                  <a:lnTo>
                    <a:pt x="94" y="1094"/>
                  </a:lnTo>
                  <a:lnTo>
                    <a:pt x="81" y="1074"/>
                  </a:lnTo>
                  <a:lnTo>
                    <a:pt x="69" y="1053"/>
                  </a:lnTo>
                  <a:lnTo>
                    <a:pt x="58" y="1032"/>
                  </a:lnTo>
                  <a:lnTo>
                    <a:pt x="48" y="1010"/>
                  </a:lnTo>
                  <a:lnTo>
                    <a:pt x="39" y="987"/>
                  </a:lnTo>
                  <a:lnTo>
                    <a:pt x="30" y="964"/>
                  </a:lnTo>
                  <a:lnTo>
                    <a:pt x="23" y="940"/>
                  </a:lnTo>
                  <a:lnTo>
                    <a:pt x="17" y="915"/>
                  </a:lnTo>
                  <a:lnTo>
                    <a:pt x="11" y="889"/>
                  </a:lnTo>
                  <a:lnTo>
                    <a:pt x="7" y="863"/>
                  </a:lnTo>
                  <a:lnTo>
                    <a:pt x="4" y="835"/>
                  </a:lnTo>
                  <a:lnTo>
                    <a:pt x="1" y="806"/>
                  </a:lnTo>
                  <a:lnTo>
                    <a:pt x="0" y="747"/>
                  </a:lnTo>
                  <a:lnTo>
                    <a:pt x="0" y="710"/>
                  </a:lnTo>
                  <a:lnTo>
                    <a:pt x="2" y="674"/>
                  </a:lnTo>
                  <a:lnTo>
                    <a:pt x="5" y="639"/>
                  </a:lnTo>
                  <a:lnTo>
                    <a:pt x="10" y="604"/>
                  </a:lnTo>
                  <a:lnTo>
                    <a:pt x="15" y="569"/>
                  </a:lnTo>
                  <a:lnTo>
                    <a:pt x="21" y="536"/>
                  </a:lnTo>
                  <a:lnTo>
                    <a:pt x="30" y="502"/>
                  </a:lnTo>
                  <a:lnTo>
                    <a:pt x="39" y="469"/>
                  </a:lnTo>
                  <a:lnTo>
                    <a:pt x="49" y="437"/>
                  </a:lnTo>
                  <a:lnTo>
                    <a:pt x="61" y="404"/>
                  </a:lnTo>
                  <a:lnTo>
                    <a:pt x="74" y="373"/>
                  </a:lnTo>
                  <a:lnTo>
                    <a:pt x="89" y="343"/>
                  </a:lnTo>
                  <a:lnTo>
                    <a:pt x="104" y="314"/>
                  </a:lnTo>
                  <a:lnTo>
                    <a:pt x="121" y="285"/>
                  </a:lnTo>
                  <a:lnTo>
                    <a:pt x="139" y="258"/>
                  </a:lnTo>
                  <a:lnTo>
                    <a:pt x="159" y="230"/>
                  </a:lnTo>
                  <a:lnTo>
                    <a:pt x="178" y="204"/>
                  </a:lnTo>
                  <a:lnTo>
                    <a:pt x="199" y="181"/>
                  </a:lnTo>
                  <a:lnTo>
                    <a:pt x="222" y="159"/>
                  </a:lnTo>
                  <a:lnTo>
                    <a:pt x="245" y="137"/>
                  </a:lnTo>
                  <a:lnTo>
                    <a:pt x="270" y="118"/>
                  </a:lnTo>
                  <a:lnTo>
                    <a:pt x="297" y="98"/>
                  </a:lnTo>
                  <a:lnTo>
                    <a:pt x="324" y="81"/>
                  </a:lnTo>
                  <a:lnTo>
                    <a:pt x="353" y="64"/>
                  </a:lnTo>
                  <a:lnTo>
                    <a:pt x="383" y="49"/>
                  </a:lnTo>
                  <a:lnTo>
                    <a:pt x="414" y="36"/>
                  </a:lnTo>
                  <a:lnTo>
                    <a:pt x="446" y="24"/>
                  </a:lnTo>
                  <a:lnTo>
                    <a:pt x="479" y="16"/>
                  </a:lnTo>
                  <a:lnTo>
                    <a:pt x="512" y="9"/>
                  </a:lnTo>
                  <a:lnTo>
                    <a:pt x="547" y="3"/>
                  </a:lnTo>
                  <a:lnTo>
                    <a:pt x="582" y="1"/>
                  </a:lnTo>
                  <a:lnTo>
                    <a:pt x="619" y="0"/>
                  </a:lnTo>
                  <a:lnTo>
                    <a:pt x="659" y="1"/>
                  </a:lnTo>
                  <a:lnTo>
                    <a:pt x="698" y="5"/>
                  </a:lnTo>
                  <a:lnTo>
                    <a:pt x="734" y="12"/>
                  </a:lnTo>
                  <a:lnTo>
                    <a:pt x="767" y="20"/>
                  </a:lnTo>
                  <a:lnTo>
                    <a:pt x="799" y="31"/>
                  </a:lnTo>
                  <a:lnTo>
                    <a:pt x="827" y="44"/>
                  </a:lnTo>
                  <a:lnTo>
                    <a:pt x="854" y="60"/>
                  </a:lnTo>
                  <a:lnTo>
                    <a:pt x="877" y="79"/>
                  </a:lnTo>
                  <a:lnTo>
                    <a:pt x="888" y="89"/>
                  </a:lnTo>
                  <a:lnTo>
                    <a:pt x="898" y="99"/>
                  </a:lnTo>
                  <a:lnTo>
                    <a:pt x="907" y="111"/>
                  </a:lnTo>
                  <a:lnTo>
                    <a:pt x="916" y="122"/>
                  </a:lnTo>
                  <a:lnTo>
                    <a:pt x="924" y="134"/>
                  </a:lnTo>
                  <a:lnTo>
                    <a:pt x="931" y="147"/>
                  </a:lnTo>
                  <a:lnTo>
                    <a:pt x="938" y="159"/>
                  </a:lnTo>
                  <a:lnTo>
                    <a:pt x="944" y="172"/>
                  </a:lnTo>
                  <a:lnTo>
                    <a:pt x="949" y="186"/>
                  </a:lnTo>
                  <a:lnTo>
                    <a:pt x="954" y="200"/>
                  </a:lnTo>
                  <a:lnTo>
                    <a:pt x="957" y="215"/>
                  </a:lnTo>
                  <a:lnTo>
                    <a:pt x="960" y="230"/>
                  </a:lnTo>
                  <a:lnTo>
                    <a:pt x="963" y="246"/>
                  </a:lnTo>
                  <a:lnTo>
                    <a:pt x="965" y="262"/>
                  </a:lnTo>
                  <a:lnTo>
                    <a:pt x="966" y="278"/>
                  </a:lnTo>
                  <a:lnTo>
                    <a:pt x="966" y="296"/>
                  </a:lnTo>
                  <a:lnTo>
                    <a:pt x="966" y="305"/>
                  </a:lnTo>
                  <a:lnTo>
                    <a:pt x="965" y="314"/>
                  </a:lnTo>
                  <a:lnTo>
                    <a:pt x="965" y="325"/>
                  </a:lnTo>
                  <a:lnTo>
                    <a:pt x="964" y="335"/>
                  </a:lnTo>
                  <a:lnTo>
                    <a:pt x="961" y="357"/>
                  </a:lnTo>
                  <a:lnTo>
                    <a:pt x="957" y="379"/>
                  </a:lnTo>
                  <a:lnTo>
                    <a:pt x="955" y="390"/>
                  </a:lnTo>
                  <a:lnTo>
                    <a:pt x="951" y="401"/>
                  </a:lnTo>
                  <a:lnTo>
                    <a:pt x="949" y="411"/>
                  </a:lnTo>
                  <a:lnTo>
                    <a:pt x="945" y="422"/>
                  </a:lnTo>
                  <a:lnTo>
                    <a:pt x="941" y="431"/>
                  </a:lnTo>
                  <a:lnTo>
                    <a:pt x="937" y="440"/>
                  </a:lnTo>
                  <a:lnTo>
                    <a:pt x="933" y="448"/>
                  </a:lnTo>
                  <a:lnTo>
                    <a:pt x="928" y="456"/>
                  </a:lnTo>
                  <a:lnTo>
                    <a:pt x="922" y="465"/>
                  </a:lnTo>
                  <a:lnTo>
                    <a:pt x="916" y="475"/>
                  </a:lnTo>
                  <a:lnTo>
                    <a:pt x="910" y="483"/>
                  </a:lnTo>
                  <a:lnTo>
                    <a:pt x="903" y="491"/>
                  </a:lnTo>
                  <a:lnTo>
                    <a:pt x="896" y="498"/>
                  </a:lnTo>
                  <a:lnTo>
                    <a:pt x="890" y="505"/>
                  </a:lnTo>
                  <a:lnTo>
                    <a:pt x="883" y="510"/>
                  </a:lnTo>
                  <a:lnTo>
                    <a:pt x="876" y="516"/>
                  </a:lnTo>
                  <a:lnTo>
                    <a:pt x="869" y="521"/>
                  </a:lnTo>
                  <a:lnTo>
                    <a:pt x="861" y="524"/>
                  </a:lnTo>
                  <a:lnTo>
                    <a:pt x="851" y="528"/>
                  </a:lnTo>
                  <a:lnTo>
                    <a:pt x="841" y="531"/>
                  </a:lnTo>
                  <a:lnTo>
                    <a:pt x="830" y="534"/>
                  </a:lnTo>
                  <a:lnTo>
                    <a:pt x="818" y="535"/>
                  </a:lnTo>
                  <a:lnTo>
                    <a:pt x="805" y="536"/>
                  </a:lnTo>
                  <a:lnTo>
                    <a:pt x="792" y="536"/>
                  </a:lnTo>
                  <a:lnTo>
                    <a:pt x="773" y="535"/>
                  </a:lnTo>
                  <a:lnTo>
                    <a:pt x="756" y="534"/>
                  </a:lnTo>
                  <a:lnTo>
                    <a:pt x="740" y="529"/>
                  </a:lnTo>
                  <a:lnTo>
                    <a:pt x="725" y="524"/>
                  </a:lnTo>
                  <a:lnTo>
                    <a:pt x="711" y="519"/>
                  </a:lnTo>
                  <a:lnTo>
                    <a:pt x="698" y="510"/>
                  </a:lnTo>
                  <a:lnTo>
                    <a:pt x="692" y="506"/>
                  </a:lnTo>
                  <a:lnTo>
                    <a:pt x="686" y="500"/>
                  </a:lnTo>
                  <a:lnTo>
                    <a:pt x="680" y="495"/>
                  </a:lnTo>
                  <a:lnTo>
                    <a:pt x="675" y="490"/>
                  </a:lnTo>
                  <a:lnTo>
                    <a:pt x="665" y="478"/>
                  </a:lnTo>
                  <a:lnTo>
                    <a:pt x="657" y="467"/>
                  </a:lnTo>
                  <a:lnTo>
                    <a:pt x="650" y="454"/>
                  </a:lnTo>
                  <a:lnTo>
                    <a:pt x="647" y="448"/>
                  </a:lnTo>
                  <a:lnTo>
                    <a:pt x="644" y="442"/>
                  </a:lnTo>
                  <a:lnTo>
                    <a:pt x="642" y="435"/>
                  </a:lnTo>
                  <a:lnTo>
                    <a:pt x="639" y="430"/>
                  </a:lnTo>
                  <a:lnTo>
                    <a:pt x="638" y="424"/>
                  </a:lnTo>
                  <a:lnTo>
                    <a:pt x="636" y="418"/>
                  </a:lnTo>
                  <a:lnTo>
                    <a:pt x="635" y="411"/>
                  </a:lnTo>
                  <a:lnTo>
                    <a:pt x="634" y="405"/>
                  </a:lnTo>
                  <a:lnTo>
                    <a:pt x="634" y="398"/>
                  </a:lnTo>
                  <a:lnTo>
                    <a:pt x="634" y="393"/>
                  </a:lnTo>
                  <a:lnTo>
                    <a:pt x="634" y="378"/>
                  </a:lnTo>
                  <a:lnTo>
                    <a:pt x="635" y="363"/>
                  </a:lnTo>
                  <a:lnTo>
                    <a:pt x="636" y="348"/>
                  </a:lnTo>
                  <a:lnTo>
                    <a:pt x="639" y="333"/>
                  </a:lnTo>
                  <a:lnTo>
                    <a:pt x="641" y="318"/>
                  </a:lnTo>
                  <a:lnTo>
                    <a:pt x="645" y="303"/>
                  </a:lnTo>
                  <a:lnTo>
                    <a:pt x="649" y="288"/>
                  </a:lnTo>
                  <a:lnTo>
                    <a:pt x="653" y="273"/>
                  </a:lnTo>
                  <a:lnTo>
                    <a:pt x="664" y="243"/>
                  </a:lnTo>
                  <a:lnTo>
                    <a:pt x="676" y="212"/>
                  </a:lnTo>
                  <a:lnTo>
                    <a:pt x="689" y="180"/>
                  </a:lnTo>
                  <a:lnTo>
                    <a:pt x="704" y="148"/>
                  </a:lnTo>
                  <a:lnTo>
                    <a:pt x="702" y="144"/>
                  </a:lnTo>
                  <a:lnTo>
                    <a:pt x="698" y="141"/>
                  </a:lnTo>
                  <a:lnTo>
                    <a:pt x="695" y="137"/>
                  </a:lnTo>
                  <a:lnTo>
                    <a:pt x="691" y="133"/>
                  </a:lnTo>
                  <a:lnTo>
                    <a:pt x="681" y="125"/>
                  </a:lnTo>
                  <a:lnTo>
                    <a:pt x="669" y="115"/>
                  </a:lnTo>
                  <a:lnTo>
                    <a:pt x="663" y="111"/>
                  </a:lnTo>
                  <a:lnTo>
                    <a:pt x="655" y="106"/>
                  </a:lnTo>
                  <a:lnTo>
                    <a:pt x="648" y="103"/>
                  </a:lnTo>
                  <a:lnTo>
                    <a:pt x="639" y="100"/>
                  </a:lnTo>
                  <a:lnTo>
                    <a:pt x="630" y="98"/>
                  </a:lnTo>
                  <a:lnTo>
                    <a:pt x="621" y="97"/>
                  </a:lnTo>
                  <a:lnTo>
                    <a:pt x="611" y="96"/>
                  </a:lnTo>
                  <a:lnTo>
                    <a:pt x="601" y="96"/>
                  </a:lnTo>
                  <a:lnTo>
                    <a:pt x="587" y="97"/>
                  </a:lnTo>
                  <a:lnTo>
                    <a:pt x="574" y="98"/>
                  </a:lnTo>
                  <a:lnTo>
                    <a:pt x="560" y="102"/>
                  </a:lnTo>
                  <a:lnTo>
                    <a:pt x="547" y="106"/>
                  </a:lnTo>
                  <a:lnTo>
                    <a:pt x="535" y="112"/>
                  </a:lnTo>
                  <a:lnTo>
                    <a:pt x="522" y="120"/>
                  </a:lnTo>
                  <a:lnTo>
                    <a:pt x="510" y="128"/>
                  </a:lnTo>
                  <a:lnTo>
                    <a:pt x="499" y="139"/>
                  </a:lnTo>
                  <a:lnTo>
                    <a:pt x="487" y="150"/>
                  </a:lnTo>
                  <a:lnTo>
                    <a:pt x="476" y="163"/>
                  </a:lnTo>
                  <a:lnTo>
                    <a:pt x="465" y="177"/>
                  </a:lnTo>
                  <a:lnTo>
                    <a:pt x="455" y="192"/>
                  </a:lnTo>
                  <a:lnTo>
                    <a:pt x="445" y="209"/>
                  </a:lnTo>
                  <a:lnTo>
                    <a:pt x="435" y="226"/>
                  </a:lnTo>
                  <a:lnTo>
                    <a:pt x="416" y="267"/>
                  </a:lnTo>
                  <a:lnTo>
                    <a:pt x="398" y="311"/>
                  </a:lnTo>
                  <a:lnTo>
                    <a:pt x="383" y="358"/>
                  </a:lnTo>
                  <a:lnTo>
                    <a:pt x="371" y="406"/>
                  </a:lnTo>
                  <a:lnTo>
                    <a:pt x="361" y="458"/>
                  </a:lnTo>
                  <a:lnTo>
                    <a:pt x="352" y="513"/>
                  </a:lnTo>
                  <a:lnTo>
                    <a:pt x="347" y="569"/>
                  </a:lnTo>
                  <a:lnTo>
                    <a:pt x="343" y="629"/>
                  </a:lnTo>
                  <a:lnTo>
                    <a:pt x="342" y="692"/>
                  </a:lnTo>
                  <a:lnTo>
                    <a:pt x="343" y="738"/>
                  </a:lnTo>
                  <a:lnTo>
                    <a:pt x="346" y="782"/>
                  </a:lnTo>
                  <a:lnTo>
                    <a:pt x="350" y="822"/>
                  </a:lnTo>
                  <a:lnTo>
                    <a:pt x="357" y="860"/>
                  </a:lnTo>
                  <a:lnTo>
                    <a:pt x="364" y="895"/>
                  </a:lnTo>
                  <a:lnTo>
                    <a:pt x="374" y="927"/>
                  </a:lnTo>
                  <a:lnTo>
                    <a:pt x="379" y="942"/>
                  </a:lnTo>
                  <a:lnTo>
                    <a:pt x="385" y="956"/>
                  </a:lnTo>
                  <a:lnTo>
                    <a:pt x="391" y="970"/>
                  </a:lnTo>
                  <a:lnTo>
                    <a:pt x="398" y="983"/>
                  </a:lnTo>
                  <a:lnTo>
                    <a:pt x="406" y="994"/>
                  </a:lnTo>
                  <a:lnTo>
                    <a:pt x="413" y="1006"/>
                  </a:lnTo>
                  <a:lnTo>
                    <a:pt x="421" y="1016"/>
                  </a:lnTo>
                  <a:lnTo>
                    <a:pt x="429" y="1025"/>
                  </a:lnTo>
                  <a:lnTo>
                    <a:pt x="438" y="1035"/>
                  </a:lnTo>
                  <a:lnTo>
                    <a:pt x="447" y="1043"/>
                  </a:lnTo>
                  <a:lnTo>
                    <a:pt x="456" y="1051"/>
                  </a:lnTo>
                  <a:lnTo>
                    <a:pt x="466" y="1057"/>
                  </a:lnTo>
                  <a:lnTo>
                    <a:pt x="476" y="1062"/>
                  </a:lnTo>
                  <a:lnTo>
                    <a:pt x="486" y="1068"/>
                  </a:lnTo>
                  <a:lnTo>
                    <a:pt x="497" y="1073"/>
                  </a:lnTo>
                  <a:lnTo>
                    <a:pt x="509" y="1076"/>
                  </a:lnTo>
                  <a:lnTo>
                    <a:pt x="520" y="1079"/>
                  </a:lnTo>
                  <a:lnTo>
                    <a:pt x="532" y="1081"/>
                  </a:lnTo>
                  <a:lnTo>
                    <a:pt x="557" y="1082"/>
                  </a:lnTo>
                  <a:lnTo>
                    <a:pt x="583" y="1081"/>
                  </a:lnTo>
                  <a:lnTo>
                    <a:pt x="608" y="1079"/>
                  </a:lnTo>
                  <a:lnTo>
                    <a:pt x="631" y="1075"/>
                  </a:lnTo>
                  <a:lnTo>
                    <a:pt x="653" y="1069"/>
                  </a:lnTo>
                  <a:lnTo>
                    <a:pt x="675" y="1062"/>
                  </a:lnTo>
                  <a:lnTo>
                    <a:pt x="695" y="1053"/>
                  </a:lnTo>
                  <a:lnTo>
                    <a:pt x="714" y="1043"/>
                  </a:lnTo>
                  <a:lnTo>
                    <a:pt x="733" y="1031"/>
                  </a:lnTo>
                  <a:lnTo>
                    <a:pt x="750" y="1017"/>
                  </a:lnTo>
                  <a:lnTo>
                    <a:pt x="768" y="1001"/>
                  </a:lnTo>
                  <a:lnTo>
                    <a:pt x="786" y="982"/>
                  </a:lnTo>
                  <a:lnTo>
                    <a:pt x="804" y="961"/>
                  </a:lnTo>
                  <a:lnTo>
                    <a:pt x="822" y="938"/>
                  </a:lnTo>
                  <a:lnTo>
                    <a:pt x="840" y="912"/>
                  </a:lnTo>
                  <a:lnTo>
                    <a:pt x="858" y="885"/>
                  </a:lnTo>
                  <a:lnTo>
                    <a:pt x="876" y="855"/>
                  </a:lnTo>
                  <a:lnTo>
                    <a:pt x="945" y="928"/>
                  </a:lnTo>
                  <a:lnTo>
                    <a:pt x="925" y="967"/>
                  </a:lnTo>
                  <a:lnTo>
                    <a:pt x="903" y="1001"/>
                  </a:lnTo>
                  <a:lnTo>
                    <a:pt x="880" y="1036"/>
                  </a:lnTo>
                  <a:lnTo>
                    <a:pt x="855" y="1067"/>
                  </a:lnTo>
                  <a:lnTo>
                    <a:pt x="827" y="1097"/>
                  </a:lnTo>
                  <a:lnTo>
                    <a:pt x="800" y="1125"/>
                  </a:lnTo>
                  <a:lnTo>
                    <a:pt x="770" y="1151"/>
                  </a:lnTo>
                  <a:lnTo>
                    <a:pt x="738" y="1176"/>
                  </a:lnTo>
                  <a:lnTo>
                    <a:pt x="706" y="1198"/>
                  </a:lnTo>
                  <a:lnTo>
                    <a:pt x="673" y="1216"/>
                  </a:lnTo>
                  <a:lnTo>
                    <a:pt x="639" y="1232"/>
                  </a:lnTo>
                  <a:lnTo>
                    <a:pt x="605" y="1246"/>
                  </a:lnTo>
                  <a:lnTo>
                    <a:pt x="571" y="1256"/>
                  </a:lnTo>
                  <a:lnTo>
                    <a:pt x="536" y="1263"/>
                  </a:lnTo>
                  <a:lnTo>
                    <a:pt x="501" y="1268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91120" y="627120"/>
              <a:ext cx="463680" cy="450720"/>
            </a:xfrm>
            <a:custGeom>
              <a:avLst/>
              <a:gdLst/>
              <a:ahLst/>
              <a:rect l="l" t="t" r="r" b="b"/>
              <a:pathLst>
                <a:path w="1287" h="1253">
                  <a:moveTo>
                    <a:pt x="1265" y="1152"/>
                  </a:moveTo>
                  <a:lnTo>
                    <a:pt x="1113" y="1224"/>
                  </a:lnTo>
                  <a:lnTo>
                    <a:pt x="1099" y="1230"/>
                  </a:lnTo>
                  <a:lnTo>
                    <a:pt x="1084" y="1236"/>
                  </a:lnTo>
                  <a:lnTo>
                    <a:pt x="1069" y="1240"/>
                  </a:lnTo>
                  <a:lnTo>
                    <a:pt x="1053" y="1244"/>
                  </a:lnTo>
                  <a:lnTo>
                    <a:pt x="1036" y="1246"/>
                  </a:lnTo>
                  <a:lnTo>
                    <a:pt x="1019" y="1248"/>
                  </a:lnTo>
                  <a:lnTo>
                    <a:pt x="1001" y="1249"/>
                  </a:lnTo>
                  <a:lnTo>
                    <a:pt x="983" y="1249"/>
                  </a:lnTo>
                  <a:lnTo>
                    <a:pt x="957" y="1248"/>
                  </a:lnTo>
                  <a:lnTo>
                    <a:pt x="933" y="1245"/>
                  </a:lnTo>
                  <a:lnTo>
                    <a:pt x="910" y="1240"/>
                  </a:lnTo>
                  <a:lnTo>
                    <a:pt x="887" y="1232"/>
                  </a:lnTo>
                  <a:lnTo>
                    <a:pt x="866" y="1223"/>
                  </a:lnTo>
                  <a:lnTo>
                    <a:pt x="846" y="1211"/>
                  </a:lnTo>
                  <a:lnTo>
                    <a:pt x="828" y="1198"/>
                  </a:lnTo>
                  <a:lnTo>
                    <a:pt x="811" y="1181"/>
                  </a:lnTo>
                  <a:lnTo>
                    <a:pt x="802" y="1172"/>
                  </a:lnTo>
                  <a:lnTo>
                    <a:pt x="795" y="1163"/>
                  </a:lnTo>
                  <a:lnTo>
                    <a:pt x="787" y="1154"/>
                  </a:lnTo>
                  <a:lnTo>
                    <a:pt x="782" y="1144"/>
                  </a:lnTo>
                  <a:lnTo>
                    <a:pt x="775" y="1134"/>
                  </a:lnTo>
                  <a:lnTo>
                    <a:pt x="770" y="1124"/>
                  </a:lnTo>
                  <a:lnTo>
                    <a:pt x="765" y="1112"/>
                  </a:lnTo>
                  <a:lnTo>
                    <a:pt x="760" y="1101"/>
                  </a:lnTo>
                  <a:lnTo>
                    <a:pt x="757" y="1089"/>
                  </a:lnTo>
                  <a:lnTo>
                    <a:pt x="752" y="1077"/>
                  </a:lnTo>
                  <a:lnTo>
                    <a:pt x="750" y="1065"/>
                  </a:lnTo>
                  <a:lnTo>
                    <a:pt x="747" y="1052"/>
                  </a:lnTo>
                  <a:lnTo>
                    <a:pt x="746" y="1039"/>
                  </a:lnTo>
                  <a:lnTo>
                    <a:pt x="744" y="1025"/>
                  </a:lnTo>
                  <a:lnTo>
                    <a:pt x="743" y="1012"/>
                  </a:lnTo>
                  <a:lnTo>
                    <a:pt x="743" y="998"/>
                  </a:lnTo>
                  <a:lnTo>
                    <a:pt x="744" y="942"/>
                  </a:lnTo>
                  <a:lnTo>
                    <a:pt x="745" y="919"/>
                  </a:lnTo>
                  <a:lnTo>
                    <a:pt x="746" y="900"/>
                  </a:lnTo>
                  <a:lnTo>
                    <a:pt x="748" y="880"/>
                  </a:lnTo>
                  <a:lnTo>
                    <a:pt x="752" y="859"/>
                  </a:lnTo>
                  <a:lnTo>
                    <a:pt x="756" y="835"/>
                  </a:lnTo>
                  <a:lnTo>
                    <a:pt x="761" y="810"/>
                  </a:lnTo>
                  <a:lnTo>
                    <a:pt x="820" y="529"/>
                  </a:lnTo>
                  <a:lnTo>
                    <a:pt x="839" y="430"/>
                  </a:lnTo>
                  <a:lnTo>
                    <a:pt x="846" y="389"/>
                  </a:lnTo>
                  <a:lnTo>
                    <a:pt x="851" y="356"/>
                  </a:lnTo>
                  <a:lnTo>
                    <a:pt x="856" y="327"/>
                  </a:lnTo>
                  <a:lnTo>
                    <a:pt x="859" y="299"/>
                  </a:lnTo>
                  <a:lnTo>
                    <a:pt x="860" y="275"/>
                  </a:lnTo>
                  <a:lnTo>
                    <a:pt x="861" y="252"/>
                  </a:lnTo>
                  <a:lnTo>
                    <a:pt x="861" y="247"/>
                  </a:lnTo>
                  <a:lnTo>
                    <a:pt x="861" y="244"/>
                  </a:lnTo>
                  <a:lnTo>
                    <a:pt x="860" y="239"/>
                  </a:lnTo>
                  <a:lnTo>
                    <a:pt x="859" y="236"/>
                  </a:lnTo>
                  <a:lnTo>
                    <a:pt x="858" y="231"/>
                  </a:lnTo>
                  <a:lnTo>
                    <a:pt x="857" y="228"/>
                  </a:lnTo>
                  <a:lnTo>
                    <a:pt x="856" y="224"/>
                  </a:lnTo>
                  <a:lnTo>
                    <a:pt x="855" y="221"/>
                  </a:lnTo>
                  <a:lnTo>
                    <a:pt x="853" y="217"/>
                  </a:lnTo>
                  <a:lnTo>
                    <a:pt x="851" y="214"/>
                  </a:lnTo>
                  <a:lnTo>
                    <a:pt x="850" y="211"/>
                  </a:lnTo>
                  <a:lnTo>
                    <a:pt x="848" y="208"/>
                  </a:lnTo>
                  <a:lnTo>
                    <a:pt x="846" y="206"/>
                  </a:lnTo>
                  <a:lnTo>
                    <a:pt x="843" y="202"/>
                  </a:lnTo>
                  <a:lnTo>
                    <a:pt x="841" y="200"/>
                  </a:lnTo>
                  <a:lnTo>
                    <a:pt x="838" y="197"/>
                  </a:lnTo>
                  <a:lnTo>
                    <a:pt x="836" y="195"/>
                  </a:lnTo>
                  <a:lnTo>
                    <a:pt x="832" y="193"/>
                  </a:lnTo>
                  <a:lnTo>
                    <a:pt x="826" y="189"/>
                  </a:lnTo>
                  <a:lnTo>
                    <a:pt x="818" y="186"/>
                  </a:lnTo>
                  <a:lnTo>
                    <a:pt x="811" y="184"/>
                  </a:lnTo>
                  <a:lnTo>
                    <a:pt x="802" y="181"/>
                  </a:lnTo>
                  <a:lnTo>
                    <a:pt x="793" y="180"/>
                  </a:lnTo>
                  <a:lnTo>
                    <a:pt x="784" y="179"/>
                  </a:lnTo>
                  <a:lnTo>
                    <a:pt x="774" y="179"/>
                  </a:lnTo>
                  <a:lnTo>
                    <a:pt x="766" y="179"/>
                  </a:lnTo>
                  <a:lnTo>
                    <a:pt x="757" y="180"/>
                  </a:lnTo>
                  <a:lnTo>
                    <a:pt x="750" y="181"/>
                  </a:lnTo>
                  <a:lnTo>
                    <a:pt x="742" y="184"/>
                  </a:lnTo>
                  <a:lnTo>
                    <a:pt x="735" y="186"/>
                  </a:lnTo>
                  <a:lnTo>
                    <a:pt x="727" y="188"/>
                  </a:lnTo>
                  <a:lnTo>
                    <a:pt x="720" y="192"/>
                  </a:lnTo>
                  <a:lnTo>
                    <a:pt x="713" y="195"/>
                  </a:lnTo>
                  <a:lnTo>
                    <a:pt x="707" y="200"/>
                  </a:lnTo>
                  <a:lnTo>
                    <a:pt x="699" y="206"/>
                  </a:lnTo>
                  <a:lnTo>
                    <a:pt x="692" y="212"/>
                  </a:lnTo>
                  <a:lnTo>
                    <a:pt x="685" y="221"/>
                  </a:lnTo>
                  <a:lnTo>
                    <a:pt x="677" y="230"/>
                  </a:lnTo>
                  <a:lnTo>
                    <a:pt x="669" y="239"/>
                  </a:lnTo>
                  <a:lnTo>
                    <a:pt x="662" y="251"/>
                  </a:lnTo>
                  <a:lnTo>
                    <a:pt x="653" y="262"/>
                  </a:lnTo>
                  <a:lnTo>
                    <a:pt x="646" y="276"/>
                  </a:lnTo>
                  <a:lnTo>
                    <a:pt x="638" y="290"/>
                  </a:lnTo>
                  <a:lnTo>
                    <a:pt x="623" y="321"/>
                  </a:lnTo>
                  <a:lnTo>
                    <a:pt x="607" y="357"/>
                  </a:lnTo>
                  <a:lnTo>
                    <a:pt x="592" y="396"/>
                  </a:lnTo>
                  <a:lnTo>
                    <a:pt x="577" y="441"/>
                  </a:lnTo>
                  <a:lnTo>
                    <a:pt x="561" y="493"/>
                  </a:lnTo>
                  <a:lnTo>
                    <a:pt x="544" y="552"/>
                  </a:lnTo>
                  <a:lnTo>
                    <a:pt x="525" y="619"/>
                  </a:lnTo>
                  <a:lnTo>
                    <a:pt x="452" y="870"/>
                  </a:lnTo>
                  <a:lnTo>
                    <a:pt x="433" y="926"/>
                  </a:lnTo>
                  <a:lnTo>
                    <a:pt x="413" y="978"/>
                  </a:lnTo>
                  <a:lnTo>
                    <a:pt x="391" y="1027"/>
                  </a:lnTo>
                  <a:lnTo>
                    <a:pt x="370" y="1070"/>
                  </a:lnTo>
                  <a:lnTo>
                    <a:pt x="357" y="1092"/>
                  </a:lnTo>
                  <a:lnTo>
                    <a:pt x="346" y="1113"/>
                  </a:lnTo>
                  <a:lnTo>
                    <a:pt x="333" y="1132"/>
                  </a:lnTo>
                  <a:lnTo>
                    <a:pt x="321" y="1149"/>
                  </a:lnTo>
                  <a:lnTo>
                    <a:pt x="308" y="1166"/>
                  </a:lnTo>
                  <a:lnTo>
                    <a:pt x="296" y="1180"/>
                  </a:lnTo>
                  <a:lnTo>
                    <a:pt x="283" y="1194"/>
                  </a:lnTo>
                  <a:lnTo>
                    <a:pt x="271" y="1207"/>
                  </a:lnTo>
                  <a:lnTo>
                    <a:pt x="258" y="1217"/>
                  </a:lnTo>
                  <a:lnTo>
                    <a:pt x="244" y="1226"/>
                  </a:lnTo>
                  <a:lnTo>
                    <a:pt x="230" y="1234"/>
                  </a:lnTo>
                  <a:lnTo>
                    <a:pt x="214" y="1240"/>
                  </a:lnTo>
                  <a:lnTo>
                    <a:pt x="198" y="1246"/>
                  </a:lnTo>
                  <a:lnTo>
                    <a:pt x="182" y="1249"/>
                  </a:lnTo>
                  <a:lnTo>
                    <a:pt x="163" y="1251"/>
                  </a:lnTo>
                  <a:lnTo>
                    <a:pt x="145" y="1252"/>
                  </a:lnTo>
                  <a:lnTo>
                    <a:pt x="130" y="1251"/>
                  </a:lnTo>
                  <a:lnTo>
                    <a:pt x="115" y="1249"/>
                  </a:lnTo>
                  <a:lnTo>
                    <a:pt x="101" y="1246"/>
                  </a:lnTo>
                  <a:lnTo>
                    <a:pt x="89" y="1240"/>
                  </a:lnTo>
                  <a:lnTo>
                    <a:pt x="76" y="1234"/>
                  </a:lnTo>
                  <a:lnTo>
                    <a:pt x="64" y="1226"/>
                  </a:lnTo>
                  <a:lnTo>
                    <a:pt x="53" y="1217"/>
                  </a:lnTo>
                  <a:lnTo>
                    <a:pt x="42" y="1207"/>
                  </a:lnTo>
                  <a:lnTo>
                    <a:pt x="37" y="1201"/>
                  </a:lnTo>
                  <a:lnTo>
                    <a:pt x="32" y="1194"/>
                  </a:lnTo>
                  <a:lnTo>
                    <a:pt x="28" y="1188"/>
                  </a:lnTo>
                  <a:lnTo>
                    <a:pt x="24" y="1181"/>
                  </a:lnTo>
                  <a:lnTo>
                    <a:pt x="20" y="1173"/>
                  </a:lnTo>
                  <a:lnTo>
                    <a:pt x="17" y="1166"/>
                  </a:lnTo>
                  <a:lnTo>
                    <a:pt x="14" y="1158"/>
                  </a:lnTo>
                  <a:lnTo>
                    <a:pt x="11" y="1150"/>
                  </a:lnTo>
                  <a:lnTo>
                    <a:pt x="9" y="1142"/>
                  </a:lnTo>
                  <a:lnTo>
                    <a:pt x="6" y="1133"/>
                  </a:lnTo>
                  <a:lnTo>
                    <a:pt x="5" y="1125"/>
                  </a:lnTo>
                  <a:lnTo>
                    <a:pt x="3" y="1116"/>
                  </a:lnTo>
                  <a:lnTo>
                    <a:pt x="1" y="1096"/>
                  </a:lnTo>
                  <a:lnTo>
                    <a:pt x="0" y="1075"/>
                  </a:lnTo>
                  <a:lnTo>
                    <a:pt x="1" y="1050"/>
                  </a:lnTo>
                  <a:lnTo>
                    <a:pt x="3" y="1027"/>
                  </a:lnTo>
                  <a:lnTo>
                    <a:pt x="6" y="1004"/>
                  </a:lnTo>
                  <a:lnTo>
                    <a:pt x="11" y="983"/>
                  </a:lnTo>
                  <a:lnTo>
                    <a:pt x="14" y="973"/>
                  </a:lnTo>
                  <a:lnTo>
                    <a:pt x="18" y="963"/>
                  </a:lnTo>
                  <a:lnTo>
                    <a:pt x="21" y="954"/>
                  </a:lnTo>
                  <a:lnTo>
                    <a:pt x="25" y="945"/>
                  </a:lnTo>
                  <a:lnTo>
                    <a:pt x="29" y="937"/>
                  </a:lnTo>
                  <a:lnTo>
                    <a:pt x="34" y="928"/>
                  </a:lnTo>
                  <a:lnTo>
                    <a:pt x="44" y="912"/>
                  </a:lnTo>
                  <a:lnTo>
                    <a:pt x="55" y="898"/>
                  </a:lnTo>
                  <a:lnTo>
                    <a:pt x="67" y="887"/>
                  </a:lnTo>
                  <a:lnTo>
                    <a:pt x="73" y="881"/>
                  </a:lnTo>
                  <a:lnTo>
                    <a:pt x="79" y="876"/>
                  </a:lnTo>
                  <a:lnTo>
                    <a:pt x="86" y="872"/>
                  </a:lnTo>
                  <a:lnTo>
                    <a:pt x="93" y="868"/>
                  </a:lnTo>
                  <a:lnTo>
                    <a:pt x="106" y="861"/>
                  </a:lnTo>
                  <a:lnTo>
                    <a:pt x="120" y="857"/>
                  </a:lnTo>
                  <a:lnTo>
                    <a:pt x="135" y="855"/>
                  </a:lnTo>
                  <a:lnTo>
                    <a:pt x="151" y="853"/>
                  </a:lnTo>
                  <a:lnTo>
                    <a:pt x="163" y="853"/>
                  </a:lnTo>
                  <a:lnTo>
                    <a:pt x="174" y="856"/>
                  </a:lnTo>
                  <a:lnTo>
                    <a:pt x="185" y="857"/>
                  </a:lnTo>
                  <a:lnTo>
                    <a:pt x="195" y="860"/>
                  </a:lnTo>
                  <a:lnTo>
                    <a:pt x="205" y="865"/>
                  </a:lnTo>
                  <a:lnTo>
                    <a:pt x="215" y="870"/>
                  </a:lnTo>
                  <a:lnTo>
                    <a:pt x="224" y="875"/>
                  </a:lnTo>
                  <a:lnTo>
                    <a:pt x="233" y="882"/>
                  </a:lnTo>
                  <a:lnTo>
                    <a:pt x="250" y="896"/>
                  </a:lnTo>
                  <a:lnTo>
                    <a:pt x="267" y="912"/>
                  </a:lnTo>
                  <a:lnTo>
                    <a:pt x="282" y="927"/>
                  </a:lnTo>
                  <a:lnTo>
                    <a:pt x="296" y="945"/>
                  </a:lnTo>
                  <a:lnTo>
                    <a:pt x="314" y="904"/>
                  </a:lnTo>
                  <a:lnTo>
                    <a:pt x="333" y="858"/>
                  </a:lnTo>
                  <a:lnTo>
                    <a:pt x="351" y="807"/>
                  </a:lnTo>
                  <a:lnTo>
                    <a:pt x="369" y="751"/>
                  </a:lnTo>
                  <a:lnTo>
                    <a:pt x="398" y="654"/>
                  </a:lnTo>
                  <a:lnTo>
                    <a:pt x="408" y="620"/>
                  </a:lnTo>
                  <a:lnTo>
                    <a:pt x="414" y="597"/>
                  </a:lnTo>
                  <a:lnTo>
                    <a:pt x="476" y="387"/>
                  </a:lnTo>
                  <a:lnTo>
                    <a:pt x="485" y="360"/>
                  </a:lnTo>
                  <a:lnTo>
                    <a:pt x="495" y="335"/>
                  </a:lnTo>
                  <a:lnTo>
                    <a:pt x="504" y="311"/>
                  </a:lnTo>
                  <a:lnTo>
                    <a:pt x="515" y="286"/>
                  </a:lnTo>
                  <a:lnTo>
                    <a:pt x="526" y="262"/>
                  </a:lnTo>
                  <a:lnTo>
                    <a:pt x="538" y="239"/>
                  </a:lnTo>
                  <a:lnTo>
                    <a:pt x="550" y="217"/>
                  </a:lnTo>
                  <a:lnTo>
                    <a:pt x="564" y="195"/>
                  </a:lnTo>
                  <a:lnTo>
                    <a:pt x="578" y="174"/>
                  </a:lnTo>
                  <a:lnTo>
                    <a:pt x="593" y="154"/>
                  </a:lnTo>
                  <a:lnTo>
                    <a:pt x="608" y="135"/>
                  </a:lnTo>
                  <a:lnTo>
                    <a:pt x="625" y="117"/>
                  </a:lnTo>
                  <a:lnTo>
                    <a:pt x="643" y="99"/>
                  </a:lnTo>
                  <a:lnTo>
                    <a:pt x="661" y="84"/>
                  </a:lnTo>
                  <a:lnTo>
                    <a:pt x="681" y="68"/>
                  </a:lnTo>
                  <a:lnTo>
                    <a:pt x="702" y="54"/>
                  </a:lnTo>
                  <a:lnTo>
                    <a:pt x="723" y="42"/>
                  </a:lnTo>
                  <a:lnTo>
                    <a:pt x="747" y="31"/>
                  </a:lnTo>
                  <a:lnTo>
                    <a:pt x="772" y="22"/>
                  </a:lnTo>
                  <a:lnTo>
                    <a:pt x="797" y="14"/>
                  </a:lnTo>
                  <a:lnTo>
                    <a:pt x="825" y="8"/>
                  </a:lnTo>
                  <a:lnTo>
                    <a:pt x="854" y="3"/>
                  </a:lnTo>
                  <a:lnTo>
                    <a:pt x="884" y="1"/>
                  </a:lnTo>
                  <a:lnTo>
                    <a:pt x="915" y="0"/>
                  </a:lnTo>
                  <a:lnTo>
                    <a:pt x="946" y="1"/>
                  </a:lnTo>
                  <a:lnTo>
                    <a:pt x="976" y="3"/>
                  </a:lnTo>
                  <a:lnTo>
                    <a:pt x="1004" y="8"/>
                  </a:lnTo>
                  <a:lnTo>
                    <a:pt x="1029" y="14"/>
                  </a:lnTo>
                  <a:lnTo>
                    <a:pt x="1054" y="22"/>
                  </a:lnTo>
                  <a:lnTo>
                    <a:pt x="1077" y="31"/>
                  </a:lnTo>
                  <a:lnTo>
                    <a:pt x="1098" y="43"/>
                  </a:lnTo>
                  <a:lnTo>
                    <a:pt x="1117" y="55"/>
                  </a:lnTo>
                  <a:lnTo>
                    <a:pt x="1134" y="69"/>
                  </a:lnTo>
                  <a:lnTo>
                    <a:pt x="1142" y="76"/>
                  </a:lnTo>
                  <a:lnTo>
                    <a:pt x="1149" y="84"/>
                  </a:lnTo>
                  <a:lnTo>
                    <a:pt x="1156" y="92"/>
                  </a:lnTo>
                  <a:lnTo>
                    <a:pt x="1162" y="100"/>
                  </a:lnTo>
                  <a:lnTo>
                    <a:pt x="1167" y="109"/>
                  </a:lnTo>
                  <a:lnTo>
                    <a:pt x="1172" y="117"/>
                  </a:lnTo>
                  <a:lnTo>
                    <a:pt x="1176" y="125"/>
                  </a:lnTo>
                  <a:lnTo>
                    <a:pt x="1180" y="134"/>
                  </a:lnTo>
                  <a:lnTo>
                    <a:pt x="1182" y="143"/>
                  </a:lnTo>
                  <a:lnTo>
                    <a:pt x="1186" y="152"/>
                  </a:lnTo>
                  <a:lnTo>
                    <a:pt x="1187" y="162"/>
                  </a:lnTo>
                  <a:lnTo>
                    <a:pt x="1189" y="171"/>
                  </a:lnTo>
                  <a:lnTo>
                    <a:pt x="1190" y="180"/>
                  </a:lnTo>
                  <a:lnTo>
                    <a:pt x="1190" y="191"/>
                  </a:lnTo>
                  <a:lnTo>
                    <a:pt x="1190" y="215"/>
                  </a:lnTo>
                  <a:lnTo>
                    <a:pt x="1188" y="238"/>
                  </a:lnTo>
                  <a:lnTo>
                    <a:pt x="1187" y="262"/>
                  </a:lnTo>
                  <a:lnTo>
                    <a:pt x="1184" y="285"/>
                  </a:lnTo>
                  <a:lnTo>
                    <a:pt x="1181" y="308"/>
                  </a:lnTo>
                  <a:lnTo>
                    <a:pt x="1177" y="333"/>
                  </a:lnTo>
                  <a:lnTo>
                    <a:pt x="1173" y="358"/>
                  </a:lnTo>
                  <a:lnTo>
                    <a:pt x="1168" y="383"/>
                  </a:lnTo>
                  <a:lnTo>
                    <a:pt x="1083" y="778"/>
                  </a:lnTo>
                  <a:lnTo>
                    <a:pt x="1079" y="799"/>
                  </a:lnTo>
                  <a:lnTo>
                    <a:pt x="1075" y="822"/>
                  </a:lnTo>
                  <a:lnTo>
                    <a:pt x="1071" y="846"/>
                  </a:lnTo>
                  <a:lnTo>
                    <a:pt x="1067" y="872"/>
                  </a:lnTo>
                  <a:lnTo>
                    <a:pt x="1064" y="898"/>
                  </a:lnTo>
                  <a:lnTo>
                    <a:pt x="1061" y="920"/>
                  </a:lnTo>
                  <a:lnTo>
                    <a:pt x="1060" y="940"/>
                  </a:lnTo>
                  <a:lnTo>
                    <a:pt x="1059" y="949"/>
                  </a:lnTo>
                  <a:lnTo>
                    <a:pt x="1059" y="957"/>
                  </a:lnTo>
                  <a:lnTo>
                    <a:pt x="1059" y="975"/>
                  </a:lnTo>
                  <a:lnTo>
                    <a:pt x="1061" y="990"/>
                  </a:lnTo>
                  <a:lnTo>
                    <a:pt x="1063" y="1004"/>
                  </a:lnTo>
                  <a:lnTo>
                    <a:pt x="1064" y="1010"/>
                  </a:lnTo>
                  <a:lnTo>
                    <a:pt x="1065" y="1016"/>
                  </a:lnTo>
                  <a:lnTo>
                    <a:pt x="1067" y="1022"/>
                  </a:lnTo>
                  <a:lnTo>
                    <a:pt x="1069" y="1028"/>
                  </a:lnTo>
                  <a:lnTo>
                    <a:pt x="1071" y="1032"/>
                  </a:lnTo>
                  <a:lnTo>
                    <a:pt x="1073" y="1037"/>
                  </a:lnTo>
                  <a:lnTo>
                    <a:pt x="1075" y="1042"/>
                  </a:lnTo>
                  <a:lnTo>
                    <a:pt x="1078" y="1046"/>
                  </a:lnTo>
                  <a:lnTo>
                    <a:pt x="1081" y="1050"/>
                  </a:lnTo>
                  <a:lnTo>
                    <a:pt x="1083" y="1053"/>
                  </a:lnTo>
                  <a:lnTo>
                    <a:pt x="1087" y="1057"/>
                  </a:lnTo>
                  <a:lnTo>
                    <a:pt x="1090" y="1059"/>
                  </a:lnTo>
                  <a:lnTo>
                    <a:pt x="1093" y="1062"/>
                  </a:lnTo>
                  <a:lnTo>
                    <a:pt x="1098" y="1065"/>
                  </a:lnTo>
                  <a:lnTo>
                    <a:pt x="1102" y="1067"/>
                  </a:lnTo>
                  <a:lnTo>
                    <a:pt x="1107" y="1069"/>
                  </a:lnTo>
                  <a:lnTo>
                    <a:pt x="1117" y="1073"/>
                  </a:lnTo>
                  <a:lnTo>
                    <a:pt x="1128" y="1075"/>
                  </a:lnTo>
                  <a:lnTo>
                    <a:pt x="1140" y="1077"/>
                  </a:lnTo>
                  <a:lnTo>
                    <a:pt x="1153" y="1079"/>
                  </a:lnTo>
                  <a:lnTo>
                    <a:pt x="1168" y="1079"/>
                  </a:lnTo>
                  <a:lnTo>
                    <a:pt x="1176" y="1079"/>
                  </a:lnTo>
                  <a:lnTo>
                    <a:pt x="1183" y="1077"/>
                  </a:lnTo>
                  <a:lnTo>
                    <a:pt x="1191" y="1076"/>
                  </a:lnTo>
                  <a:lnTo>
                    <a:pt x="1199" y="1075"/>
                  </a:lnTo>
                  <a:lnTo>
                    <a:pt x="1216" y="1072"/>
                  </a:lnTo>
                  <a:lnTo>
                    <a:pt x="1233" y="1066"/>
                  </a:lnTo>
                  <a:lnTo>
                    <a:pt x="1251" y="1060"/>
                  </a:lnTo>
                  <a:lnTo>
                    <a:pt x="1265" y="1054"/>
                  </a:lnTo>
                  <a:lnTo>
                    <a:pt x="1277" y="1049"/>
                  </a:lnTo>
                  <a:lnTo>
                    <a:pt x="1286" y="1044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43640" y="627120"/>
              <a:ext cx="353880" cy="457200"/>
            </a:xfrm>
            <a:custGeom>
              <a:avLst/>
              <a:gdLst/>
              <a:ahLst/>
              <a:rect l="l" t="t" r="r" b="b"/>
              <a:pathLst>
                <a:path w="984" h="1270">
                  <a:moveTo>
                    <a:pt x="456" y="1269"/>
                  </a:moveTo>
                  <a:lnTo>
                    <a:pt x="428" y="1268"/>
                  </a:lnTo>
                  <a:lnTo>
                    <a:pt x="400" y="1267"/>
                  </a:lnTo>
                  <a:lnTo>
                    <a:pt x="374" y="1263"/>
                  </a:lnTo>
                  <a:lnTo>
                    <a:pt x="348" y="1259"/>
                  </a:lnTo>
                  <a:lnTo>
                    <a:pt x="323" y="1253"/>
                  </a:lnTo>
                  <a:lnTo>
                    <a:pt x="299" y="1247"/>
                  </a:lnTo>
                  <a:lnTo>
                    <a:pt x="276" y="1239"/>
                  </a:lnTo>
                  <a:lnTo>
                    <a:pt x="254" y="1230"/>
                  </a:lnTo>
                  <a:lnTo>
                    <a:pt x="233" y="1219"/>
                  </a:lnTo>
                  <a:lnTo>
                    <a:pt x="212" y="1208"/>
                  </a:lnTo>
                  <a:lnTo>
                    <a:pt x="193" y="1195"/>
                  </a:lnTo>
                  <a:lnTo>
                    <a:pt x="175" y="1183"/>
                  </a:lnTo>
                  <a:lnTo>
                    <a:pt x="157" y="1169"/>
                  </a:lnTo>
                  <a:lnTo>
                    <a:pt x="141" y="1152"/>
                  </a:lnTo>
                  <a:lnTo>
                    <a:pt x="125" y="1137"/>
                  </a:lnTo>
                  <a:lnTo>
                    <a:pt x="111" y="1120"/>
                  </a:lnTo>
                  <a:lnTo>
                    <a:pt x="97" y="1102"/>
                  </a:lnTo>
                  <a:lnTo>
                    <a:pt x="85" y="1083"/>
                  </a:lnTo>
                  <a:lnTo>
                    <a:pt x="73" y="1064"/>
                  </a:lnTo>
                  <a:lnTo>
                    <a:pt x="62" y="1044"/>
                  </a:lnTo>
                  <a:lnTo>
                    <a:pt x="52" y="1023"/>
                  </a:lnTo>
                  <a:lnTo>
                    <a:pt x="43" y="1001"/>
                  </a:lnTo>
                  <a:lnTo>
                    <a:pt x="35" y="979"/>
                  </a:lnTo>
                  <a:lnTo>
                    <a:pt x="27" y="956"/>
                  </a:lnTo>
                  <a:lnTo>
                    <a:pt x="21" y="933"/>
                  </a:lnTo>
                  <a:lnTo>
                    <a:pt x="16" y="909"/>
                  </a:lnTo>
                  <a:lnTo>
                    <a:pt x="11" y="883"/>
                  </a:lnTo>
                  <a:lnTo>
                    <a:pt x="7" y="858"/>
                  </a:lnTo>
                  <a:lnTo>
                    <a:pt x="4" y="833"/>
                  </a:lnTo>
                  <a:lnTo>
                    <a:pt x="2" y="806"/>
                  </a:lnTo>
                  <a:lnTo>
                    <a:pt x="1" y="778"/>
                  </a:lnTo>
                  <a:lnTo>
                    <a:pt x="0" y="751"/>
                  </a:lnTo>
                  <a:lnTo>
                    <a:pt x="1" y="715"/>
                  </a:lnTo>
                  <a:lnTo>
                    <a:pt x="3" y="679"/>
                  </a:lnTo>
                  <a:lnTo>
                    <a:pt x="6" y="644"/>
                  </a:lnTo>
                  <a:lnTo>
                    <a:pt x="11" y="610"/>
                  </a:lnTo>
                  <a:lnTo>
                    <a:pt x="17" y="575"/>
                  </a:lnTo>
                  <a:lnTo>
                    <a:pt x="23" y="540"/>
                  </a:lnTo>
                  <a:lnTo>
                    <a:pt x="32" y="507"/>
                  </a:lnTo>
                  <a:lnTo>
                    <a:pt x="42" y="473"/>
                  </a:lnTo>
                  <a:lnTo>
                    <a:pt x="53" y="440"/>
                  </a:lnTo>
                  <a:lnTo>
                    <a:pt x="66" y="408"/>
                  </a:lnTo>
                  <a:lnTo>
                    <a:pt x="79" y="376"/>
                  </a:lnTo>
                  <a:lnTo>
                    <a:pt x="94" y="345"/>
                  </a:lnTo>
                  <a:lnTo>
                    <a:pt x="111" y="315"/>
                  </a:lnTo>
                  <a:lnTo>
                    <a:pt x="128" y="286"/>
                  </a:lnTo>
                  <a:lnTo>
                    <a:pt x="147" y="259"/>
                  </a:lnTo>
                  <a:lnTo>
                    <a:pt x="167" y="231"/>
                  </a:lnTo>
                  <a:lnTo>
                    <a:pt x="187" y="206"/>
                  </a:lnTo>
                  <a:lnTo>
                    <a:pt x="209" y="182"/>
                  </a:lnTo>
                  <a:lnTo>
                    <a:pt x="232" y="159"/>
                  </a:lnTo>
                  <a:lnTo>
                    <a:pt x="256" y="139"/>
                  </a:lnTo>
                  <a:lnTo>
                    <a:pt x="282" y="118"/>
                  </a:lnTo>
                  <a:lnTo>
                    <a:pt x="309" y="98"/>
                  </a:lnTo>
                  <a:lnTo>
                    <a:pt x="337" y="81"/>
                  </a:lnTo>
                  <a:lnTo>
                    <a:pt x="366" y="64"/>
                  </a:lnTo>
                  <a:lnTo>
                    <a:pt x="397" y="49"/>
                  </a:lnTo>
                  <a:lnTo>
                    <a:pt x="428" y="36"/>
                  </a:lnTo>
                  <a:lnTo>
                    <a:pt x="460" y="24"/>
                  </a:lnTo>
                  <a:lnTo>
                    <a:pt x="493" y="16"/>
                  </a:lnTo>
                  <a:lnTo>
                    <a:pt x="527" y="9"/>
                  </a:lnTo>
                  <a:lnTo>
                    <a:pt x="562" y="3"/>
                  </a:lnTo>
                  <a:lnTo>
                    <a:pt x="596" y="1"/>
                  </a:lnTo>
                  <a:lnTo>
                    <a:pt x="632" y="0"/>
                  </a:lnTo>
                  <a:lnTo>
                    <a:pt x="674" y="1"/>
                  </a:lnTo>
                  <a:lnTo>
                    <a:pt x="713" y="5"/>
                  </a:lnTo>
                  <a:lnTo>
                    <a:pt x="750" y="9"/>
                  </a:lnTo>
                  <a:lnTo>
                    <a:pt x="783" y="17"/>
                  </a:lnTo>
                  <a:lnTo>
                    <a:pt x="814" y="27"/>
                  </a:lnTo>
                  <a:lnTo>
                    <a:pt x="844" y="39"/>
                  </a:lnTo>
                  <a:lnTo>
                    <a:pt x="869" y="53"/>
                  </a:lnTo>
                  <a:lnTo>
                    <a:pt x="893" y="69"/>
                  </a:lnTo>
                  <a:lnTo>
                    <a:pt x="904" y="79"/>
                  </a:lnTo>
                  <a:lnTo>
                    <a:pt x="914" y="88"/>
                  </a:lnTo>
                  <a:lnTo>
                    <a:pt x="923" y="98"/>
                  </a:lnTo>
                  <a:lnTo>
                    <a:pt x="933" y="109"/>
                  </a:lnTo>
                  <a:lnTo>
                    <a:pt x="940" y="119"/>
                  </a:lnTo>
                  <a:lnTo>
                    <a:pt x="948" y="131"/>
                  </a:lnTo>
                  <a:lnTo>
                    <a:pt x="954" y="143"/>
                  </a:lnTo>
                  <a:lnTo>
                    <a:pt x="960" y="156"/>
                  </a:lnTo>
                  <a:lnTo>
                    <a:pt x="965" y="169"/>
                  </a:lnTo>
                  <a:lnTo>
                    <a:pt x="970" y="182"/>
                  </a:lnTo>
                  <a:lnTo>
                    <a:pt x="973" y="196"/>
                  </a:lnTo>
                  <a:lnTo>
                    <a:pt x="977" y="211"/>
                  </a:lnTo>
                  <a:lnTo>
                    <a:pt x="979" y="226"/>
                  </a:lnTo>
                  <a:lnTo>
                    <a:pt x="981" y="243"/>
                  </a:lnTo>
                  <a:lnTo>
                    <a:pt x="983" y="259"/>
                  </a:lnTo>
                  <a:lnTo>
                    <a:pt x="983" y="276"/>
                  </a:lnTo>
                  <a:lnTo>
                    <a:pt x="983" y="292"/>
                  </a:lnTo>
                  <a:lnTo>
                    <a:pt x="982" y="308"/>
                  </a:lnTo>
                  <a:lnTo>
                    <a:pt x="980" y="325"/>
                  </a:lnTo>
                  <a:lnTo>
                    <a:pt x="978" y="340"/>
                  </a:lnTo>
                  <a:lnTo>
                    <a:pt x="975" y="355"/>
                  </a:lnTo>
                  <a:lnTo>
                    <a:pt x="972" y="370"/>
                  </a:lnTo>
                  <a:lnTo>
                    <a:pt x="968" y="385"/>
                  </a:lnTo>
                  <a:lnTo>
                    <a:pt x="963" y="398"/>
                  </a:lnTo>
                  <a:lnTo>
                    <a:pt x="958" y="413"/>
                  </a:lnTo>
                  <a:lnTo>
                    <a:pt x="953" y="427"/>
                  </a:lnTo>
                  <a:lnTo>
                    <a:pt x="946" y="440"/>
                  </a:lnTo>
                  <a:lnTo>
                    <a:pt x="939" y="454"/>
                  </a:lnTo>
                  <a:lnTo>
                    <a:pt x="923" y="479"/>
                  </a:lnTo>
                  <a:lnTo>
                    <a:pt x="905" y="504"/>
                  </a:lnTo>
                  <a:lnTo>
                    <a:pt x="885" y="527"/>
                  </a:lnTo>
                  <a:lnTo>
                    <a:pt x="863" y="547"/>
                  </a:lnTo>
                  <a:lnTo>
                    <a:pt x="839" y="567"/>
                  </a:lnTo>
                  <a:lnTo>
                    <a:pt x="814" y="585"/>
                  </a:lnTo>
                  <a:lnTo>
                    <a:pt x="787" y="603"/>
                  </a:lnTo>
                  <a:lnTo>
                    <a:pt x="758" y="618"/>
                  </a:lnTo>
                  <a:lnTo>
                    <a:pt x="727" y="632"/>
                  </a:lnTo>
                  <a:lnTo>
                    <a:pt x="695" y="644"/>
                  </a:lnTo>
                  <a:lnTo>
                    <a:pt x="644" y="663"/>
                  </a:lnTo>
                  <a:lnTo>
                    <a:pt x="597" y="678"/>
                  </a:lnTo>
                  <a:lnTo>
                    <a:pt x="554" y="691"/>
                  </a:lnTo>
                  <a:lnTo>
                    <a:pt x="515" y="701"/>
                  </a:lnTo>
                  <a:lnTo>
                    <a:pt x="476" y="709"/>
                  </a:lnTo>
                  <a:lnTo>
                    <a:pt x="433" y="717"/>
                  </a:lnTo>
                  <a:lnTo>
                    <a:pt x="334" y="732"/>
                  </a:lnTo>
                  <a:lnTo>
                    <a:pt x="335" y="760"/>
                  </a:lnTo>
                  <a:lnTo>
                    <a:pt x="338" y="789"/>
                  </a:lnTo>
                  <a:lnTo>
                    <a:pt x="341" y="820"/>
                  </a:lnTo>
                  <a:lnTo>
                    <a:pt x="345" y="852"/>
                  </a:lnTo>
                  <a:lnTo>
                    <a:pt x="351" y="885"/>
                  </a:lnTo>
                  <a:lnTo>
                    <a:pt x="354" y="900"/>
                  </a:lnTo>
                  <a:lnTo>
                    <a:pt x="358" y="913"/>
                  </a:lnTo>
                  <a:lnTo>
                    <a:pt x="361" y="927"/>
                  </a:lnTo>
                  <a:lnTo>
                    <a:pt x="365" y="941"/>
                  </a:lnTo>
                  <a:lnTo>
                    <a:pt x="369" y="954"/>
                  </a:lnTo>
                  <a:lnTo>
                    <a:pt x="374" y="967"/>
                  </a:lnTo>
                  <a:lnTo>
                    <a:pt x="380" y="979"/>
                  </a:lnTo>
                  <a:lnTo>
                    <a:pt x="387" y="992"/>
                  </a:lnTo>
                  <a:lnTo>
                    <a:pt x="394" y="1004"/>
                  </a:lnTo>
                  <a:lnTo>
                    <a:pt x="402" y="1015"/>
                  </a:lnTo>
                  <a:lnTo>
                    <a:pt x="410" y="1025"/>
                  </a:lnTo>
                  <a:lnTo>
                    <a:pt x="419" y="1035"/>
                  </a:lnTo>
                  <a:lnTo>
                    <a:pt x="429" y="1044"/>
                  </a:lnTo>
                  <a:lnTo>
                    <a:pt x="439" y="1052"/>
                  </a:lnTo>
                  <a:lnTo>
                    <a:pt x="450" y="1060"/>
                  </a:lnTo>
                  <a:lnTo>
                    <a:pt x="462" y="1066"/>
                  </a:lnTo>
                  <a:lnTo>
                    <a:pt x="474" y="1072"/>
                  </a:lnTo>
                  <a:lnTo>
                    <a:pt x="488" y="1076"/>
                  </a:lnTo>
                  <a:lnTo>
                    <a:pt x="501" y="1080"/>
                  </a:lnTo>
                  <a:lnTo>
                    <a:pt x="516" y="1082"/>
                  </a:lnTo>
                  <a:lnTo>
                    <a:pt x="531" y="1084"/>
                  </a:lnTo>
                  <a:lnTo>
                    <a:pt x="547" y="1084"/>
                  </a:lnTo>
                  <a:lnTo>
                    <a:pt x="574" y="1083"/>
                  </a:lnTo>
                  <a:lnTo>
                    <a:pt x="601" y="1081"/>
                  </a:lnTo>
                  <a:lnTo>
                    <a:pt x="626" y="1076"/>
                  </a:lnTo>
                  <a:lnTo>
                    <a:pt x="651" y="1070"/>
                  </a:lnTo>
                  <a:lnTo>
                    <a:pt x="675" y="1062"/>
                  </a:lnTo>
                  <a:lnTo>
                    <a:pt x="697" y="1053"/>
                  </a:lnTo>
                  <a:lnTo>
                    <a:pt x="718" y="1043"/>
                  </a:lnTo>
                  <a:lnTo>
                    <a:pt x="739" y="1030"/>
                  </a:lnTo>
                  <a:lnTo>
                    <a:pt x="758" y="1015"/>
                  </a:lnTo>
                  <a:lnTo>
                    <a:pt x="778" y="998"/>
                  </a:lnTo>
                  <a:lnTo>
                    <a:pt x="797" y="979"/>
                  </a:lnTo>
                  <a:lnTo>
                    <a:pt x="815" y="958"/>
                  </a:lnTo>
                  <a:lnTo>
                    <a:pt x="834" y="935"/>
                  </a:lnTo>
                  <a:lnTo>
                    <a:pt x="853" y="910"/>
                  </a:lnTo>
                  <a:lnTo>
                    <a:pt x="871" y="883"/>
                  </a:lnTo>
                  <a:lnTo>
                    <a:pt x="889" y="855"/>
                  </a:lnTo>
                  <a:lnTo>
                    <a:pt x="959" y="928"/>
                  </a:lnTo>
                  <a:lnTo>
                    <a:pt x="937" y="967"/>
                  </a:lnTo>
                  <a:lnTo>
                    <a:pt x="913" y="1002"/>
                  </a:lnTo>
                  <a:lnTo>
                    <a:pt x="888" y="1036"/>
                  </a:lnTo>
                  <a:lnTo>
                    <a:pt x="861" y="1068"/>
                  </a:lnTo>
                  <a:lnTo>
                    <a:pt x="833" y="1097"/>
                  </a:lnTo>
                  <a:lnTo>
                    <a:pt x="803" y="1126"/>
                  </a:lnTo>
                  <a:lnTo>
                    <a:pt x="771" y="1151"/>
                  </a:lnTo>
                  <a:lnTo>
                    <a:pt x="739" y="1176"/>
                  </a:lnTo>
                  <a:lnTo>
                    <a:pt x="705" y="1198"/>
                  </a:lnTo>
                  <a:lnTo>
                    <a:pt x="671" y="1216"/>
                  </a:lnTo>
                  <a:lnTo>
                    <a:pt x="636" y="1232"/>
                  </a:lnTo>
                  <a:lnTo>
                    <a:pt x="601" y="1246"/>
                  </a:lnTo>
                  <a:lnTo>
                    <a:pt x="565" y="1256"/>
                  </a:lnTo>
                  <a:lnTo>
                    <a:pt x="529" y="1263"/>
                  </a:lnTo>
                  <a:lnTo>
                    <a:pt x="493" y="1268"/>
                  </a:lnTo>
                  <a:close/>
                  <a:moveTo>
                    <a:pt x="671" y="309"/>
                  </a:moveTo>
                  <a:lnTo>
                    <a:pt x="671" y="284"/>
                  </a:lnTo>
                  <a:lnTo>
                    <a:pt x="670" y="261"/>
                  </a:lnTo>
                  <a:lnTo>
                    <a:pt x="667" y="239"/>
                  </a:lnTo>
                  <a:lnTo>
                    <a:pt x="664" y="219"/>
                  </a:lnTo>
                  <a:lnTo>
                    <a:pt x="660" y="200"/>
                  </a:lnTo>
                  <a:lnTo>
                    <a:pt x="655" y="182"/>
                  </a:lnTo>
                  <a:lnTo>
                    <a:pt x="651" y="174"/>
                  </a:lnTo>
                  <a:lnTo>
                    <a:pt x="648" y="166"/>
                  </a:lnTo>
                  <a:lnTo>
                    <a:pt x="645" y="159"/>
                  </a:lnTo>
                  <a:lnTo>
                    <a:pt x="641" y="152"/>
                  </a:lnTo>
                  <a:lnTo>
                    <a:pt x="638" y="146"/>
                  </a:lnTo>
                  <a:lnTo>
                    <a:pt x="634" y="140"/>
                  </a:lnTo>
                  <a:lnTo>
                    <a:pt x="630" y="134"/>
                  </a:lnTo>
                  <a:lnTo>
                    <a:pt x="626" y="128"/>
                  </a:lnTo>
                  <a:lnTo>
                    <a:pt x="621" y="124"/>
                  </a:lnTo>
                  <a:lnTo>
                    <a:pt x="616" y="119"/>
                  </a:lnTo>
                  <a:lnTo>
                    <a:pt x="611" y="114"/>
                  </a:lnTo>
                  <a:lnTo>
                    <a:pt x="606" y="111"/>
                  </a:lnTo>
                  <a:lnTo>
                    <a:pt x="601" y="107"/>
                  </a:lnTo>
                  <a:lnTo>
                    <a:pt x="596" y="105"/>
                  </a:lnTo>
                  <a:lnTo>
                    <a:pt x="590" y="103"/>
                  </a:lnTo>
                  <a:lnTo>
                    <a:pt x="584" y="100"/>
                  </a:lnTo>
                  <a:lnTo>
                    <a:pt x="578" y="99"/>
                  </a:lnTo>
                  <a:lnTo>
                    <a:pt x="572" y="98"/>
                  </a:lnTo>
                  <a:lnTo>
                    <a:pt x="559" y="97"/>
                  </a:lnTo>
                  <a:lnTo>
                    <a:pt x="550" y="98"/>
                  </a:lnTo>
                  <a:lnTo>
                    <a:pt x="541" y="99"/>
                  </a:lnTo>
                  <a:lnTo>
                    <a:pt x="532" y="103"/>
                  </a:lnTo>
                  <a:lnTo>
                    <a:pt x="522" y="106"/>
                  </a:lnTo>
                  <a:lnTo>
                    <a:pt x="514" y="112"/>
                  </a:lnTo>
                  <a:lnTo>
                    <a:pt x="505" y="119"/>
                  </a:lnTo>
                  <a:lnTo>
                    <a:pt x="497" y="126"/>
                  </a:lnTo>
                  <a:lnTo>
                    <a:pt x="488" y="135"/>
                  </a:lnTo>
                  <a:lnTo>
                    <a:pt x="479" y="146"/>
                  </a:lnTo>
                  <a:lnTo>
                    <a:pt x="471" y="156"/>
                  </a:lnTo>
                  <a:lnTo>
                    <a:pt x="453" y="182"/>
                  </a:lnTo>
                  <a:lnTo>
                    <a:pt x="437" y="212"/>
                  </a:lnTo>
                  <a:lnTo>
                    <a:pt x="420" y="248"/>
                  </a:lnTo>
                  <a:lnTo>
                    <a:pt x="404" y="288"/>
                  </a:lnTo>
                  <a:lnTo>
                    <a:pt x="390" y="329"/>
                  </a:lnTo>
                  <a:lnTo>
                    <a:pt x="378" y="374"/>
                  </a:lnTo>
                  <a:lnTo>
                    <a:pt x="367" y="420"/>
                  </a:lnTo>
                  <a:lnTo>
                    <a:pt x="357" y="470"/>
                  </a:lnTo>
                  <a:lnTo>
                    <a:pt x="349" y="522"/>
                  </a:lnTo>
                  <a:lnTo>
                    <a:pt x="342" y="576"/>
                  </a:lnTo>
                  <a:lnTo>
                    <a:pt x="337" y="633"/>
                  </a:lnTo>
                  <a:lnTo>
                    <a:pt x="393" y="624"/>
                  </a:lnTo>
                  <a:lnTo>
                    <a:pt x="421" y="618"/>
                  </a:lnTo>
                  <a:lnTo>
                    <a:pt x="448" y="611"/>
                  </a:lnTo>
                  <a:lnTo>
                    <a:pt x="475" y="604"/>
                  </a:lnTo>
                  <a:lnTo>
                    <a:pt x="498" y="597"/>
                  </a:lnTo>
                  <a:lnTo>
                    <a:pt x="509" y="594"/>
                  </a:lnTo>
                  <a:lnTo>
                    <a:pt x="519" y="589"/>
                  </a:lnTo>
                  <a:lnTo>
                    <a:pt x="528" y="584"/>
                  </a:lnTo>
                  <a:lnTo>
                    <a:pt x="537" y="580"/>
                  </a:lnTo>
                  <a:lnTo>
                    <a:pt x="554" y="569"/>
                  </a:lnTo>
                  <a:lnTo>
                    <a:pt x="570" y="558"/>
                  </a:lnTo>
                  <a:lnTo>
                    <a:pt x="585" y="546"/>
                  </a:lnTo>
                  <a:lnTo>
                    <a:pt x="598" y="534"/>
                  </a:lnTo>
                  <a:lnTo>
                    <a:pt x="611" y="521"/>
                  </a:lnTo>
                  <a:lnTo>
                    <a:pt x="621" y="507"/>
                  </a:lnTo>
                  <a:lnTo>
                    <a:pt x="631" y="492"/>
                  </a:lnTo>
                  <a:lnTo>
                    <a:pt x="640" y="477"/>
                  </a:lnTo>
                  <a:lnTo>
                    <a:pt x="647" y="461"/>
                  </a:lnTo>
                  <a:lnTo>
                    <a:pt x="653" y="443"/>
                  </a:lnTo>
                  <a:lnTo>
                    <a:pt x="659" y="424"/>
                  </a:lnTo>
                  <a:lnTo>
                    <a:pt x="663" y="404"/>
                  </a:lnTo>
                  <a:lnTo>
                    <a:pt x="667" y="382"/>
                  </a:lnTo>
                  <a:lnTo>
                    <a:pt x="670" y="359"/>
                  </a:lnTo>
                  <a:lnTo>
                    <a:pt x="671" y="335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99320" y="395280"/>
              <a:ext cx="401400" cy="689040"/>
            </a:xfrm>
            <a:custGeom>
              <a:avLst/>
              <a:gdLst/>
              <a:ahLst/>
              <a:rect l="l" t="t" r="r" b="b"/>
              <a:pathLst>
                <a:path w="1115" h="1914">
                  <a:moveTo>
                    <a:pt x="708" y="1506"/>
                  </a:moveTo>
                  <a:lnTo>
                    <a:pt x="725" y="1436"/>
                  </a:lnTo>
                  <a:lnTo>
                    <a:pt x="741" y="1363"/>
                  </a:lnTo>
                  <a:lnTo>
                    <a:pt x="755" y="1286"/>
                  </a:lnTo>
                  <a:lnTo>
                    <a:pt x="766" y="1206"/>
                  </a:lnTo>
                  <a:lnTo>
                    <a:pt x="775" y="1127"/>
                  </a:lnTo>
                  <a:lnTo>
                    <a:pt x="782" y="1048"/>
                  </a:lnTo>
                  <a:lnTo>
                    <a:pt x="786" y="971"/>
                  </a:lnTo>
                  <a:lnTo>
                    <a:pt x="787" y="896"/>
                  </a:lnTo>
                  <a:lnTo>
                    <a:pt x="781" y="877"/>
                  </a:lnTo>
                  <a:lnTo>
                    <a:pt x="774" y="861"/>
                  </a:lnTo>
                  <a:lnTo>
                    <a:pt x="767" y="845"/>
                  </a:lnTo>
                  <a:lnTo>
                    <a:pt x="759" y="830"/>
                  </a:lnTo>
                  <a:lnTo>
                    <a:pt x="751" y="817"/>
                  </a:lnTo>
                  <a:lnTo>
                    <a:pt x="743" y="804"/>
                  </a:lnTo>
                  <a:lnTo>
                    <a:pt x="733" y="793"/>
                  </a:lnTo>
                  <a:lnTo>
                    <a:pt x="724" y="784"/>
                  </a:lnTo>
                  <a:lnTo>
                    <a:pt x="714" y="776"/>
                  </a:lnTo>
                  <a:lnTo>
                    <a:pt x="704" y="767"/>
                  </a:lnTo>
                  <a:lnTo>
                    <a:pt x="693" y="762"/>
                  </a:lnTo>
                  <a:lnTo>
                    <a:pt x="682" y="756"/>
                  </a:lnTo>
                  <a:lnTo>
                    <a:pt x="669" y="752"/>
                  </a:lnTo>
                  <a:lnTo>
                    <a:pt x="657" y="749"/>
                  </a:lnTo>
                  <a:lnTo>
                    <a:pt x="643" y="748"/>
                  </a:lnTo>
                  <a:lnTo>
                    <a:pt x="629" y="747"/>
                  </a:lnTo>
                  <a:lnTo>
                    <a:pt x="614" y="748"/>
                  </a:lnTo>
                  <a:lnTo>
                    <a:pt x="600" y="750"/>
                  </a:lnTo>
                  <a:lnTo>
                    <a:pt x="586" y="754"/>
                  </a:lnTo>
                  <a:lnTo>
                    <a:pt x="572" y="759"/>
                  </a:lnTo>
                  <a:lnTo>
                    <a:pt x="559" y="767"/>
                  </a:lnTo>
                  <a:lnTo>
                    <a:pt x="545" y="777"/>
                  </a:lnTo>
                  <a:lnTo>
                    <a:pt x="532" y="787"/>
                  </a:lnTo>
                  <a:lnTo>
                    <a:pt x="520" y="800"/>
                  </a:lnTo>
                  <a:lnTo>
                    <a:pt x="507" y="814"/>
                  </a:lnTo>
                  <a:lnTo>
                    <a:pt x="495" y="829"/>
                  </a:lnTo>
                  <a:lnTo>
                    <a:pt x="482" y="846"/>
                  </a:lnTo>
                  <a:lnTo>
                    <a:pt x="471" y="866"/>
                  </a:lnTo>
                  <a:lnTo>
                    <a:pt x="447" y="907"/>
                  </a:lnTo>
                  <a:lnTo>
                    <a:pt x="425" y="957"/>
                  </a:lnTo>
                  <a:lnTo>
                    <a:pt x="404" y="1011"/>
                  </a:lnTo>
                  <a:lnTo>
                    <a:pt x="386" y="1067"/>
                  </a:lnTo>
                  <a:lnTo>
                    <a:pt x="371" y="1125"/>
                  </a:lnTo>
                  <a:lnTo>
                    <a:pt x="358" y="1187"/>
                  </a:lnTo>
                  <a:lnTo>
                    <a:pt x="349" y="1250"/>
                  </a:lnTo>
                  <a:lnTo>
                    <a:pt x="342" y="1315"/>
                  </a:lnTo>
                  <a:lnTo>
                    <a:pt x="338" y="1383"/>
                  </a:lnTo>
                  <a:lnTo>
                    <a:pt x="337" y="1453"/>
                  </a:lnTo>
                  <a:lnTo>
                    <a:pt x="337" y="1497"/>
                  </a:lnTo>
                  <a:lnTo>
                    <a:pt x="338" y="1539"/>
                  </a:lnTo>
                  <a:lnTo>
                    <a:pt x="341" y="1577"/>
                  </a:lnTo>
                  <a:lnTo>
                    <a:pt x="345" y="1613"/>
                  </a:lnTo>
                  <a:lnTo>
                    <a:pt x="349" y="1645"/>
                  </a:lnTo>
                  <a:lnTo>
                    <a:pt x="355" y="1675"/>
                  </a:lnTo>
                  <a:lnTo>
                    <a:pt x="362" y="1703"/>
                  </a:lnTo>
                  <a:lnTo>
                    <a:pt x="369" y="1727"/>
                  </a:lnTo>
                  <a:lnTo>
                    <a:pt x="373" y="1737"/>
                  </a:lnTo>
                  <a:lnTo>
                    <a:pt x="378" y="1748"/>
                  </a:lnTo>
                  <a:lnTo>
                    <a:pt x="383" y="1758"/>
                  </a:lnTo>
                  <a:lnTo>
                    <a:pt x="388" y="1766"/>
                  </a:lnTo>
                  <a:lnTo>
                    <a:pt x="394" y="1774"/>
                  </a:lnTo>
                  <a:lnTo>
                    <a:pt x="401" y="1782"/>
                  </a:lnTo>
                  <a:lnTo>
                    <a:pt x="406" y="1789"/>
                  </a:lnTo>
                  <a:lnTo>
                    <a:pt x="414" y="1795"/>
                  </a:lnTo>
                  <a:lnTo>
                    <a:pt x="421" y="1801"/>
                  </a:lnTo>
                  <a:lnTo>
                    <a:pt x="429" y="1806"/>
                  </a:lnTo>
                  <a:lnTo>
                    <a:pt x="436" y="1809"/>
                  </a:lnTo>
                  <a:lnTo>
                    <a:pt x="445" y="1812"/>
                  </a:lnTo>
                  <a:lnTo>
                    <a:pt x="454" y="1815"/>
                  </a:lnTo>
                  <a:lnTo>
                    <a:pt x="463" y="1817"/>
                  </a:lnTo>
                  <a:lnTo>
                    <a:pt x="472" y="1818"/>
                  </a:lnTo>
                  <a:lnTo>
                    <a:pt x="482" y="1818"/>
                  </a:lnTo>
                  <a:lnTo>
                    <a:pt x="491" y="1818"/>
                  </a:lnTo>
                  <a:lnTo>
                    <a:pt x="500" y="1817"/>
                  </a:lnTo>
                  <a:lnTo>
                    <a:pt x="509" y="1815"/>
                  </a:lnTo>
                  <a:lnTo>
                    <a:pt x="517" y="1812"/>
                  </a:lnTo>
                  <a:lnTo>
                    <a:pt x="525" y="1810"/>
                  </a:lnTo>
                  <a:lnTo>
                    <a:pt x="534" y="1806"/>
                  </a:lnTo>
                  <a:lnTo>
                    <a:pt x="542" y="1802"/>
                  </a:lnTo>
                  <a:lnTo>
                    <a:pt x="550" y="1796"/>
                  </a:lnTo>
                  <a:lnTo>
                    <a:pt x="558" y="1791"/>
                  </a:lnTo>
                  <a:lnTo>
                    <a:pt x="566" y="1785"/>
                  </a:lnTo>
                  <a:lnTo>
                    <a:pt x="574" y="1778"/>
                  </a:lnTo>
                  <a:lnTo>
                    <a:pt x="581" y="1770"/>
                  </a:lnTo>
                  <a:lnTo>
                    <a:pt x="596" y="1752"/>
                  </a:lnTo>
                  <a:lnTo>
                    <a:pt x="610" y="1732"/>
                  </a:lnTo>
                  <a:lnTo>
                    <a:pt x="624" y="1710"/>
                  </a:lnTo>
                  <a:lnTo>
                    <a:pt x="638" y="1685"/>
                  </a:lnTo>
                  <a:lnTo>
                    <a:pt x="651" y="1660"/>
                  </a:lnTo>
                  <a:lnTo>
                    <a:pt x="663" y="1634"/>
                  </a:lnTo>
                  <a:lnTo>
                    <a:pt x="675" y="1603"/>
                  </a:lnTo>
                  <a:lnTo>
                    <a:pt x="686" y="1573"/>
                  </a:lnTo>
                  <a:lnTo>
                    <a:pt x="697" y="1541"/>
                  </a:lnTo>
                  <a:close/>
                  <a:moveTo>
                    <a:pt x="1114" y="832"/>
                  </a:moveTo>
                  <a:lnTo>
                    <a:pt x="1111" y="937"/>
                  </a:lnTo>
                  <a:lnTo>
                    <a:pt x="1109" y="989"/>
                  </a:lnTo>
                  <a:lnTo>
                    <a:pt x="1104" y="1041"/>
                  </a:lnTo>
                  <a:lnTo>
                    <a:pt x="1099" y="1092"/>
                  </a:lnTo>
                  <a:lnTo>
                    <a:pt x="1092" y="1143"/>
                  </a:lnTo>
                  <a:lnTo>
                    <a:pt x="1084" y="1192"/>
                  </a:lnTo>
                  <a:lnTo>
                    <a:pt x="1075" y="1242"/>
                  </a:lnTo>
                  <a:lnTo>
                    <a:pt x="1065" y="1291"/>
                  </a:lnTo>
                  <a:lnTo>
                    <a:pt x="1054" y="1338"/>
                  </a:lnTo>
                  <a:lnTo>
                    <a:pt x="1040" y="1383"/>
                  </a:lnTo>
                  <a:lnTo>
                    <a:pt x="1026" y="1427"/>
                  </a:lnTo>
                  <a:lnTo>
                    <a:pt x="1010" y="1468"/>
                  </a:lnTo>
                  <a:lnTo>
                    <a:pt x="994" y="1509"/>
                  </a:lnTo>
                  <a:lnTo>
                    <a:pt x="976" y="1547"/>
                  </a:lnTo>
                  <a:lnTo>
                    <a:pt x="957" y="1584"/>
                  </a:lnTo>
                  <a:lnTo>
                    <a:pt x="935" y="1622"/>
                  </a:lnTo>
                  <a:lnTo>
                    <a:pt x="911" y="1658"/>
                  </a:lnTo>
                  <a:lnTo>
                    <a:pt x="887" y="1692"/>
                  </a:lnTo>
                  <a:lnTo>
                    <a:pt x="862" y="1724"/>
                  </a:lnTo>
                  <a:lnTo>
                    <a:pt x="835" y="1752"/>
                  </a:lnTo>
                  <a:lnTo>
                    <a:pt x="807" y="1780"/>
                  </a:lnTo>
                  <a:lnTo>
                    <a:pt x="777" y="1804"/>
                  </a:lnTo>
                  <a:lnTo>
                    <a:pt x="747" y="1828"/>
                  </a:lnTo>
                  <a:lnTo>
                    <a:pt x="715" y="1847"/>
                  </a:lnTo>
                  <a:lnTo>
                    <a:pt x="682" y="1864"/>
                  </a:lnTo>
                  <a:lnTo>
                    <a:pt x="648" y="1879"/>
                  </a:lnTo>
                  <a:lnTo>
                    <a:pt x="611" y="1891"/>
                  </a:lnTo>
                  <a:lnTo>
                    <a:pt x="574" y="1901"/>
                  </a:lnTo>
                  <a:lnTo>
                    <a:pt x="535" y="1907"/>
                  </a:lnTo>
                  <a:lnTo>
                    <a:pt x="494" y="1912"/>
                  </a:lnTo>
                  <a:lnTo>
                    <a:pt x="451" y="1913"/>
                  </a:lnTo>
                  <a:lnTo>
                    <a:pt x="401" y="1911"/>
                  </a:lnTo>
                  <a:lnTo>
                    <a:pt x="353" y="1904"/>
                  </a:lnTo>
                  <a:lnTo>
                    <a:pt x="308" y="1893"/>
                  </a:lnTo>
                  <a:lnTo>
                    <a:pt x="266" y="1878"/>
                  </a:lnTo>
                  <a:lnTo>
                    <a:pt x="226" y="1858"/>
                  </a:lnTo>
                  <a:lnTo>
                    <a:pt x="189" y="1834"/>
                  </a:lnTo>
                  <a:lnTo>
                    <a:pt x="154" y="1806"/>
                  </a:lnTo>
                  <a:lnTo>
                    <a:pt x="138" y="1791"/>
                  </a:lnTo>
                  <a:lnTo>
                    <a:pt x="122" y="1773"/>
                  </a:lnTo>
                  <a:lnTo>
                    <a:pt x="107" y="1756"/>
                  </a:lnTo>
                  <a:lnTo>
                    <a:pt x="94" y="1737"/>
                  </a:lnTo>
                  <a:lnTo>
                    <a:pt x="80" y="1718"/>
                  </a:lnTo>
                  <a:lnTo>
                    <a:pt x="69" y="1697"/>
                  </a:lnTo>
                  <a:lnTo>
                    <a:pt x="58" y="1676"/>
                  </a:lnTo>
                  <a:lnTo>
                    <a:pt x="48" y="1654"/>
                  </a:lnTo>
                  <a:lnTo>
                    <a:pt x="39" y="1631"/>
                  </a:lnTo>
                  <a:lnTo>
                    <a:pt x="30" y="1608"/>
                  </a:lnTo>
                  <a:lnTo>
                    <a:pt x="24" y="1584"/>
                  </a:lnTo>
                  <a:lnTo>
                    <a:pt x="17" y="1558"/>
                  </a:lnTo>
                  <a:lnTo>
                    <a:pt x="12" y="1532"/>
                  </a:lnTo>
                  <a:lnTo>
                    <a:pt x="8" y="1505"/>
                  </a:lnTo>
                  <a:lnTo>
                    <a:pt x="2" y="1449"/>
                  </a:lnTo>
                  <a:lnTo>
                    <a:pt x="0" y="1389"/>
                  </a:lnTo>
                  <a:lnTo>
                    <a:pt x="3" y="1312"/>
                  </a:lnTo>
                  <a:lnTo>
                    <a:pt x="6" y="1276"/>
                  </a:lnTo>
                  <a:lnTo>
                    <a:pt x="10" y="1240"/>
                  </a:lnTo>
                  <a:lnTo>
                    <a:pt x="16" y="1204"/>
                  </a:lnTo>
                  <a:lnTo>
                    <a:pt x="24" y="1169"/>
                  </a:lnTo>
                  <a:lnTo>
                    <a:pt x="32" y="1136"/>
                  </a:lnTo>
                  <a:lnTo>
                    <a:pt x="42" y="1103"/>
                  </a:lnTo>
                  <a:lnTo>
                    <a:pt x="53" y="1071"/>
                  </a:lnTo>
                  <a:lnTo>
                    <a:pt x="65" y="1039"/>
                  </a:lnTo>
                  <a:lnTo>
                    <a:pt x="79" y="1009"/>
                  </a:lnTo>
                  <a:lnTo>
                    <a:pt x="94" y="979"/>
                  </a:lnTo>
                  <a:lnTo>
                    <a:pt x="110" y="949"/>
                  </a:lnTo>
                  <a:lnTo>
                    <a:pt x="128" y="920"/>
                  </a:lnTo>
                  <a:lnTo>
                    <a:pt x="167" y="866"/>
                  </a:lnTo>
                  <a:lnTo>
                    <a:pt x="210" y="815"/>
                  </a:lnTo>
                  <a:lnTo>
                    <a:pt x="233" y="793"/>
                  </a:lnTo>
                  <a:lnTo>
                    <a:pt x="256" y="772"/>
                  </a:lnTo>
                  <a:lnTo>
                    <a:pt x="280" y="752"/>
                  </a:lnTo>
                  <a:lnTo>
                    <a:pt x="305" y="735"/>
                  </a:lnTo>
                  <a:lnTo>
                    <a:pt x="357" y="705"/>
                  </a:lnTo>
                  <a:lnTo>
                    <a:pt x="412" y="681"/>
                  </a:lnTo>
                  <a:lnTo>
                    <a:pt x="471" y="665"/>
                  </a:lnTo>
                  <a:lnTo>
                    <a:pt x="531" y="654"/>
                  </a:lnTo>
                  <a:lnTo>
                    <a:pt x="595" y="651"/>
                  </a:lnTo>
                  <a:lnTo>
                    <a:pt x="628" y="652"/>
                  </a:lnTo>
                  <a:lnTo>
                    <a:pt x="657" y="654"/>
                  </a:lnTo>
                  <a:lnTo>
                    <a:pt x="683" y="658"/>
                  </a:lnTo>
                  <a:lnTo>
                    <a:pt x="694" y="661"/>
                  </a:lnTo>
                  <a:lnTo>
                    <a:pt x="705" y="663"/>
                  </a:lnTo>
                  <a:lnTo>
                    <a:pt x="726" y="672"/>
                  </a:lnTo>
                  <a:lnTo>
                    <a:pt x="746" y="680"/>
                  </a:lnTo>
                  <a:lnTo>
                    <a:pt x="766" y="690"/>
                  </a:lnTo>
                  <a:lnTo>
                    <a:pt x="785" y="703"/>
                  </a:lnTo>
                  <a:lnTo>
                    <a:pt x="780" y="638"/>
                  </a:lnTo>
                  <a:lnTo>
                    <a:pt x="772" y="576"/>
                  </a:lnTo>
                  <a:lnTo>
                    <a:pt x="763" y="518"/>
                  </a:lnTo>
                  <a:lnTo>
                    <a:pt x="752" y="465"/>
                  </a:lnTo>
                  <a:lnTo>
                    <a:pt x="738" y="415"/>
                  </a:lnTo>
                  <a:lnTo>
                    <a:pt x="722" y="369"/>
                  </a:lnTo>
                  <a:lnTo>
                    <a:pt x="703" y="327"/>
                  </a:lnTo>
                  <a:lnTo>
                    <a:pt x="683" y="289"/>
                  </a:lnTo>
                  <a:lnTo>
                    <a:pt x="662" y="256"/>
                  </a:lnTo>
                  <a:lnTo>
                    <a:pt x="651" y="241"/>
                  </a:lnTo>
                  <a:lnTo>
                    <a:pt x="639" y="226"/>
                  </a:lnTo>
                  <a:lnTo>
                    <a:pt x="628" y="213"/>
                  </a:lnTo>
                  <a:lnTo>
                    <a:pt x="615" y="202"/>
                  </a:lnTo>
                  <a:lnTo>
                    <a:pt x="604" y="191"/>
                  </a:lnTo>
                  <a:lnTo>
                    <a:pt x="590" y="181"/>
                  </a:lnTo>
                  <a:lnTo>
                    <a:pt x="578" y="173"/>
                  </a:lnTo>
                  <a:lnTo>
                    <a:pt x="565" y="166"/>
                  </a:lnTo>
                  <a:lnTo>
                    <a:pt x="551" y="159"/>
                  </a:lnTo>
                  <a:lnTo>
                    <a:pt x="537" y="154"/>
                  </a:lnTo>
                  <a:lnTo>
                    <a:pt x="524" y="150"/>
                  </a:lnTo>
                  <a:lnTo>
                    <a:pt x="509" y="147"/>
                  </a:lnTo>
                  <a:lnTo>
                    <a:pt x="495" y="145"/>
                  </a:lnTo>
                  <a:lnTo>
                    <a:pt x="480" y="145"/>
                  </a:lnTo>
                  <a:lnTo>
                    <a:pt x="462" y="145"/>
                  </a:lnTo>
                  <a:lnTo>
                    <a:pt x="445" y="147"/>
                  </a:lnTo>
                  <a:lnTo>
                    <a:pt x="428" y="150"/>
                  </a:lnTo>
                  <a:lnTo>
                    <a:pt x="411" y="153"/>
                  </a:lnTo>
                  <a:lnTo>
                    <a:pt x="396" y="158"/>
                  </a:lnTo>
                  <a:lnTo>
                    <a:pt x="381" y="163"/>
                  </a:lnTo>
                  <a:lnTo>
                    <a:pt x="366" y="170"/>
                  </a:lnTo>
                  <a:lnTo>
                    <a:pt x="351" y="178"/>
                  </a:lnTo>
                  <a:lnTo>
                    <a:pt x="323" y="195"/>
                  </a:lnTo>
                  <a:lnTo>
                    <a:pt x="297" y="212"/>
                  </a:lnTo>
                  <a:lnTo>
                    <a:pt x="273" y="230"/>
                  </a:lnTo>
                  <a:lnTo>
                    <a:pt x="263" y="240"/>
                  </a:lnTo>
                  <a:lnTo>
                    <a:pt x="252" y="249"/>
                  </a:lnTo>
                  <a:lnTo>
                    <a:pt x="208" y="175"/>
                  </a:lnTo>
                  <a:lnTo>
                    <a:pt x="228" y="153"/>
                  </a:lnTo>
                  <a:lnTo>
                    <a:pt x="248" y="133"/>
                  </a:lnTo>
                  <a:lnTo>
                    <a:pt x="269" y="115"/>
                  </a:lnTo>
                  <a:lnTo>
                    <a:pt x="291" y="98"/>
                  </a:lnTo>
                  <a:lnTo>
                    <a:pt x="312" y="83"/>
                  </a:lnTo>
                  <a:lnTo>
                    <a:pt x="334" y="68"/>
                  </a:lnTo>
                  <a:lnTo>
                    <a:pt x="356" y="55"/>
                  </a:lnTo>
                  <a:lnTo>
                    <a:pt x="378" y="43"/>
                  </a:lnTo>
                  <a:lnTo>
                    <a:pt x="401" y="33"/>
                  </a:lnTo>
                  <a:lnTo>
                    <a:pt x="424" y="25"/>
                  </a:lnTo>
                  <a:lnTo>
                    <a:pt x="448" y="17"/>
                  </a:lnTo>
                  <a:lnTo>
                    <a:pt x="473" y="11"/>
                  </a:lnTo>
                  <a:lnTo>
                    <a:pt x="498" y="5"/>
                  </a:lnTo>
                  <a:lnTo>
                    <a:pt x="524" y="2"/>
                  </a:lnTo>
                  <a:lnTo>
                    <a:pt x="550" y="1"/>
                  </a:lnTo>
                  <a:lnTo>
                    <a:pt x="577" y="0"/>
                  </a:lnTo>
                  <a:lnTo>
                    <a:pt x="638" y="3"/>
                  </a:lnTo>
                  <a:lnTo>
                    <a:pt x="696" y="13"/>
                  </a:lnTo>
                  <a:lnTo>
                    <a:pt x="750" y="31"/>
                  </a:lnTo>
                  <a:lnTo>
                    <a:pt x="776" y="41"/>
                  </a:lnTo>
                  <a:lnTo>
                    <a:pt x="801" y="54"/>
                  </a:lnTo>
                  <a:lnTo>
                    <a:pt x="825" y="69"/>
                  </a:lnTo>
                  <a:lnTo>
                    <a:pt x="848" y="85"/>
                  </a:lnTo>
                  <a:lnTo>
                    <a:pt x="871" y="102"/>
                  </a:lnTo>
                  <a:lnTo>
                    <a:pt x="892" y="122"/>
                  </a:lnTo>
                  <a:lnTo>
                    <a:pt x="913" y="143"/>
                  </a:lnTo>
                  <a:lnTo>
                    <a:pt x="933" y="166"/>
                  </a:lnTo>
                  <a:lnTo>
                    <a:pt x="952" y="190"/>
                  </a:lnTo>
                  <a:lnTo>
                    <a:pt x="970" y="217"/>
                  </a:lnTo>
                  <a:lnTo>
                    <a:pt x="988" y="244"/>
                  </a:lnTo>
                  <a:lnTo>
                    <a:pt x="1004" y="273"/>
                  </a:lnTo>
                  <a:lnTo>
                    <a:pt x="1020" y="304"/>
                  </a:lnTo>
                  <a:lnTo>
                    <a:pt x="1033" y="337"/>
                  </a:lnTo>
                  <a:lnTo>
                    <a:pt x="1046" y="370"/>
                  </a:lnTo>
                  <a:lnTo>
                    <a:pt x="1058" y="405"/>
                  </a:lnTo>
                  <a:lnTo>
                    <a:pt x="1078" y="479"/>
                  </a:lnTo>
                  <a:lnTo>
                    <a:pt x="1094" y="558"/>
                  </a:lnTo>
                  <a:lnTo>
                    <a:pt x="1104" y="644"/>
                  </a:lnTo>
                  <a:lnTo>
                    <a:pt x="1111" y="735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96040" y="627120"/>
              <a:ext cx="403200" cy="457200"/>
            </a:xfrm>
            <a:custGeom>
              <a:avLst/>
              <a:gdLst/>
              <a:ahLst/>
              <a:rect l="l" t="t" r="r" b="b"/>
              <a:pathLst>
                <a:path w="1118" h="1271">
                  <a:moveTo>
                    <a:pt x="1117" y="506"/>
                  </a:moveTo>
                  <a:lnTo>
                    <a:pt x="1117" y="544"/>
                  </a:lnTo>
                  <a:lnTo>
                    <a:pt x="1114" y="581"/>
                  </a:lnTo>
                  <a:lnTo>
                    <a:pt x="1111" y="618"/>
                  </a:lnTo>
                  <a:lnTo>
                    <a:pt x="1106" y="654"/>
                  </a:lnTo>
                  <a:lnTo>
                    <a:pt x="1099" y="691"/>
                  </a:lnTo>
                  <a:lnTo>
                    <a:pt x="1091" y="727"/>
                  </a:lnTo>
                  <a:lnTo>
                    <a:pt x="1082" y="762"/>
                  </a:lnTo>
                  <a:lnTo>
                    <a:pt x="1071" y="798"/>
                  </a:lnTo>
                  <a:lnTo>
                    <a:pt x="1059" y="832"/>
                  </a:lnTo>
                  <a:lnTo>
                    <a:pt x="1046" y="865"/>
                  </a:lnTo>
                  <a:lnTo>
                    <a:pt x="1031" y="897"/>
                  </a:lnTo>
                  <a:lnTo>
                    <a:pt x="1016" y="927"/>
                  </a:lnTo>
                  <a:lnTo>
                    <a:pt x="998" y="957"/>
                  </a:lnTo>
                  <a:lnTo>
                    <a:pt x="981" y="986"/>
                  </a:lnTo>
                  <a:lnTo>
                    <a:pt x="961" y="1012"/>
                  </a:lnTo>
                  <a:lnTo>
                    <a:pt x="941" y="1039"/>
                  </a:lnTo>
                  <a:lnTo>
                    <a:pt x="918" y="1066"/>
                  </a:lnTo>
                  <a:lnTo>
                    <a:pt x="894" y="1091"/>
                  </a:lnTo>
                  <a:lnTo>
                    <a:pt x="869" y="1115"/>
                  </a:lnTo>
                  <a:lnTo>
                    <a:pt x="842" y="1137"/>
                  </a:lnTo>
                  <a:lnTo>
                    <a:pt x="815" y="1158"/>
                  </a:lnTo>
                  <a:lnTo>
                    <a:pt x="787" y="1176"/>
                  </a:lnTo>
                  <a:lnTo>
                    <a:pt x="758" y="1194"/>
                  </a:lnTo>
                  <a:lnTo>
                    <a:pt x="728" y="1210"/>
                  </a:lnTo>
                  <a:lnTo>
                    <a:pt x="697" y="1224"/>
                  </a:lnTo>
                  <a:lnTo>
                    <a:pt x="665" y="1235"/>
                  </a:lnTo>
                  <a:lnTo>
                    <a:pt x="632" y="1246"/>
                  </a:lnTo>
                  <a:lnTo>
                    <a:pt x="599" y="1255"/>
                  </a:lnTo>
                  <a:lnTo>
                    <a:pt x="564" y="1262"/>
                  </a:lnTo>
                  <a:lnTo>
                    <a:pt x="528" y="1266"/>
                  </a:lnTo>
                  <a:lnTo>
                    <a:pt x="492" y="1269"/>
                  </a:lnTo>
                  <a:lnTo>
                    <a:pt x="454" y="1270"/>
                  </a:lnTo>
                  <a:lnTo>
                    <a:pt x="404" y="1268"/>
                  </a:lnTo>
                  <a:lnTo>
                    <a:pt x="357" y="1262"/>
                  </a:lnTo>
                  <a:lnTo>
                    <a:pt x="312" y="1250"/>
                  </a:lnTo>
                  <a:lnTo>
                    <a:pt x="270" y="1235"/>
                  </a:lnTo>
                  <a:lnTo>
                    <a:pt x="230" y="1216"/>
                  </a:lnTo>
                  <a:lnTo>
                    <a:pt x="192" y="1193"/>
                  </a:lnTo>
                  <a:lnTo>
                    <a:pt x="157" y="1165"/>
                  </a:lnTo>
                  <a:lnTo>
                    <a:pt x="125" y="1133"/>
                  </a:lnTo>
                  <a:lnTo>
                    <a:pt x="110" y="1115"/>
                  </a:lnTo>
                  <a:lnTo>
                    <a:pt x="96" y="1097"/>
                  </a:lnTo>
                  <a:lnTo>
                    <a:pt x="82" y="1077"/>
                  </a:lnTo>
                  <a:lnTo>
                    <a:pt x="70" y="1057"/>
                  </a:lnTo>
                  <a:lnTo>
                    <a:pt x="59" y="1037"/>
                  </a:lnTo>
                  <a:lnTo>
                    <a:pt x="49" y="1015"/>
                  </a:lnTo>
                  <a:lnTo>
                    <a:pt x="39" y="993"/>
                  </a:lnTo>
                  <a:lnTo>
                    <a:pt x="32" y="970"/>
                  </a:lnTo>
                  <a:lnTo>
                    <a:pt x="24" y="945"/>
                  </a:lnTo>
                  <a:lnTo>
                    <a:pt x="18" y="921"/>
                  </a:lnTo>
                  <a:lnTo>
                    <a:pt x="13" y="896"/>
                  </a:lnTo>
                  <a:lnTo>
                    <a:pt x="8" y="869"/>
                  </a:lnTo>
                  <a:lnTo>
                    <a:pt x="4" y="843"/>
                  </a:lnTo>
                  <a:lnTo>
                    <a:pt x="2" y="815"/>
                  </a:lnTo>
                  <a:lnTo>
                    <a:pt x="0" y="757"/>
                  </a:lnTo>
                  <a:lnTo>
                    <a:pt x="1" y="717"/>
                  </a:lnTo>
                  <a:lnTo>
                    <a:pt x="3" y="679"/>
                  </a:lnTo>
                  <a:lnTo>
                    <a:pt x="7" y="639"/>
                  </a:lnTo>
                  <a:lnTo>
                    <a:pt x="12" y="603"/>
                  </a:lnTo>
                  <a:lnTo>
                    <a:pt x="18" y="566"/>
                  </a:lnTo>
                  <a:lnTo>
                    <a:pt x="27" y="529"/>
                  </a:lnTo>
                  <a:lnTo>
                    <a:pt x="36" y="493"/>
                  </a:lnTo>
                  <a:lnTo>
                    <a:pt x="47" y="458"/>
                  </a:lnTo>
                  <a:lnTo>
                    <a:pt x="59" y="425"/>
                  </a:lnTo>
                  <a:lnTo>
                    <a:pt x="72" y="391"/>
                  </a:lnTo>
                  <a:lnTo>
                    <a:pt x="87" y="360"/>
                  </a:lnTo>
                  <a:lnTo>
                    <a:pt x="104" y="329"/>
                  </a:lnTo>
                  <a:lnTo>
                    <a:pt x="122" y="300"/>
                  </a:lnTo>
                  <a:lnTo>
                    <a:pt x="140" y="271"/>
                  </a:lnTo>
                  <a:lnTo>
                    <a:pt x="159" y="245"/>
                  </a:lnTo>
                  <a:lnTo>
                    <a:pt x="180" y="218"/>
                  </a:lnTo>
                  <a:lnTo>
                    <a:pt x="201" y="194"/>
                  </a:lnTo>
                  <a:lnTo>
                    <a:pt x="224" y="171"/>
                  </a:lnTo>
                  <a:lnTo>
                    <a:pt x="248" y="149"/>
                  </a:lnTo>
                  <a:lnTo>
                    <a:pt x="273" y="128"/>
                  </a:lnTo>
                  <a:lnTo>
                    <a:pt x="300" y="108"/>
                  </a:lnTo>
                  <a:lnTo>
                    <a:pt x="327" y="91"/>
                  </a:lnTo>
                  <a:lnTo>
                    <a:pt x="356" y="74"/>
                  </a:lnTo>
                  <a:lnTo>
                    <a:pt x="386" y="59"/>
                  </a:lnTo>
                  <a:lnTo>
                    <a:pt x="417" y="45"/>
                  </a:lnTo>
                  <a:lnTo>
                    <a:pt x="448" y="33"/>
                  </a:lnTo>
                  <a:lnTo>
                    <a:pt x="481" y="23"/>
                  </a:lnTo>
                  <a:lnTo>
                    <a:pt x="513" y="15"/>
                  </a:lnTo>
                  <a:lnTo>
                    <a:pt x="547" y="8"/>
                  </a:lnTo>
                  <a:lnTo>
                    <a:pt x="581" y="3"/>
                  </a:lnTo>
                  <a:lnTo>
                    <a:pt x="616" y="1"/>
                  </a:lnTo>
                  <a:lnTo>
                    <a:pt x="651" y="0"/>
                  </a:lnTo>
                  <a:lnTo>
                    <a:pt x="704" y="2"/>
                  </a:lnTo>
                  <a:lnTo>
                    <a:pt x="754" y="8"/>
                  </a:lnTo>
                  <a:lnTo>
                    <a:pt x="800" y="18"/>
                  </a:lnTo>
                  <a:lnTo>
                    <a:pt x="844" y="33"/>
                  </a:lnTo>
                  <a:lnTo>
                    <a:pt x="885" y="52"/>
                  </a:lnTo>
                  <a:lnTo>
                    <a:pt x="924" y="75"/>
                  </a:lnTo>
                  <a:lnTo>
                    <a:pt x="959" y="102"/>
                  </a:lnTo>
                  <a:lnTo>
                    <a:pt x="976" y="117"/>
                  </a:lnTo>
                  <a:lnTo>
                    <a:pt x="992" y="134"/>
                  </a:lnTo>
                  <a:lnTo>
                    <a:pt x="1007" y="151"/>
                  </a:lnTo>
                  <a:lnTo>
                    <a:pt x="1021" y="168"/>
                  </a:lnTo>
                  <a:lnTo>
                    <a:pt x="1034" y="187"/>
                  </a:lnTo>
                  <a:lnTo>
                    <a:pt x="1047" y="206"/>
                  </a:lnTo>
                  <a:lnTo>
                    <a:pt x="1057" y="227"/>
                  </a:lnTo>
                  <a:lnTo>
                    <a:pt x="1068" y="248"/>
                  </a:lnTo>
                  <a:lnTo>
                    <a:pt x="1077" y="270"/>
                  </a:lnTo>
                  <a:lnTo>
                    <a:pt x="1086" y="293"/>
                  </a:lnTo>
                  <a:lnTo>
                    <a:pt x="1093" y="317"/>
                  </a:lnTo>
                  <a:lnTo>
                    <a:pt x="1100" y="342"/>
                  </a:lnTo>
                  <a:lnTo>
                    <a:pt x="1105" y="367"/>
                  </a:lnTo>
                  <a:lnTo>
                    <a:pt x="1109" y="392"/>
                  </a:lnTo>
                  <a:lnTo>
                    <a:pt x="1113" y="420"/>
                  </a:lnTo>
                  <a:lnTo>
                    <a:pt x="1116" y="448"/>
                  </a:lnTo>
                  <a:close/>
                  <a:moveTo>
                    <a:pt x="780" y="369"/>
                  </a:moveTo>
                  <a:lnTo>
                    <a:pt x="780" y="335"/>
                  </a:lnTo>
                  <a:lnTo>
                    <a:pt x="778" y="303"/>
                  </a:lnTo>
                  <a:lnTo>
                    <a:pt x="775" y="273"/>
                  </a:lnTo>
                  <a:lnTo>
                    <a:pt x="771" y="246"/>
                  </a:lnTo>
                  <a:lnTo>
                    <a:pt x="765" y="221"/>
                  </a:lnTo>
                  <a:lnTo>
                    <a:pt x="759" y="198"/>
                  </a:lnTo>
                  <a:lnTo>
                    <a:pt x="755" y="188"/>
                  </a:lnTo>
                  <a:lnTo>
                    <a:pt x="751" y="179"/>
                  </a:lnTo>
                  <a:lnTo>
                    <a:pt x="747" y="169"/>
                  </a:lnTo>
                  <a:lnTo>
                    <a:pt x="742" y="160"/>
                  </a:lnTo>
                  <a:lnTo>
                    <a:pt x="737" y="152"/>
                  </a:lnTo>
                  <a:lnTo>
                    <a:pt x="732" y="145"/>
                  </a:lnTo>
                  <a:lnTo>
                    <a:pt x="727" y="138"/>
                  </a:lnTo>
                  <a:lnTo>
                    <a:pt x="721" y="131"/>
                  </a:lnTo>
                  <a:lnTo>
                    <a:pt x="716" y="126"/>
                  </a:lnTo>
                  <a:lnTo>
                    <a:pt x="709" y="120"/>
                  </a:lnTo>
                  <a:lnTo>
                    <a:pt x="703" y="115"/>
                  </a:lnTo>
                  <a:lnTo>
                    <a:pt x="696" y="111"/>
                  </a:lnTo>
                  <a:lnTo>
                    <a:pt x="689" y="107"/>
                  </a:lnTo>
                  <a:lnTo>
                    <a:pt x="682" y="104"/>
                  </a:lnTo>
                  <a:lnTo>
                    <a:pt x="675" y="101"/>
                  </a:lnTo>
                  <a:lnTo>
                    <a:pt x="666" y="99"/>
                  </a:lnTo>
                  <a:lnTo>
                    <a:pt x="651" y="96"/>
                  </a:lnTo>
                  <a:lnTo>
                    <a:pt x="633" y="94"/>
                  </a:lnTo>
                  <a:lnTo>
                    <a:pt x="615" y="96"/>
                  </a:lnTo>
                  <a:lnTo>
                    <a:pt x="597" y="99"/>
                  </a:lnTo>
                  <a:lnTo>
                    <a:pt x="580" y="105"/>
                  </a:lnTo>
                  <a:lnTo>
                    <a:pt x="562" y="113"/>
                  </a:lnTo>
                  <a:lnTo>
                    <a:pt x="546" y="123"/>
                  </a:lnTo>
                  <a:lnTo>
                    <a:pt x="530" y="136"/>
                  </a:lnTo>
                  <a:lnTo>
                    <a:pt x="514" y="151"/>
                  </a:lnTo>
                  <a:lnTo>
                    <a:pt x="498" y="168"/>
                  </a:lnTo>
                  <a:lnTo>
                    <a:pt x="483" y="188"/>
                  </a:lnTo>
                  <a:lnTo>
                    <a:pt x="469" y="210"/>
                  </a:lnTo>
                  <a:lnTo>
                    <a:pt x="456" y="234"/>
                  </a:lnTo>
                  <a:lnTo>
                    <a:pt x="443" y="261"/>
                  </a:lnTo>
                  <a:lnTo>
                    <a:pt x="431" y="288"/>
                  </a:lnTo>
                  <a:lnTo>
                    <a:pt x="419" y="320"/>
                  </a:lnTo>
                  <a:lnTo>
                    <a:pt x="409" y="352"/>
                  </a:lnTo>
                  <a:lnTo>
                    <a:pt x="399" y="387"/>
                  </a:lnTo>
                  <a:lnTo>
                    <a:pt x="390" y="417"/>
                  </a:lnTo>
                  <a:lnTo>
                    <a:pt x="383" y="448"/>
                  </a:lnTo>
                  <a:lnTo>
                    <a:pt x="369" y="511"/>
                  </a:lnTo>
                  <a:lnTo>
                    <a:pt x="359" y="577"/>
                  </a:lnTo>
                  <a:lnTo>
                    <a:pt x="350" y="646"/>
                  </a:lnTo>
                  <a:lnTo>
                    <a:pt x="345" y="715"/>
                  </a:lnTo>
                  <a:lnTo>
                    <a:pt x="340" y="779"/>
                  </a:lnTo>
                  <a:lnTo>
                    <a:pt x="337" y="839"/>
                  </a:lnTo>
                  <a:lnTo>
                    <a:pt x="336" y="897"/>
                  </a:lnTo>
                  <a:lnTo>
                    <a:pt x="337" y="932"/>
                  </a:lnTo>
                  <a:lnTo>
                    <a:pt x="339" y="965"/>
                  </a:lnTo>
                  <a:lnTo>
                    <a:pt x="342" y="995"/>
                  </a:lnTo>
                  <a:lnTo>
                    <a:pt x="346" y="1023"/>
                  </a:lnTo>
                  <a:lnTo>
                    <a:pt x="351" y="1048"/>
                  </a:lnTo>
                  <a:lnTo>
                    <a:pt x="358" y="1071"/>
                  </a:lnTo>
                  <a:lnTo>
                    <a:pt x="362" y="1082"/>
                  </a:lnTo>
                  <a:lnTo>
                    <a:pt x="365" y="1092"/>
                  </a:lnTo>
                  <a:lnTo>
                    <a:pt x="370" y="1101"/>
                  </a:lnTo>
                  <a:lnTo>
                    <a:pt x="374" y="1109"/>
                  </a:lnTo>
                  <a:lnTo>
                    <a:pt x="379" y="1118"/>
                  </a:lnTo>
                  <a:lnTo>
                    <a:pt x="384" y="1124"/>
                  </a:lnTo>
                  <a:lnTo>
                    <a:pt x="390" y="1131"/>
                  </a:lnTo>
                  <a:lnTo>
                    <a:pt x="396" y="1138"/>
                  </a:lnTo>
                  <a:lnTo>
                    <a:pt x="402" y="1144"/>
                  </a:lnTo>
                  <a:lnTo>
                    <a:pt x="408" y="1150"/>
                  </a:lnTo>
                  <a:lnTo>
                    <a:pt x="414" y="1154"/>
                  </a:lnTo>
                  <a:lnTo>
                    <a:pt x="422" y="1159"/>
                  </a:lnTo>
                  <a:lnTo>
                    <a:pt x="429" y="1163"/>
                  </a:lnTo>
                  <a:lnTo>
                    <a:pt x="436" y="1166"/>
                  </a:lnTo>
                  <a:lnTo>
                    <a:pt x="444" y="1168"/>
                  </a:lnTo>
                  <a:lnTo>
                    <a:pt x="452" y="1171"/>
                  </a:lnTo>
                  <a:lnTo>
                    <a:pt x="468" y="1174"/>
                  </a:lnTo>
                  <a:lnTo>
                    <a:pt x="486" y="1175"/>
                  </a:lnTo>
                  <a:lnTo>
                    <a:pt x="505" y="1174"/>
                  </a:lnTo>
                  <a:lnTo>
                    <a:pt x="514" y="1172"/>
                  </a:lnTo>
                  <a:lnTo>
                    <a:pt x="524" y="1171"/>
                  </a:lnTo>
                  <a:lnTo>
                    <a:pt x="533" y="1167"/>
                  </a:lnTo>
                  <a:lnTo>
                    <a:pt x="542" y="1164"/>
                  </a:lnTo>
                  <a:lnTo>
                    <a:pt x="551" y="1159"/>
                  </a:lnTo>
                  <a:lnTo>
                    <a:pt x="559" y="1154"/>
                  </a:lnTo>
                  <a:lnTo>
                    <a:pt x="567" y="1150"/>
                  </a:lnTo>
                  <a:lnTo>
                    <a:pt x="576" y="1143"/>
                  </a:lnTo>
                  <a:lnTo>
                    <a:pt x="592" y="1129"/>
                  </a:lnTo>
                  <a:lnTo>
                    <a:pt x="607" y="1113"/>
                  </a:lnTo>
                  <a:lnTo>
                    <a:pt x="622" y="1094"/>
                  </a:lnTo>
                  <a:lnTo>
                    <a:pt x="636" y="1074"/>
                  </a:lnTo>
                  <a:lnTo>
                    <a:pt x="649" y="1052"/>
                  </a:lnTo>
                  <a:lnTo>
                    <a:pt x="661" y="1029"/>
                  </a:lnTo>
                  <a:lnTo>
                    <a:pt x="673" y="1003"/>
                  </a:lnTo>
                  <a:lnTo>
                    <a:pt x="684" y="978"/>
                  </a:lnTo>
                  <a:lnTo>
                    <a:pt x="694" y="951"/>
                  </a:lnTo>
                  <a:lnTo>
                    <a:pt x="703" y="924"/>
                  </a:lnTo>
                  <a:lnTo>
                    <a:pt x="712" y="895"/>
                  </a:lnTo>
                  <a:lnTo>
                    <a:pt x="728" y="835"/>
                  </a:lnTo>
                  <a:lnTo>
                    <a:pt x="741" y="771"/>
                  </a:lnTo>
                  <a:lnTo>
                    <a:pt x="753" y="705"/>
                  </a:lnTo>
                  <a:lnTo>
                    <a:pt x="763" y="637"/>
                  </a:lnTo>
                  <a:lnTo>
                    <a:pt x="770" y="567"/>
                  </a:lnTo>
                  <a:lnTo>
                    <a:pt x="776" y="500"/>
                  </a:lnTo>
                  <a:lnTo>
                    <a:pt x="780" y="434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0680" y="627120"/>
              <a:ext cx="378000" cy="457200"/>
            </a:xfrm>
            <a:custGeom>
              <a:avLst/>
              <a:gdLst/>
              <a:ahLst/>
              <a:rect l="l" t="t" r="r" b="b"/>
              <a:pathLst>
                <a:path w="1048" h="1270">
                  <a:moveTo>
                    <a:pt x="1047" y="255"/>
                  </a:moveTo>
                  <a:lnTo>
                    <a:pt x="1047" y="273"/>
                  </a:lnTo>
                  <a:lnTo>
                    <a:pt x="1046" y="290"/>
                  </a:lnTo>
                  <a:lnTo>
                    <a:pt x="1045" y="307"/>
                  </a:lnTo>
                  <a:lnTo>
                    <a:pt x="1042" y="323"/>
                  </a:lnTo>
                  <a:lnTo>
                    <a:pt x="1040" y="338"/>
                  </a:lnTo>
                  <a:lnTo>
                    <a:pt x="1036" y="353"/>
                  </a:lnTo>
                  <a:lnTo>
                    <a:pt x="1032" y="368"/>
                  </a:lnTo>
                  <a:lnTo>
                    <a:pt x="1027" y="382"/>
                  </a:lnTo>
                  <a:lnTo>
                    <a:pt x="1022" y="395"/>
                  </a:lnTo>
                  <a:lnTo>
                    <a:pt x="1016" y="409"/>
                  </a:lnTo>
                  <a:lnTo>
                    <a:pt x="1010" y="420"/>
                  </a:lnTo>
                  <a:lnTo>
                    <a:pt x="1002" y="433"/>
                  </a:lnTo>
                  <a:lnTo>
                    <a:pt x="995" y="445"/>
                  </a:lnTo>
                  <a:lnTo>
                    <a:pt x="986" y="455"/>
                  </a:lnTo>
                  <a:lnTo>
                    <a:pt x="977" y="465"/>
                  </a:lnTo>
                  <a:lnTo>
                    <a:pt x="967" y="476"/>
                  </a:lnTo>
                  <a:lnTo>
                    <a:pt x="946" y="494"/>
                  </a:lnTo>
                  <a:lnTo>
                    <a:pt x="923" y="512"/>
                  </a:lnTo>
                  <a:lnTo>
                    <a:pt x="897" y="527"/>
                  </a:lnTo>
                  <a:lnTo>
                    <a:pt x="869" y="540"/>
                  </a:lnTo>
                  <a:lnTo>
                    <a:pt x="839" y="552"/>
                  </a:lnTo>
                  <a:lnTo>
                    <a:pt x="807" y="562"/>
                  </a:lnTo>
                  <a:lnTo>
                    <a:pt x="772" y="572"/>
                  </a:lnTo>
                  <a:lnTo>
                    <a:pt x="736" y="579"/>
                  </a:lnTo>
                  <a:lnTo>
                    <a:pt x="735" y="592"/>
                  </a:lnTo>
                  <a:lnTo>
                    <a:pt x="764" y="594"/>
                  </a:lnTo>
                  <a:lnTo>
                    <a:pt x="792" y="597"/>
                  </a:lnTo>
                  <a:lnTo>
                    <a:pt x="820" y="602"/>
                  </a:lnTo>
                  <a:lnTo>
                    <a:pt x="846" y="610"/>
                  </a:lnTo>
                  <a:lnTo>
                    <a:pt x="871" y="619"/>
                  </a:lnTo>
                  <a:lnTo>
                    <a:pt x="895" y="631"/>
                  </a:lnTo>
                  <a:lnTo>
                    <a:pt x="917" y="644"/>
                  </a:lnTo>
                  <a:lnTo>
                    <a:pt x="939" y="659"/>
                  </a:lnTo>
                  <a:lnTo>
                    <a:pt x="949" y="667"/>
                  </a:lnTo>
                  <a:lnTo>
                    <a:pt x="959" y="677"/>
                  </a:lnTo>
                  <a:lnTo>
                    <a:pt x="968" y="687"/>
                  </a:lnTo>
                  <a:lnTo>
                    <a:pt x="975" y="696"/>
                  </a:lnTo>
                  <a:lnTo>
                    <a:pt x="984" y="707"/>
                  </a:lnTo>
                  <a:lnTo>
                    <a:pt x="990" y="717"/>
                  </a:lnTo>
                  <a:lnTo>
                    <a:pt x="996" y="729"/>
                  </a:lnTo>
                  <a:lnTo>
                    <a:pt x="1002" y="740"/>
                  </a:lnTo>
                  <a:lnTo>
                    <a:pt x="1007" y="752"/>
                  </a:lnTo>
                  <a:lnTo>
                    <a:pt x="1011" y="764"/>
                  </a:lnTo>
                  <a:lnTo>
                    <a:pt x="1015" y="777"/>
                  </a:lnTo>
                  <a:lnTo>
                    <a:pt x="1018" y="791"/>
                  </a:lnTo>
                  <a:lnTo>
                    <a:pt x="1020" y="805"/>
                  </a:lnTo>
                  <a:lnTo>
                    <a:pt x="1021" y="819"/>
                  </a:lnTo>
                  <a:lnTo>
                    <a:pt x="1023" y="834"/>
                  </a:lnTo>
                  <a:lnTo>
                    <a:pt x="1023" y="849"/>
                  </a:lnTo>
                  <a:lnTo>
                    <a:pt x="1022" y="873"/>
                  </a:lnTo>
                  <a:lnTo>
                    <a:pt x="1020" y="897"/>
                  </a:lnTo>
                  <a:lnTo>
                    <a:pt x="1018" y="920"/>
                  </a:lnTo>
                  <a:lnTo>
                    <a:pt x="1014" y="943"/>
                  </a:lnTo>
                  <a:lnTo>
                    <a:pt x="1009" y="965"/>
                  </a:lnTo>
                  <a:lnTo>
                    <a:pt x="1003" y="986"/>
                  </a:lnTo>
                  <a:lnTo>
                    <a:pt x="995" y="1007"/>
                  </a:lnTo>
                  <a:lnTo>
                    <a:pt x="987" y="1027"/>
                  </a:lnTo>
                  <a:lnTo>
                    <a:pt x="978" y="1045"/>
                  </a:lnTo>
                  <a:lnTo>
                    <a:pt x="967" y="1064"/>
                  </a:lnTo>
                  <a:lnTo>
                    <a:pt x="956" y="1082"/>
                  </a:lnTo>
                  <a:lnTo>
                    <a:pt x="942" y="1098"/>
                  </a:lnTo>
                  <a:lnTo>
                    <a:pt x="928" y="1114"/>
                  </a:lnTo>
                  <a:lnTo>
                    <a:pt x="913" y="1131"/>
                  </a:lnTo>
                  <a:lnTo>
                    <a:pt x="896" y="1146"/>
                  </a:lnTo>
                  <a:lnTo>
                    <a:pt x="879" y="1159"/>
                  </a:lnTo>
                  <a:lnTo>
                    <a:pt x="841" y="1185"/>
                  </a:lnTo>
                  <a:lnTo>
                    <a:pt x="798" y="1207"/>
                  </a:lnTo>
                  <a:lnTo>
                    <a:pt x="753" y="1226"/>
                  </a:lnTo>
                  <a:lnTo>
                    <a:pt x="703" y="1241"/>
                  </a:lnTo>
                  <a:lnTo>
                    <a:pt x="649" y="1254"/>
                  </a:lnTo>
                  <a:lnTo>
                    <a:pt x="590" y="1262"/>
                  </a:lnTo>
                  <a:lnTo>
                    <a:pt x="528" y="1268"/>
                  </a:lnTo>
                  <a:lnTo>
                    <a:pt x="462" y="1269"/>
                  </a:lnTo>
                  <a:lnTo>
                    <a:pt x="406" y="1267"/>
                  </a:lnTo>
                  <a:lnTo>
                    <a:pt x="353" y="1261"/>
                  </a:lnTo>
                  <a:lnTo>
                    <a:pt x="304" y="1252"/>
                  </a:lnTo>
                  <a:lnTo>
                    <a:pt x="258" y="1239"/>
                  </a:lnTo>
                  <a:lnTo>
                    <a:pt x="217" y="1222"/>
                  </a:lnTo>
                  <a:lnTo>
                    <a:pt x="179" y="1201"/>
                  </a:lnTo>
                  <a:lnTo>
                    <a:pt x="161" y="1189"/>
                  </a:lnTo>
                  <a:lnTo>
                    <a:pt x="144" y="1177"/>
                  </a:lnTo>
                  <a:lnTo>
                    <a:pt x="129" y="1164"/>
                  </a:lnTo>
                  <a:lnTo>
                    <a:pt x="114" y="1149"/>
                  </a:lnTo>
                  <a:lnTo>
                    <a:pt x="99" y="1134"/>
                  </a:lnTo>
                  <a:lnTo>
                    <a:pt x="87" y="1117"/>
                  </a:lnTo>
                  <a:lnTo>
                    <a:pt x="75" y="1098"/>
                  </a:lnTo>
                  <a:lnTo>
                    <a:pt x="64" y="1079"/>
                  </a:lnTo>
                  <a:lnTo>
                    <a:pt x="54" y="1059"/>
                  </a:lnTo>
                  <a:lnTo>
                    <a:pt x="45" y="1037"/>
                  </a:lnTo>
                  <a:lnTo>
                    <a:pt x="35" y="1014"/>
                  </a:lnTo>
                  <a:lnTo>
                    <a:pt x="28" y="989"/>
                  </a:lnTo>
                  <a:lnTo>
                    <a:pt x="21" y="963"/>
                  </a:lnTo>
                  <a:lnTo>
                    <a:pt x="15" y="937"/>
                  </a:lnTo>
                  <a:lnTo>
                    <a:pt x="7" y="879"/>
                  </a:lnTo>
                  <a:lnTo>
                    <a:pt x="1" y="816"/>
                  </a:lnTo>
                  <a:lnTo>
                    <a:pt x="0" y="748"/>
                  </a:lnTo>
                  <a:lnTo>
                    <a:pt x="0" y="710"/>
                  </a:lnTo>
                  <a:lnTo>
                    <a:pt x="2" y="673"/>
                  </a:lnTo>
                  <a:lnTo>
                    <a:pt x="5" y="636"/>
                  </a:lnTo>
                  <a:lnTo>
                    <a:pt x="9" y="601"/>
                  </a:lnTo>
                  <a:lnTo>
                    <a:pt x="15" y="565"/>
                  </a:lnTo>
                  <a:lnTo>
                    <a:pt x="21" y="530"/>
                  </a:lnTo>
                  <a:lnTo>
                    <a:pt x="29" y="495"/>
                  </a:lnTo>
                  <a:lnTo>
                    <a:pt x="38" y="462"/>
                  </a:lnTo>
                  <a:lnTo>
                    <a:pt x="48" y="430"/>
                  </a:lnTo>
                  <a:lnTo>
                    <a:pt x="60" y="397"/>
                  </a:lnTo>
                  <a:lnTo>
                    <a:pt x="73" y="366"/>
                  </a:lnTo>
                  <a:lnTo>
                    <a:pt x="87" y="336"/>
                  </a:lnTo>
                  <a:lnTo>
                    <a:pt x="103" y="306"/>
                  </a:lnTo>
                  <a:lnTo>
                    <a:pt x="120" y="277"/>
                  </a:lnTo>
                  <a:lnTo>
                    <a:pt x="139" y="249"/>
                  </a:lnTo>
                  <a:lnTo>
                    <a:pt x="159" y="223"/>
                  </a:lnTo>
                  <a:lnTo>
                    <a:pt x="179" y="197"/>
                  </a:lnTo>
                  <a:lnTo>
                    <a:pt x="202" y="173"/>
                  </a:lnTo>
                  <a:lnTo>
                    <a:pt x="226" y="151"/>
                  </a:lnTo>
                  <a:lnTo>
                    <a:pt x="251" y="131"/>
                  </a:lnTo>
                  <a:lnTo>
                    <a:pt x="278" y="111"/>
                  </a:lnTo>
                  <a:lnTo>
                    <a:pt x="306" y="92"/>
                  </a:lnTo>
                  <a:lnTo>
                    <a:pt x="336" y="75"/>
                  </a:lnTo>
                  <a:lnTo>
                    <a:pt x="367" y="60"/>
                  </a:lnTo>
                  <a:lnTo>
                    <a:pt x="400" y="46"/>
                  </a:lnTo>
                  <a:lnTo>
                    <a:pt x="434" y="34"/>
                  </a:lnTo>
                  <a:lnTo>
                    <a:pt x="470" y="23"/>
                  </a:lnTo>
                  <a:lnTo>
                    <a:pt x="506" y="15"/>
                  </a:lnTo>
                  <a:lnTo>
                    <a:pt x="545" y="8"/>
                  </a:lnTo>
                  <a:lnTo>
                    <a:pt x="585" y="3"/>
                  </a:lnTo>
                  <a:lnTo>
                    <a:pt x="626" y="1"/>
                  </a:lnTo>
                  <a:lnTo>
                    <a:pt x="669" y="0"/>
                  </a:lnTo>
                  <a:lnTo>
                    <a:pt x="713" y="1"/>
                  </a:lnTo>
                  <a:lnTo>
                    <a:pt x="755" y="5"/>
                  </a:lnTo>
                  <a:lnTo>
                    <a:pt x="793" y="9"/>
                  </a:lnTo>
                  <a:lnTo>
                    <a:pt x="830" y="16"/>
                  </a:lnTo>
                  <a:lnTo>
                    <a:pt x="863" y="27"/>
                  </a:lnTo>
                  <a:lnTo>
                    <a:pt x="895" y="37"/>
                  </a:lnTo>
                  <a:lnTo>
                    <a:pt x="923" y="51"/>
                  </a:lnTo>
                  <a:lnTo>
                    <a:pt x="949" y="67"/>
                  </a:lnTo>
                  <a:lnTo>
                    <a:pt x="971" y="84"/>
                  </a:lnTo>
                  <a:lnTo>
                    <a:pt x="982" y="94"/>
                  </a:lnTo>
                  <a:lnTo>
                    <a:pt x="991" y="104"/>
                  </a:lnTo>
                  <a:lnTo>
                    <a:pt x="1000" y="114"/>
                  </a:lnTo>
                  <a:lnTo>
                    <a:pt x="1009" y="125"/>
                  </a:lnTo>
                  <a:lnTo>
                    <a:pt x="1015" y="135"/>
                  </a:lnTo>
                  <a:lnTo>
                    <a:pt x="1022" y="148"/>
                  </a:lnTo>
                  <a:lnTo>
                    <a:pt x="1028" y="159"/>
                  </a:lnTo>
                  <a:lnTo>
                    <a:pt x="1033" y="172"/>
                  </a:lnTo>
                  <a:lnTo>
                    <a:pt x="1037" y="185"/>
                  </a:lnTo>
                  <a:lnTo>
                    <a:pt x="1041" y="197"/>
                  </a:lnTo>
                  <a:lnTo>
                    <a:pt x="1044" y="211"/>
                  </a:lnTo>
                  <a:lnTo>
                    <a:pt x="1045" y="225"/>
                  </a:lnTo>
                  <a:lnTo>
                    <a:pt x="1047" y="240"/>
                  </a:lnTo>
                  <a:close/>
                  <a:moveTo>
                    <a:pt x="712" y="271"/>
                  </a:moveTo>
                  <a:lnTo>
                    <a:pt x="711" y="251"/>
                  </a:lnTo>
                  <a:lnTo>
                    <a:pt x="710" y="231"/>
                  </a:lnTo>
                  <a:lnTo>
                    <a:pt x="708" y="212"/>
                  </a:lnTo>
                  <a:lnTo>
                    <a:pt x="705" y="195"/>
                  </a:lnTo>
                  <a:lnTo>
                    <a:pt x="701" y="180"/>
                  </a:lnTo>
                  <a:lnTo>
                    <a:pt x="699" y="172"/>
                  </a:lnTo>
                  <a:lnTo>
                    <a:pt x="697" y="165"/>
                  </a:lnTo>
                  <a:lnTo>
                    <a:pt x="694" y="158"/>
                  </a:lnTo>
                  <a:lnTo>
                    <a:pt x="691" y="152"/>
                  </a:lnTo>
                  <a:lnTo>
                    <a:pt x="688" y="147"/>
                  </a:lnTo>
                  <a:lnTo>
                    <a:pt x="685" y="141"/>
                  </a:lnTo>
                  <a:lnTo>
                    <a:pt x="682" y="135"/>
                  </a:lnTo>
                  <a:lnTo>
                    <a:pt x="678" y="131"/>
                  </a:lnTo>
                  <a:lnTo>
                    <a:pt x="674" y="126"/>
                  </a:lnTo>
                  <a:lnTo>
                    <a:pt x="670" y="121"/>
                  </a:lnTo>
                  <a:lnTo>
                    <a:pt x="666" y="117"/>
                  </a:lnTo>
                  <a:lnTo>
                    <a:pt x="661" y="113"/>
                  </a:lnTo>
                  <a:lnTo>
                    <a:pt x="657" y="110"/>
                  </a:lnTo>
                  <a:lnTo>
                    <a:pt x="652" y="107"/>
                  </a:lnTo>
                  <a:lnTo>
                    <a:pt x="646" y="104"/>
                  </a:lnTo>
                  <a:lnTo>
                    <a:pt x="641" y="102"/>
                  </a:lnTo>
                  <a:lnTo>
                    <a:pt x="629" y="98"/>
                  </a:lnTo>
                  <a:lnTo>
                    <a:pt x="617" y="97"/>
                  </a:lnTo>
                  <a:lnTo>
                    <a:pt x="604" y="96"/>
                  </a:lnTo>
                  <a:lnTo>
                    <a:pt x="590" y="96"/>
                  </a:lnTo>
                  <a:lnTo>
                    <a:pt x="576" y="98"/>
                  </a:lnTo>
                  <a:lnTo>
                    <a:pt x="564" y="100"/>
                  </a:lnTo>
                  <a:lnTo>
                    <a:pt x="551" y="104"/>
                  </a:lnTo>
                  <a:lnTo>
                    <a:pt x="539" y="109"/>
                  </a:lnTo>
                  <a:lnTo>
                    <a:pt x="526" y="113"/>
                  </a:lnTo>
                  <a:lnTo>
                    <a:pt x="515" y="120"/>
                  </a:lnTo>
                  <a:lnTo>
                    <a:pt x="504" y="127"/>
                  </a:lnTo>
                  <a:lnTo>
                    <a:pt x="493" y="135"/>
                  </a:lnTo>
                  <a:lnTo>
                    <a:pt x="482" y="144"/>
                  </a:lnTo>
                  <a:lnTo>
                    <a:pt x="472" y="155"/>
                  </a:lnTo>
                  <a:lnTo>
                    <a:pt x="462" y="166"/>
                  </a:lnTo>
                  <a:lnTo>
                    <a:pt x="452" y="179"/>
                  </a:lnTo>
                  <a:lnTo>
                    <a:pt x="443" y="192"/>
                  </a:lnTo>
                  <a:lnTo>
                    <a:pt x="434" y="207"/>
                  </a:lnTo>
                  <a:lnTo>
                    <a:pt x="426" y="222"/>
                  </a:lnTo>
                  <a:lnTo>
                    <a:pt x="410" y="254"/>
                  </a:lnTo>
                  <a:lnTo>
                    <a:pt x="396" y="291"/>
                  </a:lnTo>
                  <a:lnTo>
                    <a:pt x="382" y="330"/>
                  </a:lnTo>
                  <a:lnTo>
                    <a:pt x="372" y="374"/>
                  </a:lnTo>
                  <a:lnTo>
                    <a:pt x="362" y="420"/>
                  </a:lnTo>
                  <a:lnTo>
                    <a:pt x="353" y="470"/>
                  </a:lnTo>
                  <a:lnTo>
                    <a:pt x="347" y="522"/>
                  </a:lnTo>
                  <a:lnTo>
                    <a:pt x="341" y="579"/>
                  </a:lnTo>
                  <a:lnTo>
                    <a:pt x="470" y="554"/>
                  </a:lnTo>
                  <a:lnTo>
                    <a:pt x="505" y="546"/>
                  </a:lnTo>
                  <a:lnTo>
                    <a:pt x="537" y="537"/>
                  </a:lnTo>
                  <a:lnTo>
                    <a:pt x="566" y="527"/>
                  </a:lnTo>
                  <a:lnTo>
                    <a:pt x="592" y="514"/>
                  </a:lnTo>
                  <a:lnTo>
                    <a:pt x="614" y="501"/>
                  </a:lnTo>
                  <a:lnTo>
                    <a:pt x="625" y="494"/>
                  </a:lnTo>
                  <a:lnTo>
                    <a:pt x="634" y="486"/>
                  </a:lnTo>
                  <a:lnTo>
                    <a:pt x="643" y="478"/>
                  </a:lnTo>
                  <a:lnTo>
                    <a:pt x="651" y="470"/>
                  </a:lnTo>
                  <a:lnTo>
                    <a:pt x="658" y="462"/>
                  </a:lnTo>
                  <a:lnTo>
                    <a:pt x="664" y="453"/>
                  </a:lnTo>
                  <a:lnTo>
                    <a:pt x="675" y="434"/>
                  </a:lnTo>
                  <a:lnTo>
                    <a:pt x="685" y="415"/>
                  </a:lnTo>
                  <a:lnTo>
                    <a:pt x="693" y="393"/>
                  </a:lnTo>
                  <a:lnTo>
                    <a:pt x="700" y="371"/>
                  </a:lnTo>
                  <a:lnTo>
                    <a:pt x="705" y="348"/>
                  </a:lnTo>
                  <a:lnTo>
                    <a:pt x="708" y="323"/>
                  </a:lnTo>
                  <a:lnTo>
                    <a:pt x="711" y="298"/>
                  </a:lnTo>
                  <a:close/>
                  <a:moveTo>
                    <a:pt x="654" y="1065"/>
                  </a:moveTo>
                  <a:lnTo>
                    <a:pt x="659" y="1052"/>
                  </a:lnTo>
                  <a:lnTo>
                    <a:pt x="663" y="1039"/>
                  </a:lnTo>
                  <a:lnTo>
                    <a:pt x="667" y="1027"/>
                  </a:lnTo>
                  <a:lnTo>
                    <a:pt x="670" y="1014"/>
                  </a:lnTo>
                  <a:lnTo>
                    <a:pt x="673" y="1000"/>
                  </a:lnTo>
                  <a:lnTo>
                    <a:pt x="676" y="987"/>
                  </a:lnTo>
                  <a:lnTo>
                    <a:pt x="678" y="975"/>
                  </a:lnTo>
                  <a:lnTo>
                    <a:pt x="680" y="961"/>
                  </a:lnTo>
                  <a:lnTo>
                    <a:pt x="683" y="934"/>
                  </a:lnTo>
                  <a:lnTo>
                    <a:pt x="685" y="908"/>
                  </a:lnTo>
                  <a:lnTo>
                    <a:pt x="686" y="880"/>
                  </a:lnTo>
                  <a:lnTo>
                    <a:pt x="687" y="853"/>
                  </a:lnTo>
                  <a:lnTo>
                    <a:pt x="686" y="833"/>
                  </a:lnTo>
                  <a:lnTo>
                    <a:pt x="684" y="812"/>
                  </a:lnTo>
                  <a:lnTo>
                    <a:pt x="681" y="792"/>
                  </a:lnTo>
                  <a:lnTo>
                    <a:pt x="677" y="774"/>
                  </a:lnTo>
                  <a:lnTo>
                    <a:pt x="674" y="764"/>
                  </a:lnTo>
                  <a:lnTo>
                    <a:pt x="671" y="756"/>
                  </a:lnTo>
                  <a:lnTo>
                    <a:pt x="668" y="748"/>
                  </a:lnTo>
                  <a:lnTo>
                    <a:pt x="664" y="739"/>
                  </a:lnTo>
                  <a:lnTo>
                    <a:pt x="660" y="732"/>
                  </a:lnTo>
                  <a:lnTo>
                    <a:pt x="656" y="724"/>
                  </a:lnTo>
                  <a:lnTo>
                    <a:pt x="647" y="709"/>
                  </a:lnTo>
                  <a:lnTo>
                    <a:pt x="642" y="702"/>
                  </a:lnTo>
                  <a:lnTo>
                    <a:pt x="636" y="695"/>
                  </a:lnTo>
                  <a:lnTo>
                    <a:pt x="630" y="689"/>
                  </a:lnTo>
                  <a:lnTo>
                    <a:pt x="624" y="684"/>
                  </a:lnTo>
                  <a:lnTo>
                    <a:pt x="617" y="679"/>
                  </a:lnTo>
                  <a:lnTo>
                    <a:pt x="610" y="674"/>
                  </a:lnTo>
                  <a:lnTo>
                    <a:pt x="602" y="670"/>
                  </a:lnTo>
                  <a:lnTo>
                    <a:pt x="594" y="666"/>
                  </a:lnTo>
                  <a:lnTo>
                    <a:pt x="577" y="659"/>
                  </a:lnTo>
                  <a:lnTo>
                    <a:pt x="559" y="655"/>
                  </a:lnTo>
                  <a:lnTo>
                    <a:pt x="538" y="652"/>
                  </a:lnTo>
                  <a:lnTo>
                    <a:pt x="516" y="651"/>
                  </a:lnTo>
                  <a:lnTo>
                    <a:pt x="488" y="652"/>
                  </a:lnTo>
                  <a:lnTo>
                    <a:pt x="461" y="654"/>
                  </a:lnTo>
                  <a:lnTo>
                    <a:pt x="436" y="657"/>
                  </a:lnTo>
                  <a:lnTo>
                    <a:pt x="413" y="663"/>
                  </a:lnTo>
                  <a:lnTo>
                    <a:pt x="330" y="682"/>
                  </a:lnTo>
                  <a:lnTo>
                    <a:pt x="327" y="733"/>
                  </a:lnTo>
                  <a:lnTo>
                    <a:pt x="327" y="748"/>
                  </a:lnTo>
                  <a:lnTo>
                    <a:pt x="327" y="762"/>
                  </a:lnTo>
                  <a:lnTo>
                    <a:pt x="327" y="791"/>
                  </a:lnTo>
                  <a:lnTo>
                    <a:pt x="327" y="840"/>
                  </a:lnTo>
                  <a:lnTo>
                    <a:pt x="329" y="885"/>
                  </a:lnTo>
                  <a:lnTo>
                    <a:pt x="332" y="926"/>
                  </a:lnTo>
                  <a:lnTo>
                    <a:pt x="336" y="965"/>
                  </a:lnTo>
                  <a:lnTo>
                    <a:pt x="342" y="1000"/>
                  </a:lnTo>
                  <a:lnTo>
                    <a:pt x="348" y="1031"/>
                  </a:lnTo>
                  <a:lnTo>
                    <a:pt x="356" y="1059"/>
                  </a:lnTo>
                  <a:lnTo>
                    <a:pt x="360" y="1072"/>
                  </a:lnTo>
                  <a:lnTo>
                    <a:pt x="365" y="1083"/>
                  </a:lnTo>
                  <a:lnTo>
                    <a:pt x="370" y="1094"/>
                  </a:lnTo>
                  <a:lnTo>
                    <a:pt x="376" y="1104"/>
                  </a:lnTo>
                  <a:lnTo>
                    <a:pt x="382" y="1114"/>
                  </a:lnTo>
                  <a:lnTo>
                    <a:pt x="389" y="1122"/>
                  </a:lnTo>
                  <a:lnTo>
                    <a:pt x="396" y="1131"/>
                  </a:lnTo>
                  <a:lnTo>
                    <a:pt x="404" y="1139"/>
                  </a:lnTo>
                  <a:lnTo>
                    <a:pt x="412" y="1144"/>
                  </a:lnTo>
                  <a:lnTo>
                    <a:pt x="421" y="1151"/>
                  </a:lnTo>
                  <a:lnTo>
                    <a:pt x="431" y="1156"/>
                  </a:lnTo>
                  <a:lnTo>
                    <a:pt x="441" y="1161"/>
                  </a:lnTo>
                  <a:lnTo>
                    <a:pt x="451" y="1164"/>
                  </a:lnTo>
                  <a:lnTo>
                    <a:pt x="462" y="1167"/>
                  </a:lnTo>
                  <a:lnTo>
                    <a:pt x="485" y="1172"/>
                  </a:lnTo>
                  <a:lnTo>
                    <a:pt x="511" y="1173"/>
                  </a:lnTo>
                  <a:lnTo>
                    <a:pt x="525" y="1173"/>
                  </a:lnTo>
                  <a:lnTo>
                    <a:pt x="537" y="1171"/>
                  </a:lnTo>
                  <a:lnTo>
                    <a:pt x="549" y="1169"/>
                  </a:lnTo>
                  <a:lnTo>
                    <a:pt x="560" y="1165"/>
                  </a:lnTo>
                  <a:lnTo>
                    <a:pt x="571" y="1161"/>
                  </a:lnTo>
                  <a:lnTo>
                    <a:pt x="582" y="1156"/>
                  </a:lnTo>
                  <a:lnTo>
                    <a:pt x="591" y="1149"/>
                  </a:lnTo>
                  <a:lnTo>
                    <a:pt x="600" y="1142"/>
                  </a:lnTo>
                  <a:lnTo>
                    <a:pt x="609" y="1134"/>
                  </a:lnTo>
                  <a:lnTo>
                    <a:pt x="617" y="1126"/>
                  </a:lnTo>
                  <a:lnTo>
                    <a:pt x="624" y="1117"/>
                  </a:lnTo>
                  <a:lnTo>
                    <a:pt x="631" y="1107"/>
                  </a:lnTo>
                  <a:lnTo>
                    <a:pt x="638" y="1097"/>
                  </a:lnTo>
                  <a:lnTo>
                    <a:pt x="644" y="1087"/>
                  </a:lnTo>
                  <a:lnTo>
                    <a:pt x="649" y="1076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78680" y="627120"/>
              <a:ext cx="434880" cy="455400"/>
            </a:xfrm>
            <a:custGeom>
              <a:avLst/>
              <a:gdLst/>
              <a:ahLst/>
              <a:rect l="l" t="t" r="r" b="b"/>
              <a:pathLst>
                <a:path w="1209" h="1265">
                  <a:moveTo>
                    <a:pt x="665" y="1077"/>
                  </a:moveTo>
                  <a:lnTo>
                    <a:pt x="658" y="1077"/>
                  </a:lnTo>
                  <a:lnTo>
                    <a:pt x="593" y="1143"/>
                  </a:lnTo>
                  <a:lnTo>
                    <a:pt x="586" y="1151"/>
                  </a:lnTo>
                  <a:lnTo>
                    <a:pt x="578" y="1158"/>
                  </a:lnTo>
                  <a:lnTo>
                    <a:pt x="559" y="1173"/>
                  </a:lnTo>
                  <a:lnTo>
                    <a:pt x="539" y="1188"/>
                  </a:lnTo>
                  <a:lnTo>
                    <a:pt x="518" y="1203"/>
                  </a:lnTo>
                  <a:lnTo>
                    <a:pt x="498" y="1216"/>
                  </a:lnTo>
                  <a:lnTo>
                    <a:pt x="477" y="1228"/>
                  </a:lnTo>
                  <a:lnTo>
                    <a:pt x="455" y="1238"/>
                  </a:lnTo>
                  <a:lnTo>
                    <a:pt x="433" y="1247"/>
                  </a:lnTo>
                  <a:lnTo>
                    <a:pt x="422" y="1252"/>
                  </a:lnTo>
                  <a:lnTo>
                    <a:pt x="410" y="1255"/>
                  </a:lnTo>
                  <a:lnTo>
                    <a:pt x="399" y="1258"/>
                  </a:lnTo>
                  <a:lnTo>
                    <a:pt x="386" y="1260"/>
                  </a:lnTo>
                  <a:lnTo>
                    <a:pt x="374" y="1262"/>
                  </a:lnTo>
                  <a:lnTo>
                    <a:pt x="361" y="1263"/>
                  </a:lnTo>
                  <a:lnTo>
                    <a:pt x="336" y="1264"/>
                  </a:lnTo>
                  <a:lnTo>
                    <a:pt x="295" y="1262"/>
                  </a:lnTo>
                  <a:lnTo>
                    <a:pt x="257" y="1256"/>
                  </a:lnTo>
                  <a:lnTo>
                    <a:pt x="222" y="1247"/>
                  </a:lnTo>
                  <a:lnTo>
                    <a:pt x="206" y="1241"/>
                  </a:lnTo>
                  <a:lnTo>
                    <a:pt x="189" y="1234"/>
                  </a:lnTo>
                  <a:lnTo>
                    <a:pt x="174" y="1225"/>
                  </a:lnTo>
                  <a:lnTo>
                    <a:pt x="159" y="1216"/>
                  </a:lnTo>
                  <a:lnTo>
                    <a:pt x="146" y="1207"/>
                  </a:lnTo>
                  <a:lnTo>
                    <a:pt x="132" y="1195"/>
                  </a:lnTo>
                  <a:lnTo>
                    <a:pt x="119" y="1184"/>
                  </a:lnTo>
                  <a:lnTo>
                    <a:pt x="108" y="1170"/>
                  </a:lnTo>
                  <a:lnTo>
                    <a:pt x="96" y="1156"/>
                  </a:lnTo>
                  <a:lnTo>
                    <a:pt x="85" y="1141"/>
                  </a:lnTo>
                  <a:lnTo>
                    <a:pt x="75" y="1125"/>
                  </a:lnTo>
                  <a:lnTo>
                    <a:pt x="65" y="1109"/>
                  </a:lnTo>
                  <a:lnTo>
                    <a:pt x="56" y="1091"/>
                  </a:lnTo>
                  <a:lnTo>
                    <a:pt x="48" y="1074"/>
                  </a:lnTo>
                  <a:lnTo>
                    <a:pt x="40" y="1055"/>
                  </a:lnTo>
                  <a:lnTo>
                    <a:pt x="34" y="1036"/>
                  </a:lnTo>
                  <a:lnTo>
                    <a:pt x="27" y="1015"/>
                  </a:lnTo>
                  <a:lnTo>
                    <a:pt x="22" y="994"/>
                  </a:lnTo>
                  <a:lnTo>
                    <a:pt x="12" y="950"/>
                  </a:lnTo>
                  <a:lnTo>
                    <a:pt x="5" y="904"/>
                  </a:lnTo>
                  <a:lnTo>
                    <a:pt x="2" y="855"/>
                  </a:lnTo>
                  <a:lnTo>
                    <a:pt x="0" y="801"/>
                  </a:lnTo>
                  <a:lnTo>
                    <a:pt x="1" y="761"/>
                  </a:lnTo>
                  <a:lnTo>
                    <a:pt x="4" y="721"/>
                  </a:lnTo>
                  <a:lnTo>
                    <a:pt x="7" y="680"/>
                  </a:lnTo>
                  <a:lnTo>
                    <a:pt x="12" y="641"/>
                  </a:lnTo>
                  <a:lnTo>
                    <a:pt x="19" y="603"/>
                  </a:lnTo>
                  <a:lnTo>
                    <a:pt x="27" y="565"/>
                  </a:lnTo>
                  <a:lnTo>
                    <a:pt x="37" y="528"/>
                  </a:lnTo>
                  <a:lnTo>
                    <a:pt x="48" y="491"/>
                  </a:lnTo>
                  <a:lnTo>
                    <a:pt x="59" y="455"/>
                  </a:lnTo>
                  <a:lnTo>
                    <a:pt x="73" y="420"/>
                  </a:lnTo>
                  <a:lnTo>
                    <a:pt x="87" y="387"/>
                  </a:lnTo>
                  <a:lnTo>
                    <a:pt x="102" y="355"/>
                  </a:lnTo>
                  <a:lnTo>
                    <a:pt x="118" y="323"/>
                  </a:lnTo>
                  <a:lnTo>
                    <a:pt x="135" y="293"/>
                  </a:lnTo>
                  <a:lnTo>
                    <a:pt x="153" y="263"/>
                  </a:lnTo>
                  <a:lnTo>
                    <a:pt x="173" y="236"/>
                  </a:lnTo>
                  <a:lnTo>
                    <a:pt x="193" y="209"/>
                  </a:lnTo>
                  <a:lnTo>
                    <a:pt x="214" y="184"/>
                  </a:lnTo>
                  <a:lnTo>
                    <a:pt x="236" y="161"/>
                  </a:lnTo>
                  <a:lnTo>
                    <a:pt x="259" y="139"/>
                  </a:lnTo>
                  <a:lnTo>
                    <a:pt x="282" y="118"/>
                  </a:lnTo>
                  <a:lnTo>
                    <a:pt x="306" y="98"/>
                  </a:lnTo>
                  <a:lnTo>
                    <a:pt x="332" y="80"/>
                  </a:lnTo>
                  <a:lnTo>
                    <a:pt x="358" y="64"/>
                  </a:lnTo>
                  <a:lnTo>
                    <a:pt x="385" y="49"/>
                  </a:lnTo>
                  <a:lnTo>
                    <a:pt x="412" y="36"/>
                  </a:lnTo>
                  <a:lnTo>
                    <a:pt x="440" y="24"/>
                  </a:lnTo>
                  <a:lnTo>
                    <a:pt x="467" y="16"/>
                  </a:lnTo>
                  <a:lnTo>
                    <a:pt x="495" y="9"/>
                  </a:lnTo>
                  <a:lnTo>
                    <a:pt x="524" y="3"/>
                  </a:lnTo>
                  <a:lnTo>
                    <a:pt x="553" y="1"/>
                  </a:lnTo>
                  <a:lnTo>
                    <a:pt x="582" y="0"/>
                  </a:lnTo>
                  <a:lnTo>
                    <a:pt x="623" y="1"/>
                  </a:lnTo>
                  <a:lnTo>
                    <a:pt x="643" y="3"/>
                  </a:lnTo>
                  <a:lnTo>
                    <a:pt x="663" y="6"/>
                  </a:lnTo>
                  <a:lnTo>
                    <a:pt x="681" y="9"/>
                  </a:lnTo>
                  <a:lnTo>
                    <a:pt x="698" y="14"/>
                  </a:lnTo>
                  <a:lnTo>
                    <a:pt x="716" y="20"/>
                  </a:lnTo>
                  <a:lnTo>
                    <a:pt x="732" y="25"/>
                  </a:lnTo>
                  <a:lnTo>
                    <a:pt x="748" y="32"/>
                  </a:lnTo>
                  <a:lnTo>
                    <a:pt x="763" y="39"/>
                  </a:lnTo>
                  <a:lnTo>
                    <a:pt x="777" y="47"/>
                  </a:lnTo>
                  <a:lnTo>
                    <a:pt x="791" y="55"/>
                  </a:lnTo>
                  <a:lnTo>
                    <a:pt x="804" y="65"/>
                  </a:lnTo>
                  <a:lnTo>
                    <a:pt x="816" y="74"/>
                  </a:lnTo>
                  <a:lnTo>
                    <a:pt x="827" y="84"/>
                  </a:lnTo>
                  <a:lnTo>
                    <a:pt x="838" y="95"/>
                  </a:lnTo>
                  <a:lnTo>
                    <a:pt x="1132" y="18"/>
                  </a:lnTo>
                  <a:lnTo>
                    <a:pt x="1146" y="37"/>
                  </a:lnTo>
                  <a:lnTo>
                    <a:pt x="1005" y="782"/>
                  </a:lnTo>
                  <a:lnTo>
                    <a:pt x="1001" y="801"/>
                  </a:lnTo>
                  <a:lnTo>
                    <a:pt x="997" y="825"/>
                  </a:lnTo>
                  <a:lnTo>
                    <a:pt x="989" y="875"/>
                  </a:lnTo>
                  <a:lnTo>
                    <a:pt x="984" y="902"/>
                  </a:lnTo>
                  <a:lnTo>
                    <a:pt x="982" y="925"/>
                  </a:lnTo>
                  <a:lnTo>
                    <a:pt x="981" y="945"/>
                  </a:lnTo>
                  <a:lnTo>
                    <a:pt x="980" y="954"/>
                  </a:lnTo>
                  <a:lnTo>
                    <a:pt x="980" y="961"/>
                  </a:lnTo>
                  <a:lnTo>
                    <a:pt x="980" y="977"/>
                  </a:lnTo>
                  <a:lnTo>
                    <a:pt x="982" y="993"/>
                  </a:lnTo>
                  <a:lnTo>
                    <a:pt x="984" y="1007"/>
                  </a:lnTo>
                  <a:lnTo>
                    <a:pt x="985" y="1014"/>
                  </a:lnTo>
                  <a:lnTo>
                    <a:pt x="987" y="1020"/>
                  </a:lnTo>
                  <a:lnTo>
                    <a:pt x="988" y="1025"/>
                  </a:lnTo>
                  <a:lnTo>
                    <a:pt x="990" y="1031"/>
                  </a:lnTo>
                  <a:lnTo>
                    <a:pt x="992" y="1036"/>
                  </a:lnTo>
                  <a:lnTo>
                    <a:pt x="994" y="1040"/>
                  </a:lnTo>
                  <a:lnTo>
                    <a:pt x="997" y="1045"/>
                  </a:lnTo>
                  <a:lnTo>
                    <a:pt x="999" y="1050"/>
                  </a:lnTo>
                  <a:lnTo>
                    <a:pt x="1002" y="1053"/>
                  </a:lnTo>
                  <a:lnTo>
                    <a:pt x="1005" y="1057"/>
                  </a:lnTo>
                  <a:lnTo>
                    <a:pt x="1009" y="1060"/>
                  </a:lnTo>
                  <a:lnTo>
                    <a:pt x="1012" y="1062"/>
                  </a:lnTo>
                  <a:lnTo>
                    <a:pt x="1016" y="1066"/>
                  </a:lnTo>
                  <a:lnTo>
                    <a:pt x="1020" y="1068"/>
                  </a:lnTo>
                  <a:lnTo>
                    <a:pt x="1029" y="1073"/>
                  </a:lnTo>
                  <a:lnTo>
                    <a:pt x="1039" y="1076"/>
                  </a:lnTo>
                  <a:lnTo>
                    <a:pt x="1050" y="1079"/>
                  </a:lnTo>
                  <a:lnTo>
                    <a:pt x="1063" y="1081"/>
                  </a:lnTo>
                  <a:lnTo>
                    <a:pt x="1076" y="1082"/>
                  </a:lnTo>
                  <a:lnTo>
                    <a:pt x="1091" y="1082"/>
                  </a:lnTo>
                  <a:lnTo>
                    <a:pt x="1098" y="1082"/>
                  </a:lnTo>
                  <a:lnTo>
                    <a:pt x="1105" y="1081"/>
                  </a:lnTo>
                  <a:lnTo>
                    <a:pt x="1120" y="1079"/>
                  </a:lnTo>
                  <a:lnTo>
                    <a:pt x="1138" y="1075"/>
                  </a:lnTo>
                  <a:lnTo>
                    <a:pt x="1156" y="1069"/>
                  </a:lnTo>
                  <a:lnTo>
                    <a:pt x="1187" y="1057"/>
                  </a:lnTo>
                  <a:lnTo>
                    <a:pt x="1199" y="1052"/>
                  </a:lnTo>
                  <a:lnTo>
                    <a:pt x="1204" y="1050"/>
                  </a:lnTo>
                  <a:lnTo>
                    <a:pt x="1208" y="1047"/>
                  </a:lnTo>
                  <a:lnTo>
                    <a:pt x="1187" y="1156"/>
                  </a:lnTo>
                  <a:lnTo>
                    <a:pt x="1036" y="1228"/>
                  </a:lnTo>
                  <a:lnTo>
                    <a:pt x="1021" y="1233"/>
                  </a:lnTo>
                  <a:lnTo>
                    <a:pt x="1006" y="1239"/>
                  </a:lnTo>
                  <a:lnTo>
                    <a:pt x="990" y="1244"/>
                  </a:lnTo>
                  <a:lnTo>
                    <a:pt x="975" y="1247"/>
                  </a:lnTo>
                  <a:lnTo>
                    <a:pt x="958" y="1249"/>
                  </a:lnTo>
                  <a:lnTo>
                    <a:pt x="940" y="1252"/>
                  </a:lnTo>
                  <a:lnTo>
                    <a:pt x="922" y="1253"/>
                  </a:lnTo>
                  <a:lnTo>
                    <a:pt x="904" y="1253"/>
                  </a:lnTo>
                  <a:lnTo>
                    <a:pt x="880" y="1252"/>
                  </a:lnTo>
                  <a:lnTo>
                    <a:pt x="857" y="1249"/>
                  </a:lnTo>
                  <a:lnTo>
                    <a:pt x="836" y="1246"/>
                  </a:lnTo>
                  <a:lnTo>
                    <a:pt x="816" y="1241"/>
                  </a:lnTo>
                  <a:lnTo>
                    <a:pt x="796" y="1234"/>
                  </a:lnTo>
                  <a:lnTo>
                    <a:pt x="778" y="1225"/>
                  </a:lnTo>
                  <a:lnTo>
                    <a:pt x="762" y="1216"/>
                  </a:lnTo>
                  <a:lnTo>
                    <a:pt x="747" y="1204"/>
                  </a:lnTo>
                  <a:lnTo>
                    <a:pt x="732" y="1192"/>
                  </a:lnTo>
                  <a:lnTo>
                    <a:pt x="719" y="1178"/>
                  </a:lnTo>
                  <a:lnTo>
                    <a:pt x="707" y="1163"/>
                  </a:lnTo>
                  <a:lnTo>
                    <a:pt x="697" y="1148"/>
                  </a:lnTo>
                  <a:lnTo>
                    <a:pt x="688" y="1132"/>
                  </a:lnTo>
                  <a:lnTo>
                    <a:pt x="678" y="1114"/>
                  </a:lnTo>
                  <a:lnTo>
                    <a:pt x="671" y="1096"/>
                  </a:lnTo>
                  <a:close/>
                  <a:moveTo>
                    <a:pt x="779" y="309"/>
                  </a:moveTo>
                  <a:lnTo>
                    <a:pt x="779" y="303"/>
                  </a:lnTo>
                  <a:lnTo>
                    <a:pt x="778" y="296"/>
                  </a:lnTo>
                  <a:lnTo>
                    <a:pt x="777" y="281"/>
                  </a:lnTo>
                  <a:lnTo>
                    <a:pt x="776" y="264"/>
                  </a:lnTo>
                  <a:lnTo>
                    <a:pt x="773" y="247"/>
                  </a:lnTo>
                  <a:lnTo>
                    <a:pt x="772" y="238"/>
                  </a:lnTo>
                  <a:lnTo>
                    <a:pt x="770" y="230"/>
                  </a:lnTo>
                  <a:lnTo>
                    <a:pt x="767" y="222"/>
                  </a:lnTo>
                  <a:lnTo>
                    <a:pt x="765" y="214"/>
                  </a:lnTo>
                  <a:lnTo>
                    <a:pt x="762" y="206"/>
                  </a:lnTo>
                  <a:lnTo>
                    <a:pt x="760" y="199"/>
                  </a:lnTo>
                  <a:lnTo>
                    <a:pt x="757" y="192"/>
                  </a:lnTo>
                  <a:lnTo>
                    <a:pt x="753" y="185"/>
                  </a:lnTo>
                  <a:lnTo>
                    <a:pt x="749" y="177"/>
                  </a:lnTo>
                  <a:lnTo>
                    <a:pt x="744" y="170"/>
                  </a:lnTo>
                  <a:lnTo>
                    <a:pt x="739" y="163"/>
                  </a:lnTo>
                  <a:lnTo>
                    <a:pt x="733" y="157"/>
                  </a:lnTo>
                  <a:lnTo>
                    <a:pt x="727" y="151"/>
                  </a:lnTo>
                  <a:lnTo>
                    <a:pt x="722" y="147"/>
                  </a:lnTo>
                  <a:lnTo>
                    <a:pt x="715" y="142"/>
                  </a:lnTo>
                  <a:lnTo>
                    <a:pt x="708" y="137"/>
                  </a:lnTo>
                  <a:lnTo>
                    <a:pt x="701" y="134"/>
                  </a:lnTo>
                  <a:lnTo>
                    <a:pt x="693" y="131"/>
                  </a:lnTo>
                  <a:lnTo>
                    <a:pt x="686" y="127"/>
                  </a:lnTo>
                  <a:lnTo>
                    <a:pt x="678" y="125"/>
                  </a:lnTo>
                  <a:lnTo>
                    <a:pt x="668" y="124"/>
                  </a:lnTo>
                  <a:lnTo>
                    <a:pt x="659" y="122"/>
                  </a:lnTo>
                  <a:lnTo>
                    <a:pt x="649" y="121"/>
                  </a:lnTo>
                  <a:lnTo>
                    <a:pt x="639" y="121"/>
                  </a:lnTo>
                  <a:lnTo>
                    <a:pt x="623" y="122"/>
                  </a:lnTo>
                  <a:lnTo>
                    <a:pt x="608" y="125"/>
                  </a:lnTo>
                  <a:lnTo>
                    <a:pt x="593" y="129"/>
                  </a:lnTo>
                  <a:lnTo>
                    <a:pt x="579" y="135"/>
                  </a:lnTo>
                  <a:lnTo>
                    <a:pt x="564" y="143"/>
                  </a:lnTo>
                  <a:lnTo>
                    <a:pt x="550" y="152"/>
                  </a:lnTo>
                  <a:lnTo>
                    <a:pt x="537" y="164"/>
                  </a:lnTo>
                  <a:lnTo>
                    <a:pt x="524" y="178"/>
                  </a:lnTo>
                  <a:lnTo>
                    <a:pt x="510" y="193"/>
                  </a:lnTo>
                  <a:lnTo>
                    <a:pt x="498" y="209"/>
                  </a:lnTo>
                  <a:lnTo>
                    <a:pt x="485" y="228"/>
                  </a:lnTo>
                  <a:lnTo>
                    <a:pt x="474" y="246"/>
                  </a:lnTo>
                  <a:lnTo>
                    <a:pt x="462" y="266"/>
                  </a:lnTo>
                  <a:lnTo>
                    <a:pt x="451" y="286"/>
                  </a:lnTo>
                  <a:lnTo>
                    <a:pt x="440" y="308"/>
                  </a:lnTo>
                  <a:lnTo>
                    <a:pt x="430" y="331"/>
                  </a:lnTo>
                  <a:lnTo>
                    <a:pt x="420" y="356"/>
                  </a:lnTo>
                  <a:lnTo>
                    <a:pt x="410" y="380"/>
                  </a:lnTo>
                  <a:lnTo>
                    <a:pt x="402" y="406"/>
                  </a:lnTo>
                  <a:lnTo>
                    <a:pt x="394" y="433"/>
                  </a:lnTo>
                  <a:lnTo>
                    <a:pt x="386" y="461"/>
                  </a:lnTo>
                  <a:lnTo>
                    <a:pt x="379" y="491"/>
                  </a:lnTo>
                  <a:lnTo>
                    <a:pt x="372" y="520"/>
                  </a:lnTo>
                  <a:lnTo>
                    <a:pt x="366" y="551"/>
                  </a:lnTo>
                  <a:lnTo>
                    <a:pt x="356" y="613"/>
                  </a:lnTo>
                  <a:lnTo>
                    <a:pt x="349" y="677"/>
                  </a:lnTo>
                  <a:lnTo>
                    <a:pt x="345" y="741"/>
                  </a:lnTo>
                  <a:lnTo>
                    <a:pt x="343" y="774"/>
                  </a:lnTo>
                  <a:lnTo>
                    <a:pt x="343" y="806"/>
                  </a:lnTo>
                  <a:lnTo>
                    <a:pt x="344" y="836"/>
                  </a:lnTo>
                  <a:lnTo>
                    <a:pt x="345" y="864"/>
                  </a:lnTo>
                  <a:lnTo>
                    <a:pt x="347" y="890"/>
                  </a:lnTo>
                  <a:lnTo>
                    <a:pt x="351" y="917"/>
                  </a:lnTo>
                  <a:lnTo>
                    <a:pt x="352" y="930"/>
                  </a:lnTo>
                  <a:lnTo>
                    <a:pt x="355" y="941"/>
                  </a:lnTo>
                  <a:lnTo>
                    <a:pt x="357" y="953"/>
                  </a:lnTo>
                  <a:lnTo>
                    <a:pt x="360" y="963"/>
                  </a:lnTo>
                  <a:lnTo>
                    <a:pt x="363" y="973"/>
                  </a:lnTo>
                  <a:lnTo>
                    <a:pt x="366" y="984"/>
                  </a:lnTo>
                  <a:lnTo>
                    <a:pt x="370" y="993"/>
                  </a:lnTo>
                  <a:lnTo>
                    <a:pt x="374" y="1002"/>
                  </a:lnTo>
                  <a:lnTo>
                    <a:pt x="378" y="1012"/>
                  </a:lnTo>
                  <a:lnTo>
                    <a:pt x="383" y="1020"/>
                  </a:lnTo>
                  <a:lnTo>
                    <a:pt x="389" y="1028"/>
                  </a:lnTo>
                  <a:lnTo>
                    <a:pt x="394" y="1036"/>
                  </a:lnTo>
                  <a:lnTo>
                    <a:pt x="400" y="1043"/>
                  </a:lnTo>
                  <a:lnTo>
                    <a:pt x="406" y="1049"/>
                  </a:lnTo>
                  <a:lnTo>
                    <a:pt x="413" y="1054"/>
                  </a:lnTo>
                  <a:lnTo>
                    <a:pt x="420" y="1060"/>
                  </a:lnTo>
                  <a:lnTo>
                    <a:pt x="428" y="1065"/>
                  </a:lnTo>
                  <a:lnTo>
                    <a:pt x="435" y="1069"/>
                  </a:lnTo>
                  <a:lnTo>
                    <a:pt x="444" y="1073"/>
                  </a:lnTo>
                  <a:lnTo>
                    <a:pt x="453" y="1076"/>
                  </a:lnTo>
                  <a:lnTo>
                    <a:pt x="462" y="1077"/>
                  </a:lnTo>
                  <a:lnTo>
                    <a:pt x="472" y="1080"/>
                  </a:lnTo>
                  <a:lnTo>
                    <a:pt x="483" y="1081"/>
                  </a:lnTo>
                  <a:lnTo>
                    <a:pt x="494" y="1081"/>
                  </a:lnTo>
                  <a:lnTo>
                    <a:pt x="504" y="1081"/>
                  </a:lnTo>
                  <a:lnTo>
                    <a:pt x="515" y="1079"/>
                  </a:lnTo>
                  <a:lnTo>
                    <a:pt x="526" y="1076"/>
                  </a:lnTo>
                  <a:lnTo>
                    <a:pt x="537" y="1073"/>
                  </a:lnTo>
                  <a:lnTo>
                    <a:pt x="548" y="1068"/>
                  </a:lnTo>
                  <a:lnTo>
                    <a:pt x="559" y="1062"/>
                  </a:lnTo>
                  <a:lnTo>
                    <a:pt x="569" y="1055"/>
                  </a:lnTo>
                  <a:lnTo>
                    <a:pt x="579" y="1047"/>
                  </a:lnTo>
                  <a:lnTo>
                    <a:pt x="590" y="1039"/>
                  </a:lnTo>
                  <a:lnTo>
                    <a:pt x="600" y="1030"/>
                  </a:lnTo>
                  <a:lnTo>
                    <a:pt x="610" y="1021"/>
                  </a:lnTo>
                  <a:lnTo>
                    <a:pt x="619" y="1010"/>
                  </a:lnTo>
                  <a:lnTo>
                    <a:pt x="629" y="1000"/>
                  </a:lnTo>
                  <a:lnTo>
                    <a:pt x="638" y="990"/>
                  </a:lnTo>
                  <a:lnTo>
                    <a:pt x="657" y="967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86560" y="631800"/>
              <a:ext cx="465120" cy="446040"/>
            </a:xfrm>
            <a:custGeom>
              <a:avLst/>
              <a:gdLst/>
              <a:ahLst/>
              <a:rect l="l" t="t" r="r" b="b"/>
              <a:pathLst>
                <a:path w="1290" h="1237">
                  <a:moveTo>
                    <a:pt x="505" y="523"/>
                  </a:moveTo>
                  <a:lnTo>
                    <a:pt x="815" y="523"/>
                  </a:lnTo>
                  <a:lnTo>
                    <a:pt x="906" y="22"/>
                  </a:lnTo>
                  <a:lnTo>
                    <a:pt x="1211" y="5"/>
                  </a:lnTo>
                  <a:lnTo>
                    <a:pt x="1222" y="22"/>
                  </a:lnTo>
                  <a:lnTo>
                    <a:pt x="1086" y="765"/>
                  </a:lnTo>
                  <a:lnTo>
                    <a:pt x="1070" y="859"/>
                  </a:lnTo>
                  <a:lnTo>
                    <a:pt x="1067" y="885"/>
                  </a:lnTo>
                  <a:lnTo>
                    <a:pt x="1064" y="909"/>
                  </a:lnTo>
                  <a:lnTo>
                    <a:pt x="1063" y="928"/>
                  </a:lnTo>
                  <a:lnTo>
                    <a:pt x="1062" y="937"/>
                  </a:lnTo>
                  <a:lnTo>
                    <a:pt x="1062" y="944"/>
                  </a:lnTo>
                  <a:lnTo>
                    <a:pt x="1062" y="962"/>
                  </a:lnTo>
                  <a:lnTo>
                    <a:pt x="1064" y="977"/>
                  </a:lnTo>
                  <a:lnTo>
                    <a:pt x="1065" y="991"/>
                  </a:lnTo>
                  <a:lnTo>
                    <a:pt x="1067" y="997"/>
                  </a:lnTo>
                  <a:lnTo>
                    <a:pt x="1068" y="1003"/>
                  </a:lnTo>
                  <a:lnTo>
                    <a:pt x="1069" y="1009"/>
                  </a:lnTo>
                  <a:lnTo>
                    <a:pt x="1071" y="1015"/>
                  </a:lnTo>
                  <a:lnTo>
                    <a:pt x="1074" y="1019"/>
                  </a:lnTo>
                  <a:lnTo>
                    <a:pt x="1075" y="1024"/>
                  </a:lnTo>
                  <a:lnTo>
                    <a:pt x="1078" y="1029"/>
                  </a:lnTo>
                  <a:lnTo>
                    <a:pt x="1080" y="1033"/>
                  </a:lnTo>
                  <a:lnTo>
                    <a:pt x="1084" y="1037"/>
                  </a:lnTo>
                  <a:lnTo>
                    <a:pt x="1086" y="1040"/>
                  </a:lnTo>
                  <a:lnTo>
                    <a:pt x="1089" y="1044"/>
                  </a:lnTo>
                  <a:lnTo>
                    <a:pt x="1093" y="1046"/>
                  </a:lnTo>
                  <a:lnTo>
                    <a:pt x="1096" y="1049"/>
                  </a:lnTo>
                  <a:lnTo>
                    <a:pt x="1100" y="1052"/>
                  </a:lnTo>
                  <a:lnTo>
                    <a:pt x="1104" y="1054"/>
                  </a:lnTo>
                  <a:lnTo>
                    <a:pt x="1109" y="1056"/>
                  </a:lnTo>
                  <a:lnTo>
                    <a:pt x="1119" y="1060"/>
                  </a:lnTo>
                  <a:lnTo>
                    <a:pt x="1130" y="1062"/>
                  </a:lnTo>
                  <a:lnTo>
                    <a:pt x="1143" y="1064"/>
                  </a:lnTo>
                  <a:lnTo>
                    <a:pt x="1156" y="1066"/>
                  </a:lnTo>
                  <a:lnTo>
                    <a:pt x="1171" y="1066"/>
                  </a:lnTo>
                  <a:lnTo>
                    <a:pt x="1178" y="1066"/>
                  </a:lnTo>
                  <a:lnTo>
                    <a:pt x="1186" y="1064"/>
                  </a:lnTo>
                  <a:lnTo>
                    <a:pt x="1193" y="1063"/>
                  </a:lnTo>
                  <a:lnTo>
                    <a:pt x="1202" y="1062"/>
                  </a:lnTo>
                  <a:lnTo>
                    <a:pt x="1218" y="1059"/>
                  </a:lnTo>
                  <a:lnTo>
                    <a:pt x="1237" y="1053"/>
                  </a:lnTo>
                  <a:lnTo>
                    <a:pt x="1253" y="1047"/>
                  </a:lnTo>
                  <a:lnTo>
                    <a:pt x="1268" y="1041"/>
                  </a:lnTo>
                  <a:lnTo>
                    <a:pt x="1280" y="1036"/>
                  </a:lnTo>
                  <a:lnTo>
                    <a:pt x="1289" y="1031"/>
                  </a:lnTo>
                  <a:lnTo>
                    <a:pt x="1268" y="1139"/>
                  </a:lnTo>
                  <a:lnTo>
                    <a:pt x="1117" y="1211"/>
                  </a:lnTo>
                  <a:lnTo>
                    <a:pt x="1103" y="1217"/>
                  </a:lnTo>
                  <a:lnTo>
                    <a:pt x="1088" y="1223"/>
                  </a:lnTo>
                  <a:lnTo>
                    <a:pt x="1072" y="1227"/>
                  </a:lnTo>
                  <a:lnTo>
                    <a:pt x="1056" y="1231"/>
                  </a:lnTo>
                  <a:lnTo>
                    <a:pt x="1039" y="1233"/>
                  </a:lnTo>
                  <a:lnTo>
                    <a:pt x="1023" y="1235"/>
                  </a:lnTo>
                  <a:lnTo>
                    <a:pt x="1005" y="1236"/>
                  </a:lnTo>
                  <a:lnTo>
                    <a:pt x="986" y="1236"/>
                  </a:lnTo>
                  <a:lnTo>
                    <a:pt x="960" y="1235"/>
                  </a:lnTo>
                  <a:lnTo>
                    <a:pt x="936" y="1232"/>
                  </a:lnTo>
                  <a:lnTo>
                    <a:pt x="913" y="1227"/>
                  </a:lnTo>
                  <a:lnTo>
                    <a:pt x="891" y="1219"/>
                  </a:lnTo>
                  <a:lnTo>
                    <a:pt x="871" y="1210"/>
                  </a:lnTo>
                  <a:lnTo>
                    <a:pt x="851" y="1198"/>
                  </a:lnTo>
                  <a:lnTo>
                    <a:pt x="832" y="1185"/>
                  </a:lnTo>
                  <a:lnTo>
                    <a:pt x="815" y="1168"/>
                  </a:lnTo>
                  <a:lnTo>
                    <a:pt x="807" y="1159"/>
                  </a:lnTo>
                  <a:lnTo>
                    <a:pt x="799" y="1150"/>
                  </a:lnTo>
                  <a:lnTo>
                    <a:pt x="792" y="1141"/>
                  </a:lnTo>
                  <a:lnTo>
                    <a:pt x="786" y="1131"/>
                  </a:lnTo>
                  <a:lnTo>
                    <a:pt x="779" y="1121"/>
                  </a:lnTo>
                  <a:lnTo>
                    <a:pt x="774" y="1111"/>
                  </a:lnTo>
                  <a:lnTo>
                    <a:pt x="769" y="1099"/>
                  </a:lnTo>
                  <a:lnTo>
                    <a:pt x="764" y="1088"/>
                  </a:lnTo>
                  <a:lnTo>
                    <a:pt x="761" y="1076"/>
                  </a:lnTo>
                  <a:lnTo>
                    <a:pt x="757" y="1064"/>
                  </a:lnTo>
                  <a:lnTo>
                    <a:pt x="754" y="1052"/>
                  </a:lnTo>
                  <a:lnTo>
                    <a:pt x="752" y="1039"/>
                  </a:lnTo>
                  <a:lnTo>
                    <a:pt x="750" y="1026"/>
                  </a:lnTo>
                  <a:lnTo>
                    <a:pt x="748" y="1012"/>
                  </a:lnTo>
                  <a:lnTo>
                    <a:pt x="747" y="999"/>
                  </a:lnTo>
                  <a:lnTo>
                    <a:pt x="747" y="985"/>
                  </a:lnTo>
                  <a:lnTo>
                    <a:pt x="748" y="930"/>
                  </a:lnTo>
                  <a:lnTo>
                    <a:pt x="749" y="909"/>
                  </a:lnTo>
                  <a:lnTo>
                    <a:pt x="750" y="891"/>
                  </a:lnTo>
                  <a:lnTo>
                    <a:pt x="751" y="882"/>
                  </a:lnTo>
                  <a:lnTo>
                    <a:pt x="752" y="873"/>
                  </a:lnTo>
                  <a:lnTo>
                    <a:pt x="755" y="851"/>
                  </a:lnTo>
                  <a:lnTo>
                    <a:pt x="764" y="797"/>
                  </a:lnTo>
                  <a:lnTo>
                    <a:pt x="793" y="639"/>
                  </a:lnTo>
                  <a:lnTo>
                    <a:pt x="483" y="639"/>
                  </a:lnTo>
                  <a:lnTo>
                    <a:pt x="378" y="1216"/>
                  </a:lnTo>
                  <a:lnTo>
                    <a:pt x="62" y="1216"/>
                  </a:lnTo>
                  <a:lnTo>
                    <a:pt x="198" y="471"/>
                  </a:lnTo>
                  <a:lnTo>
                    <a:pt x="213" y="383"/>
                  </a:lnTo>
                  <a:lnTo>
                    <a:pt x="217" y="357"/>
                  </a:lnTo>
                  <a:lnTo>
                    <a:pt x="220" y="332"/>
                  </a:lnTo>
                  <a:lnTo>
                    <a:pt x="221" y="322"/>
                  </a:lnTo>
                  <a:lnTo>
                    <a:pt x="221" y="312"/>
                  </a:lnTo>
                  <a:lnTo>
                    <a:pt x="222" y="301"/>
                  </a:lnTo>
                  <a:lnTo>
                    <a:pt x="222" y="292"/>
                  </a:lnTo>
                  <a:lnTo>
                    <a:pt x="222" y="276"/>
                  </a:lnTo>
                  <a:lnTo>
                    <a:pt x="220" y="260"/>
                  </a:lnTo>
                  <a:lnTo>
                    <a:pt x="218" y="246"/>
                  </a:lnTo>
                  <a:lnTo>
                    <a:pt x="216" y="234"/>
                  </a:lnTo>
                  <a:lnTo>
                    <a:pt x="214" y="228"/>
                  </a:lnTo>
                  <a:lnTo>
                    <a:pt x="213" y="223"/>
                  </a:lnTo>
                  <a:lnTo>
                    <a:pt x="211" y="218"/>
                  </a:lnTo>
                  <a:lnTo>
                    <a:pt x="209" y="213"/>
                  </a:lnTo>
                  <a:lnTo>
                    <a:pt x="207" y="209"/>
                  </a:lnTo>
                  <a:lnTo>
                    <a:pt x="204" y="204"/>
                  </a:lnTo>
                  <a:lnTo>
                    <a:pt x="202" y="201"/>
                  </a:lnTo>
                  <a:lnTo>
                    <a:pt x="199" y="197"/>
                  </a:lnTo>
                  <a:lnTo>
                    <a:pt x="196" y="194"/>
                  </a:lnTo>
                  <a:lnTo>
                    <a:pt x="193" y="191"/>
                  </a:lnTo>
                  <a:lnTo>
                    <a:pt x="189" y="188"/>
                  </a:lnTo>
                  <a:lnTo>
                    <a:pt x="186" y="186"/>
                  </a:lnTo>
                  <a:lnTo>
                    <a:pt x="182" y="183"/>
                  </a:lnTo>
                  <a:lnTo>
                    <a:pt x="177" y="181"/>
                  </a:lnTo>
                  <a:lnTo>
                    <a:pt x="168" y="178"/>
                  </a:lnTo>
                  <a:lnTo>
                    <a:pt x="157" y="174"/>
                  </a:lnTo>
                  <a:lnTo>
                    <a:pt x="145" y="172"/>
                  </a:lnTo>
                  <a:lnTo>
                    <a:pt x="132" y="171"/>
                  </a:lnTo>
                  <a:lnTo>
                    <a:pt x="118" y="171"/>
                  </a:lnTo>
                  <a:lnTo>
                    <a:pt x="110" y="171"/>
                  </a:lnTo>
                  <a:lnTo>
                    <a:pt x="102" y="172"/>
                  </a:lnTo>
                  <a:lnTo>
                    <a:pt x="94" y="173"/>
                  </a:lnTo>
                  <a:lnTo>
                    <a:pt x="87" y="174"/>
                  </a:lnTo>
                  <a:lnTo>
                    <a:pt x="79" y="175"/>
                  </a:lnTo>
                  <a:lnTo>
                    <a:pt x="71" y="178"/>
                  </a:lnTo>
                  <a:lnTo>
                    <a:pt x="55" y="183"/>
                  </a:lnTo>
                  <a:lnTo>
                    <a:pt x="25" y="195"/>
                  </a:lnTo>
                  <a:lnTo>
                    <a:pt x="12" y="201"/>
                  </a:lnTo>
                  <a:lnTo>
                    <a:pt x="0" y="206"/>
                  </a:lnTo>
                  <a:lnTo>
                    <a:pt x="21" y="97"/>
                  </a:lnTo>
                  <a:lnTo>
                    <a:pt x="169" y="29"/>
                  </a:lnTo>
                  <a:lnTo>
                    <a:pt x="204" y="16"/>
                  </a:lnTo>
                  <a:lnTo>
                    <a:pt x="221" y="11"/>
                  </a:lnTo>
                  <a:lnTo>
                    <a:pt x="237" y="8"/>
                  </a:lnTo>
                  <a:lnTo>
                    <a:pt x="254" y="4"/>
                  </a:lnTo>
                  <a:lnTo>
                    <a:pt x="271" y="2"/>
                  </a:lnTo>
                  <a:lnTo>
                    <a:pt x="287" y="0"/>
                  </a:lnTo>
                  <a:lnTo>
                    <a:pt x="302" y="0"/>
                  </a:lnTo>
                  <a:lnTo>
                    <a:pt x="331" y="1"/>
                  </a:lnTo>
                  <a:lnTo>
                    <a:pt x="358" y="4"/>
                  </a:lnTo>
                  <a:lnTo>
                    <a:pt x="382" y="10"/>
                  </a:lnTo>
                  <a:lnTo>
                    <a:pt x="406" y="18"/>
                  </a:lnTo>
                  <a:lnTo>
                    <a:pt x="427" y="29"/>
                  </a:lnTo>
                  <a:lnTo>
                    <a:pt x="436" y="34"/>
                  </a:lnTo>
                  <a:lnTo>
                    <a:pt x="446" y="40"/>
                  </a:lnTo>
                  <a:lnTo>
                    <a:pt x="455" y="48"/>
                  </a:lnTo>
                  <a:lnTo>
                    <a:pt x="464" y="55"/>
                  </a:lnTo>
                  <a:lnTo>
                    <a:pt x="472" y="63"/>
                  </a:lnTo>
                  <a:lnTo>
                    <a:pt x="480" y="72"/>
                  </a:lnTo>
                  <a:lnTo>
                    <a:pt x="494" y="91"/>
                  </a:lnTo>
                  <a:lnTo>
                    <a:pt x="500" y="101"/>
                  </a:lnTo>
                  <a:lnTo>
                    <a:pt x="505" y="111"/>
                  </a:lnTo>
                  <a:lnTo>
                    <a:pt x="510" y="121"/>
                  </a:lnTo>
                  <a:lnTo>
                    <a:pt x="515" y="133"/>
                  </a:lnTo>
                  <a:lnTo>
                    <a:pt x="520" y="143"/>
                  </a:lnTo>
                  <a:lnTo>
                    <a:pt x="524" y="154"/>
                  </a:lnTo>
                  <a:lnTo>
                    <a:pt x="527" y="166"/>
                  </a:lnTo>
                  <a:lnTo>
                    <a:pt x="530" y="178"/>
                  </a:lnTo>
                  <a:lnTo>
                    <a:pt x="533" y="189"/>
                  </a:lnTo>
                  <a:lnTo>
                    <a:pt x="535" y="202"/>
                  </a:lnTo>
                  <a:lnTo>
                    <a:pt x="536" y="215"/>
                  </a:lnTo>
                  <a:lnTo>
                    <a:pt x="538" y="227"/>
                  </a:lnTo>
                  <a:lnTo>
                    <a:pt x="539" y="254"/>
                  </a:lnTo>
                  <a:lnTo>
                    <a:pt x="539" y="275"/>
                  </a:lnTo>
                  <a:lnTo>
                    <a:pt x="538" y="296"/>
                  </a:lnTo>
                  <a:lnTo>
                    <a:pt x="537" y="317"/>
                  </a:lnTo>
                  <a:lnTo>
                    <a:pt x="535" y="339"/>
                  </a:lnTo>
                  <a:lnTo>
                    <a:pt x="533" y="362"/>
                  </a:lnTo>
                  <a:lnTo>
                    <a:pt x="529" y="387"/>
                  </a:lnTo>
                  <a:lnTo>
                    <a:pt x="525" y="412"/>
                  </a:lnTo>
                  <a:lnTo>
                    <a:pt x="520" y="44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32600" y="631800"/>
              <a:ext cx="463680" cy="449280"/>
            </a:xfrm>
            <a:custGeom>
              <a:avLst/>
              <a:gdLst/>
              <a:ahLst/>
              <a:rect l="l" t="t" r="r" b="b"/>
              <a:pathLst>
                <a:path w="1288" h="1250">
                  <a:moveTo>
                    <a:pt x="735" y="1020"/>
                  </a:moveTo>
                  <a:lnTo>
                    <a:pt x="728" y="1020"/>
                  </a:lnTo>
                  <a:lnTo>
                    <a:pt x="679" y="1075"/>
                  </a:lnTo>
                  <a:lnTo>
                    <a:pt x="654" y="1099"/>
                  </a:lnTo>
                  <a:lnTo>
                    <a:pt x="630" y="1122"/>
                  </a:lnTo>
                  <a:lnTo>
                    <a:pt x="607" y="1143"/>
                  </a:lnTo>
                  <a:lnTo>
                    <a:pt x="583" y="1162"/>
                  </a:lnTo>
                  <a:lnTo>
                    <a:pt x="560" y="1179"/>
                  </a:lnTo>
                  <a:lnTo>
                    <a:pt x="537" y="1194"/>
                  </a:lnTo>
                  <a:lnTo>
                    <a:pt x="514" y="1207"/>
                  </a:lnTo>
                  <a:lnTo>
                    <a:pt x="490" y="1218"/>
                  </a:lnTo>
                  <a:lnTo>
                    <a:pt x="465" y="1228"/>
                  </a:lnTo>
                  <a:lnTo>
                    <a:pt x="439" y="1236"/>
                  </a:lnTo>
                  <a:lnTo>
                    <a:pt x="412" y="1241"/>
                  </a:lnTo>
                  <a:lnTo>
                    <a:pt x="385" y="1246"/>
                  </a:lnTo>
                  <a:lnTo>
                    <a:pt x="356" y="1248"/>
                  </a:lnTo>
                  <a:lnTo>
                    <a:pt x="327" y="1249"/>
                  </a:lnTo>
                  <a:lnTo>
                    <a:pt x="301" y="1248"/>
                  </a:lnTo>
                  <a:lnTo>
                    <a:pt x="277" y="1245"/>
                  </a:lnTo>
                  <a:lnTo>
                    <a:pt x="254" y="1239"/>
                  </a:lnTo>
                  <a:lnTo>
                    <a:pt x="233" y="1231"/>
                  </a:lnTo>
                  <a:lnTo>
                    <a:pt x="213" y="1221"/>
                  </a:lnTo>
                  <a:lnTo>
                    <a:pt x="203" y="1215"/>
                  </a:lnTo>
                  <a:lnTo>
                    <a:pt x="195" y="1208"/>
                  </a:lnTo>
                  <a:lnTo>
                    <a:pt x="186" y="1201"/>
                  </a:lnTo>
                  <a:lnTo>
                    <a:pt x="178" y="1193"/>
                  </a:lnTo>
                  <a:lnTo>
                    <a:pt x="170" y="1185"/>
                  </a:lnTo>
                  <a:lnTo>
                    <a:pt x="163" y="1176"/>
                  </a:lnTo>
                  <a:lnTo>
                    <a:pt x="149" y="1157"/>
                  </a:lnTo>
                  <a:lnTo>
                    <a:pt x="144" y="1147"/>
                  </a:lnTo>
                  <a:lnTo>
                    <a:pt x="138" y="1137"/>
                  </a:lnTo>
                  <a:lnTo>
                    <a:pt x="133" y="1127"/>
                  </a:lnTo>
                  <a:lnTo>
                    <a:pt x="128" y="1117"/>
                  </a:lnTo>
                  <a:lnTo>
                    <a:pt x="124" y="1105"/>
                  </a:lnTo>
                  <a:lnTo>
                    <a:pt x="119" y="1095"/>
                  </a:lnTo>
                  <a:lnTo>
                    <a:pt x="116" y="1083"/>
                  </a:lnTo>
                  <a:lnTo>
                    <a:pt x="114" y="1072"/>
                  </a:lnTo>
                  <a:lnTo>
                    <a:pt x="111" y="1060"/>
                  </a:lnTo>
                  <a:lnTo>
                    <a:pt x="109" y="1047"/>
                  </a:lnTo>
                  <a:lnTo>
                    <a:pt x="107" y="1035"/>
                  </a:lnTo>
                  <a:lnTo>
                    <a:pt x="106" y="1022"/>
                  </a:lnTo>
                  <a:lnTo>
                    <a:pt x="105" y="997"/>
                  </a:lnTo>
                  <a:lnTo>
                    <a:pt x="105" y="978"/>
                  </a:lnTo>
                  <a:lnTo>
                    <a:pt x="106" y="958"/>
                  </a:lnTo>
                  <a:lnTo>
                    <a:pt x="107" y="940"/>
                  </a:lnTo>
                  <a:lnTo>
                    <a:pt x="109" y="920"/>
                  </a:lnTo>
                  <a:lnTo>
                    <a:pt x="109" y="910"/>
                  </a:lnTo>
                  <a:lnTo>
                    <a:pt x="110" y="900"/>
                  </a:lnTo>
                  <a:lnTo>
                    <a:pt x="114" y="874"/>
                  </a:lnTo>
                  <a:lnTo>
                    <a:pt x="119" y="844"/>
                  </a:lnTo>
                  <a:lnTo>
                    <a:pt x="126" y="812"/>
                  </a:lnTo>
                  <a:lnTo>
                    <a:pt x="198" y="471"/>
                  </a:lnTo>
                  <a:lnTo>
                    <a:pt x="202" y="453"/>
                  </a:lnTo>
                  <a:lnTo>
                    <a:pt x="205" y="431"/>
                  </a:lnTo>
                  <a:lnTo>
                    <a:pt x="213" y="378"/>
                  </a:lnTo>
                  <a:lnTo>
                    <a:pt x="218" y="350"/>
                  </a:lnTo>
                  <a:lnTo>
                    <a:pt x="221" y="327"/>
                  </a:lnTo>
                  <a:lnTo>
                    <a:pt x="222" y="307"/>
                  </a:lnTo>
                  <a:lnTo>
                    <a:pt x="223" y="298"/>
                  </a:lnTo>
                  <a:lnTo>
                    <a:pt x="223" y="291"/>
                  </a:lnTo>
                  <a:lnTo>
                    <a:pt x="223" y="275"/>
                  </a:lnTo>
                  <a:lnTo>
                    <a:pt x="221" y="261"/>
                  </a:lnTo>
                  <a:lnTo>
                    <a:pt x="220" y="247"/>
                  </a:lnTo>
                  <a:lnTo>
                    <a:pt x="218" y="234"/>
                  </a:lnTo>
                  <a:lnTo>
                    <a:pt x="216" y="229"/>
                  </a:lnTo>
                  <a:lnTo>
                    <a:pt x="214" y="224"/>
                  </a:lnTo>
                  <a:lnTo>
                    <a:pt x="213" y="218"/>
                  </a:lnTo>
                  <a:lnTo>
                    <a:pt x="211" y="214"/>
                  </a:lnTo>
                  <a:lnTo>
                    <a:pt x="208" y="209"/>
                  </a:lnTo>
                  <a:lnTo>
                    <a:pt x="206" y="206"/>
                  </a:lnTo>
                  <a:lnTo>
                    <a:pt x="203" y="201"/>
                  </a:lnTo>
                  <a:lnTo>
                    <a:pt x="201" y="197"/>
                  </a:lnTo>
                  <a:lnTo>
                    <a:pt x="198" y="194"/>
                  </a:lnTo>
                  <a:lnTo>
                    <a:pt x="195" y="191"/>
                  </a:lnTo>
                  <a:lnTo>
                    <a:pt x="192" y="188"/>
                  </a:lnTo>
                  <a:lnTo>
                    <a:pt x="188" y="186"/>
                  </a:lnTo>
                  <a:lnTo>
                    <a:pt x="183" y="182"/>
                  </a:lnTo>
                  <a:lnTo>
                    <a:pt x="179" y="180"/>
                  </a:lnTo>
                  <a:lnTo>
                    <a:pt x="169" y="177"/>
                  </a:lnTo>
                  <a:lnTo>
                    <a:pt x="159" y="173"/>
                  </a:lnTo>
                  <a:lnTo>
                    <a:pt x="146" y="172"/>
                  </a:lnTo>
                  <a:lnTo>
                    <a:pt x="133" y="170"/>
                  </a:lnTo>
                  <a:lnTo>
                    <a:pt x="118" y="170"/>
                  </a:lnTo>
                  <a:lnTo>
                    <a:pt x="110" y="170"/>
                  </a:lnTo>
                  <a:lnTo>
                    <a:pt x="102" y="171"/>
                  </a:lnTo>
                  <a:lnTo>
                    <a:pt x="94" y="172"/>
                  </a:lnTo>
                  <a:lnTo>
                    <a:pt x="86" y="173"/>
                  </a:lnTo>
                  <a:lnTo>
                    <a:pt x="70" y="177"/>
                  </a:lnTo>
                  <a:lnTo>
                    <a:pt x="55" y="182"/>
                  </a:lnTo>
                  <a:lnTo>
                    <a:pt x="25" y="194"/>
                  </a:lnTo>
                  <a:lnTo>
                    <a:pt x="11" y="200"/>
                  </a:lnTo>
                  <a:lnTo>
                    <a:pt x="0" y="206"/>
                  </a:lnTo>
                  <a:lnTo>
                    <a:pt x="20" y="96"/>
                  </a:lnTo>
                  <a:lnTo>
                    <a:pt x="59" y="76"/>
                  </a:lnTo>
                  <a:lnTo>
                    <a:pt x="96" y="59"/>
                  </a:lnTo>
                  <a:lnTo>
                    <a:pt x="169" y="28"/>
                  </a:lnTo>
                  <a:lnTo>
                    <a:pt x="187" y="21"/>
                  </a:lnTo>
                  <a:lnTo>
                    <a:pt x="204" y="16"/>
                  </a:lnTo>
                  <a:lnTo>
                    <a:pt x="221" y="10"/>
                  </a:lnTo>
                  <a:lnTo>
                    <a:pt x="238" y="7"/>
                  </a:lnTo>
                  <a:lnTo>
                    <a:pt x="254" y="3"/>
                  </a:lnTo>
                  <a:lnTo>
                    <a:pt x="271" y="2"/>
                  </a:lnTo>
                  <a:lnTo>
                    <a:pt x="287" y="0"/>
                  </a:lnTo>
                  <a:lnTo>
                    <a:pt x="303" y="0"/>
                  </a:lnTo>
                  <a:lnTo>
                    <a:pt x="331" y="1"/>
                  </a:lnTo>
                  <a:lnTo>
                    <a:pt x="356" y="5"/>
                  </a:lnTo>
                  <a:lnTo>
                    <a:pt x="381" y="10"/>
                  </a:lnTo>
                  <a:lnTo>
                    <a:pt x="404" y="17"/>
                  </a:lnTo>
                  <a:lnTo>
                    <a:pt x="425" y="28"/>
                  </a:lnTo>
                  <a:lnTo>
                    <a:pt x="435" y="34"/>
                  </a:lnTo>
                  <a:lnTo>
                    <a:pt x="445" y="40"/>
                  </a:lnTo>
                  <a:lnTo>
                    <a:pt x="454" y="47"/>
                  </a:lnTo>
                  <a:lnTo>
                    <a:pt x="462" y="54"/>
                  </a:lnTo>
                  <a:lnTo>
                    <a:pt x="470" y="62"/>
                  </a:lnTo>
                  <a:lnTo>
                    <a:pt x="479" y="72"/>
                  </a:lnTo>
                  <a:lnTo>
                    <a:pt x="493" y="90"/>
                  </a:lnTo>
                  <a:lnTo>
                    <a:pt x="500" y="100"/>
                  </a:lnTo>
                  <a:lnTo>
                    <a:pt x="505" y="110"/>
                  </a:lnTo>
                  <a:lnTo>
                    <a:pt x="511" y="120"/>
                  </a:lnTo>
                  <a:lnTo>
                    <a:pt x="516" y="131"/>
                  </a:lnTo>
                  <a:lnTo>
                    <a:pt x="520" y="141"/>
                  </a:lnTo>
                  <a:lnTo>
                    <a:pt x="525" y="152"/>
                  </a:lnTo>
                  <a:lnTo>
                    <a:pt x="529" y="164"/>
                  </a:lnTo>
                  <a:lnTo>
                    <a:pt x="532" y="176"/>
                  </a:lnTo>
                  <a:lnTo>
                    <a:pt x="535" y="187"/>
                  </a:lnTo>
                  <a:lnTo>
                    <a:pt x="536" y="200"/>
                  </a:lnTo>
                  <a:lnTo>
                    <a:pt x="538" y="211"/>
                  </a:lnTo>
                  <a:lnTo>
                    <a:pt x="540" y="224"/>
                  </a:lnTo>
                  <a:lnTo>
                    <a:pt x="540" y="238"/>
                  </a:lnTo>
                  <a:lnTo>
                    <a:pt x="540" y="251"/>
                  </a:lnTo>
                  <a:lnTo>
                    <a:pt x="540" y="263"/>
                  </a:lnTo>
                  <a:lnTo>
                    <a:pt x="540" y="281"/>
                  </a:lnTo>
                  <a:lnTo>
                    <a:pt x="538" y="304"/>
                  </a:lnTo>
                  <a:lnTo>
                    <a:pt x="536" y="330"/>
                  </a:lnTo>
                  <a:lnTo>
                    <a:pt x="534" y="359"/>
                  </a:lnTo>
                  <a:lnTo>
                    <a:pt x="530" y="387"/>
                  </a:lnTo>
                  <a:lnTo>
                    <a:pt x="526" y="412"/>
                  </a:lnTo>
                  <a:lnTo>
                    <a:pt x="521" y="438"/>
                  </a:lnTo>
                  <a:lnTo>
                    <a:pt x="451" y="761"/>
                  </a:lnTo>
                  <a:lnTo>
                    <a:pt x="446" y="783"/>
                  </a:lnTo>
                  <a:lnTo>
                    <a:pt x="443" y="805"/>
                  </a:lnTo>
                  <a:lnTo>
                    <a:pt x="439" y="828"/>
                  </a:lnTo>
                  <a:lnTo>
                    <a:pt x="436" y="852"/>
                  </a:lnTo>
                  <a:lnTo>
                    <a:pt x="434" y="875"/>
                  </a:lnTo>
                  <a:lnTo>
                    <a:pt x="432" y="895"/>
                  </a:lnTo>
                  <a:lnTo>
                    <a:pt x="431" y="910"/>
                  </a:lnTo>
                  <a:lnTo>
                    <a:pt x="431" y="917"/>
                  </a:lnTo>
                  <a:lnTo>
                    <a:pt x="431" y="923"/>
                  </a:lnTo>
                  <a:lnTo>
                    <a:pt x="431" y="937"/>
                  </a:lnTo>
                  <a:lnTo>
                    <a:pt x="432" y="949"/>
                  </a:lnTo>
                  <a:lnTo>
                    <a:pt x="433" y="962"/>
                  </a:lnTo>
                  <a:lnTo>
                    <a:pt x="436" y="974"/>
                  </a:lnTo>
                  <a:lnTo>
                    <a:pt x="439" y="985"/>
                  </a:lnTo>
                  <a:lnTo>
                    <a:pt x="441" y="990"/>
                  </a:lnTo>
                  <a:lnTo>
                    <a:pt x="442" y="994"/>
                  </a:lnTo>
                  <a:lnTo>
                    <a:pt x="444" y="1000"/>
                  </a:lnTo>
                  <a:lnTo>
                    <a:pt x="446" y="1005"/>
                  </a:lnTo>
                  <a:lnTo>
                    <a:pt x="449" y="1008"/>
                  </a:lnTo>
                  <a:lnTo>
                    <a:pt x="451" y="1013"/>
                  </a:lnTo>
                  <a:lnTo>
                    <a:pt x="454" y="1017"/>
                  </a:lnTo>
                  <a:lnTo>
                    <a:pt x="457" y="1021"/>
                  </a:lnTo>
                  <a:lnTo>
                    <a:pt x="460" y="1024"/>
                  </a:lnTo>
                  <a:lnTo>
                    <a:pt x="464" y="1028"/>
                  </a:lnTo>
                  <a:lnTo>
                    <a:pt x="467" y="1031"/>
                  </a:lnTo>
                  <a:lnTo>
                    <a:pt x="471" y="1034"/>
                  </a:lnTo>
                  <a:lnTo>
                    <a:pt x="475" y="1036"/>
                  </a:lnTo>
                  <a:lnTo>
                    <a:pt x="480" y="1038"/>
                  </a:lnTo>
                  <a:lnTo>
                    <a:pt x="490" y="1042"/>
                  </a:lnTo>
                  <a:lnTo>
                    <a:pt x="500" y="1044"/>
                  </a:lnTo>
                  <a:lnTo>
                    <a:pt x="511" y="1046"/>
                  </a:lnTo>
                  <a:lnTo>
                    <a:pt x="524" y="1046"/>
                  </a:lnTo>
                  <a:lnTo>
                    <a:pt x="534" y="1045"/>
                  </a:lnTo>
                  <a:lnTo>
                    <a:pt x="544" y="1044"/>
                  </a:lnTo>
                  <a:lnTo>
                    <a:pt x="555" y="1040"/>
                  </a:lnTo>
                  <a:lnTo>
                    <a:pt x="567" y="1037"/>
                  </a:lnTo>
                  <a:lnTo>
                    <a:pt x="580" y="1031"/>
                  </a:lnTo>
                  <a:lnTo>
                    <a:pt x="594" y="1024"/>
                  </a:lnTo>
                  <a:lnTo>
                    <a:pt x="608" y="1016"/>
                  </a:lnTo>
                  <a:lnTo>
                    <a:pt x="623" y="1007"/>
                  </a:lnTo>
                  <a:lnTo>
                    <a:pt x="639" y="997"/>
                  </a:lnTo>
                  <a:lnTo>
                    <a:pt x="653" y="985"/>
                  </a:lnTo>
                  <a:lnTo>
                    <a:pt x="669" y="972"/>
                  </a:lnTo>
                  <a:lnTo>
                    <a:pt x="684" y="958"/>
                  </a:lnTo>
                  <a:lnTo>
                    <a:pt x="699" y="943"/>
                  </a:lnTo>
                  <a:lnTo>
                    <a:pt x="714" y="927"/>
                  </a:lnTo>
                  <a:lnTo>
                    <a:pt x="745" y="893"/>
                  </a:lnTo>
                  <a:lnTo>
                    <a:pt x="902" y="20"/>
                  </a:lnTo>
                  <a:lnTo>
                    <a:pt x="1208" y="3"/>
                  </a:lnTo>
                  <a:lnTo>
                    <a:pt x="1219" y="20"/>
                  </a:lnTo>
                  <a:lnTo>
                    <a:pt x="1084" y="763"/>
                  </a:lnTo>
                  <a:lnTo>
                    <a:pt x="1068" y="857"/>
                  </a:lnTo>
                  <a:lnTo>
                    <a:pt x="1064" y="883"/>
                  </a:lnTo>
                  <a:lnTo>
                    <a:pt x="1061" y="907"/>
                  </a:lnTo>
                  <a:lnTo>
                    <a:pt x="1059" y="926"/>
                  </a:lnTo>
                  <a:lnTo>
                    <a:pt x="1059" y="935"/>
                  </a:lnTo>
                  <a:lnTo>
                    <a:pt x="1059" y="942"/>
                  </a:lnTo>
                  <a:lnTo>
                    <a:pt x="1059" y="960"/>
                  </a:lnTo>
                  <a:lnTo>
                    <a:pt x="1060" y="975"/>
                  </a:lnTo>
                  <a:lnTo>
                    <a:pt x="1062" y="989"/>
                  </a:lnTo>
                  <a:lnTo>
                    <a:pt x="1064" y="995"/>
                  </a:lnTo>
                  <a:lnTo>
                    <a:pt x="1065" y="1001"/>
                  </a:lnTo>
                  <a:lnTo>
                    <a:pt x="1066" y="1007"/>
                  </a:lnTo>
                  <a:lnTo>
                    <a:pt x="1069" y="1013"/>
                  </a:lnTo>
                  <a:lnTo>
                    <a:pt x="1070" y="1017"/>
                  </a:lnTo>
                  <a:lnTo>
                    <a:pt x="1073" y="1022"/>
                  </a:lnTo>
                  <a:lnTo>
                    <a:pt x="1075" y="1027"/>
                  </a:lnTo>
                  <a:lnTo>
                    <a:pt x="1078" y="1031"/>
                  </a:lnTo>
                  <a:lnTo>
                    <a:pt x="1080" y="1035"/>
                  </a:lnTo>
                  <a:lnTo>
                    <a:pt x="1084" y="1038"/>
                  </a:lnTo>
                  <a:lnTo>
                    <a:pt x="1087" y="1042"/>
                  </a:lnTo>
                  <a:lnTo>
                    <a:pt x="1090" y="1044"/>
                  </a:lnTo>
                  <a:lnTo>
                    <a:pt x="1094" y="1047"/>
                  </a:lnTo>
                  <a:lnTo>
                    <a:pt x="1098" y="1050"/>
                  </a:lnTo>
                  <a:lnTo>
                    <a:pt x="1102" y="1052"/>
                  </a:lnTo>
                  <a:lnTo>
                    <a:pt x="1107" y="1054"/>
                  </a:lnTo>
                  <a:lnTo>
                    <a:pt x="1117" y="1058"/>
                  </a:lnTo>
                  <a:lnTo>
                    <a:pt x="1129" y="1060"/>
                  </a:lnTo>
                  <a:lnTo>
                    <a:pt x="1141" y="1062"/>
                  </a:lnTo>
                  <a:lnTo>
                    <a:pt x="1154" y="1064"/>
                  </a:lnTo>
                  <a:lnTo>
                    <a:pt x="1169" y="1064"/>
                  </a:lnTo>
                  <a:lnTo>
                    <a:pt x="1177" y="1064"/>
                  </a:lnTo>
                  <a:lnTo>
                    <a:pt x="1184" y="1062"/>
                  </a:lnTo>
                  <a:lnTo>
                    <a:pt x="1192" y="1061"/>
                  </a:lnTo>
                  <a:lnTo>
                    <a:pt x="1200" y="1060"/>
                  </a:lnTo>
                  <a:lnTo>
                    <a:pt x="1217" y="1057"/>
                  </a:lnTo>
                  <a:lnTo>
                    <a:pt x="1234" y="1051"/>
                  </a:lnTo>
                  <a:lnTo>
                    <a:pt x="1251" y="1045"/>
                  </a:lnTo>
                  <a:lnTo>
                    <a:pt x="1266" y="1039"/>
                  </a:lnTo>
                  <a:lnTo>
                    <a:pt x="1277" y="1034"/>
                  </a:lnTo>
                  <a:lnTo>
                    <a:pt x="1287" y="1029"/>
                  </a:lnTo>
                  <a:lnTo>
                    <a:pt x="1266" y="1137"/>
                  </a:lnTo>
                  <a:lnTo>
                    <a:pt x="1114" y="1209"/>
                  </a:lnTo>
                  <a:lnTo>
                    <a:pt x="1100" y="1215"/>
                  </a:lnTo>
                  <a:lnTo>
                    <a:pt x="1085" y="1221"/>
                  </a:lnTo>
                  <a:lnTo>
                    <a:pt x="1069" y="1225"/>
                  </a:lnTo>
                  <a:lnTo>
                    <a:pt x="1054" y="1229"/>
                  </a:lnTo>
                  <a:lnTo>
                    <a:pt x="1036" y="1231"/>
                  </a:lnTo>
                  <a:lnTo>
                    <a:pt x="1020" y="1233"/>
                  </a:lnTo>
                  <a:lnTo>
                    <a:pt x="1001" y="1234"/>
                  </a:lnTo>
                  <a:lnTo>
                    <a:pt x="983" y="1234"/>
                  </a:lnTo>
                  <a:lnTo>
                    <a:pt x="957" y="1233"/>
                  </a:lnTo>
                  <a:lnTo>
                    <a:pt x="933" y="1231"/>
                  </a:lnTo>
                  <a:lnTo>
                    <a:pt x="910" y="1226"/>
                  </a:lnTo>
                  <a:lnTo>
                    <a:pt x="888" y="1219"/>
                  </a:lnTo>
                  <a:lnTo>
                    <a:pt x="868" y="1211"/>
                  </a:lnTo>
                  <a:lnTo>
                    <a:pt x="849" y="1201"/>
                  </a:lnTo>
                  <a:lnTo>
                    <a:pt x="832" y="1188"/>
                  </a:lnTo>
                  <a:lnTo>
                    <a:pt x="815" y="1174"/>
                  </a:lnTo>
                  <a:lnTo>
                    <a:pt x="800" y="1158"/>
                  </a:lnTo>
                  <a:lnTo>
                    <a:pt x="786" y="1142"/>
                  </a:lnTo>
                  <a:lnTo>
                    <a:pt x="774" y="1125"/>
                  </a:lnTo>
                  <a:lnTo>
                    <a:pt x="763" y="1106"/>
                  </a:lnTo>
                  <a:lnTo>
                    <a:pt x="754" y="1086"/>
                  </a:lnTo>
                  <a:lnTo>
                    <a:pt x="746" y="1065"/>
                  </a:lnTo>
                  <a:lnTo>
                    <a:pt x="740" y="1043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45520" y="627120"/>
              <a:ext cx="453960" cy="450720"/>
            </a:xfrm>
            <a:custGeom>
              <a:avLst/>
              <a:gdLst/>
              <a:ahLst/>
              <a:rect l="l" t="t" r="r" b="b"/>
              <a:pathLst>
                <a:path w="1262" h="1253">
                  <a:moveTo>
                    <a:pt x="740" y="96"/>
                  </a:moveTo>
                  <a:lnTo>
                    <a:pt x="730" y="96"/>
                  </a:lnTo>
                  <a:lnTo>
                    <a:pt x="720" y="97"/>
                  </a:lnTo>
                  <a:lnTo>
                    <a:pt x="711" y="98"/>
                  </a:lnTo>
                  <a:lnTo>
                    <a:pt x="701" y="100"/>
                  </a:lnTo>
                  <a:lnTo>
                    <a:pt x="692" y="103"/>
                  </a:lnTo>
                  <a:lnTo>
                    <a:pt x="683" y="105"/>
                  </a:lnTo>
                  <a:lnTo>
                    <a:pt x="673" y="109"/>
                  </a:lnTo>
                  <a:lnTo>
                    <a:pt x="664" y="112"/>
                  </a:lnTo>
                  <a:lnTo>
                    <a:pt x="655" y="117"/>
                  </a:lnTo>
                  <a:lnTo>
                    <a:pt x="646" y="121"/>
                  </a:lnTo>
                  <a:lnTo>
                    <a:pt x="637" y="127"/>
                  </a:lnTo>
                  <a:lnTo>
                    <a:pt x="629" y="134"/>
                  </a:lnTo>
                  <a:lnTo>
                    <a:pt x="620" y="141"/>
                  </a:lnTo>
                  <a:lnTo>
                    <a:pt x="613" y="148"/>
                  </a:lnTo>
                  <a:lnTo>
                    <a:pt x="605" y="156"/>
                  </a:lnTo>
                  <a:lnTo>
                    <a:pt x="597" y="164"/>
                  </a:lnTo>
                  <a:lnTo>
                    <a:pt x="590" y="173"/>
                  </a:lnTo>
                  <a:lnTo>
                    <a:pt x="583" y="182"/>
                  </a:lnTo>
                  <a:lnTo>
                    <a:pt x="576" y="193"/>
                  </a:lnTo>
                  <a:lnTo>
                    <a:pt x="570" y="204"/>
                  </a:lnTo>
                  <a:lnTo>
                    <a:pt x="565" y="216"/>
                  </a:lnTo>
                  <a:lnTo>
                    <a:pt x="559" y="228"/>
                  </a:lnTo>
                  <a:lnTo>
                    <a:pt x="554" y="240"/>
                  </a:lnTo>
                  <a:lnTo>
                    <a:pt x="550" y="254"/>
                  </a:lnTo>
                  <a:lnTo>
                    <a:pt x="546" y="268"/>
                  </a:lnTo>
                  <a:lnTo>
                    <a:pt x="542" y="283"/>
                  </a:lnTo>
                  <a:lnTo>
                    <a:pt x="539" y="298"/>
                  </a:lnTo>
                  <a:lnTo>
                    <a:pt x="536" y="314"/>
                  </a:lnTo>
                  <a:lnTo>
                    <a:pt x="535" y="331"/>
                  </a:lnTo>
                  <a:lnTo>
                    <a:pt x="533" y="348"/>
                  </a:lnTo>
                  <a:lnTo>
                    <a:pt x="532" y="365"/>
                  </a:lnTo>
                  <a:lnTo>
                    <a:pt x="532" y="383"/>
                  </a:lnTo>
                  <a:lnTo>
                    <a:pt x="533" y="408"/>
                  </a:lnTo>
                  <a:lnTo>
                    <a:pt x="535" y="430"/>
                  </a:lnTo>
                  <a:lnTo>
                    <a:pt x="538" y="452"/>
                  </a:lnTo>
                  <a:lnTo>
                    <a:pt x="543" y="471"/>
                  </a:lnTo>
                  <a:lnTo>
                    <a:pt x="549" y="491"/>
                  </a:lnTo>
                  <a:lnTo>
                    <a:pt x="552" y="500"/>
                  </a:lnTo>
                  <a:lnTo>
                    <a:pt x="556" y="509"/>
                  </a:lnTo>
                  <a:lnTo>
                    <a:pt x="560" y="517"/>
                  </a:lnTo>
                  <a:lnTo>
                    <a:pt x="564" y="525"/>
                  </a:lnTo>
                  <a:lnTo>
                    <a:pt x="569" y="534"/>
                  </a:lnTo>
                  <a:lnTo>
                    <a:pt x="574" y="542"/>
                  </a:lnTo>
                  <a:lnTo>
                    <a:pt x="580" y="549"/>
                  </a:lnTo>
                  <a:lnTo>
                    <a:pt x="585" y="555"/>
                  </a:lnTo>
                  <a:lnTo>
                    <a:pt x="591" y="562"/>
                  </a:lnTo>
                  <a:lnTo>
                    <a:pt x="598" y="568"/>
                  </a:lnTo>
                  <a:lnTo>
                    <a:pt x="605" y="574"/>
                  </a:lnTo>
                  <a:lnTo>
                    <a:pt x="612" y="579"/>
                  </a:lnTo>
                  <a:lnTo>
                    <a:pt x="620" y="583"/>
                  </a:lnTo>
                  <a:lnTo>
                    <a:pt x="628" y="587"/>
                  </a:lnTo>
                  <a:lnTo>
                    <a:pt x="645" y="594"/>
                  </a:lnTo>
                  <a:lnTo>
                    <a:pt x="664" y="598"/>
                  </a:lnTo>
                  <a:lnTo>
                    <a:pt x="684" y="601"/>
                  </a:lnTo>
                  <a:lnTo>
                    <a:pt x="705" y="602"/>
                  </a:lnTo>
                  <a:lnTo>
                    <a:pt x="778" y="602"/>
                  </a:lnTo>
                  <a:lnTo>
                    <a:pt x="808" y="465"/>
                  </a:lnTo>
                  <a:lnTo>
                    <a:pt x="825" y="375"/>
                  </a:lnTo>
                  <a:lnTo>
                    <a:pt x="833" y="331"/>
                  </a:lnTo>
                  <a:lnTo>
                    <a:pt x="838" y="291"/>
                  </a:lnTo>
                  <a:lnTo>
                    <a:pt x="843" y="253"/>
                  </a:lnTo>
                  <a:lnTo>
                    <a:pt x="848" y="222"/>
                  </a:lnTo>
                  <a:lnTo>
                    <a:pt x="849" y="196"/>
                  </a:lnTo>
                  <a:lnTo>
                    <a:pt x="850" y="186"/>
                  </a:lnTo>
                  <a:lnTo>
                    <a:pt x="850" y="178"/>
                  </a:lnTo>
                  <a:lnTo>
                    <a:pt x="850" y="173"/>
                  </a:lnTo>
                  <a:lnTo>
                    <a:pt x="849" y="170"/>
                  </a:lnTo>
                  <a:lnTo>
                    <a:pt x="849" y="165"/>
                  </a:lnTo>
                  <a:lnTo>
                    <a:pt x="848" y="162"/>
                  </a:lnTo>
                  <a:lnTo>
                    <a:pt x="848" y="157"/>
                  </a:lnTo>
                  <a:lnTo>
                    <a:pt x="846" y="154"/>
                  </a:lnTo>
                  <a:lnTo>
                    <a:pt x="844" y="149"/>
                  </a:lnTo>
                  <a:lnTo>
                    <a:pt x="843" y="146"/>
                  </a:lnTo>
                  <a:lnTo>
                    <a:pt x="841" y="142"/>
                  </a:lnTo>
                  <a:lnTo>
                    <a:pt x="838" y="139"/>
                  </a:lnTo>
                  <a:lnTo>
                    <a:pt x="836" y="135"/>
                  </a:lnTo>
                  <a:lnTo>
                    <a:pt x="833" y="132"/>
                  </a:lnTo>
                  <a:lnTo>
                    <a:pt x="828" y="125"/>
                  </a:lnTo>
                  <a:lnTo>
                    <a:pt x="821" y="119"/>
                  </a:lnTo>
                  <a:lnTo>
                    <a:pt x="813" y="113"/>
                  </a:lnTo>
                  <a:lnTo>
                    <a:pt x="804" y="109"/>
                  </a:lnTo>
                  <a:lnTo>
                    <a:pt x="796" y="105"/>
                  </a:lnTo>
                  <a:lnTo>
                    <a:pt x="786" y="102"/>
                  </a:lnTo>
                  <a:lnTo>
                    <a:pt x="775" y="99"/>
                  </a:lnTo>
                  <a:lnTo>
                    <a:pt x="764" y="97"/>
                  </a:lnTo>
                  <a:lnTo>
                    <a:pt x="753" y="96"/>
                  </a:lnTo>
                  <a:close/>
                  <a:moveTo>
                    <a:pt x="1164" y="207"/>
                  </a:moveTo>
                  <a:lnTo>
                    <a:pt x="1164" y="231"/>
                  </a:lnTo>
                  <a:lnTo>
                    <a:pt x="1163" y="256"/>
                  </a:lnTo>
                  <a:lnTo>
                    <a:pt x="1160" y="281"/>
                  </a:lnTo>
                  <a:lnTo>
                    <a:pt x="1157" y="306"/>
                  </a:lnTo>
                  <a:lnTo>
                    <a:pt x="1149" y="351"/>
                  </a:lnTo>
                  <a:lnTo>
                    <a:pt x="1146" y="368"/>
                  </a:lnTo>
                  <a:lnTo>
                    <a:pt x="1143" y="383"/>
                  </a:lnTo>
                  <a:lnTo>
                    <a:pt x="1058" y="778"/>
                  </a:lnTo>
                  <a:lnTo>
                    <a:pt x="1050" y="822"/>
                  </a:lnTo>
                  <a:lnTo>
                    <a:pt x="1046" y="846"/>
                  </a:lnTo>
                  <a:lnTo>
                    <a:pt x="1042" y="872"/>
                  </a:lnTo>
                  <a:lnTo>
                    <a:pt x="1039" y="898"/>
                  </a:lnTo>
                  <a:lnTo>
                    <a:pt x="1036" y="920"/>
                  </a:lnTo>
                  <a:lnTo>
                    <a:pt x="1036" y="940"/>
                  </a:lnTo>
                  <a:lnTo>
                    <a:pt x="1035" y="949"/>
                  </a:lnTo>
                  <a:lnTo>
                    <a:pt x="1035" y="957"/>
                  </a:lnTo>
                  <a:lnTo>
                    <a:pt x="1035" y="975"/>
                  </a:lnTo>
                  <a:lnTo>
                    <a:pt x="1036" y="990"/>
                  </a:lnTo>
                  <a:lnTo>
                    <a:pt x="1038" y="1004"/>
                  </a:lnTo>
                  <a:lnTo>
                    <a:pt x="1039" y="1010"/>
                  </a:lnTo>
                  <a:lnTo>
                    <a:pt x="1041" y="1016"/>
                  </a:lnTo>
                  <a:lnTo>
                    <a:pt x="1042" y="1022"/>
                  </a:lnTo>
                  <a:lnTo>
                    <a:pt x="1044" y="1028"/>
                  </a:lnTo>
                  <a:lnTo>
                    <a:pt x="1046" y="1032"/>
                  </a:lnTo>
                  <a:lnTo>
                    <a:pt x="1048" y="1037"/>
                  </a:lnTo>
                  <a:lnTo>
                    <a:pt x="1050" y="1042"/>
                  </a:lnTo>
                  <a:lnTo>
                    <a:pt x="1052" y="1046"/>
                  </a:lnTo>
                  <a:lnTo>
                    <a:pt x="1055" y="1050"/>
                  </a:lnTo>
                  <a:lnTo>
                    <a:pt x="1058" y="1053"/>
                  </a:lnTo>
                  <a:lnTo>
                    <a:pt x="1061" y="1057"/>
                  </a:lnTo>
                  <a:lnTo>
                    <a:pt x="1065" y="1059"/>
                  </a:lnTo>
                  <a:lnTo>
                    <a:pt x="1069" y="1062"/>
                  </a:lnTo>
                  <a:lnTo>
                    <a:pt x="1073" y="1065"/>
                  </a:lnTo>
                  <a:lnTo>
                    <a:pt x="1081" y="1069"/>
                  </a:lnTo>
                  <a:lnTo>
                    <a:pt x="1092" y="1073"/>
                  </a:lnTo>
                  <a:lnTo>
                    <a:pt x="1103" y="1075"/>
                  </a:lnTo>
                  <a:lnTo>
                    <a:pt x="1115" y="1077"/>
                  </a:lnTo>
                  <a:lnTo>
                    <a:pt x="1129" y="1079"/>
                  </a:lnTo>
                  <a:lnTo>
                    <a:pt x="1144" y="1079"/>
                  </a:lnTo>
                  <a:lnTo>
                    <a:pt x="1151" y="1079"/>
                  </a:lnTo>
                  <a:lnTo>
                    <a:pt x="1159" y="1077"/>
                  </a:lnTo>
                  <a:lnTo>
                    <a:pt x="1166" y="1076"/>
                  </a:lnTo>
                  <a:lnTo>
                    <a:pt x="1174" y="1075"/>
                  </a:lnTo>
                  <a:lnTo>
                    <a:pt x="1191" y="1072"/>
                  </a:lnTo>
                  <a:lnTo>
                    <a:pt x="1209" y="1066"/>
                  </a:lnTo>
                  <a:lnTo>
                    <a:pt x="1225" y="1060"/>
                  </a:lnTo>
                  <a:lnTo>
                    <a:pt x="1240" y="1054"/>
                  </a:lnTo>
                  <a:lnTo>
                    <a:pt x="1252" y="1049"/>
                  </a:lnTo>
                  <a:lnTo>
                    <a:pt x="1261" y="1044"/>
                  </a:lnTo>
                  <a:lnTo>
                    <a:pt x="1240" y="1152"/>
                  </a:lnTo>
                  <a:lnTo>
                    <a:pt x="1089" y="1224"/>
                  </a:lnTo>
                  <a:lnTo>
                    <a:pt x="1075" y="1230"/>
                  </a:lnTo>
                  <a:lnTo>
                    <a:pt x="1060" y="1236"/>
                  </a:lnTo>
                  <a:lnTo>
                    <a:pt x="1044" y="1240"/>
                  </a:lnTo>
                  <a:lnTo>
                    <a:pt x="1028" y="1244"/>
                  </a:lnTo>
                  <a:lnTo>
                    <a:pt x="1011" y="1246"/>
                  </a:lnTo>
                  <a:lnTo>
                    <a:pt x="994" y="1248"/>
                  </a:lnTo>
                  <a:lnTo>
                    <a:pt x="976" y="1249"/>
                  </a:lnTo>
                  <a:lnTo>
                    <a:pt x="957" y="1249"/>
                  </a:lnTo>
                  <a:lnTo>
                    <a:pt x="932" y="1248"/>
                  </a:lnTo>
                  <a:lnTo>
                    <a:pt x="907" y="1245"/>
                  </a:lnTo>
                  <a:lnTo>
                    <a:pt x="885" y="1240"/>
                  </a:lnTo>
                  <a:lnTo>
                    <a:pt x="862" y="1232"/>
                  </a:lnTo>
                  <a:lnTo>
                    <a:pt x="842" y="1223"/>
                  </a:lnTo>
                  <a:lnTo>
                    <a:pt x="822" y="1211"/>
                  </a:lnTo>
                  <a:lnTo>
                    <a:pt x="803" y="1198"/>
                  </a:lnTo>
                  <a:lnTo>
                    <a:pt x="786" y="1181"/>
                  </a:lnTo>
                  <a:lnTo>
                    <a:pt x="778" y="1172"/>
                  </a:lnTo>
                  <a:lnTo>
                    <a:pt x="770" y="1163"/>
                  </a:lnTo>
                  <a:lnTo>
                    <a:pt x="763" y="1154"/>
                  </a:lnTo>
                  <a:lnTo>
                    <a:pt x="757" y="1144"/>
                  </a:lnTo>
                  <a:lnTo>
                    <a:pt x="750" y="1134"/>
                  </a:lnTo>
                  <a:lnTo>
                    <a:pt x="745" y="1124"/>
                  </a:lnTo>
                  <a:lnTo>
                    <a:pt x="740" y="1112"/>
                  </a:lnTo>
                  <a:lnTo>
                    <a:pt x="735" y="1101"/>
                  </a:lnTo>
                  <a:lnTo>
                    <a:pt x="732" y="1089"/>
                  </a:lnTo>
                  <a:lnTo>
                    <a:pt x="728" y="1077"/>
                  </a:lnTo>
                  <a:lnTo>
                    <a:pt x="725" y="1065"/>
                  </a:lnTo>
                  <a:lnTo>
                    <a:pt x="723" y="1052"/>
                  </a:lnTo>
                  <a:lnTo>
                    <a:pt x="721" y="1039"/>
                  </a:lnTo>
                  <a:lnTo>
                    <a:pt x="719" y="1025"/>
                  </a:lnTo>
                  <a:lnTo>
                    <a:pt x="719" y="1012"/>
                  </a:lnTo>
                  <a:lnTo>
                    <a:pt x="719" y="998"/>
                  </a:lnTo>
                  <a:lnTo>
                    <a:pt x="719" y="968"/>
                  </a:lnTo>
                  <a:lnTo>
                    <a:pt x="719" y="941"/>
                  </a:lnTo>
                  <a:lnTo>
                    <a:pt x="720" y="918"/>
                  </a:lnTo>
                  <a:lnTo>
                    <a:pt x="722" y="897"/>
                  </a:lnTo>
                  <a:lnTo>
                    <a:pt x="724" y="878"/>
                  </a:lnTo>
                  <a:lnTo>
                    <a:pt x="728" y="857"/>
                  </a:lnTo>
                  <a:lnTo>
                    <a:pt x="732" y="833"/>
                  </a:lnTo>
                  <a:lnTo>
                    <a:pt x="737" y="806"/>
                  </a:lnTo>
                  <a:lnTo>
                    <a:pt x="758" y="704"/>
                  </a:lnTo>
                  <a:lnTo>
                    <a:pt x="699" y="704"/>
                  </a:lnTo>
                  <a:lnTo>
                    <a:pt x="677" y="706"/>
                  </a:lnTo>
                  <a:lnTo>
                    <a:pt x="657" y="707"/>
                  </a:lnTo>
                  <a:lnTo>
                    <a:pt x="649" y="708"/>
                  </a:lnTo>
                  <a:lnTo>
                    <a:pt x="640" y="710"/>
                  </a:lnTo>
                  <a:lnTo>
                    <a:pt x="633" y="711"/>
                  </a:lnTo>
                  <a:lnTo>
                    <a:pt x="626" y="714"/>
                  </a:lnTo>
                  <a:lnTo>
                    <a:pt x="620" y="717"/>
                  </a:lnTo>
                  <a:lnTo>
                    <a:pt x="612" y="721"/>
                  </a:lnTo>
                  <a:lnTo>
                    <a:pt x="605" y="725"/>
                  </a:lnTo>
                  <a:lnTo>
                    <a:pt x="597" y="730"/>
                  </a:lnTo>
                  <a:lnTo>
                    <a:pt x="590" y="737"/>
                  </a:lnTo>
                  <a:lnTo>
                    <a:pt x="581" y="744"/>
                  </a:lnTo>
                  <a:lnTo>
                    <a:pt x="563" y="760"/>
                  </a:lnTo>
                  <a:lnTo>
                    <a:pt x="545" y="779"/>
                  </a:lnTo>
                  <a:lnTo>
                    <a:pt x="536" y="790"/>
                  </a:lnTo>
                  <a:lnTo>
                    <a:pt x="527" y="800"/>
                  </a:lnTo>
                  <a:lnTo>
                    <a:pt x="520" y="811"/>
                  </a:lnTo>
                  <a:lnTo>
                    <a:pt x="512" y="821"/>
                  </a:lnTo>
                  <a:lnTo>
                    <a:pt x="505" y="831"/>
                  </a:lnTo>
                  <a:lnTo>
                    <a:pt x="498" y="843"/>
                  </a:lnTo>
                  <a:lnTo>
                    <a:pt x="448" y="935"/>
                  </a:lnTo>
                  <a:lnTo>
                    <a:pt x="399" y="1035"/>
                  </a:lnTo>
                  <a:lnTo>
                    <a:pt x="384" y="1065"/>
                  </a:lnTo>
                  <a:lnTo>
                    <a:pt x="368" y="1092"/>
                  </a:lnTo>
                  <a:lnTo>
                    <a:pt x="352" y="1119"/>
                  </a:lnTo>
                  <a:lnTo>
                    <a:pt x="334" y="1144"/>
                  </a:lnTo>
                  <a:lnTo>
                    <a:pt x="323" y="1161"/>
                  </a:lnTo>
                  <a:lnTo>
                    <a:pt x="313" y="1174"/>
                  </a:lnTo>
                  <a:lnTo>
                    <a:pt x="302" y="1187"/>
                  </a:lnTo>
                  <a:lnTo>
                    <a:pt x="292" y="1199"/>
                  </a:lnTo>
                  <a:lnTo>
                    <a:pt x="281" y="1209"/>
                  </a:lnTo>
                  <a:lnTo>
                    <a:pt x="271" y="1217"/>
                  </a:lnTo>
                  <a:lnTo>
                    <a:pt x="261" y="1225"/>
                  </a:lnTo>
                  <a:lnTo>
                    <a:pt x="251" y="1231"/>
                  </a:lnTo>
                  <a:lnTo>
                    <a:pt x="241" y="1236"/>
                  </a:lnTo>
                  <a:lnTo>
                    <a:pt x="230" y="1240"/>
                  </a:lnTo>
                  <a:lnTo>
                    <a:pt x="219" y="1244"/>
                  </a:lnTo>
                  <a:lnTo>
                    <a:pt x="208" y="1247"/>
                  </a:lnTo>
                  <a:lnTo>
                    <a:pt x="195" y="1248"/>
                  </a:lnTo>
                  <a:lnTo>
                    <a:pt x="183" y="1251"/>
                  </a:lnTo>
                  <a:lnTo>
                    <a:pt x="170" y="1252"/>
                  </a:lnTo>
                  <a:lnTo>
                    <a:pt x="155" y="1252"/>
                  </a:lnTo>
                  <a:lnTo>
                    <a:pt x="137" y="1251"/>
                  </a:lnTo>
                  <a:lnTo>
                    <a:pt x="120" y="1248"/>
                  </a:lnTo>
                  <a:lnTo>
                    <a:pt x="105" y="1245"/>
                  </a:lnTo>
                  <a:lnTo>
                    <a:pt x="90" y="1240"/>
                  </a:lnTo>
                  <a:lnTo>
                    <a:pt x="76" y="1233"/>
                  </a:lnTo>
                  <a:lnTo>
                    <a:pt x="63" y="1225"/>
                  </a:lnTo>
                  <a:lnTo>
                    <a:pt x="51" y="1216"/>
                  </a:lnTo>
                  <a:lnTo>
                    <a:pt x="46" y="1211"/>
                  </a:lnTo>
                  <a:lnTo>
                    <a:pt x="41" y="1206"/>
                  </a:lnTo>
                  <a:lnTo>
                    <a:pt x="36" y="1200"/>
                  </a:lnTo>
                  <a:lnTo>
                    <a:pt x="31" y="1193"/>
                  </a:lnTo>
                  <a:lnTo>
                    <a:pt x="27" y="1187"/>
                  </a:lnTo>
                  <a:lnTo>
                    <a:pt x="23" y="1180"/>
                  </a:lnTo>
                  <a:lnTo>
                    <a:pt x="19" y="1173"/>
                  </a:lnTo>
                  <a:lnTo>
                    <a:pt x="16" y="1165"/>
                  </a:lnTo>
                  <a:lnTo>
                    <a:pt x="13" y="1157"/>
                  </a:lnTo>
                  <a:lnTo>
                    <a:pt x="11" y="1150"/>
                  </a:lnTo>
                  <a:lnTo>
                    <a:pt x="8" y="1141"/>
                  </a:lnTo>
                  <a:lnTo>
                    <a:pt x="6" y="1133"/>
                  </a:lnTo>
                  <a:lnTo>
                    <a:pt x="4" y="1124"/>
                  </a:lnTo>
                  <a:lnTo>
                    <a:pt x="2" y="1116"/>
                  </a:lnTo>
                  <a:lnTo>
                    <a:pt x="1" y="1105"/>
                  </a:lnTo>
                  <a:lnTo>
                    <a:pt x="1" y="1096"/>
                  </a:lnTo>
                  <a:lnTo>
                    <a:pt x="0" y="1076"/>
                  </a:lnTo>
                  <a:lnTo>
                    <a:pt x="1" y="1051"/>
                  </a:lnTo>
                  <a:lnTo>
                    <a:pt x="2" y="1028"/>
                  </a:lnTo>
                  <a:lnTo>
                    <a:pt x="6" y="1006"/>
                  </a:lnTo>
                  <a:lnTo>
                    <a:pt x="11" y="985"/>
                  </a:lnTo>
                  <a:lnTo>
                    <a:pt x="14" y="975"/>
                  </a:lnTo>
                  <a:lnTo>
                    <a:pt x="17" y="964"/>
                  </a:lnTo>
                  <a:lnTo>
                    <a:pt x="21" y="955"/>
                  </a:lnTo>
                  <a:lnTo>
                    <a:pt x="25" y="947"/>
                  </a:lnTo>
                  <a:lnTo>
                    <a:pt x="29" y="938"/>
                  </a:lnTo>
                  <a:lnTo>
                    <a:pt x="34" y="930"/>
                  </a:lnTo>
                  <a:lnTo>
                    <a:pt x="39" y="922"/>
                  </a:lnTo>
                  <a:lnTo>
                    <a:pt x="44" y="913"/>
                  </a:lnTo>
                  <a:lnTo>
                    <a:pt x="49" y="907"/>
                  </a:lnTo>
                  <a:lnTo>
                    <a:pt x="55" y="900"/>
                  </a:lnTo>
                  <a:lnTo>
                    <a:pt x="61" y="894"/>
                  </a:lnTo>
                  <a:lnTo>
                    <a:pt x="66" y="888"/>
                  </a:lnTo>
                  <a:lnTo>
                    <a:pt x="73" y="882"/>
                  </a:lnTo>
                  <a:lnTo>
                    <a:pt x="79" y="878"/>
                  </a:lnTo>
                  <a:lnTo>
                    <a:pt x="85" y="873"/>
                  </a:lnTo>
                  <a:lnTo>
                    <a:pt x="92" y="870"/>
                  </a:lnTo>
                  <a:lnTo>
                    <a:pt x="106" y="863"/>
                  </a:lnTo>
                  <a:lnTo>
                    <a:pt x="120" y="858"/>
                  </a:lnTo>
                  <a:lnTo>
                    <a:pt x="135" y="856"/>
                  </a:lnTo>
                  <a:lnTo>
                    <a:pt x="151" y="855"/>
                  </a:lnTo>
                  <a:lnTo>
                    <a:pt x="163" y="855"/>
                  </a:lnTo>
                  <a:lnTo>
                    <a:pt x="174" y="857"/>
                  </a:lnTo>
                  <a:lnTo>
                    <a:pt x="184" y="859"/>
                  </a:lnTo>
                  <a:lnTo>
                    <a:pt x="196" y="863"/>
                  </a:lnTo>
                  <a:lnTo>
                    <a:pt x="206" y="867"/>
                  </a:lnTo>
                  <a:lnTo>
                    <a:pt x="217" y="872"/>
                  </a:lnTo>
                  <a:lnTo>
                    <a:pt x="228" y="879"/>
                  </a:lnTo>
                  <a:lnTo>
                    <a:pt x="238" y="886"/>
                  </a:lnTo>
                  <a:lnTo>
                    <a:pt x="258" y="901"/>
                  </a:lnTo>
                  <a:lnTo>
                    <a:pt x="275" y="916"/>
                  </a:lnTo>
                  <a:lnTo>
                    <a:pt x="291" y="931"/>
                  </a:lnTo>
                  <a:lnTo>
                    <a:pt x="305" y="945"/>
                  </a:lnTo>
                  <a:lnTo>
                    <a:pt x="319" y="912"/>
                  </a:lnTo>
                  <a:lnTo>
                    <a:pt x="334" y="880"/>
                  </a:lnTo>
                  <a:lnTo>
                    <a:pt x="351" y="848"/>
                  </a:lnTo>
                  <a:lnTo>
                    <a:pt x="368" y="814"/>
                  </a:lnTo>
                  <a:lnTo>
                    <a:pt x="377" y="798"/>
                  </a:lnTo>
                  <a:lnTo>
                    <a:pt x="387" y="782"/>
                  </a:lnTo>
                  <a:lnTo>
                    <a:pt x="398" y="768"/>
                  </a:lnTo>
                  <a:lnTo>
                    <a:pt x="410" y="754"/>
                  </a:lnTo>
                  <a:lnTo>
                    <a:pt x="422" y="740"/>
                  </a:lnTo>
                  <a:lnTo>
                    <a:pt x="435" y="729"/>
                  </a:lnTo>
                  <a:lnTo>
                    <a:pt x="449" y="717"/>
                  </a:lnTo>
                  <a:lnTo>
                    <a:pt x="463" y="707"/>
                  </a:lnTo>
                  <a:lnTo>
                    <a:pt x="463" y="696"/>
                  </a:lnTo>
                  <a:lnTo>
                    <a:pt x="432" y="692"/>
                  </a:lnTo>
                  <a:lnTo>
                    <a:pt x="402" y="684"/>
                  </a:lnTo>
                  <a:lnTo>
                    <a:pt x="374" y="674"/>
                  </a:lnTo>
                  <a:lnTo>
                    <a:pt x="349" y="663"/>
                  </a:lnTo>
                  <a:lnTo>
                    <a:pt x="325" y="649"/>
                  </a:lnTo>
                  <a:lnTo>
                    <a:pt x="303" y="634"/>
                  </a:lnTo>
                  <a:lnTo>
                    <a:pt x="283" y="616"/>
                  </a:lnTo>
                  <a:lnTo>
                    <a:pt x="273" y="605"/>
                  </a:lnTo>
                  <a:lnTo>
                    <a:pt x="264" y="595"/>
                  </a:lnTo>
                  <a:lnTo>
                    <a:pt x="249" y="573"/>
                  </a:lnTo>
                  <a:lnTo>
                    <a:pt x="234" y="549"/>
                  </a:lnTo>
                  <a:lnTo>
                    <a:pt x="228" y="537"/>
                  </a:lnTo>
                  <a:lnTo>
                    <a:pt x="223" y="524"/>
                  </a:lnTo>
                  <a:lnTo>
                    <a:pt x="217" y="512"/>
                  </a:lnTo>
                  <a:lnTo>
                    <a:pt x="213" y="499"/>
                  </a:lnTo>
                  <a:lnTo>
                    <a:pt x="209" y="485"/>
                  </a:lnTo>
                  <a:lnTo>
                    <a:pt x="205" y="472"/>
                  </a:lnTo>
                  <a:lnTo>
                    <a:pt x="202" y="458"/>
                  </a:lnTo>
                  <a:lnTo>
                    <a:pt x="199" y="443"/>
                  </a:lnTo>
                  <a:lnTo>
                    <a:pt x="198" y="430"/>
                  </a:lnTo>
                  <a:lnTo>
                    <a:pt x="196" y="415"/>
                  </a:lnTo>
                  <a:lnTo>
                    <a:pt x="195" y="400"/>
                  </a:lnTo>
                  <a:lnTo>
                    <a:pt x="195" y="385"/>
                  </a:lnTo>
                  <a:lnTo>
                    <a:pt x="196" y="363"/>
                  </a:lnTo>
                  <a:lnTo>
                    <a:pt x="198" y="341"/>
                  </a:lnTo>
                  <a:lnTo>
                    <a:pt x="200" y="320"/>
                  </a:lnTo>
                  <a:lnTo>
                    <a:pt x="204" y="299"/>
                  </a:lnTo>
                  <a:lnTo>
                    <a:pt x="209" y="279"/>
                  </a:lnTo>
                  <a:lnTo>
                    <a:pt x="215" y="260"/>
                  </a:lnTo>
                  <a:lnTo>
                    <a:pt x="223" y="241"/>
                  </a:lnTo>
                  <a:lnTo>
                    <a:pt x="231" y="224"/>
                  </a:lnTo>
                  <a:lnTo>
                    <a:pt x="240" y="207"/>
                  </a:lnTo>
                  <a:lnTo>
                    <a:pt x="251" y="189"/>
                  </a:lnTo>
                  <a:lnTo>
                    <a:pt x="263" y="173"/>
                  </a:lnTo>
                  <a:lnTo>
                    <a:pt x="276" y="158"/>
                  </a:lnTo>
                  <a:lnTo>
                    <a:pt x="289" y="143"/>
                  </a:lnTo>
                  <a:lnTo>
                    <a:pt x="305" y="128"/>
                  </a:lnTo>
                  <a:lnTo>
                    <a:pt x="338" y="102"/>
                  </a:lnTo>
                  <a:lnTo>
                    <a:pt x="377" y="77"/>
                  </a:lnTo>
                  <a:lnTo>
                    <a:pt x="419" y="57"/>
                  </a:lnTo>
                  <a:lnTo>
                    <a:pt x="466" y="39"/>
                  </a:lnTo>
                  <a:lnTo>
                    <a:pt x="516" y="25"/>
                  </a:lnTo>
                  <a:lnTo>
                    <a:pt x="571" y="14"/>
                  </a:lnTo>
                  <a:lnTo>
                    <a:pt x="631" y="6"/>
                  </a:lnTo>
                  <a:lnTo>
                    <a:pt x="694" y="1"/>
                  </a:lnTo>
                  <a:lnTo>
                    <a:pt x="763" y="0"/>
                  </a:lnTo>
                  <a:lnTo>
                    <a:pt x="859" y="3"/>
                  </a:lnTo>
                  <a:lnTo>
                    <a:pt x="902" y="8"/>
                  </a:lnTo>
                  <a:lnTo>
                    <a:pt x="942" y="15"/>
                  </a:lnTo>
                  <a:lnTo>
                    <a:pt x="979" y="23"/>
                  </a:lnTo>
                  <a:lnTo>
                    <a:pt x="1011" y="34"/>
                  </a:lnTo>
                  <a:lnTo>
                    <a:pt x="1041" y="45"/>
                  </a:lnTo>
                  <a:lnTo>
                    <a:pt x="1067" y="59"/>
                  </a:lnTo>
                  <a:lnTo>
                    <a:pt x="1090" y="74"/>
                  </a:lnTo>
                  <a:lnTo>
                    <a:pt x="1110" y="90"/>
                  </a:lnTo>
                  <a:lnTo>
                    <a:pt x="1119" y="98"/>
                  </a:lnTo>
                  <a:lnTo>
                    <a:pt x="1126" y="107"/>
                  </a:lnTo>
                  <a:lnTo>
                    <a:pt x="1134" y="115"/>
                  </a:lnTo>
                  <a:lnTo>
                    <a:pt x="1140" y="125"/>
                  </a:lnTo>
                  <a:lnTo>
                    <a:pt x="1146" y="134"/>
                  </a:lnTo>
                  <a:lnTo>
                    <a:pt x="1151" y="144"/>
                  </a:lnTo>
                  <a:lnTo>
                    <a:pt x="1155" y="154"/>
                  </a:lnTo>
                  <a:lnTo>
                    <a:pt x="1159" y="164"/>
                  </a:lnTo>
                  <a:lnTo>
                    <a:pt x="1161" y="174"/>
                  </a:lnTo>
                  <a:lnTo>
                    <a:pt x="1163" y="185"/>
                  </a:lnTo>
                  <a:lnTo>
                    <a:pt x="1164" y="195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17120" y="635040"/>
              <a:ext cx="185760" cy="446040"/>
            </a:xfrm>
            <a:custGeom>
              <a:avLst/>
              <a:gdLst/>
              <a:ahLst/>
              <a:rect l="l" t="t" r="r" b="b"/>
              <a:pathLst>
                <a:path w="514" h="1241">
                  <a:moveTo>
                    <a:pt x="513" y="238"/>
                  </a:moveTo>
                  <a:lnTo>
                    <a:pt x="513" y="250"/>
                  </a:lnTo>
                  <a:lnTo>
                    <a:pt x="512" y="262"/>
                  </a:lnTo>
                  <a:lnTo>
                    <a:pt x="511" y="274"/>
                  </a:lnTo>
                  <a:lnTo>
                    <a:pt x="509" y="284"/>
                  </a:lnTo>
                  <a:lnTo>
                    <a:pt x="507" y="296"/>
                  </a:lnTo>
                  <a:lnTo>
                    <a:pt x="504" y="306"/>
                  </a:lnTo>
                  <a:lnTo>
                    <a:pt x="502" y="318"/>
                  </a:lnTo>
                  <a:lnTo>
                    <a:pt x="499" y="328"/>
                  </a:lnTo>
                  <a:lnTo>
                    <a:pt x="495" y="337"/>
                  </a:lnTo>
                  <a:lnTo>
                    <a:pt x="491" y="348"/>
                  </a:lnTo>
                  <a:lnTo>
                    <a:pt x="481" y="367"/>
                  </a:lnTo>
                  <a:lnTo>
                    <a:pt x="470" y="386"/>
                  </a:lnTo>
                  <a:lnTo>
                    <a:pt x="457" y="404"/>
                  </a:lnTo>
                  <a:lnTo>
                    <a:pt x="443" y="420"/>
                  </a:lnTo>
                  <a:lnTo>
                    <a:pt x="428" y="435"/>
                  </a:lnTo>
                  <a:lnTo>
                    <a:pt x="412" y="447"/>
                  </a:lnTo>
                  <a:lnTo>
                    <a:pt x="395" y="457"/>
                  </a:lnTo>
                  <a:lnTo>
                    <a:pt x="379" y="465"/>
                  </a:lnTo>
                  <a:lnTo>
                    <a:pt x="361" y="470"/>
                  </a:lnTo>
                  <a:lnTo>
                    <a:pt x="343" y="474"/>
                  </a:lnTo>
                  <a:lnTo>
                    <a:pt x="324" y="475"/>
                  </a:lnTo>
                  <a:lnTo>
                    <a:pt x="305" y="474"/>
                  </a:lnTo>
                  <a:lnTo>
                    <a:pt x="286" y="470"/>
                  </a:lnTo>
                  <a:lnTo>
                    <a:pt x="269" y="465"/>
                  </a:lnTo>
                  <a:lnTo>
                    <a:pt x="252" y="457"/>
                  </a:lnTo>
                  <a:lnTo>
                    <a:pt x="236" y="448"/>
                  </a:lnTo>
                  <a:lnTo>
                    <a:pt x="220" y="435"/>
                  </a:lnTo>
                  <a:lnTo>
                    <a:pt x="205" y="422"/>
                  </a:lnTo>
                  <a:lnTo>
                    <a:pt x="191" y="405"/>
                  </a:lnTo>
                  <a:lnTo>
                    <a:pt x="177" y="387"/>
                  </a:lnTo>
                  <a:lnTo>
                    <a:pt x="167" y="368"/>
                  </a:lnTo>
                  <a:lnTo>
                    <a:pt x="162" y="358"/>
                  </a:lnTo>
                  <a:lnTo>
                    <a:pt x="157" y="349"/>
                  </a:lnTo>
                  <a:lnTo>
                    <a:pt x="152" y="338"/>
                  </a:lnTo>
                  <a:lnTo>
                    <a:pt x="149" y="328"/>
                  </a:lnTo>
                  <a:lnTo>
                    <a:pt x="146" y="318"/>
                  </a:lnTo>
                  <a:lnTo>
                    <a:pt x="142" y="307"/>
                  </a:lnTo>
                  <a:lnTo>
                    <a:pt x="140" y="296"/>
                  </a:lnTo>
                  <a:lnTo>
                    <a:pt x="138" y="285"/>
                  </a:lnTo>
                  <a:lnTo>
                    <a:pt x="137" y="274"/>
                  </a:lnTo>
                  <a:lnTo>
                    <a:pt x="136" y="262"/>
                  </a:lnTo>
                  <a:lnTo>
                    <a:pt x="135" y="250"/>
                  </a:lnTo>
                  <a:lnTo>
                    <a:pt x="135" y="238"/>
                  </a:lnTo>
                  <a:lnTo>
                    <a:pt x="135" y="226"/>
                  </a:lnTo>
                  <a:lnTo>
                    <a:pt x="136" y="214"/>
                  </a:lnTo>
                  <a:lnTo>
                    <a:pt x="137" y="202"/>
                  </a:lnTo>
                  <a:lnTo>
                    <a:pt x="138" y="191"/>
                  </a:lnTo>
                  <a:lnTo>
                    <a:pt x="140" y="180"/>
                  </a:lnTo>
                  <a:lnTo>
                    <a:pt x="142" y="169"/>
                  </a:lnTo>
                  <a:lnTo>
                    <a:pt x="146" y="158"/>
                  </a:lnTo>
                  <a:lnTo>
                    <a:pt x="149" y="148"/>
                  </a:lnTo>
                  <a:lnTo>
                    <a:pt x="152" y="138"/>
                  </a:lnTo>
                  <a:lnTo>
                    <a:pt x="157" y="127"/>
                  </a:lnTo>
                  <a:lnTo>
                    <a:pt x="162" y="118"/>
                  </a:lnTo>
                  <a:lnTo>
                    <a:pt x="167" y="108"/>
                  </a:lnTo>
                  <a:lnTo>
                    <a:pt x="177" y="89"/>
                  </a:lnTo>
                  <a:lnTo>
                    <a:pt x="191" y="71"/>
                  </a:lnTo>
                  <a:lnTo>
                    <a:pt x="205" y="54"/>
                  </a:lnTo>
                  <a:lnTo>
                    <a:pt x="220" y="39"/>
                  </a:lnTo>
                  <a:lnTo>
                    <a:pt x="236" y="28"/>
                  </a:lnTo>
                  <a:lnTo>
                    <a:pt x="252" y="17"/>
                  </a:lnTo>
                  <a:lnTo>
                    <a:pt x="269" y="9"/>
                  </a:lnTo>
                  <a:lnTo>
                    <a:pt x="286" y="5"/>
                  </a:lnTo>
                  <a:lnTo>
                    <a:pt x="305" y="1"/>
                  </a:lnTo>
                  <a:lnTo>
                    <a:pt x="324" y="0"/>
                  </a:lnTo>
                  <a:lnTo>
                    <a:pt x="343" y="1"/>
                  </a:lnTo>
                  <a:lnTo>
                    <a:pt x="361" y="5"/>
                  </a:lnTo>
                  <a:lnTo>
                    <a:pt x="379" y="11"/>
                  </a:lnTo>
                  <a:lnTo>
                    <a:pt x="395" y="17"/>
                  </a:lnTo>
                  <a:lnTo>
                    <a:pt x="412" y="28"/>
                  </a:lnTo>
                  <a:lnTo>
                    <a:pt x="428" y="41"/>
                  </a:lnTo>
                  <a:lnTo>
                    <a:pt x="443" y="54"/>
                  </a:lnTo>
                  <a:lnTo>
                    <a:pt x="457" y="72"/>
                  </a:lnTo>
                  <a:lnTo>
                    <a:pt x="470" y="90"/>
                  </a:lnTo>
                  <a:lnTo>
                    <a:pt x="481" y="109"/>
                  </a:lnTo>
                  <a:lnTo>
                    <a:pt x="491" y="128"/>
                  </a:lnTo>
                  <a:lnTo>
                    <a:pt x="495" y="139"/>
                  </a:lnTo>
                  <a:lnTo>
                    <a:pt x="499" y="149"/>
                  </a:lnTo>
                  <a:lnTo>
                    <a:pt x="502" y="159"/>
                  </a:lnTo>
                  <a:lnTo>
                    <a:pt x="504" y="170"/>
                  </a:lnTo>
                  <a:lnTo>
                    <a:pt x="507" y="180"/>
                  </a:lnTo>
                  <a:lnTo>
                    <a:pt x="509" y="192"/>
                  </a:lnTo>
                  <a:lnTo>
                    <a:pt x="511" y="203"/>
                  </a:lnTo>
                  <a:lnTo>
                    <a:pt x="512" y="215"/>
                  </a:lnTo>
                  <a:lnTo>
                    <a:pt x="513" y="226"/>
                  </a:lnTo>
                  <a:close/>
                  <a:moveTo>
                    <a:pt x="378" y="1005"/>
                  </a:moveTo>
                  <a:lnTo>
                    <a:pt x="378" y="1016"/>
                  </a:lnTo>
                  <a:lnTo>
                    <a:pt x="377" y="1028"/>
                  </a:lnTo>
                  <a:lnTo>
                    <a:pt x="376" y="1039"/>
                  </a:lnTo>
                  <a:lnTo>
                    <a:pt x="375" y="1051"/>
                  </a:lnTo>
                  <a:lnTo>
                    <a:pt x="373" y="1063"/>
                  </a:lnTo>
                  <a:lnTo>
                    <a:pt x="370" y="1073"/>
                  </a:lnTo>
                  <a:lnTo>
                    <a:pt x="367" y="1083"/>
                  </a:lnTo>
                  <a:lnTo>
                    <a:pt x="364" y="1094"/>
                  </a:lnTo>
                  <a:lnTo>
                    <a:pt x="360" y="1104"/>
                  </a:lnTo>
                  <a:lnTo>
                    <a:pt x="356" y="1114"/>
                  </a:lnTo>
                  <a:lnTo>
                    <a:pt x="351" y="1125"/>
                  </a:lnTo>
                  <a:lnTo>
                    <a:pt x="346" y="1134"/>
                  </a:lnTo>
                  <a:lnTo>
                    <a:pt x="335" y="1153"/>
                  </a:lnTo>
                  <a:lnTo>
                    <a:pt x="322" y="1171"/>
                  </a:lnTo>
                  <a:lnTo>
                    <a:pt x="308" y="1187"/>
                  </a:lnTo>
                  <a:lnTo>
                    <a:pt x="293" y="1201"/>
                  </a:lnTo>
                  <a:lnTo>
                    <a:pt x="277" y="1214"/>
                  </a:lnTo>
                  <a:lnTo>
                    <a:pt x="261" y="1223"/>
                  </a:lnTo>
                  <a:lnTo>
                    <a:pt x="244" y="1231"/>
                  </a:lnTo>
                  <a:lnTo>
                    <a:pt x="226" y="1236"/>
                  </a:lnTo>
                  <a:lnTo>
                    <a:pt x="209" y="1239"/>
                  </a:lnTo>
                  <a:lnTo>
                    <a:pt x="190" y="1240"/>
                  </a:lnTo>
                  <a:lnTo>
                    <a:pt x="171" y="1239"/>
                  </a:lnTo>
                  <a:lnTo>
                    <a:pt x="152" y="1236"/>
                  </a:lnTo>
                  <a:lnTo>
                    <a:pt x="135" y="1231"/>
                  </a:lnTo>
                  <a:lnTo>
                    <a:pt x="118" y="1223"/>
                  </a:lnTo>
                  <a:lnTo>
                    <a:pt x="102" y="1214"/>
                  </a:lnTo>
                  <a:lnTo>
                    <a:pt x="86" y="1201"/>
                  </a:lnTo>
                  <a:lnTo>
                    <a:pt x="71" y="1187"/>
                  </a:lnTo>
                  <a:lnTo>
                    <a:pt x="57" y="1171"/>
                  </a:lnTo>
                  <a:lnTo>
                    <a:pt x="43" y="1154"/>
                  </a:lnTo>
                  <a:lnTo>
                    <a:pt x="32" y="1135"/>
                  </a:lnTo>
                  <a:lnTo>
                    <a:pt x="27" y="1125"/>
                  </a:lnTo>
                  <a:lnTo>
                    <a:pt x="23" y="1116"/>
                  </a:lnTo>
                  <a:lnTo>
                    <a:pt x="19" y="1105"/>
                  </a:lnTo>
                  <a:lnTo>
                    <a:pt x="14" y="1095"/>
                  </a:lnTo>
                  <a:lnTo>
                    <a:pt x="11" y="1084"/>
                  </a:lnTo>
                  <a:lnTo>
                    <a:pt x="9" y="1074"/>
                  </a:lnTo>
                  <a:lnTo>
                    <a:pt x="6" y="1063"/>
                  </a:lnTo>
                  <a:lnTo>
                    <a:pt x="4" y="1052"/>
                  </a:lnTo>
                  <a:lnTo>
                    <a:pt x="2" y="1041"/>
                  </a:lnTo>
                  <a:lnTo>
                    <a:pt x="1" y="1029"/>
                  </a:lnTo>
                  <a:lnTo>
                    <a:pt x="0" y="1016"/>
                  </a:lnTo>
                  <a:lnTo>
                    <a:pt x="0" y="1005"/>
                  </a:lnTo>
                  <a:lnTo>
                    <a:pt x="0" y="993"/>
                  </a:lnTo>
                  <a:lnTo>
                    <a:pt x="1" y="981"/>
                  </a:lnTo>
                  <a:lnTo>
                    <a:pt x="2" y="969"/>
                  </a:lnTo>
                  <a:lnTo>
                    <a:pt x="4" y="957"/>
                  </a:lnTo>
                  <a:lnTo>
                    <a:pt x="6" y="947"/>
                  </a:lnTo>
                  <a:lnTo>
                    <a:pt x="9" y="935"/>
                  </a:lnTo>
                  <a:lnTo>
                    <a:pt x="11" y="925"/>
                  </a:lnTo>
                  <a:lnTo>
                    <a:pt x="14" y="915"/>
                  </a:lnTo>
                  <a:lnTo>
                    <a:pt x="19" y="904"/>
                  </a:lnTo>
                  <a:lnTo>
                    <a:pt x="23" y="894"/>
                  </a:lnTo>
                  <a:lnTo>
                    <a:pt x="27" y="885"/>
                  </a:lnTo>
                  <a:lnTo>
                    <a:pt x="32" y="874"/>
                  </a:lnTo>
                  <a:lnTo>
                    <a:pt x="43" y="856"/>
                  </a:lnTo>
                  <a:lnTo>
                    <a:pt x="57" y="837"/>
                  </a:lnTo>
                  <a:lnTo>
                    <a:pt x="71" y="821"/>
                  </a:lnTo>
                  <a:lnTo>
                    <a:pt x="86" y="806"/>
                  </a:lnTo>
                  <a:lnTo>
                    <a:pt x="102" y="793"/>
                  </a:lnTo>
                  <a:lnTo>
                    <a:pt x="118" y="784"/>
                  </a:lnTo>
                  <a:lnTo>
                    <a:pt x="135" y="776"/>
                  </a:lnTo>
                  <a:lnTo>
                    <a:pt x="152" y="770"/>
                  </a:lnTo>
                  <a:lnTo>
                    <a:pt x="171" y="767"/>
                  </a:lnTo>
                  <a:lnTo>
                    <a:pt x="190" y="766"/>
                  </a:lnTo>
                  <a:lnTo>
                    <a:pt x="209" y="767"/>
                  </a:lnTo>
                  <a:lnTo>
                    <a:pt x="226" y="770"/>
                  </a:lnTo>
                  <a:lnTo>
                    <a:pt x="244" y="776"/>
                  </a:lnTo>
                  <a:lnTo>
                    <a:pt x="261" y="784"/>
                  </a:lnTo>
                  <a:lnTo>
                    <a:pt x="277" y="793"/>
                  </a:lnTo>
                  <a:lnTo>
                    <a:pt x="293" y="806"/>
                  </a:lnTo>
                  <a:lnTo>
                    <a:pt x="308" y="821"/>
                  </a:lnTo>
                  <a:lnTo>
                    <a:pt x="322" y="837"/>
                  </a:lnTo>
                  <a:lnTo>
                    <a:pt x="335" y="856"/>
                  </a:lnTo>
                  <a:lnTo>
                    <a:pt x="346" y="875"/>
                  </a:lnTo>
                  <a:lnTo>
                    <a:pt x="351" y="885"/>
                  </a:lnTo>
                  <a:lnTo>
                    <a:pt x="356" y="895"/>
                  </a:lnTo>
                  <a:lnTo>
                    <a:pt x="360" y="905"/>
                  </a:lnTo>
                  <a:lnTo>
                    <a:pt x="364" y="916"/>
                  </a:lnTo>
                  <a:lnTo>
                    <a:pt x="367" y="926"/>
                  </a:lnTo>
                  <a:lnTo>
                    <a:pt x="370" y="937"/>
                  </a:lnTo>
                  <a:lnTo>
                    <a:pt x="373" y="947"/>
                  </a:lnTo>
                  <a:lnTo>
                    <a:pt x="375" y="959"/>
                  </a:lnTo>
                  <a:lnTo>
                    <a:pt x="376" y="970"/>
                  </a:lnTo>
                  <a:lnTo>
                    <a:pt x="377" y="982"/>
                  </a:lnTo>
                  <a:lnTo>
                    <a:pt x="378" y="993"/>
                  </a:ln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Этапы исследо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4"/>
          <a:stretch/>
        </p:blipFill>
        <p:spPr>
          <a:xfrm>
            <a:off x="7345440" y="5346720"/>
            <a:ext cx="187164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8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200"/>
                            </p:stCondLst>
                            <p:childTnLst>
                              <p:par>
                                <p:cTn id="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300"/>
                            </p:stCondLst>
                            <p:childTnLst>
                              <p:par>
                                <p:cTn id="9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400"/>
                            </p:stCondLst>
                            <p:childTnLst>
                              <p:par>
                                <p:cTn id="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233280"/>
            <a:ext cx="860760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0000"/>
              </a:lnSpc>
              <a:buNone/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4c13ed"/>
                </a:solidFill>
                <a:latin typeface="Georgia"/>
              </a:rPr>
              <a:t>Распространённые имена</a:t>
            </a:r>
            <a:br>
              <a:rPr sz="4800"/>
            </a:br>
            <a:r>
              <a:rPr b="1" lang="en-GB" sz="4800" spc="-1" strike="noStrike">
                <a:solidFill>
                  <a:srgbClr val="4c13ed"/>
                </a:solidFill>
                <a:latin typeface="Georgia"/>
              </a:rPr>
              <a:t>среди учащихся 5-9 кл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6920" y="2050920"/>
            <a:ext cx="4730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Georgia"/>
              </a:rPr>
              <a:t>Проанкетировано 40 учеников;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Georgia"/>
              </a:rPr>
              <a:t>Повторяющихся имён - 16 – 20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Georgia"/>
              </a:rPr>
              <a:t>Редкие – 6 - 15 %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184720" y="1692360"/>
          <a:ext cx="4319640" cy="47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4720" y="1692360"/>
                    <a:ext cx="43196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16000" y="5556240"/>
            <a:ext cx="208764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0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1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200"/>
                            </p:stCondLst>
                            <p:childTnLst>
                              <p:par>
                                <p:cTn id="11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30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400"/>
                            </p:stCondLst>
                            <p:childTnLst>
                              <p:par>
                                <p:cTn id="1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8282160" cy="1692360"/>
            <a:chOff x="0" y="0"/>
            <a:chExt cx="8282160" cy="1692360"/>
          </a:xfrm>
        </p:grpSpPr>
        <p:sp>
          <p:nvSpPr>
            <p:cNvPr id="236" name=""/>
            <p:cNvSpPr/>
            <p:nvPr/>
          </p:nvSpPr>
          <p:spPr>
            <a:xfrm>
              <a:off x="2602080" y="395280"/>
              <a:ext cx="774360" cy="471600"/>
            </a:xfrm>
            <a:custGeom>
              <a:avLst/>
              <a:gdLst/>
              <a:ahLst/>
              <a:rect l="l" t="t" r="r" b="b"/>
              <a:pathLst>
                <a:path w="2153" h="1308">
                  <a:moveTo>
                    <a:pt x="1361" y="1169"/>
                  </a:move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0" y="1169"/>
                  </a:lnTo>
                  <a:lnTo>
                    <a:pt x="1361" y="1169"/>
                  </a:lnTo>
                  <a:lnTo>
                    <a:pt x="1361" y="1169"/>
                  </a:lnTo>
                  <a:lnTo>
                    <a:pt x="1368" y="1170"/>
                  </a:lnTo>
                  <a:lnTo>
                    <a:pt x="1401" y="1174"/>
                  </a:lnTo>
                  <a:lnTo>
                    <a:pt x="1430" y="1178"/>
                  </a:lnTo>
                  <a:lnTo>
                    <a:pt x="1457" y="1181"/>
                  </a:lnTo>
                  <a:lnTo>
                    <a:pt x="1480" y="1182"/>
                  </a:lnTo>
                  <a:lnTo>
                    <a:pt x="1501" y="1182"/>
                  </a:lnTo>
                  <a:lnTo>
                    <a:pt x="1529" y="1182"/>
                  </a:lnTo>
                  <a:lnTo>
                    <a:pt x="1560" y="1180"/>
                  </a:lnTo>
                  <a:lnTo>
                    <a:pt x="1596" y="1178"/>
                  </a:lnTo>
                  <a:lnTo>
                    <a:pt x="1637" y="1174"/>
                  </a:lnTo>
                  <a:lnTo>
                    <a:pt x="1617" y="1259"/>
                  </a:lnTo>
                  <a:lnTo>
                    <a:pt x="1581" y="1263"/>
                  </a:lnTo>
                  <a:lnTo>
                    <a:pt x="1550" y="1266"/>
                  </a:lnTo>
                  <a:lnTo>
                    <a:pt x="1525" y="1266"/>
                  </a:lnTo>
                  <a:lnTo>
                    <a:pt x="1504" y="1267"/>
                  </a:lnTo>
                  <a:lnTo>
                    <a:pt x="1475" y="1266"/>
                  </a:lnTo>
                  <a:lnTo>
                    <a:pt x="1441" y="1266"/>
                  </a:lnTo>
                  <a:lnTo>
                    <a:pt x="1361" y="1260"/>
                  </a:lnTo>
                  <a:lnTo>
                    <a:pt x="1320" y="1257"/>
                  </a:lnTo>
                  <a:lnTo>
                    <a:pt x="1282" y="1256"/>
                  </a:lnTo>
                  <a:lnTo>
                    <a:pt x="1246" y="1254"/>
                  </a:lnTo>
                  <a:lnTo>
                    <a:pt x="1214" y="1254"/>
                  </a:lnTo>
                  <a:lnTo>
                    <a:pt x="1201" y="1254"/>
                  </a:lnTo>
                  <a:lnTo>
                    <a:pt x="1187" y="1255"/>
                  </a:lnTo>
                  <a:lnTo>
                    <a:pt x="1157" y="1257"/>
                  </a:lnTo>
                  <a:lnTo>
                    <a:pt x="1122" y="1261"/>
                  </a:lnTo>
                  <a:lnTo>
                    <a:pt x="1084" y="1267"/>
                  </a:lnTo>
                  <a:lnTo>
                    <a:pt x="1110" y="1199"/>
                  </a:lnTo>
                  <a:lnTo>
                    <a:pt x="1144" y="1104"/>
                  </a:lnTo>
                  <a:lnTo>
                    <a:pt x="1236" y="829"/>
                  </a:lnTo>
                  <a:lnTo>
                    <a:pt x="1304" y="638"/>
                  </a:lnTo>
                  <a:lnTo>
                    <a:pt x="1369" y="482"/>
                  </a:lnTo>
                  <a:lnTo>
                    <a:pt x="1400" y="416"/>
                  </a:lnTo>
                  <a:lnTo>
                    <a:pt x="1430" y="360"/>
                  </a:lnTo>
                  <a:lnTo>
                    <a:pt x="1459" y="313"/>
                  </a:lnTo>
                  <a:lnTo>
                    <a:pt x="1488" y="273"/>
                  </a:lnTo>
                  <a:lnTo>
                    <a:pt x="1345" y="276"/>
                  </a:lnTo>
                  <a:lnTo>
                    <a:pt x="1261" y="276"/>
                  </a:lnTo>
                  <a:lnTo>
                    <a:pt x="1177" y="273"/>
                  </a:lnTo>
                  <a:lnTo>
                    <a:pt x="1093" y="269"/>
                  </a:lnTo>
                  <a:lnTo>
                    <a:pt x="1010" y="264"/>
                  </a:lnTo>
                  <a:lnTo>
                    <a:pt x="996" y="292"/>
                  </a:lnTo>
                  <a:lnTo>
                    <a:pt x="981" y="326"/>
                  </a:lnTo>
                  <a:lnTo>
                    <a:pt x="943" y="420"/>
                  </a:lnTo>
                  <a:lnTo>
                    <a:pt x="846" y="700"/>
                  </a:lnTo>
                  <a:lnTo>
                    <a:pt x="814" y="791"/>
                  </a:lnTo>
                  <a:lnTo>
                    <a:pt x="780" y="874"/>
                  </a:lnTo>
                  <a:lnTo>
                    <a:pt x="746" y="948"/>
                  </a:lnTo>
                  <a:lnTo>
                    <a:pt x="710" y="1014"/>
                  </a:lnTo>
                  <a:lnTo>
                    <a:pt x="674" y="1072"/>
                  </a:lnTo>
                  <a:lnTo>
                    <a:pt x="637" y="1121"/>
                  </a:lnTo>
                  <a:lnTo>
                    <a:pt x="618" y="1143"/>
                  </a:lnTo>
                  <a:lnTo>
                    <a:pt x="598" y="1162"/>
                  </a:lnTo>
                  <a:lnTo>
                    <a:pt x="579" y="1179"/>
                  </a:lnTo>
                  <a:lnTo>
                    <a:pt x="559" y="1194"/>
                  </a:lnTo>
                  <a:lnTo>
                    <a:pt x="519" y="1221"/>
                  </a:lnTo>
                  <a:lnTo>
                    <a:pt x="480" y="1244"/>
                  </a:lnTo>
                  <a:lnTo>
                    <a:pt x="440" y="1263"/>
                  </a:lnTo>
                  <a:lnTo>
                    <a:pt x="401" y="1279"/>
                  </a:lnTo>
                  <a:lnTo>
                    <a:pt x="361" y="1291"/>
                  </a:lnTo>
                  <a:lnTo>
                    <a:pt x="342" y="1296"/>
                  </a:lnTo>
                  <a:lnTo>
                    <a:pt x="322" y="1300"/>
                  </a:lnTo>
                  <a:lnTo>
                    <a:pt x="303" y="1303"/>
                  </a:lnTo>
                  <a:lnTo>
                    <a:pt x="283" y="1306"/>
                  </a:lnTo>
                  <a:lnTo>
                    <a:pt x="264" y="1306"/>
                  </a:lnTo>
                  <a:lnTo>
                    <a:pt x="244" y="1307"/>
                  </a:lnTo>
                  <a:lnTo>
                    <a:pt x="222" y="1306"/>
                  </a:lnTo>
                  <a:lnTo>
                    <a:pt x="201" y="1305"/>
                  </a:lnTo>
                  <a:lnTo>
                    <a:pt x="180" y="1303"/>
                  </a:lnTo>
                  <a:lnTo>
                    <a:pt x="159" y="1300"/>
                  </a:lnTo>
                  <a:lnTo>
                    <a:pt x="139" y="1295"/>
                  </a:lnTo>
                  <a:lnTo>
                    <a:pt x="118" y="1289"/>
                  </a:lnTo>
                  <a:lnTo>
                    <a:pt x="98" y="1283"/>
                  </a:lnTo>
                  <a:lnTo>
                    <a:pt x="78" y="1275"/>
                  </a:lnTo>
                  <a:lnTo>
                    <a:pt x="60" y="1267"/>
                  </a:lnTo>
                  <a:lnTo>
                    <a:pt x="51" y="1263"/>
                  </a:lnTo>
                  <a:lnTo>
                    <a:pt x="44" y="1259"/>
                  </a:lnTo>
                  <a:lnTo>
                    <a:pt x="37" y="1253"/>
                  </a:lnTo>
                  <a:lnTo>
                    <a:pt x="30" y="1249"/>
                  </a:lnTo>
                  <a:lnTo>
                    <a:pt x="25" y="1244"/>
                  </a:lnTo>
                  <a:lnTo>
                    <a:pt x="20" y="1238"/>
                  </a:lnTo>
                  <a:lnTo>
                    <a:pt x="15" y="1233"/>
                  </a:lnTo>
                  <a:lnTo>
                    <a:pt x="11" y="1228"/>
                  </a:lnTo>
                  <a:lnTo>
                    <a:pt x="8" y="1222"/>
                  </a:lnTo>
                  <a:lnTo>
                    <a:pt x="5" y="1216"/>
                  </a:lnTo>
                  <a:lnTo>
                    <a:pt x="3" y="1210"/>
                  </a:lnTo>
                  <a:lnTo>
                    <a:pt x="1" y="1203"/>
                  </a:lnTo>
                  <a:lnTo>
                    <a:pt x="0" y="1197"/>
                  </a:lnTo>
                  <a:lnTo>
                    <a:pt x="0" y="1190"/>
                  </a:lnTo>
                  <a:lnTo>
                    <a:pt x="0" y="1182"/>
                  </a:lnTo>
                  <a:lnTo>
                    <a:pt x="2" y="1175"/>
                  </a:lnTo>
                  <a:lnTo>
                    <a:pt x="4" y="1168"/>
                  </a:lnTo>
                  <a:lnTo>
                    <a:pt x="5" y="1165"/>
                  </a:lnTo>
                  <a:lnTo>
                    <a:pt x="7" y="1162"/>
                  </a:lnTo>
                  <a:lnTo>
                    <a:pt x="9" y="1158"/>
                  </a:lnTo>
                  <a:lnTo>
                    <a:pt x="11" y="1155"/>
                  </a:lnTo>
                  <a:lnTo>
                    <a:pt x="13" y="1152"/>
                  </a:lnTo>
                  <a:lnTo>
                    <a:pt x="16" y="1149"/>
                  </a:lnTo>
                  <a:lnTo>
                    <a:pt x="18" y="1147"/>
                  </a:lnTo>
                  <a:lnTo>
                    <a:pt x="21" y="1144"/>
                  </a:lnTo>
                  <a:lnTo>
                    <a:pt x="25" y="1141"/>
                  </a:lnTo>
                  <a:lnTo>
                    <a:pt x="28" y="1138"/>
                  </a:lnTo>
                  <a:lnTo>
                    <a:pt x="35" y="1134"/>
                  </a:lnTo>
                  <a:lnTo>
                    <a:pt x="43" y="1129"/>
                  </a:lnTo>
                  <a:lnTo>
                    <a:pt x="50" y="1126"/>
                  </a:lnTo>
                  <a:lnTo>
                    <a:pt x="58" y="1122"/>
                  </a:lnTo>
                  <a:lnTo>
                    <a:pt x="62" y="1122"/>
                  </a:lnTo>
                  <a:lnTo>
                    <a:pt x="66" y="1120"/>
                  </a:lnTo>
                  <a:lnTo>
                    <a:pt x="70" y="1119"/>
                  </a:lnTo>
                  <a:lnTo>
                    <a:pt x="75" y="1119"/>
                  </a:lnTo>
                  <a:lnTo>
                    <a:pt x="79" y="1118"/>
                  </a:lnTo>
                  <a:lnTo>
                    <a:pt x="83" y="1117"/>
                  </a:lnTo>
                  <a:lnTo>
                    <a:pt x="88" y="1117"/>
                  </a:lnTo>
                  <a:lnTo>
                    <a:pt x="92" y="1117"/>
                  </a:lnTo>
                  <a:lnTo>
                    <a:pt x="99" y="1117"/>
                  </a:lnTo>
                  <a:lnTo>
                    <a:pt x="107" y="1118"/>
                  </a:lnTo>
                  <a:lnTo>
                    <a:pt x="114" y="1119"/>
                  </a:lnTo>
                  <a:lnTo>
                    <a:pt x="122" y="1121"/>
                  </a:lnTo>
                  <a:lnTo>
                    <a:pt x="129" y="1122"/>
                  </a:lnTo>
                  <a:lnTo>
                    <a:pt x="137" y="1126"/>
                  </a:lnTo>
                  <a:lnTo>
                    <a:pt x="144" y="1128"/>
                  </a:lnTo>
                  <a:lnTo>
                    <a:pt x="151" y="1132"/>
                  </a:lnTo>
                  <a:lnTo>
                    <a:pt x="158" y="1135"/>
                  </a:lnTo>
                  <a:lnTo>
                    <a:pt x="166" y="1140"/>
                  </a:lnTo>
                  <a:lnTo>
                    <a:pt x="180" y="1150"/>
                  </a:lnTo>
                  <a:lnTo>
                    <a:pt x="194" y="1161"/>
                  </a:lnTo>
                  <a:lnTo>
                    <a:pt x="208" y="1175"/>
                  </a:lnTo>
                  <a:lnTo>
                    <a:pt x="218" y="1184"/>
                  </a:lnTo>
                  <a:lnTo>
                    <a:pt x="227" y="1191"/>
                  </a:lnTo>
                  <a:lnTo>
                    <a:pt x="236" y="1198"/>
                  </a:lnTo>
                  <a:lnTo>
                    <a:pt x="245" y="1204"/>
                  </a:lnTo>
                  <a:lnTo>
                    <a:pt x="249" y="1206"/>
                  </a:lnTo>
                  <a:lnTo>
                    <a:pt x="253" y="1209"/>
                  </a:lnTo>
                  <a:lnTo>
                    <a:pt x="257" y="1210"/>
                  </a:lnTo>
                  <a:lnTo>
                    <a:pt x="261" y="1212"/>
                  </a:lnTo>
                  <a:lnTo>
                    <a:pt x="265" y="1213"/>
                  </a:lnTo>
                  <a:lnTo>
                    <a:pt x="269" y="1213"/>
                  </a:lnTo>
                  <a:lnTo>
                    <a:pt x="273" y="1214"/>
                  </a:lnTo>
                  <a:lnTo>
                    <a:pt x="277" y="1214"/>
                  </a:lnTo>
                  <a:lnTo>
                    <a:pt x="288" y="1213"/>
                  </a:lnTo>
                  <a:lnTo>
                    <a:pt x="299" y="1212"/>
                  </a:lnTo>
                  <a:lnTo>
                    <a:pt x="309" y="1210"/>
                  </a:lnTo>
                  <a:lnTo>
                    <a:pt x="320" y="1206"/>
                  </a:lnTo>
                  <a:lnTo>
                    <a:pt x="331" y="1202"/>
                  </a:lnTo>
                  <a:lnTo>
                    <a:pt x="341" y="1197"/>
                  </a:lnTo>
                  <a:lnTo>
                    <a:pt x="352" y="1191"/>
                  </a:lnTo>
                  <a:lnTo>
                    <a:pt x="362" y="1183"/>
                  </a:lnTo>
                  <a:lnTo>
                    <a:pt x="373" y="1175"/>
                  </a:lnTo>
                  <a:lnTo>
                    <a:pt x="383" y="1166"/>
                  </a:lnTo>
                  <a:lnTo>
                    <a:pt x="403" y="1144"/>
                  </a:lnTo>
                  <a:lnTo>
                    <a:pt x="423" y="1119"/>
                  </a:lnTo>
                  <a:lnTo>
                    <a:pt x="443" y="1091"/>
                  </a:lnTo>
                  <a:lnTo>
                    <a:pt x="464" y="1055"/>
                  </a:lnTo>
                  <a:lnTo>
                    <a:pt x="486" y="1011"/>
                  </a:lnTo>
                  <a:lnTo>
                    <a:pt x="538" y="895"/>
                  </a:lnTo>
                  <a:lnTo>
                    <a:pt x="597" y="743"/>
                  </a:lnTo>
                  <a:lnTo>
                    <a:pt x="665" y="554"/>
                  </a:lnTo>
                  <a:lnTo>
                    <a:pt x="775" y="264"/>
                  </a:lnTo>
                  <a:lnTo>
                    <a:pt x="719" y="265"/>
                  </a:lnTo>
                  <a:lnTo>
                    <a:pt x="667" y="269"/>
                  </a:lnTo>
                  <a:lnTo>
                    <a:pt x="618" y="276"/>
                  </a:lnTo>
                  <a:lnTo>
                    <a:pt x="572" y="284"/>
                  </a:lnTo>
                  <a:lnTo>
                    <a:pt x="530" y="295"/>
                  </a:lnTo>
                  <a:lnTo>
                    <a:pt x="511" y="302"/>
                  </a:lnTo>
                  <a:lnTo>
                    <a:pt x="492" y="309"/>
                  </a:lnTo>
                  <a:lnTo>
                    <a:pt x="474" y="317"/>
                  </a:lnTo>
                  <a:lnTo>
                    <a:pt x="457" y="325"/>
                  </a:lnTo>
                  <a:lnTo>
                    <a:pt x="440" y="334"/>
                  </a:lnTo>
                  <a:lnTo>
                    <a:pt x="425" y="344"/>
                  </a:lnTo>
                  <a:lnTo>
                    <a:pt x="397" y="364"/>
                  </a:lnTo>
                  <a:lnTo>
                    <a:pt x="373" y="385"/>
                  </a:lnTo>
                  <a:lnTo>
                    <a:pt x="362" y="396"/>
                  </a:lnTo>
                  <a:lnTo>
                    <a:pt x="353" y="407"/>
                  </a:lnTo>
                  <a:lnTo>
                    <a:pt x="344" y="418"/>
                  </a:lnTo>
                  <a:lnTo>
                    <a:pt x="336" y="429"/>
                  </a:lnTo>
                  <a:lnTo>
                    <a:pt x="329" y="441"/>
                  </a:lnTo>
                  <a:lnTo>
                    <a:pt x="323" y="453"/>
                  </a:lnTo>
                  <a:lnTo>
                    <a:pt x="318" y="465"/>
                  </a:lnTo>
                  <a:lnTo>
                    <a:pt x="313" y="477"/>
                  </a:lnTo>
                  <a:lnTo>
                    <a:pt x="310" y="490"/>
                  </a:lnTo>
                  <a:lnTo>
                    <a:pt x="308" y="503"/>
                  </a:lnTo>
                  <a:lnTo>
                    <a:pt x="306" y="516"/>
                  </a:lnTo>
                  <a:lnTo>
                    <a:pt x="306" y="528"/>
                  </a:lnTo>
                  <a:lnTo>
                    <a:pt x="306" y="535"/>
                  </a:lnTo>
                  <a:lnTo>
                    <a:pt x="307" y="541"/>
                  </a:lnTo>
                  <a:lnTo>
                    <a:pt x="308" y="547"/>
                  </a:lnTo>
                  <a:lnTo>
                    <a:pt x="309" y="553"/>
                  </a:lnTo>
                  <a:lnTo>
                    <a:pt x="310" y="559"/>
                  </a:lnTo>
                  <a:lnTo>
                    <a:pt x="312" y="563"/>
                  </a:lnTo>
                  <a:lnTo>
                    <a:pt x="314" y="568"/>
                  </a:lnTo>
                  <a:lnTo>
                    <a:pt x="316" y="572"/>
                  </a:lnTo>
                  <a:lnTo>
                    <a:pt x="322" y="581"/>
                  </a:lnTo>
                  <a:lnTo>
                    <a:pt x="330" y="591"/>
                  </a:lnTo>
                  <a:lnTo>
                    <a:pt x="339" y="602"/>
                  </a:lnTo>
                  <a:lnTo>
                    <a:pt x="350" y="614"/>
                  </a:lnTo>
                  <a:lnTo>
                    <a:pt x="364" y="625"/>
                  </a:lnTo>
                  <a:lnTo>
                    <a:pt x="377" y="636"/>
                  </a:lnTo>
                  <a:lnTo>
                    <a:pt x="388" y="647"/>
                  </a:lnTo>
                  <a:lnTo>
                    <a:pt x="396" y="656"/>
                  </a:lnTo>
                  <a:lnTo>
                    <a:pt x="400" y="662"/>
                  </a:lnTo>
                  <a:lnTo>
                    <a:pt x="403" y="666"/>
                  </a:lnTo>
                  <a:lnTo>
                    <a:pt x="406" y="671"/>
                  </a:lnTo>
                  <a:lnTo>
                    <a:pt x="408" y="676"/>
                  </a:lnTo>
                  <a:lnTo>
                    <a:pt x="410" y="681"/>
                  </a:lnTo>
                  <a:lnTo>
                    <a:pt x="411" y="685"/>
                  </a:lnTo>
                  <a:lnTo>
                    <a:pt x="412" y="689"/>
                  </a:lnTo>
                  <a:lnTo>
                    <a:pt x="412" y="693"/>
                  </a:lnTo>
                  <a:lnTo>
                    <a:pt x="412" y="697"/>
                  </a:lnTo>
                  <a:lnTo>
                    <a:pt x="411" y="701"/>
                  </a:lnTo>
                  <a:lnTo>
                    <a:pt x="411" y="705"/>
                  </a:lnTo>
                  <a:lnTo>
                    <a:pt x="410" y="709"/>
                  </a:lnTo>
                  <a:lnTo>
                    <a:pt x="409" y="712"/>
                  </a:lnTo>
                  <a:lnTo>
                    <a:pt x="407" y="716"/>
                  </a:lnTo>
                  <a:lnTo>
                    <a:pt x="406" y="719"/>
                  </a:lnTo>
                  <a:lnTo>
                    <a:pt x="404" y="723"/>
                  </a:lnTo>
                  <a:lnTo>
                    <a:pt x="402" y="726"/>
                  </a:lnTo>
                  <a:lnTo>
                    <a:pt x="399" y="730"/>
                  </a:lnTo>
                  <a:lnTo>
                    <a:pt x="397" y="733"/>
                  </a:lnTo>
                  <a:lnTo>
                    <a:pt x="394" y="736"/>
                  </a:lnTo>
                  <a:lnTo>
                    <a:pt x="387" y="742"/>
                  </a:lnTo>
                  <a:lnTo>
                    <a:pt x="380" y="748"/>
                  </a:lnTo>
                  <a:lnTo>
                    <a:pt x="372" y="753"/>
                  </a:lnTo>
                  <a:lnTo>
                    <a:pt x="363" y="758"/>
                  </a:lnTo>
                  <a:lnTo>
                    <a:pt x="354" y="762"/>
                  </a:lnTo>
                  <a:lnTo>
                    <a:pt x="345" y="765"/>
                  </a:lnTo>
                  <a:lnTo>
                    <a:pt x="336" y="767"/>
                  </a:lnTo>
                  <a:lnTo>
                    <a:pt x="326" y="768"/>
                  </a:lnTo>
                  <a:lnTo>
                    <a:pt x="316" y="770"/>
                  </a:lnTo>
                  <a:lnTo>
                    <a:pt x="306" y="770"/>
                  </a:lnTo>
                  <a:lnTo>
                    <a:pt x="297" y="770"/>
                  </a:lnTo>
                  <a:lnTo>
                    <a:pt x="288" y="769"/>
                  </a:lnTo>
                  <a:lnTo>
                    <a:pt x="279" y="768"/>
                  </a:lnTo>
                  <a:lnTo>
                    <a:pt x="270" y="766"/>
                  </a:lnTo>
                  <a:lnTo>
                    <a:pt x="262" y="764"/>
                  </a:lnTo>
                  <a:lnTo>
                    <a:pt x="254" y="762"/>
                  </a:lnTo>
                  <a:lnTo>
                    <a:pt x="247" y="758"/>
                  </a:lnTo>
                  <a:lnTo>
                    <a:pt x="240" y="755"/>
                  </a:lnTo>
                  <a:lnTo>
                    <a:pt x="233" y="751"/>
                  </a:lnTo>
                  <a:lnTo>
                    <a:pt x="226" y="747"/>
                  </a:lnTo>
                  <a:lnTo>
                    <a:pt x="220" y="742"/>
                  </a:lnTo>
                  <a:lnTo>
                    <a:pt x="214" y="737"/>
                  </a:lnTo>
                  <a:lnTo>
                    <a:pt x="208" y="731"/>
                  </a:lnTo>
                  <a:lnTo>
                    <a:pt x="203" y="724"/>
                  </a:lnTo>
                  <a:lnTo>
                    <a:pt x="198" y="718"/>
                  </a:lnTo>
                  <a:lnTo>
                    <a:pt x="193" y="711"/>
                  </a:lnTo>
                  <a:lnTo>
                    <a:pt x="184" y="696"/>
                  </a:lnTo>
                  <a:lnTo>
                    <a:pt x="177" y="681"/>
                  </a:lnTo>
                  <a:lnTo>
                    <a:pt x="170" y="665"/>
                  </a:lnTo>
                  <a:lnTo>
                    <a:pt x="165" y="649"/>
                  </a:lnTo>
                  <a:lnTo>
                    <a:pt x="161" y="633"/>
                  </a:lnTo>
                  <a:lnTo>
                    <a:pt x="158" y="616"/>
                  </a:lnTo>
                  <a:lnTo>
                    <a:pt x="157" y="599"/>
                  </a:lnTo>
                  <a:lnTo>
                    <a:pt x="156" y="581"/>
                  </a:lnTo>
                  <a:lnTo>
                    <a:pt x="157" y="559"/>
                  </a:lnTo>
                  <a:lnTo>
                    <a:pt x="159" y="537"/>
                  </a:lnTo>
                  <a:lnTo>
                    <a:pt x="163" y="516"/>
                  </a:lnTo>
                  <a:lnTo>
                    <a:pt x="169" y="494"/>
                  </a:lnTo>
                  <a:lnTo>
                    <a:pt x="176" y="473"/>
                  </a:lnTo>
                  <a:lnTo>
                    <a:pt x="184" y="453"/>
                  </a:lnTo>
                  <a:lnTo>
                    <a:pt x="194" y="432"/>
                  </a:lnTo>
                  <a:lnTo>
                    <a:pt x="206" y="413"/>
                  </a:lnTo>
                  <a:lnTo>
                    <a:pt x="220" y="393"/>
                  </a:lnTo>
                  <a:lnTo>
                    <a:pt x="235" y="374"/>
                  </a:lnTo>
                  <a:lnTo>
                    <a:pt x="251" y="356"/>
                  </a:lnTo>
                  <a:lnTo>
                    <a:pt x="269" y="337"/>
                  </a:lnTo>
                  <a:lnTo>
                    <a:pt x="310" y="301"/>
                  </a:lnTo>
                  <a:lnTo>
                    <a:pt x="357" y="267"/>
                  </a:lnTo>
                  <a:lnTo>
                    <a:pt x="409" y="236"/>
                  </a:lnTo>
                  <a:lnTo>
                    <a:pt x="464" y="209"/>
                  </a:lnTo>
                  <a:lnTo>
                    <a:pt x="522" y="186"/>
                  </a:lnTo>
                  <a:lnTo>
                    <a:pt x="583" y="167"/>
                  </a:lnTo>
                  <a:lnTo>
                    <a:pt x="648" y="152"/>
                  </a:lnTo>
                  <a:lnTo>
                    <a:pt x="715" y="142"/>
                  </a:lnTo>
                  <a:lnTo>
                    <a:pt x="786" y="136"/>
                  </a:lnTo>
                  <a:lnTo>
                    <a:pt x="860" y="133"/>
                  </a:lnTo>
                  <a:lnTo>
                    <a:pt x="914" y="134"/>
                  </a:lnTo>
                  <a:lnTo>
                    <a:pt x="979" y="136"/>
                  </a:lnTo>
                  <a:lnTo>
                    <a:pt x="1144" y="146"/>
                  </a:lnTo>
                  <a:lnTo>
                    <a:pt x="1318" y="158"/>
                  </a:lnTo>
                  <a:lnTo>
                    <a:pt x="1493" y="166"/>
                  </a:lnTo>
                  <a:lnTo>
                    <a:pt x="1668" y="171"/>
                  </a:lnTo>
                  <a:lnTo>
                    <a:pt x="1845" y="173"/>
                  </a:lnTo>
                  <a:lnTo>
                    <a:pt x="1871" y="172"/>
                  </a:lnTo>
                  <a:lnTo>
                    <a:pt x="1883" y="171"/>
                  </a:lnTo>
                  <a:lnTo>
                    <a:pt x="1893" y="170"/>
                  </a:lnTo>
                  <a:lnTo>
                    <a:pt x="1903" y="168"/>
                  </a:lnTo>
                  <a:lnTo>
                    <a:pt x="1912" y="166"/>
                  </a:lnTo>
                  <a:lnTo>
                    <a:pt x="1920" y="163"/>
                  </a:lnTo>
                  <a:lnTo>
                    <a:pt x="1928" y="160"/>
                  </a:lnTo>
                  <a:lnTo>
                    <a:pt x="1934" y="157"/>
                  </a:lnTo>
                  <a:lnTo>
                    <a:pt x="1940" y="153"/>
                  </a:lnTo>
                  <a:lnTo>
                    <a:pt x="1944" y="149"/>
                  </a:lnTo>
                  <a:lnTo>
                    <a:pt x="1948" y="144"/>
                  </a:lnTo>
                  <a:lnTo>
                    <a:pt x="1951" y="139"/>
                  </a:lnTo>
                  <a:lnTo>
                    <a:pt x="1953" y="134"/>
                  </a:lnTo>
                  <a:lnTo>
                    <a:pt x="1955" y="128"/>
                  </a:lnTo>
                  <a:lnTo>
                    <a:pt x="1955" y="122"/>
                  </a:lnTo>
                  <a:lnTo>
                    <a:pt x="1955" y="121"/>
                  </a:lnTo>
                  <a:lnTo>
                    <a:pt x="1955" y="120"/>
                  </a:lnTo>
                  <a:lnTo>
                    <a:pt x="1954" y="115"/>
                  </a:lnTo>
                  <a:lnTo>
                    <a:pt x="1952" y="102"/>
                  </a:lnTo>
                  <a:lnTo>
                    <a:pt x="1949" y="86"/>
                  </a:lnTo>
                  <a:lnTo>
                    <a:pt x="1948" y="79"/>
                  </a:lnTo>
                  <a:lnTo>
                    <a:pt x="1948" y="76"/>
                  </a:lnTo>
                  <a:lnTo>
                    <a:pt x="1948" y="74"/>
                  </a:lnTo>
                  <a:lnTo>
                    <a:pt x="1948" y="66"/>
                  </a:lnTo>
                  <a:lnTo>
                    <a:pt x="1950" y="59"/>
                  </a:lnTo>
                  <a:lnTo>
                    <a:pt x="1951" y="55"/>
                  </a:lnTo>
                  <a:lnTo>
                    <a:pt x="1952" y="51"/>
                  </a:lnTo>
                  <a:lnTo>
                    <a:pt x="1954" y="48"/>
                  </a:lnTo>
                  <a:lnTo>
                    <a:pt x="1955" y="44"/>
                  </a:lnTo>
                  <a:lnTo>
                    <a:pt x="1957" y="41"/>
                  </a:lnTo>
                  <a:lnTo>
                    <a:pt x="1959" y="38"/>
                  </a:lnTo>
                  <a:lnTo>
                    <a:pt x="1962" y="35"/>
                  </a:lnTo>
                  <a:lnTo>
                    <a:pt x="1964" y="32"/>
                  </a:lnTo>
                  <a:lnTo>
                    <a:pt x="1967" y="29"/>
                  </a:lnTo>
                  <a:lnTo>
                    <a:pt x="1970" y="26"/>
                  </a:lnTo>
                  <a:lnTo>
                    <a:pt x="1974" y="23"/>
                  </a:lnTo>
                  <a:lnTo>
                    <a:pt x="1977" y="21"/>
                  </a:lnTo>
                  <a:lnTo>
                    <a:pt x="1984" y="15"/>
                  </a:lnTo>
                  <a:lnTo>
                    <a:pt x="1992" y="12"/>
                  </a:lnTo>
                  <a:lnTo>
                    <a:pt x="1996" y="9"/>
                  </a:lnTo>
                  <a:lnTo>
                    <a:pt x="2000" y="8"/>
                  </a:lnTo>
                  <a:lnTo>
                    <a:pt x="2004" y="6"/>
                  </a:lnTo>
                  <a:lnTo>
                    <a:pt x="2008" y="5"/>
                  </a:lnTo>
                  <a:lnTo>
                    <a:pt x="2012" y="3"/>
                  </a:lnTo>
                  <a:lnTo>
                    <a:pt x="2017" y="3"/>
                  </a:lnTo>
                  <a:lnTo>
                    <a:pt x="2021" y="2"/>
                  </a:lnTo>
                  <a:lnTo>
                    <a:pt x="2026" y="1"/>
                  </a:lnTo>
                  <a:lnTo>
                    <a:pt x="2035" y="0"/>
                  </a:lnTo>
                  <a:lnTo>
                    <a:pt x="2045" y="0"/>
                  </a:lnTo>
                  <a:lnTo>
                    <a:pt x="2056" y="0"/>
                  </a:lnTo>
                  <a:lnTo>
                    <a:pt x="2067" y="1"/>
                  </a:lnTo>
                  <a:lnTo>
                    <a:pt x="2073" y="2"/>
                  </a:lnTo>
                  <a:lnTo>
                    <a:pt x="2078" y="3"/>
                  </a:lnTo>
                  <a:lnTo>
                    <a:pt x="2083" y="4"/>
                  </a:lnTo>
                  <a:lnTo>
                    <a:pt x="2088" y="6"/>
                  </a:lnTo>
                  <a:lnTo>
                    <a:pt x="2092" y="8"/>
                  </a:lnTo>
                  <a:lnTo>
                    <a:pt x="2097" y="9"/>
                  </a:lnTo>
                  <a:lnTo>
                    <a:pt x="2102" y="12"/>
                  </a:lnTo>
                  <a:lnTo>
                    <a:pt x="2106" y="14"/>
                  </a:lnTo>
                  <a:lnTo>
                    <a:pt x="2110" y="16"/>
                  </a:lnTo>
                  <a:lnTo>
                    <a:pt x="2114" y="19"/>
                  </a:lnTo>
                  <a:lnTo>
                    <a:pt x="2118" y="22"/>
                  </a:lnTo>
                  <a:lnTo>
                    <a:pt x="2122" y="25"/>
                  </a:lnTo>
                  <a:lnTo>
                    <a:pt x="2129" y="32"/>
                  </a:lnTo>
                  <a:lnTo>
                    <a:pt x="2135" y="39"/>
                  </a:lnTo>
                  <a:lnTo>
                    <a:pt x="2140" y="46"/>
                  </a:lnTo>
                  <a:lnTo>
                    <a:pt x="2145" y="54"/>
                  </a:lnTo>
                  <a:lnTo>
                    <a:pt x="2148" y="62"/>
                  </a:lnTo>
                  <a:lnTo>
                    <a:pt x="2150" y="71"/>
                  </a:lnTo>
                  <a:lnTo>
                    <a:pt x="2152" y="80"/>
                  </a:lnTo>
                  <a:lnTo>
                    <a:pt x="2152" y="90"/>
                  </a:lnTo>
                  <a:lnTo>
                    <a:pt x="2152" y="99"/>
                  </a:lnTo>
                  <a:lnTo>
                    <a:pt x="2151" y="108"/>
                  </a:lnTo>
                  <a:lnTo>
                    <a:pt x="2149" y="116"/>
                  </a:lnTo>
                  <a:lnTo>
                    <a:pt x="2146" y="125"/>
                  </a:lnTo>
                  <a:lnTo>
                    <a:pt x="2143" y="133"/>
                  </a:lnTo>
                  <a:lnTo>
                    <a:pt x="2139" y="142"/>
                  </a:lnTo>
                  <a:lnTo>
                    <a:pt x="2134" y="149"/>
                  </a:lnTo>
                  <a:lnTo>
                    <a:pt x="2128" y="158"/>
                  </a:lnTo>
                  <a:lnTo>
                    <a:pt x="2122" y="166"/>
                  </a:lnTo>
                  <a:lnTo>
                    <a:pt x="2115" y="174"/>
                  </a:lnTo>
                  <a:lnTo>
                    <a:pt x="2107" y="181"/>
                  </a:lnTo>
                  <a:lnTo>
                    <a:pt x="2098" y="189"/>
                  </a:lnTo>
                  <a:lnTo>
                    <a:pt x="2079" y="203"/>
                  </a:lnTo>
                  <a:lnTo>
                    <a:pt x="2057" y="217"/>
                  </a:lnTo>
                  <a:lnTo>
                    <a:pt x="2045" y="224"/>
                  </a:lnTo>
                  <a:lnTo>
                    <a:pt x="2032" y="230"/>
                  </a:lnTo>
                  <a:lnTo>
                    <a:pt x="2018" y="236"/>
                  </a:lnTo>
                  <a:lnTo>
                    <a:pt x="2003" y="242"/>
                  </a:lnTo>
                  <a:lnTo>
                    <a:pt x="1970" y="251"/>
                  </a:lnTo>
                  <a:lnTo>
                    <a:pt x="1934" y="259"/>
                  </a:lnTo>
                  <a:lnTo>
                    <a:pt x="1895" y="266"/>
                  </a:lnTo>
                  <a:lnTo>
                    <a:pt x="1852" y="270"/>
                  </a:lnTo>
                  <a:lnTo>
                    <a:pt x="1806" y="274"/>
                  </a:lnTo>
                  <a:lnTo>
                    <a:pt x="1756" y="276"/>
                  </a:lnTo>
                  <a:lnTo>
                    <a:pt x="1713" y="276"/>
                  </a:lnTo>
                  <a:lnTo>
                    <a:pt x="1703" y="276"/>
                  </a:lnTo>
                  <a:lnTo>
                    <a:pt x="1702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701" y="276"/>
                  </a:lnTo>
                  <a:lnTo>
                    <a:pt x="1610" y="464"/>
                  </a:lnTo>
                  <a:lnTo>
                    <a:pt x="1524" y="675"/>
                  </a:lnTo>
                  <a:lnTo>
                    <a:pt x="1440" y="911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65560" y="560520"/>
              <a:ext cx="326880" cy="295200"/>
            </a:xfrm>
            <a:custGeom>
              <a:avLst/>
              <a:gdLst/>
              <a:ahLst/>
              <a:rect l="l" t="t" r="r" b="b"/>
              <a:pathLst>
                <a:path w="910" h="819">
                  <a:moveTo>
                    <a:pt x="613" y="0"/>
                  </a:moveTo>
                  <a:lnTo>
                    <a:pt x="645" y="2"/>
                  </a:lnTo>
                  <a:lnTo>
                    <a:pt x="660" y="2"/>
                  </a:lnTo>
                  <a:lnTo>
                    <a:pt x="675" y="5"/>
                  </a:lnTo>
                  <a:lnTo>
                    <a:pt x="689" y="8"/>
                  </a:lnTo>
                  <a:lnTo>
                    <a:pt x="703" y="11"/>
                  </a:lnTo>
                  <a:lnTo>
                    <a:pt x="717" y="14"/>
                  </a:lnTo>
                  <a:lnTo>
                    <a:pt x="731" y="19"/>
                  </a:lnTo>
                  <a:lnTo>
                    <a:pt x="744" y="24"/>
                  </a:lnTo>
                  <a:lnTo>
                    <a:pt x="757" y="30"/>
                  </a:lnTo>
                  <a:lnTo>
                    <a:pt x="769" y="36"/>
                  </a:lnTo>
                  <a:lnTo>
                    <a:pt x="781" y="42"/>
                  </a:lnTo>
                  <a:lnTo>
                    <a:pt x="793" y="50"/>
                  </a:lnTo>
                  <a:lnTo>
                    <a:pt x="804" y="58"/>
                  </a:lnTo>
                  <a:lnTo>
                    <a:pt x="826" y="76"/>
                  </a:lnTo>
                  <a:lnTo>
                    <a:pt x="836" y="86"/>
                  </a:lnTo>
                  <a:lnTo>
                    <a:pt x="846" y="95"/>
                  </a:lnTo>
                  <a:lnTo>
                    <a:pt x="854" y="106"/>
                  </a:lnTo>
                  <a:lnTo>
                    <a:pt x="863" y="117"/>
                  </a:lnTo>
                  <a:lnTo>
                    <a:pt x="877" y="141"/>
                  </a:lnTo>
                  <a:lnTo>
                    <a:pt x="889" y="166"/>
                  </a:lnTo>
                  <a:lnTo>
                    <a:pt x="898" y="192"/>
                  </a:lnTo>
                  <a:lnTo>
                    <a:pt x="904" y="221"/>
                  </a:lnTo>
                  <a:lnTo>
                    <a:pt x="908" y="251"/>
                  </a:lnTo>
                  <a:lnTo>
                    <a:pt x="909" y="283"/>
                  </a:lnTo>
                  <a:lnTo>
                    <a:pt x="906" y="334"/>
                  </a:lnTo>
                  <a:lnTo>
                    <a:pt x="897" y="384"/>
                  </a:lnTo>
                  <a:lnTo>
                    <a:pt x="882" y="431"/>
                  </a:lnTo>
                  <a:lnTo>
                    <a:pt x="861" y="479"/>
                  </a:lnTo>
                  <a:lnTo>
                    <a:pt x="834" y="524"/>
                  </a:lnTo>
                  <a:lnTo>
                    <a:pt x="801" y="569"/>
                  </a:lnTo>
                  <a:lnTo>
                    <a:pt x="762" y="612"/>
                  </a:lnTo>
                  <a:lnTo>
                    <a:pt x="717" y="654"/>
                  </a:lnTo>
                  <a:lnTo>
                    <a:pt x="669" y="692"/>
                  </a:lnTo>
                  <a:lnTo>
                    <a:pt x="619" y="726"/>
                  </a:lnTo>
                  <a:lnTo>
                    <a:pt x="569" y="754"/>
                  </a:lnTo>
                  <a:lnTo>
                    <a:pt x="544" y="766"/>
                  </a:lnTo>
                  <a:lnTo>
                    <a:pt x="518" y="777"/>
                  </a:lnTo>
                  <a:lnTo>
                    <a:pt x="493" y="786"/>
                  </a:lnTo>
                  <a:lnTo>
                    <a:pt x="467" y="795"/>
                  </a:lnTo>
                  <a:lnTo>
                    <a:pt x="441" y="802"/>
                  </a:lnTo>
                  <a:lnTo>
                    <a:pt x="414" y="808"/>
                  </a:lnTo>
                  <a:lnTo>
                    <a:pt x="388" y="812"/>
                  </a:lnTo>
                  <a:lnTo>
                    <a:pt x="361" y="816"/>
                  </a:lnTo>
                  <a:lnTo>
                    <a:pt x="334" y="817"/>
                  </a:lnTo>
                  <a:lnTo>
                    <a:pt x="307" y="818"/>
                  </a:lnTo>
                  <a:lnTo>
                    <a:pt x="273" y="817"/>
                  </a:lnTo>
                  <a:lnTo>
                    <a:pt x="241" y="814"/>
                  </a:lnTo>
                  <a:lnTo>
                    <a:pt x="211" y="808"/>
                  </a:lnTo>
                  <a:lnTo>
                    <a:pt x="197" y="805"/>
                  </a:lnTo>
                  <a:lnTo>
                    <a:pt x="183" y="801"/>
                  </a:lnTo>
                  <a:lnTo>
                    <a:pt x="169" y="797"/>
                  </a:lnTo>
                  <a:lnTo>
                    <a:pt x="156" y="792"/>
                  </a:lnTo>
                  <a:lnTo>
                    <a:pt x="143" y="786"/>
                  </a:lnTo>
                  <a:lnTo>
                    <a:pt x="130" y="780"/>
                  </a:lnTo>
                  <a:lnTo>
                    <a:pt x="118" y="773"/>
                  </a:lnTo>
                  <a:lnTo>
                    <a:pt x="107" y="766"/>
                  </a:lnTo>
                  <a:lnTo>
                    <a:pt x="96" y="758"/>
                  </a:lnTo>
                  <a:lnTo>
                    <a:pt x="85" y="750"/>
                  </a:lnTo>
                  <a:lnTo>
                    <a:pt x="75" y="741"/>
                  </a:lnTo>
                  <a:lnTo>
                    <a:pt x="65" y="732"/>
                  </a:lnTo>
                  <a:lnTo>
                    <a:pt x="56" y="723"/>
                  </a:lnTo>
                  <a:lnTo>
                    <a:pt x="48" y="712"/>
                  </a:lnTo>
                  <a:lnTo>
                    <a:pt x="40" y="702"/>
                  </a:lnTo>
                  <a:lnTo>
                    <a:pt x="33" y="692"/>
                  </a:lnTo>
                  <a:lnTo>
                    <a:pt x="21" y="669"/>
                  </a:lnTo>
                  <a:lnTo>
                    <a:pt x="12" y="646"/>
                  </a:lnTo>
                  <a:lnTo>
                    <a:pt x="5" y="621"/>
                  </a:lnTo>
                  <a:lnTo>
                    <a:pt x="1" y="593"/>
                  </a:lnTo>
                  <a:lnTo>
                    <a:pt x="0" y="565"/>
                  </a:lnTo>
                  <a:lnTo>
                    <a:pt x="2" y="518"/>
                  </a:lnTo>
                  <a:lnTo>
                    <a:pt x="9" y="471"/>
                  </a:lnTo>
                  <a:lnTo>
                    <a:pt x="20" y="425"/>
                  </a:lnTo>
                  <a:lnTo>
                    <a:pt x="36" y="381"/>
                  </a:lnTo>
                  <a:lnTo>
                    <a:pt x="56" y="338"/>
                  </a:lnTo>
                  <a:lnTo>
                    <a:pt x="81" y="297"/>
                  </a:lnTo>
                  <a:lnTo>
                    <a:pt x="110" y="257"/>
                  </a:lnTo>
                  <a:lnTo>
                    <a:pt x="143" y="217"/>
                  </a:lnTo>
                  <a:lnTo>
                    <a:pt x="192" y="167"/>
                  </a:lnTo>
                  <a:lnTo>
                    <a:pt x="218" y="143"/>
                  </a:lnTo>
                  <a:lnTo>
                    <a:pt x="244" y="122"/>
                  </a:lnTo>
                  <a:lnTo>
                    <a:pt x="271" y="102"/>
                  </a:lnTo>
                  <a:lnTo>
                    <a:pt x="298" y="85"/>
                  </a:lnTo>
                  <a:lnTo>
                    <a:pt x="327" y="69"/>
                  </a:lnTo>
                  <a:lnTo>
                    <a:pt x="356" y="55"/>
                  </a:lnTo>
                  <a:lnTo>
                    <a:pt x="386" y="42"/>
                  </a:lnTo>
                  <a:lnTo>
                    <a:pt x="416" y="30"/>
                  </a:lnTo>
                  <a:lnTo>
                    <a:pt x="447" y="21"/>
                  </a:lnTo>
                  <a:lnTo>
                    <a:pt x="479" y="14"/>
                  </a:lnTo>
                  <a:lnTo>
                    <a:pt x="511" y="8"/>
                  </a:lnTo>
                  <a:lnTo>
                    <a:pt x="545" y="3"/>
                  </a:lnTo>
                  <a:lnTo>
                    <a:pt x="578" y="1"/>
                  </a:lnTo>
                  <a:close/>
                  <a:moveTo>
                    <a:pt x="512" y="105"/>
                  </a:moveTo>
                  <a:lnTo>
                    <a:pt x="501" y="105"/>
                  </a:lnTo>
                  <a:lnTo>
                    <a:pt x="490" y="106"/>
                  </a:lnTo>
                  <a:lnTo>
                    <a:pt x="479" y="108"/>
                  </a:lnTo>
                  <a:lnTo>
                    <a:pt x="468" y="111"/>
                  </a:lnTo>
                  <a:lnTo>
                    <a:pt x="458" y="114"/>
                  </a:lnTo>
                  <a:lnTo>
                    <a:pt x="447" y="119"/>
                  </a:lnTo>
                  <a:lnTo>
                    <a:pt x="436" y="124"/>
                  </a:lnTo>
                  <a:lnTo>
                    <a:pt x="425" y="130"/>
                  </a:lnTo>
                  <a:lnTo>
                    <a:pt x="414" y="137"/>
                  </a:lnTo>
                  <a:lnTo>
                    <a:pt x="403" y="145"/>
                  </a:lnTo>
                  <a:lnTo>
                    <a:pt x="381" y="162"/>
                  </a:lnTo>
                  <a:lnTo>
                    <a:pt x="359" y="182"/>
                  </a:lnTo>
                  <a:lnTo>
                    <a:pt x="337" y="207"/>
                  </a:lnTo>
                  <a:lnTo>
                    <a:pt x="316" y="234"/>
                  </a:lnTo>
                  <a:lnTo>
                    <a:pt x="298" y="263"/>
                  </a:lnTo>
                  <a:lnTo>
                    <a:pt x="283" y="296"/>
                  </a:lnTo>
                  <a:lnTo>
                    <a:pt x="270" y="331"/>
                  </a:lnTo>
                  <a:lnTo>
                    <a:pt x="261" y="368"/>
                  </a:lnTo>
                  <a:lnTo>
                    <a:pt x="254" y="408"/>
                  </a:lnTo>
                  <a:lnTo>
                    <a:pt x="249" y="451"/>
                  </a:lnTo>
                  <a:lnTo>
                    <a:pt x="248" y="496"/>
                  </a:lnTo>
                  <a:lnTo>
                    <a:pt x="249" y="524"/>
                  </a:lnTo>
                  <a:lnTo>
                    <a:pt x="251" y="549"/>
                  </a:lnTo>
                  <a:lnTo>
                    <a:pt x="256" y="574"/>
                  </a:lnTo>
                  <a:lnTo>
                    <a:pt x="262" y="596"/>
                  </a:lnTo>
                  <a:lnTo>
                    <a:pt x="269" y="618"/>
                  </a:lnTo>
                  <a:lnTo>
                    <a:pt x="278" y="636"/>
                  </a:lnTo>
                  <a:lnTo>
                    <a:pt x="289" y="655"/>
                  </a:lnTo>
                  <a:lnTo>
                    <a:pt x="295" y="663"/>
                  </a:lnTo>
                  <a:lnTo>
                    <a:pt x="302" y="671"/>
                  </a:lnTo>
                  <a:lnTo>
                    <a:pt x="311" y="680"/>
                  </a:lnTo>
                  <a:lnTo>
                    <a:pt x="316" y="684"/>
                  </a:lnTo>
                  <a:lnTo>
                    <a:pt x="321" y="689"/>
                  </a:lnTo>
                  <a:lnTo>
                    <a:pt x="327" y="692"/>
                  </a:lnTo>
                  <a:lnTo>
                    <a:pt x="332" y="696"/>
                  </a:lnTo>
                  <a:lnTo>
                    <a:pt x="338" y="699"/>
                  </a:lnTo>
                  <a:lnTo>
                    <a:pt x="343" y="702"/>
                  </a:lnTo>
                  <a:lnTo>
                    <a:pt x="349" y="704"/>
                  </a:lnTo>
                  <a:lnTo>
                    <a:pt x="355" y="705"/>
                  </a:lnTo>
                  <a:lnTo>
                    <a:pt x="361" y="708"/>
                  </a:lnTo>
                  <a:lnTo>
                    <a:pt x="368" y="709"/>
                  </a:lnTo>
                  <a:lnTo>
                    <a:pt x="374" y="710"/>
                  </a:lnTo>
                  <a:lnTo>
                    <a:pt x="381" y="711"/>
                  </a:lnTo>
                  <a:lnTo>
                    <a:pt x="388" y="711"/>
                  </a:lnTo>
                  <a:lnTo>
                    <a:pt x="395" y="711"/>
                  </a:lnTo>
                  <a:lnTo>
                    <a:pt x="406" y="711"/>
                  </a:lnTo>
                  <a:lnTo>
                    <a:pt x="416" y="710"/>
                  </a:lnTo>
                  <a:lnTo>
                    <a:pt x="427" y="708"/>
                  </a:lnTo>
                  <a:lnTo>
                    <a:pt x="438" y="705"/>
                  </a:lnTo>
                  <a:lnTo>
                    <a:pt x="449" y="702"/>
                  </a:lnTo>
                  <a:lnTo>
                    <a:pt x="460" y="699"/>
                  </a:lnTo>
                  <a:lnTo>
                    <a:pt x="471" y="693"/>
                  </a:lnTo>
                  <a:lnTo>
                    <a:pt x="482" y="688"/>
                  </a:lnTo>
                  <a:lnTo>
                    <a:pt x="493" y="682"/>
                  </a:lnTo>
                  <a:lnTo>
                    <a:pt x="504" y="675"/>
                  </a:lnTo>
                  <a:lnTo>
                    <a:pt x="526" y="659"/>
                  </a:lnTo>
                  <a:lnTo>
                    <a:pt x="548" y="640"/>
                  </a:lnTo>
                  <a:lnTo>
                    <a:pt x="570" y="618"/>
                  </a:lnTo>
                  <a:lnTo>
                    <a:pt x="590" y="590"/>
                  </a:lnTo>
                  <a:lnTo>
                    <a:pt x="607" y="560"/>
                  </a:lnTo>
                  <a:lnTo>
                    <a:pt x="622" y="528"/>
                  </a:lnTo>
                  <a:lnTo>
                    <a:pt x="634" y="493"/>
                  </a:lnTo>
                  <a:lnTo>
                    <a:pt x="644" y="457"/>
                  </a:lnTo>
                  <a:lnTo>
                    <a:pt x="651" y="419"/>
                  </a:lnTo>
                  <a:lnTo>
                    <a:pt x="655" y="378"/>
                  </a:lnTo>
                  <a:lnTo>
                    <a:pt x="656" y="335"/>
                  </a:lnTo>
                  <a:lnTo>
                    <a:pt x="655" y="304"/>
                  </a:lnTo>
                  <a:lnTo>
                    <a:pt x="653" y="276"/>
                  </a:lnTo>
                  <a:lnTo>
                    <a:pt x="650" y="250"/>
                  </a:lnTo>
                  <a:lnTo>
                    <a:pt x="646" y="226"/>
                  </a:lnTo>
                  <a:lnTo>
                    <a:pt x="640" y="205"/>
                  </a:lnTo>
                  <a:lnTo>
                    <a:pt x="632" y="186"/>
                  </a:lnTo>
                  <a:lnTo>
                    <a:pt x="624" y="170"/>
                  </a:lnTo>
                  <a:lnTo>
                    <a:pt x="619" y="162"/>
                  </a:lnTo>
                  <a:lnTo>
                    <a:pt x="614" y="155"/>
                  </a:lnTo>
                  <a:lnTo>
                    <a:pt x="603" y="143"/>
                  </a:lnTo>
                  <a:lnTo>
                    <a:pt x="591" y="133"/>
                  </a:lnTo>
                  <a:lnTo>
                    <a:pt x="585" y="129"/>
                  </a:lnTo>
                  <a:lnTo>
                    <a:pt x="579" y="124"/>
                  </a:lnTo>
                  <a:lnTo>
                    <a:pt x="573" y="120"/>
                  </a:lnTo>
                  <a:lnTo>
                    <a:pt x="567" y="117"/>
                  </a:lnTo>
                  <a:lnTo>
                    <a:pt x="560" y="114"/>
                  </a:lnTo>
                  <a:lnTo>
                    <a:pt x="554" y="111"/>
                  </a:lnTo>
                  <a:lnTo>
                    <a:pt x="547" y="109"/>
                  </a:lnTo>
                  <a:lnTo>
                    <a:pt x="540" y="108"/>
                  </a:lnTo>
                  <a:lnTo>
                    <a:pt x="533" y="106"/>
                  </a:lnTo>
                  <a:lnTo>
                    <a:pt x="526" y="105"/>
                  </a:lnTo>
                  <a:lnTo>
                    <a:pt x="519" y="105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19440" y="558720"/>
              <a:ext cx="293760" cy="295200"/>
            </a:xfrm>
            <a:custGeom>
              <a:avLst/>
              <a:gdLst/>
              <a:ahLst/>
              <a:rect l="l" t="t" r="r" b="b"/>
              <a:pathLst>
                <a:path w="817" h="820">
                  <a:moveTo>
                    <a:pt x="599" y="330"/>
                  </a:moveTo>
                  <a:lnTo>
                    <a:pt x="650" y="330"/>
                  </a:lnTo>
                  <a:lnTo>
                    <a:pt x="670" y="330"/>
                  </a:lnTo>
                  <a:lnTo>
                    <a:pt x="689" y="332"/>
                  </a:lnTo>
                  <a:lnTo>
                    <a:pt x="707" y="334"/>
                  </a:lnTo>
                  <a:lnTo>
                    <a:pt x="723" y="338"/>
                  </a:lnTo>
                  <a:lnTo>
                    <a:pt x="738" y="343"/>
                  </a:lnTo>
                  <a:lnTo>
                    <a:pt x="751" y="349"/>
                  </a:lnTo>
                  <a:lnTo>
                    <a:pt x="764" y="356"/>
                  </a:lnTo>
                  <a:lnTo>
                    <a:pt x="775" y="364"/>
                  </a:lnTo>
                  <a:lnTo>
                    <a:pt x="784" y="373"/>
                  </a:lnTo>
                  <a:lnTo>
                    <a:pt x="793" y="383"/>
                  </a:lnTo>
                  <a:lnTo>
                    <a:pt x="800" y="394"/>
                  </a:lnTo>
                  <a:lnTo>
                    <a:pt x="806" y="407"/>
                  </a:lnTo>
                  <a:lnTo>
                    <a:pt x="810" y="420"/>
                  </a:lnTo>
                  <a:lnTo>
                    <a:pt x="813" y="434"/>
                  </a:lnTo>
                  <a:lnTo>
                    <a:pt x="815" y="450"/>
                  </a:lnTo>
                  <a:lnTo>
                    <a:pt x="816" y="467"/>
                  </a:lnTo>
                  <a:lnTo>
                    <a:pt x="815" y="483"/>
                  </a:lnTo>
                  <a:lnTo>
                    <a:pt x="813" y="498"/>
                  </a:lnTo>
                  <a:lnTo>
                    <a:pt x="809" y="514"/>
                  </a:lnTo>
                  <a:lnTo>
                    <a:pt x="804" y="530"/>
                  </a:lnTo>
                  <a:lnTo>
                    <a:pt x="797" y="546"/>
                  </a:lnTo>
                  <a:lnTo>
                    <a:pt x="789" y="561"/>
                  </a:lnTo>
                  <a:lnTo>
                    <a:pt x="779" y="576"/>
                  </a:lnTo>
                  <a:lnTo>
                    <a:pt x="768" y="592"/>
                  </a:lnTo>
                  <a:lnTo>
                    <a:pt x="755" y="607"/>
                  </a:lnTo>
                  <a:lnTo>
                    <a:pt x="741" y="622"/>
                  </a:lnTo>
                  <a:lnTo>
                    <a:pt x="708" y="651"/>
                  </a:lnTo>
                  <a:lnTo>
                    <a:pt x="668" y="680"/>
                  </a:lnTo>
                  <a:lnTo>
                    <a:pt x="623" y="708"/>
                  </a:lnTo>
                  <a:lnTo>
                    <a:pt x="575" y="734"/>
                  </a:lnTo>
                  <a:lnTo>
                    <a:pt x="527" y="757"/>
                  </a:lnTo>
                  <a:lnTo>
                    <a:pt x="479" y="776"/>
                  </a:lnTo>
                  <a:lnTo>
                    <a:pt x="432" y="791"/>
                  </a:lnTo>
                  <a:lnTo>
                    <a:pt x="384" y="803"/>
                  </a:lnTo>
                  <a:lnTo>
                    <a:pt x="337" y="813"/>
                  </a:lnTo>
                  <a:lnTo>
                    <a:pt x="291" y="818"/>
                  </a:lnTo>
                  <a:lnTo>
                    <a:pt x="244" y="819"/>
                  </a:lnTo>
                  <a:lnTo>
                    <a:pt x="214" y="819"/>
                  </a:lnTo>
                  <a:lnTo>
                    <a:pt x="187" y="816"/>
                  </a:lnTo>
                  <a:lnTo>
                    <a:pt x="161" y="813"/>
                  </a:lnTo>
                  <a:lnTo>
                    <a:pt x="137" y="807"/>
                  </a:lnTo>
                  <a:lnTo>
                    <a:pt x="115" y="800"/>
                  </a:lnTo>
                  <a:lnTo>
                    <a:pt x="95" y="792"/>
                  </a:lnTo>
                  <a:lnTo>
                    <a:pt x="77" y="782"/>
                  </a:lnTo>
                  <a:lnTo>
                    <a:pt x="61" y="771"/>
                  </a:lnTo>
                  <a:lnTo>
                    <a:pt x="47" y="757"/>
                  </a:lnTo>
                  <a:lnTo>
                    <a:pt x="34" y="743"/>
                  </a:lnTo>
                  <a:lnTo>
                    <a:pt x="24" y="727"/>
                  </a:lnTo>
                  <a:lnTo>
                    <a:pt x="15" y="710"/>
                  </a:lnTo>
                  <a:lnTo>
                    <a:pt x="9" y="691"/>
                  </a:lnTo>
                  <a:lnTo>
                    <a:pt x="4" y="670"/>
                  </a:lnTo>
                  <a:lnTo>
                    <a:pt x="1" y="648"/>
                  </a:lnTo>
                  <a:lnTo>
                    <a:pt x="0" y="624"/>
                  </a:lnTo>
                  <a:lnTo>
                    <a:pt x="3" y="570"/>
                  </a:lnTo>
                  <a:lnTo>
                    <a:pt x="11" y="517"/>
                  </a:lnTo>
                  <a:lnTo>
                    <a:pt x="25" y="464"/>
                  </a:lnTo>
                  <a:lnTo>
                    <a:pt x="44" y="411"/>
                  </a:lnTo>
                  <a:lnTo>
                    <a:pt x="69" y="359"/>
                  </a:lnTo>
                  <a:lnTo>
                    <a:pt x="99" y="307"/>
                  </a:lnTo>
                  <a:lnTo>
                    <a:pt x="135" y="256"/>
                  </a:lnTo>
                  <a:lnTo>
                    <a:pt x="176" y="204"/>
                  </a:lnTo>
                  <a:lnTo>
                    <a:pt x="221" y="156"/>
                  </a:lnTo>
                  <a:lnTo>
                    <a:pt x="268" y="115"/>
                  </a:lnTo>
                  <a:lnTo>
                    <a:pt x="292" y="97"/>
                  </a:lnTo>
                  <a:lnTo>
                    <a:pt x="317" y="79"/>
                  </a:lnTo>
                  <a:lnTo>
                    <a:pt x="342" y="64"/>
                  </a:lnTo>
                  <a:lnTo>
                    <a:pt x="368" y="51"/>
                  </a:lnTo>
                  <a:lnTo>
                    <a:pt x="394" y="39"/>
                  </a:lnTo>
                  <a:lnTo>
                    <a:pt x="421" y="29"/>
                  </a:lnTo>
                  <a:lnTo>
                    <a:pt x="448" y="19"/>
                  </a:lnTo>
                  <a:lnTo>
                    <a:pt x="476" y="13"/>
                  </a:lnTo>
                  <a:lnTo>
                    <a:pt x="504" y="7"/>
                  </a:lnTo>
                  <a:lnTo>
                    <a:pt x="533" y="3"/>
                  </a:lnTo>
                  <a:lnTo>
                    <a:pt x="562" y="1"/>
                  </a:lnTo>
                  <a:lnTo>
                    <a:pt x="592" y="0"/>
                  </a:lnTo>
                  <a:lnTo>
                    <a:pt x="616" y="1"/>
                  </a:lnTo>
                  <a:lnTo>
                    <a:pt x="639" y="2"/>
                  </a:lnTo>
                  <a:lnTo>
                    <a:pt x="660" y="4"/>
                  </a:lnTo>
                  <a:lnTo>
                    <a:pt x="679" y="8"/>
                  </a:lnTo>
                  <a:lnTo>
                    <a:pt x="697" y="13"/>
                  </a:lnTo>
                  <a:lnTo>
                    <a:pt x="713" y="19"/>
                  </a:lnTo>
                  <a:lnTo>
                    <a:pt x="728" y="26"/>
                  </a:lnTo>
                  <a:lnTo>
                    <a:pt x="741" y="35"/>
                  </a:lnTo>
                  <a:lnTo>
                    <a:pt x="753" y="44"/>
                  </a:lnTo>
                  <a:lnTo>
                    <a:pt x="763" y="54"/>
                  </a:lnTo>
                  <a:lnTo>
                    <a:pt x="772" y="65"/>
                  </a:lnTo>
                  <a:lnTo>
                    <a:pt x="779" y="78"/>
                  </a:lnTo>
                  <a:lnTo>
                    <a:pt x="784" y="91"/>
                  </a:lnTo>
                  <a:lnTo>
                    <a:pt x="788" y="105"/>
                  </a:lnTo>
                  <a:lnTo>
                    <a:pt x="790" y="121"/>
                  </a:lnTo>
                  <a:lnTo>
                    <a:pt x="791" y="138"/>
                  </a:lnTo>
                  <a:lnTo>
                    <a:pt x="790" y="153"/>
                  </a:lnTo>
                  <a:lnTo>
                    <a:pt x="788" y="169"/>
                  </a:lnTo>
                  <a:lnTo>
                    <a:pt x="784" y="183"/>
                  </a:lnTo>
                  <a:lnTo>
                    <a:pt x="779" y="197"/>
                  </a:lnTo>
                  <a:lnTo>
                    <a:pt x="772" y="211"/>
                  </a:lnTo>
                  <a:lnTo>
                    <a:pt x="764" y="225"/>
                  </a:lnTo>
                  <a:lnTo>
                    <a:pt x="754" y="237"/>
                  </a:lnTo>
                  <a:lnTo>
                    <a:pt x="743" y="250"/>
                  </a:lnTo>
                  <a:lnTo>
                    <a:pt x="730" y="261"/>
                  </a:lnTo>
                  <a:lnTo>
                    <a:pt x="716" y="272"/>
                  </a:lnTo>
                  <a:lnTo>
                    <a:pt x="700" y="284"/>
                  </a:lnTo>
                  <a:lnTo>
                    <a:pt x="683" y="293"/>
                  </a:lnTo>
                  <a:lnTo>
                    <a:pt x="664" y="304"/>
                  </a:lnTo>
                  <a:lnTo>
                    <a:pt x="644" y="313"/>
                  </a:lnTo>
                  <a:close/>
                  <a:moveTo>
                    <a:pt x="269" y="402"/>
                  </a:moveTo>
                  <a:lnTo>
                    <a:pt x="340" y="374"/>
                  </a:lnTo>
                  <a:lnTo>
                    <a:pt x="401" y="346"/>
                  </a:lnTo>
                  <a:lnTo>
                    <a:pt x="453" y="318"/>
                  </a:lnTo>
                  <a:lnTo>
                    <a:pt x="475" y="304"/>
                  </a:lnTo>
                  <a:lnTo>
                    <a:pt x="495" y="290"/>
                  </a:lnTo>
                  <a:lnTo>
                    <a:pt x="513" y="274"/>
                  </a:lnTo>
                  <a:lnTo>
                    <a:pt x="528" y="260"/>
                  </a:lnTo>
                  <a:lnTo>
                    <a:pt x="541" y="245"/>
                  </a:lnTo>
                  <a:lnTo>
                    <a:pt x="552" y="231"/>
                  </a:lnTo>
                  <a:lnTo>
                    <a:pt x="560" y="215"/>
                  </a:lnTo>
                  <a:lnTo>
                    <a:pt x="566" y="200"/>
                  </a:lnTo>
                  <a:lnTo>
                    <a:pt x="570" y="184"/>
                  </a:lnTo>
                  <a:lnTo>
                    <a:pt x="571" y="169"/>
                  </a:lnTo>
                  <a:lnTo>
                    <a:pt x="571" y="161"/>
                  </a:lnTo>
                  <a:lnTo>
                    <a:pt x="570" y="153"/>
                  </a:lnTo>
                  <a:lnTo>
                    <a:pt x="569" y="147"/>
                  </a:lnTo>
                  <a:lnTo>
                    <a:pt x="567" y="140"/>
                  </a:lnTo>
                  <a:lnTo>
                    <a:pt x="564" y="134"/>
                  </a:lnTo>
                  <a:lnTo>
                    <a:pt x="561" y="128"/>
                  </a:lnTo>
                  <a:lnTo>
                    <a:pt x="558" y="124"/>
                  </a:lnTo>
                  <a:lnTo>
                    <a:pt x="554" y="119"/>
                  </a:lnTo>
                  <a:lnTo>
                    <a:pt x="549" y="116"/>
                  </a:lnTo>
                  <a:lnTo>
                    <a:pt x="544" y="112"/>
                  </a:lnTo>
                  <a:lnTo>
                    <a:pt x="538" y="110"/>
                  </a:lnTo>
                  <a:lnTo>
                    <a:pt x="532" y="107"/>
                  </a:lnTo>
                  <a:lnTo>
                    <a:pt x="525" y="105"/>
                  </a:lnTo>
                  <a:lnTo>
                    <a:pt x="518" y="103"/>
                  </a:lnTo>
                  <a:lnTo>
                    <a:pt x="510" y="103"/>
                  </a:lnTo>
                  <a:lnTo>
                    <a:pt x="502" y="103"/>
                  </a:lnTo>
                  <a:lnTo>
                    <a:pt x="482" y="104"/>
                  </a:lnTo>
                  <a:lnTo>
                    <a:pt x="463" y="107"/>
                  </a:lnTo>
                  <a:lnTo>
                    <a:pt x="444" y="113"/>
                  </a:lnTo>
                  <a:lnTo>
                    <a:pt x="427" y="122"/>
                  </a:lnTo>
                  <a:lnTo>
                    <a:pt x="410" y="132"/>
                  </a:lnTo>
                  <a:lnTo>
                    <a:pt x="393" y="145"/>
                  </a:lnTo>
                  <a:lnTo>
                    <a:pt x="378" y="160"/>
                  </a:lnTo>
                  <a:lnTo>
                    <a:pt x="363" y="178"/>
                  </a:lnTo>
                  <a:lnTo>
                    <a:pt x="348" y="197"/>
                  </a:lnTo>
                  <a:lnTo>
                    <a:pt x="335" y="219"/>
                  </a:lnTo>
                  <a:lnTo>
                    <a:pt x="310" y="271"/>
                  </a:lnTo>
                  <a:lnTo>
                    <a:pt x="288" y="332"/>
                  </a:lnTo>
                  <a:close/>
                  <a:moveTo>
                    <a:pt x="257" y="496"/>
                  </a:moveTo>
                  <a:lnTo>
                    <a:pt x="253" y="517"/>
                  </a:lnTo>
                  <a:lnTo>
                    <a:pt x="250" y="538"/>
                  </a:lnTo>
                  <a:lnTo>
                    <a:pt x="249" y="561"/>
                  </a:lnTo>
                  <a:lnTo>
                    <a:pt x="248" y="584"/>
                  </a:lnTo>
                  <a:lnTo>
                    <a:pt x="249" y="619"/>
                  </a:lnTo>
                  <a:lnTo>
                    <a:pt x="251" y="634"/>
                  </a:lnTo>
                  <a:lnTo>
                    <a:pt x="253" y="648"/>
                  </a:lnTo>
                  <a:lnTo>
                    <a:pt x="256" y="660"/>
                  </a:lnTo>
                  <a:lnTo>
                    <a:pt x="259" y="670"/>
                  </a:lnTo>
                  <a:lnTo>
                    <a:pt x="263" y="679"/>
                  </a:lnTo>
                  <a:lnTo>
                    <a:pt x="265" y="682"/>
                  </a:lnTo>
                  <a:lnTo>
                    <a:pt x="267" y="685"/>
                  </a:lnTo>
                  <a:lnTo>
                    <a:pt x="270" y="688"/>
                  </a:lnTo>
                  <a:lnTo>
                    <a:pt x="272" y="691"/>
                  </a:lnTo>
                  <a:lnTo>
                    <a:pt x="275" y="694"/>
                  </a:lnTo>
                  <a:lnTo>
                    <a:pt x="278" y="697"/>
                  </a:lnTo>
                  <a:lnTo>
                    <a:pt x="282" y="699"/>
                  </a:lnTo>
                  <a:lnTo>
                    <a:pt x="285" y="701"/>
                  </a:lnTo>
                  <a:lnTo>
                    <a:pt x="289" y="703"/>
                  </a:lnTo>
                  <a:lnTo>
                    <a:pt x="293" y="705"/>
                  </a:lnTo>
                  <a:lnTo>
                    <a:pt x="297" y="707"/>
                  </a:lnTo>
                  <a:lnTo>
                    <a:pt x="301" y="707"/>
                  </a:lnTo>
                  <a:lnTo>
                    <a:pt x="305" y="709"/>
                  </a:lnTo>
                  <a:lnTo>
                    <a:pt x="310" y="710"/>
                  </a:lnTo>
                  <a:lnTo>
                    <a:pt x="315" y="710"/>
                  </a:lnTo>
                  <a:lnTo>
                    <a:pt x="320" y="710"/>
                  </a:lnTo>
                  <a:lnTo>
                    <a:pt x="325" y="711"/>
                  </a:lnTo>
                  <a:lnTo>
                    <a:pt x="330" y="711"/>
                  </a:lnTo>
                  <a:lnTo>
                    <a:pt x="339" y="711"/>
                  </a:lnTo>
                  <a:lnTo>
                    <a:pt x="349" y="710"/>
                  </a:lnTo>
                  <a:lnTo>
                    <a:pt x="358" y="709"/>
                  </a:lnTo>
                  <a:lnTo>
                    <a:pt x="368" y="707"/>
                  </a:lnTo>
                  <a:lnTo>
                    <a:pt x="378" y="705"/>
                  </a:lnTo>
                  <a:lnTo>
                    <a:pt x="387" y="702"/>
                  </a:lnTo>
                  <a:lnTo>
                    <a:pt x="397" y="699"/>
                  </a:lnTo>
                  <a:lnTo>
                    <a:pt x="407" y="695"/>
                  </a:lnTo>
                  <a:lnTo>
                    <a:pt x="427" y="686"/>
                  </a:lnTo>
                  <a:lnTo>
                    <a:pt x="447" y="675"/>
                  </a:lnTo>
                  <a:lnTo>
                    <a:pt x="467" y="662"/>
                  </a:lnTo>
                  <a:lnTo>
                    <a:pt x="488" y="647"/>
                  </a:lnTo>
                  <a:lnTo>
                    <a:pt x="507" y="631"/>
                  </a:lnTo>
                  <a:lnTo>
                    <a:pt x="524" y="614"/>
                  </a:lnTo>
                  <a:lnTo>
                    <a:pt x="538" y="596"/>
                  </a:lnTo>
                  <a:lnTo>
                    <a:pt x="550" y="578"/>
                  </a:lnTo>
                  <a:lnTo>
                    <a:pt x="555" y="568"/>
                  </a:lnTo>
                  <a:lnTo>
                    <a:pt x="559" y="559"/>
                  </a:lnTo>
                  <a:lnTo>
                    <a:pt x="563" y="549"/>
                  </a:lnTo>
                  <a:lnTo>
                    <a:pt x="566" y="539"/>
                  </a:lnTo>
                  <a:lnTo>
                    <a:pt x="570" y="519"/>
                  </a:lnTo>
                  <a:lnTo>
                    <a:pt x="571" y="498"/>
                  </a:lnTo>
                  <a:lnTo>
                    <a:pt x="571" y="489"/>
                  </a:lnTo>
                  <a:lnTo>
                    <a:pt x="570" y="480"/>
                  </a:lnTo>
                  <a:lnTo>
                    <a:pt x="568" y="473"/>
                  </a:lnTo>
                  <a:lnTo>
                    <a:pt x="567" y="465"/>
                  </a:lnTo>
                  <a:lnTo>
                    <a:pt x="564" y="458"/>
                  </a:lnTo>
                  <a:lnTo>
                    <a:pt x="561" y="452"/>
                  </a:lnTo>
                  <a:lnTo>
                    <a:pt x="557" y="446"/>
                  </a:lnTo>
                  <a:lnTo>
                    <a:pt x="553" y="441"/>
                  </a:lnTo>
                  <a:lnTo>
                    <a:pt x="548" y="436"/>
                  </a:lnTo>
                  <a:lnTo>
                    <a:pt x="543" y="433"/>
                  </a:lnTo>
                  <a:lnTo>
                    <a:pt x="537" y="430"/>
                  </a:lnTo>
                  <a:lnTo>
                    <a:pt x="531" y="427"/>
                  </a:lnTo>
                  <a:lnTo>
                    <a:pt x="524" y="425"/>
                  </a:lnTo>
                  <a:lnTo>
                    <a:pt x="517" y="424"/>
                  </a:lnTo>
                  <a:lnTo>
                    <a:pt x="509" y="422"/>
                  </a:lnTo>
                  <a:lnTo>
                    <a:pt x="500" y="422"/>
                  </a:lnTo>
                  <a:lnTo>
                    <a:pt x="491" y="422"/>
                  </a:lnTo>
                  <a:lnTo>
                    <a:pt x="481" y="424"/>
                  </a:lnTo>
                  <a:lnTo>
                    <a:pt x="471" y="424"/>
                  </a:lnTo>
                  <a:lnTo>
                    <a:pt x="459" y="427"/>
                  </a:lnTo>
                  <a:lnTo>
                    <a:pt x="434" y="433"/>
                  </a:lnTo>
                  <a:lnTo>
                    <a:pt x="405" y="441"/>
                  </a:lnTo>
                  <a:lnTo>
                    <a:pt x="373" y="451"/>
                  </a:lnTo>
                  <a:lnTo>
                    <a:pt x="338" y="46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9560" y="558720"/>
              <a:ext cx="530280" cy="297000"/>
            </a:xfrm>
            <a:custGeom>
              <a:avLst/>
              <a:gdLst/>
              <a:ahLst/>
              <a:rect l="l" t="t" r="r" b="b"/>
              <a:pathLst>
                <a:path w="1475" h="825">
                  <a:moveTo>
                    <a:pt x="56" y="245"/>
                  </a:moveTo>
                  <a:lnTo>
                    <a:pt x="0" y="190"/>
                  </a:lnTo>
                  <a:lnTo>
                    <a:pt x="62" y="142"/>
                  </a:lnTo>
                  <a:lnTo>
                    <a:pt x="92" y="122"/>
                  </a:lnTo>
                  <a:lnTo>
                    <a:pt x="122" y="102"/>
                  </a:lnTo>
                  <a:lnTo>
                    <a:pt x="152" y="85"/>
                  </a:lnTo>
                  <a:lnTo>
                    <a:pt x="181" y="70"/>
                  </a:lnTo>
                  <a:lnTo>
                    <a:pt x="209" y="56"/>
                  </a:lnTo>
                  <a:lnTo>
                    <a:pt x="237" y="44"/>
                  </a:lnTo>
                  <a:lnTo>
                    <a:pt x="264" y="33"/>
                  </a:lnTo>
                  <a:lnTo>
                    <a:pt x="290" y="24"/>
                  </a:lnTo>
                  <a:lnTo>
                    <a:pt x="314" y="17"/>
                  </a:lnTo>
                  <a:lnTo>
                    <a:pt x="337" y="11"/>
                  </a:lnTo>
                  <a:lnTo>
                    <a:pt x="358" y="6"/>
                  </a:lnTo>
                  <a:lnTo>
                    <a:pt x="379" y="3"/>
                  </a:lnTo>
                  <a:lnTo>
                    <a:pt x="397" y="1"/>
                  </a:lnTo>
                  <a:lnTo>
                    <a:pt x="415" y="0"/>
                  </a:lnTo>
                  <a:lnTo>
                    <a:pt x="423" y="0"/>
                  </a:lnTo>
                  <a:lnTo>
                    <a:pt x="431" y="1"/>
                  </a:lnTo>
                  <a:lnTo>
                    <a:pt x="439" y="2"/>
                  </a:lnTo>
                  <a:lnTo>
                    <a:pt x="446" y="4"/>
                  </a:lnTo>
                  <a:lnTo>
                    <a:pt x="453" y="5"/>
                  </a:lnTo>
                  <a:lnTo>
                    <a:pt x="459" y="8"/>
                  </a:lnTo>
                  <a:lnTo>
                    <a:pt x="465" y="11"/>
                  </a:lnTo>
                  <a:lnTo>
                    <a:pt x="470" y="14"/>
                  </a:lnTo>
                  <a:lnTo>
                    <a:pt x="472" y="15"/>
                  </a:lnTo>
                  <a:lnTo>
                    <a:pt x="475" y="17"/>
                  </a:lnTo>
                  <a:lnTo>
                    <a:pt x="477" y="19"/>
                  </a:lnTo>
                  <a:lnTo>
                    <a:pt x="479" y="20"/>
                  </a:lnTo>
                  <a:lnTo>
                    <a:pt x="480" y="23"/>
                  </a:lnTo>
                  <a:lnTo>
                    <a:pt x="482" y="24"/>
                  </a:lnTo>
                  <a:lnTo>
                    <a:pt x="484" y="27"/>
                  </a:lnTo>
                  <a:lnTo>
                    <a:pt x="485" y="29"/>
                  </a:lnTo>
                  <a:lnTo>
                    <a:pt x="486" y="31"/>
                  </a:lnTo>
                  <a:lnTo>
                    <a:pt x="487" y="33"/>
                  </a:lnTo>
                  <a:lnTo>
                    <a:pt x="488" y="36"/>
                  </a:lnTo>
                  <a:lnTo>
                    <a:pt x="489" y="39"/>
                  </a:lnTo>
                  <a:lnTo>
                    <a:pt x="490" y="44"/>
                  </a:lnTo>
                  <a:lnTo>
                    <a:pt x="490" y="49"/>
                  </a:lnTo>
                  <a:lnTo>
                    <a:pt x="490" y="55"/>
                  </a:lnTo>
                  <a:lnTo>
                    <a:pt x="489" y="61"/>
                  </a:lnTo>
                  <a:lnTo>
                    <a:pt x="487" y="69"/>
                  </a:lnTo>
                  <a:lnTo>
                    <a:pt x="485" y="77"/>
                  </a:lnTo>
                  <a:lnTo>
                    <a:pt x="479" y="98"/>
                  </a:lnTo>
                  <a:lnTo>
                    <a:pt x="470" y="123"/>
                  </a:lnTo>
                  <a:lnTo>
                    <a:pt x="433" y="220"/>
                  </a:lnTo>
                  <a:lnTo>
                    <a:pt x="494" y="168"/>
                  </a:lnTo>
                  <a:lnTo>
                    <a:pt x="552" y="123"/>
                  </a:lnTo>
                  <a:lnTo>
                    <a:pt x="607" y="86"/>
                  </a:lnTo>
                  <a:lnTo>
                    <a:pt x="660" y="55"/>
                  </a:lnTo>
                  <a:lnTo>
                    <a:pt x="685" y="42"/>
                  </a:lnTo>
                  <a:lnTo>
                    <a:pt x="710" y="31"/>
                  </a:lnTo>
                  <a:lnTo>
                    <a:pt x="734" y="21"/>
                  </a:lnTo>
                  <a:lnTo>
                    <a:pt x="757" y="14"/>
                  </a:lnTo>
                  <a:lnTo>
                    <a:pt x="780" y="8"/>
                  </a:lnTo>
                  <a:lnTo>
                    <a:pt x="801" y="4"/>
                  </a:lnTo>
                  <a:lnTo>
                    <a:pt x="823" y="1"/>
                  </a:lnTo>
                  <a:lnTo>
                    <a:pt x="843" y="0"/>
                  </a:lnTo>
                  <a:lnTo>
                    <a:pt x="855" y="0"/>
                  </a:lnTo>
                  <a:lnTo>
                    <a:pt x="867" y="2"/>
                  </a:lnTo>
                  <a:lnTo>
                    <a:pt x="878" y="3"/>
                  </a:lnTo>
                  <a:lnTo>
                    <a:pt x="883" y="5"/>
                  </a:lnTo>
                  <a:lnTo>
                    <a:pt x="888" y="5"/>
                  </a:lnTo>
                  <a:lnTo>
                    <a:pt x="892" y="7"/>
                  </a:lnTo>
                  <a:lnTo>
                    <a:pt x="897" y="8"/>
                  </a:lnTo>
                  <a:lnTo>
                    <a:pt x="901" y="11"/>
                  </a:lnTo>
                  <a:lnTo>
                    <a:pt x="906" y="12"/>
                  </a:lnTo>
                  <a:lnTo>
                    <a:pt x="910" y="14"/>
                  </a:lnTo>
                  <a:lnTo>
                    <a:pt x="914" y="17"/>
                  </a:lnTo>
                  <a:lnTo>
                    <a:pt x="917" y="20"/>
                  </a:lnTo>
                  <a:lnTo>
                    <a:pt x="921" y="22"/>
                  </a:lnTo>
                  <a:lnTo>
                    <a:pt x="924" y="25"/>
                  </a:lnTo>
                  <a:lnTo>
                    <a:pt x="927" y="28"/>
                  </a:lnTo>
                  <a:lnTo>
                    <a:pt x="930" y="31"/>
                  </a:lnTo>
                  <a:lnTo>
                    <a:pt x="933" y="35"/>
                  </a:lnTo>
                  <a:lnTo>
                    <a:pt x="935" y="38"/>
                  </a:lnTo>
                  <a:lnTo>
                    <a:pt x="937" y="42"/>
                  </a:lnTo>
                  <a:lnTo>
                    <a:pt x="941" y="49"/>
                  </a:lnTo>
                  <a:lnTo>
                    <a:pt x="944" y="58"/>
                  </a:lnTo>
                  <a:lnTo>
                    <a:pt x="946" y="67"/>
                  </a:lnTo>
                  <a:lnTo>
                    <a:pt x="948" y="76"/>
                  </a:lnTo>
                  <a:lnTo>
                    <a:pt x="948" y="86"/>
                  </a:lnTo>
                  <a:lnTo>
                    <a:pt x="947" y="97"/>
                  </a:lnTo>
                  <a:lnTo>
                    <a:pt x="946" y="108"/>
                  </a:lnTo>
                  <a:lnTo>
                    <a:pt x="943" y="120"/>
                  </a:lnTo>
                  <a:lnTo>
                    <a:pt x="939" y="134"/>
                  </a:lnTo>
                  <a:lnTo>
                    <a:pt x="934" y="148"/>
                  </a:lnTo>
                  <a:lnTo>
                    <a:pt x="928" y="164"/>
                  </a:lnTo>
                  <a:lnTo>
                    <a:pt x="912" y="196"/>
                  </a:lnTo>
                  <a:lnTo>
                    <a:pt x="936" y="171"/>
                  </a:lnTo>
                  <a:lnTo>
                    <a:pt x="960" y="148"/>
                  </a:lnTo>
                  <a:lnTo>
                    <a:pt x="984" y="126"/>
                  </a:lnTo>
                  <a:lnTo>
                    <a:pt x="1009" y="107"/>
                  </a:lnTo>
                  <a:lnTo>
                    <a:pt x="1034" y="89"/>
                  </a:lnTo>
                  <a:lnTo>
                    <a:pt x="1059" y="73"/>
                  </a:lnTo>
                  <a:lnTo>
                    <a:pt x="1084" y="59"/>
                  </a:lnTo>
                  <a:lnTo>
                    <a:pt x="1110" y="46"/>
                  </a:lnTo>
                  <a:lnTo>
                    <a:pt x="1136" y="36"/>
                  </a:lnTo>
                  <a:lnTo>
                    <a:pt x="1160" y="26"/>
                  </a:lnTo>
                  <a:lnTo>
                    <a:pt x="1183" y="18"/>
                  </a:lnTo>
                  <a:lnTo>
                    <a:pt x="1204" y="11"/>
                  </a:lnTo>
                  <a:lnTo>
                    <a:pt x="1224" y="6"/>
                  </a:lnTo>
                  <a:lnTo>
                    <a:pt x="1243" y="3"/>
                  </a:lnTo>
                  <a:lnTo>
                    <a:pt x="1261" y="1"/>
                  </a:lnTo>
                  <a:lnTo>
                    <a:pt x="1269" y="0"/>
                  </a:lnTo>
                  <a:lnTo>
                    <a:pt x="1277" y="0"/>
                  </a:lnTo>
                  <a:lnTo>
                    <a:pt x="1292" y="1"/>
                  </a:lnTo>
                  <a:lnTo>
                    <a:pt x="1305" y="2"/>
                  </a:lnTo>
                  <a:lnTo>
                    <a:pt x="1319" y="4"/>
                  </a:lnTo>
                  <a:lnTo>
                    <a:pt x="1325" y="5"/>
                  </a:lnTo>
                  <a:lnTo>
                    <a:pt x="1331" y="7"/>
                  </a:lnTo>
                  <a:lnTo>
                    <a:pt x="1337" y="8"/>
                  </a:lnTo>
                  <a:lnTo>
                    <a:pt x="1342" y="11"/>
                  </a:lnTo>
                  <a:lnTo>
                    <a:pt x="1348" y="13"/>
                  </a:lnTo>
                  <a:lnTo>
                    <a:pt x="1353" y="15"/>
                  </a:lnTo>
                  <a:lnTo>
                    <a:pt x="1358" y="18"/>
                  </a:lnTo>
                  <a:lnTo>
                    <a:pt x="1363" y="21"/>
                  </a:lnTo>
                  <a:lnTo>
                    <a:pt x="1368" y="24"/>
                  </a:lnTo>
                  <a:lnTo>
                    <a:pt x="1372" y="27"/>
                  </a:lnTo>
                  <a:lnTo>
                    <a:pt x="1376" y="31"/>
                  </a:lnTo>
                  <a:lnTo>
                    <a:pt x="1380" y="35"/>
                  </a:lnTo>
                  <a:lnTo>
                    <a:pt x="1384" y="39"/>
                  </a:lnTo>
                  <a:lnTo>
                    <a:pt x="1387" y="42"/>
                  </a:lnTo>
                  <a:lnTo>
                    <a:pt x="1390" y="47"/>
                  </a:lnTo>
                  <a:lnTo>
                    <a:pt x="1393" y="52"/>
                  </a:lnTo>
                  <a:lnTo>
                    <a:pt x="1396" y="56"/>
                  </a:lnTo>
                  <a:lnTo>
                    <a:pt x="1398" y="61"/>
                  </a:lnTo>
                  <a:lnTo>
                    <a:pt x="1402" y="71"/>
                  </a:lnTo>
                  <a:lnTo>
                    <a:pt x="1405" y="82"/>
                  </a:lnTo>
                  <a:lnTo>
                    <a:pt x="1406" y="94"/>
                  </a:lnTo>
                  <a:lnTo>
                    <a:pt x="1407" y="106"/>
                  </a:lnTo>
                  <a:lnTo>
                    <a:pt x="1407" y="114"/>
                  </a:lnTo>
                  <a:lnTo>
                    <a:pt x="1406" y="121"/>
                  </a:lnTo>
                  <a:lnTo>
                    <a:pt x="1405" y="129"/>
                  </a:lnTo>
                  <a:lnTo>
                    <a:pt x="1404" y="138"/>
                  </a:lnTo>
                  <a:lnTo>
                    <a:pt x="1399" y="155"/>
                  </a:lnTo>
                  <a:lnTo>
                    <a:pt x="1394" y="173"/>
                  </a:lnTo>
                  <a:lnTo>
                    <a:pt x="1384" y="201"/>
                  </a:lnTo>
                  <a:lnTo>
                    <a:pt x="1366" y="249"/>
                  </a:lnTo>
                  <a:lnTo>
                    <a:pt x="1307" y="400"/>
                  </a:lnTo>
                  <a:lnTo>
                    <a:pt x="1266" y="503"/>
                  </a:lnTo>
                  <a:lnTo>
                    <a:pt x="1237" y="583"/>
                  </a:lnTo>
                  <a:lnTo>
                    <a:pt x="1220" y="639"/>
                  </a:lnTo>
                  <a:lnTo>
                    <a:pt x="1215" y="658"/>
                  </a:lnTo>
                  <a:lnTo>
                    <a:pt x="1214" y="666"/>
                  </a:lnTo>
                  <a:lnTo>
                    <a:pt x="1214" y="672"/>
                  </a:lnTo>
                  <a:lnTo>
                    <a:pt x="1214" y="675"/>
                  </a:lnTo>
                  <a:lnTo>
                    <a:pt x="1215" y="677"/>
                  </a:lnTo>
                  <a:lnTo>
                    <a:pt x="1215" y="679"/>
                  </a:lnTo>
                  <a:lnTo>
                    <a:pt x="1215" y="680"/>
                  </a:lnTo>
                  <a:lnTo>
                    <a:pt x="1216" y="680"/>
                  </a:lnTo>
                  <a:lnTo>
                    <a:pt x="1216" y="681"/>
                  </a:lnTo>
                  <a:lnTo>
                    <a:pt x="1217" y="682"/>
                  </a:lnTo>
                  <a:lnTo>
                    <a:pt x="1217" y="683"/>
                  </a:lnTo>
                  <a:lnTo>
                    <a:pt x="1218" y="683"/>
                  </a:lnTo>
                  <a:lnTo>
                    <a:pt x="1219" y="683"/>
                  </a:lnTo>
                  <a:lnTo>
                    <a:pt x="1219" y="683"/>
                  </a:lnTo>
                  <a:lnTo>
                    <a:pt x="1220" y="684"/>
                  </a:lnTo>
                  <a:lnTo>
                    <a:pt x="1221" y="684"/>
                  </a:lnTo>
                  <a:lnTo>
                    <a:pt x="1222" y="684"/>
                  </a:lnTo>
                  <a:lnTo>
                    <a:pt x="1226" y="684"/>
                  </a:lnTo>
                  <a:lnTo>
                    <a:pt x="1230" y="683"/>
                  </a:lnTo>
                  <a:lnTo>
                    <a:pt x="1234" y="683"/>
                  </a:lnTo>
                  <a:lnTo>
                    <a:pt x="1238" y="683"/>
                  </a:lnTo>
                  <a:lnTo>
                    <a:pt x="1242" y="681"/>
                  </a:lnTo>
                  <a:lnTo>
                    <a:pt x="1246" y="680"/>
                  </a:lnTo>
                  <a:lnTo>
                    <a:pt x="1251" y="678"/>
                  </a:lnTo>
                  <a:lnTo>
                    <a:pt x="1255" y="676"/>
                  </a:lnTo>
                  <a:lnTo>
                    <a:pt x="1289" y="657"/>
                  </a:lnTo>
                  <a:lnTo>
                    <a:pt x="1326" y="635"/>
                  </a:lnTo>
                  <a:lnTo>
                    <a:pt x="1367" y="610"/>
                  </a:lnTo>
                  <a:lnTo>
                    <a:pt x="1410" y="581"/>
                  </a:lnTo>
                  <a:lnTo>
                    <a:pt x="1474" y="633"/>
                  </a:lnTo>
                  <a:lnTo>
                    <a:pt x="1466" y="639"/>
                  </a:lnTo>
                  <a:lnTo>
                    <a:pt x="1456" y="646"/>
                  </a:lnTo>
                  <a:lnTo>
                    <a:pt x="1435" y="660"/>
                  </a:lnTo>
                  <a:lnTo>
                    <a:pt x="1409" y="675"/>
                  </a:lnTo>
                  <a:lnTo>
                    <a:pt x="1380" y="690"/>
                  </a:lnTo>
                  <a:lnTo>
                    <a:pt x="1330" y="728"/>
                  </a:lnTo>
                  <a:lnTo>
                    <a:pt x="1307" y="743"/>
                  </a:lnTo>
                  <a:lnTo>
                    <a:pt x="1285" y="758"/>
                  </a:lnTo>
                  <a:lnTo>
                    <a:pt x="1264" y="769"/>
                  </a:lnTo>
                  <a:lnTo>
                    <a:pt x="1244" y="779"/>
                  </a:lnTo>
                  <a:lnTo>
                    <a:pt x="1226" y="787"/>
                  </a:lnTo>
                  <a:lnTo>
                    <a:pt x="1209" y="793"/>
                  </a:lnTo>
                  <a:lnTo>
                    <a:pt x="1197" y="801"/>
                  </a:lnTo>
                  <a:lnTo>
                    <a:pt x="1185" y="807"/>
                  </a:lnTo>
                  <a:lnTo>
                    <a:pt x="1173" y="812"/>
                  </a:lnTo>
                  <a:lnTo>
                    <a:pt x="1161" y="817"/>
                  </a:lnTo>
                  <a:lnTo>
                    <a:pt x="1148" y="820"/>
                  </a:lnTo>
                  <a:lnTo>
                    <a:pt x="1135" y="822"/>
                  </a:lnTo>
                  <a:lnTo>
                    <a:pt x="1122" y="823"/>
                  </a:lnTo>
                  <a:lnTo>
                    <a:pt x="1108" y="824"/>
                  </a:lnTo>
                  <a:lnTo>
                    <a:pt x="1102" y="824"/>
                  </a:lnTo>
                  <a:lnTo>
                    <a:pt x="1096" y="823"/>
                  </a:lnTo>
                  <a:lnTo>
                    <a:pt x="1091" y="823"/>
                  </a:lnTo>
                  <a:lnTo>
                    <a:pt x="1085" y="822"/>
                  </a:lnTo>
                  <a:lnTo>
                    <a:pt x="1079" y="821"/>
                  </a:lnTo>
                  <a:lnTo>
                    <a:pt x="1074" y="820"/>
                  </a:lnTo>
                  <a:lnTo>
                    <a:pt x="1069" y="818"/>
                  </a:lnTo>
                  <a:lnTo>
                    <a:pt x="1064" y="816"/>
                  </a:lnTo>
                  <a:lnTo>
                    <a:pt x="1059" y="814"/>
                  </a:lnTo>
                  <a:lnTo>
                    <a:pt x="1054" y="811"/>
                  </a:lnTo>
                  <a:lnTo>
                    <a:pt x="1049" y="808"/>
                  </a:lnTo>
                  <a:lnTo>
                    <a:pt x="1044" y="806"/>
                  </a:lnTo>
                  <a:lnTo>
                    <a:pt x="1035" y="799"/>
                  </a:lnTo>
                  <a:lnTo>
                    <a:pt x="1027" y="792"/>
                  </a:lnTo>
                  <a:lnTo>
                    <a:pt x="1019" y="783"/>
                  </a:lnTo>
                  <a:lnTo>
                    <a:pt x="1013" y="774"/>
                  </a:lnTo>
                  <a:lnTo>
                    <a:pt x="1007" y="764"/>
                  </a:lnTo>
                  <a:lnTo>
                    <a:pt x="1002" y="754"/>
                  </a:lnTo>
                  <a:lnTo>
                    <a:pt x="999" y="743"/>
                  </a:lnTo>
                  <a:lnTo>
                    <a:pt x="996" y="731"/>
                  </a:lnTo>
                  <a:lnTo>
                    <a:pt x="995" y="719"/>
                  </a:lnTo>
                  <a:lnTo>
                    <a:pt x="994" y="706"/>
                  </a:lnTo>
                  <a:lnTo>
                    <a:pt x="995" y="682"/>
                  </a:lnTo>
                  <a:lnTo>
                    <a:pt x="998" y="657"/>
                  </a:lnTo>
                  <a:lnTo>
                    <a:pt x="1003" y="630"/>
                  </a:lnTo>
                  <a:lnTo>
                    <a:pt x="1011" y="601"/>
                  </a:lnTo>
                  <a:lnTo>
                    <a:pt x="1023" y="562"/>
                  </a:lnTo>
                  <a:lnTo>
                    <a:pt x="1044" y="506"/>
                  </a:lnTo>
                  <a:lnTo>
                    <a:pt x="1108" y="340"/>
                  </a:lnTo>
                  <a:lnTo>
                    <a:pt x="1134" y="272"/>
                  </a:lnTo>
                  <a:lnTo>
                    <a:pt x="1153" y="220"/>
                  </a:lnTo>
                  <a:lnTo>
                    <a:pt x="1164" y="182"/>
                  </a:lnTo>
                  <a:lnTo>
                    <a:pt x="1167" y="170"/>
                  </a:lnTo>
                  <a:lnTo>
                    <a:pt x="1168" y="164"/>
                  </a:lnTo>
                  <a:lnTo>
                    <a:pt x="1168" y="160"/>
                  </a:lnTo>
                  <a:lnTo>
                    <a:pt x="1168" y="159"/>
                  </a:lnTo>
                  <a:lnTo>
                    <a:pt x="1168" y="157"/>
                  </a:lnTo>
                  <a:lnTo>
                    <a:pt x="1168" y="156"/>
                  </a:lnTo>
                  <a:lnTo>
                    <a:pt x="1167" y="155"/>
                  </a:lnTo>
                  <a:lnTo>
                    <a:pt x="1167" y="154"/>
                  </a:lnTo>
                  <a:lnTo>
                    <a:pt x="1166" y="153"/>
                  </a:lnTo>
                  <a:lnTo>
                    <a:pt x="1166" y="152"/>
                  </a:lnTo>
                  <a:lnTo>
                    <a:pt x="1165" y="151"/>
                  </a:lnTo>
                  <a:lnTo>
                    <a:pt x="1164" y="151"/>
                  </a:lnTo>
                  <a:lnTo>
                    <a:pt x="1164" y="150"/>
                  </a:lnTo>
                  <a:lnTo>
                    <a:pt x="1163" y="149"/>
                  </a:lnTo>
                  <a:lnTo>
                    <a:pt x="1162" y="149"/>
                  </a:lnTo>
                  <a:lnTo>
                    <a:pt x="1161" y="149"/>
                  </a:lnTo>
                  <a:lnTo>
                    <a:pt x="1159" y="148"/>
                  </a:lnTo>
                  <a:lnTo>
                    <a:pt x="1158" y="148"/>
                  </a:lnTo>
                  <a:lnTo>
                    <a:pt x="1157" y="148"/>
                  </a:lnTo>
                  <a:lnTo>
                    <a:pt x="1151" y="148"/>
                  </a:lnTo>
                  <a:lnTo>
                    <a:pt x="1145" y="149"/>
                  </a:lnTo>
                  <a:lnTo>
                    <a:pt x="1138" y="150"/>
                  </a:lnTo>
                  <a:lnTo>
                    <a:pt x="1132" y="151"/>
                  </a:lnTo>
                  <a:lnTo>
                    <a:pt x="1125" y="151"/>
                  </a:lnTo>
                  <a:lnTo>
                    <a:pt x="1118" y="153"/>
                  </a:lnTo>
                  <a:lnTo>
                    <a:pt x="1103" y="157"/>
                  </a:lnTo>
                  <a:lnTo>
                    <a:pt x="1076" y="171"/>
                  </a:lnTo>
                  <a:lnTo>
                    <a:pt x="1050" y="185"/>
                  </a:lnTo>
                  <a:lnTo>
                    <a:pt x="1026" y="200"/>
                  </a:lnTo>
                  <a:lnTo>
                    <a:pt x="1003" y="215"/>
                  </a:lnTo>
                  <a:lnTo>
                    <a:pt x="982" y="230"/>
                  </a:lnTo>
                  <a:lnTo>
                    <a:pt x="962" y="246"/>
                  </a:lnTo>
                  <a:lnTo>
                    <a:pt x="943" y="262"/>
                  </a:lnTo>
                  <a:lnTo>
                    <a:pt x="926" y="278"/>
                  </a:lnTo>
                  <a:lnTo>
                    <a:pt x="915" y="290"/>
                  </a:lnTo>
                  <a:lnTo>
                    <a:pt x="904" y="303"/>
                  </a:lnTo>
                  <a:lnTo>
                    <a:pt x="894" y="319"/>
                  </a:lnTo>
                  <a:lnTo>
                    <a:pt x="884" y="335"/>
                  </a:lnTo>
                  <a:lnTo>
                    <a:pt x="874" y="354"/>
                  </a:lnTo>
                  <a:lnTo>
                    <a:pt x="865" y="374"/>
                  </a:lnTo>
                  <a:lnTo>
                    <a:pt x="847" y="420"/>
                  </a:lnTo>
                  <a:lnTo>
                    <a:pt x="725" y="795"/>
                  </a:lnTo>
                  <a:lnTo>
                    <a:pt x="512" y="795"/>
                  </a:lnTo>
                  <a:lnTo>
                    <a:pt x="689" y="224"/>
                  </a:lnTo>
                  <a:lnTo>
                    <a:pt x="703" y="179"/>
                  </a:lnTo>
                  <a:lnTo>
                    <a:pt x="707" y="166"/>
                  </a:lnTo>
                  <a:lnTo>
                    <a:pt x="708" y="162"/>
                  </a:lnTo>
                  <a:lnTo>
                    <a:pt x="708" y="160"/>
                  </a:lnTo>
                  <a:lnTo>
                    <a:pt x="708" y="160"/>
                  </a:lnTo>
                  <a:lnTo>
                    <a:pt x="708" y="158"/>
                  </a:lnTo>
                  <a:lnTo>
                    <a:pt x="708" y="157"/>
                  </a:lnTo>
                  <a:lnTo>
                    <a:pt x="708" y="155"/>
                  </a:lnTo>
                  <a:lnTo>
                    <a:pt x="707" y="154"/>
                  </a:lnTo>
                  <a:lnTo>
                    <a:pt x="707" y="153"/>
                  </a:lnTo>
                  <a:lnTo>
                    <a:pt x="707" y="152"/>
                  </a:lnTo>
                  <a:lnTo>
                    <a:pt x="706" y="152"/>
                  </a:lnTo>
                  <a:lnTo>
                    <a:pt x="706" y="151"/>
                  </a:lnTo>
                  <a:lnTo>
                    <a:pt x="706" y="151"/>
                  </a:lnTo>
                  <a:lnTo>
                    <a:pt x="705" y="151"/>
                  </a:lnTo>
                  <a:lnTo>
                    <a:pt x="705" y="151"/>
                  </a:lnTo>
                  <a:lnTo>
                    <a:pt x="705" y="151"/>
                  </a:lnTo>
                  <a:lnTo>
                    <a:pt x="704" y="150"/>
                  </a:lnTo>
                  <a:lnTo>
                    <a:pt x="704" y="150"/>
                  </a:lnTo>
                  <a:lnTo>
                    <a:pt x="703" y="150"/>
                  </a:lnTo>
                  <a:lnTo>
                    <a:pt x="703" y="149"/>
                  </a:lnTo>
                  <a:lnTo>
                    <a:pt x="702" y="149"/>
                  </a:lnTo>
                  <a:lnTo>
                    <a:pt x="702" y="149"/>
                  </a:lnTo>
                  <a:lnTo>
                    <a:pt x="701" y="149"/>
                  </a:lnTo>
                  <a:lnTo>
                    <a:pt x="700" y="148"/>
                  </a:lnTo>
                  <a:lnTo>
                    <a:pt x="698" y="148"/>
                  </a:lnTo>
                  <a:lnTo>
                    <a:pt x="697" y="148"/>
                  </a:lnTo>
                  <a:lnTo>
                    <a:pt x="695" y="148"/>
                  </a:lnTo>
                  <a:lnTo>
                    <a:pt x="692" y="148"/>
                  </a:lnTo>
                  <a:lnTo>
                    <a:pt x="688" y="149"/>
                  </a:lnTo>
                  <a:lnTo>
                    <a:pt x="684" y="150"/>
                  </a:lnTo>
                  <a:lnTo>
                    <a:pt x="680" y="151"/>
                  </a:lnTo>
                  <a:lnTo>
                    <a:pt x="669" y="154"/>
                  </a:lnTo>
                  <a:lnTo>
                    <a:pt x="657" y="158"/>
                  </a:lnTo>
                  <a:lnTo>
                    <a:pt x="628" y="170"/>
                  </a:lnTo>
                  <a:lnTo>
                    <a:pt x="591" y="186"/>
                  </a:lnTo>
                  <a:lnTo>
                    <a:pt x="547" y="215"/>
                  </a:lnTo>
                  <a:lnTo>
                    <a:pt x="526" y="229"/>
                  </a:lnTo>
                  <a:lnTo>
                    <a:pt x="508" y="244"/>
                  </a:lnTo>
                  <a:lnTo>
                    <a:pt x="490" y="258"/>
                  </a:lnTo>
                  <a:lnTo>
                    <a:pt x="475" y="272"/>
                  </a:lnTo>
                  <a:lnTo>
                    <a:pt x="460" y="287"/>
                  </a:lnTo>
                  <a:lnTo>
                    <a:pt x="447" y="301"/>
                  </a:lnTo>
                  <a:lnTo>
                    <a:pt x="435" y="316"/>
                  </a:lnTo>
                  <a:lnTo>
                    <a:pt x="423" y="334"/>
                  </a:lnTo>
                  <a:lnTo>
                    <a:pt x="412" y="353"/>
                  </a:lnTo>
                  <a:lnTo>
                    <a:pt x="401" y="374"/>
                  </a:lnTo>
                  <a:lnTo>
                    <a:pt x="391" y="397"/>
                  </a:lnTo>
                  <a:lnTo>
                    <a:pt x="381" y="422"/>
                  </a:lnTo>
                  <a:lnTo>
                    <a:pt x="362" y="478"/>
                  </a:lnTo>
                  <a:lnTo>
                    <a:pt x="266" y="795"/>
                  </a:lnTo>
                  <a:lnTo>
                    <a:pt x="52" y="795"/>
                  </a:lnTo>
                  <a:lnTo>
                    <a:pt x="191" y="330"/>
                  </a:lnTo>
                  <a:lnTo>
                    <a:pt x="232" y="199"/>
                  </a:lnTo>
                  <a:lnTo>
                    <a:pt x="242" y="163"/>
                  </a:lnTo>
                  <a:lnTo>
                    <a:pt x="244" y="152"/>
                  </a:lnTo>
                  <a:lnTo>
                    <a:pt x="245" y="148"/>
                  </a:lnTo>
                  <a:lnTo>
                    <a:pt x="245" y="146"/>
                  </a:lnTo>
                  <a:lnTo>
                    <a:pt x="245" y="146"/>
                  </a:lnTo>
                  <a:lnTo>
                    <a:pt x="245" y="145"/>
                  </a:lnTo>
                  <a:lnTo>
                    <a:pt x="245" y="145"/>
                  </a:lnTo>
                  <a:lnTo>
                    <a:pt x="245" y="145"/>
                  </a:lnTo>
                  <a:lnTo>
                    <a:pt x="245" y="145"/>
                  </a:lnTo>
                  <a:lnTo>
                    <a:pt x="245" y="145"/>
                  </a:lnTo>
                  <a:lnTo>
                    <a:pt x="246" y="145"/>
                  </a:lnTo>
                  <a:lnTo>
                    <a:pt x="246" y="145"/>
                  </a:lnTo>
                  <a:lnTo>
                    <a:pt x="246" y="145"/>
                  </a:lnTo>
                  <a:lnTo>
                    <a:pt x="246" y="144"/>
                  </a:lnTo>
                  <a:lnTo>
                    <a:pt x="246" y="144"/>
                  </a:lnTo>
                  <a:lnTo>
                    <a:pt x="247" y="144"/>
                  </a:lnTo>
                  <a:lnTo>
                    <a:pt x="247" y="144"/>
                  </a:lnTo>
                  <a:lnTo>
                    <a:pt x="247" y="144"/>
                  </a:lnTo>
                  <a:lnTo>
                    <a:pt x="248" y="144"/>
                  </a:lnTo>
                  <a:lnTo>
                    <a:pt x="248" y="144"/>
                  </a:lnTo>
                  <a:lnTo>
                    <a:pt x="246" y="144"/>
                  </a:lnTo>
                  <a:lnTo>
                    <a:pt x="243" y="145"/>
                  </a:lnTo>
                  <a:lnTo>
                    <a:pt x="237" y="145"/>
                  </a:lnTo>
                  <a:lnTo>
                    <a:pt x="230" y="148"/>
                  </a:lnTo>
                  <a:lnTo>
                    <a:pt x="223" y="150"/>
                  </a:lnTo>
                  <a:lnTo>
                    <a:pt x="204" y="158"/>
                  </a:lnTo>
                  <a:lnTo>
                    <a:pt x="182" y="170"/>
                  </a:lnTo>
                  <a:lnTo>
                    <a:pt x="127" y="201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5400" y="560520"/>
              <a:ext cx="326880" cy="295200"/>
            </a:xfrm>
            <a:custGeom>
              <a:avLst/>
              <a:gdLst/>
              <a:ahLst/>
              <a:rect l="l" t="t" r="r" b="b"/>
              <a:pathLst>
                <a:path w="910" h="819">
                  <a:moveTo>
                    <a:pt x="613" y="0"/>
                  </a:moveTo>
                  <a:lnTo>
                    <a:pt x="645" y="2"/>
                  </a:lnTo>
                  <a:lnTo>
                    <a:pt x="660" y="2"/>
                  </a:lnTo>
                  <a:lnTo>
                    <a:pt x="675" y="5"/>
                  </a:lnTo>
                  <a:lnTo>
                    <a:pt x="689" y="8"/>
                  </a:lnTo>
                  <a:lnTo>
                    <a:pt x="703" y="11"/>
                  </a:lnTo>
                  <a:lnTo>
                    <a:pt x="717" y="14"/>
                  </a:lnTo>
                  <a:lnTo>
                    <a:pt x="731" y="19"/>
                  </a:lnTo>
                  <a:lnTo>
                    <a:pt x="744" y="24"/>
                  </a:lnTo>
                  <a:lnTo>
                    <a:pt x="757" y="30"/>
                  </a:lnTo>
                  <a:lnTo>
                    <a:pt x="769" y="36"/>
                  </a:lnTo>
                  <a:lnTo>
                    <a:pt x="781" y="42"/>
                  </a:lnTo>
                  <a:lnTo>
                    <a:pt x="793" y="50"/>
                  </a:lnTo>
                  <a:lnTo>
                    <a:pt x="804" y="58"/>
                  </a:lnTo>
                  <a:lnTo>
                    <a:pt x="826" y="76"/>
                  </a:lnTo>
                  <a:lnTo>
                    <a:pt x="836" y="86"/>
                  </a:lnTo>
                  <a:lnTo>
                    <a:pt x="846" y="95"/>
                  </a:lnTo>
                  <a:lnTo>
                    <a:pt x="854" y="106"/>
                  </a:lnTo>
                  <a:lnTo>
                    <a:pt x="863" y="117"/>
                  </a:lnTo>
                  <a:lnTo>
                    <a:pt x="877" y="141"/>
                  </a:lnTo>
                  <a:lnTo>
                    <a:pt x="889" y="166"/>
                  </a:lnTo>
                  <a:lnTo>
                    <a:pt x="898" y="192"/>
                  </a:lnTo>
                  <a:lnTo>
                    <a:pt x="904" y="221"/>
                  </a:lnTo>
                  <a:lnTo>
                    <a:pt x="908" y="251"/>
                  </a:lnTo>
                  <a:lnTo>
                    <a:pt x="909" y="283"/>
                  </a:lnTo>
                  <a:lnTo>
                    <a:pt x="906" y="334"/>
                  </a:lnTo>
                  <a:lnTo>
                    <a:pt x="897" y="384"/>
                  </a:lnTo>
                  <a:lnTo>
                    <a:pt x="882" y="431"/>
                  </a:lnTo>
                  <a:lnTo>
                    <a:pt x="861" y="479"/>
                  </a:lnTo>
                  <a:lnTo>
                    <a:pt x="834" y="524"/>
                  </a:lnTo>
                  <a:lnTo>
                    <a:pt x="801" y="569"/>
                  </a:lnTo>
                  <a:lnTo>
                    <a:pt x="762" y="612"/>
                  </a:lnTo>
                  <a:lnTo>
                    <a:pt x="717" y="654"/>
                  </a:lnTo>
                  <a:lnTo>
                    <a:pt x="669" y="692"/>
                  </a:lnTo>
                  <a:lnTo>
                    <a:pt x="619" y="726"/>
                  </a:lnTo>
                  <a:lnTo>
                    <a:pt x="569" y="754"/>
                  </a:lnTo>
                  <a:lnTo>
                    <a:pt x="544" y="766"/>
                  </a:lnTo>
                  <a:lnTo>
                    <a:pt x="518" y="777"/>
                  </a:lnTo>
                  <a:lnTo>
                    <a:pt x="493" y="786"/>
                  </a:lnTo>
                  <a:lnTo>
                    <a:pt x="467" y="795"/>
                  </a:lnTo>
                  <a:lnTo>
                    <a:pt x="441" y="802"/>
                  </a:lnTo>
                  <a:lnTo>
                    <a:pt x="414" y="808"/>
                  </a:lnTo>
                  <a:lnTo>
                    <a:pt x="388" y="812"/>
                  </a:lnTo>
                  <a:lnTo>
                    <a:pt x="361" y="816"/>
                  </a:lnTo>
                  <a:lnTo>
                    <a:pt x="334" y="817"/>
                  </a:lnTo>
                  <a:lnTo>
                    <a:pt x="307" y="818"/>
                  </a:lnTo>
                  <a:lnTo>
                    <a:pt x="273" y="817"/>
                  </a:lnTo>
                  <a:lnTo>
                    <a:pt x="241" y="814"/>
                  </a:lnTo>
                  <a:lnTo>
                    <a:pt x="211" y="808"/>
                  </a:lnTo>
                  <a:lnTo>
                    <a:pt x="197" y="805"/>
                  </a:lnTo>
                  <a:lnTo>
                    <a:pt x="183" y="801"/>
                  </a:lnTo>
                  <a:lnTo>
                    <a:pt x="169" y="797"/>
                  </a:lnTo>
                  <a:lnTo>
                    <a:pt x="156" y="792"/>
                  </a:lnTo>
                  <a:lnTo>
                    <a:pt x="143" y="786"/>
                  </a:lnTo>
                  <a:lnTo>
                    <a:pt x="130" y="780"/>
                  </a:lnTo>
                  <a:lnTo>
                    <a:pt x="118" y="773"/>
                  </a:lnTo>
                  <a:lnTo>
                    <a:pt x="107" y="766"/>
                  </a:lnTo>
                  <a:lnTo>
                    <a:pt x="96" y="758"/>
                  </a:lnTo>
                  <a:lnTo>
                    <a:pt x="85" y="750"/>
                  </a:lnTo>
                  <a:lnTo>
                    <a:pt x="75" y="741"/>
                  </a:lnTo>
                  <a:lnTo>
                    <a:pt x="65" y="732"/>
                  </a:lnTo>
                  <a:lnTo>
                    <a:pt x="56" y="723"/>
                  </a:lnTo>
                  <a:lnTo>
                    <a:pt x="48" y="712"/>
                  </a:lnTo>
                  <a:lnTo>
                    <a:pt x="40" y="702"/>
                  </a:lnTo>
                  <a:lnTo>
                    <a:pt x="33" y="692"/>
                  </a:lnTo>
                  <a:lnTo>
                    <a:pt x="21" y="669"/>
                  </a:lnTo>
                  <a:lnTo>
                    <a:pt x="12" y="646"/>
                  </a:lnTo>
                  <a:lnTo>
                    <a:pt x="5" y="621"/>
                  </a:lnTo>
                  <a:lnTo>
                    <a:pt x="1" y="593"/>
                  </a:lnTo>
                  <a:lnTo>
                    <a:pt x="0" y="565"/>
                  </a:lnTo>
                  <a:lnTo>
                    <a:pt x="2" y="518"/>
                  </a:lnTo>
                  <a:lnTo>
                    <a:pt x="9" y="471"/>
                  </a:lnTo>
                  <a:lnTo>
                    <a:pt x="20" y="425"/>
                  </a:lnTo>
                  <a:lnTo>
                    <a:pt x="36" y="381"/>
                  </a:lnTo>
                  <a:lnTo>
                    <a:pt x="56" y="338"/>
                  </a:lnTo>
                  <a:lnTo>
                    <a:pt x="81" y="297"/>
                  </a:lnTo>
                  <a:lnTo>
                    <a:pt x="110" y="257"/>
                  </a:lnTo>
                  <a:lnTo>
                    <a:pt x="143" y="217"/>
                  </a:lnTo>
                  <a:lnTo>
                    <a:pt x="192" y="167"/>
                  </a:lnTo>
                  <a:lnTo>
                    <a:pt x="218" y="143"/>
                  </a:lnTo>
                  <a:lnTo>
                    <a:pt x="244" y="122"/>
                  </a:lnTo>
                  <a:lnTo>
                    <a:pt x="271" y="102"/>
                  </a:lnTo>
                  <a:lnTo>
                    <a:pt x="298" y="85"/>
                  </a:lnTo>
                  <a:lnTo>
                    <a:pt x="327" y="69"/>
                  </a:lnTo>
                  <a:lnTo>
                    <a:pt x="356" y="55"/>
                  </a:lnTo>
                  <a:lnTo>
                    <a:pt x="386" y="42"/>
                  </a:lnTo>
                  <a:lnTo>
                    <a:pt x="416" y="30"/>
                  </a:lnTo>
                  <a:lnTo>
                    <a:pt x="447" y="21"/>
                  </a:lnTo>
                  <a:lnTo>
                    <a:pt x="479" y="14"/>
                  </a:lnTo>
                  <a:lnTo>
                    <a:pt x="511" y="8"/>
                  </a:lnTo>
                  <a:lnTo>
                    <a:pt x="545" y="3"/>
                  </a:lnTo>
                  <a:lnTo>
                    <a:pt x="578" y="1"/>
                  </a:lnTo>
                  <a:close/>
                  <a:moveTo>
                    <a:pt x="512" y="105"/>
                  </a:moveTo>
                  <a:lnTo>
                    <a:pt x="501" y="105"/>
                  </a:lnTo>
                  <a:lnTo>
                    <a:pt x="490" y="106"/>
                  </a:lnTo>
                  <a:lnTo>
                    <a:pt x="479" y="108"/>
                  </a:lnTo>
                  <a:lnTo>
                    <a:pt x="468" y="111"/>
                  </a:lnTo>
                  <a:lnTo>
                    <a:pt x="458" y="114"/>
                  </a:lnTo>
                  <a:lnTo>
                    <a:pt x="447" y="119"/>
                  </a:lnTo>
                  <a:lnTo>
                    <a:pt x="436" y="124"/>
                  </a:lnTo>
                  <a:lnTo>
                    <a:pt x="425" y="130"/>
                  </a:lnTo>
                  <a:lnTo>
                    <a:pt x="414" y="137"/>
                  </a:lnTo>
                  <a:lnTo>
                    <a:pt x="403" y="145"/>
                  </a:lnTo>
                  <a:lnTo>
                    <a:pt x="381" y="162"/>
                  </a:lnTo>
                  <a:lnTo>
                    <a:pt x="359" y="182"/>
                  </a:lnTo>
                  <a:lnTo>
                    <a:pt x="337" y="207"/>
                  </a:lnTo>
                  <a:lnTo>
                    <a:pt x="316" y="234"/>
                  </a:lnTo>
                  <a:lnTo>
                    <a:pt x="298" y="263"/>
                  </a:lnTo>
                  <a:lnTo>
                    <a:pt x="283" y="296"/>
                  </a:lnTo>
                  <a:lnTo>
                    <a:pt x="270" y="331"/>
                  </a:lnTo>
                  <a:lnTo>
                    <a:pt x="261" y="368"/>
                  </a:lnTo>
                  <a:lnTo>
                    <a:pt x="254" y="408"/>
                  </a:lnTo>
                  <a:lnTo>
                    <a:pt x="249" y="451"/>
                  </a:lnTo>
                  <a:lnTo>
                    <a:pt x="248" y="496"/>
                  </a:lnTo>
                  <a:lnTo>
                    <a:pt x="249" y="524"/>
                  </a:lnTo>
                  <a:lnTo>
                    <a:pt x="251" y="549"/>
                  </a:lnTo>
                  <a:lnTo>
                    <a:pt x="256" y="574"/>
                  </a:lnTo>
                  <a:lnTo>
                    <a:pt x="262" y="596"/>
                  </a:lnTo>
                  <a:lnTo>
                    <a:pt x="269" y="618"/>
                  </a:lnTo>
                  <a:lnTo>
                    <a:pt x="278" y="636"/>
                  </a:lnTo>
                  <a:lnTo>
                    <a:pt x="289" y="655"/>
                  </a:lnTo>
                  <a:lnTo>
                    <a:pt x="295" y="663"/>
                  </a:lnTo>
                  <a:lnTo>
                    <a:pt x="302" y="671"/>
                  </a:lnTo>
                  <a:lnTo>
                    <a:pt x="311" y="680"/>
                  </a:lnTo>
                  <a:lnTo>
                    <a:pt x="316" y="684"/>
                  </a:lnTo>
                  <a:lnTo>
                    <a:pt x="321" y="689"/>
                  </a:lnTo>
                  <a:lnTo>
                    <a:pt x="327" y="692"/>
                  </a:lnTo>
                  <a:lnTo>
                    <a:pt x="332" y="696"/>
                  </a:lnTo>
                  <a:lnTo>
                    <a:pt x="338" y="699"/>
                  </a:lnTo>
                  <a:lnTo>
                    <a:pt x="343" y="702"/>
                  </a:lnTo>
                  <a:lnTo>
                    <a:pt x="349" y="704"/>
                  </a:lnTo>
                  <a:lnTo>
                    <a:pt x="355" y="705"/>
                  </a:lnTo>
                  <a:lnTo>
                    <a:pt x="361" y="708"/>
                  </a:lnTo>
                  <a:lnTo>
                    <a:pt x="368" y="709"/>
                  </a:lnTo>
                  <a:lnTo>
                    <a:pt x="374" y="710"/>
                  </a:lnTo>
                  <a:lnTo>
                    <a:pt x="381" y="711"/>
                  </a:lnTo>
                  <a:lnTo>
                    <a:pt x="388" y="711"/>
                  </a:lnTo>
                  <a:lnTo>
                    <a:pt x="395" y="711"/>
                  </a:lnTo>
                  <a:lnTo>
                    <a:pt x="406" y="711"/>
                  </a:lnTo>
                  <a:lnTo>
                    <a:pt x="416" y="710"/>
                  </a:lnTo>
                  <a:lnTo>
                    <a:pt x="427" y="708"/>
                  </a:lnTo>
                  <a:lnTo>
                    <a:pt x="438" y="705"/>
                  </a:lnTo>
                  <a:lnTo>
                    <a:pt x="449" y="702"/>
                  </a:lnTo>
                  <a:lnTo>
                    <a:pt x="460" y="699"/>
                  </a:lnTo>
                  <a:lnTo>
                    <a:pt x="471" y="693"/>
                  </a:lnTo>
                  <a:lnTo>
                    <a:pt x="482" y="688"/>
                  </a:lnTo>
                  <a:lnTo>
                    <a:pt x="493" y="682"/>
                  </a:lnTo>
                  <a:lnTo>
                    <a:pt x="504" y="675"/>
                  </a:lnTo>
                  <a:lnTo>
                    <a:pt x="526" y="659"/>
                  </a:lnTo>
                  <a:lnTo>
                    <a:pt x="548" y="640"/>
                  </a:lnTo>
                  <a:lnTo>
                    <a:pt x="570" y="618"/>
                  </a:lnTo>
                  <a:lnTo>
                    <a:pt x="590" y="590"/>
                  </a:lnTo>
                  <a:lnTo>
                    <a:pt x="607" y="560"/>
                  </a:lnTo>
                  <a:lnTo>
                    <a:pt x="622" y="528"/>
                  </a:lnTo>
                  <a:lnTo>
                    <a:pt x="634" y="493"/>
                  </a:lnTo>
                  <a:lnTo>
                    <a:pt x="644" y="457"/>
                  </a:lnTo>
                  <a:lnTo>
                    <a:pt x="651" y="419"/>
                  </a:lnTo>
                  <a:lnTo>
                    <a:pt x="655" y="378"/>
                  </a:lnTo>
                  <a:lnTo>
                    <a:pt x="656" y="335"/>
                  </a:lnTo>
                  <a:lnTo>
                    <a:pt x="655" y="304"/>
                  </a:lnTo>
                  <a:lnTo>
                    <a:pt x="653" y="276"/>
                  </a:lnTo>
                  <a:lnTo>
                    <a:pt x="650" y="250"/>
                  </a:lnTo>
                  <a:lnTo>
                    <a:pt x="646" y="226"/>
                  </a:lnTo>
                  <a:lnTo>
                    <a:pt x="640" y="205"/>
                  </a:lnTo>
                  <a:lnTo>
                    <a:pt x="632" y="186"/>
                  </a:lnTo>
                  <a:lnTo>
                    <a:pt x="624" y="170"/>
                  </a:lnTo>
                  <a:lnTo>
                    <a:pt x="619" y="162"/>
                  </a:lnTo>
                  <a:lnTo>
                    <a:pt x="614" y="155"/>
                  </a:lnTo>
                  <a:lnTo>
                    <a:pt x="603" y="143"/>
                  </a:lnTo>
                  <a:lnTo>
                    <a:pt x="591" y="133"/>
                  </a:lnTo>
                  <a:lnTo>
                    <a:pt x="585" y="129"/>
                  </a:lnTo>
                  <a:lnTo>
                    <a:pt x="579" y="124"/>
                  </a:lnTo>
                  <a:lnTo>
                    <a:pt x="573" y="120"/>
                  </a:lnTo>
                  <a:lnTo>
                    <a:pt x="567" y="117"/>
                  </a:lnTo>
                  <a:lnTo>
                    <a:pt x="560" y="114"/>
                  </a:lnTo>
                  <a:lnTo>
                    <a:pt x="554" y="111"/>
                  </a:lnTo>
                  <a:lnTo>
                    <a:pt x="547" y="109"/>
                  </a:lnTo>
                  <a:lnTo>
                    <a:pt x="540" y="108"/>
                  </a:lnTo>
                  <a:lnTo>
                    <a:pt x="533" y="106"/>
                  </a:lnTo>
                  <a:lnTo>
                    <a:pt x="526" y="105"/>
                  </a:lnTo>
                  <a:lnTo>
                    <a:pt x="519" y="105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75040" y="558720"/>
              <a:ext cx="457200" cy="452520"/>
            </a:xfrm>
            <a:custGeom>
              <a:avLst/>
              <a:gdLst/>
              <a:ahLst/>
              <a:rect l="l" t="t" r="r" b="b"/>
              <a:pathLst>
                <a:path w="1268" h="1257">
                  <a:moveTo>
                    <a:pt x="284" y="264"/>
                  </a:moveTo>
                  <a:lnTo>
                    <a:pt x="213" y="211"/>
                  </a:lnTo>
                  <a:lnTo>
                    <a:pt x="242" y="183"/>
                  </a:lnTo>
                  <a:lnTo>
                    <a:pt x="271" y="158"/>
                  </a:lnTo>
                  <a:lnTo>
                    <a:pt x="300" y="135"/>
                  </a:lnTo>
                  <a:lnTo>
                    <a:pt x="329" y="114"/>
                  </a:lnTo>
                  <a:lnTo>
                    <a:pt x="357" y="95"/>
                  </a:lnTo>
                  <a:lnTo>
                    <a:pt x="385" y="77"/>
                  </a:lnTo>
                  <a:lnTo>
                    <a:pt x="413" y="62"/>
                  </a:lnTo>
                  <a:lnTo>
                    <a:pt x="441" y="49"/>
                  </a:lnTo>
                  <a:lnTo>
                    <a:pt x="468" y="37"/>
                  </a:lnTo>
                  <a:lnTo>
                    <a:pt x="495" y="28"/>
                  </a:lnTo>
                  <a:lnTo>
                    <a:pt x="521" y="19"/>
                  </a:lnTo>
                  <a:lnTo>
                    <a:pt x="546" y="12"/>
                  </a:lnTo>
                  <a:lnTo>
                    <a:pt x="570" y="7"/>
                  </a:lnTo>
                  <a:lnTo>
                    <a:pt x="593" y="3"/>
                  </a:lnTo>
                  <a:lnTo>
                    <a:pt x="616" y="1"/>
                  </a:lnTo>
                  <a:lnTo>
                    <a:pt x="637" y="0"/>
                  </a:lnTo>
                  <a:lnTo>
                    <a:pt x="647" y="0"/>
                  </a:lnTo>
                  <a:lnTo>
                    <a:pt x="656" y="1"/>
                  </a:lnTo>
                  <a:lnTo>
                    <a:pt x="664" y="3"/>
                  </a:lnTo>
                  <a:lnTo>
                    <a:pt x="673" y="4"/>
                  </a:lnTo>
                  <a:lnTo>
                    <a:pt x="681" y="6"/>
                  </a:lnTo>
                  <a:lnTo>
                    <a:pt x="684" y="8"/>
                  </a:lnTo>
                  <a:lnTo>
                    <a:pt x="688" y="9"/>
                  </a:lnTo>
                  <a:lnTo>
                    <a:pt x="691" y="11"/>
                  </a:lnTo>
                  <a:lnTo>
                    <a:pt x="695" y="13"/>
                  </a:lnTo>
                  <a:lnTo>
                    <a:pt x="698" y="15"/>
                  </a:lnTo>
                  <a:lnTo>
                    <a:pt x="701" y="17"/>
                  </a:lnTo>
                  <a:lnTo>
                    <a:pt x="704" y="19"/>
                  </a:lnTo>
                  <a:lnTo>
                    <a:pt x="707" y="21"/>
                  </a:lnTo>
                  <a:lnTo>
                    <a:pt x="710" y="24"/>
                  </a:lnTo>
                  <a:lnTo>
                    <a:pt x="712" y="26"/>
                  </a:lnTo>
                  <a:lnTo>
                    <a:pt x="715" y="28"/>
                  </a:lnTo>
                  <a:lnTo>
                    <a:pt x="717" y="31"/>
                  </a:lnTo>
                  <a:lnTo>
                    <a:pt x="719" y="34"/>
                  </a:lnTo>
                  <a:lnTo>
                    <a:pt x="720" y="37"/>
                  </a:lnTo>
                  <a:lnTo>
                    <a:pt x="722" y="39"/>
                  </a:lnTo>
                  <a:lnTo>
                    <a:pt x="723" y="42"/>
                  </a:lnTo>
                  <a:lnTo>
                    <a:pt x="724" y="45"/>
                  </a:lnTo>
                  <a:lnTo>
                    <a:pt x="725" y="49"/>
                  </a:lnTo>
                  <a:lnTo>
                    <a:pt x="727" y="56"/>
                  </a:lnTo>
                  <a:lnTo>
                    <a:pt x="727" y="62"/>
                  </a:lnTo>
                  <a:lnTo>
                    <a:pt x="726" y="76"/>
                  </a:lnTo>
                  <a:lnTo>
                    <a:pt x="725" y="90"/>
                  </a:lnTo>
                  <a:lnTo>
                    <a:pt x="722" y="105"/>
                  </a:lnTo>
                  <a:lnTo>
                    <a:pt x="718" y="119"/>
                  </a:lnTo>
                  <a:lnTo>
                    <a:pt x="716" y="127"/>
                  </a:lnTo>
                  <a:lnTo>
                    <a:pt x="712" y="137"/>
                  </a:lnTo>
                  <a:lnTo>
                    <a:pt x="702" y="161"/>
                  </a:lnTo>
                  <a:lnTo>
                    <a:pt x="671" y="228"/>
                  </a:lnTo>
                  <a:lnTo>
                    <a:pt x="736" y="168"/>
                  </a:lnTo>
                  <a:lnTo>
                    <a:pt x="793" y="120"/>
                  </a:lnTo>
                  <a:lnTo>
                    <a:pt x="818" y="101"/>
                  </a:lnTo>
                  <a:lnTo>
                    <a:pt x="841" y="85"/>
                  </a:lnTo>
                  <a:lnTo>
                    <a:pt x="862" y="71"/>
                  </a:lnTo>
                  <a:lnTo>
                    <a:pt x="880" y="62"/>
                  </a:lnTo>
                  <a:lnTo>
                    <a:pt x="909" y="48"/>
                  </a:lnTo>
                  <a:lnTo>
                    <a:pt x="938" y="37"/>
                  </a:lnTo>
                  <a:lnTo>
                    <a:pt x="966" y="27"/>
                  </a:lnTo>
                  <a:lnTo>
                    <a:pt x="994" y="18"/>
                  </a:lnTo>
                  <a:lnTo>
                    <a:pt x="1020" y="12"/>
                  </a:lnTo>
                  <a:lnTo>
                    <a:pt x="1047" y="8"/>
                  </a:lnTo>
                  <a:lnTo>
                    <a:pt x="1073" y="5"/>
                  </a:lnTo>
                  <a:lnTo>
                    <a:pt x="1098" y="4"/>
                  </a:lnTo>
                  <a:lnTo>
                    <a:pt x="1107" y="4"/>
                  </a:lnTo>
                  <a:lnTo>
                    <a:pt x="1116" y="5"/>
                  </a:lnTo>
                  <a:lnTo>
                    <a:pt x="1125" y="6"/>
                  </a:lnTo>
                  <a:lnTo>
                    <a:pt x="1133" y="7"/>
                  </a:lnTo>
                  <a:lnTo>
                    <a:pt x="1141" y="9"/>
                  </a:lnTo>
                  <a:lnTo>
                    <a:pt x="1149" y="11"/>
                  </a:lnTo>
                  <a:lnTo>
                    <a:pt x="1157" y="13"/>
                  </a:lnTo>
                  <a:lnTo>
                    <a:pt x="1165" y="16"/>
                  </a:lnTo>
                  <a:lnTo>
                    <a:pt x="1172" y="19"/>
                  </a:lnTo>
                  <a:lnTo>
                    <a:pt x="1180" y="23"/>
                  </a:lnTo>
                  <a:lnTo>
                    <a:pt x="1187" y="27"/>
                  </a:lnTo>
                  <a:lnTo>
                    <a:pt x="1193" y="31"/>
                  </a:lnTo>
                  <a:lnTo>
                    <a:pt x="1200" y="37"/>
                  </a:lnTo>
                  <a:lnTo>
                    <a:pt x="1207" y="42"/>
                  </a:lnTo>
                  <a:lnTo>
                    <a:pt x="1219" y="53"/>
                  </a:lnTo>
                  <a:lnTo>
                    <a:pt x="1225" y="59"/>
                  </a:lnTo>
                  <a:lnTo>
                    <a:pt x="1230" y="66"/>
                  </a:lnTo>
                  <a:lnTo>
                    <a:pt x="1240" y="81"/>
                  </a:lnTo>
                  <a:lnTo>
                    <a:pt x="1248" y="96"/>
                  </a:lnTo>
                  <a:lnTo>
                    <a:pt x="1255" y="114"/>
                  </a:lnTo>
                  <a:lnTo>
                    <a:pt x="1260" y="132"/>
                  </a:lnTo>
                  <a:lnTo>
                    <a:pt x="1264" y="152"/>
                  </a:lnTo>
                  <a:lnTo>
                    <a:pt x="1266" y="173"/>
                  </a:lnTo>
                  <a:lnTo>
                    <a:pt x="1267" y="196"/>
                  </a:lnTo>
                  <a:lnTo>
                    <a:pt x="1264" y="251"/>
                  </a:lnTo>
                  <a:lnTo>
                    <a:pt x="1255" y="305"/>
                  </a:lnTo>
                  <a:lnTo>
                    <a:pt x="1241" y="360"/>
                  </a:lnTo>
                  <a:lnTo>
                    <a:pt x="1221" y="413"/>
                  </a:lnTo>
                  <a:lnTo>
                    <a:pt x="1195" y="466"/>
                  </a:lnTo>
                  <a:lnTo>
                    <a:pt x="1163" y="518"/>
                  </a:lnTo>
                  <a:lnTo>
                    <a:pt x="1125" y="569"/>
                  </a:lnTo>
                  <a:lnTo>
                    <a:pt x="1082" y="620"/>
                  </a:lnTo>
                  <a:lnTo>
                    <a:pt x="1035" y="668"/>
                  </a:lnTo>
                  <a:lnTo>
                    <a:pt x="986" y="709"/>
                  </a:lnTo>
                  <a:lnTo>
                    <a:pt x="961" y="727"/>
                  </a:lnTo>
                  <a:lnTo>
                    <a:pt x="936" y="743"/>
                  </a:lnTo>
                  <a:lnTo>
                    <a:pt x="911" y="759"/>
                  </a:lnTo>
                  <a:lnTo>
                    <a:pt x="885" y="771"/>
                  </a:lnTo>
                  <a:lnTo>
                    <a:pt x="859" y="784"/>
                  </a:lnTo>
                  <a:lnTo>
                    <a:pt x="832" y="793"/>
                  </a:lnTo>
                  <a:lnTo>
                    <a:pt x="805" y="802"/>
                  </a:lnTo>
                  <a:lnTo>
                    <a:pt x="778" y="809"/>
                  </a:lnTo>
                  <a:lnTo>
                    <a:pt x="751" y="815"/>
                  </a:lnTo>
                  <a:lnTo>
                    <a:pt x="723" y="819"/>
                  </a:lnTo>
                  <a:lnTo>
                    <a:pt x="695" y="821"/>
                  </a:lnTo>
                  <a:lnTo>
                    <a:pt x="666" y="822"/>
                  </a:lnTo>
                  <a:lnTo>
                    <a:pt x="643" y="821"/>
                  </a:lnTo>
                  <a:lnTo>
                    <a:pt x="621" y="820"/>
                  </a:lnTo>
                  <a:lnTo>
                    <a:pt x="601" y="817"/>
                  </a:lnTo>
                  <a:lnTo>
                    <a:pt x="581" y="813"/>
                  </a:lnTo>
                  <a:lnTo>
                    <a:pt x="562" y="808"/>
                  </a:lnTo>
                  <a:lnTo>
                    <a:pt x="544" y="802"/>
                  </a:lnTo>
                  <a:lnTo>
                    <a:pt x="527" y="795"/>
                  </a:lnTo>
                  <a:lnTo>
                    <a:pt x="511" y="787"/>
                  </a:lnTo>
                  <a:lnTo>
                    <a:pt x="415" y="1077"/>
                  </a:lnTo>
                  <a:lnTo>
                    <a:pt x="414" y="1081"/>
                  </a:lnTo>
                  <a:lnTo>
                    <a:pt x="413" y="1085"/>
                  </a:lnTo>
                  <a:lnTo>
                    <a:pt x="412" y="1089"/>
                  </a:lnTo>
                  <a:lnTo>
                    <a:pt x="411" y="1093"/>
                  </a:lnTo>
                  <a:lnTo>
                    <a:pt x="410" y="1101"/>
                  </a:lnTo>
                  <a:lnTo>
                    <a:pt x="410" y="1109"/>
                  </a:lnTo>
                  <a:lnTo>
                    <a:pt x="410" y="1112"/>
                  </a:lnTo>
                  <a:lnTo>
                    <a:pt x="411" y="1114"/>
                  </a:lnTo>
                  <a:lnTo>
                    <a:pt x="411" y="1117"/>
                  </a:lnTo>
                  <a:lnTo>
                    <a:pt x="412" y="1120"/>
                  </a:lnTo>
                  <a:lnTo>
                    <a:pt x="413" y="1123"/>
                  </a:lnTo>
                  <a:lnTo>
                    <a:pt x="415" y="1126"/>
                  </a:lnTo>
                  <a:lnTo>
                    <a:pt x="416" y="1128"/>
                  </a:lnTo>
                  <a:lnTo>
                    <a:pt x="418" y="1131"/>
                  </a:lnTo>
                  <a:lnTo>
                    <a:pt x="420" y="1133"/>
                  </a:lnTo>
                  <a:lnTo>
                    <a:pt x="423" y="1135"/>
                  </a:lnTo>
                  <a:lnTo>
                    <a:pt x="426" y="1138"/>
                  </a:lnTo>
                  <a:lnTo>
                    <a:pt x="429" y="1141"/>
                  </a:lnTo>
                  <a:lnTo>
                    <a:pt x="435" y="1145"/>
                  </a:lnTo>
                  <a:lnTo>
                    <a:pt x="443" y="1150"/>
                  </a:lnTo>
                  <a:lnTo>
                    <a:pt x="448" y="1151"/>
                  </a:lnTo>
                  <a:lnTo>
                    <a:pt x="454" y="1153"/>
                  </a:lnTo>
                  <a:lnTo>
                    <a:pt x="469" y="1156"/>
                  </a:lnTo>
                  <a:lnTo>
                    <a:pt x="514" y="1163"/>
                  </a:lnTo>
                  <a:lnTo>
                    <a:pt x="576" y="1169"/>
                  </a:lnTo>
                  <a:lnTo>
                    <a:pt x="657" y="1178"/>
                  </a:lnTo>
                  <a:lnTo>
                    <a:pt x="636" y="1256"/>
                  </a:lnTo>
                  <a:lnTo>
                    <a:pt x="449" y="1247"/>
                  </a:lnTo>
                  <a:lnTo>
                    <a:pt x="376" y="1245"/>
                  </a:lnTo>
                  <a:lnTo>
                    <a:pt x="316" y="1244"/>
                  </a:lnTo>
                  <a:lnTo>
                    <a:pt x="255" y="1245"/>
                  </a:lnTo>
                  <a:lnTo>
                    <a:pt x="182" y="1247"/>
                  </a:lnTo>
                  <a:lnTo>
                    <a:pt x="0" y="1256"/>
                  </a:lnTo>
                  <a:lnTo>
                    <a:pt x="20" y="1176"/>
                  </a:lnTo>
                  <a:lnTo>
                    <a:pt x="44" y="1174"/>
                  </a:lnTo>
                  <a:lnTo>
                    <a:pt x="66" y="1171"/>
                  </a:lnTo>
                  <a:lnTo>
                    <a:pt x="85" y="1168"/>
                  </a:lnTo>
                  <a:lnTo>
                    <a:pt x="103" y="1164"/>
                  </a:lnTo>
                  <a:lnTo>
                    <a:pt x="119" y="1160"/>
                  </a:lnTo>
                  <a:lnTo>
                    <a:pt x="126" y="1157"/>
                  </a:lnTo>
                  <a:lnTo>
                    <a:pt x="133" y="1154"/>
                  </a:lnTo>
                  <a:lnTo>
                    <a:pt x="139" y="1151"/>
                  </a:lnTo>
                  <a:lnTo>
                    <a:pt x="144" y="1148"/>
                  </a:lnTo>
                  <a:lnTo>
                    <a:pt x="149" y="1145"/>
                  </a:lnTo>
                  <a:lnTo>
                    <a:pt x="154" y="1142"/>
                  </a:lnTo>
                  <a:lnTo>
                    <a:pt x="158" y="1138"/>
                  </a:lnTo>
                  <a:lnTo>
                    <a:pt x="163" y="1135"/>
                  </a:lnTo>
                  <a:lnTo>
                    <a:pt x="167" y="1130"/>
                  </a:lnTo>
                  <a:lnTo>
                    <a:pt x="172" y="1126"/>
                  </a:lnTo>
                  <a:lnTo>
                    <a:pt x="180" y="1114"/>
                  </a:lnTo>
                  <a:lnTo>
                    <a:pt x="189" y="1101"/>
                  </a:lnTo>
                  <a:lnTo>
                    <a:pt x="197" y="1085"/>
                  </a:lnTo>
                  <a:lnTo>
                    <a:pt x="205" y="1069"/>
                  </a:lnTo>
                  <a:lnTo>
                    <a:pt x="221" y="1029"/>
                  </a:lnTo>
                  <a:lnTo>
                    <a:pt x="428" y="361"/>
                  </a:lnTo>
                  <a:lnTo>
                    <a:pt x="473" y="215"/>
                  </a:lnTo>
                  <a:lnTo>
                    <a:pt x="484" y="174"/>
                  </a:lnTo>
                  <a:lnTo>
                    <a:pt x="487" y="161"/>
                  </a:lnTo>
                  <a:lnTo>
                    <a:pt x="488" y="157"/>
                  </a:lnTo>
                  <a:lnTo>
                    <a:pt x="488" y="154"/>
                  </a:lnTo>
                  <a:lnTo>
                    <a:pt x="488" y="153"/>
                  </a:lnTo>
                  <a:lnTo>
                    <a:pt x="488" y="152"/>
                  </a:lnTo>
                  <a:lnTo>
                    <a:pt x="488" y="152"/>
                  </a:lnTo>
                  <a:lnTo>
                    <a:pt x="488" y="152"/>
                  </a:lnTo>
                  <a:lnTo>
                    <a:pt x="487" y="151"/>
                  </a:lnTo>
                  <a:lnTo>
                    <a:pt x="487" y="151"/>
                  </a:lnTo>
                  <a:lnTo>
                    <a:pt x="487" y="150"/>
                  </a:lnTo>
                  <a:lnTo>
                    <a:pt x="487" y="150"/>
                  </a:lnTo>
                  <a:lnTo>
                    <a:pt x="486" y="149"/>
                  </a:lnTo>
                  <a:lnTo>
                    <a:pt x="486" y="149"/>
                  </a:lnTo>
                  <a:lnTo>
                    <a:pt x="485" y="149"/>
                  </a:lnTo>
                  <a:lnTo>
                    <a:pt x="485" y="149"/>
                  </a:lnTo>
                  <a:lnTo>
                    <a:pt x="485" y="149"/>
                  </a:lnTo>
                  <a:lnTo>
                    <a:pt x="484" y="149"/>
                  </a:lnTo>
                  <a:lnTo>
                    <a:pt x="484" y="149"/>
                  </a:lnTo>
                  <a:lnTo>
                    <a:pt x="483" y="149"/>
                  </a:lnTo>
                  <a:lnTo>
                    <a:pt x="480" y="149"/>
                  </a:lnTo>
                  <a:lnTo>
                    <a:pt x="477" y="149"/>
                  </a:lnTo>
                  <a:lnTo>
                    <a:pt x="471" y="150"/>
                  </a:lnTo>
                  <a:lnTo>
                    <a:pt x="464" y="152"/>
                  </a:lnTo>
                  <a:lnTo>
                    <a:pt x="455" y="156"/>
                  </a:lnTo>
                  <a:lnTo>
                    <a:pt x="436" y="165"/>
                  </a:lnTo>
                  <a:lnTo>
                    <a:pt x="413" y="177"/>
                  </a:lnTo>
                  <a:lnTo>
                    <a:pt x="386" y="194"/>
                  </a:lnTo>
                  <a:lnTo>
                    <a:pt x="356" y="214"/>
                  </a:lnTo>
                  <a:close/>
                  <a:moveTo>
                    <a:pt x="548" y="665"/>
                  </a:moveTo>
                  <a:lnTo>
                    <a:pt x="568" y="678"/>
                  </a:lnTo>
                  <a:lnTo>
                    <a:pt x="588" y="690"/>
                  </a:lnTo>
                  <a:lnTo>
                    <a:pt x="609" y="700"/>
                  </a:lnTo>
                  <a:lnTo>
                    <a:pt x="630" y="708"/>
                  </a:lnTo>
                  <a:lnTo>
                    <a:pt x="651" y="714"/>
                  </a:lnTo>
                  <a:lnTo>
                    <a:pt x="661" y="716"/>
                  </a:lnTo>
                  <a:lnTo>
                    <a:pt x="672" y="718"/>
                  </a:lnTo>
                  <a:lnTo>
                    <a:pt x="683" y="720"/>
                  </a:lnTo>
                  <a:lnTo>
                    <a:pt x="693" y="721"/>
                  </a:lnTo>
                  <a:lnTo>
                    <a:pt x="704" y="722"/>
                  </a:lnTo>
                  <a:lnTo>
                    <a:pt x="715" y="722"/>
                  </a:lnTo>
                  <a:lnTo>
                    <a:pt x="731" y="721"/>
                  </a:lnTo>
                  <a:lnTo>
                    <a:pt x="747" y="720"/>
                  </a:lnTo>
                  <a:lnTo>
                    <a:pt x="762" y="717"/>
                  </a:lnTo>
                  <a:lnTo>
                    <a:pt x="777" y="712"/>
                  </a:lnTo>
                  <a:lnTo>
                    <a:pt x="792" y="706"/>
                  </a:lnTo>
                  <a:lnTo>
                    <a:pt x="807" y="700"/>
                  </a:lnTo>
                  <a:lnTo>
                    <a:pt x="822" y="691"/>
                  </a:lnTo>
                  <a:lnTo>
                    <a:pt x="837" y="682"/>
                  </a:lnTo>
                  <a:lnTo>
                    <a:pt x="851" y="672"/>
                  </a:lnTo>
                  <a:lnTo>
                    <a:pt x="865" y="659"/>
                  </a:lnTo>
                  <a:lnTo>
                    <a:pt x="893" y="632"/>
                  </a:lnTo>
                  <a:lnTo>
                    <a:pt x="920" y="600"/>
                  </a:lnTo>
                  <a:lnTo>
                    <a:pt x="946" y="562"/>
                  </a:lnTo>
                  <a:lnTo>
                    <a:pt x="970" y="522"/>
                  </a:lnTo>
                  <a:lnTo>
                    <a:pt x="991" y="482"/>
                  </a:lnTo>
                  <a:lnTo>
                    <a:pt x="1008" y="441"/>
                  </a:lnTo>
                  <a:lnTo>
                    <a:pt x="1023" y="402"/>
                  </a:lnTo>
                  <a:lnTo>
                    <a:pt x="1034" y="363"/>
                  </a:lnTo>
                  <a:lnTo>
                    <a:pt x="1042" y="323"/>
                  </a:lnTo>
                  <a:lnTo>
                    <a:pt x="1047" y="284"/>
                  </a:lnTo>
                  <a:lnTo>
                    <a:pt x="1049" y="245"/>
                  </a:lnTo>
                  <a:lnTo>
                    <a:pt x="1049" y="235"/>
                  </a:lnTo>
                  <a:lnTo>
                    <a:pt x="1048" y="225"/>
                  </a:lnTo>
                  <a:lnTo>
                    <a:pt x="1046" y="215"/>
                  </a:lnTo>
                  <a:lnTo>
                    <a:pt x="1043" y="207"/>
                  </a:lnTo>
                  <a:lnTo>
                    <a:pt x="1040" y="199"/>
                  </a:lnTo>
                  <a:lnTo>
                    <a:pt x="1038" y="196"/>
                  </a:lnTo>
                  <a:lnTo>
                    <a:pt x="1036" y="193"/>
                  </a:lnTo>
                  <a:lnTo>
                    <a:pt x="1033" y="189"/>
                  </a:lnTo>
                  <a:lnTo>
                    <a:pt x="1031" y="186"/>
                  </a:lnTo>
                  <a:lnTo>
                    <a:pt x="1028" y="183"/>
                  </a:lnTo>
                  <a:lnTo>
                    <a:pt x="1025" y="180"/>
                  </a:lnTo>
                  <a:lnTo>
                    <a:pt x="1019" y="176"/>
                  </a:lnTo>
                  <a:lnTo>
                    <a:pt x="1015" y="174"/>
                  </a:lnTo>
                  <a:lnTo>
                    <a:pt x="1012" y="171"/>
                  </a:lnTo>
                  <a:lnTo>
                    <a:pt x="1009" y="170"/>
                  </a:lnTo>
                  <a:lnTo>
                    <a:pt x="1005" y="168"/>
                  </a:lnTo>
                  <a:lnTo>
                    <a:pt x="1001" y="166"/>
                  </a:lnTo>
                  <a:lnTo>
                    <a:pt x="997" y="165"/>
                  </a:lnTo>
                  <a:lnTo>
                    <a:pt x="993" y="164"/>
                  </a:lnTo>
                  <a:lnTo>
                    <a:pt x="989" y="162"/>
                  </a:lnTo>
                  <a:lnTo>
                    <a:pt x="985" y="161"/>
                  </a:lnTo>
                  <a:lnTo>
                    <a:pt x="980" y="161"/>
                  </a:lnTo>
                  <a:lnTo>
                    <a:pt x="976" y="160"/>
                  </a:lnTo>
                  <a:lnTo>
                    <a:pt x="971" y="159"/>
                  </a:lnTo>
                  <a:lnTo>
                    <a:pt x="961" y="159"/>
                  </a:lnTo>
                  <a:lnTo>
                    <a:pt x="955" y="159"/>
                  </a:lnTo>
                  <a:lnTo>
                    <a:pt x="949" y="160"/>
                  </a:lnTo>
                  <a:lnTo>
                    <a:pt x="942" y="161"/>
                  </a:lnTo>
                  <a:lnTo>
                    <a:pt x="936" y="161"/>
                  </a:lnTo>
                  <a:lnTo>
                    <a:pt x="923" y="165"/>
                  </a:lnTo>
                  <a:lnTo>
                    <a:pt x="909" y="169"/>
                  </a:lnTo>
                  <a:lnTo>
                    <a:pt x="895" y="174"/>
                  </a:lnTo>
                  <a:lnTo>
                    <a:pt x="880" y="181"/>
                  </a:lnTo>
                  <a:lnTo>
                    <a:pt x="865" y="189"/>
                  </a:lnTo>
                  <a:lnTo>
                    <a:pt x="849" y="198"/>
                  </a:lnTo>
                  <a:lnTo>
                    <a:pt x="799" y="229"/>
                  </a:lnTo>
                  <a:lnTo>
                    <a:pt x="755" y="258"/>
                  </a:lnTo>
                  <a:lnTo>
                    <a:pt x="719" y="285"/>
                  </a:lnTo>
                  <a:lnTo>
                    <a:pt x="704" y="298"/>
                  </a:lnTo>
                  <a:lnTo>
                    <a:pt x="690" y="310"/>
                  </a:lnTo>
                  <a:lnTo>
                    <a:pt x="679" y="325"/>
                  </a:lnTo>
                  <a:lnTo>
                    <a:pt x="669" y="342"/>
                  </a:lnTo>
                  <a:lnTo>
                    <a:pt x="659" y="360"/>
                  </a:lnTo>
                  <a:lnTo>
                    <a:pt x="649" y="381"/>
                  </a:lnTo>
                  <a:lnTo>
                    <a:pt x="629" y="426"/>
                  </a:lnTo>
                  <a:lnTo>
                    <a:pt x="611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27560" y="568440"/>
              <a:ext cx="424080" cy="288720"/>
            </a:xfrm>
            <a:custGeom>
              <a:avLst/>
              <a:gdLst/>
              <a:ahLst/>
              <a:rect l="l" t="t" r="r" b="b"/>
              <a:pathLst>
                <a:path w="1177" h="803">
                  <a:moveTo>
                    <a:pt x="100" y="555"/>
                  </a:moveTo>
                  <a:lnTo>
                    <a:pt x="129" y="628"/>
                  </a:lnTo>
                  <a:lnTo>
                    <a:pt x="139" y="650"/>
                  </a:lnTo>
                  <a:lnTo>
                    <a:pt x="143" y="656"/>
                  </a:lnTo>
                  <a:lnTo>
                    <a:pt x="145" y="659"/>
                  </a:lnTo>
                  <a:lnTo>
                    <a:pt x="146" y="660"/>
                  </a:lnTo>
                  <a:lnTo>
                    <a:pt x="147" y="662"/>
                  </a:lnTo>
                  <a:lnTo>
                    <a:pt x="148" y="663"/>
                  </a:lnTo>
                  <a:lnTo>
                    <a:pt x="150" y="665"/>
                  </a:lnTo>
                  <a:lnTo>
                    <a:pt x="151" y="665"/>
                  </a:lnTo>
                  <a:lnTo>
                    <a:pt x="152" y="667"/>
                  </a:lnTo>
                  <a:lnTo>
                    <a:pt x="154" y="668"/>
                  </a:lnTo>
                  <a:lnTo>
                    <a:pt x="155" y="668"/>
                  </a:lnTo>
                  <a:lnTo>
                    <a:pt x="157" y="669"/>
                  </a:lnTo>
                  <a:lnTo>
                    <a:pt x="158" y="670"/>
                  </a:lnTo>
                  <a:lnTo>
                    <a:pt x="160" y="671"/>
                  </a:lnTo>
                  <a:lnTo>
                    <a:pt x="162" y="671"/>
                  </a:lnTo>
                  <a:lnTo>
                    <a:pt x="163" y="671"/>
                  </a:lnTo>
                  <a:lnTo>
                    <a:pt x="165" y="671"/>
                  </a:lnTo>
                  <a:lnTo>
                    <a:pt x="167" y="672"/>
                  </a:lnTo>
                  <a:lnTo>
                    <a:pt x="169" y="672"/>
                  </a:lnTo>
                  <a:lnTo>
                    <a:pt x="171" y="672"/>
                  </a:lnTo>
                  <a:lnTo>
                    <a:pt x="176" y="672"/>
                  </a:lnTo>
                  <a:lnTo>
                    <a:pt x="182" y="671"/>
                  </a:lnTo>
                  <a:lnTo>
                    <a:pt x="188" y="669"/>
                  </a:lnTo>
                  <a:lnTo>
                    <a:pt x="194" y="667"/>
                  </a:lnTo>
                  <a:lnTo>
                    <a:pt x="200" y="664"/>
                  </a:lnTo>
                  <a:lnTo>
                    <a:pt x="206" y="660"/>
                  </a:lnTo>
                  <a:lnTo>
                    <a:pt x="212" y="656"/>
                  </a:lnTo>
                  <a:lnTo>
                    <a:pt x="219" y="651"/>
                  </a:lnTo>
                  <a:lnTo>
                    <a:pt x="233" y="640"/>
                  </a:lnTo>
                  <a:lnTo>
                    <a:pt x="248" y="625"/>
                  </a:lnTo>
                  <a:lnTo>
                    <a:pt x="263" y="609"/>
                  </a:lnTo>
                  <a:lnTo>
                    <a:pt x="279" y="589"/>
                  </a:lnTo>
                  <a:lnTo>
                    <a:pt x="316" y="544"/>
                  </a:lnTo>
                  <a:lnTo>
                    <a:pt x="334" y="525"/>
                  </a:lnTo>
                  <a:lnTo>
                    <a:pt x="351" y="507"/>
                  </a:lnTo>
                  <a:lnTo>
                    <a:pt x="368" y="491"/>
                  </a:lnTo>
                  <a:lnTo>
                    <a:pt x="384" y="478"/>
                  </a:lnTo>
                  <a:lnTo>
                    <a:pt x="399" y="466"/>
                  </a:lnTo>
                  <a:lnTo>
                    <a:pt x="414" y="456"/>
                  </a:lnTo>
                  <a:lnTo>
                    <a:pt x="429" y="447"/>
                  </a:lnTo>
                  <a:lnTo>
                    <a:pt x="447" y="439"/>
                  </a:lnTo>
                  <a:lnTo>
                    <a:pt x="466" y="432"/>
                  </a:lnTo>
                  <a:lnTo>
                    <a:pt x="487" y="424"/>
                  </a:lnTo>
                  <a:lnTo>
                    <a:pt x="509" y="417"/>
                  </a:lnTo>
                  <a:lnTo>
                    <a:pt x="534" y="410"/>
                  </a:lnTo>
                  <a:lnTo>
                    <a:pt x="559" y="404"/>
                  </a:lnTo>
                  <a:lnTo>
                    <a:pt x="587" y="399"/>
                  </a:lnTo>
                  <a:lnTo>
                    <a:pt x="587" y="419"/>
                  </a:lnTo>
                  <a:lnTo>
                    <a:pt x="580" y="419"/>
                  </a:lnTo>
                  <a:lnTo>
                    <a:pt x="541" y="419"/>
                  </a:lnTo>
                  <a:lnTo>
                    <a:pt x="505" y="416"/>
                  </a:lnTo>
                  <a:lnTo>
                    <a:pt x="471" y="413"/>
                  </a:lnTo>
                  <a:lnTo>
                    <a:pt x="439" y="407"/>
                  </a:lnTo>
                  <a:lnTo>
                    <a:pt x="410" y="401"/>
                  </a:lnTo>
                  <a:lnTo>
                    <a:pt x="384" y="393"/>
                  </a:lnTo>
                  <a:lnTo>
                    <a:pt x="371" y="388"/>
                  </a:lnTo>
                  <a:lnTo>
                    <a:pt x="359" y="383"/>
                  </a:lnTo>
                  <a:lnTo>
                    <a:pt x="348" y="378"/>
                  </a:lnTo>
                  <a:lnTo>
                    <a:pt x="337" y="372"/>
                  </a:lnTo>
                  <a:lnTo>
                    <a:pt x="318" y="359"/>
                  </a:lnTo>
                  <a:lnTo>
                    <a:pt x="309" y="353"/>
                  </a:lnTo>
                  <a:lnTo>
                    <a:pt x="301" y="346"/>
                  </a:lnTo>
                  <a:lnTo>
                    <a:pt x="293" y="339"/>
                  </a:lnTo>
                  <a:lnTo>
                    <a:pt x="287" y="332"/>
                  </a:lnTo>
                  <a:lnTo>
                    <a:pt x="280" y="325"/>
                  </a:lnTo>
                  <a:lnTo>
                    <a:pt x="275" y="317"/>
                  </a:lnTo>
                  <a:lnTo>
                    <a:pt x="270" y="310"/>
                  </a:lnTo>
                  <a:lnTo>
                    <a:pt x="266" y="301"/>
                  </a:lnTo>
                  <a:lnTo>
                    <a:pt x="262" y="293"/>
                  </a:lnTo>
                  <a:lnTo>
                    <a:pt x="259" y="286"/>
                  </a:lnTo>
                  <a:lnTo>
                    <a:pt x="257" y="276"/>
                  </a:lnTo>
                  <a:lnTo>
                    <a:pt x="255" y="268"/>
                  </a:lnTo>
                  <a:lnTo>
                    <a:pt x="254" y="259"/>
                  </a:lnTo>
                  <a:lnTo>
                    <a:pt x="254" y="250"/>
                  </a:lnTo>
                  <a:lnTo>
                    <a:pt x="255" y="236"/>
                  </a:lnTo>
                  <a:lnTo>
                    <a:pt x="257" y="223"/>
                  </a:lnTo>
                  <a:lnTo>
                    <a:pt x="260" y="210"/>
                  </a:lnTo>
                  <a:lnTo>
                    <a:pt x="265" y="197"/>
                  </a:lnTo>
                  <a:lnTo>
                    <a:pt x="271" y="184"/>
                  </a:lnTo>
                  <a:lnTo>
                    <a:pt x="278" y="172"/>
                  </a:lnTo>
                  <a:lnTo>
                    <a:pt x="287" y="161"/>
                  </a:lnTo>
                  <a:lnTo>
                    <a:pt x="298" y="149"/>
                  </a:lnTo>
                  <a:lnTo>
                    <a:pt x="309" y="138"/>
                  </a:lnTo>
                  <a:lnTo>
                    <a:pt x="322" y="127"/>
                  </a:lnTo>
                  <a:lnTo>
                    <a:pt x="336" y="117"/>
                  </a:lnTo>
                  <a:lnTo>
                    <a:pt x="352" y="106"/>
                  </a:lnTo>
                  <a:lnTo>
                    <a:pt x="369" y="96"/>
                  </a:lnTo>
                  <a:lnTo>
                    <a:pt x="387" y="87"/>
                  </a:lnTo>
                  <a:lnTo>
                    <a:pt x="428" y="69"/>
                  </a:lnTo>
                  <a:lnTo>
                    <a:pt x="473" y="53"/>
                  </a:lnTo>
                  <a:lnTo>
                    <a:pt x="521" y="39"/>
                  </a:lnTo>
                  <a:lnTo>
                    <a:pt x="571" y="27"/>
                  </a:lnTo>
                  <a:lnTo>
                    <a:pt x="624" y="17"/>
                  </a:lnTo>
                  <a:lnTo>
                    <a:pt x="679" y="9"/>
                  </a:lnTo>
                  <a:lnTo>
                    <a:pt x="738" y="4"/>
                  </a:lnTo>
                  <a:lnTo>
                    <a:pt x="798" y="0"/>
                  </a:lnTo>
                  <a:lnTo>
                    <a:pt x="862" y="0"/>
                  </a:lnTo>
                  <a:lnTo>
                    <a:pt x="1117" y="4"/>
                  </a:lnTo>
                  <a:lnTo>
                    <a:pt x="1004" y="339"/>
                  </a:lnTo>
                  <a:lnTo>
                    <a:pt x="932" y="550"/>
                  </a:lnTo>
                  <a:lnTo>
                    <a:pt x="914" y="612"/>
                  </a:lnTo>
                  <a:lnTo>
                    <a:pt x="910" y="632"/>
                  </a:lnTo>
                  <a:lnTo>
                    <a:pt x="908" y="640"/>
                  </a:lnTo>
                  <a:lnTo>
                    <a:pt x="908" y="645"/>
                  </a:lnTo>
                  <a:lnTo>
                    <a:pt x="908" y="649"/>
                  </a:lnTo>
                  <a:lnTo>
                    <a:pt x="908" y="652"/>
                  </a:lnTo>
                  <a:lnTo>
                    <a:pt x="909" y="655"/>
                  </a:lnTo>
                  <a:lnTo>
                    <a:pt x="909" y="656"/>
                  </a:lnTo>
                  <a:lnTo>
                    <a:pt x="910" y="657"/>
                  </a:lnTo>
                  <a:lnTo>
                    <a:pt x="910" y="659"/>
                  </a:lnTo>
                  <a:lnTo>
                    <a:pt x="911" y="659"/>
                  </a:lnTo>
                  <a:lnTo>
                    <a:pt x="911" y="660"/>
                  </a:lnTo>
                  <a:lnTo>
                    <a:pt x="912" y="661"/>
                  </a:lnTo>
                  <a:lnTo>
                    <a:pt x="912" y="661"/>
                  </a:lnTo>
                  <a:lnTo>
                    <a:pt x="912" y="661"/>
                  </a:lnTo>
                  <a:lnTo>
                    <a:pt x="913" y="661"/>
                  </a:lnTo>
                  <a:lnTo>
                    <a:pt x="913" y="662"/>
                  </a:lnTo>
                  <a:lnTo>
                    <a:pt x="914" y="662"/>
                  </a:lnTo>
                  <a:lnTo>
                    <a:pt x="914" y="662"/>
                  </a:lnTo>
                  <a:lnTo>
                    <a:pt x="915" y="662"/>
                  </a:lnTo>
                  <a:lnTo>
                    <a:pt x="915" y="662"/>
                  </a:lnTo>
                  <a:lnTo>
                    <a:pt x="917" y="662"/>
                  </a:lnTo>
                  <a:lnTo>
                    <a:pt x="920" y="661"/>
                  </a:lnTo>
                  <a:lnTo>
                    <a:pt x="925" y="660"/>
                  </a:lnTo>
                  <a:lnTo>
                    <a:pt x="932" y="658"/>
                  </a:lnTo>
                  <a:lnTo>
                    <a:pt x="940" y="654"/>
                  </a:lnTo>
                  <a:lnTo>
                    <a:pt x="958" y="645"/>
                  </a:lnTo>
                  <a:lnTo>
                    <a:pt x="981" y="632"/>
                  </a:lnTo>
                  <a:lnTo>
                    <a:pt x="1038" y="596"/>
                  </a:lnTo>
                  <a:lnTo>
                    <a:pt x="1112" y="545"/>
                  </a:lnTo>
                  <a:lnTo>
                    <a:pt x="1176" y="597"/>
                  </a:lnTo>
                  <a:lnTo>
                    <a:pt x="1115" y="646"/>
                  </a:lnTo>
                  <a:lnTo>
                    <a:pt x="1058" y="687"/>
                  </a:lnTo>
                  <a:lnTo>
                    <a:pt x="1005" y="722"/>
                  </a:lnTo>
                  <a:lnTo>
                    <a:pt x="956" y="751"/>
                  </a:lnTo>
                  <a:lnTo>
                    <a:pt x="911" y="774"/>
                  </a:lnTo>
                  <a:lnTo>
                    <a:pt x="890" y="783"/>
                  </a:lnTo>
                  <a:lnTo>
                    <a:pt x="870" y="790"/>
                  </a:lnTo>
                  <a:lnTo>
                    <a:pt x="851" y="796"/>
                  </a:lnTo>
                  <a:lnTo>
                    <a:pt x="833" y="799"/>
                  </a:lnTo>
                  <a:lnTo>
                    <a:pt x="816" y="802"/>
                  </a:lnTo>
                  <a:lnTo>
                    <a:pt x="800" y="802"/>
                  </a:lnTo>
                  <a:lnTo>
                    <a:pt x="788" y="802"/>
                  </a:lnTo>
                  <a:lnTo>
                    <a:pt x="782" y="802"/>
                  </a:lnTo>
                  <a:lnTo>
                    <a:pt x="776" y="801"/>
                  </a:lnTo>
                  <a:lnTo>
                    <a:pt x="770" y="799"/>
                  </a:lnTo>
                  <a:lnTo>
                    <a:pt x="764" y="799"/>
                  </a:lnTo>
                  <a:lnTo>
                    <a:pt x="759" y="797"/>
                  </a:lnTo>
                  <a:lnTo>
                    <a:pt x="754" y="795"/>
                  </a:lnTo>
                  <a:lnTo>
                    <a:pt x="748" y="793"/>
                  </a:lnTo>
                  <a:lnTo>
                    <a:pt x="743" y="791"/>
                  </a:lnTo>
                  <a:lnTo>
                    <a:pt x="738" y="789"/>
                  </a:lnTo>
                  <a:lnTo>
                    <a:pt x="734" y="786"/>
                  </a:lnTo>
                  <a:lnTo>
                    <a:pt x="729" y="783"/>
                  </a:lnTo>
                  <a:lnTo>
                    <a:pt x="725" y="780"/>
                  </a:lnTo>
                  <a:lnTo>
                    <a:pt x="716" y="773"/>
                  </a:lnTo>
                  <a:lnTo>
                    <a:pt x="712" y="769"/>
                  </a:lnTo>
                  <a:lnTo>
                    <a:pt x="708" y="765"/>
                  </a:lnTo>
                  <a:lnTo>
                    <a:pt x="705" y="761"/>
                  </a:lnTo>
                  <a:lnTo>
                    <a:pt x="702" y="756"/>
                  </a:lnTo>
                  <a:lnTo>
                    <a:pt x="696" y="746"/>
                  </a:lnTo>
                  <a:lnTo>
                    <a:pt x="691" y="737"/>
                  </a:lnTo>
                  <a:lnTo>
                    <a:pt x="688" y="725"/>
                  </a:lnTo>
                  <a:lnTo>
                    <a:pt x="685" y="714"/>
                  </a:lnTo>
                  <a:lnTo>
                    <a:pt x="684" y="701"/>
                  </a:lnTo>
                  <a:lnTo>
                    <a:pt x="683" y="688"/>
                  </a:lnTo>
                  <a:lnTo>
                    <a:pt x="683" y="675"/>
                  </a:lnTo>
                  <a:lnTo>
                    <a:pt x="685" y="662"/>
                  </a:lnTo>
                  <a:lnTo>
                    <a:pt x="686" y="648"/>
                  </a:lnTo>
                  <a:lnTo>
                    <a:pt x="689" y="633"/>
                  </a:lnTo>
                  <a:lnTo>
                    <a:pt x="697" y="602"/>
                  </a:lnTo>
                  <a:lnTo>
                    <a:pt x="708" y="569"/>
                  </a:lnTo>
                  <a:lnTo>
                    <a:pt x="761" y="436"/>
                  </a:lnTo>
                  <a:lnTo>
                    <a:pt x="753" y="436"/>
                  </a:lnTo>
                  <a:lnTo>
                    <a:pt x="745" y="437"/>
                  </a:lnTo>
                  <a:lnTo>
                    <a:pt x="737" y="438"/>
                  </a:lnTo>
                  <a:lnTo>
                    <a:pt x="729" y="438"/>
                  </a:lnTo>
                  <a:lnTo>
                    <a:pt x="722" y="440"/>
                  </a:lnTo>
                  <a:lnTo>
                    <a:pt x="714" y="441"/>
                  </a:lnTo>
                  <a:lnTo>
                    <a:pt x="699" y="446"/>
                  </a:lnTo>
                  <a:lnTo>
                    <a:pt x="684" y="451"/>
                  </a:lnTo>
                  <a:lnTo>
                    <a:pt x="669" y="458"/>
                  </a:lnTo>
                  <a:lnTo>
                    <a:pt x="654" y="466"/>
                  </a:lnTo>
                  <a:lnTo>
                    <a:pt x="640" y="475"/>
                  </a:lnTo>
                  <a:lnTo>
                    <a:pt x="625" y="487"/>
                  </a:lnTo>
                  <a:lnTo>
                    <a:pt x="609" y="501"/>
                  </a:lnTo>
                  <a:lnTo>
                    <a:pt x="592" y="518"/>
                  </a:lnTo>
                  <a:lnTo>
                    <a:pt x="573" y="538"/>
                  </a:lnTo>
                  <a:lnTo>
                    <a:pt x="532" y="585"/>
                  </a:lnTo>
                  <a:lnTo>
                    <a:pt x="486" y="644"/>
                  </a:lnTo>
                  <a:lnTo>
                    <a:pt x="455" y="681"/>
                  </a:lnTo>
                  <a:lnTo>
                    <a:pt x="423" y="713"/>
                  </a:lnTo>
                  <a:lnTo>
                    <a:pt x="407" y="727"/>
                  </a:lnTo>
                  <a:lnTo>
                    <a:pt x="391" y="740"/>
                  </a:lnTo>
                  <a:lnTo>
                    <a:pt x="374" y="752"/>
                  </a:lnTo>
                  <a:lnTo>
                    <a:pt x="357" y="763"/>
                  </a:lnTo>
                  <a:lnTo>
                    <a:pt x="340" y="772"/>
                  </a:lnTo>
                  <a:lnTo>
                    <a:pt x="322" y="780"/>
                  </a:lnTo>
                  <a:lnTo>
                    <a:pt x="304" y="787"/>
                  </a:lnTo>
                  <a:lnTo>
                    <a:pt x="286" y="793"/>
                  </a:lnTo>
                  <a:lnTo>
                    <a:pt x="268" y="797"/>
                  </a:lnTo>
                  <a:lnTo>
                    <a:pt x="249" y="800"/>
                  </a:lnTo>
                  <a:lnTo>
                    <a:pt x="230" y="802"/>
                  </a:lnTo>
                  <a:lnTo>
                    <a:pt x="211" y="802"/>
                  </a:lnTo>
                  <a:lnTo>
                    <a:pt x="195" y="802"/>
                  </a:lnTo>
                  <a:lnTo>
                    <a:pt x="180" y="800"/>
                  </a:lnTo>
                  <a:lnTo>
                    <a:pt x="164" y="798"/>
                  </a:lnTo>
                  <a:lnTo>
                    <a:pt x="150" y="794"/>
                  </a:lnTo>
                  <a:lnTo>
                    <a:pt x="136" y="790"/>
                  </a:lnTo>
                  <a:lnTo>
                    <a:pt x="122" y="784"/>
                  </a:lnTo>
                  <a:lnTo>
                    <a:pt x="109" y="777"/>
                  </a:lnTo>
                  <a:lnTo>
                    <a:pt x="96" y="770"/>
                  </a:lnTo>
                  <a:lnTo>
                    <a:pt x="90" y="765"/>
                  </a:lnTo>
                  <a:lnTo>
                    <a:pt x="83" y="760"/>
                  </a:lnTo>
                  <a:lnTo>
                    <a:pt x="77" y="753"/>
                  </a:lnTo>
                  <a:lnTo>
                    <a:pt x="71" y="746"/>
                  </a:lnTo>
                  <a:lnTo>
                    <a:pt x="59" y="727"/>
                  </a:lnTo>
                  <a:lnTo>
                    <a:pt x="47" y="706"/>
                  </a:lnTo>
                  <a:lnTo>
                    <a:pt x="35" y="679"/>
                  </a:lnTo>
                  <a:lnTo>
                    <a:pt x="23" y="649"/>
                  </a:lnTo>
                  <a:lnTo>
                    <a:pt x="0" y="577"/>
                  </a:lnTo>
                  <a:close/>
                  <a:moveTo>
                    <a:pt x="874" y="112"/>
                  </a:moveTo>
                  <a:lnTo>
                    <a:pt x="861" y="110"/>
                  </a:lnTo>
                  <a:lnTo>
                    <a:pt x="846" y="108"/>
                  </a:lnTo>
                  <a:lnTo>
                    <a:pt x="831" y="106"/>
                  </a:lnTo>
                  <a:lnTo>
                    <a:pt x="815" y="105"/>
                  </a:lnTo>
                  <a:lnTo>
                    <a:pt x="779" y="103"/>
                  </a:lnTo>
                  <a:lnTo>
                    <a:pt x="740" y="102"/>
                  </a:lnTo>
                  <a:lnTo>
                    <a:pt x="717" y="103"/>
                  </a:lnTo>
                  <a:lnTo>
                    <a:pt x="695" y="105"/>
                  </a:lnTo>
                  <a:lnTo>
                    <a:pt x="673" y="108"/>
                  </a:lnTo>
                  <a:lnTo>
                    <a:pt x="652" y="112"/>
                  </a:lnTo>
                  <a:lnTo>
                    <a:pt x="632" y="118"/>
                  </a:lnTo>
                  <a:lnTo>
                    <a:pt x="612" y="125"/>
                  </a:lnTo>
                  <a:lnTo>
                    <a:pt x="593" y="133"/>
                  </a:lnTo>
                  <a:lnTo>
                    <a:pt x="574" y="143"/>
                  </a:lnTo>
                  <a:lnTo>
                    <a:pt x="565" y="148"/>
                  </a:lnTo>
                  <a:lnTo>
                    <a:pt x="557" y="153"/>
                  </a:lnTo>
                  <a:lnTo>
                    <a:pt x="549" y="158"/>
                  </a:lnTo>
                  <a:lnTo>
                    <a:pt x="542" y="164"/>
                  </a:lnTo>
                  <a:lnTo>
                    <a:pt x="535" y="170"/>
                  </a:lnTo>
                  <a:lnTo>
                    <a:pt x="529" y="176"/>
                  </a:lnTo>
                  <a:lnTo>
                    <a:pt x="524" y="182"/>
                  </a:lnTo>
                  <a:lnTo>
                    <a:pt x="519" y="189"/>
                  </a:lnTo>
                  <a:lnTo>
                    <a:pt x="515" y="195"/>
                  </a:lnTo>
                  <a:lnTo>
                    <a:pt x="511" y="202"/>
                  </a:lnTo>
                  <a:lnTo>
                    <a:pt x="508" y="208"/>
                  </a:lnTo>
                  <a:lnTo>
                    <a:pt x="506" y="215"/>
                  </a:lnTo>
                  <a:lnTo>
                    <a:pt x="504" y="223"/>
                  </a:lnTo>
                  <a:lnTo>
                    <a:pt x="502" y="230"/>
                  </a:lnTo>
                  <a:lnTo>
                    <a:pt x="501" y="238"/>
                  </a:lnTo>
                  <a:lnTo>
                    <a:pt x="501" y="245"/>
                  </a:lnTo>
                  <a:lnTo>
                    <a:pt x="502" y="258"/>
                  </a:lnTo>
                  <a:lnTo>
                    <a:pt x="504" y="270"/>
                  </a:lnTo>
                  <a:lnTo>
                    <a:pt x="508" y="282"/>
                  </a:lnTo>
                  <a:lnTo>
                    <a:pt x="513" y="292"/>
                  </a:lnTo>
                  <a:lnTo>
                    <a:pt x="520" y="301"/>
                  </a:lnTo>
                  <a:lnTo>
                    <a:pt x="528" y="311"/>
                  </a:lnTo>
                  <a:lnTo>
                    <a:pt x="538" y="318"/>
                  </a:lnTo>
                  <a:lnTo>
                    <a:pt x="550" y="325"/>
                  </a:lnTo>
                  <a:lnTo>
                    <a:pt x="563" y="331"/>
                  </a:lnTo>
                  <a:lnTo>
                    <a:pt x="577" y="336"/>
                  </a:lnTo>
                  <a:lnTo>
                    <a:pt x="593" y="341"/>
                  </a:lnTo>
                  <a:lnTo>
                    <a:pt x="611" y="345"/>
                  </a:lnTo>
                  <a:lnTo>
                    <a:pt x="630" y="348"/>
                  </a:lnTo>
                  <a:lnTo>
                    <a:pt x="650" y="350"/>
                  </a:lnTo>
                  <a:lnTo>
                    <a:pt x="672" y="351"/>
                  </a:lnTo>
                  <a:lnTo>
                    <a:pt x="696" y="351"/>
                  </a:lnTo>
                  <a:lnTo>
                    <a:pt x="716" y="351"/>
                  </a:lnTo>
                  <a:lnTo>
                    <a:pt x="737" y="351"/>
                  </a:lnTo>
                  <a:lnTo>
                    <a:pt x="760" y="349"/>
                  </a:lnTo>
                  <a:lnTo>
                    <a:pt x="785" y="347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70720" y="560520"/>
              <a:ext cx="517320" cy="293400"/>
            </a:xfrm>
            <a:custGeom>
              <a:avLst/>
              <a:gdLst/>
              <a:ahLst/>
              <a:rect l="l" t="t" r="r" b="b"/>
              <a:pathLst>
                <a:path w="1437" h="817">
                  <a:moveTo>
                    <a:pt x="550" y="444"/>
                  </a:moveTo>
                  <a:lnTo>
                    <a:pt x="390" y="444"/>
                  </a:lnTo>
                  <a:lnTo>
                    <a:pt x="279" y="792"/>
                  </a:lnTo>
                  <a:lnTo>
                    <a:pt x="58" y="792"/>
                  </a:lnTo>
                  <a:lnTo>
                    <a:pt x="59" y="784"/>
                  </a:lnTo>
                  <a:lnTo>
                    <a:pt x="61" y="774"/>
                  </a:lnTo>
                  <a:lnTo>
                    <a:pt x="66" y="752"/>
                  </a:lnTo>
                  <a:lnTo>
                    <a:pt x="73" y="727"/>
                  </a:lnTo>
                  <a:lnTo>
                    <a:pt x="84" y="696"/>
                  </a:lnTo>
                  <a:lnTo>
                    <a:pt x="146" y="512"/>
                  </a:lnTo>
                  <a:lnTo>
                    <a:pt x="252" y="191"/>
                  </a:lnTo>
                  <a:lnTo>
                    <a:pt x="255" y="179"/>
                  </a:lnTo>
                  <a:lnTo>
                    <a:pt x="258" y="170"/>
                  </a:lnTo>
                  <a:lnTo>
                    <a:pt x="259" y="166"/>
                  </a:lnTo>
                  <a:lnTo>
                    <a:pt x="259" y="162"/>
                  </a:lnTo>
                  <a:lnTo>
                    <a:pt x="260" y="159"/>
                  </a:lnTo>
                  <a:lnTo>
                    <a:pt x="260" y="156"/>
                  </a:lnTo>
                  <a:lnTo>
                    <a:pt x="260" y="152"/>
                  </a:lnTo>
                  <a:lnTo>
                    <a:pt x="260" y="150"/>
                  </a:lnTo>
                  <a:lnTo>
                    <a:pt x="260" y="148"/>
                  </a:lnTo>
                  <a:lnTo>
                    <a:pt x="260" y="148"/>
                  </a:lnTo>
                  <a:lnTo>
                    <a:pt x="260" y="148"/>
                  </a:lnTo>
                  <a:lnTo>
                    <a:pt x="260" y="148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59" y="148"/>
                  </a:lnTo>
                  <a:lnTo>
                    <a:pt x="256" y="148"/>
                  </a:lnTo>
                  <a:lnTo>
                    <a:pt x="253" y="148"/>
                  </a:lnTo>
                  <a:lnTo>
                    <a:pt x="247" y="149"/>
                  </a:lnTo>
                  <a:lnTo>
                    <a:pt x="240" y="151"/>
                  </a:lnTo>
                  <a:lnTo>
                    <a:pt x="232" y="154"/>
                  </a:lnTo>
                  <a:lnTo>
                    <a:pt x="214" y="161"/>
                  </a:lnTo>
                  <a:lnTo>
                    <a:pt x="193" y="172"/>
                  </a:lnTo>
                  <a:lnTo>
                    <a:pt x="169" y="185"/>
                  </a:lnTo>
                  <a:lnTo>
                    <a:pt x="142" y="201"/>
                  </a:lnTo>
                  <a:lnTo>
                    <a:pt x="78" y="244"/>
                  </a:lnTo>
                  <a:lnTo>
                    <a:pt x="0" y="196"/>
                  </a:lnTo>
                  <a:lnTo>
                    <a:pt x="64" y="151"/>
                  </a:lnTo>
                  <a:lnTo>
                    <a:pt x="125" y="111"/>
                  </a:lnTo>
                  <a:lnTo>
                    <a:pt x="181" y="77"/>
                  </a:lnTo>
                  <a:lnTo>
                    <a:pt x="233" y="50"/>
                  </a:lnTo>
                  <a:lnTo>
                    <a:pt x="281" y="28"/>
                  </a:lnTo>
                  <a:lnTo>
                    <a:pt x="304" y="20"/>
                  </a:lnTo>
                  <a:lnTo>
                    <a:pt x="326" y="13"/>
                  </a:lnTo>
                  <a:lnTo>
                    <a:pt x="346" y="8"/>
                  </a:lnTo>
                  <a:lnTo>
                    <a:pt x="366" y="4"/>
                  </a:lnTo>
                  <a:lnTo>
                    <a:pt x="384" y="2"/>
                  </a:lnTo>
                  <a:lnTo>
                    <a:pt x="402" y="1"/>
                  </a:lnTo>
                  <a:lnTo>
                    <a:pt x="413" y="1"/>
                  </a:lnTo>
                  <a:lnTo>
                    <a:pt x="423" y="2"/>
                  </a:lnTo>
                  <a:lnTo>
                    <a:pt x="433" y="4"/>
                  </a:lnTo>
                  <a:lnTo>
                    <a:pt x="442" y="6"/>
                  </a:lnTo>
                  <a:lnTo>
                    <a:pt x="450" y="9"/>
                  </a:lnTo>
                  <a:lnTo>
                    <a:pt x="457" y="13"/>
                  </a:lnTo>
                  <a:lnTo>
                    <a:pt x="464" y="17"/>
                  </a:lnTo>
                  <a:lnTo>
                    <a:pt x="470" y="22"/>
                  </a:lnTo>
                  <a:lnTo>
                    <a:pt x="475" y="27"/>
                  </a:lnTo>
                  <a:lnTo>
                    <a:pt x="480" y="33"/>
                  </a:lnTo>
                  <a:lnTo>
                    <a:pt x="484" y="40"/>
                  </a:lnTo>
                  <a:lnTo>
                    <a:pt x="487" y="48"/>
                  </a:lnTo>
                  <a:lnTo>
                    <a:pt x="490" y="56"/>
                  </a:lnTo>
                  <a:lnTo>
                    <a:pt x="492" y="65"/>
                  </a:lnTo>
                  <a:lnTo>
                    <a:pt x="493" y="75"/>
                  </a:lnTo>
                  <a:lnTo>
                    <a:pt x="493" y="85"/>
                  </a:lnTo>
                  <a:lnTo>
                    <a:pt x="492" y="103"/>
                  </a:lnTo>
                  <a:lnTo>
                    <a:pt x="488" y="126"/>
                  </a:lnTo>
                  <a:lnTo>
                    <a:pt x="482" y="153"/>
                  </a:lnTo>
                  <a:lnTo>
                    <a:pt x="474" y="184"/>
                  </a:lnTo>
                  <a:lnTo>
                    <a:pt x="449" y="259"/>
                  </a:lnTo>
                  <a:lnTo>
                    <a:pt x="415" y="352"/>
                  </a:lnTo>
                  <a:lnTo>
                    <a:pt x="577" y="352"/>
                  </a:lnTo>
                  <a:lnTo>
                    <a:pt x="596" y="314"/>
                  </a:lnTo>
                  <a:lnTo>
                    <a:pt x="618" y="278"/>
                  </a:lnTo>
                  <a:lnTo>
                    <a:pt x="643" y="244"/>
                  </a:lnTo>
                  <a:lnTo>
                    <a:pt x="670" y="211"/>
                  </a:lnTo>
                  <a:lnTo>
                    <a:pt x="699" y="180"/>
                  </a:lnTo>
                  <a:lnTo>
                    <a:pt x="731" y="151"/>
                  </a:lnTo>
                  <a:lnTo>
                    <a:pt x="766" y="124"/>
                  </a:lnTo>
                  <a:lnTo>
                    <a:pt x="803" y="98"/>
                  </a:lnTo>
                  <a:lnTo>
                    <a:pt x="842" y="75"/>
                  </a:lnTo>
                  <a:lnTo>
                    <a:pt x="881" y="55"/>
                  </a:lnTo>
                  <a:lnTo>
                    <a:pt x="920" y="39"/>
                  </a:lnTo>
                  <a:lnTo>
                    <a:pt x="960" y="24"/>
                  </a:lnTo>
                  <a:lnTo>
                    <a:pt x="1001" y="14"/>
                  </a:lnTo>
                  <a:lnTo>
                    <a:pt x="1042" y="6"/>
                  </a:lnTo>
                  <a:lnTo>
                    <a:pt x="1084" y="2"/>
                  </a:lnTo>
                  <a:lnTo>
                    <a:pt x="1126" y="0"/>
                  </a:lnTo>
                  <a:lnTo>
                    <a:pt x="1163" y="2"/>
                  </a:lnTo>
                  <a:lnTo>
                    <a:pt x="1181" y="3"/>
                  </a:lnTo>
                  <a:lnTo>
                    <a:pt x="1198" y="5"/>
                  </a:lnTo>
                  <a:lnTo>
                    <a:pt x="1214" y="8"/>
                  </a:lnTo>
                  <a:lnTo>
                    <a:pt x="1230" y="11"/>
                  </a:lnTo>
                  <a:lnTo>
                    <a:pt x="1246" y="15"/>
                  </a:lnTo>
                  <a:lnTo>
                    <a:pt x="1260" y="21"/>
                  </a:lnTo>
                  <a:lnTo>
                    <a:pt x="1274" y="26"/>
                  </a:lnTo>
                  <a:lnTo>
                    <a:pt x="1288" y="32"/>
                  </a:lnTo>
                  <a:lnTo>
                    <a:pt x="1301" y="38"/>
                  </a:lnTo>
                  <a:lnTo>
                    <a:pt x="1313" y="45"/>
                  </a:lnTo>
                  <a:lnTo>
                    <a:pt x="1325" y="53"/>
                  </a:lnTo>
                  <a:lnTo>
                    <a:pt x="1336" y="62"/>
                  </a:lnTo>
                  <a:lnTo>
                    <a:pt x="1347" y="71"/>
                  </a:lnTo>
                  <a:lnTo>
                    <a:pt x="1357" y="81"/>
                  </a:lnTo>
                  <a:lnTo>
                    <a:pt x="1376" y="102"/>
                  </a:lnTo>
                  <a:lnTo>
                    <a:pt x="1392" y="124"/>
                  </a:lnTo>
                  <a:lnTo>
                    <a:pt x="1405" y="148"/>
                  </a:lnTo>
                  <a:lnTo>
                    <a:pt x="1416" y="172"/>
                  </a:lnTo>
                  <a:lnTo>
                    <a:pt x="1425" y="198"/>
                  </a:lnTo>
                  <a:lnTo>
                    <a:pt x="1431" y="224"/>
                  </a:lnTo>
                  <a:lnTo>
                    <a:pt x="1435" y="252"/>
                  </a:lnTo>
                  <a:lnTo>
                    <a:pt x="1436" y="281"/>
                  </a:lnTo>
                  <a:lnTo>
                    <a:pt x="1433" y="330"/>
                  </a:lnTo>
                  <a:lnTo>
                    <a:pt x="1424" y="378"/>
                  </a:lnTo>
                  <a:lnTo>
                    <a:pt x="1410" y="425"/>
                  </a:lnTo>
                  <a:lnTo>
                    <a:pt x="1389" y="472"/>
                  </a:lnTo>
                  <a:lnTo>
                    <a:pt x="1363" y="517"/>
                  </a:lnTo>
                  <a:lnTo>
                    <a:pt x="1331" y="562"/>
                  </a:lnTo>
                  <a:lnTo>
                    <a:pt x="1293" y="605"/>
                  </a:lnTo>
                  <a:lnTo>
                    <a:pt x="1249" y="648"/>
                  </a:lnTo>
                  <a:lnTo>
                    <a:pt x="1202" y="687"/>
                  </a:lnTo>
                  <a:lnTo>
                    <a:pt x="1153" y="721"/>
                  </a:lnTo>
                  <a:lnTo>
                    <a:pt x="1104" y="750"/>
                  </a:lnTo>
                  <a:lnTo>
                    <a:pt x="1078" y="763"/>
                  </a:lnTo>
                  <a:lnTo>
                    <a:pt x="1053" y="774"/>
                  </a:lnTo>
                  <a:lnTo>
                    <a:pt x="1027" y="784"/>
                  </a:lnTo>
                  <a:lnTo>
                    <a:pt x="1001" y="792"/>
                  </a:lnTo>
                  <a:lnTo>
                    <a:pt x="974" y="799"/>
                  </a:lnTo>
                  <a:lnTo>
                    <a:pt x="947" y="805"/>
                  </a:lnTo>
                  <a:lnTo>
                    <a:pt x="920" y="810"/>
                  </a:lnTo>
                  <a:lnTo>
                    <a:pt x="893" y="814"/>
                  </a:lnTo>
                  <a:lnTo>
                    <a:pt x="865" y="815"/>
                  </a:lnTo>
                  <a:lnTo>
                    <a:pt x="837" y="816"/>
                  </a:lnTo>
                  <a:lnTo>
                    <a:pt x="802" y="815"/>
                  </a:lnTo>
                  <a:lnTo>
                    <a:pt x="770" y="811"/>
                  </a:lnTo>
                  <a:lnTo>
                    <a:pt x="739" y="806"/>
                  </a:lnTo>
                  <a:lnTo>
                    <a:pt x="724" y="803"/>
                  </a:lnTo>
                  <a:lnTo>
                    <a:pt x="710" y="799"/>
                  </a:lnTo>
                  <a:lnTo>
                    <a:pt x="696" y="795"/>
                  </a:lnTo>
                  <a:lnTo>
                    <a:pt x="682" y="789"/>
                  </a:lnTo>
                  <a:lnTo>
                    <a:pt x="669" y="783"/>
                  </a:lnTo>
                  <a:lnTo>
                    <a:pt x="657" y="777"/>
                  </a:lnTo>
                  <a:lnTo>
                    <a:pt x="645" y="771"/>
                  </a:lnTo>
                  <a:lnTo>
                    <a:pt x="634" y="764"/>
                  </a:lnTo>
                  <a:lnTo>
                    <a:pt x="623" y="756"/>
                  </a:lnTo>
                  <a:lnTo>
                    <a:pt x="612" y="748"/>
                  </a:lnTo>
                  <a:lnTo>
                    <a:pt x="602" y="739"/>
                  </a:lnTo>
                  <a:lnTo>
                    <a:pt x="592" y="730"/>
                  </a:lnTo>
                  <a:lnTo>
                    <a:pt x="583" y="720"/>
                  </a:lnTo>
                  <a:lnTo>
                    <a:pt x="575" y="711"/>
                  </a:lnTo>
                  <a:lnTo>
                    <a:pt x="568" y="700"/>
                  </a:lnTo>
                  <a:lnTo>
                    <a:pt x="561" y="689"/>
                  </a:lnTo>
                  <a:lnTo>
                    <a:pt x="549" y="667"/>
                  </a:lnTo>
                  <a:lnTo>
                    <a:pt x="540" y="642"/>
                  </a:lnTo>
                  <a:lnTo>
                    <a:pt x="533" y="616"/>
                  </a:lnTo>
                  <a:lnTo>
                    <a:pt x="529" y="588"/>
                  </a:lnTo>
                  <a:lnTo>
                    <a:pt x="528" y="559"/>
                  </a:lnTo>
                  <a:lnTo>
                    <a:pt x="528" y="543"/>
                  </a:lnTo>
                  <a:lnTo>
                    <a:pt x="529" y="527"/>
                  </a:lnTo>
                  <a:lnTo>
                    <a:pt x="531" y="512"/>
                  </a:lnTo>
                  <a:lnTo>
                    <a:pt x="533" y="496"/>
                  </a:lnTo>
                  <a:lnTo>
                    <a:pt x="536" y="483"/>
                  </a:lnTo>
                  <a:lnTo>
                    <a:pt x="540" y="469"/>
                  </a:lnTo>
                  <a:lnTo>
                    <a:pt x="545" y="456"/>
                  </a:lnTo>
                  <a:close/>
                  <a:moveTo>
                    <a:pt x="1184" y="335"/>
                  </a:moveTo>
                  <a:lnTo>
                    <a:pt x="1182" y="282"/>
                  </a:lnTo>
                  <a:lnTo>
                    <a:pt x="1175" y="235"/>
                  </a:lnTo>
                  <a:lnTo>
                    <a:pt x="1170" y="213"/>
                  </a:lnTo>
                  <a:lnTo>
                    <a:pt x="1164" y="195"/>
                  </a:lnTo>
                  <a:lnTo>
                    <a:pt x="1156" y="178"/>
                  </a:lnTo>
                  <a:lnTo>
                    <a:pt x="1148" y="162"/>
                  </a:lnTo>
                  <a:lnTo>
                    <a:pt x="1138" y="148"/>
                  </a:lnTo>
                  <a:lnTo>
                    <a:pt x="1128" y="137"/>
                  </a:lnTo>
                  <a:lnTo>
                    <a:pt x="1116" y="127"/>
                  </a:lnTo>
                  <a:lnTo>
                    <a:pt x="1103" y="119"/>
                  </a:lnTo>
                  <a:lnTo>
                    <a:pt x="1089" y="113"/>
                  </a:lnTo>
                  <a:lnTo>
                    <a:pt x="1081" y="110"/>
                  </a:lnTo>
                  <a:lnTo>
                    <a:pt x="1074" y="108"/>
                  </a:lnTo>
                  <a:lnTo>
                    <a:pt x="1057" y="105"/>
                  </a:lnTo>
                  <a:lnTo>
                    <a:pt x="1040" y="105"/>
                  </a:lnTo>
                  <a:lnTo>
                    <a:pt x="1028" y="105"/>
                  </a:lnTo>
                  <a:lnTo>
                    <a:pt x="1017" y="106"/>
                  </a:lnTo>
                  <a:lnTo>
                    <a:pt x="1005" y="108"/>
                  </a:lnTo>
                  <a:lnTo>
                    <a:pt x="993" y="111"/>
                  </a:lnTo>
                  <a:lnTo>
                    <a:pt x="982" y="115"/>
                  </a:lnTo>
                  <a:lnTo>
                    <a:pt x="970" y="120"/>
                  </a:lnTo>
                  <a:lnTo>
                    <a:pt x="959" y="125"/>
                  </a:lnTo>
                  <a:lnTo>
                    <a:pt x="948" y="132"/>
                  </a:lnTo>
                  <a:lnTo>
                    <a:pt x="937" y="139"/>
                  </a:lnTo>
                  <a:lnTo>
                    <a:pt x="926" y="147"/>
                  </a:lnTo>
                  <a:lnTo>
                    <a:pt x="904" y="165"/>
                  </a:lnTo>
                  <a:lnTo>
                    <a:pt x="882" y="187"/>
                  </a:lnTo>
                  <a:lnTo>
                    <a:pt x="861" y="213"/>
                  </a:lnTo>
                  <a:lnTo>
                    <a:pt x="841" y="241"/>
                  </a:lnTo>
                  <a:lnTo>
                    <a:pt x="824" y="271"/>
                  </a:lnTo>
                  <a:lnTo>
                    <a:pt x="809" y="304"/>
                  </a:lnTo>
                  <a:lnTo>
                    <a:pt x="797" y="338"/>
                  </a:lnTo>
                  <a:lnTo>
                    <a:pt x="788" y="375"/>
                  </a:lnTo>
                  <a:lnTo>
                    <a:pt x="781" y="413"/>
                  </a:lnTo>
                  <a:lnTo>
                    <a:pt x="777" y="454"/>
                  </a:lnTo>
                  <a:lnTo>
                    <a:pt x="776" y="497"/>
                  </a:lnTo>
                  <a:lnTo>
                    <a:pt x="777" y="521"/>
                  </a:lnTo>
                  <a:lnTo>
                    <a:pt x="778" y="543"/>
                  </a:lnTo>
                  <a:lnTo>
                    <a:pt x="782" y="565"/>
                  </a:lnTo>
                  <a:lnTo>
                    <a:pt x="786" y="585"/>
                  </a:lnTo>
                  <a:lnTo>
                    <a:pt x="791" y="604"/>
                  </a:lnTo>
                  <a:lnTo>
                    <a:pt x="798" y="621"/>
                  </a:lnTo>
                  <a:lnTo>
                    <a:pt x="807" y="638"/>
                  </a:lnTo>
                  <a:lnTo>
                    <a:pt x="816" y="653"/>
                  </a:lnTo>
                  <a:lnTo>
                    <a:pt x="826" y="667"/>
                  </a:lnTo>
                  <a:lnTo>
                    <a:pt x="832" y="673"/>
                  </a:lnTo>
                  <a:lnTo>
                    <a:pt x="837" y="679"/>
                  </a:lnTo>
                  <a:lnTo>
                    <a:pt x="843" y="684"/>
                  </a:lnTo>
                  <a:lnTo>
                    <a:pt x="849" y="689"/>
                  </a:lnTo>
                  <a:lnTo>
                    <a:pt x="856" y="693"/>
                  </a:lnTo>
                  <a:lnTo>
                    <a:pt x="862" y="697"/>
                  </a:lnTo>
                  <a:lnTo>
                    <a:pt x="869" y="700"/>
                  </a:lnTo>
                  <a:lnTo>
                    <a:pt x="876" y="703"/>
                  </a:lnTo>
                  <a:lnTo>
                    <a:pt x="883" y="706"/>
                  </a:lnTo>
                  <a:lnTo>
                    <a:pt x="891" y="708"/>
                  </a:lnTo>
                  <a:lnTo>
                    <a:pt x="899" y="709"/>
                  </a:lnTo>
                  <a:lnTo>
                    <a:pt x="907" y="711"/>
                  </a:lnTo>
                  <a:lnTo>
                    <a:pt x="915" y="711"/>
                  </a:lnTo>
                  <a:lnTo>
                    <a:pt x="923" y="711"/>
                  </a:lnTo>
                  <a:lnTo>
                    <a:pt x="935" y="711"/>
                  </a:lnTo>
                  <a:lnTo>
                    <a:pt x="947" y="710"/>
                  </a:lnTo>
                  <a:lnTo>
                    <a:pt x="959" y="708"/>
                  </a:lnTo>
                  <a:lnTo>
                    <a:pt x="970" y="705"/>
                  </a:lnTo>
                  <a:lnTo>
                    <a:pt x="982" y="701"/>
                  </a:lnTo>
                  <a:lnTo>
                    <a:pt x="993" y="696"/>
                  </a:lnTo>
                  <a:lnTo>
                    <a:pt x="1005" y="690"/>
                  </a:lnTo>
                  <a:lnTo>
                    <a:pt x="1016" y="684"/>
                  </a:lnTo>
                  <a:lnTo>
                    <a:pt x="1027" y="677"/>
                  </a:lnTo>
                  <a:lnTo>
                    <a:pt x="1038" y="669"/>
                  </a:lnTo>
                  <a:lnTo>
                    <a:pt x="1060" y="650"/>
                  </a:lnTo>
                  <a:lnTo>
                    <a:pt x="1081" y="628"/>
                  </a:lnTo>
                  <a:lnTo>
                    <a:pt x="1102" y="602"/>
                  </a:lnTo>
                  <a:lnTo>
                    <a:pt x="1121" y="574"/>
                  </a:lnTo>
                  <a:lnTo>
                    <a:pt x="1138" y="545"/>
                  </a:lnTo>
                  <a:lnTo>
                    <a:pt x="1152" y="514"/>
                  </a:lnTo>
                  <a:lnTo>
                    <a:pt x="1164" y="481"/>
                  </a:lnTo>
                  <a:lnTo>
                    <a:pt x="1173" y="447"/>
                  </a:lnTo>
                  <a:lnTo>
                    <a:pt x="1179" y="411"/>
                  </a:lnTo>
                  <a:lnTo>
                    <a:pt x="1183" y="37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19720" y="560520"/>
              <a:ext cx="540000" cy="414360"/>
            </a:xfrm>
            <a:custGeom>
              <a:avLst/>
              <a:gdLst/>
              <a:ahLst/>
              <a:rect l="l" t="t" r="r" b="b"/>
              <a:pathLst>
                <a:path w="1500" h="1150">
                  <a:moveTo>
                    <a:pt x="1033" y="613"/>
                  </a:moveTo>
                  <a:lnTo>
                    <a:pt x="1011" y="638"/>
                  </a:lnTo>
                  <a:lnTo>
                    <a:pt x="988" y="662"/>
                  </a:lnTo>
                  <a:lnTo>
                    <a:pt x="964" y="684"/>
                  </a:lnTo>
                  <a:lnTo>
                    <a:pt x="939" y="704"/>
                  </a:lnTo>
                  <a:lnTo>
                    <a:pt x="913" y="723"/>
                  </a:lnTo>
                  <a:lnTo>
                    <a:pt x="886" y="740"/>
                  </a:lnTo>
                  <a:lnTo>
                    <a:pt x="858" y="755"/>
                  </a:lnTo>
                  <a:lnTo>
                    <a:pt x="829" y="769"/>
                  </a:lnTo>
                  <a:lnTo>
                    <a:pt x="775" y="793"/>
                  </a:lnTo>
                  <a:lnTo>
                    <a:pt x="751" y="802"/>
                  </a:lnTo>
                  <a:lnTo>
                    <a:pt x="729" y="810"/>
                  </a:lnTo>
                  <a:lnTo>
                    <a:pt x="709" y="815"/>
                  </a:lnTo>
                  <a:lnTo>
                    <a:pt x="691" y="819"/>
                  </a:lnTo>
                  <a:lnTo>
                    <a:pt x="682" y="821"/>
                  </a:lnTo>
                  <a:lnTo>
                    <a:pt x="675" y="822"/>
                  </a:lnTo>
                  <a:lnTo>
                    <a:pt x="668" y="822"/>
                  </a:lnTo>
                  <a:lnTo>
                    <a:pt x="661" y="822"/>
                  </a:lnTo>
                  <a:lnTo>
                    <a:pt x="656" y="822"/>
                  </a:lnTo>
                  <a:lnTo>
                    <a:pt x="651" y="822"/>
                  </a:lnTo>
                  <a:lnTo>
                    <a:pt x="645" y="822"/>
                  </a:lnTo>
                  <a:lnTo>
                    <a:pt x="640" y="821"/>
                  </a:lnTo>
                  <a:lnTo>
                    <a:pt x="635" y="819"/>
                  </a:lnTo>
                  <a:lnTo>
                    <a:pt x="630" y="819"/>
                  </a:lnTo>
                  <a:lnTo>
                    <a:pt x="625" y="817"/>
                  </a:lnTo>
                  <a:lnTo>
                    <a:pt x="621" y="816"/>
                  </a:lnTo>
                  <a:lnTo>
                    <a:pt x="611" y="812"/>
                  </a:lnTo>
                  <a:lnTo>
                    <a:pt x="601" y="807"/>
                  </a:lnTo>
                  <a:lnTo>
                    <a:pt x="592" y="801"/>
                  </a:lnTo>
                  <a:lnTo>
                    <a:pt x="583" y="795"/>
                  </a:lnTo>
                  <a:lnTo>
                    <a:pt x="575" y="788"/>
                  </a:lnTo>
                  <a:lnTo>
                    <a:pt x="571" y="784"/>
                  </a:lnTo>
                  <a:lnTo>
                    <a:pt x="567" y="780"/>
                  </a:lnTo>
                  <a:lnTo>
                    <a:pt x="564" y="775"/>
                  </a:lnTo>
                  <a:lnTo>
                    <a:pt x="561" y="771"/>
                  </a:lnTo>
                  <a:lnTo>
                    <a:pt x="558" y="767"/>
                  </a:lnTo>
                  <a:lnTo>
                    <a:pt x="556" y="762"/>
                  </a:lnTo>
                  <a:lnTo>
                    <a:pt x="551" y="753"/>
                  </a:lnTo>
                  <a:lnTo>
                    <a:pt x="548" y="742"/>
                  </a:lnTo>
                  <a:lnTo>
                    <a:pt x="547" y="731"/>
                  </a:lnTo>
                  <a:lnTo>
                    <a:pt x="546" y="719"/>
                  </a:lnTo>
                  <a:lnTo>
                    <a:pt x="546" y="707"/>
                  </a:lnTo>
                  <a:lnTo>
                    <a:pt x="548" y="694"/>
                  </a:lnTo>
                  <a:lnTo>
                    <a:pt x="550" y="681"/>
                  </a:lnTo>
                  <a:lnTo>
                    <a:pt x="553" y="668"/>
                  </a:lnTo>
                  <a:lnTo>
                    <a:pt x="557" y="654"/>
                  </a:lnTo>
                  <a:lnTo>
                    <a:pt x="561" y="641"/>
                  </a:lnTo>
                  <a:lnTo>
                    <a:pt x="567" y="627"/>
                  </a:lnTo>
                  <a:lnTo>
                    <a:pt x="573" y="613"/>
                  </a:lnTo>
                  <a:lnTo>
                    <a:pt x="570" y="620"/>
                  </a:lnTo>
                  <a:lnTo>
                    <a:pt x="566" y="629"/>
                  </a:lnTo>
                  <a:lnTo>
                    <a:pt x="561" y="636"/>
                  </a:lnTo>
                  <a:lnTo>
                    <a:pt x="555" y="645"/>
                  </a:lnTo>
                  <a:lnTo>
                    <a:pt x="549" y="653"/>
                  </a:lnTo>
                  <a:lnTo>
                    <a:pt x="541" y="661"/>
                  </a:lnTo>
                  <a:lnTo>
                    <a:pt x="524" y="678"/>
                  </a:lnTo>
                  <a:lnTo>
                    <a:pt x="502" y="695"/>
                  </a:lnTo>
                  <a:lnTo>
                    <a:pt x="478" y="712"/>
                  </a:lnTo>
                  <a:lnTo>
                    <a:pt x="450" y="729"/>
                  </a:lnTo>
                  <a:lnTo>
                    <a:pt x="418" y="747"/>
                  </a:lnTo>
                  <a:lnTo>
                    <a:pt x="385" y="765"/>
                  </a:lnTo>
                  <a:lnTo>
                    <a:pt x="355" y="779"/>
                  </a:lnTo>
                  <a:lnTo>
                    <a:pt x="326" y="792"/>
                  </a:lnTo>
                  <a:lnTo>
                    <a:pt x="298" y="802"/>
                  </a:lnTo>
                  <a:lnTo>
                    <a:pt x="272" y="810"/>
                  </a:lnTo>
                  <a:lnTo>
                    <a:pt x="249" y="816"/>
                  </a:lnTo>
                  <a:lnTo>
                    <a:pt x="237" y="818"/>
                  </a:lnTo>
                  <a:lnTo>
                    <a:pt x="226" y="819"/>
                  </a:lnTo>
                  <a:lnTo>
                    <a:pt x="216" y="820"/>
                  </a:lnTo>
                  <a:lnTo>
                    <a:pt x="206" y="820"/>
                  </a:lnTo>
                  <a:lnTo>
                    <a:pt x="192" y="819"/>
                  </a:lnTo>
                  <a:lnTo>
                    <a:pt x="179" y="819"/>
                  </a:lnTo>
                  <a:lnTo>
                    <a:pt x="167" y="816"/>
                  </a:lnTo>
                  <a:lnTo>
                    <a:pt x="156" y="813"/>
                  </a:lnTo>
                  <a:lnTo>
                    <a:pt x="145" y="810"/>
                  </a:lnTo>
                  <a:lnTo>
                    <a:pt x="136" y="805"/>
                  </a:lnTo>
                  <a:lnTo>
                    <a:pt x="127" y="800"/>
                  </a:lnTo>
                  <a:lnTo>
                    <a:pt x="120" y="794"/>
                  </a:lnTo>
                  <a:lnTo>
                    <a:pt x="113" y="787"/>
                  </a:lnTo>
                  <a:lnTo>
                    <a:pt x="107" y="779"/>
                  </a:lnTo>
                  <a:lnTo>
                    <a:pt x="102" y="770"/>
                  </a:lnTo>
                  <a:lnTo>
                    <a:pt x="98" y="761"/>
                  </a:lnTo>
                  <a:lnTo>
                    <a:pt x="95" y="751"/>
                  </a:lnTo>
                  <a:lnTo>
                    <a:pt x="93" y="739"/>
                  </a:lnTo>
                  <a:lnTo>
                    <a:pt x="91" y="728"/>
                  </a:lnTo>
                  <a:lnTo>
                    <a:pt x="91" y="715"/>
                  </a:lnTo>
                  <a:lnTo>
                    <a:pt x="92" y="696"/>
                  </a:lnTo>
                  <a:lnTo>
                    <a:pt x="97" y="672"/>
                  </a:lnTo>
                  <a:lnTo>
                    <a:pt x="113" y="606"/>
                  </a:lnTo>
                  <a:lnTo>
                    <a:pt x="141" y="518"/>
                  </a:lnTo>
                  <a:lnTo>
                    <a:pt x="180" y="408"/>
                  </a:lnTo>
                  <a:lnTo>
                    <a:pt x="215" y="312"/>
                  </a:lnTo>
                  <a:lnTo>
                    <a:pt x="239" y="237"/>
                  </a:lnTo>
                  <a:lnTo>
                    <a:pt x="254" y="184"/>
                  </a:lnTo>
                  <a:lnTo>
                    <a:pt x="258" y="166"/>
                  </a:lnTo>
                  <a:lnTo>
                    <a:pt x="259" y="159"/>
                  </a:lnTo>
                  <a:lnTo>
                    <a:pt x="259" y="153"/>
                  </a:lnTo>
                  <a:lnTo>
                    <a:pt x="259" y="150"/>
                  </a:lnTo>
                  <a:lnTo>
                    <a:pt x="259" y="150"/>
                  </a:lnTo>
                  <a:lnTo>
                    <a:pt x="259" y="148"/>
                  </a:lnTo>
                  <a:lnTo>
                    <a:pt x="259" y="147"/>
                  </a:lnTo>
                  <a:lnTo>
                    <a:pt x="259" y="147"/>
                  </a:lnTo>
                  <a:lnTo>
                    <a:pt x="259" y="147"/>
                  </a:lnTo>
                  <a:lnTo>
                    <a:pt x="259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54" y="147"/>
                  </a:lnTo>
                  <a:lnTo>
                    <a:pt x="248" y="148"/>
                  </a:lnTo>
                  <a:lnTo>
                    <a:pt x="240" y="150"/>
                  </a:lnTo>
                  <a:lnTo>
                    <a:pt x="232" y="153"/>
                  </a:lnTo>
                  <a:lnTo>
                    <a:pt x="224" y="156"/>
                  </a:lnTo>
                  <a:lnTo>
                    <a:pt x="214" y="160"/>
                  </a:lnTo>
                  <a:lnTo>
                    <a:pt x="193" y="171"/>
                  </a:lnTo>
                  <a:lnTo>
                    <a:pt x="169" y="184"/>
                  </a:lnTo>
                  <a:lnTo>
                    <a:pt x="142" y="200"/>
                  </a:lnTo>
                  <a:lnTo>
                    <a:pt x="78" y="243"/>
                  </a:lnTo>
                  <a:lnTo>
                    <a:pt x="0" y="194"/>
                  </a:lnTo>
                  <a:lnTo>
                    <a:pt x="64" y="148"/>
                  </a:lnTo>
                  <a:lnTo>
                    <a:pt x="124" y="109"/>
                  </a:lnTo>
                  <a:lnTo>
                    <a:pt x="180" y="76"/>
                  </a:lnTo>
                  <a:lnTo>
                    <a:pt x="232" y="48"/>
                  </a:lnTo>
                  <a:lnTo>
                    <a:pt x="281" y="27"/>
                  </a:lnTo>
                  <a:lnTo>
                    <a:pt x="303" y="19"/>
                  </a:lnTo>
                  <a:lnTo>
                    <a:pt x="325" y="12"/>
                  </a:lnTo>
                  <a:lnTo>
                    <a:pt x="345" y="7"/>
                  </a:lnTo>
                  <a:lnTo>
                    <a:pt x="365" y="3"/>
                  </a:lnTo>
                  <a:lnTo>
                    <a:pt x="383" y="1"/>
                  </a:lnTo>
                  <a:lnTo>
                    <a:pt x="401" y="0"/>
                  </a:lnTo>
                  <a:lnTo>
                    <a:pt x="412" y="0"/>
                  </a:lnTo>
                  <a:lnTo>
                    <a:pt x="422" y="1"/>
                  </a:lnTo>
                  <a:lnTo>
                    <a:pt x="432" y="3"/>
                  </a:lnTo>
                  <a:lnTo>
                    <a:pt x="441" y="5"/>
                  </a:lnTo>
                  <a:lnTo>
                    <a:pt x="449" y="8"/>
                  </a:lnTo>
                  <a:lnTo>
                    <a:pt x="457" y="12"/>
                  </a:lnTo>
                  <a:lnTo>
                    <a:pt x="463" y="16"/>
                  </a:lnTo>
                  <a:lnTo>
                    <a:pt x="469" y="21"/>
                  </a:lnTo>
                  <a:lnTo>
                    <a:pt x="475" y="26"/>
                  </a:lnTo>
                  <a:lnTo>
                    <a:pt x="479" y="32"/>
                  </a:lnTo>
                  <a:lnTo>
                    <a:pt x="483" y="39"/>
                  </a:lnTo>
                  <a:lnTo>
                    <a:pt x="486" y="47"/>
                  </a:lnTo>
                  <a:lnTo>
                    <a:pt x="489" y="55"/>
                  </a:lnTo>
                  <a:lnTo>
                    <a:pt x="491" y="64"/>
                  </a:lnTo>
                  <a:lnTo>
                    <a:pt x="492" y="74"/>
                  </a:lnTo>
                  <a:lnTo>
                    <a:pt x="492" y="84"/>
                  </a:lnTo>
                  <a:lnTo>
                    <a:pt x="491" y="102"/>
                  </a:lnTo>
                  <a:lnTo>
                    <a:pt x="487" y="126"/>
                  </a:lnTo>
                  <a:lnTo>
                    <a:pt x="470" y="192"/>
                  </a:lnTo>
                  <a:lnTo>
                    <a:pt x="443" y="281"/>
                  </a:lnTo>
                  <a:lnTo>
                    <a:pt x="405" y="393"/>
                  </a:lnTo>
                  <a:lnTo>
                    <a:pt x="349" y="561"/>
                  </a:lnTo>
                  <a:lnTo>
                    <a:pt x="335" y="611"/>
                  </a:lnTo>
                  <a:lnTo>
                    <a:pt x="331" y="626"/>
                  </a:lnTo>
                  <a:lnTo>
                    <a:pt x="330" y="632"/>
                  </a:lnTo>
                  <a:lnTo>
                    <a:pt x="330" y="636"/>
                  </a:lnTo>
                  <a:lnTo>
                    <a:pt x="330" y="639"/>
                  </a:lnTo>
                  <a:lnTo>
                    <a:pt x="331" y="642"/>
                  </a:lnTo>
                  <a:lnTo>
                    <a:pt x="331" y="645"/>
                  </a:lnTo>
                  <a:lnTo>
                    <a:pt x="332" y="648"/>
                  </a:lnTo>
                  <a:lnTo>
                    <a:pt x="334" y="650"/>
                  </a:lnTo>
                  <a:lnTo>
                    <a:pt x="335" y="652"/>
                  </a:lnTo>
                  <a:lnTo>
                    <a:pt x="337" y="654"/>
                  </a:lnTo>
                  <a:lnTo>
                    <a:pt x="339" y="657"/>
                  </a:lnTo>
                  <a:lnTo>
                    <a:pt x="343" y="660"/>
                  </a:lnTo>
                  <a:lnTo>
                    <a:pt x="345" y="661"/>
                  </a:lnTo>
                  <a:lnTo>
                    <a:pt x="347" y="662"/>
                  </a:lnTo>
                  <a:lnTo>
                    <a:pt x="349" y="663"/>
                  </a:lnTo>
                  <a:lnTo>
                    <a:pt x="350" y="663"/>
                  </a:lnTo>
                  <a:lnTo>
                    <a:pt x="351" y="663"/>
                  </a:lnTo>
                  <a:lnTo>
                    <a:pt x="352" y="664"/>
                  </a:lnTo>
                  <a:lnTo>
                    <a:pt x="352" y="664"/>
                  </a:lnTo>
                  <a:lnTo>
                    <a:pt x="353" y="664"/>
                  </a:lnTo>
                  <a:lnTo>
                    <a:pt x="354" y="664"/>
                  </a:lnTo>
                  <a:lnTo>
                    <a:pt x="357" y="664"/>
                  </a:lnTo>
                  <a:lnTo>
                    <a:pt x="360" y="663"/>
                  </a:lnTo>
                  <a:lnTo>
                    <a:pt x="364" y="663"/>
                  </a:lnTo>
                  <a:lnTo>
                    <a:pt x="368" y="661"/>
                  </a:lnTo>
                  <a:lnTo>
                    <a:pt x="377" y="658"/>
                  </a:lnTo>
                  <a:lnTo>
                    <a:pt x="388" y="653"/>
                  </a:lnTo>
                  <a:lnTo>
                    <a:pt x="400" y="647"/>
                  </a:lnTo>
                  <a:lnTo>
                    <a:pt x="414" y="639"/>
                  </a:lnTo>
                  <a:lnTo>
                    <a:pt x="447" y="620"/>
                  </a:lnTo>
                  <a:lnTo>
                    <a:pt x="482" y="598"/>
                  </a:lnTo>
                  <a:lnTo>
                    <a:pt x="497" y="587"/>
                  </a:lnTo>
                  <a:lnTo>
                    <a:pt x="512" y="576"/>
                  </a:lnTo>
                  <a:lnTo>
                    <a:pt x="526" y="566"/>
                  </a:lnTo>
                  <a:lnTo>
                    <a:pt x="539" y="555"/>
                  </a:lnTo>
                  <a:lnTo>
                    <a:pt x="550" y="545"/>
                  </a:lnTo>
                  <a:lnTo>
                    <a:pt x="561" y="534"/>
                  </a:lnTo>
                  <a:lnTo>
                    <a:pt x="571" y="523"/>
                  </a:lnTo>
                  <a:lnTo>
                    <a:pt x="581" y="511"/>
                  </a:lnTo>
                  <a:lnTo>
                    <a:pt x="590" y="497"/>
                  </a:lnTo>
                  <a:lnTo>
                    <a:pt x="599" y="481"/>
                  </a:lnTo>
                  <a:lnTo>
                    <a:pt x="608" y="464"/>
                  </a:lnTo>
                  <a:lnTo>
                    <a:pt x="616" y="446"/>
                  </a:lnTo>
                  <a:lnTo>
                    <a:pt x="632" y="405"/>
                  </a:lnTo>
                  <a:lnTo>
                    <a:pt x="768" y="23"/>
                  </a:lnTo>
                  <a:lnTo>
                    <a:pt x="979" y="23"/>
                  </a:lnTo>
                  <a:lnTo>
                    <a:pt x="866" y="360"/>
                  </a:lnTo>
                  <a:lnTo>
                    <a:pt x="796" y="564"/>
                  </a:lnTo>
                  <a:lnTo>
                    <a:pt x="778" y="625"/>
                  </a:lnTo>
                  <a:lnTo>
                    <a:pt x="773" y="645"/>
                  </a:lnTo>
                  <a:lnTo>
                    <a:pt x="772" y="652"/>
                  </a:lnTo>
                  <a:lnTo>
                    <a:pt x="772" y="658"/>
                  </a:lnTo>
                  <a:lnTo>
                    <a:pt x="772" y="660"/>
                  </a:lnTo>
                  <a:lnTo>
                    <a:pt x="772" y="661"/>
                  </a:lnTo>
                  <a:lnTo>
                    <a:pt x="772" y="663"/>
                  </a:lnTo>
                  <a:lnTo>
                    <a:pt x="773" y="663"/>
                  </a:lnTo>
                  <a:lnTo>
                    <a:pt x="773" y="665"/>
                  </a:lnTo>
                  <a:lnTo>
                    <a:pt x="774" y="666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8"/>
                  </a:lnTo>
                  <a:lnTo>
                    <a:pt x="777" y="669"/>
                  </a:lnTo>
                  <a:lnTo>
                    <a:pt x="778" y="670"/>
                  </a:lnTo>
                  <a:lnTo>
                    <a:pt x="779" y="670"/>
                  </a:lnTo>
                  <a:lnTo>
                    <a:pt x="780" y="670"/>
                  </a:lnTo>
                  <a:lnTo>
                    <a:pt x="781" y="670"/>
                  </a:lnTo>
                  <a:lnTo>
                    <a:pt x="783" y="670"/>
                  </a:lnTo>
                  <a:lnTo>
                    <a:pt x="784" y="670"/>
                  </a:lnTo>
                  <a:lnTo>
                    <a:pt x="788" y="670"/>
                  </a:lnTo>
                  <a:lnTo>
                    <a:pt x="793" y="670"/>
                  </a:lnTo>
                  <a:lnTo>
                    <a:pt x="798" y="668"/>
                  </a:lnTo>
                  <a:lnTo>
                    <a:pt x="804" y="667"/>
                  </a:lnTo>
                  <a:lnTo>
                    <a:pt x="816" y="663"/>
                  </a:lnTo>
                  <a:lnTo>
                    <a:pt x="831" y="657"/>
                  </a:lnTo>
                  <a:lnTo>
                    <a:pt x="846" y="649"/>
                  </a:lnTo>
                  <a:lnTo>
                    <a:pt x="864" y="640"/>
                  </a:lnTo>
                  <a:lnTo>
                    <a:pt x="904" y="617"/>
                  </a:lnTo>
                  <a:lnTo>
                    <a:pt x="944" y="591"/>
                  </a:lnTo>
                  <a:lnTo>
                    <a:pt x="978" y="567"/>
                  </a:lnTo>
                  <a:lnTo>
                    <a:pt x="992" y="555"/>
                  </a:lnTo>
                  <a:lnTo>
                    <a:pt x="1005" y="545"/>
                  </a:lnTo>
                  <a:lnTo>
                    <a:pt x="1017" y="534"/>
                  </a:lnTo>
                  <a:lnTo>
                    <a:pt x="1027" y="524"/>
                  </a:lnTo>
                  <a:lnTo>
                    <a:pt x="1036" y="514"/>
                  </a:lnTo>
                  <a:lnTo>
                    <a:pt x="1045" y="502"/>
                  </a:lnTo>
                  <a:lnTo>
                    <a:pt x="1053" y="489"/>
                  </a:lnTo>
                  <a:lnTo>
                    <a:pt x="1061" y="475"/>
                  </a:lnTo>
                  <a:lnTo>
                    <a:pt x="1069" y="460"/>
                  </a:lnTo>
                  <a:lnTo>
                    <a:pt x="1077" y="443"/>
                  </a:lnTo>
                  <a:lnTo>
                    <a:pt x="1092" y="405"/>
                  </a:lnTo>
                  <a:lnTo>
                    <a:pt x="1227" y="23"/>
                  </a:lnTo>
                  <a:lnTo>
                    <a:pt x="1439" y="23"/>
                  </a:lnTo>
                  <a:lnTo>
                    <a:pt x="1326" y="359"/>
                  </a:lnTo>
                  <a:lnTo>
                    <a:pt x="1254" y="571"/>
                  </a:lnTo>
                  <a:lnTo>
                    <a:pt x="1236" y="633"/>
                  </a:lnTo>
                  <a:lnTo>
                    <a:pt x="1232" y="653"/>
                  </a:lnTo>
                  <a:lnTo>
                    <a:pt x="1230" y="660"/>
                  </a:lnTo>
                  <a:lnTo>
                    <a:pt x="1230" y="666"/>
                  </a:lnTo>
                  <a:lnTo>
                    <a:pt x="1230" y="670"/>
                  </a:lnTo>
                  <a:lnTo>
                    <a:pt x="1231" y="673"/>
                  </a:lnTo>
                  <a:lnTo>
                    <a:pt x="1231" y="675"/>
                  </a:lnTo>
                  <a:lnTo>
                    <a:pt x="1231" y="676"/>
                  </a:lnTo>
                  <a:lnTo>
                    <a:pt x="1232" y="677"/>
                  </a:lnTo>
                  <a:lnTo>
                    <a:pt x="1232" y="679"/>
                  </a:lnTo>
                  <a:lnTo>
                    <a:pt x="1233" y="679"/>
                  </a:lnTo>
                  <a:lnTo>
                    <a:pt x="1234" y="680"/>
                  </a:lnTo>
                  <a:lnTo>
                    <a:pt x="1234" y="681"/>
                  </a:lnTo>
                  <a:lnTo>
                    <a:pt x="1235" y="682"/>
                  </a:lnTo>
                  <a:lnTo>
                    <a:pt x="1235" y="682"/>
                  </a:lnTo>
                  <a:lnTo>
                    <a:pt x="1236" y="682"/>
                  </a:lnTo>
                  <a:lnTo>
                    <a:pt x="1236" y="682"/>
                  </a:lnTo>
                  <a:lnTo>
                    <a:pt x="1237" y="682"/>
                  </a:lnTo>
                  <a:lnTo>
                    <a:pt x="1237" y="682"/>
                  </a:lnTo>
                  <a:lnTo>
                    <a:pt x="1238" y="682"/>
                  </a:lnTo>
                  <a:lnTo>
                    <a:pt x="1239" y="682"/>
                  </a:lnTo>
                  <a:lnTo>
                    <a:pt x="1241" y="682"/>
                  </a:lnTo>
                  <a:lnTo>
                    <a:pt x="1244" y="682"/>
                  </a:lnTo>
                  <a:lnTo>
                    <a:pt x="1249" y="681"/>
                  </a:lnTo>
                  <a:lnTo>
                    <a:pt x="1256" y="679"/>
                  </a:lnTo>
                  <a:lnTo>
                    <a:pt x="1264" y="675"/>
                  </a:lnTo>
                  <a:lnTo>
                    <a:pt x="1282" y="666"/>
                  </a:lnTo>
                  <a:lnTo>
                    <a:pt x="1304" y="653"/>
                  </a:lnTo>
                  <a:lnTo>
                    <a:pt x="1361" y="617"/>
                  </a:lnTo>
                  <a:lnTo>
                    <a:pt x="1435" y="565"/>
                  </a:lnTo>
                  <a:lnTo>
                    <a:pt x="1499" y="618"/>
                  </a:lnTo>
                  <a:lnTo>
                    <a:pt x="1481" y="633"/>
                  </a:lnTo>
                  <a:lnTo>
                    <a:pt x="1465" y="649"/>
                  </a:lnTo>
                  <a:lnTo>
                    <a:pt x="1451" y="663"/>
                  </a:lnTo>
                  <a:lnTo>
                    <a:pt x="1441" y="679"/>
                  </a:lnTo>
                  <a:lnTo>
                    <a:pt x="1432" y="692"/>
                  </a:lnTo>
                  <a:lnTo>
                    <a:pt x="1429" y="700"/>
                  </a:lnTo>
                  <a:lnTo>
                    <a:pt x="1426" y="707"/>
                  </a:lnTo>
                  <a:lnTo>
                    <a:pt x="1424" y="713"/>
                  </a:lnTo>
                  <a:lnTo>
                    <a:pt x="1422" y="720"/>
                  </a:lnTo>
                  <a:lnTo>
                    <a:pt x="1421" y="727"/>
                  </a:lnTo>
                  <a:lnTo>
                    <a:pt x="1421" y="734"/>
                  </a:lnTo>
                  <a:lnTo>
                    <a:pt x="1421" y="738"/>
                  </a:lnTo>
                  <a:lnTo>
                    <a:pt x="1422" y="744"/>
                  </a:lnTo>
                  <a:lnTo>
                    <a:pt x="1423" y="749"/>
                  </a:lnTo>
                  <a:lnTo>
                    <a:pt x="1424" y="754"/>
                  </a:lnTo>
                  <a:lnTo>
                    <a:pt x="1427" y="766"/>
                  </a:lnTo>
                  <a:lnTo>
                    <a:pt x="1431" y="779"/>
                  </a:lnTo>
                  <a:lnTo>
                    <a:pt x="1439" y="800"/>
                  </a:lnTo>
                  <a:lnTo>
                    <a:pt x="1444" y="819"/>
                  </a:lnTo>
                  <a:lnTo>
                    <a:pt x="1446" y="826"/>
                  </a:lnTo>
                  <a:lnTo>
                    <a:pt x="1447" y="834"/>
                  </a:lnTo>
                  <a:lnTo>
                    <a:pt x="1448" y="840"/>
                  </a:lnTo>
                  <a:lnTo>
                    <a:pt x="1448" y="845"/>
                  </a:lnTo>
                  <a:lnTo>
                    <a:pt x="1448" y="853"/>
                  </a:lnTo>
                  <a:lnTo>
                    <a:pt x="1447" y="862"/>
                  </a:lnTo>
                  <a:lnTo>
                    <a:pt x="1445" y="870"/>
                  </a:lnTo>
                  <a:lnTo>
                    <a:pt x="1443" y="878"/>
                  </a:lnTo>
                  <a:lnTo>
                    <a:pt x="1440" y="886"/>
                  </a:lnTo>
                  <a:lnTo>
                    <a:pt x="1436" y="894"/>
                  </a:lnTo>
                  <a:lnTo>
                    <a:pt x="1432" y="901"/>
                  </a:lnTo>
                  <a:lnTo>
                    <a:pt x="1427" y="909"/>
                  </a:lnTo>
                  <a:lnTo>
                    <a:pt x="1421" y="915"/>
                  </a:lnTo>
                  <a:lnTo>
                    <a:pt x="1415" y="923"/>
                  </a:lnTo>
                  <a:lnTo>
                    <a:pt x="1408" y="930"/>
                  </a:lnTo>
                  <a:lnTo>
                    <a:pt x="1400" y="937"/>
                  </a:lnTo>
                  <a:lnTo>
                    <a:pt x="1392" y="943"/>
                  </a:lnTo>
                  <a:lnTo>
                    <a:pt x="1383" y="950"/>
                  </a:lnTo>
                  <a:lnTo>
                    <a:pt x="1363" y="962"/>
                  </a:lnTo>
                  <a:lnTo>
                    <a:pt x="1352" y="968"/>
                  </a:lnTo>
                  <a:lnTo>
                    <a:pt x="1341" y="974"/>
                  </a:lnTo>
                  <a:lnTo>
                    <a:pt x="1316" y="984"/>
                  </a:lnTo>
                  <a:lnTo>
                    <a:pt x="1290" y="992"/>
                  </a:lnTo>
                  <a:lnTo>
                    <a:pt x="1262" y="999"/>
                  </a:lnTo>
                  <a:lnTo>
                    <a:pt x="1231" y="1005"/>
                  </a:lnTo>
                  <a:lnTo>
                    <a:pt x="1198" y="1009"/>
                  </a:lnTo>
                  <a:lnTo>
                    <a:pt x="1164" y="1011"/>
                  </a:lnTo>
                  <a:lnTo>
                    <a:pt x="1127" y="1012"/>
                  </a:lnTo>
                  <a:lnTo>
                    <a:pt x="1061" y="1011"/>
                  </a:lnTo>
                  <a:lnTo>
                    <a:pt x="998" y="1009"/>
                  </a:lnTo>
                  <a:lnTo>
                    <a:pt x="937" y="1007"/>
                  </a:lnTo>
                  <a:lnTo>
                    <a:pt x="879" y="1003"/>
                  </a:lnTo>
                  <a:lnTo>
                    <a:pt x="804" y="997"/>
                  </a:lnTo>
                  <a:lnTo>
                    <a:pt x="781" y="996"/>
                  </a:lnTo>
                  <a:lnTo>
                    <a:pt x="773" y="996"/>
                  </a:lnTo>
                  <a:lnTo>
                    <a:pt x="767" y="996"/>
                  </a:lnTo>
                  <a:lnTo>
                    <a:pt x="761" y="996"/>
                  </a:lnTo>
                  <a:lnTo>
                    <a:pt x="756" y="996"/>
                  </a:lnTo>
                  <a:lnTo>
                    <a:pt x="751" y="996"/>
                  </a:lnTo>
                  <a:lnTo>
                    <a:pt x="747" y="997"/>
                  </a:lnTo>
                  <a:lnTo>
                    <a:pt x="742" y="998"/>
                  </a:lnTo>
                  <a:lnTo>
                    <a:pt x="739" y="999"/>
                  </a:lnTo>
                  <a:lnTo>
                    <a:pt x="735" y="1001"/>
                  </a:lnTo>
                  <a:lnTo>
                    <a:pt x="732" y="1002"/>
                  </a:lnTo>
                  <a:lnTo>
                    <a:pt x="729" y="1004"/>
                  </a:lnTo>
                  <a:lnTo>
                    <a:pt x="727" y="1006"/>
                  </a:lnTo>
                  <a:lnTo>
                    <a:pt x="725" y="1009"/>
                  </a:lnTo>
                  <a:lnTo>
                    <a:pt x="723" y="1011"/>
                  </a:lnTo>
                  <a:lnTo>
                    <a:pt x="722" y="1013"/>
                  </a:lnTo>
                  <a:lnTo>
                    <a:pt x="721" y="1016"/>
                  </a:lnTo>
                  <a:lnTo>
                    <a:pt x="720" y="1019"/>
                  </a:lnTo>
                  <a:lnTo>
                    <a:pt x="720" y="1022"/>
                  </a:lnTo>
                  <a:lnTo>
                    <a:pt x="720" y="1024"/>
                  </a:lnTo>
                  <a:lnTo>
                    <a:pt x="720" y="1025"/>
                  </a:lnTo>
                  <a:lnTo>
                    <a:pt x="721" y="1027"/>
                  </a:lnTo>
                  <a:lnTo>
                    <a:pt x="721" y="1028"/>
                  </a:lnTo>
                  <a:lnTo>
                    <a:pt x="722" y="1030"/>
                  </a:lnTo>
                  <a:lnTo>
                    <a:pt x="723" y="1030"/>
                  </a:lnTo>
                  <a:lnTo>
                    <a:pt x="725" y="1032"/>
                  </a:lnTo>
                  <a:lnTo>
                    <a:pt x="726" y="1033"/>
                  </a:lnTo>
                  <a:lnTo>
                    <a:pt x="727" y="1034"/>
                  </a:lnTo>
                  <a:lnTo>
                    <a:pt x="729" y="1034"/>
                  </a:lnTo>
                  <a:lnTo>
                    <a:pt x="731" y="1035"/>
                  </a:lnTo>
                  <a:lnTo>
                    <a:pt x="733" y="1036"/>
                  </a:lnTo>
                  <a:lnTo>
                    <a:pt x="735" y="1037"/>
                  </a:lnTo>
                  <a:lnTo>
                    <a:pt x="738" y="1037"/>
                  </a:lnTo>
                  <a:lnTo>
                    <a:pt x="740" y="1037"/>
                  </a:lnTo>
                  <a:lnTo>
                    <a:pt x="743" y="1037"/>
                  </a:lnTo>
                  <a:lnTo>
                    <a:pt x="752" y="1038"/>
                  </a:lnTo>
                  <a:lnTo>
                    <a:pt x="760" y="1040"/>
                  </a:lnTo>
                  <a:lnTo>
                    <a:pt x="768" y="1041"/>
                  </a:lnTo>
                  <a:lnTo>
                    <a:pt x="775" y="1043"/>
                  </a:lnTo>
                  <a:lnTo>
                    <a:pt x="782" y="1046"/>
                  </a:lnTo>
                  <a:lnTo>
                    <a:pt x="788" y="1048"/>
                  </a:lnTo>
                  <a:lnTo>
                    <a:pt x="793" y="1051"/>
                  </a:lnTo>
                  <a:lnTo>
                    <a:pt x="798" y="1055"/>
                  </a:lnTo>
                  <a:lnTo>
                    <a:pt x="802" y="1058"/>
                  </a:lnTo>
                  <a:lnTo>
                    <a:pt x="806" y="1062"/>
                  </a:lnTo>
                  <a:lnTo>
                    <a:pt x="809" y="1066"/>
                  </a:lnTo>
                  <a:lnTo>
                    <a:pt x="811" y="1071"/>
                  </a:lnTo>
                  <a:lnTo>
                    <a:pt x="813" y="1075"/>
                  </a:lnTo>
                  <a:lnTo>
                    <a:pt x="815" y="1080"/>
                  </a:lnTo>
                  <a:lnTo>
                    <a:pt x="816" y="1086"/>
                  </a:lnTo>
                  <a:lnTo>
                    <a:pt x="816" y="1092"/>
                  </a:lnTo>
                  <a:lnTo>
                    <a:pt x="816" y="1095"/>
                  </a:lnTo>
                  <a:lnTo>
                    <a:pt x="816" y="1097"/>
                  </a:lnTo>
                  <a:lnTo>
                    <a:pt x="815" y="1100"/>
                  </a:lnTo>
                  <a:lnTo>
                    <a:pt x="815" y="1103"/>
                  </a:lnTo>
                  <a:lnTo>
                    <a:pt x="814" y="1105"/>
                  </a:lnTo>
                  <a:lnTo>
                    <a:pt x="813" y="1108"/>
                  </a:lnTo>
                  <a:lnTo>
                    <a:pt x="811" y="1111"/>
                  </a:lnTo>
                  <a:lnTo>
                    <a:pt x="810" y="1113"/>
                  </a:lnTo>
                  <a:lnTo>
                    <a:pt x="808" y="1116"/>
                  </a:lnTo>
                  <a:lnTo>
                    <a:pt x="807" y="1118"/>
                  </a:lnTo>
                  <a:lnTo>
                    <a:pt x="805" y="1121"/>
                  </a:lnTo>
                  <a:lnTo>
                    <a:pt x="803" y="1123"/>
                  </a:lnTo>
                  <a:lnTo>
                    <a:pt x="798" y="1127"/>
                  </a:lnTo>
                  <a:lnTo>
                    <a:pt x="792" y="1132"/>
                  </a:lnTo>
                  <a:lnTo>
                    <a:pt x="786" y="1136"/>
                  </a:lnTo>
                  <a:lnTo>
                    <a:pt x="783" y="1138"/>
                  </a:lnTo>
                  <a:lnTo>
                    <a:pt x="779" y="1139"/>
                  </a:lnTo>
                  <a:lnTo>
                    <a:pt x="776" y="1141"/>
                  </a:lnTo>
                  <a:lnTo>
                    <a:pt x="773" y="1142"/>
                  </a:lnTo>
                  <a:lnTo>
                    <a:pt x="769" y="1144"/>
                  </a:lnTo>
                  <a:lnTo>
                    <a:pt x="766" y="1146"/>
                  </a:lnTo>
                  <a:lnTo>
                    <a:pt x="762" y="1146"/>
                  </a:lnTo>
                  <a:lnTo>
                    <a:pt x="759" y="1147"/>
                  </a:lnTo>
                  <a:lnTo>
                    <a:pt x="751" y="1149"/>
                  </a:lnTo>
                  <a:lnTo>
                    <a:pt x="744" y="1149"/>
                  </a:lnTo>
                  <a:lnTo>
                    <a:pt x="736" y="1149"/>
                  </a:lnTo>
                  <a:lnTo>
                    <a:pt x="729" y="1149"/>
                  </a:lnTo>
                  <a:lnTo>
                    <a:pt x="722" y="1149"/>
                  </a:lnTo>
                  <a:lnTo>
                    <a:pt x="716" y="1148"/>
                  </a:lnTo>
                  <a:lnTo>
                    <a:pt x="709" y="1147"/>
                  </a:lnTo>
                  <a:lnTo>
                    <a:pt x="703" y="1146"/>
                  </a:lnTo>
                  <a:lnTo>
                    <a:pt x="696" y="1144"/>
                  </a:lnTo>
                  <a:lnTo>
                    <a:pt x="690" y="1142"/>
                  </a:lnTo>
                  <a:lnTo>
                    <a:pt x="684" y="1140"/>
                  </a:lnTo>
                  <a:lnTo>
                    <a:pt x="678" y="1137"/>
                  </a:lnTo>
                  <a:lnTo>
                    <a:pt x="672" y="1135"/>
                  </a:lnTo>
                  <a:lnTo>
                    <a:pt x="666" y="1132"/>
                  </a:lnTo>
                  <a:lnTo>
                    <a:pt x="660" y="1128"/>
                  </a:lnTo>
                  <a:lnTo>
                    <a:pt x="655" y="1124"/>
                  </a:lnTo>
                  <a:lnTo>
                    <a:pt x="649" y="1121"/>
                  </a:lnTo>
                  <a:lnTo>
                    <a:pt x="639" y="1111"/>
                  </a:lnTo>
                  <a:lnTo>
                    <a:pt x="629" y="1102"/>
                  </a:lnTo>
                  <a:lnTo>
                    <a:pt x="621" y="1091"/>
                  </a:lnTo>
                  <a:lnTo>
                    <a:pt x="613" y="1080"/>
                  </a:lnTo>
                  <a:lnTo>
                    <a:pt x="608" y="1069"/>
                  </a:lnTo>
                  <a:lnTo>
                    <a:pt x="603" y="1058"/>
                  </a:lnTo>
                  <a:lnTo>
                    <a:pt x="600" y="1046"/>
                  </a:lnTo>
                  <a:lnTo>
                    <a:pt x="598" y="1033"/>
                  </a:lnTo>
                  <a:lnTo>
                    <a:pt x="597" y="1020"/>
                  </a:lnTo>
                  <a:lnTo>
                    <a:pt x="597" y="1011"/>
                  </a:lnTo>
                  <a:lnTo>
                    <a:pt x="598" y="1002"/>
                  </a:lnTo>
                  <a:lnTo>
                    <a:pt x="600" y="993"/>
                  </a:lnTo>
                  <a:lnTo>
                    <a:pt x="602" y="984"/>
                  </a:lnTo>
                  <a:lnTo>
                    <a:pt x="605" y="976"/>
                  </a:lnTo>
                  <a:lnTo>
                    <a:pt x="608" y="968"/>
                  </a:lnTo>
                  <a:lnTo>
                    <a:pt x="613" y="959"/>
                  </a:lnTo>
                  <a:lnTo>
                    <a:pt x="617" y="952"/>
                  </a:lnTo>
                  <a:lnTo>
                    <a:pt x="623" y="944"/>
                  </a:lnTo>
                  <a:lnTo>
                    <a:pt x="629" y="937"/>
                  </a:lnTo>
                  <a:lnTo>
                    <a:pt x="635" y="931"/>
                  </a:lnTo>
                  <a:lnTo>
                    <a:pt x="643" y="924"/>
                  </a:lnTo>
                  <a:lnTo>
                    <a:pt x="650" y="917"/>
                  </a:lnTo>
                  <a:lnTo>
                    <a:pt x="659" y="911"/>
                  </a:lnTo>
                  <a:lnTo>
                    <a:pt x="668" y="905"/>
                  </a:lnTo>
                  <a:lnTo>
                    <a:pt x="678" y="899"/>
                  </a:lnTo>
                  <a:lnTo>
                    <a:pt x="698" y="888"/>
                  </a:lnTo>
                  <a:lnTo>
                    <a:pt x="719" y="878"/>
                  </a:lnTo>
                  <a:lnTo>
                    <a:pt x="741" y="871"/>
                  </a:lnTo>
                  <a:lnTo>
                    <a:pt x="762" y="864"/>
                  </a:lnTo>
                  <a:lnTo>
                    <a:pt x="784" y="859"/>
                  </a:lnTo>
                  <a:lnTo>
                    <a:pt x="807" y="856"/>
                  </a:lnTo>
                  <a:lnTo>
                    <a:pt x="830" y="853"/>
                  </a:lnTo>
                  <a:lnTo>
                    <a:pt x="854" y="853"/>
                  </a:lnTo>
                  <a:lnTo>
                    <a:pt x="868" y="853"/>
                  </a:lnTo>
                  <a:lnTo>
                    <a:pt x="883" y="853"/>
                  </a:lnTo>
                  <a:lnTo>
                    <a:pt x="918" y="856"/>
                  </a:lnTo>
                  <a:lnTo>
                    <a:pt x="959" y="861"/>
                  </a:lnTo>
                  <a:lnTo>
                    <a:pt x="1007" y="868"/>
                  </a:lnTo>
                  <a:lnTo>
                    <a:pt x="1069" y="876"/>
                  </a:lnTo>
                  <a:lnTo>
                    <a:pt x="1125" y="882"/>
                  </a:lnTo>
                  <a:lnTo>
                    <a:pt x="1176" y="885"/>
                  </a:lnTo>
                  <a:lnTo>
                    <a:pt x="1222" y="887"/>
                  </a:lnTo>
                  <a:lnTo>
                    <a:pt x="1236" y="887"/>
                  </a:lnTo>
                  <a:lnTo>
                    <a:pt x="1248" y="886"/>
                  </a:lnTo>
                  <a:lnTo>
                    <a:pt x="1260" y="884"/>
                  </a:lnTo>
                  <a:lnTo>
                    <a:pt x="1271" y="882"/>
                  </a:lnTo>
                  <a:lnTo>
                    <a:pt x="1276" y="881"/>
                  </a:lnTo>
                  <a:lnTo>
                    <a:pt x="1280" y="880"/>
                  </a:lnTo>
                  <a:lnTo>
                    <a:pt x="1284" y="878"/>
                  </a:lnTo>
                  <a:lnTo>
                    <a:pt x="1289" y="877"/>
                  </a:lnTo>
                  <a:lnTo>
                    <a:pt x="1292" y="875"/>
                  </a:lnTo>
                  <a:lnTo>
                    <a:pt x="1296" y="873"/>
                  </a:lnTo>
                  <a:lnTo>
                    <a:pt x="1299" y="872"/>
                  </a:lnTo>
                  <a:lnTo>
                    <a:pt x="1302" y="869"/>
                  </a:lnTo>
                  <a:lnTo>
                    <a:pt x="1307" y="865"/>
                  </a:lnTo>
                  <a:lnTo>
                    <a:pt x="1312" y="861"/>
                  </a:lnTo>
                  <a:lnTo>
                    <a:pt x="1316" y="856"/>
                  </a:lnTo>
                  <a:lnTo>
                    <a:pt x="1319" y="853"/>
                  </a:lnTo>
                  <a:lnTo>
                    <a:pt x="1320" y="850"/>
                  </a:lnTo>
                  <a:lnTo>
                    <a:pt x="1321" y="848"/>
                  </a:lnTo>
                  <a:lnTo>
                    <a:pt x="1322" y="846"/>
                  </a:lnTo>
                  <a:lnTo>
                    <a:pt x="1323" y="844"/>
                  </a:lnTo>
                  <a:lnTo>
                    <a:pt x="1323" y="841"/>
                  </a:lnTo>
                  <a:lnTo>
                    <a:pt x="1324" y="840"/>
                  </a:lnTo>
                  <a:lnTo>
                    <a:pt x="1324" y="838"/>
                  </a:lnTo>
                  <a:lnTo>
                    <a:pt x="1324" y="835"/>
                  </a:lnTo>
                  <a:lnTo>
                    <a:pt x="1324" y="830"/>
                  </a:lnTo>
                  <a:lnTo>
                    <a:pt x="1323" y="823"/>
                  </a:lnTo>
                  <a:lnTo>
                    <a:pt x="1322" y="814"/>
                  </a:lnTo>
                  <a:lnTo>
                    <a:pt x="1320" y="804"/>
                  </a:lnTo>
                  <a:lnTo>
                    <a:pt x="1319" y="800"/>
                  </a:lnTo>
                  <a:lnTo>
                    <a:pt x="1318" y="795"/>
                  </a:lnTo>
                  <a:lnTo>
                    <a:pt x="1317" y="791"/>
                  </a:lnTo>
                  <a:lnTo>
                    <a:pt x="1316" y="787"/>
                  </a:lnTo>
                  <a:lnTo>
                    <a:pt x="1315" y="778"/>
                  </a:lnTo>
                  <a:lnTo>
                    <a:pt x="1315" y="769"/>
                  </a:lnTo>
                  <a:lnTo>
                    <a:pt x="1315" y="760"/>
                  </a:lnTo>
                  <a:lnTo>
                    <a:pt x="1317" y="751"/>
                  </a:lnTo>
                  <a:lnTo>
                    <a:pt x="1318" y="741"/>
                  </a:lnTo>
                  <a:lnTo>
                    <a:pt x="1321" y="731"/>
                  </a:lnTo>
                  <a:lnTo>
                    <a:pt x="1324" y="721"/>
                  </a:lnTo>
                  <a:lnTo>
                    <a:pt x="1329" y="711"/>
                  </a:lnTo>
                  <a:lnTo>
                    <a:pt x="1333" y="701"/>
                  </a:lnTo>
                  <a:lnTo>
                    <a:pt x="1339" y="691"/>
                  </a:lnTo>
                  <a:lnTo>
                    <a:pt x="1339" y="710"/>
                  </a:lnTo>
                  <a:lnTo>
                    <a:pt x="1313" y="737"/>
                  </a:lnTo>
                  <a:lnTo>
                    <a:pt x="1286" y="760"/>
                  </a:lnTo>
                  <a:lnTo>
                    <a:pt x="1260" y="779"/>
                  </a:lnTo>
                  <a:lnTo>
                    <a:pt x="1246" y="787"/>
                  </a:lnTo>
                  <a:lnTo>
                    <a:pt x="1233" y="794"/>
                  </a:lnTo>
                  <a:lnTo>
                    <a:pt x="1219" y="801"/>
                  </a:lnTo>
                  <a:lnTo>
                    <a:pt x="1206" y="807"/>
                  </a:lnTo>
                  <a:lnTo>
                    <a:pt x="1192" y="812"/>
                  </a:lnTo>
                  <a:lnTo>
                    <a:pt x="1179" y="816"/>
                  </a:lnTo>
                  <a:lnTo>
                    <a:pt x="1165" y="819"/>
                  </a:lnTo>
                  <a:lnTo>
                    <a:pt x="1152" y="821"/>
                  </a:lnTo>
                  <a:lnTo>
                    <a:pt x="1138" y="822"/>
                  </a:lnTo>
                  <a:lnTo>
                    <a:pt x="1125" y="822"/>
                  </a:lnTo>
                  <a:lnTo>
                    <a:pt x="1119" y="822"/>
                  </a:lnTo>
                  <a:lnTo>
                    <a:pt x="1114" y="822"/>
                  </a:lnTo>
                  <a:lnTo>
                    <a:pt x="1108" y="822"/>
                  </a:lnTo>
                  <a:lnTo>
                    <a:pt x="1103" y="821"/>
                  </a:lnTo>
                  <a:lnTo>
                    <a:pt x="1098" y="819"/>
                  </a:lnTo>
                  <a:lnTo>
                    <a:pt x="1093" y="819"/>
                  </a:lnTo>
                  <a:lnTo>
                    <a:pt x="1087" y="817"/>
                  </a:lnTo>
                  <a:lnTo>
                    <a:pt x="1082" y="816"/>
                  </a:lnTo>
                  <a:lnTo>
                    <a:pt x="1077" y="813"/>
                  </a:lnTo>
                  <a:lnTo>
                    <a:pt x="1072" y="812"/>
                  </a:lnTo>
                  <a:lnTo>
                    <a:pt x="1063" y="807"/>
                  </a:lnTo>
                  <a:lnTo>
                    <a:pt x="1053" y="801"/>
                  </a:lnTo>
                  <a:lnTo>
                    <a:pt x="1044" y="794"/>
                  </a:lnTo>
                  <a:lnTo>
                    <a:pt x="1040" y="791"/>
                  </a:lnTo>
                  <a:lnTo>
                    <a:pt x="1036" y="788"/>
                  </a:lnTo>
                  <a:lnTo>
                    <a:pt x="1032" y="784"/>
                  </a:lnTo>
                  <a:lnTo>
                    <a:pt x="1028" y="779"/>
                  </a:lnTo>
                  <a:lnTo>
                    <a:pt x="1025" y="775"/>
                  </a:lnTo>
                  <a:lnTo>
                    <a:pt x="1022" y="771"/>
                  </a:lnTo>
                  <a:lnTo>
                    <a:pt x="1019" y="766"/>
                  </a:lnTo>
                  <a:lnTo>
                    <a:pt x="1017" y="762"/>
                  </a:lnTo>
                  <a:lnTo>
                    <a:pt x="1013" y="752"/>
                  </a:lnTo>
                  <a:lnTo>
                    <a:pt x="1010" y="742"/>
                  </a:lnTo>
                  <a:lnTo>
                    <a:pt x="1009" y="731"/>
                  </a:lnTo>
                  <a:lnTo>
                    <a:pt x="1008" y="719"/>
                  </a:lnTo>
                  <a:lnTo>
                    <a:pt x="1008" y="707"/>
                  </a:lnTo>
                  <a:lnTo>
                    <a:pt x="1010" y="694"/>
                  </a:lnTo>
                  <a:lnTo>
                    <a:pt x="1011" y="681"/>
                  </a:lnTo>
                  <a:lnTo>
                    <a:pt x="1014" y="668"/>
                  </a:lnTo>
                  <a:lnTo>
                    <a:pt x="1018" y="654"/>
                  </a:lnTo>
                  <a:lnTo>
                    <a:pt x="1022" y="641"/>
                  </a:lnTo>
                  <a:lnTo>
                    <a:pt x="1027" y="627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81680" y="560520"/>
              <a:ext cx="392400" cy="296640"/>
            </a:xfrm>
            <a:custGeom>
              <a:avLst/>
              <a:gdLst/>
              <a:ahLst/>
              <a:rect l="l" t="t" r="r" b="b"/>
              <a:pathLst>
                <a:path w="1087" h="823">
                  <a:moveTo>
                    <a:pt x="814" y="23"/>
                  </a:moveTo>
                  <a:lnTo>
                    <a:pt x="1028" y="23"/>
                  </a:lnTo>
                  <a:lnTo>
                    <a:pt x="915" y="359"/>
                  </a:lnTo>
                  <a:lnTo>
                    <a:pt x="842" y="571"/>
                  </a:lnTo>
                  <a:lnTo>
                    <a:pt x="823" y="633"/>
                  </a:lnTo>
                  <a:lnTo>
                    <a:pt x="819" y="653"/>
                  </a:lnTo>
                  <a:lnTo>
                    <a:pt x="817" y="660"/>
                  </a:lnTo>
                  <a:lnTo>
                    <a:pt x="817" y="666"/>
                  </a:lnTo>
                  <a:lnTo>
                    <a:pt x="817" y="668"/>
                  </a:lnTo>
                  <a:lnTo>
                    <a:pt x="817" y="670"/>
                  </a:lnTo>
                  <a:lnTo>
                    <a:pt x="817" y="673"/>
                  </a:lnTo>
                  <a:lnTo>
                    <a:pt x="818" y="674"/>
                  </a:lnTo>
                  <a:lnTo>
                    <a:pt x="818" y="676"/>
                  </a:lnTo>
                  <a:lnTo>
                    <a:pt x="819" y="676"/>
                  </a:lnTo>
                  <a:lnTo>
                    <a:pt x="819" y="677"/>
                  </a:lnTo>
                  <a:lnTo>
                    <a:pt x="820" y="678"/>
                  </a:lnTo>
                  <a:lnTo>
                    <a:pt x="820" y="679"/>
                  </a:lnTo>
                  <a:lnTo>
                    <a:pt x="820" y="679"/>
                  </a:lnTo>
                  <a:lnTo>
                    <a:pt x="821" y="679"/>
                  </a:lnTo>
                  <a:lnTo>
                    <a:pt x="822" y="680"/>
                  </a:lnTo>
                  <a:lnTo>
                    <a:pt x="822" y="681"/>
                  </a:lnTo>
                  <a:lnTo>
                    <a:pt x="823" y="682"/>
                  </a:lnTo>
                  <a:lnTo>
                    <a:pt x="824" y="682"/>
                  </a:lnTo>
                  <a:lnTo>
                    <a:pt x="824" y="682"/>
                  </a:lnTo>
                  <a:lnTo>
                    <a:pt x="824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6" y="682"/>
                  </a:lnTo>
                  <a:lnTo>
                    <a:pt x="826" y="682"/>
                  </a:lnTo>
                  <a:lnTo>
                    <a:pt x="826" y="682"/>
                  </a:lnTo>
                  <a:lnTo>
                    <a:pt x="828" y="682"/>
                  </a:lnTo>
                  <a:lnTo>
                    <a:pt x="829" y="682"/>
                  </a:lnTo>
                  <a:lnTo>
                    <a:pt x="833" y="682"/>
                  </a:lnTo>
                  <a:lnTo>
                    <a:pt x="837" y="681"/>
                  </a:lnTo>
                  <a:lnTo>
                    <a:pt x="840" y="680"/>
                  </a:lnTo>
                  <a:lnTo>
                    <a:pt x="844" y="679"/>
                  </a:lnTo>
                  <a:lnTo>
                    <a:pt x="848" y="677"/>
                  </a:lnTo>
                  <a:lnTo>
                    <a:pt x="853" y="676"/>
                  </a:lnTo>
                  <a:lnTo>
                    <a:pt x="857" y="673"/>
                  </a:lnTo>
                  <a:lnTo>
                    <a:pt x="868" y="667"/>
                  </a:lnTo>
                  <a:lnTo>
                    <a:pt x="882" y="659"/>
                  </a:lnTo>
                  <a:lnTo>
                    <a:pt x="918" y="636"/>
                  </a:lnTo>
                  <a:lnTo>
                    <a:pt x="1023" y="565"/>
                  </a:lnTo>
                  <a:lnTo>
                    <a:pt x="1086" y="617"/>
                  </a:lnTo>
                  <a:lnTo>
                    <a:pt x="1025" y="666"/>
                  </a:lnTo>
                  <a:lnTo>
                    <a:pt x="968" y="707"/>
                  </a:lnTo>
                  <a:lnTo>
                    <a:pt x="915" y="742"/>
                  </a:lnTo>
                  <a:lnTo>
                    <a:pt x="866" y="771"/>
                  </a:lnTo>
                  <a:lnTo>
                    <a:pt x="821" y="794"/>
                  </a:lnTo>
                  <a:lnTo>
                    <a:pt x="800" y="803"/>
                  </a:lnTo>
                  <a:lnTo>
                    <a:pt x="780" y="810"/>
                  </a:lnTo>
                  <a:lnTo>
                    <a:pt x="761" y="816"/>
                  </a:lnTo>
                  <a:lnTo>
                    <a:pt x="743" y="819"/>
                  </a:lnTo>
                  <a:lnTo>
                    <a:pt x="726" y="822"/>
                  </a:lnTo>
                  <a:lnTo>
                    <a:pt x="710" y="822"/>
                  </a:lnTo>
                  <a:lnTo>
                    <a:pt x="698" y="822"/>
                  </a:lnTo>
                  <a:lnTo>
                    <a:pt x="686" y="821"/>
                  </a:lnTo>
                  <a:lnTo>
                    <a:pt x="681" y="819"/>
                  </a:lnTo>
                  <a:lnTo>
                    <a:pt x="675" y="819"/>
                  </a:lnTo>
                  <a:lnTo>
                    <a:pt x="670" y="817"/>
                  </a:lnTo>
                  <a:lnTo>
                    <a:pt x="664" y="816"/>
                  </a:lnTo>
                  <a:lnTo>
                    <a:pt x="659" y="814"/>
                  </a:lnTo>
                  <a:lnTo>
                    <a:pt x="654" y="812"/>
                  </a:lnTo>
                  <a:lnTo>
                    <a:pt x="649" y="810"/>
                  </a:lnTo>
                  <a:lnTo>
                    <a:pt x="645" y="807"/>
                  </a:lnTo>
                  <a:lnTo>
                    <a:pt x="640" y="804"/>
                  </a:lnTo>
                  <a:lnTo>
                    <a:pt x="636" y="801"/>
                  </a:lnTo>
                  <a:lnTo>
                    <a:pt x="627" y="795"/>
                  </a:lnTo>
                  <a:lnTo>
                    <a:pt x="623" y="791"/>
                  </a:lnTo>
                  <a:lnTo>
                    <a:pt x="619" y="788"/>
                  </a:lnTo>
                  <a:lnTo>
                    <a:pt x="616" y="785"/>
                  </a:lnTo>
                  <a:lnTo>
                    <a:pt x="613" y="780"/>
                  </a:lnTo>
                  <a:lnTo>
                    <a:pt x="610" y="776"/>
                  </a:lnTo>
                  <a:lnTo>
                    <a:pt x="607" y="772"/>
                  </a:lnTo>
                  <a:lnTo>
                    <a:pt x="602" y="763"/>
                  </a:lnTo>
                  <a:lnTo>
                    <a:pt x="599" y="753"/>
                  </a:lnTo>
                  <a:lnTo>
                    <a:pt x="596" y="742"/>
                  </a:lnTo>
                  <a:lnTo>
                    <a:pt x="595" y="732"/>
                  </a:lnTo>
                  <a:lnTo>
                    <a:pt x="594" y="719"/>
                  </a:lnTo>
                  <a:lnTo>
                    <a:pt x="594" y="707"/>
                  </a:lnTo>
                  <a:lnTo>
                    <a:pt x="596" y="695"/>
                  </a:lnTo>
                  <a:lnTo>
                    <a:pt x="598" y="682"/>
                  </a:lnTo>
                  <a:lnTo>
                    <a:pt x="601" y="668"/>
                  </a:lnTo>
                  <a:lnTo>
                    <a:pt x="604" y="655"/>
                  </a:lnTo>
                  <a:lnTo>
                    <a:pt x="609" y="642"/>
                  </a:lnTo>
                  <a:lnTo>
                    <a:pt x="614" y="628"/>
                  </a:lnTo>
                  <a:lnTo>
                    <a:pt x="620" y="614"/>
                  </a:lnTo>
                  <a:lnTo>
                    <a:pt x="602" y="635"/>
                  </a:lnTo>
                  <a:lnTo>
                    <a:pt x="582" y="656"/>
                  </a:lnTo>
                  <a:lnTo>
                    <a:pt x="558" y="676"/>
                  </a:lnTo>
                  <a:lnTo>
                    <a:pt x="532" y="697"/>
                  </a:lnTo>
                  <a:lnTo>
                    <a:pt x="503" y="716"/>
                  </a:lnTo>
                  <a:lnTo>
                    <a:pt x="470" y="735"/>
                  </a:lnTo>
                  <a:lnTo>
                    <a:pt x="435" y="754"/>
                  </a:lnTo>
                  <a:lnTo>
                    <a:pt x="396" y="772"/>
                  </a:lnTo>
                  <a:lnTo>
                    <a:pt x="369" y="783"/>
                  </a:lnTo>
                  <a:lnTo>
                    <a:pt x="344" y="793"/>
                  </a:lnTo>
                  <a:lnTo>
                    <a:pt x="318" y="801"/>
                  </a:lnTo>
                  <a:lnTo>
                    <a:pt x="294" y="808"/>
                  </a:lnTo>
                  <a:lnTo>
                    <a:pt x="271" y="813"/>
                  </a:lnTo>
                  <a:lnTo>
                    <a:pt x="248" y="817"/>
                  </a:lnTo>
                  <a:lnTo>
                    <a:pt x="226" y="819"/>
                  </a:lnTo>
                  <a:lnTo>
                    <a:pt x="205" y="820"/>
                  </a:lnTo>
                  <a:lnTo>
                    <a:pt x="192" y="819"/>
                  </a:lnTo>
                  <a:lnTo>
                    <a:pt x="180" y="819"/>
                  </a:lnTo>
                  <a:lnTo>
                    <a:pt x="174" y="818"/>
                  </a:lnTo>
                  <a:lnTo>
                    <a:pt x="169" y="816"/>
                  </a:lnTo>
                  <a:lnTo>
                    <a:pt x="163" y="815"/>
                  </a:lnTo>
                  <a:lnTo>
                    <a:pt x="158" y="813"/>
                  </a:lnTo>
                  <a:lnTo>
                    <a:pt x="153" y="812"/>
                  </a:lnTo>
                  <a:lnTo>
                    <a:pt x="148" y="810"/>
                  </a:lnTo>
                  <a:lnTo>
                    <a:pt x="143" y="807"/>
                  </a:lnTo>
                  <a:lnTo>
                    <a:pt x="138" y="805"/>
                  </a:lnTo>
                  <a:lnTo>
                    <a:pt x="134" y="803"/>
                  </a:lnTo>
                  <a:lnTo>
                    <a:pt x="130" y="800"/>
                  </a:lnTo>
                  <a:lnTo>
                    <a:pt x="126" y="797"/>
                  </a:lnTo>
                  <a:lnTo>
                    <a:pt x="122" y="794"/>
                  </a:lnTo>
                  <a:lnTo>
                    <a:pt x="118" y="791"/>
                  </a:lnTo>
                  <a:lnTo>
                    <a:pt x="115" y="787"/>
                  </a:lnTo>
                  <a:lnTo>
                    <a:pt x="112" y="783"/>
                  </a:lnTo>
                  <a:lnTo>
                    <a:pt x="109" y="779"/>
                  </a:lnTo>
                  <a:lnTo>
                    <a:pt x="106" y="775"/>
                  </a:lnTo>
                  <a:lnTo>
                    <a:pt x="104" y="770"/>
                  </a:lnTo>
                  <a:lnTo>
                    <a:pt x="100" y="761"/>
                  </a:lnTo>
                  <a:lnTo>
                    <a:pt x="96" y="751"/>
                  </a:lnTo>
                  <a:lnTo>
                    <a:pt x="94" y="739"/>
                  </a:lnTo>
                  <a:lnTo>
                    <a:pt x="92" y="728"/>
                  </a:lnTo>
                  <a:lnTo>
                    <a:pt x="92" y="715"/>
                  </a:lnTo>
                  <a:lnTo>
                    <a:pt x="93" y="696"/>
                  </a:lnTo>
                  <a:lnTo>
                    <a:pt x="95" y="677"/>
                  </a:lnTo>
                  <a:lnTo>
                    <a:pt x="98" y="657"/>
                  </a:lnTo>
                  <a:lnTo>
                    <a:pt x="103" y="636"/>
                  </a:lnTo>
                  <a:lnTo>
                    <a:pt x="114" y="600"/>
                  </a:lnTo>
                  <a:lnTo>
                    <a:pt x="130" y="550"/>
                  </a:lnTo>
                  <a:lnTo>
                    <a:pt x="181" y="408"/>
                  </a:lnTo>
                  <a:lnTo>
                    <a:pt x="216" y="312"/>
                  </a:lnTo>
                  <a:lnTo>
                    <a:pt x="240" y="237"/>
                  </a:lnTo>
                  <a:lnTo>
                    <a:pt x="255" y="184"/>
                  </a:lnTo>
                  <a:lnTo>
                    <a:pt x="259" y="166"/>
                  </a:lnTo>
                  <a:lnTo>
                    <a:pt x="260" y="159"/>
                  </a:lnTo>
                  <a:lnTo>
                    <a:pt x="260" y="153"/>
                  </a:lnTo>
                  <a:lnTo>
                    <a:pt x="260" y="147"/>
                  </a:lnTo>
                  <a:lnTo>
                    <a:pt x="258" y="147"/>
                  </a:lnTo>
                  <a:lnTo>
                    <a:pt x="256" y="147"/>
                  </a:lnTo>
                  <a:lnTo>
                    <a:pt x="254" y="147"/>
                  </a:lnTo>
                  <a:lnTo>
                    <a:pt x="252" y="147"/>
                  </a:lnTo>
                  <a:lnTo>
                    <a:pt x="247" y="149"/>
                  </a:lnTo>
                  <a:lnTo>
                    <a:pt x="241" y="150"/>
                  </a:lnTo>
                  <a:lnTo>
                    <a:pt x="235" y="152"/>
                  </a:lnTo>
                  <a:lnTo>
                    <a:pt x="228" y="155"/>
                  </a:lnTo>
                  <a:lnTo>
                    <a:pt x="221" y="157"/>
                  </a:lnTo>
                  <a:lnTo>
                    <a:pt x="213" y="161"/>
                  </a:lnTo>
                  <a:lnTo>
                    <a:pt x="204" y="166"/>
                  </a:lnTo>
                  <a:lnTo>
                    <a:pt x="192" y="172"/>
                  </a:lnTo>
                  <a:lnTo>
                    <a:pt x="163" y="189"/>
                  </a:lnTo>
                  <a:lnTo>
                    <a:pt x="77" y="243"/>
                  </a:lnTo>
                  <a:lnTo>
                    <a:pt x="0" y="194"/>
                  </a:lnTo>
                  <a:lnTo>
                    <a:pt x="80" y="138"/>
                  </a:lnTo>
                  <a:lnTo>
                    <a:pt x="149" y="92"/>
                  </a:lnTo>
                  <a:lnTo>
                    <a:pt x="180" y="73"/>
                  </a:lnTo>
                  <a:lnTo>
                    <a:pt x="208" y="58"/>
                  </a:lnTo>
                  <a:lnTo>
                    <a:pt x="234" y="44"/>
                  </a:lnTo>
                  <a:lnTo>
                    <a:pt x="257" y="35"/>
                  </a:lnTo>
                  <a:lnTo>
                    <a:pt x="278" y="26"/>
                  </a:lnTo>
                  <a:lnTo>
                    <a:pt x="299" y="20"/>
                  </a:lnTo>
                  <a:lnTo>
                    <a:pt x="318" y="13"/>
                  </a:lnTo>
                  <a:lnTo>
                    <a:pt x="337" y="8"/>
                  </a:lnTo>
                  <a:lnTo>
                    <a:pt x="355" y="4"/>
                  </a:lnTo>
                  <a:lnTo>
                    <a:pt x="371" y="2"/>
                  </a:lnTo>
                  <a:lnTo>
                    <a:pt x="387" y="1"/>
                  </a:lnTo>
                  <a:lnTo>
                    <a:pt x="402" y="0"/>
                  </a:lnTo>
                  <a:lnTo>
                    <a:pt x="412" y="0"/>
                  </a:lnTo>
                  <a:lnTo>
                    <a:pt x="421" y="1"/>
                  </a:lnTo>
                  <a:lnTo>
                    <a:pt x="425" y="2"/>
                  </a:lnTo>
                  <a:lnTo>
                    <a:pt x="430" y="3"/>
                  </a:lnTo>
                  <a:lnTo>
                    <a:pt x="434" y="4"/>
                  </a:lnTo>
                  <a:lnTo>
                    <a:pt x="438" y="5"/>
                  </a:lnTo>
                  <a:lnTo>
                    <a:pt x="442" y="7"/>
                  </a:lnTo>
                  <a:lnTo>
                    <a:pt x="446" y="8"/>
                  </a:lnTo>
                  <a:lnTo>
                    <a:pt x="450" y="10"/>
                  </a:lnTo>
                  <a:lnTo>
                    <a:pt x="453" y="12"/>
                  </a:lnTo>
                  <a:lnTo>
                    <a:pt x="457" y="14"/>
                  </a:lnTo>
                  <a:lnTo>
                    <a:pt x="460" y="16"/>
                  </a:lnTo>
                  <a:lnTo>
                    <a:pt x="464" y="19"/>
                  </a:lnTo>
                  <a:lnTo>
                    <a:pt x="467" y="22"/>
                  </a:lnTo>
                  <a:lnTo>
                    <a:pt x="470" y="25"/>
                  </a:lnTo>
                  <a:lnTo>
                    <a:pt x="473" y="28"/>
                  </a:lnTo>
                  <a:lnTo>
                    <a:pt x="475" y="31"/>
                  </a:lnTo>
                  <a:lnTo>
                    <a:pt x="478" y="34"/>
                  </a:lnTo>
                  <a:lnTo>
                    <a:pt x="482" y="41"/>
                  </a:lnTo>
                  <a:lnTo>
                    <a:pt x="485" y="48"/>
                  </a:lnTo>
                  <a:lnTo>
                    <a:pt x="488" y="56"/>
                  </a:lnTo>
                  <a:lnTo>
                    <a:pt x="490" y="64"/>
                  </a:lnTo>
                  <a:lnTo>
                    <a:pt x="491" y="73"/>
                  </a:lnTo>
                  <a:lnTo>
                    <a:pt x="491" y="83"/>
                  </a:lnTo>
                  <a:lnTo>
                    <a:pt x="490" y="101"/>
                  </a:lnTo>
                  <a:lnTo>
                    <a:pt x="486" y="126"/>
                  </a:lnTo>
                  <a:lnTo>
                    <a:pt x="469" y="192"/>
                  </a:lnTo>
                  <a:lnTo>
                    <a:pt x="442" y="281"/>
                  </a:lnTo>
                  <a:lnTo>
                    <a:pt x="405" y="393"/>
                  </a:lnTo>
                  <a:lnTo>
                    <a:pt x="349" y="561"/>
                  </a:lnTo>
                  <a:lnTo>
                    <a:pt x="335" y="611"/>
                  </a:lnTo>
                  <a:lnTo>
                    <a:pt x="331" y="626"/>
                  </a:lnTo>
                  <a:lnTo>
                    <a:pt x="330" y="632"/>
                  </a:lnTo>
                  <a:lnTo>
                    <a:pt x="330" y="636"/>
                  </a:lnTo>
                  <a:lnTo>
                    <a:pt x="330" y="639"/>
                  </a:lnTo>
                  <a:lnTo>
                    <a:pt x="331" y="642"/>
                  </a:lnTo>
                  <a:lnTo>
                    <a:pt x="331" y="645"/>
                  </a:lnTo>
                  <a:lnTo>
                    <a:pt x="332" y="648"/>
                  </a:lnTo>
                  <a:lnTo>
                    <a:pt x="334" y="650"/>
                  </a:lnTo>
                  <a:lnTo>
                    <a:pt x="335" y="652"/>
                  </a:lnTo>
                  <a:lnTo>
                    <a:pt x="337" y="654"/>
                  </a:lnTo>
                  <a:lnTo>
                    <a:pt x="339" y="657"/>
                  </a:lnTo>
                  <a:lnTo>
                    <a:pt x="341" y="658"/>
                  </a:lnTo>
                  <a:lnTo>
                    <a:pt x="343" y="660"/>
                  </a:lnTo>
                  <a:lnTo>
                    <a:pt x="345" y="661"/>
                  </a:lnTo>
                  <a:lnTo>
                    <a:pt x="348" y="662"/>
                  </a:lnTo>
                  <a:lnTo>
                    <a:pt x="349" y="663"/>
                  </a:lnTo>
                  <a:lnTo>
                    <a:pt x="350" y="663"/>
                  </a:lnTo>
                  <a:lnTo>
                    <a:pt x="351" y="663"/>
                  </a:lnTo>
                  <a:lnTo>
                    <a:pt x="352" y="663"/>
                  </a:lnTo>
                  <a:lnTo>
                    <a:pt x="353" y="664"/>
                  </a:lnTo>
                  <a:lnTo>
                    <a:pt x="354" y="664"/>
                  </a:lnTo>
                  <a:lnTo>
                    <a:pt x="355" y="664"/>
                  </a:lnTo>
                  <a:lnTo>
                    <a:pt x="356" y="664"/>
                  </a:lnTo>
                  <a:lnTo>
                    <a:pt x="363" y="664"/>
                  </a:lnTo>
                  <a:lnTo>
                    <a:pt x="371" y="663"/>
                  </a:lnTo>
                  <a:lnTo>
                    <a:pt x="379" y="661"/>
                  </a:lnTo>
                  <a:lnTo>
                    <a:pt x="388" y="659"/>
                  </a:lnTo>
                  <a:lnTo>
                    <a:pt x="397" y="657"/>
                  </a:lnTo>
                  <a:lnTo>
                    <a:pt x="407" y="653"/>
                  </a:lnTo>
                  <a:lnTo>
                    <a:pt x="427" y="645"/>
                  </a:lnTo>
                  <a:lnTo>
                    <a:pt x="450" y="633"/>
                  </a:lnTo>
                  <a:lnTo>
                    <a:pt x="474" y="620"/>
                  </a:lnTo>
                  <a:lnTo>
                    <a:pt x="500" y="604"/>
                  </a:lnTo>
                  <a:lnTo>
                    <a:pt x="528" y="585"/>
                  </a:lnTo>
                  <a:lnTo>
                    <a:pt x="556" y="565"/>
                  </a:lnTo>
                  <a:lnTo>
                    <a:pt x="581" y="544"/>
                  </a:lnTo>
                  <a:lnTo>
                    <a:pt x="604" y="523"/>
                  </a:lnTo>
                  <a:lnTo>
                    <a:pt x="624" y="501"/>
                  </a:lnTo>
                  <a:lnTo>
                    <a:pt x="642" y="478"/>
                  </a:lnTo>
                  <a:lnTo>
                    <a:pt x="657" y="455"/>
                  </a:lnTo>
                  <a:lnTo>
                    <a:pt x="670" y="430"/>
                  </a:lnTo>
                  <a:lnTo>
                    <a:pt x="680" y="405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91360" y="558720"/>
              <a:ext cx="285840" cy="293760"/>
            </a:xfrm>
            <a:custGeom>
              <a:avLst/>
              <a:gdLst/>
              <a:ahLst/>
              <a:rect l="l" t="t" r="r" b="b"/>
              <a:pathLst>
                <a:path w="793" h="818">
                  <a:moveTo>
                    <a:pt x="663" y="533"/>
                  </a:moveTo>
                  <a:lnTo>
                    <a:pt x="722" y="592"/>
                  </a:lnTo>
                  <a:lnTo>
                    <a:pt x="647" y="645"/>
                  </a:lnTo>
                  <a:lnTo>
                    <a:pt x="574" y="691"/>
                  </a:lnTo>
                  <a:lnTo>
                    <a:pt x="505" y="729"/>
                  </a:lnTo>
                  <a:lnTo>
                    <a:pt x="438" y="761"/>
                  </a:lnTo>
                  <a:lnTo>
                    <a:pt x="374" y="785"/>
                  </a:lnTo>
                  <a:lnTo>
                    <a:pt x="343" y="795"/>
                  </a:lnTo>
                  <a:lnTo>
                    <a:pt x="312" y="803"/>
                  </a:lnTo>
                  <a:lnTo>
                    <a:pt x="283" y="810"/>
                  </a:lnTo>
                  <a:lnTo>
                    <a:pt x="254" y="813"/>
                  </a:lnTo>
                  <a:lnTo>
                    <a:pt x="226" y="816"/>
                  </a:lnTo>
                  <a:lnTo>
                    <a:pt x="198" y="817"/>
                  </a:lnTo>
                  <a:lnTo>
                    <a:pt x="174" y="816"/>
                  </a:lnTo>
                  <a:lnTo>
                    <a:pt x="152" y="814"/>
                  </a:lnTo>
                  <a:lnTo>
                    <a:pt x="142" y="813"/>
                  </a:lnTo>
                  <a:lnTo>
                    <a:pt x="132" y="810"/>
                  </a:lnTo>
                  <a:lnTo>
                    <a:pt x="122" y="808"/>
                  </a:lnTo>
                  <a:lnTo>
                    <a:pt x="113" y="805"/>
                  </a:lnTo>
                  <a:lnTo>
                    <a:pt x="104" y="802"/>
                  </a:lnTo>
                  <a:lnTo>
                    <a:pt x="95" y="798"/>
                  </a:lnTo>
                  <a:lnTo>
                    <a:pt x="87" y="794"/>
                  </a:lnTo>
                  <a:lnTo>
                    <a:pt x="79" y="790"/>
                  </a:lnTo>
                  <a:lnTo>
                    <a:pt x="71" y="785"/>
                  </a:lnTo>
                  <a:lnTo>
                    <a:pt x="64" y="780"/>
                  </a:lnTo>
                  <a:lnTo>
                    <a:pt x="57" y="775"/>
                  </a:lnTo>
                  <a:lnTo>
                    <a:pt x="51" y="769"/>
                  </a:lnTo>
                  <a:lnTo>
                    <a:pt x="45" y="762"/>
                  </a:lnTo>
                  <a:lnTo>
                    <a:pt x="39" y="755"/>
                  </a:lnTo>
                  <a:lnTo>
                    <a:pt x="34" y="748"/>
                  </a:lnTo>
                  <a:lnTo>
                    <a:pt x="29" y="741"/>
                  </a:lnTo>
                  <a:lnTo>
                    <a:pt x="20" y="724"/>
                  </a:lnTo>
                  <a:lnTo>
                    <a:pt x="13" y="706"/>
                  </a:lnTo>
                  <a:lnTo>
                    <a:pt x="7" y="686"/>
                  </a:lnTo>
                  <a:lnTo>
                    <a:pt x="3" y="665"/>
                  </a:lnTo>
                  <a:lnTo>
                    <a:pt x="1" y="642"/>
                  </a:lnTo>
                  <a:lnTo>
                    <a:pt x="0" y="617"/>
                  </a:lnTo>
                  <a:lnTo>
                    <a:pt x="2" y="568"/>
                  </a:lnTo>
                  <a:lnTo>
                    <a:pt x="10" y="519"/>
                  </a:lnTo>
                  <a:lnTo>
                    <a:pt x="22" y="470"/>
                  </a:lnTo>
                  <a:lnTo>
                    <a:pt x="40" y="421"/>
                  </a:lnTo>
                  <a:lnTo>
                    <a:pt x="62" y="371"/>
                  </a:lnTo>
                  <a:lnTo>
                    <a:pt x="89" y="323"/>
                  </a:lnTo>
                  <a:lnTo>
                    <a:pt x="121" y="274"/>
                  </a:lnTo>
                  <a:lnTo>
                    <a:pt x="158" y="225"/>
                  </a:lnTo>
                  <a:lnTo>
                    <a:pt x="204" y="172"/>
                  </a:lnTo>
                  <a:lnTo>
                    <a:pt x="253" y="126"/>
                  </a:lnTo>
                  <a:lnTo>
                    <a:pt x="278" y="107"/>
                  </a:lnTo>
                  <a:lnTo>
                    <a:pt x="304" y="88"/>
                  </a:lnTo>
                  <a:lnTo>
                    <a:pt x="330" y="71"/>
                  </a:lnTo>
                  <a:lnTo>
                    <a:pt x="357" y="56"/>
                  </a:lnTo>
                  <a:lnTo>
                    <a:pt x="384" y="43"/>
                  </a:lnTo>
                  <a:lnTo>
                    <a:pt x="412" y="32"/>
                  </a:lnTo>
                  <a:lnTo>
                    <a:pt x="441" y="22"/>
                  </a:lnTo>
                  <a:lnTo>
                    <a:pt x="470" y="14"/>
                  </a:lnTo>
                  <a:lnTo>
                    <a:pt x="500" y="7"/>
                  </a:lnTo>
                  <a:lnTo>
                    <a:pt x="530" y="4"/>
                  </a:lnTo>
                  <a:lnTo>
                    <a:pt x="561" y="1"/>
                  </a:lnTo>
                  <a:lnTo>
                    <a:pt x="593" y="0"/>
                  </a:lnTo>
                  <a:lnTo>
                    <a:pt x="616" y="1"/>
                  </a:lnTo>
                  <a:lnTo>
                    <a:pt x="638" y="2"/>
                  </a:lnTo>
                  <a:lnTo>
                    <a:pt x="658" y="5"/>
                  </a:lnTo>
                  <a:lnTo>
                    <a:pt x="677" y="10"/>
                  </a:lnTo>
                  <a:lnTo>
                    <a:pt x="695" y="15"/>
                  </a:lnTo>
                  <a:lnTo>
                    <a:pt x="703" y="18"/>
                  </a:lnTo>
                  <a:lnTo>
                    <a:pt x="711" y="21"/>
                  </a:lnTo>
                  <a:lnTo>
                    <a:pt x="719" y="25"/>
                  </a:lnTo>
                  <a:lnTo>
                    <a:pt x="726" y="29"/>
                  </a:lnTo>
                  <a:lnTo>
                    <a:pt x="733" y="33"/>
                  </a:lnTo>
                  <a:lnTo>
                    <a:pt x="740" y="38"/>
                  </a:lnTo>
                  <a:lnTo>
                    <a:pt x="746" y="42"/>
                  </a:lnTo>
                  <a:lnTo>
                    <a:pt x="752" y="47"/>
                  </a:lnTo>
                  <a:lnTo>
                    <a:pt x="758" y="53"/>
                  </a:lnTo>
                  <a:lnTo>
                    <a:pt x="763" y="58"/>
                  </a:lnTo>
                  <a:lnTo>
                    <a:pt x="768" y="63"/>
                  </a:lnTo>
                  <a:lnTo>
                    <a:pt x="772" y="69"/>
                  </a:lnTo>
                  <a:lnTo>
                    <a:pt x="776" y="75"/>
                  </a:lnTo>
                  <a:lnTo>
                    <a:pt x="779" y="82"/>
                  </a:lnTo>
                  <a:lnTo>
                    <a:pt x="782" y="88"/>
                  </a:lnTo>
                  <a:lnTo>
                    <a:pt x="785" y="94"/>
                  </a:lnTo>
                  <a:lnTo>
                    <a:pt x="789" y="108"/>
                  </a:lnTo>
                  <a:lnTo>
                    <a:pt x="791" y="122"/>
                  </a:lnTo>
                  <a:lnTo>
                    <a:pt x="792" y="138"/>
                  </a:lnTo>
                  <a:lnTo>
                    <a:pt x="791" y="153"/>
                  </a:lnTo>
                  <a:lnTo>
                    <a:pt x="788" y="169"/>
                  </a:lnTo>
                  <a:lnTo>
                    <a:pt x="784" y="185"/>
                  </a:lnTo>
                  <a:lnTo>
                    <a:pt x="778" y="201"/>
                  </a:lnTo>
                  <a:lnTo>
                    <a:pt x="770" y="217"/>
                  </a:lnTo>
                  <a:lnTo>
                    <a:pt x="760" y="232"/>
                  </a:lnTo>
                  <a:lnTo>
                    <a:pt x="748" y="247"/>
                  </a:lnTo>
                  <a:lnTo>
                    <a:pt x="735" y="262"/>
                  </a:lnTo>
                  <a:lnTo>
                    <a:pt x="720" y="278"/>
                  </a:lnTo>
                  <a:lnTo>
                    <a:pt x="702" y="293"/>
                  </a:lnTo>
                  <a:lnTo>
                    <a:pt x="682" y="307"/>
                  </a:lnTo>
                  <a:lnTo>
                    <a:pt x="660" y="322"/>
                  </a:lnTo>
                  <a:lnTo>
                    <a:pt x="635" y="337"/>
                  </a:lnTo>
                  <a:lnTo>
                    <a:pt x="608" y="352"/>
                  </a:lnTo>
                  <a:lnTo>
                    <a:pt x="579" y="366"/>
                  </a:lnTo>
                  <a:lnTo>
                    <a:pt x="548" y="380"/>
                  </a:lnTo>
                  <a:lnTo>
                    <a:pt x="498" y="401"/>
                  </a:lnTo>
                  <a:lnTo>
                    <a:pt x="432" y="426"/>
                  </a:lnTo>
                  <a:lnTo>
                    <a:pt x="251" y="490"/>
                  </a:lnTo>
                  <a:lnTo>
                    <a:pt x="247" y="509"/>
                  </a:lnTo>
                  <a:lnTo>
                    <a:pt x="244" y="529"/>
                  </a:lnTo>
                  <a:lnTo>
                    <a:pt x="243" y="548"/>
                  </a:lnTo>
                  <a:lnTo>
                    <a:pt x="242" y="570"/>
                  </a:lnTo>
                  <a:lnTo>
                    <a:pt x="242" y="583"/>
                  </a:lnTo>
                  <a:lnTo>
                    <a:pt x="243" y="596"/>
                  </a:lnTo>
                  <a:lnTo>
                    <a:pt x="245" y="607"/>
                  </a:lnTo>
                  <a:lnTo>
                    <a:pt x="247" y="618"/>
                  </a:lnTo>
                  <a:lnTo>
                    <a:pt x="250" y="626"/>
                  </a:lnTo>
                  <a:lnTo>
                    <a:pt x="252" y="631"/>
                  </a:lnTo>
                  <a:lnTo>
                    <a:pt x="253" y="635"/>
                  </a:lnTo>
                  <a:lnTo>
                    <a:pt x="255" y="638"/>
                  </a:lnTo>
                  <a:lnTo>
                    <a:pt x="257" y="641"/>
                  </a:lnTo>
                  <a:lnTo>
                    <a:pt x="260" y="644"/>
                  </a:lnTo>
                  <a:lnTo>
                    <a:pt x="262" y="646"/>
                  </a:lnTo>
                  <a:lnTo>
                    <a:pt x="265" y="648"/>
                  </a:lnTo>
                  <a:lnTo>
                    <a:pt x="268" y="651"/>
                  </a:lnTo>
                  <a:lnTo>
                    <a:pt x="271" y="653"/>
                  </a:lnTo>
                  <a:lnTo>
                    <a:pt x="274" y="654"/>
                  </a:lnTo>
                  <a:lnTo>
                    <a:pt x="277" y="656"/>
                  </a:lnTo>
                  <a:lnTo>
                    <a:pt x="280" y="657"/>
                  </a:lnTo>
                  <a:lnTo>
                    <a:pt x="284" y="659"/>
                  </a:lnTo>
                  <a:lnTo>
                    <a:pt x="287" y="660"/>
                  </a:lnTo>
                  <a:lnTo>
                    <a:pt x="291" y="661"/>
                  </a:lnTo>
                  <a:lnTo>
                    <a:pt x="295" y="663"/>
                  </a:lnTo>
                  <a:lnTo>
                    <a:pt x="299" y="663"/>
                  </a:lnTo>
                  <a:lnTo>
                    <a:pt x="303" y="663"/>
                  </a:lnTo>
                  <a:lnTo>
                    <a:pt x="312" y="665"/>
                  </a:lnTo>
                  <a:lnTo>
                    <a:pt x="321" y="665"/>
                  </a:lnTo>
                  <a:lnTo>
                    <a:pt x="332" y="665"/>
                  </a:lnTo>
                  <a:lnTo>
                    <a:pt x="343" y="663"/>
                  </a:lnTo>
                  <a:lnTo>
                    <a:pt x="355" y="663"/>
                  </a:lnTo>
                  <a:lnTo>
                    <a:pt x="367" y="660"/>
                  </a:lnTo>
                  <a:lnTo>
                    <a:pt x="379" y="657"/>
                  </a:lnTo>
                  <a:lnTo>
                    <a:pt x="392" y="654"/>
                  </a:lnTo>
                  <a:lnTo>
                    <a:pt x="405" y="651"/>
                  </a:lnTo>
                  <a:lnTo>
                    <a:pt x="418" y="646"/>
                  </a:lnTo>
                  <a:lnTo>
                    <a:pt x="439" y="638"/>
                  </a:lnTo>
                  <a:lnTo>
                    <a:pt x="462" y="629"/>
                  </a:lnTo>
                  <a:lnTo>
                    <a:pt x="518" y="604"/>
                  </a:lnTo>
                  <a:lnTo>
                    <a:pt x="585" y="572"/>
                  </a:lnTo>
                  <a:close/>
                  <a:moveTo>
                    <a:pt x="267" y="402"/>
                  </a:moveTo>
                  <a:lnTo>
                    <a:pt x="339" y="371"/>
                  </a:lnTo>
                  <a:lnTo>
                    <a:pt x="403" y="340"/>
                  </a:lnTo>
                  <a:lnTo>
                    <a:pt x="432" y="324"/>
                  </a:lnTo>
                  <a:lnTo>
                    <a:pt x="458" y="309"/>
                  </a:lnTo>
                  <a:lnTo>
                    <a:pt x="483" y="293"/>
                  </a:lnTo>
                  <a:lnTo>
                    <a:pt x="505" y="278"/>
                  </a:lnTo>
                  <a:lnTo>
                    <a:pt x="520" y="264"/>
                  </a:lnTo>
                  <a:lnTo>
                    <a:pt x="534" y="250"/>
                  </a:lnTo>
                  <a:lnTo>
                    <a:pt x="545" y="237"/>
                  </a:lnTo>
                  <a:lnTo>
                    <a:pt x="555" y="225"/>
                  </a:lnTo>
                  <a:lnTo>
                    <a:pt x="562" y="212"/>
                  </a:lnTo>
                  <a:lnTo>
                    <a:pt x="565" y="206"/>
                  </a:lnTo>
                  <a:lnTo>
                    <a:pt x="567" y="200"/>
                  </a:lnTo>
                  <a:lnTo>
                    <a:pt x="569" y="194"/>
                  </a:lnTo>
                  <a:lnTo>
                    <a:pt x="570" y="188"/>
                  </a:lnTo>
                  <a:lnTo>
                    <a:pt x="571" y="182"/>
                  </a:lnTo>
                  <a:lnTo>
                    <a:pt x="571" y="177"/>
                  </a:lnTo>
                  <a:lnTo>
                    <a:pt x="571" y="169"/>
                  </a:lnTo>
                  <a:lnTo>
                    <a:pt x="570" y="162"/>
                  </a:lnTo>
                  <a:lnTo>
                    <a:pt x="568" y="155"/>
                  </a:lnTo>
                  <a:lnTo>
                    <a:pt x="566" y="149"/>
                  </a:lnTo>
                  <a:lnTo>
                    <a:pt x="564" y="146"/>
                  </a:lnTo>
                  <a:lnTo>
                    <a:pt x="563" y="143"/>
                  </a:lnTo>
                  <a:lnTo>
                    <a:pt x="561" y="141"/>
                  </a:lnTo>
                  <a:lnTo>
                    <a:pt x="559" y="138"/>
                  </a:lnTo>
                  <a:lnTo>
                    <a:pt x="557" y="135"/>
                  </a:lnTo>
                  <a:lnTo>
                    <a:pt x="555" y="133"/>
                  </a:lnTo>
                  <a:lnTo>
                    <a:pt x="553" y="131"/>
                  </a:lnTo>
                  <a:lnTo>
                    <a:pt x="550" y="128"/>
                  </a:lnTo>
                  <a:lnTo>
                    <a:pt x="548" y="126"/>
                  </a:lnTo>
                  <a:lnTo>
                    <a:pt x="545" y="124"/>
                  </a:lnTo>
                  <a:lnTo>
                    <a:pt x="542" y="122"/>
                  </a:lnTo>
                  <a:lnTo>
                    <a:pt x="540" y="121"/>
                  </a:lnTo>
                  <a:lnTo>
                    <a:pt x="537" y="119"/>
                  </a:lnTo>
                  <a:lnTo>
                    <a:pt x="534" y="118"/>
                  </a:lnTo>
                  <a:lnTo>
                    <a:pt x="531" y="116"/>
                  </a:lnTo>
                  <a:lnTo>
                    <a:pt x="528" y="116"/>
                  </a:lnTo>
                  <a:lnTo>
                    <a:pt x="524" y="114"/>
                  </a:lnTo>
                  <a:lnTo>
                    <a:pt x="521" y="113"/>
                  </a:lnTo>
                  <a:lnTo>
                    <a:pt x="518" y="113"/>
                  </a:lnTo>
                  <a:lnTo>
                    <a:pt x="514" y="112"/>
                  </a:lnTo>
                  <a:lnTo>
                    <a:pt x="507" y="111"/>
                  </a:lnTo>
                  <a:lnTo>
                    <a:pt x="499" y="111"/>
                  </a:lnTo>
                  <a:lnTo>
                    <a:pt x="494" y="111"/>
                  </a:lnTo>
                  <a:lnTo>
                    <a:pt x="490" y="112"/>
                  </a:lnTo>
                  <a:lnTo>
                    <a:pt x="479" y="113"/>
                  </a:lnTo>
                  <a:lnTo>
                    <a:pt x="468" y="115"/>
                  </a:lnTo>
                  <a:lnTo>
                    <a:pt x="456" y="117"/>
                  </a:lnTo>
                  <a:lnTo>
                    <a:pt x="443" y="121"/>
                  </a:lnTo>
                  <a:lnTo>
                    <a:pt x="429" y="125"/>
                  </a:lnTo>
                  <a:lnTo>
                    <a:pt x="415" y="130"/>
                  </a:lnTo>
                  <a:lnTo>
                    <a:pt x="399" y="136"/>
                  </a:lnTo>
                  <a:lnTo>
                    <a:pt x="345" y="206"/>
                  </a:lnTo>
                  <a:lnTo>
                    <a:pt x="319" y="262"/>
                  </a:lnTo>
                  <a:lnTo>
                    <a:pt x="298" y="313"/>
                  </a:lnTo>
                  <a:lnTo>
                    <a:pt x="280" y="359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0960" y="560520"/>
              <a:ext cx="297000" cy="293400"/>
            </a:xfrm>
            <a:custGeom>
              <a:avLst/>
              <a:gdLst/>
              <a:ahLst/>
              <a:rect l="l" t="t" r="r" b="b"/>
              <a:pathLst>
                <a:path w="823" h="818">
                  <a:moveTo>
                    <a:pt x="685" y="561"/>
                  </a:moveTo>
                  <a:lnTo>
                    <a:pt x="725" y="637"/>
                  </a:lnTo>
                  <a:lnTo>
                    <a:pt x="652" y="680"/>
                  </a:lnTo>
                  <a:lnTo>
                    <a:pt x="581" y="716"/>
                  </a:lnTo>
                  <a:lnTo>
                    <a:pt x="514" y="747"/>
                  </a:lnTo>
                  <a:lnTo>
                    <a:pt x="450" y="772"/>
                  </a:lnTo>
                  <a:lnTo>
                    <a:pt x="388" y="792"/>
                  </a:lnTo>
                  <a:lnTo>
                    <a:pt x="359" y="800"/>
                  </a:lnTo>
                  <a:lnTo>
                    <a:pt x="330" y="806"/>
                  </a:lnTo>
                  <a:lnTo>
                    <a:pt x="302" y="811"/>
                  </a:lnTo>
                  <a:lnTo>
                    <a:pt x="274" y="814"/>
                  </a:lnTo>
                  <a:lnTo>
                    <a:pt x="248" y="817"/>
                  </a:lnTo>
                  <a:lnTo>
                    <a:pt x="222" y="817"/>
                  </a:lnTo>
                  <a:lnTo>
                    <a:pt x="194" y="817"/>
                  </a:lnTo>
                  <a:lnTo>
                    <a:pt x="180" y="815"/>
                  </a:lnTo>
                  <a:lnTo>
                    <a:pt x="168" y="814"/>
                  </a:lnTo>
                  <a:lnTo>
                    <a:pt x="155" y="811"/>
                  </a:lnTo>
                  <a:lnTo>
                    <a:pt x="143" y="808"/>
                  </a:lnTo>
                  <a:lnTo>
                    <a:pt x="132" y="805"/>
                  </a:lnTo>
                  <a:lnTo>
                    <a:pt x="121" y="801"/>
                  </a:lnTo>
                  <a:lnTo>
                    <a:pt x="111" y="798"/>
                  </a:lnTo>
                  <a:lnTo>
                    <a:pt x="101" y="793"/>
                  </a:lnTo>
                  <a:lnTo>
                    <a:pt x="92" y="788"/>
                  </a:lnTo>
                  <a:lnTo>
                    <a:pt x="83" y="783"/>
                  </a:lnTo>
                  <a:lnTo>
                    <a:pt x="75" y="776"/>
                  </a:lnTo>
                  <a:lnTo>
                    <a:pt x="67" y="770"/>
                  </a:lnTo>
                  <a:lnTo>
                    <a:pt x="60" y="763"/>
                  </a:lnTo>
                  <a:lnTo>
                    <a:pt x="53" y="755"/>
                  </a:lnTo>
                  <a:lnTo>
                    <a:pt x="41" y="739"/>
                  </a:lnTo>
                  <a:lnTo>
                    <a:pt x="30" y="722"/>
                  </a:lnTo>
                  <a:lnTo>
                    <a:pt x="21" y="705"/>
                  </a:lnTo>
                  <a:lnTo>
                    <a:pt x="13" y="686"/>
                  </a:lnTo>
                  <a:lnTo>
                    <a:pt x="8" y="666"/>
                  </a:lnTo>
                  <a:lnTo>
                    <a:pt x="3" y="646"/>
                  </a:lnTo>
                  <a:lnTo>
                    <a:pt x="1" y="624"/>
                  </a:lnTo>
                  <a:lnTo>
                    <a:pt x="0" y="602"/>
                  </a:lnTo>
                  <a:lnTo>
                    <a:pt x="2" y="565"/>
                  </a:lnTo>
                  <a:lnTo>
                    <a:pt x="7" y="528"/>
                  </a:lnTo>
                  <a:lnTo>
                    <a:pt x="15" y="491"/>
                  </a:lnTo>
                  <a:lnTo>
                    <a:pt x="26" y="453"/>
                  </a:lnTo>
                  <a:lnTo>
                    <a:pt x="41" y="416"/>
                  </a:lnTo>
                  <a:lnTo>
                    <a:pt x="58" y="378"/>
                  </a:lnTo>
                  <a:lnTo>
                    <a:pt x="79" y="340"/>
                  </a:lnTo>
                  <a:lnTo>
                    <a:pt x="103" y="302"/>
                  </a:lnTo>
                  <a:lnTo>
                    <a:pt x="129" y="265"/>
                  </a:lnTo>
                  <a:lnTo>
                    <a:pt x="156" y="231"/>
                  </a:lnTo>
                  <a:lnTo>
                    <a:pt x="185" y="199"/>
                  </a:lnTo>
                  <a:lnTo>
                    <a:pt x="214" y="171"/>
                  </a:lnTo>
                  <a:lnTo>
                    <a:pt x="244" y="145"/>
                  </a:lnTo>
                  <a:lnTo>
                    <a:pt x="276" y="123"/>
                  </a:lnTo>
                  <a:lnTo>
                    <a:pt x="308" y="103"/>
                  </a:lnTo>
                  <a:lnTo>
                    <a:pt x="342" y="86"/>
                  </a:lnTo>
                  <a:lnTo>
                    <a:pt x="375" y="66"/>
                  </a:lnTo>
                  <a:lnTo>
                    <a:pt x="408" y="49"/>
                  </a:lnTo>
                  <a:lnTo>
                    <a:pt x="441" y="34"/>
                  </a:lnTo>
                  <a:lnTo>
                    <a:pt x="476" y="22"/>
                  </a:lnTo>
                  <a:lnTo>
                    <a:pt x="510" y="12"/>
                  </a:lnTo>
                  <a:lnTo>
                    <a:pt x="546" y="5"/>
                  </a:lnTo>
                  <a:lnTo>
                    <a:pt x="582" y="2"/>
                  </a:lnTo>
                  <a:lnTo>
                    <a:pt x="618" y="0"/>
                  </a:lnTo>
                  <a:lnTo>
                    <a:pt x="641" y="1"/>
                  </a:lnTo>
                  <a:lnTo>
                    <a:pt x="663" y="2"/>
                  </a:lnTo>
                  <a:lnTo>
                    <a:pt x="684" y="4"/>
                  </a:lnTo>
                  <a:lnTo>
                    <a:pt x="704" y="8"/>
                  </a:lnTo>
                  <a:lnTo>
                    <a:pt x="722" y="11"/>
                  </a:lnTo>
                  <a:lnTo>
                    <a:pt x="738" y="17"/>
                  </a:lnTo>
                  <a:lnTo>
                    <a:pt x="754" y="23"/>
                  </a:lnTo>
                  <a:lnTo>
                    <a:pt x="761" y="26"/>
                  </a:lnTo>
                  <a:lnTo>
                    <a:pt x="768" y="30"/>
                  </a:lnTo>
                  <a:lnTo>
                    <a:pt x="781" y="37"/>
                  </a:lnTo>
                  <a:lnTo>
                    <a:pt x="786" y="41"/>
                  </a:lnTo>
                  <a:lnTo>
                    <a:pt x="792" y="45"/>
                  </a:lnTo>
                  <a:lnTo>
                    <a:pt x="796" y="49"/>
                  </a:lnTo>
                  <a:lnTo>
                    <a:pt x="801" y="54"/>
                  </a:lnTo>
                  <a:lnTo>
                    <a:pt x="805" y="58"/>
                  </a:lnTo>
                  <a:lnTo>
                    <a:pt x="809" y="63"/>
                  </a:lnTo>
                  <a:lnTo>
                    <a:pt x="812" y="68"/>
                  </a:lnTo>
                  <a:lnTo>
                    <a:pt x="814" y="73"/>
                  </a:lnTo>
                  <a:lnTo>
                    <a:pt x="817" y="78"/>
                  </a:lnTo>
                  <a:lnTo>
                    <a:pt x="819" y="83"/>
                  </a:lnTo>
                  <a:lnTo>
                    <a:pt x="820" y="88"/>
                  </a:lnTo>
                  <a:lnTo>
                    <a:pt x="821" y="93"/>
                  </a:lnTo>
                  <a:lnTo>
                    <a:pt x="822" y="99"/>
                  </a:lnTo>
                  <a:lnTo>
                    <a:pt x="822" y="105"/>
                  </a:lnTo>
                  <a:lnTo>
                    <a:pt x="821" y="113"/>
                  </a:lnTo>
                  <a:lnTo>
                    <a:pt x="820" y="121"/>
                  </a:lnTo>
                  <a:lnTo>
                    <a:pt x="819" y="126"/>
                  </a:lnTo>
                  <a:lnTo>
                    <a:pt x="817" y="129"/>
                  </a:lnTo>
                  <a:lnTo>
                    <a:pt x="816" y="133"/>
                  </a:lnTo>
                  <a:lnTo>
                    <a:pt x="814" y="137"/>
                  </a:lnTo>
                  <a:lnTo>
                    <a:pt x="812" y="140"/>
                  </a:lnTo>
                  <a:lnTo>
                    <a:pt x="809" y="144"/>
                  </a:lnTo>
                  <a:lnTo>
                    <a:pt x="807" y="148"/>
                  </a:lnTo>
                  <a:lnTo>
                    <a:pt x="804" y="151"/>
                  </a:lnTo>
                  <a:lnTo>
                    <a:pt x="801" y="154"/>
                  </a:lnTo>
                  <a:lnTo>
                    <a:pt x="797" y="157"/>
                  </a:lnTo>
                  <a:lnTo>
                    <a:pt x="790" y="163"/>
                  </a:lnTo>
                  <a:lnTo>
                    <a:pt x="786" y="166"/>
                  </a:lnTo>
                  <a:lnTo>
                    <a:pt x="782" y="168"/>
                  </a:lnTo>
                  <a:lnTo>
                    <a:pt x="778" y="170"/>
                  </a:lnTo>
                  <a:lnTo>
                    <a:pt x="773" y="173"/>
                  </a:lnTo>
                  <a:lnTo>
                    <a:pt x="769" y="175"/>
                  </a:lnTo>
                  <a:lnTo>
                    <a:pt x="764" y="176"/>
                  </a:lnTo>
                  <a:lnTo>
                    <a:pt x="759" y="179"/>
                  </a:lnTo>
                  <a:lnTo>
                    <a:pt x="754" y="180"/>
                  </a:lnTo>
                  <a:lnTo>
                    <a:pt x="743" y="182"/>
                  </a:lnTo>
                  <a:lnTo>
                    <a:pt x="731" y="184"/>
                  </a:lnTo>
                  <a:lnTo>
                    <a:pt x="719" y="185"/>
                  </a:lnTo>
                  <a:lnTo>
                    <a:pt x="706" y="185"/>
                  </a:lnTo>
                  <a:lnTo>
                    <a:pt x="694" y="185"/>
                  </a:lnTo>
                  <a:lnTo>
                    <a:pt x="682" y="184"/>
                  </a:lnTo>
                  <a:lnTo>
                    <a:pt x="670" y="182"/>
                  </a:lnTo>
                  <a:lnTo>
                    <a:pt x="658" y="179"/>
                  </a:lnTo>
                  <a:lnTo>
                    <a:pt x="646" y="174"/>
                  </a:lnTo>
                  <a:lnTo>
                    <a:pt x="635" y="170"/>
                  </a:lnTo>
                  <a:lnTo>
                    <a:pt x="624" y="164"/>
                  </a:lnTo>
                  <a:lnTo>
                    <a:pt x="613" y="157"/>
                  </a:lnTo>
                  <a:lnTo>
                    <a:pt x="572" y="143"/>
                  </a:lnTo>
                  <a:lnTo>
                    <a:pt x="554" y="138"/>
                  </a:lnTo>
                  <a:lnTo>
                    <a:pt x="537" y="134"/>
                  </a:lnTo>
                  <a:lnTo>
                    <a:pt x="522" y="131"/>
                  </a:lnTo>
                  <a:lnTo>
                    <a:pt x="509" y="128"/>
                  </a:lnTo>
                  <a:lnTo>
                    <a:pt x="497" y="127"/>
                  </a:lnTo>
                  <a:lnTo>
                    <a:pt x="491" y="126"/>
                  </a:lnTo>
                  <a:lnTo>
                    <a:pt x="486" y="126"/>
                  </a:lnTo>
                  <a:lnTo>
                    <a:pt x="480" y="126"/>
                  </a:lnTo>
                  <a:lnTo>
                    <a:pt x="474" y="127"/>
                  </a:lnTo>
                  <a:lnTo>
                    <a:pt x="468" y="128"/>
                  </a:lnTo>
                  <a:lnTo>
                    <a:pt x="462" y="129"/>
                  </a:lnTo>
                  <a:lnTo>
                    <a:pt x="456" y="129"/>
                  </a:lnTo>
                  <a:lnTo>
                    <a:pt x="450" y="131"/>
                  </a:lnTo>
                  <a:lnTo>
                    <a:pt x="438" y="136"/>
                  </a:lnTo>
                  <a:lnTo>
                    <a:pt x="425" y="140"/>
                  </a:lnTo>
                  <a:lnTo>
                    <a:pt x="412" y="146"/>
                  </a:lnTo>
                  <a:lnTo>
                    <a:pt x="400" y="154"/>
                  </a:lnTo>
                  <a:lnTo>
                    <a:pt x="387" y="162"/>
                  </a:lnTo>
                  <a:lnTo>
                    <a:pt x="380" y="167"/>
                  </a:lnTo>
                  <a:lnTo>
                    <a:pt x="374" y="173"/>
                  </a:lnTo>
                  <a:lnTo>
                    <a:pt x="361" y="185"/>
                  </a:lnTo>
                  <a:lnTo>
                    <a:pt x="348" y="200"/>
                  </a:lnTo>
                  <a:lnTo>
                    <a:pt x="335" y="217"/>
                  </a:lnTo>
                  <a:lnTo>
                    <a:pt x="323" y="236"/>
                  </a:lnTo>
                  <a:lnTo>
                    <a:pt x="310" y="258"/>
                  </a:lnTo>
                  <a:lnTo>
                    <a:pt x="297" y="282"/>
                  </a:lnTo>
                  <a:lnTo>
                    <a:pt x="285" y="309"/>
                  </a:lnTo>
                  <a:lnTo>
                    <a:pt x="273" y="337"/>
                  </a:lnTo>
                  <a:lnTo>
                    <a:pt x="263" y="365"/>
                  </a:lnTo>
                  <a:lnTo>
                    <a:pt x="254" y="393"/>
                  </a:lnTo>
                  <a:lnTo>
                    <a:pt x="247" y="421"/>
                  </a:lnTo>
                  <a:lnTo>
                    <a:pt x="241" y="449"/>
                  </a:lnTo>
                  <a:lnTo>
                    <a:pt x="237" y="477"/>
                  </a:lnTo>
                  <a:lnTo>
                    <a:pt x="235" y="505"/>
                  </a:lnTo>
                  <a:lnTo>
                    <a:pt x="234" y="533"/>
                  </a:lnTo>
                  <a:lnTo>
                    <a:pt x="235" y="552"/>
                  </a:lnTo>
                  <a:lnTo>
                    <a:pt x="236" y="570"/>
                  </a:lnTo>
                  <a:lnTo>
                    <a:pt x="239" y="587"/>
                  </a:lnTo>
                  <a:lnTo>
                    <a:pt x="244" y="602"/>
                  </a:lnTo>
                  <a:lnTo>
                    <a:pt x="249" y="617"/>
                  </a:lnTo>
                  <a:lnTo>
                    <a:pt x="255" y="630"/>
                  </a:lnTo>
                  <a:lnTo>
                    <a:pt x="263" y="642"/>
                  </a:lnTo>
                  <a:lnTo>
                    <a:pt x="267" y="647"/>
                  </a:lnTo>
                  <a:lnTo>
                    <a:pt x="271" y="652"/>
                  </a:lnTo>
                  <a:lnTo>
                    <a:pt x="278" y="659"/>
                  </a:lnTo>
                  <a:lnTo>
                    <a:pt x="282" y="662"/>
                  </a:lnTo>
                  <a:lnTo>
                    <a:pt x="286" y="665"/>
                  </a:lnTo>
                  <a:lnTo>
                    <a:pt x="290" y="668"/>
                  </a:lnTo>
                  <a:lnTo>
                    <a:pt x="294" y="671"/>
                  </a:lnTo>
                  <a:lnTo>
                    <a:pt x="298" y="673"/>
                  </a:lnTo>
                  <a:lnTo>
                    <a:pt x="303" y="675"/>
                  </a:lnTo>
                  <a:lnTo>
                    <a:pt x="307" y="677"/>
                  </a:lnTo>
                  <a:lnTo>
                    <a:pt x="312" y="678"/>
                  </a:lnTo>
                  <a:lnTo>
                    <a:pt x="317" y="680"/>
                  </a:lnTo>
                  <a:lnTo>
                    <a:pt x="322" y="680"/>
                  </a:lnTo>
                  <a:lnTo>
                    <a:pt x="327" y="682"/>
                  </a:lnTo>
                  <a:lnTo>
                    <a:pt x="332" y="682"/>
                  </a:lnTo>
                  <a:lnTo>
                    <a:pt x="337" y="683"/>
                  </a:lnTo>
                  <a:lnTo>
                    <a:pt x="343" y="683"/>
                  </a:lnTo>
                  <a:lnTo>
                    <a:pt x="359" y="682"/>
                  </a:lnTo>
                  <a:lnTo>
                    <a:pt x="377" y="680"/>
                  </a:lnTo>
                  <a:lnTo>
                    <a:pt x="394" y="678"/>
                  </a:lnTo>
                  <a:lnTo>
                    <a:pt x="413" y="675"/>
                  </a:lnTo>
                  <a:lnTo>
                    <a:pt x="452" y="665"/>
                  </a:lnTo>
                  <a:lnTo>
                    <a:pt x="493" y="652"/>
                  </a:lnTo>
                  <a:lnTo>
                    <a:pt x="537" y="635"/>
                  </a:lnTo>
                  <a:lnTo>
                    <a:pt x="584" y="614"/>
                  </a:lnTo>
                  <a:lnTo>
                    <a:pt x="633" y="590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5640" y="568440"/>
              <a:ext cx="423720" cy="288720"/>
            </a:xfrm>
            <a:custGeom>
              <a:avLst/>
              <a:gdLst/>
              <a:ahLst/>
              <a:rect l="l" t="t" r="r" b="b"/>
              <a:pathLst>
                <a:path w="1176" h="803">
                  <a:moveTo>
                    <a:pt x="100" y="555"/>
                  </a:moveTo>
                  <a:lnTo>
                    <a:pt x="129" y="628"/>
                  </a:lnTo>
                  <a:lnTo>
                    <a:pt x="139" y="650"/>
                  </a:lnTo>
                  <a:lnTo>
                    <a:pt x="143" y="656"/>
                  </a:lnTo>
                  <a:lnTo>
                    <a:pt x="145" y="659"/>
                  </a:lnTo>
                  <a:lnTo>
                    <a:pt x="146" y="660"/>
                  </a:lnTo>
                  <a:lnTo>
                    <a:pt x="147" y="662"/>
                  </a:lnTo>
                  <a:lnTo>
                    <a:pt x="148" y="663"/>
                  </a:lnTo>
                  <a:lnTo>
                    <a:pt x="150" y="665"/>
                  </a:lnTo>
                  <a:lnTo>
                    <a:pt x="151" y="665"/>
                  </a:lnTo>
                  <a:lnTo>
                    <a:pt x="152" y="667"/>
                  </a:lnTo>
                  <a:lnTo>
                    <a:pt x="154" y="668"/>
                  </a:lnTo>
                  <a:lnTo>
                    <a:pt x="155" y="668"/>
                  </a:lnTo>
                  <a:lnTo>
                    <a:pt x="157" y="669"/>
                  </a:lnTo>
                  <a:lnTo>
                    <a:pt x="158" y="670"/>
                  </a:lnTo>
                  <a:lnTo>
                    <a:pt x="160" y="671"/>
                  </a:lnTo>
                  <a:lnTo>
                    <a:pt x="162" y="671"/>
                  </a:lnTo>
                  <a:lnTo>
                    <a:pt x="163" y="671"/>
                  </a:lnTo>
                  <a:lnTo>
                    <a:pt x="165" y="671"/>
                  </a:lnTo>
                  <a:lnTo>
                    <a:pt x="167" y="672"/>
                  </a:lnTo>
                  <a:lnTo>
                    <a:pt x="169" y="672"/>
                  </a:lnTo>
                  <a:lnTo>
                    <a:pt x="171" y="672"/>
                  </a:lnTo>
                  <a:lnTo>
                    <a:pt x="176" y="672"/>
                  </a:lnTo>
                  <a:lnTo>
                    <a:pt x="182" y="671"/>
                  </a:lnTo>
                  <a:lnTo>
                    <a:pt x="188" y="669"/>
                  </a:lnTo>
                  <a:lnTo>
                    <a:pt x="194" y="667"/>
                  </a:lnTo>
                  <a:lnTo>
                    <a:pt x="200" y="664"/>
                  </a:lnTo>
                  <a:lnTo>
                    <a:pt x="206" y="660"/>
                  </a:lnTo>
                  <a:lnTo>
                    <a:pt x="212" y="656"/>
                  </a:lnTo>
                  <a:lnTo>
                    <a:pt x="219" y="651"/>
                  </a:lnTo>
                  <a:lnTo>
                    <a:pt x="233" y="640"/>
                  </a:lnTo>
                  <a:lnTo>
                    <a:pt x="248" y="625"/>
                  </a:lnTo>
                  <a:lnTo>
                    <a:pt x="263" y="609"/>
                  </a:lnTo>
                  <a:lnTo>
                    <a:pt x="279" y="589"/>
                  </a:lnTo>
                  <a:lnTo>
                    <a:pt x="316" y="544"/>
                  </a:lnTo>
                  <a:lnTo>
                    <a:pt x="334" y="525"/>
                  </a:lnTo>
                  <a:lnTo>
                    <a:pt x="351" y="507"/>
                  </a:lnTo>
                  <a:lnTo>
                    <a:pt x="368" y="491"/>
                  </a:lnTo>
                  <a:lnTo>
                    <a:pt x="384" y="478"/>
                  </a:lnTo>
                  <a:lnTo>
                    <a:pt x="399" y="466"/>
                  </a:lnTo>
                  <a:lnTo>
                    <a:pt x="414" y="456"/>
                  </a:lnTo>
                  <a:lnTo>
                    <a:pt x="429" y="447"/>
                  </a:lnTo>
                  <a:lnTo>
                    <a:pt x="447" y="439"/>
                  </a:lnTo>
                  <a:lnTo>
                    <a:pt x="466" y="432"/>
                  </a:lnTo>
                  <a:lnTo>
                    <a:pt x="486" y="424"/>
                  </a:lnTo>
                  <a:lnTo>
                    <a:pt x="508" y="417"/>
                  </a:lnTo>
                  <a:lnTo>
                    <a:pt x="533" y="410"/>
                  </a:lnTo>
                  <a:lnTo>
                    <a:pt x="558" y="404"/>
                  </a:lnTo>
                  <a:lnTo>
                    <a:pt x="586" y="399"/>
                  </a:lnTo>
                  <a:lnTo>
                    <a:pt x="586" y="419"/>
                  </a:lnTo>
                  <a:lnTo>
                    <a:pt x="579" y="419"/>
                  </a:lnTo>
                  <a:lnTo>
                    <a:pt x="540" y="419"/>
                  </a:lnTo>
                  <a:lnTo>
                    <a:pt x="504" y="416"/>
                  </a:lnTo>
                  <a:lnTo>
                    <a:pt x="471" y="413"/>
                  </a:lnTo>
                  <a:lnTo>
                    <a:pt x="439" y="407"/>
                  </a:lnTo>
                  <a:lnTo>
                    <a:pt x="410" y="401"/>
                  </a:lnTo>
                  <a:lnTo>
                    <a:pt x="384" y="393"/>
                  </a:lnTo>
                  <a:lnTo>
                    <a:pt x="371" y="388"/>
                  </a:lnTo>
                  <a:lnTo>
                    <a:pt x="359" y="383"/>
                  </a:lnTo>
                  <a:lnTo>
                    <a:pt x="348" y="378"/>
                  </a:lnTo>
                  <a:lnTo>
                    <a:pt x="337" y="372"/>
                  </a:lnTo>
                  <a:lnTo>
                    <a:pt x="318" y="359"/>
                  </a:lnTo>
                  <a:lnTo>
                    <a:pt x="309" y="353"/>
                  </a:lnTo>
                  <a:lnTo>
                    <a:pt x="301" y="346"/>
                  </a:lnTo>
                  <a:lnTo>
                    <a:pt x="293" y="339"/>
                  </a:lnTo>
                  <a:lnTo>
                    <a:pt x="287" y="332"/>
                  </a:lnTo>
                  <a:lnTo>
                    <a:pt x="280" y="325"/>
                  </a:lnTo>
                  <a:lnTo>
                    <a:pt x="275" y="317"/>
                  </a:lnTo>
                  <a:lnTo>
                    <a:pt x="270" y="310"/>
                  </a:lnTo>
                  <a:lnTo>
                    <a:pt x="266" y="301"/>
                  </a:lnTo>
                  <a:lnTo>
                    <a:pt x="262" y="293"/>
                  </a:lnTo>
                  <a:lnTo>
                    <a:pt x="259" y="286"/>
                  </a:lnTo>
                  <a:lnTo>
                    <a:pt x="257" y="276"/>
                  </a:lnTo>
                  <a:lnTo>
                    <a:pt x="255" y="268"/>
                  </a:lnTo>
                  <a:lnTo>
                    <a:pt x="254" y="259"/>
                  </a:lnTo>
                  <a:lnTo>
                    <a:pt x="254" y="250"/>
                  </a:lnTo>
                  <a:lnTo>
                    <a:pt x="255" y="236"/>
                  </a:lnTo>
                  <a:lnTo>
                    <a:pt x="257" y="223"/>
                  </a:lnTo>
                  <a:lnTo>
                    <a:pt x="260" y="210"/>
                  </a:lnTo>
                  <a:lnTo>
                    <a:pt x="265" y="197"/>
                  </a:lnTo>
                  <a:lnTo>
                    <a:pt x="271" y="184"/>
                  </a:lnTo>
                  <a:lnTo>
                    <a:pt x="278" y="172"/>
                  </a:lnTo>
                  <a:lnTo>
                    <a:pt x="287" y="161"/>
                  </a:lnTo>
                  <a:lnTo>
                    <a:pt x="298" y="149"/>
                  </a:lnTo>
                  <a:lnTo>
                    <a:pt x="309" y="138"/>
                  </a:lnTo>
                  <a:lnTo>
                    <a:pt x="322" y="127"/>
                  </a:lnTo>
                  <a:lnTo>
                    <a:pt x="336" y="117"/>
                  </a:lnTo>
                  <a:lnTo>
                    <a:pt x="352" y="106"/>
                  </a:lnTo>
                  <a:lnTo>
                    <a:pt x="369" y="96"/>
                  </a:lnTo>
                  <a:lnTo>
                    <a:pt x="387" y="87"/>
                  </a:lnTo>
                  <a:lnTo>
                    <a:pt x="428" y="69"/>
                  </a:lnTo>
                  <a:lnTo>
                    <a:pt x="473" y="53"/>
                  </a:lnTo>
                  <a:lnTo>
                    <a:pt x="520" y="39"/>
                  </a:lnTo>
                  <a:lnTo>
                    <a:pt x="570" y="27"/>
                  </a:lnTo>
                  <a:lnTo>
                    <a:pt x="623" y="17"/>
                  </a:lnTo>
                  <a:lnTo>
                    <a:pt x="678" y="9"/>
                  </a:lnTo>
                  <a:lnTo>
                    <a:pt x="737" y="4"/>
                  </a:lnTo>
                  <a:lnTo>
                    <a:pt x="797" y="0"/>
                  </a:lnTo>
                  <a:lnTo>
                    <a:pt x="861" y="0"/>
                  </a:lnTo>
                  <a:lnTo>
                    <a:pt x="1116" y="4"/>
                  </a:lnTo>
                  <a:lnTo>
                    <a:pt x="1003" y="339"/>
                  </a:lnTo>
                  <a:lnTo>
                    <a:pt x="931" y="550"/>
                  </a:lnTo>
                  <a:lnTo>
                    <a:pt x="913" y="612"/>
                  </a:lnTo>
                  <a:lnTo>
                    <a:pt x="909" y="632"/>
                  </a:lnTo>
                  <a:lnTo>
                    <a:pt x="907" y="640"/>
                  </a:lnTo>
                  <a:lnTo>
                    <a:pt x="907" y="645"/>
                  </a:lnTo>
                  <a:lnTo>
                    <a:pt x="907" y="649"/>
                  </a:lnTo>
                  <a:lnTo>
                    <a:pt x="907" y="652"/>
                  </a:lnTo>
                  <a:lnTo>
                    <a:pt x="908" y="655"/>
                  </a:lnTo>
                  <a:lnTo>
                    <a:pt x="908" y="656"/>
                  </a:lnTo>
                  <a:lnTo>
                    <a:pt x="909" y="657"/>
                  </a:lnTo>
                  <a:lnTo>
                    <a:pt x="909" y="659"/>
                  </a:lnTo>
                  <a:lnTo>
                    <a:pt x="910" y="659"/>
                  </a:lnTo>
                  <a:lnTo>
                    <a:pt x="910" y="660"/>
                  </a:lnTo>
                  <a:lnTo>
                    <a:pt x="911" y="661"/>
                  </a:lnTo>
                  <a:lnTo>
                    <a:pt x="911" y="661"/>
                  </a:lnTo>
                  <a:lnTo>
                    <a:pt x="911" y="661"/>
                  </a:lnTo>
                  <a:lnTo>
                    <a:pt x="912" y="661"/>
                  </a:lnTo>
                  <a:lnTo>
                    <a:pt x="912" y="662"/>
                  </a:lnTo>
                  <a:lnTo>
                    <a:pt x="913" y="662"/>
                  </a:lnTo>
                  <a:lnTo>
                    <a:pt x="913" y="662"/>
                  </a:lnTo>
                  <a:lnTo>
                    <a:pt x="914" y="662"/>
                  </a:lnTo>
                  <a:lnTo>
                    <a:pt x="914" y="662"/>
                  </a:lnTo>
                  <a:lnTo>
                    <a:pt x="916" y="662"/>
                  </a:lnTo>
                  <a:lnTo>
                    <a:pt x="919" y="661"/>
                  </a:lnTo>
                  <a:lnTo>
                    <a:pt x="924" y="660"/>
                  </a:lnTo>
                  <a:lnTo>
                    <a:pt x="931" y="658"/>
                  </a:lnTo>
                  <a:lnTo>
                    <a:pt x="939" y="654"/>
                  </a:lnTo>
                  <a:lnTo>
                    <a:pt x="957" y="645"/>
                  </a:lnTo>
                  <a:lnTo>
                    <a:pt x="980" y="632"/>
                  </a:lnTo>
                  <a:lnTo>
                    <a:pt x="1037" y="596"/>
                  </a:lnTo>
                  <a:lnTo>
                    <a:pt x="1111" y="545"/>
                  </a:lnTo>
                  <a:lnTo>
                    <a:pt x="1175" y="597"/>
                  </a:lnTo>
                  <a:lnTo>
                    <a:pt x="1114" y="646"/>
                  </a:lnTo>
                  <a:lnTo>
                    <a:pt x="1057" y="687"/>
                  </a:lnTo>
                  <a:lnTo>
                    <a:pt x="1004" y="722"/>
                  </a:lnTo>
                  <a:lnTo>
                    <a:pt x="955" y="751"/>
                  </a:lnTo>
                  <a:lnTo>
                    <a:pt x="910" y="774"/>
                  </a:lnTo>
                  <a:lnTo>
                    <a:pt x="889" y="783"/>
                  </a:lnTo>
                  <a:lnTo>
                    <a:pt x="869" y="790"/>
                  </a:lnTo>
                  <a:lnTo>
                    <a:pt x="850" y="796"/>
                  </a:lnTo>
                  <a:lnTo>
                    <a:pt x="832" y="799"/>
                  </a:lnTo>
                  <a:lnTo>
                    <a:pt x="815" y="802"/>
                  </a:lnTo>
                  <a:lnTo>
                    <a:pt x="799" y="802"/>
                  </a:lnTo>
                  <a:lnTo>
                    <a:pt x="787" y="802"/>
                  </a:lnTo>
                  <a:lnTo>
                    <a:pt x="781" y="802"/>
                  </a:lnTo>
                  <a:lnTo>
                    <a:pt x="775" y="801"/>
                  </a:lnTo>
                  <a:lnTo>
                    <a:pt x="769" y="799"/>
                  </a:lnTo>
                  <a:lnTo>
                    <a:pt x="763" y="799"/>
                  </a:lnTo>
                  <a:lnTo>
                    <a:pt x="758" y="797"/>
                  </a:lnTo>
                  <a:lnTo>
                    <a:pt x="753" y="795"/>
                  </a:lnTo>
                  <a:lnTo>
                    <a:pt x="747" y="793"/>
                  </a:lnTo>
                  <a:lnTo>
                    <a:pt x="742" y="791"/>
                  </a:lnTo>
                  <a:lnTo>
                    <a:pt x="737" y="789"/>
                  </a:lnTo>
                  <a:lnTo>
                    <a:pt x="733" y="786"/>
                  </a:lnTo>
                  <a:lnTo>
                    <a:pt x="728" y="783"/>
                  </a:lnTo>
                  <a:lnTo>
                    <a:pt x="724" y="780"/>
                  </a:lnTo>
                  <a:lnTo>
                    <a:pt x="715" y="773"/>
                  </a:lnTo>
                  <a:lnTo>
                    <a:pt x="711" y="769"/>
                  </a:lnTo>
                  <a:lnTo>
                    <a:pt x="707" y="765"/>
                  </a:lnTo>
                  <a:lnTo>
                    <a:pt x="704" y="761"/>
                  </a:lnTo>
                  <a:lnTo>
                    <a:pt x="701" y="756"/>
                  </a:lnTo>
                  <a:lnTo>
                    <a:pt x="695" y="746"/>
                  </a:lnTo>
                  <a:lnTo>
                    <a:pt x="690" y="737"/>
                  </a:lnTo>
                  <a:lnTo>
                    <a:pt x="687" y="725"/>
                  </a:lnTo>
                  <a:lnTo>
                    <a:pt x="684" y="714"/>
                  </a:lnTo>
                  <a:lnTo>
                    <a:pt x="683" y="701"/>
                  </a:lnTo>
                  <a:lnTo>
                    <a:pt x="682" y="688"/>
                  </a:lnTo>
                  <a:lnTo>
                    <a:pt x="682" y="675"/>
                  </a:lnTo>
                  <a:lnTo>
                    <a:pt x="684" y="662"/>
                  </a:lnTo>
                  <a:lnTo>
                    <a:pt x="685" y="648"/>
                  </a:lnTo>
                  <a:lnTo>
                    <a:pt x="688" y="633"/>
                  </a:lnTo>
                  <a:lnTo>
                    <a:pt x="696" y="602"/>
                  </a:lnTo>
                  <a:lnTo>
                    <a:pt x="707" y="569"/>
                  </a:lnTo>
                  <a:lnTo>
                    <a:pt x="760" y="436"/>
                  </a:lnTo>
                  <a:lnTo>
                    <a:pt x="752" y="436"/>
                  </a:lnTo>
                  <a:lnTo>
                    <a:pt x="744" y="437"/>
                  </a:lnTo>
                  <a:lnTo>
                    <a:pt x="736" y="438"/>
                  </a:lnTo>
                  <a:lnTo>
                    <a:pt x="728" y="438"/>
                  </a:lnTo>
                  <a:lnTo>
                    <a:pt x="721" y="440"/>
                  </a:lnTo>
                  <a:lnTo>
                    <a:pt x="713" y="441"/>
                  </a:lnTo>
                  <a:lnTo>
                    <a:pt x="698" y="446"/>
                  </a:lnTo>
                  <a:lnTo>
                    <a:pt x="683" y="451"/>
                  </a:lnTo>
                  <a:lnTo>
                    <a:pt x="668" y="458"/>
                  </a:lnTo>
                  <a:lnTo>
                    <a:pt x="653" y="466"/>
                  </a:lnTo>
                  <a:lnTo>
                    <a:pt x="639" y="475"/>
                  </a:lnTo>
                  <a:lnTo>
                    <a:pt x="624" y="487"/>
                  </a:lnTo>
                  <a:lnTo>
                    <a:pt x="608" y="501"/>
                  </a:lnTo>
                  <a:lnTo>
                    <a:pt x="591" y="518"/>
                  </a:lnTo>
                  <a:lnTo>
                    <a:pt x="572" y="538"/>
                  </a:lnTo>
                  <a:lnTo>
                    <a:pt x="531" y="585"/>
                  </a:lnTo>
                  <a:lnTo>
                    <a:pt x="485" y="644"/>
                  </a:lnTo>
                  <a:lnTo>
                    <a:pt x="455" y="681"/>
                  </a:lnTo>
                  <a:lnTo>
                    <a:pt x="423" y="713"/>
                  </a:lnTo>
                  <a:lnTo>
                    <a:pt x="407" y="727"/>
                  </a:lnTo>
                  <a:lnTo>
                    <a:pt x="391" y="740"/>
                  </a:lnTo>
                  <a:lnTo>
                    <a:pt x="374" y="752"/>
                  </a:lnTo>
                  <a:lnTo>
                    <a:pt x="357" y="763"/>
                  </a:lnTo>
                  <a:lnTo>
                    <a:pt x="340" y="772"/>
                  </a:lnTo>
                  <a:lnTo>
                    <a:pt x="322" y="780"/>
                  </a:lnTo>
                  <a:lnTo>
                    <a:pt x="304" y="787"/>
                  </a:lnTo>
                  <a:lnTo>
                    <a:pt x="286" y="793"/>
                  </a:lnTo>
                  <a:lnTo>
                    <a:pt x="268" y="797"/>
                  </a:lnTo>
                  <a:lnTo>
                    <a:pt x="249" y="800"/>
                  </a:lnTo>
                  <a:lnTo>
                    <a:pt x="230" y="802"/>
                  </a:lnTo>
                  <a:lnTo>
                    <a:pt x="211" y="802"/>
                  </a:lnTo>
                  <a:lnTo>
                    <a:pt x="195" y="802"/>
                  </a:lnTo>
                  <a:lnTo>
                    <a:pt x="180" y="800"/>
                  </a:lnTo>
                  <a:lnTo>
                    <a:pt x="164" y="798"/>
                  </a:lnTo>
                  <a:lnTo>
                    <a:pt x="150" y="794"/>
                  </a:lnTo>
                  <a:lnTo>
                    <a:pt x="136" y="790"/>
                  </a:lnTo>
                  <a:lnTo>
                    <a:pt x="122" y="784"/>
                  </a:lnTo>
                  <a:lnTo>
                    <a:pt x="109" y="777"/>
                  </a:lnTo>
                  <a:lnTo>
                    <a:pt x="96" y="770"/>
                  </a:lnTo>
                  <a:lnTo>
                    <a:pt x="90" y="765"/>
                  </a:lnTo>
                  <a:lnTo>
                    <a:pt x="83" y="760"/>
                  </a:lnTo>
                  <a:lnTo>
                    <a:pt x="77" y="753"/>
                  </a:lnTo>
                  <a:lnTo>
                    <a:pt x="71" y="746"/>
                  </a:lnTo>
                  <a:lnTo>
                    <a:pt x="59" y="727"/>
                  </a:lnTo>
                  <a:lnTo>
                    <a:pt x="47" y="706"/>
                  </a:lnTo>
                  <a:lnTo>
                    <a:pt x="35" y="679"/>
                  </a:lnTo>
                  <a:lnTo>
                    <a:pt x="23" y="649"/>
                  </a:lnTo>
                  <a:lnTo>
                    <a:pt x="0" y="577"/>
                  </a:lnTo>
                  <a:close/>
                  <a:moveTo>
                    <a:pt x="873" y="112"/>
                  </a:moveTo>
                  <a:lnTo>
                    <a:pt x="860" y="110"/>
                  </a:lnTo>
                  <a:lnTo>
                    <a:pt x="845" y="108"/>
                  </a:lnTo>
                  <a:lnTo>
                    <a:pt x="830" y="106"/>
                  </a:lnTo>
                  <a:lnTo>
                    <a:pt x="814" y="105"/>
                  </a:lnTo>
                  <a:lnTo>
                    <a:pt x="778" y="103"/>
                  </a:lnTo>
                  <a:lnTo>
                    <a:pt x="739" y="102"/>
                  </a:lnTo>
                  <a:lnTo>
                    <a:pt x="716" y="103"/>
                  </a:lnTo>
                  <a:lnTo>
                    <a:pt x="694" y="105"/>
                  </a:lnTo>
                  <a:lnTo>
                    <a:pt x="672" y="108"/>
                  </a:lnTo>
                  <a:lnTo>
                    <a:pt x="651" y="112"/>
                  </a:lnTo>
                  <a:lnTo>
                    <a:pt x="631" y="118"/>
                  </a:lnTo>
                  <a:lnTo>
                    <a:pt x="611" y="125"/>
                  </a:lnTo>
                  <a:lnTo>
                    <a:pt x="592" y="133"/>
                  </a:lnTo>
                  <a:lnTo>
                    <a:pt x="573" y="143"/>
                  </a:lnTo>
                  <a:lnTo>
                    <a:pt x="564" y="148"/>
                  </a:lnTo>
                  <a:lnTo>
                    <a:pt x="556" y="153"/>
                  </a:lnTo>
                  <a:lnTo>
                    <a:pt x="548" y="158"/>
                  </a:lnTo>
                  <a:lnTo>
                    <a:pt x="541" y="164"/>
                  </a:lnTo>
                  <a:lnTo>
                    <a:pt x="534" y="170"/>
                  </a:lnTo>
                  <a:lnTo>
                    <a:pt x="528" y="176"/>
                  </a:lnTo>
                  <a:lnTo>
                    <a:pt x="523" y="182"/>
                  </a:lnTo>
                  <a:lnTo>
                    <a:pt x="518" y="189"/>
                  </a:lnTo>
                  <a:lnTo>
                    <a:pt x="514" y="195"/>
                  </a:lnTo>
                  <a:lnTo>
                    <a:pt x="510" y="202"/>
                  </a:lnTo>
                  <a:lnTo>
                    <a:pt x="507" y="208"/>
                  </a:lnTo>
                  <a:lnTo>
                    <a:pt x="505" y="215"/>
                  </a:lnTo>
                  <a:lnTo>
                    <a:pt x="503" y="223"/>
                  </a:lnTo>
                  <a:lnTo>
                    <a:pt x="501" y="230"/>
                  </a:lnTo>
                  <a:lnTo>
                    <a:pt x="500" y="238"/>
                  </a:lnTo>
                  <a:lnTo>
                    <a:pt x="500" y="245"/>
                  </a:lnTo>
                  <a:lnTo>
                    <a:pt x="501" y="258"/>
                  </a:lnTo>
                  <a:lnTo>
                    <a:pt x="503" y="270"/>
                  </a:lnTo>
                  <a:lnTo>
                    <a:pt x="507" y="282"/>
                  </a:lnTo>
                  <a:lnTo>
                    <a:pt x="512" y="292"/>
                  </a:lnTo>
                  <a:lnTo>
                    <a:pt x="519" y="301"/>
                  </a:lnTo>
                  <a:lnTo>
                    <a:pt x="527" y="311"/>
                  </a:lnTo>
                  <a:lnTo>
                    <a:pt x="537" y="318"/>
                  </a:lnTo>
                  <a:lnTo>
                    <a:pt x="549" y="325"/>
                  </a:lnTo>
                  <a:lnTo>
                    <a:pt x="562" y="331"/>
                  </a:lnTo>
                  <a:lnTo>
                    <a:pt x="576" y="336"/>
                  </a:lnTo>
                  <a:lnTo>
                    <a:pt x="592" y="341"/>
                  </a:lnTo>
                  <a:lnTo>
                    <a:pt x="610" y="345"/>
                  </a:lnTo>
                  <a:lnTo>
                    <a:pt x="629" y="348"/>
                  </a:lnTo>
                  <a:lnTo>
                    <a:pt x="649" y="350"/>
                  </a:lnTo>
                  <a:lnTo>
                    <a:pt x="671" y="351"/>
                  </a:lnTo>
                  <a:lnTo>
                    <a:pt x="695" y="351"/>
                  </a:lnTo>
                  <a:lnTo>
                    <a:pt x="715" y="351"/>
                  </a:lnTo>
                  <a:lnTo>
                    <a:pt x="736" y="351"/>
                  </a:lnTo>
                  <a:lnTo>
                    <a:pt x="759" y="349"/>
                  </a:lnTo>
                  <a:lnTo>
                    <a:pt x="784" y="347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5760" y="1236600"/>
              <a:ext cx="582480" cy="297000"/>
            </a:xfrm>
            <a:custGeom>
              <a:avLst/>
              <a:gdLst/>
              <a:ahLst/>
              <a:rect l="l" t="t" r="r" b="b"/>
              <a:pathLst>
                <a:path w="1618" h="823">
                  <a:moveTo>
                    <a:pt x="392" y="242"/>
                  </a:moveTo>
                  <a:lnTo>
                    <a:pt x="314" y="193"/>
                  </a:lnTo>
                  <a:lnTo>
                    <a:pt x="378" y="148"/>
                  </a:lnTo>
                  <a:lnTo>
                    <a:pt x="438" y="108"/>
                  </a:lnTo>
                  <a:lnTo>
                    <a:pt x="495" y="75"/>
                  </a:lnTo>
                  <a:lnTo>
                    <a:pt x="547" y="48"/>
                  </a:lnTo>
                  <a:lnTo>
                    <a:pt x="596" y="27"/>
                  </a:lnTo>
                  <a:lnTo>
                    <a:pt x="619" y="18"/>
                  </a:lnTo>
                  <a:lnTo>
                    <a:pt x="641" y="12"/>
                  </a:lnTo>
                  <a:lnTo>
                    <a:pt x="662" y="6"/>
                  </a:lnTo>
                  <a:lnTo>
                    <a:pt x="682" y="3"/>
                  </a:lnTo>
                  <a:lnTo>
                    <a:pt x="701" y="0"/>
                  </a:lnTo>
                  <a:lnTo>
                    <a:pt x="719" y="0"/>
                  </a:lnTo>
                  <a:lnTo>
                    <a:pt x="729" y="0"/>
                  </a:lnTo>
                  <a:lnTo>
                    <a:pt x="739" y="1"/>
                  </a:lnTo>
                  <a:lnTo>
                    <a:pt x="748" y="2"/>
                  </a:lnTo>
                  <a:lnTo>
                    <a:pt x="756" y="4"/>
                  </a:lnTo>
                  <a:lnTo>
                    <a:pt x="764" y="6"/>
                  </a:lnTo>
                  <a:lnTo>
                    <a:pt x="772" y="10"/>
                  </a:lnTo>
                  <a:lnTo>
                    <a:pt x="778" y="13"/>
                  </a:lnTo>
                  <a:lnTo>
                    <a:pt x="785" y="18"/>
                  </a:lnTo>
                  <a:lnTo>
                    <a:pt x="790" y="23"/>
                  </a:lnTo>
                  <a:lnTo>
                    <a:pt x="795" y="28"/>
                  </a:lnTo>
                  <a:lnTo>
                    <a:pt x="800" y="34"/>
                  </a:lnTo>
                  <a:lnTo>
                    <a:pt x="804" y="40"/>
                  </a:lnTo>
                  <a:lnTo>
                    <a:pt x="807" y="48"/>
                  </a:lnTo>
                  <a:lnTo>
                    <a:pt x="810" y="56"/>
                  </a:lnTo>
                  <a:lnTo>
                    <a:pt x="812" y="64"/>
                  </a:lnTo>
                  <a:lnTo>
                    <a:pt x="814" y="73"/>
                  </a:lnTo>
                  <a:lnTo>
                    <a:pt x="887" y="615"/>
                  </a:lnTo>
                  <a:lnTo>
                    <a:pt x="1350" y="22"/>
                  </a:lnTo>
                  <a:lnTo>
                    <a:pt x="1557" y="22"/>
                  </a:lnTo>
                  <a:lnTo>
                    <a:pt x="1443" y="359"/>
                  </a:lnTo>
                  <a:lnTo>
                    <a:pt x="1371" y="570"/>
                  </a:lnTo>
                  <a:lnTo>
                    <a:pt x="1353" y="632"/>
                  </a:lnTo>
                  <a:lnTo>
                    <a:pt x="1349" y="652"/>
                  </a:lnTo>
                  <a:lnTo>
                    <a:pt x="1347" y="659"/>
                  </a:lnTo>
                  <a:lnTo>
                    <a:pt x="1347" y="665"/>
                  </a:lnTo>
                  <a:lnTo>
                    <a:pt x="1347" y="668"/>
                  </a:lnTo>
                  <a:lnTo>
                    <a:pt x="1348" y="671"/>
                  </a:lnTo>
                  <a:lnTo>
                    <a:pt x="1348" y="673"/>
                  </a:lnTo>
                  <a:lnTo>
                    <a:pt x="1348" y="675"/>
                  </a:lnTo>
                  <a:lnTo>
                    <a:pt x="1349" y="676"/>
                  </a:lnTo>
                  <a:lnTo>
                    <a:pt x="1349" y="677"/>
                  </a:lnTo>
                  <a:lnTo>
                    <a:pt x="1350" y="678"/>
                  </a:lnTo>
                  <a:lnTo>
                    <a:pt x="1351" y="679"/>
                  </a:lnTo>
                  <a:lnTo>
                    <a:pt x="1351" y="680"/>
                  </a:lnTo>
                  <a:lnTo>
                    <a:pt x="1352" y="681"/>
                  </a:lnTo>
                  <a:lnTo>
                    <a:pt x="1352" y="681"/>
                  </a:lnTo>
                  <a:lnTo>
                    <a:pt x="1353" y="681"/>
                  </a:lnTo>
                  <a:lnTo>
                    <a:pt x="1353" y="681"/>
                  </a:lnTo>
                  <a:lnTo>
                    <a:pt x="1354" y="681"/>
                  </a:lnTo>
                  <a:lnTo>
                    <a:pt x="1354" y="681"/>
                  </a:lnTo>
                  <a:lnTo>
                    <a:pt x="1355" y="681"/>
                  </a:lnTo>
                  <a:lnTo>
                    <a:pt x="1355" y="681"/>
                  </a:lnTo>
                  <a:lnTo>
                    <a:pt x="1356" y="681"/>
                  </a:lnTo>
                  <a:lnTo>
                    <a:pt x="1358" y="681"/>
                  </a:lnTo>
                  <a:lnTo>
                    <a:pt x="1361" y="681"/>
                  </a:lnTo>
                  <a:lnTo>
                    <a:pt x="1366" y="680"/>
                  </a:lnTo>
                  <a:lnTo>
                    <a:pt x="1373" y="678"/>
                  </a:lnTo>
                  <a:lnTo>
                    <a:pt x="1381" y="674"/>
                  </a:lnTo>
                  <a:lnTo>
                    <a:pt x="1399" y="665"/>
                  </a:lnTo>
                  <a:lnTo>
                    <a:pt x="1422" y="652"/>
                  </a:lnTo>
                  <a:lnTo>
                    <a:pt x="1479" y="615"/>
                  </a:lnTo>
                  <a:lnTo>
                    <a:pt x="1553" y="565"/>
                  </a:lnTo>
                  <a:lnTo>
                    <a:pt x="1617" y="617"/>
                  </a:lnTo>
                  <a:lnTo>
                    <a:pt x="1556" y="665"/>
                  </a:lnTo>
                  <a:lnTo>
                    <a:pt x="1499" y="707"/>
                  </a:lnTo>
                  <a:lnTo>
                    <a:pt x="1446" y="742"/>
                  </a:lnTo>
                  <a:lnTo>
                    <a:pt x="1397" y="771"/>
                  </a:lnTo>
                  <a:lnTo>
                    <a:pt x="1351" y="793"/>
                  </a:lnTo>
                  <a:lnTo>
                    <a:pt x="1330" y="802"/>
                  </a:lnTo>
                  <a:lnTo>
                    <a:pt x="1310" y="809"/>
                  </a:lnTo>
                  <a:lnTo>
                    <a:pt x="1291" y="815"/>
                  </a:lnTo>
                  <a:lnTo>
                    <a:pt x="1272" y="819"/>
                  </a:lnTo>
                  <a:lnTo>
                    <a:pt x="1255" y="821"/>
                  </a:lnTo>
                  <a:lnTo>
                    <a:pt x="1239" y="822"/>
                  </a:lnTo>
                  <a:lnTo>
                    <a:pt x="1234" y="822"/>
                  </a:lnTo>
                  <a:lnTo>
                    <a:pt x="1229" y="821"/>
                  </a:lnTo>
                  <a:lnTo>
                    <a:pt x="1223" y="821"/>
                  </a:lnTo>
                  <a:lnTo>
                    <a:pt x="1218" y="821"/>
                  </a:lnTo>
                  <a:lnTo>
                    <a:pt x="1213" y="819"/>
                  </a:lnTo>
                  <a:lnTo>
                    <a:pt x="1208" y="818"/>
                  </a:lnTo>
                  <a:lnTo>
                    <a:pt x="1203" y="817"/>
                  </a:lnTo>
                  <a:lnTo>
                    <a:pt x="1198" y="815"/>
                  </a:lnTo>
                  <a:lnTo>
                    <a:pt x="1189" y="811"/>
                  </a:lnTo>
                  <a:lnTo>
                    <a:pt x="1179" y="807"/>
                  </a:lnTo>
                  <a:lnTo>
                    <a:pt x="1169" y="801"/>
                  </a:lnTo>
                  <a:lnTo>
                    <a:pt x="1160" y="795"/>
                  </a:lnTo>
                  <a:lnTo>
                    <a:pt x="1156" y="791"/>
                  </a:lnTo>
                  <a:lnTo>
                    <a:pt x="1152" y="788"/>
                  </a:lnTo>
                  <a:lnTo>
                    <a:pt x="1148" y="784"/>
                  </a:lnTo>
                  <a:lnTo>
                    <a:pt x="1144" y="780"/>
                  </a:lnTo>
                  <a:lnTo>
                    <a:pt x="1141" y="776"/>
                  </a:lnTo>
                  <a:lnTo>
                    <a:pt x="1138" y="771"/>
                  </a:lnTo>
                  <a:lnTo>
                    <a:pt x="1135" y="767"/>
                  </a:lnTo>
                  <a:lnTo>
                    <a:pt x="1133" y="762"/>
                  </a:lnTo>
                  <a:lnTo>
                    <a:pt x="1129" y="752"/>
                  </a:lnTo>
                  <a:lnTo>
                    <a:pt x="1126" y="742"/>
                  </a:lnTo>
                  <a:lnTo>
                    <a:pt x="1125" y="731"/>
                  </a:lnTo>
                  <a:lnTo>
                    <a:pt x="1124" y="719"/>
                  </a:lnTo>
                  <a:lnTo>
                    <a:pt x="1125" y="701"/>
                  </a:lnTo>
                  <a:lnTo>
                    <a:pt x="1129" y="677"/>
                  </a:lnTo>
                  <a:lnTo>
                    <a:pt x="1145" y="612"/>
                  </a:lnTo>
                  <a:lnTo>
                    <a:pt x="1170" y="525"/>
                  </a:lnTo>
                  <a:lnTo>
                    <a:pt x="1207" y="416"/>
                  </a:lnTo>
                  <a:lnTo>
                    <a:pt x="1278" y="229"/>
                  </a:lnTo>
                  <a:lnTo>
                    <a:pt x="834" y="814"/>
                  </a:lnTo>
                  <a:lnTo>
                    <a:pt x="709" y="814"/>
                  </a:lnTo>
                  <a:lnTo>
                    <a:pt x="642" y="292"/>
                  </a:lnTo>
                  <a:lnTo>
                    <a:pt x="577" y="454"/>
                  </a:lnTo>
                  <a:lnTo>
                    <a:pt x="546" y="521"/>
                  </a:lnTo>
                  <a:lnTo>
                    <a:pt x="515" y="580"/>
                  </a:lnTo>
                  <a:lnTo>
                    <a:pt x="485" y="631"/>
                  </a:lnTo>
                  <a:lnTo>
                    <a:pt x="456" y="673"/>
                  </a:lnTo>
                  <a:lnTo>
                    <a:pt x="442" y="690"/>
                  </a:lnTo>
                  <a:lnTo>
                    <a:pt x="428" y="706"/>
                  </a:lnTo>
                  <a:lnTo>
                    <a:pt x="414" y="720"/>
                  </a:lnTo>
                  <a:lnTo>
                    <a:pt x="400" y="731"/>
                  </a:lnTo>
                  <a:lnTo>
                    <a:pt x="372" y="751"/>
                  </a:lnTo>
                  <a:lnTo>
                    <a:pt x="344" y="768"/>
                  </a:lnTo>
                  <a:lnTo>
                    <a:pt x="314" y="782"/>
                  </a:lnTo>
                  <a:lnTo>
                    <a:pt x="299" y="788"/>
                  </a:lnTo>
                  <a:lnTo>
                    <a:pt x="284" y="794"/>
                  </a:lnTo>
                  <a:lnTo>
                    <a:pt x="268" y="799"/>
                  </a:lnTo>
                  <a:lnTo>
                    <a:pt x="252" y="803"/>
                  </a:lnTo>
                  <a:lnTo>
                    <a:pt x="236" y="806"/>
                  </a:lnTo>
                  <a:lnTo>
                    <a:pt x="220" y="809"/>
                  </a:lnTo>
                  <a:lnTo>
                    <a:pt x="204" y="811"/>
                  </a:lnTo>
                  <a:lnTo>
                    <a:pt x="187" y="813"/>
                  </a:lnTo>
                  <a:lnTo>
                    <a:pt x="170" y="815"/>
                  </a:lnTo>
                  <a:lnTo>
                    <a:pt x="153" y="815"/>
                  </a:lnTo>
                  <a:lnTo>
                    <a:pt x="135" y="814"/>
                  </a:lnTo>
                  <a:lnTo>
                    <a:pt x="118" y="813"/>
                  </a:lnTo>
                  <a:lnTo>
                    <a:pt x="103" y="810"/>
                  </a:lnTo>
                  <a:lnTo>
                    <a:pt x="88" y="807"/>
                  </a:lnTo>
                  <a:lnTo>
                    <a:pt x="81" y="805"/>
                  </a:lnTo>
                  <a:lnTo>
                    <a:pt x="74" y="803"/>
                  </a:lnTo>
                  <a:lnTo>
                    <a:pt x="68" y="800"/>
                  </a:lnTo>
                  <a:lnTo>
                    <a:pt x="62" y="798"/>
                  </a:lnTo>
                  <a:lnTo>
                    <a:pt x="56" y="795"/>
                  </a:lnTo>
                  <a:lnTo>
                    <a:pt x="50" y="791"/>
                  </a:lnTo>
                  <a:lnTo>
                    <a:pt x="45" y="788"/>
                  </a:lnTo>
                  <a:lnTo>
                    <a:pt x="40" y="784"/>
                  </a:lnTo>
                  <a:lnTo>
                    <a:pt x="31" y="776"/>
                  </a:lnTo>
                  <a:lnTo>
                    <a:pt x="22" y="768"/>
                  </a:lnTo>
                  <a:lnTo>
                    <a:pt x="15" y="759"/>
                  </a:lnTo>
                  <a:lnTo>
                    <a:pt x="13" y="755"/>
                  </a:lnTo>
                  <a:lnTo>
                    <a:pt x="10" y="751"/>
                  </a:lnTo>
                  <a:lnTo>
                    <a:pt x="8" y="746"/>
                  </a:lnTo>
                  <a:lnTo>
                    <a:pt x="6" y="741"/>
                  </a:lnTo>
                  <a:lnTo>
                    <a:pt x="4" y="737"/>
                  </a:lnTo>
                  <a:lnTo>
                    <a:pt x="2" y="732"/>
                  </a:lnTo>
                  <a:lnTo>
                    <a:pt x="1" y="722"/>
                  </a:lnTo>
                  <a:lnTo>
                    <a:pt x="0" y="712"/>
                  </a:lnTo>
                  <a:lnTo>
                    <a:pt x="1" y="703"/>
                  </a:lnTo>
                  <a:lnTo>
                    <a:pt x="2" y="693"/>
                  </a:lnTo>
                  <a:lnTo>
                    <a:pt x="5" y="684"/>
                  </a:lnTo>
                  <a:lnTo>
                    <a:pt x="9" y="675"/>
                  </a:lnTo>
                  <a:lnTo>
                    <a:pt x="14" y="667"/>
                  </a:lnTo>
                  <a:lnTo>
                    <a:pt x="20" y="659"/>
                  </a:lnTo>
                  <a:lnTo>
                    <a:pt x="27" y="651"/>
                  </a:lnTo>
                  <a:lnTo>
                    <a:pt x="35" y="643"/>
                  </a:lnTo>
                  <a:lnTo>
                    <a:pt x="44" y="637"/>
                  </a:lnTo>
                  <a:lnTo>
                    <a:pt x="49" y="633"/>
                  </a:lnTo>
                  <a:lnTo>
                    <a:pt x="54" y="630"/>
                  </a:lnTo>
                  <a:lnTo>
                    <a:pt x="59" y="628"/>
                  </a:lnTo>
                  <a:lnTo>
                    <a:pt x="64" y="625"/>
                  </a:lnTo>
                  <a:lnTo>
                    <a:pt x="70" y="623"/>
                  </a:lnTo>
                  <a:lnTo>
                    <a:pt x="75" y="621"/>
                  </a:lnTo>
                  <a:lnTo>
                    <a:pt x="81" y="619"/>
                  </a:lnTo>
                  <a:lnTo>
                    <a:pt x="86" y="618"/>
                  </a:lnTo>
                  <a:lnTo>
                    <a:pt x="92" y="616"/>
                  </a:lnTo>
                  <a:lnTo>
                    <a:pt x="98" y="615"/>
                  </a:lnTo>
                  <a:lnTo>
                    <a:pt x="104" y="614"/>
                  </a:lnTo>
                  <a:lnTo>
                    <a:pt x="111" y="614"/>
                  </a:lnTo>
                  <a:lnTo>
                    <a:pt x="124" y="613"/>
                  </a:lnTo>
                  <a:lnTo>
                    <a:pt x="132" y="613"/>
                  </a:lnTo>
                  <a:lnTo>
                    <a:pt x="141" y="614"/>
                  </a:lnTo>
                  <a:lnTo>
                    <a:pt x="150" y="615"/>
                  </a:lnTo>
                  <a:lnTo>
                    <a:pt x="160" y="617"/>
                  </a:lnTo>
                  <a:lnTo>
                    <a:pt x="169" y="619"/>
                  </a:lnTo>
                  <a:lnTo>
                    <a:pt x="180" y="622"/>
                  </a:lnTo>
                  <a:lnTo>
                    <a:pt x="191" y="624"/>
                  </a:lnTo>
                  <a:lnTo>
                    <a:pt x="202" y="628"/>
                  </a:lnTo>
                  <a:lnTo>
                    <a:pt x="222" y="633"/>
                  </a:lnTo>
                  <a:lnTo>
                    <a:pt x="239" y="637"/>
                  </a:lnTo>
                  <a:lnTo>
                    <a:pt x="246" y="638"/>
                  </a:lnTo>
                  <a:lnTo>
                    <a:pt x="252" y="639"/>
                  </a:lnTo>
                  <a:lnTo>
                    <a:pt x="257" y="640"/>
                  </a:lnTo>
                  <a:lnTo>
                    <a:pt x="262" y="640"/>
                  </a:lnTo>
                  <a:lnTo>
                    <a:pt x="267" y="640"/>
                  </a:lnTo>
                  <a:lnTo>
                    <a:pt x="272" y="639"/>
                  </a:lnTo>
                  <a:lnTo>
                    <a:pt x="277" y="638"/>
                  </a:lnTo>
                  <a:lnTo>
                    <a:pt x="283" y="637"/>
                  </a:lnTo>
                  <a:lnTo>
                    <a:pt x="288" y="635"/>
                  </a:lnTo>
                  <a:lnTo>
                    <a:pt x="294" y="634"/>
                  </a:lnTo>
                  <a:lnTo>
                    <a:pt x="299" y="631"/>
                  </a:lnTo>
                  <a:lnTo>
                    <a:pt x="305" y="629"/>
                  </a:lnTo>
                  <a:lnTo>
                    <a:pt x="316" y="623"/>
                  </a:lnTo>
                  <a:lnTo>
                    <a:pt x="327" y="615"/>
                  </a:lnTo>
                  <a:lnTo>
                    <a:pt x="339" y="606"/>
                  </a:lnTo>
                  <a:lnTo>
                    <a:pt x="351" y="597"/>
                  </a:lnTo>
                  <a:lnTo>
                    <a:pt x="357" y="591"/>
                  </a:lnTo>
                  <a:lnTo>
                    <a:pt x="364" y="584"/>
                  </a:lnTo>
                  <a:lnTo>
                    <a:pt x="378" y="566"/>
                  </a:lnTo>
                  <a:lnTo>
                    <a:pt x="395" y="544"/>
                  </a:lnTo>
                  <a:lnTo>
                    <a:pt x="413" y="518"/>
                  </a:lnTo>
                  <a:lnTo>
                    <a:pt x="453" y="451"/>
                  </a:lnTo>
                  <a:lnTo>
                    <a:pt x="501" y="366"/>
                  </a:lnTo>
                  <a:lnTo>
                    <a:pt x="546" y="282"/>
                  </a:lnTo>
                  <a:lnTo>
                    <a:pt x="578" y="216"/>
                  </a:lnTo>
                  <a:lnTo>
                    <a:pt x="589" y="190"/>
                  </a:lnTo>
                  <a:lnTo>
                    <a:pt x="597" y="170"/>
                  </a:lnTo>
                  <a:lnTo>
                    <a:pt x="601" y="154"/>
                  </a:lnTo>
                  <a:lnTo>
                    <a:pt x="603" y="148"/>
                  </a:lnTo>
                  <a:lnTo>
                    <a:pt x="603" y="143"/>
                  </a:lnTo>
                  <a:lnTo>
                    <a:pt x="603" y="142"/>
                  </a:lnTo>
                  <a:lnTo>
                    <a:pt x="603" y="142"/>
                  </a:lnTo>
                  <a:lnTo>
                    <a:pt x="603" y="141"/>
                  </a:lnTo>
                  <a:lnTo>
                    <a:pt x="603" y="141"/>
                  </a:lnTo>
                  <a:lnTo>
                    <a:pt x="602" y="141"/>
                  </a:lnTo>
                  <a:lnTo>
                    <a:pt x="602" y="140"/>
                  </a:lnTo>
                  <a:lnTo>
                    <a:pt x="602" y="140"/>
                  </a:lnTo>
                  <a:lnTo>
                    <a:pt x="602" y="140"/>
                  </a:lnTo>
                  <a:lnTo>
                    <a:pt x="601" y="140"/>
                  </a:lnTo>
                  <a:lnTo>
                    <a:pt x="601" y="140"/>
                  </a:lnTo>
                  <a:lnTo>
                    <a:pt x="600" y="140"/>
                  </a:lnTo>
                  <a:lnTo>
                    <a:pt x="600" y="139"/>
                  </a:lnTo>
                  <a:lnTo>
                    <a:pt x="600" y="139"/>
                  </a:lnTo>
                  <a:lnTo>
                    <a:pt x="599" y="139"/>
                  </a:lnTo>
                  <a:lnTo>
                    <a:pt x="599" y="139"/>
                  </a:lnTo>
                  <a:lnTo>
                    <a:pt x="598" y="139"/>
                  </a:lnTo>
                  <a:lnTo>
                    <a:pt x="590" y="140"/>
                  </a:lnTo>
                  <a:lnTo>
                    <a:pt x="582" y="140"/>
                  </a:lnTo>
                  <a:lnTo>
                    <a:pt x="572" y="143"/>
                  </a:lnTo>
                  <a:lnTo>
                    <a:pt x="563" y="145"/>
                  </a:lnTo>
                  <a:lnTo>
                    <a:pt x="552" y="149"/>
                  </a:lnTo>
                  <a:lnTo>
                    <a:pt x="541" y="153"/>
                  </a:lnTo>
                  <a:lnTo>
                    <a:pt x="516" y="164"/>
                  </a:lnTo>
                  <a:lnTo>
                    <a:pt x="489" y="179"/>
                  </a:lnTo>
                  <a:lnTo>
                    <a:pt x="459" y="197"/>
                  </a:lnTo>
                  <a:lnTo>
                    <a:pt x="427" y="218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32280" y="1235160"/>
              <a:ext cx="442800" cy="457200"/>
            </a:xfrm>
            <a:custGeom>
              <a:avLst/>
              <a:gdLst/>
              <a:ahLst/>
              <a:rect l="l" t="t" r="r" b="b"/>
              <a:pathLst>
                <a:path w="1232" h="1268">
                  <a:moveTo>
                    <a:pt x="293" y="223"/>
                  </a:moveTo>
                  <a:lnTo>
                    <a:pt x="238" y="158"/>
                  </a:lnTo>
                  <a:lnTo>
                    <a:pt x="348" y="100"/>
                  </a:lnTo>
                  <a:lnTo>
                    <a:pt x="403" y="70"/>
                  </a:lnTo>
                  <a:lnTo>
                    <a:pt x="449" y="47"/>
                  </a:lnTo>
                  <a:lnTo>
                    <a:pt x="488" y="29"/>
                  </a:lnTo>
                  <a:lnTo>
                    <a:pt x="505" y="22"/>
                  </a:lnTo>
                  <a:lnTo>
                    <a:pt x="519" y="16"/>
                  </a:lnTo>
                  <a:lnTo>
                    <a:pt x="528" y="13"/>
                  </a:lnTo>
                  <a:lnTo>
                    <a:pt x="537" y="11"/>
                  </a:lnTo>
                  <a:lnTo>
                    <a:pt x="545" y="8"/>
                  </a:lnTo>
                  <a:lnTo>
                    <a:pt x="554" y="7"/>
                  </a:lnTo>
                  <a:lnTo>
                    <a:pt x="562" y="5"/>
                  </a:lnTo>
                  <a:lnTo>
                    <a:pt x="570" y="5"/>
                  </a:lnTo>
                  <a:lnTo>
                    <a:pt x="577" y="4"/>
                  </a:lnTo>
                  <a:lnTo>
                    <a:pt x="585" y="4"/>
                  </a:lnTo>
                  <a:lnTo>
                    <a:pt x="590" y="4"/>
                  </a:lnTo>
                  <a:lnTo>
                    <a:pt x="594" y="5"/>
                  </a:lnTo>
                  <a:lnTo>
                    <a:pt x="599" y="5"/>
                  </a:lnTo>
                  <a:lnTo>
                    <a:pt x="603" y="5"/>
                  </a:lnTo>
                  <a:lnTo>
                    <a:pt x="608" y="7"/>
                  </a:lnTo>
                  <a:lnTo>
                    <a:pt x="612" y="8"/>
                  </a:lnTo>
                  <a:lnTo>
                    <a:pt x="616" y="9"/>
                  </a:lnTo>
                  <a:lnTo>
                    <a:pt x="620" y="11"/>
                  </a:lnTo>
                  <a:lnTo>
                    <a:pt x="625" y="13"/>
                  </a:lnTo>
                  <a:lnTo>
                    <a:pt x="629" y="14"/>
                  </a:lnTo>
                  <a:lnTo>
                    <a:pt x="633" y="17"/>
                  </a:lnTo>
                  <a:lnTo>
                    <a:pt x="637" y="20"/>
                  </a:lnTo>
                  <a:lnTo>
                    <a:pt x="644" y="25"/>
                  </a:lnTo>
                  <a:lnTo>
                    <a:pt x="652" y="32"/>
                  </a:lnTo>
                  <a:lnTo>
                    <a:pt x="678" y="59"/>
                  </a:lnTo>
                  <a:lnTo>
                    <a:pt x="703" y="88"/>
                  </a:lnTo>
                  <a:lnTo>
                    <a:pt x="727" y="119"/>
                  </a:lnTo>
                  <a:lnTo>
                    <a:pt x="750" y="152"/>
                  </a:lnTo>
                  <a:lnTo>
                    <a:pt x="772" y="188"/>
                  </a:lnTo>
                  <a:lnTo>
                    <a:pt x="793" y="225"/>
                  </a:lnTo>
                  <a:lnTo>
                    <a:pt x="813" y="265"/>
                  </a:lnTo>
                  <a:lnTo>
                    <a:pt x="832" y="307"/>
                  </a:lnTo>
                  <a:lnTo>
                    <a:pt x="849" y="350"/>
                  </a:lnTo>
                  <a:lnTo>
                    <a:pt x="864" y="393"/>
                  </a:lnTo>
                  <a:lnTo>
                    <a:pt x="876" y="435"/>
                  </a:lnTo>
                  <a:lnTo>
                    <a:pt x="886" y="477"/>
                  </a:lnTo>
                  <a:lnTo>
                    <a:pt x="894" y="518"/>
                  </a:lnTo>
                  <a:lnTo>
                    <a:pt x="900" y="560"/>
                  </a:lnTo>
                  <a:lnTo>
                    <a:pt x="903" y="601"/>
                  </a:lnTo>
                  <a:lnTo>
                    <a:pt x="904" y="641"/>
                  </a:lnTo>
                  <a:lnTo>
                    <a:pt x="904" y="659"/>
                  </a:lnTo>
                  <a:lnTo>
                    <a:pt x="903" y="671"/>
                  </a:lnTo>
                  <a:lnTo>
                    <a:pt x="902" y="685"/>
                  </a:lnTo>
                  <a:lnTo>
                    <a:pt x="968" y="558"/>
                  </a:lnTo>
                  <a:lnTo>
                    <a:pt x="994" y="500"/>
                  </a:lnTo>
                  <a:lnTo>
                    <a:pt x="1015" y="446"/>
                  </a:lnTo>
                  <a:lnTo>
                    <a:pt x="1032" y="393"/>
                  </a:lnTo>
                  <a:lnTo>
                    <a:pt x="1043" y="346"/>
                  </a:lnTo>
                  <a:lnTo>
                    <a:pt x="1051" y="300"/>
                  </a:lnTo>
                  <a:lnTo>
                    <a:pt x="1053" y="259"/>
                  </a:lnTo>
                  <a:lnTo>
                    <a:pt x="1053" y="250"/>
                  </a:lnTo>
                  <a:lnTo>
                    <a:pt x="1052" y="241"/>
                  </a:lnTo>
                  <a:lnTo>
                    <a:pt x="1048" y="218"/>
                  </a:lnTo>
                  <a:lnTo>
                    <a:pt x="1042" y="189"/>
                  </a:lnTo>
                  <a:lnTo>
                    <a:pt x="1033" y="156"/>
                  </a:lnTo>
                  <a:lnTo>
                    <a:pt x="1024" y="133"/>
                  </a:lnTo>
                  <a:lnTo>
                    <a:pt x="1020" y="123"/>
                  </a:lnTo>
                  <a:lnTo>
                    <a:pt x="1017" y="113"/>
                  </a:lnTo>
                  <a:lnTo>
                    <a:pt x="1014" y="104"/>
                  </a:lnTo>
                  <a:lnTo>
                    <a:pt x="1012" y="95"/>
                  </a:lnTo>
                  <a:lnTo>
                    <a:pt x="1011" y="86"/>
                  </a:lnTo>
                  <a:lnTo>
                    <a:pt x="1011" y="79"/>
                  </a:lnTo>
                  <a:lnTo>
                    <a:pt x="1011" y="70"/>
                  </a:lnTo>
                  <a:lnTo>
                    <a:pt x="1013" y="62"/>
                  </a:lnTo>
                  <a:lnTo>
                    <a:pt x="1015" y="54"/>
                  </a:lnTo>
                  <a:lnTo>
                    <a:pt x="1017" y="51"/>
                  </a:lnTo>
                  <a:lnTo>
                    <a:pt x="1018" y="48"/>
                  </a:lnTo>
                  <a:lnTo>
                    <a:pt x="1020" y="44"/>
                  </a:lnTo>
                  <a:lnTo>
                    <a:pt x="1022" y="41"/>
                  </a:lnTo>
                  <a:lnTo>
                    <a:pt x="1025" y="38"/>
                  </a:lnTo>
                  <a:lnTo>
                    <a:pt x="1027" y="34"/>
                  </a:lnTo>
                  <a:lnTo>
                    <a:pt x="1030" y="31"/>
                  </a:lnTo>
                  <a:lnTo>
                    <a:pt x="1033" y="28"/>
                  </a:lnTo>
                  <a:lnTo>
                    <a:pt x="1040" y="23"/>
                  </a:lnTo>
                  <a:lnTo>
                    <a:pt x="1048" y="17"/>
                  </a:lnTo>
                  <a:lnTo>
                    <a:pt x="1056" y="13"/>
                  </a:lnTo>
                  <a:lnTo>
                    <a:pt x="1060" y="11"/>
                  </a:lnTo>
                  <a:lnTo>
                    <a:pt x="1064" y="9"/>
                  </a:lnTo>
                  <a:lnTo>
                    <a:pt x="1069" y="7"/>
                  </a:lnTo>
                  <a:lnTo>
                    <a:pt x="1073" y="6"/>
                  </a:lnTo>
                  <a:lnTo>
                    <a:pt x="1078" y="5"/>
                  </a:lnTo>
                  <a:lnTo>
                    <a:pt x="1082" y="3"/>
                  </a:lnTo>
                  <a:lnTo>
                    <a:pt x="1087" y="2"/>
                  </a:lnTo>
                  <a:lnTo>
                    <a:pt x="1092" y="1"/>
                  </a:lnTo>
                  <a:lnTo>
                    <a:pt x="1102" y="0"/>
                  </a:lnTo>
                  <a:lnTo>
                    <a:pt x="1113" y="0"/>
                  </a:lnTo>
                  <a:lnTo>
                    <a:pt x="1126" y="1"/>
                  </a:lnTo>
                  <a:lnTo>
                    <a:pt x="1132" y="1"/>
                  </a:lnTo>
                  <a:lnTo>
                    <a:pt x="1139" y="1"/>
                  </a:lnTo>
                  <a:lnTo>
                    <a:pt x="1144" y="3"/>
                  </a:lnTo>
                  <a:lnTo>
                    <a:pt x="1150" y="5"/>
                  </a:lnTo>
                  <a:lnTo>
                    <a:pt x="1156" y="6"/>
                  </a:lnTo>
                  <a:lnTo>
                    <a:pt x="1161" y="8"/>
                  </a:lnTo>
                  <a:lnTo>
                    <a:pt x="1167" y="10"/>
                  </a:lnTo>
                  <a:lnTo>
                    <a:pt x="1172" y="11"/>
                  </a:lnTo>
                  <a:lnTo>
                    <a:pt x="1177" y="14"/>
                  </a:lnTo>
                  <a:lnTo>
                    <a:pt x="1181" y="17"/>
                  </a:lnTo>
                  <a:lnTo>
                    <a:pt x="1186" y="20"/>
                  </a:lnTo>
                  <a:lnTo>
                    <a:pt x="1190" y="23"/>
                  </a:lnTo>
                  <a:lnTo>
                    <a:pt x="1195" y="26"/>
                  </a:lnTo>
                  <a:lnTo>
                    <a:pt x="1199" y="30"/>
                  </a:lnTo>
                  <a:lnTo>
                    <a:pt x="1206" y="39"/>
                  </a:lnTo>
                  <a:lnTo>
                    <a:pt x="1213" y="47"/>
                  </a:lnTo>
                  <a:lnTo>
                    <a:pt x="1218" y="56"/>
                  </a:lnTo>
                  <a:lnTo>
                    <a:pt x="1223" y="66"/>
                  </a:lnTo>
                  <a:lnTo>
                    <a:pt x="1226" y="76"/>
                  </a:lnTo>
                  <a:lnTo>
                    <a:pt x="1229" y="88"/>
                  </a:lnTo>
                  <a:lnTo>
                    <a:pt x="1230" y="99"/>
                  </a:lnTo>
                  <a:lnTo>
                    <a:pt x="1231" y="111"/>
                  </a:lnTo>
                  <a:lnTo>
                    <a:pt x="1230" y="142"/>
                  </a:lnTo>
                  <a:lnTo>
                    <a:pt x="1227" y="174"/>
                  </a:lnTo>
                  <a:lnTo>
                    <a:pt x="1221" y="208"/>
                  </a:lnTo>
                  <a:lnTo>
                    <a:pt x="1213" y="244"/>
                  </a:lnTo>
                  <a:lnTo>
                    <a:pt x="1203" y="281"/>
                  </a:lnTo>
                  <a:lnTo>
                    <a:pt x="1191" y="321"/>
                  </a:lnTo>
                  <a:lnTo>
                    <a:pt x="1160" y="405"/>
                  </a:lnTo>
                  <a:lnTo>
                    <a:pt x="1141" y="449"/>
                  </a:lnTo>
                  <a:lnTo>
                    <a:pt x="1120" y="494"/>
                  </a:lnTo>
                  <a:lnTo>
                    <a:pt x="1069" y="586"/>
                  </a:lnTo>
                  <a:lnTo>
                    <a:pt x="1008" y="683"/>
                  </a:lnTo>
                  <a:lnTo>
                    <a:pt x="937" y="782"/>
                  </a:lnTo>
                  <a:lnTo>
                    <a:pt x="863" y="876"/>
                  </a:lnTo>
                  <a:lnTo>
                    <a:pt x="792" y="957"/>
                  </a:lnTo>
                  <a:lnTo>
                    <a:pt x="757" y="993"/>
                  </a:lnTo>
                  <a:lnTo>
                    <a:pt x="724" y="1025"/>
                  </a:lnTo>
                  <a:lnTo>
                    <a:pt x="691" y="1055"/>
                  </a:lnTo>
                  <a:lnTo>
                    <a:pt x="659" y="1081"/>
                  </a:lnTo>
                  <a:lnTo>
                    <a:pt x="627" y="1105"/>
                  </a:lnTo>
                  <a:lnTo>
                    <a:pt x="596" y="1128"/>
                  </a:lnTo>
                  <a:lnTo>
                    <a:pt x="565" y="1148"/>
                  </a:lnTo>
                  <a:lnTo>
                    <a:pt x="534" y="1166"/>
                  </a:lnTo>
                  <a:lnTo>
                    <a:pt x="503" y="1184"/>
                  </a:lnTo>
                  <a:lnTo>
                    <a:pt x="472" y="1199"/>
                  </a:lnTo>
                  <a:lnTo>
                    <a:pt x="442" y="1212"/>
                  </a:lnTo>
                  <a:lnTo>
                    <a:pt x="412" y="1224"/>
                  </a:lnTo>
                  <a:lnTo>
                    <a:pt x="382" y="1233"/>
                  </a:lnTo>
                  <a:lnTo>
                    <a:pt x="353" y="1243"/>
                  </a:lnTo>
                  <a:lnTo>
                    <a:pt x="323" y="1250"/>
                  </a:lnTo>
                  <a:lnTo>
                    <a:pt x="294" y="1256"/>
                  </a:lnTo>
                  <a:lnTo>
                    <a:pt x="266" y="1261"/>
                  </a:lnTo>
                  <a:lnTo>
                    <a:pt x="237" y="1264"/>
                  </a:lnTo>
                  <a:lnTo>
                    <a:pt x="210" y="1266"/>
                  </a:lnTo>
                  <a:lnTo>
                    <a:pt x="182" y="1267"/>
                  </a:lnTo>
                  <a:lnTo>
                    <a:pt x="161" y="1266"/>
                  </a:lnTo>
                  <a:lnTo>
                    <a:pt x="142" y="1265"/>
                  </a:lnTo>
                  <a:lnTo>
                    <a:pt x="123" y="1263"/>
                  </a:lnTo>
                  <a:lnTo>
                    <a:pt x="106" y="1261"/>
                  </a:lnTo>
                  <a:lnTo>
                    <a:pt x="89" y="1257"/>
                  </a:lnTo>
                  <a:lnTo>
                    <a:pt x="74" y="1252"/>
                  </a:lnTo>
                  <a:lnTo>
                    <a:pt x="61" y="1247"/>
                  </a:lnTo>
                  <a:lnTo>
                    <a:pt x="54" y="1244"/>
                  </a:lnTo>
                  <a:lnTo>
                    <a:pt x="48" y="1241"/>
                  </a:lnTo>
                  <a:lnTo>
                    <a:pt x="37" y="1234"/>
                  </a:lnTo>
                  <a:lnTo>
                    <a:pt x="32" y="1230"/>
                  </a:lnTo>
                  <a:lnTo>
                    <a:pt x="27" y="1227"/>
                  </a:lnTo>
                  <a:lnTo>
                    <a:pt x="23" y="1223"/>
                  </a:lnTo>
                  <a:lnTo>
                    <a:pt x="19" y="1219"/>
                  </a:lnTo>
                  <a:lnTo>
                    <a:pt x="15" y="1215"/>
                  </a:lnTo>
                  <a:lnTo>
                    <a:pt x="12" y="1211"/>
                  </a:lnTo>
                  <a:lnTo>
                    <a:pt x="9" y="1207"/>
                  </a:lnTo>
                  <a:lnTo>
                    <a:pt x="7" y="1202"/>
                  </a:lnTo>
                  <a:lnTo>
                    <a:pt x="5" y="1198"/>
                  </a:lnTo>
                  <a:lnTo>
                    <a:pt x="3" y="1193"/>
                  </a:lnTo>
                  <a:lnTo>
                    <a:pt x="2" y="1189"/>
                  </a:lnTo>
                  <a:lnTo>
                    <a:pt x="1" y="1184"/>
                  </a:lnTo>
                  <a:lnTo>
                    <a:pt x="0" y="1179"/>
                  </a:lnTo>
                  <a:lnTo>
                    <a:pt x="0" y="1174"/>
                  </a:lnTo>
                  <a:lnTo>
                    <a:pt x="0" y="1170"/>
                  </a:lnTo>
                  <a:lnTo>
                    <a:pt x="1" y="1166"/>
                  </a:lnTo>
                  <a:lnTo>
                    <a:pt x="1" y="1162"/>
                  </a:lnTo>
                  <a:lnTo>
                    <a:pt x="2" y="1158"/>
                  </a:lnTo>
                  <a:lnTo>
                    <a:pt x="4" y="1153"/>
                  </a:lnTo>
                  <a:lnTo>
                    <a:pt x="5" y="1149"/>
                  </a:lnTo>
                  <a:lnTo>
                    <a:pt x="7" y="1146"/>
                  </a:lnTo>
                  <a:lnTo>
                    <a:pt x="10" y="1142"/>
                  </a:lnTo>
                  <a:lnTo>
                    <a:pt x="12" y="1138"/>
                  </a:lnTo>
                  <a:lnTo>
                    <a:pt x="15" y="1135"/>
                  </a:lnTo>
                  <a:lnTo>
                    <a:pt x="18" y="1131"/>
                  </a:lnTo>
                  <a:lnTo>
                    <a:pt x="22" y="1128"/>
                  </a:lnTo>
                  <a:lnTo>
                    <a:pt x="26" y="1124"/>
                  </a:lnTo>
                  <a:lnTo>
                    <a:pt x="30" y="1121"/>
                  </a:lnTo>
                  <a:lnTo>
                    <a:pt x="39" y="1115"/>
                  </a:lnTo>
                  <a:lnTo>
                    <a:pt x="49" y="1110"/>
                  </a:lnTo>
                  <a:lnTo>
                    <a:pt x="60" y="1105"/>
                  </a:lnTo>
                  <a:lnTo>
                    <a:pt x="71" y="1101"/>
                  </a:lnTo>
                  <a:lnTo>
                    <a:pt x="83" y="1097"/>
                  </a:lnTo>
                  <a:lnTo>
                    <a:pt x="96" y="1095"/>
                  </a:lnTo>
                  <a:lnTo>
                    <a:pt x="109" y="1093"/>
                  </a:lnTo>
                  <a:lnTo>
                    <a:pt x="123" y="1092"/>
                  </a:lnTo>
                  <a:lnTo>
                    <a:pt x="138" y="1091"/>
                  </a:lnTo>
                  <a:lnTo>
                    <a:pt x="149" y="1091"/>
                  </a:lnTo>
                  <a:lnTo>
                    <a:pt x="161" y="1092"/>
                  </a:lnTo>
                  <a:lnTo>
                    <a:pt x="188" y="1094"/>
                  </a:lnTo>
                  <a:lnTo>
                    <a:pt x="219" y="1098"/>
                  </a:lnTo>
                  <a:lnTo>
                    <a:pt x="254" y="1103"/>
                  </a:lnTo>
                  <a:lnTo>
                    <a:pt x="287" y="1109"/>
                  </a:lnTo>
                  <a:lnTo>
                    <a:pt x="314" y="1112"/>
                  </a:lnTo>
                  <a:lnTo>
                    <a:pt x="335" y="1114"/>
                  </a:lnTo>
                  <a:lnTo>
                    <a:pt x="344" y="1115"/>
                  </a:lnTo>
                  <a:lnTo>
                    <a:pt x="351" y="1115"/>
                  </a:lnTo>
                  <a:lnTo>
                    <a:pt x="359" y="1115"/>
                  </a:lnTo>
                  <a:lnTo>
                    <a:pt x="367" y="1114"/>
                  </a:lnTo>
                  <a:lnTo>
                    <a:pt x="384" y="1112"/>
                  </a:lnTo>
                  <a:lnTo>
                    <a:pt x="401" y="1109"/>
                  </a:lnTo>
                  <a:lnTo>
                    <a:pt x="418" y="1104"/>
                  </a:lnTo>
                  <a:lnTo>
                    <a:pt x="435" y="1099"/>
                  </a:lnTo>
                  <a:lnTo>
                    <a:pt x="453" y="1091"/>
                  </a:lnTo>
                  <a:lnTo>
                    <a:pt x="471" y="1083"/>
                  </a:lnTo>
                  <a:lnTo>
                    <a:pt x="489" y="1073"/>
                  </a:lnTo>
                  <a:lnTo>
                    <a:pt x="515" y="1057"/>
                  </a:lnTo>
                  <a:lnTo>
                    <a:pt x="539" y="1041"/>
                  </a:lnTo>
                  <a:lnTo>
                    <a:pt x="563" y="1024"/>
                  </a:lnTo>
                  <a:lnTo>
                    <a:pt x="584" y="1006"/>
                  </a:lnTo>
                  <a:lnTo>
                    <a:pt x="605" y="988"/>
                  </a:lnTo>
                  <a:lnTo>
                    <a:pt x="623" y="969"/>
                  </a:lnTo>
                  <a:lnTo>
                    <a:pt x="641" y="949"/>
                  </a:lnTo>
                  <a:lnTo>
                    <a:pt x="657" y="928"/>
                  </a:lnTo>
                  <a:lnTo>
                    <a:pt x="672" y="908"/>
                  </a:lnTo>
                  <a:lnTo>
                    <a:pt x="684" y="887"/>
                  </a:lnTo>
                  <a:lnTo>
                    <a:pt x="695" y="866"/>
                  </a:lnTo>
                  <a:lnTo>
                    <a:pt x="704" y="845"/>
                  </a:lnTo>
                  <a:lnTo>
                    <a:pt x="710" y="824"/>
                  </a:lnTo>
                  <a:lnTo>
                    <a:pt x="715" y="803"/>
                  </a:lnTo>
                  <a:lnTo>
                    <a:pt x="718" y="782"/>
                  </a:lnTo>
                  <a:lnTo>
                    <a:pt x="719" y="761"/>
                  </a:lnTo>
                  <a:lnTo>
                    <a:pt x="718" y="729"/>
                  </a:lnTo>
                  <a:lnTo>
                    <a:pt x="716" y="697"/>
                  </a:lnTo>
                  <a:lnTo>
                    <a:pt x="707" y="627"/>
                  </a:lnTo>
                  <a:lnTo>
                    <a:pt x="692" y="549"/>
                  </a:lnTo>
                  <a:lnTo>
                    <a:pt x="672" y="466"/>
                  </a:lnTo>
                  <a:lnTo>
                    <a:pt x="659" y="425"/>
                  </a:lnTo>
                  <a:lnTo>
                    <a:pt x="646" y="384"/>
                  </a:lnTo>
                  <a:lnTo>
                    <a:pt x="630" y="347"/>
                  </a:lnTo>
                  <a:lnTo>
                    <a:pt x="614" y="313"/>
                  </a:lnTo>
                  <a:lnTo>
                    <a:pt x="596" y="281"/>
                  </a:lnTo>
                  <a:lnTo>
                    <a:pt x="577" y="251"/>
                  </a:lnTo>
                  <a:lnTo>
                    <a:pt x="557" y="224"/>
                  </a:lnTo>
                  <a:lnTo>
                    <a:pt x="535" y="200"/>
                  </a:lnTo>
                  <a:lnTo>
                    <a:pt x="527" y="191"/>
                  </a:lnTo>
                  <a:lnTo>
                    <a:pt x="519" y="184"/>
                  </a:lnTo>
                  <a:lnTo>
                    <a:pt x="515" y="181"/>
                  </a:lnTo>
                  <a:lnTo>
                    <a:pt x="510" y="178"/>
                  </a:lnTo>
                  <a:lnTo>
                    <a:pt x="506" y="175"/>
                  </a:lnTo>
                  <a:lnTo>
                    <a:pt x="502" y="173"/>
                  </a:lnTo>
                  <a:lnTo>
                    <a:pt x="497" y="170"/>
                  </a:lnTo>
                  <a:lnTo>
                    <a:pt x="493" y="169"/>
                  </a:lnTo>
                  <a:lnTo>
                    <a:pt x="488" y="167"/>
                  </a:lnTo>
                  <a:lnTo>
                    <a:pt x="484" y="166"/>
                  </a:lnTo>
                  <a:lnTo>
                    <a:pt x="479" y="165"/>
                  </a:lnTo>
                  <a:lnTo>
                    <a:pt x="475" y="164"/>
                  </a:lnTo>
                  <a:lnTo>
                    <a:pt x="470" y="163"/>
                  </a:lnTo>
                  <a:lnTo>
                    <a:pt x="466" y="163"/>
                  </a:lnTo>
                  <a:lnTo>
                    <a:pt x="460" y="163"/>
                  </a:lnTo>
                  <a:lnTo>
                    <a:pt x="452" y="164"/>
                  </a:lnTo>
                  <a:lnTo>
                    <a:pt x="445" y="166"/>
                  </a:lnTo>
                  <a:lnTo>
                    <a:pt x="437" y="167"/>
                  </a:lnTo>
                  <a:lnTo>
                    <a:pt x="418" y="172"/>
                  </a:lnTo>
                  <a:lnTo>
                    <a:pt x="398" y="179"/>
                  </a:lnTo>
                  <a:lnTo>
                    <a:pt x="375" y="187"/>
                  </a:lnTo>
                  <a:lnTo>
                    <a:pt x="350" y="197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30440" y="1220760"/>
              <a:ext cx="781200" cy="425520"/>
            </a:xfrm>
            <a:custGeom>
              <a:avLst/>
              <a:gdLst/>
              <a:ahLst/>
              <a:rect l="l" t="t" r="r" b="b"/>
              <a:pathLst>
                <a:path w="2168" h="1181">
                  <a:moveTo>
                    <a:pt x="947" y="833"/>
                  </a:moveTo>
                  <a:lnTo>
                    <a:pt x="722" y="833"/>
                  </a:lnTo>
                  <a:lnTo>
                    <a:pt x="858" y="432"/>
                  </a:lnTo>
                  <a:lnTo>
                    <a:pt x="844" y="438"/>
                  </a:lnTo>
                  <a:lnTo>
                    <a:pt x="830" y="445"/>
                  </a:lnTo>
                  <a:lnTo>
                    <a:pt x="801" y="461"/>
                  </a:lnTo>
                  <a:lnTo>
                    <a:pt x="771" y="480"/>
                  </a:lnTo>
                  <a:lnTo>
                    <a:pt x="740" y="501"/>
                  </a:lnTo>
                  <a:lnTo>
                    <a:pt x="723" y="513"/>
                  </a:lnTo>
                  <a:lnTo>
                    <a:pt x="705" y="527"/>
                  </a:lnTo>
                  <a:lnTo>
                    <a:pt x="666" y="560"/>
                  </a:lnTo>
                  <a:lnTo>
                    <a:pt x="620" y="601"/>
                  </a:lnTo>
                  <a:lnTo>
                    <a:pt x="570" y="649"/>
                  </a:lnTo>
                  <a:lnTo>
                    <a:pt x="508" y="707"/>
                  </a:lnTo>
                  <a:lnTo>
                    <a:pt x="454" y="756"/>
                  </a:lnTo>
                  <a:lnTo>
                    <a:pt x="407" y="793"/>
                  </a:lnTo>
                  <a:lnTo>
                    <a:pt x="386" y="808"/>
                  </a:lnTo>
                  <a:lnTo>
                    <a:pt x="367" y="820"/>
                  </a:lnTo>
                  <a:lnTo>
                    <a:pt x="349" y="831"/>
                  </a:lnTo>
                  <a:lnTo>
                    <a:pt x="330" y="840"/>
                  </a:lnTo>
                  <a:lnTo>
                    <a:pt x="312" y="847"/>
                  </a:lnTo>
                  <a:lnTo>
                    <a:pt x="293" y="853"/>
                  </a:lnTo>
                  <a:lnTo>
                    <a:pt x="273" y="858"/>
                  </a:lnTo>
                  <a:lnTo>
                    <a:pt x="254" y="861"/>
                  </a:lnTo>
                  <a:lnTo>
                    <a:pt x="233" y="863"/>
                  </a:lnTo>
                  <a:lnTo>
                    <a:pt x="213" y="864"/>
                  </a:lnTo>
                  <a:lnTo>
                    <a:pt x="197" y="863"/>
                  </a:lnTo>
                  <a:lnTo>
                    <a:pt x="181" y="862"/>
                  </a:lnTo>
                  <a:lnTo>
                    <a:pt x="166" y="860"/>
                  </a:lnTo>
                  <a:lnTo>
                    <a:pt x="151" y="856"/>
                  </a:lnTo>
                  <a:lnTo>
                    <a:pt x="137" y="851"/>
                  </a:lnTo>
                  <a:lnTo>
                    <a:pt x="123" y="846"/>
                  </a:lnTo>
                  <a:lnTo>
                    <a:pt x="110" y="839"/>
                  </a:lnTo>
                  <a:lnTo>
                    <a:pt x="97" y="832"/>
                  </a:lnTo>
                  <a:lnTo>
                    <a:pt x="91" y="827"/>
                  </a:lnTo>
                  <a:lnTo>
                    <a:pt x="84" y="822"/>
                  </a:lnTo>
                  <a:lnTo>
                    <a:pt x="78" y="815"/>
                  </a:lnTo>
                  <a:lnTo>
                    <a:pt x="72" y="807"/>
                  </a:lnTo>
                  <a:lnTo>
                    <a:pt x="60" y="789"/>
                  </a:lnTo>
                  <a:lnTo>
                    <a:pt x="47" y="767"/>
                  </a:lnTo>
                  <a:lnTo>
                    <a:pt x="35" y="741"/>
                  </a:lnTo>
                  <a:lnTo>
                    <a:pt x="23" y="710"/>
                  </a:lnTo>
                  <a:lnTo>
                    <a:pt x="0" y="639"/>
                  </a:lnTo>
                  <a:lnTo>
                    <a:pt x="101" y="616"/>
                  </a:lnTo>
                  <a:lnTo>
                    <a:pt x="118" y="661"/>
                  </a:lnTo>
                  <a:lnTo>
                    <a:pt x="132" y="695"/>
                  </a:lnTo>
                  <a:lnTo>
                    <a:pt x="137" y="707"/>
                  </a:lnTo>
                  <a:lnTo>
                    <a:pt x="142" y="716"/>
                  </a:lnTo>
                  <a:lnTo>
                    <a:pt x="146" y="722"/>
                  </a:lnTo>
                  <a:lnTo>
                    <a:pt x="148" y="724"/>
                  </a:lnTo>
                  <a:lnTo>
                    <a:pt x="148" y="725"/>
                  </a:lnTo>
                  <a:lnTo>
                    <a:pt x="149" y="726"/>
                  </a:lnTo>
                  <a:lnTo>
                    <a:pt x="152" y="728"/>
                  </a:lnTo>
                  <a:lnTo>
                    <a:pt x="153" y="729"/>
                  </a:lnTo>
                  <a:lnTo>
                    <a:pt x="154" y="729"/>
                  </a:lnTo>
                  <a:lnTo>
                    <a:pt x="156" y="730"/>
                  </a:lnTo>
                  <a:lnTo>
                    <a:pt x="157" y="731"/>
                  </a:lnTo>
                  <a:lnTo>
                    <a:pt x="159" y="732"/>
                  </a:lnTo>
                  <a:lnTo>
                    <a:pt x="160" y="732"/>
                  </a:lnTo>
                  <a:lnTo>
                    <a:pt x="162" y="732"/>
                  </a:lnTo>
                  <a:lnTo>
                    <a:pt x="163" y="733"/>
                  </a:lnTo>
                  <a:lnTo>
                    <a:pt x="165" y="733"/>
                  </a:lnTo>
                  <a:lnTo>
                    <a:pt x="166" y="733"/>
                  </a:lnTo>
                  <a:lnTo>
                    <a:pt x="170" y="734"/>
                  </a:lnTo>
                  <a:lnTo>
                    <a:pt x="173" y="734"/>
                  </a:lnTo>
                  <a:lnTo>
                    <a:pt x="181" y="733"/>
                  </a:lnTo>
                  <a:lnTo>
                    <a:pt x="189" y="732"/>
                  </a:lnTo>
                  <a:lnTo>
                    <a:pt x="198" y="730"/>
                  </a:lnTo>
                  <a:lnTo>
                    <a:pt x="207" y="726"/>
                  </a:lnTo>
                  <a:lnTo>
                    <a:pt x="216" y="723"/>
                  </a:lnTo>
                  <a:lnTo>
                    <a:pt x="226" y="717"/>
                  </a:lnTo>
                  <a:lnTo>
                    <a:pt x="247" y="705"/>
                  </a:lnTo>
                  <a:lnTo>
                    <a:pt x="271" y="689"/>
                  </a:lnTo>
                  <a:lnTo>
                    <a:pt x="295" y="668"/>
                  </a:lnTo>
                  <a:lnTo>
                    <a:pt x="322" y="645"/>
                  </a:lnTo>
                  <a:lnTo>
                    <a:pt x="351" y="617"/>
                  </a:lnTo>
                  <a:lnTo>
                    <a:pt x="426" y="546"/>
                  </a:lnTo>
                  <a:lnTo>
                    <a:pt x="490" y="490"/>
                  </a:lnTo>
                  <a:lnTo>
                    <a:pt x="519" y="468"/>
                  </a:lnTo>
                  <a:lnTo>
                    <a:pt x="545" y="450"/>
                  </a:lnTo>
                  <a:lnTo>
                    <a:pt x="569" y="436"/>
                  </a:lnTo>
                  <a:lnTo>
                    <a:pt x="580" y="430"/>
                  </a:lnTo>
                  <a:lnTo>
                    <a:pt x="590" y="425"/>
                  </a:lnTo>
                  <a:lnTo>
                    <a:pt x="611" y="417"/>
                  </a:lnTo>
                  <a:lnTo>
                    <a:pt x="635" y="409"/>
                  </a:lnTo>
                  <a:lnTo>
                    <a:pt x="661" y="402"/>
                  </a:lnTo>
                  <a:lnTo>
                    <a:pt x="690" y="396"/>
                  </a:lnTo>
                  <a:lnTo>
                    <a:pt x="721" y="389"/>
                  </a:lnTo>
                  <a:lnTo>
                    <a:pt x="754" y="384"/>
                  </a:lnTo>
                  <a:lnTo>
                    <a:pt x="790" y="379"/>
                  </a:lnTo>
                  <a:lnTo>
                    <a:pt x="828" y="374"/>
                  </a:lnTo>
                  <a:lnTo>
                    <a:pt x="822" y="373"/>
                  </a:lnTo>
                  <a:lnTo>
                    <a:pt x="816" y="371"/>
                  </a:lnTo>
                  <a:lnTo>
                    <a:pt x="810" y="367"/>
                  </a:lnTo>
                  <a:lnTo>
                    <a:pt x="804" y="364"/>
                  </a:lnTo>
                  <a:lnTo>
                    <a:pt x="798" y="359"/>
                  </a:lnTo>
                  <a:lnTo>
                    <a:pt x="792" y="354"/>
                  </a:lnTo>
                  <a:lnTo>
                    <a:pt x="779" y="343"/>
                  </a:lnTo>
                  <a:lnTo>
                    <a:pt x="767" y="328"/>
                  </a:lnTo>
                  <a:lnTo>
                    <a:pt x="754" y="311"/>
                  </a:lnTo>
                  <a:lnTo>
                    <a:pt x="741" y="291"/>
                  </a:lnTo>
                  <a:lnTo>
                    <a:pt x="728" y="269"/>
                  </a:lnTo>
                  <a:lnTo>
                    <a:pt x="706" y="231"/>
                  </a:lnTo>
                  <a:lnTo>
                    <a:pt x="696" y="216"/>
                  </a:lnTo>
                  <a:lnTo>
                    <a:pt x="686" y="202"/>
                  </a:lnTo>
                  <a:lnTo>
                    <a:pt x="677" y="190"/>
                  </a:lnTo>
                  <a:lnTo>
                    <a:pt x="668" y="180"/>
                  </a:lnTo>
                  <a:lnTo>
                    <a:pt x="660" y="172"/>
                  </a:lnTo>
                  <a:lnTo>
                    <a:pt x="657" y="169"/>
                  </a:lnTo>
                  <a:lnTo>
                    <a:pt x="653" y="166"/>
                  </a:lnTo>
                  <a:lnTo>
                    <a:pt x="646" y="162"/>
                  </a:lnTo>
                  <a:lnTo>
                    <a:pt x="639" y="158"/>
                  </a:lnTo>
                  <a:lnTo>
                    <a:pt x="632" y="155"/>
                  </a:lnTo>
                  <a:lnTo>
                    <a:pt x="625" y="152"/>
                  </a:lnTo>
                  <a:lnTo>
                    <a:pt x="618" y="150"/>
                  </a:lnTo>
                  <a:lnTo>
                    <a:pt x="614" y="149"/>
                  </a:lnTo>
                  <a:lnTo>
                    <a:pt x="611" y="149"/>
                  </a:lnTo>
                  <a:lnTo>
                    <a:pt x="607" y="148"/>
                  </a:lnTo>
                  <a:lnTo>
                    <a:pt x="604" y="147"/>
                  </a:lnTo>
                  <a:lnTo>
                    <a:pt x="600" y="147"/>
                  </a:lnTo>
                  <a:lnTo>
                    <a:pt x="597" y="147"/>
                  </a:lnTo>
                  <a:lnTo>
                    <a:pt x="595" y="147"/>
                  </a:lnTo>
                  <a:lnTo>
                    <a:pt x="593" y="147"/>
                  </a:lnTo>
                  <a:lnTo>
                    <a:pt x="589" y="148"/>
                  </a:lnTo>
                  <a:lnTo>
                    <a:pt x="583" y="150"/>
                  </a:lnTo>
                  <a:lnTo>
                    <a:pt x="577" y="151"/>
                  </a:lnTo>
                  <a:lnTo>
                    <a:pt x="562" y="155"/>
                  </a:lnTo>
                  <a:lnTo>
                    <a:pt x="543" y="161"/>
                  </a:lnTo>
                  <a:lnTo>
                    <a:pt x="534" y="164"/>
                  </a:lnTo>
                  <a:lnTo>
                    <a:pt x="525" y="167"/>
                  </a:lnTo>
                  <a:lnTo>
                    <a:pt x="517" y="169"/>
                  </a:lnTo>
                  <a:lnTo>
                    <a:pt x="508" y="171"/>
                  </a:lnTo>
                  <a:lnTo>
                    <a:pt x="500" y="172"/>
                  </a:lnTo>
                  <a:lnTo>
                    <a:pt x="492" y="173"/>
                  </a:lnTo>
                  <a:lnTo>
                    <a:pt x="484" y="174"/>
                  </a:lnTo>
                  <a:lnTo>
                    <a:pt x="476" y="174"/>
                  </a:lnTo>
                  <a:lnTo>
                    <a:pt x="463" y="174"/>
                  </a:lnTo>
                  <a:lnTo>
                    <a:pt x="452" y="173"/>
                  </a:lnTo>
                  <a:lnTo>
                    <a:pt x="441" y="172"/>
                  </a:lnTo>
                  <a:lnTo>
                    <a:pt x="431" y="169"/>
                  </a:lnTo>
                  <a:lnTo>
                    <a:pt x="421" y="167"/>
                  </a:lnTo>
                  <a:lnTo>
                    <a:pt x="413" y="164"/>
                  </a:lnTo>
                  <a:lnTo>
                    <a:pt x="405" y="160"/>
                  </a:lnTo>
                  <a:lnTo>
                    <a:pt x="398" y="157"/>
                  </a:lnTo>
                  <a:lnTo>
                    <a:pt x="392" y="151"/>
                  </a:lnTo>
                  <a:lnTo>
                    <a:pt x="387" y="146"/>
                  </a:lnTo>
                  <a:lnTo>
                    <a:pt x="382" y="140"/>
                  </a:lnTo>
                  <a:lnTo>
                    <a:pt x="379" y="134"/>
                  </a:lnTo>
                  <a:lnTo>
                    <a:pt x="376" y="127"/>
                  </a:lnTo>
                  <a:lnTo>
                    <a:pt x="374" y="119"/>
                  </a:lnTo>
                  <a:lnTo>
                    <a:pt x="372" y="111"/>
                  </a:lnTo>
                  <a:lnTo>
                    <a:pt x="372" y="102"/>
                  </a:lnTo>
                  <a:lnTo>
                    <a:pt x="372" y="97"/>
                  </a:lnTo>
                  <a:lnTo>
                    <a:pt x="373" y="91"/>
                  </a:lnTo>
                  <a:lnTo>
                    <a:pt x="374" y="85"/>
                  </a:lnTo>
                  <a:lnTo>
                    <a:pt x="375" y="80"/>
                  </a:lnTo>
                  <a:lnTo>
                    <a:pt x="377" y="76"/>
                  </a:lnTo>
                  <a:lnTo>
                    <a:pt x="380" y="70"/>
                  </a:lnTo>
                  <a:lnTo>
                    <a:pt x="382" y="66"/>
                  </a:lnTo>
                  <a:lnTo>
                    <a:pt x="386" y="61"/>
                  </a:lnTo>
                  <a:lnTo>
                    <a:pt x="389" y="57"/>
                  </a:lnTo>
                  <a:lnTo>
                    <a:pt x="393" y="52"/>
                  </a:lnTo>
                  <a:lnTo>
                    <a:pt x="398" y="48"/>
                  </a:lnTo>
                  <a:lnTo>
                    <a:pt x="403" y="44"/>
                  </a:lnTo>
                  <a:lnTo>
                    <a:pt x="408" y="39"/>
                  </a:lnTo>
                  <a:lnTo>
                    <a:pt x="414" y="35"/>
                  </a:lnTo>
                  <a:lnTo>
                    <a:pt x="420" y="32"/>
                  </a:lnTo>
                  <a:lnTo>
                    <a:pt x="427" y="29"/>
                  </a:lnTo>
                  <a:lnTo>
                    <a:pt x="441" y="22"/>
                  </a:lnTo>
                  <a:lnTo>
                    <a:pt x="455" y="17"/>
                  </a:lnTo>
                  <a:lnTo>
                    <a:pt x="469" y="11"/>
                  </a:lnTo>
                  <a:lnTo>
                    <a:pt x="484" y="7"/>
                  </a:lnTo>
                  <a:lnTo>
                    <a:pt x="498" y="4"/>
                  </a:lnTo>
                  <a:lnTo>
                    <a:pt x="513" y="1"/>
                  </a:lnTo>
                  <a:lnTo>
                    <a:pt x="528" y="1"/>
                  </a:lnTo>
                  <a:lnTo>
                    <a:pt x="543" y="0"/>
                  </a:lnTo>
                  <a:lnTo>
                    <a:pt x="566" y="1"/>
                  </a:lnTo>
                  <a:lnTo>
                    <a:pt x="588" y="3"/>
                  </a:lnTo>
                  <a:lnTo>
                    <a:pt x="609" y="7"/>
                  </a:lnTo>
                  <a:lnTo>
                    <a:pt x="629" y="12"/>
                  </a:lnTo>
                  <a:lnTo>
                    <a:pt x="639" y="15"/>
                  </a:lnTo>
                  <a:lnTo>
                    <a:pt x="648" y="19"/>
                  </a:lnTo>
                  <a:lnTo>
                    <a:pt x="658" y="23"/>
                  </a:lnTo>
                  <a:lnTo>
                    <a:pt x="667" y="26"/>
                  </a:lnTo>
                  <a:lnTo>
                    <a:pt x="684" y="36"/>
                  </a:lnTo>
                  <a:lnTo>
                    <a:pt x="701" y="48"/>
                  </a:lnTo>
                  <a:lnTo>
                    <a:pt x="709" y="54"/>
                  </a:lnTo>
                  <a:lnTo>
                    <a:pt x="717" y="60"/>
                  </a:lnTo>
                  <a:lnTo>
                    <a:pt x="734" y="77"/>
                  </a:lnTo>
                  <a:lnTo>
                    <a:pt x="750" y="96"/>
                  </a:lnTo>
                  <a:lnTo>
                    <a:pt x="766" y="119"/>
                  </a:lnTo>
                  <a:lnTo>
                    <a:pt x="781" y="144"/>
                  </a:lnTo>
                  <a:lnTo>
                    <a:pt x="797" y="172"/>
                  </a:lnTo>
                  <a:lnTo>
                    <a:pt x="812" y="203"/>
                  </a:lnTo>
                  <a:lnTo>
                    <a:pt x="827" y="237"/>
                  </a:lnTo>
                  <a:lnTo>
                    <a:pt x="855" y="298"/>
                  </a:lnTo>
                  <a:lnTo>
                    <a:pt x="868" y="326"/>
                  </a:lnTo>
                  <a:lnTo>
                    <a:pt x="882" y="352"/>
                  </a:lnTo>
                  <a:lnTo>
                    <a:pt x="967" y="65"/>
                  </a:lnTo>
                  <a:lnTo>
                    <a:pt x="1187" y="65"/>
                  </a:lnTo>
                  <a:lnTo>
                    <a:pt x="1086" y="371"/>
                  </a:lnTo>
                  <a:lnTo>
                    <a:pt x="1088" y="368"/>
                  </a:lnTo>
                  <a:lnTo>
                    <a:pt x="1091" y="364"/>
                  </a:lnTo>
                  <a:lnTo>
                    <a:pt x="1098" y="354"/>
                  </a:lnTo>
                  <a:lnTo>
                    <a:pt x="1108" y="343"/>
                  </a:lnTo>
                  <a:lnTo>
                    <a:pt x="1119" y="330"/>
                  </a:lnTo>
                  <a:lnTo>
                    <a:pt x="1149" y="300"/>
                  </a:lnTo>
                  <a:lnTo>
                    <a:pt x="1188" y="262"/>
                  </a:lnTo>
                  <a:lnTo>
                    <a:pt x="1271" y="188"/>
                  </a:lnTo>
                  <a:lnTo>
                    <a:pt x="1345" y="128"/>
                  </a:lnTo>
                  <a:lnTo>
                    <a:pt x="1378" y="103"/>
                  </a:lnTo>
                  <a:lnTo>
                    <a:pt x="1408" y="82"/>
                  </a:lnTo>
                  <a:lnTo>
                    <a:pt x="1436" y="65"/>
                  </a:lnTo>
                  <a:lnTo>
                    <a:pt x="1462" y="51"/>
                  </a:lnTo>
                  <a:lnTo>
                    <a:pt x="1487" y="40"/>
                  </a:lnTo>
                  <a:lnTo>
                    <a:pt x="1511" y="30"/>
                  </a:lnTo>
                  <a:lnTo>
                    <a:pt x="1535" y="23"/>
                  </a:lnTo>
                  <a:lnTo>
                    <a:pt x="1558" y="16"/>
                  </a:lnTo>
                  <a:lnTo>
                    <a:pt x="1581" y="10"/>
                  </a:lnTo>
                  <a:lnTo>
                    <a:pt x="1604" y="7"/>
                  </a:lnTo>
                  <a:lnTo>
                    <a:pt x="1627" y="4"/>
                  </a:lnTo>
                  <a:lnTo>
                    <a:pt x="1649" y="4"/>
                  </a:lnTo>
                  <a:lnTo>
                    <a:pt x="1664" y="4"/>
                  </a:lnTo>
                  <a:lnTo>
                    <a:pt x="1678" y="5"/>
                  </a:lnTo>
                  <a:lnTo>
                    <a:pt x="1692" y="7"/>
                  </a:lnTo>
                  <a:lnTo>
                    <a:pt x="1704" y="8"/>
                  </a:lnTo>
                  <a:lnTo>
                    <a:pt x="1715" y="11"/>
                  </a:lnTo>
                  <a:lnTo>
                    <a:pt x="1725" y="14"/>
                  </a:lnTo>
                  <a:lnTo>
                    <a:pt x="1735" y="19"/>
                  </a:lnTo>
                  <a:lnTo>
                    <a:pt x="1743" y="23"/>
                  </a:lnTo>
                  <a:lnTo>
                    <a:pt x="1750" y="28"/>
                  </a:lnTo>
                  <a:lnTo>
                    <a:pt x="1757" y="34"/>
                  </a:lnTo>
                  <a:lnTo>
                    <a:pt x="1762" y="41"/>
                  </a:lnTo>
                  <a:lnTo>
                    <a:pt x="1766" y="48"/>
                  </a:lnTo>
                  <a:lnTo>
                    <a:pt x="1770" y="55"/>
                  </a:lnTo>
                  <a:lnTo>
                    <a:pt x="1772" y="63"/>
                  </a:lnTo>
                  <a:lnTo>
                    <a:pt x="1774" y="72"/>
                  </a:lnTo>
                  <a:lnTo>
                    <a:pt x="1774" y="82"/>
                  </a:lnTo>
                  <a:lnTo>
                    <a:pt x="1774" y="91"/>
                  </a:lnTo>
                  <a:lnTo>
                    <a:pt x="1772" y="100"/>
                  </a:lnTo>
                  <a:lnTo>
                    <a:pt x="1770" y="107"/>
                  </a:lnTo>
                  <a:lnTo>
                    <a:pt x="1767" y="115"/>
                  </a:lnTo>
                  <a:lnTo>
                    <a:pt x="1763" y="122"/>
                  </a:lnTo>
                  <a:lnTo>
                    <a:pt x="1758" y="128"/>
                  </a:lnTo>
                  <a:lnTo>
                    <a:pt x="1752" y="133"/>
                  </a:lnTo>
                  <a:lnTo>
                    <a:pt x="1746" y="138"/>
                  </a:lnTo>
                  <a:lnTo>
                    <a:pt x="1738" y="143"/>
                  </a:lnTo>
                  <a:lnTo>
                    <a:pt x="1729" y="147"/>
                  </a:lnTo>
                  <a:lnTo>
                    <a:pt x="1720" y="150"/>
                  </a:lnTo>
                  <a:lnTo>
                    <a:pt x="1710" y="153"/>
                  </a:lnTo>
                  <a:lnTo>
                    <a:pt x="1699" y="155"/>
                  </a:lnTo>
                  <a:lnTo>
                    <a:pt x="1687" y="156"/>
                  </a:lnTo>
                  <a:lnTo>
                    <a:pt x="1674" y="157"/>
                  </a:lnTo>
                  <a:lnTo>
                    <a:pt x="1660" y="157"/>
                  </a:lnTo>
                  <a:lnTo>
                    <a:pt x="1643" y="157"/>
                  </a:lnTo>
                  <a:lnTo>
                    <a:pt x="1635" y="157"/>
                  </a:lnTo>
                  <a:lnTo>
                    <a:pt x="1626" y="157"/>
                  </a:lnTo>
                  <a:lnTo>
                    <a:pt x="1605" y="156"/>
                  </a:lnTo>
                  <a:lnTo>
                    <a:pt x="1598" y="155"/>
                  </a:lnTo>
                  <a:lnTo>
                    <a:pt x="1593" y="155"/>
                  </a:lnTo>
                  <a:lnTo>
                    <a:pt x="1574" y="156"/>
                  </a:lnTo>
                  <a:lnTo>
                    <a:pt x="1555" y="157"/>
                  </a:lnTo>
                  <a:lnTo>
                    <a:pt x="1536" y="160"/>
                  </a:lnTo>
                  <a:lnTo>
                    <a:pt x="1518" y="163"/>
                  </a:lnTo>
                  <a:lnTo>
                    <a:pt x="1500" y="167"/>
                  </a:lnTo>
                  <a:lnTo>
                    <a:pt x="1483" y="173"/>
                  </a:lnTo>
                  <a:lnTo>
                    <a:pt x="1466" y="179"/>
                  </a:lnTo>
                  <a:lnTo>
                    <a:pt x="1449" y="187"/>
                  </a:lnTo>
                  <a:lnTo>
                    <a:pt x="1432" y="196"/>
                  </a:lnTo>
                  <a:lnTo>
                    <a:pt x="1414" y="206"/>
                  </a:lnTo>
                  <a:lnTo>
                    <a:pt x="1395" y="218"/>
                  </a:lnTo>
                  <a:lnTo>
                    <a:pt x="1375" y="231"/>
                  </a:lnTo>
                  <a:lnTo>
                    <a:pt x="1333" y="263"/>
                  </a:lnTo>
                  <a:lnTo>
                    <a:pt x="1286" y="302"/>
                  </a:lnTo>
                  <a:lnTo>
                    <a:pt x="1236" y="342"/>
                  </a:lnTo>
                  <a:lnTo>
                    <a:pt x="1195" y="372"/>
                  </a:lnTo>
                  <a:lnTo>
                    <a:pt x="1177" y="384"/>
                  </a:lnTo>
                  <a:lnTo>
                    <a:pt x="1162" y="393"/>
                  </a:lnTo>
                  <a:lnTo>
                    <a:pt x="1155" y="396"/>
                  </a:lnTo>
                  <a:lnTo>
                    <a:pt x="1149" y="399"/>
                  </a:lnTo>
                  <a:lnTo>
                    <a:pt x="1143" y="401"/>
                  </a:lnTo>
                  <a:lnTo>
                    <a:pt x="1138" y="402"/>
                  </a:lnTo>
                  <a:lnTo>
                    <a:pt x="1175" y="415"/>
                  </a:lnTo>
                  <a:lnTo>
                    <a:pt x="1209" y="427"/>
                  </a:lnTo>
                  <a:lnTo>
                    <a:pt x="1240" y="440"/>
                  </a:lnTo>
                  <a:lnTo>
                    <a:pt x="1269" y="453"/>
                  </a:lnTo>
                  <a:lnTo>
                    <a:pt x="1294" y="467"/>
                  </a:lnTo>
                  <a:lnTo>
                    <a:pt x="1317" y="480"/>
                  </a:lnTo>
                  <a:lnTo>
                    <a:pt x="1337" y="495"/>
                  </a:lnTo>
                  <a:lnTo>
                    <a:pt x="1354" y="510"/>
                  </a:lnTo>
                  <a:lnTo>
                    <a:pt x="1371" y="528"/>
                  </a:lnTo>
                  <a:lnTo>
                    <a:pt x="1389" y="552"/>
                  </a:lnTo>
                  <a:lnTo>
                    <a:pt x="1410" y="580"/>
                  </a:lnTo>
                  <a:lnTo>
                    <a:pt x="1433" y="614"/>
                  </a:lnTo>
                  <a:lnTo>
                    <a:pt x="1484" y="698"/>
                  </a:lnTo>
                  <a:lnTo>
                    <a:pt x="1542" y="803"/>
                  </a:lnTo>
                  <a:lnTo>
                    <a:pt x="1587" y="881"/>
                  </a:lnTo>
                  <a:lnTo>
                    <a:pt x="1609" y="914"/>
                  </a:lnTo>
                  <a:lnTo>
                    <a:pt x="1631" y="944"/>
                  </a:lnTo>
                  <a:lnTo>
                    <a:pt x="1651" y="971"/>
                  </a:lnTo>
                  <a:lnTo>
                    <a:pt x="1672" y="994"/>
                  </a:lnTo>
                  <a:lnTo>
                    <a:pt x="1692" y="1014"/>
                  </a:lnTo>
                  <a:lnTo>
                    <a:pt x="1711" y="1031"/>
                  </a:lnTo>
                  <a:lnTo>
                    <a:pt x="1730" y="1044"/>
                  </a:lnTo>
                  <a:lnTo>
                    <a:pt x="1750" y="1056"/>
                  </a:lnTo>
                  <a:lnTo>
                    <a:pt x="1771" y="1067"/>
                  </a:lnTo>
                  <a:lnTo>
                    <a:pt x="1781" y="1071"/>
                  </a:lnTo>
                  <a:lnTo>
                    <a:pt x="1791" y="1075"/>
                  </a:lnTo>
                  <a:lnTo>
                    <a:pt x="1802" y="1078"/>
                  </a:lnTo>
                  <a:lnTo>
                    <a:pt x="1813" y="1081"/>
                  </a:lnTo>
                  <a:lnTo>
                    <a:pt x="1824" y="1084"/>
                  </a:lnTo>
                  <a:lnTo>
                    <a:pt x="1835" y="1086"/>
                  </a:lnTo>
                  <a:lnTo>
                    <a:pt x="1846" y="1087"/>
                  </a:lnTo>
                  <a:lnTo>
                    <a:pt x="1857" y="1089"/>
                  </a:lnTo>
                  <a:lnTo>
                    <a:pt x="1868" y="1090"/>
                  </a:lnTo>
                  <a:lnTo>
                    <a:pt x="1880" y="1090"/>
                  </a:lnTo>
                  <a:lnTo>
                    <a:pt x="1891" y="1090"/>
                  </a:lnTo>
                  <a:lnTo>
                    <a:pt x="1902" y="1089"/>
                  </a:lnTo>
                  <a:lnTo>
                    <a:pt x="1913" y="1087"/>
                  </a:lnTo>
                  <a:lnTo>
                    <a:pt x="1922" y="1086"/>
                  </a:lnTo>
                  <a:lnTo>
                    <a:pt x="1932" y="1084"/>
                  </a:lnTo>
                  <a:lnTo>
                    <a:pt x="1941" y="1081"/>
                  </a:lnTo>
                  <a:lnTo>
                    <a:pt x="1950" y="1079"/>
                  </a:lnTo>
                  <a:lnTo>
                    <a:pt x="1958" y="1075"/>
                  </a:lnTo>
                  <a:lnTo>
                    <a:pt x="1965" y="1072"/>
                  </a:lnTo>
                  <a:lnTo>
                    <a:pt x="1972" y="1068"/>
                  </a:lnTo>
                  <a:lnTo>
                    <a:pt x="1977" y="1065"/>
                  </a:lnTo>
                  <a:lnTo>
                    <a:pt x="1980" y="1064"/>
                  </a:lnTo>
                  <a:lnTo>
                    <a:pt x="1982" y="1062"/>
                  </a:lnTo>
                  <a:lnTo>
                    <a:pt x="1984" y="1061"/>
                  </a:lnTo>
                  <a:lnTo>
                    <a:pt x="1985" y="1059"/>
                  </a:lnTo>
                  <a:lnTo>
                    <a:pt x="1987" y="1057"/>
                  </a:lnTo>
                  <a:lnTo>
                    <a:pt x="1988" y="1056"/>
                  </a:lnTo>
                  <a:lnTo>
                    <a:pt x="1989" y="1054"/>
                  </a:lnTo>
                  <a:lnTo>
                    <a:pt x="1989" y="1053"/>
                  </a:lnTo>
                  <a:lnTo>
                    <a:pt x="1990" y="1051"/>
                  </a:lnTo>
                  <a:lnTo>
                    <a:pt x="1990" y="1049"/>
                  </a:lnTo>
                  <a:lnTo>
                    <a:pt x="1990" y="1047"/>
                  </a:lnTo>
                  <a:lnTo>
                    <a:pt x="1989" y="1045"/>
                  </a:lnTo>
                  <a:lnTo>
                    <a:pt x="1989" y="1042"/>
                  </a:lnTo>
                  <a:lnTo>
                    <a:pt x="1988" y="1039"/>
                  </a:lnTo>
                  <a:lnTo>
                    <a:pt x="1986" y="1035"/>
                  </a:lnTo>
                  <a:lnTo>
                    <a:pt x="1985" y="1031"/>
                  </a:lnTo>
                  <a:lnTo>
                    <a:pt x="1982" y="1028"/>
                  </a:lnTo>
                  <a:lnTo>
                    <a:pt x="1980" y="1023"/>
                  </a:lnTo>
                  <a:lnTo>
                    <a:pt x="1976" y="1016"/>
                  </a:lnTo>
                  <a:lnTo>
                    <a:pt x="1973" y="1010"/>
                  </a:lnTo>
                  <a:lnTo>
                    <a:pt x="1971" y="1004"/>
                  </a:lnTo>
                  <a:lnTo>
                    <a:pt x="1969" y="998"/>
                  </a:lnTo>
                  <a:lnTo>
                    <a:pt x="1967" y="992"/>
                  </a:lnTo>
                  <a:lnTo>
                    <a:pt x="1966" y="987"/>
                  </a:lnTo>
                  <a:lnTo>
                    <a:pt x="1965" y="981"/>
                  </a:lnTo>
                  <a:lnTo>
                    <a:pt x="1965" y="976"/>
                  </a:lnTo>
                  <a:lnTo>
                    <a:pt x="1965" y="969"/>
                  </a:lnTo>
                  <a:lnTo>
                    <a:pt x="1967" y="962"/>
                  </a:lnTo>
                  <a:lnTo>
                    <a:pt x="1969" y="956"/>
                  </a:lnTo>
                  <a:lnTo>
                    <a:pt x="1972" y="950"/>
                  </a:lnTo>
                  <a:lnTo>
                    <a:pt x="1976" y="944"/>
                  </a:lnTo>
                  <a:lnTo>
                    <a:pt x="1980" y="938"/>
                  </a:lnTo>
                  <a:lnTo>
                    <a:pt x="1986" y="932"/>
                  </a:lnTo>
                  <a:lnTo>
                    <a:pt x="1992" y="927"/>
                  </a:lnTo>
                  <a:lnTo>
                    <a:pt x="1999" y="922"/>
                  </a:lnTo>
                  <a:lnTo>
                    <a:pt x="2007" y="917"/>
                  </a:lnTo>
                  <a:lnTo>
                    <a:pt x="2011" y="915"/>
                  </a:lnTo>
                  <a:lnTo>
                    <a:pt x="2015" y="913"/>
                  </a:lnTo>
                  <a:lnTo>
                    <a:pt x="2019" y="911"/>
                  </a:lnTo>
                  <a:lnTo>
                    <a:pt x="2023" y="910"/>
                  </a:lnTo>
                  <a:lnTo>
                    <a:pt x="2027" y="909"/>
                  </a:lnTo>
                  <a:lnTo>
                    <a:pt x="2032" y="907"/>
                  </a:lnTo>
                  <a:lnTo>
                    <a:pt x="2036" y="906"/>
                  </a:lnTo>
                  <a:lnTo>
                    <a:pt x="2041" y="906"/>
                  </a:lnTo>
                  <a:lnTo>
                    <a:pt x="2045" y="905"/>
                  </a:lnTo>
                  <a:lnTo>
                    <a:pt x="2050" y="904"/>
                  </a:lnTo>
                  <a:lnTo>
                    <a:pt x="2060" y="904"/>
                  </a:lnTo>
                  <a:lnTo>
                    <a:pt x="2065" y="904"/>
                  </a:lnTo>
                  <a:lnTo>
                    <a:pt x="2070" y="905"/>
                  </a:lnTo>
                  <a:lnTo>
                    <a:pt x="2075" y="905"/>
                  </a:lnTo>
                  <a:lnTo>
                    <a:pt x="2080" y="906"/>
                  </a:lnTo>
                  <a:lnTo>
                    <a:pt x="2085" y="906"/>
                  </a:lnTo>
                  <a:lnTo>
                    <a:pt x="2090" y="908"/>
                  </a:lnTo>
                  <a:lnTo>
                    <a:pt x="2095" y="909"/>
                  </a:lnTo>
                  <a:lnTo>
                    <a:pt x="2100" y="910"/>
                  </a:lnTo>
                  <a:lnTo>
                    <a:pt x="2104" y="912"/>
                  </a:lnTo>
                  <a:lnTo>
                    <a:pt x="2109" y="914"/>
                  </a:lnTo>
                  <a:lnTo>
                    <a:pt x="2113" y="916"/>
                  </a:lnTo>
                  <a:lnTo>
                    <a:pt x="2118" y="919"/>
                  </a:lnTo>
                  <a:lnTo>
                    <a:pt x="2126" y="923"/>
                  </a:lnTo>
                  <a:lnTo>
                    <a:pt x="2134" y="929"/>
                  </a:lnTo>
                  <a:lnTo>
                    <a:pt x="2138" y="932"/>
                  </a:lnTo>
                  <a:lnTo>
                    <a:pt x="2142" y="935"/>
                  </a:lnTo>
                  <a:lnTo>
                    <a:pt x="2145" y="939"/>
                  </a:lnTo>
                  <a:lnTo>
                    <a:pt x="2148" y="942"/>
                  </a:lnTo>
                  <a:lnTo>
                    <a:pt x="2151" y="946"/>
                  </a:lnTo>
                  <a:lnTo>
                    <a:pt x="2154" y="950"/>
                  </a:lnTo>
                  <a:lnTo>
                    <a:pt x="2157" y="954"/>
                  </a:lnTo>
                  <a:lnTo>
                    <a:pt x="2159" y="958"/>
                  </a:lnTo>
                  <a:lnTo>
                    <a:pt x="2161" y="962"/>
                  </a:lnTo>
                  <a:lnTo>
                    <a:pt x="2162" y="967"/>
                  </a:lnTo>
                  <a:lnTo>
                    <a:pt x="2165" y="976"/>
                  </a:lnTo>
                  <a:lnTo>
                    <a:pt x="2166" y="986"/>
                  </a:lnTo>
                  <a:lnTo>
                    <a:pt x="2167" y="997"/>
                  </a:lnTo>
                  <a:lnTo>
                    <a:pt x="2167" y="1006"/>
                  </a:lnTo>
                  <a:lnTo>
                    <a:pt x="2166" y="1015"/>
                  </a:lnTo>
                  <a:lnTo>
                    <a:pt x="2164" y="1025"/>
                  </a:lnTo>
                  <a:lnTo>
                    <a:pt x="2161" y="1033"/>
                  </a:lnTo>
                  <a:lnTo>
                    <a:pt x="2158" y="1042"/>
                  </a:lnTo>
                  <a:lnTo>
                    <a:pt x="2154" y="1050"/>
                  </a:lnTo>
                  <a:lnTo>
                    <a:pt x="2150" y="1059"/>
                  </a:lnTo>
                  <a:lnTo>
                    <a:pt x="2145" y="1067"/>
                  </a:lnTo>
                  <a:lnTo>
                    <a:pt x="2139" y="1075"/>
                  </a:lnTo>
                  <a:lnTo>
                    <a:pt x="2132" y="1083"/>
                  </a:lnTo>
                  <a:lnTo>
                    <a:pt x="2125" y="1090"/>
                  </a:lnTo>
                  <a:lnTo>
                    <a:pt x="2117" y="1098"/>
                  </a:lnTo>
                  <a:lnTo>
                    <a:pt x="2099" y="1113"/>
                  </a:lnTo>
                  <a:lnTo>
                    <a:pt x="2079" y="1127"/>
                  </a:lnTo>
                  <a:lnTo>
                    <a:pt x="2056" y="1140"/>
                  </a:lnTo>
                  <a:lnTo>
                    <a:pt x="2032" y="1150"/>
                  </a:lnTo>
                  <a:lnTo>
                    <a:pt x="2007" y="1159"/>
                  </a:lnTo>
                  <a:lnTo>
                    <a:pt x="1980" y="1167"/>
                  </a:lnTo>
                  <a:lnTo>
                    <a:pt x="1952" y="1173"/>
                  </a:lnTo>
                  <a:lnTo>
                    <a:pt x="1922" y="1177"/>
                  </a:lnTo>
                  <a:lnTo>
                    <a:pt x="1891" y="1180"/>
                  </a:lnTo>
                  <a:lnTo>
                    <a:pt x="1859" y="1180"/>
                  </a:lnTo>
                  <a:lnTo>
                    <a:pt x="1823" y="1180"/>
                  </a:lnTo>
                  <a:lnTo>
                    <a:pt x="1788" y="1177"/>
                  </a:lnTo>
                  <a:lnTo>
                    <a:pt x="1754" y="1172"/>
                  </a:lnTo>
                  <a:lnTo>
                    <a:pt x="1720" y="1165"/>
                  </a:lnTo>
                  <a:lnTo>
                    <a:pt x="1688" y="1156"/>
                  </a:lnTo>
                  <a:lnTo>
                    <a:pt x="1656" y="1146"/>
                  </a:lnTo>
                  <a:lnTo>
                    <a:pt x="1625" y="1133"/>
                  </a:lnTo>
                  <a:lnTo>
                    <a:pt x="1595" y="1118"/>
                  </a:lnTo>
                  <a:lnTo>
                    <a:pt x="1566" y="1102"/>
                  </a:lnTo>
                  <a:lnTo>
                    <a:pt x="1539" y="1085"/>
                  </a:lnTo>
                  <a:lnTo>
                    <a:pt x="1512" y="1065"/>
                  </a:lnTo>
                  <a:lnTo>
                    <a:pt x="1487" y="1045"/>
                  </a:lnTo>
                  <a:lnTo>
                    <a:pt x="1463" y="1023"/>
                  </a:lnTo>
                  <a:lnTo>
                    <a:pt x="1440" y="1000"/>
                  </a:lnTo>
                  <a:lnTo>
                    <a:pt x="1418" y="975"/>
                  </a:lnTo>
                  <a:lnTo>
                    <a:pt x="1398" y="949"/>
                  </a:lnTo>
                  <a:lnTo>
                    <a:pt x="1358" y="889"/>
                  </a:lnTo>
                  <a:lnTo>
                    <a:pt x="1315" y="818"/>
                  </a:lnTo>
                  <a:lnTo>
                    <a:pt x="1270" y="735"/>
                  </a:lnTo>
                  <a:lnTo>
                    <a:pt x="1224" y="642"/>
                  </a:lnTo>
                  <a:lnTo>
                    <a:pt x="1198" y="590"/>
                  </a:lnTo>
                  <a:lnTo>
                    <a:pt x="1174" y="549"/>
                  </a:lnTo>
                  <a:lnTo>
                    <a:pt x="1163" y="532"/>
                  </a:lnTo>
                  <a:lnTo>
                    <a:pt x="1153" y="518"/>
                  </a:lnTo>
                  <a:lnTo>
                    <a:pt x="1144" y="506"/>
                  </a:lnTo>
                  <a:lnTo>
                    <a:pt x="1139" y="502"/>
                  </a:lnTo>
                  <a:lnTo>
                    <a:pt x="1135" y="498"/>
                  </a:lnTo>
                  <a:lnTo>
                    <a:pt x="1101" y="471"/>
                  </a:lnTo>
                  <a:lnTo>
                    <a:pt x="1084" y="457"/>
                  </a:lnTo>
                  <a:lnTo>
                    <a:pt x="1067" y="445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3400" y="1236600"/>
              <a:ext cx="297000" cy="293760"/>
            </a:xfrm>
            <a:custGeom>
              <a:avLst/>
              <a:gdLst/>
              <a:ahLst/>
              <a:rect l="l" t="t" r="r" b="b"/>
              <a:pathLst>
                <a:path w="823" h="818">
                  <a:moveTo>
                    <a:pt x="685" y="560"/>
                  </a:moveTo>
                  <a:lnTo>
                    <a:pt x="725" y="637"/>
                  </a:lnTo>
                  <a:lnTo>
                    <a:pt x="652" y="679"/>
                  </a:lnTo>
                  <a:lnTo>
                    <a:pt x="581" y="716"/>
                  </a:lnTo>
                  <a:lnTo>
                    <a:pt x="514" y="747"/>
                  </a:lnTo>
                  <a:lnTo>
                    <a:pt x="450" y="772"/>
                  </a:lnTo>
                  <a:lnTo>
                    <a:pt x="388" y="791"/>
                  </a:lnTo>
                  <a:lnTo>
                    <a:pt x="359" y="800"/>
                  </a:lnTo>
                  <a:lnTo>
                    <a:pt x="330" y="806"/>
                  </a:lnTo>
                  <a:lnTo>
                    <a:pt x="302" y="811"/>
                  </a:lnTo>
                  <a:lnTo>
                    <a:pt x="274" y="814"/>
                  </a:lnTo>
                  <a:lnTo>
                    <a:pt x="248" y="816"/>
                  </a:lnTo>
                  <a:lnTo>
                    <a:pt x="222" y="817"/>
                  </a:lnTo>
                  <a:lnTo>
                    <a:pt x="194" y="816"/>
                  </a:lnTo>
                  <a:lnTo>
                    <a:pt x="180" y="815"/>
                  </a:lnTo>
                  <a:lnTo>
                    <a:pt x="168" y="813"/>
                  </a:lnTo>
                  <a:lnTo>
                    <a:pt x="155" y="811"/>
                  </a:lnTo>
                  <a:lnTo>
                    <a:pt x="143" y="808"/>
                  </a:lnTo>
                  <a:lnTo>
                    <a:pt x="132" y="805"/>
                  </a:lnTo>
                  <a:lnTo>
                    <a:pt x="121" y="801"/>
                  </a:lnTo>
                  <a:lnTo>
                    <a:pt x="111" y="797"/>
                  </a:lnTo>
                  <a:lnTo>
                    <a:pt x="101" y="793"/>
                  </a:lnTo>
                  <a:lnTo>
                    <a:pt x="92" y="788"/>
                  </a:lnTo>
                  <a:lnTo>
                    <a:pt x="83" y="782"/>
                  </a:lnTo>
                  <a:lnTo>
                    <a:pt x="75" y="776"/>
                  </a:lnTo>
                  <a:lnTo>
                    <a:pt x="67" y="769"/>
                  </a:lnTo>
                  <a:lnTo>
                    <a:pt x="60" y="763"/>
                  </a:lnTo>
                  <a:lnTo>
                    <a:pt x="53" y="755"/>
                  </a:lnTo>
                  <a:lnTo>
                    <a:pt x="41" y="739"/>
                  </a:lnTo>
                  <a:lnTo>
                    <a:pt x="30" y="722"/>
                  </a:lnTo>
                  <a:lnTo>
                    <a:pt x="21" y="704"/>
                  </a:lnTo>
                  <a:lnTo>
                    <a:pt x="13" y="685"/>
                  </a:lnTo>
                  <a:lnTo>
                    <a:pt x="8" y="666"/>
                  </a:lnTo>
                  <a:lnTo>
                    <a:pt x="3" y="645"/>
                  </a:lnTo>
                  <a:lnTo>
                    <a:pt x="1" y="624"/>
                  </a:lnTo>
                  <a:lnTo>
                    <a:pt x="0" y="601"/>
                  </a:lnTo>
                  <a:lnTo>
                    <a:pt x="2" y="564"/>
                  </a:lnTo>
                  <a:lnTo>
                    <a:pt x="7" y="528"/>
                  </a:lnTo>
                  <a:lnTo>
                    <a:pt x="15" y="491"/>
                  </a:lnTo>
                  <a:lnTo>
                    <a:pt x="26" y="453"/>
                  </a:lnTo>
                  <a:lnTo>
                    <a:pt x="41" y="416"/>
                  </a:lnTo>
                  <a:lnTo>
                    <a:pt x="58" y="378"/>
                  </a:lnTo>
                  <a:lnTo>
                    <a:pt x="79" y="340"/>
                  </a:lnTo>
                  <a:lnTo>
                    <a:pt x="103" y="302"/>
                  </a:lnTo>
                  <a:lnTo>
                    <a:pt x="129" y="265"/>
                  </a:lnTo>
                  <a:lnTo>
                    <a:pt x="156" y="231"/>
                  </a:lnTo>
                  <a:lnTo>
                    <a:pt x="185" y="199"/>
                  </a:lnTo>
                  <a:lnTo>
                    <a:pt x="214" y="171"/>
                  </a:lnTo>
                  <a:lnTo>
                    <a:pt x="244" y="145"/>
                  </a:lnTo>
                  <a:lnTo>
                    <a:pt x="276" y="122"/>
                  </a:lnTo>
                  <a:lnTo>
                    <a:pt x="308" y="103"/>
                  </a:lnTo>
                  <a:lnTo>
                    <a:pt x="342" y="86"/>
                  </a:lnTo>
                  <a:lnTo>
                    <a:pt x="375" y="66"/>
                  </a:lnTo>
                  <a:lnTo>
                    <a:pt x="408" y="48"/>
                  </a:lnTo>
                  <a:lnTo>
                    <a:pt x="441" y="34"/>
                  </a:lnTo>
                  <a:lnTo>
                    <a:pt x="476" y="22"/>
                  </a:lnTo>
                  <a:lnTo>
                    <a:pt x="510" y="12"/>
                  </a:lnTo>
                  <a:lnTo>
                    <a:pt x="546" y="5"/>
                  </a:lnTo>
                  <a:lnTo>
                    <a:pt x="582" y="1"/>
                  </a:lnTo>
                  <a:lnTo>
                    <a:pt x="618" y="0"/>
                  </a:lnTo>
                  <a:lnTo>
                    <a:pt x="641" y="1"/>
                  </a:lnTo>
                  <a:lnTo>
                    <a:pt x="663" y="1"/>
                  </a:lnTo>
                  <a:lnTo>
                    <a:pt x="684" y="4"/>
                  </a:lnTo>
                  <a:lnTo>
                    <a:pt x="704" y="7"/>
                  </a:lnTo>
                  <a:lnTo>
                    <a:pt x="722" y="11"/>
                  </a:lnTo>
                  <a:lnTo>
                    <a:pt x="738" y="16"/>
                  </a:lnTo>
                  <a:lnTo>
                    <a:pt x="754" y="22"/>
                  </a:lnTo>
                  <a:lnTo>
                    <a:pt x="761" y="25"/>
                  </a:lnTo>
                  <a:lnTo>
                    <a:pt x="768" y="29"/>
                  </a:lnTo>
                  <a:lnTo>
                    <a:pt x="781" y="37"/>
                  </a:lnTo>
                  <a:lnTo>
                    <a:pt x="786" y="41"/>
                  </a:lnTo>
                  <a:lnTo>
                    <a:pt x="792" y="45"/>
                  </a:lnTo>
                  <a:lnTo>
                    <a:pt x="796" y="49"/>
                  </a:lnTo>
                  <a:lnTo>
                    <a:pt x="801" y="53"/>
                  </a:lnTo>
                  <a:lnTo>
                    <a:pt x="805" y="58"/>
                  </a:lnTo>
                  <a:lnTo>
                    <a:pt x="809" y="63"/>
                  </a:lnTo>
                  <a:lnTo>
                    <a:pt x="812" y="68"/>
                  </a:lnTo>
                  <a:lnTo>
                    <a:pt x="814" y="72"/>
                  </a:lnTo>
                  <a:lnTo>
                    <a:pt x="817" y="78"/>
                  </a:lnTo>
                  <a:lnTo>
                    <a:pt x="819" y="82"/>
                  </a:lnTo>
                  <a:lnTo>
                    <a:pt x="820" y="88"/>
                  </a:lnTo>
                  <a:lnTo>
                    <a:pt x="821" y="93"/>
                  </a:lnTo>
                  <a:lnTo>
                    <a:pt x="822" y="99"/>
                  </a:lnTo>
                  <a:lnTo>
                    <a:pt x="822" y="104"/>
                  </a:lnTo>
                  <a:lnTo>
                    <a:pt x="821" y="113"/>
                  </a:lnTo>
                  <a:lnTo>
                    <a:pt x="820" y="121"/>
                  </a:lnTo>
                  <a:lnTo>
                    <a:pt x="819" y="125"/>
                  </a:lnTo>
                  <a:lnTo>
                    <a:pt x="817" y="129"/>
                  </a:lnTo>
                  <a:lnTo>
                    <a:pt x="816" y="133"/>
                  </a:lnTo>
                  <a:lnTo>
                    <a:pt x="814" y="137"/>
                  </a:lnTo>
                  <a:lnTo>
                    <a:pt x="812" y="140"/>
                  </a:lnTo>
                  <a:lnTo>
                    <a:pt x="809" y="144"/>
                  </a:lnTo>
                  <a:lnTo>
                    <a:pt x="807" y="147"/>
                  </a:lnTo>
                  <a:lnTo>
                    <a:pt x="804" y="150"/>
                  </a:lnTo>
                  <a:lnTo>
                    <a:pt x="801" y="153"/>
                  </a:lnTo>
                  <a:lnTo>
                    <a:pt x="797" y="156"/>
                  </a:lnTo>
                  <a:lnTo>
                    <a:pt x="790" y="162"/>
                  </a:lnTo>
                  <a:lnTo>
                    <a:pt x="786" y="165"/>
                  </a:lnTo>
                  <a:lnTo>
                    <a:pt x="782" y="168"/>
                  </a:lnTo>
                  <a:lnTo>
                    <a:pt x="778" y="170"/>
                  </a:lnTo>
                  <a:lnTo>
                    <a:pt x="773" y="172"/>
                  </a:lnTo>
                  <a:lnTo>
                    <a:pt x="769" y="175"/>
                  </a:lnTo>
                  <a:lnTo>
                    <a:pt x="764" y="176"/>
                  </a:lnTo>
                  <a:lnTo>
                    <a:pt x="759" y="178"/>
                  </a:lnTo>
                  <a:lnTo>
                    <a:pt x="754" y="180"/>
                  </a:lnTo>
                  <a:lnTo>
                    <a:pt x="743" y="182"/>
                  </a:lnTo>
                  <a:lnTo>
                    <a:pt x="731" y="184"/>
                  </a:lnTo>
                  <a:lnTo>
                    <a:pt x="719" y="185"/>
                  </a:lnTo>
                  <a:lnTo>
                    <a:pt x="706" y="185"/>
                  </a:lnTo>
                  <a:lnTo>
                    <a:pt x="694" y="184"/>
                  </a:lnTo>
                  <a:lnTo>
                    <a:pt x="682" y="184"/>
                  </a:lnTo>
                  <a:lnTo>
                    <a:pt x="670" y="181"/>
                  </a:lnTo>
                  <a:lnTo>
                    <a:pt x="658" y="178"/>
                  </a:lnTo>
                  <a:lnTo>
                    <a:pt x="646" y="174"/>
                  </a:lnTo>
                  <a:lnTo>
                    <a:pt x="635" y="169"/>
                  </a:lnTo>
                  <a:lnTo>
                    <a:pt x="624" y="163"/>
                  </a:lnTo>
                  <a:lnTo>
                    <a:pt x="613" y="156"/>
                  </a:lnTo>
                  <a:lnTo>
                    <a:pt x="572" y="143"/>
                  </a:lnTo>
                  <a:lnTo>
                    <a:pt x="554" y="137"/>
                  </a:lnTo>
                  <a:lnTo>
                    <a:pt x="537" y="134"/>
                  </a:lnTo>
                  <a:lnTo>
                    <a:pt x="522" y="131"/>
                  </a:lnTo>
                  <a:lnTo>
                    <a:pt x="509" y="128"/>
                  </a:lnTo>
                  <a:lnTo>
                    <a:pt x="497" y="127"/>
                  </a:lnTo>
                  <a:lnTo>
                    <a:pt x="491" y="126"/>
                  </a:lnTo>
                  <a:lnTo>
                    <a:pt x="486" y="126"/>
                  </a:lnTo>
                  <a:lnTo>
                    <a:pt x="480" y="126"/>
                  </a:lnTo>
                  <a:lnTo>
                    <a:pt x="474" y="127"/>
                  </a:lnTo>
                  <a:lnTo>
                    <a:pt x="468" y="128"/>
                  </a:lnTo>
                  <a:lnTo>
                    <a:pt x="462" y="128"/>
                  </a:lnTo>
                  <a:lnTo>
                    <a:pt x="456" y="129"/>
                  </a:lnTo>
                  <a:lnTo>
                    <a:pt x="450" y="131"/>
                  </a:lnTo>
                  <a:lnTo>
                    <a:pt x="438" y="135"/>
                  </a:lnTo>
                  <a:lnTo>
                    <a:pt x="425" y="140"/>
                  </a:lnTo>
                  <a:lnTo>
                    <a:pt x="412" y="146"/>
                  </a:lnTo>
                  <a:lnTo>
                    <a:pt x="400" y="153"/>
                  </a:lnTo>
                  <a:lnTo>
                    <a:pt x="387" y="162"/>
                  </a:lnTo>
                  <a:lnTo>
                    <a:pt x="380" y="166"/>
                  </a:lnTo>
                  <a:lnTo>
                    <a:pt x="374" y="172"/>
                  </a:lnTo>
                  <a:lnTo>
                    <a:pt x="361" y="184"/>
                  </a:lnTo>
                  <a:lnTo>
                    <a:pt x="348" y="200"/>
                  </a:lnTo>
                  <a:lnTo>
                    <a:pt x="335" y="217"/>
                  </a:lnTo>
                  <a:lnTo>
                    <a:pt x="323" y="236"/>
                  </a:lnTo>
                  <a:lnTo>
                    <a:pt x="310" y="258"/>
                  </a:lnTo>
                  <a:lnTo>
                    <a:pt x="297" y="282"/>
                  </a:lnTo>
                  <a:lnTo>
                    <a:pt x="285" y="309"/>
                  </a:lnTo>
                  <a:lnTo>
                    <a:pt x="273" y="337"/>
                  </a:lnTo>
                  <a:lnTo>
                    <a:pt x="263" y="365"/>
                  </a:lnTo>
                  <a:lnTo>
                    <a:pt x="254" y="393"/>
                  </a:lnTo>
                  <a:lnTo>
                    <a:pt x="247" y="421"/>
                  </a:lnTo>
                  <a:lnTo>
                    <a:pt x="241" y="449"/>
                  </a:lnTo>
                  <a:lnTo>
                    <a:pt x="237" y="477"/>
                  </a:lnTo>
                  <a:lnTo>
                    <a:pt x="235" y="505"/>
                  </a:lnTo>
                  <a:lnTo>
                    <a:pt x="234" y="533"/>
                  </a:lnTo>
                  <a:lnTo>
                    <a:pt x="235" y="551"/>
                  </a:lnTo>
                  <a:lnTo>
                    <a:pt x="236" y="570"/>
                  </a:lnTo>
                  <a:lnTo>
                    <a:pt x="239" y="587"/>
                  </a:lnTo>
                  <a:lnTo>
                    <a:pt x="244" y="602"/>
                  </a:lnTo>
                  <a:lnTo>
                    <a:pt x="249" y="616"/>
                  </a:lnTo>
                  <a:lnTo>
                    <a:pt x="255" y="629"/>
                  </a:lnTo>
                  <a:lnTo>
                    <a:pt x="263" y="641"/>
                  </a:lnTo>
                  <a:lnTo>
                    <a:pt x="267" y="647"/>
                  </a:lnTo>
                  <a:lnTo>
                    <a:pt x="271" y="652"/>
                  </a:lnTo>
                  <a:lnTo>
                    <a:pt x="278" y="659"/>
                  </a:lnTo>
                  <a:lnTo>
                    <a:pt x="282" y="662"/>
                  </a:lnTo>
                  <a:lnTo>
                    <a:pt x="286" y="665"/>
                  </a:lnTo>
                  <a:lnTo>
                    <a:pt x="290" y="668"/>
                  </a:lnTo>
                  <a:lnTo>
                    <a:pt x="294" y="670"/>
                  </a:lnTo>
                  <a:lnTo>
                    <a:pt x="298" y="672"/>
                  </a:lnTo>
                  <a:lnTo>
                    <a:pt x="303" y="675"/>
                  </a:lnTo>
                  <a:lnTo>
                    <a:pt x="307" y="676"/>
                  </a:lnTo>
                  <a:lnTo>
                    <a:pt x="312" y="678"/>
                  </a:lnTo>
                  <a:lnTo>
                    <a:pt x="317" y="679"/>
                  </a:lnTo>
                  <a:lnTo>
                    <a:pt x="322" y="680"/>
                  </a:lnTo>
                  <a:lnTo>
                    <a:pt x="327" y="682"/>
                  </a:lnTo>
                  <a:lnTo>
                    <a:pt x="332" y="682"/>
                  </a:lnTo>
                  <a:lnTo>
                    <a:pt x="337" y="682"/>
                  </a:lnTo>
                  <a:lnTo>
                    <a:pt x="343" y="682"/>
                  </a:lnTo>
                  <a:lnTo>
                    <a:pt x="359" y="682"/>
                  </a:lnTo>
                  <a:lnTo>
                    <a:pt x="377" y="680"/>
                  </a:lnTo>
                  <a:lnTo>
                    <a:pt x="394" y="678"/>
                  </a:lnTo>
                  <a:lnTo>
                    <a:pt x="413" y="675"/>
                  </a:lnTo>
                  <a:lnTo>
                    <a:pt x="452" y="665"/>
                  </a:lnTo>
                  <a:lnTo>
                    <a:pt x="493" y="652"/>
                  </a:lnTo>
                  <a:lnTo>
                    <a:pt x="537" y="635"/>
                  </a:lnTo>
                  <a:lnTo>
                    <a:pt x="584" y="613"/>
                  </a:lnTo>
                  <a:lnTo>
                    <a:pt x="633" y="589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3640" y="1222200"/>
              <a:ext cx="538200" cy="424080"/>
            </a:xfrm>
            <a:custGeom>
              <a:avLst/>
              <a:gdLst/>
              <a:ahLst/>
              <a:rect l="l" t="t" r="r" b="b"/>
              <a:pathLst>
                <a:path w="1494" h="1177">
                  <a:moveTo>
                    <a:pt x="409" y="369"/>
                  </a:moveTo>
                  <a:lnTo>
                    <a:pt x="415" y="361"/>
                  </a:lnTo>
                  <a:lnTo>
                    <a:pt x="423" y="351"/>
                  </a:lnTo>
                  <a:lnTo>
                    <a:pt x="445" y="327"/>
                  </a:lnTo>
                  <a:lnTo>
                    <a:pt x="476" y="296"/>
                  </a:lnTo>
                  <a:lnTo>
                    <a:pt x="516" y="258"/>
                  </a:lnTo>
                  <a:lnTo>
                    <a:pt x="597" y="185"/>
                  </a:lnTo>
                  <a:lnTo>
                    <a:pt x="669" y="125"/>
                  </a:lnTo>
                  <a:lnTo>
                    <a:pt x="702" y="100"/>
                  </a:lnTo>
                  <a:lnTo>
                    <a:pt x="732" y="80"/>
                  </a:lnTo>
                  <a:lnTo>
                    <a:pt x="759" y="62"/>
                  </a:lnTo>
                  <a:lnTo>
                    <a:pt x="785" y="48"/>
                  </a:lnTo>
                  <a:lnTo>
                    <a:pt x="809" y="37"/>
                  </a:lnTo>
                  <a:lnTo>
                    <a:pt x="833" y="27"/>
                  </a:lnTo>
                  <a:lnTo>
                    <a:pt x="857" y="19"/>
                  </a:lnTo>
                  <a:lnTo>
                    <a:pt x="881" y="12"/>
                  </a:lnTo>
                  <a:lnTo>
                    <a:pt x="905" y="6"/>
                  </a:lnTo>
                  <a:lnTo>
                    <a:pt x="928" y="3"/>
                  </a:lnTo>
                  <a:lnTo>
                    <a:pt x="952" y="0"/>
                  </a:lnTo>
                  <a:lnTo>
                    <a:pt x="975" y="0"/>
                  </a:lnTo>
                  <a:lnTo>
                    <a:pt x="990" y="0"/>
                  </a:lnTo>
                  <a:lnTo>
                    <a:pt x="1005" y="1"/>
                  </a:lnTo>
                  <a:lnTo>
                    <a:pt x="1018" y="3"/>
                  </a:lnTo>
                  <a:lnTo>
                    <a:pt x="1031" y="4"/>
                  </a:lnTo>
                  <a:lnTo>
                    <a:pt x="1042" y="7"/>
                  </a:lnTo>
                  <a:lnTo>
                    <a:pt x="1053" y="10"/>
                  </a:lnTo>
                  <a:lnTo>
                    <a:pt x="1062" y="15"/>
                  </a:lnTo>
                  <a:lnTo>
                    <a:pt x="1070" y="19"/>
                  </a:lnTo>
                  <a:lnTo>
                    <a:pt x="1078" y="24"/>
                  </a:lnTo>
                  <a:lnTo>
                    <a:pt x="1084" y="30"/>
                  </a:lnTo>
                  <a:lnTo>
                    <a:pt x="1090" y="37"/>
                  </a:lnTo>
                  <a:lnTo>
                    <a:pt x="1094" y="44"/>
                  </a:lnTo>
                  <a:lnTo>
                    <a:pt x="1098" y="51"/>
                  </a:lnTo>
                  <a:lnTo>
                    <a:pt x="1100" y="59"/>
                  </a:lnTo>
                  <a:lnTo>
                    <a:pt x="1102" y="68"/>
                  </a:lnTo>
                  <a:lnTo>
                    <a:pt x="1102" y="78"/>
                  </a:lnTo>
                  <a:lnTo>
                    <a:pt x="1102" y="87"/>
                  </a:lnTo>
                  <a:lnTo>
                    <a:pt x="1100" y="96"/>
                  </a:lnTo>
                  <a:lnTo>
                    <a:pt x="1098" y="103"/>
                  </a:lnTo>
                  <a:lnTo>
                    <a:pt x="1095" y="111"/>
                  </a:lnTo>
                  <a:lnTo>
                    <a:pt x="1091" y="118"/>
                  </a:lnTo>
                  <a:lnTo>
                    <a:pt x="1085" y="124"/>
                  </a:lnTo>
                  <a:lnTo>
                    <a:pt x="1080" y="129"/>
                  </a:lnTo>
                  <a:lnTo>
                    <a:pt x="1073" y="134"/>
                  </a:lnTo>
                  <a:lnTo>
                    <a:pt x="1065" y="139"/>
                  </a:lnTo>
                  <a:lnTo>
                    <a:pt x="1056" y="143"/>
                  </a:lnTo>
                  <a:lnTo>
                    <a:pt x="1046" y="146"/>
                  </a:lnTo>
                  <a:lnTo>
                    <a:pt x="1036" y="149"/>
                  </a:lnTo>
                  <a:lnTo>
                    <a:pt x="1024" y="151"/>
                  </a:lnTo>
                  <a:lnTo>
                    <a:pt x="1012" y="152"/>
                  </a:lnTo>
                  <a:lnTo>
                    <a:pt x="998" y="153"/>
                  </a:lnTo>
                  <a:lnTo>
                    <a:pt x="984" y="153"/>
                  </a:lnTo>
                  <a:lnTo>
                    <a:pt x="949" y="153"/>
                  </a:lnTo>
                  <a:lnTo>
                    <a:pt x="927" y="152"/>
                  </a:lnTo>
                  <a:lnTo>
                    <a:pt x="919" y="151"/>
                  </a:lnTo>
                  <a:lnTo>
                    <a:pt x="913" y="151"/>
                  </a:lnTo>
                  <a:lnTo>
                    <a:pt x="897" y="152"/>
                  </a:lnTo>
                  <a:lnTo>
                    <a:pt x="881" y="153"/>
                  </a:lnTo>
                  <a:lnTo>
                    <a:pt x="866" y="155"/>
                  </a:lnTo>
                  <a:lnTo>
                    <a:pt x="850" y="158"/>
                  </a:lnTo>
                  <a:lnTo>
                    <a:pt x="834" y="162"/>
                  </a:lnTo>
                  <a:lnTo>
                    <a:pt x="818" y="167"/>
                  </a:lnTo>
                  <a:lnTo>
                    <a:pt x="802" y="172"/>
                  </a:lnTo>
                  <a:lnTo>
                    <a:pt x="786" y="179"/>
                  </a:lnTo>
                  <a:lnTo>
                    <a:pt x="769" y="187"/>
                  </a:lnTo>
                  <a:lnTo>
                    <a:pt x="751" y="197"/>
                  </a:lnTo>
                  <a:lnTo>
                    <a:pt x="732" y="209"/>
                  </a:lnTo>
                  <a:lnTo>
                    <a:pt x="711" y="223"/>
                  </a:lnTo>
                  <a:lnTo>
                    <a:pt x="665" y="256"/>
                  </a:lnTo>
                  <a:lnTo>
                    <a:pt x="614" y="297"/>
                  </a:lnTo>
                  <a:lnTo>
                    <a:pt x="565" y="338"/>
                  </a:lnTo>
                  <a:lnTo>
                    <a:pt x="543" y="355"/>
                  </a:lnTo>
                  <a:lnTo>
                    <a:pt x="524" y="368"/>
                  </a:lnTo>
                  <a:lnTo>
                    <a:pt x="507" y="380"/>
                  </a:lnTo>
                  <a:lnTo>
                    <a:pt x="491" y="389"/>
                  </a:lnTo>
                  <a:lnTo>
                    <a:pt x="485" y="392"/>
                  </a:lnTo>
                  <a:lnTo>
                    <a:pt x="478" y="395"/>
                  </a:lnTo>
                  <a:lnTo>
                    <a:pt x="472" y="397"/>
                  </a:lnTo>
                  <a:lnTo>
                    <a:pt x="467" y="398"/>
                  </a:lnTo>
                  <a:lnTo>
                    <a:pt x="504" y="411"/>
                  </a:lnTo>
                  <a:lnTo>
                    <a:pt x="538" y="423"/>
                  </a:lnTo>
                  <a:lnTo>
                    <a:pt x="569" y="436"/>
                  </a:lnTo>
                  <a:lnTo>
                    <a:pt x="597" y="448"/>
                  </a:lnTo>
                  <a:lnTo>
                    <a:pt x="622" y="462"/>
                  </a:lnTo>
                  <a:lnTo>
                    <a:pt x="645" y="476"/>
                  </a:lnTo>
                  <a:lnTo>
                    <a:pt x="665" y="491"/>
                  </a:lnTo>
                  <a:lnTo>
                    <a:pt x="682" y="506"/>
                  </a:lnTo>
                  <a:lnTo>
                    <a:pt x="699" y="524"/>
                  </a:lnTo>
                  <a:lnTo>
                    <a:pt x="717" y="548"/>
                  </a:lnTo>
                  <a:lnTo>
                    <a:pt x="738" y="576"/>
                  </a:lnTo>
                  <a:lnTo>
                    <a:pt x="760" y="610"/>
                  </a:lnTo>
                  <a:lnTo>
                    <a:pt x="811" y="694"/>
                  </a:lnTo>
                  <a:lnTo>
                    <a:pt x="869" y="799"/>
                  </a:lnTo>
                  <a:lnTo>
                    <a:pt x="912" y="874"/>
                  </a:lnTo>
                  <a:lnTo>
                    <a:pt x="933" y="906"/>
                  </a:lnTo>
                  <a:lnTo>
                    <a:pt x="953" y="936"/>
                  </a:lnTo>
                  <a:lnTo>
                    <a:pt x="973" y="962"/>
                  </a:lnTo>
                  <a:lnTo>
                    <a:pt x="993" y="986"/>
                  </a:lnTo>
                  <a:lnTo>
                    <a:pt x="1013" y="1005"/>
                  </a:lnTo>
                  <a:lnTo>
                    <a:pt x="1032" y="1023"/>
                  </a:lnTo>
                  <a:lnTo>
                    <a:pt x="1051" y="1038"/>
                  </a:lnTo>
                  <a:lnTo>
                    <a:pt x="1071" y="1051"/>
                  </a:lnTo>
                  <a:lnTo>
                    <a:pt x="1082" y="1056"/>
                  </a:lnTo>
                  <a:lnTo>
                    <a:pt x="1092" y="1061"/>
                  </a:lnTo>
                  <a:lnTo>
                    <a:pt x="1103" y="1066"/>
                  </a:lnTo>
                  <a:lnTo>
                    <a:pt x="1114" y="1070"/>
                  </a:lnTo>
                  <a:lnTo>
                    <a:pt x="1125" y="1073"/>
                  </a:lnTo>
                  <a:lnTo>
                    <a:pt x="1136" y="1077"/>
                  </a:lnTo>
                  <a:lnTo>
                    <a:pt x="1148" y="1080"/>
                  </a:lnTo>
                  <a:lnTo>
                    <a:pt x="1160" y="1082"/>
                  </a:lnTo>
                  <a:lnTo>
                    <a:pt x="1172" y="1083"/>
                  </a:lnTo>
                  <a:lnTo>
                    <a:pt x="1184" y="1085"/>
                  </a:lnTo>
                  <a:lnTo>
                    <a:pt x="1196" y="1086"/>
                  </a:lnTo>
                  <a:lnTo>
                    <a:pt x="1209" y="1086"/>
                  </a:lnTo>
                  <a:lnTo>
                    <a:pt x="1219" y="1086"/>
                  </a:lnTo>
                  <a:lnTo>
                    <a:pt x="1229" y="1085"/>
                  </a:lnTo>
                  <a:lnTo>
                    <a:pt x="1239" y="1083"/>
                  </a:lnTo>
                  <a:lnTo>
                    <a:pt x="1249" y="1082"/>
                  </a:lnTo>
                  <a:lnTo>
                    <a:pt x="1258" y="1080"/>
                  </a:lnTo>
                  <a:lnTo>
                    <a:pt x="1267" y="1077"/>
                  </a:lnTo>
                  <a:lnTo>
                    <a:pt x="1275" y="1075"/>
                  </a:lnTo>
                  <a:lnTo>
                    <a:pt x="1283" y="1071"/>
                  </a:lnTo>
                  <a:lnTo>
                    <a:pt x="1291" y="1068"/>
                  </a:lnTo>
                  <a:lnTo>
                    <a:pt x="1297" y="1064"/>
                  </a:lnTo>
                  <a:lnTo>
                    <a:pt x="1303" y="1061"/>
                  </a:lnTo>
                  <a:lnTo>
                    <a:pt x="1308" y="1058"/>
                  </a:lnTo>
                  <a:lnTo>
                    <a:pt x="1310" y="1057"/>
                  </a:lnTo>
                  <a:lnTo>
                    <a:pt x="1311" y="1055"/>
                  </a:lnTo>
                  <a:lnTo>
                    <a:pt x="1313" y="1054"/>
                  </a:lnTo>
                  <a:lnTo>
                    <a:pt x="1314" y="1052"/>
                  </a:lnTo>
                  <a:lnTo>
                    <a:pt x="1315" y="1051"/>
                  </a:lnTo>
                  <a:lnTo>
                    <a:pt x="1315" y="1049"/>
                  </a:lnTo>
                  <a:lnTo>
                    <a:pt x="1316" y="1048"/>
                  </a:lnTo>
                  <a:lnTo>
                    <a:pt x="1316" y="1046"/>
                  </a:lnTo>
                  <a:lnTo>
                    <a:pt x="1316" y="1045"/>
                  </a:lnTo>
                  <a:lnTo>
                    <a:pt x="1316" y="1045"/>
                  </a:lnTo>
                  <a:lnTo>
                    <a:pt x="1315" y="1042"/>
                  </a:lnTo>
                  <a:lnTo>
                    <a:pt x="1314" y="1039"/>
                  </a:lnTo>
                  <a:lnTo>
                    <a:pt x="1313" y="1036"/>
                  </a:lnTo>
                  <a:lnTo>
                    <a:pt x="1309" y="1027"/>
                  </a:lnTo>
                  <a:lnTo>
                    <a:pt x="1304" y="1015"/>
                  </a:lnTo>
                  <a:lnTo>
                    <a:pt x="1301" y="1009"/>
                  </a:lnTo>
                  <a:lnTo>
                    <a:pt x="1298" y="1003"/>
                  </a:lnTo>
                  <a:lnTo>
                    <a:pt x="1296" y="997"/>
                  </a:lnTo>
                  <a:lnTo>
                    <a:pt x="1294" y="992"/>
                  </a:lnTo>
                  <a:lnTo>
                    <a:pt x="1293" y="986"/>
                  </a:lnTo>
                  <a:lnTo>
                    <a:pt x="1292" y="981"/>
                  </a:lnTo>
                  <a:lnTo>
                    <a:pt x="1291" y="977"/>
                  </a:lnTo>
                  <a:lnTo>
                    <a:pt x="1291" y="972"/>
                  </a:lnTo>
                  <a:lnTo>
                    <a:pt x="1291" y="965"/>
                  </a:lnTo>
                  <a:lnTo>
                    <a:pt x="1293" y="958"/>
                  </a:lnTo>
                  <a:lnTo>
                    <a:pt x="1295" y="952"/>
                  </a:lnTo>
                  <a:lnTo>
                    <a:pt x="1298" y="946"/>
                  </a:lnTo>
                  <a:lnTo>
                    <a:pt x="1302" y="940"/>
                  </a:lnTo>
                  <a:lnTo>
                    <a:pt x="1306" y="934"/>
                  </a:lnTo>
                  <a:lnTo>
                    <a:pt x="1312" y="928"/>
                  </a:lnTo>
                  <a:lnTo>
                    <a:pt x="1318" y="923"/>
                  </a:lnTo>
                  <a:lnTo>
                    <a:pt x="1325" y="918"/>
                  </a:lnTo>
                  <a:lnTo>
                    <a:pt x="1333" y="913"/>
                  </a:lnTo>
                  <a:lnTo>
                    <a:pt x="1337" y="911"/>
                  </a:lnTo>
                  <a:lnTo>
                    <a:pt x="1341" y="909"/>
                  </a:lnTo>
                  <a:lnTo>
                    <a:pt x="1345" y="907"/>
                  </a:lnTo>
                  <a:lnTo>
                    <a:pt x="1349" y="906"/>
                  </a:lnTo>
                  <a:lnTo>
                    <a:pt x="1353" y="905"/>
                  </a:lnTo>
                  <a:lnTo>
                    <a:pt x="1358" y="903"/>
                  </a:lnTo>
                  <a:lnTo>
                    <a:pt x="1362" y="902"/>
                  </a:lnTo>
                  <a:lnTo>
                    <a:pt x="1367" y="902"/>
                  </a:lnTo>
                  <a:lnTo>
                    <a:pt x="1371" y="901"/>
                  </a:lnTo>
                  <a:lnTo>
                    <a:pt x="1376" y="900"/>
                  </a:lnTo>
                  <a:lnTo>
                    <a:pt x="1386" y="900"/>
                  </a:lnTo>
                  <a:lnTo>
                    <a:pt x="1397" y="901"/>
                  </a:lnTo>
                  <a:lnTo>
                    <a:pt x="1403" y="901"/>
                  </a:lnTo>
                  <a:lnTo>
                    <a:pt x="1408" y="902"/>
                  </a:lnTo>
                  <a:lnTo>
                    <a:pt x="1414" y="902"/>
                  </a:lnTo>
                  <a:lnTo>
                    <a:pt x="1419" y="904"/>
                  </a:lnTo>
                  <a:lnTo>
                    <a:pt x="1424" y="905"/>
                  </a:lnTo>
                  <a:lnTo>
                    <a:pt x="1429" y="907"/>
                  </a:lnTo>
                  <a:lnTo>
                    <a:pt x="1433" y="909"/>
                  </a:lnTo>
                  <a:lnTo>
                    <a:pt x="1438" y="911"/>
                  </a:lnTo>
                  <a:lnTo>
                    <a:pt x="1443" y="913"/>
                  </a:lnTo>
                  <a:lnTo>
                    <a:pt x="1447" y="915"/>
                  </a:lnTo>
                  <a:lnTo>
                    <a:pt x="1451" y="918"/>
                  </a:lnTo>
                  <a:lnTo>
                    <a:pt x="1455" y="921"/>
                  </a:lnTo>
                  <a:lnTo>
                    <a:pt x="1463" y="927"/>
                  </a:lnTo>
                  <a:lnTo>
                    <a:pt x="1470" y="933"/>
                  </a:lnTo>
                  <a:lnTo>
                    <a:pt x="1476" y="940"/>
                  </a:lnTo>
                  <a:lnTo>
                    <a:pt x="1481" y="948"/>
                  </a:lnTo>
                  <a:lnTo>
                    <a:pt x="1486" y="956"/>
                  </a:lnTo>
                  <a:lnTo>
                    <a:pt x="1489" y="965"/>
                  </a:lnTo>
                  <a:lnTo>
                    <a:pt x="1491" y="974"/>
                  </a:lnTo>
                  <a:lnTo>
                    <a:pt x="1493" y="983"/>
                  </a:lnTo>
                  <a:lnTo>
                    <a:pt x="1493" y="993"/>
                  </a:lnTo>
                  <a:lnTo>
                    <a:pt x="1493" y="1002"/>
                  </a:lnTo>
                  <a:lnTo>
                    <a:pt x="1492" y="1011"/>
                  </a:lnTo>
                  <a:lnTo>
                    <a:pt x="1490" y="1021"/>
                  </a:lnTo>
                  <a:lnTo>
                    <a:pt x="1487" y="1029"/>
                  </a:lnTo>
                  <a:lnTo>
                    <a:pt x="1484" y="1038"/>
                  </a:lnTo>
                  <a:lnTo>
                    <a:pt x="1480" y="1046"/>
                  </a:lnTo>
                  <a:lnTo>
                    <a:pt x="1476" y="1055"/>
                  </a:lnTo>
                  <a:lnTo>
                    <a:pt x="1471" y="1063"/>
                  </a:lnTo>
                  <a:lnTo>
                    <a:pt x="1465" y="1071"/>
                  </a:lnTo>
                  <a:lnTo>
                    <a:pt x="1458" y="1079"/>
                  </a:lnTo>
                  <a:lnTo>
                    <a:pt x="1451" y="1086"/>
                  </a:lnTo>
                  <a:lnTo>
                    <a:pt x="1443" y="1094"/>
                  </a:lnTo>
                  <a:lnTo>
                    <a:pt x="1425" y="1109"/>
                  </a:lnTo>
                  <a:lnTo>
                    <a:pt x="1405" y="1123"/>
                  </a:lnTo>
                  <a:lnTo>
                    <a:pt x="1382" y="1136"/>
                  </a:lnTo>
                  <a:lnTo>
                    <a:pt x="1358" y="1146"/>
                  </a:lnTo>
                  <a:lnTo>
                    <a:pt x="1333" y="1155"/>
                  </a:lnTo>
                  <a:lnTo>
                    <a:pt x="1306" y="1163"/>
                  </a:lnTo>
                  <a:lnTo>
                    <a:pt x="1278" y="1169"/>
                  </a:lnTo>
                  <a:lnTo>
                    <a:pt x="1248" y="1173"/>
                  </a:lnTo>
                  <a:lnTo>
                    <a:pt x="1217" y="1176"/>
                  </a:lnTo>
                  <a:lnTo>
                    <a:pt x="1185" y="1176"/>
                  </a:lnTo>
                  <a:lnTo>
                    <a:pt x="1138" y="1175"/>
                  </a:lnTo>
                  <a:lnTo>
                    <a:pt x="1093" y="1170"/>
                  </a:lnTo>
                  <a:lnTo>
                    <a:pt x="1071" y="1166"/>
                  </a:lnTo>
                  <a:lnTo>
                    <a:pt x="1049" y="1161"/>
                  </a:lnTo>
                  <a:lnTo>
                    <a:pt x="1027" y="1156"/>
                  </a:lnTo>
                  <a:lnTo>
                    <a:pt x="1006" y="1150"/>
                  </a:lnTo>
                  <a:lnTo>
                    <a:pt x="965" y="1135"/>
                  </a:lnTo>
                  <a:lnTo>
                    <a:pt x="924" y="1116"/>
                  </a:lnTo>
                  <a:lnTo>
                    <a:pt x="885" y="1094"/>
                  </a:lnTo>
                  <a:lnTo>
                    <a:pt x="847" y="1069"/>
                  </a:lnTo>
                  <a:lnTo>
                    <a:pt x="828" y="1055"/>
                  </a:lnTo>
                  <a:lnTo>
                    <a:pt x="810" y="1039"/>
                  </a:lnTo>
                  <a:lnTo>
                    <a:pt x="772" y="1002"/>
                  </a:lnTo>
                  <a:lnTo>
                    <a:pt x="735" y="959"/>
                  </a:lnTo>
                  <a:lnTo>
                    <a:pt x="698" y="909"/>
                  </a:lnTo>
                  <a:lnTo>
                    <a:pt x="662" y="853"/>
                  </a:lnTo>
                  <a:lnTo>
                    <a:pt x="625" y="791"/>
                  </a:lnTo>
                  <a:lnTo>
                    <a:pt x="552" y="647"/>
                  </a:lnTo>
                  <a:lnTo>
                    <a:pt x="530" y="602"/>
                  </a:lnTo>
                  <a:lnTo>
                    <a:pt x="509" y="563"/>
                  </a:lnTo>
                  <a:lnTo>
                    <a:pt x="500" y="547"/>
                  </a:lnTo>
                  <a:lnTo>
                    <a:pt x="490" y="532"/>
                  </a:lnTo>
                  <a:lnTo>
                    <a:pt x="481" y="520"/>
                  </a:lnTo>
                  <a:lnTo>
                    <a:pt x="472" y="509"/>
                  </a:lnTo>
                  <a:lnTo>
                    <a:pt x="463" y="499"/>
                  </a:lnTo>
                  <a:lnTo>
                    <a:pt x="454" y="490"/>
                  </a:lnTo>
                  <a:lnTo>
                    <a:pt x="444" y="481"/>
                  </a:lnTo>
                  <a:lnTo>
                    <a:pt x="435" y="472"/>
                  </a:lnTo>
                  <a:lnTo>
                    <a:pt x="424" y="464"/>
                  </a:lnTo>
                  <a:lnTo>
                    <a:pt x="414" y="455"/>
                  </a:lnTo>
                  <a:lnTo>
                    <a:pt x="402" y="448"/>
                  </a:lnTo>
                  <a:lnTo>
                    <a:pt x="391" y="440"/>
                  </a:lnTo>
                  <a:lnTo>
                    <a:pt x="274" y="829"/>
                  </a:lnTo>
                  <a:lnTo>
                    <a:pt x="51" y="829"/>
                  </a:lnTo>
                  <a:lnTo>
                    <a:pt x="141" y="551"/>
                  </a:lnTo>
                  <a:lnTo>
                    <a:pt x="223" y="295"/>
                  </a:lnTo>
                  <a:lnTo>
                    <a:pt x="243" y="220"/>
                  </a:lnTo>
                  <a:lnTo>
                    <a:pt x="248" y="196"/>
                  </a:lnTo>
                  <a:lnTo>
                    <a:pt x="250" y="187"/>
                  </a:lnTo>
                  <a:lnTo>
                    <a:pt x="250" y="181"/>
                  </a:lnTo>
                  <a:lnTo>
                    <a:pt x="250" y="180"/>
                  </a:lnTo>
                  <a:lnTo>
                    <a:pt x="250" y="180"/>
                  </a:lnTo>
                  <a:lnTo>
                    <a:pt x="250" y="179"/>
                  </a:lnTo>
                  <a:lnTo>
                    <a:pt x="250" y="179"/>
                  </a:lnTo>
                  <a:lnTo>
                    <a:pt x="250" y="179"/>
                  </a:lnTo>
                  <a:lnTo>
                    <a:pt x="250" y="179"/>
                  </a:lnTo>
                  <a:lnTo>
                    <a:pt x="250" y="179"/>
                  </a:lnTo>
                  <a:lnTo>
                    <a:pt x="250" y="179"/>
                  </a:lnTo>
                  <a:lnTo>
                    <a:pt x="250" y="178"/>
                  </a:lnTo>
                  <a:lnTo>
                    <a:pt x="250" y="178"/>
                  </a:lnTo>
                  <a:lnTo>
                    <a:pt x="249" y="178"/>
                  </a:lnTo>
                  <a:lnTo>
                    <a:pt x="249" y="178"/>
                  </a:lnTo>
                  <a:lnTo>
                    <a:pt x="249" y="178"/>
                  </a:lnTo>
                  <a:lnTo>
                    <a:pt x="249" y="178"/>
                  </a:lnTo>
                  <a:lnTo>
                    <a:pt x="249" y="178"/>
                  </a:lnTo>
                  <a:lnTo>
                    <a:pt x="249" y="178"/>
                  </a:lnTo>
                  <a:lnTo>
                    <a:pt x="248" y="178"/>
                  </a:lnTo>
                  <a:lnTo>
                    <a:pt x="248" y="178"/>
                  </a:lnTo>
                  <a:lnTo>
                    <a:pt x="246" y="178"/>
                  </a:lnTo>
                  <a:lnTo>
                    <a:pt x="243" y="179"/>
                  </a:lnTo>
                  <a:lnTo>
                    <a:pt x="237" y="180"/>
                  </a:lnTo>
                  <a:lnTo>
                    <a:pt x="230" y="182"/>
                  </a:lnTo>
                  <a:lnTo>
                    <a:pt x="222" y="185"/>
                  </a:lnTo>
                  <a:lnTo>
                    <a:pt x="204" y="193"/>
                  </a:lnTo>
                  <a:lnTo>
                    <a:pt x="182" y="206"/>
                  </a:lnTo>
                  <a:lnTo>
                    <a:pt x="157" y="221"/>
                  </a:lnTo>
                  <a:lnTo>
                    <a:pt x="128" y="240"/>
                  </a:lnTo>
                  <a:lnTo>
                    <a:pt x="61" y="287"/>
                  </a:lnTo>
                  <a:lnTo>
                    <a:pt x="0" y="237"/>
                  </a:lnTo>
                  <a:lnTo>
                    <a:pt x="32" y="210"/>
                  </a:lnTo>
                  <a:lnTo>
                    <a:pt x="63" y="185"/>
                  </a:lnTo>
                  <a:lnTo>
                    <a:pt x="95" y="162"/>
                  </a:lnTo>
                  <a:lnTo>
                    <a:pt x="126" y="142"/>
                  </a:lnTo>
                  <a:lnTo>
                    <a:pt x="157" y="123"/>
                  </a:lnTo>
                  <a:lnTo>
                    <a:pt x="187" y="106"/>
                  </a:lnTo>
                  <a:lnTo>
                    <a:pt x="218" y="92"/>
                  </a:lnTo>
                  <a:lnTo>
                    <a:pt x="248" y="80"/>
                  </a:lnTo>
                  <a:lnTo>
                    <a:pt x="304" y="60"/>
                  </a:lnTo>
                  <a:lnTo>
                    <a:pt x="329" y="52"/>
                  </a:lnTo>
                  <a:lnTo>
                    <a:pt x="352" y="46"/>
                  </a:lnTo>
                  <a:lnTo>
                    <a:pt x="373" y="41"/>
                  </a:lnTo>
                  <a:lnTo>
                    <a:pt x="393" y="38"/>
                  </a:lnTo>
                  <a:lnTo>
                    <a:pt x="410" y="35"/>
                  </a:lnTo>
                  <a:lnTo>
                    <a:pt x="418" y="34"/>
                  </a:lnTo>
                  <a:lnTo>
                    <a:pt x="425" y="34"/>
                  </a:lnTo>
                  <a:lnTo>
                    <a:pt x="434" y="34"/>
                  </a:lnTo>
                  <a:lnTo>
                    <a:pt x="442" y="35"/>
                  </a:lnTo>
                  <a:lnTo>
                    <a:pt x="450" y="36"/>
                  </a:lnTo>
                  <a:lnTo>
                    <a:pt x="457" y="38"/>
                  </a:lnTo>
                  <a:lnTo>
                    <a:pt x="464" y="39"/>
                  </a:lnTo>
                  <a:lnTo>
                    <a:pt x="470" y="41"/>
                  </a:lnTo>
                  <a:lnTo>
                    <a:pt x="475" y="44"/>
                  </a:lnTo>
                  <a:lnTo>
                    <a:pt x="480" y="46"/>
                  </a:lnTo>
                  <a:lnTo>
                    <a:pt x="484" y="49"/>
                  </a:lnTo>
                  <a:lnTo>
                    <a:pt x="488" y="53"/>
                  </a:lnTo>
                  <a:lnTo>
                    <a:pt x="491" y="56"/>
                  </a:lnTo>
                  <a:lnTo>
                    <a:pt x="493" y="60"/>
                  </a:lnTo>
                  <a:lnTo>
                    <a:pt x="495" y="65"/>
                  </a:lnTo>
                  <a:lnTo>
                    <a:pt x="497" y="70"/>
                  </a:lnTo>
                  <a:lnTo>
                    <a:pt x="498" y="75"/>
                  </a:lnTo>
                  <a:lnTo>
                    <a:pt x="498" y="81"/>
                  </a:lnTo>
                  <a:lnTo>
                    <a:pt x="498" y="84"/>
                  </a:lnTo>
                  <a:lnTo>
                    <a:pt x="497" y="89"/>
                  </a:lnTo>
                  <a:lnTo>
                    <a:pt x="494" y="103"/>
                  </a:lnTo>
                  <a:lnTo>
                    <a:pt x="489" y="122"/>
                  </a:lnTo>
                  <a:lnTo>
                    <a:pt x="482" y="146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5680" y="1236600"/>
              <a:ext cx="392040" cy="297000"/>
            </a:xfrm>
            <a:custGeom>
              <a:avLst/>
              <a:gdLst/>
              <a:ahLst/>
              <a:rect l="l" t="t" r="r" b="b"/>
              <a:pathLst>
                <a:path w="1087" h="823">
                  <a:moveTo>
                    <a:pt x="814" y="22"/>
                  </a:moveTo>
                  <a:lnTo>
                    <a:pt x="1028" y="22"/>
                  </a:lnTo>
                  <a:lnTo>
                    <a:pt x="915" y="359"/>
                  </a:lnTo>
                  <a:lnTo>
                    <a:pt x="842" y="571"/>
                  </a:lnTo>
                  <a:lnTo>
                    <a:pt x="823" y="633"/>
                  </a:lnTo>
                  <a:lnTo>
                    <a:pt x="819" y="653"/>
                  </a:lnTo>
                  <a:lnTo>
                    <a:pt x="817" y="660"/>
                  </a:lnTo>
                  <a:lnTo>
                    <a:pt x="817" y="665"/>
                  </a:lnTo>
                  <a:lnTo>
                    <a:pt x="817" y="668"/>
                  </a:lnTo>
                  <a:lnTo>
                    <a:pt x="817" y="670"/>
                  </a:lnTo>
                  <a:lnTo>
                    <a:pt x="817" y="672"/>
                  </a:lnTo>
                  <a:lnTo>
                    <a:pt x="818" y="674"/>
                  </a:lnTo>
                  <a:lnTo>
                    <a:pt x="818" y="675"/>
                  </a:lnTo>
                  <a:lnTo>
                    <a:pt x="819" y="676"/>
                  </a:lnTo>
                  <a:lnTo>
                    <a:pt x="819" y="677"/>
                  </a:lnTo>
                  <a:lnTo>
                    <a:pt x="820" y="678"/>
                  </a:lnTo>
                  <a:lnTo>
                    <a:pt x="820" y="678"/>
                  </a:lnTo>
                  <a:lnTo>
                    <a:pt x="820" y="678"/>
                  </a:lnTo>
                  <a:lnTo>
                    <a:pt x="821" y="679"/>
                  </a:lnTo>
                  <a:lnTo>
                    <a:pt x="822" y="680"/>
                  </a:lnTo>
                  <a:lnTo>
                    <a:pt x="822" y="681"/>
                  </a:lnTo>
                  <a:lnTo>
                    <a:pt x="823" y="681"/>
                  </a:lnTo>
                  <a:lnTo>
                    <a:pt x="824" y="681"/>
                  </a:lnTo>
                  <a:lnTo>
                    <a:pt x="824" y="681"/>
                  </a:lnTo>
                  <a:lnTo>
                    <a:pt x="824" y="681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6" y="682"/>
                  </a:lnTo>
                  <a:lnTo>
                    <a:pt x="826" y="682"/>
                  </a:lnTo>
                  <a:lnTo>
                    <a:pt x="826" y="682"/>
                  </a:lnTo>
                  <a:lnTo>
                    <a:pt x="828" y="682"/>
                  </a:lnTo>
                  <a:lnTo>
                    <a:pt x="829" y="682"/>
                  </a:lnTo>
                  <a:lnTo>
                    <a:pt x="833" y="681"/>
                  </a:lnTo>
                  <a:lnTo>
                    <a:pt x="837" y="681"/>
                  </a:lnTo>
                  <a:lnTo>
                    <a:pt x="840" y="680"/>
                  </a:lnTo>
                  <a:lnTo>
                    <a:pt x="844" y="678"/>
                  </a:lnTo>
                  <a:lnTo>
                    <a:pt x="848" y="677"/>
                  </a:lnTo>
                  <a:lnTo>
                    <a:pt x="853" y="675"/>
                  </a:lnTo>
                  <a:lnTo>
                    <a:pt x="857" y="673"/>
                  </a:lnTo>
                  <a:lnTo>
                    <a:pt x="868" y="667"/>
                  </a:lnTo>
                  <a:lnTo>
                    <a:pt x="882" y="659"/>
                  </a:lnTo>
                  <a:lnTo>
                    <a:pt x="918" y="636"/>
                  </a:lnTo>
                  <a:lnTo>
                    <a:pt x="1023" y="565"/>
                  </a:lnTo>
                  <a:lnTo>
                    <a:pt x="1086" y="617"/>
                  </a:lnTo>
                  <a:lnTo>
                    <a:pt x="1025" y="665"/>
                  </a:lnTo>
                  <a:lnTo>
                    <a:pt x="968" y="707"/>
                  </a:lnTo>
                  <a:lnTo>
                    <a:pt x="915" y="742"/>
                  </a:lnTo>
                  <a:lnTo>
                    <a:pt x="866" y="771"/>
                  </a:lnTo>
                  <a:lnTo>
                    <a:pt x="821" y="793"/>
                  </a:lnTo>
                  <a:lnTo>
                    <a:pt x="800" y="802"/>
                  </a:lnTo>
                  <a:lnTo>
                    <a:pt x="780" y="809"/>
                  </a:lnTo>
                  <a:lnTo>
                    <a:pt x="761" y="815"/>
                  </a:lnTo>
                  <a:lnTo>
                    <a:pt x="743" y="819"/>
                  </a:lnTo>
                  <a:lnTo>
                    <a:pt x="726" y="821"/>
                  </a:lnTo>
                  <a:lnTo>
                    <a:pt x="710" y="822"/>
                  </a:lnTo>
                  <a:lnTo>
                    <a:pt x="698" y="821"/>
                  </a:lnTo>
                  <a:lnTo>
                    <a:pt x="686" y="821"/>
                  </a:lnTo>
                  <a:lnTo>
                    <a:pt x="681" y="819"/>
                  </a:lnTo>
                  <a:lnTo>
                    <a:pt x="675" y="818"/>
                  </a:lnTo>
                  <a:lnTo>
                    <a:pt x="670" y="817"/>
                  </a:lnTo>
                  <a:lnTo>
                    <a:pt x="664" y="815"/>
                  </a:lnTo>
                  <a:lnTo>
                    <a:pt x="659" y="814"/>
                  </a:lnTo>
                  <a:lnTo>
                    <a:pt x="654" y="811"/>
                  </a:lnTo>
                  <a:lnTo>
                    <a:pt x="649" y="809"/>
                  </a:lnTo>
                  <a:lnTo>
                    <a:pt x="645" y="807"/>
                  </a:lnTo>
                  <a:lnTo>
                    <a:pt x="640" y="804"/>
                  </a:lnTo>
                  <a:lnTo>
                    <a:pt x="636" y="801"/>
                  </a:lnTo>
                  <a:lnTo>
                    <a:pt x="627" y="795"/>
                  </a:lnTo>
                  <a:lnTo>
                    <a:pt x="623" y="791"/>
                  </a:lnTo>
                  <a:lnTo>
                    <a:pt x="619" y="788"/>
                  </a:lnTo>
                  <a:lnTo>
                    <a:pt x="616" y="784"/>
                  </a:lnTo>
                  <a:lnTo>
                    <a:pt x="613" y="780"/>
                  </a:lnTo>
                  <a:lnTo>
                    <a:pt x="610" y="776"/>
                  </a:lnTo>
                  <a:lnTo>
                    <a:pt x="607" y="771"/>
                  </a:lnTo>
                  <a:lnTo>
                    <a:pt x="602" y="762"/>
                  </a:lnTo>
                  <a:lnTo>
                    <a:pt x="599" y="752"/>
                  </a:lnTo>
                  <a:lnTo>
                    <a:pt x="596" y="742"/>
                  </a:lnTo>
                  <a:lnTo>
                    <a:pt x="595" y="731"/>
                  </a:lnTo>
                  <a:lnTo>
                    <a:pt x="594" y="719"/>
                  </a:lnTo>
                  <a:lnTo>
                    <a:pt x="594" y="706"/>
                  </a:lnTo>
                  <a:lnTo>
                    <a:pt x="596" y="694"/>
                  </a:lnTo>
                  <a:lnTo>
                    <a:pt x="598" y="681"/>
                  </a:lnTo>
                  <a:lnTo>
                    <a:pt x="601" y="668"/>
                  </a:lnTo>
                  <a:lnTo>
                    <a:pt x="604" y="655"/>
                  </a:lnTo>
                  <a:lnTo>
                    <a:pt x="609" y="641"/>
                  </a:lnTo>
                  <a:lnTo>
                    <a:pt x="614" y="628"/>
                  </a:lnTo>
                  <a:lnTo>
                    <a:pt x="620" y="613"/>
                  </a:lnTo>
                  <a:lnTo>
                    <a:pt x="602" y="635"/>
                  </a:lnTo>
                  <a:lnTo>
                    <a:pt x="582" y="656"/>
                  </a:lnTo>
                  <a:lnTo>
                    <a:pt x="558" y="676"/>
                  </a:lnTo>
                  <a:lnTo>
                    <a:pt x="532" y="696"/>
                  </a:lnTo>
                  <a:lnTo>
                    <a:pt x="503" y="715"/>
                  </a:lnTo>
                  <a:lnTo>
                    <a:pt x="470" y="735"/>
                  </a:lnTo>
                  <a:lnTo>
                    <a:pt x="435" y="753"/>
                  </a:lnTo>
                  <a:lnTo>
                    <a:pt x="396" y="771"/>
                  </a:lnTo>
                  <a:lnTo>
                    <a:pt x="369" y="783"/>
                  </a:lnTo>
                  <a:lnTo>
                    <a:pt x="344" y="793"/>
                  </a:lnTo>
                  <a:lnTo>
                    <a:pt x="318" y="801"/>
                  </a:lnTo>
                  <a:lnTo>
                    <a:pt x="294" y="808"/>
                  </a:lnTo>
                  <a:lnTo>
                    <a:pt x="271" y="813"/>
                  </a:lnTo>
                  <a:lnTo>
                    <a:pt x="248" y="817"/>
                  </a:lnTo>
                  <a:lnTo>
                    <a:pt x="226" y="819"/>
                  </a:lnTo>
                  <a:lnTo>
                    <a:pt x="205" y="820"/>
                  </a:lnTo>
                  <a:lnTo>
                    <a:pt x="192" y="819"/>
                  </a:lnTo>
                  <a:lnTo>
                    <a:pt x="180" y="818"/>
                  </a:lnTo>
                  <a:lnTo>
                    <a:pt x="174" y="818"/>
                  </a:lnTo>
                  <a:lnTo>
                    <a:pt x="169" y="816"/>
                  </a:lnTo>
                  <a:lnTo>
                    <a:pt x="163" y="815"/>
                  </a:lnTo>
                  <a:lnTo>
                    <a:pt x="158" y="813"/>
                  </a:lnTo>
                  <a:lnTo>
                    <a:pt x="153" y="811"/>
                  </a:lnTo>
                  <a:lnTo>
                    <a:pt x="148" y="809"/>
                  </a:lnTo>
                  <a:lnTo>
                    <a:pt x="143" y="807"/>
                  </a:lnTo>
                  <a:lnTo>
                    <a:pt x="138" y="805"/>
                  </a:lnTo>
                  <a:lnTo>
                    <a:pt x="134" y="802"/>
                  </a:lnTo>
                  <a:lnTo>
                    <a:pt x="130" y="799"/>
                  </a:lnTo>
                  <a:lnTo>
                    <a:pt x="126" y="796"/>
                  </a:lnTo>
                  <a:lnTo>
                    <a:pt x="122" y="793"/>
                  </a:lnTo>
                  <a:lnTo>
                    <a:pt x="118" y="790"/>
                  </a:lnTo>
                  <a:lnTo>
                    <a:pt x="115" y="787"/>
                  </a:lnTo>
                  <a:lnTo>
                    <a:pt x="112" y="783"/>
                  </a:lnTo>
                  <a:lnTo>
                    <a:pt x="109" y="779"/>
                  </a:lnTo>
                  <a:lnTo>
                    <a:pt x="106" y="774"/>
                  </a:lnTo>
                  <a:lnTo>
                    <a:pt x="104" y="770"/>
                  </a:lnTo>
                  <a:lnTo>
                    <a:pt x="100" y="761"/>
                  </a:lnTo>
                  <a:lnTo>
                    <a:pt x="96" y="750"/>
                  </a:lnTo>
                  <a:lnTo>
                    <a:pt x="94" y="739"/>
                  </a:lnTo>
                  <a:lnTo>
                    <a:pt x="92" y="727"/>
                  </a:lnTo>
                  <a:lnTo>
                    <a:pt x="92" y="715"/>
                  </a:lnTo>
                  <a:lnTo>
                    <a:pt x="93" y="696"/>
                  </a:lnTo>
                  <a:lnTo>
                    <a:pt x="95" y="677"/>
                  </a:lnTo>
                  <a:lnTo>
                    <a:pt x="98" y="656"/>
                  </a:lnTo>
                  <a:lnTo>
                    <a:pt x="103" y="636"/>
                  </a:lnTo>
                  <a:lnTo>
                    <a:pt x="114" y="600"/>
                  </a:lnTo>
                  <a:lnTo>
                    <a:pt x="130" y="550"/>
                  </a:lnTo>
                  <a:lnTo>
                    <a:pt x="181" y="407"/>
                  </a:lnTo>
                  <a:lnTo>
                    <a:pt x="216" y="311"/>
                  </a:lnTo>
                  <a:lnTo>
                    <a:pt x="240" y="236"/>
                  </a:lnTo>
                  <a:lnTo>
                    <a:pt x="255" y="184"/>
                  </a:lnTo>
                  <a:lnTo>
                    <a:pt x="259" y="166"/>
                  </a:lnTo>
                  <a:lnTo>
                    <a:pt x="260" y="158"/>
                  </a:lnTo>
                  <a:lnTo>
                    <a:pt x="260" y="153"/>
                  </a:lnTo>
                  <a:lnTo>
                    <a:pt x="260" y="146"/>
                  </a:lnTo>
                  <a:lnTo>
                    <a:pt x="258" y="146"/>
                  </a:lnTo>
                  <a:lnTo>
                    <a:pt x="256" y="146"/>
                  </a:lnTo>
                  <a:lnTo>
                    <a:pt x="254" y="147"/>
                  </a:lnTo>
                  <a:lnTo>
                    <a:pt x="252" y="147"/>
                  </a:lnTo>
                  <a:lnTo>
                    <a:pt x="247" y="149"/>
                  </a:lnTo>
                  <a:lnTo>
                    <a:pt x="241" y="150"/>
                  </a:lnTo>
                  <a:lnTo>
                    <a:pt x="235" y="152"/>
                  </a:lnTo>
                  <a:lnTo>
                    <a:pt x="228" y="155"/>
                  </a:lnTo>
                  <a:lnTo>
                    <a:pt x="221" y="157"/>
                  </a:lnTo>
                  <a:lnTo>
                    <a:pt x="213" y="161"/>
                  </a:lnTo>
                  <a:lnTo>
                    <a:pt x="204" y="165"/>
                  </a:lnTo>
                  <a:lnTo>
                    <a:pt x="192" y="171"/>
                  </a:lnTo>
                  <a:lnTo>
                    <a:pt x="163" y="189"/>
                  </a:lnTo>
                  <a:lnTo>
                    <a:pt x="77" y="242"/>
                  </a:lnTo>
                  <a:lnTo>
                    <a:pt x="0" y="194"/>
                  </a:lnTo>
                  <a:lnTo>
                    <a:pt x="80" y="137"/>
                  </a:lnTo>
                  <a:lnTo>
                    <a:pt x="149" y="92"/>
                  </a:lnTo>
                  <a:lnTo>
                    <a:pt x="180" y="73"/>
                  </a:lnTo>
                  <a:lnTo>
                    <a:pt x="208" y="58"/>
                  </a:lnTo>
                  <a:lnTo>
                    <a:pt x="234" y="44"/>
                  </a:lnTo>
                  <a:lnTo>
                    <a:pt x="257" y="34"/>
                  </a:lnTo>
                  <a:lnTo>
                    <a:pt x="278" y="26"/>
                  </a:lnTo>
                  <a:lnTo>
                    <a:pt x="299" y="19"/>
                  </a:lnTo>
                  <a:lnTo>
                    <a:pt x="318" y="13"/>
                  </a:lnTo>
                  <a:lnTo>
                    <a:pt x="337" y="8"/>
                  </a:lnTo>
                  <a:lnTo>
                    <a:pt x="355" y="4"/>
                  </a:lnTo>
                  <a:lnTo>
                    <a:pt x="371" y="2"/>
                  </a:lnTo>
                  <a:lnTo>
                    <a:pt x="387" y="0"/>
                  </a:lnTo>
                  <a:lnTo>
                    <a:pt x="402" y="0"/>
                  </a:lnTo>
                  <a:lnTo>
                    <a:pt x="412" y="0"/>
                  </a:lnTo>
                  <a:lnTo>
                    <a:pt x="421" y="1"/>
                  </a:lnTo>
                  <a:lnTo>
                    <a:pt x="425" y="2"/>
                  </a:lnTo>
                  <a:lnTo>
                    <a:pt x="430" y="3"/>
                  </a:lnTo>
                  <a:lnTo>
                    <a:pt x="434" y="3"/>
                  </a:lnTo>
                  <a:lnTo>
                    <a:pt x="438" y="5"/>
                  </a:lnTo>
                  <a:lnTo>
                    <a:pt x="442" y="6"/>
                  </a:lnTo>
                  <a:lnTo>
                    <a:pt x="446" y="8"/>
                  </a:lnTo>
                  <a:lnTo>
                    <a:pt x="450" y="9"/>
                  </a:lnTo>
                  <a:lnTo>
                    <a:pt x="453" y="12"/>
                  </a:lnTo>
                  <a:lnTo>
                    <a:pt x="457" y="14"/>
                  </a:lnTo>
                  <a:lnTo>
                    <a:pt x="460" y="16"/>
                  </a:lnTo>
                  <a:lnTo>
                    <a:pt x="464" y="18"/>
                  </a:lnTo>
                  <a:lnTo>
                    <a:pt x="467" y="21"/>
                  </a:lnTo>
                  <a:lnTo>
                    <a:pt x="470" y="24"/>
                  </a:lnTo>
                  <a:lnTo>
                    <a:pt x="473" y="28"/>
                  </a:lnTo>
                  <a:lnTo>
                    <a:pt x="475" y="31"/>
                  </a:lnTo>
                  <a:lnTo>
                    <a:pt x="478" y="34"/>
                  </a:lnTo>
                  <a:lnTo>
                    <a:pt x="482" y="40"/>
                  </a:lnTo>
                  <a:lnTo>
                    <a:pt x="485" y="48"/>
                  </a:lnTo>
                  <a:lnTo>
                    <a:pt x="488" y="56"/>
                  </a:lnTo>
                  <a:lnTo>
                    <a:pt x="490" y="64"/>
                  </a:lnTo>
                  <a:lnTo>
                    <a:pt x="491" y="73"/>
                  </a:lnTo>
                  <a:lnTo>
                    <a:pt x="491" y="83"/>
                  </a:lnTo>
                  <a:lnTo>
                    <a:pt x="490" y="101"/>
                  </a:lnTo>
                  <a:lnTo>
                    <a:pt x="486" y="126"/>
                  </a:lnTo>
                  <a:lnTo>
                    <a:pt x="469" y="192"/>
                  </a:lnTo>
                  <a:lnTo>
                    <a:pt x="442" y="280"/>
                  </a:lnTo>
                  <a:lnTo>
                    <a:pt x="405" y="392"/>
                  </a:lnTo>
                  <a:lnTo>
                    <a:pt x="349" y="561"/>
                  </a:lnTo>
                  <a:lnTo>
                    <a:pt x="335" y="610"/>
                  </a:lnTo>
                  <a:lnTo>
                    <a:pt x="331" y="626"/>
                  </a:lnTo>
                  <a:lnTo>
                    <a:pt x="330" y="631"/>
                  </a:lnTo>
                  <a:lnTo>
                    <a:pt x="330" y="636"/>
                  </a:lnTo>
                  <a:lnTo>
                    <a:pt x="330" y="639"/>
                  </a:lnTo>
                  <a:lnTo>
                    <a:pt x="331" y="642"/>
                  </a:lnTo>
                  <a:lnTo>
                    <a:pt x="331" y="645"/>
                  </a:lnTo>
                  <a:lnTo>
                    <a:pt x="332" y="647"/>
                  </a:lnTo>
                  <a:lnTo>
                    <a:pt x="334" y="650"/>
                  </a:lnTo>
                  <a:lnTo>
                    <a:pt x="335" y="652"/>
                  </a:lnTo>
                  <a:lnTo>
                    <a:pt x="337" y="654"/>
                  </a:lnTo>
                  <a:lnTo>
                    <a:pt x="339" y="656"/>
                  </a:lnTo>
                  <a:lnTo>
                    <a:pt x="341" y="658"/>
                  </a:lnTo>
                  <a:lnTo>
                    <a:pt x="343" y="659"/>
                  </a:lnTo>
                  <a:lnTo>
                    <a:pt x="345" y="661"/>
                  </a:lnTo>
                  <a:lnTo>
                    <a:pt x="348" y="662"/>
                  </a:lnTo>
                  <a:lnTo>
                    <a:pt x="349" y="662"/>
                  </a:lnTo>
                  <a:lnTo>
                    <a:pt x="350" y="662"/>
                  </a:lnTo>
                  <a:lnTo>
                    <a:pt x="351" y="663"/>
                  </a:lnTo>
                  <a:lnTo>
                    <a:pt x="352" y="663"/>
                  </a:lnTo>
                  <a:lnTo>
                    <a:pt x="353" y="664"/>
                  </a:lnTo>
                  <a:lnTo>
                    <a:pt x="354" y="664"/>
                  </a:lnTo>
                  <a:lnTo>
                    <a:pt x="355" y="664"/>
                  </a:lnTo>
                  <a:lnTo>
                    <a:pt x="356" y="664"/>
                  </a:lnTo>
                  <a:lnTo>
                    <a:pt x="363" y="664"/>
                  </a:lnTo>
                  <a:lnTo>
                    <a:pt x="371" y="662"/>
                  </a:lnTo>
                  <a:lnTo>
                    <a:pt x="379" y="661"/>
                  </a:lnTo>
                  <a:lnTo>
                    <a:pt x="388" y="659"/>
                  </a:lnTo>
                  <a:lnTo>
                    <a:pt x="397" y="656"/>
                  </a:lnTo>
                  <a:lnTo>
                    <a:pt x="407" y="653"/>
                  </a:lnTo>
                  <a:lnTo>
                    <a:pt x="427" y="644"/>
                  </a:lnTo>
                  <a:lnTo>
                    <a:pt x="450" y="633"/>
                  </a:lnTo>
                  <a:lnTo>
                    <a:pt x="474" y="619"/>
                  </a:lnTo>
                  <a:lnTo>
                    <a:pt x="500" y="603"/>
                  </a:lnTo>
                  <a:lnTo>
                    <a:pt x="528" y="584"/>
                  </a:lnTo>
                  <a:lnTo>
                    <a:pt x="556" y="565"/>
                  </a:lnTo>
                  <a:lnTo>
                    <a:pt x="581" y="544"/>
                  </a:lnTo>
                  <a:lnTo>
                    <a:pt x="604" y="522"/>
                  </a:lnTo>
                  <a:lnTo>
                    <a:pt x="624" y="500"/>
                  </a:lnTo>
                  <a:lnTo>
                    <a:pt x="642" y="478"/>
                  </a:lnTo>
                  <a:lnTo>
                    <a:pt x="657" y="454"/>
                  </a:lnTo>
                  <a:lnTo>
                    <a:pt x="670" y="430"/>
                  </a:lnTo>
                  <a:lnTo>
                    <a:pt x="680" y="405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76800" y="1235160"/>
              <a:ext cx="285840" cy="295200"/>
            </a:xfrm>
            <a:custGeom>
              <a:avLst/>
              <a:gdLst/>
              <a:ahLst/>
              <a:rect l="l" t="t" r="r" b="b"/>
              <a:pathLst>
                <a:path w="794" h="819">
                  <a:moveTo>
                    <a:pt x="664" y="533"/>
                  </a:moveTo>
                  <a:lnTo>
                    <a:pt x="723" y="593"/>
                  </a:lnTo>
                  <a:lnTo>
                    <a:pt x="648" y="646"/>
                  </a:lnTo>
                  <a:lnTo>
                    <a:pt x="574" y="691"/>
                  </a:lnTo>
                  <a:lnTo>
                    <a:pt x="505" y="730"/>
                  </a:lnTo>
                  <a:lnTo>
                    <a:pt x="438" y="762"/>
                  </a:lnTo>
                  <a:lnTo>
                    <a:pt x="374" y="786"/>
                  </a:lnTo>
                  <a:lnTo>
                    <a:pt x="343" y="796"/>
                  </a:lnTo>
                  <a:lnTo>
                    <a:pt x="312" y="803"/>
                  </a:lnTo>
                  <a:lnTo>
                    <a:pt x="283" y="810"/>
                  </a:lnTo>
                  <a:lnTo>
                    <a:pt x="254" y="814"/>
                  </a:lnTo>
                  <a:lnTo>
                    <a:pt x="226" y="817"/>
                  </a:lnTo>
                  <a:lnTo>
                    <a:pt x="198" y="818"/>
                  </a:lnTo>
                  <a:lnTo>
                    <a:pt x="174" y="817"/>
                  </a:lnTo>
                  <a:lnTo>
                    <a:pt x="152" y="815"/>
                  </a:lnTo>
                  <a:lnTo>
                    <a:pt x="142" y="813"/>
                  </a:lnTo>
                  <a:lnTo>
                    <a:pt x="132" y="811"/>
                  </a:lnTo>
                  <a:lnTo>
                    <a:pt x="122" y="809"/>
                  </a:lnTo>
                  <a:lnTo>
                    <a:pt x="113" y="806"/>
                  </a:lnTo>
                  <a:lnTo>
                    <a:pt x="104" y="803"/>
                  </a:lnTo>
                  <a:lnTo>
                    <a:pt x="95" y="799"/>
                  </a:lnTo>
                  <a:lnTo>
                    <a:pt x="87" y="795"/>
                  </a:lnTo>
                  <a:lnTo>
                    <a:pt x="79" y="791"/>
                  </a:lnTo>
                  <a:lnTo>
                    <a:pt x="71" y="786"/>
                  </a:lnTo>
                  <a:lnTo>
                    <a:pt x="64" y="781"/>
                  </a:lnTo>
                  <a:lnTo>
                    <a:pt x="57" y="775"/>
                  </a:lnTo>
                  <a:lnTo>
                    <a:pt x="51" y="769"/>
                  </a:lnTo>
                  <a:lnTo>
                    <a:pt x="45" y="763"/>
                  </a:lnTo>
                  <a:lnTo>
                    <a:pt x="39" y="756"/>
                  </a:lnTo>
                  <a:lnTo>
                    <a:pt x="34" y="749"/>
                  </a:lnTo>
                  <a:lnTo>
                    <a:pt x="29" y="741"/>
                  </a:lnTo>
                  <a:lnTo>
                    <a:pt x="20" y="725"/>
                  </a:lnTo>
                  <a:lnTo>
                    <a:pt x="13" y="707"/>
                  </a:lnTo>
                  <a:lnTo>
                    <a:pt x="7" y="687"/>
                  </a:lnTo>
                  <a:lnTo>
                    <a:pt x="3" y="666"/>
                  </a:lnTo>
                  <a:lnTo>
                    <a:pt x="1" y="643"/>
                  </a:lnTo>
                  <a:lnTo>
                    <a:pt x="0" y="618"/>
                  </a:lnTo>
                  <a:lnTo>
                    <a:pt x="2" y="569"/>
                  </a:lnTo>
                  <a:lnTo>
                    <a:pt x="10" y="520"/>
                  </a:lnTo>
                  <a:lnTo>
                    <a:pt x="22" y="470"/>
                  </a:lnTo>
                  <a:lnTo>
                    <a:pt x="40" y="421"/>
                  </a:lnTo>
                  <a:lnTo>
                    <a:pt x="62" y="372"/>
                  </a:lnTo>
                  <a:lnTo>
                    <a:pt x="89" y="324"/>
                  </a:lnTo>
                  <a:lnTo>
                    <a:pt x="121" y="274"/>
                  </a:lnTo>
                  <a:lnTo>
                    <a:pt x="158" y="226"/>
                  </a:lnTo>
                  <a:lnTo>
                    <a:pt x="204" y="173"/>
                  </a:lnTo>
                  <a:lnTo>
                    <a:pt x="253" y="127"/>
                  </a:lnTo>
                  <a:lnTo>
                    <a:pt x="278" y="107"/>
                  </a:lnTo>
                  <a:lnTo>
                    <a:pt x="304" y="88"/>
                  </a:lnTo>
                  <a:lnTo>
                    <a:pt x="330" y="72"/>
                  </a:lnTo>
                  <a:lnTo>
                    <a:pt x="357" y="56"/>
                  </a:lnTo>
                  <a:lnTo>
                    <a:pt x="384" y="44"/>
                  </a:lnTo>
                  <a:lnTo>
                    <a:pt x="412" y="32"/>
                  </a:lnTo>
                  <a:lnTo>
                    <a:pt x="441" y="22"/>
                  </a:lnTo>
                  <a:lnTo>
                    <a:pt x="470" y="15"/>
                  </a:lnTo>
                  <a:lnTo>
                    <a:pt x="500" y="8"/>
                  </a:lnTo>
                  <a:lnTo>
                    <a:pt x="530" y="4"/>
                  </a:lnTo>
                  <a:lnTo>
                    <a:pt x="561" y="1"/>
                  </a:lnTo>
                  <a:lnTo>
                    <a:pt x="593" y="0"/>
                  </a:lnTo>
                  <a:lnTo>
                    <a:pt x="616" y="1"/>
                  </a:lnTo>
                  <a:lnTo>
                    <a:pt x="639" y="3"/>
                  </a:lnTo>
                  <a:lnTo>
                    <a:pt x="659" y="6"/>
                  </a:lnTo>
                  <a:lnTo>
                    <a:pt x="678" y="10"/>
                  </a:lnTo>
                  <a:lnTo>
                    <a:pt x="696" y="16"/>
                  </a:lnTo>
                  <a:lnTo>
                    <a:pt x="704" y="19"/>
                  </a:lnTo>
                  <a:lnTo>
                    <a:pt x="712" y="22"/>
                  </a:lnTo>
                  <a:lnTo>
                    <a:pt x="720" y="25"/>
                  </a:lnTo>
                  <a:lnTo>
                    <a:pt x="727" y="29"/>
                  </a:lnTo>
                  <a:lnTo>
                    <a:pt x="734" y="34"/>
                  </a:lnTo>
                  <a:lnTo>
                    <a:pt x="741" y="38"/>
                  </a:lnTo>
                  <a:lnTo>
                    <a:pt x="747" y="43"/>
                  </a:lnTo>
                  <a:lnTo>
                    <a:pt x="753" y="48"/>
                  </a:lnTo>
                  <a:lnTo>
                    <a:pt x="759" y="53"/>
                  </a:lnTo>
                  <a:lnTo>
                    <a:pt x="764" y="59"/>
                  </a:lnTo>
                  <a:lnTo>
                    <a:pt x="769" y="64"/>
                  </a:lnTo>
                  <a:lnTo>
                    <a:pt x="773" y="70"/>
                  </a:lnTo>
                  <a:lnTo>
                    <a:pt x="777" y="76"/>
                  </a:lnTo>
                  <a:lnTo>
                    <a:pt x="780" y="82"/>
                  </a:lnTo>
                  <a:lnTo>
                    <a:pt x="783" y="88"/>
                  </a:lnTo>
                  <a:lnTo>
                    <a:pt x="786" y="95"/>
                  </a:lnTo>
                  <a:lnTo>
                    <a:pt x="790" y="109"/>
                  </a:lnTo>
                  <a:lnTo>
                    <a:pt x="792" y="123"/>
                  </a:lnTo>
                  <a:lnTo>
                    <a:pt x="793" y="138"/>
                  </a:lnTo>
                  <a:lnTo>
                    <a:pt x="792" y="154"/>
                  </a:lnTo>
                  <a:lnTo>
                    <a:pt x="789" y="170"/>
                  </a:lnTo>
                  <a:lnTo>
                    <a:pt x="785" y="186"/>
                  </a:lnTo>
                  <a:lnTo>
                    <a:pt x="779" y="202"/>
                  </a:lnTo>
                  <a:lnTo>
                    <a:pt x="771" y="218"/>
                  </a:lnTo>
                  <a:lnTo>
                    <a:pt x="761" y="233"/>
                  </a:lnTo>
                  <a:lnTo>
                    <a:pt x="749" y="248"/>
                  </a:lnTo>
                  <a:lnTo>
                    <a:pt x="736" y="263"/>
                  </a:lnTo>
                  <a:lnTo>
                    <a:pt x="721" y="278"/>
                  </a:lnTo>
                  <a:lnTo>
                    <a:pt x="703" y="293"/>
                  </a:lnTo>
                  <a:lnTo>
                    <a:pt x="683" y="308"/>
                  </a:lnTo>
                  <a:lnTo>
                    <a:pt x="661" y="323"/>
                  </a:lnTo>
                  <a:lnTo>
                    <a:pt x="636" y="338"/>
                  </a:lnTo>
                  <a:lnTo>
                    <a:pt x="608" y="352"/>
                  </a:lnTo>
                  <a:lnTo>
                    <a:pt x="579" y="367"/>
                  </a:lnTo>
                  <a:lnTo>
                    <a:pt x="548" y="381"/>
                  </a:lnTo>
                  <a:lnTo>
                    <a:pt x="498" y="402"/>
                  </a:lnTo>
                  <a:lnTo>
                    <a:pt x="432" y="427"/>
                  </a:lnTo>
                  <a:lnTo>
                    <a:pt x="251" y="491"/>
                  </a:lnTo>
                  <a:lnTo>
                    <a:pt x="247" y="510"/>
                  </a:lnTo>
                  <a:lnTo>
                    <a:pt x="244" y="529"/>
                  </a:lnTo>
                  <a:lnTo>
                    <a:pt x="243" y="549"/>
                  </a:lnTo>
                  <a:lnTo>
                    <a:pt x="242" y="570"/>
                  </a:lnTo>
                  <a:lnTo>
                    <a:pt x="242" y="584"/>
                  </a:lnTo>
                  <a:lnTo>
                    <a:pt x="243" y="597"/>
                  </a:lnTo>
                  <a:lnTo>
                    <a:pt x="245" y="608"/>
                  </a:lnTo>
                  <a:lnTo>
                    <a:pt x="247" y="619"/>
                  </a:lnTo>
                  <a:lnTo>
                    <a:pt x="250" y="627"/>
                  </a:lnTo>
                  <a:lnTo>
                    <a:pt x="252" y="632"/>
                  </a:lnTo>
                  <a:lnTo>
                    <a:pt x="253" y="635"/>
                  </a:lnTo>
                  <a:lnTo>
                    <a:pt x="255" y="638"/>
                  </a:lnTo>
                  <a:lnTo>
                    <a:pt x="257" y="641"/>
                  </a:lnTo>
                  <a:lnTo>
                    <a:pt x="260" y="644"/>
                  </a:lnTo>
                  <a:lnTo>
                    <a:pt x="262" y="647"/>
                  </a:lnTo>
                  <a:lnTo>
                    <a:pt x="265" y="649"/>
                  </a:lnTo>
                  <a:lnTo>
                    <a:pt x="268" y="651"/>
                  </a:lnTo>
                  <a:lnTo>
                    <a:pt x="271" y="654"/>
                  </a:lnTo>
                  <a:lnTo>
                    <a:pt x="274" y="655"/>
                  </a:lnTo>
                  <a:lnTo>
                    <a:pt x="277" y="657"/>
                  </a:lnTo>
                  <a:lnTo>
                    <a:pt x="280" y="658"/>
                  </a:lnTo>
                  <a:lnTo>
                    <a:pt x="284" y="660"/>
                  </a:lnTo>
                  <a:lnTo>
                    <a:pt x="287" y="661"/>
                  </a:lnTo>
                  <a:lnTo>
                    <a:pt x="291" y="662"/>
                  </a:lnTo>
                  <a:lnTo>
                    <a:pt x="295" y="663"/>
                  </a:lnTo>
                  <a:lnTo>
                    <a:pt x="299" y="664"/>
                  </a:lnTo>
                  <a:lnTo>
                    <a:pt x="303" y="664"/>
                  </a:lnTo>
                  <a:lnTo>
                    <a:pt x="312" y="666"/>
                  </a:lnTo>
                  <a:lnTo>
                    <a:pt x="321" y="666"/>
                  </a:lnTo>
                  <a:lnTo>
                    <a:pt x="332" y="666"/>
                  </a:lnTo>
                  <a:lnTo>
                    <a:pt x="343" y="664"/>
                  </a:lnTo>
                  <a:lnTo>
                    <a:pt x="355" y="663"/>
                  </a:lnTo>
                  <a:lnTo>
                    <a:pt x="367" y="661"/>
                  </a:lnTo>
                  <a:lnTo>
                    <a:pt x="379" y="658"/>
                  </a:lnTo>
                  <a:lnTo>
                    <a:pt x="392" y="655"/>
                  </a:lnTo>
                  <a:lnTo>
                    <a:pt x="405" y="651"/>
                  </a:lnTo>
                  <a:lnTo>
                    <a:pt x="418" y="647"/>
                  </a:lnTo>
                  <a:lnTo>
                    <a:pt x="439" y="639"/>
                  </a:lnTo>
                  <a:lnTo>
                    <a:pt x="462" y="630"/>
                  </a:lnTo>
                  <a:lnTo>
                    <a:pt x="518" y="605"/>
                  </a:lnTo>
                  <a:lnTo>
                    <a:pt x="585" y="573"/>
                  </a:lnTo>
                  <a:close/>
                  <a:moveTo>
                    <a:pt x="267" y="402"/>
                  </a:moveTo>
                  <a:lnTo>
                    <a:pt x="339" y="371"/>
                  </a:lnTo>
                  <a:lnTo>
                    <a:pt x="403" y="340"/>
                  </a:lnTo>
                  <a:lnTo>
                    <a:pt x="432" y="325"/>
                  </a:lnTo>
                  <a:lnTo>
                    <a:pt x="458" y="310"/>
                  </a:lnTo>
                  <a:lnTo>
                    <a:pt x="483" y="294"/>
                  </a:lnTo>
                  <a:lnTo>
                    <a:pt x="505" y="279"/>
                  </a:lnTo>
                  <a:lnTo>
                    <a:pt x="520" y="265"/>
                  </a:lnTo>
                  <a:lnTo>
                    <a:pt x="534" y="251"/>
                  </a:lnTo>
                  <a:lnTo>
                    <a:pt x="545" y="237"/>
                  </a:lnTo>
                  <a:lnTo>
                    <a:pt x="555" y="225"/>
                  </a:lnTo>
                  <a:lnTo>
                    <a:pt x="562" y="212"/>
                  </a:lnTo>
                  <a:lnTo>
                    <a:pt x="565" y="206"/>
                  </a:lnTo>
                  <a:lnTo>
                    <a:pt x="567" y="200"/>
                  </a:lnTo>
                  <a:lnTo>
                    <a:pt x="569" y="194"/>
                  </a:lnTo>
                  <a:lnTo>
                    <a:pt x="570" y="189"/>
                  </a:lnTo>
                  <a:lnTo>
                    <a:pt x="571" y="183"/>
                  </a:lnTo>
                  <a:lnTo>
                    <a:pt x="571" y="178"/>
                  </a:lnTo>
                  <a:lnTo>
                    <a:pt x="571" y="170"/>
                  </a:lnTo>
                  <a:lnTo>
                    <a:pt x="570" y="162"/>
                  </a:lnTo>
                  <a:lnTo>
                    <a:pt x="568" y="156"/>
                  </a:lnTo>
                  <a:lnTo>
                    <a:pt x="566" y="150"/>
                  </a:lnTo>
                  <a:lnTo>
                    <a:pt x="564" y="147"/>
                  </a:lnTo>
                  <a:lnTo>
                    <a:pt x="563" y="144"/>
                  </a:lnTo>
                  <a:lnTo>
                    <a:pt x="561" y="141"/>
                  </a:lnTo>
                  <a:lnTo>
                    <a:pt x="559" y="138"/>
                  </a:lnTo>
                  <a:lnTo>
                    <a:pt x="557" y="136"/>
                  </a:lnTo>
                  <a:lnTo>
                    <a:pt x="555" y="134"/>
                  </a:lnTo>
                  <a:lnTo>
                    <a:pt x="553" y="131"/>
                  </a:lnTo>
                  <a:lnTo>
                    <a:pt x="550" y="129"/>
                  </a:lnTo>
                  <a:lnTo>
                    <a:pt x="548" y="127"/>
                  </a:lnTo>
                  <a:lnTo>
                    <a:pt x="545" y="125"/>
                  </a:lnTo>
                  <a:lnTo>
                    <a:pt x="542" y="123"/>
                  </a:lnTo>
                  <a:lnTo>
                    <a:pt x="540" y="122"/>
                  </a:lnTo>
                  <a:lnTo>
                    <a:pt x="537" y="120"/>
                  </a:lnTo>
                  <a:lnTo>
                    <a:pt x="534" y="119"/>
                  </a:lnTo>
                  <a:lnTo>
                    <a:pt x="531" y="117"/>
                  </a:lnTo>
                  <a:lnTo>
                    <a:pt x="528" y="116"/>
                  </a:lnTo>
                  <a:lnTo>
                    <a:pt x="524" y="115"/>
                  </a:lnTo>
                  <a:lnTo>
                    <a:pt x="521" y="114"/>
                  </a:lnTo>
                  <a:lnTo>
                    <a:pt x="518" y="113"/>
                  </a:lnTo>
                  <a:lnTo>
                    <a:pt x="514" y="112"/>
                  </a:lnTo>
                  <a:lnTo>
                    <a:pt x="507" y="112"/>
                  </a:lnTo>
                  <a:lnTo>
                    <a:pt x="499" y="112"/>
                  </a:lnTo>
                  <a:lnTo>
                    <a:pt x="494" y="112"/>
                  </a:lnTo>
                  <a:lnTo>
                    <a:pt x="490" y="112"/>
                  </a:lnTo>
                  <a:lnTo>
                    <a:pt x="479" y="113"/>
                  </a:lnTo>
                  <a:lnTo>
                    <a:pt x="468" y="116"/>
                  </a:lnTo>
                  <a:lnTo>
                    <a:pt x="456" y="118"/>
                  </a:lnTo>
                  <a:lnTo>
                    <a:pt x="443" y="122"/>
                  </a:lnTo>
                  <a:lnTo>
                    <a:pt x="429" y="126"/>
                  </a:lnTo>
                  <a:lnTo>
                    <a:pt x="415" y="131"/>
                  </a:lnTo>
                  <a:lnTo>
                    <a:pt x="399" y="137"/>
                  </a:lnTo>
                  <a:lnTo>
                    <a:pt x="345" y="206"/>
                  </a:lnTo>
                  <a:lnTo>
                    <a:pt x="319" y="262"/>
                  </a:lnTo>
                  <a:lnTo>
                    <a:pt x="298" y="314"/>
                  </a:lnTo>
                  <a:lnTo>
                    <a:pt x="28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73760" y="1236600"/>
              <a:ext cx="392040" cy="297000"/>
            </a:xfrm>
            <a:custGeom>
              <a:avLst/>
              <a:gdLst/>
              <a:ahLst/>
              <a:rect l="l" t="t" r="r" b="b"/>
              <a:pathLst>
                <a:path w="1087" h="823">
                  <a:moveTo>
                    <a:pt x="814" y="22"/>
                  </a:moveTo>
                  <a:lnTo>
                    <a:pt x="1028" y="22"/>
                  </a:lnTo>
                  <a:lnTo>
                    <a:pt x="915" y="359"/>
                  </a:lnTo>
                  <a:lnTo>
                    <a:pt x="842" y="571"/>
                  </a:lnTo>
                  <a:lnTo>
                    <a:pt x="823" y="633"/>
                  </a:lnTo>
                  <a:lnTo>
                    <a:pt x="819" y="653"/>
                  </a:lnTo>
                  <a:lnTo>
                    <a:pt x="817" y="660"/>
                  </a:lnTo>
                  <a:lnTo>
                    <a:pt x="817" y="665"/>
                  </a:lnTo>
                  <a:lnTo>
                    <a:pt x="817" y="668"/>
                  </a:lnTo>
                  <a:lnTo>
                    <a:pt x="817" y="670"/>
                  </a:lnTo>
                  <a:lnTo>
                    <a:pt x="817" y="672"/>
                  </a:lnTo>
                  <a:lnTo>
                    <a:pt x="818" y="674"/>
                  </a:lnTo>
                  <a:lnTo>
                    <a:pt x="818" y="675"/>
                  </a:lnTo>
                  <a:lnTo>
                    <a:pt x="819" y="676"/>
                  </a:lnTo>
                  <a:lnTo>
                    <a:pt x="819" y="677"/>
                  </a:lnTo>
                  <a:lnTo>
                    <a:pt x="820" y="678"/>
                  </a:lnTo>
                  <a:lnTo>
                    <a:pt x="820" y="678"/>
                  </a:lnTo>
                  <a:lnTo>
                    <a:pt x="820" y="678"/>
                  </a:lnTo>
                  <a:lnTo>
                    <a:pt x="821" y="679"/>
                  </a:lnTo>
                  <a:lnTo>
                    <a:pt x="822" y="680"/>
                  </a:lnTo>
                  <a:lnTo>
                    <a:pt x="822" y="681"/>
                  </a:lnTo>
                  <a:lnTo>
                    <a:pt x="823" y="681"/>
                  </a:lnTo>
                  <a:lnTo>
                    <a:pt x="824" y="681"/>
                  </a:lnTo>
                  <a:lnTo>
                    <a:pt x="824" y="681"/>
                  </a:lnTo>
                  <a:lnTo>
                    <a:pt x="824" y="681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5" y="682"/>
                  </a:lnTo>
                  <a:lnTo>
                    <a:pt x="826" y="682"/>
                  </a:lnTo>
                  <a:lnTo>
                    <a:pt x="826" y="682"/>
                  </a:lnTo>
                  <a:lnTo>
                    <a:pt x="826" y="682"/>
                  </a:lnTo>
                  <a:lnTo>
                    <a:pt x="828" y="682"/>
                  </a:lnTo>
                  <a:lnTo>
                    <a:pt x="829" y="682"/>
                  </a:lnTo>
                  <a:lnTo>
                    <a:pt x="833" y="681"/>
                  </a:lnTo>
                  <a:lnTo>
                    <a:pt x="837" y="681"/>
                  </a:lnTo>
                  <a:lnTo>
                    <a:pt x="840" y="680"/>
                  </a:lnTo>
                  <a:lnTo>
                    <a:pt x="844" y="678"/>
                  </a:lnTo>
                  <a:lnTo>
                    <a:pt x="848" y="677"/>
                  </a:lnTo>
                  <a:lnTo>
                    <a:pt x="853" y="675"/>
                  </a:lnTo>
                  <a:lnTo>
                    <a:pt x="857" y="673"/>
                  </a:lnTo>
                  <a:lnTo>
                    <a:pt x="868" y="667"/>
                  </a:lnTo>
                  <a:lnTo>
                    <a:pt x="882" y="659"/>
                  </a:lnTo>
                  <a:lnTo>
                    <a:pt x="918" y="636"/>
                  </a:lnTo>
                  <a:lnTo>
                    <a:pt x="1023" y="565"/>
                  </a:lnTo>
                  <a:lnTo>
                    <a:pt x="1086" y="617"/>
                  </a:lnTo>
                  <a:lnTo>
                    <a:pt x="1025" y="665"/>
                  </a:lnTo>
                  <a:lnTo>
                    <a:pt x="968" y="707"/>
                  </a:lnTo>
                  <a:lnTo>
                    <a:pt x="915" y="742"/>
                  </a:lnTo>
                  <a:lnTo>
                    <a:pt x="866" y="771"/>
                  </a:lnTo>
                  <a:lnTo>
                    <a:pt x="821" y="793"/>
                  </a:lnTo>
                  <a:lnTo>
                    <a:pt x="800" y="802"/>
                  </a:lnTo>
                  <a:lnTo>
                    <a:pt x="780" y="809"/>
                  </a:lnTo>
                  <a:lnTo>
                    <a:pt x="761" y="815"/>
                  </a:lnTo>
                  <a:lnTo>
                    <a:pt x="743" y="819"/>
                  </a:lnTo>
                  <a:lnTo>
                    <a:pt x="726" y="821"/>
                  </a:lnTo>
                  <a:lnTo>
                    <a:pt x="710" y="822"/>
                  </a:lnTo>
                  <a:lnTo>
                    <a:pt x="698" y="821"/>
                  </a:lnTo>
                  <a:lnTo>
                    <a:pt x="686" y="821"/>
                  </a:lnTo>
                  <a:lnTo>
                    <a:pt x="681" y="819"/>
                  </a:lnTo>
                  <a:lnTo>
                    <a:pt x="675" y="818"/>
                  </a:lnTo>
                  <a:lnTo>
                    <a:pt x="670" y="817"/>
                  </a:lnTo>
                  <a:lnTo>
                    <a:pt x="664" y="815"/>
                  </a:lnTo>
                  <a:lnTo>
                    <a:pt x="659" y="814"/>
                  </a:lnTo>
                  <a:lnTo>
                    <a:pt x="654" y="811"/>
                  </a:lnTo>
                  <a:lnTo>
                    <a:pt x="649" y="809"/>
                  </a:lnTo>
                  <a:lnTo>
                    <a:pt x="645" y="807"/>
                  </a:lnTo>
                  <a:lnTo>
                    <a:pt x="640" y="804"/>
                  </a:lnTo>
                  <a:lnTo>
                    <a:pt x="636" y="801"/>
                  </a:lnTo>
                  <a:lnTo>
                    <a:pt x="627" y="795"/>
                  </a:lnTo>
                  <a:lnTo>
                    <a:pt x="623" y="791"/>
                  </a:lnTo>
                  <a:lnTo>
                    <a:pt x="619" y="788"/>
                  </a:lnTo>
                  <a:lnTo>
                    <a:pt x="616" y="784"/>
                  </a:lnTo>
                  <a:lnTo>
                    <a:pt x="613" y="780"/>
                  </a:lnTo>
                  <a:lnTo>
                    <a:pt x="610" y="776"/>
                  </a:lnTo>
                  <a:lnTo>
                    <a:pt x="607" y="771"/>
                  </a:lnTo>
                  <a:lnTo>
                    <a:pt x="602" y="762"/>
                  </a:lnTo>
                  <a:lnTo>
                    <a:pt x="599" y="752"/>
                  </a:lnTo>
                  <a:lnTo>
                    <a:pt x="596" y="742"/>
                  </a:lnTo>
                  <a:lnTo>
                    <a:pt x="595" y="731"/>
                  </a:lnTo>
                  <a:lnTo>
                    <a:pt x="594" y="719"/>
                  </a:lnTo>
                  <a:lnTo>
                    <a:pt x="594" y="706"/>
                  </a:lnTo>
                  <a:lnTo>
                    <a:pt x="596" y="694"/>
                  </a:lnTo>
                  <a:lnTo>
                    <a:pt x="598" y="681"/>
                  </a:lnTo>
                  <a:lnTo>
                    <a:pt x="601" y="668"/>
                  </a:lnTo>
                  <a:lnTo>
                    <a:pt x="604" y="655"/>
                  </a:lnTo>
                  <a:lnTo>
                    <a:pt x="609" y="641"/>
                  </a:lnTo>
                  <a:lnTo>
                    <a:pt x="614" y="628"/>
                  </a:lnTo>
                  <a:lnTo>
                    <a:pt x="620" y="613"/>
                  </a:lnTo>
                  <a:lnTo>
                    <a:pt x="602" y="635"/>
                  </a:lnTo>
                  <a:lnTo>
                    <a:pt x="582" y="656"/>
                  </a:lnTo>
                  <a:lnTo>
                    <a:pt x="558" y="676"/>
                  </a:lnTo>
                  <a:lnTo>
                    <a:pt x="532" y="696"/>
                  </a:lnTo>
                  <a:lnTo>
                    <a:pt x="503" y="715"/>
                  </a:lnTo>
                  <a:lnTo>
                    <a:pt x="470" y="735"/>
                  </a:lnTo>
                  <a:lnTo>
                    <a:pt x="435" y="753"/>
                  </a:lnTo>
                  <a:lnTo>
                    <a:pt x="396" y="771"/>
                  </a:lnTo>
                  <a:lnTo>
                    <a:pt x="369" y="783"/>
                  </a:lnTo>
                  <a:lnTo>
                    <a:pt x="344" y="793"/>
                  </a:lnTo>
                  <a:lnTo>
                    <a:pt x="318" y="801"/>
                  </a:lnTo>
                  <a:lnTo>
                    <a:pt x="294" y="808"/>
                  </a:lnTo>
                  <a:lnTo>
                    <a:pt x="271" y="813"/>
                  </a:lnTo>
                  <a:lnTo>
                    <a:pt x="248" y="817"/>
                  </a:lnTo>
                  <a:lnTo>
                    <a:pt x="226" y="819"/>
                  </a:lnTo>
                  <a:lnTo>
                    <a:pt x="205" y="820"/>
                  </a:lnTo>
                  <a:lnTo>
                    <a:pt x="192" y="819"/>
                  </a:lnTo>
                  <a:lnTo>
                    <a:pt x="180" y="818"/>
                  </a:lnTo>
                  <a:lnTo>
                    <a:pt x="174" y="818"/>
                  </a:lnTo>
                  <a:lnTo>
                    <a:pt x="169" y="816"/>
                  </a:lnTo>
                  <a:lnTo>
                    <a:pt x="163" y="815"/>
                  </a:lnTo>
                  <a:lnTo>
                    <a:pt x="158" y="813"/>
                  </a:lnTo>
                  <a:lnTo>
                    <a:pt x="153" y="811"/>
                  </a:lnTo>
                  <a:lnTo>
                    <a:pt x="148" y="809"/>
                  </a:lnTo>
                  <a:lnTo>
                    <a:pt x="143" y="807"/>
                  </a:lnTo>
                  <a:lnTo>
                    <a:pt x="138" y="805"/>
                  </a:lnTo>
                  <a:lnTo>
                    <a:pt x="134" y="802"/>
                  </a:lnTo>
                  <a:lnTo>
                    <a:pt x="130" y="799"/>
                  </a:lnTo>
                  <a:lnTo>
                    <a:pt x="126" y="796"/>
                  </a:lnTo>
                  <a:lnTo>
                    <a:pt x="122" y="793"/>
                  </a:lnTo>
                  <a:lnTo>
                    <a:pt x="118" y="790"/>
                  </a:lnTo>
                  <a:lnTo>
                    <a:pt x="115" y="787"/>
                  </a:lnTo>
                  <a:lnTo>
                    <a:pt x="112" y="783"/>
                  </a:lnTo>
                  <a:lnTo>
                    <a:pt x="109" y="779"/>
                  </a:lnTo>
                  <a:lnTo>
                    <a:pt x="106" y="774"/>
                  </a:lnTo>
                  <a:lnTo>
                    <a:pt x="104" y="770"/>
                  </a:lnTo>
                  <a:lnTo>
                    <a:pt x="100" y="761"/>
                  </a:lnTo>
                  <a:lnTo>
                    <a:pt x="96" y="750"/>
                  </a:lnTo>
                  <a:lnTo>
                    <a:pt x="94" y="739"/>
                  </a:lnTo>
                  <a:lnTo>
                    <a:pt x="92" y="727"/>
                  </a:lnTo>
                  <a:lnTo>
                    <a:pt x="92" y="715"/>
                  </a:lnTo>
                  <a:lnTo>
                    <a:pt x="93" y="696"/>
                  </a:lnTo>
                  <a:lnTo>
                    <a:pt x="95" y="677"/>
                  </a:lnTo>
                  <a:lnTo>
                    <a:pt x="98" y="656"/>
                  </a:lnTo>
                  <a:lnTo>
                    <a:pt x="103" y="636"/>
                  </a:lnTo>
                  <a:lnTo>
                    <a:pt x="114" y="600"/>
                  </a:lnTo>
                  <a:lnTo>
                    <a:pt x="130" y="550"/>
                  </a:lnTo>
                  <a:lnTo>
                    <a:pt x="181" y="407"/>
                  </a:lnTo>
                  <a:lnTo>
                    <a:pt x="216" y="311"/>
                  </a:lnTo>
                  <a:lnTo>
                    <a:pt x="240" y="236"/>
                  </a:lnTo>
                  <a:lnTo>
                    <a:pt x="255" y="184"/>
                  </a:lnTo>
                  <a:lnTo>
                    <a:pt x="259" y="166"/>
                  </a:lnTo>
                  <a:lnTo>
                    <a:pt x="260" y="158"/>
                  </a:lnTo>
                  <a:lnTo>
                    <a:pt x="260" y="153"/>
                  </a:lnTo>
                  <a:lnTo>
                    <a:pt x="260" y="146"/>
                  </a:lnTo>
                  <a:lnTo>
                    <a:pt x="258" y="146"/>
                  </a:lnTo>
                  <a:lnTo>
                    <a:pt x="256" y="146"/>
                  </a:lnTo>
                  <a:lnTo>
                    <a:pt x="254" y="147"/>
                  </a:lnTo>
                  <a:lnTo>
                    <a:pt x="252" y="147"/>
                  </a:lnTo>
                  <a:lnTo>
                    <a:pt x="247" y="149"/>
                  </a:lnTo>
                  <a:lnTo>
                    <a:pt x="241" y="150"/>
                  </a:lnTo>
                  <a:lnTo>
                    <a:pt x="235" y="152"/>
                  </a:lnTo>
                  <a:lnTo>
                    <a:pt x="228" y="155"/>
                  </a:lnTo>
                  <a:lnTo>
                    <a:pt x="221" y="157"/>
                  </a:lnTo>
                  <a:lnTo>
                    <a:pt x="213" y="161"/>
                  </a:lnTo>
                  <a:lnTo>
                    <a:pt x="204" y="165"/>
                  </a:lnTo>
                  <a:lnTo>
                    <a:pt x="192" y="171"/>
                  </a:lnTo>
                  <a:lnTo>
                    <a:pt x="163" y="189"/>
                  </a:lnTo>
                  <a:lnTo>
                    <a:pt x="77" y="242"/>
                  </a:lnTo>
                  <a:lnTo>
                    <a:pt x="0" y="194"/>
                  </a:lnTo>
                  <a:lnTo>
                    <a:pt x="80" y="137"/>
                  </a:lnTo>
                  <a:lnTo>
                    <a:pt x="149" y="92"/>
                  </a:lnTo>
                  <a:lnTo>
                    <a:pt x="180" y="73"/>
                  </a:lnTo>
                  <a:lnTo>
                    <a:pt x="208" y="58"/>
                  </a:lnTo>
                  <a:lnTo>
                    <a:pt x="234" y="44"/>
                  </a:lnTo>
                  <a:lnTo>
                    <a:pt x="257" y="34"/>
                  </a:lnTo>
                  <a:lnTo>
                    <a:pt x="278" y="26"/>
                  </a:lnTo>
                  <a:lnTo>
                    <a:pt x="299" y="19"/>
                  </a:lnTo>
                  <a:lnTo>
                    <a:pt x="318" y="13"/>
                  </a:lnTo>
                  <a:lnTo>
                    <a:pt x="337" y="8"/>
                  </a:lnTo>
                  <a:lnTo>
                    <a:pt x="355" y="4"/>
                  </a:lnTo>
                  <a:lnTo>
                    <a:pt x="371" y="2"/>
                  </a:lnTo>
                  <a:lnTo>
                    <a:pt x="387" y="0"/>
                  </a:lnTo>
                  <a:lnTo>
                    <a:pt x="402" y="0"/>
                  </a:lnTo>
                  <a:lnTo>
                    <a:pt x="412" y="0"/>
                  </a:lnTo>
                  <a:lnTo>
                    <a:pt x="421" y="1"/>
                  </a:lnTo>
                  <a:lnTo>
                    <a:pt x="425" y="2"/>
                  </a:lnTo>
                  <a:lnTo>
                    <a:pt x="430" y="3"/>
                  </a:lnTo>
                  <a:lnTo>
                    <a:pt x="434" y="3"/>
                  </a:lnTo>
                  <a:lnTo>
                    <a:pt x="438" y="5"/>
                  </a:lnTo>
                  <a:lnTo>
                    <a:pt x="442" y="6"/>
                  </a:lnTo>
                  <a:lnTo>
                    <a:pt x="446" y="8"/>
                  </a:lnTo>
                  <a:lnTo>
                    <a:pt x="450" y="9"/>
                  </a:lnTo>
                  <a:lnTo>
                    <a:pt x="453" y="12"/>
                  </a:lnTo>
                  <a:lnTo>
                    <a:pt x="457" y="14"/>
                  </a:lnTo>
                  <a:lnTo>
                    <a:pt x="460" y="16"/>
                  </a:lnTo>
                  <a:lnTo>
                    <a:pt x="464" y="18"/>
                  </a:lnTo>
                  <a:lnTo>
                    <a:pt x="467" y="21"/>
                  </a:lnTo>
                  <a:lnTo>
                    <a:pt x="470" y="24"/>
                  </a:lnTo>
                  <a:lnTo>
                    <a:pt x="473" y="28"/>
                  </a:lnTo>
                  <a:lnTo>
                    <a:pt x="475" y="31"/>
                  </a:lnTo>
                  <a:lnTo>
                    <a:pt x="478" y="34"/>
                  </a:lnTo>
                  <a:lnTo>
                    <a:pt x="482" y="40"/>
                  </a:lnTo>
                  <a:lnTo>
                    <a:pt x="485" y="48"/>
                  </a:lnTo>
                  <a:lnTo>
                    <a:pt x="488" y="56"/>
                  </a:lnTo>
                  <a:lnTo>
                    <a:pt x="490" y="64"/>
                  </a:lnTo>
                  <a:lnTo>
                    <a:pt x="491" y="73"/>
                  </a:lnTo>
                  <a:lnTo>
                    <a:pt x="491" y="83"/>
                  </a:lnTo>
                  <a:lnTo>
                    <a:pt x="490" y="101"/>
                  </a:lnTo>
                  <a:lnTo>
                    <a:pt x="486" y="126"/>
                  </a:lnTo>
                  <a:lnTo>
                    <a:pt x="469" y="192"/>
                  </a:lnTo>
                  <a:lnTo>
                    <a:pt x="442" y="280"/>
                  </a:lnTo>
                  <a:lnTo>
                    <a:pt x="405" y="392"/>
                  </a:lnTo>
                  <a:lnTo>
                    <a:pt x="349" y="561"/>
                  </a:lnTo>
                  <a:lnTo>
                    <a:pt x="335" y="610"/>
                  </a:lnTo>
                  <a:lnTo>
                    <a:pt x="331" y="626"/>
                  </a:lnTo>
                  <a:lnTo>
                    <a:pt x="330" y="631"/>
                  </a:lnTo>
                  <a:lnTo>
                    <a:pt x="330" y="636"/>
                  </a:lnTo>
                  <a:lnTo>
                    <a:pt x="330" y="639"/>
                  </a:lnTo>
                  <a:lnTo>
                    <a:pt x="331" y="642"/>
                  </a:lnTo>
                  <a:lnTo>
                    <a:pt x="331" y="645"/>
                  </a:lnTo>
                  <a:lnTo>
                    <a:pt x="332" y="647"/>
                  </a:lnTo>
                  <a:lnTo>
                    <a:pt x="334" y="650"/>
                  </a:lnTo>
                  <a:lnTo>
                    <a:pt x="335" y="652"/>
                  </a:lnTo>
                  <a:lnTo>
                    <a:pt x="337" y="654"/>
                  </a:lnTo>
                  <a:lnTo>
                    <a:pt x="339" y="656"/>
                  </a:lnTo>
                  <a:lnTo>
                    <a:pt x="341" y="658"/>
                  </a:lnTo>
                  <a:lnTo>
                    <a:pt x="343" y="659"/>
                  </a:lnTo>
                  <a:lnTo>
                    <a:pt x="345" y="661"/>
                  </a:lnTo>
                  <a:lnTo>
                    <a:pt x="348" y="662"/>
                  </a:lnTo>
                  <a:lnTo>
                    <a:pt x="349" y="662"/>
                  </a:lnTo>
                  <a:lnTo>
                    <a:pt x="350" y="662"/>
                  </a:lnTo>
                  <a:lnTo>
                    <a:pt x="351" y="663"/>
                  </a:lnTo>
                  <a:lnTo>
                    <a:pt x="352" y="663"/>
                  </a:lnTo>
                  <a:lnTo>
                    <a:pt x="353" y="664"/>
                  </a:lnTo>
                  <a:lnTo>
                    <a:pt x="354" y="664"/>
                  </a:lnTo>
                  <a:lnTo>
                    <a:pt x="355" y="664"/>
                  </a:lnTo>
                  <a:lnTo>
                    <a:pt x="356" y="664"/>
                  </a:lnTo>
                  <a:lnTo>
                    <a:pt x="363" y="664"/>
                  </a:lnTo>
                  <a:lnTo>
                    <a:pt x="371" y="662"/>
                  </a:lnTo>
                  <a:lnTo>
                    <a:pt x="379" y="661"/>
                  </a:lnTo>
                  <a:lnTo>
                    <a:pt x="388" y="659"/>
                  </a:lnTo>
                  <a:lnTo>
                    <a:pt x="397" y="656"/>
                  </a:lnTo>
                  <a:lnTo>
                    <a:pt x="407" y="653"/>
                  </a:lnTo>
                  <a:lnTo>
                    <a:pt x="427" y="644"/>
                  </a:lnTo>
                  <a:lnTo>
                    <a:pt x="450" y="633"/>
                  </a:lnTo>
                  <a:lnTo>
                    <a:pt x="474" y="619"/>
                  </a:lnTo>
                  <a:lnTo>
                    <a:pt x="500" y="603"/>
                  </a:lnTo>
                  <a:lnTo>
                    <a:pt x="528" y="584"/>
                  </a:lnTo>
                  <a:lnTo>
                    <a:pt x="556" y="565"/>
                  </a:lnTo>
                  <a:lnTo>
                    <a:pt x="581" y="544"/>
                  </a:lnTo>
                  <a:lnTo>
                    <a:pt x="604" y="522"/>
                  </a:lnTo>
                  <a:lnTo>
                    <a:pt x="624" y="500"/>
                  </a:lnTo>
                  <a:lnTo>
                    <a:pt x="642" y="478"/>
                  </a:lnTo>
                  <a:lnTo>
                    <a:pt x="657" y="454"/>
                  </a:lnTo>
                  <a:lnTo>
                    <a:pt x="670" y="430"/>
                  </a:lnTo>
                  <a:lnTo>
                    <a:pt x="680" y="405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37360" y="1236600"/>
              <a:ext cx="582480" cy="297000"/>
            </a:xfrm>
            <a:custGeom>
              <a:avLst/>
              <a:gdLst/>
              <a:ahLst/>
              <a:rect l="l" t="t" r="r" b="b"/>
              <a:pathLst>
                <a:path w="1618" h="823">
                  <a:moveTo>
                    <a:pt x="392" y="242"/>
                  </a:moveTo>
                  <a:lnTo>
                    <a:pt x="314" y="193"/>
                  </a:lnTo>
                  <a:lnTo>
                    <a:pt x="378" y="148"/>
                  </a:lnTo>
                  <a:lnTo>
                    <a:pt x="438" y="108"/>
                  </a:lnTo>
                  <a:lnTo>
                    <a:pt x="495" y="75"/>
                  </a:lnTo>
                  <a:lnTo>
                    <a:pt x="547" y="48"/>
                  </a:lnTo>
                  <a:lnTo>
                    <a:pt x="596" y="27"/>
                  </a:lnTo>
                  <a:lnTo>
                    <a:pt x="619" y="18"/>
                  </a:lnTo>
                  <a:lnTo>
                    <a:pt x="641" y="12"/>
                  </a:lnTo>
                  <a:lnTo>
                    <a:pt x="662" y="6"/>
                  </a:lnTo>
                  <a:lnTo>
                    <a:pt x="682" y="3"/>
                  </a:lnTo>
                  <a:lnTo>
                    <a:pt x="701" y="0"/>
                  </a:lnTo>
                  <a:lnTo>
                    <a:pt x="719" y="0"/>
                  </a:lnTo>
                  <a:lnTo>
                    <a:pt x="729" y="0"/>
                  </a:lnTo>
                  <a:lnTo>
                    <a:pt x="739" y="1"/>
                  </a:lnTo>
                  <a:lnTo>
                    <a:pt x="748" y="2"/>
                  </a:lnTo>
                  <a:lnTo>
                    <a:pt x="756" y="4"/>
                  </a:lnTo>
                  <a:lnTo>
                    <a:pt x="764" y="6"/>
                  </a:lnTo>
                  <a:lnTo>
                    <a:pt x="772" y="10"/>
                  </a:lnTo>
                  <a:lnTo>
                    <a:pt x="778" y="13"/>
                  </a:lnTo>
                  <a:lnTo>
                    <a:pt x="785" y="18"/>
                  </a:lnTo>
                  <a:lnTo>
                    <a:pt x="790" y="23"/>
                  </a:lnTo>
                  <a:lnTo>
                    <a:pt x="795" y="28"/>
                  </a:lnTo>
                  <a:lnTo>
                    <a:pt x="800" y="34"/>
                  </a:lnTo>
                  <a:lnTo>
                    <a:pt x="804" y="40"/>
                  </a:lnTo>
                  <a:lnTo>
                    <a:pt x="807" y="48"/>
                  </a:lnTo>
                  <a:lnTo>
                    <a:pt x="810" y="56"/>
                  </a:lnTo>
                  <a:lnTo>
                    <a:pt x="812" y="64"/>
                  </a:lnTo>
                  <a:lnTo>
                    <a:pt x="814" y="73"/>
                  </a:lnTo>
                  <a:lnTo>
                    <a:pt x="887" y="615"/>
                  </a:lnTo>
                  <a:lnTo>
                    <a:pt x="1350" y="22"/>
                  </a:lnTo>
                  <a:lnTo>
                    <a:pt x="1557" y="22"/>
                  </a:lnTo>
                  <a:lnTo>
                    <a:pt x="1443" y="359"/>
                  </a:lnTo>
                  <a:lnTo>
                    <a:pt x="1371" y="570"/>
                  </a:lnTo>
                  <a:lnTo>
                    <a:pt x="1353" y="632"/>
                  </a:lnTo>
                  <a:lnTo>
                    <a:pt x="1349" y="652"/>
                  </a:lnTo>
                  <a:lnTo>
                    <a:pt x="1347" y="659"/>
                  </a:lnTo>
                  <a:lnTo>
                    <a:pt x="1347" y="665"/>
                  </a:lnTo>
                  <a:lnTo>
                    <a:pt x="1347" y="668"/>
                  </a:lnTo>
                  <a:lnTo>
                    <a:pt x="1348" y="671"/>
                  </a:lnTo>
                  <a:lnTo>
                    <a:pt x="1348" y="673"/>
                  </a:lnTo>
                  <a:lnTo>
                    <a:pt x="1348" y="675"/>
                  </a:lnTo>
                  <a:lnTo>
                    <a:pt x="1349" y="676"/>
                  </a:lnTo>
                  <a:lnTo>
                    <a:pt x="1349" y="677"/>
                  </a:lnTo>
                  <a:lnTo>
                    <a:pt x="1350" y="678"/>
                  </a:lnTo>
                  <a:lnTo>
                    <a:pt x="1351" y="679"/>
                  </a:lnTo>
                  <a:lnTo>
                    <a:pt x="1351" y="680"/>
                  </a:lnTo>
                  <a:lnTo>
                    <a:pt x="1352" y="681"/>
                  </a:lnTo>
                  <a:lnTo>
                    <a:pt x="1352" y="681"/>
                  </a:lnTo>
                  <a:lnTo>
                    <a:pt x="1353" y="681"/>
                  </a:lnTo>
                  <a:lnTo>
                    <a:pt x="1353" y="681"/>
                  </a:lnTo>
                  <a:lnTo>
                    <a:pt x="1354" y="681"/>
                  </a:lnTo>
                  <a:lnTo>
                    <a:pt x="1354" y="681"/>
                  </a:lnTo>
                  <a:lnTo>
                    <a:pt x="1355" y="681"/>
                  </a:lnTo>
                  <a:lnTo>
                    <a:pt x="1355" y="681"/>
                  </a:lnTo>
                  <a:lnTo>
                    <a:pt x="1356" y="681"/>
                  </a:lnTo>
                  <a:lnTo>
                    <a:pt x="1358" y="681"/>
                  </a:lnTo>
                  <a:lnTo>
                    <a:pt x="1361" y="681"/>
                  </a:lnTo>
                  <a:lnTo>
                    <a:pt x="1366" y="680"/>
                  </a:lnTo>
                  <a:lnTo>
                    <a:pt x="1373" y="678"/>
                  </a:lnTo>
                  <a:lnTo>
                    <a:pt x="1381" y="674"/>
                  </a:lnTo>
                  <a:lnTo>
                    <a:pt x="1399" y="665"/>
                  </a:lnTo>
                  <a:lnTo>
                    <a:pt x="1422" y="652"/>
                  </a:lnTo>
                  <a:lnTo>
                    <a:pt x="1479" y="615"/>
                  </a:lnTo>
                  <a:lnTo>
                    <a:pt x="1553" y="565"/>
                  </a:lnTo>
                  <a:lnTo>
                    <a:pt x="1617" y="617"/>
                  </a:lnTo>
                  <a:lnTo>
                    <a:pt x="1556" y="665"/>
                  </a:lnTo>
                  <a:lnTo>
                    <a:pt x="1499" y="707"/>
                  </a:lnTo>
                  <a:lnTo>
                    <a:pt x="1446" y="742"/>
                  </a:lnTo>
                  <a:lnTo>
                    <a:pt x="1397" y="771"/>
                  </a:lnTo>
                  <a:lnTo>
                    <a:pt x="1351" y="793"/>
                  </a:lnTo>
                  <a:lnTo>
                    <a:pt x="1330" y="802"/>
                  </a:lnTo>
                  <a:lnTo>
                    <a:pt x="1310" y="809"/>
                  </a:lnTo>
                  <a:lnTo>
                    <a:pt x="1291" y="815"/>
                  </a:lnTo>
                  <a:lnTo>
                    <a:pt x="1272" y="819"/>
                  </a:lnTo>
                  <a:lnTo>
                    <a:pt x="1255" y="821"/>
                  </a:lnTo>
                  <a:lnTo>
                    <a:pt x="1239" y="822"/>
                  </a:lnTo>
                  <a:lnTo>
                    <a:pt x="1234" y="822"/>
                  </a:lnTo>
                  <a:lnTo>
                    <a:pt x="1229" y="821"/>
                  </a:lnTo>
                  <a:lnTo>
                    <a:pt x="1223" y="821"/>
                  </a:lnTo>
                  <a:lnTo>
                    <a:pt x="1218" y="821"/>
                  </a:lnTo>
                  <a:lnTo>
                    <a:pt x="1213" y="819"/>
                  </a:lnTo>
                  <a:lnTo>
                    <a:pt x="1208" y="818"/>
                  </a:lnTo>
                  <a:lnTo>
                    <a:pt x="1203" y="817"/>
                  </a:lnTo>
                  <a:lnTo>
                    <a:pt x="1198" y="815"/>
                  </a:lnTo>
                  <a:lnTo>
                    <a:pt x="1189" y="811"/>
                  </a:lnTo>
                  <a:lnTo>
                    <a:pt x="1179" y="807"/>
                  </a:lnTo>
                  <a:lnTo>
                    <a:pt x="1169" y="801"/>
                  </a:lnTo>
                  <a:lnTo>
                    <a:pt x="1160" y="795"/>
                  </a:lnTo>
                  <a:lnTo>
                    <a:pt x="1156" y="791"/>
                  </a:lnTo>
                  <a:lnTo>
                    <a:pt x="1152" y="788"/>
                  </a:lnTo>
                  <a:lnTo>
                    <a:pt x="1148" y="784"/>
                  </a:lnTo>
                  <a:lnTo>
                    <a:pt x="1144" y="780"/>
                  </a:lnTo>
                  <a:lnTo>
                    <a:pt x="1141" y="776"/>
                  </a:lnTo>
                  <a:lnTo>
                    <a:pt x="1138" y="771"/>
                  </a:lnTo>
                  <a:lnTo>
                    <a:pt x="1135" y="767"/>
                  </a:lnTo>
                  <a:lnTo>
                    <a:pt x="1133" y="762"/>
                  </a:lnTo>
                  <a:lnTo>
                    <a:pt x="1129" y="752"/>
                  </a:lnTo>
                  <a:lnTo>
                    <a:pt x="1126" y="742"/>
                  </a:lnTo>
                  <a:lnTo>
                    <a:pt x="1125" y="731"/>
                  </a:lnTo>
                  <a:lnTo>
                    <a:pt x="1124" y="719"/>
                  </a:lnTo>
                  <a:lnTo>
                    <a:pt x="1125" y="701"/>
                  </a:lnTo>
                  <a:lnTo>
                    <a:pt x="1129" y="677"/>
                  </a:lnTo>
                  <a:lnTo>
                    <a:pt x="1145" y="612"/>
                  </a:lnTo>
                  <a:lnTo>
                    <a:pt x="1170" y="525"/>
                  </a:lnTo>
                  <a:lnTo>
                    <a:pt x="1207" y="416"/>
                  </a:lnTo>
                  <a:lnTo>
                    <a:pt x="1278" y="229"/>
                  </a:lnTo>
                  <a:lnTo>
                    <a:pt x="834" y="814"/>
                  </a:lnTo>
                  <a:lnTo>
                    <a:pt x="709" y="814"/>
                  </a:lnTo>
                  <a:lnTo>
                    <a:pt x="642" y="292"/>
                  </a:lnTo>
                  <a:lnTo>
                    <a:pt x="577" y="454"/>
                  </a:lnTo>
                  <a:lnTo>
                    <a:pt x="546" y="521"/>
                  </a:lnTo>
                  <a:lnTo>
                    <a:pt x="515" y="580"/>
                  </a:lnTo>
                  <a:lnTo>
                    <a:pt x="485" y="631"/>
                  </a:lnTo>
                  <a:lnTo>
                    <a:pt x="456" y="673"/>
                  </a:lnTo>
                  <a:lnTo>
                    <a:pt x="442" y="690"/>
                  </a:lnTo>
                  <a:lnTo>
                    <a:pt x="428" y="706"/>
                  </a:lnTo>
                  <a:lnTo>
                    <a:pt x="414" y="720"/>
                  </a:lnTo>
                  <a:lnTo>
                    <a:pt x="400" y="731"/>
                  </a:lnTo>
                  <a:lnTo>
                    <a:pt x="372" y="751"/>
                  </a:lnTo>
                  <a:lnTo>
                    <a:pt x="344" y="768"/>
                  </a:lnTo>
                  <a:lnTo>
                    <a:pt x="314" y="782"/>
                  </a:lnTo>
                  <a:lnTo>
                    <a:pt x="299" y="788"/>
                  </a:lnTo>
                  <a:lnTo>
                    <a:pt x="284" y="794"/>
                  </a:lnTo>
                  <a:lnTo>
                    <a:pt x="268" y="799"/>
                  </a:lnTo>
                  <a:lnTo>
                    <a:pt x="252" y="803"/>
                  </a:lnTo>
                  <a:lnTo>
                    <a:pt x="236" y="806"/>
                  </a:lnTo>
                  <a:lnTo>
                    <a:pt x="220" y="809"/>
                  </a:lnTo>
                  <a:lnTo>
                    <a:pt x="204" y="811"/>
                  </a:lnTo>
                  <a:lnTo>
                    <a:pt x="187" y="813"/>
                  </a:lnTo>
                  <a:lnTo>
                    <a:pt x="170" y="815"/>
                  </a:lnTo>
                  <a:lnTo>
                    <a:pt x="153" y="815"/>
                  </a:lnTo>
                  <a:lnTo>
                    <a:pt x="135" y="814"/>
                  </a:lnTo>
                  <a:lnTo>
                    <a:pt x="118" y="813"/>
                  </a:lnTo>
                  <a:lnTo>
                    <a:pt x="103" y="810"/>
                  </a:lnTo>
                  <a:lnTo>
                    <a:pt x="88" y="807"/>
                  </a:lnTo>
                  <a:lnTo>
                    <a:pt x="81" y="805"/>
                  </a:lnTo>
                  <a:lnTo>
                    <a:pt x="74" y="803"/>
                  </a:lnTo>
                  <a:lnTo>
                    <a:pt x="68" y="800"/>
                  </a:lnTo>
                  <a:lnTo>
                    <a:pt x="62" y="798"/>
                  </a:lnTo>
                  <a:lnTo>
                    <a:pt x="56" y="795"/>
                  </a:lnTo>
                  <a:lnTo>
                    <a:pt x="50" y="791"/>
                  </a:lnTo>
                  <a:lnTo>
                    <a:pt x="45" y="788"/>
                  </a:lnTo>
                  <a:lnTo>
                    <a:pt x="40" y="784"/>
                  </a:lnTo>
                  <a:lnTo>
                    <a:pt x="31" y="776"/>
                  </a:lnTo>
                  <a:lnTo>
                    <a:pt x="22" y="768"/>
                  </a:lnTo>
                  <a:lnTo>
                    <a:pt x="15" y="759"/>
                  </a:lnTo>
                  <a:lnTo>
                    <a:pt x="13" y="755"/>
                  </a:lnTo>
                  <a:lnTo>
                    <a:pt x="10" y="751"/>
                  </a:lnTo>
                  <a:lnTo>
                    <a:pt x="8" y="746"/>
                  </a:lnTo>
                  <a:lnTo>
                    <a:pt x="6" y="741"/>
                  </a:lnTo>
                  <a:lnTo>
                    <a:pt x="4" y="737"/>
                  </a:lnTo>
                  <a:lnTo>
                    <a:pt x="2" y="732"/>
                  </a:lnTo>
                  <a:lnTo>
                    <a:pt x="1" y="722"/>
                  </a:lnTo>
                  <a:lnTo>
                    <a:pt x="0" y="712"/>
                  </a:lnTo>
                  <a:lnTo>
                    <a:pt x="1" y="703"/>
                  </a:lnTo>
                  <a:lnTo>
                    <a:pt x="2" y="693"/>
                  </a:lnTo>
                  <a:lnTo>
                    <a:pt x="5" y="684"/>
                  </a:lnTo>
                  <a:lnTo>
                    <a:pt x="9" y="675"/>
                  </a:lnTo>
                  <a:lnTo>
                    <a:pt x="14" y="667"/>
                  </a:lnTo>
                  <a:lnTo>
                    <a:pt x="20" y="659"/>
                  </a:lnTo>
                  <a:lnTo>
                    <a:pt x="27" y="651"/>
                  </a:lnTo>
                  <a:lnTo>
                    <a:pt x="35" y="643"/>
                  </a:lnTo>
                  <a:lnTo>
                    <a:pt x="44" y="637"/>
                  </a:lnTo>
                  <a:lnTo>
                    <a:pt x="49" y="633"/>
                  </a:lnTo>
                  <a:lnTo>
                    <a:pt x="54" y="630"/>
                  </a:lnTo>
                  <a:lnTo>
                    <a:pt x="59" y="628"/>
                  </a:lnTo>
                  <a:lnTo>
                    <a:pt x="64" y="625"/>
                  </a:lnTo>
                  <a:lnTo>
                    <a:pt x="70" y="623"/>
                  </a:lnTo>
                  <a:lnTo>
                    <a:pt x="75" y="621"/>
                  </a:lnTo>
                  <a:lnTo>
                    <a:pt x="81" y="619"/>
                  </a:lnTo>
                  <a:lnTo>
                    <a:pt x="86" y="618"/>
                  </a:lnTo>
                  <a:lnTo>
                    <a:pt x="92" y="616"/>
                  </a:lnTo>
                  <a:lnTo>
                    <a:pt x="98" y="615"/>
                  </a:lnTo>
                  <a:lnTo>
                    <a:pt x="104" y="614"/>
                  </a:lnTo>
                  <a:lnTo>
                    <a:pt x="111" y="614"/>
                  </a:lnTo>
                  <a:lnTo>
                    <a:pt x="124" y="613"/>
                  </a:lnTo>
                  <a:lnTo>
                    <a:pt x="132" y="613"/>
                  </a:lnTo>
                  <a:lnTo>
                    <a:pt x="141" y="614"/>
                  </a:lnTo>
                  <a:lnTo>
                    <a:pt x="150" y="615"/>
                  </a:lnTo>
                  <a:lnTo>
                    <a:pt x="160" y="617"/>
                  </a:lnTo>
                  <a:lnTo>
                    <a:pt x="169" y="619"/>
                  </a:lnTo>
                  <a:lnTo>
                    <a:pt x="180" y="622"/>
                  </a:lnTo>
                  <a:lnTo>
                    <a:pt x="191" y="624"/>
                  </a:lnTo>
                  <a:lnTo>
                    <a:pt x="202" y="628"/>
                  </a:lnTo>
                  <a:lnTo>
                    <a:pt x="222" y="633"/>
                  </a:lnTo>
                  <a:lnTo>
                    <a:pt x="239" y="637"/>
                  </a:lnTo>
                  <a:lnTo>
                    <a:pt x="246" y="638"/>
                  </a:lnTo>
                  <a:lnTo>
                    <a:pt x="252" y="639"/>
                  </a:lnTo>
                  <a:lnTo>
                    <a:pt x="257" y="640"/>
                  </a:lnTo>
                  <a:lnTo>
                    <a:pt x="262" y="640"/>
                  </a:lnTo>
                  <a:lnTo>
                    <a:pt x="267" y="640"/>
                  </a:lnTo>
                  <a:lnTo>
                    <a:pt x="272" y="639"/>
                  </a:lnTo>
                  <a:lnTo>
                    <a:pt x="277" y="638"/>
                  </a:lnTo>
                  <a:lnTo>
                    <a:pt x="283" y="637"/>
                  </a:lnTo>
                  <a:lnTo>
                    <a:pt x="288" y="635"/>
                  </a:lnTo>
                  <a:lnTo>
                    <a:pt x="294" y="634"/>
                  </a:lnTo>
                  <a:lnTo>
                    <a:pt x="299" y="631"/>
                  </a:lnTo>
                  <a:lnTo>
                    <a:pt x="305" y="629"/>
                  </a:lnTo>
                  <a:lnTo>
                    <a:pt x="316" y="623"/>
                  </a:lnTo>
                  <a:lnTo>
                    <a:pt x="327" y="615"/>
                  </a:lnTo>
                  <a:lnTo>
                    <a:pt x="339" y="606"/>
                  </a:lnTo>
                  <a:lnTo>
                    <a:pt x="351" y="597"/>
                  </a:lnTo>
                  <a:lnTo>
                    <a:pt x="357" y="591"/>
                  </a:lnTo>
                  <a:lnTo>
                    <a:pt x="364" y="584"/>
                  </a:lnTo>
                  <a:lnTo>
                    <a:pt x="378" y="566"/>
                  </a:lnTo>
                  <a:lnTo>
                    <a:pt x="395" y="544"/>
                  </a:lnTo>
                  <a:lnTo>
                    <a:pt x="413" y="518"/>
                  </a:lnTo>
                  <a:lnTo>
                    <a:pt x="453" y="451"/>
                  </a:lnTo>
                  <a:lnTo>
                    <a:pt x="501" y="366"/>
                  </a:lnTo>
                  <a:lnTo>
                    <a:pt x="546" y="282"/>
                  </a:lnTo>
                  <a:lnTo>
                    <a:pt x="578" y="216"/>
                  </a:lnTo>
                  <a:lnTo>
                    <a:pt x="589" y="190"/>
                  </a:lnTo>
                  <a:lnTo>
                    <a:pt x="597" y="170"/>
                  </a:lnTo>
                  <a:lnTo>
                    <a:pt x="601" y="154"/>
                  </a:lnTo>
                  <a:lnTo>
                    <a:pt x="603" y="148"/>
                  </a:lnTo>
                  <a:lnTo>
                    <a:pt x="603" y="143"/>
                  </a:lnTo>
                  <a:lnTo>
                    <a:pt x="603" y="142"/>
                  </a:lnTo>
                  <a:lnTo>
                    <a:pt x="603" y="142"/>
                  </a:lnTo>
                  <a:lnTo>
                    <a:pt x="603" y="141"/>
                  </a:lnTo>
                  <a:lnTo>
                    <a:pt x="603" y="141"/>
                  </a:lnTo>
                  <a:lnTo>
                    <a:pt x="602" y="141"/>
                  </a:lnTo>
                  <a:lnTo>
                    <a:pt x="602" y="140"/>
                  </a:lnTo>
                  <a:lnTo>
                    <a:pt x="602" y="140"/>
                  </a:lnTo>
                  <a:lnTo>
                    <a:pt x="602" y="140"/>
                  </a:lnTo>
                  <a:lnTo>
                    <a:pt x="601" y="140"/>
                  </a:lnTo>
                  <a:lnTo>
                    <a:pt x="601" y="140"/>
                  </a:lnTo>
                  <a:lnTo>
                    <a:pt x="600" y="140"/>
                  </a:lnTo>
                  <a:lnTo>
                    <a:pt x="600" y="139"/>
                  </a:lnTo>
                  <a:lnTo>
                    <a:pt x="600" y="139"/>
                  </a:lnTo>
                  <a:lnTo>
                    <a:pt x="599" y="139"/>
                  </a:lnTo>
                  <a:lnTo>
                    <a:pt x="599" y="139"/>
                  </a:lnTo>
                  <a:lnTo>
                    <a:pt x="598" y="139"/>
                  </a:lnTo>
                  <a:lnTo>
                    <a:pt x="590" y="140"/>
                  </a:lnTo>
                  <a:lnTo>
                    <a:pt x="582" y="140"/>
                  </a:lnTo>
                  <a:lnTo>
                    <a:pt x="572" y="143"/>
                  </a:lnTo>
                  <a:lnTo>
                    <a:pt x="563" y="145"/>
                  </a:lnTo>
                  <a:lnTo>
                    <a:pt x="552" y="149"/>
                  </a:lnTo>
                  <a:lnTo>
                    <a:pt x="541" y="153"/>
                  </a:lnTo>
                  <a:lnTo>
                    <a:pt x="516" y="164"/>
                  </a:lnTo>
                  <a:lnTo>
                    <a:pt x="489" y="179"/>
                  </a:lnTo>
                  <a:lnTo>
                    <a:pt x="459" y="197"/>
                  </a:lnTo>
                  <a:lnTo>
                    <a:pt x="427" y="218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1235160"/>
              <a:ext cx="285840" cy="295200"/>
            </a:xfrm>
            <a:custGeom>
              <a:avLst/>
              <a:gdLst/>
              <a:ahLst/>
              <a:rect l="l" t="t" r="r" b="b"/>
              <a:pathLst>
                <a:path w="793" h="819">
                  <a:moveTo>
                    <a:pt x="663" y="533"/>
                  </a:moveTo>
                  <a:lnTo>
                    <a:pt x="722" y="593"/>
                  </a:lnTo>
                  <a:lnTo>
                    <a:pt x="647" y="646"/>
                  </a:lnTo>
                  <a:lnTo>
                    <a:pt x="574" y="691"/>
                  </a:lnTo>
                  <a:lnTo>
                    <a:pt x="505" y="730"/>
                  </a:lnTo>
                  <a:lnTo>
                    <a:pt x="438" y="762"/>
                  </a:lnTo>
                  <a:lnTo>
                    <a:pt x="374" y="786"/>
                  </a:lnTo>
                  <a:lnTo>
                    <a:pt x="343" y="796"/>
                  </a:lnTo>
                  <a:lnTo>
                    <a:pt x="312" y="803"/>
                  </a:lnTo>
                  <a:lnTo>
                    <a:pt x="283" y="810"/>
                  </a:lnTo>
                  <a:lnTo>
                    <a:pt x="254" y="814"/>
                  </a:lnTo>
                  <a:lnTo>
                    <a:pt x="226" y="817"/>
                  </a:lnTo>
                  <a:lnTo>
                    <a:pt x="198" y="818"/>
                  </a:lnTo>
                  <a:lnTo>
                    <a:pt x="174" y="817"/>
                  </a:lnTo>
                  <a:lnTo>
                    <a:pt x="152" y="815"/>
                  </a:lnTo>
                  <a:lnTo>
                    <a:pt x="142" y="813"/>
                  </a:lnTo>
                  <a:lnTo>
                    <a:pt x="132" y="811"/>
                  </a:lnTo>
                  <a:lnTo>
                    <a:pt x="122" y="809"/>
                  </a:lnTo>
                  <a:lnTo>
                    <a:pt x="113" y="806"/>
                  </a:lnTo>
                  <a:lnTo>
                    <a:pt x="104" y="803"/>
                  </a:lnTo>
                  <a:lnTo>
                    <a:pt x="95" y="799"/>
                  </a:lnTo>
                  <a:lnTo>
                    <a:pt x="87" y="795"/>
                  </a:lnTo>
                  <a:lnTo>
                    <a:pt x="79" y="791"/>
                  </a:lnTo>
                  <a:lnTo>
                    <a:pt x="71" y="786"/>
                  </a:lnTo>
                  <a:lnTo>
                    <a:pt x="64" y="781"/>
                  </a:lnTo>
                  <a:lnTo>
                    <a:pt x="57" y="775"/>
                  </a:lnTo>
                  <a:lnTo>
                    <a:pt x="51" y="769"/>
                  </a:lnTo>
                  <a:lnTo>
                    <a:pt x="45" y="763"/>
                  </a:lnTo>
                  <a:lnTo>
                    <a:pt x="39" y="756"/>
                  </a:lnTo>
                  <a:lnTo>
                    <a:pt x="34" y="749"/>
                  </a:lnTo>
                  <a:lnTo>
                    <a:pt x="29" y="741"/>
                  </a:lnTo>
                  <a:lnTo>
                    <a:pt x="20" y="725"/>
                  </a:lnTo>
                  <a:lnTo>
                    <a:pt x="13" y="707"/>
                  </a:lnTo>
                  <a:lnTo>
                    <a:pt x="7" y="687"/>
                  </a:lnTo>
                  <a:lnTo>
                    <a:pt x="3" y="666"/>
                  </a:lnTo>
                  <a:lnTo>
                    <a:pt x="1" y="643"/>
                  </a:lnTo>
                  <a:lnTo>
                    <a:pt x="0" y="618"/>
                  </a:lnTo>
                  <a:lnTo>
                    <a:pt x="2" y="569"/>
                  </a:lnTo>
                  <a:lnTo>
                    <a:pt x="10" y="520"/>
                  </a:lnTo>
                  <a:lnTo>
                    <a:pt x="22" y="470"/>
                  </a:lnTo>
                  <a:lnTo>
                    <a:pt x="40" y="421"/>
                  </a:lnTo>
                  <a:lnTo>
                    <a:pt x="62" y="372"/>
                  </a:lnTo>
                  <a:lnTo>
                    <a:pt x="89" y="324"/>
                  </a:lnTo>
                  <a:lnTo>
                    <a:pt x="121" y="274"/>
                  </a:lnTo>
                  <a:lnTo>
                    <a:pt x="158" y="226"/>
                  </a:lnTo>
                  <a:lnTo>
                    <a:pt x="204" y="173"/>
                  </a:lnTo>
                  <a:lnTo>
                    <a:pt x="253" y="127"/>
                  </a:lnTo>
                  <a:lnTo>
                    <a:pt x="278" y="107"/>
                  </a:lnTo>
                  <a:lnTo>
                    <a:pt x="304" y="88"/>
                  </a:lnTo>
                  <a:lnTo>
                    <a:pt x="330" y="72"/>
                  </a:lnTo>
                  <a:lnTo>
                    <a:pt x="357" y="56"/>
                  </a:lnTo>
                  <a:lnTo>
                    <a:pt x="384" y="44"/>
                  </a:lnTo>
                  <a:lnTo>
                    <a:pt x="412" y="32"/>
                  </a:lnTo>
                  <a:lnTo>
                    <a:pt x="441" y="22"/>
                  </a:lnTo>
                  <a:lnTo>
                    <a:pt x="470" y="15"/>
                  </a:lnTo>
                  <a:lnTo>
                    <a:pt x="500" y="8"/>
                  </a:lnTo>
                  <a:lnTo>
                    <a:pt x="530" y="4"/>
                  </a:lnTo>
                  <a:lnTo>
                    <a:pt x="561" y="1"/>
                  </a:lnTo>
                  <a:lnTo>
                    <a:pt x="593" y="0"/>
                  </a:lnTo>
                  <a:lnTo>
                    <a:pt x="616" y="1"/>
                  </a:lnTo>
                  <a:lnTo>
                    <a:pt x="638" y="3"/>
                  </a:lnTo>
                  <a:lnTo>
                    <a:pt x="658" y="6"/>
                  </a:lnTo>
                  <a:lnTo>
                    <a:pt x="677" y="10"/>
                  </a:lnTo>
                  <a:lnTo>
                    <a:pt x="695" y="16"/>
                  </a:lnTo>
                  <a:lnTo>
                    <a:pt x="703" y="19"/>
                  </a:lnTo>
                  <a:lnTo>
                    <a:pt x="711" y="22"/>
                  </a:lnTo>
                  <a:lnTo>
                    <a:pt x="719" y="25"/>
                  </a:lnTo>
                  <a:lnTo>
                    <a:pt x="726" y="29"/>
                  </a:lnTo>
                  <a:lnTo>
                    <a:pt x="733" y="34"/>
                  </a:lnTo>
                  <a:lnTo>
                    <a:pt x="740" y="38"/>
                  </a:lnTo>
                  <a:lnTo>
                    <a:pt x="746" y="43"/>
                  </a:lnTo>
                  <a:lnTo>
                    <a:pt x="752" y="48"/>
                  </a:lnTo>
                  <a:lnTo>
                    <a:pt x="758" y="53"/>
                  </a:lnTo>
                  <a:lnTo>
                    <a:pt x="763" y="59"/>
                  </a:lnTo>
                  <a:lnTo>
                    <a:pt x="768" y="64"/>
                  </a:lnTo>
                  <a:lnTo>
                    <a:pt x="772" y="70"/>
                  </a:lnTo>
                  <a:lnTo>
                    <a:pt x="776" y="76"/>
                  </a:lnTo>
                  <a:lnTo>
                    <a:pt x="779" y="82"/>
                  </a:lnTo>
                  <a:lnTo>
                    <a:pt x="782" y="88"/>
                  </a:lnTo>
                  <a:lnTo>
                    <a:pt x="785" y="95"/>
                  </a:lnTo>
                  <a:lnTo>
                    <a:pt x="789" y="109"/>
                  </a:lnTo>
                  <a:lnTo>
                    <a:pt x="791" y="123"/>
                  </a:lnTo>
                  <a:lnTo>
                    <a:pt x="792" y="138"/>
                  </a:lnTo>
                  <a:lnTo>
                    <a:pt x="791" y="154"/>
                  </a:lnTo>
                  <a:lnTo>
                    <a:pt x="788" y="170"/>
                  </a:lnTo>
                  <a:lnTo>
                    <a:pt x="784" y="186"/>
                  </a:lnTo>
                  <a:lnTo>
                    <a:pt x="778" y="202"/>
                  </a:lnTo>
                  <a:lnTo>
                    <a:pt x="770" y="218"/>
                  </a:lnTo>
                  <a:lnTo>
                    <a:pt x="760" y="233"/>
                  </a:lnTo>
                  <a:lnTo>
                    <a:pt x="748" y="248"/>
                  </a:lnTo>
                  <a:lnTo>
                    <a:pt x="735" y="263"/>
                  </a:lnTo>
                  <a:lnTo>
                    <a:pt x="720" y="278"/>
                  </a:lnTo>
                  <a:lnTo>
                    <a:pt x="702" y="293"/>
                  </a:lnTo>
                  <a:lnTo>
                    <a:pt x="682" y="308"/>
                  </a:lnTo>
                  <a:lnTo>
                    <a:pt x="660" y="323"/>
                  </a:lnTo>
                  <a:lnTo>
                    <a:pt x="635" y="338"/>
                  </a:lnTo>
                  <a:lnTo>
                    <a:pt x="608" y="352"/>
                  </a:lnTo>
                  <a:lnTo>
                    <a:pt x="579" y="367"/>
                  </a:lnTo>
                  <a:lnTo>
                    <a:pt x="548" y="381"/>
                  </a:lnTo>
                  <a:lnTo>
                    <a:pt x="498" y="402"/>
                  </a:lnTo>
                  <a:lnTo>
                    <a:pt x="432" y="427"/>
                  </a:lnTo>
                  <a:lnTo>
                    <a:pt x="251" y="491"/>
                  </a:lnTo>
                  <a:lnTo>
                    <a:pt x="247" y="510"/>
                  </a:lnTo>
                  <a:lnTo>
                    <a:pt x="244" y="529"/>
                  </a:lnTo>
                  <a:lnTo>
                    <a:pt x="243" y="549"/>
                  </a:lnTo>
                  <a:lnTo>
                    <a:pt x="242" y="570"/>
                  </a:lnTo>
                  <a:lnTo>
                    <a:pt x="242" y="584"/>
                  </a:lnTo>
                  <a:lnTo>
                    <a:pt x="243" y="597"/>
                  </a:lnTo>
                  <a:lnTo>
                    <a:pt x="245" y="608"/>
                  </a:lnTo>
                  <a:lnTo>
                    <a:pt x="247" y="619"/>
                  </a:lnTo>
                  <a:lnTo>
                    <a:pt x="250" y="627"/>
                  </a:lnTo>
                  <a:lnTo>
                    <a:pt x="252" y="632"/>
                  </a:lnTo>
                  <a:lnTo>
                    <a:pt x="253" y="635"/>
                  </a:lnTo>
                  <a:lnTo>
                    <a:pt x="255" y="638"/>
                  </a:lnTo>
                  <a:lnTo>
                    <a:pt x="257" y="641"/>
                  </a:lnTo>
                  <a:lnTo>
                    <a:pt x="260" y="644"/>
                  </a:lnTo>
                  <a:lnTo>
                    <a:pt x="262" y="647"/>
                  </a:lnTo>
                  <a:lnTo>
                    <a:pt x="265" y="649"/>
                  </a:lnTo>
                  <a:lnTo>
                    <a:pt x="268" y="651"/>
                  </a:lnTo>
                  <a:lnTo>
                    <a:pt x="271" y="654"/>
                  </a:lnTo>
                  <a:lnTo>
                    <a:pt x="274" y="655"/>
                  </a:lnTo>
                  <a:lnTo>
                    <a:pt x="277" y="657"/>
                  </a:lnTo>
                  <a:lnTo>
                    <a:pt x="280" y="658"/>
                  </a:lnTo>
                  <a:lnTo>
                    <a:pt x="284" y="660"/>
                  </a:lnTo>
                  <a:lnTo>
                    <a:pt x="287" y="661"/>
                  </a:lnTo>
                  <a:lnTo>
                    <a:pt x="291" y="662"/>
                  </a:lnTo>
                  <a:lnTo>
                    <a:pt x="295" y="663"/>
                  </a:lnTo>
                  <a:lnTo>
                    <a:pt x="299" y="664"/>
                  </a:lnTo>
                  <a:lnTo>
                    <a:pt x="303" y="664"/>
                  </a:lnTo>
                  <a:lnTo>
                    <a:pt x="312" y="666"/>
                  </a:lnTo>
                  <a:lnTo>
                    <a:pt x="321" y="666"/>
                  </a:lnTo>
                  <a:lnTo>
                    <a:pt x="332" y="666"/>
                  </a:lnTo>
                  <a:lnTo>
                    <a:pt x="343" y="664"/>
                  </a:lnTo>
                  <a:lnTo>
                    <a:pt x="355" y="663"/>
                  </a:lnTo>
                  <a:lnTo>
                    <a:pt x="367" y="661"/>
                  </a:lnTo>
                  <a:lnTo>
                    <a:pt x="379" y="658"/>
                  </a:lnTo>
                  <a:lnTo>
                    <a:pt x="392" y="655"/>
                  </a:lnTo>
                  <a:lnTo>
                    <a:pt x="405" y="651"/>
                  </a:lnTo>
                  <a:lnTo>
                    <a:pt x="418" y="647"/>
                  </a:lnTo>
                  <a:lnTo>
                    <a:pt x="439" y="639"/>
                  </a:lnTo>
                  <a:lnTo>
                    <a:pt x="462" y="630"/>
                  </a:lnTo>
                  <a:lnTo>
                    <a:pt x="518" y="605"/>
                  </a:lnTo>
                  <a:lnTo>
                    <a:pt x="585" y="573"/>
                  </a:lnTo>
                  <a:close/>
                  <a:moveTo>
                    <a:pt x="267" y="402"/>
                  </a:moveTo>
                  <a:lnTo>
                    <a:pt x="339" y="371"/>
                  </a:lnTo>
                  <a:lnTo>
                    <a:pt x="403" y="340"/>
                  </a:lnTo>
                  <a:lnTo>
                    <a:pt x="432" y="325"/>
                  </a:lnTo>
                  <a:lnTo>
                    <a:pt x="458" y="310"/>
                  </a:lnTo>
                  <a:lnTo>
                    <a:pt x="483" y="294"/>
                  </a:lnTo>
                  <a:lnTo>
                    <a:pt x="505" y="279"/>
                  </a:lnTo>
                  <a:lnTo>
                    <a:pt x="520" y="265"/>
                  </a:lnTo>
                  <a:lnTo>
                    <a:pt x="534" y="251"/>
                  </a:lnTo>
                  <a:lnTo>
                    <a:pt x="545" y="237"/>
                  </a:lnTo>
                  <a:lnTo>
                    <a:pt x="555" y="225"/>
                  </a:lnTo>
                  <a:lnTo>
                    <a:pt x="562" y="212"/>
                  </a:lnTo>
                  <a:lnTo>
                    <a:pt x="565" y="206"/>
                  </a:lnTo>
                  <a:lnTo>
                    <a:pt x="567" y="200"/>
                  </a:lnTo>
                  <a:lnTo>
                    <a:pt x="569" y="194"/>
                  </a:lnTo>
                  <a:lnTo>
                    <a:pt x="570" y="189"/>
                  </a:lnTo>
                  <a:lnTo>
                    <a:pt x="571" y="183"/>
                  </a:lnTo>
                  <a:lnTo>
                    <a:pt x="571" y="178"/>
                  </a:lnTo>
                  <a:lnTo>
                    <a:pt x="571" y="170"/>
                  </a:lnTo>
                  <a:lnTo>
                    <a:pt x="570" y="162"/>
                  </a:lnTo>
                  <a:lnTo>
                    <a:pt x="568" y="156"/>
                  </a:lnTo>
                  <a:lnTo>
                    <a:pt x="566" y="150"/>
                  </a:lnTo>
                  <a:lnTo>
                    <a:pt x="564" y="147"/>
                  </a:lnTo>
                  <a:lnTo>
                    <a:pt x="563" y="144"/>
                  </a:lnTo>
                  <a:lnTo>
                    <a:pt x="561" y="141"/>
                  </a:lnTo>
                  <a:lnTo>
                    <a:pt x="559" y="138"/>
                  </a:lnTo>
                  <a:lnTo>
                    <a:pt x="557" y="136"/>
                  </a:lnTo>
                  <a:lnTo>
                    <a:pt x="555" y="134"/>
                  </a:lnTo>
                  <a:lnTo>
                    <a:pt x="553" y="131"/>
                  </a:lnTo>
                  <a:lnTo>
                    <a:pt x="550" y="129"/>
                  </a:lnTo>
                  <a:lnTo>
                    <a:pt x="548" y="127"/>
                  </a:lnTo>
                  <a:lnTo>
                    <a:pt x="545" y="125"/>
                  </a:lnTo>
                  <a:lnTo>
                    <a:pt x="542" y="123"/>
                  </a:lnTo>
                  <a:lnTo>
                    <a:pt x="540" y="122"/>
                  </a:lnTo>
                  <a:lnTo>
                    <a:pt x="537" y="120"/>
                  </a:lnTo>
                  <a:lnTo>
                    <a:pt x="534" y="119"/>
                  </a:lnTo>
                  <a:lnTo>
                    <a:pt x="531" y="117"/>
                  </a:lnTo>
                  <a:lnTo>
                    <a:pt x="528" y="116"/>
                  </a:lnTo>
                  <a:lnTo>
                    <a:pt x="524" y="115"/>
                  </a:lnTo>
                  <a:lnTo>
                    <a:pt x="521" y="114"/>
                  </a:lnTo>
                  <a:lnTo>
                    <a:pt x="518" y="113"/>
                  </a:lnTo>
                  <a:lnTo>
                    <a:pt x="514" y="112"/>
                  </a:lnTo>
                  <a:lnTo>
                    <a:pt x="507" y="112"/>
                  </a:lnTo>
                  <a:lnTo>
                    <a:pt x="499" y="112"/>
                  </a:lnTo>
                  <a:lnTo>
                    <a:pt x="494" y="112"/>
                  </a:lnTo>
                  <a:lnTo>
                    <a:pt x="490" y="112"/>
                  </a:lnTo>
                  <a:lnTo>
                    <a:pt x="479" y="113"/>
                  </a:lnTo>
                  <a:lnTo>
                    <a:pt x="468" y="116"/>
                  </a:lnTo>
                  <a:lnTo>
                    <a:pt x="456" y="118"/>
                  </a:lnTo>
                  <a:lnTo>
                    <a:pt x="443" y="122"/>
                  </a:lnTo>
                  <a:lnTo>
                    <a:pt x="429" y="126"/>
                  </a:lnTo>
                  <a:lnTo>
                    <a:pt x="415" y="131"/>
                  </a:lnTo>
                  <a:lnTo>
                    <a:pt x="399" y="137"/>
                  </a:lnTo>
                  <a:lnTo>
                    <a:pt x="345" y="206"/>
                  </a:lnTo>
                  <a:lnTo>
                    <a:pt x="319" y="262"/>
                  </a:lnTo>
                  <a:lnTo>
                    <a:pt x="298" y="314"/>
                  </a:lnTo>
                  <a:lnTo>
                    <a:pt x="28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5280" y="1236600"/>
              <a:ext cx="392040" cy="297000"/>
            </a:xfrm>
            <a:custGeom>
              <a:avLst/>
              <a:gdLst/>
              <a:ahLst/>
              <a:rect l="l" t="t" r="r" b="b"/>
              <a:pathLst>
                <a:path w="1088" h="823">
                  <a:moveTo>
                    <a:pt x="1087" y="616"/>
                  </a:moveTo>
                  <a:lnTo>
                    <a:pt x="1026" y="665"/>
                  </a:lnTo>
                  <a:lnTo>
                    <a:pt x="969" y="706"/>
                  </a:lnTo>
                  <a:lnTo>
                    <a:pt x="916" y="742"/>
                  </a:lnTo>
                  <a:lnTo>
                    <a:pt x="867" y="771"/>
                  </a:lnTo>
                  <a:lnTo>
                    <a:pt x="821" y="793"/>
                  </a:lnTo>
                  <a:lnTo>
                    <a:pt x="800" y="802"/>
                  </a:lnTo>
                  <a:lnTo>
                    <a:pt x="780" y="809"/>
                  </a:lnTo>
                  <a:lnTo>
                    <a:pt x="761" y="815"/>
                  </a:lnTo>
                  <a:lnTo>
                    <a:pt x="742" y="819"/>
                  </a:lnTo>
                  <a:lnTo>
                    <a:pt x="725" y="821"/>
                  </a:lnTo>
                  <a:lnTo>
                    <a:pt x="709" y="822"/>
                  </a:lnTo>
                  <a:lnTo>
                    <a:pt x="704" y="822"/>
                  </a:lnTo>
                  <a:lnTo>
                    <a:pt x="698" y="821"/>
                  </a:lnTo>
                  <a:lnTo>
                    <a:pt x="693" y="821"/>
                  </a:lnTo>
                  <a:lnTo>
                    <a:pt x="688" y="821"/>
                  </a:lnTo>
                  <a:lnTo>
                    <a:pt x="682" y="819"/>
                  </a:lnTo>
                  <a:lnTo>
                    <a:pt x="677" y="818"/>
                  </a:lnTo>
                  <a:lnTo>
                    <a:pt x="672" y="817"/>
                  </a:lnTo>
                  <a:lnTo>
                    <a:pt x="667" y="815"/>
                  </a:lnTo>
                  <a:lnTo>
                    <a:pt x="662" y="813"/>
                  </a:lnTo>
                  <a:lnTo>
                    <a:pt x="657" y="811"/>
                  </a:lnTo>
                  <a:lnTo>
                    <a:pt x="648" y="806"/>
                  </a:lnTo>
                  <a:lnTo>
                    <a:pt x="638" y="801"/>
                  </a:lnTo>
                  <a:lnTo>
                    <a:pt x="629" y="794"/>
                  </a:lnTo>
                  <a:lnTo>
                    <a:pt x="625" y="790"/>
                  </a:lnTo>
                  <a:lnTo>
                    <a:pt x="621" y="787"/>
                  </a:lnTo>
                  <a:lnTo>
                    <a:pt x="617" y="783"/>
                  </a:lnTo>
                  <a:lnTo>
                    <a:pt x="613" y="779"/>
                  </a:lnTo>
                  <a:lnTo>
                    <a:pt x="610" y="775"/>
                  </a:lnTo>
                  <a:lnTo>
                    <a:pt x="607" y="771"/>
                  </a:lnTo>
                  <a:lnTo>
                    <a:pt x="604" y="766"/>
                  </a:lnTo>
                  <a:lnTo>
                    <a:pt x="602" y="762"/>
                  </a:lnTo>
                  <a:lnTo>
                    <a:pt x="598" y="752"/>
                  </a:lnTo>
                  <a:lnTo>
                    <a:pt x="595" y="742"/>
                  </a:lnTo>
                  <a:lnTo>
                    <a:pt x="594" y="731"/>
                  </a:lnTo>
                  <a:lnTo>
                    <a:pt x="593" y="720"/>
                  </a:lnTo>
                  <a:lnTo>
                    <a:pt x="593" y="707"/>
                  </a:lnTo>
                  <a:lnTo>
                    <a:pt x="595" y="693"/>
                  </a:lnTo>
                  <a:lnTo>
                    <a:pt x="596" y="679"/>
                  </a:lnTo>
                  <a:lnTo>
                    <a:pt x="599" y="664"/>
                  </a:lnTo>
                  <a:lnTo>
                    <a:pt x="607" y="632"/>
                  </a:lnTo>
                  <a:lnTo>
                    <a:pt x="617" y="597"/>
                  </a:lnTo>
                  <a:lnTo>
                    <a:pt x="674" y="442"/>
                  </a:lnTo>
                  <a:lnTo>
                    <a:pt x="390" y="442"/>
                  </a:lnTo>
                  <a:lnTo>
                    <a:pt x="279" y="791"/>
                  </a:lnTo>
                  <a:lnTo>
                    <a:pt x="58" y="791"/>
                  </a:lnTo>
                  <a:lnTo>
                    <a:pt x="59" y="783"/>
                  </a:lnTo>
                  <a:lnTo>
                    <a:pt x="61" y="773"/>
                  </a:lnTo>
                  <a:lnTo>
                    <a:pt x="66" y="751"/>
                  </a:lnTo>
                  <a:lnTo>
                    <a:pt x="73" y="725"/>
                  </a:lnTo>
                  <a:lnTo>
                    <a:pt x="84" y="695"/>
                  </a:lnTo>
                  <a:lnTo>
                    <a:pt x="146" y="510"/>
                  </a:lnTo>
                  <a:lnTo>
                    <a:pt x="252" y="189"/>
                  </a:lnTo>
                  <a:lnTo>
                    <a:pt x="255" y="178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9" y="161"/>
                  </a:lnTo>
                  <a:lnTo>
                    <a:pt x="260" y="158"/>
                  </a:lnTo>
                  <a:lnTo>
                    <a:pt x="260" y="155"/>
                  </a:lnTo>
                  <a:lnTo>
                    <a:pt x="260" y="151"/>
                  </a:lnTo>
                  <a:lnTo>
                    <a:pt x="260" y="149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7"/>
                  </a:lnTo>
                  <a:lnTo>
                    <a:pt x="260" y="146"/>
                  </a:lnTo>
                  <a:lnTo>
                    <a:pt x="259" y="146"/>
                  </a:lnTo>
                  <a:lnTo>
                    <a:pt x="259" y="146"/>
                  </a:lnTo>
                  <a:lnTo>
                    <a:pt x="259" y="146"/>
                  </a:lnTo>
                  <a:lnTo>
                    <a:pt x="259" y="146"/>
                  </a:lnTo>
                  <a:lnTo>
                    <a:pt x="259" y="146"/>
                  </a:lnTo>
                  <a:lnTo>
                    <a:pt x="259" y="146"/>
                  </a:lnTo>
                  <a:lnTo>
                    <a:pt x="259" y="146"/>
                  </a:lnTo>
                  <a:lnTo>
                    <a:pt x="256" y="146"/>
                  </a:lnTo>
                  <a:lnTo>
                    <a:pt x="253" y="146"/>
                  </a:lnTo>
                  <a:lnTo>
                    <a:pt x="247" y="148"/>
                  </a:lnTo>
                  <a:lnTo>
                    <a:pt x="240" y="149"/>
                  </a:lnTo>
                  <a:lnTo>
                    <a:pt x="232" y="152"/>
                  </a:lnTo>
                  <a:lnTo>
                    <a:pt x="214" y="160"/>
                  </a:lnTo>
                  <a:lnTo>
                    <a:pt x="193" y="171"/>
                  </a:lnTo>
                  <a:lnTo>
                    <a:pt x="169" y="183"/>
                  </a:lnTo>
                  <a:lnTo>
                    <a:pt x="142" y="200"/>
                  </a:lnTo>
                  <a:lnTo>
                    <a:pt x="78" y="242"/>
                  </a:lnTo>
                  <a:lnTo>
                    <a:pt x="0" y="195"/>
                  </a:lnTo>
                  <a:lnTo>
                    <a:pt x="64" y="149"/>
                  </a:lnTo>
                  <a:lnTo>
                    <a:pt x="125" y="109"/>
                  </a:lnTo>
                  <a:lnTo>
                    <a:pt x="181" y="76"/>
                  </a:lnTo>
                  <a:lnTo>
                    <a:pt x="233" y="49"/>
                  </a:lnTo>
                  <a:lnTo>
                    <a:pt x="281" y="27"/>
                  </a:lnTo>
                  <a:lnTo>
                    <a:pt x="304" y="18"/>
                  </a:lnTo>
                  <a:lnTo>
                    <a:pt x="326" y="12"/>
                  </a:lnTo>
                  <a:lnTo>
                    <a:pt x="346" y="6"/>
                  </a:lnTo>
                  <a:lnTo>
                    <a:pt x="366" y="3"/>
                  </a:lnTo>
                  <a:lnTo>
                    <a:pt x="384" y="0"/>
                  </a:lnTo>
                  <a:lnTo>
                    <a:pt x="402" y="0"/>
                  </a:lnTo>
                  <a:lnTo>
                    <a:pt x="413" y="0"/>
                  </a:lnTo>
                  <a:lnTo>
                    <a:pt x="423" y="1"/>
                  </a:lnTo>
                  <a:lnTo>
                    <a:pt x="433" y="3"/>
                  </a:lnTo>
                  <a:lnTo>
                    <a:pt x="442" y="5"/>
                  </a:lnTo>
                  <a:lnTo>
                    <a:pt x="450" y="8"/>
                  </a:lnTo>
                  <a:lnTo>
                    <a:pt x="457" y="12"/>
                  </a:lnTo>
                  <a:lnTo>
                    <a:pt x="464" y="15"/>
                  </a:lnTo>
                  <a:lnTo>
                    <a:pt x="470" y="21"/>
                  </a:lnTo>
                  <a:lnTo>
                    <a:pt x="475" y="26"/>
                  </a:lnTo>
                  <a:lnTo>
                    <a:pt x="480" y="32"/>
                  </a:lnTo>
                  <a:lnTo>
                    <a:pt x="484" y="39"/>
                  </a:lnTo>
                  <a:lnTo>
                    <a:pt x="487" y="46"/>
                  </a:lnTo>
                  <a:lnTo>
                    <a:pt x="490" y="55"/>
                  </a:lnTo>
                  <a:lnTo>
                    <a:pt x="492" y="64"/>
                  </a:lnTo>
                  <a:lnTo>
                    <a:pt x="493" y="74"/>
                  </a:lnTo>
                  <a:lnTo>
                    <a:pt x="493" y="84"/>
                  </a:lnTo>
                  <a:lnTo>
                    <a:pt x="492" y="102"/>
                  </a:lnTo>
                  <a:lnTo>
                    <a:pt x="488" y="124"/>
                  </a:lnTo>
                  <a:lnTo>
                    <a:pt x="482" y="152"/>
                  </a:lnTo>
                  <a:lnTo>
                    <a:pt x="474" y="183"/>
                  </a:lnTo>
                  <a:lnTo>
                    <a:pt x="449" y="258"/>
                  </a:lnTo>
                  <a:lnTo>
                    <a:pt x="415" y="351"/>
                  </a:lnTo>
                  <a:lnTo>
                    <a:pt x="700" y="351"/>
                  </a:lnTo>
                  <a:lnTo>
                    <a:pt x="815" y="22"/>
                  </a:lnTo>
                  <a:lnTo>
                    <a:pt x="1027" y="22"/>
                  </a:lnTo>
                  <a:lnTo>
                    <a:pt x="915" y="359"/>
                  </a:lnTo>
                  <a:lnTo>
                    <a:pt x="842" y="570"/>
                  </a:lnTo>
                  <a:lnTo>
                    <a:pt x="823" y="632"/>
                  </a:lnTo>
                  <a:lnTo>
                    <a:pt x="819" y="652"/>
                  </a:lnTo>
                  <a:lnTo>
                    <a:pt x="817" y="659"/>
                  </a:lnTo>
                  <a:lnTo>
                    <a:pt x="817" y="665"/>
                  </a:lnTo>
                  <a:lnTo>
                    <a:pt x="817" y="668"/>
                  </a:lnTo>
                  <a:lnTo>
                    <a:pt x="818" y="671"/>
                  </a:lnTo>
                  <a:lnTo>
                    <a:pt x="818" y="673"/>
                  </a:lnTo>
                  <a:lnTo>
                    <a:pt x="818" y="675"/>
                  </a:lnTo>
                  <a:lnTo>
                    <a:pt x="819" y="676"/>
                  </a:lnTo>
                  <a:lnTo>
                    <a:pt x="819" y="677"/>
                  </a:lnTo>
                  <a:lnTo>
                    <a:pt x="820" y="678"/>
                  </a:lnTo>
                  <a:lnTo>
                    <a:pt x="821" y="679"/>
                  </a:lnTo>
                  <a:lnTo>
                    <a:pt x="821" y="680"/>
                  </a:lnTo>
                  <a:lnTo>
                    <a:pt x="822" y="681"/>
                  </a:lnTo>
                  <a:lnTo>
                    <a:pt x="822" y="681"/>
                  </a:lnTo>
                  <a:lnTo>
                    <a:pt x="823" y="681"/>
                  </a:lnTo>
                  <a:lnTo>
                    <a:pt x="823" y="681"/>
                  </a:lnTo>
                  <a:lnTo>
                    <a:pt x="824" y="681"/>
                  </a:lnTo>
                  <a:lnTo>
                    <a:pt x="824" y="681"/>
                  </a:lnTo>
                  <a:lnTo>
                    <a:pt x="825" y="681"/>
                  </a:lnTo>
                  <a:lnTo>
                    <a:pt x="825" y="681"/>
                  </a:lnTo>
                  <a:lnTo>
                    <a:pt x="826" y="681"/>
                  </a:lnTo>
                  <a:lnTo>
                    <a:pt x="828" y="681"/>
                  </a:lnTo>
                  <a:lnTo>
                    <a:pt x="831" y="681"/>
                  </a:lnTo>
                  <a:lnTo>
                    <a:pt x="836" y="680"/>
                  </a:lnTo>
                  <a:lnTo>
                    <a:pt x="843" y="678"/>
                  </a:lnTo>
                  <a:lnTo>
                    <a:pt x="851" y="674"/>
                  </a:lnTo>
                  <a:lnTo>
                    <a:pt x="869" y="665"/>
                  </a:lnTo>
                  <a:lnTo>
                    <a:pt x="892" y="652"/>
                  </a:lnTo>
                  <a:lnTo>
                    <a:pt x="950" y="615"/>
                  </a:lnTo>
                  <a:lnTo>
                    <a:pt x="1024" y="564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48480" y="1225440"/>
              <a:ext cx="366840" cy="304920"/>
            </a:xfrm>
            <a:custGeom>
              <a:avLst/>
              <a:gdLst/>
              <a:ahLst/>
              <a:rect l="l" t="t" r="r" b="b"/>
              <a:pathLst>
                <a:path w="1020" h="847">
                  <a:moveTo>
                    <a:pt x="846" y="15"/>
                  </a:moveTo>
                  <a:lnTo>
                    <a:pt x="964" y="0"/>
                  </a:lnTo>
                  <a:lnTo>
                    <a:pt x="874" y="251"/>
                  </a:lnTo>
                  <a:lnTo>
                    <a:pt x="848" y="321"/>
                  </a:lnTo>
                  <a:lnTo>
                    <a:pt x="823" y="397"/>
                  </a:lnTo>
                  <a:lnTo>
                    <a:pt x="798" y="477"/>
                  </a:lnTo>
                  <a:lnTo>
                    <a:pt x="774" y="562"/>
                  </a:lnTo>
                  <a:lnTo>
                    <a:pt x="763" y="604"/>
                  </a:lnTo>
                  <a:lnTo>
                    <a:pt x="755" y="638"/>
                  </a:lnTo>
                  <a:lnTo>
                    <a:pt x="751" y="665"/>
                  </a:lnTo>
                  <a:lnTo>
                    <a:pt x="749" y="675"/>
                  </a:lnTo>
                  <a:lnTo>
                    <a:pt x="749" y="682"/>
                  </a:lnTo>
                  <a:lnTo>
                    <a:pt x="749" y="685"/>
                  </a:lnTo>
                  <a:lnTo>
                    <a:pt x="749" y="686"/>
                  </a:lnTo>
                  <a:lnTo>
                    <a:pt x="749" y="688"/>
                  </a:lnTo>
                  <a:lnTo>
                    <a:pt x="750" y="688"/>
                  </a:lnTo>
                  <a:lnTo>
                    <a:pt x="750" y="689"/>
                  </a:lnTo>
                  <a:lnTo>
                    <a:pt x="750" y="690"/>
                  </a:lnTo>
                  <a:lnTo>
                    <a:pt x="750" y="690"/>
                  </a:lnTo>
                  <a:lnTo>
                    <a:pt x="751" y="691"/>
                  </a:lnTo>
                  <a:lnTo>
                    <a:pt x="751" y="691"/>
                  </a:lnTo>
                  <a:lnTo>
                    <a:pt x="751" y="691"/>
                  </a:lnTo>
                  <a:lnTo>
                    <a:pt x="751" y="691"/>
                  </a:lnTo>
                  <a:lnTo>
                    <a:pt x="752" y="691"/>
                  </a:lnTo>
                  <a:lnTo>
                    <a:pt x="752" y="691"/>
                  </a:lnTo>
                  <a:lnTo>
                    <a:pt x="752" y="691"/>
                  </a:lnTo>
                  <a:lnTo>
                    <a:pt x="752" y="691"/>
                  </a:lnTo>
                  <a:lnTo>
                    <a:pt x="752" y="691"/>
                  </a:lnTo>
                  <a:lnTo>
                    <a:pt x="753" y="691"/>
                  </a:lnTo>
                  <a:lnTo>
                    <a:pt x="753" y="691"/>
                  </a:lnTo>
                  <a:lnTo>
                    <a:pt x="755" y="691"/>
                  </a:lnTo>
                  <a:lnTo>
                    <a:pt x="757" y="691"/>
                  </a:lnTo>
                  <a:lnTo>
                    <a:pt x="759" y="691"/>
                  </a:lnTo>
                  <a:lnTo>
                    <a:pt x="761" y="691"/>
                  </a:lnTo>
                  <a:lnTo>
                    <a:pt x="766" y="689"/>
                  </a:lnTo>
                  <a:lnTo>
                    <a:pt x="772" y="688"/>
                  </a:lnTo>
                  <a:lnTo>
                    <a:pt x="778" y="685"/>
                  </a:lnTo>
                  <a:lnTo>
                    <a:pt x="785" y="682"/>
                  </a:lnTo>
                  <a:lnTo>
                    <a:pt x="801" y="676"/>
                  </a:lnTo>
                  <a:lnTo>
                    <a:pt x="837" y="658"/>
                  </a:lnTo>
                  <a:lnTo>
                    <a:pt x="875" y="638"/>
                  </a:lnTo>
                  <a:lnTo>
                    <a:pt x="915" y="616"/>
                  </a:lnTo>
                  <a:lnTo>
                    <a:pt x="957" y="590"/>
                  </a:lnTo>
                  <a:lnTo>
                    <a:pt x="1019" y="645"/>
                  </a:lnTo>
                  <a:lnTo>
                    <a:pt x="901" y="729"/>
                  </a:lnTo>
                  <a:lnTo>
                    <a:pt x="861" y="756"/>
                  </a:lnTo>
                  <a:lnTo>
                    <a:pt x="846" y="765"/>
                  </a:lnTo>
                  <a:lnTo>
                    <a:pt x="834" y="772"/>
                  </a:lnTo>
                  <a:lnTo>
                    <a:pt x="795" y="791"/>
                  </a:lnTo>
                  <a:lnTo>
                    <a:pt x="758" y="807"/>
                  </a:lnTo>
                  <a:lnTo>
                    <a:pt x="739" y="815"/>
                  </a:lnTo>
                  <a:lnTo>
                    <a:pt x="720" y="821"/>
                  </a:lnTo>
                  <a:lnTo>
                    <a:pt x="702" y="827"/>
                  </a:lnTo>
                  <a:lnTo>
                    <a:pt x="684" y="832"/>
                  </a:lnTo>
                  <a:lnTo>
                    <a:pt x="672" y="835"/>
                  </a:lnTo>
                  <a:lnTo>
                    <a:pt x="660" y="838"/>
                  </a:lnTo>
                  <a:lnTo>
                    <a:pt x="648" y="840"/>
                  </a:lnTo>
                  <a:lnTo>
                    <a:pt x="636" y="843"/>
                  </a:lnTo>
                  <a:lnTo>
                    <a:pt x="623" y="844"/>
                  </a:lnTo>
                  <a:lnTo>
                    <a:pt x="611" y="845"/>
                  </a:lnTo>
                  <a:lnTo>
                    <a:pt x="599" y="846"/>
                  </a:lnTo>
                  <a:lnTo>
                    <a:pt x="587" y="846"/>
                  </a:lnTo>
                  <a:lnTo>
                    <a:pt x="577" y="846"/>
                  </a:lnTo>
                  <a:lnTo>
                    <a:pt x="568" y="845"/>
                  </a:lnTo>
                  <a:lnTo>
                    <a:pt x="559" y="844"/>
                  </a:lnTo>
                  <a:lnTo>
                    <a:pt x="551" y="842"/>
                  </a:lnTo>
                  <a:lnTo>
                    <a:pt x="543" y="840"/>
                  </a:lnTo>
                  <a:lnTo>
                    <a:pt x="540" y="838"/>
                  </a:lnTo>
                  <a:lnTo>
                    <a:pt x="536" y="837"/>
                  </a:lnTo>
                  <a:lnTo>
                    <a:pt x="533" y="835"/>
                  </a:lnTo>
                  <a:lnTo>
                    <a:pt x="530" y="834"/>
                  </a:lnTo>
                  <a:lnTo>
                    <a:pt x="527" y="832"/>
                  </a:lnTo>
                  <a:lnTo>
                    <a:pt x="524" y="830"/>
                  </a:lnTo>
                  <a:lnTo>
                    <a:pt x="521" y="828"/>
                  </a:lnTo>
                  <a:lnTo>
                    <a:pt x="519" y="826"/>
                  </a:lnTo>
                  <a:lnTo>
                    <a:pt x="516" y="824"/>
                  </a:lnTo>
                  <a:lnTo>
                    <a:pt x="514" y="822"/>
                  </a:lnTo>
                  <a:lnTo>
                    <a:pt x="512" y="819"/>
                  </a:lnTo>
                  <a:lnTo>
                    <a:pt x="510" y="816"/>
                  </a:lnTo>
                  <a:lnTo>
                    <a:pt x="508" y="814"/>
                  </a:lnTo>
                  <a:lnTo>
                    <a:pt x="507" y="811"/>
                  </a:lnTo>
                  <a:lnTo>
                    <a:pt x="506" y="808"/>
                  </a:lnTo>
                  <a:lnTo>
                    <a:pt x="504" y="805"/>
                  </a:lnTo>
                  <a:lnTo>
                    <a:pt x="502" y="799"/>
                  </a:lnTo>
                  <a:lnTo>
                    <a:pt x="501" y="792"/>
                  </a:lnTo>
                  <a:lnTo>
                    <a:pt x="501" y="785"/>
                  </a:lnTo>
                  <a:lnTo>
                    <a:pt x="501" y="781"/>
                  </a:lnTo>
                  <a:lnTo>
                    <a:pt x="502" y="776"/>
                  </a:lnTo>
                  <a:lnTo>
                    <a:pt x="503" y="772"/>
                  </a:lnTo>
                  <a:lnTo>
                    <a:pt x="504" y="766"/>
                  </a:lnTo>
                  <a:lnTo>
                    <a:pt x="507" y="756"/>
                  </a:lnTo>
                  <a:lnTo>
                    <a:pt x="511" y="744"/>
                  </a:lnTo>
                  <a:lnTo>
                    <a:pt x="558" y="644"/>
                  </a:lnTo>
                  <a:lnTo>
                    <a:pt x="542" y="666"/>
                  </a:lnTo>
                  <a:lnTo>
                    <a:pt x="523" y="687"/>
                  </a:lnTo>
                  <a:lnTo>
                    <a:pt x="503" y="706"/>
                  </a:lnTo>
                  <a:lnTo>
                    <a:pt x="480" y="724"/>
                  </a:lnTo>
                  <a:lnTo>
                    <a:pt x="454" y="741"/>
                  </a:lnTo>
                  <a:lnTo>
                    <a:pt x="427" y="757"/>
                  </a:lnTo>
                  <a:lnTo>
                    <a:pt x="397" y="772"/>
                  </a:lnTo>
                  <a:lnTo>
                    <a:pt x="364" y="787"/>
                  </a:lnTo>
                  <a:lnTo>
                    <a:pt x="338" y="800"/>
                  </a:lnTo>
                  <a:lnTo>
                    <a:pt x="314" y="812"/>
                  </a:lnTo>
                  <a:lnTo>
                    <a:pt x="290" y="822"/>
                  </a:lnTo>
                  <a:lnTo>
                    <a:pt x="266" y="831"/>
                  </a:lnTo>
                  <a:lnTo>
                    <a:pt x="244" y="837"/>
                  </a:lnTo>
                  <a:lnTo>
                    <a:pt x="222" y="841"/>
                  </a:lnTo>
                  <a:lnTo>
                    <a:pt x="211" y="843"/>
                  </a:lnTo>
                  <a:lnTo>
                    <a:pt x="201" y="844"/>
                  </a:lnTo>
                  <a:lnTo>
                    <a:pt x="190" y="845"/>
                  </a:lnTo>
                  <a:lnTo>
                    <a:pt x="180" y="845"/>
                  </a:lnTo>
                  <a:lnTo>
                    <a:pt x="170" y="845"/>
                  </a:lnTo>
                  <a:lnTo>
                    <a:pt x="160" y="844"/>
                  </a:lnTo>
                  <a:lnTo>
                    <a:pt x="151" y="843"/>
                  </a:lnTo>
                  <a:lnTo>
                    <a:pt x="141" y="840"/>
                  </a:lnTo>
                  <a:lnTo>
                    <a:pt x="132" y="837"/>
                  </a:lnTo>
                  <a:lnTo>
                    <a:pt x="124" y="834"/>
                  </a:lnTo>
                  <a:lnTo>
                    <a:pt x="115" y="831"/>
                  </a:lnTo>
                  <a:lnTo>
                    <a:pt x="107" y="827"/>
                  </a:lnTo>
                  <a:lnTo>
                    <a:pt x="99" y="822"/>
                  </a:lnTo>
                  <a:lnTo>
                    <a:pt x="91" y="816"/>
                  </a:lnTo>
                  <a:lnTo>
                    <a:pt x="83" y="810"/>
                  </a:lnTo>
                  <a:lnTo>
                    <a:pt x="76" y="803"/>
                  </a:lnTo>
                  <a:lnTo>
                    <a:pt x="69" y="797"/>
                  </a:lnTo>
                  <a:lnTo>
                    <a:pt x="63" y="789"/>
                  </a:lnTo>
                  <a:lnTo>
                    <a:pt x="50" y="772"/>
                  </a:lnTo>
                  <a:lnTo>
                    <a:pt x="44" y="769"/>
                  </a:lnTo>
                  <a:lnTo>
                    <a:pt x="38" y="764"/>
                  </a:lnTo>
                  <a:lnTo>
                    <a:pt x="33" y="760"/>
                  </a:lnTo>
                  <a:lnTo>
                    <a:pt x="28" y="755"/>
                  </a:lnTo>
                  <a:lnTo>
                    <a:pt x="24" y="750"/>
                  </a:lnTo>
                  <a:lnTo>
                    <a:pt x="20" y="744"/>
                  </a:lnTo>
                  <a:lnTo>
                    <a:pt x="16" y="738"/>
                  </a:lnTo>
                  <a:lnTo>
                    <a:pt x="13" y="732"/>
                  </a:lnTo>
                  <a:lnTo>
                    <a:pt x="10" y="724"/>
                  </a:lnTo>
                  <a:lnTo>
                    <a:pt x="7" y="716"/>
                  </a:lnTo>
                  <a:lnTo>
                    <a:pt x="3" y="700"/>
                  </a:lnTo>
                  <a:lnTo>
                    <a:pt x="1" y="681"/>
                  </a:lnTo>
                  <a:lnTo>
                    <a:pt x="0" y="660"/>
                  </a:lnTo>
                  <a:lnTo>
                    <a:pt x="1" y="635"/>
                  </a:lnTo>
                  <a:lnTo>
                    <a:pt x="4" y="610"/>
                  </a:lnTo>
                  <a:lnTo>
                    <a:pt x="10" y="583"/>
                  </a:lnTo>
                  <a:lnTo>
                    <a:pt x="17" y="556"/>
                  </a:lnTo>
                  <a:lnTo>
                    <a:pt x="27" y="529"/>
                  </a:lnTo>
                  <a:lnTo>
                    <a:pt x="39" y="500"/>
                  </a:lnTo>
                  <a:lnTo>
                    <a:pt x="53" y="471"/>
                  </a:lnTo>
                  <a:lnTo>
                    <a:pt x="69" y="442"/>
                  </a:lnTo>
                  <a:lnTo>
                    <a:pt x="87" y="412"/>
                  </a:lnTo>
                  <a:lnTo>
                    <a:pt x="106" y="383"/>
                  </a:lnTo>
                  <a:lnTo>
                    <a:pt x="127" y="355"/>
                  </a:lnTo>
                  <a:lnTo>
                    <a:pt x="150" y="327"/>
                  </a:lnTo>
                  <a:lnTo>
                    <a:pt x="173" y="301"/>
                  </a:lnTo>
                  <a:lnTo>
                    <a:pt x="199" y="274"/>
                  </a:lnTo>
                  <a:lnTo>
                    <a:pt x="226" y="249"/>
                  </a:lnTo>
                  <a:lnTo>
                    <a:pt x="254" y="225"/>
                  </a:lnTo>
                  <a:lnTo>
                    <a:pt x="283" y="200"/>
                  </a:lnTo>
                  <a:lnTo>
                    <a:pt x="313" y="178"/>
                  </a:lnTo>
                  <a:lnTo>
                    <a:pt x="342" y="158"/>
                  </a:lnTo>
                  <a:lnTo>
                    <a:pt x="373" y="139"/>
                  </a:lnTo>
                  <a:lnTo>
                    <a:pt x="403" y="122"/>
                  </a:lnTo>
                  <a:lnTo>
                    <a:pt x="434" y="106"/>
                  </a:lnTo>
                  <a:lnTo>
                    <a:pt x="466" y="92"/>
                  </a:lnTo>
                  <a:lnTo>
                    <a:pt x="498" y="80"/>
                  </a:lnTo>
                  <a:lnTo>
                    <a:pt x="524" y="72"/>
                  </a:lnTo>
                  <a:lnTo>
                    <a:pt x="552" y="64"/>
                  </a:lnTo>
                  <a:lnTo>
                    <a:pt x="582" y="58"/>
                  </a:lnTo>
                  <a:lnTo>
                    <a:pt x="614" y="53"/>
                  </a:lnTo>
                  <a:lnTo>
                    <a:pt x="647" y="49"/>
                  </a:lnTo>
                  <a:lnTo>
                    <a:pt x="681" y="46"/>
                  </a:lnTo>
                  <a:lnTo>
                    <a:pt x="718" y="44"/>
                  </a:lnTo>
                  <a:lnTo>
                    <a:pt x="756" y="44"/>
                  </a:lnTo>
                  <a:lnTo>
                    <a:pt x="774" y="44"/>
                  </a:lnTo>
                  <a:lnTo>
                    <a:pt x="791" y="44"/>
                  </a:lnTo>
                  <a:lnTo>
                    <a:pt x="806" y="46"/>
                  </a:lnTo>
                  <a:lnTo>
                    <a:pt x="820" y="47"/>
                  </a:lnTo>
                  <a:close/>
                  <a:moveTo>
                    <a:pt x="690" y="182"/>
                  </a:moveTo>
                  <a:lnTo>
                    <a:pt x="668" y="180"/>
                  </a:lnTo>
                  <a:lnTo>
                    <a:pt x="647" y="178"/>
                  </a:lnTo>
                  <a:lnTo>
                    <a:pt x="626" y="177"/>
                  </a:lnTo>
                  <a:lnTo>
                    <a:pt x="606" y="177"/>
                  </a:lnTo>
                  <a:lnTo>
                    <a:pt x="582" y="178"/>
                  </a:lnTo>
                  <a:lnTo>
                    <a:pt x="559" y="179"/>
                  </a:lnTo>
                  <a:lnTo>
                    <a:pt x="536" y="183"/>
                  </a:lnTo>
                  <a:lnTo>
                    <a:pt x="515" y="187"/>
                  </a:lnTo>
                  <a:lnTo>
                    <a:pt x="494" y="193"/>
                  </a:lnTo>
                  <a:lnTo>
                    <a:pt x="473" y="200"/>
                  </a:lnTo>
                  <a:lnTo>
                    <a:pt x="454" y="208"/>
                  </a:lnTo>
                  <a:lnTo>
                    <a:pt x="435" y="218"/>
                  </a:lnTo>
                  <a:lnTo>
                    <a:pt x="416" y="229"/>
                  </a:lnTo>
                  <a:lnTo>
                    <a:pt x="398" y="243"/>
                  </a:lnTo>
                  <a:lnTo>
                    <a:pt x="380" y="259"/>
                  </a:lnTo>
                  <a:lnTo>
                    <a:pt x="363" y="277"/>
                  </a:lnTo>
                  <a:lnTo>
                    <a:pt x="345" y="297"/>
                  </a:lnTo>
                  <a:lnTo>
                    <a:pt x="328" y="319"/>
                  </a:lnTo>
                  <a:lnTo>
                    <a:pt x="312" y="344"/>
                  </a:lnTo>
                  <a:lnTo>
                    <a:pt x="295" y="371"/>
                  </a:lnTo>
                  <a:lnTo>
                    <a:pt x="280" y="399"/>
                  </a:lnTo>
                  <a:lnTo>
                    <a:pt x="266" y="427"/>
                  </a:lnTo>
                  <a:lnTo>
                    <a:pt x="255" y="454"/>
                  </a:lnTo>
                  <a:lnTo>
                    <a:pt x="246" y="482"/>
                  </a:lnTo>
                  <a:lnTo>
                    <a:pt x="238" y="510"/>
                  </a:lnTo>
                  <a:lnTo>
                    <a:pt x="233" y="538"/>
                  </a:lnTo>
                  <a:lnTo>
                    <a:pt x="230" y="565"/>
                  </a:lnTo>
                  <a:lnTo>
                    <a:pt x="229" y="593"/>
                  </a:lnTo>
                  <a:lnTo>
                    <a:pt x="229" y="607"/>
                  </a:lnTo>
                  <a:lnTo>
                    <a:pt x="230" y="619"/>
                  </a:lnTo>
                  <a:lnTo>
                    <a:pt x="232" y="630"/>
                  </a:lnTo>
                  <a:lnTo>
                    <a:pt x="234" y="640"/>
                  </a:lnTo>
                  <a:lnTo>
                    <a:pt x="237" y="649"/>
                  </a:lnTo>
                  <a:lnTo>
                    <a:pt x="241" y="657"/>
                  </a:lnTo>
                  <a:lnTo>
                    <a:pt x="243" y="660"/>
                  </a:lnTo>
                  <a:lnTo>
                    <a:pt x="245" y="664"/>
                  </a:lnTo>
                  <a:lnTo>
                    <a:pt x="247" y="666"/>
                  </a:lnTo>
                  <a:lnTo>
                    <a:pt x="250" y="669"/>
                  </a:lnTo>
                  <a:lnTo>
                    <a:pt x="255" y="674"/>
                  </a:lnTo>
                  <a:lnTo>
                    <a:pt x="258" y="676"/>
                  </a:lnTo>
                  <a:lnTo>
                    <a:pt x="261" y="679"/>
                  </a:lnTo>
                  <a:lnTo>
                    <a:pt x="264" y="680"/>
                  </a:lnTo>
                  <a:lnTo>
                    <a:pt x="267" y="682"/>
                  </a:lnTo>
                  <a:lnTo>
                    <a:pt x="270" y="683"/>
                  </a:lnTo>
                  <a:lnTo>
                    <a:pt x="273" y="685"/>
                  </a:lnTo>
                  <a:lnTo>
                    <a:pt x="277" y="686"/>
                  </a:lnTo>
                  <a:lnTo>
                    <a:pt x="280" y="687"/>
                  </a:lnTo>
                  <a:lnTo>
                    <a:pt x="283" y="688"/>
                  </a:lnTo>
                  <a:lnTo>
                    <a:pt x="287" y="688"/>
                  </a:lnTo>
                  <a:lnTo>
                    <a:pt x="291" y="689"/>
                  </a:lnTo>
                  <a:lnTo>
                    <a:pt x="294" y="690"/>
                  </a:lnTo>
                  <a:lnTo>
                    <a:pt x="298" y="690"/>
                  </a:lnTo>
                  <a:lnTo>
                    <a:pt x="302" y="690"/>
                  </a:lnTo>
                  <a:lnTo>
                    <a:pt x="311" y="690"/>
                  </a:lnTo>
                  <a:lnTo>
                    <a:pt x="321" y="689"/>
                  </a:lnTo>
                  <a:lnTo>
                    <a:pt x="330" y="688"/>
                  </a:lnTo>
                  <a:lnTo>
                    <a:pt x="340" y="686"/>
                  </a:lnTo>
                  <a:lnTo>
                    <a:pt x="349" y="684"/>
                  </a:lnTo>
                  <a:lnTo>
                    <a:pt x="359" y="681"/>
                  </a:lnTo>
                  <a:lnTo>
                    <a:pt x="379" y="674"/>
                  </a:lnTo>
                  <a:lnTo>
                    <a:pt x="399" y="665"/>
                  </a:lnTo>
                  <a:lnTo>
                    <a:pt x="419" y="654"/>
                  </a:lnTo>
                  <a:lnTo>
                    <a:pt x="440" y="641"/>
                  </a:lnTo>
                  <a:lnTo>
                    <a:pt x="462" y="627"/>
                  </a:lnTo>
                  <a:lnTo>
                    <a:pt x="483" y="610"/>
                  </a:lnTo>
                  <a:lnTo>
                    <a:pt x="503" y="592"/>
                  </a:lnTo>
                  <a:lnTo>
                    <a:pt x="522" y="572"/>
                  </a:lnTo>
                  <a:lnTo>
                    <a:pt x="539" y="551"/>
                  </a:lnTo>
                  <a:lnTo>
                    <a:pt x="554" y="526"/>
                  </a:lnTo>
                  <a:lnTo>
                    <a:pt x="568" y="501"/>
                  </a:lnTo>
                  <a:lnTo>
                    <a:pt x="581" y="473"/>
                  </a:lnTo>
                  <a:lnTo>
                    <a:pt x="592" y="44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18360" y="1238400"/>
              <a:ext cx="163800" cy="291960"/>
            </a:xfrm>
            <a:custGeom>
              <a:avLst/>
              <a:gdLst/>
              <a:ahLst/>
              <a:rect l="l" t="t" r="r" b="b"/>
              <a:pathLst>
                <a:path w="455" h="810">
                  <a:moveTo>
                    <a:pt x="323" y="0"/>
                  </a:moveTo>
                  <a:lnTo>
                    <a:pt x="337" y="1"/>
                  </a:lnTo>
                  <a:lnTo>
                    <a:pt x="344" y="1"/>
                  </a:lnTo>
                  <a:lnTo>
                    <a:pt x="350" y="3"/>
                  </a:lnTo>
                  <a:lnTo>
                    <a:pt x="357" y="3"/>
                  </a:lnTo>
                  <a:lnTo>
                    <a:pt x="363" y="5"/>
                  </a:lnTo>
                  <a:lnTo>
                    <a:pt x="369" y="6"/>
                  </a:lnTo>
                  <a:lnTo>
                    <a:pt x="376" y="9"/>
                  </a:lnTo>
                  <a:lnTo>
                    <a:pt x="381" y="10"/>
                  </a:lnTo>
                  <a:lnTo>
                    <a:pt x="387" y="12"/>
                  </a:lnTo>
                  <a:lnTo>
                    <a:pt x="393" y="15"/>
                  </a:lnTo>
                  <a:lnTo>
                    <a:pt x="398" y="18"/>
                  </a:lnTo>
                  <a:lnTo>
                    <a:pt x="404" y="22"/>
                  </a:lnTo>
                  <a:lnTo>
                    <a:pt x="409" y="25"/>
                  </a:lnTo>
                  <a:lnTo>
                    <a:pt x="419" y="32"/>
                  </a:lnTo>
                  <a:lnTo>
                    <a:pt x="428" y="40"/>
                  </a:lnTo>
                  <a:lnTo>
                    <a:pt x="436" y="50"/>
                  </a:lnTo>
                  <a:lnTo>
                    <a:pt x="443" y="59"/>
                  </a:lnTo>
                  <a:lnTo>
                    <a:pt x="448" y="68"/>
                  </a:lnTo>
                  <a:lnTo>
                    <a:pt x="454" y="78"/>
                  </a:lnTo>
                  <a:lnTo>
                    <a:pt x="454" y="89"/>
                  </a:lnTo>
                  <a:lnTo>
                    <a:pt x="454" y="100"/>
                  </a:lnTo>
                  <a:lnTo>
                    <a:pt x="454" y="112"/>
                  </a:lnTo>
                  <a:lnTo>
                    <a:pt x="454" y="127"/>
                  </a:lnTo>
                  <a:lnTo>
                    <a:pt x="454" y="143"/>
                  </a:lnTo>
                  <a:lnTo>
                    <a:pt x="454" y="152"/>
                  </a:lnTo>
                  <a:lnTo>
                    <a:pt x="452" y="157"/>
                  </a:lnTo>
                  <a:lnTo>
                    <a:pt x="447" y="171"/>
                  </a:lnTo>
                  <a:lnTo>
                    <a:pt x="441" y="183"/>
                  </a:lnTo>
                  <a:lnTo>
                    <a:pt x="433" y="195"/>
                  </a:lnTo>
                  <a:lnTo>
                    <a:pt x="429" y="201"/>
                  </a:lnTo>
                  <a:lnTo>
                    <a:pt x="424" y="206"/>
                  </a:lnTo>
                  <a:lnTo>
                    <a:pt x="419" y="211"/>
                  </a:lnTo>
                  <a:lnTo>
                    <a:pt x="414" y="216"/>
                  </a:lnTo>
                  <a:lnTo>
                    <a:pt x="403" y="225"/>
                  </a:lnTo>
                  <a:lnTo>
                    <a:pt x="397" y="229"/>
                  </a:lnTo>
                  <a:lnTo>
                    <a:pt x="391" y="233"/>
                  </a:lnTo>
                  <a:lnTo>
                    <a:pt x="384" y="236"/>
                  </a:lnTo>
                  <a:lnTo>
                    <a:pt x="378" y="239"/>
                  </a:lnTo>
                  <a:lnTo>
                    <a:pt x="371" y="242"/>
                  </a:lnTo>
                  <a:lnTo>
                    <a:pt x="365" y="245"/>
                  </a:lnTo>
                  <a:lnTo>
                    <a:pt x="357" y="247"/>
                  </a:lnTo>
                  <a:lnTo>
                    <a:pt x="350" y="249"/>
                  </a:lnTo>
                  <a:lnTo>
                    <a:pt x="343" y="251"/>
                  </a:lnTo>
                  <a:lnTo>
                    <a:pt x="335" y="252"/>
                  </a:lnTo>
                  <a:lnTo>
                    <a:pt x="327" y="253"/>
                  </a:lnTo>
                  <a:lnTo>
                    <a:pt x="320" y="254"/>
                  </a:lnTo>
                  <a:lnTo>
                    <a:pt x="303" y="255"/>
                  </a:lnTo>
                  <a:lnTo>
                    <a:pt x="289" y="254"/>
                  </a:lnTo>
                  <a:lnTo>
                    <a:pt x="276" y="253"/>
                  </a:lnTo>
                  <a:lnTo>
                    <a:pt x="269" y="252"/>
                  </a:lnTo>
                  <a:lnTo>
                    <a:pt x="263" y="250"/>
                  </a:lnTo>
                  <a:lnTo>
                    <a:pt x="257" y="249"/>
                  </a:lnTo>
                  <a:lnTo>
                    <a:pt x="251" y="247"/>
                  </a:lnTo>
                  <a:lnTo>
                    <a:pt x="245" y="245"/>
                  </a:lnTo>
                  <a:lnTo>
                    <a:pt x="239" y="243"/>
                  </a:lnTo>
                  <a:lnTo>
                    <a:pt x="233" y="240"/>
                  </a:lnTo>
                  <a:lnTo>
                    <a:pt x="228" y="238"/>
                  </a:lnTo>
                  <a:lnTo>
                    <a:pt x="222" y="235"/>
                  </a:lnTo>
                  <a:lnTo>
                    <a:pt x="217" y="231"/>
                  </a:lnTo>
                  <a:lnTo>
                    <a:pt x="207" y="224"/>
                  </a:lnTo>
                  <a:lnTo>
                    <a:pt x="198" y="217"/>
                  </a:lnTo>
                  <a:lnTo>
                    <a:pt x="194" y="213"/>
                  </a:lnTo>
                  <a:lnTo>
                    <a:pt x="191" y="208"/>
                  </a:lnTo>
                  <a:lnTo>
                    <a:pt x="187" y="204"/>
                  </a:lnTo>
                  <a:lnTo>
                    <a:pt x="184" y="199"/>
                  </a:lnTo>
                  <a:lnTo>
                    <a:pt x="181" y="195"/>
                  </a:lnTo>
                  <a:lnTo>
                    <a:pt x="179" y="190"/>
                  </a:lnTo>
                  <a:lnTo>
                    <a:pt x="174" y="180"/>
                  </a:lnTo>
                  <a:lnTo>
                    <a:pt x="171" y="170"/>
                  </a:lnTo>
                  <a:lnTo>
                    <a:pt x="170" y="159"/>
                  </a:lnTo>
                  <a:lnTo>
                    <a:pt x="169" y="148"/>
                  </a:lnTo>
                  <a:lnTo>
                    <a:pt x="170" y="133"/>
                  </a:lnTo>
                  <a:lnTo>
                    <a:pt x="172" y="118"/>
                  </a:lnTo>
                  <a:lnTo>
                    <a:pt x="176" y="104"/>
                  </a:lnTo>
                  <a:lnTo>
                    <a:pt x="182" y="90"/>
                  </a:lnTo>
                  <a:lnTo>
                    <a:pt x="188" y="77"/>
                  </a:lnTo>
                  <a:lnTo>
                    <a:pt x="197" y="64"/>
                  </a:lnTo>
                  <a:lnTo>
                    <a:pt x="207" y="51"/>
                  </a:lnTo>
                  <a:lnTo>
                    <a:pt x="218" y="39"/>
                  </a:lnTo>
                  <a:lnTo>
                    <a:pt x="223" y="34"/>
                  </a:lnTo>
                  <a:lnTo>
                    <a:pt x="228" y="30"/>
                  </a:lnTo>
                  <a:lnTo>
                    <a:pt x="234" y="26"/>
                  </a:lnTo>
                  <a:lnTo>
                    <a:pt x="239" y="22"/>
                  </a:lnTo>
                  <a:lnTo>
                    <a:pt x="245" y="18"/>
                  </a:lnTo>
                  <a:lnTo>
                    <a:pt x="251" y="15"/>
                  </a:lnTo>
                  <a:lnTo>
                    <a:pt x="257" y="12"/>
                  </a:lnTo>
                  <a:lnTo>
                    <a:pt x="264" y="10"/>
                  </a:lnTo>
                  <a:lnTo>
                    <a:pt x="270" y="8"/>
                  </a:lnTo>
                  <a:lnTo>
                    <a:pt x="277" y="6"/>
                  </a:lnTo>
                  <a:lnTo>
                    <a:pt x="284" y="4"/>
                  </a:lnTo>
                  <a:lnTo>
                    <a:pt x="292" y="3"/>
                  </a:lnTo>
                  <a:lnTo>
                    <a:pt x="299" y="2"/>
                  </a:lnTo>
                  <a:lnTo>
                    <a:pt x="307" y="1"/>
                  </a:lnTo>
                  <a:lnTo>
                    <a:pt x="315" y="0"/>
                  </a:lnTo>
                  <a:close/>
                  <a:moveTo>
                    <a:pt x="153" y="554"/>
                  </a:moveTo>
                  <a:lnTo>
                    <a:pt x="167" y="555"/>
                  </a:lnTo>
                  <a:lnTo>
                    <a:pt x="174" y="555"/>
                  </a:lnTo>
                  <a:lnTo>
                    <a:pt x="181" y="557"/>
                  </a:lnTo>
                  <a:lnTo>
                    <a:pt x="188" y="557"/>
                  </a:lnTo>
                  <a:lnTo>
                    <a:pt x="194" y="559"/>
                  </a:lnTo>
                  <a:lnTo>
                    <a:pt x="200" y="560"/>
                  </a:lnTo>
                  <a:lnTo>
                    <a:pt x="206" y="563"/>
                  </a:lnTo>
                  <a:lnTo>
                    <a:pt x="212" y="564"/>
                  </a:lnTo>
                  <a:lnTo>
                    <a:pt x="218" y="567"/>
                  </a:lnTo>
                  <a:lnTo>
                    <a:pt x="224" y="569"/>
                  </a:lnTo>
                  <a:lnTo>
                    <a:pt x="229" y="572"/>
                  </a:lnTo>
                  <a:lnTo>
                    <a:pt x="234" y="575"/>
                  </a:lnTo>
                  <a:lnTo>
                    <a:pt x="239" y="579"/>
                  </a:lnTo>
                  <a:lnTo>
                    <a:pt x="244" y="583"/>
                  </a:lnTo>
                  <a:lnTo>
                    <a:pt x="249" y="587"/>
                  </a:lnTo>
                  <a:lnTo>
                    <a:pt x="258" y="595"/>
                  </a:lnTo>
                  <a:lnTo>
                    <a:pt x="266" y="603"/>
                  </a:lnTo>
                  <a:lnTo>
                    <a:pt x="273" y="613"/>
                  </a:lnTo>
                  <a:lnTo>
                    <a:pt x="278" y="622"/>
                  </a:lnTo>
                  <a:lnTo>
                    <a:pt x="283" y="632"/>
                  </a:lnTo>
                  <a:lnTo>
                    <a:pt x="286" y="643"/>
                  </a:lnTo>
                  <a:lnTo>
                    <a:pt x="287" y="654"/>
                  </a:lnTo>
                  <a:lnTo>
                    <a:pt x="288" y="665"/>
                  </a:lnTo>
                  <a:lnTo>
                    <a:pt x="287" y="681"/>
                  </a:lnTo>
                  <a:lnTo>
                    <a:pt x="285" y="697"/>
                  </a:lnTo>
                  <a:lnTo>
                    <a:pt x="282" y="711"/>
                  </a:lnTo>
                  <a:lnTo>
                    <a:pt x="277" y="725"/>
                  </a:lnTo>
                  <a:lnTo>
                    <a:pt x="271" y="737"/>
                  </a:lnTo>
                  <a:lnTo>
                    <a:pt x="264" y="749"/>
                  </a:lnTo>
                  <a:lnTo>
                    <a:pt x="255" y="759"/>
                  </a:lnTo>
                  <a:lnTo>
                    <a:pt x="245" y="770"/>
                  </a:lnTo>
                  <a:lnTo>
                    <a:pt x="234" y="779"/>
                  </a:lnTo>
                  <a:lnTo>
                    <a:pt x="228" y="783"/>
                  </a:lnTo>
                  <a:lnTo>
                    <a:pt x="222" y="787"/>
                  </a:lnTo>
                  <a:lnTo>
                    <a:pt x="215" y="790"/>
                  </a:lnTo>
                  <a:lnTo>
                    <a:pt x="209" y="793"/>
                  </a:lnTo>
                  <a:lnTo>
                    <a:pt x="202" y="796"/>
                  </a:lnTo>
                  <a:lnTo>
                    <a:pt x="195" y="799"/>
                  </a:lnTo>
                  <a:lnTo>
                    <a:pt x="188" y="801"/>
                  </a:lnTo>
                  <a:lnTo>
                    <a:pt x="181" y="803"/>
                  </a:lnTo>
                  <a:lnTo>
                    <a:pt x="174" y="805"/>
                  </a:lnTo>
                  <a:lnTo>
                    <a:pt x="166" y="806"/>
                  </a:lnTo>
                  <a:lnTo>
                    <a:pt x="158" y="807"/>
                  </a:lnTo>
                  <a:lnTo>
                    <a:pt x="150" y="808"/>
                  </a:lnTo>
                  <a:lnTo>
                    <a:pt x="133" y="809"/>
                  </a:lnTo>
                  <a:lnTo>
                    <a:pt x="119" y="808"/>
                  </a:lnTo>
                  <a:lnTo>
                    <a:pt x="106" y="807"/>
                  </a:lnTo>
                  <a:lnTo>
                    <a:pt x="93" y="805"/>
                  </a:lnTo>
                  <a:lnTo>
                    <a:pt x="87" y="803"/>
                  </a:lnTo>
                  <a:lnTo>
                    <a:pt x="81" y="801"/>
                  </a:lnTo>
                  <a:lnTo>
                    <a:pt x="75" y="799"/>
                  </a:lnTo>
                  <a:lnTo>
                    <a:pt x="69" y="797"/>
                  </a:lnTo>
                  <a:lnTo>
                    <a:pt x="63" y="795"/>
                  </a:lnTo>
                  <a:lnTo>
                    <a:pt x="58" y="792"/>
                  </a:lnTo>
                  <a:lnTo>
                    <a:pt x="53" y="789"/>
                  </a:lnTo>
                  <a:lnTo>
                    <a:pt x="48" y="786"/>
                  </a:lnTo>
                  <a:lnTo>
                    <a:pt x="38" y="779"/>
                  </a:lnTo>
                  <a:lnTo>
                    <a:pt x="29" y="771"/>
                  </a:lnTo>
                  <a:lnTo>
                    <a:pt x="25" y="768"/>
                  </a:lnTo>
                  <a:lnTo>
                    <a:pt x="22" y="763"/>
                  </a:lnTo>
                  <a:lnTo>
                    <a:pt x="18" y="759"/>
                  </a:lnTo>
                  <a:lnTo>
                    <a:pt x="15" y="754"/>
                  </a:lnTo>
                  <a:lnTo>
                    <a:pt x="12" y="749"/>
                  </a:lnTo>
                  <a:lnTo>
                    <a:pt x="10" y="745"/>
                  </a:lnTo>
                  <a:lnTo>
                    <a:pt x="5" y="735"/>
                  </a:lnTo>
                  <a:lnTo>
                    <a:pt x="2" y="725"/>
                  </a:lnTo>
                  <a:lnTo>
                    <a:pt x="1" y="714"/>
                  </a:lnTo>
                  <a:lnTo>
                    <a:pt x="0" y="703"/>
                  </a:lnTo>
                  <a:lnTo>
                    <a:pt x="1" y="687"/>
                  </a:lnTo>
                  <a:lnTo>
                    <a:pt x="3" y="672"/>
                  </a:lnTo>
                  <a:lnTo>
                    <a:pt x="7" y="658"/>
                  </a:lnTo>
                  <a:lnTo>
                    <a:pt x="12" y="644"/>
                  </a:lnTo>
                  <a:lnTo>
                    <a:pt x="19" y="630"/>
                  </a:lnTo>
                  <a:lnTo>
                    <a:pt x="27" y="617"/>
                  </a:lnTo>
                  <a:lnTo>
                    <a:pt x="37" y="605"/>
                  </a:lnTo>
                  <a:lnTo>
                    <a:pt x="49" y="593"/>
                  </a:lnTo>
                  <a:lnTo>
                    <a:pt x="54" y="588"/>
                  </a:lnTo>
                  <a:lnTo>
                    <a:pt x="59" y="584"/>
                  </a:lnTo>
                  <a:lnTo>
                    <a:pt x="65" y="580"/>
                  </a:lnTo>
                  <a:lnTo>
                    <a:pt x="70" y="576"/>
                  </a:lnTo>
                  <a:lnTo>
                    <a:pt x="76" y="572"/>
                  </a:lnTo>
                  <a:lnTo>
                    <a:pt x="82" y="569"/>
                  </a:lnTo>
                  <a:lnTo>
                    <a:pt x="88" y="566"/>
                  </a:lnTo>
                  <a:lnTo>
                    <a:pt x="95" y="564"/>
                  </a:lnTo>
                  <a:lnTo>
                    <a:pt x="101" y="562"/>
                  </a:lnTo>
                  <a:lnTo>
                    <a:pt x="108" y="560"/>
                  </a:lnTo>
                  <a:lnTo>
                    <a:pt x="115" y="558"/>
                  </a:lnTo>
                  <a:lnTo>
                    <a:pt x="122" y="557"/>
                  </a:lnTo>
                  <a:lnTo>
                    <a:pt x="130" y="556"/>
                  </a:lnTo>
                  <a:lnTo>
                    <a:pt x="137" y="555"/>
                  </a:lnTo>
                  <a:lnTo>
                    <a:pt x="145" y="55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Повторяющие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мужские  имена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0" y="0"/>
            <a:ext cx="3384720" cy="3097080"/>
            <a:chOff x="0" y="0"/>
            <a:chExt cx="3384720" cy="3097080"/>
          </a:xfrm>
        </p:grpSpPr>
        <p:sp>
          <p:nvSpPr>
            <p:cNvPr id="264" name=""/>
            <p:cNvSpPr/>
            <p:nvPr/>
          </p:nvSpPr>
          <p:spPr>
            <a:xfrm>
              <a:off x="863640" y="2411280"/>
              <a:ext cx="658800" cy="559080"/>
            </a:xfrm>
            <a:custGeom>
              <a:avLst/>
              <a:gdLst/>
              <a:ahLst/>
              <a:rect l="l" t="t" r="r" b="b"/>
              <a:pathLst>
                <a:path w="1830" h="1554">
                  <a:moveTo>
                    <a:pt x="1390" y="1388"/>
                  </a:moveTo>
                  <a:lnTo>
                    <a:pt x="1372" y="1494"/>
                  </a:lnTo>
                  <a:lnTo>
                    <a:pt x="1315" y="1501"/>
                  </a:lnTo>
                  <a:lnTo>
                    <a:pt x="1293" y="1502"/>
                  </a:lnTo>
                  <a:lnTo>
                    <a:pt x="1276" y="1503"/>
                  </a:lnTo>
                  <a:lnTo>
                    <a:pt x="1251" y="1502"/>
                  </a:lnTo>
                  <a:lnTo>
                    <a:pt x="1223" y="1501"/>
                  </a:lnTo>
                  <a:lnTo>
                    <a:pt x="1155" y="1494"/>
                  </a:lnTo>
                  <a:lnTo>
                    <a:pt x="1120" y="1491"/>
                  </a:lnTo>
                  <a:lnTo>
                    <a:pt x="1088" y="1489"/>
                  </a:lnTo>
                  <a:lnTo>
                    <a:pt x="1058" y="1487"/>
                  </a:lnTo>
                  <a:lnTo>
                    <a:pt x="1030" y="1487"/>
                  </a:lnTo>
                  <a:lnTo>
                    <a:pt x="1020" y="1487"/>
                  </a:lnTo>
                  <a:lnTo>
                    <a:pt x="1009" y="1488"/>
                  </a:lnTo>
                  <a:lnTo>
                    <a:pt x="983" y="1491"/>
                  </a:lnTo>
                  <a:lnTo>
                    <a:pt x="953" y="1495"/>
                  </a:lnTo>
                  <a:lnTo>
                    <a:pt x="920" y="1503"/>
                  </a:lnTo>
                  <a:lnTo>
                    <a:pt x="1014" y="1121"/>
                  </a:lnTo>
                  <a:lnTo>
                    <a:pt x="1093" y="818"/>
                  </a:lnTo>
                  <a:lnTo>
                    <a:pt x="843" y="830"/>
                  </a:lnTo>
                  <a:lnTo>
                    <a:pt x="711" y="841"/>
                  </a:lnTo>
                  <a:lnTo>
                    <a:pt x="678" y="973"/>
                  </a:lnTo>
                  <a:lnTo>
                    <a:pt x="642" y="1089"/>
                  </a:lnTo>
                  <a:lnTo>
                    <a:pt x="624" y="1139"/>
                  </a:lnTo>
                  <a:lnTo>
                    <a:pt x="607" y="1187"/>
                  </a:lnTo>
                  <a:lnTo>
                    <a:pt x="589" y="1229"/>
                  </a:lnTo>
                  <a:lnTo>
                    <a:pt x="570" y="1268"/>
                  </a:lnTo>
                  <a:lnTo>
                    <a:pt x="551" y="1302"/>
                  </a:lnTo>
                  <a:lnTo>
                    <a:pt x="532" y="1335"/>
                  </a:lnTo>
                  <a:lnTo>
                    <a:pt x="511" y="1365"/>
                  </a:lnTo>
                  <a:lnTo>
                    <a:pt x="490" y="1393"/>
                  </a:lnTo>
                  <a:lnTo>
                    <a:pt x="467" y="1419"/>
                  </a:lnTo>
                  <a:lnTo>
                    <a:pt x="445" y="1443"/>
                  </a:lnTo>
                  <a:lnTo>
                    <a:pt x="421" y="1463"/>
                  </a:lnTo>
                  <a:lnTo>
                    <a:pt x="397" y="1482"/>
                  </a:lnTo>
                  <a:lnTo>
                    <a:pt x="373" y="1499"/>
                  </a:lnTo>
                  <a:lnTo>
                    <a:pt x="349" y="1513"/>
                  </a:lnTo>
                  <a:lnTo>
                    <a:pt x="324" y="1524"/>
                  </a:lnTo>
                  <a:lnTo>
                    <a:pt x="301" y="1535"/>
                  </a:lnTo>
                  <a:lnTo>
                    <a:pt x="277" y="1543"/>
                  </a:lnTo>
                  <a:lnTo>
                    <a:pt x="253" y="1548"/>
                  </a:lnTo>
                  <a:lnTo>
                    <a:pt x="230" y="1551"/>
                  </a:lnTo>
                  <a:lnTo>
                    <a:pt x="207" y="1553"/>
                  </a:lnTo>
                  <a:lnTo>
                    <a:pt x="185" y="1551"/>
                  </a:lnTo>
                  <a:lnTo>
                    <a:pt x="163" y="1549"/>
                  </a:lnTo>
                  <a:lnTo>
                    <a:pt x="144" y="1546"/>
                  </a:lnTo>
                  <a:lnTo>
                    <a:pt x="124" y="1542"/>
                  </a:lnTo>
                  <a:lnTo>
                    <a:pt x="105" y="1535"/>
                  </a:lnTo>
                  <a:lnTo>
                    <a:pt x="88" y="1527"/>
                  </a:lnTo>
                  <a:lnTo>
                    <a:pt x="72" y="1518"/>
                  </a:lnTo>
                  <a:lnTo>
                    <a:pt x="56" y="1507"/>
                  </a:lnTo>
                  <a:lnTo>
                    <a:pt x="43" y="1496"/>
                  </a:lnTo>
                  <a:lnTo>
                    <a:pt x="37" y="1491"/>
                  </a:lnTo>
                  <a:lnTo>
                    <a:pt x="31" y="1486"/>
                  </a:lnTo>
                  <a:lnTo>
                    <a:pt x="26" y="1480"/>
                  </a:lnTo>
                  <a:lnTo>
                    <a:pt x="21" y="1474"/>
                  </a:lnTo>
                  <a:lnTo>
                    <a:pt x="17" y="1468"/>
                  </a:lnTo>
                  <a:lnTo>
                    <a:pt x="13" y="1462"/>
                  </a:lnTo>
                  <a:lnTo>
                    <a:pt x="10" y="1455"/>
                  </a:lnTo>
                  <a:lnTo>
                    <a:pt x="7" y="1449"/>
                  </a:lnTo>
                  <a:lnTo>
                    <a:pt x="5" y="1443"/>
                  </a:lnTo>
                  <a:lnTo>
                    <a:pt x="3" y="1436"/>
                  </a:lnTo>
                  <a:lnTo>
                    <a:pt x="1" y="1430"/>
                  </a:lnTo>
                  <a:lnTo>
                    <a:pt x="0" y="1422"/>
                  </a:lnTo>
                  <a:lnTo>
                    <a:pt x="0" y="1416"/>
                  </a:lnTo>
                  <a:lnTo>
                    <a:pt x="0" y="1408"/>
                  </a:lnTo>
                  <a:lnTo>
                    <a:pt x="0" y="1399"/>
                  </a:lnTo>
                  <a:lnTo>
                    <a:pt x="0" y="1391"/>
                  </a:lnTo>
                  <a:lnTo>
                    <a:pt x="2" y="1382"/>
                  </a:lnTo>
                  <a:lnTo>
                    <a:pt x="5" y="1375"/>
                  </a:lnTo>
                  <a:lnTo>
                    <a:pt x="8" y="1367"/>
                  </a:lnTo>
                  <a:lnTo>
                    <a:pt x="12" y="1359"/>
                  </a:lnTo>
                  <a:lnTo>
                    <a:pt x="17" y="1352"/>
                  </a:lnTo>
                  <a:lnTo>
                    <a:pt x="22" y="1345"/>
                  </a:lnTo>
                  <a:lnTo>
                    <a:pt x="28" y="1339"/>
                  </a:lnTo>
                  <a:lnTo>
                    <a:pt x="35" y="1335"/>
                  </a:lnTo>
                  <a:lnTo>
                    <a:pt x="41" y="1329"/>
                  </a:lnTo>
                  <a:lnTo>
                    <a:pt x="45" y="1328"/>
                  </a:lnTo>
                  <a:lnTo>
                    <a:pt x="48" y="1326"/>
                  </a:lnTo>
                  <a:lnTo>
                    <a:pt x="52" y="1325"/>
                  </a:lnTo>
                  <a:lnTo>
                    <a:pt x="56" y="1323"/>
                  </a:lnTo>
                  <a:lnTo>
                    <a:pt x="59" y="1322"/>
                  </a:lnTo>
                  <a:lnTo>
                    <a:pt x="63" y="1322"/>
                  </a:lnTo>
                  <a:lnTo>
                    <a:pt x="71" y="1320"/>
                  </a:lnTo>
                  <a:lnTo>
                    <a:pt x="78" y="1320"/>
                  </a:lnTo>
                  <a:lnTo>
                    <a:pt x="84" y="1320"/>
                  </a:lnTo>
                  <a:lnTo>
                    <a:pt x="91" y="1321"/>
                  </a:lnTo>
                  <a:lnTo>
                    <a:pt x="97" y="1322"/>
                  </a:lnTo>
                  <a:lnTo>
                    <a:pt x="103" y="1324"/>
                  </a:lnTo>
                  <a:lnTo>
                    <a:pt x="110" y="1326"/>
                  </a:lnTo>
                  <a:lnTo>
                    <a:pt x="116" y="1329"/>
                  </a:lnTo>
                  <a:lnTo>
                    <a:pt x="122" y="1333"/>
                  </a:lnTo>
                  <a:lnTo>
                    <a:pt x="128" y="1337"/>
                  </a:lnTo>
                  <a:lnTo>
                    <a:pt x="134" y="1341"/>
                  </a:lnTo>
                  <a:lnTo>
                    <a:pt x="141" y="1347"/>
                  </a:lnTo>
                  <a:lnTo>
                    <a:pt x="153" y="1358"/>
                  </a:lnTo>
                  <a:lnTo>
                    <a:pt x="164" y="1373"/>
                  </a:lnTo>
                  <a:lnTo>
                    <a:pt x="176" y="1390"/>
                  </a:lnTo>
                  <a:lnTo>
                    <a:pt x="187" y="1405"/>
                  </a:lnTo>
                  <a:lnTo>
                    <a:pt x="197" y="1417"/>
                  </a:lnTo>
                  <a:lnTo>
                    <a:pt x="201" y="1421"/>
                  </a:lnTo>
                  <a:lnTo>
                    <a:pt x="204" y="1425"/>
                  </a:lnTo>
                  <a:lnTo>
                    <a:pt x="208" y="1428"/>
                  </a:lnTo>
                  <a:lnTo>
                    <a:pt x="209" y="1430"/>
                  </a:lnTo>
                  <a:lnTo>
                    <a:pt x="211" y="1431"/>
                  </a:lnTo>
                  <a:lnTo>
                    <a:pt x="214" y="1432"/>
                  </a:lnTo>
                  <a:lnTo>
                    <a:pt x="216" y="1434"/>
                  </a:lnTo>
                  <a:lnTo>
                    <a:pt x="219" y="1435"/>
                  </a:lnTo>
                  <a:lnTo>
                    <a:pt x="222" y="1436"/>
                  </a:lnTo>
                  <a:lnTo>
                    <a:pt x="225" y="1436"/>
                  </a:lnTo>
                  <a:lnTo>
                    <a:pt x="228" y="1437"/>
                  </a:lnTo>
                  <a:lnTo>
                    <a:pt x="232" y="1437"/>
                  </a:lnTo>
                  <a:lnTo>
                    <a:pt x="234" y="1437"/>
                  </a:lnTo>
                  <a:lnTo>
                    <a:pt x="242" y="1437"/>
                  </a:lnTo>
                  <a:lnTo>
                    <a:pt x="251" y="1435"/>
                  </a:lnTo>
                  <a:lnTo>
                    <a:pt x="259" y="1433"/>
                  </a:lnTo>
                  <a:lnTo>
                    <a:pt x="268" y="1428"/>
                  </a:lnTo>
                  <a:lnTo>
                    <a:pt x="276" y="1424"/>
                  </a:lnTo>
                  <a:lnTo>
                    <a:pt x="285" y="1419"/>
                  </a:lnTo>
                  <a:lnTo>
                    <a:pt x="293" y="1412"/>
                  </a:lnTo>
                  <a:lnTo>
                    <a:pt x="301" y="1405"/>
                  </a:lnTo>
                  <a:lnTo>
                    <a:pt x="310" y="1396"/>
                  </a:lnTo>
                  <a:lnTo>
                    <a:pt x="317" y="1386"/>
                  </a:lnTo>
                  <a:lnTo>
                    <a:pt x="334" y="1364"/>
                  </a:lnTo>
                  <a:lnTo>
                    <a:pt x="350" y="1337"/>
                  </a:lnTo>
                  <a:lnTo>
                    <a:pt x="367" y="1306"/>
                  </a:lnTo>
                  <a:lnTo>
                    <a:pt x="385" y="1266"/>
                  </a:lnTo>
                  <a:lnTo>
                    <a:pt x="403" y="1214"/>
                  </a:lnTo>
                  <a:lnTo>
                    <a:pt x="449" y="1070"/>
                  </a:lnTo>
                  <a:lnTo>
                    <a:pt x="502" y="875"/>
                  </a:lnTo>
                  <a:lnTo>
                    <a:pt x="564" y="629"/>
                  </a:lnTo>
                  <a:lnTo>
                    <a:pt x="663" y="254"/>
                  </a:lnTo>
                  <a:lnTo>
                    <a:pt x="621" y="255"/>
                  </a:lnTo>
                  <a:lnTo>
                    <a:pt x="581" y="258"/>
                  </a:lnTo>
                  <a:lnTo>
                    <a:pt x="544" y="264"/>
                  </a:lnTo>
                  <a:lnTo>
                    <a:pt x="509" y="271"/>
                  </a:lnTo>
                  <a:lnTo>
                    <a:pt x="476" y="281"/>
                  </a:lnTo>
                  <a:lnTo>
                    <a:pt x="447" y="292"/>
                  </a:lnTo>
                  <a:lnTo>
                    <a:pt x="419" y="306"/>
                  </a:lnTo>
                  <a:lnTo>
                    <a:pt x="394" y="322"/>
                  </a:lnTo>
                  <a:lnTo>
                    <a:pt x="373" y="339"/>
                  </a:lnTo>
                  <a:lnTo>
                    <a:pt x="354" y="356"/>
                  </a:lnTo>
                  <a:lnTo>
                    <a:pt x="345" y="365"/>
                  </a:lnTo>
                  <a:lnTo>
                    <a:pt x="337" y="374"/>
                  </a:lnTo>
                  <a:lnTo>
                    <a:pt x="330" y="383"/>
                  </a:lnTo>
                  <a:lnTo>
                    <a:pt x="324" y="392"/>
                  </a:lnTo>
                  <a:lnTo>
                    <a:pt x="318" y="402"/>
                  </a:lnTo>
                  <a:lnTo>
                    <a:pt x="313" y="410"/>
                  </a:lnTo>
                  <a:lnTo>
                    <a:pt x="310" y="420"/>
                  </a:lnTo>
                  <a:lnTo>
                    <a:pt x="307" y="430"/>
                  </a:lnTo>
                  <a:lnTo>
                    <a:pt x="304" y="440"/>
                  </a:lnTo>
                  <a:lnTo>
                    <a:pt x="302" y="449"/>
                  </a:lnTo>
                  <a:lnTo>
                    <a:pt x="301" y="459"/>
                  </a:lnTo>
                  <a:lnTo>
                    <a:pt x="301" y="469"/>
                  </a:lnTo>
                  <a:lnTo>
                    <a:pt x="301" y="475"/>
                  </a:lnTo>
                  <a:lnTo>
                    <a:pt x="302" y="482"/>
                  </a:lnTo>
                  <a:lnTo>
                    <a:pt x="303" y="488"/>
                  </a:lnTo>
                  <a:lnTo>
                    <a:pt x="305" y="496"/>
                  </a:lnTo>
                  <a:lnTo>
                    <a:pt x="307" y="502"/>
                  </a:lnTo>
                  <a:lnTo>
                    <a:pt x="309" y="510"/>
                  </a:lnTo>
                  <a:lnTo>
                    <a:pt x="311" y="517"/>
                  </a:lnTo>
                  <a:lnTo>
                    <a:pt x="315" y="525"/>
                  </a:lnTo>
                  <a:lnTo>
                    <a:pt x="324" y="540"/>
                  </a:lnTo>
                  <a:lnTo>
                    <a:pt x="331" y="554"/>
                  </a:lnTo>
                  <a:lnTo>
                    <a:pt x="338" y="567"/>
                  </a:lnTo>
                  <a:lnTo>
                    <a:pt x="343" y="579"/>
                  </a:lnTo>
                  <a:lnTo>
                    <a:pt x="347" y="591"/>
                  </a:lnTo>
                  <a:lnTo>
                    <a:pt x="350" y="600"/>
                  </a:lnTo>
                  <a:lnTo>
                    <a:pt x="351" y="606"/>
                  </a:lnTo>
                  <a:lnTo>
                    <a:pt x="351" y="610"/>
                  </a:lnTo>
                  <a:lnTo>
                    <a:pt x="352" y="614"/>
                  </a:lnTo>
                  <a:lnTo>
                    <a:pt x="352" y="619"/>
                  </a:lnTo>
                  <a:lnTo>
                    <a:pt x="352" y="628"/>
                  </a:lnTo>
                  <a:lnTo>
                    <a:pt x="350" y="638"/>
                  </a:lnTo>
                  <a:lnTo>
                    <a:pt x="349" y="647"/>
                  </a:lnTo>
                  <a:lnTo>
                    <a:pt x="347" y="652"/>
                  </a:lnTo>
                  <a:lnTo>
                    <a:pt x="346" y="656"/>
                  </a:lnTo>
                  <a:lnTo>
                    <a:pt x="344" y="660"/>
                  </a:lnTo>
                  <a:lnTo>
                    <a:pt x="342" y="664"/>
                  </a:lnTo>
                  <a:lnTo>
                    <a:pt x="340" y="668"/>
                  </a:lnTo>
                  <a:lnTo>
                    <a:pt x="338" y="672"/>
                  </a:lnTo>
                  <a:lnTo>
                    <a:pt x="336" y="676"/>
                  </a:lnTo>
                  <a:lnTo>
                    <a:pt x="333" y="679"/>
                  </a:lnTo>
                  <a:lnTo>
                    <a:pt x="327" y="686"/>
                  </a:lnTo>
                  <a:lnTo>
                    <a:pt x="320" y="693"/>
                  </a:lnTo>
                  <a:lnTo>
                    <a:pt x="317" y="696"/>
                  </a:lnTo>
                  <a:lnTo>
                    <a:pt x="314" y="698"/>
                  </a:lnTo>
                  <a:lnTo>
                    <a:pt x="311" y="701"/>
                  </a:lnTo>
                  <a:lnTo>
                    <a:pt x="307" y="703"/>
                  </a:lnTo>
                  <a:lnTo>
                    <a:pt x="303" y="705"/>
                  </a:lnTo>
                  <a:lnTo>
                    <a:pt x="300" y="707"/>
                  </a:lnTo>
                  <a:lnTo>
                    <a:pt x="296" y="708"/>
                  </a:lnTo>
                  <a:lnTo>
                    <a:pt x="291" y="710"/>
                  </a:lnTo>
                  <a:lnTo>
                    <a:pt x="283" y="711"/>
                  </a:lnTo>
                  <a:lnTo>
                    <a:pt x="274" y="713"/>
                  </a:lnTo>
                  <a:lnTo>
                    <a:pt x="265" y="713"/>
                  </a:lnTo>
                  <a:lnTo>
                    <a:pt x="259" y="713"/>
                  </a:lnTo>
                  <a:lnTo>
                    <a:pt x="254" y="712"/>
                  </a:lnTo>
                  <a:lnTo>
                    <a:pt x="248" y="712"/>
                  </a:lnTo>
                  <a:lnTo>
                    <a:pt x="243" y="711"/>
                  </a:lnTo>
                  <a:lnTo>
                    <a:pt x="237" y="709"/>
                  </a:lnTo>
                  <a:lnTo>
                    <a:pt x="233" y="707"/>
                  </a:lnTo>
                  <a:lnTo>
                    <a:pt x="228" y="705"/>
                  </a:lnTo>
                  <a:lnTo>
                    <a:pt x="223" y="703"/>
                  </a:lnTo>
                  <a:lnTo>
                    <a:pt x="219" y="699"/>
                  </a:lnTo>
                  <a:lnTo>
                    <a:pt x="214" y="696"/>
                  </a:lnTo>
                  <a:lnTo>
                    <a:pt x="209" y="693"/>
                  </a:lnTo>
                  <a:lnTo>
                    <a:pt x="205" y="689"/>
                  </a:lnTo>
                  <a:lnTo>
                    <a:pt x="201" y="684"/>
                  </a:lnTo>
                  <a:lnTo>
                    <a:pt x="197" y="680"/>
                  </a:lnTo>
                  <a:lnTo>
                    <a:pt x="193" y="675"/>
                  </a:lnTo>
                  <a:lnTo>
                    <a:pt x="189" y="669"/>
                  </a:lnTo>
                  <a:lnTo>
                    <a:pt x="185" y="664"/>
                  </a:lnTo>
                  <a:lnTo>
                    <a:pt x="182" y="657"/>
                  </a:lnTo>
                  <a:lnTo>
                    <a:pt x="178" y="652"/>
                  </a:lnTo>
                  <a:lnTo>
                    <a:pt x="175" y="646"/>
                  </a:lnTo>
                  <a:lnTo>
                    <a:pt x="170" y="631"/>
                  </a:lnTo>
                  <a:lnTo>
                    <a:pt x="166" y="616"/>
                  </a:lnTo>
                  <a:lnTo>
                    <a:pt x="162" y="600"/>
                  </a:lnTo>
                  <a:lnTo>
                    <a:pt x="160" y="584"/>
                  </a:lnTo>
                  <a:lnTo>
                    <a:pt x="158" y="566"/>
                  </a:lnTo>
                  <a:lnTo>
                    <a:pt x="158" y="546"/>
                  </a:lnTo>
                  <a:lnTo>
                    <a:pt x="159" y="513"/>
                  </a:lnTo>
                  <a:lnTo>
                    <a:pt x="164" y="481"/>
                  </a:lnTo>
                  <a:lnTo>
                    <a:pt x="171" y="449"/>
                  </a:lnTo>
                  <a:lnTo>
                    <a:pt x="181" y="418"/>
                  </a:lnTo>
                  <a:lnTo>
                    <a:pt x="194" y="389"/>
                  </a:lnTo>
                  <a:lnTo>
                    <a:pt x="209" y="360"/>
                  </a:lnTo>
                  <a:lnTo>
                    <a:pt x="228" y="333"/>
                  </a:lnTo>
                  <a:lnTo>
                    <a:pt x="248" y="306"/>
                  </a:lnTo>
                  <a:lnTo>
                    <a:pt x="272" y="281"/>
                  </a:lnTo>
                  <a:lnTo>
                    <a:pt x="298" y="258"/>
                  </a:lnTo>
                  <a:lnTo>
                    <a:pt x="326" y="237"/>
                  </a:lnTo>
                  <a:lnTo>
                    <a:pt x="358" y="217"/>
                  </a:lnTo>
                  <a:lnTo>
                    <a:pt x="390" y="200"/>
                  </a:lnTo>
                  <a:lnTo>
                    <a:pt x="426" y="185"/>
                  </a:lnTo>
                  <a:lnTo>
                    <a:pt x="465" y="172"/>
                  </a:lnTo>
                  <a:lnTo>
                    <a:pt x="505" y="160"/>
                  </a:lnTo>
                  <a:lnTo>
                    <a:pt x="533" y="155"/>
                  </a:lnTo>
                  <a:lnTo>
                    <a:pt x="566" y="149"/>
                  </a:lnTo>
                  <a:lnTo>
                    <a:pt x="652" y="142"/>
                  </a:lnTo>
                  <a:lnTo>
                    <a:pt x="765" y="138"/>
                  </a:lnTo>
                  <a:lnTo>
                    <a:pt x="902" y="136"/>
                  </a:lnTo>
                  <a:lnTo>
                    <a:pt x="863" y="243"/>
                  </a:lnTo>
                  <a:lnTo>
                    <a:pt x="823" y="374"/>
                  </a:lnTo>
                  <a:lnTo>
                    <a:pt x="780" y="528"/>
                  </a:lnTo>
                  <a:lnTo>
                    <a:pt x="736" y="705"/>
                  </a:lnTo>
                  <a:lnTo>
                    <a:pt x="852" y="704"/>
                  </a:lnTo>
                  <a:lnTo>
                    <a:pt x="954" y="699"/>
                  </a:lnTo>
                  <a:lnTo>
                    <a:pt x="1043" y="693"/>
                  </a:lnTo>
                  <a:lnTo>
                    <a:pt x="1119" y="684"/>
                  </a:lnTo>
                  <a:lnTo>
                    <a:pt x="1160" y="542"/>
                  </a:lnTo>
                  <a:lnTo>
                    <a:pt x="1198" y="422"/>
                  </a:lnTo>
                  <a:lnTo>
                    <a:pt x="1236" y="324"/>
                  </a:lnTo>
                  <a:lnTo>
                    <a:pt x="1253" y="284"/>
                  </a:lnTo>
                  <a:lnTo>
                    <a:pt x="1270" y="249"/>
                  </a:lnTo>
                  <a:lnTo>
                    <a:pt x="1288" y="217"/>
                  </a:lnTo>
                  <a:lnTo>
                    <a:pt x="1306" y="188"/>
                  </a:lnTo>
                  <a:lnTo>
                    <a:pt x="1324" y="160"/>
                  </a:lnTo>
                  <a:lnTo>
                    <a:pt x="1343" y="136"/>
                  </a:lnTo>
                  <a:lnTo>
                    <a:pt x="1363" y="114"/>
                  </a:lnTo>
                  <a:lnTo>
                    <a:pt x="1384" y="93"/>
                  </a:lnTo>
                  <a:lnTo>
                    <a:pt x="1405" y="75"/>
                  </a:lnTo>
                  <a:lnTo>
                    <a:pt x="1427" y="59"/>
                  </a:lnTo>
                  <a:lnTo>
                    <a:pt x="1449" y="45"/>
                  </a:lnTo>
                  <a:lnTo>
                    <a:pt x="1473" y="33"/>
                  </a:lnTo>
                  <a:lnTo>
                    <a:pt x="1495" y="22"/>
                  </a:lnTo>
                  <a:lnTo>
                    <a:pt x="1520" y="15"/>
                  </a:lnTo>
                  <a:lnTo>
                    <a:pt x="1545" y="8"/>
                  </a:lnTo>
                  <a:lnTo>
                    <a:pt x="1570" y="3"/>
                  </a:lnTo>
                  <a:lnTo>
                    <a:pt x="1597" y="1"/>
                  </a:lnTo>
                  <a:lnTo>
                    <a:pt x="1624" y="0"/>
                  </a:lnTo>
                  <a:lnTo>
                    <a:pt x="1646" y="1"/>
                  </a:lnTo>
                  <a:lnTo>
                    <a:pt x="1669" y="2"/>
                  </a:lnTo>
                  <a:lnTo>
                    <a:pt x="1689" y="5"/>
                  </a:lnTo>
                  <a:lnTo>
                    <a:pt x="1709" y="10"/>
                  </a:lnTo>
                  <a:lnTo>
                    <a:pt x="1727" y="16"/>
                  </a:lnTo>
                  <a:lnTo>
                    <a:pt x="1744" y="23"/>
                  </a:lnTo>
                  <a:lnTo>
                    <a:pt x="1759" y="32"/>
                  </a:lnTo>
                  <a:lnTo>
                    <a:pt x="1767" y="36"/>
                  </a:lnTo>
                  <a:lnTo>
                    <a:pt x="1774" y="42"/>
                  </a:lnTo>
                  <a:lnTo>
                    <a:pt x="1787" y="52"/>
                  </a:lnTo>
                  <a:lnTo>
                    <a:pt x="1798" y="64"/>
                  </a:lnTo>
                  <a:lnTo>
                    <a:pt x="1803" y="71"/>
                  </a:lnTo>
                  <a:lnTo>
                    <a:pt x="1807" y="76"/>
                  </a:lnTo>
                  <a:lnTo>
                    <a:pt x="1812" y="83"/>
                  </a:lnTo>
                  <a:lnTo>
                    <a:pt x="1815" y="89"/>
                  </a:lnTo>
                  <a:lnTo>
                    <a:pt x="1818" y="95"/>
                  </a:lnTo>
                  <a:lnTo>
                    <a:pt x="1821" y="102"/>
                  </a:lnTo>
                  <a:lnTo>
                    <a:pt x="1824" y="108"/>
                  </a:lnTo>
                  <a:lnTo>
                    <a:pt x="1826" y="115"/>
                  </a:lnTo>
                  <a:lnTo>
                    <a:pt x="1827" y="121"/>
                  </a:lnTo>
                  <a:lnTo>
                    <a:pt x="1828" y="129"/>
                  </a:lnTo>
                  <a:lnTo>
                    <a:pt x="1829" y="135"/>
                  </a:lnTo>
                  <a:lnTo>
                    <a:pt x="1829" y="143"/>
                  </a:lnTo>
                  <a:lnTo>
                    <a:pt x="1829" y="152"/>
                  </a:lnTo>
                  <a:lnTo>
                    <a:pt x="1828" y="161"/>
                  </a:lnTo>
                  <a:lnTo>
                    <a:pt x="1826" y="169"/>
                  </a:lnTo>
                  <a:lnTo>
                    <a:pt x="1824" y="173"/>
                  </a:lnTo>
                  <a:lnTo>
                    <a:pt x="1823" y="177"/>
                  </a:lnTo>
                  <a:lnTo>
                    <a:pt x="1822" y="181"/>
                  </a:lnTo>
                  <a:lnTo>
                    <a:pt x="1820" y="184"/>
                  </a:lnTo>
                  <a:lnTo>
                    <a:pt x="1818" y="188"/>
                  </a:lnTo>
                  <a:lnTo>
                    <a:pt x="1816" y="191"/>
                  </a:lnTo>
                  <a:lnTo>
                    <a:pt x="1811" y="198"/>
                  </a:lnTo>
                  <a:lnTo>
                    <a:pt x="1806" y="204"/>
                  </a:lnTo>
                  <a:lnTo>
                    <a:pt x="1803" y="208"/>
                  </a:lnTo>
                  <a:lnTo>
                    <a:pt x="1800" y="210"/>
                  </a:lnTo>
                  <a:lnTo>
                    <a:pt x="1796" y="213"/>
                  </a:lnTo>
                  <a:lnTo>
                    <a:pt x="1793" y="215"/>
                  </a:lnTo>
                  <a:lnTo>
                    <a:pt x="1790" y="217"/>
                  </a:lnTo>
                  <a:lnTo>
                    <a:pt x="1787" y="220"/>
                  </a:lnTo>
                  <a:lnTo>
                    <a:pt x="1780" y="223"/>
                  </a:lnTo>
                  <a:lnTo>
                    <a:pt x="1772" y="225"/>
                  </a:lnTo>
                  <a:lnTo>
                    <a:pt x="1763" y="227"/>
                  </a:lnTo>
                  <a:lnTo>
                    <a:pt x="1755" y="228"/>
                  </a:lnTo>
                  <a:lnTo>
                    <a:pt x="1746" y="228"/>
                  </a:lnTo>
                  <a:lnTo>
                    <a:pt x="1740" y="228"/>
                  </a:lnTo>
                  <a:lnTo>
                    <a:pt x="1735" y="227"/>
                  </a:lnTo>
                  <a:lnTo>
                    <a:pt x="1729" y="226"/>
                  </a:lnTo>
                  <a:lnTo>
                    <a:pt x="1723" y="224"/>
                  </a:lnTo>
                  <a:lnTo>
                    <a:pt x="1717" y="222"/>
                  </a:lnTo>
                  <a:lnTo>
                    <a:pt x="1712" y="220"/>
                  </a:lnTo>
                  <a:lnTo>
                    <a:pt x="1706" y="216"/>
                  </a:lnTo>
                  <a:lnTo>
                    <a:pt x="1701" y="213"/>
                  </a:lnTo>
                  <a:lnTo>
                    <a:pt x="1688" y="203"/>
                  </a:lnTo>
                  <a:lnTo>
                    <a:pt x="1676" y="194"/>
                  </a:lnTo>
                  <a:lnTo>
                    <a:pt x="1664" y="181"/>
                  </a:lnTo>
                  <a:lnTo>
                    <a:pt x="1651" y="166"/>
                  </a:lnTo>
                  <a:lnTo>
                    <a:pt x="1641" y="155"/>
                  </a:lnTo>
                  <a:lnTo>
                    <a:pt x="1633" y="145"/>
                  </a:lnTo>
                  <a:lnTo>
                    <a:pt x="1624" y="136"/>
                  </a:lnTo>
                  <a:lnTo>
                    <a:pt x="1615" y="130"/>
                  </a:lnTo>
                  <a:lnTo>
                    <a:pt x="1611" y="128"/>
                  </a:lnTo>
                  <a:lnTo>
                    <a:pt x="1607" y="125"/>
                  </a:lnTo>
                  <a:lnTo>
                    <a:pt x="1603" y="122"/>
                  </a:lnTo>
                  <a:lnTo>
                    <a:pt x="1599" y="121"/>
                  </a:lnTo>
                  <a:lnTo>
                    <a:pt x="1596" y="120"/>
                  </a:lnTo>
                  <a:lnTo>
                    <a:pt x="1592" y="119"/>
                  </a:lnTo>
                  <a:lnTo>
                    <a:pt x="1588" y="118"/>
                  </a:lnTo>
                  <a:lnTo>
                    <a:pt x="1585" y="118"/>
                  </a:lnTo>
                  <a:lnTo>
                    <a:pt x="1577" y="119"/>
                  </a:lnTo>
                  <a:lnTo>
                    <a:pt x="1569" y="120"/>
                  </a:lnTo>
                  <a:lnTo>
                    <a:pt x="1561" y="124"/>
                  </a:lnTo>
                  <a:lnTo>
                    <a:pt x="1554" y="127"/>
                  </a:lnTo>
                  <a:lnTo>
                    <a:pt x="1546" y="132"/>
                  </a:lnTo>
                  <a:lnTo>
                    <a:pt x="1538" y="139"/>
                  </a:lnTo>
                  <a:lnTo>
                    <a:pt x="1530" y="145"/>
                  </a:lnTo>
                  <a:lnTo>
                    <a:pt x="1522" y="154"/>
                  </a:lnTo>
                  <a:lnTo>
                    <a:pt x="1513" y="163"/>
                  </a:lnTo>
                  <a:lnTo>
                    <a:pt x="1505" y="173"/>
                  </a:lnTo>
                  <a:lnTo>
                    <a:pt x="1488" y="198"/>
                  </a:lnTo>
                  <a:lnTo>
                    <a:pt x="1472" y="226"/>
                  </a:lnTo>
                  <a:lnTo>
                    <a:pt x="1455" y="259"/>
                  </a:lnTo>
                  <a:lnTo>
                    <a:pt x="1422" y="336"/>
                  </a:lnTo>
                  <a:lnTo>
                    <a:pt x="1388" y="431"/>
                  </a:lnTo>
                  <a:lnTo>
                    <a:pt x="1352" y="544"/>
                  </a:lnTo>
                  <a:lnTo>
                    <a:pt x="1316" y="676"/>
                  </a:lnTo>
                  <a:lnTo>
                    <a:pt x="1238" y="993"/>
                  </a:lnTo>
                  <a:lnTo>
                    <a:pt x="1155" y="1383"/>
                  </a:lnTo>
                  <a:lnTo>
                    <a:pt x="1155" y="1383"/>
                  </a:lnTo>
                  <a:lnTo>
                    <a:pt x="1156" y="1383"/>
                  </a:lnTo>
                  <a:lnTo>
                    <a:pt x="1157" y="1383"/>
                  </a:lnTo>
                  <a:lnTo>
                    <a:pt x="1158" y="1384"/>
                  </a:lnTo>
                  <a:lnTo>
                    <a:pt x="1160" y="1384"/>
                  </a:lnTo>
                  <a:lnTo>
                    <a:pt x="1167" y="1388"/>
                  </a:lnTo>
                  <a:lnTo>
                    <a:pt x="1230" y="1396"/>
                  </a:lnTo>
                  <a:lnTo>
                    <a:pt x="1254" y="1398"/>
                  </a:lnTo>
                  <a:lnTo>
                    <a:pt x="1264" y="1399"/>
                  </a:lnTo>
                  <a:lnTo>
                    <a:pt x="1274" y="1399"/>
                  </a:lnTo>
                  <a:lnTo>
                    <a:pt x="1297" y="1398"/>
                  </a:lnTo>
                  <a:lnTo>
                    <a:pt x="1323" y="1396"/>
                  </a:lnTo>
                  <a:lnTo>
                    <a:pt x="1354" y="1393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24160" y="2595600"/>
              <a:ext cx="333360" cy="363600"/>
            </a:xfrm>
            <a:custGeom>
              <a:avLst/>
              <a:gdLst/>
              <a:ahLst/>
              <a:rect l="l" t="t" r="r" b="b"/>
              <a:pathLst>
                <a:path w="925" h="1009">
                  <a:moveTo>
                    <a:pt x="692" y="28"/>
                  </a:moveTo>
                  <a:lnTo>
                    <a:pt x="874" y="28"/>
                  </a:lnTo>
                  <a:lnTo>
                    <a:pt x="777" y="441"/>
                  </a:lnTo>
                  <a:lnTo>
                    <a:pt x="715" y="701"/>
                  </a:lnTo>
                  <a:lnTo>
                    <a:pt x="699" y="776"/>
                  </a:lnTo>
                  <a:lnTo>
                    <a:pt x="696" y="801"/>
                  </a:lnTo>
                  <a:lnTo>
                    <a:pt x="695" y="810"/>
                  </a:lnTo>
                  <a:lnTo>
                    <a:pt x="695" y="816"/>
                  </a:lnTo>
                  <a:lnTo>
                    <a:pt x="695" y="819"/>
                  </a:lnTo>
                  <a:lnTo>
                    <a:pt x="695" y="822"/>
                  </a:lnTo>
                  <a:lnTo>
                    <a:pt x="695" y="825"/>
                  </a:lnTo>
                  <a:lnTo>
                    <a:pt x="696" y="827"/>
                  </a:lnTo>
                  <a:lnTo>
                    <a:pt x="696" y="829"/>
                  </a:lnTo>
                  <a:lnTo>
                    <a:pt x="697" y="830"/>
                  </a:lnTo>
                  <a:lnTo>
                    <a:pt x="697" y="831"/>
                  </a:lnTo>
                  <a:lnTo>
                    <a:pt x="697" y="832"/>
                  </a:lnTo>
                  <a:lnTo>
                    <a:pt x="698" y="832"/>
                  </a:lnTo>
                  <a:lnTo>
                    <a:pt x="698" y="833"/>
                  </a:lnTo>
                  <a:lnTo>
                    <a:pt x="698" y="835"/>
                  </a:lnTo>
                  <a:lnTo>
                    <a:pt x="698" y="835"/>
                  </a:lnTo>
                  <a:lnTo>
                    <a:pt x="699" y="836"/>
                  </a:lnTo>
                  <a:lnTo>
                    <a:pt x="700" y="836"/>
                  </a:lnTo>
                  <a:lnTo>
                    <a:pt x="701" y="837"/>
                  </a:lnTo>
                  <a:lnTo>
                    <a:pt x="701" y="837"/>
                  </a:lnTo>
                  <a:lnTo>
                    <a:pt x="701" y="837"/>
                  </a:lnTo>
                  <a:lnTo>
                    <a:pt x="701" y="837"/>
                  </a:lnTo>
                  <a:lnTo>
                    <a:pt x="702" y="837"/>
                  </a:lnTo>
                  <a:lnTo>
                    <a:pt x="702" y="837"/>
                  </a:lnTo>
                  <a:lnTo>
                    <a:pt x="702" y="837"/>
                  </a:lnTo>
                  <a:lnTo>
                    <a:pt x="705" y="837"/>
                  </a:lnTo>
                  <a:lnTo>
                    <a:pt x="708" y="836"/>
                  </a:lnTo>
                  <a:lnTo>
                    <a:pt x="711" y="836"/>
                  </a:lnTo>
                  <a:lnTo>
                    <a:pt x="714" y="835"/>
                  </a:lnTo>
                  <a:lnTo>
                    <a:pt x="718" y="832"/>
                  </a:lnTo>
                  <a:lnTo>
                    <a:pt x="721" y="831"/>
                  </a:lnTo>
                  <a:lnTo>
                    <a:pt x="725" y="828"/>
                  </a:lnTo>
                  <a:lnTo>
                    <a:pt x="729" y="826"/>
                  </a:lnTo>
                  <a:lnTo>
                    <a:pt x="738" y="818"/>
                  </a:lnTo>
                  <a:lnTo>
                    <a:pt x="750" y="809"/>
                  </a:lnTo>
                  <a:lnTo>
                    <a:pt x="780" y="781"/>
                  </a:lnTo>
                  <a:lnTo>
                    <a:pt x="869" y="693"/>
                  </a:lnTo>
                  <a:lnTo>
                    <a:pt x="924" y="757"/>
                  </a:lnTo>
                  <a:lnTo>
                    <a:pt x="871" y="816"/>
                  </a:lnTo>
                  <a:lnTo>
                    <a:pt x="823" y="867"/>
                  </a:lnTo>
                  <a:lnTo>
                    <a:pt x="777" y="910"/>
                  </a:lnTo>
                  <a:lnTo>
                    <a:pt x="736" y="946"/>
                  </a:lnTo>
                  <a:lnTo>
                    <a:pt x="698" y="973"/>
                  </a:lnTo>
                  <a:lnTo>
                    <a:pt x="680" y="983"/>
                  </a:lnTo>
                  <a:lnTo>
                    <a:pt x="663" y="993"/>
                  </a:lnTo>
                  <a:lnTo>
                    <a:pt x="647" y="1000"/>
                  </a:lnTo>
                  <a:lnTo>
                    <a:pt x="631" y="1004"/>
                  </a:lnTo>
                  <a:lnTo>
                    <a:pt x="618" y="1007"/>
                  </a:lnTo>
                  <a:lnTo>
                    <a:pt x="604" y="1008"/>
                  </a:lnTo>
                  <a:lnTo>
                    <a:pt x="594" y="1008"/>
                  </a:lnTo>
                  <a:lnTo>
                    <a:pt x="584" y="1006"/>
                  </a:lnTo>
                  <a:lnTo>
                    <a:pt x="579" y="1005"/>
                  </a:lnTo>
                  <a:lnTo>
                    <a:pt x="574" y="1004"/>
                  </a:lnTo>
                  <a:lnTo>
                    <a:pt x="570" y="1002"/>
                  </a:lnTo>
                  <a:lnTo>
                    <a:pt x="565" y="1000"/>
                  </a:lnTo>
                  <a:lnTo>
                    <a:pt x="561" y="997"/>
                  </a:lnTo>
                  <a:lnTo>
                    <a:pt x="556" y="995"/>
                  </a:lnTo>
                  <a:lnTo>
                    <a:pt x="552" y="992"/>
                  </a:lnTo>
                  <a:lnTo>
                    <a:pt x="548" y="990"/>
                  </a:lnTo>
                  <a:lnTo>
                    <a:pt x="544" y="987"/>
                  </a:lnTo>
                  <a:lnTo>
                    <a:pt x="541" y="982"/>
                  </a:lnTo>
                  <a:lnTo>
                    <a:pt x="538" y="979"/>
                  </a:lnTo>
                  <a:lnTo>
                    <a:pt x="534" y="975"/>
                  </a:lnTo>
                  <a:lnTo>
                    <a:pt x="531" y="970"/>
                  </a:lnTo>
                  <a:lnTo>
                    <a:pt x="527" y="966"/>
                  </a:lnTo>
                  <a:lnTo>
                    <a:pt x="524" y="962"/>
                  </a:lnTo>
                  <a:lnTo>
                    <a:pt x="522" y="956"/>
                  </a:lnTo>
                  <a:lnTo>
                    <a:pt x="519" y="952"/>
                  </a:lnTo>
                  <a:lnTo>
                    <a:pt x="517" y="947"/>
                  </a:lnTo>
                  <a:lnTo>
                    <a:pt x="513" y="936"/>
                  </a:lnTo>
                  <a:lnTo>
                    <a:pt x="510" y="923"/>
                  </a:lnTo>
                  <a:lnTo>
                    <a:pt x="508" y="911"/>
                  </a:lnTo>
                  <a:lnTo>
                    <a:pt x="506" y="897"/>
                  </a:lnTo>
                  <a:lnTo>
                    <a:pt x="506" y="883"/>
                  </a:lnTo>
                  <a:lnTo>
                    <a:pt x="506" y="868"/>
                  </a:lnTo>
                  <a:lnTo>
                    <a:pt x="507" y="852"/>
                  </a:lnTo>
                  <a:lnTo>
                    <a:pt x="509" y="836"/>
                  </a:lnTo>
                  <a:lnTo>
                    <a:pt x="511" y="819"/>
                  </a:lnTo>
                  <a:lnTo>
                    <a:pt x="514" y="802"/>
                  </a:lnTo>
                  <a:lnTo>
                    <a:pt x="518" y="786"/>
                  </a:lnTo>
                  <a:lnTo>
                    <a:pt x="523" y="769"/>
                  </a:lnTo>
                  <a:lnTo>
                    <a:pt x="528" y="751"/>
                  </a:lnTo>
                  <a:lnTo>
                    <a:pt x="513" y="778"/>
                  </a:lnTo>
                  <a:lnTo>
                    <a:pt x="495" y="804"/>
                  </a:lnTo>
                  <a:lnTo>
                    <a:pt x="475" y="829"/>
                  </a:lnTo>
                  <a:lnTo>
                    <a:pt x="453" y="854"/>
                  </a:lnTo>
                  <a:lnTo>
                    <a:pt x="428" y="879"/>
                  </a:lnTo>
                  <a:lnTo>
                    <a:pt x="400" y="901"/>
                  </a:lnTo>
                  <a:lnTo>
                    <a:pt x="370" y="924"/>
                  </a:lnTo>
                  <a:lnTo>
                    <a:pt x="337" y="947"/>
                  </a:lnTo>
                  <a:lnTo>
                    <a:pt x="314" y="961"/>
                  </a:lnTo>
                  <a:lnTo>
                    <a:pt x="293" y="973"/>
                  </a:lnTo>
                  <a:lnTo>
                    <a:pt x="271" y="982"/>
                  </a:lnTo>
                  <a:lnTo>
                    <a:pt x="250" y="991"/>
                  </a:lnTo>
                  <a:lnTo>
                    <a:pt x="231" y="996"/>
                  </a:lnTo>
                  <a:lnTo>
                    <a:pt x="211" y="1002"/>
                  </a:lnTo>
                  <a:lnTo>
                    <a:pt x="192" y="1004"/>
                  </a:lnTo>
                  <a:lnTo>
                    <a:pt x="174" y="1005"/>
                  </a:lnTo>
                  <a:lnTo>
                    <a:pt x="163" y="1005"/>
                  </a:lnTo>
                  <a:lnTo>
                    <a:pt x="154" y="1003"/>
                  </a:lnTo>
                  <a:lnTo>
                    <a:pt x="149" y="1002"/>
                  </a:lnTo>
                  <a:lnTo>
                    <a:pt x="144" y="1001"/>
                  </a:lnTo>
                  <a:lnTo>
                    <a:pt x="139" y="998"/>
                  </a:lnTo>
                  <a:lnTo>
                    <a:pt x="135" y="997"/>
                  </a:lnTo>
                  <a:lnTo>
                    <a:pt x="130" y="995"/>
                  </a:lnTo>
                  <a:lnTo>
                    <a:pt x="126" y="992"/>
                  </a:lnTo>
                  <a:lnTo>
                    <a:pt x="122" y="990"/>
                  </a:lnTo>
                  <a:lnTo>
                    <a:pt x="118" y="987"/>
                  </a:lnTo>
                  <a:lnTo>
                    <a:pt x="114" y="983"/>
                  </a:lnTo>
                  <a:lnTo>
                    <a:pt x="111" y="980"/>
                  </a:lnTo>
                  <a:lnTo>
                    <a:pt x="107" y="977"/>
                  </a:lnTo>
                  <a:lnTo>
                    <a:pt x="104" y="973"/>
                  </a:lnTo>
                  <a:lnTo>
                    <a:pt x="101" y="968"/>
                  </a:lnTo>
                  <a:lnTo>
                    <a:pt x="98" y="964"/>
                  </a:lnTo>
                  <a:lnTo>
                    <a:pt x="95" y="960"/>
                  </a:lnTo>
                  <a:lnTo>
                    <a:pt x="93" y="954"/>
                  </a:lnTo>
                  <a:lnTo>
                    <a:pt x="90" y="950"/>
                  </a:lnTo>
                  <a:lnTo>
                    <a:pt x="88" y="945"/>
                  </a:lnTo>
                  <a:lnTo>
                    <a:pt x="85" y="933"/>
                  </a:lnTo>
                  <a:lnTo>
                    <a:pt x="82" y="920"/>
                  </a:lnTo>
                  <a:lnTo>
                    <a:pt x="80" y="907"/>
                  </a:lnTo>
                  <a:lnTo>
                    <a:pt x="78" y="892"/>
                  </a:lnTo>
                  <a:lnTo>
                    <a:pt x="78" y="877"/>
                  </a:lnTo>
                  <a:lnTo>
                    <a:pt x="79" y="854"/>
                  </a:lnTo>
                  <a:lnTo>
                    <a:pt x="80" y="830"/>
                  </a:lnTo>
                  <a:lnTo>
                    <a:pt x="83" y="805"/>
                  </a:lnTo>
                  <a:lnTo>
                    <a:pt x="88" y="781"/>
                  </a:lnTo>
                  <a:lnTo>
                    <a:pt x="97" y="736"/>
                  </a:lnTo>
                  <a:lnTo>
                    <a:pt x="111" y="675"/>
                  </a:lnTo>
                  <a:lnTo>
                    <a:pt x="154" y="500"/>
                  </a:lnTo>
                  <a:lnTo>
                    <a:pt x="205" y="291"/>
                  </a:lnTo>
                  <a:lnTo>
                    <a:pt x="218" y="225"/>
                  </a:lnTo>
                  <a:lnTo>
                    <a:pt x="221" y="204"/>
                  </a:lnTo>
                  <a:lnTo>
                    <a:pt x="222" y="195"/>
                  </a:lnTo>
                  <a:lnTo>
                    <a:pt x="222" y="187"/>
                  </a:lnTo>
                  <a:lnTo>
                    <a:pt x="222" y="179"/>
                  </a:lnTo>
                  <a:lnTo>
                    <a:pt x="220" y="179"/>
                  </a:lnTo>
                  <a:lnTo>
                    <a:pt x="219" y="179"/>
                  </a:lnTo>
                  <a:lnTo>
                    <a:pt x="217" y="180"/>
                  </a:lnTo>
                  <a:lnTo>
                    <a:pt x="215" y="180"/>
                  </a:lnTo>
                  <a:lnTo>
                    <a:pt x="211" y="181"/>
                  </a:lnTo>
                  <a:lnTo>
                    <a:pt x="206" y="183"/>
                  </a:lnTo>
                  <a:lnTo>
                    <a:pt x="201" y="186"/>
                  </a:lnTo>
                  <a:lnTo>
                    <a:pt x="195" y="190"/>
                  </a:lnTo>
                  <a:lnTo>
                    <a:pt x="182" y="197"/>
                  </a:lnTo>
                  <a:lnTo>
                    <a:pt x="174" y="203"/>
                  </a:lnTo>
                  <a:lnTo>
                    <a:pt x="164" y="210"/>
                  </a:lnTo>
                  <a:lnTo>
                    <a:pt x="140" y="232"/>
                  </a:lnTo>
                  <a:lnTo>
                    <a:pt x="107" y="261"/>
                  </a:lnTo>
                  <a:lnTo>
                    <a:pt x="67" y="297"/>
                  </a:lnTo>
                  <a:lnTo>
                    <a:pt x="0" y="238"/>
                  </a:lnTo>
                  <a:lnTo>
                    <a:pt x="68" y="169"/>
                  </a:lnTo>
                  <a:lnTo>
                    <a:pt x="127" y="113"/>
                  </a:lnTo>
                  <a:lnTo>
                    <a:pt x="154" y="90"/>
                  </a:lnTo>
                  <a:lnTo>
                    <a:pt x="177" y="71"/>
                  </a:lnTo>
                  <a:lnTo>
                    <a:pt x="199" y="55"/>
                  </a:lnTo>
                  <a:lnTo>
                    <a:pt x="219" y="43"/>
                  </a:lnTo>
                  <a:lnTo>
                    <a:pt x="237" y="33"/>
                  </a:lnTo>
                  <a:lnTo>
                    <a:pt x="254" y="24"/>
                  </a:lnTo>
                  <a:lnTo>
                    <a:pt x="271" y="16"/>
                  </a:lnTo>
                  <a:lnTo>
                    <a:pt x="287" y="11"/>
                  </a:lnTo>
                  <a:lnTo>
                    <a:pt x="302" y="6"/>
                  </a:lnTo>
                  <a:lnTo>
                    <a:pt x="316" y="2"/>
                  </a:lnTo>
                  <a:lnTo>
                    <a:pt x="329" y="1"/>
                  </a:lnTo>
                  <a:lnTo>
                    <a:pt x="342" y="0"/>
                  </a:lnTo>
                  <a:lnTo>
                    <a:pt x="350" y="0"/>
                  </a:lnTo>
                  <a:lnTo>
                    <a:pt x="354" y="1"/>
                  </a:lnTo>
                  <a:lnTo>
                    <a:pt x="358" y="2"/>
                  </a:lnTo>
                  <a:lnTo>
                    <a:pt x="362" y="2"/>
                  </a:lnTo>
                  <a:lnTo>
                    <a:pt x="366" y="3"/>
                  </a:lnTo>
                  <a:lnTo>
                    <a:pt x="369" y="5"/>
                  </a:lnTo>
                  <a:lnTo>
                    <a:pt x="373" y="6"/>
                  </a:lnTo>
                  <a:lnTo>
                    <a:pt x="376" y="8"/>
                  </a:lnTo>
                  <a:lnTo>
                    <a:pt x="380" y="11"/>
                  </a:lnTo>
                  <a:lnTo>
                    <a:pt x="383" y="13"/>
                  </a:lnTo>
                  <a:lnTo>
                    <a:pt x="386" y="15"/>
                  </a:lnTo>
                  <a:lnTo>
                    <a:pt x="388" y="17"/>
                  </a:lnTo>
                  <a:lnTo>
                    <a:pt x="391" y="20"/>
                  </a:lnTo>
                  <a:lnTo>
                    <a:pt x="397" y="27"/>
                  </a:lnTo>
                  <a:lnTo>
                    <a:pt x="400" y="30"/>
                  </a:lnTo>
                  <a:lnTo>
                    <a:pt x="402" y="33"/>
                  </a:lnTo>
                  <a:lnTo>
                    <a:pt x="404" y="38"/>
                  </a:lnTo>
                  <a:lnTo>
                    <a:pt x="406" y="41"/>
                  </a:lnTo>
                  <a:lnTo>
                    <a:pt x="408" y="45"/>
                  </a:lnTo>
                  <a:lnTo>
                    <a:pt x="410" y="49"/>
                  </a:lnTo>
                  <a:lnTo>
                    <a:pt x="413" y="58"/>
                  </a:lnTo>
                  <a:lnTo>
                    <a:pt x="415" y="68"/>
                  </a:lnTo>
                  <a:lnTo>
                    <a:pt x="417" y="79"/>
                  </a:lnTo>
                  <a:lnTo>
                    <a:pt x="418" y="89"/>
                  </a:lnTo>
                  <a:lnTo>
                    <a:pt x="418" y="101"/>
                  </a:lnTo>
                  <a:lnTo>
                    <a:pt x="417" y="124"/>
                  </a:lnTo>
                  <a:lnTo>
                    <a:pt x="413" y="154"/>
                  </a:lnTo>
                  <a:lnTo>
                    <a:pt x="399" y="235"/>
                  </a:lnTo>
                  <a:lnTo>
                    <a:pt x="377" y="344"/>
                  </a:lnTo>
                  <a:lnTo>
                    <a:pt x="345" y="481"/>
                  </a:lnTo>
                  <a:lnTo>
                    <a:pt x="297" y="688"/>
                  </a:lnTo>
                  <a:lnTo>
                    <a:pt x="285" y="748"/>
                  </a:lnTo>
                  <a:lnTo>
                    <a:pt x="282" y="768"/>
                  </a:lnTo>
                  <a:lnTo>
                    <a:pt x="281" y="775"/>
                  </a:lnTo>
                  <a:lnTo>
                    <a:pt x="281" y="781"/>
                  </a:lnTo>
                  <a:lnTo>
                    <a:pt x="281" y="784"/>
                  </a:lnTo>
                  <a:lnTo>
                    <a:pt x="282" y="788"/>
                  </a:lnTo>
                  <a:lnTo>
                    <a:pt x="282" y="791"/>
                  </a:lnTo>
                  <a:lnTo>
                    <a:pt x="283" y="795"/>
                  </a:lnTo>
                  <a:lnTo>
                    <a:pt x="284" y="797"/>
                  </a:lnTo>
                  <a:lnTo>
                    <a:pt x="286" y="800"/>
                  </a:lnTo>
                  <a:lnTo>
                    <a:pt x="287" y="803"/>
                  </a:lnTo>
                  <a:lnTo>
                    <a:pt x="289" y="805"/>
                  </a:lnTo>
                  <a:lnTo>
                    <a:pt x="291" y="808"/>
                  </a:lnTo>
                  <a:lnTo>
                    <a:pt x="293" y="809"/>
                  </a:lnTo>
                  <a:lnTo>
                    <a:pt x="295" y="811"/>
                  </a:lnTo>
                  <a:lnTo>
                    <a:pt x="296" y="812"/>
                  </a:lnTo>
                  <a:lnTo>
                    <a:pt x="298" y="813"/>
                  </a:lnTo>
                  <a:lnTo>
                    <a:pt x="299" y="813"/>
                  </a:lnTo>
                  <a:lnTo>
                    <a:pt x="300" y="813"/>
                  </a:lnTo>
                  <a:lnTo>
                    <a:pt x="301" y="814"/>
                  </a:lnTo>
                  <a:lnTo>
                    <a:pt x="301" y="814"/>
                  </a:lnTo>
                  <a:lnTo>
                    <a:pt x="302" y="814"/>
                  </a:lnTo>
                  <a:lnTo>
                    <a:pt x="303" y="814"/>
                  </a:lnTo>
                  <a:lnTo>
                    <a:pt x="309" y="814"/>
                  </a:lnTo>
                  <a:lnTo>
                    <a:pt x="315" y="813"/>
                  </a:lnTo>
                  <a:lnTo>
                    <a:pt x="322" y="811"/>
                  </a:lnTo>
                  <a:lnTo>
                    <a:pt x="330" y="808"/>
                  </a:lnTo>
                  <a:lnTo>
                    <a:pt x="338" y="804"/>
                  </a:lnTo>
                  <a:lnTo>
                    <a:pt x="346" y="800"/>
                  </a:lnTo>
                  <a:lnTo>
                    <a:pt x="364" y="790"/>
                  </a:lnTo>
                  <a:lnTo>
                    <a:pt x="384" y="776"/>
                  </a:lnTo>
                  <a:lnTo>
                    <a:pt x="404" y="759"/>
                  </a:lnTo>
                  <a:lnTo>
                    <a:pt x="426" y="740"/>
                  </a:lnTo>
                  <a:lnTo>
                    <a:pt x="450" y="717"/>
                  </a:lnTo>
                  <a:lnTo>
                    <a:pt x="473" y="692"/>
                  </a:lnTo>
                  <a:lnTo>
                    <a:pt x="494" y="667"/>
                  </a:lnTo>
                  <a:lnTo>
                    <a:pt x="514" y="641"/>
                  </a:lnTo>
                  <a:lnTo>
                    <a:pt x="531" y="613"/>
                  </a:lnTo>
                  <a:lnTo>
                    <a:pt x="545" y="585"/>
                  </a:lnTo>
                  <a:lnTo>
                    <a:pt x="559" y="557"/>
                  </a:lnTo>
                  <a:lnTo>
                    <a:pt x="569" y="527"/>
                  </a:lnTo>
                  <a:lnTo>
                    <a:pt x="578" y="497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73360" y="2577960"/>
              <a:ext cx="457200" cy="519120"/>
            </a:xfrm>
            <a:custGeom>
              <a:avLst/>
              <a:gdLst/>
              <a:ahLst/>
              <a:rect l="l" t="t" r="r" b="b"/>
              <a:pathLst>
                <a:path w="1270" h="1444">
                  <a:moveTo>
                    <a:pt x="348" y="453"/>
                  </a:moveTo>
                  <a:lnTo>
                    <a:pt x="352" y="444"/>
                  </a:lnTo>
                  <a:lnTo>
                    <a:pt x="359" y="432"/>
                  </a:lnTo>
                  <a:lnTo>
                    <a:pt x="378" y="402"/>
                  </a:lnTo>
                  <a:lnTo>
                    <a:pt x="405" y="364"/>
                  </a:lnTo>
                  <a:lnTo>
                    <a:pt x="438" y="317"/>
                  </a:lnTo>
                  <a:lnTo>
                    <a:pt x="507" y="227"/>
                  </a:lnTo>
                  <a:lnTo>
                    <a:pt x="569" y="155"/>
                  </a:lnTo>
                  <a:lnTo>
                    <a:pt x="596" y="124"/>
                  </a:lnTo>
                  <a:lnTo>
                    <a:pt x="622" y="99"/>
                  </a:lnTo>
                  <a:lnTo>
                    <a:pt x="645" y="77"/>
                  </a:lnTo>
                  <a:lnTo>
                    <a:pt x="666" y="60"/>
                  </a:lnTo>
                  <a:lnTo>
                    <a:pt x="687" y="46"/>
                  </a:lnTo>
                  <a:lnTo>
                    <a:pt x="708" y="34"/>
                  </a:lnTo>
                  <a:lnTo>
                    <a:pt x="728" y="23"/>
                  </a:lnTo>
                  <a:lnTo>
                    <a:pt x="748" y="16"/>
                  </a:lnTo>
                  <a:lnTo>
                    <a:pt x="768" y="9"/>
                  </a:lnTo>
                  <a:lnTo>
                    <a:pt x="788" y="4"/>
                  </a:lnTo>
                  <a:lnTo>
                    <a:pt x="809" y="1"/>
                  </a:lnTo>
                  <a:lnTo>
                    <a:pt x="828" y="0"/>
                  </a:lnTo>
                  <a:lnTo>
                    <a:pt x="841" y="0"/>
                  </a:lnTo>
                  <a:lnTo>
                    <a:pt x="854" y="1"/>
                  </a:lnTo>
                  <a:lnTo>
                    <a:pt x="865" y="4"/>
                  </a:lnTo>
                  <a:lnTo>
                    <a:pt x="876" y="7"/>
                  </a:lnTo>
                  <a:lnTo>
                    <a:pt x="886" y="10"/>
                  </a:lnTo>
                  <a:lnTo>
                    <a:pt x="895" y="14"/>
                  </a:lnTo>
                  <a:lnTo>
                    <a:pt x="902" y="19"/>
                  </a:lnTo>
                  <a:lnTo>
                    <a:pt x="909" y="24"/>
                  </a:lnTo>
                  <a:lnTo>
                    <a:pt x="915" y="31"/>
                  </a:lnTo>
                  <a:lnTo>
                    <a:pt x="921" y="38"/>
                  </a:lnTo>
                  <a:lnTo>
                    <a:pt x="925" y="46"/>
                  </a:lnTo>
                  <a:lnTo>
                    <a:pt x="929" y="54"/>
                  </a:lnTo>
                  <a:lnTo>
                    <a:pt x="932" y="64"/>
                  </a:lnTo>
                  <a:lnTo>
                    <a:pt x="934" y="74"/>
                  </a:lnTo>
                  <a:lnTo>
                    <a:pt x="936" y="85"/>
                  </a:lnTo>
                  <a:lnTo>
                    <a:pt x="936" y="96"/>
                  </a:lnTo>
                  <a:lnTo>
                    <a:pt x="936" y="107"/>
                  </a:lnTo>
                  <a:lnTo>
                    <a:pt x="934" y="118"/>
                  </a:lnTo>
                  <a:lnTo>
                    <a:pt x="932" y="128"/>
                  </a:lnTo>
                  <a:lnTo>
                    <a:pt x="930" y="136"/>
                  </a:lnTo>
                  <a:lnTo>
                    <a:pt x="926" y="145"/>
                  </a:lnTo>
                  <a:lnTo>
                    <a:pt x="922" y="152"/>
                  </a:lnTo>
                  <a:lnTo>
                    <a:pt x="917" y="160"/>
                  </a:lnTo>
                  <a:lnTo>
                    <a:pt x="911" y="165"/>
                  </a:lnTo>
                  <a:lnTo>
                    <a:pt x="904" y="171"/>
                  </a:lnTo>
                  <a:lnTo>
                    <a:pt x="896" y="176"/>
                  </a:lnTo>
                  <a:lnTo>
                    <a:pt x="889" y="181"/>
                  </a:lnTo>
                  <a:lnTo>
                    <a:pt x="880" y="184"/>
                  </a:lnTo>
                  <a:lnTo>
                    <a:pt x="870" y="186"/>
                  </a:lnTo>
                  <a:lnTo>
                    <a:pt x="860" y="188"/>
                  </a:lnTo>
                  <a:lnTo>
                    <a:pt x="848" y="189"/>
                  </a:lnTo>
                  <a:lnTo>
                    <a:pt x="836" y="189"/>
                  </a:lnTo>
                  <a:lnTo>
                    <a:pt x="807" y="188"/>
                  </a:lnTo>
                  <a:lnTo>
                    <a:pt x="788" y="187"/>
                  </a:lnTo>
                  <a:lnTo>
                    <a:pt x="781" y="186"/>
                  </a:lnTo>
                  <a:lnTo>
                    <a:pt x="776" y="186"/>
                  </a:lnTo>
                  <a:lnTo>
                    <a:pt x="762" y="187"/>
                  </a:lnTo>
                  <a:lnTo>
                    <a:pt x="749" y="188"/>
                  </a:lnTo>
                  <a:lnTo>
                    <a:pt x="736" y="191"/>
                  </a:lnTo>
                  <a:lnTo>
                    <a:pt x="722" y="195"/>
                  </a:lnTo>
                  <a:lnTo>
                    <a:pt x="709" y="200"/>
                  </a:lnTo>
                  <a:lnTo>
                    <a:pt x="695" y="205"/>
                  </a:lnTo>
                  <a:lnTo>
                    <a:pt x="681" y="213"/>
                  </a:lnTo>
                  <a:lnTo>
                    <a:pt x="667" y="220"/>
                  </a:lnTo>
                  <a:lnTo>
                    <a:pt x="654" y="230"/>
                  </a:lnTo>
                  <a:lnTo>
                    <a:pt x="638" y="242"/>
                  </a:lnTo>
                  <a:lnTo>
                    <a:pt x="621" y="257"/>
                  </a:lnTo>
                  <a:lnTo>
                    <a:pt x="604" y="273"/>
                  </a:lnTo>
                  <a:lnTo>
                    <a:pt x="566" y="314"/>
                  </a:lnTo>
                  <a:lnTo>
                    <a:pt x="522" y="365"/>
                  </a:lnTo>
                  <a:lnTo>
                    <a:pt x="480" y="416"/>
                  </a:lnTo>
                  <a:lnTo>
                    <a:pt x="462" y="435"/>
                  </a:lnTo>
                  <a:lnTo>
                    <a:pt x="445" y="452"/>
                  </a:lnTo>
                  <a:lnTo>
                    <a:pt x="430" y="466"/>
                  </a:lnTo>
                  <a:lnTo>
                    <a:pt x="418" y="477"/>
                  </a:lnTo>
                  <a:lnTo>
                    <a:pt x="412" y="481"/>
                  </a:lnTo>
                  <a:lnTo>
                    <a:pt x="407" y="486"/>
                  </a:lnTo>
                  <a:lnTo>
                    <a:pt x="402" y="488"/>
                  </a:lnTo>
                  <a:lnTo>
                    <a:pt x="397" y="490"/>
                  </a:lnTo>
                  <a:lnTo>
                    <a:pt x="428" y="504"/>
                  </a:lnTo>
                  <a:lnTo>
                    <a:pt x="457" y="519"/>
                  </a:lnTo>
                  <a:lnTo>
                    <a:pt x="483" y="535"/>
                  </a:lnTo>
                  <a:lnTo>
                    <a:pt x="507" y="552"/>
                  </a:lnTo>
                  <a:lnTo>
                    <a:pt x="529" y="568"/>
                  </a:lnTo>
                  <a:lnTo>
                    <a:pt x="548" y="585"/>
                  </a:lnTo>
                  <a:lnTo>
                    <a:pt x="565" y="603"/>
                  </a:lnTo>
                  <a:lnTo>
                    <a:pt x="580" y="622"/>
                  </a:lnTo>
                  <a:lnTo>
                    <a:pt x="593" y="643"/>
                  </a:lnTo>
                  <a:lnTo>
                    <a:pt x="609" y="672"/>
                  </a:lnTo>
                  <a:lnTo>
                    <a:pt x="627" y="707"/>
                  </a:lnTo>
                  <a:lnTo>
                    <a:pt x="646" y="749"/>
                  </a:lnTo>
                  <a:lnTo>
                    <a:pt x="689" y="851"/>
                  </a:lnTo>
                  <a:lnTo>
                    <a:pt x="739" y="981"/>
                  </a:lnTo>
                  <a:lnTo>
                    <a:pt x="775" y="1072"/>
                  </a:lnTo>
                  <a:lnTo>
                    <a:pt x="793" y="1112"/>
                  </a:lnTo>
                  <a:lnTo>
                    <a:pt x="811" y="1148"/>
                  </a:lnTo>
                  <a:lnTo>
                    <a:pt x="827" y="1180"/>
                  </a:lnTo>
                  <a:lnTo>
                    <a:pt x="844" y="1209"/>
                  </a:lnTo>
                  <a:lnTo>
                    <a:pt x="861" y="1234"/>
                  </a:lnTo>
                  <a:lnTo>
                    <a:pt x="877" y="1256"/>
                  </a:lnTo>
                  <a:lnTo>
                    <a:pt x="894" y="1274"/>
                  </a:lnTo>
                  <a:lnTo>
                    <a:pt x="910" y="1289"/>
                  </a:lnTo>
                  <a:lnTo>
                    <a:pt x="919" y="1296"/>
                  </a:lnTo>
                  <a:lnTo>
                    <a:pt x="928" y="1302"/>
                  </a:lnTo>
                  <a:lnTo>
                    <a:pt x="937" y="1308"/>
                  </a:lnTo>
                  <a:lnTo>
                    <a:pt x="947" y="1313"/>
                  </a:lnTo>
                  <a:lnTo>
                    <a:pt x="956" y="1317"/>
                  </a:lnTo>
                  <a:lnTo>
                    <a:pt x="966" y="1322"/>
                  </a:lnTo>
                  <a:lnTo>
                    <a:pt x="975" y="1325"/>
                  </a:lnTo>
                  <a:lnTo>
                    <a:pt x="985" y="1328"/>
                  </a:lnTo>
                  <a:lnTo>
                    <a:pt x="996" y="1329"/>
                  </a:lnTo>
                  <a:lnTo>
                    <a:pt x="1006" y="1331"/>
                  </a:lnTo>
                  <a:lnTo>
                    <a:pt x="1017" y="1332"/>
                  </a:lnTo>
                  <a:lnTo>
                    <a:pt x="1028" y="1332"/>
                  </a:lnTo>
                  <a:lnTo>
                    <a:pt x="1037" y="1332"/>
                  </a:lnTo>
                  <a:lnTo>
                    <a:pt x="1045" y="1331"/>
                  </a:lnTo>
                  <a:lnTo>
                    <a:pt x="1053" y="1330"/>
                  </a:lnTo>
                  <a:lnTo>
                    <a:pt x="1061" y="1328"/>
                  </a:lnTo>
                  <a:lnTo>
                    <a:pt x="1069" y="1325"/>
                  </a:lnTo>
                  <a:lnTo>
                    <a:pt x="1076" y="1323"/>
                  </a:lnTo>
                  <a:lnTo>
                    <a:pt x="1084" y="1319"/>
                  </a:lnTo>
                  <a:lnTo>
                    <a:pt x="1091" y="1315"/>
                  </a:lnTo>
                  <a:lnTo>
                    <a:pt x="1097" y="1311"/>
                  </a:lnTo>
                  <a:lnTo>
                    <a:pt x="1103" y="1306"/>
                  </a:lnTo>
                  <a:lnTo>
                    <a:pt x="1107" y="1302"/>
                  </a:lnTo>
                  <a:lnTo>
                    <a:pt x="1111" y="1299"/>
                  </a:lnTo>
                  <a:lnTo>
                    <a:pt x="1113" y="1297"/>
                  </a:lnTo>
                  <a:lnTo>
                    <a:pt x="1114" y="1295"/>
                  </a:lnTo>
                  <a:lnTo>
                    <a:pt x="1115" y="1292"/>
                  </a:lnTo>
                  <a:lnTo>
                    <a:pt x="1116" y="1291"/>
                  </a:lnTo>
                  <a:lnTo>
                    <a:pt x="1117" y="1289"/>
                  </a:lnTo>
                  <a:lnTo>
                    <a:pt x="1118" y="1287"/>
                  </a:lnTo>
                  <a:lnTo>
                    <a:pt x="1118" y="1286"/>
                  </a:lnTo>
                  <a:lnTo>
                    <a:pt x="1118" y="1284"/>
                  </a:lnTo>
                  <a:lnTo>
                    <a:pt x="1118" y="1283"/>
                  </a:lnTo>
                  <a:lnTo>
                    <a:pt x="1118" y="1282"/>
                  </a:lnTo>
                  <a:lnTo>
                    <a:pt x="1117" y="1278"/>
                  </a:lnTo>
                  <a:lnTo>
                    <a:pt x="1117" y="1274"/>
                  </a:lnTo>
                  <a:lnTo>
                    <a:pt x="1116" y="1270"/>
                  </a:lnTo>
                  <a:lnTo>
                    <a:pt x="1113" y="1259"/>
                  </a:lnTo>
                  <a:lnTo>
                    <a:pt x="1108" y="1246"/>
                  </a:lnTo>
                  <a:lnTo>
                    <a:pt x="1105" y="1239"/>
                  </a:lnTo>
                  <a:lnTo>
                    <a:pt x="1103" y="1231"/>
                  </a:lnTo>
                  <a:lnTo>
                    <a:pt x="1101" y="1223"/>
                  </a:lnTo>
                  <a:lnTo>
                    <a:pt x="1100" y="1216"/>
                  </a:lnTo>
                  <a:lnTo>
                    <a:pt x="1098" y="1209"/>
                  </a:lnTo>
                  <a:lnTo>
                    <a:pt x="1098" y="1203"/>
                  </a:lnTo>
                  <a:lnTo>
                    <a:pt x="1097" y="1198"/>
                  </a:lnTo>
                  <a:lnTo>
                    <a:pt x="1097" y="1192"/>
                  </a:lnTo>
                  <a:lnTo>
                    <a:pt x="1097" y="1188"/>
                  </a:lnTo>
                  <a:lnTo>
                    <a:pt x="1097" y="1185"/>
                  </a:lnTo>
                  <a:lnTo>
                    <a:pt x="1098" y="1180"/>
                  </a:lnTo>
                  <a:lnTo>
                    <a:pt x="1099" y="1176"/>
                  </a:lnTo>
                  <a:lnTo>
                    <a:pt x="1099" y="1173"/>
                  </a:lnTo>
                  <a:lnTo>
                    <a:pt x="1100" y="1168"/>
                  </a:lnTo>
                  <a:lnTo>
                    <a:pt x="1103" y="1161"/>
                  </a:lnTo>
                  <a:lnTo>
                    <a:pt x="1106" y="1153"/>
                  </a:lnTo>
                  <a:lnTo>
                    <a:pt x="1111" y="1146"/>
                  </a:lnTo>
                  <a:lnTo>
                    <a:pt x="1115" y="1138"/>
                  </a:lnTo>
                  <a:lnTo>
                    <a:pt x="1121" y="1132"/>
                  </a:lnTo>
                  <a:lnTo>
                    <a:pt x="1127" y="1125"/>
                  </a:lnTo>
                  <a:lnTo>
                    <a:pt x="1129" y="1123"/>
                  </a:lnTo>
                  <a:lnTo>
                    <a:pt x="1132" y="1120"/>
                  </a:lnTo>
                  <a:lnTo>
                    <a:pt x="1135" y="1118"/>
                  </a:lnTo>
                  <a:lnTo>
                    <a:pt x="1139" y="1116"/>
                  </a:lnTo>
                  <a:lnTo>
                    <a:pt x="1142" y="1113"/>
                  </a:lnTo>
                  <a:lnTo>
                    <a:pt x="1146" y="1112"/>
                  </a:lnTo>
                  <a:lnTo>
                    <a:pt x="1150" y="1110"/>
                  </a:lnTo>
                  <a:lnTo>
                    <a:pt x="1153" y="1109"/>
                  </a:lnTo>
                  <a:lnTo>
                    <a:pt x="1157" y="1108"/>
                  </a:lnTo>
                  <a:lnTo>
                    <a:pt x="1161" y="1107"/>
                  </a:lnTo>
                  <a:lnTo>
                    <a:pt x="1165" y="1106"/>
                  </a:lnTo>
                  <a:lnTo>
                    <a:pt x="1170" y="1105"/>
                  </a:lnTo>
                  <a:lnTo>
                    <a:pt x="1178" y="1105"/>
                  </a:lnTo>
                  <a:lnTo>
                    <a:pt x="1188" y="1105"/>
                  </a:lnTo>
                  <a:lnTo>
                    <a:pt x="1193" y="1106"/>
                  </a:lnTo>
                  <a:lnTo>
                    <a:pt x="1197" y="1107"/>
                  </a:lnTo>
                  <a:lnTo>
                    <a:pt x="1202" y="1108"/>
                  </a:lnTo>
                  <a:lnTo>
                    <a:pt x="1206" y="1109"/>
                  </a:lnTo>
                  <a:lnTo>
                    <a:pt x="1209" y="1111"/>
                  </a:lnTo>
                  <a:lnTo>
                    <a:pt x="1213" y="1113"/>
                  </a:lnTo>
                  <a:lnTo>
                    <a:pt x="1217" y="1114"/>
                  </a:lnTo>
                  <a:lnTo>
                    <a:pt x="1221" y="1118"/>
                  </a:lnTo>
                  <a:lnTo>
                    <a:pt x="1225" y="1120"/>
                  </a:lnTo>
                  <a:lnTo>
                    <a:pt x="1229" y="1123"/>
                  </a:lnTo>
                  <a:lnTo>
                    <a:pt x="1236" y="1130"/>
                  </a:lnTo>
                  <a:lnTo>
                    <a:pt x="1243" y="1137"/>
                  </a:lnTo>
                  <a:lnTo>
                    <a:pt x="1249" y="1146"/>
                  </a:lnTo>
                  <a:lnTo>
                    <a:pt x="1254" y="1154"/>
                  </a:lnTo>
                  <a:lnTo>
                    <a:pt x="1259" y="1164"/>
                  </a:lnTo>
                  <a:lnTo>
                    <a:pt x="1262" y="1174"/>
                  </a:lnTo>
                  <a:lnTo>
                    <a:pt x="1265" y="1184"/>
                  </a:lnTo>
                  <a:lnTo>
                    <a:pt x="1267" y="1194"/>
                  </a:lnTo>
                  <a:lnTo>
                    <a:pt x="1269" y="1206"/>
                  </a:lnTo>
                  <a:lnTo>
                    <a:pt x="1269" y="1218"/>
                  </a:lnTo>
                  <a:lnTo>
                    <a:pt x="1269" y="1230"/>
                  </a:lnTo>
                  <a:lnTo>
                    <a:pt x="1268" y="1241"/>
                  </a:lnTo>
                  <a:lnTo>
                    <a:pt x="1266" y="1253"/>
                  </a:lnTo>
                  <a:lnTo>
                    <a:pt x="1264" y="1263"/>
                  </a:lnTo>
                  <a:lnTo>
                    <a:pt x="1261" y="1274"/>
                  </a:lnTo>
                  <a:lnTo>
                    <a:pt x="1258" y="1285"/>
                  </a:lnTo>
                  <a:lnTo>
                    <a:pt x="1254" y="1295"/>
                  </a:lnTo>
                  <a:lnTo>
                    <a:pt x="1250" y="1304"/>
                  </a:lnTo>
                  <a:lnTo>
                    <a:pt x="1245" y="1315"/>
                  </a:lnTo>
                  <a:lnTo>
                    <a:pt x="1239" y="1324"/>
                  </a:lnTo>
                  <a:lnTo>
                    <a:pt x="1233" y="1333"/>
                  </a:lnTo>
                  <a:lnTo>
                    <a:pt x="1226" y="1343"/>
                  </a:lnTo>
                  <a:lnTo>
                    <a:pt x="1211" y="1360"/>
                  </a:lnTo>
                  <a:lnTo>
                    <a:pt x="1194" y="1378"/>
                  </a:lnTo>
                  <a:lnTo>
                    <a:pt x="1174" y="1393"/>
                  </a:lnTo>
                  <a:lnTo>
                    <a:pt x="1154" y="1406"/>
                  </a:lnTo>
                  <a:lnTo>
                    <a:pt x="1132" y="1418"/>
                  </a:lnTo>
                  <a:lnTo>
                    <a:pt x="1110" y="1427"/>
                  </a:lnTo>
                  <a:lnTo>
                    <a:pt x="1085" y="1434"/>
                  </a:lnTo>
                  <a:lnTo>
                    <a:pt x="1060" y="1439"/>
                  </a:lnTo>
                  <a:lnTo>
                    <a:pt x="1035" y="1442"/>
                  </a:lnTo>
                  <a:lnTo>
                    <a:pt x="1007" y="1443"/>
                  </a:lnTo>
                  <a:lnTo>
                    <a:pt x="968" y="1441"/>
                  </a:lnTo>
                  <a:lnTo>
                    <a:pt x="929" y="1435"/>
                  </a:lnTo>
                  <a:lnTo>
                    <a:pt x="910" y="1430"/>
                  </a:lnTo>
                  <a:lnTo>
                    <a:pt x="892" y="1425"/>
                  </a:lnTo>
                  <a:lnTo>
                    <a:pt x="874" y="1418"/>
                  </a:lnTo>
                  <a:lnTo>
                    <a:pt x="855" y="1410"/>
                  </a:lnTo>
                  <a:lnTo>
                    <a:pt x="819" y="1392"/>
                  </a:lnTo>
                  <a:lnTo>
                    <a:pt x="786" y="1369"/>
                  </a:lnTo>
                  <a:lnTo>
                    <a:pt x="752" y="1342"/>
                  </a:lnTo>
                  <a:lnTo>
                    <a:pt x="720" y="1311"/>
                  </a:lnTo>
                  <a:lnTo>
                    <a:pt x="704" y="1294"/>
                  </a:lnTo>
                  <a:lnTo>
                    <a:pt x="688" y="1274"/>
                  </a:lnTo>
                  <a:lnTo>
                    <a:pt x="657" y="1229"/>
                  </a:lnTo>
                  <a:lnTo>
                    <a:pt x="625" y="1177"/>
                  </a:lnTo>
                  <a:lnTo>
                    <a:pt x="593" y="1117"/>
                  </a:lnTo>
                  <a:lnTo>
                    <a:pt x="562" y="1048"/>
                  </a:lnTo>
                  <a:lnTo>
                    <a:pt x="531" y="971"/>
                  </a:lnTo>
                  <a:lnTo>
                    <a:pt x="500" y="887"/>
                  </a:lnTo>
                  <a:lnTo>
                    <a:pt x="469" y="795"/>
                  </a:lnTo>
                  <a:lnTo>
                    <a:pt x="450" y="739"/>
                  </a:lnTo>
                  <a:lnTo>
                    <a:pt x="432" y="692"/>
                  </a:lnTo>
                  <a:lnTo>
                    <a:pt x="425" y="671"/>
                  </a:lnTo>
                  <a:lnTo>
                    <a:pt x="417" y="654"/>
                  </a:lnTo>
                  <a:lnTo>
                    <a:pt x="409" y="638"/>
                  </a:lnTo>
                  <a:lnTo>
                    <a:pt x="401" y="625"/>
                  </a:lnTo>
                  <a:lnTo>
                    <a:pt x="393" y="613"/>
                  </a:lnTo>
                  <a:lnTo>
                    <a:pt x="385" y="601"/>
                  </a:lnTo>
                  <a:lnTo>
                    <a:pt x="377" y="590"/>
                  </a:lnTo>
                  <a:lnTo>
                    <a:pt x="369" y="580"/>
                  </a:lnTo>
                  <a:lnTo>
                    <a:pt x="360" y="569"/>
                  </a:lnTo>
                  <a:lnTo>
                    <a:pt x="351" y="559"/>
                  </a:lnTo>
                  <a:lnTo>
                    <a:pt x="342" y="549"/>
                  </a:lnTo>
                  <a:lnTo>
                    <a:pt x="332" y="541"/>
                  </a:lnTo>
                  <a:lnTo>
                    <a:pt x="233" y="1017"/>
                  </a:lnTo>
                  <a:lnTo>
                    <a:pt x="43" y="1017"/>
                  </a:lnTo>
                  <a:lnTo>
                    <a:pt x="119" y="676"/>
                  </a:lnTo>
                  <a:lnTo>
                    <a:pt x="190" y="362"/>
                  </a:lnTo>
                  <a:lnTo>
                    <a:pt x="206" y="270"/>
                  </a:lnTo>
                  <a:lnTo>
                    <a:pt x="211" y="241"/>
                  </a:lnTo>
                  <a:lnTo>
                    <a:pt x="212" y="230"/>
                  </a:lnTo>
                  <a:lnTo>
                    <a:pt x="212" y="223"/>
                  </a:lnTo>
                  <a:lnTo>
                    <a:pt x="212" y="221"/>
                  </a:lnTo>
                  <a:lnTo>
                    <a:pt x="212" y="220"/>
                  </a:lnTo>
                  <a:lnTo>
                    <a:pt x="212" y="220"/>
                  </a:lnTo>
                  <a:lnTo>
                    <a:pt x="212" y="220"/>
                  </a:lnTo>
                  <a:lnTo>
                    <a:pt x="212" y="220"/>
                  </a:lnTo>
                  <a:lnTo>
                    <a:pt x="212" y="219"/>
                  </a:lnTo>
                  <a:lnTo>
                    <a:pt x="212" y="219"/>
                  </a:lnTo>
                  <a:lnTo>
                    <a:pt x="212" y="219"/>
                  </a:lnTo>
                  <a:lnTo>
                    <a:pt x="212" y="219"/>
                  </a:lnTo>
                  <a:lnTo>
                    <a:pt x="212" y="219"/>
                  </a:lnTo>
                  <a:lnTo>
                    <a:pt x="212" y="219"/>
                  </a:lnTo>
                  <a:lnTo>
                    <a:pt x="211" y="219"/>
                  </a:lnTo>
                  <a:lnTo>
                    <a:pt x="211" y="219"/>
                  </a:lnTo>
                  <a:lnTo>
                    <a:pt x="211" y="219"/>
                  </a:lnTo>
                  <a:lnTo>
                    <a:pt x="211" y="219"/>
                  </a:lnTo>
                  <a:lnTo>
                    <a:pt x="211" y="219"/>
                  </a:lnTo>
                  <a:lnTo>
                    <a:pt x="211" y="219"/>
                  </a:lnTo>
                  <a:lnTo>
                    <a:pt x="209" y="219"/>
                  </a:lnTo>
                  <a:lnTo>
                    <a:pt x="207" y="219"/>
                  </a:lnTo>
                  <a:lnTo>
                    <a:pt x="201" y="221"/>
                  </a:lnTo>
                  <a:lnTo>
                    <a:pt x="195" y="224"/>
                  </a:lnTo>
                  <a:lnTo>
                    <a:pt x="190" y="228"/>
                  </a:lnTo>
                  <a:lnTo>
                    <a:pt x="174" y="239"/>
                  </a:lnTo>
                  <a:lnTo>
                    <a:pt x="155" y="253"/>
                  </a:lnTo>
                  <a:lnTo>
                    <a:pt x="133" y="272"/>
                  </a:lnTo>
                  <a:lnTo>
                    <a:pt x="110" y="295"/>
                  </a:lnTo>
                  <a:lnTo>
                    <a:pt x="51" y="353"/>
                  </a:lnTo>
                  <a:lnTo>
                    <a:pt x="0" y="292"/>
                  </a:lnTo>
                  <a:lnTo>
                    <a:pt x="27" y="258"/>
                  </a:lnTo>
                  <a:lnTo>
                    <a:pt x="54" y="228"/>
                  </a:lnTo>
                  <a:lnTo>
                    <a:pt x="81" y="200"/>
                  </a:lnTo>
                  <a:lnTo>
                    <a:pt x="107" y="174"/>
                  </a:lnTo>
                  <a:lnTo>
                    <a:pt x="133" y="151"/>
                  </a:lnTo>
                  <a:lnTo>
                    <a:pt x="159" y="131"/>
                  </a:lnTo>
                  <a:lnTo>
                    <a:pt x="185" y="114"/>
                  </a:lnTo>
                  <a:lnTo>
                    <a:pt x="210" y="99"/>
                  </a:lnTo>
                  <a:lnTo>
                    <a:pt x="258" y="75"/>
                  </a:lnTo>
                  <a:lnTo>
                    <a:pt x="279" y="65"/>
                  </a:lnTo>
                  <a:lnTo>
                    <a:pt x="299" y="58"/>
                  </a:lnTo>
                  <a:lnTo>
                    <a:pt x="317" y="51"/>
                  </a:lnTo>
                  <a:lnTo>
                    <a:pt x="334" y="47"/>
                  </a:lnTo>
                  <a:lnTo>
                    <a:pt x="349" y="45"/>
                  </a:lnTo>
                  <a:lnTo>
                    <a:pt x="355" y="44"/>
                  </a:lnTo>
                  <a:lnTo>
                    <a:pt x="361" y="44"/>
                  </a:lnTo>
                  <a:lnTo>
                    <a:pt x="369" y="44"/>
                  </a:lnTo>
                  <a:lnTo>
                    <a:pt x="376" y="45"/>
                  </a:lnTo>
                  <a:lnTo>
                    <a:pt x="382" y="46"/>
                  </a:lnTo>
                  <a:lnTo>
                    <a:pt x="389" y="47"/>
                  </a:lnTo>
                  <a:lnTo>
                    <a:pt x="394" y="49"/>
                  </a:lnTo>
                  <a:lnTo>
                    <a:pt x="399" y="51"/>
                  </a:lnTo>
                  <a:lnTo>
                    <a:pt x="404" y="54"/>
                  </a:lnTo>
                  <a:lnTo>
                    <a:pt x="408" y="58"/>
                  </a:lnTo>
                  <a:lnTo>
                    <a:pt x="412" y="61"/>
                  </a:lnTo>
                  <a:lnTo>
                    <a:pt x="415" y="65"/>
                  </a:lnTo>
                  <a:lnTo>
                    <a:pt x="418" y="69"/>
                  </a:lnTo>
                  <a:lnTo>
                    <a:pt x="420" y="75"/>
                  </a:lnTo>
                  <a:lnTo>
                    <a:pt x="422" y="80"/>
                  </a:lnTo>
                  <a:lnTo>
                    <a:pt x="423" y="87"/>
                  </a:lnTo>
                  <a:lnTo>
                    <a:pt x="424" y="93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3" y="110"/>
                  </a:lnTo>
                  <a:lnTo>
                    <a:pt x="420" y="128"/>
                  </a:lnTo>
                  <a:lnTo>
                    <a:pt x="410" y="181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9960" y="2595600"/>
              <a:ext cx="279360" cy="361800"/>
            </a:xfrm>
            <a:custGeom>
              <a:avLst/>
              <a:gdLst/>
              <a:ahLst/>
              <a:rect l="l" t="t" r="r" b="b"/>
              <a:pathLst>
                <a:path w="774" h="1004">
                  <a:moveTo>
                    <a:pt x="521" y="0"/>
                  </a:moveTo>
                  <a:lnTo>
                    <a:pt x="535" y="0"/>
                  </a:lnTo>
                  <a:lnTo>
                    <a:pt x="548" y="1"/>
                  </a:lnTo>
                  <a:lnTo>
                    <a:pt x="561" y="3"/>
                  </a:lnTo>
                  <a:lnTo>
                    <a:pt x="573" y="5"/>
                  </a:lnTo>
                  <a:lnTo>
                    <a:pt x="585" y="8"/>
                  </a:lnTo>
                  <a:lnTo>
                    <a:pt x="597" y="13"/>
                  </a:lnTo>
                  <a:lnTo>
                    <a:pt x="609" y="18"/>
                  </a:lnTo>
                  <a:lnTo>
                    <a:pt x="620" y="23"/>
                  </a:lnTo>
                  <a:lnTo>
                    <a:pt x="632" y="29"/>
                  </a:lnTo>
                  <a:lnTo>
                    <a:pt x="643" y="36"/>
                  </a:lnTo>
                  <a:lnTo>
                    <a:pt x="653" y="44"/>
                  </a:lnTo>
                  <a:lnTo>
                    <a:pt x="663" y="53"/>
                  </a:lnTo>
                  <a:lnTo>
                    <a:pt x="673" y="61"/>
                  </a:lnTo>
                  <a:lnTo>
                    <a:pt x="682" y="71"/>
                  </a:lnTo>
                  <a:lnTo>
                    <a:pt x="701" y="92"/>
                  </a:lnTo>
                  <a:lnTo>
                    <a:pt x="710" y="104"/>
                  </a:lnTo>
                  <a:lnTo>
                    <a:pt x="718" y="117"/>
                  </a:lnTo>
                  <a:lnTo>
                    <a:pt x="726" y="130"/>
                  </a:lnTo>
                  <a:lnTo>
                    <a:pt x="733" y="143"/>
                  </a:lnTo>
                  <a:lnTo>
                    <a:pt x="745" y="172"/>
                  </a:lnTo>
                  <a:lnTo>
                    <a:pt x="755" y="204"/>
                  </a:lnTo>
                  <a:lnTo>
                    <a:pt x="763" y="236"/>
                  </a:lnTo>
                  <a:lnTo>
                    <a:pt x="768" y="271"/>
                  </a:lnTo>
                  <a:lnTo>
                    <a:pt x="772" y="308"/>
                  </a:lnTo>
                  <a:lnTo>
                    <a:pt x="773" y="347"/>
                  </a:lnTo>
                  <a:lnTo>
                    <a:pt x="770" y="410"/>
                  </a:lnTo>
                  <a:lnTo>
                    <a:pt x="763" y="470"/>
                  </a:lnTo>
                  <a:lnTo>
                    <a:pt x="750" y="529"/>
                  </a:lnTo>
                  <a:lnTo>
                    <a:pt x="733" y="586"/>
                  </a:lnTo>
                  <a:lnTo>
                    <a:pt x="709" y="642"/>
                  </a:lnTo>
                  <a:lnTo>
                    <a:pt x="681" y="696"/>
                  </a:lnTo>
                  <a:lnTo>
                    <a:pt x="648" y="749"/>
                  </a:lnTo>
                  <a:lnTo>
                    <a:pt x="609" y="801"/>
                  </a:lnTo>
                  <a:lnTo>
                    <a:pt x="568" y="848"/>
                  </a:lnTo>
                  <a:lnTo>
                    <a:pt x="526" y="889"/>
                  </a:lnTo>
                  <a:lnTo>
                    <a:pt x="484" y="924"/>
                  </a:lnTo>
                  <a:lnTo>
                    <a:pt x="462" y="939"/>
                  </a:lnTo>
                  <a:lnTo>
                    <a:pt x="440" y="952"/>
                  </a:lnTo>
                  <a:lnTo>
                    <a:pt x="419" y="964"/>
                  </a:lnTo>
                  <a:lnTo>
                    <a:pt x="397" y="975"/>
                  </a:lnTo>
                  <a:lnTo>
                    <a:pt x="374" y="983"/>
                  </a:lnTo>
                  <a:lnTo>
                    <a:pt x="351" y="990"/>
                  </a:lnTo>
                  <a:lnTo>
                    <a:pt x="330" y="995"/>
                  </a:lnTo>
                  <a:lnTo>
                    <a:pt x="307" y="999"/>
                  </a:lnTo>
                  <a:lnTo>
                    <a:pt x="283" y="1002"/>
                  </a:lnTo>
                  <a:lnTo>
                    <a:pt x="261" y="1003"/>
                  </a:lnTo>
                  <a:lnTo>
                    <a:pt x="232" y="1002"/>
                  </a:lnTo>
                  <a:lnTo>
                    <a:pt x="205" y="997"/>
                  </a:lnTo>
                  <a:lnTo>
                    <a:pt x="192" y="994"/>
                  </a:lnTo>
                  <a:lnTo>
                    <a:pt x="180" y="991"/>
                  </a:lnTo>
                  <a:lnTo>
                    <a:pt x="167" y="987"/>
                  </a:lnTo>
                  <a:lnTo>
                    <a:pt x="155" y="982"/>
                  </a:lnTo>
                  <a:lnTo>
                    <a:pt x="143" y="976"/>
                  </a:lnTo>
                  <a:lnTo>
                    <a:pt x="132" y="970"/>
                  </a:lnTo>
                  <a:lnTo>
                    <a:pt x="121" y="963"/>
                  </a:lnTo>
                  <a:lnTo>
                    <a:pt x="111" y="955"/>
                  </a:lnTo>
                  <a:lnTo>
                    <a:pt x="101" y="948"/>
                  </a:lnTo>
                  <a:lnTo>
                    <a:pt x="91" y="938"/>
                  </a:lnTo>
                  <a:lnTo>
                    <a:pt x="81" y="928"/>
                  </a:lnTo>
                  <a:lnTo>
                    <a:pt x="72" y="919"/>
                  </a:lnTo>
                  <a:lnTo>
                    <a:pt x="63" y="908"/>
                  </a:lnTo>
                  <a:lnTo>
                    <a:pt x="55" y="897"/>
                  </a:lnTo>
                  <a:lnTo>
                    <a:pt x="47" y="885"/>
                  </a:lnTo>
                  <a:lnTo>
                    <a:pt x="40" y="873"/>
                  </a:lnTo>
                  <a:lnTo>
                    <a:pt x="34" y="861"/>
                  </a:lnTo>
                  <a:lnTo>
                    <a:pt x="28" y="848"/>
                  </a:lnTo>
                  <a:lnTo>
                    <a:pt x="23" y="834"/>
                  </a:lnTo>
                  <a:lnTo>
                    <a:pt x="18" y="820"/>
                  </a:lnTo>
                  <a:lnTo>
                    <a:pt x="10" y="791"/>
                  </a:lnTo>
                  <a:lnTo>
                    <a:pt x="5" y="761"/>
                  </a:lnTo>
                  <a:lnTo>
                    <a:pt x="1" y="728"/>
                  </a:lnTo>
                  <a:lnTo>
                    <a:pt x="0" y="693"/>
                  </a:lnTo>
                  <a:lnTo>
                    <a:pt x="2" y="634"/>
                  </a:lnTo>
                  <a:lnTo>
                    <a:pt x="8" y="577"/>
                  </a:lnTo>
                  <a:lnTo>
                    <a:pt x="17" y="521"/>
                  </a:lnTo>
                  <a:lnTo>
                    <a:pt x="31" y="467"/>
                  </a:lnTo>
                  <a:lnTo>
                    <a:pt x="47" y="414"/>
                  </a:lnTo>
                  <a:lnTo>
                    <a:pt x="68" y="363"/>
                  </a:lnTo>
                  <a:lnTo>
                    <a:pt x="93" y="314"/>
                  </a:lnTo>
                  <a:lnTo>
                    <a:pt x="121" y="266"/>
                  </a:lnTo>
                  <a:lnTo>
                    <a:pt x="163" y="204"/>
                  </a:lnTo>
                  <a:lnTo>
                    <a:pt x="185" y="175"/>
                  </a:lnTo>
                  <a:lnTo>
                    <a:pt x="207" y="150"/>
                  </a:lnTo>
                  <a:lnTo>
                    <a:pt x="230" y="126"/>
                  </a:lnTo>
                  <a:lnTo>
                    <a:pt x="254" y="103"/>
                  </a:lnTo>
                  <a:lnTo>
                    <a:pt x="277" y="84"/>
                  </a:lnTo>
                  <a:lnTo>
                    <a:pt x="302" y="67"/>
                  </a:lnTo>
                  <a:lnTo>
                    <a:pt x="328" y="50"/>
                  </a:lnTo>
                  <a:lnTo>
                    <a:pt x="353" y="37"/>
                  </a:lnTo>
                  <a:lnTo>
                    <a:pt x="380" y="26"/>
                  </a:lnTo>
                  <a:lnTo>
                    <a:pt x="407" y="16"/>
                  </a:lnTo>
                  <a:lnTo>
                    <a:pt x="434" y="9"/>
                  </a:lnTo>
                  <a:lnTo>
                    <a:pt x="463" y="4"/>
                  </a:lnTo>
                  <a:lnTo>
                    <a:pt x="492" y="1"/>
                  </a:lnTo>
                  <a:close/>
                  <a:moveTo>
                    <a:pt x="435" y="127"/>
                  </a:moveTo>
                  <a:lnTo>
                    <a:pt x="427" y="127"/>
                  </a:lnTo>
                  <a:lnTo>
                    <a:pt x="417" y="129"/>
                  </a:lnTo>
                  <a:lnTo>
                    <a:pt x="408" y="131"/>
                  </a:lnTo>
                  <a:lnTo>
                    <a:pt x="398" y="135"/>
                  </a:lnTo>
                  <a:lnTo>
                    <a:pt x="389" y="139"/>
                  </a:lnTo>
                  <a:lnTo>
                    <a:pt x="380" y="144"/>
                  </a:lnTo>
                  <a:lnTo>
                    <a:pt x="370" y="151"/>
                  </a:lnTo>
                  <a:lnTo>
                    <a:pt x="361" y="158"/>
                  </a:lnTo>
                  <a:lnTo>
                    <a:pt x="351" y="167"/>
                  </a:lnTo>
                  <a:lnTo>
                    <a:pt x="343" y="177"/>
                  </a:lnTo>
                  <a:lnTo>
                    <a:pt x="324" y="198"/>
                  </a:lnTo>
                  <a:lnTo>
                    <a:pt x="305" y="224"/>
                  </a:lnTo>
                  <a:lnTo>
                    <a:pt x="286" y="253"/>
                  </a:lnTo>
                  <a:lnTo>
                    <a:pt x="277" y="269"/>
                  </a:lnTo>
                  <a:lnTo>
                    <a:pt x="269" y="287"/>
                  </a:lnTo>
                  <a:lnTo>
                    <a:pt x="254" y="323"/>
                  </a:lnTo>
                  <a:lnTo>
                    <a:pt x="241" y="362"/>
                  </a:lnTo>
                  <a:lnTo>
                    <a:pt x="230" y="405"/>
                  </a:lnTo>
                  <a:lnTo>
                    <a:pt x="222" y="452"/>
                  </a:lnTo>
                  <a:lnTo>
                    <a:pt x="216" y="501"/>
                  </a:lnTo>
                  <a:lnTo>
                    <a:pt x="212" y="553"/>
                  </a:lnTo>
                  <a:lnTo>
                    <a:pt x="211" y="609"/>
                  </a:lnTo>
                  <a:lnTo>
                    <a:pt x="212" y="642"/>
                  </a:lnTo>
                  <a:lnTo>
                    <a:pt x="214" y="674"/>
                  </a:lnTo>
                  <a:lnTo>
                    <a:pt x="217" y="704"/>
                  </a:lnTo>
                  <a:lnTo>
                    <a:pt x="222" y="731"/>
                  </a:lnTo>
                  <a:lnTo>
                    <a:pt x="229" y="757"/>
                  </a:lnTo>
                  <a:lnTo>
                    <a:pt x="237" y="781"/>
                  </a:lnTo>
                  <a:lnTo>
                    <a:pt x="246" y="802"/>
                  </a:lnTo>
                  <a:lnTo>
                    <a:pt x="251" y="813"/>
                  </a:lnTo>
                  <a:lnTo>
                    <a:pt x="257" y="823"/>
                  </a:lnTo>
                  <a:lnTo>
                    <a:pt x="261" y="829"/>
                  </a:lnTo>
                  <a:lnTo>
                    <a:pt x="265" y="834"/>
                  </a:lnTo>
                  <a:lnTo>
                    <a:pt x="269" y="840"/>
                  </a:lnTo>
                  <a:lnTo>
                    <a:pt x="273" y="844"/>
                  </a:lnTo>
                  <a:lnTo>
                    <a:pt x="277" y="848"/>
                  </a:lnTo>
                  <a:lnTo>
                    <a:pt x="281" y="853"/>
                  </a:lnTo>
                  <a:lnTo>
                    <a:pt x="286" y="857"/>
                  </a:lnTo>
                  <a:lnTo>
                    <a:pt x="291" y="860"/>
                  </a:lnTo>
                  <a:lnTo>
                    <a:pt x="296" y="862"/>
                  </a:lnTo>
                  <a:lnTo>
                    <a:pt x="301" y="866"/>
                  </a:lnTo>
                  <a:lnTo>
                    <a:pt x="307" y="868"/>
                  </a:lnTo>
                  <a:lnTo>
                    <a:pt x="312" y="869"/>
                  </a:lnTo>
                  <a:lnTo>
                    <a:pt x="318" y="870"/>
                  </a:lnTo>
                  <a:lnTo>
                    <a:pt x="324" y="871"/>
                  </a:lnTo>
                  <a:lnTo>
                    <a:pt x="330" y="872"/>
                  </a:lnTo>
                  <a:lnTo>
                    <a:pt x="336" y="872"/>
                  </a:lnTo>
                  <a:lnTo>
                    <a:pt x="345" y="872"/>
                  </a:lnTo>
                  <a:lnTo>
                    <a:pt x="353" y="870"/>
                  </a:lnTo>
                  <a:lnTo>
                    <a:pt x="363" y="868"/>
                  </a:lnTo>
                  <a:lnTo>
                    <a:pt x="372" y="865"/>
                  </a:lnTo>
                  <a:lnTo>
                    <a:pt x="381" y="861"/>
                  </a:lnTo>
                  <a:lnTo>
                    <a:pt x="391" y="856"/>
                  </a:lnTo>
                  <a:lnTo>
                    <a:pt x="400" y="851"/>
                  </a:lnTo>
                  <a:lnTo>
                    <a:pt x="410" y="844"/>
                  </a:lnTo>
                  <a:lnTo>
                    <a:pt x="419" y="837"/>
                  </a:lnTo>
                  <a:lnTo>
                    <a:pt x="428" y="828"/>
                  </a:lnTo>
                  <a:lnTo>
                    <a:pt x="446" y="809"/>
                  </a:lnTo>
                  <a:lnTo>
                    <a:pt x="465" y="785"/>
                  </a:lnTo>
                  <a:lnTo>
                    <a:pt x="484" y="758"/>
                  </a:lnTo>
                  <a:lnTo>
                    <a:pt x="502" y="723"/>
                  </a:lnTo>
                  <a:lnTo>
                    <a:pt x="516" y="687"/>
                  </a:lnTo>
                  <a:lnTo>
                    <a:pt x="529" y="647"/>
                  </a:lnTo>
                  <a:lnTo>
                    <a:pt x="539" y="605"/>
                  </a:lnTo>
                  <a:lnTo>
                    <a:pt x="547" y="561"/>
                  </a:lnTo>
                  <a:lnTo>
                    <a:pt x="553" y="513"/>
                  </a:lnTo>
                  <a:lnTo>
                    <a:pt x="557" y="463"/>
                  </a:lnTo>
                  <a:lnTo>
                    <a:pt x="558" y="412"/>
                  </a:lnTo>
                  <a:lnTo>
                    <a:pt x="557" y="374"/>
                  </a:lnTo>
                  <a:lnTo>
                    <a:pt x="556" y="338"/>
                  </a:lnTo>
                  <a:lnTo>
                    <a:pt x="553" y="306"/>
                  </a:lnTo>
                  <a:lnTo>
                    <a:pt x="549" y="277"/>
                  </a:lnTo>
                  <a:lnTo>
                    <a:pt x="544" y="251"/>
                  </a:lnTo>
                  <a:lnTo>
                    <a:pt x="537" y="228"/>
                  </a:lnTo>
                  <a:lnTo>
                    <a:pt x="534" y="218"/>
                  </a:lnTo>
                  <a:lnTo>
                    <a:pt x="530" y="208"/>
                  </a:lnTo>
                  <a:lnTo>
                    <a:pt x="526" y="199"/>
                  </a:lnTo>
                  <a:lnTo>
                    <a:pt x="521" y="191"/>
                  </a:lnTo>
                  <a:lnTo>
                    <a:pt x="511" y="175"/>
                  </a:lnTo>
                  <a:lnTo>
                    <a:pt x="503" y="163"/>
                  </a:lnTo>
                  <a:lnTo>
                    <a:pt x="497" y="157"/>
                  </a:lnTo>
                  <a:lnTo>
                    <a:pt x="492" y="152"/>
                  </a:lnTo>
                  <a:lnTo>
                    <a:pt x="487" y="147"/>
                  </a:lnTo>
                  <a:lnTo>
                    <a:pt x="482" y="143"/>
                  </a:lnTo>
                  <a:lnTo>
                    <a:pt x="476" y="139"/>
                  </a:lnTo>
                  <a:lnTo>
                    <a:pt x="470" y="136"/>
                  </a:lnTo>
                  <a:lnTo>
                    <a:pt x="465" y="133"/>
                  </a:lnTo>
                  <a:lnTo>
                    <a:pt x="459" y="131"/>
                  </a:lnTo>
                  <a:lnTo>
                    <a:pt x="453" y="129"/>
                  </a:lnTo>
                  <a:lnTo>
                    <a:pt x="447" y="128"/>
                  </a:lnTo>
                  <a:lnTo>
                    <a:pt x="441" y="127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0240" y="2595600"/>
              <a:ext cx="377640" cy="360360"/>
            </a:xfrm>
            <a:custGeom>
              <a:avLst/>
              <a:gdLst/>
              <a:ahLst/>
              <a:rect l="l" t="t" r="r" b="b"/>
              <a:pathLst>
                <a:path w="1048" h="1001">
                  <a:moveTo>
                    <a:pt x="1047" y="756"/>
                  </a:moveTo>
                  <a:lnTo>
                    <a:pt x="998" y="813"/>
                  </a:lnTo>
                  <a:lnTo>
                    <a:pt x="951" y="863"/>
                  </a:lnTo>
                  <a:lnTo>
                    <a:pt x="907" y="905"/>
                  </a:lnTo>
                  <a:lnTo>
                    <a:pt x="866" y="939"/>
                  </a:lnTo>
                  <a:lnTo>
                    <a:pt x="845" y="953"/>
                  </a:lnTo>
                  <a:lnTo>
                    <a:pt x="826" y="965"/>
                  </a:lnTo>
                  <a:lnTo>
                    <a:pt x="807" y="976"/>
                  </a:lnTo>
                  <a:lnTo>
                    <a:pt x="789" y="984"/>
                  </a:lnTo>
                  <a:lnTo>
                    <a:pt x="772" y="991"/>
                  </a:lnTo>
                  <a:lnTo>
                    <a:pt x="754" y="995"/>
                  </a:lnTo>
                  <a:lnTo>
                    <a:pt x="738" y="998"/>
                  </a:lnTo>
                  <a:lnTo>
                    <a:pt x="722" y="1000"/>
                  </a:lnTo>
                  <a:lnTo>
                    <a:pt x="717" y="1000"/>
                  </a:lnTo>
                  <a:lnTo>
                    <a:pt x="713" y="998"/>
                  </a:lnTo>
                  <a:lnTo>
                    <a:pt x="708" y="998"/>
                  </a:lnTo>
                  <a:lnTo>
                    <a:pt x="703" y="997"/>
                  </a:lnTo>
                  <a:lnTo>
                    <a:pt x="698" y="996"/>
                  </a:lnTo>
                  <a:lnTo>
                    <a:pt x="693" y="994"/>
                  </a:lnTo>
                  <a:lnTo>
                    <a:pt x="689" y="992"/>
                  </a:lnTo>
                  <a:lnTo>
                    <a:pt x="684" y="990"/>
                  </a:lnTo>
                  <a:lnTo>
                    <a:pt x="674" y="984"/>
                  </a:lnTo>
                  <a:lnTo>
                    <a:pt x="665" y="978"/>
                  </a:lnTo>
                  <a:lnTo>
                    <a:pt x="656" y="970"/>
                  </a:lnTo>
                  <a:lnTo>
                    <a:pt x="647" y="962"/>
                  </a:lnTo>
                  <a:lnTo>
                    <a:pt x="643" y="956"/>
                  </a:lnTo>
                  <a:lnTo>
                    <a:pt x="639" y="951"/>
                  </a:lnTo>
                  <a:lnTo>
                    <a:pt x="636" y="943"/>
                  </a:lnTo>
                  <a:lnTo>
                    <a:pt x="632" y="936"/>
                  </a:lnTo>
                  <a:lnTo>
                    <a:pt x="629" y="927"/>
                  </a:lnTo>
                  <a:lnTo>
                    <a:pt x="625" y="919"/>
                  </a:lnTo>
                  <a:lnTo>
                    <a:pt x="619" y="898"/>
                  </a:lnTo>
                  <a:lnTo>
                    <a:pt x="613" y="873"/>
                  </a:lnTo>
                  <a:lnTo>
                    <a:pt x="608" y="846"/>
                  </a:lnTo>
                  <a:lnTo>
                    <a:pt x="604" y="815"/>
                  </a:lnTo>
                  <a:lnTo>
                    <a:pt x="601" y="782"/>
                  </a:lnTo>
                  <a:lnTo>
                    <a:pt x="568" y="341"/>
                  </a:lnTo>
                  <a:lnTo>
                    <a:pt x="512" y="529"/>
                  </a:lnTo>
                  <a:lnTo>
                    <a:pt x="484" y="610"/>
                  </a:lnTo>
                  <a:lnTo>
                    <a:pt x="457" y="682"/>
                  </a:lnTo>
                  <a:lnTo>
                    <a:pt x="430" y="745"/>
                  </a:lnTo>
                  <a:lnTo>
                    <a:pt x="405" y="798"/>
                  </a:lnTo>
                  <a:lnTo>
                    <a:pt x="379" y="842"/>
                  </a:lnTo>
                  <a:lnTo>
                    <a:pt x="366" y="861"/>
                  </a:lnTo>
                  <a:lnTo>
                    <a:pt x="353" y="878"/>
                  </a:lnTo>
                  <a:lnTo>
                    <a:pt x="328" y="906"/>
                  </a:lnTo>
                  <a:lnTo>
                    <a:pt x="302" y="931"/>
                  </a:lnTo>
                  <a:lnTo>
                    <a:pt x="275" y="952"/>
                  </a:lnTo>
                  <a:lnTo>
                    <a:pt x="261" y="961"/>
                  </a:lnTo>
                  <a:lnTo>
                    <a:pt x="248" y="969"/>
                  </a:lnTo>
                  <a:lnTo>
                    <a:pt x="234" y="976"/>
                  </a:lnTo>
                  <a:lnTo>
                    <a:pt x="219" y="982"/>
                  </a:lnTo>
                  <a:lnTo>
                    <a:pt x="205" y="988"/>
                  </a:lnTo>
                  <a:lnTo>
                    <a:pt x="190" y="992"/>
                  </a:lnTo>
                  <a:lnTo>
                    <a:pt x="175" y="995"/>
                  </a:lnTo>
                  <a:lnTo>
                    <a:pt x="161" y="997"/>
                  </a:lnTo>
                  <a:lnTo>
                    <a:pt x="145" y="1000"/>
                  </a:lnTo>
                  <a:lnTo>
                    <a:pt x="130" y="1000"/>
                  </a:lnTo>
                  <a:lnTo>
                    <a:pt x="116" y="1000"/>
                  </a:lnTo>
                  <a:lnTo>
                    <a:pt x="103" y="997"/>
                  </a:lnTo>
                  <a:lnTo>
                    <a:pt x="91" y="995"/>
                  </a:lnTo>
                  <a:lnTo>
                    <a:pt x="79" y="991"/>
                  </a:lnTo>
                  <a:lnTo>
                    <a:pt x="68" y="987"/>
                  </a:lnTo>
                  <a:lnTo>
                    <a:pt x="57" y="981"/>
                  </a:lnTo>
                  <a:lnTo>
                    <a:pt x="47" y="974"/>
                  </a:lnTo>
                  <a:lnTo>
                    <a:pt x="37" y="966"/>
                  </a:lnTo>
                  <a:lnTo>
                    <a:pt x="32" y="962"/>
                  </a:lnTo>
                  <a:lnTo>
                    <a:pt x="28" y="957"/>
                  </a:lnTo>
                  <a:lnTo>
                    <a:pt x="24" y="952"/>
                  </a:lnTo>
                  <a:lnTo>
                    <a:pt x="21" y="948"/>
                  </a:lnTo>
                  <a:lnTo>
                    <a:pt x="17" y="942"/>
                  </a:lnTo>
                  <a:lnTo>
                    <a:pt x="15" y="937"/>
                  </a:lnTo>
                  <a:lnTo>
                    <a:pt x="12" y="932"/>
                  </a:lnTo>
                  <a:lnTo>
                    <a:pt x="10" y="926"/>
                  </a:lnTo>
                  <a:lnTo>
                    <a:pt x="7" y="921"/>
                  </a:lnTo>
                  <a:lnTo>
                    <a:pt x="5" y="914"/>
                  </a:lnTo>
                  <a:lnTo>
                    <a:pt x="4" y="908"/>
                  </a:lnTo>
                  <a:lnTo>
                    <a:pt x="2" y="902"/>
                  </a:lnTo>
                  <a:lnTo>
                    <a:pt x="1" y="895"/>
                  </a:lnTo>
                  <a:lnTo>
                    <a:pt x="1" y="888"/>
                  </a:lnTo>
                  <a:lnTo>
                    <a:pt x="0" y="874"/>
                  </a:lnTo>
                  <a:lnTo>
                    <a:pt x="1" y="861"/>
                  </a:lnTo>
                  <a:lnTo>
                    <a:pt x="2" y="849"/>
                  </a:lnTo>
                  <a:lnTo>
                    <a:pt x="5" y="837"/>
                  </a:lnTo>
                  <a:lnTo>
                    <a:pt x="6" y="831"/>
                  </a:lnTo>
                  <a:lnTo>
                    <a:pt x="8" y="826"/>
                  </a:lnTo>
                  <a:lnTo>
                    <a:pt x="10" y="821"/>
                  </a:lnTo>
                  <a:lnTo>
                    <a:pt x="13" y="815"/>
                  </a:lnTo>
                  <a:lnTo>
                    <a:pt x="15" y="810"/>
                  </a:lnTo>
                  <a:lnTo>
                    <a:pt x="17" y="805"/>
                  </a:lnTo>
                  <a:lnTo>
                    <a:pt x="20" y="800"/>
                  </a:lnTo>
                  <a:lnTo>
                    <a:pt x="24" y="796"/>
                  </a:lnTo>
                  <a:lnTo>
                    <a:pt x="31" y="787"/>
                  </a:lnTo>
                  <a:lnTo>
                    <a:pt x="39" y="780"/>
                  </a:lnTo>
                  <a:lnTo>
                    <a:pt x="48" y="772"/>
                  </a:lnTo>
                  <a:lnTo>
                    <a:pt x="57" y="767"/>
                  </a:lnTo>
                  <a:lnTo>
                    <a:pt x="67" y="761"/>
                  </a:lnTo>
                  <a:lnTo>
                    <a:pt x="77" y="758"/>
                  </a:lnTo>
                  <a:lnTo>
                    <a:pt x="87" y="755"/>
                  </a:lnTo>
                  <a:lnTo>
                    <a:pt x="97" y="754"/>
                  </a:lnTo>
                  <a:lnTo>
                    <a:pt x="108" y="753"/>
                  </a:lnTo>
                  <a:lnTo>
                    <a:pt x="114" y="753"/>
                  </a:lnTo>
                  <a:lnTo>
                    <a:pt x="121" y="754"/>
                  </a:lnTo>
                  <a:lnTo>
                    <a:pt x="129" y="756"/>
                  </a:lnTo>
                  <a:lnTo>
                    <a:pt x="137" y="758"/>
                  </a:lnTo>
                  <a:lnTo>
                    <a:pt x="147" y="761"/>
                  </a:lnTo>
                  <a:lnTo>
                    <a:pt x="157" y="764"/>
                  </a:lnTo>
                  <a:lnTo>
                    <a:pt x="179" y="774"/>
                  </a:lnTo>
                  <a:lnTo>
                    <a:pt x="191" y="778"/>
                  </a:lnTo>
                  <a:lnTo>
                    <a:pt x="197" y="780"/>
                  </a:lnTo>
                  <a:lnTo>
                    <a:pt x="202" y="782"/>
                  </a:lnTo>
                  <a:lnTo>
                    <a:pt x="208" y="783"/>
                  </a:lnTo>
                  <a:lnTo>
                    <a:pt x="213" y="783"/>
                  </a:lnTo>
                  <a:lnTo>
                    <a:pt x="217" y="784"/>
                  </a:lnTo>
                  <a:lnTo>
                    <a:pt x="222" y="784"/>
                  </a:lnTo>
                  <a:lnTo>
                    <a:pt x="227" y="784"/>
                  </a:lnTo>
                  <a:lnTo>
                    <a:pt x="233" y="783"/>
                  </a:lnTo>
                  <a:lnTo>
                    <a:pt x="238" y="782"/>
                  </a:lnTo>
                  <a:lnTo>
                    <a:pt x="243" y="781"/>
                  </a:lnTo>
                  <a:lnTo>
                    <a:pt x="249" y="780"/>
                  </a:lnTo>
                  <a:lnTo>
                    <a:pt x="253" y="777"/>
                  </a:lnTo>
                  <a:lnTo>
                    <a:pt x="258" y="774"/>
                  </a:lnTo>
                  <a:lnTo>
                    <a:pt x="264" y="772"/>
                  </a:lnTo>
                  <a:lnTo>
                    <a:pt x="275" y="764"/>
                  </a:lnTo>
                  <a:lnTo>
                    <a:pt x="286" y="757"/>
                  </a:lnTo>
                  <a:lnTo>
                    <a:pt x="297" y="747"/>
                  </a:lnTo>
                  <a:lnTo>
                    <a:pt x="308" y="735"/>
                  </a:lnTo>
                  <a:lnTo>
                    <a:pt x="314" y="729"/>
                  </a:lnTo>
                  <a:lnTo>
                    <a:pt x="320" y="720"/>
                  </a:lnTo>
                  <a:lnTo>
                    <a:pt x="333" y="700"/>
                  </a:lnTo>
                  <a:lnTo>
                    <a:pt x="348" y="672"/>
                  </a:lnTo>
                  <a:lnTo>
                    <a:pt x="365" y="638"/>
                  </a:lnTo>
                  <a:lnTo>
                    <a:pt x="403" y="553"/>
                  </a:lnTo>
                  <a:lnTo>
                    <a:pt x="447" y="444"/>
                  </a:lnTo>
                  <a:lnTo>
                    <a:pt x="519" y="255"/>
                  </a:lnTo>
                  <a:lnTo>
                    <a:pt x="537" y="204"/>
                  </a:lnTo>
                  <a:lnTo>
                    <a:pt x="541" y="187"/>
                  </a:lnTo>
                  <a:lnTo>
                    <a:pt x="543" y="182"/>
                  </a:lnTo>
                  <a:lnTo>
                    <a:pt x="543" y="180"/>
                  </a:lnTo>
                  <a:lnTo>
                    <a:pt x="543" y="179"/>
                  </a:lnTo>
                  <a:lnTo>
                    <a:pt x="543" y="178"/>
                  </a:lnTo>
                  <a:lnTo>
                    <a:pt x="543" y="177"/>
                  </a:lnTo>
                  <a:lnTo>
                    <a:pt x="543" y="174"/>
                  </a:lnTo>
                  <a:lnTo>
                    <a:pt x="542" y="173"/>
                  </a:lnTo>
                  <a:lnTo>
                    <a:pt x="542" y="172"/>
                  </a:lnTo>
                  <a:lnTo>
                    <a:pt x="542" y="171"/>
                  </a:lnTo>
                  <a:lnTo>
                    <a:pt x="541" y="171"/>
                  </a:lnTo>
                  <a:lnTo>
                    <a:pt x="541" y="170"/>
                  </a:lnTo>
                  <a:lnTo>
                    <a:pt x="540" y="169"/>
                  </a:lnTo>
                  <a:lnTo>
                    <a:pt x="540" y="169"/>
                  </a:lnTo>
                  <a:lnTo>
                    <a:pt x="539" y="168"/>
                  </a:lnTo>
                  <a:lnTo>
                    <a:pt x="538" y="168"/>
                  </a:lnTo>
                  <a:lnTo>
                    <a:pt x="538" y="167"/>
                  </a:lnTo>
                  <a:lnTo>
                    <a:pt x="537" y="167"/>
                  </a:lnTo>
                  <a:lnTo>
                    <a:pt x="536" y="167"/>
                  </a:lnTo>
                  <a:lnTo>
                    <a:pt x="535" y="167"/>
                  </a:lnTo>
                  <a:lnTo>
                    <a:pt x="528" y="167"/>
                  </a:lnTo>
                  <a:lnTo>
                    <a:pt x="521" y="169"/>
                  </a:lnTo>
                  <a:lnTo>
                    <a:pt x="513" y="171"/>
                  </a:lnTo>
                  <a:lnTo>
                    <a:pt x="504" y="176"/>
                  </a:lnTo>
                  <a:lnTo>
                    <a:pt x="495" y="180"/>
                  </a:lnTo>
                  <a:lnTo>
                    <a:pt x="485" y="185"/>
                  </a:lnTo>
                  <a:lnTo>
                    <a:pt x="465" y="199"/>
                  </a:lnTo>
                  <a:lnTo>
                    <a:pt x="441" y="218"/>
                  </a:lnTo>
                  <a:lnTo>
                    <a:pt x="414" y="240"/>
                  </a:lnTo>
                  <a:lnTo>
                    <a:pt x="355" y="297"/>
                  </a:lnTo>
                  <a:lnTo>
                    <a:pt x="290" y="237"/>
                  </a:lnTo>
                  <a:lnTo>
                    <a:pt x="344" y="181"/>
                  </a:lnTo>
                  <a:lnTo>
                    <a:pt x="397" y="134"/>
                  </a:lnTo>
                  <a:lnTo>
                    <a:pt x="445" y="93"/>
                  </a:lnTo>
                  <a:lnTo>
                    <a:pt x="489" y="59"/>
                  </a:lnTo>
                  <a:lnTo>
                    <a:pt x="532" y="33"/>
                  </a:lnTo>
                  <a:lnTo>
                    <a:pt x="552" y="22"/>
                  </a:lnTo>
                  <a:lnTo>
                    <a:pt x="570" y="15"/>
                  </a:lnTo>
                  <a:lnTo>
                    <a:pt x="589" y="8"/>
                  </a:lnTo>
                  <a:lnTo>
                    <a:pt x="606" y="3"/>
                  </a:lnTo>
                  <a:lnTo>
                    <a:pt x="623" y="1"/>
                  </a:lnTo>
                  <a:lnTo>
                    <a:pt x="639" y="0"/>
                  </a:lnTo>
                  <a:lnTo>
                    <a:pt x="652" y="1"/>
                  </a:lnTo>
                  <a:lnTo>
                    <a:pt x="664" y="2"/>
                  </a:lnTo>
                  <a:lnTo>
                    <a:pt x="670" y="3"/>
                  </a:lnTo>
                  <a:lnTo>
                    <a:pt x="675" y="5"/>
                  </a:lnTo>
                  <a:lnTo>
                    <a:pt x="680" y="6"/>
                  </a:lnTo>
                  <a:lnTo>
                    <a:pt x="685" y="8"/>
                  </a:lnTo>
                  <a:lnTo>
                    <a:pt x="690" y="12"/>
                  </a:lnTo>
                  <a:lnTo>
                    <a:pt x="694" y="14"/>
                  </a:lnTo>
                  <a:lnTo>
                    <a:pt x="698" y="17"/>
                  </a:lnTo>
                  <a:lnTo>
                    <a:pt x="702" y="20"/>
                  </a:lnTo>
                  <a:lnTo>
                    <a:pt x="705" y="24"/>
                  </a:lnTo>
                  <a:lnTo>
                    <a:pt x="708" y="28"/>
                  </a:lnTo>
                  <a:lnTo>
                    <a:pt x="711" y="32"/>
                  </a:lnTo>
                  <a:lnTo>
                    <a:pt x="713" y="36"/>
                  </a:lnTo>
                  <a:lnTo>
                    <a:pt x="717" y="47"/>
                  </a:lnTo>
                  <a:lnTo>
                    <a:pt x="720" y="59"/>
                  </a:lnTo>
                  <a:lnTo>
                    <a:pt x="723" y="73"/>
                  </a:lnTo>
                  <a:lnTo>
                    <a:pt x="727" y="90"/>
                  </a:lnTo>
                  <a:lnTo>
                    <a:pt x="733" y="129"/>
                  </a:lnTo>
                  <a:lnTo>
                    <a:pt x="738" y="176"/>
                  </a:lnTo>
                  <a:lnTo>
                    <a:pt x="779" y="705"/>
                  </a:lnTo>
                  <a:lnTo>
                    <a:pt x="782" y="735"/>
                  </a:lnTo>
                  <a:lnTo>
                    <a:pt x="786" y="762"/>
                  </a:lnTo>
                  <a:lnTo>
                    <a:pt x="790" y="784"/>
                  </a:lnTo>
                  <a:lnTo>
                    <a:pt x="793" y="794"/>
                  </a:lnTo>
                  <a:lnTo>
                    <a:pt x="795" y="802"/>
                  </a:lnTo>
                  <a:lnTo>
                    <a:pt x="797" y="810"/>
                  </a:lnTo>
                  <a:lnTo>
                    <a:pt x="801" y="816"/>
                  </a:lnTo>
                  <a:lnTo>
                    <a:pt x="804" y="822"/>
                  </a:lnTo>
                  <a:lnTo>
                    <a:pt x="807" y="827"/>
                  </a:lnTo>
                  <a:lnTo>
                    <a:pt x="809" y="828"/>
                  </a:lnTo>
                  <a:lnTo>
                    <a:pt x="811" y="830"/>
                  </a:lnTo>
                  <a:lnTo>
                    <a:pt x="813" y="831"/>
                  </a:lnTo>
                  <a:lnTo>
                    <a:pt x="815" y="832"/>
                  </a:lnTo>
                  <a:lnTo>
                    <a:pt x="817" y="833"/>
                  </a:lnTo>
                  <a:lnTo>
                    <a:pt x="819" y="835"/>
                  </a:lnTo>
                  <a:lnTo>
                    <a:pt x="821" y="835"/>
                  </a:lnTo>
                  <a:lnTo>
                    <a:pt x="823" y="835"/>
                  </a:lnTo>
                  <a:lnTo>
                    <a:pt x="826" y="835"/>
                  </a:lnTo>
                  <a:lnTo>
                    <a:pt x="828" y="833"/>
                  </a:lnTo>
                  <a:lnTo>
                    <a:pt x="832" y="832"/>
                  </a:lnTo>
                  <a:lnTo>
                    <a:pt x="835" y="831"/>
                  </a:lnTo>
                  <a:lnTo>
                    <a:pt x="839" y="829"/>
                  </a:lnTo>
                  <a:lnTo>
                    <a:pt x="843" y="827"/>
                  </a:lnTo>
                  <a:lnTo>
                    <a:pt x="852" y="821"/>
                  </a:lnTo>
                  <a:lnTo>
                    <a:pt x="862" y="813"/>
                  </a:lnTo>
                  <a:lnTo>
                    <a:pt x="873" y="803"/>
                  </a:lnTo>
                  <a:lnTo>
                    <a:pt x="899" y="778"/>
                  </a:lnTo>
                  <a:lnTo>
                    <a:pt x="930" y="749"/>
                  </a:lnTo>
                  <a:lnTo>
                    <a:pt x="957" y="726"/>
                  </a:lnTo>
                  <a:lnTo>
                    <a:pt x="970" y="715"/>
                  </a:lnTo>
                  <a:lnTo>
                    <a:pt x="982" y="706"/>
                  </a:lnTo>
                  <a:lnTo>
                    <a:pt x="993" y="699"/>
                  </a:lnTo>
                  <a:lnTo>
                    <a:pt x="1004" y="692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27360" y="2583000"/>
              <a:ext cx="312840" cy="374400"/>
            </a:xfrm>
            <a:custGeom>
              <a:avLst/>
              <a:gdLst/>
              <a:ahLst/>
              <a:rect l="l" t="t" r="r" b="b"/>
              <a:pathLst>
                <a:path w="867" h="1039">
                  <a:moveTo>
                    <a:pt x="719" y="19"/>
                  </a:moveTo>
                  <a:lnTo>
                    <a:pt x="819" y="0"/>
                  </a:lnTo>
                  <a:lnTo>
                    <a:pt x="742" y="309"/>
                  </a:lnTo>
                  <a:lnTo>
                    <a:pt x="721" y="395"/>
                  </a:lnTo>
                  <a:lnTo>
                    <a:pt x="699" y="488"/>
                  </a:lnTo>
                  <a:lnTo>
                    <a:pt x="658" y="689"/>
                  </a:lnTo>
                  <a:lnTo>
                    <a:pt x="649" y="742"/>
                  </a:lnTo>
                  <a:lnTo>
                    <a:pt x="642" y="784"/>
                  </a:lnTo>
                  <a:lnTo>
                    <a:pt x="638" y="816"/>
                  </a:lnTo>
                  <a:lnTo>
                    <a:pt x="637" y="827"/>
                  </a:lnTo>
                  <a:lnTo>
                    <a:pt x="637" y="837"/>
                  </a:lnTo>
                  <a:lnTo>
                    <a:pt x="637" y="840"/>
                  </a:lnTo>
                  <a:lnTo>
                    <a:pt x="637" y="842"/>
                  </a:lnTo>
                  <a:lnTo>
                    <a:pt x="637" y="845"/>
                  </a:lnTo>
                  <a:lnTo>
                    <a:pt x="638" y="846"/>
                  </a:lnTo>
                  <a:lnTo>
                    <a:pt x="638" y="847"/>
                  </a:lnTo>
                  <a:lnTo>
                    <a:pt x="638" y="847"/>
                  </a:lnTo>
                  <a:lnTo>
                    <a:pt x="638" y="848"/>
                  </a:lnTo>
                  <a:lnTo>
                    <a:pt x="638" y="848"/>
                  </a:lnTo>
                  <a:lnTo>
                    <a:pt x="639" y="848"/>
                  </a:lnTo>
                  <a:lnTo>
                    <a:pt x="639" y="849"/>
                  </a:lnTo>
                  <a:lnTo>
                    <a:pt x="639" y="849"/>
                  </a:lnTo>
                  <a:lnTo>
                    <a:pt x="639" y="849"/>
                  </a:lnTo>
                  <a:lnTo>
                    <a:pt x="639" y="849"/>
                  </a:lnTo>
                  <a:lnTo>
                    <a:pt x="639" y="849"/>
                  </a:lnTo>
                  <a:lnTo>
                    <a:pt x="640" y="849"/>
                  </a:lnTo>
                  <a:lnTo>
                    <a:pt x="640" y="849"/>
                  </a:lnTo>
                  <a:lnTo>
                    <a:pt x="640" y="849"/>
                  </a:lnTo>
                  <a:lnTo>
                    <a:pt x="642" y="849"/>
                  </a:lnTo>
                  <a:lnTo>
                    <a:pt x="643" y="849"/>
                  </a:lnTo>
                  <a:lnTo>
                    <a:pt x="645" y="848"/>
                  </a:lnTo>
                  <a:lnTo>
                    <a:pt x="647" y="848"/>
                  </a:lnTo>
                  <a:lnTo>
                    <a:pt x="651" y="846"/>
                  </a:lnTo>
                  <a:lnTo>
                    <a:pt x="656" y="845"/>
                  </a:lnTo>
                  <a:lnTo>
                    <a:pt x="661" y="841"/>
                  </a:lnTo>
                  <a:lnTo>
                    <a:pt x="667" y="838"/>
                  </a:lnTo>
                  <a:lnTo>
                    <a:pt x="681" y="830"/>
                  </a:lnTo>
                  <a:lnTo>
                    <a:pt x="712" y="808"/>
                  </a:lnTo>
                  <a:lnTo>
                    <a:pt x="744" y="783"/>
                  </a:lnTo>
                  <a:lnTo>
                    <a:pt x="778" y="755"/>
                  </a:lnTo>
                  <a:lnTo>
                    <a:pt x="814" y="724"/>
                  </a:lnTo>
                  <a:lnTo>
                    <a:pt x="866" y="792"/>
                  </a:lnTo>
                  <a:lnTo>
                    <a:pt x="765" y="895"/>
                  </a:lnTo>
                  <a:lnTo>
                    <a:pt x="732" y="928"/>
                  </a:lnTo>
                  <a:lnTo>
                    <a:pt x="719" y="940"/>
                  </a:lnTo>
                  <a:lnTo>
                    <a:pt x="709" y="947"/>
                  </a:lnTo>
                  <a:lnTo>
                    <a:pt x="675" y="971"/>
                  </a:lnTo>
                  <a:lnTo>
                    <a:pt x="644" y="991"/>
                  </a:lnTo>
                  <a:lnTo>
                    <a:pt x="627" y="1000"/>
                  </a:lnTo>
                  <a:lnTo>
                    <a:pt x="611" y="1007"/>
                  </a:lnTo>
                  <a:lnTo>
                    <a:pt x="596" y="1015"/>
                  </a:lnTo>
                  <a:lnTo>
                    <a:pt x="581" y="1022"/>
                  </a:lnTo>
                  <a:lnTo>
                    <a:pt x="571" y="1026"/>
                  </a:lnTo>
                  <a:lnTo>
                    <a:pt x="561" y="1029"/>
                  </a:lnTo>
                  <a:lnTo>
                    <a:pt x="550" y="1031"/>
                  </a:lnTo>
                  <a:lnTo>
                    <a:pt x="540" y="1033"/>
                  </a:lnTo>
                  <a:lnTo>
                    <a:pt x="529" y="1036"/>
                  </a:lnTo>
                  <a:lnTo>
                    <a:pt x="519" y="1037"/>
                  </a:lnTo>
                  <a:lnTo>
                    <a:pt x="508" y="1038"/>
                  </a:lnTo>
                  <a:lnTo>
                    <a:pt x="499" y="1038"/>
                  </a:lnTo>
                  <a:lnTo>
                    <a:pt x="491" y="1038"/>
                  </a:lnTo>
                  <a:lnTo>
                    <a:pt x="483" y="1037"/>
                  </a:lnTo>
                  <a:lnTo>
                    <a:pt x="475" y="1034"/>
                  </a:lnTo>
                  <a:lnTo>
                    <a:pt x="468" y="1033"/>
                  </a:lnTo>
                  <a:lnTo>
                    <a:pt x="462" y="1030"/>
                  </a:lnTo>
                  <a:lnTo>
                    <a:pt x="459" y="1028"/>
                  </a:lnTo>
                  <a:lnTo>
                    <a:pt x="456" y="1027"/>
                  </a:lnTo>
                  <a:lnTo>
                    <a:pt x="453" y="1025"/>
                  </a:lnTo>
                  <a:lnTo>
                    <a:pt x="450" y="1023"/>
                  </a:lnTo>
                  <a:lnTo>
                    <a:pt x="447" y="1020"/>
                  </a:lnTo>
                  <a:lnTo>
                    <a:pt x="445" y="1018"/>
                  </a:lnTo>
                  <a:lnTo>
                    <a:pt x="443" y="1016"/>
                  </a:lnTo>
                  <a:lnTo>
                    <a:pt x="440" y="1013"/>
                  </a:lnTo>
                  <a:lnTo>
                    <a:pt x="438" y="1011"/>
                  </a:lnTo>
                  <a:lnTo>
                    <a:pt x="436" y="1007"/>
                  </a:lnTo>
                  <a:lnTo>
                    <a:pt x="435" y="1004"/>
                  </a:lnTo>
                  <a:lnTo>
                    <a:pt x="433" y="1002"/>
                  </a:lnTo>
                  <a:lnTo>
                    <a:pt x="431" y="999"/>
                  </a:lnTo>
                  <a:lnTo>
                    <a:pt x="430" y="996"/>
                  </a:lnTo>
                  <a:lnTo>
                    <a:pt x="429" y="991"/>
                  </a:lnTo>
                  <a:lnTo>
                    <a:pt x="428" y="988"/>
                  </a:lnTo>
                  <a:lnTo>
                    <a:pt x="427" y="985"/>
                  </a:lnTo>
                  <a:lnTo>
                    <a:pt x="426" y="981"/>
                  </a:lnTo>
                  <a:lnTo>
                    <a:pt x="426" y="972"/>
                  </a:lnTo>
                  <a:lnTo>
                    <a:pt x="426" y="963"/>
                  </a:lnTo>
                  <a:lnTo>
                    <a:pt x="426" y="958"/>
                  </a:lnTo>
                  <a:lnTo>
                    <a:pt x="426" y="952"/>
                  </a:lnTo>
                  <a:lnTo>
                    <a:pt x="426" y="947"/>
                  </a:lnTo>
                  <a:lnTo>
                    <a:pt x="427" y="941"/>
                  </a:lnTo>
                  <a:lnTo>
                    <a:pt x="429" y="934"/>
                  </a:lnTo>
                  <a:lnTo>
                    <a:pt x="430" y="928"/>
                  </a:lnTo>
                  <a:lnTo>
                    <a:pt x="434" y="913"/>
                  </a:lnTo>
                  <a:lnTo>
                    <a:pt x="474" y="792"/>
                  </a:lnTo>
                  <a:lnTo>
                    <a:pt x="460" y="818"/>
                  </a:lnTo>
                  <a:lnTo>
                    <a:pt x="444" y="842"/>
                  </a:lnTo>
                  <a:lnTo>
                    <a:pt x="427" y="866"/>
                  </a:lnTo>
                  <a:lnTo>
                    <a:pt x="408" y="889"/>
                  </a:lnTo>
                  <a:lnTo>
                    <a:pt x="386" y="909"/>
                  </a:lnTo>
                  <a:lnTo>
                    <a:pt x="362" y="930"/>
                  </a:lnTo>
                  <a:lnTo>
                    <a:pt x="338" y="948"/>
                  </a:lnTo>
                  <a:lnTo>
                    <a:pt x="310" y="965"/>
                  </a:lnTo>
                  <a:lnTo>
                    <a:pt x="288" y="982"/>
                  </a:lnTo>
                  <a:lnTo>
                    <a:pt x="267" y="997"/>
                  </a:lnTo>
                  <a:lnTo>
                    <a:pt x="246" y="1009"/>
                  </a:lnTo>
                  <a:lnTo>
                    <a:pt x="226" y="1019"/>
                  </a:lnTo>
                  <a:lnTo>
                    <a:pt x="207" y="1027"/>
                  </a:lnTo>
                  <a:lnTo>
                    <a:pt x="189" y="1032"/>
                  </a:lnTo>
                  <a:lnTo>
                    <a:pt x="180" y="1034"/>
                  </a:lnTo>
                  <a:lnTo>
                    <a:pt x="171" y="1036"/>
                  </a:lnTo>
                  <a:lnTo>
                    <a:pt x="162" y="1037"/>
                  </a:lnTo>
                  <a:lnTo>
                    <a:pt x="153" y="1037"/>
                  </a:lnTo>
                  <a:lnTo>
                    <a:pt x="144" y="1037"/>
                  </a:lnTo>
                  <a:lnTo>
                    <a:pt x="136" y="1036"/>
                  </a:lnTo>
                  <a:lnTo>
                    <a:pt x="128" y="1033"/>
                  </a:lnTo>
                  <a:lnTo>
                    <a:pt x="120" y="1031"/>
                  </a:lnTo>
                  <a:lnTo>
                    <a:pt x="113" y="1028"/>
                  </a:lnTo>
                  <a:lnTo>
                    <a:pt x="105" y="1024"/>
                  </a:lnTo>
                  <a:lnTo>
                    <a:pt x="98" y="1019"/>
                  </a:lnTo>
                  <a:lnTo>
                    <a:pt x="91" y="1014"/>
                  </a:lnTo>
                  <a:lnTo>
                    <a:pt x="84" y="1009"/>
                  </a:lnTo>
                  <a:lnTo>
                    <a:pt x="77" y="1001"/>
                  </a:lnTo>
                  <a:lnTo>
                    <a:pt x="71" y="995"/>
                  </a:lnTo>
                  <a:lnTo>
                    <a:pt x="65" y="986"/>
                  </a:lnTo>
                  <a:lnTo>
                    <a:pt x="59" y="977"/>
                  </a:lnTo>
                  <a:lnTo>
                    <a:pt x="53" y="968"/>
                  </a:lnTo>
                  <a:lnTo>
                    <a:pt x="42" y="947"/>
                  </a:lnTo>
                  <a:lnTo>
                    <a:pt x="37" y="943"/>
                  </a:lnTo>
                  <a:lnTo>
                    <a:pt x="33" y="938"/>
                  </a:lnTo>
                  <a:lnTo>
                    <a:pt x="29" y="933"/>
                  </a:lnTo>
                  <a:lnTo>
                    <a:pt x="24" y="927"/>
                  </a:lnTo>
                  <a:lnTo>
                    <a:pt x="21" y="920"/>
                  </a:lnTo>
                  <a:lnTo>
                    <a:pt x="17" y="914"/>
                  </a:lnTo>
                  <a:lnTo>
                    <a:pt x="14" y="906"/>
                  </a:lnTo>
                  <a:lnTo>
                    <a:pt x="11" y="897"/>
                  </a:lnTo>
                  <a:lnTo>
                    <a:pt x="8" y="889"/>
                  </a:lnTo>
                  <a:lnTo>
                    <a:pt x="6" y="879"/>
                  </a:lnTo>
                  <a:lnTo>
                    <a:pt x="3" y="859"/>
                  </a:lnTo>
                  <a:lnTo>
                    <a:pt x="1" y="836"/>
                  </a:lnTo>
                  <a:lnTo>
                    <a:pt x="0" y="810"/>
                  </a:lnTo>
                  <a:lnTo>
                    <a:pt x="1" y="780"/>
                  </a:lnTo>
                  <a:lnTo>
                    <a:pt x="4" y="748"/>
                  </a:lnTo>
                  <a:lnTo>
                    <a:pt x="8" y="715"/>
                  </a:lnTo>
                  <a:lnTo>
                    <a:pt x="15" y="683"/>
                  </a:lnTo>
                  <a:lnTo>
                    <a:pt x="23" y="648"/>
                  </a:lnTo>
                  <a:lnTo>
                    <a:pt x="33" y="614"/>
                  </a:lnTo>
                  <a:lnTo>
                    <a:pt x="44" y="578"/>
                  </a:lnTo>
                  <a:lnTo>
                    <a:pt x="58" y="543"/>
                  </a:lnTo>
                  <a:lnTo>
                    <a:pt x="74" y="506"/>
                  </a:lnTo>
                  <a:lnTo>
                    <a:pt x="90" y="470"/>
                  </a:lnTo>
                  <a:lnTo>
                    <a:pt x="108" y="436"/>
                  </a:lnTo>
                  <a:lnTo>
                    <a:pt x="127" y="402"/>
                  </a:lnTo>
                  <a:lnTo>
                    <a:pt x="147" y="369"/>
                  </a:lnTo>
                  <a:lnTo>
                    <a:pt x="169" y="337"/>
                  </a:lnTo>
                  <a:lnTo>
                    <a:pt x="192" y="305"/>
                  </a:lnTo>
                  <a:lnTo>
                    <a:pt x="215" y="275"/>
                  </a:lnTo>
                  <a:lnTo>
                    <a:pt x="240" y="246"/>
                  </a:lnTo>
                  <a:lnTo>
                    <a:pt x="266" y="219"/>
                  </a:lnTo>
                  <a:lnTo>
                    <a:pt x="291" y="194"/>
                  </a:lnTo>
                  <a:lnTo>
                    <a:pt x="317" y="172"/>
                  </a:lnTo>
                  <a:lnTo>
                    <a:pt x="343" y="150"/>
                  </a:lnTo>
                  <a:lnTo>
                    <a:pt x="369" y="132"/>
                  </a:lnTo>
                  <a:lnTo>
                    <a:pt x="396" y="115"/>
                  </a:lnTo>
                  <a:lnTo>
                    <a:pt x="424" y="99"/>
                  </a:lnTo>
                  <a:lnTo>
                    <a:pt x="445" y="89"/>
                  </a:lnTo>
                  <a:lnTo>
                    <a:pt x="469" y="80"/>
                  </a:lnTo>
                  <a:lnTo>
                    <a:pt x="495" y="71"/>
                  </a:lnTo>
                  <a:lnTo>
                    <a:pt x="521" y="66"/>
                  </a:lnTo>
                  <a:lnTo>
                    <a:pt x="549" y="61"/>
                  </a:lnTo>
                  <a:lnTo>
                    <a:pt x="579" y="57"/>
                  </a:lnTo>
                  <a:lnTo>
                    <a:pt x="609" y="55"/>
                  </a:lnTo>
                  <a:lnTo>
                    <a:pt x="642" y="54"/>
                  </a:lnTo>
                  <a:lnTo>
                    <a:pt x="658" y="54"/>
                  </a:lnTo>
                  <a:lnTo>
                    <a:pt x="671" y="55"/>
                  </a:lnTo>
                  <a:lnTo>
                    <a:pt x="685" y="57"/>
                  </a:lnTo>
                  <a:lnTo>
                    <a:pt x="697" y="60"/>
                  </a:lnTo>
                  <a:close/>
                  <a:moveTo>
                    <a:pt x="586" y="225"/>
                  </a:moveTo>
                  <a:lnTo>
                    <a:pt x="568" y="221"/>
                  </a:lnTo>
                  <a:lnTo>
                    <a:pt x="550" y="220"/>
                  </a:lnTo>
                  <a:lnTo>
                    <a:pt x="532" y="218"/>
                  </a:lnTo>
                  <a:lnTo>
                    <a:pt x="515" y="218"/>
                  </a:lnTo>
                  <a:lnTo>
                    <a:pt x="495" y="219"/>
                  </a:lnTo>
                  <a:lnTo>
                    <a:pt x="475" y="221"/>
                  </a:lnTo>
                  <a:lnTo>
                    <a:pt x="455" y="225"/>
                  </a:lnTo>
                  <a:lnTo>
                    <a:pt x="436" y="230"/>
                  </a:lnTo>
                  <a:lnTo>
                    <a:pt x="419" y="237"/>
                  </a:lnTo>
                  <a:lnTo>
                    <a:pt x="402" y="246"/>
                  </a:lnTo>
                  <a:lnTo>
                    <a:pt x="385" y="256"/>
                  </a:lnTo>
                  <a:lnTo>
                    <a:pt x="369" y="268"/>
                  </a:lnTo>
                  <a:lnTo>
                    <a:pt x="353" y="282"/>
                  </a:lnTo>
                  <a:lnTo>
                    <a:pt x="339" y="299"/>
                  </a:lnTo>
                  <a:lnTo>
                    <a:pt x="324" y="318"/>
                  </a:lnTo>
                  <a:lnTo>
                    <a:pt x="309" y="340"/>
                  </a:lnTo>
                  <a:lnTo>
                    <a:pt x="294" y="365"/>
                  </a:lnTo>
                  <a:lnTo>
                    <a:pt x="279" y="392"/>
                  </a:lnTo>
                  <a:lnTo>
                    <a:pt x="265" y="422"/>
                  </a:lnTo>
                  <a:lnTo>
                    <a:pt x="251" y="455"/>
                  </a:lnTo>
                  <a:lnTo>
                    <a:pt x="238" y="490"/>
                  </a:lnTo>
                  <a:lnTo>
                    <a:pt x="226" y="523"/>
                  </a:lnTo>
                  <a:lnTo>
                    <a:pt x="216" y="558"/>
                  </a:lnTo>
                  <a:lnTo>
                    <a:pt x="208" y="592"/>
                  </a:lnTo>
                  <a:lnTo>
                    <a:pt x="202" y="626"/>
                  </a:lnTo>
                  <a:lnTo>
                    <a:pt x="198" y="660"/>
                  </a:lnTo>
                  <a:lnTo>
                    <a:pt x="195" y="694"/>
                  </a:lnTo>
                  <a:lnTo>
                    <a:pt x="194" y="728"/>
                  </a:lnTo>
                  <a:lnTo>
                    <a:pt x="194" y="744"/>
                  </a:lnTo>
                  <a:lnTo>
                    <a:pt x="195" y="759"/>
                  </a:lnTo>
                  <a:lnTo>
                    <a:pt x="197" y="773"/>
                  </a:lnTo>
                  <a:lnTo>
                    <a:pt x="199" y="785"/>
                  </a:lnTo>
                  <a:lnTo>
                    <a:pt x="201" y="797"/>
                  </a:lnTo>
                  <a:lnTo>
                    <a:pt x="204" y="807"/>
                  </a:lnTo>
                  <a:lnTo>
                    <a:pt x="206" y="811"/>
                  </a:lnTo>
                  <a:lnTo>
                    <a:pt x="208" y="814"/>
                  </a:lnTo>
                  <a:lnTo>
                    <a:pt x="210" y="819"/>
                  </a:lnTo>
                  <a:lnTo>
                    <a:pt x="212" y="822"/>
                  </a:lnTo>
                  <a:lnTo>
                    <a:pt x="217" y="827"/>
                  </a:lnTo>
                  <a:lnTo>
                    <a:pt x="219" y="831"/>
                  </a:lnTo>
                  <a:lnTo>
                    <a:pt x="222" y="833"/>
                  </a:lnTo>
                  <a:lnTo>
                    <a:pt x="224" y="835"/>
                  </a:lnTo>
                  <a:lnTo>
                    <a:pt x="227" y="837"/>
                  </a:lnTo>
                  <a:lnTo>
                    <a:pt x="229" y="839"/>
                  </a:lnTo>
                  <a:lnTo>
                    <a:pt x="232" y="840"/>
                  </a:lnTo>
                  <a:lnTo>
                    <a:pt x="235" y="841"/>
                  </a:lnTo>
                  <a:lnTo>
                    <a:pt x="238" y="844"/>
                  </a:lnTo>
                  <a:lnTo>
                    <a:pt x="241" y="845"/>
                  </a:lnTo>
                  <a:lnTo>
                    <a:pt x="244" y="846"/>
                  </a:lnTo>
                  <a:lnTo>
                    <a:pt x="247" y="846"/>
                  </a:lnTo>
                  <a:lnTo>
                    <a:pt x="250" y="847"/>
                  </a:lnTo>
                  <a:lnTo>
                    <a:pt x="254" y="847"/>
                  </a:lnTo>
                  <a:lnTo>
                    <a:pt x="257" y="847"/>
                  </a:lnTo>
                  <a:lnTo>
                    <a:pt x="265" y="847"/>
                  </a:lnTo>
                  <a:lnTo>
                    <a:pt x="272" y="846"/>
                  </a:lnTo>
                  <a:lnTo>
                    <a:pt x="280" y="844"/>
                  </a:lnTo>
                  <a:lnTo>
                    <a:pt x="288" y="842"/>
                  </a:lnTo>
                  <a:lnTo>
                    <a:pt x="297" y="839"/>
                  </a:lnTo>
                  <a:lnTo>
                    <a:pt x="305" y="836"/>
                  </a:lnTo>
                  <a:lnTo>
                    <a:pt x="322" y="827"/>
                  </a:lnTo>
                  <a:lnTo>
                    <a:pt x="339" y="817"/>
                  </a:lnTo>
                  <a:lnTo>
                    <a:pt x="356" y="804"/>
                  </a:lnTo>
                  <a:lnTo>
                    <a:pt x="374" y="789"/>
                  </a:lnTo>
                  <a:lnTo>
                    <a:pt x="393" y="770"/>
                  </a:lnTo>
                  <a:lnTo>
                    <a:pt x="411" y="750"/>
                  </a:lnTo>
                  <a:lnTo>
                    <a:pt x="427" y="727"/>
                  </a:lnTo>
                  <a:lnTo>
                    <a:pt x="443" y="702"/>
                  </a:lnTo>
                  <a:lnTo>
                    <a:pt x="457" y="675"/>
                  </a:lnTo>
                  <a:lnTo>
                    <a:pt x="471" y="646"/>
                  </a:lnTo>
                  <a:lnTo>
                    <a:pt x="483" y="615"/>
                  </a:lnTo>
                  <a:lnTo>
                    <a:pt x="494" y="580"/>
                  </a:lnTo>
                  <a:lnTo>
                    <a:pt x="504" y="545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1000" y="2457360"/>
              <a:ext cx="333720" cy="501840"/>
            </a:xfrm>
            <a:custGeom>
              <a:avLst/>
              <a:gdLst/>
              <a:ahLst/>
              <a:rect l="l" t="t" r="r" b="b"/>
              <a:pathLst>
                <a:path w="925" h="1392">
                  <a:moveTo>
                    <a:pt x="691" y="411"/>
                  </a:moveTo>
                  <a:lnTo>
                    <a:pt x="874" y="411"/>
                  </a:lnTo>
                  <a:lnTo>
                    <a:pt x="777" y="824"/>
                  </a:lnTo>
                  <a:lnTo>
                    <a:pt x="715" y="1084"/>
                  </a:lnTo>
                  <a:lnTo>
                    <a:pt x="699" y="1159"/>
                  </a:lnTo>
                  <a:lnTo>
                    <a:pt x="695" y="1184"/>
                  </a:lnTo>
                  <a:lnTo>
                    <a:pt x="694" y="1193"/>
                  </a:lnTo>
                  <a:lnTo>
                    <a:pt x="694" y="1199"/>
                  </a:lnTo>
                  <a:lnTo>
                    <a:pt x="694" y="1202"/>
                  </a:lnTo>
                  <a:lnTo>
                    <a:pt x="694" y="1205"/>
                  </a:lnTo>
                  <a:lnTo>
                    <a:pt x="694" y="1208"/>
                  </a:lnTo>
                  <a:lnTo>
                    <a:pt x="695" y="1210"/>
                  </a:lnTo>
                  <a:lnTo>
                    <a:pt x="695" y="1212"/>
                  </a:lnTo>
                  <a:lnTo>
                    <a:pt x="696" y="1213"/>
                  </a:lnTo>
                  <a:lnTo>
                    <a:pt x="696" y="1214"/>
                  </a:lnTo>
                  <a:lnTo>
                    <a:pt x="696" y="1215"/>
                  </a:lnTo>
                  <a:lnTo>
                    <a:pt x="697" y="1215"/>
                  </a:lnTo>
                  <a:lnTo>
                    <a:pt x="697" y="1216"/>
                  </a:lnTo>
                  <a:lnTo>
                    <a:pt x="698" y="1218"/>
                  </a:lnTo>
                  <a:lnTo>
                    <a:pt x="698" y="1218"/>
                  </a:lnTo>
                  <a:lnTo>
                    <a:pt x="699" y="1219"/>
                  </a:lnTo>
                  <a:lnTo>
                    <a:pt x="700" y="1219"/>
                  </a:lnTo>
                  <a:lnTo>
                    <a:pt x="701" y="1220"/>
                  </a:lnTo>
                  <a:lnTo>
                    <a:pt x="701" y="1220"/>
                  </a:lnTo>
                  <a:lnTo>
                    <a:pt x="701" y="1220"/>
                  </a:lnTo>
                  <a:lnTo>
                    <a:pt x="701" y="1220"/>
                  </a:lnTo>
                  <a:lnTo>
                    <a:pt x="702" y="1220"/>
                  </a:lnTo>
                  <a:lnTo>
                    <a:pt x="702" y="1220"/>
                  </a:lnTo>
                  <a:lnTo>
                    <a:pt x="702" y="1220"/>
                  </a:lnTo>
                  <a:lnTo>
                    <a:pt x="705" y="1220"/>
                  </a:lnTo>
                  <a:lnTo>
                    <a:pt x="708" y="1219"/>
                  </a:lnTo>
                  <a:lnTo>
                    <a:pt x="711" y="1219"/>
                  </a:lnTo>
                  <a:lnTo>
                    <a:pt x="714" y="1218"/>
                  </a:lnTo>
                  <a:lnTo>
                    <a:pt x="718" y="1215"/>
                  </a:lnTo>
                  <a:lnTo>
                    <a:pt x="721" y="1214"/>
                  </a:lnTo>
                  <a:lnTo>
                    <a:pt x="725" y="1211"/>
                  </a:lnTo>
                  <a:lnTo>
                    <a:pt x="729" y="1209"/>
                  </a:lnTo>
                  <a:lnTo>
                    <a:pt x="738" y="1201"/>
                  </a:lnTo>
                  <a:lnTo>
                    <a:pt x="750" y="1192"/>
                  </a:lnTo>
                  <a:lnTo>
                    <a:pt x="780" y="1164"/>
                  </a:lnTo>
                  <a:lnTo>
                    <a:pt x="869" y="1076"/>
                  </a:lnTo>
                  <a:lnTo>
                    <a:pt x="924" y="1140"/>
                  </a:lnTo>
                  <a:lnTo>
                    <a:pt x="871" y="1199"/>
                  </a:lnTo>
                  <a:lnTo>
                    <a:pt x="823" y="1250"/>
                  </a:lnTo>
                  <a:lnTo>
                    <a:pt x="777" y="1293"/>
                  </a:lnTo>
                  <a:lnTo>
                    <a:pt x="736" y="1329"/>
                  </a:lnTo>
                  <a:lnTo>
                    <a:pt x="697" y="1356"/>
                  </a:lnTo>
                  <a:lnTo>
                    <a:pt x="680" y="1366"/>
                  </a:lnTo>
                  <a:lnTo>
                    <a:pt x="663" y="1376"/>
                  </a:lnTo>
                  <a:lnTo>
                    <a:pt x="647" y="1383"/>
                  </a:lnTo>
                  <a:lnTo>
                    <a:pt x="631" y="1387"/>
                  </a:lnTo>
                  <a:lnTo>
                    <a:pt x="617" y="1390"/>
                  </a:lnTo>
                  <a:lnTo>
                    <a:pt x="604" y="1391"/>
                  </a:lnTo>
                  <a:lnTo>
                    <a:pt x="594" y="1391"/>
                  </a:lnTo>
                  <a:lnTo>
                    <a:pt x="584" y="1389"/>
                  </a:lnTo>
                  <a:lnTo>
                    <a:pt x="579" y="1388"/>
                  </a:lnTo>
                  <a:lnTo>
                    <a:pt x="574" y="1387"/>
                  </a:lnTo>
                  <a:lnTo>
                    <a:pt x="570" y="1385"/>
                  </a:lnTo>
                  <a:lnTo>
                    <a:pt x="565" y="1383"/>
                  </a:lnTo>
                  <a:lnTo>
                    <a:pt x="561" y="1380"/>
                  </a:lnTo>
                  <a:lnTo>
                    <a:pt x="556" y="1378"/>
                  </a:lnTo>
                  <a:lnTo>
                    <a:pt x="552" y="1375"/>
                  </a:lnTo>
                  <a:lnTo>
                    <a:pt x="548" y="1373"/>
                  </a:lnTo>
                  <a:lnTo>
                    <a:pt x="544" y="1370"/>
                  </a:lnTo>
                  <a:lnTo>
                    <a:pt x="540" y="1365"/>
                  </a:lnTo>
                  <a:lnTo>
                    <a:pt x="537" y="1362"/>
                  </a:lnTo>
                  <a:lnTo>
                    <a:pt x="534" y="1358"/>
                  </a:lnTo>
                  <a:lnTo>
                    <a:pt x="531" y="1353"/>
                  </a:lnTo>
                  <a:lnTo>
                    <a:pt x="527" y="1349"/>
                  </a:lnTo>
                  <a:lnTo>
                    <a:pt x="524" y="1345"/>
                  </a:lnTo>
                  <a:lnTo>
                    <a:pt x="522" y="1339"/>
                  </a:lnTo>
                  <a:lnTo>
                    <a:pt x="519" y="1335"/>
                  </a:lnTo>
                  <a:lnTo>
                    <a:pt x="517" y="1330"/>
                  </a:lnTo>
                  <a:lnTo>
                    <a:pt x="513" y="1319"/>
                  </a:lnTo>
                  <a:lnTo>
                    <a:pt x="510" y="1306"/>
                  </a:lnTo>
                  <a:lnTo>
                    <a:pt x="508" y="1294"/>
                  </a:lnTo>
                  <a:lnTo>
                    <a:pt x="506" y="1280"/>
                  </a:lnTo>
                  <a:lnTo>
                    <a:pt x="506" y="1266"/>
                  </a:lnTo>
                  <a:lnTo>
                    <a:pt x="506" y="1251"/>
                  </a:lnTo>
                  <a:lnTo>
                    <a:pt x="507" y="1235"/>
                  </a:lnTo>
                  <a:lnTo>
                    <a:pt x="509" y="1219"/>
                  </a:lnTo>
                  <a:lnTo>
                    <a:pt x="511" y="1202"/>
                  </a:lnTo>
                  <a:lnTo>
                    <a:pt x="514" y="1185"/>
                  </a:lnTo>
                  <a:lnTo>
                    <a:pt x="518" y="1169"/>
                  </a:lnTo>
                  <a:lnTo>
                    <a:pt x="523" y="1152"/>
                  </a:lnTo>
                  <a:lnTo>
                    <a:pt x="528" y="1134"/>
                  </a:lnTo>
                  <a:lnTo>
                    <a:pt x="513" y="1161"/>
                  </a:lnTo>
                  <a:lnTo>
                    <a:pt x="495" y="1187"/>
                  </a:lnTo>
                  <a:lnTo>
                    <a:pt x="475" y="1212"/>
                  </a:lnTo>
                  <a:lnTo>
                    <a:pt x="453" y="1237"/>
                  </a:lnTo>
                  <a:lnTo>
                    <a:pt x="428" y="1262"/>
                  </a:lnTo>
                  <a:lnTo>
                    <a:pt x="400" y="1284"/>
                  </a:lnTo>
                  <a:lnTo>
                    <a:pt x="370" y="1307"/>
                  </a:lnTo>
                  <a:lnTo>
                    <a:pt x="337" y="1330"/>
                  </a:lnTo>
                  <a:lnTo>
                    <a:pt x="314" y="1344"/>
                  </a:lnTo>
                  <a:lnTo>
                    <a:pt x="293" y="1356"/>
                  </a:lnTo>
                  <a:lnTo>
                    <a:pt x="271" y="1365"/>
                  </a:lnTo>
                  <a:lnTo>
                    <a:pt x="250" y="1374"/>
                  </a:lnTo>
                  <a:lnTo>
                    <a:pt x="230" y="1379"/>
                  </a:lnTo>
                  <a:lnTo>
                    <a:pt x="211" y="1385"/>
                  </a:lnTo>
                  <a:lnTo>
                    <a:pt x="192" y="1387"/>
                  </a:lnTo>
                  <a:lnTo>
                    <a:pt x="174" y="1388"/>
                  </a:lnTo>
                  <a:lnTo>
                    <a:pt x="163" y="1388"/>
                  </a:lnTo>
                  <a:lnTo>
                    <a:pt x="153" y="1386"/>
                  </a:lnTo>
                  <a:lnTo>
                    <a:pt x="148" y="1385"/>
                  </a:lnTo>
                  <a:lnTo>
                    <a:pt x="144" y="1384"/>
                  </a:lnTo>
                  <a:lnTo>
                    <a:pt x="139" y="1381"/>
                  </a:lnTo>
                  <a:lnTo>
                    <a:pt x="135" y="1380"/>
                  </a:lnTo>
                  <a:lnTo>
                    <a:pt x="130" y="1378"/>
                  </a:lnTo>
                  <a:lnTo>
                    <a:pt x="126" y="1375"/>
                  </a:lnTo>
                  <a:lnTo>
                    <a:pt x="122" y="1373"/>
                  </a:lnTo>
                  <a:lnTo>
                    <a:pt x="118" y="1370"/>
                  </a:lnTo>
                  <a:lnTo>
                    <a:pt x="114" y="1366"/>
                  </a:lnTo>
                  <a:lnTo>
                    <a:pt x="111" y="1363"/>
                  </a:lnTo>
                  <a:lnTo>
                    <a:pt x="107" y="1360"/>
                  </a:lnTo>
                  <a:lnTo>
                    <a:pt x="104" y="1356"/>
                  </a:lnTo>
                  <a:lnTo>
                    <a:pt x="101" y="1351"/>
                  </a:lnTo>
                  <a:lnTo>
                    <a:pt x="98" y="1347"/>
                  </a:lnTo>
                  <a:lnTo>
                    <a:pt x="95" y="1343"/>
                  </a:lnTo>
                  <a:lnTo>
                    <a:pt x="93" y="1337"/>
                  </a:lnTo>
                  <a:lnTo>
                    <a:pt x="90" y="1333"/>
                  </a:lnTo>
                  <a:lnTo>
                    <a:pt x="88" y="1328"/>
                  </a:lnTo>
                  <a:lnTo>
                    <a:pt x="85" y="1316"/>
                  </a:lnTo>
                  <a:lnTo>
                    <a:pt x="82" y="1303"/>
                  </a:lnTo>
                  <a:lnTo>
                    <a:pt x="80" y="1290"/>
                  </a:lnTo>
                  <a:lnTo>
                    <a:pt x="78" y="1275"/>
                  </a:lnTo>
                  <a:lnTo>
                    <a:pt x="78" y="1260"/>
                  </a:lnTo>
                  <a:lnTo>
                    <a:pt x="79" y="1237"/>
                  </a:lnTo>
                  <a:lnTo>
                    <a:pt x="80" y="1213"/>
                  </a:lnTo>
                  <a:lnTo>
                    <a:pt x="83" y="1188"/>
                  </a:lnTo>
                  <a:lnTo>
                    <a:pt x="88" y="1164"/>
                  </a:lnTo>
                  <a:lnTo>
                    <a:pt x="97" y="1119"/>
                  </a:lnTo>
                  <a:lnTo>
                    <a:pt x="111" y="1058"/>
                  </a:lnTo>
                  <a:lnTo>
                    <a:pt x="154" y="883"/>
                  </a:lnTo>
                  <a:lnTo>
                    <a:pt x="205" y="674"/>
                  </a:lnTo>
                  <a:lnTo>
                    <a:pt x="218" y="608"/>
                  </a:lnTo>
                  <a:lnTo>
                    <a:pt x="221" y="587"/>
                  </a:lnTo>
                  <a:lnTo>
                    <a:pt x="222" y="578"/>
                  </a:lnTo>
                  <a:lnTo>
                    <a:pt x="222" y="570"/>
                  </a:lnTo>
                  <a:lnTo>
                    <a:pt x="222" y="562"/>
                  </a:lnTo>
                  <a:lnTo>
                    <a:pt x="220" y="562"/>
                  </a:lnTo>
                  <a:lnTo>
                    <a:pt x="219" y="562"/>
                  </a:lnTo>
                  <a:lnTo>
                    <a:pt x="217" y="563"/>
                  </a:lnTo>
                  <a:lnTo>
                    <a:pt x="215" y="563"/>
                  </a:lnTo>
                  <a:lnTo>
                    <a:pt x="211" y="564"/>
                  </a:lnTo>
                  <a:lnTo>
                    <a:pt x="206" y="566"/>
                  </a:lnTo>
                  <a:lnTo>
                    <a:pt x="201" y="569"/>
                  </a:lnTo>
                  <a:lnTo>
                    <a:pt x="195" y="573"/>
                  </a:lnTo>
                  <a:lnTo>
                    <a:pt x="182" y="580"/>
                  </a:lnTo>
                  <a:lnTo>
                    <a:pt x="174" y="586"/>
                  </a:lnTo>
                  <a:lnTo>
                    <a:pt x="164" y="593"/>
                  </a:lnTo>
                  <a:lnTo>
                    <a:pt x="140" y="615"/>
                  </a:lnTo>
                  <a:lnTo>
                    <a:pt x="107" y="644"/>
                  </a:lnTo>
                  <a:lnTo>
                    <a:pt x="67" y="680"/>
                  </a:lnTo>
                  <a:lnTo>
                    <a:pt x="0" y="621"/>
                  </a:lnTo>
                  <a:lnTo>
                    <a:pt x="68" y="552"/>
                  </a:lnTo>
                  <a:lnTo>
                    <a:pt x="127" y="496"/>
                  </a:lnTo>
                  <a:lnTo>
                    <a:pt x="153" y="473"/>
                  </a:lnTo>
                  <a:lnTo>
                    <a:pt x="177" y="454"/>
                  </a:lnTo>
                  <a:lnTo>
                    <a:pt x="199" y="438"/>
                  </a:lnTo>
                  <a:lnTo>
                    <a:pt x="219" y="426"/>
                  </a:lnTo>
                  <a:lnTo>
                    <a:pt x="237" y="416"/>
                  </a:lnTo>
                  <a:lnTo>
                    <a:pt x="254" y="407"/>
                  </a:lnTo>
                  <a:lnTo>
                    <a:pt x="271" y="399"/>
                  </a:lnTo>
                  <a:lnTo>
                    <a:pt x="287" y="394"/>
                  </a:lnTo>
                  <a:lnTo>
                    <a:pt x="302" y="389"/>
                  </a:lnTo>
                  <a:lnTo>
                    <a:pt x="316" y="385"/>
                  </a:lnTo>
                  <a:lnTo>
                    <a:pt x="329" y="384"/>
                  </a:lnTo>
                  <a:lnTo>
                    <a:pt x="342" y="383"/>
                  </a:lnTo>
                  <a:lnTo>
                    <a:pt x="350" y="383"/>
                  </a:lnTo>
                  <a:lnTo>
                    <a:pt x="354" y="384"/>
                  </a:lnTo>
                  <a:lnTo>
                    <a:pt x="358" y="385"/>
                  </a:lnTo>
                  <a:lnTo>
                    <a:pt x="362" y="385"/>
                  </a:lnTo>
                  <a:lnTo>
                    <a:pt x="366" y="386"/>
                  </a:lnTo>
                  <a:lnTo>
                    <a:pt x="369" y="388"/>
                  </a:lnTo>
                  <a:lnTo>
                    <a:pt x="373" y="389"/>
                  </a:lnTo>
                  <a:lnTo>
                    <a:pt x="376" y="391"/>
                  </a:lnTo>
                  <a:lnTo>
                    <a:pt x="380" y="394"/>
                  </a:lnTo>
                  <a:lnTo>
                    <a:pt x="382" y="396"/>
                  </a:lnTo>
                  <a:lnTo>
                    <a:pt x="385" y="398"/>
                  </a:lnTo>
                  <a:lnTo>
                    <a:pt x="388" y="400"/>
                  </a:lnTo>
                  <a:lnTo>
                    <a:pt x="391" y="403"/>
                  </a:lnTo>
                  <a:lnTo>
                    <a:pt x="397" y="410"/>
                  </a:lnTo>
                  <a:lnTo>
                    <a:pt x="400" y="413"/>
                  </a:lnTo>
                  <a:lnTo>
                    <a:pt x="402" y="416"/>
                  </a:lnTo>
                  <a:lnTo>
                    <a:pt x="404" y="421"/>
                  </a:lnTo>
                  <a:lnTo>
                    <a:pt x="406" y="424"/>
                  </a:lnTo>
                  <a:lnTo>
                    <a:pt x="408" y="428"/>
                  </a:lnTo>
                  <a:lnTo>
                    <a:pt x="410" y="432"/>
                  </a:lnTo>
                  <a:lnTo>
                    <a:pt x="413" y="441"/>
                  </a:lnTo>
                  <a:lnTo>
                    <a:pt x="415" y="451"/>
                  </a:lnTo>
                  <a:lnTo>
                    <a:pt x="417" y="462"/>
                  </a:lnTo>
                  <a:lnTo>
                    <a:pt x="418" y="472"/>
                  </a:lnTo>
                  <a:lnTo>
                    <a:pt x="418" y="484"/>
                  </a:lnTo>
                  <a:lnTo>
                    <a:pt x="417" y="507"/>
                  </a:lnTo>
                  <a:lnTo>
                    <a:pt x="413" y="537"/>
                  </a:lnTo>
                  <a:lnTo>
                    <a:pt x="399" y="618"/>
                  </a:lnTo>
                  <a:lnTo>
                    <a:pt x="377" y="727"/>
                  </a:lnTo>
                  <a:lnTo>
                    <a:pt x="345" y="864"/>
                  </a:lnTo>
                  <a:lnTo>
                    <a:pt x="297" y="1071"/>
                  </a:lnTo>
                  <a:lnTo>
                    <a:pt x="285" y="1131"/>
                  </a:lnTo>
                  <a:lnTo>
                    <a:pt x="282" y="1151"/>
                  </a:lnTo>
                  <a:lnTo>
                    <a:pt x="281" y="1158"/>
                  </a:lnTo>
                  <a:lnTo>
                    <a:pt x="281" y="1164"/>
                  </a:lnTo>
                  <a:lnTo>
                    <a:pt x="281" y="1167"/>
                  </a:lnTo>
                  <a:lnTo>
                    <a:pt x="282" y="1171"/>
                  </a:lnTo>
                  <a:lnTo>
                    <a:pt x="282" y="1174"/>
                  </a:lnTo>
                  <a:lnTo>
                    <a:pt x="283" y="1178"/>
                  </a:lnTo>
                  <a:lnTo>
                    <a:pt x="284" y="1180"/>
                  </a:lnTo>
                  <a:lnTo>
                    <a:pt x="286" y="1183"/>
                  </a:lnTo>
                  <a:lnTo>
                    <a:pt x="287" y="1186"/>
                  </a:lnTo>
                  <a:lnTo>
                    <a:pt x="289" y="1188"/>
                  </a:lnTo>
                  <a:lnTo>
                    <a:pt x="291" y="1191"/>
                  </a:lnTo>
                  <a:lnTo>
                    <a:pt x="293" y="1192"/>
                  </a:lnTo>
                  <a:lnTo>
                    <a:pt x="295" y="1194"/>
                  </a:lnTo>
                  <a:lnTo>
                    <a:pt x="296" y="1195"/>
                  </a:lnTo>
                  <a:lnTo>
                    <a:pt x="298" y="1196"/>
                  </a:lnTo>
                  <a:lnTo>
                    <a:pt x="299" y="1196"/>
                  </a:lnTo>
                  <a:lnTo>
                    <a:pt x="300" y="1196"/>
                  </a:lnTo>
                  <a:lnTo>
                    <a:pt x="301" y="1197"/>
                  </a:lnTo>
                  <a:lnTo>
                    <a:pt x="301" y="1197"/>
                  </a:lnTo>
                  <a:lnTo>
                    <a:pt x="302" y="1197"/>
                  </a:lnTo>
                  <a:lnTo>
                    <a:pt x="302" y="1197"/>
                  </a:lnTo>
                  <a:lnTo>
                    <a:pt x="308" y="1197"/>
                  </a:lnTo>
                  <a:lnTo>
                    <a:pt x="315" y="1196"/>
                  </a:lnTo>
                  <a:lnTo>
                    <a:pt x="322" y="1194"/>
                  </a:lnTo>
                  <a:lnTo>
                    <a:pt x="330" y="1191"/>
                  </a:lnTo>
                  <a:lnTo>
                    <a:pt x="338" y="1187"/>
                  </a:lnTo>
                  <a:lnTo>
                    <a:pt x="346" y="1183"/>
                  </a:lnTo>
                  <a:lnTo>
                    <a:pt x="364" y="1173"/>
                  </a:lnTo>
                  <a:lnTo>
                    <a:pt x="383" y="1159"/>
                  </a:lnTo>
                  <a:lnTo>
                    <a:pt x="404" y="1142"/>
                  </a:lnTo>
                  <a:lnTo>
                    <a:pt x="426" y="1123"/>
                  </a:lnTo>
                  <a:lnTo>
                    <a:pt x="450" y="1100"/>
                  </a:lnTo>
                  <a:lnTo>
                    <a:pt x="473" y="1075"/>
                  </a:lnTo>
                  <a:lnTo>
                    <a:pt x="494" y="1050"/>
                  </a:lnTo>
                  <a:lnTo>
                    <a:pt x="514" y="1024"/>
                  </a:lnTo>
                  <a:lnTo>
                    <a:pt x="531" y="996"/>
                  </a:lnTo>
                  <a:lnTo>
                    <a:pt x="545" y="968"/>
                  </a:lnTo>
                  <a:lnTo>
                    <a:pt x="559" y="940"/>
                  </a:lnTo>
                  <a:lnTo>
                    <a:pt x="569" y="910"/>
                  </a:lnTo>
                  <a:lnTo>
                    <a:pt x="578" y="880"/>
                  </a:lnTo>
                  <a:close/>
                  <a:moveTo>
                    <a:pt x="835" y="0"/>
                  </a:moveTo>
                  <a:lnTo>
                    <a:pt x="884" y="66"/>
                  </a:lnTo>
                  <a:lnTo>
                    <a:pt x="838" y="112"/>
                  </a:lnTo>
                  <a:lnTo>
                    <a:pt x="790" y="151"/>
                  </a:lnTo>
                  <a:lnTo>
                    <a:pt x="744" y="185"/>
                  </a:lnTo>
                  <a:lnTo>
                    <a:pt x="695" y="212"/>
                  </a:lnTo>
                  <a:lnTo>
                    <a:pt x="672" y="224"/>
                  </a:lnTo>
                  <a:lnTo>
                    <a:pt x="647" y="234"/>
                  </a:lnTo>
                  <a:lnTo>
                    <a:pt x="623" y="243"/>
                  </a:lnTo>
                  <a:lnTo>
                    <a:pt x="599" y="250"/>
                  </a:lnTo>
                  <a:lnTo>
                    <a:pt x="574" y="256"/>
                  </a:lnTo>
                  <a:lnTo>
                    <a:pt x="549" y="259"/>
                  </a:lnTo>
                  <a:lnTo>
                    <a:pt x="525" y="261"/>
                  </a:lnTo>
                  <a:lnTo>
                    <a:pt x="500" y="262"/>
                  </a:lnTo>
                  <a:lnTo>
                    <a:pt x="481" y="262"/>
                  </a:lnTo>
                  <a:lnTo>
                    <a:pt x="462" y="260"/>
                  </a:lnTo>
                  <a:lnTo>
                    <a:pt x="444" y="258"/>
                  </a:lnTo>
                  <a:lnTo>
                    <a:pt x="425" y="254"/>
                  </a:lnTo>
                  <a:lnTo>
                    <a:pt x="406" y="250"/>
                  </a:lnTo>
                  <a:lnTo>
                    <a:pt x="388" y="245"/>
                  </a:lnTo>
                  <a:lnTo>
                    <a:pt x="370" y="239"/>
                  </a:lnTo>
                  <a:lnTo>
                    <a:pt x="351" y="232"/>
                  </a:lnTo>
                  <a:lnTo>
                    <a:pt x="342" y="227"/>
                  </a:lnTo>
                  <a:lnTo>
                    <a:pt x="333" y="223"/>
                  </a:lnTo>
                  <a:lnTo>
                    <a:pt x="326" y="219"/>
                  </a:lnTo>
                  <a:lnTo>
                    <a:pt x="318" y="213"/>
                  </a:lnTo>
                  <a:lnTo>
                    <a:pt x="311" y="208"/>
                  </a:lnTo>
                  <a:lnTo>
                    <a:pt x="305" y="203"/>
                  </a:lnTo>
                  <a:lnTo>
                    <a:pt x="301" y="196"/>
                  </a:lnTo>
                  <a:lnTo>
                    <a:pt x="296" y="191"/>
                  </a:lnTo>
                  <a:lnTo>
                    <a:pt x="291" y="183"/>
                  </a:lnTo>
                  <a:lnTo>
                    <a:pt x="288" y="177"/>
                  </a:lnTo>
                  <a:lnTo>
                    <a:pt x="284" y="169"/>
                  </a:lnTo>
                  <a:lnTo>
                    <a:pt x="282" y="161"/>
                  </a:lnTo>
                  <a:lnTo>
                    <a:pt x="280" y="153"/>
                  </a:lnTo>
                  <a:lnTo>
                    <a:pt x="278" y="144"/>
                  </a:lnTo>
                  <a:lnTo>
                    <a:pt x="277" y="136"/>
                  </a:lnTo>
                  <a:lnTo>
                    <a:pt x="277" y="126"/>
                  </a:lnTo>
                  <a:lnTo>
                    <a:pt x="277" y="115"/>
                  </a:lnTo>
                  <a:lnTo>
                    <a:pt x="278" y="106"/>
                  </a:lnTo>
                  <a:lnTo>
                    <a:pt x="280" y="96"/>
                  </a:lnTo>
                  <a:lnTo>
                    <a:pt x="282" y="87"/>
                  </a:lnTo>
                  <a:lnTo>
                    <a:pt x="285" y="80"/>
                  </a:lnTo>
                  <a:lnTo>
                    <a:pt x="289" y="72"/>
                  </a:lnTo>
                  <a:lnTo>
                    <a:pt x="294" y="66"/>
                  </a:lnTo>
                  <a:lnTo>
                    <a:pt x="299" y="59"/>
                  </a:lnTo>
                  <a:lnTo>
                    <a:pt x="303" y="55"/>
                  </a:lnTo>
                  <a:lnTo>
                    <a:pt x="310" y="50"/>
                  </a:lnTo>
                  <a:lnTo>
                    <a:pt x="317" y="46"/>
                  </a:lnTo>
                  <a:lnTo>
                    <a:pt x="325" y="43"/>
                  </a:lnTo>
                  <a:lnTo>
                    <a:pt x="333" y="41"/>
                  </a:lnTo>
                  <a:lnTo>
                    <a:pt x="342" y="39"/>
                  </a:lnTo>
                  <a:lnTo>
                    <a:pt x="352" y="38"/>
                  </a:lnTo>
                  <a:lnTo>
                    <a:pt x="362" y="38"/>
                  </a:lnTo>
                  <a:lnTo>
                    <a:pt x="366" y="38"/>
                  </a:lnTo>
                  <a:lnTo>
                    <a:pt x="371" y="39"/>
                  </a:lnTo>
                  <a:lnTo>
                    <a:pt x="381" y="41"/>
                  </a:lnTo>
                  <a:lnTo>
                    <a:pt x="393" y="44"/>
                  </a:lnTo>
                  <a:lnTo>
                    <a:pt x="408" y="51"/>
                  </a:lnTo>
                  <a:lnTo>
                    <a:pt x="425" y="57"/>
                  </a:lnTo>
                  <a:lnTo>
                    <a:pt x="444" y="66"/>
                  </a:lnTo>
                  <a:lnTo>
                    <a:pt x="486" y="88"/>
                  </a:lnTo>
                  <a:lnTo>
                    <a:pt x="531" y="102"/>
                  </a:lnTo>
                  <a:lnTo>
                    <a:pt x="571" y="112"/>
                  </a:lnTo>
                  <a:lnTo>
                    <a:pt x="589" y="115"/>
                  </a:lnTo>
                  <a:lnTo>
                    <a:pt x="607" y="117"/>
                  </a:lnTo>
                  <a:lnTo>
                    <a:pt x="622" y="120"/>
                  </a:lnTo>
                  <a:lnTo>
                    <a:pt x="638" y="120"/>
                  </a:lnTo>
                  <a:lnTo>
                    <a:pt x="647" y="120"/>
                  </a:lnTo>
                  <a:lnTo>
                    <a:pt x="656" y="117"/>
                  </a:lnTo>
                  <a:lnTo>
                    <a:pt x="665" y="115"/>
                  </a:lnTo>
                  <a:lnTo>
                    <a:pt x="675" y="112"/>
                  </a:lnTo>
                  <a:lnTo>
                    <a:pt x="686" y="108"/>
                  </a:lnTo>
                  <a:lnTo>
                    <a:pt x="696" y="102"/>
                  </a:lnTo>
                  <a:lnTo>
                    <a:pt x="720" y="89"/>
                  </a:lnTo>
                  <a:lnTo>
                    <a:pt x="746" y="73"/>
                  </a:lnTo>
                  <a:lnTo>
                    <a:pt x="773" y="53"/>
                  </a:lnTo>
                  <a:lnTo>
                    <a:pt x="803" y="2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Никол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0" y="0"/>
            <a:ext cx="3600360" cy="5041800"/>
            <a:chOff x="0" y="0"/>
            <a:chExt cx="3600360" cy="5041800"/>
          </a:xfrm>
        </p:grpSpPr>
        <p:sp>
          <p:nvSpPr>
            <p:cNvPr id="273" name=""/>
            <p:cNvSpPr/>
            <p:nvPr/>
          </p:nvSpPr>
          <p:spPr>
            <a:xfrm>
              <a:off x="792000" y="4275000"/>
              <a:ext cx="486000" cy="648000"/>
            </a:xfrm>
            <a:custGeom>
              <a:avLst/>
              <a:gdLst/>
              <a:ahLst/>
              <a:rect l="l" t="t" r="r" b="b"/>
              <a:pathLst>
                <a:path w="1351" h="1799">
                  <a:moveTo>
                    <a:pt x="1350" y="1426"/>
                  </a:moveTo>
                  <a:lnTo>
                    <a:pt x="1338" y="1541"/>
                  </a:lnTo>
                  <a:lnTo>
                    <a:pt x="1314" y="1543"/>
                  </a:lnTo>
                  <a:lnTo>
                    <a:pt x="1294" y="1544"/>
                  </a:lnTo>
                  <a:lnTo>
                    <a:pt x="1276" y="1545"/>
                  </a:lnTo>
                  <a:lnTo>
                    <a:pt x="1262" y="1545"/>
                  </a:lnTo>
                  <a:lnTo>
                    <a:pt x="1242" y="1545"/>
                  </a:lnTo>
                  <a:lnTo>
                    <a:pt x="1220" y="1544"/>
                  </a:lnTo>
                  <a:lnTo>
                    <a:pt x="1197" y="1542"/>
                  </a:lnTo>
                  <a:lnTo>
                    <a:pt x="1172" y="1538"/>
                  </a:lnTo>
                  <a:lnTo>
                    <a:pt x="1100" y="1530"/>
                  </a:lnTo>
                  <a:lnTo>
                    <a:pt x="1077" y="1528"/>
                  </a:lnTo>
                  <a:lnTo>
                    <a:pt x="1062" y="1527"/>
                  </a:lnTo>
                  <a:lnTo>
                    <a:pt x="1041" y="1528"/>
                  </a:lnTo>
                  <a:lnTo>
                    <a:pt x="1010" y="1531"/>
                  </a:lnTo>
                  <a:lnTo>
                    <a:pt x="923" y="1542"/>
                  </a:lnTo>
                  <a:lnTo>
                    <a:pt x="972" y="1319"/>
                  </a:lnTo>
                  <a:lnTo>
                    <a:pt x="979" y="1279"/>
                  </a:lnTo>
                  <a:lnTo>
                    <a:pt x="986" y="1230"/>
                  </a:lnTo>
                  <a:lnTo>
                    <a:pt x="993" y="1172"/>
                  </a:lnTo>
                  <a:lnTo>
                    <a:pt x="1001" y="1103"/>
                  </a:lnTo>
                  <a:lnTo>
                    <a:pt x="694" y="1109"/>
                  </a:lnTo>
                  <a:lnTo>
                    <a:pt x="584" y="1312"/>
                  </a:lnTo>
                  <a:lnTo>
                    <a:pt x="490" y="1475"/>
                  </a:lnTo>
                  <a:lnTo>
                    <a:pt x="448" y="1541"/>
                  </a:lnTo>
                  <a:lnTo>
                    <a:pt x="410" y="1597"/>
                  </a:lnTo>
                  <a:lnTo>
                    <a:pt x="376" y="1642"/>
                  </a:lnTo>
                  <a:lnTo>
                    <a:pt x="345" y="1677"/>
                  </a:lnTo>
                  <a:lnTo>
                    <a:pt x="317" y="1705"/>
                  </a:lnTo>
                  <a:lnTo>
                    <a:pt x="288" y="1730"/>
                  </a:lnTo>
                  <a:lnTo>
                    <a:pt x="259" y="1751"/>
                  </a:lnTo>
                  <a:lnTo>
                    <a:pt x="232" y="1768"/>
                  </a:lnTo>
                  <a:lnTo>
                    <a:pt x="204" y="1781"/>
                  </a:lnTo>
                  <a:lnTo>
                    <a:pt x="177" y="1791"/>
                  </a:lnTo>
                  <a:lnTo>
                    <a:pt x="163" y="1795"/>
                  </a:lnTo>
                  <a:lnTo>
                    <a:pt x="150" y="1796"/>
                  </a:lnTo>
                  <a:lnTo>
                    <a:pt x="137" y="1798"/>
                  </a:lnTo>
                  <a:lnTo>
                    <a:pt x="123" y="1798"/>
                  </a:lnTo>
                  <a:lnTo>
                    <a:pt x="109" y="1798"/>
                  </a:lnTo>
                  <a:lnTo>
                    <a:pt x="95" y="1796"/>
                  </a:lnTo>
                  <a:lnTo>
                    <a:pt x="82" y="1793"/>
                  </a:lnTo>
                  <a:lnTo>
                    <a:pt x="71" y="1790"/>
                  </a:lnTo>
                  <a:lnTo>
                    <a:pt x="60" y="1786"/>
                  </a:lnTo>
                  <a:lnTo>
                    <a:pt x="49" y="1780"/>
                  </a:lnTo>
                  <a:lnTo>
                    <a:pt x="40" y="1774"/>
                  </a:lnTo>
                  <a:lnTo>
                    <a:pt x="36" y="1770"/>
                  </a:lnTo>
                  <a:lnTo>
                    <a:pt x="32" y="1767"/>
                  </a:lnTo>
                  <a:lnTo>
                    <a:pt x="28" y="1763"/>
                  </a:lnTo>
                  <a:lnTo>
                    <a:pt x="24" y="1758"/>
                  </a:lnTo>
                  <a:lnTo>
                    <a:pt x="21" y="1754"/>
                  </a:lnTo>
                  <a:lnTo>
                    <a:pt x="18" y="1749"/>
                  </a:lnTo>
                  <a:lnTo>
                    <a:pt x="15" y="1746"/>
                  </a:lnTo>
                  <a:lnTo>
                    <a:pt x="12" y="1741"/>
                  </a:lnTo>
                  <a:lnTo>
                    <a:pt x="9" y="1736"/>
                  </a:lnTo>
                  <a:lnTo>
                    <a:pt x="7" y="1731"/>
                  </a:lnTo>
                  <a:lnTo>
                    <a:pt x="5" y="1725"/>
                  </a:lnTo>
                  <a:lnTo>
                    <a:pt x="4" y="1720"/>
                  </a:lnTo>
                  <a:lnTo>
                    <a:pt x="2" y="1714"/>
                  </a:lnTo>
                  <a:lnTo>
                    <a:pt x="1" y="1708"/>
                  </a:lnTo>
                  <a:lnTo>
                    <a:pt x="0" y="1703"/>
                  </a:lnTo>
                  <a:lnTo>
                    <a:pt x="0" y="1697"/>
                  </a:lnTo>
                  <a:lnTo>
                    <a:pt x="0" y="1683"/>
                  </a:lnTo>
                  <a:lnTo>
                    <a:pt x="0" y="1674"/>
                  </a:lnTo>
                  <a:lnTo>
                    <a:pt x="0" y="1665"/>
                  </a:lnTo>
                  <a:lnTo>
                    <a:pt x="2" y="1655"/>
                  </a:lnTo>
                  <a:lnTo>
                    <a:pt x="4" y="1647"/>
                  </a:lnTo>
                  <a:lnTo>
                    <a:pt x="7" y="1638"/>
                  </a:lnTo>
                  <a:lnTo>
                    <a:pt x="11" y="1631"/>
                  </a:lnTo>
                  <a:lnTo>
                    <a:pt x="15" y="1624"/>
                  </a:lnTo>
                  <a:lnTo>
                    <a:pt x="20" y="1616"/>
                  </a:lnTo>
                  <a:lnTo>
                    <a:pt x="23" y="1613"/>
                  </a:lnTo>
                  <a:lnTo>
                    <a:pt x="25" y="1610"/>
                  </a:lnTo>
                  <a:lnTo>
                    <a:pt x="28" y="1607"/>
                  </a:lnTo>
                  <a:lnTo>
                    <a:pt x="31" y="1604"/>
                  </a:lnTo>
                  <a:lnTo>
                    <a:pt x="34" y="1602"/>
                  </a:lnTo>
                  <a:lnTo>
                    <a:pt x="36" y="1599"/>
                  </a:lnTo>
                  <a:lnTo>
                    <a:pt x="40" y="1598"/>
                  </a:lnTo>
                  <a:lnTo>
                    <a:pt x="43" y="1596"/>
                  </a:lnTo>
                  <a:lnTo>
                    <a:pt x="46" y="1594"/>
                  </a:lnTo>
                  <a:lnTo>
                    <a:pt x="50" y="1593"/>
                  </a:lnTo>
                  <a:lnTo>
                    <a:pt x="53" y="1592"/>
                  </a:lnTo>
                  <a:lnTo>
                    <a:pt x="57" y="1591"/>
                  </a:lnTo>
                  <a:lnTo>
                    <a:pt x="64" y="1589"/>
                  </a:lnTo>
                  <a:lnTo>
                    <a:pt x="72" y="1589"/>
                  </a:lnTo>
                  <a:lnTo>
                    <a:pt x="75" y="1589"/>
                  </a:lnTo>
                  <a:lnTo>
                    <a:pt x="79" y="1589"/>
                  </a:lnTo>
                  <a:lnTo>
                    <a:pt x="89" y="1592"/>
                  </a:lnTo>
                  <a:lnTo>
                    <a:pt x="102" y="1594"/>
                  </a:lnTo>
                  <a:lnTo>
                    <a:pt x="116" y="1598"/>
                  </a:lnTo>
                  <a:lnTo>
                    <a:pt x="139" y="1604"/>
                  </a:lnTo>
                  <a:lnTo>
                    <a:pt x="156" y="1608"/>
                  </a:lnTo>
                  <a:lnTo>
                    <a:pt x="171" y="1610"/>
                  </a:lnTo>
                  <a:lnTo>
                    <a:pt x="177" y="1611"/>
                  </a:lnTo>
                  <a:lnTo>
                    <a:pt x="182" y="1611"/>
                  </a:lnTo>
                  <a:lnTo>
                    <a:pt x="188" y="1611"/>
                  </a:lnTo>
                  <a:lnTo>
                    <a:pt x="195" y="1610"/>
                  </a:lnTo>
                  <a:lnTo>
                    <a:pt x="203" y="1609"/>
                  </a:lnTo>
                  <a:lnTo>
                    <a:pt x="210" y="1607"/>
                  </a:lnTo>
                  <a:lnTo>
                    <a:pt x="218" y="1603"/>
                  </a:lnTo>
                  <a:lnTo>
                    <a:pt x="225" y="1599"/>
                  </a:lnTo>
                  <a:lnTo>
                    <a:pt x="240" y="1591"/>
                  </a:lnTo>
                  <a:lnTo>
                    <a:pt x="255" y="1578"/>
                  </a:lnTo>
                  <a:lnTo>
                    <a:pt x="272" y="1565"/>
                  </a:lnTo>
                  <a:lnTo>
                    <a:pt x="289" y="1548"/>
                  </a:lnTo>
                  <a:lnTo>
                    <a:pt x="306" y="1528"/>
                  </a:lnTo>
                  <a:lnTo>
                    <a:pt x="338" y="1488"/>
                  </a:lnTo>
                  <a:lnTo>
                    <a:pt x="374" y="1437"/>
                  </a:lnTo>
                  <a:lnTo>
                    <a:pt x="457" y="1306"/>
                  </a:lnTo>
                  <a:lnTo>
                    <a:pt x="555" y="1135"/>
                  </a:lnTo>
                  <a:lnTo>
                    <a:pt x="667" y="923"/>
                  </a:lnTo>
                  <a:lnTo>
                    <a:pt x="797" y="680"/>
                  </a:lnTo>
                  <a:lnTo>
                    <a:pt x="913" y="477"/>
                  </a:lnTo>
                  <a:lnTo>
                    <a:pt x="1016" y="316"/>
                  </a:lnTo>
                  <a:lnTo>
                    <a:pt x="1062" y="251"/>
                  </a:lnTo>
                  <a:lnTo>
                    <a:pt x="1105" y="196"/>
                  </a:lnTo>
                  <a:lnTo>
                    <a:pt x="1012" y="209"/>
                  </a:lnTo>
                  <a:lnTo>
                    <a:pt x="937" y="221"/>
                  </a:lnTo>
                  <a:lnTo>
                    <a:pt x="881" y="233"/>
                  </a:lnTo>
                  <a:lnTo>
                    <a:pt x="860" y="238"/>
                  </a:lnTo>
                  <a:lnTo>
                    <a:pt x="844" y="244"/>
                  </a:lnTo>
                  <a:lnTo>
                    <a:pt x="827" y="251"/>
                  </a:lnTo>
                  <a:lnTo>
                    <a:pt x="811" y="260"/>
                  </a:lnTo>
                  <a:lnTo>
                    <a:pt x="796" y="270"/>
                  </a:lnTo>
                  <a:lnTo>
                    <a:pt x="782" y="280"/>
                  </a:lnTo>
                  <a:lnTo>
                    <a:pt x="768" y="290"/>
                  </a:lnTo>
                  <a:lnTo>
                    <a:pt x="757" y="303"/>
                  </a:lnTo>
                  <a:lnTo>
                    <a:pt x="747" y="316"/>
                  </a:lnTo>
                  <a:lnTo>
                    <a:pt x="737" y="330"/>
                  </a:lnTo>
                  <a:lnTo>
                    <a:pt x="729" y="343"/>
                  </a:lnTo>
                  <a:lnTo>
                    <a:pt x="722" y="358"/>
                  </a:lnTo>
                  <a:lnTo>
                    <a:pt x="716" y="371"/>
                  </a:lnTo>
                  <a:lnTo>
                    <a:pt x="711" y="386"/>
                  </a:lnTo>
                  <a:lnTo>
                    <a:pt x="707" y="399"/>
                  </a:lnTo>
                  <a:lnTo>
                    <a:pt x="704" y="414"/>
                  </a:lnTo>
                  <a:lnTo>
                    <a:pt x="703" y="427"/>
                  </a:lnTo>
                  <a:lnTo>
                    <a:pt x="702" y="442"/>
                  </a:lnTo>
                  <a:lnTo>
                    <a:pt x="702" y="446"/>
                  </a:lnTo>
                  <a:lnTo>
                    <a:pt x="703" y="451"/>
                  </a:lnTo>
                  <a:lnTo>
                    <a:pt x="703" y="455"/>
                  </a:lnTo>
                  <a:lnTo>
                    <a:pt x="704" y="460"/>
                  </a:lnTo>
                  <a:lnTo>
                    <a:pt x="705" y="465"/>
                  </a:lnTo>
                  <a:lnTo>
                    <a:pt x="707" y="471"/>
                  </a:lnTo>
                  <a:lnTo>
                    <a:pt x="710" y="482"/>
                  </a:lnTo>
                  <a:lnTo>
                    <a:pt x="718" y="509"/>
                  </a:lnTo>
                  <a:lnTo>
                    <a:pt x="724" y="532"/>
                  </a:lnTo>
                  <a:lnTo>
                    <a:pt x="725" y="542"/>
                  </a:lnTo>
                  <a:lnTo>
                    <a:pt x="727" y="551"/>
                  </a:lnTo>
                  <a:lnTo>
                    <a:pt x="728" y="558"/>
                  </a:lnTo>
                  <a:lnTo>
                    <a:pt x="728" y="562"/>
                  </a:lnTo>
                  <a:lnTo>
                    <a:pt x="728" y="564"/>
                  </a:lnTo>
                  <a:lnTo>
                    <a:pt x="728" y="573"/>
                  </a:lnTo>
                  <a:lnTo>
                    <a:pt x="727" y="581"/>
                  </a:lnTo>
                  <a:lnTo>
                    <a:pt x="726" y="586"/>
                  </a:lnTo>
                  <a:lnTo>
                    <a:pt x="725" y="590"/>
                  </a:lnTo>
                  <a:lnTo>
                    <a:pt x="724" y="595"/>
                  </a:lnTo>
                  <a:lnTo>
                    <a:pt x="723" y="598"/>
                  </a:lnTo>
                  <a:lnTo>
                    <a:pt x="721" y="602"/>
                  </a:lnTo>
                  <a:lnTo>
                    <a:pt x="720" y="606"/>
                  </a:lnTo>
                  <a:lnTo>
                    <a:pt x="718" y="609"/>
                  </a:lnTo>
                  <a:lnTo>
                    <a:pt x="716" y="613"/>
                  </a:lnTo>
                  <a:lnTo>
                    <a:pt x="711" y="620"/>
                  </a:lnTo>
                  <a:lnTo>
                    <a:pt x="706" y="628"/>
                  </a:lnTo>
                  <a:lnTo>
                    <a:pt x="700" y="634"/>
                  </a:lnTo>
                  <a:lnTo>
                    <a:pt x="697" y="638"/>
                  </a:lnTo>
                  <a:lnTo>
                    <a:pt x="694" y="640"/>
                  </a:lnTo>
                  <a:lnTo>
                    <a:pt x="692" y="642"/>
                  </a:lnTo>
                  <a:lnTo>
                    <a:pt x="689" y="645"/>
                  </a:lnTo>
                  <a:lnTo>
                    <a:pt x="686" y="646"/>
                  </a:lnTo>
                  <a:lnTo>
                    <a:pt x="682" y="649"/>
                  </a:lnTo>
                  <a:lnTo>
                    <a:pt x="679" y="650"/>
                  </a:lnTo>
                  <a:lnTo>
                    <a:pt x="675" y="651"/>
                  </a:lnTo>
                  <a:lnTo>
                    <a:pt x="668" y="653"/>
                  </a:lnTo>
                  <a:lnTo>
                    <a:pt x="660" y="655"/>
                  </a:lnTo>
                  <a:lnTo>
                    <a:pt x="653" y="655"/>
                  </a:lnTo>
                  <a:lnTo>
                    <a:pt x="643" y="655"/>
                  </a:lnTo>
                  <a:lnTo>
                    <a:pt x="638" y="653"/>
                  </a:lnTo>
                  <a:lnTo>
                    <a:pt x="633" y="652"/>
                  </a:lnTo>
                  <a:lnTo>
                    <a:pt x="628" y="651"/>
                  </a:lnTo>
                  <a:lnTo>
                    <a:pt x="624" y="650"/>
                  </a:lnTo>
                  <a:lnTo>
                    <a:pt x="619" y="647"/>
                  </a:lnTo>
                  <a:lnTo>
                    <a:pt x="616" y="645"/>
                  </a:lnTo>
                  <a:lnTo>
                    <a:pt x="612" y="642"/>
                  </a:lnTo>
                  <a:lnTo>
                    <a:pt x="608" y="640"/>
                  </a:lnTo>
                  <a:lnTo>
                    <a:pt x="604" y="636"/>
                  </a:lnTo>
                  <a:lnTo>
                    <a:pt x="600" y="634"/>
                  </a:lnTo>
                  <a:lnTo>
                    <a:pt x="597" y="630"/>
                  </a:lnTo>
                  <a:lnTo>
                    <a:pt x="593" y="625"/>
                  </a:lnTo>
                  <a:lnTo>
                    <a:pt x="590" y="622"/>
                  </a:lnTo>
                  <a:lnTo>
                    <a:pt x="587" y="617"/>
                  </a:lnTo>
                  <a:lnTo>
                    <a:pt x="584" y="612"/>
                  </a:lnTo>
                  <a:lnTo>
                    <a:pt x="582" y="607"/>
                  </a:lnTo>
                  <a:lnTo>
                    <a:pt x="579" y="602"/>
                  </a:lnTo>
                  <a:lnTo>
                    <a:pt x="577" y="596"/>
                  </a:lnTo>
                  <a:lnTo>
                    <a:pt x="575" y="591"/>
                  </a:lnTo>
                  <a:lnTo>
                    <a:pt x="573" y="585"/>
                  </a:lnTo>
                  <a:lnTo>
                    <a:pt x="569" y="572"/>
                  </a:lnTo>
                  <a:lnTo>
                    <a:pt x="566" y="558"/>
                  </a:lnTo>
                  <a:lnTo>
                    <a:pt x="565" y="543"/>
                  </a:lnTo>
                  <a:lnTo>
                    <a:pt x="563" y="528"/>
                  </a:lnTo>
                  <a:lnTo>
                    <a:pt x="563" y="510"/>
                  </a:lnTo>
                  <a:lnTo>
                    <a:pt x="564" y="488"/>
                  </a:lnTo>
                  <a:lnTo>
                    <a:pt x="565" y="465"/>
                  </a:lnTo>
                  <a:lnTo>
                    <a:pt x="568" y="443"/>
                  </a:lnTo>
                  <a:lnTo>
                    <a:pt x="573" y="421"/>
                  </a:lnTo>
                  <a:lnTo>
                    <a:pt x="578" y="400"/>
                  </a:lnTo>
                  <a:lnTo>
                    <a:pt x="584" y="378"/>
                  </a:lnTo>
                  <a:lnTo>
                    <a:pt x="591" y="356"/>
                  </a:lnTo>
                  <a:lnTo>
                    <a:pt x="600" y="336"/>
                  </a:lnTo>
                  <a:lnTo>
                    <a:pt x="610" y="315"/>
                  </a:lnTo>
                  <a:lnTo>
                    <a:pt x="620" y="295"/>
                  </a:lnTo>
                  <a:lnTo>
                    <a:pt x="633" y="276"/>
                  </a:lnTo>
                  <a:lnTo>
                    <a:pt x="646" y="259"/>
                  </a:lnTo>
                  <a:lnTo>
                    <a:pt x="659" y="240"/>
                  </a:lnTo>
                  <a:lnTo>
                    <a:pt x="674" y="225"/>
                  </a:lnTo>
                  <a:lnTo>
                    <a:pt x="691" y="210"/>
                  </a:lnTo>
                  <a:lnTo>
                    <a:pt x="707" y="195"/>
                  </a:lnTo>
                  <a:lnTo>
                    <a:pt x="725" y="182"/>
                  </a:lnTo>
                  <a:lnTo>
                    <a:pt x="743" y="168"/>
                  </a:lnTo>
                  <a:lnTo>
                    <a:pt x="764" y="156"/>
                  </a:lnTo>
                  <a:lnTo>
                    <a:pt x="784" y="145"/>
                  </a:lnTo>
                  <a:lnTo>
                    <a:pt x="805" y="135"/>
                  </a:lnTo>
                  <a:lnTo>
                    <a:pt x="829" y="126"/>
                  </a:lnTo>
                  <a:lnTo>
                    <a:pt x="852" y="117"/>
                  </a:lnTo>
                  <a:lnTo>
                    <a:pt x="877" y="110"/>
                  </a:lnTo>
                  <a:lnTo>
                    <a:pt x="891" y="106"/>
                  </a:lnTo>
                  <a:lnTo>
                    <a:pt x="908" y="102"/>
                  </a:lnTo>
                  <a:lnTo>
                    <a:pt x="947" y="95"/>
                  </a:lnTo>
                  <a:lnTo>
                    <a:pt x="996" y="88"/>
                  </a:lnTo>
                  <a:lnTo>
                    <a:pt x="1056" y="82"/>
                  </a:lnTo>
                  <a:lnTo>
                    <a:pt x="1142" y="72"/>
                  </a:lnTo>
                  <a:lnTo>
                    <a:pt x="1168" y="67"/>
                  </a:lnTo>
                  <a:lnTo>
                    <a:pt x="1178" y="66"/>
                  </a:lnTo>
                  <a:lnTo>
                    <a:pt x="1184" y="63"/>
                  </a:lnTo>
                  <a:lnTo>
                    <a:pt x="1197" y="58"/>
                  </a:lnTo>
                  <a:lnTo>
                    <a:pt x="1209" y="53"/>
                  </a:lnTo>
                  <a:lnTo>
                    <a:pt x="1238" y="39"/>
                  </a:lnTo>
                  <a:lnTo>
                    <a:pt x="1268" y="22"/>
                  </a:lnTo>
                  <a:lnTo>
                    <a:pt x="1302" y="0"/>
                  </a:lnTo>
                  <a:lnTo>
                    <a:pt x="1262" y="280"/>
                  </a:lnTo>
                  <a:lnTo>
                    <a:pt x="1188" y="960"/>
                  </a:lnTo>
                  <a:lnTo>
                    <a:pt x="1147" y="1421"/>
                  </a:lnTo>
                  <a:lnTo>
                    <a:pt x="1160" y="1424"/>
                  </a:lnTo>
                  <a:lnTo>
                    <a:pt x="1172" y="1428"/>
                  </a:lnTo>
                  <a:lnTo>
                    <a:pt x="1185" y="1431"/>
                  </a:lnTo>
                  <a:lnTo>
                    <a:pt x="1199" y="1433"/>
                  </a:lnTo>
                  <a:lnTo>
                    <a:pt x="1224" y="1435"/>
                  </a:lnTo>
                  <a:lnTo>
                    <a:pt x="1250" y="1437"/>
                  </a:lnTo>
                  <a:lnTo>
                    <a:pt x="1270" y="1435"/>
                  </a:lnTo>
                  <a:lnTo>
                    <a:pt x="1293" y="1434"/>
                  </a:lnTo>
                  <a:lnTo>
                    <a:pt x="1320" y="1431"/>
                  </a:lnTo>
                  <a:close/>
                  <a:moveTo>
                    <a:pt x="1012" y="969"/>
                  </a:moveTo>
                  <a:lnTo>
                    <a:pt x="1033" y="757"/>
                  </a:lnTo>
                  <a:lnTo>
                    <a:pt x="1055" y="579"/>
                  </a:lnTo>
                  <a:lnTo>
                    <a:pt x="1077" y="433"/>
                  </a:lnTo>
                  <a:lnTo>
                    <a:pt x="1088" y="374"/>
                  </a:lnTo>
                  <a:lnTo>
                    <a:pt x="1099" y="321"/>
                  </a:lnTo>
                  <a:lnTo>
                    <a:pt x="1061" y="407"/>
                  </a:lnTo>
                  <a:lnTo>
                    <a:pt x="1031" y="471"/>
                  </a:lnTo>
                  <a:lnTo>
                    <a:pt x="1009" y="515"/>
                  </a:lnTo>
                  <a:lnTo>
                    <a:pt x="1000" y="530"/>
                  </a:lnTo>
                  <a:lnTo>
                    <a:pt x="996" y="535"/>
                  </a:lnTo>
                  <a:lnTo>
                    <a:pt x="993" y="540"/>
                  </a:lnTo>
                  <a:lnTo>
                    <a:pt x="754" y="970"/>
                  </a:lnTo>
                  <a:lnTo>
                    <a:pt x="953" y="971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1240" y="4452840"/>
              <a:ext cx="349200" cy="384120"/>
            </a:xfrm>
            <a:custGeom>
              <a:avLst/>
              <a:gdLst/>
              <a:ahLst/>
              <a:rect l="l" t="t" r="r" b="b"/>
              <a:pathLst>
                <a:path w="971" h="1067">
                  <a:moveTo>
                    <a:pt x="970" y="805"/>
                  </a:moveTo>
                  <a:lnTo>
                    <a:pt x="924" y="866"/>
                  </a:lnTo>
                  <a:lnTo>
                    <a:pt x="881" y="919"/>
                  </a:lnTo>
                  <a:lnTo>
                    <a:pt x="840" y="964"/>
                  </a:lnTo>
                  <a:lnTo>
                    <a:pt x="801" y="1001"/>
                  </a:lnTo>
                  <a:lnTo>
                    <a:pt x="764" y="1029"/>
                  </a:lnTo>
                  <a:lnTo>
                    <a:pt x="747" y="1040"/>
                  </a:lnTo>
                  <a:lnTo>
                    <a:pt x="730" y="1050"/>
                  </a:lnTo>
                  <a:lnTo>
                    <a:pt x="715" y="1057"/>
                  </a:lnTo>
                  <a:lnTo>
                    <a:pt x="698" y="1062"/>
                  </a:lnTo>
                  <a:lnTo>
                    <a:pt x="683" y="1064"/>
                  </a:lnTo>
                  <a:lnTo>
                    <a:pt x="669" y="1066"/>
                  </a:lnTo>
                  <a:lnTo>
                    <a:pt x="664" y="1066"/>
                  </a:lnTo>
                  <a:lnTo>
                    <a:pt x="659" y="1064"/>
                  </a:lnTo>
                  <a:lnTo>
                    <a:pt x="655" y="1064"/>
                  </a:lnTo>
                  <a:lnTo>
                    <a:pt x="650" y="1063"/>
                  </a:lnTo>
                  <a:lnTo>
                    <a:pt x="645" y="1062"/>
                  </a:lnTo>
                  <a:lnTo>
                    <a:pt x="642" y="1060"/>
                  </a:lnTo>
                  <a:lnTo>
                    <a:pt x="637" y="1058"/>
                  </a:lnTo>
                  <a:lnTo>
                    <a:pt x="633" y="1056"/>
                  </a:lnTo>
                  <a:lnTo>
                    <a:pt x="624" y="1050"/>
                  </a:lnTo>
                  <a:lnTo>
                    <a:pt x="616" y="1042"/>
                  </a:lnTo>
                  <a:lnTo>
                    <a:pt x="608" y="1035"/>
                  </a:lnTo>
                  <a:lnTo>
                    <a:pt x="600" y="1025"/>
                  </a:lnTo>
                  <a:lnTo>
                    <a:pt x="596" y="1019"/>
                  </a:lnTo>
                  <a:lnTo>
                    <a:pt x="592" y="1013"/>
                  </a:lnTo>
                  <a:lnTo>
                    <a:pt x="588" y="1006"/>
                  </a:lnTo>
                  <a:lnTo>
                    <a:pt x="585" y="997"/>
                  </a:lnTo>
                  <a:lnTo>
                    <a:pt x="581" y="989"/>
                  </a:lnTo>
                  <a:lnTo>
                    <a:pt x="578" y="979"/>
                  </a:lnTo>
                  <a:lnTo>
                    <a:pt x="572" y="957"/>
                  </a:lnTo>
                  <a:lnTo>
                    <a:pt x="568" y="930"/>
                  </a:lnTo>
                  <a:lnTo>
                    <a:pt x="563" y="901"/>
                  </a:lnTo>
                  <a:lnTo>
                    <a:pt x="559" y="869"/>
                  </a:lnTo>
                  <a:lnTo>
                    <a:pt x="556" y="832"/>
                  </a:lnTo>
                  <a:lnTo>
                    <a:pt x="526" y="364"/>
                  </a:lnTo>
                  <a:lnTo>
                    <a:pt x="474" y="566"/>
                  </a:lnTo>
                  <a:lnTo>
                    <a:pt x="449" y="651"/>
                  </a:lnTo>
                  <a:lnTo>
                    <a:pt x="424" y="727"/>
                  </a:lnTo>
                  <a:lnTo>
                    <a:pt x="399" y="794"/>
                  </a:lnTo>
                  <a:lnTo>
                    <a:pt x="375" y="851"/>
                  </a:lnTo>
                  <a:lnTo>
                    <a:pt x="352" y="897"/>
                  </a:lnTo>
                  <a:lnTo>
                    <a:pt x="340" y="918"/>
                  </a:lnTo>
                  <a:lnTo>
                    <a:pt x="328" y="935"/>
                  </a:lnTo>
                  <a:lnTo>
                    <a:pt x="305" y="965"/>
                  </a:lnTo>
                  <a:lnTo>
                    <a:pt x="280" y="992"/>
                  </a:lnTo>
                  <a:lnTo>
                    <a:pt x="255" y="1014"/>
                  </a:lnTo>
                  <a:lnTo>
                    <a:pt x="243" y="1024"/>
                  </a:lnTo>
                  <a:lnTo>
                    <a:pt x="230" y="1033"/>
                  </a:lnTo>
                  <a:lnTo>
                    <a:pt x="216" y="1040"/>
                  </a:lnTo>
                  <a:lnTo>
                    <a:pt x="204" y="1047"/>
                  </a:lnTo>
                  <a:lnTo>
                    <a:pt x="190" y="1052"/>
                  </a:lnTo>
                  <a:lnTo>
                    <a:pt x="176" y="1057"/>
                  </a:lnTo>
                  <a:lnTo>
                    <a:pt x="163" y="1061"/>
                  </a:lnTo>
                  <a:lnTo>
                    <a:pt x="149" y="1063"/>
                  </a:lnTo>
                  <a:lnTo>
                    <a:pt x="135" y="1066"/>
                  </a:lnTo>
                  <a:lnTo>
                    <a:pt x="121" y="1066"/>
                  </a:lnTo>
                  <a:lnTo>
                    <a:pt x="108" y="1066"/>
                  </a:lnTo>
                  <a:lnTo>
                    <a:pt x="96" y="1063"/>
                  </a:lnTo>
                  <a:lnTo>
                    <a:pt x="84" y="1061"/>
                  </a:lnTo>
                  <a:lnTo>
                    <a:pt x="73" y="1057"/>
                  </a:lnTo>
                  <a:lnTo>
                    <a:pt x="62" y="1051"/>
                  </a:lnTo>
                  <a:lnTo>
                    <a:pt x="53" y="1045"/>
                  </a:lnTo>
                  <a:lnTo>
                    <a:pt x="43" y="1038"/>
                  </a:lnTo>
                  <a:lnTo>
                    <a:pt x="34" y="1029"/>
                  </a:lnTo>
                  <a:lnTo>
                    <a:pt x="30" y="1024"/>
                  </a:lnTo>
                  <a:lnTo>
                    <a:pt x="26" y="1020"/>
                  </a:lnTo>
                  <a:lnTo>
                    <a:pt x="23" y="1014"/>
                  </a:lnTo>
                  <a:lnTo>
                    <a:pt x="20" y="1009"/>
                  </a:lnTo>
                  <a:lnTo>
                    <a:pt x="17" y="1005"/>
                  </a:lnTo>
                  <a:lnTo>
                    <a:pt x="14" y="998"/>
                  </a:lnTo>
                  <a:lnTo>
                    <a:pt x="11" y="994"/>
                  </a:lnTo>
                  <a:lnTo>
                    <a:pt x="9" y="987"/>
                  </a:lnTo>
                  <a:lnTo>
                    <a:pt x="7" y="981"/>
                  </a:lnTo>
                  <a:lnTo>
                    <a:pt x="5" y="974"/>
                  </a:lnTo>
                  <a:lnTo>
                    <a:pt x="3" y="968"/>
                  </a:lnTo>
                  <a:lnTo>
                    <a:pt x="2" y="962"/>
                  </a:lnTo>
                  <a:lnTo>
                    <a:pt x="1" y="954"/>
                  </a:lnTo>
                  <a:lnTo>
                    <a:pt x="1" y="947"/>
                  </a:lnTo>
                  <a:lnTo>
                    <a:pt x="0" y="932"/>
                  </a:lnTo>
                  <a:lnTo>
                    <a:pt x="0" y="918"/>
                  </a:lnTo>
                  <a:lnTo>
                    <a:pt x="2" y="904"/>
                  </a:lnTo>
                  <a:lnTo>
                    <a:pt x="4" y="892"/>
                  </a:lnTo>
                  <a:lnTo>
                    <a:pt x="6" y="886"/>
                  </a:lnTo>
                  <a:lnTo>
                    <a:pt x="8" y="880"/>
                  </a:lnTo>
                  <a:lnTo>
                    <a:pt x="9" y="874"/>
                  </a:lnTo>
                  <a:lnTo>
                    <a:pt x="12" y="868"/>
                  </a:lnTo>
                  <a:lnTo>
                    <a:pt x="14" y="863"/>
                  </a:lnTo>
                  <a:lnTo>
                    <a:pt x="17" y="858"/>
                  </a:lnTo>
                  <a:lnTo>
                    <a:pt x="23" y="847"/>
                  </a:lnTo>
                  <a:lnTo>
                    <a:pt x="29" y="837"/>
                  </a:lnTo>
                  <a:lnTo>
                    <a:pt x="37" y="829"/>
                  </a:lnTo>
                  <a:lnTo>
                    <a:pt x="45" y="821"/>
                  </a:lnTo>
                  <a:lnTo>
                    <a:pt x="49" y="818"/>
                  </a:lnTo>
                  <a:lnTo>
                    <a:pt x="54" y="815"/>
                  </a:lnTo>
                  <a:lnTo>
                    <a:pt x="58" y="811"/>
                  </a:lnTo>
                  <a:lnTo>
                    <a:pt x="62" y="810"/>
                  </a:lnTo>
                  <a:lnTo>
                    <a:pt x="66" y="808"/>
                  </a:lnTo>
                  <a:lnTo>
                    <a:pt x="71" y="805"/>
                  </a:lnTo>
                  <a:lnTo>
                    <a:pt x="81" y="803"/>
                  </a:lnTo>
                  <a:lnTo>
                    <a:pt x="91" y="800"/>
                  </a:lnTo>
                  <a:lnTo>
                    <a:pt x="100" y="800"/>
                  </a:lnTo>
                  <a:lnTo>
                    <a:pt x="106" y="800"/>
                  </a:lnTo>
                  <a:lnTo>
                    <a:pt x="113" y="802"/>
                  </a:lnTo>
                  <a:lnTo>
                    <a:pt x="120" y="804"/>
                  </a:lnTo>
                  <a:lnTo>
                    <a:pt x="129" y="807"/>
                  </a:lnTo>
                  <a:lnTo>
                    <a:pt x="137" y="809"/>
                  </a:lnTo>
                  <a:lnTo>
                    <a:pt x="147" y="814"/>
                  </a:lnTo>
                  <a:lnTo>
                    <a:pt x="169" y="824"/>
                  </a:lnTo>
                  <a:lnTo>
                    <a:pt x="173" y="826"/>
                  </a:lnTo>
                  <a:lnTo>
                    <a:pt x="178" y="829"/>
                  </a:lnTo>
                  <a:lnTo>
                    <a:pt x="183" y="830"/>
                  </a:lnTo>
                  <a:lnTo>
                    <a:pt x="188" y="832"/>
                  </a:lnTo>
                  <a:lnTo>
                    <a:pt x="193" y="833"/>
                  </a:lnTo>
                  <a:lnTo>
                    <a:pt x="197" y="833"/>
                  </a:lnTo>
                  <a:lnTo>
                    <a:pt x="202" y="835"/>
                  </a:lnTo>
                  <a:lnTo>
                    <a:pt x="206" y="835"/>
                  </a:lnTo>
                  <a:lnTo>
                    <a:pt x="210" y="835"/>
                  </a:lnTo>
                  <a:lnTo>
                    <a:pt x="215" y="833"/>
                  </a:lnTo>
                  <a:lnTo>
                    <a:pt x="220" y="833"/>
                  </a:lnTo>
                  <a:lnTo>
                    <a:pt x="225" y="831"/>
                  </a:lnTo>
                  <a:lnTo>
                    <a:pt x="230" y="830"/>
                  </a:lnTo>
                  <a:lnTo>
                    <a:pt x="235" y="827"/>
                  </a:lnTo>
                  <a:lnTo>
                    <a:pt x="240" y="825"/>
                  </a:lnTo>
                  <a:lnTo>
                    <a:pt x="245" y="822"/>
                  </a:lnTo>
                  <a:lnTo>
                    <a:pt x="255" y="815"/>
                  </a:lnTo>
                  <a:lnTo>
                    <a:pt x="265" y="805"/>
                  </a:lnTo>
                  <a:lnTo>
                    <a:pt x="275" y="796"/>
                  </a:lnTo>
                  <a:lnTo>
                    <a:pt x="284" y="783"/>
                  </a:lnTo>
                  <a:lnTo>
                    <a:pt x="289" y="776"/>
                  </a:lnTo>
                  <a:lnTo>
                    <a:pt x="295" y="767"/>
                  </a:lnTo>
                  <a:lnTo>
                    <a:pt x="308" y="744"/>
                  </a:lnTo>
                  <a:lnTo>
                    <a:pt x="321" y="716"/>
                  </a:lnTo>
                  <a:lnTo>
                    <a:pt x="337" y="681"/>
                  </a:lnTo>
                  <a:lnTo>
                    <a:pt x="372" y="590"/>
                  </a:lnTo>
                  <a:lnTo>
                    <a:pt x="414" y="473"/>
                  </a:lnTo>
                  <a:lnTo>
                    <a:pt x="480" y="274"/>
                  </a:lnTo>
                  <a:lnTo>
                    <a:pt x="497" y="218"/>
                  </a:lnTo>
                  <a:lnTo>
                    <a:pt x="501" y="202"/>
                  </a:lnTo>
                  <a:lnTo>
                    <a:pt x="502" y="196"/>
                  </a:lnTo>
                  <a:lnTo>
                    <a:pt x="502" y="193"/>
                  </a:lnTo>
                  <a:lnTo>
                    <a:pt x="502" y="192"/>
                  </a:lnTo>
                  <a:lnTo>
                    <a:pt x="502" y="191"/>
                  </a:lnTo>
                  <a:lnTo>
                    <a:pt x="502" y="190"/>
                  </a:lnTo>
                  <a:lnTo>
                    <a:pt x="502" y="187"/>
                  </a:lnTo>
                  <a:lnTo>
                    <a:pt x="501" y="186"/>
                  </a:lnTo>
                  <a:lnTo>
                    <a:pt x="501" y="186"/>
                  </a:lnTo>
                  <a:lnTo>
                    <a:pt x="501" y="185"/>
                  </a:lnTo>
                  <a:lnTo>
                    <a:pt x="500" y="183"/>
                  </a:lnTo>
                  <a:lnTo>
                    <a:pt x="500" y="182"/>
                  </a:lnTo>
                  <a:lnTo>
                    <a:pt x="500" y="182"/>
                  </a:lnTo>
                  <a:lnTo>
                    <a:pt x="499" y="181"/>
                  </a:lnTo>
                  <a:lnTo>
                    <a:pt x="499" y="181"/>
                  </a:lnTo>
                  <a:lnTo>
                    <a:pt x="499" y="181"/>
                  </a:lnTo>
                  <a:lnTo>
                    <a:pt x="498" y="180"/>
                  </a:lnTo>
                  <a:lnTo>
                    <a:pt x="497" y="180"/>
                  </a:lnTo>
                  <a:lnTo>
                    <a:pt x="497" y="180"/>
                  </a:lnTo>
                  <a:lnTo>
                    <a:pt x="496" y="180"/>
                  </a:lnTo>
                  <a:lnTo>
                    <a:pt x="490" y="180"/>
                  </a:lnTo>
                  <a:lnTo>
                    <a:pt x="483" y="182"/>
                  </a:lnTo>
                  <a:lnTo>
                    <a:pt x="475" y="185"/>
                  </a:lnTo>
                  <a:lnTo>
                    <a:pt x="467" y="188"/>
                  </a:lnTo>
                  <a:lnTo>
                    <a:pt x="459" y="193"/>
                  </a:lnTo>
                  <a:lnTo>
                    <a:pt x="450" y="199"/>
                  </a:lnTo>
                  <a:lnTo>
                    <a:pt x="430" y="215"/>
                  </a:lnTo>
                  <a:lnTo>
                    <a:pt x="408" y="235"/>
                  </a:lnTo>
                  <a:lnTo>
                    <a:pt x="384" y="258"/>
                  </a:lnTo>
                  <a:lnTo>
                    <a:pt x="357" y="286"/>
                  </a:lnTo>
                  <a:lnTo>
                    <a:pt x="329" y="319"/>
                  </a:lnTo>
                  <a:lnTo>
                    <a:pt x="268" y="255"/>
                  </a:lnTo>
                  <a:lnTo>
                    <a:pt x="318" y="196"/>
                  </a:lnTo>
                  <a:lnTo>
                    <a:pt x="366" y="144"/>
                  </a:lnTo>
                  <a:lnTo>
                    <a:pt x="411" y="100"/>
                  </a:lnTo>
                  <a:lnTo>
                    <a:pt x="453" y="64"/>
                  </a:lnTo>
                  <a:lnTo>
                    <a:pt x="492" y="36"/>
                  </a:lnTo>
                  <a:lnTo>
                    <a:pt x="510" y="25"/>
                  </a:lnTo>
                  <a:lnTo>
                    <a:pt x="528" y="16"/>
                  </a:lnTo>
                  <a:lnTo>
                    <a:pt x="545" y="9"/>
                  </a:lnTo>
                  <a:lnTo>
                    <a:pt x="561" y="4"/>
                  </a:lnTo>
                  <a:lnTo>
                    <a:pt x="576" y="1"/>
                  </a:lnTo>
                  <a:lnTo>
                    <a:pt x="591" y="0"/>
                  </a:lnTo>
                  <a:lnTo>
                    <a:pt x="604" y="1"/>
                  </a:lnTo>
                  <a:lnTo>
                    <a:pt x="615" y="3"/>
                  </a:lnTo>
                  <a:lnTo>
                    <a:pt x="620" y="4"/>
                  </a:lnTo>
                  <a:lnTo>
                    <a:pt x="625" y="6"/>
                  </a:lnTo>
                  <a:lnTo>
                    <a:pt x="630" y="7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43" y="16"/>
                  </a:lnTo>
                  <a:lnTo>
                    <a:pt x="646" y="18"/>
                  </a:lnTo>
                  <a:lnTo>
                    <a:pt x="649" y="22"/>
                  </a:lnTo>
                  <a:lnTo>
                    <a:pt x="652" y="26"/>
                  </a:lnTo>
                  <a:lnTo>
                    <a:pt x="655" y="31"/>
                  </a:lnTo>
                  <a:lnTo>
                    <a:pt x="658" y="34"/>
                  </a:lnTo>
                  <a:lnTo>
                    <a:pt x="660" y="39"/>
                  </a:lnTo>
                  <a:lnTo>
                    <a:pt x="664" y="50"/>
                  </a:lnTo>
                  <a:lnTo>
                    <a:pt x="668" y="64"/>
                  </a:lnTo>
                  <a:lnTo>
                    <a:pt x="671" y="78"/>
                  </a:lnTo>
                  <a:lnTo>
                    <a:pt x="674" y="97"/>
                  </a:lnTo>
                  <a:lnTo>
                    <a:pt x="677" y="116"/>
                  </a:lnTo>
                  <a:lnTo>
                    <a:pt x="680" y="138"/>
                  </a:lnTo>
                  <a:lnTo>
                    <a:pt x="683" y="188"/>
                  </a:lnTo>
                  <a:lnTo>
                    <a:pt x="721" y="752"/>
                  </a:lnTo>
                  <a:lnTo>
                    <a:pt x="724" y="783"/>
                  </a:lnTo>
                  <a:lnTo>
                    <a:pt x="727" y="811"/>
                  </a:lnTo>
                  <a:lnTo>
                    <a:pt x="731" y="835"/>
                  </a:lnTo>
                  <a:lnTo>
                    <a:pt x="733" y="846"/>
                  </a:lnTo>
                  <a:lnTo>
                    <a:pt x="736" y="854"/>
                  </a:lnTo>
                  <a:lnTo>
                    <a:pt x="739" y="863"/>
                  </a:lnTo>
                  <a:lnTo>
                    <a:pt x="741" y="869"/>
                  </a:lnTo>
                  <a:lnTo>
                    <a:pt x="744" y="875"/>
                  </a:lnTo>
                  <a:lnTo>
                    <a:pt x="748" y="880"/>
                  </a:lnTo>
                  <a:lnTo>
                    <a:pt x="749" y="882"/>
                  </a:lnTo>
                  <a:lnTo>
                    <a:pt x="751" y="884"/>
                  </a:lnTo>
                  <a:lnTo>
                    <a:pt x="753" y="885"/>
                  </a:lnTo>
                  <a:lnTo>
                    <a:pt x="754" y="886"/>
                  </a:lnTo>
                  <a:lnTo>
                    <a:pt x="755" y="887"/>
                  </a:lnTo>
                  <a:lnTo>
                    <a:pt x="757" y="888"/>
                  </a:lnTo>
                  <a:lnTo>
                    <a:pt x="759" y="888"/>
                  </a:lnTo>
                  <a:lnTo>
                    <a:pt x="761" y="888"/>
                  </a:lnTo>
                  <a:lnTo>
                    <a:pt x="764" y="888"/>
                  </a:lnTo>
                  <a:lnTo>
                    <a:pt x="766" y="887"/>
                  </a:lnTo>
                  <a:lnTo>
                    <a:pt x="769" y="886"/>
                  </a:lnTo>
                  <a:lnTo>
                    <a:pt x="773" y="885"/>
                  </a:lnTo>
                  <a:lnTo>
                    <a:pt x="776" y="882"/>
                  </a:lnTo>
                  <a:lnTo>
                    <a:pt x="780" y="880"/>
                  </a:lnTo>
                  <a:lnTo>
                    <a:pt x="789" y="874"/>
                  </a:lnTo>
                  <a:lnTo>
                    <a:pt x="797" y="865"/>
                  </a:lnTo>
                  <a:lnTo>
                    <a:pt x="808" y="855"/>
                  </a:lnTo>
                  <a:lnTo>
                    <a:pt x="831" y="830"/>
                  </a:lnTo>
                  <a:lnTo>
                    <a:pt x="860" y="798"/>
                  </a:lnTo>
                  <a:lnTo>
                    <a:pt x="886" y="772"/>
                  </a:lnTo>
                  <a:lnTo>
                    <a:pt x="898" y="761"/>
                  </a:lnTo>
                  <a:lnTo>
                    <a:pt x="909" y="753"/>
                  </a:lnTo>
                  <a:lnTo>
                    <a:pt x="920" y="744"/>
                  </a:lnTo>
                  <a:lnTo>
                    <a:pt x="930" y="737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17840" y="4451400"/>
              <a:ext cx="225360" cy="384120"/>
            </a:xfrm>
            <a:custGeom>
              <a:avLst/>
              <a:gdLst/>
              <a:ahLst/>
              <a:rect l="l" t="t" r="r" b="b"/>
              <a:pathLst>
                <a:path w="624" h="1069">
                  <a:moveTo>
                    <a:pt x="520" y="694"/>
                  </a:moveTo>
                  <a:lnTo>
                    <a:pt x="568" y="772"/>
                  </a:lnTo>
                  <a:lnTo>
                    <a:pt x="509" y="842"/>
                  </a:lnTo>
                  <a:lnTo>
                    <a:pt x="452" y="901"/>
                  </a:lnTo>
                  <a:lnTo>
                    <a:pt x="397" y="952"/>
                  </a:lnTo>
                  <a:lnTo>
                    <a:pt x="344" y="993"/>
                  </a:lnTo>
                  <a:lnTo>
                    <a:pt x="295" y="1026"/>
                  </a:lnTo>
                  <a:lnTo>
                    <a:pt x="269" y="1038"/>
                  </a:lnTo>
                  <a:lnTo>
                    <a:pt x="246" y="1049"/>
                  </a:lnTo>
                  <a:lnTo>
                    <a:pt x="222" y="1057"/>
                  </a:lnTo>
                  <a:lnTo>
                    <a:pt x="199" y="1063"/>
                  </a:lnTo>
                  <a:lnTo>
                    <a:pt x="177" y="1066"/>
                  </a:lnTo>
                  <a:lnTo>
                    <a:pt x="155" y="1068"/>
                  </a:lnTo>
                  <a:lnTo>
                    <a:pt x="137" y="1066"/>
                  </a:lnTo>
                  <a:lnTo>
                    <a:pt x="119" y="1064"/>
                  </a:lnTo>
                  <a:lnTo>
                    <a:pt x="112" y="1062"/>
                  </a:lnTo>
                  <a:lnTo>
                    <a:pt x="104" y="1059"/>
                  </a:lnTo>
                  <a:lnTo>
                    <a:pt x="96" y="1055"/>
                  </a:lnTo>
                  <a:lnTo>
                    <a:pt x="88" y="1052"/>
                  </a:lnTo>
                  <a:lnTo>
                    <a:pt x="81" y="1048"/>
                  </a:lnTo>
                  <a:lnTo>
                    <a:pt x="75" y="1043"/>
                  </a:lnTo>
                  <a:lnTo>
                    <a:pt x="68" y="1038"/>
                  </a:lnTo>
                  <a:lnTo>
                    <a:pt x="62" y="1032"/>
                  </a:lnTo>
                  <a:lnTo>
                    <a:pt x="56" y="1026"/>
                  </a:lnTo>
                  <a:lnTo>
                    <a:pt x="50" y="1019"/>
                  </a:lnTo>
                  <a:lnTo>
                    <a:pt x="44" y="1011"/>
                  </a:lnTo>
                  <a:lnTo>
                    <a:pt x="40" y="1004"/>
                  </a:lnTo>
                  <a:lnTo>
                    <a:pt x="35" y="996"/>
                  </a:lnTo>
                  <a:lnTo>
                    <a:pt x="30" y="987"/>
                  </a:lnTo>
                  <a:lnTo>
                    <a:pt x="26" y="977"/>
                  </a:lnTo>
                  <a:lnTo>
                    <a:pt x="22" y="967"/>
                  </a:lnTo>
                  <a:lnTo>
                    <a:pt x="15" y="947"/>
                  </a:lnTo>
                  <a:lnTo>
                    <a:pt x="9" y="922"/>
                  </a:lnTo>
                  <a:lnTo>
                    <a:pt x="5" y="897"/>
                  </a:lnTo>
                  <a:lnTo>
                    <a:pt x="3" y="868"/>
                  </a:lnTo>
                  <a:lnTo>
                    <a:pt x="1" y="838"/>
                  </a:lnTo>
                  <a:lnTo>
                    <a:pt x="0" y="806"/>
                  </a:lnTo>
                  <a:lnTo>
                    <a:pt x="2" y="741"/>
                  </a:lnTo>
                  <a:lnTo>
                    <a:pt x="7" y="678"/>
                  </a:lnTo>
                  <a:lnTo>
                    <a:pt x="17" y="613"/>
                  </a:lnTo>
                  <a:lnTo>
                    <a:pt x="31" y="550"/>
                  </a:lnTo>
                  <a:lnTo>
                    <a:pt x="48" y="485"/>
                  </a:lnTo>
                  <a:lnTo>
                    <a:pt x="70" y="421"/>
                  </a:lnTo>
                  <a:lnTo>
                    <a:pt x="95" y="358"/>
                  </a:lnTo>
                  <a:lnTo>
                    <a:pt x="124" y="294"/>
                  </a:lnTo>
                  <a:lnTo>
                    <a:pt x="160" y="225"/>
                  </a:lnTo>
                  <a:lnTo>
                    <a:pt x="199" y="165"/>
                  </a:lnTo>
                  <a:lnTo>
                    <a:pt x="219" y="139"/>
                  </a:lnTo>
                  <a:lnTo>
                    <a:pt x="239" y="115"/>
                  </a:lnTo>
                  <a:lnTo>
                    <a:pt x="259" y="93"/>
                  </a:lnTo>
                  <a:lnTo>
                    <a:pt x="281" y="73"/>
                  </a:lnTo>
                  <a:lnTo>
                    <a:pt x="302" y="56"/>
                  </a:lnTo>
                  <a:lnTo>
                    <a:pt x="325" y="41"/>
                  </a:lnTo>
                  <a:lnTo>
                    <a:pt x="347" y="28"/>
                  </a:lnTo>
                  <a:lnTo>
                    <a:pt x="369" y="18"/>
                  </a:lnTo>
                  <a:lnTo>
                    <a:pt x="394" y="9"/>
                  </a:lnTo>
                  <a:lnTo>
                    <a:pt x="417" y="5"/>
                  </a:lnTo>
                  <a:lnTo>
                    <a:pt x="441" y="1"/>
                  </a:lnTo>
                  <a:lnTo>
                    <a:pt x="467" y="0"/>
                  </a:lnTo>
                  <a:lnTo>
                    <a:pt x="485" y="1"/>
                  </a:lnTo>
                  <a:lnTo>
                    <a:pt x="502" y="2"/>
                  </a:lnTo>
                  <a:lnTo>
                    <a:pt x="517" y="7"/>
                  </a:lnTo>
                  <a:lnTo>
                    <a:pt x="533" y="12"/>
                  </a:lnTo>
                  <a:lnTo>
                    <a:pt x="540" y="16"/>
                  </a:lnTo>
                  <a:lnTo>
                    <a:pt x="547" y="18"/>
                  </a:lnTo>
                  <a:lnTo>
                    <a:pt x="553" y="23"/>
                  </a:lnTo>
                  <a:lnTo>
                    <a:pt x="559" y="27"/>
                  </a:lnTo>
                  <a:lnTo>
                    <a:pt x="566" y="31"/>
                  </a:lnTo>
                  <a:lnTo>
                    <a:pt x="572" y="38"/>
                  </a:lnTo>
                  <a:lnTo>
                    <a:pt x="577" y="42"/>
                  </a:lnTo>
                  <a:lnTo>
                    <a:pt x="583" y="49"/>
                  </a:lnTo>
                  <a:lnTo>
                    <a:pt x="587" y="55"/>
                  </a:lnTo>
                  <a:lnTo>
                    <a:pt x="592" y="62"/>
                  </a:lnTo>
                  <a:lnTo>
                    <a:pt x="596" y="68"/>
                  </a:lnTo>
                  <a:lnTo>
                    <a:pt x="600" y="75"/>
                  </a:lnTo>
                  <a:lnTo>
                    <a:pt x="604" y="83"/>
                  </a:lnTo>
                  <a:lnTo>
                    <a:pt x="608" y="90"/>
                  </a:lnTo>
                  <a:lnTo>
                    <a:pt x="611" y="99"/>
                  </a:lnTo>
                  <a:lnTo>
                    <a:pt x="614" y="106"/>
                  </a:lnTo>
                  <a:lnTo>
                    <a:pt x="616" y="115"/>
                  </a:lnTo>
                  <a:lnTo>
                    <a:pt x="618" y="123"/>
                  </a:lnTo>
                  <a:lnTo>
                    <a:pt x="621" y="141"/>
                  </a:lnTo>
                  <a:lnTo>
                    <a:pt x="623" y="161"/>
                  </a:lnTo>
                  <a:lnTo>
                    <a:pt x="623" y="181"/>
                  </a:lnTo>
                  <a:lnTo>
                    <a:pt x="623" y="201"/>
                  </a:lnTo>
                  <a:lnTo>
                    <a:pt x="621" y="222"/>
                  </a:lnTo>
                  <a:lnTo>
                    <a:pt x="618" y="243"/>
                  </a:lnTo>
                  <a:lnTo>
                    <a:pt x="613" y="262"/>
                  </a:lnTo>
                  <a:lnTo>
                    <a:pt x="606" y="283"/>
                  </a:lnTo>
                  <a:lnTo>
                    <a:pt x="598" y="303"/>
                  </a:lnTo>
                  <a:lnTo>
                    <a:pt x="589" y="323"/>
                  </a:lnTo>
                  <a:lnTo>
                    <a:pt x="579" y="343"/>
                  </a:lnTo>
                  <a:lnTo>
                    <a:pt x="566" y="363"/>
                  </a:lnTo>
                  <a:lnTo>
                    <a:pt x="552" y="382"/>
                  </a:lnTo>
                  <a:lnTo>
                    <a:pt x="537" y="402"/>
                  </a:lnTo>
                  <a:lnTo>
                    <a:pt x="519" y="421"/>
                  </a:lnTo>
                  <a:lnTo>
                    <a:pt x="500" y="440"/>
                  </a:lnTo>
                  <a:lnTo>
                    <a:pt x="478" y="459"/>
                  </a:lnTo>
                  <a:lnTo>
                    <a:pt x="456" y="479"/>
                  </a:lnTo>
                  <a:lnTo>
                    <a:pt x="431" y="497"/>
                  </a:lnTo>
                  <a:lnTo>
                    <a:pt x="392" y="524"/>
                  </a:lnTo>
                  <a:lnTo>
                    <a:pt x="339" y="557"/>
                  </a:lnTo>
                  <a:lnTo>
                    <a:pt x="198" y="640"/>
                  </a:lnTo>
                  <a:lnTo>
                    <a:pt x="195" y="664"/>
                  </a:lnTo>
                  <a:lnTo>
                    <a:pt x="193" y="690"/>
                  </a:lnTo>
                  <a:lnTo>
                    <a:pt x="191" y="717"/>
                  </a:lnTo>
                  <a:lnTo>
                    <a:pt x="191" y="744"/>
                  </a:lnTo>
                  <a:lnTo>
                    <a:pt x="191" y="762"/>
                  </a:lnTo>
                  <a:lnTo>
                    <a:pt x="192" y="778"/>
                  </a:lnTo>
                  <a:lnTo>
                    <a:pt x="193" y="794"/>
                  </a:lnTo>
                  <a:lnTo>
                    <a:pt x="195" y="807"/>
                  </a:lnTo>
                  <a:lnTo>
                    <a:pt x="197" y="818"/>
                  </a:lnTo>
                  <a:lnTo>
                    <a:pt x="198" y="823"/>
                  </a:lnTo>
                  <a:lnTo>
                    <a:pt x="200" y="828"/>
                  </a:lnTo>
                  <a:lnTo>
                    <a:pt x="201" y="833"/>
                  </a:lnTo>
                  <a:lnTo>
                    <a:pt x="203" y="837"/>
                  </a:lnTo>
                  <a:lnTo>
                    <a:pt x="205" y="840"/>
                  </a:lnTo>
                  <a:lnTo>
                    <a:pt x="207" y="844"/>
                  </a:lnTo>
                  <a:lnTo>
                    <a:pt x="209" y="846"/>
                  </a:lnTo>
                  <a:lnTo>
                    <a:pt x="211" y="850"/>
                  </a:lnTo>
                  <a:lnTo>
                    <a:pt x="214" y="853"/>
                  </a:lnTo>
                  <a:lnTo>
                    <a:pt x="216" y="855"/>
                  </a:lnTo>
                  <a:lnTo>
                    <a:pt x="219" y="856"/>
                  </a:lnTo>
                  <a:lnTo>
                    <a:pt x="221" y="859"/>
                  </a:lnTo>
                  <a:lnTo>
                    <a:pt x="223" y="861"/>
                  </a:lnTo>
                  <a:lnTo>
                    <a:pt x="226" y="862"/>
                  </a:lnTo>
                  <a:lnTo>
                    <a:pt x="229" y="864"/>
                  </a:lnTo>
                  <a:lnTo>
                    <a:pt x="232" y="865"/>
                  </a:lnTo>
                  <a:lnTo>
                    <a:pt x="235" y="866"/>
                  </a:lnTo>
                  <a:lnTo>
                    <a:pt x="238" y="867"/>
                  </a:lnTo>
                  <a:lnTo>
                    <a:pt x="245" y="868"/>
                  </a:lnTo>
                  <a:lnTo>
                    <a:pt x="253" y="868"/>
                  </a:lnTo>
                  <a:lnTo>
                    <a:pt x="261" y="868"/>
                  </a:lnTo>
                  <a:lnTo>
                    <a:pt x="270" y="867"/>
                  </a:lnTo>
                  <a:lnTo>
                    <a:pt x="280" y="865"/>
                  </a:lnTo>
                  <a:lnTo>
                    <a:pt x="289" y="862"/>
                  </a:lnTo>
                  <a:lnTo>
                    <a:pt x="298" y="859"/>
                  </a:lnTo>
                  <a:lnTo>
                    <a:pt x="308" y="855"/>
                  </a:lnTo>
                  <a:lnTo>
                    <a:pt x="318" y="850"/>
                  </a:lnTo>
                  <a:lnTo>
                    <a:pt x="329" y="844"/>
                  </a:lnTo>
                  <a:lnTo>
                    <a:pt x="344" y="834"/>
                  </a:lnTo>
                  <a:lnTo>
                    <a:pt x="363" y="822"/>
                  </a:lnTo>
                  <a:lnTo>
                    <a:pt x="405" y="789"/>
                  </a:lnTo>
                  <a:lnTo>
                    <a:pt x="458" y="746"/>
                  </a:lnTo>
                  <a:close/>
                  <a:moveTo>
                    <a:pt x="211" y="524"/>
                  </a:moveTo>
                  <a:lnTo>
                    <a:pt x="267" y="484"/>
                  </a:lnTo>
                  <a:lnTo>
                    <a:pt x="317" y="443"/>
                  </a:lnTo>
                  <a:lnTo>
                    <a:pt x="339" y="424"/>
                  </a:lnTo>
                  <a:lnTo>
                    <a:pt x="360" y="403"/>
                  </a:lnTo>
                  <a:lnTo>
                    <a:pt x="379" y="383"/>
                  </a:lnTo>
                  <a:lnTo>
                    <a:pt x="397" y="364"/>
                  </a:lnTo>
                  <a:lnTo>
                    <a:pt x="408" y="345"/>
                  </a:lnTo>
                  <a:lnTo>
                    <a:pt x="419" y="327"/>
                  </a:lnTo>
                  <a:lnTo>
                    <a:pt x="428" y="310"/>
                  </a:lnTo>
                  <a:lnTo>
                    <a:pt x="436" y="293"/>
                  </a:lnTo>
                  <a:lnTo>
                    <a:pt x="441" y="277"/>
                  </a:lnTo>
                  <a:lnTo>
                    <a:pt x="443" y="270"/>
                  </a:lnTo>
                  <a:lnTo>
                    <a:pt x="445" y="261"/>
                  </a:lnTo>
                  <a:lnTo>
                    <a:pt x="446" y="254"/>
                  </a:lnTo>
                  <a:lnTo>
                    <a:pt x="447" y="247"/>
                  </a:lnTo>
                  <a:lnTo>
                    <a:pt x="448" y="239"/>
                  </a:lnTo>
                  <a:lnTo>
                    <a:pt x="448" y="232"/>
                  </a:lnTo>
                  <a:lnTo>
                    <a:pt x="448" y="222"/>
                  </a:lnTo>
                  <a:lnTo>
                    <a:pt x="447" y="212"/>
                  </a:lnTo>
                  <a:lnTo>
                    <a:pt x="446" y="204"/>
                  </a:lnTo>
                  <a:lnTo>
                    <a:pt x="444" y="196"/>
                  </a:lnTo>
                  <a:lnTo>
                    <a:pt x="442" y="188"/>
                  </a:lnTo>
                  <a:lnTo>
                    <a:pt x="441" y="184"/>
                  </a:lnTo>
                  <a:lnTo>
                    <a:pt x="440" y="182"/>
                  </a:lnTo>
                  <a:lnTo>
                    <a:pt x="439" y="178"/>
                  </a:lnTo>
                  <a:lnTo>
                    <a:pt x="437" y="174"/>
                  </a:lnTo>
                  <a:lnTo>
                    <a:pt x="435" y="171"/>
                  </a:lnTo>
                  <a:lnTo>
                    <a:pt x="433" y="168"/>
                  </a:lnTo>
                  <a:lnTo>
                    <a:pt x="429" y="163"/>
                  </a:lnTo>
                  <a:lnTo>
                    <a:pt x="426" y="161"/>
                  </a:lnTo>
                  <a:lnTo>
                    <a:pt x="424" y="159"/>
                  </a:lnTo>
                  <a:lnTo>
                    <a:pt x="422" y="157"/>
                  </a:lnTo>
                  <a:lnTo>
                    <a:pt x="419" y="155"/>
                  </a:lnTo>
                  <a:lnTo>
                    <a:pt x="417" y="154"/>
                  </a:lnTo>
                  <a:lnTo>
                    <a:pt x="414" y="152"/>
                  </a:lnTo>
                  <a:lnTo>
                    <a:pt x="412" y="150"/>
                  </a:lnTo>
                  <a:lnTo>
                    <a:pt x="409" y="150"/>
                  </a:lnTo>
                  <a:lnTo>
                    <a:pt x="406" y="149"/>
                  </a:lnTo>
                  <a:lnTo>
                    <a:pt x="404" y="148"/>
                  </a:lnTo>
                  <a:lnTo>
                    <a:pt x="398" y="146"/>
                  </a:lnTo>
                  <a:lnTo>
                    <a:pt x="392" y="146"/>
                  </a:lnTo>
                  <a:lnTo>
                    <a:pt x="389" y="146"/>
                  </a:lnTo>
                  <a:lnTo>
                    <a:pt x="385" y="146"/>
                  </a:lnTo>
                  <a:lnTo>
                    <a:pt x="377" y="149"/>
                  </a:lnTo>
                  <a:lnTo>
                    <a:pt x="368" y="151"/>
                  </a:lnTo>
                  <a:lnTo>
                    <a:pt x="359" y="155"/>
                  </a:lnTo>
                  <a:lnTo>
                    <a:pt x="348" y="160"/>
                  </a:lnTo>
                  <a:lnTo>
                    <a:pt x="336" y="165"/>
                  </a:lnTo>
                  <a:lnTo>
                    <a:pt x="325" y="172"/>
                  </a:lnTo>
                  <a:lnTo>
                    <a:pt x="312" y="179"/>
                  </a:lnTo>
                  <a:lnTo>
                    <a:pt x="271" y="268"/>
                  </a:lnTo>
                  <a:lnTo>
                    <a:pt x="252" y="342"/>
                  </a:lnTo>
                  <a:lnTo>
                    <a:pt x="235" y="409"/>
                  </a:lnTo>
                  <a:lnTo>
                    <a:pt x="222" y="469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7240" y="4435560"/>
              <a:ext cx="424080" cy="554040"/>
            </a:xfrm>
            <a:custGeom>
              <a:avLst/>
              <a:gdLst/>
              <a:ahLst/>
              <a:rect l="l" t="t" r="r" b="b"/>
              <a:pathLst>
                <a:path w="1177" h="1539">
                  <a:moveTo>
                    <a:pt x="323" y="482"/>
                  </a:moveTo>
                  <a:lnTo>
                    <a:pt x="327" y="471"/>
                  </a:lnTo>
                  <a:lnTo>
                    <a:pt x="333" y="459"/>
                  </a:lnTo>
                  <a:lnTo>
                    <a:pt x="341" y="444"/>
                  </a:lnTo>
                  <a:lnTo>
                    <a:pt x="351" y="427"/>
                  </a:lnTo>
                  <a:lnTo>
                    <a:pt x="375" y="387"/>
                  </a:lnTo>
                  <a:lnTo>
                    <a:pt x="406" y="338"/>
                  </a:lnTo>
                  <a:lnTo>
                    <a:pt x="470" y="241"/>
                  </a:lnTo>
                  <a:lnTo>
                    <a:pt x="527" y="164"/>
                  </a:lnTo>
                  <a:lnTo>
                    <a:pt x="553" y="131"/>
                  </a:lnTo>
                  <a:lnTo>
                    <a:pt x="576" y="104"/>
                  </a:lnTo>
                  <a:lnTo>
                    <a:pt x="599" y="82"/>
                  </a:lnTo>
                  <a:lnTo>
                    <a:pt x="618" y="64"/>
                  </a:lnTo>
                  <a:lnTo>
                    <a:pt x="637" y="49"/>
                  </a:lnTo>
                  <a:lnTo>
                    <a:pt x="656" y="36"/>
                  </a:lnTo>
                  <a:lnTo>
                    <a:pt x="675" y="25"/>
                  </a:lnTo>
                  <a:lnTo>
                    <a:pt x="693" y="16"/>
                  </a:lnTo>
                  <a:lnTo>
                    <a:pt x="713" y="9"/>
                  </a:lnTo>
                  <a:lnTo>
                    <a:pt x="731" y="4"/>
                  </a:lnTo>
                  <a:lnTo>
                    <a:pt x="750" y="2"/>
                  </a:lnTo>
                  <a:lnTo>
                    <a:pt x="768" y="0"/>
                  </a:lnTo>
                  <a:lnTo>
                    <a:pt x="781" y="0"/>
                  </a:lnTo>
                  <a:lnTo>
                    <a:pt x="792" y="2"/>
                  </a:lnTo>
                  <a:lnTo>
                    <a:pt x="802" y="4"/>
                  </a:lnTo>
                  <a:lnTo>
                    <a:pt x="812" y="7"/>
                  </a:lnTo>
                  <a:lnTo>
                    <a:pt x="821" y="10"/>
                  </a:lnTo>
                  <a:lnTo>
                    <a:pt x="830" y="15"/>
                  </a:lnTo>
                  <a:lnTo>
                    <a:pt x="837" y="20"/>
                  </a:lnTo>
                  <a:lnTo>
                    <a:pt x="843" y="26"/>
                  </a:lnTo>
                  <a:lnTo>
                    <a:pt x="849" y="32"/>
                  </a:lnTo>
                  <a:lnTo>
                    <a:pt x="855" y="41"/>
                  </a:lnTo>
                  <a:lnTo>
                    <a:pt x="859" y="48"/>
                  </a:lnTo>
                  <a:lnTo>
                    <a:pt x="863" y="58"/>
                  </a:lnTo>
                  <a:lnTo>
                    <a:pt x="865" y="68"/>
                  </a:lnTo>
                  <a:lnTo>
                    <a:pt x="867" y="79"/>
                  </a:lnTo>
                  <a:lnTo>
                    <a:pt x="868" y="90"/>
                  </a:lnTo>
                  <a:lnTo>
                    <a:pt x="868" y="102"/>
                  </a:lnTo>
                  <a:lnTo>
                    <a:pt x="868" y="114"/>
                  </a:lnTo>
                  <a:lnTo>
                    <a:pt x="867" y="125"/>
                  </a:lnTo>
                  <a:lnTo>
                    <a:pt x="866" y="136"/>
                  </a:lnTo>
                  <a:lnTo>
                    <a:pt x="863" y="146"/>
                  </a:lnTo>
                  <a:lnTo>
                    <a:pt x="860" y="154"/>
                  </a:lnTo>
                  <a:lnTo>
                    <a:pt x="856" y="163"/>
                  </a:lnTo>
                  <a:lnTo>
                    <a:pt x="851" y="170"/>
                  </a:lnTo>
                  <a:lnTo>
                    <a:pt x="845" y="178"/>
                  </a:lnTo>
                  <a:lnTo>
                    <a:pt x="839" y="183"/>
                  </a:lnTo>
                  <a:lnTo>
                    <a:pt x="832" y="189"/>
                  </a:lnTo>
                  <a:lnTo>
                    <a:pt x="825" y="192"/>
                  </a:lnTo>
                  <a:lnTo>
                    <a:pt x="816" y="196"/>
                  </a:lnTo>
                  <a:lnTo>
                    <a:pt x="807" y="198"/>
                  </a:lnTo>
                  <a:lnTo>
                    <a:pt x="797" y="201"/>
                  </a:lnTo>
                  <a:lnTo>
                    <a:pt x="787" y="202"/>
                  </a:lnTo>
                  <a:lnTo>
                    <a:pt x="775" y="202"/>
                  </a:lnTo>
                  <a:lnTo>
                    <a:pt x="748" y="201"/>
                  </a:lnTo>
                  <a:lnTo>
                    <a:pt x="730" y="200"/>
                  </a:lnTo>
                  <a:lnTo>
                    <a:pt x="724" y="198"/>
                  </a:lnTo>
                  <a:lnTo>
                    <a:pt x="720" y="198"/>
                  </a:lnTo>
                  <a:lnTo>
                    <a:pt x="707" y="198"/>
                  </a:lnTo>
                  <a:lnTo>
                    <a:pt x="694" y="201"/>
                  </a:lnTo>
                  <a:lnTo>
                    <a:pt x="683" y="203"/>
                  </a:lnTo>
                  <a:lnTo>
                    <a:pt x="670" y="208"/>
                  </a:lnTo>
                  <a:lnTo>
                    <a:pt x="657" y="213"/>
                  </a:lnTo>
                  <a:lnTo>
                    <a:pt x="645" y="219"/>
                  </a:lnTo>
                  <a:lnTo>
                    <a:pt x="632" y="227"/>
                  </a:lnTo>
                  <a:lnTo>
                    <a:pt x="619" y="235"/>
                  </a:lnTo>
                  <a:lnTo>
                    <a:pt x="607" y="246"/>
                  </a:lnTo>
                  <a:lnTo>
                    <a:pt x="592" y="258"/>
                  </a:lnTo>
                  <a:lnTo>
                    <a:pt x="576" y="274"/>
                  </a:lnTo>
                  <a:lnTo>
                    <a:pt x="561" y="293"/>
                  </a:lnTo>
                  <a:lnTo>
                    <a:pt x="524" y="335"/>
                  </a:lnTo>
                  <a:lnTo>
                    <a:pt x="484" y="389"/>
                  </a:lnTo>
                  <a:lnTo>
                    <a:pt x="445" y="442"/>
                  </a:lnTo>
                  <a:lnTo>
                    <a:pt x="429" y="464"/>
                  </a:lnTo>
                  <a:lnTo>
                    <a:pt x="413" y="482"/>
                  </a:lnTo>
                  <a:lnTo>
                    <a:pt x="399" y="497"/>
                  </a:lnTo>
                  <a:lnTo>
                    <a:pt x="388" y="508"/>
                  </a:lnTo>
                  <a:lnTo>
                    <a:pt x="382" y="512"/>
                  </a:lnTo>
                  <a:lnTo>
                    <a:pt x="377" y="516"/>
                  </a:lnTo>
                  <a:lnTo>
                    <a:pt x="372" y="519"/>
                  </a:lnTo>
                  <a:lnTo>
                    <a:pt x="368" y="521"/>
                  </a:lnTo>
                  <a:lnTo>
                    <a:pt x="397" y="537"/>
                  </a:lnTo>
                  <a:lnTo>
                    <a:pt x="424" y="553"/>
                  </a:lnTo>
                  <a:lnTo>
                    <a:pt x="448" y="569"/>
                  </a:lnTo>
                  <a:lnTo>
                    <a:pt x="470" y="586"/>
                  </a:lnTo>
                  <a:lnTo>
                    <a:pt x="491" y="604"/>
                  </a:lnTo>
                  <a:lnTo>
                    <a:pt x="508" y="622"/>
                  </a:lnTo>
                  <a:lnTo>
                    <a:pt x="524" y="642"/>
                  </a:lnTo>
                  <a:lnTo>
                    <a:pt x="538" y="662"/>
                  </a:lnTo>
                  <a:lnTo>
                    <a:pt x="551" y="685"/>
                  </a:lnTo>
                  <a:lnTo>
                    <a:pt x="566" y="715"/>
                  </a:lnTo>
                  <a:lnTo>
                    <a:pt x="581" y="752"/>
                  </a:lnTo>
                  <a:lnTo>
                    <a:pt x="599" y="797"/>
                  </a:lnTo>
                  <a:lnTo>
                    <a:pt x="639" y="907"/>
                  </a:lnTo>
                  <a:lnTo>
                    <a:pt x="684" y="1044"/>
                  </a:lnTo>
                  <a:lnTo>
                    <a:pt x="719" y="1142"/>
                  </a:lnTo>
                  <a:lnTo>
                    <a:pt x="735" y="1185"/>
                  </a:lnTo>
                  <a:lnTo>
                    <a:pt x="752" y="1222"/>
                  </a:lnTo>
                  <a:lnTo>
                    <a:pt x="767" y="1257"/>
                  </a:lnTo>
                  <a:lnTo>
                    <a:pt x="783" y="1287"/>
                  </a:lnTo>
                  <a:lnTo>
                    <a:pt x="798" y="1314"/>
                  </a:lnTo>
                  <a:lnTo>
                    <a:pt x="813" y="1336"/>
                  </a:lnTo>
                  <a:lnTo>
                    <a:pt x="829" y="1356"/>
                  </a:lnTo>
                  <a:lnTo>
                    <a:pt x="844" y="1371"/>
                  </a:lnTo>
                  <a:lnTo>
                    <a:pt x="852" y="1379"/>
                  </a:lnTo>
                  <a:lnTo>
                    <a:pt x="861" y="1386"/>
                  </a:lnTo>
                  <a:lnTo>
                    <a:pt x="869" y="1392"/>
                  </a:lnTo>
                  <a:lnTo>
                    <a:pt x="877" y="1397"/>
                  </a:lnTo>
                  <a:lnTo>
                    <a:pt x="886" y="1402"/>
                  </a:lnTo>
                  <a:lnTo>
                    <a:pt x="896" y="1407"/>
                  </a:lnTo>
                  <a:lnTo>
                    <a:pt x="904" y="1411"/>
                  </a:lnTo>
                  <a:lnTo>
                    <a:pt x="914" y="1413"/>
                  </a:lnTo>
                  <a:lnTo>
                    <a:pt x="923" y="1415"/>
                  </a:lnTo>
                  <a:lnTo>
                    <a:pt x="933" y="1417"/>
                  </a:lnTo>
                  <a:lnTo>
                    <a:pt x="943" y="1418"/>
                  </a:lnTo>
                  <a:lnTo>
                    <a:pt x="953" y="1418"/>
                  </a:lnTo>
                  <a:lnTo>
                    <a:pt x="961" y="1418"/>
                  </a:lnTo>
                  <a:lnTo>
                    <a:pt x="969" y="1417"/>
                  </a:lnTo>
                  <a:lnTo>
                    <a:pt x="976" y="1415"/>
                  </a:lnTo>
                  <a:lnTo>
                    <a:pt x="983" y="1413"/>
                  </a:lnTo>
                  <a:lnTo>
                    <a:pt x="991" y="1411"/>
                  </a:lnTo>
                  <a:lnTo>
                    <a:pt x="998" y="1408"/>
                  </a:lnTo>
                  <a:lnTo>
                    <a:pt x="1004" y="1404"/>
                  </a:lnTo>
                  <a:lnTo>
                    <a:pt x="1011" y="1400"/>
                  </a:lnTo>
                  <a:lnTo>
                    <a:pt x="1016" y="1395"/>
                  </a:lnTo>
                  <a:lnTo>
                    <a:pt x="1022" y="1391"/>
                  </a:lnTo>
                  <a:lnTo>
                    <a:pt x="1026" y="1386"/>
                  </a:lnTo>
                  <a:lnTo>
                    <a:pt x="1030" y="1382"/>
                  </a:lnTo>
                  <a:lnTo>
                    <a:pt x="1031" y="1380"/>
                  </a:lnTo>
                  <a:lnTo>
                    <a:pt x="1033" y="1379"/>
                  </a:lnTo>
                  <a:lnTo>
                    <a:pt x="1034" y="1376"/>
                  </a:lnTo>
                  <a:lnTo>
                    <a:pt x="1034" y="1375"/>
                  </a:lnTo>
                  <a:lnTo>
                    <a:pt x="1035" y="1373"/>
                  </a:lnTo>
                  <a:lnTo>
                    <a:pt x="1036" y="1371"/>
                  </a:lnTo>
                  <a:lnTo>
                    <a:pt x="1036" y="1369"/>
                  </a:lnTo>
                  <a:lnTo>
                    <a:pt x="1036" y="1368"/>
                  </a:lnTo>
                  <a:lnTo>
                    <a:pt x="1036" y="1367"/>
                  </a:lnTo>
                  <a:lnTo>
                    <a:pt x="1036" y="1365"/>
                  </a:lnTo>
                  <a:lnTo>
                    <a:pt x="1035" y="1362"/>
                  </a:lnTo>
                  <a:lnTo>
                    <a:pt x="1035" y="1358"/>
                  </a:lnTo>
                  <a:lnTo>
                    <a:pt x="1034" y="1353"/>
                  </a:lnTo>
                  <a:lnTo>
                    <a:pt x="1031" y="1342"/>
                  </a:lnTo>
                  <a:lnTo>
                    <a:pt x="1027" y="1327"/>
                  </a:lnTo>
                  <a:lnTo>
                    <a:pt x="1022" y="1310"/>
                  </a:lnTo>
                  <a:lnTo>
                    <a:pt x="1019" y="1296"/>
                  </a:lnTo>
                  <a:lnTo>
                    <a:pt x="1018" y="1288"/>
                  </a:lnTo>
                  <a:lnTo>
                    <a:pt x="1017" y="1282"/>
                  </a:lnTo>
                  <a:lnTo>
                    <a:pt x="1016" y="1276"/>
                  </a:lnTo>
                  <a:lnTo>
                    <a:pt x="1016" y="1270"/>
                  </a:lnTo>
                  <a:lnTo>
                    <a:pt x="1016" y="1261"/>
                  </a:lnTo>
                  <a:lnTo>
                    <a:pt x="1017" y="1253"/>
                  </a:lnTo>
                  <a:lnTo>
                    <a:pt x="1019" y="1244"/>
                  </a:lnTo>
                  <a:lnTo>
                    <a:pt x="1020" y="1241"/>
                  </a:lnTo>
                  <a:lnTo>
                    <a:pt x="1021" y="1237"/>
                  </a:lnTo>
                  <a:lnTo>
                    <a:pt x="1023" y="1232"/>
                  </a:lnTo>
                  <a:lnTo>
                    <a:pt x="1024" y="1228"/>
                  </a:lnTo>
                  <a:lnTo>
                    <a:pt x="1028" y="1221"/>
                  </a:lnTo>
                  <a:lnTo>
                    <a:pt x="1033" y="1214"/>
                  </a:lnTo>
                  <a:lnTo>
                    <a:pt x="1038" y="1207"/>
                  </a:lnTo>
                  <a:lnTo>
                    <a:pt x="1044" y="1199"/>
                  </a:lnTo>
                  <a:lnTo>
                    <a:pt x="1047" y="1197"/>
                  </a:lnTo>
                  <a:lnTo>
                    <a:pt x="1049" y="1194"/>
                  </a:lnTo>
                  <a:lnTo>
                    <a:pt x="1052" y="1191"/>
                  </a:lnTo>
                  <a:lnTo>
                    <a:pt x="1056" y="1188"/>
                  </a:lnTo>
                  <a:lnTo>
                    <a:pt x="1059" y="1187"/>
                  </a:lnTo>
                  <a:lnTo>
                    <a:pt x="1062" y="1185"/>
                  </a:lnTo>
                  <a:lnTo>
                    <a:pt x="1066" y="1183"/>
                  </a:lnTo>
                  <a:lnTo>
                    <a:pt x="1070" y="1181"/>
                  </a:lnTo>
                  <a:lnTo>
                    <a:pt x="1073" y="1180"/>
                  </a:lnTo>
                  <a:lnTo>
                    <a:pt x="1077" y="1180"/>
                  </a:lnTo>
                  <a:lnTo>
                    <a:pt x="1085" y="1177"/>
                  </a:lnTo>
                  <a:lnTo>
                    <a:pt x="1092" y="1177"/>
                  </a:lnTo>
                  <a:lnTo>
                    <a:pt x="1101" y="1177"/>
                  </a:lnTo>
                  <a:lnTo>
                    <a:pt x="1106" y="1178"/>
                  </a:lnTo>
                  <a:lnTo>
                    <a:pt x="1110" y="1180"/>
                  </a:lnTo>
                  <a:lnTo>
                    <a:pt x="1114" y="1181"/>
                  </a:lnTo>
                  <a:lnTo>
                    <a:pt x="1118" y="1182"/>
                  </a:lnTo>
                  <a:lnTo>
                    <a:pt x="1122" y="1183"/>
                  </a:lnTo>
                  <a:lnTo>
                    <a:pt x="1125" y="1186"/>
                  </a:lnTo>
                  <a:lnTo>
                    <a:pt x="1129" y="1188"/>
                  </a:lnTo>
                  <a:lnTo>
                    <a:pt x="1133" y="1191"/>
                  </a:lnTo>
                  <a:lnTo>
                    <a:pt x="1136" y="1193"/>
                  </a:lnTo>
                  <a:lnTo>
                    <a:pt x="1140" y="1197"/>
                  </a:lnTo>
                  <a:lnTo>
                    <a:pt x="1143" y="1199"/>
                  </a:lnTo>
                  <a:lnTo>
                    <a:pt x="1146" y="1203"/>
                  </a:lnTo>
                  <a:lnTo>
                    <a:pt x="1153" y="1211"/>
                  </a:lnTo>
                  <a:lnTo>
                    <a:pt x="1158" y="1220"/>
                  </a:lnTo>
                  <a:lnTo>
                    <a:pt x="1163" y="1230"/>
                  </a:lnTo>
                  <a:lnTo>
                    <a:pt x="1167" y="1239"/>
                  </a:lnTo>
                  <a:lnTo>
                    <a:pt x="1170" y="1250"/>
                  </a:lnTo>
                  <a:lnTo>
                    <a:pt x="1173" y="1261"/>
                  </a:lnTo>
                  <a:lnTo>
                    <a:pt x="1175" y="1272"/>
                  </a:lnTo>
                  <a:lnTo>
                    <a:pt x="1176" y="1285"/>
                  </a:lnTo>
                  <a:lnTo>
                    <a:pt x="1176" y="1298"/>
                  </a:lnTo>
                  <a:lnTo>
                    <a:pt x="1176" y="1310"/>
                  </a:lnTo>
                  <a:lnTo>
                    <a:pt x="1175" y="1323"/>
                  </a:lnTo>
                  <a:lnTo>
                    <a:pt x="1173" y="1335"/>
                  </a:lnTo>
                  <a:lnTo>
                    <a:pt x="1172" y="1346"/>
                  </a:lnTo>
                  <a:lnTo>
                    <a:pt x="1169" y="1357"/>
                  </a:lnTo>
                  <a:lnTo>
                    <a:pt x="1166" y="1368"/>
                  </a:lnTo>
                  <a:lnTo>
                    <a:pt x="1162" y="1379"/>
                  </a:lnTo>
                  <a:lnTo>
                    <a:pt x="1158" y="1390"/>
                  </a:lnTo>
                  <a:lnTo>
                    <a:pt x="1154" y="1401"/>
                  </a:lnTo>
                  <a:lnTo>
                    <a:pt x="1149" y="1411"/>
                  </a:lnTo>
                  <a:lnTo>
                    <a:pt x="1143" y="1420"/>
                  </a:lnTo>
                  <a:lnTo>
                    <a:pt x="1137" y="1430"/>
                  </a:lnTo>
                  <a:lnTo>
                    <a:pt x="1123" y="1448"/>
                  </a:lnTo>
                  <a:lnTo>
                    <a:pt x="1107" y="1467"/>
                  </a:lnTo>
                  <a:lnTo>
                    <a:pt x="1088" y="1484"/>
                  </a:lnTo>
                  <a:lnTo>
                    <a:pt x="1070" y="1499"/>
                  </a:lnTo>
                  <a:lnTo>
                    <a:pt x="1049" y="1510"/>
                  </a:lnTo>
                  <a:lnTo>
                    <a:pt x="1029" y="1521"/>
                  </a:lnTo>
                  <a:lnTo>
                    <a:pt x="1007" y="1528"/>
                  </a:lnTo>
                  <a:lnTo>
                    <a:pt x="983" y="1533"/>
                  </a:lnTo>
                  <a:lnTo>
                    <a:pt x="959" y="1536"/>
                  </a:lnTo>
                  <a:lnTo>
                    <a:pt x="934" y="1538"/>
                  </a:lnTo>
                  <a:lnTo>
                    <a:pt x="897" y="1535"/>
                  </a:lnTo>
                  <a:lnTo>
                    <a:pt x="862" y="1529"/>
                  </a:lnTo>
                  <a:lnTo>
                    <a:pt x="844" y="1524"/>
                  </a:lnTo>
                  <a:lnTo>
                    <a:pt x="827" y="1518"/>
                  </a:lnTo>
                  <a:lnTo>
                    <a:pt x="809" y="1511"/>
                  </a:lnTo>
                  <a:lnTo>
                    <a:pt x="793" y="1502"/>
                  </a:lnTo>
                  <a:lnTo>
                    <a:pt x="759" y="1483"/>
                  </a:lnTo>
                  <a:lnTo>
                    <a:pt x="728" y="1458"/>
                  </a:lnTo>
                  <a:lnTo>
                    <a:pt x="697" y="1430"/>
                  </a:lnTo>
                  <a:lnTo>
                    <a:pt x="667" y="1397"/>
                  </a:lnTo>
                  <a:lnTo>
                    <a:pt x="652" y="1379"/>
                  </a:lnTo>
                  <a:lnTo>
                    <a:pt x="638" y="1358"/>
                  </a:lnTo>
                  <a:lnTo>
                    <a:pt x="609" y="1310"/>
                  </a:lnTo>
                  <a:lnTo>
                    <a:pt x="579" y="1254"/>
                  </a:lnTo>
                  <a:lnTo>
                    <a:pt x="550" y="1189"/>
                  </a:lnTo>
                  <a:lnTo>
                    <a:pt x="521" y="1117"/>
                  </a:lnTo>
                  <a:lnTo>
                    <a:pt x="493" y="1037"/>
                  </a:lnTo>
                  <a:lnTo>
                    <a:pt x="465" y="947"/>
                  </a:lnTo>
                  <a:lnTo>
                    <a:pt x="436" y="850"/>
                  </a:lnTo>
                  <a:lnTo>
                    <a:pt x="419" y="789"/>
                  </a:lnTo>
                  <a:lnTo>
                    <a:pt x="402" y="737"/>
                  </a:lnTo>
                  <a:lnTo>
                    <a:pt x="394" y="715"/>
                  </a:lnTo>
                  <a:lnTo>
                    <a:pt x="387" y="696"/>
                  </a:lnTo>
                  <a:lnTo>
                    <a:pt x="379" y="680"/>
                  </a:lnTo>
                  <a:lnTo>
                    <a:pt x="372" y="665"/>
                  </a:lnTo>
                  <a:lnTo>
                    <a:pt x="365" y="653"/>
                  </a:lnTo>
                  <a:lnTo>
                    <a:pt x="357" y="641"/>
                  </a:lnTo>
                  <a:lnTo>
                    <a:pt x="350" y="629"/>
                  </a:lnTo>
                  <a:lnTo>
                    <a:pt x="342" y="618"/>
                  </a:lnTo>
                  <a:lnTo>
                    <a:pt x="334" y="607"/>
                  </a:lnTo>
                  <a:lnTo>
                    <a:pt x="325" y="596"/>
                  </a:lnTo>
                  <a:lnTo>
                    <a:pt x="317" y="586"/>
                  </a:lnTo>
                  <a:lnTo>
                    <a:pt x="308" y="576"/>
                  </a:lnTo>
                  <a:lnTo>
                    <a:pt x="217" y="1083"/>
                  </a:lnTo>
                  <a:lnTo>
                    <a:pt x="40" y="1083"/>
                  </a:lnTo>
                  <a:lnTo>
                    <a:pt x="111" y="719"/>
                  </a:lnTo>
                  <a:lnTo>
                    <a:pt x="175" y="385"/>
                  </a:lnTo>
                  <a:lnTo>
                    <a:pt x="192" y="288"/>
                  </a:lnTo>
                  <a:lnTo>
                    <a:pt x="196" y="256"/>
                  </a:lnTo>
                  <a:lnTo>
                    <a:pt x="197" y="245"/>
                  </a:lnTo>
                  <a:lnTo>
                    <a:pt x="197" y="236"/>
                  </a:lnTo>
                  <a:lnTo>
                    <a:pt x="197" y="236"/>
                  </a:lnTo>
                  <a:lnTo>
                    <a:pt x="197" y="235"/>
                  </a:lnTo>
                  <a:lnTo>
                    <a:pt x="197" y="235"/>
                  </a:lnTo>
                  <a:lnTo>
                    <a:pt x="197" y="235"/>
                  </a:lnTo>
                  <a:lnTo>
                    <a:pt x="197" y="235"/>
                  </a:lnTo>
                  <a:lnTo>
                    <a:pt x="197" y="234"/>
                  </a:lnTo>
                  <a:lnTo>
                    <a:pt x="197" y="234"/>
                  </a:lnTo>
                  <a:lnTo>
                    <a:pt x="197" y="234"/>
                  </a:lnTo>
                  <a:lnTo>
                    <a:pt x="197" y="234"/>
                  </a:lnTo>
                  <a:lnTo>
                    <a:pt x="197" y="234"/>
                  </a:lnTo>
                  <a:lnTo>
                    <a:pt x="197" y="234"/>
                  </a:lnTo>
                  <a:lnTo>
                    <a:pt x="196" y="234"/>
                  </a:lnTo>
                  <a:lnTo>
                    <a:pt x="196" y="234"/>
                  </a:lnTo>
                  <a:lnTo>
                    <a:pt x="196" y="234"/>
                  </a:lnTo>
                  <a:lnTo>
                    <a:pt x="196" y="234"/>
                  </a:lnTo>
                  <a:lnTo>
                    <a:pt x="196" y="234"/>
                  </a:lnTo>
                  <a:lnTo>
                    <a:pt x="194" y="234"/>
                  </a:lnTo>
                  <a:lnTo>
                    <a:pt x="192" y="234"/>
                  </a:lnTo>
                  <a:lnTo>
                    <a:pt x="187" y="236"/>
                  </a:lnTo>
                  <a:lnTo>
                    <a:pt x="181" y="239"/>
                  </a:lnTo>
                  <a:lnTo>
                    <a:pt x="175" y="242"/>
                  </a:lnTo>
                  <a:lnTo>
                    <a:pt x="162" y="253"/>
                  </a:lnTo>
                  <a:lnTo>
                    <a:pt x="144" y="269"/>
                  </a:lnTo>
                  <a:lnTo>
                    <a:pt x="125" y="290"/>
                  </a:lnTo>
                  <a:lnTo>
                    <a:pt x="102" y="314"/>
                  </a:lnTo>
                  <a:lnTo>
                    <a:pt x="49" y="377"/>
                  </a:lnTo>
                  <a:lnTo>
                    <a:pt x="0" y="311"/>
                  </a:lnTo>
                  <a:lnTo>
                    <a:pt x="26" y="275"/>
                  </a:lnTo>
                  <a:lnTo>
                    <a:pt x="50" y="242"/>
                  </a:lnTo>
                  <a:lnTo>
                    <a:pt x="75" y="213"/>
                  </a:lnTo>
                  <a:lnTo>
                    <a:pt x="100" y="186"/>
                  </a:lnTo>
                  <a:lnTo>
                    <a:pt x="124" y="162"/>
                  </a:lnTo>
                  <a:lnTo>
                    <a:pt x="148" y="140"/>
                  </a:lnTo>
                  <a:lnTo>
                    <a:pt x="173" y="120"/>
                  </a:lnTo>
                  <a:lnTo>
                    <a:pt x="196" y="104"/>
                  </a:lnTo>
                  <a:lnTo>
                    <a:pt x="240" y="79"/>
                  </a:lnTo>
                  <a:lnTo>
                    <a:pt x="259" y="69"/>
                  </a:lnTo>
                  <a:lnTo>
                    <a:pt x="278" y="60"/>
                  </a:lnTo>
                  <a:lnTo>
                    <a:pt x="294" y="54"/>
                  </a:lnTo>
                  <a:lnTo>
                    <a:pt x="310" y="49"/>
                  </a:lnTo>
                  <a:lnTo>
                    <a:pt x="323" y="47"/>
                  </a:lnTo>
                  <a:lnTo>
                    <a:pt x="329" y="46"/>
                  </a:lnTo>
                  <a:lnTo>
                    <a:pt x="335" y="46"/>
                  </a:lnTo>
                  <a:lnTo>
                    <a:pt x="342" y="46"/>
                  </a:lnTo>
                  <a:lnTo>
                    <a:pt x="349" y="47"/>
                  </a:lnTo>
                  <a:lnTo>
                    <a:pt x="355" y="48"/>
                  </a:lnTo>
                  <a:lnTo>
                    <a:pt x="360" y="49"/>
                  </a:lnTo>
                  <a:lnTo>
                    <a:pt x="365" y="52"/>
                  </a:lnTo>
                  <a:lnTo>
                    <a:pt x="370" y="54"/>
                  </a:lnTo>
                  <a:lnTo>
                    <a:pt x="374" y="58"/>
                  </a:lnTo>
                  <a:lnTo>
                    <a:pt x="378" y="62"/>
                  </a:lnTo>
                  <a:lnTo>
                    <a:pt x="382" y="65"/>
                  </a:lnTo>
                  <a:lnTo>
                    <a:pt x="385" y="70"/>
                  </a:lnTo>
                  <a:lnTo>
                    <a:pt x="387" y="75"/>
                  </a:lnTo>
                  <a:lnTo>
                    <a:pt x="389" y="80"/>
                  </a:lnTo>
                  <a:lnTo>
                    <a:pt x="391" y="86"/>
                  </a:lnTo>
                  <a:lnTo>
                    <a:pt x="392" y="92"/>
                  </a:lnTo>
                  <a:lnTo>
                    <a:pt x="393" y="99"/>
                  </a:lnTo>
                  <a:lnTo>
                    <a:pt x="393" y="107"/>
                  </a:lnTo>
                  <a:lnTo>
                    <a:pt x="393" y="112"/>
                  </a:lnTo>
                  <a:lnTo>
                    <a:pt x="392" y="118"/>
                  </a:lnTo>
                  <a:lnTo>
                    <a:pt x="390" y="135"/>
                  </a:lnTo>
                  <a:lnTo>
                    <a:pt x="386" y="161"/>
                  </a:lnTo>
                  <a:lnTo>
                    <a:pt x="380" y="192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70080" y="4452840"/>
              <a:ext cx="233280" cy="384120"/>
            </a:xfrm>
            <a:custGeom>
              <a:avLst/>
              <a:gdLst/>
              <a:ahLst/>
              <a:rect l="l" t="t" r="r" b="b"/>
              <a:pathLst>
                <a:path w="649" h="1069">
                  <a:moveTo>
                    <a:pt x="541" y="731"/>
                  </a:moveTo>
                  <a:lnTo>
                    <a:pt x="571" y="832"/>
                  </a:lnTo>
                  <a:lnTo>
                    <a:pt x="513" y="887"/>
                  </a:lnTo>
                  <a:lnTo>
                    <a:pt x="458" y="936"/>
                  </a:lnTo>
                  <a:lnTo>
                    <a:pt x="404" y="976"/>
                  </a:lnTo>
                  <a:lnTo>
                    <a:pt x="354" y="1009"/>
                  </a:lnTo>
                  <a:lnTo>
                    <a:pt x="306" y="1035"/>
                  </a:lnTo>
                  <a:lnTo>
                    <a:pt x="283" y="1045"/>
                  </a:lnTo>
                  <a:lnTo>
                    <a:pt x="259" y="1053"/>
                  </a:lnTo>
                  <a:lnTo>
                    <a:pt x="238" y="1060"/>
                  </a:lnTo>
                  <a:lnTo>
                    <a:pt x="216" y="1064"/>
                  </a:lnTo>
                  <a:lnTo>
                    <a:pt x="195" y="1067"/>
                  </a:lnTo>
                  <a:lnTo>
                    <a:pt x="175" y="1068"/>
                  </a:lnTo>
                  <a:lnTo>
                    <a:pt x="152" y="1067"/>
                  </a:lnTo>
                  <a:lnTo>
                    <a:pt x="142" y="1066"/>
                  </a:lnTo>
                  <a:lnTo>
                    <a:pt x="132" y="1063"/>
                  </a:lnTo>
                  <a:lnTo>
                    <a:pt x="122" y="1061"/>
                  </a:lnTo>
                  <a:lnTo>
                    <a:pt x="113" y="1057"/>
                  </a:lnTo>
                  <a:lnTo>
                    <a:pt x="104" y="1052"/>
                  </a:lnTo>
                  <a:lnTo>
                    <a:pt x="96" y="1049"/>
                  </a:lnTo>
                  <a:lnTo>
                    <a:pt x="87" y="1042"/>
                  </a:lnTo>
                  <a:lnTo>
                    <a:pt x="79" y="1036"/>
                  </a:lnTo>
                  <a:lnTo>
                    <a:pt x="73" y="1030"/>
                  </a:lnTo>
                  <a:lnTo>
                    <a:pt x="66" y="1023"/>
                  </a:lnTo>
                  <a:lnTo>
                    <a:pt x="59" y="1014"/>
                  </a:lnTo>
                  <a:lnTo>
                    <a:pt x="53" y="1006"/>
                  </a:lnTo>
                  <a:lnTo>
                    <a:pt x="47" y="997"/>
                  </a:lnTo>
                  <a:lnTo>
                    <a:pt x="41" y="987"/>
                  </a:lnTo>
                  <a:lnTo>
                    <a:pt x="32" y="967"/>
                  </a:lnTo>
                  <a:lnTo>
                    <a:pt x="24" y="945"/>
                  </a:lnTo>
                  <a:lnTo>
                    <a:pt x="16" y="920"/>
                  </a:lnTo>
                  <a:lnTo>
                    <a:pt x="11" y="897"/>
                  </a:lnTo>
                  <a:lnTo>
                    <a:pt x="6" y="871"/>
                  </a:lnTo>
                  <a:lnTo>
                    <a:pt x="3" y="844"/>
                  </a:lnTo>
                  <a:lnTo>
                    <a:pt x="1" y="816"/>
                  </a:lnTo>
                  <a:lnTo>
                    <a:pt x="0" y="787"/>
                  </a:lnTo>
                  <a:lnTo>
                    <a:pt x="1" y="739"/>
                  </a:lnTo>
                  <a:lnTo>
                    <a:pt x="5" y="691"/>
                  </a:lnTo>
                  <a:lnTo>
                    <a:pt x="12" y="642"/>
                  </a:lnTo>
                  <a:lnTo>
                    <a:pt x="21" y="593"/>
                  </a:lnTo>
                  <a:lnTo>
                    <a:pt x="33" y="544"/>
                  </a:lnTo>
                  <a:lnTo>
                    <a:pt x="46" y="494"/>
                  </a:lnTo>
                  <a:lnTo>
                    <a:pt x="63" y="445"/>
                  </a:lnTo>
                  <a:lnTo>
                    <a:pt x="81" y="395"/>
                  </a:lnTo>
                  <a:lnTo>
                    <a:pt x="102" y="346"/>
                  </a:lnTo>
                  <a:lnTo>
                    <a:pt x="123" y="302"/>
                  </a:lnTo>
                  <a:lnTo>
                    <a:pt x="145" y="260"/>
                  </a:lnTo>
                  <a:lnTo>
                    <a:pt x="168" y="224"/>
                  </a:lnTo>
                  <a:lnTo>
                    <a:pt x="192" y="191"/>
                  </a:lnTo>
                  <a:lnTo>
                    <a:pt x="217" y="161"/>
                  </a:lnTo>
                  <a:lnTo>
                    <a:pt x="243" y="136"/>
                  </a:lnTo>
                  <a:lnTo>
                    <a:pt x="269" y="114"/>
                  </a:lnTo>
                  <a:lnTo>
                    <a:pt x="294" y="87"/>
                  </a:lnTo>
                  <a:lnTo>
                    <a:pt x="321" y="64"/>
                  </a:lnTo>
                  <a:lnTo>
                    <a:pt x="348" y="44"/>
                  </a:lnTo>
                  <a:lnTo>
                    <a:pt x="374" y="28"/>
                  </a:lnTo>
                  <a:lnTo>
                    <a:pt x="401" y="16"/>
                  </a:lnTo>
                  <a:lnTo>
                    <a:pt x="430" y="7"/>
                  </a:lnTo>
                  <a:lnTo>
                    <a:pt x="458" y="1"/>
                  </a:lnTo>
                  <a:lnTo>
                    <a:pt x="487" y="0"/>
                  </a:lnTo>
                  <a:lnTo>
                    <a:pt x="506" y="1"/>
                  </a:lnTo>
                  <a:lnTo>
                    <a:pt x="523" y="3"/>
                  </a:lnTo>
                  <a:lnTo>
                    <a:pt x="539" y="6"/>
                  </a:lnTo>
                  <a:lnTo>
                    <a:pt x="554" y="10"/>
                  </a:lnTo>
                  <a:lnTo>
                    <a:pt x="569" y="16"/>
                  </a:lnTo>
                  <a:lnTo>
                    <a:pt x="582" y="22"/>
                  </a:lnTo>
                  <a:lnTo>
                    <a:pt x="594" y="31"/>
                  </a:lnTo>
                  <a:lnTo>
                    <a:pt x="605" y="39"/>
                  </a:lnTo>
                  <a:lnTo>
                    <a:pt x="615" y="49"/>
                  </a:lnTo>
                  <a:lnTo>
                    <a:pt x="623" y="60"/>
                  </a:lnTo>
                  <a:lnTo>
                    <a:pt x="627" y="66"/>
                  </a:lnTo>
                  <a:lnTo>
                    <a:pt x="631" y="72"/>
                  </a:lnTo>
                  <a:lnTo>
                    <a:pt x="634" y="77"/>
                  </a:lnTo>
                  <a:lnTo>
                    <a:pt x="637" y="83"/>
                  </a:lnTo>
                  <a:lnTo>
                    <a:pt x="639" y="89"/>
                  </a:lnTo>
                  <a:lnTo>
                    <a:pt x="642" y="95"/>
                  </a:lnTo>
                  <a:lnTo>
                    <a:pt x="644" y="103"/>
                  </a:lnTo>
                  <a:lnTo>
                    <a:pt x="645" y="109"/>
                  </a:lnTo>
                  <a:lnTo>
                    <a:pt x="646" y="116"/>
                  </a:lnTo>
                  <a:lnTo>
                    <a:pt x="647" y="122"/>
                  </a:lnTo>
                  <a:lnTo>
                    <a:pt x="648" y="130"/>
                  </a:lnTo>
                  <a:lnTo>
                    <a:pt x="648" y="137"/>
                  </a:lnTo>
                  <a:lnTo>
                    <a:pt x="648" y="148"/>
                  </a:lnTo>
                  <a:lnTo>
                    <a:pt x="646" y="159"/>
                  </a:lnTo>
                  <a:lnTo>
                    <a:pt x="645" y="169"/>
                  </a:lnTo>
                  <a:lnTo>
                    <a:pt x="643" y="174"/>
                  </a:lnTo>
                  <a:lnTo>
                    <a:pt x="642" y="179"/>
                  </a:lnTo>
                  <a:lnTo>
                    <a:pt x="640" y="183"/>
                  </a:lnTo>
                  <a:lnTo>
                    <a:pt x="638" y="188"/>
                  </a:lnTo>
                  <a:lnTo>
                    <a:pt x="636" y="193"/>
                  </a:lnTo>
                  <a:lnTo>
                    <a:pt x="634" y="197"/>
                  </a:lnTo>
                  <a:lnTo>
                    <a:pt x="632" y="201"/>
                  </a:lnTo>
                  <a:lnTo>
                    <a:pt x="629" y="205"/>
                  </a:lnTo>
                  <a:lnTo>
                    <a:pt x="626" y="209"/>
                  </a:lnTo>
                  <a:lnTo>
                    <a:pt x="623" y="213"/>
                  </a:lnTo>
                  <a:lnTo>
                    <a:pt x="620" y="216"/>
                  </a:lnTo>
                  <a:lnTo>
                    <a:pt x="617" y="220"/>
                  </a:lnTo>
                  <a:lnTo>
                    <a:pt x="614" y="224"/>
                  </a:lnTo>
                  <a:lnTo>
                    <a:pt x="610" y="226"/>
                  </a:lnTo>
                  <a:lnTo>
                    <a:pt x="606" y="229"/>
                  </a:lnTo>
                  <a:lnTo>
                    <a:pt x="602" y="231"/>
                  </a:lnTo>
                  <a:lnTo>
                    <a:pt x="598" y="234"/>
                  </a:lnTo>
                  <a:lnTo>
                    <a:pt x="594" y="236"/>
                  </a:lnTo>
                  <a:lnTo>
                    <a:pt x="585" y="240"/>
                  </a:lnTo>
                  <a:lnTo>
                    <a:pt x="577" y="241"/>
                  </a:lnTo>
                  <a:lnTo>
                    <a:pt x="567" y="243"/>
                  </a:lnTo>
                  <a:lnTo>
                    <a:pt x="556" y="243"/>
                  </a:lnTo>
                  <a:lnTo>
                    <a:pt x="546" y="242"/>
                  </a:lnTo>
                  <a:lnTo>
                    <a:pt x="536" y="241"/>
                  </a:lnTo>
                  <a:lnTo>
                    <a:pt x="525" y="237"/>
                  </a:lnTo>
                  <a:lnTo>
                    <a:pt x="513" y="234"/>
                  </a:lnTo>
                  <a:lnTo>
                    <a:pt x="502" y="227"/>
                  </a:lnTo>
                  <a:lnTo>
                    <a:pt x="489" y="220"/>
                  </a:lnTo>
                  <a:lnTo>
                    <a:pt x="475" y="213"/>
                  </a:lnTo>
                  <a:lnTo>
                    <a:pt x="462" y="203"/>
                  </a:lnTo>
                  <a:lnTo>
                    <a:pt x="450" y="194"/>
                  </a:lnTo>
                  <a:lnTo>
                    <a:pt x="438" y="187"/>
                  </a:lnTo>
                  <a:lnTo>
                    <a:pt x="428" y="181"/>
                  </a:lnTo>
                  <a:lnTo>
                    <a:pt x="418" y="176"/>
                  </a:lnTo>
                  <a:lnTo>
                    <a:pt x="408" y="171"/>
                  </a:lnTo>
                  <a:lnTo>
                    <a:pt x="400" y="169"/>
                  </a:lnTo>
                  <a:lnTo>
                    <a:pt x="392" y="166"/>
                  </a:lnTo>
                  <a:lnTo>
                    <a:pt x="388" y="166"/>
                  </a:lnTo>
                  <a:lnTo>
                    <a:pt x="384" y="166"/>
                  </a:lnTo>
                  <a:lnTo>
                    <a:pt x="379" y="166"/>
                  </a:lnTo>
                  <a:lnTo>
                    <a:pt x="374" y="168"/>
                  </a:lnTo>
                  <a:lnTo>
                    <a:pt x="369" y="168"/>
                  </a:lnTo>
                  <a:lnTo>
                    <a:pt x="364" y="169"/>
                  </a:lnTo>
                  <a:lnTo>
                    <a:pt x="360" y="171"/>
                  </a:lnTo>
                  <a:lnTo>
                    <a:pt x="355" y="172"/>
                  </a:lnTo>
                  <a:lnTo>
                    <a:pt x="345" y="179"/>
                  </a:lnTo>
                  <a:lnTo>
                    <a:pt x="335" y="185"/>
                  </a:lnTo>
                  <a:lnTo>
                    <a:pt x="326" y="193"/>
                  </a:lnTo>
                  <a:lnTo>
                    <a:pt x="315" y="202"/>
                  </a:lnTo>
                  <a:lnTo>
                    <a:pt x="305" y="213"/>
                  </a:lnTo>
                  <a:lnTo>
                    <a:pt x="300" y="219"/>
                  </a:lnTo>
                  <a:lnTo>
                    <a:pt x="295" y="226"/>
                  </a:lnTo>
                  <a:lnTo>
                    <a:pt x="285" y="242"/>
                  </a:lnTo>
                  <a:lnTo>
                    <a:pt x="275" y="262"/>
                  </a:lnTo>
                  <a:lnTo>
                    <a:pt x="265" y="285"/>
                  </a:lnTo>
                  <a:lnTo>
                    <a:pt x="255" y="309"/>
                  </a:lnTo>
                  <a:lnTo>
                    <a:pt x="245" y="339"/>
                  </a:lnTo>
                  <a:lnTo>
                    <a:pt x="225" y="405"/>
                  </a:lnTo>
                  <a:lnTo>
                    <a:pt x="216" y="441"/>
                  </a:lnTo>
                  <a:lnTo>
                    <a:pt x="208" y="477"/>
                  </a:lnTo>
                  <a:lnTo>
                    <a:pt x="201" y="513"/>
                  </a:lnTo>
                  <a:lnTo>
                    <a:pt x="195" y="550"/>
                  </a:lnTo>
                  <a:lnTo>
                    <a:pt x="191" y="587"/>
                  </a:lnTo>
                  <a:lnTo>
                    <a:pt x="188" y="623"/>
                  </a:lnTo>
                  <a:lnTo>
                    <a:pt x="186" y="660"/>
                  </a:lnTo>
                  <a:lnTo>
                    <a:pt x="185" y="697"/>
                  </a:lnTo>
                  <a:lnTo>
                    <a:pt x="185" y="722"/>
                  </a:lnTo>
                  <a:lnTo>
                    <a:pt x="187" y="745"/>
                  </a:lnTo>
                  <a:lnTo>
                    <a:pt x="189" y="767"/>
                  </a:lnTo>
                  <a:lnTo>
                    <a:pt x="193" y="787"/>
                  </a:lnTo>
                  <a:lnTo>
                    <a:pt x="197" y="805"/>
                  </a:lnTo>
                  <a:lnTo>
                    <a:pt x="202" y="822"/>
                  </a:lnTo>
                  <a:lnTo>
                    <a:pt x="205" y="830"/>
                  </a:lnTo>
                  <a:lnTo>
                    <a:pt x="208" y="837"/>
                  </a:lnTo>
                  <a:lnTo>
                    <a:pt x="211" y="844"/>
                  </a:lnTo>
                  <a:lnTo>
                    <a:pt x="215" y="851"/>
                  </a:lnTo>
                  <a:lnTo>
                    <a:pt x="218" y="855"/>
                  </a:lnTo>
                  <a:lnTo>
                    <a:pt x="220" y="860"/>
                  </a:lnTo>
                  <a:lnTo>
                    <a:pt x="222" y="864"/>
                  </a:lnTo>
                  <a:lnTo>
                    <a:pt x="226" y="868"/>
                  </a:lnTo>
                  <a:lnTo>
                    <a:pt x="229" y="871"/>
                  </a:lnTo>
                  <a:lnTo>
                    <a:pt x="232" y="875"/>
                  </a:lnTo>
                  <a:lnTo>
                    <a:pt x="236" y="879"/>
                  </a:lnTo>
                  <a:lnTo>
                    <a:pt x="239" y="881"/>
                  </a:lnTo>
                  <a:lnTo>
                    <a:pt x="243" y="884"/>
                  </a:lnTo>
                  <a:lnTo>
                    <a:pt x="247" y="885"/>
                  </a:lnTo>
                  <a:lnTo>
                    <a:pt x="250" y="887"/>
                  </a:lnTo>
                  <a:lnTo>
                    <a:pt x="254" y="888"/>
                  </a:lnTo>
                  <a:lnTo>
                    <a:pt x="257" y="890"/>
                  </a:lnTo>
                  <a:lnTo>
                    <a:pt x="262" y="890"/>
                  </a:lnTo>
                  <a:lnTo>
                    <a:pt x="266" y="891"/>
                  </a:lnTo>
                  <a:lnTo>
                    <a:pt x="270" y="891"/>
                  </a:lnTo>
                  <a:lnTo>
                    <a:pt x="283" y="890"/>
                  </a:lnTo>
                  <a:lnTo>
                    <a:pt x="296" y="888"/>
                  </a:lnTo>
                  <a:lnTo>
                    <a:pt x="311" y="885"/>
                  </a:lnTo>
                  <a:lnTo>
                    <a:pt x="326" y="881"/>
                  </a:lnTo>
                  <a:lnTo>
                    <a:pt x="356" y="868"/>
                  </a:lnTo>
                  <a:lnTo>
                    <a:pt x="389" y="851"/>
                  </a:lnTo>
                  <a:lnTo>
                    <a:pt x="424" y="829"/>
                  </a:lnTo>
                  <a:lnTo>
                    <a:pt x="461" y="800"/>
                  </a:lnTo>
                  <a:lnTo>
                    <a:pt x="500" y="769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00480" y="4438800"/>
              <a:ext cx="288720" cy="398160"/>
            </a:xfrm>
            <a:custGeom>
              <a:avLst/>
              <a:gdLst/>
              <a:ahLst/>
              <a:rect l="l" t="t" r="r" b="b"/>
              <a:pathLst>
                <a:path w="803" h="1107">
                  <a:moveTo>
                    <a:pt x="666" y="20"/>
                  </a:moveTo>
                  <a:lnTo>
                    <a:pt x="759" y="0"/>
                  </a:lnTo>
                  <a:lnTo>
                    <a:pt x="689" y="329"/>
                  </a:lnTo>
                  <a:lnTo>
                    <a:pt x="669" y="421"/>
                  </a:lnTo>
                  <a:lnTo>
                    <a:pt x="648" y="520"/>
                  </a:lnTo>
                  <a:lnTo>
                    <a:pt x="629" y="624"/>
                  </a:lnTo>
                  <a:lnTo>
                    <a:pt x="610" y="735"/>
                  </a:lnTo>
                  <a:lnTo>
                    <a:pt x="601" y="790"/>
                  </a:lnTo>
                  <a:lnTo>
                    <a:pt x="595" y="835"/>
                  </a:lnTo>
                  <a:lnTo>
                    <a:pt x="591" y="868"/>
                  </a:lnTo>
                  <a:lnTo>
                    <a:pt x="590" y="881"/>
                  </a:lnTo>
                  <a:lnTo>
                    <a:pt x="590" y="891"/>
                  </a:lnTo>
                  <a:lnTo>
                    <a:pt x="590" y="894"/>
                  </a:lnTo>
                  <a:lnTo>
                    <a:pt x="590" y="897"/>
                  </a:lnTo>
                  <a:lnTo>
                    <a:pt x="590" y="899"/>
                  </a:lnTo>
                  <a:lnTo>
                    <a:pt x="591" y="900"/>
                  </a:lnTo>
                  <a:lnTo>
                    <a:pt x="591" y="901"/>
                  </a:lnTo>
                  <a:lnTo>
                    <a:pt x="591" y="901"/>
                  </a:lnTo>
                  <a:lnTo>
                    <a:pt x="591" y="902"/>
                  </a:lnTo>
                  <a:lnTo>
                    <a:pt x="591" y="902"/>
                  </a:lnTo>
                  <a:lnTo>
                    <a:pt x="592" y="902"/>
                  </a:lnTo>
                  <a:lnTo>
                    <a:pt x="592" y="903"/>
                  </a:lnTo>
                  <a:lnTo>
                    <a:pt x="592" y="903"/>
                  </a:lnTo>
                  <a:lnTo>
                    <a:pt x="592" y="903"/>
                  </a:lnTo>
                  <a:lnTo>
                    <a:pt x="592" y="903"/>
                  </a:lnTo>
                  <a:lnTo>
                    <a:pt x="592" y="903"/>
                  </a:lnTo>
                  <a:lnTo>
                    <a:pt x="593" y="903"/>
                  </a:lnTo>
                  <a:lnTo>
                    <a:pt x="593" y="903"/>
                  </a:lnTo>
                  <a:lnTo>
                    <a:pt x="593" y="903"/>
                  </a:lnTo>
                  <a:lnTo>
                    <a:pt x="594" y="903"/>
                  </a:lnTo>
                  <a:lnTo>
                    <a:pt x="596" y="903"/>
                  </a:lnTo>
                  <a:lnTo>
                    <a:pt x="597" y="902"/>
                  </a:lnTo>
                  <a:lnTo>
                    <a:pt x="598" y="902"/>
                  </a:lnTo>
                  <a:lnTo>
                    <a:pt x="602" y="901"/>
                  </a:lnTo>
                  <a:lnTo>
                    <a:pt x="607" y="899"/>
                  </a:lnTo>
                  <a:lnTo>
                    <a:pt x="612" y="895"/>
                  </a:lnTo>
                  <a:lnTo>
                    <a:pt x="618" y="891"/>
                  </a:lnTo>
                  <a:lnTo>
                    <a:pt x="631" y="883"/>
                  </a:lnTo>
                  <a:lnTo>
                    <a:pt x="659" y="859"/>
                  </a:lnTo>
                  <a:lnTo>
                    <a:pt x="689" y="834"/>
                  </a:lnTo>
                  <a:lnTo>
                    <a:pt x="720" y="804"/>
                  </a:lnTo>
                  <a:lnTo>
                    <a:pt x="753" y="771"/>
                  </a:lnTo>
                  <a:lnTo>
                    <a:pt x="802" y="844"/>
                  </a:lnTo>
                  <a:lnTo>
                    <a:pt x="709" y="954"/>
                  </a:lnTo>
                  <a:lnTo>
                    <a:pt x="678" y="989"/>
                  </a:lnTo>
                  <a:lnTo>
                    <a:pt x="667" y="1001"/>
                  </a:lnTo>
                  <a:lnTo>
                    <a:pt x="657" y="1010"/>
                  </a:lnTo>
                  <a:lnTo>
                    <a:pt x="626" y="1034"/>
                  </a:lnTo>
                  <a:lnTo>
                    <a:pt x="597" y="1056"/>
                  </a:lnTo>
                  <a:lnTo>
                    <a:pt x="566" y="1075"/>
                  </a:lnTo>
                  <a:lnTo>
                    <a:pt x="538" y="1089"/>
                  </a:lnTo>
                  <a:lnTo>
                    <a:pt x="528" y="1093"/>
                  </a:lnTo>
                  <a:lnTo>
                    <a:pt x="520" y="1097"/>
                  </a:lnTo>
                  <a:lnTo>
                    <a:pt x="510" y="1099"/>
                  </a:lnTo>
                  <a:lnTo>
                    <a:pt x="500" y="1101"/>
                  </a:lnTo>
                  <a:lnTo>
                    <a:pt x="490" y="1104"/>
                  </a:lnTo>
                  <a:lnTo>
                    <a:pt x="482" y="1105"/>
                  </a:lnTo>
                  <a:lnTo>
                    <a:pt x="472" y="1106"/>
                  </a:lnTo>
                  <a:lnTo>
                    <a:pt x="462" y="1106"/>
                  </a:lnTo>
                  <a:lnTo>
                    <a:pt x="454" y="1106"/>
                  </a:lnTo>
                  <a:lnTo>
                    <a:pt x="447" y="1105"/>
                  </a:lnTo>
                  <a:lnTo>
                    <a:pt x="440" y="1104"/>
                  </a:lnTo>
                  <a:lnTo>
                    <a:pt x="434" y="1101"/>
                  </a:lnTo>
                  <a:lnTo>
                    <a:pt x="427" y="1098"/>
                  </a:lnTo>
                  <a:lnTo>
                    <a:pt x="422" y="1094"/>
                  </a:lnTo>
                  <a:lnTo>
                    <a:pt x="416" y="1090"/>
                  </a:lnTo>
                  <a:lnTo>
                    <a:pt x="412" y="1086"/>
                  </a:lnTo>
                  <a:lnTo>
                    <a:pt x="410" y="1083"/>
                  </a:lnTo>
                  <a:lnTo>
                    <a:pt x="408" y="1081"/>
                  </a:lnTo>
                  <a:lnTo>
                    <a:pt x="406" y="1077"/>
                  </a:lnTo>
                  <a:lnTo>
                    <a:pt x="404" y="1075"/>
                  </a:lnTo>
                  <a:lnTo>
                    <a:pt x="403" y="1071"/>
                  </a:lnTo>
                  <a:lnTo>
                    <a:pt x="401" y="1067"/>
                  </a:lnTo>
                  <a:lnTo>
                    <a:pt x="400" y="1064"/>
                  </a:lnTo>
                  <a:lnTo>
                    <a:pt x="399" y="1060"/>
                  </a:lnTo>
                  <a:lnTo>
                    <a:pt x="397" y="1053"/>
                  </a:lnTo>
                  <a:lnTo>
                    <a:pt x="395" y="1044"/>
                  </a:lnTo>
                  <a:lnTo>
                    <a:pt x="394" y="1035"/>
                  </a:lnTo>
                  <a:lnTo>
                    <a:pt x="394" y="1027"/>
                  </a:lnTo>
                  <a:lnTo>
                    <a:pt x="394" y="1021"/>
                  </a:lnTo>
                  <a:lnTo>
                    <a:pt x="395" y="1015"/>
                  </a:lnTo>
                  <a:lnTo>
                    <a:pt x="395" y="1009"/>
                  </a:lnTo>
                  <a:lnTo>
                    <a:pt x="396" y="1002"/>
                  </a:lnTo>
                  <a:lnTo>
                    <a:pt x="399" y="988"/>
                  </a:lnTo>
                  <a:lnTo>
                    <a:pt x="402" y="972"/>
                  </a:lnTo>
                  <a:lnTo>
                    <a:pt x="439" y="844"/>
                  </a:lnTo>
                  <a:lnTo>
                    <a:pt x="426" y="872"/>
                  </a:lnTo>
                  <a:lnTo>
                    <a:pt x="412" y="897"/>
                  </a:lnTo>
                  <a:lnTo>
                    <a:pt x="396" y="923"/>
                  </a:lnTo>
                  <a:lnTo>
                    <a:pt x="378" y="947"/>
                  </a:lnTo>
                  <a:lnTo>
                    <a:pt x="358" y="969"/>
                  </a:lnTo>
                  <a:lnTo>
                    <a:pt x="336" y="990"/>
                  </a:lnTo>
                  <a:lnTo>
                    <a:pt x="312" y="1010"/>
                  </a:lnTo>
                  <a:lnTo>
                    <a:pt x="287" y="1028"/>
                  </a:lnTo>
                  <a:lnTo>
                    <a:pt x="267" y="1046"/>
                  </a:lnTo>
                  <a:lnTo>
                    <a:pt x="247" y="1062"/>
                  </a:lnTo>
                  <a:lnTo>
                    <a:pt x="229" y="1075"/>
                  </a:lnTo>
                  <a:lnTo>
                    <a:pt x="210" y="1086"/>
                  </a:lnTo>
                  <a:lnTo>
                    <a:pt x="192" y="1094"/>
                  </a:lnTo>
                  <a:lnTo>
                    <a:pt x="175" y="1100"/>
                  </a:lnTo>
                  <a:lnTo>
                    <a:pt x="166" y="1103"/>
                  </a:lnTo>
                  <a:lnTo>
                    <a:pt x="158" y="1104"/>
                  </a:lnTo>
                  <a:lnTo>
                    <a:pt x="150" y="1105"/>
                  </a:lnTo>
                  <a:lnTo>
                    <a:pt x="142" y="1105"/>
                  </a:lnTo>
                  <a:lnTo>
                    <a:pt x="134" y="1105"/>
                  </a:lnTo>
                  <a:lnTo>
                    <a:pt x="126" y="1104"/>
                  </a:lnTo>
                  <a:lnTo>
                    <a:pt x="119" y="1101"/>
                  </a:lnTo>
                  <a:lnTo>
                    <a:pt x="112" y="1099"/>
                  </a:lnTo>
                  <a:lnTo>
                    <a:pt x="104" y="1095"/>
                  </a:lnTo>
                  <a:lnTo>
                    <a:pt x="97" y="1092"/>
                  </a:lnTo>
                  <a:lnTo>
                    <a:pt x="90" y="1087"/>
                  </a:lnTo>
                  <a:lnTo>
                    <a:pt x="85" y="1081"/>
                  </a:lnTo>
                  <a:lnTo>
                    <a:pt x="78" y="1075"/>
                  </a:lnTo>
                  <a:lnTo>
                    <a:pt x="72" y="1067"/>
                  </a:lnTo>
                  <a:lnTo>
                    <a:pt x="66" y="1060"/>
                  </a:lnTo>
                  <a:lnTo>
                    <a:pt x="60" y="1051"/>
                  </a:lnTo>
                  <a:lnTo>
                    <a:pt x="54" y="1042"/>
                  </a:lnTo>
                  <a:lnTo>
                    <a:pt x="50" y="1032"/>
                  </a:lnTo>
                  <a:lnTo>
                    <a:pt x="39" y="1009"/>
                  </a:lnTo>
                  <a:lnTo>
                    <a:pt x="34" y="1004"/>
                  </a:lnTo>
                  <a:lnTo>
                    <a:pt x="30" y="999"/>
                  </a:lnTo>
                  <a:lnTo>
                    <a:pt x="25" y="994"/>
                  </a:lnTo>
                  <a:lnTo>
                    <a:pt x="21" y="988"/>
                  </a:lnTo>
                  <a:lnTo>
                    <a:pt x="18" y="980"/>
                  </a:lnTo>
                  <a:lnTo>
                    <a:pt x="14" y="973"/>
                  </a:lnTo>
                  <a:lnTo>
                    <a:pt x="13" y="965"/>
                  </a:lnTo>
                  <a:lnTo>
                    <a:pt x="10" y="956"/>
                  </a:lnTo>
                  <a:lnTo>
                    <a:pt x="8" y="946"/>
                  </a:lnTo>
                  <a:lnTo>
                    <a:pt x="6" y="936"/>
                  </a:lnTo>
                  <a:lnTo>
                    <a:pt x="2" y="914"/>
                  </a:lnTo>
                  <a:lnTo>
                    <a:pt x="1" y="890"/>
                  </a:lnTo>
                  <a:lnTo>
                    <a:pt x="0" y="863"/>
                  </a:lnTo>
                  <a:lnTo>
                    <a:pt x="1" y="830"/>
                  </a:lnTo>
                  <a:lnTo>
                    <a:pt x="4" y="797"/>
                  </a:lnTo>
                  <a:lnTo>
                    <a:pt x="8" y="763"/>
                  </a:lnTo>
                  <a:lnTo>
                    <a:pt x="14" y="728"/>
                  </a:lnTo>
                  <a:lnTo>
                    <a:pt x="21" y="691"/>
                  </a:lnTo>
                  <a:lnTo>
                    <a:pt x="31" y="654"/>
                  </a:lnTo>
                  <a:lnTo>
                    <a:pt x="42" y="616"/>
                  </a:lnTo>
                  <a:lnTo>
                    <a:pt x="54" y="577"/>
                  </a:lnTo>
                  <a:lnTo>
                    <a:pt x="68" y="538"/>
                  </a:lnTo>
                  <a:lnTo>
                    <a:pt x="84" y="501"/>
                  </a:lnTo>
                  <a:lnTo>
                    <a:pt x="100" y="465"/>
                  </a:lnTo>
                  <a:lnTo>
                    <a:pt x="118" y="428"/>
                  </a:lnTo>
                  <a:lnTo>
                    <a:pt x="136" y="394"/>
                  </a:lnTo>
                  <a:lnTo>
                    <a:pt x="156" y="360"/>
                  </a:lnTo>
                  <a:lnTo>
                    <a:pt x="177" y="327"/>
                  </a:lnTo>
                  <a:lnTo>
                    <a:pt x="199" y="294"/>
                  </a:lnTo>
                  <a:lnTo>
                    <a:pt x="222" y="263"/>
                  </a:lnTo>
                  <a:lnTo>
                    <a:pt x="245" y="234"/>
                  </a:lnTo>
                  <a:lnTo>
                    <a:pt x="269" y="207"/>
                  </a:lnTo>
                  <a:lnTo>
                    <a:pt x="293" y="183"/>
                  </a:lnTo>
                  <a:lnTo>
                    <a:pt x="317" y="161"/>
                  </a:lnTo>
                  <a:lnTo>
                    <a:pt x="342" y="140"/>
                  </a:lnTo>
                  <a:lnTo>
                    <a:pt x="367" y="121"/>
                  </a:lnTo>
                  <a:lnTo>
                    <a:pt x="392" y="106"/>
                  </a:lnTo>
                  <a:lnTo>
                    <a:pt x="413" y="95"/>
                  </a:lnTo>
                  <a:lnTo>
                    <a:pt x="435" y="85"/>
                  </a:lnTo>
                  <a:lnTo>
                    <a:pt x="458" y="76"/>
                  </a:lnTo>
                  <a:lnTo>
                    <a:pt x="483" y="70"/>
                  </a:lnTo>
                  <a:lnTo>
                    <a:pt x="509" y="64"/>
                  </a:lnTo>
                  <a:lnTo>
                    <a:pt x="536" y="60"/>
                  </a:lnTo>
                  <a:lnTo>
                    <a:pt x="564" y="59"/>
                  </a:lnTo>
                  <a:lnTo>
                    <a:pt x="595" y="58"/>
                  </a:lnTo>
                  <a:lnTo>
                    <a:pt x="609" y="58"/>
                  </a:lnTo>
                  <a:lnTo>
                    <a:pt x="622" y="59"/>
                  </a:lnTo>
                  <a:lnTo>
                    <a:pt x="634" y="60"/>
                  </a:lnTo>
                  <a:lnTo>
                    <a:pt x="640" y="62"/>
                  </a:lnTo>
                  <a:lnTo>
                    <a:pt x="645" y="63"/>
                  </a:lnTo>
                  <a:close/>
                  <a:moveTo>
                    <a:pt x="543" y="240"/>
                  </a:moveTo>
                  <a:lnTo>
                    <a:pt x="526" y="236"/>
                  </a:lnTo>
                  <a:lnTo>
                    <a:pt x="510" y="235"/>
                  </a:lnTo>
                  <a:lnTo>
                    <a:pt x="493" y="233"/>
                  </a:lnTo>
                  <a:lnTo>
                    <a:pt x="477" y="233"/>
                  </a:lnTo>
                  <a:lnTo>
                    <a:pt x="458" y="234"/>
                  </a:lnTo>
                  <a:lnTo>
                    <a:pt x="440" y="236"/>
                  </a:lnTo>
                  <a:lnTo>
                    <a:pt x="422" y="240"/>
                  </a:lnTo>
                  <a:lnTo>
                    <a:pt x="405" y="246"/>
                  </a:lnTo>
                  <a:lnTo>
                    <a:pt x="388" y="253"/>
                  </a:lnTo>
                  <a:lnTo>
                    <a:pt x="373" y="263"/>
                  </a:lnTo>
                  <a:lnTo>
                    <a:pt x="357" y="274"/>
                  </a:lnTo>
                  <a:lnTo>
                    <a:pt x="342" y="286"/>
                  </a:lnTo>
                  <a:lnTo>
                    <a:pt x="336" y="294"/>
                  </a:lnTo>
                  <a:lnTo>
                    <a:pt x="328" y="301"/>
                  </a:lnTo>
                  <a:lnTo>
                    <a:pt x="314" y="318"/>
                  </a:lnTo>
                  <a:lnTo>
                    <a:pt x="300" y="339"/>
                  </a:lnTo>
                  <a:lnTo>
                    <a:pt x="286" y="362"/>
                  </a:lnTo>
                  <a:lnTo>
                    <a:pt x="272" y="389"/>
                  </a:lnTo>
                  <a:lnTo>
                    <a:pt x="259" y="418"/>
                  </a:lnTo>
                  <a:lnTo>
                    <a:pt x="246" y="450"/>
                  </a:lnTo>
                  <a:lnTo>
                    <a:pt x="233" y="486"/>
                  </a:lnTo>
                  <a:lnTo>
                    <a:pt x="221" y="522"/>
                  </a:lnTo>
                  <a:lnTo>
                    <a:pt x="210" y="558"/>
                  </a:lnTo>
                  <a:lnTo>
                    <a:pt x="201" y="594"/>
                  </a:lnTo>
                  <a:lnTo>
                    <a:pt x="194" y="631"/>
                  </a:lnTo>
                  <a:lnTo>
                    <a:pt x="189" y="666"/>
                  </a:lnTo>
                  <a:lnTo>
                    <a:pt x="184" y="703"/>
                  </a:lnTo>
                  <a:lnTo>
                    <a:pt x="182" y="739"/>
                  </a:lnTo>
                  <a:lnTo>
                    <a:pt x="181" y="775"/>
                  </a:lnTo>
                  <a:lnTo>
                    <a:pt x="181" y="792"/>
                  </a:lnTo>
                  <a:lnTo>
                    <a:pt x="182" y="809"/>
                  </a:lnTo>
                  <a:lnTo>
                    <a:pt x="183" y="824"/>
                  </a:lnTo>
                  <a:lnTo>
                    <a:pt x="185" y="836"/>
                  </a:lnTo>
                  <a:lnTo>
                    <a:pt x="188" y="848"/>
                  </a:lnTo>
                  <a:lnTo>
                    <a:pt x="191" y="858"/>
                  </a:lnTo>
                  <a:lnTo>
                    <a:pt x="192" y="863"/>
                  </a:lnTo>
                  <a:lnTo>
                    <a:pt x="194" y="867"/>
                  </a:lnTo>
                  <a:lnTo>
                    <a:pt x="196" y="870"/>
                  </a:lnTo>
                  <a:lnTo>
                    <a:pt x="197" y="874"/>
                  </a:lnTo>
                  <a:lnTo>
                    <a:pt x="199" y="878"/>
                  </a:lnTo>
                  <a:lnTo>
                    <a:pt x="201" y="880"/>
                  </a:lnTo>
                  <a:lnTo>
                    <a:pt x="204" y="884"/>
                  </a:lnTo>
                  <a:lnTo>
                    <a:pt x="206" y="886"/>
                  </a:lnTo>
                  <a:lnTo>
                    <a:pt x="208" y="889"/>
                  </a:lnTo>
                  <a:lnTo>
                    <a:pt x="211" y="891"/>
                  </a:lnTo>
                  <a:lnTo>
                    <a:pt x="213" y="892"/>
                  </a:lnTo>
                  <a:lnTo>
                    <a:pt x="216" y="895"/>
                  </a:lnTo>
                  <a:lnTo>
                    <a:pt x="218" y="896"/>
                  </a:lnTo>
                  <a:lnTo>
                    <a:pt x="221" y="897"/>
                  </a:lnTo>
                  <a:lnTo>
                    <a:pt x="224" y="899"/>
                  </a:lnTo>
                  <a:lnTo>
                    <a:pt x="227" y="900"/>
                  </a:lnTo>
                  <a:lnTo>
                    <a:pt x="230" y="900"/>
                  </a:lnTo>
                  <a:lnTo>
                    <a:pt x="233" y="901"/>
                  </a:lnTo>
                  <a:lnTo>
                    <a:pt x="235" y="901"/>
                  </a:lnTo>
                  <a:lnTo>
                    <a:pt x="238" y="901"/>
                  </a:lnTo>
                  <a:lnTo>
                    <a:pt x="245" y="901"/>
                  </a:lnTo>
                  <a:lnTo>
                    <a:pt x="253" y="900"/>
                  </a:lnTo>
                  <a:lnTo>
                    <a:pt x="260" y="899"/>
                  </a:lnTo>
                  <a:lnTo>
                    <a:pt x="268" y="896"/>
                  </a:lnTo>
                  <a:lnTo>
                    <a:pt x="275" y="894"/>
                  </a:lnTo>
                  <a:lnTo>
                    <a:pt x="283" y="890"/>
                  </a:lnTo>
                  <a:lnTo>
                    <a:pt x="299" y="880"/>
                  </a:lnTo>
                  <a:lnTo>
                    <a:pt x="314" y="869"/>
                  </a:lnTo>
                  <a:lnTo>
                    <a:pt x="331" y="855"/>
                  </a:lnTo>
                  <a:lnTo>
                    <a:pt x="347" y="839"/>
                  </a:lnTo>
                  <a:lnTo>
                    <a:pt x="364" y="819"/>
                  </a:lnTo>
                  <a:lnTo>
                    <a:pt x="380" y="798"/>
                  </a:lnTo>
                  <a:lnTo>
                    <a:pt x="396" y="774"/>
                  </a:lnTo>
                  <a:lnTo>
                    <a:pt x="411" y="748"/>
                  </a:lnTo>
                  <a:lnTo>
                    <a:pt x="424" y="719"/>
                  </a:lnTo>
                  <a:lnTo>
                    <a:pt x="436" y="688"/>
                  </a:lnTo>
                  <a:lnTo>
                    <a:pt x="448" y="655"/>
                  </a:lnTo>
                  <a:lnTo>
                    <a:pt x="457" y="619"/>
                  </a:lnTo>
                  <a:lnTo>
                    <a:pt x="466" y="581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01800" y="4452840"/>
              <a:ext cx="308160" cy="387360"/>
            </a:xfrm>
            <a:custGeom>
              <a:avLst/>
              <a:gdLst/>
              <a:ahLst/>
              <a:rect l="l" t="t" r="r" b="b"/>
              <a:pathLst>
                <a:path w="857" h="1078">
                  <a:moveTo>
                    <a:pt x="856" y="807"/>
                  </a:moveTo>
                  <a:lnTo>
                    <a:pt x="809" y="870"/>
                  </a:lnTo>
                  <a:lnTo>
                    <a:pt x="763" y="925"/>
                  </a:lnTo>
                  <a:lnTo>
                    <a:pt x="721" y="972"/>
                  </a:lnTo>
                  <a:lnTo>
                    <a:pt x="683" y="1009"/>
                  </a:lnTo>
                  <a:lnTo>
                    <a:pt x="647" y="1039"/>
                  </a:lnTo>
                  <a:lnTo>
                    <a:pt x="631" y="1050"/>
                  </a:lnTo>
                  <a:lnTo>
                    <a:pt x="614" y="1060"/>
                  </a:lnTo>
                  <a:lnTo>
                    <a:pt x="600" y="1067"/>
                  </a:lnTo>
                  <a:lnTo>
                    <a:pt x="585" y="1073"/>
                  </a:lnTo>
                  <a:lnTo>
                    <a:pt x="571" y="1075"/>
                  </a:lnTo>
                  <a:lnTo>
                    <a:pt x="559" y="1077"/>
                  </a:lnTo>
                  <a:lnTo>
                    <a:pt x="555" y="1077"/>
                  </a:lnTo>
                  <a:lnTo>
                    <a:pt x="550" y="1077"/>
                  </a:lnTo>
                  <a:lnTo>
                    <a:pt x="546" y="1075"/>
                  </a:lnTo>
                  <a:lnTo>
                    <a:pt x="542" y="1074"/>
                  </a:lnTo>
                  <a:lnTo>
                    <a:pt x="538" y="1073"/>
                  </a:lnTo>
                  <a:lnTo>
                    <a:pt x="534" y="1072"/>
                  </a:lnTo>
                  <a:lnTo>
                    <a:pt x="530" y="1069"/>
                  </a:lnTo>
                  <a:lnTo>
                    <a:pt x="527" y="1068"/>
                  </a:lnTo>
                  <a:lnTo>
                    <a:pt x="522" y="1066"/>
                  </a:lnTo>
                  <a:lnTo>
                    <a:pt x="519" y="1062"/>
                  </a:lnTo>
                  <a:lnTo>
                    <a:pt x="511" y="1056"/>
                  </a:lnTo>
                  <a:lnTo>
                    <a:pt x="503" y="1049"/>
                  </a:lnTo>
                  <a:lnTo>
                    <a:pt x="496" y="1040"/>
                  </a:lnTo>
                  <a:lnTo>
                    <a:pt x="492" y="1035"/>
                  </a:lnTo>
                  <a:lnTo>
                    <a:pt x="490" y="1030"/>
                  </a:lnTo>
                  <a:lnTo>
                    <a:pt x="487" y="1025"/>
                  </a:lnTo>
                  <a:lnTo>
                    <a:pt x="484" y="1020"/>
                  </a:lnTo>
                  <a:lnTo>
                    <a:pt x="481" y="1014"/>
                  </a:lnTo>
                  <a:lnTo>
                    <a:pt x="479" y="1009"/>
                  </a:lnTo>
                  <a:lnTo>
                    <a:pt x="476" y="1003"/>
                  </a:lnTo>
                  <a:lnTo>
                    <a:pt x="475" y="997"/>
                  </a:lnTo>
                  <a:lnTo>
                    <a:pt x="471" y="985"/>
                  </a:lnTo>
                  <a:lnTo>
                    <a:pt x="469" y="972"/>
                  </a:lnTo>
                  <a:lnTo>
                    <a:pt x="467" y="957"/>
                  </a:lnTo>
                  <a:lnTo>
                    <a:pt x="467" y="942"/>
                  </a:lnTo>
                  <a:lnTo>
                    <a:pt x="467" y="925"/>
                  </a:lnTo>
                  <a:lnTo>
                    <a:pt x="468" y="908"/>
                  </a:lnTo>
                  <a:lnTo>
                    <a:pt x="470" y="890"/>
                  </a:lnTo>
                  <a:lnTo>
                    <a:pt x="472" y="870"/>
                  </a:lnTo>
                  <a:lnTo>
                    <a:pt x="478" y="827"/>
                  </a:lnTo>
                  <a:lnTo>
                    <a:pt x="487" y="781"/>
                  </a:lnTo>
                  <a:lnTo>
                    <a:pt x="531" y="579"/>
                  </a:lnTo>
                  <a:lnTo>
                    <a:pt x="308" y="579"/>
                  </a:lnTo>
                  <a:lnTo>
                    <a:pt x="221" y="1035"/>
                  </a:lnTo>
                  <a:lnTo>
                    <a:pt x="46" y="1035"/>
                  </a:lnTo>
                  <a:lnTo>
                    <a:pt x="47" y="1024"/>
                  </a:lnTo>
                  <a:lnTo>
                    <a:pt x="48" y="1012"/>
                  </a:lnTo>
                  <a:lnTo>
                    <a:pt x="52" y="984"/>
                  </a:lnTo>
                  <a:lnTo>
                    <a:pt x="57" y="948"/>
                  </a:lnTo>
                  <a:lnTo>
                    <a:pt x="66" y="909"/>
                  </a:lnTo>
                  <a:lnTo>
                    <a:pt x="115" y="669"/>
                  </a:lnTo>
                  <a:lnTo>
                    <a:pt x="199" y="248"/>
                  </a:lnTo>
                  <a:lnTo>
                    <a:pt x="201" y="234"/>
                  </a:lnTo>
                  <a:lnTo>
                    <a:pt x="203" y="221"/>
                  </a:lnTo>
                  <a:lnTo>
                    <a:pt x="204" y="212"/>
                  </a:lnTo>
                  <a:lnTo>
                    <a:pt x="204" y="207"/>
                  </a:lnTo>
                  <a:lnTo>
                    <a:pt x="204" y="203"/>
                  </a:lnTo>
                  <a:lnTo>
                    <a:pt x="204" y="192"/>
                  </a:lnTo>
                  <a:lnTo>
                    <a:pt x="202" y="192"/>
                  </a:lnTo>
                  <a:lnTo>
                    <a:pt x="200" y="192"/>
                  </a:lnTo>
                  <a:lnTo>
                    <a:pt x="195" y="194"/>
                  </a:lnTo>
                  <a:lnTo>
                    <a:pt x="190" y="197"/>
                  </a:lnTo>
                  <a:lnTo>
                    <a:pt x="183" y="201"/>
                  </a:lnTo>
                  <a:lnTo>
                    <a:pt x="169" y="210"/>
                  </a:lnTo>
                  <a:lnTo>
                    <a:pt x="153" y="224"/>
                  </a:lnTo>
                  <a:lnTo>
                    <a:pt x="133" y="242"/>
                  </a:lnTo>
                  <a:lnTo>
                    <a:pt x="112" y="264"/>
                  </a:lnTo>
                  <a:lnTo>
                    <a:pt x="62" y="319"/>
                  </a:lnTo>
                  <a:lnTo>
                    <a:pt x="0" y="257"/>
                  </a:lnTo>
                  <a:lnTo>
                    <a:pt x="51" y="197"/>
                  </a:lnTo>
                  <a:lnTo>
                    <a:pt x="98" y="144"/>
                  </a:lnTo>
                  <a:lnTo>
                    <a:pt x="142" y="100"/>
                  </a:lnTo>
                  <a:lnTo>
                    <a:pt x="183" y="65"/>
                  </a:lnTo>
                  <a:lnTo>
                    <a:pt x="221" y="37"/>
                  </a:lnTo>
                  <a:lnTo>
                    <a:pt x="239" y="26"/>
                  </a:lnTo>
                  <a:lnTo>
                    <a:pt x="256" y="16"/>
                  </a:lnTo>
                  <a:lnTo>
                    <a:pt x="272" y="9"/>
                  </a:lnTo>
                  <a:lnTo>
                    <a:pt x="288" y="4"/>
                  </a:lnTo>
                  <a:lnTo>
                    <a:pt x="303" y="1"/>
                  </a:lnTo>
                  <a:lnTo>
                    <a:pt x="316" y="0"/>
                  </a:lnTo>
                  <a:lnTo>
                    <a:pt x="325" y="0"/>
                  </a:lnTo>
                  <a:lnTo>
                    <a:pt x="334" y="1"/>
                  </a:lnTo>
                  <a:lnTo>
                    <a:pt x="341" y="4"/>
                  </a:lnTo>
                  <a:lnTo>
                    <a:pt x="348" y="7"/>
                  </a:lnTo>
                  <a:lnTo>
                    <a:pt x="354" y="11"/>
                  </a:lnTo>
                  <a:lnTo>
                    <a:pt x="360" y="16"/>
                  </a:lnTo>
                  <a:lnTo>
                    <a:pt x="366" y="21"/>
                  </a:lnTo>
                  <a:lnTo>
                    <a:pt x="371" y="28"/>
                  </a:lnTo>
                  <a:lnTo>
                    <a:pt x="375" y="34"/>
                  </a:lnTo>
                  <a:lnTo>
                    <a:pt x="379" y="43"/>
                  </a:lnTo>
                  <a:lnTo>
                    <a:pt x="381" y="53"/>
                  </a:lnTo>
                  <a:lnTo>
                    <a:pt x="383" y="62"/>
                  </a:lnTo>
                  <a:lnTo>
                    <a:pt x="385" y="72"/>
                  </a:lnTo>
                  <a:lnTo>
                    <a:pt x="387" y="84"/>
                  </a:lnTo>
                  <a:lnTo>
                    <a:pt x="388" y="97"/>
                  </a:lnTo>
                  <a:lnTo>
                    <a:pt x="388" y="110"/>
                  </a:lnTo>
                  <a:lnTo>
                    <a:pt x="387" y="135"/>
                  </a:lnTo>
                  <a:lnTo>
                    <a:pt x="384" y="164"/>
                  </a:lnTo>
                  <a:lnTo>
                    <a:pt x="380" y="198"/>
                  </a:lnTo>
                  <a:lnTo>
                    <a:pt x="373" y="240"/>
                  </a:lnTo>
                  <a:lnTo>
                    <a:pt x="354" y="337"/>
                  </a:lnTo>
                  <a:lnTo>
                    <a:pt x="327" y="458"/>
                  </a:lnTo>
                  <a:lnTo>
                    <a:pt x="551" y="458"/>
                  </a:lnTo>
                  <a:lnTo>
                    <a:pt x="641" y="29"/>
                  </a:lnTo>
                  <a:lnTo>
                    <a:pt x="810" y="29"/>
                  </a:lnTo>
                  <a:lnTo>
                    <a:pt x="721" y="471"/>
                  </a:lnTo>
                  <a:lnTo>
                    <a:pt x="664" y="748"/>
                  </a:lnTo>
                  <a:lnTo>
                    <a:pt x="649" y="829"/>
                  </a:lnTo>
                  <a:lnTo>
                    <a:pt x="645" y="854"/>
                  </a:lnTo>
                  <a:lnTo>
                    <a:pt x="644" y="863"/>
                  </a:lnTo>
                  <a:lnTo>
                    <a:pt x="644" y="870"/>
                  </a:lnTo>
                  <a:lnTo>
                    <a:pt x="644" y="875"/>
                  </a:lnTo>
                  <a:lnTo>
                    <a:pt x="644" y="880"/>
                  </a:lnTo>
                  <a:lnTo>
                    <a:pt x="645" y="884"/>
                  </a:lnTo>
                  <a:lnTo>
                    <a:pt x="645" y="885"/>
                  </a:lnTo>
                  <a:lnTo>
                    <a:pt x="646" y="887"/>
                  </a:lnTo>
                  <a:lnTo>
                    <a:pt x="646" y="888"/>
                  </a:lnTo>
                  <a:lnTo>
                    <a:pt x="647" y="888"/>
                  </a:lnTo>
                  <a:lnTo>
                    <a:pt x="647" y="890"/>
                  </a:lnTo>
                  <a:lnTo>
                    <a:pt x="647" y="891"/>
                  </a:lnTo>
                  <a:lnTo>
                    <a:pt x="648" y="891"/>
                  </a:lnTo>
                  <a:lnTo>
                    <a:pt x="648" y="891"/>
                  </a:lnTo>
                  <a:lnTo>
                    <a:pt x="648" y="891"/>
                  </a:lnTo>
                  <a:lnTo>
                    <a:pt x="649" y="892"/>
                  </a:lnTo>
                  <a:lnTo>
                    <a:pt x="649" y="892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51" y="892"/>
                  </a:lnTo>
                  <a:lnTo>
                    <a:pt x="653" y="892"/>
                  </a:lnTo>
                  <a:lnTo>
                    <a:pt x="655" y="892"/>
                  </a:lnTo>
                  <a:lnTo>
                    <a:pt x="659" y="890"/>
                  </a:lnTo>
                  <a:lnTo>
                    <a:pt x="664" y="887"/>
                  </a:lnTo>
                  <a:lnTo>
                    <a:pt x="671" y="882"/>
                  </a:lnTo>
                  <a:lnTo>
                    <a:pt x="685" y="870"/>
                  </a:lnTo>
                  <a:lnTo>
                    <a:pt x="703" y="854"/>
                  </a:lnTo>
                  <a:lnTo>
                    <a:pt x="747" y="805"/>
                  </a:lnTo>
                  <a:lnTo>
                    <a:pt x="806" y="738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27240" y="4211640"/>
              <a:ext cx="258840" cy="625320"/>
            </a:xfrm>
            <a:custGeom>
              <a:avLst/>
              <a:gdLst/>
              <a:ahLst/>
              <a:rect l="l" t="t" r="r" b="b"/>
              <a:pathLst>
                <a:path w="720" h="1736">
                  <a:moveTo>
                    <a:pt x="109" y="74"/>
                  </a:moveTo>
                  <a:lnTo>
                    <a:pt x="140" y="0"/>
                  </a:lnTo>
                  <a:lnTo>
                    <a:pt x="210" y="9"/>
                  </a:lnTo>
                  <a:lnTo>
                    <a:pt x="277" y="24"/>
                  </a:lnTo>
                  <a:lnTo>
                    <a:pt x="337" y="45"/>
                  </a:lnTo>
                  <a:lnTo>
                    <a:pt x="393" y="72"/>
                  </a:lnTo>
                  <a:lnTo>
                    <a:pt x="446" y="103"/>
                  </a:lnTo>
                  <a:lnTo>
                    <a:pt x="494" y="141"/>
                  </a:lnTo>
                  <a:lnTo>
                    <a:pt x="536" y="184"/>
                  </a:lnTo>
                  <a:lnTo>
                    <a:pt x="574" y="233"/>
                  </a:lnTo>
                  <a:lnTo>
                    <a:pt x="608" y="288"/>
                  </a:lnTo>
                  <a:lnTo>
                    <a:pt x="638" y="348"/>
                  </a:lnTo>
                  <a:lnTo>
                    <a:pt x="663" y="413"/>
                  </a:lnTo>
                  <a:lnTo>
                    <a:pt x="683" y="485"/>
                  </a:lnTo>
                  <a:lnTo>
                    <a:pt x="699" y="560"/>
                  </a:lnTo>
                  <a:lnTo>
                    <a:pt x="711" y="643"/>
                  </a:lnTo>
                  <a:lnTo>
                    <a:pt x="718" y="731"/>
                  </a:lnTo>
                  <a:lnTo>
                    <a:pt x="719" y="824"/>
                  </a:lnTo>
                  <a:lnTo>
                    <a:pt x="718" y="918"/>
                  </a:lnTo>
                  <a:lnTo>
                    <a:pt x="711" y="1009"/>
                  </a:lnTo>
                  <a:lnTo>
                    <a:pt x="700" y="1094"/>
                  </a:lnTo>
                  <a:lnTo>
                    <a:pt x="685" y="1177"/>
                  </a:lnTo>
                  <a:lnTo>
                    <a:pt x="666" y="1256"/>
                  </a:lnTo>
                  <a:lnTo>
                    <a:pt x="643" y="1331"/>
                  </a:lnTo>
                  <a:lnTo>
                    <a:pt x="614" y="1402"/>
                  </a:lnTo>
                  <a:lnTo>
                    <a:pt x="582" y="1471"/>
                  </a:lnTo>
                  <a:lnTo>
                    <a:pt x="547" y="1533"/>
                  </a:lnTo>
                  <a:lnTo>
                    <a:pt x="529" y="1560"/>
                  </a:lnTo>
                  <a:lnTo>
                    <a:pt x="510" y="1587"/>
                  </a:lnTo>
                  <a:lnTo>
                    <a:pt x="491" y="1610"/>
                  </a:lnTo>
                  <a:lnTo>
                    <a:pt x="470" y="1632"/>
                  </a:lnTo>
                  <a:lnTo>
                    <a:pt x="450" y="1652"/>
                  </a:lnTo>
                  <a:lnTo>
                    <a:pt x="428" y="1669"/>
                  </a:lnTo>
                  <a:lnTo>
                    <a:pt x="407" y="1685"/>
                  </a:lnTo>
                  <a:lnTo>
                    <a:pt x="385" y="1698"/>
                  </a:lnTo>
                  <a:lnTo>
                    <a:pt x="361" y="1709"/>
                  </a:lnTo>
                  <a:lnTo>
                    <a:pt x="338" y="1719"/>
                  </a:lnTo>
                  <a:lnTo>
                    <a:pt x="314" y="1725"/>
                  </a:lnTo>
                  <a:lnTo>
                    <a:pt x="289" y="1731"/>
                  </a:lnTo>
                  <a:lnTo>
                    <a:pt x="264" y="1733"/>
                  </a:lnTo>
                  <a:lnTo>
                    <a:pt x="239" y="1735"/>
                  </a:lnTo>
                  <a:lnTo>
                    <a:pt x="210" y="1733"/>
                  </a:lnTo>
                  <a:lnTo>
                    <a:pt x="184" y="1729"/>
                  </a:lnTo>
                  <a:lnTo>
                    <a:pt x="171" y="1725"/>
                  </a:lnTo>
                  <a:lnTo>
                    <a:pt x="160" y="1721"/>
                  </a:lnTo>
                  <a:lnTo>
                    <a:pt x="148" y="1715"/>
                  </a:lnTo>
                  <a:lnTo>
                    <a:pt x="136" y="1710"/>
                  </a:lnTo>
                  <a:lnTo>
                    <a:pt x="126" y="1703"/>
                  </a:lnTo>
                  <a:lnTo>
                    <a:pt x="115" y="1696"/>
                  </a:lnTo>
                  <a:lnTo>
                    <a:pt x="105" y="1688"/>
                  </a:lnTo>
                  <a:lnTo>
                    <a:pt x="96" y="1678"/>
                  </a:lnTo>
                  <a:lnTo>
                    <a:pt x="87" y="1670"/>
                  </a:lnTo>
                  <a:lnTo>
                    <a:pt x="78" y="1659"/>
                  </a:lnTo>
                  <a:lnTo>
                    <a:pt x="69" y="1648"/>
                  </a:lnTo>
                  <a:lnTo>
                    <a:pt x="61" y="1636"/>
                  </a:lnTo>
                  <a:lnTo>
                    <a:pt x="47" y="1610"/>
                  </a:lnTo>
                  <a:lnTo>
                    <a:pt x="34" y="1584"/>
                  </a:lnTo>
                  <a:lnTo>
                    <a:pt x="25" y="1556"/>
                  </a:lnTo>
                  <a:lnTo>
                    <a:pt x="16" y="1528"/>
                  </a:lnTo>
                  <a:lnTo>
                    <a:pt x="9" y="1499"/>
                  </a:lnTo>
                  <a:lnTo>
                    <a:pt x="4" y="1468"/>
                  </a:lnTo>
                  <a:lnTo>
                    <a:pt x="1" y="1438"/>
                  </a:lnTo>
                  <a:lnTo>
                    <a:pt x="0" y="1405"/>
                  </a:lnTo>
                  <a:lnTo>
                    <a:pt x="2" y="1339"/>
                  </a:lnTo>
                  <a:lnTo>
                    <a:pt x="9" y="1274"/>
                  </a:lnTo>
                  <a:lnTo>
                    <a:pt x="19" y="1209"/>
                  </a:lnTo>
                  <a:lnTo>
                    <a:pt x="34" y="1147"/>
                  </a:lnTo>
                  <a:lnTo>
                    <a:pt x="53" y="1086"/>
                  </a:lnTo>
                  <a:lnTo>
                    <a:pt x="76" y="1026"/>
                  </a:lnTo>
                  <a:lnTo>
                    <a:pt x="103" y="967"/>
                  </a:lnTo>
                  <a:lnTo>
                    <a:pt x="135" y="910"/>
                  </a:lnTo>
                  <a:lnTo>
                    <a:pt x="170" y="856"/>
                  </a:lnTo>
                  <a:lnTo>
                    <a:pt x="205" y="811"/>
                  </a:lnTo>
                  <a:lnTo>
                    <a:pt x="222" y="790"/>
                  </a:lnTo>
                  <a:lnTo>
                    <a:pt x="240" y="772"/>
                  </a:lnTo>
                  <a:lnTo>
                    <a:pt x="258" y="755"/>
                  </a:lnTo>
                  <a:lnTo>
                    <a:pt x="277" y="740"/>
                  </a:lnTo>
                  <a:lnTo>
                    <a:pt x="294" y="727"/>
                  </a:lnTo>
                  <a:lnTo>
                    <a:pt x="314" y="714"/>
                  </a:lnTo>
                  <a:lnTo>
                    <a:pt x="332" y="705"/>
                  </a:lnTo>
                  <a:lnTo>
                    <a:pt x="351" y="697"/>
                  </a:lnTo>
                  <a:lnTo>
                    <a:pt x="370" y="691"/>
                  </a:lnTo>
                  <a:lnTo>
                    <a:pt x="389" y="686"/>
                  </a:lnTo>
                  <a:lnTo>
                    <a:pt x="409" y="684"/>
                  </a:lnTo>
                  <a:lnTo>
                    <a:pt x="428" y="683"/>
                  </a:lnTo>
                  <a:lnTo>
                    <a:pt x="440" y="683"/>
                  </a:lnTo>
                  <a:lnTo>
                    <a:pt x="452" y="684"/>
                  </a:lnTo>
                  <a:lnTo>
                    <a:pt x="462" y="686"/>
                  </a:lnTo>
                  <a:lnTo>
                    <a:pt x="473" y="689"/>
                  </a:lnTo>
                  <a:lnTo>
                    <a:pt x="483" y="694"/>
                  </a:lnTo>
                  <a:lnTo>
                    <a:pt x="492" y="697"/>
                  </a:lnTo>
                  <a:lnTo>
                    <a:pt x="500" y="703"/>
                  </a:lnTo>
                  <a:lnTo>
                    <a:pt x="509" y="709"/>
                  </a:lnTo>
                  <a:lnTo>
                    <a:pt x="516" y="717"/>
                  </a:lnTo>
                  <a:lnTo>
                    <a:pt x="524" y="724"/>
                  </a:lnTo>
                  <a:lnTo>
                    <a:pt x="530" y="733"/>
                  </a:lnTo>
                  <a:lnTo>
                    <a:pt x="536" y="742"/>
                  </a:lnTo>
                  <a:lnTo>
                    <a:pt x="541" y="753"/>
                  </a:lnTo>
                  <a:lnTo>
                    <a:pt x="546" y="764"/>
                  </a:lnTo>
                  <a:lnTo>
                    <a:pt x="551" y="777"/>
                  </a:lnTo>
                  <a:lnTo>
                    <a:pt x="555" y="790"/>
                  </a:lnTo>
                  <a:lnTo>
                    <a:pt x="553" y="714"/>
                  </a:lnTo>
                  <a:lnTo>
                    <a:pt x="548" y="642"/>
                  </a:lnTo>
                  <a:lnTo>
                    <a:pt x="540" y="575"/>
                  </a:lnTo>
                  <a:lnTo>
                    <a:pt x="530" y="513"/>
                  </a:lnTo>
                  <a:lnTo>
                    <a:pt x="515" y="454"/>
                  </a:lnTo>
                  <a:lnTo>
                    <a:pt x="499" y="400"/>
                  </a:lnTo>
                  <a:lnTo>
                    <a:pt x="479" y="350"/>
                  </a:lnTo>
                  <a:lnTo>
                    <a:pt x="467" y="327"/>
                  </a:lnTo>
                  <a:lnTo>
                    <a:pt x="456" y="305"/>
                  </a:lnTo>
                  <a:lnTo>
                    <a:pt x="443" y="284"/>
                  </a:lnTo>
                  <a:lnTo>
                    <a:pt x="428" y="263"/>
                  </a:lnTo>
                  <a:lnTo>
                    <a:pt x="414" y="244"/>
                  </a:lnTo>
                  <a:lnTo>
                    <a:pt x="397" y="226"/>
                  </a:lnTo>
                  <a:lnTo>
                    <a:pt x="380" y="208"/>
                  </a:lnTo>
                  <a:lnTo>
                    <a:pt x="361" y="191"/>
                  </a:lnTo>
                  <a:lnTo>
                    <a:pt x="341" y="175"/>
                  </a:lnTo>
                  <a:lnTo>
                    <a:pt x="320" y="161"/>
                  </a:lnTo>
                  <a:lnTo>
                    <a:pt x="275" y="134"/>
                  </a:lnTo>
                  <a:lnTo>
                    <a:pt x="224" y="111"/>
                  </a:lnTo>
                  <a:lnTo>
                    <a:pt x="169" y="90"/>
                  </a:lnTo>
                  <a:close/>
                  <a:moveTo>
                    <a:pt x="522" y="1111"/>
                  </a:moveTo>
                  <a:lnTo>
                    <a:pt x="522" y="1078"/>
                  </a:lnTo>
                  <a:lnTo>
                    <a:pt x="520" y="1045"/>
                  </a:lnTo>
                  <a:lnTo>
                    <a:pt x="518" y="1016"/>
                  </a:lnTo>
                  <a:lnTo>
                    <a:pt x="514" y="987"/>
                  </a:lnTo>
                  <a:lnTo>
                    <a:pt x="510" y="960"/>
                  </a:lnTo>
                  <a:lnTo>
                    <a:pt x="505" y="934"/>
                  </a:lnTo>
                  <a:lnTo>
                    <a:pt x="499" y="911"/>
                  </a:lnTo>
                  <a:lnTo>
                    <a:pt x="492" y="889"/>
                  </a:lnTo>
                  <a:lnTo>
                    <a:pt x="484" y="870"/>
                  </a:lnTo>
                  <a:lnTo>
                    <a:pt x="480" y="861"/>
                  </a:lnTo>
                  <a:lnTo>
                    <a:pt x="475" y="852"/>
                  </a:lnTo>
                  <a:lnTo>
                    <a:pt x="471" y="845"/>
                  </a:lnTo>
                  <a:lnTo>
                    <a:pt x="466" y="838"/>
                  </a:lnTo>
                  <a:lnTo>
                    <a:pt x="462" y="832"/>
                  </a:lnTo>
                  <a:lnTo>
                    <a:pt x="456" y="826"/>
                  </a:lnTo>
                  <a:lnTo>
                    <a:pt x="451" y="821"/>
                  </a:lnTo>
                  <a:lnTo>
                    <a:pt x="445" y="817"/>
                  </a:lnTo>
                  <a:lnTo>
                    <a:pt x="439" y="813"/>
                  </a:lnTo>
                  <a:lnTo>
                    <a:pt x="433" y="810"/>
                  </a:lnTo>
                  <a:lnTo>
                    <a:pt x="427" y="807"/>
                  </a:lnTo>
                  <a:lnTo>
                    <a:pt x="421" y="806"/>
                  </a:lnTo>
                  <a:lnTo>
                    <a:pt x="415" y="805"/>
                  </a:lnTo>
                  <a:lnTo>
                    <a:pt x="408" y="805"/>
                  </a:lnTo>
                  <a:lnTo>
                    <a:pt x="397" y="806"/>
                  </a:lnTo>
                  <a:lnTo>
                    <a:pt x="386" y="807"/>
                  </a:lnTo>
                  <a:lnTo>
                    <a:pt x="375" y="811"/>
                  </a:lnTo>
                  <a:lnTo>
                    <a:pt x="365" y="815"/>
                  </a:lnTo>
                  <a:lnTo>
                    <a:pt x="354" y="821"/>
                  </a:lnTo>
                  <a:lnTo>
                    <a:pt x="345" y="827"/>
                  </a:lnTo>
                  <a:lnTo>
                    <a:pt x="335" y="835"/>
                  </a:lnTo>
                  <a:lnTo>
                    <a:pt x="325" y="844"/>
                  </a:lnTo>
                  <a:lnTo>
                    <a:pt x="316" y="855"/>
                  </a:lnTo>
                  <a:lnTo>
                    <a:pt x="307" y="867"/>
                  </a:lnTo>
                  <a:lnTo>
                    <a:pt x="298" y="879"/>
                  </a:lnTo>
                  <a:lnTo>
                    <a:pt x="290" y="894"/>
                  </a:lnTo>
                  <a:lnTo>
                    <a:pt x="274" y="926"/>
                  </a:lnTo>
                  <a:lnTo>
                    <a:pt x="258" y="964"/>
                  </a:lnTo>
                  <a:lnTo>
                    <a:pt x="244" y="1004"/>
                  </a:lnTo>
                  <a:lnTo>
                    <a:pt x="232" y="1044"/>
                  </a:lnTo>
                  <a:lnTo>
                    <a:pt x="222" y="1086"/>
                  </a:lnTo>
                  <a:lnTo>
                    <a:pt x="213" y="1129"/>
                  </a:lnTo>
                  <a:lnTo>
                    <a:pt x="207" y="1171"/>
                  </a:lnTo>
                  <a:lnTo>
                    <a:pt x="203" y="1217"/>
                  </a:lnTo>
                  <a:lnTo>
                    <a:pt x="200" y="1261"/>
                  </a:lnTo>
                  <a:lnTo>
                    <a:pt x="199" y="1307"/>
                  </a:lnTo>
                  <a:lnTo>
                    <a:pt x="199" y="1338"/>
                  </a:lnTo>
                  <a:lnTo>
                    <a:pt x="201" y="1368"/>
                  </a:lnTo>
                  <a:lnTo>
                    <a:pt x="203" y="1396"/>
                  </a:lnTo>
                  <a:lnTo>
                    <a:pt x="207" y="1423"/>
                  </a:lnTo>
                  <a:lnTo>
                    <a:pt x="210" y="1447"/>
                  </a:lnTo>
                  <a:lnTo>
                    <a:pt x="215" y="1472"/>
                  </a:lnTo>
                  <a:lnTo>
                    <a:pt x="222" y="1495"/>
                  </a:lnTo>
                  <a:lnTo>
                    <a:pt x="229" y="1516"/>
                  </a:lnTo>
                  <a:lnTo>
                    <a:pt x="237" y="1535"/>
                  </a:lnTo>
                  <a:lnTo>
                    <a:pt x="241" y="1544"/>
                  </a:lnTo>
                  <a:lnTo>
                    <a:pt x="245" y="1551"/>
                  </a:lnTo>
                  <a:lnTo>
                    <a:pt x="250" y="1559"/>
                  </a:lnTo>
                  <a:lnTo>
                    <a:pt x="254" y="1566"/>
                  </a:lnTo>
                  <a:lnTo>
                    <a:pt x="259" y="1572"/>
                  </a:lnTo>
                  <a:lnTo>
                    <a:pt x="264" y="1577"/>
                  </a:lnTo>
                  <a:lnTo>
                    <a:pt x="270" y="1582"/>
                  </a:lnTo>
                  <a:lnTo>
                    <a:pt x="275" y="1587"/>
                  </a:lnTo>
                  <a:lnTo>
                    <a:pt x="280" y="1590"/>
                  </a:lnTo>
                  <a:lnTo>
                    <a:pt x="286" y="1593"/>
                  </a:lnTo>
                  <a:lnTo>
                    <a:pt x="292" y="1595"/>
                  </a:lnTo>
                  <a:lnTo>
                    <a:pt x="298" y="1597"/>
                  </a:lnTo>
                  <a:lnTo>
                    <a:pt x="304" y="1598"/>
                  </a:lnTo>
                  <a:lnTo>
                    <a:pt x="311" y="1598"/>
                  </a:lnTo>
                  <a:lnTo>
                    <a:pt x="321" y="1598"/>
                  </a:lnTo>
                  <a:lnTo>
                    <a:pt x="332" y="1595"/>
                  </a:lnTo>
                  <a:lnTo>
                    <a:pt x="342" y="1593"/>
                  </a:lnTo>
                  <a:lnTo>
                    <a:pt x="353" y="1588"/>
                  </a:lnTo>
                  <a:lnTo>
                    <a:pt x="362" y="1583"/>
                  </a:lnTo>
                  <a:lnTo>
                    <a:pt x="372" y="1576"/>
                  </a:lnTo>
                  <a:lnTo>
                    <a:pt x="382" y="1568"/>
                  </a:lnTo>
                  <a:lnTo>
                    <a:pt x="391" y="1560"/>
                  </a:lnTo>
                  <a:lnTo>
                    <a:pt x="400" y="1549"/>
                  </a:lnTo>
                  <a:lnTo>
                    <a:pt x="409" y="1538"/>
                  </a:lnTo>
                  <a:lnTo>
                    <a:pt x="418" y="1524"/>
                  </a:lnTo>
                  <a:lnTo>
                    <a:pt x="426" y="1511"/>
                  </a:lnTo>
                  <a:lnTo>
                    <a:pt x="444" y="1480"/>
                  </a:lnTo>
                  <a:lnTo>
                    <a:pt x="460" y="1444"/>
                  </a:lnTo>
                  <a:lnTo>
                    <a:pt x="474" y="1406"/>
                  </a:lnTo>
                  <a:lnTo>
                    <a:pt x="487" y="1366"/>
                  </a:lnTo>
                  <a:lnTo>
                    <a:pt x="498" y="1325"/>
                  </a:lnTo>
                  <a:lnTo>
                    <a:pt x="506" y="1285"/>
                  </a:lnTo>
                  <a:lnTo>
                    <a:pt x="513" y="1242"/>
                  </a:lnTo>
                  <a:lnTo>
                    <a:pt x="518" y="1199"/>
                  </a:lnTo>
                  <a:lnTo>
                    <a:pt x="521" y="1155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40000" y="4449600"/>
              <a:ext cx="360360" cy="592200"/>
            </a:xfrm>
            <a:custGeom>
              <a:avLst/>
              <a:gdLst/>
              <a:ahLst/>
              <a:rect l="l" t="t" r="r" b="b"/>
              <a:pathLst>
                <a:path w="999" h="1643">
                  <a:moveTo>
                    <a:pt x="224" y="345"/>
                  </a:moveTo>
                  <a:lnTo>
                    <a:pt x="167" y="275"/>
                  </a:lnTo>
                  <a:lnTo>
                    <a:pt x="190" y="240"/>
                  </a:lnTo>
                  <a:lnTo>
                    <a:pt x="212" y="207"/>
                  </a:lnTo>
                  <a:lnTo>
                    <a:pt x="235" y="176"/>
                  </a:lnTo>
                  <a:lnTo>
                    <a:pt x="258" y="149"/>
                  </a:lnTo>
                  <a:lnTo>
                    <a:pt x="280" y="123"/>
                  </a:lnTo>
                  <a:lnTo>
                    <a:pt x="303" y="101"/>
                  </a:lnTo>
                  <a:lnTo>
                    <a:pt x="324" y="81"/>
                  </a:lnTo>
                  <a:lnTo>
                    <a:pt x="346" y="64"/>
                  </a:lnTo>
                  <a:lnTo>
                    <a:pt x="369" y="49"/>
                  </a:lnTo>
                  <a:lnTo>
                    <a:pt x="389" y="35"/>
                  </a:lnTo>
                  <a:lnTo>
                    <a:pt x="410" y="24"/>
                  </a:lnTo>
                  <a:lnTo>
                    <a:pt x="430" y="16"/>
                  </a:lnTo>
                  <a:lnTo>
                    <a:pt x="449" y="9"/>
                  </a:lnTo>
                  <a:lnTo>
                    <a:pt x="467" y="4"/>
                  </a:lnTo>
                  <a:lnTo>
                    <a:pt x="485" y="1"/>
                  </a:lnTo>
                  <a:lnTo>
                    <a:pt x="501" y="0"/>
                  </a:lnTo>
                  <a:lnTo>
                    <a:pt x="509" y="0"/>
                  </a:lnTo>
                  <a:lnTo>
                    <a:pt x="516" y="1"/>
                  </a:lnTo>
                  <a:lnTo>
                    <a:pt x="523" y="4"/>
                  </a:lnTo>
                  <a:lnTo>
                    <a:pt x="529" y="6"/>
                  </a:lnTo>
                  <a:lnTo>
                    <a:pt x="535" y="9"/>
                  </a:lnTo>
                  <a:lnTo>
                    <a:pt x="538" y="11"/>
                  </a:lnTo>
                  <a:lnTo>
                    <a:pt x="541" y="12"/>
                  </a:lnTo>
                  <a:lnTo>
                    <a:pt x="544" y="15"/>
                  </a:lnTo>
                  <a:lnTo>
                    <a:pt x="547" y="17"/>
                  </a:lnTo>
                  <a:lnTo>
                    <a:pt x="550" y="20"/>
                  </a:lnTo>
                  <a:lnTo>
                    <a:pt x="552" y="22"/>
                  </a:lnTo>
                  <a:lnTo>
                    <a:pt x="555" y="24"/>
                  </a:lnTo>
                  <a:lnTo>
                    <a:pt x="557" y="28"/>
                  </a:lnTo>
                  <a:lnTo>
                    <a:pt x="559" y="31"/>
                  </a:lnTo>
                  <a:lnTo>
                    <a:pt x="561" y="34"/>
                  </a:lnTo>
                  <a:lnTo>
                    <a:pt x="562" y="37"/>
                  </a:lnTo>
                  <a:lnTo>
                    <a:pt x="564" y="40"/>
                  </a:lnTo>
                  <a:lnTo>
                    <a:pt x="565" y="44"/>
                  </a:lnTo>
                  <a:lnTo>
                    <a:pt x="567" y="48"/>
                  </a:lnTo>
                  <a:lnTo>
                    <a:pt x="568" y="51"/>
                  </a:lnTo>
                  <a:lnTo>
                    <a:pt x="569" y="55"/>
                  </a:lnTo>
                  <a:lnTo>
                    <a:pt x="570" y="60"/>
                  </a:lnTo>
                  <a:lnTo>
                    <a:pt x="571" y="64"/>
                  </a:lnTo>
                  <a:lnTo>
                    <a:pt x="572" y="72"/>
                  </a:lnTo>
                  <a:lnTo>
                    <a:pt x="572" y="82"/>
                  </a:lnTo>
                  <a:lnTo>
                    <a:pt x="572" y="100"/>
                  </a:lnTo>
                  <a:lnTo>
                    <a:pt x="570" y="119"/>
                  </a:lnTo>
                  <a:lnTo>
                    <a:pt x="568" y="137"/>
                  </a:lnTo>
                  <a:lnTo>
                    <a:pt x="565" y="156"/>
                  </a:lnTo>
                  <a:lnTo>
                    <a:pt x="563" y="167"/>
                  </a:lnTo>
                  <a:lnTo>
                    <a:pt x="561" y="180"/>
                  </a:lnTo>
                  <a:lnTo>
                    <a:pt x="553" y="210"/>
                  </a:lnTo>
                  <a:lnTo>
                    <a:pt x="528" y="297"/>
                  </a:lnTo>
                  <a:lnTo>
                    <a:pt x="580" y="219"/>
                  </a:lnTo>
                  <a:lnTo>
                    <a:pt x="624" y="156"/>
                  </a:lnTo>
                  <a:lnTo>
                    <a:pt x="644" y="131"/>
                  </a:lnTo>
                  <a:lnTo>
                    <a:pt x="662" y="110"/>
                  </a:lnTo>
                  <a:lnTo>
                    <a:pt x="678" y="93"/>
                  </a:lnTo>
                  <a:lnTo>
                    <a:pt x="693" y="79"/>
                  </a:lnTo>
                  <a:lnTo>
                    <a:pt x="715" y="62"/>
                  </a:lnTo>
                  <a:lnTo>
                    <a:pt x="738" y="46"/>
                  </a:lnTo>
                  <a:lnTo>
                    <a:pt x="760" y="33"/>
                  </a:lnTo>
                  <a:lnTo>
                    <a:pt x="781" y="23"/>
                  </a:lnTo>
                  <a:lnTo>
                    <a:pt x="803" y="15"/>
                  </a:lnTo>
                  <a:lnTo>
                    <a:pt x="824" y="9"/>
                  </a:lnTo>
                  <a:lnTo>
                    <a:pt x="845" y="5"/>
                  </a:lnTo>
                  <a:lnTo>
                    <a:pt x="864" y="4"/>
                  </a:lnTo>
                  <a:lnTo>
                    <a:pt x="871" y="4"/>
                  </a:lnTo>
                  <a:lnTo>
                    <a:pt x="879" y="5"/>
                  </a:lnTo>
                  <a:lnTo>
                    <a:pt x="886" y="6"/>
                  </a:lnTo>
                  <a:lnTo>
                    <a:pt x="892" y="7"/>
                  </a:lnTo>
                  <a:lnTo>
                    <a:pt x="898" y="10"/>
                  </a:lnTo>
                  <a:lnTo>
                    <a:pt x="905" y="13"/>
                  </a:lnTo>
                  <a:lnTo>
                    <a:pt x="911" y="16"/>
                  </a:lnTo>
                  <a:lnTo>
                    <a:pt x="917" y="20"/>
                  </a:lnTo>
                  <a:lnTo>
                    <a:pt x="923" y="24"/>
                  </a:lnTo>
                  <a:lnTo>
                    <a:pt x="928" y="29"/>
                  </a:lnTo>
                  <a:lnTo>
                    <a:pt x="934" y="34"/>
                  </a:lnTo>
                  <a:lnTo>
                    <a:pt x="939" y="40"/>
                  </a:lnTo>
                  <a:lnTo>
                    <a:pt x="945" y="46"/>
                  </a:lnTo>
                  <a:lnTo>
                    <a:pt x="950" y="54"/>
                  </a:lnTo>
                  <a:lnTo>
                    <a:pt x="960" y="68"/>
                  </a:lnTo>
                  <a:lnTo>
                    <a:pt x="964" y="77"/>
                  </a:lnTo>
                  <a:lnTo>
                    <a:pt x="968" y="86"/>
                  </a:lnTo>
                  <a:lnTo>
                    <a:pt x="976" y="105"/>
                  </a:lnTo>
                  <a:lnTo>
                    <a:pt x="983" y="126"/>
                  </a:lnTo>
                  <a:lnTo>
                    <a:pt x="988" y="148"/>
                  </a:lnTo>
                  <a:lnTo>
                    <a:pt x="993" y="171"/>
                  </a:lnTo>
                  <a:lnTo>
                    <a:pt x="996" y="197"/>
                  </a:lnTo>
                  <a:lnTo>
                    <a:pt x="997" y="225"/>
                  </a:lnTo>
                  <a:lnTo>
                    <a:pt x="998" y="254"/>
                  </a:lnTo>
                  <a:lnTo>
                    <a:pt x="996" y="326"/>
                  </a:lnTo>
                  <a:lnTo>
                    <a:pt x="989" y="398"/>
                  </a:lnTo>
                  <a:lnTo>
                    <a:pt x="977" y="469"/>
                  </a:lnTo>
                  <a:lnTo>
                    <a:pt x="962" y="539"/>
                  </a:lnTo>
                  <a:lnTo>
                    <a:pt x="940" y="607"/>
                  </a:lnTo>
                  <a:lnTo>
                    <a:pt x="916" y="676"/>
                  </a:lnTo>
                  <a:lnTo>
                    <a:pt x="886" y="743"/>
                  </a:lnTo>
                  <a:lnTo>
                    <a:pt x="852" y="810"/>
                  </a:lnTo>
                  <a:lnTo>
                    <a:pt x="815" y="872"/>
                  </a:lnTo>
                  <a:lnTo>
                    <a:pt x="777" y="926"/>
                  </a:lnTo>
                  <a:lnTo>
                    <a:pt x="757" y="949"/>
                  </a:lnTo>
                  <a:lnTo>
                    <a:pt x="737" y="971"/>
                  </a:lnTo>
                  <a:lnTo>
                    <a:pt x="717" y="991"/>
                  </a:lnTo>
                  <a:lnTo>
                    <a:pt x="697" y="1008"/>
                  </a:lnTo>
                  <a:lnTo>
                    <a:pt x="676" y="1024"/>
                  </a:lnTo>
                  <a:lnTo>
                    <a:pt x="655" y="1037"/>
                  </a:lnTo>
                  <a:lnTo>
                    <a:pt x="634" y="1048"/>
                  </a:lnTo>
                  <a:lnTo>
                    <a:pt x="612" y="1058"/>
                  </a:lnTo>
                  <a:lnTo>
                    <a:pt x="591" y="1064"/>
                  </a:lnTo>
                  <a:lnTo>
                    <a:pt x="568" y="1070"/>
                  </a:lnTo>
                  <a:lnTo>
                    <a:pt x="546" y="1073"/>
                  </a:lnTo>
                  <a:lnTo>
                    <a:pt x="524" y="1074"/>
                  </a:lnTo>
                  <a:lnTo>
                    <a:pt x="506" y="1073"/>
                  </a:lnTo>
                  <a:lnTo>
                    <a:pt x="489" y="1072"/>
                  </a:lnTo>
                  <a:lnTo>
                    <a:pt x="473" y="1068"/>
                  </a:lnTo>
                  <a:lnTo>
                    <a:pt x="457" y="1063"/>
                  </a:lnTo>
                  <a:lnTo>
                    <a:pt x="443" y="1057"/>
                  </a:lnTo>
                  <a:lnTo>
                    <a:pt x="428" y="1048"/>
                  </a:lnTo>
                  <a:lnTo>
                    <a:pt x="415" y="1040"/>
                  </a:lnTo>
                  <a:lnTo>
                    <a:pt x="403" y="1029"/>
                  </a:lnTo>
                  <a:lnTo>
                    <a:pt x="330" y="1398"/>
                  </a:lnTo>
                  <a:lnTo>
                    <a:pt x="327" y="1413"/>
                  </a:lnTo>
                  <a:lnTo>
                    <a:pt x="326" y="1420"/>
                  </a:lnTo>
                  <a:lnTo>
                    <a:pt x="325" y="1426"/>
                  </a:lnTo>
                  <a:lnTo>
                    <a:pt x="324" y="1432"/>
                  </a:lnTo>
                  <a:lnTo>
                    <a:pt x="323" y="1438"/>
                  </a:lnTo>
                  <a:lnTo>
                    <a:pt x="323" y="1444"/>
                  </a:lnTo>
                  <a:lnTo>
                    <a:pt x="323" y="1449"/>
                  </a:lnTo>
                  <a:lnTo>
                    <a:pt x="323" y="1453"/>
                  </a:lnTo>
                  <a:lnTo>
                    <a:pt x="323" y="1457"/>
                  </a:lnTo>
                  <a:lnTo>
                    <a:pt x="324" y="1460"/>
                  </a:lnTo>
                  <a:lnTo>
                    <a:pt x="325" y="1464"/>
                  </a:lnTo>
                  <a:lnTo>
                    <a:pt x="326" y="1468"/>
                  </a:lnTo>
                  <a:lnTo>
                    <a:pt x="327" y="1471"/>
                  </a:lnTo>
                  <a:lnTo>
                    <a:pt x="328" y="1474"/>
                  </a:lnTo>
                  <a:lnTo>
                    <a:pt x="330" y="1477"/>
                  </a:lnTo>
                  <a:lnTo>
                    <a:pt x="332" y="1481"/>
                  </a:lnTo>
                  <a:lnTo>
                    <a:pt x="334" y="1485"/>
                  </a:lnTo>
                  <a:lnTo>
                    <a:pt x="336" y="1487"/>
                  </a:lnTo>
                  <a:lnTo>
                    <a:pt x="338" y="1491"/>
                  </a:lnTo>
                  <a:lnTo>
                    <a:pt x="343" y="1497"/>
                  </a:lnTo>
                  <a:lnTo>
                    <a:pt x="349" y="1503"/>
                  </a:lnTo>
                  <a:lnTo>
                    <a:pt x="353" y="1505"/>
                  </a:lnTo>
                  <a:lnTo>
                    <a:pt x="358" y="1507"/>
                  </a:lnTo>
                  <a:lnTo>
                    <a:pt x="370" y="1510"/>
                  </a:lnTo>
                  <a:lnTo>
                    <a:pt x="405" y="1519"/>
                  </a:lnTo>
                  <a:lnTo>
                    <a:pt x="454" y="1529"/>
                  </a:lnTo>
                  <a:lnTo>
                    <a:pt x="518" y="1538"/>
                  </a:lnTo>
                  <a:lnTo>
                    <a:pt x="500" y="1642"/>
                  </a:lnTo>
                  <a:lnTo>
                    <a:pt x="354" y="1631"/>
                  </a:lnTo>
                  <a:lnTo>
                    <a:pt x="297" y="1629"/>
                  </a:lnTo>
                  <a:lnTo>
                    <a:pt x="249" y="1628"/>
                  </a:lnTo>
                  <a:lnTo>
                    <a:pt x="200" y="1629"/>
                  </a:lnTo>
                  <a:lnTo>
                    <a:pt x="143" y="1631"/>
                  </a:lnTo>
                  <a:lnTo>
                    <a:pt x="0" y="1642"/>
                  </a:lnTo>
                  <a:lnTo>
                    <a:pt x="16" y="1537"/>
                  </a:lnTo>
                  <a:lnTo>
                    <a:pt x="35" y="1534"/>
                  </a:lnTo>
                  <a:lnTo>
                    <a:pt x="52" y="1530"/>
                  </a:lnTo>
                  <a:lnTo>
                    <a:pt x="67" y="1526"/>
                  </a:lnTo>
                  <a:lnTo>
                    <a:pt x="82" y="1520"/>
                  </a:lnTo>
                  <a:lnTo>
                    <a:pt x="93" y="1514"/>
                  </a:lnTo>
                  <a:lnTo>
                    <a:pt x="99" y="1512"/>
                  </a:lnTo>
                  <a:lnTo>
                    <a:pt x="105" y="1508"/>
                  </a:lnTo>
                  <a:lnTo>
                    <a:pt x="110" y="1504"/>
                  </a:lnTo>
                  <a:lnTo>
                    <a:pt x="114" y="1501"/>
                  </a:lnTo>
                  <a:lnTo>
                    <a:pt x="118" y="1496"/>
                  </a:lnTo>
                  <a:lnTo>
                    <a:pt x="122" y="1492"/>
                  </a:lnTo>
                  <a:lnTo>
                    <a:pt x="125" y="1487"/>
                  </a:lnTo>
                  <a:lnTo>
                    <a:pt x="128" y="1482"/>
                  </a:lnTo>
                  <a:lnTo>
                    <a:pt x="132" y="1476"/>
                  </a:lnTo>
                  <a:lnTo>
                    <a:pt x="135" y="1470"/>
                  </a:lnTo>
                  <a:lnTo>
                    <a:pt x="142" y="1455"/>
                  </a:lnTo>
                  <a:lnTo>
                    <a:pt x="149" y="1438"/>
                  </a:lnTo>
                  <a:lnTo>
                    <a:pt x="155" y="1419"/>
                  </a:lnTo>
                  <a:lnTo>
                    <a:pt x="161" y="1395"/>
                  </a:lnTo>
                  <a:lnTo>
                    <a:pt x="174" y="1343"/>
                  </a:lnTo>
                  <a:lnTo>
                    <a:pt x="337" y="473"/>
                  </a:lnTo>
                  <a:lnTo>
                    <a:pt x="372" y="281"/>
                  </a:lnTo>
                  <a:lnTo>
                    <a:pt x="380" y="227"/>
                  </a:lnTo>
                  <a:lnTo>
                    <a:pt x="382" y="210"/>
                  </a:lnTo>
                  <a:lnTo>
                    <a:pt x="383" y="204"/>
                  </a:lnTo>
                  <a:lnTo>
                    <a:pt x="383" y="200"/>
                  </a:lnTo>
                  <a:lnTo>
                    <a:pt x="383" y="199"/>
                  </a:lnTo>
                  <a:lnTo>
                    <a:pt x="383" y="198"/>
                  </a:lnTo>
                  <a:lnTo>
                    <a:pt x="383" y="198"/>
                  </a:lnTo>
                  <a:lnTo>
                    <a:pt x="383" y="198"/>
                  </a:lnTo>
                  <a:lnTo>
                    <a:pt x="383" y="197"/>
                  </a:lnTo>
                  <a:lnTo>
                    <a:pt x="382" y="197"/>
                  </a:lnTo>
                  <a:lnTo>
                    <a:pt x="382" y="196"/>
                  </a:lnTo>
                  <a:lnTo>
                    <a:pt x="382" y="196"/>
                  </a:lnTo>
                  <a:lnTo>
                    <a:pt x="382" y="196"/>
                  </a:lnTo>
                  <a:lnTo>
                    <a:pt x="381" y="196"/>
                  </a:lnTo>
                  <a:lnTo>
                    <a:pt x="381" y="194"/>
                  </a:lnTo>
                  <a:lnTo>
                    <a:pt x="380" y="194"/>
                  </a:lnTo>
                  <a:lnTo>
                    <a:pt x="380" y="194"/>
                  </a:lnTo>
                  <a:lnTo>
                    <a:pt x="380" y="194"/>
                  </a:lnTo>
                  <a:lnTo>
                    <a:pt x="379" y="194"/>
                  </a:lnTo>
                  <a:lnTo>
                    <a:pt x="378" y="194"/>
                  </a:lnTo>
                  <a:lnTo>
                    <a:pt x="376" y="194"/>
                  </a:lnTo>
                  <a:lnTo>
                    <a:pt x="371" y="197"/>
                  </a:lnTo>
                  <a:lnTo>
                    <a:pt x="365" y="199"/>
                  </a:lnTo>
                  <a:lnTo>
                    <a:pt x="358" y="204"/>
                  </a:lnTo>
                  <a:lnTo>
                    <a:pt x="343" y="215"/>
                  </a:lnTo>
                  <a:lnTo>
                    <a:pt x="325" y="232"/>
                  </a:lnTo>
                  <a:lnTo>
                    <a:pt x="304" y="253"/>
                  </a:lnTo>
                  <a:lnTo>
                    <a:pt x="280" y="279"/>
                  </a:lnTo>
                  <a:close/>
                  <a:moveTo>
                    <a:pt x="432" y="868"/>
                  </a:moveTo>
                  <a:lnTo>
                    <a:pt x="448" y="885"/>
                  </a:lnTo>
                  <a:lnTo>
                    <a:pt x="463" y="901"/>
                  </a:lnTo>
                  <a:lnTo>
                    <a:pt x="480" y="914"/>
                  </a:lnTo>
                  <a:lnTo>
                    <a:pt x="496" y="924"/>
                  </a:lnTo>
                  <a:lnTo>
                    <a:pt x="504" y="929"/>
                  </a:lnTo>
                  <a:lnTo>
                    <a:pt x="513" y="932"/>
                  </a:lnTo>
                  <a:lnTo>
                    <a:pt x="521" y="936"/>
                  </a:lnTo>
                  <a:lnTo>
                    <a:pt x="529" y="938"/>
                  </a:lnTo>
                  <a:lnTo>
                    <a:pt x="537" y="941"/>
                  </a:lnTo>
                  <a:lnTo>
                    <a:pt x="546" y="942"/>
                  </a:lnTo>
                  <a:lnTo>
                    <a:pt x="555" y="943"/>
                  </a:lnTo>
                  <a:lnTo>
                    <a:pt x="563" y="943"/>
                  </a:lnTo>
                  <a:lnTo>
                    <a:pt x="576" y="942"/>
                  </a:lnTo>
                  <a:lnTo>
                    <a:pt x="588" y="940"/>
                  </a:lnTo>
                  <a:lnTo>
                    <a:pt x="600" y="936"/>
                  </a:lnTo>
                  <a:lnTo>
                    <a:pt x="612" y="930"/>
                  </a:lnTo>
                  <a:lnTo>
                    <a:pt x="624" y="923"/>
                  </a:lnTo>
                  <a:lnTo>
                    <a:pt x="635" y="914"/>
                  </a:lnTo>
                  <a:lnTo>
                    <a:pt x="647" y="903"/>
                  </a:lnTo>
                  <a:lnTo>
                    <a:pt x="659" y="891"/>
                  </a:lnTo>
                  <a:lnTo>
                    <a:pt x="670" y="877"/>
                  </a:lnTo>
                  <a:lnTo>
                    <a:pt x="680" y="861"/>
                  </a:lnTo>
                  <a:lnTo>
                    <a:pt x="703" y="825"/>
                  </a:lnTo>
                  <a:lnTo>
                    <a:pt x="724" y="782"/>
                  </a:lnTo>
                  <a:lnTo>
                    <a:pt x="744" y="733"/>
                  </a:lnTo>
                  <a:lnTo>
                    <a:pt x="763" y="681"/>
                  </a:lnTo>
                  <a:lnTo>
                    <a:pt x="780" y="629"/>
                  </a:lnTo>
                  <a:lnTo>
                    <a:pt x="793" y="577"/>
                  </a:lnTo>
                  <a:lnTo>
                    <a:pt x="805" y="525"/>
                  </a:lnTo>
                  <a:lnTo>
                    <a:pt x="814" y="474"/>
                  </a:lnTo>
                  <a:lnTo>
                    <a:pt x="820" y="423"/>
                  </a:lnTo>
                  <a:lnTo>
                    <a:pt x="824" y="371"/>
                  </a:lnTo>
                  <a:lnTo>
                    <a:pt x="825" y="320"/>
                  </a:lnTo>
                  <a:lnTo>
                    <a:pt x="825" y="307"/>
                  </a:lnTo>
                  <a:lnTo>
                    <a:pt x="824" y="293"/>
                  </a:lnTo>
                  <a:lnTo>
                    <a:pt x="822" y="282"/>
                  </a:lnTo>
                  <a:lnTo>
                    <a:pt x="820" y="271"/>
                  </a:lnTo>
                  <a:lnTo>
                    <a:pt x="818" y="260"/>
                  </a:lnTo>
                  <a:lnTo>
                    <a:pt x="816" y="255"/>
                  </a:lnTo>
                  <a:lnTo>
                    <a:pt x="815" y="252"/>
                  </a:lnTo>
                  <a:lnTo>
                    <a:pt x="814" y="247"/>
                  </a:lnTo>
                  <a:lnTo>
                    <a:pt x="812" y="243"/>
                  </a:lnTo>
                  <a:lnTo>
                    <a:pt x="809" y="240"/>
                  </a:lnTo>
                  <a:lnTo>
                    <a:pt x="807" y="236"/>
                  </a:lnTo>
                  <a:lnTo>
                    <a:pt x="805" y="232"/>
                  </a:lnTo>
                  <a:lnTo>
                    <a:pt x="802" y="230"/>
                  </a:lnTo>
                  <a:lnTo>
                    <a:pt x="799" y="226"/>
                  </a:lnTo>
                  <a:lnTo>
                    <a:pt x="797" y="224"/>
                  </a:lnTo>
                  <a:lnTo>
                    <a:pt x="794" y="221"/>
                  </a:lnTo>
                  <a:lnTo>
                    <a:pt x="791" y="219"/>
                  </a:lnTo>
                  <a:lnTo>
                    <a:pt x="788" y="218"/>
                  </a:lnTo>
                  <a:lnTo>
                    <a:pt x="785" y="215"/>
                  </a:lnTo>
                  <a:lnTo>
                    <a:pt x="781" y="214"/>
                  </a:lnTo>
                  <a:lnTo>
                    <a:pt x="779" y="213"/>
                  </a:lnTo>
                  <a:lnTo>
                    <a:pt x="776" y="211"/>
                  </a:lnTo>
                  <a:lnTo>
                    <a:pt x="772" y="210"/>
                  </a:lnTo>
                  <a:lnTo>
                    <a:pt x="765" y="209"/>
                  </a:lnTo>
                  <a:lnTo>
                    <a:pt x="757" y="209"/>
                  </a:lnTo>
                  <a:lnTo>
                    <a:pt x="752" y="209"/>
                  </a:lnTo>
                  <a:lnTo>
                    <a:pt x="747" y="210"/>
                  </a:lnTo>
                  <a:lnTo>
                    <a:pt x="743" y="210"/>
                  </a:lnTo>
                  <a:lnTo>
                    <a:pt x="738" y="213"/>
                  </a:lnTo>
                  <a:lnTo>
                    <a:pt x="727" y="216"/>
                  </a:lnTo>
                  <a:lnTo>
                    <a:pt x="716" y="221"/>
                  </a:lnTo>
                  <a:lnTo>
                    <a:pt x="705" y="229"/>
                  </a:lnTo>
                  <a:lnTo>
                    <a:pt x="693" y="237"/>
                  </a:lnTo>
                  <a:lnTo>
                    <a:pt x="681" y="247"/>
                  </a:lnTo>
                  <a:lnTo>
                    <a:pt x="669" y="259"/>
                  </a:lnTo>
                  <a:lnTo>
                    <a:pt x="629" y="299"/>
                  </a:lnTo>
                  <a:lnTo>
                    <a:pt x="595" y="337"/>
                  </a:lnTo>
                  <a:lnTo>
                    <a:pt x="580" y="356"/>
                  </a:lnTo>
                  <a:lnTo>
                    <a:pt x="566" y="373"/>
                  </a:lnTo>
                  <a:lnTo>
                    <a:pt x="554" y="390"/>
                  </a:lnTo>
                  <a:lnTo>
                    <a:pt x="543" y="407"/>
                  </a:lnTo>
                  <a:lnTo>
                    <a:pt x="534" y="426"/>
                  </a:lnTo>
                  <a:lnTo>
                    <a:pt x="526" y="448"/>
                  </a:lnTo>
                  <a:lnTo>
                    <a:pt x="519" y="472"/>
                  </a:lnTo>
                  <a:lnTo>
                    <a:pt x="511" y="499"/>
                  </a:lnTo>
                  <a:lnTo>
                    <a:pt x="495" y="558"/>
                  </a:lnTo>
                  <a:lnTo>
                    <a:pt x="481" y="627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Александ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0" y="0"/>
            <a:ext cx="6481800" cy="4108320"/>
            <a:chOff x="0" y="0"/>
            <a:chExt cx="6481800" cy="4108320"/>
          </a:xfrm>
        </p:grpSpPr>
        <p:sp>
          <p:nvSpPr>
            <p:cNvPr id="284" name=""/>
            <p:cNvSpPr/>
            <p:nvPr/>
          </p:nvSpPr>
          <p:spPr>
            <a:xfrm>
              <a:off x="3960720" y="3564000"/>
              <a:ext cx="503280" cy="542880"/>
            </a:xfrm>
            <a:custGeom>
              <a:avLst/>
              <a:gdLst/>
              <a:ahLst/>
              <a:rect l="l" t="t" r="r" b="b"/>
              <a:pathLst>
                <a:path w="1399" h="1508">
                  <a:moveTo>
                    <a:pt x="1339" y="329"/>
                  </a:moveTo>
                  <a:lnTo>
                    <a:pt x="1237" y="329"/>
                  </a:lnTo>
                  <a:lnTo>
                    <a:pt x="1244" y="255"/>
                  </a:lnTo>
                  <a:lnTo>
                    <a:pt x="1245" y="228"/>
                  </a:lnTo>
                  <a:lnTo>
                    <a:pt x="1246" y="209"/>
                  </a:lnTo>
                  <a:lnTo>
                    <a:pt x="1246" y="206"/>
                  </a:lnTo>
                  <a:lnTo>
                    <a:pt x="1246" y="201"/>
                  </a:lnTo>
                  <a:lnTo>
                    <a:pt x="1245" y="198"/>
                  </a:lnTo>
                  <a:lnTo>
                    <a:pt x="1244" y="195"/>
                  </a:lnTo>
                  <a:lnTo>
                    <a:pt x="1243" y="192"/>
                  </a:lnTo>
                  <a:lnTo>
                    <a:pt x="1242" y="189"/>
                  </a:lnTo>
                  <a:lnTo>
                    <a:pt x="1241" y="186"/>
                  </a:lnTo>
                  <a:lnTo>
                    <a:pt x="1239" y="183"/>
                  </a:lnTo>
                  <a:lnTo>
                    <a:pt x="1237" y="181"/>
                  </a:lnTo>
                  <a:lnTo>
                    <a:pt x="1235" y="179"/>
                  </a:lnTo>
                  <a:lnTo>
                    <a:pt x="1233" y="177"/>
                  </a:lnTo>
                  <a:lnTo>
                    <a:pt x="1230" y="175"/>
                  </a:lnTo>
                  <a:lnTo>
                    <a:pt x="1228" y="172"/>
                  </a:lnTo>
                  <a:lnTo>
                    <a:pt x="1225" y="171"/>
                  </a:lnTo>
                  <a:lnTo>
                    <a:pt x="1221" y="169"/>
                  </a:lnTo>
                  <a:lnTo>
                    <a:pt x="1218" y="168"/>
                  </a:lnTo>
                  <a:lnTo>
                    <a:pt x="1214" y="167"/>
                  </a:lnTo>
                  <a:lnTo>
                    <a:pt x="1208" y="166"/>
                  </a:lnTo>
                  <a:lnTo>
                    <a:pt x="1191" y="163"/>
                  </a:lnTo>
                  <a:lnTo>
                    <a:pt x="1138" y="160"/>
                  </a:lnTo>
                  <a:lnTo>
                    <a:pt x="1059" y="157"/>
                  </a:lnTo>
                  <a:lnTo>
                    <a:pt x="953" y="156"/>
                  </a:lnTo>
                  <a:lnTo>
                    <a:pt x="811" y="157"/>
                  </a:lnTo>
                  <a:lnTo>
                    <a:pt x="694" y="632"/>
                  </a:lnTo>
                  <a:lnTo>
                    <a:pt x="898" y="632"/>
                  </a:lnTo>
                  <a:lnTo>
                    <a:pt x="944" y="631"/>
                  </a:lnTo>
                  <a:lnTo>
                    <a:pt x="979" y="629"/>
                  </a:lnTo>
                  <a:lnTo>
                    <a:pt x="992" y="628"/>
                  </a:lnTo>
                  <a:lnTo>
                    <a:pt x="1003" y="626"/>
                  </a:lnTo>
                  <a:lnTo>
                    <a:pt x="1008" y="625"/>
                  </a:lnTo>
                  <a:lnTo>
                    <a:pt x="1012" y="622"/>
                  </a:lnTo>
                  <a:lnTo>
                    <a:pt x="1015" y="621"/>
                  </a:lnTo>
                  <a:lnTo>
                    <a:pt x="1017" y="620"/>
                  </a:lnTo>
                  <a:lnTo>
                    <a:pt x="1019" y="618"/>
                  </a:lnTo>
                  <a:lnTo>
                    <a:pt x="1021" y="616"/>
                  </a:lnTo>
                  <a:lnTo>
                    <a:pt x="1024" y="613"/>
                  </a:lnTo>
                  <a:lnTo>
                    <a:pt x="1026" y="610"/>
                  </a:lnTo>
                  <a:lnTo>
                    <a:pt x="1028" y="606"/>
                  </a:lnTo>
                  <a:lnTo>
                    <a:pt x="1030" y="602"/>
                  </a:lnTo>
                  <a:lnTo>
                    <a:pt x="1034" y="591"/>
                  </a:lnTo>
                  <a:lnTo>
                    <a:pt x="1037" y="578"/>
                  </a:lnTo>
                  <a:lnTo>
                    <a:pt x="1041" y="564"/>
                  </a:lnTo>
                  <a:lnTo>
                    <a:pt x="1048" y="529"/>
                  </a:lnTo>
                  <a:lnTo>
                    <a:pt x="1153" y="529"/>
                  </a:lnTo>
                  <a:lnTo>
                    <a:pt x="1087" y="894"/>
                  </a:lnTo>
                  <a:lnTo>
                    <a:pt x="988" y="894"/>
                  </a:lnTo>
                  <a:lnTo>
                    <a:pt x="993" y="825"/>
                  </a:lnTo>
                  <a:lnTo>
                    <a:pt x="994" y="801"/>
                  </a:lnTo>
                  <a:lnTo>
                    <a:pt x="994" y="782"/>
                  </a:lnTo>
                  <a:lnTo>
                    <a:pt x="994" y="782"/>
                  </a:lnTo>
                  <a:lnTo>
                    <a:pt x="994" y="782"/>
                  </a:lnTo>
                  <a:lnTo>
                    <a:pt x="994" y="781"/>
                  </a:lnTo>
                  <a:lnTo>
                    <a:pt x="994" y="781"/>
                  </a:lnTo>
                  <a:lnTo>
                    <a:pt x="993" y="780"/>
                  </a:lnTo>
                  <a:lnTo>
                    <a:pt x="992" y="779"/>
                  </a:lnTo>
                  <a:lnTo>
                    <a:pt x="991" y="777"/>
                  </a:lnTo>
                  <a:lnTo>
                    <a:pt x="990" y="775"/>
                  </a:lnTo>
                  <a:lnTo>
                    <a:pt x="988" y="773"/>
                  </a:lnTo>
                  <a:lnTo>
                    <a:pt x="983" y="767"/>
                  </a:lnTo>
                  <a:lnTo>
                    <a:pt x="983" y="766"/>
                  </a:lnTo>
                  <a:lnTo>
                    <a:pt x="982" y="766"/>
                  </a:lnTo>
                  <a:lnTo>
                    <a:pt x="982" y="765"/>
                  </a:lnTo>
                  <a:lnTo>
                    <a:pt x="981" y="764"/>
                  </a:lnTo>
                  <a:lnTo>
                    <a:pt x="980" y="763"/>
                  </a:lnTo>
                  <a:lnTo>
                    <a:pt x="979" y="762"/>
                  </a:lnTo>
                  <a:lnTo>
                    <a:pt x="958" y="759"/>
                  </a:lnTo>
                  <a:lnTo>
                    <a:pt x="935" y="758"/>
                  </a:lnTo>
                  <a:lnTo>
                    <a:pt x="908" y="756"/>
                  </a:lnTo>
                  <a:lnTo>
                    <a:pt x="879" y="756"/>
                  </a:lnTo>
                  <a:lnTo>
                    <a:pt x="672" y="756"/>
                  </a:lnTo>
                  <a:lnTo>
                    <a:pt x="624" y="938"/>
                  </a:lnTo>
                  <a:lnTo>
                    <a:pt x="576" y="1096"/>
                  </a:lnTo>
                  <a:lnTo>
                    <a:pt x="552" y="1166"/>
                  </a:lnTo>
                  <a:lnTo>
                    <a:pt x="527" y="1229"/>
                  </a:lnTo>
                  <a:lnTo>
                    <a:pt x="502" y="1287"/>
                  </a:lnTo>
                  <a:lnTo>
                    <a:pt x="476" y="1339"/>
                  </a:lnTo>
                  <a:lnTo>
                    <a:pt x="495" y="1330"/>
                  </a:lnTo>
                  <a:lnTo>
                    <a:pt x="515" y="1324"/>
                  </a:lnTo>
                  <a:lnTo>
                    <a:pt x="534" y="1317"/>
                  </a:lnTo>
                  <a:lnTo>
                    <a:pt x="554" y="1312"/>
                  </a:lnTo>
                  <a:lnTo>
                    <a:pt x="573" y="1309"/>
                  </a:lnTo>
                  <a:lnTo>
                    <a:pt x="593" y="1306"/>
                  </a:lnTo>
                  <a:lnTo>
                    <a:pt x="613" y="1304"/>
                  </a:lnTo>
                  <a:lnTo>
                    <a:pt x="634" y="1303"/>
                  </a:lnTo>
                  <a:lnTo>
                    <a:pt x="669" y="1304"/>
                  </a:lnTo>
                  <a:lnTo>
                    <a:pt x="705" y="1307"/>
                  </a:lnTo>
                  <a:lnTo>
                    <a:pt x="786" y="1315"/>
                  </a:lnTo>
                  <a:lnTo>
                    <a:pt x="874" y="1330"/>
                  </a:lnTo>
                  <a:lnTo>
                    <a:pt x="972" y="1352"/>
                  </a:lnTo>
                  <a:lnTo>
                    <a:pt x="1013" y="1361"/>
                  </a:lnTo>
                  <a:lnTo>
                    <a:pt x="1048" y="1368"/>
                  </a:lnTo>
                  <a:lnTo>
                    <a:pt x="1075" y="1372"/>
                  </a:lnTo>
                  <a:lnTo>
                    <a:pt x="1087" y="1373"/>
                  </a:lnTo>
                  <a:lnTo>
                    <a:pt x="1096" y="1373"/>
                  </a:lnTo>
                  <a:lnTo>
                    <a:pt x="1106" y="1373"/>
                  </a:lnTo>
                  <a:lnTo>
                    <a:pt x="1115" y="1372"/>
                  </a:lnTo>
                  <a:lnTo>
                    <a:pt x="1123" y="1370"/>
                  </a:lnTo>
                  <a:lnTo>
                    <a:pt x="1131" y="1369"/>
                  </a:lnTo>
                  <a:lnTo>
                    <a:pt x="1139" y="1366"/>
                  </a:lnTo>
                  <a:lnTo>
                    <a:pt x="1146" y="1362"/>
                  </a:lnTo>
                  <a:lnTo>
                    <a:pt x="1149" y="1360"/>
                  </a:lnTo>
                  <a:lnTo>
                    <a:pt x="1152" y="1358"/>
                  </a:lnTo>
                  <a:lnTo>
                    <a:pt x="1155" y="1356"/>
                  </a:lnTo>
                  <a:lnTo>
                    <a:pt x="1158" y="1354"/>
                  </a:lnTo>
                  <a:lnTo>
                    <a:pt x="1163" y="1348"/>
                  </a:lnTo>
                  <a:lnTo>
                    <a:pt x="1168" y="1344"/>
                  </a:lnTo>
                  <a:lnTo>
                    <a:pt x="1172" y="1339"/>
                  </a:lnTo>
                  <a:lnTo>
                    <a:pt x="1174" y="1337"/>
                  </a:lnTo>
                  <a:lnTo>
                    <a:pt x="1175" y="1333"/>
                  </a:lnTo>
                  <a:lnTo>
                    <a:pt x="1176" y="1331"/>
                  </a:lnTo>
                  <a:lnTo>
                    <a:pt x="1178" y="1329"/>
                  </a:lnTo>
                  <a:lnTo>
                    <a:pt x="1179" y="1326"/>
                  </a:lnTo>
                  <a:lnTo>
                    <a:pt x="1180" y="1324"/>
                  </a:lnTo>
                  <a:lnTo>
                    <a:pt x="1180" y="1321"/>
                  </a:lnTo>
                  <a:lnTo>
                    <a:pt x="1181" y="1318"/>
                  </a:lnTo>
                  <a:lnTo>
                    <a:pt x="1181" y="1315"/>
                  </a:lnTo>
                  <a:lnTo>
                    <a:pt x="1181" y="1313"/>
                  </a:lnTo>
                  <a:lnTo>
                    <a:pt x="1181" y="1311"/>
                  </a:lnTo>
                  <a:lnTo>
                    <a:pt x="1181" y="1309"/>
                  </a:lnTo>
                  <a:lnTo>
                    <a:pt x="1180" y="1304"/>
                  </a:lnTo>
                  <a:lnTo>
                    <a:pt x="1179" y="1299"/>
                  </a:lnTo>
                  <a:lnTo>
                    <a:pt x="1177" y="1293"/>
                  </a:lnTo>
                  <a:lnTo>
                    <a:pt x="1173" y="1279"/>
                  </a:lnTo>
                  <a:lnTo>
                    <a:pt x="1167" y="1260"/>
                  </a:lnTo>
                  <a:lnTo>
                    <a:pt x="1162" y="1243"/>
                  </a:lnTo>
                  <a:lnTo>
                    <a:pt x="1160" y="1236"/>
                  </a:lnTo>
                  <a:lnTo>
                    <a:pt x="1159" y="1227"/>
                  </a:lnTo>
                  <a:lnTo>
                    <a:pt x="1158" y="1220"/>
                  </a:lnTo>
                  <a:lnTo>
                    <a:pt x="1157" y="1211"/>
                  </a:lnTo>
                  <a:lnTo>
                    <a:pt x="1156" y="1203"/>
                  </a:lnTo>
                  <a:lnTo>
                    <a:pt x="1156" y="1196"/>
                  </a:lnTo>
                  <a:lnTo>
                    <a:pt x="1156" y="1192"/>
                  </a:lnTo>
                  <a:lnTo>
                    <a:pt x="1156" y="1187"/>
                  </a:lnTo>
                  <a:lnTo>
                    <a:pt x="1157" y="1182"/>
                  </a:lnTo>
                  <a:lnTo>
                    <a:pt x="1158" y="1178"/>
                  </a:lnTo>
                  <a:lnTo>
                    <a:pt x="1159" y="1173"/>
                  </a:lnTo>
                  <a:lnTo>
                    <a:pt x="1160" y="1169"/>
                  </a:lnTo>
                  <a:lnTo>
                    <a:pt x="1161" y="1165"/>
                  </a:lnTo>
                  <a:lnTo>
                    <a:pt x="1163" y="1162"/>
                  </a:lnTo>
                  <a:lnTo>
                    <a:pt x="1165" y="1157"/>
                  </a:lnTo>
                  <a:lnTo>
                    <a:pt x="1167" y="1153"/>
                  </a:lnTo>
                  <a:lnTo>
                    <a:pt x="1171" y="1145"/>
                  </a:lnTo>
                  <a:lnTo>
                    <a:pt x="1177" y="1138"/>
                  </a:lnTo>
                  <a:lnTo>
                    <a:pt x="1183" y="1130"/>
                  </a:lnTo>
                  <a:lnTo>
                    <a:pt x="1190" y="1124"/>
                  </a:lnTo>
                  <a:lnTo>
                    <a:pt x="1194" y="1121"/>
                  </a:lnTo>
                  <a:lnTo>
                    <a:pt x="1197" y="1118"/>
                  </a:lnTo>
                  <a:lnTo>
                    <a:pt x="1201" y="1115"/>
                  </a:lnTo>
                  <a:lnTo>
                    <a:pt x="1205" y="1113"/>
                  </a:lnTo>
                  <a:lnTo>
                    <a:pt x="1209" y="1111"/>
                  </a:lnTo>
                  <a:lnTo>
                    <a:pt x="1213" y="1109"/>
                  </a:lnTo>
                  <a:lnTo>
                    <a:pt x="1217" y="1108"/>
                  </a:lnTo>
                  <a:lnTo>
                    <a:pt x="1221" y="1106"/>
                  </a:lnTo>
                  <a:lnTo>
                    <a:pt x="1230" y="1105"/>
                  </a:lnTo>
                  <a:lnTo>
                    <a:pt x="1239" y="1103"/>
                  </a:lnTo>
                  <a:lnTo>
                    <a:pt x="1248" y="1103"/>
                  </a:lnTo>
                  <a:lnTo>
                    <a:pt x="1259" y="1104"/>
                  </a:lnTo>
                  <a:lnTo>
                    <a:pt x="1264" y="1104"/>
                  </a:lnTo>
                  <a:lnTo>
                    <a:pt x="1270" y="1105"/>
                  </a:lnTo>
                  <a:lnTo>
                    <a:pt x="1275" y="1106"/>
                  </a:lnTo>
                  <a:lnTo>
                    <a:pt x="1280" y="1108"/>
                  </a:lnTo>
                  <a:lnTo>
                    <a:pt x="1284" y="1109"/>
                  </a:lnTo>
                  <a:lnTo>
                    <a:pt x="1289" y="1111"/>
                  </a:lnTo>
                  <a:lnTo>
                    <a:pt x="1294" y="1114"/>
                  </a:lnTo>
                  <a:lnTo>
                    <a:pt x="1298" y="1116"/>
                  </a:lnTo>
                  <a:lnTo>
                    <a:pt x="1302" y="1120"/>
                  </a:lnTo>
                  <a:lnTo>
                    <a:pt x="1307" y="1123"/>
                  </a:lnTo>
                  <a:lnTo>
                    <a:pt x="1311" y="1126"/>
                  </a:lnTo>
                  <a:lnTo>
                    <a:pt x="1315" y="1130"/>
                  </a:lnTo>
                  <a:lnTo>
                    <a:pt x="1318" y="1135"/>
                  </a:lnTo>
                  <a:lnTo>
                    <a:pt x="1322" y="1139"/>
                  </a:lnTo>
                  <a:lnTo>
                    <a:pt x="1329" y="1149"/>
                  </a:lnTo>
                  <a:lnTo>
                    <a:pt x="1335" y="1158"/>
                  </a:lnTo>
                  <a:lnTo>
                    <a:pt x="1340" y="1169"/>
                  </a:lnTo>
                  <a:lnTo>
                    <a:pt x="1344" y="1180"/>
                  </a:lnTo>
                  <a:lnTo>
                    <a:pt x="1347" y="1192"/>
                  </a:lnTo>
                  <a:lnTo>
                    <a:pt x="1349" y="1203"/>
                  </a:lnTo>
                  <a:lnTo>
                    <a:pt x="1351" y="1216"/>
                  </a:lnTo>
                  <a:lnTo>
                    <a:pt x="1351" y="1230"/>
                  </a:lnTo>
                  <a:lnTo>
                    <a:pt x="1351" y="1244"/>
                  </a:lnTo>
                  <a:lnTo>
                    <a:pt x="1350" y="1258"/>
                  </a:lnTo>
                  <a:lnTo>
                    <a:pt x="1348" y="1271"/>
                  </a:lnTo>
                  <a:lnTo>
                    <a:pt x="1345" y="1285"/>
                  </a:lnTo>
                  <a:lnTo>
                    <a:pt x="1342" y="1298"/>
                  </a:lnTo>
                  <a:lnTo>
                    <a:pt x="1338" y="1311"/>
                  </a:lnTo>
                  <a:lnTo>
                    <a:pt x="1334" y="1323"/>
                  </a:lnTo>
                  <a:lnTo>
                    <a:pt x="1329" y="1336"/>
                  </a:lnTo>
                  <a:lnTo>
                    <a:pt x="1323" y="1347"/>
                  </a:lnTo>
                  <a:lnTo>
                    <a:pt x="1316" y="1359"/>
                  </a:lnTo>
                  <a:lnTo>
                    <a:pt x="1308" y="1371"/>
                  </a:lnTo>
                  <a:lnTo>
                    <a:pt x="1300" y="1382"/>
                  </a:lnTo>
                  <a:lnTo>
                    <a:pt x="1282" y="1403"/>
                  </a:lnTo>
                  <a:lnTo>
                    <a:pt x="1261" y="1425"/>
                  </a:lnTo>
                  <a:lnTo>
                    <a:pt x="1250" y="1434"/>
                  </a:lnTo>
                  <a:lnTo>
                    <a:pt x="1238" y="1444"/>
                  </a:lnTo>
                  <a:lnTo>
                    <a:pt x="1226" y="1453"/>
                  </a:lnTo>
                  <a:lnTo>
                    <a:pt x="1213" y="1461"/>
                  </a:lnTo>
                  <a:lnTo>
                    <a:pt x="1200" y="1469"/>
                  </a:lnTo>
                  <a:lnTo>
                    <a:pt x="1187" y="1475"/>
                  </a:lnTo>
                  <a:lnTo>
                    <a:pt x="1158" y="1487"/>
                  </a:lnTo>
                  <a:lnTo>
                    <a:pt x="1128" y="1496"/>
                  </a:lnTo>
                  <a:lnTo>
                    <a:pt x="1098" y="1502"/>
                  </a:lnTo>
                  <a:lnTo>
                    <a:pt x="1064" y="1506"/>
                  </a:lnTo>
                  <a:lnTo>
                    <a:pt x="1029" y="1507"/>
                  </a:lnTo>
                  <a:lnTo>
                    <a:pt x="990" y="1506"/>
                  </a:lnTo>
                  <a:lnTo>
                    <a:pt x="946" y="1504"/>
                  </a:lnTo>
                  <a:lnTo>
                    <a:pt x="899" y="1500"/>
                  </a:lnTo>
                  <a:lnTo>
                    <a:pt x="847" y="1495"/>
                  </a:lnTo>
                  <a:lnTo>
                    <a:pt x="639" y="1474"/>
                  </a:lnTo>
                  <a:lnTo>
                    <a:pt x="557" y="1469"/>
                  </a:lnTo>
                  <a:lnTo>
                    <a:pt x="488" y="1467"/>
                  </a:lnTo>
                  <a:lnTo>
                    <a:pt x="403" y="1469"/>
                  </a:lnTo>
                  <a:lnTo>
                    <a:pt x="307" y="1474"/>
                  </a:lnTo>
                  <a:lnTo>
                    <a:pt x="84" y="1495"/>
                  </a:lnTo>
                  <a:lnTo>
                    <a:pt x="106" y="1384"/>
                  </a:lnTo>
                  <a:lnTo>
                    <a:pt x="168" y="1366"/>
                  </a:lnTo>
                  <a:lnTo>
                    <a:pt x="216" y="1350"/>
                  </a:lnTo>
                  <a:lnTo>
                    <a:pt x="234" y="1343"/>
                  </a:lnTo>
                  <a:lnTo>
                    <a:pt x="248" y="1338"/>
                  </a:lnTo>
                  <a:lnTo>
                    <a:pt x="258" y="1332"/>
                  </a:lnTo>
                  <a:lnTo>
                    <a:pt x="262" y="1330"/>
                  </a:lnTo>
                  <a:lnTo>
                    <a:pt x="265" y="1328"/>
                  </a:lnTo>
                  <a:lnTo>
                    <a:pt x="270" y="1324"/>
                  </a:lnTo>
                  <a:lnTo>
                    <a:pt x="275" y="1319"/>
                  </a:lnTo>
                  <a:lnTo>
                    <a:pt x="279" y="1314"/>
                  </a:lnTo>
                  <a:lnTo>
                    <a:pt x="283" y="1308"/>
                  </a:lnTo>
                  <a:lnTo>
                    <a:pt x="287" y="1301"/>
                  </a:lnTo>
                  <a:lnTo>
                    <a:pt x="292" y="1294"/>
                  </a:lnTo>
                  <a:lnTo>
                    <a:pt x="296" y="1285"/>
                  </a:lnTo>
                  <a:lnTo>
                    <a:pt x="300" y="1277"/>
                  </a:lnTo>
                  <a:lnTo>
                    <a:pt x="313" y="1246"/>
                  </a:lnTo>
                  <a:lnTo>
                    <a:pt x="326" y="1210"/>
                  </a:lnTo>
                  <a:lnTo>
                    <a:pt x="357" y="1115"/>
                  </a:lnTo>
                  <a:lnTo>
                    <a:pt x="393" y="993"/>
                  </a:lnTo>
                  <a:lnTo>
                    <a:pt x="432" y="843"/>
                  </a:lnTo>
                  <a:lnTo>
                    <a:pt x="602" y="150"/>
                  </a:lnTo>
                  <a:lnTo>
                    <a:pt x="576" y="151"/>
                  </a:lnTo>
                  <a:lnTo>
                    <a:pt x="551" y="154"/>
                  </a:lnTo>
                  <a:lnTo>
                    <a:pt x="524" y="160"/>
                  </a:lnTo>
                  <a:lnTo>
                    <a:pt x="497" y="167"/>
                  </a:lnTo>
                  <a:lnTo>
                    <a:pt x="469" y="176"/>
                  </a:lnTo>
                  <a:lnTo>
                    <a:pt x="442" y="187"/>
                  </a:lnTo>
                  <a:lnTo>
                    <a:pt x="414" y="200"/>
                  </a:lnTo>
                  <a:lnTo>
                    <a:pt x="386" y="215"/>
                  </a:lnTo>
                  <a:lnTo>
                    <a:pt x="358" y="233"/>
                  </a:lnTo>
                  <a:lnTo>
                    <a:pt x="332" y="250"/>
                  </a:lnTo>
                  <a:lnTo>
                    <a:pt x="308" y="269"/>
                  </a:lnTo>
                  <a:lnTo>
                    <a:pt x="285" y="289"/>
                  </a:lnTo>
                  <a:lnTo>
                    <a:pt x="265" y="311"/>
                  </a:lnTo>
                  <a:lnTo>
                    <a:pt x="246" y="334"/>
                  </a:lnTo>
                  <a:lnTo>
                    <a:pt x="228" y="358"/>
                  </a:lnTo>
                  <a:lnTo>
                    <a:pt x="211" y="383"/>
                  </a:lnTo>
                  <a:lnTo>
                    <a:pt x="196" y="409"/>
                  </a:lnTo>
                  <a:lnTo>
                    <a:pt x="183" y="434"/>
                  </a:lnTo>
                  <a:lnTo>
                    <a:pt x="173" y="461"/>
                  </a:lnTo>
                  <a:lnTo>
                    <a:pt x="164" y="487"/>
                  </a:lnTo>
                  <a:lnTo>
                    <a:pt x="157" y="515"/>
                  </a:lnTo>
                  <a:lnTo>
                    <a:pt x="152" y="542"/>
                  </a:lnTo>
                  <a:lnTo>
                    <a:pt x="149" y="570"/>
                  </a:lnTo>
                  <a:lnTo>
                    <a:pt x="148" y="598"/>
                  </a:lnTo>
                  <a:lnTo>
                    <a:pt x="149" y="621"/>
                  </a:lnTo>
                  <a:lnTo>
                    <a:pt x="150" y="644"/>
                  </a:lnTo>
                  <a:lnTo>
                    <a:pt x="153" y="664"/>
                  </a:lnTo>
                  <a:lnTo>
                    <a:pt x="156" y="683"/>
                  </a:lnTo>
                  <a:lnTo>
                    <a:pt x="159" y="691"/>
                  </a:lnTo>
                  <a:lnTo>
                    <a:pt x="162" y="701"/>
                  </a:lnTo>
                  <a:lnTo>
                    <a:pt x="170" y="722"/>
                  </a:lnTo>
                  <a:lnTo>
                    <a:pt x="180" y="747"/>
                  </a:lnTo>
                  <a:lnTo>
                    <a:pt x="193" y="775"/>
                  </a:lnTo>
                  <a:lnTo>
                    <a:pt x="200" y="788"/>
                  </a:lnTo>
                  <a:lnTo>
                    <a:pt x="205" y="801"/>
                  </a:lnTo>
                  <a:lnTo>
                    <a:pt x="210" y="813"/>
                  </a:lnTo>
                  <a:lnTo>
                    <a:pt x="214" y="824"/>
                  </a:lnTo>
                  <a:lnTo>
                    <a:pt x="217" y="834"/>
                  </a:lnTo>
                  <a:lnTo>
                    <a:pt x="219" y="844"/>
                  </a:lnTo>
                  <a:lnTo>
                    <a:pt x="221" y="853"/>
                  </a:lnTo>
                  <a:lnTo>
                    <a:pt x="221" y="857"/>
                  </a:lnTo>
                  <a:lnTo>
                    <a:pt x="221" y="861"/>
                  </a:lnTo>
                  <a:lnTo>
                    <a:pt x="221" y="865"/>
                  </a:lnTo>
                  <a:lnTo>
                    <a:pt x="221" y="869"/>
                  </a:lnTo>
                  <a:lnTo>
                    <a:pt x="220" y="875"/>
                  </a:lnTo>
                  <a:lnTo>
                    <a:pt x="219" y="879"/>
                  </a:lnTo>
                  <a:lnTo>
                    <a:pt x="218" y="883"/>
                  </a:lnTo>
                  <a:lnTo>
                    <a:pt x="217" y="888"/>
                  </a:lnTo>
                  <a:lnTo>
                    <a:pt x="216" y="891"/>
                  </a:lnTo>
                  <a:lnTo>
                    <a:pt x="214" y="895"/>
                  </a:lnTo>
                  <a:lnTo>
                    <a:pt x="212" y="900"/>
                  </a:lnTo>
                  <a:lnTo>
                    <a:pt x="210" y="904"/>
                  </a:lnTo>
                  <a:lnTo>
                    <a:pt x="208" y="907"/>
                  </a:lnTo>
                  <a:lnTo>
                    <a:pt x="206" y="911"/>
                  </a:lnTo>
                  <a:lnTo>
                    <a:pt x="200" y="918"/>
                  </a:lnTo>
                  <a:lnTo>
                    <a:pt x="194" y="925"/>
                  </a:lnTo>
                  <a:lnTo>
                    <a:pt x="187" y="932"/>
                  </a:lnTo>
                  <a:lnTo>
                    <a:pt x="179" y="937"/>
                  </a:lnTo>
                  <a:lnTo>
                    <a:pt x="171" y="941"/>
                  </a:lnTo>
                  <a:lnTo>
                    <a:pt x="163" y="946"/>
                  </a:lnTo>
                  <a:lnTo>
                    <a:pt x="155" y="948"/>
                  </a:lnTo>
                  <a:lnTo>
                    <a:pt x="146" y="950"/>
                  </a:lnTo>
                  <a:lnTo>
                    <a:pt x="137" y="952"/>
                  </a:lnTo>
                  <a:lnTo>
                    <a:pt x="127" y="952"/>
                  </a:lnTo>
                  <a:lnTo>
                    <a:pt x="120" y="952"/>
                  </a:lnTo>
                  <a:lnTo>
                    <a:pt x="113" y="951"/>
                  </a:lnTo>
                  <a:lnTo>
                    <a:pt x="107" y="950"/>
                  </a:lnTo>
                  <a:lnTo>
                    <a:pt x="100" y="949"/>
                  </a:lnTo>
                  <a:lnTo>
                    <a:pt x="94" y="947"/>
                  </a:lnTo>
                  <a:lnTo>
                    <a:pt x="88" y="944"/>
                  </a:lnTo>
                  <a:lnTo>
                    <a:pt x="82" y="941"/>
                  </a:lnTo>
                  <a:lnTo>
                    <a:pt x="77" y="938"/>
                  </a:lnTo>
                  <a:lnTo>
                    <a:pt x="71" y="934"/>
                  </a:lnTo>
                  <a:lnTo>
                    <a:pt x="66" y="930"/>
                  </a:lnTo>
                  <a:lnTo>
                    <a:pt x="61" y="924"/>
                  </a:lnTo>
                  <a:lnTo>
                    <a:pt x="56" y="920"/>
                  </a:lnTo>
                  <a:lnTo>
                    <a:pt x="52" y="913"/>
                  </a:lnTo>
                  <a:lnTo>
                    <a:pt x="47" y="908"/>
                  </a:lnTo>
                  <a:lnTo>
                    <a:pt x="43" y="902"/>
                  </a:lnTo>
                  <a:lnTo>
                    <a:pt x="39" y="894"/>
                  </a:lnTo>
                  <a:lnTo>
                    <a:pt x="30" y="875"/>
                  </a:lnTo>
                  <a:lnTo>
                    <a:pt x="21" y="854"/>
                  </a:lnTo>
                  <a:lnTo>
                    <a:pt x="14" y="833"/>
                  </a:lnTo>
                  <a:lnTo>
                    <a:pt x="9" y="809"/>
                  </a:lnTo>
                  <a:lnTo>
                    <a:pt x="5" y="784"/>
                  </a:lnTo>
                  <a:lnTo>
                    <a:pt x="1" y="757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2" y="633"/>
                  </a:lnTo>
                  <a:lnTo>
                    <a:pt x="10" y="571"/>
                  </a:lnTo>
                  <a:lnTo>
                    <a:pt x="17" y="541"/>
                  </a:lnTo>
                  <a:lnTo>
                    <a:pt x="24" y="511"/>
                  </a:lnTo>
                  <a:lnTo>
                    <a:pt x="34" y="481"/>
                  </a:lnTo>
                  <a:lnTo>
                    <a:pt x="44" y="452"/>
                  </a:lnTo>
                  <a:lnTo>
                    <a:pt x="70" y="395"/>
                  </a:lnTo>
                  <a:lnTo>
                    <a:pt x="101" y="339"/>
                  </a:lnTo>
                  <a:lnTo>
                    <a:pt x="138" y="285"/>
                  </a:lnTo>
                  <a:lnTo>
                    <a:pt x="181" y="233"/>
                  </a:lnTo>
                  <a:lnTo>
                    <a:pt x="204" y="208"/>
                  </a:lnTo>
                  <a:lnTo>
                    <a:pt x="229" y="184"/>
                  </a:lnTo>
                  <a:lnTo>
                    <a:pt x="255" y="163"/>
                  </a:lnTo>
                  <a:lnTo>
                    <a:pt x="281" y="142"/>
                  </a:lnTo>
                  <a:lnTo>
                    <a:pt x="310" y="124"/>
                  </a:lnTo>
                  <a:lnTo>
                    <a:pt x="339" y="107"/>
                  </a:lnTo>
                  <a:lnTo>
                    <a:pt x="370" y="92"/>
                  </a:lnTo>
                  <a:lnTo>
                    <a:pt x="403" y="78"/>
                  </a:lnTo>
                  <a:lnTo>
                    <a:pt x="436" y="66"/>
                  </a:lnTo>
                  <a:lnTo>
                    <a:pt x="471" y="55"/>
                  </a:lnTo>
                  <a:lnTo>
                    <a:pt x="545" y="39"/>
                  </a:lnTo>
                  <a:lnTo>
                    <a:pt x="623" y="30"/>
                  </a:lnTo>
                  <a:lnTo>
                    <a:pt x="707" y="26"/>
                  </a:lnTo>
                  <a:lnTo>
                    <a:pt x="1085" y="26"/>
                  </a:lnTo>
                  <a:lnTo>
                    <a:pt x="1177" y="24"/>
                  </a:lnTo>
                  <a:lnTo>
                    <a:pt x="1260" y="20"/>
                  </a:lnTo>
                  <a:lnTo>
                    <a:pt x="1333" y="11"/>
                  </a:lnTo>
                  <a:lnTo>
                    <a:pt x="1367" y="6"/>
                  </a:lnTo>
                  <a:lnTo>
                    <a:pt x="1398" y="0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86320" y="3714840"/>
              <a:ext cx="272880" cy="390600"/>
            </a:xfrm>
            <a:custGeom>
              <a:avLst/>
              <a:gdLst/>
              <a:ahLst/>
              <a:rect l="l" t="t" r="r" b="b"/>
              <a:pathLst>
                <a:path w="759" h="1083">
                  <a:moveTo>
                    <a:pt x="555" y="437"/>
                  </a:moveTo>
                  <a:lnTo>
                    <a:pt x="603" y="435"/>
                  </a:lnTo>
                  <a:lnTo>
                    <a:pt x="622" y="436"/>
                  </a:lnTo>
                  <a:lnTo>
                    <a:pt x="639" y="438"/>
                  </a:lnTo>
                  <a:lnTo>
                    <a:pt x="656" y="442"/>
                  </a:lnTo>
                  <a:lnTo>
                    <a:pt x="671" y="447"/>
                  </a:lnTo>
                  <a:lnTo>
                    <a:pt x="685" y="454"/>
                  </a:lnTo>
                  <a:lnTo>
                    <a:pt x="697" y="461"/>
                  </a:lnTo>
                  <a:lnTo>
                    <a:pt x="709" y="471"/>
                  </a:lnTo>
                  <a:lnTo>
                    <a:pt x="719" y="481"/>
                  </a:lnTo>
                  <a:lnTo>
                    <a:pt x="728" y="493"/>
                  </a:lnTo>
                  <a:lnTo>
                    <a:pt x="736" y="506"/>
                  </a:lnTo>
                  <a:lnTo>
                    <a:pt x="743" y="521"/>
                  </a:lnTo>
                  <a:lnTo>
                    <a:pt x="748" y="537"/>
                  </a:lnTo>
                  <a:lnTo>
                    <a:pt x="753" y="556"/>
                  </a:lnTo>
                  <a:lnTo>
                    <a:pt x="756" y="575"/>
                  </a:lnTo>
                  <a:lnTo>
                    <a:pt x="757" y="595"/>
                  </a:lnTo>
                  <a:lnTo>
                    <a:pt x="758" y="617"/>
                  </a:lnTo>
                  <a:lnTo>
                    <a:pt x="757" y="638"/>
                  </a:lnTo>
                  <a:lnTo>
                    <a:pt x="755" y="659"/>
                  </a:lnTo>
                  <a:lnTo>
                    <a:pt x="752" y="680"/>
                  </a:lnTo>
                  <a:lnTo>
                    <a:pt x="747" y="701"/>
                  </a:lnTo>
                  <a:lnTo>
                    <a:pt x="740" y="721"/>
                  </a:lnTo>
                  <a:lnTo>
                    <a:pt x="732" y="741"/>
                  </a:lnTo>
                  <a:lnTo>
                    <a:pt x="723" y="762"/>
                  </a:lnTo>
                  <a:lnTo>
                    <a:pt x="713" y="782"/>
                  </a:lnTo>
                  <a:lnTo>
                    <a:pt x="700" y="802"/>
                  </a:lnTo>
                  <a:lnTo>
                    <a:pt x="687" y="822"/>
                  </a:lnTo>
                  <a:lnTo>
                    <a:pt x="656" y="861"/>
                  </a:lnTo>
                  <a:lnTo>
                    <a:pt x="619" y="898"/>
                  </a:lnTo>
                  <a:lnTo>
                    <a:pt x="577" y="936"/>
                  </a:lnTo>
                  <a:lnTo>
                    <a:pt x="532" y="970"/>
                  </a:lnTo>
                  <a:lnTo>
                    <a:pt x="489" y="1000"/>
                  </a:lnTo>
                  <a:lnTo>
                    <a:pt x="444" y="1025"/>
                  </a:lnTo>
                  <a:lnTo>
                    <a:pt x="400" y="1045"/>
                  </a:lnTo>
                  <a:lnTo>
                    <a:pt x="356" y="1061"/>
                  </a:lnTo>
                  <a:lnTo>
                    <a:pt x="313" y="1073"/>
                  </a:lnTo>
                  <a:lnTo>
                    <a:pt x="269" y="1080"/>
                  </a:lnTo>
                  <a:lnTo>
                    <a:pt x="226" y="1082"/>
                  </a:lnTo>
                  <a:lnTo>
                    <a:pt x="199" y="1081"/>
                  </a:lnTo>
                  <a:lnTo>
                    <a:pt x="174" y="1078"/>
                  </a:lnTo>
                  <a:lnTo>
                    <a:pt x="150" y="1073"/>
                  </a:lnTo>
                  <a:lnTo>
                    <a:pt x="127" y="1066"/>
                  </a:lnTo>
                  <a:lnTo>
                    <a:pt x="107" y="1057"/>
                  </a:lnTo>
                  <a:lnTo>
                    <a:pt x="88" y="1045"/>
                  </a:lnTo>
                  <a:lnTo>
                    <a:pt x="72" y="1032"/>
                  </a:lnTo>
                  <a:lnTo>
                    <a:pt x="57" y="1017"/>
                  </a:lnTo>
                  <a:lnTo>
                    <a:pt x="43" y="1000"/>
                  </a:lnTo>
                  <a:lnTo>
                    <a:pt x="32" y="981"/>
                  </a:lnTo>
                  <a:lnTo>
                    <a:pt x="22" y="960"/>
                  </a:lnTo>
                  <a:lnTo>
                    <a:pt x="14" y="937"/>
                  </a:lnTo>
                  <a:lnTo>
                    <a:pt x="8" y="912"/>
                  </a:lnTo>
                  <a:lnTo>
                    <a:pt x="4" y="884"/>
                  </a:lnTo>
                  <a:lnTo>
                    <a:pt x="1" y="855"/>
                  </a:lnTo>
                  <a:lnTo>
                    <a:pt x="0" y="824"/>
                  </a:lnTo>
                  <a:lnTo>
                    <a:pt x="3" y="753"/>
                  </a:lnTo>
                  <a:lnTo>
                    <a:pt x="10" y="682"/>
                  </a:lnTo>
                  <a:lnTo>
                    <a:pt x="23" y="612"/>
                  </a:lnTo>
                  <a:lnTo>
                    <a:pt x="41" y="543"/>
                  </a:lnTo>
                  <a:lnTo>
                    <a:pt x="64" y="474"/>
                  </a:lnTo>
                  <a:lnTo>
                    <a:pt x="92" y="405"/>
                  </a:lnTo>
                  <a:lnTo>
                    <a:pt x="125" y="338"/>
                  </a:lnTo>
                  <a:lnTo>
                    <a:pt x="163" y="270"/>
                  </a:lnTo>
                  <a:lnTo>
                    <a:pt x="205" y="207"/>
                  </a:lnTo>
                  <a:lnTo>
                    <a:pt x="248" y="152"/>
                  </a:lnTo>
                  <a:lnTo>
                    <a:pt x="270" y="127"/>
                  </a:lnTo>
                  <a:lnTo>
                    <a:pt x="293" y="106"/>
                  </a:lnTo>
                  <a:lnTo>
                    <a:pt x="317" y="85"/>
                  </a:lnTo>
                  <a:lnTo>
                    <a:pt x="341" y="68"/>
                  </a:lnTo>
                  <a:lnTo>
                    <a:pt x="366" y="52"/>
                  </a:lnTo>
                  <a:lnTo>
                    <a:pt x="390" y="38"/>
                  </a:lnTo>
                  <a:lnTo>
                    <a:pt x="416" y="26"/>
                  </a:lnTo>
                  <a:lnTo>
                    <a:pt x="442" y="17"/>
                  </a:lnTo>
                  <a:lnTo>
                    <a:pt x="468" y="10"/>
                  </a:lnTo>
                  <a:lnTo>
                    <a:pt x="495" y="5"/>
                  </a:lnTo>
                  <a:lnTo>
                    <a:pt x="521" y="1"/>
                  </a:lnTo>
                  <a:lnTo>
                    <a:pt x="549" y="0"/>
                  </a:lnTo>
                  <a:lnTo>
                    <a:pt x="571" y="1"/>
                  </a:lnTo>
                  <a:lnTo>
                    <a:pt x="592" y="4"/>
                  </a:lnTo>
                  <a:lnTo>
                    <a:pt x="612" y="7"/>
                  </a:lnTo>
                  <a:lnTo>
                    <a:pt x="630" y="12"/>
                  </a:lnTo>
                  <a:lnTo>
                    <a:pt x="646" y="17"/>
                  </a:lnTo>
                  <a:lnTo>
                    <a:pt x="662" y="26"/>
                  </a:lnTo>
                  <a:lnTo>
                    <a:pt x="675" y="35"/>
                  </a:lnTo>
                  <a:lnTo>
                    <a:pt x="688" y="45"/>
                  </a:lnTo>
                  <a:lnTo>
                    <a:pt x="698" y="57"/>
                  </a:lnTo>
                  <a:lnTo>
                    <a:pt x="708" y="71"/>
                  </a:lnTo>
                  <a:lnTo>
                    <a:pt x="716" y="86"/>
                  </a:lnTo>
                  <a:lnTo>
                    <a:pt x="722" y="102"/>
                  </a:lnTo>
                  <a:lnTo>
                    <a:pt x="727" y="120"/>
                  </a:lnTo>
                  <a:lnTo>
                    <a:pt x="731" y="139"/>
                  </a:lnTo>
                  <a:lnTo>
                    <a:pt x="733" y="159"/>
                  </a:lnTo>
                  <a:lnTo>
                    <a:pt x="734" y="182"/>
                  </a:lnTo>
                  <a:lnTo>
                    <a:pt x="733" y="202"/>
                  </a:lnTo>
                  <a:lnTo>
                    <a:pt x="731" y="223"/>
                  </a:lnTo>
                  <a:lnTo>
                    <a:pt x="728" y="242"/>
                  </a:lnTo>
                  <a:lnTo>
                    <a:pt x="723" y="260"/>
                  </a:lnTo>
                  <a:lnTo>
                    <a:pt x="716" y="278"/>
                  </a:lnTo>
                  <a:lnTo>
                    <a:pt x="709" y="297"/>
                  </a:lnTo>
                  <a:lnTo>
                    <a:pt x="700" y="313"/>
                  </a:lnTo>
                  <a:lnTo>
                    <a:pt x="689" y="329"/>
                  </a:lnTo>
                  <a:lnTo>
                    <a:pt x="677" y="345"/>
                  </a:lnTo>
                  <a:lnTo>
                    <a:pt x="664" y="360"/>
                  </a:lnTo>
                  <a:lnTo>
                    <a:pt x="649" y="374"/>
                  </a:lnTo>
                  <a:lnTo>
                    <a:pt x="633" y="388"/>
                  </a:lnTo>
                  <a:lnTo>
                    <a:pt x="616" y="402"/>
                  </a:lnTo>
                  <a:lnTo>
                    <a:pt x="597" y="414"/>
                  </a:lnTo>
                  <a:close/>
                  <a:moveTo>
                    <a:pt x="248" y="531"/>
                  </a:moveTo>
                  <a:lnTo>
                    <a:pt x="314" y="494"/>
                  </a:lnTo>
                  <a:lnTo>
                    <a:pt x="371" y="458"/>
                  </a:lnTo>
                  <a:lnTo>
                    <a:pt x="420" y="420"/>
                  </a:lnTo>
                  <a:lnTo>
                    <a:pt x="441" y="402"/>
                  </a:lnTo>
                  <a:lnTo>
                    <a:pt x="460" y="383"/>
                  </a:lnTo>
                  <a:lnTo>
                    <a:pt x="476" y="363"/>
                  </a:lnTo>
                  <a:lnTo>
                    <a:pt x="490" y="344"/>
                  </a:lnTo>
                  <a:lnTo>
                    <a:pt x="501" y="325"/>
                  </a:lnTo>
                  <a:lnTo>
                    <a:pt x="511" y="304"/>
                  </a:lnTo>
                  <a:lnTo>
                    <a:pt x="519" y="285"/>
                  </a:lnTo>
                  <a:lnTo>
                    <a:pt x="525" y="265"/>
                  </a:lnTo>
                  <a:lnTo>
                    <a:pt x="528" y="244"/>
                  </a:lnTo>
                  <a:lnTo>
                    <a:pt x="529" y="224"/>
                  </a:lnTo>
                  <a:lnTo>
                    <a:pt x="529" y="213"/>
                  </a:lnTo>
                  <a:lnTo>
                    <a:pt x="528" y="203"/>
                  </a:lnTo>
                  <a:lnTo>
                    <a:pt x="527" y="194"/>
                  </a:lnTo>
                  <a:lnTo>
                    <a:pt x="525" y="185"/>
                  </a:lnTo>
                  <a:lnTo>
                    <a:pt x="523" y="178"/>
                  </a:lnTo>
                  <a:lnTo>
                    <a:pt x="520" y="170"/>
                  </a:lnTo>
                  <a:lnTo>
                    <a:pt x="516" y="164"/>
                  </a:lnTo>
                  <a:lnTo>
                    <a:pt x="513" y="157"/>
                  </a:lnTo>
                  <a:lnTo>
                    <a:pt x="508" y="153"/>
                  </a:lnTo>
                  <a:lnTo>
                    <a:pt x="503" y="147"/>
                  </a:lnTo>
                  <a:lnTo>
                    <a:pt x="499" y="144"/>
                  </a:lnTo>
                  <a:lnTo>
                    <a:pt x="493" y="141"/>
                  </a:lnTo>
                  <a:lnTo>
                    <a:pt x="487" y="139"/>
                  </a:lnTo>
                  <a:lnTo>
                    <a:pt x="480" y="137"/>
                  </a:lnTo>
                  <a:lnTo>
                    <a:pt x="473" y="136"/>
                  </a:lnTo>
                  <a:lnTo>
                    <a:pt x="465" y="136"/>
                  </a:lnTo>
                  <a:lnTo>
                    <a:pt x="447" y="137"/>
                  </a:lnTo>
                  <a:lnTo>
                    <a:pt x="438" y="139"/>
                  </a:lnTo>
                  <a:lnTo>
                    <a:pt x="429" y="142"/>
                  </a:lnTo>
                  <a:lnTo>
                    <a:pt x="412" y="150"/>
                  </a:lnTo>
                  <a:lnTo>
                    <a:pt x="395" y="160"/>
                  </a:lnTo>
                  <a:lnTo>
                    <a:pt x="379" y="174"/>
                  </a:lnTo>
                  <a:lnTo>
                    <a:pt x="364" y="191"/>
                  </a:lnTo>
                  <a:lnTo>
                    <a:pt x="350" y="212"/>
                  </a:lnTo>
                  <a:lnTo>
                    <a:pt x="336" y="234"/>
                  </a:lnTo>
                  <a:lnTo>
                    <a:pt x="323" y="261"/>
                  </a:lnTo>
                  <a:lnTo>
                    <a:pt x="310" y="290"/>
                  </a:lnTo>
                  <a:lnTo>
                    <a:pt x="287" y="358"/>
                  </a:lnTo>
                  <a:lnTo>
                    <a:pt x="266" y="438"/>
                  </a:lnTo>
                  <a:close/>
                  <a:moveTo>
                    <a:pt x="238" y="655"/>
                  </a:moveTo>
                  <a:lnTo>
                    <a:pt x="234" y="682"/>
                  </a:lnTo>
                  <a:lnTo>
                    <a:pt x="232" y="711"/>
                  </a:lnTo>
                  <a:lnTo>
                    <a:pt x="230" y="740"/>
                  </a:lnTo>
                  <a:lnTo>
                    <a:pt x="230" y="771"/>
                  </a:lnTo>
                  <a:lnTo>
                    <a:pt x="231" y="818"/>
                  </a:lnTo>
                  <a:lnTo>
                    <a:pt x="232" y="838"/>
                  </a:lnTo>
                  <a:lnTo>
                    <a:pt x="234" y="856"/>
                  </a:lnTo>
                  <a:lnTo>
                    <a:pt x="237" y="871"/>
                  </a:lnTo>
                  <a:lnTo>
                    <a:pt x="240" y="885"/>
                  </a:lnTo>
                  <a:lnTo>
                    <a:pt x="243" y="896"/>
                  </a:lnTo>
                  <a:lnTo>
                    <a:pt x="245" y="901"/>
                  </a:lnTo>
                  <a:lnTo>
                    <a:pt x="247" y="906"/>
                  </a:lnTo>
                  <a:lnTo>
                    <a:pt x="249" y="910"/>
                  </a:lnTo>
                  <a:lnTo>
                    <a:pt x="252" y="913"/>
                  </a:lnTo>
                  <a:lnTo>
                    <a:pt x="255" y="918"/>
                  </a:lnTo>
                  <a:lnTo>
                    <a:pt x="257" y="921"/>
                  </a:lnTo>
                  <a:lnTo>
                    <a:pt x="261" y="923"/>
                  </a:lnTo>
                  <a:lnTo>
                    <a:pt x="264" y="926"/>
                  </a:lnTo>
                  <a:lnTo>
                    <a:pt x="267" y="928"/>
                  </a:lnTo>
                  <a:lnTo>
                    <a:pt x="271" y="930"/>
                  </a:lnTo>
                  <a:lnTo>
                    <a:pt x="275" y="933"/>
                  </a:lnTo>
                  <a:lnTo>
                    <a:pt x="279" y="935"/>
                  </a:lnTo>
                  <a:lnTo>
                    <a:pt x="283" y="936"/>
                  </a:lnTo>
                  <a:lnTo>
                    <a:pt x="287" y="937"/>
                  </a:lnTo>
                  <a:lnTo>
                    <a:pt x="292" y="938"/>
                  </a:lnTo>
                  <a:lnTo>
                    <a:pt x="296" y="939"/>
                  </a:lnTo>
                  <a:lnTo>
                    <a:pt x="306" y="939"/>
                  </a:lnTo>
                  <a:lnTo>
                    <a:pt x="315" y="939"/>
                  </a:lnTo>
                  <a:lnTo>
                    <a:pt x="324" y="938"/>
                  </a:lnTo>
                  <a:lnTo>
                    <a:pt x="333" y="936"/>
                  </a:lnTo>
                  <a:lnTo>
                    <a:pt x="341" y="934"/>
                  </a:lnTo>
                  <a:lnTo>
                    <a:pt x="350" y="930"/>
                  </a:lnTo>
                  <a:lnTo>
                    <a:pt x="359" y="927"/>
                  </a:lnTo>
                  <a:lnTo>
                    <a:pt x="369" y="923"/>
                  </a:lnTo>
                  <a:lnTo>
                    <a:pt x="378" y="918"/>
                  </a:lnTo>
                  <a:lnTo>
                    <a:pt x="396" y="906"/>
                  </a:lnTo>
                  <a:lnTo>
                    <a:pt x="415" y="892"/>
                  </a:lnTo>
                  <a:lnTo>
                    <a:pt x="434" y="875"/>
                  </a:lnTo>
                  <a:lnTo>
                    <a:pt x="453" y="854"/>
                  </a:lnTo>
                  <a:lnTo>
                    <a:pt x="471" y="833"/>
                  </a:lnTo>
                  <a:lnTo>
                    <a:pt x="487" y="810"/>
                  </a:lnTo>
                  <a:lnTo>
                    <a:pt x="500" y="788"/>
                  </a:lnTo>
                  <a:lnTo>
                    <a:pt x="510" y="763"/>
                  </a:lnTo>
                  <a:lnTo>
                    <a:pt x="514" y="751"/>
                  </a:lnTo>
                  <a:lnTo>
                    <a:pt x="518" y="738"/>
                  </a:lnTo>
                  <a:lnTo>
                    <a:pt x="521" y="725"/>
                  </a:lnTo>
                  <a:lnTo>
                    <a:pt x="524" y="712"/>
                  </a:lnTo>
                  <a:lnTo>
                    <a:pt x="528" y="686"/>
                  </a:lnTo>
                  <a:lnTo>
                    <a:pt x="529" y="659"/>
                  </a:lnTo>
                  <a:lnTo>
                    <a:pt x="528" y="635"/>
                  </a:lnTo>
                  <a:lnTo>
                    <a:pt x="527" y="624"/>
                  </a:lnTo>
                  <a:lnTo>
                    <a:pt x="525" y="615"/>
                  </a:lnTo>
                  <a:lnTo>
                    <a:pt x="523" y="605"/>
                  </a:lnTo>
                  <a:lnTo>
                    <a:pt x="520" y="597"/>
                  </a:lnTo>
                  <a:lnTo>
                    <a:pt x="516" y="590"/>
                  </a:lnTo>
                  <a:lnTo>
                    <a:pt x="513" y="582"/>
                  </a:lnTo>
                  <a:lnTo>
                    <a:pt x="508" y="577"/>
                  </a:lnTo>
                  <a:lnTo>
                    <a:pt x="503" y="572"/>
                  </a:lnTo>
                  <a:lnTo>
                    <a:pt x="499" y="567"/>
                  </a:lnTo>
                  <a:lnTo>
                    <a:pt x="493" y="564"/>
                  </a:lnTo>
                  <a:lnTo>
                    <a:pt x="486" y="561"/>
                  </a:lnTo>
                  <a:lnTo>
                    <a:pt x="479" y="559"/>
                  </a:lnTo>
                  <a:lnTo>
                    <a:pt x="472" y="558"/>
                  </a:lnTo>
                  <a:lnTo>
                    <a:pt x="464" y="558"/>
                  </a:lnTo>
                  <a:lnTo>
                    <a:pt x="456" y="558"/>
                  </a:lnTo>
                  <a:lnTo>
                    <a:pt x="447" y="559"/>
                  </a:lnTo>
                  <a:lnTo>
                    <a:pt x="437" y="561"/>
                  </a:lnTo>
                  <a:lnTo>
                    <a:pt x="426" y="564"/>
                  </a:lnTo>
                  <a:lnTo>
                    <a:pt x="403" y="572"/>
                  </a:lnTo>
                  <a:lnTo>
                    <a:pt x="376" y="582"/>
                  </a:lnTo>
                  <a:lnTo>
                    <a:pt x="346" y="596"/>
                  </a:lnTo>
                  <a:lnTo>
                    <a:pt x="313" y="61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82960" y="3714840"/>
              <a:ext cx="274680" cy="388800"/>
            </a:xfrm>
            <a:custGeom>
              <a:avLst/>
              <a:gdLst/>
              <a:ahLst/>
              <a:rect l="l" t="t" r="r" b="b"/>
              <a:pathLst>
                <a:path w="761" h="1082">
                  <a:moveTo>
                    <a:pt x="760" y="203"/>
                  </a:moveTo>
                  <a:lnTo>
                    <a:pt x="759" y="226"/>
                  </a:lnTo>
                  <a:lnTo>
                    <a:pt x="757" y="249"/>
                  </a:lnTo>
                  <a:lnTo>
                    <a:pt x="753" y="272"/>
                  </a:lnTo>
                  <a:lnTo>
                    <a:pt x="747" y="296"/>
                  </a:lnTo>
                  <a:lnTo>
                    <a:pt x="739" y="320"/>
                  </a:lnTo>
                  <a:lnTo>
                    <a:pt x="730" y="344"/>
                  </a:lnTo>
                  <a:lnTo>
                    <a:pt x="720" y="369"/>
                  </a:lnTo>
                  <a:lnTo>
                    <a:pt x="708" y="393"/>
                  </a:lnTo>
                  <a:lnTo>
                    <a:pt x="701" y="406"/>
                  </a:lnTo>
                  <a:lnTo>
                    <a:pt x="692" y="419"/>
                  </a:lnTo>
                  <a:lnTo>
                    <a:pt x="672" y="446"/>
                  </a:lnTo>
                  <a:lnTo>
                    <a:pt x="647" y="473"/>
                  </a:lnTo>
                  <a:lnTo>
                    <a:pt x="617" y="502"/>
                  </a:lnTo>
                  <a:lnTo>
                    <a:pt x="582" y="532"/>
                  </a:lnTo>
                  <a:lnTo>
                    <a:pt x="542" y="563"/>
                  </a:lnTo>
                  <a:lnTo>
                    <a:pt x="449" y="630"/>
                  </a:lnTo>
                  <a:lnTo>
                    <a:pt x="364" y="687"/>
                  </a:lnTo>
                  <a:lnTo>
                    <a:pt x="297" y="734"/>
                  </a:lnTo>
                  <a:lnTo>
                    <a:pt x="248" y="770"/>
                  </a:lnTo>
                  <a:lnTo>
                    <a:pt x="231" y="785"/>
                  </a:lnTo>
                  <a:lnTo>
                    <a:pt x="218" y="797"/>
                  </a:lnTo>
                  <a:lnTo>
                    <a:pt x="208" y="808"/>
                  </a:lnTo>
                  <a:lnTo>
                    <a:pt x="199" y="819"/>
                  </a:lnTo>
                  <a:lnTo>
                    <a:pt x="191" y="831"/>
                  </a:lnTo>
                  <a:lnTo>
                    <a:pt x="185" y="841"/>
                  </a:lnTo>
                  <a:lnTo>
                    <a:pt x="183" y="848"/>
                  </a:lnTo>
                  <a:lnTo>
                    <a:pt x="180" y="853"/>
                  </a:lnTo>
                  <a:lnTo>
                    <a:pt x="178" y="858"/>
                  </a:lnTo>
                  <a:lnTo>
                    <a:pt x="177" y="864"/>
                  </a:lnTo>
                  <a:lnTo>
                    <a:pt x="176" y="870"/>
                  </a:lnTo>
                  <a:lnTo>
                    <a:pt x="175" y="876"/>
                  </a:lnTo>
                  <a:lnTo>
                    <a:pt x="174" y="882"/>
                  </a:lnTo>
                  <a:lnTo>
                    <a:pt x="174" y="887"/>
                  </a:lnTo>
                  <a:lnTo>
                    <a:pt x="174" y="897"/>
                  </a:lnTo>
                  <a:lnTo>
                    <a:pt x="176" y="906"/>
                  </a:lnTo>
                  <a:lnTo>
                    <a:pt x="178" y="913"/>
                  </a:lnTo>
                  <a:lnTo>
                    <a:pt x="181" y="922"/>
                  </a:lnTo>
                  <a:lnTo>
                    <a:pt x="184" y="928"/>
                  </a:lnTo>
                  <a:lnTo>
                    <a:pt x="189" y="935"/>
                  </a:lnTo>
                  <a:lnTo>
                    <a:pt x="194" y="940"/>
                  </a:lnTo>
                  <a:lnTo>
                    <a:pt x="200" y="945"/>
                  </a:lnTo>
                  <a:lnTo>
                    <a:pt x="207" y="950"/>
                  </a:lnTo>
                  <a:lnTo>
                    <a:pt x="215" y="954"/>
                  </a:lnTo>
                  <a:lnTo>
                    <a:pt x="223" y="957"/>
                  </a:lnTo>
                  <a:lnTo>
                    <a:pt x="233" y="960"/>
                  </a:lnTo>
                  <a:lnTo>
                    <a:pt x="242" y="962"/>
                  </a:lnTo>
                  <a:lnTo>
                    <a:pt x="253" y="964"/>
                  </a:lnTo>
                  <a:lnTo>
                    <a:pt x="277" y="965"/>
                  </a:lnTo>
                  <a:lnTo>
                    <a:pt x="289" y="965"/>
                  </a:lnTo>
                  <a:lnTo>
                    <a:pt x="300" y="964"/>
                  </a:lnTo>
                  <a:lnTo>
                    <a:pt x="311" y="962"/>
                  </a:lnTo>
                  <a:lnTo>
                    <a:pt x="321" y="959"/>
                  </a:lnTo>
                  <a:lnTo>
                    <a:pt x="330" y="956"/>
                  </a:lnTo>
                  <a:lnTo>
                    <a:pt x="339" y="952"/>
                  </a:lnTo>
                  <a:lnTo>
                    <a:pt x="343" y="950"/>
                  </a:lnTo>
                  <a:lnTo>
                    <a:pt x="347" y="948"/>
                  </a:lnTo>
                  <a:lnTo>
                    <a:pt x="351" y="945"/>
                  </a:lnTo>
                  <a:lnTo>
                    <a:pt x="354" y="942"/>
                  </a:lnTo>
                  <a:lnTo>
                    <a:pt x="361" y="936"/>
                  </a:lnTo>
                  <a:lnTo>
                    <a:pt x="369" y="928"/>
                  </a:lnTo>
                  <a:lnTo>
                    <a:pt x="377" y="919"/>
                  </a:lnTo>
                  <a:lnTo>
                    <a:pt x="385" y="908"/>
                  </a:lnTo>
                  <a:lnTo>
                    <a:pt x="393" y="895"/>
                  </a:lnTo>
                  <a:lnTo>
                    <a:pt x="401" y="881"/>
                  </a:lnTo>
                  <a:lnTo>
                    <a:pt x="419" y="849"/>
                  </a:lnTo>
                  <a:lnTo>
                    <a:pt x="425" y="835"/>
                  </a:lnTo>
                  <a:lnTo>
                    <a:pt x="432" y="821"/>
                  </a:lnTo>
                  <a:lnTo>
                    <a:pt x="439" y="809"/>
                  </a:lnTo>
                  <a:lnTo>
                    <a:pt x="446" y="797"/>
                  </a:lnTo>
                  <a:lnTo>
                    <a:pt x="453" y="786"/>
                  </a:lnTo>
                  <a:lnTo>
                    <a:pt x="460" y="777"/>
                  </a:lnTo>
                  <a:lnTo>
                    <a:pt x="467" y="768"/>
                  </a:lnTo>
                  <a:lnTo>
                    <a:pt x="475" y="761"/>
                  </a:lnTo>
                  <a:lnTo>
                    <a:pt x="479" y="757"/>
                  </a:lnTo>
                  <a:lnTo>
                    <a:pt x="483" y="753"/>
                  </a:lnTo>
                  <a:lnTo>
                    <a:pt x="488" y="750"/>
                  </a:lnTo>
                  <a:lnTo>
                    <a:pt x="492" y="748"/>
                  </a:lnTo>
                  <a:lnTo>
                    <a:pt x="497" y="745"/>
                  </a:lnTo>
                  <a:lnTo>
                    <a:pt x="501" y="742"/>
                  </a:lnTo>
                  <a:lnTo>
                    <a:pt x="512" y="738"/>
                  </a:lnTo>
                  <a:lnTo>
                    <a:pt x="521" y="735"/>
                  </a:lnTo>
                  <a:lnTo>
                    <a:pt x="532" y="733"/>
                  </a:lnTo>
                  <a:lnTo>
                    <a:pt x="544" y="731"/>
                  </a:lnTo>
                  <a:lnTo>
                    <a:pt x="556" y="731"/>
                  </a:lnTo>
                  <a:lnTo>
                    <a:pt x="566" y="731"/>
                  </a:lnTo>
                  <a:lnTo>
                    <a:pt x="576" y="732"/>
                  </a:lnTo>
                  <a:lnTo>
                    <a:pt x="585" y="734"/>
                  </a:lnTo>
                  <a:lnTo>
                    <a:pt x="593" y="736"/>
                  </a:lnTo>
                  <a:lnTo>
                    <a:pt x="600" y="739"/>
                  </a:lnTo>
                  <a:lnTo>
                    <a:pt x="607" y="744"/>
                  </a:lnTo>
                  <a:lnTo>
                    <a:pt x="613" y="749"/>
                  </a:lnTo>
                  <a:lnTo>
                    <a:pt x="619" y="754"/>
                  </a:lnTo>
                  <a:lnTo>
                    <a:pt x="624" y="760"/>
                  </a:lnTo>
                  <a:lnTo>
                    <a:pt x="628" y="767"/>
                  </a:lnTo>
                  <a:lnTo>
                    <a:pt x="632" y="775"/>
                  </a:lnTo>
                  <a:lnTo>
                    <a:pt x="635" y="783"/>
                  </a:lnTo>
                  <a:lnTo>
                    <a:pt x="637" y="792"/>
                  </a:lnTo>
                  <a:lnTo>
                    <a:pt x="639" y="802"/>
                  </a:lnTo>
                  <a:lnTo>
                    <a:pt x="640" y="812"/>
                  </a:lnTo>
                  <a:lnTo>
                    <a:pt x="640" y="823"/>
                  </a:lnTo>
                  <a:lnTo>
                    <a:pt x="640" y="834"/>
                  </a:lnTo>
                  <a:lnTo>
                    <a:pt x="638" y="846"/>
                  </a:lnTo>
                  <a:lnTo>
                    <a:pt x="636" y="856"/>
                  </a:lnTo>
                  <a:lnTo>
                    <a:pt x="633" y="868"/>
                  </a:lnTo>
                  <a:lnTo>
                    <a:pt x="629" y="879"/>
                  </a:lnTo>
                  <a:lnTo>
                    <a:pt x="624" y="890"/>
                  </a:lnTo>
                  <a:lnTo>
                    <a:pt x="618" y="900"/>
                  </a:lnTo>
                  <a:lnTo>
                    <a:pt x="612" y="912"/>
                  </a:lnTo>
                  <a:lnTo>
                    <a:pt x="604" y="923"/>
                  </a:lnTo>
                  <a:lnTo>
                    <a:pt x="595" y="934"/>
                  </a:lnTo>
                  <a:lnTo>
                    <a:pt x="576" y="955"/>
                  </a:lnTo>
                  <a:lnTo>
                    <a:pt x="553" y="976"/>
                  </a:lnTo>
                  <a:lnTo>
                    <a:pt x="526" y="997"/>
                  </a:lnTo>
                  <a:lnTo>
                    <a:pt x="498" y="1016"/>
                  </a:lnTo>
                  <a:lnTo>
                    <a:pt x="468" y="1034"/>
                  </a:lnTo>
                  <a:lnTo>
                    <a:pt x="437" y="1049"/>
                  </a:lnTo>
                  <a:lnTo>
                    <a:pt x="405" y="1060"/>
                  </a:lnTo>
                  <a:lnTo>
                    <a:pt x="373" y="1069"/>
                  </a:lnTo>
                  <a:lnTo>
                    <a:pt x="339" y="1075"/>
                  </a:lnTo>
                  <a:lnTo>
                    <a:pt x="305" y="1080"/>
                  </a:lnTo>
                  <a:lnTo>
                    <a:pt x="270" y="1081"/>
                  </a:lnTo>
                  <a:lnTo>
                    <a:pt x="237" y="1080"/>
                  </a:lnTo>
                  <a:lnTo>
                    <a:pt x="207" y="1078"/>
                  </a:lnTo>
                  <a:lnTo>
                    <a:pt x="179" y="1073"/>
                  </a:lnTo>
                  <a:lnTo>
                    <a:pt x="152" y="1067"/>
                  </a:lnTo>
                  <a:lnTo>
                    <a:pt x="128" y="1059"/>
                  </a:lnTo>
                  <a:lnTo>
                    <a:pt x="106" y="1050"/>
                  </a:lnTo>
                  <a:lnTo>
                    <a:pt x="86" y="1039"/>
                  </a:lnTo>
                  <a:lnTo>
                    <a:pt x="68" y="1026"/>
                  </a:lnTo>
                  <a:lnTo>
                    <a:pt x="52" y="1011"/>
                  </a:lnTo>
                  <a:lnTo>
                    <a:pt x="38" y="995"/>
                  </a:lnTo>
                  <a:lnTo>
                    <a:pt x="26" y="977"/>
                  </a:lnTo>
                  <a:lnTo>
                    <a:pt x="17" y="956"/>
                  </a:lnTo>
                  <a:lnTo>
                    <a:pt x="9" y="935"/>
                  </a:lnTo>
                  <a:lnTo>
                    <a:pt x="4" y="911"/>
                  </a:lnTo>
                  <a:lnTo>
                    <a:pt x="1" y="886"/>
                  </a:lnTo>
                  <a:lnTo>
                    <a:pt x="0" y="860"/>
                  </a:lnTo>
                  <a:lnTo>
                    <a:pt x="1" y="833"/>
                  </a:lnTo>
                  <a:lnTo>
                    <a:pt x="4" y="806"/>
                  </a:lnTo>
                  <a:lnTo>
                    <a:pt x="10" y="781"/>
                  </a:lnTo>
                  <a:lnTo>
                    <a:pt x="17" y="755"/>
                  </a:lnTo>
                  <a:lnTo>
                    <a:pt x="27" y="732"/>
                  </a:lnTo>
                  <a:lnTo>
                    <a:pt x="39" y="708"/>
                  </a:lnTo>
                  <a:lnTo>
                    <a:pt x="53" y="686"/>
                  </a:lnTo>
                  <a:lnTo>
                    <a:pt x="70" y="664"/>
                  </a:lnTo>
                  <a:lnTo>
                    <a:pt x="89" y="643"/>
                  </a:lnTo>
                  <a:lnTo>
                    <a:pt x="112" y="619"/>
                  </a:lnTo>
                  <a:lnTo>
                    <a:pt x="139" y="594"/>
                  </a:lnTo>
                  <a:lnTo>
                    <a:pt x="169" y="568"/>
                  </a:lnTo>
                  <a:lnTo>
                    <a:pt x="239" y="513"/>
                  </a:lnTo>
                  <a:lnTo>
                    <a:pt x="325" y="450"/>
                  </a:lnTo>
                  <a:lnTo>
                    <a:pt x="404" y="394"/>
                  </a:lnTo>
                  <a:lnTo>
                    <a:pt x="468" y="346"/>
                  </a:lnTo>
                  <a:lnTo>
                    <a:pt x="516" y="306"/>
                  </a:lnTo>
                  <a:lnTo>
                    <a:pt x="535" y="289"/>
                  </a:lnTo>
                  <a:lnTo>
                    <a:pt x="550" y="274"/>
                  </a:lnTo>
                  <a:lnTo>
                    <a:pt x="563" y="260"/>
                  </a:lnTo>
                  <a:lnTo>
                    <a:pt x="573" y="246"/>
                  </a:lnTo>
                  <a:lnTo>
                    <a:pt x="583" y="232"/>
                  </a:lnTo>
                  <a:lnTo>
                    <a:pt x="590" y="219"/>
                  </a:lnTo>
                  <a:lnTo>
                    <a:pt x="593" y="213"/>
                  </a:lnTo>
                  <a:lnTo>
                    <a:pt x="596" y="207"/>
                  </a:lnTo>
                  <a:lnTo>
                    <a:pt x="598" y="200"/>
                  </a:lnTo>
                  <a:lnTo>
                    <a:pt x="600" y="194"/>
                  </a:lnTo>
                  <a:lnTo>
                    <a:pt x="601" y="187"/>
                  </a:lnTo>
                  <a:lnTo>
                    <a:pt x="602" y="181"/>
                  </a:lnTo>
                  <a:lnTo>
                    <a:pt x="603" y="174"/>
                  </a:lnTo>
                  <a:lnTo>
                    <a:pt x="603" y="168"/>
                  </a:lnTo>
                  <a:lnTo>
                    <a:pt x="603" y="162"/>
                  </a:lnTo>
                  <a:lnTo>
                    <a:pt x="602" y="158"/>
                  </a:lnTo>
                  <a:lnTo>
                    <a:pt x="602" y="154"/>
                  </a:lnTo>
                  <a:lnTo>
                    <a:pt x="601" y="150"/>
                  </a:lnTo>
                  <a:lnTo>
                    <a:pt x="599" y="145"/>
                  </a:lnTo>
                  <a:lnTo>
                    <a:pt x="598" y="142"/>
                  </a:lnTo>
                  <a:lnTo>
                    <a:pt x="596" y="139"/>
                  </a:lnTo>
                  <a:lnTo>
                    <a:pt x="594" y="137"/>
                  </a:lnTo>
                  <a:lnTo>
                    <a:pt x="591" y="133"/>
                  </a:lnTo>
                  <a:lnTo>
                    <a:pt x="589" y="131"/>
                  </a:lnTo>
                  <a:lnTo>
                    <a:pt x="586" y="130"/>
                  </a:lnTo>
                  <a:lnTo>
                    <a:pt x="582" y="128"/>
                  </a:lnTo>
                  <a:lnTo>
                    <a:pt x="579" y="127"/>
                  </a:lnTo>
                  <a:lnTo>
                    <a:pt x="575" y="127"/>
                  </a:lnTo>
                  <a:lnTo>
                    <a:pt x="571" y="126"/>
                  </a:lnTo>
                  <a:lnTo>
                    <a:pt x="566" y="126"/>
                  </a:lnTo>
                  <a:lnTo>
                    <a:pt x="561" y="126"/>
                  </a:lnTo>
                  <a:lnTo>
                    <a:pt x="556" y="127"/>
                  </a:lnTo>
                  <a:lnTo>
                    <a:pt x="550" y="129"/>
                  </a:lnTo>
                  <a:lnTo>
                    <a:pt x="544" y="131"/>
                  </a:lnTo>
                  <a:lnTo>
                    <a:pt x="537" y="133"/>
                  </a:lnTo>
                  <a:lnTo>
                    <a:pt x="530" y="138"/>
                  </a:lnTo>
                  <a:lnTo>
                    <a:pt x="515" y="146"/>
                  </a:lnTo>
                  <a:lnTo>
                    <a:pt x="498" y="158"/>
                  </a:lnTo>
                  <a:lnTo>
                    <a:pt x="479" y="172"/>
                  </a:lnTo>
                  <a:lnTo>
                    <a:pt x="458" y="189"/>
                  </a:lnTo>
                  <a:lnTo>
                    <a:pt x="435" y="209"/>
                  </a:lnTo>
                  <a:lnTo>
                    <a:pt x="418" y="223"/>
                  </a:lnTo>
                  <a:lnTo>
                    <a:pt x="402" y="234"/>
                  </a:lnTo>
                  <a:lnTo>
                    <a:pt x="386" y="244"/>
                  </a:lnTo>
                  <a:lnTo>
                    <a:pt x="371" y="253"/>
                  </a:lnTo>
                  <a:lnTo>
                    <a:pt x="356" y="258"/>
                  </a:lnTo>
                  <a:lnTo>
                    <a:pt x="342" y="263"/>
                  </a:lnTo>
                  <a:lnTo>
                    <a:pt x="335" y="265"/>
                  </a:lnTo>
                  <a:lnTo>
                    <a:pt x="328" y="266"/>
                  </a:lnTo>
                  <a:lnTo>
                    <a:pt x="322" y="267"/>
                  </a:lnTo>
                  <a:lnTo>
                    <a:pt x="315" y="267"/>
                  </a:lnTo>
                  <a:lnTo>
                    <a:pt x="305" y="267"/>
                  </a:lnTo>
                  <a:lnTo>
                    <a:pt x="296" y="266"/>
                  </a:lnTo>
                  <a:lnTo>
                    <a:pt x="287" y="263"/>
                  </a:lnTo>
                  <a:lnTo>
                    <a:pt x="279" y="261"/>
                  </a:lnTo>
                  <a:lnTo>
                    <a:pt x="271" y="259"/>
                  </a:lnTo>
                  <a:lnTo>
                    <a:pt x="265" y="255"/>
                  </a:lnTo>
                  <a:lnTo>
                    <a:pt x="258" y="252"/>
                  </a:lnTo>
                  <a:lnTo>
                    <a:pt x="253" y="246"/>
                  </a:lnTo>
                  <a:lnTo>
                    <a:pt x="248" y="241"/>
                  </a:lnTo>
                  <a:lnTo>
                    <a:pt x="244" y="236"/>
                  </a:lnTo>
                  <a:lnTo>
                    <a:pt x="240" y="229"/>
                  </a:lnTo>
                  <a:lnTo>
                    <a:pt x="237" y="222"/>
                  </a:lnTo>
                  <a:lnTo>
                    <a:pt x="235" y="213"/>
                  </a:lnTo>
                  <a:lnTo>
                    <a:pt x="234" y="205"/>
                  </a:lnTo>
                  <a:lnTo>
                    <a:pt x="233" y="196"/>
                  </a:lnTo>
                  <a:lnTo>
                    <a:pt x="233" y="186"/>
                  </a:lnTo>
                  <a:lnTo>
                    <a:pt x="233" y="178"/>
                  </a:lnTo>
                  <a:lnTo>
                    <a:pt x="234" y="169"/>
                  </a:lnTo>
                  <a:lnTo>
                    <a:pt x="235" y="160"/>
                  </a:lnTo>
                  <a:lnTo>
                    <a:pt x="238" y="152"/>
                  </a:lnTo>
                  <a:lnTo>
                    <a:pt x="241" y="144"/>
                  </a:lnTo>
                  <a:lnTo>
                    <a:pt x="245" y="136"/>
                  </a:lnTo>
                  <a:lnTo>
                    <a:pt x="249" y="127"/>
                  </a:lnTo>
                  <a:lnTo>
                    <a:pt x="255" y="120"/>
                  </a:lnTo>
                  <a:lnTo>
                    <a:pt x="260" y="111"/>
                  </a:lnTo>
                  <a:lnTo>
                    <a:pt x="267" y="103"/>
                  </a:lnTo>
                  <a:lnTo>
                    <a:pt x="275" y="96"/>
                  </a:lnTo>
                  <a:lnTo>
                    <a:pt x="283" y="88"/>
                  </a:lnTo>
                  <a:lnTo>
                    <a:pt x="301" y="73"/>
                  </a:lnTo>
                  <a:lnTo>
                    <a:pt x="322" y="58"/>
                  </a:lnTo>
                  <a:lnTo>
                    <a:pt x="345" y="44"/>
                  </a:lnTo>
                  <a:lnTo>
                    <a:pt x="369" y="33"/>
                  </a:lnTo>
                  <a:lnTo>
                    <a:pt x="393" y="23"/>
                  </a:lnTo>
                  <a:lnTo>
                    <a:pt x="419" y="15"/>
                  </a:lnTo>
                  <a:lnTo>
                    <a:pt x="445" y="9"/>
                  </a:lnTo>
                  <a:lnTo>
                    <a:pt x="471" y="4"/>
                  </a:lnTo>
                  <a:lnTo>
                    <a:pt x="499" y="1"/>
                  </a:lnTo>
                  <a:lnTo>
                    <a:pt x="526" y="0"/>
                  </a:lnTo>
                  <a:lnTo>
                    <a:pt x="552" y="1"/>
                  </a:lnTo>
                  <a:lnTo>
                    <a:pt x="577" y="4"/>
                  </a:lnTo>
                  <a:lnTo>
                    <a:pt x="601" y="8"/>
                  </a:lnTo>
                  <a:lnTo>
                    <a:pt x="623" y="14"/>
                  </a:lnTo>
                  <a:lnTo>
                    <a:pt x="643" y="22"/>
                  </a:lnTo>
                  <a:lnTo>
                    <a:pt x="663" y="31"/>
                  </a:lnTo>
                  <a:lnTo>
                    <a:pt x="672" y="37"/>
                  </a:lnTo>
                  <a:lnTo>
                    <a:pt x="681" y="42"/>
                  </a:lnTo>
                  <a:lnTo>
                    <a:pt x="689" y="49"/>
                  </a:lnTo>
                  <a:lnTo>
                    <a:pt x="697" y="55"/>
                  </a:lnTo>
                  <a:lnTo>
                    <a:pt x="705" y="63"/>
                  </a:lnTo>
                  <a:lnTo>
                    <a:pt x="712" y="69"/>
                  </a:lnTo>
                  <a:lnTo>
                    <a:pt x="718" y="77"/>
                  </a:lnTo>
                  <a:lnTo>
                    <a:pt x="725" y="85"/>
                  </a:lnTo>
                  <a:lnTo>
                    <a:pt x="730" y="93"/>
                  </a:lnTo>
                  <a:lnTo>
                    <a:pt x="735" y="101"/>
                  </a:lnTo>
                  <a:lnTo>
                    <a:pt x="740" y="111"/>
                  </a:lnTo>
                  <a:lnTo>
                    <a:pt x="744" y="120"/>
                  </a:lnTo>
                  <a:lnTo>
                    <a:pt x="748" y="129"/>
                  </a:lnTo>
                  <a:lnTo>
                    <a:pt x="751" y="139"/>
                  </a:lnTo>
                  <a:lnTo>
                    <a:pt x="754" y="149"/>
                  </a:lnTo>
                  <a:lnTo>
                    <a:pt x="756" y="159"/>
                  </a:lnTo>
                  <a:lnTo>
                    <a:pt x="758" y="170"/>
                  </a:lnTo>
                  <a:lnTo>
                    <a:pt x="759" y="181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73480" y="3714840"/>
              <a:ext cx="265320" cy="388800"/>
            </a:xfrm>
            <a:custGeom>
              <a:avLst/>
              <a:gdLst/>
              <a:ahLst/>
              <a:rect l="l" t="t" r="r" b="b"/>
              <a:pathLst>
                <a:path w="736" h="1081">
                  <a:moveTo>
                    <a:pt x="615" y="704"/>
                  </a:moveTo>
                  <a:lnTo>
                    <a:pt x="670" y="782"/>
                  </a:lnTo>
                  <a:lnTo>
                    <a:pt x="600" y="852"/>
                  </a:lnTo>
                  <a:lnTo>
                    <a:pt x="534" y="912"/>
                  </a:lnTo>
                  <a:lnTo>
                    <a:pt x="469" y="964"/>
                  </a:lnTo>
                  <a:lnTo>
                    <a:pt x="406" y="1006"/>
                  </a:lnTo>
                  <a:lnTo>
                    <a:pt x="347" y="1038"/>
                  </a:lnTo>
                  <a:lnTo>
                    <a:pt x="318" y="1051"/>
                  </a:lnTo>
                  <a:lnTo>
                    <a:pt x="289" y="1061"/>
                  </a:lnTo>
                  <a:lnTo>
                    <a:pt x="263" y="1069"/>
                  </a:lnTo>
                  <a:lnTo>
                    <a:pt x="236" y="1075"/>
                  </a:lnTo>
                  <a:lnTo>
                    <a:pt x="210" y="1079"/>
                  </a:lnTo>
                  <a:lnTo>
                    <a:pt x="184" y="1080"/>
                  </a:lnTo>
                  <a:lnTo>
                    <a:pt x="162" y="1079"/>
                  </a:lnTo>
                  <a:lnTo>
                    <a:pt x="142" y="1075"/>
                  </a:lnTo>
                  <a:lnTo>
                    <a:pt x="132" y="1073"/>
                  </a:lnTo>
                  <a:lnTo>
                    <a:pt x="122" y="1071"/>
                  </a:lnTo>
                  <a:lnTo>
                    <a:pt x="113" y="1068"/>
                  </a:lnTo>
                  <a:lnTo>
                    <a:pt x="105" y="1064"/>
                  </a:lnTo>
                  <a:lnTo>
                    <a:pt x="96" y="1059"/>
                  </a:lnTo>
                  <a:lnTo>
                    <a:pt x="88" y="1055"/>
                  </a:lnTo>
                  <a:lnTo>
                    <a:pt x="80" y="1050"/>
                  </a:lnTo>
                  <a:lnTo>
                    <a:pt x="73" y="1043"/>
                  </a:lnTo>
                  <a:lnTo>
                    <a:pt x="66" y="1037"/>
                  </a:lnTo>
                  <a:lnTo>
                    <a:pt x="59" y="1030"/>
                  </a:lnTo>
                  <a:lnTo>
                    <a:pt x="53" y="1023"/>
                  </a:lnTo>
                  <a:lnTo>
                    <a:pt x="47" y="1015"/>
                  </a:lnTo>
                  <a:lnTo>
                    <a:pt x="41" y="1007"/>
                  </a:lnTo>
                  <a:lnTo>
                    <a:pt x="36" y="998"/>
                  </a:lnTo>
                  <a:lnTo>
                    <a:pt x="31" y="988"/>
                  </a:lnTo>
                  <a:lnTo>
                    <a:pt x="26" y="979"/>
                  </a:lnTo>
                  <a:lnTo>
                    <a:pt x="22" y="968"/>
                  </a:lnTo>
                  <a:lnTo>
                    <a:pt x="18" y="957"/>
                  </a:lnTo>
                  <a:lnTo>
                    <a:pt x="12" y="934"/>
                  </a:lnTo>
                  <a:lnTo>
                    <a:pt x="6" y="907"/>
                  </a:lnTo>
                  <a:lnTo>
                    <a:pt x="3" y="879"/>
                  </a:lnTo>
                  <a:lnTo>
                    <a:pt x="1" y="848"/>
                  </a:lnTo>
                  <a:lnTo>
                    <a:pt x="0" y="815"/>
                  </a:lnTo>
                  <a:lnTo>
                    <a:pt x="2" y="750"/>
                  </a:lnTo>
                  <a:lnTo>
                    <a:pt x="9" y="686"/>
                  </a:lnTo>
                  <a:lnTo>
                    <a:pt x="21" y="620"/>
                  </a:lnTo>
                  <a:lnTo>
                    <a:pt x="37" y="556"/>
                  </a:lnTo>
                  <a:lnTo>
                    <a:pt x="57" y="491"/>
                  </a:lnTo>
                  <a:lnTo>
                    <a:pt x="83" y="427"/>
                  </a:lnTo>
                  <a:lnTo>
                    <a:pt x="113" y="362"/>
                  </a:lnTo>
                  <a:lnTo>
                    <a:pt x="147" y="298"/>
                  </a:lnTo>
                  <a:lnTo>
                    <a:pt x="190" y="228"/>
                  </a:lnTo>
                  <a:lnTo>
                    <a:pt x="235" y="168"/>
                  </a:lnTo>
                  <a:lnTo>
                    <a:pt x="259" y="141"/>
                  </a:lnTo>
                  <a:lnTo>
                    <a:pt x="282" y="116"/>
                  </a:lnTo>
                  <a:lnTo>
                    <a:pt x="306" y="95"/>
                  </a:lnTo>
                  <a:lnTo>
                    <a:pt x="331" y="74"/>
                  </a:lnTo>
                  <a:lnTo>
                    <a:pt x="357" y="57"/>
                  </a:lnTo>
                  <a:lnTo>
                    <a:pt x="383" y="42"/>
                  </a:lnTo>
                  <a:lnTo>
                    <a:pt x="410" y="29"/>
                  </a:lnTo>
                  <a:lnTo>
                    <a:pt x="437" y="19"/>
                  </a:lnTo>
                  <a:lnTo>
                    <a:pt x="465" y="11"/>
                  </a:lnTo>
                  <a:lnTo>
                    <a:pt x="493" y="5"/>
                  </a:lnTo>
                  <a:lnTo>
                    <a:pt x="522" y="1"/>
                  </a:lnTo>
                  <a:lnTo>
                    <a:pt x="550" y="0"/>
                  </a:lnTo>
                  <a:lnTo>
                    <a:pt x="571" y="1"/>
                  </a:lnTo>
                  <a:lnTo>
                    <a:pt x="591" y="4"/>
                  </a:lnTo>
                  <a:lnTo>
                    <a:pt x="610" y="7"/>
                  </a:lnTo>
                  <a:lnTo>
                    <a:pt x="628" y="12"/>
                  </a:lnTo>
                  <a:lnTo>
                    <a:pt x="636" y="15"/>
                  </a:lnTo>
                  <a:lnTo>
                    <a:pt x="644" y="20"/>
                  </a:lnTo>
                  <a:lnTo>
                    <a:pt x="652" y="24"/>
                  </a:lnTo>
                  <a:lnTo>
                    <a:pt x="659" y="28"/>
                  </a:lnTo>
                  <a:lnTo>
                    <a:pt x="667" y="33"/>
                  </a:lnTo>
                  <a:lnTo>
                    <a:pt x="673" y="38"/>
                  </a:lnTo>
                  <a:lnTo>
                    <a:pt x="680" y="43"/>
                  </a:lnTo>
                  <a:lnTo>
                    <a:pt x="686" y="50"/>
                  </a:lnTo>
                  <a:lnTo>
                    <a:pt x="692" y="56"/>
                  </a:lnTo>
                  <a:lnTo>
                    <a:pt x="698" y="63"/>
                  </a:lnTo>
                  <a:lnTo>
                    <a:pt x="703" y="69"/>
                  </a:lnTo>
                  <a:lnTo>
                    <a:pt x="708" y="77"/>
                  </a:lnTo>
                  <a:lnTo>
                    <a:pt x="712" y="83"/>
                  </a:lnTo>
                  <a:lnTo>
                    <a:pt x="716" y="91"/>
                  </a:lnTo>
                  <a:lnTo>
                    <a:pt x="720" y="99"/>
                  </a:lnTo>
                  <a:lnTo>
                    <a:pt x="723" y="107"/>
                  </a:lnTo>
                  <a:lnTo>
                    <a:pt x="726" y="115"/>
                  </a:lnTo>
                  <a:lnTo>
                    <a:pt x="728" y="124"/>
                  </a:lnTo>
                  <a:lnTo>
                    <a:pt x="732" y="142"/>
                  </a:lnTo>
                  <a:lnTo>
                    <a:pt x="734" y="161"/>
                  </a:lnTo>
                  <a:lnTo>
                    <a:pt x="735" y="182"/>
                  </a:lnTo>
                  <a:lnTo>
                    <a:pt x="734" y="203"/>
                  </a:lnTo>
                  <a:lnTo>
                    <a:pt x="732" y="224"/>
                  </a:lnTo>
                  <a:lnTo>
                    <a:pt x="727" y="245"/>
                  </a:lnTo>
                  <a:lnTo>
                    <a:pt x="722" y="266"/>
                  </a:lnTo>
                  <a:lnTo>
                    <a:pt x="714" y="286"/>
                  </a:lnTo>
                  <a:lnTo>
                    <a:pt x="705" y="306"/>
                  </a:lnTo>
                  <a:lnTo>
                    <a:pt x="694" y="327"/>
                  </a:lnTo>
                  <a:lnTo>
                    <a:pt x="682" y="347"/>
                  </a:lnTo>
                  <a:lnTo>
                    <a:pt x="667" y="367"/>
                  </a:lnTo>
                  <a:lnTo>
                    <a:pt x="651" y="387"/>
                  </a:lnTo>
                  <a:lnTo>
                    <a:pt x="632" y="406"/>
                  </a:lnTo>
                  <a:lnTo>
                    <a:pt x="611" y="426"/>
                  </a:lnTo>
                  <a:lnTo>
                    <a:pt x="588" y="445"/>
                  </a:lnTo>
                  <a:lnTo>
                    <a:pt x="563" y="464"/>
                  </a:lnTo>
                  <a:lnTo>
                    <a:pt x="537" y="484"/>
                  </a:lnTo>
                  <a:lnTo>
                    <a:pt x="508" y="503"/>
                  </a:lnTo>
                  <a:lnTo>
                    <a:pt x="462" y="530"/>
                  </a:lnTo>
                  <a:lnTo>
                    <a:pt x="400" y="563"/>
                  </a:lnTo>
                  <a:lnTo>
                    <a:pt x="233" y="647"/>
                  </a:lnTo>
                  <a:lnTo>
                    <a:pt x="230" y="673"/>
                  </a:lnTo>
                  <a:lnTo>
                    <a:pt x="227" y="698"/>
                  </a:lnTo>
                  <a:lnTo>
                    <a:pt x="226" y="725"/>
                  </a:lnTo>
                  <a:lnTo>
                    <a:pt x="225" y="753"/>
                  </a:lnTo>
                  <a:lnTo>
                    <a:pt x="225" y="771"/>
                  </a:lnTo>
                  <a:lnTo>
                    <a:pt x="226" y="788"/>
                  </a:lnTo>
                  <a:lnTo>
                    <a:pt x="228" y="803"/>
                  </a:lnTo>
                  <a:lnTo>
                    <a:pt x="230" y="817"/>
                  </a:lnTo>
                  <a:lnTo>
                    <a:pt x="232" y="828"/>
                  </a:lnTo>
                  <a:lnTo>
                    <a:pt x="234" y="834"/>
                  </a:lnTo>
                  <a:lnTo>
                    <a:pt x="236" y="838"/>
                  </a:lnTo>
                  <a:lnTo>
                    <a:pt x="237" y="842"/>
                  </a:lnTo>
                  <a:lnTo>
                    <a:pt x="239" y="847"/>
                  </a:lnTo>
                  <a:lnTo>
                    <a:pt x="242" y="851"/>
                  </a:lnTo>
                  <a:lnTo>
                    <a:pt x="244" y="854"/>
                  </a:lnTo>
                  <a:lnTo>
                    <a:pt x="246" y="857"/>
                  </a:lnTo>
                  <a:lnTo>
                    <a:pt x="249" y="860"/>
                  </a:lnTo>
                  <a:lnTo>
                    <a:pt x="251" y="863"/>
                  </a:lnTo>
                  <a:lnTo>
                    <a:pt x="254" y="865"/>
                  </a:lnTo>
                  <a:lnTo>
                    <a:pt x="257" y="867"/>
                  </a:lnTo>
                  <a:lnTo>
                    <a:pt x="260" y="869"/>
                  </a:lnTo>
                  <a:lnTo>
                    <a:pt x="264" y="871"/>
                  </a:lnTo>
                  <a:lnTo>
                    <a:pt x="267" y="872"/>
                  </a:lnTo>
                  <a:lnTo>
                    <a:pt x="270" y="873"/>
                  </a:lnTo>
                  <a:lnTo>
                    <a:pt x="273" y="876"/>
                  </a:lnTo>
                  <a:lnTo>
                    <a:pt x="277" y="877"/>
                  </a:lnTo>
                  <a:lnTo>
                    <a:pt x="281" y="878"/>
                  </a:lnTo>
                  <a:lnTo>
                    <a:pt x="289" y="879"/>
                  </a:lnTo>
                  <a:lnTo>
                    <a:pt x="298" y="879"/>
                  </a:lnTo>
                  <a:lnTo>
                    <a:pt x="308" y="879"/>
                  </a:lnTo>
                  <a:lnTo>
                    <a:pt x="318" y="878"/>
                  </a:lnTo>
                  <a:lnTo>
                    <a:pt x="329" y="876"/>
                  </a:lnTo>
                  <a:lnTo>
                    <a:pt x="340" y="872"/>
                  </a:lnTo>
                  <a:lnTo>
                    <a:pt x="351" y="869"/>
                  </a:lnTo>
                  <a:lnTo>
                    <a:pt x="363" y="865"/>
                  </a:lnTo>
                  <a:lnTo>
                    <a:pt x="375" y="860"/>
                  </a:lnTo>
                  <a:lnTo>
                    <a:pt x="387" y="854"/>
                  </a:lnTo>
                  <a:lnTo>
                    <a:pt x="406" y="844"/>
                  </a:lnTo>
                  <a:lnTo>
                    <a:pt x="428" y="832"/>
                  </a:lnTo>
                  <a:lnTo>
                    <a:pt x="480" y="798"/>
                  </a:lnTo>
                  <a:lnTo>
                    <a:pt x="543" y="756"/>
                  </a:lnTo>
                  <a:close/>
                  <a:moveTo>
                    <a:pt x="248" y="530"/>
                  </a:moveTo>
                  <a:lnTo>
                    <a:pt x="314" y="489"/>
                  </a:lnTo>
                  <a:lnTo>
                    <a:pt x="374" y="449"/>
                  </a:lnTo>
                  <a:lnTo>
                    <a:pt x="401" y="429"/>
                  </a:lnTo>
                  <a:lnTo>
                    <a:pt x="425" y="408"/>
                  </a:lnTo>
                  <a:lnTo>
                    <a:pt x="448" y="388"/>
                  </a:lnTo>
                  <a:lnTo>
                    <a:pt x="469" y="368"/>
                  </a:lnTo>
                  <a:lnTo>
                    <a:pt x="483" y="349"/>
                  </a:lnTo>
                  <a:lnTo>
                    <a:pt x="495" y="331"/>
                  </a:lnTo>
                  <a:lnTo>
                    <a:pt x="506" y="313"/>
                  </a:lnTo>
                  <a:lnTo>
                    <a:pt x="515" y="296"/>
                  </a:lnTo>
                  <a:lnTo>
                    <a:pt x="521" y="280"/>
                  </a:lnTo>
                  <a:lnTo>
                    <a:pt x="524" y="271"/>
                  </a:lnTo>
                  <a:lnTo>
                    <a:pt x="526" y="263"/>
                  </a:lnTo>
                  <a:lnTo>
                    <a:pt x="528" y="256"/>
                  </a:lnTo>
                  <a:lnTo>
                    <a:pt x="529" y="248"/>
                  </a:lnTo>
                  <a:lnTo>
                    <a:pt x="530" y="241"/>
                  </a:lnTo>
                  <a:lnTo>
                    <a:pt x="530" y="233"/>
                  </a:lnTo>
                  <a:lnTo>
                    <a:pt x="530" y="224"/>
                  </a:lnTo>
                  <a:lnTo>
                    <a:pt x="529" y="214"/>
                  </a:lnTo>
                  <a:lnTo>
                    <a:pt x="527" y="204"/>
                  </a:lnTo>
                  <a:lnTo>
                    <a:pt x="525" y="197"/>
                  </a:lnTo>
                  <a:lnTo>
                    <a:pt x="522" y="188"/>
                  </a:lnTo>
                  <a:lnTo>
                    <a:pt x="519" y="182"/>
                  </a:lnTo>
                  <a:lnTo>
                    <a:pt x="517" y="179"/>
                  </a:lnTo>
                  <a:lnTo>
                    <a:pt x="515" y="175"/>
                  </a:lnTo>
                  <a:lnTo>
                    <a:pt x="513" y="172"/>
                  </a:lnTo>
                  <a:lnTo>
                    <a:pt x="511" y="169"/>
                  </a:lnTo>
                  <a:lnTo>
                    <a:pt x="506" y="164"/>
                  </a:lnTo>
                  <a:lnTo>
                    <a:pt x="503" y="161"/>
                  </a:lnTo>
                  <a:lnTo>
                    <a:pt x="501" y="159"/>
                  </a:lnTo>
                  <a:lnTo>
                    <a:pt x="498" y="157"/>
                  </a:lnTo>
                  <a:lnTo>
                    <a:pt x="495" y="155"/>
                  </a:lnTo>
                  <a:lnTo>
                    <a:pt x="492" y="154"/>
                  </a:lnTo>
                  <a:lnTo>
                    <a:pt x="489" y="152"/>
                  </a:lnTo>
                  <a:lnTo>
                    <a:pt x="486" y="151"/>
                  </a:lnTo>
                  <a:lnTo>
                    <a:pt x="483" y="150"/>
                  </a:lnTo>
                  <a:lnTo>
                    <a:pt x="480" y="149"/>
                  </a:lnTo>
                  <a:lnTo>
                    <a:pt x="477" y="147"/>
                  </a:lnTo>
                  <a:lnTo>
                    <a:pt x="473" y="147"/>
                  </a:lnTo>
                  <a:lnTo>
                    <a:pt x="470" y="146"/>
                  </a:lnTo>
                  <a:lnTo>
                    <a:pt x="463" y="146"/>
                  </a:lnTo>
                  <a:lnTo>
                    <a:pt x="459" y="146"/>
                  </a:lnTo>
                  <a:lnTo>
                    <a:pt x="454" y="146"/>
                  </a:lnTo>
                  <a:lnTo>
                    <a:pt x="445" y="149"/>
                  </a:lnTo>
                  <a:lnTo>
                    <a:pt x="434" y="151"/>
                  </a:lnTo>
                  <a:lnTo>
                    <a:pt x="423" y="155"/>
                  </a:lnTo>
                  <a:lnTo>
                    <a:pt x="411" y="159"/>
                  </a:lnTo>
                  <a:lnTo>
                    <a:pt x="398" y="165"/>
                  </a:lnTo>
                  <a:lnTo>
                    <a:pt x="385" y="172"/>
                  </a:lnTo>
                  <a:lnTo>
                    <a:pt x="370" y="180"/>
                  </a:lnTo>
                  <a:lnTo>
                    <a:pt x="319" y="272"/>
                  </a:lnTo>
                  <a:lnTo>
                    <a:pt x="295" y="345"/>
                  </a:lnTo>
                  <a:lnTo>
                    <a:pt x="276" y="413"/>
                  </a:lnTo>
                  <a:lnTo>
                    <a:pt x="260" y="474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6080" y="3716280"/>
              <a:ext cx="363600" cy="392040"/>
            </a:xfrm>
            <a:custGeom>
              <a:avLst/>
              <a:gdLst/>
              <a:ahLst/>
              <a:rect l="l" t="t" r="r" b="b"/>
              <a:pathLst>
                <a:path w="1009" h="1087">
                  <a:moveTo>
                    <a:pt x="1008" y="815"/>
                  </a:moveTo>
                  <a:lnTo>
                    <a:pt x="951" y="878"/>
                  </a:lnTo>
                  <a:lnTo>
                    <a:pt x="898" y="934"/>
                  </a:lnTo>
                  <a:lnTo>
                    <a:pt x="850" y="980"/>
                  </a:lnTo>
                  <a:lnTo>
                    <a:pt x="804" y="1019"/>
                  </a:lnTo>
                  <a:lnTo>
                    <a:pt x="762" y="1049"/>
                  </a:lnTo>
                  <a:lnTo>
                    <a:pt x="742" y="1060"/>
                  </a:lnTo>
                  <a:lnTo>
                    <a:pt x="723" y="1069"/>
                  </a:lnTo>
                  <a:lnTo>
                    <a:pt x="705" y="1077"/>
                  </a:lnTo>
                  <a:lnTo>
                    <a:pt x="688" y="1082"/>
                  </a:lnTo>
                  <a:lnTo>
                    <a:pt x="672" y="1085"/>
                  </a:lnTo>
                  <a:lnTo>
                    <a:pt x="657" y="1086"/>
                  </a:lnTo>
                  <a:lnTo>
                    <a:pt x="652" y="1086"/>
                  </a:lnTo>
                  <a:lnTo>
                    <a:pt x="647" y="1085"/>
                  </a:lnTo>
                  <a:lnTo>
                    <a:pt x="642" y="1085"/>
                  </a:lnTo>
                  <a:lnTo>
                    <a:pt x="637" y="1084"/>
                  </a:lnTo>
                  <a:lnTo>
                    <a:pt x="633" y="1083"/>
                  </a:lnTo>
                  <a:lnTo>
                    <a:pt x="628" y="1081"/>
                  </a:lnTo>
                  <a:lnTo>
                    <a:pt x="623" y="1080"/>
                  </a:lnTo>
                  <a:lnTo>
                    <a:pt x="619" y="1078"/>
                  </a:lnTo>
                  <a:lnTo>
                    <a:pt x="614" y="1075"/>
                  </a:lnTo>
                  <a:lnTo>
                    <a:pt x="609" y="1072"/>
                  </a:lnTo>
                  <a:lnTo>
                    <a:pt x="601" y="1066"/>
                  </a:lnTo>
                  <a:lnTo>
                    <a:pt x="593" y="1059"/>
                  </a:lnTo>
                  <a:lnTo>
                    <a:pt x="584" y="1050"/>
                  </a:lnTo>
                  <a:lnTo>
                    <a:pt x="580" y="1046"/>
                  </a:lnTo>
                  <a:lnTo>
                    <a:pt x="576" y="1040"/>
                  </a:lnTo>
                  <a:lnTo>
                    <a:pt x="573" y="1035"/>
                  </a:lnTo>
                  <a:lnTo>
                    <a:pt x="570" y="1030"/>
                  </a:lnTo>
                  <a:lnTo>
                    <a:pt x="567" y="1024"/>
                  </a:lnTo>
                  <a:lnTo>
                    <a:pt x="564" y="1019"/>
                  </a:lnTo>
                  <a:lnTo>
                    <a:pt x="561" y="1013"/>
                  </a:lnTo>
                  <a:lnTo>
                    <a:pt x="559" y="1007"/>
                  </a:lnTo>
                  <a:lnTo>
                    <a:pt x="556" y="994"/>
                  </a:lnTo>
                  <a:lnTo>
                    <a:pt x="553" y="981"/>
                  </a:lnTo>
                  <a:lnTo>
                    <a:pt x="552" y="966"/>
                  </a:lnTo>
                  <a:lnTo>
                    <a:pt x="551" y="951"/>
                  </a:lnTo>
                  <a:lnTo>
                    <a:pt x="551" y="935"/>
                  </a:lnTo>
                  <a:lnTo>
                    <a:pt x="552" y="917"/>
                  </a:lnTo>
                  <a:lnTo>
                    <a:pt x="554" y="898"/>
                  </a:lnTo>
                  <a:lnTo>
                    <a:pt x="556" y="878"/>
                  </a:lnTo>
                  <a:lnTo>
                    <a:pt x="563" y="836"/>
                  </a:lnTo>
                  <a:lnTo>
                    <a:pt x="573" y="789"/>
                  </a:lnTo>
                  <a:lnTo>
                    <a:pt x="625" y="584"/>
                  </a:lnTo>
                  <a:lnTo>
                    <a:pt x="362" y="584"/>
                  </a:lnTo>
                  <a:lnTo>
                    <a:pt x="259" y="1046"/>
                  </a:lnTo>
                  <a:lnTo>
                    <a:pt x="53" y="1046"/>
                  </a:lnTo>
                  <a:lnTo>
                    <a:pt x="54" y="1035"/>
                  </a:lnTo>
                  <a:lnTo>
                    <a:pt x="56" y="1022"/>
                  </a:lnTo>
                  <a:lnTo>
                    <a:pt x="61" y="993"/>
                  </a:lnTo>
                  <a:lnTo>
                    <a:pt x="68" y="959"/>
                  </a:lnTo>
                  <a:lnTo>
                    <a:pt x="77" y="919"/>
                  </a:lnTo>
                  <a:lnTo>
                    <a:pt x="86" y="883"/>
                  </a:lnTo>
                  <a:lnTo>
                    <a:pt x="99" y="831"/>
                  </a:lnTo>
                  <a:lnTo>
                    <a:pt x="135" y="675"/>
                  </a:lnTo>
                  <a:lnTo>
                    <a:pt x="234" y="251"/>
                  </a:lnTo>
                  <a:lnTo>
                    <a:pt x="237" y="237"/>
                  </a:lnTo>
                  <a:lnTo>
                    <a:pt x="239" y="224"/>
                  </a:lnTo>
                  <a:lnTo>
                    <a:pt x="240" y="219"/>
                  </a:lnTo>
                  <a:lnTo>
                    <a:pt x="241" y="213"/>
                  </a:lnTo>
                  <a:lnTo>
                    <a:pt x="241" y="209"/>
                  </a:lnTo>
                  <a:lnTo>
                    <a:pt x="241" y="205"/>
                  </a:lnTo>
                  <a:lnTo>
                    <a:pt x="241" y="199"/>
                  </a:lnTo>
                  <a:lnTo>
                    <a:pt x="241" y="196"/>
                  </a:lnTo>
                  <a:lnTo>
                    <a:pt x="241" y="195"/>
                  </a:lnTo>
                  <a:lnTo>
                    <a:pt x="241" y="194"/>
                  </a:lnTo>
                  <a:lnTo>
                    <a:pt x="241" y="194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40" y="193"/>
                  </a:lnTo>
                  <a:lnTo>
                    <a:pt x="237" y="193"/>
                  </a:lnTo>
                  <a:lnTo>
                    <a:pt x="235" y="193"/>
                  </a:lnTo>
                  <a:lnTo>
                    <a:pt x="229" y="195"/>
                  </a:lnTo>
                  <a:lnTo>
                    <a:pt x="222" y="197"/>
                  </a:lnTo>
                  <a:lnTo>
                    <a:pt x="215" y="200"/>
                  </a:lnTo>
                  <a:lnTo>
                    <a:pt x="198" y="211"/>
                  </a:lnTo>
                  <a:lnTo>
                    <a:pt x="179" y="225"/>
                  </a:lnTo>
                  <a:lnTo>
                    <a:pt x="156" y="243"/>
                  </a:lnTo>
                  <a:lnTo>
                    <a:pt x="131" y="265"/>
                  </a:lnTo>
                  <a:lnTo>
                    <a:pt x="72" y="321"/>
                  </a:lnTo>
                  <a:lnTo>
                    <a:pt x="0" y="257"/>
                  </a:lnTo>
                  <a:lnTo>
                    <a:pt x="59" y="197"/>
                  </a:lnTo>
                  <a:lnTo>
                    <a:pt x="115" y="145"/>
                  </a:lnTo>
                  <a:lnTo>
                    <a:pt x="167" y="100"/>
                  </a:lnTo>
                  <a:lnTo>
                    <a:pt x="216" y="64"/>
                  </a:lnTo>
                  <a:lnTo>
                    <a:pt x="261" y="36"/>
                  </a:lnTo>
                  <a:lnTo>
                    <a:pt x="282" y="24"/>
                  </a:lnTo>
                  <a:lnTo>
                    <a:pt x="302" y="16"/>
                  </a:lnTo>
                  <a:lnTo>
                    <a:pt x="321" y="8"/>
                  </a:lnTo>
                  <a:lnTo>
                    <a:pt x="338" y="4"/>
                  </a:lnTo>
                  <a:lnTo>
                    <a:pt x="356" y="1"/>
                  </a:lnTo>
                  <a:lnTo>
                    <a:pt x="372" y="0"/>
                  </a:lnTo>
                  <a:lnTo>
                    <a:pt x="382" y="0"/>
                  </a:lnTo>
                  <a:lnTo>
                    <a:pt x="392" y="2"/>
                  </a:lnTo>
                  <a:lnTo>
                    <a:pt x="401" y="4"/>
                  </a:lnTo>
                  <a:lnTo>
                    <a:pt x="409" y="6"/>
                  </a:lnTo>
                  <a:lnTo>
                    <a:pt x="417" y="10"/>
                  </a:lnTo>
                  <a:lnTo>
                    <a:pt x="424" y="15"/>
                  </a:lnTo>
                  <a:lnTo>
                    <a:pt x="430" y="21"/>
                  </a:lnTo>
                  <a:lnTo>
                    <a:pt x="436" y="27"/>
                  </a:lnTo>
                  <a:lnTo>
                    <a:pt x="441" y="34"/>
                  </a:lnTo>
                  <a:lnTo>
                    <a:pt x="445" y="42"/>
                  </a:lnTo>
                  <a:lnTo>
                    <a:pt x="449" y="52"/>
                  </a:lnTo>
                  <a:lnTo>
                    <a:pt x="452" y="62"/>
                  </a:lnTo>
                  <a:lnTo>
                    <a:pt x="454" y="73"/>
                  </a:lnTo>
                  <a:lnTo>
                    <a:pt x="456" y="84"/>
                  </a:lnTo>
                  <a:lnTo>
                    <a:pt x="457" y="96"/>
                  </a:lnTo>
                  <a:lnTo>
                    <a:pt x="457" y="110"/>
                  </a:lnTo>
                  <a:lnTo>
                    <a:pt x="456" y="135"/>
                  </a:lnTo>
                  <a:lnTo>
                    <a:pt x="453" y="164"/>
                  </a:lnTo>
                  <a:lnTo>
                    <a:pt x="447" y="200"/>
                  </a:lnTo>
                  <a:lnTo>
                    <a:pt x="439" y="241"/>
                  </a:lnTo>
                  <a:lnTo>
                    <a:pt x="417" y="341"/>
                  </a:lnTo>
                  <a:lnTo>
                    <a:pt x="385" y="463"/>
                  </a:lnTo>
                  <a:lnTo>
                    <a:pt x="649" y="463"/>
                  </a:lnTo>
                  <a:lnTo>
                    <a:pt x="756" y="30"/>
                  </a:lnTo>
                  <a:lnTo>
                    <a:pt x="953" y="30"/>
                  </a:lnTo>
                  <a:lnTo>
                    <a:pt x="849" y="474"/>
                  </a:lnTo>
                  <a:lnTo>
                    <a:pt x="781" y="753"/>
                  </a:lnTo>
                  <a:lnTo>
                    <a:pt x="764" y="835"/>
                  </a:lnTo>
                  <a:lnTo>
                    <a:pt x="759" y="862"/>
                  </a:lnTo>
                  <a:lnTo>
                    <a:pt x="758" y="871"/>
                  </a:lnTo>
                  <a:lnTo>
                    <a:pt x="758" y="878"/>
                  </a:lnTo>
                  <a:lnTo>
                    <a:pt x="758" y="883"/>
                  </a:lnTo>
                  <a:lnTo>
                    <a:pt x="759" y="888"/>
                  </a:lnTo>
                  <a:lnTo>
                    <a:pt x="759" y="892"/>
                  </a:lnTo>
                  <a:lnTo>
                    <a:pt x="760" y="893"/>
                  </a:lnTo>
                  <a:lnTo>
                    <a:pt x="760" y="895"/>
                  </a:lnTo>
                  <a:lnTo>
                    <a:pt x="761" y="896"/>
                  </a:lnTo>
                  <a:lnTo>
                    <a:pt x="761" y="897"/>
                  </a:lnTo>
                  <a:lnTo>
                    <a:pt x="762" y="898"/>
                  </a:lnTo>
                  <a:lnTo>
                    <a:pt x="763" y="900"/>
                  </a:lnTo>
                  <a:lnTo>
                    <a:pt x="763" y="900"/>
                  </a:lnTo>
                  <a:lnTo>
                    <a:pt x="763" y="900"/>
                  </a:lnTo>
                  <a:lnTo>
                    <a:pt x="764" y="900"/>
                  </a:lnTo>
                  <a:lnTo>
                    <a:pt x="764" y="901"/>
                  </a:lnTo>
                  <a:lnTo>
                    <a:pt x="765" y="901"/>
                  </a:lnTo>
                  <a:lnTo>
                    <a:pt x="765" y="901"/>
                  </a:lnTo>
                  <a:lnTo>
                    <a:pt x="766" y="901"/>
                  </a:lnTo>
                  <a:lnTo>
                    <a:pt x="766" y="901"/>
                  </a:lnTo>
                  <a:lnTo>
                    <a:pt x="768" y="901"/>
                  </a:lnTo>
                  <a:lnTo>
                    <a:pt x="770" y="900"/>
                  </a:lnTo>
                  <a:lnTo>
                    <a:pt x="776" y="898"/>
                  </a:lnTo>
                  <a:lnTo>
                    <a:pt x="782" y="895"/>
                  </a:lnTo>
                  <a:lnTo>
                    <a:pt x="789" y="891"/>
                  </a:lnTo>
                  <a:lnTo>
                    <a:pt x="807" y="879"/>
                  </a:lnTo>
                  <a:lnTo>
                    <a:pt x="828" y="862"/>
                  </a:lnTo>
                  <a:lnTo>
                    <a:pt x="881" y="814"/>
                  </a:lnTo>
                  <a:lnTo>
                    <a:pt x="949" y="745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37320" y="3716280"/>
              <a:ext cx="363600" cy="392040"/>
            </a:xfrm>
            <a:custGeom>
              <a:avLst/>
              <a:gdLst/>
              <a:ahLst/>
              <a:rect l="l" t="t" r="r" b="b"/>
              <a:pathLst>
                <a:path w="1008" h="1087">
                  <a:moveTo>
                    <a:pt x="755" y="30"/>
                  </a:moveTo>
                  <a:lnTo>
                    <a:pt x="953" y="30"/>
                  </a:lnTo>
                  <a:lnTo>
                    <a:pt x="849" y="475"/>
                  </a:lnTo>
                  <a:lnTo>
                    <a:pt x="781" y="755"/>
                  </a:lnTo>
                  <a:lnTo>
                    <a:pt x="764" y="837"/>
                  </a:lnTo>
                  <a:lnTo>
                    <a:pt x="759" y="863"/>
                  </a:lnTo>
                  <a:lnTo>
                    <a:pt x="758" y="873"/>
                  </a:lnTo>
                  <a:lnTo>
                    <a:pt x="758" y="880"/>
                  </a:lnTo>
                  <a:lnTo>
                    <a:pt x="758" y="883"/>
                  </a:lnTo>
                  <a:lnTo>
                    <a:pt x="758" y="887"/>
                  </a:lnTo>
                  <a:lnTo>
                    <a:pt x="758" y="889"/>
                  </a:lnTo>
                  <a:lnTo>
                    <a:pt x="759" y="891"/>
                  </a:lnTo>
                  <a:lnTo>
                    <a:pt x="759" y="893"/>
                  </a:lnTo>
                  <a:lnTo>
                    <a:pt x="759" y="894"/>
                  </a:lnTo>
                  <a:lnTo>
                    <a:pt x="760" y="895"/>
                  </a:lnTo>
                  <a:lnTo>
                    <a:pt x="760" y="895"/>
                  </a:lnTo>
                  <a:lnTo>
                    <a:pt x="760" y="896"/>
                  </a:lnTo>
                  <a:lnTo>
                    <a:pt x="761" y="897"/>
                  </a:lnTo>
                  <a:lnTo>
                    <a:pt x="761" y="897"/>
                  </a:lnTo>
                  <a:lnTo>
                    <a:pt x="762" y="898"/>
                  </a:lnTo>
                  <a:lnTo>
                    <a:pt x="762" y="900"/>
                  </a:lnTo>
                  <a:lnTo>
                    <a:pt x="763" y="901"/>
                  </a:lnTo>
                  <a:lnTo>
                    <a:pt x="764" y="901"/>
                  </a:lnTo>
                  <a:lnTo>
                    <a:pt x="764" y="901"/>
                  </a:lnTo>
                  <a:lnTo>
                    <a:pt x="764" y="901"/>
                  </a:lnTo>
                  <a:lnTo>
                    <a:pt x="765" y="902"/>
                  </a:lnTo>
                  <a:lnTo>
                    <a:pt x="765" y="902"/>
                  </a:lnTo>
                  <a:lnTo>
                    <a:pt x="765" y="902"/>
                  </a:lnTo>
                  <a:lnTo>
                    <a:pt x="765" y="902"/>
                  </a:lnTo>
                  <a:lnTo>
                    <a:pt x="766" y="902"/>
                  </a:lnTo>
                  <a:lnTo>
                    <a:pt x="766" y="902"/>
                  </a:lnTo>
                  <a:lnTo>
                    <a:pt x="766" y="902"/>
                  </a:lnTo>
                  <a:lnTo>
                    <a:pt x="768" y="902"/>
                  </a:lnTo>
                  <a:lnTo>
                    <a:pt x="769" y="902"/>
                  </a:lnTo>
                  <a:lnTo>
                    <a:pt x="771" y="902"/>
                  </a:lnTo>
                  <a:lnTo>
                    <a:pt x="773" y="901"/>
                  </a:lnTo>
                  <a:lnTo>
                    <a:pt x="776" y="900"/>
                  </a:lnTo>
                  <a:lnTo>
                    <a:pt x="780" y="898"/>
                  </a:lnTo>
                  <a:lnTo>
                    <a:pt x="783" y="897"/>
                  </a:lnTo>
                  <a:lnTo>
                    <a:pt x="787" y="895"/>
                  </a:lnTo>
                  <a:lnTo>
                    <a:pt x="791" y="892"/>
                  </a:lnTo>
                  <a:lnTo>
                    <a:pt x="795" y="890"/>
                  </a:lnTo>
                  <a:lnTo>
                    <a:pt x="818" y="871"/>
                  </a:lnTo>
                  <a:lnTo>
                    <a:pt x="852" y="840"/>
                  </a:lnTo>
                  <a:lnTo>
                    <a:pt x="948" y="747"/>
                  </a:lnTo>
                  <a:lnTo>
                    <a:pt x="1007" y="816"/>
                  </a:lnTo>
                  <a:lnTo>
                    <a:pt x="950" y="879"/>
                  </a:lnTo>
                  <a:lnTo>
                    <a:pt x="898" y="934"/>
                  </a:lnTo>
                  <a:lnTo>
                    <a:pt x="849" y="981"/>
                  </a:lnTo>
                  <a:lnTo>
                    <a:pt x="803" y="1019"/>
                  </a:lnTo>
                  <a:lnTo>
                    <a:pt x="761" y="1049"/>
                  </a:lnTo>
                  <a:lnTo>
                    <a:pt x="742" y="1060"/>
                  </a:lnTo>
                  <a:lnTo>
                    <a:pt x="723" y="1069"/>
                  </a:lnTo>
                  <a:lnTo>
                    <a:pt x="706" y="1077"/>
                  </a:lnTo>
                  <a:lnTo>
                    <a:pt x="689" y="1082"/>
                  </a:lnTo>
                  <a:lnTo>
                    <a:pt x="673" y="1085"/>
                  </a:lnTo>
                  <a:lnTo>
                    <a:pt x="659" y="1086"/>
                  </a:lnTo>
                  <a:lnTo>
                    <a:pt x="648" y="1085"/>
                  </a:lnTo>
                  <a:lnTo>
                    <a:pt x="637" y="1084"/>
                  </a:lnTo>
                  <a:lnTo>
                    <a:pt x="632" y="1083"/>
                  </a:lnTo>
                  <a:lnTo>
                    <a:pt x="627" y="1081"/>
                  </a:lnTo>
                  <a:lnTo>
                    <a:pt x="622" y="1080"/>
                  </a:lnTo>
                  <a:lnTo>
                    <a:pt x="617" y="1078"/>
                  </a:lnTo>
                  <a:lnTo>
                    <a:pt x="612" y="1076"/>
                  </a:lnTo>
                  <a:lnTo>
                    <a:pt x="607" y="1072"/>
                  </a:lnTo>
                  <a:lnTo>
                    <a:pt x="603" y="1069"/>
                  </a:lnTo>
                  <a:lnTo>
                    <a:pt x="599" y="1066"/>
                  </a:lnTo>
                  <a:lnTo>
                    <a:pt x="590" y="1060"/>
                  </a:lnTo>
                  <a:lnTo>
                    <a:pt x="582" y="1051"/>
                  </a:lnTo>
                  <a:lnTo>
                    <a:pt x="575" y="1041"/>
                  </a:lnTo>
                  <a:lnTo>
                    <a:pt x="569" y="1031"/>
                  </a:lnTo>
                  <a:lnTo>
                    <a:pt x="563" y="1020"/>
                  </a:lnTo>
                  <a:lnTo>
                    <a:pt x="559" y="1008"/>
                  </a:lnTo>
                  <a:lnTo>
                    <a:pt x="556" y="995"/>
                  </a:lnTo>
                  <a:lnTo>
                    <a:pt x="553" y="981"/>
                  </a:lnTo>
                  <a:lnTo>
                    <a:pt x="552" y="966"/>
                  </a:lnTo>
                  <a:lnTo>
                    <a:pt x="551" y="951"/>
                  </a:lnTo>
                  <a:lnTo>
                    <a:pt x="551" y="934"/>
                  </a:lnTo>
                  <a:lnTo>
                    <a:pt x="553" y="918"/>
                  </a:lnTo>
                  <a:lnTo>
                    <a:pt x="555" y="901"/>
                  </a:lnTo>
                  <a:lnTo>
                    <a:pt x="558" y="882"/>
                  </a:lnTo>
                  <a:lnTo>
                    <a:pt x="561" y="865"/>
                  </a:lnTo>
                  <a:lnTo>
                    <a:pt x="565" y="847"/>
                  </a:lnTo>
                  <a:lnTo>
                    <a:pt x="570" y="829"/>
                  </a:lnTo>
                  <a:lnTo>
                    <a:pt x="576" y="810"/>
                  </a:lnTo>
                  <a:lnTo>
                    <a:pt x="560" y="839"/>
                  </a:lnTo>
                  <a:lnTo>
                    <a:pt x="540" y="867"/>
                  </a:lnTo>
                  <a:lnTo>
                    <a:pt x="518" y="894"/>
                  </a:lnTo>
                  <a:lnTo>
                    <a:pt x="494" y="921"/>
                  </a:lnTo>
                  <a:lnTo>
                    <a:pt x="466" y="947"/>
                  </a:lnTo>
                  <a:lnTo>
                    <a:pt x="436" y="972"/>
                  </a:lnTo>
                  <a:lnTo>
                    <a:pt x="403" y="996"/>
                  </a:lnTo>
                  <a:lnTo>
                    <a:pt x="368" y="1020"/>
                  </a:lnTo>
                  <a:lnTo>
                    <a:pt x="343" y="1035"/>
                  </a:lnTo>
                  <a:lnTo>
                    <a:pt x="319" y="1048"/>
                  </a:lnTo>
                  <a:lnTo>
                    <a:pt x="296" y="1059"/>
                  </a:lnTo>
                  <a:lnTo>
                    <a:pt x="273" y="1067"/>
                  </a:lnTo>
                  <a:lnTo>
                    <a:pt x="252" y="1075"/>
                  </a:lnTo>
                  <a:lnTo>
                    <a:pt x="230" y="1079"/>
                  </a:lnTo>
                  <a:lnTo>
                    <a:pt x="210" y="1082"/>
                  </a:lnTo>
                  <a:lnTo>
                    <a:pt x="190" y="1083"/>
                  </a:lnTo>
                  <a:lnTo>
                    <a:pt x="178" y="1082"/>
                  </a:lnTo>
                  <a:lnTo>
                    <a:pt x="167" y="1081"/>
                  </a:lnTo>
                  <a:lnTo>
                    <a:pt x="161" y="1080"/>
                  </a:lnTo>
                  <a:lnTo>
                    <a:pt x="156" y="1078"/>
                  </a:lnTo>
                  <a:lnTo>
                    <a:pt x="151" y="1077"/>
                  </a:lnTo>
                  <a:lnTo>
                    <a:pt x="146" y="1075"/>
                  </a:lnTo>
                  <a:lnTo>
                    <a:pt x="141" y="1072"/>
                  </a:lnTo>
                  <a:lnTo>
                    <a:pt x="137" y="1069"/>
                  </a:lnTo>
                  <a:lnTo>
                    <a:pt x="132" y="1067"/>
                  </a:lnTo>
                  <a:lnTo>
                    <a:pt x="128" y="1064"/>
                  </a:lnTo>
                  <a:lnTo>
                    <a:pt x="124" y="1061"/>
                  </a:lnTo>
                  <a:lnTo>
                    <a:pt x="120" y="1056"/>
                  </a:lnTo>
                  <a:lnTo>
                    <a:pt x="116" y="1053"/>
                  </a:lnTo>
                  <a:lnTo>
                    <a:pt x="113" y="1049"/>
                  </a:lnTo>
                  <a:lnTo>
                    <a:pt x="110" y="1045"/>
                  </a:lnTo>
                  <a:lnTo>
                    <a:pt x="106" y="1039"/>
                  </a:lnTo>
                  <a:lnTo>
                    <a:pt x="104" y="1035"/>
                  </a:lnTo>
                  <a:lnTo>
                    <a:pt x="102" y="1030"/>
                  </a:lnTo>
                  <a:lnTo>
                    <a:pt x="99" y="1023"/>
                  </a:lnTo>
                  <a:lnTo>
                    <a:pt x="97" y="1018"/>
                  </a:lnTo>
                  <a:lnTo>
                    <a:pt x="93" y="1005"/>
                  </a:lnTo>
                  <a:lnTo>
                    <a:pt x="90" y="992"/>
                  </a:lnTo>
                  <a:lnTo>
                    <a:pt x="88" y="977"/>
                  </a:lnTo>
                  <a:lnTo>
                    <a:pt x="86" y="962"/>
                  </a:lnTo>
                  <a:lnTo>
                    <a:pt x="86" y="945"/>
                  </a:lnTo>
                  <a:lnTo>
                    <a:pt x="87" y="920"/>
                  </a:lnTo>
                  <a:lnTo>
                    <a:pt x="88" y="894"/>
                  </a:lnTo>
                  <a:lnTo>
                    <a:pt x="91" y="868"/>
                  </a:lnTo>
                  <a:lnTo>
                    <a:pt x="96" y="840"/>
                  </a:lnTo>
                  <a:lnTo>
                    <a:pt x="106" y="793"/>
                  </a:lnTo>
                  <a:lnTo>
                    <a:pt x="121" y="727"/>
                  </a:lnTo>
                  <a:lnTo>
                    <a:pt x="168" y="539"/>
                  </a:lnTo>
                  <a:lnTo>
                    <a:pt x="200" y="411"/>
                  </a:lnTo>
                  <a:lnTo>
                    <a:pt x="223" y="313"/>
                  </a:lnTo>
                  <a:lnTo>
                    <a:pt x="236" y="243"/>
                  </a:lnTo>
                  <a:lnTo>
                    <a:pt x="240" y="220"/>
                  </a:lnTo>
                  <a:lnTo>
                    <a:pt x="241" y="210"/>
                  </a:lnTo>
                  <a:lnTo>
                    <a:pt x="241" y="203"/>
                  </a:lnTo>
                  <a:lnTo>
                    <a:pt x="241" y="198"/>
                  </a:lnTo>
                  <a:lnTo>
                    <a:pt x="241" y="197"/>
                  </a:lnTo>
                  <a:lnTo>
                    <a:pt x="241" y="195"/>
                  </a:lnTo>
                  <a:lnTo>
                    <a:pt x="241" y="194"/>
                  </a:lnTo>
                  <a:lnTo>
                    <a:pt x="241" y="194"/>
                  </a:lnTo>
                  <a:lnTo>
                    <a:pt x="241" y="194"/>
                  </a:lnTo>
                  <a:lnTo>
                    <a:pt x="241" y="193"/>
                  </a:lnTo>
                  <a:lnTo>
                    <a:pt x="242" y="193"/>
                  </a:lnTo>
                  <a:lnTo>
                    <a:pt x="242" y="193"/>
                  </a:lnTo>
                  <a:lnTo>
                    <a:pt x="242" y="193"/>
                  </a:lnTo>
                  <a:lnTo>
                    <a:pt x="242" y="193"/>
                  </a:lnTo>
                  <a:lnTo>
                    <a:pt x="242" y="193"/>
                  </a:lnTo>
                  <a:lnTo>
                    <a:pt x="242" y="193"/>
                  </a:lnTo>
                  <a:lnTo>
                    <a:pt x="242" y="193"/>
                  </a:lnTo>
                  <a:lnTo>
                    <a:pt x="240" y="193"/>
                  </a:lnTo>
                  <a:lnTo>
                    <a:pt x="238" y="193"/>
                  </a:lnTo>
                  <a:lnTo>
                    <a:pt x="236" y="194"/>
                  </a:lnTo>
                  <a:lnTo>
                    <a:pt x="234" y="194"/>
                  </a:lnTo>
                  <a:lnTo>
                    <a:pt x="229" y="196"/>
                  </a:lnTo>
                  <a:lnTo>
                    <a:pt x="224" y="198"/>
                  </a:lnTo>
                  <a:lnTo>
                    <a:pt x="218" y="200"/>
                  </a:lnTo>
                  <a:lnTo>
                    <a:pt x="212" y="205"/>
                  </a:lnTo>
                  <a:lnTo>
                    <a:pt x="205" y="208"/>
                  </a:lnTo>
                  <a:lnTo>
                    <a:pt x="198" y="213"/>
                  </a:lnTo>
                  <a:lnTo>
                    <a:pt x="189" y="219"/>
                  </a:lnTo>
                  <a:lnTo>
                    <a:pt x="178" y="227"/>
                  </a:lnTo>
                  <a:lnTo>
                    <a:pt x="151" y="250"/>
                  </a:lnTo>
                  <a:lnTo>
                    <a:pt x="115" y="281"/>
                  </a:lnTo>
                  <a:lnTo>
                    <a:pt x="72" y="321"/>
                  </a:lnTo>
                  <a:lnTo>
                    <a:pt x="0" y="256"/>
                  </a:lnTo>
                  <a:lnTo>
                    <a:pt x="74" y="181"/>
                  </a:lnTo>
                  <a:lnTo>
                    <a:pt x="138" y="122"/>
                  </a:lnTo>
                  <a:lnTo>
                    <a:pt x="167" y="97"/>
                  </a:lnTo>
                  <a:lnTo>
                    <a:pt x="193" y="77"/>
                  </a:lnTo>
                  <a:lnTo>
                    <a:pt x="217" y="60"/>
                  </a:lnTo>
                  <a:lnTo>
                    <a:pt x="239" y="46"/>
                  </a:lnTo>
                  <a:lnTo>
                    <a:pt x="259" y="35"/>
                  </a:lnTo>
                  <a:lnTo>
                    <a:pt x="278" y="25"/>
                  </a:lnTo>
                  <a:lnTo>
                    <a:pt x="296" y="18"/>
                  </a:lnTo>
                  <a:lnTo>
                    <a:pt x="313" y="11"/>
                  </a:lnTo>
                  <a:lnTo>
                    <a:pt x="329" y="6"/>
                  </a:lnTo>
                  <a:lnTo>
                    <a:pt x="345" y="3"/>
                  </a:lnTo>
                  <a:lnTo>
                    <a:pt x="359" y="1"/>
                  </a:lnTo>
                  <a:lnTo>
                    <a:pt x="373" y="0"/>
                  </a:lnTo>
                  <a:lnTo>
                    <a:pt x="382" y="0"/>
                  </a:lnTo>
                  <a:lnTo>
                    <a:pt x="387" y="1"/>
                  </a:lnTo>
                  <a:lnTo>
                    <a:pt x="390" y="2"/>
                  </a:lnTo>
                  <a:lnTo>
                    <a:pt x="394" y="3"/>
                  </a:lnTo>
                  <a:lnTo>
                    <a:pt x="398" y="4"/>
                  </a:lnTo>
                  <a:lnTo>
                    <a:pt x="402" y="5"/>
                  </a:lnTo>
                  <a:lnTo>
                    <a:pt x="406" y="7"/>
                  </a:lnTo>
                  <a:lnTo>
                    <a:pt x="410" y="9"/>
                  </a:lnTo>
                  <a:lnTo>
                    <a:pt x="413" y="11"/>
                  </a:lnTo>
                  <a:lnTo>
                    <a:pt x="417" y="13"/>
                  </a:lnTo>
                  <a:lnTo>
                    <a:pt x="420" y="16"/>
                  </a:lnTo>
                  <a:lnTo>
                    <a:pt x="424" y="19"/>
                  </a:lnTo>
                  <a:lnTo>
                    <a:pt x="427" y="22"/>
                  </a:lnTo>
                  <a:lnTo>
                    <a:pt x="433" y="29"/>
                  </a:lnTo>
                  <a:lnTo>
                    <a:pt x="436" y="32"/>
                  </a:lnTo>
                  <a:lnTo>
                    <a:pt x="438" y="36"/>
                  </a:lnTo>
                  <a:lnTo>
                    <a:pt x="441" y="40"/>
                  </a:lnTo>
                  <a:lnTo>
                    <a:pt x="443" y="45"/>
                  </a:lnTo>
                  <a:lnTo>
                    <a:pt x="447" y="53"/>
                  </a:lnTo>
                  <a:lnTo>
                    <a:pt x="450" y="63"/>
                  </a:lnTo>
                  <a:lnTo>
                    <a:pt x="453" y="74"/>
                  </a:lnTo>
                  <a:lnTo>
                    <a:pt x="455" y="84"/>
                  </a:lnTo>
                  <a:lnTo>
                    <a:pt x="456" y="96"/>
                  </a:lnTo>
                  <a:lnTo>
                    <a:pt x="456" y="109"/>
                  </a:lnTo>
                  <a:lnTo>
                    <a:pt x="455" y="134"/>
                  </a:lnTo>
                  <a:lnTo>
                    <a:pt x="451" y="166"/>
                  </a:lnTo>
                  <a:lnTo>
                    <a:pt x="436" y="253"/>
                  </a:lnTo>
                  <a:lnTo>
                    <a:pt x="410" y="371"/>
                  </a:lnTo>
                  <a:lnTo>
                    <a:pt x="376" y="518"/>
                  </a:lnTo>
                  <a:lnTo>
                    <a:pt x="324" y="741"/>
                  </a:lnTo>
                  <a:lnTo>
                    <a:pt x="311" y="806"/>
                  </a:lnTo>
                  <a:lnTo>
                    <a:pt x="308" y="828"/>
                  </a:lnTo>
                  <a:lnTo>
                    <a:pt x="307" y="835"/>
                  </a:lnTo>
                  <a:lnTo>
                    <a:pt x="307" y="840"/>
                  </a:lnTo>
                  <a:lnTo>
                    <a:pt x="307" y="845"/>
                  </a:lnTo>
                  <a:lnTo>
                    <a:pt x="307" y="849"/>
                  </a:lnTo>
                  <a:lnTo>
                    <a:pt x="308" y="852"/>
                  </a:lnTo>
                  <a:lnTo>
                    <a:pt x="309" y="856"/>
                  </a:lnTo>
                  <a:lnTo>
                    <a:pt x="309" y="858"/>
                  </a:lnTo>
                  <a:lnTo>
                    <a:pt x="310" y="859"/>
                  </a:lnTo>
                  <a:lnTo>
                    <a:pt x="310" y="861"/>
                  </a:lnTo>
                  <a:lnTo>
                    <a:pt x="311" y="862"/>
                  </a:lnTo>
                  <a:lnTo>
                    <a:pt x="312" y="863"/>
                  </a:lnTo>
                  <a:lnTo>
                    <a:pt x="313" y="865"/>
                  </a:lnTo>
                  <a:lnTo>
                    <a:pt x="314" y="866"/>
                  </a:lnTo>
                  <a:lnTo>
                    <a:pt x="315" y="867"/>
                  </a:lnTo>
                  <a:lnTo>
                    <a:pt x="317" y="869"/>
                  </a:lnTo>
                  <a:lnTo>
                    <a:pt x="319" y="872"/>
                  </a:lnTo>
                  <a:lnTo>
                    <a:pt x="321" y="873"/>
                  </a:lnTo>
                  <a:lnTo>
                    <a:pt x="323" y="875"/>
                  </a:lnTo>
                  <a:lnTo>
                    <a:pt x="324" y="875"/>
                  </a:lnTo>
                  <a:lnTo>
                    <a:pt x="325" y="876"/>
                  </a:lnTo>
                  <a:lnTo>
                    <a:pt x="326" y="876"/>
                  </a:lnTo>
                  <a:lnTo>
                    <a:pt x="327" y="876"/>
                  </a:lnTo>
                  <a:lnTo>
                    <a:pt x="328" y="877"/>
                  </a:lnTo>
                  <a:lnTo>
                    <a:pt x="328" y="877"/>
                  </a:lnTo>
                  <a:lnTo>
                    <a:pt x="329" y="877"/>
                  </a:lnTo>
                  <a:lnTo>
                    <a:pt x="330" y="877"/>
                  </a:lnTo>
                  <a:lnTo>
                    <a:pt x="337" y="877"/>
                  </a:lnTo>
                  <a:lnTo>
                    <a:pt x="344" y="875"/>
                  </a:lnTo>
                  <a:lnTo>
                    <a:pt x="352" y="874"/>
                  </a:lnTo>
                  <a:lnTo>
                    <a:pt x="360" y="871"/>
                  </a:lnTo>
                  <a:lnTo>
                    <a:pt x="369" y="867"/>
                  </a:lnTo>
                  <a:lnTo>
                    <a:pt x="378" y="862"/>
                  </a:lnTo>
                  <a:lnTo>
                    <a:pt x="396" y="851"/>
                  </a:lnTo>
                  <a:lnTo>
                    <a:pt x="417" y="836"/>
                  </a:lnTo>
                  <a:lnTo>
                    <a:pt x="440" y="819"/>
                  </a:lnTo>
                  <a:lnTo>
                    <a:pt x="464" y="798"/>
                  </a:lnTo>
                  <a:lnTo>
                    <a:pt x="490" y="773"/>
                  </a:lnTo>
                  <a:lnTo>
                    <a:pt x="516" y="746"/>
                  </a:lnTo>
                  <a:lnTo>
                    <a:pt x="539" y="719"/>
                  </a:lnTo>
                  <a:lnTo>
                    <a:pt x="560" y="690"/>
                  </a:lnTo>
                  <a:lnTo>
                    <a:pt x="579" y="661"/>
                  </a:lnTo>
                  <a:lnTo>
                    <a:pt x="596" y="631"/>
                  </a:lnTo>
                  <a:lnTo>
                    <a:pt x="610" y="600"/>
                  </a:lnTo>
                  <a:lnTo>
                    <a:pt x="622" y="569"/>
                  </a:lnTo>
                  <a:lnTo>
                    <a:pt x="631" y="535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8200" y="3567240"/>
              <a:ext cx="363600" cy="539640"/>
            </a:xfrm>
            <a:custGeom>
              <a:avLst/>
              <a:gdLst/>
              <a:ahLst/>
              <a:rect l="l" t="t" r="r" b="b"/>
              <a:pathLst>
                <a:path w="1009" h="1499">
                  <a:moveTo>
                    <a:pt x="755" y="442"/>
                  </a:moveTo>
                  <a:lnTo>
                    <a:pt x="954" y="442"/>
                  </a:lnTo>
                  <a:lnTo>
                    <a:pt x="849" y="887"/>
                  </a:lnTo>
                  <a:lnTo>
                    <a:pt x="781" y="1167"/>
                  </a:lnTo>
                  <a:lnTo>
                    <a:pt x="764" y="1249"/>
                  </a:lnTo>
                  <a:lnTo>
                    <a:pt x="759" y="1275"/>
                  </a:lnTo>
                  <a:lnTo>
                    <a:pt x="758" y="1285"/>
                  </a:lnTo>
                  <a:lnTo>
                    <a:pt x="758" y="1292"/>
                  </a:lnTo>
                  <a:lnTo>
                    <a:pt x="758" y="1295"/>
                  </a:lnTo>
                  <a:lnTo>
                    <a:pt x="758" y="1299"/>
                  </a:lnTo>
                  <a:lnTo>
                    <a:pt x="758" y="1301"/>
                  </a:lnTo>
                  <a:lnTo>
                    <a:pt x="759" y="1303"/>
                  </a:lnTo>
                  <a:lnTo>
                    <a:pt x="759" y="1305"/>
                  </a:lnTo>
                  <a:lnTo>
                    <a:pt x="759" y="1306"/>
                  </a:lnTo>
                  <a:lnTo>
                    <a:pt x="760" y="1307"/>
                  </a:lnTo>
                  <a:lnTo>
                    <a:pt x="760" y="1307"/>
                  </a:lnTo>
                  <a:lnTo>
                    <a:pt x="760" y="1308"/>
                  </a:lnTo>
                  <a:lnTo>
                    <a:pt x="761" y="1309"/>
                  </a:lnTo>
                  <a:lnTo>
                    <a:pt x="761" y="1309"/>
                  </a:lnTo>
                  <a:lnTo>
                    <a:pt x="762" y="1310"/>
                  </a:lnTo>
                  <a:lnTo>
                    <a:pt x="762" y="1312"/>
                  </a:lnTo>
                  <a:lnTo>
                    <a:pt x="763" y="1313"/>
                  </a:lnTo>
                  <a:lnTo>
                    <a:pt x="764" y="1313"/>
                  </a:lnTo>
                  <a:lnTo>
                    <a:pt x="764" y="1313"/>
                  </a:lnTo>
                  <a:lnTo>
                    <a:pt x="764" y="1313"/>
                  </a:lnTo>
                  <a:lnTo>
                    <a:pt x="765" y="1314"/>
                  </a:lnTo>
                  <a:lnTo>
                    <a:pt x="765" y="1314"/>
                  </a:lnTo>
                  <a:lnTo>
                    <a:pt x="765" y="1314"/>
                  </a:lnTo>
                  <a:lnTo>
                    <a:pt x="765" y="1314"/>
                  </a:lnTo>
                  <a:lnTo>
                    <a:pt x="766" y="1314"/>
                  </a:lnTo>
                  <a:lnTo>
                    <a:pt x="766" y="1314"/>
                  </a:lnTo>
                  <a:lnTo>
                    <a:pt x="766" y="1314"/>
                  </a:lnTo>
                  <a:lnTo>
                    <a:pt x="768" y="1314"/>
                  </a:lnTo>
                  <a:lnTo>
                    <a:pt x="769" y="1314"/>
                  </a:lnTo>
                  <a:lnTo>
                    <a:pt x="771" y="1314"/>
                  </a:lnTo>
                  <a:lnTo>
                    <a:pt x="773" y="1313"/>
                  </a:lnTo>
                  <a:lnTo>
                    <a:pt x="776" y="1312"/>
                  </a:lnTo>
                  <a:lnTo>
                    <a:pt x="780" y="1310"/>
                  </a:lnTo>
                  <a:lnTo>
                    <a:pt x="783" y="1309"/>
                  </a:lnTo>
                  <a:lnTo>
                    <a:pt x="787" y="1307"/>
                  </a:lnTo>
                  <a:lnTo>
                    <a:pt x="791" y="1304"/>
                  </a:lnTo>
                  <a:lnTo>
                    <a:pt x="795" y="1302"/>
                  </a:lnTo>
                  <a:lnTo>
                    <a:pt x="818" y="1283"/>
                  </a:lnTo>
                  <a:lnTo>
                    <a:pt x="852" y="1252"/>
                  </a:lnTo>
                  <a:lnTo>
                    <a:pt x="949" y="1159"/>
                  </a:lnTo>
                  <a:lnTo>
                    <a:pt x="1008" y="1228"/>
                  </a:lnTo>
                  <a:lnTo>
                    <a:pt x="951" y="1291"/>
                  </a:lnTo>
                  <a:lnTo>
                    <a:pt x="898" y="1346"/>
                  </a:lnTo>
                  <a:lnTo>
                    <a:pt x="849" y="1393"/>
                  </a:lnTo>
                  <a:lnTo>
                    <a:pt x="803" y="1431"/>
                  </a:lnTo>
                  <a:lnTo>
                    <a:pt x="761" y="1461"/>
                  </a:lnTo>
                  <a:lnTo>
                    <a:pt x="742" y="1472"/>
                  </a:lnTo>
                  <a:lnTo>
                    <a:pt x="724" y="1481"/>
                  </a:lnTo>
                  <a:lnTo>
                    <a:pt x="707" y="1489"/>
                  </a:lnTo>
                  <a:lnTo>
                    <a:pt x="690" y="1494"/>
                  </a:lnTo>
                  <a:lnTo>
                    <a:pt x="674" y="1497"/>
                  </a:lnTo>
                  <a:lnTo>
                    <a:pt x="659" y="1498"/>
                  </a:lnTo>
                  <a:lnTo>
                    <a:pt x="648" y="1497"/>
                  </a:lnTo>
                  <a:lnTo>
                    <a:pt x="637" y="1496"/>
                  </a:lnTo>
                  <a:lnTo>
                    <a:pt x="632" y="1495"/>
                  </a:lnTo>
                  <a:lnTo>
                    <a:pt x="627" y="1493"/>
                  </a:lnTo>
                  <a:lnTo>
                    <a:pt x="622" y="1492"/>
                  </a:lnTo>
                  <a:lnTo>
                    <a:pt x="617" y="1490"/>
                  </a:lnTo>
                  <a:lnTo>
                    <a:pt x="612" y="1488"/>
                  </a:lnTo>
                  <a:lnTo>
                    <a:pt x="607" y="1484"/>
                  </a:lnTo>
                  <a:lnTo>
                    <a:pt x="603" y="1481"/>
                  </a:lnTo>
                  <a:lnTo>
                    <a:pt x="599" y="1478"/>
                  </a:lnTo>
                  <a:lnTo>
                    <a:pt x="590" y="1472"/>
                  </a:lnTo>
                  <a:lnTo>
                    <a:pt x="582" y="1463"/>
                  </a:lnTo>
                  <a:lnTo>
                    <a:pt x="575" y="1453"/>
                  </a:lnTo>
                  <a:lnTo>
                    <a:pt x="569" y="1443"/>
                  </a:lnTo>
                  <a:lnTo>
                    <a:pt x="563" y="1432"/>
                  </a:lnTo>
                  <a:lnTo>
                    <a:pt x="559" y="1420"/>
                  </a:lnTo>
                  <a:lnTo>
                    <a:pt x="556" y="1407"/>
                  </a:lnTo>
                  <a:lnTo>
                    <a:pt x="553" y="1393"/>
                  </a:lnTo>
                  <a:lnTo>
                    <a:pt x="552" y="1378"/>
                  </a:lnTo>
                  <a:lnTo>
                    <a:pt x="551" y="1363"/>
                  </a:lnTo>
                  <a:lnTo>
                    <a:pt x="551" y="1346"/>
                  </a:lnTo>
                  <a:lnTo>
                    <a:pt x="553" y="1330"/>
                  </a:lnTo>
                  <a:lnTo>
                    <a:pt x="555" y="1313"/>
                  </a:lnTo>
                  <a:lnTo>
                    <a:pt x="558" y="1294"/>
                  </a:lnTo>
                  <a:lnTo>
                    <a:pt x="561" y="1277"/>
                  </a:lnTo>
                  <a:lnTo>
                    <a:pt x="565" y="1259"/>
                  </a:lnTo>
                  <a:lnTo>
                    <a:pt x="570" y="1241"/>
                  </a:lnTo>
                  <a:lnTo>
                    <a:pt x="576" y="1222"/>
                  </a:lnTo>
                  <a:lnTo>
                    <a:pt x="560" y="1251"/>
                  </a:lnTo>
                  <a:lnTo>
                    <a:pt x="540" y="1279"/>
                  </a:lnTo>
                  <a:lnTo>
                    <a:pt x="518" y="1306"/>
                  </a:lnTo>
                  <a:lnTo>
                    <a:pt x="494" y="1333"/>
                  </a:lnTo>
                  <a:lnTo>
                    <a:pt x="466" y="1359"/>
                  </a:lnTo>
                  <a:lnTo>
                    <a:pt x="437" y="1384"/>
                  </a:lnTo>
                  <a:lnTo>
                    <a:pt x="404" y="1408"/>
                  </a:lnTo>
                  <a:lnTo>
                    <a:pt x="368" y="1432"/>
                  </a:lnTo>
                  <a:lnTo>
                    <a:pt x="343" y="1447"/>
                  </a:lnTo>
                  <a:lnTo>
                    <a:pt x="319" y="1460"/>
                  </a:lnTo>
                  <a:lnTo>
                    <a:pt x="296" y="1471"/>
                  </a:lnTo>
                  <a:lnTo>
                    <a:pt x="273" y="1479"/>
                  </a:lnTo>
                  <a:lnTo>
                    <a:pt x="252" y="1487"/>
                  </a:lnTo>
                  <a:lnTo>
                    <a:pt x="230" y="1491"/>
                  </a:lnTo>
                  <a:lnTo>
                    <a:pt x="210" y="1494"/>
                  </a:lnTo>
                  <a:lnTo>
                    <a:pt x="190" y="1495"/>
                  </a:lnTo>
                  <a:lnTo>
                    <a:pt x="178" y="1494"/>
                  </a:lnTo>
                  <a:lnTo>
                    <a:pt x="168" y="1493"/>
                  </a:lnTo>
                  <a:lnTo>
                    <a:pt x="162" y="1492"/>
                  </a:lnTo>
                  <a:lnTo>
                    <a:pt x="157" y="1490"/>
                  </a:lnTo>
                  <a:lnTo>
                    <a:pt x="152" y="1489"/>
                  </a:lnTo>
                  <a:lnTo>
                    <a:pt x="147" y="1487"/>
                  </a:lnTo>
                  <a:lnTo>
                    <a:pt x="142" y="1484"/>
                  </a:lnTo>
                  <a:lnTo>
                    <a:pt x="138" y="1481"/>
                  </a:lnTo>
                  <a:lnTo>
                    <a:pt x="133" y="1479"/>
                  </a:lnTo>
                  <a:lnTo>
                    <a:pt x="129" y="1476"/>
                  </a:lnTo>
                  <a:lnTo>
                    <a:pt x="125" y="1473"/>
                  </a:lnTo>
                  <a:lnTo>
                    <a:pt x="121" y="1468"/>
                  </a:lnTo>
                  <a:lnTo>
                    <a:pt x="117" y="1465"/>
                  </a:lnTo>
                  <a:lnTo>
                    <a:pt x="114" y="1461"/>
                  </a:lnTo>
                  <a:lnTo>
                    <a:pt x="111" y="1457"/>
                  </a:lnTo>
                  <a:lnTo>
                    <a:pt x="107" y="1451"/>
                  </a:lnTo>
                  <a:lnTo>
                    <a:pt x="104" y="1447"/>
                  </a:lnTo>
                  <a:lnTo>
                    <a:pt x="102" y="1442"/>
                  </a:lnTo>
                  <a:lnTo>
                    <a:pt x="99" y="1435"/>
                  </a:lnTo>
                  <a:lnTo>
                    <a:pt x="97" y="1430"/>
                  </a:lnTo>
                  <a:lnTo>
                    <a:pt x="93" y="1417"/>
                  </a:lnTo>
                  <a:lnTo>
                    <a:pt x="90" y="1404"/>
                  </a:lnTo>
                  <a:lnTo>
                    <a:pt x="88" y="1389"/>
                  </a:lnTo>
                  <a:lnTo>
                    <a:pt x="86" y="1374"/>
                  </a:lnTo>
                  <a:lnTo>
                    <a:pt x="86" y="1357"/>
                  </a:lnTo>
                  <a:lnTo>
                    <a:pt x="87" y="1332"/>
                  </a:lnTo>
                  <a:lnTo>
                    <a:pt x="88" y="1306"/>
                  </a:lnTo>
                  <a:lnTo>
                    <a:pt x="91" y="1280"/>
                  </a:lnTo>
                  <a:lnTo>
                    <a:pt x="96" y="1252"/>
                  </a:lnTo>
                  <a:lnTo>
                    <a:pt x="106" y="1205"/>
                  </a:lnTo>
                  <a:lnTo>
                    <a:pt x="122" y="1139"/>
                  </a:lnTo>
                  <a:lnTo>
                    <a:pt x="168" y="951"/>
                  </a:lnTo>
                  <a:lnTo>
                    <a:pt x="200" y="823"/>
                  </a:lnTo>
                  <a:lnTo>
                    <a:pt x="223" y="725"/>
                  </a:lnTo>
                  <a:lnTo>
                    <a:pt x="236" y="655"/>
                  </a:lnTo>
                  <a:lnTo>
                    <a:pt x="240" y="632"/>
                  </a:lnTo>
                  <a:lnTo>
                    <a:pt x="241" y="622"/>
                  </a:lnTo>
                  <a:lnTo>
                    <a:pt x="241" y="615"/>
                  </a:lnTo>
                  <a:lnTo>
                    <a:pt x="241" y="610"/>
                  </a:lnTo>
                  <a:lnTo>
                    <a:pt x="241" y="609"/>
                  </a:lnTo>
                  <a:lnTo>
                    <a:pt x="241" y="607"/>
                  </a:lnTo>
                  <a:lnTo>
                    <a:pt x="241" y="606"/>
                  </a:lnTo>
                  <a:lnTo>
                    <a:pt x="241" y="606"/>
                  </a:lnTo>
                  <a:lnTo>
                    <a:pt x="241" y="606"/>
                  </a:lnTo>
                  <a:lnTo>
                    <a:pt x="241" y="605"/>
                  </a:lnTo>
                  <a:lnTo>
                    <a:pt x="242" y="605"/>
                  </a:lnTo>
                  <a:lnTo>
                    <a:pt x="242" y="605"/>
                  </a:lnTo>
                  <a:lnTo>
                    <a:pt x="242" y="605"/>
                  </a:lnTo>
                  <a:lnTo>
                    <a:pt x="242" y="605"/>
                  </a:lnTo>
                  <a:lnTo>
                    <a:pt x="242" y="605"/>
                  </a:lnTo>
                  <a:lnTo>
                    <a:pt x="242" y="605"/>
                  </a:lnTo>
                  <a:lnTo>
                    <a:pt x="242" y="605"/>
                  </a:lnTo>
                  <a:lnTo>
                    <a:pt x="240" y="605"/>
                  </a:lnTo>
                  <a:lnTo>
                    <a:pt x="238" y="605"/>
                  </a:lnTo>
                  <a:lnTo>
                    <a:pt x="236" y="606"/>
                  </a:lnTo>
                  <a:lnTo>
                    <a:pt x="234" y="606"/>
                  </a:lnTo>
                  <a:lnTo>
                    <a:pt x="229" y="608"/>
                  </a:lnTo>
                  <a:lnTo>
                    <a:pt x="224" y="610"/>
                  </a:lnTo>
                  <a:lnTo>
                    <a:pt x="218" y="612"/>
                  </a:lnTo>
                  <a:lnTo>
                    <a:pt x="212" y="617"/>
                  </a:lnTo>
                  <a:lnTo>
                    <a:pt x="205" y="620"/>
                  </a:lnTo>
                  <a:lnTo>
                    <a:pt x="198" y="625"/>
                  </a:lnTo>
                  <a:lnTo>
                    <a:pt x="189" y="631"/>
                  </a:lnTo>
                  <a:lnTo>
                    <a:pt x="178" y="639"/>
                  </a:lnTo>
                  <a:lnTo>
                    <a:pt x="152" y="662"/>
                  </a:lnTo>
                  <a:lnTo>
                    <a:pt x="116" y="693"/>
                  </a:lnTo>
                  <a:lnTo>
                    <a:pt x="72" y="733"/>
                  </a:lnTo>
                  <a:lnTo>
                    <a:pt x="0" y="668"/>
                  </a:lnTo>
                  <a:lnTo>
                    <a:pt x="74" y="593"/>
                  </a:lnTo>
                  <a:lnTo>
                    <a:pt x="139" y="534"/>
                  </a:lnTo>
                  <a:lnTo>
                    <a:pt x="168" y="509"/>
                  </a:lnTo>
                  <a:lnTo>
                    <a:pt x="193" y="489"/>
                  </a:lnTo>
                  <a:lnTo>
                    <a:pt x="217" y="472"/>
                  </a:lnTo>
                  <a:lnTo>
                    <a:pt x="239" y="458"/>
                  </a:lnTo>
                  <a:lnTo>
                    <a:pt x="259" y="447"/>
                  </a:lnTo>
                  <a:lnTo>
                    <a:pt x="278" y="437"/>
                  </a:lnTo>
                  <a:lnTo>
                    <a:pt x="296" y="430"/>
                  </a:lnTo>
                  <a:lnTo>
                    <a:pt x="313" y="423"/>
                  </a:lnTo>
                  <a:lnTo>
                    <a:pt x="329" y="418"/>
                  </a:lnTo>
                  <a:lnTo>
                    <a:pt x="345" y="415"/>
                  </a:lnTo>
                  <a:lnTo>
                    <a:pt x="359" y="413"/>
                  </a:lnTo>
                  <a:lnTo>
                    <a:pt x="373" y="412"/>
                  </a:lnTo>
                  <a:lnTo>
                    <a:pt x="382" y="412"/>
                  </a:lnTo>
                  <a:lnTo>
                    <a:pt x="387" y="413"/>
                  </a:lnTo>
                  <a:lnTo>
                    <a:pt x="391" y="414"/>
                  </a:lnTo>
                  <a:lnTo>
                    <a:pt x="395" y="415"/>
                  </a:lnTo>
                  <a:lnTo>
                    <a:pt x="399" y="416"/>
                  </a:lnTo>
                  <a:lnTo>
                    <a:pt x="403" y="417"/>
                  </a:lnTo>
                  <a:lnTo>
                    <a:pt x="407" y="419"/>
                  </a:lnTo>
                  <a:lnTo>
                    <a:pt x="411" y="421"/>
                  </a:lnTo>
                  <a:lnTo>
                    <a:pt x="414" y="423"/>
                  </a:lnTo>
                  <a:lnTo>
                    <a:pt x="418" y="425"/>
                  </a:lnTo>
                  <a:lnTo>
                    <a:pt x="421" y="428"/>
                  </a:lnTo>
                  <a:lnTo>
                    <a:pt x="425" y="431"/>
                  </a:lnTo>
                  <a:lnTo>
                    <a:pt x="428" y="434"/>
                  </a:lnTo>
                  <a:lnTo>
                    <a:pt x="434" y="441"/>
                  </a:lnTo>
                  <a:lnTo>
                    <a:pt x="437" y="444"/>
                  </a:lnTo>
                  <a:lnTo>
                    <a:pt x="439" y="448"/>
                  </a:lnTo>
                  <a:lnTo>
                    <a:pt x="442" y="452"/>
                  </a:lnTo>
                  <a:lnTo>
                    <a:pt x="444" y="457"/>
                  </a:lnTo>
                  <a:lnTo>
                    <a:pt x="448" y="465"/>
                  </a:lnTo>
                  <a:lnTo>
                    <a:pt x="450" y="475"/>
                  </a:lnTo>
                  <a:lnTo>
                    <a:pt x="453" y="486"/>
                  </a:lnTo>
                  <a:lnTo>
                    <a:pt x="455" y="496"/>
                  </a:lnTo>
                  <a:lnTo>
                    <a:pt x="456" y="508"/>
                  </a:lnTo>
                  <a:lnTo>
                    <a:pt x="456" y="521"/>
                  </a:lnTo>
                  <a:lnTo>
                    <a:pt x="455" y="546"/>
                  </a:lnTo>
                  <a:lnTo>
                    <a:pt x="451" y="578"/>
                  </a:lnTo>
                  <a:lnTo>
                    <a:pt x="437" y="665"/>
                  </a:lnTo>
                  <a:lnTo>
                    <a:pt x="411" y="783"/>
                  </a:lnTo>
                  <a:lnTo>
                    <a:pt x="376" y="930"/>
                  </a:lnTo>
                  <a:lnTo>
                    <a:pt x="324" y="1153"/>
                  </a:lnTo>
                  <a:lnTo>
                    <a:pt x="311" y="1218"/>
                  </a:lnTo>
                  <a:lnTo>
                    <a:pt x="308" y="1240"/>
                  </a:lnTo>
                  <a:lnTo>
                    <a:pt x="307" y="1247"/>
                  </a:lnTo>
                  <a:lnTo>
                    <a:pt x="307" y="1252"/>
                  </a:lnTo>
                  <a:lnTo>
                    <a:pt x="307" y="1257"/>
                  </a:lnTo>
                  <a:lnTo>
                    <a:pt x="307" y="1261"/>
                  </a:lnTo>
                  <a:lnTo>
                    <a:pt x="308" y="1264"/>
                  </a:lnTo>
                  <a:lnTo>
                    <a:pt x="309" y="1268"/>
                  </a:lnTo>
                  <a:lnTo>
                    <a:pt x="309" y="1270"/>
                  </a:lnTo>
                  <a:lnTo>
                    <a:pt x="310" y="1271"/>
                  </a:lnTo>
                  <a:lnTo>
                    <a:pt x="310" y="1273"/>
                  </a:lnTo>
                  <a:lnTo>
                    <a:pt x="311" y="1274"/>
                  </a:lnTo>
                  <a:lnTo>
                    <a:pt x="312" y="1275"/>
                  </a:lnTo>
                  <a:lnTo>
                    <a:pt x="313" y="1277"/>
                  </a:lnTo>
                  <a:lnTo>
                    <a:pt x="314" y="1278"/>
                  </a:lnTo>
                  <a:lnTo>
                    <a:pt x="315" y="1279"/>
                  </a:lnTo>
                  <a:lnTo>
                    <a:pt x="317" y="1281"/>
                  </a:lnTo>
                  <a:lnTo>
                    <a:pt x="319" y="1284"/>
                  </a:lnTo>
                  <a:lnTo>
                    <a:pt x="321" y="1285"/>
                  </a:lnTo>
                  <a:lnTo>
                    <a:pt x="323" y="1287"/>
                  </a:lnTo>
                  <a:lnTo>
                    <a:pt x="324" y="1287"/>
                  </a:lnTo>
                  <a:lnTo>
                    <a:pt x="325" y="1288"/>
                  </a:lnTo>
                  <a:lnTo>
                    <a:pt x="326" y="1288"/>
                  </a:lnTo>
                  <a:lnTo>
                    <a:pt x="327" y="1288"/>
                  </a:lnTo>
                  <a:lnTo>
                    <a:pt x="328" y="1289"/>
                  </a:lnTo>
                  <a:lnTo>
                    <a:pt x="328" y="1289"/>
                  </a:lnTo>
                  <a:lnTo>
                    <a:pt x="329" y="1289"/>
                  </a:lnTo>
                  <a:lnTo>
                    <a:pt x="330" y="1289"/>
                  </a:lnTo>
                  <a:lnTo>
                    <a:pt x="337" y="1289"/>
                  </a:lnTo>
                  <a:lnTo>
                    <a:pt x="344" y="1287"/>
                  </a:lnTo>
                  <a:lnTo>
                    <a:pt x="352" y="1286"/>
                  </a:lnTo>
                  <a:lnTo>
                    <a:pt x="360" y="1283"/>
                  </a:lnTo>
                  <a:lnTo>
                    <a:pt x="369" y="1279"/>
                  </a:lnTo>
                  <a:lnTo>
                    <a:pt x="378" y="1274"/>
                  </a:lnTo>
                  <a:lnTo>
                    <a:pt x="397" y="1263"/>
                  </a:lnTo>
                  <a:lnTo>
                    <a:pt x="418" y="1248"/>
                  </a:lnTo>
                  <a:lnTo>
                    <a:pt x="441" y="1231"/>
                  </a:lnTo>
                  <a:lnTo>
                    <a:pt x="464" y="1210"/>
                  </a:lnTo>
                  <a:lnTo>
                    <a:pt x="490" y="1185"/>
                  </a:lnTo>
                  <a:lnTo>
                    <a:pt x="516" y="1158"/>
                  </a:lnTo>
                  <a:lnTo>
                    <a:pt x="539" y="1131"/>
                  </a:lnTo>
                  <a:lnTo>
                    <a:pt x="560" y="1102"/>
                  </a:lnTo>
                  <a:lnTo>
                    <a:pt x="579" y="1073"/>
                  </a:lnTo>
                  <a:lnTo>
                    <a:pt x="596" y="1043"/>
                  </a:lnTo>
                  <a:lnTo>
                    <a:pt x="610" y="1012"/>
                  </a:lnTo>
                  <a:lnTo>
                    <a:pt x="622" y="981"/>
                  </a:lnTo>
                  <a:lnTo>
                    <a:pt x="631" y="947"/>
                  </a:lnTo>
                  <a:close/>
                  <a:moveTo>
                    <a:pt x="911" y="0"/>
                  </a:moveTo>
                  <a:lnTo>
                    <a:pt x="965" y="70"/>
                  </a:lnTo>
                  <a:lnTo>
                    <a:pt x="914" y="119"/>
                  </a:lnTo>
                  <a:lnTo>
                    <a:pt x="863" y="162"/>
                  </a:lnTo>
                  <a:lnTo>
                    <a:pt x="812" y="199"/>
                  </a:lnTo>
                  <a:lnTo>
                    <a:pt x="760" y="229"/>
                  </a:lnTo>
                  <a:lnTo>
                    <a:pt x="733" y="242"/>
                  </a:lnTo>
                  <a:lnTo>
                    <a:pt x="708" y="251"/>
                  </a:lnTo>
                  <a:lnTo>
                    <a:pt x="681" y="261"/>
                  </a:lnTo>
                  <a:lnTo>
                    <a:pt x="654" y="269"/>
                  </a:lnTo>
                  <a:lnTo>
                    <a:pt x="627" y="274"/>
                  </a:lnTo>
                  <a:lnTo>
                    <a:pt x="600" y="278"/>
                  </a:lnTo>
                  <a:lnTo>
                    <a:pt x="573" y="280"/>
                  </a:lnTo>
                  <a:lnTo>
                    <a:pt x="546" y="282"/>
                  </a:lnTo>
                  <a:lnTo>
                    <a:pt x="525" y="282"/>
                  </a:lnTo>
                  <a:lnTo>
                    <a:pt x="505" y="279"/>
                  </a:lnTo>
                  <a:lnTo>
                    <a:pt x="484" y="277"/>
                  </a:lnTo>
                  <a:lnTo>
                    <a:pt x="464" y="274"/>
                  </a:lnTo>
                  <a:lnTo>
                    <a:pt x="444" y="269"/>
                  </a:lnTo>
                  <a:lnTo>
                    <a:pt x="424" y="263"/>
                  </a:lnTo>
                  <a:lnTo>
                    <a:pt x="403" y="257"/>
                  </a:lnTo>
                  <a:lnTo>
                    <a:pt x="383" y="249"/>
                  </a:lnTo>
                  <a:lnTo>
                    <a:pt x="373" y="245"/>
                  </a:lnTo>
                  <a:lnTo>
                    <a:pt x="364" y="240"/>
                  </a:lnTo>
                  <a:lnTo>
                    <a:pt x="355" y="235"/>
                  </a:lnTo>
                  <a:lnTo>
                    <a:pt x="348" y="230"/>
                  </a:lnTo>
                  <a:lnTo>
                    <a:pt x="340" y="224"/>
                  </a:lnTo>
                  <a:lnTo>
                    <a:pt x="334" y="217"/>
                  </a:lnTo>
                  <a:lnTo>
                    <a:pt x="328" y="211"/>
                  </a:lnTo>
                  <a:lnTo>
                    <a:pt x="322" y="204"/>
                  </a:lnTo>
                  <a:lnTo>
                    <a:pt x="318" y="197"/>
                  </a:lnTo>
                  <a:lnTo>
                    <a:pt x="313" y="189"/>
                  </a:lnTo>
                  <a:lnTo>
                    <a:pt x="310" y="182"/>
                  </a:lnTo>
                  <a:lnTo>
                    <a:pt x="307" y="173"/>
                  </a:lnTo>
                  <a:lnTo>
                    <a:pt x="305" y="164"/>
                  </a:lnTo>
                  <a:lnTo>
                    <a:pt x="303" y="155"/>
                  </a:lnTo>
                  <a:lnTo>
                    <a:pt x="302" y="145"/>
                  </a:lnTo>
                  <a:lnTo>
                    <a:pt x="302" y="135"/>
                  </a:lnTo>
                  <a:lnTo>
                    <a:pt x="302" y="124"/>
                  </a:lnTo>
                  <a:lnTo>
                    <a:pt x="303" y="113"/>
                  </a:lnTo>
                  <a:lnTo>
                    <a:pt x="305" y="103"/>
                  </a:lnTo>
                  <a:lnTo>
                    <a:pt x="308" y="94"/>
                  </a:lnTo>
                  <a:lnTo>
                    <a:pt x="311" y="85"/>
                  </a:lnTo>
                  <a:lnTo>
                    <a:pt x="315" y="76"/>
                  </a:lnTo>
                  <a:lnTo>
                    <a:pt x="320" y="70"/>
                  </a:lnTo>
                  <a:lnTo>
                    <a:pt x="325" y="64"/>
                  </a:lnTo>
                  <a:lnTo>
                    <a:pt x="331" y="58"/>
                  </a:lnTo>
                  <a:lnTo>
                    <a:pt x="338" y="53"/>
                  </a:lnTo>
                  <a:lnTo>
                    <a:pt x="346" y="50"/>
                  </a:lnTo>
                  <a:lnTo>
                    <a:pt x="354" y="45"/>
                  </a:lnTo>
                  <a:lnTo>
                    <a:pt x="363" y="43"/>
                  </a:lnTo>
                  <a:lnTo>
                    <a:pt x="373" y="41"/>
                  </a:lnTo>
                  <a:lnTo>
                    <a:pt x="384" y="40"/>
                  </a:lnTo>
                  <a:lnTo>
                    <a:pt x="395" y="40"/>
                  </a:lnTo>
                  <a:lnTo>
                    <a:pt x="400" y="40"/>
                  </a:lnTo>
                  <a:lnTo>
                    <a:pt x="405" y="41"/>
                  </a:lnTo>
                  <a:lnTo>
                    <a:pt x="417" y="43"/>
                  </a:lnTo>
                  <a:lnTo>
                    <a:pt x="431" y="47"/>
                  </a:lnTo>
                  <a:lnTo>
                    <a:pt x="447" y="54"/>
                  </a:lnTo>
                  <a:lnTo>
                    <a:pt x="464" y="61"/>
                  </a:lnTo>
                  <a:lnTo>
                    <a:pt x="484" y="71"/>
                  </a:lnTo>
                  <a:lnTo>
                    <a:pt x="531" y="95"/>
                  </a:lnTo>
                  <a:lnTo>
                    <a:pt x="579" y="110"/>
                  </a:lnTo>
                  <a:lnTo>
                    <a:pt x="602" y="115"/>
                  </a:lnTo>
                  <a:lnTo>
                    <a:pt x="623" y="119"/>
                  </a:lnTo>
                  <a:lnTo>
                    <a:pt x="643" y="124"/>
                  </a:lnTo>
                  <a:lnTo>
                    <a:pt x="662" y="126"/>
                  </a:lnTo>
                  <a:lnTo>
                    <a:pt x="680" y="128"/>
                  </a:lnTo>
                  <a:lnTo>
                    <a:pt x="697" y="128"/>
                  </a:lnTo>
                  <a:lnTo>
                    <a:pt x="706" y="128"/>
                  </a:lnTo>
                  <a:lnTo>
                    <a:pt x="716" y="126"/>
                  </a:lnTo>
                  <a:lnTo>
                    <a:pt x="726" y="124"/>
                  </a:lnTo>
                  <a:lnTo>
                    <a:pt x="736" y="120"/>
                  </a:lnTo>
                  <a:lnTo>
                    <a:pt x="748" y="115"/>
                  </a:lnTo>
                  <a:lnTo>
                    <a:pt x="760" y="110"/>
                  </a:lnTo>
                  <a:lnTo>
                    <a:pt x="786" y="96"/>
                  </a:lnTo>
                  <a:lnTo>
                    <a:pt x="813" y="77"/>
                  </a:lnTo>
                  <a:lnTo>
                    <a:pt x="844" y="56"/>
                  </a:lnTo>
                  <a:lnTo>
                    <a:pt x="876" y="3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Евг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0" y="0"/>
            <a:ext cx="9577440" cy="3027240"/>
            <a:chOff x="0" y="0"/>
            <a:chExt cx="9577440" cy="3027240"/>
          </a:xfrm>
        </p:grpSpPr>
        <p:sp>
          <p:nvSpPr>
            <p:cNvPr id="293" name=""/>
            <p:cNvSpPr/>
            <p:nvPr/>
          </p:nvSpPr>
          <p:spPr>
            <a:xfrm>
              <a:off x="7056360" y="2484360"/>
              <a:ext cx="654120" cy="542880"/>
            </a:xfrm>
            <a:custGeom>
              <a:avLst/>
              <a:gdLst/>
              <a:ahLst/>
              <a:rect l="l" t="t" r="r" b="b"/>
              <a:pathLst>
                <a:path w="1815" h="1509">
                  <a:moveTo>
                    <a:pt x="1814" y="1198"/>
                  </a:moveTo>
                  <a:lnTo>
                    <a:pt x="1798" y="1293"/>
                  </a:lnTo>
                  <a:lnTo>
                    <a:pt x="1739" y="1297"/>
                  </a:lnTo>
                  <a:lnTo>
                    <a:pt x="1715" y="1297"/>
                  </a:lnTo>
                  <a:lnTo>
                    <a:pt x="1695" y="1297"/>
                  </a:lnTo>
                  <a:lnTo>
                    <a:pt x="1668" y="1297"/>
                  </a:lnTo>
                  <a:lnTo>
                    <a:pt x="1639" y="1296"/>
                  </a:lnTo>
                  <a:lnTo>
                    <a:pt x="1607" y="1294"/>
                  </a:lnTo>
                  <a:lnTo>
                    <a:pt x="1574" y="1291"/>
                  </a:lnTo>
                  <a:lnTo>
                    <a:pt x="1479" y="1283"/>
                  </a:lnTo>
                  <a:lnTo>
                    <a:pt x="1448" y="1282"/>
                  </a:lnTo>
                  <a:lnTo>
                    <a:pt x="1428" y="1281"/>
                  </a:lnTo>
                  <a:lnTo>
                    <a:pt x="1398" y="1282"/>
                  </a:lnTo>
                  <a:lnTo>
                    <a:pt x="1356" y="1284"/>
                  </a:lnTo>
                  <a:lnTo>
                    <a:pt x="1240" y="1294"/>
                  </a:lnTo>
                  <a:lnTo>
                    <a:pt x="1306" y="1108"/>
                  </a:lnTo>
                  <a:lnTo>
                    <a:pt x="1315" y="1074"/>
                  </a:lnTo>
                  <a:lnTo>
                    <a:pt x="1325" y="1033"/>
                  </a:lnTo>
                  <a:lnTo>
                    <a:pt x="1346" y="926"/>
                  </a:lnTo>
                  <a:lnTo>
                    <a:pt x="932" y="930"/>
                  </a:lnTo>
                  <a:lnTo>
                    <a:pt x="785" y="1101"/>
                  </a:lnTo>
                  <a:lnTo>
                    <a:pt x="657" y="1238"/>
                  </a:lnTo>
                  <a:lnTo>
                    <a:pt x="601" y="1293"/>
                  </a:lnTo>
                  <a:lnTo>
                    <a:pt x="551" y="1339"/>
                  </a:lnTo>
                  <a:lnTo>
                    <a:pt x="504" y="1377"/>
                  </a:lnTo>
                  <a:lnTo>
                    <a:pt x="463" y="1407"/>
                  </a:lnTo>
                  <a:lnTo>
                    <a:pt x="425" y="1431"/>
                  </a:lnTo>
                  <a:lnTo>
                    <a:pt x="387" y="1451"/>
                  </a:lnTo>
                  <a:lnTo>
                    <a:pt x="349" y="1468"/>
                  </a:lnTo>
                  <a:lnTo>
                    <a:pt x="312" y="1482"/>
                  </a:lnTo>
                  <a:lnTo>
                    <a:pt x="275" y="1494"/>
                  </a:lnTo>
                  <a:lnTo>
                    <a:pt x="238" y="1502"/>
                  </a:lnTo>
                  <a:lnTo>
                    <a:pt x="219" y="1504"/>
                  </a:lnTo>
                  <a:lnTo>
                    <a:pt x="200" y="1506"/>
                  </a:lnTo>
                  <a:lnTo>
                    <a:pt x="182" y="1507"/>
                  </a:lnTo>
                  <a:lnTo>
                    <a:pt x="164" y="1508"/>
                  </a:lnTo>
                  <a:lnTo>
                    <a:pt x="145" y="1507"/>
                  </a:lnTo>
                  <a:lnTo>
                    <a:pt x="126" y="1506"/>
                  </a:lnTo>
                  <a:lnTo>
                    <a:pt x="110" y="1504"/>
                  </a:lnTo>
                  <a:lnTo>
                    <a:pt x="94" y="1501"/>
                  </a:lnTo>
                  <a:lnTo>
                    <a:pt x="79" y="1497"/>
                  </a:lnTo>
                  <a:lnTo>
                    <a:pt x="65" y="1493"/>
                  </a:lnTo>
                  <a:lnTo>
                    <a:pt x="59" y="1491"/>
                  </a:lnTo>
                  <a:lnTo>
                    <a:pt x="54" y="1488"/>
                  </a:lnTo>
                  <a:lnTo>
                    <a:pt x="48" y="1485"/>
                  </a:lnTo>
                  <a:lnTo>
                    <a:pt x="42" y="1482"/>
                  </a:lnTo>
                  <a:lnTo>
                    <a:pt x="38" y="1478"/>
                  </a:lnTo>
                  <a:lnTo>
                    <a:pt x="32" y="1475"/>
                  </a:lnTo>
                  <a:lnTo>
                    <a:pt x="28" y="1471"/>
                  </a:lnTo>
                  <a:lnTo>
                    <a:pt x="23" y="1467"/>
                  </a:lnTo>
                  <a:lnTo>
                    <a:pt x="19" y="1463"/>
                  </a:lnTo>
                  <a:lnTo>
                    <a:pt x="17" y="1459"/>
                  </a:lnTo>
                  <a:lnTo>
                    <a:pt x="13" y="1455"/>
                  </a:lnTo>
                  <a:lnTo>
                    <a:pt x="10" y="1451"/>
                  </a:lnTo>
                  <a:lnTo>
                    <a:pt x="8" y="1447"/>
                  </a:lnTo>
                  <a:lnTo>
                    <a:pt x="5" y="1442"/>
                  </a:lnTo>
                  <a:lnTo>
                    <a:pt x="3" y="1437"/>
                  </a:lnTo>
                  <a:lnTo>
                    <a:pt x="2" y="1432"/>
                  </a:lnTo>
                  <a:lnTo>
                    <a:pt x="1" y="1427"/>
                  </a:lnTo>
                  <a:lnTo>
                    <a:pt x="0" y="1422"/>
                  </a:lnTo>
                  <a:lnTo>
                    <a:pt x="0" y="1417"/>
                  </a:lnTo>
                  <a:lnTo>
                    <a:pt x="0" y="1412"/>
                  </a:lnTo>
                  <a:lnTo>
                    <a:pt x="0" y="1403"/>
                  </a:lnTo>
                  <a:lnTo>
                    <a:pt x="1" y="1395"/>
                  </a:lnTo>
                  <a:lnTo>
                    <a:pt x="3" y="1388"/>
                  </a:lnTo>
                  <a:lnTo>
                    <a:pt x="6" y="1381"/>
                  </a:lnTo>
                  <a:lnTo>
                    <a:pt x="8" y="1377"/>
                  </a:lnTo>
                  <a:lnTo>
                    <a:pt x="10" y="1373"/>
                  </a:lnTo>
                  <a:lnTo>
                    <a:pt x="12" y="1371"/>
                  </a:lnTo>
                  <a:lnTo>
                    <a:pt x="15" y="1368"/>
                  </a:lnTo>
                  <a:lnTo>
                    <a:pt x="20" y="1361"/>
                  </a:lnTo>
                  <a:lnTo>
                    <a:pt x="27" y="1355"/>
                  </a:lnTo>
                  <a:lnTo>
                    <a:pt x="34" y="1350"/>
                  </a:lnTo>
                  <a:lnTo>
                    <a:pt x="38" y="1347"/>
                  </a:lnTo>
                  <a:lnTo>
                    <a:pt x="41" y="1345"/>
                  </a:lnTo>
                  <a:lnTo>
                    <a:pt x="45" y="1343"/>
                  </a:lnTo>
                  <a:lnTo>
                    <a:pt x="49" y="1341"/>
                  </a:lnTo>
                  <a:lnTo>
                    <a:pt x="54" y="1339"/>
                  </a:lnTo>
                  <a:lnTo>
                    <a:pt x="58" y="1338"/>
                  </a:lnTo>
                  <a:lnTo>
                    <a:pt x="62" y="1337"/>
                  </a:lnTo>
                  <a:lnTo>
                    <a:pt x="66" y="1335"/>
                  </a:lnTo>
                  <a:lnTo>
                    <a:pt x="71" y="1335"/>
                  </a:lnTo>
                  <a:lnTo>
                    <a:pt x="76" y="1334"/>
                  </a:lnTo>
                  <a:lnTo>
                    <a:pt x="85" y="1332"/>
                  </a:lnTo>
                  <a:lnTo>
                    <a:pt x="96" y="1332"/>
                  </a:lnTo>
                  <a:lnTo>
                    <a:pt x="100" y="1332"/>
                  </a:lnTo>
                  <a:lnTo>
                    <a:pt x="106" y="1332"/>
                  </a:lnTo>
                  <a:lnTo>
                    <a:pt x="119" y="1334"/>
                  </a:lnTo>
                  <a:lnTo>
                    <a:pt x="135" y="1335"/>
                  </a:lnTo>
                  <a:lnTo>
                    <a:pt x="152" y="1338"/>
                  </a:lnTo>
                  <a:lnTo>
                    <a:pt x="184" y="1344"/>
                  </a:lnTo>
                  <a:lnTo>
                    <a:pt x="210" y="1348"/>
                  </a:lnTo>
                  <a:lnTo>
                    <a:pt x="230" y="1350"/>
                  </a:lnTo>
                  <a:lnTo>
                    <a:pt x="238" y="1351"/>
                  </a:lnTo>
                  <a:lnTo>
                    <a:pt x="243" y="1351"/>
                  </a:lnTo>
                  <a:lnTo>
                    <a:pt x="253" y="1351"/>
                  </a:lnTo>
                  <a:lnTo>
                    <a:pt x="262" y="1350"/>
                  </a:lnTo>
                  <a:lnTo>
                    <a:pt x="272" y="1349"/>
                  </a:lnTo>
                  <a:lnTo>
                    <a:pt x="281" y="1347"/>
                  </a:lnTo>
                  <a:lnTo>
                    <a:pt x="292" y="1344"/>
                  </a:lnTo>
                  <a:lnTo>
                    <a:pt x="301" y="1341"/>
                  </a:lnTo>
                  <a:lnTo>
                    <a:pt x="322" y="1334"/>
                  </a:lnTo>
                  <a:lnTo>
                    <a:pt x="344" y="1325"/>
                  </a:lnTo>
                  <a:lnTo>
                    <a:pt x="366" y="1313"/>
                  </a:lnTo>
                  <a:lnTo>
                    <a:pt x="389" y="1299"/>
                  </a:lnTo>
                  <a:lnTo>
                    <a:pt x="412" y="1283"/>
                  </a:lnTo>
                  <a:lnTo>
                    <a:pt x="456" y="1249"/>
                  </a:lnTo>
                  <a:lnTo>
                    <a:pt x="503" y="1206"/>
                  </a:lnTo>
                  <a:lnTo>
                    <a:pt x="615" y="1096"/>
                  </a:lnTo>
                  <a:lnTo>
                    <a:pt x="746" y="952"/>
                  </a:lnTo>
                  <a:lnTo>
                    <a:pt x="896" y="775"/>
                  </a:lnTo>
                  <a:lnTo>
                    <a:pt x="1071" y="571"/>
                  </a:lnTo>
                  <a:lnTo>
                    <a:pt x="1228" y="401"/>
                  </a:lnTo>
                  <a:lnTo>
                    <a:pt x="1366" y="266"/>
                  </a:lnTo>
                  <a:lnTo>
                    <a:pt x="1428" y="211"/>
                  </a:lnTo>
                  <a:lnTo>
                    <a:pt x="1486" y="164"/>
                  </a:lnTo>
                  <a:lnTo>
                    <a:pt x="1359" y="175"/>
                  </a:lnTo>
                  <a:lnTo>
                    <a:pt x="1258" y="185"/>
                  </a:lnTo>
                  <a:lnTo>
                    <a:pt x="1183" y="195"/>
                  </a:lnTo>
                  <a:lnTo>
                    <a:pt x="1155" y="200"/>
                  </a:lnTo>
                  <a:lnTo>
                    <a:pt x="1133" y="205"/>
                  </a:lnTo>
                  <a:lnTo>
                    <a:pt x="1110" y="211"/>
                  </a:lnTo>
                  <a:lnTo>
                    <a:pt x="1088" y="218"/>
                  </a:lnTo>
                  <a:lnTo>
                    <a:pt x="1068" y="226"/>
                  </a:lnTo>
                  <a:lnTo>
                    <a:pt x="1049" y="234"/>
                  </a:lnTo>
                  <a:lnTo>
                    <a:pt x="1031" y="243"/>
                  </a:lnTo>
                  <a:lnTo>
                    <a:pt x="1016" y="254"/>
                  </a:lnTo>
                  <a:lnTo>
                    <a:pt x="1002" y="264"/>
                  </a:lnTo>
                  <a:lnTo>
                    <a:pt x="990" y="275"/>
                  </a:lnTo>
                  <a:lnTo>
                    <a:pt x="978" y="287"/>
                  </a:lnTo>
                  <a:lnTo>
                    <a:pt x="969" y="299"/>
                  </a:lnTo>
                  <a:lnTo>
                    <a:pt x="960" y="311"/>
                  </a:lnTo>
                  <a:lnTo>
                    <a:pt x="953" y="323"/>
                  </a:lnTo>
                  <a:lnTo>
                    <a:pt x="949" y="334"/>
                  </a:lnTo>
                  <a:lnTo>
                    <a:pt x="945" y="346"/>
                  </a:lnTo>
                  <a:lnTo>
                    <a:pt x="943" y="358"/>
                  </a:lnTo>
                  <a:lnTo>
                    <a:pt x="942" y="370"/>
                  </a:lnTo>
                  <a:lnTo>
                    <a:pt x="942" y="374"/>
                  </a:lnTo>
                  <a:lnTo>
                    <a:pt x="943" y="378"/>
                  </a:lnTo>
                  <a:lnTo>
                    <a:pt x="943" y="382"/>
                  </a:lnTo>
                  <a:lnTo>
                    <a:pt x="944" y="387"/>
                  </a:lnTo>
                  <a:lnTo>
                    <a:pt x="946" y="391"/>
                  </a:lnTo>
                  <a:lnTo>
                    <a:pt x="947" y="396"/>
                  </a:lnTo>
                  <a:lnTo>
                    <a:pt x="950" y="400"/>
                  </a:lnTo>
                  <a:lnTo>
                    <a:pt x="952" y="405"/>
                  </a:lnTo>
                  <a:lnTo>
                    <a:pt x="962" y="428"/>
                  </a:lnTo>
                  <a:lnTo>
                    <a:pt x="970" y="447"/>
                  </a:lnTo>
                  <a:lnTo>
                    <a:pt x="972" y="455"/>
                  </a:lnTo>
                  <a:lnTo>
                    <a:pt x="973" y="462"/>
                  </a:lnTo>
                  <a:lnTo>
                    <a:pt x="975" y="468"/>
                  </a:lnTo>
                  <a:lnTo>
                    <a:pt x="975" y="473"/>
                  </a:lnTo>
                  <a:lnTo>
                    <a:pt x="975" y="481"/>
                  </a:lnTo>
                  <a:lnTo>
                    <a:pt x="974" y="484"/>
                  </a:lnTo>
                  <a:lnTo>
                    <a:pt x="973" y="488"/>
                  </a:lnTo>
                  <a:lnTo>
                    <a:pt x="972" y="491"/>
                  </a:lnTo>
                  <a:lnTo>
                    <a:pt x="972" y="495"/>
                  </a:lnTo>
                  <a:lnTo>
                    <a:pt x="970" y="498"/>
                  </a:lnTo>
                  <a:lnTo>
                    <a:pt x="969" y="502"/>
                  </a:lnTo>
                  <a:lnTo>
                    <a:pt x="964" y="507"/>
                  </a:lnTo>
                  <a:lnTo>
                    <a:pt x="959" y="514"/>
                  </a:lnTo>
                  <a:lnTo>
                    <a:pt x="953" y="520"/>
                  </a:lnTo>
                  <a:lnTo>
                    <a:pt x="947" y="526"/>
                  </a:lnTo>
                  <a:lnTo>
                    <a:pt x="939" y="531"/>
                  </a:lnTo>
                  <a:lnTo>
                    <a:pt x="932" y="536"/>
                  </a:lnTo>
                  <a:lnTo>
                    <a:pt x="923" y="540"/>
                  </a:lnTo>
                  <a:lnTo>
                    <a:pt x="918" y="542"/>
                  </a:lnTo>
                  <a:lnTo>
                    <a:pt x="914" y="543"/>
                  </a:lnTo>
                  <a:lnTo>
                    <a:pt x="910" y="544"/>
                  </a:lnTo>
                  <a:lnTo>
                    <a:pt x="905" y="546"/>
                  </a:lnTo>
                  <a:lnTo>
                    <a:pt x="895" y="547"/>
                  </a:lnTo>
                  <a:lnTo>
                    <a:pt x="886" y="548"/>
                  </a:lnTo>
                  <a:lnTo>
                    <a:pt x="875" y="548"/>
                  </a:lnTo>
                  <a:lnTo>
                    <a:pt x="862" y="548"/>
                  </a:lnTo>
                  <a:lnTo>
                    <a:pt x="855" y="548"/>
                  </a:lnTo>
                  <a:lnTo>
                    <a:pt x="850" y="546"/>
                  </a:lnTo>
                  <a:lnTo>
                    <a:pt x="843" y="546"/>
                  </a:lnTo>
                  <a:lnTo>
                    <a:pt x="837" y="544"/>
                  </a:lnTo>
                  <a:lnTo>
                    <a:pt x="832" y="543"/>
                  </a:lnTo>
                  <a:lnTo>
                    <a:pt x="827" y="541"/>
                  </a:lnTo>
                  <a:lnTo>
                    <a:pt x="821" y="539"/>
                  </a:lnTo>
                  <a:lnTo>
                    <a:pt x="815" y="537"/>
                  </a:lnTo>
                  <a:lnTo>
                    <a:pt x="811" y="534"/>
                  </a:lnTo>
                  <a:lnTo>
                    <a:pt x="806" y="531"/>
                  </a:lnTo>
                  <a:lnTo>
                    <a:pt x="801" y="528"/>
                  </a:lnTo>
                  <a:lnTo>
                    <a:pt x="797" y="525"/>
                  </a:lnTo>
                  <a:lnTo>
                    <a:pt x="793" y="521"/>
                  </a:lnTo>
                  <a:lnTo>
                    <a:pt x="789" y="517"/>
                  </a:lnTo>
                  <a:lnTo>
                    <a:pt x="785" y="513"/>
                  </a:lnTo>
                  <a:lnTo>
                    <a:pt x="781" y="509"/>
                  </a:lnTo>
                  <a:lnTo>
                    <a:pt x="777" y="504"/>
                  </a:lnTo>
                  <a:lnTo>
                    <a:pt x="774" y="500"/>
                  </a:lnTo>
                  <a:lnTo>
                    <a:pt x="769" y="490"/>
                  </a:lnTo>
                  <a:lnTo>
                    <a:pt x="764" y="479"/>
                  </a:lnTo>
                  <a:lnTo>
                    <a:pt x="761" y="468"/>
                  </a:lnTo>
                  <a:lnTo>
                    <a:pt x="758" y="455"/>
                  </a:lnTo>
                  <a:lnTo>
                    <a:pt x="757" y="443"/>
                  </a:lnTo>
                  <a:lnTo>
                    <a:pt x="756" y="428"/>
                  </a:lnTo>
                  <a:lnTo>
                    <a:pt x="757" y="410"/>
                  </a:lnTo>
                  <a:lnTo>
                    <a:pt x="759" y="390"/>
                  </a:lnTo>
                  <a:lnTo>
                    <a:pt x="763" y="372"/>
                  </a:lnTo>
                  <a:lnTo>
                    <a:pt x="769" y="354"/>
                  </a:lnTo>
                  <a:lnTo>
                    <a:pt x="775" y="335"/>
                  </a:lnTo>
                  <a:lnTo>
                    <a:pt x="785" y="317"/>
                  </a:lnTo>
                  <a:lnTo>
                    <a:pt x="794" y="299"/>
                  </a:lnTo>
                  <a:lnTo>
                    <a:pt x="807" y="281"/>
                  </a:lnTo>
                  <a:lnTo>
                    <a:pt x="820" y="264"/>
                  </a:lnTo>
                  <a:lnTo>
                    <a:pt x="834" y="248"/>
                  </a:lnTo>
                  <a:lnTo>
                    <a:pt x="851" y="231"/>
                  </a:lnTo>
                  <a:lnTo>
                    <a:pt x="868" y="217"/>
                  </a:lnTo>
                  <a:lnTo>
                    <a:pt x="886" y="202"/>
                  </a:lnTo>
                  <a:lnTo>
                    <a:pt x="906" y="189"/>
                  </a:lnTo>
                  <a:lnTo>
                    <a:pt x="927" y="176"/>
                  </a:lnTo>
                  <a:lnTo>
                    <a:pt x="950" y="164"/>
                  </a:lnTo>
                  <a:lnTo>
                    <a:pt x="973" y="152"/>
                  </a:lnTo>
                  <a:lnTo>
                    <a:pt x="999" y="141"/>
                  </a:lnTo>
                  <a:lnTo>
                    <a:pt x="1025" y="132"/>
                  </a:lnTo>
                  <a:lnTo>
                    <a:pt x="1053" y="123"/>
                  </a:lnTo>
                  <a:lnTo>
                    <a:pt x="1082" y="114"/>
                  </a:lnTo>
                  <a:lnTo>
                    <a:pt x="1113" y="105"/>
                  </a:lnTo>
                  <a:lnTo>
                    <a:pt x="1145" y="99"/>
                  </a:lnTo>
                  <a:lnTo>
                    <a:pt x="1178" y="92"/>
                  </a:lnTo>
                  <a:lnTo>
                    <a:pt x="1197" y="89"/>
                  </a:lnTo>
                  <a:lnTo>
                    <a:pt x="1219" y="86"/>
                  </a:lnTo>
                  <a:lnTo>
                    <a:pt x="1272" y="80"/>
                  </a:lnTo>
                  <a:lnTo>
                    <a:pt x="1339" y="75"/>
                  </a:lnTo>
                  <a:lnTo>
                    <a:pt x="1419" y="70"/>
                  </a:lnTo>
                  <a:lnTo>
                    <a:pt x="1537" y="60"/>
                  </a:lnTo>
                  <a:lnTo>
                    <a:pt x="1574" y="56"/>
                  </a:lnTo>
                  <a:lnTo>
                    <a:pt x="1587" y="54"/>
                  </a:lnTo>
                  <a:lnTo>
                    <a:pt x="1597" y="52"/>
                  </a:lnTo>
                  <a:lnTo>
                    <a:pt x="1612" y="49"/>
                  </a:lnTo>
                  <a:lnTo>
                    <a:pt x="1628" y="44"/>
                  </a:lnTo>
                  <a:lnTo>
                    <a:pt x="1665" y="33"/>
                  </a:lnTo>
                  <a:lnTo>
                    <a:pt x="1705" y="18"/>
                  </a:lnTo>
                  <a:lnTo>
                    <a:pt x="1749" y="0"/>
                  </a:lnTo>
                  <a:lnTo>
                    <a:pt x="1717" y="132"/>
                  </a:lnTo>
                  <a:lnTo>
                    <a:pt x="1705" y="186"/>
                  </a:lnTo>
                  <a:lnTo>
                    <a:pt x="1695" y="234"/>
                  </a:lnTo>
                  <a:lnTo>
                    <a:pt x="1596" y="805"/>
                  </a:lnTo>
                  <a:lnTo>
                    <a:pt x="1540" y="1193"/>
                  </a:lnTo>
                  <a:lnTo>
                    <a:pt x="1574" y="1199"/>
                  </a:lnTo>
                  <a:lnTo>
                    <a:pt x="1609" y="1203"/>
                  </a:lnTo>
                  <a:lnTo>
                    <a:pt x="1645" y="1206"/>
                  </a:lnTo>
                  <a:lnTo>
                    <a:pt x="1680" y="1206"/>
                  </a:lnTo>
                  <a:lnTo>
                    <a:pt x="1706" y="1206"/>
                  </a:lnTo>
                  <a:lnTo>
                    <a:pt x="1738" y="1204"/>
                  </a:lnTo>
                  <a:close/>
                  <a:moveTo>
                    <a:pt x="1359" y="815"/>
                  </a:moveTo>
                  <a:lnTo>
                    <a:pt x="1388" y="637"/>
                  </a:lnTo>
                  <a:lnTo>
                    <a:pt x="1418" y="487"/>
                  </a:lnTo>
                  <a:lnTo>
                    <a:pt x="1448" y="364"/>
                  </a:lnTo>
                  <a:lnTo>
                    <a:pt x="1463" y="314"/>
                  </a:lnTo>
                  <a:lnTo>
                    <a:pt x="1478" y="270"/>
                  </a:lnTo>
                  <a:lnTo>
                    <a:pt x="1427" y="341"/>
                  </a:lnTo>
                  <a:lnTo>
                    <a:pt x="1386" y="396"/>
                  </a:lnTo>
                  <a:lnTo>
                    <a:pt x="1354" y="434"/>
                  </a:lnTo>
                  <a:lnTo>
                    <a:pt x="1343" y="446"/>
                  </a:lnTo>
                  <a:lnTo>
                    <a:pt x="1334" y="455"/>
                  </a:lnTo>
                  <a:lnTo>
                    <a:pt x="1011" y="815"/>
                  </a:lnTo>
                  <a:lnTo>
                    <a:pt x="1281" y="8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64480" y="2633760"/>
              <a:ext cx="414360" cy="325440"/>
            </a:xfrm>
            <a:custGeom>
              <a:avLst/>
              <a:gdLst/>
              <a:ahLst/>
              <a:rect l="l" t="t" r="r" b="b"/>
              <a:pathLst>
                <a:path w="1151" h="902">
                  <a:moveTo>
                    <a:pt x="1150" y="675"/>
                  </a:moveTo>
                  <a:lnTo>
                    <a:pt x="1086" y="728"/>
                  </a:lnTo>
                  <a:lnTo>
                    <a:pt x="1026" y="774"/>
                  </a:lnTo>
                  <a:lnTo>
                    <a:pt x="968" y="813"/>
                  </a:lnTo>
                  <a:lnTo>
                    <a:pt x="917" y="845"/>
                  </a:lnTo>
                  <a:lnTo>
                    <a:pt x="869" y="869"/>
                  </a:lnTo>
                  <a:lnTo>
                    <a:pt x="847" y="879"/>
                  </a:lnTo>
                  <a:lnTo>
                    <a:pt x="826" y="887"/>
                  </a:lnTo>
                  <a:lnTo>
                    <a:pt x="805" y="893"/>
                  </a:lnTo>
                  <a:lnTo>
                    <a:pt x="786" y="898"/>
                  </a:lnTo>
                  <a:lnTo>
                    <a:pt x="768" y="901"/>
                  </a:lnTo>
                  <a:lnTo>
                    <a:pt x="750" y="901"/>
                  </a:lnTo>
                  <a:lnTo>
                    <a:pt x="745" y="901"/>
                  </a:lnTo>
                  <a:lnTo>
                    <a:pt x="739" y="901"/>
                  </a:lnTo>
                  <a:lnTo>
                    <a:pt x="733" y="901"/>
                  </a:lnTo>
                  <a:lnTo>
                    <a:pt x="728" y="899"/>
                  </a:lnTo>
                  <a:lnTo>
                    <a:pt x="723" y="898"/>
                  </a:lnTo>
                  <a:lnTo>
                    <a:pt x="717" y="897"/>
                  </a:lnTo>
                  <a:lnTo>
                    <a:pt x="711" y="895"/>
                  </a:lnTo>
                  <a:lnTo>
                    <a:pt x="707" y="894"/>
                  </a:lnTo>
                  <a:lnTo>
                    <a:pt x="696" y="889"/>
                  </a:lnTo>
                  <a:lnTo>
                    <a:pt x="686" y="884"/>
                  </a:lnTo>
                  <a:lnTo>
                    <a:pt x="675" y="878"/>
                  </a:lnTo>
                  <a:lnTo>
                    <a:pt x="666" y="871"/>
                  </a:lnTo>
                  <a:lnTo>
                    <a:pt x="661" y="867"/>
                  </a:lnTo>
                  <a:lnTo>
                    <a:pt x="657" y="863"/>
                  </a:lnTo>
                  <a:lnTo>
                    <a:pt x="653" y="859"/>
                  </a:lnTo>
                  <a:lnTo>
                    <a:pt x="650" y="854"/>
                  </a:lnTo>
                  <a:lnTo>
                    <a:pt x="646" y="850"/>
                  </a:lnTo>
                  <a:lnTo>
                    <a:pt x="643" y="845"/>
                  </a:lnTo>
                  <a:lnTo>
                    <a:pt x="640" y="840"/>
                  </a:lnTo>
                  <a:lnTo>
                    <a:pt x="637" y="835"/>
                  </a:lnTo>
                  <a:lnTo>
                    <a:pt x="633" y="824"/>
                  </a:lnTo>
                  <a:lnTo>
                    <a:pt x="631" y="813"/>
                  </a:lnTo>
                  <a:lnTo>
                    <a:pt x="629" y="801"/>
                  </a:lnTo>
                  <a:lnTo>
                    <a:pt x="628" y="789"/>
                  </a:lnTo>
                  <a:lnTo>
                    <a:pt x="628" y="774"/>
                  </a:lnTo>
                  <a:lnTo>
                    <a:pt x="630" y="760"/>
                  </a:lnTo>
                  <a:lnTo>
                    <a:pt x="631" y="745"/>
                  </a:lnTo>
                  <a:lnTo>
                    <a:pt x="634" y="728"/>
                  </a:lnTo>
                  <a:lnTo>
                    <a:pt x="642" y="693"/>
                  </a:lnTo>
                  <a:lnTo>
                    <a:pt x="653" y="654"/>
                  </a:lnTo>
                  <a:lnTo>
                    <a:pt x="713" y="484"/>
                  </a:lnTo>
                  <a:lnTo>
                    <a:pt x="413" y="484"/>
                  </a:lnTo>
                  <a:lnTo>
                    <a:pt x="295" y="867"/>
                  </a:lnTo>
                  <a:lnTo>
                    <a:pt x="62" y="867"/>
                  </a:lnTo>
                  <a:lnTo>
                    <a:pt x="63" y="858"/>
                  </a:lnTo>
                  <a:lnTo>
                    <a:pt x="64" y="848"/>
                  </a:lnTo>
                  <a:lnTo>
                    <a:pt x="70" y="824"/>
                  </a:lnTo>
                  <a:lnTo>
                    <a:pt x="78" y="795"/>
                  </a:lnTo>
                  <a:lnTo>
                    <a:pt x="89" y="762"/>
                  </a:lnTo>
                  <a:lnTo>
                    <a:pt x="99" y="733"/>
                  </a:lnTo>
                  <a:lnTo>
                    <a:pt x="114" y="689"/>
                  </a:lnTo>
                  <a:lnTo>
                    <a:pt x="155" y="560"/>
                  </a:lnTo>
                  <a:lnTo>
                    <a:pt x="267" y="208"/>
                  </a:lnTo>
                  <a:lnTo>
                    <a:pt x="271" y="196"/>
                  </a:lnTo>
                  <a:lnTo>
                    <a:pt x="274" y="186"/>
                  </a:lnTo>
                  <a:lnTo>
                    <a:pt x="274" y="181"/>
                  </a:lnTo>
                  <a:lnTo>
                    <a:pt x="274" y="177"/>
                  </a:lnTo>
                  <a:lnTo>
                    <a:pt x="275" y="173"/>
                  </a:lnTo>
                  <a:lnTo>
                    <a:pt x="275" y="170"/>
                  </a:lnTo>
                  <a:lnTo>
                    <a:pt x="275" y="166"/>
                  </a:lnTo>
                  <a:lnTo>
                    <a:pt x="275" y="163"/>
                  </a:lnTo>
                  <a:lnTo>
                    <a:pt x="274" y="161"/>
                  </a:lnTo>
                  <a:lnTo>
                    <a:pt x="274" y="161"/>
                  </a:lnTo>
                  <a:lnTo>
                    <a:pt x="274" y="161"/>
                  </a:lnTo>
                  <a:lnTo>
                    <a:pt x="272" y="161"/>
                  </a:lnTo>
                  <a:lnTo>
                    <a:pt x="269" y="161"/>
                  </a:lnTo>
                  <a:lnTo>
                    <a:pt x="262" y="162"/>
                  </a:lnTo>
                  <a:lnTo>
                    <a:pt x="254" y="164"/>
                  </a:lnTo>
                  <a:lnTo>
                    <a:pt x="246" y="167"/>
                  </a:lnTo>
                  <a:lnTo>
                    <a:pt x="227" y="176"/>
                  </a:lnTo>
                  <a:lnTo>
                    <a:pt x="205" y="187"/>
                  </a:lnTo>
                  <a:lnTo>
                    <a:pt x="179" y="202"/>
                  </a:lnTo>
                  <a:lnTo>
                    <a:pt x="151" y="220"/>
                  </a:lnTo>
                  <a:lnTo>
                    <a:pt x="83" y="266"/>
                  </a:lnTo>
                  <a:lnTo>
                    <a:pt x="0" y="214"/>
                  </a:lnTo>
                  <a:lnTo>
                    <a:pt x="68" y="164"/>
                  </a:lnTo>
                  <a:lnTo>
                    <a:pt x="132" y="120"/>
                  </a:lnTo>
                  <a:lnTo>
                    <a:pt x="192" y="84"/>
                  </a:lnTo>
                  <a:lnTo>
                    <a:pt x="247" y="54"/>
                  </a:lnTo>
                  <a:lnTo>
                    <a:pt x="297" y="30"/>
                  </a:lnTo>
                  <a:lnTo>
                    <a:pt x="321" y="21"/>
                  </a:lnTo>
                  <a:lnTo>
                    <a:pt x="344" y="14"/>
                  </a:lnTo>
                  <a:lnTo>
                    <a:pt x="366" y="8"/>
                  </a:lnTo>
                  <a:lnTo>
                    <a:pt x="387" y="3"/>
                  </a:lnTo>
                  <a:lnTo>
                    <a:pt x="407" y="1"/>
                  </a:lnTo>
                  <a:lnTo>
                    <a:pt x="425" y="0"/>
                  </a:lnTo>
                  <a:lnTo>
                    <a:pt x="436" y="0"/>
                  </a:lnTo>
                  <a:lnTo>
                    <a:pt x="448" y="2"/>
                  </a:lnTo>
                  <a:lnTo>
                    <a:pt x="458" y="3"/>
                  </a:lnTo>
                  <a:lnTo>
                    <a:pt x="467" y="6"/>
                  </a:lnTo>
                  <a:lnTo>
                    <a:pt x="476" y="9"/>
                  </a:lnTo>
                  <a:lnTo>
                    <a:pt x="484" y="13"/>
                  </a:lnTo>
                  <a:lnTo>
                    <a:pt x="491" y="18"/>
                  </a:lnTo>
                  <a:lnTo>
                    <a:pt x="497" y="23"/>
                  </a:lnTo>
                  <a:lnTo>
                    <a:pt x="503" y="29"/>
                  </a:lnTo>
                  <a:lnTo>
                    <a:pt x="508" y="36"/>
                  </a:lnTo>
                  <a:lnTo>
                    <a:pt x="512" y="43"/>
                  </a:lnTo>
                  <a:lnTo>
                    <a:pt x="515" y="52"/>
                  </a:lnTo>
                  <a:lnTo>
                    <a:pt x="518" y="61"/>
                  </a:lnTo>
                  <a:lnTo>
                    <a:pt x="519" y="70"/>
                  </a:lnTo>
                  <a:lnTo>
                    <a:pt x="521" y="81"/>
                  </a:lnTo>
                  <a:lnTo>
                    <a:pt x="521" y="92"/>
                  </a:lnTo>
                  <a:lnTo>
                    <a:pt x="520" y="112"/>
                  </a:lnTo>
                  <a:lnTo>
                    <a:pt x="516" y="137"/>
                  </a:lnTo>
                  <a:lnTo>
                    <a:pt x="510" y="167"/>
                  </a:lnTo>
                  <a:lnTo>
                    <a:pt x="501" y="200"/>
                  </a:lnTo>
                  <a:lnTo>
                    <a:pt x="475" y="283"/>
                  </a:lnTo>
                  <a:lnTo>
                    <a:pt x="439" y="384"/>
                  </a:lnTo>
                  <a:lnTo>
                    <a:pt x="740" y="384"/>
                  </a:lnTo>
                  <a:lnTo>
                    <a:pt x="862" y="25"/>
                  </a:lnTo>
                  <a:lnTo>
                    <a:pt x="1087" y="25"/>
                  </a:lnTo>
                  <a:lnTo>
                    <a:pt x="968" y="393"/>
                  </a:lnTo>
                  <a:lnTo>
                    <a:pt x="890" y="625"/>
                  </a:lnTo>
                  <a:lnTo>
                    <a:pt x="871" y="692"/>
                  </a:lnTo>
                  <a:lnTo>
                    <a:pt x="867" y="714"/>
                  </a:lnTo>
                  <a:lnTo>
                    <a:pt x="865" y="722"/>
                  </a:lnTo>
                  <a:lnTo>
                    <a:pt x="865" y="728"/>
                  </a:lnTo>
                  <a:lnTo>
                    <a:pt x="865" y="733"/>
                  </a:lnTo>
                  <a:lnTo>
                    <a:pt x="866" y="736"/>
                  </a:lnTo>
                  <a:lnTo>
                    <a:pt x="866" y="739"/>
                  </a:lnTo>
                  <a:lnTo>
                    <a:pt x="867" y="741"/>
                  </a:lnTo>
                  <a:lnTo>
                    <a:pt x="867" y="742"/>
                  </a:lnTo>
                  <a:lnTo>
                    <a:pt x="868" y="743"/>
                  </a:lnTo>
                  <a:lnTo>
                    <a:pt x="869" y="744"/>
                  </a:lnTo>
                  <a:lnTo>
                    <a:pt x="869" y="745"/>
                  </a:lnTo>
                  <a:lnTo>
                    <a:pt x="869" y="745"/>
                  </a:lnTo>
                  <a:lnTo>
                    <a:pt x="870" y="746"/>
                  </a:lnTo>
                  <a:lnTo>
                    <a:pt x="870" y="746"/>
                  </a:lnTo>
                  <a:lnTo>
                    <a:pt x="871" y="746"/>
                  </a:lnTo>
                  <a:lnTo>
                    <a:pt x="872" y="747"/>
                  </a:lnTo>
                  <a:lnTo>
                    <a:pt x="872" y="747"/>
                  </a:lnTo>
                  <a:lnTo>
                    <a:pt x="873" y="747"/>
                  </a:lnTo>
                  <a:lnTo>
                    <a:pt x="873" y="747"/>
                  </a:lnTo>
                  <a:lnTo>
                    <a:pt x="874" y="747"/>
                  </a:lnTo>
                  <a:lnTo>
                    <a:pt x="876" y="747"/>
                  </a:lnTo>
                  <a:lnTo>
                    <a:pt x="879" y="746"/>
                  </a:lnTo>
                  <a:lnTo>
                    <a:pt x="885" y="745"/>
                  </a:lnTo>
                  <a:lnTo>
                    <a:pt x="892" y="742"/>
                  </a:lnTo>
                  <a:lnTo>
                    <a:pt x="900" y="739"/>
                  </a:lnTo>
                  <a:lnTo>
                    <a:pt x="920" y="729"/>
                  </a:lnTo>
                  <a:lnTo>
                    <a:pt x="944" y="715"/>
                  </a:lnTo>
                  <a:lnTo>
                    <a:pt x="1005" y="675"/>
                  </a:lnTo>
                  <a:lnTo>
                    <a:pt x="1083" y="618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01160" y="2631960"/>
              <a:ext cx="561960" cy="325440"/>
            </a:xfrm>
            <a:custGeom>
              <a:avLst/>
              <a:gdLst/>
              <a:ahLst/>
              <a:rect l="l" t="t" r="r" b="b"/>
              <a:pathLst>
                <a:path w="1561" h="903">
                  <a:moveTo>
                    <a:pt x="60" y="269"/>
                  </a:moveTo>
                  <a:lnTo>
                    <a:pt x="0" y="208"/>
                  </a:lnTo>
                  <a:lnTo>
                    <a:pt x="66" y="156"/>
                  </a:lnTo>
                  <a:lnTo>
                    <a:pt x="98" y="133"/>
                  </a:lnTo>
                  <a:lnTo>
                    <a:pt x="131" y="112"/>
                  </a:lnTo>
                  <a:lnTo>
                    <a:pt x="161" y="94"/>
                  </a:lnTo>
                  <a:lnTo>
                    <a:pt x="192" y="77"/>
                  </a:lnTo>
                  <a:lnTo>
                    <a:pt x="222" y="61"/>
                  </a:lnTo>
                  <a:lnTo>
                    <a:pt x="252" y="48"/>
                  </a:lnTo>
                  <a:lnTo>
                    <a:pt x="280" y="37"/>
                  </a:lnTo>
                  <a:lnTo>
                    <a:pt x="307" y="27"/>
                  </a:lnTo>
                  <a:lnTo>
                    <a:pt x="332" y="19"/>
                  </a:lnTo>
                  <a:lnTo>
                    <a:pt x="357" y="12"/>
                  </a:lnTo>
                  <a:lnTo>
                    <a:pt x="380" y="6"/>
                  </a:lnTo>
                  <a:lnTo>
                    <a:pt x="401" y="3"/>
                  </a:lnTo>
                  <a:lnTo>
                    <a:pt x="421" y="1"/>
                  </a:lnTo>
                  <a:lnTo>
                    <a:pt x="431" y="0"/>
                  </a:lnTo>
                  <a:lnTo>
                    <a:pt x="439" y="0"/>
                  </a:lnTo>
                  <a:lnTo>
                    <a:pt x="448" y="0"/>
                  </a:lnTo>
                  <a:lnTo>
                    <a:pt x="456" y="1"/>
                  </a:lnTo>
                  <a:lnTo>
                    <a:pt x="465" y="2"/>
                  </a:lnTo>
                  <a:lnTo>
                    <a:pt x="472" y="3"/>
                  </a:lnTo>
                  <a:lnTo>
                    <a:pt x="479" y="6"/>
                  </a:lnTo>
                  <a:lnTo>
                    <a:pt x="486" y="8"/>
                  </a:lnTo>
                  <a:lnTo>
                    <a:pt x="491" y="11"/>
                  </a:lnTo>
                  <a:lnTo>
                    <a:pt x="497" y="15"/>
                  </a:lnTo>
                  <a:lnTo>
                    <a:pt x="500" y="16"/>
                  </a:lnTo>
                  <a:lnTo>
                    <a:pt x="503" y="18"/>
                  </a:lnTo>
                  <a:lnTo>
                    <a:pt x="505" y="21"/>
                  </a:lnTo>
                  <a:lnTo>
                    <a:pt x="507" y="23"/>
                  </a:lnTo>
                  <a:lnTo>
                    <a:pt x="509" y="24"/>
                  </a:lnTo>
                  <a:lnTo>
                    <a:pt x="511" y="27"/>
                  </a:lnTo>
                  <a:lnTo>
                    <a:pt x="512" y="29"/>
                  </a:lnTo>
                  <a:lnTo>
                    <a:pt x="514" y="32"/>
                  </a:lnTo>
                  <a:lnTo>
                    <a:pt x="515" y="34"/>
                  </a:lnTo>
                  <a:lnTo>
                    <a:pt x="516" y="36"/>
                  </a:lnTo>
                  <a:lnTo>
                    <a:pt x="517" y="39"/>
                  </a:lnTo>
                  <a:lnTo>
                    <a:pt x="518" y="42"/>
                  </a:lnTo>
                  <a:lnTo>
                    <a:pt x="519" y="47"/>
                  </a:lnTo>
                  <a:lnTo>
                    <a:pt x="519" y="53"/>
                  </a:lnTo>
                  <a:lnTo>
                    <a:pt x="519" y="59"/>
                  </a:lnTo>
                  <a:lnTo>
                    <a:pt x="518" y="67"/>
                  </a:lnTo>
                  <a:lnTo>
                    <a:pt x="516" y="75"/>
                  </a:lnTo>
                  <a:lnTo>
                    <a:pt x="514" y="85"/>
                  </a:lnTo>
                  <a:lnTo>
                    <a:pt x="508" y="108"/>
                  </a:lnTo>
                  <a:lnTo>
                    <a:pt x="498" y="136"/>
                  </a:lnTo>
                  <a:lnTo>
                    <a:pt x="473" y="203"/>
                  </a:lnTo>
                  <a:lnTo>
                    <a:pt x="465" y="226"/>
                  </a:lnTo>
                  <a:lnTo>
                    <a:pt x="459" y="241"/>
                  </a:lnTo>
                  <a:lnTo>
                    <a:pt x="523" y="184"/>
                  </a:lnTo>
                  <a:lnTo>
                    <a:pt x="585" y="136"/>
                  </a:lnTo>
                  <a:lnTo>
                    <a:pt x="643" y="94"/>
                  </a:lnTo>
                  <a:lnTo>
                    <a:pt x="699" y="60"/>
                  </a:lnTo>
                  <a:lnTo>
                    <a:pt x="726" y="46"/>
                  </a:lnTo>
                  <a:lnTo>
                    <a:pt x="751" y="34"/>
                  </a:lnTo>
                  <a:lnTo>
                    <a:pt x="777" y="24"/>
                  </a:lnTo>
                  <a:lnTo>
                    <a:pt x="802" y="15"/>
                  </a:lnTo>
                  <a:lnTo>
                    <a:pt x="826" y="8"/>
                  </a:lnTo>
                  <a:lnTo>
                    <a:pt x="848" y="3"/>
                  </a:lnTo>
                  <a:lnTo>
                    <a:pt x="870" y="1"/>
                  </a:lnTo>
                  <a:lnTo>
                    <a:pt x="892" y="0"/>
                  </a:lnTo>
                  <a:lnTo>
                    <a:pt x="905" y="1"/>
                  </a:lnTo>
                  <a:lnTo>
                    <a:pt x="917" y="1"/>
                  </a:lnTo>
                  <a:lnTo>
                    <a:pt x="928" y="3"/>
                  </a:lnTo>
                  <a:lnTo>
                    <a:pt x="934" y="4"/>
                  </a:lnTo>
                  <a:lnTo>
                    <a:pt x="939" y="6"/>
                  </a:lnTo>
                  <a:lnTo>
                    <a:pt x="945" y="7"/>
                  </a:lnTo>
                  <a:lnTo>
                    <a:pt x="949" y="9"/>
                  </a:lnTo>
                  <a:lnTo>
                    <a:pt x="954" y="12"/>
                  </a:lnTo>
                  <a:lnTo>
                    <a:pt x="958" y="14"/>
                  </a:lnTo>
                  <a:lnTo>
                    <a:pt x="963" y="16"/>
                  </a:lnTo>
                  <a:lnTo>
                    <a:pt x="967" y="18"/>
                  </a:lnTo>
                  <a:lnTo>
                    <a:pt x="970" y="21"/>
                  </a:lnTo>
                  <a:lnTo>
                    <a:pt x="974" y="24"/>
                  </a:lnTo>
                  <a:lnTo>
                    <a:pt x="978" y="27"/>
                  </a:lnTo>
                  <a:lnTo>
                    <a:pt x="981" y="31"/>
                  </a:lnTo>
                  <a:lnTo>
                    <a:pt x="985" y="34"/>
                  </a:lnTo>
                  <a:lnTo>
                    <a:pt x="987" y="38"/>
                  </a:lnTo>
                  <a:lnTo>
                    <a:pt x="989" y="42"/>
                  </a:lnTo>
                  <a:lnTo>
                    <a:pt x="992" y="46"/>
                  </a:lnTo>
                  <a:lnTo>
                    <a:pt x="994" y="50"/>
                  </a:lnTo>
                  <a:lnTo>
                    <a:pt x="996" y="54"/>
                  </a:lnTo>
                  <a:lnTo>
                    <a:pt x="1000" y="63"/>
                  </a:lnTo>
                  <a:lnTo>
                    <a:pt x="1002" y="73"/>
                  </a:lnTo>
                  <a:lnTo>
                    <a:pt x="1004" y="83"/>
                  </a:lnTo>
                  <a:lnTo>
                    <a:pt x="1004" y="94"/>
                  </a:lnTo>
                  <a:lnTo>
                    <a:pt x="1003" y="106"/>
                  </a:lnTo>
                  <a:lnTo>
                    <a:pt x="1002" y="118"/>
                  </a:lnTo>
                  <a:lnTo>
                    <a:pt x="998" y="132"/>
                  </a:lnTo>
                  <a:lnTo>
                    <a:pt x="994" y="147"/>
                  </a:lnTo>
                  <a:lnTo>
                    <a:pt x="989" y="162"/>
                  </a:lnTo>
                  <a:lnTo>
                    <a:pt x="983" y="179"/>
                  </a:lnTo>
                  <a:lnTo>
                    <a:pt x="966" y="215"/>
                  </a:lnTo>
                  <a:lnTo>
                    <a:pt x="990" y="188"/>
                  </a:lnTo>
                  <a:lnTo>
                    <a:pt x="1016" y="162"/>
                  </a:lnTo>
                  <a:lnTo>
                    <a:pt x="1042" y="139"/>
                  </a:lnTo>
                  <a:lnTo>
                    <a:pt x="1067" y="118"/>
                  </a:lnTo>
                  <a:lnTo>
                    <a:pt x="1094" y="98"/>
                  </a:lnTo>
                  <a:lnTo>
                    <a:pt x="1121" y="80"/>
                  </a:lnTo>
                  <a:lnTo>
                    <a:pt x="1147" y="65"/>
                  </a:lnTo>
                  <a:lnTo>
                    <a:pt x="1175" y="51"/>
                  </a:lnTo>
                  <a:lnTo>
                    <a:pt x="1202" y="39"/>
                  </a:lnTo>
                  <a:lnTo>
                    <a:pt x="1227" y="29"/>
                  </a:lnTo>
                  <a:lnTo>
                    <a:pt x="1251" y="20"/>
                  </a:lnTo>
                  <a:lnTo>
                    <a:pt x="1274" y="12"/>
                  </a:lnTo>
                  <a:lnTo>
                    <a:pt x="1296" y="7"/>
                  </a:lnTo>
                  <a:lnTo>
                    <a:pt x="1316" y="3"/>
                  </a:lnTo>
                  <a:lnTo>
                    <a:pt x="1334" y="1"/>
                  </a:lnTo>
                  <a:lnTo>
                    <a:pt x="1343" y="0"/>
                  </a:lnTo>
                  <a:lnTo>
                    <a:pt x="1351" y="0"/>
                  </a:lnTo>
                  <a:lnTo>
                    <a:pt x="1366" y="1"/>
                  </a:lnTo>
                  <a:lnTo>
                    <a:pt x="1382" y="2"/>
                  </a:lnTo>
                  <a:lnTo>
                    <a:pt x="1395" y="4"/>
                  </a:lnTo>
                  <a:lnTo>
                    <a:pt x="1402" y="6"/>
                  </a:lnTo>
                  <a:lnTo>
                    <a:pt x="1408" y="7"/>
                  </a:lnTo>
                  <a:lnTo>
                    <a:pt x="1415" y="9"/>
                  </a:lnTo>
                  <a:lnTo>
                    <a:pt x="1421" y="12"/>
                  </a:lnTo>
                  <a:lnTo>
                    <a:pt x="1426" y="14"/>
                  </a:lnTo>
                  <a:lnTo>
                    <a:pt x="1432" y="17"/>
                  </a:lnTo>
                  <a:lnTo>
                    <a:pt x="1437" y="20"/>
                  </a:lnTo>
                  <a:lnTo>
                    <a:pt x="1443" y="23"/>
                  </a:lnTo>
                  <a:lnTo>
                    <a:pt x="1447" y="26"/>
                  </a:lnTo>
                  <a:lnTo>
                    <a:pt x="1452" y="30"/>
                  </a:lnTo>
                  <a:lnTo>
                    <a:pt x="1457" y="33"/>
                  </a:lnTo>
                  <a:lnTo>
                    <a:pt x="1461" y="38"/>
                  </a:lnTo>
                  <a:lnTo>
                    <a:pt x="1464" y="42"/>
                  </a:lnTo>
                  <a:lnTo>
                    <a:pt x="1467" y="47"/>
                  </a:lnTo>
                  <a:lnTo>
                    <a:pt x="1471" y="51"/>
                  </a:lnTo>
                  <a:lnTo>
                    <a:pt x="1474" y="56"/>
                  </a:lnTo>
                  <a:lnTo>
                    <a:pt x="1479" y="67"/>
                  </a:lnTo>
                  <a:lnTo>
                    <a:pt x="1483" y="78"/>
                  </a:lnTo>
                  <a:lnTo>
                    <a:pt x="1486" y="90"/>
                  </a:lnTo>
                  <a:lnTo>
                    <a:pt x="1487" y="103"/>
                  </a:lnTo>
                  <a:lnTo>
                    <a:pt x="1488" y="117"/>
                  </a:lnTo>
                  <a:lnTo>
                    <a:pt x="1488" y="125"/>
                  </a:lnTo>
                  <a:lnTo>
                    <a:pt x="1487" y="133"/>
                  </a:lnTo>
                  <a:lnTo>
                    <a:pt x="1485" y="151"/>
                  </a:lnTo>
                  <a:lnTo>
                    <a:pt x="1482" y="170"/>
                  </a:lnTo>
                  <a:lnTo>
                    <a:pt x="1476" y="190"/>
                  </a:lnTo>
                  <a:lnTo>
                    <a:pt x="1465" y="221"/>
                  </a:lnTo>
                  <a:lnTo>
                    <a:pt x="1446" y="273"/>
                  </a:lnTo>
                  <a:lnTo>
                    <a:pt x="1383" y="438"/>
                  </a:lnTo>
                  <a:lnTo>
                    <a:pt x="1340" y="552"/>
                  </a:lnTo>
                  <a:lnTo>
                    <a:pt x="1309" y="639"/>
                  </a:lnTo>
                  <a:lnTo>
                    <a:pt x="1291" y="700"/>
                  </a:lnTo>
                  <a:lnTo>
                    <a:pt x="1286" y="721"/>
                  </a:lnTo>
                  <a:lnTo>
                    <a:pt x="1285" y="729"/>
                  </a:lnTo>
                  <a:lnTo>
                    <a:pt x="1285" y="736"/>
                  </a:lnTo>
                  <a:lnTo>
                    <a:pt x="1285" y="739"/>
                  </a:lnTo>
                  <a:lnTo>
                    <a:pt x="1285" y="742"/>
                  </a:lnTo>
                  <a:lnTo>
                    <a:pt x="1285" y="743"/>
                  </a:lnTo>
                  <a:lnTo>
                    <a:pt x="1285" y="744"/>
                  </a:lnTo>
                  <a:lnTo>
                    <a:pt x="1286" y="745"/>
                  </a:lnTo>
                  <a:lnTo>
                    <a:pt x="1286" y="746"/>
                  </a:lnTo>
                  <a:lnTo>
                    <a:pt x="1287" y="747"/>
                  </a:lnTo>
                  <a:lnTo>
                    <a:pt x="1288" y="747"/>
                  </a:lnTo>
                  <a:lnTo>
                    <a:pt x="1288" y="748"/>
                  </a:lnTo>
                  <a:lnTo>
                    <a:pt x="1289" y="749"/>
                  </a:lnTo>
                  <a:lnTo>
                    <a:pt x="1290" y="749"/>
                  </a:lnTo>
                  <a:lnTo>
                    <a:pt x="1291" y="749"/>
                  </a:lnTo>
                  <a:lnTo>
                    <a:pt x="1292" y="749"/>
                  </a:lnTo>
                  <a:lnTo>
                    <a:pt x="1293" y="749"/>
                  </a:lnTo>
                  <a:lnTo>
                    <a:pt x="1297" y="749"/>
                  </a:lnTo>
                  <a:lnTo>
                    <a:pt x="1301" y="749"/>
                  </a:lnTo>
                  <a:lnTo>
                    <a:pt x="1305" y="748"/>
                  </a:lnTo>
                  <a:lnTo>
                    <a:pt x="1309" y="747"/>
                  </a:lnTo>
                  <a:lnTo>
                    <a:pt x="1314" y="746"/>
                  </a:lnTo>
                  <a:lnTo>
                    <a:pt x="1318" y="744"/>
                  </a:lnTo>
                  <a:lnTo>
                    <a:pt x="1323" y="742"/>
                  </a:lnTo>
                  <a:lnTo>
                    <a:pt x="1327" y="740"/>
                  </a:lnTo>
                  <a:lnTo>
                    <a:pt x="1364" y="719"/>
                  </a:lnTo>
                  <a:lnTo>
                    <a:pt x="1403" y="695"/>
                  </a:lnTo>
                  <a:lnTo>
                    <a:pt x="1445" y="667"/>
                  </a:lnTo>
                  <a:lnTo>
                    <a:pt x="1492" y="636"/>
                  </a:lnTo>
                  <a:lnTo>
                    <a:pt x="1560" y="693"/>
                  </a:lnTo>
                  <a:lnTo>
                    <a:pt x="1551" y="701"/>
                  </a:lnTo>
                  <a:lnTo>
                    <a:pt x="1542" y="708"/>
                  </a:lnTo>
                  <a:lnTo>
                    <a:pt x="1530" y="715"/>
                  </a:lnTo>
                  <a:lnTo>
                    <a:pt x="1519" y="723"/>
                  </a:lnTo>
                  <a:lnTo>
                    <a:pt x="1491" y="739"/>
                  </a:lnTo>
                  <a:lnTo>
                    <a:pt x="1461" y="755"/>
                  </a:lnTo>
                  <a:lnTo>
                    <a:pt x="1407" y="797"/>
                  </a:lnTo>
                  <a:lnTo>
                    <a:pt x="1383" y="814"/>
                  </a:lnTo>
                  <a:lnTo>
                    <a:pt x="1360" y="829"/>
                  </a:lnTo>
                  <a:lnTo>
                    <a:pt x="1338" y="843"/>
                  </a:lnTo>
                  <a:lnTo>
                    <a:pt x="1317" y="853"/>
                  </a:lnTo>
                  <a:lnTo>
                    <a:pt x="1297" y="862"/>
                  </a:lnTo>
                  <a:lnTo>
                    <a:pt x="1279" y="869"/>
                  </a:lnTo>
                  <a:lnTo>
                    <a:pt x="1266" y="877"/>
                  </a:lnTo>
                  <a:lnTo>
                    <a:pt x="1254" y="884"/>
                  </a:lnTo>
                  <a:lnTo>
                    <a:pt x="1241" y="889"/>
                  </a:lnTo>
                  <a:lnTo>
                    <a:pt x="1228" y="894"/>
                  </a:lnTo>
                  <a:lnTo>
                    <a:pt x="1214" y="898"/>
                  </a:lnTo>
                  <a:lnTo>
                    <a:pt x="1201" y="900"/>
                  </a:lnTo>
                  <a:lnTo>
                    <a:pt x="1186" y="902"/>
                  </a:lnTo>
                  <a:lnTo>
                    <a:pt x="1172" y="902"/>
                  </a:lnTo>
                  <a:lnTo>
                    <a:pt x="1166" y="902"/>
                  </a:lnTo>
                  <a:lnTo>
                    <a:pt x="1160" y="902"/>
                  </a:lnTo>
                  <a:lnTo>
                    <a:pt x="1154" y="901"/>
                  </a:lnTo>
                  <a:lnTo>
                    <a:pt x="1148" y="900"/>
                  </a:lnTo>
                  <a:lnTo>
                    <a:pt x="1143" y="899"/>
                  </a:lnTo>
                  <a:lnTo>
                    <a:pt x="1137" y="897"/>
                  </a:lnTo>
                  <a:lnTo>
                    <a:pt x="1131" y="896"/>
                  </a:lnTo>
                  <a:lnTo>
                    <a:pt x="1126" y="893"/>
                  </a:lnTo>
                  <a:lnTo>
                    <a:pt x="1121" y="891"/>
                  </a:lnTo>
                  <a:lnTo>
                    <a:pt x="1115" y="888"/>
                  </a:lnTo>
                  <a:lnTo>
                    <a:pt x="1110" y="885"/>
                  </a:lnTo>
                  <a:lnTo>
                    <a:pt x="1106" y="882"/>
                  </a:lnTo>
                  <a:lnTo>
                    <a:pt x="1096" y="875"/>
                  </a:lnTo>
                  <a:lnTo>
                    <a:pt x="1086" y="867"/>
                  </a:lnTo>
                  <a:lnTo>
                    <a:pt x="1079" y="858"/>
                  </a:lnTo>
                  <a:lnTo>
                    <a:pt x="1071" y="848"/>
                  </a:lnTo>
                  <a:lnTo>
                    <a:pt x="1066" y="837"/>
                  </a:lnTo>
                  <a:lnTo>
                    <a:pt x="1061" y="825"/>
                  </a:lnTo>
                  <a:lnTo>
                    <a:pt x="1056" y="814"/>
                  </a:lnTo>
                  <a:lnTo>
                    <a:pt x="1053" y="801"/>
                  </a:lnTo>
                  <a:lnTo>
                    <a:pt x="1052" y="787"/>
                  </a:lnTo>
                  <a:lnTo>
                    <a:pt x="1051" y="773"/>
                  </a:lnTo>
                  <a:lnTo>
                    <a:pt x="1051" y="760"/>
                  </a:lnTo>
                  <a:lnTo>
                    <a:pt x="1052" y="747"/>
                  </a:lnTo>
                  <a:lnTo>
                    <a:pt x="1056" y="720"/>
                  </a:lnTo>
                  <a:lnTo>
                    <a:pt x="1062" y="690"/>
                  </a:lnTo>
                  <a:lnTo>
                    <a:pt x="1069" y="658"/>
                  </a:lnTo>
                  <a:lnTo>
                    <a:pt x="1083" y="615"/>
                  </a:lnTo>
                  <a:lnTo>
                    <a:pt x="1105" y="554"/>
                  </a:lnTo>
                  <a:lnTo>
                    <a:pt x="1173" y="372"/>
                  </a:lnTo>
                  <a:lnTo>
                    <a:pt x="1201" y="298"/>
                  </a:lnTo>
                  <a:lnTo>
                    <a:pt x="1221" y="241"/>
                  </a:lnTo>
                  <a:lnTo>
                    <a:pt x="1232" y="200"/>
                  </a:lnTo>
                  <a:lnTo>
                    <a:pt x="1235" y="186"/>
                  </a:lnTo>
                  <a:lnTo>
                    <a:pt x="1236" y="180"/>
                  </a:lnTo>
                  <a:lnTo>
                    <a:pt x="1236" y="176"/>
                  </a:lnTo>
                  <a:lnTo>
                    <a:pt x="1236" y="173"/>
                  </a:lnTo>
                  <a:lnTo>
                    <a:pt x="1236" y="171"/>
                  </a:lnTo>
                  <a:lnTo>
                    <a:pt x="1235" y="170"/>
                  </a:lnTo>
                  <a:lnTo>
                    <a:pt x="1235" y="169"/>
                  </a:lnTo>
                  <a:lnTo>
                    <a:pt x="1234" y="168"/>
                  </a:lnTo>
                  <a:lnTo>
                    <a:pt x="1234" y="167"/>
                  </a:lnTo>
                  <a:lnTo>
                    <a:pt x="1233" y="166"/>
                  </a:lnTo>
                  <a:lnTo>
                    <a:pt x="1232" y="165"/>
                  </a:lnTo>
                  <a:lnTo>
                    <a:pt x="1231" y="165"/>
                  </a:lnTo>
                  <a:lnTo>
                    <a:pt x="1230" y="164"/>
                  </a:lnTo>
                  <a:lnTo>
                    <a:pt x="1229" y="163"/>
                  </a:lnTo>
                  <a:lnTo>
                    <a:pt x="1228" y="163"/>
                  </a:lnTo>
                  <a:lnTo>
                    <a:pt x="1226" y="162"/>
                  </a:lnTo>
                  <a:lnTo>
                    <a:pt x="1225" y="162"/>
                  </a:lnTo>
                  <a:lnTo>
                    <a:pt x="1224" y="162"/>
                  </a:lnTo>
                  <a:lnTo>
                    <a:pt x="1218" y="162"/>
                  </a:lnTo>
                  <a:lnTo>
                    <a:pt x="1211" y="163"/>
                  </a:lnTo>
                  <a:lnTo>
                    <a:pt x="1205" y="164"/>
                  </a:lnTo>
                  <a:lnTo>
                    <a:pt x="1198" y="165"/>
                  </a:lnTo>
                  <a:lnTo>
                    <a:pt x="1190" y="166"/>
                  </a:lnTo>
                  <a:lnTo>
                    <a:pt x="1183" y="168"/>
                  </a:lnTo>
                  <a:lnTo>
                    <a:pt x="1166" y="171"/>
                  </a:lnTo>
                  <a:lnTo>
                    <a:pt x="1138" y="187"/>
                  </a:lnTo>
                  <a:lnTo>
                    <a:pt x="1111" y="203"/>
                  </a:lnTo>
                  <a:lnTo>
                    <a:pt x="1086" y="219"/>
                  </a:lnTo>
                  <a:lnTo>
                    <a:pt x="1062" y="235"/>
                  </a:lnTo>
                  <a:lnTo>
                    <a:pt x="1040" y="253"/>
                  </a:lnTo>
                  <a:lnTo>
                    <a:pt x="1018" y="270"/>
                  </a:lnTo>
                  <a:lnTo>
                    <a:pt x="998" y="287"/>
                  </a:lnTo>
                  <a:lnTo>
                    <a:pt x="980" y="305"/>
                  </a:lnTo>
                  <a:lnTo>
                    <a:pt x="968" y="318"/>
                  </a:lnTo>
                  <a:lnTo>
                    <a:pt x="957" y="332"/>
                  </a:lnTo>
                  <a:lnTo>
                    <a:pt x="947" y="349"/>
                  </a:lnTo>
                  <a:lnTo>
                    <a:pt x="936" y="367"/>
                  </a:lnTo>
                  <a:lnTo>
                    <a:pt x="926" y="388"/>
                  </a:lnTo>
                  <a:lnTo>
                    <a:pt x="916" y="410"/>
                  </a:lnTo>
                  <a:lnTo>
                    <a:pt x="907" y="434"/>
                  </a:lnTo>
                  <a:lnTo>
                    <a:pt x="897" y="460"/>
                  </a:lnTo>
                  <a:lnTo>
                    <a:pt x="768" y="871"/>
                  </a:lnTo>
                  <a:lnTo>
                    <a:pt x="542" y="871"/>
                  </a:lnTo>
                  <a:lnTo>
                    <a:pt x="729" y="245"/>
                  </a:lnTo>
                  <a:lnTo>
                    <a:pt x="745" y="196"/>
                  </a:lnTo>
                  <a:lnTo>
                    <a:pt x="749" y="182"/>
                  </a:lnTo>
                  <a:lnTo>
                    <a:pt x="749" y="177"/>
                  </a:lnTo>
                  <a:lnTo>
                    <a:pt x="749" y="176"/>
                  </a:lnTo>
                  <a:lnTo>
                    <a:pt x="749" y="175"/>
                  </a:lnTo>
                  <a:lnTo>
                    <a:pt x="749" y="174"/>
                  </a:lnTo>
                  <a:lnTo>
                    <a:pt x="749" y="171"/>
                  </a:lnTo>
                  <a:lnTo>
                    <a:pt x="749" y="170"/>
                  </a:lnTo>
                  <a:lnTo>
                    <a:pt x="749" y="169"/>
                  </a:lnTo>
                  <a:lnTo>
                    <a:pt x="749" y="168"/>
                  </a:lnTo>
                  <a:lnTo>
                    <a:pt x="749" y="167"/>
                  </a:lnTo>
                  <a:lnTo>
                    <a:pt x="748" y="167"/>
                  </a:lnTo>
                  <a:lnTo>
                    <a:pt x="748" y="166"/>
                  </a:lnTo>
                  <a:lnTo>
                    <a:pt x="748" y="166"/>
                  </a:lnTo>
                  <a:lnTo>
                    <a:pt x="747" y="165"/>
                  </a:lnTo>
                  <a:lnTo>
                    <a:pt x="747" y="165"/>
                  </a:lnTo>
                  <a:lnTo>
                    <a:pt x="747" y="165"/>
                  </a:lnTo>
                  <a:lnTo>
                    <a:pt x="746" y="165"/>
                  </a:lnTo>
                  <a:lnTo>
                    <a:pt x="746" y="165"/>
                  </a:lnTo>
                  <a:lnTo>
                    <a:pt x="745" y="164"/>
                  </a:lnTo>
                  <a:lnTo>
                    <a:pt x="745" y="164"/>
                  </a:lnTo>
                  <a:lnTo>
                    <a:pt x="744" y="163"/>
                  </a:lnTo>
                  <a:lnTo>
                    <a:pt x="743" y="163"/>
                  </a:lnTo>
                  <a:lnTo>
                    <a:pt x="743" y="163"/>
                  </a:lnTo>
                  <a:lnTo>
                    <a:pt x="742" y="163"/>
                  </a:lnTo>
                  <a:lnTo>
                    <a:pt x="741" y="162"/>
                  </a:lnTo>
                  <a:lnTo>
                    <a:pt x="740" y="162"/>
                  </a:lnTo>
                  <a:lnTo>
                    <a:pt x="738" y="162"/>
                  </a:lnTo>
                  <a:lnTo>
                    <a:pt x="736" y="162"/>
                  </a:lnTo>
                  <a:lnTo>
                    <a:pt x="732" y="162"/>
                  </a:lnTo>
                  <a:lnTo>
                    <a:pt x="729" y="163"/>
                  </a:lnTo>
                  <a:lnTo>
                    <a:pt x="725" y="164"/>
                  </a:lnTo>
                  <a:lnTo>
                    <a:pt x="720" y="165"/>
                  </a:lnTo>
                  <a:lnTo>
                    <a:pt x="709" y="168"/>
                  </a:lnTo>
                  <a:lnTo>
                    <a:pt x="696" y="173"/>
                  </a:lnTo>
                  <a:lnTo>
                    <a:pt x="681" y="179"/>
                  </a:lnTo>
                  <a:lnTo>
                    <a:pt x="665" y="186"/>
                  </a:lnTo>
                  <a:lnTo>
                    <a:pt x="626" y="204"/>
                  </a:lnTo>
                  <a:lnTo>
                    <a:pt x="579" y="236"/>
                  </a:lnTo>
                  <a:lnTo>
                    <a:pt x="557" y="252"/>
                  </a:lnTo>
                  <a:lnTo>
                    <a:pt x="538" y="268"/>
                  </a:lnTo>
                  <a:lnTo>
                    <a:pt x="519" y="283"/>
                  </a:lnTo>
                  <a:lnTo>
                    <a:pt x="503" y="299"/>
                  </a:lnTo>
                  <a:lnTo>
                    <a:pt x="488" y="315"/>
                  </a:lnTo>
                  <a:lnTo>
                    <a:pt x="473" y="330"/>
                  </a:lnTo>
                  <a:lnTo>
                    <a:pt x="461" y="347"/>
                  </a:lnTo>
                  <a:lnTo>
                    <a:pt x="449" y="366"/>
                  </a:lnTo>
                  <a:lnTo>
                    <a:pt x="437" y="387"/>
                  </a:lnTo>
                  <a:lnTo>
                    <a:pt x="426" y="410"/>
                  </a:lnTo>
                  <a:lnTo>
                    <a:pt x="414" y="435"/>
                  </a:lnTo>
                  <a:lnTo>
                    <a:pt x="404" y="462"/>
                  </a:lnTo>
                  <a:lnTo>
                    <a:pt x="384" y="523"/>
                  </a:lnTo>
                  <a:lnTo>
                    <a:pt x="283" y="871"/>
                  </a:lnTo>
                  <a:lnTo>
                    <a:pt x="55" y="871"/>
                  </a:lnTo>
                  <a:lnTo>
                    <a:pt x="203" y="362"/>
                  </a:lnTo>
                  <a:lnTo>
                    <a:pt x="246" y="218"/>
                  </a:lnTo>
                  <a:lnTo>
                    <a:pt x="256" y="178"/>
                  </a:lnTo>
                  <a:lnTo>
                    <a:pt x="259" y="166"/>
                  </a:lnTo>
                  <a:lnTo>
                    <a:pt x="260" y="162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59"/>
                  </a:lnTo>
                  <a:lnTo>
                    <a:pt x="260" y="159"/>
                  </a:lnTo>
                  <a:lnTo>
                    <a:pt x="260" y="159"/>
                  </a:lnTo>
                  <a:lnTo>
                    <a:pt x="260" y="159"/>
                  </a:lnTo>
                  <a:lnTo>
                    <a:pt x="260" y="159"/>
                  </a:lnTo>
                  <a:lnTo>
                    <a:pt x="261" y="159"/>
                  </a:lnTo>
                  <a:lnTo>
                    <a:pt x="261" y="159"/>
                  </a:lnTo>
                  <a:lnTo>
                    <a:pt x="261" y="159"/>
                  </a:lnTo>
                  <a:lnTo>
                    <a:pt x="261" y="158"/>
                  </a:lnTo>
                  <a:lnTo>
                    <a:pt x="261" y="158"/>
                  </a:lnTo>
                  <a:lnTo>
                    <a:pt x="262" y="158"/>
                  </a:lnTo>
                  <a:lnTo>
                    <a:pt x="262" y="158"/>
                  </a:lnTo>
                  <a:lnTo>
                    <a:pt x="262" y="158"/>
                  </a:lnTo>
                  <a:lnTo>
                    <a:pt x="263" y="158"/>
                  </a:lnTo>
                  <a:lnTo>
                    <a:pt x="263" y="158"/>
                  </a:lnTo>
                  <a:lnTo>
                    <a:pt x="260" y="158"/>
                  </a:lnTo>
                  <a:lnTo>
                    <a:pt x="258" y="159"/>
                  </a:lnTo>
                  <a:lnTo>
                    <a:pt x="252" y="159"/>
                  </a:lnTo>
                  <a:lnTo>
                    <a:pt x="245" y="162"/>
                  </a:lnTo>
                  <a:lnTo>
                    <a:pt x="236" y="165"/>
                  </a:lnTo>
                  <a:lnTo>
                    <a:pt x="217" y="174"/>
                  </a:lnTo>
                  <a:lnTo>
                    <a:pt x="194" y="185"/>
                  </a:lnTo>
                  <a:lnTo>
                    <a:pt x="167" y="201"/>
                  </a:lnTo>
                  <a:lnTo>
                    <a:pt x="135" y="221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86880" y="2633760"/>
              <a:ext cx="345960" cy="322200"/>
            </a:xfrm>
            <a:custGeom>
              <a:avLst/>
              <a:gdLst/>
              <a:ahLst/>
              <a:rect l="l" t="t" r="r" b="b"/>
              <a:pathLst>
                <a:path w="963" h="897">
                  <a:moveTo>
                    <a:pt x="648" y="0"/>
                  </a:moveTo>
                  <a:lnTo>
                    <a:pt x="666" y="0"/>
                  </a:lnTo>
                  <a:lnTo>
                    <a:pt x="682" y="1"/>
                  </a:lnTo>
                  <a:lnTo>
                    <a:pt x="698" y="3"/>
                  </a:lnTo>
                  <a:lnTo>
                    <a:pt x="713" y="5"/>
                  </a:lnTo>
                  <a:lnTo>
                    <a:pt x="728" y="8"/>
                  </a:lnTo>
                  <a:lnTo>
                    <a:pt x="744" y="12"/>
                  </a:lnTo>
                  <a:lnTo>
                    <a:pt x="758" y="16"/>
                  </a:lnTo>
                  <a:lnTo>
                    <a:pt x="772" y="21"/>
                  </a:lnTo>
                  <a:lnTo>
                    <a:pt x="786" y="27"/>
                  </a:lnTo>
                  <a:lnTo>
                    <a:pt x="800" y="33"/>
                  </a:lnTo>
                  <a:lnTo>
                    <a:pt x="813" y="39"/>
                  </a:lnTo>
                  <a:lnTo>
                    <a:pt x="825" y="47"/>
                  </a:lnTo>
                  <a:lnTo>
                    <a:pt x="838" y="55"/>
                  </a:lnTo>
                  <a:lnTo>
                    <a:pt x="850" y="64"/>
                  </a:lnTo>
                  <a:lnTo>
                    <a:pt x="873" y="83"/>
                  </a:lnTo>
                  <a:lnTo>
                    <a:pt x="884" y="94"/>
                  </a:lnTo>
                  <a:lnTo>
                    <a:pt x="894" y="105"/>
                  </a:lnTo>
                  <a:lnTo>
                    <a:pt x="904" y="117"/>
                  </a:lnTo>
                  <a:lnTo>
                    <a:pt x="912" y="129"/>
                  </a:lnTo>
                  <a:lnTo>
                    <a:pt x="927" y="154"/>
                  </a:lnTo>
                  <a:lnTo>
                    <a:pt x="940" y="182"/>
                  </a:lnTo>
                  <a:lnTo>
                    <a:pt x="949" y="211"/>
                  </a:lnTo>
                  <a:lnTo>
                    <a:pt x="956" y="242"/>
                  </a:lnTo>
                  <a:lnTo>
                    <a:pt x="961" y="275"/>
                  </a:lnTo>
                  <a:lnTo>
                    <a:pt x="962" y="310"/>
                  </a:lnTo>
                  <a:lnTo>
                    <a:pt x="959" y="366"/>
                  </a:lnTo>
                  <a:lnTo>
                    <a:pt x="949" y="420"/>
                  </a:lnTo>
                  <a:lnTo>
                    <a:pt x="933" y="473"/>
                  </a:lnTo>
                  <a:lnTo>
                    <a:pt x="911" y="524"/>
                  </a:lnTo>
                  <a:lnTo>
                    <a:pt x="883" y="574"/>
                  </a:lnTo>
                  <a:lnTo>
                    <a:pt x="847" y="623"/>
                  </a:lnTo>
                  <a:lnTo>
                    <a:pt x="806" y="670"/>
                  </a:lnTo>
                  <a:lnTo>
                    <a:pt x="759" y="716"/>
                  </a:lnTo>
                  <a:lnTo>
                    <a:pt x="707" y="758"/>
                  </a:lnTo>
                  <a:lnTo>
                    <a:pt x="656" y="795"/>
                  </a:lnTo>
                  <a:lnTo>
                    <a:pt x="603" y="825"/>
                  </a:lnTo>
                  <a:lnTo>
                    <a:pt x="576" y="839"/>
                  </a:lnTo>
                  <a:lnTo>
                    <a:pt x="549" y="851"/>
                  </a:lnTo>
                  <a:lnTo>
                    <a:pt x="522" y="862"/>
                  </a:lnTo>
                  <a:lnTo>
                    <a:pt x="494" y="871"/>
                  </a:lnTo>
                  <a:lnTo>
                    <a:pt x="467" y="878"/>
                  </a:lnTo>
                  <a:lnTo>
                    <a:pt x="439" y="885"/>
                  </a:lnTo>
                  <a:lnTo>
                    <a:pt x="410" y="890"/>
                  </a:lnTo>
                  <a:lnTo>
                    <a:pt x="382" y="893"/>
                  </a:lnTo>
                  <a:lnTo>
                    <a:pt x="353" y="896"/>
                  </a:lnTo>
                  <a:lnTo>
                    <a:pt x="325" y="896"/>
                  </a:lnTo>
                  <a:lnTo>
                    <a:pt x="289" y="895"/>
                  </a:lnTo>
                  <a:lnTo>
                    <a:pt x="255" y="892"/>
                  </a:lnTo>
                  <a:lnTo>
                    <a:pt x="239" y="889"/>
                  </a:lnTo>
                  <a:lnTo>
                    <a:pt x="224" y="886"/>
                  </a:lnTo>
                  <a:lnTo>
                    <a:pt x="209" y="882"/>
                  </a:lnTo>
                  <a:lnTo>
                    <a:pt x="193" y="878"/>
                  </a:lnTo>
                  <a:lnTo>
                    <a:pt x="179" y="872"/>
                  </a:lnTo>
                  <a:lnTo>
                    <a:pt x="165" y="867"/>
                  </a:lnTo>
                  <a:lnTo>
                    <a:pt x="151" y="861"/>
                  </a:lnTo>
                  <a:lnTo>
                    <a:pt x="138" y="854"/>
                  </a:lnTo>
                  <a:lnTo>
                    <a:pt x="125" y="846"/>
                  </a:lnTo>
                  <a:lnTo>
                    <a:pt x="113" y="839"/>
                  </a:lnTo>
                  <a:lnTo>
                    <a:pt x="101" y="830"/>
                  </a:lnTo>
                  <a:lnTo>
                    <a:pt x="90" y="821"/>
                  </a:lnTo>
                  <a:lnTo>
                    <a:pt x="79" y="811"/>
                  </a:lnTo>
                  <a:lnTo>
                    <a:pt x="69" y="802"/>
                  </a:lnTo>
                  <a:lnTo>
                    <a:pt x="59" y="791"/>
                  </a:lnTo>
                  <a:lnTo>
                    <a:pt x="51" y="780"/>
                  </a:lnTo>
                  <a:lnTo>
                    <a:pt x="42" y="769"/>
                  </a:lnTo>
                  <a:lnTo>
                    <a:pt x="35" y="758"/>
                  </a:lnTo>
                  <a:lnTo>
                    <a:pt x="29" y="746"/>
                  </a:lnTo>
                  <a:lnTo>
                    <a:pt x="22" y="733"/>
                  </a:lnTo>
                  <a:lnTo>
                    <a:pt x="12" y="707"/>
                  </a:lnTo>
                  <a:lnTo>
                    <a:pt x="6" y="679"/>
                  </a:lnTo>
                  <a:lnTo>
                    <a:pt x="1" y="650"/>
                  </a:lnTo>
                  <a:lnTo>
                    <a:pt x="0" y="620"/>
                  </a:lnTo>
                  <a:lnTo>
                    <a:pt x="2" y="567"/>
                  </a:lnTo>
                  <a:lnTo>
                    <a:pt x="10" y="516"/>
                  </a:lnTo>
                  <a:lnTo>
                    <a:pt x="21" y="466"/>
                  </a:lnTo>
                  <a:lnTo>
                    <a:pt x="38" y="417"/>
                  </a:lnTo>
                  <a:lnTo>
                    <a:pt x="59" y="370"/>
                  </a:lnTo>
                  <a:lnTo>
                    <a:pt x="85" y="325"/>
                  </a:lnTo>
                  <a:lnTo>
                    <a:pt x="115" y="281"/>
                  </a:lnTo>
                  <a:lnTo>
                    <a:pt x="150" y="238"/>
                  </a:lnTo>
                  <a:lnTo>
                    <a:pt x="203" y="182"/>
                  </a:lnTo>
                  <a:lnTo>
                    <a:pt x="229" y="157"/>
                  </a:lnTo>
                  <a:lnTo>
                    <a:pt x="258" y="134"/>
                  </a:lnTo>
                  <a:lnTo>
                    <a:pt x="287" y="112"/>
                  </a:lnTo>
                  <a:lnTo>
                    <a:pt x="315" y="93"/>
                  </a:lnTo>
                  <a:lnTo>
                    <a:pt x="346" y="75"/>
                  </a:lnTo>
                  <a:lnTo>
                    <a:pt x="376" y="59"/>
                  </a:lnTo>
                  <a:lnTo>
                    <a:pt x="408" y="45"/>
                  </a:lnTo>
                  <a:lnTo>
                    <a:pt x="440" y="33"/>
                  </a:lnTo>
                  <a:lnTo>
                    <a:pt x="473" y="23"/>
                  </a:lnTo>
                  <a:lnTo>
                    <a:pt x="507" y="15"/>
                  </a:lnTo>
                  <a:lnTo>
                    <a:pt x="541" y="8"/>
                  </a:lnTo>
                  <a:lnTo>
                    <a:pt x="576" y="3"/>
                  </a:lnTo>
                  <a:lnTo>
                    <a:pt x="612" y="0"/>
                  </a:lnTo>
                  <a:close/>
                  <a:moveTo>
                    <a:pt x="542" y="115"/>
                  </a:moveTo>
                  <a:lnTo>
                    <a:pt x="530" y="115"/>
                  </a:lnTo>
                  <a:lnTo>
                    <a:pt x="519" y="116"/>
                  </a:lnTo>
                  <a:lnTo>
                    <a:pt x="507" y="118"/>
                  </a:lnTo>
                  <a:lnTo>
                    <a:pt x="496" y="121"/>
                  </a:lnTo>
                  <a:lnTo>
                    <a:pt x="485" y="126"/>
                  </a:lnTo>
                  <a:lnTo>
                    <a:pt x="473" y="130"/>
                  </a:lnTo>
                  <a:lnTo>
                    <a:pt x="461" y="136"/>
                  </a:lnTo>
                  <a:lnTo>
                    <a:pt x="449" y="143"/>
                  </a:lnTo>
                  <a:lnTo>
                    <a:pt x="438" y="150"/>
                  </a:lnTo>
                  <a:lnTo>
                    <a:pt x="427" y="159"/>
                  </a:lnTo>
                  <a:lnTo>
                    <a:pt x="403" y="177"/>
                  </a:lnTo>
                  <a:lnTo>
                    <a:pt x="380" y="200"/>
                  </a:lnTo>
                  <a:lnTo>
                    <a:pt x="356" y="227"/>
                  </a:lnTo>
                  <a:lnTo>
                    <a:pt x="334" y="256"/>
                  </a:lnTo>
                  <a:lnTo>
                    <a:pt x="315" y="288"/>
                  </a:lnTo>
                  <a:lnTo>
                    <a:pt x="299" y="324"/>
                  </a:lnTo>
                  <a:lnTo>
                    <a:pt x="287" y="362"/>
                  </a:lnTo>
                  <a:lnTo>
                    <a:pt x="276" y="403"/>
                  </a:lnTo>
                  <a:lnTo>
                    <a:pt x="269" y="447"/>
                  </a:lnTo>
                  <a:lnTo>
                    <a:pt x="265" y="494"/>
                  </a:lnTo>
                  <a:lnTo>
                    <a:pt x="263" y="544"/>
                  </a:lnTo>
                  <a:lnTo>
                    <a:pt x="264" y="574"/>
                  </a:lnTo>
                  <a:lnTo>
                    <a:pt x="267" y="602"/>
                  </a:lnTo>
                  <a:lnTo>
                    <a:pt x="270" y="629"/>
                  </a:lnTo>
                  <a:lnTo>
                    <a:pt x="277" y="653"/>
                  </a:lnTo>
                  <a:lnTo>
                    <a:pt x="285" y="676"/>
                  </a:lnTo>
                  <a:lnTo>
                    <a:pt x="294" y="697"/>
                  </a:lnTo>
                  <a:lnTo>
                    <a:pt x="306" y="717"/>
                  </a:lnTo>
                  <a:lnTo>
                    <a:pt x="312" y="726"/>
                  </a:lnTo>
                  <a:lnTo>
                    <a:pt x="319" y="734"/>
                  </a:lnTo>
                  <a:lnTo>
                    <a:pt x="328" y="745"/>
                  </a:lnTo>
                  <a:lnTo>
                    <a:pt x="334" y="750"/>
                  </a:lnTo>
                  <a:lnTo>
                    <a:pt x="340" y="755"/>
                  </a:lnTo>
                  <a:lnTo>
                    <a:pt x="345" y="758"/>
                  </a:lnTo>
                  <a:lnTo>
                    <a:pt x="350" y="762"/>
                  </a:lnTo>
                  <a:lnTo>
                    <a:pt x="357" y="766"/>
                  </a:lnTo>
                  <a:lnTo>
                    <a:pt x="363" y="769"/>
                  </a:lnTo>
                  <a:lnTo>
                    <a:pt x="369" y="771"/>
                  </a:lnTo>
                  <a:lnTo>
                    <a:pt x="375" y="774"/>
                  </a:lnTo>
                  <a:lnTo>
                    <a:pt x="382" y="775"/>
                  </a:lnTo>
                  <a:lnTo>
                    <a:pt x="388" y="777"/>
                  </a:lnTo>
                  <a:lnTo>
                    <a:pt x="396" y="778"/>
                  </a:lnTo>
                  <a:lnTo>
                    <a:pt x="403" y="779"/>
                  </a:lnTo>
                  <a:lnTo>
                    <a:pt x="410" y="780"/>
                  </a:lnTo>
                  <a:lnTo>
                    <a:pt x="418" y="780"/>
                  </a:lnTo>
                  <a:lnTo>
                    <a:pt x="429" y="779"/>
                  </a:lnTo>
                  <a:lnTo>
                    <a:pt x="441" y="778"/>
                  </a:lnTo>
                  <a:lnTo>
                    <a:pt x="452" y="776"/>
                  </a:lnTo>
                  <a:lnTo>
                    <a:pt x="464" y="773"/>
                  </a:lnTo>
                  <a:lnTo>
                    <a:pt x="475" y="770"/>
                  </a:lnTo>
                  <a:lnTo>
                    <a:pt x="487" y="766"/>
                  </a:lnTo>
                  <a:lnTo>
                    <a:pt x="498" y="761"/>
                  </a:lnTo>
                  <a:lnTo>
                    <a:pt x="509" y="755"/>
                  </a:lnTo>
                  <a:lnTo>
                    <a:pt x="521" y="747"/>
                  </a:lnTo>
                  <a:lnTo>
                    <a:pt x="532" y="740"/>
                  </a:lnTo>
                  <a:lnTo>
                    <a:pt x="556" y="722"/>
                  </a:lnTo>
                  <a:lnTo>
                    <a:pt x="579" y="701"/>
                  </a:lnTo>
                  <a:lnTo>
                    <a:pt x="603" y="677"/>
                  </a:lnTo>
                  <a:lnTo>
                    <a:pt x="625" y="646"/>
                  </a:lnTo>
                  <a:lnTo>
                    <a:pt x="643" y="614"/>
                  </a:lnTo>
                  <a:lnTo>
                    <a:pt x="659" y="578"/>
                  </a:lnTo>
                  <a:lnTo>
                    <a:pt x="671" y="541"/>
                  </a:lnTo>
                  <a:lnTo>
                    <a:pt x="682" y="501"/>
                  </a:lnTo>
                  <a:lnTo>
                    <a:pt x="688" y="459"/>
                  </a:lnTo>
                  <a:lnTo>
                    <a:pt x="693" y="414"/>
                  </a:lnTo>
                  <a:lnTo>
                    <a:pt x="694" y="368"/>
                  </a:lnTo>
                  <a:lnTo>
                    <a:pt x="693" y="334"/>
                  </a:lnTo>
                  <a:lnTo>
                    <a:pt x="691" y="303"/>
                  </a:lnTo>
                  <a:lnTo>
                    <a:pt x="687" y="274"/>
                  </a:lnTo>
                  <a:lnTo>
                    <a:pt x="683" y="248"/>
                  </a:lnTo>
                  <a:lnTo>
                    <a:pt x="676" y="224"/>
                  </a:lnTo>
                  <a:lnTo>
                    <a:pt x="668" y="204"/>
                  </a:lnTo>
                  <a:lnTo>
                    <a:pt x="665" y="194"/>
                  </a:lnTo>
                  <a:lnTo>
                    <a:pt x="660" y="186"/>
                  </a:lnTo>
                  <a:lnTo>
                    <a:pt x="655" y="178"/>
                  </a:lnTo>
                  <a:lnTo>
                    <a:pt x="649" y="171"/>
                  </a:lnTo>
                  <a:lnTo>
                    <a:pt x="638" y="157"/>
                  </a:lnTo>
                  <a:lnTo>
                    <a:pt x="626" y="146"/>
                  </a:lnTo>
                  <a:lnTo>
                    <a:pt x="619" y="141"/>
                  </a:lnTo>
                  <a:lnTo>
                    <a:pt x="613" y="136"/>
                  </a:lnTo>
                  <a:lnTo>
                    <a:pt x="606" y="133"/>
                  </a:lnTo>
                  <a:lnTo>
                    <a:pt x="600" y="129"/>
                  </a:lnTo>
                  <a:lnTo>
                    <a:pt x="592" y="125"/>
                  </a:lnTo>
                  <a:lnTo>
                    <a:pt x="586" y="123"/>
                  </a:lnTo>
                  <a:lnTo>
                    <a:pt x="579" y="120"/>
                  </a:lnTo>
                  <a:lnTo>
                    <a:pt x="571" y="118"/>
                  </a:lnTo>
                  <a:lnTo>
                    <a:pt x="565" y="117"/>
                  </a:lnTo>
                  <a:lnTo>
                    <a:pt x="557" y="115"/>
                  </a:lnTo>
                  <a:lnTo>
                    <a:pt x="549" y="115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63080" y="2633760"/>
              <a:ext cx="414360" cy="325440"/>
            </a:xfrm>
            <a:custGeom>
              <a:avLst/>
              <a:gdLst/>
              <a:ahLst/>
              <a:rect l="l" t="t" r="r" b="b"/>
              <a:pathLst>
                <a:path w="1151" h="902">
                  <a:moveTo>
                    <a:pt x="1150" y="675"/>
                  </a:moveTo>
                  <a:lnTo>
                    <a:pt x="1085" y="728"/>
                  </a:lnTo>
                  <a:lnTo>
                    <a:pt x="1025" y="774"/>
                  </a:lnTo>
                  <a:lnTo>
                    <a:pt x="968" y="813"/>
                  </a:lnTo>
                  <a:lnTo>
                    <a:pt x="916" y="845"/>
                  </a:lnTo>
                  <a:lnTo>
                    <a:pt x="868" y="869"/>
                  </a:lnTo>
                  <a:lnTo>
                    <a:pt x="846" y="879"/>
                  </a:lnTo>
                  <a:lnTo>
                    <a:pt x="825" y="887"/>
                  </a:lnTo>
                  <a:lnTo>
                    <a:pt x="804" y="893"/>
                  </a:lnTo>
                  <a:lnTo>
                    <a:pt x="785" y="898"/>
                  </a:lnTo>
                  <a:lnTo>
                    <a:pt x="767" y="901"/>
                  </a:lnTo>
                  <a:lnTo>
                    <a:pt x="750" y="901"/>
                  </a:lnTo>
                  <a:lnTo>
                    <a:pt x="744" y="901"/>
                  </a:lnTo>
                  <a:lnTo>
                    <a:pt x="738" y="901"/>
                  </a:lnTo>
                  <a:lnTo>
                    <a:pt x="733" y="901"/>
                  </a:lnTo>
                  <a:lnTo>
                    <a:pt x="727" y="899"/>
                  </a:lnTo>
                  <a:lnTo>
                    <a:pt x="722" y="898"/>
                  </a:lnTo>
                  <a:lnTo>
                    <a:pt x="716" y="897"/>
                  </a:lnTo>
                  <a:lnTo>
                    <a:pt x="711" y="895"/>
                  </a:lnTo>
                  <a:lnTo>
                    <a:pt x="706" y="894"/>
                  </a:lnTo>
                  <a:lnTo>
                    <a:pt x="695" y="889"/>
                  </a:lnTo>
                  <a:lnTo>
                    <a:pt x="685" y="884"/>
                  </a:lnTo>
                  <a:lnTo>
                    <a:pt x="674" y="878"/>
                  </a:lnTo>
                  <a:lnTo>
                    <a:pt x="665" y="871"/>
                  </a:lnTo>
                  <a:lnTo>
                    <a:pt x="660" y="867"/>
                  </a:lnTo>
                  <a:lnTo>
                    <a:pt x="656" y="863"/>
                  </a:lnTo>
                  <a:lnTo>
                    <a:pt x="653" y="859"/>
                  </a:lnTo>
                  <a:lnTo>
                    <a:pt x="649" y="854"/>
                  </a:lnTo>
                  <a:lnTo>
                    <a:pt x="645" y="850"/>
                  </a:lnTo>
                  <a:lnTo>
                    <a:pt x="642" y="845"/>
                  </a:lnTo>
                  <a:lnTo>
                    <a:pt x="639" y="840"/>
                  </a:lnTo>
                  <a:lnTo>
                    <a:pt x="636" y="835"/>
                  </a:lnTo>
                  <a:lnTo>
                    <a:pt x="633" y="824"/>
                  </a:lnTo>
                  <a:lnTo>
                    <a:pt x="630" y="813"/>
                  </a:lnTo>
                  <a:lnTo>
                    <a:pt x="628" y="801"/>
                  </a:lnTo>
                  <a:lnTo>
                    <a:pt x="627" y="789"/>
                  </a:lnTo>
                  <a:lnTo>
                    <a:pt x="627" y="774"/>
                  </a:lnTo>
                  <a:lnTo>
                    <a:pt x="629" y="760"/>
                  </a:lnTo>
                  <a:lnTo>
                    <a:pt x="631" y="745"/>
                  </a:lnTo>
                  <a:lnTo>
                    <a:pt x="634" y="728"/>
                  </a:lnTo>
                  <a:lnTo>
                    <a:pt x="641" y="693"/>
                  </a:lnTo>
                  <a:lnTo>
                    <a:pt x="653" y="654"/>
                  </a:lnTo>
                  <a:lnTo>
                    <a:pt x="713" y="484"/>
                  </a:lnTo>
                  <a:lnTo>
                    <a:pt x="413" y="484"/>
                  </a:lnTo>
                  <a:lnTo>
                    <a:pt x="295" y="867"/>
                  </a:lnTo>
                  <a:lnTo>
                    <a:pt x="61" y="867"/>
                  </a:lnTo>
                  <a:lnTo>
                    <a:pt x="62" y="858"/>
                  </a:lnTo>
                  <a:lnTo>
                    <a:pt x="63" y="848"/>
                  </a:lnTo>
                  <a:lnTo>
                    <a:pt x="69" y="824"/>
                  </a:lnTo>
                  <a:lnTo>
                    <a:pt x="78" y="795"/>
                  </a:lnTo>
                  <a:lnTo>
                    <a:pt x="88" y="762"/>
                  </a:lnTo>
                  <a:lnTo>
                    <a:pt x="99" y="733"/>
                  </a:lnTo>
                  <a:lnTo>
                    <a:pt x="113" y="689"/>
                  </a:lnTo>
                  <a:lnTo>
                    <a:pt x="155" y="560"/>
                  </a:lnTo>
                  <a:lnTo>
                    <a:pt x="266" y="208"/>
                  </a:lnTo>
                  <a:lnTo>
                    <a:pt x="270" y="196"/>
                  </a:lnTo>
                  <a:lnTo>
                    <a:pt x="273" y="186"/>
                  </a:lnTo>
                  <a:lnTo>
                    <a:pt x="274" y="181"/>
                  </a:lnTo>
                  <a:lnTo>
                    <a:pt x="274" y="177"/>
                  </a:lnTo>
                  <a:lnTo>
                    <a:pt x="275" y="173"/>
                  </a:lnTo>
                  <a:lnTo>
                    <a:pt x="275" y="170"/>
                  </a:lnTo>
                  <a:lnTo>
                    <a:pt x="275" y="166"/>
                  </a:lnTo>
                  <a:lnTo>
                    <a:pt x="275" y="163"/>
                  </a:lnTo>
                  <a:lnTo>
                    <a:pt x="274" y="161"/>
                  </a:lnTo>
                  <a:lnTo>
                    <a:pt x="274" y="161"/>
                  </a:lnTo>
                  <a:lnTo>
                    <a:pt x="274" y="161"/>
                  </a:lnTo>
                  <a:lnTo>
                    <a:pt x="271" y="161"/>
                  </a:lnTo>
                  <a:lnTo>
                    <a:pt x="268" y="161"/>
                  </a:lnTo>
                  <a:lnTo>
                    <a:pt x="261" y="162"/>
                  </a:lnTo>
                  <a:lnTo>
                    <a:pt x="254" y="164"/>
                  </a:lnTo>
                  <a:lnTo>
                    <a:pt x="245" y="167"/>
                  </a:lnTo>
                  <a:lnTo>
                    <a:pt x="226" y="176"/>
                  </a:lnTo>
                  <a:lnTo>
                    <a:pt x="204" y="187"/>
                  </a:lnTo>
                  <a:lnTo>
                    <a:pt x="178" y="202"/>
                  </a:lnTo>
                  <a:lnTo>
                    <a:pt x="150" y="220"/>
                  </a:lnTo>
                  <a:lnTo>
                    <a:pt x="82" y="266"/>
                  </a:lnTo>
                  <a:lnTo>
                    <a:pt x="0" y="214"/>
                  </a:lnTo>
                  <a:lnTo>
                    <a:pt x="67" y="164"/>
                  </a:lnTo>
                  <a:lnTo>
                    <a:pt x="131" y="120"/>
                  </a:lnTo>
                  <a:lnTo>
                    <a:pt x="191" y="84"/>
                  </a:lnTo>
                  <a:lnTo>
                    <a:pt x="246" y="54"/>
                  </a:lnTo>
                  <a:lnTo>
                    <a:pt x="297" y="30"/>
                  </a:lnTo>
                  <a:lnTo>
                    <a:pt x="320" y="21"/>
                  </a:lnTo>
                  <a:lnTo>
                    <a:pt x="343" y="14"/>
                  </a:lnTo>
                  <a:lnTo>
                    <a:pt x="365" y="8"/>
                  </a:lnTo>
                  <a:lnTo>
                    <a:pt x="386" y="3"/>
                  </a:lnTo>
                  <a:lnTo>
                    <a:pt x="406" y="1"/>
                  </a:lnTo>
                  <a:lnTo>
                    <a:pt x="424" y="0"/>
                  </a:lnTo>
                  <a:lnTo>
                    <a:pt x="436" y="0"/>
                  </a:lnTo>
                  <a:lnTo>
                    <a:pt x="447" y="2"/>
                  </a:lnTo>
                  <a:lnTo>
                    <a:pt x="457" y="3"/>
                  </a:lnTo>
                  <a:lnTo>
                    <a:pt x="466" y="6"/>
                  </a:lnTo>
                  <a:lnTo>
                    <a:pt x="476" y="9"/>
                  </a:lnTo>
                  <a:lnTo>
                    <a:pt x="483" y="13"/>
                  </a:lnTo>
                  <a:lnTo>
                    <a:pt x="490" y="18"/>
                  </a:lnTo>
                  <a:lnTo>
                    <a:pt x="496" y="23"/>
                  </a:lnTo>
                  <a:lnTo>
                    <a:pt x="502" y="29"/>
                  </a:lnTo>
                  <a:lnTo>
                    <a:pt x="507" y="36"/>
                  </a:lnTo>
                  <a:lnTo>
                    <a:pt x="511" y="43"/>
                  </a:lnTo>
                  <a:lnTo>
                    <a:pt x="515" y="52"/>
                  </a:lnTo>
                  <a:lnTo>
                    <a:pt x="517" y="61"/>
                  </a:lnTo>
                  <a:lnTo>
                    <a:pt x="518" y="70"/>
                  </a:lnTo>
                  <a:lnTo>
                    <a:pt x="520" y="81"/>
                  </a:lnTo>
                  <a:lnTo>
                    <a:pt x="520" y="92"/>
                  </a:lnTo>
                  <a:lnTo>
                    <a:pt x="519" y="112"/>
                  </a:lnTo>
                  <a:lnTo>
                    <a:pt x="516" y="137"/>
                  </a:lnTo>
                  <a:lnTo>
                    <a:pt x="509" y="167"/>
                  </a:lnTo>
                  <a:lnTo>
                    <a:pt x="500" y="200"/>
                  </a:lnTo>
                  <a:lnTo>
                    <a:pt x="475" y="283"/>
                  </a:lnTo>
                  <a:lnTo>
                    <a:pt x="438" y="384"/>
                  </a:lnTo>
                  <a:lnTo>
                    <a:pt x="739" y="384"/>
                  </a:lnTo>
                  <a:lnTo>
                    <a:pt x="861" y="25"/>
                  </a:lnTo>
                  <a:lnTo>
                    <a:pt x="1086" y="25"/>
                  </a:lnTo>
                  <a:lnTo>
                    <a:pt x="967" y="393"/>
                  </a:lnTo>
                  <a:lnTo>
                    <a:pt x="890" y="625"/>
                  </a:lnTo>
                  <a:lnTo>
                    <a:pt x="871" y="692"/>
                  </a:lnTo>
                  <a:lnTo>
                    <a:pt x="866" y="714"/>
                  </a:lnTo>
                  <a:lnTo>
                    <a:pt x="864" y="722"/>
                  </a:lnTo>
                  <a:lnTo>
                    <a:pt x="864" y="728"/>
                  </a:lnTo>
                  <a:lnTo>
                    <a:pt x="864" y="733"/>
                  </a:lnTo>
                  <a:lnTo>
                    <a:pt x="865" y="736"/>
                  </a:lnTo>
                  <a:lnTo>
                    <a:pt x="865" y="739"/>
                  </a:lnTo>
                  <a:lnTo>
                    <a:pt x="866" y="741"/>
                  </a:lnTo>
                  <a:lnTo>
                    <a:pt x="866" y="742"/>
                  </a:lnTo>
                  <a:lnTo>
                    <a:pt x="867" y="743"/>
                  </a:lnTo>
                  <a:lnTo>
                    <a:pt x="868" y="744"/>
                  </a:lnTo>
                  <a:lnTo>
                    <a:pt x="869" y="745"/>
                  </a:lnTo>
                  <a:lnTo>
                    <a:pt x="869" y="745"/>
                  </a:lnTo>
                  <a:lnTo>
                    <a:pt x="870" y="746"/>
                  </a:lnTo>
                  <a:lnTo>
                    <a:pt x="870" y="746"/>
                  </a:lnTo>
                  <a:lnTo>
                    <a:pt x="871" y="746"/>
                  </a:lnTo>
                  <a:lnTo>
                    <a:pt x="872" y="747"/>
                  </a:lnTo>
                  <a:lnTo>
                    <a:pt x="872" y="747"/>
                  </a:lnTo>
                  <a:lnTo>
                    <a:pt x="873" y="747"/>
                  </a:lnTo>
                  <a:lnTo>
                    <a:pt x="873" y="747"/>
                  </a:lnTo>
                  <a:lnTo>
                    <a:pt x="873" y="747"/>
                  </a:lnTo>
                  <a:lnTo>
                    <a:pt x="875" y="747"/>
                  </a:lnTo>
                  <a:lnTo>
                    <a:pt x="878" y="746"/>
                  </a:lnTo>
                  <a:lnTo>
                    <a:pt x="884" y="745"/>
                  </a:lnTo>
                  <a:lnTo>
                    <a:pt x="892" y="742"/>
                  </a:lnTo>
                  <a:lnTo>
                    <a:pt x="899" y="739"/>
                  </a:lnTo>
                  <a:lnTo>
                    <a:pt x="919" y="729"/>
                  </a:lnTo>
                  <a:lnTo>
                    <a:pt x="943" y="715"/>
                  </a:lnTo>
                  <a:lnTo>
                    <a:pt x="1004" y="675"/>
                  </a:lnTo>
                  <a:lnTo>
                    <a:pt x="1082" y="618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Ант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0" y="0"/>
            <a:ext cx="9575640" cy="5187960"/>
            <a:chOff x="0" y="0"/>
            <a:chExt cx="9575640" cy="5187960"/>
          </a:xfrm>
        </p:grpSpPr>
        <p:sp>
          <p:nvSpPr>
            <p:cNvPr id="300" name=""/>
            <p:cNvSpPr/>
            <p:nvPr/>
          </p:nvSpPr>
          <p:spPr>
            <a:xfrm>
              <a:off x="6480000" y="4356000"/>
              <a:ext cx="568440" cy="596880"/>
            </a:xfrm>
            <a:custGeom>
              <a:avLst/>
              <a:gdLst/>
              <a:ahLst/>
              <a:rect l="l" t="t" r="r" b="b"/>
              <a:pathLst>
                <a:path w="1579" h="1658">
                  <a:moveTo>
                    <a:pt x="558" y="371"/>
                  </a:moveTo>
                  <a:lnTo>
                    <a:pt x="573" y="264"/>
                  </a:lnTo>
                  <a:lnTo>
                    <a:pt x="642" y="254"/>
                  </a:lnTo>
                  <a:lnTo>
                    <a:pt x="720" y="242"/>
                  </a:lnTo>
                  <a:lnTo>
                    <a:pt x="805" y="226"/>
                  </a:lnTo>
                  <a:lnTo>
                    <a:pt x="896" y="204"/>
                  </a:lnTo>
                  <a:lnTo>
                    <a:pt x="873" y="294"/>
                  </a:lnTo>
                  <a:lnTo>
                    <a:pt x="852" y="385"/>
                  </a:lnTo>
                  <a:lnTo>
                    <a:pt x="813" y="568"/>
                  </a:lnTo>
                  <a:lnTo>
                    <a:pt x="740" y="935"/>
                  </a:lnTo>
                  <a:lnTo>
                    <a:pt x="700" y="1121"/>
                  </a:lnTo>
                  <a:lnTo>
                    <a:pt x="679" y="1204"/>
                  </a:lnTo>
                  <a:lnTo>
                    <a:pt x="657" y="1279"/>
                  </a:lnTo>
                  <a:lnTo>
                    <a:pt x="635" y="1347"/>
                  </a:lnTo>
                  <a:lnTo>
                    <a:pt x="612" y="1408"/>
                  </a:lnTo>
                  <a:lnTo>
                    <a:pt x="589" y="1463"/>
                  </a:lnTo>
                  <a:lnTo>
                    <a:pt x="566" y="1510"/>
                  </a:lnTo>
                  <a:lnTo>
                    <a:pt x="601" y="1516"/>
                  </a:lnTo>
                  <a:lnTo>
                    <a:pt x="637" y="1521"/>
                  </a:lnTo>
                  <a:lnTo>
                    <a:pt x="673" y="1523"/>
                  </a:lnTo>
                  <a:lnTo>
                    <a:pt x="708" y="1524"/>
                  </a:lnTo>
                  <a:lnTo>
                    <a:pt x="754" y="1523"/>
                  </a:lnTo>
                  <a:lnTo>
                    <a:pt x="799" y="1519"/>
                  </a:lnTo>
                  <a:lnTo>
                    <a:pt x="841" y="1511"/>
                  </a:lnTo>
                  <a:lnTo>
                    <a:pt x="882" y="1502"/>
                  </a:lnTo>
                  <a:lnTo>
                    <a:pt x="921" y="1489"/>
                  </a:lnTo>
                  <a:lnTo>
                    <a:pt x="960" y="1472"/>
                  </a:lnTo>
                  <a:lnTo>
                    <a:pt x="996" y="1453"/>
                  </a:lnTo>
                  <a:lnTo>
                    <a:pt x="1031" y="1431"/>
                  </a:lnTo>
                  <a:lnTo>
                    <a:pt x="1065" y="1406"/>
                  </a:lnTo>
                  <a:lnTo>
                    <a:pt x="1096" y="1380"/>
                  </a:lnTo>
                  <a:lnTo>
                    <a:pt x="1126" y="1350"/>
                  </a:lnTo>
                  <a:lnTo>
                    <a:pt x="1154" y="1318"/>
                  </a:lnTo>
                  <a:lnTo>
                    <a:pt x="1180" y="1282"/>
                  </a:lnTo>
                  <a:lnTo>
                    <a:pt x="1205" y="1243"/>
                  </a:lnTo>
                  <a:lnTo>
                    <a:pt x="1228" y="1203"/>
                  </a:lnTo>
                  <a:lnTo>
                    <a:pt x="1249" y="1160"/>
                  </a:lnTo>
                  <a:lnTo>
                    <a:pt x="1268" y="1114"/>
                  </a:lnTo>
                  <a:lnTo>
                    <a:pt x="1284" y="1068"/>
                  </a:lnTo>
                  <a:lnTo>
                    <a:pt x="1298" y="1020"/>
                  </a:lnTo>
                  <a:lnTo>
                    <a:pt x="1310" y="971"/>
                  </a:lnTo>
                  <a:lnTo>
                    <a:pt x="1319" y="920"/>
                  </a:lnTo>
                  <a:lnTo>
                    <a:pt x="1325" y="869"/>
                  </a:lnTo>
                  <a:lnTo>
                    <a:pt x="1329" y="818"/>
                  </a:lnTo>
                  <a:lnTo>
                    <a:pt x="1330" y="764"/>
                  </a:lnTo>
                  <a:lnTo>
                    <a:pt x="1328" y="696"/>
                  </a:lnTo>
                  <a:lnTo>
                    <a:pt x="1322" y="630"/>
                  </a:lnTo>
                  <a:lnTo>
                    <a:pt x="1311" y="568"/>
                  </a:lnTo>
                  <a:lnTo>
                    <a:pt x="1296" y="509"/>
                  </a:lnTo>
                  <a:lnTo>
                    <a:pt x="1287" y="482"/>
                  </a:lnTo>
                  <a:lnTo>
                    <a:pt x="1277" y="454"/>
                  </a:lnTo>
                  <a:lnTo>
                    <a:pt x="1266" y="428"/>
                  </a:lnTo>
                  <a:lnTo>
                    <a:pt x="1253" y="403"/>
                  </a:lnTo>
                  <a:lnTo>
                    <a:pt x="1240" y="379"/>
                  </a:lnTo>
                  <a:lnTo>
                    <a:pt x="1225" y="355"/>
                  </a:lnTo>
                  <a:lnTo>
                    <a:pt x="1210" y="332"/>
                  </a:lnTo>
                  <a:lnTo>
                    <a:pt x="1193" y="310"/>
                  </a:lnTo>
                  <a:lnTo>
                    <a:pt x="1176" y="290"/>
                  </a:lnTo>
                  <a:lnTo>
                    <a:pt x="1158" y="271"/>
                  </a:lnTo>
                  <a:lnTo>
                    <a:pt x="1140" y="253"/>
                  </a:lnTo>
                  <a:lnTo>
                    <a:pt x="1121" y="236"/>
                  </a:lnTo>
                  <a:lnTo>
                    <a:pt x="1100" y="221"/>
                  </a:lnTo>
                  <a:lnTo>
                    <a:pt x="1080" y="206"/>
                  </a:lnTo>
                  <a:lnTo>
                    <a:pt x="1058" y="194"/>
                  </a:lnTo>
                  <a:lnTo>
                    <a:pt x="1037" y="182"/>
                  </a:lnTo>
                  <a:lnTo>
                    <a:pt x="1014" y="173"/>
                  </a:lnTo>
                  <a:lnTo>
                    <a:pt x="991" y="165"/>
                  </a:lnTo>
                  <a:lnTo>
                    <a:pt x="942" y="151"/>
                  </a:lnTo>
                  <a:lnTo>
                    <a:pt x="891" y="143"/>
                  </a:lnTo>
                  <a:lnTo>
                    <a:pt x="838" y="141"/>
                  </a:lnTo>
                  <a:lnTo>
                    <a:pt x="791" y="142"/>
                  </a:lnTo>
                  <a:lnTo>
                    <a:pt x="745" y="148"/>
                  </a:lnTo>
                  <a:lnTo>
                    <a:pt x="700" y="156"/>
                  </a:lnTo>
                  <a:lnTo>
                    <a:pt x="655" y="167"/>
                  </a:lnTo>
                  <a:lnTo>
                    <a:pt x="611" y="182"/>
                  </a:lnTo>
                  <a:lnTo>
                    <a:pt x="568" y="200"/>
                  </a:lnTo>
                  <a:lnTo>
                    <a:pt x="525" y="222"/>
                  </a:lnTo>
                  <a:lnTo>
                    <a:pt x="483" y="247"/>
                  </a:lnTo>
                  <a:lnTo>
                    <a:pt x="442" y="275"/>
                  </a:lnTo>
                  <a:lnTo>
                    <a:pt x="404" y="306"/>
                  </a:lnTo>
                  <a:lnTo>
                    <a:pt x="368" y="338"/>
                  </a:lnTo>
                  <a:lnTo>
                    <a:pt x="333" y="371"/>
                  </a:lnTo>
                  <a:lnTo>
                    <a:pt x="301" y="409"/>
                  </a:lnTo>
                  <a:lnTo>
                    <a:pt x="273" y="447"/>
                  </a:lnTo>
                  <a:lnTo>
                    <a:pt x="245" y="487"/>
                  </a:lnTo>
                  <a:lnTo>
                    <a:pt x="220" y="531"/>
                  </a:lnTo>
                  <a:lnTo>
                    <a:pt x="197" y="575"/>
                  </a:lnTo>
                  <a:lnTo>
                    <a:pt x="177" y="618"/>
                  </a:lnTo>
                  <a:lnTo>
                    <a:pt x="160" y="661"/>
                  </a:lnTo>
                  <a:lnTo>
                    <a:pt x="147" y="704"/>
                  </a:lnTo>
                  <a:lnTo>
                    <a:pt x="136" y="746"/>
                  </a:lnTo>
                  <a:lnTo>
                    <a:pt x="128" y="788"/>
                  </a:lnTo>
                  <a:lnTo>
                    <a:pt x="124" y="830"/>
                  </a:lnTo>
                  <a:lnTo>
                    <a:pt x="122" y="870"/>
                  </a:lnTo>
                  <a:lnTo>
                    <a:pt x="122" y="889"/>
                  </a:lnTo>
                  <a:lnTo>
                    <a:pt x="124" y="907"/>
                  </a:lnTo>
                  <a:lnTo>
                    <a:pt x="126" y="924"/>
                  </a:lnTo>
                  <a:lnTo>
                    <a:pt x="129" y="941"/>
                  </a:lnTo>
                  <a:lnTo>
                    <a:pt x="132" y="958"/>
                  </a:lnTo>
                  <a:lnTo>
                    <a:pt x="137" y="973"/>
                  </a:lnTo>
                  <a:lnTo>
                    <a:pt x="143" y="987"/>
                  </a:lnTo>
                  <a:lnTo>
                    <a:pt x="149" y="1002"/>
                  </a:lnTo>
                  <a:lnTo>
                    <a:pt x="156" y="1015"/>
                  </a:lnTo>
                  <a:lnTo>
                    <a:pt x="164" y="1028"/>
                  </a:lnTo>
                  <a:lnTo>
                    <a:pt x="172" y="1040"/>
                  </a:lnTo>
                  <a:lnTo>
                    <a:pt x="182" y="1052"/>
                  </a:lnTo>
                  <a:lnTo>
                    <a:pt x="192" y="1063"/>
                  </a:lnTo>
                  <a:lnTo>
                    <a:pt x="203" y="1072"/>
                  </a:lnTo>
                  <a:lnTo>
                    <a:pt x="215" y="1082"/>
                  </a:lnTo>
                  <a:lnTo>
                    <a:pt x="228" y="1090"/>
                  </a:lnTo>
                  <a:lnTo>
                    <a:pt x="249" y="1105"/>
                  </a:lnTo>
                  <a:lnTo>
                    <a:pt x="258" y="1112"/>
                  </a:lnTo>
                  <a:lnTo>
                    <a:pt x="266" y="1119"/>
                  </a:lnTo>
                  <a:lnTo>
                    <a:pt x="273" y="1126"/>
                  </a:lnTo>
                  <a:lnTo>
                    <a:pt x="279" y="1132"/>
                  </a:lnTo>
                  <a:lnTo>
                    <a:pt x="284" y="1138"/>
                  </a:lnTo>
                  <a:lnTo>
                    <a:pt x="287" y="1144"/>
                  </a:lnTo>
                  <a:lnTo>
                    <a:pt x="290" y="1150"/>
                  </a:lnTo>
                  <a:lnTo>
                    <a:pt x="293" y="1156"/>
                  </a:lnTo>
                  <a:lnTo>
                    <a:pt x="295" y="1163"/>
                  </a:lnTo>
                  <a:lnTo>
                    <a:pt x="297" y="1170"/>
                  </a:lnTo>
                  <a:lnTo>
                    <a:pt x="299" y="1178"/>
                  </a:lnTo>
                  <a:lnTo>
                    <a:pt x="300" y="1185"/>
                  </a:lnTo>
                  <a:lnTo>
                    <a:pt x="301" y="1192"/>
                  </a:lnTo>
                  <a:lnTo>
                    <a:pt x="301" y="1200"/>
                  </a:lnTo>
                  <a:lnTo>
                    <a:pt x="301" y="1211"/>
                  </a:lnTo>
                  <a:lnTo>
                    <a:pt x="300" y="1216"/>
                  </a:lnTo>
                  <a:lnTo>
                    <a:pt x="299" y="1221"/>
                  </a:lnTo>
                  <a:lnTo>
                    <a:pt x="298" y="1227"/>
                  </a:lnTo>
                  <a:lnTo>
                    <a:pt x="297" y="1231"/>
                  </a:lnTo>
                  <a:lnTo>
                    <a:pt x="296" y="1236"/>
                  </a:lnTo>
                  <a:lnTo>
                    <a:pt x="294" y="1241"/>
                  </a:lnTo>
                  <a:lnTo>
                    <a:pt x="292" y="1246"/>
                  </a:lnTo>
                  <a:lnTo>
                    <a:pt x="290" y="1249"/>
                  </a:lnTo>
                  <a:lnTo>
                    <a:pt x="286" y="1259"/>
                  </a:lnTo>
                  <a:lnTo>
                    <a:pt x="281" y="1267"/>
                  </a:lnTo>
                  <a:lnTo>
                    <a:pt x="275" y="1276"/>
                  </a:lnTo>
                  <a:lnTo>
                    <a:pt x="268" y="1283"/>
                  </a:lnTo>
                  <a:lnTo>
                    <a:pt x="261" y="1290"/>
                  </a:lnTo>
                  <a:lnTo>
                    <a:pt x="253" y="1295"/>
                  </a:lnTo>
                  <a:lnTo>
                    <a:pt x="249" y="1297"/>
                  </a:lnTo>
                  <a:lnTo>
                    <a:pt x="245" y="1300"/>
                  </a:lnTo>
                  <a:lnTo>
                    <a:pt x="241" y="1302"/>
                  </a:lnTo>
                  <a:lnTo>
                    <a:pt x="237" y="1303"/>
                  </a:lnTo>
                  <a:lnTo>
                    <a:pt x="233" y="1304"/>
                  </a:lnTo>
                  <a:lnTo>
                    <a:pt x="229" y="1306"/>
                  </a:lnTo>
                  <a:lnTo>
                    <a:pt x="220" y="1308"/>
                  </a:lnTo>
                  <a:lnTo>
                    <a:pt x="211" y="1308"/>
                  </a:lnTo>
                  <a:lnTo>
                    <a:pt x="202" y="1308"/>
                  </a:lnTo>
                  <a:lnTo>
                    <a:pt x="193" y="1307"/>
                  </a:lnTo>
                  <a:lnTo>
                    <a:pt x="185" y="1304"/>
                  </a:lnTo>
                  <a:lnTo>
                    <a:pt x="176" y="1301"/>
                  </a:lnTo>
                  <a:lnTo>
                    <a:pt x="167" y="1297"/>
                  </a:lnTo>
                  <a:lnTo>
                    <a:pt x="159" y="1292"/>
                  </a:lnTo>
                  <a:lnTo>
                    <a:pt x="150" y="1288"/>
                  </a:lnTo>
                  <a:lnTo>
                    <a:pt x="142" y="1280"/>
                  </a:lnTo>
                  <a:lnTo>
                    <a:pt x="133" y="1273"/>
                  </a:lnTo>
                  <a:lnTo>
                    <a:pt x="125" y="1265"/>
                  </a:lnTo>
                  <a:lnTo>
                    <a:pt x="108" y="1247"/>
                  </a:lnTo>
                  <a:lnTo>
                    <a:pt x="91" y="1224"/>
                  </a:lnTo>
                  <a:lnTo>
                    <a:pt x="75" y="1198"/>
                  </a:lnTo>
                  <a:lnTo>
                    <a:pt x="57" y="1166"/>
                  </a:lnTo>
                  <a:lnTo>
                    <a:pt x="42" y="1132"/>
                  </a:lnTo>
                  <a:lnTo>
                    <a:pt x="29" y="1099"/>
                  </a:lnTo>
                  <a:lnTo>
                    <a:pt x="18" y="1065"/>
                  </a:lnTo>
                  <a:lnTo>
                    <a:pt x="10" y="1031"/>
                  </a:lnTo>
                  <a:lnTo>
                    <a:pt x="4" y="996"/>
                  </a:lnTo>
                  <a:lnTo>
                    <a:pt x="0" y="961"/>
                  </a:lnTo>
                  <a:lnTo>
                    <a:pt x="0" y="925"/>
                  </a:lnTo>
                  <a:lnTo>
                    <a:pt x="1" y="867"/>
                  </a:lnTo>
                  <a:lnTo>
                    <a:pt x="6" y="809"/>
                  </a:lnTo>
                  <a:lnTo>
                    <a:pt x="15" y="752"/>
                  </a:lnTo>
                  <a:lnTo>
                    <a:pt x="28" y="694"/>
                  </a:lnTo>
                  <a:lnTo>
                    <a:pt x="44" y="638"/>
                  </a:lnTo>
                  <a:lnTo>
                    <a:pt x="64" y="583"/>
                  </a:lnTo>
                  <a:lnTo>
                    <a:pt x="88" y="528"/>
                  </a:lnTo>
                  <a:lnTo>
                    <a:pt x="115" y="473"/>
                  </a:lnTo>
                  <a:lnTo>
                    <a:pt x="146" y="421"/>
                  </a:lnTo>
                  <a:lnTo>
                    <a:pt x="179" y="370"/>
                  </a:lnTo>
                  <a:lnTo>
                    <a:pt x="215" y="322"/>
                  </a:lnTo>
                  <a:lnTo>
                    <a:pt x="254" y="278"/>
                  </a:lnTo>
                  <a:lnTo>
                    <a:pt x="295" y="236"/>
                  </a:lnTo>
                  <a:lnTo>
                    <a:pt x="339" y="198"/>
                  </a:lnTo>
                  <a:lnTo>
                    <a:pt x="387" y="161"/>
                  </a:lnTo>
                  <a:lnTo>
                    <a:pt x="437" y="127"/>
                  </a:lnTo>
                  <a:lnTo>
                    <a:pt x="489" y="98"/>
                  </a:lnTo>
                  <a:lnTo>
                    <a:pt x="543" y="71"/>
                  </a:lnTo>
                  <a:lnTo>
                    <a:pt x="597" y="50"/>
                  </a:lnTo>
                  <a:lnTo>
                    <a:pt x="654" y="32"/>
                  </a:lnTo>
                  <a:lnTo>
                    <a:pt x="712" y="17"/>
                  </a:lnTo>
                  <a:lnTo>
                    <a:pt x="771" y="8"/>
                  </a:lnTo>
                  <a:lnTo>
                    <a:pt x="832" y="2"/>
                  </a:lnTo>
                  <a:lnTo>
                    <a:pt x="893" y="0"/>
                  </a:lnTo>
                  <a:lnTo>
                    <a:pt x="969" y="3"/>
                  </a:lnTo>
                  <a:lnTo>
                    <a:pt x="1042" y="13"/>
                  </a:lnTo>
                  <a:lnTo>
                    <a:pt x="1110" y="28"/>
                  </a:lnTo>
                  <a:lnTo>
                    <a:pt x="1174" y="50"/>
                  </a:lnTo>
                  <a:lnTo>
                    <a:pt x="1234" y="78"/>
                  </a:lnTo>
                  <a:lnTo>
                    <a:pt x="1263" y="95"/>
                  </a:lnTo>
                  <a:lnTo>
                    <a:pt x="1291" y="113"/>
                  </a:lnTo>
                  <a:lnTo>
                    <a:pt x="1317" y="132"/>
                  </a:lnTo>
                  <a:lnTo>
                    <a:pt x="1343" y="154"/>
                  </a:lnTo>
                  <a:lnTo>
                    <a:pt x="1368" y="177"/>
                  </a:lnTo>
                  <a:lnTo>
                    <a:pt x="1392" y="202"/>
                  </a:lnTo>
                  <a:lnTo>
                    <a:pt x="1435" y="254"/>
                  </a:lnTo>
                  <a:lnTo>
                    <a:pt x="1455" y="282"/>
                  </a:lnTo>
                  <a:lnTo>
                    <a:pt x="1473" y="309"/>
                  </a:lnTo>
                  <a:lnTo>
                    <a:pt x="1490" y="338"/>
                  </a:lnTo>
                  <a:lnTo>
                    <a:pt x="1505" y="368"/>
                  </a:lnTo>
                  <a:lnTo>
                    <a:pt x="1519" y="398"/>
                  </a:lnTo>
                  <a:lnTo>
                    <a:pt x="1531" y="430"/>
                  </a:lnTo>
                  <a:lnTo>
                    <a:pt x="1542" y="461"/>
                  </a:lnTo>
                  <a:lnTo>
                    <a:pt x="1552" y="495"/>
                  </a:lnTo>
                  <a:lnTo>
                    <a:pt x="1560" y="528"/>
                  </a:lnTo>
                  <a:lnTo>
                    <a:pt x="1566" y="563"/>
                  </a:lnTo>
                  <a:lnTo>
                    <a:pt x="1571" y="598"/>
                  </a:lnTo>
                  <a:lnTo>
                    <a:pt x="1575" y="633"/>
                  </a:lnTo>
                  <a:lnTo>
                    <a:pt x="1578" y="708"/>
                  </a:lnTo>
                  <a:lnTo>
                    <a:pt x="1576" y="777"/>
                  </a:lnTo>
                  <a:lnTo>
                    <a:pt x="1570" y="845"/>
                  </a:lnTo>
                  <a:lnTo>
                    <a:pt x="1560" y="911"/>
                  </a:lnTo>
                  <a:lnTo>
                    <a:pt x="1546" y="977"/>
                  </a:lnTo>
                  <a:lnTo>
                    <a:pt x="1528" y="1040"/>
                  </a:lnTo>
                  <a:lnTo>
                    <a:pt x="1505" y="1102"/>
                  </a:lnTo>
                  <a:lnTo>
                    <a:pt x="1479" y="1163"/>
                  </a:lnTo>
                  <a:lnTo>
                    <a:pt x="1449" y="1223"/>
                  </a:lnTo>
                  <a:lnTo>
                    <a:pt x="1417" y="1279"/>
                  </a:lnTo>
                  <a:lnTo>
                    <a:pt x="1382" y="1332"/>
                  </a:lnTo>
                  <a:lnTo>
                    <a:pt x="1346" y="1380"/>
                  </a:lnTo>
                  <a:lnTo>
                    <a:pt x="1308" y="1424"/>
                  </a:lnTo>
                  <a:lnTo>
                    <a:pt x="1268" y="1463"/>
                  </a:lnTo>
                  <a:lnTo>
                    <a:pt x="1227" y="1499"/>
                  </a:lnTo>
                  <a:lnTo>
                    <a:pt x="1184" y="1530"/>
                  </a:lnTo>
                  <a:lnTo>
                    <a:pt x="1140" y="1558"/>
                  </a:lnTo>
                  <a:lnTo>
                    <a:pt x="1094" y="1581"/>
                  </a:lnTo>
                  <a:lnTo>
                    <a:pt x="1049" y="1601"/>
                  </a:lnTo>
                  <a:lnTo>
                    <a:pt x="1003" y="1618"/>
                  </a:lnTo>
                  <a:lnTo>
                    <a:pt x="957" y="1632"/>
                  </a:lnTo>
                  <a:lnTo>
                    <a:pt x="911" y="1643"/>
                  </a:lnTo>
                  <a:lnTo>
                    <a:pt x="866" y="1651"/>
                  </a:lnTo>
                  <a:lnTo>
                    <a:pt x="821" y="1656"/>
                  </a:lnTo>
                  <a:lnTo>
                    <a:pt x="775" y="1657"/>
                  </a:lnTo>
                  <a:lnTo>
                    <a:pt x="740" y="1656"/>
                  </a:lnTo>
                  <a:lnTo>
                    <a:pt x="694" y="1654"/>
                  </a:lnTo>
                  <a:lnTo>
                    <a:pt x="568" y="1643"/>
                  </a:lnTo>
                  <a:lnTo>
                    <a:pt x="513" y="1638"/>
                  </a:lnTo>
                  <a:lnTo>
                    <a:pt x="459" y="1636"/>
                  </a:lnTo>
                  <a:lnTo>
                    <a:pt x="353" y="1633"/>
                  </a:lnTo>
                  <a:lnTo>
                    <a:pt x="181" y="1637"/>
                  </a:lnTo>
                  <a:lnTo>
                    <a:pt x="214" y="1520"/>
                  </a:lnTo>
                  <a:lnTo>
                    <a:pt x="263" y="1516"/>
                  </a:lnTo>
                  <a:lnTo>
                    <a:pt x="300" y="1511"/>
                  </a:lnTo>
                  <a:lnTo>
                    <a:pt x="315" y="1509"/>
                  </a:lnTo>
                  <a:lnTo>
                    <a:pt x="327" y="1507"/>
                  </a:lnTo>
                  <a:lnTo>
                    <a:pt x="336" y="1504"/>
                  </a:lnTo>
                  <a:lnTo>
                    <a:pt x="340" y="1503"/>
                  </a:lnTo>
                  <a:lnTo>
                    <a:pt x="343" y="1502"/>
                  </a:lnTo>
                  <a:lnTo>
                    <a:pt x="345" y="1501"/>
                  </a:lnTo>
                  <a:lnTo>
                    <a:pt x="348" y="1498"/>
                  </a:lnTo>
                  <a:lnTo>
                    <a:pt x="353" y="1493"/>
                  </a:lnTo>
                  <a:lnTo>
                    <a:pt x="358" y="1489"/>
                  </a:lnTo>
                  <a:lnTo>
                    <a:pt x="363" y="1483"/>
                  </a:lnTo>
                  <a:lnTo>
                    <a:pt x="369" y="1475"/>
                  </a:lnTo>
                  <a:lnTo>
                    <a:pt x="374" y="1467"/>
                  </a:lnTo>
                  <a:lnTo>
                    <a:pt x="379" y="1459"/>
                  </a:lnTo>
                  <a:lnTo>
                    <a:pt x="385" y="1449"/>
                  </a:lnTo>
                  <a:lnTo>
                    <a:pt x="391" y="1435"/>
                  </a:lnTo>
                  <a:lnTo>
                    <a:pt x="398" y="1417"/>
                  </a:lnTo>
                  <a:lnTo>
                    <a:pt x="416" y="1365"/>
                  </a:lnTo>
                  <a:lnTo>
                    <a:pt x="436" y="1295"/>
                  </a:lnTo>
                  <a:lnTo>
                    <a:pt x="461" y="1206"/>
                  </a:lnTo>
                  <a:lnTo>
                    <a:pt x="536" y="880"/>
                  </a:lnTo>
                  <a:lnTo>
                    <a:pt x="624" y="434"/>
                  </a:lnTo>
                  <a:lnTo>
                    <a:pt x="627" y="421"/>
                  </a:lnTo>
                  <a:lnTo>
                    <a:pt x="629" y="407"/>
                  </a:lnTo>
                  <a:lnTo>
                    <a:pt x="629" y="403"/>
                  </a:lnTo>
                  <a:lnTo>
                    <a:pt x="630" y="397"/>
                  </a:lnTo>
                  <a:lnTo>
                    <a:pt x="630" y="392"/>
                  </a:lnTo>
                  <a:lnTo>
                    <a:pt x="630" y="387"/>
                  </a:lnTo>
                  <a:lnTo>
                    <a:pt x="630" y="386"/>
                  </a:lnTo>
                  <a:lnTo>
                    <a:pt x="630" y="385"/>
                  </a:lnTo>
                  <a:lnTo>
                    <a:pt x="630" y="383"/>
                  </a:lnTo>
                  <a:lnTo>
                    <a:pt x="630" y="382"/>
                  </a:lnTo>
                  <a:lnTo>
                    <a:pt x="629" y="382"/>
                  </a:lnTo>
                  <a:lnTo>
                    <a:pt x="629" y="381"/>
                  </a:lnTo>
                  <a:lnTo>
                    <a:pt x="629" y="380"/>
                  </a:lnTo>
                  <a:lnTo>
                    <a:pt x="629" y="379"/>
                  </a:lnTo>
                  <a:lnTo>
                    <a:pt x="628" y="377"/>
                  </a:lnTo>
                  <a:lnTo>
                    <a:pt x="627" y="375"/>
                  </a:lnTo>
                  <a:lnTo>
                    <a:pt x="626" y="374"/>
                  </a:lnTo>
                  <a:lnTo>
                    <a:pt x="625" y="373"/>
                  </a:lnTo>
                  <a:lnTo>
                    <a:pt x="624" y="371"/>
                  </a:lnTo>
                  <a:lnTo>
                    <a:pt x="624" y="371"/>
                  </a:lnTo>
                  <a:lnTo>
                    <a:pt x="623" y="371"/>
                  </a:lnTo>
                  <a:lnTo>
                    <a:pt x="622" y="370"/>
                  </a:lnTo>
                  <a:lnTo>
                    <a:pt x="622" y="370"/>
                  </a:lnTo>
                  <a:lnTo>
                    <a:pt x="621" y="369"/>
                  </a:lnTo>
                  <a:lnTo>
                    <a:pt x="620" y="369"/>
                  </a:lnTo>
                  <a:lnTo>
                    <a:pt x="619" y="369"/>
                  </a:lnTo>
                  <a:lnTo>
                    <a:pt x="617" y="368"/>
                  </a:lnTo>
                  <a:lnTo>
                    <a:pt x="615" y="368"/>
                  </a:lnTo>
                  <a:lnTo>
                    <a:pt x="613" y="368"/>
                  </a:lnTo>
                  <a:lnTo>
                    <a:pt x="611" y="368"/>
                  </a:lnTo>
                  <a:lnTo>
                    <a:pt x="606" y="368"/>
                  </a:lnTo>
                  <a:lnTo>
                    <a:pt x="595" y="369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21440" y="4527720"/>
              <a:ext cx="538200" cy="433080"/>
            </a:xfrm>
            <a:custGeom>
              <a:avLst/>
              <a:gdLst/>
              <a:ahLst/>
              <a:rect l="l" t="t" r="r" b="b"/>
              <a:pathLst>
                <a:path w="1494" h="1205">
                  <a:moveTo>
                    <a:pt x="363" y="355"/>
                  </a:moveTo>
                  <a:lnTo>
                    <a:pt x="290" y="283"/>
                  </a:lnTo>
                  <a:lnTo>
                    <a:pt x="350" y="216"/>
                  </a:lnTo>
                  <a:lnTo>
                    <a:pt x="406" y="159"/>
                  </a:lnTo>
                  <a:lnTo>
                    <a:pt x="458" y="111"/>
                  </a:lnTo>
                  <a:lnTo>
                    <a:pt x="506" y="70"/>
                  </a:lnTo>
                  <a:lnTo>
                    <a:pt x="551" y="39"/>
                  </a:lnTo>
                  <a:lnTo>
                    <a:pt x="572" y="27"/>
                  </a:lnTo>
                  <a:lnTo>
                    <a:pt x="592" y="18"/>
                  </a:lnTo>
                  <a:lnTo>
                    <a:pt x="612" y="9"/>
                  </a:lnTo>
                  <a:lnTo>
                    <a:pt x="630" y="5"/>
                  </a:lnTo>
                  <a:lnTo>
                    <a:pt x="647" y="1"/>
                  </a:lnTo>
                  <a:lnTo>
                    <a:pt x="664" y="0"/>
                  </a:lnTo>
                  <a:lnTo>
                    <a:pt x="673" y="0"/>
                  </a:lnTo>
                  <a:lnTo>
                    <a:pt x="682" y="1"/>
                  </a:lnTo>
                  <a:lnTo>
                    <a:pt x="691" y="4"/>
                  </a:lnTo>
                  <a:lnTo>
                    <a:pt x="699" y="6"/>
                  </a:lnTo>
                  <a:lnTo>
                    <a:pt x="706" y="11"/>
                  </a:lnTo>
                  <a:lnTo>
                    <a:pt x="713" y="14"/>
                  </a:lnTo>
                  <a:lnTo>
                    <a:pt x="719" y="20"/>
                  </a:lnTo>
                  <a:lnTo>
                    <a:pt x="725" y="26"/>
                  </a:lnTo>
                  <a:lnTo>
                    <a:pt x="731" y="33"/>
                  </a:lnTo>
                  <a:lnTo>
                    <a:pt x="735" y="41"/>
                  </a:lnTo>
                  <a:lnTo>
                    <a:pt x="739" y="50"/>
                  </a:lnTo>
                  <a:lnTo>
                    <a:pt x="743" y="60"/>
                  </a:lnTo>
                  <a:lnTo>
                    <a:pt x="746" y="70"/>
                  </a:lnTo>
                  <a:lnTo>
                    <a:pt x="749" y="81"/>
                  </a:lnTo>
                  <a:lnTo>
                    <a:pt x="751" y="93"/>
                  </a:lnTo>
                  <a:lnTo>
                    <a:pt x="752" y="106"/>
                  </a:lnTo>
                  <a:lnTo>
                    <a:pt x="819" y="902"/>
                  </a:lnTo>
                  <a:lnTo>
                    <a:pt x="1247" y="33"/>
                  </a:lnTo>
                  <a:lnTo>
                    <a:pt x="1438" y="33"/>
                  </a:lnTo>
                  <a:lnTo>
                    <a:pt x="1333" y="526"/>
                  </a:lnTo>
                  <a:lnTo>
                    <a:pt x="1266" y="835"/>
                  </a:lnTo>
                  <a:lnTo>
                    <a:pt x="1250" y="926"/>
                  </a:lnTo>
                  <a:lnTo>
                    <a:pt x="1245" y="954"/>
                  </a:lnTo>
                  <a:lnTo>
                    <a:pt x="1244" y="965"/>
                  </a:lnTo>
                  <a:lnTo>
                    <a:pt x="1244" y="974"/>
                  </a:lnTo>
                  <a:lnTo>
                    <a:pt x="1244" y="980"/>
                  </a:lnTo>
                  <a:lnTo>
                    <a:pt x="1245" y="984"/>
                  </a:lnTo>
                  <a:lnTo>
                    <a:pt x="1245" y="987"/>
                  </a:lnTo>
                  <a:lnTo>
                    <a:pt x="1245" y="988"/>
                  </a:lnTo>
                  <a:lnTo>
                    <a:pt x="1246" y="990"/>
                  </a:lnTo>
                  <a:lnTo>
                    <a:pt x="1246" y="991"/>
                  </a:lnTo>
                  <a:lnTo>
                    <a:pt x="1247" y="993"/>
                  </a:lnTo>
                  <a:lnTo>
                    <a:pt x="1248" y="994"/>
                  </a:lnTo>
                  <a:lnTo>
                    <a:pt x="1248" y="995"/>
                  </a:lnTo>
                  <a:lnTo>
                    <a:pt x="1249" y="996"/>
                  </a:lnTo>
                  <a:lnTo>
                    <a:pt x="1249" y="996"/>
                  </a:lnTo>
                  <a:lnTo>
                    <a:pt x="1250" y="996"/>
                  </a:lnTo>
                  <a:lnTo>
                    <a:pt x="1251" y="997"/>
                  </a:lnTo>
                  <a:lnTo>
                    <a:pt x="1252" y="997"/>
                  </a:lnTo>
                  <a:lnTo>
                    <a:pt x="1253" y="997"/>
                  </a:lnTo>
                  <a:lnTo>
                    <a:pt x="1255" y="997"/>
                  </a:lnTo>
                  <a:lnTo>
                    <a:pt x="1257" y="996"/>
                  </a:lnTo>
                  <a:lnTo>
                    <a:pt x="1262" y="995"/>
                  </a:lnTo>
                  <a:lnTo>
                    <a:pt x="1269" y="991"/>
                  </a:lnTo>
                  <a:lnTo>
                    <a:pt x="1276" y="987"/>
                  </a:lnTo>
                  <a:lnTo>
                    <a:pt x="1293" y="974"/>
                  </a:lnTo>
                  <a:lnTo>
                    <a:pt x="1314" y="956"/>
                  </a:lnTo>
                  <a:lnTo>
                    <a:pt x="1366" y="902"/>
                  </a:lnTo>
                  <a:lnTo>
                    <a:pt x="1434" y="828"/>
                  </a:lnTo>
                  <a:lnTo>
                    <a:pt x="1493" y="904"/>
                  </a:lnTo>
                  <a:lnTo>
                    <a:pt x="1437" y="975"/>
                  </a:lnTo>
                  <a:lnTo>
                    <a:pt x="1384" y="1036"/>
                  </a:lnTo>
                  <a:lnTo>
                    <a:pt x="1336" y="1087"/>
                  </a:lnTo>
                  <a:lnTo>
                    <a:pt x="1290" y="1129"/>
                  </a:lnTo>
                  <a:lnTo>
                    <a:pt x="1248" y="1163"/>
                  </a:lnTo>
                  <a:lnTo>
                    <a:pt x="1229" y="1174"/>
                  </a:lnTo>
                  <a:lnTo>
                    <a:pt x="1210" y="1185"/>
                  </a:lnTo>
                  <a:lnTo>
                    <a:pt x="1193" y="1194"/>
                  </a:lnTo>
                  <a:lnTo>
                    <a:pt x="1176" y="1200"/>
                  </a:lnTo>
                  <a:lnTo>
                    <a:pt x="1160" y="1203"/>
                  </a:lnTo>
                  <a:lnTo>
                    <a:pt x="1145" y="1204"/>
                  </a:lnTo>
                  <a:lnTo>
                    <a:pt x="1140" y="1204"/>
                  </a:lnTo>
                  <a:lnTo>
                    <a:pt x="1135" y="1203"/>
                  </a:lnTo>
                  <a:lnTo>
                    <a:pt x="1130" y="1203"/>
                  </a:lnTo>
                  <a:lnTo>
                    <a:pt x="1126" y="1202"/>
                  </a:lnTo>
                  <a:lnTo>
                    <a:pt x="1121" y="1201"/>
                  </a:lnTo>
                  <a:lnTo>
                    <a:pt x="1116" y="1198"/>
                  </a:lnTo>
                  <a:lnTo>
                    <a:pt x="1112" y="1197"/>
                  </a:lnTo>
                  <a:lnTo>
                    <a:pt x="1107" y="1195"/>
                  </a:lnTo>
                  <a:lnTo>
                    <a:pt x="1098" y="1189"/>
                  </a:lnTo>
                  <a:lnTo>
                    <a:pt x="1089" y="1182"/>
                  </a:lnTo>
                  <a:lnTo>
                    <a:pt x="1080" y="1174"/>
                  </a:lnTo>
                  <a:lnTo>
                    <a:pt x="1073" y="1165"/>
                  </a:lnTo>
                  <a:lnTo>
                    <a:pt x="1069" y="1160"/>
                  </a:lnTo>
                  <a:lnTo>
                    <a:pt x="1065" y="1154"/>
                  </a:lnTo>
                  <a:lnTo>
                    <a:pt x="1061" y="1148"/>
                  </a:lnTo>
                  <a:lnTo>
                    <a:pt x="1058" y="1142"/>
                  </a:lnTo>
                  <a:lnTo>
                    <a:pt x="1055" y="1136"/>
                  </a:lnTo>
                  <a:lnTo>
                    <a:pt x="1052" y="1130"/>
                  </a:lnTo>
                  <a:lnTo>
                    <a:pt x="1049" y="1124"/>
                  </a:lnTo>
                  <a:lnTo>
                    <a:pt x="1047" y="1117"/>
                  </a:lnTo>
                  <a:lnTo>
                    <a:pt x="1045" y="1110"/>
                  </a:lnTo>
                  <a:lnTo>
                    <a:pt x="1043" y="1103"/>
                  </a:lnTo>
                  <a:lnTo>
                    <a:pt x="1040" y="1087"/>
                  </a:lnTo>
                  <a:lnTo>
                    <a:pt x="1039" y="1072"/>
                  </a:lnTo>
                  <a:lnTo>
                    <a:pt x="1038" y="1054"/>
                  </a:lnTo>
                  <a:lnTo>
                    <a:pt x="1039" y="1026"/>
                  </a:lnTo>
                  <a:lnTo>
                    <a:pt x="1043" y="991"/>
                  </a:lnTo>
                  <a:lnTo>
                    <a:pt x="1058" y="897"/>
                  </a:lnTo>
                  <a:lnTo>
                    <a:pt x="1081" y="769"/>
                  </a:lnTo>
                  <a:lnTo>
                    <a:pt x="1115" y="609"/>
                  </a:lnTo>
                  <a:lnTo>
                    <a:pt x="1181" y="336"/>
                  </a:lnTo>
                  <a:lnTo>
                    <a:pt x="772" y="1192"/>
                  </a:lnTo>
                  <a:lnTo>
                    <a:pt x="655" y="1192"/>
                  </a:lnTo>
                  <a:lnTo>
                    <a:pt x="593" y="429"/>
                  </a:lnTo>
                  <a:lnTo>
                    <a:pt x="533" y="665"/>
                  </a:lnTo>
                  <a:lnTo>
                    <a:pt x="504" y="763"/>
                  </a:lnTo>
                  <a:lnTo>
                    <a:pt x="477" y="850"/>
                  </a:lnTo>
                  <a:lnTo>
                    <a:pt x="449" y="924"/>
                  </a:lnTo>
                  <a:lnTo>
                    <a:pt x="422" y="985"/>
                  </a:lnTo>
                  <a:lnTo>
                    <a:pt x="409" y="1012"/>
                  </a:lnTo>
                  <a:lnTo>
                    <a:pt x="396" y="1035"/>
                  </a:lnTo>
                  <a:lnTo>
                    <a:pt x="383" y="1055"/>
                  </a:lnTo>
                  <a:lnTo>
                    <a:pt x="370" y="1072"/>
                  </a:lnTo>
                  <a:lnTo>
                    <a:pt x="344" y="1100"/>
                  </a:lnTo>
                  <a:lnTo>
                    <a:pt x="318" y="1125"/>
                  </a:lnTo>
                  <a:lnTo>
                    <a:pt x="291" y="1146"/>
                  </a:lnTo>
                  <a:lnTo>
                    <a:pt x="276" y="1155"/>
                  </a:lnTo>
                  <a:lnTo>
                    <a:pt x="262" y="1164"/>
                  </a:lnTo>
                  <a:lnTo>
                    <a:pt x="248" y="1170"/>
                  </a:lnTo>
                  <a:lnTo>
                    <a:pt x="233" y="1177"/>
                  </a:lnTo>
                  <a:lnTo>
                    <a:pt x="218" y="1182"/>
                  </a:lnTo>
                  <a:lnTo>
                    <a:pt x="204" y="1186"/>
                  </a:lnTo>
                  <a:lnTo>
                    <a:pt x="189" y="1189"/>
                  </a:lnTo>
                  <a:lnTo>
                    <a:pt x="173" y="1191"/>
                  </a:lnTo>
                  <a:lnTo>
                    <a:pt x="158" y="1194"/>
                  </a:lnTo>
                  <a:lnTo>
                    <a:pt x="142" y="1194"/>
                  </a:lnTo>
                  <a:lnTo>
                    <a:pt x="125" y="1192"/>
                  </a:lnTo>
                  <a:lnTo>
                    <a:pt x="110" y="1191"/>
                  </a:lnTo>
                  <a:lnTo>
                    <a:pt x="95" y="1188"/>
                  </a:lnTo>
                  <a:lnTo>
                    <a:pt x="88" y="1185"/>
                  </a:lnTo>
                  <a:lnTo>
                    <a:pt x="82" y="1183"/>
                  </a:lnTo>
                  <a:lnTo>
                    <a:pt x="75" y="1179"/>
                  </a:lnTo>
                  <a:lnTo>
                    <a:pt x="69" y="1176"/>
                  </a:lnTo>
                  <a:lnTo>
                    <a:pt x="63" y="1172"/>
                  </a:lnTo>
                  <a:lnTo>
                    <a:pt x="57" y="1168"/>
                  </a:lnTo>
                  <a:lnTo>
                    <a:pt x="52" y="1164"/>
                  </a:lnTo>
                  <a:lnTo>
                    <a:pt x="47" y="1159"/>
                  </a:lnTo>
                  <a:lnTo>
                    <a:pt x="42" y="1154"/>
                  </a:lnTo>
                  <a:lnTo>
                    <a:pt x="37" y="1148"/>
                  </a:lnTo>
                  <a:lnTo>
                    <a:pt x="29" y="1136"/>
                  </a:lnTo>
                  <a:lnTo>
                    <a:pt x="21" y="1125"/>
                  </a:lnTo>
                  <a:lnTo>
                    <a:pt x="15" y="1112"/>
                  </a:lnTo>
                  <a:lnTo>
                    <a:pt x="10" y="1100"/>
                  </a:lnTo>
                  <a:lnTo>
                    <a:pt x="7" y="1093"/>
                  </a:lnTo>
                  <a:lnTo>
                    <a:pt x="5" y="1086"/>
                  </a:lnTo>
                  <a:lnTo>
                    <a:pt x="4" y="1080"/>
                  </a:lnTo>
                  <a:lnTo>
                    <a:pt x="2" y="1073"/>
                  </a:lnTo>
                  <a:lnTo>
                    <a:pt x="1" y="1066"/>
                  </a:lnTo>
                  <a:lnTo>
                    <a:pt x="1" y="1058"/>
                  </a:lnTo>
                  <a:lnTo>
                    <a:pt x="0" y="1044"/>
                  </a:lnTo>
                  <a:lnTo>
                    <a:pt x="1" y="1030"/>
                  </a:lnTo>
                  <a:lnTo>
                    <a:pt x="2" y="1017"/>
                  </a:lnTo>
                  <a:lnTo>
                    <a:pt x="5" y="1002"/>
                  </a:lnTo>
                  <a:lnTo>
                    <a:pt x="8" y="990"/>
                  </a:lnTo>
                  <a:lnTo>
                    <a:pt x="13" y="977"/>
                  </a:lnTo>
                  <a:lnTo>
                    <a:pt x="19" y="965"/>
                  </a:lnTo>
                  <a:lnTo>
                    <a:pt x="25" y="953"/>
                  </a:lnTo>
                  <a:lnTo>
                    <a:pt x="33" y="942"/>
                  </a:lnTo>
                  <a:lnTo>
                    <a:pt x="41" y="933"/>
                  </a:lnTo>
                  <a:lnTo>
                    <a:pt x="50" y="923"/>
                  </a:lnTo>
                  <a:lnTo>
                    <a:pt x="55" y="920"/>
                  </a:lnTo>
                  <a:lnTo>
                    <a:pt x="60" y="916"/>
                  </a:lnTo>
                  <a:lnTo>
                    <a:pt x="65" y="913"/>
                  </a:lnTo>
                  <a:lnTo>
                    <a:pt x="70" y="910"/>
                  </a:lnTo>
                  <a:lnTo>
                    <a:pt x="75" y="907"/>
                  </a:lnTo>
                  <a:lnTo>
                    <a:pt x="80" y="904"/>
                  </a:lnTo>
                  <a:lnTo>
                    <a:pt x="86" y="903"/>
                  </a:lnTo>
                  <a:lnTo>
                    <a:pt x="91" y="901"/>
                  </a:lnTo>
                  <a:lnTo>
                    <a:pt x="97" y="899"/>
                  </a:lnTo>
                  <a:lnTo>
                    <a:pt x="103" y="899"/>
                  </a:lnTo>
                  <a:lnTo>
                    <a:pt x="109" y="898"/>
                  </a:lnTo>
                  <a:lnTo>
                    <a:pt x="115" y="898"/>
                  </a:lnTo>
                  <a:lnTo>
                    <a:pt x="123" y="898"/>
                  </a:lnTo>
                  <a:lnTo>
                    <a:pt x="131" y="899"/>
                  </a:lnTo>
                  <a:lnTo>
                    <a:pt x="139" y="902"/>
                  </a:lnTo>
                  <a:lnTo>
                    <a:pt x="148" y="904"/>
                  </a:lnTo>
                  <a:lnTo>
                    <a:pt x="157" y="907"/>
                  </a:lnTo>
                  <a:lnTo>
                    <a:pt x="167" y="910"/>
                  </a:lnTo>
                  <a:lnTo>
                    <a:pt x="177" y="915"/>
                  </a:lnTo>
                  <a:lnTo>
                    <a:pt x="187" y="920"/>
                  </a:lnTo>
                  <a:lnTo>
                    <a:pt x="206" y="928"/>
                  </a:lnTo>
                  <a:lnTo>
                    <a:pt x="221" y="933"/>
                  </a:lnTo>
                  <a:lnTo>
                    <a:pt x="227" y="935"/>
                  </a:lnTo>
                  <a:lnTo>
                    <a:pt x="233" y="936"/>
                  </a:lnTo>
                  <a:lnTo>
                    <a:pt x="238" y="938"/>
                  </a:lnTo>
                  <a:lnTo>
                    <a:pt x="240" y="938"/>
                  </a:lnTo>
                  <a:lnTo>
                    <a:pt x="242" y="938"/>
                  </a:lnTo>
                  <a:lnTo>
                    <a:pt x="247" y="938"/>
                  </a:lnTo>
                  <a:lnTo>
                    <a:pt x="252" y="936"/>
                  </a:lnTo>
                  <a:lnTo>
                    <a:pt x="256" y="935"/>
                  </a:lnTo>
                  <a:lnTo>
                    <a:pt x="261" y="934"/>
                  </a:lnTo>
                  <a:lnTo>
                    <a:pt x="266" y="932"/>
                  </a:lnTo>
                  <a:lnTo>
                    <a:pt x="271" y="928"/>
                  </a:lnTo>
                  <a:lnTo>
                    <a:pt x="276" y="926"/>
                  </a:lnTo>
                  <a:lnTo>
                    <a:pt x="282" y="922"/>
                  </a:lnTo>
                  <a:lnTo>
                    <a:pt x="292" y="913"/>
                  </a:lnTo>
                  <a:lnTo>
                    <a:pt x="303" y="902"/>
                  </a:lnTo>
                  <a:lnTo>
                    <a:pt x="314" y="889"/>
                  </a:lnTo>
                  <a:lnTo>
                    <a:pt x="325" y="874"/>
                  </a:lnTo>
                  <a:lnTo>
                    <a:pt x="337" y="855"/>
                  </a:lnTo>
                  <a:lnTo>
                    <a:pt x="350" y="830"/>
                  </a:lnTo>
                  <a:lnTo>
                    <a:pt x="365" y="798"/>
                  </a:lnTo>
                  <a:lnTo>
                    <a:pt x="382" y="758"/>
                  </a:lnTo>
                  <a:lnTo>
                    <a:pt x="420" y="661"/>
                  </a:lnTo>
                  <a:lnTo>
                    <a:pt x="464" y="537"/>
                  </a:lnTo>
                  <a:lnTo>
                    <a:pt x="504" y="413"/>
                  </a:lnTo>
                  <a:lnTo>
                    <a:pt x="534" y="317"/>
                  </a:lnTo>
                  <a:lnTo>
                    <a:pt x="544" y="280"/>
                  </a:lnTo>
                  <a:lnTo>
                    <a:pt x="551" y="249"/>
                  </a:lnTo>
                  <a:lnTo>
                    <a:pt x="556" y="226"/>
                  </a:lnTo>
                  <a:lnTo>
                    <a:pt x="557" y="216"/>
                  </a:lnTo>
                  <a:lnTo>
                    <a:pt x="557" y="209"/>
                  </a:lnTo>
                  <a:lnTo>
                    <a:pt x="557" y="208"/>
                  </a:lnTo>
                  <a:lnTo>
                    <a:pt x="557" y="208"/>
                  </a:lnTo>
                  <a:lnTo>
                    <a:pt x="557" y="207"/>
                  </a:lnTo>
                  <a:lnTo>
                    <a:pt x="557" y="207"/>
                  </a:lnTo>
                  <a:lnTo>
                    <a:pt x="557" y="207"/>
                  </a:lnTo>
                  <a:lnTo>
                    <a:pt x="556" y="206"/>
                  </a:lnTo>
                  <a:lnTo>
                    <a:pt x="556" y="206"/>
                  </a:lnTo>
                  <a:lnTo>
                    <a:pt x="556" y="204"/>
                  </a:lnTo>
                  <a:lnTo>
                    <a:pt x="556" y="204"/>
                  </a:lnTo>
                  <a:lnTo>
                    <a:pt x="555" y="204"/>
                  </a:lnTo>
                  <a:lnTo>
                    <a:pt x="555" y="204"/>
                  </a:lnTo>
                  <a:lnTo>
                    <a:pt x="554" y="203"/>
                  </a:lnTo>
                  <a:lnTo>
                    <a:pt x="554" y="203"/>
                  </a:lnTo>
                  <a:lnTo>
                    <a:pt x="553" y="203"/>
                  </a:lnTo>
                  <a:lnTo>
                    <a:pt x="553" y="203"/>
                  </a:lnTo>
                  <a:lnTo>
                    <a:pt x="552" y="203"/>
                  </a:lnTo>
                  <a:lnTo>
                    <a:pt x="545" y="203"/>
                  </a:lnTo>
                  <a:lnTo>
                    <a:pt x="537" y="206"/>
                  </a:lnTo>
                  <a:lnTo>
                    <a:pt x="528" y="208"/>
                  </a:lnTo>
                  <a:lnTo>
                    <a:pt x="519" y="213"/>
                  </a:lnTo>
                  <a:lnTo>
                    <a:pt x="510" y="218"/>
                  </a:lnTo>
                  <a:lnTo>
                    <a:pt x="499" y="225"/>
                  </a:lnTo>
                  <a:lnTo>
                    <a:pt x="478" y="242"/>
                  </a:lnTo>
                  <a:lnTo>
                    <a:pt x="453" y="262"/>
                  </a:lnTo>
                  <a:lnTo>
                    <a:pt x="425" y="288"/>
                  </a:lnTo>
                  <a:lnTo>
                    <a:pt x="395" y="319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80160" y="4527720"/>
              <a:ext cx="362160" cy="433080"/>
            </a:xfrm>
            <a:custGeom>
              <a:avLst/>
              <a:gdLst/>
              <a:ahLst/>
              <a:rect l="l" t="t" r="r" b="b"/>
              <a:pathLst>
                <a:path w="1004" h="1205">
                  <a:moveTo>
                    <a:pt x="751" y="33"/>
                  </a:moveTo>
                  <a:lnTo>
                    <a:pt x="950" y="33"/>
                  </a:lnTo>
                  <a:lnTo>
                    <a:pt x="845" y="526"/>
                  </a:lnTo>
                  <a:lnTo>
                    <a:pt x="777" y="837"/>
                  </a:lnTo>
                  <a:lnTo>
                    <a:pt x="760" y="927"/>
                  </a:lnTo>
                  <a:lnTo>
                    <a:pt x="755" y="957"/>
                  </a:lnTo>
                  <a:lnTo>
                    <a:pt x="754" y="966"/>
                  </a:lnTo>
                  <a:lnTo>
                    <a:pt x="754" y="975"/>
                  </a:lnTo>
                  <a:lnTo>
                    <a:pt x="754" y="978"/>
                  </a:lnTo>
                  <a:lnTo>
                    <a:pt x="754" y="982"/>
                  </a:lnTo>
                  <a:lnTo>
                    <a:pt x="755" y="985"/>
                  </a:lnTo>
                  <a:lnTo>
                    <a:pt x="755" y="988"/>
                  </a:lnTo>
                  <a:lnTo>
                    <a:pt x="756" y="990"/>
                  </a:lnTo>
                  <a:lnTo>
                    <a:pt x="757" y="991"/>
                  </a:lnTo>
                  <a:lnTo>
                    <a:pt x="757" y="994"/>
                  </a:lnTo>
                  <a:lnTo>
                    <a:pt x="758" y="995"/>
                  </a:lnTo>
                  <a:lnTo>
                    <a:pt x="759" y="996"/>
                  </a:lnTo>
                  <a:lnTo>
                    <a:pt x="759" y="996"/>
                  </a:lnTo>
                  <a:lnTo>
                    <a:pt x="760" y="997"/>
                  </a:lnTo>
                  <a:lnTo>
                    <a:pt x="761" y="997"/>
                  </a:lnTo>
                  <a:lnTo>
                    <a:pt x="762" y="999"/>
                  </a:lnTo>
                  <a:lnTo>
                    <a:pt x="762" y="999"/>
                  </a:lnTo>
                  <a:lnTo>
                    <a:pt x="762" y="999"/>
                  </a:lnTo>
                  <a:lnTo>
                    <a:pt x="762" y="999"/>
                  </a:lnTo>
                  <a:lnTo>
                    <a:pt x="763" y="999"/>
                  </a:lnTo>
                  <a:lnTo>
                    <a:pt x="763" y="999"/>
                  </a:lnTo>
                  <a:lnTo>
                    <a:pt x="763" y="999"/>
                  </a:lnTo>
                  <a:lnTo>
                    <a:pt x="766" y="999"/>
                  </a:lnTo>
                  <a:lnTo>
                    <a:pt x="769" y="997"/>
                  </a:lnTo>
                  <a:lnTo>
                    <a:pt x="772" y="997"/>
                  </a:lnTo>
                  <a:lnTo>
                    <a:pt x="776" y="996"/>
                  </a:lnTo>
                  <a:lnTo>
                    <a:pt x="779" y="994"/>
                  </a:lnTo>
                  <a:lnTo>
                    <a:pt x="783" y="993"/>
                  </a:lnTo>
                  <a:lnTo>
                    <a:pt x="787" y="989"/>
                  </a:lnTo>
                  <a:lnTo>
                    <a:pt x="791" y="987"/>
                  </a:lnTo>
                  <a:lnTo>
                    <a:pt x="802" y="977"/>
                  </a:lnTo>
                  <a:lnTo>
                    <a:pt x="815" y="965"/>
                  </a:lnTo>
                  <a:lnTo>
                    <a:pt x="848" y="932"/>
                  </a:lnTo>
                  <a:lnTo>
                    <a:pt x="945" y="828"/>
                  </a:lnTo>
                  <a:lnTo>
                    <a:pt x="1003" y="904"/>
                  </a:lnTo>
                  <a:lnTo>
                    <a:pt x="947" y="975"/>
                  </a:lnTo>
                  <a:lnTo>
                    <a:pt x="894" y="1036"/>
                  </a:lnTo>
                  <a:lnTo>
                    <a:pt x="845" y="1087"/>
                  </a:lnTo>
                  <a:lnTo>
                    <a:pt x="800" y="1129"/>
                  </a:lnTo>
                  <a:lnTo>
                    <a:pt x="758" y="1163"/>
                  </a:lnTo>
                  <a:lnTo>
                    <a:pt x="739" y="1174"/>
                  </a:lnTo>
                  <a:lnTo>
                    <a:pt x="720" y="1185"/>
                  </a:lnTo>
                  <a:lnTo>
                    <a:pt x="702" y="1194"/>
                  </a:lnTo>
                  <a:lnTo>
                    <a:pt x="686" y="1200"/>
                  </a:lnTo>
                  <a:lnTo>
                    <a:pt x="670" y="1203"/>
                  </a:lnTo>
                  <a:lnTo>
                    <a:pt x="656" y="1204"/>
                  </a:lnTo>
                  <a:lnTo>
                    <a:pt x="645" y="1203"/>
                  </a:lnTo>
                  <a:lnTo>
                    <a:pt x="634" y="1202"/>
                  </a:lnTo>
                  <a:lnTo>
                    <a:pt x="629" y="1201"/>
                  </a:lnTo>
                  <a:lnTo>
                    <a:pt x="624" y="1198"/>
                  </a:lnTo>
                  <a:lnTo>
                    <a:pt x="619" y="1197"/>
                  </a:lnTo>
                  <a:lnTo>
                    <a:pt x="614" y="1195"/>
                  </a:lnTo>
                  <a:lnTo>
                    <a:pt x="610" y="1192"/>
                  </a:lnTo>
                  <a:lnTo>
                    <a:pt x="605" y="1189"/>
                  </a:lnTo>
                  <a:lnTo>
                    <a:pt x="600" y="1185"/>
                  </a:lnTo>
                  <a:lnTo>
                    <a:pt x="596" y="1182"/>
                  </a:lnTo>
                  <a:lnTo>
                    <a:pt x="592" y="1178"/>
                  </a:lnTo>
                  <a:lnTo>
                    <a:pt x="588" y="1174"/>
                  </a:lnTo>
                  <a:lnTo>
                    <a:pt x="584" y="1170"/>
                  </a:lnTo>
                  <a:lnTo>
                    <a:pt x="580" y="1165"/>
                  </a:lnTo>
                  <a:lnTo>
                    <a:pt x="576" y="1160"/>
                  </a:lnTo>
                  <a:lnTo>
                    <a:pt x="573" y="1154"/>
                  </a:lnTo>
                  <a:lnTo>
                    <a:pt x="569" y="1148"/>
                  </a:lnTo>
                  <a:lnTo>
                    <a:pt x="566" y="1142"/>
                  </a:lnTo>
                  <a:lnTo>
                    <a:pt x="564" y="1136"/>
                  </a:lnTo>
                  <a:lnTo>
                    <a:pt x="561" y="1130"/>
                  </a:lnTo>
                  <a:lnTo>
                    <a:pt x="559" y="1124"/>
                  </a:lnTo>
                  <a:lnTo>
                    <a:pt x="557" y="1117"/>
                  </a:lnTo>
                  <a:lnTo>
                    <a:pt x="553" y="1103"/>
                  </a:lnTo>
                  <a:lnTo>
                    <a:pt x="551" y="1087"/>
                  </a:lnTo>
                  <a:lnTo>
                    <a:pt x="549" y="1072"/>
                  </a:lnTo>
                  <a:lnTo>
                    <a:pt x="549" y="1054"/>
                  </a:lnTo>
                  <a:lnTo>
                    <a:pt x="549" y="1036"/>
                  </a:lnTo>
                  <a:lnTo>
                    <a:pt x="551" y="1017"/>
                  </a:lnTo>
                  <a:lnTo>
                    <a:pt x="552" y="997"/>
                  </a:lnTo>
                  <a:lnTo>
                    <a:pt x="555" y="978"/>
                  </a:lnTo>
                  <a:lnTo>
                    <a:pt x="558" y="959"/>
                  </a:lnTo>
                  <a:lnTo>
                    <a:pt x="563" y="939"/>
                  </a:lnTo>
                  <a:lnTo>
                    <a:pt x="567" y="919"/>
                  </a:lnTo>
                  <a:lnTo>
                    <a:pt x="573" y="898"/>
                  </a:lnTo>
                  <a:lnTo>
                    <a:pt x="557" y="929"/>
                  </a:lnTo>
                  <a:lnTo>
                    <a:pt x="538" y="960"/>
                  </a:lnTo>
                  <a:lnTo>
                    <a:pt x="516" y="990"/>
                  </a:lnTo>
                  <a:lnTo>
                    <a:pt x="491" y="1020"/>
                  </a:lnTo>
                  <a:lnTo>
                    <a:pt x="464" y="1049"/>
                  </a:lnTo>
                  <a:lnTo>
                    <a:pt x="434" y="1076"/>
                  </a:lnTo>
                  <a:lnTo>
                    <a:pt x="401" y="1104"/>
                  </a:lnTo>
                  <a:lnTo>
                    <a:pt x="367" y="1130"/>
                  </a:lnTo>
                  <a:lnTo>
                    <a:pt x="342" y="1147"/>
                  </a:lnTo>
                  <a:lnTo>
                    <a:pt x="318" y="1161"/>
                  </a:lnTo>
                  <a:lnTo>
                    <a:pt x="295" y="1173"/>
                  </a:lnTo>
                  <a:lnTo>
                    <a:pt x="272" y="1183"/>
                  </a:lnTo>
                  <a:lnTo>
                    <a:pt x="251" y="1191"/>
                  </a:lnTo>
                  <a:lnTo>
                    <a:pt x="229" y="1196"/>
                  </a:lnTo>
                  <a:lnTo>
                    <a:pt x="209" y="1200"/>
                  </a:lnTo>
                  <a:lnTo>
                    <a:pt x="189" y="1201"/>
                  </a:lnTo>
                  <a:lnTo>
                    <a:pt x="177" y="1200"/>
                  </a:lnTo>
                  <a:lnTo>
                    <a:pt x="166" y="1198"/>
                  </a:lnTo>
                  <a:lnTo>
                    <a:pt x="160" y="1197"/>
                  </a:lnTo>
                  <a:lnTo>
                    <a:pt x="155" y="1195"/>
                  </a:lnTo>
                  <a:lnTo>
                    <a:pt x="150" y="1194"/>
                  </a:lnTo>
                  <a:lnTo>
                    <a:pt x="145" y="1191"/>
                  </a:lnTo>
                  <a:lnTo>
                    <a:pt x="141" y="1189"/>
                  </a:lnTo>
                  <a:lnTo>
                    <a:pt x="136" y="1185"/>
                  </a:lnTo>
                  <a:lnTo>
                    <a:pt x="132" y="1183"/>
                  </a:lnTo>
                  <a:lnTo>
                    <a:pt x="127" y="1179"/>
                  </a:lnTo>
                  <a:lnTo>
                    <a:pt x="123" y="1176"/>
                  </a:lnTo>
                  <a:lnTo>
                    <a:pt x="119" y="1171"/>
                  </a:lnTo>
                  <a:lnTo>
                    <a:pt x="116" y="1167"/>
                  </a:lnTo>
                  <a:lnTo>
                    <a:pt x="112" y="1163"/>
                  </a:lnTo>
                  <a:lnTo>
                    <a:pt x="109" y="1158"/>
                  </a:lnTo>
                  <a:lnTo>
                    <a:pt x="106" y="1152"/>
                  </a:lnTo>
                  <a:lnTo>
                    <a:pt x="103" y="1147"/>
                  </a:lnTo>
                  <a:lnTo>
                    <a:pt x="100" y="1141"/>
                  </a:lnTo>
                  <a:lnTo>
                    <a:pt x="96" y="1128"/>
                  </a:lnTo>
                  <a:lnTo>
                    <a:pt x="92" y="1115"/>
                  </a:lnTo>
                  <a:lnTo>
                    <a:pt x="89" y="1099"/>
                  </a:lnTo>
                  <a:lnTo>
                    <a:pt x="87" y="1084"/>
                  </a:lnTo>
                  <a:lnTo>
                    <a:pt x="85" y="1066"/>
                  </a:lnTo>
                  <a:lnTo>
                    <a:pt x="85" y="1048"/>
                  </a:lnTo>
                  <a:lnTo>
                    <a:pt x="86" y="1020"/>
                  </a:lnTo>
                  <a:lnTo>
                    <a:pt x="88" y="991"/>
                  </a:lnTo>
                  <a:lnTo>
                    <a:pt x="91" y="962"/>
                  </a:lnTo>
                  <a:lnTo>
                    <a:pt x="96" y="932"/>
                  </a:lnTo>
                  <a:lnTo>
                    <a:pt x="105" y="879"/>
                  </a:lnTo>
                  <a:lnTo>
                    <a:pt x="120" y="806"/>
                  </a:lnTo>
                  <a:lnTo>
                    <a:pt x="167" y="597"/>
                  </a:lnTo>
                  <a:lnTo>
                    <a:pt x="199" y="456"/>
                  </a:lnTo>
                  <a:lnTo>
                    <a:pt x="222" y="347"/>
                  </a:lnTo>
                  <a:lnTo>
                    <a:pt x="235" y="269"/>
                  </a:lnTo>
                  <a:lnTo>
                    <a:pt x="239" y="243"/>
                  </a:lnTo>
                  <a:lnTo>
                    <a:pt x="240" y="232"/>
                  </a:lnTo>
                  <a:lnTo>
                    <a:pt x="240" y="224"/>
                  </a:lnTo>
                  <a:lnTo>
                    <a:pt x="240" y="220"/>
                  </a:lnTo>
                  <a:lnTo>
                    <a:pt x="240" y="218"/>
                  </a:lnTo>
                  <a:lnTo>
                    <a:pt x="240" y="216"/>
                  </a:lnTo>
                  <a:lnTo>
                    <a:pt x="240" y="215"/>
                  </a:lnTo>
                  <a:lnTo>
                    <a:pt x="240" y="215"/>
                  </a:lnTo>
                  <a:lnTo>
                    <a:pt x="240" y="215"/>
                  </a:lnTo>
                  <a:lnTo>
                    <a:pt x="240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39" y="214"/>
                  </a:lnTo>
                  <a:lnTo>
                    <a:pt x="237" y="214"/>
                  </a:lnTo>
                  <a:lnTo>
                    <a:pt x="235" y="215"/>
                  </a:lnTo>
                  <a:lnTo>
                    <a:pt x="233" y="215"/>
                  </a:lnTo>
                  <a:lnTo>
                    <a:pt x="229" y="218"/>
                  </a:lnTo>
                  <a:lnTo>
                    <a:pt x="224" y="220"/>
                  </a:lnTo>
                  <a:lnTo>
                    <a:pt x="218" y="222"/>
                  </a:lnTo>
                  <a:lnTo>
                    <a:pt x="211" y="226"/>
                  </a:lnTo>
                  <a:lnTo>
                    <a:pt x="197" y="236"/>
                  </a:lnTo>
                  <a:lnTo>
                    <a:pt x="188" y="243"/>
                  </a:lnTo>
                  <a:lnTo>
                    <a:pt x="177" y="251"/>
                  </a:lnTo>
                  <a:lnTo>
                    <a:pt x="150" y="276"/>
                  </a:lnTo>
                  <a:lnTo>
                    <a:pt x="72" y="355"/>
                  </a:lnTo>
                  <a:lnTo>
                    <a:pt x="0" y="285"/>
                  </a:lnTo>
                  <a:lnTo>
                    <a:pt x="74" y="201"/>
                  </a:lnTo>
                  <a:lnTo>
                    <a:pt x="137" y="135"/>
                  </a:lnTo>
                  <a:lnTo>
                    <a:pt x="166" y="108"/>
                  </a:lnTo>
                  <a:lnTo>
                    <a:pt x="192" y="85"/>
                  </a:lnTo>
                  <a:lnTo>
                    <a:pt x="216" y="66"/>
                  </a:lnTo>
                  <a:lnTo>
                    <a:pt x="238" y="51"/>
                  </a:lnTo>
                  <a:lnTo>
                    <a:pt x="258" y="39"/>
                  </a:lnTo>
                  <a:lnTo>
                    <a:pt x="277" y="29"/>
                  </a:lnTo>
                  <a:lnTo>
                    <a:pt x="295" y="20"/>
                  </a:lnTo>
                  <a:lnTo>
                    <a:pt x="312" y="13"/>
                  </a:lnTo>
                  <a:lnTo>
                    <a:pt x="328" y="7"/>
                  </a:lnTo>
                  <a:lnTo>
                    <a:pt x="343" y="4"/>
                  </a:lnTo>
                  <a:lnTo>
                    <a:pt x="358" y="1"/>
                  </a:lnTo>
                  <a:lnTo>
                    <a:pt x="372" y="0"/>
                  </a:lnTo>
                  <a:lnTo>
                    <a:pt x="381" y="0"/>
                  </a:lnTo>
                  <a:lnTo>
                    <a:pt x="388" y="2"/>
                  </a:lnTo>
                  <a:lnTo>
                    <a:pt x="392" y="2"/>
                  </a:lnTo>
                  <a:lnTo>
                    <a:pt x="396" y="4"/>
                  </a:lnTo>
                  <a:lnTo>
                    <a:pt x="400" y="6"/>
                  </a:lnTo>
                  <a:lnTo>
                    <a:pt x="404" y="7"/>
                  </a:lnTo>
                  <a:lnTo>
                    <a:pt x="408" y="9"/>
                  </a:lnTo>
                  <a:lnTo>
                    <a:pt x="411" y="12"/>
                  </a:lnTo>
                  <a:lnTo>
                    <a:pt x="415" y="14"/>
                  </a:lnTo>
                  <a:lnTo>
                    <a:pt x="418" y="17"/>
                  </a:lnTo>
                  <a:lnTo>
                    <a:pt x="422" y="20"/>
                  </a:lnTo>
                  <a:lnTo>
                    <a:pt x="425" y="24"/>
                  </a:lnTo>
                  <a:lnTo>
                    <a:pt x="428" y="27"/>
                  </a:lnTo>
                  <a:lnTo>
                    <a:pt x="431" y="31"/>
                  </a:lnTo>
                  <a:lnTo>
                    <a:pt x="434" y="35"/>
                  </a:lnTo>
                  <a:lnTo>
                    <a:pt x="436" y="39"/>
                  </a:lnTo>
                  <a:lnTo>
                    <a:pt x="439" y="44"/>
                  </a:lnTo>
                  <a:lnTo>
                    <a:pt x="441" y="49"/>
                  </a:lnTo>
                  <a:lnTo>
                    <a:pt x="445" y="59"/>
                  </a:lnTo>
                  <a:lnTo>
                    <a:pt x="448" y="69"/>
                  </a:lnTo>
                  <a:lnTo>
                    <a:pt x="451" y="81"/>
                  </a:lnTo>
                  <a:lnTo>
                    <a:pt x="453" y="93"/>
                  </a:lnTo>
                  <a:lnTo>
                    <a:pt x="454" y="106"/>
                  </a:lnTo>
                  <a:lnTo>
                    <a:pt x="454" y="121"/>
                  </a:lnTo>
                  <a:lnTo>
                    <a:pt x="453" y="148"/>
                  </a:lnTo>
                  <a:lnTo>
                    <a:pt x="449" y="184"/>
                  </a:lnTo>
                  <a:lnTo>
                    <a:pt x="434" y="281"/>
                  </a:lnTo>
                  <a:lnTo>
                    <a:pt x="408" y="410"/>
                  </a:lnTo>
                  <a:lnTo>
                    <a:pt x="374" y="574"/>
                  </a:lnTo>
                  <a:lnTo>
                    <a:pt x="322" y="822"/>
                  </a:lnTo>
                  <a:lnTo>
                    <a:pt x="309" y="893"/>
                  </a:lnTo>
                  <a:lnTo>
                    <a:pt x="306" y="917"/>
                  </a:lnTo>
                  <a:lnTo>
                    <a:pt x="305" y="926"/>
                  </a:lnTo>
                  <a:lnTo>
                    <a:pt x="305" y="932"/>
                  </a:lnTo>
                  <a:lnTo>
                    <a:pt x="305" y="936"/>
                  </a:lnTo>
                  <a:lnTo>
                    <a:pt x="306" y="941"/>
                  </a:lnTo>
                  <a:lnTo>
                    <a:pt x="306" y="945"/>
                  </a:lnTo>
                  <a:lnTo>
                    <a:pt x="307" y="947"/>
                  </a:lnTo>
                  <a:lnTo>
                    <a:pt x="307" y="948"/>
                  </a:lnTo>
                  <a:lnTo>
                    <a:pt x="308" y="951"/>
                  </a:lnTo>
                  <a:lnTo>
                    <a:pt x="309" y="952"/>
                  </a:lnTo>
                  <a:lnTo>
                    <a:pt x="309" y="954"/>
                  </a:lnTo>
                  <a:lnTo>
                    <a:pt x="310" y="956"/>
                  </a:lnTo>
                  <a:lnTo>
                    <a:pt x="311" y="957"/>
                  </a:lnTo>
                  <a:lnTo>
                    <a:pt x="312" y="959"/>
                  </a:lnTo>
                  <a:lnTo>
                    <a:pt x="313" y="960"/>
                  </a:lnTo>
                  <a:lnTo>
                    <a:pt x="314" y="962"/>
                  </a:lnTo>
                  <a:lnTo>
                    <a:pt x="316" y="964"/>
                  </a:lnTo>
                  <a:lnTo>
                    <a:pt x="318" y="966"/>
                  </a:lnTo>
                  <a:lnTo>
                    <a:pt x="320" y="968"/>
                  </a:lnTo>
                  <a:lnTo>
                    <a:pt x="321" y="969"/>
                  </a:lnTo>
                  <a:lnTo>
                    <a:pt x="322" y="970"/>
                  </a:lnTo>
                  <a:lnTo>
                    <a:pt x="322" y="970"/>
                  </a:lnTo>
                  <a:lnTo>
                    <a:pt x="323" y="971"/>
                  </a:lnTo>
                  <a:lnTo>
                    <a:pt x="324" y="971"/>
                  </a:lnTo>
                  <a:lnTo>
                    <a:pt x="325" y="971"/>
                  </a:lnTo>
                  <a:lnTo>
                    <a:pt x="326" y="972"/>
                  </a:lnTo>
                  <a:lnTo>
                    <a:pt x="327" y="972"/>
                  </a:lnTo>
                  <a:lnTo>
                    <a:pt x="328" y="972"/>
                  </a:lnTo>
                  <a:lnTo>
                    <a:pt x="329" y="972"/>
                  </a:lnTo>
                  <a:lnTo>
                    <a:pt x="336" y="972"/>
                  </a:lnTo>
                  <a:lnTo>
                    <a:pt x="343" y="970"/>
                  </a:lnTo>
                  <a:lnTo>
                    <a:pt x="351" y="969"/>
                  </a:lnTo>
                  <a:lnTo>
                    <a:pt x="359" y="965"/>
                  </a:lnTo>
                  <a:lnTo>
                    <a:pt x="367" y="962"/>
                  </a:lnTo>
                  <a:lnTo>
                    <a:pt x="376" y="956"/>
                  </a:lnTo>
                  <a:lnTo>
                    <a:pt x="395" y="944"/>
                  </a:lnTo>
                  <a:lnTo>
                    <a:pt x="415" y="927"/>
                  </a:lnTo>
                  <a:lnTo>
                    <a:pt x="438" y="908"/>
                  </a:lnTo>
                  <a:lnTo>
                    <a:pt x="462" y="884"/>
                  </a:lnTo>
                  <a:lnTo>
                    <a:pt x="488" y="856"/>
                  </a:lnTo>
                  <a:lnTo>
                    <a:pt x="513" y="828"/>
                  </a:lnTo>
                  <a:lnTo>
                    <a:pt x="537" y="797"/>
                  </a:lnTo>
                  <a:lnTo>
                    <a:pt x="558" y="765"/>
                  </a:lnTo>
                  <a:lnTo>
                    <a:pt x="576" y="733"/>
                  </a:lnTo>
                  <a:lnTo>
                    <a:pt x="593" y="700"/>
                  </a:lnTo>
                  <a:lnTo>
                    <a:pt x="607" y="665"/>
                  </a:lnTo>
                  <a:lnTo>
                    <a:pt x="619" y="630"/>
                  </a:lnTo>
                  <a:lnTo>
                    <a:pt x="628" y="593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61400" y="4525920"/>
              <a:ext cx="490320" cy="434880"/>
            </a:xfrm>
            <a:custGeom>
              <a:avLst/>
              <a:gdLst/>
              <a:ahLst/>
              <a:rect l="l" t="t" r="r" b="b"/>
              <a:pathLst>
                <a:path w="1362" h="1208">
                  <a:moveTo>
                    <a:pt x="52" y="360"/>
                  </a:moveTo>
                  <a:lnTo>
                    <a:pt x="0" y="279"/>
                  </a:lnTo>
                  <a:lnTo>
                    <a:pt x="58" y="209"/>
                  </a:lnTo>
                  <a:lnTo>
                    <a:pt x="86" y="178"/>
                  </a:lnTo>
                  <a:lnTo>
                    <a:pt x="113" y="151"/>
                  </a:lnTo>
                  <a:lnTo>
                    <a:pt x="141" y="126"/>
                  </a:lnTo>
                  <a:lnTo>
                    <a:pt x="167" y="102"/>
                  </a:lnTo>
                  <a:lnTo>
                    <a:pt x="193" y="82"/>
                  </a:lnTo>
                  <a:lnTo>
                    <a:pt x="219" y="65"/>
                  </a:lnTo>
                  <a:lnTo>
                    <a:pt x="244" y="49"/>
                  </a:lnTo>
                  <a:lnTo>
                    <a:pt x="268" y="36"/>
                  </a:lnTo>
                  <a:lnTo>
                    <a:pt x="290" y="25"/>
                  </a:lnTo>
                  <a:lnTo>
                    <a:pt x="311" y="17"/>
                  </a:lnTo>
                  <a:lnTo>
                    <a:pt x="331" y="10"/>
                  </a:lnTo>
                  <a:lnTo>
                    <a:pt x="350" y="4"/>
                  </a:lnTo>
                  <a:lnTo>
                    <a:pt x="367" y="1"/>
                  </a:lnTo>
                  <a:lnTo>
                    <a:pt x="375" y="0"/>
                  </a:lnTo>
                  <a:lnTo>
                    <a:pt x="383" y="0"/>
                  </a:lnTo>
                  <a:lnTo>
                    <a:pt x="391" y="0"/>
                  </a:lnTo>
                  <a:lnTo>
                    <a:pt x="399" y="1"/>
                  </a:lnTo>
                  <a:lnTo>
                    <a:pt x="406" y="2"/>
                  </a:lnTo>
                  <a:lnTo>
                    <a:pt x="412" y="5"/>
                  </a:lnTo>
                  <a:lnTo>
                    <a:pt x="418" y="7"/>
                  </a:lnTo>
                  <a:lnTo>
                    <a:pt x="421" y="8"/>
                  </a:lnTo>
                  <a:lnTo>
                    <a:pt x="424" y="11"/>
                  </a:lnTo>
                  <a:lnTo>
                    <a:pt x="427" y="12"/>
                  </a:lnTo>
                  <a:lnTo>
                    <a:pt x="429" y="14"/>
                  </a:lnTo>
                  <a:lnTo>
                    <a:pt x="432" y="17"/>
                  </a:lnTo>
                  <a:lnTo>
                    <a:pt x="434" y="19"/>
                  </a:lnTo>
                  <a:lnTo>
                    <a:pt x="436" y="21"/>
                  </a:lnTo>
                  <a:lnTo>
                    <a:pt x="439" y="24"/>
                  </a:lnTo>
                  <a:lnTo>
                    <a:pt x="441" y="27"/>
                  </a:lnTo>
                  <a:lnTo>
                    <a:pt x="442" y="30"/>
                  </a:lnTo>
                  <a:lnTo>
                    <a:pt x="444" y="32"/>
                  </a:lnTo>
                  <a:lnTo>
                    <a:pt x="446" y="36"/>
                  </a:lnTo>
                  <a:lnTo>
                    <a:pt x="447" y="39"/>
                  </a:lnTo>
                  <a:lnTo>
                    <a:pt x="448" y="42"/>
                  </a:lnTo>
                  <a:lnTo>
                    <a:pt x="449" y="45"/>
                  </a:lnTo>
                  <a:lnTo>
                    <a:pt x="450" y="49"/>
                  </a:lnTo>
                  <a:lnTo>
                    <a:pt x="451" y="53"/>
                  </a:lnTo>
                  <a:lnTo>
                    <a:pt x="452" y="56"/>
                  </a:lnTo>
                  <a:lnTo>
                    <a:pt x="453" y="63"/>
                  </a:lnTo>
                  <a:lnTo>
                    <a:pt x="453" y="72"/>
                  </a:lnTo>
                  <a:lnTo>
                    <a:pt x="453" y="80"/>
                  </a:lnTo>
                  <a:lnTo>
                    <a:pt x="452" y="90"/>
                  </a:lnTo>
                  <a:lnTo>
                    <a:pt x="450" y="100"/>
                  </a:lnTo>
                  <a:lnTo>
                    <a:pt x="449" y="114"/>
                  </a:lnTo>
                  <a:lnTo>
                    <a:pt x="443" y="143"/>
                  </a:lnTo>
                  <a:lnTo>
                    <a:pt x="435" y="181"/>
                  </a:lnTo>
                  <a:lnTo>
                    <a:pt x="413" y="271"/>
                  </a:lnTo>
                  <a:lnTo>
                    <a:pt x="406" y="301"/>
                  </a:lnTo>
                  <a:lnTo>
                    <a:pt x="400" y="322"/>
                  </a:lnTo>
                  <a:lnTo>
                    <a:pt x="456" y="246"/>
                  </a:lnTo>
                  <a:lnTo>
                    <a:pt x="509" y="181"/>
                  </a:lnTo>
                  <a:lnTo>
                    <a:pt x="561" y="126"/>
                  </a:lnTo>
                  <a:lnTo>
                    <a:pt x="610" y="80"/>
                  </a:lnTo>
                  <a:lnTo>
                    <a:pt x="633" y="62"/>
                  </a:lnTo>
                  <a:lnTo>
                    <a:pt x="656" y="45"/>
                  </a:lnTo>
                  <a:lnTo>
                    <a:pt x="678" y="31"/>
                  </a:lnTo>
                  <a:lnTo>
                    <a:pt x="700" y="20"/>
                  </a:lnTo>
                  <a:lnTo>
                    <a:pt x="720" y="11"/>
                  </a:lnTo>
                  <a:lnTo>
                    <a:pt x="741" y="5"/>
                  </a:lnTo>
                  <a:lnTo>
                    <a:pt x="759" y="1"/>
                  </a:lnTo>
                  <a:lnTo>
                    <a:pt x="778" y="0"/>
                  </a:lnTo>
                  <a:lnTo>
                    <a:pt x="789" y="0"/>
                  </a:lnTo>
                  <a:lnTo>
                    <a:pt x="800" y="2"/>
                  </a:lnTo>
                  <a:lnTo>
                    <a:pt x="810" y="5"/>
                  </a:lnTo>
                  <a:lnTo>
                    <a:pt x="815" y="6"/>
                  </a:lnTo>
                  <a:lnTo>
                    <a:pt x="819" y="8"/>
                  </a:lnTo>
                  <a:lnTo>
                    <a:pt x="824" y="11"/>
                  </a:lnTo>
                  <a:lnTo>
                    <a:pt x="828" y="13"/>
                  </a:lnTo>
                  <a:lnTo>
                    <a:pt x="832" y="15"/>
                  </a:lnTo>
                  <a:lnTo>
                    <a:pt x="836" y="18"/>
                  </a:lnTo>
                  <a:lnTo>
                    <a:pt x="840" y="21"/>
                  </a:lnTo>
                  <a:lnTo>
                    <a:pt x="843" y="25"/>
                  </a:lnTo>
                  <a:lnTo>
                    <a:pt x="847" y="29"/>
                  </a:lnTo>
                  <a:lnTo>
                    <a:pt x="850" y="32"/>
                  </a:lnTo>
                  <a:lnTo>
                    <a:pt x="853" y="36"/>
                  </a:lnTo>
                  <a:lnTo>
                    <a:pt x="856" y="41"/>
                  </a:lnTo>
                  <a:lnTo>
                    <a:pt x="859" y="45"/>
                  </a:lnTo>
                  <a:lnTo>
                    <a:pt x="861" y="50"/>
                  </a:lnTo>
                  <a:lnTo>
                    <a:pt x="864" y="55"/>
                  </a:lnTo>
                  <a:lnTo>
                    <a:pt x="866" y="61"/>
                  </a:lnTo>
                  <a:lnTo>
                    <a:pt x="868" y="66"/>
                  </a:lnTo>
                  <a:lnTo>
                    <a:pt x="869" y="72"/>
                  </a:lnTo>
                  <a:lnTo>
                    <a:pt x="872" y="84"/>
                  </a:lnTo>
                  <a:lnTo>
                    <a:pt x="874" y="97"/>
                  </a:lnTo>
                  <a:lnTo>
                    <a:pt x="876" y="111"/>
                  </a:lnTo>
                  <a:lnTo>
                    <a:pt x="876" y="127"/>
                  </a:lnTo>
                  <a:lnTo>
                    <a:pt x="875" y="142"/>
                  </a:lnTo>
                  <a:lnTo>
                    <a:pt x="874" y="158"/>
                  </a:lnTo>
                  <a:lnTo>
                    <a:pt x="871" y="176"/>
                  </a:lnTo>
                  <a:lnTo>
                    <a:pt x="868" y="196"/>
                  </a:lnTo>
                  <a:lnTo>
                    <a:pt x="863" y="216"/>
                  </a:lnTo>
                  <a:lnTo>
                    <a:pt x="857" y="239"/>
                  </a:lnTo>
                  <a:lnTo>
                    <a:pt x="842" y="287"/>
                  </a:lnTo>
                  <a:lnTo>
                    <a:pt x="864" y="251"/>
                  </a:lnTo>
                  <a:lnTo>
                    <a:pt x="887" y="216"/>
                  </a:lnTo>
                  <a:lnTo>
                    <a:pt x="909" y="185"/>
                  </a:lnTo>
                  <a:lnTo>
                    <a:pt x="932" y="157"/>
                  </a:lnTo>
                  <a:lnTo>
                    <a:pt x="955" y="130"/>
                  </a:lnTo>
                  <a:lnTo>
                    <a:pt x="979" y="108"/>
                  </a:lnTo>
                  <a:lnTo>
                    <a:pt x="1002" y="86"/>
                  </a:lnTo>
                  <a:lnTo>
                    <a:pt x="1026" y="68"/>
                  </a:lnTo>
                  <a:lnTo>
                    <a:pt x="1048" y="53"/>
                  </a:lnTo>
                  <a:lnTo>
                    <a:pt x="1071" y="38"/>
                  </a:lnTo>
                  <a:lnTo>
                    <a:pt x="1092" y="26"/>
                  </a:lnTo>
                  <a:lnTo>
                    <a:pt x="1112" y="17"/>
                  </a:lnTo>
                  <a:lnTo>
                    <a:pt x="1130" y="10"/>
                  </a:lnTo>
                  <a:lnTo>
                    <a:pt x="1148" y="5"/>
                  </a:lnTo>
                  <a:lnTo>
                    <a:pt x="1164" y="1"/>
                  </a:lnTo>
                  <a:lnTo>
                    <a:pt x="1172" y="0"/>
                  </a:lnTo>
                  <a:lnTo>
                    <a:pt x="1179" y="0"/>
                  </a:lnTo>
                  <a:lnTo>
                    <a:pt x="1193" y="1"/>
                  </a:lnTo>
                  <a:lnTo>
                    <a:pt x="1206" y="2"/>
                  </a:lnTo>
                  <a:lnTo>
                    <a:pt x="1218" y="6"/>
                  </a:lnTo>
                  <a:lnTo>
                    <a:pt x="1224" y="7"/>
                  </a:lnTo>
                  <a:lnTo>
                    <a:pt x="1229" y="10"/>
                  </a:lnTo>
                  <a:lnTo>
                    <a:pt x="1235" y="12"/>
                  </a:lnTo>
                  <a:lnTo>
                    <a:pt x="1240" y="15"/>
                  </a:lnTo>
                  <a:lnTo>
                    <a:pt x="1245" y="19"/>
                  </a:lnTo>
                  <a:lnTo>
                    <a:pt x="1250" y="23"/>
                  </a:lnTo>
                  <a:lnTo>
                    <a:pt x="1254" y="26"/>
                  </a:lnTo>
                  <a:lnTo>
                    <a:pt x="1259" y="30"/>
                  </a:lnTo>
                  <a:lnTo>
                    <a:pt x="1263" y="35"/>
                  </a:lnTo>
                  <a:lnTo>
                    <a:pt x="1267" y="39"/>
                  </a:lnTo>
                  <a:lnTo>
                    <a:pt x="1271" y="44"/>
                  </a:lnTo>
                  <a:lnTo>
                    <a:pt x="1275" y="50"/>
                  </a:lnTo>
                  <a:lnTo>
                    <a:pt x="1278" y="56"/>
                  </a:lnTo>
                  <a:lnTo>
                    <a:pt x="1281" y="62"/>
                  </a:lnTo>
                  <a:lnTo>
                    <a:pt x="1284" y="68"/>
                  </a:lnTo>
                  <a:lnTo>
                    <a:pt x="1287" y="75"/>
                  </a:lnTo>
                  <a:lnTo>
                    <a:pt x="1289" y="81"/>
                  </a:lnTo>
                  <a:lnTo>
                    <a:pt x="1291" y="88"/>
                  </a:lnTo>
                  <a:lnTo>
                    <a:pt x="1295" y="104"/>
                  </a:lnTo>
                  <a:lnTo>
                    <a:pt x="1297" y="120"/>
                  </a:lnTo>
                  <a:lnTo>
                    <a:pt x="1299" y="137"/>
                  </a:lnTo>
                  <a:lnTo>
                    <a:pt x="1299" y="155"/>
                  </a:lnTo>
                  <a:lnTo>
                    <a:pt x="1299" y="166"/>
                  </a:lnTo>
                  <a:lnTo>
                    <a:pt x="1298" y="178"/>
                  </a:lnTo>
                  <a:lnTo>
                    <a:pt x="1298" y="189"/>
                  </a:lnTo>
                  <a:lnTo>
                    <a:pt x="1297" y="201"/>
                  </a:lnTo>
                  <a:lnTo>
                    <a:pt x="1295" y="214"/>
                  </a:lnTo>
                  <a:lnTo>
                    <a:pt x="1293" y="226"/>
                  </a:lnTo>
                  <a:lnTo>
                    <a:pt x="1288" y="254"/>
                  </a:lnTo>
                  <a:lnTo>
                    <a:pt x="1279" y="295"/>
                  </a:lnTo>
                  <a:lnTo>
                    <a:pt x="1262" y="365"/>
                  </a:lnTo>
                  <a:lnTo>
                    <a:pt x="1207" y="586"/>
                  </a:lnTo>
                  <a:lnTo>
                    <a:pt x="1170" y="738"/>
                  </a:lnTo>
                  <a:lnTo>
                    <a:pt x="1143" y="854"/>
                  </a:lnTo>
                  <a:lnTo>
                    <a:pt x="1126" y="936"/>
                  </a:lnTo>
                  <a:lnTo>
                    <a:pt x="1122" y="965"/>
                  </a:lnTo>
                  <a:lnTo>
                    <a:pt x="1121" y="976"/>
                  </a:lnTo>
                  <a:lnTo>
                    <a:pt x="1121" y="984"/>
                  </a:lnTo>
                  <a:lnTo>
                    <a:pt x="1121" y="989"/>
                  </a:lnTo>
                  <a:lnTo>
                    <a:pt x="1121" y="993"/>
                  </a:lnTo>
                  <a:lnTo>
                    <a:pt x="1122" y="994"/>
                  </a:lnTo>
                  <a:lnTo>
                    <a:pt x="1122" y="995"/>
                  </a:lnTo>
                  <a:lnTo>
                    <a:pt x="1122" y="996"/>
                  </a:lnTo>
                  <a:lnTo>
                    <a:pt x="1123" y="997"/>
                  </a:lnTo>
                  <a:lnTo>
                    <a:pt x="1123" y="999"/>
                  </a:lnTo>
                  <a:lnTo>
                    <a:pt x="1124" y="1000"/>
                  </a:lnTo>
                  <a:lnTo>
                    <a:pt x="1124" y="1001"/>
                  </a:lnTo>
                  <a:lnTo>
                    <a:pt x="1125" y="1001"/>
                  </a:lnTo>
                  <a:lnTo>
                    <a:pt x="1125" y="1001"/>
                  </a:lnTo>
                  <a:lnTo>
                    <a:pt x="1125" y="1001"/>
                  </a:lnTo>
                  <a:lnTo>
                    <a:pt x="1126" y="1002"/>
                  </a:lnTo>
                  <a:lnTo>
                    <a:pt x="1126" y="1002"/>
                  </a:lnTo>
                  <a:lnTo>
                    <a:pt x="1127" y="1002"/>
                  </a:lnTo>
                  <a:lnTo>
                    <a:pt x="1128" y="1002"/>
                  </a:lnTo>
                  <a:lnTo>
                    <a:pt x="1132" y="1002"/>
                  </a:lnTo>
                  <a:lnTo>
                    <a:pt x="1136" y="1001"/>
                  </a:lnTo>
                  <a:lnTo>
                    <a:pt x="1139" y="1001"/>
                  </a:lnTo>
                  <a:lnTo>
                    <a:pt x="1143" y="1000"/>
                  </a:lnTo>
                  <a:lnTo>
                    <a:pt x="1147" y="997"/>
                  </a:lnTo>
                  <a:lnTo>
                    <a:pt x="1151" y="995"/>
                  </a:lnTo>
                  <a:lnTo>
                    <a:pt x="1155" y="993"/>
                  </a:lnTo>
                  <a:lnTo>
                    <a:pt x="1159" y="989"/>
                  </a:lnTo>
                  <a:lnTo>
                    <a:pt x="1191" y="962"/>
                  </a:lnTo>
                  <a:lnTo>
                    <a:pt x="1225" y="929"/>
                  </a:lnTo>
                  <a:lnTo>
                    <a:pt x="1263" y="892"/>
                  </a:lnTo>
                  <a:lnTo>
                    <a:pt x="1303" y="850"/>
                  </a:lnTo>
                  <a:lnTo>
                    <a:pt x="1361" y="928"/>
                  </a:lnTo>
                  <a:lnTo>
                    <a:pt x="1353" y="938"/>
                  </a:lnTo>
                  <a:lnTo>
                    <a:pt x="1345" y="947"/>
                  </a:lnTo>
                  <a:lnTo>
                    <a:pt x="1326" y="968"/>
                  </a:lnTo>
                  <a:lnTo>
                    <a:pt x="1302" y="988"/>
                  </a:lnTo>
                  <a:lnTo>
                    <a:pt x="1275" y="1011"/>
                  </a:lnTo>
                  <a:lnTo>
                    <a:pt x="1229" y="1066"/>
                  </a:lnTo>
                  <a:lnTo>
                    <a:pt x="1207" y="1090"/>
                  </a:lnTo>
                  <a:lnTo>
                    <a:pt x="1187" y="1110"/>
                  </a:lnTo>
                  <a:lnTo>
                    <a:pt x="1167" y="1127"/>
                  </a:lnTo>
                  <a:lnTo>
                    <a:pt x="1149" y="1141"/>
                  </a:lnTo>
                  <a:lnTo>
                    <a:pt x="1132" y="1153"/>
                  </a:lnTo>
                  <a:lnTo>
                    <a:pt x="1124" y="1158"/>
                  </a:lnTo>
                  <a:lnTo>
                    <a:pt x="1116" y="1161"/>
                  </a:lnTo>
                  <a:lnTo>
                    <a:pt x="1105" y="1172"/>
                  </a:lnTo>
                  <a:lnTo>
                    <a:pt x="1094" y="1180"/>
                  </a:lnTo>
                  <a:lnTo>
                    <a:pt x="1083" y="1189"/>
                  </a:lnTo>
                  <a:lnTo>
                    <a:pt x="1072" y="1195"/>
                  </a:lnTo>
                  <a:lnTo>
                    <a:pt x="1060" y="1201"/>
                  </a:lnTo>
                  <a:lnTo>
                    <a:pt x="1048" y="1204"/>
                  </a:lnTo>
                  <a:lnTo>
                    <a:pt x="1037" y="1206"/>
                  </a:lnTo>
                  <a:lnTo>
                    <a:pt x="1024" y="1207"/>
                  </a:lnTo>
                  <a:lnTo>
                    <a:pt x="1018" y="1207"/>
                  </a:lnTo>
                  <a:lnTo>
                    <a:pt x="1013" y="1206"/>
                  </a:lnTo>
                  <a:lnTo>
                    <a:pt x="1008" y="1206"/>
                  </a:lnTo>
                  <a:lnTo>
                    <a:pt x="1002" y="1204"/>
                  </a:lnTo>
                  <a:lnTo>
                    <a:pt x="997" y="1202"/>
                  </a:lnTo>
                  <a:lnTo>
                    <a:pt x="992" y="1200"/>
                  </a:lnTo>
                  <a:lnTo>
                    <a:pt x="987" y="1197"/>
                  </a:lnTo>
                  <a:lnTo>
                    <a:pt x="983" y="1195"/>
                  </a:lnTo>
                  <a:lnTo>
                    <a:pt x="978" y="1191"/>
                  </a:lnTo>
                  <a:lnTo>
                    <a:pt x="974" y="1189"/>
                  </a:lnTo>
                  <a:lnTo>
                    <a:pt x="969" y="1184"/>
                  </a:lnTo>
                  <a:lnTo>
                    <a:pt x="965" y="1180"/>
                  </a:lnTo>
                  <a:lnTo>
                    <a:pt x="961" y="1176"/>
                  </a:lnTo>
                  <a:lnTo>
                    <a:pt x="957" y="1170"/>
                  </a:lnTo>
                  <a:lnTo>
                    <a:pt x="949" y="1159"/>
                  </a:lnTo>
                  <a:lnTo>
                    <a:pt x="945" y="1153"/>
                  </a:lnTo>
                  <a:lnTo>
                    <a:pt x="942" y="1147"/>
                  </a:lnTo>
                  <a:lnTo>
                    <a:pt x="938" y="1140"/>
                  </a:lnTo>
                  <a:lnTo>
                    <a:pt x="935" y="1134"/>
                  </a:lnTo>
                  <a:lnTo>
                    <a:pt x="930" y="1119"/>
                  </a:lnTo>
                  <a:lnTo>
                    <a:pt x="926" y="1104"/>
                  </a:lnTo>
                  <a:lnTo>
                    <a:pt x="922" y="1088"/>
                  </a:lnTo>
                  <a:lnTo>
                    <a:pt x="920" y="1070"/>
                  </a:lnTo>
                  <a:lnTo>
                    <a:pt x="918" y="1052"/>
                  </a:lnTo>
                  <a:lnTo>
                    <a:pt x="918" y="1033"/>
                  </a:lnTo>
                  <a:lnTo>
                    <a:pt x="918" y="1017"/>
                  </a:lnTo>
                  <a:lnTo>
                    <a:pt x="919" y="999"/>
                  </a:lnTo>
                  <a:lnTo>
                    <a:pt x="922" y="962"/>
                  </a:lnTo>
                  <a:lnTo>
                    <a:pt x="927" y="922"/>
                  </a:lnTo>
                  <a:lnTo>
                    <a:pt x="934" y="880"/>
                  </a:lnTo>
                  <a:lnTo>
                    <a:pt x="945" y="824"/>
                  </a:lnTo>
                  <a:lnTo>
                    <a:pt x="964" y="742"/>
                  </a:lnTo>
                  <a:lnTo>
                    <a:pt x="1024" y="498"/>
                  </a:lnTo>
                  <a:lnTo>
                    <a:pt x="1047" y="399"/>
                  </a:lnTo>
                  <a:lnTo>
                    <a:pt x="1064" y="322"/>
                  </a:lnTo>
                  <a:lnTo>
                    <a:pt x="1075" y="268"/>
                  </a:lnTo>
                  <a:lnTo>
                    <a:pt x="1077" y="249"/>
                  </a:lnTo>
                  <a:lnTo>
                    <a:pt x="1078" y="242"/>
                  </a:lnTo>
                  <a:lnTo>
                    <a:pt x="1078" y="236"/>
                  </a:lnTo>
                  <a:lnTo>
                    <a:pt x="1078" y="231"/>
                  </a:lnTo>
                  <a:lnTo>
                    <a:pt x="1078" y="230"/>
                  </a:lnTo>
                  <a:lnTo>
                    <a:pt x="1077" y="227"/>
                  </a:lnTo>
                  <a:lnTo>
                    <a:pt x="1077" y="226"/>
                  </a:lnTo>
                  <a:lnTo>
                    <a:pt x="1077" y="225"/>
                  </a:lnTo>
                  <a:lnTo>
                    <a:pt x="1076" y="224"/>
                  </a:lnTo>
                  <a:lnTo>
                    <a:pt x="1076" y="222"/>
                  </a:lnTo>
                  <a:lnTo>
                    <a:pt x="1075" y="221"/>
                  </a:lnTo>
                  <a:lnTo>
                    <a:pt x="1074" y="220"/>
                  </a:lnTo>
                  <a:lnTo>
                    <a:pt x="1073" y="219"/>
                  </a:lnTo>
                  <a:lnTo>
                    <a:pt x="1073" y="219"/>
                  </a:lnTo>
                  <a:lnTo>
                    <a:pt x="1072" y="219"/>
                  </a:lnTo>
                  <a:lnTo>
                    <a:pt x="1070" y="218"/>
                  </a:lnTo>
                  <a:lnTo>
                    <a:pt x="1069" y="218"/>
                  </a:lnTo>
                  <a:lnTo>
                    <a:pt x="1068" y="218"/>
                  </a:lnTo>
                  <a:lnTo>
                    <a:pt x="1063" y="218"/>
                  </a:lnTo>
                  <a:lnTo>
                    <a:pt x="1057" y="219"/>
                  </a:lnTo>
                  <a:lnTo>
                    <a:pt x="1051" y="219"/>
                  </a:lnTo>
                  <a:lnTo>
                    <a:pt x="1045" y="220"/>
                  </a:lnTo>
                  <a:lnTo>
                    <a:pt x="1039" y="222"/>
                  </a:lnTo>
                  <a:lnTo>
                    <a:pt x="1033" y="224"/>
                  </a:lnTo>
                  <a:lnTo>
                    <a:pt x="1026" y="227"/>
                  </a:lnTo>
                  <a:lnTo>
                    <a:pt x="1019" y="230"/>
                  </a:lnTo>
                  <a:lnTo>
                    <a:pt x="994" y="250"/>
                  </a:lnTo>
                  <a:lnTo>
                    <a:pt x="970" y="271"/>
                  </a:lnTo>
                  <a:lnTo>
                    <a:pt x="948" y="293"/>
                  </a:lnTo>
                  <a:lnTo>
                    <a:pt x="927" y="316"/>
                  </a:lnTo>
                  <a:lnTo>
                    <a:pt x="907" y="337"/>
                  </a:lnTo>
                  <a:lnTo>
                    <a:pt x="888" y="360"/>
                  </a:lnTo>
                  <a:lnTo>
                    <a:pt x="871" y="384"/>
                  </a:lnTo>
                  <a:lnTo>
                    <a:pt x="855" y="408"/>
                  </a:lnTo>
                  <a:lnTo>
                    <a:pt x="845" y="425"/>
                  </a:lnTo>
                  <a:lnTo>
                    <a:pt x="835" y="445"/>
                  </a:lnTo>
                  <a:lnTo>
                    <a:pt x="826" y="466"/>
                  </a:lnTo>
                  <a:lnTo>
                    <a:pt x="816" y="492"/>
                  </a:lnTo>
                  <a:lnTo>
                    <a:pt x="807" y="518"/>
                  </a:lnTo>
                  <a:lnTo>
                    <a:pt x="798" y="548"/>
                  </a:lnTo>
                  <a:lnTo>
                    <a:pt x="790" y="580"/>
                  </a:lnTo>
                  <a:lnTo>
                    <a:pt x="782" y="615"/>
                  </a:lnTo>
                  <a:lnTo>
                    <a:pt x="670" y="1165"/>
                  </a:lnTo>
                  <a:lnTo>
                    <a:pt x="472" y="1165"/>
                  </a:lnTo>
                  <a:lnTo>
                    <a:pt x="637" y="328"/>
                  </a:lnTo>
                  <a:lnTo>
                    <a:pt x="650" y="262"/>
                  </a:lnTo>
                  <a:lnTo>
                    <a:pt x="653" y="244"/>
                  </a:lnTo>
                  <a:lnTo>
                    <a:pt x="654" y="238"/>
                  </a:lnTo>
                  <a:lnTo>
                    <a:pt x="654" y="236"/>
                  </a:lnTo>
                  <a:lnTo>
                    <a:pt x="654" y="234"/>
                  </a:lnTo>
                  <a:lnTo>
                    <a:pt x="654" y="232"/>
                  </a:lnTo>
                  <a:lnTo>
                    <a:pt x="654" y="230"/>
                  </a:lnTo>
                  <a:lnTo>
                    <a:pt x="654" y="227"/>
                  </a:lnTo>
                  <a:lnTo>
                    <a:pt x="653" y="226"/>
                  </a:lnTo>
                  <a:lnTo>
                    <a:pt x="653" y="225"/>
                  </a:lnTo>
                  <a:lnTo>
                    <a:pt x="653" y="224"/>
                  </a:lnTo>
                  <a:lnTo>
                    <a:pt x="653" y="224"/>
                  </a:lnTo>
                  <a:lnTo>
                    <a:pt x="652" y="222"/>
                  </a:lnTo>
                  <a:lnTo>
                    <a:pt x="652" y="222"/>
                  </a:lnTo>
                  <a:lnTo>
                    <a:pt x="652" y="222"/>
                  </a:lnTo>
                  <a:lnTo>
                    <a:pt x="651" y="221"/>
                  </a:lnTo>
                  <a:lnTo>
                    <a:pt x="651" y="221"/>
                  </a:lnTo>
                  <a:lnTo>
                    <a:pt x="651" y="221"/>
                  </a:lnTo>
                  <a:lnTo>
                    <a:pt x="651" y="221"/>
                  </a:lnTo>
                  <a:lnTo>
                    <a:pt x="651" y="220"/>
                  </a:lnTo>
                  <a:lnTo>
                    <a:pt x="650" y="220"/>
                  </a:lnTo>
                  <a:lnTo>
                    <a:pt x="650" y="220"/>
                  </a:lnTo>
                  <a:lnTo>
                    <a:pt x="649" y="219"/>
                  </a:lnTo>
                  <a:lnTo>
                    <a:pt x="649" y="219"/>
                  </a:lnTo>
                  <a:lnTo>
                    <a:pt x="649" y="219"/>
                  </a:lnTo>
                  <a:lnTo>
                    <a:pt x="648" y="219"/>
                  </a:lnTo>
                  <a:lnTo>
                    <a:pt x="647" y="219"/>
                  </a:lnTo>
                  <a:lnTo>
                    <a:pt x="647" y="218"/>
                  </a:lnTo>
                  <a:lnTo>
                    <a:pt x="645" y="218"/>
                  </a:lnTo>
                  <a:lnTo>
                    <a:pt x="644" y="218"/>
                  </a:lnTo>
                  <a:lnTo>
                    <a:pt x="642" y="218"/>
                  </a:lnTo>
                  <a:lnTo>
                    <a:pt x="639" y="218"/>
                  </a:lnTo>
                  <a:lnTo>
                    <a:pt x="636" y="219"/>
                  </a:lnTo>
                  <a:lnTo>
                    <a:pt x="632" y="220"/>
                  </a:lnTo>
                  <a:lnTo>
                    <a:pt x="628" y="221"/>
                  </a:lnTo>
                  <a:lnTo>
                    <a:pt x="618" y="225"/>
                  </a:lnTo>
                  <a:lnTo>
                    <a:pt x="607" y="231"/>
                  </a:lnTo>
                  <a:lnTo>
                    <a:pt x="594" y="239"/>
                  </a:lnTo>
                  <a:lnTo>
                    <a:pt x="580" y="249"/>
                  </a:lnTo>
                  <a:lnTo>
                    <a:pt x="546" y="273"/>
                  </a:lnTo>
                  <a:lnTo>
                    <a:pt x="505" y="316"/>
                  </a:lnTo>
                  <a:lnTo>
                    <a:pt x="486" y="337"/>
                  </a:lnTo>
                  <a:lnTo>
                    <a:pt x="470" y="358"/>
                  </a:lnTo>
                  <a:lnTo>
                    <a:pt x="453" y="379"/>
                  </a:lnTo>
                  <a:lnTo>
                    <a:pt x="439" y="399"/>
                  </a:lnTo>
                  <a:lnTo>
                    <a:pt x="425" y="421"/>
                  </a:lnTo>
                  <a:lnTo>
                    <a:pt x="413" y="441"/>
                  </a:lnTo>
                  <a:lnTo>
                    <a:pt x="402" y="464"/>
                  </a:lnTo>
                  <a:lnTo>
                    <a:pt x="391" y="489"/>
                  </a:lnTo>
                  <a:lnTo>
                    <a:pt x="381" y="517"/>
                  </a:lnTo>
                  <a:lnTo>
                    <a:pt x="371" y="548"/>
                  </a:lnTo>
                  <a:lnTo>
                    <a:pt x="361" y="581"/>
                  </a:lnTo>
                  <a:lnTo>
                    <a:pt x="352" y="618"/>
                  </a:lnTo>
                  <a:lnTo>
                    <a:pt x="335" y="700"/>
                  </a:lnTo>
                  <a:lnTo>
                    <a:pt x="246" y="1165"/>
                  </a:lnTo>
                  <a:lnTo>
                    <a:pt x="48" y="1165"/>
                  </a:lnTo>
                  <a:lnTo>
                    <a:pt x="177" y="483"/>
                  </a:lnTo>
                  <a:lnTo>
                    <a:pt x="214" y="292"/>
                  </a:lnTo>
                  <a:lnTo>
                    <a:pt x="223" y="238"/>
                  </a:lnTo>
                  <a:lnTo>
                    <a:pt x="225" y="222"/>
                  </a:lnTo>
                  <a:lnTo>
                    <a:pt x="226" y="218"/>
                  </a:lnTo>
                  <a:lnTo>
                    <a:pt x="226" y="214"/>
                  </a:lnTo>
                  <a:lnTo>
                    <a:pt x="226" y="214"/>
                  </a:lnTo>
                  <a:lnTo>
                    <a:pt x="226" y="213"/>
                  </a:lnTo>
                  <a:lnTo>
                    <a:pt x="226" y="213"/>
                  </a:lnTo>
                  <a:lnTo>
                    <a:pt x="226" y="213"/>
                  </a:lnTo>
                  <a:lnTo>
                    <a:pt x="226" y="212"/>
                  </a:lnTo>
                  <a:lnTo>
                    <a:pt x="226" y="212"/>
                  </a:lnTo>
                  <a:lnTo>
                    <a:pt x="227" y="212"/>
                  </a:lnTo>
                  <a:lnTo>
                    <a:pt x="227" y="212"/>
                  </a:lnTo>
                  <a:lnTo>
                    <a:pt x="227" y="212"/>
                  </a:lnTo>
                  <a:lnTo>
                    <a:pt x="227" y="210"/>
                  </a:lnTo>
                  <a:lnTo>
                    <a:pt x="227" y="210"/>
                  </a:lnTo>
                  <a:lnTo>
                    <a:pt x="228" y="210"/>
                  </a:lnTo>
                  <a:lnTo>
                    <a:pt x="228" y="210"/>
                  </a:lnTo>
                  <a:lnTo>
                    <a:pt x="228" y="210"/>
                  </a:lnTo>
                  <a:lnTo>
                    <a:pt x="229" y="210"/>
                  </a:lnTo>
                  <a:lnTo>
                    <a:pt x="229" y="210"/>
                  </a:lnTo>
                  <a:lnTo>
                    <a:pt x="227" y="210"/>
                  </a:lnTo>
                  <a:lnTo>
                    <a:pt x="224" y="210"/>
                  </a:lnTo>
                  <a:lnTo>
                    <a:pt x="219" y="213"/>
                  </a:lnTo>
                  <a:lnTo>
                    <a:pt x="213" y="215"/>
                  </a:lnTo>
                  <a:lnTo>
                    <a:pt x="205" y="220"/>
                  </a:lnTo>
                  <a:lnTo>
                    <a:pt x="188" y="232"/>
                  </a:lnTo>
                  <a:lnTo>
                    <a:pt x="169" y="248"/>
                  </a:lnTo>
                  <a:lnTo>
                    <a:pt x="145" y="269"/>
                  </a:lnTo>
                  <a:lnTo>
                    <a:pt x="117" y="294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94840" y="4525920"/>
              <a:ext cx="420480" cy="662040"/>
            </a:xfrm>
            <a:custGeom>
              <a:avLst/>
              <a:gdLst/>
              <a:ahLst/>
              <a:rect l="l" t="t" r="r" b="b"/>
              <a:pathLst>
                <a:path w="1170" h="1840">
                  <a:moveTo>
                    <a:pt x="262" y="386"/>
                  </a:moveTo>
                  <a:lnTo>
                    <a:pt x="196" y="308"/>
                  </a:lnTo>
                  <a:lnTo>
                    <a:pt x="223" y="269"/>
                  </a:lnTo>
                  <a:lnTo>
                    <a:pt x="250" y="232"/>
                  </a:lnTo>
                  <a:lnTo>
                    <a:pt x="276" y="197"/>
                  </a:lnTo>
                  <a:lnTo>
                    <a:pt x="303" y="166"/>
                  </a:lnTo>
                  <a:lnTo>
                    <a:pt x="329" y="138"/>
                  </a:lnTo>
                  <a:lnTo>
                    <a:pt x="355" y="112"/>
                  </a:lnTo>
                  <a:lnTo>
                    <a:pt x="381" y="91"/>
                  </a:lnTo>
                  <a:lnTo>
                    <a:pt x="407" y="72"/>
                  </a:lnTo>
                  <a:lnTo>
                    <a:pt x="431" y="55"/>
                  </a:lnTo>
                  <a:lnTo>
                    <a:pt x="456" y="40"/>
                  </a:lnTo>
                  <a:lnTo>
                    <a:pt x="480" y="27"/>
                  </a:lnTo>
                  <a:lnTo>
                    <a:pt x="503" y="18"/>
                  </a:lnTo>
                  <a:lnTo>
                    <a:pt x="525" y="9"/>
                  </a:lnTo>
                  <a:lnTo>
                    <a:pt x="547" y="5"/>
                  </a:lnTo>
                  <a:lnTo>
                    <a:pt x="568" y="1"/>
                  </a:lnTo>
                  <a:lnTo>
                    <a:pt x="588" y="0"/>
                  </a:lnTo>
                  <a:lnTo>
                    <a:pt x="597" y="0"/>
                  </a:lnTo>
                  <a:lnTo>
                    <a:pt x="605" y="1"/>
                  </a:lnTo>
                  <a:lnTo>
                    <a:pt x="613" y="3"/>
                  </a:lnTo>
                  <a:lnTo>
                    <a:pt x="621" y="6"/>
                  </a:lnTo>
                  <a:lnTo>
                    <a:pt x="628" y="9"/>
                  </a:lnTo>
                  <a:lnTo>
                    <a:pt x="635" y="13"/>
                  </a:lnTo>
                  <a:lnTo>
                    <a:pt x="641" y="18"/>
                  </a:lnTo>
                  <a:lnTo>
                    <a:pt x="647" y="24"/>
                  </a:lnTo>
                  <a:lnTo>
                    <a:pt x="650" y="27"/>
                  </a:lnTo>
                  <a:lnTo>
                    <a:pt x="653" y="30"/>
                  </a:lnTo>
                  <a:lnTo>
                    <a:pt x="655" y="33"/>
                  </a:lnTo>
                  <a:lnTo>
                    <a:pt x="658" y="37"/>
                  </a:lnTo>
                  <a:lnTo>
                    <a:pt x="660" y="40"/>
                  </a:lnTo>
                  <a:lnTo>
                    <a:pt x="662" y="45"/>
                  </a:lnTo>
                  <a:lnTo>
                    <a:pt x="663" y="49"/>
                  </a:lnTo>
                  <a:lnTo>
                    <a:pt x="665" y="52"/>
                  </a:lnTo>
                  <a:lnTo>
                    <a:pt x="666" y="57"/>
                  </a:lnTo>
                  <a:lnTo>
                    <a:pt x="668" y="61"/>
                  </a:lnTo>
                  <a:lnTo>
                    <a:pt x="669" y="66"/>
                  </a:lnTo>
                  <a:lnTo>
                    <a:pt x="670" y="70"/>
                  </a:lnTo>
                  <a:lnTo>
                    <a:pt x="671" y="80"/>
                  </a:lnTo>
                  <a:lnTo>
                    <a:pt x="671" y="91"/>
                  </a:lnTo>
                  <a:lnTo>
                    <a:pt x="670" y="111"/>
                  </a:lnTo>
                  <a:lnTo>
                    <a:pt x="669" y="133"/>
                  </a:lnTo>
                  <a:lnTo>
                    <a:pt x="666" y="153"/>
                  </a:lnTo>
                  <a:lnTo>
                    <a:pt x="663" y="174"/>
                  </a:lnTo>
                  <a:lnTo>
                    <a:pt x="661" y="186"/>
                  </a:lnTo>
                  <a:lnTo>
                    <a:pt x="657" y="201"/>
                  </a:lnTo>
                  <a:lnTo>
                    <a:pt x="648" y="235"/>
                  </a:lnTo>
                  <a:lnTo>
                    <a:pt x="619" y="333"/>
                  </a:lnTo>
                  <a:lnTo>
                    <a:pt x="680" y="246"/>
                  </a:lnTo>
                  <a:lnTo>
                    <a:pt x="731" y="176"/>
                  </a:lnTo>
                  <a:lnTo>
                    <a:pt x="754" y="147"/>
                  </a:lnTo>
                  <a:lnTo>
                    <a:pt x="776" y="124"/>
                  </a:lnTo>
                  <a:lnTo>
                    <a:pt x="795" y="104"/>
                  </a:lnTo>
                  <a:lnTo>
                    <a:pt x="812" y="89"/>
                  </a:lnTo>
                  <a:lnTo>
                    <a:pt x="839" y="69"/>
                  </a:lnTo>
                  <a:lnTo>
                    <a:pt x="866" y="52"/>
                  </a:lnTo>
                  <a:lnTo>
                    <a:pt x="892" y="38"/>
                  </a:lnTo>
                  <a:lnTo>
                    <a:pt x="917" y="26"/>
                  </a:lnTo>
                  <a:lnTo>
                    <a:pt x="942" y="16"/>
                  </a:lnTo>
                  <a:lnTo>
                    <a:pt x="967" y="9"/>
                  </a:lnTo>
                  <a:lnTo>
                    <a:pt x="990" y="6"/>
                  </a:lnTo>
                  <a:lnTo>
                    <a:pt x="1013" y="5"/>
                  </a:lnTo>
                  <a:lnTo>
                    <a:pt x="1021" y="5"/>
                  </a:lnTo>
                  <a:lnTo>
                    <a:pt x="1030" y="6"/>
                  </a:lnTo>
                  <a:lnTo>
                    <a:pt x="1037" y="7"/>
                  </a:lnTo>
                  <a:lnTo>
                    <a:pt x="1045" y="9"/>
                  </a:lnTo>
                  <a:lnTo>
                    <a:pt x="1053" y="12"/>
                  </a:lnTo>
                  <a:lnTo>
                    <a:pt x="1060" y="15"/>
                  </a:lnTo>
                  <a:lnTo>
                    <a:pt x="1068" y="19"/>
                  </a:lnTo>
                  <a:lnTo>
                    <a:pt x="1075" y="24"/>
                  </a:lnTo>
                  <a:lnTo>
                    <a:pt x="1082" y="28"/>
                  </a:lnTo>
                  <a:lnTo>
                    <a:pt x="1088" y="33"/>
                  </a:lnTo>
                  <a:lnTo>
                    <a:pt x="1095" y="39"/>
                  </a:lnTo>
                  <a:lnTo>
                    <a:pt x="1101" y="46"/>
                  </a:lnTo>
                  <a:lnTo>
                    <a:pt x="1107" y="54"/>
                  </a:lnTo>
                  <a:lnTo>
                    <a:pt x="1113" y="61"/>
                  </a:lnTo>
                  <a:lnTo>
                    <a:pt x="1125" y="77"/>
                  </a:lnTo>
                  <a:lnTo>
                    <a:pt x="1130" y="87"/>
                  </a:lnTo>
                  <a:lnTo>
                    <a:pt x="1135" y="97"/>
                  </a:lnTo>
                  <a:lnTo>
                    <a:pt x="1144" y="118"/>
                  </a:lnTo>
                  <a:lnTo>
                    <a:pt x="1152" y="141"/>
                  </a:lnTo>
                  <a:lnTo>
                    <a:pt x="1158" y="166"/>
                  </a:lnTo>
                  <a:lnTo>
                    <a:pt x="1163" y="194"/>
                  </a:lnTo>
                  <a:lnTo>
                    <a:pt x="1166" y="222"/>
                  </a:lnTo>
                  <a:lnTo>
                    <a:pt x="1168" y="253"/>
                  </a:lnTo>
                  <a:lnTo>
                    <a:pt x="1169" y="286"/>
                  </a:lnTo>
                  <a:lnTo>
                    <a:pt x="1166" y="367"/>
                  </a:lnTo>
                  <a:lnTo>
                    <a:pt x="1158" y="447"/>
                  </a:lnTo>
                  <a:lnTo>
                    <a:pt x="1145" y="526"/>
                  </a:lnTo>
                  <a:lnTo>
                    <a:pt x="1126" y="604"/>
                  </a:lnTo>
                  <a:lnTo>
                    <a:pt x="1102" y="682"/>
                  </a:lnTo>
                  <a:lnTo>
                    <a:pt x="1073" y="758"/>
                  </a:lnTo>
                  <a:lnTo>
                    <a:pt x="1038" y="833"/>
                  </a:lnTo>
                  <a:lnTo>
                    <a:pt x="998" y="908"/>
                  </a:lnTo>
                  <a:lnTo>
                    <a:pt x="955" y="977"/>
                  </a:lnTo>
                  <a:lnTo>
                    <a:pt x="910" y="1037"/>
                  </a:lnTo>
                  <a:lnTo>
                    <a:pt x="887" y="1063"/>
                  </a:lnTo>
                  <a:lnTo>
                    <a:pt x="864" y="1088"/>
                  </a:lnTo>
                  <a:lnTo>
                    <a:pt x="840" y="1110"/>
                  </a:lnTo>
                  <a:lnTo>
                    <a:pt x="817" y="1129"/>
                  </a:lnTo>
                  <a:lnTo>
                    <a:pt x="792" y="1147"/>
                  </a:lnTo>
                  <a:lnTo>
                    <a:pt x="768" y="1161"/>
                  </a:lnTo>
                  <a:lnTo>
                    <a:pt x="743" y="1174"/>
                  </a:lnTo>
                  <a:lnTo>
                    <a:pt x="717" y="1185"/>
                  </a:lnTo>
                  <a:lnTo>
                    <a:pt x="693" y="1192"/>
                  </a:lnTo>
                  <a:lnTo>
                    <a:pt x="667" y="1198"/>
                  </a:lnTo>
                  <a:lnTo>
                    <a:pt x="641" y="1202"/>
                  </a:lnTo>
                  <a:lnTo>
                    <a:pt x="614" y="1203"/>
                  </a:lnTo>
                  <a:lnTo>
                    <a:pt x="593" y="1202"/>
                  </a:lnTo>
                  <a:lnTo>
                    <a:pt x="573" y="1199"/>
                  </a:lnTo>
                  <a:lnTo>
                    <a:pt x="554" y="1196"/>
                  </a:lnTo>
                  <a:lnTo>
                    <a:pt x="535" y="1190"/>
                  </a:lnTo>
                  <a:lnTo>
                    <a:pt x="518" y="1183"/>
                  </a:lnTo>
                  <a:lnTo>
                    <a:pt x="501" y="1174"/>
                  </a:lnTo>
                  <a:lnTo>
                    <a:pt x="486" y="1164"/>
                  </a:lnTo>
                  <a:lnTo>
                    <a:pt x="471" y="1152"/>
                  </a:lnTo>
                  <a:lnTo>
                    <a:pt x="383" y="1577"/>
                  </a:lnTo>
                  <a:lnTo>
                    <a:pt x="381" y="1589"/>
                  </a:lnTo>
                  <a:lnTo>
                    <a:pt x="379" y="1601"/>
                  </a:lnTo>
                  <a:lnTo>
                    <a:pt x="378" y="1612"/>
                  </a:lnTo>
                  <a:lnTo>
                    <a:pt x="378" y="1618"/>
                  </a:lnTo>
                  <a:lnTo>
                    <a:pt x="378" y="1624"/>
                  </a:lnTo>
                  <a:lnTo>
                    <a:pt x="378" y="1628"/>
                  </a:lnTo>
                  <a:lnTo>
                    <a:pt x="378" y="1632"/>
                  </a:lnTo>
                  <a:lnTo>
                    <a:pt x="379" y="1636"/>
                  </a:lnTo>
                  <a:lnTo>
                    <a:pt x="380" y="1640"/>
                  </a:lnTo>
                  <a:lnTo>
                    <a:pt x="381" y="1644"/>
                  </a:lnTo>
                  <a:lnTo>
                    <a:pt x="382" y="1648"/>
                  </a:lnTo>
                  <a:lnTo>
                    <a:pt x="384" y="1652"/>
                  </a:lnTo>
                  <a:lnTo>
                    <a:pt x="386" y="1655"/>
                  </a:lnTo>
                  <a:lnTo>
                    <a:pt x="388" y="1659"/>
                  </a:lnTo>
                  <a:lnTo>
                    <a:pt x="390" y="1662"/>
                  </a:lnTo>
                  <a:lnTo>
                    <a:pt x="393" y="1666"/>
                  </a:lnTo>
                  <a:lnTo>
                    <a:pt x="395" y="1669"/>
                  </a:lnTo>
                  <a:lnTo>
                    <a:pt x="402" y="1677"/>
                  </a:lnTo>
                  <a:lnTo>
                    <a:pt x="409" y="1684"/>
                  </a:lnTo>
                  <a:lnTo>
                    <a:pt x="413" y="1686"/>
                  </a:lnTo>
                  <a:lnTo>
                    <a:pt x="418" y="1687"/>
                  </a:lnTo>
                  <a:lnTo>
                    <a:pt x="432" y="1692"/>
                  </a:lnTo>
                  <a:lnTo>
                    <a:pt x="473" y="1702"/>
                  </a:lnTo>
                  <a:lnTo>
                    <a:pt x="532" y="1713"/>
                  </a:lnTo>
                  <a:lnTo>
                    <a:pt x="607" y="1724"/>
                  </a:lnTo>
                  <a:lnTo>
                    <a:pt x="586" y="1839"/>
                  </a:lnTo>
                  <a:lnTo>
                    <a:pt x="415" y="1827"/>
                  </a:lnTo>
                  <a:lnTo>
                    <a:pt x="348" y="1824"/>
                  </a:lnTo>
                  <a:lnTo>
                    <a:pt x="292" y="1823"/>
                  </a:lnTo>
                  <a:lnTo>
                    <a:pt x="235" y="1824"/>
                  </a:lnTo>
                  <a:lnTo>
                    <a:pt x="167" y="1827"/>
                  </a:lnTo>
                  <a:lnTo>
                    <a:pt x="0" y="1839"/>
                  </a:lnTo>
                  <a:lnTo>
                    <a:pt x="18" y="1722"/>
                  </a:lnTo>
                  <a:lnTo>
                    <a:pt x="40" y="1719"/>
                  </a:lnTo>
                  <a:lnTo>
                    <a:pt x="60" y="1715"/>
                  </a:lnTo>
                  <a:lnTo>
                    <a:pt x="79" y="1710"/>
                  </a:lnTo>
                  <a:lnTo>
                    <a:pt x="95" y="1704"/>
                  </a:lnTo>
                  <a:lnTo>
                    <a:pt x="110" y="1698"/>
                  </a:lnTo>
                  <a:lnTo>
                    <a:pt x="116" y="1695"/>
                  </a:lnTo>
                  <a:lnTo>
                    <a:pt x="122" y="1690"/>
                  </a:lnTo>
                  <a:lnTo>
                    <a:pt x="128" y="1686"/>
                  </a:lnTo>
                  <a:lnTo>
                    <a:pt x="132" y="1683"/>
                  </a:lnTo>
                  <a:lnTo>
                    <a:pt x="137" y="1678"/>
                  </a:lnTo>
                  <a:lnTo>
                    <a:pt x="141" y="1673"/>
                  </a:lnTo>
                  <a:lnTo>
                    <a:pt x="145" y="1668"/>
                  </a:lnTo>
                  <a:lnTo>
                    <a:pt x="149" y="1662"/>
                  </a:lnTo>
                  <a:lnTo>
                    <a:pt x="157" y="1648"/>
                  </a:lnTo>
                  <a:lnTo>
                    <a:pt x="165" y="1631"/>
                  </a:lnTo>
                  <a:lnTo>
                    <a:pt x="173" y="1612"/>
                  </a:lnTo>
                  <a:lnTo>
                    <a:pt x="181" y="1589"/>
                  </a:lnTo>
                  <a:lnTo>
                    <a:pt x="188" y="1564"/>
                  </a:lnTo>
                  <a:lnTo>
                    <a:pt x="196" y="1537"/>
                  </a:lnTo>
                  <a:lnTo>
                    <a:pt x="203" y="1506"/>
                  </a:lnTo>
                  <a:lnTo>
                    <a:pt x="395" y="528"/>
                  </a:lnTo>
                  <a:lnTo>
                    <a:pt x="436" y="314"/>
                  </a:lnTo>
                  <a:lnTo>
                    <a:pt x="446" y="253"/>
                  </a:lnTo>
                  <a:lnTo>
                    <a:pt x="449" y="235"/>
                  </a:lnTo>
                  <a:lnTo>
                    <a:pt x="450" y="229"/>
                  </a:lnTo>
                  <a:lnTo>
                    <a:pt x="450" y="225"/>
                  </a:lnTo>
                  <a:lnTo>
                    <a:pt x="450" y="223"/>
                  </a:lnTo>
                  <a:lnTo>
                    <a:pt x="450" y="223"/>
                  </a:lnTo>
                  <a:lnTo>
                    <a:pt x="450" y="222"/>
                  </a:lnTo>
                  <a:lnTo>
                    <a:pt x="450" y="221"/>
                  </a:lnTo>
                  <a:lnTo>
                    <a:pt x="449" y="221"/>
                  </a:lnTo>
                  <a:lnTo>
                    <a:pt x="449" y="220"/>
                  </a:lnTo>
                  <a:lnTo>
                    <a:pt x="449" y="220"/>
                  </a:lnTo>
                  <a:lnTo>
                    <a:pt x="449" y="220"/>
                  </a:lnTo>
                  <a:lnTo>
                    <a:pt x="448" y="219"/>
                  </a:lnTo>
                  <a:lnTo>
                    <a:pt x="448" y="219"/>
                  </a:lnTo>
                  <a:lnTo>
                    <a:pt x="447" y="219"/>
                  </a:lnTo>
                  <a:lnTo>
                    <a:pt x="447" y="217"/>
                  </a:lnTo>
                  <a:lnTo>
                    <a:pt x="447" y="217"/>
                  </a:lnTo>
                  <a:lnTo>
                    <a:pt x="446" y="217"/>
                  </a:lnTo>
                  <a:lnTo>
                    <a:pt x="446" y="217"/>
                  </a:lnTo>
                  <a:lnTo>
                    <a:pt x="445" y="217"/>
                  </a:lnTo>
                  <a:lnTo>
                    <a:pt x="443" y="217"/>
                  </a:lnTo>
                  <a:lnTo>
                    <a:pt x="440" y="219"/>
                  </a:lnTo>
                  <a:lnTo>
                    <a:pt x="434" y="220"/>
                  </a:lnTo>
                  <a:lnTo>
                    <a:pt x="427" y="223"/>
                  </a:lnTo>
                  <a:lnTo>
                    <a:pt x="419" y="228"/>
                  </a:lnTo>
                  <a:lnTo>
                    <a:pt x="402" y="241"/>
                  </a:lnTo>
                  <a:lnTo>
                    <a:pt x="381" y="259"/>
                  </a:lnTo>
                  <a:lnTo>
                    <a:pt x="356" y="283"/>
                  </a:lnTo>
                  <a:lnTo>
                    <a:pt x="328" y="312"/>
                  </a:lnTo>
                  <a:close/>
                  <a:moveTo>
                    <a:pt x="506" y="972"/>
                  </a:moveTo>
                  <a:lnTo>
                    <a:pt x="524" y="992"/>
                  </a:lnTo>
                  <a:lnTo>
                    <a:pt x="543" y="1009"/>
                  </a:lnTo>
                  <a:lnTo>
                    <a:pt x="562" y="1025"/>
                  </a:lnTo>
                  <a:lnTo>
                    <a:pt x="581" y="1037"/>
                  </a:lnTo>
                  <a:lnTo>
                    <a:pt x="591" y="1042"/>
                  </a:lnTo>
                  <a:lnTo>
                    <a:pt x="600" y="1045"/>
                  </a:lnTo>
                  <a:lnTo>
                    <a:pt x="610" y="1049"/>
                  </a:lnTo>
                  <a:lnTo>
                    <a:pt x="620" y="1052"/>
                  </a:lnTo>
                  <a:lnTo>
                    <a:pt x="630" y="1055"/>
                  </a:lnTo>
                  <a:lnTo>
                    <a:pt x="640" y="1056"/>
                  </a:lnTo>
                  <a:lnTo>
                    <a:pt x="650" y="1057"/>
                  </a:lnTo>
                  <a:lnTo>
                    <a:pt x="660" y="1057"/>
                  </a:lnTo>
                  <a:lnTo>
                    <a:pt x="675" y="1056"/>
                  </a:lnTo>
                  <a:lnTo>
                    <a:pt x="689" y="1053"/>
                  </a:lnTo>
                  <a:lnTo>
                    <a:pt x="703" y="1049"/>
                  </a:lnTo>
                  <a:lnTo>
                    <a:pt x="717" y="1043"/>
                  </a:lnTo>
                  <a:lnTo>
                    <a:pt x="731" y="1034"/>
                  </a:lnTo>
                  <a:lnTo>
                    <a:pt x="745" y="1024"/>
                  </a:lnTo>
                  <a:lnTo>
                    <a:pt x="758" y="1013"/>
                  </a:lnTo>
                  <a:lnTo>
                    <a:pt x="772" y="998"/>
                  </a:lnTo>
                  <a:lnTo>
                    <a:pt x="785" y="983"/>
                  </a:lnTo>
                  <a:lnTo>
                    <a:pt x="798" y="965"/>
                  </a:lnTo>
                  <a:lnTo>
                    <a:pt x="811" y="946"/>
                  </a:lnTo>
                  <a:lnTo>
                    <a:pt x="824" y="924"/>
                  </a:lnTo>
                  <a:lnTo>
                    <a:pt x="849" y="876"/>
                  </a:lnTo>
                  <a:lnTo>
                    <a:pt x="873" y="821"/>
                  </a:lnTo>
                  <a:lnTo>
                    <a:pt x="895" y="763"/>
                  </a:lnTo>
                  <a:lnTo>
                    <a:pt x="914" y="704"/>
                  </a:lnTo>
                  <a:lnTo>
                    <a:pt x="931" y="646"/>
                  </a:lnTo>
                  <a:lnTo>
                    <a:pt x="944" y="588"/>
                  </a:lnTo>
                  <a:lnTo>
                    <a:pt x="955" y="531"/>
                  </a:lnTo>
                  <a:lnTo>
                    <a:pt x="962" y="473"/>
                  </a:lnTo>
                  <a:lnTo>
                    <a:pt x="967" y="416"/>
                  </a:lnTo>
                  <a:lnTo>
                    <a:pt x="968" y="359"/>
                  </a:lnTo>
                  <a:lnTo>
                    <a:pt x="968" y="343"/>
                  </a:lnTo>
                  <a:lnTo>
                    <a:pt x="967" y="329"/>
                  </a:lnTo>
                  <a:lnTo>
                    <a:pt x="965" y="316"/>
                  </a:lnTo>
                  <a:lnTo>
                    <a:pt x="963" y="302"/>
                  </a:lnTo>
                  <a:lnTo>
                    <a:pt x="960" y="292"/>
                  </a:lnTo>
                  <a:lnTo>
                    <a:pt x="958" y="287"/>
                  </a:lnTo>
                  <a:lnTo>
                    <a:pt x="956" y="281"/>
                  </a:lnTo>
                  <a:lnTo>
                    <a:pt x="954" y="277"/>
                  </a:lnTo>
                  <a:lnTo>
                    <a:pt x="951" y="272"/>
                  </a:lnTo>
                  <a:lnTo>
                    <a:pt x="949" y="268"/>
                  </a:lnTo>
                  <a:lnTo>
                    <a:pt x="946" y="264"/>
                  </a:lnTo>
                  <a:lnTo>
                    <a:pt x="940" y="257"/>
                  </a:lnTo>
                  <a:lnTo>
                    <a:pt x="937" y="253"/>
                  </a:lnTo>
                  <a:lnTo>
                    <a:pt x="934" y="251"/>
                  </a:lnTo>
                  <a:lnTo>
                    <a:pt x="931" y="247"/>
                  </a:lnTo>
                  <a:lnTo>
                    <a:pt x="927" y="245"/>
                  </a:lnTo>
                  <a:lnTo>
                    <a:pt x="924" y="243"/>
                  </a:lnTo>
                  <a:lnTo>
                    <a:pt x="920" y="241"/>
                  </a:lnTo>
                  <a:lnTo>
                    <a:pt x="917" y="239"/>
                  </a:lnTo>
                  <a:lnTo>
                    <a:pt x="913" y="238"/>
                  </a:lnTo>
                  <a:lnTo>
                    <a:pt x="909" y="237"/>
                  </a:lnTo>
                  <a:lnTo>
                    <a:pt x="905" y="235"/>
                  </a:lnTo>
                  <a:lnTo>
                    <a:pt x="900" y="234"/>
                  </a:lnTo>
                  <a:lnTo>
                    <a:pt x="896" y="233"/>
                  </a:lnTo>
                  <a:lnTo>
                    <a:pt x="887" y="233"/>
                  </a:lnTo>
                  <a:lnTo>
                    <a:pt x="881" y="233"/>
                  </a:lnTo>
                  <a:lnTo>
                    <a:pt x="876" y="234"/>
                  </a:lnTo>
                  <a:lnTo>
                    <a:pt x="870" y="235"/>
                  </a:lnTo>
                  <a:lnTo>
                    <a:pt x="864" y="237"/>
                  </a:lnTo>
                  <a:lnTo>
                    <a:pt x="852" y="241"/>
                  </a:lnTo>
                  <a:lnTo>
                    <a:pt x="839" y="247"/>
                  </a:lnTo>
                  <a:lnTo>
                    <a:pt x="826" y="256"/>
                  </a:lnTo>
                  <a:lnTo>
                    <a:pt x="812" y="265"/>
                  </a:lnTo>
                  <a:lnTo>
                    <a:pt x="798" y="276"/>
                  </a:lnTo>
                  <a:lnTo>
                    <a:pt x="783" y="289"/>
                  </a:lnTo>
                  <a:lnTo>
                    <a:pt x="737" y="335"/>
                  </a:lnTo>
                  <a:lnTo>
                    <a:pt x="698" y="378"/>
                  </a:lnTo>
                  <a:lnTo>
                    <a:pt x="664" y="417"/>
                  </a:lnTo>
                  <a:lnTo>
                    <a:pt x="650" y="436"/>
                  </a:lnTo>
                  <a:lnTo>
                    <a:pt x="637" y="454"/>
                  </a:lnTo>
                  <a:lnTo>
                    <a:pt x="627" y="476"/>
                  </a:lnTo>
                  <a:lnTo>
                    <a:pt x="617" y="501"/>
                  </a:lnTo>
                  <a:lnTo>
                    <a:pt x="608" y="527"/>
                  </a:lnTo>
                  <a:lnTo>
                    <a:pt x="598" y="557"/>
                  </a:lnTo>
                  <a:lnTo>
                    <a:pt x="580" y="624"/>
                  </a:lnTo>
                  <a:lnTo>
                    <a:pt x="563" y="7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34400" y="4527720"/>
              <a:ext cx="362160" cy="433080"/>
            </a:xfrm>
            <a:custGeom>
              <a:avLst/>
              <a:gdLst/>
              <a:ahLst/>
              <a:rect l="l" t="t" r="r" b="b"/>
              <a:pathLst>
                <a:path w="1004" h="1205">
                  <a:moveTo>
                    <a:pt x="751" y="33"/>
                  </a:moveTo>
                  <a:lnTo>
                    <a:pt x="949" y="33"/>
                  </a:lnTo>
                  <a:lnTo>
                    <a:pt x="845" y="526"/>
                  </a:lnTo>
                  <a:lnTo>
                    <a:pt x="777" y="837"/>
                  </a:lnTo>
                  <a:lnTo>
                    <a:pt x="760" y="927"/>
                  </a:lnTo>
                  <a:lnTo>
                    <a:pt x="755" y="957"/>
                  </a:lnTo>
                  <a:lnTo>
                    <a:pt x="754" y="966"/>
                  </a:lnTo>
                  <a:lnTo>
                    <a:pt x="754" y="975"/>
                  </a:lnTo>
                  <a:lnTo>
                    <a:pt x="754" y="978"/>
                  </a:lnTo>
                  <a:lnTo>
                    <a:pt x="754" y="982"/>
                  </a:lnTo>
                  <a:lnTo>
                    <a:pt x="755" y="985"/>
                  </a:lnTo>
                  <a:lnTo>
                    <a:pt x="755" y="988"/>
                  </a:lnTo>
                  <a:lnTo>
                    <a:pt x="756" y="990"/>
                  </a:lnTo>
                  <a:lnTo>
                    <a:pt x="757" y="991"/>
                  </a:lnTo>
                  <a:lnTo>
                    <a:pt x="757" y="994"/>
                  </a:lnTo>
                  <a:lnTo>
                    <a:pt x="758" y="995"/>
                  </a:lnTo>
                  <a:lnTo>
                    <a:pt x="759" y="996"/>
                  </a:lnTo>
                  <a:lnTo>
                    <a:pt x="759" y="996"/>
                  </a:lnTo>
                  <a:lnTo>
                    <a:pt x="760" y="997"/>
                  </a:lnTo>
                  <a:lnTo>
                    <a:pt x="761" y="997"/>
                  </a:lnTo>
                  <a:lnTo>
                    <a:pt x="762" y="999"/>
                  </a:lnTo>
                  <a:lnTo>
                    <a:pt x="762" y="999"/>
                  </a:lnTo>
                  <a:lnTo>
                    <a:pt x="762" y="999"/>
                  </a:lnTo>
                  <a:lnTo>
                    <a:pt x="762" y="999"/>
                  </a:lnTo>
                  <a:lnTo>
                    <a:pt x="763" y="999"/>
                  </a:lnTo>
                  <a:lnTo>
                    <a:pt x="763" y="999"/>
                  </a:lnTo>
                  <a:lnTo>
                    <a:pt x="763" y="999"/>
                  </a:lnTo>
                  <a:lnTo>
                    <a:pt x="766" y="999"/>
                  </a:lnTo>
                  <a:lnTo>
                    <a:pt x="769" y="997"/>
                  </a:lnTo>
                  <a:lnTo>
                    <a:pt x="772" y="997"/>
                  </a:lnTo>
                  <a:lnTo>
                    <a:pt x="776" y="996"/>
                  </a:lnTo>
                  <a:lnTo>
                    <a:pt x="779" y="994"/>
                  </a:lnTo>
                  <a:lnTo>
                    <a:pt x="783" y="993"/>
                  </a:lnTo>
                  <a:lnTo>
                    <a:pt x="787" y="989"/>
                  </a:lnTo>
                  <a:lnTo>
                    <a:pt x="791" y="987"/>
                  </a:lnTo>
                  <a:lnTo>
                    <a:pt x="802" y="977"/>
                  </a:lnTo>
                  <a:lnTo>
                    <a:pt x="815" y="965"/>
                  </a:lnTo>
                  <a:lnTo>
                    <a:pt x="848" y="932"/>
                  </a:lnTo>
                  <a:lnTo>
                    <a:pt x="944" y="828"/>
                  </a:lnTo>
                  <a:lnTo>
                    <a:pt x="1003" y="904"/>
                  </a:lnTo>
                  <a:lnTo>
                    <a:pt x="946" y="975"/>
                  </a:lnTo>
                  <a:lnTo>
                    <a:pt x="894" y="1036"/>
                  </a:lnTo>
                  <a:lnTo>
                    <a:pt x="845" y="1087"/>
                  </a:lnTo>
                  <a:lnTo>
                    <a:pt x="800" y="1129"/>
                  </a:lnTo>
                  <a:lnTo>
                    <a:pt x="758" y="1163"/>
                  </a:lnTo>
                  <a:lnTo>
                    <a:pt x="739" y="1174"/>
                  </a:lnTo>
                  <a:lnTo>
                    <a:pt x="720" y="1185"/>
                  </a:lnTo>
                  <a:lnTo>
                    <a:pt x="702" y="1194"/>
                  </a:lnTo>
                  <a:lnTo>
                    <a:pt x="686" y="1200"/>
                  </a:lnTo>
                  <a:lnTo>
                    <a:pt x="670" y="1203"/>
                  </a:lnTo>
                  <a:lnTo>
                    <a:pt x="655" y="1204"/>
                  </a:lnTo>
                  <a:lnTo>
                    <a:pt x="644" y="1203"/>
                  </a:lnTo>
                  <a:lnTo>
                    <a:pt x="633" y="1202"/>
                  </a:lnTo>
                  <a:lnTo>
                    <a:pt x="628" y="1201"/>
                  </a:lnTo>
                  <a:lnTo>
                    <a:pt x="624" y="1198"/>
                  </a:lnTo>
                  <a:lnTo>
                    <a:pt x="619" y="1197"/>
                  </a:lnTo>
                  <a:lnTo>
                    <a:pt x="614" y="1195"/>
                  </a:lnTo>
                  <a:lnTo>
                    <a:pt x="610" y="1192"/>
                  </a:lnTo>
                  <a:lnTo>
                    <a:pt x="605" y="1189"/>
                  </a:lnTo>
                  <a:lnTo>
                    <a:pt x="600" y="1185"/>
                  </a:lnTo>
                  <a:lnTo>
                    <a:pt x="596" y="1182"/>
                  </a:lnTo>
                  <a:lnTo>
                    <a:pt x="592" y="1178"/>
                  </a:lnTo>
                  <a:lnTo>
                    <a:pt x="588" y="1174"/>
                  </a:lnTo>
                  <a:lnTo>
                    <a:pt x="584" y="1170"/>
                  </a:lnTo>
                  <a:lnTo>
                    <a:pt x="580" y="1165"/>
                  </a:lnTo>
                  <a:lnTo>
                    <a:pt x="576" y="1160"/>
                  </a:lnTo>
                  <a:lnTo>
                    <a:pt x="573" y="1154"/>
                  </a:lnTo>
                  <a:lnTo>
                    <a:pt x="569" y="1148"/>
                  </a:lnTo>
                  <a:lnTo>
                    <a:pt x="566" y="1142"/>
                  </a:lnTo>
                  <a:lnTo>
                    <a:pt x="564" y="1136"/>
                  </a:lnTo>
                  <a:lnTo>
                    <a:pt x="561" y="1130"/>
                  </a:lnTo>
                  <a:lnTo>
                    <a:pt x="559" y="1124"/>
                  </a:lnTo>
                  <a:lnTo>
                    <a:pt x="557" y="1117"/>
                  </a:lnTo>
                  <a:lnTo>
                    <a:pt x="553" y="1103"/>
                  </a:lnTo>
                  <a:lnTo>
                    <a:pt x="551" y="1087"/>
                  </a:lnTo>
                  <a:lnTo>
                    <a:pt x="549" y="1072"/>
                  </a:lnTo>
                  <a:lnTo>
                    <a:pt x="549" y="1054"/>
                  </a:lnTo>
                  <a:lnTo>
                    <a:pt x="549" y="1036"/>
                  </a:lnTo>
                  <a:lnTo>
                    <a:pt x="551" y="1017"/>
                  </a:lnTo>
                  <a:lnTo>
                    <a:pt x="552" y="997"/>
                  </a:lnTo>
                  <a:lnTo>
                    <a:pt x="555" y="978"/>
                  </a:lnTo>
                  <a:lnTo>
                    <a:pt x="558" y="959"/>
                  </a:lnTo>
                  <a:lnTo>
                    <a:pt x="563" y="939"/>
                  </a:lnTo>
                  <a:lnTo>
                    <a:pt x="567" y="919"/>
                  </a:lnTo>
                  <a:lnTo>
                    <a:pt x="573" y="898"/>
                  </a:lnTo>
                  <a:lnTo>
                    <a:pt x="557" y="929"/>
                  </a:lnTo>
                  <a:lnTo>
                    <a:pt x="538" y="960"/>
                  </a:lnTo>
                  <a:lnTo>
                    <a:pt x="516" y="990"/>
                  </a:lnTo>
                  <a:lnTo>
                    <a:pt x="491" y="1020"/>
                  </a:lnTo>
                  <a:lnTo>
                    <a:pt x="464" y="1049"/>
                  </a:lnTo>
                  <a:lnTo>
                    <a:pt x="434" y="1076"/>
                  </a:lnTo>
                  <a:lnTo>
                    <a:pt x="401" y="1104"/>
                  </a:lnTo>
                  <a:lnTo>
                    <a:pt x="366" y="1130"/>
                  </a:lnTo>
                  <a:lnTo>
                    <a:pt x="341" y="1147"/>
                  </a:lnTo>
                  <a:lnTo>
                    <a:pt x="318" y="1161"/>
                  </a:lnTo>
                  <a:lnTo>
                    <a:pt x="295" y="1173"/>
                  </a:lnTo>
                  <a:lnTo>
                    <a:pt x="272" y="1183"/>
                  </a:lnTo>
                  <a:lnTo>
                    <a:pt x="251" y="1191"/>
                  </a:lnTo>
                  <a:lnTo>
                    <a:pt x="229" y="1196"/>
                  </a:lnTo>
                  <a:lnTo>
                    <a:pt x="209" y="1200"/>
                  </a:lnTo>
                  <a:lnTo>
                    <a:pt x="189" y="1201"/>
                  </a:lnTo>
                  <a:lnTo>
                    <a:pt x="177" y="1200"/>
                  </a:lnTo>
                  <a:lnTo>
                    <a:pt x="166" y="1198"/>
                  </a:lnTo>
                  <a:lnTo>
                    <a:pt x="160" y="1197"/>
                  </a:lnTo>
                  <a:lnTo>
                    <a:pt x="155" y="1195"/>
                  </a:lnTo>
                  <a:lnTo>
                    <a:pt x="150" y="1194"/>
                  </a:lnTo>
                  <a:lnTo>
                    <a:pt x="145" y="1191"/>
                  </a:lnTo>
                  <a:lnTo>
                    <a:pt x="141" y="1189"/>
                  </a:lnTo>
                  <a:lnTo>
                    <a:pt x="136" y="1185"/>
                  </a:lnTo>
                  <a:lnTo>
                    <a:pt x="132" y="1183"/>
                  </a:lnTo>
                  <a:lnTo>
                    <a:pt x="127" y="1179"/>
                  </a:lnTo>
                  <a:lnTo>
                    <a:pt x="123" y="1176"/>
                  </a:lnTo>
                  <a:lnTo>
                    <a:pt x="119" y="1171"/>
                  </a:lnTo>
                  <a:lnTo>
                    <a:pt x="116" y="1167"/>
                  </a:lnTo>
                  <a:lnTo>
                    <a:pt x="112" y="1163"/>
                  </a:lnTo>
                  <a:lnTo>
                    <a:pt x="109" y="1158"/>
                  </a:lnTo>
                  <a:lnTo>
                    <a:pt x="106" y="1152"/>
                  </a:lnTo>
                  <a:lnTo>
                    <a:pt x="103" y="1147"/>
                  </a:lnTo>
                  <a:lnTo>
                    <a:pt x="100" y="1141"/>
                  </a:lnTo>
                  <a:lnTo>
                    <a:pt x="95" y="1128"/>
                  </a:lnTo>
                  <a:lnTo>
                    <a:pt x="91" y="1115"/>
                  </a:lnTo>
                  <a:lnTo>
                    <a:pt x="88" y="1099"/>
                  </a:lnTo>
                  <a:lnTo>
                    <a:pt x="86" y="1084"/>
                  </a:lnTo>
                  <a:lnTo>
                    <a:pt x="84" y="1066"/>
                  </a:lnTo>
                  <a:lnTo>
                    <a:pt x="84" y="1048"/>
                  </a:lnTo>
                  <a:lnTo>
                    <a:pt x="85" y="1020"/>
                  </a:lnTo>
                  <a:lnTo>
                    <a:pt x="87" y="991"/>
                  </a:lnTo>
                  <a:lnTo>
                    <a:pt x="90" y="962"/>
                  </a:lnTo>
                  <a:lnTo>
                    <a:pt x="95" y="932"/>
                  </a:lnTo>
                  <a:lnTo>
                    <a:pt x="105" y="879"/>
                  </a:lnTo>
                  <a:lnTo>
                    <a:pt x="120" y="806"/>
                  </a:lnTo>
                  <a:lnTo>
                    <a:pt x="167" y="597"/>
                  </a:lnTo>
                  <a:lnTo>
                    <a:pt x="199" y="456"/>
                  </a:lnTo>
                  <a:lnTo>
                    <a:pt x="222" y="347"/>
                  </a:lnTo>
                  <a:lnTo>
                    <a:pt x="235" y="269"/>
                  </a:lnTo>
                  <a:lnTo>
                    <a:pt x="239" y="243"/>
                  </a:lnTo>
                  <a:lnTo>
                    <a:pt x="240" y="232"/>
                  </a:lnTo>
                  <a:lnTo>
                    <a:pt x="240" y="224"/>
                  </a:lnTo>
                  <a:lnTo>
                    <a:pt x="240" y="220"/>
                  </a:lnTo>
                  <a:lnTo>
                    <a:pt x="240" y="218"/>
                  </a:lnTo>
                  <a:lnTo>
                    <a:pt x="240" y="216"/>
                  </a:lnTo>
                  <a:lnTo>
                    <a:pt x="240" y="215"/>
                  </a:lnTo>
                  <a:lnTo>
                    <a:pt x="240" y="215"/>
                  </a:lnTo>
                  <a:lnTo>
                    <a:pt x="240" y="215"/>
                  </a:lnTo>
                  <a:lnTo>
                    <a:pt x="240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41" y="214"/>
                  </a:lnTo>
                  <a:lnTo>
                    <a:pt x="239" y="214"/>
                  </a:lnTo>
                  <a:lnTo>
                    <a:pt x="237" y="214"/>
                  </a:lnTo>
                  <a:lnTo>
                    <a:pt x="235" y="215"/>
                  </a:lnTo>
                  <a:lnTo>
                    <a:pt x="233" y="215"/>
                  </a:lnTo>
                  <a:lnTo>
                    <a:pt x="229" y="218"/>
                  </a:lnTo>
                  <a:lnTo>
                    <a:pt x="224" y="220"/>
                  </a:lnTo>
                  <a:lnTo>
                    <a:pt x="218" y="222"/>
                  </a:lnTo>
                  <a:lnTo>
                    <a:pt x="211" y="226"/>
                  </a:lnTo>
                  <a:lnTo>
                    <a:pt x="197" y="236"/>
                  </a:lnTo>
                  <a:lnTo>
                    <a:pt x="188" y="243"/>
                  </a:lnTo>
                  <a:lnTo>
                    <a:pt x="177" y="251"/>
                  </a:lnTo>
                  <a:lnTo>
                    <a:pt x="150" y="276"/>
                  </a:lnTo>
                  <a:lnTo>
                    <a:pt x="71" y="355"/>
                  </a:lnTo>
                  <a:lnTo>
                    <a:pt x="0" y="285"/>
                  </a:lnTo>
                  <a:lnTo>
                    <a:pt x="73" y="201"/>
                  </a:lnTo>
                  <a:lnTo>
                    <a:pt x="137" y="135"/>
                  </a:lnTo>
                  <a:lnTo>
                    <a:pt x="166" y="108"/>
                  </a:lnTo>
                  <a:lnTo>
                    <a:pt x="192" y="85"/>
                  </a:lnTo>
                  <a:lnTo>
                    <a:pt x="216" y="66"/>
                  </a:lnTo>
                  <a:lnTo>
                    <a:pt x="238" y="51"/>
                  </a:lnTo>
                  <a:lnTo>
                    <a:pt x="258" y="39"/>
                  </a:lnTo>
                  <a:lnTo>
                    <a:pt x="277" y="29"/>
                  </a:lnTo>
                  <a:lnTo>
                    <a:pt x="295" y="20"/>
                  </a:lnTo>
                  <a:lnTo>
                    <a:pt x="312" y="13"/>
                  </a:lnTo>
                  <a:lnTo>
                    <a:pt x="328" y="7"/>
                  </a:lnTo>
                  <a:lnTo>
                    <a:pt x="342" y="4"/>
                  </a:lnTo>
                  <a:lnTo>
                    <a:pt x="357" y="1"/>
                  </a:lnTo>
                  <a:lnTo>
                    <a:pt x="371" y="0"/>
                  </a:lnTo>
                  <a:lnTo>
                    <a:pt x="380" y="0"/>
                  </a:lnTo>
                  <a:lnTo>
                    <a:pt x="388" y="2"/>
                  </a:lnTo>
                  <a:lnTo>
                    <a:pt x="392" y="2"/>
                  </a:lnTo>
                  <a:lnTo>
                    <a:pt x="396" y="4"/>
                  </a:lnTo>
                  <a:lnTo>
                    <a:pt x="400" y="6"/>
                  </a:lnTo>
                  <a:lnTo>
                    <a:pt x="404" y="7"/>
                  </a:lnTo>
                  <a:lnTo>
                    <a:pt x="408" y="9"/>
                  </a:lnTo>
                  <a:lnTo>
                    <a:pt x="411" y="12"/>
                  </a:lnTo>
                  <a:lnTo>
                    <a:pt x="415" y="14"/>
                  </a:lnTo>
                  <a:lnTo>
                    <a:pt x="418" y="17"/>
                  </a:lnTo>
                  <a:lnTo>
                    <a:pt x="422" y="20"/>
                  </a:lnTo>
                  <a:lnTo>
                    <a:pt x="425" y="24"/>
                  </a:lnTo>
                  <a:lnTo>
                    <a:pt x="428" y="27"/>
                  </a:lnTo>
                  <a:lnTo>
                    <a:pt x="431" y="31"/>
                  </a:lnTo>
                  <a:lnTo>
                    <a:pt x="434" y="35"/>
                  </a:lnTo>
                  <a:lnTo>
                    <a:pt x="436" y="39"/>
                  </a:lnTo>
                  <a:lnTo>
                    <a:pt x="439" y="44"/>
                  </a:lnTo>
                  <a:lnTo>
                    <a:pt x="441" y="49"/>
                  </a:lnTo>
                  <a:lnTo>
                    <a:pt x="445" y="59"/>
                  </a:lnTo>
                  <a:lnTo>
                    <a:pt x="448" y="69"/>
                  </a:lnTo>
                  <a:lnTo>
                    <a:pt x="451" y="81"/>
                  </a:lnTo>
                  <a:lnTo>
                    <a:pt x="453" y="93"/>
                  </a:lnTo>
                  <a:lnTo>
                    <a:pt x="454" y="106"/>
                  </a:lnTo>
                  <a:lnTo>
                    <a:pt x="454" y="121"/>
                  </a:lnTo>
                  <a:lnTo>
                    <a:pt x="453" y="148"/>
                  </a:lnTo>
                  <a:lnTo>
                    <a:pt x="449" y="184"/>
                  </a:lnTo>
                  <a:lnTo>
                    <a:pt x="434" y="281"/>
                  </a:lnTo>
                  <a:lnTo>
                    <a:pt x="408" y="410"/>
                  </a:lnTo>
                  <a:lnTo>
                    <a:pt x="373" y="574"/>
                  </a:lnTo>
                  <a:lnTo>
                    <a:pt x="322" y="822"/>
                  </a:lnTo>
                  <a:lnTo>
                    <a:pt x="309" y="893"/>
                  </a:lnTo>
                  <a:lnTo>
                    <a:pt x="306" y="917"/>
                  </a:lnTo>
                  <a:lnTo>
                    <a:pt x="305" y="926"/>
                  </a:lnTo>
                  <a:lnTo>
                    <a:pt x="305" y="932"/>
                  </a:lnTo>
                  <a:lnTo>
                    <a:pt x="305" y="936"/>
                  </a:lnTo>
                  <a:lnTo>
                    <a:pt x="306" y="941"/>
                  </a:lnTo>
                  <a:lnTo>
                    <a:pt x="306" y="945"/>
                  </a:lnTo>
                  <a:lnTo>
                    <a:pt x="307" y="947"/>
                  </a:lnTo>
                  <a:lnTo>
                    <a:pt x="307" y="948"/>
                  </a:lnTo>
                  <a:lnTo>
                    <a:pt x="308" y="951"/>
                  </a:lnTo>
                  <a:lnTo>
                    <a:pt x="309" y="952"/>
                  </a:lnTo>
                  <a:lnTo>
                    <a:pt x="309" y="954"/>
                  </a:lnTo>
                  <a:lnTo>
                    <a:pt x="310" y="956"/>
                  </a:lnTo>
                  <a:lnTo>
                    <a:pt x="311" y="957"/>
                  </a:lnTo>
                  <a:lnTo>
                    <a:pt x="312" y="959"/>
                  </a:lnTo>
                  <a:lnTo>
                    <a:pt x="313" y="960"/>
                  </a:lnTo>
                  <a:lnTo>
                    <a:pt x="314" y="962"/>
                  </a:lnTo>
                  <a:lnTo>
                    <a:pt x="316" y="964"/>
                  </a:lnTo>
                  <a:lnTo>
                    <a:pt x="318" y="966"/>
                  </a:lnTo>
                  <a:lnTo>
                    <a:pt x="320" y="968"/>
                  </a:lnTo>
                  <a:lnTo>
                    <a:pt x="321" y="969"/>
                  </a:lnTo>
                  <a:lnTo>
                    <a:pt x="322" y="970"/>
                  </a:lnTo>
                  <a:lnTo>
                    <a:pt x="322" y="970"/>
                  </a:lnTo>
                  <a:lnTo>
                    <a:pt x="323" y="971"/>
                  </a:lnTo>
                  <a:lnTo>
                    <a:pt x="324" y="971"/>
                  </a:lnTo>
                  <a:lnTo>
                    <a:pt x="325" y="971"/>
                  </a:lnTo>
                  <a:lnTo>
                    <a:pt x="326" y="972"/>
                  </a:lnTo>
                  <a:lnTo>
                    <a:pt x="327" y="972"/>
                  </a:lnTo>
                  <a:lnTo>
                    <a:pt x="328" y="972"/>
                  </a:lnTo>
                  <a:lnTo>
                    <a:pt x="329" y="972"/>
                  </a:lnTo>
                  <a:lnTo>
                    <a:pt x="336" y="972"/>
                  </a:lnTo>
                  <a:lnTo>
                    <a:pt x="342" y="970"/>
                  </a:lnTo>
                  <a:lnTo>
                    <a:pt x="350" y="969"/>
                  </a:lnTo>
                  <a:lnTo>
                    <a:pt x="358" y="965"/>
                  </a:lnTo>
                  <a:lnTo>
                    <a:pt x="366" y="962"/>
                  </a:lnTo>
                  <a:lnTo>
                    <a:pt x="375" y="956"/>
                  </a:lnTo>
                  <a:lnTo>
                    <a:pt x="395" y="944"/>
                  </a:lnTo>
                  <a:lnTo>
                    <a:pt x="415" y="927"/>
                  </a:lnTo>
                  <a:lnTo>
                    <a:pt x="438" y="908"/>
                  </a:lnTo>
                  <a:lnTo>
                    <a:pt x="462" y="884"/>
                  </a:lnTo>
                  <a:lnTo>
                    <a:pt x="488" y="856"/>
                  </a:lnTo>
                  <a:lnTo>
                    <a:pt x="513" y="828"/>
                  </a:lnTo>
                  <a:lnTo>
                    <a:pt x="537" y="797"/>
                  </a:lnTo>
                  <a:lnTo>
                    <a:pt x="558" y="765"/>
                  </a:lnTo>
                  <a:lnTo>
                    <a:pt x="576" y="733"/>
                  </a:lnTo>
                  <a:lnTo>
                    <a:pt x="593" y="700"/>
                  </a:lnTo>
                  <a:lnTo>
                    <a:pt x="607" y="665"/>
                  </a:lnTo>
                  <a:lnTo>
                    <a:pt x="619" y="630"/>
                  </a:lnTo>
                  <a:lnTo>
                    <a:pt x="627" y="593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213840" y="4362480"/>
              <a:ext cx="361800" cy="598320"/>
            </a:xfrm>
            <a:custGeom>
              <a:avLst/>
              <a:gdLst/>
              <a:ahLst/>
              <a:rect l="l" t="t" r="r" b="b"/>
              <a:pathLst>
                <a:path w="1005" h="1662">
                  <a:moveTo>
                    <a:pt x="751" y="490"/>
                  </a:moveTo>
                  <a:lnTo>
                    <a:pt x="950" y="490"/>
                  </a:lnTo>
                  <a:lnTo>
                    <a:pt x="845" y="983"/>
                  </a:lnTo>
                  <a:lnTo>
                    <a:pt x="777" y="1294"/>
                  </a:lnTo>
                  <a:lnTo>
                    <a:pt x="760" y="1384"/>
                  </a:lnTo>
                  <a:lnTo>
                    <a:pt x="755" y="1414"/>
                  </a:lnTo>
                  <a:lnTo>
                    <a:pt x="754" y="1423"/>
                  </a:lnTo>
                  <a:lnTo>
                    <a:pt x="754" y="1432"/>
                  </a:lnTo>
                  <a:lnTo>
                    <a:pt x="754" y="1435"/>
                  </a:lnTo>
                  <a:lnTo>
                    <a:pt x="754" y="1439"/>
                  </a:lnTo>
                  <a:lnTo>
                    <a:pt x="755" y="1442"/>
                  </a:lnTo>
                  <a:lnTo>
                    <a:pt x="755" y="1445"/>
                  </a:lnTo>
                  <a:lnTo>
                    <a:pt x="756" y="1447"/>
                  </a:lnTo>
                  <a:lnTo>
                    <a:pt x="757" y="1448"/>
                  </a:lnTo>
                  <a:lnTo>
                    <a:pt x="757" y="1451"/>
                  </a:lnTo>
                  <a:lnTo>
                    <a:pt x="758" y="1452"/>
                  </a:lnTo>
                  <a:lnTo>
                    <a:pt x="759" y="1453"/>
                  </a:lnTo>
                  <a:lnTo>
                    <a:pt x="759" y="1453"/>
                  </a:lnTo>
                  <a:lnTo>
                    <a:pt x="760" y="1454"/>
                  </a:lnTo>
                  <a:lnTo>
                    <a:pt x="761" y="1454"/>
                  </a:lnTo>
                  <a:lnTo>
                    <a:pt x="762" y="1456"/>
                  </a:lnTo>
                  <a:lnTo>
                    <a:pt x="762" y="1456"/>
                  </a:lnTo>
                  <a:lnTo>
                    <a:pt x="762" y="1456"/>
                  </a:lnTo>
                  <a:lnTo>
                    <a:pt x="762" y="1456"/>
                  </a:lnTo>
                  <a:lnTo>
                    <a:pt x="763" y="1456"/>
                  </a:lnTo>
                  <a:lnTo>
                    <a:pt x="763" y="1456"/>
                  </a:lnTo>
                  <a:lnTo>
                    <a:pt x="763" y="1456"/>
                  </a:lnTo>
                  <a:lnTo>
                    <a:pt x="766" y="1456"/>
                  </a:lnTo>
                  <a:lnTo>
                    <a:pt x="769" y="1454"/>
                  </a:lnTo>
                  <a:lnTo>
                    <a:pt x="772" y="1454"/>
                  </a:lnTo>
                  <a:lnTo>
                    <a:pt x="776" y="1453"/>
                  </a:lnTo>
                  <a:lnTo>
                    <a:pt x="779" y="1451"/>
                  </a:lnTo>
                  <a:lnTo>
                    <a:pt x="783" y="1450"/>
                  </a:lnTo>
                  <a:lnTo>
                    <a:pt x="787" y="1446"/>
                  </a:lnTo>
                  <a:lnTo>
                    <a:pt x="791" y="1444"/>
                  </a:lnTo>
                  <a:lnTo>
                    <a:pt x="802" y="1434"/>
                  </a:lnTo>
                  <a:lnTo>
                    <a:pt x="815" y="1422"/>
                  </a:lnTo>
                  <a:lnTo>
                    <a:pt x="848" y="1389"/>
                  </a:lnTo>
                  <a:lnTo>
                    <a:pt x="945" y="1285"/>
                  </a:lnTo>
                  <a:lnTo>
                    <a:pt x="1004" y="1361"/>
                  </a:lnTo>
                  <a:lnTo>
                    <a:pt x="947" y="1432"/>
                  </a:lnTo>
                  <a:lnTo>
                    <a:pt x="894" y="1493"/>
                  </a:lnTo>
                  <a:lnTo>
                    <a:pt x="845" y="1544"/>
                  </a:lnTo>
                  <a:lnTo>
                    <a:pt x="800" y="1586"/>
                  </a:lnTo>
                  <a:lnTo>
                    <a:pt x="758" y="1620"/>
                  </a:lnTo>
                  <a:lnTo>
                    <a:pt x="739" y="1631"/>
                  </a:lnTo>
                  <a:lnTo>
                    <a:pt x="720" y="1642"/>
                  </a:lnTo>
                  <a:lnTo>
                    <a:pt x="703" y="1651"/>
                  </a:lnTo>
                  <a:lnTo>
                    <a:pt x="687" y="1657"/>
                  </a:lnTo>
                  <a:lnTo>
                    <a:pt x="671" y="1660"/>
                  </a:lnTo>
                  <a:lnTo>
                    <a:pt x="656" y="1661"/>
                  </a:lnTo>
                  <a:lnTo>
                    <a:pt x="645" y="1660"/>
                  </a:lnTo>
                  <a:lnTo>
                    <a:pt x="634" y="1659"/>
                  </a:lnTo>
                  <a:lnTo>
                    <a:pt x="629" y="1658"/>
                  </a:lnTo>
                  <a:lnTo>
                    <a:pt x="624" y="1655"/>
                  </a:lnTo>
                  <a:lnTo>
                    <a:pt x="619" y="1654"/>
                  </a:lnTo>
                  <a:lnTo>
                    <a:pt x="614" y="1652"/>
                  </a:lnTo>
                  <a:lnTo>
                    <a:pt x="610" y="1649"/>
                  </a:lnTo>
                  <a:lnTo>
                    <a:pt x="605" y="1646"/>
                  </a:lnTo>
                  <a:lnTo>
                    <a:pt x="600" y="1642"/>
                  </a:lnTo>
                  <a:lnTo>
                    <a:pt x="596" y="1639"/>
                  </a:lnTo>
                  <a:lnTo>
                    <a:pt x="592" y="1635"/>
                  </a:lnTo>
                  <a:lnTo>
                    <a:pt x="588" y="1631"/>
                  </a:lnTo>
                  <a:lnTo>
                    <a:pt x="584" y="1627"/>
                  </a:lnTo>
                  <a:lnTo>
                    <a:pt x="580" y="1622"/>
                  </a:lnTo>
                  <a:lnTo>
                    <a:pt x="576" y="1617"/>
                  </a:lnTo>
                  <a:lnTo>
                    <a:pt x="573" y="1611"/>
                  </a:lnTo>
                  <a:lnTo>
                    <a:pt x="569" y="1605"/>
                  </a:lnTo>
                  <a:lnTo>
                    <a:pt x="566" y="1599"/>
                  </a:lnTo>
                  <a:lnTo>
                    <a:pt x="564" y="1593"/>
                  </a:lnTo>
                  <a:lnTo>
                    <a:pt x="561" y="1587"/>
                  </a:lnTo>
                  <a:lnTo>
                    <a:pt x="559" y="1581"/>
                  </a:lnTo>
                  <a:lnTo>
                    <a:pt x="557" y="1574"/>
                  </a:lnTo>
                  <a:lnTo>
                    <a:pt x="553" y="1560"/>
                  </a:lnTo>
                  <a:lnTo>
                    <a:pt x="551" y="1544"/>
                  </a:lnTo>
                  <a:lnTo>
                    <a:pt x="549" y="1529"/>
                  </a:lnTo>
                  <a:lnTo>
                    <a:pt x="549" y="1511"/>
                  </a:lnTo>
                  <a:lnTo>
                    <a:pt x="549" y="1493"/>
                  </a:lnTo>
                  <a:lnTo>
                    <a:pt x="551" y="1474"/>
                  </a:lnTo>
                  <a:lnTo>
                    <a:pt x="552" y="1454"/>
                  </a:lnTo>
                  <a:lnTo>
                    <a:pt x="555" y="1435"/>
                  </a:lnTo>
                  <a:lnTo>
                    <a:pt x="558" y="1416"/>
                  </a:lnTo>
                  <a:lnTo>
                    <a:pt x="563" y="1396"/>
                  </a:lnTo>
                  <a:lnTo>
                    <a:pt x="567" y="1376"/>
                  </a:lnTo>
                  <a:lnTo>
                    <a:pt x="573" y="1355"/>
                  </a:lnTo>
                  <a:lnTo>
                    <a:pt x="557" y="1386"/>
                  </a:lnTo>
                  <a:lnTo>
                    <a:pt x="538" y="1417"/>
                  </a:lnTo>
                  <a:lnTo>
                    <a:pt x="516" y="1447"/>
                  </a:lnTo>
                  <a:lnTo>
                    <a:pt x="491" y="1477"/>
                  </a:lnTo>
                  <a:lnTo>
                    <a:pt x="464" y="1506"/>
                  </a:lnTo>
                  <a:lnTo>
                    <a:pt x="434" y="1533"/>
                  </a:lnTo>
                  <a:lnTo>
                    <a:pt x="402" y="1561"/>
                  </a:lnTo>
                  <a:lnTo>
                    <a:pt x="367" y="1587"/>
                  </a:lnTo>
                  <a:lnTo>
                    <a:pt x="342" y="1604"/>
                  </a:lnTo>
                  <a:lnTo>
                    <a:pt x="318" y="1618"/>
                  </a:lnTo>
                  <a:lnTo>
                    <a:pt x="295" y="1630"/>
                  </a:lnTo>
                  <a:lnTo>
                    <a:pt x="272" y="1640"/>
                  </a:lnTo>
                  <a:lnTo>
                    <a:pt x="251" y="1648"/>
                  </a:lnTo>
                  <a:lnTo>
                    <a:pt x="229" y="1653"/>
                  </a:lnTo>
                  <a:lnTo>
                    <a:pt x="209" y="1657"/>
                  </a:lnTo>
                  <a:lnTo>
                    <a:pt x="189" y="1658"/>
                  </a:lnTo>
                  <a:lnTo>
                    <a:pt x="177" y="1657"/>
                  </a:lnTo>
                  <a:lnTo>
                    <a:pt x="166" y="1655"/>
                  </a:lnTo>
                  <a:lnTo>
                    <a:pt x="160" y="1654"/>
                  </a:lnTo>
                  <a:lnTo>
                    <a:pt x="155" y="1652"/>
                  </a:lnTo>
                  <a:lnTo>
                    <a:pt x="150" y="1651"/>
                  </a:lnTo>
                  <a:lnTo>
                    <a:pt x="145" y="1648"/>
                  </a:lnTo>
                  <a:lnTo>
                    <a:pt x="142" y="1646"/>
                  </a:lnTo>
                  <a:lnTo>
                    <a:pt x="137" y="1642"/>
                  </a:lnTo>
                  <a:lnTo>
                    <a:pt x="133" y="1640"/>
                  </a:lnTo>
                  <a:lnTo>
                    <a:pt x="128" y="1636"/>
                  </a:lnTo>
                  <a:lnTo>
                    <a:pt x="124" y="1633"/>
                  </a:lnTo>
                  <a:lnTo>
                    <a:pt x="120" y="1628"/>
                  </a:lnTo>
                  <a:lnTo>
                    <a:pt x="117" y="1624"/>
                  </a:lnTo>
                  <a:lnTo>
                    <a:pt x="113" y="1620"/>
                  </a:lnTo>
                  <a:lnTo>
                    <a:pt x="110" y="1615"/>
                  </a:lnTo>
                  <a:lnTo>
                    <a:pt x="107" y="1609"/>
                  </a:lnTo>
                  <a:lnTo>
                    <a:pt x="104" y="1604"/>
                  </a:lnTo>
                  <a:lnTo>
                    <a:pt x="101" y="1598"/>
                  </a:lnTo>
                  <a:lnTo>
                    <a:pt x="96" y="1585"/>
                  </a:lnTo>
                  <a:lnTo>
                    <a:pt x="92" y="1572"/>
                  </a:lnTo>
                  <a:lnTo>
                    <a:pt x="89" y="1556"/>
                  </a:lnTo>
                  <a:lnTo>
                    <a:pt x="87" y="1541"/>
                  </a:lnTo>
                  <a:lnTo>
                    <a:pt x="85" y="1523"/>
                  </a:lnTo>
                  <a:lnTo>
                    <a:pt x="85" y="1505"/>
                  </a:lnTo>
                  <a:lnTo>
                    <a:pt x="86" y="1477"/>
                  </a:lnTo>
                  <a:lnTo>
                    <a:pt x="88" y="1448"/>
                  </a:lnTo>
                  <a:lnTo>
                    <a:pt x="91" y="1419"/>
                  </a:lnTo>
                  <a:lnTo>
                    <a:pt x="96" y="1389"/>
                  </a:lnTo>
                  <a:lnTo>
                    <a:pt x="106" y="1336"/>
                  </a:lnTo>
                  <a:lnTo>
                    <a:pt x="121" y="1263"/>
                  </a:lnTo>
                  <a:lnTo>
                    <a:pt x="167" y="1054"/>
                  </a:lnTo>
                  <a:lnTo>
                    <a:pt x="199" y="913"/>
                  </a:lnTo>
                  <a:lnTo>
                    <a:pt x="222" y="804"/>
                  </a:lnTo>
                  <a:lnTo>
                    <a:pt x="235" y="726"/>
                  </a:lnTo>
                  <a:lnTo>
                    <a:pt x="239" y="700"/>
                  </a:lnTo>
                  <a:lnTo>
                    <a:pt x="240" y="689"/>
                  </a:lnTo>
                  <a:lnTo>
                    <a:pt x="240" y="681"/>
                  </a:lnTo>
                  <a:lnTo>
                    <a:pt x="240" y="677"/>
                  </a:lnTo>
                  <a:lnTo>
                    <a:pt x="240" y="675"/>
                  </a:lnTo>
                  <a:lnTo>
                    <a:pt x="240" y="673"/>
                  </a:lnTo>
                  <a:lnTo>
                    <a:pt x="240" y="672"/>
                  </a:lnTo>
                  <a:lnTo>
                    <a:pt x="240" y="672"/>
                  </a:lnTo>
                  <a:lnTo>
                    <a:pt x="240" y="672"/>
                  </a:lnTo>
                  <a:lnTo>
                    <a:pt x="240" y="671"/>
                  </a:lnTo>
                  <a:lnTo>
                    <a:pt x="241" y="671"/>
                  </a:lnTo>
                  <a:lnTo>
                    <a:pt x="241" y="671"/>
                  </a:lnTo>
                  <a:lnTo>
                    <a:pt x="241" y="671"/>
                  </a:lnTo>
                  <a:lnTo>
                    <a:pt x="241" y="671"/>
                  </a:lnTo>
                  <a:lnTo>
                    <a:pt x="241" y="671"/>
                  </a:lnTo>
                  <a:lnTo>
                    <a:pt x="241" y="671"/>
                  </a:lnTo>
                  <a:lnTo>
                    <a:pt x="241" y="671"/>
                  </a:lnTo>
                  <a:lnTo>
                    <a:pt x="239" y="671"/>
                  </a:lnTo>
                  <a:lnTo>
                    <a:pt x="237" y="671"/>
                  </a:lnTo>
                  <a:lnTo>
                    <a:pt x="235" y="672"/>
                  </a:lnTo>
                  <a:lnTo>
                    <a:pt x="233" y="672"/>
                  </a:lnTo>
                  <a:lnTo>
                    <a:pt x="229" y="675"/>
                  </a:lnTo>
                  <a:lnTo>
                    <a:pt x="224" y="677"/>
                  </a:lnTo>
                  <a:lnTo>
                    <a:pt x="218" y="679"/>
                  </a:lnTo>
                  <a:lnTo>
                    <a:pt x="211" y="683"/>
                  </a:lnTo>
                  <a:lnTo>
                    <a:pt x="197" y="693"/>
                  </a:lnTo>
                  <a:lnTo>
                    <a:pt x="188" y="700"/>
                  </a:lnTo>
                  <a:lnTo>
                    <a:pt x="177" y="708"/>
                  </a:lnTo>
                  <a:lnTo>
                    <a:pt x="150" y="733"/>
                  </a:lnTo>
                  <a:lnTo>
                    <a:pt x="72" y="812"/>
                  </a:lnTo>
                  <a:lnTo>
                    <a:pt x="0" y="742"/>
                  </a:lnTo>
                  <a:lnTo>
                    <a:pt x="74" y="658"/>
                  </a:lnTo>
                  <a:lnTo>
                    <a:pt x="138" y="592"/>
                  </a:lnTo>
                  <a:lnTo>
                    <a:pt x="166" y="565"/>
                  </a:lnTo>
                  <a:lnTo>
                    <a:pt x="192" y="542"/>
                  </a:lnTo>
                  <a:lnTo>
                    <a:pt x="216" y="523"/>
                  </a:lnTo>
                  <a:lnTo>
                    <a:pt x="238" y="508"/>
                  </a:lnTo>
                  <a:lnTo>
                    <a:pt x="258" y="496"/>
                  </a:lnTo>
                  <a:lnTo>
                    <a:pt x="277" y="486"/>
                  </a:lnTo>
                  <a:lnTo>
                    <a:pt x="295" y="477"/>
                  </a:lnTo>
                  <a:lnTo>
                    <a:pt x="312" y="470"/>
                  </a:lnTo>
                  <a:lnTo>
                    <a:pt x="328" y="464"/>
                  </a:lnTo>
                  <a:lnTo>
                    <a:pt x="343" y="461"/>
                  </a:lnTo>
                  <a:lnTo>
                    <a:pt x="358" y="458"/>
                  </a:lnTo>
                  <a:lnTo>
                    <a:pt x="372" y="457"/>
                  </a:lnTo>
                  <a:lnTo>
                    <a:pt x="381" y="457"/>
                  </a:lnTo>
                  <a:lnTo>
                    <a:pt x="389" y="459"/>
                  </a:lnTo>
                  <a:lnTo>
                    <a:pt x="393" y="459"/>
                  </a:lnTo>
                  <a:lnTo>
                    <a:pt x="397" y="461"/>
                  </a:lnTo>
                  <a:lnTo>
                    <a:pt x="401" y="463"/>
                  </a:lnTo>
                  <a:lnTo>
                    <a:pt x="405" y="464"/>
                  </a:lnTo>
                  <a:lnTo>
                    <a:pt x="409" y="466"/>
                  </a:lnTo>
                  <a:lnTo>
                    <a:pt x="412" y="469"/>
                  </a:lnTo>
                  <a:lnTo>
                    <a:pt x="416" y="471"/>
                  </a:lnTo>
                  <a:lnTo>
                    <a:pt x="419" y="474"/>
                  </a:lnTo>
                  <a:lnTo>
                    <a:pt x="423" y="477"/>
                  </a:lnTo>
                  <a:lnTo>
                    <a:pt x="426" y="481"/>
                  </a:lnTo>
                  <a:lnTo>
                    <a:pt x="429" y="484"/>
                  </a:lnTo>
                  <a:lnTo>
                    <a:pt x="431" y="488"/>
                  </a:lnTo>
                  <a:lnTo>
                    <a:pt x="434" y="492"/>
                  </a:lnTo>
                  <a:lnTo>
                    <a:pt x="436" y="496"/>
                  </a:lnTo>
                  <a:lnTo>
                    <a:pt x="439" y="501"/>
                  </a:lnTo>
                  <a:lnTo>
                    <a:pt x="441" y="506"/>
                  </a:lnTo>
                  <a:lnTo>
                    <a:pt x="445" y="516"/>
                  </a:lnTo>
                  <a:lnTo>
                    <a:pt x="448" y="526"/>
                  </a:lnTo>
                  <a:lnTo>
                    <a:pt x="451" y="538"/>
                  </a:lnTo>
                  <a:lnTo>
                    <a:pt x="453" y="550"/>
                  </a:lnTo>
                  <a:lnTo>
                    <a:pt x="454" y="563"/>
                  </a:lnTo>
                  <a:lnTo>
                    <a:pt x="454" y="578"/>
                  </a:lnTo>
                  <a:lnTo>
                    <a:pt x="453" y="605"/>
                  </a:lnTo>
                  <a:lnTo>
                    <a:pt x="449" y="641"/>
                  </a:lnTo>
                  <a:lnTo>
                    <a:pt x="434" y="738"/>
                  </a:lnTo>
                  <a:lnTo>
                    <a:pt x="409" y="867"/>
                  </a:lnTo>
                  <a:lnTo>
                    <a:pt x="374" y="1031"/>
                  </a:lnTo>
                  <a:lnTo>
                    <a:pt x="322" y="1279"/>
                  </a:lnTo>
                  <a:lnTo>
                    <a:pt x="309" y="1350"/>
                  </a:lnTo>
                  <a:lnTo>
                    <a:pt x="306" y="1374"/>
                  </a:lnTo>
                  <a:lnTo>
                    <a:pt x="305" y="1383"/>
                  </a:lnTo>
                  <a:lnTo>
                    <a:pt x="305" y="1389"/>
                  </a:lnTo>
                  <a:lnTo>
                    <a:pt x="305" y="1393"/>
                  </a:lnTo>
                  <a:lnTo>
                    <a:pt x="306" y="1398"/>
                  </a:lnTo>
                  <a:lnTo>
                    <a:pt x="306" y="1402"/>
                  </a:lnTo>
                  <a:lnTo>
                    <a:pt x="307" y="1404"/>
                  </a:lnTo>
                  <a:lnTo>
                    <a:pt x="307" y="1405"/>
                  </a:lnTo>
                  <a:lnTo>
                    <a:pt x="308" y="1408"/>
                  </a:lnTo>
                  <a:lnTo>
                    <a:pt x="309" y="1409"/>
                  </a:lnTo>
                  <a:lnTo>
                    <a:pt x="309" y="1411"/>
                  </a:lnTo>
                  <a:lnTo>
                    <a:pt x="310" y="1413"/>
                  </a:lnTo>
                  <a:lnTo>
                    <a:pt x="311" y="1414"/>
                  </a:lnTo>
                  <a:lnTo>
                    <a:pt x="312" y="1416"/>
                  </a:lnTo>
                  <a:lnTo>
                    <a:pt x="313" y="1417"/>
                  </a:lnTo>
                  <a:lnTo>
                    <a:pt x="314" y="1419"/>
                  </a:lnTo>
                  <a:lnTo>
                    <a:pt x="316" y="1421"/>
                  </a:lnTo>
                  <a:lnTo>
                    <a:pt x="318" y="1423"/>
                  </a:lnTo>
                  <a:lnTo>
                    <a:pt x="320" y="1425"/>
                  </a:lnTo>
                  <a:lnTo>
                    <a:pt x="321" y="1426"/>
                  </a:lnTo>
                  <a:lnTo>
                    <a:pt x="322" y="1427"/>
                  </a:lnTo>
                  <a:lnTo>
                    <a:pt x="322" y="1427"/>
                  </a:lnTo>
                  <a:lnTo>
                    <a:pt x="323" y="1428"/>
                  </a:lnTo>
                  <a:lnTo>
                    <a:pt x="324" y="1428"/>
                  </a:lnTo>
                  <a:lnTo>
                    <a:pt x="325" y="1428"/>
                  </a:lnTo>
                  <a:lnTo>
                    <a:pt x="326" y="1429"/>
                  </a:lnTo>
                  <a:lnTo>
                    <a:pt x="327" y="1429"/>
                  </a:lnTo>
                  <a:lnTo>
                    <a:pt x="328" y="1429"/>
                  </a:lnTo>
                  <a:lnTo>
                    <a:pt x="329" y="1429"/>
                  </a:lnTo>
                  <a:lnTo>
                    <a:pt x="336" y="1429"/>
                  </a:lnTo>
                  <a:lnTo>
                    <a:pt x="343" y="1427"/>
                  </a:lnTo>
                  <a:lnTo>
                    <a:pt x="351" y="1426"/>
                  </a:lnTo>
                  <a:lnTo>
                    <a:pt x="359" y="1422"/>
                  </a:lnTo>
                  <a:lnTo>
                    <a:pt x="367" y="1419"/>
                  </a:lnTo>
                  <a:lnTo>
                    <a:pt x="376" y="1413"/>
                  </a:lnTo>
                  <a:lnTo>
                    <a:pt x="396" y="1401"/>
                  </a:lnTo>
                  <a:lnTo>
                    <a:pt x="416" y="1384"/>
                  </a:lnTo>
                  <a:lnTo>
                    <a:pt x="438" y="1365"/>
                  </a:lnTo>
                  <a:lnTo>
                    <a:pt x="462" y="1341"/>
                  </a:lnTo>
                  <a:lnTo>
                    <a:pt x="488" y="1313"/>
                  </a:lnTo>
                  <a:lnTo>
                    <a:pt x="513" y="1285"/>
                  </a:lnTo>
                  <a:lnTo>
                    <a:pt x="537" y="1254"/>
                  </a:lnTo>
                  <a:lnTo>
                    <a:pt x="558" y="1222"/>
                  </a:lnTo>
                  <a:lnTo>
                    <a:pt x="576" y="1190"/>
                  </a:lnTo>
                  <a:lnTo>
                    <a:pt x="593" y="1157"/>
                  </a:lnTo>
                  <a:lnTo>
                    <a:pt x="607" y="1122"/>
                  </a:lnTo>
                  <a:lnTo>
                    <a:pt x="619" y="1087"/>
                  </a:lnTo>
                  <a:lnTo>
                    <a:pt x="628" y="1050"/>
                  </a:lnTo>
                  <a:close/>
                  <a:moveTo>
                    <a:pt x="907" y="0"/>
                  </a:moveTo>
                  <a:lnTo>
                    <a:pt x="961" y="78"/>
                  </a:lnTo>
                  <a:lnTo>
                    <a:pt x="910" y="133"/>
                  </a:lnTo>
                  <a:lnTo>
                    <a:pt x="859" y="181"/>
                  </a:lnTo>
                  <a:lnTo>
                    <a:pt x="808" y="221"/>
                  </a:lnTo>
                  <a:lnTo>
                    <a:pt x="756" y="254"/>
                  </a:lnTo>
                  <a:lnTo>
                    <a:pt x="729" y="268"/>
                  </a:lnTo>
                  <a:lnTo>
                    <a:pt x="704" y="280"/>
                  </a:lnTo>
                  <a:lnTo>
                    <a:pt x="677" y="289"/>
                  </a:lnTo>
                  <a:lnTo>
                    <a:pt x="651" y="298"/>
                  </a:lnTo>
                  <a:lnTo>
                    <a:pt x="624" y="304"/>
                  </a:lnTo>
                  <a:lnTo>
                    <a:pt x="597" y="309"/>
                  </a:lnTo>
                  <a:lnTo>
                    <a:pt x="570" y="311"/>
                  </a:lnTo>
                  <a:lnTo>
                    <a:pt x="543" y="312"/>
                  </a:lnTo>
                  <a:lnTo>
                    <a:pt x="522" y="312"/>
                  </a:lnTo>
                  <a:lnTo>
                    <a:pt x="502" y="310"/>
                  </a:lnTo>
                  <a:lnTo>
                    <a:pt x="481" y="307"/>
                  </a:lnTo>
                  <a:lnTo>
                    <a:pt x="461" y="304"/>
                  </a:lnTo>
                  <a:lnTo>
                    <a:pt x="441" y="298"/>
                  </a:lnTo>
                  <a:lnTo>
                    <a:pt x="422" y="292"/>
                  </a:lnTo>
                  <a:lnTo>
                    <a:pt x="401" y="285"/>
                  </a:lnTo>
                  <a:lnTo>
                    <a:pt x="381" y="276"/>
                  </a:lnTo>
                  <a:lnTo>
                    <a:pt x="371" y="272"/>
                  </a:lnTo>
                  <a:lnTo>
                    <a:pt x="362" y="267"/>
                  </a:lnTo>
                  <a:lnTo>
                    <a:pt x="354" y="261"/>
                  </a:lnTo>
                  <a:lnTo>
                    <a:pt x="346" y="255"/>
                  </a:lnTo>
                  <a:lnTo>
                    <a:pt x="339" y="249"/>
                  </a:lnTo>
                  <a:lnTo>
                    <a:pt x="332" y="242"/>
                  </a:lnTo>
                  <a:lnTo>
                    <a:pt x="326" y="234"/>
                  </a:lnTo>
                  <a:lnTo>
                    <a:pt x="321" y="227"/>
                  </a:lnTo>
                  <a:lnTo>
                    <a:pt x="316" y="219"/>
                  </a:lnTo>
                  <a:lnTo>
                    <a:pt x="312" y="211"/>
                  </a:lnTo>
                  <a:lnTo>
                    <a:pt x="309" y="201"/>
                  </a:lnTo>
                  <a:lnTo>
                    <a:pt x="306" y="193"/>
                  </a:lnTo>
                  <a:lnTo>
                    <a:pt x="304" y="183"/>
                  </a:lnTo>
                  <a:lnTo>
                    <a:pt x="302" y="172"/>
                  </a:lnTo>
                  <a:lnTo>
                    <a:pt x="301" y="161"/>
                  </a:lnTo>
                  <a:lnTo>
                    <a:pt x="301" y="151"/>
                  </a:lnTo>
                  <a:lnTo>
                    <a:pt x="301" y="138"/>
                  </a:lnTo>
                  <a:lnTo>
                    <a:pt x="302" y="126"/>
                  </a:lnTo>
                  <a:lnTo>
                    <a:pt x="304" y="115"/>
                  </a:lnTo>
                  <a:lnTo>
                    <a:pt x="307" y="104"/>
                  </a:lnTo>
                  <a:lnTo>
                    <a:pt x="310" y="95"/>
                  </a:lnTo>
                  <a:lnTo>
                    <a:pt x="314" y="86"/>
                  </a:lnTo>
                  <a:lnTo>
                    <a:pt x="319" y="78"/>
                  </a:lnTo>
                  <a:lnTo>
                    <a:pt x="324" y="71"/>
                  </a:lnTo>
                  <a:lnTo>
                    <a:pt x="330" y="65"/>
                  </a:lnTo>
                  <a:lnTo>
                    <a:pt x="337" y="60"/>
                  </a:lnTo>
                  <a:lnTo>
                    <a:pt x="345" y="55"/>
                  </a:lnTo>
                  <a:lnTo>
                    <a:pt x="353" y="51"/>
                  </a:lnTo>
                  <a:lnTo>
                    <a:pt x="362" y="48"/>
                  </a:lnTo>
                  <a:lnTo>
                    <a:pt x="372" y="45"/>
                  </a:lnTo>
                  <a:lnTo>
                    <a:pt x="383" y="44"/>
                  </a:lnTo>
                  <a:lnTo>
                    <a:pt x="394" y="44"/>
                  </a:lnTo>
                  <a:lnTo>
                    <a:pt x="398" y="44"/>
                  </a:lnTo>
                  <a:lnTo>
                    <a:pt x="403" y="45"/>
                  </a:lnTo>
                  <a:lnTo>
                    <a:pt x="415" y="48"/>
                  </a:lnTo>
                  <a:lnTo>
                    <a:pt x="429" y="53"/>
                  </a:lnTo>
                  <a:lnTo>
                    <a:pt x="444" y="60"/>
                  </a:lnTo>
                  <a:lnTo>
                    <a:pt x="462" y="68"/>
                  </a:lnTo>
                  <a:lnTo>
                    <a:pt x="482" y="79"/>
                  </a:lnTo>
                  <a:lnTo>
                    <a:pt x="528" y="105"/>
                  </a:lnTo>
                  <a:lnTo>
                    <a:pt x="577" y="122"/>
                  </a:lnTo>
                  <a:lnTo>
                    <a:pt x="599" y="128"/>
                  </a:lnTo>
                  <a:lnTo>
                    <a:pt x="620" y="133"/>
                  </a:lnTo>
                  <a:lnTo>
                    <a:pt x="641" y="138"/>
                  </a:lnTo>
                  <a:lnTo>
                    <a:pt x="659" y="140"/>
                  </a:lnTo>
                  <a:lnTo>
                    <a:pt x="677" y="142"/>
                  </a:lnTo>
                  <a:lnTo>
                    <a:pt x="694" y="142"/>
                  </a:lnTo>
                  <a:lnTo>
                    <a:pt x="703" y="142"/>
                  </a:lnTo>
                  <a:lnTo>
                    <a:pt x="713" y="140"/>
                  </a:lnTo>
                  <a:lnTo>
                    <a:pt x="722" y="138"/>
                  </a:lnTo>
                  <a:lnTo>
                    <a:pt x="733" y="134"/>
                  </a:lnTo>
                  <a:lnTo>
                    <a:pt x="744" y="128"/>
                  </a:lnTo>
                  <a:lnTo>
                    <a:pt x="756" y="122"/>
                  </a:lnTo>
                  <a:lnTo>
                    <a:pt x="782" y="106"/>
                  </a:lnTo>
                  <a:lnTo>
                    <a:pt x="810" y="86"/>
                  </a:lnTo>
                  <a:lnTo>
                    <a:pt x="840" y="62"/>
                  </a:lnTo>
                  <a:lnTo>
                    <a:pt x="872" y="34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Дмитр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0" y="0"/>
            <a:ext cx="6769080" cy="6516720"/>
            <a:chOff x="0" y="0"/>
            <a:chExt cx="6769080" cy="6516720"/>
          </a:xfrm>
        </p:grpSpPr>
        <p:sp>
          <p:nvSpPr>
            <p:cNvPr id="309" name=""/>
            <p:cNvSpPr/>
            <p:nvPr/>
          </p:nvSpPr>
          <p:spPr>
            <a:xfrm>
              <a:off x="4608360" y="5940360"/>
              <a:ext cx="646200" cy="568440"/>
            </a:xfrm>
            <a:custGeom>
              <a:avLst/>
              <a:gdLst/>
              <a:ahLst/>
              <a:rect l="l" t="t" r="r" b="b"/>
              <a:pathLst>
                <a:path w="1793" h="1577">
                  <a:moveTo>
                    <a:pt x="633" y="353"/>
                  </a:moveTo>
                  <a:lnTo>
                    <a:pt x="650" y="250"/>
                  </a:lnTo>
                  <a:lnTo>
                    <a:pt x="730" y="242"/>
                  </a:lnTo>
                  <a:lnTo>
                    <a:pt x="817" y="230"/>
                  </a:lnTo>
                  <a:lnTo>
                    <a:pt x="913" y="214"/>
                  </a:lnTo>
                  <a:lnTo>
                    <a:pt x="1017" y="193"/>
                  </a:lnTo>
                  <a:lnTo>
                    <a:pt x="966" y="366"/>
                  </a:lnTo>
                  <a:lnTo>
                    <a:pt x="944" y="453"/>
                  </a:lnTo>
                  <a:lnTo>
                    <a:pt x="922" y="540"/>
                  </a:lnTo>
                  <a:lnTo>
                    <a:pt x="840" y="889"/>
                  </a:lnTo>
                  <a:lnTo>
                    <a:pt x="794" y="1066"/>
                  </a:lnTo>
                  <a:lnTo>
                    <a:pt x="770" y="1145"/>
                  </a:lnTo>
                  <a:lnTo>
                    <a:pt x="746" y="1216"/>
                  </a:lnTo>
                  <a:lnTo>
                    <a:pt x="721" y="1281"/>
                  </a:lnTo>
                  <a:lnTo>
                    <a:pt x="695" y="1340"/>
                  </a:lnTo>
                  <a:lnTo>
                    <a:pt x="669" y="1391"/>
                  </a:lnTo>
                  <a:lnTo>
                    <a:pt x="642" y="1436"/>
                  </a:lnTo>
                  <a:lnTo>
                    <a:pt x="682" y="1442"/>
                  </a:lnTo>
                  <a:lnTo>
                    <a:pt x="724" y="1446"/>
                  </a:lnTo>
                  <a:lnTo>
                    <a:pt x="764" y="1448"/>
                  </a:lnTo>
                  <a:lnTo>
                    <a:pt x="804" y="1449"/>
                  </a:lnTo>
                  <a:lnTo>
                    <a:pt x="856" y="1448"/>
                  </a:lnTo>
                  <a:lnTo>
                    <a:pt x="906" y="1444"/>
                  </a:lnTo>
                  <a:lnTo>
                    <a:pt x="955" y="1437"/>
                  </a:lnTo>
                  <a:lnTo>
                    <a:pt x="1001" y="1427"/>
                  </a:lnTo>
                  <a:lnTo>
                    <a:pt x="1046" y="1415"/>
                  </a:lnTo>
                  <a:lnTo>
                    <a:pt x="1089" y="1400"/>
                  </a:lnTo>
                  <a:lnTo>
                    <a:pt x="1131" y="1381"/>
                  </a:lnTo>
                  <a:lnTo>
                    <a:pt x="1170" y="1361"/>
                  </a:lnTo>
                  <a:lnTo>
                    <a:pt x="1209" y="1338"/>
                  </a:lnTo>
                  <a:lnTo>
                    <a:pt x="1244" y="1311"/>
                  </a:lnTo>
                  <a:lnTo>
                    <a:pt x="1278" y="1283"/>
                  </a:lnTo>
                  <a:lnTo>
                    <a:pt x="1310" y="1252"/>
                  </a:lnTo>
                  <a:lnTo>
                    <a:pt x="1340" y="1219"/>
                  </a:lnTo>
                  <a:lnTo>
                    <a:pt x="1367" y="1182"/>
                  </a:lnTo>
                  <a:lnTo>
                    <a:pt x="1393" y="1144"/>
                  </a:lnTo>
                  <a:lnTo>
                    <a:pt x="1418" y="1102"/>
                  </a:lnTo>
                  <a:lnTo>
                    <a:pt x="1439" y="1059"/>
                  </a:lnTo>
                  <a:lnTo>
                    <a:pt x="1458" y="1015"/>
                  </a:lnTo>
                  <a:lnTo>
                    <a:pt x="1474" y="969"/>
                  </a:lnTo>
                  <a:lnTo>
                    <a:pt x="1486" y="923"/>
                  </a:lnTo>
                  <a:lnTo>
                    <a:pt x="1496" y="875"/>
                  </a:lnTo>
                  <a:lnTo>
                    <a:pt x="1503" y="826"/>
                  </a:lnTo>
                  <a:lnTo>
                    <a:pt x="1508" y="777"/>
                  </a:lnTo>
                  <a:lnTo>
                    <a:pt x="1509" y="726"/>
                  </a:lnTo>
                  <a:lnTo>
                    <a:pt x="1507" y="661"/>
                  </a:lnTo>
                  <a:lnTo>
                    <a:pt x="1499" y="598"/>
                  </a:lnTo>
                  <a:lnTo>
                    <a:pt x="1487" y="539"/>
                  </a:lnTo>
                  <a:lnTo>
                    <a:pt x="1471" y="484"/>
                  </a:lnTo>
                  <a:lnTo>
                    <a:pt x="1461" y="458"/>
                  </a:lnTo>
                  <a:lnTo>
                    <a:pt x="1449" y="432"/>
                  </a:lnTo>
                  <a:lnTo>
                    <a:pt x="1437" y="407"/>
                  </a:lnTo>
                  <a:lnTo>
                    <a:pt x="1423" y="383"/>
                  </a:lnTo>
                  <a:lnTo>
                    <a:pt x="1407" y="360"/>
                  </a:lnTo>
                  <a:lnTo>
                    <a:pt x="1391" y="337"/>
                  </a:lnTo>
                  <a:lnTo>
                    <a:pt x="1374" y="316"/>
                  </a:lnTo>
                  <a:lnTo>
                    <a:pt x="1355" y="296"/>
                  </a:lnTo>
                  <a:lnTo>
                    <a:pt x="1336" y="276"/>
                  </a:lnTo>
                  <a:lnTo>
                    <a:pt x="1315" y="257"/>
                  </a:lnTo>
                  <a:lnTo>
                    <a:pt x="1293" y="241"/>
                  </a:lnTo>
                  <a:lnTo>
                    <a:pt x="1272" y="225"/>
                  </a:lnTo>
                  <a:lnTo>
                    <a:pt x="1249" y="210"/>
                  </a:lnTo>
                  <a:lnTo>
                    <a:pt x="1226" y="196"/>
                  </a:lnTo>
                  <a:lnTo>
                    <a:pt x="1202" y="184"/>
                  </a:lnTo>
                  <a:lnTo>
                    <a:pt x="1177" y="174"/>
                  </a:lnTo>
                  <a:lnTo>
                    <a:pt x="1151" y="165"/>
                  </a:lnTo>
                  <a:lnTo>
                    <a:pt x="1124" y="156"/>
                  </a:lnTo>
                  <a:lnTo>
                    <a:pt x="1070" y="144"/>
                  </a:lnTo>
                  <a:lnTo>
                    <a:pt x="1011" y="135"/>
                  </a:lnTo>
                  <a:lnTo>
                    <a:pt x="951" y="133"/>
                  </a:lnTo>
                  <a:lnTo>
                    <a:pt x="898" y="135"/>
                  </a:lnTo>
                  <a:lnTo>
                    <a:pt x="846" y="140"/>
                  </a:lnTo>
                  <a:lnTo>
                    <a:pt x="794" y="148"/>
                  </a:lnTo>
                  <a:lnTo>
                    <a:pt x="744" y="159"/>
                  </a:lnTo>
                  <a:lnTo>
                    <a:pt x="693" y="173"/>
                  </a:lnTo>
                  <a:lnTo>
                    <a:pt x="644" y="190"/>
                  </a:lnTo>
                  <a:lnTo>
                    <a:pt x="596" y="211"/>
                  </a:lnTo>
                  <a:lnTo>
                    <a:pt x="548" y="235"/>
                  </a:lnTo>
                  <a:lnTo>
                    <a:pt x="502" y="261"/>
                  </a:lnTo>
                  <a:lnTo>
                    <a:pt x="458" y="290"/>
                  </a:lnTo>
                  <a:lnTo>
                    <a:pt x="417" y="321"/>
                  </a:lnTo>
                  <a:lnTo>
                    <a:pt x="379" y="354"/>
                  </a:lnTo>
                  <a:lnTo>
                    <a:pt x="342" y="388"/>
                  </a:lnTo>
                  <a:lnTo>
                    <a:pt x="309" y="425"/>
                  </a:lnTo>
                  <a:lnTo>
                    <a:pt x="278" y="464"/>
                  </a:lnTo>
                  <a:lnTo>
                    <a:pt x="249" y="505"/>
                  </a:lnTo>
                  <a:lnTo>
                    <a:pt x="223" y="546"/>
                  </a:lnTo>
                  <a:lnTo>
                    <a:pt x="201" y="587"/>
                  </a:lnTo>
                  <a:lnTo>
                    <a:pt x="182" y="629"/>
                  </a:lnTo>
                  <a:lnTo>
                    <a:pt x="167" y="669"/>
                  </a:lnTo>
                  <a:lnTo>
                    <a:pt x="155" y="709"/>
                  </a:lnTo>
                  <a:lnTo>
                    <a:pt x="146" y="749"/>
                  </a:lnTo>
                  <a:lnTo>
                    <a:pt x="141" y="789"/>
                  </a:lnTo>
                  <a:lnTo>
                    <a:pt x="139" y="827"/>
                  </a:lnTo>
                  <a:lnTo>
                    <a:pt x="139" y="846"/>
                  </a:lnTo>
                  <a:lnTo>
                    <a:pt x="141" y="863"/>
                  </a:lnTo>
                  <a:lnTo>
                    <a:pt x="143" y="879"/>
                  </a:lnTo>
                  <a:lnTo>
                    <a:pt x="146" y="895"/>
                  </a:lnTo>
                  <a:lnTo>
                    <a:pt x="151" y="911"/>
                  </a:lnTo>
                  <a:lnTo>
                    <a:pt x="156" y="926"/>
                  </a:lnTo>
                  <a:lnTo>
                    <a:pt x="162" y="939"/>
                  </a:lnTo>
                  <a:lnTo>
                    <a:pt x="169" y="953"/>
                  </a:lnTo>
                  <a:lnTo>
                    <a:pt x="177" y="965"/>
                  </a:lnTo>
                  <a:lnTo>
                    <a:pt x="186" y="978"/>
                  </a:lnTo>
                  <a:lnTo>
                    <a:pt x="195" y="990"/>
                  </a:lnTo>
                  <a:lnTo>
                    <a:pt x="206" y="1000"/>
                  </a:lnTo>
                  <a:lnTo>
                    <a:pt x="218" y="1011"/>
                  </a:lnTo>
                  <a:lnTo>
                    <a:pt x="230" y="1020"/>
                  </a:lnTo>
                  <a:lnTo>
                    <a:pt x="245" y="1029"/>
                  </a:lnTo>
                  <a:lnTo>
                    <a:pt x="259" y="1037"/>
                  </a:lnTo>
                  <a:lnTo>
                    <a:pt x="282" y="1052"/>
                  </a:lnTo>
                  <a:lnTo>
                    <a:pt x="292" y="1058"/>
                  </a:lnTo>
                  <a:lnTo>
                    <a:pt x="301" y="1065"/>
                  </a:lnTo>
                  <a:lnTo>
                    <a:pt x="309" y="1071"/>
                  </a:lnTo>
                  <a:lnTo>
                    <a:pt x="316" y="1077"/>
                  </a:lnTo>
                  <a:lnTo>
                    <a:pt x="321" y="1083"/>
                  </a:lnTo>
                  <a:lnTo>
                    <a:pt x="326" y="1088"/>
                  </a:lnTo>
                  <a:lnTo>
                    <a:pt x="330" y="1094"/>
                  </a:lnTo>
                  <a:lnTo>
                    <a:pt x="333" y="1100"/>
                  </a:lnTo>
                  <a:lnTo>
                    <a:pt x="335" y="1106"/>
                  </a:lnTo>
                  <a:lnTo>
                    <a:pt x="338" y="1113"/>
                  </a:lnTo>
                  <a:lnTo>
                    <a:pt x="340" y="1120"/>
                  </a:lnTo>
                  <a:lnTo>
                    <a:pt x="341" y="1127"/>
                  </a:lnTo>
                  <a:lnTo>
                    <a:pt x="342" y="1135"/>
                  </a:lnTo>
                  <a:lnTo>
                    <a:pt x="342" y="1142"/>
                  </a:lnTo>
                  <a:lnTo>
                    <a:pt x="342" y="1147"/>
                  </a:lnTo>
                  <a:lnTo>
                    <a:pt x="341" y="1152"/>
                  </a:lnTo>
                  <a:lnTo>
                    <a:pt x="341" y="1157"/>
                  </a:lnTo>
                  <a:lnTo>
                    <a:pt x="340" y="1162"/>
                  </a:lnTo>
                  <a:lnTo>
                    <a:pt x="339" y="1166"/>
                  </a:lnTo>
                  <a:lnTo>
                    <a:pt x="337" y="1171"/>
                  </a:lnTo>
                  <a:lnTo>
                    <a:pt x="336" y="1175"/>
                  </a:lnTo>
                  <a:lnTo>
                    <a:pt x="334" y="1180"/>
                  </a:lnTo>
                  <a:lnTo>
                    <a:pt x="332" y="1185"/>
                  </a:lnTo>
                  <a:lnTo>
                    <a:pt x="330" y="1189"/>
                  </a:lnTo>
                  <a:lnTo>
                    <a:pt x="324" y="1197"/>
                  </a:lnTo>
                  <a:lnTo>
                    <a:pt x="318" y="1205"/>
                  </a:lnTo>
                  <a:lnTo>
                    <a:pt x="311" y="1213"/>
                  </a:lnTo>
                  <a:lnTo>
                    <a:pt x="303" y="1220"/>
                  </a:lnTo>
                  <a:lnTo>
                    <a:pt x="295" y="1227"/>
                  </a:lnTo>
                  <a:lnTo>
                    <a:pt x="291" y="1229"/>
                  </a:lnTo>
                  <a:lnTo>
                    <a:pt x="287" y="1232"/>
                  </a:lnTo>
                  <a:lnTo>
                    <a:pt x="282" y="1234"/>
                  </a:lnTo>
                  <a:lnTo>
                    <a:pt x="278" y="1236"/>
                  </a:lnTo>
                  <a:lnTo>
                    <a:pt x="273" y="1238"/>
                  </a:lnTo>
                  <a:lnTo>
                    <a:pt x="269" y="1240"/>
                  </a:lnTo>
                  <a:lnTo>
                    <a:pt x="264" y="1241"/>
                  </a:lnTo>
                  <a:lnTo>
                    <a:pt x="259" y="1242"/>
                  </a:lnTo>
                  <a:lnTo>
                    <a:pt x="249" y="1244"/>
                  </a:lnTo>
                  <a:lnTo>
                    <a:pt x="239" y="1244"/>
                  </a:lnTo>
                  <a:lnTo>
                    <a:pt x="228" y="1244"/>
                  </a:lnTo>
                  <a:lnTo>
                    <a:pt x="219" y="1242"/>
                  </a:lnTo>
                  <a:lnTo>
                    <a:pt x="209" y="1240"/>
                  </a:lnTo>
                  <a:lnTo>
                    <a:pt x="199" y="1237"/>
                  </a:lnTo>
                  <a:lnTo>
                    <a:pt x="190" y="1234"/>
                  </a:lnTo>
                  <a:lnTo>
                    <a:pt x="180" y="1229"/>
                  </a:lnTo>
                  <a:lnTo>
                    <a:pt x="170" y="1224"/>
                  </a:lnTo>
                  <a:lnTo>
                    <a:pt x="161" y="1218"/>
                  </a:lnTo>
                  <a:lnTo>
                    <a:pt x="151" y="1211"/>
                  </a:lnTo>
                  <a:lnTo>
                    <a:pt x="142" y="1203"/>
                  </a:lnTo>
                  <a:lnTo>
                    <a:pt x="123" y="1186"/>
                  </a:lnTo>
                  <a:lnTo>
                    <a:pt x="103" y="1164"/>
                  </a:lnTo>
                  <a:lnTo>
                    <a:pt x="85" y="1140"/>
                  </a:lnTo>
                  <a:lnTo>
                    <a:pt x="65" y="1108"/>
                  </a:lnTo>
                  <a:lnTo>
                    <a:pt x="48" y="1077"/>
                  </a:lnTo>
                  <a:lnTo>
                    <a:pt x="33" y="1046"/>
                  </a:lnTo>
                  <a:lnTo>
                    <a:pt x="21" y="1013"/>
                  </a:lnTo>
                  <a:lnTo>
                    <a:pt x="12" y="981"/>
                  </a:lnTo>
                  <a:lnTo>
                    <a:pt x="5" y="947"/>
                  </a:lnTo>
                  <a:lnTo>
                    <a:pt x="1" y="914"/>
                  </a:lnTo>
                  <a:lnTo>
                    <a:pt x="0" y="879"/>
                  </a:lnTo>
                  <a:lnTo>
                    <a:pt x="2" y="823"/>
                  </a:lnTo>
                  <a:lnTo>
                    <a:pt x="8" y="769"/>
                  </a:lnTo>
                  <a:lnTo>
                    <a:pt x="18" y="715"/>
                  </a:lnTo>
                  <a:lnTo>
                    <a:pt x="32" y="661"/>
                  </a:lnTo>
                  <a:lnTo>
                    <a:pt x="51" y="607"/>
                  </a:lnTo>
                  <a:lnTo>
                    <a:pt x="73" y="554"/>
                  </a:lnTo>
                  <a:lnTo>
                    <a:pt x="99" y="502"/>
                  </a:lnTo>
                  <a:lnTo>
                    <a:pt x="131" y="450"/>
                  </a:lnTo>
                  <a:lnTo>
                    <a:pt x="165" y="399"/>
                  </a:lnTo>
                  <a:lnTo>
                    <a:pt x="203" y="352"/>
                  </a:lnTo>
                  <a:lnTo>
                    <a:pt x="244" y="307"/>
                  </a:lnTo>
                  <a:lnTo>
                    <a:pt x="288" y="264"/>
                  </a:lnTo>
                  <a:lnTo>
                    <a:pt x="335" y="225"/>
                  </a:lnTo>
                  <a:lnTo>
                    <a:pt x="386" y="187"/>
                  </a:lnTo>
                  <a:lnTo>
                    <a:pt x="439" y="153"/>
                  </a:lnTo>
                  <a:lnTo>
                    <a:pt x="496" y="121"/>
                  </a:lnTo>
                  <a:lnTo>
                    <a:pt x="555" y="93"/>
                  </a:lnTo>
                  <a:lnTo>
                    <a:pt x="616" y="68"/>
                  </a:lnTo>
                  <a:lnTo>
                    <a:pt x="678" y="47"/>
                  </a:lnTo>
                  <a:lnTo>
                    <a:pt x="743" y="30"/>
                  </a:lnTo>
                  <a:lnTo>
                    <a:pt x="808" y="17"/>
                  </a:lnTo>
                  <a:lnTo>
                    <a:pt x="875" y="8"/>
                  </a:lnTo>
                  <a:lnTo>
                    <a:pt x="944" y="2"/>
                  </a:lnTo>
                  <a:lnTo>
                    <a:pt x="1014" y="0"/>
                  </a:lnTo>
                  <a:lnTo>
                    <a:pt x="1101" y="3"/>
                  </a:lnTo>
                  <a:lnTo>
                    <a:pt x="1183" y="12"/>
                  </a:lnTo>
                  <a:lnTo>
                    <a:pt x="1259" y="27"/>
                  </a:lnTo>
                  <a:lnTo>
                    <a:pt x="1333" y="47"/>
                  </a:lnTo>
                  <a:lnTo>
                    <a:pt x="1401" y="75"/>
                  </a:lnTo>
                  <a:lnTo>
                    <a:pt x="1434" y="90"/>
                  </a:lnTo>
                  <a:lnTo>
                    <a:pt x="1465" y="107"/>
                  </a:lnTo>
                  <a:lnTo>
                    <a:pt x="1495" y="126"/>
                  </a:lnTo>
                  <a:lnTo>
                    <a:pt x="1524" y="147"/>
                  </a:lnTo>
                  <a:lnTo>
                    <a:pt x="1553" y="168"/>
                  </a:lnTo>
                  <a:lnTo>
                    <a:pt x="1580" y="191"/>
                  </a:lnTo>
                  <a:lnTo>
                    <a:pt x="1629" y="241"/>
                  </a:lnTo>
                  <a:lnTo>
                    <a:pt x="1652" y="267"/>
                  </a:lnTo>
                  <a:lnTo>
                    <a:pt x="1673" y="294"/>
                  </a:lnTo>
                  <a:lnTo>
                    <a:pt x="1692" y="321"/>
                  </a:lnTo>
                  <a:lnTo>
                    <a:pt x="1709" y="350"/>
                  </a:lnTo>
                  <a:lnTo>
                    <a:pt x="1725" y="379"/>
                  </a:lnTo>
                  <a:lnTo>
                    <a:pt x="1739" y="408"/>
                  </a:lnTo>
                  <a:lnTo>
                    <a:pt x="1751" y="439"/>
                  </a:lnTo>
                  <a:lnTo>
                    <a:pt x="1761" y="470"/>
                  </a:lnTo>
                  <a:lnTo>
                    <a:pt x="1771" y="502"/>
                  </a:lnTo>
                  <a:lnTo>
                    <a:pt x="1779" y="534"/>
                  </a:lnTo>
                  <a:lnTo>
                    <a:pt x="1785" y="568"/>
                  </a:lnTo>
                  <a:lnTo>
                    <a:pt x="1789" y="602"/>
                  </a:lnTo>
                  <a:lnTo>
                    <a:pt x="1792" y="673"/>
                  </a:lnTo>
                  <a:lnTo>
                    <a:pt x="1790" y="739"/>
                  </a:lnTo>
                  <a:lnTo>
                    <a:pt x="1783" y="804"/>
                  </a:lnTo>
                  <a:lnTo>
                    <a:pt x="1771" y="867"/>
                  </a:lnTo>
                  <a:lnTo>
                    <a:pt x="1755" y="929"/>
                  </a:lnTo>
                  <a:lnTo>
                    <a:pt x="1734" y="990"/>
                  </a:lnTo>
                  <a:lnTo>
                    <a:pt x="1709" y="1049"/>
                  </a:lnTo>
                  <a:lnTo>
                    <a:pt x="1680" y="1106"/>
                  </a:lnTo>
                  <a:lnTo>
                    <a:pt x="1645" y="1163"/>
                  </a:lnTo>
                  <a:lnTo>
                    <a:pt x="1608" y="1217"/>
                  </a:lnTo>
                  <a:lnTo>
                    <a:pt x="1569" y="1267"/>
                  </a:lnTo>
                  <a:lnTo>
                    <a:pt x="1527" y="1312"/>
                  </a:lnTo>
                  <a:lnTo>
                    <a:pt x="1484" y="1355"/>
                  </a:lnTo>
                  <a:lnTo>
                    <a:pt x="1440" y="1392"/>
                  </a:lnTo>
                  <a:lnTo>
                    <a:pt x="1392" y="1426"/>
                  </a:lnTo>
                  <a:lnTo>
                    <a:pt x="1343" y="1455"/>
                  </a:lnTo>
                  <a:lnTo>
                    <a:pt x="1292" y="1482"/>
                  </a:lnTo>
                  <a:lnTo>
                    <a:pt x="1241" y="1504"/>
                  </a:lnTo>
                  <a:lnTo>
                    <a:pt x="1190" y="1523"/>
                  </a:lnTo>
                  <a:lnTo>
                    <a:pt x="1138" y="1540"/>
                  </a:lnTo>
                  <a:lnTo>
                    <a:pt x="1087" y="1553"/>
                  </a:lnTo>
                  <a:lnTo>
                    <a:pt x="1034" y="1563"/>
                  </a:lnTo>
                  <a:lnTo>
                    <a:pt x="983" y="1570"/>
                  </a:lnTo>
                  <a:lnTo>
                    <a:pt x="931" y="1575"/>
                  </a:lnTo>
                  <a:lnTo>
                    <a:pt x="880" y="1576"/>
                  </a:lnTo>
                  <a:lnTo>
                    <a:pt x="840" y="1575"/>
                  </a:lnTo>
                  <a:lnTo>
                    <a:pt x="787" y="1573"/>
                  </a:lnTo>
                  <a:lnTo>
                    <a:pt x="644" y="1563"/>
                  </a:lnTo>
                  <a:lnTo>
                    <a:pt x="582" y="1558"/>
                  </a:lnTo>
                  <a:lnTo>
                    <a:pt x="521" y="1555"/>
                  </a:lnTo>
                  <a:lnTo>
                    <a:pt x="460" y="1554"/>
                  </a:lnTo>
                  <a:lnTo>
                    <a:pt x="401" y="1553"/>
                  </a:lnTo>
                  <a:lnTo>
                    <a:pt x="205" y="1557"/>
                  </a:lnTo>
                  <a:lnTo>
                    <a:pt x="243" y="1445"/>
                  </a:lnTo>
                  <a:lnTo>
                    <a:pt x="298" y="1442"/>
                  </a:lnTo>
                  <a:lnTo>
                    <a:pt x="341" y="1438"/>
                  </a:lnTo>
                  <a:lnTo>
                    <a:pt x="358" y="1435"/>
                  </a:lnTo>
                  <a:lnTo>
                    <a:pt x="372" y="1433"/>
                  </a:lnTo>
                  <a:lnTo>
                    <a:pt x="382" y="1431"/>
                  </a:lnTo>
                  <a:lnTo>
                    <a:pt x="386" y="1429"/>
                  </a:lnTo>
                  <a:lnTo>
                    <a:pt x="389" y="1428"/>
                  </a:lnTo>
                  <a:lnTo>
                    <a:pt x="395" y="1425"/>
                  </a:lnTo>
                  <a:lnTo>
                    <a:pt x="400" y="1420"/>
                  </a:lnTo>
                  <a:lnTo>
                    <a:pt x="406" y="1416"/>
                  </a:lnTo>
                  <a:lnTo>
                    <a:pt x="412" y="1410"/>
                  </a:lnTo>
                  <a:lnTo>
                    <a:pt x="418" y="1403"/>
                  </a:lnTo>
                  <a:lnTo>
                    <a:pt x="424" y="1396"/>
                  </a:lnTo>
                  <a:lnTo>
                    <a:pt x="431" y="1387"/>
                  </a:lnTo>
                  <a:lnTo>
                    <a:pt x="437" y="1378"/>
                  </a:lnTo>
                  <a:lnTo>
                    <a:pt x="444" y="1365"/>
                  </a:lnTo>
                  <a:lnTo>
                    <a:pt x="452" y="1347"/>
                  </a:lnTo>
                  <a:lnTo>
                    <a:pt x="472" y="1298"/>
                  </a:lnTo>
                  <a:lnTo>
                    <a:pt x="495" y="1231"/>
                  </a:lnTo>
                  <a:lnTo>
                    <a:pt x="523" y="1147"/>
                  </a:lnTo>
                  <a:lnTo>
                    <a:pt x="609" y="837"/>
                  </a:lnTo>
                  <a:lnTo>
                    <a:pt x="709" y="412"/>
                  </a:lnTo>
                  <a:lnTo>
                    <a:pt x="712" y="399"/>
                  </a:lnTo>
                  <a:lnTo>
                    <a:pt x="714" y="387"/>
                  </a:lnTo>
                  <a:lnTo>
                    <a:pt x="715" y="377"/>
                  </a:lnTo>
                  <a:lnTo>
                    <a:pt x="716" y="372"/>
                  </a:lnTo>
                  <a:lnTo>
                    <a:pt x="716" y="368"/>
                  </a:lnTo>
                  <a:lnTo>
                    <a:pt x="716" y="366"/>
                  </a:lnTo>
                  <a:lnTo>
                    <a:pt x="716" y="364"/>
                  </a:lnTo>
                  <a:lnTo>
                    <a:pt x="715" y="363"/>
                  </a:lnTo>
                  <a:lnTo>
                    <a:pt x="715" y="362"/>
                  </a:lnTo>
                  <a:lnTo>
                    <a:pt x="715" y="361"/>
                  </a:lnTo>
                  <a:lnTo>
                    <a:pt x="715" y="360"/>
                  </a:lnTo>
                  <a:lnTo>
                    <a:pt x="714" y="360"/>
                  </a:lnTo>
                  <a:lnTo>
                    <a:pt x="714" y="359"/>
                  </a:lnTo>
                  <a:lnTo>
                    <a:pt x="713" y="358"/>
                  </a:lnTo>
                  <a:lnTo>
                    <a:pt x="713" y="357"/>
                  </a:lnTo>
                  <a:lnTo>
                    <a:pt x="712" y="356"/>
                  </a:lnTo>
                  <a:lnTo>
                    <a:pt x="711" y="355"/>
                  </a:lnTo>
                  <a:lnTo>
                    <a:pt x="710" y="354"/>
                  </a:lnTo>
                  <a:lnTo>
                    <a:pt x="709" y="354"/>
                  </a:lnTo>
                  <a:lnTo>
                    <a:pt x="709" y="353"/>
                  </a:lnTo>
                  <a:lnTo>
                    <a:pt x="708" y="353"/>
                  </a:lnTo>
                  <a:lnTo>
                    <a:pt x="707" y="352"/>
                  </a:lnTo>
                  <a:lnTo>
                    <a:pt x="705" y="352"/>
                  </a:lnTo>
                  <a:lnTo>
                    <a:pt x="704" y="351"/>
                  </a:lnTo>
                  <a:lnTo>
                    <a:pt x="703" y="351"/>
                  </a:lnTo>
                  <a:lnTo>
                    <a:pt x="701" y="351"/>
                  </a:lnTo>
                  <a:lnTo>
                    <a:pt x="698" y="350"/>
                  </a:lnTo>
                  <a:lnTo>
                    <a:pt x="696" y="350"/>
                  </a:lnTo>
                  <a:lnTo>
                    <a:pt x="693" y="350"/>
                  </a:lnTo>
                  <a:lnTo>
                    <a:pt x="688" y="350"/>
                  </a:lnTo>
                  <a:lnTo>
                    <a:pt x="676" y="351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73640" y="6102360"/>
              <a:ext cx="298440" cy="409680"/>
            </a:xfrm>
            <a:custGeom>
              <a:avLst/>
              <a:gdLst/>
              <a:ahLst/>
              <a:rect l="l" t="t" r="r" b="b"/>
              <a:pathLst>
                <a:path w="831" h="1139">
                  <a:moveTo>
                    <a:pt x="695" y="742"/>
                  </a:moveTo>
                  <a:lnTo>
                    <a:pt x="757" y="825"/>
                  </a:lnTo>
                  <a:lnTo>
                    <a:pt x="678" y="898"/>
                  </a:lnTo>
                  <a:lnTo>
                    <a:pt x="602" y="962"/>
                  </a:lnTo>
                  <a:lnTo>
                    <a:pt x="529" y="1016"/>
                  </a:lnTo>
                  <a:lnTo>
                    <a:pt x="459" y="1060"/>
                  </a:lnTo>
                  <a:lnTo>
                    <a:pt x="392" y="1095"/>
                  </a:lnTo>
                  <a:lnTo>
                    <a:pt x="359" y="1108"/>
                  </a:lnTo>
                  <a:lnTo>
                    <a:pt x="327" y="1119"/>
                  </a:lnTo>
                  <a:lnTo>
                    <a:pt x="297" y="1127"/>
                  </a:lnTo>
                  <a:lnTo>
                    <a:pt x="265" y="1133"/>
                  </a:lnTo>
                  <a:lnTo>
                    <a:pt x="236" y="1137"/>
                  </a:lnTo>
                  <a:lnTo>
                    <a:pt x="207" y="1138"/>
                  </a:lnTo>
                  <a:lnTo>
                    <a:pt x="183" y="1137"/>
                  </a:lnTo>
                  <a:lnTo>
                    <a:pt x="160" y="1134"/>
                  </a:lnTo>
                  <a:lnTo>
                    <a:pt x="148" y="1132"/>
                  </a:lnTo>
                  <a:lnTo>
                    <a:pt x="137" y="1129"/>
                  </a:lnTo>
                  <a:lnTo>
                    <a:pt x="127" y="1125"/>
                  </a:lnTo>
                  <a:lnTo>
                    <a:pt x="118" y="1121"/>
                  </a:lnTo>
                  <a:lnTo>
                    <a:pt x="108" y="1117"/>
                  </a:lnTo>
                  <a:lnTo>
                    <a:pt x="99" y="1112"/>
                  </a:lnTo>
                  <a:lnTo>
                    <a:pt x="91" y="1106"/>
                  </a:lnTo>
                  <a:lnTo>
                    <a:pt x="82" y="1100"/>
                  </a:lnTo>
                  <a:lnTo>
                    <a:pt x="74" y="1094"/>
                  </a:lnTo>
                  <a:lnTo>
                    <a:pt x="67" y="1087"/>
                  </a:lnTo>
                  <a:lnTo>
                    <a:pt x="60" y="1078"/>
                  </a:lnTo>
                  <a:lnTo>
                    <a:pt x="53" y="1070"/>
                  </a:lnTo>
                  <a:lnTo>
                    <a:pt x="47" y="1061"/>
                  </a:lnTo>
                  <a:lnTo>
                    <a:pt x="41" y="1052"/>
                  </a:lnTo>
                  <a:lnTo>
                    <a:pt x="35" y="1042"/>
                  </a:lnTo>
                  <a:lnTo>
                    <a:pt x="29" y="1032"/>
                  </a:lnTo>
                  <a:lnTo>
                    <a:pt x="20" y="1008"/>
                  </a:lnTo>
                  <a:lnTo>
                    <a:pt x="13" y="984"/>
                  </a:lnTo>
                  <a:lnTo>
                    <a:pt x="7" y="957"/>
                  </a:lnTo>
                  <a:lnTo>
                    <a:pt x="3" y="926"/>
                  </a:lnTo>
                  <a:lnTo>
                    <a:pt x="1" y="895"/>
                  </a:lnTo>
                  <a:lnTo>
                    <a:pt x="0" y="860"/>
                  </a:lnTo>
                  <a:lnTo>
                    <a:pt x="3" y="791"/>
                  </a:lnTo>
                  <a:lnTo>
                    <a:pt x="10" y="723"/>
                  </a:lnTo>
                  <a:lnTo>
                    <a:pt x="23" y="654"/>
                  </a:lnTo>
                  <a:lnTo>
                    <a:pt x="42" y="586"/>
                  </a:lnTo>
                  <a:lnTo>
                    <a:pt x="65" y="518"/>
                  </a:lnTo>
                  <a:lnTo>
                    <a:pt x="93" y="450"/>
                  </a:lnTo>
                  <a:lnTo>
                    <a:pt x="127" y="382"/>
                  </a:lnTo>
                  <a:lnTo>
                    <a:pt x="166" y="314"/>
                  </a:lnTo>
                  <a:lnTo>
                    <a:pt x="214" y="240"/>
                  </a:lnTo>
                  <a:lnTo>
                    <a:pt x="265" y="177"/>
                  </a:lnTo>
                  <a:lnTo>
                    <a:pt x="292" y="148"/>
                  </a:lnTo>
                  <a:lnTo>
                    <a:pt x="319" y="123"/>
                  </a:lnTo>
                  <a:lnTo>
                    <a:pt x="346" y="99"/>
                  </a:lnTo>
                  <a:lnTo>
                    <a:pt x="374" y="78"/>
                  </a:lnTo>
                  <a:lnTo>
                    <a:pt x="403" y="60"/>
                  </a:lnTo>
                  <a:lnTo>
                    <a:pt x="433" y="45"/>
                  </a:lnTo>
                  <a:lnTo>
                    <a:pt x="462" y="30"/>
                  </a:lnTo>
                  <a:lnTo>
                    <a:pt x="493" y="19"/>
                  </a:lnTo>
                  <a:lnTo>
                    <a:pt x="525" y="11"/>
                  </a:lnTo>
                  <a:lnTo>
                    <a:pt x="556" y="5"/>
                  </a:lnTo>
                  <a:lnTo>
                    <a:pt x="588" y="1"/>
                  </a:lnTo>
                  <a:lnTo>
                    <a:pt x="621" y="0"/>
                  </a:lnTo>
                  <a:lnTo>
                    <a:pt x="646" y="1"/>
                  </a:lnTo>
                  <a:lnTo>
                    <a:pt x="668" y="3"/>
                  </a:lnTo>
                  <a:lnTo>
                    <a:pt x="689" y="7"/>
                  </a:lnTo>
                  <a:lnTo>
                    <a:pt x="709" y="13"/>
                  </a:lnTo>
                  <a:lnTo>
                    <a:pt x="727" y="20"/>
                  </a:lnTo>
                  <a:lnTo>
                    <a:pt x="736" y="24"/>
                  </a:lnTo>
                  <a:lnTo>
                    <a:pt x="745" y="29"/>
                  </a:lnTo>
                  <a:lnTo>
                    <a:pt x="753" y="34"/>
                  </a:lnTo>
                  <a:lnTo>
                    <a:pt x="761" y="40"/>
                  </a:lnTo>
                  <a:lnTo>
                    <a:pt x="768" y="46"/>
                  </a:lnTo>
                  <a:lnTo>
                    <a:pt x="775" y="52"/>
                  </a:lnTo>
                  <a:lnTo>
                    <a:pt x="782" y="59"/>
                  </a:lnTo>
                  <a:lnTo>
                    <a:pt x="788" y="66"/>
                  </a:lnTo>
                  <a:lnTo>
                    <a:pt x="794" y="73"/>
                  </a:lnTo>
                  <a:lnTo>
                    <a:pt x="799" y="80"/>
                  </a:lnTo>
                  <a:lnTo>
                    <a:pt x="804" y="88"/>
                  </a:lnTo>
                  <a:lnTo>
                    <a:pt x="809" y="96"/>
                  </a:lnTo>
                  <a:lnTo>
                    <a:pt x="813" y="104"/>
                  </a:lnTo>
                  <a:lnTo>
                    <a:pt x="816" y="114"/>
                  </a:lnTo>
                  <a:lnTo>
                    <a:pt x="820" y="123"/>
                  </a:lnTo>
                  <a:lnTo>
                    <a:pt x="822" y="132"/>
                  </a:lnTo>
                  <a:lnTo>
                    <a:pt x="827" y="150"/>
                  </a:lnTo>
                  <a:lnTo>
                    <a:pt x="829" y="170"/>
                  </a:lnTo>
                  <a:lnTo>
                    <a:pt x="830" y="192"/>
                  </a:lnTo>
                  <a:lnTo>
                    <a:pt x="829" y="214"/>
                  </a:lnTo>
                  <a:lnTo>
                    <a:pt x="826" y="236"/>
                  </a:lnTo>
                  <a:lnTo>
                    <a:pt x="822" y="259"/>
                  </a:lnTo>
                  <a:lnTo>
                    <a:pt x="815" y="280"/>
                  </a:lnTo>
                  <a:lnTo>
                    <a:pt x="807" y="302"/>
                  </a:lnTo>
                  <a:lnTo>
                    <a:pt x="796" y="324"/>
                  </a:lnTo>
                  <a:lnTo>
                    <a:pt x="784" y="345"/>
                  </a:lnTo>
                  <a:lnTo>
                    <a:pt x="770" y="366"/>
                  </a:lnTo>
                  <a:lnTo>
                    <a:pt x="754" y="388"/>
                  </a:lnTo>
                  <a:lnTo>
                    <a:pt x="735" y="408"/>
                  </a:lnTo>
                  <a:lnTo>
                    <a:pt x="714" y="428"/>
                  </a:lnTo>
                  <a:lnTo>
                    <a:pt x="691" y="449"/>
                  </a:lnTo>
                  <a:lnTo>
                    <a:pt x="666" y="470"/>
                  </a:lnTo>
                  <a:lnTo>
                    <a:pt x="638" y="490"/>
                  </a:lnTo>
                  <a:lnTo>
                    <a:pt x="607" y="510"/>
                  </a:lnTo>
                  <a:lnTo>
                    <a:pt x="574" y="531"/>
                  </a:lnTo>
                  <a:lnTo>
                    <a:pt x="522" y="559"/>
                  </a:lnTo>
                  <a:lnTo>
                    <a:pt x="452" y="593"/>
                  </a:lnTo>
                  <a:lnTo>
                    <a:pt x="262" y="683"/>
                  </a:lnTo>
                  <a:lnTo>
                    <a:pt x="258" y="709"/>
                  </a:lnTo>
                  <a:lnTo>
                    <a:pt x="256" y="737"/>
                  </a:lnTo>
                  <a:lnTo>
                    <a:pt x="254" y="764"/>
                  </a:lnTo>
                  <a:lnTo>
                    <a:pt x="254" y="793"/>
                  </a:lnTo>
                  <a:lnTo>
                    <a:pt x="254" y="813"/>
                  </a:lnTo>
                  <a:lnTo>
                    <a:pt x="255" y="830"/>
                  </a:lnTo>
                  <a:lnTo>
                    <a:pt x="257" y="846"/>
                  </a:lnTo>
                  <a:lnTo>
                    <a:pt x="259" y="860"/>
                  </a:lnTo>
                  <a:lnTo>
                    <a:pt x="262" y="874"/>
                  </a:lnTo>
                  <a:lnTo>
                    <a:pt x="263" y="879"/>
                  </a:lnTo>
                  <a:lnTo>
                    <a:pt x="265" y="884"/>
                  </a:lnTo>
                  <a:lnTo>
                    <a:pt x="267" y="889"/>
                  </a:lnTo>
                  <a:lnTo>
                    <a:pt x="270" y="893"/>
                  </a:lnTo>
                  <a:lnTo>
                    <a:pt x="272" y="897"/>
                  </a:lnTo>
                  <a:lnTo>
                    <a:pt x="275" y="901"/>
                  </a:lnTo>
                  <a:lnTo>
                    <a:pt x="278" y="904"/>
                  </a:lnTo>
                  <a:lnTo>
                    <a:pt x="281" y="907"/>
                  </a:lnTo>
                  <a:lnTo>
                    <a:pt x="284" y="910"/>
                  </a:lnTo>
                  <a:lnTo>
                    <a:pt x="287" y="912"/>
                  </a:lnTo>
                  <a:lnTo>
                    <a:pt x="290" y="915"/>
                  </a:lnTo>
                  <a:lnTo>
                    <a:pt x="294" y="917"/>
                  </a:lnTo>
                  <a:lnTo>
                    <a:pt x="297" y="919"/>
                  </a:lnTo>
                  <a:lnTo>
                    <a:pt x="301" y="920"/>
                  </a:lnTo>
                  <a:lnTo>
                    <a:pt x="305" y="922"/>
                  </a:lnTo>
                  <a:lnTo>
                    <a:pt x="309" y="923"/>
                  </a:lnTo>
                  <a:lnTo>
                    <a:pt x="313" y="924"/>
                  </a:lnTo>
                  <a:lnTo>
                    <a:pt x="318" y="925"/>
                  </a:lnTo>
                  <a:lnTo>
                    <a:pt x="327" y="927"/>
                  </a:lnTo>
                  <a:lnTo>
                    <a:pt x="337" y="927"/>
                  </a:lnTo>
                  <a:lnTo>
                    <a:pt x="348" y="927"/>
                  </a:lnTo>
                  <a:lnTo>
                    <a:pt x="360" y="925"/>
                  </a:lnTo>
                  <a:lnTo>
                    <a:pt x="372" y="923"/>
                  </a:lnTo>
                  <a:lnTo>
                    <a:pt x="384" y="920"/>
                  </a:lnTo>
                  <a:lnTo>
                    <a:pt x="398" y="917"/>
                  </a:lnTo>
                  <a:lnTo>
                    <a:pt x="411" y="912"/>
                  </a:lnTo>
                  <a:lnTo>
                    <a:pt x="424" y="907"/>
                  </a:lnTo>
                  <a:lnTo>
                    <a:pt x="438" y="901"/>
                  </a:lnTo>
                  <a:lnTo>
                    <a:pt x="459" y="890"/>
                  </a:lnTo>
                  <a:lnTo>
                    <a:pt x="484" y="877"/>
                  </a:lnTo>
                  <a:lnTo>
                    <a:pt x="543" y="842"/>
                  </a:lnTo>
                  <a:lnTo>
                    <a:pt x="612" y="797"/>
                  </a:lnTo>
                  <a:close/>
                  <a:moveTo>
                    <a:pt x="280" y="559"/>
                  </a:moveTo>
                  <a:lnTo>
                    <a:pt x="355" y="516"/>
                  </a:lnTo>
                  <a:lnTo>
                    <a:pt x="422" y="474"/>
                  </a:lnTo>
                  <a:lnTo>
                    <a:pt x="452" y="451"/>
                  </a:lnTo>
                  <a:lnTo>
                    <a:pt x="480" y="430"/>
                  </a:lnTo>
                  <a:lnTo>
                    <a:pt x="506" y="409"/>
                  </a:lnTo>
                  <a:lnTo>
                    <a:pt x="530" y="388"/>
                  </a:lnTo>
                  <a:lnTo>
                    <a:pt x="546" y="368"/>
                  </a:lnTo>
                  <a:lnTo>
                    <a:pt x="560" y="349"/>
                  </a:lnTo>
                  <a:lnTo>
                    <a:pt x="571" y="331"/>
                  </a:lnTo>
                  <a:lnTo>
                    <a:pt x="581" y="312"/>
                  </a:lnTo>
                  <a:lnTo>
                    <a:pt x="588" y="295"/>
                  </a:lnTo>
                  <a:lnTo>
                    <a:pt x="591" y="286"/>
                  </a:lnTo>
                  <a:lnTo>
                    <a:pt x="594" y="278"/>
                  </a:lnTo>
                  <a:lnTo>
                    <a:pt x="596" y="270"/>
                  </a:lnTo>
                  <a:lnTo>
                    <a:pt x="597" y="262"/>
                  </a:lnTo>
                  <a:lnTo>
                    <a:pt x="598" y="255"/>
                  </a:lnTo>
                  <a:lnTo>
                    <a:pt x="598" y="247"/>
                  </a:lnTo>
                  <a:lnTo>
                    <a:pt x="598" y="235"/>
                  </a:lnTo>
                  <a:lnTo>
                    <a:pt x="597" y="226"/>
                  </a:lnTo>
                  <a:lnTo>
                    <a:pt x="595" y="216"/>
                  </a:lnTo>
                  <a:lnTo>
                    <a:pt x="593" y="208"/>
                  </a:lnTo>
                  <a:lnTo>
                    <a:pt x="590" y="200"/>
                  </a:lnTo>
                  <a:lnTo>
                    <a:pt x="588" y="196"/>
                  </a:lnTo>
                  <a:lnTo>
                    <a:pt x="586" y="192"/>
                  </a:lnTo>
                  <a:lnTo>
                    <a:pt x="584" y="189"/>
                  </a:lnTo>
                  <a:lnTo>
                    <a:pt x="582" y="185"/>
                  </a:lnTo>
                  <a:lnTo>
                    <a:pt x="580" y="182"/>
                  </a:lnTo>
                  <a:lnTo>
                    <a:pt x="577" y="179"/>
                  </a:lnTo>
                  <a:lnTo>
                    <a:pt x="574" y="175"/>
                  </a:lnTo>
                  <a:lnTo>
                    <a:pt x="572" y="172"/>
                  </a:lnTo>
                  <a:lnTo>
                    <a:pt x="569" y="170"/>
                  </a:lnTo>
                  <a:lnTo>
                    <a:pt x="566" y="168"/>
                  </a:lnTo>
                  <a:lnTo>
                    <a:pt x="563" y="165"/>
                  </a:lnTo>
                  <a:lnTo>
                    <a:pt x="560" y="163"/>
                  </a:lnTo>
                  <a:lnTo>
                    <a:pt x="556" y="162"/>
                  </a:lnTo>
                  <a:lnTo>
                    <a:pt x="553" y="160"/>
                  </a:lnTo>
                  <a:lnTo>
                    <a:pt x="550" y="159"/>
                  </a:lnTo>
                  <a:lnTo>
                    <a:pt x="546" y="157"/>
                  </a:lnTo>
                  <a:lnTo>
                    <a:pt x="542" y="156"/>
                  </a:lnTo>
                  <a:lnTo>
                    <a:pt x="539" y="156"/>
                  </a:lnTo>
                  <a:lnTo>
                    <a:pt x="535" y="155"/>
                  </a:lnTo>
                  <a:lnTo>
                    <a:pt x="531" y="154"/>
                  </a:lnTo>
                  <a:lnTo>
                    <a:pt x="523" y="154"/>
                  </a:lnTo>
                  <a:lnTo>
                    <a:pt x="518" y="154"/>
                  </a:lnTo>
                  <a:lnTo>
                    <a:pt x="513" y="155"/>
                  </a:lnTo>
                  <a:lnTo>
                    <a:pt x="502" y="156"/>
                  </a:lnTo>
                  <a:lnTo>
                    <a:pt x="490" y="159"/>
                  </a:lnTo>
                  <a:lnTo>
                    <a:pt x="478" y="163"/>
                  </a:lnTo>
                  <a:lnTo>
                    <a:pt x="464" y="168"/>
                  </a:lnTo>
                  <a:lnTo>
                    <a:pt x="450" y="174"/>
                  </a:lnTo>
                  <a:lnTo>
                    <a:pt x="418" y="190"/>
                  </a:lnTo>
                  <a:lnTo>
                    <a:pt x="361" y="287"/>
                  </a:lnTo>
                  <a:lnTo>
                    <a:pt x="334" y="364"/>
                  </a:lnTo>
                  <a:lnTo>
                    <a:pt x="312" y="436"/>
                  </a:lnTo>
                  <a:lnTo>
                    <a:pt x="294" y="501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94400" y="6103800"/>
              <a:ext cx="411120" cy="412920"/>
            </a:xfrm>
            <a:custGeom>
              <a:avLst/>
              <a:gdLst/>
              <a:ahLst/>
              <a:rect l="l" t="t" r="r" b="b"/>
              <a:pathLst>
                <a:path w="1140" h="1147">
                  <a:moveTo>
                    <a:pt x="1139" y="859"/>
                  </a:moveTo>
                  <a:lnTo>
                    <a:pt x="1075" y="926"/>
                  </a:lnTo>
                  <a:lnTo>
                    <a:pt x="1015" y="985"/>
                  </a:lnTo>
                  <a:lnTo>
                    <a:pt x="960" y="1034"/>
                  </a:lnTo>
                  <a:lnTo>
                    <a:pt x="908" y="1074"/>
                  </a:lnTo>
                  <a:lnTo>
                    <a:pt x="860" y="1106"/>
                  </a:lnTo>
                  <a:lnTo>
                    <a:pt x="838" y="1118"/>
                  </a:lnTo>
                  <a:lnTo>
                    <a:pt x="818" y="1128"/>
                  </a:lnTo>
                  <a:lnTo>
                    <a:pt x="798" y="1136"/>
                  </a:lnTo>
                  <a:lnTo>
                    <a:pt x="778" y="1142"/>
                  </a:lnTo>
                  <a:lnTo>
                    <a:pt x="760" y="1145"/>
                  </a:lnTo>
                  <a:lnTo>
                    <a:pt x="743" y="1146"/>
                  </a:lnTo>
                  <a:lnTo>
                    <a:pt x="737" y="1146"/>
                  </a:lnTo>
                  <a:lnTo>
                    <a:pt x="732" y="1145"/>
                  </a:lnTo>
                  <a:lnTo>
                    <a:pt x="726" y="1145"/>
                  </a:lnTo>
                  <a:lnTo>
                    <a:pt x="720" y="1144"/>
                  </a:lnTo>
                  <a:lnTo>
                    <a:pt x="715" y="1142"/>
                  </a:lnTo>
                  <a:lnTo>
                    <a:pt x="710" y="1141"/>
                  </a:lnTo>
                  <a:lnTo>
                    <a:pt x="704" y="1139"/>
                  </a:lnTo>
                  <a:lnTo>
                    <a:pt x="699" y="1136"/>
                  </a:lnTo>
                  <a:lnTo>
                    <a:pt x="689" y="1131"/>
                  </a:lnTo>
                  <a:lnTo>
                    <a:pt x="679" y="1124"/>
                  </a:lnTo>
                  <a:lnTo>
                    <a:pt x="668" y="1117"/>
                  </a:lnTo>
                  <a:lnTo>
                    <a:pt x="659" y="1108"/>
                  </a:lnTo>
                  <a:lnTo>
                    <a:pt x="650" y="1098"/>
                  </a:lnTo>
                  <a:lnTo>
                    <a:pt x="646" y="1093"/>
                  </a:lnTo>
                  <a:lnTo>
                    <a:pt x="643" y="1087"/>
                  </a:lnTo>
                  <a:lnTo>
                    <a:pt x="639" y="1081"/>
                  </a:lnTo>
                  <a:lnTo>
                    <a:pt x="636" y="1074"/>
                  </a:lnTo>
                  <a:lnTo>
                    <a:pt x="633" y="1068"/>
                  </a:lnTo>
                  <a:lnTo>
                    <a:pt x="631" y="1062"/>
                  </a:lnTo>
                  <a:lnTo>
                    <a:pt x="626" y="1049"/>
                  </a:lnTo>
                  <a:lnTo>
                    <a:pt x="623" y="1035"/>
                  </a:lnTo>
                  <a:lnTo>
                    <a:pt x="622" y="1020"/>
                  </a:lnTo>
                  <a:lnTo>
                    <a:pt x="621" y="1003"/>
                  </a:lnTo>
                  <a:lnTo>
                    <a:pt x="621" y="986"/>
                  </a:lnTo>
                  <a:lnTo>
                    <a:pt x="623" y="967"/>
                  </a:lnTo>
                  <a:lnTo>
                    <a:pt x="625" y="948"/>
                  </a:lnTo>
                  <a:lnTo>
                    <a:pt x="628" y="926"/>
                  </a:lnTo>
                  <a:lnTo>
                    <a:pt x="635" y="882"/>
                  </a:lnTo>
                  <a:lnTo>
                    <a:pt x="646" y="832"/>
                  </a:lnTo>
                  <a:lnTo>
                    <a:pt x="706" y="617"/>
                  </a:lnTo>
                  <a:lnTo>
                    <a:pt x="408" y="617"/>
                  </a:lnTo>
                  <a:lnTo>
                    <a:pt x="292" y="1103"/>
                  </a:lnTo>
                  <a:lnTo>
                    <a:pt x="60" y="1103"/>
                  </a:lnTo>
                  <a:lnTo>
                    <a:pt x="61" y="1091"/>
                  </a:lnTo>
                  <a:lnTo>
                    <a:pt x="63" y="1077"/>
                  </a:lnTo>
                  <a:lnTo>
                    <a:pt x="68" y="1047"/>
                  </a:lnTo>
                  <a:lnTo>
                    <a:pt x="76" y="1011"/>
                  </a:lnTo>
                  <a:lnTo>
                    <a:pt x="88" y="969"/>
                  </a:lnTo>
                  <a:lnTo>
                    <a:pt x="98" y="932"/>
                  </a:lnTo>
                  <a:lnTo>
                    <a:pt x="112" y="878"/>
                  </a:lnTo>
                  <a:lnTo>
                    <a:pt x="153" y="712"/>
                  </a:lnTo>
                  <a:lnTo>
                    <a:pt x="264" y="265"/>
                  </a:lnTo>
                  <a:lnTo>
                    <a:pt x="267" y="250"/>
                  </a:lnTo>
                  <a:lnTo>
                    <a:pt x="270" y="236"/>
                  </a:lnTo>
                  <a:lnTo>
                    <a:pt x="271" y="225"/>
                  </a:lnTo>
                  <a:lnTo>
                    <a:pt x="272" y="220"/>
                  </a:lnTo>
                  <a:lnTo>
                    <a:pt x="272" y="216"/>
                  </a:lnTo>
                  <a:lnTo>
                    <a:pt x="272" y="211"/>
                  </a:lnTo>
                  <a:lnTo>
                    <a:pt x="272" y="207"/>
                  </a:lnTo>
                  <a:lnTo>
                    <a:pt x="272" y="206"/>
                  </a:lnTo>
                  <a:lnTo>
                    <a:pt x="272" y="205"/>
                  </a:lnTo>
                  <a:lnTo>
                    <a:pt x="272" y="205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71" y="204"/>
                  </a:lnTo>
                  <a:lnTo>
                    <a:pt x="268" y="204"/>
                  </a:lnTo>
                  <a:lnTo>
                    <a:pt x="265" y="205"/>
                  </a:lnTo>
                  <a:lnTo>
                    <a:pt x="259" y="206"/>
                  </a:lnTo>
                  <a:lnTo>
                    <a:pt x="251" y="209"/>
                  </a:lnTo>
                  <a:lnTo>
                    <a:pt x="243" y="212"/>
                  </a:lnTo>
                  <a:lnTo>
                    <a:pt x="224" y="223"/>
                  </a:lnTo>
                  <a:lnTo>
                    <a:pt x="201" y="237"/>
                  </a:lnTo>
                  <a:lnTo>
                    <a:pt x="176" y="257"/>
                  </a:lnTo>
                  <a:lnTo>
                    <a:pt x="148" y="279"/>
                  </a:lnTo>
                  <a:lnTo>
                    <a:pt x="81" y="338"/>
                  </a:lnTo>
                  <a:lnTo>
                    <a:pt x="0" y="272"/>
                  </a:lnTo>
                  <a:lnTo>
                    <a:pt x="67" y="208"/>
                  </a:lnTo>
                  <a:lnTo>
                    <a:pt x="130" y="153"/>
                  </a:lnTo>
                  <a:lnTo>
                    <a:pt x="188" y="107"/>
                  </a:lnTo>
                  <a:lnTo>
                    <a:pt x="244" y="68"/>
                  </a:lnTo>
                  <a:lnTo>
                    <a:pt x="294" y="39"/>
                  </a:lnTo>
                  <a:lnTo>
                    <a:pt x="317" y="26"/>
                  </a:lnTo>
                  <a:lnTo>
                    <a:pt x="341" y="17"/>
                  </a:lnTo>
                  <a:lnTo>
                    <a:pt x="362" y="9"/>
                  </a:lnTo>
                  <a:lnTo>
                    <a:pt x="382" y="4"/>
                  </a:lnTo>
                  <a:lnTo>
                    <a:pt x="402" y="1"/>
                  </a:lnTo>
                  <a:lnTo>
                    <a:pt x="420" y="0"/>
                  </a:lnTo>
                  <a:lnTo>
                    <a:pt x="431" y="0"/>
                  </a:lnTo>
                  <a:lnTo>
                    <a:pt x="443" y="2"/>
                  </a:lnTo>
                  <a:lnTo>
                    <a:pt x="453" y="4"/>
                  </a:lnTo>
                  <a:lnTo>
                    <a:pt x="462" y="7"/>
                  </a:lnTo>
                  <a:lnTo>
                    <a:pt x="471" y="11"/>
                  </a:lnTo>
                  <a:lnTo>
                    <a:pt x="479" y="16"/>
                  </a:lnTo>
                  <a:lnTo>
                    <a:pt x="486" y="22"/>
                  </a:lnTo>
                  <a:lnTo>
                    <a:pt x="492" y="29"/>
                  </a:lnTo>
                  <a:lnTo>
                    <a:pt x="498" y="37"/>
                  </a:lnTo>
                  <a:lnTo>
                    <a:pt x="503" y="46"/>
                  </a:lnTo>
                  <a:lnTo>
                    <a:pt x="507" y="55"/>
                  </a:lnTo>
                  <a:lnTo>
                    <a:pt x="510" y="66"/>
                  </a:lnTo>
                  <a:lnTo>
                    <a:pt x="513" y="77"/>
                  </a:lnTo>
                  <a:lnTo>
                    <a:pt x="515" y="89"/>
                  </a:lnTo>
                  <a:lnTo>
                    <a:pt x="516" y="102"/>
                  </a:lnTo>
                  <a:lnTo>
                    <a:pt x="516" y="117"/>
                  </a:lnTo>
                  <a:lnTo>
                    <a:pt x="515" y="142"/>
                  </a:lnTo>
                  <a:lnTo>
                    <a:pt x="511" y="174"/>
                  </a:lnTo>
                  <a:lnTo>
                    <a:pt x="505" y="211"/>
                  </a:lnTo>
                  <a:lnTo>
                    <a:pt x="496" y="255"/>
                  </a:lnTo>
                  <a:lnTo>
                    <a:pt x="470" y="360"/>
                  </a:lnTo>
                  <a:lnTo>
                    <a:pt x="434" y="489"/>
                  </a:lnTo>
                  <a:lnTo>
                    <a:pt x="733" y="489"/>
                  </a:lnTo>
                  <a:lnTo>
                    <a:pt x="853" y="31"/>
                  </a:lnTo>
                  <a:lnTo>
                    <a:pt x="1076" y="31"/>
                  </a:lnTo>
                  <a:lnTo>
                    <a:pt x="958" y="500"/>
                  </a:lnTo>
                  <a:lnTo>
                    <a:pt x="881" y="794"/>
                  </a:lnTo>
                  <a:lnTo>
                    <a:pt x="862" y="881"/>
                  </a:lnTo>
                  <a:lnTo>
                    <a:pt x="858" y="909"/>
                  </a:lnTo>
                  <a:lnTo>
                    <a:pt x="856" y="919"/>
                  </a:lnTo>
                  <a:lnTo>
                    <a:pt x="856" y="926"/>
                  </a:lnTo>
                  <a:lnTo>
                    <a:pt x="856" y="931"/>
                  </a:lnTo>
                  <a:lnTo>
                    <a:pt x="857" y="936"/>
                  </a:lnTo>
                  <a:lnTo>
                    <a:pt x="857" y="941"/>
                  </a:lnTo>
                  <a:lnTo>
                    <a:pt x="858" y="943"/>
                  </a:lnTo>
                  <a:lnTo>
                    <a:pt x="858" y="944"/>
                  </a:lnTo>
                  <a:lnTo>
                    <a:pt x="859" y="945"/>
                  </a:lnTo>
                  <a:lnTo>
                    <a:pt x="860" y="947"/>
                  </a:lnTo>
                  <a:lnTo>
                    <a:pt x="860" y="948"/>
                  </a:lnTo>
                  <a:lnTo>
                    <a:pt x="861" y="949"/>
                  </a:lnTo>
                  <a:lnTo>
                    <a:pt x="861" y="949"/>
                  </a:lnTo>
                  <a:lnTo>
                    <a:pt x="862" y="949"/>
                  </a:lnTo>
                  <a:lnTo>
                    <a:pt x="862" y="949"/>
                  </a:lnTo>
                  <a:lnTo>
                    <a:pt x="863" y="950"/>
                  </a:lnTo>
                  <a:lnTo>
                    <a:pt x="863" y="950"/>
                  </a:lnTo>
                  <a:lnTo>
                    <a:pt x="864" y="950"/>
                  </a:lnTo>
                  <a:lnTo>
                    <a:pt x="864" y="950"/>
                  </a:lnTo>
                  <a:lnTo>
                    <a:pt x="865" y="950"/>
                  </a:lnTo>
                  <a:lnTo>
                    <a:pt x="867" y="950"/>
                  </a:lnTo>
                  <a:lnTo>
                    <a:pt x="870" y="949"/>
                  </a:lnTo>
                  <a:lnTo>
                    <a:pt x="876" y="947"/>
                  </a:lnTo>
                  <a:lnTo>
                    <a:pt x="883" y="944"/>
                  </a:lnTo>
                  <a:lnTo>
                    <a:pt x="891" y="940"/>
                  </a:lnTo>
                  <a:lnTo>
                    <a:pt x="911" y="926"/>
                  </a:lnTo>
                  <a:lnTo>
                    <a:pt x="934" y="909"/>
                  </a:lnTo>
                  <a:lnTo>
                    <a:pt x="994" y="857"/>
                  </a:lnTo>
                  <a:lnTo>
                    <a:pt x="1072" y="786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24600" y="6103800"/>
              <a:ext cx="411120" cy="412920"/>
            </a:xfrm>
            <a:custGeom>
              <a:avLst/>
              <a:gdLst/>
              <a:ahLst/>
              <a:rect l="l" t="t" r="r" b="b"/>
              <a:pathLst>
                <a:path w="1140" h="1147">
                  <a:moveTo>
                    <a:pt x="853" y="31"/>
                  </a:moveTo>
                  <a:lnTo>
                    <a:pt x="1078" y="31"/>
                  </a:lnTo>
                  <a:lnTo>
                    <a:pt x="959" y="501"/>
                  </a:lnTo>
                  <a:lnTo>
                    <a:pt x="882" y="795"/>
                  </a:lnTo>
                  <a:lnTo>
                    <a:pt x="863" y="883"/>
                  </a:lnTo>
                  <a:lnTo>
                    <a:pt x="859" y="910"/>
                  </a:lnTo>
                  <a:lnTo>
                    <a:pt x="857" y="920"/>
                  </a:lnTo>
                  <a:lnTo>
                    <a:pt x="857" y="928"/>
                  </a:lnTo>
                  <a:lnTo>
                    <a:pt x="857" y="931"/>
                  </a:lnTo>
                  <a:lnTo>
                    <a:pt x="857" y="934"/>
                  </a:lnTo>
                  <a:lnTo>
                    <a:pt x="857" y="937"/>
                  </a:lnTo>
                  <a:lnTo>
                    <a:pt x="858" y="941"/>
                  </a:lnTo>
                  <a:lnTo>
                    <a:pt x="858" y="943"/>
                  </a:lnTo>
                  <a:lnTo>
                    <a:pt x="858" y="944"/>
                  </a:lnTo>
                  <a:lnTo>
                    <a:pt x="859" y="945"/>
                  </a:lnTo>
                  <a:lnTo>
                    <a:pt x="859" y="945"/>
                  </a:lnTo>
                  <a:lnTo>
                    <a:pt x="859" y="946"/>
                  </a:lnTo>
                  <a:lnTo>
                    <a:pt x="860" y="947"/>
                  </a:lnTo>
                  <a:lnTo>
                    <a:pt x="860" y="947"/>
                  </a:lnTo>
                  <a:lnTo>
                    <a:pt x="860" y="947"/>
                  </a:lnTo>
                  <a:lnTo>
                    <a:pt x="861" y="948"/>
                  </a:lnTo>
                  <a:lnTo>
                    <a:pt x="862" y="949"/>
                  </a:lnTo>
                  <a:lnTo>
                    <a:pt x="863" y="950"/>
                  </a:lnTo>
                  <a:lnTo>
                    <a:pt x="864" y="950"/>
                  </a:lnTo>
                  <a:lnTo>
                    <a:pt x="864" y="951"/>
                  </a:lnTo>
                  <a:lnTo>
                    <a:pt x="865" y="951"/>
                  </a:lnTo>
                  <a:lnTo>
                    <a:pt x="865" y="951"/>
                  </a:lnTo>
                  <a:lnTo>
                    <a:pt x="865" y="951"/>
                  </a:lnTo>
                  <a:lnTo>
                    <a:pt x="866" y="951"/>
                  </a:lnTo>
                  <a:lnTo>
                    <a:pt x="866" y="951"/>
                  </a:lnTo>
                  <a:lnTo>
                    <a:pt x="866" y="951"/>
                  </a:lnTo>
                  <a:lnTo>
                    <a:pt x="868" y="951"/>
                  </a:lnTo>
                  <a:lnTo>
                    <a:pt x="869" y="951"/>
                  </a:lnTo>
                  <a:lnTo>
                    <a:pt x="873" y="950"/>
                  </a:lnTo>
                  <a:lnTo>
                    <a:pt x="877" y="949"/>
                  </a:lnTo>
                  <a:lnTo>
                    <a:pt x="881" y="948"/>
                  </a:lnTo>
                  <a:lnTo>
                    <a:pt x="885" y="946"/>
                  </a:lnTo>
                  <a:lnTo>
                    <a:pt x="889" y="944"/>
                  </a:lnTo>
                  <a:lnTo>
                    <a:pt x="895" y="942"/>
                  </a:lnTo>
                  <a:lnTo>
                    <a:pt x="899" y="938"/>
                  </a:lnTo>
                  <a:lnTo>
                    <a:pt x="911" y="930"/>
                  </a:lnTo>
                  <a:lnTo>
                    <a:pt x="925" y="919"/>
                  </a:lnTo>
                  <a:lnTo>
                    <a:pt x="963" y="887"/>
                  </a:lnTo>
                  <a:lnTo>
                    <a:pt x="1073" y="787"/>
                  </a:lnTo>
                  <a:lnTo>
                    <a:pt x="1139" y="860"/>
                  </a:lnTo>
                  <a:lnTo>
                    <a:pt x="1074" y="927"/>
                  </a:lnTo>
                  <a:lnTo>
                    <a:pt x="1015" y="985"/>
                  </a:lnTo>
                  <a:lnTo>
                    <a:pt x="959" y="1035"/>
                  </a:lnTo>
                  <a:lnTo>
                    <a:pt x="908" y="1075"/>
                  </a:lnTo>
                  <a:lnTo>
                    <a:pt x="860" y="1106"/>
                  </a:lnTo>
                  <a:lnTo>
                    <a:pt x="839" y="1118"/>
                  </a:lnTo>
                  <a:lnTo>
                    <a:pt x="818" y="1128"/>
                  </a:lnTo>
                  <a:lnTo>
                    <a:pt x="798" y="1136"/>
                  </a:lnTo>
                  <a:lnTo>
                    <a:pt x="779" y="1142"/>
                  </a:lnTo>
                  <a:lnTo>
                    <a:pt x="761" y="1145"/>
                  </a:lnTo>
                  <a:lnTo>
                    <a:pt x="744" y="1146"/>
                  </a:lnTo>
                  <a:lnTo>
                    <a:pt x="732" y="1145"/>
                  </a:lnTo>
                  <a:lnTo>
                    <a:pt x="726" y="1145"/>
                  </a:lnTo>
                  <a:lnTo>
                    <a:pt x="720" y="1144"/>
                  </a:lnTo>
                  <a:lnTo>
                    <a:pt x="714" y="1142"/>
                  </a:lnTo>
                  <a:lnTo>
                    <a:pt x="708" y="1141"/>
                  </a:lnTo>
                  <a:lnTo>
                    <a:pt x="703" y="1139"/>
                  </a:lnTo>
                  <a:lnTo>
                    <a:pt x="697" y="1136"/>
                  </a:lnTo>
                  <a:lnTo>
                    <a:pt x="692" y="1134"/>
                  </a:lnTo>
                  <a:lnTo>
                    <a:pt x="687" y="1131"/>
                  </a:lnTo>
                  <a:lnTo>
                    <a:pt x="682" y="1128"/>
                  </a:lnTo>
                  <a:lnTo>
                    <a:pt x="677" y="1124"/>
                  </a:lnTo>
                  <a:lnTo>
                    <a:pt x="668" y="1117"/>
                  </a:lnTo>
                  <a:lnTo>
                    <a:pt x="659" y="1108"/>
                  </a:lnTo>
                  <a:lnTo>
                    <a:pt x="654" y="1103"/>
                  </a:lnTo>
                  <a:lnTo>
                    <a:pt x="650" y="1098"/>
                  </a:lnTo>
                  <a:lnTo>
                    <a:pt x="646" y="1093"/>
                  </a:lnTo>
                  <a:lnTo>
                    <a:pt x="643" y="1088"/>
                  </a:lnTo>
                  <a:lnTo>
                    <a:pt x="640" y="1082"/>
                  </a:lnTo>
                  <a:lnTo>
                    <a:pt x="637" y="1075"/>
                  </a:lnTo>
                  <a:lnTo>
                    <a:pt x="632" y="1063"/>
                  </a:lnTo>
                  <a:lnTo>
                    <a:pt x="628" y="1049"/>
                  </a:lnTo>
                  <a:lnTo>
                    <a:pt x="625" y="1035"/>
                  </a:lnTo>
                  <a:lnTo>
                    <a:pt x="624" y="1020"/>
                  </a:lnTo>
                  <a:lnTo>
                    <a:pt x="623" y="1003"/>
                  </a:lnTo>
                  <a:lnTo>
                    <a:pt x="623" y="986"/>
                  </a:lnTo>
                  <a:lnTo>
                    <a:pt x="625" y="968"/>
                  </a:lnTo>
                  <a:lnTo>
                    <a:pt x="627" y="950"/>
                  </a:lnTo>
                  <a:lnTo>
                    <a:pt x="630" y="931"/>
                  </a:lnTo>
                  <a:lnTo>
                    <a:pt x="634" y="912"/>
                  </a:lnTo>
                  <a:lnTo>
                    <a:pt x="638" y="893"/>
                  </a:lnTo>
                  <a:lnTo>
                    <a:pt x="644" y="874"/>
                  </a:lnTo>
                  <a:lnTo>
                    <a:pt x="650" y="854"/>
                  </a:lnTo>
                  <a:lnTo>
                    <a:pt x="632" y="885"/>
                  </a:lnTo>
                  <a:lnTo>
                    <a:pt x="611" y="914"/>
                  </a:lnTo>
                  <a:lnTo>
                    <a:pt x="586" y="943"/>
                  </a:lnTo>
                  <a:lnTo>
                    <a:pt x="559" y="971"/>
                  </a:lnTo>
                  <a:lnTo>
                    <a:pt x="527" y="998"/>
                  </a:lnTo>
                  <a:lnTo>
                    <a:pt x="493" y="1025"/>
                  </a:lnTo>
                  <a:lnTo>
                    <a:pt x="457" y="1050"/>
                  </a:lnTo>
                  <a:lnTo>
                    <a:pt x="416" y="1075"/>
                  </a:lnTo>
                  <a:lnTo>
                    <a:pt x="388" y="1091"/>
                  </a:lnTo>
                  <a:lnTo>
                    <a:pt x="361" y="1105"/>
                  </a:lnTo>
                  <a:lnTo>
                    <a:pt x="335" y="1116"/>
                  </a:lnTo>
                  <a:lnTo>
                    <a:pt x="310" y="1126"/>
                  </a:lnTo>
                  <a:lnTo>
                    <a:pt x="284" y="1133"/>
                  </a:lnTo>
                  <a:lnTo>
                    <a:pt x="261" y="1138"/>
                  </a:lnTo>
                  <a:lnTo>
                    <a:pt x="238" y="1141"/>
                  </a:lnTo>
                  <a:lnTo>
                    <a:pt x="216" y="1142"/>
                  </a:lnTo>
                  <a:lnTo>
                    <a:pt x="203" y="1141"/>
                  </a:lnTo>
                  <a:lnTo>
                    <a:pt x="190" y="1140"/>
                  </a:lnTo>
                  <a:lnTo>
                    <a:pt x="183" y="1138"/>
                  </a:lnTo>
                  <a:lnTo>
                    <a:pt x="177" y="1137"/>
                  </a:lnTo>
                  <a:lnTo>
                    <a:pt x="171" y="1135"/>
                  </a:lnTo>
                  <a:lnTo>
                    <a:pt x="166" y="1133"/>
                  </a:lnTo>
                  <a:lnTo>
                    <a:pt x="160" y="1131"/>
                  </a:lnTo>
                  <a:lnTo>
                    <a:pt x="155" y="1128"/>
                  </a:lnTo>
                  <a:lnTo>
                    <a:pt x="150" y="1125"/>
                  </a:lnTo>
                  <a:lnTo>
                    <a:pt x="145" y="1122"/>
                  </a:lnTo>
                  <a:lnTo>
                    <a:pt x="141" y="1118"/>
                  </a:lnTo>
                  <a:lnTo>
                    <a:pt x="136" y="1114"/>
                  </a:lnTo>
                  <a:lnTo>
                    <a:pt x="132" y="1110"/>
                  </a:lnTo>
                  <a:lnTo>
                    <a:pt x="128" y="1106"/>
                  </a:lnTo>
                  <a:lnTo>
                    <a:pt x="124" y="1101"/>
                  </a:lnTo>
                  <a:lnTo>
                    <a:pt x="121" y="1096"/>
                  </a:lnTo>
                  <a:lnTo>
                    <a:pt x="117" y="1091"/>
                  </a:lnTo>
                  <a:lnTo>
                    <a:pt x="114" y="1086"/>
                  </a:lnTo>
                  <a:lnTo>
                    <a:pt x="112" y="1080"/>
                  </a:lnTo>
                  <a:lnTo>
                    <a:pt x="109" y="1073"/>
                  </a:lnTo>
                  <a:lnTo>
                    <a:pt x="105" y="1060"/>
                  </a:lnTo>
                  <a:lnTo>
                    <a:pt x="101" y="1046"/>
                  </a:lnTo>
                  <a:lnTo>
                    <a:pt x="99" y="1031"/>
                  </a:lnTo>
                  <a:lnTo>
                    <a:pt x="97" y="1014"/>
                  </a:lnTo>
                  <a:lnTo>
                    <a:pt x="97" y="996"/>
                  </a:lnTo>
                  <a:lnTo>
                    <a:pt x="98" y="971"/>
                  </a:lnTo>
                  <a:lnTo>
                    <a:pt x="100" y="944"/>
                  </a:lnTo>
                  <a:lnTo>
                    <a:pt x="103" y="915"/>
                  </a:lnTo>
                  <a:lnTo>
                    <a:pt x="108" y="887"/>
                  </a:lnTo>
                  <a:lnTo>
                    <a:pt x="119" y="837"/>
                  </a:lnTo>
                  <a:lnTo>
                    <a:pt x="137" y="767"/>
                  </a:lnTo>
                  <a:lnTo>
                    <a:pt x="191" y="568"/>
                  </a:lnTo>
                  <a:lnTo>
                    <a:pt x="227" y="434"/>
                  </a:lnTo>
                  <a:lnTo>
                    <a:pt x="253" y="331"/>
                  </a:lnTo>
                  <a:lnTo>
                    <a:pt x="268" y="257"/>
                  </a:lnTo>
                  <a:lnTo>
                    <a:pt x="272" y="231"/>
                  </a:lnTo>
                  <a:lnTo>
                    <a:pt x="273" y="222"/>
                  </a:lnTo>
                  <a:lnTo>
                    <a:pt x="273" y="214"/>
                  </a:lnTo>
                  <a:lnTo>
                    <a:pt x="273" y="204"/>
                  </a:lnTo>
                  <a:lnTo>
                    <a:pt x="271" y="204"/>
                  </a:lnTo>
                  <a:lnTo>
                    <a:pt x="269" y="204"/>
                  </a:lnTo>
                  <a:lnTo>
                    <a:pt x="267" y="205"/>
                  </a:lnTo>
                  <a:lnTo>
                    <a:pt x="265" y="205"/>
                  </a:lnTo>
                  <a:lnTo>
                    <a:pt x="260" y="207"/>
                  </a:lnTo>
                  <a:lnTo>
                    <a:pt x="254" y="209"/>
                  </a:lnTo>
                  <a:lnTo>
                    <a:pt x="247" y="212"/>
                  </a:lnTo>
                  <a:lnTo>
                    <a:pt x="240" y="216"/>
                  </a:lnTo>
                  <a:lnTo>
                    <a:pt x="224" y="225"/>
                  </a:lnTo>
                  <a:lnTo>
                    <a:pt x="214" y="231"/>
                  </a:lnTo>
                  <a:lnTo>
                    <a:pt x="202" y="239"/>
                  </a:lnTo>
                  <a:lnTo>
                    <a:pt x="171" y="264"/>
                  </a:lnTo>
                  <a:lnTo>
                    <a:pt x="131" y="296"/>
                  </a:lnTo>
                  <a:lnTo>
                    <a:pt x="82" y="338"/>
                  </a:lnTo>
                  <a:lnTo>
                    <a:pt x="0" y="271"/>
                  </a:lnTo>
                  <a:lnTo>
                    <a:pt x="84" y="192"/>
                  </a:lnTo>
                  <a:lnTo>
                    <a:pt x="156" y="129"/>
                  </a:lnTo>
                  <a:lnTo>
                    <a:pt x="190" y="102"/>
                  </a:lnTo>
                  <a:lnTo>
                    <a:pt x="219" y="81"/>
                  </a:lnTo>
                  <a:lnTo>
                    <a:pt x="246" y="63"/>
                  </a:lnTo>
                  <a:lnTo>
                    <a:pt x="270" y="49"/>
                  </a:lnTo>
                  <a:lnTo>
                    <a:pt x="292" y="38"/>
                  </a:lnTo>
                  <a:lnTo>
                    <a:pt x="314" y="27"/>
                  </a:lnTo>
                  <a:lnTo>
                    <a:pt x="335" y="19"/>
                  </a:lnTo>
                  <a:lnTo>
                    <a:pt x="354" y="12"/>
                  </a:lnTo>
                  <a:lnTo>
                    <a:pt x="372" y="7"/>
                  </a:lnTo>
                  <a:lnTo>
                    <a:pt x="390" y="3"/>
                  </a:lnTo>
                  <a:lnTo>
                    <a:pt x="406" y="1"/>
                  </a:lnTo>
                  <a:lnTo>
                    <a:pt x="421" y="0"/>
                  </a:lnTo>
                  <a:lnTo>
                    <a:pt x="432" y="0"/>
                  </a:lnTo>
                  <a:lnTo>
                    <a:pt x="437" y="1"/>
                  </a:lnTo>
                  <a:lnTo>
                    <a:pt x="442" y="2"/>
                  </a:lnTo>
                  <a:lnTo>
                    <a:pt x="447" y="3"/>
                  </a:lnTo>
                  <a:lnTo>
                    <a:pt x="451" y="4"/>
                  </a:lnTo>
                  <a:lnTo>
                    <a:pt x="455" y="6"/>
                  </a:lnTo>
                  <a:lnTo>
                    <a:pt x="460" y="8"/>
                  </a:lnTo>
                  <a:lnTo>
                    <a:pt x="464" y="9"/>
                  </a:lnTo>
                  <a:lnTo>
                    <a:pt x="468" y="12"/>
                  </a:lnTo>
                  <a:lnTo>
                    <a:pt x="472" y="14"/>
                  </a:lnTo>
                  <a:lnTo>
                    <a:pt x="476" y="17"/>
                  </a:lnTo>
                  <a:lnTo>
                    <a:pt x="479" y="20"/>
                  </a:lnTo>
                  <a:lnTo>
                    <a:pt x="483" y="23"/>
                  </a:lnTo>
                  <a:lnTo>
                    <a:pt x="490" y="30"/>
                  </a:lnTo>
                  <a:lnTo>
                    <a:pt x="493" y="35"/>
                  </a:lnTo>
                  <a:lnTo>
                    <a:pt x="496" y="39"/>
                  </a:lnTo>
                  <a:lnTo>
                    <a:pt x="499" y="43"/>
                  </a:lnTo>
                  <a:lnTo>
                    <a:pt x="501" y="48"/>
                  </a:lnTo>
                  <a:lnTo>
                    <a:pt x="503" y="52"/>
                  </a:lnTo>
                  <a:lnTo>
                    <a:pt x="505" y="57"/>
                  </a:lnTo>
                  <a:lnTo>
                    <a:pt x="509" y="67"/>
                  </a:lnTo>
                  <a:lnTo>
                    <a:pt x="512" y="78"/>
                  </a:lnTo>
                  <a:lnTo>
                    <a:pt x="513" y="90"/>
                  </a:lnTo>
                  <a:lnTo>
                    <a:pt x="515" y="102"/>
                  </a:lnTo>
                  <a:lnTo>
                    <a:pt x="515" y="116"/>
                  </a:lnTo>
                  <a:lnTo>
                    <a:pt x="514" y="142"/>
                  </a:lnTo>
                  <a:lnTo>
                    <a:pt x="509" y="176"/>
                  </a:lnTo>
                  <a:lnTo>
                    <a:pt x="493" y="268"/>
                  </a:lnTo>
                  <a:lnTo>
                    <a:pt x="464" y="392"/>
                  </a:lnTo>
                  <a:lnTo>
                    <a:pt x="425" y="547"/>
                  </a:lnTo>
                  <a:lnTo>
                    <a:pt x="366" y="782"/>
                  </a:lnTo>
                  <a:lnTo>
                    <a:pt x="352" y="850"/>
                  </a:lnTo>
                  <a:lnTo>
                    <a:pt x="348" y="873"/>
                  </a:lnTo>
                  <a:lnTo>
                    <a:pt x="347" y="881"/>
                  </a:lnTo>
                  <a:lnTo>
                    <a:pt x="347" y="887"/>
                  </a:lnTo>
                  <a:lnTo>
                    <a:pt x="347" y="891"/>
                  </a:lnTo>
                  <a:lnTo>
                    <a:pt x="348" y="895"/>
                  </a:lnTo>
                  <a:lnTo>
                    <a:pt x="348" y="899"/>
                  </a:lnTo>
                  <a:lnTo>
                    <a:pt x="349" y="903"/>
                  </a:lnTo>
                  <a:lnTo>
                    <a:pt x="351" y="906"/>
                  </a:lnTo>
                  <a:lnTo>
                    <a:pt x="352" y="909"/>
                  </a:lnTo>
                  <a:lnTo>
                    <a:pt x="353" y="911"/>
                  </a:lnTo>
                  <a:lnTo>
                    <a:pt x="354" y="912"/>
                  </a:lnTo>
                  <a:lnTo>
                    <a:pt x="356" y="915"/>
                  </a:lnTo>
                  <a:lnTo>
                    <a:pt x="358" y="917"/>
                  </a:lnTo>
                  <a:lnTo>
                    <a:pt x="360" y="920"/>
                  </a:lnTo>
                  <a:lnTo>
                    <a:pt x="363" y="921"/>
                  </a:lnTo>
                  <a:lnTo>
                    <a:pt x="364" y="922"/>
                  </a:lnTo>
                  <a:lnTo>
                    <a:pt x="365" y="923"/>
                  </a:lnTo>
                  <a:lnTo>
                    <a:pt x="366" y="923"/>
                  </a:lnTo>
                  <a:lnTo>
                    <a:pt x="367" y="924"/>
                  </a:lnTo>
                  <a:lnTo>
                    <a:pt x="368" y="924"/>
                  </a:lnTo>
                  <a:lnTo>
                    <a:pt x="369" y="924"/>
                  </a:lnTo>
                  <a:lnTo>
                    <a:pt x="370" y="925"/>
                  </a:lnTo>
                  <a:lnTo>
                    <a:pt x="371" y="925"/>
                  </a:lnTo>
                  <a:lnTo>
                    <a:pt x="372" y="925"/>
                  </a:lnTo>
                  <a:lnTo>
                    <a:pt x="373" y="925"/>
                  </a:lnTo>
                  <a:lnTo>
                    <a:pt x="381" y="925"/>
                  </a:lnTo>
                  <a:lnTo>
                    <a:pt x="389" y="923"/>
                  </a:lnTo>
                  <a:lnTo>
                    <a:pt x="398" y="921"/>
                  </a:lnTo>
                  <a:lnTo>
                    <a:pt x="407" y="918"/>
                  </a:lnTo>
                  <a:lnTo>
                    <a:pt x="416" y="914"/>
                  </a:lnTo>
                  <a:lnTo>
                    <a:pt x="427" y="910"/>
                  </a:lnTo>
                  <a:lnTo>
                    <a:pt x="449" y="898"/>
                  </a:lnTo>
                  <a:lnTo>
                    <a:pt x="472" y="883"/>
                  </a:lnTo>
                  <a:lnTo>
                    <a:pt x="498" y="863"/>
                  </a:lnTo>
                  <a:lnTo>
                    <a:pt x="525" y="841"/>
                  </a:lnTo>
                  <a:lnTo>
                    <a:pt x="555" y="816"/>
                  </a:lnTo>
                  <a:lnTo>
                    <a:pt x="584" y="787"/>
                  </a:lnTo>
                  <a:lnTo>
                    <a:pt x="610" y="759"/>
                  </a:lnTo>
                  <a:lnTo>
                    <a:pt x="633" y="728"/>
                  </a:lnTo>
                  <a:lnTo>
                    <a:pt x="654" y="698"/>
                  </a:lnTo>
                  <a:lnTo>
                    <a:pt x="673" y="666"/>
                  </a:lnTo>
                  <a:lnTo>
                    <a:pt x="689" y="633"/>
                  </a:lnTo>
                  <a:lnTo>
                    <a:pt x="702" y="600"/>
                  </a:lnTo>
                  <a:lnTo>
                    <a:pt x="713" y="565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59480" y="6102360"/>
              <a:ext cx="309600" cy="409680"/>
            </a:xfrm>
            <a:custGeom>
              <a:avLst/>
              <a:gdLst/>
              <a:ahLst/>
              <a:rect l="l" t="t" r="r" b="b"/>
              <a:pathLst>
                <a:path w="861" h="1139">
                  <a:moveTo>
                    <a:pt x="717" y="781"/>
                  </a:moveTo>
                  <a:lnTo>
                    <a:pt x="759" y="888"/>
                  </a:lnTo>
                  <a:lnTo>
                    <a:pt x="682" y="947"/>
                  </a:lnTo>
                  <a:lnTo>
                    <a:pt x="608" y="997"/>
                  </a:lnTo>
                  <a:lnTo>
                    <a:pt x="538" y="1041"/>
                  </a:lnTo>
                  <a:lnTo>
                    <a:pt x="470" y="1075"/>
                  </a:lnTo>
                  <a:lnTo>
                    <a:pt x="407" y="1103"/>
                  </a:lnTo>
                  <a:lnTo>
                    <a:pt x="375" y="1114"/>
                  </a:lnTo>
                  <a:lnTo>
                    <a:pt x="345" y="1123"/>
                  </a:lnTo>
                  <a:lnTo>
                    <a:pt x="316" y="1129"/>
                  </a:lnTo>
                  <a:lnTo>
                    <a:pt x="287" y="1134"/>
                  </a:lnTo>
                  <a:lnTo>
                    <a:pt x="259" y="1137"/>
                  </a:lnTo>
                  <a:lnTo>
                    <a:pt x="232" y="1138"/>
                  </a:lnTo>
                  <a:lnTo>
                    <a:pt x="203" y="1137"/>
                  </a:lnTo>
                  <a:lnTo>
                    <a:pt x="189" y="1135"/>
                  </a:lnTo>
                  <a:lnTo>
                    <a:pt x="175" y="1133"/>
                  </a:lnTo>
                  <a:lnTo>
                    <a:pt x="163" y="1130"/>
                  </a:lnTo>
                  <a:lnTo>
                    <a:pt x="149" y="1126"/>
                  </a:lnTo>
                  <a:lnTo>
                    <a:pt x="137" y="1122"/>
                  </a:lnTo>
                  <a:lnTo>
                    <a:pt x="126" y="1117"/>
                  </a:lnTo>
                  <a:lnTo>
                    <a:pt x="115" y="1111"/>
                  </a:lnTo>
                  <a:lnTo>
                    <a:pt x="105" y="1105"/>
                  </a:lnTo>
                  <a:lnTo>
                    <a:pt x="95" y="1098"/>
                  </a:lnTo>
                  <a:lnTo>
                    <a:pt x="86" y="1090"/>
                  </a:lnTo>
                  <a:lnTo>
                    <a:pt x="78" y="1082"/>
                  </a:lnTo>
                  <a:lnTo>
                    <a:pt x="70" y="1072"/>
                  </a:lnTo>
                  <a:lnTo>
                    <a:pt x="62" y="1062"/>
                  </a:lnTo>
                  <a:lnTo>
                    <a:pt x="55" y="1052"/>
                  </a:lnTo>
                  <a:lnTo>
                    <a:pt x="42" y="1030"/>
                  </a:lnTo>
                  <a:lnTo>
                    <a:pt x="30" y="1006"/>
                  </a:lnTo>
                  <a:lnTo>
                    <a:pt x="21" y="981"/>
                  </a:lnTo>
                  <a:lnTo>
                    <a:pt x="14" y="956"/>
                  </a:lnTo>
                  <a:lnTo>
                    <a:pt x="8" y="928"/>
                  </a:lnTo>
                  <a:lnTo>
                    <a:pt x="3" y="900"/>
                  </a:lnTo>
                  <a:lnTo>
                    <a:pt x="1" y="871"/>
                  </a:lnTo>
                  <a:lnTo>
                    <a:pt x="0" y="839"/>
                  </a:lnTo>
                  <a:lnTo>
                    <a:pt x="2" y="787"/>
                  </a:lnTo>
                  <a:lnTo>
                    <a:pt x="7" y="736"/>
                  </a:lnTo>
                  <a:lnTo>
                    <a:pt x="15" y="684"/>
                  </a:lnTo>
                  <a:lnTo>
                    <a:pt x="26" y="632"/>
                  </a:lnTo>
                  <a:lnTo>
                    <a:pt x="42" y="579"/>
                  </a:lnTo>
                  <a:lnTo>
                    <a:pt x="60" y="527"/>
                  </a:lnTo>
                  <a:lnTo>
                    <a:pt x="82" y="474"/>
                  </a:lnTo>
                  <a:lnTo>
                    <a:pt x="107" y="420"/>
                  </a:lnTo>
                  <a:lnTo>
                    <a:pt x="134" y="368"/>
                  </a:lnTo>
                  <a:lnTo>
                    <a:pt x="164" y="321"/>
                  </a:lnTo>
                  <a:lnTo>
                    <a:pt x="193" y="277"/>
                  </a:lnTo>
                  <a:lnTo>
                    <a:pt x="224" y="238"/>
                  </a:lnTo>
                  <a:lnTo>
                    <a:pt x="255" y="203"/>
                  </a:lnTo>
                  <a:lnTo>
                    <a:pt x="289" y="170"/>
                  </a:lnTo>
                  <a:lnTo>
                    <a:pt x="323" y="143"/>
                  </a:lnTo>
                  <a:lnTo>
                    <a:pt x="358" y="120"/>
                  </a:lnTo>
                  <a:lnTo>
                    <a:pt x="393" y="91"/>
                  </a:lnTo>
                  <a:lnTo>
                    <a:pt x="427" y="67"/>
                  </a:lnTo>
                  <a:lnTo>
                    <a:pt x="462" y="47"/>
                  </a:lnTo>
                  <a:lnTo>
                    <a:pt x="497" y="29"/>
                  </a:lnTo>
                  <a:lnTo>
                    <a:pt x="534" y="17"/>
                  </a:lnTo>
                  <a:lnTo>
                    <a:pt x="571" y="7"/>
                  </a:lnTo>
                  <a:lnTo>
                    <a:pt x="608" y="2"/>
                  </a:lnTo>
                  <a:lnTo>
                    <a:pt x="647" y="0"/>
                  </a:lnTo>
                  <a:lnTo>
                    <a:pt x="671" y="1"/>
                  </a:lnTo>
                  <a:lnTo>
                    <a:pt x="694" y="2"/>
                  </a:lnTo>
                  <a:lnTo>
                    <a:pt x="716" y="6"/>
                  </a:lnTo>
                  <a:lnTo>
                    <a:pt x="736" y="10"/>
                  </a:lnTo>
                  <a:lnTo>
                    <a:pt x="756" y="16"/>
                  </a:lnTo>
                  <a:lnTo>
                    <a:pt x="773" y="23"/>
                  </a:lnTo>
                  <a:lnTo>
                    <a:pt x="782" y="27"/>
                  </a:lnTo>
                  <a:lnTo>
                    <a:pt x="789" y="31"/>
                  </a:lnTo>
                  <a:lnTo>
                    <a:pt x="797" y="37"/>
                  </a:lnTo>
                  <a:lnTo>
                    <a:pt x="804" y="42"/>
                  </a:lnTo>
                  <a:lnTo>
                    <a:pt x="817" y="52"/>
                  </a:lnTo>
                  <a:lnTo>
                    <a:pt x="823" y="58"/>
                  </a:lnTo>
                  <a:lnTo>
                    <a:pt x="828" y="64"/>
                  </a:lnTo>
                  <a:lnTo>
                    <a:pt x="833" y="69"/>
                  </a:lnTo>
                  <a:lnTo>
                    <a:pt x="838" y="75"/>
                  </a:lnTo>
                  <a:lnTo>
                    <a:pt x="842" y="81"/>
                  </a:lnTo>
                  <a:lnTo>
                    <a:pt x="846" y="88"/>
                  </a:lnTo>
                  <a:lnTo>
                    <a:pt x="849" y="94"/>
                  </a:lnTo>
                  <a:lnTo>
                    <a:pt x="852" y="101"/>
                  </a:lnTo>
                  <a:lnTo>
                    <a:pt x="854" y="109"/>
                  </a:lnTo>
                  <a:lnTo>
                    <a:pt x="856" y="116"/>
                  </a:lnTo>
                  <a:lnTo>
                    <a:pt x="858" y="123"/>
                  </a:lnTo>
                  <a:lnTo>
                    <a:pt x="859" y="130"/>
                  </a:lnTo>
                  <a:lnTo>
                    <a:pt x="860" y="137"/>
                  </a:lnTo>
                  <a:lnTo>
                    <a:pt x="860" y="145"/>
                  </a:lnTo>
                  <a:lnTo>
                    <a:pt x="859" y="157"/>
                  </a:lnTo>
                  <a:lnTo>
                    <a:pt x="858" y="168"/>
                  </a:lnTo>
                  <a:lnTo>
                    <a:pt x="857" y="175"/>
                  </a:lnTo>
                  <a:lnTo>
                    <a:pt x="855" y="180"/>
                  </a:lnTo>
                  <a:lnTo>
                    <a:pt x="854" y="185"/>
                  </a:lnTo>
                  <a:lnTo>
                    <a:pt x="852" y="191"/>
                  </a:lnTo>
                  <a:lnTo>
                    <a:pt x="850" y="195"/>
                  </a:lnTo>
                  <a:lnTo>
                    <a:pt x="847" y="200"/>
                  </a:lnTo>
                  <a:lnTo>
                    <a:pt x="844" y="205"/>
                  </a:lnTo>
                  <a:lnTo>
                    <a:pt x="841" y="209"/>
                  </a:lnTo>
                  <a:lnTo>
                    <a:pt x="838" y="214"/>
                  </a:lnTo>
                  <a:lnTo>
                    <a:pt x="835" y="218"/>
                  </a:lnTo>
                  <a:lnTo>
                    <a:pt x="827" y="226"/>
                  </a:lnTo>
                  <a:lnTo>
                    <a:pt x="823" y="230"/>
                  </a:lnTo>
                  <a:lnTo>
                    <a:pt x="819" y="233"/>
                  </a:lnTo>
                  <a:lnTo>
                    <a:pt x="814" y="237"/>
                  </a:lnTo>
                  <a:lnTo>
                    <a:pt x="810" y="240"/>
                  </a:lnTo>
                  <a:lnTo>
                    <a:pt x="805" y="244"/>
                  </a:lnTo>
                  <a:lnTo>
                    <a:pt x="800" y="246"/>
                  </a:lnTo>
                  <a:lnTo>
                    <a:pt x="795" y="249"/>
                  </a:lnTo>
                  <a:lnTo>
                    <a:pt x="790" y="251"/>
                  </a:lnTo>
                  <a:lnTo>
                    <a:pt x="778" y="254"/>
                  </a:lnTo>
                  <a:lnTo>
                    <a:pt x="766" y="257"/>
                  </a:lnTo>
                  <a:lnTo>
                    <a:pt x="754" y="258"/>
                  </a:lnTo>
                  <a:lnTo>
                    <a:pt x="739" y="259"/>
                  </a:lnTo>
                  <a:lnTo>
                    <a:pt x="726" y="258"/>
                  </a:lnTo>
                  <a:lnTo>
                    <a:pt x="714" y="257"/>
                  </a:lnTo>
                  <a:lnTo>
                    <a:pt x="702" y="253"/>
                  </a:lnTo>
                  <a:lnTo>
                    <a:pt x="689" y="249"/>
                  </a:lnTo>
                  <a:lnTo>
                    <a:pt x="677" y="244"/>
                  </a:lnTo>
                  <a:lnTo>
                    <a:pt x="665" y="236"/>
                  </a:lnTo>
                  <a:lnTo>
                    <a:pt x="654" y="227"/>
                  </a:lnTo>
                  <a:lnTo>
                    <a:pt x="642" y="218"/>
                  </a:lnTo>
                  <a:lnTo>
                    <a:pt x="598" y="200"/>
                  </a:lnTo>
                  <a:lnTo>
                    <a:pt x="580" y="192"/>
                  </a:lnTo>
                  <a:lnTo>
                    <a:pt x="562" y="187"/>
                  </a:lnTo>
                  <a:lnTo>
                    <a:pt x="547" y="182"/>
                  </a:lnTo>
                  <a:lnTo>
                    <a:pt x="533" y="179"/>
                  </a:lnTo>
                  <a:lnTo>
                    <a:pt x="521" y="177"/>
                  </a:lnTo>
                  <a:lnTo>
                    <a:pt x="515" y="176"/>
                  </a:lnTo>
                  <a:lnTo>
                    <a:pt x="510" y="176"/>
                  </a:lnTo>
                  <a:lnTo>
                    <a:pt x="503" y="176"/>
                  </a:lnTo>
                  <a:lnTo>
                    <a:pt x="497" y="177"/>
                  </a:lnTo>
                  <a:lnTo>
                    <a:pt x="490" y="178"/>
                  </a:lnTo>
                  <a:lnTo>
                    <a:pt x="484" y="179"/>
                  </a:lnTo>
                  <a:lnTo>
                    <a:pt x="478" y="181"/>
                  </a:lnTo>
                  <a:lnTo>
                    <a:pt x="471" y="183"/>
                  </a:lnTo>
                  <a:lnTo>
                    <a:pt x="458" y="189"/>
                  </a:lnTo>
                  <a:lnTo>
                    <a:pt x="445" y="196"/>
                  </a:lnTo>
                  <a:lnTo>
                    <a:pt x="432" y="204"/>
                  </a:lnTo>
                  <a:lnTo>
                    <a:pt x="418" y="214"/>
                  </a:lnTo>
                  <a:lnTo>
                    <a:pt x="405" y="226"/>
                  </a:lnTo>
                  <a:lnTo>
                    <a:pt x="398" y="233"/>
                  </a:lnTo>
                  <a:lnTo>
                    <a:pt x="392" y="240"/>
                  </a:lnTo>
                  <a:lnTo>
                    <a:pt x="377" y="258"/>
                  </a:lnTo>
                  <a:lnTo>
                    <a:pt x="364" y="278"/>
                  </a:lnTo>
                  <a:lnTo>
                    <a:pt x="351" y="302"/>
                  </a:lnTo>
                  <a:lnTo>
                    <a:pt x="337" y="330"/>
                  </a:lnTo>
                  <a:lnTo>
                    <a:pt x="324" y="360"/>
                  </a:lnTo>
                  <a:lnTo>
                    <a:pt x="298" y="430"/>
                  </a:lnTo>
                  <a:lnTo>
                    <a:pt x="286" y="469"/>
                  </a:lnTo>
                  <a:lnTo>
                    <a:pt x="275" y="508"/>
                  </a:lnTo>
                  <a:lnTo>
                    <a:pt x="265" y="547"/>
                  </a:lnTo>
                  <a:lnTo>
                    <a:pt x="258" y="585"/>
                  </a:lnTo>
                  <a:lnTo>
                    <a:pt x="252" y="625"/>
                  </a:lnTo>
                  <a:lnTo>
                    <a:pt x="248" y="664"/>
                  </a:lnTo>
                  <a:lnTo>
                    <a:pt x="246" y="703"/>
                  </a:lnTo>
                  <a:lnTo>
                    <a:pt x="245" y="743"/>
                  </a:lnTo>
                  <a:lnTo>
                    <a:pt x="246" y="769"/>
                  </a:lnTo>
                  <a:lnTo>
                    <a:pt x="247" y="794"/>
                  </a:lnTo>
                  <a:lnTo>
                    <a:pt x="250" y="818"/>
                  </a:lnTo>
                  <a:lnTo>
                    <a:pt x="254" y="839"/>
                  </a:lnTo>
                  <a:lnTo>
                    <a:pt x="260" y="859"/>
                  </a:lnTo>
                  <a:lnTo>
                    <a:pt x="266" y="878"/>
                  </a:lnTo>
                  <a:lnTo>
                    <a:pt x="270" y="886"/>
                  </a:lnTo>
                  <a:lnTo>
                    <a:pt x="275" y="894"/>
                  </a:lnTo>
                  <a:lnTo>
                    <a:pt x="279" y="901"/>
                  </a:lnTo>
                  <a:lnTo>
                    <a:pt x="284" y="908"/>
                  </a:lnTo>
                  <a:lnTo>
                    <a:pt x="291" y="918"/>
                  </a:lnTo>
                  <a:lnTo>
                    <a:pt x="295" y="922"/>
                  </a:lnTo>
                  <a:lnTo>
                    <a:pt x="299" y="926"/>
                  </a:lnTo>
                  <a:lnTo>
                    <a:pt x="304" y="930"/>
                  </a:lnTo>
                  <a:lnTo>
                    <a:pt x="308" y="934"/>
                  </a:lnTo>
                  <a:lnTo>
                    <a:pt x="312" y="937"/>
                  </a:lnTo>
                  <a:lnTo>
                    <a:pt x="317" y="941"/>
                  </a:lnTo>
                  <a:lnTo>
                    <a:pt x="322" y="943"/>
                  </a:lnTo>
                  <a:lnTo>
                    <a:pt x="326" y="945"/>
                  </a:lnTo>
                  <a:lnTo>
                    <a:pt x="331" y="947"/>
                  </a:lnTo>
                  <a:lnTo>
                    <a:pt x="336" y="948"/>
                  </a:lnTo>
                  <a:lnTo>
                    <a:pt x="342" y="950"/>
                  </a:lnTo>
                  <a:lnTo>
                    <a:pt x="347" y="950"/>
                  </a:lnTo>
                  <a:lnTo>
                    <a:pt x="352" y="951"/>
                  </a:lnTo>
                  <a:lnTo>
                    <a:pt x="358" y="951"/>
                  </a:lnTo>
                  <a:lnTo>
                    <a:pt x="375" y="950"/>
                  </a:lnTo>
                  <a:lnTo>
                    <a:pt x="394" y="948"/>
                  </a:lnTo>
                  <a:lnTo>
                    <a:pt x="413" y="945"/>
                  </a:lnTo>
                  <a:lnTo>
                    <a:pt x="432" y="941"/>
                  </a:lnTo>
                  <a:lnTo>
                    <a:pt x="472" y="926"/>
                  </a:lnTo>
                  <a:lnTo>
                    <a:pt x="517" y="908"/>
                  </a:lnTo>
                  <a:lnTo>
                    <a:pt x="562" y="885"/>
                  </a:lnTo>
                  <a:lnTo>
                    <a:pt x="611" y="855"/>
                  </a:lnTo>
                  <a:lnTo>
                    <a:pt x="663" y="821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Ден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93080" y="5292720"/>
            <a:ext cx="167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287280" y="611280"/>
            <a:ext cx="1800360" cy="1490400"/>
            <a:chOff x="287280" y="611280"/>
            <a:chExt cx="1800360" cy="1490400"/>
          </a:xfrm>
        </p:grpSpPr>
        <p:grpSp>
          <p:nvGrpSpPr>
            <p:cNvPr id="317" name=""/>
            <p:cNvGrpSpPr/>
            <p:nvPr/>
          </p:nvGrpSpPr>
          <p:grpSpPr>
            <a:xfrm>
              <a:off x="1768320" y="1271520"/>
              <a:ext cx="190800" cy="246240"/>
              <a:chOff x="1768320" y="1271520"/>
              <a:chExt cx="19080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1768320" y="1271520"/>
                <a:ext cx="190800" cy="246240"/>
              </a:xfrm>
              <a:custGeom>
                <a:avLst/>
                <a:gdLst/>
                <a:ahLst/>
                <a:rect l="l" t="t" r="r" b="b"/>
                <a:pathLst>
                  <a:path w="530" h="683">
                    <a:moveTo>
                      <a:pt x="529" y="490"/>
                    </a:moveTo>
                    <a:lnTo>
                      <a:pt x="400" y="682"/>
                    </a:lnTo>
                    <a:lnTo>
                      <a:pt x="0" y="131"/>
                    </a:lnTo>
                    <a:lnTo>
                      <a:pt x="104" y="0"/>
                    </a:lnTo>
                    <a:lnTo>
                      <a:pt x="125" y="8"/>
                    </a:lnTo>
                    <a:lnTo>
                      <a:pt x="172" y="34"/>
                    </a:lnTo>
                    <a:lnTo>
                      <a:pt x="246" y="74"/>
                    </a:lnTo>
                    <a:lnTo>
                      <a:pt x="326" y="131"/>
                    </a:lnTo>
                    <a:lnTo>
                      <a:pt x="408" y="200"/>
                    </a:lnTo>
                    <a:lnTo>
                      <a:pt x="474" y="286"/>
                    </a:lnTo>
                    <a:lnTo>
                      <a:pt x="522" y="381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35040" y="1760400"/>
              <a:ext cx="1433520" cy="312840"/>
              <a:chOff x="635040" y="1760400"/>
              <a:chExt cx="1433520" cy="31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635040" y="1760400"/>
                <a:ext cx="1433520" cy="312840"/>
              </a:xfrm>
              <a:custGeom>
                <a:avLst/>
                <a:gdLst/>
                <a:ahLst/>
                <a:rect l="l" t="t" r="r" b="b"/>
                <a:pathLst>
                  <a:path w="3982" h="870">
                    <a:moveTo>
                      <a:pt x="0" y="869"/>
                    </a:moveTo>
                    <a:lnTo>
                      <a:pt x="30" y="866"/>
                    </a:lnTo>
                    <a:lnTo>
                      <a:pt x="80" y="860"/>
                    </a:lnTo>
                    <a:lnTo>
                      <a:pt x="151" y="854"/>
                    </a:lnTo>
                    <a:lnTo>
                      <a:pt x="240" y="842"/>
                    </a:lnTo>
                    <a:lnTo>
                      <a:pt x="346" y="825"/>
                    </a:lnTo>
                    <a:lnTo>
                      <a:pt x="462" y="811"/>
                    </a:lnTo>
                    <a:lnTo>
                      <a:pt x="588" y="793"/>
                    </a:lnTo>
                    <a:lnTo>
                      <a:pt x="723" y="779"/>
                    </a:lnTo>
                    <a:lnTo>
                      <a:pt x="860" y="761"/>
                    </a:lnTo>
                    <a:lnTo>
                      <a:pt x="1002" y="744"/>
                    </a:lnTo>
                    <a:lnTo>
                      <a:pt x="1145" y="729"/>
                    </a:lnTo>
                    <a:lnTo>
                      <a:pt x="1284" y="715"/>
                    </a:lnTo>
                    <a:lnTo>
                      <a:pt x="1416" y="703"/>
                    </a:lnTo>
                    <a:lnTo>
                      <a:pt x="1540" y="698"/>
                    </a:lnTo>
                    <a:lnTo>
                      <a:pt x="1654" y="692"/>
                    </a:lnTo>
                    <a:lnTo>
                      <a:pt x="1754" y="692"/>
                    </a:lnTo>
                    <a:lnTo>
                      <a:pt x="1783" y="735"/>
                    </a:lnTo>
                    <a:lnTo>
                      <a:pt x="1812" y="770"/>
                    </a:lnTo>
                    <a:lnTo>
                      <a:pt x="1849" y="802"/>
                    </a:lnTo>
                    <a:lnTo>
                      <a:pt x="1883" y="825"/>
                    </a:lnTo>
                    <a:lnTo>
                      <a:pt x="1917" y="845"/>
                    </a:lnTo>
                    <a:lnTo>
                      <a:pt x="1954" y="854"/>
                    </a:lnTo>
                    <a:lnTo>
                      <a:pt x="1991" y="860"/>
                    </a:lnTo>
                    <a:lnTo>
                      <a:pt x="2028" y="860"/>
                    </a:lnTo>
                    <a:lnTo>
                      <a:pt x="2065" y="851"/>
                    </a:lnTo>
                    <a:lnTo>
                      <a:pt x="2099" y="837"/>
                    </a:lnTo>
                    <a:lnTo>
                      <a:pt x="2133" y="819"/>
                    </a:lnTo>
                    <a:lnTo>
                      <a:pt x="2168" y="793"/>
                    </a:lnTo>
                    <a:lnTo>
                      <a:pt x="2197" y="761"/>
                    </a:lnTo>
                    <a:lnTo>
                      <a:pt x="2226" y="724"/>
                    </a:lnTo>
                    <a:lnTo>
                      <a:pt x="2252" y="683"/>
                    </a:lnTo>
                    <a:lnTo>
                      <a:pt x="2273" y="631"/>
                    </a:lnTo>
                    <a:lnTo>
                      <a:pt x="3981" y="715"/>
                    </a:lnTo>
                    <a:lnTo>
                      <a:pt x="3813" y="454"/>
                    </a:lnTo>
                    <a:lnTo>
                      <a:pt x="3873" y="396"/>
                    </a:lnTo>
                    <a:lnTo>
                      <a:pt x="3834" y="295"/>
                    </a:lnTo>
                    <a:lnTo>
                      <a:pt x="3842" y="205"/>
                    </a:lnTo>
                    <a:lnTo>
                      <a:pt x="3826" y="104"/>
                    </a:lnTo>
                    <a:lnTo>
                      <a:pt x="3858" y="81"/>
                    </a:lnTo>
                    <a:lnTo>
                      <a:pt x="3821" y="8"/>
                    </a:lnTo>
                    <a:lnTo>
                      <a:pt x="3784" y="8"/>
                    </a:lnTo>
                    <a:lnTo>
                      <a:pt x="3739" y="8"/>
                    </a:lnTo>
                    <a:lnTo>
                      <a:pt x="3691" y="8"/>
                    </a:lnTo>
                    <a:lnTo>
                      <a:pt x="3636" y="5"/>
                    </a:lnTo>
                    <a:lnTo>
                      <a:pt x="3575" y="5"/>
                    </a:lnTo>
                    <a:lnTo>
                      <a:pt x="3515" y="5"/>
                    </a:lnTo>
                    <a:lnTo>
                      <a:pt x="3446" y="8"/>
                    </a:lnTo>
                    <a:lnTo>
                      <a:pt x="3380" y="8"/>
                    </a:lnTo>
                    <a:lnTo>
                      <a:pt x="3317" y="8"/>
                    </a:lnTo>
                    <a:lnTo>
                      <a:pt x="3251" y="8"/>
                    </a:lnTo>
                    <a:lnTo>
                      <a:pt x="3188" y="8"/>
                    </a:lnTo>
                    <a:lnTo>
                      <a:pt x="3127" y="11"/>
                    </a:lnTo>
                    <a:lnTo>
                      <a:pt x="3069" y="11"/>
                    </a:lnTo>
                    <a:lnTo>
                      <a:pt x="3014" y="14"/>
                    </a:lnTo>
                    <a:lnTo>
                      <a:pt x="2966" y="14"/>
                    </a:lnTo>
                    <a:lnTo>
                      <a:pt x="2927" y="17"/>
                    </a:lnTo>
                    <a:lnTo>
                      <a:pt x="2885" y="17"/>
                    </a:lnTo>
                    <a:lnTo>
                      <a:pt x="2840" y="20"/>
                    </a:lnTo>
                    <a:lnTo>
                      <a:pt x="2790" y="17"/>
                    </a:lnTo>
                    <a:lnTo>
                      <a:pt x="2734" y="17"/>
                    </a:lnTo>
                    <a:lnTo>
                      <a:pt x="2676" y="17"/>
                    </a:lnTo>
                    <a:lnTo>
                      <a:pt x="2616" y="17"/>
                    </a:lnTo>
                    <a:lnTo>
                      <a:pt x="2555" y="20"/>
                    </a:lnTo>
                    <a:lnTo>
                      <a:pt x="2489" y="26"/>
                    </a:lnTo>
                    <a:lnTo>
                      <a:pt x="2426" y="31"/>
                    </a:lnTo>
                    <a:lnTo>
                      <a:pt x="2363" y="40"/>
                    </a:lnTo>
                    <a:lnTo>
                      <a:pt x="2299" y="52"/>
                    </a:lnTo>
                    <a:lnTo>
                      <a:pt x="2239" y="69"/>
                    </a:lnTo>
                    <a:lnTo>
                      <a:pt x="2178" y="86"/>
                    </a:lnTo>
                    <a:lnTo>
                      <a:pt x="2123" y="112"/>
                    </a:lnTo>
                    <a:lnTo>
                      <a:pt x="2070" y="144"/>
                    </a:lnTo>
                    <a:lnTo>
                      <a:pt x="2020" y="182"/>
                    </a:lnTo>
                    <a:lnTo>
                      <a:pt x="1922" y="133"/>
                    </a:lnTo>
                    <a:lnTo>
                      <a:pt x="1830" y="92"/>
                    </a:lnTo>
                    <a:lnTo>
                      <a:pt x="1746" y="57"/>
                    </a:lnTo>
                    <a:lnTo>
                      <a:pt x="1664" y="31"/>
                    </a:lnTo>
                    <a:lnTo>
                      <a:pt x="1593" y="14"/>
                    </a:lnTo>
                    <a:lnTo>
                      <a:pt x="1527" y="2"/>
                    </a:lnTo>
                    <a:lnTo>
                      <a:pt x="1464" y="0"/>
                    </a:lnTo>
                    <a:lnTo>
                      <a:pt x="1406" y="0"/>
                    </a:lnTo>
                    <a:lnTo>
                      <a:pt x="1350" y="2"/>
                    </a:lnTo>
                    <a:lnTo>
                      <a:pt x="1298" y="11"/>
                    </a:lnTo>
                    <a:lnTo>
                      <a:pt x="1250" y="20"/>
                    </a:lnTo>
                    <a:lnTo>
                      <a:pt x="1205" y="37"/>
                    </a:lnTo>
                    <a:lnTo>
                      <a:pt x="1161" y="49"/>
                    </a:lnTo>
                    <a:lnTo>
                      <a:pt x="1121" y="66"/>
                    </a:lnTo>
                    <a:lnTo>
                      <a:pt x="1081" y="81"/>
                    </a:lnTo>
                    <a:lnTo>
                      <a:pt x="1042" y="98"/>
                    </a:lnTo>
                    <a:lnTo>
                      <a:pt x="1002" y="110"/>
                    </a:lnTo>
                    <a:lnTo>
                      <a:pt x="963" y="124"/>
                    </a:lnTo>
                    <a:lnTo>
                      <a:pt x="921" y="136"/>
                    </a:lnTo>
                    <a:lnTo>
                      <a:pt x="878" y="147"/>
                    </a:lnTo>
                    <a:lnTo>
                      <a:pt x="831" y="162"/>
                    </a:lnTo>
                    <a:lnTo>
                      <a:pt x="789" y="173"/>
                    </a:lnTo>
                    <a:lnTo>
                      <a:pt x="744" y="188"/>
                    </a:lnTo>
                    <a:lnTo>
                      <a:pt x="702" y="196"/>
                    </a:lnTo>
                    <a:lnTo>
                      <a:pt x="662" y="205"/>
                    </a:lnTo>
                    <a:lnTo>
                      <a:pt x="620" y="211"/>
                    </a:lnTo>
                    <a:lnTo>
                      <a:pt x="583" y="217"/>
                    </a:lnTo>
                    <a:lnTo>
                      <a:pt x="549" y="225"/>
                    </a:lnTo>
                    <a:lnTo>
                      <a:pt x="515" y="228"/>
                    </a:lnTo>
                    <a:lnTo>
                      <a:pt x="488" y="231"/>
                    </a:lnTo>
                    <a:lnTo>
                      <a:pt x="462" y="231"/>
                    </a:lnTo>
                    <a:lnTo>
                      <a:pt x="441" y="231"/>
                    </a:lnTo>
                    <a:lnTo>
                      <a:pt x="399" y="223"/>
                    </a:lnTo>
                    <a:lnTo>
                      <a:pt x="343" y="205"/>
                    </a:lnTo>
                    <a:lnTo>
                      <a:pt x="283" y="188"/>
                    </a:lnTo>
                    <a:lnTo>
                      <a:pt x="219" y="168"/>
                    </a:lnTo>
                    <a:lnTo>
                      <a:pt x="161" y="159"/>
                    </a:lnTo>
                    <a:lnTo>
                      <a:pt x="106" y="150"/>
                    </a:lnTo>
                    <a:lnTo>
                      <a:pt x="66" y="162"/>
                    </a:lnTo>
                    <a:lnTo>
                      <a:pt x="40" y="182"/>
                    </a:lnTo>
                    <a:lnTo>
                      <a:pt x="32" y="327"/>
                    </a:lnTo>
                    <a:lnTo>
                      <a:pt x="19" y="535"/>
                    </a:lnTo>
                    <a:lnTo>
                      <a:pt x="8" y="738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87280" y="611280"/>
              <a:ext cx="1800360" cy="1490400"/>
              <a:chOff x="287280" y="611280"/>
              <a:chExt cx="1800360" cy="1490400"/>
            </a:xfrm>
          </p:grpSpPr>
          <p:sp>
            <p:nvSpPr>
              <p:cNvPr id="322" name=""/>
              <p:cNvSpPr/>
              <p:nvPr/>
            </p:nvSpPr>
            <p:spPr>
              <a:xfrm>
                <a:off x="287280" y="611280"/>
                <a:ext cx="1800360" cy="1490400"/>
              </a:xfrm>
              <a:custGeom>
                <a:avLst/>
                <a:gdLst/>
                <a:ahLst/>
                <a:rect l="l" t="t" r="r" b="b"/>
                <a:pathLst>
                  <a:path w="5002" h="4141">
                    <a:moveTo>
                      <a:pt x="222" y="2166"/>
                    </a:moveTo>
                    <a:lnTo>
                      <a:pt x="246" y="1985"/>
                    </a:lnTo>
                    <a:lnTo>
                      <a:pt x="251" y="1787"/>
                    </a:lnTo>
                    <a:lnTo>
                      <a:pt x="246" y="1597"/>
                    </a:lnTo>
                    <a:lnTo>
                      <a:pt x="233" y="1445"/>
                    </a:lnTo>
                    <a:lnTo>
                      <a:pt x="256" y="1456"/>
                    </a:lnTo>
                    <a:lnTo>
                      <a:pt x="285" y="1468"/>
                    </a:lnTo>
                    <a:lnTo>
                      <a:pt x="312" y="1482"/>
                    </a:lnTo>
                    <a:lnTo>
                      <a:pt x="341" y="1493"/>
                    </a:lnTo>
                    <a:lnTo>
                      <a:pt x="375" y="1508"/>
                    </a:lnTo>
                    <a:lnTo>
                      <a:pt x="407" y="1514"/>
                    </a:lnTo>
                    <a:lnTo>
                      <a:pt x="438" y="1516"/>
                    </a:lnTo>
                    <a:lnTo>
                      <a:pt x="467" y="1516"/>
                    </a:lnTo>
                    <a:lnTo>
                      <a:pt x="494" y="1502"/>
                    </a:lnTo>
                    <a:lnTo>
                      <a:pt x="512" y="1488"/>
                    </a:lnTo>
                    <a:lnTo>
                      <a:pt x="528" y="1465"/>
                    </a:lnTo>
                    <a:lnTo>
                      <a:pt x="539" y="1445"/>
                    </a:lnTo>
                    <a:lnTo>
                      <a:pt x="546" y="1419"/>
                    </a:lnTo>
                    <a:lnTo>
                      <a:pt x="554" y="1393"/>
                    </a:lnTo>
                    <a:lnTo>
                      <a:pt x="557" y="1370"/>
                    </a:lnTo>
                    <a:lnTo>
                      <a:pt x="557" y="1353"/>
                    </a:lnTo>
                    <a:lnTo>
                      <a:pt x="562" y="1321"/>
                    </a:lnTo>
                    <a:lnTo>
                      <a:pt x="573" y="1238"/>
                    </a:lnTo>
                    <a:lnTo>
                      <a:pt x="594" y="1126"/>
                    </a:lnTo>
                    <a:lnTo>
                      <a:pt x="615" y="999"/>
                    </a:lnTo>
                    <a:lnTo>
                      <a:pt x="626" y="936"/>
                    </a:lnTo>
                    <a:lnTo>
                      <a:pt x="639" y="876"/>
                    </a:lnTo>
                    <a:lnTo>
                      <a:pt x="657" y="821"/>
                    </a:lnTo>
                    <a:lnTo>
                      <a:pt x="673" y="772"/>
                    </a:lnTo>
                    <a:lnTo>
                      <a:pt x="686" y="735"/>
                    </a:lnTo>
                    <a:lnTo>
                      <a:pt x="694" y="703"/>
                    </a:lnTo>
                    <a:lnTo>
                      <a:pt x="705" y="683"/>
                    </a:lnTo>
                    <a:lnTo>
                      <a:pt x="707" y="678"/>
                    </a:lnTo>
                    <a:lnTo>
                      <a:pt x="713" y="660"/>
                    </a:lnTo>
                    <a:lnTo>
                      <a:pt x="723" y="620"/>
                    </a:lnTo>
                    <a:lnTo>
                      <a:pt x="744" y="577"/>
                    </a:lnTo>
                    <a:lnTo>
                      <a:pt x="771" y="545"/>
                    </a:lnTo>
                    <a:lnTo>
                      <a:pt x="787" y="505"/>
                    </a:lnTo>
                    <a:lnTo>
                      <a:pt x="805" y="465"/>
                    </a:lnTo>
                    <a:lnTo>
                      <a:pt x="821" y="433"/>
                    </a:lnTo>
                    <a:lnTo>
                      <a:pt x="837" y="407"/>
                    </a:lnTo>
                    <a:lnTo>
                      <a:pt x="855" y="379"/>
                    </a:lnTo>
                    <a:lnTo>
                      <a:pt x="871" y="350"/>
                    </a:lnTo>
                    <a:lnTo>
                      <a:pt x="895" y="324"/>
                    </a:lnTo>
                    <a:lnTo>
                      <a:pt x="924" y="295"/>
                    </a:lnTo>
                    <a:lnTo>
                      <a:pt x="953" y="255"/>
                    </a:lnTo>
                    <a:lnTo>
                      <a:pt x="982" y="226"/>
                    </a:lnTo>
                    <a:lnTo>
                      <a:pt x="1008" y="206"/>
                    </a:lnTo>
                    <a:lnTo>
                      <a:pt x="1029" y="192"/>
                    </a:lnTo>
                    <a:lnTo>
                      <a:pt x="1050" y="180"/>
                    </a:lnTo>
                    <a:lnTo>
                      <a:pt x="1066" y="169"/>
                    </a:lnTo>
                    <a:lnTo>
                      <a:pt x="1079" y="155"/>
                    </a:lnTo>
                    <a:lnTo>
                      <a:pt x="1092" y="135"/>
                    </a:lnTo>
                    <a:lnTo>
                      <a:pt x="1169" y="91"/>
                    </a:lnTo>
                    <a:lnTo>
                      <a:pt x="1253" y="60"/>
                    </a:lnTo>
                    <a:lnTo>
                      <a:pt x="1338" y="34"/>
                    </a:lnTo>
                    <a:lnTo>
                      <a:pt x="1425" y="22"/>
                    </a:lnTo>
                    <a:lnTo>
                      <a:pt x="1512" y="20"/>
                    </a:lnTo>
                    <a:lnTo>
                      <a:pt x="1602" y="22"/>
                    </a:lnTo>
                    <a:lnTo>
                      <a:pt x="1689" y="34"/>
                    </a:lnTo>
                    <a:lnTo>
                      <a:pt x="1778" y="54"/>
                    </a:lnTo>
                    <a:lnTo>
                      <a:pt x="1868" y="77"/>
                    </a:lnTo>
                    <a:lnTo>
                      <a:pt x="1955" y="109"/>
                    </a:lnTo>
                    <a:lnTo>
                      <a:pt x="2045" y="149"/>
                    </a:lnTo>
                    <a:lnTo>
                      <a:pt x="2129" y="186"/>
                    </a:lnTo>
                    <a:lnTo>
                      <a:pt x="2211" y="232"/>
                    </a:lnTo>
                    <a:lnTo>
                      <a:pt x="2293" y="281"/>
                    </a:lnTo>
                    <a:lnTo>
                      <a:pt x="2374" y="330"/>
                    </a:lnTo>
                    <a:lnTo>
                      <a:pt x="2448" y="382"/>
                    </a:lnTo>
                    <a:lnTo>
                      <a:pt x="2493" y="413"/>
                    </a:lnTo>
                    <a:lnTo>
                      <a:pt x="2533" y="422"/>
                    </a:lnTo>
                    <a:lnTo>
                      <a:pt x="2570" y="413"/>
                    </a:lnTo>
                    <a:lnTo>
                      <a:pt x="2604" y="393"/>
                    </a:lnTo>
                    <a:lnTo>
                      <a:pt x="2630" y="364"/>
                    </a:lnTo>
                    <a:lnTo>
                      <a:pt x="2654" y="330"/>
                    </a:lnTo>
                    <a:lnTo>
                      <a:pt x="2675" y="295"/>
                    </a:lnTo>
                    <a:lnTo>
                      <a:pt x="2694" y="264"/>
                    </a:lnTo>
                    <a:lnTo>
                      <a:pt x="2712" y="224"/>
                    </a:lnTo>
                    <a:lnTo>
                      <a:pt x="2738" y="186"/>
                    </a:lnTo>
                    <a:lnTo>
                      <a:pt x="2767" y="152"/>
                    </a:lnTo>
                    <a:lnTo>
                      <a:pt x="2799" y="123"/>
                    </a:lnTo>
                    <a:lnTo>
                      <a:pt x="2836" y="97"/>
                    </a:lnTo>
                    <a:lnTo>
                      <a:pt x="2876" y="71"/>
                    </a:lnTo>
                    <a:lnTo>
                      <a:pt x="2918" y="54"/>
                    </a:lnTo>
                    <a:lnTo>
                      <a:pt x="2963" y="37"/>
                    </a:lnTo>
                    <a:lnTo>
                      <a:pt x="3007" y="25"/>
                    </a:lnTo>
                    <a:lnTo>
                      <a:pt x="3055" y="14"/>
                    </a:lnTo>
                    <a:lnTo>
                      <a:pt x="3102" y="8"/>
                    </a:lnTo>
                    <a:lnTo>
                      <a:pt x="3153" y="2"/>
                    </a:lnTo>
                    <a:lnTo>
                      <a:pt x="3200" y="0"/>
                    </a:lnTo>
                    <a:lnTo>
                      <a:pt x="3247" y="0"/>
                    </a:lnTo>
                    <a:lnTo>
                      <a:pt x="3295" y="0"/>
                    </a:lnTo>
                    <a:lnTo>
                      <a:pt x="3340" y="2"/>
                    </a:lnTo>
                    <a:lnTo>
                      <a:pt x="3403" y="2"/>
                    </a:lnTo>
                    <a:lnTo>
                      <a:pt x="3466" y="8"/>
                    </a:lnTo>
                    <a:lnTo>
                      <a:pt x="3522" y="22"/>
                    </a:lnTo>
                    <a:lnTo>
                      <a:pt x="3580" y="37"/>
                    </a:lnTo>
                    <a:lnTo>
                      <a:pt x="3638" y="60"/>
                    </a:lnTo>
                    <a:lnTo>
                      <a:pt x="3691" y="89"/>
                    </a:lnTo>
                    <a:lnTo>
                      <a:pt x="3743" y="117"/>
                    </a:lnTo>
                    <a:lnTo>
                      <a:pt x="3796" y="152"/>
                    </a:lnTo>
                    <a:lnTo>
                      <a:pt x="3841" y="189"/>
                    </a:lnTo>
                    <a:lnTo>
                      <a:pt x="3888" y="226"/>
                    </a:lnTo>
                    <a:lnTo>
                      <a:pt x="3931" y="267"/>
                    </a:lnTo>
                    <a:lnTo>
                      <a:pt x="3975" y="313"/>
                    </a:lnTo>
                    <a:lnTo>
                      <a:pt x="4015" y="356"/>
                    </a:lnTo>
                    <a:lnTo>
                      <a:pt x="4052" y="402"/>
                    </a:lnTo>
                    <a:lnTo>
                      <a:pt x="4086" y="448"/>
                    </a:lnTo>
                    <a:lnTo>
                      <a:pt x="4121" y="494"/>
                    </a:lnTo>
                    <a:lnTo>
                      <a:pt x="4144" y="557"/>
                    </a:lnTo>
                    <a:lnTo>
                      <a:pt x="4163" y="614"/>
                    </a:lnTo>
                    <a:lnTo>
                      <a:pt x="4176" y="669"/>
                    </a:lnTo>
                    <a:lnTo>
                      <a:pt x="4184" y="718"/>
                    </a:lnTo>
                    <a:lnTo>
                      <a:pt x="4184" y="769"/>
                    </a:lnTo>
                    <a:lnTo>
                      <a:pt x="4173" y="818"/>
                    </a:lnTo>
                    <a:lnTo>
                      <a:pt x="4157" y="870"/>
                    </a:lnTo>
                    <a:lnTo>
                      <a:pt x="4134" y="925"/>
                    </a:lnTo>
                    <a:lnTo>
                      <a:pt x="4147" y="976"/>
                    </a:lnTo>
                    <a:lnTo>
                      <a:pt x="4144" y="1065"/>
                    </a:lnTo>
                    <a:lnTo>
                      <a:pt x="4144" y="1166"/>
                    </a:lnTo>
                    <a:lnTo>
                      <a:pt x="4168" y="1252"/>
                    </a:lnTo>
                    <a:lnTo>
                      <a:pt x="4213" y="1246"/>
                    </a:lnTo>
                    <a:lnTo>
                      <a:pt x="4255" y="1246"/>
                    </a:lnTo>
                    <a:lnTo>
                      <a:pt x="4300" y="1249"/>
                    </a:lnTo>
                    <a:lnTo>
                      <a:pt x="4339" y="1252"/>
                    </a:lnTo>
                    <a:lnTo>
                      <a:pt x="4379" y="1261"/>
                    </a:lnTo>
                    <a:lnTo>
                      <a:pt x="4419" y="1272"/>
                    </a:lnTo>
                    <a:lnTo>
                      <a:pt x="4456" y="1289"/>
                    </a:lnTo>
                    <a:lnTo>
                      <a:pt x="4492" y="1304"/>
                    </a:lnTo>
                    <a:lnTo>
                      <a:pt x="4527" y="1324"/>
                    </a:lnTo>
                    <a:lnTo>
                      <a:pt x="4561" y="1347"/>
                    </a:lnTo>
                    <a:lnTo>
                      <a:pt x="4598" y="1367"/>
                    </a:lnTo>
                    <a:lnTo>
                      <a:pt x="4632" y="1393"/>
                    </a:lnTo>
                    <a:lnTo>
                      <a:pt x="4667" y="1416"/>
                    </a:lnTo>
                    <a:lnTo>
                      <a:pt x="4701" y="1442"/>
                    </a:lnTo>
                    <a:lnTo>
                      <a:pt x="4732" y="1465"/>
                    </a:lnTo>
                    <a:lnTo>
                      <a:pt x="4767" y="1491"/>
                    </a:lnTo>
                    <a:lnTo>
                      <a:pt x="4809" y="1528"/>
                    </a:lnTo>
                    <a:lnTo>
                      <a:pt x="4846" y="1565"/>
                    </a:lnTo>
                    <a:lnTo>
                      <a:pt x="4880" y="1608"/>
                    </a:lnTo>
                    <a:lnTo>
                      <a:pt x="4909" y="1649"/>
                    </a:lnTo>
                    <a:lnTo>
                      <a:pt x="4933" y="1692"/>
                    </a:lnTo>
                    <a:lnTo>
                      <a:pt x="4949" y="1743"/>
                    </a:lnTo>
                    <a:lnTo>
                      <a:pt x="4965" y="1792"/>
                    </a:lnTo>
                    <a:lnTo>
                      <a:pt x="4972" y="1853"/>
                    </a:lnTo>
                    <a:lnTo>
                      <a:pt x="4967" y="1896"/>
                    </a:lnTo>
                    <a:lnTo>
                      <a:pt x="4943" y="1950"/>
                    </a:lnTo>
                    <a:lnTo>
                      <a:pt x="4909" y="2019"/>
                    </a:lnTo>
                    <a:lnTo>
                      <a:pt x="4864" y="2094"/>
                    </a:lnTo>
                    <a:lnTo>
                      <a:pt x="4809" y="2169"/>
                    </a:lnTo>
                    <a:lnTo>
                      <a:pt x="4748" y="2243"/>
                    </a:lnTo>
                    <a:lnTo>
                      <a:pt x="4688" y="2307"/>
                    </a:lnTo>
                    <a:lnTo>
                      <a:pt x="4627" y="2361"/>
                    </a:lnTo>
                    <a:lnTo>
                      <a:pt x="4622" y="2338"/>
                    </a:lnTo>
                    <a:lnTo>
                      <a:pt x="4622" y="2301"/>
                    </a:lnTo>
                    <a:lnTo>
                      <a:pt x="4622" y="2266"/>
                    </a:lnTo>
                    <a:lnTo>
                      <a:pt x="4616" y="2249"/>
                    </a:lnTo>
                    <a:lnTo>
                      <a:pt x="4608" y="2197"/>
                    </a:lnTo>
                    <a:lnTo>
                      <a:pt x="4587" y="2146"/>
                    </a:lnTo>
                    <a:lnTo>
                      <a:pt x="4558" y="2103"/>
                    </a:lnTo>
                    <a:lnTo>
                      <a:pt x="4524" y="2062"/>
                    </a:lnTo>
                    <a:lnTo>
                      <a:pt x="4485" y="2025"/>
                    </a:lnTo>
                    <a:lnTo>
                      <a:pt x="4437" y="1990"/>
                    </a:lnTo>
                    <a:lnTo>
                      <a:pt x="4392" y="1962"/>
                    </a:lnTo>
                    <a:lnTo>
                      <a:pt x="4345" y="1936"/>
                    </a:lnTo>
                    <a:lnTo>
                      <a:pt x="4329" y="1919"/>
                    </a:lnTo>
                    <a:lnTo>
                      <a:pt x="4308" y="1907"/>
                    </a:lnTo>
                    <a:lnTo>
                      <a:pt x="4284" y="1904"/>
                    </a:lnTo>
                    <a:lnTo>
                      <a:pt x="4260" y="1904"/>
                    </a:lnTo>
                    <a:lnTo>
                      <a:pt x="4234" y="1907"/>
                    </a:lnTo>
                    <a:lnTo>
                      <a:pt x="4215" y="1916"/>
                    </a:lnTo>
                    <a:lnTo>
                      <a:pt x="4197" y="1933"/>
                    </a:lnTo>
                    <a:lnTo>
                      <a:pt x="4186" y="1950"/>
                    </a:lnTo>
                    <a:lnTo>
                      <a:pt x="4202" y="1959"/>
                    </a:lnTo>
                    <a:lnTo>
                      <a:pt x="4215" y="1968"/>
                    </a:lnTo>
                    <a:lnTo>
                      <a:pt x="4229" y="1976"/>
                    </a:lnTo>
                    <a:lnTo>
                      <a:pt x="4247" y="1985"/>
                    </a:lnTo>
                    <a:lnTo>
                      <a:pt x="4313" y="2025"/>
                    </a:lnTo>
                    <a:lnTo>
                      <a:pt x="4371" y="2074"/>
                    </a:lnTo>
                    <a:lnTo>
                      <a:pt x="4424" y="2128"/>
                    </a:lnTo>
                    <a:lnTo>
                      <a:pt x="4463" y="2194"/>
                    </a:lnTo>
                    <a:lnTo>
                      <a:pt x="4498" y="2263"/>
                    </a:lnTo>
                    <a:lnTo>
                      <a:pt x="4521" y="2338"/>
                    </a:lnTo>
                    <a:lnTo>
                      <a:pt x="4532" y="2424"/>
                    </a:lnTo>
                    <a:lnTo>
                      <a:pt x="4532" y="2511"/>
                    </a:lnTo>
                    <a:lnTo>
                      <a:pt x="4550" y="2585"/>
                    </a:lnTo>
                    <a:lnTo>
                      <a:pt x="4553" y="2646"/>
                    </a:lnTo>
                    <a:lnTo>
                      <a:pt x="4545" y="2692"/>
                    </a:lnTo>
                    <a:lnTo>
                      <a:pt x="4532" y="2723"/>
                    </a:lnTo>
                    <a:lnTo>
                      <a:pt x="4579" y="2781"/>
                    </a:lnTo>
                    <a:lnTo>
                      <a:pt x="4627" y="2838"/>
                    </a:lnTo>
                    <a:lnTo>
                      <a:pt x="4672" y="2890"/>
                    </a:lnTo>
                    <a:lnTo>
                      <a:pt x="4722" y="2941"/>
                    </a:lnTo>
                    <a:lnTo>
                      <a:pt x="4769" y="2993"/>
                    </a:lnTo>
                    <a:lnTo>
                      <a:pt x="4825" y="3036"/>
                    </a:lnTo>
                    <a:lnTo>
                      <a:pt x="4880" y="3079"/>
                    </a:lnTo>
                    <a:lnTo>
                      <a:pt x="4941" y="3117"/>
                    </a:lnTo>
                    <a:lnTo>
                      <a:pt x="4838" y="3174"/>
                    </a:lnTo>
                    <a:lnTo>
                      <a:pt x="4817" y="3200"/>
                    </a:lnTo>
                    <a:lnTo>
                      <a:pt x="4822" y="3223"/>
                    </a:lnTo>
                    <a:lnTo>
                      <a:pt x="4843" y="3243"/>
                    </a:lnTo>
                    <a:lnTo>
                      <a:pt x="4859" y="3266"/>
                    </a:lnTo>
                    <a:lnTo>
                      <a:pt x="4806" y="3332"/>
                    </a:lnTo>
                    <a:lnTo>
                      <a:pt x="4825" y="3355"/>
                    </a:lnTo>
                    <a:lnTo>
                      <a:pt x="4849" y="3381"/>
                    </a:lnTo>
                    <a:lnTo>
                      <a:pt x="4864" y="3404"/>
                    </a:lnTo>
                    <a:lnTo>
                      <a:pt x="4859" y="3438"/>
                    </a:lnTo>
                    <a:lnTo>
                      <a:pt x="4841" y="3450"/>
                    </a:lnTo>
                    <a:lnTo>
                      <a:pt x="4817" y="3459"/>
                    </a:lnTo>
                    <a:lnTo>
                      <a:pt x="4798" y="3467"/>
                    </a:lnTo>
                    <a:lnTo>
                      <a:pt x="4798" y="3487"/>
                    </a:lnTo>
                    <a:lnTo>
                      <a:pt x="4851" y="3562"/>
                    </a:lnTo>
                    <a:lnTo>
                      <a:pt x="4846" y="3568"/>
                    </a:lnTo>
                    <a:lnTo>
                      <a:pt x="4838" y="3571"/>
                    </a:lnTo>
                    <a:lnTo>
                      <a:pt x="4835" y="3579"/>
                    </a:lnTo>
                    <a:lnTo>
                      <a:pt x="4838" y="3588"/>
                    </a:lnTo>
                    <a:lnTo>
                      <a:pt x="4751" y="3617"/>
                    </a:lnTo>
                    <a:lnTo>
                      <a:pt x="4661" y="3634"/>
                    </a:lnTo>
                    <a:lnTo>
                      <a:pt x="4574" y="3648"/>
                    </a:lnTo>
                    <a:lnTo>
                      <a:pt x="4485" y="3654"/>
                    </a:lnTo>
                    <a:lnTo>
                      <a:pt x="4395" y="3657"/>
                    </a:lnTo>
                    <a:lnTo>
                      <a:pt x="4308" y="3657"/>
                    </a:lnTo>
                    <a:lnTo>
                      <a:pt x="4218" y="3654"/>
                    </a:lnTo>
                    <a:lnTo>
                      <a:pt x="4128" y="3648"/>
                    </a:lnTo>
                    <a:lnTo>
                      <a:pt x="4039" y="3637"/>
                    </a:lnTo>
                    <a:lnTo>
                      <a:pt x="3949" y="3631"/>
                    </a:lnTo>
                    <a:lnTo>
                      <a:pt x="3859" y="3625"/>
                    </a:lnTo>
                    <a:lnTo>
                      <a:pt x="3767" y="3617"/>
                    </a:lnTo>
                    <a:lnTo>
                      <a:pt x="3677" y="3614"/>
                    </a:lnTo>
                    <a:lnTo>
                      <a:pt x="3585" y="3611"/>
                    </a:lnTo>
                    <a:lnTo>
                      <a:pt x="3493" y="3614"/>
                    </a:lnTo>
                    <a:lnTo>
                      <a:pt x="3400" y="3619"/>
                    </a:lnTo>
                    <a:lnTo>
                      <a:pt x="3487" y="3597"/>
                    </a:lnTo>
                    <a:lnTo>
                      <a:pt x="3575" y="3585"/>
                    </a:lnTo>
                    <a:lnTo>
                      <a:pt x="3659" y="3579"/>
                    </a:lnTo>
                    <a:lnTo>
                      <a:pt x="3743" y="3576"/>
                    </a:lnTo>
                    <a:lnTo>
                      <a:pt x="3828" y="3576"/>
                    </a:lnTo>
                    <a:lnTo>
                      <a:pt x="3907" y="3582"/>
                    </a:lnTo>
                    <a:lnTo>
                      <a:pt x="3991" y="3588"/>
                    </a:lnTo>
                    <a:lnTo>
                      <a:pt x="4073" y="3597"/>
                    </a:lnTo>
                    <a:lnTo>
                      <a:pt x="4157" y="3602"/>
                    </a:lnTo>
                    <a:lnTo>
                      <a:pt x="4239" y="3614"/>
                    </a:lnTo>
                    <a:lnTo>
                      <a:pt x="4321" y="3619"/>
                    </a:lnTo>
                    <a:lnTo>
                      <a:pt x="4408" y="3622"/>
                    </a:lnTo>
                    <a:lnTo>
                      <a:pt x="4492" y="3622"/>
                    </a:lnTo>
                    <a:lnTo>
                      <a:pt x="4582" y="3617"/>
                    </a:lnTo>
                    <a:lnTo>
                      <a:pt x="4669" y="3608"/>
                    </a:lnTo>
                    <a:lnTo>
                      <a:pt x="4761" y="3588"/>
                    </a:lnTo>
                    <a:lnTo>
                      <a:pt x="4788" y="3576"/>
                    </a:lnTo>
                    <a:lnTo>
                      <a:pt x="4788" y="3545"/>
                    </a:lnTo>
                    <a:lnTo>
                      <a:pt x="4777" y="3513"/>
                    </a:lnTo>
                    <a:lnTo>
                      <a:pt x="4754" y="3487"/>
                    </a:lnTo>
                    <a:lnTo>
                      <a:pt x="4661" y="3510"/>
                    </a:lnTo>
                    <a:lnTo>
                      <a:pt x="4572" y="3525"/>
                    </a:lnTo>
                    <a:lnTo>
                      <a:pt x="4482" y="3530"/>
                    </a:lnTo>
                    <a:lnTo>
                      <a:pt x="4392" y="3533"/>
                    </a:lnTo>
                    <a:lnTo>
                      <a:pt x="4305" y="3530"/>
                    </a:lnTo>
                    <a:lnTo>
                      <a:pt x="4218" y="3525"/>
                    </a:lnTo>
                    <a:lnTo>
                      <a:pt x="4131" y="3519"/>
                    </a:lnTo>
                    <a:lnTo>
                      <a:pt x="4044" y="3510"/>
                    </a:lnTo>
                    <a:lnTo>
                      <a:pt x="3957" y="3502"/>
                    </a:lnTo>
                    <a:lnTo>
                      <a:pt x="3870" y="3493"/>
                    </a:lnTo>
                    <a:lnTo>
                      <a:pt x="3780" y="3490"/>
                    </a:lnTo>
                    <a:lnTo>
                      <a:pt x="3691" y="3487"/>
                    </a:lnTo>
                    <a:lnTo>
                      <a:pt x="3601" y="3490"/>
                    </a:lnTo>
                    <a:lnTo>
                      <a:pt x="3509" y="3499"/>
                    </a:lnTo>
                    <a:lnTo>
                      <a:pt x="3414" y="3516"/>
                    </a:lnTo>
                    <a:lnTo>
                      <a:pt x="3319" y="3536"/>
                    </a:lnTo>
                    <a:lnTo>
                      <a:pt x="3398" y="3499"/>
                    </a:lnTo>
                    <a:lnTo>
                      <a:pt x="3482" y="3470"/>
                    </a:lnTo>
                    <a:lnTo>
                      <a:pt x="3567" y="3453"/>
                    </a:lnTo>
                    <a:lnTo>
                      <a:pt x="3651" y="3441"/>
                    </a:lnTo>
                    <a:lnTo>
                      <a:pt x="3738" y="3438"/>
                    </a:lnTo>
                    <a:lnTo>
                      <a:pt x="3825" y="3438"/>
                    </a:lnTo>
                    <a:lnTo>
                      <a:pt x="3912" y="3447"/>
                    </a:lnTo>
                    <a:lnTo>
                      <a:pt x="4002" y="3456"/>
                    </a:lnTo>
                    <a:lnTo>
                      <a:pt x="4094" y="3464"/>
                    </a:lnTo>
                    <a:lnTo>
                      <a:pt x="4184" y="3473"/>
                    </a:lnTo>
                    <a:lnTo>
                      <a:pt x="4276" y="3482"/>
                    </a:lnTo>
                    <a:lnTo>
                      <a:pt x="4371" y="3487"/>
                    </a:lnTo>
                    <a:lnTo>
                      <a:pt x="4463" y="3487"/>
                    </a:lnTo>
                    <a:lnTo>
                      <a:pt x="4558" y="3482"/>
                    </a:lnTo>
                    <a:lnTo>
                      <a:pt x="4656" y="3467"/>
                    </a:lnTo>
                    <a:lnTo>
                      <a:pt x="4754" y="3447"/>
                    </a:lnTo>
                    <a:lnTo>
                      <a:pt x="4806" y="3398"/>
                    </a:lnTo>
                    <a:lnTo>
                      <a:pt x="4761" y="3338"/>
                    </a:lnTo>
                    <a:lnTo>
                      <a:pt x="4674" y="3361"/>
                    </a:lnTo>
                    <a:lnTo>
                      <a:pt x="4587" y="3375"/>
                    </a:lnTo>
                    <a:lnTo>
                      <a:pt x="4503" y="3387"/>
                    </a:lnTo>
                    <a:lnTo>
                      <a:pt x="4419" y="3395"/>
                    </a:lnTo>
                    <a:lnTo>
                      <a:pt x="4334" y="3398"/>
                    </a:lnTo>
                    <a:lnTo>
                      <a:pt x="4247" y="3398"/>
                    </a:lnTo>
                    <a:lnTo>
                      <a:pt x="4163" y="3398"/>
                    </a:lnTo>
                    <a:lnTo>
                      <a:pt x="4076" y="3395"/>
                    </a:lnTo>
                    <a:lnTo>
                      <a:pt x="3991" y="3395"/>
                    </a:lnTo>
                    <a:lnTo>
                      <a:pt x="3907" y="3393"/>
                    </a:lnTo>
                    <a:lnTo>
                      <a:pt x="3825" y="3390"/>
                    </a:lnTo>
                    <a:lnTo>
                      <a:pt x="3741" y="3387"/>
                    </a:lnTo>
                    <a:lnTo>
                      <a:pt x="3659" y="3387"/>
                    </a:lnTo>
                    <a:lnTo>
                      <a:pt x="3575" y="3387"/>
                    </a:lnTo>
                    <a:lnTo>
                      <a:pt x="3490" y="3393"/>
                    </a:lnTo>
                    <a:lnTo>
                      <a:pt x="3411" y="3398"/>
                    </a:lnTo>
                    <a:lnTo>
                      <a:pt x="3385" y="3401"/>
                    </a:lnTo>
                    <a:lnTo>
                      <a:pt x="3356" y="3410"/>
                    </a:lnTo>
                    <a:lnTo>
                      <a:pt x="3329" y="3421"/>
                    </a:lnTo>
                    <a:lnTo>
                      <a:pt x="3303" y="3430"/>
                    </a:lnTo>
                    <a:lnTo>
                      <a:pt x="3276" y="3438"/>
                    </a:lnTo>
                    <a:lnTo>
                      <a:pt x="3253" y="3447"/>
                    </a:lnTo>
                    <a:lnTo>
                      <a:pt x="3232" y="3450"/>
                    </a:lnTo>
                    <a:lnTo>
                      <a:pt x="3213" y="3447"/>
                    </a:lnTo>
                    <a:lnTo>
                      <a:pt x="3308" y="3401"/>
                    </a:lnTo>
                    <a:lnTo>
                      <a:pt x="3408" y="3370"/>
                    </a:lnTo>
                    <a:lnTo>
                      <a:pt x="3506" y="3349"/>
                    </a:lnTo>
                    <a:lnTo>
                      <a:pt x="3604" y="3335"/>
                    </a:lnTo>
                    <a:lnTo>
                      <a:pt x="3704" y="3329"/>
                    </a:lnTo>
                    <a:lnTo>
                      <a:pt x="3801" y="3329"/>
                    </a:lnTo>
                    <a:lnTo>
                      <a:pt x="3899" y="3335"/>
                    </a:lnTo>
                    <a:lnTo>
                      <a:pt x="3997" y="3341"/>
                    </a:lnTo>
                    <a:lnTo>
                      <a:pt x="4099" y="3349"/>
                    </a:lnTo>
                    <a:lnTo>
                      <a:pt x="4197" y="3358"/>
                    </a:lnTo>
                    <a:lnTo>
                      <a:pt x="4295" y="3361"/>
                    </a:lnTo>
                    <a:lnTo>
                      <a:pt x="4397" y="3364"/>
                    </a:lnTo>
                    <a:lnTo>
                      <a:pt x="4495" y="3358"/>
                    </a:lnTo>
                    <a:lnTo>
                      <a:pt x="4593" y="3349"/>
                    </a:lnTo>
                    <a:lnTo>
                      <a:pt x="4693" y="3326"/>
                    </a:lnTo>
                    <a:lnTo>
                      <a:pt x="4790" y="3298"/>
                    </a:lnTo>
                    <a:lnTo>
                      <a:pt x="4790" y="3263"/>
                    </a:lnTo>
                    <a:lnTo>
                      <a:pt x="4769" y="3243"/>
                    </a:lnTo>
                    <a:lnTo>
                      <a:pt x="4748" y="3232"/>
                    </a:lnTo>
                    <a:lnTo>
                      <a:pt x="4725" y="3214"/>
                    </a:lnTo>
                    <a:lnTo>
                      <a:pt x="4632" y="3237"/>
                    </a:lnTo>
                    <a:lnTo>
                      <a:pt x="4537" y="3255"/>
                    </a:lnTo>
                    <a:lnTo>
                      <a:pt x="4442" y="3266"/>
                    </a:lnTo>
                    <a:lnTo>
                      <a:pt x="4347" y="3272"/>
                    </a:lnTo>
                    <a:lnTo>
                      <a:pt x="4255" y="3272"/>
                    </a:lnTo>
                    <a:lnTo>
                      <a:pt x="4163" y="3272"/>
                    </a:lnTo>
                    <a:lnTo>
                      <a:pt x="4068" y="3266"/>
                    </a:lnTo>
                    <a:lnTo>
                      <a:pt x="3975" y="3263"/>
                    </a:lnTo>
                    <a:lnTo>
                      <a:pt x="3883" y="3257"/>
                    </a:lnTo>
                    <a:lnTo>
                      <a:pt x="3788" y="3255"/>
                    </a:lnTo>
                    <a:lnTo>
                      <a:pt x="3693" y="3252"/>
                    </a:lnTo>
                    <a:lnTo>
                      <a:pt x="3601" y="3252"/>
                    </a:lnTo>
                    <a:lnTo>
                      <a:pt x="3509" y="3255"/>
                    </a:lnTo>
                    <a:lnTo>
                      <a:pt x="3416" y="3260"/>
                    </a:lnTo>
                    <a:lnTo>
                      <a:pt x="3321" y="3272"/>
                    </a:lnTo>
                    <a:lnTo>
                      <a:pt x="3229" y="3292"/>
                    </a:lnTo>
                    <a:lnTo>
                      <a:pt x="3184" y="3309"/>
                    </a:lnTo>
                    <a:lnTo>
                      <a:pt x="3142" y="3338"/>
                    </a:lnTo>
                    <a:lnTo>
                      <a:pt x="3097" y="3370"/>
                    </a:lnTo>
                    <a:lnTo>
                      <a:pt x="3052" y="3401"/>
                    </a:lnTo>
                    <a:lnTo>
                      <a:pt x="3010" y="3424"/>
                    </a:lnTo>
                    <a:lnTo>
                      <a:pt x="2971" y="3430"/>
                    </a:lnTo>
                    <a:lnTo>
                      <a:pt x="2931" y="3421"/>
                    </a:lnTo>
                    <a:lnTo>
                      <a:pt x="2894" y="3384"/>
                    </a:lnTo>
                    <a:lnTo>
                      <a:pt x="2804" y="3326"/>
                    </a:lnTo>
                    <a:lnTo>
                      <a:pt x="2712" y="3289"/>
                    </a:lnTo>
                    <a:lnTo>
                      <a:pt x="2622" y="3263"/>
                    </a:lnTo>
                    <a:lnTo>
                      <a:pt x="2527" y="3252"/>
                    </a:lnTo>
                    <a:lnTo>
                      <a:pt x="2432" y="3246"/>
                    </a:lnTo>
                    <a:lnTo>
                      <a:pt x="2337" y="3257"/>
                    </a:lnTo>
                    <a:lnTo>
                      <a:pt x="2240" y="3269"/>
                    </a:lnTo>
                    <a:lnTo>
                      <a:pt x="2145" y="3292"/>
                    </a:lnTo>
                    <a:lnTo>
                      <a:pt x="2047" y="3318"/>
                    </a:lnTo>
                    <a:lnTo>
                      <a:pt x="1950" y="3341"/>
                    </a:lnTo>
                    <a:lnTo>
                      <a:pt x="1852" y="3370"/>
                    </a:lnTo>
                    <a:lnTo>
                      <a:pt x="1755" y="3395"/>
                    </a:lnTo>
                    <a:lnTo>
                      <a:pt x="1657" y="3418"/>
                    </a:lnTo>
                    <a:lnTo>
                      <a:pt x="1557" y="3433"/>
                    </a:lnTo>
                    <a:lnTo>
                      <a:pt x="1459" y="3447"/>
                    </a:lnTo>
                    <a:lnTo>
                      <a:pt x="1364" y="3447"/>
                    </a:lnTo>
                    <a:lnTo>
                      <a:pt x="1319" y="3438"/>
                    </a:lnTo>
                    <a:lnTo>
                      <a:pt x="1277" y="3430"/>
                    </a:lnTo>
                    <a:lnTo>
                      <a:pt x="1232" y="3416"/>
                    </a:lnTo>
                    <a:lnTo>
                      <a:pt x="1193" y="3395"/>
                    </a:lnTo>
                    <a:lnTo>
                      <a:pt x="1153" y="3384"/>
                    </a:lnTo>
                    <a:lnTo>
                      <a:pt x="1111" y="3372"/>
                    </a:lnTo>
                    <a:lnTo>
                      <a:pt x="1071" y="3375"/>
                    </a:lnTo>
                    <a:lnTo>
                      <a:pt x="1032" y="3390"/>
                    </a:lnTo>
                    <a:lnTo>
                      <a:pt x="1019" y="3530"/>
                    </a:lnTo>
                    <a:lnTo>
                      <a:pt x="1008" y="3688"/>
                    </a:lnTo>
                    <a:lnTo>
                      <a:pt x="1000" y="3849"/>
                    </a:lnTo>
                    <a:lnTo>
                      <a:pt x="987" y="3990"/>
                    </a:lnTo>
                    <a:lnTo>
                      <a:pt x="1098" y="3990"/>
                    </a:lnTo>
                    <a:lnTo>
                      <a:pt x="1209" y="3987"/>
                    </a:lnTo>
                    <a:lnTo>
                      <a:pt x="1317" y="3981"/>
                    </a:lnTo>
                    <a:lnTo>
                      <a:pt x="1425" y="3973"/>
                    </a:lnTo>
                    <a:lnTo>
                      <a:pt x="1528" y="3959"/>
                    </a:lnTo>
                    <a:lnTo>
                      <a:pt x="1636" y="3944"/>
                    </a:lnTo>
                    <a:lnTo>
                      <a:pt x="1739" y="3927"/>
                    </a:lnTo>
                    <a:lnTo>
                      <a:pt x="1847" y="3913"/>
                    </a:lnTo>
                    <a:lnTo>
                      <a:pt x="1952" y="3892"/>
                    </a:lnTo>
                    <a:lnTo>
                      <a:pt x="2058" y="3878"/>
                    </a:lnTo>
                    <a:lnTo>
                      <a:pt x="2166" y="3861"/>
                    </a:lnTo>
                    <a:lnTo>
                      <a:pt x="2277" y="3846"/>
                    </a:lnTo>
                    <a:lnTo>
                      <a:pt x="2382" y="3835"/>
                    </a:lnTo>
                    <a:lnTo>
                      <a:pt x="2496" y="3821"/>
                    </a:lnTo>
                    <a:lnTo>
                      <a:pt x="2607" y="3815"/>
                    </a:lnTo>
                    <a:lnTo>
                      <a:pt x="2720" y="3809"/>
                    </a:lnTo>
                    <a:lnTo>
                      <a:pt x="2757" y="3835"/>
                    </a:lnTo>
                    <a:lnTo>
                      <a:pt x="2773" y="3881"/>
                    </a:lnTo>
                    <a:lnTo>
                      <a:pt x="2789" y="3933"/>
                    </a:lnTo>
                    <a:lnTo>
                      <a:pt x="2804" y="3967"/>
                    </a:lnTo>
                    <a:lnTo>
                      <a:pt x="2831" y="3984"/>
                    </a:lnTo>
                    <a:lnTo>
                      <a:pt x="2860" y="3999"/>
                    </a:lnTo>
                    <a:lnTo>
                      <a:pt x="2894" y="4007"/>
                    </a:lnTo>
                    <a:lnTo>
                      <a:pt x="2934" y="4013"/>
                    </a:lnTo>
                    <a:lnTo>
                      <a:pt x="2968" y="4016"/>
                    </a:lnTo>
                    <a:lnTo>
                      <a:pt x="3005" y="4010"/>
                    </a:lnTo>
                    <a:lnTo>
                      <a:pt x="3036" y="4002"/>
                    </a:lnTo>
                    <a:lnTo>
                      <a:pt x="3068" y="3981"/>
                    </a:lnTo>
                    <a:lnTo>
                      <a:pt x="3105" y="3967"/>
                    </a:lnTo>
                    <a:lnTo>
                      <a:pt x="3131" y="3941"/>
                    </a:lnTo>
                    <a:lnTo>
                      <a:pt x="3150" y="3907"/>
                    </a:lnTo>
                    <a:lnTo>
                      <a:pt x="3163" y="3869"/>
                    </a:lnTo>
                    <a:lnTo>
                      <a:pt x="3179" y="3829"/>
                    </a:lnTo>
                    <a:lnTo>
                      <a:pt x="3192" y="3792"/>
                    </a:lnTo>
                    <a:lnTo>
                      <a:pt x="3211" y="3763"/>
                    </a:lnTo>
                    <a:lnTo>
                      <a:pt x="3234" y="3743"/>
                    </a:lnTo>
                    <a:lnTo>
                      <a:pt x="3329" y="3746"/>
                    </a:lnTo>
                    <a:lnTo>
                      <a:pt x="3427" y="3749"/>
                    </a:lnTo>
                    <a:lnTo>
                      <a:pt x="3527" y="3755"/>
                    </a:lnTo>
                    <a:lnTo>
                      <a:pt x="3622" y="3763"/>
                    </a:lnTo>
                    <a:lnTo>
                      <a:pt x="3720" y="3772"/>
                    </a:lnTo>
                    <a:lnTo>
                      <a:pt x="3817" y="3780"/>
                    </a:lnTo>
                    <a:lnTo>
                      <a:pt x="3915" y="3789"/>
                    </a:lnTo>
                    <a:lnTo>
                      <a:pt x="4012" y="3798"/>
                    </a:lnTo>
                    <a:lnTo>
                      <a:pt x="4107" y="3812"/>
                    </a:lnTo>
                    <a:lnTo>
                      <a:pt x="4205" y="3821"/>
                    </a:lnTo>
                    <a:lnTo>
                      <a:pt x="4303" y="3829"/>
                    </a:lnTo>
                    <a:lnTo>
                      <a:pt x="4397" y="3838"/>
                    </a:lnTo>
                    <a:lnTo>
                      <a:pt x="4492" y="3846"/>
                    </a:lnTo>
                    <a:lnTo>
                      <a:pt x="4587" y="3852"/>
                    </a:lnTo>
                    <a:lnTo>
                      <a:pt x="4685" y="3855"/>
                    </a:lnTo>
                    <a:lnTo>
                      <a:pt x="4777" y="3858"/>
                    </a:lnTo>
                    <a:lnTo>
                      <a:pt x="4814" y="3818"/>
                    </a:lnTo>
                    <a:lnTo>
                      <a:pt x="4796" y="3792"/>
                    </a:lnTo>
                    <a:lnTo>
                      <a:pt x="4777" y="3783"/>
                    </a:lnTo>
                    <a:lnTo>
                      <a:pt x="4754" y="3778"/>
                    </a:lnTo>
                    <a:lnTo>
                      <a:pt x="4727" y="3778"/>
                    </a:lnTo>
                    <a:lnTo>
                      <a:pt x="4706" y="3775"/>
                    </a:lnTo>
                    <a:lnTo>
                      <a:pt x="4690" y="3766"/>
                    </a:lnTo>
                    <a:lnTo>
                      <a:pt x="4680" y="3755"/>
                    </a:lnTo>
                    <a:lnTo>
                      <a:pt x="4677" y="3726"/>
                    </a:lnTo>
                    <a:lnTo>
                      <a:pt x="4798" y="3737"/>
                    </a:lnTo>
                    <a:lnTo>
                      <a:pt x="4817" y="3711"/>
                    </a:lnTo>
                    <a:lnTo>
                      <a:pt x="4809" y="3688"/>
                    </a:lnTo>
                    <a:lnTo>
                      <a:pt x="4788" y="3668"/>
                    </a:lnTo>
                    <a:lnTo>
                      <a:pt x="4777" y="3645"/>
                    </a:lnTo>
                    <a:lnTo>
                      <a:pt x="4806" y="3674"/>
                    </a:lnTo>
                    <a:lnTo>
                      <a:pt x="4830" y="3706"/>
                    </a:lnTo>
                    <a:lnTo>
                      <a:pt x="4859" y="3737"/>
                    </a:lnTo>
                    <a:lnTo>
                      <a:pt x="4885" y="3766"/>
                    </a:lnTo>
                    <a:lnTo>
                      <a:pt x="4912" y="3803"/>
                    </a:lnTo>
                    <a:lnTo>
                      <a:pt x="4941" y="3829"/>
                    </a:lnTo>
                    <a:lnTo>
                      <a:pt x="4967" y="3861"/>
                    </a:lnTo>
                    <a:lnTo>
                      <a:pt x="4996" y="3890"/>
                    </a:lnTo>
                    <a:lnTo>
                      <a:pt x="5001" y="3918"/>
                    </a:lnTo>
                    <a:lnTo>
                      <a:pt x="5001" y="3938"/>
                    </a:lnTo>
                    <a:lnTo>
                      <a:pt x="4994" y="3953"/>
                    </a:lnTo>
                    <a:lnTo>
                      <a:pt x="4978" y="3967"/>
                    </a:lnTo>
                    <a:lnTo>
                      <a:pt x="4965" y="3979"/>
                    </a:lnTo>
                    <a:lnTo>
                      <a:pt x="4943" y="3987"/>
                    </a:lnTo>
                    <a:lnTo>
                      <a:pt x="4928" y="4002"/>
                    </a:lnTo>
                    <a:lnTo>
                      <a:pt x="4912" y="4016"/>
                    </a:lnTo>
                    <a:lnTo>
                      <a:pt x="4841" y="4013"/>
                    </a:lnTo>
                    <a:lnTo>
                      <a:pt x="4751" y="4010"/>
                    </a:lnTo>
                    <a:lnTo>
                      <a:pt x="4648" y="4004"/>
                    </a:lnTo>
                    <a:lnTo>
                      <a:pt x="4532" y="3996"/>
                    </a:lnTo>
                    <a:lnTo>
                      <a:pt x="4408" y="3981"/>
                    </a:lnTo>
                    <a:lnTo>
                      <a:pt x="4279" y="3970"/>
                    </a:lnTo>
                    <a:lnTo>
                      <a:pt x="4144" y="3956"/>
                    </a:lnTo>
                    <a:lnTo>
                      <a:pt x="4010" y="3944"/>
                    </a:lnTo>
                    <a:lnTo>
                      <a:pt x="3875" y="3933"/>
                    </a:lnTo>
                    <a:lnTo>
                      <a:pt x="3746" y="3918"/>
                    </a:lnTo>
                    <a:lnTo>
                      <a:pt x="3625" y="3910"/>
                    </a:lnTo>
                    <a:lnTo>
                      <a:pt x="3514" y="3895"/>
                    </a:lnTo>
                    <a:lnTo>
                      <a:pt x="3416" y="3890"/>
                    </a:lnTo>
                    <a:lnTo>
                      <a:pt x="3332" y="3884"/>
                    </a:lnTo>
                    <a:lnTo>
                      <a:pt x="3266" y="3884"/>
                    </a:lnTo>
                    <a:lnTo>
                      <a:pt x="3218" y="3884"/>
                    </a:lnTo>
                    <a:lnTo>
                      <a:pt x="3205" y="3910"/>
                    </a:lnTo>
                    <a:lnTo>
                      <a:pt x="3189" y="3936"/>
                    </a:lnTo>
                    <a:lnTo>
                      <a:pt x="3174" y="3964"/>
                    </a:lnTo>
                    <a:lnTo>
                      <a:pt x="3153" y="3984"/>
                    </a:lnTo>
                    <a:lnTo>
                      <a:pt x="3129" y="4010"/>
                    </a:lnTo>
                    <a:lnTo>
                      <a:pt x="3102" y="4030"/>
                    </a:lnTo>
                    <a:lnTo>
                      <a:pt x="3073" y="4045"/>
                    </a:lnTo>
                    <a:lnTo>
                      <a:pt x="3039" y="4056"/>
                    </a:lnTo>
                    <a:lnTo>
                      <a:pt x="2978" y="4073"/>
                    </a:lnTo>
                    <a:lnTo>
                      <a:pt x="2923" y="4073"/>
                    </a:lnTo>
                    <a:lnTo>
                      <a:pt x="2876" y="4053"/>
                    </a:lnTo>
                    <a:lnTo>
                      <a:pt x="2831" y="4030"/>
                    </a:lnTo>
                    <a:lnTo>
                      <a:pt x="2789" y="4002"/>
                    </a:lnTo>
                    <a:lnTo>
                      <a:pt x="2746" y="3970"/>
                    </a:lnTo>
                    <a:lnTo>
                      <a:pt x="2704" y="3944"/>
                    </a:lnTo>
                    <a:lnTo>
                      <a:pt x="2659" y="3924"/>
                    </a:lnTo>
                    <a:lnTo>
                      <a:pt x="2551" y="3927"/>
                    </a:lnTo>
                    <a:lnTo>
                      <a:pt x="2443" y="3936"/>
                    </a:lnTo>
                    <a:lnTo>
                      <a:pt x="2332" y="3944"/>
                    </a:lnTo>
                    <a:lnTo>
                      <a:pt x="2224" y="3953"/>
                    </a:lnTo>
                    <a:lnTo>
                      <a:pt x="2113" y="3970"/>
                    </a:lnTo>
                    <a:lnTo>
                      <a:pt x="2002" y="3984"/>
                    </a:lnTo>
                    <a:lnTo>
                      <a:pt x="1892" y="4004"/>
                    </a:lnTo>
                    <a:lnTo>
                      <a:pt x="1781" y="4022"/>
                    </a:lnTo>
                    <a:lnTo>
                      <a:pt x="1667" y="4042"/>
                    </a:lnTo>
                    <a:lnTo>
                      <a:pt x="1554" y="4062"/>
                    </a:lnTo>
                    <a:lnTo>
                      <a:pt x="1441" y="4079"/>
                    </a:lnTo>
                    <a:lnTo>
                      <a:pt x="1330" y="4096"/>
                    </a:lnTo>
                    <a:lnTo>
                      <a:pt x="1216" y="4111"/>
                    </a:lnTo>
                    <a:lnTo>
                      <a:pt x="1103" y="4125"/>
                    </a:lnTo>
                    <a:lnTo>
                      <a:pt x="990" y="4134"/>
                    </a:lnTo>
                    <a:lnTo>
                      <a:pt x="874" y="4140"/>
                    </a:lnTo>
                    <a:lnTo>
                      <a:pt x="768" y="4022"/>
                    </a:lnTo>
                    <a:lnTo>
                      <a:pt x="3" y="2352"/>
                    </a:lnTo>
                    <a:lnTo>
                      <a:pt x="0" y="2309"/>
                    </a:lnTo>
                    <a:lnTo>
                      <a:pt x="11" y="2286"/>
                    </a:lnTo>
                    <a:lnTo>
                      <a:pt x="32" y="2269"/>
                    </a:lnTo>
                    <a:lnTo>
                      <a:pt x="64" y="2261"/>
                    </a:lnTo>
                    <a:lnTo>
                      <a:pt x="98" y="2258"/>
                    </a:lnTo>
                    <a:lnTo>
                      <a:pt x="138" y="2252"/>
                    </a:lnTo>
                    <a:lnTo>
                      <a:pt x="172" y="2243"/>
                    </a:lnTo>
                    <a:lnTo>
                      <a:pt x="204" y="2229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52440" y="1216080"/>
              <a:ext cx="306360" cy="770040"/>
              <a:chOff x="352440" y="1216080"/>
              <a:chExt cx="306360" cy="770040"/>
            </a:xfrm>
          </p:grpSpPr>
          <p:sp>
            <p:nvSpPr>
              <p:cNvPr id="324" name=""/>
              <p:cNvSpPr/>
              <p:nvPr/>
            </p:nvSpPr>
            <p:spPr>
              <a:xfrm>
                <a:off x="352440" y="1216080"/>
                <a:ext cx="306360" cy="770040"/>
              </a:xfrm>
              <a:custGeom>
                <a:avLst/>
                <a:gdLst/>
                <a:ahLst/>
                <a:rect l="l" t="t" r="r" b="b"/>
                <a:pathLst>
                  <a:path w="852" h="2140">
                    <a:moveTo>
                      <a:pt x="0" y="678"/>
                    </a:moveTo>
                    <a:lnTo>
                      <a:pt x="40" y="759"/>
                    </a:lnTo>
                    <a:lnTo>
                      <a:pt x="88" y="851"/>
                    </a:lnTo>
                    <a:lnTo>
                      <a:pt x="136" y="951"/>
                    </a:lnTo>
                    <a:lnTo>
                      <a:pt x="186" y="1060"/>
                    </a:lnTo>
                    <a:lnTo>
                      <a:pt x="242" y="1173"/>
                    </a:lnTo>
                    <a:lnTo>
                      <a:pt x="295" y="1288"/>
                    </a:lnTo>
                    <a:lnTo>
                      <a:pt x="350" y="1400"/>
                    </a:lnTo>
                    <a:lnTo>
                      <a:pt x="401" y="1515"/>
                    </a:lnTo>
                    <a:lnTo>
                      <a:pt x="451" y="1621"/>
                    </a:lnTo>
                    <a:lnTo>
                      <a:pt x="499" y="1722"/>
                    </a:lnTo>
                    <a:lnTo>
                      <a:pt x="541" y="1817"/>
                    </a:lnTo>
                    <a:lnTo>
                      <a:pt x="581" y="1897"/>
                    </a:lnTo>
                    <a:lnTo>
                      <a:pt x="613" y="1969"/>
                    </a:lnTo>
                    <a:lnTo>
                      <a:pt x="642" y="2024"/>
                    </a:lnTo>
                    <a:lnTo>
                      <a:pt x="661" y="2064"/>
                    </a:lnTo>
                    <a:lnTo>
                      <a:pt x="671" y="2081"/>
                    </a:lnTo>
                    <a:lnTo>
                      <a:pt x="684" y="2098"/>
                    </a:lnTo>
                    <a:lnTo>
                      <a:pt x="695" y="2116"/>
                    </a:lnTo>
                    <a:lnTo>
                      <a:pt x="711" y="2133"/>
                    </a:lnTo>
                    <a:lnTo>
                      <a:pt x="727" y="2139"/>
                    </a:lnTo>
                    <a:lnTo>
                      <a:pt x="700" y="2072"/>
                    </a:lnTo>
                    <a:lnTo>
                      <a:pt x="669" y="2003"/>
                    </a:lnTo>
                    <a:lnTo>
                      <a:pt x="637" y="1929"/>
                    </a:lnTo>
                    <a:lnTo>
                      <a:pt x="602" y="1854"/>
                    </a:lnTo>
                    <a:lnTo>
                      <a:pt x="568" y="1779"/>
                    </a:lnTo>
                    <a:lnTo>
                      <a:pt x="533" y="1707"/>
                    </a:lnTo>
                    <a:lnTo>
                      <a:pt x="502" y="1635"/>
                    </a:lnTo>
                    <a:lnTo>
                      <a:pt x="470" y="1569"/>
                    </a:lnTo>
                    <a:lnTo>
                      <a:pt x="446" y="1520"/>
                    </a:lnTo>
                    <a:lnTo>
                      <a:pt x="419" y="1469"/>
                    </a:lnTo>
                    <a:lnTo>
                      <a:pt x="393" y="1420"/>
                    </a:lnTo>
                    <a:lnTo>
                      <a:pt x="369" y="1365"/>
                    </a:lnTo>
                    <a:lnTo>
                      <a:pt x="350" y="1313"/>
                    </a:lnTo>
                    <a:lnTo>
                      <a:pt x="335" y="1267"/>
                    </a:lnTo>
                    <a:lnTo>
                      <a:pt x="324" y="1216"/>
                    </a:lnTo>
                    <a:lnTo>
                      <a:pt x="324" y="1173"/>
                    </a:lnTo>
                    <a:lnTo>
                      <a:pt x="393" y="1299"/>
                    </a:lnTo>
                    <a:lnTo>
                      <a:pt x="425" y="1391"/>
                    </a:lnTo>
                    <a:lnTo>
                      <a:pt x="470" y="1486"/>
                    </a:lnTo>
                    <a:lnTo>
                      <a:pt x="517" y="1584"/>
                    </a:lnTo>
                    <a:lnTo>
                      <a:pt x="576" y="1681"/>
                    </a:lnTo>
                    <a:lnTo>
                      <a:pt x="631" y="1782"/>
                    </a:lnTo>
                    <a:lnTo>
                      <a:pt x="684" y="1883"/>
                    </a:lnTo>
                    <a:lnTo>
                      <a:pt x="727" y="1986"/>
                    </a:lnTo>
                    <a:lnTo>
                      <a:pt x="759" y="2093"/>
                    </a:lnTo>
                    <a:lnTo>
                      <a:pt x="783" y="2104"/>
                    </a:lnTo>
                    <a:lnTo>
                      <a:pt x="751" y="1992"/>
                    </a:lnTo>
                    <a:lnTo>
                      <a:pt x="714" y="1888"/>
                    </a:lnTo>
                    <a:lnTo>
                      <a:pt x="669" y="1785"/>
                    </a:lnTo>
                    <a:lnTo>
                      <a:pt x="624" y="1681"/>
                    </a:lnTo>
                    <a:lnTo>
                      <a:pt x="573" y="1584"/>
                    </a:lnTo>
                    <a:lnTo>
                      <a:pt x="523" y="1483"/>
                    </a:lnTo>
                    <a:lnTo>
                      <a:pt x="472" y="1380"/>
                    </a:lnTo>
                    <a:lnTo>
                      <a:pt x="419" y="1279"/>
                    </a:lnTo>
                    <a:lnTo>
                      <a:pt x="419" y="1267"/>
                    </a:lnTo>
                    <a:lnTo>
                      <a:pt x="409" y="1239"/>
                    </a:lnTo>
                    <a:lnTo>
                      <a:pt x="388" y="1198"/>
                    </a:lnTo>
                    <a:lnTo>
                      <a:pt x="364" y="1150"/>
                    </a:lnTo>
                    <a:lnTo>
                      <a:pt x="337" y="1098"/>
                    </a:lnTo>
                    <a:lnTo>
                      <a:pt x="313" y="1040"/>
                    </a:lnTo>
                    <a:lnTo>
                      <a:pt x="300" y="986"/>
                    </a:lnTo>
                    <a:lnTo>
                      <a:pt x="292" y="934"/>
                    </a:lnTo>
                    <a:lnTo>
                      <a:pt x="313" y="986"/>
                    </a:lnTo>
                    <a:lnTo>
                      <a:pt x="342" y="1043"/>
                    </a:lnTo>
                    <a:lnTo>
                      <a:pt x="372" y="1106"/>
                    </a:lnTo>
                    <a:lnTo>
                      <a:pt x="409" y="1173"/>
                    </a:lnTo>
                    <a:lnTo>
                      <a:pt x="443" y="1242"/>
                    </a:lnTo>
                    <a:lnTo>
                      <a:pt x="478" y="1311"/>
                    </a:lnTo>
                    <a:lnTo>
                      <a:pt x="515" y="1385"/>
                    </a:lnTo>
                    <a:lnTo>
                      <a:pt x="549" y="1457"/>
                    </a:lnTo>
                    <a:lnTo>
                      <a:pt x="589" y="1529"/>
                    </a:lnTo>
                    <a:lnTo>
                      <a:pt x="624" y="1598"/>
                    </a:lnTo>
                    <a:lnTo>
                      <a:pt x="658" y="1667"/>
                    </a:lnTo>
                    <a:lnTo>
                      <a:pt x="690" y="1730"/>
                    </a:lnTo>
                    <a:lnTo>
                      <a:pt x="719" y="1791"/>
                    </a:lnTo>
                    <a:lnTo>
                      <a:pt x="743" y="1848"/>
                    </a:lnTo>
                    <a:lnTo>
                      <a:pt x="767" y="1897"/>
                    </a:lnTo>
                    <a:lnTo>
                      <a:pt x="783" y="1943"/>
                    </a:lnTo>
                    <a:lnTo>
                      <a:pt x="788" y="1946"/>
                    </a:lnTo>
                    <a:lnTo>
                      <a:pt x="793" y="1943"/>
                    </a:lnTo>
                    <a:lnTo>
                      <a:pt x="798" y="1934"/>
                    </a:lnTo>
                    <a:lnTo>
                      <a:pt x="798" y="1920"/>
                    </a:lnTo>
                    <a:lnTo>
                      <a:pt x="772" y="1848"/>
                    </a:lnTo>
                    <a:lnTo>
                      <a:pt x="743" y="1776"/>
                    </a:lnTo>
                    <a:lnTo>
                      <a:pt x="714" y="1707"/>
                    </a:lnTo>
                    <a:lnTo>
                      <a:pt x="684" y="1635"/>
                    </a:lnTo>
                    <a:lnTo>
                      <a:pt x="653" y="1569"/>
                    </a:lnTo>
                    <a:lnTo>
                      <a:pt x="621" y="1503"/>
                    </a:lnTo>
                    <a:lnTo>
                      <a:pt x="589" y="1434"/>
                    </a:lnTo>
                    <a:lnTo>
                      <a:pt x="557" y="1368"/>
                    </a:lnTo>
                    <a:lnTo>
                      <a:pt x="523" y="1302"/>
                    </a:lnTo>
                    <a:lnTo>
                      <a:pt x="491" y="1233"/>
                    </a:lnTo>
                    <a:lnTo>
                      <a:pt x="462" y="1164"/>
                    </a:lnTo>
                    <a:lnTo>
                      <a:pt x="430" y="1089"/>
                    </a:lnTo>
                    <a:lnTo>
                      <a:pt x="401" y="1014"/>
                    </a:lnTo>
                    <a:lnTo>
                      <a:pt x="372" y="940"/>
                    </a:lnTo>
                    <a:lnTo>
                      <a:pt x="345" y="859"/>
                    </a:lnTo>
                    <a:lnTo>
                      <a:pt x="321" y="779"/>
                    </a:lnTo>
                    <a:lnTo>
                      <a:pt x="345" y="842"/>
                    </a:lnTo>
                    <a:lnTo>
                      <a:pt x="374" y="902"/>
                    </a:lnTo>
                    <a:lnTo>
                      <a:pt x="403" y="966"/>
                    </a:lnTo>
                    <a:lnTo>
                      <a:pt x="433" y="1023"/>
                    </a:lnTo>
                    <a:lnTo>
                      <a:pt x="462" y="1086"/>
                    </a:lnTo>
                    <a:lnTo>
                      <a:pt x="491" y="1150"/>
                    </a:lnTo>
                    <a:lnTo>
                      <a:pt x="523" y="1213"/>
                    </a:lnTo>
                    <a:lnTo>
                      <a:pt x="552" y="1276"/>
                    </a:lnTo>
                    <a:lnTo>
                      <a:pt x="581" y="1339"/>
                    </a:lnTo>
                    <a:lnTo>
                      <a:pt x="613" y="1403"/>
                    </a:lnTo>
                    <a:lnTo>
                      <a:pt x="642" y="1466"/>
                    </a:lnTo>
                    <a:lnTo>
                      <a:pt x="671" y="1529"/>
                    </a:lnTo>
                    <a:lnTo>
                      <a:pt x="700" y="1595"/>
                    </a:lnTo>
                    <a:lnTo>
                      <a:pt x="730" y="1658"/>
                    </a:lnTo>
                    <a:lnTo>
                      <a:pt x="759" y="1722"/>
                    </a:lnTo>
                    <a:lnTo>
                      <a:pt x="785" y="1788"/>
                    </a:lnTo>
                    <a:lnTo>
                      <a:pt x="820" y="1799"/>
                    </a:lnTo>
                    <a:lnTo>
                      <a:pt x="801" y="1681"/>
                    </a:lnTo>
                    <a:lnTo>
                      <a:pt x="809" y="1679"/>
                    </a:lnTo>
                    <a:lnTo>
                      <a:pt x="830" y="1664"/>
                    </a:lnTo>
                    <a:lnTo>
                      <a:pt x="846" y="1650"/>
                    </a:lnTo>
                    <a:lnTo>
                      <a:pt x="851" y="1627"/>
                    </a:lnTo>
                    <a:lnTo>
                      <a:pt x="809" y="1532"/>
                    </a:lnTo>
                    <a:lnTo>
                      <a:pt x="761" y="1428"/>
                    </a:lnTo>
                    <a:lnTo>
                      <a:pt x="714" y="1319"/>
                    </a:lnTo>
                    <a:lnTo>
                      <a:pt x="661" y="1201"/>
                    </a:lnTo>
                    <a:lnTo>
                      <a:pt x="608" y="1083"/>
                    </a:lnTo>
                    <a:lnTo>
                      <a:pt x="557" y="960"/>
                    </a:lnTo>
                    <a:lnTo>
                      <a:pt x="504" y="842"/>
                    </a:lnTo>
                    <a:lnTo>
                      <a:pt x="451" y="721"/>
                    </a:lnTo>
                    <a:lnTo>
                      <a:pt x="401" y="603"/>
                    </a:lnTo>
                    <a:lnTo>
                      <a:pt x="356" y="491"/>
                    </a:lnTo>
                    <a:lnTo>
                      <a:pt x="308" y="388"/>
                    </a:lnTo>
                    <a:lnTo>
                      <a:pt x="266" y="287"/>
                    </a:lnTo>
                    <a:lnTo>
                      <a:pt x="228" y="198"/>
                    </a:lnTo>
                    <a:lnTo>
                      <a:pt x="194" y="117"/>
                    </a:lnTo>
                    <a:lnTo>
                      <a:pt x="165" y="51"/>
                    </a:lnTo>
                    <a:lnTo>
                      <a:pt x="146" y="0"/>
                    </a:lnTo>
                    <a:lnTo>
                      <a:pt x="144" y="74"/>
                    </a:lnTo>
                    <a:lnTo>
                      <a:pt x="141" y="163"/>
                    </a:lnTo>
                    <a:lnTo>
                      <a:pt x="133" y="261"/>
                    </a:lnTo>
                    <a:lnTo>
                      <a:pt x="122" y="359"/>
                    </a:lnTo>
                    <a:lnTo>
                      <a:pt x="104" y="457"/>
                    </a:lnTo>
                    <a:lnTo>
                      <a:pt x="83" y="546"/>
                    </a:lnTo>
                    <a:lnTo>
                      <a:pt x="46" y="621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204920" y="639720"/>
              <a:ext cx="563400" cy="480960"/>
              <a:chOff x="1204920" y="639720"/>
              <a:chExt cx="563400" cy="480960"/>
            </a:xfrm>
          </p:grpSpPr>
          <p:sp>
            <p:nvSpPr>
              <p:cNvPr id="326" name=""/>
              <p:cNvSpPr/>
              <p:nvPr/>
            </p:nvSpPr>
            <p:spPr>
              <a:xfrm>
                <a:off x="1204920" y="639720"/>
                <a:ext cx="563400" cy="480960"/>
              </a:xfrm>
              <a:custGeom>
                <a:avLst/>
                <a:gdLst/>
                <a:ahLst/>
                <a:rect l="l" t="t" r="r" b="b"/>
                <a:pathLst>
                  <a:path w="1566" h="1337">
                    <a:moveTo>
                      <a:pt x="137" y="289"/>
                    </a:moveTo>
                    <a:lnTo>
                      <a:pt x="127" y="321"/>
                    </a:lnTo>
                    <a:lnTo>
                      <a:pt x="116" y="355"/>
                    </a:lnTo>
                    <a:lnTo>
                      <a:pt x="103" y="384"/>
                    </a:lnTo>
                    <a:lnTo>
                      <a:pt x="90" y="415"/>
                    </a:lnTo>
                    <a:lnTo>
                      <a:pt x="72" y="444"/>
                    </a:lnTo>
                    <a:lnTo>
                      <a:pt x="53" y="473"/>
                    </a:lnTo>
                    <a:lnTo>
                      <a:pt x="29" y="501"/>
                    </a:lnTo>
                    <a:lnTo>
                      <a:pt x="0" y="527"/>
                    </a:lnTo>
                    <a:lnTo>
                      <a:pt x="48" y="604"/>
                    </a:lnTo>
                    <a:lnTo>
                      <a:pt x="98" y="688"/>
                    </a:lnTo>
                    <a:lnTo>
                      <a:pt x="150" y="765"/>
                    </a:lnTo>
                    <a:lnTo>
                      <a:pt x="206" y="840"/>
                    </a:lnTo>
                    <a:lnTo>
                      <a:pt x="264" y="920"/>
                    </a:lnTo>
                    <a:lnTo>
                      <a:pt x="319" y="994"/>
                    </a:lnTo>
                    <a:lnTo>
                      <a:pt x="369" y="1069"/>
                    </a:lnTo>
                    <a:lnTo>
                      <a:pt x="419" y="1146"/>
                    </a:lnTo>
                    <a:lnTo>
                      <a:pt x="448" y="1123"/>
                    </a:lnTo>
                    <a:lnTo>
                      <a:pt x="479" y="1098"/>
                    </a:lnTo>
                    <a:lnTo>
                      <a:pt x="508" y="1075"/>
                    </a:lnTo>
                    <a:lnTo>
                      <a:pt x="540" y="1052"/>
                    </a:lnTo>
                    <a:lnTo>
                      <a:pt x="574" y="1032"/>
                    </a:lnTo>
                    <a:lnTo>
                      <a:pt x="608" y="1020"/>
                    </a:lnTo>
                    <a:lnTo>
                      <a:pt x="650" y="1017"/>
                    </a:lnTo>
                    <a:lnTo>
                      <a:pt x="692" y="1020"/>
                    </a:lnTo>
                    <a:lnTo>
                      <a:pt x="742" y="1023"/>
                    </a:lnTo>
                    <a:lnTo>
                      <a:pt x="782" y="1046"/>
                    </a:lnTo>
                    <a:lnTo>
                      <a:pt x="813" y="1083"/>
                    </a:lnTo>
                    <a:lnTo>
                      <a:pt x="837" y="1126"/>
                    </a:lnTo>
                    <a:lnTo>
                      <a:pt x="858" y="1175"/>
                    </a:lnTo>
                    <a:lnTo>
                      <a:pt x="868" y="1221"/>
                    </a:lnTo>
                    <a:lnTo>
                      <a:pt x="879" y="1267"/>
                    </a:lnTo>
                    <a:lnTo>
                      <a:pt x="882" y="1301"/>
                    </a:lnTo>
                    <a:lnTo>
                      <a:pt x="895" y="1307"/>
                    </a:lnTo>
                    <a:lnTo>
                      <a:pt x="911" y="1315"/>
                    </a:lnTo>
                    <a:lnTo>
                      <a:pt x="924" y="1321"/>
                    </a:lnTo>
                    <a:lnTo>
                      <a:pt x="939" y="1324"/>
                    </a:lnTo>
                    <a:lnTo>
                      <a:pt x="953" y="1333"/>
                    </a:lnTo>
                    <a:lnTo>
                      <a:pt x="971" y="1336"/>
                    </a:lnTo>
                    <a:lnTo>
                      <a:pt x="982" y="1336"/>
                    </a:lnTo>
                    <a:lnTo>
                      <a:pt x="997" y="1333"/>
                    </a:lnTo>
                    <a:lnTo>
                      <a:pt x="1026" y="1301"/>
                    </a:lnTo>
                    <a:lnTo>
                      <a:pt x="1060" y="1270"/>
                    </a:lnTo>
                    <a:lnTo>
                      <a:pt x="1097" y="1238"/>
                    </a:lnTo>
                    <a:lnTo>
                      <a:pt x="1137" y="1209"/>
                    </a:lnTo>
                    <a:lnTo>
                      <a:pt x="1184" y="1189"/>
                    </a:lnTo>
                    <a:lnTo>
                      <a:pt x="1234" y="1181"/>
                    </a:lnTo>
                    <a:lnTo>
                      <a:pt x="1284" y="1184"/>
                    </a:lnTo>
                    <a:lnTo>
                      <a:pt x="1339" y="1198"/>
                    </a:lnTo>
                    <a:lnTo>
                      <a:pt x="1366" y="1224"/>
                    </a:lnTo>
                    <a:lnTo>
                      <a:pt x="1395" y="1244"/>
                    </a:lnTo>
                    <a:lnTo>
                      <a:pt x="1423" y="1252"/>
                    </a:lnTo>
                    <a:lnTo>
                      <a:pt x="1450" y="1255"/>
                    </a:lnTo>
                    <a:lnTo>
                      <a:pt x="1476" y="1249"/>
                    </a:lnTo>
                    <a:lnTo>
                      <a:pt x="1497" y="1235"/>
                    </a:lnTo>
                    <a:lnTo>
                      <a:pt x="1518" y="1209"/>
                    </a:lnTo>
                    <a:lnTo>
                      <a:pt x="1537" y="1178"/>
                    </a:lnTo>
                    <a:lnTo>
                      <a:pt x="1513" y="928"/>
                    </a:lnTo>
                    <a:lnTo>
                      <a:pt x="1484" y="940"/>
                    </a:lnTo>
                    <a:lnTo>
                      <a:pt x="1458" y="960"/>
                    </a:lnTo>
                    <a:lnTo>
                      <a:pt x="1429" y="983"/>
                    </a:lnTo>
                    <a:lnTo>
                      <a:pt x="1400" y="1003"/>
                    </a:lnTo>
                    <a:lnTo>
                      <a:pt x="1371" y="1026"/>
                    </a:lnTo>
                    <a:lnTo>
                      <a:pt x="1337" y="1043"/>
                    </a:lnTo>
                    <a:lnTo>
                      <a:pt x="1302" y="1049"/>
                    </a:lnTo>
                    <a:lnTo>
                      <a:pt x="1266" y="1046"/>
                    </a:lnTo>
                    <a:lnTo>
                      <a:pt x="1302" y="1009"/>
                    </a:lnTo>
                    <a:lnTo>
                      <a:pt x="1342" y="969"/>
                    </a:lnTo>
                    <a:lnTo>
                      <a:pt x="1384" y="931"/>
                    </a:lnTo>
                    <a:lnTo>
                      <a:pt x="1426" y="897"/>
                    </a:lnTo>
                    <a:lnTo>
                      <a:pt x="1466" y="860"/>
                    </a:lnTo>
                    <a:lnTo>
                      <a:pt x="1508" y="819"/>
                    </a:lnTo>
                    <a:lnTo>
                      <a:pt x="1539" y="774"/>
                    </a:lnTo>
                    <a:lnTo>
                      <a:pt x="1565" y="725"/>
                    </a:lnTo>
                    <a:lnTo>
                      <a:pt x="1560" y="633"/>
                    </a:lnTo>
                    <a:lnTo>
                      <a:pt x="1542" y="553"/>
                    </a:lnTo>
                    <a:lnTo>
                      <a:pt x="1516" y="484"/>
                    </a:lnTo>
                    <a:lnTo>
                      <a:pt x="1481" y="421"/>
                    </a:lnTo>
                    <a:lnTo>
                      <a:pt x="1437" y="364"/>
                    </a:lnTo>
                    <a:lnTo>
                      <a:pt x="1387" y="303"/>
                    </a:lnTo>
                    <a:lnTo>
                      <a:pt x="1326" y="243"/>
                    </a:lnTo>
                    <a:lnTo>
                      <a:pt x="1255" y="174"/>
                    </a:lnTo>
                    <a:lnTo>
                      <a:pt x="1213" y="131"/>
                    </a:lnTo>
                    <a:lnTo>
                      <a:pt x="1166" y="100"/>
                    </a:lnTo>
                    <a:lnTo>
                      <a:pt x="1118" y="68"/>
                    </a:lnTo>
                    <a:lnTo>
                      <a:pt x="1066" y="48"/>
                    </a:lnTo>
                    <a:lnTo>
                      <a:pt x="1013" y="28"/>
                    </a:lnTo>
                    <a:lnTo>
                      <a:pt x="955" y="17"/>
                    </a:lnTo>
                    <a:lnTo>
                      <a:pt x="897" y="8"/>
                    </a:lnTo>
                    <a:lnTo>
                      <a:pt x="840" y="0"/>
                    </a:lnTo>
                    <a:lnTo>
                      <a:pt x="782" y="0"/>
                    </a:lnTo>
                    <a:lnTo>
                      <a:pt x="721" y="0"/>
                    </a:lnTo>
                    <a:lnTo>
                      <a:pt x="663" y="2"/>
                    </a:lnTo>
                    <a:lnTo>
                      <a:pt x="603" y="11"/>
                    </a:lnTo>
                    <a:lnTo>
                      <a:pt x="545" y="20"/>
                    </a:lnTo>
                    <a:lnTo>
                      <a:pt x="490" y="28"/>
                    </a:lnTo>
                    <a:lnTo>
                      <a:pt x="437" y="40"/>
                    </a:lnTo>
                    <a:lnTo>
                      <a:pt x="385" y="51"/>
                    </a:lnTo>
                    <a:lnTo>
                      <a:pt x="337" y="65"/>
                    </a:lnTo>
                    <a:lnTo>
                      <a:pt x="300" y="88"/>
                    </a:lnTo>
                    <a:lnTo>
                      <a:pt x="266" y="117"/>
                    </a:lnTo>
                    <a:lnTo>
                      <a:pt x="237" y="149"/>
                    </a:lnTo>
                    <a:lnTo>
                      <a:pt x="208" y="183"/>
                    </a:lnTo>
                    <a:lnTo>
                      <a:pt x="185" y="217"/>
                    </a:lnTo>
                    <a:lnTo>
                      <a:pt x="158" y="255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460520" y="654120"/>
              <a:ext cx="115920" cy="284040"/>
              <a:chOff x="1460520" y="654120"/>
              <a:chExt cx="115920" cy="284040"/>
            </a:xfrm>
          </p:grpSpPr>
          <p:sp>
            <p:nvSpPr>
              <p:cNvPr id="328" name=""/>
              <p:cNvSpPr/>
              <p:nvPr/>
            </p:nvSpPr>
            <p:spPr>
              <a:xfrm>
                <a:off x="1460520" y="654120"/>
                <a:ext cx="115920" cy="284040"/>
              </a:xfrm>
              <a:custGeom>
                <a:avLst/>
                <a:gdLst/>
                <a:ahLst/>
                <a:rect l="l" t="t" r="r" b="b"/>
                <a:pathLst>
                  <a:path w="324" h="791">
                    <a:moveTo>
                      <a:pt x="70" y="0"/>
                    </a:moveTo>
                    <a:lnTo>
                      <a:pt x="70" y="23"/>
                    </a:lnTo>
                    <a:lnTo>
                      <a:pt x="78" y="43"/>
                    </a:lnTo>
                    <a:lnTo>
                      <a:pt x="91" y="63"/>
                    </a:lnTo>
                    <a:lnTo>
                      <a:pt x="105" y="77"/>
                    </a:lnTo>
                    <a:lnTo>
                      <a:pt x="115" y="95"/>
                    </a:lnTo>
                    <a:lnTo>
                      <a:pt x="123" y="109"/>
                    </a:lnTo>
                    <a:lnTo>
                      <a:pt x="123" y="123"/>
                    </a:lnTo>
                    <a:lnTo>
                      <a:pt x="113" y="138"/>
                    </a:lnTo>
                    <a:lnTo>
                      <a:pt x="0" y="40"/>
                    </a:lnTo>
                    <a:lnTo>
                      <a:pt x="14" y="66"/>
                    </a:lnTo>
                    <a:lnTo>
                      <a:pt x="27" y="92"/>
                    </a:lnTo>
                    <a:lnTo>
                      <a:pt x="46" y="118"/>
                    </a:lnTo>
                    <a:lnTo>
                      <a:pt x="65" y="138"/>
                    </a:lnTo>
                    <a:lnTo>
                      <a:pt x="83" y="161"/>
                    </a:lnTo>
                    <a:lnTo>
                      <a:pt x="105" y="184"/>
                    </a:lnTo>
                    <a:lnTo>
                      <a:pt x="126" y="204"/>
                    </a:lnTo>
                    <a:lnTo>
                      <a:pt x="145" y="230"/>
                    </a:lnTo>
                    <a:lnTo>
                      <a:pt x="174" y="291"/>
                    </a:lnTo>
                    <a:lnTo>
                      <a:pt x="201" y="354"/>
                    </a:lnTo>
                    <a:lnTo>
                      <a:pt x="222" y="418"/>
                    </a:lnTo>
                    <a:lnTo>
                      <a:pt x="238" y="484"/>
                    </a:lnTo>
                    <a:lnTo>
                      <a:pt x="251" y="553"/>
                    </a:lnTo>
                    <a:lnTo>
                      <a:pt x="257" y="625"/>
                    </a:lnTo>
                    <a:lnTo>
                      <a:pt x="257" y="706"/>
                    </a:lnTo>
                    <a:lnTo>
                      <a:pt x="251" y="790"/>
                    </a:lnTo>
                    <a:lnTo>
                      <a:pt x="302" y="666"/>
                    </a:lnTo>
                    <a:lnTo>
                      <a:pt x="323" y="547"/>
                    </a:lnTo>
                    <a:lnTo>
                      <a:pt x="321" y="432"/>
                    </a:lnTo>
                    <a:lnTo>
                      <a:pt x="302" y="325"/>
                    </a:lnTo>
                    <a:lnTo>
                      <a:pt x="265" y="227"/>
                    </a:lnTo>
                    <a:lnTo>
                      <a:pt x="219" y="138"/>
                    </a:lnTo>
                    <a:lnTo>
                      <a:pt x="163" y="6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325520" y="763560"/>
              <a:ext cx="103320" cy="142920"/>
              <a:chOff x="1325520" y="763560"/>
              <a:chExt cx="103320" cy="142920"/>
            </a:xfrm>
          </p:grpSpPr>
          <p:sp>
            <p:nvSpPr>
              <p:cNvPr id="330" name=""/>
              <p:cNvSpPr/>
              <p:nvPr/>
            </p:nvSpPr>
            <p:spPr>
              <a:xfrm>
                <a:off x="1325520" y="763560"/>
                <a:ext cx="103320" cy="142920"/>
              </a:xfrm>
              <a:custGeom>
                <a:avLst/>
                <a:gdLst/>
                <a:ahLst/>
                <a:rect l="l" t="t" r="r" b="b"/>
                <a:pathLst>
                  <a:path w="287" h="397">
                    <a:moveTo>
                      <a:pt x="276" y="396"/>
                    </a:moveTo>
                    <a:lnTo>
                      <a:pt x="286" y="375"/>
                    </a:lnTo>
                    <a:lnTo>
                      <a:pt x="284" y="346"/>
                    </a:lnTo>
                    <a:lnTo>
                      <a:pt x="271" y="317"/>
                    </a:lnTo>
                    <a:lnTo>
                      <a:pt x="255" y="289"/>
                    </a:lnTo>
                    <a:lnTo>
                      <a:pt x="229" y="254"/>
                    </a:lnTo>
                    <a:lnTo>
                      <a:pt x="198" y="216"/>
                    </a:lnTo>
                    <a:lnTo>
                      <a:pt x="167" y="184"/>
                    </a:lnTo>
                    <a:lnTo>
                      <a:pt x="136" y="150"/>
                    </a:lnTo>
                    <a:lnTo>
                      <a:pt x="99" y="115"/>
                    </a:lnTo>
                    <a:lnTo>
                      <a:pt x="65" y="75"/>
                    </a:lnTo>
                    <a:lnTo>
                      <a:pt x="32" y="37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284120" y="781200"/>
              <a:ext cx="95400" cy="122040"/>
              <a:chOff x="1284120" y="781200"/>
              <a:chExt cx="95400" cy="122040"/>
            </a:xfrm>
          </p:grpSpPr>
          <p:sp>
            <p:nvSpPr>
              <p:cNvPr id="332" name=""/>
              <p:cNvSpPr/>
              <p:nvPr/>
            </p:nvSpPr>
            <p:spPr>
              <a:xfrm>
                <a:off x="1284120" y="781200"/>
                <a:ext cx="95400" cy="122040"/>
              </a:xfrm>
              <a:custGeom>
                <a:avLst/>
                <a:gdLst/>
                <a:ahLst/>
                <a:rect l="l" t="t" r="r" b="b"/>
                <a:pathLst>
                  <a:path w="264" h="338">
                    <a:moveTo>
                      <a:pt x="263" y="337"/>
                    </a:moveTo>
                    <a:lnTo>
                      <a:pt x="253" y="290"/>
                    </a:lnTo>
                    <a:lnTo>
                      <a:pt x="235" y="241"/>
                    </a:lnTo>
                    <a:lnTo>
                      <a:pt x="208" y="198"/>
                    </a:lnTo>
                    <a:lnTo>
                      <a:pt x="177" y="152"/>
                    </a:lnTo>
                    <a:lnTo>
                      <a:pt x="143" y="112"/>
                    </a:lnTo>
                    <a:lnTo>
                      <a:pt x="106" y="72"/>
                    </a:lnTo>
                    <a:lnTo>
                      <a:pt x="66" y="34"/>
                    </a:lnTo>
                    <a:lnTo>
                      <a:pt x="29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257480" y="808200"/>
              <a:ext cx="77760" cy="77760"/>
              <a:chOff x="1257480" y="808200"/>
              <a:chExt cx="77760" cy="77760"/>
            </a:xfrm>
          </p:grpSpPr>
          <p:sp>
            <p:nvSpPr>
              <p:cNvPr id="334" name=""/>
              <p:cNvSpPr/>
              <p:nvPr/>
            </p:nvSpPr>
            <p:spPr>
              <a:xfrm>
                <a:off x="1257480" y="8082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218" h="216">
                    <a:moveTo>
                      <a:pt x="217" y="215"/>
                    </a:moveTo>
                    <a:lnTo>
                      <a:pt x="212" y="180"/>
                    </a:lnTo>
                    <a:lnTo>
                      <a:pt x="196" y="148"/>
                    </a:lnTo>
                    <a:lnTo>
                      <a:pt x="175" y="122"/>
                    </a:lnTo>
                    <a:lnTo>
                      <a:pt x="154" y="95"/>
                    </a:lnTo>
                    <a:lnTo>
                      <a:pt x="128" y="72"/>
                    </a:lnTo>
                    <a:lnTo>
                      <a:pt x="98" y="46"/>
                    </a:lnTo>
                    <a:lnTo>
                      <a:pt x="69" y="26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090440" y="806400"/>
              <a:ext cx="451080" cy="566640"/>
              <a:chOff x="1090440" y="806400"/>
              <a:chExt cx="451080" cy="566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090440" y="806400"/>
                <a:ext cx="451080" cy="566640"/>
              </a:xfrm>
              <a:custGeom>
                <a:avLst/>
                <a:gdLst/>
                <a:ahLst/>
                <a:rect l="l" t="t" r="r" b="b"/>
                <a:pathLst>
                  <a:path w="1251" h="1573">
                    <a:moveTo>
                      <a:pt x="32" y="66"/>
                    </a:moveTo>
                    <a:lnTo>
                      <a:pt x="6" y="126"/>
                    </a:lnTo>
                    <a:lnTo>
                      <a:pt x="0" y="187"/>
                    </a:lnTo>
                    <a:lnTo>
                      <a:pt x="6" y="244"/>
                    </a:lnTo>
                    <a:lnTo>
                      <a:pt x="24" y="302"/>
                    </a:lnTo>
                    <a:lnTo>
                      <a:pt x="50" y="359"/>
                    </a:lnTo>
                    <a:lnTo>
                      <a:pt x="77" y="417"/>
                    </a:lnTo>
                    <a:lnTo>
                      <a:pt x="98" y="469"/>
                    </a:lnTo>
                    <a:lnTo>
                      <a:pt x="114" y="526"/>
                    </a:lnTo>
                    <a:lnTo>
                      <a:pt x="129" y="567"/>
                    </a:lnTo>
                    <a:lnTo>
                      <a:pt x="174" y="593"/>
                    </a:lnTo>
                    <a:lnTo>
                      <a:pt x="229" y="610"/>
                    </a:lnTo>
                    <a:lnTo>
                      <a:pt x="285" y="619"/>
                    </a:lnTo>
                    <a:lnTo>
                      <a:pt x="327" y="630"/>
                    </a:lnTo>
                    <a:lnTo>
                      <a:pt x="348" y="647"/>
                    </a:lnTo>
                    <a:lnTo>
                      <a:pt x="332" y="679"/>
                    </a:lnTo>
                    <a:lnTo>
                      <a:pt x="269" y="725"/>
                    </a:lnTo>
                    <a:lnTo>
                      <a:pt x="258" y="780"/>
                    </a:lnTo>
                    <a:lnTo>
                      <a:pt x="253" y="849"/>
                    </a:lnTo>
                    <a:lnTo>
                      <a:pt x="253" y="921"/>
                    </a:lnTo>
                    <a:lnTo>
                      <a:pt x="256" y="1001"/>
                    </a:lnTo>
                    <a:lnTo>
                      <a:pt x="266" y="1082"/>
                    </a:lnTo>
                    <a:lnTo>
                      <a:pt x="279" y="1160"/>
                    </a:lnTo>
                    <a:lnTo>
                      <a:pt x="303" y="1235"/>
                    </a:lnTo>
                    <a:lnTo>
                      <a:pt x="332" y="1298"/>
                    </a:lnTo>
                    <a:lnTo>
                      <a:pt x="364" y="1341"/>
                    </a:lnTo>
                    <a:lnTo>
                      <a:pt x="398" y="1390"/>
                    </a:lnTo>
                    <a:lnTo>
                      <a:pt x="437" y="1436"/>
                    </a:lnTo>
                    <a:lnTo>
                      <a:pt x="479" y="1476"/>
                    </a:lnTo>
                    <a:lnTo>
                      <a:pt x="527" y="1517"/>
                    </a:lnTo>
                    <a:lnTo>
                      <a:pt x="579" y="1546"/>
                    </a:lnTo>
                    <a:lnTo>
                      <a:pt x="635" y="1563"/>
                    </a:lnTo>
                    <a:lnTo>
                      <a:pt x="700" y="1566"/>
                    </a:lnTo>
                    <a:lnTo>
                      <a:pt x="748" y="1572"/>
                    </a:lnTo>
                    <a:lnTo>
                      <a:pt x="800" y="1569"/>
                    </a:lnTo>
                    <a:lnTo>
                      <a:pt x="856" y="1560"/>
                    </a:lnTo>
                    <a:lnTo>
                      <a:pt x="911" y="1546"/>
                    </a:lnTo>
                    <a:lnTo>
                      <a:pt x="969" y="1525"/>
                    </a:lnTo>
                    <a:lnTo>
                      <a:pt x="1027" y="1502"/>
                    </a:lnTo>
                    <a:lnTo>
                      <a:pt x="1077" y="1476"/>
                    </a:lnTo>
                    <a:lnTo>
                      <a:pt x="1129" y="1451"/>
                    </a:lnTo>
                    <a:lnTo>
                      <a:pt x="1108" y="1419"/>
                    </a:lnTo>
                    <a:lnTo>
                      <a:pt x="1090" y="1390"/>
                    </a:lnTo>
                    <a:lnTo>
                      <a:pt x="1069" y="1361"/>
                    </a:lnTo>
                    <a:lnTo>
                      <a:pt x="1045" y="1333"/>
                    </a:lnTo>
                    <a:lnTo>
                      <a:pt x="1029" y="1301"/>
                    </a:lnTo>
                    <a:lnTo>
                      <a:pt x="1011" y="1269"/>
                    </a:lnTo>
                    <a:lnTo>
                      <a:pt x="1000" y="1235"/>
                    </a:lnTo>
                    <a:lnTo>
                      <a:pt x="995" y="1197"/>
                    </a:lnTo>
                    <a:lnTo>
                      <a:pt x="1016" y="1171"/>
                    </a:lnTo>
                    <a:lnTo>
                      <a:pt x="1040" y="1194"/>
                    </a:lnTo>
                    <a:lnTo>
                      <a:pt x="1058" y="1226"/>
                    </a:lnTo>
                    <a:lnTo>
                      <a:pt x="1074" y="1263"/>
                    </a:lnTo>
                    <a:lnTo>
                      <a:pt x="1090" y="1301"/>
                    </a:lnTo>
                    <a:lnTo>
                      <a:pt x="1108" y="1335"/>
                    </a:lnTo>
                    <a:lnTo>
                      <a:pt x="1132" y="1358"/>
                    </a:lnTo>
                    <a:lnTo>
                      <a:pt x="1164" y="1364"/>
                    </a:lnTo>
                    <a:lnTo>
                      <a:pt x="1206" y="1353"/>
                    </a:lnTo>
                    <a:lnTo>
                      <a:pt x="1208" y="1263"/>
                    </a:lnTo>
                    <a:lnTo>
                      <a:pt x="1224" y="1163"/>
                    </a:lnTo>
                    <a:lnTo>
                      <a:pt x="1245" y="1068"/>
                    </a:lnTo>
                    <a:lnTo>
                      <a:pt x="1250" y="981"/>
                    </a:lnTo>
                    <a:lnTo>
                      <a:pt x="1224" y="970"/>
                    </a:lnTo>
                    <a:lnTo>
                      <a:pt x="1203" y="964"/>
                    </a:lnTo>
                    <a:lnTo>
                      <a:pt x="1182" y="964"/>
                    </a:lnTo>
                    <a:lnTo>
                      <a:pt x="1169" y="973"/>
                    </a:lnTo>
                    <a:lnTo>
                      <a:pt x="1143" y="1010"/>
                    </a:lnTo>
                    <a:lnTo>
                      <a:pt x="1106" y="1048"/>
                    </a:lnTo>
                    <a:lnTo>
                      <a:pt x="1061" y="1085"/>
                    </a:lnTo>
                    <a:lnTo>
                      <a:pt x="1011" y="1114"/>
                    </a:lnTo>
                    <a:lnTo>
                      <a:pt x="953" y="1134"/>
                    </a:lnTo>
                    <a:lnTo>
                      <a:pt x="893" y="1140"/>
                    </a:lnTo>
                    <a:lnTo>
                      <a:pt x="829" y="1131"/>
                    </a:lnTo>
                    <a:lnTo>
                      <a:pt x="761" y="1105"/>
                    </a:lnTo>
                    <a:lnTo>
                      <a:pt x="719" y="1076"/>
                    </a:lnTo>
                    <a:lnTo>
                      <a:pt x="693" y="1039"/>
                    </a:lnTo>
                    <a:lnTo>
                      <a:pt x="679" y="996"/>
                    </a:lnTo>
                    <a:lnTo>
                      <a:pt x="674" y="947"/>
                    </a:lnTo>
                    <a:lnTo>
                      <a:pt x="677" y="898"/>
                    </a:lnTo>
                    <a:lnTo>
                      <a:pt x="682" y="843"/>
                    </a:lnTo>
                    <a:lnTo>
                      <a:pt x="693" y="791"/>
                    </a:lnTo>
                    <a:lnTo>
                      <a:pt x="703" y="745"/>
                    </a:lnTo>
                    <a:lnTo>
                      <a:pt x="640" y="659"/>
                    </a:lnTo>
                    <a:lnTo>
                      <a:pt x="572" y="558"/>
                    </a:lnTo>
                    <a:lnTo>
                      <a:pt x="503" y="452"/>
                    </a:lnTo>
                    <a:lnTo>
                      <a:pt x="437" y="342"/>
                    </a:lnTo>
                    <a:lnTo>
                      <a:pt x="377" y="244"/>
                    </a:lnTo>
                    <a:lnTo>
                      <a:pt x="324" y="161"/>
                    </a:lnTo>
                    <a:lnTo>
                      <a:pt x="287" y="95"/>
                    </a:lnTo>
                    <a:lnTo>
                      <a:pt x="264" y="60"/>
                    </a:lnTo>
                    <a:lnTo>
                      <a:pt x="248" y="37"/>
                    </a:lnTo>
                    <a:lnTo>
                      <a:pt x="232" y="17"/>
                    </a:lnTo>
                    <a:lnTo>
                      <a:pt x="211" y="5"/>
                    </a:lnTo>
                    <a:lnTo>
                      <a:pt x="179" y="0"/>
                    </a:lnTo>
                    <a:lnTo>
                      <a:pt x="158" y="2"/>
                    </a:lnTo>
                    <a:lnTo>
                      <a:pt x="137" y="2"/>
                    </a:lnTo>
                    <a:lnTo>
                      <a:pt x="114" y="5"/>
                    </a:lnTo>
                    <a:lnTo>
                      <a:pt x="93" y="8"/>
                    </a:lnTo>
                    <a:lnTo>
                      <a:pt x="72" y="14"/>
                    </a:lnTo>
                    <a:lnTo>
                      <a:pt x="56" y="25"/>
                    </a:lnTo>
                    <a:lnTo>
                      <a:pt x="40" y="40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1130400" y="825480"/>
              <a:ext cx="81000" cy="152280"/>
              <a:chOff x="1130400" y="825480"/>
              <a:chExt cx="8100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130400" y="825480"/>
                <a:ext cx="81000" cy="152280"/>
              </a:xfrm>
              <a:custGeom>
                <a:avLst/>
                <a:gdLst/>
                <a:ahLst/>
                <a:rect l="l" t="t" r="r" b="b"/>
                <a:pathLst>
                  <a:path w="224" h="425">
                    <a:moveTo>
                      <a:pt x="45" y="0"/>
                    </a:moveTo>
                    <a:lnTo>
                      <a:pt x="72" y="26"/>
                    </a:lnTo>
                    <a:lnTo>
                      <a:pt x="97" y="55"/>
                    </a:lnTo>
                    <a:lnTo>
                      <a:pt x="121" y="87"/>
                    </a:lnTo>
                    <a:lnTo>
                      <a:pt x="140" y="121"/>
                    </a:lnTo>
                    <a:lnTo>
                      <a:pt x="159" y="156"/>
                    </a:lnTo>
                    <a:lnTo>
                      <a:pt x="172" y="191"/>
                    </a:lnTo>
                    <a:lnTo>
                      <a:pt x="183" y="226"/>
                    </a:lnTo>
                    <a:lnTo>
                      <a:pt x="186" y="267"/>
                    </a:lnTo>
                    <a:lnTo>
                      <a:pt x="159" y="272"/>
                    </a:lnTo>
                    <a:lnTo>
                      <a:pt x="132" y="261"/>
                    </a:lnTo>
                    <a:lnTo>
                      <a:pt x="102" y="243"/>
                    </a:lnTo>
                    <a:lnTo>
                      <a:pt x="72" y="223"/>
                    </a:lnTo>
                    <a:lnTo>
                      <a:pt x="45" y="212"/>
                    </a:lnTo>
                    <a:lnTo>
                      <a:pt x="26" y="209"/>
                    </a:lnTo>
                    <a:lnTo>
                      <a:pt x="8" y="220"/>
                    </a:lnTo>
                    <a:lnTo>
                      <a:pt x="0" y="258"/>
                    </a:lnTo>
                    <a:lnTo>
                      <a:pt x="8" y="307"/>
                    </a:lnTo>
                    <a:lnTo>
                      <a:pt x="26" y="351"/>
                    </a:lnTo>
                    <a:lnTo>
                      <a:pt x="51" y="389"/>
                    </a:lnTo>
                    <a:lnTo>
                      <a:pt x="78" y="424"/>
                    </a:lnTo>
                    <a:lnTo>
                      <a:pt x="107" y="424"/>
                    </a:lnTo>
                    <a:lnTo>
                      <a:pt x="24" y="281"/>
                    </a:lnTo>
                    <a:lnTo>
                      <a:pt x="51" y="255"/>
                    </a:lnTo>
                    <a:lnTo>
                      <a:pt x="72" y="255"/>
                    </a:lnTo>
                    <a:lnTo>
                      <a:pt x="94" y="272"/>
                    </a:lnTo>
                    <a:lnTo>
                      <a:pt x="110" y="293"/>
                    </a:lnTo>
                    <a:lnTo>
                      <a:pt x="129" y="319"/>
                    </a:lnTo>
                    <a:lnTo>
                      <a:pt x="151" y="336"/>
                    </a:lnTo>
                    <a:lnTo>
                      <a:pt x="178" y="336"/>
                    </a:lnTo>
                    <a:lnTo>
                      <a:pt x="210" y="316"/>
                    </a:lnTo>
                    <a:lnTo>
                      <a:pt x="223" y="287"/>
                    </a:lnTo>
                    <a:lnTo>
                      <a:pt x="223" y="249"/>
                    </a:lnTo>
                    <a:lnTo>
                      <a:pt x="215" y="206"/>
                    </a:lnTo>
                    <a:lnTo>
                      <a:pt x="194" y="156"/>
                    </a:lnTo>
                    <a:lnTo>
                      <a:pt x="167" y="110"/>
                    </a:lnTo>
                    <a:lnTo>
                      <a:pt x="132" y="63"/>
                    </a:lnTo>
                    <a:lnTo>
                      <a:pt x="91" y="29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233360" y="833400"/>
              <a:ext cx="76320" cy="69840"/>
              <a:chOff x="1233360" y="833400"/>
              <a:chExt cx="76320" cy="6984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3360" y="833400"/>
                <a:ext cx="76320" cy="69840"/>
              </a:xfrm>
              <a:custGeom>
                <a:avLst/>
                <a:gdLst/>
                <a:ahLst/>
                <a:rect l="l" t="t" r="r" b="b"/>
                <a:pathLst>
                  <a:path w="213" h="195">
                    <a:moveTo>
                      <a:pt x="0" y="0"/>
                    </a:moveTo>
                    <a:lnTo>
                      <a:pt x="212" y="194"/>
                    </a:lnTo>
                    <a:lnTo>
                      <a:pt x="199" y="164"/>
                    </a:lnTo>
                    <a:lnTo>
                      <a:pt x="183" y="135"/>
                    </a:lnTo>
                    <a:lnTo>
                      <a:pt x="159" y="102"/>
                    </a:lnTo>
                    <a:lnTo>
                      <a:pt x="136" y="70"/>
                    </a:lnTo>
                    <a:lnTo>
                      <a:pt x="106" y="41"/>
                    </a:lnTo>
                    <a:lnTo>
                      <a:pt x="75" y="17"/>
                    </a:lnTo>
                    <a:lnTo>
                      <a:pt x="38" y="5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571760" y="863640"/>
              <a:ext cx="139680" cy="127080"/>
              <a:chOff x="1571760" y="863640"/>
              <a:chExt cx="139680" cy="127080"/>
            </a:xfrm>
          </p:grpSpPr>
          <p:sp>
            <p:nvSpPr>
              <p:cNvPr id="342" name=""/>
              <p:cNvSpPr/>
              <p:nvPr/>
            </p:nvSpPr>
            <p:spPr>
              <a:xfrm>
                <a:off x="1571760" y="863640"/>
                <a:ext cx="139680" cy="127080"/>
              </a:xfrm>
              <a:custGeom>
                <a:avLst/>
                <a:gdLst/>
                <a:ahLst/>
                <a:rect l="l" t="t" r="r" b="b"/>
                <a:pathLst>
                  <a:path w="387" h="353">
                    <a:moveTo>
                      <a:pt x="0" y="317"/>
                    </a:moveTo>
                    <a:lnTo>
                      <a:pt x="6" y="320"/>
                    </a:lnTo>
                    <a:lnTo>
                      <a:pt x="24" y="311"/>
                    </a:lnTo>
                    <a:lnTo>
                      <a:pt x="48" y="303"/>
                    </a:lnTo>
                    <a:lnTo>
                      <a:pt x="72" y="294"/>
                    </a:lnTo>
                    <a:lnTo>
                      <a:pt x="90" y="291"/>
                    </a:lnTo>
                    <a:lnTo>
                      <a:pt x="104" y="297"/>
                    </a:lnTo>
                    <a:lnTo>
                      <a:pt x="96" y="317"/>
                    </a:lnTo>
                    <a:lnTo>
                      <a:pt x="67" y="352"/>
                    </a:lnTo>
                    <a:lnTo>
                      <a:pt x="114" y="326"/>
                    </a:lnTo>
                    <a:lnTo>
                      <a:pt x="156" y="294"/>
                    </a:lnTo>
                    <a:lnTo>
                      <a:pt x="201" y="260"/>
                    </a:lnTo>
                    <a:lnTo>
                      <a:pt x="241" y="223"/>
                    </a:lnTo>
                    <a:lnTo>
                      <a:pt x="283" y="180"/>
                    </a:lnTo>
                    <a:lnTo>
                      <a:pt x="318" y="137"/>
                    </a:lnTo>
                    <a:lnTo>
                      <a:pt x="355" y="97"/>
                    </a:lnTo>
                    <a:lnTo>
                      <a:pt x="386" y="54"/>
                    </a:lnTo>
                    <a:lnTo>
                      <a:pt x="386" y="40"/>
                    </a:lnTo>
                    <a:lnTo>
                      <a:pt x="349" y="65"/>
                    </a:lnTo>
                    <a:lnTo>
                      <a:pt x="315" y="97"/>
                    </a:lnTo>
                    <a:lnTo>
                      <a:pt x="283" y="125"/>
                    </a:lnTo>
                    <a:lnTo>
                      <a:pt x="252" y="157"/>
                    </a:lnTo>
                    <a:lnTo>
                      <a:pt x="220" y="183"/>
                    </a:lnTo>
                    <a:lnTo>
                      <a:pt x="183" y="208"/>
                    </a:lnTo>
                    <a:lnTo>
                      <a:pt x="146" y="234"/>
                    </a:lnTo>
                    <a:lnTo>
                      <a:pt x="106" y="254"/>
                    </a:lnTo>
                    <a:lnTo>
                      <a:pt x="273" y="5"/>
                    </a:lnTo>
                    <a:lnTo>
                      <a:pt x="257" y="0"/>
                    </a:lnTo>
                    <a:lnTo>
                      <a:pt x="244" y="2"/>
                    </a:lnTo>
                    <a:lnTo>
                      <a:pt x="233" y="8"/>
                    </a:lnTo>
                    <a:lnTo>
                      <a:pt x="223" y="20"/>
                    </a:lnTo>
                    <a:lnTo>
                      <a:pt x="212" y="37"/>
                    </a:lnTo>
                    <a:lnTo>
                      <a:pt x="204" y="45"/>
                    </a:lnTo>
                    <a:lnTo>
                      <a:pt x="196" y="54"/>
                    </a:lnTo>
                    <a:lnTo>
                      <a:pt x="183" y="54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635120" y="906480"/>
              <a:ext cx="98280" cy="90360"/>
              <a:chOff x="1635120" y="906480"/>
              <a:chExt cx="98280" cy="90360"/>
            </a:xfrm>
          </p:grpSpPr>
          <p:sp>
            <p:nvSpPr>
              <p:cNvPr id="344" name=""/>
              <p:cNvSpPr/>
              <p:nvPr/>
            </p:nvSpPr>
            <p:spPr>
              <a:xfrm>
                <a:off x="1635120" y="906480"/>
                <a:ext cx="98280" cy="90360"/>
              </a:xfrm>
              <a:custGeom>
                <a:avLst/>
                <a:gdLst/>
                <a:ahLst/>
                <a:rect l="l" t="t" r="r" b="b"/>
                <a:pathLst>
                  <a:path w="275" h="252">
                    <a:moveTo>
                      <a:pt x="0" y="248"/>
                    </a:moveTo>
                    <a:lnTo>
                      <a:pt x="24" y="251"/>
                    </a:lnTo>
                    <a:lnTo>
                      <a:pt x="48" y="245"/>
                    </a:lnTo>
                    <a:lnTo>
                      <a:pt x="72" y="230"/>
                    </a:lnTo>
                    <a:lnTo>
                      <a:pt x="96" y="216"/>
                    </a:lnTo>
                    <a:lnTo>
                      <a:pt x="123" y="196"/>
                    </a:lnTo>
                    <a:lnTo>
                      <a:pt x="144" y="175"/>
                    </a:lnTo>
                    <a:lnTo>
                      <a:pt x="168" y="152"/>
                    </a:lnTo>
                    <a:lnTo>
                      <a:pt x="184" y="132"/>
                    </a:lnTo>
                    <a:lnTo>
                      <a:pt x="192" y="109"/>
                    </a:lnTo>
                    <a:lnTo>
                      <a:pt x="203" y="92"/>
                    </a:lnTo>
                    <a:lnTo>
                      <a:pt x="216" y="80"/>
                    </a:lnTo>
                    <a:lnTo>
                      <a:pt x="229" y="66"/>
                    </a:lnTo>
                    <a:lnTo>
                      <a:pt x="243" y="57"/>
                    </a:lnTo>
                    <a:lnTo>
                      <a:pt x="259" y="49"/>
                    </a:lnTo>
                    <a:lnTo>
                      <a:pt x="267" y="31"/>
                    </a:lnTo>
                    <a:lnTo>
                      <a:pt x="274" y="11"/>
                    </a:lnTo>
                    <a:lnTo>
                      <a:pt x="251" y="0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357200" y="1036800"/>
              <a:ext cx="147600" cy="152280"/>
              <a:chOff x="1357200" y="1036800"/>
              <a:chExt cx="147600" cy="152280"/>
            </a:xfrm>
          </p:grpSpPr>
          <p:sp>
            <p:nvSpPr>
              <p:cNvPr id="346" name=""/>
              <p:cNvSpPr/>
              <p:nvPr/>
            </p:nvSpPr>
            <p:spPr>
              <a:xfrm>
                <a:off x="1357200" y="1036800"/>
                <a:ext cx="147600" cy="152280"/>
              </a:xfrm>
              <a:custGeom>
                <a:avLst/>
                <a:gdLst/>
                <a:ahLst/>
                <a:rect l="l" t="t" r="r" b="b"/>
                <a:pathLst>
                  <a:path w="411" h="425">
                    <a:moveTo>
                      <a:pt x="48" y="142"/>
                    </a:moveTo>
                    <a:lnTo>
                      <a:pt x="27" y="194"/>
                    </a:lnTo>
                    <a:lnTo>
                      <a:pt x="6" y="249"/>
                    </a:lnTo>
                    <a:lnTo>
                      <a:pt x="0" y="310"/>
                    </a:lnTo>
                    <a:lnTo>
                      <a:pt x="19" y="368"/>
                    </a:lnTo>
                    <a:lnTo>
                      <a:pt x="45" y="389"/>
                    </a:lnTo>
                    <a:lnTo>
                      <a:pt x="69" y="409"/>
                    </a:lnTo>
                    <a:lnTo>
                      <a:pt x="100" y="418"/>
                    </a:lnTo>
                    <a:lnTo>
                      <a:pt x="135" y="424"/>
                    </a:lnTo>
                    <a:lnTo>
                      <a:pt x="169" y="424"/>
                    </a:lnTo>
                    <a:lnTo>
                      <a:pt x="205" y="418"/>
                    </a:lnTo>
                    <a:lnTo>
                      <a:pt x="240" y="412"/>
                    </a:lnTo>
                    <a:lnTo>
                      <a:pt x="274" y="400"/>
                    </a:lnTo>
                    <a:lnTo>
                      <a:pt x="300" y="386"/>
                    </a:lnTo>
                    <a:lnTo>
                      <a:pt x="321" y="371"/>
                    </a:lnTo>
                    <a:lnTo>
                      <a:pt x="337" y="351"/>
                    </a:lnTo>
                    <a:lnTo>
                      <a:pt x="353" y="328"/>
                    </a:lnTo>
                    <a:lnTo>
                      <a:pt x="366" y="304"/>
                    </a:lnTo>
                    <a:lnTo>
                      <a:pt x="382" y="281"/>
                    </a:lnTo>
                    <a:lnTo>
                      <a:pt x="392" y="255"/>
                    </a:lnTo>
                    <a:lnTo>
                      <a:pt x="410" y="235"/>
                    </a:lnTo>
                    <a:lnTo>
                      <a:pt x="392" y="177"/>
                    </a:lnTo>
                    <a:lnTo>
                      <a:pt x="387" y="116"/>
                    </a:lnTo>
                    <a:lnTo>
                      <a:pt x="374" y="60"/>
                    </a:lnTo>
                    <a:lnTo>
                      <a:pt x="334" y="26"/>
                    </a:lnTo>
                    <a:lnTo>
                      <a:pt x="290" y="5"/>
                    </a:lnTo>
                    <a:lnTo>
                      <a:pt x="245" y="0"/>
                    </a:lnTo>
                    <a:lnTo>
                      <a:pt x="205" y="11"/>
                    </a:lnTo>
                    <a:lnTo>
                      <a:pt x="166" y="29"/>
                    </a:lnTo>
                    <a:lnTo>
                      <a:pt x="129" y="55"/>
                    </a:lnTo>
                    <a:lnTo>
                      <a:pt x="98" y="84"/>
                    </a:lnTo>
                    <a:lnTo>
                      <a:pt x="69" y="116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569960" y="1101600"/>
              <a:ext cx="147600" cy="131760"/>
              <a:chOff x="1569960" y="1101600"/>
              <a:chExt cx="147600" cy="131760"/>
            </a:xfrm>
          </p:grpSpPr>
          <p:sp>
            <p:nvSpPr>
              <p:cNvPr id="348" name=""/>
              <p:cNvSpPr/>
              <p:nvPr/>
            </p:nvSpPr>
            <p:spPr>
              <a:xfrm>
                <a:off x="1569960" y="1101600"/>
                <a:ext cx="147600" cy="131760"/>
              </a:xfrm>
              <a:custGeom>
                <a:avLst/>
                <a:gdLst/>
                <a:ahLst/>
                <a:rect l="l" t="t" r="r" b="b"/>
                <a:pathLst>
                  <a:path w="411" h="368">
                    <a:moveTo>
                      <a:pt x="3" y="176"/>
                    </a:moveTo>
                    <a:lnTo>
                      <a:pt x="0" y="224"/>
                    </a:lnTo>
                    <a:lnTo>
                      <a:pt x="8" y="275"/>
                    </a:lnTo>
                    <a:lnTo>
                      <a:pt x="27" y="318"/>
                    </a:lnTo>
                    <a:lnTo>
                      <a:pt x="58" y="347"/>
                    </a:lnTo>
                    <a:lnTo>
                      <a:pt x="92" y="358"/>
                    </a:lnTo>
                    <a:lnTo>
                      <a:pt x="126" y="367"/>
                    </a:lnTo>
                    <a:lnTo>
                      <a:pt x="157" y="367"/>
                    </a:lnTo>
                    <a:lnTo>
                      <a:pt x="189" y="364"/>
                    </a:lnTo>
                    <a:lnTo>
                      <a:pt x="217" y="352"/>
                    </a:lnTo>
                    <a:lnTo>
                      <a:pt x="246" y="344"/>
                    </a:lnTo>
                    <a:lnTo>
                      <a:pt x="275" y="332"/>
                    </a:lnTo>
                    <a:lnTo>
                      <a:pt x="303" y="321"/>
                    </a:lnTo>
                    <a:lnTo>
                      <a:pt x="322" y="304"/>
                    </a:lnTo>
                    <a:lnTo>
                      <a:pt x="340" y="284"/>
                    </a:lnTo>
                    <a:lnTo>
                      <a:pt x="361" y="264"/>
                    </a:lnTo>
                    <a:lnTo>
                      <a:pt x="379" y="250"/>
                    </a:lnTo>
                    <a:lnTo>
                      <a:pt x="392" y="230"/>
                    </a:lnTo>
                    <a:lnTo>
                      <a:pt x="405" y="213"/>
                    </a:lnTo>
                    <a:lnTo>
                      <a:pt x="410" y="187"/>
                    </a:lnTo>
                    <a:lnTo>
                      <a:pt x="408" y="159"/>
                    </a:lnTo>
                    <a:lnTo>
                      <a:pt x="410" y="142"/>
                    </a:lnTo>
                    <a:lnTo>
                      <a:pt x="405" y="119"/>
                    </a:lnTo>
                    <a:lnTo>
                      <a:pt x="395" y="93"/>
                    </a:lnTo>
                    <a:lnTo>
                      <a:pt x="379" y="71"/>
                    </a:lnTo>
                    <a:lnTo>
                      <a:pt x="361" y="51"/>
                    </a:lnTo>
                    <a:lnTo>
                      <a:pt x="337" y="31"/>
                    </a:lnTo>
                    <a:lnTo>
                      <a:pt x="316" y="17"/>
                    </a:lnTo>
                    <a:lnTo>
                      <a:pt x="290" y="2"/>
                    </a:lnTo>
                    <a:lnTo>
                      <a:pt x="241" y="0"/>
                    </a:lnTo>
                    <a:lnTo>
                      <a:pt x="199" y="5"/>
                    </a:lnTo>
                    <a:lnTo>
                      <a:pt x="157" y="22"/>
                    </a:lnTo>
                    <a:lnTo>
                      <a:pt x="121" y="48"/>
                    </a:lnTo>
                    <a:lnTo>
                      <a:pt x="89" y="76"/>
                    </a:lnTo>
                    <a:lnTo>
                      <a:pt x="58" y="108"/>
                    </a:lnTo>
                    <a:lnTo>
                      <a:pt x="29" y="142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432080" y="1139760"/>
              <a:ext cx="29880" cy="27000"/>
              <a:chOff x="1432080" y="1139760"/>
              <a:chExt cx="29880" cy="27000"/>
            </a:xfrm>
          </p:grpSpPr>
          <p:sp>
            <p:nvSpPr>
              <p:cNvPr id="350" name=""/>
              <p:cNvSpPr/>
              <p:nvPr/>
            </p:nvSpPr>
            <p:spPr>
              <a:xfrm>
                <a:off x="1432080" y="113976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0" y="72"/>
                    </a:moveTo>
                    <a:lnTo>
                      <a:pt x="81" y="45"/>
                    </a:lnTo>
                    <a:lnTo>
                      <a:pt x="73" y="3"/>
                    </a:lnTo>
                    <a:lnTo>
                      <a:pt x="42" y="0"/>
                    </a:lnTo>
                    <a:lnTo>
                      <a:pt x="23" y="15"/>
                    </a:lnTo>
                    <a:lnTo>
                      <a:pt x="9" y="45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90840" y="1184400"/>
              <a:ext cx="25200" cy="23760"/>
              <a:chOff x="1590840" y="1184400"/>
              <a:chExt cx="25200" cy="23760"/>
            </a:xfrm>
          </p:grpSpPr>
          <p:sp>
            <p:nvSpPr>
              <p:cNvPr id="352" name=""/>
              <p:cNvSpPr/>
              <p:nvPr/>
            </p:nvSpPr>
            <p:spPr>
              <a:xfrm>
                <a:off x="1590840" y="118440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57"/>
                    </a:moveTo>
                    <a:lnTo>
                      <a:pt x="11" y="63"/>
                    </a:lnTo>
                    <a:lnTo>
                      <a:pt x="30" y="66"/>
                    </a:lnTo>
                    <a:lnTo>
                      <a:pt x="44" y="63"/>
                    </a:lnTo>
                    <a:lnTo>
                      <a:pt x="55" y="48"/>
                    </a:lnTo>
                    <a:lnTo>
                      <a:pt x="68" y="0"/>
                    </a:lnTo>
                    <a:lnTo>
                      <a:pt x="47" y="2"/>
                    </a:lnTo>
                    <a:lnTo>
                      <a:pt x="20" y="14"/>
                    </a:lnTo>
                    <a:lnTo>
                      <a:pt x="3" y="31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41520" y="1224000"/>
              <a:ext cx="49320" cy="73080"/>
              <a:chOff x="1541520" y="1224000"/>
              <a:chExt cx="49320" cy="73080"/>
            </a:xfrm>
          </p:grpSpPr>
          <p:sp>
            <p:nvSpPr>
              <p:cNvPr id="354" name=""/>
              <p:cNvSpPr/>
              <p:nvPr/>
            </p:nvSpPr>
            <p:spPr>
              <a:xfrm>
                <a:off x="1541520" y="1224000"/>
                <a:ext cx="49320" cy="73080"/>
              </a:xfrm>
              <a:custGeom>
                <a:avLst/>
                <a:gdLst/>
                <a:ahLst/>
                <a:rect l="l" t="t" r="r" b="b"/>
                <a:pathLst>
                  <a:path w="138" h="202">
                    <a:moveTo>
                      <a:pt x="3" y="201"/>
                    </a:moveTo>
                    <a:lnTo>
                      <a:pt x="21" y="195"/>
                    </a:lnTo>
                    <a:lnTo>
                      <a:pt x="37" y="186"/>
                    </a:lnTo>
                    <a:lnTo>
                      <a:pt x="57" y="180"/>
                    </a:lnTo>
                    <a:lnTo>
                      <a:pt x="75" y="171"/>
                    </a:lnTo>
                    <a:lnTo>
                      <a:pt x="91" y="166"/>
                    </a:lnTo>
                    <a:lnTo>
                      <a:pt x="109" y="151"/>
                    </a:lnTo>
                    <a:lnTo>
                      <a:pt x="122" y="136"/>
                    </a:lnTo>
                    <a:lnTo>
                      <a:pt x="137" y="116"/>
                    </a:lnTo>
                    <a:lnTo>
                      <a:pt x="19" y="0"/>
                    </a:lnTo>
                    <a:lnTo>
                      <a:pt x="3" y="43"/>
                    </a:lnTo>
                    <a:lnTo>
                      <a:pt x="0" y="96"/>
                    </a:lnTo>
                    <a:lnTo>
                      <a:pt x="3" y="148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996840" y="1236600"/>
              <a:ext cx="100080" cy="98640"/>
              <a:chOff x="996840" y="1236600"/>
              <a:chExt cx="100080" cy="98640"/>
            </a:xfrm>
          </p:grpSpPr>
          <p:sp>
            <p:nvSpPr>
              <p:cNvPr id="356" name=""/>
              <p:cNvSpPr/>
              <p:nvPr/>
            </p:nvSpPr>
            <p:spPr>
              <a:xfrm>
                <a:off x="996840" y="123660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280" h="275">
                    <a:moveTo>
                      <a:pt x="0" y="8"/>
                    </a:moveTo>
                    <a:lnTo>
                      <a:pt x="27" y="52"/>
                    </a:lnTo>
                    <a:lnTo>
                      <a:pt x="56" y="93"/>
                    </a:lnTo>
                    <a:lnTo>
                      <a:pt x="85" y="134"/>
                    </a:lnTo>
                    <a:lnTo>
                      <a:pt x="119" y="166"/>
                    </a:lnTo>
                    <a:lnTo>
                      <a:pt x="156" y="192"/>
                    </a:lnTo>
                    <a:lnTo>
                      <a:pt x="195" y="221"/>
                    </a:lnTo>
                    <a:lnTo>
                      <a:pt x="235" y="247"/>
                    </a:lnTo>
                    <a:lnTo>
                      <a:pt x="279" y="274"/>
                    </a:lnTo>
                    <a:lnTo>
                      <a:pt x="261" y="224"/>
                    </a:lnTo>
                    <a:lnTo>
                      <a:pt x="237" y="171"/>
                    </a:lnTo>
                    <a:lnTo>
                      <a:pt x="214" y="119"/>
                    </a:lnTo>
                    <a:lnTo>
                      <a:pt x="185" y="75"/>
                    </a:lnTo>
                    <a:lnTo>
                      <a:pt x="145" y="37"/>
                    </a:lnTo>
                    <a:lnTo>
                      <a:pt x="106" y="1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371600" y="1308240"/>
              <a:ext cx="27000" cy="17280"/>
              <a:chOff x="1371600" y="1308240"/>
              <a:chExt cx="27000" cy="17280"/>
            </a:xfrm>
          </p:grpSpPr>
          <p:sp>
            <p:nvSpPr>
              <p:cNvPr id="358" name=""/>
              <p:cNvSpPr/>
              <p:nvPr/>
            </p:nvSpPr>
            <p:spPr>
              <a:xfrm>
                <a:off x="1371600" y="13082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76" h="50">
                    <a:moveTo>
                      <a:pt x="0" y="39"/>
                    </a:moveTo>
                    <a:lnTo>
                      <a:pt x="16" y="42"/>
                    </a:lnTo>
                    <a:lnTo>
                      <a:pt x="37" y="49"/>
                    </a:lnTo>
                    <a:lnTo>
                      <a:pt x="60" y="49"/>
                    </a:lnTo>
                    <a:lnTo>
                      <a:pt x="75" y="30"/>
                    </a:lnTo>
                    <a:lnTo>
                      <a:pt x="52" y="15"/>
                    </a:lnTo>
                    <a:lnTo>
                      <a:pt x="26" y="0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646280" y="1325520"/>
              <a:ext cx="252360" cy="236520"/>
              <a:chOff x="1646280" y="1325520"/>
              <a:chExt cx="252360" cy="236520"/>
            </a:xfrm>
          </p:grpSpPr>
          <p:sp>
            <p:nvSpPr>
              <p:cNvPr id="360" name=""/>
              <p:cNvSpPr/>
              <p:nvPr/>
            </p:nvSpPr>
            <p:spPr>
              <a:xfrm>
                <a:off x="1646280" y="1325520"/>
                <a:ext cx="252360" cy="236520"/>
              </a:xfrm>
              <a:custGeom>
                <a:avLst/>
                <a:gdLst/>
                <a:ahLst/>
                <a:rect l="l" t="t" r="r" b="b"/>
                <a:pathLst>
                  <a:path w="703" h="656">
                    <a:moveTo>
                      <a:pt x="226" y="130"/>
                    </a:moveTo>
                    <a:lnTo>
                      <a:pt x="205" y="144"/>
                    </a:lnTo>
                    <a:lnTo>
                      <a:pt x="184" y="153"/>
                    </a:lnTo>
                    <a:lnTo>
                      <a:pt x="158" y="162"/>
                    </a:lnTo>
                    <a:lnTo>
                      <a:pt x="137" y="173"/>
                    </a:lnTo>
                    <a:lnTo>
                      <a:pt x="111" y="176"/>
                    </a:lnTo>
                    <a:lnTo>
                      <a:pt x="84" y="176"/>
                    </a:lnTo>
                    <a:lnTo>
                      <a:pt x="61" y="173"/>
                    </a:lnTo>
                    <a:lnTo>
                      <a:pt x="37" y="165"/>
                    </a:lnTo>
                    <a:lnTo>
                      <a:pt x="29" y="170"/>
                    </a:lnTo>
                    <a:lnTo>
                      <a:pt x="16" y="179"/>
                    </a:lnTo>
                    <a:lnTo>
                      <a:pt x="0" y="194"/>
                    </a:lnTo>
                    <a:lnTo>
                      <a:pt x="0" y="223"/>
                    </a:lnTo>
                    <a:lnTo>
                      <a:pt x="21" y="246"/>
                    </a:lnTo>
                    <a:lnTo>
                      <a:pt x="48" y="266"/>
                    </a:lnTo>
                    <a:lnTo>
                      <a:pt x="76" y="281"/>
                    </a:lnTo>
                    <a:lnTo>
                      <a:pt x="108" y="289"/>
                    </a:lnTo>
                    <a:lnTo>
                      <a:pt x="142" y="292"/>
                    </a:lnTo>
                    <a:lnTo>
                      <a:pt x="176" y="292"/>
                    </a:lnTo>
                    <a:lnTo>
                      <a:pt x="210" y="286"/>
                    </a:lnTo>
                    <a:lnTo>
                      <a:pt x="241" y="275"/>
                    </a:lnTo>
                    <a:lnTo>
                      <a:pt x="265" y="257"/>
                    </a:lnTo>
                    <a:lnTo>
                      <a:pt x="289" y="243"/>
                    </a:lnTo>
                    <a:lnTo>
                      <a:pt x="307" y="228"/>
                    </a:lnTo>
                    <a:lnTo>
                      <a:pt x="328" y="220"/>
                    </a:lnTo>
                    <a:lnTo>
                      <a:pt x="354" y="214"/>
                    </a:lnTo>
                    <a:lnTo>
                      <a:pt x="380" y="217"/>
                    </a:lnTo>
                    <a:lnTo>
                      <a:pt x="414" y="226"/>
                    </a:lnTo>
                    <a:lnTo>
                      <a:pt x="451" y="249"/>
                    </a:lnTo>
                    <a:lnTo>
                      <a:pt x="490" y="278"/>
                    </a:lnTo>
                    <a:lnTo>
                      <a:pt x="514" y="307"/>
                    </a:lnTo>
                    <a:lnTo>
                      <a:pt x="535" y="339"/>
                    </a:lnTo>
                    <a:lnTo>
                      <a:pt x="548" y="373"/>
                    </a:lnTo>
                    <a:lnTo>
                      <a:pt x="558" y="408"/>
                    </a:lnTo>
                    <a:lnTo>
                      <a:pt x="564" y="443"/>
                    </a:lnTo>
                    <a:lnTo>
                      <a:pt x="572" y="481"/>
                    </a:lnTo>
                    <a:lnTo>
                      <a:pt x="582" y="515"/>
                    </a:lnTo>
                    <a:lnTo>
                      <a:pt x="679" y="655"/>
                    </a:lnTo>
                    <a:lnTo>
                      <a:pt x="684" y="620"/>
                    </a:lnTo>
                    <a:lnTo>
                      <a:pt x="697" y="530"/>
                    </a:lnTo>
                    <a:lnTo>
                      <a:pt x="702" y="414"/>
                    </a:lnTo>
                    <a:lnTo>
                      <a:pt x="695" y="301"/>
                    </a:lnTo>
                    <a:lnTo>
                      <a:pt x="668" y="243"/>
                    </a:lnTo>
                    <a:lnTo>
                      <a:pt x="642" y="194"/>
                    </a:lnTo>
                    <a:lnTo>
                      <a:pt x="613" y="150"/>
                    </a:lnTo>
                    <a:lnTo>
                      <a:pt x="582" y="113"/>
                    </a:lnTo>
                    <a:lnTo>
                      <a:pt x="548" y="78"/>
                    </a:lnTo>
                    <a:lnTo>
                      <a:pt x="506" y="49"/>
                    </a:lnTo>
                    <a:lnTo>
                      <a:pt x="459" y="23"/>
                    </a:lnTo>
                    <a:lnTo>
                      <a:pt x="401" y="0"/>
                    </a:lnTo>
                    <a:lnTo>
                      <a:pt x="365" y="8"/>
                    </a:lnTo>
                    <a:lnTo>
                      <a:pt x="336" y="20"/>
                    </a:lnTo>
                    <a:lnTo>
                      <a:pt x="315" y="34"/>
                    </a:lnTo>
                    <a:lnTo>
                      <a:pt x="294" y="55"/>
                    </a:lnTo>
                    <a:lnTo>
                      <a:pt x="273" y="78"/>
                    </a:lnTo>
                    <a:lnTo>
                      <a:pt x="257" y="95"/>
                    </a:lnTo>
                    <a:lnTo>
                      <a:pt x="241" y="115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934920" y="1332000"/>
              <a:ext cx="419040" cy="261720"/>
              <a:chOff x="934920" y="1332000"/>
              <a:chExt cx="419040" cy="26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934920" y="1332000"/>
                <a:ext cx="419040" cy="261720"/>
              </a:xfrm>
              <a:custGeom>
                <a:avLst/>
                <a:gdLst/>
                <a:ahLst/>
                <a:rect l="l" t="t" r="r" b="b"/>
                <a:pathLst>
                  <a:path w="1162" h="727">
                    <a:moveTo>
                      <a:pt x="0" y="190"/>
                    </a:moveTo>
                    <a:lnTo>
                      <a:pt x="8" y="263"/>
                    </a:lnTo>
                    <a:lnTo>
                      <a:pt x="37" y="318"/>
                    </a:lnTo>
                    <a:lnTo>
                      <a:pt x="80" y="361"/>
                    </a:lnTo>
                    <a:lnTo>
                      <a:pt x="132" y="393"/>
                    </a:lnTo>
                    <a:lnTo>
                      <a:pt x="188" y="425"/>
                    </a:lnTo>
                    <a:lnTo>
                      <a:pt x="243" y="459"/>
                    </a:lnTo>
                    <a:lnTo>
                      <a:pt x="288" y="500"/>
                    </a:lnTo>
                    <a:lnTo>
                      <a:pt x="325" y="552"/>
                    </a:lnTo>
                    <a:lnTo>
                      <a:pt x="307" y="555"/>
                    </a:lnTo>
                    <a:lnTo>
                      <a:pt x="291" y="555"/>
                    </a:lnTo>
                    <a:lnTo>
                      <a:pt x="280" y="549"/>
                    </a:lnTo>
                    <a:lnTo>
                      <a:pt x="267" y="543"/>
                    </a:lnTo>
                    <a:lnTo>
                      <a:pt x="254" y="535"/>
                    </a:lnTo>
                    <a:lnTo>
                      <a:pt x="241" y="526"/>
                    </a:lnTo>
                    <a:lnTo>
                      <a:pt x="225" y="517"/>
                    </a:lnTo>
                    <a:lnTo>
                      <a:pt x="212" y="511"/>
                    </a:lnTo>
                    <a:lnTo>
                      <a:pt x="217" y="535"/>
                    </a:lnTo>
                    <a:lnTo>
                      <a:pt x="225" y="558"/>
                    </a:lnTo>
                    <a:lnTo>
                      <a:pt x="235" y="581"/>
                    </a:lnTo>
                    <a:lnTo>
                      <a:pt x="246" y="598"/>
                    </a:lnTo>
                    <a:lnTo>
                      <a:pt x="259" y="616"/>
                    </a:lnTo>
                    <a:lnTo>
                      <a:pt x="278" y="627"/>
                    </a:lnTo>
                    <a:lnTo>
                      <a:pt x="301" y="642"/>
                    </a:lnTo>
                    <a:lnTo>
                      <a:pt x="325" y="650"/>
                    </a:lnTo>
                    <a:lnTo>
                      <a:pt x="344" y="656"/>
                    </a:lnTo>
                    <a:lnTo>
                      <a:pt x="365" y="656"/>
                    </a:lnTo>
                    <a:lnTo>
                      <a:pt x="386" y="650"/>
                    </a:lnTo>
                    <a:lnTo>
                      <a:pt x="402" y="642"/>
                    </a:lnTo>
                    <a:lnTo>
                      <a:pt x="417" y="627"/>
                    </a:lnTo>
                    <a:lnTo>
                      <a:pt x="425" y="613"/>
                    </a:lnTo>
                    <a:lnTo>
                      <a:pt x="431" y="595"/>
                    </a:lnTo>
                    <a:lnTo>
                      <a:pt x="428" y="584"/>
                    </a:lnTo>
                    <a:lnTo>
                      <a:pt x="433" y="543"/>
                    </a:lnTo>
                    <a:lnTo>
                      <a:pt x="428" y="511"/>
                    </a:lnTo>
                    <a:lnTo>
                      <a:pt x="415" y="485"/>
                    </a:lnTo>
                    <a:lnTo>
                      <a:pt x="396" y="462"/>
                    </a:lnTo>
                    <a:lnTo>
                      <a:pt x="378" y="439"/>
                    </a:lnTo>
                    <a:lnTo>
                      <a:pt x="367" y="416"/>
                    </a:lnTo>
                    <a:lnTo>
                      <a:pt x="365" y="387"/>
                    </a:lnTo>
                    <a:lnTo>
                      <a:pt x="375" y="352"/>
                    </a:lnTo>
                    <a:lnTo>
                      <a:pt x="396" y="387"/>
                    </a:lnTo>
                    <a:lnTo>
                      <a:pt x="423" y="416"/>
                    </a:lnTo>
                    <a:lnTo>
                      <a:pt x="446" y="439"/>
                    </a:lnTo>
                    <a:lnTo>
                      <a:pt x="465" y="465"/>
                    </a:lnTo>
                    <a:lnTo>
                      <a:pt x="481" y="491"/>
                    </a:lnTo>
                    <a:lnTo>
                      <a:pt x="489" y="520"/>
                    </a:lnTo>
                    <a:lnTo>
                      <a:pt x="483" y="558"/>
                    </a:lnTo>
                    <a:lnTo>
                      <a:pt x="465" y="601"/>
                    </a:lnTo>
                    <a:lnTo>
                      <a:pt x="478" y="618"/>
                    </a:lnTo>
                    <a:lnTo>
                      <a:pt x="491" y="624"/>
                    </a:lnTo>
                    <a:lnTo>
                      <a:pt x="507" y="624"/>
                    </a:lnTo>
                    <a:lnTo>
                      <a:pt x="520" y="618"/>
                    </a:lnTo>
                    <a:lnTo>
                      <a:pt x="536" y="610"/>
                    </a:lnTo>
                    <a:lnTo>
                      <a:pt x="549" y="598"/>
                    </a:lnTo>
                    <a:lnTo>
                      <a:pt x="563" y="590"/>
                    </a:lnTo>
                    <a:lnTo>
                      <a:pt x="570" y="584"/>
                    </a:lnTo>
                    <a:lnTo>
                      <a:pt x="576" y="546"/>
                    </a:lnTo>
                    <a:lnTo>
                      <a:pt x="573" y="514"/>
                    </a:lnTo>
                    <a:lnTo>
                      <a:pt x="565" y="483"/>
                    </a:lnTo>
                    <a:lnTo>
                      <a:pt x="549" y="454"/>
                    </a:lnTo>
                    <a:lnTo>
                      <a:pt x="539" y="425"/>
                    </a:lnTo>
                    <a:lnTo>
                      <a:pt x="520" y="399"/>
                    </a:lnTo>
                    <a:lnTo>
                      <a:pt x="510" y="367"/>
                    </a:lnTo>
                    <a:lnTo>
                      <a:pt x="497" y="335"/>
                    </a:lnTo>
                    <a:lnTo>
                      <a:pt x="512" y="341"/>
                    </a:lnTo>
                    <a:lnTo>
                      <a:pt x="528" y="349"/>
                    </a:lnTo>
                    <a:lnTo>
                      <a:pt x="549" y="358"/>
                    </a:lnTo>
                    <a:lnTo>
                      <a:pt x="568" y="373"/>
                    </a:lnTo>
                    <a:lnTo>
                      <a:pt x="584" y="390"/>
                    </a:lnTo>
                    <a:lnTo>
                      <a:pt x="599" y="407"/>
                    </a:lnTo>
                    <a:lnTo>
                      <a:pt x="610" y="430"/>
                    </a:lnTo>
                    <a:lnTo>
                      <a:pt x="615" y="454"/>
                    </a:lnTo>
                    <a:lnTo>
                      <a:pt x="631" y="584"/>
                    </a:lnTo>
                    <a:lnTo>
                      <a:pt x="644" y="595"/>
                    </a:lnTo>
                    <a:lnTo>
                      <a:pt x="660" y="601"/>
                    </a:lnTo>
                    <a:lnTo>
                      <a:pt x="673" y="598"/>
                    </a:lnTo>
                    <a:lnTo>
                      <a:pt x="687" y="595"/>
                    </a:lnTo>
                    <a:lnTo>
                      <a:pt x="697" y="587"/>
                    </a:lnTo>
                    <a:lnTo>
                      <a:pt x="705" y="569"/>
                    </a:lnTo>
                    <a:lnTo>
                      <a:pt x="716" y="555"/>
                    </a:lnTo>
                    <a:lnTo>
                      <a:pt x="721" y="535"/>
                    </a:lnTo>
                    <a:lnTo>
                      <a:pt x="721" y="511"/>
                    </a:lnTo>
                    <a:lnTo>
                      <a:pt x="713" y="480"/>
                    </a:lnTo>
                    <a:lnTo>
                      <a:pt x="697" y="439"/>
                    </a:lnTo>
                    <a:lnTo>
                      <a:pt x="681" y="399"/>
                    </a:lnTo>
                    <a:lnTo>
                      <a:pt x="660" y="361"/>
                    </a:lnTo>
                    <a:lnTo>
                      <a:pt x="639" y="323"/>
                    </a:lnTo>
                    <a:lnTo>
                      <a:pt x="623" y="292"/>
                    </a:lnTo>
                    <a:lnTo>
                      <a:pt x="607" y="266"/>
                    </a:lnTo>
                    <a:lnTo>
                      <a:pt x="634" y="274"/>
                    </a:lnTo>
                    <a:lnTo>
                      <a:pt x="660" y="289"/>
                    </a:lnTo>
                    <a:lnTo>
                      <a:pt x="684" y="303"/>
                    </a:lnTo>
                    <a:lnTo>
                      <a:pt x="702" y="323"/>
                    </a:lnTo>
                    <a:lnTo>
                      <a:pt x="723" y="349"/>
                    </a:lnTo>
                    <a:lnTo>
                      <a:pt x="737" y="373"/>
                    </a:lnTo>
                    <a:lnTo>
                      <a:pt x="755" y="399"/>
                    </a:lnTo>
                    <a:lnTo>
                      <a:pt x="766" y="428"/>
                    </a:lnTo>
                    <a:lnTo>
                      <a:pt x="816" y="465"/>
                    </a:lnTo>
                    <a:lnTo>
                      <a:pt x="863" y="509"/>
                    </a:lnTo>
                    <a:lnTo>
                      <a:pt x="903" y="549"/>
                    </a:lnTo>
                    <a:lnTo>
                      <a:pt x="942" y="590"/>
                    </a:lnTo>
                    <a:lnTo>
                      <a:pt x="987" y="627"/>
                    </a:lnTo>
                    <a:lnTo>
                      <a:pt x="1027" y="665"/>
                    </a:lnTo>
                    <a:lnTo>
                      <a:pt x="1077" y="697"/>
                    </a:lnTo>
                    <a:lnTo>
                      <a:pt x="1130" y="726"/>
                    </a:lnTo>
                    <a:lnTo>
                      <a:pt x="1148" y="726"/>
                    </a:lnTo>
                    <a:lnTo>
                      <a:pt x="1161" y="714"/>
                    </a:lnTo>
                    <a:lnTo>
                      <a:pt x="1161" y="688"/>
                    </a:lnTo>
                    <a:lnTo>
                      <a:pt x="1159" y="656"/>
                    </a:lnTo>
                    <a:lnTo>
                      <a:pt x="1146" y="642"/>
                    </a:lnTo>
                    <a:lnTo>
                      <a:pt x="1135" y="621"/>
                    </a:lnTo>
                    <a:lnTo>
                      <a:pt x="1122" y="601"/>
                    </a:lnTo>
                    <a:lnTo>
                      <a:pt x="1106" y="584"/>
                    </a:lnTo>
                    <a:lnTo>
                      <a:pt x="1088" y="561"/>
                    </a:lnTo>
                    <a:lnTo>
                      <a:pt x="1072" y="537"/>
                    </a:lnTo>
                    <a:lnTo>
                      <a:pt x="1048" y="517"/>
                    </a:lnTo>
                    <a:lnTo>
                      <a:pt x="1024" y="494"/>
                    </a:lnTo>
                    <a:lnTo>
                      <a:pt x="990" y="459"/>
                    </a:lnTo>
                    <a:lnTo>
                      <a:pt x="956" y="425"/>
                    </a:lnTo>
                    <a:lnTo>
                      <a:pt x="916" y="390"/>
                    </a:lnTo>
                    <a:lnTo>
                      <a:pt x="879" y="355"/>
                    </a:lnTo>
                    <a:lnTo>
                      <a:pt x="840" y="321"/>
                    </a:lnTo>
                    <a:lnTo>
                      <a:pt x="803" y="286"/>
                    </a:lnTo>
                    <a:lnTo>
                      <a:pt x="758" y="254"/>
                    </a:lnTo>
                    <a:lnTo>
                      <a:pt x="718" y="222"/>
                    </a:lnTo>
                    <a:lnTo>
                      <a:pt x="673" y="190"/>
                    </a:lnTo>
                    <a:lnTo>
                      <a:pt x="631" y="159"/>
                    </a:lnTo>
                    <a:lnTo>
                      <a:pt x="584" y="130"/>
                    </a:lnTo>
                    <a:lnTo>
                      <a:pt x="539" y="101"/>
                    </a:lnTo>
                    <a:lnTo>
                      <a:pt x="489" y="72"/>
                    </a:lnTo>
                    <a:lnTo>
                      <a:pt x="439" y="46"/>
                    </a:lnTo>
                    <a:lnTo>
                      <a:pt x="391" y="23"/>
                    </a:lnTo>
                    <a:lnTo>
                      <a:pt x="338" y="0"/>
                    </a:lnTo>
                    <a:lnTo>
                      <a:pt x="285" y="2"/>
                    </a:lnTo>
                    <a:lnTo>
                      <a:pt x="235" y="8"/>
                    </a:lnTo>
                    <a:lnTo>
                      <a:pt x="185" y="26"/>
                    </a:lnTo>
                    <a:lnTo>
                      <a:pt x="138" y="43"/>
                    </a:lnTo>
                    <a:lnTo>
                      <a:pt x="98" y="72"/>
                    </a:lnTo>
                    <a:lnTo>
                      <a:pt x="61" y="104"/>
                    </a:lnTo>
                    <a:lnTo>
                      <a:pt x="30" y="141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44600" y="1380960"/>
              <a:ext cx="188640" cy="436680"/>
              <a:chOff x="444600" y="1380960"/>
              <a:chExt cx="188640" cy="436680"/>
            </a:xfrm>
          </p:grpSpPr>
          <p:sp>
            <p:nvSpPr>
              <p:cNvPr id="364" name=""/>
              <p:cNvSpPr/>
              <p:nvPr/>
            </p:nvSpPr>
            <p:spPr>
              <a:xfrm>
                <a:off x="444600" y="1380960"/>
                <a:ext cx="188640" cy="436680"/>
              </a:xfrm>
              <a:custGeom>
                <a:avLst/>
                <a:gdLst/>
                <a:ahLst/>
                <a:rect l="l" t="t" r="r" b="b"/>
                <a:pathLst>
                  <a:path w="523" h="1214">
                    <a:moveTo>
                      <a:pt x="250" y="605"/>
                    </a:moveTo>
                    <a:lnTo>
                      <a:pt x="281" y="682"/>
                    </a:lnTo>
                    <a:lnTo>
                      <a:pt x="316" y="762"/>
                    </a:lnTo>
                    <a:lnTo>
                      <a:pt x="353" y="837"/>
                    </a:lnTo>
                    <a:lnTo>
                      <a:pt x="387" y="914"/>
                    </a:lnTo>
                    <a:lnTo>
                      <a:pt x="424" y="992"/>
                    </a:lnTo>
                    <a:lnTo>
                      <a:pt x="459" y="1066"/>
                    </a:lnTo>
                    <a:lnTo>
                      <a:pt x="491" y="1138"/>
                    </a:lnTo>
                    <a:lnTo>
                      <a:pt x="522" y="1213"/>
                    </a:lnTo>
                    <a:lnTo>
                      <a:pt x="501" y="1132"/>
                    </a:lnTo>
                    <a:lnTo>
                      <a:pt x="475" y="1055"/>
                    </a:lnTo>
                    <a:lnTo>
                      <a:pt x="446" y="974"/>
                    </a:lnTo>
                    <a:lnTo>
                      <a:pt x="414" y="897"/>
                    </a:lnTo>
                    <a:lnTo>
                      <a:pt x="382" y="817"/>
                    </a:lnTo>
                    <a:lnTo>
                      <a:pt x="350" y="739"/>
                    </a:lnTo>
                    <a:lnTo>
                      <a:pt x="313" y="665"/>
                    </a:lnTo>
                    <a:lnTo>
                      <a:pt x="279" y="584"/>
                    </a:lnTo>
                    <a:lnTo>
                      <a:pt x="242" y="510"/>
                    </a:lnTo>
                    <a:lnTo>
                      <a:pt x="207" y="433"/>
                    </a:lnTo>
                    <a:lnTo>
                      <a:pt x="173" y="358"/>
                    </a:lnTo>
                    <a:lnTo>
                      <a:pt x="133" y="283"/>
                    </a:lnTo>
                    <a:lnTo>
                      <a:pt x="99" y="212"/>
                    </a:lnTo>
                    <a:lnTo>
                      <a:pt x="64" y="137"/>
                    </a:lnTo>
                    <a:lnTo>
                      <a:pt x="32" y="68"/>
                    </a:lnTo>
                    <a:lnTo>
                      <a:pt x="0" y="0"/>
                    </a:lnTo>
                    <a:lnTo>
                      <a:pt x="27" y="83"/>
                    </a:lnTo>
                    <a:lnTo>
                      <a:pt x="61" y="174"/>
                    </a:lnTo>
                    <a:lnTo>
                      <a:pt x="101" y="278"/>
                    </a:lnTo>
                    <a:lnTo>
                      <a:pt x="146" y="375"/>
                    </a:lnTo>
                    <a:lnTo>
                      <a:pt x="186" y="464"/>
                    </a:lnTo>
                    <a:lnTo>
                      <a:pt x="218" y="539"/>
                    </a:lnTo>
                    <a:lnTo>
                      <a:pt x="242" y="584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800360" y="1432080"/>
              <a:ext cx="31680" cy="39600"/>
              <a:chOff x="1800360" y="1432080"/>
              <a:chExt cx="31680" cy="39600"/>
            </a:xfrm>
          </p:grpSpPr>
          <p:sp>
            <p:nvSpPr>
              <p:cNvPr id="366" name=""/>
              <p:cNvSpPr/>
              <p:nvPr/>
            </p:nvSpPr>
            <p:spPr>
              <a:xfrm>
                <a:off x="1800360" y="14320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89" h="109">
                    <a:moveTo>
                      <a:pt x="88" y="108"/>
                    </a:moveTo>
                    <a:lnTo>
                      <a:pt x="0" y="0"/>
                    </a:lnTo>
                    <a:lnTo>
                      <a:pt x="40" y="76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26920" y="1827360"/>
              <a:ext cx="457200" cy="60120"/>
              <a:chOff x="826920" y="1827360"/>
              <a:chExt cx="457200" cy="60120"/>
            </a:xfrm>
          </p:grpSpPr>
          <p:sp>
            <p:nvSpPr>
              <p:cNvPr id="368" name=""/>
              <p:cNvSpPr/>
              <p:nvPr/>
            </p:nvSpPr>
            <p:spPr>
              <a:xfrm>
                <a:off x="826920" y="1827360"/>
                <a:ext cx="457200" cy="60120"/>
              </a:xfrm>
              <a:custGeom>
                <a:avLst/>
                <a:gdLst/>
                <a:ahLst/>
                <a:rect l="l" t="t" r="r" b="b"/>
                <a:pathLst>
                  <a:path w="1268" h="166">
                    <a:moveTo>
                      <a:pt x="0" y="136"/>
                    </a:moveTo>
                    <a:lnTo>
                      <a:pt x="32" y="162"/>
                    </a:lnTo>
                    <a:lnTo>
                      <a:pt x="114" y="165"/>
                    </a:lnTo>
                    <a:lnTo>
                      <a:pt x="193" y="162"/>
                    </a:lnTo>
                    <a:lnTo>
                      <a:pt x="269" y="153"/>
                    </a:lnTo>
                    <a:lnTo>
                      <a:pt x="348" y="142"/>
                    </a:lnTo>
                    <a:lnTo>
                      <a:pt x="427" y="128"/>
                    </a:lnTo>
                    <a:lnTo>
                      <a:pt x="504" y="110"/>
                    </a:lnTo>
                    <a:lnTo>
                      <a:pt x="583" y="93"/>
                    </a:lnTo>
                    <a:lnTo>
                      <a:pt x="659" y="76"/>
                    </a:lnTo>
                    <a:lnTo>
                      <a:pt x="735" y="62"/>
                    </a:lnTo>
                    <a:lnTo>
                      <a:pt x="812" y="48"/>
                    </a:lnTo>
                    <a:lnTo>
                      <a:pt x="886" y="39"/>
                    </a:lnTo>
                    <a:lnTo>
                      <a:pt x="965" y="36"/>
                    </a:lnTo>
                    <a:lnTo>
                      <a:pt x="1038" y="42"/>
                    </a:lnTo>
                    <a:lnTo>
                      <a:pt x="1115" y="51"/>
                    </a:lnTo>
                    <a:lnTo>
                      <a:pt x="1194" y="71"/>
                    </a:lnTo>
                    <a:lnTo>
                      <a:pt x="1267" y="102"/>
                    </a:lnTo>
                    <a:lnTo>
                      <a:pt x="1199" y="62"/>
                    </a:lnTo>
                    <a:lnTo>
                      <a:pt x="1125" y="31"/>
                    </a:lnTo>
                    <a:lnTo>
                      <a:pt x="1057" y="11"/>
                    </a:lnTo>
                    <a:lnTo>
                      <a:pt x="980" y="2"/>
                    </a:lnTo>
                    <a:lnTo>
                      <a:pt x="909" y="0"/>
                    </a:lnTo>
                    <a:lnTo>
                      <a:pt x="838" y="2"/>
                    </a:lnTo>
                    <a:lnTo>
                      <a:pt x="762" y="11"/>
                    </a:lnTo>
                    <a:lnTo>
                      <a:pt x="685" y="22"/>
                    </a:lnTo>
                    <a:lnTo>
                      <a:pt x="612" y="39"/>
                    </a:lnTo>
                    <a:lnTo>
                      <a:pt x="535" y="56"/>
                    </a:lnTo>
                    <a:lnTo>
                      <a:pt x="461" y="73"/>
                    </a:lnTo>
                    <a:lnTo>
                      <a:pt x="385" y="93"/>
                    </a:lnTo>
                    <a:lnTo>
                      <a:pt x="311" y="108"/>
                    </a:lnTo>
                    <a:lnTo>
                      <a:pt x="235" y="116"/>
                    </a:lnTo>
                    <a:lnTo>
                      <a:pt x="161" y="128"/>
                    </a:lnTo>
                    <a:lnTo>
                      <a:pt x="85" y="128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984240" y="1897200"/>
              <a:ext cx="299880" cy="39600"/>
              <a:chOff x="984240" y="1897200"/>
              <a:chExt cx="299880" cy="39600"/>
            </a:xfrm>
          </p:grpSpPr>
          <p:sp>
            <p:nvSpPr>
              <p:cNvPr id="370" name=""/>
              <p:cNvSpPr/>
              <p:nvPr/>
            </p:nvSpPr>
            <p:spPr>
              <a:xfrm>
                <a:off x="984240" y="1897200"/>
                <a:ext cx="299880" cy="39600"/>
              </a:xfrm>
              <a:custGeom>
                <a:avLst/>
                <a:gdLst/>
                <a:ahLst/>
                <a:rect l="l" t="t" r="r" b="b"/>
                <a:pathLst>
                  <a:path w="833" h="109">
                    <a:moveTo>
                      <a:pt x="0" y="108"/>
                    </a:moveTo>
                    <a:lnTo>
                      <a:pt x="51" y="108"/>
                    </a:lnTo>
                    <a:lnTo>
                      <a:pt x="104" y="102"/>
                    </a:lnTo>
                    <a:lnTo>
                      <a:pt x="152" y="94"/>
                    </a:lnTo>
                    <a:lnTo>
                      <a:pt x="205" y="88"/>
                    </a:lnTo>
                    <a:lnTo>
                      <a:pt x="258" y="80"/>
                    </a:lnTo>
                    <a:lnTo>
                      <a:pt x="311" y="72"/>
                    </a:lnTo>
                    <a:lnTo>
                      <a:pt x="361" y="60"/>
                    </a:lnTo>
                    <a:lnTo>
                      <a:pt x="414" y="52"/>
                    </a:lnTo>
                    <a:lnTo>
                      <a:pt x="467" y="47"/>
                    </a:lnTo>
                    <a:lnTo>
                      <a:pt x="520" y="44"/>
                    </a:lnTo>
                    <a:lnTo>
                      <a:pt x="570" y="41"/>
                    </a:lnTo>
                    <a:lnTo>
                      <a:pt x="623" y="41"/>
                    </a:lnTo>
                    <a:lnTo>
                      <a:pt x="676" y="47"/>
                    </a:lnTo>
                    <a:lnTo>
                      <a:pt x="729" y="55"/>
                    </a:lnTo>
                    <a:lnTo>
                      <a:pt x="780" y="72"/>
                    </a:lnTo>
                    <a:lnTo>
                      <a:pt x="832" y="88"/>
                    </a:lnTo>
                    <a:lnTo>
                      <a:pt x="785" y="60"/>
                    </a:lnTo>
                    <a:lnTo>
                      <a:pt x="737" y="38"/>
                    </a:lnTo>
                    <a:lnTo>
                      <a:pt x="687" y="22"/>
                    </a:lnTo>
                    <a:lnTo>
                      <a:pt x="634" y="11"/>
                    </a:lnTo>
                    <a:lnTo>
                      <a:pt x="581" y="2"/>
                    </a:lnTo>
                    <a:lnTo>
                      <a:pt x="525" y="0"/>
                    </a:lnTo>
                    <a:lnTo>
                      <a:pt x="472" y="0"/>
                    </a:lnTo>
                    <a:lnTo>
                      <a:pt x="416" y="2"/>
                    </a:lnTo>
                    <a:lnTo>
                      <a:pt x="361" y="13"/>
                    </a:lnTo>
                    <a:lnTo>
                      <a:pt x="305" y="22"/>
                    </a:lnTo>
                    <a:lnTo>
                      <a:pt x="252" y="33"/>
                    </a:lnTo>
                    <a:lnTo>
                      <a:pt x="199" y="47"/>
                    </a:lnTo>
                    <a:lnTo>
                      <a:pt x="146" y="60"/>
                    </a:lnTo>
                    <a:lnTo>
                      <a:pt x="96" y="77"/>
                    </a:lnTo>
                    <a:lnTo>
                      <a:pt x="48" y="91"/>
                    </a:lnTo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98520" y="1168560"/>
              <a:ext cx="1623960" cy="657000"/>
              <a:chOff x="398520" y="1168560"/>
              <a:chExt cx="1623960" cy="657000"/>
            </a:xfrm>
          </p:grpSpPr>
          <p:sp>
            <p:nvSpPr>
              <p:cNvPr id="372" name=""/>
              <p:cNvSpPr/>
              <p:nvPr/>
            </p:nvSpPr>
            <p:spPr>
              <a:xfrm>
                <a:off x="398520" y="1168560"/>
                <a:ext cx="1623960" cy="657000"/>
              </a:xfrm>
              <a:custGeom>
                <a:avLst/>
                <a:gdLst/>
                <a:ahLst/>
                <a:rect l="l" t="t" r="r" b="b"/>
                <a:pathLst>
                  <a:path w="4512" h="1824">
                    <a:moveTo>
                      <a:pt x="0" y="0"/>
                    </a:moveTo>
                    <a:lnTo>
                      <a:pt x="43" y="74"/>
                    </a:lnTo>
                    <a:lnTo>
                      <a:pt x="82" y="146"/>
                    </a:lnTo>
                    <a:lnTo>
                      <a:pt x="116" y="218"/>
                    </a:lnTo>
                    <a:lnTo>
                      <a:pt x="151" y="287"/>
                    </a:lnTo>
                    <a:lnTo>
                      <a:pt x="182" y="353"/>
                    </a:lnTo>
                    <a:lnTo>
                      <a:pt x="211" y="416"/>
                    </a:lnTo>
                    <a:lnTo>
                      <a:pt x="240" y="480"/>
                    </a:lnTo>
                    <a:lnTo>
                      <a:pt x="267" y="540"/>
                    </a:lnTo>
                    <a:lnTo>
                      <a:pt x="296" y="598"/>
                    </a:lnTo>
                    <a:lnTo>
                      <a:pt x="322" y="661"/>
                    </a:lnTo>
                    <a:lnTo>
                      <a:pt x="346" y="721"/>
                    </a:lnTo>
                    <a:lnTo>
                      <a:pt x="372" y="784"/>
                    </a:lnTo>
                    <a:lnTo>
                      <a:pt x="398" y="848"/>
                    </a:lnTo>
                    <a:lnTo>
                      <a:pt x="427" y="914"/>
                    </a:lnTo>
                    <a:lnTo>
                      <a:pt x="451" y="980"/>
                    </a:lnTo>
                    <a:lnTo>
                      <a:pt x="480" y="1049"/>
                    </a:lnTo>
                    <a:lnTo>
                      <a:pt x="796" y="1756"/>
                    </a:lnTo>
                    <a:lnTo>
                      <a:pt x="917" y="1797"/>
                    </a:lnTo>
                    <a:lnTo>
                      <a:pt x="1036" y="1820"/>
                    </a:lnTo>
                    <a:lnTo>
                      <a:pt x="1152" y="1823"/>
                    </a:lnTo>
                    <a:lnTo>
                      <a:pt x="1268" y="1811"/>
                    </a:lnTo>
                    <a:lnTo>
                      <a:pt x="1381" y="1788"/>
                    </a:lnTo>
                    <a:lnTo>
                      <a:pt x="1489" y="1756"/>
                    </a:lnTo>
                    <a:lnTo>
                      <a:pt x="1600" y="1722"/>
                    </a:lnTo>
                    <a:lnTo>
                      <a:pt x="1711" y="1684"/>
                    </a:lnTo>
                    <a:lnTo>
                      <a:pt x="1816" y="1653"/>
                    </a:lnTo>
                    <a:lnTo>
                      <a:pt x="1924" y="1624"/>
                    </a:lnTo>
                    <a:lnTo>
                      <a:pt x="2032" y="1604"/>
                    </a:lnTo>
                    <a:lnTo>
                      <a:pt x="2137" y="1598"/>
                    </a:lnTo>
                    <a:lnTo>
                      <a:pt x="2245" y="1610"/>
                    </a:lnTo>
                    <a:lnTo>
                      <a:pt x="2348" y="1636"/>
                    </a:lnTo>
                    <a:lnTo>
                      <a:pt x="2456" y="1690"/>
                    </a:lnTo>
                    <a:lnTo>
                      <a:pt x="2564" y="1771"/>
                    </a:lnTo>
                    <a:lnTo>
                      <a:pt x="2541" y="1682"/>
                    </a:lnTo>
                    <a:lnTo>
                      <a:pt x="2512" y="1592"/>
                    </a:lnTo>
                    <a:lnTo>
                      <a:pt x="2469" y="1506"/>
                    </a:lnTo>
                    <a:lnTo>
                      <a:pt x="2427" y="1426"/>
                    </a:lnTo>
                    <a:lnTo>
                      <a:pt x="2385" y="1342"/>
                    </a:lnTo>
                    <a:lnTo>
                      <a:pt x="2340" y="1262"/>
                    </a:lnTo>
                    <a:lnTo>
                      <a:pt x="2303" y="1181"/>
                    </a:lnTo>
                    <a:lnTo>
                      <a:pt x="2269" y="1101"/>
                    </a:lnTo>
                    <a:lnTo>
                      <a:pt x="2277" y="1095"/>
                    </a:lnTo>
                    <a:lnTo>
                      <a:pt x="2330" y="1170"/>
                    </a:lnTo>
                    <a:lnTo>
                      <a:pt x="2380" y="1256"/>
                    </a:lnTo>
                    <a:lnTo>
                      <a:pt x="2430" y="1342"/>
                    </a:lnTo>
                    <a:lnTo>
                      <a:pt x="2477" y="1431"/>
                    </a:lnTo>
                    <a:lnTo>
                      <a:pt x="2522" y="1526"/>
                    </a:lnTo>
                    <a:lnTo>
                      <a:pt x="2570" y="1618"/>
                    </a:lnTo>
                    <a:lnTo>
                      <a:pt x="2612" y="1707"/>
                    </a:lnTo>
                    <a:lnTo>
                      <a:pt x="2657" y="1791"/>
                    </a:lnTo>
                    <a:lnTo>
                      <a:pt x="2685" y="1785"/>
                    </a:lnTo>
                    <a:lnTo>
                      <a:pt x="2714" y="1774"/>
                    </a:lnTo>
                    <a:lnTo>
                      <a:pt x="2746" y="1756"/>
                    </a:lnTo>
                    <a:lnTo>
                      <a:pt x="2775" y="1739"/>
                    </a:lnTo>
                    <a:lnTo>
                      <a:pt x="2807" y="1722"/>
                    </a:lnTo>
                    <a:lnTo>
                      <a:pt x="2838" y="1707"/>
                    </a:lnTo>
                    <a:lnTo>
                      <a:pt x="2867" y="1693"/>
                    </a:lnTo>
                    <a:lnTo>
                      <a:pt x="2896" y="1687"/>
                    </a:lnTo>
                    <a:lnTo>
                      <a:pt x="2991" y="1653"/>
                    </a:lnTo>
                    <a:lnTo>
                      <a:pt x="3086" y="1630"/>
                    </a:lnTo>
                    <a:lnTo>
                      <a:pt x="3181" y="1615"/>
                    </a:lnTo>
                    <a:lnTo>
                      <a:pt x="3278" y="1604"/>
                    </a:lnTo>
                    <a:lnTo>
                      <a:pt x="3373" y="1601"/>
                    </a:lnTo>
                    <a:lnTo>
                      <a:pt x="3468" y="1604"/>
                    </a:lnTo>
                    <a:lnTo>
                      <a:pt x="3563" y="1610"/>
                    </a:lnTo>
                    <a:lnTo>
                      <a:pt x="3658" y="1615"/>
                    </a:lnTo>
                    <a:lnTo>
                      <a:pt x="3755" y="1624"/>
                    </a:lnTo>
                    <a:lnTo>
                      <a:pt x="3853" y="1633"/>
                    </a:lnTo>
                    <a:lnTo>
                      <a:pt x="3950" y="1641"/>
                    </a:lnTo>
                    <a:lnTo>
                      <a:pt x="4053" y="1644"/>
                    </a:lnTo>
                    <a:lnTo>
                      <a:pt x="4153" y="1641"/>
                    </a:lnTo>
                    <a:lnTo>
                      <a:pt x="4256" y="1636"/>
                    </a:lnTo>
                    <a:lnTo>
                      <a:pt x="4359" y="1621"/>
                    </a:lnTo>
                    <a:lnTo>
                      <a:pt x="4467" y="1601"/>
                    </a:lnTo>
                    <a:lnTo>
                      <a:pt x="4511" y="1569"/>
                    </a:lnTo>
                    <a:lnTo>
                      <a:pt x="4467" y="1523"/>
                    </a:lnTo>
                    <a:lnTo>
                      <a:pt x="4422" y="1480"/>
                    </a:lnTo>
                    <a:lnTo>
                      <a:pt x="4380" y="1431"/>
                    </a:lnTo>
                    <a:lnTo>
                      <a:pt x="4335" y="1385"/>
                    </a:lnTo>
                    <a:lnTo>
                      <a:pt x="4293" y="1337"/>
                    </a:lnTo>
                    <a:lnTo>
                      <a:pt x="4251" y="1288"/>
                    </a:lnTo>
                    <a:lnTo>
                      <a:pt x="4208" y="1239"/>
                    </a:lnTo>
                    <a:lnTo>
                      <a:pt x="4169" y="1190"/>
                    </a:lnTo>
                    <a:lnTo>
                      <a:pt x="4127" y="1138"/>
                    </a:lnTo>
                    <a:lnTo>
                      <a:pt x="4087" y="1086"/>
                    </a:lnTo>
                    <a:lnTo>
                      <a:pt x="4048" y="1035"/>
                    </a:lnTo>
                    <a:lnTo>
                      <a:pt x="4006" y="983"/>
                    </a:lnTo>
                    <a:lnTo>
                      <a:pt x="3966" y="928"/>
                    </a:lnTo>
                    <a:lnTo>
                      <a:pt x="3924" y="874"/>
                    </a:lnTo>
                    <a:lnTo>
                      <a:pt x="3887" y="816"/>
                    </a:lnTo>
                    <a:lnTo>
                      <a:pt x="3847" y="759"/>
                    </a:lnTo>
                    <a:lnTo>
                      <a:pt x="3826" y="744"/>
                    </a:lnTo>
                    <a:lnTo>
                      <a:pt x="3803" y="738"/>
                    </a:lnTo>
                    <a:lnTo>
                      <a:pt x="3782" y="744"/>
                    </a:lnTo>
                    <a:lnTo>
                      <a:pt x="3755" y="756"/>
                    </a:lnTo>
                    <a:lnTo>
                      <a:pt x="3729" y="773"/>
                    </a:lnTo>
                    <a:lnTo>
                      <a:pt x="3700" y="787"/>
                    </a:lnTo>
                    <a:lnTo>
                      <a:pt x="3671" y="802"/>
                    </a:lnTo>
                    <a:lnTo>
                      <a:pt x="3642" y="805"/>
                    </a:lnTo>
                    <a:lnTo>
                      <a:pt x="3608" y="802"/>
                    </a:lnTo>
                    <a:lnTo>
                      <a:pt x="3573" y="799"/>
                    </a:lnTo>
                    <a:lnTo>
                      <a:pt x="3537" y="787"/>
                    </a:lnTo>
                    <a:lnTo>
                      <a:pt x="3502" y="773"/>
                    </a:lnTo>
                    <a:lnTo>
                      <a:pt x="3473" y="753"/>
                    </a:lnTo>
                    <a:lnTo>
                      <a:pt x="3444" y="730"/>
                    </a:lnTo>
                    <a:lnTo>
                      <a:pt x="3426" y="704"/>
                    </a:lnTo>
                    <a:lnTo>
                      <a:pt x="3410" y="669"/>
                    </a:lnTo>
                    <a:lnTo>
                      <a:pt x="3415" y="618"/>
                    </a:lnTo>
                    <a:lnTo>
                      <a:pt x="3436" y="583"/>
                    </a:lnTo>
                    <a:lnTo>
                      <a:pt x="3465" y="563"/>
                    </a:lnTo>
                    <a:lnTo>
                      <a:pt x="3502" y="554"/>
                    </a:lnTo>
                    <a:lnTo>
                      <a:pt x="3539" y="552"/>
                    </a:lnTo>
                    <a:lnTo>
                      <a:pt x="3581" y="552"/>
                    </a:lnTo>
                    <a:lnTo>
                      <a:pt x="3618" y="546"/>
                    </a:lnTo>
                    <a:lnTo>
                      <a:pt x="3650" y="534"/>
                    </a:lnTo>
                    <a:lnTo>
                      <a:pt x="3676" y="514"/>
                    </a:lnTo>
                    <a:lnTo>
                      <a:pt x="3692" y="494"/>
                    </a:lnTo>
                    <a:lnTo>
                      <a:pt x="3695" y="483"/>
                    </a:lnTo>
                    <a:lnTo>
                      <a:pt x="3692" y="468"/>
                    </a:lnTo>
                    <a:lnTo>
                      <a:pt x="3681" y="454"/>
                    </a:lnTo>
                    <a:lnTo>
                      <a:pt x="3676" y="434"/>
                    </a:lnTo>
                    <a:lnTo>
                      <a:pt x="3671" y="411"/>
                    </a:lnTo>
                    <a:lnTo>
                      <a:pt x="3674" y="370"/>
                    </a:lnTo>
                    <a:lnTo>
                      <a:pt x="3671" y="359"/>
                    </a:lnTo>
                    <a:lnTo>
                      <a:pt x="3658" y="327"/>
                    </a:lnTo>
                    <a:lnTo>
                      <a:pt x="3637" y="290"/>
                    </a:lnTo>
                    <a:lnTo>
                      <a:pt x="3597" y="255"/>
                    </a:lnTo>
                    <a:lnTo>
                      <a:pt x="3566" y="253"/>
                    </a:lnTo>
                    <a:lnTo>
                      <a:pt x="3537" y="253"/>
                    </a:lnTo>
                    <a:lnTo>
                      <a:pt x="3508" y="253"/>
                    </a:lnTo>
                    <a:lnTo>
                      <a:pt x="3484" y="255"/>
                    </a:lnTo>
                    <a:lnTo>
                      <a:pt x="3458" y="261"/>
                    </a:lnTo>
                    <a:lnTo>
                      <a:pt x="3431" y="267"/>
                    </a:lnTo>
                    <a:lnTo>
                      <a:pt x="3407" y="281"/>
                    </a:lnTo>
                    <a:lnTo>
                      <a:pt x="3386" y="293"/>
                    </a:lnTo>
                    <a:lnTo>
                      <a:pt x="3360" y="316"/>
                    </a:lnTo>
                    <a:lnTo>
                      <a:pt x="3336" y="336"/>
                    </a:lnTo>
                    <a:lnTo>
                      <a:pt x="3310" y="359"/>
                    </a:lnTo>
                    <a:lnTo>
                      <a:pt x="3284" y="382"/>
                    </a:lnTo>
                    <a:lnTo>
                      <a:pt x="3257" y="405"/>
                    </a:lnTo>
                    <a:lnTo>
                      <a:pt x="3231" y="428"/>
                    </a:lnTo>
                    <a:lnTo>
                      <a:pt x="3205" y="451"/>
                    </a:lnTo>
                    <a:lnTo>
                      <a:pt x="3178" y="471"/>
                    </a:lnTo>
                    <a:lnTo>
                      <a:pt x="3149" y="494"/>
                    </a:lnTo>
                    <a:lnTo>
                      <a:pt x="3123" y="514"/>
                    </a:lnTo>
                    <a:lnTo>
                      <a:pt x="3091" y="531"/>
                    </a:lnTo>
                    <a:lnTo>
                      <a:pt x="3060" y="552"/>
                    </a:lnTo>
                    <a:lnTo>
                      <a:pt x="3028" y="572"/>
                    </a:lnTo>
                    <a:lnTo>
                      <a:pt x="2994" y="586"/>
                    </a:lnTo>
                    <a:lnTo>
                      <a:pt x="2957" y="598"/>
                    </a:lnTo>
                    <a:lnTo>
                      <a:pt x="2920" y="612"/>
                    </a:lnTo>
                    <a:lnTo>
                      <a:pt x="2886" y="621"/>
                    </a:lnTo>
                    <a:lnTo>
                      <a:pt x="2851" y="626"/>
                    </a:lnTo>
                    <a:lnTo>
                      <a:pt x="2820" y="632"/>
                    </a:lnTo>
                    <a:lnTo>
                      <a:pt x="2788" y="641"/>
                    </a:lnTo>
                    <a:lnTo>
                      <a:pt x="2759" y="646"/>
                    </a:lnTo>
                    <a:lnTo>
                      <a:pt x="2728" y="649"/>
                    </a:lnTo>
                    <a:lnTo>
                      <a:pt x="2699" y="652"/>
                    </a:lnTo>
                    <a:lnTo>
                      <a:pt x="2667" y="652"/>
                    </a:lnTo>
                    <a:lnTo>
                      <a:pt x="2638" y="649"/>
                    </a:lnTo>
                    <a:lnTo>
                      <a:pt x="2606" y="649"/>
                    </a:lnTo>
                    <a:lnTo>
                      <a:pt x="2577" y="644"/>
                    </a:lnTo>
                    <a:lnTo>
                      <a:pt x="2546" y="638"/>
                    </a:lnTo>
                    <a:lnTo>
                      <a:pt x="2517" y="629"/>
                    </a:lnTo>
                    <a:lnTo>
                      <a:pt x="2485" y="621"/>
                    </a:lnTo>
                    <a:lnTo>
                      <a:pt x="2454" y="609"/>
                    </a:lnTo>
                    <a:lnTo>
                      <a:pt x="2422" y="592"/>
                    </a:lnTo>
                    <a:lnTo>
                      <a:pt x="2377" y="557"/>
                    </a:lnTo>
                    <a:lnTo>
                      <a:pt x="2335" y="520"/>
                    </a:lnTo>
                    <a:lnTo>
                      <a:pt x="2296" y="480"/>
                    </a:lnTo>
                    <a:lnTo>
                      <a:pt x="2256" y="431"/>
                    </a:lnTo>
                    <a:lnTo>
                      <a:pt x="2222" y="382"/>
                    </a:lnTo>
                    <a:lnTo>
                      <a:pt x="2193" y="327"/>
                    </a:lnTo>
                    <a:lnTo>
                      <a:pt x="2169" y="270"/>
                    </a:lnTo>
                    <a:lnTo>
                      <a:pt x="2151" y="212"/>
                    </a:lnTo>
                    <a:lnTo>
                      <a:pt x="2124" y="195"/>
                    </a:lnTo>
                    <a:lnTo>
                      <a:pt x="2095" y="186"/>
                    </a:lnTo>
                    <a:lnTo>
                      <a:pt x="2066" y="186"/>
                    </a:lnTo>
                    <a:lnTo>
                      <a:pt x="2037" y="192"/>
                    </a:lnTo>
                    <a:lnTo>
                      <a:pt x="2006" y="201"/>
                    </a:lnTo>
                    <a:lnTo>
                      <a:pt x="1977" y="212"/>
                    </a:lnTo>
                    <a:lnTo>
                      <a:pt x="1948" y="227"/>
                    </a:lnTo>
                    <a:lnTo>
                      <a:pt x="1919" y="238"/>
                    </a:lnTo>
                    <a:lnTo>
                      <a:pt x="1913" y="273"/>
                    </a:lnTo>
                    <a:lnTo>
                      <a:pt x="1919" y="307"/>
                    </a:lnTo>
                    <a:lnTo>
                      <a:pt x="1929" y="342"/>
                    </a:lnTo>
                    <a:lnTo>
                      <a:pt x="1950" y="373"/>
                    </a:lnTo>
                    <a:lnTo>
                      <a:pt x="1974" y="405"/>
                    </a:lnTo>
                    <a:lnTo>
                      <a:pt x="1995" y="442"/>
                    </a:lnTo>
                    <a:lnTo>
                      <a:pt x="2016" y="477"/>
                    </a:lnTo>
                    <a:lnTo>
                      <a:pt x="2037" y="511"/>
                    </a:lnTo>
                    <a:lnTo>
                      <a:pt x="2093" y="534"/>
                    </a:lnTo>
                    <a:lnTo>
                      <a:pt x="2148" y="566"/>
                    </a:lnTo>
                    <a:lnTo>
                      <a:pt x="2203" y="600"/>
                    </a:lnTo>
                    <a:lnTo>
                      <a:pt x="2261" y="638"/>
                    </a:lnTo>
                    <a:lnTo>
                      <a:pt x="2319" y="675"/>
                    </a:lnTo>
                    <a:lnTo>
                      <a:pt x="2375" y="718"/>
                    </a:lnTo>
                    <a:lnTo>
                      <a:pt x="2430" y="759"/>
                    </a:lnTo>
                    <a:lnTo>
                      <a:pt x="2480" y="807"/>
                    </a:lnTo>
                    <a:lnTo>
                      <a:pt x="2527" y="853"/>
                    </a:lnTo>
                    <a:lnTo>
                      <a:pt x="2572" y="902"/>
                    </a:lnTo>
                    <a:lnTo>
                      <a:pt x="2612" y="948"/>
                    </a:lnTo>
                    <a:lnTo>
                      <a:pt x="2646" y="1000"/>
                    </a:lnTo>
                    <a:lnTo>
                      <a:pt x="2675" y="1049"/>
                    </a:lnTo>
                    <a:lnTo>
                      <a:pt x="2699" y="1101"/>
                    </a:lnTo>
                    <a:lnTo>
                      <a:pt x="2714" y="1150"/>
                    </a:lnTo>
                    <a:lnTo>
                      <a:pt x="2722" y="1201"/>
                    </a:lnTo>
                    <a:lnTo>
                      <a:pt x="2701" y="1233"/>
                    </a:lnTo>
                    <a:lnTo>
                      <a:pt x="2675" y="1245"/>
                    </a:lnTo>
                    <a:lnTo>
                      <a:pt x="2649" y="1247"/>
                    </a:lnTo>
                    <a:lnTo>
                      <a:pt x="2622" y="1239"/>
                    </a:lnTo>
                    <a:lnTo>
                      <a:pt x="2593" y="1227"/>
                    </a:lnTo>
                    <a:lnTo>
                      <a:pt x="2567" y="1210"/>
                    </a:lnTo>
                    <a:lnTo>
                      <a:pt x="2541" y="1196"/>
                    </a:lnTo>
                    <a:lnTo>
                      <a:pt x="2519" y="1181"/>
                    </a:lnTo>
                    <a:lnTo>
                      <a:pt x="2485" y="1161"/>
                    </a:lnTo>
                    <a:lnTo>
                      <a:pt x="2456" y="1132"/>
                    </a:lnTo>
                    <a:lnTo>
                      <a:pt x="2425" y="1098"/>
                    </a:lnTo>
                    <a:lnTo>
                      <a:pt x="2396" y="1061"/>
                    </a:lnTo>
                    <a:lnTo>
                      <a:pt x="2367" y="1029"/>
                    </a:lnTo>
                    <a:lnTo>
                      <a:pt x="2335" y="1003"/>
                    </a:lnTo>
                    <a:lnTo>
                      <a:pt x="2301" y="989"/>
                    </a:lnTo>
                    <a:lnTo>
                      <a:pt x="2261" y="994"/>
                    </a:lnTo>
                    <a:lnTo>
                      <a:pt x="2253" y="1046"/>
                    </a:lnTo>
                    <a:lnTo>
                      <a:pt x="2232" y="1078"/>
                    </a:lnTo>
                    <a:lnTo>
                      <a:pt x="2201" y="1101"/>
                    </a:lnTo>
                    <a:lnTo>
                      <a:pt x="2161" y="1109"/>
                    </a:lnTo>
                    <a:lnTo>
                      <a:pt x="2119" y="1115"/>
                    </a:lnTo>
                    <a:lnTo>
                      <a:pt x="2074" y="1124"/>
                    </a:lnTo>
                    <a:lnTo>
                      <a:pt x="2035" y="1132"/>
                    </a:lnTo>
                    <a:lnTo>
                      <a:pt x="2000" y="1150"/>
                    </a:lnTo>
                    <a:lnTo>
                      <a:pt x="1969" y="1147"/>
                    </a:lnTo>
                    <a:lnTo>
                      <a:pt x="1932" y="1155"/>
                    </a:lnTo>
                    <a:lnTo>
                      <a:pt x="1898" y="1161"/>
                    </a:lnTo>
                    <a:lnTo>
                      <a:pt x="1863" y="1170"/>
                    </a:lnTo>
                    <a:lnTo>
                      <a:pt x="1829" y="1173"/>
                    </a:lnTo>
                    <a:lnTo>
                      <a:pt x="1795" y="1170"/>
                    </a:lnTo>
                    <a:lnTo>
                      <a:pt x="1766" y="1155"/>
                    </a:lnTo>
                    <a:lnTo>
                      <a:pt x="1737" y="1127"/>
                    </a:lnTo>
                    <a:lnTo>
                      <a:pt x="1708" y="1081"/>
                    </a:lnTo>
                    <a:lnTo>
                      <a:pt x="1684" y="1040"/>
                    </a:lnTo>
                    <a:lnTo>
                      <a:pt x="1668" y="994"/>
                    </a:lnTo>
                    <a:lnTo>
                      <a:pt x="1668" y="946"/>
                    </a:lnTo>
                    <a:lnTo>
                      <a:pt x="1629" y="928"/>
                    </a:lnTo>
                    <a:lnTo>
                      <a:pt x="1592" y="908"/>
                    </a:lnTo>
                    <a:lnTo>
                      <a:pt x="1563" y="882"/>
                    </a:lnTo>
                    <a:lnTo>
                      <a:pt x="1534" y="853"/>
                    </a:lnTo>
                    <a:lnTo>
                      <a:pt x="1510" y="822"/>
                    </a:lnTo>
                    <a:lnTo>
                      <a:pt x="1487" y="790"/>
                    </a:lnTo>
                    <a:lnTo>
                      <a:pt x="1468" y="756"/>
                    </a:lnTo>
                    <a:lnTo>
                      <a:pt x="1450" y="718"/>
                    </a:lnTo>
                    <a:lnTo>
                      <a:pt x="1450" y="632"/>
                    </a:lnTo>
                    <a:lnTo>
                      <a:pt x="1479" y="563"/>
                    </a:lnTo>
                    <a:lnTo>
                      <a:pt x="1529" y="503"/>
                    </a:lnTo>
                    <a:lnTo>
                      <a:pt x="1592" y="460"/>
                    </a:lnTo>
                    <a:lnTo>
                      <a:pt x="1655" y="428"/>
                    </a:lnTo>
                    <a:lnTo>
                      <a:pt x="1711" y="402"/>
                    </a:lnTo>
                    <a:lnTo>
                      <a:pt x="1753" y="391"/>
                    </a:lnTo>
                    <a:lnTo>
                      <a:pt x="1769" y="388"/>
                    </a:lnTo>
                    <a:lnTo>
                      <a:pt x="1718" y="368"/>
                    </a:lnTo>
                    <a:lnTo>
                      <a:pt x="1668" y="362"/>
                    </a:lnTo>
                    <a:lnTo>
                      <a:pt x="1621" y="368"/>
                    </a:lnTo>
                    <a:lnTo>
                      <a:pt x="1571" y="385"/>
                    </a:lnTo>
                    <a:lnTo>
                      <a:pt x="1526" y="405"/>
                    </a:lnTo>
                    <a:lnTo>
                      <a:pt x="1479" y="431"/>
                    </a:lnTo>
                    <a:lnTo>
                      <a:pt x="1437" y="462"/>
                    </a:lnTo>
                    <a:lnTo>
                      <a:pt x="1397" y="494"/>
                    </a:lnTo>
                    <a:lnTo>
                      <a:pt x="1365" y="552"/>
                    </a:lnTo>
                    <a:lnTo>
                      <a:pt x="1336" y="632"/>
                    </a:lnTo>
                    <a:lnTo>
                      <a:pt x="1321" y="710"/>
                    </a:lnTo>
                    <a:lnTo>
                      <a:pt x="1313" y="741"/>
                    </a:lnTo>
                    <a:lnTo>
                      <a:pt x="1294" y="736"/>
                    </a:lnTo>
                    <a:lnTo>
                      <a:pt x="1271" y="718"/>
                    </a:lnTo>
                    <a:lnTo>
                      <a:pt x="1239" y="690"/>
                    </a:lnTo>
                    <a:lnTo>
                      <a:pt x="1205" y="655"/>
                    </a:lnTo>
                    <a:lnTo>
                      <a:pt x="1168" y="612"/>
                    </a:lnTo>
                    <a:lnTo>
                      <a:pt x="1128" y="560"/>
                    </a:lnTo>
                    <a:lnTo>
                      <a:pt x="1086" y="508"/>
                    </a:lnTo>
                    <a:lnTo>
                      <a:pt x="1044" y="451"/>
                    </a:lnTo>
                    <a:lnTo>
                      <a:pt x="1004" y="393"/>
                    </a:lnTo>
                    <a:lnTo>
                      <a:pt x="968" y="333"/>
                    </a:lnTo>
                    <a:lnTo>
                      <a:pt x="931" y="281"/>
                    </a:lnTo>
                    <a:lnTo>
                      <a:pt x="896" y="230"/>
                    </a:lnTo>
                    <a:lnTo>
                      <a:pt x="870" y="184"/>
                    </a:lnTo>
                    <a:lnTo>
                      <a:pt x="846" y="140"/>
                    </a:lnTo>
                    <a:lnTo>
                      <a:pt x="831" y="112"/>
                    </a:lnTo>
                    <a:lnTo>
                      <a:pt x="823" y="92"/>
                    </a:lnTo>
                    <a:lnTo>
                      <a:pt x="773" y="71"/>
                    </a:lnTo>
                    <a:lnTo>
                      <a:pt x="725" y="66"/>
                    </a:lnTo>
                    <a:lnTo>
                      <a:pt x="670" y="69"/>
                    </a:lnTo>
                    <a:lnTo>
                      <a:pt x="614" y="74"/>
                    </a:lnTo>
                    <a:lnTo>
                      <a:pt x="556" y="83"/>
                    </a:lnTo>
                    <a:lnTo>
                      <a:pt x="501" y="92"/>
                    </a:lnTo>
                    <a:lnTo>
                      <a:pt x="448" y="94"/>
                    </a:lnTo>
                    <a:lnTo>
                      <a:pt x="401" y="92"/>
                    </a:lnTo>
                    <a:lnTo>
                      <a:pt x="348" y="80"/>
                    </a:lnTo>
                    <a:lnTo>
                      <a:pt x="298" y="69"/>
                    </a:lnTo>
                    <a:lnTo>
                      <a:pt x="251" y="63"/>
                    </a:lnTo>
                    <a:lnTo>
                      <a:pt x="203" y="54"/>
                    </a:lnTo>
                    <a:lnTo>
                      <a:pt x="153" y="43"/>
                    </a:lnTo>
                    <a:lnTo>
                      <a:pt x="106" y="31"/>
                    </a:lnTo>
                    <a:lnTo>
                      <a:pt x="56" y="14"/>
                    </a:lnTo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719280" y="1331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i="1" lang="en-GB" sz="4800" spc="-1" strike="noStrike">
                <a:solidFill>
                  <a:srgbClr val="0000ff"/>
                </a:solidFill>
                <a:latin typeface="Bookman Old Style"/>
              </a:rPr>
              <a:t>общительность  </a:t>
            </a:r>
            <a:endParaRPr b="0" lang="en-US" sz="48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n-GB" sz="4800" spc="-1" strike="noStrike">
                <a:solidFill>
                  <a:srgbClr val="0000ff"/>
                </a:solidFill>
                <a:latin typeface="Bookman Old Style"/>
              </a:rPr>
              <a:t>талант </a:t>
            </a:r>
            <a:endParaRPr b="0" lang="en-US" sz="48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n-GB" sz="4800" spc="-1" strike="noStrike">
                <a:solidFill>
                  <a:srgbClr val="0000ff"/>
                </a:solidFill>
                <a:latin typeface="Bookman Old Style"/>
              </a:rPr>
              <a:t>решительность     </a:t>
            </a:r>
            <a:endParaRPr b="0" lang="en-US" sz="4800" spc="-1" strike="noStrike">
              <a:solidFill>
                <a:srgbClr val="00808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ff"/>
                </a:solidFill>
                <a:latin typeface="Bookman Old Style"/>
              </a:rPr>
              <a:t>скромность</a:t>
            </a:r>
            <a:endParaRPr b="0" lang="en-US" sz="4800" spc="-1" strike="noStrike">
              <a:solidFill>
                <a:srgbClr val="00808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079640" y="2987640"/>
            <a:ext cx="8656560" cy="4321080"/>
            <a:chOff x="1079640" y="2987640"/>
            <a:chExt cx="8656560" cy="432108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8361360" y="2987640"/>
              <a:ext cx="1374840" cy="13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"/>
            <p:cNvGrpSpPr/>
            <p:nvPr/>
          </p:nvGrpSpPr>
          <p:grpSpPr>
            <a:xfrm>
              <a:off x="4314960" y="5880240"/>
              <a:ext cx="2892240" cy="1428480"/>
              <a:chOff x="4314960" y="5880240"/>
              <a:chExt cx="2892240" cy="14284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4524480" y="6985080"/>
                <a:ext cx="136440" cy="47520"/>
                <a:chOff x="4524480" y="6985080"/>
                <a:chExt cx="136440" cy="475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524480" y="6985080"/>
                  <a:ext cx="136440" cy="47520"/>
                </a:xfrm>
                <a:custGeom>
                  <a:avLst/>
                  <a:gdLst/>
                  <a:ahLst/>
                  <a:rect l="l" t="t" r="r" b="b"/>
                  <a:pathLst>
                    <a:path w="380" h="132">
                      <a:moveTo>
                        <a:pt x="155" y="0"/>
                      </a:moveTo>
                      <a:lnTo>
                        <a:pt x="379" y="16"/>
                      </a:lnTo>
                      <a:lnTo>
                        <a:pt x="342" y="67"/>
                      </a:lnTo>
                      <a:lnTo>
                        <a:pt x="206" y="116"/>
                      </a:lnTo>
                      <a:lnTo>
                        <a:pt x="33" y="131"/>
                      </a:lnTo>
                      <a:lnTo>
                        <a:pt x="0" y="86"/>
                      </a:lnTo>
                      <a:lnTo>
                        <a:pt x="54" y="37"/>
                      </a:ln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91320" y="7102440"/>
                <a:ext cx="153720" cy="201600"/>
                <a:chOff x="5791320" y="7102440"/>
                <a:chExt cx="153720" cy="201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791320" y="7102440"/>
                  <a:ext cx="153720" cy="201600"/>
                </a:xfrm>
                <a:custGeom>
                  <a:avLst/>
                  <a:gdLst/>
                  <a:ahLst/>
                  <a:rect l="l" t="t" r="r" b="b"/>
                  <a:pathLst>
                    <a:path w="427" h="560">
                      <a:moveTo>
                        <a:pt x="201" y="559"/>
                      </a:moveTo>
                      <a:lnTo>
                        <a:pt x="419" y="426"/>
                      </a:lnTo>
                      <a:lnTo>
                        <a:pt x="426" y="316"/>
                      </a:lnTo>
                      <a:lnTo>
                        <a:pt x="415" y="237"/>
                      </a:lnTo>
                      <a:lnTo>
                        <a:pt x="368" y="144"/>
                      </a:lnTo>
                      <a:lnTo>
                        <a:pt x="306" y="100"/>
                      </a:lnTo>
                      <a:lnTo>
                        <a:pt x="245" y="65"/>
                      </a:lnTo>
                      <a:lnTo>
                        <a:pt x="128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673600" y="7101000"/>
                <a:ext cx="208080" cy="206280"/>
                <a:chOff x="5673600" y="7101000"/>
                <a:chExt cx="208080" cy="206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673600" y="7101000"/>
                  <a:ext cx="208080" cy="206280"/>
                </a:xfrm>
                <a:custGeom>
                  <a:avLst/>
                  <a:gdLst/>
                  <a:ahLst/>
                  <a:rect l="l" t="t" r="r" b="b"/>
                  <a:pathLst>
                    <a:path w="577" h="574">
                      <a:moveTo>
                        <a:pt x="8" y="91"/>
                      </a:moveTo>
                      <a:lnTo>
                        <a:pt x="50" y="49"/>
                      </a:lnTo>
                      <a:lnTo>
                        <a:pt x="146" y="4"/>
                      </a:lnTo>
                      <a:lnTo>
                        <a:pt x="273" y="0"/>
                      </a:lnTo>
                      <a:lnTo>
                        <a:pt x="363" y="42"/>
                      </a:lnTo>
                      <a:lnTo>
                        <a:pt x="457" y="137"/>
                      </a:lnTo>
                      <a:lnTo>
                        <a:pt x="515" y="212"/>
                      </a:lnTo>
                      <a:lnTo>
                        <a:pt x="569" y="322"/>
                      </a:lnTo>
                      <a:lnTo>
                        <a:pt x="567" y="449"/>
                      </a:lnTo>
                      <a:lnTo>
                        <a:pt x="576" y="474"/>
                      </a:lnTo>
                      <a:lnTo>
                        <a:pt x="553" y="544"/>
                      </a:lnTo>
                      <a:lnTo>
                        <a:pt x="464" y="573"/>
                      </a:lnTo>
                      <a:lnTo>
                        <a:pt x="386" y="570"/>
                      </a:lnTo>
                      <a:lnTo>
                        <a:pt x="341" y="549"/>
                      </a:lnTo>
                      <a:lnTo>
                        <a:pt x="306" y="530"/>
                      </a:lnTo>
                      <a:lnTo>
                        <a:pt x="243" y="460"/>
                      </a:lnTo>
                      <a:lnTo>
                        <a:pt x="210" y="397"/>
                      </a:lnTo>
                      <a:lnTo>
                        <a:pt x="170" y="329"/>
                      </a:lnTo>
                      <a:lnTo>
                        <a:pt x="97" y="229"/>
                      </a:lnTo>
                      <a:lnTo>
                        <a:pt x="45" y="201"/>
                      </a:lnTo>
                      <a:lnTo>
                        <a:pt x="0" y="175"/>
                      </a:lnTo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675400" y="7097760"/>
                <a:ext cx="158760" cy="187200"/>
                <a:chOff x="5675400" y="7097760"/>
                <a:chExt cx="158760" cy="187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675400" y="7097760"/>
                  <a:ext cx="158760" cy="187200"/>
                </a:xfrm>
                <a:custGeom>
                  <a:avLst/>
                  <a:gdLst/>
                  <a:ahLst/>
                  <a:rect l="l" t="t" r="r" b="b"/>
                  <a:pathLst>
                    <a:path w="442" h="522">
                      <a:moveTo>
                        <a:pt x="73" y="42"/>
                      </a:moveTo>
                      <a:lnTo>
                        <a:pt x="216" y="0"/>
                      </a:lnTo>
                      <a:lnTo>
                        <a:pt x="423" y="185"/>
                      </a:lnTo>
                      <a:lnTo>
                        <a:pt x="441" y="312"/>
                      </a:lnTo>
                      <a:lnTo>
                        <a:pt x="416" y="410"/>
                      </a:lnTo>
                      <a:lnTo>
                        <a:pt x="359" y="499"/>
                      </a:lnTo>
                      <a:lnTo>
                        <a:pt x="268" y="521"/>
                      </a:lnTo>
                      <a:lnTo>
                        <a:pt x="247" y="476"/>
                      </a:lnTo>
                      <a:lnTo>
                        <a:pt x="158" y="281"/>
                      </a:lnTo>
                      <a:lnTo>
                        <a:pt x="0" y="152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2d6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522680" y="6784920"/>
                <a:ext cx="552600" cy="206280"/>
                <a:chOff x="4522680" y="6784920"/>
                <a:chExt cx="552600" cy="2062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522680" y="6784920"/>
                  <a:ext cx="552600" cy="206280"/>
                </a:xfrm>
                <a:custGeom>
                  <a:avLst/>
                  <a:gdLst/>
                  <a:ahLst/>
                  <a:rect l="l" t="t" r="r" b="b"/>
                  <a:pathLst>
                    <a:path w="1535" h="574">
                      <a:moveTo>
                        <a:pt x="1450" y="390"/>
                      </a:moveTo>
                      <a:lnTo>
                        <a:pt x="1376" y="369"/>
                      </a:lnTo>
                      <a:lnTo>
                        <a:pt x="1154" y="357"/>
                      </a:lnTo>
                      <a:lnTo>
                        <a:pt x="976" y="397"/>
                      </a:lnTo>
                      <a:lnTo>
                        <a:pt x="780" y="471"/>
                      </a:lnTo>
                      <a:lnTo>
                        <a:pt x="696" y="509"/>
                      </a:lnTo>
                      <a:lnTo>
                        <a:pt x="626" y="544"/>
                      </a:lnTo>
                      <a:lnTo>
                        <a:pt x="563" y="573"/>
                      </a:lnTo>
                      <a:lnTo>
                        <a:pt x="0" y="497"/>
                      </a:lnTo>
                      <a:lnTo>
                        <a:pt x="242" y="97"/>
                      </a:lnTo>
                      <a:lnTo>
                        <a:pt x="616" y="18"/>
                      </a:lnTo>
                      <a:lnTo>
                        <a:pt x="719" y="0"/>
                      </a:lnTo>
                      <a:lnTo>
                        <a:pt x="871" y="26"/>
                      </a:lnTo>
                      <a:lnTo>
                        <a:pt x="976" y="61"/>
                      </a:lnTo>
                      <a:lnTo>
                        <a:pt x="1011" y="101"/>
                      </a:lnTo>
                      <a:lnTo>
                        <a:pt x="1006" y="146"/>
                      </a:lnTo>
                      <a:lnTo>
                        <a:pt x="1534" y="331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032440" y="6880320"/>
                <a:ext cx="531720" cy="77760"/>
                <a:chOff x="5032440" y="6880320"/>
                <a:chExt cx="531720" cy="77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032440" y="6880320"/>
                  <a:ext cx="531720" cy="77760"/>
                </a:xfrm>
                <a:custGeom>
                  <a:avLst/>
                  <a:gdLst/>
                  <a:ahLst/>
                  <a:rect l="l" t="t" r="r" b="b"/>
                  <a:pathLst>
                    <a:path w="1479" h="218">
                      <a:moveTo>
                        <a:pt x="1388" y="162"/>
                      </a:moveTo>
                      <a:lnTo>
                        <a:pt x="1194" y="202"/>
                      </a:lnTo>
                      <a:lnTo>
                        <a:pt x="977" y="217"/>
                      </a:lnTo>
                      <a:lnTo>
                        <a:pt x="709" y="202"/>
                      </a:lnTo>
                      <a:lnTo>
                        <a:pt x="210" y="167"/>
                      </a:lnTo>
                      <a:lnTo>
                        <a:pt x="0" y="169"/>
                      </a:lnTo>
                      <a:lnTo>
                        <a:pt x="201" y="0"/>
                      </a:lnTo>
                      <a:lnTo>
                        <a:pt x="276" y="91"/>
                      </a:lnTo>
                      <a:lnTo>
                        <a:pt x="173" y="82"/>
                      </a:lnTo>
                      <a:lnTo>
                        <a:pt x="103" y="132"/>
                      </a:lnTo>
                      <a:lnTo>
                        <a:pt x="455" y="132"/>
                      </a:lnTo>
                      <a:lnTo>
                        <a:pt x="760" y="155"/>
                      </a:lnTo>
                      <a:lnTo>
                        <a:pt x="1252" y="150"/>
                      </a:lnTo>
                      <a:lnTo>
                        <a:pt x="1448" y="84"/>
                      </a:lnTo>
                      <a:lnTo>
                        <a:pt x="1462" y="49"/>
                      </a:lnTo>
                      <a:lnTo>
                        <a:pt x="1478" y="188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5470560" y="6721560"/>
                <a:ext cx="1736640" cy="488880"/>
                <a:chOff x="5470560" y="6721560"/>
                <a:chExt cx="1736640" cy="4888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470560" y="6721560"/>
                  <a:ext cx="1736640" cy="488880"/>
                </a:xfrm>
                <a:custGeom>
                  <a:avLst/>
                  <a:gdLst/>
                  <a:ahLst/>
                  <a:rect l="l" t="t" r="r" b="b"/>
                  <a:pathLst>
                    <a:path w="4826" h="1358">
                      <a:moveTo>
                        <a:pt x="0" y="859"/>
                      </a:moveTo>
                      <a:lnTo>
                        <a:pt x="143" y="979"/>
                      </a:lnTo>
                      <a:lnTo>
                        <a:pt x="1344" y="1124"/>
                      </a:lnTo>
                      <a:lnTo>
                        <a:pt x="1742" y="1317"/>
                      </a:lnTo>
                      <a:lnTo>
                        <a:pt x="3004" y="1204"/>
                      </a:lnTo>
                      <a:lnTo>
                        <a:pt x="3016" y="1237"/>
                      </a:lnTo>
                      <a:lnTo>
                        <a:pt x="3079" y="1303"/>
                      </a:lnTo>
                      <a:lnTo>
                        <a:pt x="3149" y="1333"/>
                      </a:lnTo>
                      <a:lnTo>
                        <a:pt x="3252" y="1357"/>
                      </a:lnTo>
                      <a:lnTo>
                        <a:pt x="3582" y="1354"/>
                      </a:lnTo>
                      <a:lnTo>
                        <a:pt x="3889" y="1279"/>
                      </a:lnTo>
                      <a:lnTo>
                        <a:pt x="4013" y="1171"/>
                      </a:lnTo>
                      <a:lnTo>
                        <a:pt x="4030" y="1075"/>
                      </a:lnTo>
                      <a:lnTo>
                        <a:pt x="4018" y="1033"/>
                      </a:lnTo>
                      <a:lnTo>
                        <a:pt x="4140" y="1183"/>
                      </a:lnTo>
                      <a:lnTo>
                        <a:pt x="4287" y="1159"/>
                      </a:lnTo>
                      <a:lnTo>
                        <a:pt x="4268" y="1030"/>
                      </a:lnTo>
                      <a:lnTo>
                        <a:pt x="4214" y="927"/>
                      </a:lnTo>
                      <a:lnTo>
                        <a:pt x="4170" y="880"/>
                      </a:lnTo>
                      <a:lnTo>
                        <a:pt x="4109" y="842"/>
                      </a:lnTo>
                      <a:lnTo>
                        <a:pt x="4072" y="800"/>
                      </a:lnTo>
                      <a:lnTo>
                        <a:pt x="4170" y="779"/>
                      </a:lnTo>
                      <a:lnTo>
                        <a:pt x="4371" y="774"/>
                      </a:lnTo>
                      <a:lnTo>
                        <a:pt x="4439" y="605"/>
                      </a:lnTo>
                      <a:lnTo>
                        <a:pt x="4715" y="589"/>
                      </a:lnTo>
                      <a:lnTo>
                        <a:pt x="4825" y="352"/>
                      </a:lnTo>
                      <a:lnTo>
                        <a:pt x="4460" y="312"/>
                      </a:lnTo>
                      <a:lnTo>
                        <a:pt x="4088" y="568"/>
                      </a:lnTo>
                      <a:lnTo>
                        <a:pt x="4149" y="511"/>
                      </a:lnTo>
                      <a:lnTo>
                        <a:pt x="3887" y="664"/>
                      </a:lnTo>
                      <a:lnTo>
                        <a:pt x="3866" y="223"/>
                      </a:lnTo>
                      <a:lnTo>
                        <a:pt x="3774" y="164"/>
                      </a:lnTo>
                      <a:lnTo>
                        <a:pt x="3706" y="115"/>
                      </a:lnTo>
                      <a:lnTo>
                        <a:pt x="3627" y="46"/>
                      </a:lnTo>
                      <a:lnTo>
                        <a:pt x="3592" y="0"/>
                      </a:lnTo>
                      <a:lnTo>
                        <a:pt x="3601" y="262"/>
                      </a:lnTo>
                      <a:lnTo>
                        <a:pt x="3589" y="455"/>
                      </a:lnTo>
                      <a:lnTo>
                        <a:pt x="3571" y="530"/>
                      </a:lnTo>
                      <a:lnTo>
                        <a:pt x="3540" y="575"/>
                      </a:lnTo>
                      <a:lnTo>
                        <a:pt x="3388" y="575"/>
                      </a:lnTo>
                      <a:lnTo>
                        <a:pt x="3152" y="511"/>
                      </a:lnTo>
                      <a:lnTo>
                        <a:pt x="3032" y="471"/>
                      </a:lnTo>
                      <a:lnTo>
                        <a:pt x="2934" y="434"/>
                      </a:lnTo>
                      <a:lnTo>
                        <a:pt x="2838" y="396"/>
                      </a:lnTo>
                      <a:lnTo>
                        <a:pt x="57" y="488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540480" y="6939000"/>
                <a:ext cx="273240" cy="247680"/>
                <a:chOff x="6540480" y="6939000"/>
                <a:chExt cx="273240" cy="2476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540480" y="6939000"/>
                  <a:ext cx="273240" cy="247680"/>
                </a:xfrm>
                <a:custGeom>
                  <a:avLst/>
                  <a:gdLst/>
                  <a:ahLst/>
                  <a:rect l="l" t="t" r="r" b="b"/>
                  <a:pathLst>
                    <a:path w="760" h="687">
                      <a:moveTo>
                        <a:pt x="666" y="84"/>
                      </a:moveTo>
                      <a:lnTo>
                        <a:pt x="759" y="337"/>
                      </a:lnTo>
                      <a:lnTo>
                        <a:pt x="661" y="585"/>
                      </a:lnTo>
                      <a:lnTo>
                        <a:pt x="492" y="674"/>
                      </a:lnTo>
                      <a:lnTo>
                        <a:pt x="252" y="686"/>
                      </a:lnTo>
                      <a:lnTo>
                        <a:pt x="85" y="585"/>
                      </a:lnTo>
                      <a:lnTo>
                        <a:pt x="10" y="444"/>
                      </a:lnTo>
                      <a:lnTo>
                        <a:pt x="0" y="309"/>
                      </a:lnTo>
                      <a:lnTo>
                        <a:pt x="8" y="255"/>
                      </a:lnTo>
                      <a:lnTo>
                        <a:pt x="24" y="222"/>
                      </a:lnTo>
                      <a:lnTo>
                        <a:pt x="38" y="194"/>
                      </a:lnTo>
                      <a:lnTo>
                        <a:pt x="69" y="149"/>
                      </a:lnTo>
                      <a:lnTo>
                        <a:pt x="87" y="128"/>
                      </a:lnTo>
                      <a:lnTo>
                        <a:pt x="125" y="93"/>
                      </a:lnTo>
                      <a:lnTo>
                        <a:pt x="160" y="70"/>
                      </a:lnTo>
                      <a:lnTo>
                        <a:pt x="285" y="14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a86d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537240" y="6954840"/>
                <a:ext cx="273240" cy="244440"/>
                <a:chOff x="6537240" y="6954840"/>
                <a:chExt cx="273240" cy="244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537240" y="6954840"/>
                  <a:ext cx="273240" cy="244440"/>
                </a:xfrm>
                <a:custGeom>
                  <a:avLst/>
                  <a:gdLst/>
                  <a:ahLst/>
                  <a:rect l="l" t="t" r="r" b="b"/>
                  <a:pathLst>
                    <a:path w="759" h="677">
                      <a:moveTo>
                        <a:pt x="563" y="0"/>
                      </a:moveTo>
                      <a:lnTo>
                        <a:pt x="628" y="115"/>
                      </a:lnTo>
                      <a:lnTo>
                        <a:pt x="630" y="234"/>
                      </a:lnTo>
                      <a:lnTo>
                        <a:pt x="586" y="345"/>
                      </a:lnTo>
                      <a:lnTo>
                        <a:pt x="546" y="394"/>
                      </a:lnTo>
                      <a:lnTo>
                        <a:pt x="500" y="436"/>
                      </a:lnTo>
                      <a:lnTo>
                        <a:pt x="448" y="464"/>
                      </a:lnTo>
                      <a:lnTo>
                        <a:pt x="385" y="485"/>
                      </a:lnTo>
                      <a:lnTo>
                        <a:pt x="259" y="490"/>
                      </a:lnTo>
                      <a:lnTo>
                        <a:pt x="126" y="422"/>
                      </a:lnTo>
                      <a:lnTo>
                        <a:pt x="0" y="279"/>
                      </a:lnTo>
                      <a:lnTo>
                        <a:pt x="0" y="305"/>
                      </a:lnTo>
                      <a:lnTo>
                        <a:pt x="28" y="413"/>
                      </a:lnTo>
                      <a:lnTo>
                        <a:pt x="63" y="528"/>
                      </a:lnTo>
                      <a:lnTo>
                        <a:pt x="80" y="579"/>
                      </a:lnTo>
                      <a:lnTo>
                        <a:pt x="383" y="676"/>
                      </a:lnTo>
                      <a:lnTo>
                        <a:pt x="651" y="560"/>
                      </a:lnTo>
                      <a:lnTo>
                        <a:pt x="758" y="406"/>
                      </a:lnTo>
                      <a:lnTo>
                        <a:pt x="749" y="157"/>
                      </a:lnTo>
                      <a:lnTo>
                        <a:pt x="670" y="77"/>
                      </a:lnTo>
                    </a:path>
                  </a:pathLst>
                </a:custGeom>
                <a:solidFill>
                  <a:srgbClr val="8240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388120" y="6757920"/>
                <a:ext cx="1172880" cy="381240"/>
                <a:chOff x="5388120" y="6757920"/>
                <a:chExt cx="1172880" cy="3812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388120" y="6757920"/>
                  <a:ext cx="1172880" cy="381240"/>
                </a:xfrm>
                <a:custGeom>
                  <a:avLst/>
                  <a:gdLst/>
                  <a:ahLst/>
                  <a:rect l="l" t="t" r="r" b="b"/>
                  <a:pathLst>
                    <a:path w="3258" h="1057">
                      <a:moveTo>
                        <a:pt x="3257" y="178"/>
                      </a:moveTo>
                      <a:lnTo>
                        <a:pt x="3225" y="359"/>
                      </a:lnTo>
                      <a:lnTo>
                        <a:pt x="3033" y="689"/>
                      </a:lnTo>
                      <a:lnTo>
                        <a:pt x="2826" y="1037"/>
                      </a:lnTo>
                      <a:lnTo>
                        <a:pt x="2451" y="1056"/>
                      </a:lnTo>
                      <a:lnTo>
                        <a:pt x="2367" y="1032"/>
                      </a:lnTo>
                      <a:lnTo>
                        <a:pt x="2309" y="800"/>
                      </a:lnTo>
                      <a:lnTo>
                        <a:pt x="2149" y="687"/>
                      </a:lnTo>
                      <a:lnTo>
                        <a:pt x="1936" y="671"/>
                      </a:lnTo>
                      <a:lnTo>
                        <a:pt x="1781" y="746"/>
                      </a:lnTo>
                      <a:lnTo>
                        <a:pt x="1671" y="877"/>
                      </a:lnTo>
                      <a:lnTo>
                        <a:pt x="1142" y="765"/>
                      </a:lnTo>
                      <a:lnTo>
                        <a:pt x="748" y="631"/>
                      </a:lnTo>
                      <a:lnTo>
                        <a:pt x="579" y="366"/>
                      </a:lnTo>
                      <a:lnTo>
                        <a:pt x="411" y="312"/>
                      </a:lnTo>
                      <a:lnTo>
                        <a:pt x="179" y="373"/>
                      </a:lnTo>
                      <a:lnTo>
                        <a:pt x="134" y="429"/>
                      </a:lnTo>
                      <a:lnTo>
                        <a:pt x="45" y="215"/>
                      </a:lnTo>
                      <a:lnTo>
                        <a:pt x="0" y="0"/>
                      </a:lnTo>
                      <a:lnTo>
                        <a:pt x="413" y="173"/>
                      </a:lnTo>
                      <a:lnTo>
                        <a:pt x="957" y="340"/>
                      </a:lnTo>
                      <a:lnTo>
                        <a:pt x="1917" y="497"/>
                      </a:lnTo>
                      <a:lnTo>
                        <a:pt x="2594" y="558"/>
                      </a:lnTo>
                      <a:lnTo>
                        <a:pt x="2955" y="495"/>
                      </a:lnTo>
                      <a:lnTo>
                        <a:pt x="3119" y="342"/>
                      </a:lnTo>
                      <a:lnTo>
                        <a:pt x="3154" y="12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715000" y="6734160"/>
                <a:ext cx="787320" cy="241200"/>
                <a:chOff x="5715000" y="6734160"/>
                <a:chExt cx="787320" cy="241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715000" y="6734160"/>
                  <a:ext cx="787320" cy="241200"/>
                </a:xfrm>
                <a:custGeom>
                  <a:avLst/>
                  <a:gdLst/>
                  <a:ahLst/>
                  <a:rect l="l" t="t" r="r" b="b"/>
                  <a:pathLst>
                    <a:path w="2186" h="672">
                      <a:moveTo>
                        <a:pt x="763" y="0"/>
                      </a:moveTo>
                      <a:lnTo>
                        <a:pt x="1035" y="11"/>
                      </a:lnTo>
                      <a:lnTo>
                        <a:pt x="2115" y="124"/>
                      </a:lnTo>
                      <a:lnTo>
                        <a:pt x="2185" y="412"/>
                      </a:lnTo>
                      <a:lnTo>
                        <a:pt x="2115" y="527"/>
                      </a:lnTo>
                      <a:lnTo>
                        <a:pt x="1666" y="671"/>
                      </a:lnTo>
                      <a:lnTo>
                        <a:pt x="962" y="579"/>
                      </a:lnTo>
                      <a:lnTo>
                        <a:pt x="0" y="384"/>
                      </a:lnTo>
                      <a:lnTo>
                        <a:pt x="50" y="335"/>
                      </a:lnTo>
                      <a:lnTo>
                        <a:pt x="677" y="265"/>
                      </a:lnTo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21320" y="6245280"/>
                <a:ext cx="560520" cy="635040"/>
                <a:chOff x="5521320" y="6245280"/>
                <a:chExt cx="560520" cy="635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21320" y="6245280"/>
                  <a:ext cx="560520" cy="635040"/>
                </a:xfrm>
                <a:custGeom>
                  <a:avLst/>
                  <a:gdLst/>
                  <a:ahLst/>
                  <a:rect l="l" t="t" r="r" b="b"/>
                  <a:pathLst>
                    <a:path w="1555" h="1762">
                      <a:moveTo>
                        <a:pt x="1182" y="21"/>
                      </a:moveTo>
                      <a:lnTo>
                        <a:pt x="1461" y="21"/>
                      </a:lnTo>
                      <a:lnTo>
                        <a:pt x="1554" y="456"/>
                      </a:lnTo>
                      <a:lnTo>
                        <a:pt x="1512" y="456"/>
                      </a:lnTo>
                      <a:lnTo>
                        <a:pt x="1421" y="814"/>
                      </a:lnTo>
                      <a:lnTo>
                        <a:pt x="1231" y="1570"/>
                      </a:lnTo>
                      <a:lnTo>
                        <a:pt x="518" y="1761"/>
                      </a:lnTo>
                      <a:lnTo>
                        <a:pt x="87" y="1622"/>
                      </a:lnTo>
                      <a:lnTo>
                        <a:pt x="71" y="1184"/>
                      </a:lnTo>
                      <a:lnTo>
                        <a:pt x="0" y="263"/>
                      </a:lnTo>
                      <a:lnTo>
                        <a:pt x="279" y="122"/>
                      </a:lnTo>
                      <a:lnTo>
                        <a:pt x="879" y="0"/>
                      </a:lnTo>
                    </a:path>
                  </a:pathLst>
                </a:custGeom>
                <a:solidFill>
                  <a:srgbClr val="b0c2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667480" y="6256440"/>
                <a:ext cx="403200" cy="595080"/>
                <a:chOff x="5667480" y="6256440"/>
                <a:chExt cx="403200" cy="5950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667480" y="6256440"/>
                  <a:ext cx="403200" cy="595080"/>
                </a:xfrm>
                <a:custGeom>
                  <a:avLst/>
                  <a:gdLst/>
                  <a:ahLst/>
                  <a:rect l="l" t="t" r="r" b="b"/>
                  <a:pathLst>
                    <a:path w="1120" h="1653">
                      <a:moveTo>
                        <a:pt x="1119" y="431"/>
                      </a:moveTo>
                      <a:lnTo>
                        <a:pt x="829" y="1534"/>
                      </a:lnTo>
                      <a:lnTo>
                        <a:pt x="710" y="1361"/>
                      </a:lnTo>
                      <a:lnTo>
                        <a:pt x="246" y="1459"/>
                      </a:lnTo>
                      <a:lnTo>
                        <a:pt x="291" y="703"/>
                      </a:lnTo>
                      <a:lnTo>
                        <a:pt x="85" y="1652"/>
                      </a:lnTo>
                      <a:lnTo>
                        <a:pt x="0" y="556"/>
                      </a:lnTo>
                      <a:lnTo>
                        <a:pt x="47" y="136"/>
                      </a:lnTo>
                      <a:lnTo>
                        <a:pt x="1038" y="0"/>
                      </a:lnTo>
                      <a:lnTo>
                        <a:pt x="1066" y="328"/>
                      </a:lnTo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673600" y="6330960"/>
                <a:ext cx="343080" cy="316080"/>
                <a:chOff x="5673600" y="6330960"/>
                <a:chExt cx="343080" cy="3160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673600" y="6330960"/>
                  <a:ext cx="343080" cy="316080"/>
                </a:xfrm>
                <a:custGeom>
                  <a:avLst/>
                  <a:gdLst/>
                  <a:ahLst/>
                  <a:rect l="l" t="t" r="r" b="b"/>
                  <a:pathLst>
                    <a:path w="951" h="879">
                      <a:moveTo>
                        <a:pt x="61" y="58"/>
                      </a:moveTo>
                      <a:lnTo>
                        <a:pt x="152" y="42"/>
                      </a:lnTo>
                      <a:lnTo>
                        <a:pt x="366" y="16"/>
                      </a:lnTo>
                      <a:lnTo>
                        <a:pt x="625" y="0"/>
                      </a:lnTo>
                      <a:lnTo>
                        <a:pt x="834" y="21"/>
                      </a:lnTo>
                      <a:lnTo>
                        <a:pt x="937" y="129"/>
                      </a:lnTo>
                      <a:lnTo>
                        <a:pt x="950" y="303"/>
                      </a:lnTo>
                      <a:lnTo>
                        <a:pt x="920" y="477"/>
                      </a:lnTo>
                      <a:lnTo>
                        <a:pt x="890" y="582"/>
                      </a:lnTo>
                      <a:lnTo>
                        <a:pt x="834" y="695"/>
                      </a:lnTo>
                      <a:lnTo>
                        <a:pt x="769" y="775"/>
                      </a:lnTo>
                      <a:lnTo>
                        <a:pt x="701" y="829"/>
                      </a:lnTo>
                      <a:lnTo>
                        <a:pt x="634" y="862"/>
                      </a:lnTo>
                      <a:lnTo>
                        <a:pt x="459" y="878"/>
                      </a:lnTo>
                      <a:lnTo>
                        <a:pt x="75" y="867"/>
                      </a:lnTo>
                      <a:lnTo>
                        <a:pt x="0" y="425"/>
                      </a:lnTo>
                      <a:lnTo>
                        <a:pt x="17" y="244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5448240" y="6616800"/>
                <a:ext cx="111240" cy="209520"/>
                <a:chOff x="5448240" y="6616800"/>
                <a:chExt cx="111240" cy="2095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448240" y="6616800"/>
                  <a:ext cx="111240" cy="209520"/>
                </a:xfrm>
                <a:custGeom>
                  <a:avLst/>
                  <a:gdLst/>
                  <a:ahLst/>
                  <a:rect l="l" t="t" r="r" b="b"/>
                  <a:pathLst>
                    <a:path w="310" h="583">
                      <a:moveTo>
                        <a:pt x="277" y="0"/>
                      </a:moveTo>
                      <a:lnTo>
                        <a:pt x="309" y="582"/>
                      </a:lnTo>
                      <a:lnTo>
                        <a:pt x="0" y="459"/>
                      </a:lnTo>
                      <a:lnTo>
                        <a:pt x="52" y="197"/>
                      </a:lnTo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5978520" y="6585120"/>
                <a:ext cx="547560" cy="336240"/>
                <a:chOff x="5978520" y="6585120"/>
                <a:chExt cx="547560" cy="3362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978520" y="6585120"/>
                  <a:ext cx="547560" cy="336240"/>
                </a:xfrm>
                <a:custGeom>
                  <a:avLst/>
                  <a:gdLst/>
                  <a:ahLst/>
                  <a:rect l="l" t="t" r="r" b="b"/>
                  <a:pathLst>
                    <a:path w="1522" h="935">
                      <a:moveTo>
                        <a:pt x="120" y="4"/>
                      </a:moveTo>
                      <a:lnTo>
                        <a:pt x="363" y="0"/>
                      </a:lnTo>
                      <a:lnTo>
                        <a:pt x="954" y="37"/>
                      </a:lnTo>
                      <a:lnTo>
                        <a:pt x="1521" y="587"/>
                      </a:lnTo>
                      <a:lnTo>
                        <a:pt x="1512" y="775"/>
                      </a:lnTo>
                      <a:lnTo>
                        <a:pt x="1391" y="934"/>
                      </a:lnTo>
                      <a:lnTo>
                        <a:pt x="1372" y="860"/>
                      </a:lnTo>
                      <a:lnTo>
                        <a:pt x="1311" y="702"/>
                      </a:lnTo>
                      <a:lnTo>
                        <a:pt x="1257" y="620"/>
                      </a:lnTo>
                      <a:lnTo>
                        <a:pt x="1190" y="547"/>
                      </a:lnTo>
                      <a:lnTo>
                        <a:pt x="1155" y="518"/>
                      </a:lnTo>
                      <a:lnTo>
                        <a:pt x="1108" y="492"/>
                      </a:lnTo>
                      <a:lnTo>
                        <a:pt x="1007" y="478"/>
                      </a:lnTo>
                      <a:lnTo>
                        <a:pt x="0" y="459"/>
                      </a:lnTo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559480" y="5884920"/>
                <a:ext cx="712800" cy="541440"/>
                <a:chOff x="5559480" y="5884920"/>
                <a:chExt cx="712800" cy="5414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559480" y="5884920"/>
                  <a:ext cx="712800" cy="541440"/>
                </a:xfrm>
                <a:custGeom>
                  <a:avLst/>
                  <a:gdLst/>
                  <a:ahLst/>
                  <a:rect l="l" t="t" r="r" b="b"/>
                  <a:pathLst>
                    <a:path w="1979" h="1503">
                      <a:moveTo>
                        <a:pt x="922" y="7"/>
                      </a:moveTo>
                      <a:lnTo>
                        <a:pt x="1035" y="86"/>
                      </a:lnTo>
                      <a:lnTo>
                        <a:pt x="1046" y="176"/>
                      </a:lnTo>
                      <a:lnTo>
                        <a:pt x="1177" y="183"/>
                      </a:lnTo>
                      <a:lnTo>
                        <a:pt x="1359" y="272"/>
                      </a:lnTo>
                      <a:lnTo>
                        <a:pt x="1429" y="427"/>
                      </a:lnTo>
                      <a:lnTo>
                        <a:pt x="1467" y="535"/>
                      </a:lnTo>
                      <a:lnTo>
                        <a:pt x="1457" y="664"/>
                      </a:lnTo>
                      <a:lnTo>
                        <a:pt x="1623" y="725"/>
                      </a:lnTo>
                      <a:lnTo>
                        <a:pt x="1843" y="828"/>
                      </a:lnTo>
                      <a:lnTo>
                        <a:pt x="1978" y="1023"/>
                      </a:lnTo>
                      <a:lnTo>
                        <a:pt x="1955" y="1086"/>
                      </a:lnTo>
                      <a:lnTo>
                        <a:pt x="1883" y="1051"/>
                      </a:lnTo>
                      <a:lnTo>
                        <a:pt x="1869" y="1086"/>
                      </a:lnTo>
                      <a:lnTo>
                        <a:pt x="1789" y="1074"/>
                      </a:lnTo>
                      <a:lnTo>
                        <a:pt x="1738" y="1117"/>
                      </a:lnTo>
                      <a:lnTo>
                        <a:pt x="1693" y="1070"/>
                      </a:lnTo>
                      <a:lnTo>
                        <a:pt x="1670" y="1135"/>
                      </a:lnTo>
                      <a:lnTo>
                        <a:pt x="1623" y="1147"/>
                      </a:lnTo>
                      <a:lnTo>
                        <a:pt x="1563" y="1178"/>
                      </a:lnTo>
                      <a:lnTo>
                        <a:pt x="1621" y="1293"/>
                      </a:lnTo>
                      <a:lnTo>
                        <a:pt x="1621" y="1415"/>
                      </a:lnTo>
                      <a:lnTo>
                        <a:pt x="1563" y="1502"/>
                      </a:lnTo>
                      <a:lnTo>
                        <a:pt x="1425" y="1492"/>
                      </a:lnTo>
                      <a:lnTo>
                        <a:pt x="1329" y="1243"/>
                      </a:lnTo>
                      <a:lnTo>
                        <a:pt x="1334" y="1070"/>
                      </a:lnTo>
                      <a:lnTo>
                        <a:pt x="1331" y="1039"/>
                      </a:lnTo>
                      <a:lnTo>
                        <a:pt x="1072" y="1009"/>
                      </a:lnTo>
                      <a:lnTo>
                        <a:pt x="553" y="1016"/>
                      </a:lnTo>
                      <a:lnTo>
                        <a:pt x="425" y="1032"/>
                      </a:lnTo>
                      <a:lnTo>
                        <a:pt x="238" y="917"/>
                      </a:lnTo>
                      <a:lnTo>
                        <a:pt x="175" y="823"/>
                      </a:lnTo>
                      <a:lnTo>
                        <a:pt x="147" y="713"/>
                      </a:lnTo>
                      <a:lnTo>
                        <a:pt x="60" y="701"/>
                      </a:lnTo>
                      <a:lnTo>
                        <a:pt x="0" y="647"/>
                      </a:lnTo>
                      <a:lnTo>
                        <a:pt x="25" y="612"/>
                      </a:lnTo>
                      <a:lnTo>
                        <a:pt x="65" y="603"/>
                      </a:lnTo>
                      <a:lnTo>
                        <a:pt x="74" y="556"/>
                      </a:lnTo>
                      <a:lnTo>
                        <a:pt x="105" y="537"/>
                      </a:lnTo>
                      <a:lnTo>
                        <a:pt x="121" y="492"/>
                      </a:lnTo>
                      <a:lnTo>
                        <a:pt x="198" y="490"/>
                      </a:lnTo>
                      <a:lnTo>
                        <a:pt x="235" y="452"/>
                      </a:lnTo>
                      <a:lnTo>
                        <a:pt x="308" y="476"/>
                      </a:lnTo>
                      <a:lnTo>
                        <a:pt x="329" y="523"/>
                      </a:lnTo>
                      <a:lnTo>
                        <a:pt x="315" y="563"/>
                      </a:lnTo>
                      <a:lnTo>
                        <a:pt x="294" y="584"/>
                      </a:lnTo>
                      <a:lnTo>
                        <a:pt x="348" y="621"/>
                      </a:lnTo>
                      <a:lnTo>
                        <a:pt x="404" y="689"/>
                      </a:lnTo>
                      <a:lnTo>
                        <a:pt x="441" y="753"/>
                      </a:lnTo>
                      <a:lnTo>
                        <a:pt x="481" y="732"/>
                      </a:lnTo>
                      <a:lnTo>
                        <a:pt x="525" y="647"/>
                      </a:lnTo>
                      <a:lnTo>
                        <a:pt x="483" y="542"/>
                      </a:lnTo>
                      <a:lnTo>
                        <a:pt x="373" y="436"/>
                      </a:lnTo>
                      <a:lnTo>
                        <a:pt x="329" y="438"/>
                      </a:lnTo>
                      <a:lnTo>
                        <a:pt x="308" y="420"/>
                      </a:lnTo>
                      <a:lnTo>
                        <a:pt x="306" y="391"/>
                      </a:lnTo>
                      <a:lnTo>
                        <a:pt x="336" y="380"/>
                      </a:lnTo>
                      <a:lnTo>
                        <a:pt x="310" y="354"/>
                      </a:lnTo>
                      <a:lnTo>
                        <a:pt x="313" y="333"/>
                      </a:lnTo>
                      <a:lnTo>
                        <a:pt x="355" y="314"/>
                      </a:lnTo>
                      <a:lnTo>
                        <a:pt x="373" y="258"/>
                      </a:lnTo>
                      <a:lnTo>
                        <a:pt x="460" y="244"/>
                      </a:lnTo>
                      <a:lnTo>
                        <a:pt x="602" y="291"/>
                      </a:lnTo>
                      <a:lnTo>
                        <a:pt x="773" y="413"/>
                      </a:lnTo>
                      <a:lnTo>
                        <a:pt x="815" y="326"/>
                      </a:lnTo>
                      <a:lnTo>
                        <a:pt x="754" y="255"/>
                      </a:lnTo>
                      <a:lnTo>
                        <a:pt x="721" y="152"/>
                      </a:lnTo>
                      <a:lnTo>
                        <a:pt x="771" y="37"/>
                      </a:lnTo>
                      <a:lnTo>
                        <a:pt x="843" y="0"/>
                      </a:lnTo>
                    </a:path>
                  </a:pathLst>
                </a:custGeom>
                <a:solidFill>
                  <a:srgbClr val="cc7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540400" y="6354720"/>
                <a:ext cx="150840" cy="477720"/>
                <a:chOff x="5540400" y="6354720"/>
                <a:chExt cx="150840" cy="477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40400" y="6354720"/>
                  <a:ext cx="150840" cy="477720"/>
                </a:xfrm>
                <a:custGeom>
                  <a:avLst/>
                  <a:gdLst/>
                  <a:ahLst/>
                  <a:rect l="l" t="t" r="r" b="b"/>
                  <a:pathLst>
                    <a:path w="417" h="1326">
                      <a:moveTo>
                        <a:pt x="416" y="1325"/>
                      </a:moveTo>
                      <a:lnTo>
                        <a:pt x="344" y="878"/>
                      </a:lnTo>
                      <a:lnTo>
                        <a:pt x="326" y="0"/>
                      </a:lnTo>
                      <a:lnTo>
                        <a:pt x="0" y="0"/>
                      </a:lnTo>
                      <a:lnTo>
                        <a:pt x="81" y="1292"/>
                      </a:lnTo>
                    </a:path>
                  </a:pathLst>
                </a:cu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626080" y="6121440"/>
                <a:ext cx="79560" cy="114120"/>
                <a:chOff x="5626080" y="6121440"/>
                <a:chExt cx="79560" cy="114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5626080" y="6121440"/>
                  <a:ext cx="79560" cy="114120"/>
                </a:xfrm>
                <a:custGeom>
                  <a:avLst/>
                  <a:gdLst/>
                  <a:ahLst/>
                  <a:rect l="l" t="t" r="r" b="b"/>
                  <a:pathLst>
                    <a:path w="222" h="317">
                      <a:moveTo>
                        <a:pt x="3" y="33"/>
                      </a:moveTo>
                      <a:lnTo>
                        <a:pt x="60" y="0"/>
                      </a:lnTo>
                      <a:lnTo>
                        <a:pt x="150" y="21"/>
                      </a:lnTo>
                      <a:lnTo>
                        <a:pt x="169" y="99"/>
                      </a:lnTo>
                      <a:lnTo>
                        <a:pt x="162" y="205"/>
                      </a:lnTo>
                      <a:lnTo>
                        <a:pt x="221" y="316"/>
                      </a:lnTo>
                      <a:lnTo>
                        <a:pt x="169" y="290"/>
                      </a:lnTo>
                      <a:lnTo>
                        <a:pt x="74" y="224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5999040" y="6016680"/>
                <a:ext cx="38160" cy="31680"/>
                <a:chOff x="5999040" y="6016680"/>
                <a:chExt cx="38160" cy="31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999040" y="601668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104" h="86">
                      <a:moveTo>
                        <a:pt x="65" y="0"/>
                      </a:moveTo>
                      <a:lnTo>
                        <a:pt x="103" y="55"/>
                      </a:lnTo>
                      <a:lnTo>
                        <a:pt x="85" y="75"/>
                      </a:lnTo>
                      <a:lnTo>
                        <a:pt x="51" y="85"/>
                      </a:lnTo>
                      <a:lnTo>
                        <a:pt x="0" y="62"/>
                      </a:lnTo>
                      <a:lnTo>
                        <a:pt x="0" y="41"/>
                      </a:lnTo>
                      <a:lnTo>
                        <a:pt x="17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054840" y="6273720"/>
                <a:ext cx="77760" cy="123840"/>
                <a:chOff x="6054840" y="6273720"/>
                <a:chExt cx="77760" cy="123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054840" y="6273720"/>
                  <a:ext cx="77760" cy="123840"/>
                </a:xfrm>
                <a:custGeom>
                  <a:avLst/>
                  <a:gdLst/>
                  <a:ahLst/>
                  <a:rect l="l" t="t" r="r" b="b"/>
                  <a:pathLst>
                    <a:path w="217" h="344">
                      <a:moveTo>
                        <a:pt x="29" y="0"/>
                      </a:moveTo>
                      <a:lnTo>
                        <a:pt x="59" y="72"/>
                      </a:lnTo>
                      <a:lnTo>
                        <a:pt x="90" y="136"/>
                      </a:lnTo>
                      <a:lnTo>
                        <a:pt x="137" y="173"/>
                      </a:lnTo>
                      <a:lnTo>
                        <a:pt x="216" y="251"/>
                      </a:lnTo>
                      <a:lnTo>
                        <a:pt x="209" y="305"/>
                      </a:lnTo>
                      <a:lnTo>
                        <a:pt x="174" y="343"/>
                      </a:lnTo>
                      <a:lnTo>
                        <a:pt x="64" y="298"/>
                      </a:lnTo>
                      <a:lnTo>
                        <a:pt x="10" y="190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94200" y="5883120"/>
                <a:ext cx="101880" cy="101880"/>
                <a:chOff x="5794200" y="5883120"/>
                <a:chExt cx="101880" cy="1018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4200" y="5883120"/>
                  <a:ext cx="101880" cy="101880"/>
                </a:xfrm>
                <a:custGeom>
                  <a:avLst/>
                  <a:gdLst/>
                  <a:ahLst/>
                  <a:rect l="l" t="t" r="r" b="b"/>
                  <a:pathLst>
                    <a:path w="283" h="283">
                      <a:moveTo>
                        <a:pt x="113" y="0"/>
                      </a:moveTo>
                      <a:lnTo>
                        <a:pt x="282" y="152"/>
                      </a:lnTo>
                      <a:lnTo>
                        <a:pt x="245" y="227"/>
                      </a:lnTo>
                      <a:lnTo>
                        <a:pt x="196" y="265"/>
                      </a:lnTo>
                      <a:lnTo>
                        <a:pt x="139" y="282"/>
                      </a:lnTo>
                      <a:lnTo>
                        <a:pt x="47" y="242"/>
                      </a:lnTo>
                      <a:lnTo>
                        <a:pt x="0" y="148"/>
                      </a:lnTo>
                      <a:lnTo>
                        <a:pt x="29" y="58"/>
                      </a:lnTo>
                      <a:lnTo>
                        <a:pt x="62" y="21"/>
                      </a:lnTo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850000" y="6040440"/>
                <a:ext cx="147600" cy="146160"/>
                <a:chOff x="5850000" y="6040440"/>
                <a:chExt cx="147600" cy="1461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850000" y="6040440"/>
                  <a:ext cx="147600" cy="146160"/>
                </a:xfrm>
                <a:custGeom>
                  <a:avLst/>
                  <a:gdLst/>
                  <a:ahLst/>
                  <a:rect l="l" t="t" r="r" b="b"/>
                  <a:pathLst>
                    <a:path w="412" h="405">
                      <a:moveTo>
                        <a:pt x="411" y="213"/>
                      </a:moveTo>
                      <a:lnTo>
                        <a:pt x="388" y="291"/>
                      </a:lnTo>
                      <a:lnTo>
                        <a:pt x="341" y="349"/>
                      </a:lnTo>
                      <a:lnTo>
                        <a:pt x="287" y="387"/>
                      </a:lnTo>
                      <a:lnTo>
                        <a:pt x="221" y="404"/>
                      </a:lnTo>
                      <a:lnTo>
                        <a:pt x="94" y="364"/>
                      </a:lnTo>
                      <a:lnTo>
                        <a:pt x="0" y="227"/>
                      </a:lnTo>
                      <a:lnTo>
                        <a:pt x="35" y="101"/>
                      </a:lnTo>
                      <a:lnTo>
                        <a:pt x="65" y="56"/>
                      </a:lnTo>
                      <a:lnTo>
                        <a:pt x="108" y="23"/>
                      </a:lnTo>
                      <a:lnTo>
                        <a:pt x="211" y="0"/>
                      </a:lnTo>
                      <a:lnTo>
                        <a:pt x="334" y="37"/>
                      </a:lnTo>
                      <a:lnTo>
                        <a:pt x="395" y="112"/>
                      </a:lnTo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062760" y="5927760"/>
                <a:ext cx="109440" cy="139680"/>
                <a:chOff x="6062760" y="5927760"/>
                <a:chExt cx="109440" cy="139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62760" y="5927760"/>
                  <a:ext cx="109440" cy="139680"/>
                </a:xfrm>
                <a:custGeom>
                  <a:avLst/>
                  <a:gdLst/>
                  <a:ahLst/>
                  <a:rect l="l" t="t" r="r" b="b"/>
                  <a:pathLst>
                    <a:path w="305" h="387">
                      <a:moveTo>
                        <a:pt x="184" y="0"/>
                      </a:moveTo>
                      <a:lnTo>
                        <a:pt x="234" y="30"/>
                      </a:lnTo>
                      <a:lnTo>
                        <a:pt x="297" y="127"/>
                      </a:lnTo>
                      <a:lnTo>
                        <a:pt x="304" y="163"/>
                      </a:lnTo>
                      <a:lnTo>
                        <a:pt x="279" y="298"/>
                      </a:lnTo>
                      <a:lnTo>
                        <a:pt x="208" y="369"/>
                      </a:lnTo>
                      <a:lnTo>
                        <a:pt x="64" y="386"/>
                      </a:lnTo>
                      <a:lnTo>
                        <a:pt x="26" y="293"/>
                      </a:lnTo>
                      <a:lnTo>
                        <a:pt x="3" y="198"/>
                      </a:lnTo>
                      <a:lnTo>
                        <a:pt x="0" y="168"/>
                      </a:lnTo>
                      <a:lnTo>
                        <a:pt x="3" y="118"/>
                      </a:lnTo>
                      <a:lnTo>
                        <a:pt x="36" y="26"/>
                      </a:lnTo>
                      <a:lnTo>
                        <a:pt x="97" y="0"/>
                      </a:lnTo>
                    </a:path>
                  </a:pathLst>
                </a:custGeom>
                <a:solidFill>
                  <a:srgbClr val="cc7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08840" y="6496200"/>
                <a:ext cx="99720" cy="172800"/>
                <a:chOff x="6108840" y="6496200"/>
                <a:chExt cx="99720" cy="1728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108840" y="6496200"/>
                  <a:ext cx="99720" cy="172800"/>
                </a:xfrm>
                <a:custGeom>
                  <a:avLst/>
                  <a:gdLst/>
                  <a:ahLst/>
                  <a:rect l="l" t="t" r="r" b="b"/>
                  <a:pathLst>
                    <a:path w="277" h="479">
                      <a:moveTo>
                        <a:pt x="22" y="0"/>
                      </a:moveTo>
                      <a:lnTo>
                        <a:pt x="258" y="140"/>
                      </a:lnTo>
                      <a:lnTo>
                        <a:pt x="276" y="133"/>
                      </a:lnTo>
                      <a:lnTo>
                        <a:pt x="272" y="478"/>
                      </a:lnTo>
                      <a:lnTo>
                        <a:pt x="137" y="443"/>
                      </a:lnTo>
                      <a:lnTo>
                        <a:pt x="0" y="401"/>
                      </a:lnTo>
                    </a:path>
                  </a:pathLst>
                </a:custGeom>
                <a:solidFill>
                  <a:srgbClr val="89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072120" y="5972040"/>
                <a:ext cx="109440" cy="104760"/>
                <a:chOff x="6072120" y="5972040"/>
                <a:chExt cx="109440" cy="1047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072120" y="5972040"/>
                  <a:ext cx="109440" cy="104760"/>
                </a:xfrm>
                <a:custGeom>
                  <a:avLst/>
                  <a:gdLst/>
                  <a:ahLst/>
                  <a:rect l="l" t="t" r="r" b="b"/>
                  <a:pathLst>
                    <a:path w="305" h="293">
                      <a:moveTo>
                        <a:pt x="239" y="14"/>
                      </a:moveTo>
                      <a:lnTo>
                        <a:pt x="293" y="75"/>
                      </a:lnTo>
                      <a:lnTo>
                        <a:pt x="304" y="166"/>
                      </a:lnTo>
                      <a:lnTo>
                        <a:pt x="262" y="251"/>
                      </a:lnTo>
                      <a:lnTo>
                        <a:pt x="222" y="280"/>
                      </a:lnTo>
                      <a:lnTo>
                        <a:pt x="168" y="292"/>
                      </a:lnTo>
                      <a:lnTo>
                        <a:pt x="62" y="256"/>
                      </a:lnTo>
                      <a:lnTo>
                        <a:pt x="0" y="178"/>
                      </a:lnTo>
                      <a:lnTo>
                        <a:pt x="22" y="90"/>
                      </a:lnTo>
                      <a:lnTo>
                        <a:pt x="64" y="30"/>
                      </a:lnTo>
                      <a:lnTo>
                        <a:pt x="156" y="0"/>
                      </a:lnTo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194520" y="6440400"/>
                <a:ext cx="171360" cy="225360"/>
                <a:chOff x="6194520" y="6440400"/>
                <a:chExt cx="171360" cy="2253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94520" y="6440400"/>
                  <a:ext cx="171360" cy="225360"/>
                </a:xfrm>
                <a:custGeom>
                  <a:avLst/>
                  <a:gdLst/>
                  <a:ahLst/>
                  <a:rect l="l" t="t" r="r" b="b"/>
                  <a:pathLst>
                    <a:path w="478" h="625">
                      <a:moveTo>
                        <a:pt x="445" y="0"/>
                      </a:moveTo>
                      <a:lnTo>
                        <a:pt x="477" y="153"/>
                      </a:lnTo>
                      <a:lnTo>
                        <a:pt x="459" y="461"/>
                      </a:lnTo>
                      <a:lnTo>
                        <a:pt x="400" y="506"/>
                      </a:lnTo>
                      <a:lnTo>
                        <a:pt x="238" y="576"/>
                      </a:lnTo>
                      <a:lnTo>
                        <a:pt x="33" y="624"/>
                      </a:lnTo>
                      <a:lnTo>
                        <a:pt x="0" y="586"/>
                      </a:lnTo>
                      <a:lnTo>
                        <a:pt x="15" y="289"/>
                      </a:lnTo>
                    </a:path>
                  </a:pathLst>
                </a:custGeom>
                <a:solidFill>
                  <a:srgbClr val="a86d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5925960" y="5977080"/>
                <a:ext cx="41400" cy="39600"/>
                <a:chOff x="5925960" y="5977080"/>
                <a:chExt cx="41400" cy="39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925960" y="5977080"/>
                  <a:ext cx="41400" cy="39600"/>
                </a:xfrm>
                <a:custGeom>
                  <a:avLst/>
                  <a:gdLst/>
                  <a:ahLst/>
                  <a:rect l="l" t="t" r="r" b="b"/>
                  <a:pathLst>
                    <a:path w="114" h="109">
                      <a:moveTo>
                        <a:pt x="58" y="0"/>
                      </a:moveTo>
                      <a:lnTo>
                        <a:pt x="113" y="42"/>
                      </a:lnTo>
                      <a:lnTo>
                        <a:pt x="106" y="74"/>
                      </a:lnTo>
                      <a:lnTo>
                        <a:pt x="65" y="108"/>
                      </a:lnTo>
                      <a:lnTo>
                        <a:pt x="8" y="94"/>
                      </a:lnTo>
                      <a:lnTo>
                        <a:pt x="5" y="74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107040" y="6372360"/>
                <a:ext cx="239760" cy="174600"/>
                <a:chOff x="6107040" y="6372360"/>
                <a:chExt cx="239760" cy="1746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107040" y="6372360"/>
                  <a:ext cx="239760" cy="174600"/>
                </a:xfrm>
                <a:custGeom>
                  <a:avLst/>
                  <a:gdLst/>
                  <a:ahLst/>
                  <a:rect l="l" t="t" r="r" b="b"/>
                  <a:pathLst>
                    <a:path w="666" h="484">
                      <a:moveTo>
                        <a:pt x="665" y="206"/>
                      </a:moveTo>
                      <a:lnTo>
                        <a:pt x="367" y="422"/>
                      </a:lnTo>
                      <a:lnTo>
                        <a:pt x="247" y="483"/>
                      </a:lnTo>
                      <a:lnTo>
                        <a:pt x="0" y="333"/>
                      </a:lnTo>
                      <a:lnTo>
                        <a:pt x="226" y="0"/>
                      </a:lnTo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616800" y="6869160"/>
                <a:ext cx="41040" cy="31680"/>
                <a:chOff x="6616800" y="6869160"/>
                <a:chExt cx="41040" cy="31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616800" y="686916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114" h="90">
                      <a:moveTo>
                        <a:pt x="104" y="0"/>
                      </a:moveTo>
                      <a:lnTo>
                        <a:pt x="113" y="28"/>
                      </a:lnTo>
                      <a:lnTo>
                        <a:pt x="111" y="70"/>
                      </a:lnTo>
                      <a:lnTo>
                        <a:pt x="88" y="56"/>
                      </a:lnTo>
                      <a:lnTo>
                        <a:pt x="74" y="60"/>
                      </a:lnTo>
                      <a:lnTo>
                        <a:pt x="65" y="86"/>
                      </a:lnTo>
                      <a:lnTo>
                        <a:pt x="44" y="56"/>
                      </a:lnTo>
                      <a:lnTo>
                        <a:pt x="26" y="89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f7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060960" y="6465960"/>
                <a:ext cx="592200" cy="488880"/>
                <a:chOff x="6060960" y="6465960"/>
                <a:chExt cx="59220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60960" y="6465960"/>
                  <a:ext cx="592200" cy="488880"/>
                </a:xfrm>
                <a:custGeom>
                  <a:avLst/>
                  <a:gdLst/>
                  <a:ahLst/>
                  <a:rect l="l" t="t" r="r" b="b"/>
                  <a:pathLst>
                    <a:path w="1644" h="1358">
                      <a:moveTo>
                        <a:pt x="834" y="82"/>
                      </a:moveTo>
                      <a:lnTo>
                        <a:pt x="500" y="0"/>
                      </a:lnTo>
                      <a:lnTo>
                        <a:pt x="479" y="7"/>
                      </a:lnTo>
                      <a:lnTo>
                        <a:pt x="642" y="208"/>
                      </a:lnTo>
                      <a:lnTo>
                        <a:pt x="722" y="420"/>
                      </a:lnTo>
                      <a:lnTo>
                        <a:pt x="761" y="509"/>
                      </a:lnTo>
                      <a:lnTo>
                        <a:pt x="766" y="610"/>
                      </a:lnTo>
                      <a:lnTo>
                        <a:pt x="750" y="678"/>
                      </a:lnTo>
                      <a:lnTo>
                        <a:pt x="719" y="748"/>
                      </a:lnTo>
                      <a:lnTo>
                        <a:pt x="605" y="685"/>
                      </a:lnTo>
                      <a:lnTo>
                        <a:pt x="474" y="671"/>
                      </a:lnTo>
                      <a:lnTo>
                        <a:pt x="334" y="706"/>
                      </a:lnTo>
                      <a:lnTo>
                        <a:pt x="250" y="774"/>
                      </a:lnTo>
                      <a:lnTo>
                        <a:pt x="152" y="730"/>
                      </a:lnTo>
                      <a:lnTo>
                        <a:pt x="12" y="460"/>
                      </a:lnTo>
                      <a:lnTo>
                        <a:pt x="0" y="640"/>
                      </a:lnTo>
                      <a:lnTo>
                        <a:pt x="106" y="913"/>
                      </a:lnTo>
                      <a:lnTo>
                        <a:pt x="234" y="882"/>
                      </a:lnTo>
                      <a:lnTo>
                        <a:pt x="437" y="878"/>
                      </a:lnTo>
                      <a:lnTo>
                        <a:pt x="533" y="932"/>
                      </a:lnTo>
                      <a:lnTo>
                        <a:pt x="554" y="962"/>
                      </a:lnTo>
                      <a:lnTo>
                        <a:pt x="577" y="1058"/>
                      </a:lnTo>
                      <a:lnTo>
                        <a:pt x="495" y="1119"/>
                      </a:lnTo>
                      <a:lnTo>
                        <a:pt x="316" y="1101"/>
                      </a:lnTo>
                      <a:lnTo>
                        <a:pt x="192" y="1049"/>
                      </a:lnTo>
                      <a:lnTo>
                        <a:pt x="423" y="1338"/>
                      </a:lnTo>
                      <a:lnTo>
                        <a:pt x="540" y="1357"/>
                      </a:lnTo>
                      <a:lnTo>
                        <a:pt x="796" y="1157"/>
                      </a:lnTo>
                      <a:lnTo>
                        <a:pt x="1160" y="986"/>
                      </a:lnTo>
                      <a:lnTo>
                        <a:pt x="1263" y="936"/>
                      </a:lnTo>
                      <a:lnTo>
                        <a:pt x="1450" y="1068"/>
                      </a:lnTo>
                      <a:lnTo>
                        <a:pt x="1496" y="1112"/>
                      </a:lnTo>
                      <a:lnTo>
                        <a:pt x="1562" y="1150"/>
                      </a:lnTo>
                      <a:lnTo>
                        <a:pt x="1643" y="1105"/>
                      </a:lnTo>
                      <a:lnTo>
                        <a:pt x="1585" y="863"/>
                      </a:lnTo>
                      <a:lnTo>
                        <a:pt x="1485" y="692"/>
                      </a:lnTo>
                      <a:lnTo>
                        <a:pt x="1373" y="514"/>
                      </a:lnTo>
                      <a:lnTo>
                        <a:pt x="1216" y="596"/>
                      </a:lnTo>
                      <a:lnTo>
                        <a:pt x="1081" y="556"/>
                      </a:lnTo>
                      <a:lnTo>
                        <a:pt x="936" y="183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6361200" y="6454800"/>
                <a:ext cx="209520" cy="222120"/>
                <a:chOff x="6361200" y="6454800"/>
                <a:chExt cx="209520" cy="222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6361200" y="6454800"/>
                  <a:ext cx="209520" cy="222120"/>
                </a:xfrm>
                <a:custGeom>
                  <a:avLst/>
                  <a:gdLst/>
                  <a:ahLst/>
                  <a:rect l="l" t="t" r="r" b="b"/>
                  <a:pathLst>
                    <a:path w="582" h="617">
                      <a:moveTo>
                        <a:pt x="94" y="9"/>
                      </a:moveTo>
                      <a:lnTo>
                        <a:pt x="183" y="0"/>
                      </a:lnTo>
                      <a:lnTo>
                        <a:pt x="418" y="121"/>
                      </a:lnTo>
                      <a:lnTo>
                        <a:pt x="521" y="234"/>
                      </a:lnTo>
                      <a:lnTo>
                        <a:pt x="581" y="405"/>
                      </a:lnTo>
                      <a:lnTo>
                        <a:pt x="537" y="555"/>
                      </a:lnTo>
                      <a:lnTo>
                        <a:pt x="371" y="616"/>
                      </a:lnTo>
                      <a:lnTo>
                        <a:pt x="254" y="573"/>
                      </a:lnTo>
                      <a:lnTo>
                        <a:pt x="181" y="487"/>
                      </a:lnTo>
                      <a:lnTo>
                        <a:pt x="139" y="379"/>
                      </a:lnTo>
                      <a:lnTo>
                        <a:pt x="99" y="210"/>
                      </a:lnTo>
                      <a:lnTo>
                        <a:pt x="12" y="138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ffc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419880" y="6161040"/>
                <a:ext cx="149040" cy="352440"/>
                <a:chOff x="6419880" y="6161040"/>
                <a:chExt cx="149040" cy="3524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419880" y="6161040"/>
                  <a:ext cx="149040" cy="352440"/>
                </a:xfrm>
                <a:custGeom>
                  <a:avLst/>
                  <a:gdLst/>
                  <a:ahLst/>
                  <a:rect l="l" t="t" r="r" b="b"/>
                  <a:pathLst>
                    <a:path w="413" h="978">
                      <a:moveTo>
                        <a:pt x="58" y="0"/>
                      </a:moveTo>
                      <a:lnTo>
                        <a:pt x="107" y="35"/>
                      </a:lnTo>
                      <a:lnTo>
                        <a:pt x="153" y="68"/>
                      </a:lnTo>
                      <a:lnTo>
                        <a:pt x="206" y="105"/>
                      </a:lnTo>
                      <a:lnTo>
                        <a:pt x="260" y="138"/>
                      </a:lnTo>
                      <a:lnTo>
                        <a:pt x="301" y="169"/>
                      </a:lnTo>
                      <a:lnTo>
                        <a:pt x="329" y="190"/>
                      </a:lnTo>
                      <a:lnTo>
                        <a:pt x="401" y="340"/>
                      </a:lnTo>
                      <a:lnTo>
                        <a:pt x="412" y="584"/>
                      </a:lnTo>
                      <a:lnTo>
                        <a:pt x="385" y="760"/>
                      </a:lnTo>
                      <a:lnTo>
                        <a:pt x="329" y="977"/>
                      </a:lnTo>
                      <a:lnTo>
                        <a:pt x="253" y="960"/>
                      </a:lnTo>
                      <a:lnTo>
                        <a:pt x="119" y="922"/>
                      </a:lnTo>
                      <a:lnTo>
                        <a:pt x="0" y="829"/>
                      </a:lnTo>
                      <a:lnTo>
                        <a:pt x="128" y="620"/>
                      </a:lnTo>
                      <a:lnTo>
                        <a:pt x="174" y="265"/>
                      </a:lnTo>
                    </a:path>
                  </a:pathLst>
                </a:custGeom>
                <a:solidFill>
                  <a:srgbClr val="5e75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308640" y="6060960"/>
                <a:ext cx="63720" cy="54000"/>
                <a:chOff x="6308640" y="6060960"/>
                <a:chExt cx="63720" cy="540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308640" y="6060960"/>
                  <a:ext cx="63720" cy="54000"/>
                </a:xfrm>
                <a:custGeom>
                  <a:avLst/>
                  <a:gdLst/>
                  <a:ahLst/>
                  <a:rect l="l" t="t" r="r" b="b"/>
                  <a:pathLst>
                    <a:path w="176" h="152">
                      <a:moveTo>
                        <a:pt x="83" y="0"/>
                      </a:moveTo>
                      <a:lnTo>
                        <a:pt x="149" y="18"/>
                      </a:lnTo>
                      <a:lnTo>
                        <a:pt x="175" y="104"/>
                      </a:lnTo>
                      <a:lnTo>
                        <a:pt x="131" y="151"/>
                      </a:lnTo>
                      <a:lnTo>
                        <a:pt x="53" y="148"/>
                      </a:lnTo>
                      <a:lnTo>
                        <a:pt x="0" y="76"/>
                      </a:lnTo>
                      <a:lnTo>
                        <a:pt x="27" y="1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594480" y="6459480"/>
                <a:ext cx="84240" cy="219240"/>
                <a:chOff x="6594480" y="6459480"/>
                <a:chExt cx="84240" cy="2192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594480" y="645948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235" h="607">
                      <a:moveTo>
                        <a:pt x="19" y="0"/>
                      </a:moveTo>
                      <a:lnTo>
                        <a:pt x="234" y="374"/>
                      </a:lnTo>
                      <a:lnTo>
                        <a:pt x="119" y="606"/>
                      </a:lnTo>
                      <a:lnTo>
                        <a:pt x="0" y="405"/>
                      </a:lnTo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635880" y="6595920"/>
                <a:ext cx="115920" cy="112680"/>
                <a:chOff x="6635880" y="6595920"/>
                <a:chExt cx="115920" cy="112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635880" y="6595920"/>
                  <a:ext cx="115920" cy="112680"/>
                </a:xfrm>
                <a:custGeom>
                  <a:avLst/>
                  <a:gdLst/>
                  <a:ahLst/>
                  <a:rect l="l" t="t" r="r" b="b"/>
                  <a:pathLst>
                    <a:path w="320" h="315">
                      <a:moveTo>
                        <a:pt x="319" y="0"/>
                      </a:moveTo>
                      <a:lnTo>
                        <a:pt x="296" y="314"/>
                      </a:lnTo>
                      <a:lnTo>
                        <a:pt x="0" y="240"/>
                      </a:lnTo>
                      <a:lnTo>
                        <a:pt x="133" y="13"/>
                      </a:lnTo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603840" y="6451560"/>
                <a:ext cx="173160" cy="149400"/>
                <a:chOff x="6603840" y="6451560"/>
                <a:chExt cx="173160" cy="149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603840" y="6451560"/>
                  <a:ext cx="173160" cy="149400"/>
                </a:xfrm>
                <a:custGeom>
                  <a:avLst/>
                  <a:gdLst/>
                  <a:ahLst/>
                  <a:rect l="l" t="t" r="r" b="b"/>
                  <a:pathLst>
                    <a:path w="482" h="414">
                      <a:moveTo>
                        <a:pt x="0" y="0"/>
                      </a:moveTo>
                      <a:lnTo>
                        <a:pt x="322" y="46"/>
                      </a:lnTo>
                      <a:lnTo>
                        <a:pt x="481" y="105"/>
                      </a:lnTo>
                      <a:lnTo>
                        <a:pt x="404" y="396"/>
                      </a:lnTo>
                      <a:lnTo>
                        <a:pt x="215" y="413"/>
                      </a:lnTo>
                    </a:path>
                  </a:pathLst>
                </a:custGeom>
                <a:solidFill>
                  <a:srgbClr val="ff0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705720" y="6321600"/>
                <a:ext cx="75960" cy="172800"/>
                <a:chOff x="6705720" y="6321600"/>
                <a:chExt cx="75960" cy="172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705720" y="6321600"/>
                  <a:ext cx="75960" cy="172800"/>
                </a:xfrm>
                <a:custGeom>
                  <a:avLst/>
                  <a:gdLst/>
                  <a:ahLst/>
                  <a:rect l="l" t="t" r="r" b="b"/>
                  <a:pathLst>
                    <a:path w="211" h="480">
                      <a:moveTo>
                        <a:pt x="14" y="0"/>
                      </a:moveTo>
                      <a:lnTo>
                        <a:pt x="154" y="137"/>
                      </a:lnTo>
                      <a:lnTo>
                        <a:pt x="210" y="453"/>
                      </a:lnTo>
                      <a:lnTo>
                        <a:pt x="201" y="479"/>
                      </a:lnTo>
                      <a:lnTo>
                        <a:pt x="0" y="388"/>
                      </a:lnTo>
                    </a:path>
                  </a:pathLst>
                </a:custGeom>
                <a:solidFill>
                  <a:srgbClr val="96de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761160" y="6335640"/>
                <a:ext cx="109440" cy="150840"/>
                <a:chOff x="6761160" y="6335640"/>
                <a:chExt cx="109440" cy="1508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761160" y="633564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305" h="420">
                      <a:moveTo>
                        <a:pt x="194" y="0"/>
                      </a:moveTo>
                      <a:lnTo>
                        <a:pt x="304" y="257"/>
                      </a:lnTo>
                      <a:lnTo>
                        <a:pt x="302" y="273"/>
                      </a:lnTo>
                      <a:lnTo>
                        <a:pt x="45" y="419"/>
                      </a:lnTo>
                      <a:lnTo>
                        <a:pt x="0" y="111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702480" y="6288120"/>
                <a:ext cx="129960" cy="82440"/>
                <a:chOff x="6702480" y="6288120"/>
                <a:chExt cx="129960" cy="824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702480" y="6288120"/>
                  <a:ext cx="129960" cy="82440"/>
                </a:xfrm>
                <a:custGeom>
                  <a:avLst/>
                  <a:gdLst/>
                  <a:ahLst/>
                  <a:rect l="l" t="t" r="r" b="b"/>
                  <a:pathLst>
                    <a:path w="362" h="231">
                      <a:moveTo>
                        <a:pt x="324" y="0"/>
                      </a:moveTo>
                      <a:lnTo>
                        <a:pt x="0" y="76"/>
                      </a:lnTo>
                      <a:lnTo>
                        <a:pt x="165" y="230"/>
                      </a:lnTo>
                      <a:lnTo>
                        <a:pt x="361" y="134"/>
                      </a:ln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321080" y="6643800"/>
                <a:ext cx="103320" cy="66600"/>
                <a:chOff x="4321080" y="6643800"/>
                <a:chExt cx="103320" cy="666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21080" y="6643800"/>
                  <a:ext cx="103320" cy="66600"/>
                </a:xfrm>
                <a:custGeom>
                  <a:avLst/>
                  <a:gdLst/>
                  <a:ahLst/>
                  <a:rect l="l" t="t" r="r" b="b"/>
                  <a:pathLst>
                    <a:path w="287" h="185">
                      <a:moveTo>
                        <a:pt x="15" y="0"/>
                      </a:moveTo>
                      <a:lnTo>
                        <a:pt x="284" y="94"/>
                      </a:lnTo>
                      <a:lnTo>
                        <a:pt x="286" y="113"/>
                      </a:lnTo>
                      <a:lnTo>
                        <a:pt x="197" y="184"/>
                      </a:lnTo>
                      <a:lnTo>
                        <a:pt x="164" y="92"/>
                      </a:lnTo>
                      <a:lnTo>
                        <a:pt x="107" y="150"/>
                      </a:lnTo>
                      <a:lnTo>
                        <a:pt x="71" y="68"/>
                      </a:lnTo>
                      <a:lnTo>
                        <a:pt x="0" y="110"/>
                      </a:lnTo>
                      <a:lnTo>
                        <a:pt x="8" y="40"/>
                      </a:lnTo>
                    </a:path>
                  </a:pathLst>
                </a:custGeom>
                <a:solidFill>
                  <a:srgbClr val="ffc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807080" y="6576840"/>
                <a:ext cx="69840" cy="54000"/>
                <a:chOff x="4807080" y="6576840"/>
                <a:chExt cx="69840" cy="54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807080" y="6576840"/>
                  <a:ext cx="69840" cy="54000"/>
                </a:xfrm>
                <a:custGeom>
                  <a:avLst/>
                  <a:gdLst/>
                  <a:ahLst/>
                  <a:rect l="l" t="t" r="r" b="b"/>
                  <a:pathLst>
                    <a:path w="194" h="152">
                      <a:moveTo>
                        <a:pt x="151" y="0"/>
                      </a:moveTo>
                      <a:lnTo>
                        <a:pt x="175" y="33"/>
                      </a:lnTo>
                      <a:lnTo>
                        <a:pt x="193" y="88"/>
                      </a:lnTo>
                      <a:lnTo>
                        <a:pt x="158" y="83"/>
                      </a:lnTo>
                      <a:lnTo>
                        <a:pt x="132" y="64"/>
                      </a:lnTo>
                      <a:lnTo>
                        <a:pt x="132" y="134"/>
                      </a:lnTo>
                      <a:lnTo>
                        <a:pt x="66" y="100"/>
                      </a:lnTo>
                      <a:lnTo>
                        <a:pt x="59" y="151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ffc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344840" y="6465960"/>
                <a:ext cx="506520" cy="514440"/>
                <a:chOff x="4344840" y="6465960"/>
                <a:chExt cx="506520" cy="514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344840" y="6465960"/>
                  <a:ext cx="506520" cy="514440"/>
                </a:xfrm>
                <a:custGeom>
                  <a:avLst/>
                  <a:gdLst/>
                  <a:ahLst/>
                  <a:rect l="l" t="t" r="r" b="b"/>
                  <a:pathLst>
                    <a:path w="1405" h="1428">
                      <a:moveTo>
                        <a:pt x="801" y="11"/>
                      </a:moveTo>
                      <a:lnTo>
                        <a:pt x="1079" y="74"/>
                      </a:lnTo>
                      <a:lnTo>
                        <a:pt x="1313" y="212"/>
                      </a:lnTo>
                      <a:lnTo>
                        <a:pt x="1404" y="327"/>
                      </a:lnTo>
                      <a:lnTo>
                        <a:pt x="1299" y="437"/>
                      </a:lnTo>
                      <a:lnTo>
                        <a:pt x="1138" y="362"/>
                      </a:lnTo>
                      <a:lnTo>
                        <a:pt x="990" y="346"/>
                      </a:lnTo>
                      <a:lnTo>
                        <a:pt x="920" y="383"/>
                      </a:lnTo>
                      <a:lnTo>
                        <a:pt x="876" y="460"/>
                      </a:lnTo>
                      <a:lnTo>
                        <a:pt x="817" y="727"/>
                      </a:lnTo>
                      <a:lnTo>
                        <a:pt x="810" y="825"/>
                      </a:lnTo>
                      <a:lnTo>
                        <a:pt x="817" y="935"/>
                      </a:lnTo>
                      <a:lnTo>
                        <a:pt x="852" y="1146"/>
                      </a:lnTo>
                      <a:lnTo>
                        <a:pt x="899" y="1312"/>
                      </a:lnTo>
                      <a:lnTo>
                        <a:pt x="920" y="1375"/>
                      </a:lnTo>
                      <a:lnTo>
                        <a:pt x="831" y="1401"/>
                      </a:lnTo>
                      <a:lnTo>
                        <a:pt x="686" y="1427"/>
                      </a:lnTo>
                      <a:lnTo>
                        <a:pt x="499" y="1412"/>
                      </a:lnTo>
                      <a:lnTo>
                        <a:pt x="305" y="1408"/>
                      </a:lnTo>
                      <a:lnTo>
                        <a:pt x="274" y="1405"/>
                      </a:lnTo>
                      <a:lnTo>
                        <a:pt x="300" y="1382"/>
                      </a:lnTo>
                      <a:lnTo>
                        <a:pt x="361" y="1354"/>
                      </a:lnTo>
                      <a:lnTo>
                        <a:pt x="347" y="1253"/>
                      </a:lnTo>
                      <a:lnTo>
                        <a:pt x="312" y="1167"/>
                      </a:lnTo>
                      <a:lnTo>
                        <a:pt x="253" y="1071"/>
                      </a:lnTo>
                      <a:lnTo>
                        <a:pt x="213" y="1015"/>
                      </a:lnTo>
                      <a:lnTo>
                        <a:pt x="171" y="952"/>
                      </a:lnTo>
                      <a:lnTo>
                        <a:pt x="110" y="818"/>
                      </a:lnTo>
                      <a:lnTo>
                        <a:pt x="101" y="760"/>
                      </a:lnTo>
                      <a:lnTo>
                        <a:pt x="92" y="615"/>
                      </a:lnTo>
                      <a:lnTo>
                        <a:pt x="139" y="683"/>
                      </a:lnTo>
                      <a:lnTo>
                        <a:pt x="211" y="603"/>
                      </a:lnTo>
                      <a:lnTo>
                        <a:pt x="0" y="481"/>
                      </a:lnTo>
                      <a:lnTo>
                        <a:pt x="113" y="252"/>
                      </a:lnTo>
                      <a:lnTo>
                        <a:pt x="291" y="84"/>
                      </a:lnTo>
                      <a:lnTo>
                        <a:pt x="429" y="0"/>
                      </a:lnTo>
                      <a:lnTo>
                        <a:pt x="366" y="397"/>
                      </a:lnTo>
                      <a:lnTo>
                        <a:pt x="405" y="472"/>
                      </a:lnTo>
                      <a:lnTo>
                        <a:pt x="513" y="472"/>
                      </a:lnTo>
                      <a:lnTo>
                        <a:pt x="621" y="477"/>
                      </a:lnTo>
                      <a:lnTo>
                        <a:pt x="688" y="231"/>
                      </a:lnTo>
                    </a:path>
                  </a:pathLst>
                </a:custGeom>
                <a:solidFill>
                  <a:srgbClr val="89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4479840" y="6219720"/>
                <a:ext cx="263520" cy="417600"/>
                <a:chOff x="4479840" y="6219720"/>
                <a:chExt cx="263520" cy="4176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479840" y="6219720"/>
                  <a:ext cx="263520" cy="417600"/>
                </a:xfrm>
                <a:custGeom>
                  <a:avLst/>
                  <a:gdLst/>
                  <a:ahLst/>
                  <a:rect l="l" t="t" r="r" b="b"/>
                  <a:pathLst>
                    <a:path w="731" h="1161">
                      <a:moveTo>
                        <a:pt x="297" y="0"/>
                      </a:moveTo>
                      <a:lnTo>
                        <a:pt x="472" y="304"/>
                      </a:lnTo>
                      <a:lnTo>
                        <a:pt x="730" y="544"/>
                      </a:lnTo>
                      <a:lnTo>
                        <a:pt x="665" y="594"/>
                      </a:lnTo>
                      <a:lnTo>
                        <a:pt x="579" y="648"/>
                      </a:lnTo>
                      <a:lnTo>
                        <a:pt x="430" y="688"/>
                      </a:lnTo>
                      <a:lnTo>
                        <a:pt x="371" y="799"/>
                      </a:lnTo>
                      <a:lnTo>
                        <a:pt x="285" y="1155"/>
                      </a:lnTo>
                      <a:lnTo>
                        <a:pt x="161" y="1152"/>
                      </a:lnTo>
                      <a:lnTo>
                        <a:pt x="0" y="1160"/>
                      </a:lnTo>
                      <a:lnTo>
                        <a:pt x="42" y="674"/>
                      </a:lnTo>
                      <a:lnTo>
                        <a:pt x="96" y="356"/>
                      </a:lnTo>
                      <a:lnTo>
                        <a:pt x="19" y="304"/>
                      </a:lnTo>
                      <a:lnTo>
                        <a:pt x="12" y="223"/>
                      </a:lnTo>
                      <a:lnTo>
                        <a:pt x="145" y="214"/>
                      </a:lnTo>
                    </a:path>
                  </a:pathLst>
                </a:custGeom>
                <a:solidFill>
                  <a:srgbClr val="ffc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514760" y="6218280"/>
                <a:ext cx="222480" cy="419040"/>
                <a:chOff x="4514760" y="6218280"/>
                <a:chExt cx="222480" cy="4190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514760" y="6218280"/>
                  <a:ext cx="222480" cy="419040"/>
                </a:xfrm>
                <a:custGeom>
                  <a:avLst/>
                  <a:gdLst/>
                  <a:ahLst/>
                  <a:rect l="l" t="t" r="r" b="b"/>
                  <a:pathLst>
                    <a:path w="619" h="1165">
                      <a:moveTo>
                        <a:pt x="221" y="0"/>
                      </a:moveTo>
                      <a:lnTo>
                        <a:pt x="108" y="115"/>
                      </a:lnTo>
                      <a:lnTo>
                        <a:pt x="132" y="166"/>
                      </a:lnTo>
                      <a:lnTo>
                        <a:pt x="183" y="293"/>
                      </a:lnTo>
                      <a:lnTo>
                        <a:pt x="221" y="359"/>
                      </a:lnTo>
                      <a:lnTo>
                        <a:pt x="260" y="427"/>
                      </a:lnTo>
                      <a:lnTo>
                        <a:pt x="307" y="477"/>
                      </a:lnTo>
                      <a:lnTo>
                        <a:pt x="354" y="510"/>
                      </a:lnTo>
                      <a:lnTo>
                        <a:pt x="387" y="559"/>
                      </a:lnTo>
                      <a:lnTo>
                        <a:pt x="331" y="609"/>
                      </a:lnTo>
                      <a:lnTo>
                        <a:pt x="253" y="649"/>
                      </a:lnTo>
                      <a:lnTo>
                        <a:pt x="214" y="665"/>
                      </a:lnTo>
                      <a:lnTo>
                        <a:pt x="0" y="1164"/>
                      </a:lnTo>
                      <a:lnTo>
                        <a:pt x="164" y="1161"/>
                      </a:lnTo>
                      <a:lnTo>
                        <a:pt x="199" y="961"/>
                      </a:lnTo>
                      <a:lnTo>
                        <a:pt x="319" y="700"/>
                      </a:lnTo>
                      <a:lnTo>
                        <a:pt x="429" y="656"/>
                      </a:lnTo>
                      <a:lnTo>
                        <a:pt x="618" y="559"/>
                      </a:lnTo>
                    </a:path>
                  </a:pathLst>
                </a:custGeom>
                <a:solidFill>
                  <a:srgbClr val="f59e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316560" y="6058080"/>
                <a:ext cx="68400" cy="64800"/>
                <a:chOff x="6316560" y="6058080"/>
                <a:chExt cx="68400" cy="648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316560" y="6058080"/>
                  <a:ext cx="68400" cy="64800"/>
                </a:xfrm>
                <a:custGeom>
                  <a:avLst/>
                  <a:gdLst/>
                  <a:ahLst/>
                  <a:rect l="l" t="t" r="r" b="b"/>
                  <a:pathLst>
                    <a:path w="189" h="179">
                      <a:moveTo>
                        <a:pt x="0" y="27"/>
                      </a:moveTo>
                      <a:lnTo>
                        <a:pt x="26" y="6"/>
                      </a:lnTo>
                      <a:lnTo>
                        <a:pt x="114" y="0"/>
                      </a:lnTo>
                      <a:lnTo>
                        <a:pt x="188" y="57"/>
                      </a:lnTo>
                      <a:lnTo>
                        <a:pt x="184" y="130"/>
                      </a:lnTo>
                      <a:lnTo>
                        <a:pt x="135" y="166"/>
                      </a:lnTo>
                      <a:lnTo>
                        <a:pt x="93" y="178"/>
                      </a:lnTo>
                      <a:lnTo>
                        <a:pt x="33" y="157"/>
                      </a:lnTo>
                      <a:lnTo>
                        <a:pt x="112" y="136"/>
                      </a:lnTo>
                      <a:lnTo>
                        <a:pt x="137" y="82"/>
                      </a:lnTo>
                      <a:lnTo>
                        <a:pt x="105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584600" y="6168960"/>
                <a:ext cx="241560" cy="265320"/>
                <a:chOff x="4584600" y="6168960"/>
                <a:chExt cx="241560" cy="2653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84600" y="6168960"/>
                  <a:ext cx="241560" cy="265320"/>
                </a:xfrm>
                <a:custGeom>
                  <a:avLst/>
                  <a:gdLst/>
                  <a:ahLst/>
                  <a:rect l="l" t="t" r="r" b="b"/>
                  <a:pathLst>
                    <a:path w="670" h="738">
                      <a:moveTo>
                        <a:pt x="335" y="35"/>
                      </a:moveTo>
                      <a:lnTo>
                        <a:pt x="429" y="145"/>
                      </a:lnTo>
                      <a:lnTo>
                        <a:pt x="445" y="299"/>
                      </a:lnTo>
                      <a:lnTo>
                        <a:pt x="611" y="486"/>
                      </a:lnTo>
                      <a:lnTo>
                        <a:pt x="669" y="624"/>
                      </a:lnTo>
                      <a:lnTo>
                        <a:pt x="644" y="708"/>
                      </a:lnTo>
                      <a:lnTo>
                        <a:pt x="539" y="737"/>
                      </a:lnTo>
                      <a:lnTo>
                        <a:pt x="354" y="636"/>
                      </a:lnTo>
                      <a:lnTo>
                        <a:pt x="204" y="477"/>
                      </a:lnTo>
                      <a:lnTo>
                        <a:pt x="0" y="145"/>
                      </a:lnTo>
                      <a:lnTo>
                        <a:pt x="50" y="77"/>
                      </a:lnTo>
                      <a:lnTo>
                        <a:pt x="120" y="25"/>
                      </a:lnTo>
                      <a:lnTo>
                        <a:pt x="248" y="0"/>
                      </a:lnTo>
                    </a:path>
                  </a:pathLst>
                </a:custGeom>
                <a:solidFill>
                  <a:srgbClr val="f024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326280" y="5972040"/>
                <a:ext cx="39600" cy="71640"/>
                <a:chOff x="6326280" y="5972040"/>
                <a:chExt cx="39600" cy="716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326280" y="5972040"/>
                  <a:ext cx="39600" cy="71640"/>
                </a:xfrm>
                <a:custGeom>
                  <a:avLst/>
                  <a:gdLst/>
                  <a:ahLst/>
                  <a:rect l="l" t="t" r="r" b="b"/>
                  <a:pathLst>
                    <a:path w="109" h="199">
                      <a:moveTo>
                        <a:pt x="108" y="49"/>
                      </a:moveTo>
                      <a:lnTo>
                        <a:pt x="81" y="0"/>
                      </a:lnTo>
                      <a:lnTo>
                        <a:pt x="0" y="136"/>
                      </a:lnTo>
                      <a:lnTo>
                        <a:pt x="9" y="198"/>
                      </a:lnTo>
                      <a:lnTo>
                        <a:pt x="19" y="167"/>
                      </a:lnTo>
                      <a:lnTo>
                        <a:pt x="34" y="82"/>
                      </a:lnTo>
                      <a:lnTo>
                        <a:pt x="61" y="5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6242040" y="5999040"/>
                <a:ext cx="61920" cy="47880"/>
                <a:chOff x="6242040" y="5999040"/>
                <a:chExt cx="61920" cy="47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242040" y="5999040"/>
                  <a:ext cx="61920" cy="47880"/>
                </a:xfrm>
                <a:custGeom>
                  <a:avLst/>
                  <a:gdLst/>
                  <a:ahLst/>
                  <a:rect l="l" t="t" r="r" b="b"/>
                  <a:pathLst>
                    <a:path w="170" h="132">
                      <a:moveTo>
                        <a:pt x="12" y="74"/>
                      </a:moveTo>
                      <a:lnTo>
                        <a:pt x="0" y="25"/>
                      </a:lnTo>
                      <a:lnTo>
                        <a:pt x="47" y="0"/>
                      </a:lnTo>
                      <a:lnTo>
                        <a:pt x="134" y="7"/>
                      </a:lnTo>
                      <a:lnTo>
                        <a:pt x="167" y="74"/>
                      </a:lnTo>
                      <a:lnTo>
                        <a:pt x="169" y="131"/>
                      </a:lnTo>
                      <a:lnTo>
                        <a:pt x="125" y="58"/>
                      </a:lnTo>
                      <a:lnTo>
                        <a:pt x="85" y="4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372360" y="5996160"/>
                <a:ext cx="58680" cy="53640"/>
                <a:chOff x="6372360" y="5996160"/>
                <a:chExt cx="58680" cy="536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372360" y="5996160"/>
                  <a:ext cx="58680" cy="53640"/>
                </a:xfrm>
                <a:custGeom>
                  <a:avLst/>
                  <a:gdLst/>
                  <a:ahLst/>
                  <a:rect l="l" t="t" r="r" b="b"/>
                  <a:pathLst>
                    <a:path w="161" h="152">
                      <a:moveTo>
                        <a:pt x="124" y="0"/>
                      </a:moveTo>
                      <a:lnTo>
                        <a:pt x="160" y="72"/>
                      </a:lnTo>
                      <a:lnTo>
                        <a:pt x="122" y="58"/>
                      </a:lnTo>
                      <a:lnTo>
                        <a:pt x="46" y="76"/>
                      </a:lnTo>
                      <a:lnTo>
                        <a:pt x="0" y="151"/>
                      </a:lnTo>
                      <a:lnTo>
                        <a:pt x="14" y="65"/>
                      </a:lnTo>
                      <a:lnTo>
                        <a:pt x="64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402080" y="6966000"/>
                <a:ext cx="117360" cy="41400"/>
                <a:chOff x="4402080" y="6966000"/>
                <a:chExt cx="117360" cy="414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402080" y="6966000"/>
                  <a:ext cx="117360" cy="41400"/>
                </a:xfrm>
                <a:custGeom>
                  <a:avLst/>
                  <a:gdLst/>
                  <a:ahLst/>
                  <a:rect l="l" t="t" r="r" b="b"/>
                  <a:pathLst>
                    <a:path w="328" h="113">
                      <a:moveTo>
                        <a:pt x="205" y="7"/>
                      </a:moveTo>
                      <a:lnTo>
                        <a:pt x="327" y="19"/>
                      </a:lnTo>
                      <a:lnTo>
                        <a:pt x="309" y="68"/>
                      </a:lnTo>
                      <a:lnTo>
                        <a:pt x="168" y="103"/>
                      </a:lnTo>
                      <a:lnTo>
                        <a:pt x="102" y="112"/>
                      </a:lnTo>
                      <a:lnTo>
                        <a:pt x="0" y="76"/>
                      </a:lnTo>
                      <a:lnTo>
                        <a:pt x="26" y="36"/>
                      </a:lnTo>
                      <a:lnTo>
                        <a:pt x="92" y="7"/>
                      </a:lnTo>
                      <a:lnTo>
                        <a:pt x="172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430880" y="6551640"/>
                <a:ext cx="399960" cy="425520"/>
                <a:chOff x="4430880" y="6551640"/>
                <a:chExt cx="399960" cy="425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430880" y="6551640"/>
                  <a:ext cx="399960" cy="425520"/>
                </a:xfrm>
                <a:custGeom>
                  <a:avLst/>
                  <a:gdLst/>
                  <a:ahLst/>
                  <a:rect l="l" t="t" r="r" b="b"/>
                  <a:pathLst>
                    <a:path w="1110" h="1184">
                      <a:moveTo>
                        <a:pt x="1109" y="84"/>
                      </a:moveTo>
                      <a:lnTo>
                        <a:pt x="1032" y="49"/>
                      </a:lnTo>
                      <a:lnTo>
                        <a:pt x="957" y="23"/>
                      </a:lnTo>
                      <a:lnTo>
                        <a:pt x="819" y="0"/>
                      </a:lnTo>
                      <a:lnTo>
                        <a:pt x="690" y="30"/>
                      </a:lnTo>
                      <a:lnTo>
                        <a:pt x="577" y="131"/>
                      </a:lnTo>
                      <a:lnTo>
                        <a:pt x="533" y="202"/>
                      </a:lnTo>
                      <a:lnTo>
                        <a:pt x="486" y="305"/>
                      </a:lnTo>
                      <a:lnTo>
                        <a:pt x="448" y="470"/>
                      </a:lnTo>
                      <a:lnTo>
                        <a:pt x="448" y="550"/>
                      </a:lnTo>
                      <a:lnTo>
                        <a:pt x="408" y="637"/>
                      </a:lnTo>
                      <a:lnTo>
                        <a:pt x="322" y="663"/>
                      </a:lnTo>
                      <a:lnTo>
                        <a:pt x="200" y="646"/>
                      </a:lnTo>
                      <a:lnTo>
                        <a:pt x="80" y="599"/>
                      </a:lnTo>
                      <a:lnTo>
                        <a:pt x="0" y="526"/>
                      </a:lnTo>
                      <a:lnTo>
                        <a:pt x="83" y="677"/>
                      </a:lnTo>
                      <a:lnTo>
                        <a:pt x="148" y="794"/>
                      </a:lnTo>
                      <a:lnTo>
                        <a:pt x="193" y="846"/>
                      </a:lnTo>
                      <a:lnTo>
                        <a:pt x="242" y="896"/>
                      </a:lnTo>
                      <a:lnTo>
                        <a:pt x="308" y="945"/>
                      </a:lnTo>
                      <a:lnTo>
                        <a:pt x="390" y="999"/>
                      </a:lnTo>
                      <a:lnTo>
                        <a:pt x="371" y="961"/>
                      </a:lnTo>
                      <a:lnTo>
                        <a:pt x="298" y="863"/>
                      </a:lnTo>
                      <a:lnTo>
                        <a:pt x="228" y="757"/>
                      </a:lnTo>
                      <a:lnTo>
                        <a:pt x="214" y="712"/>
                      </a:lnTo>
                      <a:lnTo>
                        <a:pt x="380" y="740"/>
                      </a:lnTo>
                      <a:lnTo>
                        <a:pt x="455" y="818"/>
                      </a:lnTo>
                      <a:lnTo>
                        <a:pt x="549" y="1183"/>
                      </a:lnTo>
                      <a:lnTo>
                        <a:pt x="584" y="1175"/>
                      </a:lnTo>
                      <a:lnTo>
                        <a:pt x="659" y="1143"/>
                      </a:lnTo>
                      <a:lnTo>
                        <a:pt x="622" y="924"/>
                      </a:lnTo>
                      <a:lnTo>
                        <a:pt x="582" y="665"/>
                      </a:lnTo>
                      <a:lnTo>
                        <a:pt x="594" y="345"/>
                      </a:lnTo>
                      <a:lnTo>
                        <a:pt x="655" y="192"/>
                      </a:lnTo>
                      <a:lnTo>
                        <a:pt x="690" y="131"/>
                      </a:lnTo>
                      <a:lnTo>
                        <a:pt x="795" y="103"/>
                      </a:lnTo>
                      <a:lnTo>
                        <a:pt x="943" y="152"/>
                      </a:lnTo>
                      <a:lnTo>
                        <a:pt x="1046" y="199"/>
                      </a:lnTo>
                    </a:path>
                  </a:pathLst>
                </a:custGeom>
                <a:solidFill>
                  <a:srgbClr val="599e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565520" y="6296040"/>
                <a:ext cx="85680" cy="38160"/>
                <a:chOff x="4565520" y="6296040"/>
                <a:chExt cx="85680" cy="38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565520" y="629604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236" h="105">
                      <a:moveTo>
                        <a:pt x="235" y="79"/>
                      </a:moveTo>
                      <a:lnTo>
                        <a:pt x="112" y="104"/>
                      </a:lnTo>
                      <a:lnTo>
                        <a:pt x="38" y="84"/>
                      </a:lnTo>
                      <a:lnTo>
                        <a:pt x="0" y="22"/>
                      </a:lnTo>
                      <a:lnTo>
                        <a:pt x="79" y="0"/>
                      </a:lnTo>
                      <a:lnTo>
                        <a:pt x="162" y="2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6397560" y="6064200"/>
                <a:ext cx="76320" cy="28800"/>
                <a:chOff x="6397560" y="6064200"/>
                <a:chExt cx="76320" cy="288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397560" y="6064200"/>
                  <a:ext cx="76320" cy="28800"/>
                </a:xfrm>
                <a:custGeom>
                  <a:avLst/>
                  <a:gdLst/>
                  <a:ahLst/>
                  <a:rect l="l" t="t" r="r" b="b"/>
                  <a:pathLst>
                    <a:path w="212" h="81">
                      <a:moveTo>
                        <a:pt x="0" y="57"/>
                      </a:moveTo>
                      <a:lnTo>
                        <a:pt x="19" y="28"/>
                      </a:lnTo>
                      <a:lnTo>
                        <a:pt x="50" y="8"/>
                      </a:lnTo>
                      <a:lnTo>
                        <a:pt x="104" y="0"/>
                      </a:lnTo>
                      <a:lnTo>
                        <a:pt x="190" y="24"/>
                      </a:lnTo>
                      <a:lnTo>
                        <a:pt x="211" y="44"/>
                      </a:lnTo>
                      <a:lnTo>
                        <a:pt x="165" y="80"/>
                      </a:lnTo>
                      <a:lnTo>
                        <a:pt x="127" y="46"/>
                      </a:lnTo>
                      <a:lnTo>
                        <a:pt x="66" y="3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219720" y="6054840"/>
                <a:ext cx="69840" cy="34920"/>
                <a:chOff x="6219720" y="6054840"/>
                <a:chExt cx="69840" cy="349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219720" y="6054840"/>
                  <a:ext cx="69840" cy="34920"/>
                </a:xfrm>
                <a:custGeom>
                  <a:avLst/>
                  <a:gdLst/>
                  <a:ahLst/>
                  <a:rect l="l" t="t" r="r" b="b"/>
                  <a:pathLst>
                    <a:path w="192" h="95">
                      <a:moveTo>
                        <a:pt x="191" y="42"/>
                      </a:moveTo>
                      <a:lnTo>
                        <a:pt x="157" y="16"/>
                      </a:lnTo>
                      <a:lnTo>
                        <a:pt x="61" y="0"/>
                      </a:lnTo>
                      <a:lnTo>
                        <a:pt x="5" y="25"/>
                      </a:lnTo>
                      <a:lnTo>
                        <a:pt x="0" y="47"/>
                      </a:lnTo>
                      <a:lnTo>
                        <a:pt x="24" y="94"/>
                      </a:lnTo>
                      <a:lnTo>
                        <a:pt x="70" y="42"/>
                      </a:lnTo>
                      <a:lnTo>
                        <a:pt x="112" y="2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242040" y="6103800"/>
                <a:ext cx="46080" cy="50760"/>
                <a:chOff x="6242040" y="6103800"/>
                <a:chExt cx="46080" cy="50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242040" y="610380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127" h="142">
                      <a:moveTo>
                        <a:pt x="126" y="0"/>
                      </a:moveTo>
                      <a:lnTo>
                        <a:pt x="32" y="32"/>
                      </a:lnTo>
                      <a:lnTo>
                        <a:pt x="0" y="141"/>
                      </a:lnTo>
                      <a:lnTo>
                        <a:pt x="49" y="133"/>
                      </a:lnTo>
                      <a:lnTo>
                        <a:pt x="61" y="4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605480" y="6173640"/>
                <a:ext cx="220680" cy="258840"/>
                <a:chOff x="4605480" y="6173640"/>
                <a:chExt cx="220680" cy="2588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605480" y="6173640"/>
                  <a:ext cx="220680" cy="258840"/>
                </a:xfrm>
                <a:custGeom>
                  <a:avLst/>
                  <a:gdLst/>
                  <a:ahLst/>
                  <a:rect l="l" t="t" r="r" b="b"/>
                  <a:pathLst>
                    <a:path w="615" h="720">
                      <a:moveTo>
                        <a:pt x="168" y="0"/>
                      </a:moveTo>
                      <a:lnTo>
                        <a:pt x="156" y="157"/>
                      </a:lnTo>
                      <a:lnTo>
                        <a:pt x="57" y="166"/>
                      </a:lnTo>
                      <a:lnTo>
                        <a:pt x="0" y="136"/>
                      </a:lnTo>
                      <a:lnTo>
                        <a:pt x="193" y="223"/>
                      </a:lnTo>
                      <a:lnTo>
                        <a:pt x="236" y="272"/>
                      </a:lnTo>
                      <a:lnTo>
                        <a:pt x="283" y="324"/>
                      </a:lnTo>
                      <a:lnTo>
                        <a:pt x="332" y="382"/>
                      </a:lnTo>
                      <a:lnTo>
                        <a:pt x="384" y="448"/>
                      </a:lnTo>
                      <a:lnTo>
                        <a:pt x="426" y="502"/>
                      </a:lnTo>
                      <a:lnTo>
                        <a:pt x="459" y="575"/>
                      </a:lnTo>
                      <a:lnTo>
                        <a:pt x="349" y="585"/>
                      </a:lnTo>
                      <a:lnTo>
                        <a:pt x="257" y="563"/>
                      </a:lnTo>
                      <a:lnTo>
                        <a:pt x="422" y="719"/>
                      </a:lnTo>
                      <a:lnTo>
                        <a:pt x="553" y="719"/>
                      </a:lnTo>
                      <a:lnTo>
                        <a:pt x="614" y="648"/>
                      </a:lnTo>
                      <a:lnTo>
                        <a:pt x="575" y="502"/>
                      </a:lnTo>
                      <a:lnTo>
                        <a:pt x="440" y="347"/>
                      </a:lnTo>
                      <a:lnTo>
                        <a:pt x="360" y="267"/>
                      </a:lnTo>
                      <a:lnTo>
                        <a:pt x="306" y="65"/>
                      </a:lnTo>
                      <a:lnTo>
                        <a:pt x="238" y="14"/>
                      </a:lnTo>
                    </a:path>
                  </a:pathLst>
                </a:custGeom>
                <a:solidFill>
                  <a:srgbClr val="b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292800" y="6134040"/>
                <a:ext cx="33480" cy="65160"/>
                <a:chOff x="6292800" y="6134040"/>
                <a:chExt cx="33480" cy="651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292800" y="6134040"/>
                  <a:ext cx="33480" cy="65160"/>
                </a:xfrm>
                <a:custGeom>
                  <a:avLst/>
                  <a:gdLst/>
                  <a:ahLst/>
                  <a:rect l="l" t="t" r="r" b="b"/>
                  <a:pathLst>
                    <a:path w="94" h="180">
                      <a:moveTo>
                        <a:pt x="64" y="0"/>
                      </a:moveTo>
                      <a:lnTo>
                        <a:pt x="6" y="65"/>
                      </a:lnTo>
                      <a:lnTo>
                        <a:pt x="0" y="115"/>
                      </a:lnTo>
                      <a:lnTo>
                        <a:pt x="27" y="179"/>
                      </a:lnTo>
                      <a:lnTo>
                        <a:pt x="93" y="174"/>
                      </a:lnTo>
                      <a:lnTo>
                        <a:pt x="43" y="8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359400" y="6143760"/>
                <a:ext cx="38160" cy="61920"/>
                <a:chOff x="6359400" y="6143760"/>
                <a:chExt cx="38160" cy="619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359400" y="6143760"/>
                  <a:ext cx="38160" cy="61920"/>
                </a:xfrm>
                <a:custGeom>
                  <a:avLst/>
                  <a:gdLst/>
                  <a:ahLst/>
                  <a:rect l="l" t="t" r="r" b="b"/>
                  <a:pathLst>
                    <a:path w="104" h="171">
                      <a:moveTo>
                        <a:pt x="0" y="0"/>
                      </a:moveTo>
                      <a:lnTo>
                        <a:pt x="65" y="41"/>
                      </a:lnTo>
                      <a:lnTo>
                        <a:pt x="103" y="156"/>
                      </a:lnTo>
                      <a:lnTo>
                        <a:pt x="39" y="170"/>
                      </a:lnTo>
                      <a:lnTo>
                        <a:pt x="48" y="114"/>
                      </a:lnTo>
                      <a:lnTo>
                        <a:pt x="39" y="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381720" y="6119640"/>
                <a:ext cx="212760" cy="560520"/>
                <a:chOff x="6381720" y="6119640"/>
                <a:chExt cx="212760" cy="5605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381720" y="6119640"/>
                  <a:ext cx="212760" cy="560520"/>
                </a:xfrm>
                <a:custGeom>
                  <a:avLst/>
                  <a:gdLst/>
                  <a:ahLst/>
                  <a:rect l="l" t="t" r="r" b="b"/>
                  <a:pathLst>
                    <a:path w="591" h="1556">
                      <a:moveTo>
                        <a:pt x="489" y="338"/>
                      </a:moveTo>
                      <a:lnTo>
                        <a:pt x="461" y="303"/>
                      </a:lnTo>
                      <a:lnTo>
                        <a:pt x="372" y="211"/>
                      </a:lnTo>
                      <a:lnTo>
                        <a:pt x="306" y="157"/>
                      </a:lnTo>
                      <a:lnTo>
                        <a:pt x="219" y="101"/>
                      </a:lnTo>
                      <a:lnTo>
                        <a:pt x="118" y="47"/>
                      </a:lnTo>
                      <a:lnTo>
                        <a:pt x="0" y="0"/>
                      </a:lnTo>
                      <a:lnTo>
                        <a:pt x="76" y="70"/>
                      </a:lnTo>
                      <a:lnTo>
                        <a:pt x="153" y="167"/>
                      </a:lnTo>
                      <a:lnTo>
                        <a:pt x="276" y="449"/>
                      </a:lnTo>
                      <a:lnTo>
                        <a:pt x="330" y="402"/>
                      </a:lnTo>
                      <a:lnTo>
                        <a:pt x="428" y="421"/>
                      </a:lnTo>
                      <a:lnTo>
                        <a:pt x="306" y="465"/>
                      </a:lnTo>
                      <a:lnTo>
                        <a:pt x="177" y="524"/>
                      </a:lnTo>
                      <a:lnTo>
                        <a:pt x="163" y="557"/>
                      </a:lnTo>
                      <a:lnTo>
                        <a:pt x="337" y="557"/>
                      </a:lnTo>
                      <a:lnTo>
                        <a:pt x="250" y="592"/>
                      </a:lnTo>
                      <a:lnTo>
                        <a:pt x="243" y="618"/>
                      </a:lnTo>
                      <a:lnTo>
                        <a:pt x="424" y="630"/>
                      </a:lnTo>
                      <a:lnTo>
                        <a:pt x="297" y="663"/>
                      </a:lnTo>
                      <a:lnTo>
                        <a:pt x="172" y="710"/>
                      </a:lnTo>
                      <a:lnTo>
                        <a:pt x="179" y="757"/>
                      </a:lnTo>
                      <a:lnTo>
                        <a:pt x="464" y="802"/>
                      </a:lnTo>
                      <a:lnTo>
                        <a:pt x="233" y="839"/>
                      </a:lnTo>
                      <a:lnTo>
                        <a:pt x="210" y="863"/>
                      </a:lnTo>
                      <a:lnTo>
                        <a:pt x="391" y="903"/>
                      </a:lnTo>
                      <a:lnTo>
                        <a:pt x="264" y="919"/>
                      </a:lnTo>
                      <a:lnTo>
                        <a:pt x="259" y="933"/>
                      </a:lnTo>
                      <a:lnTo>
                        <a:pt x="374" y="1025"/>
                      </a:lnTo>
                      <a:lnTo>
                        <a:pt x="410" y="1082"/>
                      </a:lnTo>
                      <a:lnTo>
                        <a:pt x="358" y="1065"/>
                      </a:lnTo>
                      <a:lnTo>
                        <a:pt x="489" y="1277"/>
                      </a:lnTo>
                      <a:lnTo>
                        <a:pt x="504" y="1371"/>
                      </a:lnTo>
                      <a:lnTo>
                        <a:pt x="489" y="1423"/>
                      </a:lnTo>
                      <a:lnTo>
                        <a:pt x="445" y="1479"/>
                      </a:lnTo>
                      <a:lnTo>
                        <a:pt x="391" y="1515"/>
                      </a:lnTo>
                      <a:lnTo>
                        <a:pt x="271" y="1519"/>
                      </a:lnTo>
                      <a:lnTo>
                        <a:pt x="163" y="1456"/>
                      </a:lnTo>
                      <a:lnTo>
                        <a:pt x="99" y="1340"/>
                      </a:lnTo>
                      <a:lnTo>
                        <a:pt x="186" y="1371"/>
                      </a:lnTo>
                      <a:lnTo>
                        <a:pt x="320" y="1362"/>
                      </a:lnTo>
                      <a:lnTo>
                        <a:pt x="337" y="1404"/>
                      </a:lnTo>
                      <a:lnTo>
                        <a:pt x="374" y="1385"/>
                      </a:lnTo>
                      <a:lnTo>
                        <a:pt x="313" y="1312"/>
                      </a:lnTo>
                      <a:lnTo>
                        <a:pt x="301" y="1307"/>
                      </a:lnTo>
                      <a:lnTo>
                        <a:pt x="306" y="1340"/>
                      </a:lnTo>
                      <a:lnTo>
                        <a:pt x="212" y="1352"/>
                      </a:lnTo>
                      <a:lnTo>
                        <a:pt x="71" y="1289"/>
                      </a:lnTo>
                      <a:lnTo>
                        <a:pt x="106" y="1397"/>
                      </a:lnTo>
                      <a:lnTo>
                        <a:pt x="149" y="1472"/>
                      </a:lnTo>
                      <a:lnTo>
                        <a:pt x="196" y="1526"/>
                      </a:lnTo>
                      <a:lnTo>
                        <a:pt x="273" y="1555"/>
                      </a:lnTo>
                      <a:lnTo>
                        <a:pt x="386" y="1555"/>
                      </a:lnTo>
                      <a:lnTo>
                        <a:pt x="492" y="1510"/>
                      </a:lnTo>
                      <a:lnTo>
                        <a:pt x="551" y="1395"/>
                      </a:lnTo>
                      <a:lnTo>
                        <a:pt x="532" y="1275"/>
                      </a:lnTo>
                      <a:lnTo>
                        <a:pt x="492" y="1199"/>
                      </a:lnTo>
                      <a:lnTo>
                        <a:pt x="424" y="1105"/>
                      </a:lnTo>
                      <a:lnTo>
                        <a:pt x="471" y="1105"/>
                      </a:lnTo>
                      <a:lnTo>
                        <a:pt x="417" y="1032"/>
                      </a:lnTo>
                      <a:lnTo>
                        <a:pt x="365" y="976"/>
                      </a:lnTo>
                      <a:lnTo>
                        <a:pt x="301" y="940"/>
                      </a:lnTo>
                      <a:lnTo>
                        <a:pt x="506" y="1028"/>
                      </a:lnTo>
                      <a:lnTo>
                        <a:pt x="494" y="997"/>
                      </a:lnTo>
                      <a:lnTo>
                        <a:pt x="473" y="959"/>
                      </a:lnTo>
                      <a:lnTo>
                        <a:pt x="529" y="992"/>
                      </a:lnTo>
                      <a:lnTo>
                        <a:pt x="590" y="1037"/>
                      </a:lnTo>
                      <a:lnTo>
                        <a:pt x="560" y="988"/>
                      </a:lnTo>
                      <a:lnTo>
                        <a:pt x="504" y="929"/>
                      </a:lnTo>
                      <a:lnTo>
                        <a:pt x="435" y="877"/>
                      </a:lnTo>
                      <a:lnTo>
                        <a:pt x="374" y="839"/>
                      </a:lnTo>
                      <a:lnTo>
                        <a:pt x="515" y="851"/>
                      </a:lnTo>
                      <a:lnTo>
                        <a:pt x="551" y="816"/>
                      </a:lnTo>
                      <a:lnTo>
                        <a:pt x="480" y="776"/>
                      </a:lnTo>
                      <a:lnTo>
                        <a:pt x="388" y="745"/>
                      </a:lnTo>
                      <a:lnTo>
                        <a:pt x="252" y="722"/>
                      </a:lnTo>
                      <a:lnTo>
                        <a:pt x="548" y="635"/>
                      </a:lnTo>
                      <a:lnTo>
                        <a:pt x="515" y="606"/>
                      </a:lnTo>
                      <a:lnTo>
                        <a:pt x="454" y="599"/>
                      </a:lnTo>
                      <a:lnTo>
                        <a:pt x="311" y="599"/>
                      </a:lnTo>
                      <a:lnTo>
                        <a:pt x="482" y="536"/>
                      </a:lnTo>
                      <a:lnTo>
                        <a:pt x="297" y="510"/>
                      </a:lnTo>
                      <a:lnTo>
                        <a:pt x="391" y="472"/>
                      </a:lnTo>
                      <a:lnTo>
                        <a:pt x="489" y="432"/>
                      </a:lnTo>
                      <a:lnTo>
                        <a:pt x="433" y="395"/>
                      </a:lnTo>
                      <a:lnTo>
                        <a:pt x="332" y="374"/>
                      </a:lnTo>
                      <a:lnTo>
                        <a:pt x="294" y="305"/>
                      </a:lnTo>
                      <a:lnTo>
                        <a:pt x="254" y="237"/>
                      </a:lnTo>
                      <a:lnTo>
                        <a:pt x="198" y="164"/>
                      </a:lnTo>
                      <a:lnTo>
                        <a:pt x="278" y="199"/>
                      </a:lnTo>
                      <a:lnTo>
                        <a:pt x="428" y="364"/>
                      </a:lnTo>
                      <a:lnTo>
                        <a:pt x="482" y="35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6470640" y="6519960"/>
                <a:ext cx="42840" cy="47520"/>
                <a:chOff x="6470640" y="6519960"/>
                <a:chExt cx="42840" cy="475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470640" y="6519960"/>
                  <a:ext cx="42840" cy="47520"/>
                </a:xfrm>
                <a:custGeom>
                  <a:avLst/>
                  <a:gdLst/>
                  <a:ahLst/>
                  <a:rect l="l" t="t" r="r" b="b"/>
                  <a:pathLst>
                    <a:path w="118" h="132">
                      <a:moveTo>
                        <a:pt x="63" y="0"/>
                      </a:moveTo>
                      <a:lnTo>
                        <a:pt x="117" y="112"/>
                      </a:lnTo>
                      <a:lnTo>
                        <a:pt x="52" y="131"/>
                      </a:lnTo>
                      <a:lnTo>
                        <a:pt x="9" y="100"/>
                      </a:lnTo>
                      <a:lnTo>
                        <a:pt x="0" y="56"/>
                      </a:lnTo>
                      <a:lnTo>
                        <a:pt x="45" y="9"/>
                      </a:lnTo>
                      <a:lnTo>
                        <a:pt x="72" y="70"/>
                      </a:lnTo>
                      <a:lnTo>
                        <a:pt x="52" y="88"/>
                      </a:lnTo>
                      <a:lnTo>
                        <a:pt x="52" y="98"/>
                      </a:lnTo>
                      <a:lnTo>
                        <a:pt x="93" y="86"/>
                      </a:lnTo>
                      <a:lnTo>
                        <a:pt x="99" y="4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470640" y="6680160"/>
                <a:ext cx="187200" cy="208080"/>
                <a:chOff x="6470640" y="6680160"/>
                <a:chExt cx="187200" cy="2080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470640" y="6680160"/>
                  <a:ext cx="187200" cy="208080"/>
                </a:xfrm>
                <a:custGeom>
                  <a:avLst/>
                  <a:gdLst/>
                  <a:ahLst/>
                  <a:rect l="l" t="t" r="r" b="b"/>
                  <a:pathLst>
                    <a:path w="520" h="578">
                      <a:moveTo>
                        <a:pt x="280" y="0"/>
                      </a:moveTo>
                      <a:lnTo>
                        <a:pt x="350" y="79"/>
                      </a:lnTo>
                      <a:lnTo>
                        <a:pt x="411" y="164"/>
                      </a:lnTo>
                      <a:lnTo>
                        <a:pt x="468" y="262"/>
                      </a:lnTo>
                      <a:lnTo>
                        <a:pt x="519" y="546"/>
                      </a:lnTo>
                      <a:lnTo>
                        <a:pt x="414" y="577"/>
                      </a:lnTo>
                      <a:lnTo>
                        <a:pt x="322" y="506"/>
                      </a:lnTo>
                      <a:lnTo>
                        <a:pt x="240" y="433"/>
                      </a:lnTo>
                      <a:lnTo>
                        <a:pt x="193" y="398"/>
                      </a:lnTo>
                      <a:lnTo>
                        <a:pt x="139" y="361"/>
                      </a:lnTo>
                      <a:lnTo>
                        <a:pt x="73" y="326"/>
                      </a:lnTo>
                      <a:lnTo>
                        <a:pt x="0" y="288"/>
                      </a:lnTo>
                      <a:lnTo>
                        <a:pt x="78" y="309"/>
                      </a:lnTo>
                      <a:lnTo>
                        <a:pt x="233" y="377"/>
                      </a:lnTo>
                      <a:lnTo>
                        <a:pt x="355" y="473"/>
                      </a:lnTo>
                      <a:lnTo>
                        <a:pt x="404" y="527"/>
                      </a:lnTo>
                      <a:lnTo>
                        <a:pt x="482" y="499"/>
                      </a:lnTo>
                      <a:lnTo>
                        <a:pt x="449" y="384"/>
                      </a:lnTo>
                      <a:lnTo>
                        <a:pt x="409" y="267"/>
                      </a:lnTo>
                      <a:lnTo>
                        <a:pt x="355" y="1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6616800" y="6873840"/>
                <a:ext cx="41040" cy="34920"/>
                <a:chOff x="6616800" y="6873840"/>
                <a:chExt cx="41040" cy="349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616800" y="6873840"/>
                  <a:ext cx="41040" cy="34920"/>
                </a:xfrm>
                <a:custGeom>
                  <a:avLst/>
                  <a:gdLst/>
                  <a:ahLst/>
                  <a:rect l="l" t="t" r="r" b="b"/>
                  <a:pathLst>
                    <a:path w="114" h="95">
                      <a:moveTo>
                        <a:pt x="113" y="7"/>
                      </a:moveTo>
                      <a:lnTo>
                        <a:pt x="104" y="74"/>
                      </a:lnTo>
                      <a:lnTo>
                        <a:pt x="83" y="43"/>
                      </a:lnTo>
                      <a:lnTo>
                        <a:pt x="64" y="91"/>
                      </a:lnTo>
                      <a:lnTo>
                        <a:pt x="43" y="60"/>
                      </a:lnTo>
                      <a:lnTo>
                        <a:pt x="29" y="94"/>
                      </a:lnTo>
                      <a:lnTo>
                        <a:pt x="0" y="28"/>
                      </a:lnTo>
                      <a:lnTo>
                        <a:pt x="24" y="55"/>
                      </a:lnTo>
                      <a:lnTo>
                        <a:pt x="41" y="14"/>
                      </a:lnTo>
                      <a:lnTo>
                        <a:pt x="59" y="60"/>
                      </a:lnTo>
                      <a:lnTo>
                        <a:pt x="81" y="0"/>
                      </a:lnTo>
                      <a:lnTo>
                        <a:pt x="102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222960" y="6459480"/>
                <a:ext cx="117360" cy="177840"/>
                <a:chOff x="6222960" y="6459480"/>
                <a:chExt cx="117360" cy="1778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222960" y="6459480"/>
                  <a:ext cx="117360" cy="177840"/>
                </a:xfrm>
                <a:custGeom>
                  <a:avLst/>
                  <a:gdLst/>
                  <a:ahLst/>
                  <a:rect l="l" t="t" r="r" b="b"/>
                  <a:pathLst>
                    <a:path w="325" h="493">
                      <a:moveTo>
                        <a:pt x="308" y="79"/>
                      </a:moveTo>
                      <a:lnTo>
                        <a:pt x="278" y="65"/>
                      </a:lnTo>
                      <a:lnTo>
                        <a:pt x="201" y="32"/>
                      </a:lnTo>
                      <a:lnTo>
                        <a:pt x="101" y="7"/>
                      </a:lnTo>
                      <a:lnTo>
                        <a:pt x="0" y="0"/>
                      </a:lnTo>
                      <a:lnTo>
                        <a:pt x="255" y="492"/>
                      </a:lnTo>
                      <a:lnTo>
                        <a:pt x="324" y="474"/>
                      </a:lnTo>
                      <a:lnTo>
                        <a:pt x="271" y="331"/>
                      </a:lnTo>
                      <a:lnTo>
                        <a:pt x="234" y="261"/>
                      </a:lnTo>
                      <a:lnTo>
                        <a:pt x="189" y="189"/>
                      </a:lnTo>
                      <a:lnTo>
                        <a:pt x="126" y="112"/>
                      </a:lnTo>
                      <a:lnTo>
                        <a:pt x="49" y="35"/>
                      </a:lnTo>
                      <a:lnTo>
                        <a:pt x="210" y="7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53200" y="6818400"/>
                <a:ext cx="223920" cy="152280"/>
                <a:chOff x="6253200" y="6818400"/>
                <a:chExt cx="223920" cy="1522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53200" y="6818400"/>
                  <a:ext cx="223920" cy="152280"/>
                </a:xfrm>
                <a:custGeom>
                  <a:avLst/>
                  <a:gdLst/>
                  <a:ahLst/>
                  <a:rect l="l" t="t" r="r" b="b"/>
                  <a:pathLst>
                    <a:path w="623" h="424">
                      <a:moveTo>
                        <a:pt x="620" y="0"/>
                      </a:moveTo>
                      <a:lnTo>
                        <a:pt x="622" y="18"/>
                      </a:lnTo>
                      <a:lnTo>
                        <a:pt x="505" y="63"/>
                      </a:lnTo>
                      <a:lnTo>
                        <a:pt x="435" y="103"/>
                      </a:lnTo>
                      <a:lnTo>
                        <a:pt x="357" y="150"/>
                      </a:lnTo>
                      <a:lnTo>
                        <a:pt x="193" y="274"/>
                      </a:lnTo>
                      <a:lnTo>
                        <a:pt x="116" y="345"/>
                      </a:lnTo>
                      <a:lnTo>
                        <a:pt x="43" y="423"/>
                      </a:lnTo>
                      <a:lnTo>
                        <a:pt x="0" y="376"/>
                      </a:lnTo>
                      <a:lnTo>
                        <a:pt x="54" y="300"/>
                      </a:lnTo>
                      <a:lnTo>
                        <a:pt x="118" y="237"/>
                      </a:lnTo>
                      <a:lnTo>
                        <a:pt x="188" y="180"/>
                      </a:lnTo>
                      <a:lnTo>
                        <a:pt x="266" y="131"/>
                      </a:lnTo>
                      <a:lnTo>
                        <a:pt x="348" y="91"/>
                      </a:lnTo>
                      <a:lnTo>
                        <a:pt x="437" y="5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323040" y="6643800"/>
                <a:ext cx="149040" cy="85680"/>
                <a:chOff x="6323040" y="6643800"/>
                <a:chExt cx="149040" cy="856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23040" y="6643800"/>
                  <a:ext cx="149040" cy="85680"/>
                </a:xfrm>
                <a:custGeom>
                  <a:avLst/>
                  <a:gdLst/>
                  <a:ahLst/>
                  <a:rect l="l" t="t" r="r" b="b"/>
                  <a:pathLst>
                    <a:path w="413" h="240">
                      <a:moveTo>
                        <a:pt x="412" y="189"/>
                      </a:moveTo>
                      <a:lnTo>
                        <a:pt x="371" y="163"/>
                      </a:lnTo>
                      <a:lnTo>
                        <a:pt x="324" y="133"/>
                      </a:lnTo>
                      <a:lnTo>
                        <a:pt x="268" y="99"/>
                      </a:lnTo>
                      <a:lnTo>
                        <a:pt x="205" y="66"/>
                      </a:lnTo>
                      <a:lnTo>
                        <a:pt x="136" y="34"/>
                      </a:lnTo>
                      <a:lnTo>
                        <a:pt x="5" y="0"/>
                      </a:lnTo>
                      <a:lnTo>
                        <a:pt x="0" y="36"/>
                      </a:lnTo>
                      <a:lnTo>
                        <a:pt x="94" y="115"/>
                      </a:lnTo>
                      <a:lnTo>
                        <a:pt x="152" y="156"/>
                      </a:lnTo>
                      <a:lnTo>
                        <a:pt x="208" y="198"/>
                      </a:lnTo>
                      <a:lnTo>
                        <a:pt x="275" y="239"/>
                      </a:lnTo>
                      <a:lnTo>
                        <a:pt x="210" y="166"/>
                      </a:lnTo>
                      <a:lnTo>
                        <a:pt x="89" y="62"/>
                      </a:lnTo>
                      <a:lnTo>
                        <a:pt x="375" y="23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316560" y="6680160"/>
                <a:ext cx="119160" cy="120600"/>
                <a:chOff x="6316560" y="6680160"/>
                <a:chExt cx="119160" cy="1206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316560" y="6680160"/>
                  <a:ext cx="119160" cy="120600"/>
                </a:xfrm>
                <a:custGeom>
                  <a:avLst/>
                  <a:gdLst/>
                  <a:ahLst/>
                  <a:rect l="l" t="t" r="r" b="b"/>
                  <a:pathLst>
                    <a:path w="329" h="335">
                      <a:moveTo>
                        <a:pt x="328" y="334"/>
                      </a:moveTo>
                      <a:lnTo>
                        <a:pt x="259" y="243"/>
                      </a:lnTo>
                      <a:lnTo>
                        <a:pt x="194" y="169"/>
                      </a:lnTo>
                      <a:lnTo>
                        <a:pt x="131" y="95"/>
                      </a:lnTo>
                      <a:lnTo>
                        <a:pt x="54" y="25"/>
                      </a:lnTo>
                      <a:lnTo>
                        <a:pt x="0" y="0"/>
                      </a:lnTo>
                      <a:lnTo>
                        <a:pt x="35" y="30"/>
                      </a:lnTo>
                      <a:lnTo>
                        <a:pt x="59" y="57"/>
                      </a:lnTo>
                      <a:lnTo>
                        <a:pt x="10" y="67"/>
                      </a:lnTo>
                      <a:lnTo>
                        <a:pt x="80" y="150"/>
                      </a:lnTo>
                      <a:lnTo>
                        <a:pt x="154" y="257"/>
                      </a:lnTo>
                      <a:lnTo>
                        <a:pt x="154" y="199"/>
                      </a:lnTo>
                      <a:lnTo>
                        <a:pt x="91" y="127"/>
                      </a:lnTo>
                      <a:lnTo>
                        <a:pt x="68" y="85"/>
                      </a:lnTo>
                      <a:lnTo>
                        <a:pt x="114" y="127"/>
                      </a:lnTo>
                      <a:lnTo>
                        <a:pt x="210" y="218"/>
                      </a:lnTo>
                      <a:lnTo>
                        <a:pt x="298" y="30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143760" y="6699240"/>
                <a:ext cx="188640" cy="52560"/>
                <a:chOff x="6143760" y="6699240"/>
                <a:chExt cx="188640" cy="52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143760" y="6699240"/>
                  <a:ext cx="188640" cy="52560"/>
                </a:xfrm>
                <a:custGeom>
                  <a:avLst/>
                  <a:gdLst/>
                  <a:ahLst/>
                  <a:rect l="l" t="t" r="r" b="b"/>
                  <a:pathLst>
                    <a:path w="526" h="146">
                      <a:moveTo>
                        <a:pt x="493" y="81"/>
                      </a:moveTo>
                      <a:lnTo>
                        <a:pt x="391" y="25"/>
                      </a:lnTo>
                      <a:lnTo>
                        <a:pt x="302" y="0"/>
                      </a:lnTo>
                      <a:lnTo>
                        <a:pt x="128" y="18"/>
                      </a:lnTo>
                      <a:lnTo>
                        <a:pt x="42" y="84"/>
                      </a:lnTo>
                      <a:lnTo>
                        <a:pt x="0" y="145"/>
                      </a:lnTo>
                      <a:lnTo>
                        <a:pt x="75" y="95"/>
                      </a:lnTo>
                      <a:lnTo>
                        <a:pt x="172" y="53"/>
                      </a:lnTo>
                      <a:lnTo>
                        <a:pt x="289" y="37"/>
                      </a:lnTo>
                      <a:lnTo>
                        <a:pt x="421" y="63"/>
                      </a:lnTo>
                      <a:lnTo>
                        <a:pt x="495" y="107"/>
                      </a:lnTo>
                      <a:lnTo>
                        <a:pt x="525" y="13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5945040" y="5951520"/>
                <a:ext cx="147960" cy="169920"/>
                <a:chOff x="5945040" y="5951520"/>
                <a:chExt cx="147960" cy="1699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5945040" y="5951520"/>
                  <a:ext cx="147960" cy="169920"/>
                </a:xfrm>
                <a:custGeom>
                  <a:avLst/>
                  <a:gdLst/>
                  <a:ahLst/>
                  <a:rect l="l" t="t" r="r" b="b"/>
                  <a:pathLst>
                    <a:path w="412" h="470">
                      <a:moveTo>
                        <a:pt x="0" y="0"/>
                      </a:moveTo>
                      <a:lnTo>
                        <a:pt x="122" y="2"/>
                      </a:lnTo>
                      <a:lnTo>
                        <a:pt x="282" y="66"/>
                      </a:lnTo>
                      <a:lnTo>
                        <a:pt x="376" y="179"/>
                      </a:lnTo>
                      <a:lnTo>
                        <a:pt x="411" y="292"/>
                      </a:lnTo>
                      <a:lnTo>
                        <a:pt x="393" y="469"/>
                      </a:lnTo>
                      <a:lnTo>
                        <a:pt x="348" y="458"/>
                      </a:lnTo>
                      <a:lnTo>
                        <a:pt x="341" y="311"/>
                      </a:lnTo>
                      <a:lnTo>
                        <a:pt x="327" y="238"/>
                      </a:lnTo>
                      <a:lnTo>
                        <a:pt x="294" y="170"/>
                      </a:lnTo>
                      <a:lnTo>
                        <a:pt x="247" y="108"/>
                      </a:lnTo>
                      <a:lnTo>
                        <a:pt x="183" y="56"/>
                      </a:lnTo>
                      <a:lnTo>
                        <a:pt x="101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081840" y="5954760"/>
                <a:ext cx="93600" cy="119160"/>
                <a:chOff x="6081840" y="5954760"/>
                <a:chExt cx="93600" cy="119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081840" y="5954760"/>
                  <a:ext cx="93600" cy="119160"/>
                </a:xfrm>
                <a:custGeom>
                  <a:avLst/>
                  <a:gdLst/>
                  <a:ahLst/>
                  <a:rect l="l" t="t" r="r" b="b"/>
                  <a:pathLst>
                    <a:path w="259" h="330">
                      <a:moveTo>
                        <a:pt x="0" y="134"/>
                      </a:moveTo>
                      <a:lnTo>
                        <a:pt x="30" y="74"/>
                      </a:lnTo>
                      <a:lnTo>
                        <a:pt x="67" y="25"/>
                      </a:lnTo>
                      <a:lnTo>
                        <a:pt x="118" y="0"/>
                      </a:lnTo>
                      <a:lnTo>
                        <a:pt x="189" y="13"/>
                      </a:lnTo>
                      <a:lnTo>
                        <a:pt x="238" y="57"/>
                      </a:lnTo>
                      <a:lnTo>
                        <a:pt x="258" y="122"/>
                      </a:lnTo>
                      <a:lnTo>
                        <a:pt x="256" y="187"/>
                      </a:lnTo>
                      <a:lnTo>
                        <a:pt x="229" y="243"/>
                      </a:lnTo>
                      <a:lnTo>
                        <a:pt x="162" y="301"/>
                      </a:lnTo>
                      <a:lnTo>
                        <a:pt x="58" y="329"/>
                      </a:lnTo>
                      <a:lnTo>
                        <a:pt x="104" y="303"/>
                      </a:lnTo>
                      <a:lnTo>
                        <a:pt x="169" y="257"/>
                      </a:lnTo>
                      <a:lnTo>
                        <a:pt x="208" y="150"/>
                      </a:lnTo>
                      <a:lnTo>
                        <a:pt x="169" y="76"/>
                      </a:lnTo>
                      <a:lnTo>
                        <a:pt x="97" y="64"/>
                      </a:lnTo>
                      <a:lnTo>
                        <a:pt x="33" y="1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059520" y="5918040"/>
                <a:ext cx="101520" cy="78120"/>
                <a:chOff x="6059520" y="5918040"/>
                <a:chExt cx="101520" cy="781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059520" y="5918040"/>
                  <a:ext cx="101520" cy="78120"/>
                </a:xfrm>
                <a:custGeom>
                  <a:avLst/>
                  <a:gdLst/>
                  <a:ahLst/>
                  <a:rect l="l" t="t" r="r" b="b"/>
                  <a:pathLst>
                    <a:path w="282" h="218">
                      <a:moveTo>
                        <a:pt x="281" y="106"/>
                      </a:moveTo>
                      <a:lnTo>
                        <a:pt x="244" y="56"/>
                      </a:lnTo>
                      <a:lnTo>
                        <a:pt x="193" y="21"/>
                      </a:lnTo>
                      <a:lnTo>
                        <a:pt x="122" y="0"/>
                      </a:lnTo>
                      <a:lnTo>
                        <a:pt x="57" y="11"/>
                      </a:lnTo>
                      <a:lnTo>
                        <a:pt x="19" y="49"/>
                      </a:lnTo>
                      <a:lnTo>
                        <a:pt x="0" y="110"/>
                      </a:lnTo>
                      <a:lnTo>
                        <a:pt x="15" y="217"/>
                      </a:lnTo>
                      <a:lnTo>
                        <a:pt x="24" y="127"/>
                      </a:lnTo>
                      <a:lnTo>
                        <a:pt x="59" y="63"/>
                      </a:lnTo>
                      <a:lnTo>
                        <a:pt x="127" y="35"/>
                      </a:lnTo>
                      <a:lnTo>
                        <a:pt x="230" y="6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815080" y="5880240"/>
                <a:ext cx="127080" cy="118800"/>
                <a:chOff x="5815080" y="5880240"/>
                <a:chExt cx="127080" cy="1188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815080" y="5880240"/>
                  <a:ext cx="127080" cy="118800"/>
                </a:xfrm>
                <a:custGeom>
                  <a:avLst/>
                  <a:gdLst/>
                  <a:ahLst/>
                  <a:rect l="l" t="t" r="r" b="b"/>
                  <a:pathLst>
                    <a:path w="353" h="330">
                      <a:moveTo>
                        <a:pt x="83" y="329"/>
                      </a:moveTo>
                      <a:lnTo>
                        <a:pt x="62" y="286"/>
                      </a:lnTo>
                      <a:lnTo>
                        <a:pt x="38" y="202"/>
                      </a:lnTo>
                      <a:lnTo>
                        <a:pt x="67" y="91"/>
                      </a:lnTo>
                      <a:lnTo>
                        <a:pt x="102" y="58"/>
                      </a:lnTo>
                      <a:lnTo>
                        <a:pt x="208" y="47"/>
                      </a:lnTo>
                      <a:lnTo>
                        <a:pt x="277" y="91"/>
                      </a:lnTo>
                      <a:lnTo>
                        <a:pt x="338" y="190"/>
                      </a:lnTo>
                      <a:lnTo>
                        <a:pt x="352" y="117"/>
                      </a:lnTo>
                      <a:lnTo>
                        <a:pt x="329" y="77"/>
                      </a:lnTo>
                      <a:lnTo>
                        <a:pt x="275" y="28"/>
                      </a:lnTo>
                      <a:lnTo>
                        <a:pt x="197" y="0"/>
                      </a:lnTo>
                      <a:lnTo>
                        <a:pt x="100" y="21"/>
                      </a:lnTo>
                      <a:lnTo>
                        <a:pt x="0" y="159"/>
                      </a:lnTo>
                      <a:lnTo>
                        <a:pt x="15" y="232"/>
                      </a:lnTo>
                      <a:lnTo>
                        <a:pt x="38" y="27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5862600" y="5910120"/>
                <a:ext cx="39600" cy="65160"/>
                <a:chOff x="5862600" y="5910120"/>
                <a:chExt cx="39600" cy="651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5862600" y="591012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109" h="180">
                      <a:moveTo>
                        <a:pt x="89" y="23"/>
                      </a:moveTo>
                      <a:lnTo>
                        <a:pt x="108" y="155"/>
                      </a:lnTo>
                      <a:lnTo>
                        <a:pt x="84" y="179"/>
                      </a:lnTo>
                      <a:lnTo>
                        <a:pt x="94" y="81"/>
                      </a:lnTo>
                      <a:lnTo>
                        <a:pt x="48" y="21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99240" y="6286680"/>
                <a:ext cx="136440" cy="206280"/>
                <a:chOff x="6699240" y="6286680"/>
                <a:chExt cx="136440" cy="206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9240" y="6286680"/>
                  <a:ext cx="136440" cy="206280"/>
                </a:xfrm>
                <a:custGeom>
                  <a:avLst/>
                  <a:gdLst/>
                  <a:ahLst/>
                  <a:rect l="l" t="t" r="r" b="b"/>
                  <a:pathLst>
                    <a:path w="381" h="574">
                      <a:moveTo>
                        <a:pt x="380" y="134"/>
                      </a:moveTo>
                      <a:lnTo>
                        <a:pt x="187" y="254"/>
                      </a:lnTo>
                      <a:lnTo>
                        <a:pt x="222" y="573"/>
                      </a:lnTo>
                      <a:lnTo>
                        <a:pt x="154" y="254"/>
                      </a:lnTo>
                      <a:lnTo>
                        <a:pt x="10" y="106"/>
                      </a:lnTo>
                      <a:lnTo>
                        <a:pt x="0" y="70"/>
                      </a:lnTo>
                      <a:lnTo>
                        <a:pt x="345" y="0"/>
                      </a:lnTo>
                      <a:lnTo>
                        <a:pt x="45" y="89"/>
                      </a:lnTo>
                      <a:lnTo>
                        <a:pt x="168" y="219"/>
                      </a:lnTo>
                      <a:lnTo>
                        <a:pt x="355" y="134"/>
                      </a:lnTo>
                      <a:lnTo>
                        <a:pt x="331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777000" y="6334200"/>
                <a:ext cx="100080" cy="158760"/>
                <a:chOff x="6777000" y="6334200"/>
                <a:chExt cx="100080" cy="1587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777000" y="633420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277" h="443">
                      <a:moveTo>
                        <a:pt x="141" y="6"/>
                      </a:moveTo>
                      <a:lnTo>
                        <a:pt x="162" y="0"/>
                      </a:lnTo>
                      <a:lnTo>
                        <a:pt x="276" y="272"/>
                      </a:lnTo>
                      <a:lnTo>
                        <a:pt x="5" y="442"/>
                      </a:lnTo>
                      <a:lnTo>
                        <a:pt x="0" y="393"/>
                      </a:lnTo>
                      <a:lnTo>
                        <a:pt x="248" y="26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586560" y="6313320"/>
                <a:ext cx="125280" cy="379440"/>
                <a:chOff x="6586560" y="6313320"/>
                <a:chExt cx="125280" cy="3794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586560" y="6313320"/>
                  <a:ext cx="125280" cy="379440"/>
                </a:xfrm>
                <a:custGeom>
                  <a:avLst/>
                  <a:gdLst/>
                  <a:ahLst/>
                  <a:rect l="l" t="t" r="r" b="b"/>
                  <a:pathLst>
                    <a:path w="347" h="1053">
                      <a:moveTo>
                        <a:pt x="326" y="0"/>
                      </a:moveTo>
                      <a:lnTo>
                        <a:pt x="307" y="387"/>
                      </a:lnTo>
                      <a:lnTo>
                        <a:pt x="28" y="368"/>
                      </a:lnTo>
                      <a:lnTo>
                        <a:pt x="0" y="833"/>
                      </a:lnTo>
                      <a:lnTo>
                        <a:pt x="128" y="1052"/>
                      </a:lnTo>
                      <a:lnTo>
                        <a:pt x="281" y="828"/>
                      </a:lnTo>
                      <a:lnTo>
                        <a:pt x="244" y="781"/>
                      </a:lnTo>
                      <a:lnTo>
                        <a:pt x="135" y="993"/>
                      </a:lnTo>
                      <a:lnTo>
                        <a:pt x="47" y="824"/>
                      </a:lnTo>
                      <a:lnTo>
                        <a:pt x="47" y="399"/>
                      </a:lnTo>
                      <a:lnTo>
                        <a:pt x="346" y="439"/>
                      </a:lnTo>
                      <a:lnTo>
                        <a:pt x="342" y="3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595920" y="6448320"/>
                <a:ext cx="187560" cy="163440"/>
                <a:chOff x="6595920" y="6448320"/>
                <a:chExt cx="187560" cy="1634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595920" y="6448320"/>
                  <a:ext cx="187560" cy="163440"/>
                </a:xfrm>
                <a:custGeom>
                  <a:avLst/>
                  <a:gdLst/>
                  <a:ahLst/>
                  <a:rect l="l" t="t" r="r" b="b"/>
                  <a:pathLst>
                    <a:path w="521" h="456">
                      <a:moveTo>
                        <a:pt x="306" y="58"/>
                      </a:moveTo>
                      <a:lnTo>
                        <a:pt x="485" y="129"/>
                      </a:lnTo>
                      <a:lnTo>
                        <a:pt x="415" y="393"/>
                      </a:lnTo>
                      <a:lnTo>
                        <a:pt x="236" y="400"/>
                      </a:lnTo>
                      <a:lnTo>
                        <a:pt x="22" y="0"/>
                      </a:lnTo>
                      <a:lnTo>
                        <a:pt x="0" y="44"/>
                      </a:lnTo>
                      <a:lnTo>
                        <a:pt x="222" y="455"/>
                      </a:lnTo>
                      <a:lnTo>
                        <a:pt x="429" y="431"/>
                      </a:lnTo>
                      <a:lnTo>
                        <a:pt x="520" y="110"/>
                      </a:lnTo>
                      <a:lnTo>
                        <a:pt x="306" y="2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632640" y="6591240"/>
                <a:ext cx="122040" cy="131760"/>
                <a:chOff x="6632640" y="6591240"/>
                <a:chExt cx="122040" cy="1317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632640" y="6591240"/>
                  <a:ext cx="122040" cy="131760"/>
                </a:xfrm>
                <a:custGeom>
                  <a:avLst/>
                  <a:gdLst/>
                  <a:ahLst/>
                  <a:rect l="l" t="t" r="r" b="b"/>
                  <a:pathLst>
                    <a:path w="339" h="368">
                      <a:moveTo>
                        <a:pt x="334" y="0"/>
                      </a:moveTo>
                      <a:lnTo>
                        <a:pt x="334" y="367"/>
                      </a:lnTo>
                      <a:lnTo>
                        <a:pt x="338" y="355"/>
                      </a:lnTo>
                      <a:lnTo>
                        <a:pt x="0" y="277"/>
                      </a:lnTo>
                      <a:lnTo>
                        <a:pt x="8" y="239"/>
                      </a:lnTo>
                      <a:lnTo>
                        <a:pt x="279" y="30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099120" y="6362640"/>
                <a:ext cx="255600" cy="193680"/>
                <a:chOff x="6099120" y="6362640"/>
                <a:chExt cx="255600" cy="1936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099120" y="6362640"/>
                  <a:ext cx="255600" cy="193680"/>
                </a:xfrm>
                <a:custGeom>
                  <a:avLst/>
                  <a:gdLst/>
                  <a:ahLst/>
                  <a:rect l="l" t="t" r="r" b="b"/>
                  <a:pathLst>
                    <a:path w="708" h="537">
                      <a:moveTo>
                        <a:pt x="682" y="241"/>
                      </a:moveTo>
                      <a:lnTo>
                        <a:pt x="268" y="44"/>
                      </a:lnTo>
                      <a:lnTo>
                        <a:pt x="59" y="339"/>
                      </a:lnTo>
                      <a:lnTo>
                        <a:pt x="264" y="477"/>
                      </a:lnTo>
                      <a:lnTo>
                        <a:pt x="470" y="388"/>
                      </a:lnTo>
                      <a:lnTo>
                        <a:pt x="285" y="536"/>
                      </a:lnTo>
                      <a:lnTo>
                        <a:pt x="0" y="372"/>
                      </a:lnTo>
                      <a:lnTo>
                        <a:pt x="235" y="0"/>
                      </a:lnTo>
                      <a:lnTo>
                        <a:pt x="707" y="2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105600" y="6499080"/>
                <a:ext cx="189000" cy="181080"/>
                <a:chOff x="6105600" y="6499080"/>
                <a:chExt cx="189000" cy="1810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6105600" y="6499080"/>
                  <a:ext cx="189000" cy="181080"/>
                </a:xfrm>
                <a:custGeom>
                  <a:avLst/>
                  <a:gdLst/>
                  <a:ahLst/>
                  <a:rect l="l" t="t" r="r" b="b"/>
                  <a:pathLst>
                    <a:path w="526" h="504">
                      <a:moveTo>
                        <a:pt x="261" y="125"/>
                      </a:moveTo>
                      <a:lnTo>
                        <a:pt x="291" y="441"/>
                      </a:lnTo>
                      <a:lnTo>
                        <a:pt x="493" y="396"/>
                      </a:lnTo>
                      <a:lnTo>
                        <a:pt x="525" y="406"/>
                      </a:lnTo>
                      <a:lnTo>
                        <a:pt x="284" y="503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52" y="14"/>
                      </a:lnTo>
                      <a:lnTo>
                        <a:pt x="22" y="382"/>
                      </a:lnTo>
                      <a:lnTo>
                        <a:pt x="225" y="43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997600" y="6013440"/>
                <a:ext cx="34920" cy="31680"/>
                <a:chOff x="5997600" y="6013440"/>
                <a:chExt cx="34920" cy="316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997600" y="601344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95" h="90">
                      <a:moveTo>
                        <a:pt x="36" y="0"/>
                      </a:moveTo>
                      <a:lnTo>
                        <a:pt x="94" y="34"/>
                      </a:lnTo>
                      <a:lnTo>
                        <a:pt x="76" y="34"/>
                      </a:lnTo>
                      <a:lnTo>
                        <a:pt x="33" y="23"/>
                      </a:lnTo>
                      <a:lnTo>
                        <a:pt x="17" y="57"/>
                      </a:lnTo>
                      <a:lnTo>
                        <a:pt x="50" y="57"/>
                      </a:lnTo>
                      <a:lnTo>
                        <a:pt x="50" y="36"/>
                      </a:lnTo>
                      <a:lnTo>
                        <a:pt x="80" y="53"/>
                      </a:lnTo>
                      <a:lnTo>
                        <a:pt x="69" y="89"/>
                      </a:lnTo>
                      <a:lnTo>
                        <a:pt x="5" y="7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925960" y="5972040"/>
                <a:ext cx="32040" cy="38160"/>
                <a:chOff x="5925960" y="5972040"/>
                <a:chExt cx="32040" cy="38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5925960" y="5972040"/>
                  <a:ext cx="32040" cy="38160"/>
                </a:xfrm>
                <a:custGeom>
                  <a:avLst/>
                  <a:gdLst/>
                  <a:ahLst/>
                  <a:rect l="l" t="t" r="r" b="b"/>
                  <a:pathLst>
                    <a:path w="86" h="105">
                      <a:moveTo>
                        <a:pt x="23" y="77"/>
                      </a:moveTo>
                      <a:lnTo>
                        <a:pt x="70" y="99"/>
                      </a:lnTo>
                      <a:lnTo>
                        <a:pt x="85" y="9"/>
                      </a:lnTo>
                      <a:lnTo>
                        <a:pt x="35" y="0"/>
                      </a:lnTo>
                      <a:lnTo>
                        <a:pt x="5" y="16"/>
                      </a:lnTo>
                      <a:lnTo>
                        <a:pt x="0" y="104"/>
                      </a:lnTo>
                      <a:lnTo>
                        <a:pt x="13" y="104"/>
                      </a:lnTo>
                      <a:lnTo>
                        <a:pt x="40" y="38"/>
                      </a:lnTo>
                      <a:lnTo>
                        <a:pt x="50" y="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5835600" y="5981760"/>
                <a:ext cx="196920" cy="222120"/>
                <a:chOff x="5835600" y="5981760"/>
                <a:chExt cx="196920" cy="222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5835600" y="5981760"/>
                  <a:ext cx="196920" cy="222120"/>
                </a:xfrm>
                <a:custGeom>
                  <a:avLst/>
                  <a:gdLst/>
                  <a:ahLst/>
                  <a:rect l="l" t="t" r="r" b="b"/>
                  <a:pathLst>
                    <a:path w="545" h="617">
                      <a:moveTo>
                        <a:pt x="257" y="169"/>
                      </a:moveTo>
                      <a:lnTo>
                        <a:pt x="500" y="282"/>
                      </a:lnTo>
                      <a:lnTo>
                        <a:pt x="544" y="383"/>
                      </a:lnTo>
                      <a:lnTo>
                        <a:pt x="523" y="489"/>
                      </a:lnTo>
                      <a:lnTo>
                        <a:pt x="493" y="533"/>
                      </a:lnTo>
                      <a:lnTo>
                        <a:pt x="450" y="573"/>
                      </a:lnTo>
                      <a:lnTo>
                        <a:pt x="398" y="599"/>
                      </a:lnTo>
                      <a:lnTo>
                        <a:pt x="344" y="616"/>
                      </a:lnTo>
                      <a:lnTo>
                        <a:pt x="194" y="592"/>
                      </a:lnTo>
                      <a:lnTo>
                        <a:pt x="99" y="531"/>
                      </a:lnTo>
                      <a:lnTo>
                        <a:pt x="26" y="434"/>
                      </a:lnTo>
                      <a:lnTo>
                        <a:pt x="0" y="150"/>
                      </a:lnTo>
                      <a:lnTo>
                        <a:pt x="38" y="77"/>
                      </a:lnTo>
                      <a:lnTo>
                        <a:pt x="76" y="30"/>
                      </a:lnTo>
                      <a:lnTo>
                        <a:pt x="116" y="0"/>
                      </a:lnTo>
                      <a:lnTo>
                        <a:pt x="55" y="96"/>
                      </a:lnTo>
                      <a:lnTo>
                        <a:pt x="19" y="185"/>
                      </a:lnTo>
                      <a:lnTo>
                        <a:pt x="22" y="352"/>
                      </a:lnTo>
                      <a:lnTo>
                        <a:pt x="57" y="432"/>
                      </a:lnTo>
                      <a:lnTo>
                        <a:pt x="106" y="498"/>
                      </a:lnTo>
                      <a:lnTo>
                        <a:pt x="175" y="547"/>
                      </a:lnTo>
                      <a:lnTo>
                        <a:pt x="255" y="571"/>
                      </a:lnTo>
                      <a:lnTo>
                        <a:pt x="446" y="514"/>
                      </a:lnTo>
                      <a:lnTo>
                        <a:pt x="483" y="432"/>
                      </a:lnTo>
                      <a:lnTo>
                        <a:pt x="476" y="352"/>
                      </a:lnTo>
                      <a:lnTo>
                        <a:pt x="443" y="279"/>
                      </a:lnTo>
                      <a:lnTo>
                        <a:pt x="389" y="225"/>
                      </a:lnTo>
                      <a:lnTo>
                        <a:pt x="316" y="18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911920" y="6066000"/>
                <a:ext cx="39600" cy="33120"/>
                <a:chOff x="5911920" y="6066000"/>
                <a:chExt cx="39600" cy="33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911920" y="606600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109" h="94">
                      <a:moveTo>
                        <a:pt x="58" y="0"/>
                      </a:moveTo>
                      <a:lnTo>
                        <a:pt x="108" y="93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5880240" y="6094440"/>
                <a:ext cx="101520" cy="61920"/>
                <a:chOff x="5880240" y="6094440"/>
                <a:chExt cx="101520" cy="619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5880240" y="6094440"/>
                  <a:ext cx="101520" cy="61920"/>
                </a:xfrm>
                <a:custGeom>
                  <a:avLst/>
                  <a:gdLst/>
                  <a:ahLst/>
                  <a:rect l="l" t="t" r="r" b="b"/>
                  <a:pathLst>
                    <a:path w="282" h="171">
                      <a:moveTo>
                        <a:pt x="281" y="148"/>
                      </a:moveTo>
                      <a:lnTo>
                        <a:pt x="256" y="63"/>
                      </a:lnTo>
                      <a:lnTo>
                        <a:pt x="249" y="60"/>
                      </a:lnTo>
                      <a:lnTo>
                        <a:pt x="242" y="109"/>
                      </a:lnTo>
                      <a:lnTo>
                        <a:pt x="153" y="133"/>
                      </a:lnTo>
                      <a:lnTo>
                        <a:pt x="85" y="118"/>
                      </a:lnTo>
                      <a:lnTo>
                        <a:pt x="19" y="58"/>
                      </a:lnTo>
                      <a:lnTo>
                        <a:pt x="15" y="0"/>
                      </a:lnTo>
                      <a:lnTo>
                        <a:pt x="0" y="55"/>
                      </a:lnTo>
                      <a:lnTo>
                        <a:pt x="54" y="126"/>
                      </a:lnTo>
                      <a:lnTo>
                        <a:pt x="134" y="160"/>
                      </a:lnTo>
                      <a:lnTo>
                        <a:pt x="207" y="155"/>
                      </a:lnTo>
                      <a:lnTo>
                        <a:pt x="249" y="157"/>
                      </a:lnTo>
                      <a:lnTo>
                        <a:pt x="258" y="17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066000" y="6127920"/>
                <a:ext cx="212400" cy="153720"/>
                <a:chOff x="6066000" y="6127920"/>
                <a:chExt cx="212400" cy="153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066000" y="6127920"/>
                  <a:ext cx="212400" cy="153720"/>
                </a:xfrm>
                <a:custGeom>
                  <a:avLst/>
                  <a:gdLst/>
                  <a:ahLst/>
                  <a:rect l="l" t="t" r="r" b="b"/>
                  <a:pathLst>
                    <a:path w="591" h="428">
                      <a:moveTo>
                        <a:pt x="0" y="39"/>
                      </a:moveTo>
                      <a:lnTo>
                        <a:pt x="19" y="21"/>
                      </a:lnTo>
                      <a:lnTo>
                        <a:pt x="68" y="0"/>
                      </a:lnTo>
                      <a:lnTo>
                        <a:pt x="304" y="67"/>
                      </a:lnTo>
                      <a:lnTo>
                        <a:pt x="413" y="133"/>
                      </a:lnTo>
                      <a:lnTo>
                        <a:pt x="521" y="228"/>
                      </a:lnTo>
                      <a:lnTo>
                        <a:pt x="590" y="333"/>
                      </a:lnTo>
                      <a:lnTo>
                        <a:pt x="586" y="427"/>
                      </a:lnTo>
                      <a:lnTo>
                        <a:pt x="511" y="420"/>
                      </a:lnTo>
                      <a:lnTo>
                        <a:pt x="479" y="364"/>
                      </a:lnTo>
                      <a:lnTo>
                        <a:pt x="495" y="378"/>
                      </a:lnTo>
                      <a:lnTo>
                        <a:pt x="532" y="392"/>
                      </a:lnTo>
                      <a:lnTo>
                        <a:pt x="551" y="371"/>
                      </a:lnTo>
                      <a:lnTo>
                        <a:pt x="528" y="308"/>
                      </a:lnTo>
                      <a:lnTo>
                        <a:pt x="493" y="263"/>
                      </a:lnTo>
                      <a:lnTo>
                        <a:pt x="444" y="219"/>
                      </a:lnTo>
                      <a:lnTo>
                        <a:pt x="383" y="172"/>
                      </a:lnTo>
                      <a:lnTo>
                        <a:pt x="311" y="130"/>
                      </a:lnTo>
                      <a:lnTo>
                        <a:pt x="234" y="95"/>
                      </a:lnTo>
                      <a:lnTo>
                        <a:pt x="154" y="6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210360" y="6240600"/>
                <a:ext cx="31680" cy="44280"/>
                <a:chOff x="6210360" y="6240600"/>
                <a:chExt cx="31680" cy="442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210360" y="62406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86" h="124">
                      <a:moveTo>
                        <a:pt x="36" y="0"/>
                      </a:moveTo>
                      <a:lnTo>
                        <a:pt x="81" y="36"/>
                      </a:lnTo>
                      <a:lnTo>
                        <a:pt x="85" y="113"/>
                      </a:lnTo>
                      <a:lnTo>
                        <a:pt x="26" y="123"/>
                      </a:lnTo>
                      <a:lnTo>
                        <a:pt x="0" y="89"/>
                      </a:lnTo>
                      <a:lnTo>
                        <a:pt x="36" y="98"/>
                      </a:lnTo>
                      <a:lnTo>
                        <a:pt x="64" y="77"/>
                      </a:lnTo>
                      <a:lnTo>
                        <a:pt x="5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167520" y="6249960"/>
                <a:ext cx="42840" cy="42840"/>
                <a:chOff x="6167520" y="6249960"/>
                <a:chExt cx="42840" cy="428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167520" y="624996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118" h="119">
                      <a:moveTo>
                        <a:pt x="67" y="0"/>
                      </a:moveTo>
                      <a:lnTo>
                        <a:pt x="117" y="37"/>
                      </a:lnTo>
                      <a:lnTo>
                        <a:pt x="108" y="90"/>
                      </a:lnTo>
                      <a:lnTo>
                        <a:pt x="65" y="118"/>
                      </a:lnTo>
                      <a:lnTo>
                        <a:pt x="5" y="57"/>
                      </a:lnTo>
                      <a:lnTo>
                        <a:pt x="0" y="39"/>
                      </a:lnTo>
                      <a:lnTo>
                        <a:pt x="27" y="69"/>
                      </a:lnTo>
                      <a:lnTo>
                        <a:pt x="75" y="76"/>
                      </a:lnTo>
                      <a:lnTo>
                        <a:pt x="86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6135840" y="6245280"/>
                <a:ext cx="36360" cy="63360"/>
                <a:chOff x="6135840" y="6245280"/>
                <a:chExt cx="36360" cy="633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135840" y="6245280"/>
                  <a:ext cx="36360" cy="63360"/>
                </a:xfrm>
                <a:custGeom>
                  <a:avLst/>
                  <a:gdLst/>
                  <a:ahLst/>
                  <a:rect l="l" t="t" r="r" b="b"/>
                  <a:pathLst>
                    <a:path w="103" h="176">
                      <a:moveTo>
                        <a:pt x="16" y="0"/>
                      </a:moveTo>
                      <a:lnTo>
                        <a:pt x="69" y="7"/>
                      </a:lnTo>
                      <a:lnTo>
                        <a:pt x="102" y="68"/>
                      </a:lnTo>
                      <a:lnTo>
                        <a:pt x="100" y="118"/>
                      </a:lnTo>
                      <a:lnTo>
                        <a:pt x="95" y="141"/>
                      </a:lnTo>
                      <a:lnTo>
                        <a:pt x="55" y="175"/>
                      </a:lnTo>
                      <a:lnTo>
                        <a:pt x="2" y="167"/>
                      </a:lnTo>
                      <a:lnTo>
                        <a:pt x="0" y="127"/>
                      </a:lnTo>
                      <a:lnTo>
                        <a:pt x="74" y="106"/>
                      </a:lnTo>
                      <a:lnTo>
                        <a:pt x="74" y="56"/>
                      </a:lnTo>
                      <a:lnTo>
                        <a:pt x="33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6083280" y="6210360"/>
                <a:ext cx="60480" cy="69840"/>
                <a:chOff x="6083280" y="6210360"/>
                <a:chExt cx="60480" cy="6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083280" y="6210360"/>
                  <a:ext cx="60480" cy="69840"/>
                </a:xfrm>
                <a:custGeom>
                  <a:avLst/>
                  <a:gdLst/>
                  <a:ahLst/>
                  <a:rect l="l" t="t" r="r" b="b"/>
                  <a:pathLst>
                    <a:path w="166" h="194">
                      <a:moveTo>
                        <a:pt x="0" y="18"/>
                      </a:moveTo>
                      <a:lnTo>
                        <a:pt x="67" y="0"/>
                      </a:lnTo>
                      <a:lnTo>
                        <a:pt x="165" y="74"/>
                      </a:lnTo>
                      <a:lnTo>
                        <a:pt x="163" y="144"/>
                      </a:lnTo>
                      <a:lnTo>
                        <a:pt x="94" y="193"/>
                      </a:lnTo>
                      <a:lnTo>
                        <a:pt x="41" y="162"/>
                      </a:lnTo>
                      <a:lnTo>
                        <a:pt x="34" y="146"/>
                      </a:lnTo>
                      <a:lnTo>
                        <a:pt x="94" y="146"/>
                      </a:lnTo>
                      <a:lnTo>
                        <a:pt x="130" y="88"/>
                      </a:lnTo>
                      <a:lnTo>
                        <a:pt x="94" y="32"/>
                      </a:lnTo>
                      <a:lnTo>
                        <a:pt x="22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145200" y="6230880"/>
                <a:ext cx="1440" cy="3240"/>
                <a:chOff x="6145200" y="6230880"/>
                <a:chExt cx="1440" cy="32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145200" y="6230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0"/>
                      </a:move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029280" y="6180120"/>
                <a:ext cx="60480" cy="85680"/>
                <a:chOff x="6029280" y="6180120"/>
                <a:chExt cx="60480" cy="856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029280" y="6180120"/>
                  <a:ext cx="60480" cy="85680"/>
                </a:xfrm>
                <a:custGeom>
                  <a:avLst/>
                  <a:gdLst/>
                  <a:ahLst/>
                  <a:rect l="l" t="t" r="r" b="b"/>
                  <a:pathLst>
                    <a:path w="166" h="240">
                      <a:moveTo>
                        <a:pt x="0" y="50"/>
                      </a:moveTo>
                      <a:lnTo>
                        <a:pt x="10" y="23"/>
                      </a:lnTo>
                      <a:lnTo>
                        <a:pt x="48" y="0"/>
                      </a:lnTo>
                      <a:lnTo>
                        <a:pt x="110" y="20"/>
                      </a:lnTo>
                      <a:lnTo>
                        <a:pt x="146" y="62"/>
                      </a:lnTo>
                      <a:lnTo>
                        <a:pt x="165" y="154"/>
                      </a:lnTo>
                      <a:lnTo>
                        <a:pt x="149" y="223"/>
                      </a:lnTo>
                      <a:lnTo>
                        <a:pt x="120" y="239"/>
                      </a:lnTo>
                      <a:lnTo>
                        <a:pt x="46" y="205"/>
                      </a:lnTo>
                      <a:lnTo>
                        <a:pt x="3" y="133"/>
                      </a:lnTo>
                      <a:lnTo>
                        <a:pt x="3" y="87"/>
                      </a:lnTo>
                      <a:lnTo>
                        <a:pt x="12" y="115"/>
                      </a:lnTo>
                      <a:lnTo>
                        <a:pt x="22" y="152"/>
                      </a:lnTo>
                      <a:lnTo>
                        <a:pt x="70" y="189"/>
                      </a:lnTo>
                      <a:lnTo>
                        <a:pt x="103" y="179"/>
                      </a:lnTo>
                      <a:lnTo>
                        <a:pt x="120" y="129"/>
                      </a:lnTo>
                      <a:lnTo>
                        <a:pt x="108" y="71"/>
                      </a:lnTo>
                      <a:lnTo>
                        <a:pt x="87" y="48"/>
                      </a:lnTo>
                      <a:lnTo>
                        <a:pt x="58" y="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31080" y="6253200"/>
                <a:ext cx="122040" cy="196920"/>
                <a:chOff x="6031080" y="6253200"/>
                <a:chExt cx="122040" cy="1969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31080" y="6253200"/>
                  <a:ext cx="122040" cy="196920"/>
                </a:xfrm>
                <a:custGeom>
                  <a:avLst/>
                  <a:gdLst/>
                  <a:ahLst/>
                  <a:rect l="l" t="t" r="r" b="b"/>
                  <a:pathLst>
                    <a:path w="338" h="546">
                      <a:moveTo>
                        <a:pt x="135" y="159"/>
                      </a:moveTo>
                      <a:lnTo>
                        <a:pt x="196" y="86"/>
                      </a:lnTo>
                      <a:lnTo>
                        <a:pt x="217" y="105"/>
                      </a:lnTo>
                      <a:lnTo>
                        <a:pt x="283" y="173"/>
                      </a:lnTo>
                      <a:lnTo>
                        <a:pt x="335" y="277"/>
                      </a:lnTo>
                      <a:lnTo>
                        <a:pt x="337" y="357"/>
                      </a:lnTo>
                      <a:lnTo>
                        <a:pt x="312" y="446"/>
                      </a:lnTo>
                      <a:lnTo>
                        <a:pt x="260" y="516"/>
                      </a:lnTo>
                      <a:lnTo>
                        <a:pt x="191" y="545"/>
                      </a:lnTo>
                      <a:lnTo>
                        <a:pt x="114" y="507"/>
                      </a:lnTo>
                      <a:lnTo>
                        <a:pt x="55" y="411"/>
                      </a:lnTo>
                      <a:lnTo>
                        <a:pt x="0" y="176"/>
                      </a:lnTo>
                      <a:lnTo>
                        <a:pt x="8" y="61"/>
                      </a:lnTo>
                      <a:lnTo>
                        <a:pt x="43" y="0"/>
                      </a:lnTo>
                      <a:lnTo>
                        <a:pt x="33" y="136"/>
                      </a:lnTo>
                      <a:lnTo>
                        <a:pt x="64" y="258"/>
                      </a:lnTo>
                      <a:lnTo>
                        <a:pt x="121" y="375"/>
                      </a:lnTo>
                      <a:lnTo>
                        <a:pt x="189" y="453"/>
                      </a:lnTo>
                      <a:lnTo>
                        <a:pt x="260" y="458"/>
                      </a:lnTo>
                      <a:lnTo>
                        <a:pt x="305" y="387"/>
                      </a:lnTo>
                      <a:lnTo>
                        <a:pt x="300" y="293"/>
                      </a:lnTo>
                      <a:lnTo>
                        <a:pt x="264" y="199"/>
                      </a:lnTo>
                      <a:lnTo>
                        <a:pt x="201" y="1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5686560" y="5970600"/>
                <a:ext cx="145800" cy="61920"/>
                <a:chOff x="5686560" y="5970600"/>
                <a:chExt cx="145800" cy="619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686560" y="5970600"/>
                  <a:ext cx="145800" cy="61920"/>
                </a:xfrm>
                <a:custGeom>
                  <a:avLst/>
                  <a:gdLst/>
                  <a:ahLst/>
                  <a:rect l="l" t="t" r="r" b="b"/>
                  <a:pathLst>
                    <a:path w="404" h="170">
                      <a:moveTo>
                        <a:pt x="403" y="169"/>
                      </a:moveTo>
                      <a:lnTo>
                        <a:pt x="303" y="82"/>
                      </a:lnTo>
                      <a:lnTo>
                        <a:pt x="244" y="42"/>
                      </a:lnTo>
                      <a:lnTo>
                        <a:pt x="172" y="7"/>
                      </a:lnTo>
                      <a:lnTo>
                        <a:pt x="40" y="0"/>
                      </a:lnTo>
                      <a:lnTo>
                        <a:pt x="0" y="44"/>
                      </a:lnTo>
                      <a:lnTo>
                        <a:pt x="3" y="93"/>
                      </a:lnTo>
                      <a:lnTo>
                        <a:pt x="52" y="112"/>
                      </a:lnTo>
                      <a:lnTo>
                        <a:pt x="99" y="79"/>
                      </a:lnTo>
                      <a:lnTo>
                        <a:pt x="40" y="82"/>
                      </a:lnTo>
                      <a:lnTo>
                        <a:pt x="59" y="42"/>
                      </a:lnTo>
                      <a:lnTo>
                        <a:pt x="120" y="37"/>
                      </a:lnTo>
                      <a:lnTo>
                        <a:pt x="270" y="89"/>
                      </a:lnTo>
                      <a:lnTo>
                        <a:pt x="343" y="13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667480" y="5997600"/>
                <a:ext cx="48960" cy="34920"/>
                <a:chOff x="5667480" y="5997600"/>
                <a:chExt cx="48960" cy="349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667480" y="5997600"/>
                  <a:ext cx="48960" cy="34920"/>
                </a:xfrm>
                <a:custGeom>
                  <a:avLst/>
                  <a:gdLst/>
                  <a:ahLst/>
                  <a:rect l="l" t="t" r="r" b="b"/>
                  <a:pathLst>
                    <a:path w="137" h="95">
                      <a:moveTo>
                        <a:pt x="40" y="67"/>
                      </a:moveTo>
                      <a:lnTo>
                        <a:pt x="0" y="36"/>
                      </a:lnTo>
                      <a:lnTo>
                        <a:pt x="30" y="2"/>
                      </a:lnTo>
                      <a:lnTo>
                        <a:pt x="60" y="0"/>
                      </a:lnTo>
                      <a:lnTo>
                        <a:pt x="116" y="28"/>
                      </a:lnTo>
                      <a:lnTo>
                        <a:pt x="136" y="65"/>
                      </a:lnTo>
                      <a:lnTo>
                        <a:pt x="95" y="94"/>
                      </a:lnTo>
                      <a:lnTo>
                        <a:pt x="88" y="94"/>
                      </a:lnTo>
                      <a:lnTo>
                        <a:pt x="111" y="60"/>
                      </a:lnTo>
                      <a:lnTo>
                        <a:pt x="47" y="28"/>
                      </a:lnTo>
                      <a:lnTo>
                        <a:pt x="21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5667480" y="6024600"/>
                <a:ext cx="38160" cy="28440"/>
                <a:chOff x="5667480" y="6024600"/>
                <a:chExt cx="38160" cy="2844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5667480" y="6024600"/>
                  <a:ext cx="38160" cy="28440"/>
                </a:xfrm>
                <a:custGeom>
                  <a:avLst/>
                  <a:gdLst/>
                  <a:ahLst/>
                  <a:rect l="l" t="t" r="r" b="b"/>
                  <a:pathLst>
                    <a:path w="104" h="81">
                      <a:moveTo>
                        <a:pt x="103" y="46"/>
                      </a:moveTo>
                      <a:lnTo>
                        <a:pt x="76" y="80"/>
                      </a:lnTo>
                      <a:lnTo>
                        <a:pt x="12" y="65"/>
                      </a:lnTo>
                      <a:lnTo>
                        <a:pt x="0" y="9"/>
                      </a:lnTo>
                      <a:lnTo>
                        <a:pt x="35" y="0"/>
                      </a:lnTo>
                      <a:lnTo>
                        <a:pt x="46" y="2"/>
                      </a:lnTo>
                      <a:lnTo>
                        <a:pt x="14" y="31"/>
                      </a:lnTo>
                      <a:lnTo>
                        <a:pt x="46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700600" y="6051600"/>
                <a:ext cx="66960" cy="117360"/>
                <a:chOff x="5700600" y="6051600"/>
                <a:chExt cx="66960" cy="1173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5700600" y="6051600"/>
                  <a:ext cx="66960" cy="117360"/>
                </a:xfrm>
                <a:custGeom>
                  <a:avLst/>
                  <a:gdLst/>
                  <a:ahLst/>
                  <a:rect l="l" t="t" r="r" b="b"/>
                  <a:pathLst>
                    <a:path w="184" h="325">
                      <a:moveTo>
                        <a:pt x="0" y="0"/>
                      </a:moveTo>
                      <a:lnTo>
                        <a:pt x="47" y="28"/>
                      </a:lnTo>
                      <a:lnTo>
                        <a:pt x="119" y="103"/>
                      </a:lnTo>
                      <a:lnTo>
                        <a:pt x="174" y="248"/>
                      </a:lnTo>
                      <a:lnTo>
                        <a:pt x="183" y="324"/>
                      </a:lnTo>
                      <a:lnTo>
                        <a:pt x="146" y="324"/>
                      </a:lnTo>
                      <a:lnTo>
                        <a:pt x="119" y="176"/>
                      </a:lnTo>
                      <a:lnTo>
                        <a:pt x="75" y="8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634000" y="6045120"/>
                <a:ext cx="47520" cy="58680"/>
                <a:chOff x="5634000" y="6045120"/>
                <a:chExt cx="47520" cy="586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634000" y="6045120"/>
                  <a:ext cx="47520" cy="58680"/>
                </a:xfrm>
                <a:custGeom>
                  <a:avLst/>
                  <a:gdLst/>
                  <a:ahLst/>
                  <a:rect l="l" t="t" r="r" b="b"/>
                  <a:pathLst>
                    <a:path w="133" h="165">
                      <a:moveTo>
                        <a:pt x="74" y="164"/>
                      </a:moveTo>
                      <a:lnTo>
                        <a:pt x="132" y="103"/>
                      </a:lnTo>
                      <a:lnTo>
                        <a:pt x="128" y="49"/>
                      </a:lnTo>
                      <a:lnTo>
                        <a:pt x="78" y="0"/>
                      </a:lnTo>
                      <a:lnTo>
                        <a:pt x="8" y="18"/>
                      </a:lnTo>
                      <a:lnTo>
                        <a:pt x="0" y="56"/>
                      </a:lnTo>
                      <a:lnTo>
                        <a:pt x="12" y="70"/>
                      </a:lnTo>
                      <a:lnTo>
                        <a:pt x="33" y="86"/>
                      </a:lnTo>
                      <a:lnTo>
                        <a:pt x="50" y="58"/>
                      </a:lnTo>
                      <a:lnTo>
                        <a:pt x="92" y="67"/>
                      </a:lnTo>
                      <a:lnTo>
                        <a:pt x="97" y="14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5594400" y="6060960"/>
                <a:ext cx="58680" cy="54000"/>
                <a:chOff x="5594400" y="6060960"/>
                <a:chExt cx="58680" cy="540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594400" y="6060960"/>
                  <a:ext cx="58680" cy="54000"/>
                </a:xfrm>
                <a:custGeom>
                  <a:avLst/>
                  <a:gdLst/>
                  <a:ahLst/>
                  <a:rect l="l" t="t" r="r" b="b"/>
                  <a:pathLst>
                    <a:path w="161" h="152">
                      <a:moveTo>
                        <a:pt x="30" y="85"/>
                      </a:moveTo>
                      <a:lnTo>
                        <a:pt x="0" y="41"/>
                      </a:lnTo>
                      <a:lnTo>
                        <a:pt x="27" y="0"/>
                      </a:lnTo>
                      <a:lnTo>
                        <a:pt x="124" y="9"/>
                      </a:lnTo>
                      <a:lnTo>
                        <a:pt x="160" y="102"/>
                      </a:lnTo>
                      <a:lnTo>
                        <a:pt x="134" y="139"/>
                      </a:lnTo>
                      <a:lnTo>
                        <a:pt x="112" y="151"/>
                      </a:lnTo>
                      <a:lnTo>
                        <a:pt x="102" y="123"/>
                      </a:lnTo>
                      <a:lnTo>
                        <a:pt x="122" y="83"/>
                      </a:lnTo>
                      <a:lnTo>
                        <a:pt x="100" y="44"/>
                      </a:lnTo>
                      <a:lnTo>
                        <a:pt x="61" y="20"/>
                      </a:lnTo>
                      <a:lnTo>
                        <a:pt x="27" y="3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580000" y="6078600"/>
                <a:ext cx="33480" cy="52200"/>
                <a:chOff x="5580000" y="6078600"/>
                <a:chExt cx="33480" cy="522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5580000" y="6078600"/>
                  <a:ext cx="33480" cy="52200"/>
                </a:xfrm>
                <a:custGeom>
                  <a:avLst/>
                  <a:gdLst/>
                  <a:ahLst/>
                  <a:rect l="l" t="t" r="r" b="b"/>
                  <a:pathLst>
                    <a:path w="94" h="147">
                      <a:moveTo>
                        <a:pt x="0" y="16"/>
                      </a:moveTo>
                      <a:lnTo>
                        <a:pt x="22" y="0"/>
                      </a:lnTo>
                      <a:lnTo>
                        <a:pt x="75" y="16"/>
                      </a:lnTo>
                      <a:lnTo>
                        <a:pt x="93" y="127"/>
                      </a:lnTo>
                      <a:lnTo>
                        <a:pt x="55" y="146"/>
                      </a:lnTo>
                      <a:lnTo>
                        <a:pt x="43" y="129"/>
                      </a:lnTo>
                      <a:lnTo>
                        <a:pt x="71" y="82"/>
                      </a:lnTo>
                      <a:lnTo>
                        <a:pt x="50" y="49"/>
                      </a:lnTo>
                      <a:lnTo>
                        <a:pt x="20" y="8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5557680" y="6099120"/>
                <a:ext cx="49320" cy="47520"/>
                <a:chOff x="5557680" y="6099120"/>
                <a:chExt cx="49320" cy="47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5557680" y="6099120"/>
                  <a:ext cx="49320" cy="47520"/>
                </a:xfrm>
                <a:custGeom>
                  <a:avLst/>
                  <a:gdLst/>
                  <a:ahLst/>
                  <a:rect l="l" t="t" r="r" b="b"/>
                  <a:pathLst>
                    <a:path w="137" h="133">
                      <a:moveTo>
                        <a:pt x="80" y="0"/>
                      </a:moveTo>
                      <a:lnTo>
                        <a:pt x="0" y="74"/>
                      </a:lnTo>
                      <a:lnTo>
                        <a:pt x="34" y="108"/>
                      </a:lnTo>
                      <a:lnTo>
                        <a:pt x="73" y="127"/>
                      </a:lnTo>
                      <a:lnTo>
                        <a:pt x="118" y="132"/>
                      </a:lnTo>
                      <a:lnTo>
                        <a:pt x="136" y="108"/>
                      </a:lnTo>
                      <a:lnTo>
                        <a:pt x="53" y="81"/>
                      </a:lnTo>
                      <a:lnTo>
                        <a:pt x="44" y="36"/>
                      </a:lnTo>
                      <a:lnTo>
                        <a:pt x="75" y="2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683320" y="6110280"/>
                <a:ext cx="42840" cy="98280"/>
                <a:chOff x="5683320" y="6110280"/>
                <a:chExt cx="42840" cy="982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683320" y="6110280"/>
                  <a:ext cx="42840" cy="98280"/>
                </a:xfrm>
                <a:custGeom>
                  <a:avLst/>
                  <a:gdLst/>
                  <a:ahLst/>
                  <a:rect l="l" t="t" r="r" b="b"/>
                  <a:pathLst>
                    <a:path w="117" h="273">
                      <a:moveTo>
                        <a:pt x="0" y="0"/>
                      </a:moveTo>
                      <a:lnTo>
                        <a:pt x="36" y="28"/>
                      </a:lnTo>
                      <a:lnTo>
                        <a:pt x="91" y="98"/>
                      </a:lnTo>
                      <a:lnTo>
                        <a:pt x="116" y="208"/>
                      </a:lnTo>
                      <a:lnTo>
                        <a:pt x="84" y="264"/>
                      </a:lnTo>
                      <a:lnTo>
                        <a:pt x="52" y="2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5711760" y="6132600"/>
                <a:ext cx="33480" cy="33120"/>
                <a:chOff x="5711760" y="6132600"/>
                <a:chExt cx="33480" cy="331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5711760" y="6132600"/>
                  <a:ext cx="33480" cy="33120"/>
                </a:xfrm>
                <a:custGeom>
                  <a:avLst/>
                  <a:gdLst/>
                  <a:ahLst/>
                  <a:rect l="l" t="t" r="r" b="b"/>
                  <a:pathLst>
                    <a:path w="91" h="91">
                      <a:moveTo>
                        <a:pt x="90" y="0"/>
                      </a:moveTo>
                      <a:lnTo>
                        <a:pt x="71" y="29"/>
                      </a:lnTo>
                      <a:lnTo>
                        <a:pt x="47" y="51"/>
                      </a:lnTo>
                      <a:lnTo>
                        <a:pt x="15" y="67"/>
                      </a:lnTo>
                      <a:lnTo>
                        <a:pt x="0" y="85"/>
                      </a:lnTo>
                      <a:lnTo>
                        <a:pt x="20" y="90"/>
                      </a:lnTo>
                      <a:lnTo>
                        <a:pt x="69" y="6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611680" y="6140520"/>
                <a:ext cx="147600" cy="125280"/>
                <a:chOff x="5611680" y="6140520"/>
                <a:chExt cx="147600" cy="1252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611680" y="6140520"/>
                  <a:ext cx="147600" cy="125280"/>
                </a:xfrm>
                <a:custGeom>
                  <a:avLst/>
                  <a:gdLst/>
                  <a:ahLst/>
                  <a:rect l="l" t="t" r="r" b="b"/>
                  <a:pathLst>
                    <a:path w="408" h="348">
                      <a:moveTo>
                        <a:pt x="382" y="180"/>
                      </a:moveTo>
                      <a:lnTo>
                        <a:pt x="407" y="249"/>
                      </a:lnTo>
                      <a:lnTo>
                        <a:pt x="384" y="316"/>
                      </a:lnTo>
                      <a:lnTo>
                        <a:pt x="356" y="337"/>
                      </a:lnTo>
                      <a:lnTo>
                        <a:pt x="305" y="347"/>
                      </a:lnTo>
                      <a:lnTo>
                        <a:pt x="184" y="312"/>
                      </a:lnTo>
                      <a:lnTo>
                        <a:pt x="84" y="229"/>
                      </a:lnTo>
                      <a:lnTo>
                        <a:pt x="14" y="122"/>
                      </a:lnTo>
                      <a:lnTo>
                        <a:pt x="0" y="0"/>
                      </a:lnTo>
                      <a:lnTo>
                        <a:pt x="17" y="46"/>
                      </a:lnTo>
                      <a:lnTo>
                        <a:pt x="66" y="143"/>
                      </a:lnTo>
                      <a:lnTo>
                        <a:pt x="105" y="198"/>
                      </a:lnTo>
                      <a:lnTo>
                        <a:pt x="159" y="245"/>
                      </a:lnTo>
                      <a:lnTo>
                        <a:pt x="221" y="282"/>
                      </a:lnTo>
                      <a:lnTo>
                        <a:pt x="298" y="300"/>
                      </a:lnTo>
                      <a:lnTo>
                        <a:pt x="354" y="27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508720" y="6240600"/>
                <a:ext cx="531720" cy="593640"/>
                <a:chOff x="5508720" y="6240600"/>
                <a:chExt cx="531720" cy="593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5508720" y="6240600"/>
                  <a:ext cx="531720" cy="593640"/>
                </a:xfrm>
                <a:custGeom>
                  <a:avLst/>
                  <a:gdLst/>
                  <a:ahLst/>
                  <a:rect l="l" t="t" r="r" b="b"/>
                  <a:pathLst>
                    <a:path w="1479" h="1649">
                      <a:moveTo>
                        <a:pt x="1478" y="58"/>
                      </a:moveTo>
                      <a:lnTo>
                        <a:pt x="1352" y="30"/>
                      </a:lnTo>
                      <a:lnTo>
                        <a:pt x="1014" y="0"/>
                      </a:lnTo>
                      <a:lnTo>
                        <a:pt x="538" y="49"/>
                      </a:lnTo>
                      <a:lnTo>
                        <a:pt x="276" y="131"/>
                      </a:lnTo>
                      <a:lnTo>
                        <a:pt x="141" y="185"/>
                      </a:lnTo>
                      <a:lnTo>
                        <a:pt x="0" y="257"/>
                      </a:lnTo>
                      <a:lnTo>
                        <a:pt x="127" y="1648"/>
                      </a:lnTo>
                      <a:lnTo>
                        <a:pt x="136" y="1085"/>
                      </a:lnTo>
                      <a:lnTo>
                        <a:pt x="108" y="663"/>
                      </a:lnTo>
                      <a:lnTo>
                        <a:pt x="73" y="290"/>
                      </a:lnTo>
                      <a:lnTo>
                        <a:pt x="201" y="234"/>
                      </a:lnTo>
                      <a:lnTo>
                        <a:pt x="281" y="199"/>
                      </a:lnTo>
                      <a:lnTo>
                        <a:pt x="367" y="168"/>
                      </a:lnTo>
                      <a:lnTo>
                        <a:pt x="547" y="112"/>
                      </a:lnTo>
                      <a:lnTo>
                        <a:pt x="708" y="84"/>
                      </a:lnTo>
                      <a:lnTo>
                        <a:pt x="909" y="58"/>
                      </a:lnTo>
                      <a:lnTo>
                        <a:pt x="1166" y="4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656320" y="6310440"/>
                <a:ext cx="371520" cy="318960"/>
                <a:chOff x="5656320" y="6310440"/>
                <a:chExt cx="371520" cy="3189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656320" y="6310440"/>
                  <a:ext cx="371520" cy="318960"/>
                </a:xfrm>
                <a:custGeom>
                  <a:avLst/>
                  <a:gdLst/>
                  <a:ahLst/>
                  <a:rect l="l" t="t" r="r" b="b"/>
                  <a:pathLst>
                    <a:path w="1032" h="887">
                      <a:moveTo>
                        <a:pt x="0" y="56"/>
                      </a:moveTo>
                      <a:lnTo>
                        <a:pt x="475" y="28"/>
                      </a:lnTo>
                      <a:lnTo>
                        <a:pt x="733" y="47"/>
                      </a:lnTo>
                      <a:lnTo>
                        <a:pt x="893" y="115"/>
                      </a:lnTo>
                      <a:lnTo>
                        <a:pt x="949" y="199"/>
                      </a:lnTo>
                      <a:lnTo>
                        <a:pt x="970" y="341"/>
                      </a:lnTo>
                      <a:lnTo>
                        <a:pt x="952" y="559"/>
                      </a:lnTo>
                      <a:lnTo>
                        <a:pt x="926" y="708"/>
                      </a:lnTo>
                      <a:lnTo>
                        <a:pt x="886" y="886"/>
                      </a:lnTo>
                      <a:lnTo>
                        <a:pt x="923" y="814"/>
                      </a:lnTo>
                      <a:lnTo>
                        <a:pt x="992" y="618"/>
                      </a:lnTo>
                      <a:lnTo>
                        <a:pt x="1031" y="343"/>
                      </a:lnTo>
                      <a:lnTo>
                        <a:pt x="1020" y="185"/>
                      </a:lnTo>
                      <a:lnTo>
                        <a:pt x="975" y="23"/>
                      </a:lnTo>
                      <a:lnTo>
                        <a:pt x="531" y="0"/>
                      </a:lnTo>
                      <a:lnTo>
                        <a:pt x="235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676840" y="6627960"/>
                <a:ext cx="284400" cy="33120"/>
                <a:chOff x="5676840" y="6627960"/>
                <a:chExt cx="284400" cy="331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676840" y="6627960"/>
                  <a:ext cx="284400" cy="33120"/>
                </a:xfrm>
                <a:custGeom>
                  <a:avLst/>
                  <a:gdLst/>
                  <a:ahLst/>
                  <a:rect l="l" t="t" r="r" b="b"/>
                  <a:pathLst>
                    <a:path w="788" h="91">
                      <a:moveTo>
                        <a:pt x="36" y="0"/>
                      </a:moveTo>
                      <a:lnTo>
                        <a:pt x="244" y="23"/>
                      </a:lnTo>
                      <a:lnTo>
                        <a:pt x="787" y="33"/>
                      </a:lnTo>
                      <a:lnTo>
                        <a:pt x="633" y="71"/>
                      </a:lnTo>
                      <a:lnTo>
                        <a:pt x="392" y="90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5640480" y="6334200"/>
                <a:ext cx="58680" cy="304560"/>
                <a:chOff x="5640480" y="6334200"/>
                <a:chExt cx="58680" cy="3045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5640480" y="6334200"/>
                  <a:ext cx="58680" cy="304560"/>
                </a:xfrm>
                <a:custGeom>
                  <a:avLst/>
                  <a:gdLst/>
                  <a:ahLst/>
                  <a:rect l="l" t="t" r="r" b="b"/>
                  <a:pathLst>
                    <a:path w="161" h="846">
                      <a:moveTo>
                        <a:pt x="46" y="845"/>
                      </a:moveTo>
                      <a:lnTo>
                        <a:pt x="7" y="634"/>
                      </a:lnTo>
                      <a:lnTo>
                        <a:pt x="0" y="315"/>
                      </a:lnTo>
                      <a:lnTo>
                        <a:pt x="16" y="149"/>
                      </a:lnTo>
                      <a:lnTo>
                        <a:pt x="46" y="0"/>
                      </a:lnTo>
                      <a:lnTo>
                        <a:pt x="160" y="56"/>
                      </a:lnTo>
                      <a:lnTo>
                        <a:pt x="101" y="24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950000" y="6700680"/>
                <a:ext cx="436320" cy="146160"/>
                <a:chOff x="4950000" y="6700680"/>
                <a:chExt cx="436320" cy="146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950000" y="6700680"/>
                  <a:ext cx="436320" cy="146160"/>
                </a:xfrm>
                <a:custGeom>
                  <a:avLst/>
                  <a:gdLst/>
                  <a:ahLst/>
                  <a:rect l="l" t="t" r="r" b="b"/>
                  <a:pathLst>
                    <a:path w="1213" h="405">
                      <a:moveTo>
                        <a:pt x="1212" y="328"/>
                      </a:moveTo>
                      <a:lnTo>
                        <a:pt x="955" y="321"/>
                      </a:lnTo>
                      <a:lnTo>
                        <a:pt x="655" y="267"/>
                      </a:lnTo>
                      <a:lnTo>
                        <a:pt x="493" y="218"/>
                      </a:lnTo>
                      <a:lnTo>
                        <a:pt x="329" y="157"/>
                      </a:lnTo>
                      <a:lnTo>
                        <a:pt x="162" y="84"/>
                      </a:lnTo>
                      <a:lnTo>
                        <a:pt x="80" y="42"/>
                      </a:lnTo>
                      <a:lnTo>
                        <a:pt x="0" y="0"/>
                      </a:lnTo>
                      <a:lnTo>
                        <a:pt x="50" y="37"/>
                      </a:lnTo>
                      <a:lnTo>
                        <a:pt x="104" y="77"/>
                      </a:lnTo>
                      <a:lnTo>
                        <a:pt x="160" y="115"/>
                      </a:lnTo>
                      <a:lnTo>
                        <a:pt x="219" y="152"/>
                      </a:lnTo>
                      <a:lnTo>
                        <a:pt x="279" y="185"/>
                      </a:lnTo>
                      <a:lnTo>
                        <a:pt x="340" y="220"/>
                      </a:lnTo>
                      <a:lnTo>
                        <a:pt x="481" y="281"/>
                      </a:lnTo>
                      <a:lnTo>
                        <a:pt x="629" y="333"/>
                      </a:lnTo>
                      <a:lnTo>
                        <a:pt x="795" y="373"/>
                      </a:lnTo>
                      <a:lnTo>
                        <a:pt x="1168" y="404"/>
                      </a:lnTo>
                      <a:lnTo>
                        <a:pt x="1203" y="36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5388120" y="6620040"/>
                <a:ext cx="1137960" cy="365040"/>
                <a:chOff x="5388120" y="6620040"/>
                <a:chExt cx="1137960" cy="3650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388120" y="6620040"/>
                  <a:ext cx="1137960" cy="365040"/>
                </a:xfrm>
                <a:custGeom>
                  <a:avLst/>
                  <a:gdLst/>
                  <a:ahLst/>
                  <a:rect l="l" t="t" r="r" b="b"/>
                  <a:pathLst>
                    <a:path w="3163" h="1016">
                      <a:moveTo>
                        <a:pt x="3160" y="544"/>
                      </a:moveTo>
                      <a:lnTo>
                        <a:pt x="3099" y="687"/>
                      </a:lnTo>
                      <a:lnTo>
                        <a:pt x="3050" y="758"/>
                      </a:lnTo>
                      <a:lnTo>
                        <a:pt x="2971" y="826"/>
                      </a:lnTo>
                      <a:lnTo>
                        <a:pt x="2856" y="876"/>
                      </a:lnTo>
                      <a:lnTo>
                        <a:pt x="2699" y="901"/>
                      </a:lnTo>
                      <a:lnTo>
                        <a:pt x="2178" y="876"/>
                      </a:lnTo>
                      <a:lnTo>
                        <a:pt x="1838" y="836"/>
                      </a:lnTo>
                      <a:lnTo>
                        <a:pt x="1480" y="788"/>
                      </a:lnTo>
                      <a:lnTo>
                        <a:pt x="1132" y="727"/>
                      </a:lnTo>
                      <a:lnTo>
                        <a:pt x="818" y="659"/>
                      </a:lnTo>
                      <a:lnTo>
                        <a:pt x="561" y="586"/>
                      </a:lnTo>
                      <a:lnTo>
                        <a:pt x="397" y="515"/>
                      </a:lnTo>
                      <a:lnTo>
                        <a:pt x="280" y="442"/>
                      </a:lnTo>
                      <a:lnTo>
                        <a:pt x="226" y="362"/>
                      </a:lnTo>
                      <a:lnTo>
                        <a:pt x="226" y="275"/>
                      </a:lnTo>
                      <a:lnTo>
                        <a:pt x="262" y="193"/>
                      </a:lnTo>
                      <a:lnTo>
                        <a:pt x="313" y="115"/>
                      </a:lnTo>
                      <a:lnTo>
                        <a:pt x="369" y="56"/>
                      </a:lnTo>
                      <a:lnTo>
                        <a:pt x="435" y="0"/>
                      </a:lnTo>
                      <a:lnTo>
                        <a:pt x="339" y="51"/>
                      </a:lnTo>
                      <a:lnTo>
                        <a:pt x="245" y="103"/>
                      </a:lnTo>
                      <a:lnTo>
                        <a:pt x="142" y="174"/>
                      </a:lnTo>
                      <a:lnTo>
                        <a:pt x="4" y="324"/>
                      </a:lnTo>
                      <a:lnTo>
                        <a:pt x="0" y="397"/>
                      </a:lnTo>
                      <a:lnTo>
                        <a:pt x="63" y="459"/>
                      </a:lnTo>
                      <a:lnTo>
                        <a:pt x="128" y="489"/>
                      </a:lnTo>
                      <a:lnTo>
                        <a:pt x="217" y="525"/>
                      </a:lnTo>
                      <a:lnTo>
                        <a:pt x="329" y="565"/>
                      </a:lnTo>
                      <a:lnTo>
                        <a:pt x="458" y="609"/>
                      </a:lnTo>
                      <a:lnTo>
                        <a:pt x="603" y="654"/>
                      </a:lnTo>
                      <a:lnTo>
                        <a:pt x="765" y="699"/>
                      </a:lnTo>
                      <a:lnTo>
                        <a:pt x="935" y="746"/>
                      </a:lnTo>
                      <a:lnTo>
                        <a:pt x="1111" y="791"/>
                      </a:lnTo>
                      <a:lnTo>
                        <a:pt x="1293" y="836"/>
                      </a:lnTo>
                      <a:lnTo>
                        <a:pt x="1478" y="876"/>
                      </a:lnTo>
                      <a:lnTo>
                        <a:pt x="1665" y="913"/>
                      </a:lnTo>
                      <a:lnTo>
                        <a:pt x="1845" y="946"/>
                      </a:lnTo>
                      <a:lnTo>
                        <a:pt x="2187" y="996"/>
                      </a:lnTo>
                      <a:lnTo>
                        <a:pt x="2484" y="1015"/>
                      </a:lnTo>
                      <a:lnTo>
                        <a:pt x="2720" y="998"/>
                      </a:lnTo>
                      <a:lnTo>
                        <a:pt x="2893" y="951"/>
                      </a:lnTo>
                      <a:lnTo>
                        <a:pt x="3015" y="890"/>
                      </a:lnTo>
                      <a:lnTo>
                        <a:pt x="3097" y="814"/>
                      </a:lnTo>
                      <a:lnTo>
                        <a:pt x="3162" y="6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5703840" y="6411960"/>
                <a:ext cx="360360" cy="461880"/>
                <a:chOff x="5703840" y="6411960"/>
                <a:chExt cx="360360" cy="4618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5703840" y="6411960"/>
                  <a:ext cx="360360" cy="461880"/>
                </a:xfrm>
                <a:custGeom>
                  <a:avLst/>
                  <a:gdLst/>
                  <a:ahLst/>
                  <a:rect l="l" t="t" r="r" b="b"/>
                  <a:pathLst>
                    <a:path w="1003" h="1282">
                      <a:moveTo>
                        <a:pt x="741" y="1212"/>
                      </a:moveTo>
                      <a:lnTo>
                        <a:pt x="1002" y="0"/>
                      </a:lnTo>
                      <a:lnTo>
                        <a:pt x="960" y="148"/>
                      </a:lnTo>
                      <a:lnTo>
                        <a:pt x="914" y="307"/>
                      </a:lnTo>
                      <a:lnTo>
                        <a:pt x="862" y="488"/>
                      </a:lnTo>
                      <a:lnTo>
                        <a:pt x="806" y="676"/>
                      </a:lnTo>
                      <a:lnTo>
                        <a:pt x="755" y="846"/>
                      </a:lnTo>
                      <a:lnTo>
                        <a:pt x="694" y="1048"/>
                      </a:lnTo>
                      <a:lnTo>
                        <a:pt x="657" y="1085"/>
                      </a:lnTo>
                      <a:lnTo>
                        <a:pt x="570" y="1125"/>
                      </a:lnTo>
                      <a:lnTo>
                        <a:pt x="461" y="1163"/>
                      </a:lnTo>
                      <a:lnTo>
                        <a:pt x="334" y="1201"/>
                      </a:lnTo>
                      <a:lnTo>
                        <a:pt x="103" y="1259"/>
                      </a:lnTo>
                      <a:lnTo>
                        <a:pt x="0" y="128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748480" y="6738840"/>
                <a:ext cx="176040" cy="50760"/>
                <a:chOff x="5748480" y="6738840"/>
                <a:chExt cx="176040" cy="507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748480" y="6738840"/>
                  <a:ext cx="176040" cy="50760"/>
                </a:xfrm>
                <a:custGeom>
                  <a:avLst/>
                  <a:gdLst/>
                  <a:ahLst/>
                  <a:rect l="l" t="t" r="r" b="b"/>
                  <a:pathLst>
                    <a:path w="489" h="142">
                      <a:moveTo>
                        <a:pt x="481" y="0"/>
                      </a:moveTo>
                      <a:lnTo>
                        <a:pt x="0" y="78"/>
                      </a:lnTo>
                      <a:lnTo>
                        <a:pt x="17" y="141"/>
                      </a:lnTo>
                      <a:lnTo>
                        <a:pt x="488" y="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5862600" y="6699240"/>
                <a:ext cx="34920" cy="34920"/>
                <a:chOff x="5862600" y="6699240"/>
                <a:chExt cx="34920" cy="349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862600" y="669924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95" h="99">
                      <a:moveTo>
                        <a:pt x="94" y="54"/>
                      </a:moveTo>
                      <a:lnTo>
                        <a:pt x="41" y="98"/>
                      </a:lnTo>
                      <a:lnTo>
                        <a:pt x="0" y="47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5394240" y="6807240"/>
                <a:ext cx="1158840" cy="360360"/>
                <a:chOff x="5394240" y="6807240"/>
                <a:chExt cx="1158840" cy="3603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394240" y="6807240"/>
                  <a:ext cx="1158840" cy="360360"/>
                </a:xfrm>
                <a:custGeom>
                  <a:avLst/>
                  <a:gdLst/>
                  <a:ahLst/>
                  <a:rect l="l" t="t" r="r" b="b"/>
                  <a:pathLst>
                    <a:path w="3221" h="1001">
                      <a:moveTo>
                        <a:pt x="3220" y="133"/>
                      </a:moveTo>
                      <a:lnTo>
                        <a:pt x="3197" y="408"/>
                      </a:lnTo>
                      <a:lnTo>
                        <a:pt x="3167" y="535"/>
                      </a:lnTo>
                      <a:lnTo>
                        <a:pt x="3125" y="647"/>
                      </a:lnTo>
                      <a:lnTo>
                        <a:pt x="3071" y="746"/>
                      </a:lnTo>
                      <a:lnTo>
                        <a:pt x="3003" y="830"/>
                      </a:lnTo>
                      <a:lnTo>
                        <a:pt x="2928" y="901"/>
                      </a:lnTo>
                      <a:lnTo>
                        <a:pt x="2846" y="948"/>
                      </a:lnTo>
                      <a:lnTo>
                        <a:pt x="2715" y="988"/>
                      </a:lnTo>
                      <a:lnTo>
                        <a:pt x="2563" y="1000"/>
                      </a:lnTo>
                      <a:lnTo>
                        <a:pt x="2320" y="943"/>
                      </a:lnTo>
                      <a:lnTo>
                        <a:pt x="2282" y="734"/>
                      </a:lnTo>
                      <a:lnTo>
                        <a:pt x="2245" y="676"/>
                      </a:lnTo>
                      <a:lnTo>
                        <a:pt x="2189" y="622"/>
                      </a:lnTo>
                      <a:lnTo>
                        <a:pt x="2109" y="589"/>
                      </a:lnTo>
                      <a:lnTo>
                        <a:pt x="2001" y="575"/>
                      </a:lnTo>
                      <a:lnTo>
                        <a:pt x="1856" y="622"/>
                      </a:lnTo>
                      <a:lnTo>
                        <a:pt x="1763" y="704"/>
                      </a:lnTo>
                      <a:lnTo>
                        <a:pt x="1723" y="805"/>
                      </a:lnTo>
                      <a:lnTo>
                        <a:pt x="1498" y="753"/>
                      </a:lnTo>
                      <a:lnTo>
                        <a:pt x="1238" y="685"/>
                      </a:lnTo>
                      <a:lnTo>
                        <a:pt x="1100" y="647"/>
                      </a:lnTo>
                      <a:lnTo>
                        <a:pt x="962" y="607"/>
                      </a:lnTo>
                      <a:lnTo>
                        <a:pt x="822" y="572"/>
                      </a:lnTo>
                      <a:lnTo>
                        <a:pt x="679" y="537"/>
                      </a:lnTo>
                      <a:lnTo>
                        <a:pt x="667" y="483"/>
                      </a:lnTo>
                      <a:lnTo>
                        <a:pt x="618" y="370"/>
                      </a:lnTo>
                      <a:lnTo>
                        <a:pt x="576" y="309"/>
                      </a:lnTo>
                      <a:lnTo>
                        <a:pt x="518" y="262"/>
                      </a:lnTo>
                      <a:lnTo>
                        <a:pt x="443" y="232"/>
                      </a:lnTo>
                      <a:lnTo>
                        <a:pt x="347" y="227"/>
                      </a:lnTo>
                      <a:lnTo>
                        <a:pt x="192" y="284"/>
                      </a:lnTo>
                      <a:lnTo>
                        <a:pt x="122" y="373"/>
                      </a:lnTo>
                      <a:lnTo>
                        <a:pt x="110" y="500"/>
                      </a:lnTo>
                      <a:lnTo>
                        <a:pt x="0" y="0"/>
                      </a:lnTo>
                      <a:lnTo>
                        <a:pt x="122" y="244"/>
                      </a:lnTo>
                      <a:lnTo>
                        <a:pt x="190" y="199"/>
                      </a:lnTo>
                      <a:lnTo>
                        <a:pt x="265" y="171"/>
                      </a:lnTo>
                      <a:lnTo>
                        <a:pt x="359" y="152"/>
                      </a:lnTo>
                      <a:lnTo>
                        <a:pt x="581" y="208"/>
                      </a:lnTo>
                      <a:lnTo>
                        <a:pt x="698" y="307"/>
                      </a:lnTo>
                      <a:lnTo>
                        <a:pt x="754" y="382"/>
                      </a:lnTo>
                      <a:lnTo>
                        <a:pt x="810" y="476"/>
                      </a:lnTo>
                      <a:lnTo>
                        <a:pt x="948" y="523"/>
                      </a:lnTo>
                      <a:lnTo>
                        <a:pt x="1056" y="563"/>
                      </a:lnTo>
                      <a:lnTo>
                        <a:pt x="1215" y="619"/>
                      </a:lnTo>
                      <a:lnTo>
                        <a:pt x="1381" y="652"/>
                      </a:lnTo>
                      <a:lnTo>
                        <a:pt x="1636" y="671"/>
                      </a:lnTo>
                      <a:lnTo>
                        <a:pt x="1742" y="563"/>
                      </a:lnTo>
                      <a:lnTo>
                        <a:pt x="1777" y="537"/>
                      </a:lnTo>
                      <a:lnTo>
                        <a:pt x="1830" y="516"/>
                      </a:lnTo>
                      <a:lnTo>
                        <a:pt x="2001" y="504"/>
                      </a:lnTo>
                      <a:lnTo>
                        <a:pt x="2151" y="537"/>
                      </a:lnTo>
                      <a:lnTo>
                        <a:pt x="2266" y="603"/>
                      </a:lnTo>
                      <a:lnTo>
                        <a:pt x="2341" y="715"/>
                      </a:lnTo>
                      <a:lnTo>
                        <a:pt x="2371" y="889"/>
                      </a:lnTo>
                      <a:lnTo>
                        <a:pt x="2537" y="896"/>
                      </a:lnTo>
                      <a:lnTo>
                        <a:pt x="2699" y="826"/>
                      </a:lnTo>
                      <a:lnTo>
                        <a:pt x="2813" y="697"/>
                      </a:lnTo>
                      <a:lnTo>
                        <a:pt x="2837" y="523"/>
                      </a:lnTo>
                      <a:lnTo>
                        <a:pt x="3024" y="403"/>
                      </a:lnTo>
                      <a:lnTo>
                        <a:pt x="3127" y="28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6102360" y="6775560"/>
                <a:ext cx="173160" cy="177840"/>
                <a:chOff x="6102360" y="6775560"/>
                <a:chExt cx="173160" cy="1778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102360" y="6775560"/>
                  <a:ext cx="173160" cy="177840"/>
                </a:xfrm>
                <a:custGeom>
                  <a:avLst/>
                  <a:gdLst/>
                  <a:ahLst/>
                  <a:rect l="l" t="t" r="r" b="b"/>
                  <a:pathLst>
                    <a:path w="482" h="494">
                      <a:moveTo>
                        <a:pt x="145" y="14"/>
                      </a:moveTo>
                      <a:lnTo>
                        <a:pt x="437" y="145"/>
                      </a:lnTo>
                      <a:lnTo>
                        <a:pt x="421" y="194"/>
                      </a:lnTo>
                      <a:lnTo>
                        <a:pt x="386" y="225"/>
                      </a:lnTo>
                      <a:lnTo>
                        <a:pt x="329" y="239"/>
                      </a:lnTo>
                      <a:lnTo>
                        <a:pt x="0" y="122"/>
                      </a:lnTo>
                      <a:lnTo>
                        <a:pt x="70" y="220"/>
                      </a:lnTo>
                      <a:lnTo>
                        <a:pt x="112" y="279"/>
                      </a:lnTo>
                      <a:lnTo>
                        <a:pt x="161" y="340"/>
                      </a:lnTo>
                      <a:lnTo>
                        <a:pt x="208" y="396"/>
                      </a:lnTo>
                      <a:lnTo>
                        <a:pt x="250" y="443"/>
                      </a:lnTo>
                      <a:lnTo>
                        <a:pt x="290" y="476"/>
                      </a:lnTo>
                      <a:lnTo>
                        <a:pt x="322" y="493"/>
                      </a:lnTo>
                      <a:lnTo>
                        <a:pt x="367" y="488"/>
                      </a:lnTo>
                      <a:lnTo>
                        <a:pt x="386" y="467"/>
                      </a:lnTo>
                      <a:lnTo>
                        <a:pt x="257" y="361"/>
                      </a:lnTo>
                      <a:lnTo>
                        <a:pt x="189" y="284"/>
                      </a:lnTo>
                      <a:lnTo>
                        <a:pt x="126" y="208"/>
                      </a:lnTo>
                      <a:lnTo>
                        <a:pt x="152" y="225"/>
                      </a:lnTo>
                      <a:lnTo>
                        <a:pt x="215" y="255"/>
                      </a:lnTo>
                      <a:lnTo>
                        <a:pt x="299" y="281"/>
                      </a:lnTo>
                      <a:lnTo>
                        <a:pt x="374" y="281"/>
                      </a:lnTo>
                      <a:lnTo>
                        <a:pt x="472" y="201"/>
                      </a:lnTo>
                      <a:lnTo>
                        <a:pt x="481" y="147"/>
                      </a:lnTo>
                      <a:lnTo>
                        <a:pt x="460" y="72"/>
                      </a:lnTo>
                      <a:lnTo>
                        <a:pt x="425" y="37"/>
                      </a:lnTo>
                      <a:lnTo>
                        <a:pt x="369" y="11"/>
                      </a:lnTo>
                      <a:lnTo>
                        <a:pt x="22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6051600" y="6593040"/>
                <a:ext cx="71280" cy="204480"/>
                <a:chOff x="6051600" y="6593040"/>
                <a:chExt cx="71280" cy="2044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051600" y="6593040"/>
                  <a:ext cx="71280" cy="204480"/>
                </a:xfrm>
                <a:custGeom>
                  <a:avLst/>
                  <a:gdLst/>
                  <a:ahLst/>
                  <a:rect l="l" t="t" r="r" b="b"/>
                  <a:pathLst>
                    <a:path w="198" h="569">
                      <a:moveTo>
                        <a:pt x="17" y="0"/>
                      </a:moveTo>
                      <a:lnTo>
                        <a:pt x="38" y="54"/>
                      </a:lnTo>
                      <a:lnTo>
                        <a:pt x="86" y="172"/>
                      </a:lnTo>
                      <a:lnTo>
                        <a:pt x="145" y="296"/>
                      </a:lnTo>
                      <a:lnTo>
                        <a:pt x="197" y="370"/>
                      </a:lnTo>
                      <a:lnTo>
                        <a:pt x="183" y="405"/>
                      </a:lnTo>
                      <a:lnTo>
                        <a:pt x="162" y="370"/>
                      </a:lnTo>
                      <a:lnTo>
                        <a:pt x="112" y="292"/>
                      </a:lnTo>
                      <a:lnTo>
                        <a:pt x="36" y="153"/>
                      </a:lnTo>
                      <a:lnTo>
                        <a:pt x="57" y="287"/>
                      </a:lnTo>
                      <a:lnTo>
                        <a:pt x="95" y="395"/>
                      </a:lnTo>
                      <a:lnTo>
                        <a:pt x="141" y="480"/>
                      </a:lnTo>
                      <a:lnTo>
                        <a:pt x="193" y="546"/>
                      </a:lnTo>
                      <a:lnTo>
                        <a:pt x="162" y="563"/>
                      </a:lnTo>
                      <a:lnTo>
                        <a:pt x="124" y="568"/>
                      </a:lnTo>
                      <a:lnTo>
                        <a:pt x="76" y="485"/>
                      </a:lnTo>
                      <a:lnTo>
                        <a:pt x="15" y="329"/>
                      </a:lnTo>
                      <a:lnTo>
                        <a:pt x="0" y="14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581360" y="6165720"/>
                <a:ext cx="249480" cy="276480"/>
                <a:chOff x="4581360" y="6165720"/>
                <a:chExt cx="249480" cy="276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81360" y="6165720"/>
                  <a:ext cx="249480" cy="276480"/>
                </a:xfrm>
                <a:custGeom>
                  <a:avLst/>
                  <a:gdLst/>
                  <a:ahLst/>
                  <a:rect l="l" t="t" r="r" b="b"/>
                  <a:pathLst>
                    <a:path w="694" h="767">
                      <a:moveTo>
                        <a:pt x="0" y="156"/>
                      </a:moveTo>
                      <a:lnTo>
                        <a:pt x="52" y="84"/>
                      </a:lnTo>
                      <a:lnTo>
                        <a:pt x="118" y="35"/>
                      </a:lnTo>
                      <a:lnTo>
                        <a:pt x="195" y="4"/>
                      </a:lnTo>
                      <a:lnTo>
                        <a:pt x="274" y="0"/>
                      </a:lnTo>
                      <a:lnTo>
                        <a:pt x="417" y="70"/>
                      </a:lnTo>
                      <a:lnTo>
                        <a:pt x="483" y="262"/>
                      </a:lnTo>
                      <a:lnTo>
                        <a:pt x="480" y="342"/>
                      </a:lnTo>
                      <a:lnTo>
                        <a:pt x="574" y="414"/>
                      </a:lnTo>
                      <a:lnTo>
                        <a:pt x="693" y="632"/>
                      </a:lnTo>
                      <a:lnTo>
                        <a:pt x="677" y="721"/>
                      </a:lnTo>
                      <a:lnTo>
                        <a:pt x="628" y="766"/>
                      </a:lnTo>
                      <a:lnTo>
                        <a:pt x="445" y="747"/>
                      </a:lnTo>
                      <a:lnTo>
                        <a:pt x="319" y="648"/>
                      </a:lnTo>
                      <a:lnTo>
                        <a:pt x="249" y="573"/>
                      </a:lnTo>
                      <a:lnTo>
                        <a:pt x="185" y="489"/>
                      </a:lnTo>
                      <a:lnTo>
                        <a:pt x="125" y="400"/>
                      </a:lnTo>
                      <a:lnTo>
                        <a:pt x="75" y="318"/>
                      </a:lnTo>
                      <a:lnTo>
                        <a:pt x="22" y="196"/>
                      </a:lnTo>
                      <a:lnTo>
                        <a:pt x="59" y="229"/>
                      </a:lnTo>
                      <a:lnTo>
                        <a:pt x="115" y="306"/>
                      </a:lnTo>
                      <a:lnTo>
                        <a:pt x="176" y="384"/>
                      </a:lnTo>
                      <a:lnTo>
                        <a:pt x="251" y="475"/>
                      </a:lnTo>
                      <a:lnTo>
                        <a:pt x="335" y="566"/>
                      </a:lnTo>
                      <a:lnTo>
                        <a:pt x="417" y="646"/>
                      </a:lnTo>
                      <a:lnTo>
                        <a:pt x="459" y="676"/>
                      </a:lnTo>
                      <a:lnTo>
                        <a:pt x="499" y="702"/>
                      </a:lnTo>
                      <a:lnTo>
                        <a:pt x="569" y="728"/>
                      </a:lnTo>
                      <a:lnTo>
                        <a:pt x="663" y="674"/>
                      </a:lnTo>
                      <a:lnTo>
                        <a:pt x="630" y="559"/>
                      </a:lnTo>
                      <a:lnTo>
                        <a:pt x="567" y="470"/>
                      </a:lnTo>
                      <a:lnTo>
                        <a:pt x="518" y="416"/>
                      </a:lnTo>
                      <a:lnTo>
                        <a:pt x="459" y="356"/>
                      </a:lnTo>
                      <a:lnTo>
                        <a:pt x="417" y="325"/>
                      </a:lnTo>
                      <a:lnTo>
                        <a:pt x="399" y="208"/>
                      </a:lnTo>
                      <a:lnTo>
                        <a:pt x="368" y="119"/>
                      </a:lnTo>
                      <a:lnTo>
                        <a:pt x="321" y="58"/>
                      </a:lnTo>
                      <a:lnTo>
                        <a:pt x="211" y="25"/>
                      </a:lnTo>
                      <a:lnTo>
                        <a:pt x="129" y="56"/>
                      </a:lnTo>
                      <a:lnTo>
                        <a:pt x="43" y="145"/>
                      </a:lnTo>
                      <a:lnTo>
                        <a:pt x="169" y="196"/>
                      </a:lnTo>
                      <a:lnTo>
                        <a:pt x="281" y="250"/>
                      </a:lnTo>
                      <a:lnTo>
                        <a:pt x="384" y="311"/>
                      </a:lnTo>
                      <a:lnTo>
                        <a:pt x="239" y="267"/>
                      </a:lnTo>
                      <a:lnTo>
                        <a:pt x="153" y="229"/>
                      </a:lnTo>
                      <a:lnTo>
                        <a:pt x="78" y="1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4579920" y="6411960"/>
                <a:ext cx="154080" cy="61920"/>
                <a:chOff x="4579920" y="6411960"/>
                <a:chExt cx="154080" cy="619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4579920" y="6411960"/>
                  <a:ext cx="154080" cy="61920"/>
                </a:xfrm>
                <a:custGeom>
                  <a:avLst/>
                  <a:gdLst/>
                  <a:ahLst/>
                  <a:rect l="l" t="t" r="r" b="b"/>
                  <a:pathLst>
                    <a:path w="427" h="170">
                      <a:moveTo>
                        <a:pt x="426" y="0"/>
                      </a:moveTo>
                      <a:lnTo>
                        <a:pt x="408" y="65"/>
                      </a:lnTo>
                      <a:lnTo>
                        <a:pt x="342" y="120"/>
                      </a:lnTo>
                      <a:lnTo>
                        <a:pt x="284" y="147"/>
                      </a:lnTo>
                      <a:lnTo>
                        <a:pt x="202" y="169"/>
                      </a:lnTo>
                      <a:lnTo>
                        <a:pt x="36" y="161"/>
                      </a:lnTo>
                      <a:lnTo>
                        <a:pt x="0" y="135"/>
                      </a:lnTo>
                      <a:lnTo>
                        <a:pt x="29" y="84"/>
                      </a:lnTo>
                      <a:lnTo>
                        <a:pt x="82" y="113"/>
                      </a:lnTo>
                      <a:lnTo>
                        <a:pt x="298" y="84"/>
                      </a:lnTo>
                      <a:lnTo>
                        <a:pt x="419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560840" y="6288120"/>
                <a:ext cx="85680" cy="33480"/>
                <a:chOff x="4560840" y="6288120"/>
                <a:chExt cx="85680" cy="334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560840" y="6288120"/>
                  <a:ext cx="85680" cy="33480"/>
                </a:xfrm>
                <a:custGeom>
                  <a:avLst/>
                  <a:gdLst/>
                  <a:ahLst/>
                  <a:rect l="l" t="t" r="r" b="b"/>
                  <a:pathLst>
                    <a:path w="239" h="94">
                      <a:moveTo>
                        <a:pt x="238" y="93"/>
                      </a:moveTo>
                      <a:lnTo>
                        <a:pt x="218" y="71"/>
                      </a:lnTo>
                      <a:lnTo>
                        <a:pt x="155" y="22"/>
                      </a:lnTo>
                      <a:lnTo>
                        <a:pt x="78" y="0"/>
                      </a:lnTo>
                      <a:lnTo>
                        <a:pt x="0" y="48"/>
                      </a:lnTo>
                      <a:lnTo>
                        <a:pt x="88" y="34"/>
                      </a:lnTo>
                      <a:lnTo>
                        <a:pt x="183" y="6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4587840" y="6300720"/>
                <a:ext cx="22320" cy="20880"/>
                <a:chOff x="4587840" y="6300720"/>
                <a:chExt cx="22320" cy="208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587840" y="6300720"/>
                  <a:ext cx="22320" cy="20880"/>
                </a:xfrm>
                <a:custGeom>
                  <a:avLst/>
                  <a:gdLst/>
                  <a:ahLst/>
                  <a:rect l="l" t="t" r="r" b="b"/>
                  <a:pathLst>
                    <a:path w="61" h="58">
                      <a:moveTo>
                        <a:pt x="29" y="0"/>
                      </a:moveTo>
                      <a:lnTo>
                        <a:pt x="60" y="44"/>
                      </a:lnTo>
                      <a:lnTo>
                        <a:pt x="24" y="57"/>
                      </a:lnTo>
                      <a:lnTo>
                        <a:pt x="0" y="2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4468680" y="6230880"/>
                <a:ext cx="112680" cy="422280"/>
                <a:chOff x="4468680" y="6230880"/>
                <a:chExt cx="112680" cy="4222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468680" y="6230880"/>
                  <a:ext cx="112680" cy="422280"/>
                </a:xfrm>
                <a:custGeom>
                  <a:avLst/>
                  <a:gdLst/>
                  <a:ahLst/>
                  <a:rect l="l" t="t" r="r" b="b"/>
                  <a:pathLst>
                    <a:path w="314" h="1174">
                      <a:moveTo>
                        <a:pt x="313" y="0"/>
                      </a:moveTo>
                      <a:lnTo>
                        <a:pt x="276" y="56"/>
                      </a:lnTo>
                      <a:lnTo>
                        <a:pt x="188" y="213"/>
                      </a:lnTo>
                      <a:lnTo>
                        <a:pt x="126" y="206"/>
                      </a:lnTo>
                      <a:lnTo>
                        <a:pt x="53" y="238"/>
                      </a:lnTo>
                      <a:lnTo>
                        <a:pt x="72" y="278"/>
                      </a:lnTo>
                      <a:lnTo>
                        <a:pt x="105" y="297"/>
                      </a:lnTo>
                      <a:lnTo>
                        <a:pt x="152" y="306"/>
                      </a:lnTo>
                      <a:lnTo>
                        <a:pt x="53" y="1095"/>
                      </a:lnTo>
                      <a:lnTo>
                        <a:pt x="247" y="1123"/>
                      </a:lnTo>
                      <a:lnTo>
                        <a:pt x="162" y="1158"/>
                      </a:lnTo>
                      <a:lnTo>
                        <a:pt x="81" y="1173"/>
                      </a:lnTo>
                      <a:lnTo>
                        <a:pt x="22" y="1158"/>
                      </a:lnTo>
                      <a:lnTo>
                        <a:pt x="0" y="1105"/>
                      </a:lnTo>
                      <a:lnTo>
                        <a:pt x="5" y="1067"/>
                      </a:lnTo>
                      <a:lnTo>
                        <a:pt x="41" y="730"/>
                      </a:lnTo>
                      <a:lnTo>
                        <a:pt x="102" y="339"/>
                      </a:lnTo>
                      <a:lnTo>
                        <a:pt x="15" y="222"/>
                      </a:lnTo>
                      <a:lnTo>
                        <a:pt x="38" y="180"/>
                      </a:lnTo>
                      <a:lnTo>
                        <a:pt x="86" y="168"/>
                      </a:lnTo>
                      <a:lnTo>
                        <a:pt x="155" y="173"/>
                      </a:lnTo>
                      <a:lnTo>
                        <a:pt x="231" y="8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557600" y="6470640"/>
                <a:ext cx="79560" cy="169920"/>
                <a:chOff x="4557600" y="6470640"/>
                <a:chExt cx="79560" cy="1699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557600" y="6470640"/>
                  <a:ext cx="79560" cy="169920"/>
                </a:xfrm>
                <a:custGeom>
                  <a:avLst/>
                  <a:gdLst/>
                  <a:ahLst/>
                  <a:rect l="l" t="t" r="r" b="b"/>
                  <a:pathLst>
                    <a:path w="222" h="470">
                      <a:moveTo>
                        <a:pt x="221" y="0"/>
                      </a:moveTo>
                      <a:lnTo>
                        <a:pt x="163" y="104"/>
                      </a:lnTo>
                      <a:lnTo>
                        <a:pt x="69" y="458"/>
                      </a:lnTo>
                      <a:lnTo>
                        <a:pt x="0" y="469"/>
                      </a:lnTo>
                      <a:lnTo>
                        <a:pt x="57" y="288"/>
                      </a:lnTo>
                      <a:lnTo>
                        <a:pt x="118" y="137"/>
                      </a:lnTo>
                      <a:lnTo>
                        <a:pt x="153" y="69"/>
                      </a:lnTo>
                      <a:lnTo>
                        <a:pt x="191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664160" y="6470640"/>
                <a:ext cx="196920" cy="152280"/>
                <a:chOff x="4664160" y="6470640"/>
                <a:chExt cx="196920" cy="1522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664160" y="6470640"/>
                  <a:ext cx="196920" cy="152280"/>
                </a:xfrm>
                <a:custGeom>
                  <a:avLst/>
                  <a:gdLst/>
                  <a:ahLst/>
                  <a:rect l="l" t="t" r="r" b="b"/>
                  <a:pathLst>
                    <a:path w="549" h="424">
                      <a:moveTo>
                        <a:pt x="21" y="0"/>
                      </a:moveTo>
                      <a:lnTo>
                        <a:pt x="135" y="23"/>
                      </a:lnTo>
                      <a:lnTo>
                        <a:pt x="351" y="103"/>
                      </a:lnTo>
                      <a:lnTo>
                        <a:pt x="497" y="230"/>
                      </a:lnTo>
                      <a:lnTo>
                        <a:pt x="548" y="296"/>
                      </a:lnTo>
                      <a:lnTo>
                        <a:pt x="411" y="423"/>
                      </a:lnTo>
                      <a:lnTo>
                        <a:pt x="458" y="291"/>
                      </a:lnTo>
                      <a:lnTo>
                        <a:pt x="428" y="249"/>
                      </a:lnTo>
                      <a:lnTo>
                        <a:pt x="356" y="178"/>
                      </a:lnTo>
                      <a:lnTo>
                        <a:pt x="305" y="141"/>
                      </a:lnTo>
                      <a:lnTo>
                        <a:pt x="240" y="101"/>
                      </a:lnTo>
                      <a:lnTo>
                        <a:pt x="163" y="68"/>
                      </a:lnTo>
                      <a:lnTo>
                        <a:pt x="70" y="3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660920" y="6581880"/>
                <a:ext cx="139680" cy="38160"/>
                <a:chOff x="4660920" y="6581880"/>
                <a:chExt cx="139680" cy="381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660920" y="6581880"/>
                  <a:ext cx="139680" cy="38160"/>
                </a:xfrm>
                <a:custGeom>
                  <a:avLst/>
                  <a:gdLst/>
                  <a:ahLst/>
                  <a:rect l="l" t="t" r="r" b="b"/>
                  <a:pathLst>
                    <a:path w="390" h="104">
                      <a:moveTo>
                        <a:pt x="389" y="103"/>
                      </a:moveTo>
                      <a:lnTo>
                        <a:pt x="345" y="88"/>
                      </a:lnTo>
                      <a:lnTo>
                        <a:pt x="240" y="58"/>
                      </a:lnTo>
                      <a:lnTo>
                        <a:pt x="115" y="42"/>
                      </a:lnTo>
                      <a:lnTo>
                        <a:pt x="0" y="72"/>
                      </a:lnTo>
                      <a:lnTo>
                        <a:pt x="59" y="31"/>
                      </a:lnTo>
                      <a:lnTo>
                        <a:pt x="122" y="4"/>
                      </a:lnTo>
                      <a:lnTo>
                        <a:pt x="198" y="0"/>
                      </a:lnTo>
                      <a:lnTo>
                        <a:pt x="373" y="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813200" y="6585120"/>
                <a:ext cx="74880" cy="58680"/>
                <a:chOff x="4813200" y="6585120"/>
                <a:chExt cx="74880" cy="586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813200" y="6585120"/>
                  <a:ext cx="74880" cy="58680"/>
                </a:xfrm>
                <a:custGeom>
                  <a:avLst/>
                  <a:gdLst/>
                  <a:ahLst/>
                  <a:rect l="l" t="t" r="r" b="b"/>
                  <a:pathLst>
                    <a:path w="206" h="165">
                      <a:moveTo>
                        <a:pt x="155" y="0"/>
                      </a:moveTo>
                      <a:lnTo>
                        <a:pt x="205" y="95"/>
                      </a:lnTo>
                      <a:lnTo>
                        <a:pt x="141" y="73"/>
                      </a:lnTo>
                      <a:lnTo>
                        <a:pt x="136" y="142"/>
                      </a:lnTo>
                      <a:lnTo>
                        <a:pt x="76" y="106"/>
                      </a:lnTo>
                      <a:lnTo>
                        <a:pt x="64" y="164"/>
                      </a:lnTo>
                      <a:lnTo>
                        <a:pt x="0" y="104"/>
                      </a:lnTo>
                      <a:lnTo>
                        <a:pt x="33" y="104"/>
                      </a:lnTo>
                      <a:lnTo>
                        <a:pt x="45" y="61"/>
                      </a:lnTo>
                      <a:lnTo>
                        <a:pt x="107" y="90"/>
                      </a:lnTo>
                      <a:lnTo>
                        <a:pt x="107" y="28"/>
                      </a:lnTo>
                      <a:lnTo>
                        <a:pt x="165" y="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645080" y="6607080"/>
                <a:ext cx="39600" cy="95400"/>
                <a:chOff x="4645080" y="6607080"/>
                <a:chExt cx="39600" cy="954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645080" y="6607080"/>
                  <a:ext cx="39600" cy="95400"/>
                </a:xfrm>
                <a:custGeom>
                  <a:avLst/>
                  <a:gdLst/>
                  <a:ahLst/>
                  <a:rect l="l" t="t" r="r" b="b"/>
                  <a:pathLst>
                    <a:path w="109" h="264">
                      <a:moveTo>
                        <a:pt x="108" y="16"/>
                      </a:moveTo>
                      <a:lnTo>
                        <a:pt x="65" y="0"/>
                      </a:lnTo>
                      <a:lnTo>
                        <a:pt x="0" y="263"/>
                      </a:lnTo>
                      <a:lnTo>
                        <a:pt x="33" y="157"/>
                      </a:lnTo>
                      <a:lnTo>
                        <a:pt x="67" y="6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498920" y="6676920"/>
                <a:ext cx="203400" cy="328680"/>
                <a:chOff x="4498920" y="6676920"/>
                <a:chExt cx="203400" cy="3286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498920" y="6676920"/>
                  <a:ext cx="203400" cy="328680"/>
                </a:xfrm>
                <a:custGeom>
                  <a:avLst/>
                  <a:gdLst/>
                  <a:ahLst/>
                  <a:rect l="l" t="t" r="r" b="b"/>
                  <a:pathLst>
                    <a:path w="563" h="913">
                      <a:moveTo>
                        <a:pt x="407" y="0"/>
                      </a:moveTo>
                      <a:lnTo>
                        <a:pt x="419" y="208"/>
                      </a:lnTo>
                      <a:lnTo>
                        <a:pt x="458" y="494"/>
                      </a:lnTo>
                      <a:lnTo>
                        <a:pt x="500" y="665"/>
                      </a:lnTo>
                      <a:lnTo>
                        <a:pt x="562" y="841"/>
                      </a:lnTo>
                      <a:lnTo>
                        <a:pt x="391" y="841"/>
                      </a:lnTo>
                      <a:lnTo>
                        <a:pt x="458" y="858"/>
                      </a:lnTo>
                      <a:lnTo>
                        <a:pt x="544" y="867"/>
                      </a:lnTo>
                      <a:lnTo>
                        <a:pt x="525" y="912"/>
                      </a:lnTo>
                      <a:lnTo>
                        <a:pt x="319" y="890"/>
                      </a:lnTo>
                      <a:lnTo>
                        <a:pt x="21" y="820"/>
                      </a:lnTo>
                      <a:lnTo>
                        <a:pt x="0" y="787"/>
                      </a:lnTo>
                      <a:lnTo>
                        <a:pt x="19" y="776"/>
                      </a:lnTo>
                      <a:lnTo>
                        <a:pt x="200" y="799"/>
                      </a:lnTo>
                      <a:lnTo>
                        <a:pt x="444" y="766"/>
                      </a:lnTo>
                      <a:lnTo>
                        <a:pt x="444" y="684"/>
                      </a:lnTo>
                      <a:lnTo>
                        <a:pt x="386" y="454"/>
                      </a:lnTo>
                      <a:lnTo>
                        <a:pt x="377" y="20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457880" y="6772320"/>
                <a:ext cx="109440" cy="129960"/>
                <a:chOff x="4457880" y="6772320"/>
                <a:chExt cx="109440" cy="1299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457880" y="6772320"/>
                  <a:ext cx="109440" cy="129960"/>
                </a:xfrm>
                <a:custGeom>
                  <a:avLst/>
                  <a:gdLst/>
                  <a:ahLst/>
                  <a:rect l="l" t="t" r="r" b="b"/>
                  <a:pathLst>
                    <a:path w="306" h="363">
                      <a:moveTo>
                        <a:pt x="148" y="35"/>
                      </a:moveTo>
                      <a:lnTo>
                        <a:pt x="0" y="0"/>
                      </a:lnTo>
                      <a:lnTo>
                        <a:pt x="57" y="56"/>
                      </a:lnTo>
                      <a:lnTo>
                        <a:pt x="87" y="159"/>
                      </a:lnTo>
                      <a:lnTo>
                        <a:pt x="115" y="209"/>
                      </a:lnTo>
                      <a:lnTo>
                        <a:pt x="162" y="258"/>
                      </a:lnTo>
                      <a:lnTo>
                        <a:pt x="223" y="310"/>
                      </a:lnTo>
                      <a:lnTo>
                        <a:pt x="305" y="362"/>
                      </a:lnTo>
                      <a:lnTo>
                        <a:pt x="282" y="331"/>
                      </a:lnTo>
                      <a:lnTo>
                        <a:pt x="221" y="258"/>
                      </a:lnTo>
                      <a:lnTo>
                        <a:pt x="153" y="173"/>
                      </a:lnTo>
                      <a:lnTo>
                        <a:pt x="108" y="101"/>
                      </a:lnTo>
                      <a:lnTo>
                        <a:pt x="130" y="91"/>
                      </a:lnTo>
                      <a:lnTo>
                        <a:pt x="78" y="49"/>
                      </a:lnTo>
                      <a:lnTo>
                        <a:pt x="148" y="6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378320" y="6716880"/>
                <a:ext cx="135000" cy="207720"/>
                <a:chOff x="4378320" y="6716880"/>
                <a:chExt cx="135000" cy="2077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378320" y="6716880"/>
                  <a:ext cx="135000" cy="207720"/>
                </a:xfrm>
                <a:custGeom>
                  <a:avLst/>
                  <a:gdLst/>
                  <a:ahLst/>
                  <a:rect l="l" t="t" r="r" b="b"/>
                  <a:pathLst>
                    <a:path w="376" h="578">
                      <a:moveTo>
                        <a:pt x="3" y="0"/>
                      </a:moveTo>
                      <a:lnTo>
                        <a:pt x="52" y="138"/>
                      </a:lnTo>
                      <a:lnTo>
                        <a:pt x="83" y="215"/>
                      </a:lnTo>
                      <a:lnTo>
                        <a:pt x="123" y="293"/>
                      </a:lnTo>
                      <a:lnTo>
                        <a:pt x="173" y="370"/>
                      </a:lnTo>
                      <a:lnTo>
                        <a:pt x="229" y="445"/>
                      </a:lnTo>
                      <a:lnTo>
                        <a:pt x="298" y="511"/>
                      </a:lnTo>
                      <a:lnTo>
                        <a:pt x="375" y="577"/>
                      </a:lnTo>
                      <a:lnTo>
                        <a:pt x="293" y="537"/>
                      </a:lnTo>
                      <a:lnTo>
                        <a:pt x="107" y="372"/>
                      </a:lnTo>
                      <a:lnTo>
                        <a:pt x="34" y="236"/>
                      </a:lnTo>
                      <a:lnTo>
                        <a:pt x="3" y="11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4437000" y="6899400"/>
                <a:ext cx="50760" cy="71280"/>
                <a:chOff x="4437000" y="6899400"/>
                <a:chExt cx="50760" cy="7128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4437000" y="6899400"/>
                  <a:ext cx="50760" cy="71280"/>
                </a:xfrm>
                <a:custGeom>
                  <a:avLst/>
                  <a:gdLst/>
                  <a:ahLst/>
                  <a:rect l="l" t="t" r="r" b="b"/>
                  <a:pathLst>
                    <a:path w="142" h="198">
                      <a:moveTo>
                        <a:pt x="52" y="0"/>
                      </a:moveTo>
                      <a:lnTo>
                        <a:pt x="104" y="44"/>
                      </a:lnTo>
                      <a:lnTo>
                        <a:pt x="141" y="171"/>
                      </a:lnTo>
                      <a:lnTo>
                        <a:pt x="73" y="194"/>
                      </a:lnTo>
                      <a:lnTo>
                        <a:pt x="0" y="197"/>
                      </a:lnTo>
                      <a:lnTo>
                        <a:pt x="59" y="140"/>
                      </a:lnTo>
                      <a:lnTo>
                        <a:pt x="69" y="7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4324320" y="6473880"/>
                <a:ext cx="157320" cy="206280"/>
                <a:chOff x="4324320" y="6473880"/>
                <a:chExt cx="157320" cy="20628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324320" y="6473880"/>
                  <a:ext cx="157320" cy="206280"/>
                </a:xfrm>
                <a:custGeom>
                  <a:avLst/>
                  <a:gdLst/>
                  <a:ahLst/>
                  <a:rect l="l" t="t" r="r" b="b"/>
                  <a:pathLst>
                    <a:path w="437" h="574">
                      <a:moveTo>
                        <a:pt x="436" y="0"/>
                      </a:moveTo>
                      <a:lnTo>
                        <a:pt x="341" y="54"/>
                      </a:lnTo>
                      <a:lnTo>
                        <a:pt x="210" y="152"/>
                      </a:lnTo>
                      <a:lnTo>
                        <a:pt x="84" y="298"/>
                      </a:lnTo>
                      <a:lnTo>
                        <a:pt x="0" y="486"/>
                      </a:lnTo>
                      <a:lnTo>
                        <a:pt x="42" y="509"/>
                      </a:lnTo>
                      <a:lnTo>
                        <a:pt x="133" y="544"/>
                      </a:lnTo>
                      <a:lnTo>
                        <a:pt x="222" y="570"/>
                      </a:lnTo>
                      <a:lnTo>
                        <a:pt x="252" y="573"/>
                      </a:lnTo>
                      <a:lnTo>
                        <a:pt x="157" y="495"/>
                      </a:lnTo>
                      <a:lnTo>
                        <a:pt x="98" y="439"/>
                      </a:lnTo>
                      <a:lnTo>
                        <a:pt x="136" y="356"/>
                      </a:lnTo>
                      <a:lnTo>
                        <a:pt x="180" y="279"/>
                      </a:lnTo>
                      <a:lnTo>
                        <a:pt x="229" y="216"/>
                      </a:lnTo>
                      <a:lnTo>
                        <a:pt x="280" y="157"/>
                      </a:lnTo>
                      <a:lnTo>
                        <a:pt x="371" y="6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314960" y="6656400"/>
                <a:ext cx="104760" cy="66600"/>
                <a:chOff x="4314960" y="6656400"/>
                <a:chExt cx="104760" cy="666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4314960" y="6656400"/>
                  <a:ext cx="104760" cy="66600"/>
                </a:xfrm>
                <a:custGeom>
                  <a:avLst/>
                  <a:gdLst/>
                  <a:ahLst/>
                  <a:rect l="l" t="t" r="r" b="b"/>
                  <a:pathLst>
                    <a:path w="292" h="185">
                      <a:moveTo>
                        <a:pt x="291" y="76"/>
                      </a:moveTo>
                      <a:lnTo>
                        <a:pt x="216" y="184"/>
                      </a:lnTo>
                      <a:lnTo>
                        <a:pt x="169" y="81"/>
                      </a:lnTo>
                      <a:lnTo>
                        <a:pt x="94" y="158"/>
                      </a:lnTo>
                      <a:lnTo>
                        <a:pt x="78" y="62"/>
                      </a:lnTo>
                      <a:lnTo>
                        <a:pt x="0" y="114"/>
                      </a:lnTo>
                      <a:lnTo>
                        <a:pt x="24" y="0"/>
                      </a:lnTo>
                      <a:lnTo>
                        <a:pt x="40" y="53"/>
                      </a:lnTo>
                      <a:lnTo>
                        <a:pt x="90" y="16"/>
                      </a:lnTo>
                      <a:lnTo>
                        <a:pt x="120" y="90"/>
                      </a:lnTo>
                      <a:lnTo>
                        <a:pt x="172" y="20"/>
                      </a:lnTo>
                      <a:lnTo>
                        <a:pt x="216" y="10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826160" y="6626160"/>
                <a:ext cx="125280" cy="81000"/>
                <a:chOff x="4826160" y="6626160"/>
                <a:chExt cx="125280" cy="810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826160" y="6626160"/>
                  <a:ext cx="125280" cy="81000"/>
                </a:xfrm>
                <a:custGeom>
                  <a:avLst/>
                  <a:gdLst/>
                  <a:ahLst/>
                  <a:rect l="l" t="t" r="r" b="b"/>
                  <a:pathLst>
                    <a:path w="347" h="225">
                      <a:moveTo>
                        <a:pt x="0" y="97"/>
                      </a:moveTo>
                      <a:lnTo>
                        <a:pt x="64" y="135"/>
                      </a:lnTo>
                      <a:lnTo>
                        <a:pt x="165" y="175"/>
                      </a:lnTo>
                      <a:lnTo>
                        <a:pt x="271" y="208"/>
                      </a:lnTo>
                      <a:lnTo>
                        <a:pt x="339" y="224"/>
                      </a:lnTo>
                      <a:lnTo>
                        <a:pt x="337" y="203"/>
                      </a:lnTo>
                      <a:lnTo>
                        <a:pt x="215" y="153"/>
                      </a:lnTo>
                      <a:lnTo>
                        <a:pt x="88" y="99"/>
                      </a:lnTo>
                      <a:lnTo>
                        <a:pt x="290" y="45"/>
                      </a:lnTo>
                      <a:lnTo>
                        <a:pt x="346" y="182"/>
                      </a:lnTo>
                      <a:lnTo>
                        <a:pt x="328" y="0"/>
                      </a:lnTo>
                      <a:lnTo>
                        <a:pt x="123" y="2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6353280" y="6451560"/>
                <a:ext cx="101520" cy="85680"/>
                <a:chOff x="6353280" y="6451560"/>
                <a:chExt cx="101520" cy="856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6353280" y="6451560"/>
                  <a:ext cx="101520" cy="85680"/>
                </a:xfrm>
                <a:custGeom>
                  <a:avLst/>
                  <a:gdLst/>
                  <a:ahLst/>
                  <a:rect l="l" t="t" r="r" b="b"/>
                  <a:pathLst>
                    <a:path w="283" h="240">
                      <a:moveTo>
                        <a:pt x="282" y="13"/>
                      </a:moveTo>
                      <a:lnTo>
                        <a:pt x="150" y="0"/>
                      </a:lnTo>
                      <a:lnTo>
                        <a:pt x="56" y="27"/>
                      </a:lnTo>
                      <a:lnTo>
                        <a:pt x="7" y="79"/>
                      </a:lnTo>
                      <a:lnTo>
                        <a:pt x="0" y="114"/>
                      </a:lnTo>
                      <a:lnTo>
                        <a:pt x="10" y="149"/>
                      </a:lnTo>
                      <a:lnTo>
                        <a:pt x="59" y="223"/>
                      </a:lnTo>
                      <a:lnTo>
                        <a:pt x="145" y="239"/>
                      </a:lnTo>
                      <a:lnTo>
                        <a:pt x="192" y="216"/>
                      </a:lnTo>
                      <a:lnTo>
                        <a:pt x="222" y="160"/>
                      </a:lnTo>
                      <a:lnTo>
                        <a:pt x="171" y="188"/>
                      </a:lnTo>
                      <a:lnTo>
                        <a:pt x="126" y="202"/>
                      </a:lnTo>
                      <a:lnTo>
                        <a:pt x="54" y="128"/>
                      </a:lnTo>
                      <a:lnTo>
                        <a:pt x="70" y="58"/>
                      </a:lnTo>
                      <a:lnTo>
                        <a:pt x="131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6033960" y="7024680"/>
                <a:ext cx="155880" cy="166680"/>
                <a:chOff x="6033960" y="7024680"/>
                <a:chExt cx="155880" cy="1666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033960" y="7024680"/>
                  <a:ext cx="155880" cy="166680"/>
                </a:xfrm>
                <a:custGeom>
                  <a:avLst/>
                  <a:gdLst/>
                  <a:ahLst/>
                  <a:rect l="l" t="t" r="r" b="b"/>
                  <a:pathLst>
                    <a:path w="431" h="461">
                      <a:moveTo>
                        <a:pt x="293" y="16"/>
                      </a:moveTo>
                      <a:lnTo>
                        <a:pt x="360" y="84"/>
                      </a:lnTo>
                      <a:lnTo>
                        <a:pt x="430" y="155"/>
                      </a:lnTo>
                      <a:lnTo>
                        <a:pt x="409" y="365"/>
                      </a:lnTo>
                      <a:lnTo>
                        <a:pt x="318" y="415"/>
                      </a:lnTo>
                      <a:lnTo>
                        <a:pt x="230" y="460"/>
                      </a:lnTo>
                      <a:lnTo>
                        <a:pt x="43" y="398"/>
                      </a:lnTo>
                      <a:lnTo>
                        <a:pt x="0" y="238"/>
                      </a:lnTo>
                      <a:lnTo>
                        <a:pt x="24" y="129"/>
                      </a:lnTo>
                      <a:lnTo>
                        <a:pt x="71" y="54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898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6029280" y="7018200"/>
                <a:ext cx="184320" cy="189000"/>
                <a:chOff x="6029280" y="7018200"/>
                <a:chExt cx="184320" cy="1890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029280" y="7018200"/>
                  <a:ext cx="184320" cy="189000"/>
                </a:xfrm>
                <a:custGeom>
                  <a:avLst/>
                  <a:gdLst/>
                  <a:ahLst/>
                  <a:rect l="l" t="t" r="r" b="b"/>
                  <a:pathLst>
                    <a:path w="512" h="523">
                      <a:moveTo>
                        <a:pt x="511" y="285"/>
                      </a:moveTo>
                      <a:lnTo>
                        <a:pt x="502" y="359"/>
                      </a:lnTo>
                      <a:lnTo>
                        <a:pt x="474" y="415"/>
                      </a:lnTo>
                      <a:lnTo>
                        <a:pt x="436" y="462"/>
                      </a:lnTo>
                      <a:lnTo>
                        <a:pt x="387" y="493"/>
                      </a:lnTo>
                      <a:lnTo>
                        <a:pt x="281" y="522"/>
                      </a:lnTo>
                      <a:lnTo>
                        <a:pt x="179" y="510"/>
                      </a:lnTo>
                      <a:lnTo>
                        <a:pt x="55" y="425"/>
                      </a:lnTo>
                      <a:lnTo>
                        <a:pt x="0" y="299"/>
                      </a:lnTo>
                      <a:lnTo>
                        <a:pt x="12" y="170"/>
                      </a:lnTo>
                      <a:lnTo>
                        <a:pt x="43" y="111"/>
                      </a:lnTo>
                      <a:lnTo>
                        <a:pt x="92" y="61"/>
                      </a:lnTo>
                      <a:lnTo>
                        <a:pt x="29" y="243"/>
                      </a:lnTo>
                      <a:lnTo>
                        <a:pt x="62" y="349"/>
                      </a:lnTo>
                      <a:lnTo>
                        <a:pt x="102" y="389"/>
                      </a:lnTo>
                      <a:lnTo>
                        <a:pt x="163" y="418"/>
                      </a:lnTo>
                      <a:lnTo>
                        <a:pt x="260" y="420"/>
                      </a:lnTo>
                      <a:lnTo>
                        <a:pt x="337" y="380"/>
                      </a:lnTo>
                      <a:lnTo>
                        <a:pt x="398" y="226"/>
                      </a:lnTo>
                      <a:lnTo>
                        <a:pt x="375" y="148"/>
                      </a:lnTo>
                      <a:lnTo>
                        <a:pt x="321" y="80"/>
                      </a:lnTo>
                      <a:lnTo>
                        <a:pt x="248" y="37"/>
                      </a:lnTo>
                      <a:lnTo>
                        <a:pt x="158" y="25"/>
                      </a:lnTo>
                      <a:lnTo>
                        <a:pt x="252" y="0"/>
                      </a:lnTo>
                      <a:lnTo>
                        <a:pt x="363" y="21"/>
                      </a:lnTo>
                      <a:lnTo>
                        <a:pt x="467" y="1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066000" y="7061040"/>
                <a:ext cx="61920" cy="73080"/>
                <a:chOff x="6066000" y="7061040"/>
                <a:chExt cx="61920" cy="730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066000" y="7061040"/>
                  <a:ext cx="61920" cy="73080"/>
                </a:xfrm>
                <a:custGeom>
                  <a:avLst/>
                  <a:gdLst/>
                  <a:ahLst/>
                  <a:rect l="l" t="t" r="r" b="b"/>
                  <a:pathLst>
                    <a:path w="170" h="204">
                      <a:moveTo>
                        <a:pt x="169" y="26"/>
                      </a:moveTo>
                      <a:lnTo>
                        <a:pt x="112" y="0"/>
                      </a:lnTo>
                      <a:lnTo>
                        <a:pt x="38" y="21"/>
                      </a:lnTo>
                      <a:lnTo>
                        <a:pt x="0" y="130"/>
                      </a:lnTo>
                      <a:lnTo>
                        <a:pt x="31" y="188"/>
                      </a:lnTo>
                      <a:lnTo>
                        <a:pt x="109" y="203"/>
                      </a:lnTo>
                      <a:lnTo>
                        <a:pt x="72" y="108"/>
                      </a:lnTo>
                      <a:lnTo>
                        <a:pt x="95" y="5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5452920" y="6902280"/>
                <a:ext cx="139680" cy="147960"/>
                <a:chOff x="5452920" y="6902280"/>
                <a:chExt cx="139680" cy="1479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5452920" y="6902280"/>
                  <a:ext cx="139680" cy="147960"/>
                </a:xfrm>
                <a:custGeom>
                  <a:avLst/>
                  <a:gdLst/>
                  <a:ahLst/>
                  <a:rect l="l" t="t" r="r" b="b"/>
                  <a:pathLst>
                    <a:path w="386" h="408">
                      <a:moveTo>
                        <a:pt x="263" y="14"/>
                      </a:moveTo>
                      <a:lnTo>
                        <a:pt x="322" y="77"/>
                      </a:lnTo>
                      <a:lnTo>
                        <a:pt x="385" y="138"/>
                      </a:lnTo>
                      <a:lnTo>
                        <a:pt x="364" y="328"/>
                      </a:lnTo>
                      <a:lnTo>
                        <a:pt x="285" y="368"/>
                      </a:lnTo>
                      <a:lnTo>
                        <a:pt x="207" y="407"/>
                      </a:lnTo>
                      <a:lnTo>
                        <a:pt x="38" y="354"/>
                      </a:lnTo>
                      <a:lnTo>
                        <a:pt x="0" y="211"/>
                      </a:lnTo>
                      <a:lnTo>
                        <a:pt x="19" y="114"/>
                      </a:lnTo>
                      <a:lnTo>
                        <a:pt x="64" y="46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898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448240" y="6899400"/>
                <a:ext cx="165240" cy="168120"/>
                <a:chOff x="5448240" y="6899400"/>
                <a:chExt cx="165240" cy="1681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448240" y="6899400"/>
                  <a:ext cx="165240" cy="168120"/>
                </a:xfrm>
                <a:custGeom>
                  <a:avLst/>
                  <a:gdLst/>
                  <a:ahLst/>
                  <a:rect l="l" t="t" r="r" b="b"/>
                  <a:pathLst>
                    <a:path w="460" h="466">
                      <a:moveTo>
                        <a:pt x="459" y="256"/>
                      </a:moveTo>
                      <a:lnTo>
                        <a:pt x="452" y="322"/>
                      </a:lnTo>
                      <a:lnTo>
                        <a:pt x="429" y="371"/>
                      </a:lnTo>
                      <a:lnTo>
                        <a:pt x="348" y="442"/>
                      </a:lnTo>
                      <a:lnTo>
                        <a:pt x="254" y="465"/>
                      </a:lnTo>
                      <a:lnTo>
                        <a:pt x="164" y="456"/>
                      </a:lnTo>
                      <a:lnTo>
                        <a:pt x="48" y="381"/>
                      </a:lnTo>
                      <a:lnTo>
                        <a:pt x="0" y="270"/>
                      </a:lnTo>
                      <a:lnTo>
                        <a:pt x="12" y="155"/>
                      </a:lnTo>
                      <a:lnTo>
                        <a:pt x="41" y="101"/>
                      </a:lnTo>
                      <a:lnTo>
                        <a:pt x="83" y="56"/>
                      </a:lnTo>
                      <a:lnTo>
                        <a:pt x="27" y="216"/>
                      </a:lnTo>
                      <a:lnTo>
                        <a:pt x="55" y="310"/>
                      </a:lnTo>
                      <a:lnTo>
                        <a:pt x="90" y="348"/>
                      </a:lnTo>
                      <a:lnTo>
                        <a:pt x="147" y="376"/>
                      </a:lnTo>
                      <a:lnTo>
                        <a:pt x="237" y="378"/>
                      </a:lnTo>
                      <a:lnTo>
                        <a:pt x="303" y="341"/>
                      </a:lnTo>
                      <a:lnTo>
                        <a:pt x="360" y="204"/>
                      </a:lnTo>
                      <a:lnTo>
                        <a:pt x="339" y="134"/>
                      </a:lnTo>
                      <a:lnTo>
                        <a:pt x="292" y="72"/>
                      </a:lnTo>
                      <a:lnTo>
                        <a:pt x="223" y="32"/>
                      </a:lnTo>
                      <a:lnTo>
                        <a:pt x="142" y="23"/>
                      </a:lnTo>
                      <a:lnTo>
                        <a:pt x="230" y="0"/>
                      </a:lnTo>
                      <a:lnTo>
                        <a:pt x="329" y="21"/>
                      </a:lnTo>
                      <a:lnTo>
                        <a:pt x="419" y="10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5481720" y="6935760"/>
                <a:ext cx="55440" cy="65160"/>
                <a:chOff x="5481720" y="6935760"/>
                <a:chExt cx="55440" cy="651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5481720" y="6935760"/>
                  <a:ext cx="55440" cy="65160"/>
                </a:xfrm>
                <a:custGeom>
                  <a:avLst/>
                  <a:gdLst/>
                  <a:ahLst/>
                  <a:rect l="l" t="t" r="r" b="b"/>
                  <a:pathLst>
                    <a:path w="156" h="180">
                      <a:moveTo>
                        <a:pt x="155" y="25"/>
                      </a:moveTo>
                      <a:lnTo>
                        <a:pt x="104" y="0"/>
                      </a:lnTo>
                      <a:lnTo>
                        <a:pt x="36" y="23"/>
                      </a:lnTo>
                      <a:lnTo>
                        <a:pt x="0" y="113"/>
                      </a:lnTo>
                      <a:lnTo>
                        <a:pt x="29" y="165"/>
                      </a:lnTo>
                      <a:lnTo>
                        <a:pt x="101" y="179"/>
                      </a:lnTo>
                      <a:lnTo>
                        <a:pt x="69" y="95"/>
                      </a:lnTo>
                      <a:lnTo>
                        <a:pt x="90" y="4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511520" y="6702480"/>
                <a:ext cx="108000" cy="95040"/>
                <a:chOff x="4511520" y="6702480"/>
                <a:chExt cx="108000" cy="950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511520" y="6702480"/>
                  <a:ext cx="108000" cy="95040"/>
                </a:xfrm>
                <a:custGeom>
                  <a:avLst/>
                  <a:gdLst/>
                  <a:ahLst/>
                  <a:rect l="l" t="t" r="r" b="b"/>
                  <a:pathLst>
                    <a:path w="301" h="264">
                      <a:moveTo>
                        <a:pt x="271" y="44"/>
                      </a:moveTo>
                      <a:lnTo>
                        <a:pt x="148" y="39"/>
                      </a:lnTo>
                      <a:lnTo>
                        <a:pt x="14" y="0"/>
                      </a:lnTo>
                      <a:lnTo>
                        <a:pt x="0" y="122"/>
                      </a:lnTo>
                      <a:lnTo>
                        <a:pt x="24" y="211"/>
                      </a:lnTo>
                      <a:lnTo>
                        <a:pt x="56" y="244"/>
                      </a:lnTo>
                      <a:lnTo>
                        <a:pt x="102" y="263"/>
                      </a:lnTo>
                      <a:lnTo>
                        <a:pt x="261" y="255"/>
                      </a:lnTo>
                      <a:lnTo>
                        <a:pt x="300" y="232"/>
                      </a:lnTo>
                      <a:lnTo>
                        <a:pt x="93" y="201"/>
                      </a:lnTo>
                      <a:lnTo>
                        <a:pt x="54" y="35"/>
                      </a:lnTo>
                      <a:lnTo>
                        <a:pt x="259" y="72"/>
                      </a:lnTo>
                      <a:lnTo>
                        <a:pt x="282" y="199"/>
                      </a:lnTo>
                      <a:lnTo>
                        <a:pt x="291" y="4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532560" y="6935760"/>
                <a:ext cx="291960" cy="274680"/>
                <a:chOff x="6532560" y="6935760"/>
                <a:chExt cx="291960" cy="27468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532560" y="6935760"/>
                  <a:ext cx="291960" cy="274680"/>
                </a:xfrm>
                <a:custGeom>
                  <a:avLst/>
                  <a:gdLst/>
                  <a:ahLst/>
                  <a:rect l="l" t="t" r="r" b="b"/>
                  <a:pathLst>
                    <a:path w="811" h="761">
                      <a:moveTo>
                        <a:pt x="75" y="182"/>
                      </a:moveTo>
                      <a:lnTo>
                        <a:pt x="5" y="361"/>
                      </a:lnTo>
                      <a:lnTo>
                        <a:pt x="0" y="408"/>
                      </a:lnTo>
                      <a:lnTo>
                        <a:pt x="5" y="455"/>
                      </a:lnTo>
                      <a:lnTo>
                        <a:pt x="31" y="548"/>
                      </a:lnTo>
                      <a:lnTo>
                        <a:pt x="68" y="612"/>
                      </a:lnTo>
                      <a:lnTo>
                        <a:pt x="120" y="668"/>
                      </a:lnTo>
                      <a:lnTo>
                        <a:pt x="178" y="710"/>
                      </a:lnTo>
                      <a:lnTo>
                        <a:pt x="246" y="741"/>
                      </a:lnTo>
                      <a:lnTo>
                        <a:pt x="397" y="760"/>
                      </a:lnTo>
                      <a:lnTo>
                        <a:pt x="556" y="722"/>
                      </a:lnTo>
                      <a:lnTo>
                        <a:pt x="689" y="628"/>
                      </a:lnTo>
                      <a:lnTo>
                        <a:pt x="778" y="504"/>
                      </a:lnTo>
                      <a:lnTo>
                        <a:pt x="810" y="358"/>
                      </a:lnTo>
                      <a:lnTo>
                        <a:pt x="780" y="211"/>
                      </a:lnTo>
                      <a:lnTo>
                        <a:pt x="743" y="147"/>
                      </a:lnTo>
                      <a:lnTo>
                        <a:pt x="694" y="91"/>
                      </a:lnTo>
                      <a:lnTo>
                        <a:pt x="633" y="51"/>
                      </a:lnTo>
                      <a:lnTo>
                        <a:pt x="565" y="18"/>
                      </a:lnTo>
                      <a:lnTo>
                        <a:pt x="414" y="0"/>
                      </a:lnTo>
                      <a:lnTo>
                        <a:pt x="255" y="37"/>
                      </a:lnTo>
                      <a:lnTo>
                        <a:pt x="145" y="107"/>
                      </a:lnTo>
                      <a:lnTo>
                        <a:pt x="164" y="93"/>
                      </a:lnTo>
                      <a:lnTo>
                        <a:pt x="222" y="68"/>
                      </a:lnTo>
                      <a:lnTo>
                        <a:pt x="358" y="30"/>
                      </a:lnTo>
                      <a:lnTo>
                        <a:pt x="556" y="56"/>
                      </a:lnTo>
                      <a:lnTo>
                        <a:pt x="705" y="215"/>
                      </a:lnTo>
                      <a:lnTo>
                        <a:pt x="719" y="412"/>
                      </a:lnTo>
                      <a:lnTo>
                        <a:pt x="682" y="492"/>
                      </a:lnTo>
                      <a:lnTo>
                        <a:pt x="621" y="560"/>
                      </a:lnTo>
                      <a:lnTo>
                        <a:pt x="549" y="612"/>
                      </a:lnTo>
                      <a:lnTo>
                        <a:pt x="467" y="647"/>
                      </a:lnTo>
                      <a:lnTo>
                        <a:pt x="306" y="663"/>
                      </a:lnTo>
                      <a:lnTo>
                        <a:pt x="159" y="598"/>
                      </a:lnTo>
                      <a:lnTo>
                        <a:pt x="66" y="476"/>
                      </a:lnTo>
                      <a:lnTo>
                        <a:pt x="38" y="326"/>
                      </a:lnTo>
                      <a:lnTo>
                        <a:pt x="52" y="248"/>
                      </a:lnTo>
                      <a:lnTo>
                        <a:pt x="85" y="17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6632640" y="6972480"/>
                <a:ext cx="77760" cy="44280"/>
                <a:chOff x="6632640" y="6972480"/>
                <a:chExt cx="77760" cy="44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6632640" y="6972480"/>
                  <a:ext cx="77760" cy="4428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216" y="26"/>
                      </a:moveTo>
                      <a:lnTo>
                        <a:pt x="195" y="11"/>
                      </a:lnTo>
                      <a:lnTo>
                        <a:pt x="209" y="28"/>
                      </a:lnTo>
                      <a:lnTo>
                        <a:pt x="205" y="64"/>
                      </a:lnTo>
                      <a:lnTo>
                        <a:pt x="152" y="105"/>
                      </a:lnTo>
                      <a:lnTo>
                        <a:pt x="10" y="122"/>
                      </a:lnTo>
                      <a:lnTo>
                        <a:pt x="0" y="88"/>
                      </a:lnTo>
                      <a:lnTo>
                        <a:pt x="41" y="35"/>
                      </a:lnTo>
                      <a:lnTo>
                        <a:pt x="105" y="0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775480" y="6396120"/>
                <a:ext cx="206280" cy="233280"/>
                <a:chOff x="5775480" y="6396120"/>
                <a:chExt cx="206280" cy="2332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5775480" y="6396120"/>
                  <a:ext cx="206280" cy="233280"/>
                </a:xfrm>
                <a:custGeom>
                  <a:avLst/>
                  <a:gdLst/>
                  <a:ahLst/>
                  <a:rect l="l" t="t" r="r" b="b"/>
                  <a:pathLst>
                    <a:path w="572" h="649">
                      <a:moveTo>
                        <a:pt x="536" y="0"/>
                      </a:moveTo>
                      <a:lnTo>
                        <a:pt x="567" y="145"/>
                      </a:lnTo>
                      <a:lnTo>
                        <a:pt x="571" y="278"/>
                      </a:lnTo>
                      <a:lnTo>
                        <a:pt x="536" y="411"/>
                      </a:lnTo>
                      <a:lnTo>
                        <a:pt x="501" y="470"/>
                      </a:lnTo>
                      <a:lnTo>
                        <a:pt x="464" y="516"/>
                      </a:lnTo>
                      <a:lnTo>
                        <a:pt x="382" y="589"/>
                      </a:lnTo>
                      <a:lnTo>
                        <a:pt x="316" y="633"/>
                      </a:lnTo>
                      <a:lnTo>
                        <a:pt x="291" y="648"/>
                      </a:lnTo>
                      <a:lnTo>
                        <a:pt x="0" y="629"/>
                      </a:lnTo>
                      <a:lnTo>
                        <a:pt x="132" y="573"/>
                      </a:lnTo>
                      <a:lnTo>
                        <a:pt x="192" y="535"/>
                      </a:lnTo>
                      <a:lnTo>
                        <a:pt x="260" y="488"/>
                      </a:lnTo>
                      <a:lnTo>
                        <a:pt x="401" y="346"/>
                      </a:lnTo>
                      <a:lnTo>
                        <a:pt x="499" y="196"/>
                      </a:lnTo>
                      <a:lnTo>
                        <a:pt x="536" y="88"/>
                      </a:lnTo>
                    </a:path>
                  </a:pathLst>
                </a:custGeom>
                <a:solidFill>
                  <a:srgbClr val="00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5721480" y="7139160"/>
                <a:ext cx="166680" cy="156960"/>
                <a:chOff x="5721480" y="7139160"/>
                <a:chExt cx="166680" cy="1569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5721480" y="7139160"/>
                  <a:ext cx="166680" cy="156960"/>
                </a:xfrm>
                <a:custGeom>
                  <a:avLst/>
                  <a:gdLst/>
                  <a:ahLst/>
                  <a:rect l="l" t="t" r="r" b="b"/>
                  <a:pathLst>
                    <a:path w="465" h="438">
                      <a:moveTo>
                        <a:pt x="307" y="7"/>
                      </a:moveTo>
                      <a:lnTo>
                        <a:pt x="194" y="0"/>
                      </a:lnTo>
                      <a:lnTo>
                        <a:pt x="0" y="51"/>
                      </a:lnTo>
                      <a:lnTo>
                        <a:pt x="116" y="257"/>
                      </a:lnTo>
                      <a:lnTo>
                        <a:pt x="165" y="342"/>
                      </a:lnTo>
                      <a:lnTo>
                        <a:pt x="229" y="403"/>
                      </a:lnTo>
                      <a:lnTo>
                        <a:pt x="311" y="437"/>
                      </a:lnTo>
                      <a:lnTo>
                        <a:pt x="396" y="422"/>
                      </a:lnTo>
                      <a:lnTo>
                        <a:pt x="457" y="359"/>
                      </a:lnTo>
                      <a:lnTo>
                        <a:pt x="464" y="307"/>
                      </a:lnTo>
                      <a:lnTo>
                        <a:pt x="457" y="250"/>
                      </a:lnTo>
                      <a:lnTo>
                        <a:pt x="417" y="139"/>
                      </a:lnTo>
                      <a:lnTo>
                        <a:pt x="384" y="92"/>
                      </a:lnTo>
                      <a:lnTo>
                        <a:pt x="351" y="56"/>
                      </a:lnTo>
                      <a:lnTo>
                        <a:pt x="427" y="224"/>
                      </a:lnTo>
                      <a:lnTo>
                        <a:pt x="422" y="302"/>
                      </a:lnTo>
                      <a:lnTo>
                        <a:pt x="366" y="354"/>
                      </a:lnTo>
                      <a:lnTo>
                        <a:pt x="267" y="335"/>
                      </a:lnTo>
                      <a:lnTo>
                        <a:pt x="168" y="255"/>
                      </a:lnTo>
                      <a:lnTo>
                        <a:pt x="83" y="151"/>
                      </a:lnTo>
                      <a:lnTo>
                        <a:pt x="36" y="61"/>
                      </a:lnTo>
                      <a:lnTo>
                        <a:pt x="111" y="33"/>
                      </a:lnTo>
                      <a:lnTo>
                        <a:pt x="180" y="18"/>
                      </a:lnTo>
                      <a:lnTo>
                        <a:pt x="330" y="3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670720" y="7134120"/>
                <a:ext cx="201600" cy="174600"/>
                <a:chOff x="5670720" y="7134120"/>
                <a:chExt cx="201600" cy="17460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5670720" y="7134120"/>
                  <a:ext cx="201600" cy="174600"/>
                </a:xfrm>
                <a:custGeom>
                  <a:avLst/>
                  <a:gdLst/>
                  <a:ahLst/>
                  <a:rect l="l" t="t" r="r" b="b"/>
                  <a:pathLst>
                    <a:path w="559" h="484">
                      <a:moveTo>
                        <a:pt x="10" y="0"/>
                      </a:moveTo>
                      <a:lnTo>
                        <a:pt x="83" y="61"/>
                      </a:lnTo>
                      <a:lnTo>
                        <a:pt x="148" y="133"/>
                      </a:lnTo>
                      <a:lnTo>
                        <a:pt x="207" y="227"/>
                      </a:lnTo>
                      <a:lnTo>
                        <a:pt x="265" y="340"/>
                      </a:lnTo>
                      <a:lnTo>
                        <a:pt x="315" y="406"/>
                      </a:lnTo>
                      <a:lnTo>
                        <a:pt x="373" y="453"/>
                      </a:lnTo>
                      <a:lnTo>
                        <a:pt x="488" y="472"/>
                      </a:lnTo>
                      <a:lnTo>
                        <a:pt x="558" y="453"/>
                      </a:lnTo>
                      <a:lnTo>
                        <a:pt x="453" y="483"/>
                      </a:lnTo>
                      <a:lnTo>
                        <a:pt x="366" y="479"/>
                      </a:lnTo>
                      <a:lnTo>
                        <a:pt x="237" y="378"/>
                      </a:lnTo>
                      <a:lnTo>
                        <a:pt x="179" y="265"/>
                      </a:lnTo>
                      <a:lnTo>
                        <a:pt x="129" y="190"/>
                      </a:lnTo>
                      <a:lnTo>
                        <a:pt x="0" y="8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676840" y="7093080"/>
                <a:ext cx="149400" cy="46080"/>
                <a:chOff x="5676840" y="7093080"/>
                <a:chExt cx="149400" cy="4608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676840" y="7093080"/>
                  <a:ext cx="149400" cy="46080"/>
                </a:xfrm>
                <a:custGeom>
                  <a:avLst/>
                  <a:gdLst/>
                  <a:ahLst/>
                  <a:rect l="l" t="t" r="r" b="b"/>
                  <a:pathLst>
                    <a:path w="413" h="128">
                      <a:moveTo>
                        <a:pt x="412" y="127"/>
                      </a:moveTo>
                      <a:lnTo>
                        <a:pt x="373" y="62"/>
                      </a:lnTo>
                      <a:lnTo>
                        <a:pt x="309" y="18"/>
                      </a:lnTo>
                      <a:lnTo>
                        <a:pt x="204" y="0"/>
                      </a:lnTo>
                      <a:lnTo>
                        <a:pt x="99" y="18"/>
                      </a:lnTo>
                      <a:lnTo>
                        <a:pt x="38" y="55"/>
                      </a:lnTo>
                      <a:lnTo>
                        <a:pt x="0" y="106"/>
                      </a:lnTo>
                      <a:lnTo>
                        <a:pt x="54" y="73"/>
                      </a:lnTo>
                      <a:lnTo>
                        <a:pt x="103" y="50"/>
                      </a:lnTo>
                      <a:lnTo>
                        <a:pt x="204" y="34"/>
                      </a:lnTo>
                      <a:lnTo>
                        <a:pt x="307" y="5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689440" y="6810480"/>
                <a:ext cx="241560" cy="287280"/>
                <a:chOff x="5689440" y="6810480"/>
                <a:chExt cx="241560" cy="2872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689440" y="6810480"/>
                  <a:ext cx="241560" cy="287280"/>
                </a:xfrm>
                <a:custGeom>
                  <a:avLst/>
                  <a:gdLst/>
                  <a:ahLst/>
                  <a:rect l="l" t="t" r="r" b="b"/>
                  <a:pathLst>
                    <a:path w="670" h="799">
                      <a:moveTo>
                        <a:pt x="122" y="798"/>
                      </a:moveTo>
                      <a:lnTo>
                        <a:pt x="56" y="728"/>
                      </a:lnTo>
                      <a:lnTo>
                        <a:pt x="59" y="675"/>
                      </a:lnTo>
                      <a:lnTo>
                        <a:pt x="164" y="644"/>
                      </a:lnTo>
                      <a:lnTo>
                        <a:pt x="350" y="584"/>
                      </a:lnTo>
                      <a:lnTo>
                        <a:pt x="441" y="527"/>
                      </a:lnTo>
                      <a:lnTo>
                        <a:pt x="530" y="460"/>
                      </a:lnTo>
                      <a:lnTo>
                        <a:pt x="656" y="313"/>
                      </a:lnTo>
                      <a:lnTo>
                        <a:pt x="669" y="189"/>
                      </a:lnTo>
                      <a:lnTo>
                        <a:pt x="607" y="98"/>
                      </a:lnTo>
                      <a:lnTo>
                        <a:pt x="523" y="35"/>
                      </a:lnTo>
                      <a:lnTo>
                        <a:pt x="415" y="0"/>
                      </a:lnTo>
                      <a:lnTo>
                        <a:pt x="278" y="2"/>
                      </a:lnTo>
                      <a:lnTo>
                        <a:pt x="154" y="39"/>
                      </a:lnTo>
                      <a:lnTo>
                        <a:pt x="87" y="95"/>
                      </a:lnTo>
                      <a:lnTo>
                        <a:pt x="52" y="170"/>
                      </a:lnTo>
                      <a:lnTo>
                        <a:pt x="145" y="193"/>
                      </a:lnTo>
                      <a:lnTo>
                        <a:pt x="180" y="112"/>
                      </a:lnTo>
                      <a:lnTo>
                        <a:pt x="210" y="81"/>
                      </a:lnTo>
                      <a:lnTo>
                        <a:pt x="259" y="56"/>
                      </a:lnTo>
                      <a:lnTo>
                        <a:pt x="413" y="35"/>
                      </a:lnTo>
                      <a:lnTo>
                        <a:pt x="560" y="93"/>
                      </a:lnTo>
                      <a:lnTo>
                        <a:pt x="607" y="214"/>
                      </a:lnTo>
                      <a:lnTo>
                        <a:pt x="579" y="301"/>
                      </a:lnTo>
                      <a:lnTo>
                        <a:pt x="546" y="348"/>
                      </a:lnTo>
                      <a:lnTo>
                        <a:pt x="509" y="397"/>
                      </a:lnTo>
                      <a:lnTo>
                        <a:pt x="404" y="481"/>
                      </a:lnTo>
                      <a:lnTo>
                        <a:pt x="341" y="518"/>
                      </a:lnTo>
                      <a:lnTo>
                        <a:pt x="273" y="546"/>
                      </a:lnTo>
                      <a:lnTo>
                        <a:pt x="103" y="579"/>
                      </a:lnTo>
                      <a:lnTo>
                        <a:pt x="0" y="651"/>
                      </a:lnTo>
                      <a:lnTo>
                        <a:pt x="14" y="700"/>
                      </a:lnTo>
                      <a:lnTo>
                        <a:pt x="56" y="74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4492800" y="6980400"/>
                <a:ext cx="193680" cy="66600"/>
                <a:chOff x="4492800" y="6980400"/>
                <a:chExt cx="193680" cy="6660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4492800" y="6980400"/>
                  <a:ext cx="193680" cy="66600"/>
                </a:xfrm>
                <a:custGeom>
                  <a:avLst/>
                  <a:gdLst/>
                  <a:ahLst/>
                  <a:rect l="l" t="t" r="r" b="b"/>
                  <a:pathLst>
                    <a:path w="539" h="185">
                      <a:moveTo>
                        <a:pt x="274" y="0"/>
                      </a:moveTo>
                      <a:lnTo>
                        <a:pt x="166" y="26"/>
                      </a:lnTo>
                      <a:lnTo>
                        <a:pt x="41" y="78"/>
                      </a:lnTo>
                      <a:lnTo>
                        <a:pt x="5" y="102"/>
                      </a:lnTo>
                      <a:lnTo>
                        <a:pt x="0" y="140"/>
                      </a:lnTo>
                      <a:lnTo>
                        <a:pt x="19" y="174"/>
                      </a:lnTo>
                      <a:lnTo>
                        <a:pt x="62" y="184"/>
                      </a:lnTo>
                      <a:lnTo>
                        <a:pt x="303" y="152"/>
                      </a:lnTo>
                      <a:lnTo>
                        <a:pt x="538" y="66"/>
                      </a:lnTo>
                      <a:lnTo>
                        <a:pt x="432" y="43"/>
                      </a:lnTo>
                      <a:lnTo>
                        <a:pt x="402" y="64"/>
                      </a:lnTo>
                      <a:lnTo>
                        <a:pt x="343" y="93"/>
                      </a:lnTo>
                      <a:lnTo>
                        <a:pt x="144" y="109"/>
                      </a:lnTo>
                      <a:lnTo>
                        <a:pt x="128" y="76"/>
                      </a:lnTo>
                      <a:lnTo>
                        <a:pt x="170" y="52"/>
                      </a:lnTo>
                      <a:lnTo>
                        <a:pt x="274" y="26"/>
                      </a:lnTo>
                      <a:lnTo>
                        <a:pt x="312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389480" y="6954840"/>
                <a:ext cx="158760" cy="63360"/>
                <a:chOff x="4389480" y="6954840"/>
                <a:chExt cx="158760" cy="633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4389480" y="6954840"/>
                  <a:ext cx="158760" cy="63360"/>
                </a:xfrm>
                <a:custGeom>
                  <a:avLst/>
                  <a:gdLst/>
                  <a:ahLst/>
                  <a:rect l="l" t="t" r="r" b="b"/>
                  <a:pathLst>
                    <a:path w="442" h="176">
                      <a:moveTo>
                        <a:pt x="441" y="69"/>
                      </a:moveTo>
                      <a:lnTo>
                        <a:pt x="357" y="112"/>
                      </a:lnTo>
                      <a:lnTo>
                        <a:pt x="269" y="148"/>
                      </a:lnTo>
                      <a:lnTo>
                        <a:pt x="166" y="175"/>
                      </a:lnTo>
                      <a:lnTo>
                        <a:pt x="47" y="175"/>
                      </a:lnTo>
                      <a:lnTo>
                        <a:pt x="0" y="110"/>
                      </a:lnTo>
                      <a:lnTo>
                        <a:pt x="31" y="62"/>
                      </a:lnTo>
                      <a:lnTo>
                        <a:pt x="94" y="28"/>
                      </a:lnTo>
                      <a:lnTo>
                        <a:pt x="229" y="0"/>
                      </a:lnTo>
                      <a:lnTo>
                        <a:pt x="236" y="35"/>
                      </a:lnTo>
                      <a:lnTo>
                        <a:pt x="94" y="91"/>
                      </a:lnTo>
                      <a:lnTo>
                        <a:pt x="143" y="115"/>
                      </a:lnTo>
                      <a:lnTo>
                        <a:pt x="227" y="107"/>
                      </a:lnTo>
                      <a:lnTo>
                        <a:pt x="362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78" name="" descr=""/>
            <p:cNvPicPr/>
            <p:nvPr/>
          </p:nvPicPr>
          <p:blipFill>
            <a:blip r:embed="rId3"/>
            <a:stretch/>
          </p:blipFill>
          <p:spPr>
            <a:xfrm>
              <a:off x="1079640" y="5313240"/>
              <a:ext cx="1941480" cy="17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"/>
          <p:cNvGrpSpPr/>
          <p:nvPr/>
        </p:nvGrpSpPr>
        <p:grpSpPr>
          <a:xfrm>
            <a:off x="0" y="0"/>
            <a:ext cx="9288360" cy="1835280"/>
            <a:chOff x="0" y="0"/>
            <a:chExt cx="9288360" cy="1835280"/>
          </a:xfrm>
        </p:grpSpPr>
        <p:sp>
          <p:nvSpPr>
            <p:cNvPr id="680" name=""/>
            <p:cNvSpPr/>
            <p:nvPr/>
          </p:nvSpPr>
          <p:spPr>
            <a:xfrm>
              <a:off x="3691080" y="395280"/>
              <a:ext cx="593640" cy="596880"/>
            </a:xfrm>
            <a:custGeom>
              <a:avLst/>
              <a:gdLst/>
              <a:ahLst/>
              <a:rect l="l" t="t" r="r" b="b"/>
              <a:pathLst>
                <a:path w="1651" h="1656">
                  <a:moveTo>
                    <a:pt x="1555" y="5"/>
                  </a:moveTo>
                  <a:lnTo>
                    <a:pt x="1545" y="72"/>
                  </a:lnTo>
                  <a:lnTo>
                    <a:pt x="1497" y="85"/>
                  </a:lnTo>
                  <a:lnTo>
                    <a:pt x="1455" y="98"/>
                  </a:lnTo>
                  <a:lnTo>
                    <a:pt x="1436" y="105"/>
                  </a:lnTo>
                  <a:lnTo>
                    <a:pt x="1419" y="112"/>
                  </a:lnTo>
                  <a:lnTo>
                    <a:pt x="1403" y="119"/>
                  </a:lnTo>
                  <a:lnTo>
                    <a:pt x="1389" y="126"/>
                  </a:lnTo>
                  <a:lnTo>
                    <a:pt x="1375" y="135"/>
                  </a:lnTo>
                  <a:lnTo>
                    <a:pt x="1359" y="145"/>
                  </a:lnTo>
                  <a:lnTo>
                    <a:pt x="1323" y="171"/>
                  </a:lnTo>
                  <a:lnTo>
                    <a:pt x="1281" y="203"/>
                  </a:lnTo>
                  <a:lnTo>
                    <a:pt x="1235" y="242"/>
                  </a:lnTo>
                  <a:lnTo>
                    <a:pt x="1108" y="348"/>
                  </a:lnTo>
                  <a:lnTo>
                    <a:pt x="992" y="438"/>
                  </a:lnTo>
                  <a:lnTo>
                    <a:pt x="883" y="514"/>
                  </a:lnTo>
                  <a:lnTo>
                    <a:pt x="834" y="547"/>
                  </a:lnTo>
                  <a:lnTo>
                    <a:pt x="786" y="576"/>
                  </a:lnTo>
                  <a:lnTo>
                    <a:pt x="799" y="589"/>
                  </a:lnTo>
                  <a:lnTo>
                    <a:pt x="811" y="604"/>
                  </a:lnTo>
                  <a:lnTo>
                    <a:pt x="824" y="619"/>
                  </a:lnTo>
                  <a:lnTo>
                    <a:pt x="836" y="636"/>
                  </a:lnTo>
                  <a:lnTo>
                    <a:pt x="847" y="654"/>
                  </a:lnTo>
                  <a:lnTo>
                    <a:pt x="858" y="672"/>
                  </a:lnTo>
                  <a:lnTo>
                    <a:pt x="869" y="692"/>
                  </a:lnTo>
                  <a:lnTo>
                    <a:pt x="879" y="713"/>
                  </a:lnTo>
                  <a:lnTo>
                    <a:pt x="891" y="738"/>
                  </a:lnTo>
                  <a:lnTo>
                    <a:pt x="904" y="771"/>
                  </a:lnTo>
                  <a:lnTo>
                    <a:pt x="935" y="861"/>
                  </a:lnTo>
                  <a:lnTo>
                    <a:pt x="1019" y="1131"/>
                  </a:lnTo>
                  <a:lnTo>
                    <a:pt x="1062" y="1240"/>
                  </a:lnTo>
                  <a:lnTo>
                    <a:pt x="1083" y="1288"/>
                  </a:lnTo>
                  <a:lnTo>
                    <a:pt x="1105" y="1332"/>
                  </a:lnTo>
                  <a:lnTo>
                    <a:pt x="1126" y="1370"/>
                  </a:lnTo>
                  <a:lnTo>
                    <a:pt x="1149" y="1405"/>
                  </a:lnTo>
                  <a:lnTo>
                    <a:pt x="1170" y="1434"/>
                  </a:lnTo>
                  <a:lnTo>
                    <a:pt x="1192" y="1459"/>
                  </a:lnTo>
                  <a:lnTo>
                    <a:pt x="1213" y="1479"/>
                  </a:lnTo>
                  <a:lnTo>
                    <a:pt x="1235" y="1497"/>
                  </a:lnTo>
                  <a:lnTo>
                    <a:pt x="1256" y="1513"/>
                  </a:lnTo>
                  <a:lnTo>
                    <a:pt x="1277" y="1525"/>
                  </a:lnTo>
                  <a:lnTo>
                    <a:pt x="1287" y="1530"/>
                  </a:lnTo>
                  <a:lnTo>
                    <a:pt x="1297" y="1535"/>
                  </a:lnTo>
                  <a:lnTo>
                    <a:pt x="1308" y="1539"/>
                  </a:lnTo>
                  <a:lnTo>
                    <a:pt x="1319" y="1542"/>
                  </a:lnTo>
                  <a:lnTo>
                    <a:pt x="1329" y="1544"/>
                  </a:lnTo>
                  <a:lnTo>
                    <a:pt x="1340" y="1546"/>
                  </a:lnTo>
                  <a:lnTo>
                    <a:pt x="1350" y="1547"/>
                  </a:lnTo>
                  <a:lnTo>
                    <a:pt x="1361" y="1547"/>
                  </a:lnTo>
                  <a:lnTo>
                    <a:pt x="1371" y="1547"/>
                  </a:lnTo>
                  <a:lnTo>
                    <a:pt x="1379" y="1546"/>
                  </a:lnTo>
                  <a:lnTo>
                    <a:pt x="1388" y="1544"/>
                  </a:lnTo>
                  <a:lnTo>
                    <a:pt x="1396" y="1542"/>
                  </a:lnTo>
                  <a:lnTo>
                    <a:pt x="1403" y="1539"/>
                  </a:lnTo>
                  <a:lnTo>
                    <a:pt x="1411" y="1536"/>
                  </a:lnTo>
                  <a:lnTo>
                    <a:pt x="1417" y="1531"/>
                  </a:lnTo>
                  <a:lnTo>
                    <a:pt x="1425" y="1527"/>
                  </a:lnTo>
                  <a:lnTo>
                    <a:pt x="1431" y="1521"/>
                  </a:lnTo>
                  <a:lnTo>
                    <a:pt x="1436" y="1516"/>
                  </a:lnTo>
                  <a:lnTo>
                    <a:pt x="1442" y="1509"/>
                  </a:lnTo>
                  <a:lnTo>
                    <a:pt x="1447" y="1502"/>
                  </a:lnTo>
                  <a:lnTo>
                    <a:pt x="1452" y="1494"/>
                  </a:lnTo>
                  <a:lnTo>
                    <a:pt x="1456" y="1486"/>
                  </a:lnTo>
                  <a:lnTo>
                    <a:pt x="1461" y="1476"/>
                  </a:lnTo>
                  <a:lnTo>
                    <a:pt x="1464" y="1467"/>
                  </a:lnTo>
                  <a:lnTo>
                    <a:pt x="1475" y="1439"/>
                  </a:lnTo>
                  <a:lnTo>
                    <a:pt x="1480" y="1427"/>
                  </a:lnTo>
                  <a:lnTo>
                    <a:pt x="1485" y="1417"/>
                  </a:lnTo>
                  <a:lnTo>
                    <a:pt x="1490" y="1408"/>
                  </a:lnTo>
                  <a:lnTo>
                    <a:pt x="1495" y="1399"/>
                  </a:lnTo>
                  <a:lnTo>
                    <a:pt x="1498" y="1396"/>
                  </a:lnTo>
                  <a:lnTo>
                    <a:pt x="1500" y="1393"/>
                  </a:lnTo>
                  <a:lnTo>
                    <a:pt x="1503" y="1390"/>
                  </a:lnTo>
                  <a:lnTo>
                    <a:pt x="1505" y="1388"/>
                  </a:lnTo>
                  <a:lnTo>
                    <a:pt x="1512" y="1383"/>
                  </a:lnTo>
                  <a:lnTo>
                    <a:pt x="1518" y="1379"/>
                  </a:lnTo>
                  <a:lnTo>
                    <a:pt x="1525" y="1374"/>
                  </a:lnTo>
                  <a:lnTo>
                    <a:pt x="1533" y="1371"/>
                  </a:lnTo>
                  <a:lnTo>
                    <a:pt x="1539" y="1368"/>
                  </a:lnTo>
                  <a:lnTo>
                    <a:pt x="1547" y="1366"/>
                  </a:lnTo>
                  <a:lnTo>
                    <a:pt x="1551" y="1366"/>
                  </a:lnTo>
                  <a:lnTo>
                    <a:pt x="1555" y="1365"/>
                  </a:lnTo>
                  <a:lnTo>
                    <a:pt x="1558" y="1365"/>
                  </a:lnTo>
                  <a:lnTo>
                    <a:pt x="1563" y="1365"/>
                  </a:lnTo>
                  <a:lnTo>
                    <a:pt x="1571" y="1365"/>
                  </a:lnTo>
                  <a:lnTo>
                    <a:pt x="1581" y="1367"/>
                  </a:lnTo>
                  <a:lnTo>
                    <a:pt x="1584" y="1367"/>
                  </a:lnTo>
                  <a:lnTo>
                    <a:pt x="1588" y="1368"/>
                  </a:lnTo>
                  <a:lnTo>
                    <a:pt x="1592" y="1370"/>
                  </a:lnTo>
                  <a:lnTo>
                    <a:pt x="1597" y="1371"/>
                  </a:lnTo>
                  <a:lnTo>
                    <a:pt x="1600" y="1373"/>
                  </a:lnTo>
                  <a:lnTo>
                    <a:pt x="1604" y="1374"/>
                  </a:lnTo>
                  <a:lnTo>
                    <a:pt x="1607" y="1377"/>
                  </a:lnTo>
                  <a:lnTo>
                    <a:pt x="1610" y="1380"/>
                  </a:lnTo>
                  <a:lnTo>
                    <a:pt x="1618" y="1384"/>
                  </a:lnTo>
                  <a:lnTo>
                    <a:pt x="1624" y="1390"/>
                  </a:lnTo>
                  <a:lnTo>
                    <a:pt x="1631" y="1396"/>
                  </a:lnTo>
                  <a:lnTo>
                    <a:pt x="1636" y="1403"/>
                  </a:lnTo>
                  <a:lnTo>
                    <a:pt x="1640" y="1410"/>
                  </a:lnTo>
                  <a:lnTo>
                    <a:pt x="1641" y="1413"/>
                  </a:lnTo>
                  <a:lnTo>
                    <a:pt x="1643" y="1417"/>
                  </a:lnTo>
                  <a:lnTo>
                    <a:pt x="1644" y="1420"/>
                  </a:lnTo>
                  <a:lnTo>
                    <a:pt x="1646" y="1424"/>
                  </a:lnTo>
                  <a:lnTo>
                    <a:pt x="1648" y="1427"/>
                  </a:lnTo>
                  <a:lnTo>
                    <a:pt x="1649" y="1432"/>
                  </a:lnTo>
                  <a:lnTo>
                    <a:pt x="1649" y="1436"/>
                  </a:lnTo>
                  <a:lnTo>
                    <a:pt x="1650" y="1440"/>
                  </a:lnTo>
                  <a:lnTo>
                    <a:pt x="1650" y="1448"/>
                  </a:lnTo>
                  <a:lnTo>
                    <a:pt x="1650" y="1458"/>
                  </a:lnTo>
                  <a:lnTo>
                    <a:pt x="1649" y="1467"/>
                  </a:lnTo>
                  <a:lnTo>
                    <a:pt x="1646" y="1476"/>
                  </a:lnTo>
                  <a:lnTo>
                    <a:pt x="1644" y="1485"/>
                  </a:lnTo>
                  <a:lnTo>
                    <a:pt x="1641" y="1494"/>
                  </a:lnTo>
                  <a:lnTo>
                    <a:pt x="1638" y="1503"/>
                  </a:lnTo>
                  <a:lnTo>
                    <a:pt x="1634" y="1512"/>
                  </a:lnTo>
                  <a:lnTo>
                    <a:pt x="1628" y="1521"/>
                  </a:lnTo>
                  <a:lnTo>
                    <a:pt x="1623" y="1529"/>
                  </a:lnTo>
                  <a:lnTo>
                    <a:pt x="1617" y="1539"/>
                  </a:lnTo>
                  <a:lnTo>
                    <a:pt x="1602" y="1555"/>
                  </a:lnTo>
                  <a:lnTo>
                    <a:pt x="1585" y="1573"/>
                  </a:lnTo>
                  <a:lnTo>
                    <a:pt x="1565" y="1590"/>
                  </a:lnTo>
                  <a:lnTo>
                    <a:pt x="1542" y="1605"/>
                  </a:lnTo>
                  <a:lnTo>
                    <a:pt x="1519" y="1619"/>
                  </a:lnTo>
                  <a:lnTo>
                    <a:pt x="1495" y="1629"/>
                  </a:lnTo>
                  <a:lnTo>
                    <a:pt x="1468" y="1639"/>
                  </a:lnTo>
                  <a:lnTo>
                    <a:pt x="1442" y="1646"/>
                  </a:lnTo>
                  <a:lnTo>
                    <a:pt x="1413" y="1651"/>
                  </a:lnTo>
                  <a:lnTo>
                    <a:pt x="1382" y="1654"/>
                  </a:lnTo>
                  <a:lnTo>
                    <a:pt x="1351" y="1655"/>
                  </a:lnTo>
                  <a:lnTo>
                    <a:pt x="1324" y="1654"/>
                  </a:lnTo>
                  <a:lnTo>
                    <a:pt x="1297" y="1652"/>
                  </a:lnTo>
                  <a:lnTo>
                    <a:pt x="1271" y="1648"/>
                  </a:lnTo>
                  <a:lnTo>
                    <a:pt x="1245" y="1642"/>
                  </a:lnTo>
                  <a:lnTo>
                    <a:pt x="1219" y="1634"/>
                  </a:lnTo>
                  <a:lnTo>
                    <a:pt x="1194" y="1625"/>
                  </a:lnTo>
                  <a:lnTo>
                    <a:pt x="1169" y="1614"/>
                  </a:lnTo>
                  <a:lnTo>
                    <a:pt x="1144" y="1601"/>
                  </a:lnTo>
                  <a:lnTo>
                    <a:pt x="1120" y="1587"/>
                  </a:lnTo>
                  <a:lnTo>
                    <a:pt x="1097" y="1570"/>
                  </a:lnTo>
                  <a:lnTo>
                    <a:pt x="1073" y="1552"/>
                  </a:lnTo>
                  <a:lnTo>
                    <a:pt x="1051" y="1531"/>
                  </a:lnTo>
                  <a:lnTo>
                    <a:pt x="1029" y="1510"/>
                  </a:lnTo>
                  <a:lnTo>
                    <a:pt x="1008" y="1486"/>
                  </a:lnTo>
                  <a:lnTo>
                    <a:pt x="987" y="1460"/>
                  </a:lnTo>
                  <a:lnTo>
                    <a:pt x="967" y="1433"/>
                  </a:lnTo>
                  <a:lnTo>
                    <a:pt x="947" y="1403"/>
                  </a:lnTo>
                  <a:lnTo>
                    <a:pt x="927" y="1368"/>
                  </a:lnTo>
                  <a:lnTo>
                    <a:pt x="908" y="1330"/>
                  </a:lnTo>
                  <a:lnTo>
                    <a:pt x="888" y="1288"/>
                  </a:lnTo>
                  <a:lnTo>
                    <a:pt x="847" y="1193"/>
                  </a:lnTo>
                  <a:lnTo>
                    <a:pt x="807" y="1083"/>
                  </a:lnTo>
                  <a:lnTo>
                    <a:pt x="741" y="900"/>
                  </a:lnTo>
                  <a:lnTo>
                    <a:pt x="715" y="835"/>
                  </a:lnTo>
                  <a:lnTo>
                    <a:pt x="703" y="808"/>
                  </a:lnTo>
                  <a:lnTo>
                    <a:pt x="692" y="786"/>
                  </a:lnTo>
                  <a:lnTo>
                    <a:pt x="611" y="626"/>
                  </a:lnTo>
                  <a:lnTo>
                    <a:pt x="505" y="1045"/>
                  </a:lnTo>
                  <a:lnTo>
                    <a:pt x="461" y="1215"/>
                  </a:lnTo>
                  <a:lnTo>
                    <a:pt x="475" y="1221"/>
                  </a:lnTo>
                  <a:lnTo>
                    <a:pt x="489" y="1226"/>
                  </a:lnTo>
                  <a:lnTo>
                    <a:pt x="502" y="1230"/>
                  </a:lnTo>
                  <a:lnTo>
                    <a:pt x="517" y="1233"/>
                  </a:lnTo>
                  <a:lnTo>
                    <a:pt x="531" y="1235"/>
                  </a:lnTo>
                  <a:lnTo>
                    <a:pt x="545" y="1237"/>
                  </a:lnTo>
                  <a:lnTo>
                    <a:pt x="559" y="1238"/>
                  </a:lnTo>
                  <a:lnTo>
                    <a:pt x="572" y="1238"/>
                  </a:lnTo>
                  <a:lnTo>
                    <a:pt x="636" y="1236"/>
                  </a:lnTo>
                  <a:lnTo>
                    <a:pt x="617" y="1333"/>
                  </a:lnTo>
                  <a:lnTo>
                    <a:pt x="585" y="1334"/>
                  </a:lnTo>
                  <a:lnTo>
                    <a:pt x="576" y="1335"/>
                  </a:lnTo>
                  <a:lnTo>
                    <a:pt x="571" y="1335"/>
                  </a:lnTo>
                  <a:lnTo>
                    <a:pt x="550" y="1334"/>
                  </a:lnTo>
                  <a:lnTo>
                    <a:pt x="525" y="1333"/>
                  </a:lnTo>
                  <a:lnTo>
                    <a:pt x="465" y="1327"/>
                  </a:lnTo>
                  <a:lnTo>
                    <a:pt x="432" y="1323"/>
                  </a:lnTo>
                  <a:lnTo>
                    <a:pt x="402" y="1321"/>
                  </a:lnTo>
                  <a:lnTo>
                    <a:pt x="375" y="1319"/>
                  </a:lnTo>
                  <a:lnTo>
                    <a:pt x="353" y="1319"/>
                  </a:lnTo>
                  <a:lnTo>
                    <a:pt x="328" y="1320"/>
                  </a:lnTo>
                  <a:lnTo>
                    <a:pt x="301" y="1321"/>
                  </a:lnTo>
                  <a:lnTo>
                    <a:pt x="232" y="1328"/>
                  </a:lnTo>
                  <a:lnTo>
                    <a:pt x="146" y="1339"/>
                  </a:lnTo>
                  <a:lnTo>
                    <a:pt x="42" y="1354"/>
                  </a:lnTo>
                  <a:lnTo>
                    <a:pt x="50" y="1261"/>
                  </a:lnTo>
                  <a:lnTo>
                    <a:pt x="103" y="1250"/>
                  </a:lnTo>
                  <a:lnTo>
                    <a:pt x="126" y="1243"/>
                  </a:lnTo>
                  <a:lnTo>
                    <a:pt x="146" y="1237"/>
                  </a:lnTo>
                  <a:lnTo>
                    <a:pt x="164" y="1230"/>
                  </a:lnTo>
                  <a:lnTo>
                    <a:pt x="180" y="1223"/>
                  </a:lnTo>
                  <a:lnTo>
                    <a:pt x="186" y="1218"/>
                  </a:lnTo>
                  <a:lnTo>
                    <a:pt x="193" y="1215"/>
                  </a:lnTo>
                  <a:lnTo>
                    <a:pt x="198" y="1211"/>
                  </a:lnTo>
                  <a:lnTo>
                    <a:pt x="203" y="1207"/>
                  </a:lnTo>
                  <a:lnTo>
                    <a:pt x="213" y="1199"/>
                  </a:lnTo>
                  <a:lnTo>
                    <a:pt x="221" y="1188"/>
                  </a:lnTo>
                  <a:lnTo>
                    <a:pt x="230" y="1177"/>
                  </a:lnTo>
                  <a:lnTo>
                    <a:pt x="238" y="1164"/>
                  </a:lnTo>
                  <a:lnTo>
                    <a:pt x="246" y="1151"/>
                  </a:lnTo>
                  <a:lnTo>
                    <a:pt x="252" y="1136"/>
                  </a:lnTo>
                  <a:lnTo>
                    <a:pt x="258" y="1121"/>
                  </a:lnTo>
                  <a:lnTo>
                    <a:pt x="265" y="1103"/>
                  </a:lnTo>
                  <a:lnTo>
                    <a:pt x="297" y="1005"/>
                  </a:lnTo>
                  <a:lnTo>
                    <a:pt x="332" y="886"/>
                  </a:lnTo>
                  <a:lnTo>
                    <a:pt x="416" y="580"/>
                  </a:lnTo>
                  <a:lnTo>
                    <a:pt x="550" y="109"/>
                  </a:lnTo>
                  <a:lnTo>
                    <a:pt x="504" y="113"/>
                  </a:lnTo>
                  <a:lnTo>
                    <a:pt x="459" y="119"/>
                  </a:lnTo>
                  <a:lnTo>
                    <a:pt x="415" y="128"/>
                  </a:lnTo>
                  <a:lnTo>
                    <a:pt x="374" y="139"/>
                  </a:lnTo>
                  <a:lnTo>
                    <a:pt x="333" y="152"/>
                  </a:lnTo>
                  <a:lnTo>
                    <a:pt x="293" y="168"/>
                  </a:lnTo>
                  <a:lnTo>
                    <a:pt x="255" y="186"/>
                  </a:lnTo>
                  <a:lnTo>
                    <a:pt x="219" y="205"/>
                  </a:lnTo>
                  <a:lnTo>
                    <a:pt x="204" y="219"/>
                  </a:lnTo>
                  <a:lnTo>
                    <a:pt x="192" y="232"/>
                  </a:lnTo>
                  <a:lnTo>
                    <a:pt x="185" y="240"/>
                  </a:lnTo>
                  <a:lnTo>
                    <a:pt x="180" y="247"/>
                  </a:lnTo>
                  <a:lnTo>
                    <a:pt x="176" y="254"/>
                  </a:lnTo>
                  <a:lnTo>
                    <a:pt x="171" y="263"/>
                  </a:lnTo>
                  <a:lnTo>
                    <a:pt x="167" y="270"/>
                  </a:lnTo>
                  <a:lnTo>
                    <a:pt x="164" y="277"/>
                  </a:lnTo>
                  <a:lnTo>
                    <a:pt x="162" y="286"/>
                  </a:lnTo>
                  <a:lnTo>
                    <a:pt x="160" y="294"/>
                  </a:lnTo>
                  <a:lnTo>
                    <a:pt x="158" y="301"/>
                  </a:lnTo>
                  <a:lnTo>
                    <a:pt x="156" y="309"/>
                  </a:lnTo>
                  <a:lnTo>
                    <a:pt x="155" y="318"/>
                  </a:lnTo>
                  <a:lnTo>
                    <a:pt x="155" y="326"/>
                  </a:lnTo>
                  <a:lnTo>
                    <a:pt x="155" y="329"/>
                  </a:lnTo>
                  <a:lnTo>
                    <a:pt x="155" y="332"/>
                  </a:lnTo>
                  <a:lnTo>
                    <a:pt x="156" y="339"/>
                  </a:lnTo>
                  <a:lnTo>
                    <a:pt x="159" y="345"/>
                  </a:lnTo>
                  <a:lnTo>
                    <a:pt x="161" y="352"/>
                  </a:lnTo>
                  <a:lnTo>
                    <a:pt x="164" y="360"/>
                  </a:lnTo>
                  <a:lnTo>
                    <a:pt x="168" y="368"/>
                  </a:lnTo>
                  <a:lnTo>
                    <a:pt x="172" y="377"/>
                  </a:lnTo>
                  <a:lnTo>
                    <a:pt x="178" y="385"/>
                  </a:lnTo>
                  <a:lnTo>
                    <a:pt x="184" y="397"/>
                  </a:lnTo>
                  <a:lnTo>
                    <a:pt x="190" y="407"/>
                  </a:lnTo>
                  <a:lnTo>
                    <a:pt x="195" y="417"/>
                  </a:lnTo>
                  <a:lnTo>
                    <a:pt x="199" y="427"/>
                  </a:lnTo>
                  <a:lnTo>
                    <a:pt x="202" y="435"/>
                  </a:lnTo>
                  <a:lnTo>
                    <a:pt x="204" y="444"/>
                  </a:lnTo>
                  <a:lnTo>
                    <a:pt x="206" y="452"/>
                  </a:lnTo>
                  <a:lnTo>
                    <a:pt x="206" y="456"/>
                  </a:lnTo>
                  <a:lnTo>
                    <a:pt x="206" y="459"/>
                  </a:lnTo>
                  <a:lnTo>
                    <a:pt x="206" y="469"/>
                  </a:lnTo>
                  <a:lnTo>
                    <a:pt x="204" y="478"/>
                  </a:lnTo>
                  <a:lnTo>
                    <a:pt x="203" y="482"/>
                  </a:lnTo>
                  <a:lnTo>
                    <a:pt x="202" y="486"/>
                  </a:lnTo>
                  <a:lnTo>
                    <a:pt x="201" y="490"/>
                  </a:lnTo>
                  <a:lnTo>
                    <a:pt x="199" y="495"/>
                  </a:lnTo>
                  <a:lnTo>
                    <a:pt x="197" y="499"/>
                  </a:lnTo>
                  <a:lnTo>
                    <a:pt x="195" y="503"/>
                  </a:lnTo>
                  <a:lnTo>
                    <a:pt x="190" y="511"/>
                  </a:lnTo>
                  <a:lnTo>
                    <a:pt x="184" y="518"/>
                  </a:lnTo>
                  <a:lnTo>
                    <a:pt x="178" y="526"/>
                  </a:lnTo>
                  <a:lnTo>
                    <a:pt x="170" y="533"/>
                  </a:lnTo>
                  <a:lnTo>
                    <a:pt x="163" y="538"/>
                  </a:lnTo>
                  <a:lnTo>
                    <a:pt x="159" y="541"/>
                  </a:lnTo>
                  <a:lnTo>
                    <a:pt x="154" y="543"/>
                  </a:lnTo>
                  <a:lnTo>
                    <a:pt x="151" y="546"/>
                  </a:lnTo>
                  <a:lnTo>
                    <a:pt x="147" y="548"/>
                  </a:lnTo>
                  <a:lnTo>
                    <a:pt x="143" y="550"/>
                  </a:lnTo>
                  <a:lnTo>
                    <a:pt x="137" y="551"/>
                  </a:lnTo>
                  <a:lnTo>
                    <a:pt x="133" y="552"/>
                  </a:lnTo>
                  <a:lnTo>
                    <a:pt x="129" y="553"/>
                  </a:lnTo>
                  <a:lnTo>
                    <a:pt x="125" y="554"/>
                  </a:lnTo>
                  <a:lnTo>
                    <a:pt x="119" y="555"/>
                  </a:lnTo>
                  <a:lnTo>
                    <a:pt x="110" y="555"/>
                  </a:lnTo>
                  <a:lnTo>
                    <a:pt x="104" y="555"/>
                  </a:lnTo>
                  <a:lnTo>
                    <a:pt x="99" y="554"/>
                  </a:lnTo>
                  <a:lnTo>
                    <a:pt x="94" y="554"/>
                  </a:lnTo>
                  <a:lnTo>
                    <a:pt x="89" y="553"/>
                  </a:lnTo>
                  <a:lnTo>
                    <a:pt x="83" y="551"/>
                  </a:lnTo>
                  <a:lnTo>
                    <a:pt x="78" y="550"/>
                  </a:lnTo>
                  <a:lnTo>
                    <a:pt x="73" y="548"/>
                  </a:lnTo>
                  <a:lnTo>
                    <a:pt x="68" y="544"/>
                  </a:lnTo>
                  <a:lnTo>
                    <a:pt x="63" y="542"/>
                  </a:lnTo>
                  <a:lnTo>
                    <a:pt x="59" y="539"/>
                  </a:lnTo>
                  <a:lnTo>
                    <a:pt x="55" y="536"/>
                  </a:lnTo>
                  <a:lnTo>
                    <a:pt x="49" y="532"/>
                  </a:lnTo>
                  <a:lnTo>
                    <a:pt x="41" y="524"/>
                  </a:lnTo>
                  <a:lnTo>
                    <a:pt x="32" y="514"/>
                  </a:lnTo>
                  <a:lnTo>
                    <a:pt x="25" y="504"/>
                  </a:lnTo>
                  <a:lnTo>
                    <a:pt x="19" y="492"/>
                  </a:lnTo>
                  <a:lnTo>
                    <a:pt x="13" y="481"/>
                  </a:lnTo>
                  <a:lnTo>
                    <a:pt x="9" y="469"/>
                  </a:lnTo>
                  <a:lnTo>
                    <a:pt x="5" y="455"/>
                  </a:lnTo>
                  <a:lnTo>
                    <a:pt x="3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2" y="392"/>
                  </a:lnTo>
                  <a:lnTo>
                    <a:pt x="3" y="372"/>
                  </a:lnTo>
                  <a:lnTo>
                    <a:pt x="6" y="352"/>
                  </a:lnTo>
                  <a:lnTo>
                    <a:pt x="10" y="333"/>
                  </a:lnTo>
                  <a:lnTo>
                    <a:pt x="16" y="315"/>
                  </a:lnTo>
                  <a:lnTo>
                    <a:pt x="23" y="296"/>
                  </a:lnTo>
                  <a:lnTo>
                    <a:pt x="31" y="277"/>
                  </a:lnTo>
                  <a:lnTo>
                    <a:pt x="41" y="260"/>
                  </a:lnTo>
                  <a:lnTo>
                    <a:pt x="50" y="242"/>
                  </a:lnTo>
                  <a:lnTo>
                    <a:pt x="63" y="224"/>
                  </a:lnTo>
                  <a:lnTo>
                    <a:pt x="76" y="206"/>
                  </a:lnTo>
                  <a:lnTo>
                    <a:pt x="90" y="190"/>
                  </a:lnTo>
                  <a:lnTo>
                    <a:pt x="123" y="158"/>
                  </a:lnTo>
                  <a:lnTo>
                    <a:pt x="160" y="125"/>
                  </a:lnTo>
                  <a:lnTo>
                    <a:pt x="181" y="110"/>
                  </a:lnTo>
                  <a:lnTo>
                    <a:pt x="203" y="96"/>
                  </a:lnTo>
                  <a:lnTo>
                    <a:pt x="228" y="83"/>
                  </a:lnTo>
                  <a:lnTo>
                    <a:pt x="253" y="70"/>
                  </a:lnTo>
                  <a:lnTo>
                    <a:pt x="282" y="59"/>
                  </a:lnTo>
                  <a:lnTo>
                    <a:pt x="310" y="48"/>
                  </a:lnTo>
                  <a:lnTo>
                    <a:pt x="375" y="31"/>
                  </a:lnTo>
                  <a:lnTo>
                    <a:pt x="447" y="17"/>
                  </a:lnTo>
                  <a:lnTo>
                    <a:pt x="526" y="8"/>
                  </a:lnTo>
                  <a:lnTo>
                    <a:pt x="612" y="2"/>
                  </a:lnTo>
                  <a:lnTo>
                    <a:pt x="704" y="0"/>
                  </a:lnTo>
                  <a:lnTo>
                    <a:pt x="799" y="0"/>
                  </a:lnTo>
                  <a:lnTo>
                    <a:pt x="719" y="250"/>
                  </a:lnTo>
                  <a:lnTo>
                    <a:pt x="633" y="549"/>
                  </a:lnTo>
                  <a:lnTo>
                    <a:pt x="785" y="450"/>
                  </a:lnTo>
                  <a:lnTo>
                    <a:pt x="1030" y="291"/>
                  </a:lnTo>
                  <a:lnTo>
                    <a:pt x="1142" y="176"/>
                  </a:lnTo>
                  <a:lnTo>
                    <a:pt x="1176" y="141"/>
                  </a:lnTo>
                  <a:lnTo>
                    <a:pt x="1187" y="128"/>
                  </a:lnTo>
                  <a:lnTo>
                    <a:pt x="1194" y="120"/>
                  </a:lnTo>
                  <a:lnTo>
                    <a:pt x="1200" y="112"/>
                  </a:lnTo>
                  <a:lnTo>
                    <a:pt x="1200" y="113"/>
                  </a:lnTo>
                  <a:lnTo>
                    <a:pt x="1200" y="114"/>
                  </a:lnTo>
                  <a:lnTo>
                    <a:pt x="1200" y="114"/>
                  </a:lnTo>
                  <a:lnTo>
                    <a:pt x="1200" y="114"/>
                  </a:lnTo>
                  <a:lnTo>
                    <a:pt x="1199" y="115"/>
                  </a:lnTo>
                  <a:lnTo>
                    <a:pt x="1199" y="115"/>
                  </a:lnTo>
                  <a:lnTo>
                    <a:pt x="1199" y="115"/>
                  </a:lnTo>
                  <a:lnTo>
                    <a:pt x="1199" y="116"/>
                  </a:lnTo>
                  <a:lnTo>
                    <a:pt x="1199" y="116"/>
                  </a:lnTo>
                  <a:lnTo>
                    <a:pt x="1198" y="116"/>
                  </a:lnTo>
                  <a:lnTo>
                    <a:pt x="1198" y="116"/>
                  </a:lnTo>
                  <a:lnTo>
                    <a:pt x="1198" y="116"/>
                  </a:lnTo>
                  <a:lnTo>
                    <a:pt x="1196" y="117"/>
                  </a:lnTo>
                  <a:lnTo>
                    <a:pt x="1195" y="117"/>
                  </a:lnTo>
                  <a:lnTo>
                    <a:pt x="1194" y="117"/>
                  </a:lnTo>
                  <a:lnTo>
                    <a:pt x="1193" y="117"/>
                  </a:lnTo>
                  <a:lnTo>
                    <a:pt x="1192" y="117"/>
                  </a:lnTo>
                  <a:lnTo>
                    <a:pt x="1191" y="116"/>
                  </a:lnTo>
                  <a:lnTo>
                    <a:pt x="1189" y="116"/>
                  </a:lnTo>
                  <a:lnTo>
                    <a:pt x="1186" y="115"/>
                  </a:lnTo>
                  <a:lnTo>
                    <a:pt x="1184" y="114"/>
                  </a:lnTo>
                  <a:lnTo>
                    <a:pt x="1181" y="114"/>
                  </a:lnTo>
                  <a:lnTo>
                    <a:pt x="1172" y="113"/>
                  </a:lnTo>
                  <a:lnTo>
                    <a:pt x="1144" y="111"/>
                  </a:lnTo>
                  <a:lnTo>
                    <a:pt x="1049" y="109"/>
                  </a:lnTo>
                  <a:lnTo>
                    <a:pt x="1069" y="5"/>
                  </a:lnTo>
                  <a:lnTo>
                    <a:pt x="1209" y="14"/>
                  </a:lnTo>
                  <a:lnTo>
                    <a:pt x="1268" y="16"/>
                  </a:lnTo>
                  <a:lnTo>
                    <a:pt x="1317" y="17"/>
                  </a:lnTo>
                  <a:lnTo>
                    <a:pt x="1367" y="16"/>
                  </a:lnTo>
                  <a:lnTo>
                    <a:pt x="1424" y="14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26040" y="515880"/>
              <a:ext cx="339480" cy="365040"/>
            </a:xfrm>
            <a:custGeom>
              <a:avLst/>
              <a:gdLst/>
              <a:ahLst/>
              <a:rect l="l" t="t" r="r" b="b"/>
              <a:pathLst>
                <a:path w="945" h="1016">
                  <a:moveTo>
                    <a:pt x="783" y="18"/>
                  </a:moveTo>
                  <a:lnTo>
                    <a:pt x="893" y="0"/>
                  </a:lnTo>
                  <a:lnTo>
                    <a:pt x="810" y="301"/>
                  </a:lnTo>
                  <a:lnTo>
                    <a:pt x="785" y="385"/>
                  </a:lnTo>
                  <a:lnTo>
                    <a:pt x="762" y="476"/>
                  </a:lnTo>
                  <a:lnTo>
                    <a:pt x="716" y="673"/>
                  </a:lnTo>
                  <a:lnTo>
                    <a:pt x="700" y="766"/>
                  </a:lnTo>
                  <a:lnTo>
                    <a:pt x="694" y="797"/>
                  </a:lnTo>
                  <a:lnTo>
                    <a:pt x="693" y="809"/>
                  </a:lnTo>
                  <a:lnTo>
                    <a:pt x="693" y="818"/>
                  </a:lnTo>
                  <a:lnTo>
                    <a:pt x="693" y="820"/>
                  </a:lnTo>
                  <a:lnTo>
                    <a:pt x="693" y="823"/>
                  </a:lnTo>
                  <a:lnTo>
                    <a:pt x="694" y="825"/>
                  </a:lnTo>
                  <a:lnTo>
                    <a:pt x="694" y="825"/>
                  </a:lnTo>
                  <a:lnTo>
                    <a:pt x="694" y="826"/>
                  </a:lnTo>
                  <a:lnTo>
                    <a:pt x="695" y="827"/>
                  </a:lnTo>
                  <a:lnTo>
                    <a:pt x="695" y="827"/>
                  </a:lnTo>
                  <a:lnTo>
                    <a:pt x="695" y="828"/>
                  </a:lnTo>
                  <a:lnTo>
                    <a:pt x="696" y="828"/>
                  </a:lnTo>
                  <a:lnTo>
                    <a:pt x="696" y="829"/>
                  </a:lnTo>
                  <a:lnTo>
                    <a:pt x="696" y="829"/>
                  </a:lnTo>
                  <a:lnTo>
                    <a:pt x="696" y="829"/>
                  </a:lnTo>
                  <a:lnTo>
                    <a:pt x="696" y="829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700" y="829"/>
                  </a:lnTo>
                  <a:lnTo>
                    <a:pt x="701" y="829"/>
                  </a:lnTo>
                  <a:lnTo>
                    <a:pt x="703" y="828"/>
                  </a:lnTo>
                  <a:lnTo>
                    <a:pt x="705" y="828"/>
                  </a:lnTo>
                  <a:lnTo>
                    <a:pt x="710" y="826"/>
                  </a:lnTo>
                  <a:lnTo>
                    <a:pt x="715" y="825"/>
                  </a:lnTo>
                  <a:lnTo>
                    <a:pt x="721" y="822"/>
                  </a:lnTo>
                  <a:lnTo>
                    <a:pt x="727" y="819"/>
                  </a:lnTo>
                  <a:lnTo>
                    <a:pt x="742" y="811"/>
                  </a:lnTo>
                  <a:lnTo>
                    <a:pt x="776" y="790"/>
                  </a:lnTo>
                  <a:lnTo>
                    <a:pt x="811" y="766"/>
                  </a:lnTo>
                  <a:lnTo>
                    <a:pt x="847" y="738"/>
                  </a:lnTo>
                  <a:lnTo>
                    <a:pt x="886" y="708"/>
                  </a:lnTo>
                  <a:lnTo>
                    <a:pt x="944" y="773"/>
                  </a:lnTo>
                  <a:lnTo>
                    <a:pt x="834" y="874"/>
                  </a:lnTo>
                  <a:lnTo>
                    <a:pt x="797" y="906"/>
                  </a:lnTo>
                  <a:lnTo>
                    <a:pt x="783" y="917"/>
                  </a:lnTo>
                  <a:lnTo>
                    <a:pt x="773" y="925"/>
                  </a:lnTo>
                  <a:lnTo>
                    <a:pt x="737" y="948"/>
                  </a:lnTo>
                  <a:lnTo>
                    <a:pt x="719" y="958"/>
                  </a:lnTo>
                  <a:lnTo>
                    <a:pt x="702" y="968"/>
                  </a:lnTo>
                  <a:lnTo>
                    <a:pt x="684" y="977"/>
                  </a:lnTo>
                  <a:lnTo>
                    <a:pt x="667" y="984"/>
                  </a:lnTo>
                  <a:lnTo>
                    <a:pt x="650" y="992"/>
                  </a:lnTo>
                  <a:lnTo>
                    <a:pt x="633" y="998"/>
                  </a:lnTo>
                  <a:lnTo>
                    <a:pt x="622" y="1002"/>
                  </a:lnTo>
                  <a:lnTo>
                    <a:pt x="610" y="1005"/>
                  </a:lnTo>
                  <a:lnTo>
                    <a:pt x="600" y="1007"/>
                  </a:lnTo>
                  <a:lnTo>
                    <a:pt x="588" y="1010"/>
                  </a:lnTo>
                  <a:lnTo>
                    <a:pt x="577" y="1012"/>
                  </a:lnTo>
                  <a:lnTo>
                    <a:pt x="566" y="1013"/>
                  </a:lnTo>
                  <a:lnTo>
                    <a:pt x="555" y="1015"/>
                  </a:lnTo>
                  <a:lnTo>
                    <a:pt x="544" y="1015"/>
                  </a:lnTo>
                  <a:lnTo>
                    <a:pt x="534" y="1015"/>
                  </a:lnTo>
                  <a:lnTo>
                    <a:pt x="525" y="1013"/>
                  </a:lnTo>
                  <a:lnTo>
                    <a:pt x="517" y="1011"/>
                  </a:lnTo>
                  <a:lnTo>
                    <a:pt x="510" y="1010"/>
                  </a:lnTo>
                  <a:lnTo>
                    <a:pt x="503" y="1007"/>
                  </a:lnTo>
                  <a:lnTo>
                    <a:pt x="500" y="1005"/>
                  </a:lnTo>
                  <a:lnTo>
                    <a:pt x="497" y="1004"/>
                  </a:lnTo>
                  <a:lnTo>
                    <a:pt x="494" y="1002"/>
                  </a:lnTo>
                  <a:lnTo>
                    <a:pt x="490" y="1000"/>
                  </a:lnTo>
                  <a:lnTo>
                    <a:pt x="487" y="998"/>
                  </a:lnTo>
                  <a:lnTo>
                    <a:pt x="485" y="996"/>
                  </a:lnTo>
                  <a:lnTo>
                    <a:pt x="480" y="991"/>
                  </a:lnTo>
                  <a:lnTo>
                    <a:pt x="478" y="987"/>
                  </a:lnTo>
                  <a:lnTo>
                    <a:pt x="476" y="984"/>
                  </a:lnTo>
                  <a:lnTo>
                    <a:pt x="475" y="982"/>
                  </a:lnTo>
                  <a:lnTo>
                    <a:pt x="472" y="979"/>
                  </a:lnTo>
                  <a:lnTo>
                    <a:pt x="470" y="976"/>
                  </a:lnTo>
                  <a:lnTo>
                    <a:pt x="469" y="972"/>
                  </a:lnTo>
                  <a:lnTo>
                    <a:pt x="468" y="969"/>
                  </a:lnTo>
                  <a:lnTo>
                    <a:pt x="467" y="966"/>
                  </a:lnTo>
                  <a:lnTo>
                    <a:pt x="465" y="958"/>
                  </a:lnTo>
                  <a:lnTo>
                    <a:pt x="464" y="950"/>
                  </a:lnTo>
                  <a:lnTo>
                    <a:pt x="464" y="942"/>
                  </a:lnTo>
                  <a:lnTo>
                    <a:pt x="464" y="937"/>
                  </a:lnTo>
                  <a:lnTo>
                    <a:pt x="465" y="931"/>
                  </a:lnTo>
                  <a:lnTo>
                    <a:pt x="465" y="925"/>
                  </a:lnTo>
                  <a:lnTo>
                    <a:pt x="466" y="919"/>
                  </a:lnTo>
                  <a:lnTo>
                    <a:pt x="468" y="913"/>
                  </a:lnTo>
                  <a:lnTo>
                    <a:pt x="469" y="906"/>
                  </a:lnTo>
                  <a:lnTo>
                    <a:pt x="473" y="892"/>
                  </a:lnTo>
                  <a:lnTo>
                    <a:pt x="517" y="773"/>
                  </a:lnTo>
                  <a:lnTo>
                    <a:pt x="502" y="799"/>
                  </a:lnTo>
                  <a:lnTo>
                    <a:pt x="485" y="823"/>
                  </a:lnTo>
                  <a:lnTo>
                    <a:pt x="466" y="846"/>
                  </a:lnTo>
                  <a:lnTo>
                    <a:pt x="445" y="868"/>
                  </a:lnTo>
                  <a:lnTo>
                    <a:pt x="421" y="889"/>
                  </a:lnTo>
                  <a:lnTo>
                    <a:pt x="395" y="908"/>
                  </a:lnTo>
                  <a:lnTo>
                    <a:pt x="367" y="927"/>
                  </a:lnTo>
                  <a:lnTo>
                    <a:pt x="338" y="944"/>
                  </a:lnTo>
                  <a:lnTo>
                    <a:pt x="314" y="960"/>
                  </a:lnTo>
                  <a:lnTo>
                    <a:pt x="291" y="974"/>
                  </a:lnTo>
                  <a:lnTo>
                    <a:pt x="269" y="986"/>
                  </a:lnTo>
                  <a:lnTo>
                    <a:pt x="247" y="996"/>
                  </a:lnTo>
                  <a:lnTo>
                    <a:pt x="226" y="1003"/>
                  </a:lnTo>
                  <a:lnTo>
                    <a:pt x="206" y="1009"/>
                  </a:lnTo>
                  <a:lnTo>
                    <a:pt x="195" y="1011"/>
                  </a:lnTo>
                  <a:lnTo>
                    <a:pt x="186" y="1012"/>
                  </a:lnTo>
                  <a:lnTo>
                    <a:pt x="176" y="1013"/>
                  </a:lnTo>
                  <a:lnTo>
                    <a:pt x="167" y="1013"/>
                  </a:lnTo>
                  <a:lnTo>
                    <a:pt x="157" y="1013"/>
                  </a:lnTo>
                  <a:lnTo>
                    <a:pt x="149" y="1012"/>
                  </a:lnTo>
                  <a:lnTo>
                    <a:pt x="140" y="1010"/>
                  </a:lnTo>
                  <a:lnTo>
                    <a:pt x="131" y="1008"/>
                  </a:lnTo>
                  <a:lnTo>
                    <a:pt x="123" y="1005"/>
                  </a:lnTo>
                  <a:lnTo>
                    <a:pt x="115" y="1001"/>
                  </a:lnTo>
                  <a:lnTo>
                    <a:pt x="107" y="997"/>
                  </a:lnTo>
                  <a:lnTo>
                    <a:pt x="99" y="992"/>
                  </a:lnTo>
                  <a:lnTo>
                    <a:pt x="91" y="985"/>
                  </a:lnTo>
                  <a:lnTo>
                    <a:pt x="85" y="979"/>
                  </a:lnTo>
                  <a:lnTo>
                    <a:pt x="78" y="972"/>
                  </a:lnTo>
                  <a:lnTo>
                    <a:pt x="71" y="964"/>
                  </a:lnTo>
                  <a:lnTo>
                    <a:pt x="65" y="955"/>
                  </a:lnTo>
                  <a:lnTo>
                    <a:pt x="59" y="946"/>
                  </a:lnTo>
                  <a:lnTo>
                    <a:pt x="47" y="925"/>
                  </a:lnTo>
                  <a:lnTo>
                    <a:pt x="42" y="921"/>
                  </a:lnTo>
                  <a:lnTo>
                    <a:pt x="36" y="917"/>
                  </a:lnTo>
                  <a:lnTo>
                    <a:pt x="31" y="912"/>
                  </a:lnTo>
                  <a:lnTo>
                    <a:pt x="27" y="905"/>
                  </a:lnTo>
                  <a:lnTo>
                    <a:pt x="22" y="899"/>
                  </a:lnTo>
                  <a:lnTo>
                    <a:pt x="18" y="893"/>
                  </a:lnTo>
                  <a:lnTo>
                    <a:pt x="15" y="885"/>
                  </a:lnTo>
                  <a:lnTo>
                    <a:pt x="12" y="877"/>
                  </a:lnTo>
                  <a:lnTo>
                    <a:pt x="10" y="868"/>
                  </a:lnTo>
                  <a:lnTo>
                    <a:pt x="7" y="859"/>
                  </a:lnTo>
                  <a:lnTo>
                    <a:pt x="3" y="839"/>
                  </a:lnTo>
                  <a:lnTo>
                    <a:pt x="1" y="817"/>
                  </a:lnTo>
                  <a:lnTo>
                    <a:pt x="0" y="792"/>
                  </a:lnTo>
                  <a:lnTo>
                    <a:pt x="1" y="762"/>
                  </a:lnTo>
                  <a:lnTo>
                    <a:pt x="4" y="732"/>
                  </a:lnTo>
                  <a:lnTo>
                    <a:pt x="9" y="699"/>
                  </a:lnTo>
                  <a:lnTo>
                    <a:pt x="16" y="667"/>
                  </a:lnTo>
                  <a:lnTo>
                    <a:pt x="25" y="634"/>
                  </a:lnTo>
                  <a:lnTo>
                    <a:pt x="36" y="601"/>
                  </a:lnTo>
                  <a:lnTo>
                    <a:pt x="49" y="565"/>
                  </a:lnTo>
                  <a:lnTo>
                    <a:pt x="64" y="530"/>
                  </a:lnTo>
                  <a:lnTo>
                    <a:pt x="81" y="494"/>
                  </a:lnTo>
                  <a:lnTo>
                    <a:pt x="99" y="460"/>
                  </a:lnTo>
                  <a:lnTo>
                    <a:pt x="118" y="426"/>
                  </a:lnTo>
                  <a:lnTo>
                    <a:pt x="138" y="393"/>
                  </a:lnTo>
                  <a:lnTo>
                    <a:pt x="160" y="360"/>
                  </a:lnTo>
                  <a:lnTo>
                    <a:pt x="184" y="329"/>
                  </a:lnTo>
                  <a:lnTo>
                    <a:pt x="208" y="299"/>
                  </a:lnTo>
                  <a:lnTo>
                    <a:pt x="235" y="269"/>
                  </a:lnTo>
                  <a:lnTo>
                    <a:pt x="262" y="241"/>
                  </a:lnTo>
                  <a:lnTo>
                    <a:pt x="290" y="214"/>
                  </a:lnTo>
                  <a:lnTo>
                    <a:pt x="317" y="190"/>
                  </a:lnTo>
                  <a:lnTo>
                    <a:pt x="345" y="167"/>
                  </a:lnTo>
                  <a:lnTo>
                    <a:pt x="374" y="147"/>
                  </a:lnTo>
                  <a:lnTo>
                    <a:pt x="402" y="128"/>
                  </a:lnTo>
                  <a:lnTo>
                    <a:pt x="432" y="111"/>
                  </a:lnTo>
                  <a:lnTo>
                    <a:pt x="462" y="96"/>
                  </a:lnTo>
                  <a:lnTo>
                    <a:pt x="486" y="86"/>
                  </a:lnTo>
                  <a:lnTo>
                    <a:pt x="512" y="77"/>
                  </a:lnTo>
                  <a:lnTo>
                    <a:pt x="539" y="69"/>
                  </a:lnTo>
                  <a:lnTo>
                    <a:pt x="568" y="64"/>
                  </a:lnTo>
                  <a:lnTo>
                    <a:pt x="599" y="59"/>
                  </a:lnTo>
                  <a:lnTo>
                    <a:pt x="631" y="56"/>
                  </a:lnTo>
                  <a:lnTo>
                    <a:pt x="664" y="54"/>
                  </a:lnTo>
                  <a:lnTo>
                    <a:pt x="700" y="52"/>
                  </a:lnTo>
                  <a:lnTo>
                    <a:pt x="716" y="52"/>
                  </a:lnTo>
                  <a:lnTo>
                    <a:pt x="732" y="54"/>
                  </a:lnTo>
                  <a:lnTo>
                    <a:pt x="746" y="56"/>
                  </a:lnTo>
                  <a:lnTo>
                    <a:pt x="760" y="58"/>
                  </a:lnTo>
                  <a:close/>
                  <a:moveTo>
                    <a:pt x="639" y="219"/>
                  </a:moveTo>
                  <a:lnTo>
                    <a:pt x="619" y="216"/>
                  </a:lnTo>
                  <a:lnTo>
                    <a:pt x="600" y="215"/>
                  </a:lnTo>
                  <a:lnTo>
                    <a:pt x="581" y="213"/>
                  </a:lnTo>
                  <a:lnTo>
                    <a:pt x="562" y="213"/>
                  </a:lnTo>
                  <a:lnTo>
                    <a:pt x="539" y="214"/>
                  </a:lnTo>
                  <a:lnTo>
                    <a:pt x="518" y="216"/>
                  </a:lnTo>
                  <a:lnTo>
                    <a:pt x="497" y="219"/>
                  </a:lnTo>
                  <a:lnTo>
                    <a:pt x="477" y="225"/>
                  </a:lnTo>
                  <a:lnTo>
                    <a:pt x="456" y="231"/>
                  </a:lnTo>
                  <a:lnTo>
                    <a:pt x="438" y="240"/>
                  </a:lnTo>
                  <a:lnTo>
                    <a:pt x="419" y="250"/>
                  </a:lnTo>
                  <a:lnTo>
                    <a:pt x="402" y="262"/>
                  </a:lnTo>
                  <a:lnTo>
                    <a:pt x="385" y="275"/>
                  </a:lnTo>
                  <a:lnTo>
                    <a:pt x="368" y="292"/>
                  </a:lnTo>
                  <a:lnTo>
                    <a:pt x="352" y="310"/>
                  </a:lnTo>
                  <a:lnTo>
                    <a:pt x="337" y="332"/>
                  </a:lnTo>
                  <a:lnTo>
                    <a:pt x="320" y="356"/>
                  </a:lnTo>
                  <a:lnTo>
                    <a:pt x="304" y="383"/>
                  </a:lnTo>
                  <a:lnTo>
                    <a:pt x="289" y="412"/>
                  </a:lnTo>
                  <a:lnTo>
                    <a:pt x="273" y="445"/>
                  </a:lnTo>
                  <a:lnTo>
                    <a:pt x="259" y="478"/>
                  </a:lnTo>
                  <a:lnTo>
                    <a:pt x="246" y="511"/>
                  </a:lnTo>
                  <a:lnTo>
                    <a:pt x="236" y="544"/>
                  </a:lnTo>
                  <a:lnTo>
                    <a:pt x="227" y="579"/>
                  </a:lnTo>
                  <a:lnTo>
                    <a:pt x="221" y="612"/>
                  </a:lnTo>
                  <a:lnTo>
                    <a:pt x="217" y="645"/>
                  </a:lnTo>
                  <a:lnTo>
                    <a:pt x="213" y="679"/>
                  </a:lnTo>
                  <a:lnTo>
                    <a:pt x="212" y="712"/>
                  </a:lnTo>
                  <a:lnTo>
                    <a:pt x="212" y="727"/>
                  </a:lnTo>
                  <a:lnTo>
                    <a:pt x="213" y="742"/>
                  </a:lnTo>
                  <a:lnTo>
                    <a:pt x="216" y="756"/>
                  </a:lnTo>
                  <a:lnTo>
                    <a:pt x="218" y="768"/>
                  </a:lnTo>
                  <a:lnTo>
                    <a:pt x="220" y="778"/>
                  </a:lnTo>
                  <a:lnTo>
                    <a:pt x="222" y="784"/>
                  </a:lnTo>
                  <a:lnTo>
                    <a:pt x="223" y="788"/>
                  </a:lnTo>
                  <a:lnTo>
                    <a:pt x="225" y="792"/>
                  </a:lnTo>
                  <a:lnTo>
                    <a:pt x="227" y="796"/>
                  </a:lnTo>
                  <a:lnTo>
                    <a:pt x="229" y="799"/>
                  </a:lnTo>
                  <a:lnTo>
                    <a:pt x="231" y="802"/>
                  </a:lnTo>
                  <a:lnTo>
                    <a:pt x="237" y="809"/>
                  </a:lnTo>
                  <a:lnTo>
                    <a:pt x="239" y="811"/>
                  </a:lnTo>
                  <a:lnTo>
                    <a:pt x="242" y="814"/>
                  </a:lnTo>
                  <a:lnTo>
                    <a:pt x="244" y="816"/>
                  </a:lnTo>
                  <a:lnTo>
                    <a:pt x="247" y="818"/>
                  </a:lnTo>
                  <a:lnTo>
                    <a:pt x="251" y="819"/>
                  </a:lnTo>
                  <a:lnTo>
                    <a:pt x="253" y="821"/>
                  </a:lnTo>
                  <a:lnTo>
                    <a:pt x="256" y="822"/>
                  </a:lnTo>
                  <a:lnTo>
                    <a:pt x="259" y="824"/>
                  </a:lnTo>
                  <a:lnTo>
                    <a:pt x="262" y="825"/>
                  </a:lnTo>
                  <a:lnTo>
                    <a:pt x="265" y="826"/>
                  </a:lnTo>
                  <a:lnTo>
                    <a:pt x="270" y="826"/>
                  </a:lnTo>
                  <a:lnTo>
                    <a:pt x="273" y="827"/>
                  </a:lnTo>
                  <a:lnTo>
                    <a:pt x="276" y="827"/>
                  </a:lnTo>
                  <a:lnTo>
                    <a:pt x="280" y="827"/>
                  </a:lnTo>
                  <a:lnTo>
                    <a:pt x="289" y="827"/>
                  </a:lnTo>
                  <a:lnTo>
                    <a:pt x="297" y="826"/>
                  </a:lnTo>
                  <a:lnTo>
                    <a:pt x="306" y="824"/>
                  </a:lnTo>
                  <a:lnTo>
                    <a:pt x="314" y="823"/>
                  </a:lnTo>
                  <a:lnTo>
                    <a:pt x="324" y="820"/>
                  </a:lnTo>
                  <a:lnTo>
                    <a:pt x="332" y="817"/>
                  </a:lnTo>
                  <a:lnTo>
                    <a:pt x="350" y="809"/>
                  </a:lnTo>
                  <a:lnTo>
                    <a:pt x="369" y="798"/>
                  </a:lnTo>
                  <a:lnTo>
                    <a:pt x="389" y="786"/>
                  </a:lnTo>
                  <a:lnTo>
                    <a:pt x="408" y="770"/>
                  </a:lnTo>
                  <a:lnTo>
                    <a:pt x="428" y="752"/>
                  </a:lnTo>
                  <a:lnTo>
                    <a:pt x="448" y="733"/>
                  </a:lnTo>
                  <a:lnTo>
                    <a:pt x="466" y="711"/>
                  </a:lnTo>
                  <a:lnTo>
                    <a:pt x="483" y="686"/>
                  </a:lnTo>
                  <a:lnTo>
                    <a:pt x="499" y="660"/>
                  </a:lnTo>
                  <a:lnTo>
                    <a:pt x="513" y="632"/>
                  </a:lnTo>
                  <a:lnTo>
                    <a:pt x="527" y="601"/>
                  </a:lnTo>
                  <a:lnTo>
                    <a:pt x="538" y="568"/>
                  </a:lnTo>
                  <a:lnTo>
                    <a:pt x="549" y="533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56160" y="528480"/>
              <a:ext cx="361800" cy="355680"/>
            </a:xfrm>
            <a:custGeom>
              <a:avLst/>
              <a:gdLst/>
              <a:ahLst/>
              <a:rect l="l" t="t" r="r" b="b"/>
              <a:pathLst>
                <a:path w="1007" h="988">
                  <a:moveTo>
                    <a:pt x="72" y="291"/>
                  </a:moveTo>
                  <a:lnTo>
                    <a:pt x="0" y="234"/>
                  </a:lnTo>
                  <a:lnTo>
                    <a:pt x="60" y="179"/>
                  </a:lnTo>
                  <a:lnTo>
                    <a:pt x="115" y="132"/>
                  </a:lnTo>
                  <a:lnTo>
                    <a:pt x="167" y="91"/>
                  </a:lnTo>
                  <a:lnTo>
                    <a:pt x="216" y="58"/>
                  </a:lnTo>
                  <a:lnTo>
                    <a:pt x="260" y="33"/>
                  </a:lnTo>
                  <a:lnTo>
                    <a:pt x="280" y="23"/>
                  </a:lnTo>
                  <a:lnTo>
                    <a:pt x="301" y="14"/>
                  </a:lnTo>
                  <a:lnTo>
                    <a:pt x="320" y="8"/>
                  </a:lnTo>
                  <a:lnTo>
                    <a:pt x="338" y="4"/>
                  </a:lnTo>
                  <a:lnTo>
                    <a:pt x="356" y="1"/>
                  </a:lnTo>
                  <a:lnTo>
                    <a:pt x="372" y="0"/>
                  </a:lnTo>
                  <a:lnTo>
                    <a:pt x="381" y="0"/>
                  </a:lnTo>
                  <a:lnTo>
                    <a:pt x="391" y="2"/>
                  </a:lnTo>
                  <a:lnTo>
                    <a:pt x="400" y="3"/>
                  </a:lnTo>
                  <a:lnTo>
                    <a:pt x="408" y="6"/>
                  </a:lnTo>
                  <a:lnTo>
                    <a:pt x="415" y="9"/>
                  </a:lnTo>
                  <a:lnTo>
                    <a:pt x="423" y="14"/>
                  </a:lnTo>
                  <a:lnTo>
                    <a:pt x="429" y="18"/>
                  </a:lnTo>
                  <a:lnTo>
                    <a:pt x="434" y="25"/>
                  </a:lnTo>
                  <a:lnTo>
                    <a:pt x="440" y="31"/>
                  </a:lnTo>
                  <a:lnTo>
                    <a:pt x="444" y="39"/>
                  </a:lnTo>
                  <a:lnTo>
                    <a:pt x="447" y="47"/>
                  </a:lnTo>
                  <a:lnTo>
                    <a:pt x="450" y="56"/>
                  </a:lnTo>
                  <a:lnTo>
                    <a:pt x="452" y="65"/>
                  </a:lnTo>
                  <a:lnTo>
                    <a:pt x="454" y="77"/>
                  </a:lnTo>
                  <a:lnTo>
                    <a:pt x="455" y="87"/>
                  </a:lnTo>
                  <a:lnTo>
                    <a:pt x="455" y="100"/>
                  </a:lnTo>
                  <a:lnTo>
                    <a:pt x="454" y="116"/>
                  </a:lnTo>
                  <a:lnTo>
                    <a:pt x="453" y="135"/>
                  </a:lnTo>
                  <a:lnTo>
                    <a:pt x="450" y="157"/>
                  </a:lnTo>
                  <a:lnTo>
                    <a:pt x="446" y="182"/>
                  </a:lnTo>
                  <a:lnTo>
                    <a:pt x="433" y="240"/>
                  </a:lnTo>
                  <a:lnTo>
                    <a:pt x="416" y="310"/>
                  </a:lnTo>
                  <a:lnTo>
                    <a:pt x="377" y="455"/>
                  </a:lnTo>
                  <a:lnTo>
                    <a:pt x="373" y="484"/>
                  </a:lnTo>
                  <a:lnTo>
                    <a:pt x="371" y="494"/>
                  </a:lnTo>
                  <a:lnTo>
                    <a:pt x="371" y="498"/>
                  </a:lnTo>
                  <a:lnTo>
                    <a:pt x="371" y="501"/>
                  </a:lnTo>
                  <a:lnTo>
                    <a:pt x="371" y="503"/>
                  </a:lnTo>
                  <a:lnTo>
                    <a:pt x="371" y="505"/>
                  </a:lnTo>
                  <a:lnTo>
                    <a:pt x="372" y="507"/>
                  </a:lnTo>
                  <a:lnTo>
                    <a:pt x="373" y="509"/>
                  </a:lnTo>
                  <a:lnTo>
                    <a:pt x="374" y="510"/>
                  </a:lnTo>
                  <a:lnTo>
                    <a:pt x="375" y="512"/>
                  </a:lnTo>
                  <a:lnTo>
                    <a:pt x="377" y="514"/>
                  </a:lnTo>
                  <a:lnTo>
                    <a:pt x="379" y="516"/>
                  </a:lnTo>
                  <a:lnTo>
                    <a:pt x="381" y="517"/>
                  </a:lnTo>
                  <a:lnTo>
                    <a:pt x="383" y="517"/>
                  </a:lnTo>
                  <a:lnTo>
                    <a:pt x="386" y="518"/>
                  </a:lnTo>
                  <a:lnTo>
                    <a:pt x="389" y="519"/>
                  </a:lnTo>
                  <a:lnTo>
                    <a:pt x="392" y="519"/>
                  </a:lnTo>
                  <a:lnTo>
                    <a:pt x="396" y="520"/>
                  </a:lnTo>
                  <a:lnTo>
                    <a:pt x="403" y="520"/>
                  </a:lnTo>
                  <a:lnTo>
                    <a:pt x="410" y="520"/>
                  </a:lnTo>
                  <a:lnTo>
                    <a:pt x="416" y="519"/>
                  </a:lnTo>
                  <a:lnTo>
                    <a:pt x="424" y="518"/>
                  </a:lnTo>
                  <a:lnTo>
                    <a:pt x="431" y="516"/>
                  </a:lnTo>
                  <a:lnTo>
                    <a:pt x="446" y="510"/>
                  </a:lnTo>
                  <a:lnTo>
                    <a:pt x="463" y="503"/>
                  </a:lnTo>
                  <a:lnTo>
                    <a:pt x="480" y="495"/>
                  </a:lnTo>
                  <a:lnTo>
                    <a:pt x="499" y="483"/>
                  </a:lnTo>
                  <a:lnTo>
                    <a:pt x="520" y="470"/>
                  </a:lnTo>
                  <a:lnTo>
                    <a:pt x="541" y="455"/>
                  </a:lnTo>
                  <a:lnTo>
                    <a:pt x="563" y="439"/>
                  </a:lnTo>
                  <a:lnTo>
                    <a:pt x="583" y="423"/>
                  </a:lnTo>
                  <a:lnTo>
                    <a:pt x="601" y="405"/>
                  </a:lnTo>
                  <a:lnTo>
                    <a:pt x="618" y="389"/>
                  </a:lnTo>
                  <a:lnTo>
                    <a:pt x="633" y="371"/>
                  </a:lnTo>
                  <a:lnTo>
                    <a:pt x="646" y="352"/>
                  </a:lnTo>
                  <a:lnTo>
                    <a:pt x="658" y="335"/>
                  </a:lnTo>
                  <a:lnTo>
                    <a:pt x="668" y="316"/>
                  </a:lnTo>
                  <a:lnTo>
                    <a:pt x="677" y="295"/>
                  </a:lnTo>
                  <a:lnTo>
                    <a:pt x="687" y="270"/>
                  </a:lnTo>
                  <a:lnTo>
                    <a:pt x="708" y="207"/>
                  </a:lnTo>
                  <a:lnTo>
                    <a:pt x="730" y="126"/>
                  </a:lnTo>
                  <a:lnTo>
                    <a:pt x="754" y="28"/>
                  </a:lnTo>
                  <a:lnTo>
                    <a:pt x="952" y="28"/>
                  </a:lnTo>
                  <a:lnTo>
                    <a:pt x="847" y="431"/>
                  </a:lnTo>
                  <a:lnTo>
                    <a:pt x="780" y="684"/>
                  </a:lnTo>
                  <a:lnTo>
                    <a:pt x="762" y="758"/>
                  </a:lnTo>
                  <a:lnTo>
                    <a:pt x="758" y="782"/>
                  </a:lnTo>
                  <a:lnTo>
                    <a:pt x="757" y="791"/>
                  </a:lnTo>
                  <a:lnTo>
                    <a:pt x="757" y="797"/>
                  </a:lnTo>
                  <a:lnTo>
                    <a:pt x="757" y="803"/>
                  </a:lnTo>
                  <a:lnTo>
                    <a:pt x="758" y="806"/>
                  </a:lnTo>
                  <a:lnTo>
                    <a:pt x="758" y="808"/>
                  </a:lnTo>
                  <a:lnTo>
                    <a:pt x="758" y="810"/>
                  </a:lnTo>
                  <a:lnTo>
                    <a:pt x="759" y="811"/>
                  </a:lnTo>
                  <a:lnTo>
                    <a:pt x="759" y="812"/>
                  </a:lnTo>
                  <a:lnTo>
                    <a:pt x="760" y="813"/>
                  </a:lnTo>
                  <a:lnTo>
                    <a:pt x="760" y="814"/>
                  </a:lnTo>
                  <a:lnTo>
                    <a:pt x="761" y="815"/>
                  </a:lnTo>
                  <a:lnTo>
                    <a:pt x="762" y="816"/>
                  </a:lnTo>
                  <a:lnTo>
                    <a:pt x="762" y="816"/>
                  </a:lnTo>
                  <a:lnTo>
                    <a:pt x="762" y="816"/>
                  </a:lnTo>
                  <a:lnTo>
                    <a:pt x="763" y="817"/>
                  </a:lnTo>
                  <a:lnTo>
                    <a:pt x="763" y="817"/>
                  </a:lnTo>
                  <a:lnTo>
                    <a:pt x="764" y="817"/>
                  </a:lnTo>
                  <a:lnTo>
                    <a:pt x="764" y="817"/>
                  </a:lnTo>
                  <a:lnTo>
                    <a:pt x="765" y="817"/>
                  </a:lnTo>
                  <a:lnTo>
                    <a:pt x="767" y="817"/>
                  </a:lnTo>
                  <a:lnTo>
                    <a:pt x="770" y="816"/>
                  </a:lnTo>
                  <a:lnTo>
                    <a:pt x="775" y="815"/>
                  </a:lnTo>
                  <a:lnTo>
                    <a:pt x="781" y="812"/>
                  </a:lnTo>
                  <a:lnTo>
                    <a:pt x="788" y="809"/>
                  </a:lnTo>
                  <a:lnTo>
                    <a:pt x="805" y="797"/>
                  </a:lnTo>
                  <a:lnTo>
                    <a:pt x="826" y="783"/>
                  </a:lnTo>
                  <a:lnTo>
                    <a:pt x="879" y="739"/>
                  </a:lnTo>
                  <a:lnTo>
                    <a:pt x="948" y="678"/>
                  </a:lnTo>
                  <a:lnTo>
                    <a:pt x="1006" y="740"/>
                  </a:lnTo>
                  <a:lnTo>
                    <a:pt x="950" y="799"/>
                  </a:lnTo>
                  <a:lnTo>
                    <a:pt x="897" y="848"/>
                  </a:lnTo>
                  <a:lnTo>
                    <a:pt x="848" y="890"/>
                  </a:lnTo>
                  <a:lnTo>
                    <a:pt x="802" y="925"/>
                  </a:lnTo>
                  <a:lnTo>
                    <a:pt x="761" y="952"/>
                  </a:lnTo>
                  <a:lnTo>
                    <a:pt x="741" y="963"/>
                  </a:lnTo>
                  <a:lnTo>
                    <a:pt x="723" y="971"/>
                  </a:lnTo>
                  <a:lnTo>
                    <a:pt x="705" y="978"/>
                  </a:lnTo>
                  <a:lnTo>
                    <a:pt x="688" y="983"/>
                  </a:lnTo>
                  <a:lnTo>
                    <a:pt x="672" y="986"/>
                  </a:lnTo>
                  <a:lnTo>
                    <a:pt x="657" y="987"/>
                  </a:lnTo>
                  <a:lnTo>
                    <a:pt x="652" y="987"/>
                  </a:lnTo>
                  <a:lnTo>
                    <a:pt x="646" y="986"/>
                  </a:lnTo>
                  <a:lnTo>
                    <a:pt x="642" y="986"/>
                  </a:lnTo>
                  <a:lnTo>
                    <a:pt x="637" y="985"/>
                  </a:lnTo>
                  <a:lnTo>
                    <a:pt x="632" y="984"/>
                  </a:lnTo>
                  <a:lnTo>
                    <a:pt x="627" y="982"/>
                  </a:lnTo>
                  <a:lnTo>
                    <a:pt x="623" y="981"/>
                  </a:lnTo>
                  <a:lnTo>
                    <a:pt x="618" y="978"/>
                  </a:lnTo>
                  <a:lnTo>
                    <a:pt x="609" y="973"/>
                  </a:lnTo>
                  <a:lnTo>
                    <a:pt x="600" y="968"/>
                  </a:lnTo>
                  <a:lnTo>
                    <a:pt x="591" y="961"/>
                  </a:lnTo>
                  <a:lnTo>
                    <a:pt x="583" y="953"/>
                  </a:lnTo>
                  <a:lnTo>
                    <a:pt x="579" y="949"/>
                  </a:lnTo>
                  <a:lnTo>
                    <a:pt x="575" y="944"/>
                  </a:lnTo>
                  <a:lnTo>
                    <a:pt x="571" y="940"/>
                  </a:lnTo>
                  <a:lnTo>
                    <a:pt x="568" y="935"/>
                  </a:lnTo>
                  <a:lnTo>
                    <a:pt x="566" y="931"/>
                  </a:lnTo>
                  <a:lnTo>
                    <a:pt x="563" y="925"/>
                  </a:lnTo>
                  <a:lnTo>
                    <a:pt x="561" y="919"/>
                  </a:lnTo>
                  <a:lnTo>
                    <a:pt x="558" y="914"/>
                  </a:lnTo>
                  <a:lnTo>
                    <a:pt x="554" y="903"/>
                  </a:lnTo>
                  <a:lnTo>
                    <a:pt x="552" y="890"/>
                  </a:lnTo>
                  <a:lnTo>
                    <a:pt x="550" y="877"/>
                  </a:lnTo>
                  <a:lnTo>
                    <a:pt x="550" y="863"/>
                  </a:lnTo>
                  <a:lnTo>
                    <a:pt x="550" y="847"/>
                  </a:lnTo>
                  <a:lnTo>
                    <a:pt x="551" y="832"/>
                  </a:lnTo>
                  <a:lnTo>
                    <a:pt x="553" y="814"/>
                  </a:lnTo>
                  <a:lnTo>
                    <a:pt x="555" y="796"/>
                  </a:lnTo>
                  <a:lnTo>
                    <a:pt x="563" y="757"/>
                  </a:lnTo>
                  <a:lnTo>
                    <a:pt x="573" y="713"/>
                  </a:lnTo>
                  <a:lnTo>
                    <a:pt x="635" y="493"/>
                  </a:lnTo>
                  <a:lnTo>
                    <a:pt x="583" y="540"/>
                  </a:lnTo>
                  <a:lnTo>
                    <a:pt x="533" y="580"/>
                  </a:lnTo>
                  <a:lnTo>
                    <a:pt x="485" y="614"/>
                  </a:lnTo>
                  <a:lnTo>
                    <a:pt x="440" y="643"/>
                  </a:lnTo>
                  <a:lnTo>
                    <a:pt x="396" y="664"/>
                  </a:lnTo>
                  <a:lnTo>
                    <a:pt x="376" y="673"/>
                  </a:lnTo>
                  <a:lnTo>
                    <a:pt x="355" y="680"/>
                  </a:lnTo>
                  <a:lnTo>
                    <a:pt x="336" y="685"/>
                  </a:lnTo>
                  <a:lnTo>
                    <a:pt x="316" y="689"/>
                  </a:lnTo>
                  <a:lnTo>
                    <a:pt x="297" y="691"/>
                  </a:lnTo>
                  <a:lnTo>
                    <a:pt x="279" y="692"/>
                  </a:lnTo>
                  <a:lnTo>
                    <a:pt x="264" y="692"/>
                  </a:lnTo>
                  <a:lnTo>
                    <a:pt x="250" y="690"/>
                  </a:lnTo>
                  <a:lnTo>
                    <a:pt x="237" y="688"/>
                  </a:lnTo>
                  <a:lnTo>
                    <a:pt x="224" y="685"/>
                  </a:lnTo>
                  <a:lnTo>
                    <a:pt x="213" y="681"/>
                  </a:lnTo>
                  <a:lnTo>
                    <a:pt x="203" y="676"/>
                  </a:lnTo>
                  <a:lnTo>
                    <a:pt x="193" y="671"/>
                  </a:lnTo>
                  <a:lnTo>
                    <a:pt x="185" y="663"/>
                  </a:lnTo>
                  <a:lnTo>
                    <a:pt x="177" y="656"/>
                  </a:lnTo>
                  <a:lnTo>
                    <a:pt x="172" y="648"/>
                  </a:lnTo>
                  <a:lnTo>
                    <a:pt x="166" y="638"/>
                  </a:lnTo>
                  <a:lnTo>
                    <a:pt x="161" y="628"/>
                  </a:lnTo>
                  <a:lnTo>
                    <a:pt x="158" y="616"/>
                  </a:lnTo>
                  <a:lnTo>
                    <a:pt x="156" y="604"/>
                  </a:lnTo>
                  <a:lnTo>
                    <a:pt x="154" y="590"/>
                  </a:lnTo>
                  <a:lnTo>
                    <a:pt x="154" y="577"/>
                  </a:lnTo>
                  <a:lnTo>
                    <a:pt x="154" y="571"/>
                  </a:lnTo>
                  <a:lnTo>
                    <a:pt x="155" y="562"/>
                  </a:lnTo>
                  <a:lnTo>
                    <a:pt x="158" y="543"/>
                  </a:lnTo>
                  <a:lnTo>
                    <a:pt x="169" y="485"/>
                  </a:lnTo>
                  <a:lnTo>
                    <a:pt x="188" y="405"/>
                  </a:lnTo>
                  <a:lnTo>
                    <a:pt x="215" y="304"/>
                  </a:lnTo>
                  <a:lnTo>
                    <a:pt x="235" y="225"/>
                  </a:lnTo>
                  <a:lnTo>
                    <a:pt x="239" y="200"/>
                  </a:lnTo>
                  <a:lnTo>
                    <a:pt x="241" y="191"/>
                  </a:lnTo>
                  <a:lnTo>
                    <a:pt x="241" y="187"/>
                  </a:lnTo>
                  <a:lnTo>
                    <a:pt x="241" y="184"/>
                  </a:lnTo>
                  <a:lnTo>
                    <a:pt x="241" y="182"/>
                  </a:lnTo>
                  <a:lnTo>
                    <a:pt x="241" y="181"/>
                  </a:lnTo>
                  <a:lnTo>
                    <a:pt x="241" y="179"/>
                  </a:lnTo>
                  <a:lnTo>
                    <a:pt x="240" y="178"/>
                  </a:lnTo>
                  <a:lnTo>
                    <a:pt x="240" y="178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7" y="176"/>
                  </a:lnTo>
                  <a:lnTo>
                    <a:pt x="234" y="176"/>
                  </a:lnTo>
                  <a:lnTo>
                    <a:pt x="228" y="178"/>
                  </a:lnTo>
                  <a:lnTo>
                    <a:pt x="222" y="180"/>
                  </a:lnTo>
                  <a:lnTo>
                    <a:pt x="215" y="183"/>
                  </a:lnTo>
                  <a:lnTo>
                    <a:pt x="199" y="192"/>
                  </a:lnTo>
                  <a:lnTo>
                    <a:pt x="180" y="205"/>
                  </a:lnTo>
                  <a:lnTo>
                    <a:pt x="157" y="220"/>
                  </a:lnTo>
                  <a:lnTo>
                    <a:pt x="132" y="240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35600" y="527040"/>
              <a:ext cx="263520" cy="352440"/>
            </a:xfrm>
            <a:custGeom>
              <a:avLst/>
              <a:gdLst/>
              <a:ahLst/>
              <a:rect l="l" t="t" r="r" b="b"/>
              <a:pathLst>
                <a:path w="734" h="980">
                  <a:moveTo>
                    <a:pt x="613" y="638"/>
                  </a:moveTo>
                  <a:lnTo>
                    <a:pt x="668" y="710"/>
                  </a:lnTo>
                  <a:lnTo>
                    <a:pt x="598" y="773"/>
                  </a:lnTo>
                  <a:lnTo>
                    <a:pt x="532" y="828"/>
                  </a:lnTo>
                  <a:lnTo>
                    <a:pt x="467" y="874"/>
                  </a:lnTo>
                  <a:lnTo>
                    <a:pt x="405" y="912"/>
                  </a:lnTo>
                  <a:lnTo>
                    <a:pt x="346" y="942"/>
                  </a:lnTo>
                  <a:lnTo>
                    <a:pt x="317" y="953"/>
                  </a:lnTo>
                  <a:lnTo>
                    <a:pt x="289" y="963"/>
                  </a:lnTo>
                  <a:lnTo>
                    <a:pt x="261" y="970"/>
                  </a:lnTo>
                  <a:lnTo>
                    <a:pt x="234" y="975"/>
                  </a:lnTo>
                  <a:lnTo>
                    <a:pt x="208" y="978"/>
                  </a:lnTo>
                  <a:lnTo>
                    <a:pt x="182" y="979"/>
                  </a:lnTo>
                  <a:lnTo>
                    <a:pt x="161" y="978"/>
                  </a:lnTo>
                  <a:lnTo>
                    <a:pt x="141" y="976"/>
                  </a:lnTo>
                  <a:lnTo>
                    <a:pt x="131" y="974"/>
                  </a:lnTo>
                  <a:lnTo>
                    <a:pt x="122" y="971"/>
                  </a:lnTo>
                  <a:lnTo>
                    <a:pt x="112" y="968"/>
                  </a:lnTo>
                  <a:lnTo>
                    <a:pt x="104" y="965"/>
                  </a:lnTo>
                  <a:lnTo>
                    <a:pt x="95" y="962"/>
                  </a:lnTo>
                  <a:lnTo>
                    <a:pt x="88" y="956"/>
                  </a:lnTo>
                  <a:lnTo>
                    <a:pt x="81" y="952"/>
                  </a:lnTo>
                  <a:lnTo>
                    <a:pt x="73" y="947"/>
                  </a:lnTo>
                  <a:lnTo>
                    <a:pt x="66" y="941"/>
                  </a:lnTo>
                  <a:lnTo>
                    <a:pt x="59" y="935"/>
                  </a:lnTo>
                  <a:lnTo>
                    <a:pt x="53" y="928"/>
                  </a:lnTo>
                  <a:lnTo>
                    <a:pt x="47" y="921"/>
                  </a:lnTo>
                  <a:lnTo>
                    <a:pt x="41" y="914"/>
                  </a:lnTo>
                  <a:lnTo>
                    <a:pt x="36" y="906"/>
                  </a:lnTo>
                  <a:lnTo>
                    <a:pt x="31" y="897"/>
                  </a:lnTo>
                  <a:lnTo>
                    <a:pt x="26" y="888"/>
                  </a:lnTo>
                  <a:lnTo>
                    <a:pt x="18" y="868"/>
                  </a:lnTo>
                  <a:lnTo>
                    <a:pt x="12" y="846"/>
                  </a:lnTo>
                  <a:lnTo>
                    <a:pt x="6" y="822"/>
                  </a:lnTo>
                  <a:lnTo>
                    <a:pt x="3" y="797"/>
                  </a:lnTo>
                  <a:lnTo>
                    <a:pt x="1" y="769"/>
                  </a:lnTo>
                  <a:lnTo>
                    <a:pt x="0" y="740"/>
                  </a:lnTo>
                  <a:lnTo>
                    <a:pt x="2" y="681"/>
                  </a:lnTo>
                  <a:lnTo>
                    <a:pt x="9" y="622"/>
                  </a:lnTo>
                  <a:lnTo>
                    <a:pt x="20" y="563"/>
                  </a:lnTo>
                  <a:lnTo>
                    <a:pt x="37" y="504"/>
                  </a:lnTo>
                  <a:lnTo>
                    <a:pt x="57" y="446"/>
                  </a:lnTo>
                  <a:lnTo>
                    <a:pt x="83" y="388"/>
                  </a:lnTo>
                  <a:lnTo>
                    <a:pt x="112" y="328"/>
                  </a:lnTo>
                  <a:lnTo>
                    <a:pt x="146" y="270"/>
                  </a:lnTo>
                  <a:lnTo>
                    <a:pt x="189" y="207"/>
                  </a:lnTo>
                  <a:lnTo>
                    <a:pt x="234" y="151"/>
                  </a:lnTo>
                  <a:lnTo>
                    <a:pt x="258" y="128"/>
                  </a:lnTo>
                  <a:lnTo>
                    <a:pt x="281" y="106"/>
                  </a:lnTo>
                  <a:lnTo>
                    <a:pt x="305" y="85"/>
                  </a:lnTo>
                  <a:lnTo>
                    <a:pt x="330" y="67"/>
                  </a:lnTo>
                  <a:lnTo>
                    <a:pt x="355" y="52"/>
                  </a:lnTo>
                  <a:lnTo>
                    <a:pt x="382" y="38"/>
                  </a:lnTo>
                  <a:lnTo>
                    <a:pt x="408" y="26"/>
                  </a:lnTo>
                  <a:lnTo>
                    <a:pt x="435" y="16"/>
                  </a:lnTo>
                  <a:lnTo>
                    <a:pt x="463" y="9"/>
                  </a:lnTo>
                  <a:lnTo>
                    <a:pt x="491" y="4"/>
                  </a:lnTo>
                  <a:lnTo>
                    <a:pt x="520" y="1"/>
                  </a:lnTo>
                  <a:lnTo>
                    <a:pt x="549" y="0"/>
                  </a:lnTo>
                  <a:lnTo>
                    <a:pt x="570" y="1"/>
                  </a:lnTo>
                  <a:lnTo>
                    <a:pt x="590" y="3"/>
                  </a:lnTo>
                  <a:lnTo>
                    <a:pt x="609" y="6"/>
                  </a:lnTo>
                  <a:lnTo>
                    <a:pt x="626" y="11"/>
                  </a:lnTo>
                  <a:lnTo>
                    <a:pt x="643" y="17"/>
                  </a:lnTo>
                  <a:lnTo>
                    <a:pt x="650" y="21"/>
                  </a:lnTo>
                  <a:lnTo>
                    <a:pt x="658" y="25"/>
                  </a:lnTo>
                  <a:lnTo>
                    <a:pt x="665" y="30"/>
                  </a:lnTo>
                  <a:lnTo>
                    <a:pt x="672" y="34"/>
                  </a:lnTo>
                  <a:lnTo>
                    <a:pt x="678" y="39"/>
                  </a:lnTo>
                  <a:lnTo>
                    <a:pt x="684" y="44"/>
                  </a:lnTo>
                  <a:lnTo>
                    <a:pt x="691" y="51"/>
                  </a:lnTo>
                  <a:lnTo>
                    <a:pt x="696" y="56"/>
                  </a:lnTo>
                  <a:lnTo>
                    <a:pt x="701" y="62"/>
                  </a:lnTo>
                  <a:lnTo>
                    <a:pt x="706" y="69"/>
                  </a:lnTo>
                  <a:lnTo>
                    <a:pt x="710" y="76"/>
                  </a:lnTo>
                  <a:lnTo>
                    <a:pt x="714" y="83"/>
                  </a:lnTo>
                  <a:lnTo>
                    <a:pt x="718" y="90"/>
                  </a:lnTo>
                  <a:lnTo>
                    <a:pt x="721" y="97"/>
                  </a:lnTo>
                  <a:lnTo>
                    <a:pt x="724" y="105"/>
                  </a:lnTo>
                  <a:lnTo>
                    <a:pt x="727" y="113"/>
                  </a:lnTo>
                  <a:lnTo>
                    <a:pt x="730" y="130"/>
                  </a:lnTo>
                  <a:lnTo>
                    <a:pt x="732" y="146"/>
                  </a:lnTo>
                  <a:lnTo>
                    <a:pt x="733" y="165"/>
                  </a:lnTo>
                  <a:lnTo>
                    <a:pt x="732" y="185"/>
                  </a:lnTo>
                  <a:lnTo>
                    <a:pt x="730" y="203"/>
                  </a:lnTo>
                  <a:lnTo>
                    <a:pt x="726" y="222"/>
                  </a:lnTo>
                  <a:lnTo>
                    <a:pt x="719" y="241"/>
                  </a:lnTo>
                  <a:lnTo>
                    <a:pt x="712" y="260"/>
                  </a:lnTo>
                  <a:lnTo>
                    <a:pt x="703" y="278"/>
                  </a:lnTo>
                  <a:lnTo>
                    <a:pt x="693" y="296"/>
                  </a:lnTo>
                  <a:lnTo>
                    <a:pt x="680" y="315"/>
                  </a:lnTo>
                  <a:lnTo>
                    <a:pt x="666" y="332"/>
                  </a:lnTo>
                  <a:lnTo>
                    <a:pt x="649" y="350"/>
                  </a:lnTo>
                  <a:lnTo>
                    <a:pt x="631" y="369"/>
                  </a:lnTo>
                  <a:lnTo>
                    <a:pt x="610" y="387"/>
                  </a:lnTo>
                  <a:lnTo>
                    <a:pt x="588" y="404"/>
                  </a:lnTo>
                  <a:lnTo>
                    <a:pt x="562" y="422"/>
                  </a:lnTo>
                  <a:lnTo>
                    <a:pt x="536" y="439"/>
                  </a:lnTo>
                  <a:lnTo>
                    <a:pt x="506" y="456"/>
                  </a:lnTo>
                  <a:lnTo>
                    <a:pt x="460" y="481"/>
                  </a:lnTo>
                  <a:lnTo>
                    <a:pt x="399" y="511"/>
                  </a:lnTo>
                  <a:lnTo>
                    <a:pt x="231" y="587"/>
                  </a:lnTo>
                  <a:lnTo>
                    <a:pt x="228" y="610"/>
                  </a:lnTo>
                  <a:lnTo>
                    <a:pt x="226" y="634"/>
                  </a:lnTo>
                  <a:lnTo>
                    <a:pt x="225" y="658"/>
                  </a:lnTo>
                  <a:lnTo>
                    <a:pt x="224" y="683"/>
                  </a:lnTo>
                  <a:lnTo>
                    <a:pt x="224" y="700"/>
                  </a:lnTo>
                  <a:lnTo>
                    <a:pt x="225" y="714"/>
                  </a:lnTo>
                  <a:lnTo>
                    <a:pt x="227" y="728"/>
                  </a:lnTo>
                  <a:lnTo>
                    <a:pt x="229" y="740"/>
                  </a:lnTo>
                  <a:lnTo>
                    <a:pt x="231" y="752"/>
                  </a:lnTo>
                  <a:lnTo>
                    <a:pt x="233" y="756"/>
                  </a:lnTo>
                  <a:lnTo>
                    <a:pt x="234" y="761"/>
                  </a:lnTo>
                  <a:lnTo>
                    <a:pt x="237" y="764"/>
                  </a:lnTo>
                  <a:lnTo>
                    <a:pt x="239" y="768"/>
                  </a:lnTo>
                  <a:lnTo>
                    <a:pt x="241" y="771"/>
                  </a:lnTo>
                  <a:lnTo>
                    <a:pt x="243" y="774"/>
                  </a:lnTo>
                  <a:lnTo>
                    <a:pt x="245" y="778"/>
                  </a:lnTo>
                  <a:lnTo>
                    <a:pt x="248" y="780"/>
                  </a:lnTo>
                  <a:lnTo>
                    <a:pt x="250" y="783"/>
                  </a:lnTo>
                  <a:lnTo>
                    <a:pt x="253" y="785"/>
                  </a:lnTo>
                  <a:lnTo>
                    <a:pt x="257" y="787"/>
                  </a:lnTo>
                  <a:lnTo>
                    <a:pt x="260" y="789"/>
                  </a:lnTo>
                  <a:lnTo>
                    <a:pt x="263" y="790"/>
                  </a:lnTo>
                  <a:lnTo>
                    <a:pt x="266" y="792"/>
                  </a:lnTo>
                  <a:lnTo>
                    <a:pt x="269" y="793"/>
                  </a:lnTo>
                  <a:lnTo>
                    <a:pt x="273" y="794"/>
                  </a:lnTo>
                  <a:lnTo>
                    <a:pt x="277" y="795"/>
                  </a:lnTo>
                  <a:lnTo>
                    <a:pt x="280" y="796"/>
                  </a:lnTo>
                  <a:lnTo>
                    <a:pt x="289" y="797"/>
                  </a:lnTo>
                  <a:lnTo>
                    <a:pt x="297" y="797"/>
                  </a:lnTo>
                  <a:lnTo>
                    <a:pt x="308" y="797"/>
                  </a:lnTo>
                  <a:lnTo>
                    <a:pt x="317" y="796"/>
                  </a:lnTo>
                  <a:lnTo>
                    <a:pt x="328" y="794"/>
                  </a:lnTo>
                  <a:lnTo>
                    <a:pt x="339" y="792"/>
                  </a:lnTo>
                  <a:lnTo>
                    <a:pt x="350" y="789"/>
                  </a:lnTo>
                  <a:lnTo>
                    <a:pt x="362" y="785"/>
                  </a:lnTo>
                  <a:lnTo>
                    <a:pt x="374" y="780"/>
                  </a:lnTo>
                  <a:lnTo>
                    <a:pt x="386" y="774"/>
                  </a:lnTo>
                  <a:lnTo>
                    <a:pt x="405" y="765"/>
                  </a:lnTo>
                  <a:lnTo>
                    <a:pt x="428" y="755"/>
                  </a:lnTo>
                  <a:lnTo>
                    <a:pt x="478" y="725"/>
                  </a:lnTo>
                  <a:lnTo>
                    <a:pt x="541" y="686"/>
                  </a:lnTo>
                  <a:close/>
                  <a:moveTo>
                    <a:pt x="247" y="481"/>
                  </a:moveTo>
                  <a:lnTo>
                    <a:pt x="314" y="444"/>
                  </a:lnTo>
                  <a:lnTo>
                    <a:pt x="373" y="407"/>
                  </a:lnTo>
                  <a:lnTo>
                    <a:pt x="400" y="389"/>
                  </a:lnTo>
                  <a:lnTo>
                    <a:pt x="424" y="370"/>
                  </a:lnTo>
                  <a:lnTo>
                    <a:pt x="447" y="352"/>
                  </a:lnTo>
                  <a:lnTo>
                    <a:pt x="468" y="333"/>
                  </a:lnTo>
                  <a:lnTo>
                    <a:pt x="482" y="317"/>
                  </a:lnTo>
                  <a:lnTo>
                    <a:pt x="494" y="300"/>
                  </a:lnTo>
                  <a:lnTo>
                    <a:pt x="505" y="285"/>
                  </a:lnTo>
                  <a:lnTo>
                    <a:pt x="513" y="269"/>
                  </a:lnTo>
                  <a:lnTo>
                    <a:pt x="520" y="253"/>
                  </a:lnTo>
                  <a:lnTo>
                    <a:pt x="522" y="246"/>
                  </a:lnTo>
                  <a:lnTo>
                    <a:pt x="524" y="239"/>
                  </a:lnTo>
                  <a:lnTo>
                    <a:pt x="526" y="233"/>
                  </a:lnTo>
                  <a:lnTo>
                    <a:pt x="527" y="225"/>
                  </a:lnTo>
                  <a:lnTo>
                    <a:pt x="528" y="218"/>
                  </a:lnTo>
                  <a:lnTo>
                    <a:pt x="528" y="212"/>
                  </a:lnTo>
                  <a:lnTo>
                    <a:pt x="528" y="202"/>
                  </a:lnTo>
                  <a:lnTo>
                    <a:pt x="527" y="194"/>
                  </a:lnTo>
                  <a:lnTo>
                    <a:pt x="525" y="186"/>
                  </a:lnTo>
                  <a:lnTo>
                    <a:pt x="524" y="179"/>
                  </a:lnTo>
                  <a:lnTo>
                    <a:pt x="521" y="171"/>
                  </a:lnTo>
                  <a:lnTo>
                    <a:pt x="519" y="168"/>
                  </a:lnTo>
                  <a:lnTo>
                    <a:pt x="518" y="165"/>
                  </a:lnTo>
                  <a:lnTo>
                    <a:pt x="516" y="162"/>
                  </a:lnTo>
                  <a:lnTo>
                    <a:pt x="513" y="159"/>
                  </a:lnTo>
                  <a:lnTo>
                    <a:pt x="511" y="157"/>
                  </a:lnTo>
                  <a:lnTo>
                    <a:pt x="509" y="154"/>
                  </a:lnTo>
                  <a:lnTo>
                    <a:pt x="504" y="148"/>
                  </a:lnTo>
                  <a:lnTo>
                    <a:pt x="499" y="144"/>
                  </a:lnTo>
                  <a:lnTo>
                    <a:pt x="497" y="143"/>
                  </a:lnTo>
                  <a:lnTo>
                    <a:pt x="493" y="141"/>
                  </a:lnTo>
                  <a:lnTo>
                    <a:pt x="491" y="139"/>
                  </a:lnTo>
                  <a:lnTo>
                    <a:pt x="488" y="138"/>
                  </a:lnTo>
                  <a:lnTo>
                    <a:pt x="485" y="137"/>
                  </a:lnTo>
                  <a:lnTo>
                    <a:pt x="482" y="136"/>
                  </a:lnTo>
                  <a:lnTo>
                    <a:pt x="478" y="135"/>
                  </a:lnTo>
                  <a:lnTo>
                    <a:pt x="475" y="134"/>
                  </a:lnTo>
                  <a:lnTo>
                    <a:pt x="472" y="134"/>
                  </a:lnTo>
                  <a:lnTo>
                    <a:pt x="469" y="133"/>
                  </a:lnTo>
                  <a:lnTo>
                    <a:pt x="461" y="133"/>
                  </a:lnTo>
                  <a:lnTo>
                    <a:pt x="457" y="133"/>
                  </a:lnTo>
                  <a:lnTo>
                    <a:pt x="453" y="133"/>
                  </a:lnTo>
                  <a:lnTo>
                    <a:pt x="443" y="135"/>
                  </a:lnTo>
                  <a:lnTo>
                    <a:pt x="433" y="137"/>
                  </a:lnTo>
                  <a:lnTo>
                    <a:pt x="422" y="140"/>
                  </a:lnTo>
                  <a:lnTo>
                    <a:pt x="409" y="144"/>
                  </a:lnTo>
                  <a:lnTo>
                    <a:pt x="397" y="149"/>
                  </a:lnTo>
                  <a:lnTo>
                    <a:pt x="369" y="163"/>
                  </a:lnTo>
                  <a:lnTo>
                    <a:pt x="318" y="246"/>
                  </a:lnTo>
                  <a:lnTo>
                    <a:pt x="295" y="314"/>
                  </a:lnTo>
                  <a:lnTo>
                    <a:pt x="275" y="375"/>
                  </a:lnTo>
                  <a:lnTo>
                    <a:pt x="259" y="431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21440" y="528480"/>
              <a:ext cx="272880" cy="352440"/>
            </a:xfrm>
            <a:custGeom>
              <a:avLst/>
              <a:gdLst/>
              <a:ahLst/>
              <a:rect l="l" t="t" r="r" b="b"/>
              <a:pathLst>
                <a:path w="760" h="981">
                  <a:moveTo>
                    <a:pt x="633" y="673"/>
                  </a:moveTo>
                  <a:lnTo>
                    <a:pt x="669" y="764"/>
                  </a:lnTo>
                  <a:lnTo>
                    <a:pt x="601" y="815"/>
                  </a:lnTo>
                  <a:lnTo>
                    <a:pt x="537" y="859"/>
                  </a:lnTo>
                  <a:lnTo>
                    <a:pt x="475" y="895"/>
                  </a:lnTo>
                  <a:lnTo>
                    <a:pt x="415" y="926"/>
                  </a:lnTo>
                  <a:lnTo>
                    <a:pt x="358" y="950"/>
                  </a:lnTo>
                  <a:lnTo>
                    <a:pt x="331" y="960"/>
                  </a:lnTo>
                  <a:lnTo>
                    <a:pt x="304" y="967"/>
                  </a:lnTo>
                  <a:lnTo>
                    <a:pt x="278" y="973"/>
                  </a:lnTo>
                  <a:lnTo>
                    <a:pt x="253" y="977"/>
                  </a:lnTo>
                  <a:lnTo>
                    <a:pt x="228" y="979"/>
                  </a:lnTo>
                  <a:lnTo>
                    <a:pt x="204" y="980"/>
                  </a:lnTo>
                  <a:lnTo>
                    <a:pt x="178" y="979"/>
                  </a:lnTo>
                  <a:lnTo>
                    <a:pt x="166" y="977"/>
                  </a:lnTo>
                  <a:lnTo>
                    <a:pt x="155" y="976"/>
                  </a:lnTo>
                  <a:lnTo>
                    <a:pt x="143" y="973"/>
                  </a:lnTo>
                  <a:lnTo>
                    <a:pt x="131" y="970"/>
                  </a:lnTo>
                  <a:lnTo>
                    <a:pt x="122" y="966"/>
                  </a:lnTo>
                  <a:lnTo>
                    <a:pt x="111" y="962"/>
                  </a:lnTo>
                  <a:lnTo>
                    <a:pt x="102" y="957"/>
                  </a:lnTo>
                  <a:lnTo>
                    <a:pt x="93" y="951"/>
                  </a:lnTo>
                  <a:lnTo>
                    <a:pt x="83" y="945"/>
                  </a:lnTo>
                  <a:lnTo>
                    <a:pt x="76" y="939"/>
                  </a:lnTo>
                  <a:lnTo>
                    <a:pt x="68" y="931"/>
                  </a:lnTo>
                  <a:lnTo>
                    <a:pt x="60" y="923"/>
                  </a:lnTo>
                  <a:lnTo>
                    <a:pt x="54" y="915"/>
                  </a:lnTo>
                  <a:lnTo>
                    <a:pt x="47" y="906"/>
                  </a:lnTo>
                  <a:lnTo>
                    <a:pt x="36" y="886"/>
                  </a:lnTo>
                  <a:lnTo>
                    <a:pt x="26" y="866"/>
                  </a:lnTo>
                  <a:lnTo>
                    <a:pt x="19" y="844"/>
                  </a:lnTo>
                  <a:lnTo>
                    <a:pt x="11" y="822"/>
                  </a:lnTo>
                  <a:lnTo>
                    <a:pt x="6" y="798"/>
                  </a:lnTo>
                  <a:lnTo>
                    <a:pt x="3" y="775"/>
                  </a:lnTo>
                  <a:lnTo>
                    <a:pt x="1" y="749"/>
                  </a:lnTo>
                  <a:lnTo>
                    <a:pt x="0" y="723"/>
                  </a:lnTo>
                  <a:lnTo>
                    <a:pt x="1" y="679"/>
                  </a:lnTo>
                  <a:lnTo>
                    <a:pt x="5" y="634"/>
                  </a:lnTo>
                  <a:lnTo>
                    <a:pt x="12" y="589"/>
                  </a:lnTo>
                  <a:lnTo>
                    <a:pt x="23" y="545"/>
                  </a:lnTo>
                  <a:lnTo>
                    <a:pt x="36" y="499"/>
                  </a:lnTo>
                  <a:lnTo>
                    <a:pt x="53" y="454"/>
                  </a:lnTo>
                  <a:lnTo>
                    <a:pt x="72" y="407"/>
                  </a:lnTo>
                  <a:lnTo>
                    <a:pt x="94" y="362"/>
                  </a:lnTo>
                  <a:lnTo>
                    <a:pt x="119" y="317"/>
                  </a:lnTo>
                  <a:lnTo>
                    <a:pt x="143" y="276"/>
                  </a:lnTo>
                  <a:lnTo>
                    <a:pt x="169" y="239"/>
                  </a:lnTo>
                  <a:lnTo>
                    <a:pt x="197" y="205"/>
                  </a:lnTo>
                  <a:lnTo>
                    <a:pt x="225" y="174"/>
                  </a:lnTo>
                  <a:lnTo>
                    <a:pt x="254" y="147"/>
                  </a:lnTo>
                  <a:lnTo>
                    <a:pt x="284" y="123"/>
                  </a:lnTo>
                  <a:lnTo>
                    <a:pt x="316" y="104"/>
                  </a:lnTo>
                  <a:lnTo>
                    <a:pt x="346" y="80"/>
                  </a:lnTo>
                  <a:lnTo>
                    <a:pt x="376" y="59"/>
                  </a:lnTo>
                  <a:lnTo>
                    <a:pt x="407" y="40"/>
                  </a:lnTo>
                  <a:lnTo>
                    <a:pt x="439" y="26"/>
                  </a:lnTo>
                  <a:lnTo>
                    <a:pt x="471" y="14"/>
                  </a:lnTo>
                  <a:lnTo>
                    <a:pt x="504" y="6"/>
                  </a:lnTo>
                  <a:lnTo>
                    <a:pt x="520" y="4"/>
                  </a:lnTo>
                  <a:lnTo>
                    <a:pt x="537" y="2"/>
                  </a:lnTo>
                  <a:lnTo>
                    <a:pt x="571" y="0"/>
                  </a:lnTo>
                  <a:lnTo>
                    <a:pt x="592" y="1"/>
                  </a:lnTo>
                  <a:lnTo>
                    <a:pt x="613" y="2"/>
                  </a:lnTo>
                  <a:lnTo>
                    <a:pt x="632" y="5"/>
                  </a:lnTo>
                  <a:lnTo>
                    <a:pt x="650" y="9"/>
                  </a:lnTo>
                  <a:lnTo>
                    <a:pt x="667" y="14"/>
                  </a:lnTo>
                  <a:lnTo>
                    <a:pt x="682" y="21"/>
                  </a:lnTo>
                  <a:lnTo>
                    <a:pt x="697" y="28"/>
                  </a:lnTo>
                  <a:lnTo>
                    <a:pt x="703" y="32"/>
                  </a:lnTo>
                  <a:lnTo>
                    <a:pt x="710" y="36"/>
                  </a:lnTo>
                  <a:lnTo>
                    <a:pt x="721" y="45"/>
                  </a:lnTo>
                  <a:lnTo>
                    <a:pt x="727" y="51"/>
                  </a:lnTo>
                  <a:lnTo>
                    <a:pt x="731" y="55"/>
                  </a:lnTo>
                  <a:lnTo>
                    <a:pt x="736" y="60"/>
                  </a:lnTo>
                  <a:lnTo>
                    <a:pt x="739" y="65"/>
                  </a:lnTo>
                  <a:lnTo>
                    <a:pt x="744" y="71"/>
                  </a:lnTo>
                  <a:lnTo>
                    <a:pt x="747" y="77"/>
                  </a:lnTo>
                  <a:lnTo>
                    <a:pt x="750" y="82"/>
                  </a:lnTo>
                  <a:lnTo>
                    <a:pt x="752" y="88"/>
                  </a:lnTo>
                  <a:lnTo>
                    <a:pt x="754" y="94"/>
                  </a:lnTo>
                  <a:lnTo>
                    <a:pt x="756" y="100"/>
                  </a:lnTo>
                  <a:lnTo>
                    <a:pt x="757" y="106"/>
                  </a:lnTo>
                  <a:lnTo>
                    <a:pt x="758" y="112"/>
                  </a:lnTo>
                  <a:lnTo>
                    <a:pt x="759" y="119"/>
                  </a:lnTo>
                  <a:lnTo>
                    <a:pt x="759" y="126"/>
                  </a:lnTo>
                  <a:lnTo>
                    <a:pt x="759" y="136"/>
                  </a:lnTo>
                  <a:lnTo>
                    <a:pt x="757" y="145"/>
                  </a:lnTo>
                  <a:lnTo>
                    <a:pt x="755" y="156"/>
                  </a:lnTo>
                  <a:lnTo>
                    <a:pt x="754" y="160"/>
                  </a:lnTo>
                  <a:lnTo>
                    <a:pt x="752" y="164"/>
                  </a:lnTo>
                  <a:lnTo>
                    <a:pt x="750" y="168"/>
                  </a:lnTo>
                  <a:lnTo>
                    <a:pt x="748" y="172"/>
                  </a:lnTo>
                  <a:lnTo>
                    <a:pt x="746" y="177"/>
                  </a:lnTo>
                  <a:lnTo>
                    <a:pt x="744" y="181"/>
                  </a:lnTo>
                  <a:lnTo>
                    <a:pt x="740" y="185"/>
                  </a:lnTo>
                  <a:lnTo>
                    <a:pt x="737" y="188"/>
                  </a:lnTo>
                  <a:lnTo>
                    <a:pt x="734" y="192"/>
                  </a:lnTo>
                  <a:lnTo>
                    <a:pt x="731" y="195"/>
                  </a:lnTo>
                  <a:lnTo>
                    <a:pt x="723" y="201"/>
                  </a:lnTo>
                  <a:lnTo>
                    <a:pt x="719" y="205"/>
                  </a:lnTo>
                  <a:lnTo>
                    <a:pt x="715" y="208"/>
                  </a:lnTo>
                  <a:lnTo>
                    <a:pt x="711" y="210"/>
                  </a:lnTo>
                  <a:lnTo>
                    <a:pt x="705" y="212"/>
                  </a:lnTo>
                  <a:lnTo>
                    <a:pt x="701" y="214"/>
                  </a:lnTo>
                  <a:lnTo>
                    <a:pt x="697" y="216"/>
                  </a:lnTo>
                  <a:lnTo>
                    <a:pt x="686" y="219"/>
                  </a:lnTo>
                  <a:lnTo>
                    <a:pt x="676" y="221"/>
                  </a:lnTo>
                  <a:lnTo>
                    <a:pt x="664" y="223"/>
                  </a:lnTo>
                  <a:lnTo>
                    <a:pt x="652" y="223"/>
                  </a:lnTo>
                  <a:lnTo>
                    <a:pt x="642" y="222"/>
                  </a:lnTo>
                  <a:lnTo>
                    <a:pt x="630" y="221"/>
                  </a:lnTo>
                  <a:lnTo>
                    <a:pt x="619" y="218"/>
                  </a:lnTo>
                  <a:lnTo>
                    <a:pt x="608" y="215"/>
                  </a:lnTo>
                  <a:lnTo>
                    <a:pt x="597" y="210"/>
                  </a:lnTo>
                  <a:lnTo>
                    <a:pt x="587" y="204"/>
                  </a:lnTo>
                  <a:lnTo>
                    <a:pt x="577" y="197"/>
                  </a:lnTo>
                  <a:lnTo>
                    <a:pt x="566" y="189"/>
                  </a:lnTo>
                  <a:lnTo>
                    <a:pt x="528" y="172"/>
                  </a:lnTo>
                  <a:lnTo>
                    <a:pt x="511" y="166"/>
                  </a:lnTo>
                  <a:lnTo>
                    <a:pt x="496" y="161"/>
                  </a:lnTo>
                  <a:lnTo>
                    <a:pt x="483" y="157"/>
                  </a:lnTo>
                  <a:lnTo>
                    <a:pt x="470" y="154"/>
                  </a:lnTo>
                  <a:lnTo>
                    <a:pt x="459" y="153"/>
                  </a:lnTo>
                  <a:lnTo>
                    <a:pt x="454" y="152"/>
                  </a:lnTo>
                  <a:lnTo>
                    <a:pt x="450" y="152"/>
                  </a:lnTo>
                  <a:lnTo>
                    <a:pt x="444" y="152"/>
                  </a:lnTo>
                  <a:lnTo>
                    <a:pt x="438" y="153"/>
                  </a:lnTo>
                  <a:lnTo>
                    <a:pt x="433" y="153"/>
                  </a:lnTo>
                  <a:lnTo>
                    <a:pt x="427" y="155"/>
                  </a:lnTo>
                  <a:lnTo>
                    <a:pt x="421" y="156"/>
                  </a:lnTo>
                  <a:lnTo>
                    <a:pt x="416" y="158"/>
                  </a:lnTo>
                  <a:lnTo>
                    <a:pt x="404" y="163"/>
                  </a:lnTo>
                  <a:lnTo>
                    <a:pt x="392" y="168"/>
                  </a:lnTo>
                  <a:lnTo>
                    <a:pt x="381" y="177"/>
                  </a:lnTo>
                  <a:lnTo>
                    <a:pt x="369" y="185"/>
                  </a:lnTo>
                  <a:lnTo>
                    <a:pt x="357" y="195"/>
                  </a:lnTo>
                  <a:lnTo>
                    <a:pt x="351" y="200"/>
                  </a:lnTo>
                  <a:lnTo>
                    <a:pt x="346" y="208"/>
                  </a:lnTo>
                  <a:lnTo>
                    <a:pt x="334" y="222"/>
                  </a:lnTo>
                  <a:lnTo>
                    <a:pt x="321" y="240"/>
                  </a:lnTo>
                  <a:lnTo>
                    <a:pt x="310" y="261"/>
                  </a:lnTo>
                  <a:lnTo>
                    <a:pt x="298" y="284"/>
                  </a:lnTo>
                  <a:lnTo>
                    <a:pt x="286" y="311"/>
                  </a:lnTo>
                  <a:lnTo>
                    <a:pt x="275" y="339"/>
                  </a:lnTo>
                  <a:lnTo>
                    <a:pt x="263" y="371"/>
                  </a:lnTo>
                  <a:lnTo>
                    <a:pt x="251" y="404"/>
                  </a:lnTo>
                  <a:lnTo>
                    <a:pt x="242" y="438"/>
                  </a:lnTo>
                  <a:lnTo>
                    <a:pt x="234" y="471"/>
                  </a:lnTo>
                  <a:lnTo>
                    <a:pt x="228" y="504"/>
                  </a:lnTo>
                  <a:lnTo>
                    <a:pt x="223" y="538"/>
                  </a:lnTo>
                  <a:lnTo>
                    <a:pt x="219" y="572"/>
                  </a:lnTo>
                  <a:lnTo>
                    <a:pt x="217" y="605"/>
                  </a:lnTo>
                  <a:lnTo>
                    <a:pt x="216" y="639"/>
                  </a:lnTo>
                  <a:lnTo>
                    <a:pt x="216" y="662"/>
                  </a:lnTo>
                  <a:lnTo>
                    <a:pt x="218" y="684"/>
                  </a:lnTo>
                  <a:lnTo>
                    <a:pt x="220" y="704"/>
                  </a:lnTo>
                  <a:lnTo>
                    <a:pt x="225" y="723"/>
                  </a:lnTo>
                  <a:lnTo>
                    <a:pt x="229" y="740"/>
                  </a:lnTo>
                  <a:lnTo>
                    <a:pt x="235" y="756"/>
                  </a:lnTo>
                  <a:lnTo>
                    <a:pt x="238" y="762"/>
                  </a:lnTo>
                  <a:lnTo>
                    <a:pt x="242" y="769"/>
                  </a:lnTo>
                  <a:lnTo>
                    <a:pt x="246" y="776"/>
                  </a:lnTo>
                  <a:lnTo>
                    <a:pt x="250" y="782"/>
                  </a:lnTo>
                  <a:lnTo>
                    <a:pt x="256" y="790"/>
                  </a:lnTo>
                  <a:lnTo>
                    <a:pt x="260" y="794"/>
                  </a:lnTo>
                  <a:lnTo>
                    <a:pt x="264" y="798"/>
                  </a:lnTo>
                  <a:lnTo>
                    <a:pt x="267" y="802"/>
                  </a:lnTo>
                  <a:lnTo>
                    <a:pt x="271" y="805"/>
                  </a:lnTo>
                  <a:lnTo>
                    <a:pt x="275" y="807"/>
                  </a:lnTo>
                  <a:lnTo>
                    <a:pt x="279" y="810"/>
                  </a:lnTo>
                  <a:lnTo>
                    <a:pt x="283" y="812"/>
                  </a:lnTo>
                  <a:lnTo>
                    <a:pt x="287" y="813"/>
                  </a:lnTo>
                  <a:lnTo>
                    <a:pt x="291" y="815"/>
                  </a:lnTo>
                  <a:lnTo>
                    <a:pt x="297" y="816"/>
                  </a:lnTo>
                  <a:lnTo>
                    <a:pt x="301" y="817"/>
                  </a:lnTo>
                  <a:lnTo>
                    <a:pt x="306" y="817"/>
                  </a:lnTo>
                  <a:lnTo>
                    <a:pt x="311" y="818"/>
                  </a:lnTo>
                  <a:lnTo>
                    <a:pt x="316" y="818"/>
                  </a:lnTo>
                  <a:lnTo>
                    <a:pt x="332" y="817"/>
                  </a:lnTo>
                  <a:lnTo>
                    <a:pt x="348" y="816"/>
                  </a:lnTo>
                  <a:lnTo>
                    <a:pt x="364" y="813"/>
                  </a:lnTo>
                  <a:lnTo>
                    <a:pt x="381" y="809"/>
                  </a:lnTo>
                  <a:lnTo>
                    <a:pt x="417" y="797"/>
                  </a:lnTo>
                  <a:lnTo>
                    <a:pt x="456" y="782"/>
                  </a:lnTo>
                  <a:lnTo>
                    <a:pt x="496" y="761"/>
                  </a:lnTo>
                  <a:lnTo>
                    <a:pt x="540" y="736"/>
                  </a:lnTo>
                  <a:lnTo>
                    <a:pt x="585" y="70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00800" y="527040"/>
              <a:ext cx="492120" cy="355680"/>
            </a:xfrm>
            <a:custGeom>
              <a:avLst/>
              <a:gdLst/>
              <a:ahLst/>
              <a:rect l="l" t="t" r="r" b="b"/>
              <a:pathLst>
                <a:path w="1367" h="989">
                  <a:moveTo>
                    <a:pt x="53" y="294"/>
                  </a:moveTo>
                  <a:lnTo>
                    <a:pt x="0" y="227"/>
                  </a:lnTo>
                  <a:lnTo>
                    <a:pt x="59" y="171"/>
                  </a:lnTo>
                  <a:lnTo>
                    <a:pt x="86" y="146"/>
                  </a:lnTo>
                  <a:lnTo>
                    <a:pt x="114" y="123"/>
                  </a:lnTo>
                  <a:lnTo>
                    <a:pt x="141" y="103"/>
                  </a:lnTo>
                  <a:lnTo>
                    <a:pt x="168" y="84"/>
                  </a:lnTo>
                  <a:lnTo>
                    <a:pt x="195" y="67"/>
                  </a:lnTo>
                  <a:lnTo>
                    <a:pt x="221" y="53"/>
                  </a:lnTo>
                  <a:lnTo>
                    <a:pt x="245" y="40"/>
                  </a:lnTo>
                  <a:lnTo>
                    <a:pt x="270" y="30"/>
                  </a:lnTo>
                  <a:lnTo>
                    <a:pt x="292" y="20"/>
                  </a:lnTo>
                  <a:lnTo>
                    <a:pt x="313" y="13"/>
                  </a:lnTo>
                  <a:lnTo>
                    <a:pt x="334" y="7"/>
                  </a:lnTo>
                  <a:lnTo>
                    <a:pt x="352" y="3"/>
                  </a:lnTo>
                  <a:lnTo>
                    <a:pt x="370" y="1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0" y="1"/>
                  </a:lnTo>
                  <a:lnTo>
                    <a:pt x="408" y="2"/>
                  </a:lnTo>
                  <a:lnTo>
                    <a:pt x="414" y="4"/>
                  </a:lnTo>
                  <a:lnTo>
                    <a:pt x="421" y="6"/>
                  </a:lnTo>
                  <a:lnTo>
                    <a:pt x="424" y="7"/>
                  </a:lnTo>
                  <a:lnTo>
                    <a:pt x="426" y="9"/>
                  </a:lnTo>
                  <a:lnTo>
                    <a:pt x="429" y="10"/>
                  </a:lnTo>
                  <a:lnTo>
                    <a:pt x="431" y="12"/>
                  </a:lnTo>
                  <a:lnTo>
                    <a:pt x="434" y="14"/>
                  </a:lnTo>
                  <a:lnTo>
                    <a:pt x="437" y="16"/>
                  </a:lnTo>
                  <a:lnTo>
                    <a:pt x="439" y="18"/>
                  </a:lnTo>
                  <a:lnTo>
                    <a:pt x="441" y="20"/>
                  </a:lnTo>
                  <a:lnTo>
                    <a:pt x="443" y="22"/>
                  </a:lnTo>
                  <a:lnTo>
                    <a:pt x="445" y="25"/>
                  </a:lnTo>
                  <a:lnTo>
                    <a:pt x="446" y="28"/>
                  </a:lnTo>
                  <a:lnTo>
                    <a:pt x="448" y="30"/>
                  </a:lnTo>
                  <a:lnTo>
                    <a:pt x="449" y="32"/>
                  </a:lnTo>
                  <a:lnTo>
                    <a:pt x="451" y="35"/>
                  </a:lnTo>
                  <a:lnTo>
                    <a:pt x="452" y="37"/>
                  </a:lnTo>
                  <a:lnTo>
                    <a:pt x="452" y="40"/>
                  </a:lnTo>
                  <a:lnTo>
                    <a:pt x="453" y="43"/>
                  </a:lnTo>
                  <a:lnTo>
                    <a:pt x="455" y="46"/>
                  </a:lnTo>
                  <a:lnTo>
                    <a:pt x="456" y="53"/>
                  </a:lnTo>
                  <a:lnTo>
                    <a:pt x="456" y="59"/>
                  </a:lnTo>
                  <a:lnTo>
                    <a:pt x="456" y="65"/>
                  </a:lnTo>
                  <a:lnTo>
                    <a:pt x="455" y="73"/>
                  </a:lnTo>
                  <a:lnTo>
                    <a:pt x="452" y="83"/>
                  </a:lnTo>
                  <a:lnTo>
                    <a:pt x="451" y="93"/>
                  </a:lnTo>
                  <a:lnTo>
                    <a:pt x="445" y="118"/>
                  </a:lnTo>
                  <a:lnTo>
                    <a:pt x="437" y="148"/>
                  </a:lnTo>
                  <a:lnTo>
                    <a:pt x="403" y="263"/>
                  </a:lnTo>
                  <a:lnTo>
                    <a:pt x="459" y="201"/>
                  </a:lnTo>
                  <a:lnTo>
                    <a:pt x="513" y="148"/>
                  </a:lnTo>
                  <a:lnTo>
                    <a:pt x="564" y="103"/>
                  </a:lnTo>
                  <a:lnTo>
                    <a:pt x="613" y="66"/>
                  </a:lnTo>
                  <a:lnTo>
                    <a:pt x="636" y="51"/>
                  </a:lnTo>
                  <a:lnTo>
                    <a:pt x="658" y="37"/>
                  </a:lnTo>
                  <a:lnTo>
                    <a:pt x="681" y="26"/>
                  </a:lnTo>
                  <a:lnTo>
                    <a:pt x="702" y="16"/>
                  </a:lnTo>
                  <a:lnTo>
                    <a:pt x="723" y="9"/>
                  </a:lnTo>
                  <a:lnTo>
                    <a:pt x="743" y="4"/>
                  </a:lnTo>
                  <a:lnTo>
                    <a:pt x="762" y="1"/>
                  </a:lnTo>
                  <a:lnTo>
                    <a:pt x="781" y="0"/>
                  </a:lnTo>
                  <a:lnTo>
                    <a:pt x="793" y="0"/>
                  </a:lnTo>
                  <a:lnTo>
                    <a:pt x="804" y="2"/>
                  </a:lnTo>
                  <a:lnTo>
                    <a:pt x="813" y="4"/>
                  </a:lnTo>
                  <a:lnTo>
                    <a:pt x="819" y="5"/>
                  </a:lnTo>
                  <a:lnTo>
                    <a:pt x="823" y="7"/>
                  </a:lnTo>
                  <a:lnTo>
                    <a:pt x="827" y="8"/>
                  </a:lnTo>
                  <a:lnTo>
                    <a:pt x="831" y="10"/>
                  </a:lnTo>
                  <a:lnTo>
                    <a:pt x="836" y="12"/>
                  </a:lnTo>
                  <a:lnTo>
                    <a:pt x="840" y="15"/>
                  </a:lnTo>
                  <a:lnTo>
                    <a:pt x="843" y="17"/>
                  </a:lnTo>
                  <a:lnTo>
                    <a:pt x="847" y="20"/>
                  </a:lnTo>
                  <a:lnTo>
                    <a:pt x="850" y="24"/>
                  </a:lnTo>
                  <a:lnTo>
                    <a:pt x="854" y="27"/>
                  </a:lnTo>
                  <a:lnTo>
                    <a:pt x="857" y="30"/>
                  </a:lnTo>
                  <a:lnTo>
                    <a:pt x="860" y="34"/>
                  </a:lnTo>
                  <a:lnTo>
                    <a:pt x="862" y="37"/>
                  </a:lnTo>
                  <a:lnTo>
                    <a:pt x="865" y="41"/>
                  </a:lnTo>
                  <a:lnTo>
                    <a:pt x="867" y="45"/>
                  </a:lnTo>
                  <a:lnTo>
                    <a:pt x="869" y="50"/>
                  </a:lnTo>
                  <a:lnTo>
                    <a:pt x="871" y="54"/>
                  </a:lnTo>
                  <a:lnTo>
                    <a:pt x="873" y="59"/>
                  </a:lnTo>
                  <a:lnTo>
                    <a:pt x="876" y="69"/>
                  </a:lnTo>
                  <a:lnTo>
                    <a:pt x="878" y="80"/>
                  </a:lnTo>
                  <a:lnTo>
                    <a:pt x="879" y="91"/>
                  </a:lnTo>
                  <a:lnTo>
                    <a:pt x="879" y="104"/>
                  </a:lnTo>
                  <a:lnTo>
                    <a:pt x="878" y="116"/>
                  </a:lnTo>
                  <a:lnTo>
                    <a:pt x="877" y="130"/>
                  </a:lnTo>
                  <a:lnTo>
                    <a:pt x="874" y="144"/>
                  </a:lnTo>
                  <a:lnTo>
                    <a:pt x="871" y="160"/>
                  </a:lnTo>
                  <a:lnTo>
                    <a:pt x="866" y="177"/>
                  </a:lnTo>
                  <a:lnTo>
                    <a:pt x="860" y="195"/>
                  </a:lnTo>
                  <a:lnTo>
                    <a:pt x="846" y="235"/>
                  </a:lnTo>
                  <a:lnTo>
                    <a:pt x="867" y="204"/>
                  </a:lnTo>
                  <a:lnTo>
                    <a:pt x="890" y="177"/>
                  </a:lnTo>
                  <a:lnTo>
                    <a:pt x="912" y="151"/>
                  </a:lnTo>
                  <a:lnTo>
                    <a:pt x="935" y="129"/>
                  </a:lnTo>
                  <a:lnTo>
                    <a:pt x="958" y="107"/>
                  </a:lnTo>
                  <a:lnTo>
                    <a:pt x="981" y="88"/>
                  </a:lnTo>
                  <a:lnTo>
                    <a:pt x="1005" y="70"/>
                  </a:lnTo>
                  <a:lnTo>
                    <a:pt x="1029" y="56"/>
                  </a:lnTo>
                  <a:lnTo>
                    <a:pt x="1052" y="42"/>
                  </a:lnTo>
                  <a:lnTo>
                    <a:pt x="1074" y="31"/>
                  </a:lnTo>
                  <a:lnTo>
                    <a:pt x="1096" y="21"/>
                  </a:lnTo>
                  <a:lnTo>
                    <a:pt x="1116" y="14"/>
                  </a:lnTo>
                  <a:lnTo>
                    <a:pt x="1135" y="8"/>
                  </a:lnTo>
                  <a:lnTo>
                    <a:pt x="1152" y="3"/>
                  </a:lnTo>
                  <a:lnTo>
                    <a:pt x="1169" y="1"/>
                  </a:lnTo>
                  <a:lnTo>
                    <a:pt x="1176" y="0"/>
                  </a:lnTo>
                  <a:lnTo>
                    <a:pt x="1184" y="0"/>
                  </a:lnTo>
                  <a:lnTo>
                    <a:pt x="1197" y="1"/>
                  </a:lnTo>
                  <a:lnTo>
                    <a:pt x="1210" y="2"/>
                  </a:lnTo>
                  <a:lnTo>
                    <a:pt x="1222" y="5"/>
                  </a:lnTo>
                  <a:lnTo>
                    <a:pt x="1228" y="6"/>
                  </a:lnTo>
                  <a:lnTo>
                    <a:pt x="1233" y="8"/>
                  </a:lnTo>
                  <a:lnTo>
                    <a:pt x="1239" y="10"/>
                  </a:lnTo>
                  <a:lnTo>
                    <a:pt x="1244" y="13"/>
                  </a:lnTo>
                  <a:lnTo>
                    <a:pt x="1249" y="15"/>
                  </a:lnTo>
                  <a:lnTo>
                    <a:pt x="1255" y="18"/>
                  </a:lnTo>
                  <a:lnTo>
                    <a:pt x="1259" y="21"/>
                  </a:lnTo>
                  <a:lnTo>
                    <a:pt x="1263" y="26"/>
                  </a:lnTo>
                  <a:lnTo>
                    <a:pt x="1267" y="29"/>
                  </a:lnTo>
                  <a:lnTo>
                    <a:pt x="1272" y="33"/>
                  </a:lnTo>
                  <a:lnTo>
                    <a:pt x="1276" y="37"/>
                  </a:lnTo>
                  <a:lnTo>
                    <a:pt x="1279" y="41"/>
                  </a:lnTo>
                  <a:lnTo>
                    <a:pt x="1282" y="46"/>
                  </a:lnTo>
                  <a:lnTo>
                    <a:pt x="1285" y="51"/>
                  </a:lnTo>
                  <a:lnTo>
                    <a:pt x="1289" y="56"/>
                  </a:lnTo>
                  <a:lnTo>
                    <a:pt x="1291" y="61"/>
                  </a:lnTo>
                  <a:lnTo>
                    <a:pt x="1294" y="67"/>
                  </a:lnTo>
                  <a:lnTo>
                    <a:pt x="1296" y="72"/>
                  </a:lnTo>
                  <a:lnTo>
                    <a:pt x="1299" y="85"/>
                  </a:lnTo>
                  <a:lnTo>
                    <a:pt x="1301" y="98"/>
                  </a:lnTo>
                  <a:lnTo>
                    <a:pt x="1304" y="112"/>
                  </a:lnTo>
                  <a:lnTo>
                    <a:pt x="1304" y="128"/>
                  </a:lnTo>
                  <a:lnTo>
                    <a:pt x="1304" y="136"/>
                  </a:lnTo>
                  <a:lnTo>
                    <a:pt x="1302" y="145"/>
                  </a:lnTo>
                  <a:lnTo>
                    <a:pt x="1301" y="155"/>
                  </a:lnTo>
                  <a:lnTo>
                    <a:pt x="1300" y="165"/>
                  </a:lnTo>
                  <a:lnTo>
                    <a:pt x="1297" y="186"/>
                  </a:lnTo>
                  <a:lnTo>
                    <a:pt x="1292" y="208"/>
                  </a:lnTo>
                  <a:lnTo>
                    <a:pt x="1282" y="242"/>
                  </a:lnTo>
                  <a:lnTo>
                    <a:pt x="1266" y="298"/>
                  </a:lnTo>
                  <a:lnTo>
                    <a:pt x="1211" y="479"/>
                  </a:lnTo>
                  <a:lnTo>
                    <a:pt x="1174" y="603"/>
                  </a:lnTo>
                  <a:lnTo>
                    <a:pt x="1146" y="699"/>
                  </a:lnTo>
                  <a:lnTo>
                    <a:pt x="1131" y="766"/>
                  </a:lnTo>
                  <a:lnTo>
                    <a:pt x="1126" y="790"/>
                  </a:lnTo>
                  <a:lnTo>
                    <a:pt x="1125" y="798"/>
                  </a:lnTo>
                  <a:lnTo>
                    <a:pt x="1125" y="806"/>
                  </a:lnTo>
                  <a:lnTo>
                    <a:pt x="1125" y="809"/>
                  </a:lnTo>
                  <a:lnTo>
                    <a:pt x="1125" y="812"/>
                  </a:lnTo>
                  <a:lnTo>
                    <a:pt x="1126" y="814"/>
                  </a:lnTo>
                  <a:lnTo>
                    <a:pt x="1126" y="815"/>
                  </a:lnTo>
                  <a:lnTo>
                    <a:pt x="1126" y="816"/>
                  </a:lnTo>
                  <a:lnTo>
                    <a:pt x="1127" y="817"/>
                  </a:lnTo>
                  <a:lnTo>
                    <a:pt x="1127" y="818"/>
                  </a:lnTo>
                  <a:lnTo>
                    <a:pt x="1128" y="818"/>
                  </a:lnTo>
                  <a:lnTo>
                    <a:pt x="1128" y="819"/>
                  </a:lnTo>
                  <a:lnTo>
                    <a:pt x="1129" y="819"/>
                  </a:lnTo>
                  <a:lnTo>
                    <a:pt x="1129" y="820"/>
                  </a:lnTo>
                  <a:lnTo>
                    <a:pt x="1131" y="820"/>
                  </a:lnTo>
                  <a:lnTo>
                    <a:pt x="1132" y="820"/>
                  </a:lnTo>
                  <a:lnTo>
                    <a:pt x="1133" y="820"/>
                  </a:lnTo>
                  <a:lnTo>
                    <a:pt x="1136" y="820"/>
                  </a:lnTo>
                  <a:lnTo>
                    <a:pt x="1139" y="819"/>
                  </a:lnTo>
                  <a:lnTo>
                    <a:pt x="1143" y="819"/>
                  </a:lnTo>
                  <a:lnTo>
                    <a:pt x="1146" y="818"/>
                  </a:lnTo>
                  <a:lnTo>
                    <a:pt x="1151" y="816"/>
                  </a:lnTo>
                  <a:lnTo>
                    <a:pt x="1155" y="815"/>
                  </a:lnTo>
                  <a:lnTo>
                    <a:pt x="1158" y="812"/>
                  </a:lnTo>
                  <a:lnTo>
                    <a:pt x="1162" y="810"/>
                  </a:lnTo>
                  <a:lnTo>
                    <a:pt x="1194" y="787"/>
                  </a:lnTo>
                  <a:lnTo>
                    <a:pt x="1228" y="761"/>
                  </a:lnTo>
                  <a:lnTo>
                    <a:pt x="1266" y="731"/>
                  </a:lnTo>
                  <a:lnTo>
                    <a:pt x="1307" y="696"/>
                  </a:lnTo>
                  <a:lnTo>
                    <a:pt x="1366" y="759"/>
                  </a:lnTo>
                  <a:lnTo>
                    <a:pt x="1358" y="767"/>
                  </a:lnTo>
                  <a:lnTo>
                    <a:pt x="1349" y="774"/>
                  </a:lnTo>
                  <a:lnTo>
                    <a:pt x="1340" y="783"/>
                  </a:lnTo>
                  <a:lnTo>
                    <a:pt x="1329" y="791"/>
                  </a:lnTo>
                  <a:lnTo>
                    <a:pt x="1306" y="809"/>
                  </a:lnTo>
                  <a:lnTo>
                    <a:pt x="1279" y="826"/>
                  </a:lnTo>
                  <a:lnTo>
                    <a:pt x="1232" y="872"/>
                  </a:lnTo>
                  <a:lnTo>
                    <a:pt x="1211" y="891"/>
                  </a:lnTo>
                  <a:lnTo>
                    <a:pt x="1191" y="908"/>
                  </a:lnTo>
                  <a:lnTo>
                    <a:pt x="1172" y="922"/>
                  </a:lnTo>
                  <a:lnTo>
                    <a:pt x="1153" y="935"/>
                  </a:lnTo>
                  <a:lnTo>
                    <a:pt x="1136" y="944"/>
                  </a:lnTo>
                  <a:lnTo>
                    <a:pt x="1120" y="951"/>
                  </a:lnTo>
                  <a:lnTo>
                    <a:pt x="1109" y="960"/>
                  </a:lnTo>
                  <a:lnTo>
                    <a:pt x="1099" y="967"/>
                  </a:lnTo>
                  <a:lnTo>
                    <a:pt x="1087" y="973"/>
                  </a:lnTo>
                  <a:lnTo>
                    <a:pt x="1075" y="978"/>
                  </a:lnTo>
                  <a:lnTo>
                    <a:pt x="1064" y="982"/>
                  </a:lnTo>
                  <a:lnTo>
                    <a:pt x="1052" y="986"/>
                  </a:lnTo>
                  <a:lnTo>
                    <a:pt x="1039" y="987"/>
                  </a:lnTo>
                  <a:lnTo>
                    <a:pt x="1027" y="988"/>
                  </a:lnTo>
                  <a:lnTo>
                    <a:pt x="1021" y="988"/>
                  </a:lnTo>
                  <a:lnTo>
                    <a:pt x="1016" y="987"/>
                  </a:lnTo>
                  <a:lnTo>
                    <a:pt x="1011" y="987"/>
                  </a:lnTo>
                  <a:lnTo>
                    <a:pt x="1005" y="986"/>
                  </a:lnTo>
                  <a:lnTo>
                    <a:pt x="1000" y="983"/>
                  </a:lnTo>
                  <a:lnTo>
                    <a:pt x="996" y="982"/>
                  </a:lnTo>
                  <a:lnTo>
                    <a:pt x="990" y="980"/>
                  </a:lnTo>
                  <a:lnTo>
                    <a:pt x="986" y="977"/>
                  </a:lnTo>
                  <a:lnTo>
                    <a:pt x="981" y="975"/>
                  </a:lnTo>
                  <a:lnTo>
                    <a:pt x="977" y="972"/>
                  </a:lnTo>
                  <a:lnTo>
                    <a:pt x="972" y="969"/>
                  </a:lnTo>
                  <a:lnTo>
                    <a:pt x="968" y="965"/>
                  </a:lnTo>
                  <a:lnTo>
                    <a:pt x="960" y="957"/>
                  </a:lnTo>
                  <a:lnTo>
                    <a:pt x="952" y="948"/>
                  </a:lnTo>
                  <a:lnTo>
                    <a:pt x="948" y="943"/>
                  </a:lnTo>
                  <a:lnTo>
                    <a:pt x="945" y="939"/>
                  </a:lnTo>
                  <a:lnTo>
                    <a:pt x="942" y="934"/>
                  </a:lnTo>
                  <a:lnTo>
                    <a:pt x="938" y="927"/>
                  </a:lnTo>
                  <a:lnTo>
                    <a:pt x="933" y="916"/>
                  </a:lnTo>
                  <a:lnTo>
                    <a:pt x="929" y="903"/>
                  </a:lnTo>
                  <a:lnTo>
                    <a:pt x="926" y="891"/>
                  </a:lnTo>
                  <a:lnTo>
                    <a:pt x="924" y="876"/>
                  </a:lnTo>
                  <a:lnTo>
                    <a:pt x="921" y="862"/>
                  </a:lnTo>
                  <a:lnTo>
                    <a:pt x="921" y="846"/>
                  </a:lnTo>
                  <a:lnTo>
                    <a:pt x="923" y="818"/>
                  </a:lnTo>
                  <a:lnTo>
                    <a:pt x="925" y="787"/>
                  </a:lnTo>
                  <a:lnTo>
                    <a:pt x="930" y="755"/>
                  </a:lnTo>
                  <a:lnTo>
                    <a:pt x="936" y="720"/>
                  </a:lnTo>
                  <a:lnTo>
                    <a:pt x="948" y="674"/>
                  </a:lnTo>
                  <a:lnTo>
                    <a:pt x="967" y="606"/>
                  </a:lnTo>
                  <a:lnTo>
                    <a:pt x="1028" y="407"/>
                  </a:lnTo>
                  <a:lnTo>
                    <a:pt x="1069" y="264"/>
                  </a:lnTo>
                  <a:lnTo>
                    <a:pt x="1080" y="219"/>
                  </a:lnTo>
                  <a:lnTo>
                    <a:pt x="1082" y="203"/>
                  </a:lnTo>
                  <a:lnTo>
                    <a:pt x="1083" y="197"/>
                  </a:lnTo>
                  <a:lnTo>
                    <a:pt x="1083" y="192"/>
                  </a:lnTo>
                  <a:lnTo>
                    <a:pt x="1083" y="190"/>
                  </a:lnTo>
                  <a:lnTo>
                    <a:pt x="1083" y="189"/>
                  </a:lnTo>
                  <a:lnTo>
                    <a:pt x="1083" y="187"/>
                  </a:lnTo>
                  <a:lnTo>
                    <a:pt x="1082" y="186"/>
                  </a:lnTo>
                  <a:lnTo>
                    <a:pt x="1082" y="185"/>
                  </a:lnTo>
                  <a:lnTo>
                    <a:pt x="1081" y="184"/>
                  </a:lnTo>
                  <a:lnTo>
                    <a:pt x="1081" y="183"/>
                  </a:lnTo>
                  <a:lnTo>
                    <a:pt x="1080" y="182"/>
                  </a:lnTo>
                  <a:lnTo>
                    <a:pt x="1080" y="181"/>
                  </a:lnTo>
                  <a:lnTo>
                    <a:pt x="1079" y="180"/>
                  </a:lnTo>
                  <a:lnTo>
                    <a:pt x="1077" y="178"/>
                  </a:lnTo>
                  <a:lnTo>
                    <a:pt x="1076" y="178"/>
                  </a:lnTo>
                  <a:lnTo>
                    <a:pt x="1075" y="178"/>
                  </a:lnTo>
                  <a:lnTo>
                    <a:pt x="1074" y="177"/>
                  </a:lnTo>
                  <a:lnTo>
                    <a:pt x="1073" y="177"/>
                  </a:lnTo>
                  <a:lnTo>
                    <a:pt x="1072" y="177"/>
                  </a:lnTo>
                  <a:lnTo>
                    <a:pt x="1067" y="177"/>
                  </a:lnTo>
                  <a:lnTo>
                    <a:pt x="1062" y="178"/>
                  </a:lnTo>
                  <a:lnTo>
                    <a:pt x="1055" y="178"/>
                  </a:lnTo>
                  <a:lnTo>
                    <a:pt x="1049" y="180"/>
                  </a:lnTo>
                  <a:lnTo>
                    <a:pt x="1042" y="182"/>
                  </a:lnTo>
                  <a:lnTo>
                    <a:pt x="1036" y="183"/>
                  </a:lnTo>
                  <a:lnTo>
                    <a:pt x="1030" y="186"/>
                  </a:lnTo>
                  <a:lnTo>
                    <a:pt x="1022" y="188"/>
                  </a:lnTo>
                  <a:lnTo>
                    <a:pt x="998" y="204"/>
                  </a:lnTo>
                  <a:lnTo>
                    <a:pt x="973" y="222"/>
                  </a:lnTo>
                  <a:lnTo>
                    <a:pt x="951" y="240"/>
                  </a:lnTo>
                  <a:lnTo>
                    <a:pt x="930" y="258"/>
                  </a:lnTo>
                  <a:lnTo>
                    <a:pt x="911" y="276"/>
                  </a:lnTo>
                  <a:lnTo>
                    <a:pt x="892" y="295"/>
                  </a:lnTo>
                  <a:lnTo>
                    <a:pt x="875" y="314"/>
                  </a:lnTo>
                  <a:lnTo>
                    <a:pt x="859" y="333"/>
                  </a:lnTo>
                  <a:lnTo>
                    <a:pt x="848" y="347"/>
                  </a:lnTo>
                  <a:lnTo>
                    <a:pt x="839" y="364"/>
                  </a:lnTo>
                  <a:lnTo>
                    <a:pt x="829" y="381"/>
                  </a:lnTo>
                  <a:lnTo>
                    <a:pt x="820" y="402"/>
                  </a:lnTo>
                  <a:lnTo>
                    <a:pt x="811" y="424"/>
                  </a:lnTo>
                  <a:lnTo>
                    <a:pt x="803" y="449"/>
                  </a:lnTo>
                  <a:lnTo>
                    <a:pt x="786" y="503"/>
                  </a:lnTo>
                  <a:lnTo>
                    <a:pt x="672" y="953"/>
                  </a:lnTo>
                  <a:lnTo>
                    <a:pt x="475" y="953"/>
                  </a:lnTo>
                  <a:lnTo>
                    <a:pt x="639" y="268"/>
                  </a:lnTo>
                  <a:lnTo>
                    <a:pt x="652" y="214"/>
                  </a:lnTo>
                  <a:lnTo>
                    <a:pt x="655" y="198"/>
                  </a:lnTo>
                  <a:lnTo>
                    <a:pt x="656" y="194"/>
                  </a:lnTo>
                  <a:lnTo>
                    <a:pt x="656" y="192"/>
                  </a:lnTo>
                  <a:lnTo>
                    <a:pt x="656" y="191"/>
                  </a:lnTo>
                  <a:lnTo>
                    <a:pt x="656" y="189"/>
                  </a:lnTo>
                  <a:lnTo>
                    <a:pt x="656" y="188"/>
                  </a:lnTo>
                  <a:lnTo>
                    <a:pt x="656" y="186"/>
                  </a:lnTo>
                  <a:lnTo>
                    <a:pt x="655" y="185"/>
                  </a:lnTo>
                  <a:lnTo>
                    <a:pt x="655" y="184"/>
                  </a:lnTo>
                  <a:lnTo>
                    <a:pt x="655" y="183"/>
                  </a:lnTo>
                  <a:lnTo>
                    <a:pt x="654" y="182"/>
                  </a:lnTo>
                  <a:lnTo>
                    <a:pt x="654" y="181"/>
                  </a:lnTo>
                  <a:lnTo>
                    <a:pt x="654" y="181"/>
                  </a:lnTo>
                  <a:lnTo>
                    <a:pt x="653" y="180"/>
                  </a:lnTo>
                  <a:lnTo>
                    <a:pt x="653" y="180"/>
                  </a:lnTo>
                  <a:lnTo>
                    <a:pt x="652" y="180"/>
                  </a:lnTo>
                  <a:lnTo>
                    <a:pt x="652" y="178"/>
                  </a:lnTo>
                  <a:lnTo>
                    <a:pt x="651" y="178"/>
                  </a:lnTo>
                  <a:lnTo>
                    <a:pt x="651" y="178"/>
                  </a:lnTo>
                  <a:lnTo>
                    <a:pt x="650" y="178"/>
                  </a:lnTo>
                  <a:lnTo>
                    <a:pt x="649" y="177"/>
                  </a:lnTo>
                  <a:lnTo>
                    <a:pt x="648" y="177"/>
                  </a:lnTo>
                  <a:lnTo>
                    <a:pt x="646" y="177"/>
                  </a:lnTo>
                  <a:lnTo>
                    <a:pt x="645" y="177"/>
                  </a:lnTo>
                  <a:lnTo>
                    <a:pt x="641" y="177"/>
                  </a:lnTo>
                  <a:lnTo>
                    <a:pt x="638" y="178"/>
                  </a:lnTo>
                  <a:lnTo>
                    <a:pt x="635" y="180"/>
                  </a:lnTo>
                  <a:lnTo>
                    <a:pt x="631" y="181"/>
                  </a:lnTo>
                  <a:lnTo>
                    <a:pt x="621" y="184"/>
                  </a:lnTo>
                  <a:lnTo>
                    <a:pt x="609" y="189"/>
                  </a:lnTo>
                  <a:lnTo>
                    <a:pt x="597" y="195"/>
                  </a:lnTo>
                  <a:lnTo>
                    <a:pt x="582" y="203"/>
                  </a:lnTo>
                  <a:lnTo>
                    <a:pt x="548" y="223"/>
                  </a:lnTo>
                  <a:lnTo>
                    <a:pt x="507" y="259"/>
                  </a:lnTo>
                  <a:lnTo>
                    <a:pt x="489" y="275"/>
                  </a:lnTo>
                  <a:lnTo>
                    <a:pt x="472" y="293"/>
                  </a:lnTo>
                  <a:lnTo>
                    <a:pt x="456" y="310"/>
                  </a:lnTo>
                  <a:lnTo>
                    <a:pt x="441" y="327"/>
                  </a:lnTo>
                  <a:lnTo>
                    <a:pt x="427" y="344"/>
                  </a:lnTo>
                  <a:lnTo>
                    <a:pt x="415" y="362"/>
                  </a:lnTo>
                  <a:lnTo>
                    <a:pt x="404" y="379"/>
                  </a:lnTo>
                  <a:lnTo>
                    <a:pt x="393" y="400"/>
                  </a:lnTo>
                  <a:lnTo>
                    <a:pt x="382" y="423"/>
                  </a:lnTo>
                  <a:lnTo>
                    <a:pt x="373" y="448"/>
                  </a:lnTo>
                  <a:lnTo>
                    <a:pt x="363" y="476"/>
                  </a:lnTo>
                  <a:lnTo>
                    <a:pt x="354" y="506"/>
                  </a:lnTo>
                  <a:lnTo>
                    <a:pt x="337" y="573"/>
                  </a:lnTo>
                  <a:lnTo>
                    <a:pt x="248" y="953"/>
                  </a:lnTo>
                  <a:lnTo>
                    <a:pt x="49" y="953"/>
                  </a:lnTo>
                  <a:lnTo>
                    <a:pt x="179" y="396"/>
                  </a:lnTo>
                  <a:lnTo>
                    <a:pt x="216" y="239"/>
                  </a:lnTo>
                  <a:lnTo>
                    <a:pt x="225" y="195"/>
                  </a:lnTo>
                  <a:lnTo>
                    <a:pt x="227" y="183"/>
                  </a:lnTo>
                  <a:lnTo>
                    <a:pt x="229" y="178"/>
                  </a:lnTo>
                  <a:lnTo>
                    <a:pt x="229" y="175"/>
                  </a:lnTo>
                  <a:lnTo>
                    <a:pt x="229" y="175"/>
                  </a:lnTo>
                  <a:lnTo>
                    <a:pt x="229" y="174"/>
                  </a:lnTo>
                  <a:lnTo>
                    <a:pt x="229" y="174"/>
                  </a:lnTo>
                  <a:lnTo>
                    <a:pt x="229" y="174"/>
                  </a:lnTo>
                  <a:lnTo>
                    <a:pt x="229" y="173"/>
                  </a:lnTo>
                  <a:lnTo>
                    <a:pt x="229" y="173"/>
                  </a:lnTo>
                  <a:lnTo>
                    <a:pt x="229" y="173"/>
                  </a:lnTo>
                  <a:lnTo>
                    <a:pt x="230" y="173"/>
                  </a:lnTo>
                  <a:lnTo>
                    <a:pt x="230" y="173"/>
                  </a:lnTo>
                  <a:lnTo>
                    <a:pt x="230" y="172"/>
                  </a:lnTo>
                  <a:lnTo>
                    <a:pt x="230" y="172"/>
                  </a:lnTo>
                  <a:lnTo>
                    <a:pt x="230" y="172"/>
                  </a:lnTo>
                  <a:lnTo>
                    <a:pt x="230" y="172"/>
                  </a:lnTo>
                  <a:lnTo>
                    <a:pt x="231" y="172"/>
                  </a:lnTo>
                  <a:lnTo>
                    <a:pt x="231" y="172"/>
                  </a:lnTo>
                  <a:lnTo>
                    <a:pt x="231" y="172"/>
                  </a:lnTo>
                  <a:lnTo>
                    <a:pt x="229" y="172"/>
                  </a:lnTo>
                  <a:lnTo>
                    <a:pt x="226" y="172"/>
                  </a:lnTo>
                  <a:lnTo>
                    <a:pt x="221" y="174"/>
                  </a:lnTo>
                  <a:lnTo>
                    <a:pt x="215" y="176"/>
                  </a:lnTo>
                  <a:lnTo>
                    <a:pt x="207" y="180"/>
                  </a:lnTo>
                  <a:lnTo>
                    <a:pt x="190" y="189"/>
                  </a:lnTo>
                  <a:lnTo>
                    <a:pt x="170" y="202"/>
                  </a:lnTo>
                  <a:lnTo>
                    <a:pt x="119" y="241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10200" y="527040"/>
              <a:ext cx="273240" cy="353880"/>
            </a:xfrm>
            <a:custGeom>
              <a:avLst/>
              <a:gdLst/>
              <a:ahLst/>
              <a:rect l="l" t="t" r="r" b="b"/>
              <a:pathLst>
                <a:path w="757" h="983">
                  <a:moveTo>
                    <a:pt x="554" y="397"/>
                  </a:moveTo>
                  <a:lnTo>
                    <a:pt x="602" y="396"/>
                  </a:lnTo>
                  <a:lnTo>
                    <a:pt x="621" y="397"/>
                  </a:lnTo>
                  <a:lnTo>
                    <a:pt x="638" y="398"/>
                  </a:lnTo>
                  <a:lnTo>
                    <a:pt x="654" y="401"/>
                  </a:lnTo>
                  <a:lnTo>
                    <a:pt x="670" y="406"/>
                  </a:lnTo>
                  <a:lnTo>
                    <a:pt x="684" y="411"/>
                  </a:lnTo>
                  <a:lnTo>
                    <a:pt x="696" y="419"/>
                  </a:lnTo>
                  <a:lnTo>
                    <a:pt x="707" y="427"/>
                  </a:lnTo>
                  <a:lnTo>
                    <a:pt x="718" y="436"/>
                  </a:lnTo>
                  <a:lnTo>
                    <a:pt x="726" y="448"/>
                  </a:lnTo>
                  <a:lnTo>
                    <a:pt x="735" y="459"/>
                  </a:lnTo>
                  <a:lnTo>
                    <a:pt x="741" y="473"/>
                  </a:lnTo>
                  <a:lnTo>
                    <a:pt x="746" y="487"/>
                  </a:lnTo>
                  <a:lnTo>
                    <a:pt x="750" y="504"/>
                  </a:lnTo>
                  <a:lnTo>
                    <a:pt x="754" y="521"/>
                  </a:lnTo>
                  <a:lnTo>
                    <a:pt x="755" y="539"/>
                  </a:lnTo>
                  <a:lnTo>
                    <a:pt x="756" y="559"/>
                  </a:lnTo>
                  <a:lnTo>
                    <a:pt x="755" y="579"/>
                  </a:lnTo>
                  <a:lnTo>
                    <a:pt x="753" y="598"/>
                  </a:lnTo>
                  <a:lnTo>
                    <a:pt x="749" y="617"/>
                  </a:lnTo>
                  <a:lnTo>
                    <a:pt x="744" y="636"/>
                  </a:lnTo>
                  <a:lnTo>
                    <a:pt x="739" y="655"/>
                  </a:lnTo>
                  <a:lnTo>
                    <a:pt x="730" y="673"/>
                  </a:lnTo>
                  <a:lnTo>
                    <a:pt x="722" y="691"/>
                  </a:lnTo>
                  <a:lnTo>
                    <a:pt x="711" y="710"/>
                  </a:lnTo>
                  <a:lnTo>
                    <a:pt x="700" y="728"/>
                  </a:lnTo>
                  <a:lnTo>
                    <a:pt x="686" y="745"/>
                  </a:lnTo>
                  <a:lnTo>
                    <a:pt x="671" y="763"/>
                  </a:lnTo>
                  <a:lnTo>
                    <a:pt x="655" y="781"/>
                  </a:lnTo>
                  <a:lnTo>
                    <a:pt x="619" y="815"/>
                  </a:lnTo>
                  <a:lnTo>
                    <a:pt x="576" y="848"/>
                  </a:lnTo>
                  <a:lnTo>
                    <a:pt x="532" y="880"/>
                  </a:lnTo>
                  <a:lnTo>
                    <a:pt x="487" y="907"/>
                  </a:lnTo>
                  <a:lnTo>
                    <a:pt x="444" y="930"/>
                  </a:lnTo>
                  <a:lnTo>
                    <a:pt x="399" y="949"/>
                  </a:lnTo>
                  <a:lnTo>
                    <a:pt x="356" y="964"/>
                  </a:lnTo>
                  <a:lnTo>
                    <a:pt x="312" y="974"/>
                  </a:lnTo>
                  <a:lnTo>
                    <a:pt x="269" y="980"/>
                  </a:lnTo>
                  <a:lnTo>
                    <a:pt x="226" y="982"/>
                  </a:lnTo>
                  <a:lnTo>
                    <a:pt x="199" y="981"/>
                  </a:lnTo>
                  <a:lnTo>
                    <a:pt x="173" y="978"/>
                  </a:lnTo>
                  <a:lnTo>
                    <a:pt x="150" y="974"/>
                  </a:lnTo>
                  <a:lnTo>
                    <a:pt x="128" y="968"/>
                  </a:lnTo>
                  <a:lnTo>
                    <a:pt x="107" y="960"/>
                  </a:lnTo>
                  <a:lnTo>
                    <a:pt x="88" y="949"/>
                  </a:lnTo>
                  <a:lnTo>
                    <a:pt x="71" y="938"/>
                  </a:lnTo>
                  <a:lnTo>
                    <a:pt x="56" y="923"/>
                  </a:lnTo>
                  <a:lnTo>
                    <a:pt x="44" y="908"/>
                  </a:lnTo>
                  <a:lnTo>
                    <a:pt x="32" y="890"/>
                  </a:lnTo>
                  <a:lnTo>
                    <a:pt x="22" y="871"/>
                  </a:lnTo>
                  <a:lnTo>
                    <a:pt x="14" y="850"/>
                  </a:lnTo>
                  <a:lnTo>
                    <a:pt x="8" y="828"/>
                  </a:lnTo>
                  <a:lnTo>
                    <a:pt x="3" y="803"/>
                  </a:lnTo>
                  <a:lnTo>
                    <a:pt x="1" y="776"/>
                  </a:lnTo>
                  <a:lnTo>
                    <a:pt x="0" y="747"/>
                  </a:lnTo>
                  <a:lnTo>
                    <a:pt x="2" y="683"/>
                  </a:lnTo>
                  <a:lnTo>
                    <a:pt x="11" y="619"/>
                  </a:lnTo>
                  <a:lnTo>
                    <a:pt x="23" y="556"/>
                  </a:lnTo>
                  <a:lnTo>
                    <a:pt x="40" y="493"/>
                  </a:lnTo>
                  <a:lnTo>
                    <a:pt x="64" y="430"/>
                  </a:lnTo>
                  <a:lnTo>
                    <a:pt x="91" y="368"/>
                  </a:lnTo>
                  <a:lnTo>
                    <a:pt x="124" y="306"/>
                  </a:lnTo>
                  <a:lnTo>
                    <a:pt x="163" y="245"/>
                  </a:lnTo>
                  <a:lnTo>
                    <a:pt x="204" y="188"/>
                  </a:lnTo>
                  <a:lnTo>
                    <a:pt x="248" y="138"/>
                  </a:lnTo>
                  <a:lnTo>
                    <a:pt x="271" y="116"/>
                  </a:lnTo>
                  <a:lnTo>
                    <a:pt x="294" y="95"/>
                  </a:lnTo>
                  <a:lnTo>
                    <a:pt x="317" y="78"/>
                  </a:lnTo>
                  <a:lnTo>
                    <a:pt x="341" y="61"/>
                  </a:lnTo>
                  <a:lnTo>
                    <a:pt x="365" y="46"/>
                  </a:lnTo>
                  <a:lnTo>
                    <a:pt x="390" y="34"/>
                  </a:lnTo>
                  <a:lnTo>
                    <a:pt x="415" y="24"/>
                  </a:lnTo>
                  <a:lnTo>
                    <a:pt x="442" y="15"/>
                  </a:lnTo>
                  <a:lnTo>
                    <a:pt x="467" y="8"/>
                  </a:lnTo>
                  <a:lnTo>
                    <a:pt x="494" y="4"/>
                  </a:lnTo>
                  <a:lnTo>
                    <a:pt x="521" y="1"/>
                  </a:lnTo>
                  <a:lnTo>
                    <a:pt x="549" y="0"/>
                  </a:lnTo>
                  <a:lnTo>
                    <a:pt x="571" y="1"/>
                  </a:lnTo>
                  <a:lnTo>
                    <a:pt x="591" y="2"/>
                  </a:lnTo>
                  <a:lnTo>
                    <a:pt x="611" y="6"/>
                  </a:lnTo>
                  <a:lnTo>
                    <a:pt x="629" y="10"/>
                  </a:lnTo>
                  <a:lnTo>
                    <a:pt x="645" y="16"/>
                  </a:lnTo>
                  <a:lnTo>
                    <a:pt x="660" y="23"/>
                  </a:lnTo>
                  <a:lnTo>
                    <a:pt x="674" y="31"/>
                  </a:lnTo>
                  <a:lnTo>
                    <a:pt x="687" y="41"/>
                  </a:lnTo>
                  <a:lnTo>
                    <a:pt x="697" y="52"/>
                  </a:lnTo>
                  <a:lnTo>
                    <a:pt x="707" y="64"/>
                  </a:lnTo>
                  <a:lnTo>
                    <a:pt x="714" y="78"/>
                  </a:lnTo>
                  <a:lnTo>
                    <a:pt x="721" y="92"/>
                  </a:lnTo>
                  <a:lnTo>
                    <a:pt x="726" y="109"/>
                  </a:lnTo>
                  <a:lnTo>
                    <a:pt x="729" y="127"/>
                  </a:lnTo>
                  <a:lnTo>
                    <a:pt x="731" y="145"/>
                  </a:lnTo>
                  <a:lnTo>
                    <a:pt x="732" y="165"/>
                  </a:lnTo>
                  <a:lnTo>
                    <a:pt x="731" y="184"/>
                  </a:lnTo>
                  <a:lnTo>
                    <a:pt x="729" y="201"/>
                  </a:lnTo>
                  <a:lnTo>
                    <a:pt x="726" y="219"/>
                  </a:lnTo>
                  <a:lnTo>
                    <a:pt x="722" y="237"/>
                  </a:lnTo>
                  <a:lnTo>
                    <a:pt x="715" y="252"/>
                  </a:lnTo>
                  <a:lnTo>
                    <a:pt x="707" y="269"/>
                  </a:lnTo>
                  <a:lnTo>
                    <a:pt x="698" y="285"/>
                  </a:lnTo>
                  <a:lnTo>
                    <a:pt x="688" y="299"/>
                  </a:lnTo>
                  <a:lnTo>
                    <a:pt x="676" y="313"/>
                  </a:lnTo>
                  <a:lnTo>
                    <a:pt x="662" y="327"/>
                  </a:lnTo>
                  <a:lnTo>
                    <a:pt x="649" y="340"/>
                  </a:lnTo>
                  <a:lnTo>
                    <a:pt x="633" y="352"/>
                  </a:lnTo>
                  <a:lnTo>
                    <a:pt x="615" y="365"/>
                  </a:lnTo>
                  <a:lnTo>
                    <a:pt x="596" y="376"/>
                  </a:lnTo>
                  <a:close/>
                  <a:moveTo>
                    <a:pt x="248" y="482"/>
                  </a:moveTo>
                  <a:lnTo>
                    <a:pt x="314" y="449"/>
                  </a:lnTo>
                  <a:lnTo>
                    <a:pt x="372" y="416"/>
                  </a:lnTo>
                  <a:lnTo>
                    <a:pt x="419" y="381"/>
                  </a:lnTo>
                  <a:lnTo>
                    <a:pt x="440" y="365"/>
                  </a:lnTo>
                  <a:lnTo>
                    <a:pt x="459" y="347"/>
                  </a:lnTo>
                  <a:lnTo>
                    <a:pt x="475" y="329"/>
                  </a:lnTo>
                  <a:lnTo>
                    <a:pt x="489" y="312"/>
                  </a:lnTo>
                  <a:lnTo>
                    <a:pt x="501" y="294"/>
                  </a:lnTo>
                  <a:lnTo>
                    <a:pt x="512" y="276"/>
                  </a:lnTo>
                  <a:lnTo>
                    <a:pt x="519" y="259"/>
                  </a:lnTo>
                  <a:lnTo>
                    <a:pt x="524" y="240"/>
                  </a:lnTo>
                  <a:lnTo>
                    <a:pt x="528" y="222"/>
                  </a:lnTo>
                  <a:lnTo>
                    <a:pt x="529" y="203"/>
                  </a:lnTo>
                  <a:lnTo>
                    <a:pt x="529" y="194"/>
                  </a:lnTo>
                  <a:lnTo>
                    <a:pt x="528" y="185"/>
                  </a:lnTo>
                  <a:lnTo>
                    <a:pt x="527" y="176"/>
                  </a:lnTo>
                  <a:lnTo>
                    <a:pt x="524" y="168"/>
                  </a:lnTo>
                  <a:lnTo>
                    <a:pt x="522" y="161"/>
                  </a:lnTo>
                  <a:lnTo>
                    <a:pt x="519" y="155"/>
                  </a:lnTo>
                  <a:lnTo>
                    <a:pt x="516" y="148"/>
                  </a:lnTo>
                  <a:lnTo>
                    <a:pt x="513" y="143"/>
                  </a:lnTo>
                  <a:lnTo>
                    <a:pt x="507" y="139"/>
                  </a:lnTo>
                  <a:lnTo>
                    <a:pt x="503" y="135"/>
                  </a:lnTo>
                  <a:lnTo>
                    <a:pt x="498" y="131"/>
                  </a:lnTo>
                  <a:lnTo>
                    <a:pt x="492" y="129"/>
                  </a:lnTo>
                  <a:lnTo>
                    <a:pt x="485" y="127"/>
                  </a:lnTo>
                  <a:lnTo>
                    <a:pt x="479" y="124"/>
                  </a:lnTo>
                  <a:lnTo>
                    <a:pt x="471" y="123"/>
                  </a:lnTo>
                  <a:lnTo>
                    <a:pt x="464" y="123"/>
                  </a:lnTo>
                  <a:lnTo>
                    <a:pt x="446" y="124"/>
                  </a:lnTo>
                  <a:lnTo>
                    <a:pt x="437" y="127"/>
                  </a:lnTo>
                  <a:lnTo>
                    <a:pt x="428" y="129"/>
                  </a:lnTo>
                  <a:lnTo>
                    <a:pt x="411" y="136"/>
                  </a:lnTo>
                  <a:lnTo>
                    <a:pt x="395" y="146"/>
                  </a:lnTo>
                  <a:lnTo>
                    <a:pt x="379" y="159"/>
                  </a:lnTo>
                  <a:lnTo>
                    <a:pt x="364" y="174"/>
                  </a:lnTo>
                  <a:lnTo>
                    <a:pt x="349" y="192"/>
                  </a:lnTo>
                  <a:lnTo>
                    <a:pt x="336" y="213"/>
                  </a:lnTo>
                  <a:lnTo>
                    <a:pt x="323" y="237"/>
                  </a:lnTo>
                  <a:lnTo>
                    <a:pt x="310" y="264"/>
                  </a:lnTo>
                  <a:lnTo>
                    <a:pt x="287" y="325"/>
                  </a:lnTo>
                  <a:lnTo>
                    <a:pt x="267" y="398"/>
                  </a:lnTo>
                  <a:close/>
                  <a:moveTo>
                    <a:pt x="238" y="595"/>
                  </a:moveTo>
                  <a:lnTo>
                    <a:pt x="235" y="619"/>
                  </a:lnTo>
                  <a:lnTo>
                    <a:pt x="233" y="646"/>
                  </a:lnTo>
                  <a:lnTo>
                    <a:pt x="230" y="672"/>
                  </a:lnTo>
                  <a:lnTo>
                    <a:pt x="230" y="700"/>
                  </a:lnTo>
                  <a:lnTo>
                    <a:pt x="232" y="742"/>
                  </a:lnTo>
                  <a:lnTo>
                    <a:pt x="233" y="760"/>
                  </a:lnTo>
                  <a:lnTo>
                    <a:pt x="235" y="777"/>
                  </a:lnTo>
                  <a:lnTo>
                    <a:pt x="237" y="790"/>
                  </a:lnTo>
                  <a:lnTo>
                    <a:pt x="240" y="803"/>
                  </a:lnTo>
                  <a:lnTo>
                    <a:pt x="241" y="809"/>
                  </a:lnTo>
                  <a:lnTo>
                    <a:pt x="243" y="814"/>
                  </a:lnTo>
                  <a:lnTo>
                    <a:pt x="245" y="818"/>
                  </a:lnTo>
                  <a:lnTo>
                    <a:pt x="247" y="822"/>
                  </a:lnTo>
                  <a:lnTo>
                    <a:pt x="250" y="825"/>
                  </a:lnTo>
                  <a:lnTo>
                    <a:pt x="252" y="830"/>
                  </a:lnTo>
                  <a:lnTo>
                    <a:pt x="255" y="833"/>
                  </a:lnTo>
                  <a:lnTo>
                    <a:pt x="258" y="836"/>
                  </a:lnTo>
                  <a:lnTo>
                    <a:pt x="260" y="838"/>
                  </a:lnTo>
                  <a:lnTo>
                    <a:pt x="263" y="841"/>
                  </a:lnTo>
                  <a:lnTo>
                    <a:pt x="268" y="843"/>
                  </a:lnTo>
                  <a:lnTo>
                    <a:pt x="271" y="845"/>
                  </a:lnTo>
                  <a:lnTo>
                    <a:pt x="274" y="846"/>
                  </a:lnTo>
                  <a:lnTo>
                    <a:pt x="278" y="848"/>
                  </a:lnTo>
                  <a:lnTo>
                    <a:pt x="282" y="849"/>
                  </a:lnTo>
                  <a:lnTo>
                    <a:pt x="287" y="850"/>
                  </a:lnTo>
                  <a:lnTo>
                    <a:pt x="291" y="851"/>
                  </a:lnTo>
                  <a:lnTo>
                    <a:pt x="296" y="852"/>
                  </a:lnTo>
                  <a:lnTo>
                    <a:pt x="300" y="852"/>
                  </a:lnTo>
                  <a:lnTo>
                    <a:pt x="306" y="852"/>
                  </a:lnTo>
                  <a:lnTo>
                    <a:pt x="314" y="852"/>
                  </a:lnTo>
                  <a:lnTo>
                    <a:pt x="324" y="851"/>
                  </a:lnTo>
                  <a:lnTo>
                    <a:pt x="332" y="849"/>
                  </a:lnTo>
                  <a:lnTo>
                    <a:pt x="341" y="847"/>
                  </a:lnTo>
                  <a:lnTo>
                    <a:pt x="350" y="845"/>
                  </a:lnTo>
                  <a:lnTo>
                    <a:pt x="359" y="842"/>
                  </a:lnTo>
                  <a:lnTo>
                    <a:pt x="368" y="838"/>
                  </a:lnTo>
                  <a:lnTo>
                    <a:pt x="377" y="833"/>
                  </a:lnTo>
                  <a:lnTo>
                    <a:pt x="395" y="822"/>
                  </a:lnTo>
                  <a:lnTo>
                    <a:pt x="414" y="809"/>
                  </a:lnTo>
                  <a:lnTo>
                    <a:pt x="433" y="793"/>
                  </a:lnTo>
                  <a:lnTo>
                    <a:pt x="452" y="776"/>
                  </a:lnTo>
                  <a:lnTo>
                    <a:pt x="470" y="756"/>
                  </a:lnTo>
                  <a:lnTo>
                    <a:pt x="486" y="736"/>
                  </a:lnTo>
                  <a:lnTo>
                    <a:pt x="499" y="715"/>
                  </a:lnTo>
                  <a:lnTo>
                    <a:pt x="504" y="704"/>
                  </a:lnTo>
                  <a:lnTo>
                    <a:pt x="510" y="693"/>
                  </a:lnTo>
                  <a:lnTo>
                    <a:pt x="514" y="682"/>
                  </a:lnTo>
                  <a:lnTo>
                    <a:pt x="518" y="670"/>
                  </a:lnTo>
                  <a:lnTo>
                    <a:pt x="521" y="659"/>
                  </a:lnTo>
                  <a:lnTo>
                    <a:pt x="524" y="647"/>
                  </a:lnTo>
                  <a:lnTo>
                    <a:pt x="528" y="623"/>
                  </a:lnTo>
                  <a:lnTo>
                    <a:pt x="529" y="598"/>
                  </a:lnTo>
                  <a:lnTo>
                    <a:pt x="529" y="586"/>
                  </a:lnTo>
                  <a:lnTo>
                    <a:pt x="528" y="576"/>
                  </a:lnTo>
                  <a:lnTo>
                    <a:pt x="527" y="566"/>
                  </a:lnTo>
                  <a:lnTo>
                    <a:pt x="524" y="557"/>
                  </a:lnTo>
                  <a:lnTo>
                    <a:pt x="522" y="549"/>
                  </a:lnTo>
                  <a:lnTo>
                    <a:pt x="519" y="541"/>
                  </a:lnTo>
                  <a:lnTo>
                    <a:pt x="516" y="535"/>
                  </a:lnTo>
                  <a:lnTo>
                    <a:pt x="512" y="529"/>
                  </a:lnTo>
                  <a:lnTo>
                    <a:pt x="507" y="524"/>
                  </a:lnTo>
                  <a:lnTo>
                    <a:pt x="503" y="519"/>
                  </a:lnTo>
                  <a:lnTo>
                    <a:pt x="498" y="515"/>
                  </a:lnTo>
                  <a:lnTo>
                    <a:pt x="492" y="511"/>
                  </a:lnTo>
                  <a:lnTo>
                    <a:pt x="485" y="509"/>
                  </a:lnTo>
                  <a:lnTo>
                    <a:pt x="478" y="507"/>
                  </a:lnTo>
                  <a:lnTo>
                    <a:pt x="470" y="506"/>
                  </a:lnTo>
                  <a:lnTo>
                    <a:pt x="463" y="506"/>
                  </a:lnTo>
                  <a:lnTo>
                    <a:pt x="454" y="506"/>
                  </a:lnTo>
                  <a:lnTo>
                    <a:pt x="446" y="507"/>
                  </a:lnTo>
                  <a:lnTo>
                    <a:pt x="435" y="509"/>
                  </a:lnTo>
                  <a:lnTo>
                    <a:pt x="425" y="511"/>
                  </a:lnTo>
                  <a:lnTo>
                    <a:pt x="401" y="519"/>
                  </a:lnTo>
                  <a:lnTo>
                    <a:pt x="375" y="529"/>
                  </a:lnTo>
                  <a:lnTo>
                    <a:pt x="345" y="540"/>
                  </a:lnTo>
                  <a:lnTo>
                    <a:pt x="313" y="55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07200" y="515880"/>
              <a:ext cx="339840" cy="365040"/>
            </a:xfrm>
            <a:custGeom>
              <a:avLst/>
              <a:gdLst/>
              <a:ahLst/>
              <a:rect l="l" t="t" r="r" b="b"/>
              <a:pathLst>
                <a:path w="944" h="1016">
                  <a:moveTo>
                    <a:pt x="783" y="18"/>
                  </a:moveTo>
                  <a:lnTo>
                    <a:pt x="892" y="0"/>
                  </a:lnTo>
                  <a:lnTo>
                    <a:pt x="810" y="301"/>
                  </a:lnTo>
                  <a:lnTo>
                    <a:pt x="785" y="385"/>
                  </a:lnTo>
                  <a:lnTo>
                    <a:pt x="762" y="476"/>
                  </a:lnTo>
                  <a:lnTo>
                    <a:pt x="716" y="673"/>
                  </a:lnTo>
                  <a:lnTo>
                    <a:pt x="699" y="766"/>
                  </a:lnTo>
                  <a:lnTo>
                    <a:pt x="694" y="797"/>
                  </a:lnTo>
                  <a:lnTo>
                    <a:pt x="693" y="809"/>
                  </a:lnTo>
                  <a:lnTo>
                    <a:pt x="693" y="818"/>
                  </a:lnTo>
                  <a:lnTo>
                    <a:pt x="693" y="820"/>
                  </a:lnTo>
                  <a:lnTo>
                    <a:pt x="693" y="823"/>
                  </a:lnTo>
                  <a:lnTo>
                    <a:pt x="694" y="825"/>
                  </a:lnTo>
                  <a:lnTo>
                    <a:pt x="694" y="825"/>
                  </a:lnTo>
                  <a:lnTo>
                    <a:pt x="694" y="826"/>
                  </a:lnTo>
                  <a:lnTo>
                    <a:pt x="695" y="827"/>
                  </a:lnTo>
                  <a:lnTo>
                    <a:pt x="695" y="827"/>
                  </a:lnTo>
                  <a:lnTo>
                    <a:pt x="695" y="828"/>
                  </a:lnTo>
                  <a:lnTo>
                    <a:pt x="696" y="828"/>
                  </a:lnTo>
                  <a:lnTo>
                    <a:pt x="696" y="829"/>
                  </a:lnTo>
                  <a:lnTo>
                    <a:pt x="696" y="829"/>
                  </a:lnTo>
                  <a:lnTo>
                    <a:pt x="696" y="829"/>
                  </a:lnTo>
                  <a:lnTo>
                    <a:pt x="696" y="829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699" y="829"/>
                  </a:lnTo>
                  <a:lnTo>
                    <a:pt x="700" y="829"/>
                  </a:lnTo>
                  <a:lnTo>
                    <a:pt x="702" y="828"/>
                  </a:lnTo>
                  <a:lnTo>
                    <a:pt x="704" y="828"/>
                  </a:lnTo>
                  <a:lnTo>
                    <a:pt x="710" y="826"/>
                  </a:lnTo>
                  <a:lnTo>
                    <a:pt x="715" y="825"/>
                  </a:lnTo>
                  <a:lnTo>
                    <a:pt x="720" y="822"/>
                  </a:lnTo>
                  <a:lnTo>
                    <a:pt x="727" y="819"/>
                  </a:lnTo>
                  <a:lnTo>
                    <a:pt x="742" y="811"/>
                  </a:lnTo>
                  <a:lnTo>
                    <a:pt x="776" y="790"/>
                  </a:lnTo>
                  <a:lnTo>
                    <a:pt x="811" y="766"/>
                  </a:lnTo>
                  <a:lnTo>
                    <a:pt x="847" y="738"/>
                  </a:lnTo>
                  <a:lnTo>
                    <a:pt x="886" y="708"/>
                  </a:lnTo>
                  <a:lnTo>
                    <a:pt x="943" y="773"/>
                  </a:lnTo>
                  <a:lnTo>
                    <a:pt x="834" y="874"/>
                  </a:lnTo>
                  <a:lnTo>
                    <a:pt x="797" y="906"/>
                  </a:lnTo>
                  <a:lnTo>
                    <a:pt x="783" y="917"/>
                  </a:lnTo>
                  <a:lnTo>
                    <a:pt x="772" y="925"/>
                  </a:lnTo>
                  <a:lnTo>
                    <a:pt x="736" y="948"/>
                  </a:lnTo>
                  <a:lnTo>
                    <a:pt x="718" y="958"/>
                  </a:lnTo>
                  <a:lnTo>
                    <a:pt x="701" y="968"/>
                  </a:lnTo>
                  <a:lnTo>
                    <a:pt x="683" y="977"/>
                  </a:lnTo>
                  <a:lnTo>
                    <a:pt x="666" y="984"/>
                  </a:lnTo>
                  <a:lnTo>
                    <a:pt x="649" y="992"/>
                  </a:lnTo>
                  <a:lnTo>
                    <a:pt x="632" y="998"/>
                  </a:lnTo>
                  <a:lnTo>
                    <a:pt x="622" y="1002"/>
                  </a:lnTo>
                  <a:lnTo>
                    <a:pt x="610" y="1005"/>
                  </a:lnTo>
                  <a:lnTo>
                    <a:pt x="599" y="1007"/>
                  </a:lnTo>
                  <a:lnTo>
                    <a:pt x="588" y="1010"/>
                  </a:lnTo>
                  <a:lnTo>
                    <a:pt x="577" y="1012"/>
                  </a:lnTo>
                  <a:lnTo>
                    <a:pt x="565" y="1013"/>
                  </a:lnTo>
                  <a:lnTo>
                    <a:pt x="555" y="1015"/>
                  </a:lnTo>
                  <a:lnTo>
                    <a:pt x="543" y="1015"/>
                  </a:lnTo>
                  <a:lnTo>
                    <a:pt x="534" y="1015"/>
                  </a:lnTo>
                  <a:lnTo>
                    <a:pt x="525" y="1013"/>
                  </a:lnTo>
                  <a:lnTo>
                    <a:pt x="517" y="1011"/>
                  </a:lnTo>
                  <a:lnTo>
                    <a:pt x="509" y="1010"/>
                  </a:lnTo>
                  <a:lnTo>
                    <a:pt x="503" y="1007"/>
                  </a:lnTo>
                  <a:lnTo>
                    <a:pt x="500" y="1005"/>
                  </a:lnTo>
                  <a:lnTo>
                    <a:pt x="496" y="1004"/>
                  </a:lnTo>
                  <a:lnTo>
                    <a:pt x="493" y="1002"/>
                  </a:lnTo>
                  <a:lnTo>
                    <a:pt x="490" y="1000"/>
                  </a:lnTo>
                  <a:lnTo>
                    <a:pt x="487" y="998"/>
                  </a:lnTo>
                  <a:lnTo>
                    <a:pt x="485" y="996"/>
                  </a:lnTo>
                  <a:lnTo>
                    <a:pt x="479" y="991"/>
                  </a:lnTo>
                  <a:lnTo>
                    <a:pt x="477" y="987"/>
                  </a:lnTo>
                  <a:lnTo>
                    <a:pt x="475" y="984"/>
                  </a:lnTo>
                  <a:lnTo>
                    <a:pt x="474" y="982"/>
                  </a:lnTo>
                  <a:lnTo>
                    <a:pt x="472" y="979"/>
                  </a:lnTo>
                  <a:lnTo>
                    <a:pt x="470" y="976"/>
                  </a:lnTo>
                  <a:lnTo>
                    <a:pt x="469" y="972"/>
                  </a:lnTo>
                  <a:lnTo>
                    <a:pt x="468" y="969"/>
                  </a:lnTo>
                  <a:lnTo>
                    <a:pt x="467" y="966"/>
                  </a:lnTo>
                  <a:lnTo>
                    <a:pt x="465" y="958"/>
                  </a:lnTo>
                  <a:lnTo>
                    <a:pt x="464" y="950"/>
                  </a:lnTo>
                  <a:lnTo>
                    <a:pt x="464" y="942"/>
                  </a:lnTo>
                  <a:lnTo>
                    <a:pt x="464" y="937"/>
                  </a:lnTo>
                  <a:lnTo>
                    <a:pt x="465" y="931"/>
                  </a:lnTo>
                  <a:lnTo>
                    <a:pt x="465" y="925"/>
                  </a:lnTo>
                  <a:lnTo>
                    <a:pt x="466" y="919"/>
                  </a:lnTo>
                  <a:lnTo>
                    <a:pt x="468" y="913"/>
                  </a:lnTo>
                  <a:lnTo>
                    <a:pt x="469" y="906"/>
                  </a:lnTo>
                  <a:lnTo>
                    <a:pt x="473" y="892"/>
                  </a:lnTo>
                  <a:lnTo>
                    <a:pt x="517" y="773"/>
                  </a:lnTo>
                  <a:lnTo>
                    <a:pt x="502" y="799"/>
                  </a:lnTo>
                  <a:lnTo>
                    <a:pt x="485" y="823"/>
                  </a:lnTo>
                  <a:lnTo>
                    <a:pt x="466" y="846"/>
                  </a:lnTo>
                  <a:lnTo>
                    <a:pt x="444" y="868"/>
                  </a:lnTo>
                  <a:lnTo>
                    <a:pt x="421" y="889"/>
                  </a:lnTo>
                  <a:lnTo>
                    <a:pt x="395" y="908"/>
                  </a:lnTo>
                  <a:lnTo>
                    <a:pt x="367" y="927"/>
                  </a:lnTo>
                  <a:lnTo>
                    <a:pt x="337" y="944"/>
                  </a:lnTo>
                  <a:lnTo>
                    <a:pt x="314" y="960"/>
                  </a:lnTo>
                  <a:lnTo>
                    <a:pt x="291" y="974"/>
                  </a:lnTo>
                  <a:lnTo>
                    <a:pt x="268" y="986"/>
                  </a:lnTo>
                  <a:lnTo>
                    <a:pt x="247" y="996"/>
                  </a:lnTo>
                  <a:lnTo>
                    <a:pt x="226" y="1003"/>
                  </a:lnTo>
                  <a:lnTo>
                    <a:pt x="206" y="1009"/>
                  </a:lnTo>
                  <a:lnTo>
                    <a:pt x="195" y="1011"/>
                  </a:lnTo>
                  <a:lnTo>
                    <a:pt x="186" y="1012"/>
                  </a:lnTo>
                  <a:lnTo>
                    <a:pt x="176" y="1013"/>
                  </a:lnTo>
                  <a:lnTo>
                    <a:pt x="166" y="1013"/>
                  </a:lnTo>
                  <a:lnTo>
                    <a:pt x="157" y="1013"/>
                  </a:lnTo>
                  <a:lnTo>
                    <a:pt x="148" y="1012"/>
                  </a:lnTo>
                  <a:lnTo>
                    <a:pt x="140" y="1010"/>
                  </a:lnTo>
                  <a:lnTo>
                    <a:pt x="130" y="1008"/>
                  </a:lnTo>
                  <a:lnTo>
                    <a:pt x="123" y="1005"/>
                  </a:lnTo>
                  <a:lnTo>
                    <a:pt x="114" y="1001"/>
                  </a:lnTo>
                  <a:lnTo>
                    <a:pt x="107" y="997"/>
                  </a:lnTo>
                  <a:lnTo>
                    <a:pt x="98" y="992"/>
                  </a:lnTo>
                  <a:lnTo>
                    <a:pt x="91" y="985"/>
                  </a:lnTo>
                  <a:lnTo>
                    <a:pt x="85" y="979"/>
                  </a:lnTo>
                  <a:lnTo>
                    <a:pt x="77" y="972"/>
                  </a:lnTo>
                  <a:lnTo>
                    <a:pt x="71" y="964"/>
                  </a:lnTo>
                  <a:lnTo>
                    <a:pt x="65" y="955"/>
                  </a:lnTo>
                  <a:lnTo>
                    <a:pt x="58" y="946"/>
                  </a:lnTo>
                  <a:lnTo>
                    <a:pt x="46" y="925"/>
                  </a:lnTo>
                  <a:lnTo>
                    <a:pt x="41" y="921"/>
                  </a:lnTo>
                  <a:lnTo>
                    <a:pt x="36" y="917"/>
                  </a:lnTo>
                  <a:lnTo>
                    <a:pt x="31" y="912"/>
                  </a:lnTo>
                  <a:lnTo>
                    <a:pt x="26" y="905"/>
                  </a:lnTo>
                  <a:lnTo>
                    <a:pt x="22" y="899"/>
                  </a:lnTo>
                  <a:lnTo>
                    <a:pt x="18" y="893"/>
                  </a:lnTo>
                  <a:lnTo>
                    <a:pt x="15" y="885"/>
                  </a:lnTo>
                  <a:lnTo>
                    <a:pt x="11" y="877"/>
                  </a:lnTo>
                  <a:lnTo>
                    <a:pt x="9" y="868"/>
                  </a:lnTo>
                  <a:lnTo>
                    <a:pt x="6" y="859"/>
                  </a:lnTo>
                  <a:lnTo>
                    <a:pt x="3" y="839"/>
                  </a:lnTo>
                  <a:lnTo>
                    <a:pt x="1" y="817"/>
                  </a:lnTo>
                  <a:lnTo>
                    <a:pt x="0" y="792"/>
                  </a:lnTo>
                  <a:lnTo>
                    <a:pt x="1" y="762"/>
                  </a:lnTo>
                  <a:lnTo>
                    <a:pt x="4" y="732"/>
                  </a:lnTo>
                  <a:lnTo>
                    <a:pt x="8" y="699"/>
                  </a:lnTo>
                  <a:lnTo>
                    <a:pt x="16" y="667"/>
                  </a:lnTo>
                  <a:lnTo>
                    <a:pt x="24" y="634"/>
                  </a:lnTo>
                  <a:lnTo>
                    <a:pt x="36" y="601"/>
                  </a:lnTo>
                  <a:lnTo>
                    <a:pt x="49" y="565"/>
                  </a:lnTo>
                  <a:lnTo>
                    <a:pt x="63" y="530"/>
                  </a:lnTo>
                  <a:lnTo>
                    <a:pt x="80" y="494"/>
                  </a:lnTo>
                  <a:lnTo>
                    <a:pt x="98" y="460"/>
                  </a:lnTo>
                  <a:lnTo>
                    <a:pt x="118" y="426"/>
                  </a:lnTo>
                  <a:lnTo>
                    <a:pt x="138" y="393"/>
                  </a:lnTo>
                  <a:lnTo>
                    <a:pt x="160" y="360"/>
                  </a:lnTo>
                  <a:lnTo>
                    <a:pt x="183" y="329"/>
                  </a:lnTo>
                  <a:lnTo>
                    <a:pt x="208" y="299"/>
                  </a:lnTo>
                  <a:lnTo>
                    <a:pt x="234" y="269"/>
                  </a:lnTo>
                  <a:lnTo>
                    <a:pt x="262" y="241"/>
                  </a:lnTo>
                  <a:lnTo>
                    <a:pt x="290" y="214"/>
                  </a:lnTo>
                  <a:lnTo>
                    <a:pt x="317" y="190"/>
                  </a:lnTo>
                  <a:lnTo>
                    <a:pt x="345" y="167"/>
                  </a:lnTo>
                  <a:lnTo>
                    <a:pt x="373" y="147"/>
                  </a:lnTo>
                  <a:lnTo>
                    <a:pt x="402" y="128"/>
                  </a:lnTo>
                  <a:lnTo>
                    <a:pt x="432" y="111"/>
                  </a:lnTo>
                  <a:lnTo>
                    <a:pt x="461" y="96"/>
                  </a:lnTo>
                  <a:lnTo>
                    <a:pt x="486" y="86"/>
                  </a:lnTo>
                  <a:lnTo>
                    <a:pt x="511" y="77"/>
                  </a:lnTo>
                  <a:lnTo>
                    <a:pt x="539" y="69"/>
                  </a:lnTo>
                  <a:lnTo>
                    <a:pt x="568" y="64"/>
                  </a:lnTo>
                  <a:lnTo>
                    <a:pt x="598" y="59"/>
                  </a:lnTo>
                  <a:lnTo>
                    <a:pt x="630" y="56"/>
                  </a:lnTo>
                  <a:lnTo>
                    <a:pt x="664" y="54"/>
                  </a:lnTo>
                  <a:lnTo>
                    <a:pt x="699" y="52"/>
                  </a:lnTo>
                  <a:lnTo>
                    <a:pt x="716" y="52"/>
                  </a:lnTo>
                  <a:lnTo>
                    <a:pt x="732" y="54"/>
                  </a:lnTo>
                  <a:lnTo>
                    <a:pt x="746" y="56"/>
                  </a:lnTo>
                  <a:lnTo>
                    <a:pt x="760" y="58"/>
                  </a:lnTo>
                  <a:close/>
                  <a:moveTo>
                    <a:pt x="639" y="219"/>
                  </a:moveTo>
                  <a:lnTo>
                    <a:pt x="618" y="216"/>
                  </a:lnTo>
                  <a:lnTo>
                    <a:pt x="599" y="215"/>
                  </a:lnTo>
                  <a:lnTo>
                    <a:pt x="580" y="213"/>
                  </a:lnTo>
                  <a:lnTo>
                    <a:pt x="561" y="213"/>
                  </a:lnTo>
                  <a:lnTo>
                    <a:pt x="539" y="214"/>
                  </a:lnTo>
                  <a:lnTo>
                    <a:pt x="518" y="216"/>
                  </a:lnTo>
                  <a:lnTo>
                    <a:pt x="496" y="219"/>
                  </a:lnTo>
                  <a:lnTo>
                    <a:pt x="476" y="225"/>
                  </a:lnTo>
                  <a:lnTo>
                    <a:pt x="456" y="231"/>
                  </a:lnTo>
                  <a:lnTo>
                    <a:pt x="438" y="240"/>
                  </a:lnTo>
                  <a:lnTo>
                    <a:pt x="419" y="250"/>
                  </a:lnTo>
                  <a:lnTo>
                    <a:pt x="402" y="262"/>
                  </a:lnTo>
                  <a:lnTo>
                    <a:pt x="385" y="275"/>
                  </a:lnTo>
                  <a:lnTo>
                    <a:pt x="368" y="292"/>
                  </a:lnTo>
                  <a:lnTo>
                    <a:pt x="352" y="310"/>
                  </a:lnTo>
                  <a:lnTo>
                    <a:pt x="336" y="332"/>
                  </a:lnTo>
                  <a:lnTo>
                    <a:pt x="319" y="356"/>
                  </a:lnTo>
                  <a:lnTo>
                    <a:pt x="303" y="383"/>
                  </a:lnTo>
                  <a:lnTo>
                    <a:pt x="288" y="412"/>
                  </a:lnTo>
                  <a:lnTo>
                    <a:pt x="273" y="445"/>
                  </a:lnTo>
                  <a:lnTo>
                    <a:pt x="259" y="478"/>
                  </a:lnTo>
                  <a:lnTo>
                    <a:pt x="246" y="511"/>
                  </a:lnTo>
                  <a:lnTo>
                    <a:pt x="235" y="544"/>
                  </a:lnTo>
                  <a:lnTo>
                    <a:pt x="227" y="579"/>
                  </a:lnTo>
                  <a:lnTo>
                    <a:pt x="221" y="612"/>
                  </a:lnTo>
                  <a:lnTo>
                    <a:pt x="216" y="645"/>
                  </a:lnTo>
                  <a:lnTo>
                    <a:pt x="213" y="679"/>
                  </a:lnTo>
                  <a:lnTo>
                    <a:pt x="212" y="712"/>
                  </a:lnTo>
                  <a:lnTo>
                    <a:pt x="212" y="727"/>
                  </a:lnTo>
                  <a:lnTo>
                    <a:pt x="213" y="742"/>
                  </a:lnTo>
                  <a:lnTo>
                    <a:pt x="215" y="756"/>
                  </a:lnTo>
                  <a:lnTo>
                    <a:pt x="217" y="768"/>
                  </a:lnTo>
                  <a:lnTo>
                    <a:pt x="219" y="778"/>
                  </a:lnTo>
                  <a:lnTo>
                    <a:pt x="222" y="784"/>
                  </a:lnTo>
                  <a:lnTo>
                    <a:pt x="223" y="788"/>
                  </a:lnTo>
                  <a:lnTo>
                    <a:pt x="225" y="792"/>
                  </a:lnTo>
                  <a:lnTo>
                    <a:pt x="227" y="796"/>
                  </a:lnTo>
                  <a:lnTo>
                    <a:pt x="229" y="799"/>
                  </a:lnTo>
                  <a:lnTo>
                    <a:pt x="231" y="802"/>
                  </a:lnTo>
                  <a:lnTo>
                    <a:pt x="236" y="809"/>
                  </a:lnTo>
                  <a:lnTo>
                    <a:pt x="239" y="811"/>
                  </a:lnTo>
                  <a:lnTo>
                    <a:pt x="242" y="814"/>
                  </a:lnTo>
                  <a:lnTo>
                    <a:pt x="244" y="816"/>
                  </a:lnTo>
                  <a:lnTo>
                    <a:pt x="247" y="818"/>
                  </a:lnTo>
                  <a:lnTo>
                    <a:pt x="250" y="819"/>
                  </a:lnTo>
                  <a:lnTo>
                    <a:pt x="252" y="821"/>
                  </a:lnTo>
                  <a:lnTo>
                    <a:pt x="256" y="822"/>
                  </a:lnTo>
                  <a:lnTo>
                    <a:pt x="259" y="824"/>
                  </a:lnTo>
                  <a:lnTo>
                    <a:pt x="262" y="825"/>
                  </a:lnTo>
                  <a:lnTo>
                    <a:pt x="265" y="826"/>
                  </a:lnTo>
                  <a:lnTo>
                    <a:pt x="269" y="826"/>
                  </a:lnTo>
                  <a:lnTo>
                    <a:pt x="273" y="827"/>
                  </a:lnTo>
                  <a:lnTo>
                    <a:pt x="276" y="827"/>
                  </a:lnTo>
                  <a:lnTo>
                    <a:pt x="280" y="827"/>
                  </a:lnTo>
                  <a:lnTo>
                    <a:pt x="288" y="827"/>
                  </a:lnTo>
                  <a:lnTo>
                    <a:pt x="297" y="826"/>
                  </a:lnTo>
                  <a:lnTo>
                    <a:pt x="305" y="824"/>
                  </a:lnTo>
                  <a:lnTo>
                    <a:pt x="314" y="823"/>
                  </a:lnTo>
                  <a:lnTo>
                    <a:pt x="323" y="820"/>
                  </a:lnTo>
                  <a:lnTo>
                    <a:pt x="332" y="817"/>
                  </a:lnTo>
                  <a:lnTo>
                    <a:pt x="350" y="809"/>
                  </a:lnTo>
                  <a:lnTo>
                    <a:pt x="369" y="798"/>
                  </a:lnTo>
                  <a:lnTo>
                    <a:pt x="388" y="786"/>
                  </a:lnTo>
                  <a:lnTo>
                    <a:pt x="407" y="770"/>
                  </a:lnTo>
                  <a:lnTo>
                    <a:pt x="427" y="752"/>
                  </a:lnTo>
                  <a:lnTo>
                    <a:pt x="448" y="733"/>
                  </a:lnTo>
                  <a:lnTo>
                    <a:pt x="466" y="711"/>
                  </a:lnTo>
                  <a:lnTo>
                    <a:pt x="483" y="686"/>
                  </a:lnTo>
                  <a:lnTo>
                    <a:pt x="499" y="660"/>
                  </a:lnTo>
                  <a:lnTo>
                    <a:pt x="512" y="632"/>
                  </a:lnTo>
                  <a:lnTo>
                    <a:pt x="526" y="601"/>
                  </a:lnTo>
                  <a:lnTo>
                    <a:pt x="538" y="568"/>
                  </a:lnTo>
                  <a:lnTo>
                    <a:pt x="548" y="533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10320" y="773280"/>
              <a:ext cx="141480" cy="217440"/>
            </a:xfrm>
            <a:custGeom>
              <a:avLst/>
              <a:gdLst/>
              <a:ahLst/>
              <a:rect l="l" t="t" r="r" b="b"/>
              <a:pathLst>
                <a:path w="394" h="606">
                  <a:moveTo>
                    <a:pt x="31" y="605"/>
                  </a:moveTo>
                  <a:lnTo>
                    <a:pt x="0" y="505"/>
                  </a:lnTo>
                  <a:lnTo>
                    <a:pt x="154" y="387"/>
                  </a:lnTo>
                  <a:lnTo>
                    <a:pt x="170" y="351"/>
                  </a:lnTo>
                  <a:lnTo>
                    <a:pt x="181" y="322"/>
                  </a:lnTo>
                  <a:lnTo>
                    <a:pt x="185" y="311"/>
                  </a:lnTo>
                  <a:lnTo>
                    <a:pt x="188" y="300"/>
                  </a:lnTo>
                  <a:lnTo>
                    <a:pt x="189" y="292"/>
                  </a:lnTo>
                  <a:lnTo>
                    <a:pt x="190" y="288"/>
                  </a:lnTo>
                  <a:lnTo>
                    <a:pt x="190" y="285"/>
                  </a:lnTo>
                  <a:lnTo>
                    <a:pt x="190" y="279"/>
                  </a:lnTo>
                  <a:lnTo>
                    <a:pt x="189" y="272"/>
                  </a:lnTo>
                  <a:lnTo>
                    <a:pt x="188" y="265"/>
                  </a:lnTo>
                  <a:lnTo>
                    <a:pt x="186" y="258"/>
                  </a:lnTo>
                  <a:lnTo>
                    <a:pt x="183" y="251"/>
                  </a:lnTo>
                  <a:lnTo>
                    <a:pt x="181" y="243"/>
                  </a:lnTo>
                  <a:lnTo>
                    <a:pt x="173" y="228"/>
                  </a:lnTo>
                  <a:lnTo>
                    <a:pt x="165" y="212"/>
                  </a:lnTo>
                  <a:lnTo>
                    <a:pt x="157" y="196"/>
                  </a:lnTo>
                  <a:lnTo>
                    <a:pt x="151" y="182"/>
                  </a:lnTo>
                  <a:lnTo>
                    <a:pt x="146" y="168"/>
                  </a:lnTo>
                  <a:lnTo>
                    <a:pt x="142" y="156"/>
                  </a:lnTo>
                  <a:lnTo>
                    <a:pt x="139" y="144"/>
                  </a:lnTo>
                  <a:lnTo>
                    <a:pt x="138" y="133"/>
                  </a:lnTo>
                  <a:lnTo>
                    <a:pt x="137" y="129"/>
                  </a:lnTo>
                  <a:lnTo>
                    <a:pt x="137" y="124"/>
                  </a:lnTo>
                  <a:lnTo>
                    <a:pt x="138" y="111"/>
                  </a:lnTo>
                  <a:lnTo>
                    <a:pt x="139" y="100"/>
                  </a:lnTo>
                  <a:lnTo>
                    <a:pt x="142" y="88"/>
                  </a:lnTo>
                  <a:lnTo>
                    <a:pt x="146" y="77"/>
                  </a:lnTo>
                  <a:lnTo>
                    <a:pt x="151" y="66"/>
                  </a:lnTo>
                  <a:lnTo>
                    <a:pt x="157" y="56"/>
                  </a:lnTo>
                  <a:lnTo>
                    <a:pt x="165" y="46"/>
                  </a:lnTo>
                  <a:lnTo>
                    <a:pt x="173" y="36"/>
                  </a:lnTo>
                  <a:lnTo>
                    <a:pt x="182" y="28"/>
                  </a:lnTo>
                  <a:lnTo>
                    <a:pt x="191" y="21"/>
                  </a:lnTo>
                  <a:lnTo>
                    <a:pt x="197" y="18"/>
                  </a:lnTo>
                  <a:lnTo>
                    <a:pt x="202" y="14"/>
                  </a:lnTo>
                  <a:lnTo>
                    <a:pt x="207" y="11"/>
                  </a:lnTo>
                  <a:lnTo>
                    <a:pt x="212" y="9"/>
                  </a:lnTo>
                  <a:lnTo>
                    <a:pt x="218" y="7"/>
                  </a:lnTo>
                  <a:lnTo>
                    <a:pt x="223" y="5"/>
                  </a:lnTo>
                  <a:lnTo>
                    <a:pt x="228" y="3"/>
                  </a:lnTo>
                  <a:lnTo>
                    <a:pt x="235" y="2"/>
                  </a:lnTo>
                  <a:lnTo>
                    <a:pt x="241" y="1"/>
                  </a:lnTo>
                  <a:lnTo>
                    <a:pt x="246" y="1"/>
                  </a:lnTo>
                  <a:lnTo>
                    <a:pt x="259" y="0"/>
                  </a:lnTo>
                  <a:lnTo>
                    <a:pt x="267" y="0"/>
                  </a:lnTo>
                  <a:lnTo>
                    <a:pt x="273" y="1"/>
                  </a:lnTo>
                  <a:lnTo>
                    <a:pt x="279" y="1"/>
                  </a:lnTo>
                  <a:lnTo>
                    <a:pt x="286" y="3"/>
                  </a:lnTo>
                  <a:lnTo>
                    <a:pt x="292" y="4"/>
                  </a:lnTo>
                  <a:lnTo>
                    <a:pt x="298" y="6"/>
                  </a:lnTo>
                  <a:lnTo>
                    <a:pt x="305" y="8"/>
                  </a:lnTo>
                  <a:lnTo>
                    <a:pt x="311" y="11"/>
                  </a:lnTo>
                  <a:lnTo>
                    <a:pt x="316" y="13"/>
                  </a:lnTo>
                  <a:lnTo>
                    <a:pt x="323" y="17"/>
                  </a:lnTo>
                  <a:lnTo>
                    <a:pt x="328" y="21"/>
                  </a:lnTo>
                  <a:lnTo>
                    <a:pt x="333" y="25"/>
                  </a:lnTo>
                  <a:lnTo>
                    <a:pt x="339" y="29"/>
                  </a:lnTo>
                  <a:lnTo>
                    <a:pt x="344" y="33"/>
                  </a:lnTo>
                  <a:lnTo>
                    <a:pt x="354" y="44"/>
                  </a:lnTo>
                  <a:lnTo>
                    <a:pt x="363" y="54"/>
                  </a:lnTo>
                  <a:lnTo>
                    <a:pt x="371" y="65"/>
                  </a:lnTo>
                  <a:lnTo>
                    <a:pt x="378" y="78"/>
                  </a:lnTo>
                  <a:lnTo>
                    <a:pt x="383" y="90"/>
                  </a:lnTo>
                  <a:lnTo>
                    <a:pt x="388" y="103"/>
                  </a:lnTo>
                  <a:lnTo>
                    <a:pt x="391" y="116"/>
                  </a:lnTo>
                  <a:lnTo>
                    <a:pt x="392" y="130"/>
                  </a:lnTo>
                  <a:lnTo>
                    <a:pt x="393" y="144"/>
                  </a:lnTo>
                  <a:lnTo>
                    <a:pt x="392" y="160"/>
                  </a:lnTo>
                  <a:lnTo>
                    <a:pt x="391" y="177"/>
                  </a:lnTo>
                  <a:lnTo>
                    <a:pt x="388" y="193"/>
                  </a:lnTo>
                  <a:lnTo>
                    <a:pt x="384" y="211"/>
                  </a:lnTo>
                  <a:lnTo>
                    <a:pt x="379" y="229"/>
                  </a:lnTo>
                  <a:lnTo>
                    <a:pt x="373" y="246"/>
                  </a:lnTo>
                  <a:lnTo>
                    <a:pt x="366" y="265"/>
                  </a:lnTo>
                  <a:lnTo>
                    <a:pt x="358" y="285"/>
                  </a:lnTo>
                  <a:lnTo>
                    <a:pt x="348" y="304"/>
                  </a:lnTo>
                  <a:lnTo>
                    <a:pt x="339" y="322"/>
                  </a:lnTo>
                  <a:lnTo>
                    <a:pt x="327" y="340"/>
                  </a:lnTo>
                  <a:lnTo>
                    <a:pt x="315" y="356"/>
                  </a:lnTo>
                  <a:lnTo>
                    <a:pt x="303" y="371"/>
                  </a:lnTo>
                  <a:lnTo>
                    <a:pt x="289" y="387"/>
                  </a:lnTo>
                  <a:lnTo>
                    <a:pt x="275" y="400"/>
                  </a:lnTo>
                  <a:lnTo>
                    <a:pt x="259" y="414"/>
                  </a:lnTo>
                  <a:lnTo>
                    <a:pt x="234" y="443"/>
                  </a:lnTo>
                  <a:lnTo>
                    <a:pt x="208" y="471"/>
                  </a:lnTo>
                  <a:lnTo>
                    <a:pt x="181" y="497"/>
                  </a:lnTo>
                  <a:lnTo>
                    <a:pt x="153" y="522"/>
                  </a:lnTo>
                  <a:lnTo>
                    <a:pt x="123" y="545"/>
                  </a:lnTo>
                  <a:lnTo>
                    <a:pt x="94" y="567"/>
                  </a:lnTo>
                  <a:lnTo>
                    <a:pt x="63" y="586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52360" y="1338120"/>
              <a:ext cx="303480" cy="354240"/>
            </a:xfrm>
            <a:custGeom>
              <a:avLst/>
              <a:gdLst/>
              <a:ahLst/>
              <a:rect l="l" t="t" r="r" b="b"/>
              <a:pathLst>
                <a:path w="842" h="983">
                  <a:moveTo>
                    <a:pt x="566" y="0"/>
                  </a:moveTo>
                  <a:lnTo>
                    <a:pt x="581" y="0"/>
                  </a:lnTo>
                  <a:lnTo>
                    <a:pt x="596" y="1"/>
                  </a:lnTo>
                  <a:lnTo>
                    <a:pt x="610" y="3"/>
                  </a:lnTo>
                  <a:lnTo>
                    <a:pt x="624" y="7"/>
                  </a:lnTo>
                  <a:lnTo>
                    <a:pt x="637" y="10"/>
                  </a:lnTo>
                  <a:lnTo>
                    <a:pt x="650" y="14"/>
                  </a:lnTo>
                  <a:lnTo>
                    <a:pt x="663" y="18"/>
                  </a:lnTo>
                  <a:lnTo>
                    <a:pt x="676" y="23"/>
                  </a:lnTo>
                  <a:lnTo>
                    <a:pt x="687" y="29"/>
                  </a:lnTo>
                  <a:lnTo>
                    <a:pt x="699" y="37"/>
                  </a:lnTo>
                  <a:lnTo>
                    <a:pt x="711" y="44"/>
                  </a:lnTo>
                  <a:lnTo>
                    <a:pt x="722" y="52"/>
                  </a:lnTo>
                  <a:lnTo>
                    <a:pt x="733" y="61"/>
                  </a:lnTo>
                  <a:lnTo>
                    <a:pt x="743" y="71"/>
                  </a:lnTo>
                  <a:lnTo>
                    <a:pt x="764" y="92"/>
                  </a:lnTo>
                  <a:lnTo>
                    <a:pt x="782" y="116"/>
                  </a:lnTo>
                  <a:lnTo>
                    <a:pt x="798" y="142"/>
                  </a:lnTo>
                  <a:lnTo>
                    <a:pt x="810" y="170"/>
                  </a:lnTo>
                  <a:lnTo>
                    <a:pt x="822" y="200"/>
                  </a:lnTo>
                  <a:lnTo>
                    <a:pt x="830" y="232"/>
                  </a:lnTo>
                  <a:lnTo>
                    <a:pt x="836" y="266"/>
                  </a:lnTo>
                  <a:lnTo>
                    <a:pt x="840" y="302"/>
                  </a:lnTo>
                  <a:lnTo>
                    <a:pt x="841" y="340"/>
                  </a:lnTo>
                  <a:lnTo>
                    <a:pt x="838" y="402"/>
                  </a:lnTo>
                  <a:lnTo>
                    <a:pt x="830" y="461"/>
                  </a:lnTo>
                  <a:lnTo>
                    <a:pt x="816" y="518"/>
                  </a:lnTo>
                  <a:lnTo>
                    <a:pt x="796" y="575"/>
                  </a:lnTo>
                  <a:lnTo>
                    <a:pt x="771" y="630"/>
                  </a:lnTo>
                  <a:lnTo>
                    <a:pt x="741" y="683"/>
                  </a:lnTo>
                  <a:lnTo>
                    <a:pt x="704" y="735"/>
                  </a:lnTo>
                  <a:lnTo>
                    <a:pt x="663" y="785"/>
                  </a:lnTo>
                  <a:lnTo>
                    <a:pt x="618" y="830"/>
                  </a:lnTo>
                  <a:lnTo>
                    <a:pt x="573" y="871"/>
                  </a:lnTo>
                  <a:lnTo>
                    <a:pt x="526" y="904"/>
                  </a:lnTo>
                  <a:lnTo>
                    <a:pt x="503" y="920"/>
                  </a:lnTo>
                  <a:lnTo>
                    <a:pt x="479" y="932"/>
                  </a:lnTo>
                  <a:lnTo>
                    <a:pt x="455" y="944"/>
                  </a:lnTo>
                  <a:lnTo>
                    <a:pt x="431" y="954"/>
                  </a:lnTo>
                  <a:lnTo>
                    <a:pt x="407" y="962"/>
                  </a:lnTo>
                  <a:lnTo>
                    <a:pt x="383" y="970"/>
                  </a:lnTo>
                  <a:lnTo>
                    <a:pt x="358" y="975"/>
                  </a:lnTo>
                  <a:lnTo>
                    <a:pt x="333" y="979"/>
                  </a:lnTo>
                  <a:lnTo>
                    <a:pt x="308" y="981"/>
                  </a:lnTo>
                  <a:lnTo>
                    <a:pt x="283" y="982"/>
                  </a:lnTo>
                  <a:lnTo>
                    <a:pt x="252" y="981"/>
                  </a:lnTo>
                  <a:lnTo>
                    <a:pt x="222" y="977"/>
                  </a:lnTo>
                  <a:lnTo>
                    <a:pt x="208" y="974"/>
                  </a:lnTo>
                  <a:lnTo>
                    <a:pt x="194" y="971"/>
                  </a:lnTo>
                  <a:lnTo>
                    <a:pt x="181" y="967"/>
                  </a:lnTo>
                  <a:lnTo>
                    <a:pt x="167" y="961"/>
                  </a:lnTo>
                  <a:lnTo>
                    <a:pt x="154" y="956"/>
                  </a:lnTo>
                  <a:lnTo>
                    <a:pt x="143" y="950"/>
                  </a:lnTo>
                  <a:lnTo>
                    <a:pt x="131" y="943"/>
                  </a:lnTo>
                  <a:lnTo>
                    <a:pt x="119" y="935"/>
                  </a:lnTo>
                  <a:lnTo>
                    <a:pt x="108" y="928"/>
                  </a:lnTo>
                  <a:lnTo>
                    <a:pt x="97" y="919"/>
                  </a:lnTo>
                  <a:lnTo>
                    <a:pt x="87" y="909"/>
                  </a:lnTo>
                  <a:lnTo>
                    <a:pt x="77" y="900"/>
                  </a:lnTo>
                  <a:lnTo>
                    <a:pt x="67" y="890"/>
                  </a:lnTo>
                  <a:lnTo>
                    <a:pt x="59" y="878"/>
                  </a:lnTo>
                  <a:lnTo>
                    <a:pt x="50" y="867"/>
                  </a:lnTo>
                  <a:lnTo>
                    <a:pt x="43" y="855"/>
                  </a:lnTo>
                  <a:lnTo>
                    <a:pt x="36" y="843"/>
                  </a:lnTo>
                  <a:lnTo>
                    <a:pt x="29" y="830"/>
                  </a:lnTo>
                  <a:lnTo>
                    <a:pt x="19" y="803"/>
                  </a:lnTo>
                  <a:lnTo>
                    <a:pt x="10" y="775"/>
                  </a:lnTo>
                  <a:lnTo>
                    <a:pt x="5" y="744"/>
                  </a:lnTo>
                  <a:lnTo>
                    <a:pt x="1" y="713"/>
                  </a:lnTo>
                  <a:lnTo>
                    <a:pt x="0" y="678"/>
                  </a:lnTo>
                  <a:lnTo>
                    <a:pt x="2" y="621"/>
                  </a:lnTo>
                  <a:lnTo>
                    <a:pt x="8" y="565"/>
                  </a:lnTo>
                  <a:lnTo>
                    <a:pt x="18" y="511"/>
                  </a:lnTo>
                  <a:lnTo>
                    <a:pt x="32" y="458"/>
                  </a:lnTo>
                  <a:lnTo>
                    <a:pt x="50" y="406"/>
                  </a:lnTo>
                  <a:lnTo>
                    <a:pt x="74" y="356"/>
                  </a:lnTo>
                  <a:lnTo>
                    <a:pt x="100" y="308"/>
                  </a:lnTo>
                  <a:lnTo>
                    <a:pt x="131" y="261"/>
                  </a:lnTo>
                  <a:lnTo>
                    <a:pt x="177" y="200"/>
                  </a:lnTo>
                  <a:lnTo>
                    <a:pt x="200" y="173"/>
                  </a:lnTo>
                  <a:lnTo>
                    <a:pt x="224" y="147"/>
                  </a:lnTo>
                  <a:lnTo>
                    <a:pt x="250" y="124"/>
                  </a:lnTo>
                  <a:lnTo>
                    <a:pt x="275" y="102"/>
                  </a:lnTo>
                  <a:lnTo>
                    <a:pt x="302" y="84"/>
                  </a:lnTo>
                  <a:lnTo>
                    <a:pt x="328" y="66"/>
                  </a:lnTo>
                  <a:lnTo>
                    <a:pt x="356" y="50"/>
                  </a:lnTo>
                  <a:lnTo>
                    <a:pt x="384" y="37"/>
                  </a:lnTo>
                  <a:lnTo>
                    <a:pt x="412" y="26"/>
                  </a:lnTo>
                  <a:lnTo>
                    <a:pt x="442" y="17"/>
                  </a:lnTo>
                  <a:lnTo>
                    <a:pt x="473" y="10"/>
                  </a:lnTo>
                  <a:lnTo>
                    <a:pt x="503" y="4"/>
                  </a:lnTo>
                  <a:lnTo>
                    <a:pt x="534" y="1"/>
                  </a:lnTo>
                  <a:close/>
                  <a:moveTo>
                    <a:pt x="473" y="126"/>
                  </a:moveTo>
                  <a:lnTo>
                    <a:pt x="463" y="126"/>
                  </a:lnTo>
                  <a:lnTo>
                    <a:pt x="453" y="128"/>
                  </a:lnTo>
                  <a:lnTo>
                    <a:pt x="443" y="130"/>
                  </a:lnTo>
                  <a:lnTo>
                    <a:pt x="432" y="133"/>
                  </a:lnTo>
                  <a:lnTo>
                    <a:pt x="423" y="138"/>
                  </a:lnTo>
                  <a:lnTo>
                    <a:pt x="412" y="144"/>
                  </a:lnTo>
                  <a:lnTo>
                    <a:pt x="403" y="149"/>
                  </a:lnTo>
                  <a:lnTo>
                    <a:pt x="392" y="156"/>
                  </a:lnTo>
                  <a:lnTo>
                    <a:pt x="383" y="165"/>
                  </a:lnTo>
                  <a:lnTo>
                    <a:pt x="372" y="174"/>
                  </a:lnTo>
                  <a:lnTo>
                    <a:pt x="352" y="195"/>
                  </a:lnTo>
                  <a:lnTo>
                    <a:pt x="331" y="220"/>
                  </a:lnTo>
                  <a:lnTo>
                    <a:pt x="310" y="249"/>
                  </a:lnTo>
                  <a:lnTo>
                    <a:pt x="291" y="281"/>
                  </a:lnTo>
                  <a:lnTo>
                    <a:pt x="274" y="316"/>
                  </a:lnTo>
                  <a:lnTo>
                    <a:pt x="261" y="355"/>
                  </a:lnTo>
                  <a:lnTo>
                    <a:pt x="249" y="398"/>
                  </a:lnTo>
                  <a:lnTo>
                    <a:pt x="240" y="442"/>
                  </a:lnTo>
                  <a:lnTo>
                    <a:pt x="234" y="490"/>
                  </a:lnTo>
                  <a:lnTo>
                    <a:pt x="230" y="542"/>
                  </a:lnTo>
                  <a:lnTo>
                    <a:pt x="229" y="596"/>
                  </a:lnTo>
                  <a:lnTo>
                    <a:pt x="230" y="629"/>
                  </a:lnTo>
                  <a:lnTo>
                    <a:pt x="232" y="660"/>
                  </a:lnTo>
                  <a:lnTo>
                    <a:pt x="236" y="689"/>
                  </a:lnTo>
                  <a:lnTo>
                    <a:pt x="241" y="716"/>
                  </a:lnTo>
                  <a:lnTo>
                    <a:pt x="249" y="741"/>
                  </a:lnTo>
                  <a:lnTo>
                    <a:pt x="257" y="764"/>
                  </a:lnTo>
                  <a:lnTo>
                    <a:pt x="267" y="786"/>
                  </a:lnTo>
                  <a:lnTo>
                    <a:pt x="279" y="805"/>
                  </a:lnTo>
                  <a:lnTo>
                    <a:pt x="287" y="817"/>
                  </a:lnTo>
                  <a:lnTo>
                    <a:pt x="291" y="822"/>
                  </a:lnTo>
                  <a:lnTo>
                    <a:pt x="297" y="826"/>
                  </a:lnTo>
                  <a:lnTo>
                    <a:pt x="301" y="831"/>
                  </a:lnTo>
                  <a:lnTo>
                    <a:pt x="306" y="834"/>
                  </a:lnTo>
                  <a:lnTo>
                    <a:pt x="312" y="839"/>
                  </a:lnTo>
                  <a:lnTo>
                    <a:pt x="317" y="842"/>
                  </a:lnTo>
                  <a:lnTo>
                    <a:pt x="322" y="845"/>
                  </a:lnTo>
                  <a:lnTo>
                    <a:pt x="327" y="847"/>
                  </a:lnTo>
                  <a:lnTo>
                    <a:pt x="334" y="849"/>
                  </a:lnTo>
                  <a:lnTo>
                    <a:pt x="339" y="851"/>
                  </a:lnTo>
                  <a:lnTo>
                    <a:pt x="345" y="852"/>
                  </a:lnTo>
                  <a:lnTo>
                    <a:pt x="352" y="853"/>
                  </a:lnTo>
                  <a:lnTo>
                    <a:pt x="358" y="854"/>
                  </a:lnTo>
                  <a:lnTo>
                    <a:pt x="365" y="854"/>
                  </a:lnTo>
                  <a:lnTo>
                    <a:pt x="374" y="854"/>
                  </a:lnTo>
                  <a:lnTo>
                    <a:pt x="385" y="852"/>
                  </a:lnTo>
                  <a:lnTo>
                    <a:pt x="394" y="850"/>
                  </a:lnTo>
                  <a:lnTo>
                    <a:pt x="405" y="847"/>
                  </a:lnTo>
                  <a:lnTo>
                    <a:pt x="414" y="843"/>
                  </a:lnTo>
                  <a:lnTo>
                    <a:pt x="425" y="839"/>
                  </a:lnTo>
                  <a:lnTo>
                    <a:pt x="435" y="832"/>
                  </a:lnTo>
                  <a:lnTo>
                    <a:pt x="445" y="826"/>
                  </a:lnTo>
                  <a:lnTo>
                    <a:pt x="455" y="819"/>
                  </a:lnTo>
                  <a:lnTo>
                    <a:pt x="465" y="811"/>
                  </a:lnTo>
                  <a:lnTo>
                    <a:pt x="486" y="791"/>
                  </a:lnTo>
                  <a:lnTo>
                    <a:pt x="506" y="768"/>
                  </a:lnTo>
                  <a:lnTo>
                    <a:pt x="526" y="742"/>
                  </a:lnTo>
                  <a:lnTo>
                    <a:pt x="545" y="709"/>
                  </a:lnTo>
                  <a:lnTo>
                    <a:pt x="561" y="672"/>
                  </a:lnTo>
                  <a:lnTo>
                    <a:pt x="575" y="634"/>
                  </a:lnTo>
                  <a:lnTo>
                    <a:pt x="586" y="593"/>
                  </a:lnTo>
                  <a:lnTo>
                    <a:pt x="595" y="549"/>
                  </a:lnTo>
                  <a:lnTo>
                    <a:pt x="601" y="504"/>
                  </a:lnTo>
                  <a:lnTo>
                    <a:pt x="605" y="455"/>
                  </a:lnTo>
                  <a:lnTo>
                    <a:pt x="607" y="404"/>
                  </a:lnTo>
                  <a:lnTo>
                    <a:pt x="605" y="366"/>
                  </a:lnTo>
                  <a:lnTo>
                    <a:pt x="604" y="332"/>
                  </a:lnTo>
                  <a:lnTo>
                    <a:pt x="601" y="301"/>
                  </a:lnTo>
                  <a:lnTo>
                    <a:pt x="597" y="273"/>
                  </a:lnTo>
                  <a:lnTo>
                    <a:pt x="592" y="247"/>
                  </a:lnTo>
                  <a:lnTo>
                    <a:pt x="584" y="224"/>
                  </a:lnTo>
                  <a:lnTo>
                    <a:pt x="581" y="214"/>
                  </a:lnTo>
                  <a:lnTo>
                    <a:pt x="577" y="204"/>
                  </a:lnTo>
                  <a:lnTo>
                    <a:pt x="573" y="196"/>
                  </a:lnTo>
                  <a:lnTo>
                    <a:pt x="567" y="188"/>
                  </a:lnTo>
                  <a:lnTo>
                    <a:pt x="557" y="173"/>
                  </a:lnTo>
                  <a:lnTo>
                    <a:pt x="546" y="160"/>
                  </a:lnTo>
                  <a:lnTo>
                    <a:pt x="541" y="155"/>
                  </a:lnTo>
                  <a:lnTo>
                    <a:pt x="535" y="150"/>
                  </a:lnTo>
                  <a:lnTo>
                    <a:pt x="529" y="146"/>
                  </a:lnTo>
                  <a:lnTo>
                    <a:pt x="524" y="142"/>
                  </a:lnTo>
                  <a:lnTo>
                    <a:pt x="517" y="138"/>
                  </a:lnTo>
                  <a:lnTo>
                    <a:pt x="512" y="134"/>
                  </a:lnTo>
                  <a:lnTo>
                    <a:pt x="506" y="132"/>
                  </a:lnTo>
                  <a:lnTo>
                    <a:pt x="499" y="130"/>
                  </a:lnTo>
                  <a:lnTo>
                    <a:pt x="493" y="128"/>
                  </a:lnTo>
                  <a:lnTo>
                    <a:pt x="487" y="127"/>
                  </a:lnTo>
                  <a:lnTo>
                    <a:pt x="479" y="12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94000" y="1117440"/>
              <a:ext cx="442800" cy="573120"/>
            </a:xfrm>
            <a:custGeom>
              <a:avLst/>
              <a:gdLst/>
              <a:ahLst/>
              <a:rect l="l" t="t" r="r" b="b"/>
              <a:pathLst>
                <a:path w="1230" h="1593">
                  <a:moveTo>
                    <a:pt x="310" y="803"/>
                  </a:moveTo>
                  <a:lnTo>
                    <a:pt x="345" y="759"/>
                  </a:lnTo>
                  <a:lnTo>
                    <a:pt x="381" y="721"/>
                  </a:lnTo>
                  <a:lnTo>
                    <a:pt x="399" y="705"/>
                  </a:lnTo>
                  <a:lnTo>
                    <a:pt x="417" y="689"/>
                  </a:lnTo>
                  <a:lnTo>
                    <a:pt x="437" y="676"/>
                  </a:lnTo>
                  <a:lnTo>
                    <a:pt x="456" y="663"/>
                  </a:lnTo>
                  <a:lnTo>
                    <a:pt x="474" y="653"/>
                  </a:lnTo>
                  <a:lnTo>
                    <a:pt x="494" y="643"/>
                  </a:lnTo>
                  <a:lnTo>
                    <a:pt x="513" y="635"/>
                  </a:lnTo>
                  <a:lnTo>
                    <a:pt x="532" y="629"/>
                  </a:lnTo>
                  <a:lnTo>
                    <a:pt x="552" y="624"/>
                  </a:lnTo>
                  <a:lnTo>
                    <a:pt x="572" y="621"/>
                  </a:lnTo>
                  <a:lnTo>
                    <a:pt x="593" y="619"/>
                  </a:lnTo>
                  <a:lnTo>
                    <a:pt x="613" y="617"/>
                  </a:lnTo>
                  <a:lnTo>
                    <a:pt x="624" y="617"/>
                  </a:lnTo>
                  <a:lnTo>
                    <a:pt x="637" y="619"/>
                  </a:lnTo>
                  <a:lnTo>
                    <a:pt x="648" y="621"/>
                  </a:lnTo>
                  <a:lnTo>
                    <a:pt x="659" y="623"/>
                  </a:lnTo>
                  <a:lnTo>
                    <a:pt x="669" y="625"/>
                  </a:lnTo>
                  <a:lnTo>
                    <a:pt x="680" y="628"/>
                  </a:lnTo>
                  <a:lnTo>
                    <a:pt x="689" y="632"/>
                  </a:lnTo>
                  <a:lnTo>
                    <a:pt x="699" y="636"/>
                  </a:lnTo>
                  <a:lnTo>
                    <a:pt x="707" y="641"/>
                  </a:lnTo>
                  <a:lnTo>
                    <a:pt x="717" y="647"/>
                  </a:lnTo>
                  <a:lnTo>
                    <a:pt x="724" y="653"/>
                  </a:lnTo>
                  <a:lnTo>
                    <a:pt x="733" y="660"/>
                  </a:lnTo>
                  <a:lnTo>
                    <a:pt x="739" y="667"/>
                  </a:lnTo>
                  <a:lnTo>
                    <a:pt x="746" y="675"/>
                  </a:lnTo>
                  <a:lnTo>
                    <a:pt x="753" y="683"/>
                  </a:lnTo>
                  <a:lnTo>
                    <a:pt x="759" y="692"/>
                  </a:lnTo>
                  <a:lnTo>
                    <a:pt x="771" y="712"/>
                  </a:lnTo>
                  <a:lnTo>
                    <a:pt x="780" y="733"/>
                  </a:lnTo>
                  <a:lnTo>
                    <a:pt x="788" y="755"/>
                  </a:lnTo>
                  <a:lnTo>
                    <a:pt x="795" y="778"/>
                  </a:lnTo>
                  <a:lnTo>
                    <a:pt x="801" y="802"/>
                  </a:lnTo>
                  <a:lnTo>
                    <a:pt x="804" y="828"/>
                  </a:lnTo>
                  <a:lnTo>
                    <a:pt x="806" y="854"/>
                  </a:lnTo>
                  <a:lnTo>
                    <a:pt x="807" y="882"/>
                  </a:lnTo>
                  <a:lnTo>
                    <a:pt x="804" y="946"/>
                  </a:lnTo>
                  <a:lnTo>
                    <a:pt x="796" y="1011"/>
                  </a:lnTo>
                  <a:lnTo>
                    <a:pt x="782" y="1073"/>
                  </a:lnTo>
                  <a:lnTo>
                    <a:pt x="763" y="1134"/>
                  </a:lnTo>
                  <a:lnTo>
                    <a:pt x="739" y="1195"/>
                  </a:lnTo>
                  <a:lnTo>
                    <a:pt x="709" y="1254"/>
                  </a:lnTo>
                  <a:lnTo>
                    <a:pt x="674" y="1311"/>
                  </a:lnTo>
                  <a:lnTo>
                    <a:pt x="634" y="1368"/>
                  </a:lnTo>
                  <a:lnTo>
                    <a:pt x="590" y="1421"/>
                  </a:lnTo>
                  <a:lnTo>
                    <a:pt x="545" y="1466"/>
                  </a:lnTo>
                  <a:lnTo>
                    <a:pt x="521" y="1487"/>
                  </a:lnTo>
                  <a:lnTo>
                    <a:pt x="498" y="1505"/>
                  </a:lnTo>
                  <a:lnTo>
                    <a:pt x="474" y="1521"/>
                  </a:lnTo>
                  <a:lnTo>
                    <a:pt x="450" y="1537"/>
                  </a:lnTo>
                  <a:lnTo>
                    <a:pt x="426" y="1549"/>
                  </a:lnTo>
                  <a:lnTo>
                    <a:pt x="400" y="1561"/>
                  </a:lnTo>
                  <a:lnTo>
                    <a:pt x="376" y="1570"/>
                  </a:lnTo>
                  <a:lnTo>
                    <a:pt x="351" y="1578"/>
                  </a:lnTo>
                  <a:lnTo>
                    <a:pt x="325" y="1584"/>
                  </a:lnTo>
                  <a:lnTo>
                    <a:pt x="299" y="1589"/>
                  </a:lnTo>
                  <a:lnTo>
                    <a:pt x="272" y="1591"/>
                  </a:lnTo>
                  <a:lnTo>
                    <a:pt x="246" y="1592"/>
                  </a:lnTo>
                  <a:lnTo>
                    <a:pt x="217" y="1591"/>
                  </a:lnTo>
                  <a:lnTo>
                    <a:pt x="190" y="1588"/>
                  </a:lnTo>
                  <a:lnTo>
                    <a:pt x="166" y="1583"/>
                  </a:lnTo>
                  <a:lnTo>
                    <a:pt x="153" y="1580"/>
                  </a:lnTo>
                  <a:lnTo>
                    <a:pt x="143" y="1575"/>
                  </a:lnTo>
                  <a:lnTo>
                    <a:pt x="131" y="1571"/>
                  </a:lnTo>
                  <a:lnTo>
                    <a:pt x="120" y="1566"/>
                  </a:lnTo>
                  <a:lnTo>
                    <a:pt x="110" y="1561"/>
                  </a:lnTo>
                  <a:lnTo>
                    <a:pt x="100" y="1555"/>
                  </a:lnTo>
                  <a:lnTo>
                    <a:pt x="91" y="1548"/>
                  </a:lnTo>
                  <a:lnTo>
                    <a:pt x="82" y="1541"/>
                  </a:lnTo>
                  <a:lnTo>
                    <a:pt x="74" y="1534"/>
                  </a:lnTo>
                  <a:lnTo>
                    <a:pt x="65" y="1525"/>
                  </a:lnTo>
                  <a:lnTo>
                    <a:pt x="50" y="1509"/>
                  </a:lnTo>
                  <a:lnTo>
                    <a:pt x="43" y="1499"/>
                  </a:lnTo>
                  <a:lnTo>
                    <a:pt x="36" y="1490"/>
                  </a:lnTo>
                  <a:lnTo>
                    <a:pt x="31" y="1481"/>
                  </a:lnTo>
                  <a:lnTo>
                    <a:pt x="26" y="1471"/>
                  </a:lnTo>
                  <a:lnTo>
                    <a:pt x="21" y="1462"/>
                  </a:lnTo>
                  <a:lnTo>
                    <a:pt x="16" y="1452"/>
                  </a:lnTo>
                  <a:lnTo>
                    <a:pt x="9" y="1431"/>
                  </a:lnTo>
                  <a:lnTo>
                    <a:pt x="5" y="1409"/>
                  </a:lnTo>
                  <a:lnTo>
                    <a:pt x="1" y="1386"/>
                  </a:lnTo>
                  <a:lnTo>
                    <a:pt x="0" y="1362"/>
                  </a:lnTo>
                  <a:lnTo>
                    <a:pt x="0" y="1342"/>
                  </a:lnTo>
                  <a:lnTo>
                    <a:pt x="2" y="1321"/>
                  </a:lnTo>
                  <a:lnTo>
                    <a:pt x="8" y="1272"/>
                  </a:lnTo>
                  <a:lnTo>
                    <a:pt x="17" y="1216"/>
                  </a:lnTo>
                  <a:lnTo>
                    <a:pt x="31" y="1152"/>
                  </a:lnTo>
                  <a:lnTo>
                    <a:pt x="161" y="583"/>
                  </a:lnTo>
                  <a:lnTo>
                    <a:pt x="182" y="501"/>
                  </a:lnTo>
                  <a:lnTo>
                    <a:pt x="205" y="425"/>
                  </a:lnTo>
                  <a:lnTo>
                    <a:pt x="232" y="356"/>
                  </a:lnTo>
                  <a:lnTo>
                    <a:pt x="260" y="295"/>
                  </a:lnTo>
                  <a:lnTo>
                    <a:pt x="292" y="241"/>
                  </a:lnTo>
                  <a:lnTo>
                    <a:pt x="309" y="217"/>
                  </a:lnTo>
                  <a:lnTo>
                    <a:pt x="326" y="194"/>
                  </a:lnTo>
                  <a:lnTo>
                    <a:pt x="344" y="173"/>
                  </a:lnTo>
                  <a:lnTo>
                    <a:pt x="363" y="155"/>
                  </a:lnTo>
                  <a:lnTo>
                    <a:pt x="383" y="138"/>
                  </a:lnTo>
                  <a:lnTo>
                    <a:pt x="404" y="122"/>
                  </a:lnTo>
                  <a:lnTo>
                    <a:pt x="445" y="95"/>
                  </a:lnTo>
                  <a:lnTo>
                    <a:pt x="484" y="71"/>
                  </a:lnTo>
                  <a:lnTo>
                    <a:pt x="524" y="52"/>
                  </a:lnTo>
                  <a:lnTo>
                    <a:pt x="562" y="36"/>
                  </a:lnTo>
                  <a:lnTo>
                    <a:pt x="599" y="24"/>
                  </a:lnTo>
                  <a:lnTo>
                    <a:pt x="635" y="14"/>
                  </a:lnTo>
                  <a:lnTo>
                    <a:pt x="670" y="9"/>
                  </a:lnTo>
                  <a:lnTo>
                    <a:pt x="687" y="7"/>
                  </a:lnTo>
                  <a:lnTo>
                    <a:pt x="704" y="7"/>
                  </a:lnTo>
                  <a:lnTo>
                    <a:pt x="714" y="7"/>
                  </a:lnTo>
                  <a:lnTo>
                    <a:pt x="722" y="8"/>
                  </a:lnTo>
                  <a:lnTo>
                    <a:pt x="732" y="9"/>
                  </a:lnTo>
                  <a:lnTo>
                    <a:pt x="741" y="10"/>
                  </a:lnTo>
                  <a:lnTo>
                    <a:pt x="750" y="11"/>
                  </a:lnTo>
                  <a:lnTo>
                    <a:pt x="759" y="13"/>
                  </a:lnTo>
                  <a:lnTo>
                    <a:pt x="768" y="16"/>
                  </a:lnTo>
                  <a:lnTo>
                    <a:pt x="777" y="18"/>
                  </a:lnTo>
                  <a:lnTo>
                    <a:pt x="975" y="48"/>
                  </a:lnTo>
                  <a:lnTo>
                    <a:pt x="1036" y="55"/>
                  </a:lnTo>
                  <a:lnTo>
                    <a:pt x="1057" y="56"/>
                  </a:lnTo>
                  <a:lnTo>
                    <a:pt x="1073" y="57"/>
                  </a:lnTo>
                  <a:lnTo>
                    <a:pt x="1078" y="57"/>
                  </a:lnTo>
                  <a:lnTo>
                    <a:pt x="1082" y="56"/>
                  </a:lnTo>
                  <a:lnTo>
                    <a:pt x="1086" y="55"/>
                  </a:lnTo>
                  <a:lnTo>
                    <a:pt x="1091" y="54"/>
                  </a:lnTo>
                  <a:lnTo>
                    <a:pt x="1097" y="52"/>
                  </a:lnTo>
                  <a:lnTo>
                    <a:pt x="1102" y="49"/>
                  </a:lnTo>
                  <a:lnTo>
                    <a:pt x="1114" y="42"/>
                  </a:lnTo>
                  <a:lnTo>
                    <a:pt x="1126" y="35"/>
                  </a:lnTo>
                  <a:lnTo>
                    <a:pt x="1140" y="25"/>
                  </a:lnTo>
                  <a:lnTo>
                    <a:pt x="1155" y="13"/>
                  </a:lnTo>
                  <a:lnTo>
                    <a:pt x="1171" y="0"/>
                  </a:lnTo>
                  <a:lnTo>
                    <a:pt x="1229" y="40"/>
                  </a:lnTo>
                  <a:lnTo>
                    <a:pt x="1211" y="71"/>
                  </a:lnTo>
                  <a:lnTo>
                    <a:pt x="1193" y="101"/>
                  </a:lnTo>
                  <a:lnTo>
                    <a:pt x="1176" y="126"/>
                  </a:lnTo>
                  <a:lnTo>
                    <a:pt x="1160" y="147"/>
                  </a:lnTo>
                  <a:lnTo>
                    <a:pt x="1143" y="167"/>
                  </a:lnTo>
                  <a:lnTo>
                    <a:pt x="1128" y="183"/>
                  </a:lnTo>
                  <a:lnTo>
                    <a:pt x="1120" y="189"/>
                  </a:lnTo>
                  <a:lnTo>
                    <a:pt x="1113" y="195"/>
                  </a:lnTo>
                  <a:lnTo>
                    <a:pt x="1105" y="200"/>
                  </a:lnTo>
                  <a:lnTo>
                    <a:pt x="1098" y="205"/>
                  </a:lnTo>
                  <a:lnTo>
                    <a:pt x="1083" y="212"/>
                  </a:lnTo>
                  <a:lnTo>
                    <a:pt x="1067" y="218"/>
                  </a:lnTo>
                  <a:lnTo>
                    <a:pt x="1051" y="223"/>
                  </a:lnTo>
                  <a:lnTo>
                    <a:pt x="1035" y="229"/>
                  </a:lnTo>
                  <a:lnTo>
                    <a:pt x="1018" y="232"/>
                  </a:lnTo>
                  <a:lnTo>
                    <a:pt x="1000" y="234"/>
                  </a:lnTo>
                  <a:lnTo>
                    <a:pt x="982" y="236"/>
                  </a:lnTo>
                  <a:lnTo>
                    <a:pt x="964" y="236"/>
                  </a:lnTo>
                  <a:lnTo>
                    <a:pt x="940" y="235"/>
                  </a:lnTo>
                  <a:lnTo>
                    <a:pt x="912" y="234"/>
                  </a:lnTo>
                  <a:lnTo>
                    <a:pt x="844" y="225"/>
                  </a:lnTo>
                  <a:lnTo>
                    <a:pt x="761" y="213"/>
                  </a:lnTo>
                  <a:lnTo>
                    <a:pt x="663" y="194"/>
                  </a:lnTo>
                  <a:lnTo>
                    <a:pt x="579" y="184"/>
                  </a:lnTo>
                  <a:lnTo>
                    <a:pt x="552" y="182"/>
                  </a:lnTo>
                  <a:lnTo>
                    <a:pt x="542" y="181"/>
                  </a:lnTo>
                  <a:lnTo>
                    <a:pt x="534" y="181"/>
                  </a:lnTo>
                  <a:lnTo>
                    <a:pt x="529" y="181"/>
                  </a:lnTo>
                  <a:lnTo>
                    <a:pt x="525" y="182"/>
                  </a:lnTo>
                  <a:lnTo>
                    <a:pt x="519" y="183"/>
                  </a:lnTo>
                  <a:lnTo>
                    <a:pt x="515" y="184"/>
                  </a:lnTo>
                  <a:lnTo>
                    <a:pt x="510" y="185"/>
                  </a:lnTo>
                  <a:lnTo>
                    <a:pt x="506" y="187"/>
                  </a:lnTo>
                  <a:lnTo>
                    <a:pt x="501" y="189"/>
                  </a:lnTo>
                  <a:lnTo>
                    <a:pt x="497" y="192"/>
                  </a:lnTo>
                  <a:lnTo>
                    <a:pt x="493" y="195"/>
                  </a:lnTo>
                  <a:lnTo>
                    <a:pt x="490" y="198"/>
                  </a:lnTo>
                  <a:lnTo>
                    <a:pt x="485" y="203"/>
                  </a:lnTo>
                  <a:lnTo>
                    <a:pt x="481" y="206"/>
                  </a:lnTo>
                  <a:lnTo>
                    <a:pt x="475" y="215"/>
                  </a:lnTo>
                  <a:lnTo>
                    <a:pt x="467" y="225"/>
                  </a:lnTo>
                  <a:lnTo>
                    <a:pt x="461" y="239"/>
                  </a:lnTo>
                  <a:lnTo>
                    <a:pt x="454" y="257"/>
                  </a:lnTo>
                  <a:lnTo>
                    <a:pt x="446" y="278"/>
                  </a:lnTo>
                  <a:lnTo>
                    <a:pt x="438" y="304"/>
                  </a:lnTo>
                  <a:lnTo>
                    <a:pt x="420" y="370"/>
                  </a:lnTo>
                  <a:lnTo>
                    <a:pt x="399" y="452"/>
                  </a:lnTo>
                  <a:close/>
                  <a:moveTo>
                    <a:pt x="191" y="1365"/>
                  </a:moveTo>
                  <a:lnTo>
                    <a:pt x="191" y="1377"/>
                  </a:lnTo>
                  <a:lnTo>
                    <a:pt x="194" y="1388"/>
                  </a:lnTo>
                  <a:lnTo>
                    <a:pt x="196" y="1400"/>
                  </a:lnTo>
                  <a:lnTo>
                    <a:pt x="198" y="1405"/>
                  </a:lnTo>
                  <a:lnTo>
                    <a:pt x="200" y="1410"/>
                  </a:lnTo>
                  <a:lnTo>
                    <a:pt x="202" y="1414"/>
                  </a:lnTo>
                  <a:lnTo>
                    <a:pt x="204" y="1419"/>
                  </a:lnTo>
                  <a:lnTo>
                    <a:pt x="207" y="1425"/>
                  </a:lnTo>
                  <a:lnTo>
                    <a:pt x="209" y="1429"/>
                  </a:lnTo>
                  <a:lnTo>
                    <a:pt x="213" y="1433"/>
                  </a:lnTo>
                  <a:lnTo>
                    <a:pt x="217" y="1437"/>
                  </a:lnTo>
                  <a:lnTo>
                    <a:pt x="220" y="1441"/>
                  </a:lnTo>
                  <a:lnTo>
                    <a:pt x="224" y="1445"/>
                  </a:lnTo>
                  <a:lnTo>
                    <a:pt x="233" y="1453"/>
                  </a:lnTo>
                  <a:lnTo>
                    <a:pt x="240" y="1459"/>
                  </a:lnTo>
                  <a:lnTo>
                    <a:pt x="249" y="1465"/>
                  </a:lnTo>
                  <a:lnTo>
                    <a:pt x="257" y="1469"/>
                  </a:lnTo>
                  <a:lnTo>
                    <a:pt x="261" y="1471"/>
                  </a:lnTo>
                  <a:lnTo>
                    <a:pt x="267" y="1472"/>
                  </a:lnTo>
                  <a:lnTo>
                    <a:pt x="271" y="1474"/>
                  </a:lnTo>
                  <a:lnTo>
                    <a:pt x="275" y="1476"/>
                  </a:lnTo>
                  <a:lnTo>
                    <a:pt x="279" y="1477"/>
                  </a:lnTo>
                  <a:lnTo>
                    <a:pt x="284" y="1477"/>
                  </a:lnTo>
                  <a:lnTo>
                    <a:pt x="289" y="1478"/>
                  </a:lnTo>
                  <a:lnTo>
                    <a:pt x="293" y="1478"/>
                  </a:lnTo>
                  <a:lnTo>
                    <a:pt x="307" y="1477"/>
                  </a:lnTo>
                  <a:lnTo>
                    <a:pt x="322" y="1474"/>
                  </a:lnTo>
                  <a:lnTo>
                    <a:pt x="336" y="1471"/>
                  </a:lnTo>
                  <a:lnTo>
                    <a:pt x="350" y="1466"/>
                  </a:lnTo>
                  <a:lnTo>
                    <a:pt x="362" y="1459"/>
                  </a:lnTo>
                  <a:lnTo>
                    <a:pt x="376" y="1452"/>
                  </a:lnTo>
                  <a:lnTo>
                    <a:pt x="389" y="1442"/>
                  </a:lnTo>
                  <a:lnTo>
                    <a:pt x="402" y="1431"/>
                  </a:lnTo>
                  <a:lnTo>
                    <a:pt x="414" y="1418"/>
                  </a:lnTo>
                  <a:lnTo>
                    <a:pt x="427" y="1405"/>
                  </a:lnTo>
                  <a:lnTo>
                    <a:pt x="439" y="1389"/>
                  </a:lnTo>
                  <a:lnTo>
                    <a:pt x="451" y="1373"/>
                  </a:lnTo>
                  <a:lnTo>
                    <a:pt x="475" y="1334"/>
                  </a:lnTo>
                  <a:lnTo>
                    <a:pt x="497" y="1290"/>
                  </a:lnTo>
                  <a:lnTo>
                    <a:pt x="518" y="1244"/>
                  </a:lnTo>
                  <a:lnTo>
                    <a:pt x="536" y="1198"/>
                  </a:lnTo>
                  <a:lnTo>
                    <a:pt x="551" y="1152"/>
                  </a:lnTo>
                  <a:lnTo>
                    <a:pt x="564" y="1107"/>
                  </a:lnTo>
                  <a:lnTo>
                    <a:pt x="573" y="1064"/>
                  </a:lnTo>
                  <a:lnTo>
                    <a:pt x="581" y="1020"/>
                  </a:lnTo>
                  <a:lnTo>
                    <a:pt x="585" y="976"/>
                  </a:lnTo>
                  <a:lnTo>
                    <a:pt x="586" y="934"/>
                  </a:lnTo>
                  <a:lnTo>
                    <a:pt x="586" y="919"/>
                  </a:lnTo>
                  <a:lnTo>
                    <a:pt x="585" y="905"/>
                  </a:lnTo>
                  <a:lnTo>
                    <a:pt x="583" y="890"/>
                  </a:lnTo>
                  <a:lnTo>
                    <a:pt x="581" y="876"/>
                  </a:lnTo>
                  <a:lnTo>
                    <a:pt x="578" y="863"/>
                  </a:lnTo>
                  <a:lnTo>
                    <a:pt x="573" y="850"/>
                  </a:lnTo>
                  <a:lnTo>
                    <a:pt x="568" y="838"/>
                  </a:lnTo>
                  <a:lnTo>
                    <a:pt x="563" y="827"/>
                  </a:lnTo>
                  <a:lnTo>
                    <a:pt x="558" y="816"/>
                  </a:lnTo>
                  <a:lnTo>
                    <a:pt x="554" y="811"/>
                  </a:lnTo>
                  <a:lnTo>
                    <a:pt x="551" y="807"/>
                  </a:lnTo>
                  <a:lnTo>
                    <a:pt x="547" y="803"/>
                  </a:lnTo>
                  <a:lnTo>
                    <a:pt x="544" y="798"/>
                  </a:lnTo>
                  <a:lnTo>
                    <a:pt x="541" y="795"/>
                  </a:lnTo>
                  <a:lnTo>
                    <a:pt x="536" y="792"/>
                  </a:lnTo>
                  <a:lnTo>
                    <a:pt x="533" y="790"/>
                  </a:lnTo>
                  <a:lnTo>
                    <a:pt x="529" y="787"/>
                  </a:lnTo>
                  <a:lnTo>
                    <a:pt x="525" y="785"/>
                  </a:lnTo>
                  <a:lnTo>
                    <a:pt x="520" y="784"/>
                  </a:lnTo>
                  <a:lnTo>
                    <a:pt x="516" y="783"/>
                  </a:lnTo>
                  <a:lnTo>
                    <a:pt x="512" y="782"/>
                  </a:lnTo>
                  <a:lnTo>
                    <a:pt x="507" y="781"/>
                  </a:lnTo>
                  <a:lnTo>
                    <a:pt x="502" y="781"/>
                  </a:lnTo>
                  <a:lnTo>
                    <a:pt x="496" y="781"/>
                  </a:lnTo>
                  <a:lnTo>
                    <a:pt x="491" y="782"/>
                  </a:lnTo>
                  <a:lnTo>
                    <a:pt x="484" y="783"/>
                  </a:lnTo>
                  <a:lnTo>
                    <a:pt x="478" y="785"/>
                  </a:lnTo>
                  <a:lnTo>
                    <a:pt x="470" y="787"/>
                  </a:lnTo>
                  <a:lnTo>
                    <a:pt x="464" y="790"/>
                  </a:lnTo>
                  <a:lnTo>
                    <a:pt x="449" y="797"/>
                  </a:lnTo>
                  <a:lnTo>
                    <a:pt x="433" y="807"/>
                  </a:lnTo>
                  <a:lnTo>
                    <a:pt x="417" y="818"/>
                  </a:lnTo>
                  <a:lnTo>
                    <a:pt x="399" y="832"/>
                  </a:lnTo>
                  <a:lnTo>
                    <a:pt x="381" y="847"/>
                  </a:lnTo>
                  <a:lnTo>
                    <a:pt x="363" y="866"/>
                  </a:lnTo>
                  <a:lnTo>
                    <a:pt x="345" y="887"/>
                  </a:lnTo>
                  <a:lnTo>
                    <a:pt x="328" y="911"/>
                  </a:lnTo>
                  <a:lnTo>
                    <a:pt x="311" y="938"/>
                  </a:lnTo>
                  <a:lnTo>
                    <a:pt x="295" y="968"/>
                  </a:lnTo>
                  <a:lnTo>
                    <a:pt x="279" y="1000"/>
                  </a:lnTo>
                  <a:lnTo>
                    <a:pt x="265" y="1036"/>
                  </a:lnTo>
                  <a:lnTo>
                    <a:pt x="250" y="1074"/>
                  </a:lnTo>
                  <a:lnTo>
                    <a:pt x="236" y="1114"/>
                  </a:lnTo>
                  <a:lnTo>
                    <a:pt x="224" y="1152"/>
                  </a:lnTo>
                  <a:lnTo>
                    <a:pt x="214" y="1191"/>
                  </a:lnTo>
                  <a:lnTo>
                    <a:pt x="206" y="1227"/>
                  </a:lnTo>
                  <a:lnTo>
                    <a:pt x="200" y="1263"/>
                  </a:lnTo>
                  <a:lnTo>
                    <a:pt x="195" y="1298"/>
                  </a:lnTo>
                  <a:lnTo>
                    <a:pt x="192" y="1332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87400" y="1328760"/>
              <a:ext cx="384480" cy="363600"/>
            </a:xfrm>
            <a:custGeom>
              <a:avLst/>
              <a:gdLst/>
              <a:ahLst/>
              <a:rect l="l" t="t" r="r" b="b"/>
              <a:pathLst>
                <a:path w="1065" h="1010">
                  <a:moveTo>
                    <a:pt x="646" y="0"/>
                  </a:moveTo>
                  <a:lnTo>
                    <a:pt x="719" y="38"/>
                  </a:lnTo>
                  <a:lnTo>
                    <a:pt x="616" y="422"/>
                  </a:lnTo>
                  <a:lnTo>
                    <a:pt x="615" y="424"/>
                  </a:lnTo>
                  <a:lnTo>
                    <a:pt x="615" y="425"/>
                  </a:lnTo>
                  <a:lnTo>
                    <a:pt x="615" y="426"/>
                  </a:lnTo>
                  <a:lnTo>
                    <a:pt x="614" y="426"/>
                  </a:lnTo>
                  <a:lnTo>
                    <a:pt x="614" y="426"/>
                  </a:lnTo>
                  <a:lnTo>
                    <a:pt x="614" y="426"/>
                  </a:lnTo>
                  <a:lnTo>
                    <a:pt x="614" y="427"/>
                  </a:lnTo>
                  <a:lnTo>
                    <a:pt x="614" y="427"/>
                  </a:lnTo>
                  <a:lnTo>
                    <a:pt x="614" y="427"/>
                  </a:lnTo>
                  <a:lnTo>
                    <a:pt x="613" y="427"/>
                  </a:lnTo>
                  <a:lnTo>
                    <a:pt x="613" y="427"/>
                  </a:lnTo>
                  <a:lnTo>
                    <a:pt x="613" y="427"/>
                  </a:lnTo>
                  <a:lnTo>
                    <a:pt x="613" y="427"/>
                  </a:lnTo>
                  <a:lnTo>
                    <a:pt x="613" y="426"/>
                  </a:lnTo>
                  <a:lnTo>
                    <a:pt x="613" y="426"/>
                  </a:lnTo>
                  <a:lnTo>
                    <a:pt x="613" y="426"/>
                  </a:lnTo>
                  <a:lnTo>
                    <a:pt x="612" y="426"/>
                  </a:lnTo>
                  <a:lnTo>
                    <a:pt x="612" y="425"/>
                  </a:lnTo>
                  <a:lnTo>
                    <a:pt x="612" y="424"/>
                  </a:lnTo>
                  <a:lnTo>
                    <a:pt x="612" y="423"/>
                  </a:lnTo>
                  <a:lnTo>
                    <a:pt x="611" y="422"/>
                  </a:lnTo>
                  <a:lnTo>
                    <a:pt x="611" y="418"/>
                  </a:lnTo>
                  <a:lnTo>
                    <a:pt x="641" y="404"/>
                  </a:lnTo>
                  <a:lnTo>
                    <a:pt x="670" y="390"/>
                  </a:lnTo>
                  <a:lnTo>
                    <a:pt x="698" y="379"/>
                  </a:lnTo>
                  <a:lnTo>
                    <a:pt x="723" y="371"/>
                  </a:lnTo>
                  <a:lnTo>
                    <a:pt x="748" y="363"/>
                  </a:lnTo>
                  <a:lnTo>
                    <a:pt x="771" y="358"/>
                  </a:lnTo>
                  <a:lnTo>
                    <a:pt x="793" y="355"/>
                  </a:lnTo>
                  <a:lnTo>
                    <a:pt x="813" y="354"/>
                  </a:lnTo>
                  <a:lnTo>
                    <a:pt x="840" y="355"/>
                  </a:lnTo>
                  <a:lnTo>
                    <a:pt x="865" y="358"/>
                  </a:lnTo>
                  <a:lnTo>
                    <a:pt x="891" y="362"/>
                  </a:lnTo>
                  <a:lnTo>
                    <a:pt x="913" y="370"/>
                  </a:lnTo>
                  <a:lnTo>
                    <a:pt x="935" y="378"/>
                  </a:lnTo>
                  <a:lnTo>
                    <a:pt x="956" y="388"/>
                  </a:lnTo>
                  <a:lnTo>
                    <a:pt x="976" y="401"/>
                  </a:lnTo>
                  <a:lnTo>
                    <a:pt x="994" y="415"/>
                  </a:lnTo>
                  <a:lnTo>
                    <a:pt x="1002" y="424"/>
                  </a:lnTo>
                  <a:lnTo>
                    <a:pt x="1010" y="432"/>
                  </a:lnTo>
                  <a:lnTo>
                    <a:pt x="1017" y="440"/>
                  </a:lnTo>
                  <a:lnTo>
                    <a:pt x="1024" y="449"/>
                  </a:lnTo>
                  <a:lnTo>
                    <a:pt x="1031" y="458"/>
                  </a:lnTo>
                  <a:lnTo>
                    <a:pt x="1036" y="467"/>
                  </a:lnTo>
                  <a:lnTo>
                    <a:pt x="1041" y="478"/>
                  </a:lnTo>
                  <a:lnTo>
                    <a:pt x="1047" y="488"/>
                  </a:lnTo>
                  <a:lnTo>
                    <a:pt x="1050" y="499"/>
                  </a:lnTo>
                  <a:lnTo>
                    <a:pt x="1054" y="509"/>
                  </a:lnTo>
                  <a:lnTo>
                    <a:pt x="1057" y="520"/>
                  </a:lnTo>
                  <a:lnTo>
                    <a:pt x="1059" y="532"/>
                  </a:lnTo>
                  <a:lnTo>
                    <a:pt x="1063" y="556"/>
                  </a:lnTo>
                  <a:lnTo>
                    <a:pt x="1064" y="581"/>
                  </a:lnTo>
                  <a:lnTo>
                    <a:pt x="1063" y="603"/>
                  </a:lnTo>
                  <a:lnTo>
                    <a:pt x="1062" y="624"/>
                  </a:lnTo>
                  <a:lnTo>
                    <a:pt x="1058" y="645"/>
                  </a:lnTo>
                  <a:lnTo>
                    <a:pt x="1054" y="666"/>
                  </a:lnTo>
                  <a:lnTo>
                    <a:pt x="1048" y="686"/>
                  </a:lnTo>
                  <a:lnTo>
                    <a:pt x="1041" y="706"/>
                  </a:lnTo>
                  <a:lnTo>
                    <a:pt x="1033" y="725"/>
                  </a:lnTo>
                  <a:lnTo>
                    <a:pt x="1023" y="745"/>
                  </a:lnTo>
                  <a:lnTo>
                    <a:pt x="1013" y="764"/>
                  </a:lnTo>
                  <a:lnTo>
                    <a:pt x="1001" y="781"/>
                  </a:lnTo>
                  <a:lnTo>
                    <a:pt x="988" y="799"/>
                  </a:lnTo>
                  <a:lnTo>
                    <a:pt x="973" y="817"/>
                  </a:lnTo>
                  <a:lnTo>
                    <a:pt x="941" y="851"/>
                  </a:lnTo>
                  <a:lnTo>
                    <a:pt x="903" y="883"/>
                  </a:lnTo>
                  <a:lnTo>
                    <a:pt x="863" y="912"/>
                  </a:lnTo>
                  <a:lnTo>
                    <a:pt x="822" y="938"/>
                  </a:lnTo>
                  <a:lnTo>
                    <a:pt x="779" y="959"/>
                  </a:lnTo>
                  <a:lnTo>
                    <a:pt x="736" y="978"/>
                  </a:lnTo>
                  <a:lnTo>
                    <a:pt x="691" y="992"/>
                  </a:lnTo>
                  <a:lnTo>
                    <a:pt x="646" y="1001"/>
                  </a:lnTo>
                  <a:lnTo>
                    <a:pt x="599" y="1007"/>
                  </a:lnTo>
                  <a:lnTo>
                    <a:pt x="551" y="1009"/>
                  </a:lnTo>
                  <a:lnTo>
                    <a:pt x="495" y="1007"/>
                  </a:lnTo>
                  <a:lnTo>
                    <a:pt x="469" y="1004"/>
                  </a:lnTo>
                  <a:lnTo>
                    <a:pt x="446" y="999"/>
                  </a:lnTo>
                  <a:lnTo>
                    <a:pt x="424" y="994"/>
                  </a:lnTo>
                  <a:lnTo>
                    <a:pt x="405" y="987"/>
                  </a:lnTo>
                  <a:lnTo>
                    <a:pt x="387" y="979"/>
                  </a:lnTo>
                  <a:lnTo>
                    <a:pt x="371" y="970"/>
                  </a:lnTo>
                  <a:lnTo>
                    <a:pt x="357" y="959"/>
                  </a:lnTo>
                  <a:lnTo>
                    <a:pt x="344" y="947"/>
                  </a:lnTo>
                  <a:lnTo>
                    <a:pt x="334" y="934"/>
                  </a:lnTo>
                  <a:lnTo>
                    <a:pt x="325" y="920"/>
                  </a:lnTo>
                  <a:lnTo>
                    <a:pt x="319" y="905"/>
                  </a:lnTo>
                  <a:lnTo>
                    <a:pt x="314" y="889"/>
                  </a:lnTo>
                  <a:lnTo>
                    <a:pt x="311" y="870"/>
                  </a:lnTo>
                  <a:lnTo>
                    <a:pt x="310" y="851"/>
                  </a:lnTo>
                  <a:lnTo>
                    <a:pt x="311" y="840"/>
                  </a:lnTo>
                  <a:lnTo>
                    <a:pt x="313" y="823"/>
                  </a:lnTo>
                  <a:lnTo>
                    <a:pt x="322" y="778"/>
                  </a:lnTo>
                  <a:lnTo>
                    <a:pt x="336" y="718"/>
                  </a:lnTo>
                  <a:lnTo>
                    <a:pt x="355" y="640"/>
                  </a:lnTo>
                  <a:lnTo>
                    <a:pt x="474" y="192"/>
                  </a:lnTo>
                  <a:lnTo>
                    <a:pt x="470" y="194"/>
                  </a:lnTo>
                  <a:lnTo>
                    <a:pt x="466" y="196"/>
                  </a:lnTo>
                  <a:lnTo>
                    <a:pt x="462" y="198"/>
                  </a:lnTo>
                  <a:lnTo>
                    <a:pt x="457" y="199"/>
                  </a:lnTo>
                  <a:lnTo>
                    <a:pt x="447" y="202"/>
                  </a:lnTo>
                  <a:lnTo>
                    <a:pt x="434" y="205"/>
                  </a:lnTo>
                  <a:lnTo>
                    <a:pt x="422" y="207"/>
                  </a:lnTo>
                  <a:lnTo>
                    <a:pt x="406" y="208"/>
                  </a:lnTo>
                  <a:lnTo>
                    <a:pt x="390" y="209"/>
                  </a:lnTo>
                  <a:lnTo>
                    <a:pt x="372" y="209"/>
                  </a:lnTo>
                  <a:lnTo>
                    <a:pt x="345" y="209"/>
                  </a:lnTo>
                  <a:lnTo>
                    <a:pt x="318" y="208"/>
                  </a:lnTo>
                  <a:lnTo>
                    <a:pt x="289" y="206"/>
                  </a:lnTo>
                  <a:lnTo>
                    <a:pt x="259" y="203"/>
                  </a:lnTo>
                  <a:lnTo>
                    <a:pt x="196" y="197"/>
                  </a:lnTo>
                  <a:lnTo>
                    <a:pt x="173" y="196"/>
                  </a:lnTo>
                  <a:lnTo>
                    <a:pt x="158" y="195"/>
                  </a:lnTo>
                  <a:lnTo>
                    <a:pt x="153" y="195"/>
                  </a:lnTo>
                  <a:lnTo>
                    <a:pt x="148" y="195"/>
                  </a:lnTo>
                  <a:lnTo>
                    <a:pt x="144" y="196"/>
                  </a:lnTo>
                  <a:lnTo>
                    <a:pt x="139" y="197"/>
                  </a:lnTo>
                  <a:lnTo>
                    <a:pt x="136" y="198"/>
                  </a:lnTo>
                  <a:lnTo>
                    <a:pt x="132" y="199"/>
                  </a:lnTo>
                  <a:lnTo>
                    <a:pt x="129" y="201"/>
                  </a:lnTo>
                  <a:lnTo>
                    <a:pt x="126" y="203"/>
                  </a:lnTo>
                  <a:lnTo>
                    <a:pt x="123" y="205"/>
                  </a:lnTo>
                  <a:lnTo>
                    <a:pt x="121" y="207"/>
                  </a:lnTo>
                  <a:lnTo>
                    <a:pt x="119" y="210"/>
                  </a:lnTo>
                  <a:lnTo>
                    <a:pt x="118" y="213"/>
                  </a:lnTo>
                  <a:lnTo>
                    <a:pt x="116" y="216"/>
                  </a:lnTo>
                  <a:lnTo>
                    <a:pt x="116" y="220"/>
                  </a:lnTo>
                  <a:lnTo>
                    <a:pt x="115" y="223"/>
                  </a:lnTo>
                  <a:lnTo>
                    <a:pt x="115" y="227"/>
                  </a:lnTo>
                  <a:lnTo>
                    <a:pt x="115" y="229"/>
                  </a:lnTo>
                  <a:lnTo>
                    <a:pt x="115" y="231"/>
                  </a:lnTo>
                  <a:lnTo>
                    <a:pt x="116" y="232"/>
                  </a:lnTo>
                  <a:lnTo>
                    <a:pt x="116" y="234"/>
                  </a:lnTo>
                  <a:lnTo>
                    <a:pt x="117" y="235"/>
                  </a:lnTo>
                  <a:lnTo>
                    <a:pt x="118" y="237"/>
                  </a:lnTo>
                  <a:lnTo>
                    <a:pt x="118" y="239"/>
                  </a:lnTo>
                  <a:lnTo>
                    <a:pt x="120" y="240"/>
                  </a:lnTo>
                  <a:lnTo>
                    <a:pt x="121" y="241"/>
                  </a:lnTo>
                  <a:lnTo>
                    <a:pt x="122" y="242"/>
                  </a:lnTo>
                  <a:lnTo>
                    <a:pt x="124" y="243"/>
                  </a:lnTo>
                  <a:lnTo>
                    <a:pt x="126" y="243"/>
                  </a:lnTo>
                  <a:lnTo>
                    <a:pt x="128" y="244"/>
                  </a:lnTo>
                  <a:lnTo>
                    <a:pt x="130" y="244"/>
                  </a:lnTo>
                  <a:lnTo>
                    <a:pt x="132" y="245"/>
                  </a:lnTo>
                  <a:lnTo>
                    <a:pt x="134" y="245"/>
                  </a:lnTo>
                  <a:lnTo>
                    <a:pt x="143" y="246"/>
                  </a:lnTo>
                  <a:lnTo>
                    <a:pt x="150" y="248"/>
                  </a:lnTo>
                  <a:lnTo>
                    <a:pt x="157" y="250"/>
                  </a:lnTo>
                  <a:lnTo>
                    <a:pt x="165" y="252"/>
                  </a:lnTo>
                  <a:lnTo>
                    <a:pt x="171" y="254"/>
                  </a:lnTo>
                  <a:lnTo>
                    <a:pt x="176" y="257"/>
                  </a:lnTo>
                  <a:lnTo>
                    <a:pt x="182" y="261"/>
                  </a:lnTo>
                  <a:lnTo>
                    <a:pt x="187" y="266"/>
                  </a:lnTo>
                  <a:lnTo>
                    <a:pt x="190" y="270"/>
                  </a:lnTo>
                  <a:lnTo>
                    <a:pt x="195" y="274"/>
                  </a:lnTo>
                  <a:lnTo>
                    <a:pt x="198" y="279"/>
                  </a:lnTo>
                  <a:lnTo>
                    <a:pt x="200" y="284"/>
                  </a:lnTo>
                  <a:lnTo>
                    <a:pt x="202" y="291"/>
                  </a:lnTo>
                  <a:lnTo>
                    <a:pt x="203" y="297"/>
                  </a:lnTo>
                  <a:lnTo>
                    <a:pt x="204" y="303"/>
                  </a:lnTo>
                  <a:lnTo>
                    <a:pt x="204" y="310"/>
                  </a:lnTo>
                  <a:lnTo>
                    <a:pt x="204" y="313"/>
                  </a:lnTo>
                  <a:lnTo>
                    <a:pt x="204" y="318"/>
                  </a:lnTo>
                  <a:lnTo>
                    <a:pt x="203" y="321"/>
                  </a:lnTo>
                  <a:lnTo>
                    <a:pt x="203" y="324"/>
                  </a:lnTo>
                  <a:lnTo>
                    <a:pt x="202" y="327"/>
                  </a:lnTo>
                  <a:lnTo>
                    <a:pt x="201" y="330"/>
                  </a:lnTo>
                  <a:lnTo>
                    <a:pt x="200" y="333"/>
                  </a:lnTo>
                  <a:lnTo>
                    <a:pt x="199" y="336"/>
                  </a:lnTo>
                  <a:lnTo>
                    <a:pt x="197" y="339"/>
                  </a:lnTo>
                  <a:lnTo>
                    <a:pt x="196" y="341"/>
                  </a:lnTo>
                  <a:lnTo>
                    <a:pt x="193" y="345"/>
                  </a:lnTo>
                  <a:lnTo>
                    <a:pt x="191" y="348"/>
                  </a:lnTo>
                  <a:lnTo>
                    <a:pt x="187" y="353"/>
                  </a:lnTo>
                  <a:lnTo>
                    <a:pt x="182" y="358"/>
                  </a:lnTo>
                  <a:lnTo>
                    <a:pt x="176" y="363"/>
                  </a:lnTo>
                  <a:lnTo>
                    <a:pt x="170" y="367"/>
                  </a:lnTo>
                  <a:lnTo>
                    <a:pt x="164" y="372"/>
                  </a:lnTo>
                  <a:lnTo>
                    <a:pt x="161" y="373"/>
                  </a:lnTo>
                  <a:lnTo>
                    <a:pt x="157" y="375"/>
                  </a:lnTo>
                  <a:lnTo>
                    <a:pt x="154" y="376"/>
                  </a:lnTo>
                  <a:lnTo>
                    <a:pt x="150" y="377"/>
                  </a:lnTo>
                  <a:lnTo>
                    <a:pt x="147" y="378"/>
                  </a:lnTo>
                  <a:lnTo>
                    <a:pt x="144" y="379"/>
                  </a:lnTo>
                  <a:lnTo>
                    <a:pt x="136" y="380"/>
                  </a:lnTo>
                  <a:lnTo>
                    <a:pt x="129" y="380"/>
                  </a:lnTo>
                  <a:lnTo>
                    <a:pt x="122" y="380"/>
                  </a:lnTo>
                  <a:lnTo>
                    <a:pt x="117" y="379"/>
                  </a:lnTo>
                  <a:lnTo>
                    <a:pt x="111" y="378"/>
                  </a:lnTo>
                  <a:lnTo>
                    <a:pt x="104" y="377"/>
                  </a:lnTo>
                  <a:lnTo>
                    <a:pt x="99" y="376"/>
                  </a:lnTo>
                  <a:lnTo>
                    <a:pt x="93" y="374"/>
                  </a:lnTo>
                  <a:lnTo>
                    <a:pt x="87" y="371"/>
                  </a:lnTo>
                  <a:lnTo>
                    <a:pt x="82" y="369"/>
                  </a:lnTo>
                  <a:lnTo>
                    <a:pt x="77" y="365"/>
                  </a:lnTo>
                  <a:lnTo>
                    <a:pt x="71" y="362"/>
                  </a:lnTo>
                  <a:lnTo>
                    <a:pt x="66" y="358"/>
                  </a:lnTo>
                  <a:lnTo>
                    <a:pt x="61" y="354"/>
                  </a:lnTo>
                  <a:lnTo>
                    <a:pt x="50" y="345"/>
                  </a:lnTo>
                  <a:lnTo>
                    <a:pt x="41" y="334"/>
                  </a:lnTo>
                  <a:lnTo>
                    <a:pt x="31" y="323"/>
                  </a:lnTo>
                  <a:lnTo>
                    <a:pt x="24" y="310"/>
                  </a:lnTo>
                  <a:lnTo>
                    <a:pt x="16" y="298"/>
                  </a:lnTo>
                  <a:lnTo>
                    <a:pt x="11" y="284"/>
                  </a:lnTo>
                  <a:lnTo>
                    <a:pt x="6" y="270"/>
                  </a:lnTo>
                  <a:lnTo>
                    <a:pt x="2" y="255"/>
                  </a:lnTo>
                  <a:lnTo>
                    <a:pt x="1" y="240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1" y="202"/>
                  </a:lnTo>
                  <a:lnTo>
                    <a:pt x="4" y="192"/>
                  </a:lnTo>
                  <a:lnTo>
                    <a:pt x="5" y="181"/>
                  </a:lnTo>
                  <a:lnTo>
                    <a:pt x="8" y="172"/>
                  </a:lnTo>
                  <a:lnTo>
                    <a:pt x="11" y="162"/>
                  </a:lnTo>
                  <a:lnTo>
                    <a:pt x="15" y="152"/>
                  </a:lnTo>
                  <a:lnTo>
                    <a:pt x="19" y="144"/>
                  </a:lnTo>
                  <a:lnTo>
                    <a:pt x="24" y="135"/>
                  </a:lnTo>
                  <a:lnTo>
                    <a:pt x="30" y="126"/>
                  </a:lnTo>
                  <a:lnTo>
                    <a:pt x="35" y="118"/>
                  </a:lnTo>
                  <a:lnTo>
                    <a:pt x="43" y="110"/>
                  </a:lnTo>
                  <a:lnTo>
                    <a:pt x="49" y="101"/>
                  </a:lnTo>
                  <a:lnTo>
                    <a:pt x="58" y="94"/>
                  </a:lnTo>
                  <a:lnTo>
                    <a:pt x="75" y="79"/>
                  </a:lnTo>
                  <a:lnTo>
                    <a:pt x="94" y="66"/>
                  </a:lnTo>
                  <a:lnTo>
                    <a:pt x="113" y="54"/>
                  </a:lnTo>
                  <a:lnTo>
                    <a:pt x="133" y="45"/>
                  </a:lnTo>
                  <a:lnTo>
                    <a:pt x="153" y="38"/>
                  </a:lnTo>
                  <a:lnTo>
                    <a:pt x="173" y="32"/>
                  </a:lnTo>
                  <a:lnTo>
                    <a:pt x="195" y="26"/>
                  </a:lnTo>
                  <a:lnTo>
                    <a:pt x="216" y="24"/>
                  </a:lnTo>
                  <a:lnTo>
                    <a:pt x="238" y="23"/>
                  </a:lnTo>
                  <a:lnTo>
                    <a:pt x="256" y="23"/>
                  </a:lnTo>
                  <a:lnTo>
                    <a:pt x="278" y="25"/>
                  </a:lnTo>
                  <a:lnTo>
                    <a:pt x="329" y="31"/>
                  </a:lnTo>
                  <a:lnTo>
                    <a:pt x="391" y="39"/>
                  </a:lnTo>
                  <a:lnTo>
                    <a:pt x="465" y="50"/>
                  </a:lnTo>
                  <a:lnTo>
                    <a:pt x="486" y="53"/>
                  </a:lnTo>
                  <a:lnTo>
                    <a:pt x="503" y="55"/>
                  </a:lnTo>
                  <a:lnTo>
                    <a:pt x="518" y="58"/>
                  </a:lnTo>
                  <a:lnTo>
                    <a:pt x="524" y="58"/>
                  </a:lnTo>
                  <a:lnTo>
                    <a:pt x="529" y="58"/>
                  </a:lnTo>
                  <a:lnTo>
                    <a:pt x="535" y="58"/>
                  </a:lnTo>
                  <a:lnTo>
                    <a:pt x="543" y="57"/>
                  </a:lnTo>
                  <a:lnTo>
                    <a:pt x="549" y="55"/>
                  </a:lnTo>
                  <a:lnTo>
                    <a:pt x="555" y="54"/>
                  </a:lnTo>
                  <a:lnTo>
                    <a:pt x="563" y="52"/>
                  </a:lnTo>
                  <a:lnTo>
                    <a:pt x="570" y="49"/>
                  </a:lnTo>
                  <a:lnTo>
                    <a:pt x="584" y="43"/>
                  </a:lnTo>
                  <a:lnTo>
                    <a:pt x="599" y="36"/>
                  </a:lnTo>
                  <a:lnTo>
                    <a:pt x="615" y="25"/>
                  </a:lnTo>
                  <a:lnTo>
                    <a:pt x="630" y="14"/>
                  </a:lnTo>
                  <a:close/>
                  <a:moveTo>
                    <a:pt x="528" y="820"/>
                  </a:moveTo>
                  <a:lnTo>
                    <a:pt x="528" y="828"/>
                  </a:lnTo>
                  <a:lnTo>
                    <a:pt x="530" y="837"/>
                  </a:lnTo>
                  <a:lnTo>
                    <a:pt x="531" y="844"/>
                  </a:lnTo>
                  <a:lnTo>
                    <a:pt x="534" y="851"/>
                  </a:lnTo>
                  <a:lnTo>
                    <a:pt x="537" y="857"/>
                  </a:lnTo>
                  <a:lnTo>
                    <a:pt x="543" y="863"/>
                  </a:lnTo>
                  <a:lnTo>
                    <a:pt x="547" y="868"/>
                  </a:lnTo>
                  <a:lnTo>
                    <a:pt x="553" y="873"/>
                  </a:lnTo>
                  <a:lnTo>
                    <a:pt x="560" y="877"/>
                  </a:lnTo>
                  <a:lnTo>
                    <a:pt x="568" y="880"/>
                  </a:lnTo>
                  <a:lnTo>
                    <a:pt x="576" y="883"/>
                  </a:lnTo>
                  <a:lnTo>
                    <a:pt x="585" y="886"/>
                  </a:lnTo>
                  <a:lnTo>
                    <a:pt x="595" y="889"/>
                  </a:lnTo>
                  <a:lnTo>
                    <a:pt x="606" y="890"/>
                  </a:lnTo>
                  <a:lnTo>
                    <a:pt x="617" y="891"/>
                  </a:lnTo>
                  <a:lnTo>
                    <a:pt x="630" y="891"/>
                  </a:lnTo>
                  <a:lnTo>
                    <a:pt x="653" y="890"/>
                  </a:lnTo>
                  <a:lnTo>
                    <a:pt x="676" y="886"/>
                  </a:lnTo>
                  <a:lnTo>
                    <a:pt x="699" y="882"/>
                  </a:lnTo>
                  <a:lnTo>
                    <a:pt x="720" y="875"/>
                  </a:lnTo>
                  <a:lnTo>
                    <a:pt x="740" y="867"/>
                  </a:lnTo>
                  <a:lnTo>
                    <a:pt x="759" y="856"/>
                  </a:lnTo>
                  <a:lnTo>
                    <a:pt x="777" y="844"/>
                  </a:lnTo>
                  <a:lnTo>
                    <a:pt x="795" y="830"/>
                  </a:lnTo>
                  <a:lnTo>
                    <a:pt x="804" y="822"/>
                  </a:lnTo>
                  <a:lnTo>
                    <a:pt x="811" y="814"/>
                  </a:lnTo>
                  <a:lnTo>
                    <a:pt x="819" y="805"/>
                  </a:lnTo>
                  <a:lnTo>
                    <a:pt x="826" y="796"/>
                  </a:lnTo>
                  <a:lnTo>
                    <a:pt x="832" y="786"/>
                  </a:lnTo>
                  <a:lnTo>
                    <a:pt x="838" y="775"/>
                  </a:lnTo>
                  <a:lnTo>
                    <a:pt x="843" y="765"/>
                  </a:lnTo>
                  <a:lnTo>
                    <a:pt x="848" y="753"/>
                  </a:lnTo>
                  <a:lnTo>
                    <a:pt x="851" y="741"/>
                  </a:lnTo>
                  <a:lnTo>
                    <a:pt x="856" y="728"/>
                  </a:lnTo>
                  <a:lnTo>
                    <a:pt x="861" y="702"/>
                  </a:lnTo>
                  <a:lnTo>
                    <a:pt x="864" y="673"/>
                  </a:lnTo>
                  <a:lnTo>
                    <a:pt x="865" y="643"/>
                  </a:lnTo>
                  <a:lnTo>
                    <a:pt x="864" y="625"/>
                  </a:lnTo>
                  <a:lnTo>
                    <a:pt x="863" y="609"/>
                  </a:lnTo>
                  <a:lnTo>
                    <a:pt x="860" y="594"/>
                  </a:lnTo>
                  <a:lnTo>
                    <a:pt x="856" y="580"/>
                  </a:lnTo>
                  <a:lnTo>
                    <a:pt x="850" y="567"/>
                  </a:lnTo>
                  <a:lnTo>
                    <a:pt x="844" y="555"/>
                  </a:lnTo>
                  <a:lnTo>
                    <a:pt x="837" y="544"/>
                  </a:lnTo>
                  <a:lnTo>
                    <a:pt x="828" y="535"/>
                  </a:lnTo>
                  <a:lnTo>
                    <a:pt x="819" y="526"/>
                  </a:lnTo>
                  <a:lnTo>
                    <a:pt x="807" y="518"/>
                  </a:lnTo>
                  <a:lnTo>
                    <a:pt x="795" y="513"/>
                  </a:lnTo>
                  <a:lnTo>
                    <a:pt x="782" y="508"/>
                  </a:lnTo>
                  <a:lnTo>
                    <a:pt x="768" y="504"/>
                  </a:lnTo>
                  <a:lnTo>
                    <a:pt x="752" y="501"/>
                  </a:lnTo>
                  <a:lnTo>
                    <a:pt x="736" y="500"/>
                  </a:lnTo>
                  <a:lnTo>
                    <a:pt x="718" y="499"/>
                  </a:lnTo>
                  <a:lnTo>
                    <a:pt x="704" y="499"/>
                  </a:lnTo>
                  <a:lnTo>
                    <a:pt x="689" y="501"/>
                  </a:lnTo>
                  <a:lnTo>
                    <a:pt x="674" y="503"/>
                  </a:lnTo>
                  <a:lnTo>
                    <a:pt x="659" y="506"/>
                  </a:lnTo>
                  <a:lnTo>
                    <a:pt x="644" y="510"/>
                  </a:lnTo>
                  <a:lnTo>
                    <a:pt x="629" y="514"/>
                  </a:lnTo>
                  <a:lnTo>
                    <a:pt x="613" y="520"/>
                  </a:lnTo>
                  <a:lnTo>
                    <a:pt x="596" y="527"/>
                  </a:lnTo>
                  <a:lnTo>
                    <a:pt x="545" y="730"/>
                  </a:lnTo>
                  <a:lnTo>
                    <a:pt x="532" y="790"/>
                  </a:lnTo>
                  <a:lnTo>
                    <a:pt x="529" y="808"/>
                  </a:lnTo>
                  <a:lnTo>
                    <a:pt x="528" y="81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03560" y="1336680"/>
              <a:ext cx="263520" cy="352440"/>
            </a:xfrm>
            <a:custGeom>
              <a:avLst/>
              <a:gdLst/>
              <a:ahLst/>
              <a:rect l="l" t="t" r="r" b="b"/>
              <a:pathLst>
                <a:path w="734" h="981">
                  <a:moveTo>
                    <a:pt x="613" y="639"/>
                  </a:moveTo>
                  <a:lnTo>
                    <a:pt x="668" y="711"/>
                  </a:lnTo>
                  <a:lnTo>
                    <a:pt x="598" y="774"/>
                  </a:lnTo>
                  <a:lnTo>
                    <a:pt x="532" y="828"/>
                  </a:lnTo>
                  <a:lnTo>
                    <a:pt x="467" y="875"/>
                  </a:lnTo>
                  <a:lnTo>
                    <a:pt x="405" y="912"/>
                  </a:lnTo>
                  <a:lnTo>
                    <a:pt x="346" y="943"/>
                  </a:lnTo>
                  <a:lnTo>
                    <a:pt x="317" y="954"/>
                  </a:lnTo>
                  <a:lnTo>
                    <a:pt x="289" y="963"/>
                  </a:lnTo>
                  <a:lnTo>
                    <a:pt x="261" y="971"/>
                  </a:lnTo>
                  <a:lnTo>
                    <a:pt x="234" y="976"/>
                  </a:lnTo>
                  <a:lnTo>
                    <a:pt x="208" y="979"/>
                  </a:lnTo>
                  <a:lnTo>
                    <a:pt x="182" y="980"/>
                  </a:lnTo>
                  <a:lnTo>
                    <a:pt x="161" y="979"/>
                  </a:lnTo>
                  <a:lnTo>
                    <a:pt x="141" y="977"/>
                  </a:lnTo>
                  <a:lnTo>
                    <a:pt x="131" y="975"/>
                  </a:lnTo>
                  <a:lnTo>
                    <a:pt x="122" y="972"/>
                  </a:lnTo>
                  <a:lnTo>
                    <a:pt x="112" y="969"/>
                  </a:lnTo>
                  <a:lnTo>
                    <a:pt x="104" y="965"/>
                  </a:lnTo>
                  <a:lnTo>
                    <a:pt x="95" y="962"/>
                  </a:lnTo>
                  <a:lnTo>
                    <a:pt x="88" y="957"/>
                  </a:lnTo>
                  <a:lnTo>
                    <a:pt x="81" y="953"/>
                  </a:lnTo>
                  <a:lnTo>
                    <a:pt x="73" y="948"/>
                  </a:lnTo>
                  <a:lnTo>
                    <a:pt x="66" y="941"/>
                  </a:lnTo>
                  <a:lnTo>
                    <a:pt x="59" y="935"/>
                  </a:lnTo>
                  <a:lnTo>
                    <a:pt x="53" y="929"/>
                  </a:lnTo>
                  <a:lnTo>
                    <a:pt x="47" y="922"/>
                  </a:lnTo>
                  <a:lnTo>
                    <a:pt x="41" y="914"/>
                  </a:lnTo>
                  <a:lnTo>
                    <a:pt x="36" y="906"/>
                  </a:lnTo>
                  <a:lnTo>
                    <a:pt x="31" y="898"/>
                  </a:lnTo>
                  <a:lnTo>
                    <a:pt x="26" y="888"/>
                  </a:lnTo>
                  <a:lnTo>
                    <a:pt x="18" y="869"/>
                  </a:lnTo>
                  <a:lnTo>
                    <a:pt x="12" y="847"/>
                  </a:lnTo>
                  <a:lnTo>
                    <a:pt x="6" y="823"/>
                  </a:lnTo>
                  <a:lnTo>
                    <a:pt x="3" y="798"/>
                  </a:lnTo>
                  <a:lnTo>
                    <a:pt x="1" y="770"/>
                  </a:lnTo>
                  <a:lnTo>
                    <a:pt x="0" y="741"/>
                  </a:lnTo>
                  <a:lnTo>
                    <a:pt x="2" y="681"/>
                  </a:lnTo>
                  <a:lnTo>
                    <a:pt x="9" y="622"/>
                  </a:lnTo>
                  <a:lnTo>
                    <a:pt x="20" y="564"/>
                  </a:lnTo>
                  <a:lnTo>
                    <a:pt x="37" y="505"/>
                  </a:lnTo>
                  <a:lnTo>
                    <a:pt x="57" y="446"/>
                  </a:lnTo>
                  <a:lnTo>
                    <a:pt x="83" y="388"/>
                  </a:lnTo>
                  <a:lnTo>
                    <a:pt x="112" y="329"/>
                  </a:lnTo>
                  <a:lnTo>
                    <a:pt x="146" y="271"/>
                  </a:lnTo>
                  <a:lnTo>
                    <a:pt x="189" y="207"/>
                  </a:lnTo>
                  <a:lnTo>
                    <a:pt x="234" y="152"/>
                  </a:lnTo>
                  <a:lnTo>
                    <a:pt x="258" y="128"/>
                  </a:lnTo>
                  <a:lnTo>
                    <a:pt x="281" y="106"/>
                  </a:lnTo>
                  <a:lnTo>
                    <a:pt x="306" y="86"/>
                  </a:lnTo>
                  <a:lnTo>
                    <a:pt x="330" y="68"/>
                  </a:lnTo>
                  <a:lnTo>
                    <a:pt x="355" y="52"/>
                  </a:lnTo>
                  <a:lnTo>
                    <a:pt x="382" y="39"/>
                  </a:lnTo>
                  <a:lnTo>
                    <a:pt x="408" y="26"/>
                  </a:lnTo>
                  <a:lnTo>
                    <a:pt x="435" y="17"/>
                  </a:lnTo>
                  <a:lnTo>
                    <a:pt x="463" y="10"/>
                  </a:lnTo>
                  <a:lnTo>
                    <a:pt x="491" y="4"/>
                  </a:lnTo>
                  <a:lnTo>
                    <a:pt x="520" y="1"/>
                  </a:lnTo>
                  <a:lnTo>
                    <a:pt x="549" y="0"/>
                  </a:lnTo>
                  <a:lnTo>
                    <a:pt x="570" y="1"/>
                  </a:lnTo>
                  <a:lnTo>
                    <a:pt x="590" y="3"/>
                  </a:lnTo>
                  <a:lnTo>
                    <a:pt x="609" y="6"/>
                  </a:lnTo>
                  <a:lnTo>
                    <a:pt x="626" y="12"/>
                  </a:lnTo>
                  <a:lnTo>
                    <a:pt x="643" y="18"/>
                  </a:lnTo>
                  <a:lnTo>
                    <a:pt x="650" y="22"/>
                  </a:lnTo>
                  <a:lnTo>
                    <a:pt x="658" y="25"/>
                  </a:lnTo>
                  <a:lnTo>
                    <a:pt x="665" y="30"/>
                  </a:lnTo>
                  <a:lnTo>
                    <a:pt x="672" y="35"/>
                  </a:lnTo>
                  <a:lnTo>
                    <a:pt x="678" y="40"/>
                  </a:lnTo>
                  <a:lnTo>
                    <a:pt x="684" y="45"/>
                  </a:lnTo>
                  <a:lnTo>
                    <a:pt x="691" y="51"/>
                  </a:lnTo>
                  <a:lnTo>
                    <a:pt x="696" y="56"/>
                  </a:lnTo>
                  <a:lnTo>
                    <a:pt x="701" y="63"/>
                  </a:lnTo>
                  <a:lnTo>
                    <a:pt x="706" y="70"/>
                  </a:lnTo>
                  <a:lnTo>
                    <a:pt x="710" y="76"/>
                  </a:lnTo>
                  <a:lnTo>
                    <a:pt x="714" y="83"/>
                  </a:lnTo>
                  <a:lnTo>
                    <a:pt x="718" y="91"/>
                  </a:lnTo>
                  <a:lnTo>
                    <a:pt x="722" y="98"/>
                  </a:lnTo>
                  <a:lnTo>
                    <a:pt x="724" y="105"/>
                  </a:lnTo>
                  <a:lnTo>
                    <a:pt x="727" y="114"/>
                  </a:lnTo>
                  <a:lnTo>
                    <a:pt x="730" y="130"/>
                  </a:lnTo>
                  <a:lnTo>
                    <a:pt x="732" y="147"/>
                  </a:lnTo>
                  <a:lnTo>
                    <a:pt x="733" y="166"/>
                  </a:lnTo>
                  <a:lnTo>
                    <a:pt x="732" y="185"/>
                  </a:lnTo>
                  <a:lnTo>
                    <a:pt x="730" y="204"/>
                  </a:lnTo>
                  <a:lnTo>
                    <a:pt x="726" y="223"/>
                  </a:lnTo>
                  <a:lnTo>
                    <a:pt x="719" y="242"/>
                  </a:lnTo>
                  <a:lnTo>
                    <a:pt x="712" y="260"/>
                  </a:lnTo>
                  <a:lnTo>
                    <a:pt x="703" y="279"/>
                  </a:lnTo>
                  <a:lnTo>
                    <a:pt x="693" y="297"/>
                  </a:lnTo>
                  <a:lnTo>
                    <a:pt x="680" y="315"/>
                  </a:lnTo>
                  <a:lnTo>
                    <a:pt x="666" y="333"/>
                  </a:lnTo>
                  <a:lnTo>
                    <a:pt x="649" y="351"/>
                  </a:lnTo>
                  <a:lnTo>
                    <a:pt x="631" y="369"/>
                  </a:lnTo>
                  <a:lnTo>
                    <a:pt x="610" y="387"/>
                  </a:lnTo>
                  <a:lnTo>
                    <a:pt x="588" y="405"/>
                  </a:lnTo>
                  <a:lnTo>
                    <a:pt x="562" y="423"/>
                  </a:lnTo>
                  <a:lnTo>
                    <a:pt x="536" y="439"/>
                  </a:lnTo>
                  <a:lnTo>
                    <a:pt x="506" y="457"/>
                  </a:lnTo>
                  <a:lnTo>
                    <a:pt x="460" y="482"/>
                  </a:lnTo>
                  <a:lnTo>
                    <a:pt x="399" y="512"/>
                  </a:lnTo>
                  <a:lnTo>
                    <a:pt x="231" y="588"/>
                  </a:lnTo>
                  <a:lnTo>
                    <a:pt x="228" y="611"/>
                  </a:lnTo>
                  <a:lnTo>
                    <a:pt x="226" y="635"/>
                  </a:lnTo>
                  <a:lnTo>
                    <a:pt x="225" y="659"/>
                  </a:lnTo>
                  <a:lnTo>
                    <a:pt x="224" y="684"/>
                  </a:lnTo>
                  <a:lnTo>
                    <a:pt x="224" y="700"/>
                  </a:lnTo>
                  <a:lnTo>
                    <a:pt x="225" y="715"/>
                  </a:lnTo>
                  <a:lnTo>
                    <a:pt x="227" y="728"/>
                  </a:lnTo>
                  <a:lnTo>
                    <a:pt x="229" y="741"/>
                  </a:lnTo>
                  <a:lnTo>
                    <a:pt x="231" y="752"/>
                  </a:lnTo>
                  <a:lnTo>
                    <a:pt x="233" y="756"/>
                  </a:lnTo>
                  <a:lnTo>
                    <a:pt x="234" y="762"/>
                  </a:lnTo>
                  <a:lnTo>
                    <a:pt x="237" y="765"/>
                  </a:lnTo>
                  <a:lnTo>
                    <a:pt x="239" y="769"/>
                  </a:lnTo>
                  <a:lnTo>
                    <a:pt x="241" y="772"/>
                  </a:lnTo>
                  <a:lnTo>
                    <a:pt x="243" y="775"/>
                  </a:lnTo>
                  <a:lnTo>
                    <a:pt x="245" y="778"/>
                  </a:lnTo>
                  <a:lnTo>
                    <a:pt x="248" y="780"/>
                  </a:lnTo>
                  <a:lnTo>
                    <a:pt x="250" y="783"/>
                  </a:lnTo>
                  <a:lnTo>
                    <a:pt x="254" y="785"/>
                  </a:lnTo>
                  <a:lnTo>
                    <a:pt x="257" y="788"/>
                  </a:lnTo>
                  <a:lnTo>
                    <a:pt x="260" y="790"/>
                  </a:lnTo>
                  <a:lnTo>
                    <a:pt x="263" y="791"/>
                  </a:lnTo>
                  <a:lnTo>
                    <a:pt x="266" y="793"/>
                  </a:lnTo>
                  <a:lnTo>
                    <a:pt x="269" y="794"/>
                  </a:lnTo>
                  <a:lnTo>
                    <a:pt x="273" y="795"/>
                  </a:lnTo>
                  <a:lnTo>
                    <a:pt x="277" y="796"/>
                  </a:lnTo>
                  <a:lnTo>
                    <a:pt x="280" y="797"/>
                  </a:lnTo>
                  <a:lnTo>
                    <a:pt x="289" y="798"/>
                  </a:lnTo>
                  <a:lnTo>
                    <a:pt x="297" y="798"/>
                  </a:lnTo>
                  <a:lnTo>
                    <a:pt x="308" y="798"/>
                  </a:lnTo>
                  <a:lnTo>
                    <a:pt x="317" y="797"/>
                  </a:lnTo>
                  <a:lnTo>
                    <a:pt x="328" y="795"/>
                  </a:lnTo>
                  <a:lnTo>
                    <a:pt x="339" y="793"/>
                  </a:lnTo>
                  <a:lnTo>
                    <a:pt x="350" y="790"/>
                  </a:lnTo>
                  <a:lnTo>
                    <a:pt x="362" y="785"/>
                  </a:lnTo>
                  <a:lnTo>
                    <a:pt x="374" y="780"/>
                  </a:lnTo>
                  <a:lnTo>
                    <a:pt x="386" y="775"/>
                  </a:lnTo>
                  <a:lnTo>
                    <a:pt x="405" y="766"/>
                  </a:lnTo>
                  <a:lnTo>
                    <a:pt x="428" y="755"/>
                  </a:lnTo>
                  <a:lnTo>
                    <a:pt x="478" y="725"/>
                  </a:lnTo>
                  <a:lnTo>
                    <a:pt x="541" y="687"/>
                  </a:lnTo>
                  <a:close/>
                  <a:moveTo>
                    <a:pt x="247" y="482"/>
                  </a:moveTo>
                  <a:lnTo>
                    <a:pt x="314" y="444"/>
                  </a:lnTo>
                  <a:lnTo>
                    <a:pt x="373" y="408"/>
                  </a:lnTo>
                  <a:lnTo>
                    <a:pt x="400" y="389"/>
                  </a:lnTo>
                  <a:lnTo>
                    <a:pt x="424" y="370"/>
                  </a:lnTo>
                  <a:lnTo>
                    <a:pt x="447" y="353"/>
                  </a:lnTo>
                  <a:lnTo>
                    <a:pt x="468" y="334"/>
                  </a:lnTo>
                  <a:lnTo>
                    <a:pt x="482" y="317"/>
                  </a:lnTo>
                  <a:lnTo>
                    <a:pt x="494" y="301"/>
                  </a:lnTo>
                  <a:lnTo>
                    <a:pt x="505" y="285"/>
                  </a:lnTo>
                  <a:lnTo>
                    <a:pt x="514" y="270"/>
                  </a:lnTo>
                  <a:lnTo>
                    <a:pt x="520" y="254"/>
                  </a:lnTo>
                  <a:lnTo>
                    <a:pt x="522" y="247"/>
                  </a:lnTo>
                  <a:lnTo>
                    <a:pt x="524" y="239"/>
                  </a:lnTo>
                  <a:lnTo>
                    <a:pt x="526" y="233"/>
                  </a:lnTo>
                  <a:lnTo>
                    <a:pt x="527" y="226"/>
                  </a:lnTo>
                  <a:lnTo>
                    <a:pt x="528" y="219"/>
                  </a:lnTo>
                  <a:lnTo>
                    <a:pt x="528" y="212"/>
                  </a:lnTo>
                  <a:lnTo>
                    <a:pt x="528" y="203"/>
                  </a:lnTo>
                  <a:lnTo>
                    <a:pt x="527" y="195"/>
                  </a:lnTo>
                  <a:lnTo>
                    <a:pt x="525" y="186"/>
                  </a:lnTo>
                  <a:lnTo>
                    <a:pt x="524" y="179"/>
                  </a:lnTo>
                  <a:lnTo>
                    <a:pt x="521" y="172"/>
                  </a:lnTo>
                  <a:lnTo>
                    <a:pt x="519" y="169"/>
                  </a:lnTo>
                  <a:lnTo>
                    <a:pt x="518" y="166"/>
                  </a:lnTo>
                  <a:lnTo>
                    <a:pt x="516" y="162"/>
                  </a:lnTo>
                  <a:lnTo>
                    <a:pt x="514" y="159"/>
                  </a:lnTo>
                  <a:lnTo>
                    <a:pt x="511" y="157"/>
                  </a:lnTo>
                  <a:lnTo>
                    <a:pt x="509" y="154"/>
                  </a:lnTo>
                  <a:lnTo>
                    <a:pt x="504" y="149"/>
                  </a:lnTo>
                  <a:lnTo>
                    <a:pt x="499" y="145"/>
                  </a:lnTo>
                  <a:lnTo>
                    <a:pt x="497" y="144"/>
                  </a:lnTo>
                  <a:lnTo>
                    <a:pt x="493" y="142"/>
                  </a:lnTo>
                  <a:lnTo>
                    <a:pt x="491" y="140"/>
                  </a:lnTo>
                  <a:lnTo>
                    <a:pt x="488" y="139"/>
                  </a:lnTo>
                  <a:lnTo>
                    <a:pt x="485" y="138"/>
                  </a:lnTo>
                  <a:lnTo>
                    <a:pt x="482" y="136"/>
                  </a:lnTo>
                  <a:lnTo>
                    <a:pt x="478" y="135"/>
                  </a:lnTo>
                  <a:lnTo>
                    <a:pt x="475" y="134"/>
                  </a:lnTo>
                  <a:lnTo>
                    <a:pt x="472" y="134"/>
                  </a:lnTo>
                  <a:lnTo>
                    <a:pt x="469" y="133"/>
                  </a:lnTo>
                  <a:lnTo>
                    <a:pt x="462" y="133"/>
                  </a:lnTo>
                  <a:lnTo>
                    <a:pt x="457" y="133"/>
                  </a:lnTo>
                  <a:lnTo>
                    <a:pt x="453" y="133"/>
                  </a:lnTo>
                  <a:lnTo>
                    <a:pt x="443" y="135"/>
                  </a:lnTo>
                  <a:lnTo>
                    <a:pt x="433" y="138"/>
                  </a:lnTo>
                  <a:lnTo>
                    <a:pt x="422" y="141"/>
                  </a:lnTo>
                  <a:lnTo>
                    <a:pt x="410" y="145"/>
                  </a:lnTo>
                  <a:lnTo>
                    <a:pt x="397" y="150"/>
                  </a:lnTo>
                  <a:lnTo>
                    <a:pt x="369" y="164"/>
                  </a:lnTo>
                  <a:lnTo>
                    <a:pt x="318" y="247"/>
                  </a:lnTo>
                  <a:lnTo>
                    <a:pt x="295" y="314"/>
                  </a:lnTo>
                  <a:lnTo>
                    <a:pt x="275" y="376"/>
                  </a:lnTo>
                  <a:lnTo>
                    <a:pt x="259" y="432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86160" y="1117440"/>
              <a:ext cx="304560" cy="573120"/>
            </a:xfrm>
            <a:custGeom>
              <a:avLst/>
              <a:gdLst/>
              <a:ahLst/>
              <a:rect l="l" t="t" r="r" b="b"/>
              <a:pathLst>
                <a:path w="846" h="1593">
                  <a:moveTo>
                    <a:pt x="130" y="67"/>
                  </a:moveTo>
                  <a:lnTo>
                    <a:pt x="166" y="0"/>
                  </a:lnTo>
                  <a:lnTo>
                    <a:pt x="248" y="8"/>
                  </a:lnTo>
                  <a:lnTo>
                    <a:pt x="325" y="23"/>
                  </a:lnTo>
                  <a:lnTo>
                    <a:pt x="396" y="41"/>
                  </a:lnTo>
                  <a:lnTo>
                    <a:pt x="463" y="66"/>
                  </a:lnTo>
                  <a:lnTo>
                    <a:pt x="524" y="95"/>
                  </a:lnTo>
                  <a:lnTo>
                    <a:pt x="580" y="130"/>
                  </a:lnTo>
                  <a:lnTo>
                    <a:pt x="630" y="169"/>
                  </a:lnTo>
                  <a:lnTo>
                    <a:pt x="675" y="214"/>
                  </a:lnTo>
                  <a:lnTo>
                    <a:pt x="715" y="264"/>
                  </a:lnTo>
                  <a:lnTo>
                    <a:pt x="750" y="319"/>
                  </a:lnTo>
                  <a:lnTo>
                    <a:pt x="778" y="379"/>
                  </a:lnTo>
                  <a:lnTo>
                    <a:pt x="803" y="445"/>
                  </a:lnTo>
                  <a:lnTo>
                    <a:pt x="821" y="515"/>
                  </a:lnTo>
                  <a:lnTo>
                    <a:pt x="835" y="590"/>
                  </a:lnTo>
                  <a:lnTo>
                    <a:pt x="842" y="672"/>
                  </a:lnTo>
                  <a:lnTo>
                    <a:pt x="845" y="757"/>
                  </a:lnTo>
                  <a:lnTo>
                    <a:pt x="843" y="843"/>
                  </a:lnTo>
                  <a:lnTo>
                    <a:pt x="835" y="925"/>
                  </a:lnTo>
                  <a:lnTo>
                    <a:pt x="823" y="1004"/>
                  </a:lnTo>
                  <a:lnTo>
                    <a:pt x="805" y="1080"/>
                  </a:lnTo>
                  <a:lnTo>
                    <a:pt x="781" y="1153"/>
                  </a:lnTo>
                  <a:lnTo>
                    <a:pt x="754" y="1223"/>
                  </a:lnTo>
                  <a:lnTo>
                    <a:pt x="722" y="1288"/>
                  </a:lnTo>
                  <a:lnTo>
                    <a:pt x="684" y="1351"/>
                  </a:lnTo>
                  <a:lnTo>
                    <a:pt x="642" y="1407"/>
                  </a:lnTo>
                  <a:lnTo>
                    <a:pt x="621" y="1433"/>
                  </a:lnTo>
                  <a:lnTo>
                    <a:pt x="599" y="1457"/>
                  </a:lnTo>
                  <a:lnTo>
                    <a:pt x="576" y="1478"/>
                  </a:lnTo>
                  <a:lnTo>
                    <a:pt x="552" y="1498"/>
                  </a:lnTo>
                  <a:lnTo>
                    <a:pt x="528" y="1516"/>
                  </a:lnTo>
                  <a:lnTo>
                    <a:pt x="503" y="1532"/>
                  </a:lnTo>
                  <a:lnTo>
                    <a:pt x="477" y="1546"/>
                  </a:lnTo>
                  <a:lnTo>
                    <a:pt x="451" y="1558"/>
                  </a:lnTo>
                  <a:lnTo>
                    <a:pt x="425" y="1568"/>
                  </a:lnTo>
                  <a:lnTo>
                    <a:pt x="397" y="1577"/>
                  </a:lnTo>
                  <a:lnTo>
                    <a:pt x="369" y="1584"/>
                  </a:lnTo>
                  <a:lnTo>
                    <a:pt x="340" y="1588"/>
                  </a:lnTo>
                  <a:lnTo>
                    <a:pt x="310" y="1591"/>
                  </a:lnTo>
                  <a:lnTo>
                    <a:pt x="281" y="1592"/>
                  </a:lnTo>
                  <a:lnTo>
                    <a:pt x="248" y="1591"/>
                  </a:lnTo>
                  <a:lnTo>
                    <a:pt x="217" y="1587"/>
                  </a:lnTo>
                  <a:lnTo>
                    <a:pt x="202" y="1584"/>
                  </a:lnTo>
                  <a:lnTo>
                    <a:pt x="188" y="1580"/>
                  </a:lnTo>
                  <a:lnTo>
                    <a:pt x="174" y="1574"/>
                  </a:lnTo>
                  <a:lnTo>
                    <a:pt x="161" y="1569"/>
                  </a:lnTo>
                  <a:lnTo>
                    <a:pt x="148" y="1564"/>
                  </a:lnTo>
                  <a:lnTo>
                    <a:pt x="136" y="1557"/>
                  </a:lnTo>
                  <a:lnTo>
                    <a:pt x="125" y="1549"/>
                  </a:lnTo>
                  <a:lnTo>
                    <a:pt x="113" y="1541"/>
                  </a:lnTo>
                  <a:lnTo>
                    <a:pt x="102" y="1533"/>
                  </a:lnTo>
                  <a:lnTo>
                    <a:pt x="92" y="1523"/>
                  </a:lnTo>
                  <a:lnTo>
                    <a:pt x="82" y="1513"/>
                  </a:lnTo>
                  <a:lnTo>
                    <a:pt x="73" y="1503"/>
                  </a:lnTo>
                  <a:lnTo>
                    <a:pt x="56" y="1480"/>
                  </a:lnTo>
                  <a:lnTo>
                    <a:pt x="41" y="1456"/>
                  </a:lnTo>
                  <a:lnTo>
                    <a:pt x="29" y="1431"/>
                  </a:lnTo>
                  <a:lnTo>
                    <a:pt x="18" y="1405"/>
                  </a:lnTo>
                  <a:lnTo>
                    <a:pt x="11" y="1378"/>
                  </a:lnTo>
                  <a:lnTo>
                    <a:pt x="5" y="1350"/>
                  </a:lnTo>
                  <a:lnTo>
                    <a:pt x="1" y="1321"/>
                  </a:lnTo>
                  <a:lnTo>
                    <a:pt x="0" y="1290"/>
                  </a:lnTo>
                  <a:lnTo>
                    <a:pt x="2" y="1230"/>
                  </a:lnTo>
                  <a:lnTo>
                    <a:pt x="10" y="1170"/>
                  </a:lnTo>
                  <a:lnTo>
                    <a:pt x="23" y="1112"/>
                  </a:lnTo>
                  <a:lnTo>
                    <a:pt x="41" y="1054"/>
                  </a:lnTo>
                  <a:lnTo>
                    <a:pt x="63" y="998"/>
                  </a:lnTo>
                  <a:lnTo>
                    <a:pt x="90" y="943"/>
                  </a:lnTo>
                  <a:lnTo>
                    <a:pt x="122" y="889"/>
                  </a:lnTo>
                  <a:lnTo>
                    <a:pt x="160" y="837"/>
                  </a:lnTo>
                  <a:lnTo>
                    <a:pt x="200" y="788"/>
                  </a:lnTo>
                  <a:lnTo>
                    <a:pt x="241" y="745"/>
                  </a:lnTo>
                  <a:lnTo>
                    <a:pt x="283" y="710"/>
                  </a:lnTo>
                  <a:lnTo>
                    <a:pt x="304" y="694"/>
                  </a:lnTo>
                  <a:lnTo>
                    <a:pt x="325" y="680"/>
                  </a:lnTo>
                  <a:lnTo>
                    <a:pt x="347" y="667"/>
                  </a:lnTo>
                  <a:lnTo>
                    <a:pt x="369" y="657"/>
                  </a:lnTo>
                  <a:lnTo>
                    <a:pt x="391" y="649"/>
                  </a:lnTo>
                  <a:lnTo>
                    <a:pt x="413" y="641"/>
                  </a:lnTo>
                  <a:lnTo>
                    <a:pt x="435" y="635"/>
                  </a:lnTo>
                  <a:lnTo>
                    <a:pt x="459" y="631"/>
                  </a:lnTo>
                  <a:lnTo>
                    <a:pt x="481" y="629"/>
                  </a:lnTo>
                  <a:lnTo>
                    <a:pt x="504" y="628"/>
                  </a:lnTo>
                  <a:lnTo>
                    <a:pt x="518" y="628"/>
                  </a:lnTo>
                  <a:lnTo>
                    <a:pt x="532" y="629"/>
                  </a:lnTo>
                  <a:lnTo>
                    <a:pt x="545" y="631"/>
                  </a:lnTo>
                  <a:lnTo>
                    <a:pt x="556" y="634"/>
                  </a:lnTo>
                  <a:lnTo>
                    <a:pt x="568" y="637"/>
                  </a:lnTo>
                  <a:lnTo>
                    <a:pt x="579" y="641"/>
                  </a:lnTo>
                  <a:lnTo>
                    <a:pt x="589" y="647"/>
                  </a:lnTo>
                  <a:lnTo>
                    <a:pt x="599" y="653"/>
                  </a:lnTo>
                  <a:lnTo>
                    <a:pt x="608" y="659"/>
                  </a:lnTo>
                  <a:lnTo>
                    <a:pt x="616" y="666"/>
                  </a:lnTo>
                  <a:lnTo>
                    <a:pt x="624" y="675"/>
                  </a:lnTo>
                  <a:lnTo>
                    <a:pt x="631" y="684"/>
                  </a:lnTo>
                  <a:lnTo>
                    <a:pt x="637" y="693"/>
                  </a:lnTo>
                  <a:lnTo>
                    <a:pt x="643" y="704"/>
                  </a:lnTo>
                  <a:lnTo>
                    <a:pt x="649" y="715"/>
                  </a:lnTo>
                  <a:lnTo>
                    <a:pt x="653" y="727"/>
                  </a:lnTo>
                  <a:lnTo>
                    <a:pt x="651" y="657"/>
                  </a:lnTo>
                  <a:lnTo>
                    <a:pt x="646" y="590"/>
                  </a:lnTo>
                  <a:lnTo>
                    <a:pt x="636" y="529"/>
                  </a:lnTo>
                  <a:lnTo>
                    <a:pt x="623" y="471"/>
                  </a:lnTo>
                  <a:lnTo>
                    <a:pt x="607" y="417"/>
                  </a:lnTo>
                  <a:lnTo>
                    <a:pt x="587" y="367"/>
                  </a:lnTo>
                  <a:lnTo>
                    <a:pt x="564" y="321"/>
                  </a:lnTo>
                  <a:lnTo>
                    <a:pt x="550" y="300"/>
                  </a:lnTo>
                  <a:lnTo>
                    <a:pt x="536" y="279"/>
                  </a:lnTo>
                  <a:lnTo>
                    <a:pt x="521" y="260"/>
                  </a:lnTo>
                  <a:lnTo>
                    <a:pt x="504" y="241"/>
                  </a:lnTo>
                  <a:lnTo>
                    <a:pt x="487" y="223"/>
                  </a:lnTo>
                  <a:lnTo>
                    <a:pt x="468" y="207"/>
                  </a:lnTo>
                  <a:lnTo>
                    <a:pt x="447" y="190"/>
                  </a:lnTo>
                  <a:lnTo>
                    <a:pt x="425" y="175"/>
                  </a:lnTo>
                  <a:lnTo>
                    <a:pt x="402" y="161"/>
                  </a:lnTo>
                  <a:lnTo>
                    <a:pt x="377" y="147"/>
                  </a:lnTo>
                  <a:lnTo>
                    <a:pt x="324" y="122"/>
                  </a:lnTo>
                  <a:lnTo>
                    <a:pt x="265" y="101"/>
                  </a:lnTo>
                  <a:lnTo>
                    <a:pt x="200" y="82"/>
                  </a:lnTo>
                  <a:close/>
                  <a:moveTo>
                    <a:pt x="613" y="1022"/>
                  </a:moveTo>
                  <a:lnTo>
                    <a:pt x="612" y="991"/>
                  </a:lnTo>
                  <a:lnTo>
                    <a:pt x="611" y="962"/>
                  </a:lnTo>
                  <a:lnTo>
                    <a:pt x="607" y="934"/>
                  </a:lnTo>
                  <a:lnTo>
                    <a:pt x="604" y="908"/>
                  </a:lnTo>
                  <a:lnTo>
                    <a:pt x="599" y="883"/>
                  </a:lnTo>
                  <a:lnTo>
                    <a:pt x="593" y="859"/>
                  </a:lnTo>
                  <a:lnTo>
                    <a:pt x="586" y="837"/>
                  </a:lnTo>
                  <a:lnTo>
                    <a:pt x="578" y="817"/>
                  </a:lnTo>
                  <a:lnTo>
                    <a:pt x="568" y="799"/>
                  </a:lnTo>
                  <a:lnTo>
                    <a:pt x="564" y="791"/>
                  </a:lnTo>
                  <a:lnTo>
                    <a:pt x="559" y="784"/>
                  </a:lnTo>
                  <a:lnTo>
                    <a:pt x="553" y="777"/>
                  </a:lnTo>
                  <a:lnTo>
                    <a:pt x="547" y="770"/>
                  </a:lnTo>
                  <a:lnTo>
                    <a:pt x="542" y="765"/>
                  </a:lnTo>
                  <a:lnTo>
                    <a:pt x="535" y="760"/>
                  </a:lnTo>
                  <a:lnTo>
                    <a:pt x="529" y="755"/>
                  </a:lnTo>
                  <a:lnTo>
                    <a:pt x="522" y="751"/>
                  </a:lnTo>
                  <a:lnTo>
                    <a:pt x="516" y="747"/>
                  </a:lnTo>
                  <a:lnTo>
                    <a:pt x="509" y="745"/>
                  </a:lnTo>
                  <a:lnTo>
                    <a:pt x="502" y="743"/>
                  </a:lnTo>
                  <a:lnTo>
                    <a:pt x="495" y="741"/>
                  </a:lnTo>
                  <a:lnTo>
                    <a:pt x="486" y="740"/>
                  </a:lnTo>
                  <a:lnTo>
                    <a:pt x="479" y="740"/>
                  </a:lnTo>
                  <a:lnTo>
                    <a:pt x="466" y="741"/>
                  </a:lnTo>
                  <a:lnTo>
                    <a:pt x="454" y="742"/>
                  </a:lnTo>
                  <a:lnTo>
                    <a:pt x="441" y="745"/>
                  </a:lnTo>
                  <a:lnTo>
                    <a:pt x="429" y="750"/>
                  </a:lnTo>
                  <a:lnTo>
                    <a:pt x="416" y="755"/>
                  </a:lnTo>
                  <a:lnTo>
                    <a:pt x="405" y="760"/>
                  </a:lnTo>
                  <a:lnTo>
                    <a:pt x="394" y="767"/>
                  </a:lnTo>
                  <a:lnTo>
                    <a:pt x="382" y="777"/>
                  </a:lnTo>
                  <a:lnTo>
                    <a:pt x="372" y="786"/>
                  </a:lnTo>
                  <a:lnTo>
                    <a:pt x="361" y="796"/>
                  </a:lnTo>
                  <a:lnTo>
                    <a:pt x="351" y="809"/>
                  </a:lnTo>
                  <a:lnTo>
                    <a:pt x="341" y="821"/>
                  </a:lnTo>
                  <a:lnTo>
                    <a:pt x="322" y="850"/>
                  </a:lnTo>
                  <a:lnTo>
                    <a:pt x="304" y="885"/>
                  </a:lnTo>
                  <a:lnTo>
                    <a:pt x="288" y="921"/>
                  </a:lnTo>
                  <a:lnTo>
                    <a:pt x="273" y="959"/>
                  </a:lnTo>
                  <a:lnTo>
                    <a:pt x="261" y="997"/>
                  </a:lnTo>
                  <a:lnTo>
                    <a:pt x="252" y="1037"/>
                  </a:lnTo>
                  <a:lnTo>
                    <a:pt x="243" y="1076"/>
                  </a:lnTo>
                  <a:lnTo>
                    <a:pt x="238" y="1118"/>
                  </a:lnTo>
                  <a:lnTo>
                    <a:pt x="235" y="1158"/>
                  </a:lnTo>
                  <a:lnTo>
                    <a:pt x="234" y="1201"/>
                  </a:lnTo>
                  <a:lnTo>
                    <a:pt x="235" y="1229"/>
                  </a:lnTo>
                  <a:lnTo>
                    <a:pt x="236" y="1256"/>
                  </a:lnTo>
                  <a:lnTo>
                    <a:pt x="239" y="1282"/>
                  </a:lnTo>
                  <a:lnTo>
                    <a:pt x="242" y="1306"/>
                  </a:lnTo>
                  <a:lnTo>
                    <a:pt x="248" y="1330"/>
                  </a:lnTo>
                  <a:lnTo>
                    <a:pt x="254" y="1352"/>
                  </a:lnTo>
                  <a:lnTo>
                    <a:pt x="260" y="1372"/>
                  </a:lnTo>
                  <a:lnTo>
                    <a:pt x="269" y="1391"/>
                  </a:lnTo>
                  <a:lnTo>
                    <a:pt x="278" y="1409"/>
                  </a:lnTo>
                  <a:lnTo>
                    <a:pt x="284" y="1417"/>
                  </a:lnTo>
                  <a:lnTo>
                    <a:pt x="289" y="1425"/>
                  </a:lnTo>
                  <a:lnTo>
                    <a:pt x="294" y="1432"/>
                  </a:lnTo>
                  <a:lnTo>
                    <a:pt x="300" y="1438"/>
                  </a:lnTo>
                  <a:lnTo>
                    <a:pt x="305" y="1443"/>
                  </a:lnTo>
                  <a:lnTo>
                    <a:pt x="311" y="1448"/>
                  </a:lnTo>
                  <a:lnTo>
                    <a:pt x="317" y="1453"/>
                  </a:lnTo>
                  <a:lnTo>
                    <a:pt x="323" y="1457"/>
                  </a:lnTo>
                  <a:lnTo>
                    <a:pt x="329" y="1460"/>
                  </a:lnTo>
                  <a:lnTo>
                    <a:pt x="337" y="1462"/>
                  </a:lnTo>
                  <a:lnTo>
                    <a:pt x="343" y="1464"/>
                  </a:lnTo>
                  <a:lnTo>
                    <a:pt x="350" y="1466"/>
                  </a:lnTo>
                  <a:lnTo>
                    <a:pt x="357" y="1467"/>
                  </a:lnTo>
                  <a:lnTo>
                    <a:pt x="364" y="1467"/>
                  </a:lnTo>
                  <a:lnTo>
                    <a:pt x="377" y="1466"/>
                  </a:lnTo>
                  <a:lnTo>
                    <a:pt x="390" y="1465"/>
                  </a:lnTo>
                  <a:lnTo>
                    <a:pt x="402" y="1462"/>
                  </a:lnTo>
                  <a:lnTo>
                    <a:pt x="413" y="1459"/>
                  </a:lnTo>
                  <a:lnTo>
                    <a:pt x="425" y="1454"/>
                  </a:lnTo>
                  <a:lnTo>
                    <a:pt x="437" y="1447"/>
                  </a:lnTo>
                  <a:lnTo>
                    <a:pt x="448" y="1440"/>
                  </a:lnTo>
                  <a:lnTo>
                    <a:pt x="459" y="1432"/>
                  </a:lnTo>
                  <a:lnTo>
                    <a:pt x="469" y="1422"/>
                  </a:lnTo>
                  <a:lnTo>
                    <a:pt x="480" y="1412"/>
                  </a:lnTo>
                  <a:lnTo>
                    <a:pt x="491" y="1401"/>
                  </a:lnTo>
                  <a:lnTo>
                    <a:pt x="501" y="1388"/>
                  </a:lnTo>
                  <a:lnTo>
                    <a:pt x="520" y="1360"/>
                  </a:lnTo>
                  <a:lnTo>
                    <a:pt x="539" y="1327"/>
                  </a:lnTo>
                  <a:lnTo>
                    <a:pt x="556" y="1291"/>
                  </a:lnTo>
                  <a:lnTo>
                    <a:pt x="571" y="1255"/>
                  </a:lnTo>
                  <a:lnTo>
                    <a:pt x="584" y="1218"/>
                  </a:lnTo>
                  <a:lnTo>
                    <a:pt x="595" y="1180"/>
                  </a:lnTo>
                  <a:lnTo>
                    <a:pt x="602" y="1142"/>
                  </a:lnTo>
                  <a:lnTo>
                    <a:pt x="608" y="1102"/>
                  </a:lnTo>
                  <a:lnTo>
                    <a:pt x="612" y="1063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16280" y="1338120"/>
              <a:ext cx="361800" cy="355680"/>
            </a:xfrm>
            <a:custGeom>
              <a:avLst/>
              <a:gdLst/>
              <a:ahLst/>
              <a:rect l="l" t="t" r="r" b="b"/>
              <a:pathLst>
                <a:path w="1007" h="988">
                  <a:moveTo>
                    <a:pt x="754" y="28"/>
                  </a:moveTo>
                  <a:lnTo>
                    <a:pt x="952" y="28"/>
                  </a:lnTo>
                  <a:lnTo>
                    <a:pt x="847" y="432"/>
                  </a:lnTo>
                  <a:lnTo>
                    <a:pt x="779" y="686"/>
                  </a:lnTo>
                  <a:lnTo>
                    <a:pt x="762" y="761"/>
                  </a:lnTo>
                  <a:lnTo>
                    <a:pt x="758" y="785"/>
                  </a:lnTo>
                  <a:lnTo>
                    <a:pt x="757" y="793"/>
                  </a:lnTo>
                  <a:lnTo>
                    <a:pt x="757" y="799"/>
                  </a:lnTo>
                  <a:lnTo>
                    <a:pt x="757" y="802"/>
                  </a:lnTo>
                  <a:lnTo>
                    <a:pt x="757" y="805"/>
                  </a:lnTo>
                  <a:lnTo>
                    <a:pt x="757" y="807"/>
                  </a:lnTo>
                  <a:lnTo>
                    <a:pt x="758" y="810"/>
                  </a:lnTo>
                  <a:lnTo>
                    <a:pt x="758" y="812"/>
                  </a:lnTo>
                  <a:lnTo>
                    <a:pt x="758" y="813"/>
                  </a:lnTo>
                  <a:lnTo>
                    <a:pt x="759" y="814"/>
                  </a:lnTo>
                  <a:lnTo>
                    <a:pt x="759" y="814"/>
                  </a:lnTo>
                  <a:lnTo>
                    <a:pt x="759" y="815"/>
                  </a:lnTo>
                  <a:lnTo>
                    <a:pt x="760" y="816"/>
                  </a:lnTo>
                  <a:lnTo>
                    <a:pt x="760" y="816"/>
                  </a:lnTo>
                  <a:lnTo>
                    <a:pt x="761" y="817"/>
                  </a:lnTo>
                  <a:lnTo>
                    <a:pt x="761" y="817"/>
                  </a:lnTo>
                  <a:lnTo>
                    <a:pt x="762" y="818"/>
                  </a:lnTo>
                  <a:lnTo>
                    <a:pt x="763" y="818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8" y="819"/>
                  </a:lnTo>
                  <a:lnTo>
                    <a:pt x="772" y="818"/>
                  </a:lnTo>
                  <a:lnTo>
                    <a:pt x="775" y="818"/>
                  </a:lnTo>
                  <a:lnTo>
                    <a:pt x="779" y="817"/>
                  </a:lnTo>
                  <a:lnTo>
                    <a:pt x="782" y="815"/>
                  </a:lnTo>
                  <a:lnTo>
                    <a:pt x="786" y="814"/>
                  </a:lnTo>
                  <a:lnTo>
                    <a:pt x="790" y="811"/>
                  </a:lnTo>
                  <a:lnTo>
                    <a:pt x="794" y="808"/>
                  </a:lnTo>
                  <a:lnTo>
                    <a:pt x="805" y="801"/>
                  </a:lnTo>
                  <a:lnTo>
                    <a:pt x="817" y="792"/>
                  </a:lnTo>
                  <a:lnTo>
                    <a:pt x="850" y="764"/>
                  </a:lnTo>
                  <a:lnTo>
                    <a:pt x="948" y="678"/>
                  </a:lnTo>
                  <a:lnTo>
                    <a:pt x="1006" y="741"/>
                  </a:lnTo>
                  <a:lnTo>
                    <a:pt x="950" y="799"/>
                  </a:lnTo>
                  <a:lnTo>
                    <a:pt x="897" y="849"/>
                  </a:lnTo>
                  <a:lnTo>
                    <a:pt x="848" y="891"/>
                  </a:lnTo>
                  <a:lnTo>
                    <a:pt x="802" y="926"/>
                  </a:lnTo>
                  <a:lnTo>
                    <a:pt x="760" y="953"/>
                  </a:lnTo>
                  <a:lnTo>
                    <a:pt x="741" y="963"/>
                  </a:lnTo>
                  <a:lnTo>
                    <a:pt x="723" y="972"/>
                  </a:lnTo>
                  <a:lnTo>
                    <a:pt x="705" y="979"/>
                  </a:lnTo>
                  <a:lnTo>
                    <a:pt x="688" y="983"/>
                  </a:lnTo>
                  <a:lnTo>
                    <a:pt x="672" y="986"/>
                  </a:lnTo>
                  <a:lnTo>
                    <a:pt x="657" y="987"/>
                  </a:lnTo>
                  <a:lnTo>
                    <a:pt x="652" y="987"/>
                  </a:lnTo>
                  <a:lnTo>
                    <a:pt x="646" y="986"/>
                  </a:lnTo>
                  <a:lnTo>
                    <a:pt x="641" y="986"/>
                  </a:lnTo>
                  <a:lnTo>
                    <a:pt x="636" y="985"/>
                  </a:lnTo>
                  <a:lnTo>
                    <a:pt x="630" y="984"/>
                  </a:lnTo>
                  <a:lnTo>
                    <a:pt x="625" y="982"/>
                  </a:lnTo>
                  <a:lnTo>
                    <a:pt x="621" y="981"/>
                  </a:lnTo>
                  <a:lnTo>
                    <a:pt x="616" y="979"/>
                  </a:lnTo>
                  <a:lnTo>
                    <a:pt x="611" y="977"/>
                  </a:lnTo>
                  <a:lnTo>
                    <a:pt x="606" y="974"/>
                  </a:lnTo>
                  <a:lnTo>
                    <a:pt x="602" y="972"/>
                  </a:lnTo>
                  <a:lnTo>
                    <a:pt x="598" y="969"/>
                  </a:lnTo>
                  <a:lnTo>
                    <a:pt x="593" y="966"/>
                  </a:lnTo>
                  <a:lnTo>
                    <a:pt x="589" y="961"/>
                  </a:lnTo>
                  <a:lnTo>
                    <a:pt x="582" y="954"/>
                  </a:lnTo>
                  <a:lnTo>
                    <a:pt x="577" y="950"/>
                  </a:lnTo>
                  <a:lnTo>
                    <a:pt x="574" y="946"/>
                  </a:lnTo>
                  <a:lnTo>
                    <a:pt x="571" y="941"/>
                  </a:lnTo>
                  <a:lnTo>
                    <a:pt x="568" y="936"/>
                  </a:lnTo>
                  <a:lnTo>
                    <a:pt x="565" y="931"/>
                  </a:lnTo>
                  <a:lnTo>
                    <a:pt x="563" y="926"/>
                  </a:lnTo>
                  <a:lnTo>
                    <a:pt x="560" y="921"/>
                  </a:lnTo>
                  <a:lnTo>
                    <a:pt x="558" y="916"/>
                  </a:lnTo>
                  <a:lnTo>
                    <a:pt x="555" y="903"/>
                  </a:lnTo>
                  <a:lnTo>
                    <a:pt x="553" y="891"/>
                  </a:lnTo>
                  <a:lnTo>
                    <a:pt x="551" y="878"/>
                  </a:lnTo>
                  <a:lnTo>
                    <a:pt x="551" y="864"/>
                  </a:lnTo>
                  <a:lnTo>
                    <a:pt x="551" y="849"/>
                  </a:lnTo>
                  <a:lnTo>
                    <a:pt x="552" y="833"/>
                  </a:lnTo>
                  <a:lnTo>
                    <a:pt x="554" y="818"/>
                  </a:lnTo>
                  <a:lnTo>
                    <a:pt x="556" y="802"/>
                  </a:lnTo>
                  <a:lnTo>
                    <a:pt x="559" y="786"/>
                  </a:lnTo>
                  <a:lnTo>
                    <a:pt x="564" y="770"/>
                  </a:lnTo>
                  <a:lnTo>
                    <a:pt x="569" y="753"/>
                  </a:lnTo>
                  <a:lnTo>
                    <a:pt x="574" y="737"/>
                  </a:lnTo>
                  <a:lnTo>
                    <a:pt x="558" y="763"/>
                  </a:lnTo>
                  <a:lnTo>
                    <a:pt x="539" y="788"/>
                  </a:lnTo>
                  <a:lnTo>
                    <a:pt x="518" y="813"/>
                  </a:lnTo>
                  <a:lnTo>
                    <a:pt x="494" y="837"/>
                  </a:lnTo>
                  <a:lnTo>
                    <a:pt x="466" y="859"/>
                  </a:lnTo>
                  <a:lnTo>
                    <a:pt x="436" y="882"/>
                  </a:lnTo>
                  <a:lnTo>
                    <a:pt x="403" y="904"/>
                  </a:lnTo>
                  <a:lnTo>
                    <a:pt x="367" y="926"/>
                  </a:lnTo>
                  <a:lnTo>
                    <a:pt x="343" y="940"/>
                  </a:lnTo>
                  <a:lnTo>
                    <a:pt x="318" y="951"/>
                  </a:lnTo>
                  <a:lnTo>
                    <a:pt x="295" y="961"/>
                  </a:lnTo>
                  <a:lnTo>
                    <a:pt x="273" y="970"/>
                  </a:lnTo>
                  <a:lnTo>
                    <a:pt x="252" y="976"/>
                  </a:lnTo>
                  <a:lnTo>
                    <a:pt x="230" y="980"/>
                  </a:lnTo>
                  <a:lnTo>
                    <a:pt x="210" y="983"/>
                  </a:lnTo>
                  <a:lnTo>
                    <a:pt x="190" y="984"/>
                  </a:lnTo>
                  <a:lnTo>
                    <a:pt x="178" y="984"/>
                  </a:lnTo>
                  <a:lnTo>
                    <a:pt x="167" y="982"/>
                  </a:lnTo>
                  <a:lnTo>
                    <a:pt x="161" y="981"/>
                  </a:lnTo>
                  <a:lnTo>
                    <a:pt x="156" y="980"/>
                  </a:lnTo>
                  <a:lnTo>
                    <a:pt x="151" y="978"/>
                  </a:lnTo>
                  <a:lnTo>
                    <a:pt x="147" y="976"/>
                  </a:lnTo>
                  <a:lnTo>
                    <a:pt x="141" y="974"/>
                  </a:lnTo>
                  <a:lnTo>
                    <a:pt x="137" y="972"/>
                  </a:lnTo>
                  <a:lnTo>
                    <a:pt x="133" y="969"/>
                  </a:lnTo>
                  <a:lnTo>
                    <a:pt x="129" y="967"/>
                  </a:lnTo>
                  <a:lnTo>
                    <a:pt x="124" y="963"/>
                  </a:lnTo>
                  <a:lnTo>
                    <a:pt x="121" y="959"/>
                  </a:lnTo>
                  <a:lnTo>
                    <a:pt x="117" y="956"/>
                  </a:lnTo>
                  <a:lnTo>
                    <a:pt x="114" y="952"/>
                  </a:lnTo>
                  <a:lnTo>
                    <a:pt x="110" y="948"/>
                  </a:lnTo>
                  <a:lnTo>
                    <a:pt x="107" y="944"/>
                  </a:lnTo>
                  <a:lnTo>
                    <a:pt x="104" y="940"/>
                  </a:lnTo>
                  <a:lnTo>
                    <a:pt x="101" y="934"/>
                  </a:lnTo>
                  <a:lnTo>
                    <a:pt x="99" y="929"/>
                  </a:lnTo>
                  <a:lnTo>
                    <a:pt x="97" y="924"/>
                  </a:lnTo>
                  <a:lnTo>
                    <a:pt x="92" y="914"/>
                  </a:lnTo>
                  <a:lnTo>
                    <a:pt x="89" y="901"/>
                  </a:lnTo>
                  <a:lnTo>
                    <a:pt x="87" y="888"/>
                  </a:lnTo>
                  <a:lnTo>
                    <a:pt x="85" y="874"/>
                  </a:lnTo>
                  <a:lnTo>
                    <a:pt x="85" y="858"/>
                  </a:lnTo>
                  <a:lnTo>
                    <a:pt x="85" y="847"/>
                  </a:lnTo>
                  <a:lnTo>
                    <a:pt x="86" y="837"/>
                  </a:lnTo>
                  <a:lnTo>
                    <a:pt x="88" y="813"/>
                  </a:lnTo>
                  <a:lnTo>
                    <a:pt x="91" y="789"/>
                  </a:lnTo>
                  <a:lnTo>
                    <a:pt x="96" y="764"/>
                  </a:lnTo>
                  <a:lnTo>
                    <a:pt x="105" y="721"/>
                  </a:lnTo>
                  <a:lnTo>
                    <a:pt x="121" y="661"/>
                  </a:lnTo>
                  <a:lnTo>
                    <a:pt x="169" y="490"/>
                  </a:lnTo>
                  <a:lnTo>
                    <a:pt x="223" y="285"/>
                  </a:lnTo>
                  <a:lnTo>
                    <a:pt x="237" y="222"/>
                  </a:lnTo>
                  <a:lnTo>
                    <a:pt x="240" y="200"/>
                  </a:lnTo>
                  <a:lnTo>
                    <a:pt x="241" y="192"/>
                  </a:lnTo>
                  <a:lnTo>
                    <a:pt x="241" y="184"/>
                  </a:lnTo>
                  <a:lnTo>
                    <a:pt x="241" y="181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0" y="176"/>
                  </a:lnTo>
                  <a:lnTo>
                    <a:pt x="239" y="176"/>
                  </a:lnTo>
                  <a:lnTo>
                    <a:pt x="237" y="177"/>
                  </a:lnTo>
                  <a:lnTo>
                    <a:pt x="235" y="177"/>
                  </a:lnTo>
                  <a:lnTo>
                    <a:pt x="229" y="179"/>
                  </a:lnTo>
                  <a:lnTo>
                    <a:pt x="225" y="181"/>
                  </a:lnTo>
                  <a:lnTo>
                    <a:pt x="219" y="183"/>
                  </a:lnTo>
                  <a:lnTo>
                    <a:pt x="212" y="187"/>
                  </a:lnTo>
                  <a:lnTo>
                    <a:pt x="197" y="195"/>
                  </a:lnTo>
                  <a:lnTo>
                    <a:pt x="189" y="200"/>
                  </a:lnTo>
                  <a:lnTo>
                    <a:pt x="178" y="207"/>
                  </a:lnTo>
                  <a:lnTo>
                    <a:pt x="151" y="228"/>
                  </a:lnTo>
                  <a:lnTo>
                    <a:pt x="72" y="292"/>
                  </a:lnTo>
                  <a:lnTo>
                    <a:pt x="0" y="234"/>
                  </a:lnTo>
                  <a:lnTo>
                    <a:pt x="74" y="167"/>
                  </a:lnTo>
                  <a:lnTo>
                    <a:pt x="139" y="112"/>
                  </a:lnTo>
                  <a:lnTo>
                    <a:pt x="168" y="90"/>
                  </a:lnTo>
                  <a:lnTo>
                    <a:pt x="193" y="71"/>
                  </a:lnTo>
                  <a:lnTo>
                    <a:pt x="218" y="55"/>
                  </a:lnTo>
                  <a:lnTo>
                    <a:pt x="239" y="43"/>
                  </a:lnTo>
                  <a:lnTo>
                    <a:pt x="259" y="33"/>
                  </a:lnTo>
                  <a:lnTo>
                    <a:pt x="278" y="24"/>
                  </a:lnTo>
                  <a:lnTo>
                    <a:pt x="296" y="17"/>
                  </a:lnTo>
                  <a:lnTo>
                    <a:pt x="313" y="11"/>
                  </a:lnTo>
                  <a:lnTo>
                    <a:pt x="329" y="7"/>
                  </a:lnTo>
                  <a:lnTo>
                    <a:pt x="345" y="3"/>
                  </a:lnTo>
                  <a:lnTo>
                    <a:pt x="359" y="1"/>
                  </a:lnTo>
                  <a:lnTo>
                    <a:pt x="373" y="0"/>
                  </a:lnTo>
                  <a:lnTo>
                    <a:pt x="377" y="0"/>
                  </a:lnTo>
                  <a:lnTo>
                    <a:pt x="381" y="0"/>
                  </a:lnTo>
                  <a:lnTo>
                    <a:pt x="386" y="1"/>
                  </a:lnTo>
                  <a:lnTo>
                    <a:pt x="390" y="2"/>
                  </a:lnTo>
                  <a:lnTo>
                    <a:pt x="394" y="3"/>
                  </a:lnTo>
                  <a:lnTo>
                    <a:pt x="398" y="5"/>
                  </a:lnTo>
                  <a:lnTo>
                    <a:pt x="402" y="6"/>
                  </a:lnTo>
                  <a:lnTo>
                    <a:pt x="405" y="8"/>
                  </a:lnTo>
                  <a:lnTo>
                    <a:pt x="410" y="9"/>
                  </a:lnTo>
                  <a:lnTo>
                    <a:pt x="413" y="11"/>
                  </a:lnTo>
                  <a:lnTo>
                    <a:pt x="416" y="13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27" y="21"/>
                  </a:lnTo>
                  <a:lnTo>
                    <a:pt x="429" y="24"/>
                  </a:lnTo>
                  <a:lnTo>
                    <a:pt x="432" y="27"/>
                  </a:lnTo>
                  <a:lnTo>
                    <a:pt x="435" y="31"/>
                  </a:lnTo>
                  <a:lnTo>
                    <a:pt x="437" y="34"/>
                  </a:lnTo>
                  <a:lnTo>
                    <a:pt x="441" y="38"/>
                  </a:lnTo>
                  <a:lnTo>
                    <a:pt x="443" y="41"/>
                  </a:lnTo>
                  <a:lnTo>
                    <a:pt x="445" y="45"/>
                  </a:lnTo>
                  <a:lnTo>
                    <a:pt x="447" y="49"/>
                  </a:lnTo>
                  <a:lnTo>
                    <a:pt x="450" y="59"/>
                  </a:lnTo>
                  <a:lnTo>
                    <a:pt x="452" y="68"/>
                  </a:lnTo>
                  <a:lnTo>
                    <a:pt x="454" y="78"/>
                  </a:lnTo>
                  <a:lnTo>
                    <a:pt x="455" y="89"/>
                  </a:lnTo>
                  <a:lnTo>
                    <a:pt x="455" y="100"/>
                  </a:lnTo>
                  <a:lnTo>
                    <a:pt x="454" y="123"/>
                  </a:lnTo>
                  <a:lnTo>
                    <a:pt x="450" y="152"/>
                  </a:lnTo>
                  <a:lnTo>
                    <a:pt x="435" y="231"/>
                  </a:lnTo>
                  <a:lnTo>
                    <a:pt x="411" y="337"/>
                  </a:lnTo>
                  <a:lnTo>
                    <a:pt x="376" y="472"/>
                  </a:lnTo>
                  <a:lnTo>
                    <a:pt x="324" y="673"/>
                  </a:lnTo>
                  <a:lnTo>
                    <a:pt x="311" y="733"/>
                  </a:lnTo>
                  <a:lnTo>
                    <a:pt x="308" y="751"/>
                  </a:lnTo>
                  <a:lnTo>
                    <a:pt x="307" y="759"/>
                  </a:lnTo>
                  <a:lnTo>
                    <a:pt x="307" y="764"/>
                  </a:lnTo>
                  <a:lnTo>
                    <a:pt x="307" y="768"/>
                  </a:lnTo>
                  <a:lnTo>
                    <a:pt x="307" y="771"/>
                  </a:lnTo>
                  <a:lnTo>
                    <a:pt x="308" y="774"/>
                  </a:lnTo>
                  <a:lnTo>
                    <a:pt x="309" y="778"/>
                  </a:lnTo>
                  <a:lnTo>
                    <a:pt x="310" y="780"/>
                  </a:lnTo>
                  <a:lnTo>
                    <a:pt x="310" y="782"/>
                  </a:lnTo>
                  <a:lnTo>
                    <a:pt x="311" y="784"/>
                  </a:lnTo>
                  <a:lnTo>
                    <a:pt x="311" y="785"/>
                  </a:lnTo>
                  <a:lnTo>
                    <a:pt x="312" y="787"/>
                  </a:lnTo>
                  <a:lnTo>
                    <a:pt x="313" y="788"/>
                  </a:lnTo>
                  <a:lnTo>
                    <a:pt x="314" y="789"/>
                  </a:lnTo>
                  <a:lnTo>
                    <a:pt x="316" y="791"/>
                  </a:lnTo>
                  <a:lnTo>
                    <a:pt x="318" y="792"/>
                  </a:lnTo>
                  <a:lnTo>
                    <a:pt x="321" y="794"/>
                  </a:lnTo>
                  <a:lnTo>
                    <a:pt x="323" y="795"/>
                  </a:lnTo>
                  <a:lnTo>
                    <a:pt x="323" y="795"/>
                  </a:lnTo>
                  <a:lnTo>
                    <a:pt x="324" y="796"/>
                  </a:lnTo>
                  <a:lnTo>
                    <a:pt x="325" y="796"/>
                  </a:lnTo>
                  <a:lnTo>
                    <a:pt x="326" y="796"/>
                  </a:lnTo>
                  <a:lnTo>
                    <a:pt x="327" y="797"/>
                  </a:lnTo>
                  <a:lnTo>
                    <a:pt x="328" y="797"/>
                  </a:lnTo>
                  <a:lnTo>
                    <a:pt x="329" y="797"/>
                  </a:lnTo>
                  <a:lnTo>
                    <a:pt x="330" y="797"/>
                  </a:lnTo>
                  <a:lnTo>
                    <a:pt x="337" y="797"/>
                  </a:lnTo>
                  <a:lnTo>
                    <a:pt x="344" y="796"/>
                  </a:lnTo>
                  <a:lnTo>
                    <a:pt x="351" y="794"/>
                  </a:lnTo>
                  <a:lnTo>
                    <a:pt x="360" y="791"/>
                  </a:lnTo>
                  <a:lnTo>
                    <a:pt x="368" y="788"/>
                  </a:lnTo>
                  <a:lnTo>
                    <a:pt x="377" y="784"/>
                  </a:lnTo>
                  <a:lnTo>
                    <a:pt x="396" y="773"/>
                  </a:lnTo>
                  <a:lnTo>
                    <a:pt x="417" y="761"/>
                  </a:lnTo>
                  <a:lnTo>
                    <a:pt x="439" y="744"/>
                  </a:lnTo>
                  <a:lnTo>
                    <a:pt x="464" y="724"/>
                  </a:lnTo>
                  <a:lnTo>
                    <a:pt x="489" y="702"/>
                  </a:lnTo>
                  <a:lnTo>
                    <a:pt x="515" y="678"/>
                  </a:lnTo>
                  <a:lnTo>
                    <a:pt x="539" y="654"/>
                  </a:lnTo>
                  <a:lnTo>
                    <a:pt x="559" y="629"/>
                  </a:lnTo>
                  <a:lnTo>
                    <a:pt x="578" y="602"/>
                  </a:lnTo>
                  <a:lnTo>
                    <a:pt x="595" y="574"/>
                  </a:lnTo>
                  <a:lnTo>
                    <a:pt x="609" y="546"/>
                  </a:lnTo>
                  <a:lnTo>
                    <a:pt x="621" y="517"/>
                  </a:lnTo>
                  <a:lnTo>
                    <a:pt x="630" y="48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95720" y="1338120"/>
              <a:ext cx="363600" cy="355680"/>
            </a:xfrm>
            <a:custGeom>
              <a:avLst/>
              <a:gdLst/>
              <a:ahLst/>
              <a:rect l="l" t="t" r="r" b="b"/>
              <a:pathLst>
                <a:path w="1008" h="988">
                  <a:moveTo>
                    <a:pt x="1007" y="740"/>
                  </a:moveTo>
                  <a:lnTo>
                    <a:pt x="951" y="798"/>
                  </a:lnTo>
                  <a:lnTo>
                    <a:pt x="898" y="848"/>
                  </a:lnTo>
                  <a:lnTo>
                    <a:pt x="848" y="891"/>
                  </a:lnTo>
                  <a:lnTo>
                    <a:pt x="802" y="926"/>
                  </a:lnTo>
                  <a:lnTo>
                    <a:pt x="761" y="953"/>
                  </a:lnTo>
                  <a:lnTo>
                    <a:pt x="741" y="963"/>
                  </a:lnTo>
                  <a:lnTo>
                    <a:pt x="723" y="972"/>
                  </a:lnTo>
                  <a:lnTo>
                    <a:pt x="705" y="979"/>
                  </a:lnTo>
                  <a:lnTo>
                    <a:pt x="688" y="983"/>
                  </a:lnTo>
                  <a:lnTo>
                    <a:pt x="672" y="986"/>
                  </a:lnTo>
                  <a:lnTo>
                    <a:pt x="657" y="987"/>
                  </a:lnTo>
                  <a:lnTo>
                    <a:pt x="652" y="987"/>
                  </a:lnTo>
                  <a:lnTo>
                    <a:pt x="646" y="986"/>
                  </a:lnTo>
                  <a:lnTo>
                    <a:pt x="642" y="986"/>
                  </a:lnTo>
                  <a:lnTo>
                    <a:pt x="637" y="985"/>
                  </a:lnTo>
                  <a:lnTo>
                    <a:pt x="632" y="984"/>
                  </a:lnTo>
                  <a:lnTo>
                    <a:pt x="627" y="982"/>
                  </a:lnTo>
                  <a:lnTo>
                    <a:pt x="623" y="981"/>
                  </a:lnTo>
                  <a:lnTo>
                    <a:pt x="618" y="979"/>
                  </a:lnTo>
                  <a:lnTo>
                    <a:pt x="609" y="974"/>
                  </a:lnTo>
                  <a:lnTo>
                    <a:pt x="600" y="969"/>
                  </a:lnTo>
                  <a:lnTo>
                    <a:pt x="591" y="961"/>
                  </a:lnTo>
                  <a:lnTo>
                    <a:pt x="583" y="954"/>
                  </a:lnTo>
                  <a:lnTo>
                    <a:pt x="578" y="950"/>
                  </a:lnTo>
                  <a:lnTo>
                    <a:pt x="575" y="946"/>
                  </a:lnTo>
                  <a:lnTo>
                    <a:pt x="571" y="941"/>
                  </a:lnTo>
                  <a:lnTo>
                    <a:pt x="568" y="936"/>
                  </a:lnTo>
                  <a:lnTo>
                    <a:pt x="566" y="931"/>
                  </a:lnTo>
                  <a:lnTo>
                    <a:pt x="563" y="926"/>
                  </a:lnTo>
                  <a:lnTo>
                    <a:pt x="560" y="921"/>
                  </a:lnTo>
                  <a:lnTo>
                    <a:pt x="558" y="916"/>
                  </a:lnTo>
                  <a:lnTo>
                    <a:pt x="554" y="903"/>
                  </a:lnTo>
                  <a:lnTo>
                    <a:pt x="552" y="892"/>
                  </a:lnTo>
                  <a:lnTo>
                    <a:pt x="550" y="878"/>
                  </a:lnTo>
                  <a:lnTo>
                    <a:pt x="550" y="865"/>
                  </a:lnTo>
                  <a:lnTo>
                    <a:pt x="550" y="849"/>
                  </a:lnTo>
                  <a:lnTo>
                    <a:pt x="551" y="833"/>
                  </a:lnTo>
                  <a:lnTo>
                    <a:pt x="553" y="816"/>
                  </a:lnTo>
                  <a:lnTo>
                    <a:pt x="555" y="798"/>
                  </a:lnTo>
                  <a:lnTo>
                    <a:pt x="563" y="760"/>
                  </a:lnTo>
                  <a:lnTo>
                    <a:pt x="572" y="717"/>
                  </a:lnTo>
                  <a:lnTo>
                    <a:pt x="624" y="532"/>
                  </a:lnTo>
                  <a:lnTo>
                    <a:pt x="362" y="532"/>
                  </a:lnTo>
                  <a:lnTo>
                    <a:pt x="259" y="950"/>
                  </a:lnTo>
                  <a:lnTo>
                    <a:pt x="54" y="950"/>
                  </a:lnTo>
                  <a:lnTo>
                    <a:pt x="55" y="940"/>
                  </a:lnTo>
                  <a:lnTo>
                    <a:pt x="56" y="929"/>
                  </a:lnTo>
                  <a:lnTo>
                    <a:pt x="62" y="902"/>
                  </a:lnTo>
                  <a:lnTo>
                    <a:pt x="68" y="871"/>
                  </a:lnTo>
                  <a:lnTo>
                    <a:pt x="78" y="834"/>
                  </a:lnTo>
                  <a:lnTo>
                    <a:pt x="87" y="803"/>
                  </a:lnTo>
                  <a:lnTo>
                    <a:pt x="100" y="755"/>
                  </a:lnTo>
                  <a:lnTo>
                    <a:pt x="136" y="614"/>
                  </a:lnTo>
                  <a:lnTo>
                    <a:pt x="234" y="229"/>
                  </a:lnTo>
                  <a:lnTo>
                    <a:pt x="237" y="216"/>
                  </a:lnTo>
                  <a:lnTo>
                    <a:pt x="239" y="204"/>
                  </a:lnTo>
                  <a:lnTo>
                    <a:pt x="240" y="199"/>
                  </a:lnTo>
                  <a:lnTo>
                    <a:pt x="241" y="195"/>
                  </a:lnTo>
                  <a:lnTo>
                    <a:pt x="241" y="191"/>
                  </a:lnTo>
                  <a:lnTo>
                    <a:pt x="241" y="187"/>
                  </a:lnTo>
                  <a:lnTo>
                    <a:pt x="241" y="182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40" y="176"/>
                  </a:lnTo>
                  <a:lnTo>
                    <a:pt x="238" y="176"/>
                  </a:lnTo>
                  <a:lnTo>
                    <a:pt x="235" y="176"/>
                  </a:lnTo>
                  <a:lnTo>
                    <a:pt x="229" y="178"/>
                  </a:lnTo>
                  <a:lnTo>
                    <a:pt x="223" y="180"/>
                  </a:lnTo>
                  <a:lnTo>
                    <a:pt x="216" y="183"/>
                  </a:lnTo>
                  <a:lnTo>
                    <a:pt x="199" y="193"/>
                  </a:lnTo>
                  <a:lnTo>
                    <a:pt x="179" y="205"/>
                  </a:lnTo>
                  <a:lnTo>
                    <a:pt x="157" y="221"/>
                  </a:lnTo>
                  <a:lnTo>
                    <a:pt x="132" y="241"/>
                  </a:lnTo>
                  <a:lnTo>
                    <a:pt x="73" y="292"/>
                  </a:lnTo>
                  <a:lnTo>
                    <a:pt x="0" y="235"/>
                  </a:lnTo>
                  <a:lnTo>
                    <a:pt x="60" y="180"/>
                  </a:lnTo>
                  <a:lnTo>
                    <a:pt x="116" y="132"/>
                  </a:lnTo>
                  <a:lnTo>
                    <a:pt x="168" y="93"/>
                  </a:lnTo>
                  <a:lnTo>
                    <a:pt x="216" y="60"/>
                  </a:lnTo>
                  <a:lnTo>
                    <a:pt x="260" y="34"/>
                  </a:lnTo>
                  <a:lnTo>
                    <a:pt x="281" y="23"/>
                  </a:lnTo>
                  <a:lnTo>
                    <a:pt x="301" y="15"/>
                  </a:lnTo>
                  <a:lnTo>
                    <a:pt x="321" y="9"/>
                  </a:lnTo>
                  <a:lnTo>
                    <a:pt x="339" y="5"/>
                  </a:lnTo>
                  <a:lnTo>
                    <a:pt x="357" y="1"/>
                  </a:lnTo>
                  <a:lnTo>
                    <a:pt x="373" y="0"/>
                  </a:lnTo>
                  <a:lnTo>
                    <a:pt x="383" y="0"/>
                  </a:lnTo>
                  <a:lnTo>
                    <a:pt x="393" y="2"/>
                  </a:lnTo>
                  <a:lnTo>
                    <a:pt x="401" y="3"/>
                  </a:lnTo>
                  <a:lnTo>
                    <a:pt x="410" y="7"/>
                  </a:lnTo>
                  <a:lnTo>
                    <a:pt x="417" y="11"/>
                  </a:lnTo>
                  <a:lnTo>
                    <a:pt x="424" y="15"/>
                  </a:lnTo>
                  <a:lnTo>
                    <a:pt x="430" y="20"/>
                  </a:lnTo>
                  <a:lnTo>
                    <a:pt x="435" y="26"/>
                  </a:lnTo>
                  <a:lnTo>
                    <a:pt x="440" y="33"/>
                  </a:lnTo>
                  <a:lnTo>
                    <a:pt x="445" y="40"/>
                  </a:lnTo>
                  <a:lnTo>
                    <a:pt x="448" y="48"/>
                  </a:lnTo>
                  <a:lnTo>
                    <a:pt x="451" y="58"/>
                  </a:lnTo>
                  <a:lnTo>
                    <a:pt x="453" y="67"/>
                  </a:lnTo>
                  <a:lnTo>
                    <a:pt x="455" y="77"/>
                  </a:lnTo>
                  <a:lnTo>
                    <a:pt x="456" y="89"/>
                  </a:lnTo>
                  <a:lnTo>
                    <a:pt x="456" y="101"/>
                  </a:lnTo>
                  <a:lnTo>
                    <a:pt x="455" y="123"/>
                  </a:lnTo>
                  <a:lnTo>
                    <a:pt x="452" y="150"/>
                  </a:lnTo>
                  <a:lnTo>
                    <a:pt x="447" y="183"/>
                  </a:lnTo>
                  <a:lnTo>
                    <a:pt x="438" y="221"/>
                  </a:lnTo>
                  <a:lnTo>
                    <a:pt x="416" y="311"/>
                  </a:lnTo>
                  <a:lnTo>
                    <a:pt x="384" y="422"/>
                  </a:lnTo>
                  <a:lnTo>
                    <a:pt x="648" y="422"/>
                  </a:lnTo>
                  <a:lnTo>
                    <a:pt x="755" y="28"/>
                  </a:lnTo>
                  <a:lnTo>
                    <a:pt x="951" y="28"/>
                  </a:lnTo>
                  <a:lnTo>
                    <a:pt x="847" y="432"/>
                  </a:lnTo>
                  <a:lnTo>
                    <a:pt x="779" y="685"/>
                  </a:lnTo>
                  <a:lnTo>
                    <a:pt x="762" y="759"/>
                  </a:lnTo>
                  <a:lnTo>
                    <a:pt x="758" y="782"/>
                  </a:lnTo>
                  <a:lnTo>
                    <a:pt x="757" y="792"/>
                  </a:lnTo>
                  <a:lnTo>
                    <a:pt x="757" y="798"/>
                  </a:lnTo>
                  <a:lnTo>
                    <a:pt x="757" y="803"/>
                  </a:lnTo>
                  <a:lnTo>
                    <a:pt x="758" y="806"/>
                  </a:lnTo>
                  <a:lnTo>
                    <a:pt x="758" y="808"/>
                  </a:lnTo>
                  <a:lnTo>
                    <a:pt x="758" y="811"/>
                  </a:lnTo>
                  <a:lnTo>
                    <a:pt x="759" y="812"/>
                  </a:lnTo>
                  <a:lnTo>
                    <a:pt x="759" y="813"/>
                  </a:lnTo>
                  <a:lnTo>
                    <a:pt x="760" y="814"/>
                  </a:lnTo>
                  <a:lnTo>
                    <a:pt x="760" y="815"/>
                  </a:lnTo>
                  <a:lnTo>
                    <a:pt x="761" y="816"/>
                  </a:lnTo>
                  <a:lnTo>
                    <a:pt x="762" y="817"/>
                  </a:lnTo>
                  <a:lnTo>
                    <a:pt x="762" y="817"/>
                  </a:lnTo>
                  <a:lnTo>
                    <a:pt x="762" y="817"/>
                  </a:lnTo>
                  <a:lnTo>
                    <a:pt x="763" y="818"/>
                  </a:lnTo>
                  <a:lnTo>
                    <a:pt x="763" y="818"/>
                  </a:lnTo>
                  <a:lnTo>
                    <a:pt x="764" y="818"/>
                  </a:lnTo>
                  <a:lnTo>
                    <a:pt x="764" y="818"/>
                  </a:lnTo>
                  <a:lnTo>
                    <a:pt x="765" y="818"/>
                  </a:lnTo>
                  <a:lnTo>
                    <a:pt x="767" y="818"/>
                  </a:lnTo>
                  <a:lnTo>
                    <a:pt x="769" y="817"/>
                  </a:lnTo>
                  <a:lnTo>
                    <a:pt x="775" y="816"/>
                  </a:lnTo>
                  <a:lnTo>
                    <a:pt x="781" y="813"/>
                  </a:lnTo>
                  <a:lnTo>
                    <a:pt x="788" y="810"/>
                  </a:lnTo>
                  <a:lnTo>
                    <a:pt x="804" y="798"/>
                  </a:lnTo>
                  <a:lnTo>
                    <a:pt x="826" y="782"/>
                  </a:lnTo>
                  <a:lnTo>
                    <a:pt x="879" y="739"/>
                  </a:lnTo>
                  <a:lnTo>
                    <a:pt x="948" y="67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52840" y="1347840"/>
              <a:ext cx="392040" cy="345960"/>
            </a:xfrm>
            <a:custGeom>
              <a:avLst/>
              <a:gdLst/>
              <a:ahLst/>
              <a:rect l="l" t="t" r="r" b="b"/>
              <a:pathLst>
                <a:path w="1089" h="963">
                  <a:moveTo>
                    <a:pt x="94" y="666"/>
                  </a:moveTo>
                  <a:lnTo>
                    <a:pt x="121" y="753"/>
                  </a:lnTo>
                  <a:lnTo>
                    <a:pt x="130" y="778"/>
                  </a:lnTo>
                  <a:lnTo>
                    <a:pt x="133" y="787"/>
                  </a:lnTo>
                  <a:lnTo>
                    <a:pt x="134" y="790"/>
                  </a:lnTo>
                  <a:lnTo>
                    <a:pt x="135" y="792"/>
                  </a:lnTo>
                  <a:lnTo>
                    <a:pt x="137" y="795"/>
                  </a:lnTo>
                  <a:lnTo>
                    <a:pt x="140" y="798"/>
                  </a:lnTo>
                  <a:lnTo>
                    <a:pt x="141" y="799"/>
                  </a:lnTo>
                  <a:lnTo>
                    <a:pt x="142" y="800"/>
                  </a:lnTo>
                  <a:lnTo>
                    <a:pt x="145" y="801"/>
                  </a:lnTo>
                  <a:lnTo>
                    <a:pt x="146" y="802"/>
                  </a:lnTo>
                  <a:lnTo>
                    <a:pt x="147" y="803"/>
                  </a:lnTo>
                  <a:lnTo>
                    <a:pt x="149" y="804"/>
                  </a:lnTo>
                  <a:lnTo>
                    <a:pt x="150" y="805"/>
                  </a:lnTo>
                  <a:lnTo>
                    <a:pt x="152" y="805"/>
                  </a:lnTo>
                  <a:lnTo>
                    <a:pt x="153" y="805"/>
                  </a:lnTo>
                  <a:lnTo>
                    <a:pt x="155" y="806"/>
                  </a:lnTo>
                  <a:lnTo>
                    <a:pt x="156" y="806"/>
                  </a:lnTo>
                  <a:lnTo>
                    <a:pt x="158" y="806"/>
                  </a:lnTo>
                  <a:lnTo>
                    <a:pt x="164" y="806"/>
                  </a:lnTo>
                  <a:lnTo>
                    <a:pt x="169" y="805"/>
                  </a:lnTo>
                  <a:lnTo>
                    <a:pt x="174" y="803"/>
                  </a:lnTo>
                  <a:lnTo>
                    <a:pt x="180" y="800"/>
                  </a:lnTo>
                  <a:lnTo>
                    <a:pt x="185" y="797"/>
                  </a:lnTo>
                  <a:lnTo>
                    <a:pt x="191" y="793"/>
                  </a:lnTo>
                  <a:lnTo>
                    <a:pt x="197" y="788"/>
                  </a:lnTo>
                  <a:lnTo>
                    <a:pt x="203" y="781"/>
                  </a:lnTo>
                  <a:lnTo>
                    <a:pt x="216" y="768"/>
                  </a:lnTo>
                  <a:lnTo>
                    <a:pt x="229" y="750"/>
                  </a:lnTo>
                  <a:lnTo>
                    <a:pt x="244" y="730"/>
                  </a:lnTo>
                  <a:lnTo>
                    <a:pt x="259" y="707"/>
                  </a:lnTo>
                  <a:lnTo>
                    <a:pt x="294" y="652"/>
                  </a:lnTo>
                  <a:lnTo>
                    <a:pt x="310" y="630"/>
                  </a:lnTo>
                  <a:lnTo>
                    <a:pt x="326" y="609"/>
                  </a:lnTo>
                  <a:lnTo>
                    <a:pt x="342" y="590"/>
                  </a:lnTo>
                  <a:lnTo>
                    <a:pt x="357" y="573"/>
                  </a:lnTo>
                  <a:lnTo>
                    <a:pt x="371" y="559"/>
                  </a:lnTo>
                  <a:lnTo>
                    <a:pt x="384" y="547"/>
                  </a:lnTo>
                  <a:lnTo>
                    <a:pt x="399" y="537"/>
                  </a:lnTo>
                  <a:lnTo>
                    <a:pt x="415" y="527"/>
                  </a:lnTo>
                  <a:lnTo>
                    <a:pt x="432" y="517"/>
                  </a:lnTo>
                  <a:lnTo>
                    <a:pt x="451" y="509"/>
                  </a:lnTo>
                  <a:lnTo>
                    <a:pt x="473" y="501"/>
                  </a:lnTo>
                  <a:lnTo>
                    <a:pt x="495" y="492"/>
                  </a:lnTo>
                  <a:lnTo>
                    <a:pt x="518" y="485"/>
                  </a:lnTo>
                  <a:lnTo>
                    <a:pt x="544" y="479"/>
                  </a:lnTo>
                  <a:lnTo>
                    <a:pt x="544" y="504"/>
                  </a:lnTo>
                  <a:lnTo>
                    <a:pt x="537" y="504"/>
                  </a:lnTo>
                  <a:lnTo>
                    <a:pt x="501" y="503"/>
                  </a:lnTo>
                  <a:lnTo>
                    <a:pt x="468" y="500"/>
                  </a:lnTo>
                  <a:lnTo>
                    <a:pt x="436" y="495"/>
                  </a:lnTo>
                  <a:lnTo>
                    <a:pt x="408" y="489"/>
                  </a:lnTo>
                  <a:lnTo>
                    <a:pt x="380" y="481"/>
                  </a:lnTo>
                  <a:lnTo>
                    <a:pt x="356" y="470"/>
                  </a:lnTo>
                  <a:lnTo>
                    <a:pt x="344" y="465"/>
                  </a:lnTo>
                  <a:lnTo>
                    <a:pt x="332" y="459"/>
                  </a:lnTo>
                  <a:lnTo>
                    <a:pt x="322" y="453"/>
                  </a:lnTo>
                  <a:lnTo>
                    <a:pt x="312" y="445"/>
                  </a:lnTo>
                  <a:lnTo>
                    <a:pt x="294" y="431"/>
                  </a:lnTo>
                  <a:lnTo>
                    <a:pt x="287" y="423"/>
                  </a:lnTo>
                  <a:lnTo>
                    <a:pt x="279" y="414"/>
                  </a:lnTo>
                  <a:lnTo>
                    <a:pt x="272" y="406"/>
                  </a:lnTo>
                  <a:lnTo>
                    <a:pt x="266" y="398"/>
                  </a:lnTo>
                  <a:lnTo>
                    <a:pt x="260" y="389"/>
                  </a:lnTo>
                  <a:lnTo>
                    <a:pt x="255" y="380"/>
                  </a:lnTo>
                  <a:lnTo>
                    <a:pt x="251" y="371"/>
                  </a:lnTo>
                  <a:lnTo>
                    <a:pt x="246" y="361"/>
                  </a:lnTo>
                  <a:lnTo>
                    <a:pt x="243" y="352"/>
                  </a:lnTo>
                  <a:lnTo>
                    <a:pt x="241" y="341"/>
                  </a:lnTo>
                  <a:lnTo>
                    <a:pt x="239" y="332"/>
                  </a:lnTo>
                  <a:lnTo>
                    <a:pt x="237" y="322"/>
                  </a:lnTo>
                  <a:lnTo>
                    <a:pt x="236" y="310"/>
                  </a:lnTo>
                  <a:lnTo>
                    <a:pt x="236" y="300"/>
                  </a:lnTo>
                  <a:lnTo>
                    <a:pt x="237" y="283"/>
                  </a:lnTo>
                  <a:lnTo>
                    <a:pt x="238" y="268"/>
                  </a:lnTo>
                  <a:lnTo>
                    <a:pt x="241" y="251"/>
                  </a:lnTo>
                  <a:lnTo>
                    <a:pt x="245" y="236"/>
                  </a:lnTo>
                  <a:lnTo>
                    <a:pt x="252" y="221"/>
                  </a:lnTo>
                  <a:lnTo>
                    <a:pt x="258" y="206"/>
                  </a:lnTo>
                  <a:lnTo>
                    <a:pt x="267" y="193"/>
                  </a:lnTo>
                  <a:lnTo>
                    <a:pt x="276" y="179"/>
                  </a:lnTo>
                  <a:lnTo>
                    <a:pt x="287" y="166"/>
                  </a:lnTo>
                  <a:lnTo>
                    <a:pt x="298" y="152"/>
                  </a:lnTo>
                  <a:lnTo>
                    <a:pt x="311" y="140"/>
                  </a:lnTo>
                  <a:lnTo>
                    <a:pt x="326" y="128"/>
                  </a:lnTo>
                  <a:lnTo>
                    <a:pt x="342" y="117"/>
                  </a:lnTo>
                  <a:lnTo>
                    <a:pt x="359" y="105"/>
                  </a:lnTo>
                  <a:lnTo>
                    <a:pt x="396" y="84"/>
                  </a:lnTo>
                  <a:lnTo>
                    <a:pt x="437" y="64"/>
                  </a:lnTo>
                  <a:lnTo>
                    <a:pt x="481" y="47"/>
                  </a:lnTo>
                  <a:lnTo>
                    <a:pt x="528" y="33"/>
                  </a:lnTo>
                  <a:lnTo>
                    <a:pt x="577" y="21"/>
                  </a:lnTo>
                  <a:lnTo>
                    <a:pt x="629" y="12"/>
                  </a:lnTo>
                  <a:lnTo>
                    <a:pt x="682" y="6"/>
                  </a:lnTo>
                  <a:lnTo>
                    <a:pt x="739" y="1"/>
                  </a:lnTo>
                  <a:lnTo>
                    <a:pt x="797" y="0"/>
                  </a:lnTo>
                  <a:lnTo>
                    <a:pt x="1033" y="6"/>
                  </a:lnTo>
                  <a:lnTo>
                    <a:pt x="929" y="407"/>
                  </a:lnTo>
                  <a:lnTo>
                    <a:pt x="862" y="660"/>
                  </a:lnTo>
                  <a:lnTo>
                    <a:pt x="845" y="734"/>
                  </a:lnTo>
                  <a:lnTo>
                    <a:pt x="841" y="757"/>
                  </a:lnTo>
                  <a:lnTo>
                    <a:pt x="840" y="767"/>
                  </a:lnTo>
                  <a:lnTo>
                    <a:pt x="840" y="773"/>
                  </a:lnTo>
                  <a:lnTo>
                    <a:pt x="840" y="778"/>
                  </a:lnTo>
                  <a:lnTo>
                    <a:pt x="840" y="781"/>
                  </a:lnTo>
                  <a:lnTo>
                    <a:pt x="841" y="786"/>
                  </a:lnTo>
                  <a:lnTo>
                    <a:pt x="841" y="787"/>
                  </a:lnTo>
                  <a:lnTo>
                    <a:pt x="842" y="788"/>
                  </a:lnTo>
                  <a:lnTo>
                    <a:pt x="842" y="789"/>
                  </a:lnTo>
                  <a:lnTo>
                    <a:pt x="843" y="790"/>
                  </a:lnTo>
                  <a:lnTo>
                    <a:pt x="843" y="791"/>
                  </a:lnTo>
                  <a:lnTo>
                    <a:pt x="843" y="792"/>
                  </a:lnTo>
                  <a:lnTo>
                    <a:pt x="844" y="792"/>
                  </a:lnTo>
                  <a:lnTo>
                    <a:pt x="844" y="792"/>
                  </a:lnTo>
                  <a:lnTo>
                    <a:pt x="844" y="792"/>
                  </a:lnTo>
                  <a:lnTo>
                    <a:pt x="845" y="793"/>
                  </a:lnTo>
                  <a:lnTo>
                    <a:pt x="845" y="793"/>
                  </a:lnTo>
                  <a:lnTo>
                    <a:pt x="846" y="793"/>
                  </a:lnTo>
                  <a:lnTo>
                    <a:pt x="846" y="793"/>
                  </a:lnTo>
                  <a:lnTo>
                    <a:pt x="847" y="793"/>
                  </a:lnTo>
                  <a:lnTo>
                    <a:pt x="847" y="793"/>
                  </a:lnTo>
                  <a:lnTo>
                    <a:pt x="849" y="793"/>
                  </a:lnTo>
                  <a:lnTo>
                    <a:pt x="851" y="792"/>
                  </a:lnTo>
                  <a:lnTo>
                    <a:pt x="857" y="791"/>
                  </a:lnTo>
                  <a:lnTo>
                    <a:pt x="863" y="788"/>
                  </a:lnTo>
                  <a:lnTo>
                    <a:pt x="869" y="785"/>
                  </a:lnTo>
                  <a:lnTo>
                    <a:pt x="886" y="773"/>
                  </a:lnTo>
                  <a:lnTo>
                    <a:pt x="908" y="759"/>
                  </a:lnTo>
                  <a:lnTo>
                    <a:pt x="961" y="715"/>
                  </a:lnTo>
                  <a:lnTo>
                    <a:pt x="1030" y="653"/>
                  </a:lnTo>
                  <a:lnTo>
                    <a:pt x="1088" y="716"/>
                  </a:lnTo>
                  <a:lnTo>
                    <a:pt x="1032" y="774"/>
                  </a:lnTo>
                  <a:lnTo>
                    <a:pt x="979" y="824"/>
                  </a:lnTo>
                  <a:lnTo>
                    <a:pt x="930" y="866"/>
                  </a:lnTo>
                  <a:lnTo>
                    <a:pt x="884" y="901"/>
                  </a:lnTo>
                  <a:lnTo>
                    <a:pt x="843" y="928"/>
                  </a:lnTo>
                  <a:lnTo>
                    <a:pt x="824" y="938"/>
                  </a:lnTo>
                  <a:lnTo>
                    <a:pt x="805" y="947"/>
                  </a:lnTo>
                  <a:lnTo>
                    <a:pt x="787" y="954"/>
                  </a:lnTo>
                  <a:lnTo>
                    <a:pt x="771" y="958"/>
                  </a:lnTo>
                  <a:lnTo>
                    <a:pt x="755" y="961"/>
                  </a:lnTo>
                  <a:lnTo>
                    <a:pt x="740" y="962"/>
                  </a:lnTo>
                  <a:lnTo>
                    <a:pt x="735" y="962"/>
                  </a:lnTo>
                  <a:lnTo>
                    <a:pt x="728" y="961"/>
                  </a:lnTo>
                  <a:lnTo>
                    <a:pt x="723" y="961"/>
                  </a:lnTo>
                  <a:lnTo>
                    <a:pt x="718" y="960"/>
                  </a:lnTo>
                  <a:lnTo>
                    <a:pt x="712" y="959"/>
                  </a:lnTo>
                  <a:lnTo>
                    <a:pt x="707" y="957"/>
                  </a:lnTo>
                  <a:lnTo>
                    <a:pt x="702" y="955"/>
                  </a:lnTo>
                  <a:lnTo>
                    <a:pt x="697" y="953"/>
                  </a:lnTo>
                  <a:lnTo>
                    <a:pt x="692" y="951"/>
                  </a:lnTo>
                  <a:lnTo>
                    <a:pt x="688" y="948"/>
                  </a:lnTo>
                  <a:lnTo>
                    <a:pt x="684" y="945"/>
                  </a:lnTo>
                  <a:lnTo>
                    <a:pt x="678" y="942"/>
                  </a:lnTo>
                  <a:lnTo>
                    <a:pt x="674" y="938"/>
                  </a:lnTo>
                  <a:lnTo>
                    <a:pt x="670" y="934"/>
                  </a:lnTo>
                  <a:lnTo>
                    <a:pt x="667" y="930"/>
                  </a:lnTo>
                  <a:lnTo>
                    <a:pt x="662" y="926"/>
                  </a:lnTo>
                  <a:lnTo>
                    <a:pt x="659" y="922"/>
                  </a:lnTo>
                  <a:lnTo>
                    <a:pt x="655" y="917"/>
                  </a:lnTo>
                  <a:lnTo>
                    <a:pt x="652" y="911"/>
                  </a:lnTo>
                  <a:lnTo>
                    <a:pt x="649" y="906"/>
                  </a:lnTo>
                  <a:lnTo>
                    <a:pt x="643" y="895"/>
                  </a:lnTo>
                  <a:lnTo>
                    <a:pt x="639" y="883"/>
                  </a:lnTo>
                  <a:lnTo>
                    <a:pt x="636" y="870"/>
                  </a:lnTo>
                  <a:lnTo>
                    <a:pt x="634" y="856"/>
                  </a:lnTo>
                  <a:lnTo>
                    <a:pt x="632" y="841"/>
                  </a:lnTo>
                  <a:lnTo>
                    <a:pt x="632" y="825"/>
                  </a:lnTo>
                  <a:lnTo>
                    <a:pt x="632" y="809"/>
                  </a:lnTo>
                  <a:lnTo>
                    <a:pt x="633" y="794"/>
                  </a:lnTo>
                  <a:lnTo>
                    <a:pt x="635" y="776"/>
                  </a:lnTo>
                  <a:lnTo>
                    <a:pt x="637" y="760"/>
                  </a:lnTo>
                  <a:lnTo>
                    <a:pt x="644" y="722"/>
                  </a:lnTo>
                  <a:lnTo>
                    <a:pt x="655" y="682"/>
                  </a:lnTo>
                  <a:lnTo>
                    <a:pt x="705" y="522"/>
                  </a:lnTo>
                  <a:lnTo>
                    <a:pt x="697" y="522"/>
                  </a:lnTo>
                  <a:lnTo>
                    <a:pt x="690" y="523"/>
                  </a:lnTo>
                  <a:lnTo>
                    <a:pt x="683" y="525"/>
                  </a:lnTo>
                  <a:lnTo>
                    <a:pt x="675" y="526"/>
                  </a:lnTo>
                  <a:lnTo>
                    <a:pt x="668" y="528"/>
                  </a:lnTo>
                  <a:lnTo>
                    <a:pt x="660" y="530"/>
                  </a:lnTo>
                  <a:lnTo>
                    <a:pt x="647" y="535"/>
                  </a:lnTo>
                  <a:lnTo>
                    <a:pt x="633" y="541"/>
                  </a:lnTo>
                  <a:lnTo>
                    <a:pt x="619" y="549"/>
                  </a:lnTo>
                  <a:lnTo>
                    <a:pt x="605" y="559"/>
                  </a:lnTo>
                  <a:lnTo>
                    <a:pt x="591" y="570"/>
                  </a:lnTo>
                  <a:lnTo>
                    <a:pt x="578" y="584"/>
                  </a:lnTo>
                  <a:lnTo>
                    <a:pt x="563" y="600"/>
                  </a:lnTo>
                  <a:lnTo>
                    <a:pt x="547" y="620"/>
                  </a:lnTo>
                  <a:lnTo>
                    <a:pt x="530" y="644"/>
                  </a:lnTo>
                  <a:lnTo>
                    <a:pt x="493" y="701"/>
                  </a:lnTo>
                  <a:lnTo>
                    <a:pt x="450" y="772"/>
                  </a:lnTo>
                  <a:lnTo>
                    <a:pt x="422" y="817"/>
                  </a:lnTo>
                  <a:lnTo>
                    <a:pt x="393" y="855"/>
                  </a:lnTo>
                  <a:lnTo>
                    <a:pt x="377" y="873"/>
                  </a:lnTo>
                  <a:lnTo>
                    <a:pt x="362" y="889"/>
                  </a:lnTo>
                  <a:lnTo>
                    <a:pt x="346" y="902"/>
                  </a:lnTo>
                  <a:lnTo>
                    <a:pt x="331" y="915"/>
                  </a:lnTo>
                  <a:lnTo>
                    <a:pt x="314" y="926"/>
                  </a:lnTo>
                  <a:lnTo>
                    <a:pt x="298" y="935"/>
                  </a:lnTo>
                  <a:lnTo>
                    <a:pt x="281" y="944"/>
                  </a:lnTo>
                  <a:lnTo>
                    <a:pt x="266" y="951"/>
                  </a:lnTo>
                  <a:lnTo>
                    <a:pt x="249" y="956"/>
                  </a:lnTo>
                  <a:lnTo>
                    <a:pt x="231" y="959"/>
                  </a:lnTo>
                  <a:lnTo>
                    <a:pt x="214" y="961"/>
                  </a:lnTo>
                  <a:lnTo>
                    <a:pt x="196" y="962"/>
                  </a:lnTo>
                  <a:lnTo>
                    <a:pt x="181" y="961"/>
                  </a:lnTo>
                  <a:lnTo>
                    <a:pt x="167" y="960"/>
                  </a:lnTo>
                  <a:lnTo>
                    <a:pt x="153" y="957"/>
                  </a:lnTo>
                  <a:lnTo>
                    <a:pt x="139" y="952"/>
                  </a:lnTo>
                  <a:lnTo>
                    <a:pt x="127" y="947"/>
                  </a:lnTo>
                  <a:lnTo>
                    <a:pt x="114" y="939"/>
                  </a:lnTo>
                  <a:lnTo>
                    <a:pt x="101" y="932"/>
                  </a:lnTo>
                  <a:lnTo>
                    <a:pt x="89" y="923"/>
                  </a:lnTo>
                  <a:lnTo>
                    <a:pt x="84" y="918"/>
                  </a:lnTo>
                  <a:lnTo>
                    <a:pt x="78" y="910"/>
                  </a:lnTo>
                  <a:lnTo>
                    <a:pt x="72" y="903"/>
                  </a:lnTo>
                  <a:lnTo>
                    <a:pt x="66" y="894"/>
                  </a:lnTo>
                  <a:lnTo>
                    <a:pt x="55" y="872"/>
                  </a:lnTo>
                  <a:lnTo>
                    <a:pt x="44" y="846"/>
                  </a:lnTo>
                  <a:lnTo>
                    <a:pt x="33" y="815"/>
                  </a:lnTo>
                  <a:lnTo>
                    <a:pt x="21" y="778"/>
                  </a:lnTo>
                  <a:lnTo>
                    <a:pt x="0" y="692"/>
                  </a:lnTo>
                  <a:close/>
                  <a:moveTo>
                    <a:pt x="808" y="134"/>
                  </a:moveTo>
                  <a:lnTo>
                    <a:pt x="796" y="132"/>
                  </a:lnTo>
                  <a:lnTo>
                    <a:pt x="782" y="129"/>
                  </a:lnTo>
                  <a:lnTo>
                    <a:pt x="754" y="126"/>
                  </a:lnTo>
                  <a:lnTo>
                    <a:pt x="721" y="124"/>
                  </a:lnTo>
                  <a:lnTo>
                    <a:pt x="685" y="123"/>
                  </a:lnTo>
                  <a:lnTo>
                    <a:pt x="664" y="124"/>
                  </a:lnTo>
                  <a:lnTo>
                    <a:pt x="643" y="126"/>
                  </a:lnTo>
                  <a:lnTo>
                    <a:pt x="623" y="129"/>
                  </a:lnTo>
                  <a:lnTo>
                    <a:pt x="603" y="134"/>
                  </a:lnTo>
                  <a:lnTo>
                    <a:pt x="585" y="142"/>
                  </a:lnTo>
                  <a:lnTo>
                    <a:pt x="566" y="150"/>
                  </a:lnTo>
                  <a:lnTo>
                    <a:pt x="548" y="159"/>
                  </a:lnTo>
                  <a:lnTo>
                    <a:pt x="531" y="171"/>
                  </a:lnTo>
                  <a:lnTo>
                    <a:pt x="515" y="183"/>
                  </a:lnTo>
                  <a:lnTo>
                    <a:pt x="508" y="190"/>
                  </a:lnTo>
                  <a:lnTo>
                    <a:pt x="501" y="197"/>
                  </a:lnTo>
                  <a:lnTo>
                    <a:pt x="496" y="204"/>
                  </a:lnTo>
                  <a:lnTo>
                    <a:pt x="489" y="211"/>
                  </a:lnTo>
                  <a:lnTo>
                    <a:pt x="485" y="219"/>
                  </a:lnTo>
                  <a:lnTo>
                    <a:pt x="480" y="226"/>
                  </a:lnTo>
                  <a:lnTo>
                    <a:pt x="476" y="234"/>
                  </a:lnTo>
                  <a:lnTo>
                    <a:pt x="473" y="242"/>
                  </a:lnTo>
                  <a:lnTo>
                    <a:pt x="469" y="250"/>
                  </a:lnTo>
                  <a:lnTo>
                    <a:pt x="467" y="259"/>
                  </a:lnTo>
                  <a:lnTo>
                    <a:pt x="465" y="268"/>
                  </a:lnTo>
                  <a:lnTo>
                    <a:pt x="464" y="276"/>
                  </a:lnTo>
                  <a:lnTo>
                    <a:pt x="463" y="285"/>
                  </a:lnTo>
                  <a:lnTo>
                    <a:pt x="463" y="295"/>
                  </a:lnTo>
                  <a:lnTo>
                    <a:pt x="464" y="310"/>
                  </a:lnTo>
                  <a:lnTo>
                    <a:pt x="466" y="324"/>
                  </a:lnTo>
                  <a:lnTo>
                    <a:pt x="469" y="337"/>
                  </a:lnTo>
                  <a:lnTo>
                    <a:pt x="475" y="350"/>
                  </a:lnTo>
                  <a:lnTo>
                    <a:pt x="481" y="361"/>
                  </a:lnTo>
                  <a:lnTo>
                    <a:pt x="488" y="372"/>
                  </a:lnTo>
                  <a:lnTo>
                    <a:pt x="498" y="381"/>
                  </a:lnTo>
                  <a:lnTo>
                    <a:pt x="509" y="389"/>
                  </a:lnTo>
                  <a:lnTo>
                    <a:pt x="520" y="398"/>
                  </a:lnTo>
                  <a:lnTo>
                    <a:pt x="534" y="404"/>
                  </a:lnTo>
                  <a:lnTo>
                    <a:pt x="549" y="409"/>
                  </a:lnTo>
                  <a:lnTo>
                    <a:pt x="565" y="413"/>
                  </a:lnTo>
                  <a:lnTo>
                    <a:pt x="583" y="417"/>
                  </a:lnTo>
                  <a:lnTo>
                    <a:pt x="602" y="419"/>
                  </a:lnTo>
                  <a:lnTo>
                    <a:pt x="622" y="422"/>
                  </a:lnTo>
                  <a:lnTo>
                    <a:pt x="644" y="422"/>
                  </a:lnTo>
                  <a:lnTo>
                    <a:pt x="662" y="422"/>
                  </a:lnTo>
                  <a:lnTo>
                    <a:pt x="682" y="421"/>
                  </a:lnTo>
                  <a:lnTo>
                    <a:pt x="704" y="418"/>
                  </a:lnTo>
                  <a:lnTo>
                    <a:pt x="727" y="416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338120"/>
              <a:ext cx="479160" cy="352440"/>
            </a:xfrm>
            <a:custGeom>
              <a:avLst/>
              <a:gdLst/>
              <a:ahLst/>
              <a:rect l="l" t="t" r="r" b="b"/>
              <a:pathLst>
                <a:path w="1331" h="980">
                  <a:moveTo>
                    <a:pt x="509" y="533"/>
                  </a:moveTo>
                  <a:lnTo>
                    <a:pt x="362" y="533"/>
                  </a:lnTo>
                  <a:lnTo>
                    <a:pt x="259" y="951"/>
                  </a:lnTo>
                  <a:lnTo>
                    <a:pt x="54" y="951"/>
                  </a:lnTo>
                  <a:lnTo>
                    <a:pt x="55" y="941"/>
                  </a:lnTo>
                  <a:lnTo>
                    <a:pt x="56" y="930"/>
                  </a:lnTo>
                  <a:lnTo>
                    <a:pt x="62" y="903"/>
                  </a:lnTo>
                  <a:lnTo>
                    <a:pt x="68" y="872"/>
                  </a:lnTo>
                  <a:lnTo>
                    <a:pt x="77" y="835"/>
                  </a:lnTo>
                  <a:lnTo>
                    <a:pt x="87" y="804"/>
                  </a:lnTo>
                  <a:lnTo>
                    <a:pt x="100" y="756"/>
                  </a:lnTo>
                  <a:lnTo>
                    <a:pt x="136" y="615"/>
                  </a:lnTo>
                  <a:lnTo>
                    <a:pt x="233" y="230"/>
                  </a:lnTo>
                  <a:lnTo>
                    <a:pt x="237" y="217"/>
                  </a:lnTo>
                  <a:lnTo>
                    <a:pt x="239" y="205"/>
                  </a:lnTo>
                  <a:lnTo>
                    <a:pt x="240" y="200"/>
                  </a:lnTo>
                  <a:lnTo>
                    <a:pt x="241" y="196"/>
                  </a:lnTo>
                  <a:lnTo>
                    <a:pt x="241" y="192"/>
                  </a:lnTo>
                  <a:lnTo>
                    <a:pt x="241" y="188"/>
                  </a:lnTo>
                  <a:lnTo>
                    <a:pt x="241" y="183"/>
                  </a:lnTo>
                  <a:lnTo>
                    <a:pt x="241" y="180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8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40" y="177"/>
                  </a:lnTo>
                  <a:lnTo>
                    <a:pt x="238" y="177"/>
                  </a:lnTo>
                  <a:lnTo>
                    <a:pt x="234" y="177"/>
                  </a:lnTo>
                  <a:lnTo>
                    <a:pt x="229" y="179"/>
                  </a:lnTo>
                  <a:lnTo>
                    <a:pt x="223" y="181"/>
                  </a:lnTo>
                  <a:lnTo>
                    <a:pt x="215" y="184"/>
                  </a:lnTo>
                  <a:lnTo>
                    <a:pt x="198" y="194"/>
                  </a:lnTo>
                  <a:lnTo>
                    <a:pt x="179" y="206"/>
                  </a:lnTo>
                  <a:lnTo>
                    <a:pt x="157" y="222"/>
                  </a:lnTo>
                  <a:lnTo>
                    <a:pt x="132" y="242"/>
                  </a:lnTo>
                  <a:lnTo>
                    <a:pt x="73" y="293"/>
                  </a:lnTo>
                  <a:lnTo>
                    <a:pt x="0" y="236"/>
                  </a:lnTo>
                  <a:lnTo>
                    <a:pt x="59" y="181"/>
                  </a:lnTo>
                  <a:lnTo>
                    <a:pt x="116" y="133"/>
                  </a:lnTo>
                  <a:lnTo>
                    <a:pt x="168" y="94"/>
                  </a:lnTo>
                  <a:lnTo>
                    <a:pt x="215" y="61"/>
                  </a:lnTo>
                  <a:lnTo>
                    <a:pt x="260" y="35"/>
                  </a:lnTo>
                  <a:lnTo>
                    <a:pt x="281" y="24"/>
                  </a:lnTo>
                  <a:lnTo>
                    <a:pt x="301" y="16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7" y="2"/>
                  </a:lnTo>
                  <a:lnTo>
                    <a:pt x="372" y="1"/>
                  </a:lnTo>
                  <a:lnTo>
                    <a:pt x="383" y="1"/>
                  </a:lnTo>
                  <a:lnTo>
                    <a:pt x="393" y="3"/>
                  </a:lnTo>
                  <a:lnTo>
                    <a:pt x="401" y="4"/>
                  </a:lnTo>
                  <a:lnTo>
                    <a:pt x="410" y="8"/>
                  </a:lnTo>
                  <a:lnTo>
                    <a:pt x="417" y="12"/>
                  </a:lnTo>
                  <a:lnTo>
                    <a:pt x="423" y="16"/>
                  </a:lnTo>
                  <a:lnTo>
                    <a:pt x="430" y="21"/>
                  </a:lnTo>
                  <a:lnTo>
                    <a:pt x="435" y="27"/>
                  </a:lnTo>
                  <a:lnTo>
                    <a:pt x="440" y="34"/>
                  </a:lnTo>
                  <a:lnTo>
                    <a:pt x="445" y="41"/>
                  </a:lnTo>
                  <a:lnTo>
                    <a:pt x="448" y="49"/>
                  </a:lnTo>
                  <a:lnTo>
                    <a:pt x="451" y="59"/>
                  </a:lnTo>
                  <a:lnTo>
                    <a:pt x="453" y="68"/>
                  </a:lnTo>
                  <a:lnTo>
                    <a:pt x="455" y="78"/>
                  </a:lnTo>
                  <a:lnTo>
                    <a:pt x="456" y="90"/>
                  </a:lnTo>
                  <a:lnTo>
                    <a:pt x="456" y="102"/>
                  </a:lnTo>
                  <a:lnTo>
                    <a:pt x="455" y="124"/>
                  </a:lnTo>
                  <a:lnTo>
                    <a:pt x="452" y="151"/>
                  </a:lnTo>
                  <a:lnTo>
                    <a:pt x="447" y="184"/>
                  </a:lnTo>
                  <a:lnTo>
                    <a:pt x="438" y="222"/>
                  </a:lnTo>
                  <a:lnTo>
                    <a:pt x="416" y="312"/>
                  </a:lnTo>
                  <a:lnTo>
                    <a:pt x="384" y="423"/>
                  </a:lnTo>
                  <a:lnTo>
                    <a:pt x="535" y="423"/>
                  </a:lnTo>
                  <a:lnTo>
                    <a:pt x="553" y="377"/>
                  </a:lnTo>
                  <a:lnTo>
                    <a:pt x="573" y="334"/>
                  </a:lnTo>
                  <a:lnTo>
                    <a:pt x="595" y="293"/>
                  </a:lnTo>
                  <a:lnTo>
                    <a:pt x="621" y="254"/>
                  </a:lnTo>
                  <a:lnTo>
                    <a:pt x="648" y="217"/>
                  </a:lnTo>
                  <a:lnTo>
                    <a:pt x="678" y="182"/>
                  </a:lnTo>
                  <a:lnTo>
                    <a:pt x="710" y="149"/>
                  </a:lnTo>
                  <a:lnTo>
                    <a:pt x="744" y="119"/>
                  </a:lnTo>
                  <a:lnTo>
                    <a:pt x="780" y="91"/>
                  </a:lnTo>
                  <a:lnTo>
                    <a:pt x="816" y="67"/>
                  </a:lnTo>
                  <a:lnTo>
                    <a:pt x="852" y="47"/>
                  </a:lnTo>
                  <a:lnTo>
                    <a:pt x="889" y="30"/>
                  </a:lnTo>
                  <a:lnTo>
                    <a:pt x="926" y="17"/>
                  </a:lnTo>
                  <a:lnTo>
                    <a:pt x="965" y="8"/>
                  </a:lnTo>
                  <a:lnTo>
                    <a:pt x="1003" y="2"/>
                  </a:lnTo>
                  <a:lnTo>
                    <a:pt x="1042" y="0"/>
                  </a:lnTo>
                  <a:lnTo>
                    <a:pt x="1076" y="1"/>
                  </a:lnTo>
                  <a:lnTo>
                    <a:pt x="1093" y="3"/>
                  </a:lnTo>
                  <a:lnTo>
                    <a:pt x="1109" y="7"/>
                  </a:lnTo>
                  <a:lnTo>
                    <a:pt x="1124" y="10"/>
                  </a:lnTo>
                  <a:lnTo>
                    <a:pt x="1139" y="14"/>
                  </a:lnTo>
                  <a:lnTo>
                    <a:pt x="1154" y="19"/>
                  </a:lnTo>
                  <a:lnTo>
                    <a:pt x="1167" y="25"/>
                  </a:lnTo>
                  <a:lnTo>
                    <a:pt x="1180" y="32"/>
                  </a:lnTo>
                  <a:lnTo>
                    <a:pt x="1193" y="39"/>
                  </a:lnTo>
                  <a:lnTo>
                    <a:pt x="1204" y="47"/>
                  </a:lnTo>
                  <a:lnTo>
                    <a:pt x="1216" y="55"/>
                  </a:lnTo>
                  <a:lnTo>
                    <a:pt x="1227" y="65"/>
                  </a:lnTo>
                  <a:lnTo>
                    <a:pt x="1237" y="75"/>
                  </a:lnTo>
                  <a:lnTo>
                    <a:pt x="1247" y="87"/>
                  </a:lnTo>
                  <a:lnTo>
                    <a:pt x="1256" y="98"/>
                  </a:lnTo>
                  <a:lnTo>
                    <a:pt x="1273" y="123"/>
                  </a:lnTo>
                  <a:lnTo>
                    <a:pt x="1288" y="150"/>
                  </a:lnTo>
                  <a:lnTo>
                    <a:pt x="1301" y="178"/>
                  </a:lnTo>
                  <a:lnTo>
                    <a:pt x="1312" y="207"/>
                  </a:lnTo>
                  <a:lnTo>
                    <a:pt x="1319" y="238"/>
                  </a:lnTo>
                  <a:lnTo>
                    <a:pt x="1325" y="270"/>
                  </a:lnTo>
                  <a:lnTo>
                    <a:pt x="1329" y="304"/>
                  </a:lnTo>
                  <a:lnTo>
                    <a:pt x="1330" y="338"/>
                  </a:lnTo>
                  <a:lnTo>
                    <a:pt x="1327" y="397"/>
                  </a:lnTo>
                  <a:lnTo>
                    <a:pt x="1319" y="455"/>
                  </a:lnTo>
                  <a:lnTo>
                    <a:pt x="1305" y="511"/>
                  </a:lnTo>
                  <a:lnTo>
                    <a:pt x="1286" y="566"/>
                  </a:lnTo>
                  <a:lnTo>
                    <a:pt x="1262" y="620"/>
                  </a:lnTo>
                  <a:lnTo>
                    <a:pt x="1232" y="674"/>
                  </a:lnTo>
                  <a:lnTo>
                    <a:pt x="1197" y="726"/>
                  </a:lnTo>
                  <a:lnTo>
                    <a:pt x="1157" y="777"/>
                  </a:lnTo>
                  <a:lnTo>
                    <a:pt x="1113" y="825"/>
                  </a:lnTo>
                  <a:lnTo>
                    <a:pt x="1068" y="866"/>
                  </a:lnTo>
                  <a:lnTo>
                    <a:pt x="1022" y="901"/>
                  </a:lnTo>
                  <a:lnTo>
                    <a:pt x="999" y="916"/>
                  </a:lnTo>
                  <a:lnTo>
                    <a:pt x="974" y="929"/>
                  </a:lnTo>
                  <a:lnTo>
                    <a:pt x="951" y="941"/>
                  </a:lnTo>
                  <a:lnTo>
                    <a:pt x="926" y="951"/>
                  </a:lnTo>
                  <a:lnTo>
                    <a:pt x="902" y="959"/>
                  </a:lnTo>
                  <a:lnTo>
                    <a:pt x="877" y="967"/>
                  </a:lnTo>
                  <a:lnTo>
                    <a:pt x="852" y="972"/>
                  </a:lnTo>
                  <a:lnTo>
                    <a:pt x="827" y="976"/>
                  </a:lnTo>
                  <a:lnTo>
                    <a:pt x="800" y="978"/>
                  </a:lnTo>
                  <a:lnTo>
                    <a:pt x="775" y="979"/>
                  </a:lnTo>
                  <a:lnTo>
                    <a:pt x="743" y="978"/>
                  </a:lnTo>
                  <a:lnTo>
                    <a:pt x="713" y="974"/>
                  </a:lnTo>
                  <a:lnTo>
                    <a:pt x="684" y="968"/>
                  </a:lnTo>
                  <a:lnTo>
                    <a:pt x="671" y="963"/>
                  </a:lnTo>
                  <a:lnTo>
                    <a:pt x="658" y="959"/>
                  </a:lnTo>
                  <a:lnTo>
                    <a:pt x="645" y="953"/>
                  </a:lnTo>
                  <a:lnTo>
                    <a:pt x="632" y="948"/>
                  </a:lnTo>
                  <a:lnTo>
                    <a:pt x="621" y="941"/>
                  </a:lnTo>
                  <a:lnTo>
                    <a:pt x="609" y="933"/>
                  </a:lnTo>
                  <a:lnTo>
                    <a:pt x="597" y="926"/>
                  </a:lnTo>
                  <a:lnTo>
                    <a:pt x="587" y="917"/>
                  </a:lnTo>
                  <a:lnTo>
                    <a:pt x="576" y="907"/>
                  </a:lnTo>
                  <a:lnTo>
                    <a:pt x="567" y="898"/>
                  </a:lnTo>
                  <a:lnTo>
                    <a:pt x="557" y="887"/>
                  </a:lnTo>
                  <a:lnTo>
                    <a:pt x="549" y="876"/>
                  </a:lnTo>
                  <a:lnTo>
                    <a:pt x="540" y="865"/>
                  </a:lnTo>
                  <a:lnTo>
                    <a:pt x="533" y="853"/>
                  </a:lnTo>
                  <a:lnTo>
                    <a:pt x="525" y="841"/>
                  </a:lnTo>
                  <a:lnTo>
                    <a:pt x="519" y="827"/>
                  </a:lnTo>
                  <a:lnTo>
                    <a:pt x="508" y="800"/>
                  </a:lnTo>
                  <a:lnTo>
                    <a:pt x="500" y="771"/>
                  </a:lnTo>
                  <a:lnTo>
                    <a:pt x="494" y="739"/>
                  </a:lnTo>
                  <a:lnTo>
                    <a:pt x="490" y="705"/>
                  </a:lnTo>
                  <a:lnTo>
                    <a:pt x="489" y="670"/>
                  </a:lnTo>
                  <a:lnTo>
                    <a:pt x="489" y="651"/>
                  </a:lnTo>
                  <a:lnTo>
                    <a:pt x="490" y="633"/>
                  </a:lnTo>
                  <a:lnTo>
                    <a:pt x="492" y="614"/>
                  </a:lnTo>
                  <a:lnTo>
                    <a:pt x="494" y="597"/>
                  </a:lnTo>
                  <a:lnTo>
                    <a:pt x="497" y="580"/>
                  </a:lnTo>
                  <a:lnTo>
                    <a:pt x="501" y="564"/>
                  </a:lnTo>
                  <a:lnTo>
                    <a:pt x="504" y="548"/>
                  </a:lnTo>
                  <a:close/>
                  <a:moveTo>
                    <a:pt x="1096" y="404"/>
                  </a:moveTo>
                  <a:lnTo>
                    <a:pt x="1094" y="338"/>
                  </a:lnTo>
                  <a:lnTo>
                    <a:pt x="1088" y="282"/>
                  </a:lnTo>
                  <a:lnTo>
                    <a:pt x="1083" y="257"/>
                  </a:lnTo>
                  <a:lnTo>
                    <a:pt x="1077" y="234"/>
                  </a:lnTo>
                  <a:lnTo>
                    <a:pt x="1071" y="214"/>
                  </a:lnTo>
                  <a:lnTo>
                    <a:pt x="1063" y="196"/>
                  </a:lnTo>
                  <a:lnTo>
                    <a:pt x="1054" y="179"/>
                  </a:lnTo>
                  <a:lnTo>
                    <a:pt x="1044" y="166"/>
                  </a:lnTo>
                  <a:lnTo>
                    <a:pt x="1033" y="153"/>
                  </a:lnTo>
                  <a:lnTo>
                    <a:pt x="1021" y="144"/>
                  </a:lnTo>
                  <a:lnTo>
                    <a:pt x="1008" y="136"/>
                  </a:lnTo>
                  <a:lnTo>
                    <a:pt x="1001" y="133"/>
                  </a:lnTo>
                  <a:lnTo>
                    <a:pt x="994" y="130"/>
                  </a:lnTo>
                  <a:lnTo>
                    <a:pt x="978" y="127"/>
                  </a:lnTo>
                  <a:lnTo>
                    <a:pt x="962" y="126"/>
                  </a:lnTo>
                  <a:lnTo>
                    <a:pt x="952" y="126"/>
                  </a:lnTo>
                  <a:lnTo>
                    <a:pt x="941" y="128"/>
                  </a:lnTo>
                  <a:lnTo>
                    <a:pt x="931" y="130"/>
                  </a:lnTo>
                  <a:lnTo>
                    <a:pt x="920" y="134"/>
                  </a:lnTo>
                  <a:lnTo>
                    <a:pt x="909" y="139"/>
                  </a:lnTo>
                  <a:lnTo>
                    <a:pt x="899" y="144"/>
                  </a:lnTo>
                  <a:lnTo>
                    <a:pt x="888" y="151"/>
                  </a:lnTo>
                  <a:lnTo>
                    <a:pt x="879" y="158"/>
                  </a:lnTo>
                  <a:lnTo>
                    <a:pt x="868" y="167"/>
                  </a:lnTo>
                  <a:lnTo>
                    <a:pt x="857" y="177"/>
                  </a:lnTo>
                  <a:lnTo>
                    <a:pt x="837" y="199"/>
                  </a:lnTo>
                  <a:lnTo>
                    <a:pt x="817" y="226"/>
                  </a:lnTo>
                  <a:lnTo>
                    <a:pt x="797" y="256"/>
                  </a:lnTo>
                  <a:lnTo>
                    <a:pt x="779" y="289"/>
                  </a:lnTo>
                  <a:lnTo>
                    <a:pt x="763" y="326"/>
                  </a:lnTo>
                  <a:lnTo>
                    <a:pt x="749" y="364"/>
                  </a:lnTo>
                  <a:lnTo>
                    <a:pt x="739" y="406"/>
                  </a:lnTo>
                  <a:lnTo>
                    <a:pt x="729" y="450"/>
                  </a:lnTo>
                  <a:lnTo>
                    <a:pt x="724" y="496"/>
                  </a:lnTo>
                  <a:lnTo>
                    <a:pt x="719" y="545"/>
                  </a:lnTo>
                  <a:lnTo>
                    <a:pt x="718" y="597"/>
                  </a:lnTo>
                  <a:lnTo>
                    <a:pt x="719" y="625"/>
                  </a:lnTo>
                  <a:lnTo>
                    <a:pt x="721" y="652"/>
                  </a:lnTo>
                  <a:lnTo>
                    <a:pt x="724" y="678"/>
                  </a:lnTo>
                  <a:lnTo>
                    <a:pt x="728" y="702"/>
                  </a:lnTo>
                  <a:lnTo>
                    <a:pt x="733" y="725"/>
                  </a:lnTo>
                  <a:lnTo>
                    <a:pt x="740" y="746"/>
                  </a:lnTo>
                  <a:lnTo>
                    <a:pt x="747" y="766"/>
                  </a:lnTo>
                  <a:lnTo>
                    <a:pt x="756" y="785"/>
                  </a:lnTo>
                  <a:lnTo>
                    <a:pt x="765" y="801"/>
                  </a:lnTo>
                  <a:lnTo>
                    <a:pt x="770" y="808"/>
                  </a:lnTo>
                  <a:lnTo>
                    <a:pt x="776" y="815"/>
                  </a:lnTo>
                  <a:lnTo>
                    <a:pt x="781" y="821"/>
                  </a:lnTo>
                  <a:lnTo>
                    <a:pt x="786" y="827"/>
                  </a:lnTo>
                  <a:lnTo>
                    <a:pt x="793" y="832"/>
                  </a:lnTo>
                  <a:lnTo>
                    <a:pt x="799" y="837"/>
                  </a:lnTo>
                  <a:lnTo>
                    <a:pt x="804" y="841"/>
                  </a:lnTo>
                  <a:lnTo>
                    <a:pt x="812" y="845"/>
                  </a:lnTo>
                  <a:lnTo>
                    <a:pt x="818" y="848"/>
                  </a:lnTo>
                  <a:lnTo>
                    <a:pt x="825" y="850"/>
                  </a:lnTo>
                  <a:lnTo>
                    <a:pt x="832" y="852"/>
                  </a:lnTo>
                  <a:lnTo>
                    <a:pt x="839" y="853"/>
                  </a:lnTo>
                  <a:lnTo>
                    <a:pt x="847" y="854"/>
                  </a:lnTo>
                  <a:lnTo>
                    <a:pt x="854" y="854"/>
                  </a:lnTo>
                  <a:lnTo>
                    <a:pt x="866" y="854"/>
                  </a:lnTo>
                  <a:lnTo>
                    <a:pt x="877" y="852"/>
                  </a:lnTo>
                  <a:lnTo>
                    <a:pt x="888" y="850"/>
                  </a:lnTo>
                  <a:lnTo>
                    <a:pt x="899" y="846"/>
                  </a:lnTo>
                  <a:lnTo>
                    <a:pt x="909" y="842"/>
                  </a:lnTo>
                  <a:lnTo>
                    <a:pt x="920" y="835"/>
                  </a:lnTo>
                  <a:lnTo>
                    <a:pt x="931" y="829"/>
                  </a:lnTo>
                  <a:lnTo>
                    <a:pt x="941" y="822"/>
                  </a:lnTo>
                  <a:lnTo>
                    <a:pt x="952" y="813"/>
                  </a:lnTo>
                  <a:lnTo>
                    <a:pt x="961" y="803"/>
                  </a:lnTo>
                  <a:lnTo>
                    <a:pt x="972" y="792"/>
                  </a:lnTo>
                  <a:lnTo>
                    <a:pt x="982" y="780"/>
                  </a:lnTo>
                  <a:lnTo>
                    <a:pt x="1002" y="754"/>
                  </a:lnTo>
                  <a:lnTo>
                    <a:pt x="1021" y="723"/>
                  </a:lnTo>
                  <a:lnTo>
                    <a:pt x="1039" y="690"/>
                  </a:lnTo>
                  <a:lnTo>
                    <a:pt x="1054" y="655"/>
                  </a:lnTo>
                  <a:lnTo>
                    <a:pt x="1066" y="617"/>
                  </a:lnTo>
                  <a:lnTo>
                    <a:pt x="1077" y="578"/>
                  </a:lnTo>
                  <a:lnTo>
                    <a:pt x="1086" y="537"/>
                  </a:lnTo>
                  <a:lnTo>
                    <a:pt x="1092" y="494"/>
                  </a:lnTo>
                  <a:lnTo>
                    <a:pt x="1095" y="4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70480" y="1338120"/>
              <a:ext cx="500040" cy="497160"/>
            </a:xfrm>
            <a:custGeom>
              <a:avLst/>
              <a:gdLst/>
              <a:ahLst/>
              <a:rect l="l" t="t" r="r" b="b"/>
              <a:pathLst>
                <a:path w="1389" h="1380">
                  <a:moveTo>
                    <a:pt x="957" y="737"/>
                  </a:moveTo>
                  <a:lnTo>
                    <a:pt x="936" y="767"/>
                  </a:lnTo>
                  <a:lnTo>
                    <a:pt x="915" y="795"/>
                  </a:lnTo>
                  <a:lnTo>
                    <a:pt x="893" y="821"/>
                  </a:lnTo>
                  <a:lnTo>
                    <a:pt x="870" y="845"/>
                  </a:lnTo>
                  <a:lnTo>
                    <a:pt x="845" y="868"/>
                  </a:lnTo>
                  <a:lnTo>
                    <a:pt x="820" y="889"/>
                  </a:lnTo>
                  <a:lnTo>
                    <a:pt x="794" y="907"/>
                  </a:lnTo>
                  <a:lnTo>
                    <a:pt x="768" y="924"/>
                  </a:lnTo>
                  <a:lnTo>
                    <a:pt x="718" y="952"/>
                  </a:lnTo>
                  <a:lnTo>
                    <a:pt x="696" y="962"/>
                  </a:lnTo>
                  <a:lnTo>
                    <a:pt x="674" y="972"/>
                  </a:lnTo>
                  <a:lnTo>
                    <a:pt x="656" y="979"/>
                  </a:lnTo>
                  <a:lnTo>
                    <a:pt x="639" y="983"/>
                  </a:lnTo>
                  <a:lnTo>
                    <a:pt x="632" y="985"/>
                  </a:lnTo>
                  <a:lnTo>
                    <a:pt x="625" y="986"/>
                  </a:lnTo>
                  <a:lnTo>
                    <a:pt x="619" y="987"/>
                  </a:lnTo>
                  <a:lnTo>
                    <a:pt x="613" y="987"/>
                  </a:lnTo>
                  <a:lnTo>
                    <a:pt x="608" y="987"/>
                  </a:lnTo>
                  <a:lnTo>
                    <a:pt x="603" y="986"/>
                  </a:lnTo>
                  <a:lnTo>
                    <a:pt x="599" y="986"/>
                  </a:lnTo>
                  <a:lnTo>
                    <a:pt x="594" y="985"/>
                  </a:lnTo>
                  <a:lnTo>
                    <a:pt x="589" y="984"/>
                  </a:lnTo>
                  <a:lnTo>
                    <a:pt x="584" y="982"/>
                  </a:lnTo>
                  <a:lnTo>
                    <a:pt x="580" y="981"/>
                  </a:lnTo>
                  <a:lnTo>
                    <a:pt x="576" y="979"/>
                  </a:lnTo>
                  <a:lnTo>
                    <a:pt x="566" y="974"/>
                  </a:lnTo>
                  <a:lnTo>
                    <a:pt x="558" y="969"/>
                  </a:lnTo>
                  <a:lnTo>
                    <a:pt x="549" y="961"/>
                  </a:lnTo>
                  <a:lnTo>
                    <a:pt x="541" y="954"/>
                  </a:lnTo>
                  <a:lnTo>
                    <a:pt x="536" y="950"/>
                  </a:lnTo>
                  <a:lnTo>
                    <a:pt x="533" y="946"/>
                  </a:lnTo>
                  <a:lnTo>
                    <a:pt x="529" y="941"/>
                  </a:lnTo>
                  <a:lnTo>
                    <a:pt x="526" y="936"/>
                  </a:lnTo>
                  <a:lnTo>
                    <a:pt x="523" y="931"/>
                  </a:lnTo>
                  <a:lnTo>
                    <a:pt x="520" y="926"/>
                  </a:lnTo>
                  <a:lnTo>
                    <a:pt x="517" y="921"/>
                  </a:lnTo>
                  <a:lnTo>
                    <a:pt x="515" y="916"/>
                  </a:lnTo>
                  <a:lnTo>
                    <a:pt x="512" y="903"/>
                  </a:lnTo>
                  <a:lnTo>
                    <a:pt x="509" y="891"/>
                  </a:lnTo>
                  <a:lnTo>
                    <a:pt x="508" y="878"/>
                  </a:lnTo>
                  <a:lnTo>
                    <a:pt x="507" y="864"/>
                  </a:lnTo>
                  <a:lnTo>
                    <a:pt x="507" y="848"/>
                  </a:lnTo>
                  <a:lnTo>
                    <a:pt x="508" y="832"/>
                  </a:lnTo>
                  <a:lnTo>
                    <a:pt x="510" y="817"/>
                  </a:lnTo>
                  <a:lnTo>
                    <a:pt x="513" y="801"/>
                  </a:lnTo>
                  <a:lnTo>
                    <a:pt x="516" y="786"/>
                  </a:lnTo>
                  <a:lnTo>
                    <a:pt x="520" y="769"/>
                  </a:lnTo>
                  <a:lnTo>
                    <a:pt x="526" y="753"/>
                  </a:lnTo>
                  <a:lnTo>
                    <a:pt x="531" y="737"/>
                  </a:lnTo>
                  <a:lnTo>
                    <a:pt x="528" y="746"/>
                  </a:lnTo>
                  <a:lnTo>
                    <a:pt x="525" y="755"/>
                  </a:lnTo>
                  <a:lnTo>
                    <a:pt x="520" y="765"/>
                  </a:lnTo>
                  <a:lnTo>
                    <a:pt x="515" y="774"/>
                  </a:lnTo>
                  <a:lnTo>
                    <a:pt x="509" y="784"/>
                  </a:lnTo>
                  <a:lnTo>
                    <a:pt x="502" y="794"/>
                  </a:lnTo>
                  <a:lnTo>
                    <a:pt x="485" y="814"/>
                  </a:lnTo>
                  <a:lnTo>
                    <a:pt x="466" y="833"/>
                  </a:lnTo>
                  <a:lnTo>
                    <a:pt x="443" y="854"/>
                  </a:lnTo>
                  <a:lnTo>
                    <a:pt x="417" y="875"/>
                  </a:lnTo>
                  <a:lnTo>
                    <a:pt x="388" y="897"/>
                  </a:lnTo>
                  <a:lnTo>
                    <a:pt x="358" y="918"/>
                  </a:lnTo>
                  <a:lnTo>
                    <a:pt x="329" y="935"/>
                  </a:lnTo>
                  <a:lnTo>
                    <a:pt x="302" y="950"/>
                  </a:lnTo>
                  <a:lnTo>
                    <a:pt x="277" y="962"/>
                  </a:lnTo>
                  <a:lnTo>
                    <a:pt x="253" y="972"/>
                  </a:lnTo>
                  <a:lnTo>
                    <a:pt x="232" y="979"/>
                  </a:lnTo>
                  <a:lnTo>
                    <a:pt x="221" y="981"/>
                  </a:lnTo>
                  <a:lnTo>
                    <a:pt x="212" y="983"/>
                  </a:lnTo>
                  <a:lnTo>
                    <a:pt x="202" y="984"/>
                  </a:lnTo>
                  <a:lnTo>
                    <a:pt x="192" y="984"/>
                  </a:lnTo>
                  <a:lnTo>
                    <a:pt x="180" y="984"/>
                  </a:lnTo>
                  <a:lnTo>
                    <a:pt x="167" y="982"/>
                  </a:lnTo>
                  <a:lnTo>
                    <a:pt x="155" y="980"/>
                  </a:lnTo>
                  <a:lnTo>
                    <a:pt x="145" y="976"/>
                  </a:lnTo>
                  <a:lnTo>
                    <a:pt x="135" y="972"/>
                  </a:lnTo>
                  <a:lnTo>
                    <a:pt x="127" y="967"/>
                  </a:lnTo>
                  <a:lnTo>
                    <a:pt x="118" y="960"/>
                  </a:lnTo>
                  <a:lnTo>
                    <a:pt x="112" y="953"/>
                  </a:lnTo>
                  <a:lnTo>
                    <a:pt x="105" y="945"/>
                  </a:lnTo>
                  <a:lnTo>
                    <a:pt x="99" y="935"/>
                  </a:lnTo>
                  <a:lnTo>
                    <a:pt x="95" y="925"/>
                  </a:lnTo>
                  <a:lnTo>
                    <a:pt x="91" y="914"/>
                  </a:lnTo>
                  <a:lnTo>
                    <a:pt x="88" y="901"/>
                  </a:lnTo>
                  <a:lnTo>
                    <a:pt x="86" y="888"/>
                  </a:lnTo>
                  <a:lnTo>
                    <a:pt x="84" y="874"/>
                  </a:lnTo>
                  <a:lnTo>
                    <a:pt x="84" y="858"/>
                  </a:lnTo>
                  <a:lnTo>
                    <a:pt x="85" y="836"/>
                  </a:lnTo>
                  <a:lnTo>
                    <a:pt x="90" y="806"/>
                  </a:lnTo>
                  <a:lnTo>
                    <a:pt x="96" y="770"/>
                  </a:lnTo>
                  <a:lnTo>
                    <a:pt x="105" y="727"/>
                  </a:lnTo>
                  <a:lnTo>
                    <a:pt x="132" y="622"/>
                  </a:lnTo>
                  <a:lnTo>
                    <a:pt x="168" y="490"/>
                  </a:lnTo>
                  <a:lnTo>
                    <a:pt x="200" y="375"/>
                  </a:lnTo>
                  <a:lnTo>
                    <a:pt x="223" y="285"/>
                  </a:lnTo>
                  <a:lnTo>
                    <a:pt x="237" y="222"/>
                  </a:lnTo>
                  <a:lnTo>
                    <a:pt x="240" y="200"/>
                  </a:lnTo>
                  <a:lnTo>
                    <a:pt x="241" y="192"/>
                  </a:lnTo>
                  <a:lnTo>
                    <a:pt x="241" y="184"/>
                  </a:lnTo>
                  <a:lnTo>
                    <a:pt x="241" y="176"/>
                  </a:lnTo>
                  <a:lnTo>
                    <a:pt x="239" y="176"/>
                  </a:lnTo>
                  <a:lnTo>
                    <a:pt x="236" y="176"/>
                  </a:lnTo>
                  <a:lnTo>
                    <a:pt x="230" y="178"/>
                  </a:lnTo>
                  <a:lnTo>
                    <a:pt x="223" y="180"/>
                  </a:lnTo>
                  <a:lnTo>
                    <a:pt x="216" y="183"/>
                  </a:lnTo>
                  <a:lnTo>
                    <a:pt x="199" y="193"/>
                  </a:lnTo>
                  <a:lnTo>
                    <a:pt x="180" y="205"/>
                  </a:lnTo>
                  <a:lnTo>
                    <a:pt x="156" y="221"/>
                  </a:lnTo>
                  <a:lnTo>
                    <a:pt x="132" y="241"/>
                  </a:lnTo>
                  <a:lnTo>
                    <a:pt x="73" y="292"/>
                  </a:lnTo>
                  <a:lnTo>
                    <a:pt x="0" y="233"/>
                  </a:lnTo>
                  <a:lnTo>
                    <a:pt x="60" y="179"/>
                  </a:lnTo>
                  <a:lnTo>
                    <a:pt x="116" y="131"/>
                  </a:lnTo>
                  <a:lnTo>
                    <a:pt x="168" y="92"/>
                  </a:lnTo>
                  <a:lnTo>
                    <a:pt x="216" y="59"/>
                  </a:lnTo>
                  <a:lnTo>
                    <a:pt x="260" y="34"/>
                  </a:lnTo>
                  <a:lnTo>
                    <a:pt x="282" y="23"/>
                  </a:lnTo>
                  <a:lnTo>
                    <a:pt x="302" y="15"/>
                  </a:lnTo>
                  <a:lnTo>
                    <a:pt x="321" y="9"/>
                  </a:lnTo>
                  <a:lnTo>
                    <a:pt x="339" y="5"/>
                  </a:lnTo>
                  <a:lnTo>
                    <a:pt x="357" y="1"/>
                  </a:lnTo>
                  <a:lnTo>
                    <a:pt x="373" y="0"/>
                  </a:lnTo>
                  <a:lnTo>
                    <a:pt x="382" y="0"/>
                  </a:lnTo>
                  <a:lnTo>
                    <a:pt x="392" y="2"/>
                  </a:lnTo>
                  <a:lnTo>
                    <a:pt x="402" y="3"/>
                  </a:lnTo>
                  <a:lnTo>
                    <a:pt x="409" y="7"/>
                  </a:lnTo>
                  <a:lnTo>
                    <a:pt x="416" y="11"/>
                  </a:lnTo>
                  <a:lnTo>
                    <a:pt x="424" y="15"/>
                  </a:lnTo>
                  <a:lnTo>
                    <a:pt x="430" y="20"/>
                  </a:lnTo>
                  <a:lnTo>
                    <a:pt x="436" y="26"/>
                  </a:lnTo>
                  <a:lnTo>
                    <a:pt x="441" y="33"/>
                  </a:lnTo>
                  <a:lnTo>
                    <a:pt x="445" y="40"/>
                  </a:lnTo>
                  <a:lnTo>
                    <a:pt x="448" y="48"/>
                  </a:lnTo>
                  <a:lnTo>
                    <a:pt x="451" y="58"/>
                  </a:lnTo>
                  <a:lnTo>
                    <a:pt x="454" y="67"/>
                  </a:lnTo>
                  <a:lnTo>
                    <a:pt x="456" y="77"/>
                  </a:lnTo>
                  <a:lnTo>
                    <a:pt x="457" y="89"/>
                  </a:lnTo>
                  <a:lnTo>
                    <a:pt x="457" y="101"/>
                  </a:lnTo>
                  <a:lnTo>
                    <a:pt x="456" y="124"/>
                  </a:lnTo>
                  <a:lnTo>
                    <a:pt x="451" y="153"/>
                  </a:lnTo>
                  <a:lnTo>
                    <a:pt x="437" y="232"/>
                  </a:lnTo>
                  <a:lnTo>
                    <a:pt x="411" y="338"/>
                  </a:lnTo>
                  <a:lnTo>
                    <a:pt x="376" y="472"/>
                  </a:lnTo>
                  <a:lnTo>
                    <a:pt x="324" y="673"/>
                  </a:lnTo>
                  <a:lnTo>
                    <a:pt x="310" y="733"/>
                  </a:lnTo>
                  <a:lnTo>
                    <a:pt x="307" y="751"/>
                  </a:lnTo>
                  <a:lnTo>
                    <a:pt x="306" y="759"/>
                  </a:lnTo>
                  <a:lnTo>
                    <a:pt x="306" y="764"/>
                  </a:lnTo>
                  <a:lnTo>
                    <a:pt x="306" y="768"/>
                  </a:lnTo>
                  <a:lnTo>
                    <a:pt x="307" y="771"/>
                  </a:lnTo>
                  <a:lnTo>
                    <a:pt x="307" y="774"/>
                  </a:lnTo>
                  <a:lnTo>
                    <a:pt x="308" y="778"/>
                  </a:lnTo>
                  <a:lnTo>
                    <a:pt x="309" y="780"/>
                  </a:lnTo>
                  <a:lnTo>
                    <a:pt x="311" y="784"/>
                  </a:lnTo>
                  <a:lnTo>
                    <a:pt x="312" y="787"/>
                  </a:lnTo>
                  <a:lnTo>
                    <a:pt x="315" y="789"/>
                  </a:lnTo>
                  <a:lnTo>
                    <a:pt x="317" y="791"/>
                  </a:lnTo>
                  <a:lnTo>
                    <a:pt x="319" y="792"/>
                  </a:lnTo>
                  <a:lnTo>
                    <a:pt x="321" y="794"/>
                  </a:lnTo>
                  <a:lnTo>
                    <a:pt x="322" y="795"/>
                  </a:lnTo>
                  <a:lnTo>
                    <a:pt x="324" y="796"/>
                  </a:lnTo>
                  <a:lnTo>
                    <a:pt x="325" y="796"/>
                  </a:lnTo>
                  <a:lnTo>
                    <a:pt x="325" y="796"/>
                  </a:lnTo>
                  <a:lnTo>
                    <a:pt x="326" y="797"/>
                  </a:lnTo>
                  <a:lnTo>
                    <a:pt x="327" y="797"/>
                  </a:lnTo>
                  <a:lnTo>
                    <a:pt x="327" y="797"/>
                  </a:lnTo>
                  <a:lnTo>
                    <a:pt x="328" y="797"/>
                  </a:lnTo>
                  <a:lnTo>
                    <a:pt x="330" y="797"/>
                  </a:lnTo>
                  <a:lnTo>
                    <a:pt x="334" y="796"/>
                  </a:lnTo>
                  <a:lnTo>
                    <a:pt x="337" y="795"/>
                  </a:lnTo>
                  <a:lnTo>
                    <a:pt x="341" y="794"/>
                  </a:lnTo>
                  <a:lnTo>
                    <a:pt x="350" y="790"/>
                  </a:lnTo>
                  <a:lnTo>
                    <a:pt x="359" y="784"/>
                  </a:lnTo>
                  <a:lnTo>
                    <a:pt x="371" y="776"/>
                  </a:lnTo>
                  <a:lnTo>
                    <a:pt x="385" y="767"/>
                  </a:lnTo>
                  <a:lnTo>
                    <a:pt x="415" y="744"/>
                  </a:lnTo>
                  <a:lnTo>
                    <a:pt x="447" y="718"/>
                  </a:lnTo>
                  <a:lnTo>
                    <a:pt x="475" y="692"/>
                  </a:lnTo>
                  <a:lnTo>
                    <a:pt x="488" y="680"/>
                  </a:lnTo>
                  <a:lnTo>
                    <a:pt x="499" y="667"/>
                  </a:lnTo>
                  <a:lnTo>
                    <a:pt x="511" y="655"/>
                  </a:lnTo>
                  <a:lnTo>
                    <a:pt x="520" y="642"/>
                  </a:lnTo>
                  <a:lnTo>
                    <a:pt x="530" y="629"/>
                  </a:lnTo>
                  <a:lnTo>
                    <a:pt x="538" y="614"/>
                  </a:lnTo>
                  <a:lnTo>
                    <a:pt x="547" y="596"/>
                  </a:lnTo>
                  <a:lnTo>
                    <a:pt x="555" y="579"/>
                  </a:lnTo>
                  <a:lnTo>
                    <a:pt x="564" y="558"/>
                  </a:lnTo>
                  <a:lnTo>
                    <a:pt x="571" y="536"/>
                  </a:lnTo>
                  <a:lnTo>
                    <a:pt x="586" y="487"/>
                  </a:lnTo>
                  <a:lnTo>
                    <a:pt x="711" y="28"/>
                  </a:lnTo>
                  <a:lnTo>
                    <a:pt x="907" y="28"/>
                  </a:lnTo>
                  <a:lnTo>
                    <a:pt x="803" y="433"/>
                  </a:lnTo>
                  <a:lnTo>
                    <a:pt x="737" y="678"/>
                  </a:lnTo>
                  <a:lnTo>
                    <a:pt x="721" y="750"/>
                  </a:lnTo>
                  <a:lnTo>
                    <a:pt x="717" y="774"/>
                  </a:lnTo>
                  <a:lnTo>
                    <a:pt x="716" y="784"/>
                  </a:lnTo>
                  <a:lnTo>
                    <a:pt x="716" y="790"/>
                  </a:lnTo>
                  <a:lnTo>
                    <a:pt x="716" y="794"/>
                  </a:lnTo>
                  <a:lnTo>
                    <a:pt x="716" y="795"/>
                  </a:lnTo>
                  <a:lnTo>
                    <a:pt x="717" y="797"/>
                  </a:lnTo>
                  <a:lnTo>
                    <a:pt x="717" y="798"/>
                  </a:lnTo>
                  <a:lnTo>
                    <a:pt x="717" y="799"/>
                  </a:lnTo>
                  <a:lnTo>
                    <a:pt x="718" y="800"/>
                  </a:lnTo>
                  <a:lnTo>
                    <a:pt x="718" y="801"/>
                  </a:lnTo>
                  <a:lnTo>
                    <a:pt x="719" y="802"/>
                  </a:lnTo>
                  <a:lnTo>
                    <a:pt x="720" y="803"/>
                  </a:lnTo>
                  <a:lnTo>
                    <a:pt x="721" y="804"/>
                  </a:lnTo>
                  <a:lnTo>
                    <a:pt x="721" y="804"/>
                  </a:lnTo>
                  <a:lnTo>
                    <a:pt x="722" y="804"/>
                  </a:lnTo>
                  <a:lnTo>
                    <a:pt x="724" y="805"/>
                  </a:lnTo>
                  <a:lnTo>
                    <a:pt x="725" y="805"/>
                  </a:lnTo>
                  <a:lnTo>
                    <a:pt x="726" y="805"/>
                  </a:lnTo>
                  <a:lnTo>
                    <a:pt x="731" y="805"/>
                  </a:lnTo>
                  <a:lnTo>
                    <a:pt x="735" y="804"/>
                  </a:lnTo>
                  <a:lnTo>
                    <a:pt x="740" y="803"/>
                  </a:lnTo>
                  <a:lnTo>
                    <a:pt x="745" y="801"/>
                  </a:lnTo>
                  <a:lnTo>
                    <a:pt x="757" y="796"/>
                  </a:lnTo>
                  <a:lnTo>
                    <a:pt x="770" y="789"/>
                  </a:lnTo>
                  <a:lnTo>
                    <a:pt x="785" y="780"/>
                  </a:lnTo>
                  <a:lnTo>
                    <a:pt x="801" y="769"/>
                  </a:lnTo>
                  <a:lnTo>
                    <a:pt x="838" y="741"/>
                  </a:lnTo>
                  <a:lnTo>
                    <a:pt x="875" y="710"/>
                  </a:lnTo>
                  <a:lnTo>
                    <a:pt x="906" y="681"/>
                  </a:lnTo>
                  <a:lnTo>
                    <a:pt x="919" y="667"/>
                  </a:lnTo>
                  <a:lnTo>
                    <a:pt x="931" y="654"/>
                  </a:lnTo>
                  <a:lnTo>
                    <a:pt x="942" y="641"/>
                  </a:lnTo>
                  <a:lnTo>
                    <a:pt x="951" y="630"/>
                  </a:lnTo>
                  <a:lnTo>
                    <a:pt x="960" y="617"/>
                  </a:lnTo>
                  <a:lnTo>
                    <a:pt x="967" y="604"/>
                  </a:lnTo>
                  <a:lnTo>
                    <a:pt x="976" y="588"/>
                  </a:lnTo>
                  <a:lnTo>
                    <a:pt x="983" y="571"/>
                  </a:lnTo>
                  <a:lnTo>
                    <a:pt x="991" y="553"/>
                  </a:lnTo>
                  <a:lnTo>
                    <a:pt x="998" y="532"/>
                  </a:lnTo>
                  <a:lnTo>
                    <a:pt x="1012" y="487"/>
                  </a:lnTo>
                  <a:lnTo>
                    <a:pt x="1137" y="28"/>
                  </a:lnTo>
                  <a:lnTo>
                    <a:pt x="1333" y="28"/>
                  </a:lnTo>
                  <a:lnTo>
                    <a:pt x="1228" y="432"/>
                  </a:lnTo>
                  <a:lnTo>
                    <a:pt x="1161" y="686"/>
                  </a:lnTo>
                  <a:lnTo>
                    <a:pt x="1144" y="760"/>
                  </a:lnTo>
                  <a:lnTo>
                    <a:pt x="1140" y="784"/>
                  </a:lnTo>
                  <a:lnTo>
                    <a:pt x="1139" y="793"/>
                  </a:lnTo>
                  <a:lnTo>
                    <a:pt x="1139" y="799"/>
                  </a:lnTo>
                  <a:lnTo>
                    <a:pt x="1139" y="804"/>
                  </a:lnTo>
                  <a:lnTo>
                    <a:pt x="1140" y="807"/>
                  </a:lnTo>
                  <a:lnTo>
                    <a:pt x="1140" y="810"/>
                  </a:lnTo>
                  <a:lnTo>
                    <a:pt x="1140" y="812"/>
                  </a:lnTo>
                  <a:lnTo>
                    <a:pt x="1141" y="813"/>
                  </a:lnTo>
                  <a:lnTo>
                    <a:pt x="1141" y="814"/>
                  </a:lnTo>
                  <a:lnTo>
                    <a:pt x="1142" y="815"/>
                  </a:lnTo>
                  <a:lnTo>
                    <a:pt x="1142" y="816"/>
                  </a:lnTo>
                  <a:lnTo>
                    <a:pt x="1143" y="817"/>
                  </a:lnTo>
                  <a:lnTo>
                    <a:pt x="1144" y="818"/>
                  </a:lnTo>
                  <a:lnTo>
                    <a:pt x="1144" y="818"/>
                  </a:lnTo>
                  <a:lnTo>
                    <a:pt x="1144" y="818"/>
                  </a:lnTo>
                  <a:lnTo>
                    <a:pt x="1145" y="819"/>
                  </a:lnTo>
                  <a:lnTo>
                    <a:pt x="1145" y="819"/>
                  </a:lnTo>
                  <a:lnTo>
                    <a:pt x="1147" y="819"/>
                  </a:lnTo>
                  <a:lnTo>
                    <a:pt x="1147" y="819"/>
                  </a:lnTo>
                  <a:lnTo>
                    <a:pt x="1148" y="819"/>
                  </a:lnTo>
                  <a:lnTo>
                    <a:pt x="1150" y="819"/>
                  </a:lnTo>
                  <a:lnTo>
                    <a:pt x="1152" y="818"/>
                  </a:lnTo>
                  <a:lnTo>
                    <a:pt x="1157" y="817"/>
                  </a:lnTo>
                  <a:lnTo>
                    <a:pt x="1164" y="814"/>
                  </a:lnTo>
                  <a:lnTo>
                    <a:pt x="1170" y="811"/>
                  </a:lnTo>
                  <a:lnTo>
                    <a:pt x="1187" y="799"/>
                  </a:lnTo>
                  <a:lnTo>
                    <a:pt x="1208" y="784"/>
                  </a:lnTo>
                  <a:lnTo>
                    <a:pt x="1261" y="740"/>
                  </a:lnTo>
                  <a:lnTo>
                    <a:pt x="1329" y="678"/>
                  </a:lnTo>
                  <a:lnTo>
                    <a:pt x="1388" y="742"/>
                  </a:lnTo>
                  <a:lnTo>
                    <a:pt x="1372" y="761"/>
                  </a:lnTo>
                  <a:lnTo>
                    <a:pt x="1357" y="778"/>
                  </a:lnTo>
                  <a:lnTo>
                    <a:pt x="1345" y="796"/>
                  </a:lnTo>
                  <a:lnTo>
                    <a:pt x="1334" y="814"/>
                  </a:lnTo>
                  <a:lnTo>
                    <a:pt x="1327" y="831"/>
                  </a:lnTo>
                  <a:lnTo>
                    <a:pt x="1324" y="840"/>
                  </a:lnTo>
                  <a:lnTo>
                    <a:pt x="1321" y="848"/>
                  </a:lnTo>
                  <a:lnTo>
                    <a:pt x="1318" y="856"/>
                  </a:lnTo>
                  <a:lnTo>
                    <a:pt x="1317" y="865"/>
                  </a:lnTo>
                  <a:lnTo>
                    <a:pt x="1316" y="873"/>
                  </a:lnTo>
                  <a:lnTo>
                    <a:pt x="1316" y="881"/>
                  </a:lnTo>
                  <a:lnTo>
                    <a:pt x="1316" y="886"/>
                  </a:lnTo>
                  <a:lnTo>
                    <a:pt x="1317" y="893"/>
                  </a:lnTo>
                  <a:lnTo>
                    <a:pt x="1317" y="899"/>
                  </a:lnTo>
                  <a:lnTo>
                    <a:pt x="1318" y="905"/>
                  </a:lnTo>
                  <a:lnTo>
                    <a:pt x="1321" y="912"/>
                  </a:lnTo>
                  <a:lnTo>
                    <a:pt x="1322" y="920"/>
                  </a:lnTo>
                  <a:lnTo>
                    <a:pt x="1326" y="934"/>
                  </a:lnTo>
                  <a:lnTo>
                    <a:pt x="1332" y="960"/>
                  </a:lnTo>
                  <a:lnTo>
                    <a:pt x="1338" y="982"/>
                  </a:lnTo>
                  <a:lnTo>
                    <a:pt x="1339" y="993"/>
                  </a:lnTo>
                  <a:lnTo>
                    <a:pt x="1340" y="1001"/>
                  </a:lnTo>
                  <a:lnTo>
                    <a:pt x="1341" y="1008"/>
                  </a:lnTo>
                  <a:lnTo>
                    <a:pt x="1341" y="1014"/>
                  </a:lnTo>
                  <a:lnTo>
                    <a:pt x="1341" y="1025"/>
                  </a:lnTo>
                  <a:lnTo>
                    <a:pt x="1340" y="1034"/>
                  </a:lnTo>
                  <a:lnTo>
                    <a:pt x="1338" y="1045"/>
                  </a:lnTo>
                  <a:lnTo>
                    <a:pt x="1335" y="1054"/>
                  </a:lnTo>
                  <a:lnTo>
                    <a:pt x="1333" y="1063"/>
                  </a:lnTo>
                  <a:lnTo>
                    <a:pt x="1330" y="1073"/>
                  </a:lnTo>
                  <a:lnTo>
                    <a:pt x="1326" y="1081"/>
                  </a:lnTo>
                  <a:lnTo>
                    <a:pt x="1322" y="1090"/>
                  </a:lnTo>
                  <a:lnTo>
                    <a:pt x="1316" y="1099"/>
                  </a:lnTo>
                  <a:lnTo>
                    <a:pt x="1310" y="1107"/>
                  </a:lnTo>
                  <a:lnTo>
                    <a:pt x="1304" y="1115"/>
                  </a:lnTo>
                  <a:lnTo>
                    <a:pt x="1297" y="1124"/>
                  </a:lnTo>
                  <a:lnTo>
                    <a:pt x="1289" y="1132"/>
                  </a:lnTo>
                  <a:lnTo>
                    <a:pt x="1281" y="1139"/>
                  </a:lnTo>
                  <a:lnTo>
                    <a:pt x="1262" y="1155"/>
                  </a:lnTo>
                  <a:lnTo>
                    <a:pt x="1253" y="1162"/>
                  </a:lnTo>
                  <a:lnTo>
                    <a:pt x="1242" y="1168"/>
                  </a:lnTo>
                  <a:lnTo>
                    <a:pt x="1230" y="1175"/>
                  </a:lnTo>
                  <a:lnTo>
                    <a:pt x="1220" y="1181"/>
                  </a:lnTo>
                  <a:lnTo>
                    <a:pt x="1194" y="1190"/>
                  </a:lnTo>
                  <a:lnTo>
                    <a:pt x="1169" y="1198"/>
                  </a:lnTo>
                  <a:lnTo>
                    <a:pt x="1140" y="1205"/>
                  </a:lnTo>
                  <a:lnTo>
                    <a:pt x="1109" y="1210"/>
                  </a:lnTo>
                  <a:lnTo>
                    <a:pt x="1078" y="1212"/>
                  </a:lnTo>
                  <a:lnTo>
                    <a:pt x="1044" y="1213"/>
                  </a:lnTo>
                  <a:lnTo>
                    <a:pt x="983" y="1212"/>
                  </a:lnTo>
                  <a:lnTo>
                    <a:pt x="925" y="1211"/>
                  </a:lnTo>
                  <a:lnTo>
                    <a:pt x="868" y="1208"/>
                  </a:lnTo>
                  <a:lnTo>
                    <a:pt x="814" y="1204"/>
                  </a:lnTo>
                  <a:lnTo>
                    <a:pt x="745" y="1197"/>
                  </a:lnTo>
                  <a:lnTo>
                    <a:pt x="724" y="1195"/>
                  </a:lnTo>
                  <a:lnTo>
                    <a:pt x="711" y="1195"/>
                  </a:lnTo>
                  <a:lnTo>
                    <a:pt x="706" y="1195"/>
                  </a:lnTo>
                  <a:lnTo>
                    <a:pt x="701" y="1195"/>
                  </a:lnTo>
                  <a:lnTo>
                    <a:pt x="697" y="1196"/>
                  </a:lnTo>
                  <a:lnTo>
                    <a:pt x="692" y="1197"/>
                  </a:lnTo>
                  <a:lnTo>
                    <a:pt x="688" y="1198"/>
                  </a:lnTo>
                  <a:lnTo>
                    <a:pt x="685" y="1200"/>
                  </a:lnTo>
                  <a:lnTo>
                    <a:pt x="682" y="1202"/>
                  </a:lnTo>
                  <a:lnTo>
                    <a:pt x="679" y="1204"/>
                  </a:lnTo>
                  <a:lnTo>
                    <a:pt x="676" y="1205"/>
                  </a:lnTo>
                  <a:lnTo>
                    <a:pt x="674" y="1208"/>
                  </a:lnTo>
                  <a:lnTo>
                    <a:pt x="672" y="1210"/>
                  </a:lnTo>
                  <a:lnTo>
                    <a:pt x="670" y="1213"/>
                  </a:lnTo>
                  <a:lnTo>
                    <a:pt x="669" y="1216"/>
                  </a:lnTo>
                  <a:lnTo>
                    <a:pt x="669" y="1219"/>
                  </a:lnTo>
                  <a:lnTo>
                    <a:pt x="668" y="1222"/>
                  </a:lnTo>
                  <a:lnTo>
                    <a:pt x="668" y="1227"/>
                  </a:lnTo>
                  <a:lnTo>
                    <a:pt x="668" y="1229"/>
                  </a:lnTo>
                  <a:lnTo>
                    <a:pt x="668" y="1231"/>
                  </a:lnTo>
                  <a:lnTo>
                    <a:pt x="669" y="1233"/>
                  </a:lnTo>
                  <a:lnTo>
                    <a:pt x="669" y="1234"/>
                  </a:lnTo>
                  <a:lnTo>
                    <a:pt x="670" y="1236"/>
                  </a:lnTo>
                  <a:lnTo>
                    <a:pt x="671" y="1237"/>
                  </a:lnTo>
                  <a:lnTo>
                    <a:pt x="672" y="1239"/>
                  </a:lnTo>
                  <a:lnTo>
                    <a:pt x="673" y="1240"/>
                  </a:lnTo>
                  <a:lnTo>
                    <a:pt x="674" y="1241"/>
                  </a:lnTo>
                  <a:lnTo>
                    <a:pt x="675" y="1242"/>
                  </a:lnTo>
                  <a:lnTo>
                    <a:pt x="677" y="1243"/>
                  </a:lnTo>
                  <a:lnTo>
                    <a:pt x="680" y="1243"/>
                  </a:lnTo>
                  <a:lnTo>
                    <a:pt x="681" y="1244"/>
                  </a:lnTo>
                  <a:lnTo>
                    <a:pt x="683" y="1244"/>
                  </a:lnTo>
                  <a:lnTo>
                    <a:pt x="686" y="1245"/>
                  </a:lnTo>
                  <a:lnTo>
                    <a:pt x="688" y="1245"/>
                  </a:lnTo>
                  <a:lnTo>
                    <a:pt x="697" y="1246"/>
                  </a:lnTo>
                  <a:lnTo>
                    <a:pt x="704" y="1247"/>
                  </a:lnTo>
                  <a:lnTo>
                    <a:pt x="711" y="1249"/>
                  </a:lnTo>
                  <a:lnTo>
                    <a:pt x="718" y="1252"/>
                  </a:lnTo>
                  <a:lnTo>
                    <a:pt x="724" y="1255"/>
                  </a:lnTo>
                  <a:lnTo>
                    <a:pt x="729" y="1258"/>
                  </a:lnTo>
                  <a:lnTo>
                    <a:pt x="735" y="1261"/>
                  </a:lnTo>
                  <a:lnTo>
                    <a:pt x="739" y="1265"/>
                  </a:lnTo>
                  <a:lnTo>
                    <a:pt x="743" y="1269"/>
                  </a:lnTo>
                  <a:lnTo>
                    <a:pt x="746" y="1273"/>
                  </a:lnTo>
                  <a:lnTo>
                    <a:pt x="750" y="1279"/>
                  </a:lnTo>
                  <a:lnTo>
                    <a:pt x="752" y="1284"/>
                  </a:lnTo>
                  <a:lnTo>
                    <a:pt x="754" y="1290"/>
                  </a:lnTo>
                  <a:lnTo>
                    <a:pt x="755" y="1296"/>
                  </a:lnTo>
                  <a:lnTo>
                    <a:pt x="756" y="1302"/>
                  </a:lnTo>
                  <a:lnTo>
                    <a:pt x="756" y="1310"/>
                  </a:lnTo>
                  <a:lnTo>
                    <a:pt x="756" y="1317"/>
                  </a:lnTo>
                  <a:lnTo>
                    <a:pt x="755" y="1320"/>
                  </a:lnTo>
                  <a:lnTo>
                    <a:pt x="755" y="1323"/>
                  </a:lnTo>
                  <a:lnTo>
                    <a:pt x="754" y="1326"/>
                  </a:lnTo>
                  <a:lnTo>
                    <a:pt x="753" y="1330"/>
                  </a:lnTo>
                  <a:lnTo>
                    <a:pt x="752" y="1333"/>
                  </a:lnTo>
                  <a:lnTo>
                    <a:pt x="751" y="1336"/>
                  </a:lnTo>
                  <a:lnTo>
                    <a:pt x="749" y="1339"/>
                  </a:lnTo>
                  <a:lnTo>
                    <a:pt x="748" y="1342"/>
                  </a:lnTo>
                  <a:lnTo>
                    <a:pt x="745" y="1345"/>
                  </a:lnTo>
                  <a:lnTo>
                    <a:pt x="743" y="1348"/>
                  </a:lnTo>
                  <a:lnTo>
                    <a:pt x="739" y="1353"/>
                  </a:lnTo>
                  <a:lnTo>
                    <a:pt x="734" y="1359"/>
                  </a:lnTo>
                  <a:lnTo>
                    <a:pt x="728" y="1364"/>
                  </a:lnTo>
                  <a:lnTo>
                    <a:pt x="722" y="1368"/>
                  </a:lnTo>
                  <a:lnTo>
                    <a:pt x="716" y="1371"/>
                  </a:lnTo>
                  <a:lnTo>
                    <a:pt x="709" y="1374"/>
                  </a:lnTo>
                  <a:lnTo>
                    <a:pt x="703" y="1376"/>
                  </a:lnTo>
                  <a:lnTo>
                    <a:pt x="697" y="1378"/>
                  </a:lnTo>
                  <a:lnTo>
                    <a:pt x="689" y="1379"/>
                  </a:lnTo>
                  <a:lnTo>
                    <a:pt x="682" y="1379"/>
                  </a:lnTo>
                  <a:lnTo>
                    <a:pt x="675" y="1379"/>
                  </a:lnTo>
                  <a:lnTo>
                    <a:pt x="669" y="1378"/>
                  </a:lnTo>
                  <a:lnTo>
                    <a:pt x="663" y="1377"/>
                  </a:lnTo>
                  <a:lnTo>
                    <a:pt x="657" y="1376"/>
                  </a:lnTo>
                  <a:lnTo>
                    <a:pt x="651" y="1375"/>
                  </a:lnTo>
                  <a:lnTo>
                    <a:pt x="646" y="1373"/>
                  </a:lnTo>
                  <a:lnTo>
                    <a:pt x="639" y="1370"/>
                  </a:lnTo>
                  <a:lnTo>
                    <a:pt x="634" y="1368"/>
                  </a:lnTo>
                  <a:lnTo>
                    <a:pt x="629" y="1365"/>
                  </a:lnTo>
                  <a:lnTo>
                    <a:pt x="622" y="1362"/>
                  </a:lnTo>
                  <a:lnTo>
                    <a:pt x="612" y="1353"/>
                  </a:lnTo>
                  <a:lnTo>
                    <a:pt x="602" y="1344"/>
                  </a:lnTo>
                  <a:lnTo>
                    <a:pt x="592" y="1334"/>
                  </a:lnTo>
                  <a:lnTo>
                    <a:pt x="583" y="1322"/>
                  </a:lnTo>
                  <a:lnTo>
                    <a:pt x="575" y="1310"/>
                  </a:lnTo>
                  <a:lnTo>
                    <a:pt x="568" y="1296"/>
                  </a:lnTo>
                  <a:lnTo>
                    <a:pt x="563" y="1283"/>
                  </a:lnTo>
                  <a:lnTo>
                    <a:pt x="559" y="1269"/>
                  </a:lnTo>
                  <a:lnTo>
                    <a:pt x="555" y="1255"/>
                  </a:lnTo>
                  <a:lnTo>
                    <a:pt x="554" y="1240"/>
                  </a:lnTo>
                  <a:lnTo>
                    <a:pt x="553" y="1224"/>
                  </a:lnTo>
                  <a:lnTo>
                    <a:pt x="553" y="1213"/>
                  </a:lnTo>
                  <a:lnTo>
                    <a:pt x="554" y="1202"/>
                  </a:lnTo>
                  <a:lnTo>
                    <a:pt x="556" y="1191"/>
                  </a:lnTo>
                  <a:lnTo>
                    <a:pt x="558" y="1181"/>
                  </a:lnTo>
                  <a:lnTo>
                    <a:pt x="561" y="1170"/>
                  </a:lnTo>
                  <a:lnTo>
                    <a:pt x="564" y="1161"/>
                  </a:lnTo>
                  <a:lnTo>
                    <a:pt x="568" y="1152"/>
                  </a:lnTo>
                  <a:lnTo>
                    <a:pt x="572" y="1142"/>
                  </a:lnTo>
                  <a:lnTo>
                    <a:pt x="578" y="1133"/>
                  </a:lnTo>
                  <a:lnTo>
                    <a:pt x="583" y="1125"/>
                  </a:lnTo>
                  <a:lnTo>
                    <a:pt x="589" y="1116"/>
                  </a:lnTo>
                  <a:lnTo>
                    <a:pt x="596" y="1108"/>
                  </a:lnTo>
                  <a:lnTo>
                    <a:pt x="603" y="1101"/>
                  </a:lnTo>
                  <a:lnTo>
                    <a:pt x="611" y="1093"/>
                  </a:lnTo>
                  <a:lnTo>
                    <a:pt x="619" y="1086"/>
                  </a:lnTo>
                  <a:lnTo>
                    <a:pt x="629" y="1079"/>
                  </a:lnTo>
                  <a:lnTo>
                    <a:pt x="648" y="1065"/>
                  </a:lnTo>
                  <a:lnTo>
                    <a:pt x="667" y="1055"/>
                  </a:lnTo>
                  <a:lnTo>
                    <a:pt x="687" y="1045"/>
                  </a:lnTo>
                  <a:lnTo>
                    <a:pt x="707" y="1037"/>
                  </a:lnTo>
                  <a:lnTo>
                    <a:pt x="727" y="1031"/>
                  </a:lnTo>
                  <a:lnTo>
                    <a:pt x="749" y="1027"/>
                  </a:lnTo>
                  <a:lnTo>
                    <a:pt x="770" y="1025"/>
                  </a:lnTo>
                  <a:lnTo>
                    <a:pt x="791" y="1024"/>
                  </a:lnTo>
                  <a:lnTo>
                    <a:pt x="804" y="1024"/>
                  </a:lnTo>
                  <a:lnTo>
                    <a:pt x="818" y="1025"/>
                  </a:lnTo>
                  <a:lnTo>
                    <a:pt x="849" y="1028"/>
                  </a:lnTo>
                  <a:lnTo>
                    <a:pt x="889" y="1034"/>
                  </a:lnTo>
                  <a:lnTo>
                    <a:pt x="933" y="1041"/>
                  </a:lnTo>
                  <a:lnTo>
                    <a:pt x="991" y="1052"/>
                  </a:lnTo>
                  <a:lnTo>
                    <a:pt x="1043" y="1059"/>
                  </a:lnTo>
                  <a:lnTo>
                    <a:pt x="1089" y="1063"/>
                  </a:lnTo>
                  <a:lnTo>
                    <a:pt x="1112" y="1064"/>
                  </a:lnTo>
                  <a:lnTo>
                    <a:pt x="1132" y="1064"/>
                  </a:lnTo>
                  <a:lnTo>
                    <a:pt x="1144" y="1064"/>
                  </a:lnTo>
                  <a:lnTo>
                    <a:pt x="1156" y="1063"/>
                  </a:lnTo>
                  <a:lnTo>
                    <a:pt x="1167" y="1061"/>
                  </a:lnTo>
                  <a:lnTo>
                    <a:pt x="1177" y="1059"/>
                  </a:lnTo>
                  <a:lnTo>
                    <a:pt x="1186" y="1056"/>
                  </a:lnTo>
                  <a:lnTo>
                    <a:pt x="1190" y="1054"/>
                  </a:lnTo>
                  <a:lnTo>
                    <a:pt x="1193" y="1053"/>
                  </a:lnTo>
                  <a:lnTo>
                    <a:pt x="1197" y="1051"/>
                  </a:lnTo>
                  <a:lnTo>
                    <a:pt x="1201" y="1049"/>
                  </a:lnTo>
                  <a:lnTo>
                    <a:pt x="1203" y="1046"/>
                  </a:lnTo>
                  <a:lnTo>
                    <a:pt x="1206" y="1044"/>
                  </a:lnTo>
                  <a:lnTo>
                    <a:pt x="1211" y="1038"/>
                  </a:lnTo>
                  <a:lnTo>
                    <a:pt x="1216" y="1033"/>
                  </a:lnTo>
                  <a:lnTo>
                    <a:pt x="1219" y="1028"/>
                  </a:lnTo>
                  <a:lnTo>
                    <a:pt x="1222" y="1024"/>
                  </a:lnTo>
                  <a:lnTo>
                    <a:pt x="1223" y="1021"/>
                  </a:lnTo>
                  <a:lnTo>
                    <a:pt x="1224" y="1019"/>
                  </a:lnTo>
                  <a:lnTo>
                    <a:pt x="1225" y="1015"/>
                  </a:lnTo>
                  <a:lnTo>
                    <a:pt x="1226" y="1013"/>
                  </a:lnTo>
                  <a:lnTo>
                    <a:pt x="1226" y="1010"/>
                  </a:lnTo>
                  <a:lnTo>
                    <a:pt x="1227" y="1008"/>
                  </a:lnTo>
                  <a:lnTo>
                    <a:pt x="1227" y="1005"/>
                  </a:lnTo>
                  <a:lnTo>
                    <a:pt x="1227" y="1003"/>
                  </a:lnTo>
                  <a:lnTo>
                    <a:pt x="1227" y="1000"/>
                  </a:lnTo>
                  <a:lnTo>
                    <a:pt x="1227" y="997"/>
                  </a:lnTo>
                  <a:lnTo>
                    <a:pt x="1226" y="988"/>
                  </a:lnTo>
                  <a:lnTo>
                    <a:pt x="1222" y="966"/>
                  </a:lnTo>
                  <a:lnTo>
                    <a:pt x="1219" y="944"/>
                  </a:lnTo>
                  <a:lnTo>
                    <a:pt x="1218" y="933"/>
                  </a:lnTo>
                  <a:lnTo>
                    <a:pt x="1218" y="928"/>
                  </a:lnTo>
                  <a:lnTo>
                    <a:pt x="1218" y="923"/>
                  </a:lnTo>
                  <a:lnTo>
                    <a:pt x="1218" y="911"/>
                  </a:lnTo>
                  <a:lnTo>
                    <a:pt x="1219" y="901"/>
                  </a:lnTo>
                  <a:lnTo>
                    <a:pt x="1221" y="890"/>
                  </a:lnTo>
                  <a:lnTo>
                    <a:pt x="1223" y="878"/>
                  </a:lnTo>
                  <a:lnTo>
                    <a:pt x="1226" y="866"/>
                  </a:lnTo>
                  <a:lnTo>
                    <a:pt x="1230" y="854"/>
                  </a:lnTo>
                  <a:lnTo>
                    <a:pt x="1235" y="842"/>
                  </a:lnTo>
                  <a:lnTo>
                    <a:pt x="1240" y="829"/>
                  </a:lnTo>
                  <a:lnTo>
                    <a:pt x="1240" y="853"/>
                  </a:lnTo>
                  <a:lnTo>
                    <a:pt x="1216" y="884"/>
                  </a:lnTo>
                  <a:lnTo>
                    <a:pt x="1191" y="911"/>
                  </a:lnTo>
                  <a:lnTo>
                    <a:pt x="1167" y="935"/>
                  </a:lnTo>
                  <a:lnTo>
                    <a:pt x="1154" y="945"/>
                  </a:lnTo>
                  <a:lnTo>
                    <a:pt x="1142" y="954"/>
                  </a:lnTo>
                  <a:lnTo>
                    <a:pt x="1130" y="961"/>
                  </a:lnTo>
                  <a:lnTo>
                    <a:pt x="1117" y="969"/>
                  </a:lnTo>
                  <a:lnTo>
                    <a:pt x="1104" y="974"/>
                  </a:lnTo>
                  <a:lnTo>
                    <a:pt x="1092" y="979"/>
                  </a:lnTo>
                  <a:lnTo>
                    <a:pt x="1080" y="982"/>
                  </a:lnTo>
                  <a:lnTo>
                    <a:pt x="1067" y="985"/>
                  </a:lnTo>
                  <a:lnTo>
                    <a:pt x="1054" y="986"/>
                  </a:lnTo>
                  <a:lnTo>
                    <a:pt x="1041" y="987"/>
                  </a:lnTo>
                  <a:lnTo>
                    <a:pt x="1036" y="987"/>
                  </a:lnTo>
                  <a:lnTo>
                    <a:pt x="1031" y="986"/>
                  </a:lnTo>
                  <a:lnTo>
                    <a:pt x="1027" y="986"/>
                  </a:lnTo>
                  <a:lnTo>
                    <a:pt x="1021" y="985"/>
                  </a:lnTo>
                  <a:lnTo>
                    <a:pt x="1016" y="984"/>
                  </a:lnTo>
                  <a:lnTo>
                    <a:pt x="1012" y="982"/>
                  </a:lnTo>
                  <a:lnTo>
                    <a:pt x="1008" y="981"/>
                  </a:lnTo>
                  <a:lnTo>
                    <a:pt x="1002" y="979"/>
                  </a:lnTo>
                  <a:lnTo>
                    <a:pt x="994" y="974"/>
                  </a:lnTo>
                  <a:lnTo>
                    <a:pt x="984" y="969"/>
                  </a:lnTo>
                  <a:lnTo>
                    <a:pt x="976" y="961"/>
                  </a:lnTo>
                  <a:lnTo>
                    <a:pt x="967" y="954"/>
                  </a:lnTo>
                  <a:lnTo>
                    <a:pt x="960" y="945"/>
                  </a:lnTo>
                  <a:lnTo>
                    <a:pt x="956" y="941"/>
                  </a:lnTo>
                  <a:lnTo>
                    <a:pt x="952" y="935"/>
                  </a:lnTo>
                  <a:lnTo>
                    <a:pt x="949" y="931"/>
                  </a:lnTo>
                  <a:lnTo>
                    <a:pt x="947" y="926"/>
                  </a:lnTo>
                  <a:lnTo>
                    <a:pt x="944" y="920"/>
                  </a:lnTo>
                  <a:lnTo>
                    <a:pt x="942" y="915"/>
                  </a:lnTo>
                  <a:lnTo>
                    <a:pt x="939" y="903"/>
                  </a:lnTo>
                  <a:lnTo>
                    <a:pt x="935" y="891"/>
                  </a:lnTo>
                  <a:lnTo>
                    <a:pt x="934" y="877"/>
                  </a:lnTo>
                  <a:lnTo>
                    <a:pt x="933" y="864"/>
                  </a:lnTo>
                  <a:lnTo>
                    <a:pt x="933" y="848"/>
                  </a:lnTo>
                  <a:lnTo>
                    <a:pt x="934" y="832"/>
                  </a:lnTo>
                  <a:lnTo>
                    <a:pt x="936" y="817"/>
                  </a:lnTo>
                  <a:lnTo>
                    <a:pt x="940" y="801"/>
                  </a:lnTo>
                  <a:lnTo>
                    <a:pt x="943" y="786"/>
                  </a:lnTo>
                  <a:lnTo>
                    <a:pt x="947" y="769"/>
                  </a:lnTo>
                  <a:lnTo>
                    <a:pt x="951" y="753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91040" y="1338120"/>
              <a:ext cx="362160" cy="355680"/>
            </a:xfrm>
            <a:custGeom>
              <a:avLst/>
              <a:gdLst/>
              <a:ahLst/>
              <a:rect l="l" t="t" r="r" b="b"/>
              <a:pathLst>
                <a:path w="1007" h="988">
                  <a:moveTo>
                    <a:pt x="753" y="28"/>
                  </a:moveTo>
                  <a:lnTo>
                    <a:pt x="952" y="28"/>
                  </a:lnTo>
                  <a:lnTo>
                    <a:pt x="847" y="432"/>
                  </a:lnTo>
                  <a:lnTo>
                    <a:pt x="779" y="686"/>
                  </a:lnTo>
                  <a:lnTo>
                    <a:pt x="762" y="761"/>
                  </a:lnTo>
                  <a:lnTo>
                    <a:pt x="758" y="785"/>
                  </a:lnTo>
                  <a:lnTo>
                    <a:pt x="756" y="793"/>
                  </a:lnTo>
                  <a:lnTo>
                    <a:pt x="756" y="799"/>
                  </a:lnTo>
                  <a:lnTo>
                    <a:pt x="756" y="802"/>
                  </a:lnTo>
                  <a:lnTo>
                    <a:pt x="756" y="805"/>
                  </a:lnTo>
                  <a:lnTo>
                    <a:pt x="756" y="807"/>
                  </a:lnTo>
                  <a:lnTo>
                    <a:pt x="758" y="810"/>
                  </a:lnTo>
                  <a:lnTo>
                    <a:pt x="758" y="812"/>
                  </a:lnTo>
                  <a:lnTo>
                    <a:pt x="758" y="813"/>
                  </a:lnTo>
                  <a:lnTo>
                    <a:pt x="759" y="814"/>
                  </a:lnTo>
                  <a:lnTo>
                    <a:pt x="759" y="814"/>
                  </a:lnTo>
                  <a:lnTo>
                    <a:pt x="759" y="815"/>
                  </a:lnTo>
                  <a:lnTo>
                    <a:pt x="760" y="816"/>
                  </a:lnTo>
                  <a:lnTo>
                    <a:pt x="760" y="816"/>
                  </a:lnTo>
                  <a:lnTo>
                    <a:pt x="761" y="817"/>
                  </a:lnTo>
                  <a:lnTo>
                    <a:pt x="761" y="817"/>
                  </a:lnTo>
                  <a:lnTo>
                    <a:pt x="762" y="818"/>
                  </a:lnTo>
                  <a:lnTo>
                    <a:pt x="763" y="818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8" y="819"/>
                  </a:lnTo>
                  <a:lnTo>
                    <a:pt x="771" y="818"/>
                  </a:lnTo>
                  <a:lnTo>
                    <a:pt x="774" y="818"/>
                  </a:lnTo>
                  <a:lnTo>
                    <a:pt x="779" y="817"/>
                  </a:lnTo>
                  <a:lnTo>
                    <a:pt x="782" y="815"/>
                  </a:lnTo>
                  <a:lnTo>
                    <a:pt x="786" y="814"/>
                  </a:lnTo>
                  <a:lnTo>
                    <a:pt x="789" y="811"/>
                  </a:lnTo>
                  <a:lnTo>
                    <a:pt x="794" y="808"/>
                  </a:lnTo>
                  <a:lnTo>
                    <a:pt x="804" y="801"/>
                  </a:lnTo>
                  <a:lnTo>
                    <a:pt x="817" y="792"/>
                  </a:lnTo>
                  <a:lnTo>
                    <a:pt x="850" y="764"/>
                  </a:lnTo>
                  <a:lnTo>
                    <a:pt x="947" y="678"/>
                  </a:lnTo>
                  <a:lnTo>
                    <a:pt x="1006" y="741"/>
                  </a:lnTo>
                  <a:lnTo>
                    <a:pt x="950" y="799"/>
                  </a:lnTo>
                  <a:lnTo>
                    <a:pt x="897" y="849"/>
                  </a:lnTo>
                  <a:lnTo>
                    <a:pt x="848" y="891"/>
                  </a:lnTo>
                  <a:lnTo>
                    <a:pt x="802" y="926"/>
                  </a:lnTo>
                  <a:lnTo>
                    <a:pt x="760" y="953"/>
                  </a:lnTo>
                  <a:lnTo>
                    <a:pt x="741" y="963"/>
                  </a:lnTo>
                  <a:lnTo>
                    <a:pt x="722" y="972"/>
                  </a:lnTo>
                  <a:lnTo>
                    <a:pt x="704" y="979"/>
                  </a:lnTo>
                  <a:lnTo>
                    <a:pt x="687" y="983"/>
                  </a:lnTo>
                  <a:lnTo>
                    <a:pt x="672" y="986"/>
                  </a:lnTo>
                  <a:lnTo>
                    <a:pt x="657" y="987"/>
                  </a:lnTo>
                  <a:lnTo>
                    <a:pt x="651" y="987"/>
                  </a:lnTo>
                  <a:lnTo>
                    <a:pt x="646" y="986"/>
                  </a:lnTo>
                  <a:lnTo>
                    <a:pt x="641" y="986"/>
                  </a:lnTo>
                  <a:lnTo>
                    <a:pt x="635" y="985"/>
                  </a:lnTo>
                  <a:lnTo>
                    <a:pt x="630" y="984"/>
                  </a:lnTo>
                  <a:lnTo>
                    <a:pt x="625" y="982"/>
                  </a:lnTo>
                  <a:lnTo>
                    <a:pt x="621" y="981"/>
                  </a:lnTo>
                  <a:lnTo>
                    <a:pt x="615" y="979"/>
                  </a:lnTo>
                  <a:lnTo>
                    <a:pt x="611" y="977"/>
                  </a:lnTo>
                  <a:lnTo>
                    <a:pt x="606" y="974"/>
                  </a:lnTo>
                  <a:lnTo>
                    <a:pt x="602" y="972"/>
                  </a:lnTo>
                  <a:lnTo>
                    <a:pt x="597" y="969"/>
                  </a:lnTo>
                  <a:lnTo>
                    <a:pt x="593" y="966"/>
                  </a:lnTo>
                  <a:lnTo>
                    <a:pt x="589" y="961"/>
                  </a:lnTo>
                  <a:lnTo>
                    <a:pt x="581" y="954"/>
                  </a:lnTo>
                  <a:lnTo>
                    <a:pt x="577" y="950"/>
                  </a:lnTo>
                  <a:lnTo>
                    <a:pt x="574" y="946"/>
                  </a:lnTo>
                  <a:lnTo>
                    <a:pt x="571" y="941"/>
                  </a:lnTo>
                  <a:lnTo>
                    <a:pt x="568" y="936"/>
                  </a:lnTo>
                  <a:lnTo>
                    <a:pt x="564" y="931"/>
                  </a:lnTo>
                  <a:lnTo>
                    <a:pt x="562" y="926"/>
                  </a:lnTo>
                  <a:lnTo>
                    <a:pt x="560" y="921"/>
                  </a:lnTo>
                  <a:lnTo>
                    <a:pt x="558" y="916"/>
                  </a:lnTo>
                  <a:lnTo>
                    <a:pt x="555" y="903"/>
                  </a:lnTo>
                  <a:lnTo>
                    <a:pt x="553" y="891"/>
                  </a:lnTo>
                  <a:lnTo>
                    <a:pt x="551" y="878"/>
                  </a:lnTo>
                  <a:lnTo>
                    <a:pt x="551" y="864"/>
                  </a:lnTo>
                  <a:lnTo>
                    <a:pt x="551" y="849"/>
                  </a:lnTo>
                  <a:lnTo>
                    <a:pt x="552" y="833"/>
                  </a:lnTo>
                  <a:lnTo>
                    <a:pt x="554" y="818"/>
                  </a:lnTo>
                  <a:lnTo>
                    <a:pt x="556" y="802"/>
                  </a:lnTo>
                  <a:lnTo>
                    <a:pt x="559" y="786"/>
                  </a:lnTo>
                  <a:lnTo>
                    <a:pt x="563" y="770"/>
                  </a:lnTo>
                  <a:lnTo>
                    <a:pt x="569" y="753"/>
                  </a:lnTo>
                  <a:lnTo>
                    <a:pt x="574" y="737"/>
                  </a:lnTo>
                  <a:lnTo>
                    <a:pt x="558" y="763"/>
                  </a:lnTo>
                  <a:lnTo>
                    <a:pt x="539" y="788"/>
                  </a:lnTo>
                  <a:lnTo>
                    <a:pt x="518" y="813"/>
                  </a:lnTo>
                  <a:lnTo>
                    <a:pt x="493" y="837"/>
                  </a:lnTo>
                  <a:lnTo>
                    <a:pt x="466" y="859"/>
                  </a:lnTo>
                  <a:lnTo>
                    <a:pt x="436" y="882"/>
                  </a:lnTo>
                  <a:lnTo>
                    <a:pt x="403" y="904"/>
                  </a:lnTo>
                  <a:lnTo>
                    <a:pt x="367" y="926"/>
                  </a:lnTo>
                  <a:lnTo>
                    <a:pt x="343" y="940"/>
                  </a:lnTo>
                  <a:lnTo>
                    <a:pt x="318" y="951"/>
                  </a:lnTo>
                  <a:lnTo>
                    <a:pt x="295" y="961"/>
                  </a:lnTo>
                  <a:lnTo>
                    <a:pt x="273" y="970"/>
                  </a:lnTo>
                  <a:lnTo>
                    <a:pt x="251" y="976"/>
                  </a:lnTo>
                  <a:lnTo>
                    <a:pt x="230" y="980"/>
                  </a:lnTo>
                  <a:lnTo>
                    <a:pt x="210" y="983"/>
                  </a:lnTo>
                  <a:lnTo>
                    <a:pt x="190" y="984"/>
                  </a:lnTo>
                  <a:lnTo>
                    <a:pt x="178" y="984"/>
                  </a:lnTo>
                  <a:lnTo>
                    <a:pt x="166" y="982"/>
                  </a:lnTo>
                  <a:lnTo>
                    <a:pt x="161" y="981"/>
                  </a:lnTo>
                  <a:lnTo>
                    <a:pt x="156" y="980"/>
                  </a:lnTo>
                  <a:lnTo>
                    <a:pt x="150" y="978"/>
                  </a:lnTo>
                  <a:lnTo>
                    <a:pt x="146" y="976"/>
                  </a:lnTo>
                  <a:lnTo>
                    <a:pt x="141" y="974"/>
                  </a:lnTo>
                  <a:lnTo>
                    <a:pt x="137" y="972"/>
                  </a:lnTo>
                  <a:lnTo>
                    <a:pt x="132" y="969"/>
                  </a:lnTo>
                  <a:lnTo>
                    <a:pt x="128" y="967"/>
                  </a:lnTo>
                  <a:lnTo>
                    <a:pt x="124" y="963"/>
                  </a:lnTo>
                  <a:lnTo>
                    <a:pt x="121" y="959"/>
                  </a:lnTo>
                  <a:lnTo>
                    <a:pt x="117" y="956"/>
                  </a:lnTo>
                  <a:lnTo>
                    <a:pt x="113" y="952"/>
                  </a:lnTo>
                  <a:lnTo>
                    <a:pt x="110" y="948"/>
                  </a:lnTo>
                  <a:lnTo>
                    <a:pt x="107" y="944"/>
                  </a:lnTo>
                  <a:lnTo>
                    <a:pt x="104" y="940"/>
                  </a:lnTo>
                  <a:lnTo>
                    <a:pt x="101" y="934"/>
                  </a:lnTo>
                  <a:lnTo>
                    <a:pt x="98" y="929"/>
                  </a:lnTo>
                  <a:lnTo>
                    <a:pt x="96" y="924"/>
                  </a:lnTo>
                  <a:lnTo>
                    <a:pt x="92" y="914"/>
                  </a:lnTo>
                  <a:lnTo>
                    <a:pt x="89" y="901"/>
                  </a:lnTo>
                  <a:lnTo>
                    <a:pt x="87" y="888"/>
                  </a:lnTo>
                  <a:lnTo>
                    <a:pt x="85" y="874"/>
                  </a:lnTo>
                  <a:lnTo>
                    <a:pt x="85" y="858"/>
                  </a:lnTo>
                  <a:lnTo>
                    <a:pt x="85" y="847"/>
                  </a:lnTo>
                  <a:lnTo>
                    <a:pt x="86" y="837"/>
                  </a:lnTo>
                  <a:lnTo>
                    <a:pt x="88" y="813"/>
                  </a:lnTo>
                  <a:lnTo>
                    <a:pt x="91" y="789"/>
                  </a:lnTo>
                  <a:lnTo>
                    <a:pt x="95" y="764"/>
                  </a:lnTo>
                  <a:lnTo>
                    <a:pt x="105" y="721"/>
                  </a:lnTo>
                  <a:lnTo>
                    <a:pt x="121" y="661"/>
                  </a:lnTo>
                  <a:lnTo>
                    <a:pt x="169" y="490"/>
                  </a:lnTo>
                  <a:lnTo>
                    <a:pt x="223" y="285"/>
                  </a:lnTo>
                  <a:lnTo>
                    <a:pt x="236" y="222"/>
                  </a:lnTo>
                  <a:lnTo>
                    <a:pt x="240" y="200"/>
                  </a:lnTo>
                  <a:lnTo>
                    <a:pt x="241" y="192"/>
                  </a:lnTo>
                  <a:lnTo>
                    <a:pt x="241" y="184"/>
                  </a:lnTo>
                  <a:lnTo>
                    <a:pt x="241" y="181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0" y="176"/>
                  </a:lnTo>
                  <a:lnTo>
                    <a:pt x="239" y="176"/>
                  </a:lnTo>
                  <a:lnTo>
                    <a:pt x="236" y="177"/>
                  </a:lnTo>
                  <a:lnTo>
                    <a:pt x="234" y="177"/>
                  </a:lnTo>
                  <a:lnTo>
                    <a:pt x="229" y="179"/>
                  </a:lnTo>
                  <a:lnTo>
                    <a:pt x="225" y="181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197" y="195"/>
                  </a:lnTo>
                  <a:lnTo>
                    <a:pt x="189" y="200"/>
                  </a:lnTo>
                  <a:lnTo>
                    <a:pt x="178" y="207"/>
                  </a:lnTo>
                  <a:lnTo>
                    <a:pt x="150" y="228"/>
                  </a:lnTo>
                  <a:lnTo>
                    <a:pt x="72" y="292"/>
                  </a:lnTo>
                  <a:lnTo>
                    <a:pt x="0" y="234"/>
                  </a:lnTo>
                  <a:lnTo>
                    <a:pt x="74" y="167"/>
                  </a:lnTo>
                  <a:lnTo>
                    <a:pt x="139" y="112"/>
                  </a:lnTo>
                  <a:lnTo>
                    <a:pt x="167" y="90"/>
                  </a:lnTo>
                  <a:lnTo>
                    <a:pt x="193" y="71"/>
                  </a:lnTo>
                  <a:lnTo>
                    <a:pt x="217" y="55"/>
                  </a:lnTo>
                  <a:lnTo>
                    <a:pt x="239" y="43"/>
                  </a:lnTo>
                  <a:lnTo>
                    <a:pt x="259" y="33"/>
                  </a:lnTo>
                  <a:lnTo>
                    <a:pt x="278" y="24"/>
                  </a:lnTo>
                  <a:lnTo>
                    <a:pt x="296" y="17"/>
                  </a:lnTo>
                  <a:lnTo>
                    <a:pt x="313" y="11"/>
                  </a:lnTo>
                  <a:lnTo>
                    <a:pt x="329" y="7"/>
                  </a:lnTo>
                  <a:lnTo>
                    <a:pt x="345" y="3"/>
                  </a:lnTo>
                  <a:lnTo>
                    <a:pt x="358" y="1"/>
                  </a:lnTo>
                  <a:lnTo>
                    <a:pt x="372" y="0"/>
                  </a:lnTo>
                  <a:lnTo>
                    <a:pt x="377" y="0"/>
                  </a:lnTo>
                  <a:lnTo>
                    <a:pt x="381" y="0"/>
                  </a:lnTo>
                  <a:lnTo>
                    <a:pt x="386" y="1"/>
                  </a:lnTo>
                  <a:lnTo>
                    <a:pt x="389" y="2"/>
                  </a:lnTo>
                  <a:lnTo>
                    <a:pt x="394" y="3"/>
                  </a:lnTo>
                  <a:lnTo>
                    <a:pt x="398" y="5"/>
                  </a:lnTo>
                  <a:lnTo>
                    <a:pt x="402" y="6"/>
                  </a:lnTo>
                  <a:lnTo>
                    <a:pt x="405" y="8"/>
                  </a:lnTo>
                  <a:lnTo>
                    <a:pt x="409" y="9"/>
                  </a:lnTo>
                  <a:lnTo>
                    <a:pt x="413" y="11"/>
                  </a:lnTo>
                  <a:lnTo>
                    <a:pt x="416" y="13"/>
                  </a:lnTo>
                  <a:lnTo>
                    <a:pt x="420" y="16"/>
                  </a:lnTo>
                  <a:lnTo>
                    <a:pt x="423" y="18"/>
                  </a:lnTo>
                  <a:lnTo>
                    <a:pt x="426" y="21"/>
                  </a:lnTo>
                  <a:lnTo>
                    <a:pt x="429" y="24"/>
                  </a:lnTo>
                  <a:lnTo>
                    <a:pt x="432" y="27"/>
                  </a:lnTo>
                  <a:lnTo>
                    <a:pt x="435" y="31"/>
                  </a:lnTo>
                  <a:lnTo>
                    <a:pt x="437" y="34"/>
                  </a:lnTo>
                  <a:lnTo>
                    <a:pt x="440" y="38"/>
                  </a:lnTo>
                  <a:lnTo>
                    <a:pt x="442" y="41"/>
                  </a:lnTo>
                  <a:lnTo>
                    <a:pt x="444" y="45"/>
                  </a:lnTo>
                  <a:lnTo>
                    <a:pt x="447" y="49"/>
                  </a:lnTo>
                  <a:lnTo>
                    <a:pt x="450" y="59"/>
                  </a:lnTo>
                  <a:lnTo>
                    <a:pt x="452" y="68"/>
                  </a:lnTo>
                  <a:lnTo>
                    <a:pt x="454" y="78"/>
                  </a:lnTo>
                  <a:lnTo>
                    <a:pt x="455" y="89"/>
                  </a:lnTo>
                  <a:lnTo>
                    <a:pt x="455" y="100"/>
                  </a:lnTo>
                  <a:lnTo>
                    <a:pt x="454" y="123"/>
                  </a:lnTo>
                  <a:lnTo>
                    <a:pt x="450" y="152"/>
                  </a:lnTo>
                  <a:lnTo>
                    <a:pt x="435" y="231"/>
                  </a:lnTo>
                  <a:lnTo>
                    <a:pt x="410" y="337"/>
                  </a:lnTo>
                  <a:lnTo>
                    <a:pt x="375" y="472"/>
                  </a:lnTo>
                  <a:lnTo>
                    <a:pt x="323" y="673"/>
                  </a:lnTo>
                  <a:lnTo>
                    <a:pt x="311" y="733"/>
                  </a:lnTo>
                  <a:lnTo>
                    <a:pt x="308" y="751"/>
                  </a:lnTo>
                  <a:lnTo>
                    <a:pt x="306" y="759"/>
                  </a:lnTo>
                  <a:lnTo>
                    <a:pt x="306" y="764"/>
                  </a:lnTo>
                  <a:lnTo>
                    <a:pt x="306" y="768"/>
                  </a:lnTo>
                  <a:lnTo>
                    <a:pt x="306" y="771"/>
                  </a:lnTo>
                  <a:lnTo>
                    <a:pt x="308" y="774"/>
                  </a:lnTo>
                  <a:lnTo>
                    <a:pt x="309" y="778"/>
                  </a:lnTo>
                  <a:lnTo>
                    <a:pt x="310" y="780"/>
                  </a:lnTo>
                  <a:lnTo>
                    <a:pt x="310" y="782"/>
                  </a:lnTo>
                  <a:lnTo>
                    <a:pt x="311" y="784"/>
                  </a:lnTo>
                  <a:lnTo>
                    <a:pt x="311" y="785"/>
                  </a:lnTo>
                  <a:lnTo>
                    <a:pt x="312" y="787"/>
                  </a:lnTo>
                  <a:lnTo>
                    <a:pt x="313" y="788"/>
                  </a:lnTo>
                  <a:lnTo>
                    <a:pt x="314" y="789"/>
                  </a:lnTo>
                  <a:lnTo>
                    <a:pt x="316" y="791"/>
                  </a:lnTo>
                  <a:lnTo>
                    <a:pt x="318" y="792"/>
                  </a:lnTo>
                  <a:lnTo>
                    <a:pt x="320" y="794"/>
                  </a:lnTo>
                  <a:lnTo>
                    <a:pt x="322" y="795"/>
                  </a:lnTo>
                  <a:lnTo>
                    <a:pt x="322" y="795"/>
                  </a:lnTo>
                  <a:lnTo>
                    <a:pt x="323" y="796"/>
                  </a:lnTo>
                  <a:lnTo>
                    <a:pt x="325" y="796"/>
                  </a:lnTo>
                  <a:lnTo>
                    <a:pt x="326" y="796"/>
                  </a:lnTo>
                  <a:lnTo>
                    <a:pt x="327" y="797"/>
                  </a:lnTo>
                  <a:lnTo>
                    <a:pt x="328" y="797"/>
                  </a:lnTo>
                  <a:lnTo>
                    <a:pt x="329" y="797"/>
                  </a:lnTo>
                  <a:lnTo>
                    <a:pt x="330" y="797"/>
                  </a:lnTo>
                  <a:lnTo>
                    <a:pt x="336" y="797"/>
                  </a:lnTo>
                  <a:lnTo>
                    <a:pt x="344" y="796"/>
                  </a:lnTo>
                  <a:lnTo>
                    <a:pt x="351" y="794"/>
                  </a:lnTo>
                  <a:lnTo>
                    <a:pt x="360" y="791"/>
                  </a:lnTo>
                  <a:lnTo>
                    <a:pt x="368" y="788"/>
                  </a:lnTo>
                  <a:lnTo>
                    <a:pt x="377" y="784"/>
                  </a:lnTo>
                  <a:lnTo>
                    <a:pt x="396" y="773"/>
                  </a:lnTo>
                  <a:lnTo>
                    <a:pt x="417" y="761"/>
                  </a:lnTo>
                  <a:lnTo>
                    <a:pt x="439" y="744"/>
                  </a:lnTo>
                  <a:lnTo>
                    <a:pt x="464" y="724"/>
                  </a:lnTo>
                  <a:lnTo>
                    <a:pt x="489" y="702"/>
                  </a:lnTo>
                  <a:lnTo>
                    <a:pt x="514" y="678"/>
                  </a:lnTo>
                  <a:lnTo>
                    <a:pt x="539" y="654"/>
                  </a:lnTo>
                  <a:lnTo>
                    <a:pt x="559" y="629"/>
                  </a:lnTo>
                  <a:lnTo>
                    <a:pt x="578" y="602"/>
                  </a:lnTo>
                  <a:lnTo>
                    <a:pt x="595" y="574"/>
                  </a:lnTo>
                  <a:lnTo>
                    <a:pt x="609" y="546"/>
                  </a:lnTo>
                  <a:lnTo>
                    <a:pt x="621" y="517"/>
                  </a:lnTo>
                  <a:lnTo>
                    <a:pt x="630" y="48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70480" y="1336680"/>
              <a:ext cx="263520" cy="352440"/>
            </a:xfrm>
            <a:custGeom>
              <a:avLst/>
              <a:gdLst/>
              <a:ahLst/>
              <a:rect l="l" t="t" r="r" b="b"/>
              <a:pathLst>
                <a:path w="734" h="981">
                  <a:moveTo>
                    <a:pt x="613" y="639"/>
                  </a:moveTo>
                  <a:lnTo>
                    <a:pt x="668" y="711"/>
                  </a:lnTo>
                  <a:lnTo>
                    <a:pt x="598" y="774"/>
                  </a:lnTo>
                  <a:lnTo>
                    <a:pt x="531" y="828"/>
                  </a:lnTo>
                  <a:lnTo>
                    <a:pt x="467" y="875"/>
                  </a:lnTo>
                  <a:lnTo>
                    <a:pt x="405" y="912"/>
                  </a:lnTo>
                  <a:lnTo>
                    <a:pt x="346" y="943"/>
                  </a:lnTo>
                  <a:lnTo>
                    <a:pt x="317" y="954"/>
                  </a:lnTo>
                  <a:lnTo>
                    <a:pt x="288" y="963"/>
                  </a:lnTo>
                  <a:lnTo>
                    <a:pt x="261" y="971"/>
                  </a:lnTo>
                  <a:lnTo>
                    <a:pt x="234" y="976"/>
                  </a:lnTo>
                  <a:lnTo>
                    <a:pt x="208" y="979"/>
                  </a:lnTo>
                  <a:lnTo>
                    <a:pt x="182" y="980"/>
                  </a:lnTo>
                  <a:lnTo>
                    <a:pt x="161" y="979"/>
                  </a:lnTo>
                  <a:lnTo>
                    <a:pt x="141" y="977"/>
                  </a:lnTo>
                  <a:lnTo>
                    <a:pt x="131" y="975"/>
                  </a:lnTo>
                  <a:lnTo>
                    <a:pt x="122" y="972"/>
                  </a:lnTo>
                  <a:lnTo>
                    <a:pt x="112" y="969"/>
                  </a:lnTo>
                  <a:lnTo>
                    <a:pt x="104" y="965"/>
                  </a:lnTo>
                  <a:lnTo>
                    <a:pt x="95" y="962"/>
                  </a:lnTo>
                  <a:lnTo>
                    <a:pt x="88" y="957"/>
                  </a:lnTo>
                  <a:lnTo>
                    <a:pt x="80" y="953"/>
                  </a:lnTo>
                  <a:lnTo>
                    <a:pt x="73" y="948"/>
                  </a:lnTo>
                  <a:lnTo>
                    <a:pt x="65" y="941"/>
                  </a:lnTo>
                  <a:lnTo>
                    <a:pt x="59" y="935"/>
                  </a:lnTo>
                  <a:lnTo>
                    <a:pt x="53" y="929"/>
                  </a:lnTo>
                  <a:lnTo>
                    <a:pt x="46" y="922"/>
                  </a:lnTo>
                  <a:lnTo>
                    <a:pt x="41" y="914"/>
                  </a:lnTo>
                  <a:lnTo>
                    <a:pt x="36" y="906"/>
                  </a:lnTo>
                  <a:lnTo>
                    <a:pt x="30" y="898"/>
                  </a:lnTo>
                  <a:lnTo>
                    <a:pt x="26" y="888"/>
                  </a:lnTo>
                  <a:lnTo>
                    <a:pt x="18" y="869"/>
                  </a:lnTo>
                  <a:lnTo>
                    <a:pt x="11" y="847"/>
                  </a:lnTo>
                  <a:lnTo>
                    <a:pt x="6" y="823"/>
                  </a:lnTo>
                  <a:lnTo>
                    <a:pt x="3" y="798"/>
                  </a:lnTo>
                  <a:lnTo>
                    <a:pt x="1" y="770"/>
                  </a:lnTo>
                  <a:lnTo>
                    <a:pt x="0" y="741"/>
                  </a:lnTo>
                  <a:lnTo>
                    <a:pt x="2" y="681"/>
                  </a:lnTo>
                  <a:lnTo>
                    <a:pt x="9" y="622"/>
                  </a:lnTo>
                  <a:lnTo>
                    <a:pt x="20" y="564"/>
                  </a:lnTo>
                  <a:lnTo>
                    <a:pt x="37" y="505"/>
                  </a:lnTo>
                  <a:lnTo>
                    <a:pt x="57" y="446"/>
                  </a:lnTo>
                  <a:lnTo>
                    <a:pt x="82" y="388"/>
                  </a:lnTo>
                  <a:lnTo>
                    <a:pt x="112" y="329"/>
                  </a:lnTo>
                  <a:lnTo>
                    <a:pt x="146" y="271"/>
                  </a:lnTo>
                  <a:lnTo>
                    <a:pt x="188" y="207"/>
                  </a:lnTo>
                  <a:lnTo>
                    <a:pt x="234" y="152"/>
                  </a:lnTo>
                  <a:lnTo>
                    <a:pt x="257" y="128"/>
                  </a:lnTo>
                  <a:lnTo>
                    <a:pt x="281" y="106"/>
                  </a:lnTo>
                  <a:lnTo>
                    <a:pt x="305" y="86"/>
                  </a:lnTo>
                  <a:lnTo>
                    <a:pt x="330" y="68"/>
                  </a:lnTo>
                  <a:lnTo>
                    <a:pt x="355" y="52"/>
                  </a:lnTo>
                  <a:lnTo>
                    <a:pt x="382" y="39"/>
                  </a:lnTo>
                  <a:lnTo>
                    <a:pt x="408" y="26"/>
                  </a:lnTo>
                  <a:lnTo>
                    <a:pt x="435" y="17"/>
                  </a:lnTo>
                  <a:lnTo>
                    <a:pt x="462" y="10"/>
                  </a:lnTo>
                  <a:lnTo>
                    <a:pt x="491" y="4"/>
                  </a:lnTo>
                  <a:lnTo>
                    <a:pt x="520" y="1"/>
                  </a:lnTo>
                  <a:lnTo>
                    <a:pt x="548" y="0"/>
                  </a:lnTo>
                  <a:lnTo>
                    <a:pt x="569" y="1"/>
                  </a:lnTo>
                  <a:lnTo>
                    <a:pt x="590" y="3"/>
                  </a:lnTo>
                  <a:lnTo>
                    <a:pt x="609" y="6"/>
                  </a:lnTo>
                  <a:lnTo>
                    <a:pt x="626" y="12"/>
                  </a:lnTo>
                  <a:lnTo>
                    <a:pt x="643" y="18"/>
                  </a:lnTo>
                  <a:lnTo>
                    <a:pt x="650" y="22"/>
                  </a:lnTo>
                  <a:lnTo>
                    <a:pt x="658" y="25"/>
                  </a:lnTo>
                  <a:lnTo>
                    <a:pt x="665" y="30"/>
                  </a:lnTo>
                  <a:lnTo>
                    <a:pt x="671" y="35"/>
                  </a:lnTo>
                  <a:lnTo>
                    <a:pt x="678" y="40"/>
                  </a:lnTo>
                  <a:lnTo>
                    <a:pt x="684" y="45"/>
                  </a:lnTo>
                  <a:lnTo>
                    <a:pt x="690" y="51"/>
                  </a:lnTo>
                  <a:lnTo>
                    <a:pt x="696" y="56"/>
                  </a:lnTo>
                  <a:lnTo>
                    <a:pt x="701" y="63"/>
                  </a:lnTo>
                  <a:lnTo>
                    <a:pt x="705" y="70"/>
                  </a:lnTo>
                  <a:lnTo>
                    <a:pt x="710" y="76"/>
                  </a:lnTo>
                  <a:lnTo>
                    <a:pt x="714" y="83"/>
                  </a:lnTo>
                  <a:lnTo>
                    <a:pt x="718" y="91"/>
                  </a:lnTo>
                  <a:lnTo>
                    <a:pt x="721" y="98"/>
                  </a:lnTo>
                  <a:lnTo>
                    <a:pt x="723" y="105"/>
                  </a:lnTo>
                  <a:lnTo>
                    <a:pt x="727" y="114"/>
                  </a:lnTo>
                  <a:lnTo>
                    <a:pt x="730" y="130"/>
                  </a:lnTo>
                  <a:lnTo>
                    <a:pt x="732" y="147"/>
                  </a:lnTo>
                  <a:lnTo>
                    <a:pt x="733" y="166"/>
                  </a:lnTo>
                  <a:lnTo>
                    <a:pt x="732" y="185"/>
                  </a:lnTo>
                  <a:lnTo>
                    <a:pt x="730" y="204"/>
                  </a:lnTo>
                  <a:lnTo>
                    <a:pt x="725" y="223"/>
                  </a:lnTo>
                  <a:lnTo>
                    <a:pt x="719" y="242"/>
                  </a:lnTo>
                  <a:lnTo>
                    <a:pt x="712" y="260"/>
                  </a:lnTo>
                  <a:lnTo>
                    <a:pt x="703" y="279"/>
                  </a:lnTo>
                  <a:lnTo>
                    <a:pt x="693" y="297"/>
                  </a:lnTo>
                  <a:lnTo>
                    <a:pt x="680" y="315"/>
                  </a:lnTo>
                  <a:lnTo>
                    <a:pt x="666" y="333"/>
                  </a:lnTo>
                  <a:lnTo>
                    <a:pt x="649" y="351"/>
                  </a:lnTo>
                  <a:lnTo>
                    <a:pt x="631" y="369"/>
                  </a:lnTo>
                  <a:lnTo>
                    <a:pt x="610" y="387"/>
                  </a:lnTo>
                  <a:lnTo>
                    <a:pt x="588" y="405"/>
                  </a:lnTo>
                  <a:lnTo>
                    <a:pt x="562" y="423"/>
                  </a:lnTo>
                  <a:lnTo>
                    <a:pt x="536" y="439"/>
                  </a:lnTo>
                  <a:lnTo>
                    <a:pt x="506" y="457"/>
                  </a:lnTo>
                  <a:lnTo>
                    <a:pt x="460" y="482"/>
                  </a:lnTo>
                  <a:lnTo>
                    <a:pt x="399" y="512"/>
                  </a:lnTo>
                  <a:lnTo>
                    <a:pt x="231" y="588"/>
                  </a:lnTo>
                  <a:lnTo>
                    <a:pt x="228" y="611"/>
                  </a:lnTo>
                  <a:lnTo>
                    <a:pt x="226" y="635"/>
                  </a:lnTo>
                  <a:lnTo>
                    <a:pt x="225" y="659"/>
                  </a:lnTo>
                  <a:lnTo>
                    <a:pt x="224" y="684"/>
                  </a:lnTo>
                  <a:lnTo>
                    <a:pt x="224" y="700"/>
                  </a:lnTo>
                  <a:lnTo>
                    <a:pt x="225" y="715"/>
                  </a:lnTo>
                  <a:lnTo>
                    <a:pt x="227" y="728"/>
                  </a:lnTo>
                  <a:lnTo>
                    <a:pt x="229" y="741"/>
                  </a:lnTo>
                  <a:lnTo>
                    <a:pt x="231" y="752"/>
                  </a:lnTo>
                  <a:lnTo>
                    <a:pt x="233" y="756"/>
                  </a:lnTo>
                  <a:lnTo>
                    <a:pt x="234" y="762"/>
                  </a:lnTo>
                  <a:lnTo>
                    <a:pt x="236" y="765"/>
                  </a:lnTo>
                  <a:lnTo>
                    <a:pt x="238" y="769"/>
                  </a:lnTo>
                  <a:lnTo>
                    <a:pt x="240" y="772"/>
                  </a:lnTo>
                  <a:lnTo>
                    <a:pt x="243" y="775"/>
                  </a:lnTo>
                  <a:lnTo>
                    <a:pt x="245" y="778"/>
                  </a:lnTo>
                  <a:lnTo>
                    <a:pt x="248" y="780"/>
                  </a:lnTo>
                  <a:lnTo>
                    <a:pt x="250" y="783"/>
                  </a:lnTo>
                  <a:lnTo>
                    <a:pt x="253" y="785"/>
                  </a:lnTo>
                  <a:lnTo>
                    <a:pt x="256" y="788"/>
                  </a:lnTo>
                  <a:lnTo>
                    <a:pt x="260" y="790"/>
                  </a:lnTo>
                  <a:lnTo>
                    <a:pt x="263" y="791"/>
                  </a:lnTo>
                  <a:lnTo>
                    <a:pt x="266" y="793"/>
                  </a:lnTo>
                  <a:lnTo>
                    <a:pt x="269" y="794"/>
                  </a:lnTo>
                  <a:lnTo>
                    <a:pt x="272" y="795"/>
                  </a:lnTo>
                  <a:lnTo>
                    <a:pt x="277" y="796"/>
                  </a:lnTo>
                  <a:lnTo>
                    <a:pt x="280" y="797"/>
                  </a:lnTo>
                  <a:lnTo>
                    <a:pt x="288" y="798"/>
                  </a:lnTo>
                  <a:lnTo>
                    <a:pt x="297" y="798"/>
                  </a:lnTo>
                  <a:lnTo>
                    <a:pt x="307" y="798"/>
                  </a:lnTo>
                  <a:lnTo>
                    <a:pt x="317" y="797"/>
                  </a:lnTo>
                  <a:lnTo>
                    <a:pt x="328" y="795"/>
                  </a:lnTo>
                  <a:lnTo>
                    <a:pt x="339" y="793"/>
                  </a:lnTo>
                  <a:lnTo>
                    <a:pt x="350" y="790"/>
                  </a:lnTo>
                  <a:lnTo>
                    <a:pt x="361" y="785"/>
                  </a:lnTo>
                  <a:lnTo>
                    <a:pt x="374" y="780"/>
                  </a:lnTo>
                  <a:lnTo>
                    <a:pt x="386" y="775"/>
                  </a:lnTo>
                  <a:lnTo>
                    <a:pt x="405" y="766"/>
                  </a:lnTo>
                  <a:lnTo>
                    <a:pt x="427" y="755"/>
                  </a:lnTo>
                  <a:lnTo>
                    <a:pt x="478" y="725"/>
                  </a:lnTo>
                  <a:lnTo>
                    <a:pt x="541" y="687"/>
                  </a:lnTo>
                  <a:close/>
                  <a:moveTo>
                    <a:pt x="247" y="482"/>
                  </a:moveTo>
                  <a:lnTo>
                    <a:pt x="314" y="444"/>
                  </a:lnTo>
                  <a:lnTo>
                    <a:pt x="373" y="408"/>
                  </a:lnTo>
                  <a:lnTo>
                    <a:pt x="400" y="389"/>
                  </a:lnTo>
                  <a:lnTo>
                    <a:pt x="424" y="370"/>
                  </a:lnTo>
                  <a:lnTo>
                    <a:pt x="446" y="353"/>
                  </a:lnTo>
                  <a:lnTo>
                    <a:pt x="468" y="334"/>
                  </a:lnTo>
                  <a:lnTo>
                    <a:pt x="481" y="317"/>
                  </a:lnTo>
                  <a:lnTo>
                    <a:pt x="494" y="301"/>
                  </a:lnTo>
                  <a:lnTo>
                    <a:pt x="505" y="285"/>
                  </a:lnTo>
                  <a:lnTo>
                    <a:pt x="513" y="270"/>
                  </a:lnTo>
                  <a:lnTo>
                    <a:pt x="520" y="254"/>
                  </a:lnTo>
                  <a:lnTo>
                    <a:pt x="522" y="247"/>
                  </a:lnTo>
                  <a:lnTo>
                    <a:pt x="524" y="239"/>
                  </a:lnTo>
                  <a:lnTo>
                    <a:pt x="526" y="233"/>
                  </a:lnTo>
                  <a:lnTo>
                    <a:pt x="527" y="226"/>
                  </a:lnTo>
                  <a:lnTo>
                    <a:pt x="528" y="219"/>
                  </a:lnTo>
                  <a:lnTo>
                    <a:pt x="528" y="212"/>
                  </a:lnTo>
                  <a:lnTo>
                    <a:pt x="528" y="203"/>
                  </a:lnTo>
                  <a:lnTo>
                    <a:pt x="527" y="195"/>
                  </a:lnTo>
                  <a:lnTo>
                    <a:pt x="525" y="186"/>
                  </a:lnTo>
                  <a:lnTo>
                    <a:pt x="524" y="179"/>
                  </a:lnTo>
                  <a:lnTo>
                    <a:pt x="521" y="172"/>
                  </a:lnTo>
                  <a:lnTo>
                    <a:pt x="519" y="169"/>
                  </a:lnTo>
                  <a:lnTo>
                    <a:pt x="517" y="166"/>
                  </a:lnTo>
                  <a:lnTo>
                    <a:pt x="515" y="162"/>
                  </a:lnTo>
                  <a:lnTo>
                    <a:pt x="513" y="159"/>
                  </a:lnTo>
                  <a:lnTo>
                    <a:pt x="511" y="157"/>
                  </a:lnTo>
                  <a:lnTo>
                    <a:pt x="509" y="154"/>
                  </a:lnTo>
                  <a:lnTo>
                    <a:pt x="504" y="149"/>
                  </a:lnTo>
                  <a:lnTo>
                    <a:pt x="498" y="145"/>
                  </a:lnTo>
                  <a:lnTo>
                    <a:pt x="496" y="144"/>
                  </a:lnTo>
                  <a:lnTo>
                    <a:pt x="493" y="142"/>
                  </a:lnTo>
                  <a:lnTo>
                    <a:pt x="491" y="140"/>
                  </a:lnTo>
                  <a:lnTo>
                    <a:pt x="488" y="139"/>
                  </a:lnTo>
                  <a:lnTo>
                    <a:pt x="485" y="138"/>
                  </a:lnTo>
                  <a:lnTo>
                    <a:pt x="481" y="136"/>
                  </a:lnTo>
                  <a:lnTo>
                    <a:pt x="478" y="135"/>
                  </a:lnTo>
                  <a:lnTo>
                    <a:pt x="475" y="134"/>
                  </a:lnTo>
                  <a:lnTo>
                    <a:pt x="472" y="134"/>
                  </a:lnTo>
                  <a:lnTo>
                    <a:pt x="469" y="133"/>
                  </a:lnTo>
                  <a:lnTo>
                    <a:pt x="461" y="133"/>
                  </a:lnTo>
                  <a:lnTo>
                    <a:pt x="457" y="133"/>
                  </a:lnTo>
                  <a:lnTo>
                    <a:pt x="453" y="133"/>
                  </a:lnTo>
                  <a:lnTo>
                    <a:pt x="443" y="135"/>
                  </a:lnTo>
                  <a:lnTo>
                    <a:pt x="433" y="138"/>
                  </a:lnTo>
                  <a:lnTo>
                    <a:pt x="422" y="141"/>
                  </a:lnTo>
                  <a:lnTo>
                    <a:pt x="409" y="145"/>
                  </a:lnTo>
                  <a:lnTo>
                    <a:pt x="396" y="150"/>
                  </a:lnTo>
                  <a:lnTo>
                    <a:pt x="369" y="164"/>
                  </a:lnTo>
                  <a:lnTo>
                    <a:pt x="318" y="247"/>
                  </a:lnTo>
                  <a:lnTo>
                    <a:pt x="295" y="314"/>
                  </a:lnTo>
                  <a:lnTo>
                    <a:pt x="274" y="376"/>
                  </a:lnTo>
                  <a:lnTo>
                    <a:pt x="259" y="432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8840" y="1338120"/>
              <a:ext cx="301680" cy="352440"/>
            </a:xfrm>
            <a:custGeom>
              <a:avLst/>
              <a:gdLst/>
              <a:ahLst/>
              <a:rect l="l" t="t" r="r" b="b"/>
              <a:pathLst>
                <a:path w="838" h="979">
                  <a:moveTo>
                    <a:pt x="590" y="529"/>
                  </a:moveTo>
                  <a:lnTo>
                    <a:pt x="302" y="529"/>
                  </a:lnTo>
                  <a:lnTo>
                    <a:pt x="324" y="421"/>
                  </a:lnTo>
                  <a:lnTo>
                    <a:pt x="606" y="421"/>
                  </a:lnTo>
                  <a:lnTo>
                    <a:pt x="610" y="389"/>
                  </a:lnTo>
                  <a:lnTo>
                    <a:pt x="613" y="361"/>
                  </a:lnTo>
                  <a:lnTo>
                    <a:pt x="615" y="334"/>
                  </a:lnTo>
                  <a:lnTo>
                    <a:pt x="616" y="310"/>
                  </a:lnTo>
                  <a:lnTo>
                    <a:pt x="615" y="269"/>
                  </a:lnTo>
                  <a:lnTo>
                    <a:pt x="613" y="250"/>
                  </a:lnTo>
                  <a:lnTo>
                    <a:pt x="610" y="232"/>
                  </a:lnTo>
                  <a:lnTo>
                    <a:pt x="607" y="217"/>
                  </a:lnTo>
                  <a:lnTo>
                    <a:pt x="602" y="202"/>
                  </a:lnTo>
                  <a:lnTo>
                    <a:pt x="597" y="189"/>
                  </a:lnTo>
                  <a:lnTo>
                    <a:pt x="591" y="177"/>
                  </a:lnTo>
                  <a:lnTo>
                    <a:pt x="584" y="167"/>
                  </a:lnTo>
                  <a:lnTo>
                    <a:pt x="577" y="157"/>
                  </a:lnTo>
                  <a:lnTo>
                    <a:pt x="568" y="150"/>
                  </a:lnTo>
                  <a:lnTo>
                    <a:pt x="559" y="144"/>
                  </a:lnTo>
                  <a:lnTo>
                    <a:pt x="549" y="139"/>
                  </a:lnTo>
                  <a:lnTo>
                    <a:pt x="539" y="136"/>
                  </a:lnTo>
                  <a:lnTo>
                    <a:pt x="527" y="133"/>
                  </a:lnTo>
                  <a:lnTo>
                    <a:pt x="515" y="132"/>
                  </a:lnTo>
                  <a:lnTo>
                    <a:pt x="499" y="133"/>
                  </a:lnTo>
                  <a:lnTo>
                    <a:pt x="482" y="135"/>
                  </a:lnTo>
                  <a:lnTo>
                    <a:pt x="465" y="138"/>
                  </a:lnTo>
                  <a:lnTo>
                    <a:pt x="448" y="142"/>
                  </a:lnTo>
                  <a:lnTo>
                    <a:pt x="431" y="147"/>
                  </a:lnTo>
                  <a:lnTo>
                    <a:pt x="413" y="152"/>
                  </a:lnTo>
                  <a:lnTo>
                    <a:pt x="377" y="169"/>
                  </a:lnTo>
                  <a:lnTo>
                    <a:pt x="340" y="189"/>
                  </a:lnTo>
                  <a:lnTo>
                    <a:pt x="302" y="214"/>
                  </a:lnTo>
                  <a:lnTo>
                    <a:pt x="263" y="243"/>
                  </a:lnTo>
                  <a:lnTo>
                    <a:pt x="222" y="277"/>
                  </a:lnTo>
                  <a:lnTo>
                    <a:pt x="150" y="219"/>
                  </a:lnTo>
                  <a:lnTo>
                    <a:pt x="206" y="168"/>
                  </a:lnTo>
                  <a:lnTo>
                    <a:pt x="262" y="123"/>
                  </a:lnTo>
                  <a:lnTo>
                    <a:pt x="317" y="86"/>
                  </a:lnTo>
                  <a:lnTo>
                    <a:pt x="372" y="55"/>
                  </a:lnTo>
                  <a:lnTo>
                    <a:pt x="399" y="42"/>
                  </a:lnTo>
                  <a:lnTo>
                    <a:pt x="426" y="32"/>
                  </a:lnTo>
                  <a:lnTo>
                    <a:pt x="453" y="22"/>
                  </a:lnTo>
                  <a:lnTo>
                    <a:pt x="480" y="14"/>
                  </a:lnTo>
                  <a:lnTo>
                    <a:pt x="507" y="8"/>
                  </a:lnTo>
                  <a:lnTo>
                    <a:pt x="534" y="3"/>
                  </a:lnTo>
                  <a:lnTo>
                    <a:pt x="561" y="1"/>
                  </a:lnTo>
                  <a:lnTo>
                    <a:pt x="587" y="0"/>
                  </a:lnTo>
                  <a:lnTo>
                    <a:pt x="617" y="1"/>
                  </a:lnTo>
                  <a:lnTo>
                    <a:pt x="645" y="5"/>
                  </a:lnTo>
                  <a:lnTo>
                    <a:pt x="671" y="9"/>
                  </a:lnTo>
                  <a:lnTo>
                    <a:pt x="695" y="16"/>
                  </a:lnTo>
                  <a:lnTo>
                    <a:pt x="706" y="20"/>
                  </a:lnTo>
                  <a:lnTo>
                    <a:pt x="717" y="24"/>
                  </a:lnTo>
                  <a:lnTo>
                    <a:pt x="728" y="29"/>
                  </a:lnTo>
                  <a:lnTo>
                    <a:pt x="738" y="36"/>
                  </a:lnTo>
                  <a:lnTo>
                    <a:pt x="748" y="42"/>
                  </a:lnTo>
                  <a:lnTo>
                    <a:pt x="756" y="48"/>
                  </a:lnTo>
                  <a:lnTo>
                    <a:pt x="765" y="55"/>
                  </a:lnTo>
                  <a:lnTo>
                    <a:pt x="773" y="63"/>
                  </a:lnTo>
                  <a:lnTo>
                    <a:pt x="781" y="71"/>
                  </a:lnTo>
                  <a:lnTo>
                    <a:pt x="788" y="79"/>
                  </a:lnTo>
                  <a:lnTo>
                    <a:pt x="794" y="89"/>
                  </a:lnTo>
                  <a:lnTo>
                    <a:pt x="801" y="99"/>
                  </a:lnTo>
                  <a:lnTo>
                    <a:pt x="807" y="110"/>
                  </a:lnTo>
                  <a:lnTo>
                    <a:pt x="812" y="121"/>
                  </a:lnTo>
                  <a:lnTo>
                    <a:pt x="817" y="132"/>
                  </a:lnTo>
                  <a:lnTo>
                    <a:pt x="821" y="145"/>
                  </a:lnTo>
                  <a:lnTo>
                    <a:pt x="828" y="172"/>
                  </a:lnTo>
                  <a:lnTo>
                    <a:pt x="833" y="201"/>
                  </a:lnTo>
                  <a:lnTo>
                    <a:pt x="836" y="233"/>
                  </a:lnTo>
                  <a:lnTo>
                    <a:pt x="837" y="268"/>
                  </a:lnTo>
                  <a:lnTo>
                    <a:pt x="834" y="331"/>
                  </a:lnTo>
                  <a:lnTo>
                    <a:pt x="826" y="394"/>
                  </a:lnTo>
                  <a:lnTo>
                    <a:pt x="812" y="455"/>
                  </a:lnTo>
                  <a:lnTo>
                    <a:pt x="794" y="515"/>
                  </a:lnTo>
                  <a:lnTo>
                    <a:pt x="770" y="576"/>
                  </a:lnTo>
                  <a:lnTo>
                    <a:pt x="741" y="634"/>
                  </a:lnTo>
                  <a:lnTo>
                    <a:pt x="706" y="693"/>
                  </a:lnTo>
                  <a:lnTo>
                    <a:pt x="667" y="750"/>
                  </a:lnTo>
                  <a:lnTo>
                    <a:pt x="624" y="803"/>
                  </a:lnTo>
                  <a:lnTo>
                    <a:pt x="578" y="850"/>
                  </a:lnTo>
                  <a:lnTo>
                    <a:pt x="555" y="870"/>
                  </a:lnTo>
                  <a:lnTo>
                    <a:pt x="531" y="889"/>
                  </a:lnTo>
                  <a:lnTo>
                    <a:pt x="506" y="906"/>
                  </a:lnTo>
                  <a:lnTo>
                    <a:pt x="481" y="921"/>
                  </a:lnTo>
                  <a:lnTo>
                    <a:pt x="456" y="934"/>
                  </a:lnTo>
                  <a:lnTo>
                    <a:pt x="429" y="946"/>
                  </a:lnTo>
                  <a:lnTo>
                    <a:pt x="403" y="956"/>
                  </a:lnTo>
                  <a:lnTo>
                    <a:pt x="375" y="963"/>
                  </a:lnTo>
                  <a:lnTo>
                    <a:pt x="348" y="970"/>
                  </a:lnTo>
                  <a:lnTo>
                    <a:pt x="320" y="975"/>
                  </a:lnTo>
                  <a:lnTo>
                    <a:pt x="291" y="977"/>
                  </a:lnTo>
                  <a:lnTo>
                    <a:pt x="262" y="978"/>
                  </a:lnTo>
                  <a:lnTo>
                    <a:pt x="231" y="977"/>
                  </a:lnTo>
                  <a:lnTo>
                    <a:pt x="202" y="975"/>
                  </a:lnTo>
                  <a:lnTo>
                    <a:pt x="176" y="970"/>
                  </a:lnTo>
                  <a:lnTo>
                    <a:pt x="151" y="963"/>
                  </a:lnTo>
                  <a:lnTo>
                    <a:pt x="128" y="955"/>
                  </a:lnTo>
                  <a:lnTo>
                    <a:pt x="116" y="951"/>
                  </a:lnTo>
                  <a:lnTo>
                    <a:pt x="106" y="946"/>
                  </a:lnTo>
                  <a:lnTo>
                    <a:pt x="96" y="940"/>
                  </a:lnTo>
                  <a:lnTo>
                    <a:pt x="87" y="933"/>
                  </a:lnTo>
                  <a:lnTo>
                    <a:pt x="77" y="927"/>
                  </a:lnTo>
                  <a:lnTo>
                    <a:pt x="69" y="920"/>
                  </a:lnTo>
                  <a:lnTo>
                    <a:pt x="53" y="904"/>
                  </a:lnTo>
                  <a:lnTo>
                    <a:pt x="45" y="897"/>
                  </a:lnTo>
                  <a:lnTo>
                    <a:pt x="38" y="889"/>
                  </a:lnTo>
                  <a:lnTo>
                    <a:pt x="31" y="880"/>
                  </a:lnTo>
                  <a:lnTo>
                    <a:pt x="26" y="872"/>
                  </a:lnTo>
                  <a:lnTo>
                    <a:pt x="21" y="864"/>
                  </a:lnTo>
                  <a:lnTo>
                    <a:pt x="17" y="854"/>
                  </a:lnTo>
                  <a:lnTo>
                    <a:pt x="12" y="845"/>
                  </a:lnTo>
                  <a:lnTo>
                    <a:pt x="9" y="837"/>
                  </a:lnTo>
                  <a:lnTo>
                    <a:pt x="6" y="827"/>
                  </a:lnTo>
                  <a:lnTo>
                    <a:pt x="4" y="817"/>
                  </a:lnTo>
                  <a:lnTo>
                    <a:pt x="2" y="807"/>
                  </a:lnTo>
                  <a:lnTo>
                    <a:pt x="1" y="798"/>
                  </a:lnTo>
                  <a:lnTo>
                    <a:pt x="0" y="788"/>
                  </a:lnTo>
                  <a:lnTo>
                    <a:pt x="0" y="777"/>
                  </a:lnTo>
                  <a:lnTo>
                    <a:pt x="0" y="766"/>
                  </a:lnTo>
                  <a:lnTo>
                    <a:pt x="2" y="754"/>
                  </a:lnTo>
                  <a:lnTo>
                    <a:pt x="4" y="744"/>
                  </a:lnTo>
                  <a:lnTo>
                    <a:pt x="7" y="735"/>
                  </a:lnTo>
                  <a:lnTo>
                    <a:pt x="9" y="729"/>
                  </a:lnTo>
                  <a:lnTo>
                    <a:pt x="11" y="725"/>
                  </a:lnTo>
                  <a:lnTo>
                    <a:pt x="13" y="720"/>
                  </a:lnTo>
                  <a:lnTo>
                    <a:pt x="17" y="716"/>
                  </a:lnTo>
                  <a:lnTo>
                    <a:pt x="19" y="712"/>
                  </a:lnTo>
                  <a:lnTo>
                    <a:pt x="22" y="708"/>
                  </a:lnTo>
                  <a:lnTo>
                    <a:pt x="29" y="699"/>
                  </a:lnTo>
                  <a:lnTo>
                    <a:pt x="38" y="692"/>
                  </a:lnTo>
                  <a:lnTo>
                    <a:pt x="46" y="686"/>
                  </a:lnTo>
                  <a:lnTo>
                    <a:pt x="55" y="681"/>
                  </a:lnTo>
                  <a:lnTo>
                    <a:pt x="59" y="677"/>
                  </a:lnTo>
                  <a:lnTo>
                    <a:pt x="63" y="676"/>
                  </a:lnTo>
                  <a:lnTo>
                    <a:pt x="69" y="674"/>
                  </a:lnTo>
                  <a:lnTo>
                    <a:pt x="73" y="672"/>
                  </a:lnTo>
                  <a:lnTo>
                    <a:pt x="78" y="671"/>
                  </a:lnTo>
                  <a:lnTo>
                    <a:pt x="82" y="670"/>
                  </a:lnTo>
                  <a:lnTo>
                    <a:pt x="88" y="669"/>
                  </a:lnTo>
                  <a:lnTo>
                    <a:pt x="93" y="668"/>
                  </a:lnTo>
                  <a:lnTo>
                    <a:pt x="104" y="668"/>
                  </a:lnTo>
                  <a:lnTo>
                    <a:pt x="113" y="668"/>
                  </a:lnTo>
                  <a:lnTo>
                    <a:pt x="123" y="670"/>
                  </a:lnTo>
                  <a:lnTo>
                    <a:pt x="131" y="671"/>
                  </a:lnTo>
                  <a:lnTo>
                    <a:pt x="140" y="674"/>
                  </a:lnTo>
                  <a:lnTo>
                    <a:pt x="148" y="677"/>
                  </a:lnTo>
                  <a:lnTo>
                    <a:pt x="157" y="683"/>
                  </a:lnTo>
                  <a:lnTo>
                    <a:pt x="165" y="687"/>
                  </a:lnTo>
                  <a:lnTo>
                    <a:pt x="173" y="693"/>
                  </a:lnTo>
                  <a:lnTo>
                    <a:pt x="180" y="700"/>
                  </a:lnTo>
                  <a:lnTo>
                    <a:pt x="186" y="707"/>
                  </a:lnTo>
                  <a:lnTo>
                    <a:pt x="188" y="711"/>
                  </a:lnTo>
                  <a:lnTo>
                    <a:pt x="192" y="714"/>
                  </a:lnTo>
                  <a:lnTo>
                    <a:pt x="194" y="718"/>
                  </a:lnTo>
                  <a:lnTo>
                    <a:pt x="196" y="722"/>
                  </a:lnTo>
                  <a:lnTo>
                    <a:pt x="197" y="726"/>
                  </a:lnTo>
                  <a:lnTo>
                    <a:pt x="199" y="730"/>
                  </a:lnTo>
                  <a:lnTo>
                    <a:pt x="200" y="735"/>
                  </a:lnTo>
                  <a:lnTo>
                    <a:pt x="201" y="739"/>
                  </a:lnTo>
                  <a:lnTo>
                    <a:pt x="202" y="743"/>
                  </a:lnTo>
                  <a:lnTo>
                    <a:pt x="203" y="748"/>
                  </a:lnTo>
                  <a:lnTo>
                    <a:pt x="203" y="752"/>
                  </a:lnTo>
                  <a:lnTo>
                    <a:pt x="203" y="758"/>
                  </a:lnTo>
                  <a:lnTo>
                    <a:pt x="203" y="764"/>
                  </a:lnTo>
                  <a:lnTo>
                    <a:pt x="202" y="771"/>
                  </a:lnTo>
                  <a:lnTo>
                    <a:pt x="201" y="779"/>
                  </a:lnTo>
                  <a:lnTo>
                    <a:pt x="200" y="790"/>
                  </a:lnTo>
                  <a:lnTo>
                    <a:pt x="200" y="808"/>
                  </a:lnTo>
                  <a:lnTo>
                    <a:pt x="200" y="813"/>
                  </a:lnTo>
                  <a:lnTo>
                    <a:pt x="200" y="816"/>
                  </a:lnTo>
                  <a:lnTo>
                    <a:pt x="201" y="819"/>
                  </a:lnTo>
                  <a:lnTo>
                    <a:pt x="201" y="823"/>
                  </a:lnTo>
                  <a:lnTo>
                    <a:pt x="202" y="826"/>
                  </a:lnTo>
                  <a:lnTo>
                    <a:pt x="203" y="829"/>
                  </a:lnTo>
                  <a:lnTo>
                    <a:pt x="205" y="832"/>
                  </a:lnTo>
                  <a:lnTo>
                    <a:pt x="206" y="836"/>
                  </a:lnTo>
                  <a:lnTo>
                    <a:pt x="208" y="838"/>
                  </a:lnTo>
                  <a:lnTo>
                    <a:pt x="210" y="841"/>
                  </a:lnTo>
                  <a:lnTo>
                    <a:pt x="212" y="844"/>
                  </a:lnTo>
                  <a:lnTo>
                    <a:pt x="214" y="846"/>
                  </a:lnTo>
                  <a:lnTo>
                    <a:pt x="216" y="848"/>
                  </a:lnTo>
                  <a:lnTo>
                    <a:pt x="219" y="851"/>
                  </a:lnTo>
                  <a:lnTo>
                    <a:pt x="221" y="853"/>
                  </a:lnTo>
                  <a:lnTo>
                    <a:pt x="225" y="855"/>
                  </a:lnTo>
                  <a:lnTo>
                    <a:pt x="231" y="859"/>
                  </a:lnTo>
                  <a:lnTo>
                    <a:pt x="238" y="863"/>
                  </a:lnTo>
                  <a:lnTo>
                    <a:pt x="245" y="866"/>
                  </a:lnTo>
                  <a:lnTo>
                    <a:pt x="252" y="868"/>
                  </a:lnTo>
                  <a:lnTo>
                    <a:pt x="261" y="870"/>
                  </a:lnTo>
                  <a:lnTo>
                    <a:pt x="268" y="871"/>
                  </a:lnTo>
                  <a:lnTo>
                    <a:pt x="278" y="872"/>
                  </a:lnTo>
                  <a:lnTo>
                    <a:pt x="286" y="872"/>
                  </a:lnTo>
                  <a:lnTo>
                    <a:pt x="312" y="871"/>
                  </a:lnTo>
                  <a:lnTo>
                    <a:pt x="335" y="867"/>
                  </a:lnTo>
                  <a:lnTo>
                    <a:pt x="359" y="859"/>
                  </a:lnTo>
                  <a:lnTo>
                    <a:pt x="382" y="850"/>
                  </a:lnTo>
                  <a:lnTo>
                    <a:pt x="403" y="839"/>
                  </a:lnTo>
                  <a:lnTo>
                    <a:pt x="424" y="824"/>
                  </a:lnTo>
                  <a:lnTo>
                    <a:pt x="444" y="806"/>
                  </a:lnTo>
                  <a:lnTo>
                    <a:pt x="463" y="787"/>
                  </a:lnTo>
                  <a:lnTo>
                    <a:pt x="482" y="764"/>
                  </a:lnTo>
                  <a:lnTo>
                    <a:pt x="500" y="738"/>
                  </a:lnTo>
                  <a:lnTo>
                    <a:pt x="517" y="710"/>
                  </a:lnTo>
                  <a:lnTo>
                    <a:pt x="533" y="678"/>
                  </a:lnTo>
                  <a:lnTo>
                    <a:pt x="563" y="609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67520" y="1336680"/>
              <a:ext cx="492120" cy="355680"/>
            </a:xfrm>
            <a:custGeom>
              <a:avLst/>
              <a:gdLst/>
              <a:ahLst/>
              <a:rect l="l" t="t" r="r" b="b"/>
              <a:pathLst>
                <a:path w="1367" h="989">
                  <a:moveTo>
                    <a:pt x="53" y="295"/>
                  </a:moveTo>
                  <a:lnTo>
                    <a:pt x="0" y="228"/>
                  </a:lnTo>
                  <a:lnTo>
                    <a:pt x="59" y="172"/>
                  </a:lnTo>
                  <a:lnTo>
                    <a:pt x="86" y="147"/>
                  </a:lnTo>
                  <a:lnTo>
                    <a:pt x="114" y="124"/>
                  </a:lnTo>
                  <a:lnTo>
                    <a:pt x="141" y="103"/>
                  </a:lnTo>
                  <a:lnTo>
                    <a:pt x="168" y="84"/>
                  </a:lnTo>
                  <a:lnTo>
                    <a:pt x="194" y="68"/>
                  </a:lnTo>
                  <a:lnTo>
                    <a:pt x="221" y="53"/>
                  </a:lnTo>
                  <a:lnTo>
                    <a:pt x="245" y="41"/>
                  </a:lnTo>
                  <a:lnTo>
                    <a:pt x="270" y="30"/>
                  </a:lnTo>
                  <a:lnTo>
                    <a:pt x="292" y="21"/>
                  </a:lnTo>
                  <a:lnTo>
                    <a:pt x="313" y="14"/>
                  </a:lnTo>
                  <a:lnTo>
                    <a:pt x="333" y="7"/>
                  </a:lnTo>
                  <a:lnTo>
                    <a:pt x="351" y="3"/>
                  </a:lnTo>
                  <a:lnTo>
                    <a:pt x="370" y="1"/>
                  </a:lnTo>
                  <a:lnTo>
                    <a:pt x="385" y="0"/>
                  </a:lnTo>
                  <a:lnTo>
                    <a:pt x="393" y="0"/>
                  </a:lnTo>
                  <a:lnTo>
                    <a:pt x="400" y="1"/>
                  </a:lnTo>
                  <a:lnTo>
                    <a:pt x="408" y="2"/>
                  </a:lnTo>
                  <a:lnTo>
                    <a:pt x="414" y="4"/>
                  </a:lnTo>
                  <a:lnTo>
                    <a:pt x="420" y="6"/>
                  </a:lnTo>
                  <a:lnTo>
                    <a:pt x="424" y="7"/>
                  </a:lnTo>
                  <a:lnTo>
                    <a:pt x="426" y="10"/>
                  </a:lnTo>
                  <a:lnTo>
                    <a:pt x="429" y="11"/>
                  </a:lnTo>
                  <a:lnTo>
                    <a:pt x="431" y="13"/>
                  </a:lnTo>
                  <a:lnTo>
                    <a:pt x="434" y="15"/>
                  </a:lnTo>
                  <a:lnTo>
                    <a:pt x="436" y="17"/>
                  </a:lnTo>
                  <a:lnTo>
                    <a:pt x="438" y="19"/>
                  </a:lnTo>
                  <a:lnTo>
                    <a:pt x="441" y="21"/>
                  </a:lnTo>
                  <a:lnTo>
                    <a:pt x="443" y="23"/>
                  </a:lnTo>
                  <a:lnTo>
                    <a:pt x="445" y="25"/>
                  </a:lnTo>
                  <a:lnTo>
                    <a:pt x="446" y="28"/>
                  </a:lnTo>
                  <a:lnTo>
                    <a:pt x="448" y="30"/>
                  </a:lnTo>
                  <a:lnTo>
                    <a:pt x="449" y="32"/>
                  </a:lnTo>
                  <a:lnTo>
                    <a:pt x="451" y="36"/>
                  </a:lnTo>
                  <a:lnTo>
                    <a:pt x="452" y="38"/>
                  </a:lnTo>
                  <a:lnTo>
                    <a:pt x="452" y="41"/>
                  </a:lnTo>
                  <a:lnTo>
                    <a:pt x="453" y="44"/>
                  </a:lnTo>
                  <a:lnTo>
                    <a:pt x="454" y="47"/>
                  </a:lnTo>
                  <a:lnTo>
                    <a:pt x="455" y="53"/>
                  </a:lnTo>
                  <a:lnTo>
                    <a:pt x="455" y="59"/>
                  </a:lnTo>
                  <a:lnTo>
                    <a:pt x="455" y="66"/>
                  </a:lnTo>
                  <a:lnTo>
                    <a:pt x="454" y="74"/>
                  </a:lnTo>
                  <a:lnTo>
                    <a:pt x="452" y="83"/>
                  </a:lnTo>
                  <a:lnTo>
                    <a:pt x="451" y="94"/>
                  </a:lnTo>
                  <a:lnTo>
                    <a:pt x="445" y="119"/>
                  </a:lnTo>
                  <a:lnTo>
                    <a:pt x="436" y="149"/>
                  </a:lnTo>
                  <a:lnTo>
                    <a:pt x="402" y="263"/>
                  </a:lnTo>
                  <a:lnTo>
                    <a:pt x="459" y="202"/>
                  </a:lnTo>
                  <a:lnTo>
                    <a:pt x="513" y="149"/>
                  </a:lnTo>
                  <a:lnTo>
                    <a:pt x="564" y="103"/>
                  </a:lnTo>
                  <a:lnTo>
                    <a:pt x="613" y="67"/>
                  </a:lnTo>
                  <a:lnTo>
                    <a:pt x="636" y="51"/>
                  </a:lnTo>
                  <a:lnTo>
                    <a:pt x="658" y="38"/>
                  </a:lnTo>
                  <a:lnTo>
                    <a:pt x="680" y="26"/>
                  </a:lnTo>
                  <a:lnTo>
                    <a:pt x="702" y="17"/>
                  </a:lnTo>
                  <a:lnTo>
                    <a:pt x="723" y="10"/>
                  </a:lnTo>
                  <a:lnTo>
                    <a:pt x="743" y="4"/>
                  </a:lnTo>
                  <a:lnTo>
                    <a:pt x="762" y="1"/>
                  </a:lnTo>
                  <a:lnTo>
                    <a:pt x="781" y="0"/>
                  </a:lnTo>
                  <a:lnTo>
                    <a:pt x="793" y="0"/>
                  </a:lnTo>
                  <a:lnTo>
                    <a:pt x="804" y="2"/>
                  </a:lnTo>
                  <a:lnTo>
                    <a:pt x="813" y="4"/>
                  </a:lnTo>
                  <a:lnTo>
                    <a:pt x="818" y="5"/>
                  </a:lnTo>
                  <a:lnTo>
                    <a:pt x="823" y="7"/>
                  </a:lnTo>
                  <a:lnTo>
                    <a:pt x="827" y="9"/>
                  </a:lnTo>
                  <a:lnTo>
                    <a:pt x="831" y="11"/>
                  </a:lnTo>
                  <a:lnTo>
                    <a:pt x="835" y="13"/>
                  </a:lnTo>
                  <a:lnTo>
                    <a:pt x="840" y="16"/>
                  </a:lnTo>
                  <a:lnTo>
                    <a:pt x="843" y="18"/>
                  </a:lnTo>
                  <a:lnTo>
                    <a:pt x="847" y="21"/>
                  </a:lnTo>
                  <a:lnTo>
                    <a:pt x="850" y="24"/>
                  </a:lnTo>
                  <a:lnTo>
                    <a:pt x="853" y="27"/>
                  </a:lnTo>
                  <a:lnTo>
                    <a:pt x="857" y="30"/>
                  </a:lnTo>
                  <a:lnTo>
                    <a:pt x="860" y="35"/>
                  </a:lnTo>
                  <a:lnTo>
                    <a:pt x="862" y="38"/>
                  </a:lnTo>
                  <a:lnTo>
                    <a:pt x="865" y="42"/>
                  </a:lnTo>
                  <a:lnTo>
                    <a:pt x="867" y="46"/>
                  </a:lnTo>
                  <a:lnTo>
                    <a:pt x="869" y="50"/>
                  </a:lnTo>
                  <a:lnTo>
                    <a:pt x="870" y="54"/>
                  </a:lnTo>
                  <a:lnTo>
                    <a:pt x="873" y="59"/>
                  </a:lnTo>
                  <a:lnTo>
                    <a:pt x="876" y="70"/>
                  </a:lnTo>
                  <a:lnTo>
                    <a:pt x="878" y="80"/>
                  </a:lnTo>
                  <a:lnTo>
                    <a:pt x="879" y="92"/>
                  </a:lnTo>
                  <a:lnTo>
                    <a:pt x="879" y="104"/>
                  </a:lnTo>
                  <a:lnTo>
                    <a:pt x="878" y="117"/>
                  </a:lnTo>
                  <a:lnTo>
                    <a:pt x="877" y="130"/>
                  </a:lnTo>
                  <a:lnTo>
                    <a:pt x="874" y="145"/>
                  </a:lnTo>
                  <a:lnTo>
                    <a:pt x="870" y="160"/>
                  </a:lnTo>
                  <a:lnTo>
                    <a:pt x="866" y="178"/>
                  </a:lnTo>
                  <a:lnTo>
                    <a:pt x="860" y="196"/>
                  </a:lnTo>
                  <a:lnTo>
                    <a:pt x="846" y="235"/>
                  </a:lnTo>
                  <a:lnTo>
                    <a:pt x="867" y="205"/>
                  </a:lnTo>
                  <a:lnTo>
                    <a:pt x="890" y="178"/>
                  </a:lnTo>
                  <a:lnTo>
                    <a:pt x="912" y="152"/>
                  </a:lnTo>
                  <a:lnTo>
                    <a:pt x="935" y="129"/>
                  </a:lnTo>
                  <a:lnTo>
                    <a:pt x="957" y="107"/>
                  </a:lnTo>
                  <a:lnTo>
                    <a:pt x="981" y="89"/>
                  </a:lnTo>
                  <a:lnTo>
                    <a:pt x="1005" y="71"/>
                  </a:lnTo>
                  <a:lnTo>
                    <a:pt x="1029" y="56"/>
                  </a:lnTo>
                  <a:lnTo>
                    <a:pt x="1052" y="43"/>
                  </a:lnTo>
                  <a:lnTo>
                    <a:pt x="1074" y="31"/>
                  </a:lnTo>
                  <a:lnTo>
                    <a:pt x="1095" y="22"/>
                  </a:lnTo>
                  <a:lnTo>
                    <a:pt x="1116" y="15"/>
                  </a:lnTo>
                  <a:lnTo>
                    <a:pt x="1135" y="9"/>
                  </a:lnTo>
                  <a:lnTo>
                    <a:pt x="1152" y="3"/>
                  </a:lnTo>
                  <a:lnTo>
                    <a:pt x="1169" y="1"/>
                  </a:lnTo>
                  <a:lnTo>
                    <a:pt x="1176" y="0"/>
                  </a:lnTo>
                  <a:lnTo>
                    <a:pt x="1183" y="0"/>
                  </a:lnTo>
                  <a:lnTo>
                    <a:pt x="1197" y="1"/>
                  </a:lnTo>
                  <a:lnTo>
                    <a:pt x="1210" y="2"/>
                  </a:lnTo>
                  <a:lnTo>
                    <a:pt x="1222" y="5"/>
                  </a:lnTo>
                  <a:lnTo>
                    <a:pt x="1228" y="6"/>
                  </a:lnTo>
                  <a:lnTo>
                    <a:pt x="1233" y="9"/>
                  </a:lnTo>
                  <a:lnTo>
                    <a:pt x="1239" y="11"/>
                  </a:lnTo>
                  <a:lnTo>
                    <a:pt x="1244" y="14"/>
                  </a:lnTo>
                  <a:lnTo>
                    <a:pt x="1249" y="16"/>
                  </a:lnTo>
                  <a:lnTo>
                    <a:pt x="1255" y="19"/>
                  </a:lnTo>
                  <a:lnTo>
                    <a:pt x="1259" y="22"/>
                  </a:lnTo>
                  <a:lnTo>
                    <a:pt x="1263" y="26"/>
                  </a:lnTo>
                  <a:lnTo>
                    <a:pt x="1267" y="29"/>
                  </a:lnTo>
                  <a:lnTo>
                    <a:pt x="1272" y="33"/>
                  </a:lnTo>
                  <a:lnTo>
                    <a:pt x="1276" y="38"/>
                  </a:lnTo>
                  <a:lnTo>
                    <a:pt x="1279" y="42"/>
                  </a:lnTo>
                  <a:lnTo>
                    <a:pt x="1282" y="47"/>
                  </a:lnTo>
                  <a:lnTo>
                    <a:pt x="1285" y="51"/>
                  </a:lnTo>
                  <a:lnTo>
                    <a:pt x="1289" y="56"/>
                  </a:lnTo>
                  <a:lnTo>
                    <a:pt x="1291" y="62"/>
                  </a:lnTo>
                  <a:lnTo>
                    <a:pt x="1294" y="68"/>
                  </a:lnTo>
                  <a:lnTo>
                    <a:pt x="1296" y="73"/>
                  </a:lnTo>
                  <a:lnTo>
                    <a:pt x="1299" y="85"/>
                  </a:lnTo>
                  <a:lnTo>
                    <a:pt x="1301" y="99"/>
                  </a:lnTo>
                  <a:lnTo>
                    <a:pt x="1303" y="113"/>
                  </a:lnTo>
                  <a:lnTo>
                    <a:pt x="1303" y="128"/>
                  </a:lnTo>
                  <a:lnTo>
                    <a:pt x="1303" y="136"/>
                  </a:lnTo>
                  <a:lnTo>
                    <a:pt x="1302" y="146"/>
                  </a:lnTo>
                  <a:lnTo>
                    <a:pt x="1301" y="155"/>
                  </a:lnTo>
                  <a:lnTo>
                    <a:pt x="1300" y="166"/>
                  </a:lnTo>
                  <a:lnTo>
                    <a:pt x="1297" y="186"/>
                  </a:lnTo>
                  <a:lnTo>
                    <a:pt x="1292" y="208"/>
                  </a:lnTo>
                  <a:lnTo>
                    <a:pt x="1282" y="243"/>
                  </a:lnTo>
                  <a:lnTo>
                    <a:pt x="1266" y="299"/>
                  </a:lnTo>
                  <a:lnTo>
                    <a:pt x="1211" y="480"/>
                  </a:lnTo>
                  <a:lnTo>
                    <a:pt x="1174" y="603"/>
                  </a:lnTo>
                  <a:lnTo>
                    <a:pt x="1146" y="699"/>
                  </a:lnTo>
                  <a:lnTo>
                    <a:pt x="1130" y="767"/>
                  </a:lnTo>
                  <a:lnTo>
                    <a:pt x="1126" y="791"/>
                  </a:lnTo>
                  <a:lnTo>
                    <a:pt x="1125" y="799"/>
                  </a:lnTo>
                  <a:lnTo>
                    <a:pt x="1125" y="806"/>
                  </a:lnTo>
                  <a:lnTo>
                    <a:pt x="1125" y="809"/>
                  </a:lnTo>
                  <a:lnTo>
                    <a:pt x="1125" y="812"/>
                  </a:lnTo>
                  <a:lnTo>
                    <a:pt x="1126" y="815"/>
                  </a:lnTo>
                  <a:lnTo>
                    <a:pt x="1126" y="816"/>
                  </a:lnTo>
                  <a:lnTo>
                    <a:pt x="1126" y="817"/>
                  </a:lnTo>
                  <a:lnTo>
                    <a:pt x="1127" y="818"/>
                  </a:lnTo>
                  <a:lnTo>
                    <a:pt x="1127" y="819"/>
                  </a:lnTo>
                  <a:lnTo>
                    <a:pt x="1128" y="819"/>
                  </a:lnTo>
                  <a:lnTo>
                    <a:pt x="1128" y="820"/>
                  </a:lnTo>
                  <a:lnTo>
                    <a:pt x="1129" y="820"/>
                  </a:lnTo>
                  <a:lnTo>
                    <a:pt x="1129" y="821"/>
                  </a:lnTo>
                  <a:lnTo>
                    <a:pt x="1130" y="821"/>
                  </a:lnTo>
                  <a:lnTo>
                    <a:pt x="1131" y="821"/>
                  </a:lnTo>
                  <a:lnTo>
                    <a:pt x="1133" y="821"/>
                  </a:lnTo>
                  <a:lnTo>
                    <a:pt x="1136" y="821"/>
                  </a:lnTo>
                  <a:lnTo>
                    <a:pt x="1139" y="820"/>
                  </a:lnTo>
                  <a:lnTo>
                    <a:pt x="1143" y="820"/>
                  </a:lnTo>
                  <a:lnTo>
                    <a:pt x="1146" y="819"/>
                  </a:lnTo>
                  <a:lnTo>
                    <a:pt x="1151" y="817"/>
                  </a:lnTo>
                  <a:lnTo>
                    <a:pt x="1155" y="816"/>
                  </a:lnTo>
                  <a:lnTo>
                    <a:pt x="1158" y="812"/>
                  </a:lnTo>
                  <a:lnTo>
                    <a:pt x="1162" y="810"/>
                  </a:lnTo>
                  <a:lnTo>
                    <a:pt x="1194" y="788"/>
                  </a:lnTo>
                  <a:lnTo>
                    <a:pt x="1228" y="762"/>
                  </a:lnTo>
                  <a:lnTo>
                    <a:pt x="1266" y="731"/>
                  </a:lnTo>
                  <a:lnTo>
                    <a:pt x="1307" y="697"/>
                  </a:lnTo>
                  <a:lnTo>
                    <a:pt x="1366" y="759"/>
                  </a:lnTo>
                  <a:lnTo>
                    <a:pt x="1358" y="768"/>
                  </a:lnTo>
                  <a:lnTo>
                    <a:pt x="1349" y="775"/>
                  </a:lnTo>
                  <a:lnTo>
                    <a:pt x="1339" y="783"/>
                  </a:lnTo>
                  <a:lnTo>
                    <a:pt x="1329" y="792"/>
                  </a:lnTo>
                  <a:lnTo>
                    <a:pt x="1306" y="809"/>
                  </a:lnTo>
                  <a:lnTo>
                    <a:pt x="1279" y="827"/>
                  </a:lnTo>
                  <a:lnTo>
                    <a:pt x="1232" y="873"/>
                  </a:lnTo>
                  <a:lnTo>
                    <a:pt x="1211" y="892"/>
                  </a:lnTo>
                  <a:lnTo>
                    <a:pt x="1191" y="908"/>
                  </a:lnTo>
                  <a:lnTo>
                    <a:pt x="1172" y="923"/>
                  </a:lnTo>
                  <a:lnTo>
                    <a:pt x="1153" y="935"/>
                  </a:lnTo>
                  <a:lnTo>
                    <a:pt x="1136" y="945"/>
                  </a:lnTo>
                  <a:lnTo>
                    <a:pt x="1120" y="952"/>
                  </a:lnTo>
                  <a:lnTo>
                    <a:pt x="1109" y="960"/>
                  </a:lnTo>
                  <a:lnTo>
                    <a:pt x="1099" y="967"/>
                  </a:lnTo>
                  <a:lnTo>
                    <a:pt x="1087" y="974"/>
                  </a:lnTo>
                  <a:lnTo>
                    <a:pt x="1075" y="979"/>
                  </a:lnTo>
                  <a:lnTo>
                    <a:pt x="1064" y="983"/>
                  </a:lnTo>
                  <a:lnTo>
                    <a:pt x="1052" y="986"/>
                  </a:lnTo>
                  <a:lnTo>
                    <a:pt x="1039" y="987"/>
                  </a:lnTo>
                  <a:lnTo>
                    <a:pt x="1026" y="988"/>
                  </a:lnTo>
                  <a:lnTo>
                    <a:pt x="1021" y="988"/>
                  </a:lnTo>
                  <a:lnTo>
                    <a:pt x="1016" y="987"/>
                  </a:lnTo>
                  <a:lnTo>
                    <a:pt x="1010" y="987"/>
                  </a:lnTo>
                  <a:lnTo>
                    <a:pt x="1005" y="986"/>
                  </a:lnTo>
                  <a:lnTo>
                    <a:pt x="1000" y="984"/>
                  </a:lnTo>
                  <a:lnTo>
                    <a:pt x="996" y="983"/>
                  </a:lnTo>
                  <a:lnTo>
                    <a:pt x="990" y="981"/>
                  </a:lnTo>
                  <a:lnTo>
                    <a:pt x="986" y="978"/>
                  </a:lnTo>
                  <a:lnTo>
                    <a:pt x="981" y="976"/>
                  </a:lnTo>
                  <a:lnTo>
                    <a:pt x="977" y="973"/>
                  </a:lnTo>
                  <a:lnTo>
                    <a:pt x="972" y="970"/>
                  </a:lnTo>
                  <a:lnTo>
                    <a:pt x="968" y="965"/>
                  </a:lnTo>
                  <a:lnTo>
                    <a:pt x="960" y="958"/>
                  </a:lnTo>
                  <a:lnTo>
                    <a:pt x="952" y="949"/>
                  </a:lnTo>
                  <a:lnTo>
                    <a:pt x="948" y="944"/>
                  </a:lnTo>
                  <a:lnTo>
                    <a:pt x="945" y="939"/>
                  </a:lnTo>
                  <a:lnTo>
                    <a:pt x="942" y="934"/>
                  </a:lnTo>
                  <a:lnTo>
                    <a:pt x="938" y="928"/>
                  </a:lnTo>
                  <a:lnTo>
                    <a:pt x="933" y="916"/>
                  </a:lnTo>
                  <a:lnTo>
                    <a:pt x="929" y="904"/>
                  </a:lnTo>
                  <a:lnTo>
                    <a:pt x="926" y="892"/>
                  </a:lnTo>
                  <a:lnTo>
                    <a:pt x="923" y="877"/>
                  </a:lnTo>
                  <a:lnTo>
                    <a:pt x="921" y="862"/>
                  </a:lnTo>
                  <a:lnTo>
                    <a:pt x="921" y="847"/>
                  </a:lnTo>
                  <a:lnTo>
                    <a:pt x="922" y="819"/>
                  </a:lnTo>
                  <a:lnTo>
                    <a:pt x="925" y="788"/>
                  </a:lnTo>
                  <a:lnTo>
                    <a:pt x="930" y="755"/>
                  </a:lnTo>
                  <a:lnTo>
                    <a:pt x="936" y="721"/>
                  </a:lnTo>
                  <a:lnTo>
                    <a:pt x="948" y="674"/>
                  </a:lnTo>
                  <a:lnTo>
                    <a:pt x="967" y="607"/>
                  </a:lnTo>
                  <a:lnTo>
                    <a:pt x="1027" y="408"/>
                  </a:lnTo>
                  <a:lnTo>
                    <a:pt x="1069" y="264"/>
                  </a:lnTo>
                  <a:lnTo>
                    <a:pt x="1079" y="220"/>
                  </a:lnTo>
                  <a:lnTo>
                    <a:pt x="1082" y="204"/>
                  </a:lnTo>
                  <a:lnTo>
                    <a:pt x="1083" y="198"/>
                  </a:lnTo>
                  <a:lnTo>
                    <a:pt x="1083" y="193"/>
                  </a:lnTo>
                  <a:lnTo>
                    <a:pt x="1083" y="191"/>
                  </a:lnTo>
                  <a:lnTo>
                    <a:pt x="1083" y="189"/>
                  </a:lnTo>
                  <a:lnTo>
                    <a:pt x="1083" y="187"/>
                  </a:lnTo>
                  <a:lnTo>
                    <a:pt x="1082" y="186"/>
                  </a:lnTo>
                  <a:lnTo>
                    <a:pt x="1082" y="185"/>
                  </a:lnTo>
                  <a:lnTo>
                    <a:pt x="1081" y="184"/>
                  </a:lnTo>
                  <a:lnTo>
                    <a:pt x="1081" y="183"/>
                  </a:lnTo>
                  <a:lnTo>
                    <a:pt x="1079" y="182"/>
                  </a:lnTo>
                  <a:lnTo>
                    <a:pt x="1079" y="181"/>
                  </a:lnTo>
                  <a:lnTo>
                    <a:pt x="1078" y="180"/>
                  </a:lnTo>
                  <a:lnTo>
                    <a:pt x="1077" y="179"/>
                  </a:lnTo>
                  <a:lnTo>
                    <a:pt x="1076" y="179"/>
                  </a:lnTo>
                  <a:lnTo>
                    <a:pt x="1075" y="179"/>
                  </a:lnTo>
                  <a:lnTo>
                    <a:pt x="1074" y="178"/>
                  </a:lnTo>
                  <a:lnTo>
                    <a:pt x="1073" y="178"/>
                  </a:lnTo>
                  <a:lnTo>
                    <a:pt x="1072" y="178"/>
                  </a:lnTo>
                  <a:lnTo>
                    <a:pt x="1067" y="178"/>
                  </a:lnTo>
                  <a:lnTo>
                    <a:pt x="1061" y="179"/>
                  </a:lnTo>
                  <a:lnTo>
                    <a:pt x="1055" y="179"/>
                  </a:lnTo>
                  <a:lnTo>
                    <a:pt x="1049" y="180"/>
                  </a:lnTo>
                  <a:lnTo>
                    <a:pt x="1042" y="182"/>
                  </a:lnTo>
                  <a:lnTo>
                    <a:pt x="1036" y="183"/>
                  </a:lnTo>
                  <a:lnTo>
                    <a:pt x="1030" y="186"/>
                  </a:lnTo>
                  <a:lnTo>
                    <a:pt x="1022" y="188"/>
                  </a:lnTo>
                  <a:lnTo>
                    <a:pt x="998" y="205"/>
                  </a:lnTo>
                  <a:lnTo>
                    <a:pt x="973" y="223"/>
                  </a:lnTo>
                  <a:lnTo>
                    <a:pt x="951" y="240"/>
                  </a:lnTo>
                  <a:lnTo>
                    <a:pt x="930" y="258"/>
                  </a:lnTo>
                  <a:lnTo>
                    <a:pt x="911" y="277"/>
                  </a:lnTo>
                  <a:lnTo>
                    <a:pt x="892" y="296"/>
                  </a:lnTo>
                  <a:lnTo>
                    <a:pt x="875" y="314"/>
                  </a:lnTo>
                  <a:lnTo>
                    <a:pt x="859" y="334"/>
                  </a:lnTo>
                  <a:lnTo>
                    <a:pt x="848" y="348"/>
                  </a:lnTo>
                  <a:lnTo>
                    <a:pt x="839" y="364"/>
                  </a:lnTo>
                  <a:lnTo>
                    <a:pt x="829" y="382"/>
                  </a:lnTo>
                  <a:lnTo>
                    <a:pt x="819" y="403"/>
                  </a:lnTo>
                  <a:lnTo>
                    <a:pt x="811" y="425"/>
                  </a:lnTo>
                  <a:lnTo>
                    <a:pt x="802" y="450"/>
                  </a:lnTo>
                  <a:lnTo>
                    <a:pt x="786" y="504"/>
                  </a:lnTo>
                  <a:lnTo>
                    <a:pt x="672" y="954"/>
                  </a:lnTo>
                  <a:lnTo>
                    <a:pt x="475" y="954"/>
                  </a:lnTo>
                  <a:lnTo>
                    <a:pt x="639" y="269"/>
                  </a:lnTo>
                  <a:lnTo>
                    <a:pt x="652" y="214"/>
                  </a:lnTo>
                  <a:lnTo>
                    <a:pt x="655" y="199"/>
                  </a:lnTo>
                  <a:lnTo>
                    <a:pt x="656" y="195"/>
                  </a:lnTo>
                  <a:lnTo>
                    <a:pt x="656" y="193"/>
                  </a:lnTo>
                  <a:lnTo>
                    <a:pt x="656" y="192"/>
                  </a:lnTo>
                  <a:lnTo>
                    <a:pt x="656" y="189"/>
                  </a:lnTo>
                  <a:lnTo>
                    <a:pt x="656" y="188"/>
                  </a:lnTo>
                  <a:lnTo>
                    <a:pt x="656" y="186"/>
                  </a:lnTo>
                  <a:lnTo>
                    <a:pt x="655" y="185"/>
                  </a:lnTo>
                  <a:lnTo>
                    <a:pt x="655" y="184"/>
                  </a:lnTo>
                  <a:lnTo>
                    <a:pt x="655" y="183"/>
                  </a:lnTo>
                  <a:lnTo>
                    <a:pt x="654" y="182"/>
                  </a:lnTo>
                  <a:lnTo>
                    <a:pt x="654" y="181"/>
                  </a:lnTo>
                  <a:lnTo>
                    <a:pt x="654" y="181"/>
                  </a:lnTo>
                  <a:lnTo>
                    <a:pt x="653" y="180"/>
                  </a:lnTo>
                  <a:lnTo>
                    <a:pt x="653" y="180"/>
                  </a:lnTo>
                  <a:lnTo>
                    <a:pt x="652" y="180"/>
                  </a:lnTo>
                  <a:lnTo>
                    <a:pt x="652" y="179"/>
                  </a:lnTo>
                  <a:lnTo>
                    <a:pt x="651" y="179"/>
                  </a:lnTo>
                  <a:lnTo>
                    <a:pt x="651" y="179"/>
                  </a:lnTo>
                  <a:lnTo>
                    <a:pt x="650" y="179"/>
                  </a:lnTo>
                  <a:lnTo>
                    <a:pt x="649" y="178"/>
                  </a:lnTo>
                  <a:lnTo>
                    <a:pt x="648" y="178"/>
                  </a:lnTo>
                  <a:lnTo>
                    <a:pt x="645" y="178"/>
                  </a:lnTo>
                  <a:lnTo>
                    <a:pt x="644" y="178"/>
                  </a:lnTo>
                  <a:lnTo>
                    <a:pt x="641" y="178"/>
                  </a:lnTo>
                  <a:lnTo>
                    <a:pt x="638" y="179"/>
                  </a:lnTo>
                  <a:lnTo>
                    <a:pt x="635" y="180"/>
                  </a:lnTo>
                  <a:lnTo>
                    <a:pt x="631" y="181"/>
                  </a:lnTo>
                  <a:lnTo>
                    <a:pt x="621" y="184"/>
                  </a:lnTo>
                  <a:lnTo>
                    <a:pt x="609" y="189"/>
                  </a:lnTo>
                  <a:lnTo>
                    <a:pt x="597" y="196"/>
                  </a:lnTo>
                  <a:lnTo>
                    <a:pt x="582" y="204"/>
                  </a:lnTo>
                  <a:lnTo>
                    <a:pt x="548" y="224"/>
                  </a:lnTo>
                  <a:lnTo>
                    <a:pt x="506" y="259"/>
                  </a:lnTo>
                  <a:lnTo>
                    <a:pt x="488" y="276"/>
                  </a:lnTo>
                  <a:lnTo>
                    <a:pt x="471" y="293"/>
                  </a:lnTo>
                  <a:lnTo>
                    <a:pt x="455" y="310"/>
                  </a:lnTo>
                  <a:lnTo>
                    <a:pt x="441" y="328"/>
                  </a:lnTo>
                  <a:lnTo>
                    <a:pt x="427" y="344"/>
                  </a:lnTo>
                  <a:lnTo>
                    <a:pt x="415" y="362"/>
                  </a:lnTo>
                  <a:lnTo>
                    <a:pt x="403" y="380"/>
                  </a:lnTo>
                  <a:lnTo>
                    <a:pt x="393" y="401"/>
                  </a:lnTo>
                  <a:lnTo>
                    <a:pt x="382" y="424"/>
                  </a:lnTo>
                  <a:lnTo>
                    <a:pt x="373" y="448"/>
                  </a:lnTo>
                  <a:lnTo>
                    <a:pt x="363" y="477"/>
                  </a:lnTo>
                  <a:lnTo>
                    <a:pt x="354" y="507"/>
                  </a:lnTo>
                  <a:lnTo>
                    <a:pt x="337" y="573"/>
                  </a:lnTo>
                  <a:lnTo>
                    <a:pt x="247" y="954"/>
                  </a:lnTo>
                  <a:lnTo>
                    <a:pt x="49" y="954"/>
                  </a:lnTo>
                  <a:lnTo>
                    <a:pt x="178" y="396"/>
                  </a:lnTo>
                  <a:lnTo>
                    <a:pt x="216" y="239"/>
                  </a:lnTo>
                  <a:lnTo>
                    <a:pt x="225" y="196"/>
                  </a:lnTo>
                  <a:lnTo>
                    <a:pt x="227" y="183"/>
                  </a:lnTo>
                  <a:lnTo>
                    <a:pt x="228" y="179"/>
                  </a:lnTo>
                  <a:lnTo>
                    <a:pt x="228" y="176"/>
                  </a:lnTo>
                  <a:lnTo>
                    <a:pt x="228" y="176"/>
                  </a:lnTo>
                  <a:lnTo>
                    <a:pt x="228" y="175"/>
                  </a:lnTo>
                  <a:lnTo>
                    <a:pt x="228" y="175"/>
                  </a:lnTo>
                  <a:lnTo>
                    <a:pt x="228" y="175"/>
                  </a:lnTo>
                  <a:lnTo>
                    <a:pt x="228" y="174"/>
                  </a:lnTo>
                  <a:lnTo>
                    <a:pt x="228" y="174"/>
                  </a:lnTo>
                  <a:lnTo>
                    <a:pt x="228" y="174"/>
                  </a:lnTo>
                  <a:lnTo>
                    <a:pt x="229" y="174"/>
                  </a:lnTo>
                  <a:lnTo>
                    <a:pt x="229" y="174"/>
                  </a:lnTo>
                  <a:lnTo>
                    <a:pt x="229" y="173"/>
                  </a:lnTo>
                  <a:lnTo>
                    <a:pt x="229" y="173"/>
                  </a:lnTo>
                  <a:lnTo>
                    <a:pt x="229" y="173"/>
                  </a:lnTo>
                  <a:lnTo>
                    <a:pt x="229" y="173"/>
                  </a:lnTo>
                  <a:lnTo>
                    <a:pt x="230" y="173"/>
                  </a:lnTo>
                  <a:lnTo>
                    <a:pt x="230" y="173"/>
                  </a:lnTo>
                  <a:lnTo>
                    <a:pt x="230" y="173"/>
                  </a:lnTo>
                  <a:lnTo>
                    <a:pt x="228" y="173"/>
                  </a:lnTo>
                  <a:lnTo>
                    <a:pt x="226" y="173"/>
                  </a:lnTo>
                  <a:lnTo>
                    <a:pt x="221" y="175"/>
                  </a:lnTo>
                  <a:lnTo>
                    <a:pt x="215" y="177"/>
                  </a:lnTo>
                  <a:lnTo>
                    <a:pt x="207" y="180"/>
                  </a:lnTo>
                  <a:lnTo>
                    <a:pt x="190" y="189"/>
                  </a:lnTo>
                  <a:lnTo>
                    <a:pt x="170" y="203"/>
                  </a:lnTo>
                  <a:lnTo>
                    <a:pt x="119" y="241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78720" y="1338120"/>
              <a:ext cx="361800" cy="355680"/>
            </a:xfrm>
            <a:custGeom>
              <a:avLst/>
              <a:gdLst/>
              <a:ahLst/>
              <a:rect l="l" t="t" r="r" b="b"/>
              <a:pathLst>
                <a:path w="1007" h="988">
                  <a:moveTo>
                    <a:pt x="754" y="28"/>
                  </a:moveTo>
                  <a:lnTo>
                    <a:pt x="952" y="28"/>
                  </a:lnTo>
                  <a:lnTo>
                    <a:pt x="847" y="432"/>
                  </a:lnTo>
                  <a:lnTo>
                    <a:pt x="779" y="686"/>
                  </a:lnTo>
                  <a:lnTo>
                    <a:pt x="762" y="761"/>
                  </a:lnTo>
                  <a:lnTo>
                    <a:pt x="758" y="785"/>
                  </a:lnTo>
                  <a:lnTo>
                    <a:pt x="757" y="793"/>
                  </a:lnTo>
                  <a:lnTo>
                    <a:pt x="757" y="799"/>
                  </a:lnTo>
                  <a:lnTo>
                    <a:pt x="757" y="802"/>
                  </a:lnTo>
                  <a:lnTo>
                    <a:pt x="757" y="805"/>
                  </a:lnTo>
                  <a:lnTo>
                    <a:pt x="757" y="807"/>
                  </a:lnTo>
                  <a:lnTo>
                    <a:pt x="758" y="810"/>
                  </a:lnTo>
                  <a:lnTo>
                    <a:pt x="758" y="812"/>
                  </a:lnTo>
                  <a:lnTo>
                    <a:pt x="758" y="813"/>
                  </a:lnTo>
                  <a:lnTo>
                    <a:pt x="759" y="814"/>
                  </a:lnTo>
                  <a:lnTo>
                    <a:pt x="759" y="814"/>
                  </a:lnTo>
                  <a:lnTo>
                    <a:pt x="759" y="815"/>
                  </a:lnTo>
                  <a:lnTo>
                    <a:pt x="760" y="816"/>
                  </a:lnTo>
                  <a:lnTo>
                    <a:pt x="760" y="816"/>
                  </a:lnTo>
                  <a:lnTo>
                    <a:pt x="761" y="817"/>
                  </a:lnTo>
                  <a:lnTo>
                    <a:pt x="761" y="817"/>
                  </a:lnTo>
                  <a:lnTo>
                    <a:pt x="762" y="818"/>
                  </a:lnTo>
                  <a:lnTo>
                    <a:pt x="763" y="818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8" y="819"/>
                  </a:lnTo>
                  <a:lnTo>
                    <a:pt x="772" y="818"/>
                  </a:lnTo>
                  <a:lnTo>
                    <a:pt x="775" y="818"/>
                  </a:lnTo>
                  <a:lnTo>
                    <a:pt x="779" y="817"/>
                  </a:lnTo>
                  <a:lnTo>
                    <a:pt x="782" y="815"/>
                  </a:lnTo>
                  <a:lnTo>
                    <a:pt x="786" y="814"/>
                  </a:lnTo>
                  <a:lnTo>
                    <a:pt x="790" y="811"/>
                  </a:lnTo>
                  <a:lnTo>
                    <a:pt x="794" y="808"/>
                  </a:lnTo>
                  <a:lnTo>
                    <a:pt x="805" y="801"/>
                  </a:lnTo>
                  <a:lnTo>
                    <a:pt x="817" y="792"/>
                  </a:lnTo>
                  <a:lnTo>
                    <a:pt x="850" y="764"/>
                  </a:lnTo>
                  <a:lnTo>
                    <a:pt x="948" y="678"/>
                  </a:lnTo>
                  <a:lnTo>
                    <a:pt x="1006" y="741"/>
                  </a:lnTo>
                  <a:lnTo>
                    <a:pt x="950" y="799"/>
                  </a:lnTo>
                  <a:lnTo>
                    <a:pt x="897" y="849"/>
                  </a:lnTo>
                  <a:lnTo>
                    <a:pt x="848" y="891"/>
                  </a:lnTo>
                  <a:lnTo>
                    <a:pt x="802" y="926"/>
                  </a:lnTo>
                  <a:lnTo>
                    <a:pt x="760" y="953"/>
                  </a:lnTo>
                  <a:lnTo>
                    <a:pt x="741" y="963"/>
                  </a:lnTo>
                  <a:lnTo>
                    <a:pt x="723" y="972"/>
                  </a:lnTo>
                  <a:lnTo>
                    <a:pt x="705" y="979"/>
                  </a:lnTo>
                  <a:lnTo>
                    <a:pt x="688" y="983"/>
                  </a:lnTo>
                  <a:lnTo>
                    <a:pt x="672" y="986"/>
                  </a:lnTo>
                  <a:lnTo>
                    <a:pt x="657" y="987"/>
                  </a:lnTo>
                  <a:lnTo>
                    <a:pt x="652" y="987"/>
                  </a:lnTo>
                  <a:lnTo>
                    <a:pt x="646" y="986"/>
                  </a:lnTo>
                  <a:lnTo>
                    <a:pt x="641" y="986"/>
                  </a:lnTo>
                  <a:lnTo>
                    <a:pt x="636" y="985"/>
                  </a:lnTo>
                  <a:lnTo>
                    <a:pt x="630" y="984"/>
                  </a:lnTo>
                  <a:lnTo>
                    <a:pt x="625" y="982"/>
                  </a:lnTo>
                  <a:lnTo>
                    <a:pt x="621" y="981"/>
                  </a:lnTo>
                  <a:lnTo>
                    <a:pt x="616" y="979"/>
                  </a:lnTo>
                  <a:lnTo>
                    <a:pt x="611" y="977"/>
                  </a:lnTo>
                  <a:lnTo>
                    <a:pt x="606" y="974"/>
                  </a:lnTo>
                  <a:lnTo>
                    <a:pt x="602" y="972"/>
                  </a:lnTo>
                  <a:lnTo>
                    <a:pt x="598" y="969"/>
                  </a:lnTo>
                  <a:lnTo>
                    <a:pt x="593" y="966"/>
                  </a:lnTo>
                  <a:lnTo>
                    <a:pt x="589" y="961"/>
                  </a:lnTo>
                  <a:lnTo>
                    <a:pt x="582" y="954"/>
                  </a:lnTo>
                  <a:lnTo>
                    <a:pt x="577" y="950"/>
                  </a:lnTo>
                  <a:lnTo>
                    <a:pt x="574" y="946"/>
                  </a:lnTo>
                  <a:lnTo>
                    <a:pt x="571" y="941"/>
                  </a:lnTo>
                  <a:lnTo>
                    <a:pt x="568" y="936"/>
                  </a:lnTo>
                  <a:lnTo>
                    <a:pt x="565" y="931"/>
                  </a:lnTo>
                  <a:lnTo>
                    <a:pt x="563" y="926"/>
                  </a:lnTo>
                  <a:lnTo>
                    <a:pt x="560" y="921"/>
                  </a:lnTo>
                  <a:lnTo>
                    <a:pt x="558" y="916"/>
                  </a:lnTo>
                  <a:lnTo>
                    <a:pt x="555" y="903"/>
                  </a:lnTo>
                  <a:lnTo>
                    <a:pt x="553" y="891"/>
                  </a:lnTo>
                  <a:lnTo>
                    <a:pt x="551" y="878"/>
                  </a:lnTo>
                  <a:lnTo>
                    <a:pt x="551" y="864"/>
                  </a:lnTo>
                  <a:lnTo>
                    <a:pt x="551" y="849"/>
                  </a:lnTo>
                  <a:lnTo>
                    <a:pt x="552" y="833"/>
                  </a:lnTo>
                  <a:lnTo>
                    <a:pt x="554" y="818"/>
                  </a:lnTo>
                  <a:lnTo>
                    <a:pt x="556" y="802"/>
                  </a:lnTo>
                  <a:lnTo>
                    <a:pt x="559" y="786"/>
                  </a:lnTo>
                  <a:lnTo>
                    <a:pt x="564" y="770"/>
                  </a:lnTo>
                  <a:lnTo>
                    <a:pt x="569" y="753"/>
                  </a:lnTo>
                  <a:lnTo>
                    <a:pt x="574" y="737"/>
                  </a:lnTo>
                  <a:lnTo>
                    <a:pt x="558" y="763"/>
                  </a:lnTo>
                  <a:lnTo>
                    <a:pt x="539" y="788"/>
                  </a:lnTo>
                  <a:lnTo>
                    <a:pt x="518" y="813"/>
                  </a:lnTo>
                  <a:lnTo>
                    <a:pt x="494" y="837"/>
                  </a:lnTo>
                  <a:lnTo>
                    <a:pt x="466" y="859"/>
                  </a:lnTo>
                  <a:lnTo>
                    <a:pt x="436" y="882"/>
                  </a:lnTo>
                  <a:lnTo>
                    <a:pt x="403" y="904"/>
                  </a:lnTo>
                  <a:lnTo>
                    <a:pt x="367" y="926"/>
                  </a:lnTo>
                  <a:lnTo>
                    <a:pt x="343" y="940"/>
                  </a:lnTo>
                  <a:lnTo>
                    <a:pt x="318" y="951"/>
                  </a:lnTo>
                  <a:lnTo>
                    <a:pt x="295" y="961"/>
                  </a:lnTo>
                  <a:lnTo>
                    <a:pt x="273" y="970"/>
                  </a:lnTo>
                  <a:lnTo>
                    <a:pt x="252" y="976"/>
                  </a:lnTo>
                  <a:lnTo>
                    <a:pt x="230" y="980"/>
                  </a:lnTo>
                  <a:lnTo>
                    <a:pt x="210" y="983"/>
                  </a:lnTo>
                  <a:lnTo>
                    <a:pt x="190" y="984"/>
                  </a:lnTo>
                  <a:lnTo>
                    <a:pt x="178" y="984"/>
                  </a:lnTo>
                  <a:lnTo>
                    <a:pt x="167" y="982"/>
                  </a:lnTo>
                  <a:lnTo>
                    <a:pt x="161" y="981"/>
                  </a:lnTo>
                  <a:lnTo>
                    <a:pt x="156" y="980"/>
                  </a:lnTo>
                  <a:lnTo>
                    <a:pt x="151" y="978"/>
                  </a:lnTo>
                  <a:lnTo>
                    <a:pt x="147" y="976"/>
                  </a:lnTo>
                  <a:lnTo>
                    <a:pt x="141" y="974"/>
                  </a:lnTo>
                  <a:lnTo>
                    <a:pt x="137" y="972"/>
                  </a:lnTo>
                  <a:lnTo>
                    <a:pt x="133" y="969"/>
                  </a:lnTo>
                  <a:lnTo>
                    <a:pt x="129" y="967"/>
                  </a:lnTo>
                  <a:lnTo>
                    <a:pt x="124" y="963"/>
                  </a:lnTo>
                  <a:lnTo>
                    <a:pt x="121" y="959"/>
                  </a:lnTo>
                  <a:lnTo>
                    <a:pt x="117" y="956"/>
                  </a:lnTo>
                  <a:lnTo>
                    <a:pt x="114" y="952"/>
                  </a:lnTo>
                  <a:lnTo>
                    <a:pt x="110" y="948"/>
                  </a:lnTo>
                  <a:lnTo>
                    <a:pt x="107" y="944"/>
                  </a:lnTo>
                  <a:lnTo>
                    <a:pt x="104" y="940"/>
                  </a:lnTo>
                  <a:lnTo>
                    <a:pt x="101" y="934"/>
                  </a:lnTo>
                  <a:lnTo>
                    <a:pt x="99" y="929"/>
                  </a:lnTo>
                  <a:lnTo>
                    <a:pt x="97" y="924"/>
                  </a:lnTo>
                  <a:lnTo>
                    <a:pt x="92" y="914"/>
                  </a:lnTo>
                  <a:lnTo>
                    <a:pt x="89" y="901"/>
                  </a:lnTo>
                  <a:lnTo>
                    <a:pt x="87" y="888"/>
                  </a:lnTo>
                  <a:lnTo>
                    <a:pt x="85" y="874"/>
                  </a:lnTo>
                  <a:lnTo>
                    <a:pt x="85" y="858"/>
                  </a:lnTo>
                  <a:lnTo>
                    <a:pt x="85" y="847"/>
                  </a:lnTo>
                  <a:lnTo>
                    <a:pt x="86" y="837"/>
                  </a:lnTo>
                  <a:lnTo>
                    <a:pt x="88" y="813"/>
                  </a:lnTo>
                  <a:lnTo>
                    <a:pt x="91" y="789"/>
                  </a:lnTo>
                  <a:lnTo>
                    <a:pt x="96" y="764"/>
                  </a:lnTo>
                  <a:lnTo>
                    <a:pt x="105" y="721"/>
                  </a:lnTo>
                  <a:lnTo>
                    <a:pt x="121" y="661"/>
                  </a:lnTo>
                  <a:lnTo>
                    <a:pt x="169" y="490"/>
                  </a:lnTo>
                  <a:lnTo>
                    <a:pt x="223" y="285"/>
                  </a:lnTo>
                  <a:lnTo>
                    <a:pt x="237" y="222"/>
                  </a:lnTo>
                  <a:lnTo>
                    <a:pt x="240" y="200"/>
                  </a:lnTo>
                  <a:lnTo>
                    <a:pt x="241" y="192"/>
                  </a:lnTo>
                  <a:lnTo>
                    <a:pt x="241" y="184"/>
                  </a:lnTo>
                  <a:lnTo>
                    <a:pt x="241" y="181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0" y="176"/>
                  </a:lnTo>
                  <a:lnTo>
                    <a:pt x="239" y="176"/>
                  </a:lnTo>
                  <a:lnTo>
                    <a:pt x="237" y="177"/>
                  </a:lnTo>
                  <a:lnTo>
                    <a:pt x="235" y="177"/>
                  </a:lnTo>
                  <a:lnTo>
                    <a:pt x="229" y="179"/>
                  </a:lnTo>
                  <a:lnTo>
                    <a:pt x="225" y="181"/>
                  </a:lnTo>
                  <a:lnTo>
                    <a:pt x="219" y="183"/>
                  </a:lnTo>
                  <a:lnTo>
                    <a:pt x="212" y="187"/>
                  </a:lnTo>
                  <a:lnTo>
                    <a:pt x="198" y="195"/>
                  </a:lnTo>
                  <a:lnTo>
                    <a:pt x="189" y="200"/>
                  </a:lnTo>
                  <a:lnTo>
                    <a:pt x="178" y="207"/>
                  </a:lnTo>
                  <a:lnTo>
                    <a:pt x="151" y="228"/>
                  </a:lnTo>
                  <a:lnTo>
                    <a:pt x="72" y="292"/>
                  </a:lnTo>
                  <a:lnTo>
                    <a:pt x="0" y="234"/>
                  </a:lnTo>
                  <a:lnTo>
                    <a:pt x="74" y="167"/>
                  </a:lnTo>
                  <a:lnTo>
                    <a:pt x="139" y="112"/>
                  </a:lnTo>
                  <a:lnTo>
                    <a:pt x="168" y="90"/>
                  </a:lnTo>
                  <a:lnTo>
                    <a:pt x="193" y="71"/>
                  </a:lnTo>
                  <a:lnTo>
                    <a:pt x="218" y="55"/>
                  </a:lnTo>
                  <a:lnTo>
                    <a:pt x="239" y="43"/>
                  </a:lnTo>
                  <a:lnTo>
                    <a:pt x="259" y="33"/>
                  </a:lnTo>
                  <a:lnTo>
                    <a:pt x="278" y="24"/>
                  </a:lnTo>
                  <a:lnTo>
                    <a:pt x="296" y="17"/>
                  </a:lnTo>
                  <a:lnTo>
                    <a:pt x="313" y="11"/>
                  </a:lnTo>
                  <a:lnTo>
                    <a:pt x="329" y="7"/>
                  </a:lnTo>
                  <a:lnTo>
                    <a:pt x="345" y="3"/>
                  </a:lnTo>
                  <a:lnTo>
                    <a:pt x="359" y="1"/>
                  </a:lnTo>
                  <a:lnTo>
                    <a:pt x="373" y="0"/>
                  </a:lnTo>
                  <a:lnTo>
                    <a:pt x="377" y="0"/>
                  </a:lnTo>
                  <a:lnTo>
                    <a:pt x="381" y="0"/>
                  </a:lnTo>
                  <a:lnTo>
                    <a:pt x="386" y="1"/>
                  </a:lnTo>
                  <a:lnTo>
                    <a:pt x="390" y="2"/>
                  </a:lnTo>
                  <a:lnTo>
                    <a:pt x="394" y="3"/>
                  </a:lnTo>
                  <a:lnTo>
                    <a:pt x="398" y="5"/>
                  </a:lnTo>
                  <a:lnTo>
                    <a:pt x="402" y="6"/>
                  </a:lnTo>
                  <a:lnTo>
                    <a:pt x="406" y="8"/>
                  </a:lnTo>
                  <a:lnTo>
                    <a:pt x="410" y="9"/>
                  </a:lnTo>
                  <a:lnTo>
                    <a:pt x="413" y="11"/>
                  </a:lnTo>
                  <a:lnTo>
                    <a:pt x="416" y="13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27" y="21"/>
                  </a:lnTo>
                  <a:lnTo>
                    <a:pt x="429" y="24"/>
                  </a:lnTo>
                  <a:lnTo>
                    <a:pt x="432" y="27"/>
                  </a:lnTo>
                  <a:lnTo>
                    <a:pt x="435" y="31"/>
                  </a:lnTo>
                  <a:lnTo>
                    <a:pt x="437" y="34"/>
                  </a:lnTo>
                  <a:lnTo>
                    <a:pt x="441" y="38"/>
                  </a:lnTo>
                  <a:lnTo>
                    <a:pt x="443" y="41"/>
                  </a:lnTo>
                  <a:lnTo>
                    <a:pt x="445" y="45"/>
                  </a:lnTo>
                  <a:lnTo>
                    <a:pt x="447" y="49"/>
                  </a:lnTo>
                  <a:lnTo>
                    <a:pt x="450" y="59"/>
                  </a:lnTo>
                  <a:lnTo>
                    <a:pt x="452" y="68"/>
                  </a:lnTo>
                  <a:lnTo>
                    <a:pt x="454" y="78"/>
                  </a:lnTo>
                  <a:lnTo>
                    <a:pt x="455" y="89"/>
                  </a:lnTo>
                  <a:lnTo>
                    <a:pt x="455" y="100"/>
                  </a:lnTo>
                  <a:lnTo>
                    <a:pt x="454" y="123"/>
                  </a:lnTo>
                  <a:lnTo>
                    <a:pt x="450" y="152"/>
                  </a:lnTo>
                  <a:lnTo>
                    <a:pt x="435" y="231"/>
                  </a:lnTo>
                  <a:lnTo>
                    <a:pt x="411" y="337"/>
                  </a:lnTo>
                  <a:lnTo>
                    <a:pt x="376" y="472"/>
                  </a:lnTo>
                  <a:lnTo>
                    <a:pt x="324" y="673"/>
                  </a:lnTo>
                  <a:lnTo>
                    <a:pt x="311" y="733"/>
                  </a:lnTo>
                  <a:lnTo>
                    <a:pt x="308" y="751"/>
                  </a:lnTo>
                  <a:lnTo>
                    <a:pt x="307" y="759"/>
                  </a:lnTo>
                  <a:lnTo>
                    <a:pt x="307" y="764"/>
                  </a:lnTo>
                  <a:lnTo>
                    <a:pt x="307" y="768"/>
                  </a:lnTo>
                  <a:lnTo>
                    <a:pt x="307" y="771"/>
                  </a:lnTo>
                  <a:lnTo>
                    <a:pt x="308" y="774"/>
                  </a:lnTo>
                  <a:lnTo>
                    <a:pt x="309" y="778"/>
                  </a:lnTo>
                  <a:lnTo>
                    <a:pt x="310" y="780"/>
                  </a:lnTo>
                  <a:lnTo>
                    <a:pt x="310" y="782"/>
                  </a:lnTo>
                  <a:lnTo>
                    <a:pt x="311" y="784"/>
                  </a:lnTo>
                  <a:lnTo>
                    <a:pt x="311" y="785"/>
                  </a:lnTo>
                  <a:lnTo>
                    <a:pt x="312" y="787"/>
                  </a:lnTo>
                  <a:lnTo>
                    <a:pt x="313" y="788"/>
                  </a:lnTo>
                  <a:lnTo>
                    <a:pt x="314" y="789"/>
                  </a:lnTo>
                  <a:lnTo>
                    <a:pt x="316" y="791"/>
                  </a:lnTo>
                  <a:lnTo>
                    <a:pt x="318" y="792"/>
                  </a:lnTo>
                  <a:lnTo>
                    <a:pt x="321" y="794"/>
                  </a:lnTo>
                  <a:lnTo>
                    <a:pt x="323" y="795"/>
                  </a:lnTo>
                  <a:lnTo>
                    <a:pt x="323" y="795"/>
                  </a:lnTo>
                  <a:lnTo>
                    <a:pt x="324" y="796"/>
                  </a:lnTo>
                  <a:lnTo>
                    <a:pt x="325" y="796"/>
                  </a:lnTo>
                  <a:lnTo>
                    <a:pt x="326" y="796"/>
                  </a:lnTo>
                  <a:lnTo>
                    <a:pt x="327" y="797"/>
                  </a:lnTo>
                  <a:lnTo>
                    <a:pt x="328" y="797"/>
                  </a:lnTo>
                  <a:lnTo>
                    <a:pt x="329" y="797"/>
                  </a:lnTo>
                  <a:lnTo>
                    <a:pt x="330" y="797"/>
                  </a:lnTo>
                  <a:lnTo>
                    <a:pt x="337" y="797"/>
                  </a:lnTo>
                  <a:lnTo>
                    <a:pt x="344" y="796"/>
                  </a:lnTo>
                  <a:lnTo>
                    <a:pt x="351" y="794"/>
                  </a:lnTo>
                  <a:lnTo>
                    <a:pt x="360" y="791"/>
                  </a:lnTo>
                  <a:lnTo>
                    <a:pt x="368" y="788"/>
                  </a:lnTo>
                  <a:lnTo>
                    <a:pt x="377" y="784"/>
                  </a:lnTo>
                  <a:lnTo>
                    <a:pt x="396" y="773"/>
                  </a:lnTo>
                  <a:lnTo>
                    <a:pt x="417" y="761"/>
                  </a:lnTo>
                  <a:lnTo>
                    <a:pt x="439" y="744"/>
                  </a:lnTo>
                  <a:lnTo>
                    <a:pt x="464" y="724"/>
                  </a:lnTo>
                  <a:lnTo>
                    <a:pt x="489" y="702"/>
                  </a:lnTo>
                  <a:lnTo>
                    <a:pt x="515" y="678"/>
                  </a:lnTo>
                  <a:lnTo>
                    <a:pt x="539" y="654"/>
                  </a:lnTo>
                  <a:lnTo>
                    <a:pt x="559" y="629"/>
                  </a:lnTo>
                  <a:lnTo>
                    <a:pt x="578" y="602"/>
                  </a:lnTo>
                  <a:lnTo>
                    <a:pt x="595" y="574"/>
                  </a:lnTo>
                  <a:lnTo>
                    <a:pt x="609" y="546"/>
                  </a:lnTo>
                  <a:lnTo>
                    <a:pt x="621" y="517"/>
                  </a:lnTo>
                  <a:lnTo>
                    <a:pt x="630" y="48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40680" y="1338120"/>
              <a:ext cx="361800" cy="355680"/>
            </a:xfrm>
            <a:custGeom>
              <a:avLst/>
              <a:gdLst/>
              <a:ahLst/>
              <a:rect l="l" t="t" r="r" b="b"/>
              <a:pathLst>
                <a:path w="1007" h="988">
                  <a:moveTo>
                    <a:pt x="754" y="28"/>
                  </a:moveTo>
                  <a:lnTo>
                    <a:pt x="952" y="28"/>
                  </a:lnTo>
                  <a:lnTo>
                    <a:pt x="847" y="432"/>
                  </a:lnTo>
                  <a:lnTo>
                    <a:pt x="779" y="686"/>
                  </a:lnTo>
                  <a:lnTo>
                    <a:pt x="762" y="761"/>
                  </a:lnTo>
                  <a:lnTo>
                    <a:pt x="758" y="785"/>
                  </a:lnTo>
                  <a:lnTo>
                    <a:pt x="757" y="793"/>
                  </a:lnTo>
                  <a:lnTo>
                    <a:pt x="757" y="799"/>
                  </a:lnTo>
                  <a:lnTo>
                    <a:pt x="757" y="802"/>
                  </a:lnTo>
                  <a:lnTo>
                    <a:pt x="757" y="805"/>
                  </a:lnTo>
                  <a:lnTo>
                    <a:pt x="757" y="807"/>
                  </a:lnTo>
                  <a:lnTo>
                    <a:pt x="758" y="810"/>
                  </a:lnTo>
                  <a:lnTo>
                    <a:pt x="758" y="812"/>
                  </a:lnTo>
                  <a:lnTo>
                    <a:pt x="758" y="813"/>
                  </a:lnTo>
                  <a:lnTo>
                    <a:pt x="759" y="814"/>
                  </a:lnTo>
                  <a:lnTo>
                    <a:pt x="759" y="814"/>
                  </a:lnTo>
                  <a:lnTo>
                    <a:pt x="759" y="815"/>
                  </a:lnTo>
                  <a:lnTo>
                    <a:pt x="760" y="816"/>
                  </a:lnTo>
                  <a:lnTo>
                    <a:pt x="760" y="816"/>
                  </a:lnTo>
                  <a:lnTo>
                    <a:pt x="761" y="817"/>
                  </a:lnTo>
                  <a:lnTo>
                    <a:pt x="761" y="817"/>
                  </a:lnTo>
                  <a:lnTo>
                    <a:pt x="762" y="818"/>
                  </a:lnTo>
                  <a:lnTo>
                    <a:pt x="763" y="818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4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5" y="819"/>
                  </a:lnTo>
                  <a:lnTo>
                    <a:pt x="769" y="819"/>
                  </a:lnTo>
                  <a:lnTo>
                    <a:pt x="772" y="818"/>
                  </a:lnTo>
                  <a:lnTo>
                    <a:pt x="775" y="818"/>
                  </a:lnTo>
                  <a:lnTo>
                    <a:pt x="779" y="817"/>
                  </a:lnTo>
                  <a:lnTo>
                    <a:pt x="782" y="815"/>
                  </a:lnTo>
                  <a:lnTo>
                    <a:pt x="787" y="814"/>
                  </a:lnTo>
                  <a:lnTo>
                    <a:pt x="790" y="811"/>
                  </a:lnTo>
                  <a:lnTo>
                    <a:pt x="794" y="808"/>
                  </a:lnTo>
                  <a:lnTo>
                    <a:pt x="805" y="801"/>
                  </a:lnTo>
                  <a:lnTo>
                    <a:pt x="817" y="792"/>
                  </a:lnTo>
                  <a:lnTo>
                    <a:pt x="850" y="764"/>
                  </a:lnTo>
                  <a:lnTo>
                    <a:pt x="948" y="678"/>
                  </a:lnTo>
                  <a:lnTo>
                    <a:pt x="1006" y="741"/>
                  </a:lnTo>
                  <a:lnTo>
                    <a:pt x="950" y="799"/>
                  </a:lnTo>
                  <a:lnTo>
                    <a:pt x="897" y="849"/>
                  </a:lnTo>
                  <a:lnTo>
                    <a:pt x="848" y="891"/>
                  </a:lnTo>
                  <a:lnTo>
                    <a:pt x="802" y="926"/>
                  </a:lnTo>
                  <a:lnTo>
                    <a:pt x="760" y="953"/>
                  </a:lnTo>
                  <a:lnTo>
                    <a:pt x="741" y="963"/>
                  </a:lnTo>
                  <a:lnTo>
                    <a:pt x="723" y="972"/>
                  </a:lnTo>
                  <a:lnTo>
                    <a:pt x="705" y="979"/>
                  </a:lnTo>
                  <a:lnTo>
                    <a:pt x="688" y="983"/>
                  </a:lnTo>
                  <a:lnTo>
                    <a:pt x="672" y="986"/>
                  </a:lnTo>
                  <a:lnTo>
                    <a:pt x="657" y="987"/>
                  </a:lnTo>
                  <a:lnTo>
                    <a:pt x="652" y="987"/>
                  </a:lnTo>
                  <a:lnTo>
                    <a:pt x="646" y="986"/>
                  </a:lnTo>
                  <a:lnTo>
                    <a:pt x="641" y="986"/>
                  </a:lnTo>
                  <a:lnTo>
                    <a:pt x="636" y="985"/>
                  </a:lnTo>
                  <a:lnTo>
                    <a:pt x="631" y="984"/>
                  </a:lnTo>
                  <a:lnTo>
                    <a:pt x="625" y="982"/>
                  </a:lnTo>
                  <a:lnTo>
                    <a:pt x="621" y="981"/>
                  </a:lnTo>
                  <a:lnTo>
                    <a:pt x="616" y="979"/>
                  </a:lnTo>
                  <a:lnTo>
                    <a:pt x="611" y="977"/>
                  </a:lnTo>
                  <a:lnTo>
                    <a:pt x="606" y="974"/>
                  </a:lnTo>
                  <a:lnTo>
                    <a:pt x="602" y="972"/>
                  </a:lnTo>
                  <a:lnTo>
                    <a:pt x="598" y="969"/>
                  </a:lnTo>
                  <a:lnTo>
                    <a:pt x="593" y="966"/>
                  </a:lnTo>
                  <a:lnTo>
                    <a:pt x="589" y="961"/>
                  </a:lnTo>
                  <a:lnTo>
                    <a:pt x="582" y="954"/>
                  </a:lnTo>
                  <a:lnTo>
                    <a:pt x="577" y="950"/>
                  </a:lnTo>
                  <a:lnTo>
                    <a:pt x="574" y="946"/>
                  </a:lnTo>
                  <a:lnTo>
                    <a:pt x="571" y="941"/>
                  </a:lnTo>
                  <a:lnTo>
                    <a:pt x="568" y="936"/>
                  </a:lnTo>
                  <a:lnTo>
                    <a:pt x="565" y="931"/>
                  </a:lnTo>
                  <a:lnTo>
                    <a:pt x="563" y="926"/>
                  </a:lnTo>
                  <a:lnTo>
                    <a:pt x="561" y="921"/>
                  </a:lnTo>
                  <a:lnTo>
                    <a:pt x="558" y="916"/>
                  </a:lnTo>
                  <a:lnTo>
                    <a:pt x="555" y="903"/>
                  </a:lnTo>
                  <a:lnTo>
                    <a:pt x="553" y="891"/>
                  </a:lnTo>
                  <a:lnTo>
                    <a:pt x="551" y="878"/>
                  </a:lnTo>
                  <a:lnTo>
                    <a:pt x="551" y="864"/>
                  </a:lnTo>
                  <a:lnTo>
                    <a:pt x="551" y="849"/>
                  </a:lnTo>
                  <a:lnTo>
                    <a:pt x="552" y="833"/>
                  </a:lnTo>
                  <a:lnTo>
                    <a:pt x="554" y="818"/>
                  </a:lnTo>
                  <a:lnTo>
                    <a:pt x="556" y="802"/>
                  </a:lnTo>
                  <a:lnTo>
                    <a:pt x="559" y="786"/>
                  </a:lnTo>
                  <a:lnTo>
                    <a:pt x="564" y="770"/>
                  </a:lnTo>
                  <a:lnTo>
                    <a:pt x="569" y="753"/>
                  </a:lnTo>
                  <a:lnTo>
                    <a:pt x="574" y="737"/>
                  </a:lnTo>
                  <a:lnTo>
                    <a:pt x="558" y="763"/>
                  </a:lnTo>
                  <a:lnTo>
                    <a:pt x="539" y="788"/>
                  </a:lnTo>
                  <a:lnTo>
                    <a:pt x="518" y="813"/>
                  </a:lnTo>
                  <a:lnTo>
                    <a:pt x="494" y="837"/>
                  </a:lnTo>
                  <a:lnTo>
                    <a:pt x="466" y="859"/>
                  </a:lnTo>
                  <a:lnTo>
                    <a:pt x="436" y="882"/>
                  </a:lnTo>
                  <a:lnTo>
                    <a:pt x="403" y="904"/>
                  </a:lnTo>
                  <a:lnTo>
                    <a:pt x="367" y="926"/>
                  </a:lnTo>
                  <a:lnTo>
                    <a:pt x="343" y="940"/>
                  </a:lnTo>
                  <a:lnTo>
                    <a:pt x="319" y="951"/>
                  </a:lnTo>
                  <a:lnTo>
                    <a:pt x="295" y="961"/>
                  </a:lnTo>
                  <a:lnTo>
                    <a:pt x="273" y="970"/>
                  </a:lnTo>
                  <a:lnTo>
                    <a:pt x="252" y="976"/>
                  </a:lnTo>
                  <a:lnTo>
                    <a:pt x="230" y="980"/>
                  </a:lnTo>
                  <a:lnTo>
                    <a:pt x="210" y="983"/>
                  </a:lnTo>
                  <a:lnTo>
                    <a:pt x="190" y="984"/>
                  </a:lnTo>
                  <a:lnTo>
                    <a:pt x="178" y="984"/>
                  </a:lnTo>
                  <a:lnTo>
                    <a:pt x="167" y="982"/>
                  </a:lnTo>
                  <a:lnTo>
                    <a:pt x="161" y="981"/>
                  </a:lnTo>
                  <a:lnTo>
                    <a:pt x="156" y="980"/>
                  </a:lnTo>
                  <a:lnTo>
                    <a:pt x="151" y="978"/>
                  </a:lnTo>
                  <a:lnTo>
                    <a:pt x="147" y="976"/>
                  </a:lnTo>
                  <a:lnTo>
                    <a:pt x="141" y="974"/>
                  </a:lnTo>
                  <a:lnTo>
                    <a:pt x="137" y="972"/>
                  </a:lnTo>
                  <a:lnTo>
                    <a:pt x="133" y="969"/>
                  </a:lnTo>
                  <a:lnTo>
                    <a:pt x="129" y="967"/>
                  </a:lnTo>
                  <a:lnTo>
                    <a:pt x="124" y="963"/>
                  </a:lnTo>
                  <a:lnTo>
                    <a:pt x="121" y="959"/>
                  </a:lnTo>
                  <a:lnTo>
                    <a:pt x="117" y="956"/>
                  </a:lnTo>
                  <a:lnTo>
                    <a:pt x="114" y="952"/>
                  </a:lnTo>
                  <a:lnTo>
                    <a:pt x="111" y="948"/>
                  </a:lnTo>
                  <a:lnTo>
                    <a:pt x="107" y="944"/>
                  </a:lnTo>
                  <a:lnTo>
                    <a:pt x="104" y="940"/>
                  </a:lnTo>
                  <a:lnTo>
                    <a:pt x="101" y="934"/>
                  </a:lnTo>
                  <a:lnTo>
                    <a:pt x="99" y="929"/>
                  </a:lnTo>
                  <a:lnTo>
                    <a:pt x="97" y="924"/>
                  </a:lnTo>
                  <a:lnTo>
                    <a:pt x="93" y="914"/>
                  </a:lnTo>
                  <a:lnTo>
                    <a:pt x="89" y="901"/>
                  </a:lnTo>
                  <a:lnTo>
                    <a:pt x="87" y="888"/>
                  </a:lnTo>
                  <a:lnTo>
                    <a:pt x="85" y="874"/>
                  </a:lnTo>
                  <a:lnTo>
                    <a:pt x="85" y="858"/>
                  </a:lnTo>
                  <a:lnTo>
                    <a:pt x="85" y="847"/>
                  </a:lnTo>
                  <a:lnTo>
                    <a:pt x="86" y="837"/>
                  </a:lnTo>
                  <a:lnTo>
                    <a:pt x="88" y="813"/>
                  </a:lnTo>
                  <a:lnTo>
                    <a:pt x="91" y="789"/>
                  </a:lnTo>
                  <a:lnTo>
                    <a:pt x="96" y="764"/>
                  </a:lnTo>
                  <a:lnTo>
                    <a:pt x="105" y="721"/>
                  </a:lnTo>
                  <a:lnTo>
                    <a:pt x="121" y="661"/>
                  </a:lnTo>
                  <a:lnTo>
                    <a:pt x="169" y="490"/>
                  </a:lnTo>
                  <a:lnTo>
                    <a:pt x="223" y="285"/>
                  </a:lnTo>
                  <a:lnTo>
                    <a:pt x="237" y="222"/>
                  </a:lnTo>
                  <a:lnTo>
                    <a:pt x="240" y="200"/>
                  </a:lnTo>
                  <a:lnTo>
                    <a:pt x="241" y="192"/>
                  </a:lnTo>
                  <a:lnTo>
                    <a:pt x="241" y="184"/>
                  </a:lnTo>
                  <a:lnTo>
                    <a:pt x="241" y="181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41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40" y="176"/>
                  </a:lnTo>
                  <a:lnTo>
                    <a:pt x="239" y="176"/>
                  </a:lnTo>
                  <a:lnTo>
                    <a:pt x="237" y="177"/>
                  </a:lnTo>
                  <a:lnTo>
                    <a:pt x="235" y="177"/>
                  </a:lnTo>
                  <a:lnTo>
                    <a:pt x="229" y="179"/>
                  </a:lnTo>
                  <a:lnTo>
                    <a:pt x="225" y="181"/>
                  </a:lnTo>
                  <a:lnTo>
                    <a:pt x="219" y="183"/>
                  </a:lnTo>
                  <a:lnTo>
                    <a:pt x="212" y="187"/>
                  </a:lnTo>
                  <a:lnTo>
                    <a:pt x="198" y="195"/>
                  </a:lnTo>
                  <a:lnTo>
                    <a:pt x="189" y="200"/>
                  </a:lnTo>
                  <a:lnTo>
                    <a:pt x="178" y="207"/>
                  </a:lnTo>
                  <a:lnTo>
                    <a:pt x="151" y="228"/>
                  </a:lnTo>
                  <a:lnTo>
                    <a:pt x="72" y="292"/>
                  </a:lnTo>
                  <a:lnTo>
                    <a:pt x="0" y="234"/>
                  </a:lnTo>
                  <a:lnTo>
                    <a:pt x="74" y="167"/>
                  </a:lnTo>
                  <a:lnTo>
                    <a:pt x="139" y="112"/>
                  </a:lnTo>
                  <a:lnTo>
                    <a:pt x="168" y="90"/>
                  </a:lnTo>
                  <a:lnTo>
                    <a:pt x="193" y="71"/>
                  </a:lnTo>
                  <a:lnTo>
                    <a:pt x="218" y="55"/>
                  </a:lnTo>
                  <a:lnTo>
                    <a:pt x="239" y="43"/>
                  </a:lnTo>
                  <a:lnTo>
                    <a:pt x="259" y="33"/>
                  </a:lnTo>
                  <a:lnTo>
                    <a:pt x="278" y="24"/>
                  </a:lnTo>
                  <a:lnTo>
                    <a:pt x="296" y="17"/>
                  </a:lnTo>
                  <a:lnTo>
                    <a:pt x="313" y="11"/>
                  </a:lnTo>
                  <a:lnTo>
                    <a:pt x="329" y="7"/>
                  </a:lnTo>
                  <a:lnTo>
                    <a:pt x="345" y="3"/>
                  </a:lnTo>
                  <a:lnTo>
                    <a:pt x="359" y="1"/>
                  </a:lnTo>
                  <a:lnTo>
                    <a:pt x="373" y="0"/>
                  </a:lnTo>
                  <a:lnTo>
                    <a:pt x="377" y="0"/>
                  </a:lnTo>
                  <a:lnTo>
                    <a:pt x="381" y="0"/>
                  </a:lnTo>
                  <a:lnTo>
                    <a:pt x="386" y="1"/>
                  </a:lnTo>
                  <a:lnTo>
                    <a:pt x="390" y="2"/>
                  </a:lnTo>
                  <a:lnTo>
                    <a:pt x="394" y="3"/>
                  </a:lnTo>
                  <a:lnTo>
                    <a:pt x="398" y="5"/>
                  </a:lnTo>
                  <a:lnTo>
                    <a:pt x="402" y="6"/>
                  </a:lnTo>
                  <a:lnTo>
                    <a:pt x="406" y="8"/>
                  </a:lnTo>
                  <a:lnTo>
                    <a:pt x="410" y="9"/>
                  </a:lnTo>
                  <a:lnTo>
                    <a:pt x="413" y="11"/>
                  </a:lnTo>
                  <a:lnTo>
                    <a:pt x="416" y="13"/>
                  </a:lnTo>
                  <a:lnTo>
                    <a:pt x="420" y="16"/>
                  </a:lnTo>
                  <a:lnTo>
                    <a:pt x="424" y="18"/>
                  </a:lnTo>
                  <a:lnTo>
                    <a:pt x="427" y="21"/>
                  </a:lnTo>
                  <a:lnTo>
                    <a:pt x="429" y="24"/>
                  </a:lnTo>
                  <a:lnTo>
                    <a:pt x="432" y="27"/>
                  </a:lnTo>
                  <a:lnTo>
                    <a:pt x="435" y="31"/>
                  </a:lnTo>
                  <a:lnTo>
                    <a:pt x="437" y="34"/>
                  </a:lnTo>
                  <a:lnTo>
                    <a:pt x="441" y="38"/>
                  </a:lnTo>
                  <a:lnTo>
                    <a:pt x="443" y="41"/>
                  </a:lnTo>
                  <a:lnTo>
                    <a:pt x="445" y="45"/>
                  </a:lnTo>
                  <a:lnTo>
                    <a:pt x="447" y="49"/>
                  </a:lnTo>
                  <a:lnTo>
                    <a:pt x="450" y="59"/>
                  </a:lnTo>
                  <a:lnTo>
                    <a:pt x="452" y="68"/>
                  </a:lnTo>
                  <a:lnTo>
                    <a:pt x="454" y="78"/>
                  </a:lnTo>
                  <a:lnTo>
                    <a:pt x="455" y="89"/>
                  </a:lnTo>
                  <a:lnTo>
                    <a:pt x="455" y="100"/>
                  </a:lnTo>
                  <a:lnTo>
                    <a:pt x="454" y="123"/>
                  </a:lnTo>
                  <a:lnTo>
                    <a:pt x="450" y="152"/>
                  </a:lnTo>
                  <a:lnTo>
                    <a:pt x="435" y="231"/>
                  </a:lnTo>
                  <a:lnTo>
                    <a:pt x="411" y="337"/>
                  </a:lnTo>
                  <a:lnTo>
                    <a:pt x="376" y="472"/>
                  </a:lnTo>
                  <a:lnTo>
                    <a:pt x="324" y="673"/>
                  </a:lnTo>
                  <a:lnTo>
                    <a:pt x="311" y="733"/>
                  </a:lnTo>
                  <a:lnTo>
                    <a:pt x="308" y="751"/>
                  </a:lnTo>
                  <a:lnTo>
                    <a:pt x="307" y="759"/>
                  </a:lnTo>
                  <a:lnTo>
                    <a:pt x="307" y="764"/>
                  </a:lnTo>
                  <a:lnTo>
                    <a:pt x="307" y="768"/>
                  </a:lnTo>
                  <a:lnTo>
                    <a:pt x="307" y="771"/>
                  </a:lnTo>
                  <a:lnTo>
                    <a:pt x="308" y="774"/>
                  </a:lnTo>
                  <a:lnTo>
                    <a:pt x="309" y="778"/>
                  </a:lnTo>
                  <a:lnTo>
                    <a:pt x="310" y="780"/>
                  </a:lnTo>
                  <a:lnTo>
                    <a:pt x="310" y="782"/>
                  </a:lnTo>
                  <a:lnTo>
                    <a:pt x="311" y="784"/>
                  </a:lnTo>
                  <a:lnTo>
                    <a:pt x="311" y="785"/>
                  </a:lnTo>
                  <a:lnTo>
                    <a:pt x="312" y="787"/>
                  </a:lnTo>
                  <a:lnTo>
                    <a:pt x="313" y="788"/>
                  </a:lnTo>
                  <a:lnTo>
                    <a:pt x="314" y="789"/>
                  </a:lnTo>
                  <a:lnTo>
                    <a:pt x="316" y="791"/>
                  </a:lnTo>
                  <a:lnTo>
                    <a:pt x="319" y="792"/>
                  </a:lnTo>
                  <a:lnTo>
                    <a:pt x="321" y="794"/>
                  </a:lnTo>
                  <a:lnTo>
                    <a:pt x="323" y="795"/>
                  </a:lnTo>
                  <a:lnTo>
                    <a:pt x="323" y="795"/>
                  </a:lnTo>
                  <a:lnTo>
                    <a:pt x="324" y="796"/>
                  </a:lnTo>
                  <a:lnTo>
                    <a:pt x="325" y="796"/>
                  </a:lnTo>
                  <a:lnTo>
                    <a:pt x="326" y="796"/>
                  </a:lnTo>
                  <a:lnTo>
                    <a:pt x="327" y="797"/>
                  </a:lnTo>
                  <a:lnTo>
                    <a:pt x="328" y="797"/>
                  </a:lnTo>
                  <a:lnTo>
                    <a:pt x="329" y="797"/>
                  </a:lnTo>
                  <a:lnTo>
                    <a:pt x="330" y="797"/>
                  </a:lnTo>
                  <a:lnTo>
                    <a:pt x="337" y="797"/>
                  </a:lnTo>
                  <a:lnTo>
                    <a:pt x="344" y="796"/>
                  </a:lnTo>
                  <a:lnTo>
                    <a:pt x="351" y="794"/>
                  </a:lnTo>
                  <a:lnTo>
                    <a:pt x="360" y="791"/>
                  </a:lnTo>
                  <a:lnTo>
                    <a:pt x="368" y="788"/>
                  </a:lnTo>
                  <a:lnTo>
                    <a:pt x="377" y="784"/>
                  </a:lnTo>
                  <a:lnTo>
                    <a:pt x="396" y="773"/>
                  </a:lnTo>
                  <a:lnTo>
                    <a:pt x="417" y="761"/>
                  </a:lnTo>
                  <a:lnTo>
                    <a:pt x="440" y="744"/>
                  </a:lnTo>
                  <a:lnTo>
                    <a:pt x="464" y="724"/>
                  </a:lnTo>
                  <a:lnTo>
                    <a:pt x="489" y="702"/>
                  </a:lnTo>
                  <a:lnTo>
                    <a:pt x="515" y="678"/>
                  </a:lnTo>
                  <a:lnTo>
                    <a:pt x="539" y="654"/>
                  </a:lnTo>
                  <a:lnTo>
                    <a:pt x="559" y="629"/>
                  </a:lnTo>
                  <a:lnTo>
                    <a:pt x="579" y="602"/>
                  </a:lnTo>
                  <a:lnTo>
                    <a:pt x="596" y="574"/>
                  </a:lnTo>
                  <a:lnTo>
                    <a:pt x="609" y="546"/>
                  </a:lnTo>
                  <a:lnTo>
                    <a:pt x="621" y="517"/>
                  </a:lnTo>
                  <a:lnTo>
                    <a:pt x="631" y="48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75480" y="1338120"/>
              <a:ext cx="538200" cy="355680"/>
            </a:xfrm>
            <a:custGeom>
              <a:avLst/>
              <a:gdLst/>
              <a:ahLst/>
              <a:rect l="l" t="t" r="r" b="b"/>
              <a:pathLst>
                <a:path w="1497" h="988">
                  <a:moveTo>
                    <a:pt x="363" y="292"/>
                  </a:moveTo>
                  <a:lnTo>
                    <a:pt x="291" y="233"/>
                  </a:lnTo>
                  <a:lnTo>
                    <a:pt x="350" y="179"/>
                  </a:lnTo>
                  <a:lnTo>
                    <a:pt x="405" y="131"/>
                  </a:lnTo>
                  <a:lnTo>
                    <a:pt x="457" y="92"/>
                  </a:lnTo>
                  <a:lnTo>
                    <a:pt x="506" y="59"/>
                  </a:lnTo>
                  <a:lnTo>
                    <a:pt x="552" y="34"/>
                  </a:lnTo>
                  <a:lnTo>
                    <a:pt x="573" y="23"/>
                  </a:lnTo>
                  <a:lnTo>
                    <a:pt x="593" y="15"/>
                  </a:lnTo>
                  <a:lnTo>
                    <a:pt x="612" y="9"/>
                  </a:lnTo>
                  <a:lnTo>
                    <a:pt x="631" y="5"/>
                  </a:lnTo>
                  <a:lnTo>
                    <a:pt x="648" y="1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3" y="1"/>
                  </a:lnTo>
                  <a:lnTo>
                    <a:pt x="692" y="3"/>
                  </a:lnTo>
                  <a:lnTo>
                    <a:pt x="700" y="6"/>
                  </a:lnTo>
                  <a:lnTo>
                    <a:pt x="708" y="9"/>
                  </a:lnTo>
                  <a:lnTo>
                    <a:pt x="714" y="13"/>
                  </a:lnTo>
                  <a:lnTo>
                    <a:pt x="721" y="17"/>
                  </a:lnTo>
                  <a:lnTo>
                    <a:pt x="726" y="23"/>
                  </a:lnTo>
                  <a:lnTo>
                    <a:pt x="731" y="28"/>
                  </a:lnTo>
                  <a:lnTo>
                    <a:pt x="735" y="35"/>
                  </a:lnTo>
                  <a:lnTo>
                    <a:pt x="740" y="42"/>
                  </a:lnTo>
                  <a:lnTo>
                    <a:pt x="744" y="50"/>
                  </a:lnTo>
                  <a:lnTo>
                    <a:pt x="746" y="59"/>
                  </a:lnTo>
                  <a:lnTo>
                    <a:pt x="749" y="68"/>
                  </a:lnTo>
                  <a:lnTo>
                    <a:pt x="751" y="78"/>
                  </a:lnTo>
                  <a:lnTo>
                    <a:pt x="752" y="89"/>
                  </a:lnTo>
                  <a:lnTo>
                    <a:pt x="820" y="740"/>
                  </a:lnTo>
                  <a:lnTo>
                    <a:pt x="1249" y="28"/>
                  </a:lnTo>
                  <a:lnTo>
                    <a:pt x="1441" y="28"/>
                  </a:lnTo>
                  <a:lnTo>
                    <a:pt x="1335" y="432"/>
                  </a:lnTo>
                  <a:lnTo>
                    <a:pt x="1268" y="685"/>
                  </a:lnTo>
                  <a:lnTo>
                    <a:pt x="1251" y="759"/>
                  </a:lnTo>
                  <a:lnTo>
                    <a:pt x="1247" y="782"/>
                  </a:lnTo>
                  <a:lnTo>
                    <a:pt x="1246" y="792"/>
                  </a:lnTo>
                  <a:lnTo>
                    <a:pt x="1246" y="798"/>
                  </a:lnTo>
                  <a:lnTo>
                    <a:pt x="1246" y="803"/>
                  </a:lnTo>
                  <a:lnTo>
                    <a:pt x="1247" y="806"/>
                  </a:lnTo>
                  <a:lnTo>
                    <a:pt x="1247" y="808"/>
                  </a:lnTo>
                  <a:lnTo>
                    <a:pt x="1247" y="811"/>
                  </a:lnTo>
                  <a:lnTo>
                    <a:pt x="1248" y="812"/>
                  </a:lnTo>
                  <a:lnTo>
                    <a:pt x="1248" y="813"/>
                  </a:lnTo>
                  <a:lnTo>
                    <a:pt x="1249" y="814"/>
                  </a:lnTo>
                  <a:lnTo>
                    <a:pt x="1249" y="815"/>
                  </a:lnTo>
                  <a:lnTo>
                    <a:pt x="1250" y="816"/>
                  </a:lnTo>
                  <a:lnTo>
                    <a:pt x="1251" y="817"/>
                  </a:lnTo>
                  <a:lnTo>
                    <a:pt x="1251" y="817"/>
                  </a:lnTo>
                  <a:lnTo>
                    <a:pt x="1251" y="817"/>
                  </a:lnTo>
                  <a:lnTo>
                    <a:pt x="1252" y="818"/>
                  </a:lnTo>
                  <a:lnTo>
                    <a:pt x="1252" y="818"/>
                  </a:lnTo>
                  <a:lnTo>
                    <a:pt x="1253" y="818"/>
                  </a:lnTo>
                  <a:lnTo>
                    <a:pt x="1253" y="818"/>
                  </a:lnTo>
                  <a:lnTo>
                    <a:pt x="1254" y="818"/>
                  </a:lnTo>
                  <a:lnTo>
                    <a:pt x="1256" y="818"/>
                  </a:lnTo>
                  <a:lnTo>
                    <a:pt x="1259" y="817"/>
                  </a:lnTo>
                  <a:lnTo>
                    <a:pt x="1264" y="816"/>
                  </a:lnTo>
                  <a:lnTo>
                    <a:pt x="1270" y="813"/>
                  </a:lnTo>
                  <a:lnTo>
                    <a:pt x="1278" y="810"/>
                  </a:lnTo>
                  <a:lnTo>
                    <a:pt x="1295" y="798"/>
                  </a:lnTo>
                  <a:lnTo>
                    <a:pt x="1316" y="784"/>
                  </a:lnTo>
                  <a:lnTo>
                    <a:pt x="1369" y="740"/>
                  </a:lnTo>
                  <a:lnTo>
                    <a:pt x="1437" y="678"/>
                  </a:lnTo>
                  <a:lnTo>
                    <a:pt x="1496" y="741"/>
                  </a:lnTo>
                  <a:lnTo>
                    <a:pt x="1440" y="799"/>
                  </a:lnTo>
                  <a:lnTo>
                    <a:pt x="1387" y="849"/>
                  </a:lnTo>
                  <a:lnTo>
                    <a:pt x="1338" y="891"/>
                  </a:lnTo>
                  <a:lnTo>
                    <a:pt x="1293" y="926"/>
                  </a:lnTo>
                  <a:lnTo>
                    <a:pt x="1250" y="953"/>
                  </a:lnTo>
                  <a:lnTo>
                    <a:pt x="1231" y="963"/>
                  </a:lnTo>
                  <a:lnTo>
                    <a:pt x="1213" y="972"/>
                  </a:lnTo>
                  <a:lnTo>
                    <a:pt x="1195" y="979"/>
                  </a:lnTo>
                  <a:lnTo>
                    <a:pt x="1178" y="983"/>
                  </a:lnTo>
                  <a:lnTo>
                    <a:pt x="1162" y="986"/>
                  </a:lnTo>
                  <a:lnTo>
                    <a:pt x="1147" y="987"/>
                  </a:lnTo>
                  <a:lnTo>
                    <a:pt x="1142" y="987"/>
                  </a:lnTo>
                  <a:lnTo>
                    <a:pt x="1138" y="986"/>
                  </a:lnTo>
                  <a:lnTo>
                    <a:pt x="1132" y="986"/>
                  </a:lnTo>
                  <a:lnTo>
                    <a:pt x="1128" y="985"/>
                  </a:lnTo>
                  <a:lnTo>
                    <a:pt x="1123" y="984"/>
                  </a:lnTo>
                  <a:lnTo>
                    <a:pt x="1118" y="982"/>
                  </a:lnTo>
                  <a:lnTo>
                    <a:pt x="1113" y="981"/>
                  </a:lnTo>
                  <a:lnTo>
                    <a:pt x="1109" y="979"/>
                  </a:lnTo>
                  <a:lnTo>
                    <a:pt x="1099" y="974"/>
                  </a:lnTo>
                  <a:lnTo>
                    <a:pt x="1091" y="969"/>
                  </a:lnTo>
                  <a:lnTo>
                    <a:pt x="1082" y="961"/>
                  </a:lnTo>
                  <a:lnTo>
                    <a:pt x="1074" y="954"/>
                  </a:lnTo>
                  <a:lnTo>
                    <a:pt x="1070" y="950"/>
                  </a:lnTo>
                  <a:lnTo>
                    <a:pt x="1066" y="946"/>
                  </a:lnTo>
                  <a:lnTo>
                    <a:pt x="1062" y="942"/>
                  </a:lnTo>
                  <a:lnTo>
                    <a:pt x="1059" y="936"/>
                  </a:lnTo>
                  <a:lnTo>
                    <a:pt x="1056" y="931"/>
                  </a:lnTo>
                  <a:lnTo>
                    <a:pt x="1054" y="926"/>
                  </a:lnTo>
                  <a:lnTo>
                    <a:pt x="1051" y="921"/>
                  </a:lnTo>
                  <a:lnTo>
                    <a:pt x="1048" y="916"/>
                  </a:lnTo>
                  <a:lnTo>
                    <a:pt x="1045" y="904"/>
                  </a:lnTo>
                  <a:lnTo>
                    <a:pt x="1042" y="891"/>
                  </a:lnTo>
                  <a:lnTo>
                    <a:pt x="1041" y="878"/>
                  </a:lnTo>
                  <a:lnTo>
                    <a:pt x="1040" y="864"/>
                  </a:lnTo>
                  <a:lnTo>
                    <a:pt x="1041" y="842"/>
                  </a:lnTo>
                  <a:lnTo>
                    <a:pt x="1045" y="813"/>
                  </a:lnTo>
                  <a:lnTo>
                    <a:pt x="1059" y="735"/>
                  </a:lnTo>
                  <a:lnTo>
                    <a:pt x="1083" y="631"/>
                  </a:lnTo>
                  <a:lnTo>
                    <a:pt x="1117" y="500"/>
                  </a:lnTo>
                  <a:lnTo>
                    <a:pt x="1183" y="276"/>
                  </a:lnTo>
                  <a:lnTo>
                    <a:pt x="773" y="977"/>
                  </a:lnTo>
                  <a:lnTo>
                    <a:pt x="656" y="977"/>
                  </a:lnTo>
                  <a:lnTo>
                    <a:pt x="594" y="353"/>
                  </a:lnTo>
                  <a:lnTo>
                    <a:pt x="535" y="545"/>
                  </a:lnTo>
                  <a:lnTo>
                    <a:pt x="505" y="626"/>
                  </a:lnTo>
                  <a:lnTo>
                    <a:pt x="478" y="697"/>
                  </a:lnTo>
                  <a:lnTo>
                    <a:pt x="450" y="759"/>
                  </a:lnTo>
                  <a:lnTo>
                    <a:pt x="422" y="808"/>
                  </a:lnTo>
                  <a:lnTo>
                    <a:pt x="410" y="830"/>
                  </a:lnTo>
                  <a:lnTo>
                    <a:pt x="396" y="849"/>
                  </a:lnTo>
                  <a:lnTo>
                    <a:pt x="383" y="866"/>
                  </a:lnTo>
                  <a:lnTo>
                    <a:pt x="370" y="879"/>
                  </a:lnTo>
                  <a:lnTo>
                    <a:pt x="345" y="902"/>
                  </a:lnTo>
                  <a:lnTo>
                    <a:pt x="318" y="922"/>
                  </a:lnTo>
                  <a:lnTo>
                    <a:pt x="291" y="940"/>
                  </a:lnTo>
                  <a:lnTo>
                    <a:pt x="262" y="953"/>
                  </a:lnTo>
                  <a:lnTo>
                    <a:pt x="247" y="959"/>
                  </a:lnTo>
                  <a:lnTo>
                    <a:pt x="233" y="964"/>
                  </a:lnTo>
                  <a:lnTo>
                    <a:pt x="219" y="969"/>
                  </a:lnTo>
                  <a:lnTo>
                    <a:pt x="204" y="972"/>
                  </a:lnTo>
                  <a:lnTo>
                    <a:pt x="188" y="975"/>
                  </a:lnTo>
                  <a:lnTo>
                    <a:pt x="173" y="977"/>
                  </a:lnTo>
                  <a:lnTo>
                    <a:pt x="157" y="978"/>
                  </a:lnTo>
                  <a:lnTo>
                    <a:pt x="141" y="978"/>
                  </a:lnTo>
                  <a:lnTo>
                    <a:pt x="124" y="977"/>
                  </a:lnTo>
                  <a:lnTo>
                    <a:pt x="109" y="976"/>
                  </a:lnTo>
                  <a:lnTo>
                    <a:pt x="94" y="973"/>
                  </a:lnTo>
                  <a:lnTo>
                    <a:pt x="81" y="970"/>
                  </a:lnTo>
                  <a:lnTo>
                    <a:pt x="74" y="967"/>
                  </a:lnTo>
                  <a:lnTo>
                    <a:pt x="68" y="964"/>
                  </a:lnTo>
                  <a:lnTo>
                    <a:pt x="61" y="961"/>
                  </a:lnTo>
                  <a:lnTo>
                    <a:pt x="56" y="958"/>
                  </a:lnTo>
                  <a:lnTo>
                    <a:pt x="51" y="954"/>
                  </a:lnTo>
                  <a:lnTo>
                    <a:pt x="46" y="950"/>
                  </a:lnTo>
                  <a:lnTo>
                    <a:pt x="40" y="946"/>
                  </a:lnTo>
                  <a:lnTo>
                    <a:pt x="36" y="942"/>
                  </a:lnTo>
                  <a:lnTo>
                    <a:pt x="28" y="932"/>
                  </a:lnTo>
                  <a:lnTo>
                    <a:pt x="20" y="922"/>
                  </a:lnTo>
                  <a:lnTo>
                    <a:pt x="14" y="912"/>
                  </a:lnTo>
                  <a:lnTo>
                    <a:pt x="12" y="907"/>
                  </a:lnTo>
                  <a:lnTo>
                    <a:pt x="8" y="902"/>
                  </a:lnTo>
                  <a:lnTo>
                    <a:pt x="6" y="896"/>
                  </a:lnTo>
                  <a:lnTo>
                    <a:pt x="5" y="891"/>
                  </a:lnTo>
                  <a:lnTo>
                    <a:pt x="2" y="879"/>
                  </a:lnTo>
                  <a:lnTo>
                    <a:pt x="1" y="868"/>
                  </a:lnTo>
                  <a:lnTo>
                    <a:pt x="0" y="855"/>
                  </a:lnTo>
                  <a:lnTo>
                    <a:pt x="0" y="844"/>
                  </a:lnTo>
                  <a:lnTo>
                    <a:pt x="2" y="832"/>
                  </a:lnTo>
                  <a:lnTo>
                    <a:pt x="4" y="822"/>
                  </a:lnTo>
                  <a:lnTo>
                    <a:pt x="8" y="812"/>
                  </a:lnTo>
                  <a:lnTo>
                    <a:pt x="13" y="801"/>
                  </a:lnTo>
                  <a:lnTo>
                    <a:pt x="18" y="792"/>
                  </a:lnTo>
                  <a:lnTo>
                    <a:pt x="25" y="782"/>
                  </a:lnTo>
                  <a:lnTo>
                    <a:pt x="33" y="773"/>
                  </a:lnTo>
                  <a:lnTo>
                    <a:pt x="41" y="765"/>
                  </a:lnTo>
                  <a:lnTo>
                    <a:pt x="46" y="761"/>
                  </a:lnTo>
                  <a:lnTo>
                    <a:pt x="50" y="758"/>
                  </a:lnTo>
                  <a:lnTo>
                    <a:pt x="54" y="754"/>
                  </a:lnTo>
                  <a:lnTo>
                    <a:pt x="59" y="751"/>
                  </a:lnTo>
                  <a:lnTo>
                    <a:pt x="65" y="748"/>
                  </a:lnTo>
                  <a:lnTo>
                    <a:pt x="69" y="746"/>
                  </a:lnTo>
                  <a:lnTo>
                    <a:pt x="74" y="744"/>
                  </a:lnTo>
                  <a:lnTo>
                    <a:pt x="80" y="742"/>
                  </a:lnTo>
                  <a:lnTo>
                    <a:pt x="85" y="740"/>
                  </a:lnTo>
                  <a:lnTo>
                    <a:pt x="91" y="739"/>
                  </a:lnTo>
                  <a:lnTo>
                    <a:pt x="97" y="738"/>
                  </a:lnTo>
                  <a:lnTo>
                    <a:pt x="103" y="738"/>
                  </a:lnTo>
                  <a:lnTo>
                    <a:pt x="115" y="737"/>
                  </a:lnTo>
                  <a:lnTo>
                    <a:pt x="122" y="737"/>
                  </a:lnTo>
                  <a:lnTo>
                    <a:pt x="130" y="738"/>
                  </a:lnTo>
                  <a:lnTo>
                    <a:pt x="139" y="739"/>
                  </a:lnTo>
                  <a:lnTo>
                    <a:pt x="147" y="741"/>
                  </a:lnTo>
                  <a:lnTo>
                    <a:pt x="157" y="744"/>
                  </a:lnTo>
                  <a:lnTo>
                    <a:pt x="167" y="746"/>
                  </a:lnTo>
                  <a:lnTo>
                    <a:pt x="187" y="753"/>
                  </a:lnTo>
                  <a:lnTo>
                    <a:pt x="206" y="761"/>
                  </a:lnTo>
                  <a:lnTo>
                    <a:pt x="221" y="765"/>
                  </a:lnTo>
                  <a:lnTo>
                    <a:pt x="227" y="767"/>
                  </a:lnTo>
                  <a:lnTo>
                    <a:pt x="233" y="768"/>
                  </a:lnTo>
                  <a:lnTo>
                    <a:pt x="238" y="769"/>
                  </a:lnTo>
                  <a:lnTo>
                    <a:pt x="240" y="769"/>
                  </a:lnTo>
                  <a:lnTo>
                    <a:pt x="242" y="769"/>
                  </a:lnTo>
                  <a:lnTo>
                    <a:pt x="247" y="769"/>
                  </a:lnTo>
                  <a:lnTo>
                    <a:pt x="251" y="768"/>
                  </a:lnTo>
                  <a:lnTo>
                    <a:pt x="257" y="767"/>
                  </a:lnTo>
                  <a:lnTo>
                    <a:pt x="261" y="766"/>
                  </a:lnTo>
                  <a:lnTo>
                    <a:pt x="266" y="764"/>
                  </a:lnTo>
                  <a:lnTo>
                    <a:pt x="272" y="762"/>
                  </a:lnTo>
                  <a:lnTo>
                    <a:pt x="277" y="759"/>
                  </a:lnTo>
                  <a:lnTo>
                    <a:pt x="282" y="755"/>
                  </a:lnTo>
                  <a:lnTo>
                    <a:pt x="292" y="748"/>
                  </a:lnTo>
                  <a:lnTo>
                    <a:pt x="302" y="740"/>
                  </a:lnTo>
                  <a:lnTo>
                    <a:pt x="314" y="729"/>
                  </a:lnTo>
                  <a:lnTo>
                    <a:pt x="325" y="717"/>
                  </a:lnTo>
                  <a:lnTo>
                    <a:pt x="330" y="710"/>
                  </a:lnTo>
                  <a:lnTo>
                    <a:pt x="336" y="701"/>
                  </a:lnTo>
                  <a:lnTo>
                    <a:pt x="350" y="681"/>
                  </a:lnTo>
                  <a:lnTo>
                    <a:pt x="365" y="654"/>
                  </a:lnTo>
                  <a:lnTo>
                    <a:pt x="382" y="622"/>
                  </a:lnTo>
                  <a:lnTo>
                    <a:pt x="420" y="542"/>
                  </a:lnTo>
                  <a:lnTo>
                    <a:pt x="464" y="440"/>
                  </a:lnTo>
                  <a:lnTo>
                    <a:pt x="505" y="339"/>
                  </a:lnTo>
                  <a:lnTo>
                    <a:pt x="535" y="261"/>
                  </a:lnTo>
                  <a:lnTo>
                    <a:pt x="544" y="230"/>
                  </a:lnTo>
                  <a:lnTo>
                    <a:pt x="552" y="205"/>
                  </a:lnTo>
                  <a:lnTo>
                    <a:pt x="557" y="187"/>
                  </a:lnTo>
                  <a:lnTo>
                    <a:pt x="558" y="179"/>
                  </a:lnTo>
                  <a:lnTo>
                    <a:pt x="558" y="173"/>
                  </a:lnTo>
                  <a:lnTo>
                    <a:pt x="558" y="172"/>
                  </a:lnTo>
                  <a:lnTo>
                    <a:pt x="558" y="172"/>
                  </a:lnTo>
                  <a:lnTo>
                    <a:pt x="558" y="171"/>
                  </a:lnTo>
                  <a:lnTo>
                    <a:pt x="558" y="171"/>
                  </a:lnTo>
                  <a:lnTo>
                    <a:pt x="557" y="171"/>
                  </a:lnTo>
                  <a:lnTo>
                    <a:pt x="557" y="170"/>
                  </a:lnTo>
                  <a:lnTo>
                    <a:pt x="557" y="170"/>
                  </a:lnTo>
                  <a:lnTo>
                    <a:pt x="557" y="169"/>
                  </a:lnTo>
                  <a:lnTo>
                    <a:pt x="556" y="169"/>
                  </a:lnTo>
                  <a:lnTo>
                    <a:pt x="556" y="169"/>
                  </a:lnTo>
                  <a:lnTo>
                    <a:pt x="555" y="169"/>
                  </a:lnTo>
                  <a:lnTo>
                    <a:pt x="555" y="168"/>
                  </a:lnTo>
                  <a:lnTo>
                    <a:pt x="555" y="168"/>
                  </a:lnTo>
                  <a:lnTo>
                    <a:pt x="554" y="168"/>
                  </a:lnTo>
                  <a:lnTo>
                    <a:pt x="554" y="168"/>
                  </a:lnTo>
                  <a:lnTo>
                    <a:pt x="553" y="168"/>
                  </a:lnTo>
                  <a:lnTo>
                    <a:pt x="545" y="168"/>
                  </a:lnTo>
                  <a:lnTo>
                    <a:pt x="538" y="170"/>
                  </a:lnTo>
                  <a:lnTo>
                    <a:pt x="530" y="172"/>
                  </a:lnTo>
                  <a:lnTo>
                    <a:pt x="520" y="175"/>
                  </a:lnTo>
                  <a:lnTo>
                    <a:pt x="510" y="180"/>
                  </a:lnTo>
                  <a:lnTo>
                    <a:pt x="500" y="185"/>
                  </a:lnTo>
                  <a:lnTo>
                    <a:pt x="478" y="199"/>
                  </a:lnTo>
                  <a:lnTo>
                    <a:pt x="453" y="217"/>
                  </a:lnTo>
                  <a:lnTo>
                    <a:pt x="426" y="23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32760" y="1336680"/>
              <a:ext cx="264960" cy="352440"/>
            </a:xfrm>
            <a:custGeom>
              <a:avLst/>
              <a:gdLst/>
              <a:ahLst/>
              <a:rect l="l" t="t" r="r" b="b"/>
              <a:pathLst>
                <a:path w="735" h="981">
                  <a:moveTo>
                    <a:pt x="614" y="639"/>
                  </a:moveTo>
                  <a:lnTo>
                    <a:pt x="669" y="711"/>
                  </a:lnTo>
                  <a:lnTo>
                    <a:pt x="599" y="774"/>
                  </a:lnTo>
                  <a:lnTo>
                    <a:pt x="532" y="828"/>
                  </a:lnTo>
                  <a:lnTo>
                    <a:pt x="467" y="875"/>
                  </a:lnTo>
                  <a:lnTo>
                    <a:pt x="406" y="912"/>
                  </a:lnTo>
                  <a:lnTo>
                    <a:pt x="346" y="943"/>
                  </a:lnTo>
                  <a:lnTo>
                    <a:pt x="318" y="954"/>
                  </a:lnTo>
                  <a:lnTo>
                    <a:pt x="289" y="963"/>
                  </a:lnTo>
                  <a:lnTo>
                    <a:pt x="261" y="971"/>
                  </a:lnTo>
                  <a:lnTo>
                    <a:pt x="235" y="976"/>
                  </a:lnTo>
                  <a:lnTo>
                    <a:pt x="208" y="979"/>
                  </a:lnTo>
                  <a:lnTo>
                    <a:pt x="183" y="980"/>
                  </a:lnTo>
                  <a:lnTo>
                    <a:pt x="162" y="979"/>
                  </a:lnTo>
                  <a:lnTo>
                    <a:pt x="142" y="977"/>
                  </a:lnTo>
                  <a:lnTo>
                    <a:pt x="132" y="975"/>
                  </a:lnTo>
                  <a:lnTo>
                    <a:pt x="122" y="972"/>
                  </a:lnTo>
                  <a:lnTo>
                    <a:pt x="113" y="969"/>
                  </a:lnTo>
                  <a:lnTo>
                    <a:pt x="104" y="965"/>
                  </a:lnTo>
                  <a:lnTo>
                    <a:pt x="96" y="962"/>
                  </a:lnTo>
                  <a:lnTo>
                    <a:pt x="88" y="957"/>
                  </a:lnTo>
                  <a:lnTo>
                    <a:pt x="81" y="953"/>
                  </a:lnTo>
                  <a:lnTo>
                    <a:pt x="74" y="948"/>
                  </a:lnTo>
                  <a:lnTo>
                    <a:pt x="66" y="941"/>
                  </a:lnTo>
                  <a:lnTo>
                    <a:pt x="60" y="935"/>
                  </a:lnTo>
                  <a:lnTo>
                    <a:pt x="53" y="929"/>
                  </a:lnTo>
                  <a:lnTo>
                    <a:pt x="47" y="922"/>
                  </a:lnTo>
                  <a:lnTo>
                    <a:pt x="42" y="914"/>
                  </a:lnTo>
                  <a:lnTo>
                    <a:pt x="36" y="906"/>
                  </a:lnTo>
                  <a:lnTo>
                    <a:pt x="31" y="898"/>
                  </a:lnTo>
                  <a:lnTo>
                    <a:pt x="27" y="888"/>
                  </a:lnTo>
                  <a:lnTo>
                    <a:pt x="18" y="869"/>
                  </a:lnTo>
                  <a:lnTo>
                    <a:pt x="12" y="847"/>
                  </a:lnTo>
                  <a:lnTo>
                    <a:pt x="7" y="823"/>
                  </a:lnTo>
                  <a:lnTo>
                    <a:pt x="4" y="798"/>
                  </a:lnTo>
                  <a:lnTo>
                    <a:pt x="1" y="770"/>
                  </a:lnTo>
                  <a:lnTo>
                    <a:pt x="0" y="741"/>
                  </a:lnTo>
                  <a:lnTo>
                    <a:pt x="3" y="681"/>
                  </a:lnTo>
                  <a:lnTo>
                    <a:pt x="10" y="622"/>
                  </a:lnTo>
                  <a:lnTo>
                    <a:pt x="21" y="564"/>
                  </a:lnTo>
                  <a:lnTo>
                    <a:pt x="38" y="505"/>
                  </a:lnTo>
                  <a:lnTo>
                    <a:pt x="58" y="446"/>
                  </a:lnTo>
                  <a:lnTo>
                    <a:pt x="83" y="388"/>
                  </a:lnTo>
                  <a:lnTo>
                    <a:pt x="113" y="329"/>
                  </a:lnTo>
                  <a:lnTo>
                    <a:pt x="147" y="271"/>
                  </a:lnTo>
                  <a:lnTo>
                    <a:pt x="189" y="207"/>
                  </a:lnTo>
                  <a:lnTo>
                    <a:pt x="235" y="152"/>
                  </a:lnTo>
                  <a:lnTo>
                    <a:pt x="258" y="128"/>
                  </a:lnTo>
                  <a:lnTo>
                    <a:pt x="282" y="106"/>
                  </a:lnTo>
                  <a:lnTo>
                    <a:pt x="306" y="86"/>
                  </a:lnTo>
                  <a:lnTo>
                    <a:pt x="330" y="68"/>
                  </a:lnTo>
                  <a:lnTo>
                    <a:pt x="356" y="52"/>
                  </a:lnTo>
                  <a:lnTo>
                    <a:pt x="382" y="39"/>
                  </a:lnTo>
                  <a:lnTo>
                    <a:pt x="409" y="26"/>
                  </a:lnTo>
                  <a:lnTo>
                    <a:pt x="436" y="17"/>
                  </a:lnTo>
                  <a:lnTo>
                    <a:pt x="463" y="10"/>
                  </a:lnTo>
                  <a:lnTo>
                    <a:pt x="492" y="4"/>
                  </a:lnTo>
                  <a:lnTo>
                    <a:pt x="520" y="1"/>
                  </a:lnTo>
                  <a:lnTo>
                    <a:pt x="549" y="0"/>
                  </a:lnTo>
                  <a:lnTo>
                    <a:pt x="570" y="1"/>
                  </a:lnTo>
                  <a:lnTo>
                    <a:pt x="590" y="3"/>
                  </a:lnTo>
                  <a:lnTo>
                    <a:pt x="610" y="6"/>
                  </a:lnTo>
                  <a:lnTo>
                    <a:pt x="627" y="12"/>
                  </a:lnTo>
                  <a:lnTo>
                    <a:pt x="644" y="18"/>
                  </a:lnTo>
                  <a:lnTo>
                    <a:pt x="651" y="22"/>
                  </a:lnTo>
                  <a:lnTo>
                    <a:pt x="658" y="25"/>
                  </a:lnTo>
                  <a:lnTo>
                    <a:pt x="666" y="30"/>
                  </a:lnTo>
                  <a:lnTo>
                    <a:pt x="672" y="35"/>
                  </a:lnTo>
                  <a:lnTo>
                    <a:pt x="679" y="40"/>
                  </a:lnTo>
                  <a:lnTo>
                    <a:pt x="685" y="45"/>
                  </a:lnTo>
                  <a:lnTo>
                    <a:pt x="691" y="51"/>
                  </a:lnTo>
                  <a:lnTo>
                    <a:pt x="697" y="56"/>
                  </a:lnTo>
                  <a:lnTo>
                    <a:pt x="702" y="63"/>
                  </a:lnTo>
                  <a:lnTo>
                    <a:pt x="706" y="70"/>
                  </a:lnTo>
                  <a:lnTo>
                    <a:pt x="710" y="76"/>
                  </a:lnTo>
                  <a:lnTo>
                    <a:pt x="715" y="83"/>
                  </a:lnTo>
                  <a:lnTo>
                    <a:pt x="719" y="91"/>
                  </a:lnTo>
                  <a:lnTo>
                    <a:pt x="722" y="98"/>
                  </a:lnTo>
                  <a:lnTo>
                    <a:pt x="724" y="105"/>
                  </a:lnTo>
                  <a:lnTo>
                    <a:pt x="727" y="114"/>
                  </a:lnTo>
                  <a:lnTo>
                    <a:pt x="731" y="130"/>
                  </a:lnTo>
                  <a:lnTo>
                    <a:pt x="733" y="147"/>
                  </a:lnTo>
                  <a:lnTo>
                    <a:pt x="734" y="166"/>
                  </a:lnTo>
                  <a:lnTo>
                    <a:pt x="733" y="185"/>
                  </a:lnTo>
                  <a:lnTo>
                    <a:pt x="731" y="204"/>
                  </a:lnTo>
                  <a:lnTo>
                    <a:pt x="726" y="223"/>
                  </a:lnTo>
                  <a:lnTo>
                    <a:pt x="720" y="242"/>
                  </a:lnTo>
                  <a:lnTo>
                    <a:pt x="712" y="260"/>
                  </a:lnTo>
                  <a:lnTo>
                    <a:pt x="704" y="279"/>
                  </a:lnTo>
                  <a:lnTo>
                    <a:pt x="693" y="297"/>
                  </a:lnTo>
                  <a:lnTo>
                    <a:pt x="681" y="315"/>
                  </a:lnTo>
                  <a:lnTo>
                    <a:pt x="667" y="333"/>
                  </a:lnTo>
                  <a:lnTo>
                    <a:pt x="650" y="351"/>
                  </a:lnTo>
                  <a:lnTo>
                    <a:pt x="632" y="369"/>
                  </a:lnTo>
                  <a:lnTo>
                    <a:pt x="611" y="387"/>
                  </a:lnTo>
                  <a:lnTo>
                    <a:pt x="588" y="405"/>
                  </a:lnTo>
                  <a:lnTo>
                    <a:pt x="563" y="423"/>
                  </a:lnTo>
                  <a:lnTo>
                    <a:pt x="536" y="439"/>
                  </a:lnTo>
                  <a:lnTo>
                    <a:pt x="507" y="457"/>
                  </a:lnTo>
                  <a:lnTo>
                    <a:pt x="461" y="482"/>
                  </a:lnTo>
                  <a:lnTo>
                    <a:pt x="399" y="512"/>
                  </a:lnTo>
                  <a:lnTo>
                    <a:pt x="232" y="588"/>
                  </a:lnTo>
                  <a:lnTo>
                    <a:pt x="229" y="611"/>
                  </a:lnTo>
                  <a:lnTo>
                    <a:pt x="226" y="635"/>
                  </a:lnTo>
                  <a:lnTo>
                    <a:pt x="225" y="659"/>
                  </a:lnTo>
                  <a:lnTo>
                    <a:pt x="224" y="684"/>
                  </a:lnTo>
                  <a:lnTo>
                    <a:pt x="224" y="700"/>
                  </a:lnTo>
                  <a:lnTo>
                    <a:pt x="225" y="715"/>
                  </a:lnTo>
                  <a:lnTo>
                    <a:pt x="228" y="728"/>
                  </a:lnTo>
                  <a:lnTo>
                    <a:pt x="230" y="741"/>
                  </a:lnTo>
                  <a:lnTo>
                    <a:pt x="232" y="752"/>
                  </a:lnTo>
                  <a:lnTo>
                    <a:pt x="234" y="756"/>
                  </a:lnTo>
                  <a:lnTo>
                    <a:pt x="235" y="762"/>
                  </a:lnTo>
                  <a:lnTo>
                    <a:pt x="237" y="765"/>
                  </a:lnTo>
                  <a:lnTo>
                    <a:pt x="239" y="769"/>
                  </a:lnTo>
                  <a:lnTo>
                    <a:pt x="241" y="772"/>
                  </a:lnTo>
                  <a:lnTo>
                    <a:pt x="243" y="775"/>
                  </a:lnTo>
                  <a:lnTo>
                    <a:pt x="246" y="778"/>
                  </a:lnTo>
                  <a:lnTo>
                    <a:pt x="249" y="780"/>
                  </a:lnTo>
                  <a:lnTo>
                    <a:pt x="251" y="783"/>
                  </a:lnTo>
                  <a:lnTo>
                    <a:pt x="254" y="785"/>
                  </a:lnTo>
                  <a:lnTo>
                    <a:pt x="257" y="788"/>
                  </a:lnTo>
                  <a:lnTo>
                    <a:pt x="260" y="790"/>
                  </a:lnTo>
                  <a:lnTo>
                    <a:pt x="264" y="791"/>
                  </a:lnTo>
                  <a:lnTo>
                    <a:pt x="267" y="793"/>
                  </a:lnTo>
                  <a:lnTo>
                    <a:pt x="270" y="794"/>
                  </a:lnTo>
                  <a:lnTo>
                    <a:pt x="273" y="795"/>
                  </a:lnTo>
                  <a:lnTo>
                    <a:pt x="277" y="796"/>
                  </a:lnTo>
                  <a:lnTo>
                    <a:pt x="281" y="797"/>
                  </a:lnTo>
                  <a:lnTo>
                    <a:pt x="289" y="798"/>
                  </a:lnTo>
                  <a:lnTo>
                    <a:pt x="298" y="798"/>
                  </a:lnTo>
                  <a:lnTo>
                    <a:pt x="308" y="798"/>
                  </a:lnTo>
                  <a:lnTo>
                    <a:pt x="318" y="797"/>
                  </a:lnTo>
                  <a:lnTo>
                    <a:pt x="328" y="795"/>
                  </a:lnTo>
                  <a:lnTo>
                    <a:pt x="340" y="793"/>
                  </a:lnTo>
                  <a:lnTo>
                    <a:pt x="351" y="790"/>
                  </a:lnTo>
                  <a:lnTo>
                    <a:pt x="362" y="785"/>
                  </a:lnTo>
                  <a:lnTo>
                    <a:pt x="375" y="780"/>
                  </a:lnTo>
                  <a:lnTo>
                    <a:pt x="387" y="775"/>
                  </a:lnTo>
                  <a:lnTo>
                    <a:pt x="406" y="766"/>
                  </a:lnTo>
                  <a:lnTo>
                    <a:pt x="428" y="755"/>
                  </a:lnTo>
                  <a:lnTo>
                    <a:pt x="479" y="725"/>
                  </a:lnTo>
                  <a:lnTo>
                    <a:pt x="542" y="687"/>
                  </a:lnTo>
                  <a:close/>
                  <a:moveTo>
                    <a:pt x="248" y="482"/>
                  </a:moveTo>
                  <a:lnTo>
                    <a:pt x="315" y="444"/>
                  </a:lnTo>
                  <a:lnTo>
                    <a:pt x="374" y="408"/>
                  </a:lnTo>
                  <a:lnTo>
                    <a:pt x="400" y="389"/>
                  </a:lnTo>
                  <a:lnTo>
                    <a:pt x="425" y="370"/>
                  </a:lnTo>
                  <a:lnTo>
                    <a:pt x="447" y="353"/>
                  </a:lnTo>
                  <a:lnTo>
                    <a:pt x="468" y="334"/>
                  </a:lnTo>
                  <a:lnTo>
                    <a:pt x="482" y="317"/>
                  </a:lnTo>
                  <a:lnTo>
                    <a:pt x="495" y="301"/>
                  </a:lnTo>
                  <a:lnTo>
                    <a:pt x="506" y="285"/>
                  </a:lnTo>
                  <a:lnTo>
                    <a:pt x="514" y="270"/>
                  </a:lnTo>
                  <a:lnTo>
                    <a:pt x="520" y="254"/>
                  </a:lnTo>
                  <a:lnTo>
                    <a:pt x="523" y="247"/>
                  </a:lnTo>
                  <a:lnTo>
                    <a:pt x="525" y="239"/>
                  </a:lnTo>
                  <a:lnTo>
                    <a:pt x="527" y="233"/>
                  </a:lnTo>
                  <a:lnTo>
                    <a:pt x="528" y="226"/>
                  </a:lnTo>
                  <a:lnTo>
                    <a:pt x="529" y="219"/>
                  </a:lnTo>
                  <a:lnTo>
                    <a:pt x="529" y="212"/>
                  </a:lnTo>
                  <a:lnTo>
                    <a:pt x="529" y="203"/>
                  </a:lnTo>
                  <a:lnTo>
                    <a:pt x="528" y="195"/>
                  </a:lnTo>
                  <a:lnTo>
                    <a:pt x="526" y="186"/>
                  </a:lnTo>
                  <a:lnTo>
                    <a:pt x="525" y="179"/>
                  </a:lnTo>
                  <a:lnTo>
                    <a:pt x="521" y="172"/>
                  </a:lnTo>
                  <a:lnTo>
                    <a:pt x="519" y="169"/>
                  </a:lnTo>
                  <a:lnTo>
                    <a:pt x="518" y="166"/>
                  </a:lnTo>
                  <a:lnTo>
                    <a:pt x="516" y="162"/>
                  </a:lnTo>
                  <a:lnTo>
                    <a:pt x="514" y="159"/>
                  </a:lnTo>
                  <a:lnTo>
                    <a:pt x="512" y="157"/>
                  </a:lnTo>
                  <a:lnTo>
                    <a:pt x="510" y="154"/>
                  </a:lnTo>
                  <a:lnTo>
                    <a:pt x="504" y="149"/>
                  </a:lnTo>
                  <a:lnTo>
                    <a:pt x="499" y="145"/>
                  </a:lnTo>
                  <a:lnTo>
                    <a:pt x="497" y="144"/>
                  </a:lnTo>
                  <a:lnTo>
                    <a:pt x="494" y="142"/>
                  </a:lnTo>
                  <a:lnTo>
                    <a:pt x="492" y="140"/>
                  </a:lnTo>
                  <a:lnTo>
                    <a:pt x="489" y="139"/>
                  </a:lnTo>
                  <a:lnTo>
                    <a:pt x="485" y="138"/>
                  </a:lnTo>
                  <a:lnTo>
                    <a:pt x="482" y="136"/>
                  </a:lnTo>
                  <a:lnTo>
                    <a:pt x="479" y="135"/>
                  </a:lnTo>
                  <a:lnTo>
                    <a:pt x="476" y="134"/>
                  </a:lnTo>
                  <a:lnTo>
                    <a:pt x="473" y="134"/>
                  </a:lnTo>
                  <a:lnTo>
                    <a:pt x="469" y="133"/>
                  </a:lnTo>
                  <a:lnTo>
                    <a:pt x="462" y="133"/>
                  </a:lnTo>
                  <a:lnTo>
                    <a:pt x="458" y="133"/>
                  </a:lnTo>
                  <a:lnTo>
                    <a:pt x="454" y="133"/>
                  </a:lnTo>
                  <a:lnTo>
                    <a:pt x="444" y="135"/>
                  </a:lnTo>
                  <a:lnTo>
                    <a:pt x="433" y="138"/>
                  </a:lnTo>
                  <a:lnTo>
                    <a:pt x="423" y="141"/>
                  </a:lnTo>
                  <a:lnTo>
                    <a:pt x="410" y="145"/>
                  </a:lnTo>
                  <a:lnTo>
                    <a:pt x="397" y="150"/>
                  </a:lnTo>
                  <a:lnTo>
                    <a:pt x="370" y="164"/>
                  </a:lnTo>
                  <a:lnTo>
                    <a:pt x="319" y="247"/>
                  </a:lnTo>
                  <a:lnTo>
                    <a:pt x="295" y="314"/>
                  </a:lnTo>
                  <a:lnTo>
                    <a:pt x="275" y="376"/>
                  </a:lnTo>
                  <a:lnTo>
                    <a:pt x="259" y="432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15360" y="1338120"/>
              <a:ext cx="363600" cy="355680"/>
            </a:xfrm>
            <a:custGeom>
              <a:avLst/>
              <a:gdLst/>
              <a:ahLst/>
              <a:rect l="l" t="t" r="r" b="b"/>
              <a:pathLst>
                <a:path w="1008" h="988">
                  <a:moveTo>
                    <a:pt x="1007" y="740"/>
                  </a:moveTo>
                  <a:lnTo>
                    <a:pt x="951" y="798"/>
                  </a:lnTo>
                  <a:lnTo>
                    <a:pt x="897" y="848"/>
                  </a:lnTo>
                  <a:lnTo>
                    <a:pt x="848" y="891"/>
                  </a:lnTo>
                  <a:lnTo>
                    <a:pt x="802" y="926"/>
                  </a:lnTo>
                  <a:lnTo>
                    <a:pt x="761" y="953"/>
                  </a:lnTo>
                  <a:lnTo>
                    <a:pt x="740" y="963"/>
                  </a:lnTo>
                  <a:lnTo>
                    <a:pt x="722" y="972"/>
                  </a:lnTo>
                  <a:lnTo>
                    <a:pt x="704" y="979"/>
                  </a:lnTo>
                  <a:lnTo>
                    <a:pt x="687" y="983"/>
                  </a:lnTo>
                  <a:lnTo>
                    <a:pt x="671" y="986"/>
                  </a:lnTo>
                  <a:lnTo>
                    <a:pt x="657" y="987"/>
                  </a:lnTo>
                  <a:lnTo>
                    <a:pt x="651" y="987"/>
                  </a:lnTo>
                  <a:lnTo>
                    <a:pt x="646" y="986"/>
                  </a:lnTo>
                  <a:lnTo>
                    <a:pt x="642" y="986"/>
                  </a:lnTo>
                  <a:lnTo>
                    <a:pt x="636" y="985"/>
                  </a:lnTo>
                  <a:lnTo>
                    <a:pt x="631" y="984"/>
                  </a:lnTo>
                  <a:lnTo>
                    <a:pt x="627" y="982"/>
                  </a:lnTo>
                  <a:lnTo>
                    <a:pt x="623" y="981"/>
                  </a:lnTo>
                  <a:lnTo>
                    <a:pt x="617" y="979"/>
                  </a:lnTo>
                  <a:lnTo>
                    <a:pt x="609" y="974"/>
                  </a:lnTo>
                  <a:lnTo>
                    <a:pt x="599" y="969"/>
                  </a:lnTo>
                  <a:lnTo>
                    <a:pt x="591" y="961"/>
                  </a:lnTo>
                  <a:lnTo>
                    <a:pt x="582" y="954"/>
                  </a:lnTo>
                  <a:lnTo>
                    <a:pt x="578" y="950"/>
                  </a:lnTo>
                  <a:lnTo>
                    <a:pt x="575" y="946"/>
                  </a:lnTo>
                  <a:lnTo>
                    <a:pt x="571" y="941"/>
                  </a:lnTo>
                  <a:lnTo>
                    <a:pt x="567" y="936"/>
                  </a:lnTo>
                  <a:lnTo>
                    <a:pt x="565" y="931"/>
                  </a:lnTo>
                  <a:lnTo>
                    <a:pt x="562" y="926"/>
                  </a:lnTo>
                  <a:lnTo>
                    <a:pt x="560" y="921"/>
                  </a:lnTo>
                  <a:lnTo>
                    <a:pt x="558" y="916"/>
                  </a:lnTo>
                  <a:lnTo>
                    <a:pt x="554" y="903"/>
                  </a:lnTo>
                  <a:lnTo>
                    <a:pt x="551" y="892"/>
                  </a:lnTo>
                  <a:lnTo>
                    <a:pt x="549" y="878"/>
                  </a:lnTo>
                  <a:lnTo>
                    <a:pt x="549" y="865"/>
                  </a:lnTo>
                  <a:lnTo>
                    <a:pt x="549" y="849"/>
                  </a:lnTo>
                  <a:lnTo>
                    <a:pt x="550" y="833"/>
                  </a:lnTo>
                  <a:lnTo>
                    <a:pt x="553" y="816"/>
                  </a:lnTo>
                  <a:lnTo>
                    <a:pt x="555" y="798"/>
                  </a:lnTo>
                  <a:lnTo>
                    <a:pt x="562" y="760"/>
                  </a:lnTo>
                  <a:lnTo>
                    <a:pt x="572" y="717"/>
                  </a:lnTo>
                  <a:lnTo>
                    <a:pt x="624" y="532"/>
                  </a:lnTo>
                  <a:lnTo>
                    <a:pt x="362" y="532"/>
                  </a:lnTo>
                  <a:lnTo>
                    <a:pt x="259" y="950"/>
                  </a:lnTo>
                  <a:lnTo>
                    <a:pt x="54" y="950"/>
                  </a:lnTo>
                  <a:lnTo>
                    <a:pt x="55" y="940"/>
                  </a:lnTo>
                  <a:lnTo>
                    <a:pt x="56" y="929"/>
                  </a:lnTo>
                  <a:lnTo>
                    <a:pt x="61" y="902"/>
                  </a:lnTo>
                  <a:lnTo>
                    <a:pt x="68" y="871"/>
                  </a:lnTo>
                  <a:lnTo>
                    <a:pt x="77" y="834"/>
                  </a:lnTo>
                  <a:lnTo>
                    <a:pt x="87" y="803"/>
                  </a:lnTo>
                  <a:lnTo>
                    <a:pt x="99" y="755"/>
                  </a:lnTo>
                  <a:lnTo>
                    <a:pt x="135" y="614"/>
                  </a:lnTo>
                  <a:lnTo>
                    <a:pt x="233" y="229"/>
                  </a:lnTo>
                  <a:lnTo>
                    <a:pt x="236" y="216"/>
                  </a:lnTo>
                  <a:lnTo>
                    <a:pt x="238" y="204"/>
                  </a:lnTo>
                  <a:lnTo>
                    <a:pt x="239" y="199"/>
                  </a:lnTo>
                  <a:lnTo>
                    <a:pt x="241" y="195"/>
                  </a:lnTo>
                  <a:lnTo>
                    <a:pt x="241" y="191"/>
                  </a:lnTo>
                  <a:lnTo>
                    <a:pt x="241" y="187"/>
                  </a:lnTo>
                  <a:lnTo>
                    <a:pt x="241" y="182"/>
                  </a:lnTo>
                  <a:lnTo>
                    <a:pt x="241" y="179"/>
                  </a:lnTo>
                  <a:lnTo>
                    <a:pt x="241" y="178"/>
                  </a:lnTo>
                  <a:lnTo>
                    <a:pt x="241" y="177"/>
                  </a:lnTo>
                  <a:lnTo>
                    <a:pt x="241" y="177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9" y="176"/>
                  </a:lnTo>
                  <a:lnTo>
                    <a:pt x="237" y="176"/>
                  </a:lnTo>
                  <a:lnTo>
                    <a:pt x="234" y="176"/>
                  </a:lnTo>
                  <a:lnTo>
                    <a:pt x="229" y="178"/>
                  </a:lnTo>
                  <a:lnTo>
                    <a:pt x="223" y="180"/>
                  </a:lnTo>
                  <a:lnTo>
                    <a:pt x="215" y="183"/>
                  </a:lnTo>
                  <a:lnTo>
                    <a:pt x="198" y="193"/>
                  </a:lnTo>
                  <a:lnTo>
                    <a:pt x="179" y="205"/>
                  </a:lnTo>
                  <a:lnTo>
                    <a:pt x="157" y="221"/>
                  </a:lnTo>
                  <a:lnTo>
                    <a:pt x="131" y="241"/>
                  </a:lnTo>
                  <a:lnTo>
                    <a:pt x="73" y="292"/>
                  </a:lnTo>
                  <a:lnTo>
                    <a:pt x="0" y="235"/>
                  </a:lnTo>
                  <a:lnTo>
                    <a:pt x="59" y="180"/>
                  </a:lnTo>
                  <a:lnTo>
                    <a:pt x="115" y="132"/>
                  </a:lnTo>
                  <a:lnTo>
                    <a:pt x="167" y="93"/>
                  </a:lnTo>
                  <a:lnTo>
                    <a:pt x="215" y="60"/>
                  </a:lnTo>
                  <a:lnTo>
                    <a:pt x="260" y="34"/>
                  </a:lnTo>
                  <a:lnTo>
                    <a:pt x="281" y="23"/>
                  </a:lnTo>
                  <a:lnTo>
                    <a:pt x="301" y="15"/>
                  </a:lnTo>
                  <a:lnTo>
                    <a:pt x="320" y="9"/>
                  </a:lnTo>
                  <a:lnTo>
                    <a:pt x="338" y="5"/>
                  </a:lnTo>
                  <a:lnTo>
                    <a:pt x="356" y="1"/>
                  </a:lnTo>
                  <a:lnTo>
                    <a:pt x="372" y="0"/>
                  </a:lnTo>
                  <a:lnTo>
                    <a:pt x="383" y="0"/>
                  </a:lnTo>
                  <a:lnTo>
                    <a:pt x="392" y="2"/>
                  </a:lnTo>
                  <a:lnTo>
                    <a:pt x="401" y="3"/>
                  </a:lnTo>
                  <a:lnTo>
                    <a:pt x="409" y="7"/>
                  </a:lnTo>
                  <a:lnTo>
                    <a:pt x="417" y="11"/>
                  </a:lnTo>
                  <a:lnTo>
                    <a:pt x="423" y="15"/>
                  </a:lnTo>
                  <a:lnTo>
                    <a:pt x="429" y="20"/>
                  </a:lnTo>
                  <a:lnTo>
                    <a:pt x="435" y="26"/>
                  </a:lnTo>
                  <a:lnTo>
                    <a:pt x="440" y="33"/>
                  </a:lnTo>
                  <a:lnTo>
                    <a:pt x="444" y="40"/>
                  </a:lnTo>
                  <a:lnTo>
                    <a:pt x="447" y="48"/>
                  </a:lnTo>
                  <a:lnTo>
                    <a:pt x="451" y="58"/>
                  </a:lnTo>
                  <a:lnTo>
                    <a:pt x="453" y="67"/>
                  </a:lnTo>
                  <a:lnTo>
                    <a:pt x="455" y="77"/>
                  </a:lnTo>
                  <a:lnTo>
                    <a:pt x="456" y="89"/>
                  </a:lnTo>
                  <a:lnTo>
                    <a:pt x="456" y="101"/>
                  </a:lnTo>
                  <a:lnTo>
                    <a:pt x="455" y="123"/>
                  </a:lnTo>
                  <a:lnTo>
                    <a:pt x="452" y="150"/>
                  </a:lnTo>
                  <a:lnTo>
                    <a:pt x="446" y="183"/>
                  </a:lnTo>
                  <a:lnTo>
                    <a:pt x="438" y="221"/>
                  </a:lnTo>
                  <a:lnTo>
                    <a:pt x="416" y="311"/>
                  </a:lnTo>
                  <a:lnTo>
                    <a:pt x="384" y="422"/>
                  </a:lnTo>
                  <a:lnTo>
                    <a:pt x="648" y="422"/>
                  </a:lnTo>
                  <a:lnTo>
                    <a:pt x="754" y="28"/>
                  </a:lnTo>
                  <a:lnTo>
                    <a:pt x="951" y="28"/>
                  </a:lnTo>
                  <a:lnTo>
                    <a:pt x="847" y="432"/>
                  </a:lnTo>
                  <a:lnTo>
                    <a:pt x="779" y="685"/>
                  </a:lnTo>
                  <a:lnTo>
                    <a:pt x="762" y="759"/>
                  </a:lnTo>
                  <a:lnTo>
                    <a:pt x="757" y="782"/>
                  </a:lnTo>
                  <a:lnTo>
                    <a:pt x="756" y="792"/>
                  </a:lnTo>
                  <a:lnTo>
                    <a:pt x="756" y="798"/>
                  </a:lnTo>
                  <a:lnTo>
                    <a:pt x="756" y="803"/>
                  </a:lnTo>
                  <a:lnTo>
                    <a:pt x="757" y="806"/>
                  </a:lnTo>
                  <a:lnTo>
                    <a:pt x="757" y="808"/>
                  </a:lnTo>
                  <a:lnTo>
                    <a:pt x="757" y="811"/>
                  </a:lnTo>
                  <a:lnTo>
                    <a:pt x="758" y="812"/>
                  </a:lnTo>
                  <a:lnTo>
                    <a:pt x="758" y="813"/>
                  </a:lnTo>
                  <a:lnTo>
                    <a:pt x="759" y="814"/>
                  </a:lnTo>
                  <a:lnTo>
                    <a:pt x="759" y="815"/>
                  </a:lnTo>
                  <a:lnTo>
                    <a:pt x="761" y="816"/>
                  </a:lnTo>
                  <a:lnTo>
                    <a:pt x="762" y="817"/>
                  </a:lnTo>
                  <a:lnTo>
                    <a:pt x="762" y="817"/>
                  </a:lnTo>
                  <a:lnTo>
                    <a:pt x="762" y="817"/>
                  </a:lnTo>
                  <a:lnTo>
                    <a:pt x="763" y="818"/>
                  </a:lnTo>
                  <a:lnTo>
                    <a:pt x="763" y="818"/>
                  </a:lnTo>
                  <a:lnTo>
                    <a:pt x="764" y="818"/>
                  </a:lnTo>
                  <a:lnTo>
                    <a:pt x="764" y="818"/>
                  </a:lnTo>
                  <a:lnTo>
                    <a:pt x="765" y="818"/>
                  </a:lnTo>
                  <a:lnTo>
                    <a:pt x="767" y="818"/>
                  </a:lnTo>
                  <a:lnTo>
                    <a:pt x="769" y="817"/>
                  </a:lnTo>
                  <a:lnTo>
                    <a:pt x="774" y="816"/>
                  </a:lnTo>
                  <a:lnTo>
                    <a:pt x="781" y="813"/>
                  </a:lnTo>
                  <a:lnTo>
                    <a:pt x="787" y="810"/>
                  </a:lnTo>
                  <a:lnTo>
                    <a:pt x="804" y="798"/>
                  </a:lnTo>
                  <a:lnTo>
                    <a:pt x="825" y="782"/>
                  </a:lnTo>
                  <a:lnTo>
                    <a:pt x="878" y="739"/>
                  </a:lnTo>
                  <a:lnTo>
                    <a:pt x="947" y="677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788320" y="1325520"/>
              <a:ext cx="339840" cy="365040"/>
            </a:xfrm>
            <a:custGeom>
              <a:avLst/>
              <a:gdLst/>
              <a:ahLst/>
              <a:rect l="l" t="t" r="r" b="b"/>
              <a:pathLst>
                <a:path w="945" h="1015">
                  <a:moveTo>
                    <a:pt x="784" y="18"/>
                  </a:moveTo>
                  <a:lnTo>
                    <a:pt x="893" y="0"/>
                  </a:lnTo>
                  <a:lnTo>
                    <a:pt x="810" y="301"/>
                  </a:lnTo>
                  <a:lnTo>
                    <a:pt x="786" y="385"/>
                  </a:lnTo>
                  <a:lnTo>
                    <a:pt x="762" y="475"/>
                  </a:lnTo>
                  <a:lnTo>
                    <a:pt x="717" y="673"/>
                  </a:lnTo>
                  <a:lnTo>
                    <a:pt x="700" y="766"/>
                  </a:lnTo>
                  <a:lnTo>
                    <a:pt x="695" y="797"/>
                  </a:lnTo>
                  <a:lnTo>
                    <a:pt x="693" y="808"/>
                  </a:lnTo>
                  <a:lnTo>
                    <a:pt x="693" y="818"/>
                  </a:lnTo>
                  <a:lnTo>
                    <a:pt x="693" y="820"/>
                  </a:lnTo>
                  <a:lnTo>
                    <a:pt x="693" y="823"/>
                  </a:lnTo>
                  <a:lnTo>
                    <a:pt x="695" y="825"/>
                  </a:lnTo>
                  <a:lnTo>
                    <a:pt x="695" y="825"/>
                  </a:lnTo>
                  <a:lnTo>
                    <a:pt x="695" y="826"/>
                  </a:lnTo>
                  <a:lnTo>
                    <a:pt x="696" y="827"/>
                  </a:lnTo>
                  <a:lnTo>
                    <a:pt x="696" y="827"/>
                  </a:lnTo>
                  <a:lnTo>
                    <a:pt x="696" y="828"/>
                  </a:lnTo>
                  <a:lnTo>
                    <a:pt x="697" y="828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697" y="829"/>
                  </a:lnTo>
                  <a:lnTo>
                    <a:pt x="698" y="829"/>
                  </a:lnTo>
                  <a:lnTo>
                    <a:pt x="698" y="829"/>
                  </a:lnTo>
                  <a:lnTo>
                    <a:pt x="698" y="829"/>
                  </a:lnTo>
                  <a:lnTo>
                    <a:pt x="700" y="829"/>
                  </a:lnTo>
                  <a:lnTo>
                    <a:pt x="701" y="829"/>
                  </a:lnTo>
                  <a:lnTo>
                    <a:pt x="703" y="828"/>
                  </a:lnTo>
                  <a:lnTo>
                    <a:pt x="705" y="828"/>
                  </a:lnTo>
                  <a:lnTo>
                    <a:pt x="710" y="826"/>
                  </a:lnTo>
                  <a:lnTo>
                    <a:pt x="716" y="825"/>
                  </a:lnTo>
                  <a:lnTo>
                    <a:pt x="721" y="822"/>
                  </a:lnTo>
                  <a:lnTo>
                    <a:pt x="727" y="819"/>
                  </a:lnTo>
                  <a:lnTo>
                    <a:pt x="742" y="810"/>
                  </a:lnTo>
                  <a:lnTo>
                    <a:pt x="776" y="789"/>
                  </a:lnTo>
                  <a:lnTo>
                    <a:pt x="811" y="766"/>
                  </a:lnTo>
                  <a:lnTo>
                    <a:pt x="847" y="737"/>
                  </a:lnTo>
                  <a:lnTo>
                    <a:pt x="887" y="707"/>
                  </a:lnTo>
                  <a:lnTo>
                    <a:pt x="944" y="773"/>
                  </a:lnTo>
                  <a:lnTo>
                    <a:pt x="835" y="874"/>
                  </a:lnTo>
                  <a:lnTo>
                    <a:pt x="797" y="906"/>
                  </a:lnTo>
                  <a:lnTo>
                    <a:pt x="784" y="916"/>
                  </a:lnTo>
                  <a:lnTo>
                    <a:pt x="773" y="925"/>
                  </a:lnTo>
                  <a:lnTo>
                    <a:pt x="737" y="948"/>
                  </a:lnTo>
                  <a:lnTo>
                    <a:pt x="719" y="958"/>
                  </a:lnTo>
                  <a:lnTo>
                    <a:pt x="702" y="967"/>
                  </a:lnTo>
                  <a:lnTo>
                    <a:pt x="684" y="977"/>
                  </a:lnTo>
                  <a:lnTo>
                    <a:pt x="667" y="984"/>
                  </a:lnTo>
                  <a:lnTo>
                    <a:pt x="650" y="991"/>
                  </a:lnTo>
                  <a:lnTo>
                    <a:pt x="633" y="997"/>
                  </a:lnTo>
                  <a:lnTo>
                    <a:pt x="622" y="1002"/>
                  </a:lnTo>
                  <a:lnTo>
                    <a:pt x="611" y="1005"/>
                  </a:lnTo>
                  <a:lnTo>
                    <a:pt x="600" y="1007"/>
                  </a:lnTo>
                  <a:lnTo>
                    <a:pt x="588" y="1010"/>
                  </a:lnTo>
                  <a:lnTo>
                    <a:pt x="578" y="1012"/>
                  </a:lnTo>
                  <a:lnTo>
                    <a:pt x="566" y="1013"/>
                  </a:lnTo>
                  <a:lnTo>
                    <a:pt x="555" y="1014"/>
                  </a:lnTo>
                  <a:lnTo>
                    <a:pt x="544" y="1014"/>
                  </a:lnTo>
                  <a:lnTo>
                    <a:pt x="534" y="1014"/>
                  </a:lnTo>
                  <a:lnTo>
                    <a:pt x="526" y="1013"/>
                  </a:lnTo>
                  <a:lnTo>
                    <a:pt x="517" y="1011"/>
                  </a:lnTo>
                  <a:lnTo>
                    <a:pt x="510" y="1010"/>
                  </a:lnTo>
                  <a:lnTo>
                    <a:pt x="503" y="1007"/>
                  </a:lnTo>
                  <a:lnTo>
                    <a:pt x="500" y="1005"/>
                  </a:lnTo>
                  <a:lnTo>
                    <a:pt x="497" y="1004"/>
                  </a:lnTo>
                  <a:lnTo>
                    <a:pt x="494" y="1002"/>
                  </a:lnTo>
                  <a:lnTo>
                    <a:pt x="491" y="1000"/>
                  </a:lnTo>
                  <a:lnTo>
                    <a:pt x="488" y="997"/>
                  </a:lnTo>
                  <a:lnTo>
                    <a:pt x="485" y="995"/>
                  </a:lnTo>
                  <a:lnTo>
                    <a:pt x="480" y="990"/>
                  </a:lnTo>
                  <a:lnTo>
                    <a:pt x="478" y="987"/>
                  </a:lnTo>
                  <a:lnTo>
                    <a:pt x="476" y="984"/>
                  </a:lnTo>
                  <a:lnTo>
                    <a:pt x="475" y="982"/>
                  </a:lnTo>
                  <a:lnTo>
                    <a:pt x="473" y="979"/>
                  </a:lnTo>
                  <a:lnTo>
                    <a:pt x="471" y="976"/>
                  </a:lnTo>
                  <a:lnTo>
                    <a:pt x="470" y="971"/>
                  </a:lnTo>
                  <a:lnTo>
                    <a:pt x="468" y="968"/>
                  </a:lnTo>
                  <a:lnTo>
                    <a:pt x="467" y="965"/>
                  </a:lnTo>
                  <a:lnTo>
                    <a:pt x="465" y="958"/>
                  </a:lnTo>
                  <a:lnTo>
                    <a:pt x="464" y="950"/>
                  </a:lnTo>
                  <a:lnTo>
                    <a:pt x="464" y="941"/>
                  </a:lnTo>
                  <a:lnTo>
                    <a:pt x="464" y="936"/>
                  </a:lnTo>
                  <a:lnTo>
                    <a:pt x="465" y="931"/>
                  </a:lnTo>
                  <a:lnTo>
                    <a:pt x="465" y="925"/>
                  </a:lnTo>
                  <a:lnTo>
                    <a:pt x="466" y="918"/>
                  </a:lnTo>
                  <a:lnTo>
                    <a:pt x="468" y="912"/>
                  </a:lnTo>
                  <a:lnTo>
                    <a:pt x="470" y="906"/>
                  </a:lnTo>
                  <a:lnTo>
                    <a:pt x="474" y="891"/>
                  </a:lnTo>
                  <a:lnTo>
                    <a:pt x="517" y="773"/>
                  </a:lnTo>
                  <a:lnTo>
                    <a:pt x="502" y="799"/>
                  </a:lnTo>
                  <a:lnTo>
                    <a:pt x="485" y="823"/>
                  </a:lnTo>
                  <a:lnTo>
                    <a:pt x="466" y="846"/>
                  </a:lnTo>
                  <a:lnTo>
                    <a:pt x="445" y="867"/>
                  </a:lnTo>
                  <a:lnTo>
                    <a:pt x="422" y="888"/>
                  </a:lnTo>
                  <a:lnTo>
                    <a:pt x="395" y="908"/>
                  </a:lnTo>
                  <a:lnTo>
                    <a:pt x="368" y="927"/>
                  </a:lnTo>
                  <a:lnTo>
                    <a:pt x="338" y="943"/>
                  </a:lnTo>
                  <a:lnTo>
                    <a:pt x="315" y="960"/>
                  </a:lnTo>
                  <a:lnTo>
                    <a:pt x="291" y="974"/>
                  </a:lnTo>
                  <a:lnTo>
                    <a:pt x="269" y="986"/>
                  </a:lnTo>
                  <a:lnTo>
                    <a:pt x="248" y="995"/>
                  </a:lnTo>
                  <a:lnTo>
                    <a:pt x="227" y="1003"/>
                  </a:lnTo>
                  <a:lnTo>
                    <a:pt x="206" y="1009"/>
                  </a:lnTo>
                  <a:lnTo>
                    <a:pt x="196" y="1011"/>
                  </a:lnTo>
                  <a:lnTo>
                    <a:pt x="186" y="1012"/>
                  </a:lnTo>
                  <a:lnTo>
                    <a:pt x="177" y="1013"/>
                  </a:lnTo>
                  <a:lnTo>
                    <a:pt x="167" y="1013"/>
                  </a:lnTo>
                  <a:lnTo>
                    <a:pt x="158" y="1013"/>
                  </a:lnTo>
                  <a:lnTo>
                    <a:pt x="149" y="1012"/>
                  </a:lnTo>
                  <a:lnTo>
                    <a:pt x="141" y="1010"/>
                  </a:lnTo>
                  <a:lnTo>
                    <a:pt x="131" y="1008"/>
                  </a:lnTo>
                  <a:lnTo>
                    <a:pt x="124" y="1005"/>
                  </a:lnTo>
                  <a:lnTo>
                    <a:pt x="115" y="1001"/>
                  </a:lnTo>
                  <a:lnTo>
                    <a:pt x="108" y="996"/>
                  </a:lnTo>
                  <a:lnTo>
                    <a:pt x="99" y="991"/>
                  </a:lnTo>
                  <a:lnTo>
                    <a:pt x="92" y="985"/>
                  </a:lnTo>
                  <a:lnTo>
                    <a:pt x="85" y="979"/>
                  </a:lnTo>
                  <a:lnTo>
                    <a:pt x="78" y="971"/>
                  </a:lnTo>
                  <a:lnTo>
                    <a:pt x="72" y="963"/>
                  </a:lnTo>
                  <a:lnTo>
                    <a:pt x="65" y="955"/>
                  </a:lnTo>
                  <a:lnTo>
                    <a:pt x="59" y="945"/>
                  </a:lnTo>
                  <a:lnTo>
                    <a:pt x="47" y="925"/>
                  </a:lnTo>
                  <a:lnTo>
                    <a:pt x="42" y="921"/>
                  </a:lnTo>
                  <a:lnTo>
                    <a:pt x="37" y="916"/>
                  </a:lnTo>
                  <a:lnTo>
                    <a:pt x="31" y="911"/>
                  </a:lnTo>
                  <a:lnTo>
                    <a:pt x="27" y="905"/>
                  </a:lnTo>
                  <a:lnTo>
                    <a:pt x="23" y="899"/>
                  </a:lnTo>
                  <a:lnTo>
                    <a:pt x="19" y="892"/>
                  </a:lnTo>
                  <a:lnTo>
                    <a:pt x="15" y="884"/>
                  </a:lnTo>
                  <a:lnTo>
                    <a:pt x="12" y="877"/>
                  </a:lnTo>
                  <a:lnTo>
                    <a:pt x="10" y="867"/>
                  </a:lnTo>
                  <a:lnTo>
                    <a:pt x="7" y="858"/>
                  </a:lnTo>
                  <a:lnTo>
                    <a:pt x="4" y="838"/>
                  </a:lnTo>
                  <a:lnTo>
                    <a:pt x="2" y="817"/>
                  </a:lnTo>
                  <a:lnTo>
                    <a:pt x="0" y="792"/>
                  </a:lnTo>
                  <a:lnTo>
                    <a:pt x="2" y="761"/>
                  </a:lnTo>
                  <a:lnTo>
                    <a:pt x="5" y="731"/>
                  </a:lnTo>
                  <a:lnTo>
                    <a:pt x="9" y="699"/>
                  </a:lnTo>
                  <a:lnTo>
                    <a:pt x="16" y="667"/>
                  </a:lnTo>
                  <a:lnTo>
                    <a:pt x="25" y="633"/>
                  </a:lnTo>
                  <a:lnTo>
                    <a:pt x="37" y="600"/>
                  </a:lnTo>
                  <a:lnTo>
                    <a:pt x="49" y="565"/>
                  </a:lnTo>
                  <a:lnTo>
                    <a:pt x="64" y="529"/>
                  </a:lnTo>
                  <a:lnTo>
                    <a:pt x="81" y="494"/>
                  </a:lnTo>
                  <a:lnTo>
                    <a:pt x="99" y="460"/>
                  </a:lnTo>
                  <a:lnTo>
                    <a:pt x="118" y="425"/>
                  </a:lnTo>
                  <a:lnTo>
                    <a:pt x="138" y="392"/>
                  </a:lnTo>
                  <a:lnTo>
                    <a:pt x="161" y="360"/>
                  </a:lnTo>
                  <a:lnTo>
                    <a:pt x="184" y="329"/>
                  </a:lnTo>
                  <a:lnTo>
                    <a:pt x="208" y="299"/>
                  </a:lnTo>
                  <a:lnTo>
                    <a:pt x="235" y="268"/>
                  </a:lnTo>
                  <a:lnTo>
                    <a:pt x="263" y="240"/>
                  </a:lnTo>
                  <a:lnTo>
                    <a:pt x="290" y="213"/>
                  </a:lnTo>
                  <a:lnTo>
                    <a:pt x="318" y="189"/>
                  </a:lnTo>
                  <a:lnTo>
                    <a:pt x="345" y="166"/>
                  </a:lnTo>
                  <a:lnTo>
                    <a:pt x="374" y="147"/>
                  </a:lnTo>
                  <a:lnTo>
                    <a:pt x="403" y="128"/>
                  </a:lnTo>
                  <a:lnTo>
                    <a:pt x="432" y="110"/>
                  </a:lnTo>
                  <a:lnTo>
                    <a:pt x="462" y="96"/>
                  </a:lnTo>
                  <a:lnTo>
                    <a:pt x="487" y="85"/>
                  </a:lnTo>
                  <a:lnTo>
                    <a:pt x="512" y="77"/>
                  </a:lnTo>
                  <a:lnTo>
                    <a:pt x="540" y="69"/>
                  </a:lnTo>
                  <a:lnTo>
                    <a:pt x="568" y="64"/>
                  </a:lnTo>
                  <a:lnTo>
                    <a:pt x="599" y="58"/>
                  </a:lnTo>
                  <a:lnTo>
                    <a:pt x="631" y="55"/>
                  </a:lnTo>
                  <a:lnTo>
                    <a:pt x="665" y="53"/>
                  </a:lnTo>
                  <a:lnTo>
                    <a:pt x="700" y="52"/>
                  </a:lnTo>
                  <a:lnTo>
                    <a:pt x="717" y="52"/>
                  </a:lnTo>
                  <a:lnTo>
                    <a:pt x="733" y="53"/>
                  </a:lnTo>
                  <a:lnTo>
                    <a:pt x="747" y="55"/>
                  </a:lnTo>
                  <a:lnTo>
                    <a:pt x="760" y="57"/>
                  </a:lnTo>
                  <a:close/>
                  <a:moveTo>
                    <a:pt x="639" y="218"/>
                  </a:moveTo>
                  <a:lnTo>
                    <a:pt x="619" y="215"/>
                  </a:lnTo>
                  <a:lnTo>
                    <a:pt x="600" y="214"/>
                  </a:lnTo>
                  <a:lnTo>
                    <a:pt x="581" y="212"/>
                  </a:lnTo>
                  <a:lnTo>
                    <a:pt x="562" y="212"/>
                  </a:lnTo>
                  <a:lnTo>
                    <a:pt x="540" y="213"/>
                  </a:lnTo>
                  <a:lnTo>
                    <a:pt x="518" y="215"/>
                  </a:lnTo>
                  <a:lnTo>
                    <a:pt x="497" y="218"/>
                  </a:lnTo>
                  <a:lnTo>
                    <a:pt x="477" y="225"/>
                  </a:lnTo>
                  <a:lnTo>
                    <a:pt x="457" y="231"/>
                  </a:lnTo>
                  <a:lnTo>
                    <a:pt x="439" y="239"/>
                  </a:lnTo>
                  <a:lnTo>
                    <a:pt x="420" y="250"/>
                  </a:lnTo>
                  <a:lnTo>
                    <a:pt x="403" y="261"/>
                  </a:lnTo>
                  <a:lnTo>
                    <a:pt x="386" y="275"/>
                  </a:lnTo>
                  <a:lnTo>
                    <a:pt x="369" y="291"/>
                  </a:lnTo>
                  <a:lnTo>
                    <a:pt x="353" y="310"/>
                  </a:lnTo>
                  <a:lnTo>
                    <a:pt x="337" y="332"/>
                  </a:lnTo>
                  <a:lnTo>
                    <a:pt x="320" y="356"/>
                  </a:lnTo>
                  <a:lnTo>
                    <a:pt x="304" y="383"/>
                  </a:lnTo>
                  <a:lnTo>
                    <a:pt x="289" y="412"/>
                  </a:lnTo>
                  <a:lnTo>
                    <a:pt x="273" y="444"/>
                  </a:lnTo>
                  <a:lnTo>
                    <a:pt x="259" y="477"/>
                  </a:lnTo>
                  <a:lnTo>
                    <a:pt x="247" y="511"/>
                  </a:lnTo>
                  <a:lnTo>
                    <a:pt x="236" y="544"/>
                  </a:lnTo>
                  <a:lnTo>
                    <a:pt x="228" y="578"/>
                  </a:lnTo>
                  <a:lnTo>
                    <a:pt x="221" y="612"/>
                  </a:lnTo>
                  <a:lnTo>
                    <a:pt x="217" y="645"/>
                  </a:lnTo>
                  <a:lnTo>
                    <a:pt x="214" y="678"/>
                  </a:lnTo>
                  <a:lnTo>
                    <a:pt x="213" y="711"/>
                  </a:lnTo>
                  <a:lnTo>
                    <a:pt x="213" y="727"/>
                  </a:lnTo>
                  <a:lnTo>
                    <a:pt x="214" y="742"/>
                  </a:lnTo>
                  <a:lnTo>
                    <a:pt x="216" y="755"/>
                  </a:lnTo>
                  <a:lnTo>
                    <a:pt x="218" y="768"/>
                  </a:lnTo>
                  <a:lnTo>
                    <a:pt x="220" y="778"/>
                  </a:lnTo>
                  <a:lnTo>
                    <a:pt x="222" y="783"/>
                  </a:lnTo>
                  <a:lnTo>
                    <a:pt x="223" y="787"/>
                  </a:lnTo>
                  <a:lnTo>
                    <a:pt x="225" y="792"/>
                  </a:lnTo>
                  <a:lnTo>
                    <a:pt x="228" y="796"/>
                  </a:lnTo>
                  <a:lnTo>
                    <a:pt x="230" y="799"/>
                  </a:lnTo>
                  <a:lnTo>
                    <a:pt x="232" y="802"/>
                  </a:lnTo>
                  <a:lnTo>
                    <a:pt x="237" y="808"/>
                  </a:lnTo>
                  <a:lnTo>
                    <a:pt x="239" y="810"/>
                  </a:lnTo>
                  <a:lnTo>
                    <a:pt x="242" y="813"/>
                  </a:lnTo>
                  <a:lnTo>
                    <a:pt x="245" y="815"/>
                  </a:lnTo>
                  <a:lnTo>
                    <a:pt x="248" y="818"/>
                  </a:lnTo>
                  <a:lnTo>
                    <a:pt x="251" y="819"/>
                  </a:lnTo>
                  <a:lnTo>
                    <a:pt x="253" y="821"/>
                  </a:lnTo>
                  <a:lnTo>
                    <a:pt x="256" y="822"/>
                  </a:lnTo>
                  <a:lnTo>
                    <a:pt x="259" y="824"/>
                  </a:lnTo>
                  <a:lnTo>
                    <a:pt x="263" y="825"/>
                  </a:lnTo>
                  <a:lnTo>
                    <a:pt x="266" y="826"/>
                  </a:lnTo>
                  <a:lnTo>
                    <a:pt x="270" y="826"/>
                  </a:lnTo>
                  <a:lnTo>
                    <a:pt x="273" y="827"/>
                  </a:lnTo>
                  <a:lnTo>
                    <a:pt x="276" y="827"/>
                  </a:lnTo>
                  <a:lnTo>
                    <a:pt x="281" y="827"/>
                  </a:lnTo>
                  <a:lnTo>
                    <a:pt x="289" y="827"/>
                  </a:lnTo>
                  <a:lnTo>
                    <a:pt x="298" y="826"/>
                  </a:lnTo>
                  <a:lnTo>
                    <a:pt x="306" y="824"/>
                  </a:lnTo>
                  <a:lnTo>
                    <a:pt x="315" y="823"/>
                  </a:lnTo>
                  <a:lnTo>
                    <a:pt x="324" y="820"/>
                  </a:lnTo>
                  <a:lnTo>
                    <a:pt x="333" y="817"/>
                  </a:lnTo>
                  <a:lnTo>
                    <a:pt x="351" y="808"/>
                  </a:lnTo>
                  <a:lnTo>
                    <a:pt x="370" y="798"/>
                  </a:lnTo>
                  <a:lnTo>
                    <a:pt x="389" y="785"/>
                  </a:lnTo>
                  <a:lnTo>
                    <a:pt x="408" y="770"/>
                  </a:lnTo>
                  <a:lnTo>
                    <a:pt x="428" y="752"/>
                  </a:lnTo>
                  <a:lnTo>
                    <a:pt x="448" y="732"/>
                  </a:lnTo>
                  <a:lnTo>
                    <a:pt x="466" y="710"/>
                  </a:lnTo>
                  <a:lnTo>
                    <a:pt x="483" y="685"/>
                  </a:lnTo>
                  <a:lnTo>
                    <a:pt x="499" y="659"/>
                  </a:lnTo>
                  <a:lnTo>
                    <a:pt x="513" y="631"/>
                  </a:lnTo>
                  <a:lnTo>
                    <a:pt x="527" y="600"/>
                  </a:lnTo>
                  <a:lnTo>
                    <a:pt x="539" y="568"/>
                  </a:lnTo>
                  <a:lnTo>
                    <a:pt x="549" y="533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136080" y="1341360"/>
              <a:ext cx="152280" cy="349200"/>
            </a:xfrm>
            <a:custGeom>
              <a:avLst/>
              <a:gdLst/>
              <a:ahLst/>
              <a:rect l="l" t="t" r="r" b="b"/>
              <a:pathLst>
                <a:path w="424" h="969">
                  <a:moveTo>
                    <a:pt x="299" y="0"/>
                  </a:moveTo>
                  <a:lnTo>
                    <a:pt x="312" y="1"/>
                  </a:lnTo>
                  <a:lnTo>
                    <a:pt x="318" y="1"/>
                  </a:lnTo>
                  <a:lnTo>
                    <a:pt x="325" y="2"/>
                  </a:lnTo>
                  <a:lnTo>
                    <a:pt x="331" y="4"/>
                  </a:lnTo>
                  <a:lnTo>
                    <a:pt x="337" y="5"/>
                  </a:lnTo>
                  <a:lnTo>
                    <a:pt x="343" y="7"/>
                  </a:lnTo>
                  <a:lnTo>
                    <a:pt x="349" y="9"/>
                  </a:lnTo>
                  <a:lnTo>
                    <a:pt x="354" y="12"/>
                  </a:lnTo>
                  <a:lnTo>
                    <a:pt x="360" y="14"/>
                  </a:lnTo>
                  <a:lnTo>
                    <a:pt x="365" y="17"/>
                  </a:lnTo>
                  <a:lnTo>
                    <a:pt x="369" y="22"/>
                  </a:lnTo>
                  <a:lnTo>
                    <a:pt x="375" y="25"/>
                  </a:lnTo>
                  <a:lnTo>
                    <a:pt x="379" y="29"/>
                  </a:lnTo>
                  <a:lnTo>
                    <a:pt x="384" y="33"/>
                  </a:lnTo>
                  <a:lnTo>
                    <a:pt x="388" y="38"/>
                  </a:lnTo>
                  <a:lnTo>
                    <a:pt x="397" y="48"/>
                  </a:lnTo>
                  <a:lnTo>
                    <a:pt x="403" y="58"/>
                  </a:lnTo>
                  <a:lnTo>
                    <a:pt x="410" y="69"/>
                  </a:lnTo>
                  <a:lnTo>
                    <a:pt x="415" y="81"/>
                  </a:lnTo>
                  <a:lnTo>
                    <a:pt x="418" y="92"/>
                  </a:lnTo>
                  <a:lnTo>
                    <a:pt x="421" y="106"/>
                  </a:lnTo>
                  <a:lnTo>
                    <a:pt x="422" y="118"/>
                  </a:lnTo>
                  <a:lnTo>
                    <a:pt x="423" y="133"/>
                  </a:lnTo>
                  <a:lnTo>
                    <a:pt x="422" y="152"/>
                  </a:lnTo>
                  <a:lnTo>
                    <a:pt x="421" y="170"/>
                  </a:lnTo>
                  <a:lnTo>
                    <a:pt x="418" y="187"/>
                  </a:lnTo>
                  <a:lnTo>
                    <a:pt x="414" y="204"/>
                  </a:lnTo>
                  <a:lnTo>
                    <a:pt x="408" y="218"/>
                  </a:lnTo>
                  <a:lnTo>
                    <a:pt x="404" y="225"/>
                  </a:lnTo>
                  <a:lnTo>
                    <a:pt x="401" y="233"/>
                  </a:lnTo>
                  <a:lnTo>
                    <a:pt x="397" y="239"/>
                  </a:lnTo>
                  <a:lnTo>
                    <a:pt x="393" y="245"/>
                  </a:lnTo>
                  <a:lnTo>
                    <a:pt x="388" y="251"/>
                  </a:lnTo>
                  <a:lnTo>
                    <a:pt x="383" y="258"/>
                  </a:lnTo>
                  <a:lnTo>
                    <a:pt x="378" y="263"/>
                  </a:lnTo>
                  <a:lnTo>
                    <a:pt x="372" y="269"/>
                  </a:lnTo>
                  <a:lnTo>
                    <a:pt x="367" y="273"/>
                  </a:lnTo>
                  <a:lnTo>
                    <a:pt x="362" y="278"/>
                  </a:lnTo>
                  <a:lnTo>
                    <a:pt x="356" y="282"/>
                  </a:lnTo>
                  <a:lnTo>
                    <a:pt x="350" y="286"/>
                  </a:lnTo>
                  <a:lnTo>
                    <a:pt x="344" y="289"/>
                  </a:lnTo>
                  <a:lnTo>
                    <a:pt x="337" y="292"/>
                  </a:lnTo>
                  <a:lnTo>
                    <a:pt x="331" y="295"/>
                  </a:lnTo>
                  <a:lnTo>
                    <a:pt x="325" y="297"/>
                  </a:lnTo>
                  <a:lnTo>
                    <a:pt x="317" y="299"/>
                  </a:lnTo>
                  <a:lnTo>
                    <a:pt x="311" y="300"/>
                  </a:lnTo>
                  <a:lnTo>
                    <a:pt x="304" y="302"/>
                  </a:lnTo>
                  <a:lnTo>
                    <a:pt x="296" y="302"/>
                  </a:lnTo>
                  <a:lnTo>
                    <a:pt x="280" y="303"/>
                  </a:lnTo>
                  <a:lnTo>
                    <a:pt x="267" y="302"/>
                  </a:lnTo>
                  <a:lnTo>
                    <a:pt x="255" y="301"/>
                  </a:lnTo>
                  <a:lnTo>
                    <a:pt x="243" y="298"/>
                  </a:lnTo>
                  <a:lnTo>
                    <a:pt x="238" y="297"/>
                  </a:lnTo>
                  <a:lnTo>
                    <a:pt x="231" y="295"/>
                  </a:lnTo>
                  <a:lnTo>
                    <a:pt x="226" y="292"/>
                  </a:lnTo>
                  <a:lnTo>
                    <a:pt x="221" y="290"/>
                  </a:lnTo>
                  <a:lnTo>
                    <a:pt x="215" y="287"/>
                  </a:lnTo>
                  <a:lnTo>
                    <a:pt x="211" y="284"/>
                  </a:lnTo>
                  <a:lnTo>
                    <a:pt x="206" y="281"/>
                  </a:lnTo>
                  <a:lnTo>
                    <a:pt x="202" y="276"/>
                  </a:lnTo>
                  <a:lnTo>
                    <a:pt x="196" y="272"/>
                  </a:lnTo>
                  <a:lnTo>
                    <a:pt x="192" y="268"/>
                  </a:lnTo>
                  <a:lnTo>
                    <a:pt x="184" y="259"/>
                  </a:lnTo>
                  <a:lnTo>
                    <a:pt x="180" y="253"/>
                  </a:lnTo>
                  <a:lnTo>
                    <a:pt x="177" y="249"/>
                  </a:lnTo>
                  <a:lnTo>
                    <a:pt x="174" y="244"/>
                  </a:lnTo>
                  <a:lnTo>
                    <a:pt x="171" y="239"/>
                  </a:lnTo>
                  <a:lnTo>
                    <a:pt x="168" y="233"/>
                  </a:lnTo>
                  <a:lnTo>
                    <a:pt x="166" y="227"/>
                  </a:lnTo>
                  <a:lnTo>
                    <a:pt x="162" y="216"/>
                  </a:lnTo>
                  <a:lnTo>
                    <a:pt x="159" y="204"/>
                  </a:lnTo>
                  <a:lnTo>
                    <a:pt x="158" y="190"/>
                  </a:lnTo>
                  <a:lnTo>
                    <a:pt x="157" y="177"/>
                  </a:lnTo>
                  <a:lnTo>
                    <a:pt x="158" y="158"/>
                  </a:lnTo>
                  <a:lnTo>
                    <a:pt x="160" y="140"/>
                  </a:lnTo>
                  <a:lnTo>
                    <a:pt x="163" y="123"/>
                  </a:lnTo>
                  <a:lnTo>
                    <a:pt x="169" y="107"/>
                  </a:lnTo>
                  <a:lnTo>
                    <a:pt x="175" y="90"/>
                  </a:lnTo>
                  <a:lnTo>
                    <a:pt x="183" y="75"/>
                  </a:lnTo>
                  <a:lnTo>
                    <a:pt x="192" y="60"/>
                  </a:lnTo>
                  <a:lnTo>
                    <a:pt x="203" y="45"/>
                  </a:lnTo>
                  <a:lnTo>
                    <a:pt x="207" y="40"/>
                  </a:lnTo>
                  <a:lnTo>
                    <a:pt x="212" y="35"/>
                  </a:lnTo>
                  <a:lnTo>
                    <a:pt x="218" y="30"/>
                  </a:lnTo>
                  <a:lnTo>
                    <a:pt x="223" y="26"/>
                  </a:lnTo>
                  <a:lnTo>
                    <a:pt x="228" y="22"/>
                  </a:lnTo>
                  <a:lnTo>
                    <a:pt x="233" y="17"/>
                  </a:lnTo>
                  <a:lnTo>
                    <a:pt x="239" y="14"/>
                  </a:lnTo>
                  <a:lnTo>
                    <a:pt x="245" y="11"/>
                  </a:lnTo>
                  <a:lnTo>
                    <a:pt x="252" y="9"/>
                  </a:lnTo>
                  <a:lnTo>
                    <a:pt x="258" y="6"/>
                  </a:lnTo>
                  <a:lnTo>
                    <a:pt x="264" y="4"/>
                  </a:lnTo>
                  <a:lnTo>
                    <a:pt x="271" y="3"/>
                  </a:lnTo>
                  <a:lnTo>
                    <a:pt x="277" y="2"/>
                  </a:lnTo>
                  <a:lnTo>
                    <a:pt x="284" y="1"/>
                  </a:lnTo>
                  <a:lnTo>
                    <a:pt x="292" y="0"/>
                  </a:lnTo>
                  <a:close/>
                  <a:moveTo>
                    <a:pt x="142" y="663"/>
                  </a:moveTo>
                  <a:lnTo>
                    <a:pt x="155" y="664"/>
                  </a:lnTo>
                  <a:lnTo>
                    <a:pt x="161" y="664"/>
                  </a:lnTo>
                  <a:lnTo>
                    <a:pt x="168" y="665"/>
                  </a:lnTo>
                  <a:lnTo>
                    <a:pt x="174" y="667"/>
                  </a:lnTo>
                  <a:lnTo>
                    <a:pt x="179" y="668"/>
                  </a:lnTo>
                  <a:lnTo>
                    <a:pt x="186" y="671"/>
                  </a:lnTo>
                  <a:lnTo>
                    <a:pt x="191" y="673"/>
                  </a:lnTo>
                  <a:lnTo>
                    <a:pt x="196" y="676"/>
                  </a:lnTo>
                  <a:lnTo>
                    <a:pt x="202" y="678"/>
                  </a:lnTo>
                  <a:lnTo>
                    <a:pt x="207" y="681"/>
                  </a:lnTo>
                  <a:lnTo>
                    <a:pt x="212" y="685"/>
                  </a:lnTo>
                  <a:lnTo>
                    <a:pt x="218" y="688"/>
                  </a:lnTo>
                  <a:lnTo>
                    <a:pt x="222" y="692"/>
                  </a:lnTo>
                  <a:lnTo>
                    <a:pt x="231" y="702"/>
                  </a:lnTo>
                  <a:lnTo>
                    <a:pt x="240" y="712"/>
                  </a:lnTo>
                  <a:lnTo>
                    <a:pt x="247" y="723"/>
                  </a:lnTo>
                  <a:lnTo>
                    <a:pt x="253" y="734"/>
                  </a:lnTo>
                  <a:lnTo>
                    <a:pt x="258" y="745"/>
                  </a:lnTo>
                  <a:lnTo>
                    <a:pt x="262" y="758"/>
                  </a:lnTo>
                  <a:lnTo>
                    <a:pt x="265" y="770"/>
                  </a:lnTo>
                  <a:lnTo>
                    <a:pt x="266" y="784"/>
                  </a:lnTo>
                  <a:lnTo>
                    <a:pt x="267" y="797"/>
                  </a:lnTo>
                  <a:lnTo>
                    <a:pt x="266" y="816"/>
                  </a:lnTo>
                  <a:lnTo>
                    <a:pt x="265" y="834"/>
                  </a:lnTo>
                  <a:lnTo>
                    <a:pt x="262" y="850"/>
                  </a:lnTo>
                  <a:lnTo>
                    <a:pt x="257" y="867"/>
                  </a:lnTo>
                  <a:lnTo>
                    <a:pt x="252" y="882"/>
                  </a:lnTo>
                  <a:lnTo>
                    <a:pt x="244" y="896"/>
                  </a:lnTo>
                  <a:lnTo>
                    <a:pt x="237" y="909"/>
                  </a:lnTo>
                  <a:lnTo>
                    <a:pt x="227" y="921"/>
                  </a:lnTo>
                  <a:lnTo>
                    <a:pt x="222" y="926"/>
                  </a:lnTo>
                  <a:lnTo>
                    <a:pt x="216" y="933"/>
                  </a:lnTo>
                  <a:lnTo>
                    <a:pt x="211" y="937"/>
                  </a:lnTo>
                  <a:lnTo>
                    <a:pt x="206" y="942"/>
                  </a:lnTo>
                  <a:lnTo>
                    <a:pt x="200" y="946"/>
                  </a:lnTo>
                  <a:lnTo>
                    <a:pt x="194" y="949"/>
                  </a:lnTo>
                  <a:lnTo>
                    <a:pt x="188" y="953"/>
                  </a:lnTo>
                  <a:lnTo>
                    <a:pt x="181" y="957"/>
                  </a:lnTo>
                  <a:lnTo>
                    <a:pt x="175" y="959"/>
                  </a:lnTo>
                  <a:lnTo>
                    <a:pt x="168" y="962"/>
                  </a:lnTo>
                  <a:lnTo>
                    <a:pt x="161" y="964"/>
                  </a:lnTo>
                  <a:lnTo>
                    <a:pt x="154" y="965"/>
                  </a:lnTo>
                  <a:lnTo>
                    <a:pt x="146" y="966"/>
                  </a:lnTo>
                  <a:lnTo>
                    <a:pt x="139" y="967"/>
                  </a:lnTo>
                  <a:lnTo>
                    <a:pt x="124" y="968"/>
                  </a:lnTo>
                  <a:lnTo>
                    <a:pt x="111" y="967"/>
                  </a:lnTo>
                  <a:lnTo>
                    <a:pt x="99" y="966"/>
                  </a:lnTo>
                  <a:lnTo>
                    <a:pt x="92" y="965"/>
                  </a:lnTo>
                  <a:lnTo>
                    <a:pt x="87" y="963"/>
                  </a:lnTo>
                  <a:lnTo>
                    <a:pt x="81" y="962"/>
                  </a:lnTo>
                  <a:lnTo>
                    <a:pt x="75" y="960"/>
                  </a:lnTo>
                  <a:lnTo>
                    <a:pt x="70" y="957"/>
                  </a:lnTo>
                  <a:lnTo>
                    <a:pt x="65" y="954"/>
                  </a:lnTo>
                  <a:lnTo>
                    <a:pt x="59" y="951"/>
                  </a:lnTo>
                  <a:lnTo>
                    <a:pt x="54" y="948"/>
                  </a:lnTo>
                  <a:lnTo>
                    <a:pt x="45" y="941"/>
                  </a:lnTo>
                  <a:lnTo>
                    <a:pt x="35" y="933"/>
                  </a:lnTo>
                  <a:lnTo>
                    <a:pt x="27" y="923"/>
                  </a:lnTo>
                  <a:lnTo>
                    <a:pt x="23" y="918"/>
                  </a:lnTo>
                  <a:lnTo>
                    <a:pt x="20" y="914"/>
                  </a:lnTo>
                  <a:lnTo>
                    <a:pt x="17" y="909"/>
                  </a:lnTo>
                  <a:lnTo>
                    <a:pt x="14" y="904"/>
                  </a:lnTo>
                  <a:lnTo>
                    <a:pt x="11" y="897"/>
                  </a:lnTo>
                  <a:lnTo>
                    <a:pt x="8" y="892"/>
                  </a:lnTo>
                  <a:lnTo>
                    <a:pt x="5" y="881"/>
                  </a:lnTo>
                  <a:lnTo>
                    <a:pt x="2" y="868"/>
                  </a:lnTo>
                  <a:lnTo>
                    <a:pt x="1" y="855"/>
                  </a:lnTo>
                  <a:lnTo>
                    <a:pt x="0" y="841"/>
                  </a:lnTo>
                  <a:lnTo>
                    <a:pt x="1" y="822"/>
                  </a:lnTo>
                  <a:lnTo>
                    <a:pt x="3" y="805"/>
                  </a:lnTo>
                  <a:lnTo>
                    <a:pt x="6" y="787"/>
                  </a:lnTo>
                  <a:lnTo>
                    <a:pt x="12" y="770"/>
                  </a:lnTo>
                  <a:lnTo>
                    <a:pt x="18" y="754"/>
                  </a:lnTo>
                  <a:lnTo>
                    <a:pt x="25" y="738"/>
                  </a:lnTo>
                  <a:lnTo>
                    <a:pt x="35" y="724"/>
                  </a:lnTo>
                  <a:lnTo>
                    <a:pt x="46" y="709"/>
                  </a:lnTo>
                  <a:lnTo>
                    <a:pt x="50" y="704"/>
                  </a:lnTo>
                  <a:lnTo>
                    <a:pt x="55" y="699"/>
                  </a:lnTo>
                  <a:lnTo>
                    <a:pt x="60" y="693"/>
                  </a:lnTo>
                  <a:lnTo>
                    <a:pt x="66" y="689"/>
                  </a:lnTo>
                  <a:lnTo>
                    <a:pt x="71" y="685"/>
                  </a:lnTo>
                  <a:lnTo>
                    <a:pt x="76" y="681"/>
                  </a:lnTo>
                  <a:lnTo>
                    <a:pt x="82" y="678"/>
                  </a:lnTo>
                  <a:lnTo>
                    <a:pt x="88" y="675"/>
                  </a:lnTo>
                  <a:lnTo>
                    <a:pt x="94" y="673"/>
                  </a:lnTo>
                  <a:lnTo>
                    <a:pt x="101" y="670"/>
                  </a:lnTo>
                  <a:lnTo>
                    <a:pt x="107" y="667"/>
                  </a:lnTo>
                  <a:lnTo>
                    <a:pt x="114" y="666"/>
                  </a:lnTo>
                  <a:lnTo>
                    <a:pt x="120" y="665"/>
                  </a:lnTo>
                  <a:lnTo>
                    <a:pt x="127" y="664"/>
                  </a:lnTo>
                  <a:lnTo>
                    <a:pt x="135" y="663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43e0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Качества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объединяющие эти имена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100"/>
                            </p:stCondLst>
                            <p:childTnLst>
                              <p:par>
                                <p:cTn id="13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dur="indefinite" fill="hold">
                            <p:stCondLst>
                              <p:cond delay="200"/>
                            </p:stCondLst>
                            <p:childTnLst>
                              <p:par>
                                <p:cTn id="13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1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dur="indefinite" fill="hold">
                            <p:stCondLst>
                              <p:cond delay="300"/>
                            </p:stCondLst>
                            <p:childTnLst>
                              <p:par>
                                <p:cTn id="13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dur="indefinite" fill="hold">
                            <p:stCondLst>
                              <p:cond delay="400"/>
                            </p:stCondLst>
                            <p:childTnLst>
                              <p:par>
                                <p:cTn id="14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"/>
          <p:cNvGraphicFramePr/>
          <p:nvPr/>
        </p:nvGraphicFramePr>
        <p:xfrm>
          <a:off x="792000" y="1835280"/>
          <a:ext cx="7494840" cy="31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00" y="1835280"/>
                    <a:ext cx="749484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2014560" y="4211640"/>
          <a:ext cx="8066160" cy="3132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14560" y="4211640"/>
                    <a:ext cx="806616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6" name=""/>
          <p:cNvGrpSpPr/>
          <p:nvPr/>
        </p:nvGrpSpPr>
        <p:grpSpPr>
          <a:xfrm>
            <a:off x="0" y="0"/>
            <a:ext cx="7634160" cy="1763640"/>
            <a:chOff x="0" y="0"/>
            <a:chExt cx="7634160" cy="1763640"/>
          </a:xfrm>
        </p:grpSpPr>
        <p:sp>
          <p:nvSpPr>
            <p:cNvPr id="717" name=""/>
            <p:cNvSpPr/>
            <p:nvPr/>
          </p:nvSpPr>
          <p:spPr>
            <a:xfrm>
              <a:off x="2021040" y="395280"/>
              <a:ext cx="777600" cy="515880"/>
            </a:xfrm>
            <a:custGeom>
              <a:avLst/>
              <a:gdLst/>
              <a:ahLst/>
              <a:rect l="l" t="t" r="r" b="b"/>
              <a:pathLst>
                <a:path w="2159" h="1431">
                  <a:moveTo>
                    <a:pt x="1364" y="1279"/>
                  </a:move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3" y="1279"/>
                  </a:lnTo>
                  <a:lnTo>
                    <a:pt x="1364" y="1279"/>
                  </a:lnTo>
                  <a:lnTo>
                    <a:pt x="1364" y="1279"/>
                  </a:lnTo>
                  <a:lnTo>
                    <a:pt x="1372" y="1280"/>
                  </a:lnTo>
                  <a:lnTo>
                    <a:pt x="1404" y="1284"/>
                  </a:lnTo>
                  <a:lnTo>
                    <a:pt x="1434" y="1289"/>
                  </a:lnTo>
                  <a:lnTo>
                    <a:pt x="1461" y="1291"/>
                  </a:lnTo>
                  <a:lnTo>
                    <a:pt x="1485" y="1293"/>
                  </a:lnTo>
                  <a:lnTo>
                    <a:pt x="1495" y="1294"/>
                  </a:lnTo>
                  <a:lnTo>
                    <a:pt x="1505" y="1294"/>
                  </a:lnTo>
                  <a:lnTo>
                    <a:pt x="1533" y="1293"/>
                  </a:lnTo>
                  <a:lnTo>
                    <a:pt x="1565" y="1291"/>
                  </a:lnTo>
                  <a:lnTo>
                    <a:pt x="1601" y="1288"/>
                  </a:lnTo>
                  <a:lnTo>
                    <a:pt x="1642" y="1284"/>
                  </a:lnTo>
                  <a:lnTo>
                    <a:pt x="1622" y="1378"/>
                  </a:lnTo>
                  <a:lnTo>
                    <a:pt x="1555" y="1384"/>
                  </a:lnTo>
                  <a:lnTo>
                    <a:pt x="1529" y="1385"/>
                  </a:lnTo>
                  <a:lnTo>
                    <a:pt x="1508" y="1386"/>
                  </a:lnTo>
                  <a:lnTo>
                    <a:pt x="1480" y="1385"/>
                  </a:lnTo>
                  <a:lnTo>
                    <a:pt x="1446" y="1384"/>
                  </a:lnTo>
                  <a:lnTo>
                    <a:pt x="1364" y="1378"/>
                  </a:lnTo>
                  <a:lnTo>
                    <a:pt x="1323" y="1375"/>
                  </a:lnTo>
                  <a:lnTo>
                    <a:pt x="1285" y="1374"/>
                  </a:lnTo>
                  <a:lnTo>
                    <a:pt x="1250" y="1372"/>
                  </a:lnTo>
                  <a:lnTo>
                    <a:pt x="1217" y="1372"/>
                  </a:lnTo>
                  <a:lnTo>
                    <a:pt x="1205" y="1372"/>
                  </a:lnTo>
                  <a:lnTo>
                    <a:pt x="1190" y="1373"/>
                  </a:lnTo>
                  <a:lnTo>
                    <a:pt x="1160" y="1375"/>
                  </a:lnTo>
                  <a:lnTo>
                    <a:pt x="1125" y="1380"/>
                  </a:lnTo>
                  <a:lnTo>
                    <a:pt x="1087" y="1386"/>
                  </a:lnTo>
                  <a:lnTo>
                    <a:pt x="1240" y="906"/>
                  </a:lnTo>
                  <a:lnTo>
                    <a:pt x="1308" y="697"/>
                  </a:lnTo>
                  <a:lnTo>
                    <a:pt x="1373" y="526"/>
                  </a:lnTo>
                  <a:lnTo>
                    <a:pt x="1403" y="455"/>
                  </a:lnTo>
                  <a:lnTo>
                    <a:pt x="1434" y="394"/>
                  </a:lnTo>
                  <a:lnTo>
                    <a:pt x="1463" y="341"/>
                  </a:lnTo>
                  <a:lnTo>
                    <a:pt x="1492" y="299"/>
                  </a:lnTo>
                  <a:lnTo>
                    <a:pt x="1349" y="302"/>
                  </a:lnTo>
                  <a:lnTo>
                    <a:pt x="1264" y="301"/>
                  </a:lnTo>
                  <a:lnTo>
                    <a:pt x="1181" y="299"/>
                  </a:lnTo>
                  <a:lnTo>
                    <a:pt x="1097" y="294"/>
                  </a:lnTo>
                  <a:lnTo>
                    <a:pt x="1013" y="288"/>
                  </a:lnTo>
                  <a:lnTo>
                    <a:pt x="1000" y="318"/>
                  </a:lnTo>
                  <a:lnTo>
                    <a:pt x="983" y="356"/>
                  </a:lnTo>
                  <a:lnTo>
                    <a:pt x="946" y="459"/>
                  </a:lnTo>
                  <a:lnTo>
                    <a:pt x="847" y="766"/>
                  </a:lnTo>
                  <a:lnTo>
                    <a:pt x="815" y="865"/>
                  </a:lnTo>
                  <a:lnTo>
                    <a:pt x="781" y="956"/>
                  </a:lnTo>
                  <a:lnTo>
                    <a:pt x="747" y="1037"/>
                  </a:lnTo>
                  <a:lnTo>
                    <a:pt x="712" y="1109"/>
                  </a:lnTo>
                  <a:lnTo>
                    <a:pt x="676" y="1172"/>
                  </a:lnTo>
                  <a:lnTo>
                    <a:pt x="638" y="1227"/>
                  </a:lnTo>
                  <a:lnTo>
                    <a:pt x="620" y="1250"/>
                  </a:lnTo>
                  <a:lnTo>
                    <a:pt x="600" y="1271"/>
                  </a:lnTo>
                  <a:lnTo>
                    <a:pt x="581" y="1289"/>
                  </a:lnTo>
                  <a:lnTo>
                    <a:pt x="561" y="1306"/>
                  </a:lnTo>
                  <a:lnTo>
                    <a:pt x="521" y="1335"/>
                  </a:lnTo>
                  <a:lnTo>
                    <a:pt x="481" y="1361"/>
                  </a:lnTo>
                  <a:lnTo>
                    <a:pt x="442" y="1382"/>
                  </a:lnTo>
                  <a:lnTo>
                    <a:pt x="401" y="1399"/>
                  </a:lnTo>
                  <a:lnTo>
                    <a:pt x="362" y="1413"/>
                  </a:lnTo>
                  <a:lnTo>
                    <a:pt x="343" y="1418"/>
                  </a:lnTo>
                  <a:lnTo>
                    <a:pt x="323" y="1422"/>
                  </a:lnTo>
                  <a:lnTo>
                    <a:pt x="303" y="1425"/>
                  </a:lnTo>
                  <a:lnTo>
                    <a:pt x="283" y="1428"/>
                  </a:lnTo>
                  <a:lnTo>
                    <a:pt x="264" y="1429"/>
                  </a:lnTo>
                  <a:lnTo>
                    <a:pt x="244" y="1430"/>
                  </a:lnTo>
                  <a:lnTo>
                    <a:pt x="222" y="1429"/>
                  </a:lnTo>
                  <a:lnTo>
                    <a:pt x="201" y="1428"/>
                  </a:lnTo>
                  <a:lnTo>
                    <a:pt x="180" y="1425"/>
                  </a:lnTo>
                  <a:lnTo>
                    <a:pt x="160" y="1421"/>
                  </a:lnTo>
                  <a:lnTo>
                    <a:pt x="139" y="1417"/>
                  </a:lnTo>
                  <a:lnTo>
                    <a:pt x="118" y="1411"/>
                  </a:lnTo>
                  <a:lnTo>
                    <a:pt x="98" y="1403"/>
                  </a:lnTo>
                  <a:lnTo>
                    <a:pt x="78" y="1396"/>
                  </a:lnTo>
                  <a:lnTo>
                    <a:pt x="60" y="1386"/>
                  </a:lnTo>
                  <a:lnTo>
                    <a:pt x="51" y="1382"/>
                  </a:lnTo>
                  <a:lnTo>
                    <a:pt x="44" y="1377"/>
                  </a:lnTo>
                  <a:lnTo>
                    <a:pt x="37" y="1372"/>
                  </a:lnTo>
                  <a:lnTo>
                    <a:pt x="31" y="1366"/>
                  </a:lnTo>
                  <a:lnTo>
                    <a:pt x="25" y="1361"/>
                  </a:lnTo>
                  <a:lnTo>
                    <a:pt x="19" y="1355"/>
                  </a:lnTo>
                  <a:lnTo>
                    <a:pt x="14" y="1349"/>
                  </a:lnTo>
                  <a:lnTo>
                    <a:pt x="11" y="1343"/>
                  </a:lnTo>
                  <a:lnTo>
                    <a:pt x="7" y="1336"/>
                  </a:lnTo>
                  <a:lnTo>
                    <a:pt x="5" y="1329"/>
                  </a:lnTo>
                  <a:lnTo>
                    <a:pt x="3" y="1323"/>
                  </a:lnTo>
                  <a:lnTo>
                    <a:pt x="1" y="1316"/>
                  </a:lnTo>
                  <a:lnTo>
                    <a:pt x="0" y="1309"/>
                  </a:lnTo>
                  <a:lnTo>
                    <a:pt x="0" y="1301"/>
                  </a:lnTo>
                  <a:lnTo>
                    <a:pt x="0" y="1293"/>
                  </a:lnTo>
                  <a:lnTo>
                    <a:pt x="2" y="1285"/>
                  </a:lnTo>
                  <a:lnTo>
                    <a:pt x="3" y="1281"/>
                  </a:lnTo>
                  <a:lnTo>
                    <a:pt x="4" y="1278"/>
                  </a:lnTo>
                  <a:lnTo>
                    <a:pt x="5" y="1273"/>
                  </a:lnTo>
                  <a:lnTo>
                    <a:pt x="7" y="1270"/>
                  </a:lnTo>
                  <a:lnTo>
                    <a:pt x="9" y="1267"/>
                  </a:lnTo>
                  <a:lnTo>
                    <a:pt x="11" y="1263"/>
                  </a:lnTo>
                  <a:lnTo>
                    <a:pt x="13" y="1260"/>
                  </a:lnTo>
                  <a:lnTo>
                    <a:pt x="15" y="1257"/>
                  </a:lnTo>
                  <a:lnTo>
                    <a:pt x="18" y="1254"/>
                  </a:lnTo>
                  <a:lnTo>
                    <a:pt x="22" y="1251"/>
                  </a:lnTo>
                  <a:lnTo>
                    <a:pt x="25" y="1248"/>
                  </a:lnTo>
                  <a:lnTo>
                    <a:pt x="28" y="1245"/>
                  </a:lnTo>
                  <a:lnTo>
                    <a:pt x="35" y="1240"/>
                  </a:lnTo>
                  <a:lnTo>
                    <a:pt x="42" y="1235"/>
                  </a:lnTo>
                  <a:lnTo>
                    <a:pt x="49" y="1232"/>
                  </a:lnTo>
                  <a:lnTo>
                    <a:pt x="53" y="1230"/>
                  </a:lnTo>
                  <a:lnTo>
                    <a:pt x="58" y="1228"/>
                  </a:lnTo>
                  <a:lnTo>
                    <a:pt x="62" y="1227"/>
                  </a:lnTo>
                  <a:lnTo>
                    <a:pt x="66" y="1226"/>
                  </a:lnTo>
                  <a:lnTo>
                    <a:pt x="70" y="1225"/>
                  </a:lnTo>
                  <a:lnTo>
                    <a:pt x="74" y="1224"/>
                  </a:lnTo>
                  <a:lnTo>
                    <a:pt x="78" y="1223"/>
                  </a:lnTo>
                  <a:lnTo>
                    <a:pt x="82" y="1222"/>
                  </a:lnTo>
                  <a:lnTo>
                    <a:pt x="92" y="1222"/>
                  </a:lnTo>
                  <a:lnTo>
                    <a:pt x="99" y="1222"/>
                  </a:lnTo>
                  <a:lnTo>
                    <a:pt x="107" y="1223"/>
                  </a:lnTo>
                  <a:lnTo>
                    <a:pt x="114" y="1225"/>
                  </a:lnTo>
                  <a:lnTo>
                    <a:pt x="121" y="1227"/>
                  </a:lnTo>
                  <a:lnTo>
                    <a:pt x="129" y="1228"/>
                  </a:lnTo>
                  <a:lnTo>
                    <a:pt x="136" y="1231"/>
                  </a:lnTo>
                  <a:lnTo>
                    <a:pt x="144" y="1234"/>
                  </a:lnTo>
                  <a:lnTo>
                    <a:pt x="151" y="1238"/>
                  </a:lnTo>
                  <a:lnTo>
                    <a:pt x="158" y="1242"/>
                  </a:lnTo>
                  <a:lnTo>
                    <a:pt x="166" y="1246"/>
                  </a:lnTo>
                  <a:lnTo>
                    <a:pt x="180" y="1257"/>
                  </a:lnTo>
                  <a:lnTo>
                    <a:pt x="193" y="1270"/>
                  </a:lnTo>
                  <a:lnTo>
                    <a:pt x="208" y="1284"/>
                  </a:lnTo>
                  <a:lnTo>
                    <a:pt x="218" y="1295"/>
                  </a:lnTo>
                  <a:lnTo>
                    <a:pt x="227" y="1303"/>
                  </a:lnTo>
                  <a:lnTo>
                    <a:pt x="237" y="1311"/>
                  </a:lnTo>
                  <a:lnTo>
                    <a:pt x="245" y="1317"/>
                  </a:lnTo>
                  <a:lnTo>
                    <a:pt x="249" y="1319"/>
                  </a:lnTo>
                  <a:lnTo>
                    <a:pt x="253" y="1322"/>
                  </a:lnTo>
                  <a:lnTo>
                    <a:pt x="257" y="1323"/>
                  </a:lnTo>
                  <a:lnTo>
                    <a:pt x="261" y="1325"/>
                  </a:lnTo>
                  <a:lnTo>
                    <a:pt x="266" y="1326"/>
                  </a:lnTo>
                  <a:lnTo>
                    <a:pt x="270" y="1327"/>
                  </a:lnTo>
                  <a:lnTo>
                    <a:pt x="273" y="1328"/>
                  </a:lnTo>
                  <a:lnTo>
                    <a:pt x="277" y="1328"/>
                  </a:lnTo>
                  <a:lnTo>
                    <a:pt x="288" y="1327"/>
                  </a:lnTo>
                  <a:lnTo>
                    <a:pt x="300" y="1326"/>
                  </a:lnTo>
                  <a:lnTo>
                    <a:pt x="310" y="1323"/>
                  </a:lnTo>
                  <a:lnTo>
                    <a:pt x="321" y="1319"/>
                  </a:lnTo>
                  <a:lnTo>
                    <a:pt x="331" y="1315"/>
                  </a:lnTo>
                  <a:lnTo>
                    <a:pt x="342" y="1309"/>
                  </a:lnTo>
                  <a:lnTo>
                    <a:pt x="353" y="1302"/>
                  </a:lnTo>
                  <a:lnTo>
                    <a:pt x="363" y="1294"/>
                  </a:lnTo>
                  <a:lnTo>
                    <a:pt x="374" y="1285"/>
                  </a:lnTo>
                  <a:lnTo>
                    <a:pt x="384" y="1275"/>
                  </a:lnTo>
                  <a:lnTo>
                    <a:pt x="404" y="1252"/>
                  </a:lnTo>
                  <a:lnTo>
                    <a:pt x="424" y="1225"/>
                  </a:lnTo>
                  <a:lnTo>
                    <a:pt x="444" y="1193"/>
                  </a:lnTo>
                  <a:lnTo>
                    <a:pt x="464" y="1154"/>
                  </a:lnTo>
                  <a:lnTo>
                    <a:pt x="487" y="1106"/>
                  </a:lnTo>
                  <a:lnTo>
                    <a:pt x="538" y="979"/>
                  </a:lnTo>
                  <a:lnTo>
                    <a:pt x="599" y="813"/>
                  </a:lnTo>
                  <a:lnTo>
                    <a:pt x="667" y="606"/>
                  </a:lnTo>
                  <a:lnTo>
                    <a:pt x="777" y="288"/>
                  </a:lnTo>
                  <a:lnTo>
                    <a:pt x="721" y="289"/>
                  </a:lnTo>
                  <a:lnTo>
                    <a:pt x="668" y="294"/>
                  </a:lnTo>
                  <a:lnTo>
                    <a:pt x="619" y="300"/>
                  </a:lnTo>
                  <a:lnTo>
                    <a:pt x="573" y="311"/>
                  </a:lnTo>
                  <a:lnTo>
                    <a:pt x="531" y="322"/>
                  </a:lnTo>
                  <a:lnTo>
                    <a:pt x="512" y="330"/>
                  </a:lnTo>
                  <a:lnTo>
                    <a:pt x="493" y="338"/>
                  </a:lnTo>
                  <a:lnTo>
                    <a:pt x="475" y="346"/>
                  </a:lnTo>
                  <a:lnTo>
                    <a:pt x="458" y="356"/>
                  </a:lnTo>
                  <a:lnTo>
                    <a:pt x="442" y="366"/>
                  </a:lnTo>
                  <a:lnTo>
                    <a:pt x="426" y="376"/>
                  </a:lnTo>
                  <a:lnTo>
                    <a:pt x="398" y="398"/>
                  </a:lnTo>
                  <a:lnTo>
                    <a:pt x="374" y="421"/>
                  </a:lnTo>
                  <a:lnTo>
                    <a:pt x="363" y="433"/>
                  </a:lnTo>
                  <a:lnTo>
                    <a:pt x="353" y="445"/>
                  </a:lnTo>
                  <a:lnTo>
                    <a:pt x="345" y="458"/>
                  </a:lnTo>
                  <a:lnTo>
                    <a:pt x="337" y="469"/>
                  </a:lnTo>
                  <a:lnTo>
                    <a:pt x="329" y="482"/>
                  </a:lnTo>
                  <a:lnTo>
                    <a:pt x="323" y="495"/>
                  </a:lnTo>
                  <a:lnTo>
                    <a:pt x="318" y="509"/>
                  </a:lnTo>
                  <a:lnTo>
                    <a:pt x="314" y="522"/>
                  </a:lnTo>
                  <a:lnTo>
                    <a:pt x="311" y="536"/>
                  </a:lnTo>
                  <a:lnTo>
                    <a:pt x="309" y="549"/>
                  </a:lnTo>
                  <a:lnTo>
                    <a:pt x="307" y="563"/>
                  </a:lnTo>
                  <a:lnTo>
                    <a:pt x="307" y="577"/>
                  </a:lnTo>
                  <a:lnTo>
                    <a:pt x="307" y="585"/>
                  </a:lnTo>
                  <a:lnTo>
                    <a:pt x="308" y="592"/>
                  </a:lnTo>
                  <a:lnTo>
                    <a:pt x="308" y="599"/>
                  </a:lnTo>
                  <a:lnTo>
                    <a:pt x="309" y="605"/>
                  </a:lnTo>
                  <a:lnTo>
                    <a:pt x="311" y="611"/>
                  </a:lnTo>
                  <a:lnTo>
                    <a:pt x="312" y="616"/>
                  </a:lnTo>
                  <a:lnTo>
                    <a:pt x="315" y="622"/>
                  </a:lnTo>
                  <a:lnTo>
                    <a:pt x="317" y="626"/>
                  </a:lnTo>
                  <a:lnTo>
                    <a:pt x="319" y="630"/>
                  </a:lnTo>
                  <a:lnTo>
                    <a:pt x="322" y="635"/>
                  </a:lnTo>
                  <a:lnTo>
                    <a:pt x="330" y="645"/>
                  </a:lnTo>
                  <a:lnTo>
                    <a:pt x="340" y="658"/>
                  </a:lnTo>
                  <a:lnTo>
                    <a:pt x="350" y="672"/>
                  </a:lnTo>
                  <a:lnTo>
                    <a:pt x="364" y="684"/>
                  </a:lnTo>
                  <a:lnTo>
                    <a:pt x="378" y="695"/>
                  </a:lnTo>
                  <a:lnTo>
                    <a:pt x="388" y="707"/>
                  </a:lnTo>
                  <a:lnTo>
                    <a:pt x="397" y="718"/>
                  </a:lnTo>
                  <a:lnTo>
                    <a:pt x="400" y="723"/>
                  </a:lnTo>
                  <a:lnTo>
                    <a:pt x="405" y="729"/>
                  </a:lnTo>
                  <a:lnTo>
                    <a:pt x="407" y="734"/>
                  </a:lnTo>
                  <a:lnTo>
                    <a:pt x="409" y="739"/>
                  </a:lnTo>
                  <a:lnTo>
                    <a:pt x="411" y="744"/>
                  </a:lnTo>
                  <a:lnTo>
                    <a:pt x="412" y="749"/>
                  </a:lnTo>
                  <a:lnTo>
                    <a:pt x="413" y="753"/>
                  </a:lnTo>
                  <a:lnTo>
                    <a:pt x="413" y="758"/>
                  </a:lnTo>
                  <a:lnTo>
                    <a:pt x="413" y="763"/>
                  </a:lnTo>
                  <a:lnTo>
                    <a:pt x="412" y="767"/>
                  </a:lnTo>
                  <a:lnTo>
                    <a:pt x="412" y="771"/>
                  </a:lnTo>
                  <a:lnTo>
                    <a:pt x="411" y="775"/>
                  </a:lnTo>
                  <a:lnTo>
                    <a:pt x="410" y="779"/>
                  </a:lnTo>
                  <a:lnTo>
                    <a:pt x="408" y="783"/>
                  </a:lnTo>
                  <a:lnTo>
                    <a:pt x="407" y="787"/>
                  </a:lnTo>
                  <a:lnTo>
                    <a:pt x="405" y="791"/>
                  </a:lnTo>
                  <a:lnTo>
                    <a:pt x="403" y="794"/>
                  </a:lnTo>
                  <a:lnTo>
                    <a:pt x="400" y="798"/>
                  </a:lnTo>
                  <a:lnTo>
                    <a:pt x="394" y="805"/>
                  </a:lnTo>
                  <a:lnTo>
                    <a:pt x="388" y="812"/>
                  </a:lnTo>
                  <a:lnTo>
                    <a:pt x="381" y="818"/>
                  </a:lnTo>
                  <a:lnTo>
                    <a:pt x="373" y="824"/>
                  </a:lnTo>
                  <a:lnTo>
                    <a:pt x="364" y="829"/>
                  </a:lnTo>
                  <a:lnTo>
                    <a:pt x="355" y="833"/>
                  </a:lnTo>
                  <a:lnTo>
                    <a:pt x="346" y="837"/>
                  </a:lnTo>
                  <a:lnTo>
                    <a:pt x="337" y="839"/>
                  </a:lnTo>
                  <a:lnTo>
                    <a:pt x="326" y="841"/>
                  </a:lnTo>
                  <a:lnTo>
                    <a:pt x="316" y="843"/>
                  </a:lnTo>
                  <a:lnTo>
                    <a:pt x="306" y="843"/>
                  </a:lnTo>
                  <a:lnTo>
                    <a:pt x="296" y="843"/>
                  </a:lnTo>
                  <a:lnTo>
                    <a:pt x="287" y="842"/>
                  </a:lnTo>
                  <a:lnTo>
                    <a:pt x="279" y="840"/>
                  </a:lnTo>
                  <a:lnTo>
                    <a:pt x="271" y="838"/>
                  </a:lnTo>
                  <a:lnTo>
                    <a:pt x="262" y="836"/>
                  </a:lnTo>
                  <a:lnTo>
                    <a:pt x="254" y="833"/>
                  </a:lnTo>
                  <a:lnTo>
                    <a:pt x="247" y="830"/>
                  </a:lnTo>
                  <a:lnTo>
                    <a:pt x="240" y="826"/>
                  </a:lnTo>
                  <a:lnTo>
                    <a:pt x="233" y="822"/>
                  </a:lnTo>
                  <a:lnTo>
                    <a:pt x="226" y="817"/>
                  </a:lnTo>
                  <a:lnTo>
                    <a:pt x="220" y="812"/>
                  </a:lnTo>
                  <a:lnTo>
                    <a:pt x="214" y="806"/>
                  </a:lnTo>
                  <a:lnTo>
                    <a:pt x="209" y="800"/>
                  </a:lnTo>
                  <a:lnTo>
                    <a:pt x="204" y="793"/>
                  </a:lnTo>
                  <a:lnTo>
                    <a:pt x="199" y="786"/>
                  </a:lnTo>
                  <a:lnTo>
                    <a:pt x="193" y="778"/>
                  </a:lnTo>
                  <a:lnTo>
                    <a:pt x="185" y="762"/>
                  </a:lnTo>
                  <a:lnTo>
                    <a:pt x="177" y="745"/>
                  </a:lnTo>
                  <a:lnTo>
                    <a:pt x="171" y="728"/>
                  </a:lnTo>
                  <a:lnTo>
                    <a:pt x="166" y="710"/>
                  </a:lnTo>
                  <a:lnTo>
                    <a:pt x="162" y="692"/>
                  </a:lnTo>
                  <a:lnTo>
                    <a:pt x="158" y="673"/>
                  </a:lnTo>
                  <a:lnTo>
                    <a:pt x="157" y="655"/>
                  </a:lnTo>
                  <a:lnTo>
                    <a:pt x="156" y="635"/>
                  </a:lnTo>
                  <a:lnTo>
                    <a:pt x="157" y="611"/>
                  </a:lnTo>
                  <a:lnTo>
                    <a:pt x="160" y="587"/>
                  </a:lnTo>
                  <a:lnTo>
                    <a:pt x="164" y="563"/>
                  </a:lnTo>
                  <a:lnTo>
                    <a:pt x="169" y="540"/>
                  </a:lnTo>
                  <a:lnTo>
                    <a:pt x="176" y="517"/>
                  </a:lnTo>
                  <a:lnTo>
                    <a:pt x="184" y="495"/>
                  </a:lnTo>
                  <a:lnTo>
                    <a:pt x="195" y="473"/>
                  </a:lnTo>
                  <a:lnTo>
                    <a:pt x="207" y="451"/>
                  </a:lnTo>
                  <a:lnTo>
                    <a:pt x="220" y="429"/>
                  </a:lnTo>
                  <a:lnTo>
                    <a:pt x="235" y="409"/>
                  </a:lnTo>
                  <a:lnTo>
                    <a:pt x="251" y="389"/>
                  </a:lnTo>
                  <a:lnTo>
                    <a:pt x="270" y="368"/>
                  </a:lnTo>
                  <a:lnTo>
                    <a:pt x="311" y="329"/>
                  </a:lnTo>
                  <a:lnTo>
                    <a:pt x="358" y="292"/>
                  </a:lnTo>
                  <a:lnTo>
                    <a:pt x="410" y="258"/>
                  </a:lnTo>
                  <a:lnTo>
                    <a:pt x="465" y="228"/>
                  </a:lnTo>
                  <a:lnTo>
                    <a:pt x="523" y="203"/>
                  </a:lnTo>
                  <a:lnTo>
                    <a:pt x="585" y="182"/>
                  </a:lnTo>
                  <a:lnTo>
                    <a:pt x="650" y="166"/>
                  </a:lnTo>
                  <a:lnTo>
                    <a:pt x="718" y="155"/>
                  </a:lnTo>
                  <a:lnTo>
                    <a:pt x="789" y="148"/>
                  </a:lnTo>
                  <a:lnTo>
                    <a:pt x="863" y="146"/>
                  </a:lnTo>
                  <a:lnTo>
                    <a:pt x="916" y="147"/>
                  </a:lnTo>
                  <a:lnTo>
                    <a:pt x="982" y="149"/>
                  </a:lnTo>
                  <a:lnTo>
                    <a:pt x="1147" y="160"/>
                  </a:lnTo>
                  <a:lnTo>
                    <a:pt x="1322" y="173"/>
                  </a:lnTo>
                  <a:lnTo>
                    <a:pt x="1497" y="181"/>
                  </a:lnTo>
                  <a:lnTo>
                    <a:pt x="1673" y="187"/>
                  </a:lnTo>
                  <a:lnTo>
                    <a:pt x="1850" y="189"/>
                  </a:lnTo>
                  <a:lnTo>
                    <a:pt x="1876" y="188"/>
                  </a:lnTo>
                  <a:lnTo>
                    <a:pt x="1888" y="187"/>
                  </a:lnTo>
                  <a:lnTo>
                    <a:pt x="1899" y="186"/>
                  </a:lnTo>
                  <a:lnTo>
                    <a:pt x="1909" y="184"/>
                  </a:lnTo>
                  <a:lnTo>
                    <a:pt x="1918" y="181"/>
                  </a:lnTo>
                  <a:lnTo>
                    <a:pt x="1927" y="178"/>
                  </a:lnTo>
                  <a:lnTo>
                    <a:pt x="1934" y="175"/>
                  </a:lnTo>
                  <a:lnTo>
                    <a:pt x="1940" y="171"/>
                  </a:lnTo>
                  <a:lnTo>
                    <a:pt x="1946" y="167"/>
                  </a:lnTo>
                  <a:lnTo>
                    <a:pt x="1950" y="163"/>
                  </a:lnTo>
                  <a:lnTo>
                    <a:pt x="1954" y="158"/>
                  </a:lnTo>
                  <a:lnTo>
                    <a:pt x="1957" y="152"/>
                  </a:lnTo>
                  <a:lnTo>
                    <a:pt x="1960" y="146"/>
                  </a:lnTo>
                  <a:lnTo>
                    <a:pt x="1962" y="140"/>
                  </a:lnTo>
                  <a:lnTo>
                    <a:pt x="1962" y="133"/>
                  </a:lnTo>
                  <a:lnTo>
                    <a:pt x="1962" y="132"/>
                  </a:lnTo>
                  <a:lnTo>
                    <a:pt x="1962" y="130"/>
                  </a:lnTo>
                  <a:lnTo>
                    <a:pt x="1961" y="126"/>
                  </a:lnTo>
                  <a:lnTo>
                    <a:pt x="1959" y="112"/>
                  </a:lnTo>
                  <a:lnTo>
                    <a:pt x="1956" y="102"/>
                  </a:lnTo>
                  <a:lnTo>
                    <a:pt x="1955" y="94"/>
                  </a:lnTo>
                  <a:lnTo>
                    <a:pt x="1954" y="86"/>
                  </a:lnTo>
                  <a:lnTo>
                    <a:pt x="1954" y="80"/>
                  </a:lnTo>
                  <a:lnTo>
                    <a:pt x="1954" y="72"/>
                  </a:lnTo>
                  <a:lnTo>
                    <a:pt x="1956" y="64"/>
                  </a:lnTo>
                  <a:lnTo>
                    <a:pt x="1959" y="56"/>
                  </a:lnTo>
                  <a:lnTo>
                    <a:pt x="1960" y="52"/>
                  </a:lnTo>
                  <a:lnTo>
                    <a:pt x="1962" y="49"/>
                  </a:lnTo>
                  <a:lnTo>
                    <a:pt x="1964" y="45"/>
                  </a:lnTo>
                  <a:lnTo>
                    <a:pt x="1966" y="41"/>
                  </a:lnTo>
                  <a:lnTo>
                    <a:pt x="1968" y="38"/>
                  </a:lnTo>
                  <a:lnTo>
                    <a:pt x="1971" y="34"/>
                  </a:lnTo>
                  <a:lnTo>
                    <a:pt x="1973" y="32"/>
                  </a:lnTo>
                  <a:lnTo>
                    <a:pt x="1976" y="28"/>
                  </a:lnTo>
                  <a:lnTo>
                    <a:pt x="1980" y="25"/>
                  </a:lnTo>
                  <a:lnTo>
                    <a:pt x="1983" y="22"/>
                  </a:lnTo>
                  <a:lnTo>
                    <a:pt x="1990" y="17"/>
                  </a:lnTo>
                  <a:lnTo>
                    <a:pt x="1998" y="12"/>
                  </a:lnTo>
                  <a:lnTo>
                    <a:pt x="2002" y="11"/>
                  </a:lnTo>
                  <a:lnTo>
                    <a:pt x="2006" y="9"/>
                  </a:lnTo>
                  <a:lnTo>
                    <a:pt x="2010" y="7"/>
                  </a:lnTo>
                  <a:lnTo>
                    <a:pt x="2014" y="5"/>
                  </a:lnTo>
                  <a:lnTo>
                    <a:pt x="2018" y="4"/>
                  </a:lnTo>
                  <a:lnTo>
                    <a:pt x="2022" y="3"/>
                  </a:lnTo>
                  <a:lnTo>
                    <a:pt x="2032" y="1"/>
                  </a:lnTo>
                  <a:lnTo>
                    <a:pt x="2041" y="0"/>
                  </a:lnTo>
                  <a:lnTo>
                    <a:pt x="2051" y="0"/>
                  </a:lnTo>
                  <a:lnTo>
                    <a:pt x="2063" y="0"/>
                  </a:lnTo>
                  <a:lnTo>
                    <a:pt x="2068" y="0"/>
                  </a:lnTo>
                  <a:lnTo>
                    <a:pt x="2074" y="1"/>
                  </a:lnTo>
                  <a:lnTo>
                    <a:pt x="2079" y="2"/>
                  </a:lnTo>
                  <a:lnTo>
                    <a:pt x="2084" y="4"/>
                  </a:lnTo>
                  <a:lnTo>
                    <a:pt x="2089" y="5"/>
                  </a:lnTo>
                  <a:lnTo>
                    <a:pt x="2093" y="6"/>
                  </a:lnTo>
                  <a:lnTo>
                    <a:pt x="2099" y="8"/>
                  </a:lnTo>
                  <a:lnTo>
                    <a:pt x="2103" y="11"/>
                  </a:lnTo>
                  <a:lnTo>
                    <a:pt x="2108" y="13"/>
                  </a:lnTo>
                  <a:lnTo>
                    <a:pt x="2112" y="16"/>
                  </a:lnTo>
                  <a:lnTo>
                    <a:pt x="2116" y="18"/>
                  </a:lnTo>
                  <a:lnTo>
                    <a:pt x="2120" y="21"/>
                  </a:lnTo>
                  <a:lnTo>
                    <a:pt x="2128" y="28"/>
                  </a:lnTo>
                  <a:lnTo>
                    <a:pt x="2136" y="35"/>
                  </a:lnTo>
                  <a:lnTo>
                    <a:pt x="2142" y="43"/>
                  </a:lnTo>
                  <a:lnTo>
                    <a:pt x="2147" y="50"/>
                  </a:lnTo>
                  <a:lnTo>
                    <a:pt x="2151" y="59"/>
                  </a:lnTo>
                  <a:lnTo>
                    <a:pt x="2154" y="68"/>
                  </a:lnTo>
                  <a:lnTo>
                    <a:pt x="2156" y="78"/>
                  </a:lnTo>
                  <a:lnTo>
                    <a:pt x="2158" y="88"/>
                  </a:lnTo>
                  <a:lnTo>
                    <a:pt x="2158" y="98"/>
                  </a:lnTo>
                  <a:lnTo>
                    <a:pt x="2158" y="108"/>
                  </a:lnTo>
                  <a:lnTo>
                    <a:pt x="2157" y="118"/>
                  </a:lnTo>
                  <a:lnTo>
                    <a:pt x="2155" y="127"/>
                  </a:lnTo>
                  <a:lnTo>
                    <a:pt x="2152" y="136"/>
                  </a:lnTo>
                  <a:lnTo>
                    <a:pt x="2149" y="146"/>
                  </a:lnTo>
                  <a:lnTo>
                    <a:pt x="2145" y="154"/>
                  </a:lnTo>
                  <a:lnTo>
                    <a:pt x="2140" y="164"/>
                  </a:lnTo>
                  <a:lnTo>
                    <a:pt x="2135" y="172"/>
                  </a:lnTo>
                  <a:lnTo>
                    <a:pt x="2128" y="181"/>
                  </a:lnTo>
                  <a:lnTo>
                    <a:pt x="2121" y="189"/>
                  </a:lnTo>
                  <a:lnTo>
                    <a:pt x="2113" y="198"/>
                  </a:lnTo>
                  <a:lnTo>
                    <a:pt x="2105" y="206"/>
                  </a:lnTo>
                  <a:lnTo>
                    <a:pt x="2085" y="222"/>
                  </a:lnTo>
                  <a:lnTo>
                    <a:pt x="2064" y="237"/>
                  </a:lnTo>
                  <a:lnTo>
                    <a:pt x="2051" y="245"/>
                  </a:lnTo>
                  <a:lnTo>
                    <a:pt x="2038" y="252"/>
                  </a:lnTo>
                  <a:lnTo>
                    <a:pt x="2023" y="258"/>
                  </a:lnTo>
                  <a:lnTo>
                    <a:pt x="2009" y="264"/>
                  </a:lnTo>
                  <a:lnTo>
                    <a:pt x="1976" y="275"/>
                  </a:lnTo>
                  <a:lnTo>
                    <a:pt x="1940" y="283"/>
                  </a:lnTo>
                  <a:lnTo>
                    <a:pt x="1901" y="290"/>
                  </a:lnTo>
                  <a:lnTo>
                    <a:pt x="1858" y="296"/>
                  </a:lnTo>
                  <a:lnTo>
                    <a:pt x="1811" y="299"/>
                  </a:lnTo>
                  <a:lnTo>
                    <a:pt x="1761" y="301"/>
                  </a:lnTo>
                  <a:lnTo>
                    <a:pt x="1719" y="302"/>
                  </a:lnTo>
                  <a:lnTo>
                    <a:pt x="1708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706" y="302"/>
                  </a:lnTo>
                  <a:lnTo>
                    <a:pt x="1616" y="508"/>
                  </a:lnTo>
                  <a:lnTo>
                    <a:pt x="1528" y="739"/>
                  </a:lnTo>
                  <a:lnTo>
                    <a:pt x="1445" y="996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85960" y="574560"/>
              <a:ext cx="328680" cy="322200"/>
            </a:xfrm>
            <a:custGeom>
              <a:avLst/>
              <a:gdLst/>
              <a:ahLst/>
              <a:rect l="l" t="t" r="r" b="b"/>
              <a:pathLst>
                <a:path w="914" h="896">
                  <a:moveTo>
                    <a:pt x="615" y="0"/>
                  </a:moveTo>
                  <a:lnTo>
                    <a:pt x="631" y="0"/>
                  </a:lnTo>
                  <a:lnTo>
                    <a:pt x="646" y="2"/>
                  </a:lnTo>
                  <a:lnTo>
                    <a:pt x="661" y="2"/>
                  </a:lnTo>
                  <a:lnTo>
                    <a:pt x="677" y="5"/>
                  </a:lnTo>
                  <a:lnTo>
                    <a:pt x="691" y="8"/>
                  </a:lnTo>
                  <a:lnTo>
                    <a:pt x="705" y="12"/>
                  </a:lnTo>
                  <a:lnTo>
                    <a:pt x="719" y="16"/>
                  </a:lnTo>
                  <a:lnTo>
                    <a:pt x="733" y="20"/>
                  </a:lnTo>
                  <a:lnTo>
                    <a:pt x="746" y="26"/>
                  </a:lnTo>
                  <a:lnTo>
                    <a:pt x="758" y="32"/>
                  </a:lnTo>
                  <a:lnTo>
                    <a:pt x="771" y="39"/>
                  </a:lnTo>
                  <a:lnTo>
                    <a:pt x="783" y="47"/>
                  </a:lnTo>
                  <a:lnTo>
                    <a:pt x="795" y="54"/>
                  </a:lnTo>
                  <a:lnTo>
                    <a:pt x="807" y="64"/>
                  </a:lnTo>
                  <a:lnTo>
                    <a:pt x="828" y="83"/>
                  </a:lnTo>
                  <a:lnTo>
                    <a:pt x="839" y="93"/>
                  </a:lnTo>
                  <a:lnTo>
                    <a:pt x="848" y="104"/>
                  </a:lnTo>
                  <a:lnTo>
                    <a:pt x="857" y="116"/>
                  </a:lnTo>
                  <a:lnTo>
                    <a:pt x="865" y="128"/>
                  </a:lnTo>
                  <a:lnTo>
                    <a:pt x="880" y="154"/>
                  </a:lnTo>
                  <a:lnTo>
                    <a:pt x="891" y="181"/>
                  </a:lnTo>
                  <a:lnTo>
                    <a:pt x="900" y="211"/>
                  </a:lnTo>
                  <a:lnTo>
                    <a:pt x="908" y="241"/>
                  </a:lnTo>
                  <a:lnTo>
                    <a:pt x="912" y="274"/>
                  </a:lnTo>
                  <a:lnTo>
                    <a:pt x="913" y="309"/>
                  </a:lnTo>
                  <a:lnTo>
                    <a:pt x="910" y="365"/>
                  </a:lnTo>
                  <a:lnTo>
                    <a:pt x="900" y="419"/>
                  </a:lnTo>
                  <a:lnTo>
                    <a:pt x="885" y="472"/>
                  </a:lnTo>
                  <a:lnTo>
                    <a:pt x="864" y="523"/>
                  </a:lnTo>
                  <a:lnTo>
                    <a:pt x="837" y="573"/>
                  </a:lnTo>
                  <a:lnTo>
                    <a:pt x="804" y="622"/>
                  </a:lnTo>
                  <a:lnTo>
                    <a:pt x="764" y="669"/>
                  </a:lnTo>
                  <a:lnTo>
                    <a:pt x="719" y="715"/>
                  </a:lnTo>
                  <a:lnTo>
                    <a:pt x="671" y="757"/>
                  </a:lnTo>
                  <a:lnTo>
                    <a:pt x="621" y="794"/>
                  </a:lnTo>
                  <a:lnTo>
                    <a:pt x="571" y="824"/>
                  </a:lnTo>
                  <a:lnTo>
                    <a:pt x="546" y="838"/>
                  </a:lnTo>
                  <a:lnTo>
                    <a:pt x="520" y="850"/>
                  </a:lnTo>
                  <a:lnTo>
                    <a:pt x="495" y="860"/>
                  </a:lnTo>
                  <a:lnTo>
                    <a:pt x="469" y="869"/>
                  </a:lnTo>
                  <a:lnTo>
                    <a:pt x="442" y="877"/>
                  </a:lnTo>
                  <a:lnTo>
                    <a:pt x="415" y="884"/>
                  </a:lnTo>
                  <a:lnTo>
                    <a:pt x="390" y="889"/>
                  </a:lnTo>
                  <a:lnTo>
                    <a:pt x="363" y="892"/>
                  </a:lnTo>
                  <a:lnTo>
                    <a:pt x="335" y="894"/>
                  </a:lnTo>
                  <a:lnTo>
                    <a:pt x="308" y="895"/>
                  </a:lnTo>
                  <a:lnTo>
                    <a:pt x="274" y="894"/>
                  </a:lnTo>
                  <a:lnTo>
                    <a:pt x="242" y="890"/>
                  </a:lnTo>
                  <a:lnTo>
                    <a:pt x="211" y="885"/>
                  </a:lnTo>
                  <a:lnTo>
                    <a:pt x="197" y="880"/>
                  </a:lnTo>
                  <a:lnTo>
                    <a:pt x="183" y="876"/>
                  </a:lnTo>
                  <a:lnTo>
                    <a:pt x="169" y="871"/>
                  </a:lnTo>
                  <a:lnTo>
                    <a:pt x="156" y="866"/>
                  </a:lnTo>
                  <a:lnTo>
                    <a:pt x="143" y="860"/>
                  </a:lnTo>
                  <a:lnTo>
                    <a:pt x="130" y="853"/>
                  </a:lnTo>
                  <a:lnTo>
                    <a:pt x="119" y="845"/>
                  </a:lnTo>
                  <a:lnTo>
                    <a:pt x="106" y="838"/>
                  </a:lnTo>
                  <a:lnTo>
                    <a:pt x="96" y="829"/>
                  </a:lnTo>
                  <a:lnTo>
                    <a:pt x="85" y="820"/>
                  </a:lnTo>
                  <a:lnTo>
                    <a:pt x="74" y="811"/>
                  </a:lnTo>
                  <a:lnTo>
                    <a:pt x="65" y="800"/>
                  </a:lnTo>
                  <a:lnTo>
                    <a:pt x="56" y="790"/>
                  </a:lnTo>
                  <a:lnTo>
                    <a:pt x="48" y="779"/>
                  </a:lnTo>
                  <a:lnTo>
                    <a:pt x="41" y="768"/>
                  </a:lnTo>
                  <a:lnTo>
                    <a:pt x="33" y="756"/>
                  </a:lnTo>
                  <a:lnTo>
                    <a:pt x="21" y="732"/>
                  </a:lnTo>
                  <a:lnTo>
                    <a:pt x="12" y="706"/>
                  </a:lnTo>
                  <a:lnTo>
                    <a:pt x="5" y="679"/>
                  </a:lnTo>
                  <a:lnTo>
                    <a:pt x="1" y="649"/>
                  </a:lnTo>
                  <a:lnTo>
                    <a:pt x="0" y="619"/>
                  </a:lnTo>
                  <a:lnTo>
                    <a:pt x="2" y="566"/>
                  </a:lnTo>
                  <a:lnTo>
                    <a:pt x="10" y="515"/>
                  </a:lnTo>
                  <a:lnTo>
                    <a:pt x="20" y="465"/>
                  </a:lnTo>
                  <a:lnTo>
                    <a:pt x="36" y="417"/>
                  </a:lnTo>
                  <a:lnTo>
                    <a:pt x="56" y="370"/>
                  </a:lnTo>
                  <a:lnTo>
                    <a:pt x="81" y="325"/>
                  </a:lnTo>
                  <a:lnTo>
                    <a:pt x="110" y="280"/>
                  </a:lnTo>
                  <a:lnTo>
                    <a:pt x="143" y="238"/>
                  </a:lnTo>
                  <a:lnTo>
                    <a:pt x="193" y="182"/>
                  </a:lnTo>
                  <a:lnTo>
                    <a:pt x="218" y="157"/>
                  </a:lnTo>
                  <a:lnTo>
                    <a:pt x="244" y="133"/>
                  </a:lnTo>
                  <a:lnTo>
                    <a:pt x="271" y="112"/>
                  </a:lnTo>
                  <a:lnTo>
                    <a:pt x="299" y="93"/>
                  </a:lnTo>
                  <a:lnTo>
                    <a:pt x="328" y="75"/>
                  </a:lnTo>
                  <a:lnTo>
                    <a:pt x="357" y="59"/>
                  </a:lnTo>
                  <a:lnTo>
                    <a:pt x="387" y="45"/>
                  </a:lnTo>
                  <a:lnTo>
                    <a:pt x="417" y="33"/>
                  </a:lnTo>
                  <a:lnTo>
                    <a:pt x="448" y="23"/>
                  </a:lnTo>
                  <a:lnTo>
                    <a:pt x="480" y="14"/>
                  </a:lnTo>
                  <a:lnTo>
                    <a:pt x="513" y="8"/>
                  </a:lnTo>
                  <a:lnTo>
                    <a:pt x="546" y="3"/>
                  </a:lnTo>
                  <a:lnTo>
                    <a:pt x="580" y="1"/>
                  </a:lnTo>
                  <a:close/>
                  <a:moveTo>
                    <a:pt x="514" y="114"/>
                  </a:moveTo>
                  <a:lnTo>
                    <a:pt x="503" y="115"/>
                  </a:lnTo>
                  <a:lnTo>
                    <a:pt x="493" y="115"/>
                  </a:lnTo>
                  <a:lnTo>
                    <a:pt x="481" y="118"/>
                  </a:lnTo>
                  <a:lnTo>
                    <a:pt x="470" y="121"/>
                  </a:lnTo>
                  <a:lnTo>
                    <a:pt x="460" y="125"/>
                  </a:lnTo>
                  <a:lnTo>
                    <a:pt x="448" y="130"/>
                  </a:lnTo>
                  <a:lnTo>
                    <a:pt x="437" y="135"/>
                  </a:lnTo>
                  <a:lnTo>
                    <a:pt x="427" y="142"/>
                  </a:lnTo>
                  <a:lnTo>
                    <a:pt x="415" y="149"/>
                  </a:lnTo>
                  <a:lnTo>
                    <a:pt x="404" y="158"/>
                  </a:lnTo>
                  <a:lnTo>
                    <a:pt x="382" y="177"/>
                  </a:lnTo>
                  <a:lnTo>
                    <a:pt x="360" y="200"/>
                  </a:lnTo>
                  <a:lnTo>
                    <a:pt x="338" y="226"/>
                  </a:lnTo>
                  <a:lnTo>
                    <a:pt x="327" y="240"/>
                  </a:lnTo>
                  <a:lnTo>
                    <a:pt x="318" y="256"/>
                  </a:lnTo>
                  <a:lnTo>
                    <a:pt x="299" y="288"/>
                  </a:lnTo>
                  <a:lnTo>
                    <a:pt x="284" y="324"/>
                  </a:lnTo>
                  <a:lnTo>
                    <a:pt x="271" y="362"/>
                  </a:lnTo>
                  <a:lnTo>
                    <a:pt x="262" y="403"/>
                  </a:lnTo>
                  <a:lnTo>
                    <a:pt x="255" y="447"/>
                  </a:lnTo>
                  <a:lnTo>
                    <a:pt x="251" y="494"/>
                  </a:lnTo>
                  <a:lnTo>
                    <a:pt x="250" y="543"/>
                  </a:lnTo>
                  <a:lnTo>
                    <a:pt x="251" y="573"/>
                  </a:lnTo>
                  <a:lnTo>
                    <a:pt x="253" y="601"/>
                  </a:lnTo>
                  <a:lnTo>
                    <a:pt x="257" y="627"/>
                  </a:lnTo>
                  <a:lnTo>
                    <a:pt x="263" y="652"/>
                  </a:lnTo>
                  <a:lnTo>
                    <a:pt x="270" y="675"/>
                  </a:lnTo>
                  <a:lnTo>
                    <a:pt x="279" y="696"/>
                  </a:lnTo>
                  <a:lnTo>
                    <a:pt x="291" y="715"/>
                  </a:lnTo>
                  <a:lnTo>
                    <a:pt x="297" y="725"/>
                  </a:lnTo>
                  <a:lnTo>
                    <a:pt x="303" y="733"/>
                  </a:lnTo>
                  <a:lnTo>
                    <a:pt x="307" y="739"/>
                  </a:lnTo>
                  <a:lnTo>
                    <a:pt x="312" y="744"/>
                  </a:lnTo>
                  <a:lnTo>
                    <a:pt x="318" y="749"/>
                  </a:lnTo>
                  <a:lnTo>
                    <a:pt x="323" y="753"/>
                  </a:lnTo>
                  <a:lnTo>
                    <a:pt x="328" y="757"/>
                  </a:lnTo>
                  <a:lnTo>
                    <a:pt x="333" y="761"/>
                  </a:lnTo>
                  <a:lnTo>
                    <a:pt x="338" y="765"/>
                  </a:lnTo>
                  <a:lnTo>
                    <a:pt x="344" y="767"/>
                  </a:lnTo>
                  <a:lnTo>
                    <a:pt x="349" y="770"/>
                  </a:lnTo>
                  <a:lnTo>
                    <a:pt x="356" y="772"/>
                  </a:lnTo>
                  <a:lnTo>
                    <a:pt x="362" y="774"/>
                  </a:lnTo>
                  <a:lnTo>
                    <a:pt x="369" y="776"/>
                  </a:lnTo>
                  <a:lnTo>
                    <a:pt x="375" y="777"/>
                  </a:lnTo>
                  <a:lnTo>
                    <a:pt x="381" y="777"/>
                  </a:lnTo>
                  <a:lnTo>
                    <a:pt x="389" y="778"/>
                  </a:lnTo>
                  <a:lnTo>
                    <a:pt x="396" y="778"/>
                  </a:lnTo>
                  <a:lnTo>
                    <a:pt x="407" y="778"/>
                  </a:lnTo>
                  <a:lnTo>
                    <a:pt x="417" y="777"/>
                  </a:lnTo>
                  <a:lnTo>
                    <a:pt x="429" y="775"/>
                  </a:lnTo>
                  <a:lnTo>
                    <a:pt x="439" y="772"/>
                  </a:lnTo>
                  <a:lnTo>
                    <a:pt x="450" y="768"/>
                  </a:lnTo>
                  <a:lnTo>
                    <a:pt x="461" y="764"/>
                  </a:lnTo>
                  <a:lnTo>
                    <a:pt x="472" y="759"/>
                  </a:lnTo>
                  <a:lnTo>
                    <a:pt x="483" y="753"/>
                  </a:lnTo>
                  <a:lnTo>
                    <a:pt x="494" y="746"/>
                  </a:lnTo>
                  <a:lnTo>
                    <a:pt x="505" y="738"/>
                  </a:lnTo>
                  <a:lnTo>
                    <a:pt x="527" y="721"/>
                  </a:lnTo>
                  <a:lnTo>
                    <a:pt x="549" y="700"/>
                  </a:lnTo>
                  <a:lnTo>
                    <a:pt x="571" y="676"/>
                  </a:lnTo>
                  <a:lnTo>
                    <a:pt x="591" y="646"/>
                  </a:lnTo>
                  <a:lnTo>
                    <a:pt x="609" y="613"/>
                  </a:lnTo>
                  <a:lnTo>
                    <a:pt x="624" y="578"/>
                  </a:lnTo>
                  <a:lnTo>
                    <a:pt x="637" y="540"/>
                  </a:lnTo>
                  <a:lnTo>
                    <a:pt x="646" y="500"/>
                  </a:lnTo>
                  <a:lnTo>
                    <a:pt x="653" y="458"/>
                  </a:lnTo>
                  <a:lnTo>
                    <a:pt x="657" y="414"/>
                  </a:lnTo>
                  <a:lnTo>
                    <a:pt x="658" y="367"/>
                  </a:lnTo>
                  <a:lnTo>
                    <a:pt x="657" y="333"/>
                  </a:lnTo>
                  <a:lnTo>
                    <a:pt x="655" y="302"/>
                  </a:lnTo>
                  <a:lnTo>
                    <a:pt x="652" y="273"/>
                  </a:lnTo>
                  <a:lnTo>
                    <a:pt x="648" y="247"/>
                  </a:lnTo>
                  <a:lnTo>
                    <a:pt x="642" y="223"/>
                  </a:lnTo>
                  <a:lnTo>
                    <a:pt x="634" y="203"/>
                  </a:lnTo>
                  <a:lnTo>
                    <a:pt x="630" y="194"/>
                  </a:lnTo>
                  <a:lnTo>
                    <a:pt x="625" y="185"/>
                  </a:lnTo>
                  <a:lnTo>
                    <a:pt x="620" y="177"/>
                  </a:lnTo>
                  <a:lnTo>
                    <a:pt x="615" y="170"/>
                  </a:lnTo>
                  <a:lnTo>
                    <a:pt x="605" y="157"/>
                  </a:lnTo>
                  <a:lnTo>
                    <a:pt x="593" y="145"/>
                  </a:lnTo>
                  <a:lnTo>
                    <a:pt x="587" y="140"/>
                  </a:lnTo>
                  <a:lnTo>
                    <a:pt x="581" y="136"/>
                  </a:lnTo>
                  <a:lnTo>
                    <a:pt x="575" y="132"/>
                  </a:lnTo>
                  <a:lnTo>
                    <a:pt x="569" y="128"/>
                  </a:lnTo>
                  <a:lnTo>
                    <a:pt x="563" y="125"/>
                  </a:lnTo>
                  <a:lnTo>
                    <a:pt x="556" y="121"/>
                  </a:lnTo>
                  <a:lnTo>
                    <a:pt x="549" y="119"/>
                  </a:lnTo>
                  <a:lnTo>
                    <a:pt x="543" y="117"/>
                  </a:lnTo>
                  <a:lnTo>
                    <a:pt x="536" y="115"/>
                  </a:lnTo>
                  <a:lnTo>
                    <a:pt x="529" y="115"/>
                  </a:lnTo>
                  <a:lnTo>
                    <a:pt x="521" y="11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41640" y="574560"/>
              <a:ext cx="295200" cy="324000"/>
            </a:xfrm>
            <a:custGeom>
              <a:avLst/>
              <a:gdLst/>
              <a:ahLst/>
              <a:rect l="l" t="t" r="r" b="b"/>
              <a:pathLst>
                <a:path w="819" h="898">
                  <a:moveTo>
                    <a:pt x="600" y="362"/>
                  </a:moveTo>
                  <a:lnTo>
                    <a:pt x="652" y="361"/>
                  </a:lnTo>
                  <a:lnTo>
                    <a:pt x="672" y="362"/>
                  </a:lnTo>
                  <a:lnTo>
                    <a:pt x="691" y="364"/>
                  </a:lnTo>
                  <a:lnTo>
                    <a:pt x="708" y="367"/>
                  </a:lnTo>
                  <a:lnTo>
                    <a:pt x="725" y="371"/>
                  </a:lnTo>
                  <a:lnTo>
                    <a:pt x="739" y="376"/>
                  </a:lnTo>
                  <a:lnTo>
                    <a:pt x="754" y="383"/>
                  </a:lnTo>
                  <a:lnTo>
                    <a:pt x="766" y="390"/>
                  </a:lnTo>
                  <a:lnTo>
                    <a:pt x="777" y="399"/>
                  </a:lnTo>
                  <a:lnTo>
                    <a:pt x="787" y="409"/>
                  </a:lnTo>
                  <a:lnTo>
                    <a:pt x="795" y="420"/>
                  </a:lnTo>
                  <a:lnTo>
                    <a:pt x="802" y="432"/>
                  </a:lnTo>
                  <a:lnTo>
                    <a:pt x="808" y="446"/>
                  </a:lnTo>
                  <a:lnTo>
                    <a:pt x="812" y="460"/>
                  </a:lnTo>
                  <a:lnTo>
                    <a:pt x="815" y="476"/>
                  </a:lnTo>
                  <a:lnTo>
                    <a:pt x="817" y="493"/>
                  </a:lnTo>
                  <a:lnTo>
                    <a:pt x="818" y="511"/>
                  </a:lnTo>
                  <a:lnTo>
                    <a:pt x="817" y="529"/>
                  </a:lnTo>
                  <a:lnTo>
                    <a:pt x="815" y="547"/>
                  </a:lnTo>
                  <a:lnTo>
                    <a:pt x="811" y="564"/>
                  </a:lnTo>
                  <a:lnTo>
                    <a:pt x="806" y="581"/>
                  </a:lnTo>
                  <a:lnTo>
                    <a:pt x="800" y="598"/>
                  </a:lnTo>
                  <a:lnTo>
                    <a:pt x="791" y="615"/>
                  </a:lnTo>
                  <a:lnTo>
                    <a:pt x="781" y="632"/>
                  </a:lnTo>
                  <a:lnTo>
                    <a:pt x="770" y="649"/>
                  </a:lnTo>
                  <a:lnTo>
                    <a:pt x="757" y="665"/>
                  </a:lnTo>
                  <a:lnTo>
                    <a:pt x="742" y="681"/>
                  </a:lnTo>
                  <a:lnTo>
                    <a:pt x="709" y="713"/>
                  </a:lnTo>
                  <a:lnTo>
                    <a:pt x="670" y="745"/>
                  </a:lnTo>
                  <a:lnTo>
                    <a:pt x="625" y="775"/>
                  </a:lnTo>
                  <a:lnTo>
                    <a:pt x="576" y="803"/>
                  </a:lnTo>
                  <a:lnTo>
                    <a:pt x="528" y="828"/>
                  </a:lnTo>
                  <a:lnTo>
                    <a:pt x="481" y="849"/>
                  </a:lnTo>
                  <a:lnTo>
                    <a:pt x="432" y="866"/>
                  </a:lnTo>
                  <a:lnTo>
                    <a:pt x="385" y="880"/>
                  </a:lnTo>
                  <a:lnTo>
                    <a:pt x="339" y="889"/>
                  </a:lnTo>
                  <a:lnTo>
                    <a:pt x="291" y="895"/>
                  </a:lnTo>
                  <a:lnTo>
                    <a:pt x="245" y="897"/>
                  </a:lnTo>
                  <a:lnTo>
                    <a:pt x="215" y="896"/>
                  </a:lnTo>
                  <a:lnTo>
                    <a:pt x="187" y="893"/>
                  </a:lnTo>
                  <a:lnTo>
                    <a:pt x="161" y="889"/>
                  </a:lnTo>
                  <a:lnTo>
                    <a:pt x="138" y="883"/>
                  </a:lnTo>
                  <a:lnTo>
                    <a:pt x="115" y="876"/>
                  </a:lnTo>
                  <a:lnTo>
                    <a:pt x="96" y="867"/>
                  </a:lnTo>
                  <a:lnTo>
                    <a:pt x="77" y="856"/>
                  </a:lnTo>
                  <a:lnTo>
                    <a:pt x="61" y="843"/>
                  </a:lnTo>
                  <a:lnTo>
                    <a:pt x="46" y="829"/>
                  </a:lnTo>
                  <a:lnTo>
                    <a:pt x="34" y="814"/>
                  </a:lnTo>
                  <a:lnTo>
                    <a:pt x="23" y="796"/>
                  </a:lnTo>
                  <a:lnTo>
                    <a:pt x="15" y="776"/>
                  </a:lnTo>
                  <a:lnTo>
                    <a:pt x="8" y="756"/>
                  </a:lnTo>
                  <a:lnTo>
                    <a:pt x="4" y="733"/>
                  </a:lnTo>
                  <a:lnTo>
                    <a:pt x="1" y="709"/>
                  </a:lnTo>
                  <a:lnTo>
                    <a:pt x="0" y="683"/>
                  </a:lnTo>
                  <a:lnTo>
                    <a:pt x="3" y="624"/>
                  </a:lnTo>
                  <a:lnTo>
                    <a:pt x="11" y="565"/>
                  </a:lnTo>
                  <a:lnTo>
                    <a:pt x="25" y="508"/>
                  </a:lnTo>
                  <a:lnTo>
                    <a:pt x="44" y="450"/>
                  </a:lnTo>
                  <a:lnTo>
                    <a:pt x="69" y="393"/>
                  </a:lnTo>
                  <a:lnTo>
                    <a:pt x="99" y="336"/>
                  </a:lnTo>
                  <a:lnTo>
                    <a:pt x="135" y="280"/>
                  </a:lnTo>
                  <a:lnTo>
                    <a:pt x="176" y="224"/>
                  </a:lnTo>
                  <a:lnTo>
                    <a:pt x="221" y="171"/>
                  </a:lnTo>
                  <a:lnTo>
                    <a:pt x="269" y="126"/>
                  </a:lnTo>
                  <a:lnTo>
                    <a:pt x="292" y="106"/>
                  </a:lnTo>
                  <a:lnTo>
                    <a:pt x="317" y="88"/>
                  </a:lnTo>
                  <a:lnTo>
                    <a:pt x="343" y="71"/>
                  </a:lnTo>
                  <a:lnTo>
                    <a:pt x="368" y="56"/>
                  </a:lnTo>
                  <a:lnTo>
                    <a:pt x="395" y="43"/>
                  </a:lnTo>
                  <a:lnTo>
                    <a:pt x="422" y="32"/>
                  </a:lnTo>
                  <a:lnTo>
                    <a:pt x="450" y="22"/>
                  </a:lnTo>
                  <a:lnTo>
                    <a:pt x="478" y="14"/>
                  </a:lnTo>
                  <a:lnTo>
                    <a:pt x="505" y="8"/>
                  </a:lnTo>
                  <a:lnTo>
                    <a:pt x="534" y="4"/>
                  </a:lnTo>
                  <a:lnTo>
                    <a:pt x="564" y="1"/>
                  </a:lnTo>
                  <a:lnTo>
                    <a:pt x="594" y="0"/>
                  </a:lnTo>
                  <a:lnTo>
                    <a:pt x="618" y="1"/>
                  </a:lnTo>
                  <a:lnTo>
                    <a:pt x="640" y="3"/>
                  </a:lnTo>
                  <a:lnTo>
                    <a:pt x="662" y="5"/>
                  </a:lnTo>
                  <a:lnTo>
                    <a:pt x="682" y="10"/>
                  </a:lnTo>
                  <a:lnTo>
                    <a:pt x="699" y="15"/>
                  </a:lnTo>
                  <a:lnTo>
                    <a:pt x="715" y="22"/>
                  </a:lnTo>
                  <a:lnTo>
                    <a:pt x="730" y="29"/>
                  </a:lnTo>
                  <a:lnTo>
                    <a:pt x="743" y="38"/>
                  </a:lnTo>
                  <a:lnTo>
                    <a:pt x="755" y="48"/>
                  </a:lnTo>
                  <a:lnTo>
                    <a:pt x="765" y="59"/>
                  </a:lnTo>
                  <a:lnTo>
                    <a:pt x="773" y="72"/>
                  </a:lnTo>
                  <a:lnTo>
                    <a:pt x="780" y="85"/>
                  </a:lnTo>
                  <a:lnTo>
                    <a:pt x="786" y="100"/>
                  </a:lnTo>
                  <a:lnTo>
                    <a:pt x="790" y="116"/>
                  </a:lnTo>
                  <a:lnTo>
                    <a:pt x="792" y="133"/>
                  </a:lnTo>
                  <a:lnTo>
                    <a:pt x="793" y="152"/>
                  </a:lnTo>
                  <a:lnTo>
                    <a:pt x="792" y="169"/>
                  </a:lnTo>
                  <a:lnTo>
                    <a:pt x="790" y="185"/>
                  </a:lnTo>
                  <a:lnTo>
                    <a:pt x="786" y="201"/>
                  </a:lnTo>
                  <a:lnTo>
                    <a:pt x="780" y="216"/>
                  </a:lnTo>
                  <a:lnTo>
                    <a:pt x="774" y="231"/>
                  </a:lnTo>
                  <a:lnTo>
                    <a:pt x="766" y="246"/>
                  </a:lnTo>
                  <a:lnTo>
                    <a:pt x="756" y="260"/>
                  </a:lnTo>
                  <a:lnTo>
                    <a:pt x="744" y="273"/>
                  </a:lnTo>
                  <a:lnTo>
                    <a:pt x="732" y="286"/>
                  </a:lnTo>
                  <a:lnTo>
                    <a:pt x="718" y="299"/>
                  </a:lnTo>
                  <a:lnTo>
                    <a:pt x="702" y="311"/>
                  </a:lnTo>
                  <a:lnTo>
                    <a:pt x="685" y="322"/>
                  </a:lnTo>
                  <a:lnTo>
                    <a:pt x="666" y="333"/>
                  </a:lnTo>
                  <a:lnTo>
                    <a:pt x="645" y="343"/>
                  </a:lnTo>
                  <a:close/>
                  <a:moveTo>
                    <a:pt x="270" y="441"/>
                  </a:moveTo>
                  <a:lnTo>
                    <a:pt x="341" y="411"/>
                  </a:lnTo>
                  <a:lnTo>
                    <a:pt x="402" y="380"/>
                  </a:lnTo>
                  <a:lnTo>
                    <a:pt x="454" y="349"/>
                  </a:lnTo>
                  <a:lnTo>
                    <a:pt x="477" y="333"/>
                  </a:lnTo>
                  <a:lnTo>
                    <a:pt x="497" y="317"/>
                  </a:lnTo>
                  <a:lnTo>
                    <a:pt x="515" y="302"/>
                  </a:lnTo>
                  <a:lnTo>
                    <a:pt x="530" y="286"/>
                  </a:lnTo>
                  <a:lnTo>
                    <a:pt x="542" y="270"/>
                  </a:lnTo>
                  <a:lnTo>
                    <a:pt x="554" y="253"/>
                  </a:lnTo>
                  <a:lnTo>
                    <a:pt x="562" y="237"/>
                  </a:lnTo>
                  <a:lnTo>
                    <a:pt x="567" y="220"/>
                  </a:lnTo>
                  <a:lnTo>
                    <a:pt x="571" y="203"/>
                  </a:lnTo>
                  <a:lnTo>
                    <a:pt x="572" y="186"/>
                  </a:lnTo>
                  <a:lnTo>
                    <a:pt x="572" y="177"/>
                  </a:lnTo>
                  <a:lnTo>
                    <a:pt x="571" y="169"/>
                  </a:lnTo>
                  <a:lnTo>
                    <a:pt x="570" y="161"/>
                  </a:lnTo>
                  <a:lnTo>
                    <a:pt x="568" y="154"/>
                  </a:lnTo>
                  <a:lnTo>
                    <a:pt x="565" y="147"/>
                  </a:lnTo>
                  <a:lnTo>
                    <a:pt x="562" y="141"/>
                  </a:lnTo>
                  <a:lnTo>
                    <a:pt x="559" y="136"/>
                  </a:lnTo>
                  <a:lnTo>
                    <a:pt x="555" y="131"/>
                  </a:lnTo>
                  <a:lnTo>
                    <a:pt x="551" y="127"/>
                  </a:lnTo>
                  <a:lnTo>
                    <a:pt x="546" y="123"/>
                  </a:lnTo>
                  <a:lnTo>
                    <a:pt x="539" y="119"/>
                  </a:lnTo>
                  <a:lnTo>
                    <a:pt x="533" y="117"/>
                  </a:lnTo>
                  <a:lnTo>
                    <a:pt x="527" y="115"/>
                  </a:lnTo>
                  <a:lnTo>
                    <a:pt x="520" y="113"/>
                  </a:lnTo>
                  <a:lnTo>
                    <a:pt x="512" y="113"/>
                  </a:lnTo>
                  <a:lnTo>
                    <a:pt x="503" y="113"/>
                  </a:lnTo>
                  <a:lnTo>
                    <a:pt x="484" y="114"/>
                  </a:lnTo>
                  <a:lnTo>
                    <a:pt x="473" y="115"/>
                  </a:lnTo>
                  <a:lnTo>
                    <a:pt x="464" y="118"/>
                  </a:lnTo>
                  <a:lnTo>
                    <a:pt x="446" y="124"/>
                  </a:lnTo>
                  <a:lnTo>
                    <a:pt x="428" y="133"/>
                  </a:lnTo>
                  <a:lnTo>
                    <a:pt x="411" y="145"/>
                  </a:lnTo>
                  <a:lnTo>
                    <a:pt x="394" y="158"/>
                  </a:lnTo>
                  <a:lnTo>
                    <a:pt x="379" y="175"/>
                  </a:lnTo>
                  <a:lnTo>
                    <a:pt x="363" y="195"/>
                  </a:lnTo>
                  <a:lnTo>
                    <a:pt x="350" y="216"/>
                  </a:lnTo>
                  <a:lnTo>
                    <a:pt x="336" y="241"/>
                  </a:lnTo>
                  <a:lnTo>
                    <a:pt x="311" y="297"/>
                  </a:lnTo>
                  <a:lnTo>
                    <a:pt x="289" y="364"/>
                  </a:lnTo>
                  <a:close/>
                  <a:moveTo>
                    <a:pt x="257" y="543"/>
                  </a:moveTo>
                  <a:lnTo>
                    <a:pt x="254" y="566"/>
                  </a:lnTo>
                  <a:lnTo>
                    <a:pt x="251" y="589"/>
                  </a:lnTo>
                  <a:lnTo>
                    <a:pt x="250" y="614"/>
                  </a:lnTo>
                  <a:lnTo>
                    <a:pt x="249" y="639"/>
                  </a:lnTo>
                  <a:lnTo>
                    <a:pt x="250" y="678"/>
                  </a:lnTo>
                  <a:lnTo>
                    <a:pt x="252" y="695"/>
                  </a:lnTo>
                  <a:lnTo>
                    <a:pt x="254" y="709"/>
                  </a:lnTo>
                  <a:lnTo>
                    <a:pt x="256" y="723"/>
                  </a:lnTo>
                  <a:lnTo>
                    <a:pt x="259" y="734"/>
                  </a:lnTo>
                  <a:lnTo>
                    <a:pt x="261" y="739"/>
                  </a:lnTo>
                  <a:lnTo>
                    <a:pt x="263" y="743"/>
                  </a:lnTo>
                  <a:lnTo>
                    <a:pt x="265" y="747"/>
                  </a:lnTo>
                  <a:lnTo>
                    <a:pt x="268" y="751"/>
                  </a:lnTo>
                  <a:lnTo>
                    <a:pt x="271" y="754"/>
                  </a:lnTo>
                  <a:lnTo>
                    <a:pt x="273" y="758"/>
                  </a:lnTo>
                  <a:lnTo>
                    <a:pt x="276" y="760"/>
                  </a:lnTo>
                  <a:lnTo>
                    <a:pt x="279" y="763"/>
                  </a:lnTo>
                  <a:lnTo>
                    <a:pt x="282" y="765"/>
                  </a:lnTo>
                  <a:lnTo>
                    <a:pt x="286" y="768"/>
                  </a:lnTo>
                  <a:lnTo>
                    <a:pt x="289" y="770"/>
                  </a:lnTo>
                  <a:lnTo>
                    <a:pt x="293" y="772"/>
                  </a:lnTo>
                  <a:lnTo>
                    <a:pt x="297" y="774"/>
                  </a:lnTo>
                  <a:lnTo>
                    <a:pt x="302" y="774"/>
                  </a:lnTo>
                  <a:lnTo>
                    <a:pt x="306" y="776"/>
                  </a:lnTo>
                  <a:lnTo>
                    <a:pt x="311" y="777"/>
                  </a:lnTo>
                  <a:lnTo>
                    <a:pt x="316" y="778"/>
                  </a:lnTo>
                  <a:lnTo>
                    <a:pt x="321" y="778"/>
                  </a:lnTo>
                  <a:lnTo>
                    <a:pt x="326" y="779"/>
                  </a:lnTo>
                  <a:lnTo>
                    <a:pt x="331" y="779"/>
                  </a:lnTo>
                  <a:lnTo>
                    <a:pt x="341" y="779"/>
                  </a:lnTo>
                  <a:lnTo>
                    <a:pt x="350" y="778"/>
                  </a:lnTo>
                  <a:lnTo>
                    <a:pt x="359" y="776"/>
                  </a:lnTo>
                  <a:lnTo>
                    <a:pt x="369" y="774"/>
                  </a:lnTo>
                  <a:lnTo>
                    <a:pt x="379" y="772"/>
                  </a:lnTo>
                  <a:lnTo>
                    <a:pt x="389" y="769"/>
                  </a:lnTo>
                  <a:lnTo>
                    <a:pt x="398" y="765"/>
                  </a:lnTo>
                  <a:lnTo>
                    <a:pt x="409" y="761"/>
                  </a:lnTo>
                  <a:lnTo>
                    <a:pt x="428" y="751"/>
                  </a:lnTo>
                  <a:lnTo>
                    <a:pt x="448" y="739"/>
                  </a:lnTo>
                  <a:lnTo>
                    <a:pt x="468" y="724"/>
                  </a:lnTo>
                  <a:lnTo>
                    <a:pt x="489" y="708"/>
                  </a:lnTo>
                  <a:lnTo>
                    <a:pt x="509" y="690"/>
                  </a:lnTo>
                  <a:lnTo>
                    <a:pt x="525" y="672"/>
                  </a:lnTo>
                  <a:lnTo>
                    <a:pt x="539" y="652"/>
                  </a:lnTo>
                  <a:lnTo>
                    <a:pt x="546" y="643"/>
                  </a:lnTo>
                  <a:lnTo>
                    <a:pt x="552" y="633"/>
                  </a:lnTo>
                  <a:lnTo>
                    <a:pt x="556" y="622"/>
                  </a:lnTo>
                  <a:lnTo>
                    <a:pt x="561" y="612"/>
                  </a:lnTo>
                  <a:lnTo>
                    <a:pt x="564" y="601"/>
                  </a:lnTo>
                  <a:lnTo>
                    <a:pt x="567" y="590"/>
                  </a:lnTo>
                  <a:lnTo>
                    <a:pt x="571" y="569"/>
                  </a:lnTo>
                  <a:lnTo>
                    <a:pt x="572" y="546"/>
                  </a:lnTo>
                  <a:lnTo>
                    <a:pt x="572" y="536"/>
                  </a:lnTo>
                  <a:lnTo>
                    <a:pt x="571" y="526"/>
                  </a:lnTo>
                  <a:lnTo>
                    <a:pt x="570" y="518"/>
                  </a:lnTo>
                  <a:lnTo>
                    <a:pt x="568" y="509"/>
                  </a:lnTo>
                  <a:lnTo>
                    <a:pt x="565" y="502"/>
                  </a:lnTo>
                  <a:lnTo>
                    <a:pt x="562" y="495"/>
                  </a:lnTo>
                  <a:lnTo>
                    <a:pt x="559" y="489"/>
                  </a:lnTo>
                  <a:lnTo>
                    <a:pt x="555" y="484"/>
                  </a:lnTo>
                  <a:lnTo>
                    <a:pt x="550" y="479"/>
                  </a:lnTo>
                  <a:lnTo>
                    <a:pt x="545" y="475"/>
                  </a:lnTo>
                  <a:lnTo>
                    <a:pt x="538" y="471"/>
                  </a:lnTo>
                  <a:lnTo>
                    <a:pt x="532" y="468"/>
                  </a:lnTo>
                  <a:lnTo>
                    <a:pt x="525" y="465"/>
                  </a:lnTo>
                  <a:lnTo>
                    <a:pt x="518" y="464"/>
                  </a:lnTo>
                  <a:lnTo>
                    <a:pt x="510" y="463"/>
                  </a:lnTo>
                  <a:lnTo>
                    <a:pt x="501" y="463"/>
                  </a:lnTo>
                  <a:lnTo>
                    <a:pt x="492" y="463"/>
                  </a:lnTo>
                  <a:lnTo>
                    <a:pt x="483" y="463"/>
                  </a:lnTo>
                  <a:lnTo>
                    <a:pt x="472" y="465"/>
                  </a:lnTo>
                  <a:lnTo>
                    <a:pt x="460" y="468"/>
                  </a:lnTo>
                  <a:lnTo>
                    <a:pt x="435" y="474"/>
                  </a:lnTo>
                  <a:lnTo>
                    <a:pt x="407" y="483"/>
                  </a:lnTo>
                  <a:lnTo>
                    <a:pt x="374" y="494"/>
                  </a:lnTo>
                  <a:lnTo>
                    <a:pt x="339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71760" y="573120"/>
              <a:ext cx="533520" cy="325440"/>
            </a:xfrm>
            <a:custGeom>
              <a:avLst/>
              <a:gdLst/>
              <a:ahLst/>
              <a:rect l="l" t="t" r="r" b="b"/>
              <a:pathLst>
                <a:path w="1481" h="903">
                  <a:moveTo>
                    <a:pt x="58" y="269"/>
                  </a:moveTo>
                  <a:lnTo>
                    <a:pt x="0" y="209"/>
                  </a:lnTo>
                  <a:lnTo>
                    <a:pt x="32" y="181"/>
                  </a:lnTo>
                  <a:lnTo>
                    <a:pt x="63" y="157"/>
                  </a:lnTo>
                  <a:lnTo>
                    <a:pt x="93" y="134"/>
                  </a:lnTo>
                  <a:lnTo>
                    <a:pt x="123" y="113"/>
                  </a:lnTo>
                  <a:lnTo>
                    <a:pt x="153" y="94"/>
                  </a:lnTo>
                  <a:lnTo>
                    <a:pt x="182" y="77"/>
                  </a:lnTo>
                  <a:lnTo>
                    <a:pt x="210" y="62"/>
                  </a:lnTo>
                  <a:lnTo>
                    <a:pt x="239" y="49"/>
                  </a:lnTo>
                  <a:lnTo>
                    <a:pt x="266" y="38"/>
                  </a:lnTo>
                  <a:lnTo>
                    <a:pt x="292" y="28"/>
                  </a:lnTo>
                  <a:lnTo>
                    <a:pt x="316" y="19"/>
                  </a:lnTo>
                  <a:lnTo>
                    <a:pt x="339" y="12"/>
                  </a:lnTo>
                  <a:lnTo>
                    <a:pt x="361" y="7"/>
                  </a:lnTo>
                  <a:lnTo>
                    <a:pt x="381" y="4"/>
                  </a:lnTo>
                  <a:lnTo>
                    <a:pt x="400" y="1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4" y="1"/>
                  </a:lnTo>
                  <a:lnTo>
                    <a:pt x="441" y="2"/>
                  </a:lnTo>
                  <a:lnTo>
                    <a:pt x="448" y="4"/>
                  </a:lnTo>
                  <a:lnTo>
                    <a:pt x="454" y="6"/>
                  </a:lnTo>
                  <a:lnTo>
                    <a:pt x="461" y="9"/>
                  </a:lnTo>
                  <a:lnTo>
                    <a:pt x="467" y="12"/>
                  </a:lnTo>
                  <a:lnTo>
                    <a:pt x="470" y="13"/>
                  </a:lnTo>
                  <a:lnTo>
                    <a:pt x="472" y="15"/>
                  </a:lnTo>
                  <a:lnTo>
                    <a:pt x="475" y="17"/>
                  </a:lnTo>
                  <a:lnTo>
                    <a:pt x="477" y="19"/>
                  </a:lnTo>
                  <a:lnTo>
                    <a:pt x="479" y="21"/>
                  </a:lnTo>
                  <a:lnTo>
                    <a:pt x="481" y="23"/>
                  </a:lnTo>
                  <a:lnTo>
                    <a:pt x="483" y="25"/>
                  </a:lnTo>
                  <a:lnTo>
                    <a:pt x="484" y="28"/>
                  </a:lnTo>
                  <a:lnTo>
                    <a:pt x="486" y="30"/>
                  </a:lnTo>
                  <a:lnTo>
                    <a:pt x="487" y="32"/>
                  </a:lnTo>
                  <a:lnTo>
                    <a:pt x="488" y="34"/>
                  </a:lnTo>
                  <a:lnTo>
                    <a:pt x="489" y="37"/>
                  </a:lnTo>
                  <a:lnTo>
                    <a:pt x="491" y="40"/>
                  </a:lnTo>
                  <a:lnTo>
                    <a:pt x="492" y="42"/>
                  </a:lnTo>
                  <a:lnTo>
                    <a:pt x="493" y="48"/>
                  </a:lnTo>
                  <a:lnTo>
                    <a:pt x="493" y="54"/>
                  </a:lnTo>
                  <a:lnTo>
                    <a:pt x="493" y="60"/>
                  </a:lnTo>
                  <a:lnTo>
                    <a:pt x="492" y="68"/>
                  </a:lnTo>
                  <a:lnTo>
                    <a:pt x="489" y="75"/>
                  </a:lnTo>
                  <a:lnTo>
                    <a:pt x="487" y="85"/>
                  </a:lnTo>
                  <a:lnTo>
                    <a:pt x="481" y="108"/>
                  </a:lnTo>
                  <a:lnTo>
                    <a:pt x="473" y="136"/>
                  </a:lnTo>
                  <a:lnTo>
                    <a:pt x="436" y="241"/>
                  </a:lnTo>
                  <a:lnTo>
                    <a:pt x="497" y="185"/>
                  </a:lnTo>
                  <a:lnTo>
                    <a:pt x="555" y="136"/>
                  </a:lnTo>
                  <a:lnTo>
                    <a:pt x="611" y="94"/>
                  </a:lnTo>
                  <a:lnTo>
                    <a:pt x="664" y="61"/>
                  </a:lnTo>
                  <a:lnTo>
                    <a:pt x="689" y="46"/>
                  </a:lnTo>
                  <a:lnTo>
                    <a:pt x="714" y="34"/>
                  </a:lnTo>
                  <a:lnTo>
                    <a:pt x="738" y="24"/>
                  </a:lnTo>
                  <a:lnTo>
                    <a:pt x="761" y="16"/>
                  </a:lnTo>
                  <a:lnTo>
                    <a:pt x="783" y="9"/>
                  </a:lnTo>
                  <a:lnTo>
                    <a:pt x="806" y="4"/>
                  </a:lnTo>
                  <a:lnTo>
                    <a:pt x="826" y="1"/>
                  </a:lnTo>
                  <a:lnTo>
                    <a:pt x="847" y="0"/>
                  </a:lnTo>
                  <a:lnTo>
                    <a:pt x="859" y="0"/>
                  </a:lnTo>
                  <a:lnTo>
                    <a:pt x="871" y="2"/>
                  </a:lnTo>
                  <a:lnTo>
                    <a:pt x="882" y="4"/>
                  </a:lnTo>
                  <a:lnTo>
                    <a:pt x="887" y="6"/>
                  </a:lnTo>
                  <a:lnTo>
                    <a:pt x="892" y="6"/>
                  </a:lnTo>
                  <a:lnTo>
                    <a:pt x="896" y="8"/>
                  </a:lnTo>
                  <a:lnTo>
                    <a:pt x="901" y="10"/>
                  </a:lnTo>
                  <a:lnTo>
                    <a:pt x="906" y="12"/>
                  </a:lnTo>
                  <a:lnTo>
                    <a:pt x="910" y="14"/>
                  </a:lnTo>
                  <a:lnTo>
                    <a:pt x="914" y="17"/>
                  </a:lnTo>
                  <a:lnTo>
                    <a:pt x="918" y="19"/>
                  </a:lnTo>
                  <a:lnTo>
                    <a:pt x="922" y="23"/>
                  </a:lnTo>
                  <a:lnTo>
                    <a:pt x="925" y="25"/>
                  </a:lnTo>
                  <a:lnTo>
                    <a:pt x="928" y="29"/>
                  </a:lnTo>
                  <a:lnTo>
                    <a:pt x="931" y="32"/>
                  </a:lnTo>
                  <a:lnTo>
                    <a:pt x="934" y="35"/>
                  </a:lnTo>
                  <a:lnTo>
                    <a:pt x="937" y="39"/>
                  </a:lnTo>
                  <a:lnTo>
                    <a:pt x="939" y="42"/>
                  </a:lnTo>
                  <a:lnTo>
                    <a:pt x="942" y="46"/>
                  </a:lnTo>
                  <a:lnTo>
                    <a:pt x="944" y="51"/>
                  </a:lnTo>
                  <a:lnTo>
                    <a:pt x="946" y="55"/>
                  </a:lnTo>
                  <a:lnTo>
                    <a:pt x="949" y="63"/>
                  </a:lnTo>
                  <a:lnTo>
                    <a:pt x="950" y="74"/>
                  </a:lnTo>
                  <a:lnTo>
                    <a:pt x="952" y="84"/>
                  </a:lnTo>
                  <a:lnTo>
                    <a:pt x="952" y="95"/>
                  </a:lnTo>
                  <a:lnTo>
                    <a:pt x="951" y="106"/>
                  </a:lnTo>
                  <a:lnTo>
                    <a:pt x="950" y="119"/>
                  </a:lnTo>
                  <a:lnTo>
                    <a:pt x="947" y="132"/>
                  </a:lnTo>
                  <a:lnTo>
                    <a:pt x="944" y="147"/>
                  </a:lnTo>
                  <a:lnTo>
                    <a:pt x="938" y="163"/>
                  </a:lnTo>
                  <a:lnTo>
                    <a:pt x="932" y="179"/>
                  </a:lnTo>
                  <a:lnTo>
                    <a:pt x="917" y="215"/>
                  </a:lnTo>
                  <a:lnTo>
                    <a:pt x="941" y="188"/>
                  </a:lnTo>
                  <a:lnTo>
                    <a:pt x="964" y="163"/>
                  </a:lnTo>
                  <a:lnTo>
                    <a:pt x="989" y="139"/>
                  </a:lnTo>
                  <a:lnTo>
                    <a:pt x="1014" y="118"/>
                  </a:lnTo>
                  <a:lnTo>
                    <a:pt x="1038" y="98"/>
                  </a:lnTo>
                  <a:lnTo>
                    <a:pt x="1064" y="81"/>
                  </a:lnTo>
                  <a:lnTo>
                    <a:pt x="1090" y="65"/>
                  </a:lnTo>
                  <a:lnTo>
                    <a:pt x="1116" y="51"/>
                  </a:lnTo>
                  <a:lnTo>
                    <a:pt x="1141" y="40"/>
                  </a:lnTo>
                  <a:lnTo>
                    <a:pt x="1165" y="29"/>
                  </a:lnTo>
                  <a:lnTo>
                    <a:pt x="1188" y="20"/>
                  </a:lnTo>
                  <a:lnTo>
                    <a:pt x="1209" y="13"/>
                  </a:lnTo>
                  <a:lnTo>
                    <a:pt x="1229" y="7"/>
                  </a:lnTo>
                  <a:lnTo>
                    <a:pt x="1248" y="4"/>
                  </a:lnTo>
                  <a:lnTo>
                    <a:pt x="1266" y="1"/>
                  </a:lnTo>
                  <a:lnTo>
                    <a:pt x="1274" y="0"/>
                  </a:lnTo>
                  <a:lnTo>
                    <a:pt x="1282" y="0"/>
                  </a:lnTo>
                  <a:lnTo>
                    <a:pt x="1297" y="1"/>
                  </a:lnTo>
                  <a:lnTo>
                    <a:pt x="1311" y="2"/>
                  </a:lnTo>
                  <a:lnTo>
                    <a:pt x="1324" y="5"/>
                  </a:lnTo>
                  <a:lnTo>
                    <a:pt x="1331" y="6"/>
                  </a:lnTo>
                  <a:lnTo>
                    <a:pt x="1336" y="8"/>
                  </a:lnTo>
                  <a:lnTo>
                    <a:pt x="1342" y="10"/>
                  </a:lnTo>
                  <a:lnTo>
                    <a:pt x="1348" y="12"/>
                  </a:lnTo>
                  <a:lnTo>
                    <a:pt x="1353" y="15"/>
                  </a:lnTo>
                  <a:lnTo>
                    <a:pt x="1359" y="17"/>
                  </a:lnTo>
                  <a:lnTo>
                    <a:pt x="1364" y="20"/>
                  </a:lnTo>
                  <a:lnTo>
                    <a:pt x="1368" y="23"/>
                  </a:lnTo>
                  <a:lnTo>
                    <a:pt x="1373" y="27"/>
                  </a:lnTo>
                  <a:lnTo>
                    <a:pt x="1377" y="30"/>
                  </a:lnTo>
                  <a:lnTo>
                    <a:pt x="1381" y="34"/>
                  </a:lnTo>
                  <a:lnTo>
                    <a:pt x="1385" y="38"/>
                  </a:lnTo>
                  <a:lnTo>
                    <a:pt x="1390" y="42"/>
                  </a:lnTo>
                  <a:lnTo>
                    <a:pt x="1393" y="47"/>
                  </a:lnTo>
                  <a:lnTo>
                    <a:pt x="1396" y="51"/>
                  </a:lnTo>
                  <a:lnTo>
                    <a:pt x="1399" y="57"/>
                  </a:lnTo>
                  <a:lnTo>
                    <a:pt x="1401" y="62"/>
                  </a:lnTo>
                  <a:lnTo>
                    <a:pt x="1404" y="67"/>
                  </a:lnTo>
                  <a:lnTo>
                    <a:pt x="1407" y="78"/>
                  </a:lnTo>
                  <a:lnTo>
                    <a:pt x="1410" y="90"/>
                  </a:lnTo>
                  <a:lnTo>
                    <a:pt x="1411" y="103"/>
                  </a:lnTo>
                  <a:lnTo>
                    <a:pt x="1412" y="117"/>
                  </a:lnTo>
                  <a:lnTo>
                    <a:pt x="1412" y="125"/>
                  </a:lnTo>
                  <a:lnTo>
                    <a:pt x="1411" y="133"/>
                  </a:lnTo>
                  <a:lnTo>
                    <a:pt x="1410" y="142"/>
                  </a:lnTo>
                  <a:lnTo>
                    <a:pt x="1409" y="151"/>
                  </a:lnTo>
                  <a:lnTo>
                    <a:pt x="1405" y="170"/>
                  </a:lnTo>
                  <a:lnTo>
                    <a:pt x="1400" y="190"/>
                  </a:lnTo>
                  <a:lnTo>
                    <a:pt x="1312" y="438"/>
                  </a:lnTo>
                  <a:lnTo>
                    <a:pt x="1271" y="551"/>
                  </a:lnTo>
                  <a:lnTo>
                    <a:pt x="1242" y="639"/>
                  </a:lnTo>
                  <a:lnTo>
                    <a:pt x="1225" y="700"/>
                  </a:lnTo>
                  <a:lnTo>
                    <a:pt x="1220" y="721"/>
                  </a:lnTo>
                  <a:lnTo>
                    <a:pt x="1219" y="730"/>
                  </a:lnTo>
                  <a:lnTo>
                    <a:pt x="1219" y="736"/>
                  </a:lnTo>
                  <a:lnTo>
                    <a:pt x="1219" y="740"/>
                  </a:lnTo>
                  <a:lnTo>
                    <a:pt x="1219" y="741"/>
                  </a:lnTo>
                  <a:lnTo>
                    <a:pt x="1220" y="742"/>
                  </a:lnTo>
                  <a:lnTo>
                    <a:pt x="1220" y="743"/>
                  </a:lnTo>
                  <a:lnTo>
                    <a:pt x="1220" y="744"/>
                  </a:lnTo>
                  <a:lnTo>
                    <a:pt x="1221" y="745"/>
                  </a:lnTo>
                  <a:lnTo>
                    <a:pt x="1221" y="746"/>
                  </a:lnTo>
                  <a:lnTo>
                    <a:pt x="1222" y="747"/>
                  </a:lnTo>
                  <a:lnTo>
                    <a:pt x="1222" y="747"/>
                  </a:lnTo>
                  <a:lnTo>
                    <a:pt x="1223" y="748"/>
                  </a:lnTo>
                  <a:lnTo>
                    <a:pt x="1224" y="748"/>
                  </a:lnTo>
                  <a:lnTo>
                    <a:pt x="1224" y="748"/>
                  </a:lnTo>
                  <a:lnTo>
                    <a:pt x="1225" y="749"/>
                  </a:lnTo>
                  <a:lnTo>
                    <a:pt x="1226" y="749"/>
                  </a:lnTo>
                  <a:lnTo>
                    <a:pt x="1227" y="749"/>
                  </a:lnTo>
                  <a:lnTo>
                    <a:pt x="1231" y="749"/>
                  </a:lnTo>
                  <a:lnTo>
                    <a:pt x="1235" y="748"/>
                  </a:lnTo>
                  <a:lnTo>
                    <a:pt x="1239" y="747"/>
                  </a:lnTo>
                  <a:lnTo>
                    <a:pt x="1243" y="747"/>
                  </a:lnTo>
                  <a:lnTo>
                    <a:pt x="1247" y="746"/>
                  </a:lnTo>
                  <a:lnTo>
                    <a:pt x="1252" y="744"/>
                  </a:lnTo>
                  <a:lnTo>
                    <a:pt x="1256" y="742"/>
                  </a:lnTo>
                  <a:lnTo>
                    <a:pt x="1260" y="740"/>
                  </a:lnTo>
                  <a:lnTo>
                    <a:pt x="1294" y="719"/>
                  </a:lnTo>
                  <a:lnTo>
                    <a:pt x="1332" y="695"/>
                  </a:lnTo>
                  <a:lnTo>
                    <a:pt x="1372" y="668"/>
                  </a:lnTo>
                  <a:lnTo>
                    <a:pt x="1416" y="636"/>
                  </a:lnTo>
                  <a:lnTo>
                    <a:pt x="1480" y="693"/>
                  </a:lnTo>
                  <a:lnTo>
                    <a:pt x="1472" y="700"/>
                  </a:lnTo>
                  <a:lnTo>
                    <a:pt x="1463" y="708"/>
                  </a:lnTo>
                  <a:lnTo>
                    <a:pt x="1441" y="723"/>
                  </a:lnTo>
                  <a:lnTo>
                    <a:pt x="1415" y="739"/>
                  </a:lnTo>
                  <a:lnTo>
                    <a:pt x="1385" y="755"/>
                  </a:lnTo>
                  <a:lnTo>
                    <a:pt x="1335" y="797"/>
                  </a:lnTo>
                  <a:lnTo>
                    <a:pt x="1312" y="814"/>
                  </a:lnTo>
                  <a:lnTo>
                    <a:pt x="1291" y="829"/>
                  </a:lnTo>
                  <a:lnTo>
                    <a:pt x="1269" y="842"/>
                  </a:lnTo>
                  <a:lnTo>
                    <a:pt x="1249" y="853"/>
                  </a:lnTo>
                  <a:lnTo>
                    <a:pt x="1231" y="861"/>
                  </a:lnTo>
                  <a:lnTo>
                    <a:pt x="1222" y="865"/>
                  </a:lnTo>
                  <a:lnTo>
                    <a:pt x="1213" y="868"/>
                  </a:lnTo>
                  <a:lnTo>
                    <a:pt x="1202" y="876"/>
                  </a:lnTo>
                  <a:lnTo>
                    <a:pt x="1191" y="883"/>
                  </a:lnTo>
                  <a:lnTo>
                    <a:pt x="1178" y="889"/>
                  </a:lnTo>
                  <a:lnTo>
                    <a:pt x="1166" y="894"/>
                  </a:lnTo>
                  <a:lnTo>
                    <a:pt x="1153" y="897"/>
                  </a:lnTo>
                  <a:lnTo>
                    <a:pt x="1139" y="900"/>
                  </a:lnTo>
                  <a:lnTo>
                    <a:pt x="1126" y="901"/>
                  </a:lnTo>
                  <a:lnTo>
                    <a:pt x="1112" y="902"/>
                  </a:lnTo>
                  <a:lnTo>
                    <a:pt x="1106" y="902"/>
                  </a:lnTo>
                  <a:lnTo>
                    <a:pt x="1101" y="901"/>
                  </a:lnTo>
                  <a:lnTo>
                    <a:pt x="1095" y="901"/>
                  </a:lnTo>
                  <a:lnTo>
                    <a:pt x="1090" y="900"/>
                  </a:lnTo>
                  <a:lnTo>
                    <a:pt x="1084" y="899"/>
                  </a:lnTo>
                  <a:lnTo>
                    <a:pt x="1079" y="897"/>
                  </a:lnTo>
                  <a:lnTo>
                    <a:pt x="1073" y="895"/>
                  </a:lnTo>
                  <a:lnTo>
                    <a:pt x="1068" y="894"/>
                  </a:lnTo>
                  <a:lnTo>
                    <a:pt x="1063" y="891"/>
                  </a:lnTo>
                  <a:lnTo>
                    <a:pt x="1058" y="889"/>
                  </a:lnTo>
                  <a:lnTo>
                    <a:pt x="1054" y="885"/>
                  </a:lnTo>
                  <a:lnTo>
                    <a:pt x="1049" y="882"/>
                  </a:lnTo>
                  <a:lnTo>
                    <a:pt x="1039" y="875"/>
                  </a:lnTo>
                  <a:lnTo>
                    <a:pt x="1031" y="866"/>
                  </a:lnTo>
                  <a:lnTo>
                    <a:pt x="1024" y="857"/>
                  </a:lnTo>
                  <a:lnTo>
                    <a:pt x="1017" y="847"/>
                  </a:lnTo>
                  <a:lnTo>
                    <a:pt x="1012" y="837"/>
                  </a:lnTo>
                  <a:lnTo>
                    <a:pt x="1006" y="825"/>
                  </a:lnTo>
                  <a:lnTo>
                    <a:pt x="1003" y="813"/>
                  </a:lnTo>
                  <a:lnTo>
                    <a:pt x="1000" y="800"/>
                  </a:lnTo>
                  <a:lnTo>
                    <a:pt x="999" y="787"/>
                  </a:lnTo>
                  <a:lnTo>
                    <a:pt x="998" y="773"/>
                  </a:lnTo>
                  <a:lnTo>
                    <a:pt x="999" y="747"/>
                  </a:lnTo>
                  <a:lnTo>
                    <a:pt x="1002" y="719"/>
                  </a:lnTo>
                  <a:lnTo>
                    <a:pt x="1007" y="690"/>
                  </a:lnTo>
                  <a:lnTo>
                    <a:pt x="1015" y="658"/>
                  </a:lnTo>
                  <a:lnTo>
                    <a:pt x="1027" y="616"/>
                  </a:lnTo>
                  <a:lnTo>
                    <a:pt x="1048" y="554"/>
                  </a:lnTo>
                  <a:lnTo>
                    <a:pt x="1112" y="372"/>
                  </a:lnTo>
                  <a:lnTo>
                    <a:pt x="1139" y="299"/>
                  </a:lnTo>
                  <a:lnTo>
                    <a:pt x="1158" y="241"/>
                  </a:lnTo>
                  <a:lnTo>
                    <a:pt x="1169" y="200"/>
                  </a:lnTo>
                  <a:lnTo>
                    <a:pt x="1172" y="187"/>
                  </a:lnTo>
                  <a:lnTo>
                    <a:pt x="1173" y="181"/>
                  </a:lnTo>
                  <a:lnTo>
                    <a:pt x="1173" y="176"/>
                  </a:lnTo>
                  <a:lnTo>
                    <a:pt x="1173" y="175"/>
                  </a:lnTo>
                  <a:lnTo>
                    <a:pt x="1173" y="173"/>
                  </a:lnTo>
                  <a:lnTo>
                    <a:pt x="1173" y="171"/>
                  </a:lnTo>
                  <a:lnTo>
                    <a:pt x="1172" y="170"/>
                  </a:lnTo>
                  <a:lnTo>
                    <a:pt x="1172" y="169"/>
                  </a:lnTo>
                  <a:lnTo>
                    <a:pt x="1171" y="168"/>
                  </a:lnTo>
                  <a:lnTo>
                    <a:pt x="1171" y="167"/>
                  </a:lnTo>
                  <a:lnTo>
                    <a:pt x="1170" y="166"/>
                  </a:lnTo>
                  <a:lnTo>
                    <a:pt x="1169" y="165"/>
                  </a:lnTo>
                  <a:lnTo>
                    <a:pt x="1168" y="164"/>
                  </a:lnTo>
                  <a:lnTo>
                    <a:pt x="1167" y="164"/>
                  </a:lnTo>
                  <a:lnTo>
                    <a:pt x="1166" y="164"/>
                  </a:lnTo>
                  <a:lnTo>
                    <a:pt x="1165" y="164"/>
                  </a:lnTo>
                  <a:lnTo>
                    <a:pt x="1164" y="163"/>
                  </a:lnTo>
                  <a:lnTo>
                    <a:pt x="1162" y="163"/>
                  </a:lnTo>
                  <a:lnTo>
                    <a:pt x="1161" y="163"/>
                  </a:lnTo>
                  <a:lnTo>
                    <a:pt x="1156" y="163"/>
                  </a:lnTo>
                  <a:lnTo>
                    <a:pt x="1150" y="164"/>
                  </a:lnTo>
                  <a:lnTo>
                    <a:pt x="1143" y="164"/>
                  </a:lnTo>
                  <a:lnTo>
                    <a:pt x="1136" y="165"/>
                  </a:lnTo>
                  <a:lnTo>
                    <a:pt x="1123" y="168"/>
                  </a:lnTo>
                  <a:lnTo>
                    <a:pt x="1107" y="171"/>
                  </a:lnTo>
                  <a:lnTo>
                    <a:pt x="1081" y="187"/>
                  </a:lnTo>
                  <a:lnTo>
                    <a:pt x="1055" y="203"/>
                  </a:lnTo>
                  <a:lnTo>
                    <a:pt x="1030" y="219"/>
                  </a:lnTo>
                  <a:lnTo>
                    <a:pt x="1007" y="236"/>
                  </a:lnTo>
                  <a:lnTo>
                    <a:pt x="986" y="253"/>
                  </a:lnTo>
                  <a:lnTo>
                    <a:pt x="966" y="270"/>
                  </a:lnTo>
                  <a:lnTo>
                    <a:pt x="948" y="287"/>
                  </a:lnTo>
                  <a:lnTo>
                    <a:pt x="930" y="305"/>
                  </a:lnTo>
                  <a:lnTo>
                    <a:pt x="919" y="317"/>
                  </a:lnTo>
                  <a:lnTo>
                    <a:pt x="909" y="333"/>
                  </a:lnTo>
                  <a:lnTo>
                    <a:pt x="898" y="349"/>
                  </a:lnTo>
                  <a:lnTo>
                    <a:pt x="888" y="368"/>
                  </a:lnTo>
                  <a:lnTo>
                    <a:pt x="879" y="388"/>
                  </a:lnTo>
                  <a:lnTo>
                    <a:pt x="869" y="410"/>
                  </a:lnTo>
                  <a:lnTo>
                    <a:pt x="851" y="460"/>
                  </a:lnTo>
                  <a:lnTo>
                    <a:pt x="728" y="871"/>
                  </a:lnTo>
                  <a:lnTo>
                    <a:pt x="514" y="871"/>
                  </a:lnTo>
                  <a:lnTo>
                    <a:pt x="692" y="245"/>
                  </a:lnTo>
                  <a:lnTo>
                    <a:pt x="707" y="196"/>
                  </a:lnTo>
                  <a:lnTo>
                    <a:pt x="710" y="182"/>
                  </a:lnTo>
                  <a:lnTo>
                    <a:pt x="711" y="178"/>
                  </a:lnTo>
                  <a:lnTo>
                    <a:pt x="711" y="176"/>
                  </a:lnTo>
                  <a:lnTo>
                    <a:pt x="711" y="176"/>
                  </a:lnTo>
                  <a:lnTo>
                    <a:pt x="711" y="174"/>
                  </a:lnTo>
                  <a:lnTo>
                    <a:pt x="711" y="172"/>
                  </a:lnTo>
                  <a:lnTo>
                    <a:pt x="711" y="170"/>
                  </a:lnTo>
                  <a:lnTo>
                    <a:pt x="710" y="170"/>
                  </a:lnTo>
                  <a:lnTo>
                    <a:pt x="710" y="168"/>
                  </a:lnTo>
                  <a:lnTo>
                    <a:pt x="710" y="167"/>
                  </a:lnTo>
                  <a:lnTo>
                    <a:pt x="709" y="166"/>
                  </a:lnTo>
                  <a:lnTo>
                    <a:pt x="709" y="165"/>
                  </a:lnTo>
                  <a:lnTo>
                    <a:pt x="709" y="165"/>
                  </a:lnTo>
                  <a:lnTo>
                    <a:pt x="708" y="164"/>
                  </a:lnTo>
                  <a:lnTo>
                    <a:pt x="708" y="164"/>
                  </a:lnTo>
                  <a:lnTo>
                    <a:pt x="707" y="164"/>
                  </a:lnTo>
                  <a:lnTo>
                    <a:pt x="707" y="164"/>
                  </a:lnTo>
                  <a:lnTo>
                    <a:pt x="706" y="164"/>
                  </a:lnTo>
                  <a:lnTo>
                    <a:pt x="706" y="164"/>
                  </a:lnTo>
                  <a:lnTo>
                    <a:pt x="705" y="164"/>
                  </a:lnTo>
                  <a:lnTo>
                    <a:pt x="704" y="163"/>
                  </a:lnTo>
                  <a:lnTo>
                    <a:pt x="702" y="163"/>
                  </a:lnTo>
                  <a:lnTo>
                    <a:pt x="701" y="163"/>
                  </a:lnTo>
                  <a:lnTo>
                    <a:pt x="699" y="163"/>
                  </a:lnTo>
                  <a:lnTo>
                    <a:pt x="695" y="163"/>
                  </a:lnTo>
                  <a:lnTo>
                    <a:pt x="691" y="164"/>
                  </a:lnTo>
                  <a:lnTo>
                    <a:pt x="688" y="164"/>
                  </a:lnTo>
                  <a:lnTo>
                    <a:pt x="683" y="165"/>
                  </a:lnTo>
                  <a:lnTo>
                    <a:pt x="673" y="169"/>
                  </a:lnTo>
                  <a:lnTo>
                    <a:pt x="660" y="173"/>
                  </a:lnTo>
                  <a:lnTo>
                    <a:pt x="647" y="179"/>
                  </a:lnTo>
                  <a:lnTo>
                    <a:pt x="632" y="186"/>
                  </a:lnTo>
                  <a:lnTo>
                    <a:pt x="595" y="204"/>
                  </a:lnTo>
                  <a:lnTo>
                    <a:pt x="549" y="236"/>
                  </a:lnTo>
                  <a:lnTo>
                    <a:pt x="530" y="252"/>
                  </a:lnTo>
                  <a:lnTo>
                    <a:pt x="510" y="267"/>
                  </a:lnTo>
                  <a:lnTo>
                    <a:pt x="493" y="283"/>
                  </a:lnTo>
                  <a:lnTo>
                    <a:pt x="477" y="299"/>
                  </a:lnTo>
                  <a:lnTo>
                    <a:pt x="463" y="315"/>
                  </a:lnTo>
                  <a:lnTo>
                    <a:pt x="449" y="330"/>
                  </a:lnTo>
                  <a:lnTo>
                    <a:pt x="438" y="347"/>
                  </a:lnTo>
                  <a:lnTo>
                    <a:pt x="426" y="366"/>
                  </a:lnTo>
                  <a:lnTo>
                    <a:pt x="414" y="386"/>
                  </a:lnTo>
                  <a:lnTo>
                    <a:pt x="404" y="410"/>
                  </a:lnTo>
                  <a:lnTo>
                    <a:pt x="394" y="435"/>
                  </a:lnTo>
                  <a:lnTo>
                    <a:pt x="383" y="462"/>
                  </a:lnTo>
                  <a:lnTo>
                    <a:pt x="365" y="523"/>
                  </a:lnTo>
                  <a:lnTo>
                    <a:pt x="268" y="871"/>
                  </a:lnTo>
                  <a:lnTo>
                    <a:pt x="53" y="871"/>
                  </a:lnTo>
                  <a:lnTo>
                    <a:pt x="193" y="362"/>
                  </a:lnTo>
                  <a:lnTo>
                    <a:pt x="234" y="218"/>
                  </a:lnTo>
                  <a:lnTo>
                    <a:pt x="244" y="179"/>
                  </a:lnTo>
                  <a:lnTo>
                    <a:pt x="246" y="167"/>
                  </a:lnTo>
                  <a:lnTo>
                    <a:pt x="247" y="163"/>
                  </a:lnTo>
                  <a:lnTo>
                    <a:pt x="247" y="160"/>
                  </a:lnTo>
                  <a:lnTo>
                    <a:pt x="247" y="160"/>
                  </a:lnTo>
                  <a:lnTo>
                    <a:pt x="247" y="159"/>
                  </a:lnTo>
                  <a:lnTo>
                    <a:pt x="247" y="159"/>
                  </a:lnTo>
                  <a:lnTo>
                    <a:pt x="247" y="159"/>
                  </a:lnTo>
                  <a:lnTo>
                    <a:pt x="247" y="159"/>
                  </a:lnTo>
                  <a:lnTo>
                    <a:pt x="247" y="159"/>
                  </a:lnTo>
                  <a:lnTo>
                    <a:pt x="247" y="159"/>
                  </a:lnTo>
                  <a:lnTo>
                    <a:pt x="249" y="159"/>
                  </a:lnTo>
                  <a:lnTo>
                    <a:pt x="249" y="159"/>
                  </a:lnTo>
                  <a:lnTo>
                    <a:pt x="249" y="158"/>
                  </a:lnTo>
                  <a:lnTo>
                    <a:pt x="249" y="158"/>
                  </a:lnTo>
                  <a:lnTo>
                    <a:pt x="249" y="158"/>
                  </a:lnTo>
                  <a:lnTo>
                    <a:pt x="249" y="158"/>
                  </a:lnTo>
                  <a:lnTo>
                    <a:pt x="250" y="158"/>
                  </a:lnTo>
                  <a:lnTo>
                    <a:pt x="250" y="158"/>
                  </a:lnTo>
                  <a:lnTo>
                    <a:pt x="250" y="158"/>
                  </a:lnTo>
                  <a:lnTo>
                    <a:pt x="247" y="158"/>
                  </a:lnTo>
                  <a:lnTo>
                    <a:pt x="244" y="159"/>
                  </a:lnTo>
                  <a:lnTo>
                    <a:pt x="239" y="159"/>
                  </a:lnTo>
                  <a:lnTo>
                    <a:pt x="232" y="162"/>
                  </a:lnTo>
                  <a:lnTo>
                    <a:pt x="224" y="164"/>
                  </a:lnTo>
                  <a:lnTo>
                    <a:pt x="206" y="174"/>
                  </a:lnTo>
                  <a:lnTo>
                    <a:pt x="184" y="186"/>
                  </a:lnTo>
                  <a:lnTo>
                    <a:pt x="128" y="221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29040" y="574560"/>
              <a:ext cx="328680" cy="322200"/>
            </a:xfrm>
            <a:custGeom>
              <a:avLst/>
              <a:gdLst/>
              <a:ahLst/>
              <a:rect l="l" t="t" r="r" b="b"/>
              <a:pathLst>
                <a:path w="913" h="896">
                  <a:moveTo>
                    <a:pt x="615" y="0"/>
                  </a:moveTo>
                  <a:lnTo>
                    <a:pt x="630" y="0"/>
                  </a:lnTo>
                  <a:lnTo>
                    <a:pt x="646" y="2"/>
                  </a:lnTo>
                  <a:lnTo>
                    <a:pt x="661" y="2"/>
                  </a:lnTo>
                  <a:lnTo>
                    <a:pt x="677" y="5"/>
                  </a:lnTo>
                  <a:lnTo>
                    <a:pt x="691" y="8"/>
                  </a:lnTo>
                  <a:lnTo>
                    <a:pt x="704" y="12"/>
                  </a:lnTo>
                  <a:lnTo>
                    <a:pt x="719" y="16"/>
                  </a:lnTo>
                  <a:lnTo>
                    <a:pt x="732" y="20"/>
                  </a:lnTo>
                  <a:lnTo>
                    <a:pt x="746" y="26"/>
                  </a:lnTo>
                  <a:lnTo>
                    <a:pt x="758" y="32"/>
                  </a:lnTo>
                  <a:lnTo>
                    <a:pt x="770" y="39"/>
                  </a:lnTo>
                  <a:lnTo>
                    <a:pt x="783" y="47"/>
                  </a:lnTo>
                  <a:lnTo>
                    <a:pt x="795" y="54"/>
                  </a:lnTo>
                  <a:lnTo>
                    <a:pt x="806" y="64"/>
                  </a:lnTo>
                  <a:lnTo>
                    <a:pt x="828" y="83"/>
                  </a:lnTo>
                  <a:lnTo>
                    <a:pt x="838" y="93"/>
                  </a:lnTo>
                  <a:lnTo>
                    <a:pt x="848" y="104"/>
                  </a:lnTo>
                  <a:lnTo>
                    <a:pt x="857" y="116"/>
                  </a:lnTo>
                  <a:lnTo>
                    <a:pt x="865" y="128"/>
                  </a:lnTo>
                  <a:lnTo>
                    <a:pt x="880" y="154"/>
                  </a:lnTo>
                  <a:lnTo>
                    <a:pt x="891" y="181"/>
                  </a:lnTo>
                  <a:lnTo>
                    <a:pt x="900" y="211"/>
                  </a:lnTo>
                  <a:lnTo>
                    <a:pt x="907" y="241"/>
                  </a:lnTo>
                  <a:lnTo>
                    <a:pt x="911" y="274"/>
                  </a:lnTo>
                  <a:lnTo>
                    <a:pt x="912" y="309"/>
                  </a:lnTo>
                  <a:lnTo>
                    <a:pt x="909" y="365"/>
                  </a:lnTo>
                  <a:lnTo>
                    <a:pt x="900" y="419"/>
                  </a:lnTo>
                  <a:lnTo>
                    <a:pt x="885" y="472"/>
                  </a:lnTo>
                  <a:lnTo>
                    <a:pt x="864" y="523"/>
                  </a:lnTo>
                  <a:lnTo>
                    <a:pt x="836" y="573"/>
                  </a:lnTo>
                  <a:lnTo>
                    <a:pt x="803" y="622"/>
                  </a:lnTo>
                  <a:lnTo>
                    <a:pt x="764" y="669"/>
                  </a:lnTo>
                  <a:lnTo>
                    <a:pt x="719" y="715"/>
                  </a:lnTo>
                  <a:lnTo>
                    <a:pt x="670" y="757"/>
                  </a:lnTo>
                  <a:lnTo>
                    <a:pt x="621" y="794"/>
                  </a:lnTo>
                  <a:lnTo>
                    <a:pt x="571" y="824"/>
                  </a:lnTo>
                  <a:lnTo>
                    <a:pt x="546" y="838"/>
                  </a:lnTo>
                  <a:lnTo>
                    <a:pt x="520" y="850"/>
                  </a:lnTo>
                  <a:lnTo>
                    <a:pt x="494" y="860"/>
                  </a:lnTo>
                  <a:lnTo>
                    <a:pt x="469" y="869"/>
                  </a:lnTo>
                  <a:lnTo>
                    <a:pt x="442" y="877"/>
                  </a:lnTo>
                  <a:lnTo>
                    <a:pt x="415" y="884"/>
                  </a:lnTo>
                  <a:lnTo>
                    <a:pt x="389" y="889"/>
                  </a:lnTo>
                  <a:lnTo>
                    <a:pt x="363" y="892"/>
                  </a:lnTo>
                  <a:lnTo>
                    <a:pt x="335" y="894"/>
                  </a:lnTo>
                  <a:lnTo>
                    <a:pt x="308" y="895"/>
                  </a:lnTo>
                  <a:lnTo>
                    <a:pt x="274" y="894"/>
                  </a:lnTo>
                  <a:lnTo>
                    <a:pt x="242" y="890"/>
                  </a:lnTo>
                  <a:lnTo>
                    <a:pt x="211" y="885"/>
                  </a:lnTo>
                  <a:lnTo>
                    <a:pt x="197" y="880"/>
                  </a:lnTo>
                  <a:lnTo>
                    <a:pt x="182" y="876"/>
                  </a:lnTo>
                  <a:lnTo>
                    <a:pt x="169" y="871"/>
                  </a:lnTo>
                  <a:lnTo>
                    <a:pt x="156" y="866"/>
                  </a:lnTo>
                  <a:lnTo>
                    <a:pt x="143" y="860"/>
                  </a:lnTo>
                  <a:lnTo>
                    <a:pt x="130" y="853"/>
                  </a:lnTo>
                  <a:lnTo>
                    <a:pt x="119" y="845"/>
                  </a:lnTo>
                  <a:lnTo>
                    <a:pt x="106" y="838"/>
                  </a:lnTo>
                  <a:lnTo>
                    <a:pt x="96" y="829"/>
                  </a:lnTo>
                  <a:lnTo>
                    <a:pt x="85" y="820"/>
                  </a:lnTo>
                  <a:lnTo>
                    <a:pt x="74" y="811"/>
                  </a:lnTo>
                  <a:lnTo>
                    <a:pt x="65" y="800"/>
                  </a:lnTo>
                  <a:lnTo>
                    <a:pt x="56" y="790"/>
                  </a:lnTo>
                  <a:lnTo>
                    <a:pt x="47" y="779"/>
                  </a:lnTo>
                  <a:lnTo>
                    <a:pt x="40" y="768"/>
                  </a:lnTo>
                  <a:lnTo>
                    <a:pt x="33" y="756"/>
                  </a:lnTo>
                  <a:lnTo>
                    <a:pt x="21" y="732"/>
                  </a:lnTo>
                  <a:lnTo>
                    <a:pt x="11" y="706"/>
                  </a:lnTo>
                  <a:lnTo>
                    <a:pt x="5" y="679"/>
                  </a:lnTo>
                  <a:lnTo>
                    <a:pt x="1" y="649"/>
                  </a:lnTo>
                  <a:lnTo>
                    <a:pt x="0" y="619"/>
                  </a:lnTo>
                  <a:lnTo>
                    <a:pt x="2" y="566"/>
                  </a:lnTo>
                  <a:lnTo>
                    <a:pt x="9" y="515"/>
                  </a:lnTo>
                  <a:lnTo>
                    <a:pt x="20" y="465"/>
                  </a:lnTo>
                  <a:lnTo>
                    <a:pt x="36" y="417"/>
                  </a:lnTo>
                  <a:lnTo>
                    <a:pt x="56" y="370"/>
                  </a:lnTo>
                  <a:lnTo>
                    <a:pt x="80" y="325"/>
                  </a:lnTo>
                  <a:lnTo>
                    <a:pt x="109" y="280"/>
                  </a:lnTo>
                  <a:lnTo>
                    <a:pt x="143" y="238"/>
                  </a:lnTo>
                  <a:lnTo>
                    <a:pt x="193" y="182"/>
                  </a:lnTo>
                  <a:lnTo>
                    <a:pt x="217" y="157"/>
                  </a:lnTo>
                  <a:lnTo>
                    <a:pt x="244" y="133"/>
                  </a:lnTo>
                  <a:lnTo>
                    <a:pt x="271" y="112"/>
                  </a:lnTo>
                  <a:lnTo>
                    <a:pt x="299" y="93"/>
                  </a:lnTo>
                  <a:lnTo>
                    <a:pt x="328" y="75"/>
                  </a:lnTo>
                  <a:lnTo>
                    <a:pt x="356" y="59"/>
                  </a:lnTo>
                  <a:lnTo>
                    <a:pt x="386" y="45"/>
                  </a:lnTo>
                  <a:lnTo>
                    <a:pt x="417" y="33"/>
                  </a:lnTo>
                  <a:lnTo>
                    <a:pt x="448" y="23"/>
                  </a:lnTo>
                  <a:lnTo>
                    <a:pt x="480" y="14"/>
                  </a:lnTo>
                  <a:lnTo>
                    <a:pt x="513" y="8"/>
                  </a:lnTo>
                  <a:lnTo>
                    <a:pt x="546" y="3"/>
                  </a:lnTo>
                  <a:lnTo>
                    <a:pt x="580" y="1"/>
                  </a:lnTo>
                  <a:close/>
                  <a:moveTo>
                    <a:pt x="514" y="114"/>
                  </a:moveTo>
                  <a:lnTo>
                    <a:pt x="503" y="115"/>
                  </a:lnTo>
                  <a:lnTo>
                    <a:pt x="492" y="115"/>
                  </a:lnTo>
                  <a:lnTo>
                    <a:pt x="481" y="118"/>
                  </a:lnTo>
                  <a:lnTo>
                    <a:pt x="470" y="121"/>
                  </a:lnTo>
                  <a:lnTo>
                    <a:pt x="459" y="125"/>
                  </a:lnTo>
                  <a:lnTo>
                    <a:pt x="448" y="130"/>
                  </a:lnTo>
                  <a:lnTo>
                    <a:pt x="437" y="135"/>
                  </a:lnTo>
                  <a:lnTo>
                    <a:pt x="426" y="142"/>
                  </a:lnTo>
                  <a:lnTo>
                    <a:pt x="415" y="149"/>
                  </a:lnTo>
                  <a:lnTo>
                    <a:pt x="404" y="158"/>
                  </a:lnTo>
                  <a:lnTo>
                    <a:pt x="382" y="177"/>
                  </a:lnTo>
                  <a:lnTo>
                    <a:pt x="359" y="200"/>
                  </a:lnTo>
                  <a:lnTo>
                    <a:pt x="338" y="226"/>
                  </a:lnTo>
                  <a:lnTo>
                    <a:pt x="327" y="240"/>
                  </a:lnTo>
                  <a:lnTo>
                    <a:pt x="317" y="256"/>
                  </a:lnTo>
                  <a:lnTo>
                    <a:pt x="299" y="288"/>
                  </a:lnTo>
                  <a:lnTo>
                    <a:pt x="283" y="324"/>
                  </a:lnTo>
                  <a:lnTo>
                    <a:pt x="271" y="362"/>
                  </a:lnTo>
                  <a:lnTo>
                    <a:pt x="262" y="403"/>
                  </a:lnTo>
                  <a:lnTo>
                    <a:pt x="254" y="447"/>
                  </a:lnTo>
                  <a:lnTo>
                    <a:pt x="250" y="494"/>
                  </a:lnTo>
                  <a:lnTo>
                    <a:pt x="249" y="543"/>
                  </a:lnTo>
                  <a:lnTo>
                    <a:pt x="250" y="573"/>
                  </a:lnTo>
                  <a:lnTo>
                    <a:pt x="252" y="601"/>
                  </a:lnTo>
                  <a:lnTo>
                    <a:pt x="256" y="627"/>
                  </a:lnTo>
                  <a:lnTo>
                    <a:pt x="263" y="652"/>
                  </a:lnTo>
                  <a:lnTo>
                    <a:pt x="270" y="675"/>
                  </a:lnTo>
                  <a:lnTo>
                    <a:pt x="279" y="696"/>
                  </a:lnTo>
                  <a:lnTo>
                    <a:pt x="290" y="715"/>
                  </a:lnTo>
                  <a:lnTo>
                    <a:pt x="297" y="725"/>
                  </a:lnTo>
                  <a:lnTo>
                    <a:pt x="303" y="733"/>
                  </a:lnTo>
                  <a:lnTo>
                    <a:pt x="307" y="739"/>
                  </a:lnTo>
                  <a:lnTo>
                    <a:pt x="312" y="744"/>
                  </a:lnTo>
                  <a:lnTo>
                    <a:pt x="317" y="749"/>
                  </a:lnTo>
                  <a:lnTo>
                    <a:pt x="322" y="753"/>
                  </a:lnTo>
                  <a:lnTo>
                    <a:pt x="328" y="757"/>
                  </a:lnTo>
                  <a:lnTo>
                    <a:pt x="333" y="761"/>
                  </a:lnTo>
                  <a:lnTo>
                    <a:pt x="338" y="765"/>
                  </a:lnTo>
                  <a:lnTo>
                    <a:pt x="344" y="767"/>
                  </a:lnTo>
                  <a:lnTo>
                    <a:pt x="349" y="770"/>
                  </a:lnTo>
                  <a:lnTo>
                    <a:pt x="355" y="772"/>
                  </a:lnTo>
                  <a:lnTo>
                    <a:pt x="362" y="774"/>
                  </a:lnTo>
                  <a:lnTo>
                    <a:pt x="369" y="776"/>
                  </a:lnTo>
                  <a:lnTo>
                    <a:pt x="375" y="777"/>
                  </a:lnTo>
                  <a:lnTo>
                    <a:pt x="381" y="777"/>
                  </a:lnTo>
                  <a:lnTo>
                    <a:pt x="388" y="778"/>
                  </a:lnTo>
                  <a:lnTo>
                    <a:pt x="396" y="778"/>
                  </a:lnTo>
                  <a:lnTo>
                    <a:pt x="407" y="778"/>
                  </a:lnTo>
                  <a:lnTo>
                    <a:pt x="417" y="777"/>
                  </a:lnTo>
                  <a:lnTo>
                    <a:pt x="428" y="775"/>
                  </a:lnTo>
                  <a:lnTo>
                    <a:pt x="439" y="772"/>
                  </a:lnTo>
                  <a:lnTo>
                    <a:pt x="450" y="768"/>
                  </a:lnTo>
                  <a:lnTo>
                    <a:pt x="460" y="764"/>
                  </a:lnTo>
                  <a:lnTo>
                    <a:pt x="472" y="759"/>
                  </a:lnTo>
                  <a:lnTo>
                    <a:pt x="483" y="753"/>
                  </a:lnTo>
                  <a:lnTo>
                    <a:pt x="493" y="746"/>
                  </a:lnTo>
                  <a:lnTo>
                    <a:pt x="505" y="738"/>
                  </a:lnTo>
                  <a:lnTo>
                    <a:pt x="526" y="721"/>
                  </a:lnTo>
                  <a:lnTo>
                    <a:pt x="549" y="700"/>
                  </a:lnTo>
                  <a:lnTo>
                    <a:pt x="571" y="676"/>
                  </a:lnTo>
                  <a:lnTo>
                    <a:pt x="591" y="646"/>
                  </a:lnTo>
                  <a:lnTo>
                    <a:pt x="609" y="613"/>
                  </a:lnTo>
                  <a:lnTo>
                    <a:pt x="624" y="578"/>
                  </a:lnTo>
                  <a:lnTo>
                    <a:pt x="636" y="540"/>
                  </a:lnTo>
                  <a:lnTo>
                    <a:pt x="646" y="500"/>
                  </a:lnTo>
                  <a:lnTo>
                    <a:pt x="653" y="458"/>
                  </a:lnTo>
                  <a:lnTo>
                    <a:pt x="657" y="414"/>
                  </a:lnTo>
                  <a:lnTo>
                    <a:pt x="658" y="367"/>
                  </a:lnTo>
                  <a:lnTo>
                    <a:pt x="657" y="333"/>
                  </a:lnTo>
                  <a:lnTo>
                    <a:pt x="655" y="302"/>
                  </a:lnTo>
                  <a:lnTo>
                    <a:pt x="652" y="273"/>
                  </a:lnTo>
                  <a:lnTo>
                    <a:pt x="648" y="247"/>
                  </a:lnTo>
                  <a:lnTo>
                    <a:pt x="642" y="223"/>
                  </a:lnTo>
                  <a:lnTo>
                    <a:pt x="633" y="203"/>
                  </a:lnTo>
                  <a:lnTo>
                    <a:pt x="629" y="194"/>
                  </a:lnTo>
                  <a:lnTo>
                    <a:pt x="625" y="185"/>
                  </a:lnTo>
                  <a:lnTo>
                    <a:pt x="620" y="177"/>
                  </a:lnTo>
                  <a:lnTo>
                    <a:pt x="615" y="170"/>
                  </a:lnTo>
                  <a:lnTo>
                    <a:pt x="605" y="157"/>
                  </a:lnTo>
                  <a:lnTo>
                    <a:pt x="593" y="145"/>
                  </a:lnTo>
                  <a:lnTo>
                    <a:pt x="587" y="140"/>
                  </a:lnTo>
                  <a:lnTo>
                    <a:pt x="581" y="136"/>
                  </a:lnTo>
                  <a:lnTo>
                    <a:pt x="575" y="132"/>
                  </a:lnTo>
                  <a:lnTo>
                    <a:pt x="569" y="128"/>
                  </a:lnTo>
                  <a:lnTo>
                    <a:pt x="562" y="125"/>
                  </a:lnTo>
                  <a:lnTo>
                    <a:pt x="556" y="121"/>
                  </a:lnTo>
                  <a:lnTo>
                    <a:pt x="549" y="119"/>
                  </a:lnTo>
                  <a:lnTo>
                    <a:pt x="543" y="117"/>
                  </a:lnTo>
                  <a:lnTo>
                    <a:pt x="536" y="115"/>
                  </a:lnTo>
                  <a:lnTo>
                    <a:pt x="528" y="115"/>
                  </a:lnTo>
                  <a:lnTo>
                    <a:pt x="521" y="11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00480" y="573120"/>
              <a:ext cx="457200" cy="495360"/>
            </a:xfrm>
            <a:custGeom>
              <a:avLst/>
              <a:gdLst/>
              <a:ahLst/>
              <a:rect l="l" t="t" r="r" b="b"/>
              <a:pathLst>
                <a:path w="1272" h="1375">
                  <a:moveTo>
                    <a:pt x="285" y="289"/>
                  </a:moveTo>
                  <a:lnTo>
                    <a:pt x="213" y="230"/>
                  </a:lnTo>
                  <a:lnTo>
                    <a:pt x="242" y="200"/>
                  </a:lnTo>
                  <a:lnTo>
                    <a:pt x="272" y="172"/>
                  </a:lnTo>
                  <a:lnTo>
                    <a:pt x="301" y="147"/>
                  </a:lnTo>
                  <a:lnTo>
                    <a:pt x="329" y="124"/>
                  </a:lnTo>
                  <a:lnTo>
                    <a:pt x="357" y="102"/>
                  </a:lnTo>
                  <a:lnTo>
                    <a:pt x="386" y="84"/>
                  </a:lnTo>
                  <a:lnTo>
                    <a:pt x="414" y="68"/>
                  </a:lnTo>
                  <a:lnTo>
                    <a:pt x="442" y="53"/>
                  </a:lnTo>
                  <a:lnTo>
                    <a:pt x="469" y="40"/>
                  </a:lnTo>
                  <a:lnTo>
                    <a:pt x="496" y="29"/>
                  </a:lnTo>
                  <a:lnTo>
                    <a:pt x="522" y="21"/>
                  </a:lnTo>
                  <a:lnTo>
                    <a:pt x="547" y="13"/>
                  </a:lnTo>
                  <a:lnTo>
                    <a:pt x="571" y="7"/>
                  </a:lnTo>
                  <a:lnTo>
                    <a:pt x="595" y="3"/>
                  </a:lnTo>
                  <a:lnTo>
                    <a:pt x="618" y="0"/>
                  </a:lnTo>
                  <a:lnTo>
                    <a:pt x="639" y="0"/>
                  </a:lnTo>
                  <a:lnTo>
                    <a:pt x="649" y="0"/>
                  </a:lnTo>
                  <a:lnTo>
                    <a:pt x="658" y="0"/>
                  </a:lnTo>
                  <a:lnTo>
                    <a:pt x="666" y="2"/>
                  </a:lnTo>
                  <a:lnTo>
                    <a:pt x="674" y="4"/>
                  </a:lnTo>
                  <a:lnTo>
                    <a:pt x="683" y="6"/>
                  </a:lnTo>
                  <a:lnTo>
                    <a:pt x="690" y="10"/>
                  </a:lnTo>
                  <a:lnTo>
                    <a:pt x="697" y="13"/>
                  </a:lnTo>
                  <a:lnTo>
                    <a:pt x="700" y="15"/>
                  </a:lnTo>
                  <a:lnTo>
                    <a:pt x="703" y="17"/>
                  </a:lnTo>
                  <a:lnTo>
                    <a:pt x="706" y="20"/>
                  </a:lnTo>
                  <a:lnTo>
                    <a:pt x="709" y="23"/>
                  </a:lnTo>
                  <a:lnTo>
                    <a:pt x="712" y="25"/>
                  </a:lnTo>
                  <a:lnTo>
                    <a:pt x="715" y="28"/>
                  </a:lnTo>
                  <a:lnTo>
                    <a:pt x="717" y="30"/>
                  </a:lnTo>
                  <a:lnTo>
                    <a:pt x="719" y="33"/>
                  </a:lnTo>
                  <a:lnTo>
                    <a:pt x="721" y="36"/>
                  </a:lnTo>
                  <a:lnTo>
                    <a:pt x="723" y="39"/>
                  </a:lnTo>
                  <a:lnTo>
                    <a:pt x="724" y="42"/>
                  </a:lnTo>
                  <a:lnTo>
                    <a:pt x="726" y="46"/>
                  </a:lnTo>
                  <a:lnTo>
                    <a:pt x="727" y="49"/>
                  </a:lnTo>
                  <a:lnTo>
                    <a:pt x="727" y="52"/>
                  </a:lnTo>
                  <a:lnTo>
                    <a:pt x="729" y="60"/>
                  </a:lnTo>
                  <a:lnTo>
                    <a:pt x="729" y="68"/>
                  </a:lnTo>
                  <a:lnTo>
                    <a:pt x="728" y="83"/>
                  </a:lnTo>
                  <a:lnTo>
                    <a:pt x="727" y="98"/>
                  </a:lnTo>
                  <a:lnTo>
                    <a:pt x="724" y="114"/>
                  </a:lnTo>
                  <a:lnTo>
                    <a:pt x="721" y="130"/>
                  </a:lnTo>
                  <a:lnTo>
                    <a:pt x="715" y="149"/>
                  </a:lnTo>
                  <a:lnTo>
                    <a:pt x="704" y="176"/>
                  </a:lnTo>
                  <a:lnTo>
                    <a:pt x="690" y="209"/>
                  </a:lnTo>
                  <a:lnTo>
                    <a:pt x="672" y="249"/>
                  </a:lnTo>
                  <a:lnTo>
                    <a:pt x="738" y="183"/>
                  </a:lnTo>
                  <a:lnTo>
                    <a:pt x="795" y="131"/>
                  </a:lnTo>
                  <a:lnTo>
                    <a:pt x="821" y="109"/>
                  </a:lnTo>
                  <a:lnTo>
                    <a:pt x="843" y="92"/>
                  </a:lnTo>
                  <a:lnTo>
                    <a:pt x="864" y="78"/>
                  </a:lnTo>
                  <a:lnTo>
                    <a:pt x="882" y="67"/>
                  </a:lnTo>
                  <a:lnTo>
                    <a:pt x="912" y="51"/>
                  </a:lnTo>
                  <a:lnTo>
                    <a:pt x="941" y="39"/>
                  </a:lnTo>
                  <a:lnTo>
                    <a:pt x="969" y="29"/>
                  </a:lnTo>
                  <a:lnTo>
                    <a:pt x="997" y="19"/>
                  </a:lnTo>
                  <a:lnTo>
                    <a:pt x="1023" y="12"/>
                  </a:lnTo>
                  <a:lnTo>
                    <a:pt x="1050" y="8"/>
                  </a:lnTo>
                  <a:lnTo>
                    <a:pt x="1076" y="5"/>
                  </a:lnTo>
                  <a:lnTo>
                    <a:pt x="1101" y="4"/>
                  </a:lnTo>
                  <a:lnTo>
                    <a:pt x="1110" y="4"/>
                  </a:lnTo>
                  <a:lnTo>
                    <a:pt x="1119" y="5"/>
                  </a:lnTo>
                  <a:lnTo>
                    <a:pt x="1127" y="6"/>
                  </a:lnTo>
                  <a:lnTo>
                    <a:pt x="1136" y="7"/>
                  </a:lnTo>
                  <a:lnTo>
                    <a:pt x="1144" y="9"/>
                  </a:lnTo>
                  <a:lnTo>
                    <a:pt x="1152" y="12"/>
                  </a:lnTo>
                  <a:lnTo>
                    <a:pt x="1160" y="14"/>
                  </a:lnTo>
                  <a:lnTo>
                    <a:pt x="1168" y="17"/>
                  </a:lnTo>
                  <a:lnTo>
                    <a:pt x="1176" y="21"/>
                  </a:lnTo>
                  <a:lnTo>
                    <a:pt x="1183" y="25"/>
                  </a:lnTo>
                  <a:lnTo>
                    <a:pt x="1190" y="29"/>
                  </a:lnTo>
                  <a:lnTo>
                    <a:pt x="1196" y="34"/>
                  </a:lnTo>
                  <a:lnTo>
                    <a:pt x="1204" y="40"/>
                  </a:lnTo>
                  <a:lnTo>
                    <a:pt x="1210" y="45"/>
                  </a:lnTo>
                  <a:lnTo>
                    <a:pt x="1222" y="57"/>
                  </a:lnTo>
                  <a:lnTo>
                    <a:pt x="1228" y="64"/>
                  </a:lnTo>
                  <a:lnTo>
                    <a:pt x="1234" y="72"/>
                  </a:lnTo>
                  <a:lnTo>
                    <a:pt x="1243" y="88"/>
                  </a:lnTo>
                  <a:lnTo>
                    <a:pt x="1251" y="105"/>
                  </a:lnTo>
                  <a:lnTo>
                    <a:pt x="1258" y="124"/>
                  </a:lnTo>
                  <a:lnTo>
                    <a:pt x="1263" y="144"/>
                  </a:lnTo>
                  <a:lnTo>
                    <a:pt x="1268" y="165"/>
                  </a:lnTo>
                  <a:lnTo>
                    <a:pt x="1270" y="188"/>
                  </a:lnTo>
                  <a:lnTo>
                    <a:pt x="1271" y="213"/>
                  </a:lnTo>
                  <a:lnTo>
                    <a:pt x="1268" y="273"/>
                  </a:lnTo>
                  <a:lnTo>
                    <a:pt x="1259" y="334"/>
                  </a:lnTo>
                  <a:lnTo>
                    <a:pt x="1245" y="392"/>
                  </a:lnTo>
                  <a:lnTo>
                    <a:pt x="1224" y="451"/>
                  </a:lnTo>
                  <a:lnTo>
                    <a:pt x="1199" y="509"/>
                  </a:lnTo>
                  <a:lnTo>
                    <a:pt x="1167" y="566"/>
                  </a:lnTo>
                  <a:lnTo>
                    <a:pt x="1128" y="622"/>
                  </a:lnTo>
                  <a:lnTo>
                    <a:pt x="1085" y="678"/>
                  </a:lnTo>
                  <a:lnTo>
                    <a:pt x="1038" y="730"/>
                  </a:lnTo>
                  <a:lnTo>
                    <a:pt x="989" y="775"/>
                  </a:lnTo>
                  <a:lnTo>
                    <a:pt x="964" y="794"/>
                  </a:lnTo>
                  <a:lnTo>
                    <a:pt x="939" y="812"/>
                  </a:lnTo>
                  <a:lnTo>
                    <a:pt x="913" y="829"/>
                  </a:lnTo>
                  <a:lnTo>
                    <a:pt x="888" y="843"/>
                  </a:lnTo>
                  <a:lnTo>
                    <a:pt x="861" y="856"/>
                  </a:lnTo>
                  <a:lnTo>
                    <a:pt x="834" y="867"/>
                  </a:lnTo>
                  <a:lnTo>
                    <a:pt x="807" y="877"/>
                  </a:lnTo>
                  <a:lnTo>
                    <a:pt x="780" y="885"/>
                  </a:lnTo>
                  <a:lnTo>
                    <a:pt x="753" y="891"/>
                  </a:lnTo>
                  <a:lnTo>
                    <a:pt x="725" y="895"/>
                  </a:lnTo>
                  <a:lnTo>
                    <a:pt x="696" y="898"/>
                  </a:lnTo>
                  <a:lnTo>
                    <a:pt x="667" y="899"/>
                  </a:lnTo>
                  <a:lnTo>
                    <a:pt x="645" y="898"/>
                  </a:lnTo>
                  <a:lnTo>
                    <a:pt x="623" y="896"/>
                  </a:lnTo>
                  <a:lnTo>
                    <a:pt x="602" y="894"/>
                  </a:lnTo>
                  <a:lnTo>
                    <a:pt x="583" y="889"/>
                  </a:lnTo>
                  <a:lnTo>
                    <a:pt x="563" y="883"/>
                  </a:lnTo>
                  <a:lnTo>
                    <a:pt x="546" y="877"/>
                  </a:lnTo>
                  <a:lnTo>
                    <a:pt x="528" y="870"/>
                  </a:lnTo>
                  <a:lnTo>
                    <a:pt x="513" y="860"/>
                  </a:lnTo>
                  <a:lnTo>
                    <a:pt x="416" y="1178"/>
                  </a:lnTo>
                  <a:lnTo>
                    <a:pt x="414" y="1187"/>
                  </a:lnTo>
                  <a:lnTo>
                    <a:pt x="412" y="1195"/>
                  </a:lnTo>
                  <a:lnTo>
                    <a:pt x="411" y="1204"/>
                  </a:lnTo>
                  <a:lnTo>
                    <a:pt x="411" y="1208"/>
                  </a:lnTo>
                  <a:lnTo>
                    <a:pt x="411" y="1212"/>
                  </a:lnTo>
                  <a:lnTo>
                    <a:pt x="411" y="1216"/>
                  </a:lnTo>
                  <a:lnTo>
                    <a:pt x="412" y="1218"/>
                  </a:lnTo>
                  <a:lnTo>
                    <a:pt x="412" y="1222"/>
                  </a:lnTo>
                  <a:lnTo>
                    <a:pt x="413" y="1225"/>
                  </a:lnTo>
                  <a:lnTo>
                    <a:pt x="414" y="1228"/>
                  </a:lnTo>
                  <a:lnTo>
                    <a:pt x="416" y="1231"/>
                  </a:lnTo>
                  <a:lnTo>
                    <a:pt x="417" y="1234"/>
                  </a:lnTo>
                  <a:lnTo>
                    <a:pt x="419" y="1236"/>
                  </a:lnTo>
                  <a:lnTo>
                    <a:pt x="421" y="1239"/>
                  </a:lnTo>
                  <a:lnTo>
                    <a:pt x="424" y="1242"/>
                  </a:lnTo>
                  <a:lnTo>
                    <a:pt x="426" y="1245"/>
                  </a:lnTo>
                  <a:lnTo>
                    <a:pt x="429" y="1247"/>
                  </a:lnTo>
                  <a:lnTo>
                    <a:pt x="436" y="1252"/>
                  </a:lnTo>
                  <a:lnTo>
                    <a:pt x="444" y="1257"/>
                  </a:lnTo>
                  <a:lnTo>
                    <a:pt x="449" y="1259"/>
                  </a:lnTo>
                  <a:lnTo>
                    <a:pt x="454" y="1261"/>
                  </a:lnTo>
                  <a:lnTo>
                    <a:pt x="469" y="1264"/>
                  </a:lnTo>
                  <a:lnTo>
                    <a:pt x="490" y="1268"/>
                  </a:lnTo>
                  <a:lnTo>
                    <a:pt x="515" y="1272"/>
                  </a:lnTo>
                  <a:lnTo>
                    <a:pt x="578" y="1279"/>
                  </a:lnTo>
                  <a:lnTo>
                    <a:pt x="659" y="1288"/>
                  </a:lnTo>
                  <a:lnTo>
                    <a:pt x="637" y="1374"/>
                  </a:lnTo>
                  <a:lnTo>
                    <a:pt x="451" y="1364"/>
                  </a:lnTo>
                  <a:lnTo>
                    <a:pt x="377" y="1362"/>
                  </a:lnTo>
                  <a:lnTo>
                    <a:pt x="317" y="1361"/>
                  </a:lnTo>
                  <a:lnTo>
                    <a:pt x="255" y="1362"/>
                  </a:lnTo>
                  <a:lnTo>
                    <a:pt x="182" y="1364"/>
                  </a:lnTo>
                  <a:lnTo>
                    <a:pt x="0" y="1374"/>
                  </a:lnTo>
                  <a:lnTo>
                    <a:pt x="20" y="1286"/>
                  </a:lnTo>
                  <a:lnTo>
                    <a:pt x="44" y="1284"/>
                  </a:lnTo>
                  <a:lnTo>
                    <a:pt x="66" y="1281"/>
                  </a:lnTo>
                  <a:lnTo>
                    <a:pt x="85" y="1278"/>
                  </a:lnTo>
                  <a:lnTo>
                    <a:pt x="103" y="1273"/>
                  </a:lnTo>
                  <a:lnTo>
                    <a:pt x="119" y="1268"/>
                  </a:lnTo>
                  <a:lnTo>
                    <a:pt x="127" y="1265"/>
                  </a:lnTo>
                  <a:lnTo>
                    <a:pt x="133" y="1262"/>
                  </a:lnTo>
                  <a:lnTo>
                    <a:pt x="139" y="1259"/>
                  </a:lnTo>
                  <a:lnTo>
                    <a:pt x="144" y="1256"/>
                  </a:lnTo>
                  <a:lnTo>
                    <a:pt x="149" y="1252"/>
                  </a:lnTo>
                  <a:lnTo>
                    <a:pt x="154" y="1249"/>
                  </a:lnTo>
                  <a:lnTo>
                    <a:pt x="158" y="1245"/>
                  </a:lnTo>
                  <a:lnTo>
                    <a:pt x="164" y="1240"/>
                  </a:lnTo>
                  <a:lnTo>
                    <a:pt x="168" y="1236"/>
                  </a:lnTo>
                  <a:lnTo>
                    <a:pt x="172" y="1230"/>
                  </a:lnTo>
                  <a:lnTo>
                    <a:pt x="180" y="1218"/>
                  </a:lnTo>
                  <a:lnTo>
                    <a:pt x="189" y="1204"/>
                  </a:lnTo>
                  <a:lnTo>
                    <a:pt x="198" y="1187"/>
                  </a:lnTo>
                  <a:lnTo>
                    <a:pt x="206" y="1168"/>
                  </a:lnTo>
                  <a:lnTo>
                    <a:pt x="213" y="1148"/>
                  </a:lnTo>
                  <a:lnTo>
                    <a:pt x="221" y="1125"/>
                  </a:lnTo>
                  <a:lnTo>
                    <a:pt x="429" y="395"/>
                  </a:lnTo>
                  <a:lnTo>
                    <a:pt x="475" y="235"/>
                  </a:lnTo>
                  <a:lnTo>
                    <a:pt x="485" y="190"/>
                  </a:lnTo>
                  <a:lnTo>
                    <a:pt x="488" y="176"/>
                  </a:lnTo>
                  <a:lnTo>
                    <a:pt x="489" y="171"/>
                  </a:lnTo>
                  <a:lnTo>
                    <a:pt x="489" y="168"/>
                  </a:lnTo>
                  <a:lnTo>
                    <a:pt x="489" y="166"/>
                  </a:lnTo>
                  <a:lnTo>
                    <a:pt x="489" y="165"/>
                  </a:lnTo>
                  <a:lnTo>
                    <a:pt x="489" y="165"/>
                  </a:lnTo>
                  <a:lnTo>
                    <a:pt x="489" y="164"/>
                  </a:lnTo>
                  <a:lnTo>
                    <a:pt x="488" y="164"/>
                  </a:lnTo>
                  <a:lnTo>
                    <a:pt x="488" y="164"/>
                  </a:lnTo>
                  <a:lnTo>
                    <a:pt x="488" y="164"/>
                  </a:lnTo>
                  <a:lnTo>
                    <a:pt x="488" y="163"/>
                  </a:lnTo>
                  <a:lnTo>
                    <a:pt x="487" y="163"/>
                  </a:lnTo>
                  <a:lnTo>
                    <a:pt x="487" y="163"/>
                  </a:lnTo>
                  <a:lnTo>
                    <a:pt x="486" y="162"/>
                  </a:lnTo>
                  <a:lnTo>
                    <a:pt x="486" y="162"/>
                  </a:lnTo>
                  <a:lnTo>
                    <a:pt x="485" y="162"/>
                  </a:lnTo>
                  <a:lnTo>
                    <a:pt x="485" y="162"/>
                  </a:lnTo>
                  <a:lnTo>
                    <a:pt x="484" y="162"/>
                  </a:lnTo>
                  <a:lnTo>
                    <a:pt x="481" y="162"/>
                  </a:lnTo>
                  <a:lnTo>
                    <a:pt x="479" y="163"/>
                  </a:lnTo>
                  <a:lnTo>
                    <a:pt x="472" y="164"/>
                  </a:lnTo>
                  <a:lnTo>
                    <a:pt x="464" y="166"/>
                  </a:lnTo>
                  <a:lnTo>
                    <a:pt x="456" y="170"/>
                  </a:lnTo>
                  <a:lnTo>
                    <a:pt x="436" y="180"/>
                  </a:lnTo>
                  <a:lnTo>
                    <a:pt x="414" y="193"/>
                  </a:lnTo>
                  <a:lnTo>
                    <a:pt x="387" y="211"/>
                  </a:lnTo>
                  <a:lnTo>
                    <a:pt x="357" y="233"/>
                  </a:lnTo>
                  <a:close/>
                  <a:moveTo>
                    <a:pt x="550" y="726"/>
                  </a:moveTo>
                  <a:lnTo>
                    <a:pt x="570" y="742"/>
                  </a:lnTo>
                  <a:lnTo>
                    <a:pt x="590" y="754"/>
                  </a:lnTo>
                  <a:lnTo>
                    <a:pt x="611" y="764"/>
                  </a:lnTo>
                  <a:lnTo>
                    <a:pt x="632" y="774"/>
                  </a:lnTo>
                  <a:lnTo>
                    <a:pt x="642" y="777"/>
                  </a:lnTo>
                  <a:lnTo>
                    <a:pt x="653" y="781"/>
                  </a:lnTo>
                  <a:lnTo>
                    <a:pt x="663" y="783"/>
                  </a:lnTo>
                  <a:lnTo>
                    <a:pt x="674" y="785"/>
                  </a:lnTo>
                  <a:lnTo>
                    <a:pt x="685" y="787"/>
                  </a:lnTo>
                  <a:lnTo>
                    <a:pt x="696" y="788"/>
                  </a:lnTo>
                  <a:lnTo>
                    <a:pt x="706" y="789"/>
                  </a:lnTo>
                  <a:lnTo>
                    <a:pt x="718" y="789"/>
                  </a:lnTo>
                  <a:lnTo>
                    <a:pt x="733" y="788"/>
                  </a:lnTo>
                  <a:lnTo>
                    <a:pt x="750" y="787"/>
                  </a:lnTo>
                  <a:lnTo>
                    <a:pt x="765" y="783"/>
                  </a:lnTo>
                  <a:lnTo>
                    <a:pt x="780" y="778"/>
                  </a:lnTo>
                  <a:lnTo>
                    <a:pt x="795" y="772"/>
                  </a:lnTo>
                  <a:lnTo>
                    <a:pt x="810" y="764"/>
                  </a:lnTo>
                  <a:lnTo>
                    <a:pt x="825" y="755"/>
                  </a:lnTo>
                  <a:lnTo>
                    <a:pt x="839" y="745"/>
                  </a:lnTo>
                  <a:lnTo>
                    <a:pt x="854" y="734"/>
                  </a:lnTo>
                  <a:lnTo>
                    <a:pt x="868" y="720"/>
                  </a:lnTo>
                  <a:lnTo>
                    <a:pt x="895" y="691"/>
                  </a:lnTo>
                  <a:lnTo>
                    <a:pt x="923" y="655"/>
                  </a:lnTo>
                  <a:lnTo>
                    <a:pt x="948" y="614"/>
                  </a:lnTo>
                  <a:lnTo>
                    <a:pt x="973" y="570"/>
                  </a:lnTo>
                  <a:lnTo>
                    <a:pt x="994" y="527"/>
                  </a:lnTo>
                  <a:lnTo>
                    <a:pt x="1011" y="483"/>
                  </a:lnTo>
                  <a:lnTo>
                    <a:pt x="1027" y="440"/>
                  </a:lnTo>
                  <a:lnTo>
                    <a:pt x="1038" y="396"/>
                  </a:lnTo>
                  <a:lnTo>
                    <a:pt x="1046" y="353"/>
                  </a:lnTo>
                  <a:lnTo>
                    <a:pt x="1050" y="310"/>
                  </a:lnTo>
                  <a:lnTo>
                    <a:pt x="1052" y="267"/>
                  </a:lnTo>
                  <a:lnTo>
                    <a:pt x="1052" y="256"/>
                  </a:lnTo>
                  <a:lnTo>
                    <a:pt x="1051" y="245"/>
                  </a:lnTo>
                  <a:lnTo>
                    <a:pt x="1049" y="235"/>
                  </a:lnTo>
                  <a:lnTo>
                    <a:pt x="1046" y="226"/>
                  </a:lnTo>
                  <a:lnTo>
                    <a:pt x="1043" y="217"/>
                  </a:lnTo>
                  <a:lnTo>
                    <a:pt x="1041" y="214"/>
                  </a:lnTo>
                  <a:lnTo>
                    <a:pt x="1039" y="210"/>
                  </a:lnTo>
                  <a:lnTo>
                    <a:pt x="1036" y="206"/>
                  </a:lnTo>
                  <a:lnTo>
                    <a:pt x="1034" y="203"/>
                  </a:lnTo>
                  <a:lnTo>
                    <a:pt x="1031" y="199"/>
                  </a:lnTo>
                  <a:lnTo>
                    <a:pt x="1028" y="197"/>
                  </a:lnTo>
                  <a:lnTo>
                    <a:pt x="1024" y="194"/>
                  </a:lnTo>
                  <a:lnTo>
                    <a:pt x="1021" y="192"/>
                  </a:lnTo>
                  <a:lnTo>
                    <a:pt x="1018" y="189"/>
                  </a:lnTo>
                  <a:lnTo>
                    <a:pt x="1015" y="187"/>
                  </a:lnTo>
                  <a:lnTo>
                    <a:pt x="1011" y="185"/>
                  </a:lnTo>
                  <a:lnTo>
                    <a:pt x="1008" y="183"/>
                  </a:lnTo>
                  <a:lnTo>
                    <a:pt x="1004" y="181"/>
                  </a:lnTo>
                  <a:lnTo>
                    <a:pt x="1000" y="180"/>
                  </a:lnTo>
                  <a:lnTo>
                    <a:pt x="996" y="178"/>
                  </a:lnTo>
                  <a:lnTo>
                    <a:pt x="992" y="177"/>
                  </a:lnTo>
                  <a:lnTo>
                    <a:pt x="987" y="176"/>
                  </a:lnTo>
                  <a:lnTo>
                    <a:pt x="983" y="176"/>
                  </a:lnTo>
                  <a:lnTo>
                    <a:pt x="974" y="174"/>
                  </a:lnTo>
                  <a:lnTo>
                    <a:pt x="964" y="174"/>
                  </a:lnTo>
                  <a:lnTo>
                    <a:pt x="958" y="174"/>
                  </a:lnTo>
                  <a:lnTo>
                    <a:pt x="951" y="175"/>
                  </a:lnTo>
                  <a:lnTo>
                    <a:pt x="945" y="176"/>
                  </a:lnTo>
                  <a:lnTo>
                    <a:pt x="939" y="176"/>
                  </a:lnTo>
                  <a:lnTo>
                    <a:pt x="926" y="180"/>
                  </a:lnTo>
                  <a:lnTo>
                    <a:pt x="912" y="185"/>
                  </a:lnTo>
                  <a:lnTo>
                    <a:pt x="898" y="191"/>
                  </a:lnTo>
                  <a:lnTo>
                    <a:pt x="882" y="198"/>
                  </a:lnTo>
                  <a:lnTo>
                    <a:pt x="867" y="206"/>
                  </a:lnTo>
                  <a:lnTo>
                    <a:pt x="851" y="216"/>
                  </a:lnTo>
                  <a:lnTo>
                    <a:pt x="801" y="249"/>
                  </a:lnTo>
                  <a:lnTo>
                    <a:pt x="758" y="282"/>
                  </a:lnTo>
                  <a:lnTo>
                    <a:pt x="738" y="296"/>
                  </a:lnTo>
                  <a:lnTo>
                    <a:pt x="721" y="311"/>
                  </a:lnTo>
                  <a:lnTo>
                    <a:pt x="705" y="325"/>
                  </a:lnTo>
                  <a:lnTo>
                    <a:pt x="692" y="339"/>
                  </a:lnTo>
                  <a:lnTo>
                    <a:pt x="682" y="355"/>
                  </a:lnTo>
                  <a:lnTo>
                    <a:pt x="670" y="374"/>
                  </a:lnTo>
                  <a:lnTo>
                    <a:pt x="660" y="394"/>
                  </a:lnTo>
                  <a:lnTo>
                    <a:pt x="651" y="416"/>
                  </a:lnTo>
                  <a:lnTo>
                    <a:pt x="631" y="466"/>
                  </a:lnTo>
                  <a:lnTo>
                    <a:pt x="613" y="52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3000" y="584280"/>
              <a:ext cx="425520" cy="315720"/>
            </a:xfrm>
            <a:custGeom>
              <a:avLst/>
              <a:gdLst/>
              <a:ahLst/>
              <a:rect l="l" t="t" r="r" b="b"/>
              <a:pathLst>
                <a:path w="1180" h="879">
                  <a:moveTo>
                    <a:pt x="101" y="607"/>
                  </a:moveTo>
                  <a:lnTo>
                    <a:pt x="131" y="687"/>
                  </a:lnTo>
                  <a:lnTo>
                    <a:pt x="140" y="710"/>
                  </a:lnTo>
                  <a:lnTo>
                    <a:pt x="144" y="718"/>
                  </a:lnTo>
                  <a:lnTo>
                    <a:pt x="147" y="720"/>
                  </a:lnTo>
                  <a:lnTo>
                    <a:pt x="148" y="722"/>
                  </a:lnTo>
                  <a:lnTo>
                    <a:pt x="150" y="726"/>
                  </a:lnTo>
                  <a:lnTo>
                    <a:pt x="153" y="728"/>
                  </a:lnTo>
                  <a:lnTo>
                    <a:pt x="154" y="729"/>
                  </a:lnTo>
                  <a:lnTo>
                    <a:pt x="156" y="730"/>
                  </a:lnTo>
                  <a:lnTo>
                    <a:pt x="157" y="732"/>
                  </a:lnTo>
                  <a:lnTo>
                    <a:pt x="159" y="732"/>
                  </a:lnTo>
                  <a:lnTo>
                    <a:pt x="160" y="733"/>
                  </a:lnTo>
                  <a:lnTo>
                    <a:pt x="162" y="734"/>
                  </a:lnTo>
                  <a:lnTo>
                    <a:pt x="163" y="734"/>
                  </a:lnTo>
                  <a:lnTo>
                    <a:pt x="165" y="735"/>
                  </a:lnTo>
                  <a:lnTo>
                    <a:pt x="167" y="735"/>
                  </a:lnTo>
                  <a:lnTo>
                    <a:pt x="168" y="736"/>
                  </a:lnTo>
                  <a:lnTo>
                    <a:pt x="170" y="736"/>
                  </a:lnTo>
                  <a:lnTo>
                    <a:pt x="172" y="736"/>
                  </a:lnTo>
                  <a:lnTo>
                    <a:pt x="177" y="736"/>
                  </a:lnTo>
                  <a:lnTo>
                    <a:pt x="184" y="734"/>
                  </a:lnTo>
                  <a:lnTo>
                    <a:pt x="189" y="732"/>
                  </a:lnTo>
                  <a:lnTo>
                    <a:pt x="195" y="730"/>
                  </a:lnTo>
                  <a:lnTo>
                    <a:pt x="201" y="726"/>
                  </a:lnTo>
                  <a:lnTo>
                    <a:pt x="207" y="723"/>
                  </a:lnTo>
                  <a:lnTo>
                    <a:pt x="213" y="718"/>
                  </a:lnTo>
                  <a:lnTo>
                    <a:pt x="221" y="713"/>
                  </a:lnTo>
                  <a:lnTo>
                    <a:pt x="234" y="700"/>
                  </a:lnTo>
                  <a:lnTo>
                    <a:pt x="249" y="684"/>
                  </a:lnTo>
                  <a:lnTo>
                    <a:pt x="265" y="665"/>
                  </a:lnTo>
                  <a:lnTo>
                    <a:pt x="280" y="644"/>
                  </a:lnTo>
                  <a:lnTo>
                    <a:pt x="318" y="596"/>
                  </a:lnTo>
                  <a:lnTo>
                    <a:pt x="353" y="555"/>
                  </a:lnTo>
                  <a:lnTo>
                    <a:pt x="370" y="538"/>
                  </a:lnTo>
                  <a:lnTo>
                    <a:pt x="386" y="522"/>
                  </a:lnTo>
                  <a:lnTo>
                    <a:pt x="402" y="510"/>
                  </a:lnTo>
                  <a:lnTo>
                    <a:pt x="416" y="499"/>
                  </a:lnTo>
                  <a:lnTo>
                    <a:pt x="432" y="489"/>
                  </a:lnTo>
                  <a:lnTo>
                    <a:pt x="449" y="480"/>
                  </a:lnTo>
                  <a:lnTo>
                    <a:pt x="468" y="471"/>
                  </a:lnTo>
                  <a:lnTo>
                    <a:pt x="489" y="464"/>
                  </a:lnTo>
                  <a:lnTo>
                    <a:pt x="511" y="456"/>
                  </a:lnTo>
                  <a:lnTo>
                    <a:pt x="536" y="449"/>
                  </a:lnTo>
                  <a:lnTo>
                    <a:pt x="562" y="442"/>
                  </a:lnTo>
                  <a:lnTo>
                    <a:pt x="589" y="436"/>
                  </a:lnTo>
                  <a:lnTo>
                    <a:pt x="589" y="459"/>
                  </a:lnTo>
                  <a:lnTo>
                    <a:pt x="582" y="459"/>
                  </a:lnTo>
                  <a:lnTo>
                    <a:pt x="544" y="458"/>
                  </a:lnTo>
                  <a:lnTo>
                    <a:pt x="507" y="455"/>
                  </a:lnTo>
                  <a:lnTo>
                    <a:pt x="473" y="451"/>
                  </a:lnTo>
                  <a:lnTo>
                    <a:pt x="442" y="446"/>
                  </a:lnTo>
                  <a:lnTo>
                    <a:pt x="412" y="438"/>
                  </a:lnTo>
                  <a:lnTo>
                    <a:pt x="385" y="429"/>
                  </a:lnTo>
                  <a:lnTo>
                    <a:pt x="373" y="424"/>
                  </a:lnTo>
                  <a:lnTo>
                    <a:pt x="361" y="419"/>
                  </a:lnTo>
                  <a:lnTo>
                    <a:pt x="349" y="413"/>
                  </a:lnTo>
                  <a:lnTo>
                    <a:pt x="339" y="406"/>
                  </a:lnTo>
                  <a:lnTo>
                    <a:pt x="320" y="392"/>
                  </a:lnTo>
                  <a:lnTo>
                    <a:pt x="310" y="386"/>
                  </a:lnTo>
                  <a:lnTo>
                    <a:pt x="303" y="378"/>
                  </a:lnTo>
                  <a:lnTo>
                    <a:pt x="295" y="370"/>
                  </a:lnTo>
                  <a:lnTo>
                    <a:pt x="289" y="363"/>
                  </a:lnTo>
                  <a:lnTo>
                    <a:pt x="282" y="355"/>
                  </a:lnTo>
                  <a:lnTo>
                    <a:pt x="276" y="347"/>
                  </a:lnTo>
                  <a:lnTo>
                    <a:pt x="272" y="338"/>
                  </a:lnTo>
                  <a:lnTo>
                    <a:pt x="267" y="330"/>
                  </a:lnTo>
                  <a:lnTo>
                    <a:pt x="264" y="321"/>
                  </a:lnTo>
                  <a:lnTo>
                    <a:pt x="261" y="312"/>
                  </a:lnTo>
                  <a:lnTo>
                    <a:pt x="259" y="302"/>
                  </a:lnTo>
                  <a:lnTo>
                    <a:pt x="257" y="292"/>
                  </a:lnTo>
                  <a:lnTo>
                    <a:pt x="256" y="283"/>
                  </a:lnTo>
                  <a:lnTo>
                    <a:pt x="256" y="273"/>
                  </a:lnTo>
                  <a:lnTo>
                    <a:pt x="257" y="257"/>
                  </a:lnTo>
                  <a:lnTo>
                    <a:pt x="259" y="243"/>
                  </a:lnTo>
                  <a:lnTo>
                    <a:pt x="262" y="228"/>
                  </a:lnTo>
                  <a:lnTo>
                    <a:pt x="267" y="215"/>
                  </a:lnTo>
                  <a:lnTo>
                    <a:pt x="272" y="201"/>
                  </a:lnTo>
                  <a:lnTo>
                    <a:pt x="280" y="188"/>
                  </a:lnTo>
                  <a:lnTo>
                    <a:pt x="289" y="175"/>
                  </a:lnTo>
                  <a:lnTo>
                    <a:pt x="299" y="163"/>
                  </a:lnTo>
                  <a:lnTo>
                    <a:pt x="310" y="150"/>
                  </a:lnTo>
                  <a:lnTo>
                    <a:pt x="324" y="138"/>
                  </a:lnTo>
                  <a:lnTo>
                    <a:pt x="338" y="127"/>
                  </a:lnTo>
                  <a:lnTo>
                    <a:pt x="353" y="116"/>
                  </a:lnTo>
                  <a:lnTo>
                    <a:pt x="370" y="105"/>
                  </a:lnTo>
                  <a:lnTo>
                    <a:pt x="388" y="95"/>
                  </a:lnTo>
                  <a:lnTo>
                    <a:pt x="430" y="75"/>
                  </a:lnTo>
                  <a:lnTo>
                    <a:pt x="475" y="58"/>
                  </a:lnTo>
                  <a:lnTo>
                    <a:pt x="522" y="42"/>
                  </a:lnTo>
                  <a:lnTo>
                    <a:pt x="573" y="29"/>
                  </a:lnTo>
                  <a:lnTo>
                    <a:pt x="625" y="19"/>
                  </a:lnTo>
                  <a:lnTo>
                    <a:pt x="681" y="10"/>
                  </a:lnTo>
                  <a:lnTo>
                    <a:pt x="740" y="4"/>
                  </a:lnTo>
                  <a:lnTo>
                    <a:pt x="800" y="1"/>
                  </a:lnTo>
                  <a:lnTo>
                    <a:pt x="864" y="0"/>
                  </a:lnTo>
                  <a:lnTo>
                    <a:pt x="1120" y="4"/>
                  </a:lnTo>
                  <a:lnTo>
                    <a:pt x="1007" y="371"/>
                  </a:lnTo>
                  <a:lnTo>
                    <a:pt x="934" y="602"/>
                  </a:lnTo>
                  <a:lnTo>
                    <a:pt x="917" y="669"/>
                  </a:lnTo>
                  <a:lnTo>
                    <a:pt x="912" y="692"/>
                  </a:lnTo>
                  <a:lnTo>
                    <a:pt x="911" y="699"/>
                  </a:lnTo>
                  <a:lnTo>
                    <a:pt x="911" y="705"/>
                  </a:lnTo>
                  <a:lnTo>
                    <a:pt x="911" y="709"/>
                  </a:lnTo>
                  <a:lnTo>
                    <a:pt x="911" y="713"/>
                  </a:lnTo>
                  <a:lnTo>
                    <a:pt x="912" y="716"/>
                  </a:lnTo>
                  <a:lnTo>
                    <a:pt x="912" y="717"/>
                  </a:lnTo>
                  <a:lnTo>
                    <a:pt x="913" y="719"/>
                  </a:lnTo>
                  <a:lnTo>
                    <a:pt x="913" y="720"/>
                  </a:lnTo>
                  <a:lnTo>
                    <a:pt x="914" y="720"/>
                  </a:lnTo>
                  <a:lnTo>
                    <a:pt x="914" y="721"/>
                  </a:lnTo>
                  <a:lnTo>
                    <a:pt x="915" y="722"/>
                  </a:lnTo>
                  <a:lnTo>
                    <a:pt x="915" y="722"/>
                  </a:lnTo>
                  <a:lnTo>
                    <a:pt x="915" y="722"/>
                  </a:lnTo>
                  <a:lnTo>
                    <a:pt x="916" y="722"/>
                  </a:lnTo>
                  <a:lnTo>
                    <a:pt x="916" y="723"/>
                  </a:lnTo>
                  <a:lnTo>
                    <a:pt x="917" y="723"/>
                  </a:lnTo>
                  <a:lnTo>
                    <a:pt x="917" y="723"/>
                  </a:lnTo>
                  <a:lnTo>
                    <a:pt x="918" y="723"/>
                  </a:lnTo>
                  <a:lnTo>
                    <a:pt x="918" y="723"/>
                  </a:lnTo>
                  <a:lnTo>
                    <a:pt x="920" y="723"/>
                  </a:lnTo>
                  <a:lnTo>
                    <a:pt x="923" y="722"/>
                  </a:lnTo>
                  <a:lnTo>
                    <a:pt x="928" y="721"/>
                  </a:lnTo>
                  <a:lnTo>
                    <a:pt x="935" y="719"/>
                  </a:lnTo>
                  <a:lnTo>
                    <a:pt x="943" y="715"/>
                  </a:lnTo>
                  <a:lnTo>
                    <a:pt x="961" y="705"/>
                  </a:lnTo>
                  <a:lnTo>
                    <a:pt x="984" y="692"/>
                  </a:lnTo>
                  <a:lnTo>
                    <a:pt x="1041" y="652"/>
                  </a:lnTo>
                  <a:lnTo>
                    <a:pt x="1116" y="596"/>
                  </a:lnTo>
                  <a:lnTo>
                    <a:pt x="1179" y="653"/>
                  </a:lnTo>
                  <a:lnTo>
                    <a:pt x="1119" y="706"/>
                  </a:lnTo>
                  <a:lnTo>
                    <a:pt x="1061" y="752"/>
                  </a:lnTo>
                  <a:lnTo>
                    <a:pt x="1008" y="790"/>
                  </a:lnTo>
                  <a:lnTo>
                    <a:pt x="959" y="822"/>
                  </a:lnTo>
                  <a:lnTo>
                    <a:pt x="914" y="846"/>
                  </a:lnTo>
                  <a:lnTo>
                    <a:pt x="893" y="856"/>
                  </a:lnTo>
                  <a:lnTo>
                    <a:pt x="872" y="864"/>
                  </a:lnTo>
                  <a:lnTo>
                    <a:pt x="854" y="870"/>
                  </a:lnTo>
                  <a:lnTo>
                    <a:pt x="835" y="874"/>
                  </a:lnTo>
                  <a:lnTo>
                    <a:pt x="819" y="877"/>
                  </a:lnTo>
                  <a:lnTo>
                    <a:pt x="802" y="878"/>
                  </a:lnTo>
                  <a:lnTo>
                    <a:pt x="796" y="878"/>
                  </a:lnTo>
                  <a:lnTo>
                    <a:pt x="790" y="877"/>
                  </a:lnTo>
                  <a:lnTo>
                    <a:pt x="784" y="877"/>
                  </a:lnTo>
                  <a:lnTo>
                    <a:pt x="778" y="876"/>
                  </a:lnTo>
                  <a:lnTo>
                    <a:pt x="773" y="874"/>
                  </a:lnTo>
                  <a:lnTo>
                    <a:pt x="766" y="873"/>
                  </a:lnTo>
                  <a:lnTo>
                    <a:pt x="761" y="872"/>
                  </a:lnTo>
                  <a:lnTo>
                    <a:pt x="756" y="869"/>
                  </a:lnTo>
                  <a:lnTo>
                    <a:pt x="751" y="867"/>
                  </a:lnTo>
                  <a:lnTo>
                    <a:pt x="746" y="865"/>
                  </a:lnTo>
                  <a:lnTo>
                    <a:pt x="741" y="862"/>
                  </a:lnTo>
                  <a:lnTo>
                    <a:pt x="736" y="859"/>
                  </a:lnTo>
                  <a:lnTo>
                    <a:pt x="726" y="853"/>
                  </a:lnTo>
                  <a:lnTo>
                    <a:pt x="718" y="845"/>
                  </a:lnTo>
                  <a:lnTo>
                    <a:pt x="714" y="841"/>
                  </a:lnTo>
                  <a:lnTo>
                    <a:pt x="711" y="837"/>
                  </a:lnTo>
                  <a:lnTo>
                    <a:pt x="707" y="832"/>
                  </a:lnTo>
                  <a:lnTo>
                    <a:pt x="704" y="828"/>
                  </a:lnTo>
                  <a:lnTo>
                    <a:pt x="698" y="816"/>
                  </a:lnTo>
                  <a:lnTo>
                    <a:pt x="693" y="805"/>
                  </a:lnTo>
                  <a:lnTo>
                    <a:pt x="690" y="794"/>
                  </a:lnTo>
                  <a:lnTo>
                    <a:pt x="687" y="781"/>
                  </a:lnTo>
                  <a:lnTo>
                    <a:pt x="686" y="767"/>
                  </a:lnTo>
                  <a:lnTo>
                    <a:pt x="685" y="753"/>
                  </a:lnTo>
                  <a:lnTo>
                    <a:pt x="685" y="738"/>
                  </a:lnTo>
                  <a:lnTo>
                    <a:pt x="687" y="724"/>
                  </a:lnTo>
                  <a:lnTo>
                    <a:pt x="688" y="709"/>
                  </a:lnTo>
                  <a:lnTo>
                    <a:pt x="691" y="692"/>
                  </a:lnTo>
                  <a:lnTo>
                    <a:pt x="699" y="658"/>
                  </a:lnTo>
                  <a:lnTo>
                    <a:pt x="710" y="622"/>
                  </a:lnTo>
                  <a:lnTo>
                    <a:pt x="764" y="477"/>
                  </a:lnTo>
                  <a:lnTo>
                    <a:pt x="756" y="477"/>
                  </a:lnTo>
                  <a:lnTo>
                    <a:pt x="748" y="477"/>
                  </a:lnTo>
                  <a:lnTo>
                    <a:pt x="740" y="478"/>
                  </a:lnTo>
                  <a:lnTo>
                    <a:pt x="731" y="479"/>
                  </a:lnTo>
                  <a:lnTo>
                    <a:pt x="724" y="481"/>
                  </a:lnTo>
                  <a:lnTo>
                    <a:pt x="716" y="483"/>
                  </a:lnTo>
                  <a:lnTo>
                    <a:pt x="701" y="488"/>
                  </a:lnTo>
                  <a:lnTo>
                    <a:pt x="686" y="494"/>
                  </a:lnTo>
                  <a:lnTo>
                    <a:pt x="671" y="501"/>
                  </a:lnTo>
                  <a:lnTo>
                    <a:pt x="656" y="510"/>
                  </a:lnTo>
                  <a:lnTo>
                    <a:pt x="642" y="520"/>
                  </a:lnTo>
                  <a:lnTo>
                    <a:pt x="627" y="533"/>
                  </a:lnTo>
                  <a:lnTo>
                    <a:pt x="611" y="548"/>
                  </a:lnTo>
                  <a:lnTo>
                    <a:pt x="593" y="566"/>
                  </a:lnTo>
                  <a:lnTo>
                    <a:pt x="575" y="588"/>
                  </a:lnTo>
                  <a:lnTo>
                    <a:pt x="534" y="640"/>
                  </a:lnTo>
                  <a:lnTo>
                    <a:pt x="487" y="704"/>
                  </a:lnTo>
                  <a:lnTo>
                    <a:pt x="457" y="745"/>
                  </a:lnTo>
                  <a:lnTo>
                    <a:pt x="426" y="780"/>
                  </a:lnTo>
                  <a:lnTo>
                    <a:pt x="409" y="796"/>
                  </a:lnTo>
                  <a:lnTo>
                    <a:pt x="393" y="810"/>
                  </a:lnTo>
                  <a:lnTo>
                    <a:pt x="376" y="822"/>
                  </a:lnTo>
                  <a:lnTo>
                    <a:pt x="360" y="834"/>
                  </a:lnTo>
                  <a:lnTo>
                    <a:pt x="342" y="845"/>
                  </a:lnTo>
                  <a:lnTo>
                    <a:pt x="325" y="853"/>
                  </a:lnTo>
                  <a:lnTo>
                    <a:pt x="306" y="861"/>
                  </a:lnTo>
                  <a:lnTo>
                    <a:pt x="289" y="867"/>
                  </a:lnTo>
                  <a:lnTo>
                    <a:pt x="270" y="872"/>
                  </a:lnTo>
                  <a:lnTo>
                    <a:pt x="251" y="875"/>
                  </a:lnTo>
                  <a:lnTo>
                    <a:pt x="232" y="877"/>
                  </a:lnTo>
                  <a:lnTo>
                    <a:pt x="212" y="878"/>
                  </a:lnTo>
                  <a:lnTo>
                    <a:pt x="196" y="877"/>
                  </a:lnTo>
                  <a:lnTo>
                    <a:pt x="180" y="875"/>
                  </a:lnTo>
                  <a:lnTo>
                    <a:pt x="166" y="873"/>
                  </a:lnTo>
                  <a:lnTo>
                    <a:pt x="152" y="869"/>
                  </a:lnTo>
                  <a:lnTo>
                    <a:pt x="137" y="864"/>
                  </a:lnTo>
                  <a:lnTo>
                    <a:pt x="124" y="857"/>
                  </a:lnTo>
                  <a:lnTo>
                    <a:pt x="110" y="850"/>
                  </a:lnTo>
                  <a:lnTo>
                    <a:pt x="97" y="842"/>
                  </a:lnTo>
                  <a:lnTo>
                    <a:pt x="91" y="837"/>
                  </a:lnTo>
                  <a:lnTo>
                    <a:pt x="85" y="831"/>
                  </a:lnTo>
                  <a:lnTo>
                    <a:pt x="79" y="823"/>
                  </a:lnTo>
                  <a:lnTo>
                    <a:pt x="72" y="816"/>
                  </a:lnTo>
                  <a:lnTo>
                    <a:pt x="60" y="795"/>
                  </a:lnTo>
                  <a:lnTo>
                    <a:pt x="48" y="771"/>
                  </a:lnTo>
                  <a:lnTo>
                    <a:pt x="35" y="743"/>
                  </a:lnTo>
                  <a:lnTo>
                    <a:pt x="24" y="710"/>
                  </a:lnTo>
                  <a:lnTo>
                    <a:pt x="0" y="631"/>
                  </a:lnTo>
                  <a:close/>
                  <a:moveTo>
                    <a:pt x="877" y="122"/>
                  </a:moveTo>
                  <a:lnTo>
                    <a:pt x="863" y="120"/>
                  </a:lnTo>
                  <a:lnTo>
                    <a:pt x="849" y="118"/>
                  </a:lnTo>
                  <a:lnTo>
                    <a:pt x="833" y="116"/>
                  </a:lnTo>
                  <a:lnTo>
                    <a:pt x="818" y="115"/>
                  </a:lnTo>
                  <a:lnTo>
                    <a:pt x="782" y="113"/>
                  </a:lnTo>
                  <a:lnTo>
                    <a:pt x="743" y="112"/>
                  </a:lnTo>
                  <a:lnTo>
                    <a:pt x="719" y="113"/>
                  </a:lnTo>
                  <a:lnTo>
                    <a:pt x="697" y="115"/>
                  </a:lnTo>
                  <a:lnTo>
                    <a:pt x="676" y="118"/>
                  </a:lnTo>
                  <a:lnTo>
                    <a:pt x="654" y="123"/>
                  </a:lnTo>
                  <a:lnTo>
                    <a:pt x="634" y="129"/>
                  </a:lnTo>
                  <a:lnTo>
                    <a:pt x="614" y="137"/>
                  </a:lnTo>
                  <a:lnTo>
                    <a:pt x="594" y="146"/>
                  </a:lnTo>
                  <a:lnTo>
                    <a:pt x="576" y="156"/>
                  </a:lnTo>
                  <a:lnTo>
                    <a:pt x="558" y="167"/>
                  </a:lnTo>
                  <a:lnTo>
                    <a:pt x="551" y="173"/>
                  </a:lnTo>
                  <a:lnTo>
                    <a:pt x="544" y="179"/>
                  </a:lnTo>
                  <a:lnTo>
                    <a:pt x="537" y="186"/>
                  </a:lnTo>
                  <a:lnTo>
                    <a:pt x="531" y="192"/>
                  </a:lnTo>
                  <a:lnTo>
                    <a:pt x="525" y="199"/>
                  </a:lnTo>
                  <a:lnTo>
                    <a:pt x="520" y="206"/>
                  </a:lnTo>
                  <a:lnTo>
                    <a:pt x="516" y="213"/>
                  </a:lnTo>
                  <a:lnTo>
                    <a:pt x="512" y="220"/>
                  </a:lnTo>
                  <a:lnTo>
                    <a:pt x="509" y="228"/>
                  </a:lnTo>
                  <a:lnTo>
                    <a:pt x="507" y="235"/>
                  </a:lnTo>
                  <a:lnTo>
                    <a:pt x="505" y="244"/>
                  </a:lnTo>
                  <a:lnTo>
                    <a:pt x="503" y="251"/>
                  </a:lnTo>
                  <a:lnTo>
                    <a:pt x="502" y="260"/>
                  </a:lnTo>
                  <a:lnTo>
                    <a:pt x="502" y="268"/>
                  </a:lnTo>
                  <a:lnTo>
                    <a:pt x="503" y="283"/>
                  </a:lnTo>
                  <a:lnTo>
                    <a:pt x="505" y="296"/>
                  </a:lnTo>
                  <a:lnTo>
                    <a:pt x="509" y="307"/>
                  </a:lnTo>
                  <a:lnTo>
                    <a:pt x="514" y="319"/>
                  </a:lnTo>
                  <a:lnTo>
                    <a:pt x="521" y="330"/>
                  </a:lnTo>
                  <a:lnTo>
                    <a:pt x="530" y="339"/>
                  </a:lnTo>
                  <a:lnTo>
                    <a:pt x="540" y="348"/>
                  </a:lnTo>
                  <a:lnTo>
                    <a:pt x="551" y="356"/>
                  </a:lnTo>
                  <a:lnTo>
                    <a:pt x="565" y="363"/>
                  </a:lnTo>
                  <a:lnTo>
                    <a:pt x="579" y="369"/>
                  </a:lnTo>
                  <a:lnTo>
                    <a:pt x="594" y="374"/>
                  </a:lnTo>
                  <a:lnTo>
                    <a:pt x="613" y="377"/>
                  </a:lnTo>
                  <a:lnTo>
                    <a:pt x="632" y="381"/>
                  </a:lnTo>
                  <a:lnTo>
                    <a:pt x="652" y="383"/>
                  </a:lnTo>
                  <a:lnTo>
                    <a:pt x="675" y="384"/>
                  </a:lnTo>
                  <a:lnTo>
                    <a:pt x="698" y="385"/>
                  </a:lnTo>
                  <a:lnTo>
                    <a:pt x="718" y="385"/>
                  </a:lnTo>
                  <a:lnTo>
                    <a:pt x="740" y="384"/>
                  </a:lnTo>
                  <a:lnTo>
                    <a:pt x="762" y="382"/>
                  </a:lnTo>
                  <a:lnTo>
                    <a:pt x="78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99040" y="574560"/>
              <a:ext cx="519120" cy="322200"/>
            </a:xfrm>
            <a:custGeom>
              <a:avLst/>
              <a:gdLst/>
              <a:ahLst/>
              <a:rect l="l" t="t" r="r" b="b"/>
              <a:pathLst>
                <a:path w="1442" h="894">
                  <a:moveTo>
                    <a:pt x="552" y="485"/>
                  </a:moveTo>
                  <a:lnTo>
                    <a:pt x="391" y="485"/>
                  </a:lnTo>
                  <a:lnTo>
                    <a:pt x="280" y="867"/>
                  </a:lnTo>
                  <a:lnTo>
                    <a:pt x="58" y="867"/>
                  </a:lnTo>
                  <a:lnTo>
                    <a:pt x="59" y="857"/>
                  </a:lnTo>
                  <a:lnTo>
                    <a:pt x="61" y="847"/>
                  </a:lnTo>
                  <a:lnTo>
                    <a:pt x="66" y="823"/>
                  </a:lnTo>
                  <a:lnTo>
                    <a:pt x="73" y="794"/>
                  </a:lnTo>
                  <a:lnTo>
                    <a:pt x="83" y="761"/>
                  </a:lnTo>
                  <a:lnTo>
                    <a:pt x="94" y="732"/>
                  </a:lnTo>
                  <a:lnTo>
                    <a:pt x="107" y="689"/>
                  </a:lnTo>
                  <a:lnTo>
                    <a:pt x="146" y="560"/>
                  </a:lnTo>
                  <a:lnTo>
                    <a:pt x="252" y="209"/>
                  </a:lnTo>
                  <a:lnTo>
                    <a:pt x="255" y="196"/>
                  </a:lnTo>
                  <a:lnTo>
                    <a:pt x="258" y="186"/>
                  </a:lnTo>
                  <a:lnTo>
                    <a:pt x="259" y="177"/>
                  </a:lnTo>
                  <a:lnTo>
                    <a:pt x="261" y="174"/>
                  </a:lnTo>
                  <a:lnTo>
                    <a:pt x="261" y="171"/>
                  </a:lnTo>
                  <a:lnTo>
                    <a:pt x="261" y="166"/>
                  </a:lnTo>
                  <a:lnTo>
                    <a:pt x="261" y="164"/>
                  </a:lnTo>
                  <a:lnTo>
                    <a:pt x="261" y="162"/>
                  </a:lnTo>
                  <a:lnTo>
                    <a:pt x="261" y="162"/>
                  </a:lnTo>
                  <a:lnTo>
                    <a:pt x="261" y="162"/>
                  </a:lnTo>
                  <a:lnTo>
                    <a:pt x="261" y="161"/>
                  </a:lnTo>
                  <a:lnTo>
                    <a:pt x="259" y="161"/>
                  </a:lnTo>
                  <a:lnTo>
                    <a:pt x="259" y="161"/>
                  </a:lnTo>
                  <a:lnTo>
                    <a:pt x="259" y="161"/>
                  </a:lnTo>
                  <a:lnTo>
                    <a:pt x="259" y="161"/>
                  </a:lnTo>
                  <a:lnTo>
                    <a:pt x="259" y="161"/>
                  </a:lnTo>
                  <a:lnTo>
                    <a:pt x="259" y="161"/>
                  </a:lnTo>
                  <a:lnTo>
                    <a:pt x="259" y="161"/>
                  </a:lnTo>
                  <a:lnTo>
                    <a:pt x="256" y="161"/>
                  </a:lnTo>
                  <a:lnTo>
                    <a:pt x="254" y="161"/>
                  </a:lnTo>
                  <a:lnTo>
                    <a:pt x="247" y="163"/>
                  </a:lnTo>
                  <a:lnTo>
                    <a:pt x="240" y="165"/>
                  </a:lnTo>
                  <a:lnTo>
                    <a:pt x="233" y="168"/>
                  </a:lnTo>
                  <a:lnTo>
                    <a:pt x="214" y="176"/>
                  </a:lnTo>
                  <a:lnTo>
                    <a:pt x="194" y="188"/>
                  </a:lnTo>
                  <a:lnTo>
                    <a:pt x="169" y="202"/>
                  </a:lnTo>
                  <a:lnTo>
                    <a:pt x="142" y="220"/>
                  </a:lnTo>
                  <a:lnTo>
                    <a:pt x="78" y="266"/>
                  </a:lnTo>
                  <a:lnTo>
                    <a:pt x="0" y="214"/>
                  </a:lnTo>
                  <a:lnTo>
                    <a:pt x="65" y="164"/>
                  </a:lnTo>
                  <a:lnTo>
                    <a:pt x="125" y="121"/>
                  </a:lnTo>
                  <a:lnTo>
                    <a:pt x="181" y="84"/>
                  </a:lnTo>
                  <a:lnTo>
                    <a:pt x="234" y="54"/>
                  </a:lnTo>
                  <a:lnTo>
                    <a:pt x="282" y="30"/>
                  </a:lnTo>
                  <a:lnTo>
                    <a:pt x="305" y="22"/>
                  </a:lnTo>
                  <a:lnTo>
                    <a:pt x="326" y="14"/>
                  </a:lnTo>
                  <a:lnTo>
                    <a:pt x="347" y="8"/>
                  </a:lnTo>
                  <a:lnTo>
                    <a:pt x="367" y="4"/>
                  </a:lnTo>
                  <a:lnTo>
                    <a:pt x="385" y="2"/>
                  </a:lnTo>
                  <a:lnTo>
                    <a:pt x="403" y="1"/>
                  </a:lnTo>
                  <a:lnTo>
                    <a:pt x="414" y="1"/>
                  </a:lnTo>
                  <a:lnTo>
                    <a:pt x="424" y="2"/>
                  </a:lnTo>
                  <a:lnTo>
                    <a:pt x="434" y="4"/>
                  </a:lnTo>
                  <a:lnTo>
                    <a:pt x="443" y="7"/>
                  </a:lnTo>
                  <a:lnTo>
                    <a:pt x="451" y="10"/>
                  </a:lnTo>
                  <a:lnTo>
                    <a:pt x="458" y="13"/>
                  </a:lnTo>
                  <a:lnTo>
                    <a:pt x="465" y="19"/>
                  </a:lnTo>
                  <a:lnTo>
                    <a:pt x="472" y="24"/>
                  </a:lnTo>
                  <a:lnTo>
                    <a:pt x="477" y="30"/>
                  </a:lnTo>
                  <a:lnTo>
                    <a:pt x="481" y="36"/>
                  </a:lnTo>
                  <a:lnTo>
                    <a:pt x="485" y="44"/>
                  </a:lnTo>
                  <a:lnTo>
                    <a:pt x="488" y="53"/>
                  </a:lnTo>
                  <a:lnTo>
                    <a:pt x="491" y="61"/>
                  </a:lnTo>
                  <a:lnTo>
                    <a:pt x="493" y="71"/>
                  </a:lnTo>
                  <a:lnTo>
                    <a:pt x="494" y="81"/>
                  </a:lnTo>
                  <a:lnTo>
                    <a:pt x="494" y="93"/>
                  </a:lnTo>
                  <a:lnTo>
                    <a:pt x="493" y="112"/>
                  </a:lnTo>
                  <a:lnTo>
                    <a:pt x="489" y="137"/>
                  </a:lnTo>
                  <a:lnTo>
                    <a:pt x="483" y="166"/>
                  </a:lnTo>
                  <a:lnTo>
                    <a:pt x="475" y="200"/>
                  </a:lnTo>
                  <a:lnTo>
                    <a:pt x="450" y="284"/>
                  </a:lnTo>
                  <a:lnTo>
                    <a:pt x="416" y="385"/>
                  </a:lnTo>
                  <a:lnTo>
                    <a:pt x="579" y="385"/>
                  </a:lnTo>
                  <a:lnTo>
                    <a:pt x="598" y="343"/>
                  </a:lnTo>
                  <a:lnTo>
                    <a:pt x="620" y="304"/>
                  </a:lnTo>
                  <a:lnTo>
                    <a:pt x="645" y="267"/>
                  </a:lnTo>
                  <a:lnTo>
                    <a:pt x="671" y="231"/>
                  </a:lnTo>
                  <a:lnTo>
                    <a:pt x="701" y="197"/>
                  </a:lnTo>
                  <a:lnTo>
                    <a:pt x="733" y="166"/>
                  </a:lnTo>
                  <a:lnTo>
                    <a:pt x="768" y="136"/>
                  </a:lnTo>
                  <a:lnTo>
                    <a:pt x="805" y="108"/>
                  </a:lnTo>
                  <a:lnTo>
                    <a:pt x="843" y="82"/>
                  </a:lnTo>
                  <a:lnTo>
                    <a:pt x="883" y="60"/>
                  </a:lnTo>
                  <a:lnTo>
                    <a:pt x="923" y="42"/>
                  </a:lnTo>
                  <a:lnTo>
                    <a:pt x="963" y="27"/>
                  </a:lnTo>
                  <a:lnTo>
                    <a:pt x="1004" y="15"/>
                  </a:lnTo>
                  <a:lnTo>
                    <a:pt x="1045" y="7"/>
                  </a:lnTo>
                  <a:lnTo>
                    <a:pt x="1087" y="2"/>
                  </a:lnTo>
                  <a:lnTo>
                    <a:pt x="1130" y="0"/>
                  </a:lnTo>
                  <a:lnTo>
                    <a:pt x="1167" y="2"/>
                  </a:lnTo>
                  <a:lnTo>
                    <a:pt x="1184" y="3"/>
                  </a:lnTo>
                  <a:lnTo>
                    <a:pt x="1202" y="6"/>
                  </a:lnTo>
                  <a:lnTo>
                    <a:pt x="1218" y="8"/>
                  </a:lnTo>
                  <a:lnTo>
                    <a:pt x="1234" y="13"/>
                  </a:lnTo>
                  <a:lnTo>
                    <a:pt x="1249" y="17"/>
                  </a:lnTo>
                  <a:lnTo>
                    <a:pt x="1265" y="22"/>
                  </a:lnTo>
                  <a:lnTo>
                    <a:pt x="1278" y="28"/>
                  </a:lnTo>
                  <a:lnTo>
                    <a:pt x="1292" y="35"/>
                  </a:lnTo>
                  <a:lnTo>
                    <a:pt x="1305" y="42"/>
                  </a:lnTo>
                  <a:lnTo>
                    <a:pt x="1317" y="50"/>
                  </a:lnTo>
                  <a:lnTo>
                    <a:pt x="1329" y="59"/>
                  </a:lnTo>
                  <a:lnTo>
                    <a:pt x="1341" y="68"/>
                  </a:lnTo>
                  <a:lnTo>
                    <a:pt x="1351" y="77"/>
                  </a:lnTo>
                  <a:lnTo>
                    <a:pt x="1361" y="88"/>
                  </a:lnTo>
                  <a:lnTo>
                    <a:pt x="1380" y="111"/>
                  </a:lnTo>
                  <a:lnTo>
                    <a:pt x="1396" y="136"/>
                  </a:lnTo>
                  <a:lnTo>
                    <a:pt x="1410" y="161"/>
                  </a:lnTo>
                  <a:lnTo>
                    <a:pt x="1421" y="188"/>
                  </a:lnTo>
                  <a:lnTo>
                    <a:pt x="1429" y="216"/>
                  </a:lnTo>
                  <a:lnTo>
                    <a:pt x="1435" y="245"/>
                  </a:lnTo>
                  <a:lnTo>
                    <a:pt x="1440" y="276"/>
                  </a:lnTo>
                  <a:lnTo>
                    <a:pt x="1441" y="308"/>
                  </a:lnTo>
                  <a:lnTo>
                    <a:pt x="1438" y="361"/>
                  </a:lnTo>
                  <a:lnTo>
                    <a:pt x="1429" y="414"/>
                  </a:lnTo>
                  <a:lnTo>
                    <a:pt x="1414" y="465"/>
                  </a:lnTo>
                  <a:lnTo>
                    <a:pt x="1393" y="516"/>
                  </a:lnTo>
                  <a:lnTo>
                    <a:pt x="1368" y="565"/>
                  </a:lnTo>
                  <a:lnTo>
                    <a:pt x="1335" y="613"/>
                  </a:lnTo>
                  <a:lnTo>
                    <a:pt x="1298" y="661"/>
                  </a:lnTo>
                  <a:lnTo>
                    <a:pt x="1253" y="708"/>
                  </a:lnTo>
                  <a:lnTo>
                    <a:pt x="1206" y="751"/>
                  </a:lnTo>
                  <a:lnTo>
                    <a:pt x="1157" y="788"/>
                  </a:lnTo>
                  <a:lnTo>
                    <a:pt x="1107" y="821"/>
                  </a:lnTo>
                  <a:lnTo>
                    <a:pt x="1082" y="834"/>
                  </a:lnTo>
                  <a:lnTo>
                    <a:pt x="1057" y="846"/>
                  </a:lnTo>
                  <a:lnTo>
                    <a:pt x="1030" y="857"/>
                  </a:lnTo>
                  <a:lnTo>
                    <a:pt x="1004" y="867"/>
                  </a:lnTo>
                  <a:lnTo>
                    <a:pt x="977" y="875"/>
                  </a:lnTo>
                  <a:lnTo>
                    <a:pt x="950" y="881"/>
                  </a:lnTo>
                  <a:lnTo>
                    <a:pt x="923" y="886"/>
                  </a:lnTo>
                  <a:lnTo>
                    <a:pt x="896" y="890"/>
                  </a:lnTo>
                  <a:lnTo>
                    <a:pt x="867" y="892"/>
                  </a:lnTo>
                  <a:lnTo>
                    <a:pt x="839" y="893"/>
                  </a:lnTo>
                  <a:lnTo>
                    <a:pt x="804" y="892"/>
                  </a:lnTo>
                  <a:lnTo>
                    <a:pt x="772" y="888"/>
                  </a:lnTo>
                  <a:lnTo>
                    <a:pt x="741" y="882"/>
                  </a:lnTo>
                  <a:lnTo>
                    <a:pt x="726" y="879"/>
                  </a:lnTo>
                  <a:lnTo>
                    <a:pt x="712" y="874"/>
                  </a:lnTo>
                  <a:lnTo>
                    <a:pt x="698" y="869"/>
                  </a:lnTo>
                  <a:lnTo>
                    <a:pt x="685" y="863"/>
                  </a:lnTo>
                  <a:lnTo>
                    <a:pt x="671" y="857"/>
                  </a:lnTo>
                  <a:lnTo>
                    <a:pt x="659" y="851"/>
                  </a:lnTo>
                  <a:lnTo>
                    <a:pt x="647" y="844"/>
                  </a:lnTo>
                  <a:lnTo>
                    <a:pt x="635" y="835"/>
                  </a:lnTo>
                  <a:lnTo>
                    <a:pt x="624" y="828"/>
                  </a:lnTo>
                  <a:lnTo>
                    <a:pt x="614" y="818"/>
                  </a:lnTo>
                  <a:lnTo>
                    <a:pt x="603" y="809"/>
                  </a:lnTo>
                  <a:lnTo>
                    <a:pt x="594" y="799"/>
                  </a:lnTo>
                  <a:lnTo>
                    <a:pt x="585" y="788"/>
                  </a:lnTo>
                  <a:lnTo>
                    <a:pt x="577" y="777"/>
                  </a:lnTo>
                  <a:lnTo>
                    <a:pt x="569" y="766"/>
                  </a:lnTo>
                  <a:lnTo>
                    <a:pt x="562" y="754"/>
                  </a:lnTo>
                  <a:lnTo>
                    <a:pt x="550" y="729"/>
                  </a:lnTo>
                  <a:lnTo>
                    <a:pt x="541" y="702"/>
                  </a:lnTo>
                  <a:lnTo>
                    <a:pt x="534" y="674"/>
                  </a:lnTo>
                  <a:lnTo>
                    <a:pt x="530" y="643"/>
                  </a:lnTo>
                  <a:lnTo>
                    <a:pt x="529" y="611"/>
                  </a:lnTo>
                  <a:lnTo>
                    <a:pt x="529" y="593"/>
                  </a:lnTo>
                  <a:lnTo>
                    <a:pt x="530" y="576"/>
                  </a:lnTo>
                  <a:lnTo>
                    <a:pt x="532" y="560"/>
                  </a:lnTo>
                  <a:lnTo>
                    <a:pt x="534" y="544"/>
                  </a:lnTo>
                  <a:lnTo>
                    <a:pt x="538" y="528"/>
                  </a:lnTo>
                  <a:lnTo>
                    <a:pt x="542" y="513"/>
                  </a:lnTo>
                  <a:lnTo>
                    <a:pt x="547" y="499"/>
                  </a:lnTo>
                  <a:close/>
                  <a:moveTo>
                    <a:pt x="1187" y="367"/>
                  </a:moveTo>
                  <a:lnTo>
                    <a:pt x="1185" y="308"/>
                  </a:lnTo>
                  <a:lnTo>
                    <a:pt x="1178" y="256"/>
                  </a:lnTo>
                  <a:lnTo>
                    <a:pt x="1173" y="234"/>
                  </a:lnTo>
                  <a:lnTo>
                    <a:pt x="1167" y="212"/>
                  </a:lnTo>
                  <a:lnTo>
                    <a:pt x="1160" y="194"/>
                  </a:lnTo>
                  <a:lnTo>
                    <a:pt x="1151" y="177"/>
                  </a:lnTo>
                  <a:lnTo>
                    <a:pt x="1142" y="162"/>
                  </a:lnTo>
                  <a:lnTo>
                    <a:pt x="1132" y="149"/>
                  </a:lnTo>
                  <a:lnTo>
                    <a:pt x="1119" y="138"/>
                  </a:lnTo>
                  <a:lnTo>
                    <a:pt x="1107" y="130"/>
                  </a:lnTo>
                  <a:lnTo>
                    <a:pt x="1100" y="126"/>
                  </a:lnTo>
                  <a:lnTo>
                    <a:pt x="1093" y="122"/>
                  </a:lnTo>
                  <a:lnTo>
                    <a:pt x="1085" y="120"/>
                  </a:lnTo>
                  <a:lnTo>
                    <a:pt x="1077" y="118"/>
                  </a:lnTo>
                  <a:lnTo>
                    <a:pt x="1061" y="115"/>
                  </a:lnTo>
                  <a:lnTo>
                    <a:pt x="1043" y="114"/>
                  </a:lnTo>
                  <a:lnTo>
                    <a:pt x="1032" y="115"/>
                  </a:lnTo>
                  <a:lnTo>
                    <a:pt x="1019" y="115"/>
                  </a:lnTo>
                  <a:lnTo>
                    <a:pt x="1008" y="118"/>
                  </a:lnTo>
                  <a:lnTo>
                    <a:pt x="997" y="121"/>
                  </a:lnTo>
                  <a:lnTo>
                    <a:pt x="985" y="126"/>
                  </a:lnTo>
                  <a:lnTo>
                    <a:pt x="974" y="131"/>
                  </a:lnTo>
                  <a:lnTo>
                    <a:pt x="963" y="137"/>
                  </a:lnTo>
                  <a:lnTo>
                    <a:pt x="951" y="143"/>
                  </a:lnTo>
                  <a:lnTo>
                    <a:pt x="940" y="151"/>
                  </a:lnTo>
                  <a:lnTo>
                    <a:pt x="929" y="160"/>
                  </a:lnTo>
                  <a:lnTo>
                    <a:pt x="906" y="180"/>
                  </a:lnTo>
                  <a:lnTo>
                    <a:pt x="885" y="205"/>
                  </a:lnTo>
                  <a:lnTo>
                    <a:pt x="863" y="232"/>
                  </a:lnTo>
                  <a:lnTo>
                    <a:pt x="843" y="262"/>
                  </a:lnTo>
                  <a:lnTo>
                    <a:pt x="826" y="296"/>
                  </a:lnTo>
                  <a:lnTo>
                    <a:pt x="811" y="331"/>
                  </a:lnTo>
                  <a:lnTo>
                    <a:pt x="799" y="370"/>
                  </a:lnTo>
                  <a:lnTo>
                    <a:pt x="790" y="409"/>
                  </a:lnTo>
                  <a:lnTo>
                    <a:pt x="784" y="452"/>
                  </a:lnTo>
                  <a:lnTo>
                    <a:pt x="780" y="497"/>
                  </a:lnTo>
                  <a:lnTo>
                    <a:pt x="778" y="544"/>
                  </a:lnTo>
                  <a:lnTo>
                    <a:pt x="780" y="570"/>
                  </a:lnTo>
                  <a:lnTo>
                    <a:pt x="781" y="595"/>
                  </a:lnTo>
                  <a:lnTo>
                    <a:pt x="784" y="618"/>
                  </a:lnTo>
                  <a:lnTo>
                    <a:pt x="789" y="640"/>
                  </a:lnTo>
                  <a:lnTo>
                    <a:pt x="794" y="661"/>
                  </a:lnTo>
                  <a:lnTo>
                    <a:pt x="801" y="680"/>
                  </a:lnTo>
                  <a:lnTo>
                    <a:pt x="808" y="698"/>
                  </a:lnTo>
                  <a:lnTo>
                    <a:pt x="818" y="715"/>
                  </a:lnTo>
                  <a:lnTo>
                    <a:pt x="828" y="730"/>
                  </a:lnTo>
                  <a:lnTo>
                    <a:pt x="834" y="736"/>
                  </a:lnTo>
                  <a:lnTo>
                    <a:pt x="839" y="743"/>
                  </a:lnTo>
                  <a:lnTo>
                    <a:pt x="845" y="749"/>
                  </a:lnTo>
                  <a:lnTo>
                    <a:pt x="852" y="754"/>
                  </a:lnTo>
                  <a:lnTo>
                    <a:pt x="858" y="758"/>
                  </a:lnTo>
                  <a:lnTo>
                    <a:pt x="865" y="762"/>
                  </a:lnTo>
                  <a:lnTo>
                    <a:pt x="871" y="766"/>
                  </a:lnTo>
                  <a:lnTo>
                    <a:pt x="878" y="769"/>
                  </a:lnTo>
                  <a:lnTo>
                    <a:pt x="886" y="772"/>
                  </a:lnTo>
                  <a:lnTo>
                    <a:pt x="894" y="774"/>
                  </a:lnTo>
                  <a:lnTo>
                    <a:pt x="901" y="776"/>
                  </a:lnTo>
                  <a:lnTo>
                    <a:pt x="909" y="777"/>
                  </a:lnTo>
                  <a:lnTo>
                    <a:pt x="918" y="778"/>
                  </a:lnTo>
                  <a:lnTo>
                    <a:pt x="926" y="778"/>
                  </a:lnTo>
                  <a:lnTo>
                    <a:pt x="938" y="777"/>
                  </a:lnTo>
                  <a:lnTo>
                    <a:pt x="949" y="777"/>
                  </a:lnTo>
                  <a:lnTo>
                    <a:pt x="962" y="774"/>
                  </a:lnTo>
                  <a:lnTo>
                    <a:pt x="973" y="771"/>
                  </a:lnTo>
                  <a:lnTo>
                    <a:pt x="985" y="766"/>
                  </a:lnTo>
                  <a:lnTo>
                    <a:pt x="997" y="761"/>
                  </a:lnTo>
                  <a:lnTo>
                    <a:pt x="1008" y="755"/>
                  </a:lnTo>
                  <a:lnTo>
                    <a:pt x="1019" y="749"/>
                  </a:lnTo>
                  <a:lnTo>
                    <a:pt x="1031" y="741"/>
                  </a:lnTo>
                  <a:lnTo>
                    <a:pt x="1041" y="732"/>
                  </a:lnTo>
                  <a:lnTo>
                    <a:pt x="1052" y="722"/>
                  </a:lnTo>
                  <a:lnTo>
                    <a:pt x="1063" y="711"/>
                  </a:lnTo>
                  <a:lnTo>
                    <a:pt x="1084" y="687"/>
                  </a:lnTo>
                  <a:lnTo>
                    <a:pt x="1105" y="659"/>
                  </a:lnTo>
                  <a:lnTo>
                    <a:pt x="1124" y="629"/>
                  </a:lnTo>
                  <a:lnTo>
                    <a:pt x="1141" y="596"/>
                  </a:lnTo>
                  <a:lnTo>
                    <a:pt x="1155" y="562"/>
                  </a:lnTo>
                  <a:lnTo>
                    <a:pt x="1167" y="526"/>
                  </a:lnTo>
                  <a:lnTo>
                    <a:pt x="1176" y="489"/>
                  </a:lnTo>
                  <a:lnTo>
                    <a:pt x="1182" y="449"/>
                  </a:lnTo>
                  <a:lnTo>
                    <a:pt x="1186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49840" y="576360"/>
              <a:ext cx="541440" cy="452520"/>
            </a:xfrm>
            <a:custGeom>
              <a:avLst/>
              <a:gdLst/>
              <a:ahLst/>
              <a:rect l="l" t="t" r="r" b="b"/>
              <a:pathLst>
                <a:path w="1505" h="1258">
                  <a:moveTo>
                    <a:pt x="1036" y="671"/>
                  </a:moveTo>
                  <a:lnTo>
                    <a:pt x="1014" y="698"/>
                  </a:lnTo>
                  <a:lnTo>
                    <a:pt x="991" y="724"/>
                  </a:lnTo>
                  <a:lnTo>
                    <a:pt x="966" y="748"/>
                  </a:lnTo>
                  <a:lnTo>
                    <a:pt x="941" y="770"/>
                  </a:lnTo>
                  <a:lnTo>
                    <a:pt x="915" y="790"/>
                  </a:lnTo>
                  <a:lnTo>
                    <a:pt x="888" y="810"/>
                  </a:lnTo>
                  <a:lnTo>
                    <a:pt x="860" y="827"/>
                  </a:lnTo>
                  <a:lnTo>
                    <a:pt x="831" y="842"/>
                  </a:lnTo>
                  <a:lnTo>
                    <a:pt x="777" y="867"/>
                  </a:lnTo>
                  <a:lnTo>
                    <a:pt x="753" y="877"/>
                  </a:lnTo>
                  <a:lnTo>
                    <a:pt x="730" y="885"/>
                  </a:lnTo>
                  <a:lnTo>
                    <a:pt x="711" y="891"/>
                  </a:lnTo>
                  <a:lnTo>
                    <a:pt x="693" y="896"/>
                  </a:lnTo>
                  <a:lnTo>
                    <a:pt x="685" y="898"/>
                  </a:lnTo>
                  <a:lnTo>
                    <a:pt x="677" y="899"/>
                  </a:lnTo>
                  <a:lnTo>
                    <a:pt x="670" y="900"/>
                  </a:lnTo>
                  <a:lnTo>
                    <a:pt x="663" y="900"/>
                  </a:lnTo>
                  <a:lnTo>
                    <a:pt x="658" y="900"/>
                  </a:lnTo>
                  <a:lnTo>
                    <a:pt x="653" y="899"/>
                  </a:lnTo>
                  <a:lnTo>
                    <a:pt x="648" y="899"/>
                  </a:lnTo>
                  <a:lnTo>
                    <a:pt x="643" y="898"/>
                  </a:lnTo>
                  <a:lnTo>
                    <a:pt x="638" y="897"/>
                  </a:lnTo>
                  <a:lnTo>
                    <a:pt x="633" y="895"/>
                  </a:lnTo>
                  <a:lnTo>
                    <a:pt x="627" y="894"/>
                  </a:lnTo>
                  <a:lnTo>
                    <a:pt x="623" y="892"/>
                  </a:lnTo>
                  <a:lnTo>
                    <a:pt x="613" y="888"/>
                  </a:lnTo>
                  <a:lnTo>
                    <a:pt x="604" y="883"/>
                  </a:lnTo>
                  <a:lnTo>
                    <a:pt x="594" y="877"/>
                  </a:lnTo>
                  <a:lnTo>
                    <a:pt x="585" y="870"/>
                  </a:lnTo>
                  <a:lnTo>
                    <a:pt x="581" y="866"/>
                  </a:lnTo>
                  <a:lnTo>
                    <a:pt x="577" y="862"/>
                  </a:lnTo>
                  <a:lnTo>
                    <a:pt x="573" y="858"/>
                  </a:lnTo>
                  <a:lnTo>
                    <a:pt x="569" y="853"/>
                  </a:lnTo>
                  <a:lnTo>
                    <a:pt x="566" y="849"/>
                  </a:lnTo>
                  <a:lnTo>
                    <a:pt x="562" y="844"/>
                  </a:lnTo>
                  <a:lnTo>
                    <a:pt x="559" y="839"/>
                  </a:lnTo>
                  <a:lnTo>
                    <a:pt x="557" y="834"/>
                  </a:lnTo>
                  <a:lnTo>
                    <a:pt x="553" y="823"/>
                  </a:lnTo>
                  <a:lnTo>
                    <a:pt x="550" y="812"/>
                  </a:lnTo>
                  <a:lnTo>
                    <a:pt x="549" y="800"/>
                  </a:lnTo>
                  <a:lnTo>
                    <a:pt x="548" y="787"/>
                  </a:lnTo>
                  <a:lnTo>
                    <a:pt x="548" y="773"/>
                  </a:lnTo>
                  <a:lnTo>
                    <a:pt x="550" y="759"/>
                  </a:lnTo>
                  <a:lnTo>
                    <a:pt x="552" y="745"/>
                  </a:lnTo>
                  <a:lnTo>
                    <a:pt x="555" y="731"/>
                  </a:lnTo>
                  <a:lnTo>
                    <a:pt x="558" y="715"/>
                  </a:lnTo>
                  <a:lnTo>
                    <a:pt x="564" y="701"/>
                  </a:lnTo>
                  <a:lnTo>
                    <a:pt x="569" y="686"/>
                  </a:lnTo>
                  <a:lnTo>
                    <a:pt x="575" y="671"/>
                  </a:lnTo>
                  <a:lnTo>
                    <a:pt x="572" y="680"/>
                  </a:lnTo>
                  <a:lnTo>
                    <a:pt x="568" y="688"/>
                  </a:lnTo>
                  <a:lnTo>
                    <a:pt x="562" y="697"/>
                  </a:lnTo>
                  <a:lnTo>
                    <a:pt x="557" y="705"/>
                  </a:lnTo>
                  <a:lnTo>
                    <a:pt x="550" y="714"/>
                  </a:lnTo>
                  <a:lnTo>
                    <a:pt x="543" y="723"/>
                  </a:lnTo>
                  <a:lnTo>
                    <a:pt x="525" y="741"/>
                  </a:lnTo>
                  <a:lnTo>
                    <a:pt x="504" y="759"/>
                  </a:lnTo>
                  <a:lnTo>
                    <a:pt x="479" y="778"/>
                  </a:lnTo>
                  <a:lnTo>
                    <a:pt x="451" y="798"/>
                  </a:lnTo>
                  <a:lnTo>
                    <a:pt x="419" y="817"/>
                  </a:lnTo>
                  <a:lnTo>
                    <a:pt x="386" y="836"/>
                  </a:lnTo>
                  <a:lnTo>
                    <a:pt x="355" y="852"/>
                  </a:lnTo>
                  <a:lnTo>
                    <a:pt x="327" y="866"/>
                  </a:lnTo>
                  <a:lnTo>
                    <a:pt x="300" y="877"/>
                  </a:lnTo>
                  <a:lnTo>
                    <a:pt x="274" y="886"/>
                  </a:lnTo>
                  <a:lnTo>
                    <a:pt x="249" y="892"/>
                  </a:lnTo>
                  <a:lnTo>
                    <a:pt x="238" y="895"/>
                  </a:lnTo>
                  <a:lnTo>
                    <a:pt x="228" y="896"/>
                  </a:lnTo>
                  <a:lnTo>
                    <a:pt x="218" y="897"/>
                  </a:lnTo>
                  <a:lnTo>
                    <a:pt x="207" y="897"/>
                  </a:lnTo>
                  <a:lnTo>
                    <a:pt x="193" y="896"/>
                  </a:lnTo>
                  <a:lnTo>
                    <a:pt x="180" y="895"/>
                  </a:lnTo>
                  <a:lnTo>
                    <a:pt x="168" y="893"/>
                  </a:lnTo>
                  <a:lnTo>
                    <a:pt x="157" y="890"/>
                  </a:lnTo>
                  <a:lnTo>
                    <a:pt x="146" y="886"/>
                  </a:lnTo>
                  <a:lnTo>
                    <a:pt x="136" y="881"/>
                  </a:lnTo>
                  <a:lnTo>
                    <a:pt x="128" y="875"/>
                  </a:lnTo>
                  <a:lnTo>
                    <a:pt x="120" y="868"/>
                  </a:lnTo>
                  <a:lnTo>
                    <a:pt x="114" y="861"/>
                  </a:lnTo>
                  <a:lnTo>
                    <a:pt x="107" y="852"/>
                  </a:lnTo>
                  <a:lnTo>
                    <a:pt x="102" y="843"/>
                  </a:lnTo>
                  <a:lnTo>
                    <a:pt x="98" y="833"/>
                  </a:lnTo>
                  <a:lnTo>
                    <a:pt x="95" y="821"/>
                  </a:lnTo>
                  <a:lnTo>
                    <a:pt x="93" y="810"/>
                  </a:lnTo>
                  <a:lnTo>
                    <a:pt x="91" y="796"/>
                  </a:lnTo>
                  <a:lnTo>
                    <a:pt x="91" y="782"/>
                  </a:lnTo>
                  <a:lnTo>
                    <a:pt x="92" y="761"/>
                  </a:lnTo>
                  <a:lnTo>
                    <a:pt x="96" y="735"/>
                  </a:lnTo>
                  <a:lnTo>
                    <a:pt x="103" y="702"/>
                  </a:lnTo>
                  <a:lnTo>
                    <a:pt x="114" y="663"/>
                  </a:lnTo>
                  <a:lnTo>
                    <a:pt x="141" y="567"/>
                  </a:lnTo>
                  <a:lnTo>
                    <a:pt x="181" y="446"/>
                  </a:lnTo>
                  <a:lnTo>
                    <a:pt x="215" y="341"/>
                  </a:lnTo>
                  <a:lnTo>
                    <a:pt x="240" y="259"/>
                  </a:lnTo>
                  <a:lnTo>
                    <a:pt x="255" y="201"/>
                  </a:lnTo>
                  <a:lnTo>
                    <a:pt x="259" y="182"/>
                  </a:lnTo>
                  <a:lnTo>
                    <a:pt x="260" y="173"/>
                  </a:lnTo>
                  <a:lnTo>
                    <a:pt x="260" y="167"/>
                  </a:lnTo>
                  <a:lnTo>
                    <a:pt x="260" y="165"/>
                  </a:lnTo>
                  <a:lnTo>
                    <a:pt x="260" y="164"/>
                  </a:lnTo>
                  <a:lnTo>
                    <a:pt x="260" y="163"/>
                  </a:lnTo>
                  <a:lnTo>
                    <a:pt x="261" y="162"/>
                  </a:lnTo>
                  <a:lnTo>
                    <a:pt x="261" y="161"/>
                  </a:lnTo>
                  <a:lnTo>
                    <a:pt x="261" y="160"/>
                  </a:lnTo>
                  <a:lnTo>
                    <a:pt x="261" y="160"/>
                  </a:lnTo>
                  <a:lnTo>
                    <a:pt x="261" y="160"/>
                  </a:lnTo>
                  <a:lnTo>
                    <a:pt x="255" y="160"/>
                  </a:lnTo>
                  <a:lnTo>
                    <a:pt x="248" y="162"/>
                  </a:lnTo>
                  <a:lnTo>
                    <a:pt x="241" y="164"/>
                  </a:lnTo>
                  <a:lnTo>
                    <a:pt x="233" y="167"/>
                  </a:lnTo>
                  <a:lnTo>
                    <a:pt x="214" y="175"/>
                  </a:lnTo>
                  <a:lnTo>
                    <a:pt x="194" y="187"/>
                  </a:lnTo>
                  <a:lnTo>
                    <a:pt x="169" y="201"/>
                  </a:lnTo>
                  <a:lnTo>
                    <a:pt x="142" y="219"/>
                  </a:lnTo>
                  <a:lnTo>
                    <a:pt x="78" y="265"/>
                  </a:lnTo>
                  <a:lnTo>
                    <a:pt x="0" y="212"/>
                  </a:lnTo>
                  <a:lnTo>
                    <a:pt x="64" y="162"/>
                  </a:lnTo>
                  <a:lnTo>
                    <a:pt x="125" y="119"/>
                  </a:lnTo>
                  <a:lnTo>
                    <a:pt x="180" y="83"/>
                  </a:lnTo>
                  <a:lnTo>
                    <a:pt x="233" y="52"/>
                  </a:lnTo>
                  <a:lnTo>
                    <a:pt x="281" y="29"/>
                  </a:lnTo>
                  <a:lnTo>
                    <a:pt x="304" y="20"/>
                  </a:lnTo>
                  <a:lnTo>
                    <a:pt x="326" y="13"/>
                  </a:lnTo>
                  <a:lnTo>
                    <a:pt x="347" y="7"/>
                  </a:lnTo>
                  <a:lnTo>
                    <a:pt x="367" y="3"/>
                  </a:lnTo>
                  <a:lnTo>
                    <a:pt x="385" y="1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4" y="1"/>
                  </a:lnTo>
                  <a:lnTo>
                    <a:pt x="434" y="3"/>
                  </a:lnTo>
                  <a:lnTo>
                    <a:pt x="443" y="6"/>
                  </a:lnTo>
                  <a:lnTo>
                    <a:pt x="451" y="9"/>
                  </a:lnTo>
                  <a:lnTo>
                    <a:pt x="458" y="12"/>
                  </a:lnTo>
                  <a:lnTo>
                    <a:pt x="465" y="18"/>
                  </a:lnTo>
                  <a:lnTo>
                    <a:pt x="471" y="23"/>
                  </a:lnTo>
                  <a:lnTo>
                    <a:pt x="476" y="29"/>
                  </a:lnTo>
                  <a:lnTo>
                    <a:pt x="481" y="35"/>
                  </a:lnTo>
                  <a:lnTo>
                    <a:pt x="484" y="43"/>
                  </a:lnTo>
                  <a:lnTo>
                    <a:pt x="488" y="52"/>
                  </a:lnTo>
                  <a:lnTo>
                    <a:pt x="490" y="60"/>
                  </a:lnTo>
                  <a:lnTo>
                    <a:pt x="492" y="70"/>
                  </a:lnTo>
                  <a:lnTo>
                    <a:pt x="493" y="80"/>
                  </a:lnTo>
                  <a:lnTo>
                    <a:pt x="493" y="92"/>
                  </a:lnTo>
                  <a:lnTo>
                    <a:pt x="492" y="112"/>
                  </a:lnTo>
                  <a:lnTo>
                    <a:pt x="488" y="138"/>
                  </a:lnTo>
                  <a:lnTo>
                    <a:pt x="472" y="210"/>
                  </a:lnTo>
                  <a:lnTo>
                    <a:pt x="444" y="307"/>
                  </a:lnTo>
                  <a:lnTo>
                    <a:pt x="406" y="429"/>
                  </a:lnTo>
                  <a:lnTo>
                    <a:pt x="350" y="614"/>
                  </a:lnTo>
                  <a:lnTo>
                    <a:pt x="336" y="668"/>
                  </a:lnTo>
                  <a:lnTo>
                    <a:pt x="332" y="686"/>
                  </a:lnTo>
                  <a:lnTo>
                    <a:pt x="331" y="691"/>
                  </a:lnTo>
                  <a:lnTo>
                    <a:pt x="331" y="697"/>
                  </a:lnTo>
                  <a:lnTo>
                    <a:pt x="331" y="700"/>
                  </a:lnTo>
                  <a:lnTo>
                    <a:pt x="332" y="703"/>
                  </a:lnTo>
                  <a:lnTo>
                    <a:pt x="332" y="706"/>
                  </a:lnTo>
                  <a:lnTo>
                    <a:pt x="333" y="708"/>
                  </a:lnTo>
                  <a:lnTo>
                    <a:pt x="334" y="710"/>
                  </a:lnTo>
                  <a:lnTo>
                    <a:pt x="335" y="711"/>
                  </a:lnTo>
                  <a:lnTo>
                    <a:pt x="335" y="713"/>
                  </a:lnTo>
                  <a:lnTo>
                    <a:pt x="336" y="714"/>
                  </a:lnTo>
                  <a:lnTo>
                    <a:pt x="337" y="714"/>
                  </a:lnTo>
                  <a:lnTo>
                    <a:pt x="338" y="716"/>
                  </a:lnTo>
                  <a:lnTo>
                    <a:pt x="339" y="717"/>
                  </a:lnTo>
                  <a:lnTo>
                    <a:pt x="340" y="718"/>
                  </a:lnTo>
                  <a:lnTo>
                    <a:pt x="342" y="720"/>
                  </a:lnTo>
                  <a:lnTo>
                    <a:pt x="344" y="722"/>
                  </a:lnTo>
                  <a:lnTo>
                    <a:pt x="346" y="723"/>
                  </a:lnTo>
                  <a:lnTo>
                    <a:pt x="348" y="725"/>
                  </a:lnTo>
                  <a:lnTo>
                    <a:pt x="349" y="725"/>
                  </a:lnTo>
                  <a:lnTo>
                    <a:pt x="350" y="725"/>
                  </a:lnTo>
                  <a:lnTo>
                    <a:pt x="351" y="725"/>
                  </a:lnTo>
                  <a:lnTo>
                    <a:pt x="352" y="725"/>
                  </a:lnTo>
                  <a:lnTo>
                    <a:pt x="353" y="726"/>
                  </a:lnTo>
                  <a:lnTo>
                    <a:pt x="353" y="726"/>
                  </a:lnTo>
                  <a:lnTo>
                    <a:pt x="354" y="726"/>
                  </a:lnTo>
                  <a:lnTo>
                    <a:pt x="355" y="726"/>
                  </a:lnTo>
                  <a:lnTo>
                    <a:pt x="359" y="726"/>
                  </a:lnTo>
                  <a:lnTo>
                    <a:pt x="362" y="725"/>
                  </a:lnTo>
                  <a:lnTo>
                    <a:pt x="365" y="725"/>
                  </a:lnTo>
                  <a:lnTo>
                    <a:pt x="369" y="723"/>
                  </a:lnTo>
                  <a:lnTo>
                    <a:pt x="378" y="720"/>
                  </a:lnTo>
                  <a:lnTo>
                    <a:pt x="388" y="714"/>
                  </a:lnTo>
                  <a:lnTo>
                    <a:pt x="402" y="708"/>
                  </a:lnTo>
                  <a:lnTo>
                    <a:pt x="415" y="699"/>
                  </a:lnTo>
                  <a:lnTo>
                    <a:pt x="449" y="678"/>
                  </a:lnTo>
                  <a:lnTo>
                    <a:pt x="483" y="654"/>
                  </a:lnTo>
                  <a:lnTo>
                    <a:pt x="514" y="630"/>
                  </a:lnTo>
                  <a:lnTo>
                    <a:pt x="527" y="619"/>
                  </a:lnTo>
                  <a:lnTo>
                    <a:pt x="540" y="607"/>
                  </a:lnTo>
                  <a:lnTo>
                    <a:pt x="552" y="596"/>
                  </a:lnTo>
                  <a:lnTo>
                    <a:pt x="562" y="584"/>
                  </a:lnTo>
                  <a:lnTo>
                    <a:pt x="573" y="572"/>
                  </a:lnTo>
                  <a:lnTo>
                    <a:pt x="582" y="558"/>
                  </a:lnTo>
                  <a:lnTo>
                    <a:pt x="591" y="543"/>
                  </a:lnTo>
                  <a:lnTo>
                    <a:pt x="601" y="527"/>
                  </a:lnTo>
                  <a:lnTo>
                    <a:pt x="610" y="508"/>
                  </a:lnTo>
                  <a:lnTo>
                    <a:pt x="618" y="488"/>
                  </a:lnTo>
                  <a:lnTo>
                    <a:pt x="626" y="466"/>
                  </a:lnTo>
                  <a:lnTo>
                    <a:pt x="635" y="443"/>
                  </a:lnTo>
                  <a:lnTo>
                    <a:pt x="770" y="24"/>
                  </a:lnTo>
                  <a:lnTo>
                    <a:pt x="983" y="24"/>
                  </a:lnTo>
                  <a:lnTo>
                    <a:pt x="869" y="393"/>
                  </a:lnTo>
                  <a:lnTo>
                    <a:pt x="798" y="618"/>
                  </a:lnTo>
                  <a:lnTo>
                    <a:pt x="781" y="684"/>
                  </a:lnTo>
                  <a:lnTo>
                    <a:pt x="776" y="706"/>
                  </a:lnTo>
                  <a:lnTo>
                    <a:pt x="775" y="714"/>
                  </a:lnTo>
                  <a:lnTo>
                    <a:pt x="775" y="720"/>
                  </a:lnTo>
                  <a:lnTo>
                    <a:pt x="775" y="721"/>
                  </a:lnTo>
                  <a:lnTo>
                    <a:pt x="775" y="723"/>
                  </a:lnTo>
                  <a:lnTo>
                    <a:pt x="775" y="725"/>
                  </a:lnTo>
                  <a:lnTo>
                    <a:pt x="776" y="725"/>
                  </a:lnTo>
                  <a:lnTo>
                    <a:pt x="776" y="727"/>
                  </a:lnTo>
                  <a:lnTo>
                    <a:pt x="777" y="728"/>
                  </a:lnTo>
                  <a:lnTo>
                    <a:pt x="777" y="729"/>
                  </a:lnTo>
                  <a:lnTo>
                    <a:pt x="778" y="730"/>
                  </a:lnTo>
                  <a:lnTo>
                    <a:pt x="779" y="731"/>
                  </a:lnTo>
                  <a:lnTo>
                    <a:pt x="779" y="731"/>
                  </a:lnTo>
                  <a:lnTo>
                    <a:pt x="780" y="732"/>
                  </a:lnTo>
                  <a:lnTo>
                    <a:pt x="781" y="732"/>
                  </a:lnTo>
                  <a:lnTo>
                    <a:pt x="782" y="732"/>
                  </a:lnTo>
                  <a:lnTo>
                    <a:pt x="784" y="733"/>
                  </a:lnTo>
                  <a:lnTo>
                    <a:pt x="785" y="733"/>
                  </a:lnTo>
                  <a:lnTo>
                    <a:pt x="786" y="733"/>
                  </a:lnTo>
                  <a:lnTo>
                    <a:pt x="790" y="733"/>
                  </a:lnTo>
                  <a:lnTo>
                    <a:pt x="795" y="732"/>
                  </a:lnTo>
                  <a:lnTo>
                    <a:pt x="800" y="731"/>
                  </a:lnTo>
                  <a:lnTo>
                    <a:pt x="807" y="730"/>
                  </a:lnTo>
                  <a:lnTo>
                    <a:pt x="819" y="725"/>
                  </a:lnTo>
                  <a:lnTo>
                    <a:pt x="833" y="719"/>
                  </a:lnTo>
                  <a:lnTo>
                    <a:pt x="849" y="710"/>
                  </a:lnTo>
                  <a:lnTo>
                    <a:pt x="866" y="700"/>
                  </a:lnTo>
                  <a:lnTo>
                    <a:pt x="906" y="674"/>
                  </a:lnTo>
                  <a:lnTo>
                    <a:pt x="947" y="646"/>
                  </a:lnTo>
                  <a:lnTo>
                    <a:pt x="981" y="620"/>
                  </a:lnTo>
                  <a:lnTo>
                    <a:pt x="995" y="607"/>
                  </a:lnTo>
                  <a:lnTo>
                    <a:pt x="1008" y="595"/>
                  </a:lnTo>
                  <a:lnTo>
                    <a:pt x="1020" y="584"/>
                  </a:lnTo>
                  <a:lnTo>
                    <a:pt x="1030" y="573"/>
                  </a:lnTo>
                  <a:lnTo>
                    <a:pt x="1039" y="562"/>
                  </a:lnTo>
                  <a:lnTo>
                    <a:pt x="1047" y="550"/>
                  </a:lnTo>
                  <a:lnTo>
                    <a:pt x="1057" y="535"/>
                  </a:lnTo>
                  <a:lnTo>
                    <a:pt x="1065" y="520"/>
                  </a:lnTo>
                  <a:lnTo>
                    <a:pt x="1073" y="503"/>
                  </a:lnTo>
                  <a:lnTo>
                    <a:pt x="1080" y="484"/>
                  </a:lnTo>
                  <a:lnTo>
                    <a:pt x="1096" y="443"/>
                  </a:lnTo>
                  <a:lnTo>
                    <a:pt x="1231" y="24"/>
                  </a:lnTo>
                  <a:lnTo>
                    <a:pt x="1444" y="24"/>
                  </a:lnTo>
                  <a:lnTo>
                    <a:pt x="1331" y="393"/>
                  </a:lnTo>
                  <a:lnTo>
                    <a:pt x="1258" y="624"/>
                  </a:lnTo>
                  <a:lnTo>
                    <a:pt x="1240" y="692"/>
                  </a:lnTo>
                  <a:lnTo>
                    <a:pt x="1235" y="714"/>
                  </a:lnTo>
                  <a:lnTo>
                    <a:pt x="1234" y="722"/>
                  </a:lnTo>
                  <a:lnTo>
                    <a:pt x="1234" y="728"/>
                  </a:lnTo>
                  <a:lnTo>
                    <a:pt x="1234" y="732"/>
                  </a:lnTo>
                  <a:lnTo>
                    <a:pt x="1235" y="736"/>
                  </a:lnTo>
                  <a:lnTo>
                    <a:pt x="1235" y="737"/>
                  </a:lnTo>
                  <a:lnTo>
                    <a:pt x="1235" y="739"/>
                  </a:lnTo>
                  <a:lnTo>
                    <a:pt x="1236" y="741"/>
                  </a:lnTo>
                  <a:lnTo>
                    <a:pt x="1236" y="742"/>
                  </a:lnTo>
                  <a:lnTo>
                    <a:pt x="1237" y="743"/>
                  </a:lnTo>
                  <a:lnTo>
                    <a:pt x="1238" y="744"/>
                  </a:lnTo>
                  <a:lnTo>
                    <a:pt x="1238" y="745"/>
                  </a:lnTo>
                  <a:lnTo>
                    <a:pt x="1239" y="746"/>
                  </a:lnTo>
                  <a:lnTo>
                    <a:pt x="1239" y="746"/>
                  </a:lnTo>
                  <a:lnTo>
                    <a:pt x="1240" y="746"/>
                  </a:lnTo>
                  <a:lnTo>
                    <a:pt x="1240" y="746"/>
                  </a:lnTo>
                  <a:lnTo>
                    <a:pt x="1241" y="747"/>
                  </a:lnTo>
                  <a:lnTo>
                    <a:pt x="1241" y="747"/>
                  </a:lnTo>
                  <a:lnTo>
                    <a:pt x="1242" y="747"/>
                  </a:lnTo>
                  <a:lnTo>
                    <a:pt x="1242" y="747"/>
                  </a:lnTo>
                  <a:lnTo>
                    <a:pt x="1243" y="747"/>
                  </a:lnTo>
                  <a:lnTo>
                    <a:pt x="1245" y="747"/>
                  </a:lnTo>
                  <a:lnTo>
                    <a:pt x="1247" y="746"/>
                  </a:lnTo>
                  <a:lnTo>
                    <a:pt x="1253" y="745"/>
                  </a:lnTo>
                  <a:lnTo>
                    <a:pt x="1260" y="742"/>
                  </a:lnTo>
                  <a:lnTo>
                    <a:pt x="1268" y="738"/>
                  </a:lnTo>
                  <a:lnTo>
                    <a:pt x="1286" y="729"/>
                  </a:lnTo>
                  <a:lnTo>
                    <a:pt x="1309" y="714"/>
                  </a:lnTo>
                  <a:lnTo>
                    <a:pt x="1366" y="674"/>
                  </a:lnTo>
                  <a:lnTo>
                    <a:pt x="1440" y="618"/>
                  </a:lnTo>
                  <a:lnTo>
                    <a:pt x="1504" y="676"/>
                  </a:lnTo>
                  <a:lnTo>
                    <a:pt x="1485" y="693"/>
                  </a:lnTo>
                  <a:lnTo>
                    <a:pt x="1470" y="709"/>
                  </a:lnTo>
                  <a:lnTo>
                    <a:pt x="1456" y="725"/>
                  </a:lnTo>
                  <a:lnTo>
                    <a:pt x="1446" y="742"/>
                  </a:lnTo>
                  <a:lnTo>
                    <a:pt x="1438" y="758"/>
                  </a:lnTo>
                  <a:lnTo>
                    <a:pt x="1434" y="765"/>
                  </a:lnTo>
                  <a:lnTo>
                    <a:pt x="1432" y="773"/>
                  </a:lnTo>
                  <a:lnTo>
                    <a:pt x="1430" y="781"/>
                  </a:lnTo>
                  <a:lnTo>
                    <a:pt x="1427" y="788"/>
                  </a:lnTo>
                  <a:lnTo>
                    <a:pt x="1426" y="795"/>
                  </a:lnTo>
                  <a:lnTo>
                    <a:pt x="1426" y="803"/>
                  </a:lnTo>
                  <a:lnTo>
                    <a:pt x="1426" y="808"/>
                  </a:lnTo>
                  <a:lnTo>
                    <a:pt x="1427" y="814"/>
                  </a:lnTo>
                  <a:lnTo>
                    <a:pt x="1427" y="819"/>
                  </a:lnTo>
                  <a:lnTo>
                    <a:pt x="1429" y="825"/>
                  </a:lnTo>
                  <a:lnTo>
                    <a:pt x="1432" y="838"/>
                  </a:lnTo>
                  <a:lnTo>
                    <a:pt x="1436" y="852"/>
                  </a:lnTo>
                  <a:lnTo>
                    <a:pt x="1443" y="876"/>
                  </a:lnTo>
                  <a:lnTo>
                    <a:pt x="1449" y="895"/>
                  </a:lnTo>
                  <a:lnTo>
                    <a:pt x="1451" y="904"/>
                  </a:lnTo>
                  <a:lnTo>
                    <a:pt x="1452" y="912"/>
                  </a:lnTo>
                  <a:lnTo>
                    <a:pt x="1453" y="918"/>
                  </a:lnTo>
                  <a:lnTo>
                    <a:pt x="1453" y="924"/>
                  </a:lnTo>
                  <a:lnTo>
                    <a:pt x="1453" y="934"/>
                  </a:lnTo>
                  <a:lnTo>
                    <a:pt x="1452" y="943"/>
                  </a:lnTo>
                  <a:lnTo>
                    <a:pt x="1450" y="952"/>
                  </a:lnTo>
                  <a:lnTo>
                    <a:pt x="1448" y="961"/>
                  </a:lnTo>
                  <a:lnTo>
                    <a:pt x="1445" y="969"/>
                  </a:lnTo>
                  <a:lnTo>
                    <a:pt x="1441" y="978"/>
                  </a:lnTo>
                  <a:lnTo>
                    <a:pt x="1437" y="985"/>
                  </a:lnTo>
                  <a:lnTo>
                    <a:pt x="1432" y="994"/>
                  </a:lnTo>
                  <a:lnTo>
                    <a:pt x="1426" y="1002"/>
                  </a:lnTo>
                  <a:lnTo>
                    <a:pt x="1419" y="1009"/>
                  </a:lnTo>
                  <a:lnTo>
                    <a:pt x="1413" y="1017"/>
                  </a:lnTo>
                  <a:lnTo>
                    <a:pt x="1405" y="1025"/>
                  </a:lnTo>
                  <a:lnTo>
                    <a:pt x="1387" y="1039"/>
                  </a:lnTo>
                  <a:lnTo>
                    <a:pt x="1368" y="1053"/>
                  </a:lnTo>
                  <a:lnTo>
                    <a:pt x="1356" y="1059"/>
                  </a:lnTo>
                  <a:lnTo>
                    <a:pt x="1345" y="1065"/>
                  </a:lnTo>
                  <a:lnTo>
                    <a:pt x="1321" y="1076"/>
                  </a:lnTo>
                  <a:lnTo>
                    <a:pt x="1295" y="1085"/>
                  </a:lnTo>
                  <a:lnTo>
                    <a:pt x="1266" y="1093"/>
                  </a:lnTo>
                  <a:lnTo>
                    <a:pt x="1235" y="1099"/>
                  </a:lnTo>
                  <a:lnTo>
                    <a:pt x="1203" y="1103"/>
                  </a:lnTo>
                  <a:lnTo>
                    <a:pt x="1168" y="1105"/>
                  </a:lnTo>
                  <a:lnTo>
                    <a:pt x="1131" y="1106"/>
                  </a:lnTo>
                  <a:lnTo>
                    <a:pt x="1064" y="1105"/>
                  </a:lnTo>
                  <a:lnTo>
                    <a:pt x="1001" y="1104"/>
                  </a:lnTo>
                  <a:lnTo>
                    <a:pt x="940" y="1102"/>
                  </a:lnTo>
                  <a:lnTo>
                    <a:pt x="882" y="1098"/>
                  </a:lnTo>
                  <a:lnTo>
                    <a:pt x="807" y="1091"/>
                  </a:lnTo>
                  <a:lnTo>
                    <a:pt x="784" y="1090"/>
                  </a:lnTo>
                  <a:lnTo>
                    <a:pt x="776" y="1089"/>
                  </a:lnTo>
                  <a:lnTo>
                    <a:pt x="769" y="1089"/>
                  </a:lnTo>
                  <a:lnTo>
                    <a:pt x="764" y="1089"/>
                  </a:lnTo>
                  <a:lnTo>
                    <a:pt x="758" y="1090"/>
                  </a:lnTo>
                  <a:lnTo>
                    <a:pt x="754" y="1090"/>
                  </a:lnTo>
                  <a:lnTo>
                    <a:pt x="749" y="1091"/>
                  </a:lnTo>
                  <a:lnTo>
                    <a:pt x="745" y="1092"/>
                  </a:lnTo>
                  <a:lnTo>
                    <a:pt x="742" y="1093"/>
                  </a:lnTo>
                  <a:lnTo>
                    <a:pt x="738" y="1094"/>
                  </a:lnTo>
                  <a:lnTo>
                    <a:pt x="734" y="1096"/>
                  </a:lnTo>
                  <a:lnTo>
                    <a:pt x="732" y="1099"/>
                  </a:lnTo>
                  <a:lnTo>
                    <a:pt x="729" y="1100"/>
                  </a:lnTo>
                  <a:lnTo>
                    <a:pt x="727" y="1103"/>
                  </a:lnTo>
                  <a:lnTo>
                    <a:pt x="726" y="1105"/>
                  </a:lnTo>
                  <a:lnTo>
                    <a:pt x="725" y="1108"/>
                  </a:lnTo>
                  <a:lnTo>
                    <a:pt x="724" y="1111"/>
                  </a:lnTo>
                  <a:lnTo>
                    <a:pt x="723" y="1115"/>
                  </a:lnTo>
                  <a:lnTo>
                    <a:pt x="723" y="1118"/>
                  </a:lnTo>
                  <a:lnTo>
                    <a:pt x="723" y="1120"/>
                  </a:lnTo>
                  <a:lnTo>
                    <a:pt x="723" y="1121"/>
                  </a:lnTo>
                  <a:lnTo>
                    <a:pt x="724" y="1123"/>
                  </a:lnTo>
                  <a:lnTo>
                    <a:pt x="724" y="1125"/>
                  </a:lnTo>
                  <a:lnTo>
                    <a:pt x="725" y="1127"/>
                  </a:lnTo>
                  <a:lnTo>
                    <a:pt x="726" y="1127"/>
                  </a:lnTo>
                  <a:lnTo>
                    <a:pt x="727" y="1129"/>
                  </a:lnTo>
                  <a:lnTo>
                    <a:pt x="728" y="1130"/>
                  </a:lnTo>
                  <a:lnTo>
                    <a:pt x="730" y="1131"/>
                  </a:lnTo>
                  <a:lnTo>
                    <a:pt x="731" y="1132"/>
                  </a:lnTo>
                  <a:lnTo>
                    <a:pt x="733" y="1133"/>
                  </a:lnTo>
                  <a:lnTo>
                    <a:pt x="735" y="1133"/>
                  </a:lnTo>
                  <a:lnTo>
                    <a:pt x="738" y="1134"/>
                  </a:lnTo>
                  <a:lnTo>
                    <a:pt x="741" y="1134"/>
                  </a:lnTo>
                  <a:lnTo>
                    <a:pt x="743" y="1135"/>
                  </a:lnTo>
                  <a:lnTo>
                    <a:pt x="746" y="1135"/>
                  </a:lnTo>
                  <a:lnTo>
                    <a:pt x="755" y="1136"/>
                  </a:lnTo>
                  <a:lnTo>
                    <a:pt x="763" y="1138"/>
                  </a:lnTo>
                  <a:lnTo>
                    <a:pt x="770" y="1139"/>
                  </a:lnTo>
                  <a:lnTo>
                    <a:pt x="778" y="1141"/>
                  </a:lnTo>
                  <a:lnTo>
                    <a:pt x="784" y="1144"/>
                  </a:lnTo>
                  <a:lnTo>
                    <a:pt x="790" y="1146"/>
                  </a:lnTo>
                  <a:lnTo>
                    <a:pt x="795" y="1150"/>
                  </a:lnTo>
                  <a:lnTo>
                    <a:pt x="800" y="1153"/>
                  </a:lnTo>
                  <a:lnTo>
                    <a:pt x="804" y="1157"/>
                  </a:lnTo>
                  <a:lnTo>
                    <a:pt x="809" y="1161"/>
                  </a:lnTo>
                  <a:lnTo>
                    <a:pt x="812" y="1166"/>
                  </a:lnTo>
                  <a:lnTo>
                    <a:pt x="815" y="1171"/>
                  </a:lnTo>
                  <a:lnTo>
                    <a:pt x="816" y="1176"/>
                  </a:lnTo>
                  <a:lnTo>
                    <a:pt x="818" y="1182"/>
                  </a:lnTo>
                  <a:lnTo>
                    <a:pt x="819" y="1188"/>
                  </a:lnTo>
                  <a:lnTo>
                    <a:pt x="819" y="1195"/>
                  </a:lnTo>
                  <a:lnTo>
                    <a:pt x="819" y="1198"/>
                  </a:lnTo>
                  <a:lnTo>
                    <a:pt x="819" y="1200"/>
                  </a:lnTo>
                  <a:lnTo>
                    <a:pt x="818" y="1204"/>
                  </a:lnTo>
                  <a:lnTo>
                    <a:pt x="818" y="1206"/>
                  </a:lnTo>
                  <a:lnTo>
                    <a:pt x="817" y="1210"/>
                  </a:lnTo>
                  <a:lnTo>
                    <a:pt x="816" y="1212"/>
                  </a:lnTo>
                  <a:lnTo>
                    <a:pt x="814" y="1216"/>
                  </a:lnTo>
                  <a:lnTo>
                    <a:pt x="813" y="1218"/>
                  </a:lnTo>
                  <a:lnTo>
                    <a:pt x="811" y="1221"/>
                  </a:lnTo>
                  <a:lnTo>
                    <a:pt x="810" y="1223"/>
                  </a:lnTo>
                  <a:lnTo>
                    <a:pt x="806" y="1229"/>
                  </a:lnTo>
                  <a:lnTo>
                    <a:pt x="800" y="1234"/>
                  </a:lnTo>
                  <a:lnTo>
                    <a:pt x="794" y="1239"/>
                  </a:lnTo>
                  <a:lnTo>
                    <a:pt x="788" y="1243"/>
                  </a:lnTo>
                  <a:lnTo>
                    <a:pt x="782" y="1247"/>
                  </a:lnTo>
                  <a:lnTo>
                    <a:pt x="779" y="1249"/>
                  </a:lnTo>
                  <a:lnTo>
                    <a:pt x="776" y="1251"/>
                  </a:lnTo>
                  <a:lnTo>
                    <a:pt x="773" y="1251"/>
                  </a:lnTo>
                  <a:lnTo>
                    <a:pt x="768" y="1253"/>
                  </a:lnTo>
                  <a:lnTo>
                    <a:pt x="765" y="1254"/>
                  </a:lnTo>
                  <a:lnTo>
                    <a:pt x="761" y="1255"/>
                  </a:lnTo>
                  <a:lnTo>
                    <a:pt x="754" y="1257"/>
                  </a:lnTo>
                  <a:lnTo>
                    <a:pt x="747" y="1257"/>
                  </a:lnTo>
                  <a:lnTo>
                    <a:pt x="739" y="1257"/>
                  </a:lnTo>
                  <a:lnTo>
                    <a:pt x="731" y="1257"/>
                  </a:lnTo>
                  <a:lnTo>
                    <a:pt x="725" y="1257"/>
                  </a:lnTo>
                  <a:lnTo>
                    <a:pt x="718" y="1256"/>
                  </a:lnTo>
                  <a:lnTo>
                    <a:pt x="712" y="1255"/>
                  </a:lnTo>
                  <a:lnTo>
                    <a:pt x="705" y="1253"/>
                  </a:lnTo>
                  <a:lnTo>
                    <a:pt x="698" y="1251"/>
                  </a:lnTo>
                  <a:lnTo>
                    <a:pt x="692" y="1250"/>
                  </a:lnTo>
                  <a:lnTo>
                    <a:pt x="686" y="1247"/>
                  </a:lnTo>
                  <a:lnTo>
                    <a:pt x="680" y="1245"/>
                  </a:lnTo>
                  <a:lnTo>
                    <a:pt x="674" y="1241"/>
                  </a:lnTo>
                  <a:lnTo>
                    <a:pt x="669" y="1238"/>
                  </a:lnTo>
                  <a:lnTo>
                    <a:pt x="662" y="1234"/>
                  </a:lnTo>
                  <a:lnTo>
                    <a:pt x="651" y="1226"/>
                  </a:lnTo>
                  <a:lnTo>
                    <a:pt x="641" y="1216"/>
                  </a:lnTo>
                  <a:lnTo>
                    <a:pt x="630" y="1205"/>
                  </a:lnTo>
                  <a:lnTo>
                    <a:pt x="622" y="1194"/>
                  </a:lnTo>
                  <a:lnTo>
                    <a:pt x="615" y="1182"/>
                  </a:lnTo>
                  <a:lnTo>
                    <a:pt x="609" y="1170"/>
                  </a:lnTo>
                  <a:lnTo>
                    <a:pt x="605" y="1157"/>
                  </a:lnTo>
                  <a:lnTo>
                    <a:pt x="602" y="1144"/>
                  </a:lnTo>
                  <a:lnTo>
                    <a:pt x="600" y="1130"/>
                  </a:lnTo>
                  <a:lnTo>
                    <a:pt x="599" y="1116"/>
                  </a:lnTo>
                  <a:lnTo>
                    <a:pt x="599" y="1105"/>
                  </a:lnTo>
                  <a:lnTo>
                    <a:pt x="600" y="1095"/>
                  </a:lnTo>
                  <a:lnTo>
                    <a:pt x="602" y="1086"/>
                  </a:lnTo>
                  <a:lnTo>
                    <a:pt x="604" y="1076"/>
                  </a:lnTo>
                  <a:lnTo>
                    <a:pt x="607" y="1067"/>
                  </a:lnTo>
                  <a:lnTo>
                    <a:pt x="610" y="1058"/>
                  </a:lnTo>
                  <a:lnTo>
                    <a:pt x="614" y="1049"/>
                  </a:lnTo>
                  <a:lnTo>
                    <a:pt x="619" y="1041"/>
                  </a:lnTo>
                  <a:lnTo>
                    <a:pt x="624" y="1033"/>
                  </a:lnTo>
                  <a:lnTo>
                    <a:pt x="630" y="1025"/>
                  </a:lnTo>
                  <a:lnTo>
                    <a:pt x="638" y="1017"/>
                  </a:lnTo>
                  <a:lnTo>
                    <a:pt x="645" y="1010"/>
                  </a:lnTo>
                  <a:lnTo>
                    <a:pt x="652" y="1002"/>
                  </a:lnTo>
                  <a:lnTo>
                    <a:pt x="661" y="996"/>
                  </a:lnTo>
                  <a:lnTo>
                    <a:pt x="671" y="989"/>
                  </a:lnTo>
                  <a:lnTo>
                    <a:pt x="680" y="983"/>
                  </a:lnTo>
                  <a:lnTo>
                    <a:pt x="700" y="971"/>
                  </a:lnTo>
                  <a:lnTo>
                    <a:pt x="722" y="961"/>
                  </a:lnTo>
                  <a:lnTo>
                    <a:pt x="743" y="952"/>
                  </a:lnTo>
                  <a:lnTo>
                    <a:pt x="765" y="946"/>
                  </a:lnTo>
                  <a:lnTo>
                    <a:pt x="787" y="940"/>
                  </a:lnTo>
                  <a:lnTo>
                    <a:pt x="810" y="936"/>
                  </a:lnTo>
                  <a:lnTo>
                    <a:pt x="832" y="934"/>
                  </a:lnTo>
                  <a:lnTo>
                    <a:pt x="856" y="933"/>
                  </a:lnTo>
                  <a:lnTo>
                    <a:pt x="869" y="933"/>
                  </a:lnTo>
                  <a:lnTo>
                    <a:pt x="885" y="934"/>
                  </a:lnTo>
                  <a:lnTo>
                    <a:pt x="920" y="937"/>
                  </a:lnTo>
                  <a:lnTo>
                    <a:pt x="962" y="942"/>
                  </a:lnTo>
                  <a:lnTo>
                    <a:pt x="1010" y="950"/>
                  </a:lnTo>
                  <a:lnTo>
                    <a:pt x="1072" y="959"/>
                  </a:lnTo>
                  <a:lnTo>
                    <a:pt x="1129" y="965"/>
                  </a:lnTo>
                  <a:lnTo>
                    <a:pt x="1179" y="969"/>
                  </a:lnTo>
                  <a:lnTo>
                    <a:pt x="1203" y="970"/>
                  </a:lnTo>
                  <a:lnTo>
                    <a:pt x="1226" y="970"/>
                  </a:lnTo>
                  <a:lnTo>
                    <a:pt x="1239" y="970"/>
                  </a:lnTo>
                  <a:lnTo>
                    <a:pt x="1252" y="969"/>
                  </a:lnTo>
                  <a:lnTo>
                    <a:pt x="1264" y="968"/>
                  </a:lnTo>
                  <a:lnTo>
                    <a:pt x="1274" y="965"/>
                  </a:lnTo>
                  <a:lnTo>
                    <a:pt x="1279" y="964"/>
                  </a:lnTo>
                  <a:lnTo>
                    <a:pt x="1283" y="963"/>
                  </a:lnTo>
                  <a:lnTo>
                    <a:pt x="1288" y="961"/>
                  </a:lnTo>
                  <a:lnTo>
                    <a:pt x="1293" y="959"/>
                  </a:lnTo>
                  <a:lnTo>
                    <a:pt x="1296" y="957"/>
                  </a:lnTo>
                  <a:lnTo>
                    <a:pt x="1300" y="955"/>
                  </a:lnTo>
                  <a:lnTo>
                    <a:pt x="1303" y="953"/>
                  </a:lnTo>
                  <a:lnTo>
                    <a:pt x="1306" y="951"/>
                  </a:lnTo>
                  <a:lnTo>
                    <a:pt x="1311" y="946"/>
                  </a:lnTo>
                  <a:lnTo>
                    <a:pt x="1316" y="941"/>
                  </a:lnTo>
                  <a:lnTo>
                    <a:pt x="1320" y="937"/>
                  </a:lnTo>
                  <a:lnTo>
                    <a:pt x="1323" y="933"/>
                  </a:lnTo>
                  <a:lnTo>
                    <a:pt x="1325" y="930"/>
                  </a:lnTo>
                  <a:lnTo>
                    <a:pt x="1326" y="928"/>
                  </a:lnTo>
                  <a:lnTo>
                    <a:pt x="1327" y="925"/>
                  </a:lnTo>
                  <a:lnTo>
                    <a:pt x="1328" y="923"/>
                  </a:lnTo>
                  <a:lnTo>
                    <a:pt x="1328" y="921"/>
                  </a:lnTo>
                  <a:lnTo>
                    <a:pt x="1329" y="918"/>
                  </a:lnTo>
                  <a:lnTo>
                    <a:pt x="1329" y="917"/>
                  </a:lnTo>
                  <a:lnTo>
                    <a:pt x="1329" y="914"/>
                  </a:lnTo>
                  <a:lnTo>
                    <a:pt x="1329" y="912"/>
                  </a:lnTo>
                  <a:lnTo>
                    <a:pt x="1329" y="908"/>
                  </a:lnTo>
                  <a:lnTo>
                    <a:pt x="1328" y="901"/>
                  </a:lnTo>
                  <a:lnTo>
                    <a:pt x="1323" y="880"/>
                  </a:lnTo>
                  <a:lnTo>
                    <a:pt x="1321" y="870"/>
                  </a:lnTo>
                  <a:lnTo>
                    <a:pt x="1320" y="861"/>
                  </a:lnTo>
                  <a:lnTo>
                    <a:pt x="1319" y="850"/>
                  </a:lnTo>
                  <a:lnTo>
                    <a:pt x="1319" y="841"/>
                  </a:lnTo>
                  <a:lnTo>
                    <a:pt x="1319" y="831"/>
                  </a:lnTo>
                  <a:lnTo>
                    <a:pt x="1320" y="821"/>
                  </a:lnTo>
                  <a:lnTo>
                    <a:pt x="1322" y="810"/>
                  </a:lnTo>
                  <a:lnTo>
                    <a:pt x="1326" y="800"/>
                  </a:lnTo>
                  <a:lnTo>
                    <a:pt x="1329" y="789"/>
                  </a:lnTo>
                  <a:lnTo>
                    <a:pt x="1333" y="778"/>
                  </a:lnTo>
                  <a:lnTo>
                    <a:pt x="1338" y="767"/>
                  </a:lnTo>
                  <a:lnTo>
                    <a:pt x="1343" y="756"/>
                  </a:lnTo>
                  <a:lnTo>
                    <a:pt x="1343" y="777"/>
                  </a:lnTo>
                  <a:lnTo>
                    <a:pt x="1316" y="806"/>
                  </a:lnTo>
                  <a:lnTo>
                    <a:pt x="1291" y="831"/>
                  </a:lnTo>
                  <a:lnTo>
                    <a:pt x="1264" y="852"/>
                  </a:lnTo>
                  <a:lnTo>
                    <a:pt x="1250" y="861"/>
                  </a:lnTo>
                  <a:lnTo>
                    <a:pt x="1237" y="869"/>
                  </a:lnTo>
                  <a:lnTo>
                    <a:pt x="1224" y="876"/>
                  </a:lnTo>
                  <a:lnTo>
                    <a:pt x="1209" y="883"/>
                  </a:lnTo>
                  <a:lnTo>
                    <a:pt x="1196" y="888"/>
                  </a:lnTo>
                  <a:lnTo>
                    <a:pt x="1182" y="892"/>
                  </a:lnTo>
                  <a:lnTo>
                    <a:pt x="1169" y="895"/>
                  </a:lnTo>
                  <a:lnTo>
                    <a:pt x="1156" y="898"/>
                  </a:lnTo>
                  <a:lnTo>
                    <a:pt x="1141" y="899"/>
                  </a:lnTo>
                  <a:lnTo>
                    <a:pt x="1128" y="900"/>
                  </a:lnTo>
                  <a:lnTo>
                    <a:pt x="1123" y="900"/>
                  </a:lnTo>
                  <a:lnTo>
                    <a:pt x="1116" y="899"/>
                  </a:lnTo>
                  <a:lnTo>
                    <a:pt x="1111" y="899"/>
                  </a:lnTo>
                  <a:lnTo>
                    <a:pt x="1106" y="898"/>
                  </a:lnTo>
                  <a:lnTo>
                    <a:pt x="1101" y="896"/>
                  </a:lnTo>
                  <a:lnTo>
                    <a:pt x="1096" y="895"/>
                  </a:lnTo>
                  <a:lnTo>
                    <a:pt x="1091" y="894"/>
                  </a:lnTo>
                  <a:lnTo>
                    <a:pt x="1086" y="892"/>
                  </a:lnTo>
                  <a:lnTo>
                    <a:pt x="1080" y="890"/>
                  </a:lnTo>
                  <a:lnTo>
                    <a:pt x="1075" y="888"/>
                  </a:lnTo>
                  <a:lnTo>
                    <a:pt x="1066" y="883"/>
                  </a:lnTo>
                  <a:lnTo>
                    <a:pt x="1057" y="876"/>
                  </a:lnTo>
                  <a:lnTo>
                    <a:pt x="1047" y="869"/>
                  </a:lnTo>
                  <a:lnTo>
                    <a:pt x="1043" y="865"/>
                  </a:lnTo>
                  <a:lnTo>
                    <a:pt x="1039" y="861"/>
                  </a:lnTo>
                  <a:lnTo>
                    <a:pt x="1035" y="857"/>
                  </a:lnTo>
                  <a:lnTo>
                    <a:pt x="1031" y="853"/>
                  </a:lnTo>
                  <a:lnTo>
                    <a:pt x="1028" y="848"/>
                  </a:lnTo>
                  <a:lnTo>
                    <a:pt x="1025" y="844"/>
                  </a:lnTo>
                  <a:lnTo>
                    <a:pt x="1023" y="838"/>
                  </a:lnTo>
                  <a:lnTo>
                    <a:pt x="1021" y="833"/>
                  </a:lnTo>
                  <a:lnTo>
                    <a:pt x="1017" y="823"/>
                  </a:lnTo>
                  <a:lnTo>
                    <a:pt x="1014" y="812"/>
                  </a:lnTo>
                  <a:lnTo>
                    <a:pt x="1012" y="800"/>
                  </a:lnTo>
                  <a:lnTo>
                    <a:pt x="1011" y="787"/>
                  </a:lnTo>
                  <a:lnTo>
                    <a:pt x="1011" y="773"/>
                  </a:lnTo>
                  <a:lnTo>
                    <a:pt x="1014" y="759"/>
                  </a:lnTo>
                  <a:lnTo>
                    <a:pt x="1015" y="745"/>
                  </a:lnTo>
                  <a:lnTo>
                    <a:pt x="1018" y="731"/>
                  </a:lnTo>
                  <a:lnTo>
                    <a:pt x="1021" y="715"/>
                  </a:lnTo>
                  <a:lnTo>
                    <a:pt x="1026" y="701"/>
                  </a:lnTo>
                  <a:lnTo>
                    <a:pt x="1030" y="686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11800" y="576360"/>
              <a:ext cx="393840" cy="323640"/>
            </a:xfrm>
            <a:custGeom>
              <a:avLst/>
              <a:gdLst/>
              <a:ahLst/>
              <a:rect l="l" t="t" r="r" b="b"/>
              <a:pathLst>
                <a:path w="1092" h="901">
                  <a:moveTo>
                    <a:pt x="818" y="24"/>
                  </a:moveTo>
                  <a:lnTo>
                    <a:pt x="1032" y="24"/>
                  </a:lnTo>
                  <a:lnTo>
                    <a:pt x="919" y="393"/>
                  </a:lnTo>
                  <a:lnTo>
                    <a:pt x="846" y="624"/>
                  </a:lnTo>
                  <a:lnTo>
                    <a:pt x="827" y="692"/>
                  </a:lnTo>
                  <a:lnTo>
                    <a:pt x="822" y="714"/>
                  </a:lnTo>
                  <a:lnTo>
                    <a:pt x="821" y="722"/>
                  </a:lnTo>
                  <a:lnTo>
                    <a:pt x="821" y="728"/>
                  </a:lnTo>
                  <a:lnTo>
                    <a:pt x="821" y="731"/>
                  </a:lnTo>
                  <a:lnTo>
                    <a:pt x="821" y="733"/>
                  </a:lnTo>
                  <a:lnTo>
                    <a:pt x="821" y="736"/>
                  </a:lnTo>
                  <a:lnTo>
                    <a:pt x="822" y="737"/>
                  </a:lnTo>
                  <a:lnTo>
                    <a:pt x="822" y="739"/>
                  </a:lnTo>
                  <a:lnTo>
                    <a:pt x="823" y="741"/>
                  </a:lnTo>
                  <a:lnTo>
                    <a:pt x="823" y="742"/>
                  </a:lnTo>
                  <a:lnTo>
                    <a:pt x="823" y="742"/>
                  </a:lnTo>
                  <a:lnTo>
                    <a:pt x="824" y="742"/>
                  </a:lnTo>
                  <a:lnTo>
                    <a:pt x="824" y="743"/>
                  </a:lnTo>
                  <a:lnTo>
                    <a:pt x="825" y="744"/>
                  </a:lnTo>
                  <a:lnTo>
                    <a:pt x="827" y="746"/>
                  </a:lnTo>
                  <a:lnTo>
                    <a:pt x="828" y="746"/>
                  </a:lnTo>
                  <a:lnTo>
                    <a:pt x="828" y="746"/>
                  </a:lnTo>
                  <a:lnTo>
                    <a:pt x="828" y="747"/>
                  </a:lnTo>
                  <a:lnTo>
                    <a:pt x="828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31" y="747"/>
                  </a:lnTo>
                  <a:lnTo>
                    <a:pt x="833" y="747"/>
                  </a:lnTo>
                  <a:lnTo>
                    <a:pt x="837" y="746"/>
                  </a:lnTo>
                  <a:lnTo>
                    <a:pt x="841" y="745"/>
                  </a:lnTo>
                  <a:lnTo>
                    <a:pt x="844" y="744"/>
                  </a:lnTo>
                  <a:lnTo>
                    <a:pt x="848" y="742"/>
                  </a:lnTo>
                  <a:lnTo>
                    <a:pt x="852" y="741"/>
                  </a:lnTo>
                  <a:lnTo>
                    <a:pt x="857" y="739"/>
                  </a:lnTo>
                  <a:lnTo>
                    <a:pt x="861" y="737"/>
                  </a:lnTo>
                  <a:lnTo>
                    <a:pt x="873" y="730"/>
                  </a:lnTo>
                  <a:lnTo>
                    <a:pt x="886" y="721"/>
                  </a:lnTo>
                  <a:lnTo>
                    <a:pt x="922" y="696"/>
                  </a:lnTo>
                  <a:lnTo>
                    <a:pt x="1027" y="618"/>
                  </a:lnTo>
                  <a:lnTo>
                    <a:pt x="1091" y="675"/>
                  </a:lnTo>
                  <a:lnTo>
                    <a:pt x="1029" y="728"/>
                  </a:lnTo>
                  <a:lnTo>
                    <a:pt x="973" y="774"/>
                  </a:lnTo>
                  <a:lnTo>
                    <a:pt x="919" y="812"/>
                  </a:lnTo>
                  <a:lnTo>
                    <a:pt x="870" y="844"/>
                  </a:lnTo>
                  <a:lnTo>
                    <a:pt x="824" y="868"/>
                  </a:lnTo>
                  <a:lnTo>
                    <a:pt x="804" y="878"/>
                  </a:lnTo>
                  <a:lnTo>
                    <a:pt x="783" y="886"/>
                  </a:lnTo>
                  <a:lnTo>
                    <a:pt x="765" y="892"/>
                  </a:lnTo>
                  <a:lnTo>
                    <a:pt x="746" y="896"/>
                  </a:lnTo>
                  <a:lnTo>
                    <a:pt x="730" y="899"/>
                  </a:lnTo>
                  <a:lnTo>
                    <a:pt x="713" y="900"/>
                  </a:lnTo>
                  <a:lnTo>
                    <a:pt x="701" y="899"/>
                  </a:lnTo>
                  <a:lnTo>
                    <a:pt x="696" y="899"/>
                  </a:lnTo>
                  <a:lnTo>
                    <a:pt x="689" y="898"/>
                  </a:lnTo>
                  <a:lnTo>
                    <a:pt x="684" y="897"/>
                  </a:lnTo>
                  <a:lnTo>
                    <a:pt x="678" y="895"/>
                  </a:lnTo>
                  <a:lnTo>
                    <a:pt x="673" y="894"/>
                  </a:lnTo>
                  <a:lnTo>
                    <a:pt x="668" y="892"/>
                  </a:lnTo>
                  <a:lnTo>
                    <a:pt x="663" y="890"/>
                  </a:lnTo>
                  <a:lnTo>
                    <a:pt x="658" y="888"/>
                  </a:lnTo>
                  <a:lnTo>
                    <a:pt x="653" y="885"/>
                  </a:lnTo>
                  <a:lnTo>
                    <a:pt x="648" y="883"/>
                  </a:lnTo>
                  <a:lnTo>
                    <a:pt x="639" y="877"/>
                  </a:lnTo>
                  <a:lnTo>
                    <a:pt x="631" y="870"/>
                  </a:lnTo>
                  <a:lnTo>
                    <a:pt x="627" y="866"/>
                  </a:lnTo>
                  <a:lnTo>
                    <a:pt x="622" y="862"/>
                  </a:lnTo>
                  <a:lnTo>
                    <a:pt x="619" y="858"/>
                  </a:lnTo>
                  <a:lnTo>
                    <a:pt x="616" y="853"/>
                  </a:lnTo>
                  <a:lnTo>
                    <a:pt x="613" y="849"/>
                  </a:lnTo>
                  <a:lnTo>
                    <a:pt x="610" y="844"/>
                  </a:lnTo>
                  <a:lnTo>
                    <a:pt x="606" y="834"/>
                  </a:lnTo>
                  <a:lnTo>
                    <a:pt x="602" y="823"/>
                  </a:lnTo>
                  <a:lnTo>
                    <a:pt x="600" y="812"/>
                  </a:lnTo>
                  <a:lnTo>
                    <a:pt x="598" y="800"/>
                  </a:lnTo>
                  <a:lnTo>
                    <a:pt x="598" y="787"/>
                  </a:lnTo>
                  <a:lnTo>
                    <a:pt x="598" y="774"/>
                  </a:lnTo>
                  <a:lnTo>
                    <a:pt x="600" y="759"/>
                  </a:lnTo>
                  <a:lnTo>
                    <a:pt x="601" y="745"/>
                  </a:lnTo>
                  <a:lnTo>
                    <a:pt x="604" y="731"/>
                  </a:lnTo>
                  <a:lnTo>
                    <a:pt x="608" y="716"/>
                  </a:lnTo>
                  <a:lnTo>
                    <a:pt x="612" y="702"/>
                  </a:lnTo>
                  <a:lnTo>
                    <a:pt x="617" y="686"/>
                  </a:lnTo>
                  <a:lnTo>
                    <a:pt x="623" y="671"/>
                  </a:lnTo>
                  <a:lnTo>
                    <a:pt x="606" y="695"/>
                  </a:lnTo>
                  <a:lnTo>
                    <a:pt x="585" y="718"/>
                  </a:lnTo>
                  <a:lnTo>
                    <a:pt x="562" y="740"/>
                  </a:lnTo>
                  <a:lnTo>
                    <a:pt x="535" y="762"/>
                  </a:lnTo>
                  <a:lnTo>
                    <a:pt x="506" y="783"/>
                  </a:lnTo>
                  <a:lnTo>
                    <a:pt x="473" y="804"/>
                  </a:lnTo>
                  <a:lnTo>
                    <a:pt x="438" y="825"/>
                  </a:lnTo>
                  <a:lnTo>
                    <a:pt x="399" y="844"/>
                  </a:lnTo>
                  <a:lnTo>
                    <a:pt x="372" y="856"/>
                  </a:lnTo>
                  <a:lnTo>
                    <a:pt x="346" y="867"/>
                  </a:lnTo>
                  <a:lnTo>
                    <a:pt x="321" y="877"/>
                  </a:lnTo>
                  <a:lnTo>
                    <a:pt x="297" y="884"/>
                  </a:lnTo>
                  <a:lnTo>
                    <a:pt x="272" y="889"/>
                  </a:lnTo>
                  <a:lnTo>
                    <a:pt x="250" y="894"/>
                  </a:lnTo>
                  <a:lnTo>
                    <a:pt x="228" y="896"/>
                  </a:lnTo>
                  <a:lnTo>
                    <a:pt x="206" y="897"/>
                  </a:lnTo>
                  <a:lnTo>
                    <a:pt x="194" y="896"/>
                  </a:lnTo>
                  <a:lnTo>
                    <a:pt x="182" y="895"/>
                  </a:lnTo>
                  <a:lnTo>
                    <a:pt x="176" y="895"/>
                  </a:lnTo>
                  <a:lnTo>
                    <a:pt x="170" y="893"/>
                  </a:lnTo>
                  <a:lnTo>
                    <a:pt x="164" y="891"/>
                  </a:lnTo>
                  <a:lnTo>
                    <a:pt x="159" y="889"/>
                  </a:lnTo>
                  <a:lnTo>
                    <a:pt x="154" y="888"/>
                  </a:lnTo>
                  <a:lnTo>
                    <a:pt x="149" y="885"/>
                  </a:lnTo>
                  <a:lnTo>
                    <a:pt x="145" y="884"/>
                  </a:lnTo>
                  <a:lnTo>
                    <a:pt x="139" y="881"/>
                  </a:lnTo>
                  <a:lnTo>
                    <a:pt x="135" y="878"/>
                  </a:lnTo>
                  <a:lnTo>
                    <a:pt x="131" y="875"/>
                  </a:lnTo>
                  <a:lnTo>
                    <a:pt x="127" y="872"/>
                  </a:lnTo>
                  <a:lnTo>
                    <a:pt x="123" y="868"/>
                  </a:lnTo>
                  <a:lnTo>
                    <a:pt x="120" y="865"/>
                  </a:lnTo>
                  <a:lnTo>
                    <a:pt x="116" y="861"/>
                  </a:lnTo>
                  <a:lnTo>
                    <a:pt x="113" y="856"/>
                  </a:lnTo>
                  <a:lnTo>
                    <a:pt x="110" y="852"/>
                  </a:lnTo>
                  <a:lnTo>
                    <a:pt x="104" y="843"/>
                  </a:lnTo>
                  <a:lnTo>
                    <a:pt x="100" y="833"/>
                  </a:lnTo>
                  <a:lnTo>
                    <a:pt x="97" y="821"/>
                  </a:lnTo>
                  <a:lnTo>
                    <a:pt x="95" y="810"/>
                  </a:lnTo>
                  <a:lnTo>
                    <a:pt x="93" y="796"/>
                  </a:lnTo>
                  <a:lnTo>
                    <a:pt x="93" y="782"/>
                  </a:lnTo>
                  <a:lnTo>
                    <a:pt x="94" y="762"/>
                  </a:lnTo>
                  <a:lnTo>
                    <a:pt x="96" y="741"/>
                  </a:lnTo>
                  <a:lnTo>
                    <a:pt x="99" y="719"/>
                  </a:lnTo>
                  <a:lnTo>
                    <a:pt x="104" y="696"/>
                  </a:lnTo>
                  <a:lnTo>
                    <a:pt x="115" y="657"/>
                  </a:lnTo>
                  <a:lnTo>
                    <a:pt x="132" y="601"/>
                  </a:lnTo>
                  <a:lnTo>
                    <a:pt x="183" y="446"/>
                  </a:lnTo>
                  <a:lnTo>
                    <a:pt x="218" y="341"/>
                  </a:lnTo>
                  <a:lnTo>
                    <a:pt x="242" y="259"/>
                  </a:lnTo>
                  <a:lnTo>
                    <a:pt x="257" y="201"/>
                  </a:lnTo>
                  <a:lnTo>
                    <a:pt x="261" y="182"/>
                  </a:lnTo>
                  <a:lnTo>
                    <a:pt x="262" y="173"/>
                  </a:lnTo>
                  <a:lnTo>
                    <a:pt x="262" y="167"/>
                  </a:lnTo>
                  <a:lnTo>
                    <a:pt x="262" y="164"/>
                  </a:lnTo>
                  <a:lnTo>
                    <a:pt x="262" y="163"/>
                  </a:lnTo>
                  <a:lnTo>
                    <a:pt x="262" y="162"/>
                  </a:lnTo>
                  <a:lnTo>
                    <a:pt x="262" y="161"/>
                  </a:lnTo>
                  <a:lnTo>
                    <a:pt x="262" y="161"/>
                  </a:lnTo>
                  <a:lnTo>
                    <a:pt x="262" y="161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1" y="160"/>
                  </a:lnTo>
                  <a:lnTo>
                    <a:pt x="259" y="160"/>
                  </a:lnTo>
                  <a:lnTo>
                    <a:pt x="257" y="161"/>
                  </a:lnTo>
                  <a:lnTo>
                    <a:pt x="255" y="161"/>
                  </a:lnTo>
                  <a:lnTo>
                    <a:pt x="250" y="163"/>
                  </a:lnTo>
                  <a:lnTo>
                    <a:pt x="245" y="165"/>
                  </a:lnTo>
                  <a:lnTo>
                    <a:pt x="237" y="166"/>
                  </a:lnTo>
                  <a:lnTo>
                    <a:pt x="231" y="170"/>
                  </a:lnTo>
                  <a:lnTo>
                    <a:pt x="224" y="172"/>
                  </a:lnTo>
                  <a:lnTo>
                    <a:pt x="216" y="176"/>
                  </a:lnTo>
                  <a:lnTo>
                    <a:pt x="206" y="182"/>
                  </a:lnTo>
                  <a:lnTo>
                    <a:pt x="194" y="188"/>
                  </a:lnTo>
                  <a:lnTo>
                    <a:pt x="164" y="206"/>
                  </a:lnTo>
                  <a:lnTo>
                    <a:pt x="79" y="265"/>
                  </a:lnTo>
                  <a:lnTo>
                    <a:pt x="0" y="212"/>
                  </a:lnTo>
                  <a:lnTo>
                    <a:pt x="81" y="150"/>
                  </a:lnTo>
                  <a:lnTo>
                    <a:pt x="151" y="101"/>
                  </a:lnTo>
                  <a:lnTo>
                    <a:pt x="182" y="80"/>
                  </a:lnTo>
                  <a:lnTo>
                    <a:pt x="210" y="63"/>
                  </a:lnTo>
                  <a:lnTo>
                    <a:pt x="235" y="49"/>
                  </a:lnTo>
                  <a:lnTo>
                    <a:pt x="259" y="38"/>
                  </a:lnTo>
                  <a:lnTo>
                    <a:pt x="281" y="29"/>
                  </a:lnTo>
                  <a:lnTo>
                    <a:pt x="301" y="21"/>
                  </a:lnTo>
                  <a:lnTo>
                    <a:pt x="321" y="15"/>
                  </a:lnTo>
                  <a:lnTo>
                    <a:pt x="339" y="9"/>
                  </a:lnTo>
                  <a:lnTo>
                    <a:pt x="357" y="5"/>
                  </a:lnTo>
                  <a:lnTo>
                    <a:pt x="373" y="2"/>
                  </a:lnTo>
                  <a:lnTo>
                    <a:pt x="390" y="1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4" y="1"/>
                  </a:lnTo>
                  <a:lnTo>
                    <a:pt x="428" y="2"/>
                  </a:lnTo>
                  <a:lnTo>
                    <a:pt x="432" y="3"/>
                  </a:lnTo>
                  <a:lnTo>
                    <a:pt x="436" y="4"/>
                  </a:lnTo>
                  <a:lnTo>
                    <a:pt x="440" y="6"/>
                  </a:lnTo>
                  <a:lnTo>
                    <a:pt x="444" y="7"/>
                  </a:lnTo>
                  <a:lnTo>
                    <a:pt x="448" y="9"/>
                  </a:lnTo>
                  <a:lnTo>
                    <a:pt x="453" y="11"/>
                  </a:lnTo>
                  <a:lnTo>
                    <a:pt x="456" y="13"/>
                  </a:lnTo>
                  <a:lnTo>
                    <a:pt x="459" y="15"/>
                  </a:lnTo>
                  <a:lnTo>
                    <a:pt x="463" y="18"/>
                  </a:lnTo>
                  <a:lnTo>
                    <a:pt x="466" y="21"/>
                  </a:lnTo>
                  <a:lnTo>
                    <a:pt x="469" y="24"/>
                  </a:lnTo>
                  <a:lnTo>
                    <a:pt x="472" y="27"/>
                  </a:lnTo>
                  <a:lnTo>
                    <a:pt x="475" y="29"/>
                  </a:lnTo>
                  <a:lnTo>
                    <a:pt x="477" y="33"/>
                  </a:lnTo>
                  <a:lnTo>
                    <a:pt x="480" y="37"/>
                  </a:lnTo>
                  <a:lnTo>
                    <a:pt x="484" y="44"/>
                  </a:lnTo>
                  <a:lnTo>
                    <a:pt x="488" y="52"/>
                  </a:lnTo>
                  <a:lnTo>
                    <a:pt x="491" y="61"/>
                  </a:lnTo>
                  <a:lnTo>
                    <a:pt x="493" y="70"/>
                  </a:lnTo>
                  <a:lnTo>
                    <a:pt x="494" y="80"/>
                  </a:lnTo>
                  <a:lnTo>
                    <a:pt x="494" y="91"/>
                  </a:lnTo>
                  <a:lnTo>
                    <a:pt x="493" y="111"/>
                  </a:lnTo>
                  <a:lnTo>
                    <a:pt x="489" y="137"/>
                  </a:lnTo>
                  <a:lnTo>
                    <a:pt x="472" y="210"/>
                  </a:lnTo>
                  <a:lnTo>
                    <a:pt x="445" y="307"/>
                  </a:lnTo>
                  <a:lnTo>
                    <a:pt x="407" y="429"/>
                  </a:lnTo>
                  <a:lnTo>
                    <a:pt x="352" y="614"/>
                  </a:lnTo>
                  <a:lnTo>
                    <a:pt x="338" y="668"/>
                  </a:lnTo>
                  <a:lnTo>
                    <a:pt x="334" y="686"/>
                  </a:lnTo>
                  <a:lnTo>
                    <a:pt x="333" y="691"/>
                  </a:lnTo>
                  <a:lnTo>
                    <a:pt x="333" y="697"/>
                  </a:lnTo>
                  <a:lnTo>
                    <a:pt x="333" y="700"/>
                  </a:lnTo>
                  <a:lnTo>
                    <a:pt x="333" y="703"/>
                  </a:lnTo>
                  <a:lnTo>
                    <a:pt x="334" y="706"/>
                  </a:lnTo>
                  <a:lnTo>
                    <a:pt x="335" y="708"/>
                  </a:lnTo>
                  <a:lnTo>
                    <a:pt x="335" y="710"/>
                  </a:lnTo>
                  <a:lnTo>
                    <a:pt x="336" y="711"/>
                  </a:lnTo>
                  <a:lnTo>
                    <a:pt x="336" y="713"/>
                  </a:lnTo>
                  <a:lnTo>
                    <a:pt x="337" y="714"/>
                  </a:lnTo>
                  <a:lnTo>
                    <a:pt x="338" y="714"/>
                  </a:lnTo>
                  <a:lnTo>
                    <a:pt x="339" y="716"/>
                  </a:lnTo>
                  <a:lnTo>
                    <a:pt x="340" y="717"/>
                  </a:lnTo>
                  <a:lnTo>
                    <a:pt x="341" y="718"/>
                  </a:lnTo>
                  <a:lnTo>
                    <a:pt x="343" y="720"/>
                  </a:lnTo>
                  <a:lnTo>
                    <a:pt x="345" y="722"/>
                  </a:lnTo>
                  <a:lnTo>
                    <a:pt x="348" y="723"/>
                  </a:lnTo>
                  <a:lnTo>
                    <a:pt x="349" y="724"/>
                  </a:lnTo>
                  <a:lnTo>
                    <a:pt x="350" y="725"/>
                  </a:lnTo>
                  <a:lnTo>
                    <a:pt x="351" y="725"/>
                  </a:lnTo>
                  <a:lnTo>
                    <a:pt x="352" y="725"/>
                  </a:lnTo>
                  <a:lnTo>
                    <a:pt x="353" y="725"/>
                  </a:lnTo>
                  <a:lnTo>
                    <a:pt x="354" y="725"/>
                  </a:lnTo>
                  <a:lnTo>
                    <a:pt x="355" y="726"/>
                  </a:lnTo>
                  <a:lnTo>
                    <a:pt x="356" y="726"/>
                  </a:lnTo>
                  <a:lnTo>
                    <a:pt x="357" y="726"/>
                  </a:lnTo>
                  <a:lnTo>
                    <a:pt x="358" y="726"/>
                  </a:lnTo>
                  <a:lnTo>
                    <a:pt x="365" y="726"/>
                  </a:lnTo>
                  <a:lnTo>
                    <a:pt x="373" y="725"/>
                  </a:lnTo>
                  <a:lnTo>
                    <a:pt x="381" y="723"/>
                  </a:lnTo>
                  <a:lnTo>
                    <a:pt x="390" y="721"/>
                  </a:lnTo>
                  <a:lnTo>
                    <a:pt x="399" y="718"/>
                  </a:lnTo>
                  <a:lnTo>
                    <a:pt x="409" y="714"/>
                  </a:lnTo>
                  <a:lnTo>
                    <a:pt x="430" y="705"/>
                  </a:lnTo>
                  <a:lnTo>
                    <a:pt x="453" y="692"/>
                  </a:lnTo>
                  <a:lnTo>
                    <a:pt x="477" y="678"/>
                  </a:lnTo>
                  <a:lnTo>
                    <a:pt x="503" y="660"/>
                  </a:lnTo>
                  <a:lnTo>
                    <a:pt x="532" y="640"/>
                  </a:lnTo>
                  <a:lnTo>
                    <a:pt x="560" y="618"/>
                  </a:lnTo>
                  <a:lnTo>
                    <a:pt x="584" y="595"/>
                  </a:lnTo>
                  <a:lnTo>
                    <a:pt x="607" y="572"/>
                  </a:lnTo>
                  <a:lnTo>
                    <a:pt x="628" y="548"/>
                  </a:lnTo>
                  <a:lnTo>
                    <a:pt x="645" y="523"/>
                  </a:lnTo>
                  <a:lnTo>
                    <a:pt x="661" y="497"/>
                  </a:lnTo>
                  <a:lnTo>
                    <a:pt x="673" y="471"/>
                  </a:lnTo>
                  <a:lnTo>
                    <a:pt x="683" y="443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24720" y="574560"/>
              <a:ext cx="285840" cy="322200"/>
            </a:xfrm>
            <a:custGeom>
              <a:avLst/>
              <a:gdLst/>
              <a:ahLst/>
              <a:rect l="l" t="t" r="r" b="b"/>
              <a:pathLst>
                <a:path w="795" h="895">
                  <a:moveTo>
                    <a:pt x="665" y="583"/>
                  </a:moveTo>
                  <a:lnTo>
                    <a:pt x="723" y="649"/>
                  </a:lnTo>
                  <a:lnTo>
                    <a:pt x="648" y="707"/>
                  </a:lnTo>
                  <a:lnTo>
                    <a:pt x="576" y="757"/>
                  </a:lnTo>
                  <a:lnTo>
                    <a:pt x="506" y="798"/>
                  </a:lnTo>
                  <a:lnTo>
                    <a:pt x="439" y="833"/>
                  </a:lnTo>
                  <a:lnTo>
                    <a:pt x="375" y="859"/>
                  </a:lnTo>
                  <a:lnTo>
                    <a:pt x="343" y="871"/>
                  </a:lnTo>
                  <a:lnTo>
                    <a:pt x="314" y="879"/>
                  </a:lnTo>
                  <a:lnTo>
                    <a:pt x="284" y="886"/>
                  </a:lnTo>
                  <a:lnTo>
                    <a:pt x="255" y="890"/>
                  </a:lnTo>
                  <a:lnTo>
                    <a:pt x="226" y="893"/>
                  </a:lnTo>
                  <a:lnTo>
                    <a:pt x="198" y="894"/>
                  </a:lnTo>
                  <a:lnTo>
                    <a:pt x="175" y="893"/>
                  </a:lnTo>
                  <a:lnTo>
                    <a:pt x="153" y="891"/>
                  </a:lnTo>
                  <a:lnTo>
                    <a:pt x="142" y="889"/>
                  </a:lnTo>
                  <a:lnTo>
                    <a:pt x="131" y="887"/>
                  </a:lnTo>
                  <a:lnTo>
                    <a:pt x="122" y="884"/>
                  </a:lnTo>
                  <a:lnTo>
                    <a:pt x="113" y="881"/>
                  </a:lnTo>
                  <a:lnTo>
                    <a:pt x="104" y="877"/>
                  </a:lnTo>
                  <a:lnTo>
                    <a:pt x="94" y="873"/>
                  </a:lnTo>
                  <a:lnTo>
                    <a:pt x="86" y="869"/>
                  </a:lnTo>
                  <a:lnTo>
                    <a:pt x="79" y="865"/>
                  </a:lnTo>
                  <a:lnTo>
                    <a:pt x="71" y="859"/>
                  </a:lnTo>
                  <a:lnTo>
                    <a:pt x="63" y="854"/>
                  </a:lnTo>
                  <a:lnTo>
                    <a:pt x="56" y="848"/>
                  </a:lnTo>
                  <a:lnTo>
                    <a:pt x="50" y="841"/>
                  </a:lnTo>
                  <a:lnTo>
                    <a:pt x="44" y="834"/>
                  </a:lnTo>
                  <a:lnTo>
                    <a:pt x="39" y="826"/>
                  </a:lnTo>
                  <a:lnTo>
                    <a:pt x="33" y="819"/>
                  </a:lnTo>
                  <a:lnTo>
                    <a:pt x="28" y="810"/>
                  </a:lnTo>
                  <a:lnTo>
                    <a:pt x="19" y="792"/>
                  </a:lnTo>
                  <a:lnTo>
                    <a:pt x="13" y="773"/>
                  </a:lnTo>
                  <a:lnTo>
                    <a:pt x="7" y="752"/>
                  </a:lnTo>
                  <a:lnTo>
                    <a:pt x="3" y="729"/>
                  </a:lnTo>
                  <a:lnTo>
                    <a:pt x="1" y="703"/>
                  </a:lnTo>
                  <a:lnTo>
                    <a:pt x="0" y="676"/>
                  </a:lnTo>
                  <a:lnTo>
                    <a:pt x="2" y="622"/>
                  </a:lnTo>
                  <a:lnTo>
                    <a:pt x="10" y="568"/>
                  </a:lnTo>
                  <a:lnTo>
                    <a:pt x="22" y="514"/>
                  </a:lnTo>
                  <a:lnTo>
                    <a:pt x="39" y="461"/>
                  </a:lnTo>
                  <a:lnTo>
                    <a:pt x="61" y="407"/>
                  </a:lnTo>
                  <a:lnTo>
                    <a:pt x="88" y="354"/>
                  </a:lnTo>
                  <a:lnTo>
                    <a:pt x="121" y="300"/>
                  </a:lnTo>
                  <a:lnTo>
                    <a:pt x="158" y="247"/>
                  </a:lnTo>
                  <a:lnTo>
                    <a:pt x="204" y="189"/>
                  </a:lnTo>
                  <a:lnTo>
                    <a:pt x="253" y="139"/>
                  </a:lnTo>
                  <a:lnTo>
                    <a:pt x="279" y="117"/>
                  </a:lnTo>
                  <a:lnTo>
                    <a:pt x="304" y="96"/>
                  </a:lnTo>
                  <a:lnTo>
                    <a:pt x="330" y="79"/>
                  </a:lnTo>
                  <a:lnTo>
                    <a:pt x="358" y="62"/>
                  </a:lnTo>
                  <a:lnTo>
                    <a:pt x="385" y="48"/>
                  </a:lnTo>
                  <a:lnTo>
                    <a:pt x="413" y="35"/>
                  </a:lnTo>
                  <a:lnTo>
                    <a:pt x="442" y="24"/>
                  </a:lnTo>
                  <a:lnTo>
                    <a:pt x="471" y="16"/>
                  </a:lnTo>
                  <a:lnTo>
                    <a:pt x="501" y="9"/>
                  </a:lnTo>
                  <a:lnTo>
                    <a:pt x="532" y="5"/>
                  </a:lnTo>
                  <a:lnTo>
                    <a:pt x="563" y="1"/>
                  </a:lnTo>
                  <a:lnTo>
                    <a:pt x="595" y="0"/>
                  </a:lnTo>
                  <a:lnTo>
                    <a:pt x="617" y="1"/>
                  </a:lnTo>
                  <a:lnTo>
                    <a:pt x="639" y="3"/>
                  </a:lnTo>
                  <a:lnTo>
                    <a:pt x="660" y="6"/>
                  </a:lnTo>
                  <a:lnTo>
                    <a:pt x="679" y="11"/>
                  </a:lnTo>
                  <a:lnTo>
                    <a:pt x="697" y="16"/>
                  </a:lnTo>
                  <a:lnTo>
                    <a:pt x="705" y="20"/>
                  </a:lnTo>
                  <a:lnTo>
                    <a:pt x="713" y="23"/>
                  </a:lnTo>
                  <a:lnTo>
                    <a:pt x="720" y="28"/>
                  </a:lnTo>
                  <a:lnTo>
                    <a:pt x="729" y="32"/>
                  </a:lnTo>
                  <a:lnTo>
                    <a:pt x="735" y="36"/>
                  </a:lnTo>
                  <a:lnTo>
                    <a:pt x="742" y="41"/>
                  </a:lnTo>
                  <a:lnTo>
                    <a:pt x="748" y="46"/>
                  </a:lnTo>
                  <a:lnTo>
                    <a:pt x="754" y="52"/>
                  </a:lnTo>
                  <a:lnTo>
                    <a:pt x="759" y="58"/>
                  </a:lnTo>
                  <a:lnTo>
                    <a:pt x="765" y="64"/>
                  </a:lnTo>
                  <a:lnTo>
                    <a:pt x="770" y="70"/>
                  </a:lnTo>
                  <a:lnTo>
                    <a:pt x="774" y="76"/>
                  </a:lnTo>
                  <a:lnTo>
                    <a:pt x="778" y="83"/>
                  </a:lnTo>
                  <a:lnTo>
                    <a:pt x="781" y="90"/>
                  </a:lnTo>
                  <a:lnTo>
                    <a:pt x="784" y="96"/>
                  </a:lnTo>
                  <a:lnTo>
                    <a:pt x="787" y="104"/>
                  </a:lnTo>
                  <a:lnTo>
                    <a:pt x="791" y="119"/>
                  </a:lnTo>
                  <a:lnTo>
                    <a:pt x="793" y="135"/>
                  </a:lnTo>
                  <a:lnTo>
                    <a:pt x="794" y="152"/>
                  </a:lnTo>
                  <a:lnTo>
                    <a:pt x="793" y="169"/>
                  </a:lnTo>
                  <a:lnTo>
                    <a:pt x="790" y="186"/>
                  </a:lnTo>
                  <a:lnTo>
                    <a:pt x="786" y="203"/>
                  </a:lnTo>
                  <a:lnTo>
                    <a:pt x="780" y="220"/>
                  </a:lnTo>
                  <a:lnTo>
                    <a:pt x="772" y="237"/>
                  </a:lnTo>
                  <a:lnTo>
                    <a:pt x="762" y="254"/>
                  </a:lnTo>
                  <a:lnTo>
                    <a:pt x="750" y="271"/>
                  </a:lnTo>
                  <a:lnTo>
                    <a:pt x="737" y="288"/>
                  </a:lnTo>
                  <a:lnTo>
                    <a:pt x="721" y="304"/>
                  </a:lnTo>
                  <a:lnTo>
                    <a:pt x="704" y="321"/>
                  </a:lnTo>
                  <a:lnTo>
                    <a:pt x="683" y="337"/>
                  </a:lnTo>
                  <a:lnTo>
                    <a:pt x="662" y="353"/>
                  </a:lnTo>
                  <a:lnTo>
                    <a:pt x="637" y="369"/>
                  </a:lnTo>
                  <a:lnTo>
                    <a:pt x="609" y="385"/>
                  </a:lnTo>
                  <a:lnTo>
                    <a:pt x="580" y="401"/>
                  </a:lnTo>
                  <a:lnTo>
                    <a:pt x="548" y="417"/>
                  </a:lnTo>
                  <a:lnTo>
                    <a:pt x="498" y="440"/>
                  </a:lnTo>
                  <a:lnTo>
                    <a:pt x="432" y="467"/>
                  </a:lnTo>
                  <a:lnTo>
                    <a:pt x="251" y="537"/>
                  </a:lnTo>
                  <a:lnTo>
                    <a:pt x="248" y="557"/>
                  </a:lnTo>
                  <a:lnTo>
                    <a:pt x="245" y="579"/>
                  </a:lnTo>
                  <a:lnTo>
                    <a:pt x="244" y="601"/>
                  </a:lnTo>
                  <a:lnTo>
                    <a:pt x="243" y="624"/>
                  </a:lnTo>
                  <a:lnTo>
                    <a:pt x="243" y="639"/>
                  </a:lnTo>
                  <a:lnTo>
                    <a:pt x="244" y="653"/>
                  </a:lnTo>
                  <a:lnTo>
                    <a:pt x="246" y="665"/>
                  </a:lnTo>
                  <a:lnTo>
                    <a:pt x="248" y="676"/>
                  </a:lnTo>
                  <a:lnTo>
                    <a:pt x="251" y="686"/>
                  </a:lnTo>
                  <a:lnTo>
                    <a:pt x="253" y="690"/>
                  </a:lnTo>
                  <a:lnTo>
                    <a:pt x="254" y="695"/>
                  </a:lnTo>
                  <a:lnTo>
                    <a:pt x="256" y="698"/>
                  </a:lnTo>
                  <a:lnTo>
                    <a:pt x="258" y="701"/>
                  </a:lnTo>
                  <a:lnTo>
                    <a:pt x="261" y="705"/>
                  </a:lnTo>
                  <a:lnTo>
                    <a:pt x="263" y="707"/>
                  </a:lnTo>
                  <a:lnTo>
                    <a:pt x="266" y="710"/>
                  </a:lnTo>
                  <a:lnTo>
                    <a:pt x="268" y="712"/>
                  </a:lnTo>
                  <a:lnTo>
                    <a:pt x="271" y="715"/>
                  </a:lnTo>
                  <a:lnTo>
                    <a:pt x="274" y="717"/>
                  </a:lnTo>
                  <a:lnTo>
                    <a:pt x="278" y="718"/>
                  </a:lnTo>
                  <a:lnTo>
                    <a:pt x="281" y="720"/>
                  </a:lnTo>
                  <a:lnTo>
                    <a:pt x="285" y="722"/>
                  </a:lnTo>
                  <a:lnTo>
                    <a:pt x="288" y="724"/>
                  </a:lnTo>
                  <a:lnTo>
                    <a:pt x="292" y="724"/>
                  </a:lnTo>
                  <a:lnTo>
                    <a:pt x="295" y="726"/>
                  </a:lnTo>
                  <a:lnTo>
                    <a:pt x="299" y="727"/>
                  </a:lnTo>
                  <a:lnTo>
                    <a:pt x="303" y="727"/>
                  </a:lnTo>
                  <a:lnTo>
                    <a:pt x="313" y="729"/>
                  </a:lnTo>
                  <a:lnTo>
                    <a:pt x="322" y="729"/>
                  </a:lnTo>
                  <a:lnTo>
                    <a:pt x="333" y="729"/>
                  </a:lnTo>
                  <a:lnTo>
                    <a:pt x="344" y="727"/>
                  </a:lnTo>
                  <a:lnTo>
                    <a:pt x="356" y="726"/>
                  </a:lnTo>
                  <a:lnTo>
                    <a:pt x="367" y="724"/>
                  </a:lnTo>
                  <a:lnTo>
                    <a:pt x="379" y="720"/>
                  </a:lnTo>
                  <a:lnTo>
                    <a:pt x="392" y="717"/>
                  </a:lnTo>
                  <a:lnTo>
                    <a:pt x="405" y="712"/>
                  </a:lnTo>
                  <a:lnTo>
                    <a:pt x="419" y="707"/>
                  </a:lnTo>
                  <a:lnTo>
                    <a:pt x="439" y="699"/>
                  </a:lnTo>
                  <a:lnTo>
                    <a:pt x="463" y="689"/>
                  </a:lnTo>
                  <a:lnTo>
                    <a:pt x="519" y="661"/>
                  </a:lnTo>
                  <a:lnTo>
                    <a:pt x="586" y="627"/>
                  </a:lnTo>
                  <a:close/>
                  <a:moveTo>
                    <a:pt x="267" y="440"/>
                  </a:moveTo>
                  <a:lnTo>
                    <a:pt x="339" y="406"/>
                  </a:lnTo>
                  <a:lnTo>
                    <a:pt x="403" y="373"/>
                  </a:lnTo>
                  <a:lnTo>
                    <a:pt x="432" y="356"/>
                  </a:lnTo>
                  <a:lnTo>
                    <a:pt x="459" y="339"/>
                  </a:lnTo>
                  <a:lnTo>
                    <a:pt x="483" y="322"/>
                  </a:lnTo>
                  <a:lnTo>
                    <a:pt x="506" y="305"/>
                  </a:lnTo>
                  <a:lnTo>
                    <a:pt x="522" y="289"/>
                  </a:lnTo>
                  <a:lnTo>
                    <a:pt x="535" y="274"/>
                  </a:lnTo>
                  <a:lnTo>
                    <a:pt x="546" y="260"/>
                  </a:lnTo>
                  <a:lnTo>
                    <a:pt x="556" y="246"/>
                  </a:lnTo>
                  <a:lnTo>
                    <a:pt x="563" y="232"/>
                  </a:lnTo>
                  <a:lnTo>
                    <a:pt x="566" y="226"/>
                  </a:lnTo>
                  <a:lnTo>
                    <a:pt x="568" y="219"/>
                  </a:lnTo>
                  <a:lnTo>
                    <a:pt x="570" y="213"/>
                  </a:lnTo>
                  <a:lnTo>
                    <a:pt x="571" y="206"/>
                  </a:lnTo>
                  <a:lnTo>
                    <a:pt x="572" y="200"/>
                  </a:lnTo>
                  <a:lnTo>
                    <a:pt x="572" y="194"/>
                  </a:lnTo>
                  <a:lnTo>
                    <a:pt x="572" y="186"/>
                  </a:lnTo>
                  <a:lnTo>
                    <a:pt x="571" y="178"/>
                  </a:lnTo>
                  <a:lnTo>
                    <a:pt x="569" y="170"/>
                  </a:lnTo>
                  <a:lnTo>
                    <a:pt x="567" y="163"/>
                  </a:lnTo>
                  <a:lnTo>
                    <a:pt x="564" y="157"/>
                  </a:lnTo>
                  <a:lnTo>
                    <a:pt x="561" y="151"/>
                  </a:lnTo>
                  <a:lnTo>
                    <a:pt x="559" y="148"/>
                  </a:lnTo>
                  <a:lnTo>
                    <a:pt x="557" y="146"/>
                  </a:lnTo>
                  <a:lnTo>
                    <a:pt x="554" y="143"/>
                  </a:lnTo>
                  <a:lnTo>
                    <a:pt x="551" y="141"/>
                  </a:lnTo>
                  <a:lnTo>
                    <a:pt x="549" y="138"/>
                  </a:lnTo>
                  <a:lnTo>
                    <a:pt x="546" y="136"/>
                  </a:lnTo>
                  <a:lnTo>
                    <a:pt x="543" y="134"/>
                  </a:lnTo>
                  <a:lnTo>
                    <a:pt x="541" y="132"/>
                  </a:lnTo>
                  <a:lnTo>
                    <a:pt x="538" y="130"/>
                  </a:lnTo>
                  <a:lnTo>
                    <a:pt x="535" y="129"/>
                  </a:lnTo>
                  <a:lnTo>
                    <a:pt x="532" y="128"/>
                  </a:lnTo>
                  <a:lnTo>
                    <a:pt x="529" y="126"/>
                  </a:lnTo>
                  <a:lnTo>
                    <a:pt x="525" y="125"/>
                  </a:lnTo>
                  <a:lnTo>
                    <a:pt x="522" y="124"/>
                  </a:lnTo>
                  <a:lnTo>
                    <a:pt x="519" y="124"/>
                  </a:lnTo>
                  <a:lnTo>
                    <a:pt x="514" y="123"/>
                  </a:lnTo>
                  <a:lnTo>
                    <a:pt x="507" y="122"/>
                  </a:lnTo>
                  <a:lnTo>
                    <a:pt x="500" y="122"/>
                  </a:lnTo>
                  <a:lnTo>
                    <a:pt x="496" y="122"/>
                  </a:lnTo>
                  <a:lnTo>
                    <a:pt x="491" y="123"/>
                  </a:lnTo>
                  <a:lnTo>
                    <a:pt x="480" y="124"/>
                  </a:lnTo>
                  <a:lnTo>
                    <a:pt x="469" y="126"/>
                  </a:lnTo>
                  <a:lnTo>
                    <a:pt x="458" y="129"/>
                  </a:lnTo>
                  <a:lnTo>
                    <a:pt x="444" y="133"/>
                  </a:lnTo>
                  <a:lnTo>
                    <a:pt x="431" y="137"/>
                  </a:lnTo>
                  <a:lnTo>
                    <a:pt x="400" y="149"/>
                  </a:lnTo>
                  <a:lnTo>
                    <a:pt x="346" y="226"/>
                  </a:lnTo>
                  <a:lnTo>
                    <a:pt x="320" y="287"/>
                  </a:lnTo>
                  <a:lnTo>
                    <a:pt x="298" y="343"/>
                  </a:lnTo>
                  <a:lnTo>
                    <a:pt x="281" y="39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34320" y="574560"/>
              <a:ext cx="296640" cy="322200"/>
            </a:xfrm>
            <a:custGeom>
              <a:avLst/>
              <a:gdLst/>
              <a:ahLst/>
              <a:rect l="l" t="t" r="r" b="b"/>
              <a:pathLst>
                <a:path w="825" h="895">
                  <a:moveTo>
                    <a:pt x="687" y="613"/>
                  </a:moveTo>
                  <a:lnTo>
                    <a:pt x="727" y="697"/>
                  </a:lnTo>
                  <a:lnTo>
                    <a:pt x="653" y="743"/>
                  </a:lnTo>
                  <a:lnTo>
                    <a:pt x="583" y="783"/>
                  </a:lnTo>
                  <a:lnTo>
                    <a:pt x="515" y="817"/>
                  </a:lnTo>
                  <a:lnTo>
                    <a:pt x="450" y="845"/>
                  </a:lnTo>
                  <a:lnTo>
                    <a:pt x="390" y="866"/>
                  </a:lnTo>
                  <a:lnTo>
                    <a:pt x="360" y="874"/>
                  </a:lnTo>
                  <a:lnTo>
                    <a:pt x="331" y="882"/>
                  </a:lnTo>
                  <a:lnTo>
                    <a:pt x="303" y="887"/>
                  </a:lnTo>
                  <a:lnTo>
                    <a:pt x="275" y="890"/>
                  </a:lnTo>
                  <a:lnTo>
                    <a:pt x="249" y="893"/>
                  </a:lnTo>
                  <a:lnTo>
                    <a:pt x="223" y="894"/>
                  </a:lnTo>
                  <a:lnTo>
                    <a:pt x="194" y="893"/>
                  </a:lnTo>
                  <a:lnTo>
                    <a:pt x="181" y="891"/>
                  </a:lnTo>
                  <a:lnTo>
                    <a:pt x="168" y="890"/>
                  </a:lnTo>
                  <a:lnTo>
                    <a:pt x="156" y="887"/>
                  </a:lnTo>
                  <a:lnTo>
                    <a:pt x="144" y="885"/>
                  </a:lnTo>
                  <a:lnTo>
                    <a:pt x="132" y="881"/>
                  </a:lnTo>
                  <a:lnTo>
                    <a:pt x="122" y="877"/>
                  </a:lnTo>
                  <a:lnTo>
                    <a:pt x="112" y="873"/>
                  </a:lnTo>
                  <a:lnTo>
                    <a:pt x="101" y="868"/>
                  </a:lnTo>
                  <a:lnTo>
                    <a:pt x="92" y="862"/>
                  </a:lnTo>
                  <a:lnTo>
                    <a:pt x="83" y="856"/>
                  </a:lnTo>
                  <a:lnTo>
                    <a:pt x="75" y="849"/>
                  </a:lnTo>
                  <a:lnTo>
                    <a:pt x="67" y="842"/>
                  </a:lnTo>
                  <a:lnTo>
                    <a:pt x="60" y="834"/>
                  </a:lnTo>
                  <a:lnTo>
                    <a:pt x="53" y="826"/>
                  </a:lnTo>
                  <a:lnTo>
                    <a:pt x="41" y="809"/>
                  </a:lnTo>
                  <a:lnTo>
                    <a:pt x="30" y="790"/>
                  </a:lnTo>
                  <a:lnTo>
                    <a:pt x="21" y="771"/>
                  </a:lnTo>
                  <a:lnTo>
                    <a:pt x="14" y="750"/>
                  </a:lnTo>
                  <a:lnTo>
                    <a:pt x="8" y="729"/>
                  </a:lnTo>
                  <a:lnTo>
                    <a:pt x="3" y="706"/>
                  </a:lnTo>
                  <a:lnTo>
                    <a:pt x="1" y="683"/>
                  </a:lnTo>
                  <a:lnTo>
                    <a:pt x="0" y="658"/>
                  </a:lnTo>
                  <a:lnTo>
                    <a:pt x="2" y="619"/>
                  </a:lnTo>
                  <a:lnTo>
                    <a:pt x="7" y="578"/>
                  </a:lnTo>
                  <a:lnTo>
                    <a:pt x="15" y="537"/>
                  </a:lnTo>
                  <a:lnTo>
                    <a:pt x="26" y="496"/>
                  </a:lnTo>
                  <a:lnTo>
                    <a:pt x="41" y="455"/>
                  </a:lnTo>
                  <a:lnTo>
                    <a:pt x="58" y="413"/>
                  </a:lnTo>
                  <a:lnTo>
                    <a:pt x="79" y="371"/>
                  </a:lnTo>
                  <a:lnTo>
                    <a:pt x="103" y="330"/>
                  </a:lnTo>
                  <a:lnTo>
                    <a:pt x="129" y="289"/>
                  </a:lnTo>
                  <a:lnTo>
                    <a:pt x="157" y="251"/>
                  </a:lnTo>
                  <a:lnTo>
                    <a:pt x="185" y="217"/>
                  </a:lnTo>
                  <a:lnTo>
                    <a:pt x="215" y="187"/>
                  </a:lnTo>
                  <a:lnTo>
                    <a:pt x="245" y="159"/>
                  </a:lnTo>
                  <a:lnTo>
                    <a:pt x="276" y="134"/>
                  </a:lnTo>
                  <a:lnTo>
                    <a:pt x="309" y="113"/>
                  </a:lnTo>
                  <a:lnTo>
                    <a:pt x="343" y="94"/>
                  </a:lnTo>
                  <a:lnTo>
                    <a:pt x="375" y="72"/>
                  </a:lnTo>
                  <a:lnTo>
                    <a:pt x="409" y="53"/>
                  </a:lnTo>
                  <a:lnTo>
                    <a:pt x="442" y="36"/>
                  </a:lnTo>
                  <a:lnTo>
                    <a:pt x="477" y="24"/>
                  </a:lnTo>
                  <a:lnTo>
                    <a:pt x="512" y="13"/>
                  </a:lnTo>
                  <a:lnTo>
                    <a:pt x="547" y="6"/>
                  </a:lnTo>
                  <a:lnTo>
                    <a:pt x="583" y="2"/>
                  </a:lnTo>
                  <a:lnTo>
                    <a:pt x="620" y="0"/>
                  </a:lnTo>
                  <a:lnTo>
                    <a:pt x="644" y="1"/>
                  </a:lnTo>
                  <a:lnTo>
                    <a:pt x="666" y="2"/>
                  </a:lnTo>
                  <a:lnTo>
                    <a:pt x="686" y="4"/>
                  </a:lnTo>
                  <a:lnTo>
                    <a:pt x="706" y="8"/>
                  </a:lnTo>
                  <a:lnTo>
                    <a:pt x="724" y="13"/>
                  </a:lnTo>
                  <a:lnTo>
                    <a:pt x="741" y="18"/>
                  </a:lnTo>
                  <a:lnTo>
                    <a:pt x="749" y="21"/>
                  </a:lnTo>
                  <a:lnTo>
                    <a:pt x="756" y="25"/>
                  </a:lnTo>
                  <a:lnTo>
                    <a:pt x="763" y="28"/>
                  </a:lnTo>
                  <a:lnTo>
                    <a:pt x="771" y="32"/>
                  </a:lnTo>
                  <a:lnTo>
                    <a:pt x="783" y="41"/>
                  </a:lnTo>
                  <a:lnTo>
                    <a:pt x="789" y="45"/>
                  </a:lnTo>
                  <a:lnTo>
                    <a:pt x="794" y="50"/>
                  </a:lnTo>
                  <a:lnTo>
                    <a:pt x="799" y="54"/>
                  </a:lnTo>
                  <a:lnTo>
                    <a:pt x="804" y="59"/>
                  </a:lnTo>
                  <a:lnTo>
                    <a:pt x="808" y="64"/>
                  </a:lnTo>
                  <a:lnTo>
                    <a:pt x="811" y="70"/>
                  </a:lnTo>
                  <a:lnTo>
                    <a:pt x="814" y="75"/>
                  </a:lnTo>
                  <a:lnTo>
                    <a:pt x="817" y="80"/>
                  </a:lnTo>
                  <a:lnTo>
                    <a:pt x="819" y="85"/>
                  </a:lnTo>
                  <a:lnTo>
                    <a:pt x="821" y="91"/>
                  </a:lnTo>
                  <a:lnTo>
                    <a:pt x="822" y="96"/>
                  </a:lnTo>
                  <a:lnTo>
                    <a:pt x="823" y="102"/>
                  </a:lnTo>
                  <a:lnTo>
                    <a:pt x="824" y="108"/>
                  </a:lnTo>
                  <a:lnTo>
                    <a:pt x="824" y="114"/>
                  </a:lnTo>
                  <a:lnTo>
                    <a:pt x="824" y="123"/>
                  </a:lnTo>
                  <a:lnTo>
                    <a:pt x="822" y="132"/>
                  </a:lnTo>
                  <a:lnTo>
                    <a:pt x="820" y="141"/>
                  </a:lnTo>
                  <a:lnTo>
                    <a:pt x="818" y="145"/>
                  </a:lnTo>
                  <a:lnTo>
                    <a:pt x="817" y="149"/>
                  </a:lnTo>
                  <a:lnTo>
                    <a:pt x="815" y="154"/>
                  </a:lnTo>
                  <a:lnTo>
                    <a:pt x="812" y="157"/>
                  </a:lnTo>
                  <a:lnTo>
                    <a:pt x="810" y="160"/>
                  </a:lnTo>
                  <a:lnTo>
                    <a:pt x="807" y="165"/>
                  </a:lnTo>
                  <a:lnTo>
                    <a:pt x="804" y="168"/>
                  </a:lnTo>
                  <a:lnTo>
                    <a:pt x="800" y="172"/>
                  </a:lnTo>
                  <a:lnTo>
                    <a:pt x="797" y="174"/>
                  </a:lnTo>
                  <a:lnTo>
                    <a:pt x="793" y="177"/>
                  </a:lnTo>
                  <a:lnTo>
                    <a:pt x="789" y="181"/>
                  </a:lnTo>
                  <a:lnTo>
                    <a:pt x="785" y="183"/>
                  </a:lnTo>
                  <a:lnTo>
                    <a:pt x="781" y="186"/>
                  </a:lnTo>
                  <a:lnTo>
                    <a:pt x="776" y="189"/>
                  </a:lnTo>
                  <a:lnTo>
                    <a:pt x="771" y="191"/>
                  </a:lnTo>
                  <a:lnTo>
                    <a:pt x="767" y="193"/>
                  </a:lnTo>
                  <a:lnTo>
                    <a:pt x="761" y="195"/>
                  </a:lnTo>
                  <a:lnTo>
                    <a:pt x="756" y="197"/>
                  </a:lnTo>
                  <a:lnTo>
                    <a:pt x="745" y="200"/>
                  </a:lnTo>
                  <a:lnTo>
                    <a:pt x="734" y="201"/>
                  </a:lnTo>
                  <a:lnTo>
                    <a:pt x="721" y="203"/>
                  </a:lnTo>
                  <a:lnTo>
                    <a:pt x="708" y="203"/>
                  </a:lnTo>
                  <a:lnTo>
                    <a:pt x="695" y="202"/>
                  </a:lnTo>
                  <a:lnTo>
                    <a:pt x="684" y="201"/>
                  </a:lnTo>
                  <a:lnTo>
                    <a:pt x="672" y="199"/>
                  </a:lnTo>
                  <a:lnTo>
                    <a:pt x="660" y="195"/>
                  </a:lnTo>
                  <a:lnTo>
                    <a:pt x="648" y="191"/>
                  </a:lnTo>
                  <a:lnTo>
                    <a:pt x="637" y="185"/>
                  </a:lnTo>
                  <a:lnTo>
                    <a:pt x="625" y="179"/>
                  </a:lnTo>
                  <a:lnTo>
                    <a:pt x="614" y="172"/>
                  </a:lnTo>
                  <a:lnTo>
                    <a:pt x="573" y="157"/>
                  </a:lnTo>
                  <a:lnTo>
                    <a:pt x="555" y="151"/>
                  </a:lnTo>
                  <a:lnTo>
                    <a:pt x="539" y="146"/>
                  </a:lnTo>
                  <a:lnTo>
                    <a:pt x="523" y="143"/>
                  </a:lnTo>
                  <a:lnTo>
                    <a:pt x="510" y="140"/>
                  </a:lnTo>
                  <a:lnTo>
                    <a:pt x="498" y="138"/>
                  </a:lnTo>
                  <a:lnTo>
                    <a:pt x="493" y="138"/>
                  </a:lnTo>
                  <a:lnTo>
                    <a:pt x="487" y="138"/>
                  </a:lnTo>
                  <a:lnTo>
                    <a:pt x="481" y="138"/>
                  </a:lnTo>
                  <a:lnTo>
                    <a:pt x="476" y="138"/>
                  </a:lnTo>
                  <a:lnTo>
                    <a:pt x="470" y="139"/>
                  </a:lnTo>
                  <a:lnTo>
                    <a:pt x="464" y="140"/>
                  </a:lnTo>
                  <a:lnTo>
                    <a:pt x="458" y="142"/>
                  </a:lnTo>
                  <a:lnTo>
                    <a:pt x="451" y="143"/>
                  </a:lnTo>
                  <a:lnTo>
                    <a:pt x="439" y="148"/>
                  </a:lnTo>
                  <a:lnTo>
                    <a:pt x="427" y="154"/>
                  </a:lnTo>
                  <a:lnTo>
                    <a:pt x="413" y="160"/>
                  </a:lnTo>
                  <a:lnTo>
                    <a:pt x="401" y="168"/>
                  </a:lnTo>
                  <a:lnTo>
                    <a:pt x="388" y="177"/>
                  </a:lnTo>
                  <a:lnTo>
                    <a:pt x="381" y="183"/>
                  </a:lnTo>
                  <a:lnTo>
                    <a:pt x="375" y="189"/>
                  </a:lnTo>
                  <a:lnTo>
                    <a:pt x="362" y="202"/>
                  </a:lnTo>
                  <a:lnTo>
                    <a:pt x="349" y="218"/>
                  </a:lnTo>
                  <a:lnTo>
                    <a:pt x="337" y="238"/>
                  </a:lnTo>
                  <a:lnTo>
                    <a:pt x="324" y="259"/>
                  </a:lnTo>
                  <a:lnTo>
                    <a:pt x="311" y="283"/>
                  </a:lnTo>
                  <a:lnTo>
                    <a:pt x="286" y="338"/>
                  </a:lnTo>
                  <a:lnTo>
                    <a:pt x="273" y="369"/>
                  </a:lnTo>
                  <a:lnTo>
                    <a:pt x="263" y="398"/>
                  </a:lnTo>
                  <a:lnTo>
                    <a:pt x="255" y="429"/>
                  </a:lnTo>
                  <a:lnTo>
                    <a:pt x="248" y="460"/>
                  </a:lnTo>
                  <a:lnTo>
                    <a:pt x="242" y="490"/>
                  </a:lnTo>
                  <a:lnTo>
                    <a:pt x="238" y="521"/>
                  </a:lnTo>
                  <a:lnTo>
                    <a:pt x="236" y="552"/>
                  </a:lnTo>
                  <a:lnTo>
                    <a:pt x="235" y="583"/>
                  </a:lnTo>
                  <a:lnTo>
                    <a:pt x="236" y="604"/>
                  </a:lnTo>
                  <a:lnTo>
                    <a:pt x="237" y="624"/>
                  </a:lnTo>
                  <a:lnTo>
                    <a:pt x="240" y="642"/>
                  </a:lnTo>
                  <a:lnTo>
                    <a:pt x="244" y="659"/>
                  </a:lnTo>
                  <a:lnTo>
                    <a:pt x="250" y="675"/>
                  </a:lnTo>
                  <a:lnTo>
                    <a:pt x="256" y="689"/>
                  </a:lnTo>
                  <a:lnTo>
                    <a:pt x="260" y="695"/>
                  </a:lnTo>
                  <a:lnTo>
                    <a:pt x="264" y="702"/>
                  </a:lnTo>
                  <a:lnTo>
                    <a:pt x="268" y="708"/>
                  </a:lnTo>
                  <a:lnTo>
                    <a:pt x="272" y="713"/>
                  </a:lnTo>
                  <a:lnTo>
                    <a:pt x="275" y="717"/>
                  </a:lnTo>
                  <a:lnTo>
                    <a:pt x="279" y="721"/>
                  </a:lnTo>
                  <a:lnTo>
                    <a:pt x="283" y="724"/>
                  </a:lnTo>
                  <a:lnTo>
                    <a:pt x="287" y="727"/>
                  </a:lnTo>
                  <a:lnTo>
                    <a:pt x="291" y="731"/>
                  </a:lnTo>
                  <a:lnTo>
                    <a:pt x="295" y="733"/>
                  </a:lnTo>
                  <a:lnTo>
                    <a:pt x="299" y="736"/>
                  </a:lnTo>
                  <a:lnTo>
                    <a:pt x="304" y="738"/>
                  </a:lnTo>
                  <a:lnTo>
                    <a:pt x="308" y="740"/>
                  </a:lnTo>
                  <a:lnTo>
                    <a:pt x="313" y="742"/>
                  </a:lnTo>
                  <a:lnTo>
                    <a:pt x="318" y="743"/>
                  </a:lnTo>
                  <a:lnTo>
                    <a:pt x="323" y="744"/>
                  </a:lnTo>
                  <a:lnTo>
                    <a:pt x="328" y="745"/>
                  </a:lnTo>
                  <a:lnTo>
                    <a:pt x="333" y="745"/>
                  </a:lnTo>
                  <a:lnTo>
                    <a:pt x="339" y="746"/>
                  </a:lnTo>
                  <a:lnTo>
                    <a:pt x="344" y="746"/>
                  </a:lnTo>
                  <a:lnTo>
                    <a:pt x="361" y="745"/>
                  </a:lnTo>
                  <a:lnTo>
                    <a:pt x="378" y="744"/>
                  </a:lnTo>
                  <a:lnTo>
                    <a:pt x="396" y="742"/>
                  </a:lnTo>
                  <a:lnTo>
                    <a:pt x="414" y="738"/>
                  </a:lnTo>
                  <a:lnTo>
                    <a:pt x="453" y="727"/>
                  </a:lnTo>
                  <a:lnTo>
                    <a:pt x="495" y="713"/>
                  </a:lnTo>
                  <a:lnTo>
                    <a:pt x="539" y="694"/>
                  </a:lnTo>
                  <a:lnTo>
                    <a:pt x="586" y="671"/>
                  </a:lnTo>
                  <a:lnTo>
                    <a:pt x="636" y="645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10440" y="584280"/>
              <a:ext cx="423720" cy="315720"/>
            </a:xfrm>
            <a:custGeom>
              <a:avLst/>
              <a:gdLst/>
              <a:ahLst/>
              <a:rect l="l" t="t" r="r" b="b"/>
              <a:pathLst>
                <a:path w="1177" h="879">
                  <a:moveTo>
                    <a:pt x="100" y="607"/>
                  </a:moveTo>
                  <a:lnTo>
                    <a:pt x="130" y="687"/>
                  </a:lnTo>
                  <a:lnTo>
                    <a:pt x="140" y="710"/>
                  </a:lnTo>
                  <a:lnTo>
                    <a:pt x="144" y="718"/>
                  </a:lnTo>
                  <a:lnTo>
                    <a:pt x="146" y="720"/>
                  </a:lnTo>
                  <a:lnTo>
                    <a:pt x="147" y="722"/>
                  </a:lnTo>
                  <a:lnTo>
                    <a:pt x="149" y="726"/>
                  </a:lnTo>
                  <a:lnTo>
                    <a:pt x="152" y="728"/>
                  </a:lnTo>
                  <a:lnTo>
                    <a:pt x="153" y="729"/>
                  </a:lnTo>
                  <a:lnTo>
                    <a:pt x="155" y="730"/>
                  </a:lnTo>
                  <a:lnTo>
                    <a:pt x="156" y="732"/>
                  </a:lnTo>
                  <a:lnTo>
                    <a:pt x="158" y="732"/>
                  </a:lnTo>
                  <a:lnTo>
                    <a:pt x="159" y="733"/>
                  </a:lnTo>
                  <a:lnTo>
                    <a:pt x="161" y="734"/>
                  </a:lnTo>
                  <a:lnTo>
                    <a:pt x="162" y="734"/>
                  </a:lnTo>
                  <a:lnTo>
                    <a:pt x="164" y="735"/>
                  </a:lnTo>
                  <a:lnTo>
                    <a:pt x="166" y="735"/>
                  </a:lnTo>
                  <a:lnTo>
                    <a:pt x="167" y="736"/>
                  </a:lnTo>
                  <a:lnTo>
                    <a:pt x="169" y="736"/>
                  </a:lnTo>
                  <a:lnTo>
                    <a:pt x="171" y="736"/>
                  </a:lnTo>
                  <a:lnTo>
                    <a:pt x="177" y="736"/>
                  </a:lnTo>
                  <a:lnTo>
                    <a:pt x="183" y="734"/>
                  </a:lnTo>
                  <a:lnTo>
                    <a:pt x="188" y="732"/>
                  </a:lnTo>
                  <a:lnTo>
                    <a:pt x="194" y="730"/>
                  </a:lnTo>
                  <a:lnTo>
                    <a:pt x="200" y="726"/>
                  </a:lnTo>
                  <a:lnTo>
                    <a:pt x="206" y="723"/>
                  </a:lnTo>
                  <a:lnTo>
                    <a:pt x="213" y="718"/>
                  </a:lnTo>
                  <a:lnTo>
                    <a:pt x="220" y="713"/>
                  </a:lnTo>
                  <a:lnTo>
                    <a:pt x="233" y="700"/>
                  </a:lnTo>
                  <a:lnTo>
                    <a:pt x="249" y="684"/>
                  </a:lnTo>
                  <a:lnTo>
                    <a:pt x="264" y="665"/>
                  </a:lnTo>
                  <a:lnTo>
                    <a:pt x="280" y="644"/>
                  </a:lnTo>
                  <a:lnTo>
                    <a:pt x="318" y="596"/>
                  </a:lnTo>
                  <a:lnTo>
                    <a:pt x="353" y="555"/>
                  </a:lnTo>
                  <a:lnTo>
                    <a:pt x="369" y="538"/>
                  </a:lnTo>
                  <a:lnTo>
                    <a:pt x="386" y="522"/>
                  </a:lnTo>
                  <a:lnTo>
                    <a:pt x="401" y="510"/>
                  </a:lnTo>
                  <a:lnTo>
                    <a:pt x="416" y="499"/>
                  </a:lnTo>
                  <a:lnTo>
                    <a:pt x="431" y="489"/>
                  </a:lnTo>
                  <a:lnTo>
                    <a:pt x="448" y="480"/>
                  </a:lnTo>
                  <a:lnTo>
                    <a:pt x="467" y="471"/>
                  </a:lnTo>
                  <a:lnTo>
                    <a:pt x="489" y="464"/>
                  </a:lnTo>
                  <a:lnTo>
                    <a:pt x="510" y="456"/>
                  </a:lnTo>
                  <a:lnTo>
                    <a:pt x="535" y="449"/>
                  </a:lnTo>
                  <a:lnTo>
                    <a:pt x="561" y="442"/>
                  </a:lnTo>
                  <a:lnTo>
                    <a:pt x="589" y="436"/>
                  </a:lnTo>
                  <a:lnTo>
                    <a:pt x="589" y="459"/>
                  </a:lnTo>
                  <a:lnTo>
                    <a:pt x="581" y="459"/>
                  </a:lnTo>
                  <a:lnTo>
                    <a:pt x="543" y="458"/>
                  </a:lnTo>
                  <a:lnTo>
                    <a:pt x="506" y="455"/>
                  </a:lnTo>
                  <a:lnTo>
                    <a:pt x="472" y="451"/>
                  </a:lnTo>
                  <a:lnTo>
                    <a:pt x="441" y="446"/>
                  </a:lnTo>
                  <a:lnTo>
                    <a:pt x="411" y="438"/>
                  </a:lnTo>
                  <a:lnTo>
                    <a:pt x="385" y="429"/>
                  </a:lnTo>
                  <a:lnTo>
                    <a:pt x="372" y="424"/>
                  </a:lnTo>
                  <a:lnTo>
                    <a:pt x="360" y="419"/>
                  </a:lnTo>
                  <a:lnTo>
                    <a:pt x="349" y="413"/>
                  </a:lnTo>
                  <a:lnTo>
                    <a:pt x="338" y="406"/>
                  </a:lnTo>
                  <a:lnTo>
                    <a:pt x="319" y="392"/>
                  </a:lnTo>
                  <a:lnTo>
                    <a:pt x="309" y="386"/>
                  </a:lnTo>
                  <a:lnTo>
                    <a:pt x="302" y="378"/>
                  </a:lnTo>
                  <a:lnTo>
                    <a:pt x="294" y="370"/>
                  </a:lnTo>
                  <a:lnTo>
                    <a:pt x="288" y="363"/>
                  </a:lnTo>
                  <a:lnTo>
                    <a:pt x="282" y="355"/>
                  </a:lnTo>
                  <a:lnTo>
                    <a:pt x="275" y="347"/>
                  </a:lnTo>
                  <a:lnTo>
                    <a:pt x="271" y="338"/>
                  </a:lnTo>
                  <a:lnTo>
                    <a:pt x="266" y="330"/>
                  </a:lnTo>
                  <a:lnTo>
                    <a:pt x="263" y="321"/>
                  </a:lnTo>
                  <a:lnTo>
                    <a:pt x="260" y="312"/>
                  </a:lnTo>
                  <a:lnTo>
                    <a:pt x="258" y="302"/>
                  </a:lnTo>
                  <a:lnTo>
                    <a:pt x="256" y="292"/>
                  </a:lnTo>
                  <a:lnTo>
                    <a:pt x="255" y="283"/>
                  </a:lnTo>
                  <a:lnTo>
                    <a:pt x="255" y="273"/>
                  </a:lnTo>
                  <a:lnTo>
                    <a:pt x="256" y="257"/>
                  </a:lnTo>
                  <a:lnTo>
                    <a:pt x="258" y="243"/>
                  </a:lnTo>
                  <a:lnTo>
                    <a:pt x="261" y="228"/>
                  </a:lnTo>
                  <a:lnTo>
                    <a:pt x="266" y="215"/>
                  </a:lnTo>
                  <a:lnTo>
                    <a:pt x="271" y="201"/>
                  </a:lnTo>
                  <a:lnTo>
                    <a:pt x="280" y="188"/>
                  </a:lnTo>
                  <a:lnTo>
                    <a:pt x="288" y="175"/>
                  </a:lnTo>
                  <a:lnTo>
                    <a:pt x="298" y="163"/>
                  </a:lnTo>
                  <a:lnTo>
                    <a:pt x="309" y="150"/>
                  </a:lnTo>
                  <a:lnTo>
                    <a:pt x="323" y="138"/>
                  </a:lnTo>
                  <a:lnTo>
                    <a:pt x="337" y="127"/>
                  </a:lnTo>
                  <a:lnTo>
                    <a:pt x="353" y="116"/>
                  </a:lnTo>
                  <a:lnTo>
                    <a:pt x="369" y="105"/>
                  </a:lnTo>
                  <a:lnTo>
                    <a:pt x="388" y="95"/>
                  </a:lnTo>
                  <a:lnTo>
                    <a:pt x="429" y="75"/>
                  </a:lnTo>
                  <a:lnTo>
                    <a:pt x="474" y="58"/>
                  </a:lnTo>
                  <a:lnTo>
                    <a:pt x="522" y="42"/>
                  </a:lnTo>
                  <a:lnTo>
                    <a:pt x="572" y="29"/>
                  </a:lnTo>
                  <a:lnTo>
                    <a:pt x="625" y="19"/>
                  </a:lnTo>
                  <a:lnTo>
                    <a:pt x="680" y="10"/>
                  </a:lnTo>
                  <a:lnTo>
                    <a:pt x="739" y="4"/>
                  </a:lnTo>
                  <a:lnTo>
                    <a:pt x="800" y="1"/>
                  </a:lnTo>
                  <a:lnTo>
                    <a:pt x="863" y="0"/>
                  </a:lnTo>
                  <a:lnTo>
                    <a:pt x="1119" y="4"/>
                  </a:lnTo>
                  <a:lnTo>
                    <a:pt x="1007" y="371"/>
                  </a:lnTo>
                  <a:lnTo>
                    <a:pt x="934" y="602"/>
                  </a:lnTo>
                  <a:lnTo>
                    <a:pt x="916" y="669"/>
                  </a:lnTo>
                  <a:lnTo>
                    <a:pt x="911" y="692"/>
                  </a:lnTo>
                  <a:lnTo>
                    <a:pt x="910" y="699"/>
                  </a:lnTo>
                  <a:lnTo>
                    <a:pt x="910" y="705"/>
                  </a:lnTo>
                  <a:lnTo>
                    <a:pt x="910" y="709"/>
                  </a:lnTo>
                  <a:lnTo>
                    <a:pt x="910" y="713"/>
                  </a:lnTo>
                  <a:lnTo>
                    <a:pt x="911" y="716"/>
                  </a:lnTo>
                  <a:lnTo>
                    <a:pt x="911" y="717"/>
                  </a:lnTo>
                  <a:lnTo>
                    <a:pt x="912" y="719"/>
                  </a:lnTo>
                  <a:lnTo>
                    <a:pt x="912" y="720"/>
                  </a:lnTo>
                  <a:lnTo>
                    <a:pt x="913" y="720"/>
                  </a:lnTo>
                  <a:lnTo>
                    <a:pt x="913" y="721"/>
                  </a:lnTo>
                  <a:lnTo>
                    <a:pt x="914" y="722"/>
                  </a:lnTo>
                  <a:lnTo>
                    <a:pt x="914" y="722"/>
                  </a:lnTo>
                  <a:lnTo>
                    <a:pt x="914" y="722"/>
                  </a:lnTo>
                  <a:lnTo>
                    <a:pt x="915" y="722"/>
                  </a:lnTo>
                  <a:lnTo>
                    <a:pt x="915" y="723"/>
                  </a:lnTo>
                  <a:lnTo>
                    <a:pt x="916" y="723"/>
                  </a:lnTo>
                  <a:lnTo>
                    <a:pt x="916" y="723"/>
                  </a:lnTo>
                  <a:lnTo>
                    <a:pt x="917" y="723"/>
                  </a:lnTo>
                  <a:lnTo>
                    <a:pt x="917" y="723"/>
                  </a:lnTo>
                  <a:lnTo>
                    <a:pt x="919" y="723"/>
                  </a:lnTo>
                  <a:lnTo>
                    <a:pt x="922" y="722"/>
                  </a:lnTo>
                  <a:lnTo>
                    <a:pt x="927" y="721"/>
                  </a:lnTo>
                  <a:lnTo>
                    <a:pt x="935" y="719"/>
                  </a:lnTo>
                  <a:lnTo>
                    <a:pt x="942" y="715"/>
                  </a:lnTo>
                  <a:lnTo>
                    <a:pt x="960" y="705"/>
                  </a:lnTo>
                  <a:lnTo>
                    <a:pt x="983" y="692"/>
                  </a:lnTo>
                  <a:lnTo>
                    <a:pt x="1041" y="652"/>
                  </a:lnTo>
                  <a:lnTo>
                    <a:pt x="1115" y="596"/>
                  </a:lnTo>
                  <a:lnTo>
                    <a:pt x="1176" y="650"/>
                  </a:lnTo>
                  <a:lnTo>
                    <a:pt x="1176" y="653"/>
                  </a:lnTo>
                  <a:lnTo>
                    <a:pt x="1176" y="656"/>
                  </a:lnTo>
                  <a:lnTo>
                    <a:pt x="1118" y="706"/>
                  </a:lnTo>
                  <a:lnTo>
                    <a:pt x="1060" y="752"/>
                  </a:lnTo>
                  <a:lnTo>
                    <a:pt x="1008" y="790"/>
                  </a:lnTo>
                  <a:lnTo>
                    <a:pt x="958" y="822"/>
                  </a:lnTo>
                  <a:lnTo>
                    <a:pt x="913" y="846"/>
                  </a:lnTo>
                  <a:lnTo>
                    <a:pt x="892" y="856"/>
                  </a:lnTo>
                  <a:lnTo>
                    <a:pt x="872" y="864"/>
                  </a:lnTo>
                  <a:lnTo>
                    <a:pt x="853" y="870"/>
                  </a:lnTo>
                  <a:lnTo>
                    <a:pt x="835" y="874"/>
                  </a:lnTo>
                  <a:lnTo>
                    <a:pt x="818" y="877"/>
                  </a:lnTo>
                  <a:lnTo>
                    <a:pt x="802" y="878"/>
                  </a:lnTo>
                  <a:lnTo>
                    <a:pt x="796" y="878"/>
                  </a:lnTo>
                  <a:lnTo>
                    <a:pt x="789" y="877"/>
                  </a:lnTo>
                  <a:lnTo>
                    <a:pt x="783" y="877"/>
                  </a:lnTo>
                  <a:lnTo>
                    <a:pt x="777" y="876"/>
                  </a:lnTo>
                  <a:lnTo>
                    <a:pt x="772" y="874"/>
                  </a:lnTo>
                  <a:lnTo>
                    <a:pt x="766" y="873"/>
                  </a:lnTo>
                  <a:lnTo>
                    <a:pt x="761" y="872"/>
                  </a:lnTo>
                  <a:lnTo>
                    <a:pt x="755" y="869"/>
                  </a:lnTo>
                  <a:lnTo>
                    <a:pt x="750" y="867"/>
                  </a:lnTo>
                  <a:lnTo>
                    <a:pt x="745" y="865"/>
                  </a:lnTo>
                  <a:lnTo>
                    <a:pt x="740" y="862"/>
                  </a:lnTo>
                  <a:lnTo>
                    <a:pt x="735" y="859"/>
                  </a:lnTo>
                  <a:lnTo>
                    <a:pt x="725" y="853"/>
                  </a:lnTo>
                  <a:lnTo>
                    <a:pt x="717" y="845"/>
                  </a:lnTo>
                  <a:lnTo>
                    <a:pt x="713" y="841"/>
                  </a:lnTo>
                  <a:lnTo>
                    <a:pt x="710" y="837"/>
                  </a:lnTo>
                  <a:lnTo>
                    <a:pt x="706" y="832"/>
                  </a:lnTo>
                  <a:lnTo>
                    <a:pt x="703" y="828"/>
                  </a:lnTo>
                  <a:lnTo>
                    <a:pt x="698" y="816"/>
                  </a:lnTo>
                  <a:lnTo>
                    <a:pt x="693" y="805"/>
                  </a:lnTo>
                  <a:lnTo>
                    <a:pt x="689" y="794"/>
                  </a:lnTo>
                  <a:lnTo>
                    <a:pt x="686" y="781"/>
                  </a:lnTo>
                  <a:lnTo>
                    <a:pt x="685" y="767"/>
                  </a:lnTo>
                  <a:lnTo>
                    <a:pt x="684" y="753"/>
                  </a:lnTo>
                  <a:lnTo>
                    <a:pt x="684" y="738"/>
                  </a:lnTo>
                  <a:lnTo>
                    <a:pt x="686" y="724"/>
                  </a:lnTo>
                  <a:lnTo>
                    <a:pt x="687" y="709"/>
                  </a:lnTo>
                  <a:lnTo>
                    <a:pt x="690" y="692"/>
                  </a:lnTo>
                  <a:lnTo>
                    <a:pt x="699" y="658"/>
                  </a:lnTo>
                  <a:lnTo>
                    <a:pt x="709" y="622"/>
                  </a:lnTo>
                  <a:lnTo>
                    <a:pt x="764" y="477"/>
                  </a:lnTo>
                  <a:lnTo>
                    <a:pt x="755" y="477"/>
                  </a:lnTo>
                  <a:lnTo>
                    <a:pt x="747" y="477"/>
                  </a:lnTo>
                  <a:lnTo>
                    <a:pt x="739" y="478"/>
                  </a:lnTo>
                  <a:lnTo>
                    <a:pt x="731" y="479"/>
                  </a:lnTo>
                  <a:lnTo>
                    <a:pt x="723" y="481"/>
                  </a:lnTo>
                  <a:lnTo>
                    <a:pt x="715" y="483"/>
                  </a:lnTo>
                  <a:lnTo>
                    <a:pt x="700" y="488"/>
                  </a:lnTo>
                  <a:lnTo>
                    <a:pt x="685" y="494"/>
                  </a:lnTo>
                  <a:lnTo>
                    <a:pt x="670" y="501"/>
                  </a:lnTo>
                  <a:lnTo>
                    <a:pt x="655" y="510"/>
                  </a:lnTo>
                  <a:lnTo>
                    <a:pt x="641" y="520"/>
                  </a:lnTo>
                  <a:lnTo>
                    <a:pt x="627" y="533"/>
                  </a:lnTo>
                  <a:lnTo>
                    <a:pt x="610" y="548"/>
                  </a:lnTo>
                  <a:lnTo>
                    <a:pt x="593" y="566"/>
                  </a:lnTo>
                  <a:lnTo>
                    <a:pt x="574" y="588"/>
                  </a:lnTo>
                  <a:lnTo>
                    <a:pt x="533" y="640"/>
                  </a:lnTo>
                  <a:lnTo>
                    <a:pt x="487" y="704"/>
                  </a:lnTo>
                  <a:lnTo>
                    <a:pt x="457" y="745"/>
                  </a:lnTo>
                  <a:lnTo>
                    <a:pt x="425" y="780"/>
                  </a:lnTo>
                  <a:lnTo>
                    <a:pt x="408" y="796"/>
                  </a:lnTo>
                  <a:lnTo>
                    <a:pt x="392" y="810"/>
                  </a:lnTo>
                  <a:lnTo>
                    <a:pt x="375" y="822"/>
                  </a:lnTo>
                  <a:lnTo>
                    <a:pt x="359" y="834"/>
                  </a:lnTo>
                  <a:lnTo>
                    <a:pt x="341" y="845"/>
                  </a:lnTo>
                  <a:lnTo>
                    <a:pt x="324" y="853"/>
                  </a:lnTo>
                  <a:lnTo>
                    <a:pt x="305" y="861"/>
                  </a:lnTo>
                  <a:lnTo>
                    <a:pt x="288" y="867"/>
                  </a:lnTo>
                  <a:lnTo>
                    <a:pt x="269" y="872"/>
                  </a:lnTo>
                  <a:lnTo>
                    <a:pt x="250" y="875"/>
                  </a:lnTo>
                  <a:lnTo>
                    <a:pt x="231" y="877"/>
                  </a:lnTo>
                  <a:lnTo>
                    <a:pt x="212" y="878"/>
                  </a:lnTo>
                  <a:lnTo>
                    <a:pt x="195" y="877"/>
                  </a:lnTo>
                  <a:lnTo>
                    <a:pt x="180" y="875"/>
                  </a:lnTo>
                  <a:lnTo>
                    <a:pt x="165" y="873"/>
                  </a:lnTo>
                  <a:lnTo>
                    <a:pt x="151" y="869"/>
                  </a:lnTo>
                  <a:lnTo>
                    <a:pt x="136" y="864"/>
                  </a:lnTo>
                  <a:lnTo>
                    <a:pt x="123" y="857"/>
                  </a:lnTo>
                  <a:lnTo>
                    <a:pt x="110" y="850"/>
                  </a:lnTo>
                  <a:lnTo>
                    <a:pt x="96" y="842"/>
                  </a:lnTo>
                  <a:lnTo>
                    <a:pt x="90" y="837"/>
                  </a:lnTo>
                  <a:lnTo>
                    <a:pt x="84" y="831"/>
                  </a:lnTo>
                  <a:lnTo>
                    <a:pt x="78" y="823"/>
                  </a:lnTo>
                  <a:lnTo>
                    <a:pt x="72" y="816"/>
                  </a:lnTo>
                  <a:lnTo>
                    <a:pt x="59" y="795"/>
                  </a:lnTo>
                  <a:lnTo>
                    <a:pt x="47" y="771"/>
                  </a:lnTo>
                  <a:lnTo>
                    <a:pt x="35" y="743"/>
                  </a:lnTo>
                  <a:lnTo>
                    <a:pt x="23" y="710"/>
                  </a:lnTo>
                  <a:lnTo>
                    <a:pt x="0" y="631"/>
                  </a:lnTo>
                  <a:close/>
                  <a:moveTo>
                    <a:pt x="876" y="122"/>
                  </a:moveTo>
                  <a:lnTo>
                    <a:pt x="862" y="120"/>
                  </a:lnTo>
                  <a:lnTo>
                    <a:pt x="848" y="118"/>
                  </a:lnTo>
                  <a:lnTo>
                    <a:pt x="833" y="116"/>
                  </a:lnTo>
                  <a:lnTo>
                    <a:pt x="817" y="115"/>
                  </a:lnTo>
                  <a:lnTo>
                    <a:pt x="781" y="113"/>
                  </a:lnTo>
                  <a:lnTo>
                    <a:pt x="742" y="112"/>
                  </a:lnTo>
                  <a:lnTo>
                    <a:pt x="718" y="113"/>
                  </a:lnTo>
                  <a:lnTo>
                    <a:pt x="697" y="115"/>
                  </a:lnTo>
                  <a:lnTo>
                    <a:pt x="675" y="118"/>
                  </a:lnTo>
                  <a:lnTo>
                    <a:pt x="653" y="123"/>
                  </a:lnTo>
                  <a:lnTo>
                    <a:pt x="633" y="129"/>
                  </a:lnTo>
                  <a:lnTo>
                    <a:pt x="613" y="137"/>
                  </a:lnTo>
                  <a:lnTo>
                    <a:pt x="594" y="146"/>
                  </a:lnTo>
                  <a:lnTo>
                    <a:pt x="575" y="156"/>
                  </a:lnTo>
                  <a:lnTo>
                    <a:pt x="558" y="167"/>
                  </a:lnTo>
                  <a:lnTo>
                    <a:pt x="550" y="173"/>
                  </a:lnTo>
                  <a:lnTo>
                    <a:pt x="543" y="179"/>
                  </a:lnTo>
                  <a:lnTo>
                    <a:pt x="536" y="186"/>
                  </a:lnTo>
                  <a:lnTo>
                    <a:pt x="530" y="192"/>
                  </a:lnTo>
                  <a:lnTo>
                    <a:pt x="525" y="199"/>
                  </a:lnTo>
                  <a:lnTo>
                    <a:pt x="520" y="206"/>
                  </a:lnTo>
                  <a:lnTo>
                    <a:pt x="515" y="213"/>
                  </a:lnTo>
                  <a:lnTo>
                    <a:pt x="511" y="220"/>
                  </a:lnTo>
                  <a:lnTo>
                    <a:pt x="508" y="228"/>
                  </a:lnTo>
                  <a:lnTo>
                    <a:pt x="506" y="235"/>
                  </a:lnTo>
                  <a:lnTo>
                    <a:pt x="504" y="244"/>
                  </a:lnTo>
                  <a:lnTo>
                    <a:pt x="502" y="251"/>
                  </a:lnTo>
                  <a:lnTo>
                    <a:pt x="501" y="260"/>
                  </a:lnTo>
                  <a:lnTo>
                    <a:pt x="501" y="268"/>
                  </a:lnTo>
                  <a:lnTo>
                    <a:pt x="502" y="283"/>
                  </a:lnTo>
                  <a:lnTo>
                    <a:pt x="504" y="296"/>
                  </a:lnTo>
                  <a:lnTo>
                    <a:pt x="508" y="307"/>
                  </a:lnTo>
                  <a:lnTo>
                    <a:pt x="513" y="319"/>
                  </a:lnTo>
                  <a:lnTo>
                    <a:pt x="521" y="330"/>
                  </a:lnTo>
                  <a:lnTo>
                    <a:pt x="529" y="339"/>
                  </a:lnTo>
                  <a:lnTo>
                    <a:pt x="539" y="348"/>
                  </a:lnTo>
                  <a:lnTo>
                    <a:pt x="550" y="356"/>
                  </a:lnTo>
                  <a:lnTo>
                    <a:pt x="564" y="363"/>
                  </a:lnTo>
                  <a:lnTo>
                    <a:pt x="578" y="369"/>
                  </a:lnTo>
                  <a:lnTo>
                    <a:pt x="594" y="374"/>
                  </a:lnTo>
                  <a:lnTo>
                    <a:pt x="612" y="377"/>
                  </a:lnTo>
                  <a:lnTo>
                    <a:pt x="631" y="381"/>
                  </a:lnTo>
                  <a:lnTo>
                    <a:pt x="651" y="383"/>
                  </a:lnTo>
                  <a:lnTo>
                    <a:pt x="674" y="384"/>
                  </a:lnTo>
                  <a:lnTo>
                    <a:pt x="698" y="385"/>
                  </a:lnTo>
                  <a:lnTo>
                    <a:pt x="717" y="385"/>
                  </a:lnTo>
                  <a:lnTo>
                    <a:pt x="739" y="384"/>
                  </a:lnTo>
                  <a:lnTo>
                    <a:pt x="762" y="382"/>
                  </a:lnTo>
                  <a:lnTo>
                    <a:pt x="787" y="380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30400" y="1298520"/>
              <a:ext cx="782640" cy="465120"/>
            </a:xfrm>
            <a:custGeom>
              <a:avLst/>
              <a:gdLst/>
              <a:ahLst/>
              <a:rect l="l" t="t" r="r" b="b"/>
              <a:pathLst>
                <a:path w="2175" h="1292">
                  <a:moveTo>
                    <a:pt x="949" y="911"/>
                  </a:moveTo>
                  <a:lnTo>
                    <a:pt x="724" y="911"/>
                  </a:lnTo>
                  <a:lnTo>
                    <a:pt x="861" y="472"/>
                  </a:lnTo>
                  <a:lnTo>
                    <a:pt x="846" y="479"/>
                  </a:lnTo>
                  <a:lnTo>
                    <a:pt x="833" y="487"/>
                  </a:lnTo>
                  <a:lnTo>
                    <a:pt x="803" y="505"/>
                  </a:lnTo>
                  <a:lnTo>
                    <a:pt x="773" y="524"/>
                  </a:lnTo>
                  <a:lnTo>
                    <a:pt x="742" y="547"/>
                  </a:lnTo>
                  <a:lnTo>
                    <a:pt x="726" y="560"/>
                  </a:lnTo>
                  <a:lnTo>
                    <a:pt x="707" y="575"/>
                  </a:lnTo>
                  <a:lnTo>
                    <a:pt x="667" y="612"/>
                  </a:lnTo>
                  <a:lnTo>
                    <a:pt x="622" y="657"/>
                  </a:lnTo>
                  <a:lnTo>
                    <a:pt x="571" y="709"/>
                  </a:lnTo>
                  <a:lnTo>
                    <a:pt x="509" y="774"/>
                  </a:lnTo>
                  <a:lnTo>
                    <a:pt x="455" y="827"/>
                  </a:lnTo>
                  <a:lnTo>
                    <a:pt x="408" y="867"/>
                  </a:lnTo>
                  <a:lnTo>
                    <a:pt x="387" y="884"/>
                  </a:lnTo>
                  <a:lnTo>
                    <a:pt x="367" y="897"/>
                  </a:lnTo>
                  <a:lnTo>
                    <a:pt x="350" y="908"/>
                  </a:lnTo>
                  <a:lnTo>
                    <a:pt x="331" y="918"/>
                  </a:lnTo>
                  <a:lnTo>
                    <a:pt x="313" y="926"/>
                  </a:lnTo>
                  <a:lnTo>
                    <a:pt x="293" y="933"/>
                  </a:lnTo>
                  <a:lnTo>
                    <a:pt x="274" y="938"/>
                  </a:lnTo>
                  <a:lnTo>
                    <a:pt x="254" y="941"/>
                  </a:lnTo>
                  <a:lnTo>
                    <a:pt x="235" y="944"/>
                  </a:lnTo>
                  <a:lnTo>
                    <a:pt x="214" y="945"/>
                  </a:lnTo>
                  <a:lnTo>
                    <a:pt x="197" y="944"/>
                  </a:lnTo>
                  <a:lnTo>
                    <a:pt x="182" y="942"/>
                  </a:lnTo>
                  <a:lnTo>
                    <a:pt x="167" y="940"/>
                  </a:lnTo>
                  <a:lnTo>
                    <a:pt x="151" y="936"/>
                  </a:lnTo>
                  <a:lnTo>
                    <a:pt x="137" y="931"/>
                  </a:lnTo>
                  <a:lnTo>
                    <a:pt x="123" y="924"/>
                  </a:lnTo>
                  <a:lnTo>
                    <a:pt x="110" y="918"/>
                  </a:lnTo>
                  <a:lnTo>
                    <a:pt x="97" y="909"/>
                  </a:lnTo>
                  <a:lnTo>
                    <a:pt x="90" y="904"/>
                  </a:lnTo>
                  <a:lnTo>
                    <a:pt x="84" y="898"/>
                  </a:lnTo>
                  <a:lnTo>
                    <a:pt x="78" y="890"/>
                  </a:lnTo>
                  <a:lnTo>
                    <a:pt x="72" y="883"/>
                  </a:lnTo>
                  <a:lnTo>
                    <a:pt x="59" y="862"/>
                  </a:lnTo>
                  <a:lnTo>
                    <a:pt x="47" y="839"/>
                  </a:lnTo>
                  <a:lnTo>
                    <a:pt x="35" y="810"/>
                  </a:lnTo>
                  <a:lnTo>
                    <a:pt x="23" y="777"/>
                  </a:lnTo>
                  <a:lnTo>
                    <a:pt x="0" y="698"/>
                  </a:lnTo>
                  <a:lnTo>
                    <a:pt x="102" y="673"/>
                  </a:lnTo>
                  <a:lnTo>
                    <a:pt x="118" y="722"/>
                  </a:lnTo>
                  <a:lnTo>
                    <a:pt x="133" y="759"/>
                  </a:lnTo>
                  <a:lnTo>
                    <a:pt x="138" y="772"/>
                  </a:lnTo>
                  <a:lnTo>
                    <a:pt x="143" y="782"/>
                  </a:lnTo>
                  <a:lnTo>
                    <a:pt x="146" y="789"/>
                  </a:lnTo>
                  <a:lnTo>
                    <a:pt x="148" y="792"/>
                  </a:lnTo>
                  <a:lnTo>
                    <a:pt x="148" y="793"/>
                  </a:lnTo>
                  <a:lnTo>
                    <a:pt x="149" y="794"/>
                  </a:lnTo>
                  <a:lnTo>
                    <a:pt x="152" y="795"/>
                  </a:lnTo>
                  <a:lnTo>
                    <a:pt x="154" y="798"/>
                  </a:lnTo>
                  <a:lnTo>
                    <a:pt x="157" y="799"/>
                  </a:lnTo>
                  <a:lnTo>
                    <a:pt x="160" y="800"/>
                  </a:lnTo>
                  <a:lnTo>
                    <a:pt x="162" y="801"/>
                  </a:lnTo>
                  <a:lnTo>
                    <a:pt x="163" y="801"/>
                  </a:lnTo>
                  <a:lnTo>
                    <a:pt x="166" y="802"/>
                  </a:lnTo>
                  <a:lnTo>
                    <a:pt x="167" y="802"/>
                  </a:lnTo>
                  <a:lnTo>
                    <a:pt x="169" y="803"/>
                  </a:lnTo>
                  <a:lnTo>
                    <a:pt x="171" y="803"/>
                  </a:lnTo>
                  <a:lnTo>
                    <a:pt x="172" y="803"/>
                  </a:lnTo>
                  <a:lnTo>
                    <a:pt x="174" y="803"/>
                  </a:lnTo>
                  <a:lnTo>
                    <a:pt x="181" y="802"/>
                  </a:lnTo>
                  <a:lnTo>
                    <a:pt x="189" y="801"/>
                  </a:lnTo>
                  <a:lnTo>
                    <a:pt x="197" y="799"/>
                  </a:lnTo>
                  <a:lnTo>
                    <a:pt x="207" y="794"/>
                  </a:lnTo>
                  <a:lnTo>
                    <a:pt x="216" y="790"/>
                  </a:lnTo>
                  <a:lnTo>
                    <a:pt x="226" y="785"/>
                  </a:lnTo>
                  <a:lnTo>
                    <a:pt x="248" y="771"/>
                  </a:lnTo>
                  <a:lnTo>
                    <a:pt x="271" y="752"/>
                  </a:lnTo>
                  <a:lnTo>
                    <a:pt x="296" y="730"/>
                  </a:lnTo>
                  <a:lnTo>
                    <a:pt x="323" y="704"/>
                  </a:lnTo>
                  <a:lnTo>
                    <a:pt x="352" y="674"/>
                  </a:lnTo>
                  <a:lnTo>
                    <a:pt x="427" y="596"/>
                  </a:lnTo>
                  <a:lnTo>
                    <a:pt x="492" y="536"/>
                  </a:lnTo>
                  <a:lnTo>
                    <a:pt x="521" y="512"/>
                  </a:lnTo>
                  <a:lnTo>
                    <a:pt x="547" y="492"/>
                  </a:lnTo>
                  <a:lnTo>
                    <a:pt x="570" y="477"/>
                  </a:lnTo>
                  <a:lnTo>
                    <a:pt x="582" y="470"/>
                  </a:lnTo>
                  <a:lnTo>
                    <a:pt x="592" y="465"/>
                  </a:lnTo>
                  <a:lnTo>
                    <a:pt x="612" y="455"/>
                  </a:lnTo>
                  <a:lnTo>
                    <a:pt x="636" y="448"/>
                  </a:lnTo>
                  <a:lnTo>
                    <a:pt x="663" y="439"/>
                  </a:lnTo>
                  <a:lnTo>
                    <a:pt x="692" y="432"/>
                  </a:lnTo>
                  <a:lnTo>
                    <a:pt x="723" y="426"/>
                  </a:lnTo>
                  <a:lnTo>
                    <a:pt x="756" y="420"/>
                  </a:lnTo>
                  <a:lnTo>
                    <a:pt x="831" y="409"/>
                  </a:lnTo>
                  <a:lnTo>
                    <a:pt x="825" y="408"/>
                  </a:lnTo>
                  <a:lnTo>
                    <a:pt x="818" y="405"/>
                  </a:lnTo>
                  <a:lnTo>
                    <a:pt x="812" y="402"/>
                  </a:lnTo>
                  <a:lnTo>
                    <a:pt x="806" y="398"/>
                  </a:lnTo>
                  <a:lnTo>
                    <a:pt x="800" y="392"/>
                  </a:lnTo>
                  <a:lnTo>
                    <a:pt x="794" y="387"/>
                  </a:lnTo>
                  <a:lnTo>
                    <a:pt x="787" y="381"/>
                  </a:lnTo>
                  <a:lnTo>
                    <a:pt x="781" y="375"/>
                  </a:lnTo>
                  <a:lnTo>
                    <a:pt x="769" y="358"/>
                  </a:lnTo>
                  <a:lnTo>
                    <a:pt x="756" y="340"/>
                  </a:lnTo>
                  <a:lnTo>
                    <a:pt x="743" y="318"/>
                  </a:lnTo>
                  <a:lnTo>
                    <a:pt x="730" y="294"/>
                  </a:lnTo>
                  <a:lnTo>
                    <a:pt x="708" y="252"/>
                  </a:lnTo>
                  <a:lnTo>
                    <a:pt x="698" y="235"/>
                  </a:lnTo>
                  <a:lnTo>
                    <a:pt x="688" y="220"/>
                  </a:lnTo>
                  <a:lnTo>
                    <a:pt x="679" y="207"/>
                  </a:lnTo>
                  <a:lnTo>
                    <a:pt x="670" y="196"/>
                  </a:lnTo>
                  <a:lnTo>
                    <a:pt x="662" y="188"/>
                  </a:lnTo>
                  <a:lnTo>
                    <a:pt x="659" y="184"/>
                  </a:lnTo>
                  <a:lnTo>
                    <a:pt x="655" y="182"/>
                  </a:lnTo>
                  <a:lnTo>
                    <a:pt x="647" y="177"/>
                  </a:lnTo>
                  <a:lnTo>
                    <a:pt x="640" y="173"/>
                  </a:lnTo>
                  <a:lnTo>
                    <a:pt x="633" y="169"/>
                  </a:lnTo>
                  <a:lnTo>
                    <a:pt x="626" y="166"/>
                  </a:lnTo>
                  <a:lnTo>
                    <a:pt x="619" y="164"/>
                  </a:lnTo>
                  <a:lnTo>
                    <a:pt x="616" y="163"/>
                  </a:lnTo>
                  <a:lnTo>
                    <a:pt x="612" y="163"/>
                  </a:lnTo>
                  <a:lnTo>
                    <a:pt x="608" y="162"/>
                  </a:lnTo>
                  <a:lnTo>
                    <a:pt x="605" y="161"/>
                  </a:lnTo>
                  <a:lnTo>
                    <a:pt x="601" y="161"/>
                  </a:lnTo>
                  <a:lnTo>
                    <a:pt x="598" y="161"/>
                  </a:lnTo>
                  <a:lnTo>
                    <a:pt x="596" y="161"/>
                  </a:lnTo>
                  <a:lnTo>
                    <a:pt x="595" y="161"/>
                  </a:lnTo>
                  <a:lnTo>
                    <a:pt x="590" y="162"/>
                  </a:lnTo>
                  <a:lnTo>
                    <a:pt x="585" y="163"/>
                  </a:lnTo>
                  <a:lnTo>
                    <a:pt x="578" y="165"/>
                  </a:lnTo>
                  <a:lnTo>
                    <a:pt x="571" y="166"/>
                  </a:lnTo>
                  <a:lnTo>
                    <a:pt x="563" y="169"/>
                  </a:lnTo>
                  <a:lnTo>
                    <a:pt x="544" y="176"/>
                  </a:lnTo>
                  <a:lnTo>
                    <a:pt x="535" y="179"/>
                  </a:lnTo>
                  <a:lnTo>
                    <a:pt x="526" y="182"/>
                  </a:lnTo>
                  <a:lnTo>
                    <a:pt x="518" y="184"/>
                  </a:lnTo>
                  <a:lnTo>
                    <a:pt x="509" y="187"/>
                  </a:lnTo>
                  <a:lnTo>
                    <a:pt x="500" y="188"/>
                  </a:lnTo>
                  <a:lnTo>
                    <a:pt x="492" y="189"/>
                  </a:lnTo>
                  <a:lnTo>
                    <a:pt x="485" y="190"/>
                  </a:lnTo>
                  <a:lnTo>
                    <a:pt x="477" y="190"/>
                  </a:lnTo>
                  <a:lnTo>
                    <a:pt x="464" y="190"/>
                  </a:lnTo>
                  <a:lnTo>
                    <a:pt x="452" y="189"/>
                  </a:lnTo>
                  <a:lnTo>
                    <a:pt x="441" y="188"/>
                  </a:lnTo>
                  <a:lnTo>
                    <a:pt x="431" y="185"/>
                  </a:lnTo>
                  <a:lnTo>
                    <a:pt x="422" y="183"/>
                  </a:lnTo>
                  <a:lnTo>
                    <a:pt x="414" y="179"/>
                  </a:lnTo>
                  <a:lnTo>
                    <a:pt x="405" y="175"/>
                  </a:lnTo>
                  <a:lnTo>
                    <a:pt x="398" y="171"/>
                  </a:lnTo>
                  <a:lnTo>
                    <a:pt x="392" y="166"/>
                  </a:lnTo>
                  <a:lnTo>
                    <a:pt x="387" y="160"/>
                  </a:lnTo>
                  <a:lnTo>
                    <a:pt x="383" y="153"/>
                  </a:lnTo>
                  <a:lnTo>
                    <a:pt x="379" y="146"/>
                  </a:lnTo>
                  <a:lnTo>
                    <a:pt x="377" y="138"/>
                  </a:lnTo>
                  <a:lnTo>
                    <a:pt x="375" y="130"/>
                  </a:lnTo>
                  <a:lnTo>
                    <a:pt x="372" y="120"/>
                  </a:lnTo>
                  <a:lnTo>
                    <a:pt x="372" y="111"/>
                  </a:lnTo>
                  <a:lnTo>
                    <a:pt x="372" y="105"/>
                  </a:lnTo>
                  <a:lnTo>
                    <a:pt x="374" y="99"/>
                  </a:lnTo>
                  <a:lnTo>
                    <a:pt x="375" y="93"/>
                  </a:lnTo>
                  <a:lnTo>
                    <a:pt x="376" y="87"/>
                  </a:lnTo>
                  <a:lnTo>
                    <a:pt x="378" y="82"/>
                  </a:lnTo>
                  <a:lnTo>
                    <a:pt x="381" y="76"/>
                  </a:lnTo>
                  <a:lnTo>
                    <a:pt x="383" y="71"/>
                  </a:lnTo>
                  <a:lnTo>
                    <a:pt x="387" y="66"/>
                  </a:lnTo>
                  <a:lnTo>
                    <a:pt x="390" y="61"/>
                  </a:lnTo>
                  <a:lnTo>
                    <a:pt x="394" y="56"/>
                  </a:lnTo>
                  <a:lnTo>
                    <a:pt x="399" y="52"/>
                  </a:lnTo>
                  <a:lnTo>
                    <a:pt x="403" y="47"/>
                  </a:lnTo>
                  <a:lnTo>
                    <a:pt x="410" y="42"/>
                  </a:lnTo>
                  <a:lnTo>
                    <a:pt x="415" y="38"/>
                  </a:lnTo>
                  <a:lnTo>
                    <a:pt x="421" y="35"/>
                  </a:lnTo>
                  <a:lnTo>
                    <a:pt x="428" y="30"/>
                  </a:lnTo>
                  <a:lnTo>
                    <a:pt x="443" y="24"/>
                  </a:lnTo>
                  <a:lnTo>
                    <a:pt x="456" y="17"/>
                  </a:lnTo>
                  <a:lnTo>
                    <a:pt x="470" y="12"/>
                  </a:lnTo>
                  <a:lnTo>
                    <a:pt x="485" y="7"/>
                  </a:lnTo>
                  <a:lnTo>
                    <a:pt x="499" y="4"/>
                  </a:lnTo>
                  <a:lnTo>
                    <a:pt x="515" y="2"/>
                  </a:lnTo>
                  <a:lnTo>
                    <a:pt x="529" y="1"/>
                  </a:lnTo>
                  <a:lnTo>
                    <a:pt x="544" y="0"/>
                  </a:lnTo>
                  <a:lnTo>
                    <a:pt x="567" y="1"/>
                  </a:lnTo>
                  <a:lnTo>
                    <a:pt x="589" y="3"/>
                  </a:lnTo>
                  <a:lnTo>
                    <a:pt x="610" y="7"/>
                  </a:lnTo>
                  <a:lnTo>
                    <a:pt x="631" y="13"/>
                  </a:lnTo>
                  <a:lnTo>
                    <a:pt x="640" y="16"/>
                  </a:lnTo>
                  <a:lnTo>
                    <a:pt x="651" y="20"/>
                  </a:lnTo>
                  <a:lnTo>
                    <a:pt x="660" y="24"/>
                  </a:lnTo>
                  <a:lnTo>
                    <a:pt x="669" y="29"/>
                  </a:lnTo>
                  <a:lnTo>
                    <a:pt x="687" y="40"/>
                  </a:lnTo>
                  <a:lnTo>
                    <a:pt x="703" y="52"/>
                  </a:lnTo>
                  <a:lnTo>
                    <a:pt x="711" y="58"/>
                  </a:lnTo>
                  <a:lnTo>
                    <a:pt x="720" y="66"/>
                  </a:lnTo>
                  <a:lnTo>
                    <a:pt x="736" y="84"/>
                  </a:lnTo>
                  <a:lnTo>
                    <a:pt x="752" y="104"/>
                  </a:lnTo>
                  <a:lnTo>
                    <a:pt x="768" y="129"/>
                  </a:lnTo>
                  <a:lnTo>
                    <a:pt x="783" y="156"/>
                  </a:lnTo>
                  <a:lnTo>
                    <a:pt x="799" y="187"/>
                  </a:lnTo>
                  <a:lnTo>
                    <a:pt x="814" y="221"/>
                  </a:lnTo>
                  <a:lnTo>
                    <a:pt x="830" y="258"/>
                  </a:lnTo>
                  <a:lnTo>
                    <a:pt x="884" y="384"/>
                  </a:lnTo>
                  <a:lnTo>
                    <a:pt x="970" y="70"/>
                  </a:lnTo>
                  <a:lnTo>
                    <a:pt x="1190" y="70"/>
                  </a:lnTo>
                  <a:lnTo>
                    <a:pt x="1088" y="406"/>
                  </a:lnTo>
                  <a:lnTo>
                    <a:pt x="1093" y="398"/>
                  </a:lnTo>
                  <a:lnTo>
                    <a:pt x="1101" y="386"/>
                  </a:lnTo>
                  <a:lnTo>
                    <a:pt x="1111" y="375"/>
                  </a:lnTo>
                  <a:lnTo>
                    <a:pt x="1122" y="360"/>
                  </a:lnTo>
                  <a:lnTo>
                    <a:pt x="1153" y="327"/>
                  </a:lnTo>
                  <a:lnTo>
                    <a:pt x="1192" y="286"/>
                  </a:lnTo>
                  <a:lnTo>
                    <a:pt x="1276" y="205"/>
                  </a:lnTo>
                  <a:lnTo>
                    <a:pt x="1349" y="139"/>
                  </a:lnTo>
                  <a:lnTo>
                    <a:pt x="1382" y="112"/>
                  </a:lnTo>
                  <a:lnTo>
                    <a:pt x="1413" y="89"/>
                  </a:lnTo>
                  <a:lnTo>
                    <a:pt x="1440" y="70"/>
                  </a:lnTo>
                  <a:lnTo>
                    <a:pt x="1466" y="55"/>
                  </a:lnTo>
                  <a:lnTo>
                    <a:pt x="1491" y="43"/>
                  </a:lnTo>
                  <a:lnTo>
                    <a:pt x="1515" y="33"/>
                  </a:lnTo>
                  <a:lnTo>
                    <a:pt x="1539" y="24"/>
                  </a:lnTo>
                  <a:lnTo>
                    <a:pt x="1563" y="17"/>
                  </a:lnTo>
                  <a:lnTo>
                    <a:pt x="1586" y="11"/>
                  </a:lnTo>
                  <a:lnTo>
                    <a:pt x="1609" y="7"/>
                  </a:lnTo>
                  <a:lnTo>
                    <a:pt x="1632" y="4"/>
                  </a:lnTo>
                  <a:lnTo>
                    <a:pt x="1655" y="3"/>
                  </a:lnTo>
                  <a:lnTo>
                    <a:pt x="1670" y="3"/>
                  </a:lnTo>
                  <a:lnTo>
                    <a:pt x="1683" y="5"/>
                  </a:lnTo>
                  <a:lnTo>
                    <a:pt x="1697" y="7"/>
                  </a:lnTo>
                  <a:lnTo>
                    <a:pt x="1709" y="8"/>
                  </a:lnTo>
                  <a:lnTo>
                    <a:pt x="1720" y="12"/>
                  </a:lnTo>
                  <a:lnTo>
                    <a:pt x="1731" y="15"/>
                  </a:lnTo>
                  <a:lnTo>
                    <a:pt x="1740" y="19"/>
                  </a:lnTo>
                  <a:lnTo>
                    <a:pt x="1748" y="24"/>
                  </a:lnTo>
                  <a:lnTo>
                    <a:pt x="1756" y="30"/>
                  </a:lnTo>
                  <a:lnTo>
                    <a:pt x="1763" y="37"/>
                  </a:lnTo>
                  <a:lnTo>
                    <a:pt x="1768" y="44"/>
                  </a:lnTo>
                  <a:lnTo>
                    <a:pt x="1772" y="52"/>
                  </a:lnTo>
                  <a:lnTo>
                    <a:pt x="1776" y="60"/>
                  </a:lnTo>
                  <a:lnTo>
                    <a:pt x="1778" y="69"/>
                  </a:lnTo>
                  <a:lnTo>
                    <a:pt x="1780" y="79"/>
                  </a:lnTo>
                  <a:lnTo>
                    <a:pt x="1780" y="89"/>
                  </a:lnTo>
                  <a:lnTo>
                    <a:pt x="1780" y="99"/>
                  </a:lnTo>
                  <a:lnTo>
                    <a:pt x="1778" y="109"/>
                  </a:lnTo>
                  <a:lnTo>
                    <a:pt x="1776" y="117"/>
                  </a:lnTo>
                  <a:lnTo>
                    <a:pt x="1773" y="126"/>
                  </a:lnTo>
                  <a:lnTo>
                    <a:pt x="1769" y="132"/>
                  </a:lnTo>
                  <a:lnTo>
                    <a:pt x="1764" y="139"/>
                  </a:lnTo>
                  <a:lnTo>
                    <a:pt x="1758" y="145"/>
                  </a:lnTo>
                  <a:lnTo>
                    <a:pt x="1751" y="151"/>
                  </a:lnTo>
                  <a:lnTo>
                    <a:pt x="1743" y="156"/>
                  </a:lnTo>
                  <a:lnTo>
                    <a:pt x="1735" y="160"/>
                  </a:lnTo>
                  <a:lnTo>
                    <a:pt x="1726" y="164"/>
                  </a:lnTo>
                  <a:lnTo>
                    <a:pt x="1715" y="166"/>
                  </a:lnTo>
                  <a:lnTo>
                    <a:pt x="1704" y="169"/>
                  </a:lnTo>
                  <a:lnTo>
                    <a:pt x="1692" y="170"/>
                  </a:lnTo>
                  <a:lnTo>
                    <a:pt x="1678" y="171"/>
                  </a:lnTo>
                  <a:lnTo>
                    <a:pt x="1665" y="171"/>
                  </a:lnTo>
                  <a:lnTo>
                    <a:pt x="1647" y="171"/>
                  </a:lnTo>
                  <a:lnTo>
                    <a:pt x="1639" y="171"/>
                  </a:lnTo>
                  <a:lnTo>
                    <a:pt x="1630" y="171"/>
                  </a:lnTo>
                  <a:lnTo>
                    <a:pt x="1609" y="170"/>
                  </a:lnTo>
                  <a:lnTo>
                    <a:pt x="1603" y="169"/>
                  </a:lnTo>
                  <a:lnTo>
                    <a:pt x="1598" y="169"/>
                  </a:lnTo>
                  <a:lnTo>
                    <a:pt x="1578" y="170"/>
                  </a:lnTo>
                  <a:lnTo>
                    <a:pt x="1560" y="171"/>
                  </a:lnTo>
                  <a:lnTo>
                    <a:pt x="1541" y="174"/>
                  </a:lnTo>
                  <a:lnTo>
                    <a:pt x="1523" y="177"/>
                  </a:lnTo>
                  <a:lnTo>
                    <a:pt x="1505" y="183"/>
                  </a:lnTo>
                  <a:lnTo>
                    <a:pt x="1488" y="188"/>
                  </a:lnTo>
                  <a:lnTo>
                    <a:pt x="1470" y="195"/>
                  </a:lnTo>
                  <a:lnTo>
                    <a:pt x="1454" y="204"/>
                  </a:lnTo>
                  <a:lnTo>
                    <a:pt x="1436" y="213"/>
                  </a:lnTo>
                  <a:lnTo>
                    <a:pt x="1419" y="224"/>
                  </a:lnTo>
                  <a:lnTo>
                    <a:pt x="1399" y="238"/>
                  </a:lnTo>
                  <a:lnTo>
                    <a:pt x="1380" y="252"/>
                  </a:lnTo>
                  <a:lnTo>
                    <a:pt x="1336" y="287"/>
                  </a:lnTo>
                  <a:lnTo>
                    <a:pt x="1289" y="330"/>
                  </a:lnTo>
                  <a:lnTo>
                    <a:pt x="1240" y="374"/>
                  </a:lnTo>
                  <a:lnTo>
                    <a:pt x="1198" y="407"/>
                  </a:lnTo>
                  <a:lnTo>
                    <a:pt x="1181" y="419"/>
                  </a:lnTo>
                  <a:lnTo>
                    <a:pt x="1165" y="429"/>
                  </a:lnTo>
                  <a:lnTo>
                    <a:pt x="1158" y="432"/>
                  </a:lnTo>
                  <a:lnTo>
                    <a:pt x="1152" y="436"/>
                  </a:lnTo>
                  <a:lnTo>
                    <a:pt x="1146" y="438"/>
                  </a:lnTo>
                  <a:lnTo>
                    <a:pt x="1141" y="440"/>
                  </a:lnTo>
                  <a:lnTo>
                    <a:pt x="1178" y="453"/>
                  </a:lnTo>
                  <a:lnTo>
                    <a:pt x="1212" y="466"/>
                  </a:lnTo>
                  <a:lnTo>
                    <a:pt x="1244" y="481"/>
                  </a:lnTo>
                  <a:lnTo>
                    <a:pt x="1273" y="495"/>
                  </a:lnTo>
                  <a:lnTo>
                    <a:pt x="1298" y="510"/>
                  </a:lnTo>
                  <a:lnTo>
                    <a:pt x="1321" y="525"/>
                  </a:lnTo>
                  <a:lnTo>
                    <a:pt x="1340" y="541"/>
                  </a:lnTo>
                  <a:lnTo>
                    <a:pt x="1358" y="557"/>
                  </a:lnTo>
                  <a:lnTo>
                    <a:pt x="1374" y="577"/>
                  </a:lnTo>
                  <a:lnTo>
                    <a:pt x="1394" y="602"/>
                  </a:lnTo>
                  <a:lnTo>
                    <a:pt x="1415" y="634"/>
                  </a:lnTo>
                  <a:lnTo>
                    <a:pt x="1437" y="671"/>
                  </a:lnTo>
                  <a:lnTo>
                    <a:pt x="1488" y="763"/>
                  </a:lnTo>
                  <a:lnTo>
                    <a:pt x="1547" y="878"/>
                  </a:lnTo>
                  <a:lnTo>
                    <a:pt x="1592" y="963"/>
                  </a:lnTo>
                  <a:lnTo>
                    <a:pt x="1614" y="999"/>
                  </a:lnTo>
                  <a:lnTo>
                    <a:pt x="1635" y="1032"/>
                  </a:lnTo>
                  <a:lnTo>
                    <a:pt x="1657" y="1062"/>
                  </a:lnTo>
                  <a:lnTo>
                    <a:pt x="1677" y="1088"/>
                  </a:lnTo>
                  <a:lnTo>
                    <a:pt x="1697" y="1110"/>
                  </a:lnTo>
                  <a:lnTo>
                    <a:pt x="1716" y="1127"/>
                  </a:lnTo>
                  <a:lnTo>
                    <a:pt x="1736" y="1143"/>
                  </a:lnTo>
                  <a:lnTo>
                    <a:pt x="1755" y="1156"/>
                  </a:lnTo>
                  <a:lnTo>
                    <a:pt x="1776" y="1167"/>
                  </a:lnTo>
                  <a:lnTo>
                    <a:pt x="1786" y="1171"/>
                  </a:lnTo>
                  <a:lnTo>
                    <a:pt x="1797" y="1175"/>
                  </a:lnTo>
                  <a:lnTo>
                    <a:pt x="1807" y="1179"/>
                  </a:lnTo>
                  <a:lnTo>
                    <a:pt x="1818" y="1182"/>
                  </a:lnTo>
                  <a:lnTo>
                    <a:pt x="1830" y="1185"/>
                  </a:lnTo>
                  <a:lnTo>
                    <a:pt x="1840" y="1187"/>
                  </a:lnTo>
                  <a:lnTo>
                    <a:pt x="1851" y="1189"/>
                  </a:lnTo>
                  <a:lnTo>
                    <a:pt x="1863" y="1190"/>
                  </a:lnTo>
                  <a:lnTo>
                    <a:pt x="1875" y="1191"/>
                  </a:lnTo>
                  <a:lnTo>
                    <a:pt x="1886" y="1191"/>
                  </a:lnTo>
                  <a:lnTo>
                    <a:pt x="1898" y="1191"/>
                  </a:lnTo>
                  <a:lnTo>
                    <a:pt x="1908" y="1190"/>
                  </a:lnTo>
                  <a:lnTo>
                    <a:pt x="1918" y="1189"/>
                  </a:lnTo>
                  <a:lnTo>
                    <a:pt x="1928" y="1188"/>
                  </a:lnTo>
                  <a:lnTo>
                    <a:pt x="1938" y="1185"/>
                  </a:lnTo>
                  <a:lnTo>
                    <a:pt x="1947" y="1183"/>
                  </a:lnTo>
                  <a:lnTo>
                    <a:pt x="1955" y="1179"/>
                  </a:lnTo>
                  <a:lnTo>
                    <a:pt x="1963" y="1176"/>
                  </a:lnTo>
                  <a:lnTo>
                    <a:pt x="1971" y="1173"/>
                  </a:lnTo>
                  <a:lnTo>
                    <a:pt x="1978" y="1168"/>
                  </a:lnTo>
                  <a:lnTo>
                    <a:pt x="1983" y="1165"/>
                  </a:lnTo>
                  <a:lnTo>
                    <a:pt x="1988" y="1161"/>
                  </a:lnTo>
                  <a:lnTo>
                    <a:pt x="1990" y="1160"/>
                  </a:lnTo>
                  <a:lnTo>
                    <a:pt x="1991" y="1158"/>
                  </a:lnTo>
                  <a:lnTo>
                    <a:pt x="1993" y="1156"/>
                  </a:lnTo>
                  <a:lnTo>
                    <a:pt x="1994" y="1155"/>
                  </a:lnTo>
                  <a:lnTo>
                    <a:pt x="1995" y="1153"/>
                  </a:lnTo>
                  <a:lnTo>
                    <a:pt x="1995" y="1151"/>
                  </a:lnTo>
                  <a:lnTo>
                    <a:pt x="1996" y="1150"/>
                  </a:lnTo>
                  <a:lnTo>
                    <a:pt x="1996" y="1148"/>
                  </a:lnTo>
                  <a:lnTo>
                    <a:pt x="1996" y="1146"/>
                  </a:lnTo>
                  <a:lnTo>
                    <a:pt x="1996" y="1145"/>
                  </a:lnTo>
                  <a:lnTo>
                    <a:pt x="1995" y="1142"/>
                  </a:lnTo>
                  <a:lnTo>
                    <a:pt x="1994" y="1139"/>
                  </a:lnTo>
                  <a:lnTo>
                    <a:pt x="1993" y="1136"/>
                  </a:lnTo>
                  <a:lnTo>
                    <a:pt x="1990" y="1127"/>
                  </a:lnTo>
                  <a:lnTo>
                    <a:pt x="1986" y="1118"/>
                  </a:lnTo>
                  <a:lnTo>
                    <a:pt x="1982" y="1111"/>
                  </a:lnTo>
                  <a:lnTo>
                    <a:pt x="1979" y="1104"/>
                  </a:lnTo>
                  <a:lnTo>
                    <a:pt x="1977" y="1097"/>
                  </a:lnTo>
                  <a:lnTo>
                    <a:pt x="1975" y="1091"/>
                  </a:lnTo>
                  <a:lnTo>
                    <a:pt x="1973" y="1084"/>
                  </a:lnTo>
                  <a:lnTo>
                    <a:pt x="1972" y="1078"/>
                  </a:lnTo>
                  <a:lnTo>
                    <a:pt x="1971" y="1073"/>
                  </a:lnTo>
                  <a:lnTo>
                    <a:pt x="1971" y="1067"/>
                  </a:lnTo>
                  <a:lnTo>
                    <a:pt x="1971" y="1060"/>
                  </a:lnTo>
                  <a:lnTo>
                    <a:pt x="1973" y="1053"/>
                  </a:lnTo>
                  <a:lnTo>
                    <a:pt x="1974" y="1048"/>
                  </a:lnTo>
                  <a:lnTo>
                    <a:pt x="1975" y="1045"/>
                  </a:lnTo>
                  <a:lnTo>
                    <a:pt x="1976" y="1042"/>
                  </a:lnTo>
                  <a:lnTo>
                    <a:pt x="1978" y="1038"/>
                  </a:lnTo>
                  <a:lnTo>
                    <a:pt x="1982" y="1031"/>
                  </a:lnTo>
                  <a:lnTo>
                    <a:pt x="1986" y="1026"/>
                  </a:lnTo>
                  <a:lnTo>
                    <a:pt x="1992" y="1019"/>
                  </a:lnTo>
                  <a:lnTo>
                    <a:pt x="1998" y="1013"/>
                  </a:lnTo>
                  <a:lnTo>
                    <a:pt x="2006" y="1007"/>
                  </a:lnTo>
                  <a:lnTo>
                    <a:pt x="2010" y="1004"/>
                  </a:lnTo>
                  <a:lnTo>
                    <a:pt x="2013" y="1003"/>
                  </a:lnTo>
                  <a:lnTo>
                    <a:pt x="2017" y="1000"/>
                  </a:lnTo>
                  <a:lnTo>
                    <a:pt x="2021" y="998"/>
                  </a:lnTo>
                  <a:lnTo>
                    <a:pt x="2025" y="997"/>
                  </a:lnTo>
                  <a:lnTo>
                    <a:pt x="2029" y="995"/>
                  </a:lnTo>
                  <a:lnTo>
                    <a:pt x="2034" y="993"/>
                  </a:lnTo>
                  <a:lnTo>
                    <a:pt x="2038" y="992"/>
                  </a:lnTo>
                  <a:lnTo>
                    <a:pt x="2043" y="992"/>
                  </a:lnTo>
                  <a:lnTo>
                    <a:pt x="2047" y="991"/>
                  </a:lnTo>
                  <a:lnTo>
                    <a:pt x="2056" y="989"/>
                  </a:lnTo>
                  <a:lnTo>
                    <a:pt x="2066" y="989"/>
                  </a:lnTo>
                  <a:lnTo>
                    <a:pt x="2077" y="989"/>
                  </a:lnTo>
                  <a:lnTo>
                    <a:pt x="2087" y="991"/>
                  </a:lnTo>
                  <a:lnTo>
                    <a:pt x="2091" y="992"/>
                  </a:lnTo>
                  <a:lnTo>
                    <a:pt x="2096" y="992"/>
                  </a:lnTo>
                  <a:lnTo>
                    <a:pt x="2101" y="994"/>
                  </a:lnTo>
                  <a:lnTo>
                    <a:pt x="2106" y="996"/>
                  </a:lnTo>
                  <a:lnTo>
                    <a:pt x="2111" y="997"/>
                  </a:lnTo>
                  <a:lnTo>
                    <a:pt x="2115" y="999"/>
                  </a:lnTo>
                  <a:lnTo>
                    <a:pt x="2124" y="1003"/>
                  </a:lnTo>
                  <a:lnTo>
                    <a:pt x="2132" y="1009"/>
                  </a:lnTo>
                  <a:lnTo>
                    <a:pt x="2141" y="1015"/>
                  </a:lnTo>
                  <a:lnTo>
                    <a:pt x="2145" y="1019"/>
                  </a:lnTo>
                  <a:lnTo>
                    <a:pt x="2148" y="1022"/>
                  </a:lnTo>
                  <a:lnTo>
                    <a:pt x="2152" y="1026"/>
                  </a:lnTo>
                  <a:lnTo>
                    <a:pt x="2155" y="1030"/>
                  </a:lnTo>
                  <a:lnTo>
                    <a:pt x="2158" y="1034"/>
                  </a:lnTo>
                  <a:lnTo>
                    <a:pt x="2160" y="1038"/>
                  </a:lnTo>
                  <a:lnTo>
                    <a:pt x="2163" y="1043"/>
                  </a:lnTo>
                  <a:lnTo>
                    <a:pt x="2165" y="1048"/>
                  </a:lnTo>
                  <a:lnTo>
                    <a:pt x="2168" y="1057"/>
                  </a:lnTo>
                  <a:lnTo>
                    <a:pt x="2171" y="1067"/>
                  </a:lnTo>
                  <a:lnTo>
                    <a:pt x="2173" y="1078"/>
                  </a:lnTo>
                  <a:lnTo>
                    <a:pt x="2174" y="1090"/>
                  </a:lnTo>
                  <a:lnTo>
                    <a:pt x="2174" y="1100"/>
                  </a:lnTo>
                  <a:lnTo>
                    <a:pt x="2173" y="1110"/>
                  </a:lnTo>
                  <a:lnTo>
                    <a:pt x="2170" y="1121"/>
                  </a:lnTo>
                  <a:lnTo>
                    <a:pt x="2168" y="1130"/>
                  </a:lnTo>
                  <a:lnTo>
                    <a:pt x="2165" y="1139"/>
                  </a:lnTo>
                  <a:lnTo>
                    <a:pt x="2161" y="1149"/>
                  </a:lnTo>
                  <a:lnTo>
                    <a:pt x="2156" y="1158"/>
                  </a:lnTo>
                  <a:lnTo>
                    <a:pt x="2151" y="1167"/>
                  </a:lnTo>
                  <a:lnTo>
                    <a:pt x="2146" y="1176"/>
                  </a:lnTo>
                  <a:lnTo>
                    <a:pt x="2139" y="1184"/>
                  </a:lnTo>
                  <a:lnTo>
                    <a:pt x="2131" y="1193"/>
                  </a:lnTo>
                  <a:lnTo>
                    <a:pt x="2123" y="1201"/>
                  </a:lnTo>
                  <a:lnTo>
                    <a:pt x="2106" y="1217"/>
                  </a:lnTo>
                  <a:lnTo>
                    <a:pt x="2085" y="1232"/>
                  </a:lnTo>
                  <a:lnTo>
                    <a:pt x="2062" y="1246"/>
                  </a:lnTo>
                  <a:lnTo>
                    <a:pt x="2038" y="1258"/>
                  </a:lnTo>
                  <a:lnTo>
                    <a:pt x="2013" y="1268"/>
                  </a:lnTo>
                  <a:lnTo>
                    <a:pt x="1986" y="1276"/>
                  </a:lnTo>
                  <a:lnTo>
                    <a:pt x="1957" y="1282"/>
                  </a:lnTo>
                  <a:lnTo>
                    <a:pt x="1927" y="1287"/>
                  </a:lnTo>
                  <a:lnTo>
                    <a:pt x="1897" y="1290"/>
                  </a:lnTo>
                  <a:lnTo>
                    <a:pt x="1865" y="1291"/>
                  </a:lnTo>
                  <a:lnTo>
                    <a:pt x="1829" y="1290"/>
                  </a:lnTo>
                  <a:lnTo>
                    <a:pt x="1794" y="1286"/>
                  </a:lnTo>
                  <a:lnTo>
                    <a:pt x="1759" y="1281"/>
                  </a:lnTo>
                  <a:lnTo>
                    <a:pt x="1726" y="1274"/>
                  </a:lnTo>
                  <a:lnTo>
                    <a:pt x="1693" y="1264"/>
                  </a:lnTo>
                  <a:lnTo>
                    <a:pt x="1661" y="1253"/>
                  </a:lnTo>
                  <a:lnTo>
                    <a:pt x="1630" y="1240"/>
                  </a:lnTo>
                  <a:lnTo>
                    <a:pt x="1600" y="1224"/>
                  </a:lnTo>
                  <a:lnTo>
                    <a:pt x="1571" y="1206"/>
                  </a:lnTo>
                  <a:lnTo>
                    <a:pt x="1543" y="1187"/>
                  </a:lnTo>
                  <a:lnTo>
                    <a:pt x="1517" y="1166"/>
                  </a:lnTo>
                  <a:lnTo>
                    <a:pt x="1491" y="1144"/>
                  </a:lnTo>
                  <a:lnTo>
                    <a:pt x="1467" y="1119"/>
                  </a:lnTo>
                  <a:lnTo>
                    <a:pt x="1444" y="1093"/>
                  </a:lnTo>
                  <a:lnTo>
                    <a:pt x="1423" y="1066"/>
                  </a:lnTo>
                  <a:lnTo>
                    <a:pt x="1402" y="1037"/>
                  </a:lnTo>
                  <a:lnTo>
                    <a:pt x="1362" y="972"/>
                  </a:lnTo>
                  <a:lnTo>
                    <a:pt x="1319" y="894"/>
                  </a:lnTo>
                  <a:lnTo>
                    <a:pt x="1275" y="804"/>
                  </a:lnTo>
                  <a:lnTo>
                    <a:pt x="1227" y="702"/>
                  </a:lnTo>
                  <a:lnTo>
                    <a:pt x="1200" y="645"/>
                  </a:lnTo>
                  <a:lnTo>
                    <a:pt x="1177" y="599"/>
                  </a:lnTo>
                  <a:lnTo>
                    <a:pt x="1166" y="581"/>
                  </a:lnTo>
                  <a:lnTo>
                    <a:pt x="1156" y="566"/>
                  </a:lnTo>
                  <a:lnTo>
                    <a:pt x="1147" y="553"/>
                  </a:lnTo>
                  <a:lnTo>
                    <a:pt x="1143" y="548"/>
                  </a:lnTo>
                  <a:lnTo>
                    <a:pt x="1139" y="544"/>
                  </a:lnTo>
                  <a:lnTo>
                    <a:pt x="1105" y="514"/>
                  </a:lnTo>
                  <a:lnTo>
                    <a:pt x="1088" y="499"/>
                  </a:lnTo>
                  <a:lnTo>
                    <a:pt x="1071" y="486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70120" y="1312920"/>
              <a:ext cx="287280" cy="322200"/>
            </a:xfrm>
            <a:custGeom>
              <a:avLst/>
              <a:gdLst/>
              <a:ahLst/>
              <a:rect l="l" t="t" r="r" b="b"/>
              <a:pathLst>
                <a:path w="796" h="895">
                  <a:moveTo>
                    <a:pt x="665" y="583"/>
                  </a:moveTo>
                  <a:lnTo>
                    <a:pt x="724" y="649"/>
                  </a:lnTo>
                  <a:lnTo>
                    <a:pt x="649" y="707"/>
                  </a:lnTo>
                  <a:lnTo>
                    <a:pt x="577" y="757"/>
                  </a:lnTo>
                  <a:lnTo>
                    <a:pt x="507" y="798"/>
                  </a:lnTo>
                  <a:lnTo>
                    <a:pt x="440" y="833"/>
                  </a:lnTo>
                  <a:lnTo>
                    <a:pt x="376" y="860"/>
                  </a:lnTo>
                  <a:lnTo>
                    <a:pt x="344" y="871"/>
                  </a:lnTo>
                  <a:lnTo>
                    <a:pt x="314" y="879"/>
                  </a:lnTo>
                  <a:lnTo>
                    <a:pt x="284" y="886"/>
                  </a:lnTo>
                  <a:lnTo>
                    <a:pt x="255" y="890"/>
                  </a:lnTo>
                  <a:lnTo>
                    <a:pt x="227" y="894"/>
                  </a:lnTo>
                  <a:lnTo>
                    <a:pt x="199" y="894"/>
                  </a:lnTo>
                  <a:lnTo>
                    <a:pt x="175" y="894"/>
                  </a:lnTo>
                  <a:lnTo>
                    <a:pt x="154" y="891"/>
                  </a:lnTo>
                  <a:lnTo>
                    <a:pt x="142" y="889"/>
                  </a:lnTo>
                  <a:lnTo>
                    <a:pt x="132" y="887"/>
                  </a:lnTo>
                  <a:lnTo>
                    <a:pt x="123" y="884"/>
                  </a:lnTo>
                  <a:lnTo>
                    <a:pt x="113" y="881"/>
                  </a:lnTo>
                  <a:lnTo>
                    <a:pt x="104" y="877"/>
                  </a:lnTo>
                  <a:lnTo>
                    <a:pt x="95" y="873"/>
                  </a:lnTo>
                  <a:lnTo>
                    <a:pt x="87" y="869"/>
                  </a:lnTo>
                  <a:lnTo>
                    <a:pt x="79" y="865"/>
                  </a:lnTo>
                  <a:lnTo>
                    <a:pt x="71" y="859"/>
                  </a:lnTo>
                  <a:lnTo>
                    <a:pt x="64" y="854"/>
                  </a:lnTo>
                  <a:lnTo>
                    <a:pt x="57" y="848"/>
                  </a:lnTo>
                  <a:lnTo>
                    <a:pt x="51" y="841"/>
                  </a:lnTo>
                  <a:lnTo>
                    <a:pt x="44" y="834"/>
                  </a:lnTo>
                  <a:lnTo>
                    <a:pt x="39" y="826"/>
                  </a:lnTo>
                  <a:lnTo>
                    <a:pt x="34" y="819"/>
                  </a:lnTo>
                  <a:lnTo>
                    <a:pt x="29" y="810"/>
                  </a:lnTo>
                  <a:lnTo>
                    <a:pt x="20" y="792"/>
                  </a:lnTo>
                  <a:lnTo>
                    <a:pt x="13" y="773"/>
                  </a:lnTo>
                  <a:lnTo>
                    <a:pt x="7" y="752"/>
                  </a:lnTo>
                  <a:lnTo>
                    <a:pt x="3" y="729"/>
                  </a:lnTo>
                  <a:lnTo>
                    <a:pt x="1" y="703"/>
                  </a:lnTo>
                  <a:lnTo>
                    <a:pt x="0" y="676"/>
                  </a:lnTo>
                  <a:lnTo>
                    <a:pt x="2" y="622"/>
                  </a:lnTo>
                  <a:lnTo>
                    <a:pt x="10" y="568"/>
                  </a:lnTo>
                  <a:lnTo>
                    <a:pt x="23" y="515"/>
                  </a:lnTo>
                  <a:lnTo>
                    <a:pt x="39" y="461"/>
                  </a:lnTo>
                  <a:lnTo>
                    <a:pt x="62" y="407"/>
                  </a:lnTo>
                  <a:lnTo>
                    <a:pt x="89" y="354"/>
                  </a:lnTo>
                  <a:lnTo>
                    <a:pt x="122" y="300"/>
                  </a:lnTo>
                  <a:lnTo>
                    <a:pt x="159" y="247"/>
                  </a:lnTo>
                  <a:lnTo>
                    <a:pt x="205" y="189"/>
                  </a:lnTo>
                  <a:lnTo>
                    <a:pt x="253" y="139"/>
                  </a:lnTo>
                  <a:lnTo>
                    <a:pt x="279" y="117"/>
                  </a:lnTo>
                  <a:lnTo>
                    <a:pt x="305" y="96"/>
                  </a:lnTo>
                  <a:lnTo>
                    <a:pt x="331" y="79"/>
                  </a:lnTo>
                  <a:lnTo>
                    <a:pt x="358" y="62"/>
                  </a:lnTo>
                  <a:lnTo>
                    <a:pt x="385" y="48"/>
                  </a:lnTo>
                  <a:lnTo>
                    <a:pt x="414" y="35"/>
                  </a:lnTo>
                  <a:lnTo>
                    <a:pt x="443" y="24"/>
                  </a:lnTo>
                  <a:lnTo>
                    <a:pt x="472" y="16"/>
                  </a:lnTo>
                  <a:lnTo>
                    <a:pt x="502" y="9"/>
                  </a:lnTo>
                  <a:lnTo>
                    <a:pt x="532" y="5"/>
                  </a:lnTo>
                  <a:lnTo>
                    <a:pt x="563" y="1"/>
                  </a:lnTo>
                  <a:lnTo>
                    <a:pt x="595" y="0"/>
                  </a:lnTo>
                  <a:lnTo>
                    <a:pt x="618" y="1"/>
                  </a:lnTo>
                  <a:lnTo>
                    <a:pt x="640" y="3"/>
                  </a:lnTo>
                  <a:lnTo>
                    <a:pt x="660" y="6"/>
                  </a:lnTo>
                  <a:lnTo>
                    <a:pt x="680" y="11"/>
                  </a:lnTo>
                  <a:lnTo>
                    <a:pt x="697" y="17"/>
                  </a:lnTo>
                  <a:lnTo>
                    <a:pt x="705" y="20"/>
                  </a:lnTo>
                  <a:lnTo>
                    <a:pt x="714" y="23"/>
                  </a:lnTo>
                  <a:lnTo>
                    <a:pt x="721" y="28"/>
                  </a:lnTo>
                  <a:lnTo>
                    <a:pt x="729" y="32"/>
                  </a:lnTo>
                  <a:lnTo>
                    <a:pt x="735" y="36"/>
                  </a:lnTo>
                  <a:lnTo>
                    <a:pt x="743" y="41"/>
                  </a:lnTo>
                  <a:lnTo>
                    <a:pt x="749" y="46"/>
                  </a:lnTo>
                  <a:lnTo>
                    <a:pt x="755" y="52"/>
                  </a:lnTo>
                  <a:lnTo>
                    <a:pt x="760" y="58"/>
                  </a:lnTo>
                  <a:lnTo>
                    <a:pt x="765" y="64"/>
                  </a:lnTo>
                  <a:lnTo>
                    <a:pt x="770" y="70"/>
                  </a:lnTo>
                  <a:lnTo>
                    <a:pt x="774" y="76"/>
                  </a:lnTo>
                  <a:lnTo>
                    <a:pt x="779" y="83"/>
                  </a:lnTo>
                  <a:lnTo>
                    <a:pt x="782" y="90"/>
                  </a:lnTo>
                  <a:lnTo>
                    <a:pt x="785" y="96"/>
                  </a:lnTo>
                  <a:lnTo>
                    <a:pt x="788" y="104"/>
                  </a:lnTo>
                  <a:lnTo>
                    <a:pt x="792" y="119"/>
                  </a:lnTo>
                  <a:lnTo>
                    <a:pt x="794" y="135"/>
                  </a:lnTo>
                  <a:lnTo>
                    <a:pt x="795" y="152"/>
                  </a:lnTo>
                  <a:lnTo>
                    <a:pt x="794" y="170"/>
                  </a:lnTo>
                  <a:lnTo>
                    <a:pt x="791" y="187"/>
                  </a:lnTo>
                  <a:lnTo>
                    <a:pt x="787" y="204"/>
                  </a:lnTo>
                  <a:lnTo>
                    <a:pt x="781" y="221"/>
                  </a:lnTo>
                  <a:lnTo>
                    <a:pt x="772" y="238"/>
                  </a:lnTo>
                  <a:lnTo>
                    <a:pt x="762" y="255"/>
                  </a:lnTo>
                  <a:lnTo>
                    <a:pt x="751" y="271"/>
                  </a:lnTo>
                  <a:lnTo>
                    <a:pt x="737" y="288"/>
                  </a:lnTo>
                  <a:lnTo>
                    <a:pt x="722" y="304"/>
                  </a:lnTo>
                  <a:lnTo>
                    <a:pt x="704" y="321"/>
                  </a:lnTo>
                  <a:lnTo>
                    <a:pt x="684" y="337"/>
                  </a:lnTo>
                  <a:lnTo>
                    <a:pt x="662" y="353"/>
                  </a:lnTo>
                  <a:lnTo>
                    <a:pt x="638" y="369"/>
                  </a:lnTo>
                  <a:lnTo>
                    <a:pt x="610" y="385"/>
                  </a:lnTo>
                  <a:lnTo>
                    <a:pt x="581" y="402"/>
                  </a:lnTo>
                  <a:lnTo>
                    <a:pt x="549" y="417"/>
                  </a:lnTo>
                  <a:lnTo>
                    <a:pt x="499" y="440"/>
                  </a:lnTo>
                  <a:lnTo>
                    <a:pt x="433" y="467"/>
                  </a:lnTo>
                  <a:lnTo>
                    <a:pt x="251" y="537"/>
                  </a:lnTo>
                  <a:lnTo>
                    <a:pt x="248" y="557"/>
                  </a:lnTo>
                  <a:lnTo>
                    <a:pt x="245" y="579"/>
                  </a:lnTo>
                  <a:lnTo>
                    <a:pt x="244" y="601"/>
                  </a:lnTo>
                  <a:lnTo>
                    <a:pt x="243" y="624"/>
                  </a:lnTo>
                  <a:lnTo>
                    <a:pt x="243" y="639"/>
                  </a:lnTo>
                  <a:lnTo>
                    <a:pt x="244" y="653"/>
                  </a:lnTo>
                  <a:lnTo>
                    <a:pt x="246" y="665"/>
                  </a:lnTo>
                  <a:lnTo>
                    <a:pt x="248" y="676"/>
                  </a:lnTo>
                  <a:lnTo>
                    <a:pt x="251" y="686"/>
                  </a:lnTo>
                  <a:lnTo>
                    <a:pt x="253" y="690"/>
                  </a:lnTo>
                  <a:lnTo>
                    <a:pt x="254" y="695"/>
                  </a:lnTo>
                  <a:lnTo>
                    <a:pt x="257" y="698"/>
                  </a:lnTo>
                  <a:lnTo>
                    <a:pt x="259" y="702"/>
                  </a:lnTo>
                  <a:lnTo>
                    <a:pt x="262" y="705"/>
                  </a:lnTo>
                  <a:lnTo>
                    <a:pt x="264" y="707"/>
                  </a:lnTo>
                  <a:lnTo>
                    <a:pt x="267" y="710"/>
                  </a:lnTo>
                  <a:lnTo>
                    <a:pt x="269" y="713"/>
                  </a:lnTo>
                  <a:lnTo>
                    <a:pt x="272" y="715"/>
                  </a:lnTo>
                  <a:lnTo>
                    <a:pt x="275" y="717"/>
                  </a:lnTo>
                  <a:lnTo>
                    <a:pt x="278" y="719"/>
                  </a:lnTo>
                  <a:lnTo>
                    <a:pt x="281" y="720"/>
                  </a:lnTo>
                  <a:lnTo>
                    <a:pt x="285" y="722"/>
                  </a:lnTo>
                  <a:lnTo>
                    <a:pt x="288" y="724"/>
                  </a:lnTo>
                  <a:lnTo>
                    <a:pt x="293" y="724"/>
                  </a:lnTo>
                  <a:lnTo>
                    <a:pt x="296" y="726"/>
                  </a:lnTo>
                  <a:lnTo>
                    <a:pt x="300" y="727"/>
                  </a:lnTo>
                  <a:lnTo>
                    <a:pt x="304" y="727"/>
                  </a:lnTo>
                  <a:lnTo>
                    <a:pt x="313" y="729"/>
                  </a:lnTo>
                  <a:lnTo>
                    <a:pt x="322" y="729"/>
                  </a:lnTo>
                  <a:lnTo>
                    <a:pt x="334" y="729"/>
                  </a:lnTo>
                  <a:lnTo>
                    <a:pt x="345" y="727"/>
                  </a:lnTo>
                  <a:lnTo>
                    <a:pt x="356" y="726"/>
                  </a:lnTo>
                  <a:lnTo>
                    <a:pt x="368" y="724"/>
                  </a:lnTo>
                  <a:lnTo>
                    <a:pt x="380" y="720"/>
                  </a:lnTo>
                  <a:lnTo>
                    <a:pt x="392" y="717"/>
                  </a:lnTo>
                  <a:lnTo>
                    <a:pt x="406" y="713"/>
                  </a:lnTo>
                  <a:lnTo>
                    <a:pt x="419" y="707"/>
                  </a:lnTo>
                  <a:lnTo>
                    <a:pt x="440" y="699"/>
                  </a:lnTo>
                  <a:lnTo>
                    <a:pt x="463" y="689"/>
                  </a:lnTo>
                  <a:lnTo>
                    <a:pt x="519" y="662"/>
                  </a:lnTo>
                  <a:lnTo>
                    <a:pt x="587" y="627"/>
                  </a:lnTo>
                  <a:close/>
                  <a:moveTo>
                    <a:pt x="268" y="440"/>
                  </a:moveTo>
                  <a:lnTo>
                    <a:pt x="340" y="406"/>
                  </a:lnTo>
                  <a:lnTo>
                    <a:pt x="404" y="373"/>
                  </a:lnTo>
                  <a:lnTo>
                    <a:pt x="433" y="356"/>
                  </a:lnTo>
                  <a:lnTo>
                    <a:pt x="459" y="339"/>
                  </a:lnTo>
                  <a:lnTo>
                    <a:pt x="484" y="322"/>
                  </a:lnTo>
                  <a:lnTo>
                    <a:pt x="507" y="305"/>
                  </a:lnTo>
                  <a:lnTo>
                    <a:pt x="522" y="289"/>
                  </a:lnTo>
                  <a:lnTo>
                    <a:pt x="536" y="274"/>
                  </a:lnTo>
                  <a:lnTo>
                    <a:pt x="547" y="260"/>
                  </a:lnTo>
                  <a:lnTo>
                    <a:pt x="556" y="246"/>
                  </a:lnTo>
                  <a:lnTo>
                    <a:pt x="563" y="232"/>
                  </a:lnTo>
                  <a:lnTo>
                    <a:pt x="566" y="226"/>
                  </a:lnTo>
                  <a:lnTo>
                    <a:pt x="569" y="219"/>
                  </a:lnTo>
                  <a:lnTo>
                    <a:pt x="571" y="213"/>
                  </a:lnTo>
                  <a:lnTo>
                    <a:pt x="572" y="206"/>
                  </a:lnTo>
                  <a:lnTo>
                    <a:pt x="573" y="200"/>
                  </a:lnTo>
                  <a:lnTo>
                    <a:pt x="573" y="194"/>
                  </a:lnTo>
                  <a:lnTo>
                    <a:pt x="573" y="186"/>
                  </a:lnTo>
                  <a:lnTo>
                    <a:pt x="572" y="178"/>
                  </a:lnTo>
                  <a:lnTo>
                    <a:pt x="570" y="170"/>
                  </a:lnTo>
                  <a:lnTo>
                    <a:pt x="567" y="164"/>
                  </a:lnTo>
                  <a:lnTo>
                    <a:pt x="564" y="157"/>
                  </a:lnTo>
                  <a:lnTo>
                    <a:pt x="561" y="151"/>
                  </a:lnTo>
                  <a:lnTo>
                    <a:pt x="559" y="148"/>
                  </a:lnTo>
                  <a:lnTo>
                    <a:pt x="557" y="146"/>
                  </a:lnTo>
                  <a:lnTo>
                    <a:pt x="554" y="143"/>
                  </a:lnTo>
                  <a:lnTo>
                    <a:pt x="552" y="141"/>
                  </a:lnTo>
                  <a:lnTo>
                    <a:pt x="550" y="138"/>
                  </a:lnTo>
                  <a:lnTo>
                    <a:pt x="547" y="136"/>
                  </a:lnTo>
                  <a:lnTo>
                    <a:pt x="544" y="134"/>
                  </a:lnTo>
                  <a:lnTo>
                    <a:pt x="542" y="132"/>
                  </a:lnTo>
                  <a:lnTo>
                    <a:pt x="539" y="130"/>
                  </a:lnTo>
                  <a:lnTo>
                    <a:pt x="536" y="129"/>
                  </a:lnTo>
                  <a:lnTo>
                    <a:pt x="532" y="128"/>
                  </a:lnTo>
                  <a:lnTo>
                    <a:pt x="529" y="126"/>
                  </a:lnTo>
                  <a:lnTo>
                    <a:pt x="525" y="125"/>
                  </a:lnTo>
                  <a:lnTo>
                    <a:pt x="522" y="125"/>
                  </a:lnTo>
                  <a:lnTo>
                    <a:pt x="519" y="124"/>
                  </a:lnTo>
                  <a:lnTo>
                    <a:pt x="515" y="123"/>
                  </a:lnTo>
                  <a:lnTo>
                    <a:pt x="508" y="122"/>
                  </a:lnTo>
                  <a:lnTo>
                    <a:pt x="501" y="122"/>
                  </a:lnTo>
                  <a:lnTo>
                    <a:pt x="496" y="122"/>
                  </a:lnTo>
                  <a:lnTo>
                    <a:pt x="491" y="123"/>
                  </a:lnTo>
                  <a:lnTo>
                    <a:pt x="481" y="124"/>
                  </a:lnTo>
                  <a:lnTo>
                    <a:pt x="470" y="126"/>
                  </a:lnTo>
                  <a:lnTo>
                    <a:pt x="458" y="129"/>
                  </a:lnTo>
                  <a:lnTo>
                    <a:pt x="445" y="133"/>
                  </a:lnTo>
                  <a:lnTo>
                    <a:pt x="432" y="137"/>
                  </a:lnTo>
                  <a:lnTo>
                    <a:pt x="401" y="149"/>
                  </a:lnTo>
                  <a:lnTo>
                    <a:pt x="346" y="226"/>
                  </a:lnTo>
                  <a:lnTo>
                    <a:pt x="320" y="287"/>
                  </a:lnTo>
                  <a:lnTo>
                    <a:pt x="299" y="343"/>
                  </a:lnTo>
                  <a:lnTo>
                    <a:pt x="281" y="39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76480" y="1314360"/>
              <a:ext cx="392040" cy="324000"/>
            </a:xfrm>
            <a:custGeom>
              <a:avLst/>
              <a:gdLst/>
              <a:ahLst/>
              <a:rect l="l" t="t" r="r" b="b"/>
              <a:pathLst>
                <a:path w="1091" h="901">
                  <a:moveTo>
                    <a:pt x="1090" y="675"/>
                  </a:moveTo>
                  <a:lnTo>
                    <a:pt x="1028" y="727"/>
                  </a:lnTo>
                  <a:lnTo>
                    <a:pt x="972" y="773"/>
                  </a:lnTo>
                  <a:lnTo>
                    <a:pt x="918" y="812"/>
                  </a:lnTo>
                  <a:lnTo>
                    <a:pt x="869" y="844"/>
                  </a:lnTo>
                  <a:lnTo>
                    <a:pt x="823" y="868"/>
                  </a:lnTo>
                  <a:lnTo>
                    <a:pt x="802" y="878"/>
                  </a:lnTo>
                  <a:lnTo>
                    <a:pt x="782" y="885"/>
                  </a:lnTo>
                  <a:lnTo>
                    <a:pt x="763" y="892"/>
                  </a:lnTo>
                  <a:lnTo>
                    <a:pt x="744" y="896"/>
                  </a:lnTo>
                  <a:lnTo>
                    <a:pt x="728" y="899"/>
                  </a:lnTo>
                  <a:lnTo>
                    <a:pt x="711" y="900"/>
                  </a:lnTo>
                  <a:lnTo>
                    <a:pt x="706" y="900"/>
                  </a:lnTo>
                  <a:lnTo>
                    <a:pt x="700" y="899"/>
                  </a:lnTo>
                  <a:lnTo>
                    <a:pt x="695" y="899"/>
                  </a:lnTo>
                  <a:lnTo>
                    <a:pt x="690" y="898"/>
                  </a:lnTo>
                  <a:lnTo>
                    <a:pt x="684" y="896"/>
                  </a:lnTo>
                  <a:lnTo>
                    <a:pt x="679" y="896"/>
                  </a:lnTo>
                  <a:lnTo>
                    <a:pt x="674" y="894"/>
                  </a:lnTo>
                  <a:lnTo>
                    <a:pt x="669" y="892"/>
                  </a:lnTo>
                  <a:lnTo>
                    <a:pt x="664" y="890"/>
                  </a:lnTo>
                  <a:lnTo>
                    <a:pt x="659" y="888"/>
                  </a:lnTo>
                  <a:lnTo>
                    <a:pt x="649" y="883"/>
                  </a:lnTo>
                  <a:lnTo>
                    <a:pt x="640" y="876"/>
                  </a:lnTo>
                  <a:lnTo>
                    <a:pt x="631" y="869"/>
                  </a:lnTo>
                  <a:lnTo>
                    <a:pt x="627" y="866"/>
                  </a:lnTo>
                  <a:lnTo>
                    <a:pt x="623" y="862"/>
                  </a:lnTo>
                  <a:lnTo>
                    <a:pt x="619" y="857"/>
                  </a:lnTo>
                  <a:lnTo>
                    <a:pt x="614" y="853"/>
                  </a:lnTo>
                  <a:lnTo>
                    <a:pt x="611" y="849"/>
                  </a:lnTo>
                  <a:lnTo>
                    <a:pt x="608" y="844"/>
                  </a:lnTo>
                  <a:lnTo>
                    <a:pt x="606" y="839"/>
                  </a:lnTo>
                  <a:lnTo>
                    <a:pt x="604" y="833"/>
                  </a:lnTo>
                  <a:lnTo>
                    <a:pt x="600" y="823"/>
                  </a:lnTo>
                  <a:lnTo>
                    <a:pt x="597" y="812"/>
                  </a:lnTo>
                  <a:lnTo>
                    <a:pt x="596" y="800"/>
                  </a:lnTo>
                  <a:lnTo>
                    <a:pt x="595" y="788"/>
                  </a:lnTo>
                  <a:lnTo>
                    <a:pt x="595" y="774"/>
                  </a:lnTo>
                  <a:lnTo>
                    <a:pt x="596" y="759"/>
                  </a:lnTo>
                  <a:lnTo>
                    <a:pt x="598" y="743"/>
                  </a:lnTo>
                  <a:lnTo>
                    <a:pt x="601" y="727"/>
                  </a:lnTo>
                  <a:lnTo>
                    <a:pt x="608" y="692"/>
                  </a:lnTo>
                  <a:lnTo>
                    <a:pt x="619" y="653"/>
                  </a:lnTo>
                  <a:lnTo>
                    <a:pt x="675" y="484"/>
                  </a:lnTo>
                  <a:lnTo>
                    <a:pt x="391" y="484"/>
                  </a:lnTo>
                  <a:lnTo>
                    <a:pt x="280" y="866"/>
                  </a:lnTo>
                  <a:lnTo>
                    <a:pt x="57" y="866"/>
                  </a:lnTo>
                  <a:lnTo>
                    <a:pt x="58" y="856"/>
                  </a:lnTo>
                  <a:lnTo>
                    <a:pt x="60" y="846"/>
                  </a:lnTo>
                  <a:lnTo>
                    <a:pt x="66" y="822"/>
                  </a:lnTo>
                  <a:lnTo>
                    <a:pt x="73" y="794"/>
                  </a:lnTo>
                  <a:lnTo>
                    <a:pt x="83" y="760"/>
                  </a:lnTo>
                  <a:lnTo>
                    <a:pt x="93" y="732"/>
                  </a:lnTo>
                  <a:lnTo>
                    <a:pt x="107" y="688"/>
                  </a:lnTo>
                  <a:lnTo>
                    <a:pt x="146" y="559"/>
                  </a:lnTo>
                  <a:lnTo>
                    <a:pt x="252" y="208"/>
                  </a:lnTo>
                  <a:lnTo>
                    <a:pt x="255" y="195"/>
                  </a:lnTo>
                  <a:lnTo>
                    <a:pt x="258" y="185"/>
                  </a:lnTo>
                  <a:lnTo>
                    <a:pt x="259" y="177"/>
                  </a:lnTo>
                  <a:lnTo>
                    <a:pt x="260" y="173"/>
                  </a:lnTo>
                  <a:lnTo>
                    <a:pt x="260" y="170"/>
                  </a:lnTo>
                  <a:lnTo>
                    <a:pt x="260" y="166"/>
                  </a:lnTo>
                  <a:lnTo>
                    <a:pt x="260" y="163"/>
                  </a:lnTo>
                  <a:lnTo>
                    <a:pt x="260" y="161"/>
                  </a:lnTo>
                  <a:lnTo>
                    <a:pt x="260" y="161"/>
                  </a:lnTo>
                  <a:lnTo>
                    <a:pt x="260" y="161"/>
                  </a:lnTo>
                  <a:lnTo>
                    <a:pt x="260" y="160"/>
                  </a:lnTo>
                  <a:lnTo>
                    <a:pt x="259" y="160"/>
                  </a:lnTo>
                  <a:lnTo>
                    <a:pt x="259" y="160"/>
                  </a:lnTo>
                  <a:lnTo>
                    <a:pt x="259" y="160"/>
                  </a:lnTo>
                  <a:lnTo>
                    <a:pt x="259" y="160"/>
                  </a:lnTo>
                  <a:lnTo>
                    <a:pt x="259" y="160"/>
                  </a:lnTo>
                  <a:lnTo>
                    <a:pt x="259" y="160"/>
                  </a:lnTo>
                  <a:lnTo>
                    <a:pt x="259" y="160"/>
                  </a:lnTo>
                  <a:lnTo>
                    <a:pt x="256" y="160"/>
                  </a:lnTo>
                  <a:lnTo>
                    <a:pt x="254" y="160"/>
                  </a:lnTo>
                  <a:lnTo>
                    <a:pt x="247" y="162"/>
                  </a:lnTo>
                  <a:lnTo>
                    <a:pt x="240" y="164"/>
                  </a:lnTo>
                  <a:lnTo>
                    <a:pt x="232" y="167"/>
                  </a:lnTo>
                  <a:lnTo>
                    <a:pt x="214" y="175"/>
                  </a:lnTo>
                  <a:lnTo>
                    <a:pt x="193" y="187"/>
                  </a:lnTo>
                  <a:lnTo>
                    <a:pt x="169" y="201"/>
                  </a:lnTo>
                  <a:lnTo>
                    <a:pt x="142" y="219"/>
                  </a:lnTo>
                  <a:lnTo>
                    <a:pt x="78" y="265"/>
                  </a:lnTo>
                  <a:lnTo>
                    <a:pt x="0" y="213"/>
                  </a:lnTo>
                  <a:lnTo>
                    <a:pt x="65" y="163"/>
                  </a:lnTo>
                  <a:lnTo>
                    <a:pt x="124" y="120"/>
                  </a:lnTo>
                  <a:lnTo>
                    <a:pt x="181" y="83"/>
                  </a:lnTo>
                  <a:lnTo>
                    <a:pt x="233" y="53"/>
                  </a:lnTo>
                  <a:lnTo>
                    <a:pt x="282" y="30"/>
                  </a:lnTo>
                  <a:lnTo>
                    <a:pt x="304" y="21"/>
                  </a:lnTo>
                  <a:lnTo>
                    <a:pt x="326" y="13"/>
                  </a:lnTo>
                  <a:lnTo>
                    <a:pt x="347" y="7"/>
                  </a:lnTo>
                  <a:lnTo>
                    <a:pt x="366" y="3"/>
                  </a:lnTo>
                  <a:lnTo>
                    <a:pt x="385" y="1"/>
                  </a:lnTo>
                  <a:lnTo>
                    <a:pt x="402" y="0"/>
                  </a:lnTo>
                  <a:lnTo>
                    <a:pt x="414" y="0"/>
                  </a:lnTo>
                  <a:lnTo>
                    <a:pt x="424" y="2"/>
                  </a:lnTo>
                  <a:lnTo>
                    <a:pt x="433" y="3"/>
                  </a:lnTo>
                  <a:lnTo>
                    <a:pt x="442" y="6"/>
                  </a:lnTo>
                  <a:lnTo>
                    <a:pt x="451" y="9"/>
                  </a:lnTo>
                  <a:lnTo>
                    <a:pt x="458" y="13"/>
                  </a:lnTo>
                  <a:lnTo>
                    <a:pt x="465" y="18"/>
                  </a:lnTo>
                  <a:lnTo>
                    <a:pt x="471" y="23"/>
                  </a:lnTo>
                  <a:lnTo>
                    <a:pt x="476" y="29"/>
                  </a:lnTo>
                  <a:lnTo>
                    <a:pt x="481" y="36"/>
                  </a:lnTo>
                  <a:lnTo>
                    <a:pt x="485" y="43"/>
                  </a:lnTo>
                  <a:lnTo>
                    <a:pt x="488" y="52"/>
                  </a:lnTo>
                  <a:lnTo>
                    <a:pt x="491" y="60"/>
                  </a:lnTo>
                  <a:lnTo>
                    <a:pt x="493" y="70"/>
                  </a:lnTo>
                  <a:lnTo>
                    <a:pt x="494" y="81"/>
                  </a:lnTo>
                  <a:lnTo>
                    <a:pt x="494" y="92"/>
                  </a:lnTo>
                  <a:lnTo>
                    <a:pt x="493" y="111"/>
                  </a:lnTo>
                  <a:lnTo>
                    <a:pt x="489" y="136"/>
                  </a:lnTo>
                  <a:lnTo>
                    <a:pt x="483" y="166"/>
                  </a:lnTo>
                  <a:lnTo>
                    <a:pt x="474" y="200"/>
                  </a:lnTo>
                  <a:lnTo>
                    <a:pt x="450" y="283"/>
                  </a:lnTo>
                  <a:lnTo>
                    <a:pt x="416" y="384"/>
                  </a:lnTo>
                  <a:lnTo>
                    <a:pt x="701" y="384"/>
                  </a:lnTo>
                  <a:lnTo>
                    <a:pt x="817" y="24"/>
                  </a:lnTo>
                  <a:lnTo>
                    <a:pt x="1030" y="24"/>
                  </a:lnTo>
                  <a:lnTo>
                    <a:pt x="917" y="392"/>
                  </a:lnTo>
                  <a:lnTo>
                    <a:pt x="844" y="624"/>
                  </a:lnTo>
                  <a:lnTo>
                    <a:pt x="826" y="692"/>
                  </a:lnTo>
                  <a:lnTo>
                    <a:pt x="820" y="714"/>
                  </a:lnTo>
                  <a:lnTo>
                    <a:pt x="819" y="721"/>
                  </a:lnTo>
                  <a:lnTo>
                    <a:pt x="819" y="727"/>
                  </a:lnTo>
                  <a:lnTo>
                    <a:pt x="819" y="732"/>
                  </a:lnTo>
                  <a:lnTo>
                    <a:pt x="820" y="735"/>
                  </a:lnTo>
                  <a:lnTo>
                    <a:pt x="820" y="737"/>
                  </a:lnTo>
                  <a:lnTo>
                    <a:pt x="820" y="738"/>
                  </a:lnTo>
                  <a:lnTo>
                    <a:pt x="821" y="739"/>
                  </a:lnTo>
                  <a:lnTo>
                    <a:pt x="821" y="741"/>
                  </a:lnTo>
                  <a:lnTo>
                    <a:pt x="822" y="742"/>
                  </a:lnTo>
                  <a:lnTo>
                    <a:pt x="823" y="743"/>
                  </a:lnTo>
                  <a:lnTo>
                    <a:pt x="823" y="743"/>
                  </a:lnTo>
                  <a:lnTo>
                    <a:pt x="825" y="744"/>
                  </a:lnTo>
                  <a:lnTo>
                    <a:pt x="825" y="744"/>
                  </a:lnTo>
                  <a:lnTo>
                    <a:pt x="826" y="744"/>
                  </a:lnTo>
                  <a:lnTo>
                    <a:pt x="826" y="744"/>
                  </a:lnTo>
                  <a:lnTo>
                    <a:pt x="827" y="745"/>
                  </a:lnTo>
                  <a:lnTo>
                    <a:pt x="827" y="745"/>
                  </a:lnTo>
                  <a:lnTo>
                    <a:pt x="828" y="745"/>
                  </a:lnTo>
                  <a:lnTo>
                    <a:pt x="829" y="745"/>
                  </a:lnTo>
                  <a:lnTo>
                    <a:pt x="831" y="745"/>
                  </a:lnTo>
                  <a:lnTo>
                    <a:pt x="833" y="744"/>
                  </a:lnTo>
                  <a:lnTo>
                    <a:pt x="839" y="743"/>
                  </a:lnTo>
                  <a:lnTo>
                    <a:pt x="845" y="741"/>
                  </a:lnTo>
                  <a:lnTo>
                    <a:pt x="853" y="737"/>
                  </a:lnTo>
                  <a:lnTo>
                    <a:pt x="872" y="727"/>
                  </a:lnTo>
                  <a:lnTo>
                    <a:pt x="895" y="713"/>
                  </a:lnTo>
                  <a:lnTo>
                    <a:pt x="952" y="673"/>
                  </a:lnTo>
                  <a:lnTo>
                    <a:pt x="1026" y="617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92640" y="1314360"/>
              <a:ext cx="296640" cy="322200"/>
            </a:xfrm>
            <a:custGeom>
              <a:avLst/>
              <a:gdLst/>
              <a:ahLst/>
              <a:rect l="l" t="t" r="r" b="b"/>
              <a:pathLst>
                <a:path w="825" h="895">
                  <a:moveTo>
                    <a:pt x="687" y="614"/>
                  </a:moveTo>
                  <a:lnTo>
                    <a:pt x="727" y="697"/>
                  </a:lnTo>
                  <a:lnTo>
                    <a:pt x="653" y="743"/>
                  </a:lnTo>
                  <a:lnTo>
                    <a:pt x="583" y="784"/>
                  </a:lnTo>
                  <a:lnTo>
                    <a:pt x="515" y="818"/>
                  </a:lnTo>
                  <a:lnTo>
                    <a:pt x="450" y="845"/>
                  </a:lnTo>
                  <a:lnTo>
                    <a:pt x="389" y="866"/>
                  </a:lnTo>
                  <a:lnTo>
                    <a:pt x="359" y="874"/>
                  </a:lnTo>
                  <a:lnTo>
                    <a:pt x="331" y="882"/>
                  </a:lnTo>
                  <a:lnTo>
                    <a:pt x="303" y="887"/>
                  </a:lnTo>
                  <a:lnTo>
                    <a:pt x="275" y="891"/>
                  </a:lnTo>
                  <a:lnTo>
                    <a:pt x="248" y="893"/>
                  </a:lnTo>
                  <a:lnTo>
                    <a:pt x="222" y="894"/>
                  </a:lnTo>
                  <a:lnTo>
                    <a:pt x="194" y="893"/>
                  </a:lnTo>
                  <a:lnTo>
                    <a:pt x="180" y="891"/>
                  </a:lnTo>
                  <a:lnTo>
                    <a:pt x="168" y="890"/>
                  </a:lnTo>
                  <a:lnTo>
                    <a:pt x="156" y="887"/>
                  </a:lnTo>
                  <a:lnTo>
                    <a:pt x="143" y="885"/>
                  </a:lnTo>
                  <a:lnTo>
                    <a:pt x="132" y="881"/>
                  </a:lnTo>
                  <a:lnTo>
                    <a:pt x="122" y="877"/>
                  </a:lnTo>
                  <a:lnTo>
                    <a:pt x="111" y="873"/>
                  </a:lnTo>
                  <a:lnTo>
                    <a:pt x="101" y="868"/>
                  </a:lnTo>
                  <a:lnTo>
                    <a:pt x="92" y="862"/>
                  </a:lnTo>
                  <a:lnTo>
                    <a:pt x="82" y="856"/>
                  </a:lnTo>
                  <a:lnTo>
                    <a:pt x="74" y="849"/>
                  </a:lnTo>
                  <a:lnTo>
                    <a:pt x="67" y="842"/>
                  </a:lnTo>
                  <a:lnTo>
                    <a:pt x="60" y="834"/>
                  </a:lnTo>
                  <a:lnTo>
                    <a:pt x="53" y="826"/>
                  </a:lnTo>
                  <a:lnTo>
                    <a:pt x="40" y="809"/>
                  </a:lnTo>
                  <a:lnTo>
                    <a:pt x="30" y="790"/>
                  </a:lnTo>
                  <a:lnTo>
                    <a:pt x="21" y="771"/>
                  </a:lnTo>
                  <a:lnTo>
                    <a:pt x="13" y="750"/>
                  </a:lnTo>
                  <a:lnTo>
                    <a:pt x="7" y="729"/>
                  </a:lnTo>
                  <a:lnTo>
                    <a:pt x="3" y="706"/>
                  </a:lnTo>
                  <a:lnTo>
                    <a:pt x="1" y="683"/>
                  </a:lnTo>
                  <a:lnTo>
                    <a:pt x="0" y="659"/>
                  </a:lnTo>
                  <a:lnTo>
                    <a:pt x="2" y="619"/>
                  </a:lnTo>
                  <a:lnTo>
                    <a:pt x="6" y="578"/>
                  </a:lnTo>
                  <a:lnTo>
                    <a:pt x="14" y="537"/>
                  </a:lnTo>
                  <a:lnTo>
                    <a:pt x="26" y="496"/>
                  </a:lnTo>
                  <a:lnTo>
                    <a:pt x="40" y="455"/>
                  </a:lnTo>
                  <a:lnTo>
                    <a:pt x="58" y="413"/>
                  </a:lnTo>
                  <a:lnTo>
                    <a:pt x="78" y="371"/>
                  </a:lnTo>
                  <a:lnTo>
                    <a:pt x="103" y="330"/>
                  </a:lnTo>
                  <a:lnTo>
                    <a:pt x="129" y="289"/>
                  </a:lnTo>
                  <a:lnTo>
                    <a:pt x="157" y="252"/>
                  </a:lnTo>
                  <a:lnTo>
                    <a:pt x="184" y="218"/>
                  </a:lnTo>
                  <a:lnTo>
                    <a:pt x="214" y="187"/>
                  </a:lnTo>
                  <a:lnTo>
                    <a:pt x="245" y="159"/>
                  </a:lnTo>
                  <a:lnTo>
                    <a:pt x="276" y="134"/>
                  </a:lnTo>
                  <a:lnTo>
                    <a:pt x="309" y="113"/>
                  </a:lnTo>
                  <a:lnTo>
                    <a:pt x="343" y="94"/>
                  </a:lnTo>
                  <a:lnTo>
                    <a:pt x="375" y="72"/>
                  </a:lnTo>
                  <a:lnTo>
                    <a:pt x="409" y="53"/>
                  </a:lnTo>
                  <a:lnTo>
                    <a:pt x="442" y="37"/>
                  </a:lnTo>
                  <a:lnTo>
                    <a:pt x="477" y="24"/>
                  </a:lnTo>
                  <a:lnTo>
                    <a:pt x="512" y="14"/>
                  </a:lnTo>
                  <a:lnTo>
                    <a:pt x="547" y="6"/>
                  </a:lnTo>
                  <a:lnTo>
                    <a:pt x="583" y="2"/>
                  </a:lnTo>
                  <a:lnTo>
                    <a:pt x="620" y="0"/>
                  </a:lnTo>
                  <a:lnTo>
                    <a:pt x="644" y="1"/>
                  </a:lnTo>
                  <a:lnTo>
                    <a:pt x="665" y="2"/>
                  </a:lnTo>
                  <a:lnTo>
                    <a:pt x="686" y="4"/>
                  </a:lnTo>
                  <a:lnTo>
                    <a:pt x="705" y="8"/>
                  </a:lnTo>
                  <a:lnTo>
                    <a:pt x="724" y="13"/>
                  </a:lnTo>
                  <a:lnTo>
                    <a:pt x="740" y="18"/>
                  </a:lnTo>
                  <a:lnTo>
                    <a:pt x="749" y="21"/>
                  </a:lnTo>
                  <a:lnTo>
                    <a:pt x="756" y="25"/>
                  </a:lnTo>
                  <a:lnTo>
                    <a:pt x="763" y="28"/>
                  </a:lnTo>
                  <a:lnTo>
                    <a:pt x="770" y="32"/>
                  </a:lnTo>
                  <a:lnTo>
                    <a:pt x="783" y="41"/>
                  </a:lnTo>
                  <a:lnTo>
                    <a:pt x="789" y="45"/>
                  </a:lnTo>
                  <a:lnTo>
                    <a:pt x="794" y="50"/>
                  </a:lnTo>
                  <a:lnTo>
                    <a:pt x="799" y="54"/>
                  </a:lnTo>
                  <a:lnTo>
                    <a:pt x="803" y="59"/>
                  </a:lnTo>
                  <a:lnTo>
                    <a:pt x="807" y="65"/>
                  </a:lnTo>
                  <a:lnTo>
                    <a:pt x="810" y="70"/>
                  </a:lnTo>
                  <a:lnTo>
                    <a:pt x="814" y="75"/>
                  </a:lnTo>
                  <a:lnTo>
                    <a:pt x="817" y="80"/>
                  </a:lnTo>
                  <a:lnTo>
                    <a:pt x="819" y="85"/>
                  </a:lnTo>
                  <a:lnTo>
                    <a:pt x="821" y="91"/>
                  </a:lnTo>
                  <a:lnTo>
                    <a:pt x="822" y="96"/>
                  </a:lnTo>
                  <a:lnTo>
                    <a:pt x="823" y="102"/>
                  </a:lnTo>
                  <a:lnTo>
                    <a:pt x="824" y="108"/>
                  </a:lnTo>
                  <a:lnTo>
                    <a:pt x="824" y="114"/>
                  </a:lnTo>
                  <a:lnTo>
                    <a:pt x="824" y="123"/>
                  </a:lnTo>
                  <a:lnTo>
                    <a:pt x="822" y="133"/>
                  </a:lnTo>
                  <a:lnTo>
                    <a:pt x="820" y="141"/>
                  </a:lnTo>
                  <a:lnTo>
                    <a:pt x="818" y="145"/>
                  </a:lnTo>
                  <a:lnTo>
                    <a:pt x="817" y="150"/>
                  </a:lnTo>
                  <a:lnTo>
                    <a:pt x="815" y="154"/>
                  </a:lnTo>
                  <a:lnTo>
                    <a:pt x="812" y="157"/>
                  </a:lnTo>
                  <a:lnTo>
                    <a:pt x="809" y="161"/>
                  </a:lnTo>
                  <a:lnTo>
                    <a:pt x="806" y="165"/>
                  </a:lnTo>
                  <a:lnTo>
                    <a:pt x="803" y="168"/>
                  </a:lnTo>
                  <a:lnTo>
                    <a:pt x="800" y="172"/>
                  </a:lnTo>
                  <a:lnTo>
                    <a:pt x="797" y="174"/>
                  </a:lnTo>
                  <a:lnTo>
                    <a:pt x="793" y="178"/>
                  </a:lnTo>
                  <a:lnTo>
                    <a:pt x="789" y="181"/>
                  </a:lnTo>
                  <a:lnTo>
                    <a:pt x="785" y="184"/>
                  </a:lnTo>
                  <a:lnTo>
                    <a:pt x="781" y="186"/>
                  </a:lnTo>
                  <a:lnTo>
                    <a:pt x="775" y="189"/>
                  </a:lnTo>
                  <a:lnTo>
                    <a:pt x="770" y="191"/>
                  </a:lnTo>
                  <a:lnTo>
                    <a:pt x="766" y="193"/>
                  </a:lnTo>
                  <a:lnTo>
                    <a:pt x="761" y="195"/>
                  </a:lnTo>
                  <a:lnTo>
                    <a:pt x="756" y="197"/>
                  </a:lnTo>
                  <a:lnTo>
                    <a:pt x="745" y="200"/>
                  </a:lnTo>
                  <a:lnTo>
                    <a:pt x="733" y="201"/>
                  </a:lnTo>
                  <a:lnTo>
                    <a:pt x="721" y="203"/>
                  </a:lnTo>
                  <a:lnTo>
                    <a:pt x="707" y="203"/>
                  </a:lnTo>
                  <a:lnTo>
                    <a:pt x="695" y="202"/>
                  </a:lnTo>
                  <a:lnTo>
                    <a:pt x="684" y="201"/>
                  </a:lnTo>
                  <a:lnTo>
                    <a:pt x="671" y="199"/>
                  </a:lnTo>
                  <a:lnTo>
                    <a:pt x="660" y="195"/>
                  </a:lnTo>
                  <a:lnTo>
                    <a:pt x="648" y="191"/>
                  </a:lnTo>
                  <a:lnTo>
                    <a:pt x="636" y="185"/>
                  </a:lnTo>
                  <a:lnTo>
                    <a:pt x="625" y="179"/>
                  </a:lnTo>
                  <a:lnTo>
                    <a:pt x="614" y="172"/>
                  </a:lnTo>
                  <a:lnTo>
                    <a:pt x="573" y="157"/>
                  </a:lnTo>
                  <a:lnTo>
                    <a:pt x="555" y="151"/>
                  </a:lnTo>
                  <a:lnTo>
                    <a:pt x="539" y="146"/>
                  </a:lnTo>
                  <a:lnTo>
                    <a:pt x="523" y="143"/>
                  </a:lnTo>
                  <a:lnTo>
                    <a:pt x="510" y="140"/>
                  </a:lnTo>
                  <a:lnTo>
                    <a:pt x="497" y="139"/>
                  </a:lnTo>
                  <a:lnTo>
                    <a:pt x="492" y="138"/>
                  </a:lnTo>
                  <a:lnTo>
                    <a:pt x="487" y="138"/>
                  </a:lnTo>
                  <a:lnTo>
                    <a:pt x="481" y="138"/>
                  </a:lnTo>
                  <a:lnTo>
                    <a:pt x="476" y="139"/>
                  </a:lnTo>
                  <a:lnTo>
                    <a:pt x="470" y="139"/>
                  </a:lnTo>
                  <a:lnTo>
                    <a:pt x="463" y="140"/>
                  </a:lnTo>
                  <a:lnTo>
                    <a:pt x="457" y="142"/>
                  </a:lnTo>
                  <a:lnTo>
                    <a:pt x="451" y="144"/>
                  </a:lnTo>
                  <a:lnTo>
                    <a:pt x="439" y="148"/>
                  </a:lnTo>
                  <a:lnTo>
                    <a:pt x="426" y="154"/>
                  </a:lnTo>
                  <a:lnTo>
                    <a:pt x="413" y="161"/>
                  </a:lnTo>
                  <a:lnTo>
                    <a:pt x="401" y="168"/>
                  </a:lnTo>
                  <a:lnTo>
                    <a:pt x="387" y="178"/>
                  </a:lnTo>
                  <a:lnTo>
                    <a:pt x="381" y="183"/>
                  </a:lnTo>
                  <a:lnTo>
                    <a:pt x="375" y="189"/>
                  </a:lnTo>
                  <a:lnTo>
                    <a:pt x="361" y="202"/>
                  </a:lnTo>
                  <a:lnTo>
                    <a:pt x="349" y="218"/>
                  </a:lnTo>
                  <a:lnTo>
                    <a:pt x="337" y="238"/>
                  </a:lnTo>
                  <a:lnTo>
                    <a:pt x="323" y="259"/>
                  </a:lnTo>
                  <a:lnTo>
                    <a:pt x="311" y="283"/>
                  </a:lnTo>
                  <a:lnTo>
                    <a:pt x="285" y="338"/>
                  </a:lnTo>
                  <a:lnTo>
                    <a:pt x="273" y="369"/>
                  </a:lnTo>
                  <a:lnTo>
                    <a:pt x="263" y="399"/>
                  </a:lnTo>
                  <a:lnTo>
                    <a:pt x="254" y="429"/>
                  </a:lnTo>
                  <a:lnTo>
                    <a:pt x="247" y="460"/>
                  </a:lnTo>
                  <a:lnTo>
                    <a:pt x="242" y="490"/>
                  </a:lnTo>
                  <a:lnTo>
                    <a:pt x="238" y="521"/>
                  </a:lnTo>
                  <a:lnTo>
                    <a:pt x="236" y="552"/>
                  </a:lnTo>
                  <a:lnTo>
                    <a:pt x="235" y="583"/>
                  </a:lnTo>
                  <a:lnTo>
                    <a:pt x="236" y="604"/>
                  </a:lnTo>
                  <a:lnTo>
                    <a:pt x="237" y="624"/>
                  </a:lnTo>
                  <a:lnTo>
                    <a:pt x="240" y="642"/>
                  </a:lnTo>
                  <a:lnTo>
                    <a:pt x="244" y="659"/>
                  </a:lnTo>
                  <a:lnTo>
                    <a:pt x="249" y="675"/>
                  </a:lnTo>
                  <a:lnTo>
                    <a:pt x="255" y="689"/>
                  </a:lnTo>
                  <a:lnTo>
                    <a:pt x="260" y="695"/>
                  </a:lnTo>
                  <a:lnTo>
                    <a:pt x="264" y="702"/>
                  </a:lnTo>
                  <a:lnTo>
                    <a:pt x="268" y="708"/>
                  </a:lnTo>
                  <a:lnTo>
                    <a:pt x="272" y="713"/>
                  </a:lnTo>
                  <a:lnTo>
                    <a:pt x="275" y="717"/>
                  </a:lnTo>
                  <a:lnTo>
                    <a:pt x="279" y="721"/>
                  </a:lnTo>
                  <a:lnTo>
                    <a:pt x="282" y="724"/>
                  </a:lnTo>
                  <a:lnTo>
                    <a:pt x="286" y="727"/>
                  </a:lnTo>
                  <a:lnTo>
                    <a:pt x="290" y="731"/>
                  </a:lnTo>
                  <a:lnTo>
                    <a:pt x="295" y="733"/>
                  </a:lnTo>
                  <a:lnTo>
                    <a:pt x="299" y="736"/>
                  </a:lnTo>
                  <a:lnTo>
                    <a:pt x="304" y="738"/>
                  </a:lnTo>
                  <a:lnTo>
                    <a:pt x="308" y="740"/>
                  </a:lnTo>
                  <a:lnTo>
                    <a:pt x="313" y="742"/>
                  </a:lnTo>
                  <a:lnTo>
                    <a:pt x="317" y="743"/>
                  </a:lnTo>
                  <a:lnTo>
                    <a:pt x="322" y="744"/>
                  </a:lnTo>
                  <a:lnTo>
                    <a:pt x="328" y="745"/>
                  </a:lnTo>
                  <a:lnTo>
                    <a:pt x="333" y="745"/>
                  </a:lnTo>
                  <a:lnTo>
                    <a:pt x="339" y="746"/>
                  </a:lnTo>
                  <a:lnTo>
                    <a:pt x="344" y="746"/>
                  </a:lnTo>
                  <a:lnTo>
                    <a:pt x="360" y="745"/>
                  </a:lnTo>
                  <a:lnTo>
                    <a:pt x="378" y="744"/>
                  </a:lnTo>
                  <a:lnTo>
                    <a:pt x="395" y="742"/>
                  </a:lnTo>
                  <a:lnTo>
                    <a:pt x="414" y="738"/>
                  </a:lnTo>
                  <a:lnTo>
                    <a:pt x="453" y="727"/>
                  </a:lnTo>
                  <a:lnTo>
                    <a:pt x="494" y="713"/>
                  </a:lnTo>
                  <a:lnTo>
                    <a:pt x="539" y="694"/>
                  </a:lnTo>
                  <a:lnTo>
                    <a:pt x="586" y="671"/>
                  </a:lnTo>
                  <a:lnTo>
                    <a:pt x="635" y="645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93960" y="1300320"/>
              <a:ext cx="540000" cy="463320"/>
            </a:xfrm>
            <a:custGeom>
              <a:avLst/>
              <a:gdLst/>
              <a:ahLst/>
              <a:rect l="l" t="t" r="r" b="b"/>
              <a:pathLst>
                <a:path w="1499" h="1289">
                  <a:moveTo>
                    <a:pt x="411" y="405"/>
                  </a:moveTo>
                  <a:lnTo>
                    <a:pt x="417" y="396"/>
                  </a:lnTo>
                  <a:lnTo>
                    <a:pt x="425" y="385"/>
                  </a:lnTo>
                  <a:lnTo>
                    <a:pt x="447" y="358"/>
                  </a:lnTo>
                  <a:lnTo>
                    <a:pt x="478" y="324"/>
                  </a:lnTo>
                  <a:lnTo>
                    <a:pt x="517" y="283"/>
                  </a:lnTo>
                  <a:lnTo>
                    <a:pt x="599" y="203"/>
                  </a:lnTo>
                  <a:lnTo>
                    <a:pt x="672" y="138"/>
                  </a:lnTo>
                  <a:lnTo>
                    <a:pt x="704" y="112"/>
                  </a:lnTo>
                  <a:lnTo>
                    <a:pt x="734" y="89"/>
                  </a:lnTo>
                  <a:lnTo>
                    <a:pt x="762" y="69"/>
                  </a:lnTo>
                  <a:lnTo>
                    <a:pt x="787" y="54"/>
                  </a:lnTo>
                  <a:lnTo>
                    <a:pt x="812" y="41"/>
                  </a:lnTo>
                  <a:lnTo>
                    <a:pt x="835" y="30"/>
                  </a:lnTo>
                  <a:lnTo>
                    <a:pt x="859" y="21"/>
                  </a:lnTo>
                  <a:lnTo>
                    <a:pt x="884" y="14"/>
                  </a:lnTo>
                  <a:lnTo>
                    <a:pt x="907" y="8"/>
                  </a:lnTo>
                  <a:lnTo>
                    <a:pt x="931" y="4"/>
                  </a:lnTo>
                  <a:lnTo>
                    <a:pt x="955" y="1"/>
                  </a:lnTo>
                  <a:lnTo>
                    <a:pt x="979" y="0"/>
                  </a:lnTo>
                  <a:lnTo>
                    <a:pt x="994" y="0"/>
                  </a:lnTo>
                  <a:lnTo>
                    <a:pt x="1008" y="2"/>
                  </a:lnTo>
                  <a:lnTo>
                    <a:pt x="1022" y="4"/>
                  </a:lnTo>
                  <a:lnTo>
                    <a:pt x="1034" y="5"/>
                  </a:lnTo>
                  <a:lnTo>
                    <a:pt x="1045" y="9"/>
                  </a:lnTo>
                  <a:lnTo>
                    <a:pt x="1056" y="12"/>
                  </a:lnTo>
                  <a:lnTo>
                    <a:pt x="1065" y="16"/>
                  </a:lnTo>
                  <a:lnTo>
                    <a:pt x="1073" y="21"/>
                  </a:lnTo>
                  <a:lnTo>
                    <a:pt x="1080" y="27"/>
                  </a:lnTo>
                  <a:lnTo>
                    <a:pt x="1088" y="34"/>
                  </a:lnTo>
                  <a:lnTo>
                    <a:pt x="1093" y="41"/>
                  </a:lnTo>
                  <a:lnTo>
                    <a:pt x="1097" y="49"/>
                  </a:lnTo>
                  <a:lnTo>
                    <a:pt x="1101" y="57"/>
                  </a:lnTo>
                  <a:lnTo>
                    <a:pt x="1103" y="66"/>
                  </a:lnTo>
                  <a:lnTo>
                    <a:pt x="1105" y="76"/>
                  </a:lnTo>
                  <a:lnTo>
                    <a:pt x="1105" y="86"/>
                  </a:lnTo>
                  <a:lnTo>
                    <a:pt x="1105" y="96"/>
                  </a:lnTo>
                  <a:lnTo>
                    <a:pt x="1103" y="106"/>
                  </a:lnTo>
                  <a:lnTo>
                    <a:pt x="1101" y="114"/>
                  </a:lnTo>
                  <a:lnTo>
                    <a:pt x="1098" y="123"/>
                  </a:lnTo>
                  <a:lnTo>
                    <a:pt x="1094" y="129"/>
                  </a:lnTo>
                  <a:lnTo>
                    <a:pt x="1089" y="136"/>
                  </a:lnTo>
                  <a:lnTo>
                    <a:pt x="1083" y="142"/>
                  </a:lnTo>
                  <a:lnTo>
                    <a:pt x="1075" y="148"/>
                  </a:lnTo>
                  <a:lnTo>
                    <a:pt x="1068" y="153"/>
                  </a:lnTo>
                  <a:lnTo>
                    <a:pt x="1059" y="157"/>
                  </a:lnTo>
                  <a:lnTo>
                    <a:pt x="1050" y="161"/>
                  </a:lnTo>
                  <a:lnTo>
                    <a:pt x="1038" y="163"/>
                  </a:lnTo>
                  <a:lnTo>
                    <a:pt x="1027" y="166"/>
                  </a:lnTo>
                  <a:lnTo>
                    <a:pt x="1015" y="167"/>
                  </a:lnTo>
                  <a:lnTo>
                    <a:pt x="1001" y="168"/>
                  </a:lnTo>
                  <a:lnTo>
                    <a:pt x="987" y="168"/>
                  </a:lnTo>
                  <a:lnTo>
                    <a:pt x="952" y="168"/>
                  </a:lnTo>
                  <a:lnTo>
                    <a:pt x="930" y="167"/>
                  </a:lnTo>
                  <a:lnTo>
                    <a:pt x="922" y="166"/>
                  </a:lnTo>
                  <a:lnTo>
                    <a:pt x="916" y="166"/>
                  </a:lnTo>
                  <a:lnTo>
                    <a:pt x="900" y="167"/>
                  </a:lnTo>
                  <a:lnTo>
                    <a:pt x="885" y="168"/>
                  </a:lnTo>
                  <a:lnTo>
                    <a:pt x="868" y="170"/>
                  </a:lnTo>
                  <a:lnTo>
                    <a:pt x="853" y="174"/>
                  </a:lnTo>
                  <a:lnTo>
                    <a:pt x="836" y="178"/>
                  </a:lnTo>
                  <a:lnTo>
                    <a:pt x="821" y="183"/>
                  </a:lnTo>
                  <a:lnTo>
                    <a:pt x="804" y="190"/>
                  </a:lnTo>
                  <a:lnTo>
                    <a:pt x="789" y="197"/>
                  </a:lnTo>
                  <a:lnTo>
                    <a:pt x="773" y="206"/>
                  </a:lnTo>
                  <a:lnTo>
                    <a:pt x="754" y="216"/>
                  </a:lnTo>
                  <a:lnTo>
                    <a:pt x="734" y="230"/>
                  </a:lnTo>
                  <a:lnTo>
                    <a:pt x="714" y="245"/>
                  </a:lnTo>
                  <a:lnTo>
                    <a:pt x="668" y="281"/>
                  </a:lnTo>
                  <a:lnTo>
                    <a:pt x="616" y="327"/>
                  </a:lnTo>
                  <a:lnTo>
                    <a:pt x="567" y="371"/>
                  </a:lnTo>
                  <a:lnTo>
                    <a:pt x="545" y="389"/>
                  </a:lnTo>
                  <a:lnTo>
                    <a:pt x="525" y="404"/>
                  </a:lnTo>
                  <a:lnTo>
                    <a:pt x="508" y="416"/>
                  </a:lnTo>
                  <a:lnTo>
                    <a:pt x="492" y="426"/>
                  </a:lnTo>
                  <a:lnTo>
                    <a:pt x="486" y="429"/>
                  </a:lnTo>
                  <a:lnTo>
                    <a:pt x="480" y="433"/>
                  </a:lnTo>
                  <a:lnTo>
                    <a:pt x="474" y="435"/>
                  </a:lnTo>
                  <a:lnTo>
                    <a:pt x="469" y="437"/>
                  </a:lnTo>
                  <a:lnTo>
                    <a:pt x="506" y="450"/>
                  </a:lnTo>
                  <a:lnTo>
                    <a:pt x="540" y="463"/>
                  </a:lnTo>
                  <a:lnTo>
                    <a:pt x="571" y="478"/>
                  </a:lnTo>
                  <a:lnTo>
                    <a:pt x="599" y="492"/>
                  </a:lnTo>
                  <a:lnTo>
                    <a:pt x="624" y="507"/>
                  </a:lnTo>
                  <a:lnTo>
                    <a:pt x="647" y="522"/>
                  </a:lnTo>
                  <a:lnTo>
                    <a:pt x="667" y="538"/>
                  </a:lnTo>
                  <a:lnTo>
                    <a:pt x="684" y="554"/>
                  </a:lnTo>
                  <a:lnTo>
                    <a:pt x="700" y="574"/>
                  </a:lnTo>
                  <a:lnTo>
                    <a:pt x="719" y="599"/>
                  </a:lnTo>
                  <a:lnTo>
                    <a:pt x="740" y="631"/>
                  </a:lnTo>
                  <a:lnTo>
                    <a:pt x="762" y="668"/>
                  </a:lnTo>
                  <a:lnTo>
                    <a:pt x="813" y="760"/>
                  </a:lnTo>
                  <a:lnTo>
                    <a:pt x="871" y="875"/>
                  </a:lnTo>
                  <a:lnTo>
                    <a:pt x="915" y="956"/>
                  </a:lnTo>
                  <a:lnTo>
                    <a:pt x="935" y="992"/>
                  </a:lnTo>
                  <a:lnTo>
                    <a:pt x="957" y="1024"/>
                  </a:lnTo>
                  <a:lnTo>
                    <a:pt x="976" y="1053"/>
                  </a:lnTo>
                  <a:lnTo>
                    <a:pt x="997" y="1079"/>
                  </a:lnTo>
                  <a:lnTo>
                    <a:pt x="1016" y="1102"/>
                  </a:lnTo>
                  <a:lnTo>
                    <a:pt x="1035" y="1120"/>
                  </a:lnTo>
                  <a:lnTo>
                    <a:pt x="1055" y="1136"/>
                  </a:lnTo>
                  <a:lnTo>
                    <a:pt x="1074" y="1150"/>
                  </a:lnTo>
                  <a:lnTo>
                    <a:pt x="1086" y="1156"/>
                  </a:lnTo>
                  <a:lnTo>
                    <a:pt x="1096" y="1162"/>
                  </a:lnTo>
                  <a:lnTo>
                    <a:pt x="1106" y="1167"/>
                  </a:lnTo>
                  <a:lnTo>
                    <a:pt x="1118" y="1171"/>
                  </a:lnTo>
                  <a:lnTo>
                    <a:pt x="1129" y="1175"/>
                  </a:lnTo>
                  <a:lnTo>
                    <a:pt x="1140" y="1179"/>
                  </a:lnTo>
                  <a:lnTo>
                    <a:pt x="1152" y="1181"/>
                  </a:lnTo>
                  <a:lnTo>
                    <a:pt x="1164" y="1184"/>
                  </a:lnTo>
                  <a:lnTo>
                    <a:pt x="1176" y="1186"/>
                  </a:lnTo>
                  <a:lnTo>
                    <a:pt x="1189" y="1187"/>
                  </a:lnTo>
                  <a:lnTo>
                    <a:pt x="1201" y="1188"/>
                  </a:lnTo>
                  <a:lnTo>
                    <a:pt x="1213" y="1188"/>
                  </a:lnTo>
                  <a:lnTo>
                    <a:pt x="1224" y="1188"/>
                  </a:lnTo>
                  <a:lnTo>
                    <a:pt x="1234" y="1187"/>
                  </a:lnTo>
                  <a:lnTo>
                    <a:pt x="1243" y="1186"/>
                  </a:lnTo>
                  <a:lnTo>
                    <a:pt x="1252" y="1185"/>
                  </a:lnTo>
                  <a:lnTo>
                    <a:pt x="1262" y="1182"/>
                  </a:lnTo>
                  <a:lnTo>
                    <a:pt x="1271" y="1180"/>
                  </a:lnTo>
                  <a:lnTo>
                    <a:pt x="1279" y="1176"/>
                  </a:lnTo>
                  <a:lnTo>
                    <a:pt x="1287" y="1173"/>
                  </a:lnTo>
                  <a:lnTo>
                    <a:pt x="1295" y="1170"/>
                  </a:lnTo>
                  <a:lnTo>
                    <a:pt x="1302" y="1165"/>
                  </a:lnTo>
                  <a:lnTo>
                    <a:pt x="1307" y="1162"/>
                  </a:lnTo>
                  <a:lnTo>
                    <a:pt x="1311" y="1158"/>
                  </a:lnTo>
                  <a:lnTo>
                    <a:pt x="1313" y="1157"/>
                  </a:lnTo>
                  <a:lnTo>
                    <a:pt x="1315" y="1155"/>
                  </a:lnTo>
                  <a:lnTo>
                    <a:pt x="1316" y="1153"/>
                  </a:lnTo>
                  <a:lnTo>
                    <a:pt x="1317" y="1152"/>
                  </a:lnTo>
                  <a:lnTo>
                    <a:pt x="1318" y="1150"/>
                  </a:lnTo>
                  <a:lnTo>
                    <a:pt x="1319" y="1148"/>
                  </a:lnTo>
                  <a:lnTo>
                    <a:pt x="1319" y="1147"/>
                  </a:lnTo>
                  <a:lnTo>
                    <a:pt x="1319" y="1146"/>
                  </a:lnTo>
                  <a:lnTo>
                    <a:pt x="1319" y="1143"/>
                  </a:lnTo>
                  <a:lnTo>
                    <a:pt x="1318" y="1141"/>
                  </a:lnTo>
                  <a:lnTo>
                    <a:pt x="1318" y="1137"/>
                  </a:lnTo>
                  <a:lnTo>
                    <a:pt x="1317" y="1134"/>
                  </a:lnTo>
                  <a:lnTo>
                    <a:pt x="1313" y="1124"/>
                  </a:lnTo>
                  <a:lnTo>
                    <a:pt x="1308" y="1112"/>
                  </a:lnTo>
                  <a:lnTo>
                    <a:pt x="1305" y="1105"/>
                  </a:lnTo>
                  <a:lnTo>
                    <a:pt x="1302" y="1098"/>
                  </a:lnTo>
                  <a:lnTo>
                    <a:pt x="1300" y="1091"/>
                  </a:lnTo>
                  <a:lnTo>
                    <a:pt x="1298" y="1085"/>
                  </a:lnTo>
                  <a:lnTo>
                    <a:pt x="1297" y="1079"/>
                  </a:lnTo>
                  <a:lnTo>
                    <a:pt x="1296" y="1074"/>
                  </a:lnTo>
                  <a:lnTo>
                    <a:pt x="1295" y="1068"/>
                  </a:lnTo>
                  <a:lnTo>
                    <a:pt x="1295" y="1064"/>
                  </a:lnTo>
                  <a:lnTo>
                    <a:pt x="1295" y="1057"/>
                  </a:lnTo>
                  <a:lnTo>
                    <a:pt x="1297" y="1050"/>
                  </a:lnTo>
                  <a:lnTo>
                    <a:pt x="1298" y="1045"/>
                  </a:lnTo>
                  <a:lnTo>
                    <a:pt x="1299" y="1042"/>
                  </a:lnTo>
                  <a:lnTo>
                    <a:pt x="1300" y="1039"/>
                  </a:lnTo>
                  <a:lnTo>
                    <a:pt x="1302" y="1035"/>
                  </a:lnTo>
                  <a:lnTo>
                    <a:pt x="1306" y="1028"/>
                  </a:lnTo>
                  <a:lnTo>
                    <a:pt x="1310" y="1023"/>
                  </a:lnTo>
                  <a:lnTo>
                    <a:pt x="1316" y="1016"/>
                  </a:lnTo>
                  <a:lnTo>
                    <a:pt x="1322" y="1010"/>
                  </a:lnTo>
                  <a:lnTo>
                    <a:pt x="1330" y="1004"/>
                  </a:lnTo>
                  <a:lnTo>
                    <a:pt x="1334" y="1001"/>
                  </a:lnTo>
                  <a:lnTo>
                    <a:pt x="1337" y="1000"/>
                  </a:lnTo>
                  <a:lnTo>
                    <a:pt x="1341" y="997"/>
                  </a:lnTo>
                  <a:lnTo>
                    <a:pt x="1345" y="995"/>
                  </a:lnTo>
                  <a:lnTo>
                    <a:pt x="1349" y="994"/>
                  </a:lnTo>
                  <a:lnTo>
                    <a:pt x="1353" y="992"/>
                  </a:lnTo>
                  <a:lnTo>
                    <a:pt x="1357" y="990"/>
                  </a:lnTo>
                  <a:lnTo>
                    <a:pt x="1362" y="989"/>
                  </a:lnTo>
                  <a:lnTo>
                    <a:pt x="1367" y="989"/>
                  </a:lnTo>
                  <a:lnTo>
                    <a:pt x="1371" y="988"/>
                  </a:lnTo>
                  <a:lnTo>
                    <a:pt x="1380" y="986"/>
                  </a:lnTo>
                  <a:lnTo>
                    <a:pt x="1390" y="986"/>
                  </a:lnTo>
                  <a:lnTo>
                    <a:pt x="1402" y="987"/>
                  </a:lnTo>
                  <a:lnTo>
                    <a:pt x="1407" y="987"/>
                  </a:lnTo>
                  <a:lnTo>
                    <a:pt x="1413" y="988"/>
                  </a:lnTo>
                  <a:lnTo>
                    <a:pt x="1418" y="989"/>
                  </a:lnTo>
                  <a:lnTo>
                    <a:pt x="1423" y="990"/>
                  </a:lnTo>
                  <a:lnTo>
                    <a:pt x="1429" y="991"/>
                  </a:lnTo>
                  <a:lnTo>
                    <a:pt x="1433" y="993"/>
                  </a:lnTo>
                  <a:lnTo>
                    <a:pt x="1438" y="995"/>
                  </a:lnTo>
                  <a:lnTo>
                    <a:pt x="1442" y="997"/>
                  </a:lnTo>
                  <a:lnTo>
                    <a:pt x="1447" y="1000"/>
                  </a:lnTo>
                  <a:lnTo>
                    <a:pt x="1451" y="1002"/>
                  </a:lnTo>
                  <a:lnTo>
                    <a:pt x="1455" y="1005"/>
                  </a:lnTo>
                  <a:lnTo>
                    <a:pt x="1459" y="1008"/>
                  </a:lnTo>
                  <a:lnTo>
                    <a:pt x="1468" y="1015"/>
                  </a:lnTo>
                  <a:lnTo>
                    <a:pt x="1475" y="1023"/>
                  </a:lnTo>
                  <a:lnTo>
                    <a:pt x="1481" y="1030"/>
                  </a:lnTo>
                  <a:lnTo>
                    <a:pt x="1486" y="1039"/>
                  </a:lnTo>
                  <a:lnTo>
                    <a:pt x="1490" y="1047"/>
                  </a:lnTo>
                  <a:lnTo>
                    <a:pt x="1493" y="1057"/>
                  </a:lnTo>
                  <a:lnTo>
                    <a:pt x="1495" y="1066"/>
                  </a:lnTo>
                  <a:lnTo>
                    <a:pt x="1498" y="1076"/>
                  </a:lnTo>
                  <a:lnTo>
                    <a:pt x="1498" y="1087"/>
                  </a:lnTo>
                  <a:lnTo>
                    <a:pt x="1498" y="1097"/>
                  </a:lnTo>
                  <a:lnTo>
                    <a:pt x="1496" y="1107"/>
                  </a:lnTo>
                  <a:lnTo>
                    <a:pt x="1494" y="1118"/>
                  </a:lnTo>
                  <a:lnTo>
                    <a:pt x="1492" y="1127"/>
                  </a:lnTo>
                  <a:lnTo>
                    <a:pt x="1489" y="1136"/>
                  </a:lnTo>
                  <a:lnTo>
                    <a:pt x="1485" y="1146"/>
                  </a:lnTo>
                  <a:lnTo>
                    <a:pt x="1481" y="1155"/>
                  </a:lnTo>
                  <a:lnTo>
                    <a:pt x="1476" y="1164"/>
                  </a:lnTo>
                  <a:lnTo>
                    <a:pt x="1470" y="1173"/>
                  </a:lnTo>
                  <a:lnTo>
                    <a:pt x="1464" y="1181"/>
                  </a:lnTo>
                  <a:lnTo>
                    <a:pt x="1456" y="1190"/>
                  </a:lnTo>
                  <a:lnTo>
                    <a:pt x="1448" y="1198"/>
                  </a:lnTo>
                  <a:lnTo>
                    <a:pt x="1430" y="1214"/>
                  </a:lnTo>
                  <a:lnTo>
                    <a:pt x="1409" y="1229"/>
                  </a:lnTo>
                  <a:lnTo>
                    <a:pt x="1386" y="1243"/>
                  </a:lnTo>
                  <a:lnTo>
                    <a:pt x="1363" y="1255"/>
                  </a:lnTo>
                  <a:lnTo>
                    <a:pt x="1337" y="1265"/>
                  </a:lnTo>
                  <a:lnTo>
                    <a:pt x="1310" y="1273"/>
                  </a:lnTo>
                  <a:lnTo>
                    <a:pt x="1281" y="1279"/>
                  </a:lnTo>
                  <a:lnTo>
                    <a:pt x="1252" y="1284"/>
                  </a:lnTo>
                  <a:lnTo>
                    <a:pt x="1222" y="1287"/>
                  </a:lnTo>
                  <a:lnTo>
                    <a:pt x="1189" y="1288"/>
                  </a:lnTo>
                  <a:lnTo>
                    <a:pt x="1142" y="1286"/>
                  </a:lnTo>
                  <a:lnTo>
                    <a:pt x="1097" y="1280"/>
                  </a:lnTo>
                  <a:lnTo>
                    <a:pt x="1074" y="1276"/>
                  </a:lnTo>
                  <a:lnTo>
                    <a:pt x="1053" y="1272"/>
                  </a:lnTo>
                  <a:lnTo>
                    <a:pt x="1031" y="1266"/>
                  </a:lnTo>
                  <a:lnTo>
                    <a:pt x="1009" y="1258"/>
                  </a:lnTo>
                  <a:lnTo>
                    <a:pt x="968" y="1242"/>
                  </a:lnTo>
                  <a:lnTo>
                    <a:pt x="927" y="1221"/>
                  </a:lnTo>
                  <a:lnTo>
                    <a:pt x="888" y="1198"/>
                  </a:lnTo>
                  <a:lnTo>
                    <a:pt x="850" y="1170"/>
                  </a:lnTo>
                  <a:lnTo>
                    <a:pt x="831" y="1154"/>
                  </a:lnTo>
                  <a:lnTo>
                    <a:pt x="813" y="1136"/>
                  </a:lnTo>
                  <a:lnTo>
                    <a:pt x="775" y="1096"/>
                  </a:lnTo>
                  <a:lnTo>
                    <a:pt x="738" y="1050"/>
                  </a:lnTo>
                  <a:lnTo>
                    <a:pt x="700" y="995"/>
                  </a:lnTo>
                  <a:lnTo>
                    <a:pt x="663" y="934"/>
                  </a:lnTo>
                  <a:lnTo>
                    <a:pt x="626" y="866"/>
                  </a:lnTo>
                  <a:lnTo>
                    <a:pt x="553" y="709"/>
                  </a:lnTo>
                  <a:lnTo>
                    <a:pt x="532" y="659"/>
                  </a:lnTo>
                  <a:lnTo>
                    <a:pt x="511" y="617"/>
                  </a:lnTo>
                  <a:lnTo>
                    <a:pt x="501" y="599"/>
                  </a:lnTo>
                  <a:lnTo>
                    <a:pt x="491" y="583"/>
                  </a:lnTo>
                  <a:lnTo>
                    <a:pt x="482" y="570"/>
                  </a:lnTo>
                  <a:lnTo>
                    <a:pt x="474" y="558"/>
                  </a:lnTo>
                  <a:lnTo>
                    <a:pt x="465" y="547"/>
                  </a:lnTo>
                  <a:lnTo>
                    <a:pt x="455" y="536"/>
                  </a:lnTo>
                  <a:lnTo>
                    <a:pt x="445" y="527"/>
                  </a:lnTo>
                  <a:lnTo>
                    <a:pt x="436" y="518"/>
                  </a:lnTo>
                  <a:lnTo>
                    <a:pt x="425" y="508"/>
                  </a:lnTo>
                  <a:lnTo>
                    <a:pt x="414" y="500"/>
                  </a:lnTo>
                  <a:lnTo>
                    <a:pt x="403" y="491"/>
                  </a:lnTo>
                  <a:lnTo>
                    <a:pt x="392" y="483"/>
                  </a:lnTo>
                  <a:lnTo>
                    <a:pt x="275" y="908"/>
                  </a:lnTo>
                  <a:lnTo>
                    <a:pt x="51" y="908"/>
                  </a:lnTo>
                  <a:lnTo>
                    <a:pt x="141" y="604"/>
                  </a:lnTo>
                  <a:lnTo>
                    <a:pt x="224" y="323"/>
                  </a:lnTo>
                  <a:lnTo>
                    <a:pt x="244" y="242"/>
                  </a:lnTo>
                  <a:lnTo>
                    <a:pt x="249" y="215"/>
                  </a:lnTo>
                  <a:lnTo>
                    <a:pt x="252" y="205"/>
                  </a:lnTo>
                  <a:lnTo>
                    <a:pt x="252" y="198"/>
                  </a:lnTo>
                  <a:lnTo>
                    <a:pt x="252" y="198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0" y="197"/>
                  </a:lnTo>
                  <a:lnTo>
                    <a:pt x="250" y="197"/>
                  </a:lnTo>
                  <a:lnTo>
                    <a:pt x="250" y="196"/>
                  </a:lnTo>
                  <a:lnTo>
                    <a:pt x="250" y="196"/>
                  </a:lnTo>
                  <a:lnTo>
                    <a:pt x="250" y="196"/>
                  </a:lnTo>
                  <a:lnTo>
                    <a:pt x="250" y="196"/>
                  </a:lnTo>
                  <a:lnTo>
                    <a:pt x="249" y="196"/>
                  </a:lnTo>
                  <a:lnTo>
                    <a:pt x="249" y="196"/>
                  </a:lnTo>
                  <a:lnTo>
                    <a:pt x="249" y="196"/>
                  </a:lnTo>
                  <a:lnTo>
                    <a:pt x="247" y="196"/>
                  </a:lnTo>
                  <a:lnTo>
                    <a:pt x="244" y="197"/>
                  </a:lnTo>
                  <a:lnTo>
                    <a:pt x="238" y="197"/>
                  </a:lnTo>
                  <a:lnTo>
                    <a:pt x="231" y="200"/>
                  </a:lnTo>
                  <a:lnTo>
                    <a:pt x="224" y="203"/>
                  </a:lnTo>
                  <a:lnTo>
                    <a:pt x="205" y="213"/>
                  </a:lnTo>
                  <a:lnTo>
                    <a:pt x="184" y="225"/>
                  </a:lnTo>
                  <a:lnTo>
                    <a:pt x="158" y="242"/>
                  </a:lnTo>
                  <a:lnTo>
                    <a:pt x="129" y="263"/>
                  </a:lnTo>
                  <a:lnTo>
                    <a:pt x="61" y="315"/>
                  </a:lnTo>
                  <a:lnTo>
                    <a:pt x="0" y="260"/>
                  </a:lnTo>
                  <a:lnTo>
                    <a:pt x="32" y="231"/>
                  </a:lnTo>
                  <a:lnTo>
                    <a:pt x="64" y="203"/>
                  </a:lnTo>
                  <a:lnTo>
                    <a:pt x="95" y="179"/>
                  </a:lnTo>
                  <a:lnTo>
                    <a:pt x="126" y="156"/>
                  </a:lnTo>
                  <a:lnTo>
                    <a:pt x="157" y="135"/>
                  </a:lnTo>
                  <a:lnTo>
                    <a:pt x="188" y="117"/>
                  </a:lnTo>
                  <a:lnTo>
                    <a:pt x="219" y="102"/>
                  </a:lnTo>
                  <a:lnTo>
                    <a:pt x="248" y="89"/>
                  </a:lnTo>
                  <a:lnTo>
                    <a:pt x="305" y="66"/>
                  </a:lnTo>
                  <a:lnTo>
                    <a:pt x="330" y="58"/>
                  </a:lnTo>
                  <a:lnTo>
                    <a:pt x="353" y="51"/>
                  </a:lnTo>
                  <a:lnTo>
                    <a:pt x="375" y="45"/>
                  </a:lnTo>
                  <a:lnTo>
                    <a:pt x="394" y="42"/>
                  </a:lnTo>
                  <a:lnTo>
                    <a:pt x="411" y="39"/>
                  </a:lnTo>
                  <a:lnTo>
                    <a:pt x="419" y="38"/>
                  </a:lnTo>
                  <a:lnTo>
                    <a:pt x="427" y="38"/>
                  </a:lnTo>
                  <a:lnTo>
                    <a:pt x="436" y="38"/>
                  </a:lnTo>
                  <a:lnTo>
                    <a:pt x="444" y="39"/>
                  </a:lnTo>
                  <a:lnTo>
                    <a:pt x="451" y="40"/>
                  </a:lnTo>
                  <a:lnTo>
                    <a:pt x="458" y="42"/>
                  </a:lnTo>
                  <a:lnTo>
                    <a:pt x="465" y="44"/>
                  </a:lnTo>
                  <a:lnTo>
                    <a:pt x="471" y="45"/>
                  </a:lnTo>
                  <a:lnTo>
                    <a:pt x="476" y="48"/>
                  </a:lnTo>
                  <a:lnTo>
                    <a:pt x="481" y="51"/>
                  </a:lnTo>
                  <a:lnTo>
                    <a:pt x="485" y="55"/>
                  </a:lnTo>
                  <a:lnTo>
                    <a:pt x="489" y="58"/>
                  </a:lnTo>
                  <a:lnTo>
                    <a:pt x="492" y="62"/>
                  </a:lnTo>
                  <a:lnTo>
                    <a:pt x="496" y="67"/>
                  </a:lnTo>
                  <a:lnTo>
                    <a:pt x="497" y="72"/>
                  </a:lnTo>
                  <a:lnTo>
                    <a:pt x="499" y="78"/>
                  </a:lnTo>
                  <a:lnTo>
                    <a:pt x="500" y="83"/>
                  </a:lnTo>
                  <a:lnTo>
                    <a:pt x="500" y="89"/>
                  </a:lnTo>
                  <a:lnTo>
                    <a:pt x="500" y="94"/>
                  </a:lnTo>
                  <a:lnTo>
                    <a:pt x="499" y="99"/>
                  </a:lnTo>
                  <a:lnTo>
                    <a:pt x="496" y="114"/>
                  </a:lnTo>
                  <a:lnTo>
                    <a:pt x="490" y="134"/>
                  </a:lnTo>
                  <a:lnTo>
                    <a:pt x="483" y="161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87800" y="1314360"/>
              <a:ext cx="392040" cy="324000"/>
            </a:xfrm>
            <a:custGeom>
              <a:avLst/>
              <a:gdLst/>
              <a:ahLst/>
              <a:rect l="l" t="t" r="r" b="b"/>
              <a:pathLst>
                <a:path w="1091" h="901">
                  <a:moveTo>
                    <a:pt x="817" y="24"/>
                  </a:moveTo>
                  <a:lnTo>
                    <a:pt x="1032" y="24"/>
                  </a:lnTo>
                  <a:lnTo>
                    <a:pt x="918" y="393"/>
                  </a:lnTo>
                  <a:lnTo>
                    <a:pt x="845" y="624"/>
                  </a:lnTo>
                  <a:lnTo>
                    <a:pt x="827" y="692"/>
                  </a:lnTo>
                  <a:lnTo>
                    <a:pt x="822" y="715"/>
                  </a:lnTo>
                  <a:lnTo>
                    <a:pt x="821" y="722"/>
                  </a:lnTo>
                  <a:lnTo>
                    <a:pt x="821" y="728"/>
                  </a:lnTo>
                  <a:lnTo>
                    <a:pt x="821" y="731"/>
                  </a:lnTo>
                  <a:lnTo>
                    <a:pt x="821" y="733"/>
                  </a:lnTo>
                  <a:lnTo>
                    <a:pt x="821" y="736"/>
                  </a:lnTo>
                  <a:lnTo>
                    <a:pt x="822" y="737"/>
                  </a:lnTo>
                  <a:lnTo>
                    <a:pt x="822" y="739"/>
                  </a:lnTo>
                  <a:lnTo>
                    <a:pt x="823" y="741"/>
                  </a:lnTo>
                  <a:lnTo>
                    <a:pt x="823" y="742"/>
                  </a:lnTo>
                  <a:lnTo>
                    <a:pt x="823" y="743"/>
                  </a:lnTo>
                  <a:lnTo>
                    <a:pt x="824" y="743"/>
                  </a:lnTo>
                  <a:lnTo>
                    <a:pt x="824" y="743"/>
                  </a:lnTo>
                  <a:lnTo>
                    <a:pt x="825" y="744"/>
                  </a:lnTo>
                  <a:lnTo>
                    <a:pt x="827" y="746"/>
                  </a:lnTo>
                  <a:lnTo>
                    <a:pt x="828" y="746"/>
                  </a:lnTo>
                  <a:lnTo>
                    <a:pt x="828" y="746"/>
                  </a:lnTo>
                  <a:lnTo>
                    <a:pt x="828" y="747"/>
                  </a:lnTo>
                  <a:lnTo>
                    <a:pt x="828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31" y="747"/>
                  </a:lnTo>
                  <a:lnTo>
                    <a:pt x="832" y="747"/>
                  </a:lnTo>
                  <a:lnTo>
                    <a:pt x="836" y="746"/>
                  </a:lnTo>
                  <a:lnTo>
                    <a:pt x="840" y="745"/>
                  </a:lnTo>
                  <a:lnTo>
                    <a:pt x="843" y="744"/>
                  </a:lnTo>
                  <a:lnTo>
                    <a:pt x="847" y="743"/>
                  </a:lnTo>
                  <a:lnTo>
                    <a:pt x="851" y="741"/>
                  </a:lnTo>
                  <a:lnTo>
                    <a:pt x="857" y="739"/>
                  </a:lnTo>
                  <a:lnTo>
                    <a:pt x="861" y="737"/>
                  </a:lnTo>
                  <a:lnTo>
                    <a:pt x="872" y="730"/>
                  </a:lnTo>
                  <a:lnTo>
                    <a:pt x="885" y="721"/>
                  </a:lnTo>
                  <a:lnTo>
                    <a:pt x="921" y="696"/>
                  </a:lnTo>
                  <a:lnTo>
                    <a:pt x="1027" y="618"/>
                  </a:lnTo>
                  <a:lnTo>
                    <a:pt x="1090" y="675"/>
                  </a:lnTo>
                  <a:lnTo>
                    <a:pt x="1029" y="728"/>
                  </a:lnTo>
                  <a:lnTo>
                    <a:pt x="972" y="774"/>
                  </a:lnTo>
                  <a:lnTo>
                    <a:pt x="918" y="812"/>
                  </a:lnTo>
                  <a:lnTo>
                    <a:pt x="869" y="844"/>
                  </a:lnTo>
                  <a:lnTo>
                    <a:pt x="824" y="868"/>
                  </a:lnTo>
                  <a:lnTo>
                    <a:pt x="803" y="878"/>
                  </a:lnTo>
                  <a:lnTo>
                    <a:pt x="782" y="886"/>
                  </a:lnTo>
                  <a:lnTo>
                    <a:pt x="764" y="892"/>
                  </a:lnTo>
                  <a:lnTo>
                    <a:pt x="745" y="896"/>
                  </a:lnTo>
                  <a:lnTo>
                    <a:pt x="729" y="899"/>
                  </a:lnTo>
                  <a:lnTo>
                    <a:pt x="712" y="900"/>
                  </a:lnTo>
                  <a:lnTo>
                    <a:pt x="700" y="899"/>
                  </a:lnTo>
                  <a:lnTo>
                    <a:pt x="695" y="899"/>
                  </a:lnTo>
                  <a:lnTo>
                    <a:pt x="689" y="898"/>
                  </a:lnTo>
                  <a:lnTo>
                    <a:pt x="684" y="897"/>
                  </a:lnTo>
                  <a:lnTo>
                    <a:pt x="677" y="896"/>
                  </a:lnTo>
                  <a:lnTo>
                    <a:pt x="672" y="894"/>
                  </a:lnTo>
                  <a:lnTo>
                    <a:pt x="667" y="892"/>
                  </a:lnTo>
                  <a:lnTo>
                    <a:pt x="662" y="890"/>
                  </a:lnTo>
                  <a:lnTo>
                    <a:pt x="658" y="888"/>
                  </a:lnTo>
                  <a:lnTo>
                    <a:pt x="653" y="885"/>
                  </a:lnTo>
                  <a:lnTo>
                    <a:pt x="648" y="883"/>
                  </a:lnTo>
                  <a:lnTo>
                    <a:pt x="638" y="877"/>
                  </a:lnTo>
                  <a:lnTo>
                    <a:pt x="630" y="870"/>
                  </a:lnTo>
                  <a:lnTo>
                    <a:pt x="626" y="866"/>
                  </a:lnTo>
                  <a:lnTo>
                    <a:pt x="622" y="862"/>
                  </a:lnTo>
                  <a:lnTo>
                    <a:pt x="619" y="858"/>
                  </a:lnTo>
                  <a:lnTo>
                    <a:pt x="616" y="853"/>
                  </a:lnTo>
                  <a:lnTo>
                    <a:pt x="613" y="849"/>
                  </a:lnTo>
                  <a:lnTo>
                    <a:pt x="609" y="845"/>
                  </a:lnTo>
                  <a:lnTo>
                    <a:pt x="605" y="834"/>
                  </a:lnTo>
                  <a:lnTo>
                    <a:pt x="601" y="823"/>
                  </a:lnTo>
                  <a:lnTo>
                    <a:pt x="599" y="812"/>
                  </a:lnTo>
                  <a:lnTo>
                    <a:pt x="597" y="800"/>
                  </a:lnTo>
                  <a:lnTo>
                    <a:pt x="597" y="788"/>
                  </a:lnTo>
                  <a:lnTo>
                    <a:pt x="597" y="774"/>
                  </a:lnTo>
                  <a:lnTo>
                    <a:pt x="599" y="760"/>
                  </a:lnTo>
                  <a:lnTo>
                    <a:pt x="600" y="745"/>
                  </a:lnTo>
                  <a:lnTo>
                    <a:pt x="603" y="731"/>
                  </a:lnTo>
                  <a:lnTo>
                    <a:pt x="607" y="716"/>
                  </a:lnTo>
                  <a:lnTo>
                    <a:pt x="612" y="702"/>
                  </a:lnTo>
                  <a:lnTo>
                    <a:pt x="617" y="686"/>
                  </a:lnTo>
                  <a:lnTo>
                    <a:pt x="623" y="671"/>
                  </a:lnTo>
                  <a:lnTo>
                    <a:pt x="605" y="695"/>
                  </a:lnTo>
                  <a:lnTo>
                    <a:pt x="585" y="718"/>
                  </a:lnTo>
                  <a:lnTo>
                    <a:pt x="561" y="740"/>
                  </a:lnTo>
                  <a:lnTo>
                    <a:pt x="534" y="762"/>
                  </a:lnTo>
                  <a:lnTo>
                    <a:pt x="505" y="783"/>
                  </a:lnTo>
                  <a:lnTo>
                    <a:pt x="473" y="805"/>
                  </a:lnTo>
                  <a:lnTo>
                    <a:pt x="438" y="825"/>
                  </a:lnTo>
                  <a:lnTo>
                    <a:pt x="398" y="845"/>
                  </a:lnTo>
                  <a:lnTo>
                    <a:pt x="372" y="856"/>
                  </a:lnTo>
                  <a:lnTo>
                    <a:pt x="346" y="867"/>
                  </a:lnTo>
                  <a:lnTo>
                    <a:pt x="320" y="877"/>
                  </a:lnTo>
                  <a:lnTo>
                    <a:pt x="296" y="884"/>
                  </a:lnTo>
                  <a:lnTo>
                    <a:pt x="272" y="890"/>
                  </a:lnTo>
                  <a:lnTo>
                    <a:pt x="249" y="894"/>
                  </a:lnTo>
                  <a:lnTo>
                    <a:pt x="227" y="896"/>
                  </a:lnTo>
                  <a:lnTo>
                    <a:pt x="206" y="897"/>
                  </a:lnTo>
                  <a:lnTo>
                    <a:pt x="193" y="896"/>
                  </a:lnTo>
                  <a:lnTo>
                    <a:pt x="181" y="896"/>
                  </a:lnTo>
                  <a:lnTo>
                    <a:pt x="175" y="895"/>
                  </a:lnTo>
                  <a:lnTo>
                    <a:pt x="170" y="893"/>
                  </a:lnTo>
                  <a:lnTo>
                    <a:pt x="164" y="891"/>
                  </a:lnTo>
                  <a:lnTo>
                    <a:pt x="158" y="890"/>
                  </a:lnTo>
                  <a:lnTo>
                    <a:pt x="153" y="888"/>
                  </a:lnTo>
                  <a:lnTo>
                    <a:pt x="148" y="885"/>
                  </a:lnTo>
                  <a:lnTo>
                    <a:pt x="144" y="884"/>
                  </a:lnTo>
                  <a:lnTo>
                    <a:pt x="139" y="881"/>
                  </a:lnTo>
                  <a:lnTo>
                    <a:pt x="135" y="878"/>
                  </a:lnTo>
                  <a:lnTo>
                    <a:pt x="131" y="875"/>
                  </a:lnTo>
                  <a:lnTo>
                    <a:pt x="127" y="872"/>
                  </a:lnTo>
                  <a:lnTo>
                    <a:pt x="122" y="868"/>
                  </a:lnTo>
                  <a:lnTo>
                    <a:pt x="119" y="865"/>
                  </a:lnTo>
                  <a:lnTo>
                    <a:pt x="115" y="861"/>
                  </a:lnTo>
                  <a:lnTo>
                    <a:pt x="112" y="856"/>
                  </a:lnTo>
                  <a:lnTo>
                    <a:pt x="109" y="852"/>
                  </a:lnTo>
                  <a:lnTo>
                    <a:pt x="104" y="843"/>
                  </a:lnTo>
                  <a:lnTo>
                    <a:pt x="100" y="833"/>
                  </a:lnTo>
                  <a:lnTo>
                    <a:pt x="97" y="822"/>
                  </a:lnTo>
                  <a:lnTo>
                    <a:pt x="95" y="810"/>
                  </a:lnTo>
                  <a:lnTo>
                    <a:pt x="93" y="796"/>
                  </a:lnTo>
                  <a:lnTo>
                    <a:pt x="93" y="783"/>
                  </a:lnTo>
                  <a:lnTo>
                    <a:pt x="94" y="762"/>
                  </a:lnTo>
                  <a:lnTo>
                    <a:pt x="96" y="741"/>
                  </a:lnTo>
                  <a:lnTo>
                    <a:pt x="99" y="719"/>
                  </a:lnTo>
                  <a:lnTo>
                    <a:pt x="104" y="696"/>
                  </a:lnTo>
                  <a:lnTo>
                    <a:pt x="114" y="657"/>
                  </a:lnTo>
                  <a:lnTo>
                    <a:pt x="132" y="602"/>
                  </a:lnTo>
                  <a:lnTo>
                    <a:pt x="182" y="446"/>
                  </a:lnTo>
                  <a:lnTo>
                    <a:pt x="217" y="341"/>
                  </a:lnTo>
                  <a:lnTo>
                    <a:pt x="242" y="259"/>
                  </a:lnTo>
                  <a:lnTo>
                    <a:pt x="256" y="201"/>
                  </a:lnTo>
                  <a:lnTo>
                    <a:pt x="260" y="182"/>
                  </a:lnTo>
                  <a:lnTo>
                    <a:pt x="261" y="173"/>
                  </a:lnTo>
                  <a:lnTo>
                    <a:pt x="261" y="167"/>
                  </a:lnTo>
                  <a:lnTo>
                    <a:pt x="261" y="164"/>
                  </a:lnTo>
                  <a:lnTo>
                    <a:pt x="261" y="163"/>
                  </a:lnTo>
                  <a:lnTo>
                    <a:pt x="261" y="162"/>
                  </a:lnTo>
                  <a:lnTo>
                    <a:pt x="261" y="161"/>
                  </a:lnTo>
                  <a:lnTo>
                    <a:pt x="261" y="161"/>
                  </a:lnTo>
                  <a:lnTo>
                    <a:pt x="261" y="161"/>
                  </a:lnTo>
                  <a:lnTo>
                    <a:pt x="261" y="160"/>
                  </a:lnTo>
                  <a:lnTo>
                    <a:pt x="261" y="160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0" y="160"/>
                  </a:lnTo>
                  <a:lnTo>
                    <a:pt x="258" y="160"/>
                  </a:lnTo>
                  <a:lnTo>
                    <a:pt x="256" y="161"/>
                  </a:lnTo>
                  <a:lnTo>
                    <a:pt x="254" y="161"/>
                  </a:lnTo>
                  <a:lnTo>
                    <a:pt x="249" y="163"/>
                  </a:lnTo>
                  <a:lnTo>
                    <a:pt x="244" y="165"/>
                  </a:lnTo>
                  <a:lnTo>
                    <a:pt x="237" y="166"/>
                  </a:lnTo>
                  <a:lnTo>
                    <a:pt x="231" y="170"/>
                  </a:lnTo>
                  <a:lnTo>
                    <a:pt x="223" y="172"/>
                  </a:lnTo>
                  <a:lnTo>
                    <a:pt x="215" y="177"/>
                  </a:lnTo>
                  <a:lnTo>
                    <a:pt x="206" y="182"/>
                  </a:lnTo>
                  <a:lnTo>
                    <a:pt x="193" y="188"/>
                  </a:lnTo>
                  <a:lnTo>
                    <a:pt x="164" y="206"/>
                  </a:lnTo>
                  <a:lnTo>
                    <a:pt x="78" y="265"/>
                  </a:lnTo>
                  <a:lnTo>
                    <a:pt x="0" y="212"/>
                  </a:lnTo>
                  <a:lnTo>
                    <a:pt x="80" y="150"/>
                  </a:lnTo>
                  <a:lnTo>
                    <a:pt x="150" y="101"/>
                  </a:lnTo>
                  <a:lnTo>
                    <a:pt x="181" y="81"/>
                  </a:lnTo>
                  <a:lnTo>
                    <a:pt x="209" y="64"/>
                  </a:lnTo>
                  <a:lnTo>
                    <a:pt x="235" y="49"/>
                  </a:lnTo>
                  <a:lnTo>
                    <a:pt x="258" y="38"/>
                  </a:lnTo>
                  <a:lnTo>
                    <a:pt x="280" y="29"/>
                  </a:lnTo>
                  <a:lnTo>
                    <a:pt x="301" y="21"/>
                  </a:lnTo>
                  <a:lnTo>
                    <a:pt x="320" y="15"/>
                  </a:lnTo>
                  <a:lnTo>
                    <a:pt x="339" y="9"/>
                  </a:lnTo>
                  <a:lnTo>
                    <a:pt x="356" y="5"/>
                  </a:lnTo>
                  <a:lnTo>
                    <a:pt x="373" y="2"/>
                  </a:lnTo>
                  <a:lnTo>
                    <a:pt x="389" y="1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3" y="2"/>
                  </a:lnTo>
                  <a:lnTo>
                    <a:pt x="427" y="2"/>
                  </a:lnTo>
                  <a:lnTo>
                    <a:pt x="431" y="3"/>
                  </a:lnTo>
                  <a:lnTo>
                    <a:pt x="435" y="4"/>
                  </a:lnTo>
                  <a:lnTo>
                    <a:pt x="440" y="6"/>
                  </a:lnTo>
                  <a:lnTo>
                    <a:pt x="444" y="7"/>
                  </a:lnTo>
                  <a:lnTo>
                    <a:pt x="448" y="9"/>
                  </a:lnTo>
                  <a:lnTo>
                    <a:pt x="452" y="11"/>
                  </a:lnTo>
                  <a:lnTo>
                    <a:pt x="455" y="13"/>
                  </a:lnTo>
                  <a:lnTo>
                    <a:pt x="458" y="15"/>
                  </a:lnTo>
                  <a:lnTo>
                    <a:pt x="462" y="18"/>
                  </a:lnTo>
                  <a:lnTo>
                    <a:pt x="465" y="21"/>
                  </a:lnTo>
                  <a:lnTo>
                    <a:pt x="468" y="24"/>
                  </a:lnTo>
                  <a:lnTo>
                    <a:pt x="471" y="27"/>
                  </a:lnTo>
                  <a:lnTo>
                    <a:pt x="475" y="30"/>
                  </a:lnTo>
                  <a:lnTo>
                    <a:pt x="477" y="33"/>
                  </a:lnTo>
                  <a:lnTo>
                    <a:pt x="480" y="37"/>
                  </a:lnTo>
                  <a:lnTo>
                    <a:pt x="484" y="44"/>
                  </a:lnTo>
                  <a:lnTo>
                    <a:pt x="487" y="53"/>
                  </a:lnTo>
                  <a:lnTo>
                    <a:pt x="490" y="61"/>
                  </a:lnTo>
                  <a:lnTo>
                    <a:pt x="492" y="70"/>
                  </a:lnTo>
                  <a:lnTo>
                    <a:pt x="493" y="81"/>
                  </a:lnTo>
                  <a:lnTo>
                    <a:pt x="493" y="91"/>
                  </a:lnTo>
                  <a:lnTo>
                    <a:pt x="492" y="111"/>
                  </a:lnTo>
                  <a:lnTo>
                    <a:pt x="488" y="138"/>
                  </a:lnTo>
                  <a:lnTo>
                    <a:pt x="471" y="210"/>
                  </a:lnTo>
                  <a:lnTo>
                    <a:pt x="445" y="307"/>
                  </a:lnTo>
                  <a:lnTo>
                    <a:pt x="407" y="429"/>
                  </a:lnTo>
                  <a:lnTo>
                    <a:pt x="351" y="614"/>
                  </a:lnTo>
                  <a:lnTo>
                    <a:pt x="338" y="668"/>
                  </a:lnTo>
                  <a:lnTo>
                    <a:pt x="334" y="686"/>
                  </a:lnTo>
                  <a:lnTo>
                    <a:pt x="332" y="692"/>
                  </a:lnTo>
                  <a:lnTo>
                    <a:pt x="332" y="697"/>
                  </a:lnTo>
                  <a:lnTo>
                    <a:pt x="332" y="700"/>
                  </a:lnTo>
                  <a:lnTo>
                    <a:pt x="332" y="703"/>
                  </a:lnTo>
                  <a:lnTo>
                    <a:pt x="334" y="706"/>
                  </a:lnTo>
                  <a:lnTo>
                    <a:pt x="335" y="709"/>
                  </a:lnTo>
                  <a:lnTo>
                    <a:pt x="335" y="710"/>
                  </a:lnTo>
                  <a:lnTo>
                    <a:pt x="336" y="711"/>
                  </a:lnTo>
                  <a:lnTo>
                    <a:pt x="336" y="713"/>
                  </a:lnTo>
                  <a:lnTo>
                    <a:pt x="337" y="714"/>
                  </a:lnTo>
                  <a:lnTo>
                    <a:pt x="338" y="715"/>
                  </a:lnTo>
                  <a:lnTo>
                    <a:pt x="339" y="716"/>
                  </a:lnTo>
                  <a:lnTo>
                    <a:pt x="340" y="717"/>
                  </a:lnTo>
                  <a:lnTo>
                    <a:pt x="341" y="718"/>
                  </a:lnTo>
                  <a:lnTo>
                    <a:pt x="343" y="720"/>
                  </a:lnTo>
                  <a:lnTo>
                    <a:pt x="345" y="722"/>
                  </a:lnTo>
                  <a:lnTo>
                    <a:pt x="347" y="723"/>
                  </a:lnTo>
                  <a:lnTo>
                    <a:pt x="348" y="724"/>
                  </a:lnTo>
                  <a:lnTo>
                    <a:pt x="349" y="725"/>
                  </a:lnTo>
                  <a:lnTo>
                    <a:pt x="350" y="725"/>
                  </a:lnTo>
                  <a:lnTo>
                    <a:pt x="351" y="726"/>
                  </a:lnTo>
                  <a:lnTo>
                    <a:pt x="352" y="726"/>
                  </a:lnTo>
                  <a:lnTo>
                    <a:pt x="353" y="726"/>
                  </a:lnTo>
                  <a:lnTo>
                    <a:pt x="354" y="726"/>
                  </a:lnTo>
                  <a:lnTo>
                    <a:pt x="355" y="726"/>
                  </a:lnTo>
                  <a:lnTo>
                    <a:pt x="356" y="726"/>
                  </a:lnTo>
                  <a:lnTo>
                    <a:pt x="357" y="726"/>
                  </a:lnTo>
                  <a:lnTo>
                    <a:pt x="364" y="726"/>
                  </a:lnTo>
                  <a:lnTo>
                    <a:pt x="373" y="725"/>
                  </a:lnTo>
                  <a:lnTo>
                    <a:pt x="381" y="723"/>
                  </a:lnTo>
                  <a:lnTo>
                    <a:pt x="389" y="721"/>
                  </a:lnTo>
                  <a:lnTo>
                    <a:pt x="398" y="718"/>
                  </a:lnTo>
                  <a:lnTo>
                    <a:pt x="409" y="715"/>
                  </a:lnTo>
                  <a:lnTo>
                    <a:pt x="429" y="705"/>
                  </a:lnTo>
                  <a:lnTo>
                    <a:pt x="452" y="692"/>
                  </a:lnTo>
                  <a:lnTo>
                    <a:pt x="477" y="678"/>
                  </a:lnTo>
                  <a:lnTo>
                    <a:pt x="502" y="660"/>
                  </a:lnTo>
                  <a:lnTo>
                    <a:pt x="531" y="640"/>
                  </a:lnTo>
                  <a:lnTo>
                    <a:pt x="559" y="618"/>
                  </a:lnTo>
                  <a:lnTo>
                    <a:pt x="584" y="596"/>
                  </a:lnTo>
                  <a:lnTo>
                    <a:pt x="606" y="572"/>
                  </a:lnTo>
                  <a:lnTo>
                    <a:pt x="627" y="548"/>
                  </a:lnTo>
                  <a:lnTo>
                    <a:pt x="644" y="523"/>
                  </a:lnTo>
                  <a:lnTo>
                    <a:pt x="660" y="497"/>
                  </a:lnTo>
                  <a:lnTo>
                    <a:pt x="672" y="471"/>
                  </a:lnTo>
                  <a:lnTo>
                    <a:pt x="683" y="443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98920" y="1312920"/>
              <a:ext cx="287280" cy="322200"/>
            </a:xfrm>
            <a:custGeom>
              <a:avLst/>
              <a:gdLst/>
              <a:ahLst/>
              <a:rect l="l" t="t" r="r" b="b"/>
              <a:pathLst>
                <a:path w="796" h="895">
                  <a:moveTo>
                    <a:pt x="665" y="583"/>
                  </a:moveTo>
                  <a:lnTo>
                    <a:pt x="724" y="649"/>
                  </a:lnTo>
                  <a:lnTo>
                    <a:pt x="649" y="707"/>
                  </a:lnTo>
                  <a:lnTo>
                    <a:pt x="577" y="757"/>
                  </a:lnTo>
                  <a:lnTo>
                    <a:pt x="507" y="798"/>
                  </a:lnTo>
                  <a:lnTo>
                    <a:pt x="440" y="833"/>
                  </a:lnTo>
                  <a:lnTo>
                    <a:pt x="376" y="860"/>
                  </a:lnTo>
                  <a:lnTo>
                    <a:pt x="344" y="871"/>
                  </a:lnTo>
                  <a:lnTo>
                    <a:pt x="314" y="879"/>
                  </a:lnTo>
                  <a:lnTo>
                    <a:pt x="284" y="886"/>
                  </a:lnTo>
                  <a:lnTo>
                    <a:pt x="255" y="890"/>
                  </a:lnTo>
                  <a:lnTo>
                    <a:pt x="226" y="894"/>
                  </a:lnTo>
                  <a:lnTo>
                    <a:pt x="199" y="894"/>
                  </a:lnTo>
                  <a:lnTo>
                    <a:pt x="175" y="894"/>
                  </a:lnTo>
                  <a:lnTo>
                    <a:pt x="153" y="891"/>
                  </a:lnTo>
                  <a:lnTo>
                    <a:pt x="142" y="889"/>
                  </a:lnTo>
                  <a:lnTo>
                    <a:pt x="132" y="887"/>
                  </a:lnTo>
                  <a:lnTo>
                    <a:pt x="122" y="884"/>
                  </a:lnTo>
                  <a:lnTo>
                    <a:pt x="113" y="881"/>
                  </a:lnTo>
                  <a:lnTo>
                    <a:pt x="104" y="877"/>
                  </a:lnTo>
                  <a:lnTo>
                    <a:pt x="95" y="873"/>
                  </a:lnTo>
                  <a:lnTo>
                    <a:pt x="86" y="869"/>
                  </a:lnTo>
                  <a:lnTo>
                    <a:pt x="79" y="865"/>
                  </a:lnTo>
                  <a:lnTo>
                    <a:pt x="71" y="859"/>
                  </a:lnTo>
                  <a:lnTo>
                    <a:pt x="64" y="854"/>
                  </a:lnTo>
                  <a:lnTo>
                    <a:pt x="57" y="848"/>
                  </a:lnTo>
                  <a:lnTo>
                    <a:pt x="50" y="841"/>
                  </a:lnTo>
                  <a:lnTo>
                    <a:pt x="44" y="834"/>
                  </a:lnTo>
                  <a:lnTo>
                    <a:pt x="39" y="826"/>
                  </a:lnTo>
                  <a:lnTo>
                    <a:pt x="34" y="819"/>
                  </a:lnTo>
                  <a:lnTo>
                    <a:pt x="29" y="810"/>
                  </a:lnTo>
                  <a:lnTo>
                    <a:pt x="19" y="792"/>
                  </a:lnTo>
                  <a:lnTo>
                    <a:pt x="13" y="773"/>
                  </a:lnTo>
                  <a:lnTo>
                    <a:pt x="7" y="752"/>
                  </a:lnTo>
                  <a:lnTo>
                    <a:pt x="3" y="729"/>
                  </a:lnTo>
                  <a:lnTo>
                    <a:pt x="1" y="703"/>
                  </a:lnTo>
                  <a:lnTo>
                    <a:pt x="0" y="676"/>
                  </a:lnTo>
                  <a:lnTo>
                    <a:pt x="2" y="622"/>
                  </a:lnTo>
                  <a:lnTo>
                    <a:pt x="10" y="568"/>
                  </a:lnTo>
                  <a:lnTo>
                    <a:pt x="23" y="515"/>
                  </a:lnTo>
                  <a:lnTo>
                    <a:pt x="39" y="461"/>
                  </a:lnTo>
                  <a:lnTo>
                    <a:pt x="62" y="407"/>
                  </a:lnTo>
                  <a:lnTo>
                    <a:pt x="88" y="354"/>
                  </a:lnTo>
                  <a:lnTo>
                    <a:pt x="121" y="300"/>
                  </a:lnTo>
                  <a:lnTo>
                    <a:pt x="158" y="247"/>
                  </a:lnTo>
                  <a:lnTo>
                    <a:pt x="205" y="189"/>
                  </a:lnTo>
                  <a:lnTo>
                    <a:pt x="253" y="139"/>
                  </a:lnTo>
                  <a:lnTo>
                    <a:pt x="279" y="117"/>
                  </a:lnTo>
                  <a:lnTo>
                    <a:pt x="305" y="96"/>
                  </a:lnTo>
                  <a:lnTo>
                    <a:pt x="330" y="79"/>
                  </a:lnTo>
                  <a:lnTo>
                    <a:pt x="358" y="62"/>
                  </a:lnTo>
                  <a:lnTo>
                    <a:pt x="385" y="48"/>
                  </a:lnTo>
                  <a:lnTo>
                    <a:pt x="414" y="35"/>
                  </a:lnTo>
                  <a:lnTo>
                    <a:pt x="443" y="24"/>
                  </a:lnTo>
                  <a:lnTo>
                    <a:pt x="472" y="16"/>
                  </a:lnTo>
                  <a:lnTo>
                    <a:pt x="501" y="9"/>
                  </a:lnTo>
                  <a:lnTo>
                    <a:pt x="532" y="5"/>
                  </a:lnTo>
                  <a:lnTo>
                    <a:pt x="563" y="1"/>
                  </a:lnTo>
                  <a:lnTo>
                    <a:pt x="595" y="0"/>
                  </a:lnTo>
                  <a:lnTo>
                    <a:pt x="618" y="1"/>
                  </a:lnTo>
                  <a:lnTo>
                    <a:pt x="639" y="3"/>
                  </a:lnTo>
                  <a:lnTo>
                    <a:pt x="660" y="6"/>
                  </a:lnTo>
                  <a:lnTo>
                    <a:pt x="680" y="11"/>
                  </a:lnTo>
                  <a:lnTo>
                    <a:pt x="697" y="17"/>
                  </a:lnTo>
                  <a:lnTo>
                    <a:pt x="705" y="20"/>
                  </a:lnTo>
                  <a:lnTo>
                    <a:pt x="714" y="23"/>
                  </a:lnTo>
                  <a:lnTo>
                    <a:pt x="721" y="28"/>
                  </a:lnTo>
                  <a:lnTo>
                    <a:pt x="729" y="32"/>
                  </a:lnTo>
                  <a:lnTo>
                    <a:pt x="735" y="36"/>
                  </a:lnTo>
                  <a:lnTo>
                    <a:pt x="742" y="41"/>
                  </a:lnTo>
                  <a:lnTo>
                    <a:pt x="749" y="46"/>
                  </a:lnTo>
                  <a:lnTo>
                    <a:pt x="755" y="52"/>
                  </a:lnTo>
                  <a:lnTo>
                    <a:pt x="760" y="58"/>
                  </a:lnTo>
                  <a:lnTo>
                    <a:pt x="765" y="64"/>
                  </a:lnTo>
                  <a:lnTo>
                    <a:pt x="770" y="70"/>
                  </a:lnTo>
                  <a:lnTo>
                    <a:pt x="774" y="76"/>
                  </a:lnTo>
                  <a:lnTo>
                    <a:pt x="778" y="83"/>
                  </a:lnTo>
                  <a:lnTo>
                    <a:pt x="781" y="90"/>
                  </a:lnTo>
                  <a:lnTo>
                    <a:pt x="785" y="96"/>
                  </a:lnTo>
                  <a:lnTo>
                    <a:pt x="788" y="104"/>
                  </a:lnTo>
                  <a:lnTo>
                    <a:pt x="792" y="119"/>
                  </a:lnTo>
                  <a:lnTo>
                    <a:pt x="794" y="135"/>
                  </a:lnTo>
                  <a:lnTo>
                    <a:pt x="795" y="152"/>
                  </a:lnTo>
                  <a:lnTo>
                    <a:pt x="794" y="170"/>
                  </a:lnTo>
                  <a:lnTo>
                    <a:pt x="791" y="187"/>
                  </a:lnTo>
                  <a:lnTo>
                    <a:pt x="787" y="204"/>
                  </a:lnTo>
                  <a:lnTo>
                    <a:pt x="780" y="221"/>
                  </a:lnTo>
                  <a:lnTo>
                    <a:pt x="772" y="238"/>
                  </a:lnTo>
                  <a:lnTo>
                    <a:pt x="762" y="255"/>
                  </a:lnTo>
                  <a:lnTo>
                    <a:pt x="751" y="271"/>
                  </a:lnTo>
                  <a:lnTo>
                    <a:pt x="737" y="288"/>
                  </a:lnTo>
                  <a:lnTo>
                    <a:pt x="722" y="304"/>
                  </a:lnTo>
                  <a:lnTo>
                    <a:pt x="704" y="321"/>
                  </a:lnTo>
                  <a:lnTo>
                    <a:pt x="684" y="337"/>
                  </a:lnTo>
                  <a:lnTo>
                    <a:pt x="662" y="353"/>
                  </a:lnTo>
                  <a:lnTo>
                    <a:pt x="637" y="369"/>
                  </a:lnTo>
                  <a:lnTo>
                    <a:pt x="610" y="385"/>
                  </a:lnTo>
                  <a:lnTo>
                    <a:pt x="581" y="402"/>
                  </a:lnTo>
                  <a:lnTo>
                    <a:pt x="549" y="417"/>
                  </a:lnTo>
                  <a:lnTo>
                    <a:pt x="498" y="440"/>
                  </a:lnTo>
                  <a:lnTo>
                    <a:pt x="432" y="467"/>
                  </a:lnTo>
                  <a:lnTo>
                    <a:pt x="251" y="537"/>
                  </a:lnTo>
                  <a:lnTo>
                    <a:pt x="248" y="557"/>
                  </a:lnTo>
                  <a:lnTo>
                    <a:pt x="245" y="579"/>
                  </a:lnTo>
                  <a:lnTo>
                    <a:pt x="244" y="601"/>
                  </a:lnTo>
                  <a:lnTo>
                    <a:pt x="243" y="624"/>
                  </a:lnTo>
                  <a:lnTo>
                    <a:pt x="243" y="639"/>
                  </a:lnTo>
                  <a:lnTo>
                    <a:pt x="244" y="653"/>
                  </a:lnTo>
                  <a:lnTo>
                    <a:pt x="246" y="665"/>
                  </a:lnTo>
                  <a:lnTo>
                    <a:pt x="248" y="676"/>
                  </a:lnTo>
                  <a:lnTo>
                    <a:pt x="251" y="686"/>
                  </a:lnTo>
                  <a:lnTo>
                    <a:pt x="253" y="690"/>
                  </a:lnTo>
                  <a:lnTo>
                    <a:pt x="254" y="695"/>
                  </a:lnTo>
                  <a:lnTo>
                    <a:pt x="256" y="698"/>
                  </a:lnTo>
                  <a:lnTo>
                    <a:pt x="258" y="702"/>
                  </a:lnTo>
                  <a:lnTo>
                    <a:pt x="261" y="705"/>
                  </a:lnTo>
                  <a:lnTo>
                    <a:pt x="264" y="707"/>
                  </a:lnTo>
                  <a:lnTo>
                    <a:pt x="267" y="710"/>
                  </a:lnTo>
                  <a:lnTo>
                    <a:pt x="269" y="713"/>
                  </a:lnTo>
                  <a:lnTo>
                    <a:pt x="272" y="715"/>
                  </a:lnTo>
                  <a:lnTo>
                    <a:pt x="275" y="717"/>
                  </a:lnTo>
                  <a:lnTo>
                    <a:pt x="278" y="719"/>
                  </a:lnTo>
                  <a:lnTo>
                    <a:pt x="281" y="720"/>
                  </a:lnTo>
                  <a:lnTo>
                    <a:pt x="285" y="722"/>
                  </a:lnTo>
                  <a:lnTo>
                    <a:pt x="288" y="724"/>
                  </a:lnTo>
                  <a:lnTo>
                    <a:pt x="292" y="724"/>
                  </a:lnTo>
                  <a:lnTo>
                    <a:pt x="295" y="726"/>
                  </a:lnTo>
                  <a:lnTo>
                    <a:pt x="300" y="727"/>
                  </a:lnTo>
                  <a:lnTo>
                    <a:pt x="304" y="727"/>
                  </a:lnTo>
                  <a:lnTo>
                    <a:pt x="313" y="729"/>
                  </a:lnTo>
                  <a:lnTo>
                    <a:pt x="322" y="729"/>
                  </a:lnTo>
                  <a:lnTo>
                    <a:pt x="334" y="729"/>
                  </a:lnTo>
                  <a:lnTo>
                    <a:pt x="345" y="727"/>
                  </a:lnTo>
                  <a:lnTo>
                    <a:pt x="356" y="726"/>
                  </a:lnTo>
                  <a:lnTo>
                    <a:pt x="368" y="724"/>
                  </a:lnTo>
                  <a:lnTo>
                    <a:pt x="380" y="720"/>
                  </a:lnTo>
                  <a:lnTo>
                    <a:pt x="392" y="717"/>
                  </a:lnTo>
                  <a:lnTo>
                    <a:pt x="406" y="713"/>
                  </a:lnTo>
                  <a:lnTo>
                    <a:pt x="419" y="707"/>
                  </a:lnTo>
                  <a:lnTo>
                    <a:pt x="440" y="699"/>
                  </a:lnTo>
                  <a:lnTo>
                    <a:pt x="463" y="689"/>
                  </a:lnTo>
                  <a:lnTo>
                    <a:pt x="519" y="662"/>
                  </a:lnTo>
                  <a:lnTo>
                    <a:pt x="587" y="627"/>
                  </a:lnTo>
                  <a:close/>
                  <a:moveTo>
                    <a:pt x="268" y="440"/>
                  </a:moveTo>
                  <a:lnTo>
                    <a:pt x="340" y="406"/>
                  </a:lnTo>
                  <a:lnTo>
                    <a:pt x="404" y="373"/>
                  </a:lnTo>
                  <a:lnTo>
                    <a:pt x="432" y="356"/>
                  </a:lnTo>
                  <a:lnTo>
                    <a:pt x="459" y="339"/>
                  </a:lnTo>
                  <a:lnTo>
                    <a:pt x="484" y="322"/>
                  </a:lnTo>
                  <a:lnTo>
                    <a:pt x="507" y="305"/>
                  </a:lnTo>
                  <a:lnTo>
                    <a:pt x="522" y="289"/>
                  </a:lnTo>
                  <a:lnTo>
                    <a:pt x="535" y="274"/>
                  </a:lnTo>
                  <a:lnTo>
                    <a:pt x="547" y="260"/>
                  </a:lnTo>
                  <a:lnTo>
                    <a:pt x="556" y="246"/>
                  </a:lnTo>
                  <a:lnTo>
                    <a:pt x="563" y="232"/>
                  </a:lnTo>
                  <a:lnTo>
                    <a:pt x="566" y="226"/>
                  </a:lnTo>
                  <a:lnTo>
                    <a:pt x="568" y="219"/>
                  </a:lnTo>
                  <a:lnTo>
                    <a:pt x="570" y="213"/>
                  </a:lnTo>
                  <a:lnTo>
                    <a:pt x="571" y="206"/>
                  </a:lnTo>
                  <a:lnTo>
                    <a:pt x="572" y="200"/>
                  </a:lnTo>
                  <a:lnTo>
                    <a:pt x="572" y="194"/>
                  </a:lnTo>
                  <a:lnTo>
                    <a:pt x="572" y="186"/>
                  </a:lnTo>
                  <a:lnTo>
                    <a:pt x="571" y="178"/>
                  </a:lnTo>
                  <a:lnTo>
                    <a:pt x="569" y="170"/>
                  </a:lnTo>
                  <a:lnTo>
                    <a:pt x="567" y="164"/>
                  </a:lnTo>
                  <a:lnTo>
                    <a:pt x="564" y="157"/>
                  </a:lnTo>
                  <a:lnTo>
                    <a:pt x="561" y="151"/>
                  </a:lnTo>
                  <a:lnTo>
                    <a:pt x="559" y="148"/>
                  </a:lnTo>
                  <a:lnTo>
                    <a:pt x="557" y="146"/>
                  </a:lnTo>
                  <a:lnTo>
                    <a:pt x="554" y="143"/>
                  </a:lnTo>
                  <a:lnTo>
                    <a:pt x="552" y="141"/>
                  </a:lnTo>
                  <a:lnTo>
                    <a:pt x="550" y="138"/>
                  </a:lnTo>
                  <a:lnTo>
                    <a:pt x="547" y="136"/>
                  </a:lnTo>
                  <a:lnTo>
                    <a:pt x="544" y="134"/>
                  </a:lnTo>
                  <a:lnTo>
                    <a:pt x="542" y="132"/>
                  </a:lnTo>
                  <a:lnTo>
                    <a:pt x="538" y="130"/>
                  </a:lnTo>
                  <a:lnTo>
                    <a:pt x="535" y="129"/>
                  </a:lnTo>
                  <a:lnTo>
                    <a:pt x="532" y="128"/>
                  </a:lnTo>
                  <a:lnTo>
                    <a:pt x="529" y="126"/>
                  </a:lnTo>
                  <a:lnTo>
                    <a:pt x="525" y="125"/>
                  </a:lnTo>
                  <a:lnTo>
                    <a:pt x="522" y="125"/>
                  </a:lnTo>
                  <a:lnTo>
                    <a:pt x="519" y="124"/>
                  </a:lnTo>
                  <a:lnTo>
                    <a:pt x="515" y="123"/>
                  </a:lnTo>
                  <a:lnTo>
                    <a:pt x="508" y="122"/>
                  </a:lnTo>
                  <a:lnTo>
                    <a:pt x="500" y="122"/>
                  </a:lnTo>
                  <a:lnTo>
                    <a:pt x="496" y="122"/>
                  </a:lnTo>
                  <a:lnTo>
                    <a:pt x="491" y="123"/>
                  </a:lnTo>
                  <a:lnTo>
                    <a:pt x="481" y="124"/>
                  </a:lnTo>
                  <a:lnTo>
                    <a:pt x="469" y="126"/>
                  </a:lnTo>
                  <a:lnTo>
                    <a:pt x="458" y="129"/>
                  </a:lnTo>
                  <a:lnTo>
                    <a:pt x="445" y="133"/>
                  </a:lnTo>
                  <a:lnTo>
                    <a:pt x="431" y="137"/>
                  </a:lnTo>
                  <a:lnTo>
                    <a:pt x="400" y="149"/>
                  </a:lnTo>
                  <a:lnTo>
                    <a:pt x="346" y="226"/>
                  </a:lnTo>
                  <a:lnTo>
                    <a:pt x="320" y="287"/>
                  </a:lnTo>
                  <a:lnTo>
                    <a:pt x="299" y="343"/>
                  </a:lnTo>
                  <a:lnTo>
                    <a:pt x="281" y="39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99120" y="1314360"/>
              <a:ext cx="393480" cy="324000"/>
            </a:xfrm>
            <a:custGeom>
              <a:avLst/>
              <a:gdLst/>
              <a:ahLst/>
              <a:rect l="l" t="t" r="r" b="b"/>
              <a:pathLst>
                <a:path w="1092" h="901">
                  <a:moveTo>
                    <a:pt x="818" y="24"/>
                  </a:moveTo>
                  <a:lnTo>
                    <a:pt x="1032" y="24"/>
                  </a:lnTo>
                  <a:lnTo>
                    <a:pt x="919" y="393"/>
                  </a:lnTo>
                  <a:lnTo>
                    <a:pt x="846" y="624"/>
                  </a:lnTo>
                  <a:lnTo>
                    <a:pt x="827" y="692"/>
                  </a:lnTo>
                  <a:lnTo>
                    <a:pt x="822" y="715"/>
                  </a:lnTo>
                  <a:lnTo>
                    <a:pt x="821" y="722"/>
                  </a:lnTo>
                  <a:lnTo>
                    <a:pt x="821" y="728"/>
                  </a:lnTo>
                  <a:lnTo>
                    <a:pt x="821" y="731"/>
                  </a:lnTo>
                  <a:lnTo>
                    <a:pt x="821" y="733"/>
                  </a:lnTo>
                  <a:lnTo>
                    <a:pt x="821" y="736"/>
                  </a:lnTo>
                  <a:lnTo>
                    <a:pt x="822" y="737"/>
                  </a:lnTo>
                  <a:lnTo>
                    <a:pt x="822" y="739"/>
                  </a:lnTo>
                  <a:lnTo>
                    <a:pt x="823" y="741"/>
                  </a:lnTo>
                  <a:lnTo>
                    <a:pt x="823" y="742"/>
                  </a:lnTo>
                  <a:lnTo>
                    <a:pt x="823" y="743"/>
                  </a:lnTo>
                  <a:lnTo>
                    <a:pt x="824" y="743"/>
                  </a:lnTo>
                  <a:lnTo>
                    <a:pt x="824" y="743"/>
                  </a:lnTo>
                  <a:lnTo>
                    <a:pt x="825" y="744"/>
                  </a:lnTo>
                  <a:lnTo>
                    <a:pt x="827" y="746"/>
                  </a:lnTo>
                  <a:lnTo>
                    <a:pt x="828" y="746"/>
                  </a:lnTo>
                  <a:lnTo>
                    <a:pt x="828" y="746"/>
                  </a:lnTo>
                  <a:lnTo>
                    <a:pt x="828" y="747"/>
                  </a:lnTo>
                  <a:lnTo>
                    <a:pt x="828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29" y="747"/>
                  </a:lnTo>
                  <a:lnTo>
                    <a:pt x="831" y="747"/>
                  </a:lnTo>
                  <a:lnTo>
                    <a:pt x="832" y="747"/>
                  </a:lnTo>
                  <a:lnTo>
                    <a:pt x="836" y="746"/>
                  </a:lnTo>
                  <a:lnTo>
                    <a:pt x="840" y="745"/>
                  </a:lnTo>
                  <a:lnTo>
                    <a:pt x="843" y="744"/>
                  </a:lnTo>
                  <a:lnTo>
                    <a:pt x="848" y="743"/>
                  </a:lnTo>
                  <a:lnTo>
                    <a:pt x="852" y="741"/>
                  </a:lnTo>
                  <a:lnTo>
                    <a:pt x="857" y="739"/>
                  </a:lnTo>
                  <a:lnTo>
                    <a:pt x="861" y="737"/>
                  </a:lnTo>
                  <a:lnTo>
                    <a:pt x="872" y="730"/>
                  </a:lnTo>
                  <a:lnTo>
                    <a:pt x="886" y="721"/>
                  </a:lnTo>
                  <a:lnTo>
                    <a:pt x="922" y="696"/>
                  </a:lnTo>
                  <a:lnTo>
                    <a:pt x="1027" y="618"/>
                  </a:lnTo>
                  <a:lnTo>
                    <a:pt x="1091" y="675"/>
                  </a:lnTo>
                  <a:lnTo>
                    <a:pt x="1029" y="728"/>
                  </a:lnTo>
                  <a:lnTo>
                    <a:pt x="972" y="774"/>
                  </a:lnTo>
                  <a:lnTo>
                    <a:pt x="919" y="812"/>
                  </a:lnTo>
                  <a:lnTo>
                    <a:pt x="869" y="844"/>
                  </a:lnTo>
                  <a:lnTo>
                    <a:pt x="824" y="868"/>
                  </a:lnTo>
                  <a:lnTo>
                    <a:pt x="803" y="878"/>
                  </a:lnTo>
                  <a:lnTo>
                    <a:pt x="783" y="886"/>
                  </a:lnTo>
                  <a:lnTo>
                    <a:pt x="764" y="892"/>
                  </a:lnTo>
                  <a:lnTo>
                    <a:pt x="746" y="896"/>
                  </a:lnTo>
                  <a:lnTo>
                    <a:pt x="729" y="899"/>
                  </a:lnTo>
                  <a:lnTo>
                    <a:pt x="713" y="900"/>
                  </a:lnTo>
                  <a:lnTo>
                    <a:pt x="700" y="899"/>
                  </a:lnTo>
                  <a:lnTo>
                    <a:pt x="695" y="899"/>
                  </a:lnTo>
                  <a:lnTo>
                    <a:pt x="689" y="898"/>
                  </a:lnTo>
                  <a:lnTo>
                    <a:pt x="684" y="897"/>
                  </a:lnTo>
                  <a:lnTo>
                    <a:pt x="678" y="896"/>
                  </a:lnTo>
                  <a:lnTo>
                    <a:pt x="673" y="894"/>
                  </a:lnTo>
                  <a:lnTo>
                    <a:pt x="667" y="892"/>
                  </a:lnTo>
                  <a:lnTo>
                    <a:pt x="662" y="890"/>
                  </a:lnTo>
                  <a:lnTo>
                    <a:pt x="658" y="888"/>
                  </a:lnTo>
                  <a:lnTo>
                    <a:pt x="653" y="885"/>
                  </a:lnTo>
                  <a:lnTo>
                    <a:pt x="648" y="883"/>
                  </a:lnTo>
                  <a:lnTo>
                    <a:pt x="639" y="877"/>
                  </a:lnTo>
                  <a:lnTo>
                    <a:pt x="630" y="870"/>
                  </a:lnTo>
                  <a:lnTo>
                    <a:pt x="626" y="866"/>
                  </a:lnTo>
                  <a:lnTo>
                    <a:pt x="622" y="862"/>
                  </a:lnTo>
                  <a:lnTo>
                    <a:pt x="619" y="858"/>
                  </a:lnTo>
                  <a:lnTo>
                    <a:pt x="616" y="853"/>
                  </a:lnTo>
                  <a:lnTo>
                    <a:pt x="613" y="849"/>
                  </a:lnTo>
                  <a:lnTo>
                    <a:pt x="610" y="845"/>
                  </a:lnTo>
                  <a:lnTo>
                    <a:pt x="606" y="834"/>
                  </a:lnTo>
                  <a:lnTo>
                    <a:pt x="601" y="823"/>
                  </a:lnTo>
                  <a:lnTo>
                    <a:pt x="599" y="812"/>
                  </a:lnTo>
                  <a:lnTo>
                    <a:pt x="597" y="800"/>
                  </a:lnTo>
                  <a:lnTo>
                    <a:pt x="597" y="788"/>
                  </a:lnTo>
                  <a:lnTo>
                    <a:pt x="597" y="774"/>
                  </a:lnTo>
                  <a:lnTo>
                    <a:pt x="599" y="760"/>
                  </a:lnTo>
                  <a:lnTo>
                    <a:pt x="600" y="745"/>
                  </a:lnTo>
                  <a:lnTo>
                    <a:pt x="604" y="731"/>
                  </a:lnTo>
                  <a:lnTo>
                    <a:pt x="608" y="716"/>
                  </a:lnTo>
                  <a:lnTo>
                    <a:pt x="612" y="702"/>
                  </a:lnTo>
                  <a:lnTo>
                    <a:pt x="617" y="686"/>
                  </a:lnTo>
                  <a:lnTo>
                    <a:pt x="623" y="671"/>
                  </a:lnTo>
                  <a:lnTo>
                    <a:pt x="606" y="695"/>
                  </a:lnTo>
                  <a:lnTo>
                    <a:pt x="585" y="718"/>
                  </a:lnTo>
                  <a:lnTo>
                    <a:pt x="561" y="740"/>
                  </a:lnTo>
                  <a:lnTo>
                    <a:pt x="535" y="762"/>
                  </a:lnTo>
                  <a:lnTo>
                    <a:pt x="506" y="783"/>
                  </a:lnTo>
                  <a:lnTo>
                    <a:pt x="473" y="805"/>
                  </a:lnTo>
                  <a:lnTo>
                    <a:pt x="438" y="825"/>
                  </a:lnTo>
                  <a:lnTo>
                    <a:pt x="399" y="845"/>
                  </a:lnTo>
                  <a:lnTo>
                    <a:pt x="372" y="856"/>
                  </a:lnTo>
                  <a:lnTo>
                    <a:pt x="346" y="867"/>
                  </a:lnTo>
                  <a:lnTo>
                    <a:pt x="320" y="877"/>
                  </a:lnTo>
                  <a:lnTo>
                    <a:pt x="297" y="884"/>
                  </a:lnTo>
                  <a:lnTo>
                    <a:pt x="272" y="890"/>
                  </a:lnTo>
                  <a:lnTo>
                    <a:pt x="249" y="894"/>
                  </a:lnTo>
                  <a:lnTo>
                    <a:pt x="228" y="896"/>
                  </a:lnTo>
                  <a:lnTo>
                    <a:pt x="206" y="897"/>
                  </a:lnTo>
                  <a:lnTo>
                    <a:pt x="194" y="896"/>
                  </a:lnTo>
                  <a:lnTo>
                    <a:pt x="181" y="896"/>
                  </a:lnTo>
                  <a:lnTo>
                    <a:pt x="175" y="895"/>
                  </a:lnTo>
                  <a:lnTo>
                    <a:pt x="170" y="893"/>
                  </a:lnTo>
                  <a:lnTo>
                    <a:pt x="164" y="891"/>
                  </a:lnTo>
                  <a:lnTo>
                    <a:pt x="159" y="890"/>
                  </a:lnTo>
                  <a:lnTo>
                    <a:pt x="154" y="888"/>
                  </a:lnTo>
                  <a:lnTo>
                    <a:pt x="148" y="885"/>
                  </a:lnTo>
                  <a:lnTo>
                    <a:pt x="144" y="884"/>
                  </a:lnTo>
                  <a:lnTo>
                    <a:pt x="139" y="881"/>
                  </a:lnTo>
                  <a:lnTo>
                    <a:pt x="135" y="878"/>
                  </a:lnTo>
                  <a:lnTo>
                    <a:pt x="131" y="875"/>
                  </a:lnTo>
                  <a:lnTo>
                    <a:pt x="127" y="872"/>
                  </a:lnTo>
                  <a:lnTo>
                    <a:pt x="123" y="868"/>
                  </a:lnTo>
                  <a:lnTo>
                    <a:pt x="120" y="865"/>
                  </a:lnTo>
                  <a:lnTo>
                    <a:pt x="115" y="861"/>
                  </a:lnTo>
                  <a:lnTo>
                    <a:pt x="112" y="856"/>
                  </a:lnTo>
                  <a:lnTo>
                    <a:pt x="109" y="852"/>
                  </a:lnTo>
                  <a:lnTo>
                    <a:pt x="104" y="843"/>
                  </a:lnTo>
                  <a:lnTo>
                    <a:pt x="100" y="833"/>
                  </a:lnTo>
                  <a:lnTo>
                    <a:pt x="97" y="822"/>
                  </a:lnTo>
                  <a:lnTo>
                    <a:pt x="95" y="810"/>
                  </a:lnTo>
                  <a:lnTo>
                    <a:pt x="93" y="796"/>
                  </a:lnTo>
                  <a:lnTo>
                    <a:pt x="93" y="783"/>
                  </a:lnTo>
                  <a:lnTo>
                    <a:pt x="94" y="762"/>
                  </a:lnTo>
                  <a:lnTo>
                    <a:pt x="96" y="741"/>
                  </a:lnTo>
                  <a:lnTo>
                    <a:pt x="99" y="719"/>
                  </a:lnTo>
                  <a:lnTo>
                    <a:pt x="104" y="696"/>
                  </a:lnTo>
                  <a:lnTo>
                    <a:pt x="114" y="657"/>
                  </a:lnTo>
                  <a:lnTo>
                    <a:pt x="132" y="602"/>
                  </a:lnTo>
                  <a:lnTo>
                    <a:pt x="182" y="446"/>
                  </a:lnTo>
                  <a:lnTo>
                    <a:pt x="217" y="341"/>
                  </a:lnTo>
                  <a:lnTo>
                    <a:pt x="242" y="259"/>
                  </a:lnTo>
                  <a:lnTo>
                    <a:pt x="257" y="201"/>
                  </a:lnTo>
                  <a:lnTo>
                    <a:pt x="261" y="182"/>
                  </a:lnTo>
                  <a:lnTo>
                    <a:pt x="262" y="173"/>
                  </a:lnTo>
                  <a:lnTo>
                    <a:pt x="262" y="167"/>
                  </a:lnTo>
                  <a:lnTo>
                    <a:pt x="262" y="164"/>
                  </a:lnTo>
                  <a:lnTo>
                    <a:pt x="262" y="163"/>
                  </a:lnTo>
                  <a:lnTo>
                    <a:pt x="262" y="162"/>
                  </a:lnTo>
                  <a:lnTo>
                    <a:pt x="262" y="161"/>
                  </a:lnTo>
                  <a:lnTo>
                    <a:pt x="262" y="161"/>
                  </a:lnTo>
                  <a:lnTo>
                    <a:pt x="262" y="161"/>
                  </a:lnTo>
                  <a:lnTo>
                    <a:pt x="262" y="160"/>
                  </a:lnTo>
                  <a:lnTo>
                    <a:pt x="262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3" y="160"/>
                  </a:lnTo>
                  <a:lnTo>
                    <a:pt x="261" y="160"/>
                  </a:lnTo>
                  <a:lnTo>
                    <a:pt x="259" y="160"/>
                  </a:lnTo>
                  <a:lnTo>
                    <a:pt x="257" y="161"/>
                  </a:lnTo>
                  <a:lnTo>
                    <a:pt x="254" y="161"/>
                  </a:lnTo>
                  <a:lnTo>
                    <a:pt x="249" y="163"/>
                  </a:lnTo>
                  <a:lnTo>
                    <a:pt x="244" y="165"/>
                  </a:lnTo>
                  <a:lnTo>
                    <a:pt x="237" y="166"/>
                  </a:lnTo>
                  <a:lnTo>
                    <a:pt x="231" y="170"/>
                  </a:lnTo>
                  <a:lnTo>
                    <a:pt x="224" y="172"/>
                  </a:lnTo>
                  <a:lnTo>
                    <a:pt x="215" y="177"/>
                  </a:lnTo>
                  <a:lnTo>
                    <a:pt x="206" y="182"/>
                  </a:lnTo>
                  <a:lnTo>
                    <a:pt x="194" y="188"/>
                  </a:lnTo>
                  <a:lnTo>
                    <a:pt x="164" y="206"/>
                  </a:lnTo>
                  <a:lnTo>
                    <a:pt x="78" y="265"/>
                  </a:lnTo>
                  <a:lnTo>
                    <a:pt x="0" y="212"/>
                  </a:lnTo>
                  <a:lnTo>
                    <a:pt x="80" y="150"/>
                  </a:lnTo>
                  <a:lnTo>
                    <a:pt x="150" y="101"/>
                  </a:lnTo>
                  <a:lnTo>
                    <a:pt x="181" y="81"/>
                  </a:lnTo>
                  <a:lnTo>
                    <a:pt x="209" y="64"/>
                  </a:lnTo>
                  <a:lnTo>
                    <a:pt x="235" y="49"/>
                  </a:lnTo>
                  <a:lnTo>
                    <a:pt x="259" y="38"/>
                  </a:lnTo>
                  <a:lnTo>
                    <a:pt x="280" y="29"/>
                  </a:lnTo>
                  <a:lnTo>
                    <a:pt x="301" y="21"/>
                  </a:lnTo>
                  <a:lnTo>
                    <a:pt x="320" y="15"/>
                  </a:lnTo>
                  <a:lnTo>
                    <a:pt x="339" y="9"/>
                  </a:lnTo>
                  <a:lnTo>
                    <a:pt x="356" y="5"/>
                  </a:lnTo>
                  <a:lnTo>
                    <a:pt x="373" y="2"/>
                  </a:lnTo>
                  <a:lnTo>
                    <a:pt x="389" y="1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3" y="2"/>
                  </a:lnTo>
                  <a:lnTo>
                    <a:pt x="427" y="2"/>
                  </a:lnTo>
                  <a:lnTo>
                    <a:pt x="432" y="3"/>
                  </a:lnTo>
                  <a:lnTo>
                    <a:pt x="436" y="4"/>
                  </a:lnTo>
                  <a:lnTo>
                    <a:pt x="440" y="6"/>
                  </a:lnTo>
                  <a:lnTo>
                    <a:pt x="444" y="7"/>
                  </a:lnTo>
                  <a:lnTo>
                    <a:pt x="448" y="9"/>
                  </a:lnTo>
                  <a:lnTo>
                    <a:pt x="452" y="11"/>
                  </a:lnTo>
                  <a:lnTo>
                    <a:pt x="455" y="13"/>
                  </a:lnTo>
                  <a:lnTo>
                    <a:pt x="458" y="15"/>
                  </a:lnTo>
                  <a:lnTo>
                    <a:pt x="462" y="18"/>
                  </a:lnTo>
                  <a:lnTo>
                    <a:pt x="466" y="21"/>
                  </a:lnTo>
                  <a:lnTo>
                    <a:pt x="469" y="24"/>
                  </a:lnTo>
                  <a:lnTo>
                    <a:pt x="472" y="27"/>
                  </a:lnTo>
                  <a:lnTo>
                    <a:pt x="475" y="30"/>
                  </a:lnTo>
                  <a:lnTo>
                    <a:pt x="477" y="33"/>
                  </a:lnTo>
                  <a:lnTo>
                    <a:pt x="480" y="37"/>
                  </a:lnTo>
                  <a:lnTo>
                    <a:pt x="484" y="44"/>
                  </a:lnTo>
                  <a:lnTo>
                    <a:pt x="487" y="53"/>
                  </a:lnTo>
                  <a:lnTo>
                    <a:pt x="490" y="61"/>
                  </a:lnTo>
                  <a:lnTo>
                    <a:pt x="492" y="70"/>
                  </a:lnTo>
                  <a:lnTo>
                    <a:pt x="493" y="81"/>
                  </a:lnTo>
                  <a:lnTo>
                    <a:pt x="493" y="91"/>
                  </a:lnTo>
                  <a:lnTo>
                    <a:pt x="492" y="111"/>
                  </a:lnTo>
                  <a:lnTo>
                    <a:pt x="488" y="138"/>
                  </a:lnTo>
                  <a:lnTo>
                    <a:pt x="472" y="210"/>
                  </a:lnTo>
                  <a:lnTo>
                    <a:pt x="445" y="307"/>
                  </a:lnTo>
                  <a:lnTo>
                    <a:pt x="407" y="429"/>
                  </a:lnTo>
                  <a:lnTo>
                    <a:pt x="351" y="614"/>
                  </a:lnTo>
                  <a:lnTo>
                    <a:pt x="338" y="668"/>
                  </a:lnTo>
                  <a:lnTo>
                    <a:pt x="334" y="686"/>
                  </a:lnTo>
                  <a:lnTo>
                    <a:pt x="333" y="692"/>
                  </a:lnTo>
                  <a:lnTo>
                    <a:pt x="333" y="697"/>
                  </a:lnTo>
                  <a:lnTo>
                    <a:pt x="333" y="700"/>
                  </a:lnTo>
                  <a:lnTo>
                    <a:pt x="333" y="703"/>
                  </a:lnTo>
                  <a:lnTo>
                    <a:pt x="334" y="706"/>
                  </a:lnTo>
                  <a:lnTo>
                    <a:pt x="335" y="709"/>
                  </a:lnTo>
                  <a:lnTo>
                    <a:pt x="335" y="710"/>
                  </a:lnTo>
                  <a:lnTo>
                    <a:pt x="336" y="711"/>
                  </a:lnTo>
                  <a:lnTo>
                    <a:pt x="336" y="713"/>
                  </a:lnTo>
                  <a:lnTo>
                    <a:pt x="337" y="714"/>
                  </a:lnTo>
                  <a:lnTo>
                    <a:pt x="338" y="715"/>
                  </a:lnTo>
                  <a:lnTo>
                    <a:pt x="339" y="716"/>
                  </a:lnTo>
                  <a:lnTo>
                    <a:pt x="340" y="717"/>
                  </a:lnTo>
                  <a:lnTo>
                    <a:pt x="341" y="718"/>
                  </a:lnTo>
                  <a:lnTo>
                    <a:pt x="343" y="720"/>
                  </a:lnTo>
                  <a:lnTo>
                    <a:pt x="345" y="722"/>
                  </a:lnTo>
                  <a:lnTo>
                    <a:pt x="347" y="723"/>
                  </a:lnTo>
                  <a:lnTo>
                    <a:pt x="348" y="724"/>
                  </a:lnTo>
                  <a:lnTo>
                    <a:pt x="349" y="725"/>
                  </a:lnTo>
                  <a:lnTo>
                    <a:pt x="350" y="725"/>
                  </a:lnTo>
                  <a:lnTo>
                    <a:pt x="351" y="726"/>
                  </a:lnTo>
                  <a:lnTo>
                    <a:pt x="352" y="726"/>
                  </a:lnTo>
                  <a:lnTo>
                    <a:pt x="353" y="726"/>
                  </a:lnTo>
                  <a:lnTo>
                    <a:pt x="354" y="726"/>
                  </a:lnTo>
                  <a:lnTo>
                    <a:pt x="355" y="726"/>
                  </a:lnTo>
                  <a:lnTo>
                    <a:pt x="356" y="726"/>
                  </a:lnTo>
                  <a:lnTo>
                    <a:pt x="357" y="726"/>
                  </a:lnTo>
                  <a:lnTo>
                    <a:pt x="365" y="726"/>
                  </a:lnTo>
                  <a:lnTo>
                    <a:pt x="373" y="725"/>
                  </a:lnTo>
                  <a:lnTo>
                    <a:pt x="381" y="723"/>
                  </a:lnTo>
                  <a:lnTo>
                    <a:pt x="389" y="721"/>
                  </a:lnTo>
                  <a:lnTo>
                    <a:pt x="399" y="718"/>
                  </a:lnTo>
                  <a:lnTo>
                    <a:pt x="409" y="715"/>
                  </a:lnTo>
                  <a:lnTo>
                    <a:pt x="430" y="705"/>
                  </a:lnTo>
                  <a:lnTo>
                    <a:pt x="452" y="692"/>
                  </a:lnTo>
                  <a:lnTo>
                    <a:pt x="477" y="678"/>
                  </a:lnTo>
                  <a:lnTo>
                    <a:pt x="503" y="660"/>
                  </a:lnTo>
                  <a:lnTo>
                    <a:pt x="531" y="640"/>
                  </a:lnTo>
                  <a:lnTo>
                    <a:pt x="559" y="618"/>
                  </a:lnTo>
                  <a:lnTo>
                    <a:pt x="584" y="596"/>
                  </a:lnTo>
                  <a:lnTo>
                    <a:pt x="607" y="572"/>
                  </a:lnTo>
                  <a:lnTo>
                    <a:pt x="627" y="548"/>
                  </a:lnTo>
                  <a:lnTo>
                    <a:pt x="645" y="523"/>
                  </a:lnTo>
                  <a:lnTo>
                    <a:pt x="660" y="497"/>
                  </a:lnTo>
                  <a:lnTo>
                    <a:pt x="673" y="471"/>
                  </a:lnTo>
                  <a:lnTo>
                    <a:pt x="683" y="443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62720" y="1314360"/>
              <a:ext cx="583920" cy="324000"/>
            </a:xfrm>
            <a:custGeom>
              <a:avLst/>
              <a:gdLst/>
              <a:ahLst/>
              <a:rect l="l" t="t" r="r" b="b"/>
              <a:pathLst>
                <a:path w="1622" h="901">
                  <a:moveTo>
                    <a:pt x="394" y="265"/>
                  </a:moveTo>
                  <a:lnTo>
                    <a:pt x="314" y="212"/>
                  </a:lnTo>
                  <a:lnTo>
                    <a:pt x="379" y="162"/>
                  </a:lnTo>
                  <a:lnTo>
                    <a:pt x="439" y="119"/>
                  </a:lnTo>
                  <a:lnTo>
                    <a:pt x="496" y="83"/>
                  </a:lnTo>
                  <a:lnTo>
                    <a:pt x="548" y="53"/>
                  </a:lnTo>
                  <a:lnTo>
                    <a:pt x="598" y="30"/>
                  </a:lnTo>
                  <a:lnTo>
                    <a:pt x="620" y="20"/>
                  </a:lnTo>
                  <a:lnTo>
                    <a:pt x="642" y="13"/>
                  </a:lnTo>
                  <a:lnTo>
                    <a:pt x="663" y="7"/>
                  </a:lnTo>
                  <a:lnTo>
                    <a:pt x="683" y="3"/>
                  </a:lnTo>
                  <a:lnTo>
                    <a:pt x="702" y="1"/>
                  </a:lnTo>
                  <a:lnTo>
                    <a:pt x="720" y="0"/>
                  </a:lnTo>
                  <a:lnTo>
                    <a:pt x="730" y="0"/>
                  </a:lnTo>
                  <a:lnTo>
                    <a:pt x="741" y="1"/>
                  </a:lnTo>
                  <a:lnTo>
                    <a:pt x="749" y="2"/>
                  </a:lnTo>
                  <a:lnTo>
                    <a:pt x="758" y="5"/>
                  </a:lnTo>
                  <a:lnTo>
                    <a:pt x="766" y="7"/>
                  </a:lnTo>
                  <a:lnTo>
                    <a:pt x="774" y="11"/>
                  </a:lnTo>
                  <a:lnTo>
                    <a:pt x="780" y="15"/>
                  </a:lnTo>
                  <a:lnTo>
                    <a:pt x="787" y="19"/>
                  </a:lnTo>
                  <a:lnTo>
                    <a:pt x="792" y="25"/>
                  </a:lnTo>
                  <a:lnTo>
                    <a:pt x="797" y="31"/>
                  </a:lnTo>
                  <a:lnTo>
                    <a:pt x="801" y="37"/>
                  </a:lnTo>
                  <a:lnTo>
                    <a:pt x="806" y="45"/>
                  </a:lnTo>
                  <a:lnTo>
                    <a:pt x="810" y="53"/>
                  </a:lnTo>
                  <a:lnTo>
                    <a:pt x="812" y="61"/>
                  </a:lnTo>
                  <a:lnTo>
                    <a:pt x="814" y="70"/>
                  </a:lnTo>
                  <a:lnTo>
                    <a:pt x="816" y="80"/>
                  </a:lnTo>
                  <a:lnTo>
                    <a:pt x="890" y="674"/>
                  </a:lnTo>
                  <a:lnTo>
                    <a:pt x="1353" y="24"/>
                  </a:lnTo>
                  <a:lnTo>
                    <a:pt x="1561" y="24"/>
                  </a:lnTo>
                  <a:lnTo>
                    <a:pt x="1447" y="392"/>
                  </a:lnTo>
                  <a:lnTo>
                    <a:pt x="1375" y="624"/>
                  </a:lnTo>
                  <a:lnTo>
                    <a:pt x="1357" y="692"/>
                  </a:lnTo>
                  <a:lnTo>
                    <a:pt x="1351" y="714"/>
                  </a:lnTo>
                  <a:lnTo>
                    <a:pt x="1350" y="721"/>
                  </a:lnTo>
                  <a:lnTo>
                    <a:pt x="1350" y="727"/>
                  </a:lnTo>
                  <a:lnTo>
                    <a:pt x="1350" y="732"/>
                  </a:lnTo>
                  <a:lnTo>
                    <a:pt x="1351" y="735"/>
                  </a:lnTo>
                  <a:lnTo>
                    <a:pt x="1351" y="737"/>
                  </a:lnTo>
                  <a:lnTo>
                    <a:pt x="1351" y="738"/>
                  </a:lnTo>
                  <a:lnTo>
                    <a:pt x="1352" y="739"/>
                  </a:lnTo>
                  <a:lnTo>
                    <a:pt x="1352" y="741"/>
                  </a:lnTo>
                  <a:lnTo>
                    <a:pt x="1353" y="742"/>
                  </a:lnTo>
                  <a:lnTo>
                    <a:pt x="1354" y="743"/>
                  </a:lnTo>
                  <a:lnTo>
                    <a:pt x="1354" y="743"/>
                  </a:lnTo>
                  <a:lnTo>
                    <a:pt x="1355" y="744"/>
                  </a:lnTo>
                  <a:lnTo>
                    <a:pt x="1355" y="744"/>
                  </a:lnTo>
                  <a:lnTo>
                    <a:pt x="1357" y="744"/>
                  </a:lnTo>
                  <a:lnTo>
                    <a:pt x="1357" y="744"/>
                  </a:lnTo>
                  <a:lnTo>
                    <a:pt x="1358" y="745"/>
                  </a:lnTo>
                  <a:lnTo>
                    <a:pt x="1358" y="745"/>
                  </a:lnTo>
                  <a:lnTo>
                    <a:pt x="1359" y="745"/>
                  </a:lnTo>
                  <a:lnTo>
                    <a:pt x="1360" y="745"/>
                  </a:lnTo>
                  <a:lnTo>
                    <a:pt x="1362" y="745"/>
                  </a:lnTo>
                  <a:lnTo>
                    <a:pt x="1364" y="744"/>
                  </a:lnTo>
                  <a:lnTo>
                    <a:pt x="1370" y="743"/>
                  </a:lnTo>
                  <a:lnTo>
                    <a:pt x="1376" y="741"/>
                  </a:lnTo>
                  <a:lnTo>
                    <a:pt x="1384" y="737"/>
                  </a:lnTo>
                  <a:lnTo>
                    <a:pt x="1403" y="727"/>
                  </a:lnTo>
                  <a:lnTo>
                    <a:pt x="1426" y="714"/>
                  </a:lnTo>
                  <a:lnTo>
                    <a:pt x="1483" y="674"/>
                  </a:lnTo>
                  <a:lnTo>
                    <a:pt x="1557" y="618"/>
                  </a:lnTo>
                  <a:lnTo>
                    <a:pt x="1621" y="675"/>
                  </a:lnTo>
                  <a:lnTo>
                    <a:pt x="1560" y="728"/>
                  </a:lnTo>
                  <a:lnTo>
                    <a:pt x="1503" y="774"/>
                  </a:lnTo>
                  <a:lnTo>
                    <a:pt x="1450" y="812"/>
                  </a:lnTo>
                  <a:lnTo>
                    <a:pt x="1401" y="844"/>
                  </a:lnTo>
                  <a:lnTo>
                    <a:pt x="1355" y="868"/>
                  </a:lnTo>
                  <a:lnTo>
                    <a:pt x="1334" y="878"/>
                  </a:lnTo>
                  <a:lnTo>
                    <a:pt x="1314" y="886"/>
                  </a:lnTo>
                  <a:lnTo>
                    <a:pt x="1295" y="892"/>
                  </a:lnTo>
                  <a:lnTo>
                    <a:pt x="1276" y="896"/>
                  </a:lnTo>
                  <a:lnTo>
                    <a:pt x="1260" y="899"/>
                  </a:lnTo>
                  <a:lnTo>
                    <a:pt x="1243" y="900"/>
                  </a:lnTo>
                  <a:lnTo>
                    <a:pt x="1238" y="900"/>
                  </a:lnTo>
                  <a:lnTo>
                    <a:pt x="1233" y="899"/>
                  </a:lnTo>
                  <a:lnTo>
                    <a:pt x="1228" y="899"/>
                  </a:lnTo>
                  <a:lnTo>
                    <a:pt x="1223" y="898"/>
                  </a:lnTo>
                  <a:lnTo>
                    <a:pt x="1218" y="897"/>
                  </a:lnTo>
                  <a:lnTo>
                    <a:pt x="1212" y="896"/>
                  </a:lnTo>
                  <a:lnTo>
                    <a:pt x="1207" y="894"/>
                  </a:lnTo>
                  <a:lnTo>
                    <a:pt x="1202" y="892"/>
                  </a:lnTo>
                  <a:lnTo>
                    <a:pt x="1193" y="888"/>
                  </a:lnTo>
                  <a:lnTo>
                    <a:pt x="1182" y="883"/>
                  </a:lnTo>
                  <a:lnTo>
                    <a:pt x="1173" y="877"/>
                  </a:lnTo>
                  <a:lnTo>
                    <a:pt x="1164" y="870"/>
                  </a:lnTo>
                  <a:lnTo>
                    <a:pt x="1160" y="867"/>
                  </a:lnTo>
                  <a:lnTo>
                    <a:pt x="1156" y="862"/>
                  </a:lnTo>
                  <a:lnTo>
                    <a:pt x="1152" y="858"/>
                  </a:lnTo>
                  <a:lnTo>
                    <a:pt x="1147" y="854"/>
                  </a:lnTo>
                  <a:lnTo>
                    <a:pt x="1144" y="850"/>
                  </a:lnTo>
                  <a:lnTo>
                    <a:pt x="1141" y="845"/>
                  </a:lnTo>
                  <a:lnTo>
                    <a:pt x="1138" y="839"/>
                  </a:lnTo>
                  <a:lnTo>
                    <a:pt x="1136" y="834"/>
                  </a:lnTo>
                  <a:lnTo>
                    <a:pt x="1132" y="824"/>
                  </a:lnTo>
                  <a:lnTo>
                    <a:pt x="1129" y="812"/>
                  </a:lnTo>
                  <a:lnTo>
                    <a:pt x="1128" y="800"/>
                  </a:lnTo>
                  <a:lnTo>
                    <a:pt x="1127" y="788"/>
                  </a:lnTo>
                  <a:lnTo>
                    <a:pt x="1128" y="767"/>
                  </a:lnTo>
                  <a:lnTo>
                    <a:pt x="1132" y="741"/>
                  </a:lnTo>
                  <a:lnTo>
                    <a:pt x="1147" y="670"/>
                  </a:lnTo>
                  <a:lnTo>
                    <a:pt x="1174" y="574"/>
                  </a:lnTo>
                  <a:lnTo>
                    <a:pt x="1210" y="454"/>
                  </a:lnTo>
                  <a:lnTo>
                    <a:pt x="1282" y="251"/>
                  </a:lnTo>
                  <a:lnTo>
                    <a:pt x="836" y="890"/>
                  </a:lnTo>
                  <a:lnTo>
                    <a:pt x="711" y="890"/>
                  </a:lnTo>
                  <a:lnTo>
                    <a:pt x="644" y="320"/>
                  </a:lnTo>
                  <a:lnTo>
                    <a:pt x="579" y="496"/>
                  </a:lnTo>
                  <a:lnTo>
                    <a:pt x="548" y="571"/>
                  </a:lnTo>
                  <a:lnTo>
                    <a:pt x="517" y="635"/>
                  </a:lnTo>
                  <a:lnTo>
                    <a:pt x="487" y="691"/>
                  </a:lnTo>
                  <a:lnTo>
                    <a:pt x="458" y="737"/>
                  </a:lnTo>
                  <a:lnTo>
                    <a:pt x="443" y="756"/>
                  </a:lnTo>
                  <a:lnTo>
                    <a:pt x="429" y="773"/>
                  </a:lnTo>
                  <a:lnTo>
                    <a:pt x="415" y="788"/>
                  </a:lnTo>
                  <a:lnTo>
                    <a:pt x="401" y="800"/>
                  </a:lnTo>
                  <a:lnTo>
                    <a:pt x="373" y="822"/>
                  </a:lnTo>
                  <a:lnTo>
                    <a:pt x="344" y="840"/>
                  </a:lnTo>
                  <a:lnTo>
                    <a:pt x="314" y="856"/>
                  </a:lnTo>
                  <a:lnTo>
                    <a:pt x="300" y="863"/>
                  </a:lnTo>
                  <a:lnTo>
                    <a:pt x="285" y="869"/>
                  </a:lnTo>
                  <a:lnTo>
                    <a:pt x="268" y="874"/>
                  </a:lnTo>
                  <a:lnTo>
                    <a:pt x="253" y="879"/>
                  </a:lnTo>
                  <a:lnTo>
                    <a:pt x="236" y="883"/>
                  </a:lnTo>
                  <a:lnTo>
                    <a:pt x="221" y="886"/>
                  </a:lnTo>
                  <a:lnTo>
                    <a:pt x="204" y="889"/>
                  </a:lnTo>
                  <a:lnTo>
                    <a:pt x="187" y="890"/>
                  </a:lnTo>
                  <a:lnTo>
                    <a:pt x="170" y="892"/>
                  </a:lnTo>
                  <a:lnTo>
                    <a:pt x="153" y="892"/>
                  </a:lnTo>
                  <a:lnTo>
                    <a:pt x="135" y="891"/>
                  </a:lnTo>
                  <a:lnTo>
                    <a:pt x="118" y="890"/>
                  </a:lnTo>
                  <a:lnTo>
                    <a:pt x="102" y="887"/>
                  </a:lnTo>
                  <a:lnTo>
                    <a:pt x="88" y="884"/>
                  </a:lnTo>
                  <a:lnTo>
                    <a:pt x="81" y="881"/>
                  </a:lnTo>
                  <a:lnTo>
                    <a:pt x="74" y="879"/>
                  </a:lnTo>
                  <a:lnTo>
                    <a:pt x="67" y="876"/>
                  </a:lnTo>
                  <a:lnTo>
                    <a:pt x="61" y="873"/>
                  </a:lnTo>
                  <a:lnTo>
                    <a:pt x="56" y="869"/>
                  </a:lnTo>
                  <a:lnTo>
                    <a:pt x="50" y="866"/>
                  </a:lnTo>
                  <a:lnTo>
                    <a:pt x="45" y="862"/>
                  </a:lnTo>
                  <a:lnTo>
                    <a:pt x="39" y="858"/>
                  </a:lnTo>
                  <a:lnTo>
                    <a:pt x="30" y="850"/>
                  </a:lnTo>
                  <a:lnTo>
                    <a:pt x="22" y="840"/>
                  </a:lnTo>
                  <a:lnTo>
                    <a:pt x="16" y="831"/>
                  </a:lnTo>
                  <a:lnTo>
                    <a:pt x="13" y="827"/>
                  </a:lnTo>
                  <a:lnTo>
                    <a:pt x="10" y="822"/>
                  </a:lnTo>
                  <a:lnTo>
                    <a:pt x="8" y="817"/>
                  </a:lnTo>
                  <a:lnTo>
                    <a:pt x="5" y="811"/>
                  </a:lnTo>
                  <a:lnTo>
                    <a:pt x="4" y="806"/>
                  </a:lnTo>
                  <a:lnTo>
                    <a:pt x="2" y="801"/>
                  </a:lnTo>
                  <a:lnTo>
                    <a:pt x="1" y="791"/>
                  </a:lnTo>
                  <a:lnTo>
                    <a:pt x="0" y="780"/>
                  </a:lnTo>
                  <a:lnTo>
                    <a:pt x="1" y="769"/>
                  </a:lnTo>
                  <a:lnTo>
                    <a:pt x="2" y="759"/>
                  </a:lnTo>
                  <a:lnTo>
                    <a:pt x="5" y="749"/>
                  </a:lnTo>
                  <a:lnTo>
                    <a:pt x="9" y="739"/>
                  </a:lnTo>
                  <a:lnTo>
                    <a:pt x="14" y="730"/>
                  </a:lnTo>
                  <a:lnTo>
                    <a:pt x="20" y="721"/>
                  </a:lnTo>
                  <a:lnTo>
                    <a:pt x="27" y="713"/>
                  </a:lnTo>
                  <a:lnTo>
                    <a:pt x="35" y="704"/>
                  </a:lnTo>
                  <a:lnTo>
                    <a:pt x="45" y="697"/>
                  </a:lnTo>
                  <a:lnTo>
                    <a:pt x="50" y="693"/>
                  </a:lnTo>
                  <a:lnTo>
                    <a:pt x="54" y="690"/>
                  </a:lnTo>
                  <a:lnTo>
                    <a:pt x="59" y="686"/>
                  </a:lnTo>
                  <a:lnTo>
                    <a:pt x="64" y="684"/>
                  </a:lnTo>
                  <a:lnTo>
                    <a:pt x="70" y="681"/>
                  </a:lnTo>
                  <a:lnTo>
                    <a:pt x="75" y="680"/>
                  </a:lnTo>
                  <a:lnTo>
                    <a:pt x="81" y="677"/>
                  </a:lnTo>
                  <a:lnTo>
                    <a:pt x="87" y="675"/>
                  </a:lnTo>
                  <a:lnTo>
                    <a:pt x="93" y="675"/>
                  </a:lnTo>
                  <a:lnTo>
                    <a:pt x="98" y="673"/>
                  </a:lnTo>
                  <a:lnTo>
                    <a:pt x="104" y="672"/>
                  </a:lnTo>
                  <a:lnTo>
                    <a:pt x="111" y="672"/>
                  </a:lnTo>
                  <a:lnTo>
                    <a:pt x="124" y="671"/>
                  </a:lnTo>
                  <a:lnTo>
                    <a:pt x="132" y="671"/>
                  </a:lnTo>
                  <a:lnTo>
                    <a:pt x="141" y="672"/>
                  </a:lnTo>
                  <a:lnTo>
                    <a:pt x="150" y="674"/>
                  </a:lnTo>
                  <a:lnTo>
                    <a:pt x="160" y="675"/>
                  </a:lnTo>
                  <a:lnTo>
                    <a:pt x="169" y="677"/>
                  </a:lnTo>
                  <a:lnTo>
                    <a:pt x="180" y="680"/>
                  </a:lnTo>
                  <a:lnTo>
                    <a:pt x="191" y="683"/>
                  </a:lnTo>
                  <a:lnTo>
                    <a:pt x="202" y="686"/>
                  </a:lnTo>
                  <a:lnTo>
                    <a:pt x="223" y="692"/>
                  </a:lnTo>
                  <a:lnTo>
                    <a:pt x="239" y="697"/>
                  </a:lnTo>
                  <a:lnTo>
                    <a:pt x="246" y="698"/>
                  </a:lnTo>
                  <a:lnTo>
                    <a:pt x="253" y="699"/>
                  </a:lnTo>
                  <a:lnTo>
                    <a:pt x="258" y="700"/>
                  </a:lnTo>
                  <a:lnTo>
                    <a:pt x="260" y="700"/>
                  </a:lnTo>
                  <a:lnTo>
                    <a:pt x="262" y="700"/>
                  </a:lnTo>
                  <a:lnTo>
                    <a:pt x="267" y="700"/>
                  </a:lnTo>
                  <a:lnTo>
                    <a:pt x="272" y="699"/>
                  </a:lnTo>
                  <a:lnTo>
                    <a:pt x="277" y="698"/>
                  </a:lnTo>
                  <a:lnTo>
                    <a:pt x="284" y="698"/>
                  </a:lnTo>
                  <a:lnTo>
                    <a:pt x="289" y="696"/>
                  </a:lnTo>
                  <a:lnTo>
                    <a:pt x="294" y="693"/>
                  </a:lnTo>
                  <a:lnTo>
                    <a:pt x="300" y="692"/>
                  </a:lnTo>
                  <a:lnTo>
                    <a:pt x="305" y="688"/>
                  </a:lnTo>
                  <a:lnTo>
                    <a:pt x="316" y="682"/>
                  </a:lnTo>
                  <a:lnTo>
                    <a:pt x="328" y="674"/>
                  </a:lnTo>
                  <a:lnTo>
                    <a:pt x="339" y="664"/>
                  </a:lnTo>
                  <a:lnTo>
                    <a:pt x="351" y="653"/>
                  </a:lnTo>
                  <a:lnTo>
                    <a:pt x="358" y="647"/>
                  </a:lnTo>
                  <a:lnTo>
                    <a:pt x="365" y="639"/>
                  </a:lnTo>
                  <a:lnTo>
                    <a:pt x="379" y="620"/>
                  </a:lnTo>
                  <a:lnTo>
                    <a:pt x="396" y="596"/>
                  </a:lnTo>
                  <a:lnTo>
                    <a:pt x="414" y="567"/>
                  </a:lnTo>
                  <a:lnTo>
                    <a:pt x="455" y="494"/>
                  </a:lnTo>
                  <a:lnTo>
                    <a:pt x="503" y="401"/>
                  </a:lnTo>
                  <a:lnTo>
                    <a:pt x="547" y="308"/>
                  </a:lnTo>
                  <a:lnTo>
                    <a:pt x="579" y="237"/>
                  </a:lnTo>
                  <a:lnTo>
                    <a:pt x="590" y="209"/>
                  </a:lnTo>
                  <a:lnTo>
                    <a:pt x="599" y="186"/>
                  </a:lnTo>
                  <a:lnTo>
                    <a:pt x="603" y="169"/>
                  </a:lnTo>
                  <a:lnTo>
                    <a:pt x="605" y="162"/>
                  </a:lnTo>
                  <a:lnTo>
                    <a:pt x="605" y="156"/>
                  </a:lnTo>
                  <a:lnTo>
                    <a:pt x="605" y="155"/>
                  </a:lnTo>
                  <a:lnTo>
                    <a:pt x="605" y="155"/>
                  </a:lnTo>
                  <a:lnTo>
                    <a:pt x="605" y="155"/>
                  </a:lnTo>
                  <a:lnTo>
                    <a:pt x="605" y="155"/>
                  </a:lnTo>
                  <a:lnTo>
                    <a:pt x="604" y="155"/>
                  </a:lnTo>
                  <a:lnTo>
                    <a:pt x="604" y="154"/>
                  </a:lnTo>
                  <a:lnTo>
                    <a:pt x="604" y="154"/>
                  </a:lnTo>
                  <a:lnTo>
                    <a:pt x="604" y="153"/>
                  </a:lnTo>
                  <a:lnTo>
                    <a:pt x="603" y="153"/>
                  </a:lnTo>
                  <a:lnTo>
                    <a:pt x="603" y="153"/>
                  </a:lnTo>
                  <a:lnTo>
                    <a:pt x="602" y="153"/>
                  </a:lnTo>
                  <a:lnTo>
                    <a:pt x="602" y="152"/>
                  </a:lnTo>
                  <a:lnTo>
                    <a:pt x="602" y="152"/>
                  </a:lnTo>
                  <a:lnTo>
                    <a:pt x="601" y="152"/>
                  </a:lnTo>
                  <a:lnTo>
                    <a:pt x="601" y="152"/>
                  </a:lnTo>
                  <a:lnTo>
                    <a:pt x="600" y="152"/>
                  </a:lnTo>
                  <a:lnTo>
                    <a:pt x="591" y="153"/>
                  </a:lnTo>
                  <a:lnTo>
                    <a:pt x="583" y="154"/>
                  </a:lnTo>
                  <a:lnTo>
                    <a:pt x="574" y="156"/>
                  </a:lnTo>
                  <a:lnTo>
                    <a:pt x="565" y="159"/>
                  </a:lnTo>
                  <a:lnTo>
                    <a:pt x="553" y="163"/>
                  </a:lnTo>
                  <a:lnTo>
                    <a:pt x="542" y="168"/>
                  </a:lnTo>
                  <a:lnTo>
                    <a:pt x="518" y="180"/>
                  </a:lnTo>
                  <a:lnTo>
                    <a:pt x="490" y="196"/>
                  </a:lnTo>
                  <a:lnTo>
                    <a:pt x="461" y="216"/>
                  </a:lnTo>
                  <a:lnTo>
                    <a:pt x="429" y="239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68960" y="1312920"/>
              <a:ext cx="287280" cy="322200"/>
            </a:xfrm>
            <a:custGeom>
              <a:avLst/>
              <a:gdLst/>
              <a:ahLst/>
              <a:rect l="l" t="t" r="r" b="b"/>
              <a:pathLst>
                <a:path w="796" h="895">
                  <a:moveTo>
                    <a:pt x="665" y="583"/>
                  </a:moveTo>
                  <a:lnTo>
                    <a:pt x="724" y="649"/>
                  </a:lnTo>
                  <a:lnTo>
                    <a:pt x="649" y="707"/>
                  </a:lnTo>
                  <a:lnTo>
                    <a:pt x="577" y="757"/>
                  </a:lnTo>
                  <a:lnTo>
                    <a:pt x="507" y="798"/>
                  </a:lnTo>
                  <a:lnTo>
                    <a:pt x="440" y="833"/>
                  </a:lnTo>
                  <a:lnTo>
                    <a:pt x="376" y="860"/>
                  </a:lnTo>
                  <a:lnTo>
                    <a:pt x="344" y="871"/>
                  </a:lnTo>
                  <a:lnTo>
                    <a:pt x="314" y="879"/>
                  </a:lnTo>
                  <a:lnTo>
                    <a:pt x="284" y="886"/>
                  </a:lnTo>
                  <a:lnTo>
                    <a:pt x="255" y="890"/>
                  </a:lnTo>
                  <a:lnTo>
                    <a:pt x="226" y="894"/>
                  </a:lnTo>
                  <a:lnTo>
                    <a:pt x="199" y="894"/>
                  </a:lnTo>
                  <a:lnTo>
                    <a:pt x="175" y="894"/>
                  </a:lnTo>
                  <a:lnTo>
                    <a:pt x="153" y="891"/>
                  </a:lnTo>
                  <a:lnTo>
                    <a:pt x="142" y="889"/>
                  </a:lnTo>
                  <a:lnTo>
                    <a:pt x="132" y="887"/>
                  </a:lnTo>
                  <a:lnTo>
                    <a:pt x="122" y="884"/>
                  </a:lnTo>
                  <a:lnTo>
                    <a:pt x="113" y="881"/>
                  </a:lnTo>
                  <a:lnTo>
                    <a:pt x="104" y="877"/>
                  </a:lnTo>
                  <a:lnTo>
                    <a:pt x="95" y="873"/>
                  </a:lnTo>
                  <a:lnTo>
                    <a:pt x="86" y="869"/>
                  </a:lnTo>
                  <a:lnTo>
                    <a:pt x="79" y="865"/>
                  </a:lnTo>
                  <a:lnTo>
                    <a:pt x="71" y="859"/>
                  </a:lnTo>
                  <a:lnTo>
                    <a:pt x="64" y="854"/>
                  </a:lnTo>
                  <a:lnTo>
                    <a:pt x="57" y="848"/>
                  </a:lnTo>
                  <a:lnTo>
                    <a:pt x="50" y="841"/>
                  </a:lnTo>
                  <a:lnTo>
                    <a:pt x="44" y="834"/>
                  </a:lnTo>
                  <a:lnTo>
                    <a:pt x="39" y="826"/>
                  </a:lnTo>
                  <a:lnTo>
                    <a:pt x="34" y="819"/>
                  </a:lnTo>
                  <a:lnTo>
                    <a:pt x="29" y="810"/>
                  </a:lnTo>
                  <a:lnTo>
                    <a:pt x="19" y="792"/>
                  </a:lnTo>
                  <a:lnTo>
                    <a:pt x="13" y="773"/>
                  </a:lnTo>
                  <a:lnTo>
                    <a:pt x="7" y="752"/>
                  </a:lnTo>
                  <a:lnTo>
                    <a:pt x="3" y="729"/>
                  </a:lnTo>
                  <a:lnTo>
                    <a:pt x="1" y="703"/>
                  </a:lnTo>
                  <a:lnTo>
                    <a:pt x="0" y="676"/>
                  </a:lnTo>
                  <a:lnTo>
                    <a:pt x="2" y="622"/>
                  </a:lnTo>
                  <a:lnTo>
                    <a:pt x="10" y="568"/>
                  </a:lnTo>
                  <a:lnTo>
                    <a:pt x="23" y="515"/>
                  </a:lnTo>
                  <a:lnTo>
                    <a:pt x="39" y="461"/>
                  </a:lnTo>
                  <a:lnTo>
                    <a:pt x="62" y="407"/>
                  </a:lnTo>
                  <a:lnTo>
                    <a:pt x="88" y="354"/>
                  </a:lnTo>
                  <a:lnTo>
                    <a:pt x="121" y="300"/>
                  </a:lnTo>
                  <a:lnTo>
                    <a:pt x="158" y="247"/>
                  </a:lnTo>
                  <a:lnTo>
                    <a:pt x="205" y="189"/>
                  </a:lnTo>
                  <a:lnTo>
                    <a:pt x="253" y="139"/>
                  </a:lnTo>
                  <a:lnTo>
                    <a:pt x="279" y="117"/>
                  </a:lnTo>
                  <a:lnTo>
                    <a:pt x="305" y="96"/>
                  </a:lnTo>
                  <a:lnTo>
                    <a:pt x="330" y="79"/>
                  </a:lnTo>
                  <a:lnTo>
                    <a:pt x="358" y="62"/>
                  </a:lnTo>
                  <a:lnTo>
                    <a:pt x="385" y="48"/>
                  </a:lnTo>
                  <a:lnTo>
                    <a:pt x="414" y="35"/>
                  </a:lnTo>
                  <a:lnTo>
                    <a:pt x="443" y="24"/>
                  </a:lnTo>
                  <a:lnTo>
                    <a:pt x="472" y="16"/>
                  </a:lnTo>
                  <a:lnTo>
                    <a:pt x="501" y="9"/>
                  </a:lnTo>
                  <a:lnTo>
                    <a:pt x="532" y="5"/>
                  </a:lnTo>
                  <a:lnTo>
                    <a:pt x="563" y="1"/>
                  </a:lnTo>
                  <a:lnTo>
                    <a:pt x="595" y="0"/>
                  </a:lnTo>
                  <a:lnTo>
                    <a:pt x="618" y="1"/>
                  </a:lnTo>
                  <a:lnTo>
                    <a:pt x="639" y="3"/>
                  </a:lnTo>
                  <a:lnTo>
                    <a:pt x="660" y="6"/>
                  </a:lnTo>
                  <a:lnTo>
                    <a:pt x="680" y="11"/>
                  </a:lnTo>
                  <a:lnTo>
                    <a:pt x="697" y="17"/>
                  </a:lnTo>
                  <a:lnTo>
                    <a:pt x="705" y="20"/>
                  </a:lnTo>
                  <a:lnTo>
                    <a:pt x="714" y="23"/>
                  </a:lnTo>
                  <a:lnTo>
                    <a:pt x="721" y="28"/>
                  </a:lnTo>
                  <a:lnTo>
                    <a:pt x="729" y="32"/>
                  </a:lnTo>
                  <a:lnTo>
                    <a:pt x="735" y="36"/>
                  </a:lnTo>
                  <a:lnTo>
                    <a:pt x="742" y="41"/>
                  </a:lnTo>
                  <a:lnTo>
                    <a:pt x="749" y="46"/>
                  </a:lnTo>
                  <a:lnTo>
                    <a:pt x="755" y="52"/>
                  </a:lnTo>
                  <a:lnTo>
                    <a:pt x="760" y="58"/>
                  </a:lnTo>
                  <a:lnTo>
                    <a:pt x="765" y="64"/>
                  </a:lnTo>
                  <a:lnTo>
                    <a:pt x="770" y="70"/>
                  </a:lnTo>
                  <a:lnTo>
                    <a:pt x="774" y="76"/>
                  </a:lnTo>
                  <a:lnTo>
                    <a:pt x="778" y="83"/>
                  </a:lnTo>
                  <a:lnTo>
                    <a:pt x="781" y="90"/>
                  </a:lnTo>
                  <a:lnTo>
                    <a:pt x="785" y="96"/>
                  </a:lnTo>
                  <a:lnTo>
                    <a:pt x="788" y="104"/>
                  </a:lnTo>
                  <a:lnTo>
                    <a:pt x="792" y="119"/>
                  </a:lnTo>
                  <a:lnTo>
                    <a:pt x="794" y="135"/>
                  </a:lnTo>
                  <a:lnTo>
                    <a:pt x="795" y="152"/>
                  </a:lnTo>
                  <a:lnTo>
                    <a:pt x="794" y="170"/>
                  </a:lnTo>
                  <a:lnTo>
                    <a:pt x="791" y="187"/>
                  </a:lnTo>
                  <a:lnTo>
                    <a:pt x="787" y="204"/>
                  </a:lnTo>
                  <a:lnTo>
                    <a:pt x="780" y="221"/>
                  </a:lnTo>
                  <a:lnTo>
                    <a:pt x="772" y="238"/>
                  </a:lnTo>
                  <a:lnTo>
                    <a:pt x="762" y="255"/>
                  </a:lnTo>
                  <a:lnTo>
                    <a:pt x="751" y="271"/>
                  </a:lnTo>
                  <a:lnTo>
                    <a:pt x="737" y="288"/>
                  </a:lnTo>
                  <a:lnTo>
                    <a:pt x="722" y="304"/>
                  </a:lnTo>
                  <a:lnTo>
                    <a:pt x="704" y="321"/>
                  </a:lnTo>
                  <a:lnTo>
                    <a:pt x="684" y="337"/>
                  </a:lnTo>
                  <a:lnTo>
                    <a:pt x="662" y="353"/>
                  </a:lnTo>
                  <a:lnTo>
                    <a:pt x="637" y="369"/>
                  </a:lnTo>
                  <a:lnTo>
                    <a:pt x="610" y="385"/>
                  </a:lnTo>
                  <a:lnTo>
                    <a:pt x="581" y="402"/>
                  </a:lnTo>
                  <a:lnTo>
                    <a:pt x="549" y="417"/>
                  </a:lnTo>
                  <a:lnTo>
                    <a:pt x="498" y="440"/>
                  </a:lnTo>
                  <a:lnTo>
                    <a:pt x="432" y="467"/>
                  </a:lnTo>
                  <a:lnTo>
                    <a:pt x="251" y="537"/>
                  </a:lnTo>
                  <a:lnTo>
                    <a:pt x="248" y="557"/>
                  </a:lnTo>
                  <a:lnTo>
                    <a:pt x="245" y="579"/>
                  </a:lnTo>
                  <a:lnTo>
                    <a:pt x="244" y="601"/>
                  </a:lnTo>
                  <a:lnTo>
                    <a:pt x="243" y="624"/>
                  </a:lnTo>
                  <a:lnTo>
                    <a:pt x="243" y="639"/>
                  </a:lnTo>
                  <a:lnTo>
                    <a:pt x="244" y="653"/>
                  </a:lnTo>
                  <a:lnTo>
                    <a:pt x="246" y="665"/>
                  </a:lnTo>
                  <a:lnTo>
                    <a:pt x="248" y="676"/>
                  </a:lnTo>
                  <a:lnTo>
                    <a:pt x="251" y="686"/>
                  </a:lnTo>
                  <a:lnTo>
                    <a:pt x="253" y="690"/>
                  </a:lnTo>
                  <a:lnTo>
                    <a:pt x="254" y="695"/>
                  </a:lnTo>
                  <a:lnTo>
                    <a:pt x="256" y="698"/>
                  </a:lnTo>
                  <a:lnTo>
                    <a:pt x="258" y="702"/>
                  </a:lnTo>
                  <a:lnTo>
                    <a:pt x="261" y="705"/>
                  </a:lnTo>
                  <a:lnTo>
                    <a:pt x="264" y="707"/>
                  </a:lnTo>
                  <a:lnTo>
                    <a:pt x="267" y="710"/>
                  </a:lnTo>
                  <a:lnTo>
                    <a:pt x="269" y="713"/>
                  </a:lnTo>
                  <a:lnTo>
                    <a:pt x="272" y="715"/>
                  </a:lnTo>
                  <a:lnTo>
                    <a:pt x="275" y="717"/>
                  </a:lnTo>
                  <a:lnTo>
                    <a:pt x="278" y="719"/>
                  </a:lnTo>
                  <a:lnTo>
                    <a:pt x="281" y="720"/>
                  </a:lnTo>
                  <a:lnTo>
                    <a:pt x="285" y="722"/>
                  </a:lnTo>
                  <a:lnTo>
                    <a:pt x="288" y="724"/>
                  </a:lnTo>
                  <a:lnTo>
                    <a:pt x="292" y="724"/>
                  </a:lnTo>
                  <a:lnTo>
                    <a:pt x="295" y="726"/>
                  </a:lnTo>
                  <a:lnTo>
                    <a:pt x="300" y="727"/>
                  </a:lnTo>
                  <a:lnTo>
                    <a:pt x="304" y="727"/>
                  </a:lnTo>
                  <a:lnTo>
                    <a:pt x="313" y="729"/>
                  </a:lnTo>
                  <a:lnTo>
                    <a:pt x="322" y="729"/>
                  </a:lnTo>
                  <a:lnTo>
                    <a:pt x="334" y="729"/>
                  </a:lnTo>
                  <a:lnTo>
                    <a:pt x="345" y="727"/>
                  </a:lnTo>
                  <a:lnTo>
                    <a:pt x="356" y="726"/>
                  </a:lnTo>
                  <a:lnTo>
                    <a:pt x="368" y="724"/>
                  </a:lnTo>
                  <a:lnTo>
                    <a:pt x="380" y="720"/>
                  </a:lnTo>
                  <a:lnTo>
                    <a:pt x="392" y="717"/>
                  </a:lnTo>
                  <a:lnTo>
                    <a:pt x="406" y="713"/>
                  </a:lnTo>
                  <a:lnTo>
                    <a:pt x="419" y="707"/>
                  </a:lnTo>
                  <a:lnTo>
                    <a:pt x="440" y="699"/>
                  </a:lnTo>
                  <a:lnTo>
                    <a:pt x="463" y="689"/>
                  </a:lnTo>
                  <a:lnTo>
                    <a:pt x="519" y="662"/>
                  </a:lnTo>
                  <a:lnTo>
                    <a:pt x="587" y="627"/>
                  </a:lnTo>
                  <a:close/>
                  <a:moveTo>
                    <a:pt x="268" y="440"/>
                  </a:moveTo>
                  <a:lnTo>
                    <a:pt x="340" y="406"/>
                  </a:lnTo>
                  <a:lnTo>
                    <a:pt x="404" y="373"/>
                  </a:lnTo>
                  <a:lnTo>
                    <a:pt x="432" y="356"/>
                  </a:lnTo>
                  <a:lnTo>
                    <a:pt x="459" y="339"/>
                  </a:lnTo>
                  <a:lnTo>
                    <a:pt x="484" y="322"/>
                  </a:lnTo>
                  <a:lnTo>
                    <a:pt x="507" y="305"/>
                  </a:lnTo>
                  <a:lnTo>
                    <a:pt x="522" y="289"/>
                  </a:lnTo>
                  <a:lnTo>
                    <a:pt x="535" y="274"/>
                  </a:lnTo>
                  <a:lnTo>
                    <a:pt x="547" y="260"/>
                  </a:lnTo>
                  <a:lnTo>
                    <a:pt x="556" y="246"/>
                  </a:lnTo>
                  <a:lnTo>
                    <a:pt x="563" y="232"/>
                  </a:lnTo>
                  <a:lnTo>
                    <a:pt x="566" y="226"/>
                  </a:lnTo>
                  <a:lnTo>
                    <a:pt x="568" y="219"/>
                  </a:lnTo>
                  <a:lnTo>
                    <a:pt x="570" y="213"/>
                  </a:lnTo>
                  <a:lnTo>
                    <a:pt x="571" y="206"/>
                  </a:lnTo>
                  <a:lnTo>
                    <a:pt x="572" y="200"/>
                  </a:lnTo>
                  <a:lnTo>
                    <a:pt x="572" y="194"/>
                  </a:lnTo>
                  <a:lnTo>
                    <a:pt x="572" y="186"/>
                  </a:lnTo>
                  <a:lnTo>
                    <a:pt x="571" y="178"/>
                  </a:lnTo>
                  <a:lnTo>
                    <a:pt x="569" y="170"/>
                  </a:lnTo>
                  <a:lnTo>
                    <a:pt x="567" y="164"/>
                  </a:lnTo>
                  <a:lnTo>
                    <a:pt x="564" y="157"/>
                  </a:lnTo>
                  <a:lnTo>
                    <a:pt x="561" y="151"/>
                  </a:lnTo>
                  <a:lnTo>
                    <a:pt x="559" y="148"/>
                  </a:lnTo>
                  <a:lnTo>
                    <a:pt x="557" y="146"/>
                  </a:lnTo>
                  <a:lnTo>
                    <a:pt x="554" y="143"/>
                  </a:lnTo>
                  <a:lnTo>
                    <a:pt x="552" y="141"/>
                  </a:lnTo>
                  <a:lnTo>
                    <a:pt x="550" y="138"/>
                  </a:lnTo>
                  <a:lnTo>
                    <a:pt x="547" y="136"/>
                  </a:lnTo>
                  <a:lnTo>
                    <a:pt x="544" y="134"/>
                  </a:lnTo>
                  <a:lnTo>
                    <a:pt x="542" y="132"/>
                  </a:lnTo>
                  <a:lnTo>
                    <a:pt x="538" y="130"/>
                  </a:lnTo>
                  <a:lnTo>
                    <a:pt x="535" y="129"/>
                  </a:lnTo>
                  <a:lnTo>
                    <a:pt x="532" y="128"/>
                  </a:lnTo>
                  <a:lnTo>
                    <a:pt x="529" y="126"/>
                  </a:lnTo>
                  <a:lnTo>
                    <a:pt x="525" y="125"/>
                  </a:lnTo>
                  <a:lnTo>
                    <a:pt x="522" y="125"/>
                  </a:lnTo>
                  <a:lnTo>
                    <a:pt x="519" y="124"/>
                  </a:lnTo>
                  <a:lnTo>
                    <a:pt x="515" y="123"/>
                  </a:lnTo>
                  <a:lnTo>
                    <a:pt x="508" y="122"/>
                  </a:lnTo>
                  <a:lnTo>
                    <a:pt x="500" y="122"/>
                  </a:lnTo>
                  <a:lnTo>
                    <a:pt x="496" y="122"/>
                  </a:lnTo>
                  <a:lnTo>
                    <a:pt x="491" y="123"/>
                  </a:lnTo>
                  <a:lnTo>
                    <a:pt x="481" y="124"/>
                  </a:lnTo>
                  <a:lnTo>
                    <a:pt x="469" y="126"/>
                  </a:lnTo>
                  <a:lnTo>
                    <a:pt x="458" y="129"/>
                  </a:lnTo>
                  <a:lnTo>
                    <a:pt x="445" y="133"/>
                  </a:lnTo>
                  <a:lnTo>
                    <a:pt x="431" y="137"/>
                  </a:lnTo>
                  <a:lnTo>
                    <a:pt x="400" y="149"/>
                  </a:lnTo>
                  <a:lnTo>
                    <a:pt x="346" y="226"/>
                  </a:lnTo>
                  <a:lnTo>
                    <a:pt x="320" y="287"/>
                  </a:lnTo>
                  <a:lnTo>
                    <a:pt x="299" y="343"/>
                  </a:lnTo>
                  <a:lnTo>
                    <a:pt x="281" y="394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73880" y="1314360"/>
              <a:ext cx="393480" cy="324000"/>
            </a:xfrm>
            <a:custGeom>
              <a:avLst/>
              <a:gdLst/>
              <a:ahLst/>
              <a:rect l="l" t="t" r="r" b="b"/>
              <a:pathLst>
                <a:path w="1092" h="901">
                  <a:moveTo>
                    <a:pt x="1091" y="675"/>
                  </a:moveTo>
                  <a:lnTo>
                    <a:pt x="1029" y="727"/>
                  </a:lnTo>
                  <a:lnTo>
                    <a:pt x="973" y="773"/>
                  </a:lnTo>
                  <a:lnTo>
                    <a:pt x="919" y="812"/>
                  </a:lnTo>
                  <a:lnTo>
                    <a:pt x="870" y="844"/>
                  </a:lnTo>
                  <a:lnTo>
                    <a:pt x="824" y="868"/>
                  </a:lnTo>
                  <a:lnTo>
                    <a:pt x="803" y="878"/>
                  </a:lnTo>
                  <a:lnTo>
                    <a:pt x="783" y="885"/>
                  </a:lnTo>
                  <a:lnTo>
                    <a:pt x="764" y="892"/>
                  </a:lnTo>
                  <a:lnTo>
                    <a:pt x="745" y="896"/>
                  </a:lnTo>
                  <a:lnTo>
                    <a:pt x="729" y="899"/>
                  </a:lnTo>
                  <a:lnTo>
                    <a:pt x="712" y="900"/>
                  </a:lnTo>
                  <a:lnTo>
                    <a:pt x="707" y="900"/>
                  </a:lnTo>
                  <a:lnTo>
                    <a:pt x="701" y="899"/>
                  </a:lnTo>
                  <a:lnTo>
                    <a:pt x="696" y="899"/>
                  </a:lnTo>
                  <a:lnTo>
                    <a:pt x="690" y="898"/>
                  </a:lnTo>
                  <a:lnTo>
                    <a:pt x="685" y="896"/>
                  </a:lnTo>
                  <a:lnTo>
                    <a:pt x="680" y="896"/>
                  </a:lnTo>
                  <a:lnTo>
                    <a:pt x="675" y="894"/>
                  </a:lnTo>
                  <a:lnTo>
                    <a:pt x="670" y="892"/>
                  </a:lnTo>
                  <a:lnTo>
                    <a:pt x="665" y="890"/>
                  </a:lnTo>
                  <a:lnTo>
                    <a:pt x="660" y="888"/>
                  </a:lnTo>
                  <a:lnTo>
                    <a:pt x="650" y="883"/>
                  </a:lnTo>
                  <a:lnTo>
                    <a:pt x="641" y="876"/>
                  </a:lnTo>
                  <a:lnTo>
                    <a:pt x="632" y="869"/>
                  </a:lnTo>
                  <a:lnTo>
                    <a:pt x="628" y="866"/>
                  </a:lnTo>
                  <a:lnTo>
                    <a:pt x="623" y="862"/>
                  </a:lnTo>
                  <a:lnTo>
                    <a:pt x="619" y="857"/>
                  </a:lnTo>
                  <a:lnTo>
                    <a:pt x="615" y="853"/>
                  </a:lnTo>
                  <a:lnTo>
                    <a:pt x="612" y="849"/>
                  </a:lnTo>
                  <a:lnTo>
                    <a:pt x="609" y="844"/>
                  </a:lnTo>
                  <a:lnTo>
                    <a:pt x="607" y="839"/>
                  </a:lnTo>
                  <a:lnTo>
                    <a:pt x="605" y="833"/>
                  </a:lnTo>
                  <a:lnTo>
                    <a:pt x="601" y="823"/>
                  </a:lnTo>
                  <a:lnTo>
                    <a:pt x="598" y="812"/>
                  </a:lnTo>
                  <a:lnTo>
                    <a:pt x="597" y="800"/>
                  </a:lnTo>
                  <a:lnTo>
                    <a:pt x="596" y="788"/>
                  </a:lnTo>
                  <a:lnTo>
                    <a:pt x="596" y="774"/>
                  </a:lnTo>
                  <a:lnTo>
                    <a:pt x="597" y="759"/>
                  </a:lnTo>
                  <a:lnTo>
                    <a:pt x="599" y="743"/>
                  </a:lnTo>
                  <a:lnTo>
                    <a:pt x="602" y="727"/>
                  </a:lnTo>
                  <a:lnTo>
                    <a:pt x="609" y="692"/>
                  </a:lnTo>
                  <a:lnTo>
                    <a:pt x="619" y="653"/>
                  </a:lnTo>
                  <a:lnTo>
                    <a:pt x="676" y="484"/>
                  </a:lnTo>
                  <a:lnTo>
                    <a:pt x="392" y="484"/>
                  </a:lnTo>
                  <a:lnTo>
                    <a:pt x="281" y="866"/>
                  </a:lnTo>
                  <a:lnTo>
                    <a:pt x="58" y="866"/>
                  </a:lnTo>
                  <a:lnTo>
                    <a:pt x="59" y="856"/>
                  </a:lnTo>
                  <a:lnTo>
                    <a:pt x="61" y="846"/>
                  </a:lnTo>
                  <a:lnTo>
                    <a:pt x="66" y="822"/>
                  </a:lnTo>
                  <a:lnTo>
                    <a:pt x="74" y="794"/>
                  </a:lnTo>
                  <a:lnTo>
                    <a:pt x="84" y="760"/>
                  </a:lnTo>
                  <a:lnTo>
                    <a:pt x="94" y="732"/>
                  </a:lnTo>
                  <a:lnTo>
                    <a:pt x="108" y="688"/>
                  </a:lnTo>
                  <a:lnTo>
                    <a:pt x="147" y="559"/>
                  </a:lnTo>
                  <a:lnTo>
                    <a:pt x="253" y="208"/>
                  </a:lnTo>
                  <a:lnTo>
                    <a:pt x="256" y="195"/>
                  </a:lnTo>
                  <a:lnTo>
                    <a:pt x="259" y="185"/>
                  </a:lnTo>
                  <a:lnTo>
                    <a:pt x="260" y="177"/>
                  </a:lnTo>
                  <a:lnTo>
                    <a:pt x="261" y="173"/>
                  </a:lnTo>
                  <a:lnTo>
                    <a:pt x="261" y="170"/>
                  </a:lnTo>
                  <a:lnTo>
                    <a:pt x="261" y="166"/>
                  </a:lnTo>
                  <a:lnTo>
                    <a:pt x="261" y="163"/>
                  </a:lnTo>
                  <a:lnTo>
                    <a:pt x="261" y="161"/>
                  </a:lnTo>
                  <a:lnTo>
                    <a:pt x="261" y="161"/>
                  </a:lnTo>
                  <a:lnTo>
                    <a:pt x="261" y="161"/>
                  </a:lnTo>
                  <a:lnTo>
                    <a:pt x="261" y="160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57" y="160"/>
                  </a:lnTo>
                  <a:lnTo>
                    <a:pt x="255" y="160"/>
                  </a:lnTo>
                  <a:lnTo>
                    <a:pt x="248" y="162"/>
                  </a:lnTo>
                  <a:lnTo>
                    <a:pt x="240" y="164"/>
                  </a:lnTo>
                  <a:lnTo>
                    <a:pt x="233" y="167"/>
                  </a:lnTo>
                  <a:lnTo>
                    <a:pt x="215" y="175"/>
                  </a:lnTo>
                  <a:lnTo>
                    <a:pt x="194" y="187"/>
                  </a:lnTo>
                  <a:lnTo>
                    <a:pt x="169" y="201"/>
                  </a:lnTo>
                  <a:lnTo>
                    <a:pt x="143" y="219"/>
                  </a:lnTo>
                  <a:lnTo>
                    <a:pt x="79" y="265"/>
                  </a:lnTo>
                  <a:lnTo>
                    <a:pt x="0" y="213"/>
                  </a:lnTo>
                  <a:lnTo>
                    <a:pt x="65" y="163"/>
                  </a:lnTo>
                  <a:lnTo>
                    <a:pt x="125" y="120"/>
                  </a:lnTo>
                  <a:lnTo>
                    <a:pt x="182" y="83"/>
                  </a:lnTo>
                  <a:lnTo>
                    <a:pt x="234" y="53"/>
                  </a:lnTo>
                  <a:lnTo>
                    <a:pt x="283" y="30"/>
                  </a:lnTo>
                  <a:lnTo>
                    <a:pt x="305" y="21"/>
                  </a:lnTo>
                  <a:lnTo>
                    <a:pt x="327" y="13"/>
                  </a:lnTo>
                  <a:lnTo>
                    <a:pt x="348" y="7"/>
                  </a:lnTo>
                  <a:lnTo>
                    <a:pt x="367" y="3"/>
                  </a:lnTo>
                  <a:lnTo>
                    <a:pt x="386" y="1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5" y="2"/>
                  </a:lnTo>
                  <a:lnTo>
                    <a:pt x="434" y="3"/>
                  </a:lnTo>
                  <a:lnTo>
                    <a:pt x="443" y="6"/>
                  </a:lnTo>
                  <a:lnTo>
                    <a:pt x="452" y="9"/>
                  </a:lnTo>
                  <a:lnTo>
                    <a:pt x="459" y="13"/>
                  </a:lnTo>
                  <a:lnTo>
                    <a:pt x="466" y="18"/>
                  </a:lnTo>
                  <a:lnTo>
                    <a:pt x="472" y="23"/>
                  </a:lnTo>
                  <a:lnTo>
                    <a:pt x="477" y="29"/>
                  </a:lnTo>
                  <a:lnTo>
                    <a:pt x="481" y="36"/>
                  </a:lnTo>
                  <a:lnTo>
                    <a:pt x="486" y="43"/>
                  </a:lnTo>
                  <a:lnTo>
                    <a:pt x="489" y="52"/>
                  </a:lnTo>
                  <a:lnTo>
                    <a:pt x="492" y="60"/>
                  </a:lnTo>
                  <a:lnTo>
                    <a:pt x="494" y="70"/>
                  </a:lnTo>
                  <a:lnTo>
                    <a:pt x="495" y="81"/>
                  </a:lnTo>
                  <a:lnTo>
                    <a:pt x="495" y="92"/>
                  </a:lnTo>
                  <a:lnTo>
                    <a:pt x="494" y="111"/>
                  </a:lnTo>
                  <a:lnTo>
                    <a:pt x="490" y="136"/>
                  </a:lnTo>
                  <a:lnTo>
                    <a:pt x="483" y="166"/>
                  </a:lnTo>
                  <a:lnTo>
                    <a:pt x="475" y="200"/>
                  </a:lnTo>
                  <a:lnTo>
                    <a:pt x="450" y="283"/>
                  </a:lnTo>
                  <a:lnTo>
                    <a:pt x="417" y="384"/>
                  </a:lnTo>
                  <a:lnTo>
                    <a:pt x="702" y="384"/>
                  </a:lnTo>
                  <a:lnTo>
                    <a:pt x="818" y="24"/>
                  </a:lnTo>
                  <a:lnTo>
                    <a:pt x="1031" y="24"/>
                  </a:lnTo>
                  <a:lnTo>
                    <a:pt x="918" y="392"/>
                  </a:lnTo>
                  <a:lnTo>
                    <a:pt x="845" y="624"/>
                  </a:lnTo>
                  <a:lnTo>
                    <a:pt x="826" y="692"/>
                  </a:lnTo>
                  <a:lnTo>
                    <a:pt x="821" y="714"/>
                  </a:lnTo>
                  <a:lnTo>
                    <a:pt x="820" y="721"/>
                  </a:lnTo>
                  <a:lnTo>
                    <a:pt x="820" y="727"/>
                  </a:lnTo>
                  <a:lnTo>
                    <a:pt x="820" y="732"/>
                  </a:lnTo>
                  <a:lnTo>
                    <a:pt x="821" y="735"/>
                  </a:lnTo>
                  <a:lnTo>
                    <a:pt x="821" y="737"/>
                  </a:lnTo>
                  <a:lnTo>
                    <a:pt x="821" y="738"/>
                  </a:lnTo>
                  <a:lnTo>
                    <a:pt x="822" y="739"/>
                  </a:lnTo>
                  <a:lnTo>
                    <a:pt x="822" y="741"/>
                  </a:lnTo>
                  <a:lnTo>
                    <a:pt x="823" y="742"/>
                  </a:lnTo>
                  <a:lnTo>
                    <a:pt x="824" y="743"/>
                  </a:lnTo>
                  <a:lnTo>
                    <a:pt x="824" y="743"/>
                  </a:lnTo>
                  <a:lnTo>
                    <a:pt x="825" y="744"/>
                  </a:lnTo>
                  <a:lnTo>
                    <a:pt x="825" y="744"/>
                  </a:lnTo>
                  <a:lnTo>
                    <a:pt x="826" y="744"/>
                  </a:lnTo>
                  <a:lnTo>
                    <a:pt x="826" y="744"/>
                  </a:lnTo>
                  <a:lnTo>
                    <a:pt x="827" y="745"/>
                  </a:lnTo>
                  <a:lnTo>
                    <a:pt x="827" y="745"/>
                  </a:lnTo>
                  <a:lnTo>
                    <a:pt x="828" y="745"/>
                  </a:lnTo>
                  <a:lnTo>
                    <a:pt x="829" y="745"/>
                  </a:lnTo>
                  <a:lnTo>
                    <a:pt x="832" y="745"/>
                  </a:lnTo>
                  <a:lnTo>
                    <a:pt x="834" y="744"/>
                  </a:lnTo>
                  <a:lnTo>
                    <a:pt x="840" y="743"/>
                  </a:lnTo>
                  <a:lnTo>
                    <a:pt x="846" y="741"/>
                  </a:lnTo>
                  <a:lnTo>
                    <a:pt x="854" y="737"/>
                  </a:lnTo>
                  <a:lnTo>
                    <a:pt x="873" y="727"/>
                  </a:lnTo>
                  <a:lnTo>
                    <a:pt x="895" y="713"/>
                  </a:lnTo>
                  <a:lnTo>
                    <a:pt x="953" y="673"/>
                  </a:lnTo>
                  <a:lnTo>
                    <a:pt x="1027" y="617"/>
                  </a:lnTo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78520" y="1303200"/>
              <a:ext cx="368280" cy="333360"/>
            </a:xfrm>
            <a:custGeom>
              <a:avLst/>
              <a:gdLst/>
              <a:ahLst/>
              <a:rect l="l" t="t" r="r" b="b"/>
              <a:pathLst>
                <a:path w="1023" h="927">
                  <a:moveTo>
                    <a:pt x="849" y="17"/>
                  </a:moveTo>
                  <a:lnTo>
                    <a:pt x="967" y="0"/>
                  </a:lnTo>
                  <a:lnTo>
                    <a:pt x="876" y="275"/>
                  </a:lnTo>
                  <a:lnTo>
                    <a:pt x="851" y="352"/>
                  </a:lnTo>
                  <a:lnTo>
                    <a:pt x="825" y="435"/>
                  </a:lnTo>
                  <a:lnTo>
                    <a:pt x="800" y="523"/>
                  </a:lnTo>
                  <a:lnTo>
                    <a:pt x="776" y="616"/>
                  </a:lnTo>
                  <a:lnTo>
                    <a:pt x="765" y="662"/>
                  </a:lnTo>
                  <a:lnTo>
                    <a:pt x="757" y="700"/>
                  </a:lnTo>
                  <a:lnTo>
                    <a:pt x="753" y="728"/>
                  </a:lnTo>
                  <a:lnTo>
                    <a:pt x="751" y="739"/>
                  </a:lnTo>
                  <a:lnTo>
                    <a:pt x="751" y="747"/>
                  </a:lnTo>
                  <a:lnTo>
                    <a:pt x="751" y="750"/>
                  </a:lnTo>
                  <a:lnTo>
                    <a:pt x="751" y="752"/>
                  </a:lnTo>
                  <a:lnTo>
                    <a:pt x="752" y="753"/>
                  </a:lnTo>
                  <a:lnTo>
                    <a:pt x="752" y="754"/>
                  </a:lnTo>
                  <a:lnTo>
                    <a:pt x="752" y="755"/>
                  </a:lnTo>
                  <a:lnTo>
                    <a:pt x="753" y="756"/>
                  </a:lnTo>
                  <a:lnTo>
                    <a:pt x="753" y="756"/>
                  </a:lnTo>
                  <a:lnTo>
                    <a:pt x="753" y="757"/>
                  </a:lnTo>
                  <a:lnTo>
                    <a:pt x="754" y="757"/>
                  </a:lnTo>
                  <a:lnTo>
                    <a:pt x="754" y="758"/>
                  </a:lnTo>
                  <a:lnTo>
                    <a:pt x="754" y="758"/>
                  </a:lnTo>
                  <a:lnTo>
                    <a:pt x="754" y="758"/>
                  </a:lnTo>
                  <a:lnTo>
                    <a:pt x="754" y="758"/>
                  </a:lnTo>
                  <a:lnTo>
                    <a:pt x="755" y="758"/>
                  </a:lnTo>
                  <a:lnTo>
                    <a:pt x="755" y="758"/>
                  </a:lnTo>
                  <a:lnTo>
                    <a:pt x="755" y="758"/>
                  </a:lnTo>
                  <a:lnTo>
                    <a:pt x="757" y="758"/>
                  </a:lnTo>
                  <a:lnTo>
                    <a:pt x="759" y="758"/>
                  </a:lnTo>
                  <a:lnTo>
                    <a:pt x="761" y="757"/>
                  </a:lnTo>
                  <a:lnTo>
                    <a:pt x="763" y="757"/>
                  </a:lnTo>
                  <a:lnTo>
                    <a:pt x="768" y="755"/>
                  </a:lnTo>
                  <a:lnTo>
                    <a:pt x="773" y="753"/>
                  </a:lnTo>
                  <a:lnTo>
                    <a:pt x="780" y="751"/>
                  </a:lnTo>
                  <a:lnTo>
                    <a:pt x="787" y="747"/>
                  </a:lnTo>
                  <a:lnTo>
                    <a:pt x="803" y="740"/>
                  </a:lnTo>
                  <a:lnTo>
                    <a:pt x="839" y="721"/>
                  </a:lnTo>
                  <a:lnTo>
                    <a:pt x="877" y="699"/>
                  </a:lnTo>
                  <a:lnTo>
                    <a:pt x="918" y="674"/>
                  </a:lnTo>
                  <a:lnTo>
                    <a:pt x="960" y="646"/>
                  </a:lnTo>
                  <a:lnTo>
                    <a:pt x="1022" y="707"/>
                  </a:lnTo>
                  <a:lnTo>
                    <a:pt x="903" y="798"/>
                  </a:lnTo>
                  <a:lnTo>
                    <a:pt x="863" y="827"/>
                  </a:lnTo>
                  <a:lnTo>
                    <a:pt x="849" y="837"/>
                  </a:lnTo>
                  <a:lnTo>
                    <a:pt x="836" y="845"/>
                  </a:lnTo>
                  <a:lnTo>
                    <a:pt x="797" y="866"/>
                  </a:lnTo>
                  <a:lnTo>
                    <a:pt x="759" y="884"/>
                  </a:lnTo>
                  <a:lnTo>
                    <a:pt x="740" y="892"/>
                  </a:lnTo>
                  <a:lnTo>
                    <a:pt x="722" y="899"/>
                  </a:lnTo>
                  <a:lnTo>
                    <a:pt x="703" y="905"/>
                  </a:lnTo>
                  <a:lnTo>
                    <a:pt x="685" y="911"/>
                  </a:lnTo>
                  <a:lnTo>
                    <a:pt x="672" y="915"/>
                  </a:lnTo>
                  <a:lnTo>
                    <a:pt x="661" y="917"/>
                  </a:lnTo>
                  <a:lnTo>
                    <a:pt x="649" y="920"/>
                  </a:lnTo>
                  <a:lnTo>
                    <a:pt x="636" y="922"/>
                  </a:lnTo>
                  <a:lnTo>
                    <a:pt x="625" y="924"/>
                  </a:lnTo>
                  <a:lnTo>
                    <a:pt x="613" y="925"/>
                  </a:lnTo>
                  <a:lnTo>
                    <a:pt x="600" y="926"/>
                  </a:lnTo>
                  <a:lnTo>
                    <a:pt x="588" y="926"/>
                  </a:lnTo>
                  <a:lnTo>
                    <a:pt x="578" y="926"/>
                  </a:lnTo>
                  <a:lnTo>
                    <a:pt x="568" y="925"/>
                  </a:lnTo>
                  <a:lnTo>
                    <a:pt x="560" y="923"/>
                  </a:lnTo>
                  <a:lnTo>
                    <a:pt x="552" y="922"/>
                  </a:lnTo>
                  <a:lnTo>
                    <a:pt x="545" y="919"/>
                  </a:lnTo>
                  <a:lnTo>
                    <a:pt x="541" y="917"/>
                  </a:lnTo>
                  <a:lnTo>
                    <a:pt x="538" y="916"/>
                  </a:lnTo>
                  <a:lnTo>
                    <a:pt x="534" y="915"/>
                  </a:lnTo>
                  <a:lnTo>
                    <a:pt x="531" y="913"/>
                  </a:lnTo>
                  <a:lnTo>
                    <a:pt x="528" y="911"/>
                  </a:lnTo>
                  <a:lnTo>
                    <a:pt x="525" y="909"/>
                  </a:lnTo>
                  <a:lnTo>
                    <a:pt x="522" y="906"/>
                  </a:lnTo>
                  <a:lnTo>
                    <a:pt x="520" y="905"/>
                  </a:lnTo>
                  <a:lnTo>
                    <a:pt x="517" y="902"/>
                  </a:lnTo>
                  <a:lnTo>
                    <a:pt x="515" y="899"/>
                  </a:lnTo>
                  <a:lnTo>
                    <a:pt x="513" y="896"/>
                  </a:lnTo>
                  <a:lnTo>
                    <a:pt x="511" y="894"/>
                  </a:lnTo>
                  <a:lnTo>
                    <a:pt x="510" y="891"/>
                  </a:lnTo>
                  <a:lnTo>
                    <a:pt x="508" y="888"/>
                  </a:lnTo>
                  <a:lnTo>
                    <a:pt x="507" y="884"/>
                  </a:lnTo>
                  <a:lnTo>
                    <a:pt x="506" y="882"/>
                  </a:lnTo>
                  <a:lnTo>
                    <a:pt x="504" y="875"/>
                  </a:lnTo>
                  <a:lnTo>
                    <a:pt x="503" y="867"/>
                  </a:lnTo>
                  <a:lnTo>
                    <a:pt x="503" y="860"/>
                  </a:lnTo>
                  <a:lnTo>
                    <a:pt x="503" y="855"/>
                  </a:lnTo>
                  <a:lnTo>
                    <a:pt x="504" y="850"/>
                  </a:lnTo>
                  <a:lnTo>
                    <a:pt x="504" y="845"/>
                  </a:lnTo>
                  <a:lnTo>
                    <a:pt x="505" y="839"/>
                  </a:lnTo>
                  <a:lnTo>
                    <a:pt x="507" y="833"/>
                  </a:lnTo>
                  <a:lnTo>
                    <a:pt x="508" y="827"/>
                  </a:lnTo>
                  <a:lnTo>
                    <a:pt x="513" y="814"/>
                  </a:lnTo>
                  <a:lnTo>
                    <a:pt x="559" y="706"/>
                  </a:lnTo>
                  <a:lnTo>
                    <a:pt x="543" y="730"/>
                  </a:lnTo>
                  <a:lnTo>
                    <a:pt x="524" y="752"/>
                  </a:lnTo>
                  <a:lnTo>
                    <a:pt x="504" y="773"/>
                  </a:lnTo>
                  <a:lnTo>
                    <a:pt x="481" y="793"/>
                  </a:lnTo>
                  <a:lnTo>
                    <a:pt x="455" y="812"/>
                  </a:lnTo>
                  <a:lnTo>
                    <a:pt x="427" y="830"/>
                  </a:lnTo>
                  <a:lnTo>
                    <a:pt x="397" y="846"/>
                  </a:lnTo>
                  <a:lnTo>
                    <a:pt x="365" y="861"/>
                  </a:lnTo>
                  <a:lnTo>
                    <a:pt x="339" y="877"/>
                  </a:lnTo>
                  <a:lnTo>
                    <a:pt x="314" y="889"/>
                  </a:lnTo>
                  <a:lnTo>
                    <a:pt x="290" y="900"/>
                  </a:lnTo>
                  <a:lnTo>
                    <a:pt x="267" y="909"/>
                  </a:lnTo>
                  <a:lnTo>
                    <a:pt x="244" y="916"/>
                  </a:lnTo>
                  <a:lnTo>
                    <a:pt x="221" y="921"/>
                  </a:lnTo>
                  <a:lnTo>
                    <a:pt x="211" y="922"/>
                  </a:lnTo>
                  <a:lnTo>
                    <a:pt x="201" y="924"/>
                  </a:lnTo>
                  <a:lnTo>
                    <a:pt x="190" y="925"/>
                  </a:lnTo>
                  <a:lnTo>
                    <a:pt x="180" y="925"/>
                  </a:lnTo>
                  <a:lnTo>
                    <a:pt x="170" y="925"/>
                  </a:lnTo>
                  <a:lnTo>
                    <a:pt x="161" y="924"/>
                  </a:lnTo>
                  <a:lnTo>
                    <a:pt x="150" y="922"/>
                  </a:lnTo>
                  <a:lnTo>
                    <a:pt x="141" y="920"/>
                  </a:lnTo>
                  <a:lnTo>
                    <a:pt x="133" y="917"/>
                  </a:lnTo>
                  <a:lnTo>
                    <a:pt x="124" y="914"/>
                  </a:lnTo>
                  <a:lnTo>
                    <a:pt x="115" y="910"/>
                  </a:lnTo>
                  <a:lnTo>
                    <a:pt x="107" y="905"/>
                  </a:lnTo>
                  <a:lnTo>
                    <a:pt x="99" y="899"/>
                  </a:lnTo>
                  <a:lnTo>
                    <a:pt x="91" y="894"/>
                  </a:lnTo>
                  <a:lnTo>
                    <a:pt x="83" y="887"/>
                  </a:lnTo>
                  <a:lnTo>
                    <a:pt x="76" y="879"/>
                  </a:lnTo>
                  <a:lnTo>
                    <a:pt x="69" y="871"/>
                  </a:lnTo>
                  <a:lnTo>
                    <a:pt x="62" y="863"/>
                  </a:lnTo>
                  <a:lnTo>
                    <a:pt x="49" y="844"/>
                  </a:lnTo>
                  <a:lnTo>
                    <a:pt x="43" y="841"/>
                  </a:lnTo>
                  <a:lnTo>
                    <a:pt x="38" y="837"/>
                  </a:lnTo>
                  <a:lnTo>
                    <a:pt x="33" y="832"/>
                  </a:lnTo>
                  <a:lnTo>
                    <a:pt x="28" y="826"/>
                  </a:lnTo>
                  <a:lnTo>
                    <a:pt x="24" y="820"/>
                  </a:lnTo>
                  <a:lnTo>
                    <a:pt x="20" y="815"/>
                  </a:lnTo>
                  <a:lnTo>
                    <a:pt x="15" y="808"/>
                  </a:lnTo>
                  <a:lnTo>
                    <a:pt x="12" y="800"/>
                  </a:lnTo>
                  <a:lnTo>
                    <a:pt x="9" y="792"/>
                  </a:lnTo>
                  <a:lnTo>
                    <a:pt x="7" y="784"/>
                  </a:lnTo>
                  <a:lnTo>
                    <a:pt x="3" y="766"/>
                  </a:lnTo>
                  <a:lnTo>
                    <a:pt x="1" y="746"/>
                  </a:lnTo>
                  <a:lnTo>
                    <a:pt x="0" y="723"/>
                  </a:lnTo>
                  <a:lnTo>
                    <a:pt x="1" y="696"/>
                  </a:lnTo>
                  <a:lnTo>
                    <a:pt x="4" y="667"/>
                  </a:lnTo>
                  <a:lnTo>
                    <a:pt x="9" y="639"/>
                  </a:lnTo>
                  <a:lnTo>
                    <a:pt x="17" y="609"/>
                  </a:lnTo>
                  <a:lnTo>
                    <a:pt x="27" y="578"/>
                  </a:lnTo>
                  <a:lnTo>
                    <a:pt x="39" y="548"/>
                  </a:lnTo>
                  <a:lnTo>
                    <a:pt x="53" y="516"/>
                  </a:lnTo>
                  <a:lnTo>
                    <a:pt x="69" y="484"/>
                  </a:lnTo>
                  <a:lnTo>
                    <a:pt x="86" y="452"/>
                  </a:lnTo>
                  <a:lnTo>
                    <a:pt x="106" y="420"/>
                  </a:lnTo>
                  <a:lnTo>
                    <a:pt x="127" y="389"/>
                  </a:lnTo>
                  <a:lnTo>
                    <a:pt x="149" y="359"/>
                  </a:lnTo>
                  <a:lnTo>
                    <a:pt x="173" y="329"/>
                  </a:lnTo>
                  <a:lnTo>
                    <a:pt x="199" y="301"/>
                  </a:lnTo>
                  <a:lnTo>
                    <a:pt x="226" y="273"/>
                  </a:lnTo>
                  <a:lnTo>
                    <a:pt x="253" y="246"/>
                  </a:lnTo>
                  <a:lnTo>
                    <a:pt x="283" y="221"/>
                  </a:lnTo>
                  <a:lnTo>
                    <a:pt x="313" y="196"/>
                  </a:lnTo>
                  <a:lnTo>
                    <a:pt x="343" y="174"/>
                  </a:lnTo>
                  <a:lnTo>
                    <a:pt x="374" y="153"/>
                  </a:lnTo>
                  <a:lnTo>
                    <a:pt x="405" y="134"/>
                  </a:lnTo>
                  <a:lnTo>
                    <a:pt x="436" y="117"/>
                  </a:lnTo>
                  <a:lnTo>
                    <a:pt x="468" y="102"/>
                  </a:lnTo>
                  <a:lnTo>
                    <a:pt x="499" y="88"/>
                  </a:lnTo>
                  <a:lnTo>
                    <a:pt x="526" y="79"/>
                  </a:lnTo>
                  <a:lnTo>
                    <a:pt x="554" y="71"/>
                  </a:lnTo>
                  <a:lnTo>
                    <a:pt x="584" y="64"/>
                  </a:lnTo>
                  <a:lnTo>
                    <a:pt x="615" y="58"/>
                  </a:lnTo>
                  <a:lnTo>
                    <a:pt x="648" y="54"/>
                  </a:lnTo>
                  <a:lnTo>
                    <a:pt x="683" y="51"/>
                  </a:lnTo>
                  <a:lnTo>
                    <a:pt x="720" y="50"/>
                  </a:lnTo>
                  <a:lnTo>
                    <a:pt x="758" y="49"/>
                  </a:lnTo>
                  <a:lnTo>
                    <a:pt x="775" y="49"/>
                  </a:lnTo>
                  <a:lnTo>
                    <a:pt x="793" y="50"/>
                  </a:lnTo>
                  <a:lnTo>
                    <a:pt x="808" y="51"/>
                  </a:lnTo>
                  <a:lnTo>
                    <a:pt x="815" y="51"/>
                  </a:lnTo>
                  <a:lnTo>
                    <a:pt x="822" y="52"/>
                  </a:lnTo>
                  <a:close/>
                  <a:moveTo>
                    <a:pt x="692" y="200"/>
                  </a:moveTo>
                  <a:lnTo>
                    <a:pt x="670" y="198"/>
                  </a:lnTo>
                  <a:lnTo>
                    <a:pt x="649" y="196"/>
                  </a:lnTo>
                  <a:lnTo>
                    <a:pt x="628" y="194"/>
                  </a:lnTo>
                  <a:lnTo>
                    <a:pt x="608" y="194"/>
                  </a:lnTo>
                  <a:lnTo>
                    <a:pt x="583" y="195"/>
                  </a:lnTo>
                  <a:lnTo>
                    <a:pt x="560" y="197"/>
                  </a:lnTo>
                  <a:lnTo>
                    <a:pt x="538" y="201"/>
                  </a:lnTo>
                  <a:lnTo>
                    <a:pt x="516" y="205"/>
                  </a:lnTo>
                  <a:lnTo>
                    <a:pt x="494" y="212"/>
                  </a:lnTo>
                  <a:lnTo>
                    <a:pt x="474" y="220"/>
                  </a:lnTo>
                  <a:lnTo>
                    <a:pt x="454" y="229"/>
                  </a:lnTo>
                  <a:lnTo>
                    <a:pt x="436" y="239"/>
                  </a:lnTo>
                  <a:lnTo>
                    <a:pt x="426" y="245"/>
                  </a:lnTo>
                  <a:lnTo>
                    <a:pt x="417" y="252"/>
                  </a:lnTo>
                  <a:lnTo>
                    <a:pt x="400" y="266"/>
                  </a:lnTo>
                  <a:lnTo>
                    <a:pt x="381" y="283"/>
                  </a:lnTo>
                  <a:lnTo>
                    <a:pt x="363" y="304"/>
                  </a:lnTo>
                  <a:lnTo>
                    <a:pt x="346" y="325"/>
                  </a:lnTo>
                  <a:lnTo>
                    <a:pt x="330" y="350"/>
                  </a:lnTo>
                  <a:lnTo>
                    <a:pt x="312" y="377"/>
                  </a:lnTo>
                  <a:lnTo>
                    <a:pt x="296" y="406"/>
                  </a:lnTo>
                  <a:lnTo>
                    <a:pt x="280" y="436"/>
                  </a:lnTo>
                  <a:lnTo>
                    <a:pt x="267" y="467"/>
                  </a:lnTo>
                  <a:lnTo>
                    <a:pt x="255" y="498"/>
                  </a:lnTo>
                  <a:lnTo>
                    <a:pt x="246" y="528"/>
                  </a:lnTo>
                  <a:lnTo>
                    <a:pt x="239" y="559"/>
                  </a:lnTo>
                  <a:lnTo>
                    <a:pt x="234" y="589"/>
                  </a:lnTo>
                  <a:lnTo>
                    <a:pt x="231" y="619"/>
                  </a:lnTo>
                  <a:lnTo>
                    <a:pt x="230" y="650"/>
                  </a:lnTo>
                  <a:lnTo>
                    <a:pt x="230" y="664"/>
                  </a:lnTo>
                  <a:lnTo>
                    <a:pt x="231" y="678"/>
                  </a:lnTo>
                  <a:lnTo>
                    <a:pt x="233" y="690"/>
                  </a:lnTo>
                  <a:lnTo>
                    <a:pt x="235" y="701"/>
                  </a:lnTo>
                  <a:lnTo>
                    <a:pt x="238" y="711"/>
                  </a:lnTo>
                  <a:lnTo>
                    <a:pt x="239" y="715"/>
                  </a:lnTo>
                  <a:lnTo>
                    <a:pt x="241" y="719"/>
                  </a:lnTo>
                  <a:lnTo>
                    <a:pt x="243" y="724"/>
                  </a:lnTo>
                  <a:lnTo>
                    <a:pt x="245" y="727"/>
                  </a:lnTo>
                  <a:lnTo>
                    <a:pt x="247" y="730"/>
                  </a:lnTo>
                  <a:lnTo>
                    <a:pt x="250" y="733"/>
                  </a:lnTo>
                  <a:lnTo>
                    <a:pt x="252" y="735"/>
                  </a:lnTo>
                  <a:lnTo>
                    <a:pt x="255" y="738"/>
                  </a:lnTo>
                  <a:lnTo>
                    <a:pt x="258" y="741"/>
                  </a:lnTo>
                  <a:lnTo>
                    <a:pt x="262" y="743"/>
                  </a:lnTo>
                  <a:lnTo>
                    <a:pt x="264" y="745"/>
                  </a:lnTo>
                  <a:lnTo>
                    <a:pt x="267" y="747"/>
                  </a:lnTo>
                  <a:lnTo>
                    <a:pt x="270" y="748"/>
                  </a:lnTo>
                  <a:lnTo>
                    <a:pt x="274" y="750"/>
                  </a:lnTo>
                  <a:lnTo>
                    <a:pt x="277" y="751"/>
                  </a:lnTo>
                  <a:lnTo>
                    <a:pt x="280" y="752"/>
                  </a:lnTo>
                  <a:lnTo>
                    <a:pt x="283" y="753"/>
                  </a:lnTo>
                  <a:lnTo>
                    <a:pt x="287" y="753"/>
                  </a:lnTo>
                  <a:lnTo>
                    <a:pt x="291" y="754"/>
                  </a:lnTo>
                  <a:lnTo>
                    <a:pt x="295" y="755"/>
                  </a:lnTo>
                  <a:lnTo>
                    <a:pt x="299" y="755"/>
                  </a:lnTo>
                  <a:lnTo>
                    <a:pt x="303" y="755"/>
                  </a:lnTo>
                  <a:lnTo>
                    <a:pt x="312" y="755"/>
                  </a:lnTo>
                  <a:lnTo>
                    <a:pt x="321" y="754"/>
                  </a:lnTo>
                  <a:lnTo>
                    <a:pt x="331" y="752"/>
                  </a:lnTo>
                  <a:lnTo>
                    <a:pt x="340" y="751"/>
                  </a:lnTo>
                  <a:lnTo>
                    <a:pt x="350" y="748"/>
                  </a:lnTo>
                  <a:lnTo>
                    <a:pt x="359" y="746"/>
                  </a:lnTo>
                  <a:lnTo>
                    <a:pt x="379" y="738"/>
                  </a:lnTo>
                  <a:lnTo>
                    <a:pt x="400" y="729"/>
                  </a:lnTo>
                  <a:lnTo>
                    <a:pt x="420" y="717"/>
                  </a:lnTo>
                  <a:lnTo>
                    <a:pt x="442" y="703"/>
                  </a:lnTo>
                  <a:lnTo>
                    <a:pt x="463" y="687"/>
                  </a:lnTo>
                  <a:lnTo>
                    <a:pt x="485" y="669"/>
                  </a:lnTo>
                  <a:lnTo>
                    <a:pt x="505" y="649"/>
                  </a:lnTo>
                  <a:lnTo>
                    <a:pt x="523" y="627"/>
                  </a:lnTo>
                  <a:lnTo>
                    <a:pt x="540" y="603"/>
                  </a:lnTo>
                  <a:lnTo>
                    <a:pt x="555" y="577"/>
                  </a:lnTo>
                  <a:lnTo>
                    <a:pt x="569" y="549"/>
                  </a:lnTo>
                  <a:lnTo>
                    <a:pt x="582" y="519"/>
                  </a:lnTo>
                  <a:lnTo>
                    <a:pt x="593" y="486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51640" y="1317600"/>
              <a:ext cx="165240" cy="318960"/>
            </a:xfrm>
            <a:custGeom>
              <a:avLst/>
              <a:gdLst/>
              <a:ahLst/>
              <a:rect l="l" t="t" r="r" b="b"/>
              <a:pathLst>
                <a:path w="460" h="886">
                  <a:moveTo>
                    <a:pt x="324" y="0"/>
                  </a:moveTo>
                  <a:lnTo>
                    <a:pt x="339" y="1"/>
                  </a:lnTo>
                  <a:lnTo>
                    <a:pt x="345" y="1"/>
                  </a:lnTo>
                  <a:lnTo>
                    <a:pt x="352" y="3"/>
                  </a:lnTo>
                  <a:lnTo>
                    <a:pt x="358" y="4"/>
                  </a:lnTo>
                  <a:lnTo>
                    <a:pt x="364" y="6"/>
                  </a:lnTo>
                  <a:lnTo>
                    <a:pt x="372" y="7"/>
                  </a:lnTo>
                  <a:lnTo>
                    <a:pt x="378" y="9"/>
                  </a:lnTo>
                  <a:lnTo>
                    <a:pt x="383" y="12"/>
                  </a:lnTo>
                  <a:lnTo>
                    <a:pt x="389" y="14"/>
                  </a:lnTo>
                  <a:lnTo>
                    <a:pt x="395" y="17"/>
                  </a:lnTo>
                  <a:lnTo>
                    <a:pt x="401" y="20"/>
                  </a:lnTo>
                  <a:lnTo>
                    <a:pt x="406" y="23"/>
                  </a:lnTo>
                  <a:lnTo>
                    <a:pt x="411" y="27"/>
                  </a:lnTo>
                  <a:lnTo>
                    <a:pt x="421" y="35"/>
                  </a:lnTo>
                  <a:lnTo>
                    <a:pt x="430" y="44"/>
                  </a:lnTo>
                  <a:lnTo>
                    <a:pt x="435" y="49"/>
                  </a:lnTo>
                  <a:lnTo>
                    <a:pt x="438" y="54"/>
                  </a:lnTo>
                  <a:lnTo>
                    <a:pt x="442" y="58"/>
                  </a:lnTo>
                  <a:lnTo>
                    <a:pt x="445" y="63"/>
                  </a:lnTo>
                  <a:lnTo>
                    <a:pt x="450" y="74"/>
                  </a:lnTo>
                  <a:lnTo>
                    <a:pt x="454" y="85"/>
                  </a:lnTo>
                  <a:lnTo>
                    <a:pt x="457" y="97"/>
                  </a:lnTo>
                  <a:lnTo>
                    <a:pt x="458" y="109"/>
                  </a:lnTo>
                  <a:lnTo>
                    <a:pt x="459" y="122"/>
                  </a:lnTo>
                  <a:lnTo>
                    <a:pt x="458" y="139"/>
                  </a:lnTo>
                  <a:lnTo>
                    <a:pt x="456" y="156"/>
                  </a:lnTo>
                  <a:lnTo>
                    <a:pt x="453" y="171"/>
                  </a:lnTo>
                  <a:lnTo>
                    <a:pt x="449" y="187"/>
                  </a:lnTo>
                  <a:lnTo>
                    <a:pt x="443" y="200"/>
                  </a:lnTo>
                  <a:lnTo>
                    <a:pt x="435" y="213"/>
                  </a:lnTo>
                  <a:lnTo>
                    <a:pt x="430" y="219"/>
                  </a:lnTo>
                  <a:lnTo>
                    <a:pt x="426" y="225"/>
                  </a:lnTo>
                  <a:lnTo>
                    <a:pt x="421" y="231"/>
                  </a:lnTo>
                  <a:lnTo>
                    <a:pt x="416" y="236"/>
                  </a:lnTo>
                  <a:lnTo>
                    <a:pt x="411" y="241"/>
                  </a:lnTo>
                  <a:lnTo>
                    <a:pt x="405" y="246"/>
                  </a:lnTo>
                  <a:lnTo>
                    <a:pt x="398" y="250"/>
                  </a:lnTo>
                  <a:lnTo>
                    <a:pt x="392" y="255"/>
                  </a:lnTo>
                  <a:lnTo>
                    <a:pt x="386" y="258"/>
                  </a:lnTo>
                  <a:lnTo>
                    <a:pt x="380" y="261"/>
                  </a:lnTo>
                  <a:lnTo>
                    <a:pt x="373" y="265"/>
                  </a:lnTo>
                  <a:lnTo>
                    <a:pt x="367" y="267"/>
                  </a:lnTo>
                  <a:lnTo>
                    <a:pt x="359" y="270"/>
                  </a:lnTo>
                  <a:lnTo>
                    <a:pt x="351" y="272"/>
                  </a:lnTo>
                  <a:lnTo>
                    <a:pt x="344" y="274"/>
                  </a:lnTo>
                  <a:lnTo>
                    <a:pt x="337" y="276"/>
                  </a:lnTo>
                  <a:lnTo>
                    <a:pt x="328" y="277"/>
                  </a:lnTo>
                  <a:lnTo>
                    <a:pt x="320" y="278"/>
                  </a:lnTo>
                  <a:lnTo>
                    <a:pt x="304" y="278"/>
                  </a:lnTo>
                  <a:lnTo>
                    <a:pt x="289" y="278"/>
                  </a:lnTo>
                  <a:lnTo>
                    <a:pt x="276" y="277"/>
                  </a:lnTo>
                  <a:lnTo>
                    <a:pt x="270" y="275"/>
                  </a:lnTo>
                  <a:lnTo>
                    <a:pt x="264" y="274"/>
                  </a:lnTo>
                  <a:lnTo>
                    <a:pt x="257" y="272"/>
                  </a:lnTo>
                  <a:lnTo>
                    <a:pt x="251" y="270"/>
                  </a:lnTo>
                  <a:lnTo>
                    <a:pt x="245" y="268"/>
                  </a:lnTo>
                  <a:lnTo>
                    <a:pt x="240" y="266"/>
                  </a:lnTo>
                  <a:lnTo>
                    <a:pt x="235" y="263"/>
                  </a:lnTo>
                  <a:lnTo>
                    <a:pt x="229" y="260"/>
                  </a:lnTo>
                  <a:lnTo>
                    <a:pt x="223" y="256"/>
                  </a:lnTo>
                  <a:lnTo>
                    <a:pt x="218" y="253"/>
                  </a:lnTo>
                  <a:lnTo>
                    <a:pt x="214" y="249"/>
                  </a:lnTo>
                  <a:lnTo>
                    <a:pt x="209" y="245"/>
                  </a:lnTo>
                  <a:lnTo>
                    <a:pt x="204" y="241"/>
                  </a:lnTo>
                  <a:lnTo>
                    <a:pt x="200" y="237"/>
                  </a:lnTo>
                  <a:lnTo>
                    <a:pt x="196" y="232"/>
                  </a:lnTo>
                  <a:lnTo>
                    <a:pt x="193" y="228"/>
                  </a:lnTo>
                  <a:lnTo>
                    <a:pt x="188" y="223"/>
                  </a:lnTo>
                  <a:lnTo>
                    <a:pt x="185" y="219"/>
                  </a:lnTo>
                  <a:lnTo>
                    <a:pt x="182" y="214"/>
                  </a:lnTo>
                  <a:lnTo>
                    <a:pt x="180" y="209"/>
                  </a:lnTo>
                  <a:lnTo>
                    <a:pt x="175" y="198"/>
                  </a:lnTo>
                  <a:lnTo>
                    <a:pt x="172" y="187"/>
                  </a:lnTo>
                  <a:lnTo>
                    <a:pt x="171" y="175"/>
                  </a:lnTo>
                  <a:lnTo>
                    <a:pt x="170" y="162"/>
                  </a:lnTo>
                  <a:lnTo>
                    <a:pt x="171" y="145"/>
                  </a:lnTo>
                  <a:lnTo>
                    <a:pt x="173" y="129"/>
                  </a:lnTo>
                  <a:lnTo>
                    <a:pt x="177" y="114"/>
                  </a:lnTo>
                  <a:lnTo>
                    <a:pt x="182" y="98"/>
                  </a:lnTo>
                  <a:lnTo>
                    <a:pt x="189" y="84"/>
                  </a:lnTo>
                  <a:lnTo>
                    <a:pt x="198" y="69"/>
                  </a:lnTo>
                  <a:lnTo>
                    <a:pt x="208" y="56"/>
                  </a:lnTo>
                  <a:lnTo>
                    <a:pt x="219" y="43"/>
                  </a:lnTo>
                  <a:lnTo>
                    <a:pt x="224" y="38"/>
                  </a:lnTo>
                  <a:lnTo>
                    <a:pt x="230" y="33"/>
                  </a:lnTo>
                  <a:lnTo>
                    <a:pt x="235" y="29"/>
                  </a:lnTo>
                  <a:lnTo>
                    <a:pt x="241" y="24"/>
                  </a:lnTo>
                  <a:lnTo>
                    <a:pt x="247" y="21"/>
                  </a:lnTo>
                  <a:lnTo>
                    <a:pt x="253" y="17"/>
                  </a:lnTo>
                  <a:lnTo>
                    <a:pt x="259" y="14"/>
                  </a:lnTo>
                  <a:lnTo>
                    <a:pt x="266" y="12"/>
                  </a:lnTo>
                  <a:lnTo>
                    <a:pt x="272" y="9"/>
                  </a:lnTo>
                  <a:lnTo>
                    <a:pt x="279" y="6"/>
                  </a:lnTo>
                  <a:lnTo>
                    <a:pt x="286" y="5"/>
                  </a:lnTo>
                  <a:lnTo>
                    <a:pt x="293" y="3"/>
                  </a:lnTo>
                  <a:lnTo>
                    <a:pt x="301" y="2"/>
                  </a:lnTo>
                  <a:lnTo>
                    <a:pt x="309" y="1"/>
                  </a:lnTo>
                  <a:lnTo>
                    <a:pt x="316" y="0"/>
                  </a:lnTo>
                  <a:close/>
                  <a:moveTo>
                    <a:pt x="154" y="606"/>
                  </a:moveTo>
                  <a:lnTo>
                    <a:pt x="169" y="607"/>
                  </a:lnTo>
                  <a:lnTo>
                    <a:pt x="175" y="607"/>
                  </a:lnTo>
                  <a:lnTo>
                    <a:pt x="182" y="609"/>
                  </a:lnTo>
                  <a:lnTo>
                    <a:pt x="188" y="610"/>
                  </a:lnTo>
                  <a:lnTo>
                    <a:pt x="195" y="611"/>
                  </a:lnTo>
                  <a:lnTo>
                    <a:pt x="201" y="613"/>
                  </a:lnTo>
                  <a:lnTo>
                    <a:pt x="207" y="616"/>
                  </a:lnTo>
                  <a:lnTo>
                    <a:pt x="213" y="617"/>
                  </a:lnTo>
                  <a:lnTo>
                    <a:pt x="218" y="620"/>
                  </a:lnTo>
                  <a:lnTo>
                    <a:pt x="224" y="623"/>
                  </a:lnTo>
                  <a:lnTo>
                    <a:pt x="230" y="627"/>
                  </a:lnTo>
                  <a:lnTo>
                    <a:pt x="235" y="630"/>
                  </a:lnTo>
                  <a:lnTo>
                    <a:pt x="240" y="634"/>
                  </a:lnTo>
                  <a:lnTo>
                    <a:pt x="250" y="642"/>
                  </a:lnTo>
                  <a:lnTo>
                    <a:pt x="259" y="651"/>
                  </a:lnTo>
                  <a:lnTo>
                    <a:pt x="267" y="661"/>
                  </a:lnTo>
                  <a:lnTo>
                    <a:pt x="274" y="670"/>
                  </a:lnTo>
                  <a:lnTo>
                    <a:pt x="279" y="681"/>
                  </a:lnTo>
                  <a:lnTo>
                    <a:pt x="284" y="692"/>
                  </a:lnTo>
                  <a:lnTo>
                    <a:pt x="287" y="703"/>
                  </a:lnTo>
                  <a:lnTo>
                    <a:pt x="288" y="715"/>
                  </a:lnTo>
                  <a:lnTo>
                    <a:pt x="289" y="728"/>
                  </a:lnTo>
                  <a:lnTo>
                    <a:pt x="288" y="745"/>
                  </a:lnTo>
                  <a:lnTo>
                    <a:pt x="286" y="762"/>
                  </a:lnTo>
                  <a:lnTo>
                    <a:pt x="283" y="777"/>
                  </a:lnTo>
                  <a:lnTo>
                    <a:pt x="279" y="793"/>
                  </a:lnTo>
                  <a:lnTo>
                    <a:pt x="273" y="806"/>
                  </a:lnTo>
                  <a:lnTo>
                    <a:pt x="265" y="819"/>
                  </a:lnTo>
                  <a:lnTo>
                    <a:pt x="260" y="825"/>
                  </a:lnTo>
                  <a:lnTo>
                    <a:pt x="256" y="831"/>
                  </a:lnTo>
                  <a:lnTo>
                    <a:pt x="251" y="837"/>
                  </a:lnTo>
                  <a:lnTo>
                    <a:pt x="246" y="842"/>
                  </a:lnTo>
                  <a:lnTo>
                    <a:pt x="241" y="847"/>
                  </a:lnTo>
                  <a:lnTo>
                    <a:pt x="235" y="852"/>
                  </a:lnTo>
                  <a:lnTo>
                    <a:pt x="229" y="856"/>
                  </a:lnTo>
                  <a:lnTo>
                    <a:pt x="222" y="860"/>
                  </a:lnTo>
                  <a:lnTo>
                    <a:pt x="216" y="865"/>
                  </a:lnTo>
                  <a:lnTo>
                    <a:pt x="210" y="868"/>
                  </a:lnTo>
                  <a:lnTo>
                    <a:pt x="204" y="872"/>
                  </a:lnTo>
                  <a:lnTo>
                    <a:pt x="197" y="874"/>
                  </a:lnTo>
                  <a:lnTo>
                    <a:pt x="189" y="877"/>
                  </a:lnTo>
                  <a:lnTo>
                    <a:pt x="182" y="879"/>
                  </a:lnTo>
                  <a:lnTo>
                    <a:pt x="175" y="881"/>
                  </a:lnTo>
                  <a:lnTo>
                    <a:pt x="167" y="883"/>
                  </a:lnTo>
                  <a:lnTo>
                    <a:pt x="159" y="883"/>
                  </a:lnTo>
                  <a:lnTo>
                    <a:pt x="150" y="884"/>
                  </a:lnTo>
                  <a:lnTo>
                    <a:pt x="134" y="885"/>
                  </a:lnTo>
                  <a:lnTo>
                    <a:pt x="119" y="884"/>
                  </a:lnTo>
                  <a:lnTo>
                    <a:pt x="106" y="883"/>
                  </a:lnTo>
                  <a:lnTo>
                    <a:pt x="100" y="882"/>
                  </a:lnTo>
                  <a:lnTo>
                    <a:pt x="94" y="881"/>
                  </a:lnTo>
                  <a:lnTo>
                    <a:pt x="87" y="879"/>
                  </a:lnTo>
                  <a:lnTo>
                    <a:pt x="81" y="877"/>
                  </a:lnTo>
                  <a:lnTo>
                    <a:pt x="75" y="875"/>
                  </a:lnTo>
                  <a:lnTo>
                    <a:pt x="70" y="872"/>
                  </a:lnTo>
                  <a:lnTo>
                    <a:pt x="64" y="870"/>
                  </a:lnTo>
                  <a:lnTo>
                    <a:pt x="59" y="866"/>
                  </a:lnTo>
                  <a:lnTo>
                    <a:pt x="53" y="863"/>
                  </a:lnTo>
                  <a:lnTo>
                    <a:pt x="48" y="860"/>
                  </a:lnTo>
                  <a:lnTo>
                    <a:pt x="38" y="852"/>
                  </a:lnTo>
                  <a:lnTo>
                    <a:pt x="30" y="843"/>
                  </a:lnTo>
                  <a:lnTo>
                    <a:pt x="22" y="834"/>
                  </a:lnTo>
                  <a:lnTo>
                    <a:pt x="15" y="825"/>
                  </a:lnTo>
                  <a:lnTo>
                    <a:pt x="10" y="815"/>
                  </a:lnTo>
                  <a:lnTo>
                    <a:pt x="5" y="804"/>
                  </a:lnTo>
                  <a:lnTo>
                    <a:pt x="2" y="793"/>
                  </a:lnTo>
                  <a:lnTo>
                    <a:pt x="1" y="781"/>
                  </a:lnTo>
                  <a:lnTo>
                    <a:pt x="0" y="769"/>
                  </a:lnTo>
                  <a:lnTo>
                    <a:pt x="1" y="752"/>
                  </a:lnTo>
                  <a:lnTo>
                    <a:pt x="3" y="736"/>
                  </a:lnTo>
                  <a:lnTo>
                    <a:pt x="7" y="719"/>
                  </a:lnTo>
                  <a:lnTo>
                    <a:pt x="12" y="704"/>
                  </a:lnTo>
                  <a:lnTo>
                    <a:pt x="20" y="690"/>
                  </a:lnTo>
                  <a:lnTo>
                    <a:pt x="28" y="675"/>
                  </a:lnTo>
                  <a:lnTo>
                    <a:pt x="38" y="662"/>
                  </a:lnTo>
                  <a:lnTo>
                    <a:pt x="49" y="648"/>
                  </a:lnTo>
                  <a:lnTo>
                    <a:pt x="55" y="643"/>
                  </a:lnTo>
                  <a:lnTo>
                    <a:pt x="60" y="638"/>
                  </a:lnTo>
                  <a:lnTo>
                    <a:pt x="65" y="634"/>
                  </a:lnTo>
                  <a:lnTo>
                    <a:pt x="70" y="629"/>
                  </a:lnTo>
                  <a:lnTo>
                    <a:pt x="76" y="626"/>
                  </a:lnTo>
                  <a:lnTo>
                    <a:pt x="82" y="623"/>
                  </a:lnTo>
                  <a:lnTo>
                    <a:pt x="89" y="619"/>
                  </a:lnTo>
                  <a:lnTo>
                    <a:pt x="95" y="617"/>
                  </a:lnTo>
                  <a:lnTo>
                    <a:pt x="102" y="614"/>
                  </a:lnTo>
                  <a:lnTo>
                    <a:pt x="108" y="612"/>
                  </a:lnTo>
                  <a:lnTo>
                    <a:pt x="115" y="611"/>
                  </a:lnTo>
                  <a:lnTo>
                    <a:pt x="122" y="609"/>
                  </a:lnTo>
                  <a:lnTo>
                    <a:pt x="131" y="608"/>
                  </a:lnTo>
                  <a:lnTo>
                    <a:pt x="138" y="607"/>
                  </a:lnTo>
                  <a:close/>
                </a:path>
              </a:pathLst>
            </a:custGeom>
            <a:gradFill rotWithShape="0">
              <a:gsLst>
                <a:gs pos="0">
                  <a:srgbClr val="f43e0c"/>
                </a:gs>
                <a:gs pos="100000">
                  <a:srgbClr val="4c13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Повторяющие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onotype Corsiva"/>
                  <a:ea typeface="Monotype Corsiva"/>
                </a:rPr>
                <a:t>женские  имена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6"/>
          <a:stretch/>
        </p:blipFill>
        <p:spPr>
          <a:xfrm>
            <a:off x="8136000" y="2411280"/>
            <a:ext cx="1703160" cy="14320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7"/>
          <a:stretch/>
        </p:blipFill>
        <p:spPr>
          <a:xfrm>
            <a:off x="360360" y="4643280"/>
            <a:ext cx="180972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0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