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5A9-5E4B-442D-93D3-D1FBAB7C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0A9-D11A-4EDE-A2B1-A46FFCD4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29764-EAB2-41AE-B447-80F54803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EEE01-A918-4497-8C5D-DA21F269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3C64C-238F-4CAB-BD46-F4FDE05B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CC8AB-984E-4FA7-8221-56FC6B38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CE3BF-FC21-4AC3-84D7-EB9FA95F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6CEA7-5ADE-4E00-BCDA-F94CE9CF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EC9BD-DD35-4CC2-AE93-C6A134B3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BDF7F-1D3E-42F3-A73E-6A958695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25B23-FA8F-4A25-A7A3-1F6ED932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DBB6-ABEE-4024-95EA-9E1EA82E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11C-8BD7-433A-9000-802914C1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697A-3707-4BDB-A429-D794A315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25B1-1030-46B8-A79C-FC4D8F9B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2C8D-583F-4CD9-8822-792074B6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EC27-B070-452A-BA82-A062197E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B1BC-18B3-438D-83B0-A212FE57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05A7-58E1-4ECF-A1A4-F131BA99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5C66-CFE9-454E-827C-82EF97DF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EC36-147C-4FDB-966D-1BC99F5C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137E-8040-40D3-BC97-C7169293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7016-78A1-4269-9F88-0B71F0A0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787A-C7DC-400D-A42E-0091FB70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68B9-BCA2-4A89-BE22-11EFCEBD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DFB1-6A1B-41CB-A269-7E384C91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25FE1-BDAB-4CD5-8874-0E39C832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4DF7-DB8A-458B-AE8D-EEBDC35D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2054D-0D1F-4A34-ABC1-D1163470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EC87E-8E0D-42CF-B825-50AAB694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8B5DA-DDE5-4A73-A81C-638C22E7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3E2-4518-44E5-B557-F582A605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16394-5D5B-4F25-838D-647C4676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25AA9-1331-4CE3-B5E9-50C9DD9A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579AC-0AD8-4770-A168-BA5F5811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D8A9C-07C1-4A16-94A5-659064FB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9BA05-FBBD-42EF-A2C8-B47EEE34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9597D-92B0-4B46-BD7A-CF3D1CF2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BD7C6-E095-4EA2-BD3A-8FAAB0AF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1495E-AEE7-4CFB-A4A8-D32E6A59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2D37D-8445-4720-96CD-9CFC2A76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D153B-5552-49FD-BB68-04CC215C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F29-4E72-44E7-942C-1A68DA84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B66AA-9EA2-443B-B526-6BD1AC4A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48597-ED4E-4DC3-BFCB-31791D50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A7CD8-67A8-469E-BFD6-B7E863D9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36E16-33EC-49B9-9972-B0BBA59A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0FB4A-D46E-4693-BF75-40A71E44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3D7C5-0E0E-417F-986F-6F51E552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A0CB3-D386-4BEF-9A83-D16565E6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6A121-D720-464D-AE21-FCDD37DF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16834-188E-4195-A845-9529F27B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1626F-3C26-4A29-80D2-8861BBA8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E18-DEB0-485E-B8EE-AD85A729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35D26-293F-45FE-A49B-9765ABEE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C454A-E334-477B-A1F0-28A3671C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DC4A2-2399-437E-8971-23AA68C2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699B5-F92F-4A23-BA3D-715A515C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5CD05-D00D-4382-90A5-DD959676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B48BC-2B0C-4432-8743-C564B65D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668FE-8281-4A5B-954A-0E7FC19D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2505D-325E-4586-8BE1-2DB6407D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9DAD0-B880-445F-AE08-7FEC59AC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4AB9A-C806-4008-9EE7-8BB4166D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D2FC-D0EE-4537-80D6-F6D3852C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04086-67BB-4D03-B404-056AD5DB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AD8A0-D083-4118-BA97-949EAEC8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9A5E6-B44E-45D5-8B5E-CEDAC9DD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6BDAE-EC84-4058-848F-FDB1ABED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ABD20-704C-48D0-8DD1-3389ADB2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EB42E-5413-42B2-B4F0-58D7DE5A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0648E-3E21-486F-95CF-00E25307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5F385-DDA7-40A4-B733-002729F4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F1829-4453-4FAB-9F20-710A3F01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743F4-9E2C-4A34-B648-EAC97E6B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DEB-A78C-49F7-980D-60D22099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BA28A-3B7A-4BFF-B7FB-F969AEFD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C0A6F-30E2-4D75-91AC-5BFD3729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6BE76-0F15-415E-9085-6777878B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73B97-A2A0-4FE0-8F69-D528428E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F9862-08C1-4C2F-9A1A-4C07BF31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06527-613C-4338-A88A-2379E3EA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B0CB3-7798-4C66-941E-B93BD6A2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55068-878A-42F2-9BF9-1CEE41D8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0221D-857E-4D83-83E8-901297D7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D4A77-F751-4746-A029-11209C02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45F-FEBC-4DA5-B778-38C00BA7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A5AEF-DA2D-4FBB-B188-822F2F07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88FE0-7114-444D-B557-26C30D13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80DD0-E0E4-4286-9903-BBDA16CE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F6119-814E-453F-9752-52FA4A85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3C226-8E7F-40AF-A387-BF5E6ED2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4FAA4-6D11-402D-A8C4-5E607BB7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7E5A6-8DBA-41F2-9D9C-534D393A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A3889-0F8F-4611-AAB8-612FC29E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7090F-2C26-44A2-B08E-CD62F21B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C1399-05D0-430A-9BE6-C7AECCEB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3AA-568C-451A-9339-0FB3F2F3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CE9BE-F2FB-49BB-8B97-7A3E19B6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A02E9-597E-4574-917D-2EC48122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5E901-2B77-4A8C-AB92-E1AA33AB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157BE-C488-49E7-BABB-EB2ADDCB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D26A4-C46F-442D-98C6-7EAD9DF2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6E374-BC32-4CDE-802A-0F579F6E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97E2B-E7D9-4777-8224-338A74F3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AA6C8-3DB7-4FF2-B036-0C4957C9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80EF0-760D-4085-BD01-7DA8F60D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CA0FF-24AF-4484-905F-591962F9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B895-4A20-434E-B394-DF7E95C3908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E48E-1F9E-433B-B10C-2508E4ECC37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171B-1ACB-4E67-8898-D152BDDF1B1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FBFC-B6CB-41FB-8B40-F8818ED6799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6FEB-D4B6-4BD2-9EDF-8C8ECDD88E9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1533-D461-4B95-B587-F940661D107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CB90-96D9-472D-B1B8-A7A62B8E005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3613-C86F-4378-B51D-0A32EFF58F2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3542-74C2-4ACE-85E1-07497317F3F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rm.school.edu.ru/default.asp" TargetMode="External"/><Relationship Id="rId3" Type="http://schemas.openxmlformats.org/officeDocument/2006/relationships/hyperlink" Target="http://perm.school.edu.ru/default.asp" TargetMode="External"/><Relationship Id="rId4" Type="http://schemas.openxmlformats.org/officeDocument/2006/relationships/hyperlink" Target="http://perm.school.edu.ru/default.asp" TargetMode="External"/><Relationship Id="rId5" Type="http://schemas.openxmlformats.org/officeDocument/2006/relationships/hyperlink" Target="http://perm.school.edu.ru/default.asp" TargetMode="External"/><Relationship Id="rId6" Type="http://schemas.openxmlformats.org/officeDocument/2006/relationships/hyperlink" Target="http://perm.school.edu.ru/default.asp" TargetMode="External"/><Relationship Id="rId7" Type="http://schemas.openxmlformats.org/officeDocument/2006/relationships/hyperlink" Target="http://perm.school.edu.ru/default.asp" TargetMode="External"/><Relationship Id="rId8" Type="http://schemas.openxmlformats.org/officeDocument/2006/relationships/hyperlink" Target="http://perm.school.edu.ru/default.asp" TargetMode="External"/><Relationship Id="rId9" Type="http://schemas.openxmlformats.org/officeDocument/2006/relationships/hyperlink" Target="http://perm.school.edu.ru/default.asp" TargetMode="External"/><Relationship Id="rId10" Type="http://schemas.openxmlformats.org/officeDocument/2006/relationships/hyperlink" Target="http://perm.school.edu.ru/default.asp" TargetMode="External"/><Relationship Id="rId11" Type="http://schemas.openxmlformats.org/officeDocument/2006/relationships/hyperlink" Target="http://perm.school.edu.ru/default.asp" TargetMode="External"/><Relationship Id="rId12" Type="http://schemas.openxmlformats.org/officeDocument/2006/relationships/hyperlink" Target="http://perm.school.edu.ru/default.asp" TargetMode="External"/><Relationship Id="rId13" Type="http://schemas.openxmlformats.org/officeDocument/2006/relationships/hyperlink" Target="http://perm.school.edu.ru/default.asp" TargetMode="External"/><Relationship Id="rId14" Type="http://schemas.openxmlformats.org/officeDocument/2006/relationships/hyperlink" Target="http://perm.school.edu.ru/default.asp" TargetMode="External"/><Relationship Id="rId15" Type="http://schemas.openxmlformats.org/officeDocument/2006/relationships/hyperlink" Target="http://ru.wikipedia.org/" TargetMode="External"/><Relationship Id="rId16" Type="http://schemas.openxmlformats.org/officeDocument/2006/relationships/hyperlink" Target="http://ru.wikipedia.org/" TargetMode="External"/><Relationship Id="rId17" Type="http://schemas.openxmlformats.org/officeDocument/2006/relationships/hyperlink" Target="http://ru.wikipedia.org/" TargetMode="External"/><Relationship Id="rId18" Type="http://schemas.openxmlformats.org/officeDocument/2006/relationships/hyperlink" Target="http://ru.wikipedia.org/" TargetMode="External"/><Relationship Id="rId19" Type="http://schemas.openxmlformats.org/officeDocument/2006/relationships/hyperlink" Target="http://ru.wikipedia.org/" TargetMode="External"/><Relationship Id="rId20" Type="http://schemas.openxmlformats.org/officeDocument/2006/relationships/hyperlink" Target="http://ru.wikipedia.org/" TargetMode="External"/><Relationship Id="rId21" Type="http://schemas.openxmlformats.org/officeDocument/2006/relationships/hyperlink" Target="http://ru.wikipedia.org/" TargetMode="External"/><Relationship Id="rId22" Type="http://schemas.openxmlformats.org/officeDocument/2006/relationships/hyperlink" Target="http://ru.wikipedia.org/" TargetMode="External"/><Relationship Id="rId23" Type="http://schemas.openxmlformats.org/officeDocument/2006/relationships/hyperlink" Target="http://thermo.karelia.ru/articles/believeornot.shtml" TargetMode="External"/><Relationship Id="rId24" Type="http://schemas.openxmlformats.org/officeDocument/2006/relationships/hyperlink" Target="http://thermo.karelia.ru/articles/believeornot.shtml" TargetMode="External"/><Relationship Id="rId25" Type="http://schemas.openxmlformats.org/officeDocument/2006/relationships/hyperlink" Target="http://thermo.karelia.ru/articles/believeornot.shtml" TargetMode="External"/><Relationship Id="rId26" Type="http://schemas.openxmlformats.org/officeDocument/2006/relationships/hyperlink" Target="http://thermo.karelia.ru/articles/believeornot.shtml" TargetMode="External"/><Relationship Id="rId27" Type="http://schemas.openxmlformats.org/officeDocument/2006/relationships/hyperlink" Target="http://thermo.karelia.ru/articles/believeornot.shtml" TargetMode="External"/><Relationship Id="rId28" Type="http://schemas.openxmlformats.org/officeDocument/2006/relationships/hyperlink" Target="http://thermo.karelia.ru/articles/believeornot.shtml" TargetMode="External"/><Relationship Id="rId29" Type="http://schemas.openxmlformats.org/officeDocument/2006/relationships/hyperlink" Target="http://thermo.karelia.ru/articles/believeornot.shtml" TargetMode="External"/><Relationship Id="rId30" Type="http://schemas.openxmlformats.org/officeDocument/2006/relationships/hyperlink" Target="http://thermo.karelia.ru/articles/believeornot.shtml" TargetMode="External"/><Relationship Id="rId3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-201600" y="262080"/>
            <a:ext cx="8564400" cy="1689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28400" y="5500800"/>
            <a:ext cx="842940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сследование подготовлено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учащимся 8 класс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МОУ «Острожская средняя общеобразовательная школа» Солодянкиным Павло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Содержимое 4" descr=""/>
          <p:cNvPicPr/>
          <p:nvPr/>
        </p:nvPicPr>
        <p:blipFill>
          <a:blip r:embed="rId2"/>
          <a:stretch/>
        </p:blipFill>
        <p:spPr>
          <a:xfrm>
            <a:off x="281160" y="3492360"/>
            <a:ext cx="8442000" cy="2872080"/>
          </a:xfrm>
          <a:prstGeom prst="rect">
            <a:avLst/>
          </a:prstGeom>
          <a:ln w="0">
            <a:noFill/>
          </a:ln>
        </p:spPr>
      </p:pic>
      <p:pic>
        <p:nvPicPr>
          <p:cNvPr id="423" name="Содержимое 5" descr=""/>
          <p:cNvPicPr/>
          <p:nvPr/>
        </p:nvPicPr>
        <p:blipFill>
          <a:blip r:embed="rId3"/>
          <a:stretch/>
        </p:blipFill>
        <p:spPr>
          <a:xfrm>
            <a:off x="566640" y="-6480"/>
            <a:ext cx="801072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Содержимое 8" descr=""/>
          <p:cNvPicPr/>
          <p:nvPr/>
        </p:nvPicPr>
        <p:blipFill>
          <a:blip r:embed="rId2"/>
          <a:stretch/>
        </p:blipFill>
        <p:spPr>
          <a:xfrm>
            <a:off x="208080" y="208080"/>
            <a:ext cx="4303440" cy="395604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9" descr=""/>
          <p:cNvPicPr/>
          <p:nvPr/>
        </p:nvPicPr>
        <p:blipFill>
          <a:blip r:embed="rId3"/>
          <a:stretch/>
        </p:blipFill>
        <p:spPr>
          <a:xfrm>
            <a:off x="4638600" y="2494080"/>
            <a:ext cx="4297320" cy="395604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0"/>
          <p:cNvSpPr/>
          <p:nvPr/>
        </p:nvSpPr>
        <p:spPr>
          <a:xfrm>
            <a:off x="4857840" y="642960"/>
            <a:ext cx="38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Безморозный период с 17 апреля по 22 октября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8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1"/>
          <p:cNvSpPr/>
          <p:nvPr/>
        </p:nvSpPr>
        <p:spPr>
          <a:xfrm>
            <a:off x="500040" y="464328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Теплый период с 8 мая по 18 октября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3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Содержимое 8" descr=""/>
          <p:cNvPicPr/>
          <p:nvPr/>
        </p:nvPicPr>
        <p:blipFill>
          <a:blip r:embed="rId2"/>
          <a:stretch/>
        </p:blipFill>
        <p:spPr>
          <a:xfrm>
            <a:off x="298440" y="3425760"/>
            <a:ext cx="8637480" cy="2901960"/>
          </a:xfrm>
          <a:prstGeom prst="rect">
            <a:avLst/>
          </a:prstGeom>
          <a:ln w="0">
            <a:noFill/>
          </a:ln>
        </p:spPr>
      </p:pic>
      <p:pic>
        <p:nvPicPr>
          <p:cNvPr id="429" name="Содержимое 6" descr=""/>
          <p:cNvPicPr/>
          <p:nvPr/>
        </p:nvPicPr>
        <p:blipFill>
          <a:blip r:embed="rId3"/>
          <a:stretch/>
        </p:blipFill>
        <p:spPr>
          <a:xfrm>
            <a:off x="420840" y="493560"/>
            <a:ext cx="8577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Содержимое 8" descr=""/>
          <p:cNvPicPr/>
          <p:nvPr/>
        </p:nvPicPr>
        <p:blipFill>
          <a:blip r:embed="rId2"/>
          <a:stretch/>
        </p:blipFill>
        <p:spPr>
          <a:xfrm>
            <a:off x="298440" y="3279600"/>
            <a:ext cx="8637480" cy="3048120"/>
          </a:xfrm>
          <a:prstGeom prst="rect">
            <a:avLst/>
          </a:prstGeom>
          <a:ln w="0">
            <a:noFill/>
          </a:ln>
        </p:spPr>
      </p:pic>
      <p:pic>
        <p:nvPicPr>
          <p:cNvPr id="431" name="Содержимое 5" descr=""/>
          <p:cNvPicPr/>
          <p:nvPr/>
        </p:nvPicPr>
        <p:blipFill>
          <a:blip r:embed="rId3"/>
          <a:stretch/>
        </p:blipFill>
        <p:spPr>
          <a:xfrm>
            <a:off x="420840" y="281160"/>
            <a:ext cx="85770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Содержимое 8" descr=""/>
          <p:cNvPicPr/>
          <p:nvPr/>
        </p:nvPicPr>
        <p:blipFill>
          <a:blip r:embed="rId2"/>
          <a:stretch/>
        </p:blipFill>
        <p:spPr>
          <a:xfrm>
            <a:off x="298440" y="420840"/>
            <a:ext cx="869940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Содержимое 3" descr=""/>
          <p:cNvPicPr/>
          <p:nvPr/>
        </p:nvPicPr>
        <p:blipFill>
          <a:blip r:embed="rId2"/>
          <a:stretch/>
        </p:blipFill>
        <p:spPr>
          <a:xfrm>
            <a:off x="281160" y="3670200"/>
            <a:ext cx="8424720" cy="3194280"/>
          </a:xfrm>
          <a:prstGeom prst="rect">
            <a:avLst/>
          </a:prstGeom>
          <a:ln w="0">
            <a:noFill/>
          </a:ln>
        </p:spPr>
      </p:pic>
      <p:pic>
        <p:nvPicPr>
          <p:cNvPr id="434" name="Содержимое 5" descr=""/>
          <p:cNvPicPr/>
          <p:nvPr/>
        </p:nvPicPr>
        <p:blipFill>
          <a:blip r:embed="rId3"/>
          <a:stretch/>
        </p:blipFill>
        <p:spPr>
          <a:xfrm>
            <a:off x="208080" y="281160"/>
            <a:ext cx="84423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8" descr=""/>
          <p:cNvPicPr/>
          <p:nvPr/>
        </p:nvPicPr>
        <p:blipFill>
          <a:blip r:embed="rId2"/>
          <a:stretch/>
        </p:blipFill>
        <p:spPr>
          <a:xfrm>
            <a:off x="353880" y="3067200"/>
            <a:ext cx="8277480" cy="3479760"/>
          </a:xfrm>
          <a:prstGeom prst="rect">
            <a:avLst/>
          </a:prstGeom>
          <a:ln w="0">
            <a:noFill/>
          </a:ln>
        </p:spPr>
      </p:pic>
      <p:pic>
        <p:nvPicPr>
          <p:cNvPr id="436" name="Содержимое 4" descr=""/>
          <p:cNvPicPr/>
          <p:nvPr/>
        </p:nvPicPr>
        <p:blipFill>
          <a:blip r:embed="rId3"/>
          <a:stretch/>
        </p:blipFill>
        <p:spPr>
          <a:xfrm>
            <a:off x="420840" y="281160"/>
            <a:ext cx="830232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Содержимое 3" descr=""/>
          <p:cNvPicPr/>
          <p:nvPr/>
        </p:nvPicPr>
        <p:blipFill>
          <a:blip r:embed="rId2"/>
          <a:stretch/>
        </p:blipFill>
        <p:spPr>
          <a:xfrm>
            <a:off x="500040" y="523800"/>
            <a:ext cx="8193240" cy="5413320"/>
          </a:xfrm>
          <a:prstGeom prst="rect">
            <a:avLst/>
          </a:prstGeom>
          <a:ln w="0">
            <a:noFill/>
          </a:ln>
        </p:spPr>
      </p:pic>
      <p:sp>
        <p:nvSpPr>
          <p:cNvPr id="438" name="Стрелка вправо 4"/>
          <p:cNvSpPr/>
          <p:nvPr/>
        </p:nvSpPr>
        <p:spPr>
          <a:xfrm rot="1181400">
            <a:off x="2087280" y="2019240"/>
            <a:ext cx="4518000" cy="160560"/>
          </a:xfrm>
          <a:prstGeom prst="rightArrow">
            <a:avLst>
              <a:gd name="adj1" fmla="val 50000"/>
              <a:gd name="adj2" fmla="val 4963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Стрелка вправо 5"/>
          <p:cNvSpPr/>
          <p:nvPr/>
        </p:nvSpPr>
        <p:spPr>
          <a:xfrm flipV="1" rot="20127000">
            <a:off x="6541560" y="2498040"/>
            <a:ext cx="1401840" cy="158760"/>
          </a:xfrm>
          <a:prstGeom prst="rightArrow">
            <a:avLst>
              <a:gd name="adj1" fmla="val 50000"/>
              <a:gd name="adj2" fmla="val 5032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2"/>
          <a:stretch/>
        </p:blipFill>
        <p:spPr>
          <a:xfrm>
            <a:off x="255600" y="353880"/>
            <a:ext cx="8894880" cy="11509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99840"/>
            <a:ext cx="8410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чем холоднее зима, тем теплее лето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понижение зимних температур почти всегда способствует повышению летних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глобальное потепление обходит нас стороной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среднегодовые температуры изменяются в сторону похолода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БИБЛИОГРАФИЧЕСКИЙ СПИСОК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.И. Малеев, С.А. Двинских Экологическое краеведение. Пермь: Книжный мир, 2003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Т.И. Трофимова Природа Оханского района. Оханск, 2007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Энциклопедический словарь юного географа. М.: Педагогика, 81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Энциклопедия для детей «География». М.: Аванта+, 94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Энциклопедия окружающего мира «Погода и климат». М.: Росмен, 97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http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://</a:t>
            </a:r>
            <a:r>
              <a:rPr b="0" lang="en-US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perm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.</a:t>
            </a:r>
            <a:r>
              <a:rPr b="0" lang="en-US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school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.</a:t>
            </a:r>
            <a:r>
              <a:rPr b="0" lang="en-US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edu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9"/>
              </a:rPr>
              <a:t>.</a:t>
            </a:r>
            <a:r>
              <a:rPr b="0" lang="en-US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10"/>
              </a:rPr>
              <a:t>ru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11"/>
              </a:rPr>
              <a:t>/</a:t>
            </a:r>
            <a:r>
              <a:rPr b="0" lang="en-US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12"/>
              </a:rPr>
              <a:t>default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13"/>
              </a:rPr>
              <a:t>.</a:t>
            </a:r>
            <a:r>
              <a:rPr b="0" lang="en-US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14"/>
              </a:rPr>
              <a:t>as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15"/>
              </a:rPr>
              <a:t>http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16"/>
              </a:rPr>
              <a:t>://</a:t>
            </a:r>
            <a:r>
              <a:rPr b="0" lang="en-US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17"/>
              </a:rPr>
              <a:t>ru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18"/>
              </a:rPr>
              <a:t>.</a:t>
            </a:r>
            <a:r>
              <a:rPr b="0" lang="en-US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19"/>
              </a:rPr>
              <a:t>wikipedia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20"/>
              </a:rPr>
              <a:t>.</a:t>
            </a:r>
            <a:r>
              <a:rPr b="0" lang="en-US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21"/>
              </a:rPr>
              <a:t>org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22"/>
              </a:rPr>
              <a:t>/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23"/>
              </a:rPr>
              <a:t>http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24"/>
              </a:rPr>
              <a:t>://</a:t>
            </a:r>
            <a:r>
              <a:rPr b="0" lang="en-US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25"/>
              </a:rPr>
              <a:t>thermo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26"/>
              </a:rPr>
              <a:t>.</a:t>
            </a:r>
            <a:r>
              <a:rPr b="0" lang="en-US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27"/>
              </a:rPr>
              <a:t>karelia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28"/>
              </a:rPr>
              <a:t>.</a:t>
            </a:r>
            <a:r>
              <a:rPr b="0" lang="en-US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29"/>
              </a:rPr>
              <a:t>ru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Franklin Gothic Book"/>
                <a:hlinkClick r:id="rId30"/>
              </a:rPr>
              <a:t>/</a:t>
            </a:r>
            <a:r>
              <a:rPr b="0" lang="en-US" sz="2200" spc="-1" strike="noStrike" u="sng">
                <a:solidFill>
                  <a:srgbClr val="4e3b30"/>
                </a:solidFill>
                <a:uFillTx/>
                <a:latin typeface="Franklin Gothic Book"/>
              </a:rPr>
              <a:t>articles</a:t>
            </a:r>
            <a:r>
              <a:rPr b="0" lang="ru-RU" sz="2200" spc="-1" strike="noStrike" u="sng">
                <a:solidFill>
                  <a:srgbClr val="4e3b30"/>
                </a:solidFill>
                <a:uFillTx/>
                <a:latin typeface="Franklin Gothic Book"/>
              </a:rPr>
              <a:t>/</a:t>
            </a:r>
            <a:r>
              <a:rPr b="0" lang="en-US" sz="2200" spc="-1" strike="noStrike" u="sng">
                <a:solidFill>
                  <a:srgbClr val="4e3b30"/>
                </a:solidFill>
                <a:uFillTx/>
                <a:latin typeface="Franklin Gothic Book"/>
              </a:rPr>
              <a:t>believeornot</a:t>
            </a:r>
            <a:r>
              <a:rPr b="0" lang="ru-RU" sz="2200" spc="-1" strike="noStrike" u="sng">
                <a:solidFill>
                  <a:srgbClr val="4e3b30"/>
                </a:solidFill>
                <a:uFillTx/>
                <a:latin typeface="Franklin Gothic Book"/>
              </a:rPr>
              <a:t>.</a:t>
            </a:r>
            <a:r>
              <a:rPr b="0" lang="en-US" sz="2200" spc="-1" strike="noStrike" u="sng">
                <a:solidFill>
                  <a:srgbClr val="4e3b30"/>
                </a:solidFill>
                <a:uFillTx/>
                <a:latin typeface="Franklin Gothic Book"/>
              </a:rPr>
              <a:t>shtml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e3b30"/>
                </a:solidFill>
                <a:uFillTx/>
                <a:latin typeface="Franklin Gothic Book"/>
              </a:rPr>
              <a:t>http://www.28rcrc.mephi.ru/thezis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-23760" y="835200"/>
            <a:ext cx="8650080" cy="1884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57120" y="271440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Провести системный анализ температурного режима села Острожка за 5 лет 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использованием программы 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Microsoft Excel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66600" y="96840"/>
            <a:ext cx="8528040" cy="151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28760" y="1428480"/>
            <a:ext cx="8183520" cy="49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Изучить географическое положение и климатические особенности Пермского края и Оханского район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Ежедневно измерять и регистрировать температуры воздух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своить навыки чтения показаний измерительных приборов, записи результатов в таблицу, построения температурных кривых в программе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Microsoft Excel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делать анализ температурного режима села Острожка с 2003 по 2007 год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-73080" y="-237960"/>
            <a:ext cx="8620200" cy="20793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28760" y="1785960"/>
            <a:ext cx="81835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e3b30"/>
                </a:solidFill>
                <a:latin typeface="Franklin Gothic Book"/>
              </a:rPr>
              <a:t>Существенного изменения температурного режима на территории села Острожка за последние пять лет не наблюдается, хотя и существуют некоторые отклонения от нормы.  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9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Вертикальный свиток 3"/>
          <p:cNvSpPr/>
          <p:nvPr/>
        </p:nvSpPr>
        <p:spPr>
          <a:xfrm>
            <a:off x="928800" y="214200"/>
            <a:ext cx="6929280" cy="64296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Monotype Corsiva"/>
              </a:rPr>
              <a:t>У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Monotype Corsiva"/>
              </a:rPr>
              <a:t>(Петра Велик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Monotype Corsiva"/>
              </a:rPr>
              <a:t>Производить повсюду метеорологические  наблюдения, а в наиболее важных местах поручать их продолжение надежным  ли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Franklin Gothic Book"/>
              </a:rPr>
              <a:t>1 декабря 1725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Содержимое 3" descr=""/>
          <p:cNvPicPr/>
          <p:nvPr/>
        </p:nvPicPr>
        <p:blipFill>
          <a:blip r:embed="rId2"/>
          <a:stretch/>
        </p:blipFill>
        <p:spPr>
          <a:xfrm>
            <a:off x="281160" y="554040"/>
            <a:ext cx="8508960" cy="3395520"/>
          </a:xfrm>
          <a:prstGeom prst="rect">
            <a:avLst/>
          </a:prstGeom>
          <a:ln w="0">
            <a:noFill/>
          </a:ln>
        </p:spPr>
      </p:pic>
      <p:sp>
        <p:nvSpPr>
          <p:cNvPr id="409" name="TextBox 2"/>
          <p:cNvSpPr/>
          <p:nvPr/>
        </p:nvSpPr>
        <p:spPr>
          <a:xfrm>
            <a:off x="4714920" y="4286160"/>
            <a:ext cx="4143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одним из важнейших путей познания природы человеком, объединяющие теорию с практической деятельностью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500040" y="428616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- это исследование какого-либо явления природы без вмешательства в процесс явления со стороны исследов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Содержимое 3" descr=""/>
          <p:cNvPicPr/>
          <p:nvPr/>
        </p:nvPicPr>
        <p:blipFill>
          <a:blip r:embed="rId2"/>
          <a:stretch/>
        </p:blipFill>
        <p:spPr>
          <a:xfrm>
            <a:off x="500040" y="523800"/>
            <a:ext cx="8193240" cy="5413320"/>
          </a:xfrm>
          <a:prstGeom prst="rect">
            <a:avLst/>
          </a:prstGeom>
          <a:ln w="0">
            <a:noFill/>
          </a:ln>
        </p:spPr>
      </p:pic>
      <p:grpSp>
        <p:nvGrpSpPr>
          <p:cNvPr id="412" name="Прямая соединительная линия 6"/>
          <p:cNvGrpSpPr/>
          <p:nvPr/>
        </p:nvGrpSpPr>
        <p:grpSpPr>
          <a:xfrm>
            <a:off x="5546880" y="5278320"/>
            <a:ext cx="1476360" cy="658800"/>
            <a:chOff x="5546880" y="5278320"/>
            <a:chExt cx="1476360" cy="658800"/>
          </a:xfrm>
        </p:grpSpPr>
        <p:pic>
          <p:nvPicPr>
            <p:cNvPr id="41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546880" y="5278320"/>
              <a:ext cx="14763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857920" y="55720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Прямая соединительная линия 7"/>
          <p:cNvGrpSpPr/>
          <p:nvPr/>
        </p:nvGrpSpPr>
        <p:grpSpPr>
          <a:xfrm>
            <a:off x="974880" y="5278320"/>
            <a:ext cx="1476360" cy="658800"/>
            <a:chOff x="974880" y="5278320"/>
            <a:chExt cx="1476360" cy="658800"/>
          </a:xfrm>
        </p:grpSpPr>
        <p:pic>
          <p:nvPicPr>
            <p:cNvPr id="416" name="Прямая соединительная линия 7" descr=""/>
            <p:cNvPicPr/>
            <p:nvPr/>
          </p:nvPicPr>
          <p:blipFill>
            <a:blip r:embed="rId4"/>
            <a:stretch/>
          </p:blipFill>
          <p:spPr>
            <a:xfrm>
              <a:off x="974880" y="5278320"/>
              <a:ext cx="14763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1285920" y="55720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Содержимое 3" descr=""/>
          <p:cNvPicPr/>
          <p:nvPr/>
        </p:nvPicPr>
        <p:blipFill>
          <a:blip r:embed="rId2"/>
          <a:stretch/>
        </p:blipFill>
        <p:spPr>
          <a:xfrm>
            <a:off x="353880" y="3706920"/>
            <a:ext cx="8418600" cy="3157560"/>
          </a:xfrm>
          <a:prstGeom prst="rect">
            <a:avLst/>
          </a:prstGeom>
          <a:ln w="0">
            <a:noFill/>
          </a:ln>
        </p:spPr>
      </p:pic>
      <p:pic>
        <p:nvPicPr>
          <p:cNvPr id="419" name="Содержимое 8" descr=""/>
          <p:cNvPicPr/>
          <p:nvPr/>
        </p:nvPicPr>
        <p:blipFill>
          <a:blip r:embed="rId3"/>
          <a:stretch/>
        </p:blipFill>
        <p:spPr>
          <a:xfrm>
            <a:off x="493560" y="493560"/>
            <a:ext cx="815688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Содержимое 5" descr=""/>
          <p:cNvPicPr/>
          <p:nvPr/>
        </p:nvPicPr>
        <p:blipFill>
          <a:blip r:embed="rId2"/>
          <a:stretch/>
        </p:blipFill>
        <p:spPr>
          <a:xfrm>
            <a:off x="208080" y="3206880"/>
            <a:ext cx="8727840" cy="344952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4" descr=""/>
          <p:cNvPicPr/>
          <p:nvPr/>
        </p:nvPicPr>
        <p:blipFill>
          <a:blip r:embed="rId3"/>
          <a:stretch/>
        </p:blipFill>
        <p:spPr>
          <a:xfrm>
            <a:off x="353880" y="208080"/>
            <a:ext cx="879660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7:22:50Z</dcterms:created>
  <dc:creator>Учитель</dc:creator>
  <dc:description/>
  <dc:language>en-US</dc:language>
  <cp:lastModifiedBy>Уткин</cp:lastModifiedBy>
  <dcterms:modified xsi:type="dcterms:W3CDTF">2008-03-20T10:00:07Z</dcterms:modified>
  <cp:revision>17</cp:revision>
  <dc:subject/>
  <dc:title>Слайд 1</dc:title>
</cp:coreProperties>
</file>