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CC1-BB6F-4AB5-8FB6-2FF8CFA2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84B-CCA8-4705-97C8-90107930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493-95A0-4E14-AF25-99BCB733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674-76F5-46BB-BD2C-CF6CEB53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07E-57B8-4285-888E-F6341C1C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FF1-92E3-46F7-9A91-E1A7251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CAB-B866-473D-BFEF-A6B6ED1B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AEE-5843-4CCC-8CB5-9EDBD8CE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A03-59B6-4D39-8937-B4391C6A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EAB-1DC3-43DF-A856-C9876112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105-E6CF-4886-A30F-60E4277C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039-8EBF-4F2F-945A-166E818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C54C-9340-4F2E-8082-3C6D024E4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уманитар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ирующие предме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ус.язык, литература, ин.язык, история, обществовед., право, география, экономик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непрофилирующие предметы + кружки + элективные курс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ультуролог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факультативы + мастерск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этика художественного слова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 мастерской является обязательной, включена в рас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новых программ по русскому я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чение проводится на материале текстов учебников по разным предметам школьного цикла, на материале научных, научно-популярных, общественно-политических , публицистических и деловых тек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ериал позволяет представить общую картину языка как сложного мех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ивные курсы (курсы по выбору) – уточнение выбора проф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ют углублению индивидуализации профильного обучения, расширению мировоззренческих представлений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колько курсов на выбор на учебный год или полуго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20% поступающих в профтехучилища – непригодны к из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-25% прерывают учебу, не получив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 выпускников ПУ не трудоустраиваются по специа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% старшеклассников утверждают, что школа мало готовит их к жизни и тру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% старшеклассников не владеют информацией о требованиях профессии к ее соискател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 % не обеспечены сведениями о возможностях обучения по интересующей сфер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держание школь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резмерная теоретизация единого содерж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чный объем фактически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утствие возможности получить прикладные знания и практические умения (отсутствие связи изучаемого материала с жизнь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обладание репродуктивных знаний, не связанных с возможностями развития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обходимые выпускнику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тив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ость мышл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делать выбо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поиска информации и активной работы с не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ая ответств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смене видов деятель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и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ство дифференциации и индивидуализации обучения, позволяющее более полно учитывать интересы, склонности и способности учащихся, создавать условия для обучения старшеклассников в соответствии с их профессиональными интересами и намерениями в отношении продолжения 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офильная подго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ребенку сделать выбор и решить, с какими науками и, в идеале, с какой профессией он свяжет свою дальнейшую жиз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ь глубокие знания по тем предметам, которые учащийся выбр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ципы профильного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видуализация обучения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олагает организацию учебного процесса с учетом индивидуальных особенностей уча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206064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фференциация обучения - форма организации учебной деятельности, при которой учитываются склонности, интересы и способности учащихс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нципы профиль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тивность - выбор свободно изучаемых дисциплин, смена видов деятельности, использование интегративного подхода в изучении обязательных предметов, активное включение творческого начала в учебный проце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фильное обуч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деятельностный, продуктив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 существенное увеличение доли самостоятельной познавательной деятельности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иентируется как на потребности личности, так и на потребности ранка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6:06:29Z</dcterms:created>
  <dc:creator>Metod_2</dc:creator>
  <dc:description/>
  <dc:language>en-US</dc:language>
  <cp:lastModifiedBy>Metod_2</cp:lastModifiedBy>
  <dcterms:modified xsi:type="dcterms:W3CDTF">2008-03-12T11:02:40Z</dcterms:modified>
  <cp:revision>21</cp:revision>
  <dc:subject/>
  <dc:title>Профильное обучение</dc:title>
</cp:coreProperties>
</file>