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7D5-96ED-431A-9D0F-9A1C30992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Первичное закрепление во внешней речи (9 слай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18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5e181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" Target="slide2.xm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oto.mark-itt.ru/album03/DSCN0230?set_fullOnly=on" TargetMode="External"/><Relationship Id="rId3" Type="http://schemas.openxmlformats.org/officeDocument/2006/relationships/hyperlink" Target="http://photo.mark-itt.ru/album03/DSCN0230?set_fullOnly=on" TargetMode="External"/><Relationship Id="rId4" Type="http://schemas.openxmlformats.org/officeDocument/2006/relationships/hyperlink" Target="http://photo.mark-itt.ru/album03/DSCN0230?set_fullOnly=on" TargetMode="External"/><Relationship Id="rId5" Type="http://schemas.openxmlformats.org/officeDocument/2006/relationships/hyperlink" Target="http://photo.mark-itt.ru/album03/DSCN0230?set_fullOnly=on" TargetMode="External"/><Relationship Id="rId6" Type="http://schemas.openxmlformats.org/officeDocument/2006/relationships/hyperlink" Target="http://www.floranimal.ru/show_foto_his.php?foi=1877&amp;flidgr=207" TargetMode="External"/><Relationship Id="rId7" Type="http://schemas.openxmlformats.org/officeDocument/2006/relationships/hyperlink" Target="http://www.floranimal.ru/show_foto_his.php?foi=1877&amp;flidgr=207" TargetMode="External"/><Relationship Id="rId8" Type="http://schemas.openxmlformats.org/officeDocument/2006/relationships/hyperlink" Target="http://www.floranimal.ru/show_foto_his.php?foi=1877&amp;flidgr=207" TargetMode="External"/><Relationship Id="rId9" Type="http://schemas.openxmlformats.org/officeDocument/2006/relationships/hyperlink" Target="http://www.kamensky.ru/image/1134/" TargetMode="External"/><Relationship Id="rId10" Type="http://schemas.openxmlformats.org/officeDocument/2006/relationships/hyperlink" Target="http://www.kamensky.ru/image/1134/" TargetMode="External"/><Relationship Id="rId11" Type="http://schemas.openxmlformats.org/officeDocument/2006/relationships/hyperlink" Target="http://www.kamensky.ru/image/1134/" TargetMode="External"/><Relationship Id="rId12" Type="http://schemas.openxmlformats.org/officeDocument/2006/relationships/hyperlink" Target="http://www.kamensky.ru/image/1134/" TargetMode="External"/><Relationship Id="rId13" Type="http://schemas.openxmlformats.org/officeDocument/2006/relationships/hyperlink" Target="http://www.kamensky.ru/image/1134/" TargetMode="External"/><Relationship Id="rId14" Type="http://schemas.openxmlformats.org/officeDocument/2006/relationships/hyperlink" Target="http://www.kamensky.ru/image/1134/" TargetMode="External"/><Relationship Id="rId15" Type="http://schemas.openxmlformats.org/officeDocument/2006/relationships/image" Target="../media/image52.jpeg"/><Relationship Id="rId1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Иллюстративный ряд </a:t>
            </a:r>
            <a:br>
              <a:rPr sz="4400"/>
            </a:b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к урокам окружающ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6021360"/>
            <a:ext cx="50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мирнова М.А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У ЦО 293, Москва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tnps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93080" y="981000"/>
            <a:ext cx="1442880" cy="172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809880" cy="3809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04000" y="457992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4720200">
            <a:off x="5040000" y="1233360"/>
            <a:ext cx="1584360" cy="2232000"/>
          </a:xfrm>
          <a:prstGeom prst="upDownArrow">
            <a:avLst>
              <a:gd name="adj1" fmla="val 50000"/>
              <a:gd name="adj2" fmla="val 28045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ст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751200">
            <a:off x="4895640" y="3897000"/>
            <a:ext cx="1584360" cy="2232000"/>
          </a:xfrm>
          <a:prstGeom prst="upDownArrow">
            <a:avLst>
              <a:gd name="adj1" fmla="val 50000"/>
              <a:gd name="adj2" fmla="val 28045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Разные форматы файлов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2060640"/>
            <a:ext cx="70578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c5820"/>
                </a:solidFill>
                <a:latin typeface="Times New Roman"/>
              </a:rPr>
              <a:t>Тема:</a:t>
            </a:r>
            <a:br>
              <a:rPr sz="6000"/>
            </a:br>
            <a:r>
              <a:rPr b="1" lang="en-US" sz="6000" spc="-1" strike="noStrike">
                <a:solidFill>
                  <a:srgbClr val="0c5820"/>
                </a:solidFill>
                <a:latin typeface="Times New Roman"/>
              </a:rPr>
              <a:t>"Невидимые нити"</a:t>
            </a:r>
            <a:endParaRPr b="1" lang="en-US" sz="60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8730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0800000">
            <a:off x="2771280" y="4581000"/>
            <a:ext cx="4464360" cy="2087640"/>
          </a:xfrm>
          <a:prstGeom prst="wedgeRoundRectCallout">
            <a:avLst>
              <a:gd name="adj1" fmla="val 100106"/>
              <a:gd name="adj2" fmla="val 28629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Ассоциация</a:t>
            </a: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использование ярких образов в поддержку изучаемой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(титульный слайд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280" y="-360"/>
            <a:ext cx="57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c5820"/>
                </a:solidFill>
                <a:latin typeface="Times New Roman"/>
              </a:rPr>
              <a:t>Тема: "Дикие </a:t>
            </a:r>
            <a:br>
              <a:rPr sz="6000"/>
            </a:br>
            <a:r>
              <a:rPr b="1" lang="en-US" sz="6000" spc="-1" strike="noStrike">
                <a:solidFill>
                  <a:srgbClr val="0c5820"/>
                </a:solidFill>
                <a:latin typeface="Times New Roman"/>
              </a:rPr>
              <a:t>и домашние"</a:t>
            </a:r>
            <a:endParaRPr b="1" lang="en-US" sz="60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796000" y="119160"/>
            <a:ext cx="3235320" cy="4317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2680" y="2421000"/>
            <a:ext cx="3235320" cy="4317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 rot="10800000">
            <a:off x="3851280" y="4723920"/>
            <a:ext cx="5184720" cy="2016360"/>
          </a:xfrm>
          <a:prstGeom prst="wedgeRoundRectCallout">
            <a:avLst>
              <a:gd name="adj1" fmla="val 60685"/>
              <a:gd name="adj2" fmla="val 82675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Противопостав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изображения находятся в противоположных углах слайда, фон контрастный</a:t>
            </a:r>
            <a:br>
              <a:rPr sz="2400"/>
            </a:b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(титульный слайд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97440" cy="367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2487600"/>
            <a:ext cx="4762440" cy="3533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5148360" y="71280"/>
            <a:ext cx="3995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Сравни</a:t>
            </a:r>
            <a:br>
              <a:rPr sz="4400"/>
            </a:b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лягушку</a:t>
            </a:r>
            <a:r>
              <a:rPr b="1" lang="en-US" sz="6000" spc="-1" strike="noStrike">
                <a:solidFill>
                  <a:srgbClr val="0c582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и жаб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106200" y="4868640"/>
            <a:ext cx="4321440" cy="1873080"/>
          </a:xfrm>
          <a:prstGeom prst="wedgeRoundRectCallout">
            <a:avLst>
              <a:gd name="adj1" fmla="val -45449"/>
              <a:gd name="adj2" fmla="val 116694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С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изображения связ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общей цветовой гаммой,</a:t>
            </a: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образуют единую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049640"/>
            <a:ext cx="9144000" cy="2808360"/>
          </a:xfrm>
          <a:prstGeom prst="rect">
            <a:avLst/>
          </a:prstGeom>
          <a:solidFill>
            <a:srgbClr val="c0d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-27000"/>
            <a:ext cx="9144000" cy="2808360"/>
          </a:xfrm>
          <a:prstGeom prst="rect">
            <a:avLst/>
          </a:prstGeom>
          <a:solidFill>
            <a:srgbClr val="bed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88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Дикие и домашние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73800" y="1159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311640" y="41259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50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311640" y="1159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10800000">
            <a:off x="323640" y="2852640"/>
            <a:ext cx="3095640" cy="1152720"/>
          </a:xfrm>
          <a:prstGeom prst="wedgeRoundRectCallout">
            <a:avLst>
              <a:gd name="adj1" fmla="val -108564"/>
              <a:gd name="adj2" fmla="val 54541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Группировка,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Восстанови "невидимую нить"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1946160" cy="259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19280" y="765000"/>
            <a:ext cx="2158920" cy="216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987640" y="2565360"/>
            <a:ext cx="2158920" cy="2158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60" name=""/>
          <p:cNvSpPr/>
          <p:nvPr/>
        </p:nvSpPr>
        <p:spPr>
          <a:xfrm rot="10800000">
            <a:off x="250560" y="5373360"/>
            <a:ext cx="3095640" cy="1152360"/>
          </a:xfrm>
          <a:prstGeom prst="wedgeRoundRectCallout">
            <a:avLst>
              <a:gd name="adj1" fmla="val -42004"/>
              <a:gd name="adj2" fmla="val 123689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Логическая це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003640" y="3502080"/>
            <a:ext cx="2159280" cy="2158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948360" y="4653000"/>
            <a:ext cx="2159280" cy="2158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71640" y="1197000"/>
            <a:ext cx="7200720" cy="2952720"/>
          </a:xfrm>
          <a:prstGeom prst="roundRect">
            <a:avLst>
              <a:gd name="adj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0c58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Порядок вывода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на мой взгляд, зависит от их разм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и положения на слайде.</a:t>
            </a:r>
            <a:r>
              <a:rPr b="1" i="1" lang="en-US" sz="2400" spc="-1" strike="noStrike">
                <a:solidFill>
                  <a:srgbClr val="0c582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Очевид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если фото перекрывают друг дру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то демонстрация изображений и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от «нижних» к т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которые находятся на переднем плане</a:t>
            </a:r>
            <a:r>
              <a:rPr b="0" lang="en-US" sz="2400" spc="-1" strike="noStrike">
                <a:solidFill>
                  <a:srgbClr val="0c58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Какие бывают растения?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68360" y="3362400"/>
            <a:ext cx="3816360" cy="3451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3097080" cy="309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4920" y="71280"/>
            <a:ext cx="2803680" cy="299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771640" y="44280"/>
            <a:ext cx="3240360" cy="324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473800" y="44280"/>
            <a:ext cx="3635280" cy="41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34920" y="3141720"/>
            <a:ext cx="3673440" cy="36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934920" y="2133720"/>
            <a:ext cx="7274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14600" y="1168560"/>
            <a:ext cx="6118200" cy="458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614600" y="1168560"/>
            <a:ext cx="6118200" cy="4589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360" y="141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"Тихий час в зоопарке" </a:t>
            </a:r>
            <a:br>
              <a:rPr sz="4400"/>
            </a:b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(слайд-шоу)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378160" y="404640"/>
            <a:ext cx="4587840" cy="6118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378160" y="406440"/>
            <a:ext cx="4587840" cy="6116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1612800" y="1168560"/>
            <a:ext cx="61182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06600" y="-360"/>
            <a:ext cx="25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Ссылки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photo.mark-itt.ru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/album03/DSCN0230?set_fullOnly=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жа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7"/>
              </a:rPr>
              <a:t>www.floranimal.ru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8"/>
              </a:rPr>
              <a:t>/show_foto_his.php?foi=1877&amp;flidgr=20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бан, сой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11"/>
              </a:rPr>
              <a:t>www.kamensky.ru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13"/>
              </a:rPr>
              <a:t>image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hlinkClick r:id="rId14"/>
              </a:rPr>
              <a:t>/1134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клев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льные фотографии выполнены Смирновой М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Как оформить презентацию?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 отбора фотоматериа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исход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ый отк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лиш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овка на слай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ст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ир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картинок на слай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вы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879640" cy="216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5820"/>
                </a:solidFill>
                <a:latin typeface="Times New Roman"/>
              </a:rPr>
              <a:t>Качество исходника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8000" y="4076640"/>
            <a:ext cx="2879640" cy="2160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56360" y="4076640"/>
            <a:ext cx="2879640" cy="2160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8000" y="1052640"/>
            <a:ext cx="2879640" cy="216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132000" y="1052640"/>
            <a:ext cx="2880000" cy="216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2880000" cy="2160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 rot="10800000">
            <a:off x="684000" y="3213000"/>
            <a:ext cx="2305080" cy="432000"/>
          </a:xfrm>
          <a:prstGeom prst="wedgeRoundRectCallout">
            <a:avLst>
              <a:gd name="adj1" fmla="val 61981"/>
              <a:gd name="adj2" fmla="val 68379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3838"/>
                </a:solidFill>
                <a:latin typeface="Arial"/>
              </a:rPr>
              <a:t>обрезана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6659280" y="3213000"/>
            <a:ext cx="2305080" cy="432000"/>
          </a:xfrm>
          <a:prstGeom prst="wedgeRoundRectCallout">
            <a:avLst>
              <a:gd name="adj1" fmla="val 63152"/>
              <a:gd name="adj2" fmla="val 72791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3838"/>
                </a:solidFill>
                <a:latin typeface="Arial"/>
              </a:rPr>
              <a:t>"лишняя" де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659280" y="6237000"/>
            <a:ext cx="2305080" cy="431640"/>
          </a:xfrm>
          <a:prstGeom prst="wedgeRoundRectCallout">
            <a:avLst>
              <a:gd name="adj1" fmla="val 61912"/>
              <a:gd name="adj2" fmla="val 62865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3838"/>
                </a:solidFill>
                <a:latin typeface="Arial"/>
              </a:rPr>
              <a:t>неудачный ра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3348000" y="6237000"/>
            <a:ext cx="2665440" cy="431640"/>
          </a:xfrm>
          <a:prstGeom prst="wedgeRoundRectCallout">
            <a:avLst>
              <a:gd name="adj1" fmla="val 47375"/>
              <a:gd name="adj2" fmla="val 63601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3838"/>
                </a:solidFill>
                <a:latin typeface="Arial"/>
              </a:rPr>
              <a:t>крылья не в фоку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708000" y="3213000"/>
            <a:ext cx="2305080" cy="432000"/>
          </a:xfrm>
          <a:prstGeom prst="wedgeRoundRectCallout">
            <a:avLst>
              <a:gd name="adj1" fmla="val 62601"/>
              <a:gd name="adj2" fmla="val 63601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582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684000" y="6237000"/>
            <a:ext cx="2305080" cy="431640"/>
          </a:xfrm>
          <a:prstGeom prst="wedgeRoundRectCallout">
            <a:avLst>
              <a:gd name="adj1" fmla="val 62944"/>
              <a:gd name="adj2" fmla="val 65069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582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2663640" cy="1296720"/>
          </a:xfrm>
          <a:prstGeom prst="line">
            <a:avLst/>
          </a:prstGeom>
          <a:ln w="3816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860640"/>
            <a:ext cx="2880000" cy="1441440"/>
          </a:xfrm>
          <a:prstGeom prst="line">
            <a:avLst/>
          </a:prstGeom>
          <a:ln w="3816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981000"/>
            <a:ext cx="2556000" cy="1295640"/>
          </a:xfrm>
          <a:prstGeom prst="line">
            <a:avLst/>
          </a:prstGeom>
          <a:ln w="3816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724280"/>
            <a:ext cx="2879640" cy="1441440"/>
          </a:xfrm>
          <a:prstGeom prst="line">
            <a:avLst/>
          </a:prstGeom>
          <a:ln w="3816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Удивись привычному...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065240"/>
            <a:ext cx="547200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27640" y="322596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...сохрани...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27040" y="1285920"/>
            <a:ext cx="6240600" cy="46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5820"/>
                </a:solidFill>
                <a:latin typeface="Times New Roman"/>
              </a:rPr>
              <a:t>...пожалей!</a:t>
            </a:r>
            <a:endParaRPr b="1" lang="en-US" sz="4400" spc="-1" strike="noStrike">
              <a:solidFill>
                <a:srgbClr val="0c582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50800" y="1268280"/>
            <a:ext cx="6240600" cy="46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4201920" cy="315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03280" y="3591000"/>
            <a:ext cx="4202280" cy="315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5280" y="115920"/>
            <a:ext cx="3151440" cy="4201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8" name=""/>
          <p:cNvSpPr/>
          <p:nvPr/>
        </p:nvSpPr>
        <p:spPr>
          <a:xfrm rot="10800000">
            <a:off x="6443280" y="4652640"/>
            <a:ext cx="2305080" cy="1655640"/>
          </a:xfrm>
          <a:prstGeom prst="wedgeRoundRectCallout">
            <a:avLst>
              <a:gd name="adj1" fmla="val 96967"/>
              <a:gd name="adj2" fmla="val 106662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5820"/>
                </a:solidFill>
                <a:latin typeface="Arial"/>
              </a:rPr>
              <a:t>Хищные птицы - это совсем не страшно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5349960" cy="401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859280" y="932040"/>
            <a:ext cx="4103640" cy="4992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5688000" cy="4608360"/>
          </a:xfrm>
          <a:prstGeom prst="line">
            <a:avLst/>
          </a:prstGeom>
          <a:ln w="7632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765000"/>
            <a:ext cx="5688000" cy="4608720"/>
          </a:xfrm>
          <a:prstGeom prst="line">
            <a:avLst/>
          </a:prstGeom>
          <a:ln w="76320">
            <a:solidFill>
              <a:srgbClr val="94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1331640" y="980280"/>
            <a:ext cx="2305080" cy="1079640"/>
          </a:xfrm>
          <a:prstGeom prst="wedgeRoundRectCallout">
            <a:avLst>
              <a:gd name="adj1" fmla="val -153101"/>
              <a:gd name="adj2" fmla="val -225884"/>
              <a:gd name="adj3" fmla="val 16667"/>
            </a:avLst>
          </a:prstGeom>
          <a:solidFill>
            <a:srgbClr val="e5ffed">
              <a:alpha val="50000"/>
            </a:srgbClr>
          </a:solidFill>
          <a:ln w="9360">
            <a:solidFill>
              <a:srgbClr val="3e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43838"/>
                </a:solidFill>
                <a:latin typeface="Arial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59280" y="4869000"/>
            <a:ext cx="2087280" cy="1776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146400" y="2565360"/>
            <a:ext cx="113832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826920" y="6237360"/>
            <a:ext cx="1081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3:51:38Z</dcterms:created>
  <dc:creator>Maria</dc:creator>
  <dc:description/>
  <dc:language>en-US</dc:language>
  <cp:lastModifiedBy>Уткин</cp:lastModifiedBy>
  <dcterms:modified xsi:type="dcterms:W3CDTF">2008-05-13T05:11:12Z</dcterms:modified>
  <cp:revision>74</cp:revision>
  <dc:subject/>
  <dc:title>Как выбрать картинки</dc:title>
</cp:coreProperties>
</file>