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59A-EC3C-4381-8D16-E5CA97FD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971-5ADF-4511-B341-712998BE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E88-3811-410F-A365-C35C6AA8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F76-A3EF-49BF-9544-4464BF1D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E246-82B6-4AEB-9C05-49B2249E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1976-90CC-4DFD-BA88-603F66A1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0965-8B24-46CD-981B-AA03B725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FC30-4E05-4BC3-953B-FE879D7B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0D9E-FC20-42D9-B70F-2D1B3D78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D0C7-5A88-4A4D-84AF-4EB1C191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1DAD-D92A-4952-A74F-C61A5B0B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B7C-02DF-4B6B-8F9C-535042EC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6FEC-275F-4638-8EF3-0EB45FBF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1319-1B0B-4DB8-8E69-54572D58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3AFA-DF3B-47C8-85ED-84398DB3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83B9-D393-4A87-AC59-2041B716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292D-46BC-4243-B58B-8EF3FB03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228-7925-43BB-A5C8-32F8B387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6CF-91FA-48C3-8BAC-2B486AE1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2B0-A23A-4F11-9B13-F111A507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F1F-6885-498D-B5AC-5DA54503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C32E-4CE6-493A-AC56-461994DF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DED-7336-4D6C-BA64-766A55EC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BB3-1AE8-48BA-B933-20BFC53C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2A65-DEA8-4BEA-9001-F84B9FE9595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1B35-8A67-4C9F-9240-CDA3C37BB574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6;&#1088;&#1090;&#1088;&#1077;&#1090;%20&#1072;&#1091;&#1076;&#1080;&#1090;&#1086;&#1088;&#1080;&#1080;%208%20&#1082;&#1083;&#1072;&#1089;&#1089;&#1072;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8%20&#1082;&#1083;&#1072;&#1089;&#1089;.doc" TargetMode="External"/><Relationship Id="rId2" Type="http://schemas.openxmlformats.org/officeDocument/2006/relationships/hyperlink" Target="file:///7%20&#1082;&#1083;&#1072;&#1089;&#1089;.doc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2000"/>
                </a:solidFill>
                <a:latin typeface="Times New Roman"/>
              </a:rPr>
              <a:t>Проблемный урок - </a:t>
            </a:r>
            <a:r>
              <a:rPr b="0" lang="ru-RU" sz="4400" spc="-1" strike="noStrike" u="sng">
                <a:solidFill>
                  <a:srgbClr val="402000"/>
                </a:solidFill>
                <a:uFillTx/>
                <a:latin typeface="Times New Roman"/>
              </a:rPr>
              <a:t>эффективное</a:t>
            </a:r>
            <a:r>
              <a:rPr b="0" lang="ru-RU" sz="4400" spc="-1" strike="noStrike">
                <a:solidFill>
                  <a:srgbClr val="402000"/>
                </a:solidFill>
                <a:latin typeface="Times New Roman"/>
              </a:rPr>
              <a:t> средство развития учащихс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81480" y="4114800"/>
            <a:ext cx="340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Times New Roman"/>
              </a:rPr>
              <a:t>Из опыта работы учителя математики </a:t>
            </a:r>
            <a:r>
              <a:rPr b="0" lang="en-US" sz="2000" spc="-1" strike="noStrike">
                <a:solidFill>
                  <a:srgbClr val="996633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996633"/>
                </a:solidFill>
                <a:latin typeface="Times New Roman"/>
              </a:rPr>
              <a:t>квалификационной категории 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Times New Roman"/>
              </a:rPr>
              <a:t>МОУ «Острожская средняя общеобразовательная школа» Лузиной З.И.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2000"/>
                </a:solidFill>
                <a:latin typeface="Times New Roman"/>
              </a:rPr>
              <a:t>Технология проблемного обучения и воспитани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ти учатся лучше и в тысячу раз успешнее, есл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и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ают возможность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амостоятельно       исследовать основы изучаемого материала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тер Клайн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90720" y="3805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2" marL="971280" indent="-194040">
              <a:spcBef>
                <a:spcPts val="1576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блемного обучения и воспитания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ctr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равлена на &lt;цель&gt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lvl="2" marL="971280" indent="0">
              <a:spcBef>
                <a:spcPts val="15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еспечение активного характера педагогического процесса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ирается на &lt;принципы&gt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учности                       Креативности               Вариативности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ктической ориентации       Интегрированности           Системности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стигаются через &lt;средства&gt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Алгоритм проблемной деятельности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ниторинг качества урока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одит к &lt;результатам&gt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ю мотивации к учебной, познавательной деятельности. Углублению уровня понимания учебного материала. Конструктивному отношению учащихся и воспитанников к такому явлению как “проблема”.  Эффективности развития личностных качеств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исит от &lt; ресурсов &gt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дрового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онного        Временного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895480" y="1981080"/>
            <a:ext cx="91440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657600" y="1981080"/>
            <a:ext cx="38088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19810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2057400"/>
            <a:ext cx="30456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2057400"/>
            <a:ext cx="106668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76212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190760" y="3429000"/>
            <a:ext cx="22860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3352680"/>
            <a:ext cx="38124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34520" y="6477120"/>
            <a:ext cx="30456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Урок геометрии в 8 класс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Урок геометрии в 7 класс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Классификация проблемных уроков (занятий)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10920" y="2017800"/>
            <a:ext cx="65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роблемно-исследовательский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роблемно-поисковый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роблемно-обобщающий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роблемно-информационный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6308640"/>
            <a:ext cx="360360" cy="2160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Что дает технология проблемного обучения и воспитания учителю?</a:t>
            </a:r>
            <a:br>
              <a:rPr sz="4000"/>
            </a:b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9640" y="1828800"/>
            <a:ext cx="7993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Развивает следующие качества педагога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пособность мыслить и действовать концептуально (глубинно и осознанно)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тратегически (проблемно и конструктивно)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тактически (этично и аргументированно)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ммуникативно (адресно и ситуативно)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рефлексивно (критически и перспективно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нимание цели своего предмета с точки зрения развития ребенка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нутреннюю удовлетворенность от эффективности уроков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Экономию сил учителя (говорят дети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Что дает технология проблемного обучения и воспитания ученику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1341360"/>
            <a:ext cx="7813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вает личностные качеств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мышление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ечь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коммуникативные качества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творческое воображение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нимание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мысловую память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каналы восприятия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ctr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эмоционально-чувственную сферу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а уроке господствуют субъект-субъектные отношения, создаются условия для взаимоуважения, взаимообогащения и взаимопонима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сознанную и активную познавательную деятельность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роки имеют практическую направленность (опора на имеющиеся знания</a:t>
            </a:r>
            <a:br>
              <a:rPr sz="2000"/>
            </a:b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 личный опыт ребят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глубляет уровень понимания (3-4 уровень)</a:t>
            </a:r>
            <a:br>
              <a:rPr sz="2000"/>
            </a:b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Times New Roman"/>
              </a:rPr>
              <a:t>Применение технологии проблемного обучения и воспитания приводит к результатам: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пособствует сохранению здоровья, т.к. развивает в учащихся конструктивное отношение к любым проблемам, умение их решать, что снимает</a:t>
            </a:r>
            <a:br>
              <a:rPr sz="2400"/>
            </a:b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трицательные эмоции, психологическое напряжение; создает условия</a:t>
            </a:r>
            <a:br>
              <a:rPr sz="2400"/>
            </a:b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для самовыражения; усиливает познавательный интерес и познавательную активность учащихс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Более высокий уровень развития мыслеречевой деятельности, т.е. культуры мысли, слова и поступка учителя и ученика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Шаг вперед к самореализации учител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вышение качества знаний по предмету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4:09:36Z</dcterms:created>
  <dc:creator>metodroom</dc:creator>
  <dc:description/>
  <dc:language>en-US</dc:language>
  <cp:lastModifiedBy>Лектор</cp:lastModifiedBy>
  <dcterms:modified xsi:type="dcterms:W3CDTF">2007-03-28T05:38:05Z</dcterms:modified>
  <cp:revision>10</cp:revision>
  <dc:subject/>
  <dc:title>Проблемный урок - эффективное средство развития учащихся</dc:title>
</cp:coreProperties>
</file>