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5FDF-E6A9-4682-882E-48BD7D5ED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32FF-BB99-4403-930C-69C9CC93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33C4-4CD4-4328-8D43-E47302266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0889-4371-41D2-A1A0-69614C6F3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566B-8F34-4B71-AFA0-A9FF904A0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D816-E79D-4141-A839-1AE82B99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F271-7DA9-4006-9C85-C712351E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5BE4-537A-4B6A-B548-FF1FEDF8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0730-6F14-4DE4-BE83-DCE02F10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1656-88A3-4531-8932-D94999CF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BA66-C6FE-43C1-B117-0F8BAD78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51F7-817C-4D2C-9314-3D9FAF9A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696B-42EB-4AA4-A70E-5CFD27BB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9F2A-1DC7-444B-84CD-DDF01EE8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A6BB-D765-4ADD-BA44-F4520433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6A37-B4FA-4BC8-B8A9-CE38FF3F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6C93-3F52-436C-BDA4-37A2D02AE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0C85-C131-4C7E-831D-BADE9EA7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D816-1137-4FF6-B313-10E14E19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B3D8-6781-4D26-B116-8EFB04F3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964B-0789-43D2-B5B1-7A247CD6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7ECB-1D88-4317-BBF9-9413FFEE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0F91-E0D3-4732-AEA3-82750484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2861-FB20-49BF-9EC9-3FB95B56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2280" y="6248520"/>
            <a:ext cx="1903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F002-EBC1-4741-9F6B-A5C98241CC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7525-24DB-4B4A-BC56-FFBCA3CA78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5800" y="1676520"/>
            <a:ext cx="792468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ее задание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c0039"/>
                </a:solidFill>
                <a:latin typeface="Arial"/>
              </a:rPr>
              <a:t>Проблемы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все учащиеся записывают домашнее задание в дневн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одители не могут контролировать выполнение домашних зад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 отсутствии, ученик не знает домашнее зада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ногда нет времени записать домашнее задание на уро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полнение домашнего задания  занимает у учеников слишком мног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 некоторых  учащихся нет интереса к изучению данного предм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95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Проблемные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вопросы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сделать домашние задания известным для учащихся и их родител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сократить время для дачи домашнего зад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дифференцировать домашние зад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Решени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438280" y="1447920"/>
          <a:ext cx="6476760" cy="5437080"/>
        </p:xfrm>
        <a:graphic>
          <a:graphicData uri="http://schemas.openxmlformats.org/drawingml/2006/table">
            <a:tbl>
              <a:tblPr/>
              <a:tblGrid>
                <a:gridCol w="755280"/>
                <a:gridCol w="1800720"/>
                <a:gridCol w="1330200"/>
                <a:gridCol w="1110240"/>
                <a:gridCol w="148032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термины и пон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ные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сьменные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ительные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ие (§1-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щ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ые вещ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жные вещ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йства веще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. яв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. реа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эффици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ек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§1(1,2,4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§2 (1-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§3 (4) (Сообщение «История развития химии»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§4 (5) выучить табл.1 с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§5 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§1 (3,5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§4 (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§5 (3,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e4005c"/>
                        </a:buClr>
                        <a:buSzPct val="70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общение о истории развития химии §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e4005c"/>
                        </a:buClr>
                        <a:buSzPct val="70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ить чайнворд по хим. Элемен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buClr>
                          <a:srgbClr val="000000"/>
                        </a:buClr>
                        <a:buSzPct val="70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e4005c"/>
                        </a:buClr>
                        <a:buSzPct val="70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buClr>
                          <a:srgbClr val="000000"/>
                        </a:buClr>
                        <a:buSzPct val="70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Примеры дополнительных домашних заданий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ить кроссворды, ребусы, лабиринт, домино, газ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ить модели, на пример модели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готовить сообщение, устное или письмен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ть на компьютере: презентацию, бюллетень, бук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думать задачу, оформить и решить её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иализированные задания по предмету , на пример: вырастить кристаллы поваренной со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500"/>
                            </p:stCondLst>
                            <p:childTnLst>
                              <p:par>
                                <p:cTn id="85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000"/>
                            </p:stCondLst>
                            <p:childTnLst>
                              <p:par>
                                <p:cTn id="89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500"/>
                            </p:stCondLst>
                            <p:childTnLst>
                              <p:par>
                                <p:cTn id="93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3000"/>
                            </p:stCondLst>
                            <p:childTnLst>
                              <p:par>
                                <p:cTn id="97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Заключение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могает заинтересовать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могает родителям контролировать выполнение домашнего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фференцирует домашнее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кращает время на дачу домашнего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ижает количество неуспевающ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могает получать больше информации  заинтересованным де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ёт большее количество времени для выполнения письменных зада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000"/>
                            </p:stCondLst>
                            <p:childTnLst>
                              <p:par>
                                <p:cTn id="116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9500"/>
                            </p:stCondLst>
                            <p:childTnLst>
                              <p:par>
                                <p:cTn id="120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4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8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our User Name</cp:lastModifiedBy>
  <dcterms:modified xsi:type="dcterms:W3CDTF">2007-03-28T04:35:5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