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28E0-28E1-441F-86EE-AB427C50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7E3F-2716-4676-A1F6-06872E3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45F18-2BF6-477E-A6BF-416FAD3B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8FFF-6B86-48C1-9303-CFDD45C8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D1CD-5E7E-44EB-A84D-2A4882F7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1B58-D442-4E7C-98F4-52BBA8D6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56BB-95A3-4B39-A45A-D7DBBB52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9FF7-4EF7-4BFA-8D6F-9CA98844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2877-1AC8-48A8-910D-0ED10A1C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A85F-D83E-429B-B36D-5F1A7230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7134-0585-4B8B-9312-F103C093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9D09-B351-4A1E-A02F-CE8F0048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5884-F13E-420E-B7BD-810F210E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AC3E-9B34-42C9-B2B8-23C9A1BC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A297-3723-401C-953D-CA849B0E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CC48-5EA2-455A-A8F1-C8CD0F44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F34D-9F88-4FA8-95CF-42EEBF1A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0905-F9AF-48F7-AB77-E814FE24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C8ED-ABAB-4CD2-AF18-2830F4CD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DFF4-04B7-45BE-943E-1A65310F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FAD4-1E0B-48D0-9831-8DFB1EB0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463C-C89F-4692-8773-296B602A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FD13-1133-4805-8998-6E0F7F5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0636-A3A4-458F-8AD0-1AB980F5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903B-BFB9-4FB4-B1C1-A483521CC3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83E8-A715-4716-B84F-64D56DC4F1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21865" t="3001" r="18106" b="0"/>
          <a:stretch/>
        </p:blipFill>
        <p:spPr>
          <a:xfrm>
            <a:off x="250920" y="620640"/>
            <a:ext cx="4465440" cy="5543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907920"/>
            <a:ext cx="331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нлыше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е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толь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У СОШ №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клас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Тема 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Цивилизации Древнего мира и раннего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редневековь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1. Древний Восток и античный ми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2. Рождение европейской средневековой цивилизац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3. Страты Западной Европы в раннее Средневековь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4. Византийская империя и восточно-христианский ми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5. Исламский ми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Тема 2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. Древня Русь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рок 1. Народы Восточной Европы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рок 2. Восточные славяне в древн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рок 3. Возникновение Древнерусского государства. Крещение Рус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рок 4. Государство и общество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рок 5. Раздробление Рус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Тема 3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. Западная Европа в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XI – XV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веках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роки 1 – 3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Garamond"/>
              </a:rPr>
              <a:t>Тема 4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. Российское государство в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XIV – XVII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веках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77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роки 1 – 6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74640" y="1634760"/>
            <a:ext cx="779472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аким образом сравнительно-историческая направленность этого курса имеет две точки отсчета: история России и Всеобщая истор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2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н предполагает логическое чередование сюжетов российской и зарубежной истории в хронологическом поряд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058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ак такое структурирование материала повлияло на качество знаний учащихся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1914480"/>
          <a:ext cx="8713800" cy="2306520"/>
        </p:xfrm>
        <a:graphic>
          <a:graphicData uri="http://schemas.openxmlformats.org/drawingml/2006/table">
            <a:tbl>
              <a:tblPr/>
              <a:tblGrid>
                <a:gridCol w="1413000"/>
                <a:gridCol w="1109520"/>
                <a:gridCol w="1166760"/>
                <a:gridCol w="1587600"/>
                <a:gridCol w="687600"/>
                <a:gridCol w="1963440"/>
                <a:gridCol w="785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-во челов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.России на «4»,«5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общая ист. на «4», «5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5-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 А,В,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8 уч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3уч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 А,Б,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4 уч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7 уч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539640" y="4292640"/>
            <a:ext cx="7775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Таким образом интегрирование курса Отечественной  и Всеобщей истории послужило фактором повышения качества обучения в старшей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 методическом аппарате учебника О.В. Волобуева после каждой темы предлагаются задания, направленные на анализ, сопоставление однородных явлений и процессов на разных этапах исторического развития страны. В методическом пособии учителю предлагается по одной теме несколько вариантов проведения урока, в зависимости от уровня подготовки и профиля класса. (Например 10 «А» гуманитарный класс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84360" y="3573360"/>
            <a:ext cx="432108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3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нтегрированный курс «Россия и мир» предполагает проведение практических заданий, семинарских занятий. Таким образом учащиеся знакомятся с основными точками зрения историков на особенности мирового развития. Учатся определять и обосновывать свое отношение к событиям и явлениям, а также выдающимся деятелям исторической эпохи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Интегрирование курсов Отечественной и всеобщей истории как фактор повышения качества обучения в старшей школ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лавной задачей исторического образования является выявление и изучение основных закономерностей развития общества со времени его возникновения до наших дн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исторического курса в основной средней школе строится на основе реализации линейного принципа: изучение процесса развития человечества от первобытности до современности, с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клас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9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олной средней школе может быть предложен интегрированный исторический курс «Россия и мир». Преподавание строится таким образом, что изучение истории России происходит в связи и на фоне мировой истории, выявляется общее для всего человечества и особенное в истории страны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аким образом в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X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классе курс всемирной истории отражает основные этапы, процессы, события истории нашего отечества и зарубежных стран с древнейших времен до конц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е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4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Garamond"/>
              </a:rPr>
              <a:t>Основные задачи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1749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74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истематизация и закрепление имеющихся ранее и  полученных в ходе изучения данного курса исторических знаний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74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бобщение знаний на теоретическом уровне, создающем цельноосмысленную картину истории человечества, включая представление о периодизации, цивилизациях, прогрессе, доминирующих тенденциях общеисторического развития в разные эпох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74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едоставление мирового исторического процесса в его единстве и многообраз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35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Формирование у учащихся исторического мышления, понимания причинно-следственных связей, умения оперировать основными научными понятиями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835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Осознание учащимися места России в истории человечества и в современном мировом обществе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835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Воспитание у учащихся эстетического видения мира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835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Формирование гражданских идеалов и патриотических чувств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8352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Воспитание учащихся в духе признания неизбежности плюрализма взглядов социального компромисса, предотвращения социальных конфликтов путем поиска их мирного разрешения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4470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ставители этого курса О.В. Волобуев, В.А. Клюков, М.В. Пономарев придерживаются интеграционного и проблемного подходов в освещении основных фактов истор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2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результате этого историческое прошлое предстает как комплекс проблемно-тематических узлов, характеризующих ушедшее время в его наиболее актуальных параметрах: социально-экономических, геополитических, культурно-исторических, социально-демографических, межнациональных и т.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5338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6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акой подход позволяет перевести историческое образование на более высокий проблемно-теоретический уровень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6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пособствует интеграции курса Отечественной истории с курсом Всеобщей истории; формирует у учащихся целостное представление об историческом пути человечества и его многообраз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7955" t="0" r="14729" b="0"/>
          <a:stretch/>
        </p:blipFill>
        <p:spPr>
          <a:xfrm>
            <a:off x="5651640" y="1773360"/>
            <a:ext cx="30970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304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 распределении материала учебника «Россия и мир» авторы использовали блочно-тематический принцип структурирования учебного материала, в котором  в качестве структурной единицы учебного процесса представлен комплекс занятий (тематический блок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6:41:28Z</dcterms:created>
  <dc:creator>ANAST</dc:creator>
  <dc:description/>
  <dc:language>en-US</dc:language>
  <cp:lastModifiedBy>ANAST</cp:lastModifiedBy>
  <dcterms:modified xsi:type="dcterms:W3CDTF">2007-03-26T09:37:59Z</dcterms:modified>
  <cp:revision>2</cp:revision>
  <dc:subject/>
  <dc:title>Слайд 1</dc:title>
</cp:coreProperties>
</file>