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20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3.wmf" ContentType="image/x-wmf"/>
  <Override PartName="/ppt/media/image8.wmf" ContentType="image/x-wmf"/>
  <Override PartName="/ppt/media/image5.jpeg" ContentType="image/jpeg"/>
  <Override PartName="/ppt/media/image4.png" ContentType="image/png"/>
  <Override PartName="/ppt/media/image25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C07-9C90-4190-84DC-EF381341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B4D-1B8E-4838-911A-8DF736B5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94EA-8453-4334-BEE3-3C6E9C6B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D1E-748B-4231-89F3-04AF6ACF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525E-E03F-4293-9488-816644AD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14DF-07B6-4066-A3AE-1491F31F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779F-95F7-4663-8552-84884C9E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6D76-B518-43B4-BB91-A47C3D45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07B9-ECD8-47E5-8A2A-C3800608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AF27-557F-4CB9-BB6D-1364BFD2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C0B5-559A-4AB9-9040-3E578D93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98D-A7AE-4987-9001-2DA98CF7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6014-6ADC-49BD-A75F-AC7D865C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9301-E7EC-481D-8B93-B8BD1939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00BA-EA4B-4EC6-9F4B-EA5B8796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0B80-249A-45FA-8089-8018ABA0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67FF-4253-4715-ABD1-9AEA3579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713-52F6-4F21-AC0A-DA28C148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855-6B01-4991-9914-E56FD7A5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C1D-8D2B-4278-90E2-CF0EBA86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9A4-F6B6-4E09-9F0D-63373BFB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DE1-0DAE-4ABA-BEEC-DED696DA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484-5D3A-499B-9DC1-CA654A7E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C44-8D39-40EA-9F89-776D4F5A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45AB-9468-44CA-9A80-8F909C9253C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BD70-5BB0-4581-853A-90BAB5CCB80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8.png"/><Relationship Id="rId9" Type="http://schemas.openxmlformats.org/officeDocument/2006/relationships/slide" Target="slide6.xml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24000" y="1125360"/>
            <a:ext cx="561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Bookman Old Style"/>
              </a:rPr>
              <a:t>Формирование у детей технологических знаний и умений, обеспечивающих их адаптацию в социуме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64360" y="5157720"/>
            <a:ext cx="2879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Выполнила: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инструктор по труду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Оханского детского дома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О.А.Соснина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62992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Verdana"/>
              </a:rPr>
              <a:t>г.Оханск 2007 г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4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74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Бюдже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Темы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ходы семь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ланирование расходов на питание семь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ходы семь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нятие бюджета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лата за коммунальные услуг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51330" r="0" b="0"/>
          <a:stretch/>
        </p:blipFill>
        <p:spPr>
          <a:xfrm>
            <a:off x="2556000" y="3933720"/>
            <a:ext cx="3900240" cy="2524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093080" y="321300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Личная гигиен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Темы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Уход за волосами (мытье, прическа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Уход за руками (ногти и кожа рук, кремы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Уход за кожей лица (парфюмерия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Личная гигиена подрост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Вред кур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Вред алкогол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04640"/>
              <a:gd name="textAreaBottom" fmla="*/ 38376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20200" y="25570"/>
                </a:lnTo>
                <a:lnTo>
                  <a:pt x="20200" y="1400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1400" y="25570"/>
                </a:lnTo>
                <a:lnTo>
                  <a:pt x="20200" y="25570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0"/>
                </a:lnTo>
                <a:close/>
              </a:path>
              <a:path fill="darken" w="21600" h="26970">
                <a:moveTo>
                  <a:pt x="3794" y="13485"/>
                </a:moveTo>
                <a:lnTo>
                  <a:pt x="17806" y="6479"/>
                </a:lnTo>
                <a:lnTo>
                  <a:pt x="17806" y="20491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187280" y="4292640"/>
            <a:ext cx="2238480" cy="2349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8"/>
          <a:stretch/>
        </p:blipFill>
        <p:spPr>
          <a:xfrm>
            <a:off x="6318360" y="2852640"/>
            <a:ext cx="2606400" cy="3475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9"/>
          <a:stretch/>
        </p:blipFill>
        <p:spPr>
          <a:xfrm>
            <a:off x="3924360" y="3716280"/>
            <a:ext cx="2016000" cy="2664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Семь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Тем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став семь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одственные отнош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ичные взаимоотношения в семь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язанности родителей и дете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я семь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Чем богат человек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акой я хотел бы видеть свою будущую семь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2700360" y="4005360"/>
            <a:ext cx="3744720" cy="269712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9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7451640" y="4076640"/>
            <a:ext cx="1565280" cy="19684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02960"/>
            <a:ext cx="829152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Кулинар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651640" y="4437000"/>
            <a:ext cx="2911320" cy="2184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26920" y="1197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ети умеют работать на современном кухонном оборудовании: миксер, кухонный процессор, электрическая мясорубка, микроволновая печь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3168720" cy="2276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843280" y="2316240"/>
            <a:ext cx="3024000" cy="219240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rId4" action="ppaction://hlinksldjump"/>
          </p:cNvPr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Культура</a:t>
            </a: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поведен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Темы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ультура общения юноши и девушк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ешний вид молодых люде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авила поведения за столо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авила хорошего то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10800"/>
                </a:moveTo>
                <a:lnTo>
                  <a:pt x="22175" y="3794"/>
                </a:lnTo>
                <a:lnTo>
                  <a:pt x="22175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826920" y="3789360"/>
            <a:ext cx="3632400" cy="2724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5003640" y="2924280"/>
            <a:ext cx="2841840" cy="37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Жилище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Темы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борка кухн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ющие сред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иды жилых помещени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нтерье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ход за мебель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борка жилых помещени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10800"/>
                </a:moveTo>
                <a:lnTo>
                  <a:pt x="22175" y="3794"/>
                </a:lnTo>
                <a:lnTo>
                  <a:pt x="22175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76720" y="3645000"/>
            <a:ext cx="4535280" cy="30178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Verdana"/>
              </a:rPr>
              <a:t>АКТУАЛЬНОСТЬ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темы определяется тем, что главной целью современного образования является формирование  у каждого ребенка, того необходимого запаса знаний, навыков и умений, который  позволит ему уверенно начинать самостоятельную жизнь после выпуска из детского дома, успешно адаптироваться в ней и интегрироваться в социум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Воспитанники детского дома адаптируются в социуме намного сложнее. Находясь на полном государственном обеспечении, не видя нормальных семейных взаимоотношений, эти дети лишены очень важного социального опыта, приводит к тому, что выпускники зачастую оказываются беспомощными в самостоятельном жизнеустройстве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9640" y="333360"/>
            <a:ext cx="820908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Цель: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подготовка детей к самостоятельной жизни, для успешной адаптации в социуме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Задачи: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Научить детей трудовым навыкам социльно-бытовой ориентации в соответствии с их возрастом и с индивидуальными особенностями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Привить санитарно-гигиенические навыки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Продолжать закреплять правила техники безопасности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Verdana"/>
              </a:rPr>
              <a:t>Воспитывать коммуникативные навыки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Методы обучения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Демонстрац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Наблюде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Экскурс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Бесед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Игр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Тест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5435640" y="3860640"/>
            <a:ext cx="3419280" cy="2565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5435640" y="981000"/>
            <a:ext cx="3348000" cy="2511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Приемы обучени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78598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Сюжетно-ролевые игр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Задания - соревнова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Проблемные ситу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755640" y="3573360"/>
            <a:ext cx="3848040" cy="2886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5076720" y="2060640"/>
            <a:ext cx="3848040" cy="28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59280" y="2781360"/>
            <a:ext cx="3457440" cy="71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РАЗДЕЛЫ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ПРОГРАММЫ СБО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565360"/>
            <a:ext cx="2158920" cy="1224000"/>
          </a:xfrm>
          <a:prstGeom prst="rightArrowCallout">
            <a:avLst>
              <a:gd name="adj1" fmla="val 25002"/>
              <a:gd name="adj2" fmla="val 25000"/>
              <a:gd name="adj3" fmla="val 29397"/>
              <a:gd name="adj4" fmla="val 6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2997360"/>
            <a:ext cx="107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СЕМЬ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1197000"/>
            <a:ext cx="1944720" cy="1368360"/>
          </a:xfrm>
          <a:prstGeom prst="downArrowCallout">
            <a:avLst>
              <a:gd name="adj1" fmla="val 35533"/>
              <a:gd name="adj2" fmla="val 35530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79640" y="1557360"/>
            <a:ext cx="151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КУЛИНАРИ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1197000"/>
            <a:ext cx="1944720" cy="1368360"/>
          </a:xfrm>
          <a:prstGeom prst="downArrowCallout">
            <a:avLst>
              <a:gd name="adj1" fmla="val 35533"/>
              <a:gd name="adj2" fmla="val 35530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1413000"/>
            <a:ext cx="180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КУЛЬТУРА ПОВЕДЕНИ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1197000"/>
            <a:ext cx="1944720" cy="1368360"/>
          </a:xfrm>
          <a:prstGeom prst="downArrowCallout">
            <a:avLst>
              <a:gd name="adj1" fmla="val 35533"/>
              <a:gd name="adj2" fmla="val 35530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48428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БЮДЖЕТ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3716280"/>
            <a:ext cx="1800360" cy="1368360"/>
          </a:xfrm>
          <a:prstGeom prst="upArrowCallout">
            <a:avLst>
              <a:gd name="adj1" fmla="val 32896"/>
              <a:gd name="adj2" fmla="val 32893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429264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ЛИЧНАЯ ГИГИЕНА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716280"/>
            <a:ext cx="1800000" cy="1368360"/>
          </a:xfrm>
          <a:prstGeom prst="upArrowCallout">
            <a:avLst>
              <a:gd name="adj1" fmla="val 32889"/>
              <a:gd name="adj2" fmla="val 32886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4437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ЖИЛИЩЕ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000" y="3716280"/>
            <a:ext cx="1800360" cy="1368360"/>
          </a:xfrm>
          <a:prstGeom prst="upArrowCallout">
            <a:avLst>
              <a:gd name="adj1" fmla="val 32896"/>
              <a:gd name="adj2" fmla="val 32893"/>
              <a:gd name="adj3" fmla="val 16667"/>
              <a:gd name="adj4" fmla="val 66660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СРЕДСТВА СВЯЗ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2492280"/>
            <a:ext cx="2232000" cy="1297080"/>
          </a:xfrm>
          <a:prstGeom prst="leftArrowCallout">
            <a:avLst>
              <a:gd name="adj1" fmla="val 25002"/>
              <a:gd name="adj2" fmla="val 25000"/>
              <a:gd name="adj3" fmla="val 28680"/>
              <a:gd name="adj4" fmla="val 66673"/>
            </a:avLst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24720" y="270828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РАБОТЫ НА УЧАСТКЕ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Овладение практическими навыками социально-бытовой ориентации детьми детского дом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332000" y="1844640"/>
          <a:ext cx="7273800" cy="41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844640"/>
                    <a:ext cx="727380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2359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843280" y="3789360"/>
            <a:ext cx="3632040" cy="2724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68360" y="260280"/>
            <a:ext cx="640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Осенне-весенние полевые работы</a:t>
            </a:r>
            <a:r>
              <a:rPr b="0" lang="en-US" sz="4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на участке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1484280"/>
            <a:ext cx="5761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ТЕМЫ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ращивание цветочной рассад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бор семян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ерекопка почвы на клумбах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ысадка цветочной рассады, уход за ней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Средства связ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Темы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новные средства связи (почта, телеграф, телефон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иды почтовых отправлени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иды писем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иды бандероле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лефон. Культура разговора по телефон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rcRect l="0" t="0" r="0" b="51656"/>
          <a:stretch/>
        </p:blipFill>
        <p:spPr>
          <a:xfrm>
            <a:off x="2700360" y="3716280"/>
            <a:ext cx="4333680" cy="2786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854920" y="6524640"/>
            <a:ext cx="289080" cy="333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33360"/>
              <a:gd name="textAreaBottom" fmla="*/ 314640 h 333360"/>
            </a:gdLst>
            <a:ahLst/>
            <a:rect l="textAreaLeft" t="textAreaTop" r="textAreaRight" b="textAreaBottom"/>
            <a:pathLst>
              <a:path w="21600" h="24904">
                <a:moveTo>
                  <a:pt x="0" y="0"/>
                </a:moveTo>
                <a:lnTo>
                  <a:pt x="21600" y="0"/>
                </a:lnTo>
                <a:lnTo>
                  <a:pt x="21600" y="24904"/>
                </a:lnTo>
                <a:lnTo>
                  <a:pt x="0" y="24904"/>
                </a:lnTo>
                <a:close/>
              </a:path>
              <a:path fill="lightenLess" w="21600" h="24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04">
                <a:moveTo>
                  <a:pt x="21600" y="0"/>
                </a:moveTo>
                <a:lnTo>
                  <a:pt x="21600" y="24904"/>
                </a:lnTo>
                <a:lnTo>
                  <a:pt x="20200" y="23504"/>
                </a:lnTo>
                <a:lnTo>
                  <a:pt x="20200" y="1400"/>
                </a:lnTo>
                <a:close/>
              </a:path>
              <a:path fill="darkenLess" w="21600" h="24904">
                <a:moveTo>
                  <a:pt x="21600" y="24904"/>
                </a:moveTo>
                <a:lnTo>
                  <a:pt x="0" y="24904"/>
                </a:lnTo>
                <a:lnTo>
                  <a:pt x="1400" y="23504"/>
                </a:lnTo>
                <a:lnTo>
                  <a:pt x="20200" y="23504"/>
                </a:lnTo>
                <a:close/>
              </a:path>
              <a:path fill="lighten" w="21600" h="24904">
                <a:moveTo>
                  <a:pt x="0" y="24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04"/>
                </a:lnTo>
                <a:close/>
              </a:path>
              <a:path fill="darken" w="21600" h="24904">
                <a:moveTo>
                  <a:pt x="3794" y="12452"/>
                </a:moveTo>
                <a:lnTo>
                  <a:pt x="17806" y="5446"/>
                </a:lnTo>
                <a:lnTo>
                  <a:pt x="17806" y="19459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4:17:45Z</dcterms:created>
  <dc:creator>GEG</dc:creator>
  <dc:description/>
  <dc:language>en-US</dc:language>
  <cp:lastModifiedBy>Уткин</cp:lastModifiedBy>
  <dcterms:modified xsi:type="dcterms:W3CDTF">2008-05-13T05:09:30Z</dcterms:modified>
  <cp:revision>38</cp:revision>
  <dc:subject/>
  <dc:title>Слайд 1</dc:title>
</cp:coreProperties>
</file>