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A5D-8788-45B7-A449-960EE02E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CC5-9594-4B68-AD1C-2E09230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A98-9364-4F55-A08A-91EA294A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301-2889-4633-A5C1-0867CDA4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7FF5-1E67-46E2-B91C-0D1E4584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C792-C7C7-443E-A947-559D1196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9887-F55B-4CFF-BA5C-60EC32A1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B9E2-181A-44B7-BBA7-D1B5AD74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91E6-EAA3-49C2-BBB6-CFC760F0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E793-528C-4349-B874-2252E1A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AFC0-9675-4527-B450-D5A7F6F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818-56FE-4CEA-BA6E-496C793B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206A-A419-4618-B4F7-65798B4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7843-227C-4F44-B4ED-5475D48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E81-A456-49ED-B025-2817E427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1036-7847-4EDB-B388-0378D74B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29DC-5803-4041-BA7C-CED85A74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5B1-D31C-4AC7-A2E4-878B3AA3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DEF-7482-497C-9AEB-11A5E93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9B6-2149-4142-8CFB-730946FE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7ED-5AD1-4912-8D49-E90B9EF2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813-02AA-4FE7-98A6-0932EF4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1B0-2104-4810-8B90-755F57DB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566-0753-4824-AF5E-5BFE0F7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1566-4BEB-494E-83B4-1E23F9628B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E600-516F-4397-9597-CEB66A920C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343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Компьютеромания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и её последстви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тическая беседа для учащихся 7-11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397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тапы попадания в компьютерную зависимость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700280"/>
            <a:ext cx="77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огромного удовольствия, без серьёзных душевных затрат (которые нужны, например при просмотре серьезного фильма). Постоянное нахождение за компьютером. Появляются болезни, переутомление, снижение успев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35280" y="2997360"/>
            <a:ext cx="526572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00000" y="692280"/>
            <a:ext cx="69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збегание любой деятельности и любого общения, кроме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4969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907920"/>
            <a:ext cx="68756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Наступает полная деградация. При компьютеромании, как и наркомании, принимают активные меры администрация школы, роди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успешность помощи в данном случае аналогична лечению любого запущенного хронического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89000"/>
          <a:ext cx="14223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14223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26766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следствия компьютероман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060640"/>
            <a:ext cx="7775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бенок становится малообщите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поверхностное отношение к познаватель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ой эмоциональный дискомфорт устраняется с помощью погружения в компьютер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еря зрения на диоптрию в год от ежедневной работы на компьютере около 2-х ча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-за неудобного стула может заработать сколиоз, нарушение кровообращения в области та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длительной работе за компьютером может развиться шейный остеохондроз,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дростки склонные к увлечению компьютерными     играми, как правило имеют высокий риск стать алкоголиками или наркома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789360"/>
            <a:ext cx="50068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Беда человечества не в том, что люди употребляют плохие вещи, а в том, что злоупотребляют хорош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. Линкольн, президент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805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1:22:25Z</dcterms:created>
  <dc:creator>админ</dc:creator>
  <dc:description/>
  <dc:language>en-US</dc:language>
  <cp:lastModifiedBy>админ</cp:lastModifiedBy>
  <dcterms:modified xsi:type="dcterms:W3CDTF">2005-12-12T12:24:41Z</dcterms:modified>
  <cp:revision>2</cp:revision>
  <dc:subject/>
  <dc:title>Компьютеромания  и её причины</dc:title>
</cp:coreProperties>
</file>