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5.png" ContentType="image/png"/>
  <Override PartName="/ppt/media/image9.png" ContentType="image/png"/>
  <Override PartName="/ppt/media/image17.wmf" ContentType="image/x-wmf"/>
  <Override PartName="/ppt/media/image11.wmf" ContentType="image/x-wmf"/>
  <Override PartName="/ppt/media/image21.jpeg" ContentType="image/jpeg"/>
  <Override PartName="/ppt/media/image7.png" ContentType="image/png"/>
  <Override PartName="/ppt/media/image4.gif" ContentType="image/gif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gif" ContentType="image/gif"/>
  <Override PartName="/ppt/media/image10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A55-4DD4-4F04-AD36-5D23368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A4D-6B77-43AD-8005-3FECA36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7E2-43EE-4DBA-8A38-95A2E8AC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5C6-DAAA-48BC-93B2-47399EE9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DF31-FBAE-4E63-8C6C-6579BAB9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43A-B62D-43DA-AE4E-E2A7E71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60A-4A7A-49A4-8453-334C845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0600-E224-409F-BF05-F6B6697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AFD5-EA39-4A3C-BF8A-87759813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7C44-C68F-47AA-BFD3-784FA9D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5680-988B-4E05-8B00-5657068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2BA-2E0E-421D-8D90-B9390BB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BA22-5B6E-49B5-B543-6F549B4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BF40-32CF-4F25-9878-A3CEFDDF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144E-09EA-44FB-ADCB-6E7DD99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76FE-A04F-4C87-80C2-9AEDBBDC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0010-E9AB-4994-99E7-451AB345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DB3-D4FF-4019-BBD6-447869D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2AA-119D-42E7-B102-144E048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61C-35D1-40D5-A430-8D9DCD62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CCC-ED26-4C48-9157-D41F500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2AE-23D2-4266-9446-91DD1912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33B-3889-41D3-9BE5-33AE831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1D1-5957-42C6-B1B6-B55590F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9A6-0165-4D1C-989E-DF21E0A49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4EA-E0CA-4ABB-A2C0-2A58F6D799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11280" y="105264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476280"/>
            <a:ext cx="756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фессиональная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етентность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а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240000" cy="2109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4600" y="3141720"/>
            <a:ext cx="236196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9280" y="476280"/>
            <a:ext cx="878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гаемые профессионального успе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48428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1484280"/>
            <a:ext cx="84247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Гиб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Готовность к саморазвитию,   самосовершенствованию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вор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860640"/>
            <a:ext cx="7920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1 век – век профессионалов. Время людей компетентных, способных интегрировать знания, рождающих новый продукт собственной деятельности, ищущих новые варианты решения казалось бы неразрешимых проблем. Сегодня узкий специалист всё более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и более становится обузой для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343080" cy="33336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4" action="ppaction://hlinksldjump"/>
          </p:cNvPr>
          <p:cNvSpPr/>
          <p:nvPr/>
        </p:nvSpPr>
        <p:spPr>
          <a:xfrm>
            <a:off x="817236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404640"/>
            <a:ext cx="8209080" cy="63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ологи выделяют ря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етентносте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без которых невозможна деятельность педагога-профессион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Социально-правовая компетен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Специальная компетентность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Персональная компетентность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Аутокомпетент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Экстремальная компетен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Информационная компетен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9" action="ppaction://hlinksldjump"/>
              </a:rPr>
              <a:t>ИКТ-компетен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10" action="ppaction://hlinksldjump"/>
          </p:cNvPr>
          <p:cNvSpPr/>
          <p:nvPr/>
        </p:nvSpPr>
        <p:spPr>
          <a:xfrm>
            <a:off x="8028000" y="59500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258920" y="476280"/>
            <a:ext cx="640872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1844640"/>
            <a:ext cx="7201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ь к самостоятельному выполнению профессиональных видов деятельности, умение решать профессиональные задачи и оценивать результаты своего труда, способность получать самостоятельно новые знания и умения по специа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30872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10800"/>
                </a:moveTo>
                <a:lnTo>
                  <a:pt x="19338" y="3794"/>
                </a:lnTo>
                <a:lnTo>
                  <a:pt x="1933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71640" y="549360"/>
            <a:ext cx="7200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ПРАВОВ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ЕТЕНТНОСТ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1337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едполагает знания и умения в области взаимодействия с социальными институтами и людьми, а также владение приёмами профессионального общ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52472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пособность к постоянному профессиональному росту и повышению квалификации, а также реализации себя в профессиональном тру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00000" y="620640"/>
            <a:ext cx="741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сональная 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7164360" y="5516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декватное представление о себе и своих способностях, владение технологиями преодоления профессиональных деструк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11280" y="620640"/>
            <a:ext cx="53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уто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66764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4437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ёмы снятия напря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пособность действовать во внезапно изменившихся условиях (уверенность, что из любой ситуации есть выход и не один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4360" y="404640"/>
            <a:ext cx="74898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стремальная 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745164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выки деятельности человека с информацией, поступающей из различных источников, имеющей различный содержательный смысл и различные формы представл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476280"/>
            <a:ext cx="806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ая 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308720" y="5589720"/>
            <a:ext cx="719280" cy="57600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6478" y="10800"/>
                </a:moveTo>
                <a:lnTo>
                  <a:pt x="20491" y="3794"/>
                </a:lnTo>
                <a:lnTo>
                  <a:pt x="2049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кт-компетент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отовность использовать усвоенные знания, умения, навыки и способы деятельности в сфере информационно-коммуникационных технологий для решения учебных и практических зад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380360" y="5661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50920" y="404640"/>
            <a:ext cx="8642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зненные установки (мифы)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1484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мешающие профессиональному рос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205000"/>
            <a:ext cx="7704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Миф «Герой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Миф «Спаса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Миф «Золотой червонец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Миф «Сизиф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1916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7" action="ppaction://hlinksldjump"/>
          </p:cNvPr>
          <p:cNvSpPr/>
          <p:nvPr/>
        </p:nvSpPr>
        <p:spPr>
          <a:xfrm>
            <a:off x="7885080" y="5805360"/>
            <a:ext cx="790560" cy="64800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49" h="21600">
                <a:moveTo>
                  <a:pt x="0" y="0"/>
                </a:moveTo>
                <a:lnTo>
                  <a:pt x="26349" y="0"/>
                </a:lnTo>
                <a:lnTo>
                  <a:pt x="26349" y="21600"/>
                </a:lnTo>
                <a:lnTo>
                  <a:pt x="0" y="21600"/>
                </a:lnTo>
                <a:close/>
              </a:path>
              <a:path fill="lightenLess" w="26349" h="21600">
                <a:moveTo>
                  <a:pt x="0" y="0"/>
                </a:moveTo>
                <a:lnTo>
                  <a:pt x="26349" y="0"/>
                </a:lnTo>
                <a:lnTo>
                  <a:pt x="24949" y="1400"/>
                </a:lnTo>
                <a:lnTo>
                  <a:pt x="1400" y="1400"/>
                </a:lnTo>
                <a:close/>
              </a:path>
              <a:path fill="darken" w="26349" h="21600">
                <a:moveTo>
                  <a:pt x="26349" y="0"/>
                </a:moveTo>
                <a:lnTo>
                  <a:pt x="26349" y="21600"/>
                </a:lnTo>
                <a:lnTo>
                  <a:pt x="24949" y="20200"/>
                </a:lnTo>
                <a:lnTo>
                  <a:pt x="24949" y="1400"/>
                </a:lnTo>
                <a:close/>
              </a:path>
              <a:path fill="darkenLess" w="26349" h="21600">
                <a:moveTo>
                  <a:pt x="2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9" y="20200"/>
                </a:lnTo>
                <a:close/>
              </a:path>
              <a:path fill="lighten" w="2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9" h="21600">
                <a:moveTo>
                  <a:pt x="6168" y="3794"/>
                </a:moveTo>
                <a:lnTo>
                  <a:pt x="20181" y="10800"/>
                </a:lnTo>
                <a:lnTo>
                  <a:pt x="616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333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ремя и цели 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зования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133720"/>
            <a:ext cx="8136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е условия жизни в обществе означают новые подходы к профессиональному развитию личности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 был  веком изобретений, веком «рационализма», веком индустрии. Цель образования в 20 веке диктовалась политикой партии: гармоничное развитие личности на основе кодекса строителя коммунизма, отлучения от церкви и православной культуры. Учителю отводилась роль носителя знаний и культуры. Он был воплощением интеллиген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 – век  информатизации. Время быстрое, нестабильное, изменчивое. Сегодня мало иметь знания. Для того, чтобы качественно и продуктивно действовать учителю необходимы особые способы деятельности.  Например, умелое владение способами межличностного общения;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и деятельности  с информацией, поступающей из различных источник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ругими словами, чтобы действовать,  учитель должен владеть особым кругом полномочий – компетен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12000" y="692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56720" y="620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619280" y="765000"/>
            <a:ext cx="626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ф "Герой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89000"/>
            <a:ext cx="8569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ановка: « Я запрещаю себе быть слабым,  не хочу, чтобы мне кто-то помогал. Я со всем справлюсь са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 такого человека нет времени на личную жизнь, он жертвует собой, своим временем ради общей идеи, чтоб доказать всем, что он самый- сам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таким человеком очень трудно, потому что с ним нельзя быть на равных: «Если я самый сильный, значит я непобедимый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ррекция: Убедите себя в том, что Вы тоже человек, следовательно нуждаетесь в отдыхе для восстановления сил. Научитесь делегировать полномочия. Вам необходимо найти людей, которым Вы могли бы доверять. И учитесь просить помощи! Только тот, кто просит помощи, может сам быть полезны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02800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476360" y="62064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ф "Спасатель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060640"/>
            <a:ext cx="82803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резмерно опекают окружающих, решая тем самым не свои, а чужие проблемы. Решая чужие проблемы повышают таким образом свою знач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ВЫ  поняли, являетесь «Спасателем», помните, что с головой погружаясь в чью-то жизнь, Вы рискуете никогда не прожить свою собственную. Подумайте, чьей жизнью ВЫ сейчас живёте? Если это дети, то это красивые истории. Роль родителей не в том, чтобы подставить своё плечо, а в том, чтобы ребёнок в этом не нуждался. Спасайте себя от желания «спасать других, окружающие не всегда нуждаются в Ваше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який раз, если захочется кого-то спасти, задайте себ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 вопро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4000" y="404640"/>
            <a:ext cx="806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йствительно ли этому человеку необходима поддерж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ен ли он самостоятельно выйти из полож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самое страшное может произойти, если я не вмешаю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спросите себя, наконец: «Зачем мне это надо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774072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187280" y="18900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Миф "Сизиф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981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Трудоголи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341360"/>
            <a:ext cx="89647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 будет катить свой камень. Взяв одну вершину, переходит к друг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ди-трудоголики сублимируют себя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Вы трудоголик, помните, что Вы не машина. Для увеличения КПД необходим полный отд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Вы двигаетесь без остановок, подумайте, по  чьим головам Вы идё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таньте как звезда: левая сторона – работа; правая – друзья, семья, увлеч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человек только в работе – он «горит»! Кроме работы есть ещё многое другое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ланируйте отдых 2 раза в год: зимой и летом для восстановления с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пользуйте правило 3-х восьмёрок: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ч работы,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ч отдыха,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ч с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532720" y="630864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ловеку с такой жизненной установкой трудно понять, что угодить всем невозможно. Только деньги нравятся всем! Если кто-то говорит о Вас плохо, значит Вы живы и интерес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сь говорить «нет» и учите этому своих учеников. Учитесь аргументировать свой отказ. Не ждите от людей особой благодарности за помощь: если Вы помогаете людям, значит Вам это зачем-то нуж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333360"/>
            <a:ext cx="79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ф "Золотой червонец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7812000" y="602136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основе профессионального труда заложен принцип  трёх «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708360" y="1484280"/>
            <a:ext cx="1511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191628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ес к работ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96000" y="1916280"/>
            <a:ext cx="30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ированность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592200" y="5321160"/>
            <a:ext cx="818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изм завораживает, действует как магнит. К профессионал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дут за советом, ему стараются подражать, он вызывает восхи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843280" y="1989000"/>
            <a:ext cx="3240000" cy="3230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11280" y="328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Л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3357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роф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5280" y="33336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 творческом подходе в професс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1700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700280"/>
            <a:ext cx="871380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кий подход – обязательное условие многих видов деятельности. Сегодня не тайна, что творческий подход не привилегия особо одарённых людей, а качество, характеризующее каждую личность в той или иной степ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кий дар может выражаться в сфере техники, ИЗО, музыки, литературы…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кий подход, наряду с интеллектуальными способностями – одна из самых существенных величин в развитии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жащие в его основе творческие способности поддаются тренировке в течение вс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 Творческий подход – это метод, с помощью которого я прихожу к необыкновенному, но практичному решению, которое, как правило, невозможно найти в пределах расхожих мыслительных структур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. Зиве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343080" cy="3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71640" y="692280"/>
            <a:ext cx="7921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ая атм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557360"/>
            <a:ext cx="82087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образовательном процессе общение с творческой личностью педагога является самым сильным стимулятором для ребёнка. Творчеству научить невозможно, можно только создать условия для проявления творчества, т.е. творческую атмосф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ть такой атмосферы в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ворческом обще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едагога и учеников, общении на  равных. Творчество в учебном процессе обеспечивает  его педагогическую фасилит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42920" y="5516640"/>
            <a:ext cx="747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ов Ваш творческий потенциал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21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лагаем тест на его из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03280" y="260280"/>
            <a:ext cx="590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 ребу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397160"/>
          <a:ext cx="8280360" cy="45529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26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ре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11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гляд любов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гл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гл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гл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воз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ьц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ьц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-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9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ф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 txBox="1"/>
          <p:nvPr/>
        </p:nvSpPr>
        <p:spPr>
          <a:xfrm rot="5400000">
            <a:off x="6732360" y="4797000"/>
            <a:ext cx="158436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вац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627280" y="4365720"/>
            <a:ext cx="18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дач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116000" y="692280"/>
            <a:ext cx="68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ст на опреде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ворческих способносте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177336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ала «Находчивос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23880" y="2205000"/>
          <a:ext cx="6096240" cy="4579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лько Вы найдёте слов, начинающихся с «НО» «Нотари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елайте тоже самое  с сочетанием «БО» «Бока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елайте то же самое с сочетанием «НЕ» «Нежность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16000" y="620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етенция 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етентнос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2781360"/>
            <a:ext cx="74170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Компетен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круг полномочий, которым учитель должен овладеть, чтобы обеспечить успешность себе как профессионалу (Я знаю + я имею пра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Компетентн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реальное владение, то есть обладание соответствующей компетенцией, включая его личностное отношение к ней и к предмету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ими словами, компетентность – это личностная характеристика (Я знаю + я имею право + я умею применять на практике). Это возможность реализовать не только свои знания, но и компетенции в О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00000" y="189000"/>
            <a:ext cx="7128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ала дивергентн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нестандартное) мыш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989000"/>
            <a:ext cx="8280360" cy="120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Что можно сделать с кирпичо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Кирпич: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2.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284640"/>
            <a:ext cx="8281800" cy="1789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можно сделать с газет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азета: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5433840"/>
            <a:ext cx="813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5300640"/>
            <a:ext cx="8281800" cy="1326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Что можно сделать со стакан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Стакан: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020000" y="3429000"/>
            <a:ext cx="1154160" cy="1512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140360" y="3716280"/>
            <a:ext cx="1726920" cy="965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796000" y="5157720"/>
            <a:ext cx="1511280" cy="1454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1295640" cy="112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11280" y="476280"/>
            <a:ext cx="78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тво и безопас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1225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школы должна привлекать к себе и содержанием, и формой,  а это значит формировать положительный эмоциональный настрой, ощущение психологического комфорта,  чувство защищённости, что приводит в конечном счёте к развитию творческой активности. Следовательно, творческая атмосфера является главной составляющей психологической безопасности образовательной среды. В такой среде по другому происходит процесс становления и развития личности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920" y="2565360"/>
            <a:ext cx="7705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Критерии оценки сре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Отношение к образовательной среде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Значимые характеристики образовательной среды и удовлетворённость 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Защищённость от психологического насилия во взаимодейств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-340920" y="1860480"/>
            <a:ext cx="9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о итогам анкеты «Психологическая безопасность образовательной среды школ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р И.А. Ба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404640"/>
            <a:ext cx="84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ое сопровожд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овательной сре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571680" y="1989000"/>
          <a:ext cx="8207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989000"/>
                    <a:ext cx="8207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 txBox="1"/>
          <p:nvPr/>
        </p:nvSpPr>
        <p:spPr>
          <a:xfrm>
            <a:off x="324000" y="260280"/>
            <a:ext cx="828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имые характерист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овательной сред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их оценка педагога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11280" y="1989000"/>
          <a:ext cx="8161200" cy="45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16120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5280" y="333360"/>
            <a:ext cx="80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имые характеристик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овательной сре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их оценка старшеклассника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611280" y="1628640"/>
          <a:ext cx="816120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16120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24000" y="333360"/>
            <a:ext cx="8424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щищённость от психологиче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илия во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0" y="1521000"/>
          <a:ext cx="872172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1000"/>
                    <a:ext cx="872172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781200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24000" y="189000"/>
            <a:ext cx="813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щищённость от психологиче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илия во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старшеклассники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0000" y="476280"/>
            <a:ext cx="7993080" cy="5659920"/>
          </a:xfrm>
          <a:prstGeom prst="rect">
            <a:avLst/>
          </a:prstGeom>
          <a:noFill/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зитивное отношение к образовательной среде педагогов и учащихся старших классов говорит о положительных результатах работы по созданию психологически безопасных условий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менение в ОП здоровьесберегающих технологий и система  работы по профилактике проявлений насилия говорят о гармонизации отношений между субъектами ОП и образовательной сред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езопасность учащихся и учителей в ОП зависит от предоставленных им условий для профессионального и личностного ро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ворчество – неотъемлемый элемент психологически безопасной образовательно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 rot="5400000">
            <a:off x="-2430720" y="2619360"/>
            <a:ext cx="568800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ыводы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640" y="333360"/>
            <a:ext cx="720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тв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1700280"/>
            <a:ext cx="8353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ывается на безопасности ОС, поскольку отрицает насилие (угрозы, недоброжелательность, принуждение, игнорирование и оскорб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ие сохранения психологического здоро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онент успеха современного профессион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ть к сча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9280" y="404640"/>
            <a:ext cx="896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то такой современный профессионал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484280"/>
            <a:ext cx="8209080" cy="44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ременный профессионал - это компетентный в своей профессии человек. Он не идентифицирует себя с идеалом (хочу работать как Амонашвили или Лысенкова), поскольку нет идеального профессион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выбирая профессию, профессионал выбирает образ жизни, постоянно совершенствуя  таким образом своё мастерство и осуществляя личностный рос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новление профессионала и его профессиональный  рост предусматривают гибкость личности, высокий уровень обучаемости определённому виду деятельности и способность эту деятельность самому конструировать и совершенствовать, то есть - твор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03280" y="189000"/>
            <a:ext cx="597708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ИНАМИКА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ФЕССИОНАЛЬ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2492280"/>
            <a:ext cx="8713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1 стад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накомство с содержанием профессии, условиями труда, требованиями к работе, знакомства, встреч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2 стад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Период адаптац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сотрудникам (социальная адап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стилю общения (психологическая адап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условиям труда (производственная адап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профессии (осознание себя в профессии т.е. профессиональная адап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тся от 1 до 2-х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403280" y="189000"/>
            <a:ext cx="597708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ИНАМИКА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ФЕССИОНАЛЬ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492280"/>
            <a:ext cx="8820000" cy="48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3 стад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ные формы повышения квалификации, организация собственной деятельности и  получение результатов. На этой стадии достигается профессиональная и личностная самореализация. Внешние мотивы преобразуются во внутренние. Меняется смысловое содержание деятельности. На современном этапе важно не только то, что человек знает, но и как он к этому относится. В настоящее время культурным считается человек не просто имеющий знания, но и признающий их цен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профессионала-учителя определяющим становится вопро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Зачем я даю зн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а стадия длится от 3-х до  1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81200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03280" y="189000"/>
            <a:ext cx="597708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ИНАМИКА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ФЕССИОНАЛЬ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852640"/>
            <a:ext cx="81360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4 стад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дия регресса. Человек достигает определённого уровня личностного и профессионального развития, соотнося свои способности с требованиями профессии и живёт за счёт ранее достигнутого; уменьшается его активность, ощущается нежелание воспринимать новое, расти, снижается уровень адаптации в социальной сф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жет начаться после 10 лет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33336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хман вывел 2 группы специалистов, различающихся по времени наибольшей профессиональной актив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1052640"/>
          <a:ext cx="8713440" cy="5427000"/>
        </p:xfrm>
        <a:graphic>
          <a:graphicData uri="http://schemas.openxmlformats.org/drawingml/2006/table">
            <a:tbl>
              <a:tblPr/>
              <a:tblGrid>
                <a:gridCol w="4357440"/>
                <a:gridCol w="4356000"/>
              </a:tblGrid>
              <a:tr h="21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альное соответствие должности и фун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по другой специа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ость специалистов возрастает к 20-35 годам, но к 40 резко падает вниз. Человек не замечает  регресс в своём развитии, превращается в консерватора, не признающего нового, не стремится пополнить свои знания, не интересуется достижениями други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 период проф. становления испытывает трудности из-за неопытности и незнания и нередко теряет веру в свои силы. Опыт приходит постепенно, знания приобретаются. Вместе с ними приобретается удивительное качество – чувство нового, потребность учиться, экспериментирова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404640"/>
            <a:ext cx="820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родлить деловую молодос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268280"/>
            <a:ext cx="81356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еть мужество сменить работ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правление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ОСМЫСЛИТЬ И ПЕРЕКОНСТРУИРОВАТЬ СВОЮ ДЕЯТЕЛЬНОСТЬ, ТВОРЧЕСКИ ПОДОЙДЯ К ЕЁ ЦЕЛЯМ И СОДЕРЖАНИ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ю жизнь проработать в одном учреждении и в одной должности или каждый год менять работу – одинаково чревато неприятными последств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олько деятельность, требующая от человека творчества, инициативы, самостоятельности, нестандартных подходов способна предопределить пролонгацию сроков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3-ей стад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49:30Z</dcterms:created>
  <dc:creator>User</dc:creator>
  <dc:description/>
  <dc:language>en-US</dc:language>
  <cp:lastModifiedBy>User</cp:lastModifiedBy>
  <dcterms:modified xsi:type="dcterms:W3CDTF">2007-02-18T21:12:53Z</dcterms:modified>
  <cp:revision>86</cp:revision>
  <dc:subject/>
  <dc:title>Слайд 1</dc:title>
</cp:coreProperties>
</file>