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CA6-0DA4-4C8C-B55A-EB93621A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154-6951-4B02-A5F2-00917F67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5A0-AB3A-4984-BC54-2D40D7E2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952-BA4E-4C9B-A2C6-C21C01B5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87FF-5CF0-469A-9D30-ADCDA331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DA5E-370E-4F2B-8B3E-19420931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2071-E209-424E-A7B8-160C51C9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13B0-A6EF-4137-972B-0CCC433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D2FC-1D6C-4838-A660-F4BBEEA9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BD9D-90BB-4FAD-8A8E-A4E38339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778E-2DED-4C5B-B5C6-6E7FFE2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876-C88C-43A5-858B-7F5804ED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D96D-37D6-4F98-8D55-A8AAA626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83CB-20D3-479C-89E7-CEB95945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836A-A34A-451D-812F-5005B331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0AC6-A98A-4B15-9973-B51773BE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2660-CAB0-4B26-B52D-1B1D7066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560-D93E-4C52-93C7-4AB851DD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8C0-2D65-4697-B0CB-303140B3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0CE-29F9-4D2C-B67B-7005497C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E68-2F04-438F-BD43-58779516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B81-A6EF-4D41-A4A7-605ADE0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336-BB72-4F46-A8B9-6119CD9A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789-44E4-4169-82FC-15BA93E3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F7A4-4871-4DDF-829C-26361CFA31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78F3-E3A6-4E97-B207-CF86FD5DBD1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Итоги работы </a:t>
            </a:r>
            <a:br>
              <a:rPr sz="48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  по технологии безотметочного обучения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51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95640" y="4292640"/>
            <a:ext cx="640080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втор:   Колпаков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Нина   Федоровна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учитель начальных класс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МОУ СОШ №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роверочная работа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по  теме «Текст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577880"/>
                <a:gridCol w="2524320"/>
                <a:gridCol w="3224160"/>
                <a:gridCol w="9032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яемые ЗУ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зад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выполнению зад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базовые теоретические зн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ончи предложени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аглавить текст – это значит ______ 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главию можно определить ___________ 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 состоит из ________ 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предложения в тексте связаны __________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, что значит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заглавить текст;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то можно определить по заглавию;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чего состоит текст;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ак связаны в тексте предложения;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66"/>
                </a:solidFill>
                <a:latin typeface="Arial"/>
              </a:rPr>
              <a:t>Позитивная  динамика степени обученности  каждого ученик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568600"/>
                <a:gridCol w="1546200"/>
                <a:gridCol w="2057400"/>
                <a:gridCol w="205740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г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г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лов Василий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3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ов Михаил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дин Алексей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3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3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дин Владимир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дин Кирилл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а Софь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ьянов Алексей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ьянова Алена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ьцов Михаил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3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3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бейников Артем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6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явина Дарь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Результаты годовых контрольных работ и тестирования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844640"/>
          <a:ext cx="8534520" cy="4633920"/>
        </p:xfrm>
        <a:graphic>
          <a:graphicData uri="http://schemas.openxmlformats.org/drawingml/2006/table">
            <a:tbl>
              <a:tblPr/>
              <a:tblGrid>
                <a:gridCol w="1800360"/>
                <a:gridCol w="1727280"/>
                <a:gridCol w="182520"/>
                <a:gridCol w="2408040"/>
                <a:gridCol w="1414440"/>
                <a:gridCol w="1001880"/>
              </a:tblGrid>
              <a:tr h="728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редмет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ктант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ктант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тан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-2005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8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3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4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ая контрольная работа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6%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3%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чтен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1%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Изучение мотивации учения и отношения детей к школе</a:t>
            </a:r>
            <a:br>
              <a:rPr sz="4000"/>
            </a:b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 по данным анкет учащихся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2060640"/>
          <a:ext cx="8002440" cy="4070160"/>
        </p:xfrm>
        <a:graphic>
          <a:graphicData uri="http://schemas.openxmlformats.org/drawingml/2006/table">
            <a:tbl>
              <a:tblPr/>
              <a:tblGrid>
                <a:gridCol w="2682720"/>
                <a:gridCol w="2662200"/>
                <a:gridCol w="265752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чу больше зна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6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%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4 кл. появился мотив «Хочу быть полезным людям»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Уровень самооценки самостоятельности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 ответственности учащихся 4-б кл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                       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 соответствия  ее оценке учител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989000"/>
          <a:ext cx="860436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860436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Исследование психологической комфортности  в классе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5200" y="1851480"/>
            <a:ext cx="52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Исследование психологической комфортности  в класс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481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6:22Z</dcterms:created>
  <dc:creator>User</dc:creator>
  <dc:description/>
  <dc:language>en-US</dc:language>
  <cp:lastModifiedBy>User</cp:lastModifiedBy>
  <dcterms:modified xsi:type="dcterms:W3CDTF">2007-03-27T08:16:13Z</dcterms:modified>
  <cp:revision>2</cp:revision>
  <dc:subject/>
  <dc:title>Слайд 1</dc:title>
</cp:coreProperties>
</file>