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9BF-389E-4C5C-A199-06CA4E0E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320-F835-4F7F-A043-2F3A548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73D-481E-4CD0-A5A2-1CC77FB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11C-F662-4EE9-85C7-2AF92280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E7A-C75E-43C6-8D57-C3DAFC8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6C6-9EB5-4EA8-A6D0-90D3CF4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7CC-E81E-4BF4-AC6C-4DBCDF3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860-FB92-420E-9B56-76607C6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BA3-AAC4-440D-B5DB-63FF528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03E-F1F9-4104-AF93-1AD0E6E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EC4-1A84-49AE-948E-8317FE7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4E8-B2F5-418D-B0DA-85555B1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75E-4D21-4641-AFD3-53197131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NA00523_"/>
          <p:cNvPicPr/>
          <p:nvPr/>
        </p:nvPicPr>
        <p:blipFill>
          <a:blip r:embed="rId1"/>
          <a:stretch/>
        </p:blipFill>
        <p:spPr>
          <a:xfrm>
            <a:off x="484200" y="404640"/>
            <a:ext cx="2184480" cy="213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NA00523_"/>
          <p:cNvPicPr/>
          <p:nvPr/>
        </p:nvPicPr>
        <p:blipFill>
          <a:blip r:embed="rId2"/>
          <a:stretch/>
        </p:blipFill>
        <p:spPr>
          <a:xfrm>
            <a:off x="3492360" y="476280"/>
            <a:ext cx="2184480" cy="19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NA00523_"/>
          <p:cNvPicPr/>
          <p:nvPr/>
        </p:nvPicPr>
        <p:blipFill>
          <a:blip r:embed="rId3"/>
          <a:stretch/>
        </p:blipFill>
        <p:spPr>
          <a:xfrm>
            <a:off x="611280" y="3789360"/>
            <a:ext cx="2184480" cy="21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NA00523_"/>
          <p:cNvPicPr/>
          <p:nvPr/>
        </p:nvPicPr>
        <p:blipFill>
          <a:blip r:embed="rId4"/>
          <a:stretch/>
        </p:blipFill>
        <p:spPr>
          <a:xfrm>
            <a:off x="5940360" y="549360"/>
            <a:ext cx="218448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NA00523_"/>
          <p:cNvPicPr/>
          <p:nvPr/>
        </p:nvPicPr>
        <p:blipFill>
          <a:blip r:embed="rId5"/>
          <a:stretch/>
        </p:blipFill>
        <p:spPr>
          <a:xfrm>
            <a:off x="6084720" y="3860640"/>
            <a:ext cx="2184480" cy="2138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 flipH="1" flipV="1">
            <a:off x="1852560" y="263088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284720" y="1139760"/>
            <a:ext cx="45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6732720" y="256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5508720" y="450864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 flipH="1">
            <a:off x="3133080" y="46465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00720" y="2565360"/>
            <a:ext cx="8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b6ec"/>
                </a:solidFill>
                <a:latin typeface="Arial"/>
              </a:rPr>
              <a:t>Пальчиковая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За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вери висит 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открыть бы его см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ян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ут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уч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…откры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:\Картинки\для курсов картинки\компьютер\1.jpg"/>
          <p:cNvPicPr/>
          <p:nvPr/>
        </p:nvPicPr>
        <p:blipFill>
          <a:blip r:embed="rId1"/>
          <a:stretch/>
        </p:blipFill>
        <p:spPr>
          <a:xfrm>
            <a:off x="5364000" y="3929040"/>
            <a:ext cx="25210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егают колю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стр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полз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реки шум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лесу пах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110520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934320" y="19810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4267080" y="289548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952880" y="4748040"/>
            <a:ext cx="205740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са и м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или мыши в поле. Пришла зима. Мыши пошли в нору. Там жила лиса. Она ела мышей и стала жир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Где жили мыш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Какое время года наступил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Кто жил в но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Что лиса сделала с мыш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Какой стала лис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8760" y="303120"/>
            <a:ext cx="8286480" cy="619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1066680" y="1146240"/>
            <a:ext cx="701064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5761080" y="1725480"/>
            <a:ext cx="407880" cy="9385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4716360" y="2492280"/>
            <a:ext cx="3743280" cy="1727280"/>
          </a:xfrm>
          <a:prstGeom prst="wedgeEllipseCallout">
            <a:avLst>
              <a:gd name="adj1" fmla="val -77861"/>
              <a:gd name="adj2" fmla="val 101564"/>
            </a:avLst>
          </a:prstGeom>
          <a:solidFill>
            <a:srgbClr val="cbb6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57b8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лыбающееся лицо 6"/>
          <p:cNvSpPr/>
          <p:nvPr/>
        </p:nvSpPr>
        <p:spPr>
          <a:xfrm>
            <a:off x="1000080" y="2643120"/>
            <a:ext cx="3071880" cy="300060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w="25560">
            <a:solidFill>
              <a:srgbClr val="8400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 01</cp:lastModifiedBy>
  <dcterms:modified xsi:type="dcterms:W3CDTF">2011-12-22T10:46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