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926-81ED-4150-8DDE-3D27E904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1B0-2F8F-4B36-8F05-18FCA219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5AA-E1AF-42BA-844C-19774B57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4CB-DF59-431A-888D-6EC51045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D3E-7483-4D3E-AF8D-076FC439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BC2-0675-4DE6-BB6E-7A5AA07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2E9-6F3E-4FC6-B872-C3BAD3F0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808-BDE7-4E51-88CC-5DE1E9A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5A3-0833-4AE7-8324-56C5ED2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4E4-6154-4F99-9E40-1C0A0AA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FDC-E77F-4852-B957-0A8ACDA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1B0-4012-47DB-9DE8-1F8DB44D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430-06E7-40D0-83EC-F06C0417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1927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Monotype Corsiva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Monotype Corsiva"/>
              </a:rPr>
              <a:t>узнать как можно больше интересного о го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476280"/>
            <a:ext cx="62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альские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7640" cy="604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ы опасн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69440" cy="511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187280" y="260280"/>
            <a:ext cx="6697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80000" cy="619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14840" y="333360"/>
            <a:ext cx="4170240" cy="597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5400000">
            <a:off x="-1476360" y="3068640"/>
            <a:ext cx="6191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ннель в го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0869480" cy="659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46320" y="1916280"/>
            <a:ext cx="4133880" cy="475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54936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ьпинис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зкие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едние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сокие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47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59280" y="189000"/>
            <a:ext cx="382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зкие г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ть выше хол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оны могут быть крутыми или полог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оны и вершина покрыты раст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оны скали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ершине и склонах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раст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68144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кие г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лоны скалис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ывис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шина покрыта вечными снегами, ль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4328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6:15:25Z</dcterms:created>
  <dc:creator>1</dc:creator>
  <dc:description/>
  <dc:language>en-US</dc:language>
  <cp:lastModifiedBy>Уткин</cp:lastModifiedBy>
  <dcterms:modified xsi:type="dcterms:W3CDTF">2008-05-13T05:07:52Z</dcterms:modified>
  <cp:revision>40</cp:revision>
  <dc:subject/>
  <dc:title>Слайд 1</dc:title>
</cp:coreProperties>
</file>