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DFF-E33A-4FFE-A230-70A7F61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15B-6B92-4E10-9BA8-33AF5CF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DD9-A0CE-45DC-AFA7-6A24CEE0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434-81C2-47CE-B566-0307E21A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1D5-9EAD-4B06-98A8-4749B81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0DC-239A-4B97-B271-588BB5B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0DA-8467-4BB0-8E1C-07894D30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8C1-708B-488C-96C3-58AE273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8D9-78C7-423A-A340-5A8AB69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E29-A6CB-4295-AF33-3B18484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991-E1F6-4948-8FE6-5D4004F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C5C-E5B8-49D8-BB3E-C832CAC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3D0-9AAD-47C7-9AE8-B4BAC89C3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тие исследовательских умений у младших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ичье мнение не бывает ложны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ельская поисковая активность – естественное состояние ребенка, он настроен на познание мира, он хочет его по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228600"/>
            <a:ext cx="54100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438280"/>
            <a:ext cx="297180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87692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876920"/>
            <a:ext cx="327672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514600"/>
            <a:ext cx="30481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38280" y="1752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971800" y="1828800"/>
            <a:ext cx="9907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828800"/>
            <a:ext cx="8380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1752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исследовательские ум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с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преде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авленные на изучение объекта, потребность в поисков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тельско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обучение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обучения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ный на фундаменте исследовательских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19520" y="1371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37160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выки и умения логического и твор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еть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вигать гипот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вать определения пон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ц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ь экспер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ать выводы и умоза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ировать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азывать и защищать свои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эвристическ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евые ориентации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реативных, когнитивных и коммуникативных качеств ученика, который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ть развитое чувство н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ть вести продуктивный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овать в ситуации неопреде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ть поставить учебную цель, составить план ее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ть произвести рефлексию и самооценку свое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обучения детей с признаками одар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107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изировать обучение, придав ему исследовательский, творческий характер, нацелив ученика на само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развития креа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2876400"/>
          <a:ext cx="4038480" cy="19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76400"/>
                    <a:ext cx="403848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694480" y="1600200"/>
          <a:ext cx="1944720" cy="217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4480" y="1600200"/>
                    <a:ext cx="19447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057400" y="1905120"/>
          <a:ext cx="5334120" cy="457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1905120"/>
                    <a:ext cx="5334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3:09:08Z</dcterms:created>
  <dc:creator>учитель информатики#</dc:creator>
  <dc:description/>
  <dc:language>en-US</dc:language>
  <cp:lastModifiedBy>учитель информатики#</cp:lastModifiedBy>
  <dcterms:modified xsi:type="dcterms:W3CDTF">2007-03-28T03:21:15Z</dcterms:modified>
  <cp:revision>2</cp:revision>
  <dc:subject/>
  <dc:title>Развитие исследовательских умений у младших школьников</dc:title>
</cp:coreProperties>
</file>