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3D2-3EA7-418E-8143-BEC0D628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C4C-E0C0-44E8-9DFA-0BA5B376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786-0C4E-4155-ACEA-59B722BA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7C1-73B3-4DDA-9359-B53632FA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83C4-8D52-4637-80D0-87E77C38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BA77-E4FF-4266-A825-A921B132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816D-9509-463B-8D40-416333BD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ADC9-8EC6-4D5E-AE96-79ED700F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4010-8575-4260-BE93-0DE53F07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EBA1-2F6E-42A7-AC58-9F98C3B6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68DD-EBEB-4020-A8A3-DF35EA8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ADE-6011-4D90-B50D-1F247398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3CE4-FC98-44BA-B1E3-2D54BDFA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194C-E62E-4D31-B925-D724E6B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9AF7-0551-4BF3-B7E4-59759828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29BF-88F5-41CB-92DF-D258644E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38B3-A041-4CF4-8AB3-873504E2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0BB-E318-4016-A17A-03429489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AB3-3194-4029-BF9A-49BB90F4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520-8F7B-41ED-AE18-2C13587E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790-F320-4AF9-8E0D-289E0E2B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078-0AAB-4517-8F50-A75FD4C3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CBB-BEBB-4C29-8420-85EE9700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783-9E72-4098-8ABE-5EAD6A2C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9BA6-BB63-4365-A5EF-F7F436062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B491-2379-46AE-95BB-8B4E1C231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48;&#1075;&#1088;&#1072;%20&#1050;&#1083;&#1080;&#1086;.pp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Тестовые технологии в преподавании истории и обществознани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248160" y="5105160"/>
            <a:ext cx="2514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Хорошева Тамара Эдуардовна-учитель истории МОУ Андреевская С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обходимость внедрения ИКТ в учебном проце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40760" y="1774440"/>
            <a:ext cx="24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295280"/>
            <a:ext cx="213372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ащихся к жиз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информационн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ще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1447920"/>
            <a:ext cx="190512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труктив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х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обуч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886200"/>
            <a:ext cx="213372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трудни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обуч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2362320"/>
            <a:ext cx="220968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намичны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шир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формацио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сур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3962520"/>
            <a:ext cx="220968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вор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ход 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уч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обходимо перейт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т неизменной учебной программы к новой, личностно-ориентирован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т временного к непрерывн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т общего к частн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т самостоятельного обучения к обучению в образовательных сообществ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т преподавания к консультирова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т вербального к мультимедийн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аправления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990720"/>
            <a:ext cx="320040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сфере препода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личных предм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школьного кур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990720"/>
            <a:ext cx="350532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сфере организ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амостоятельной творче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боты учащих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962520"/>
            <a:ext cx="320040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Т играют серьезн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ль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менении систе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троля знаний учащихся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3962520"/>
            <a:ext cx="3733920" cy="1752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Т создают нов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змож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шения организацион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ов в процесс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учения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rot="1954200">
            <a:off x="3598560" y="585720"/>
            <a:ext cx="208080" cy="829800"/>
          </a:xfrm>
          <a:prstGeom prst="downArrow">
            <a:avLst>
              <a:gd name="adj1" fmla="val 50000"/>
              <a:gd name="adj2" fmla="val 996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180200">
            <a:off x="3576240" y="512280"/>
            <a:ext cx="235080" cy="3429000"/>
          </a:xfrm>
          <a:prstGeom prst="downArrow">
            <a:avLst>
              <a:gd name="adj1" fmla="val 50000"/>
              <a:gd name="adj2" fmla="val 364663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1188400">
            <a:off x="4646520" y="601560"/>
            <a:ext cx="230400" cy="3276720"/>
          </a:xfrm>
          <a:prstGeom prst="downArrow">
            <a:avLst>
              <a:gd name="adj1" fmla="val 50000"/>
              <a:gd name="adj2" fmla="val 35554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rot="19671000">
            <a:off x="5043240" y="612360"/>
            <a:ext cx="168120" cy="976320"/>
          </a:xfrm>
          <a:prstGeom prst="downArrow">
            <a:avLst>
              <a:gd name="adj1" fmla="val 50000"/>
              <a:gd name="adj2" fmla="val 145182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3883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Э по исто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Историческая игра «Клио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ознай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ческая игра начало ХХ 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т по истории земли Пермс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лигия древних египт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евний Егип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уро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Использование  ИКТ позволяет 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Изменить способы доставки учебного материала на урок с помощью специально разработанных авторских мультимедиа кур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Повысить уровень обученности детей и обеспечивает максимально благоприятные условия для всестороннего их разв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Формировать нравственную, творческую лич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Совмещать вербальные и визуальные способы восприятия и усвоения знаний, видеть результаты своей практи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3-27T07:02:5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