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4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wmf" ContentType="image/x-wmf"/>
  <Override PartName="/ppt/media/image8.gif" ContentType="image/gif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9.jpeg" ContentType="image/jpeg"/>
  <Override PartName="/ppt/media/image7.gif" ContentType="image/gif"/>
  <Override PartName="/ppt/media/image52.jpeg" ContentType="image/jpeg"/>
  <Override PartName="/ppt/media/image28.png" ContentType="image/png"/>
  <Override PartName="/ppt/media/image38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47.jpeg" ContentType="image/jpe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18.jpeg" ContentType="image/jpeg"/>
  <Override PartName="/ppt/media/image57.jpeg" ContentType="image/jpeg"/>
  <Override PartName="/ppt/media/image58.jpeg" ContentType="image/jpeg"/>
  <Override PartName="/ppt/media/image39.jpeg" ContentType="image/jpeg"/>
  <Override PartName="/ppt/media/image34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540E-31FC-4B35-90ED-CF0C4DED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8183-DD92-4070-ADDB-267E2215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E4F0-4090-4C63-A9B8-4DD2F705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7B1-7B40-497A-B640-835482FD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AD69-0898-4959-B84D-2A126B1B1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ECA8-35CA-4401-A33E-C2114C87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F43-AA18-49C6-9286-DBDABA522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4F6E-F9FE-443A-B7AF-506D18F9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741-6174-4DD7-A9F5-45B47E98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478-F408-49CF-AC51-756C091D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CF3D-52EB-4FEC-86E7-50064FA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3C4-4C76-48ED-866A-6EE65392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B452-B2A8-4305-96A5-EFB3C3DF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99"/>
                </a:solidFill>
                <a:latin typeface="Arial"/>
              </a:rPr>
              <a:t>Собака – верный друг человека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19640" y="404640"/>
            <a:ext cx="5184720" cy="59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3716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айт-терь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Собака – верный дру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29718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ёс по-собачьи предан люд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 все века, и пото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авайте относиться буд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-человечески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10080" y="2033640"/>
            <a:ext cx="3124440" cy="27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0" r="49216" b="51413"/>
          <a:stretch/>
        </p:blipFill>
        <p:spPr>
          <a:xfrm>
            <a:off x="250920" y="3068640"/>
            <a:ext cx="4978440" cy="3527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851280" y="260280"/>
            <a:ext cx="5040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49618" r="49994" b="0"/>
          <a:stretch/>
        </p:blipFill>
        <p:spPr>
          <a:xfrm>
            <a:off x="900000" y="649440"/>
            <a:ext cx="734400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63749" t="0" r="0" b="30749"/>
          <a:stretch/>
        </p:blipFill>
        <p:spPr>
          <a:xfrm>
            <a:off x="1835280" y="404640"/>
            <a:ext cx="43862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476360" y="333360"/>
            <a:ext cx="44164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51924" r="52054" b="0"/>
          <a:stretch/>
        </p:blipFill>
        <p:spPr>
          <a:xfrm>
            <a:off x="539640" y="444600"/>
            <a:ext cx="799308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725560" y="260280"/>
            <a:ext cx="39164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92240" y="260280"/>
            <a:ext cx="51595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Кинол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4648320"/>
            <a:ext cx="5562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Я по профессии просто киноло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Другими словам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Собаковед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00480" y="1295280"/>
            <a:ext cx="4038480" cy="30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03600" y="260280"/>
            <a:ext cx="6249960" cy="62643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24000" y="335772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Хендл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719360" y="260280"/>
            <a:ext cx="5705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440" y="157320"/>
            <a:ext cx="4152960" cy="6543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4800600" y="152280"/>
            <a:ext cx="4229280" cy="6553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427640" y="32846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45" dur="1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724280" y="503280"/>
            <a:ext cx="3911760" cy="574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07960" y="533520"/>
            <a:ext cx="38019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921120" cy="5851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876920" y="304920"/>
            <a:ext cx="388620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57200" y="457200"/>
            <a:ext cx="3733920" cy="5867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533520"/>
            <a:ext cx="4094280" cy="579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3687840" cy="5486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52880" y="533520"/>
            <a:ext cx="36576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909960" cy="6096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876920" y="380880"/>
            <a:ext cx="388620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3668760" cy="54864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52880" y="380880"/>
            <a:ext cx="3886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620120" cy="533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95360" y="669960"/>
            <a:ext cx="8153280" cy="551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95360" y="530280"/>
            <a:ext cx="8153280" cy="57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17680" y="503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7880" y="507960"/>
            <a:ext cx="7788240" cy="584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120" y="3430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5032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7680" y="503280"/>
            <a:ext cx="816912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15328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1536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468468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48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00280" y="59832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57320" y="619200"/>
            <a:ext cx="740088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7680" y="503280"/>
            <a:ext cx="780228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" y="531720"/>
            <a:ext cx="8229600" cy="53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457200"/>
            <a:ext cx="7772400" cy="60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69960" y="503280"/>
            <a:ext cx="7802640" cy="58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Породы соба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71680" y="1600200"/>
            <a:ext cx="7696080" cy="4794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822680" cy="2698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486400" y="2286000"/>
            <a:ext cx="1809720" cy="27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Породы соба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84720" y="2565360"/>
            <a:ext cx="2210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464000" cy="5826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67400" y="333360"/>
            <a:ext cx="44766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4195440" cy="5354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4262400" cy="54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38120" y="836640"/>
            <a:ext cx="4278240" cy="56228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716360" y="836640"/>
            <a:ext cx="42912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07:56:31Z</dcterms:created>
  <dc:creator>User</dc:creator>
  <dc:description/>
  <dc:language>en-US</dc:language>
  <cp:lastModifiedBy>Уткин</cp:lastModifiedBy>
  <dcterms:modified xsi:type="dcterms:W3CDTF">2008-05-20T03:39:22Z</dcterms:modified>
  <cp:revision>7</cp:revision>
  <dc:subject/>
  <dc:title>Собака – верный друг человека</dc:title>
</cp:coreProperties>
</file>