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F09-9B22-4450-B459-41A3B0C2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A7F-F5D7-4FD1-B817-9AE6CBF9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A7338-4F8E-4BDA-81F7-BFE41ED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7A49-49A6-4531-876B-67D8750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02300-C24A-4404-8A58-2F0AEBA1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01B4-A565-4AB3-B2E4-CDAF937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145A6-C4A4-4BB9-B719-D59B291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B5105-EE3F-42C4-ADE1-B446A95D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B67EC-64AE-4A30-9E0C-0EB3A1D1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F67B7-E5C5-4C53-AA07-2A310D6D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EA8FA-123F-412E-9D9A-61D9856F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FB3-D1C3-4C99-BECC-D90969F7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BF7-3FA5-408F-B8A3-2923C684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4651-9294-40BD-B813-780D879E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3096-D9B7-42AA-9A33-EB629226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66CA-05CA-4493-BF27-B570AA2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B8AE-590C-44E7-95FD-99A61A8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693-9804-4F69-A638-05D1DE1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E5C9-149C-4956-98BA-BC71C77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C86-64C0-4599-A58E-6FD30F67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184-DE22-4D7F-BB2C-A1C0F60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327-7ECE-4EC0-A66B-34F994E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F224-A855-4705-AAD9-216E7AD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DC26-0897-45BF-9D06-DE475BC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014E-31B5-4C8A-A09A-03C6F6AD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A421-D5D9-474A-A124-FD5AAFB0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E2E6-C9FD-4D33-939C-607249D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6C1C-C6D3-4289-8CA3-1C38962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3219-D496-4604-9F3E-98D5A004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D95E-9F38-4BBE-874A-D2F95CFD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90EC-6338-446D-A927-D87328C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215-8620-460A-8F13-C13BF932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FF85-DE9E-4CAE-8A3B-BC8F5329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62DB-3CFA-4524-A765-2E7ADBC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C17E-3FA3-43CE-9F84-01A3A53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E199-2ED6-4721-B631-296B050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0FC0-610F-439D-9DC4-ECA6A19E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56C4-A155-4C49-B94B-89FA43C7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4BEF-B9D6-4A2E-A200-C13FD631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B1EA-8EF5-4E0E-AE76-2B5B107F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3E39-4660-412B-90F0-E677478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F0F3-80A7-4E39-BE94-518B2048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982-AC81-4F8F-8211-EF50D19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A012-3FF3-4634-9192-115763DC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F5BA-18C0-490A-B8C1-20464EF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0A0F-2B95-4189-8208-0E71FBA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EEE5-254E-4F7E-9EB0-1D65A7A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0547-8908-445B-A07C-32B2B20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4C4C-BC65-4813-835C-D35CA31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9691-C4B9-48B3-BC8F-9BA939BD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DA52-138C-4982-BCEC-35F73872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A257-404F-49A7-8DC3-69EA646F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8F59-E959-4D4F-AD13-B061DD4F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4E1-88AA-4C1F-B410-5D62D2D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8283-9295-4640-BDBB-98E00C3B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4E56-26EB-457C-B51E-48A66CE2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5EDA-8379-4429-B710-CDED216F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0B6E-7782-45FE-9C43-5A8F168F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AD1B-EED0-4E95-A460-F29A4521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F160-6C7E-4B58-BBA6-B8A66CB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1E9F-747F-4222-9EAF-A44B6A8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6D105-7A2B-4A64-9697-E412772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35F3-249F-4063-A8B9-0270074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907D-C3AF-40B0-9BC6-132731ED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81B-5127-4688-9057-930F9FE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0CD4-4514-4FD8-9E58-CDB7AC1A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812AB-1566-4D1F-99F7-64E22206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F01F-67BF-420F-8C05-2B664204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52AE0-E0B3-4A95-8AB3-A44B9DDE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40EE-4283-426D-BDD3-4E9B3D3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D847-96C2-4245-8816-889AF689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031E-4CBE-4445-8286-79912E88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B47F-643F-4C07-8400-E675532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C8DD-3162-4D6F-8E5A-076BC55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078D-C396-46F5-B1A5-0D7F7EB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A4C-CE30-4385-801D-6D05C6F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F2E1-47CD-4CFF-BFAC-5D3098B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97FE-F027-4660-B5AB-39F1BCCC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ADB7-083C-4FFC-B949-DDB8F347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D1C2C-AEAC-4FD6-99DE-6726C63B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11A78-C5AD-411E-83B0-FAAEDCD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4F5F-994A-46F8-BCF4-C9C39D4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D78E-940B-486E-A70F-D16914C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D4ECC-BC50-4F23-8CDE-67F3676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5DEB-E2C0-486B-ABB7-5DAE338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834F-2AC3-48BB-A339-D0AD73D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70E-76F8-43DF-93BF-EC001DE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7A07D-BBAE-436F-9301-2BDF7DD2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1885-BCBC-4805-9F6F-A60A53A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F40CE-20B7-47FE-8EA4-ACEC1282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F1BD-CCB2-4C69-BAA7-2532AAF4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861E-13D0-41D8-A0AD-F5D23C3B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E8A8-7211-4C03-9CD5-2739A7AC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DEA3A-F419-4EA5-B831-3BE5C86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83746-74AE-48EC-B0B7-21A28E41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82F0-90B7-4FB1-AF6D-BC90F8F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4FF19-64C6-4289-91ED-18FF6C5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588-F687-4356-9E2F-8C5C1E7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B07B8-79F6-423E-84A8-48F9E8A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3E4D-300F-4C08-83B1-F4E5BE0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7043-F664-4D64-BC6D-3872101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432DA-E79C-43EF-AF82-6E75263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915A-659D-4771-BDEE-EEA4569C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E6777-6D42-4150-A991-4A705EDC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F0BCE-8610-4E77-945E-25937D9A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1FB25-DF30-4122-BA95-5977684D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17885-882E-47C6-A00D-2431188A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F7F5-C9AF-4414-B292-705A11C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676-5BB0-4ECF-B698-E4DFE3935D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892-1CC2-4A55-B6FB-D26E64E9C9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0FBA-6CE6-4548-A933-63A952DD76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29C-B3E3-49FC-9D16-F48E8C6789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C52-BA6E-4AF8-A597-C98E700F15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6DC-40D9-4A63-B941-9871872C1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6AB4-A46D-4082-A650-45D58F363E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036B-FC7F-4C26-8516-C082647667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4BE9-CFAE-4DB6-A32D-25BB1652B9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4" descr="сканирование0012.jpg"/>
          <p:cNvPicPr/>
          <p:nvPr/>
        </p:nvPicPr>
        <p:blipFill>
          <a:blip r:embed="rId1"/>
          <a:stretch/>
        </p:blipFill>
        <p:spPr>
          <a:xfrm>
            <a:off x="571680" y="214200"/>
            <a:ext cx="8072280" cy="464508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706320" y="420840"/>
            <a:ext cx="8529840" cy="20844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6357960" y="614376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МОУ СОШ № 1 г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ханск, Пермский кра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Содержимое 4" descr="scheme_05sh0028i.bmp"/>
          <p:cNvPicPr/>
          <p:nvPr/>
        </p:nvPicPr>
        <p:blipFill>
          <a:blip r:embed="rId1"/>
          <a:stretch/>
        </p:blipFill>
        <p:spPr>
          <a:xfrm>
            <a:off x="1214280" y="1571760"/>
            <a:ext cx="3780000" cy="4357440"/>
          </a:xfrm>
          <a:prstGeom prst="rect">
            <a:avLst/>
          </a:prstGeom>
          <a:ln w="0">
            <a:noFill/>
          </a:ln>
        </p:spPr>
      </p:pic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219240" y="60480"/>
            <a:ext cx="8845560" cy="158580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5214960" y="1928880"/>
            <a:ext cx="328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ahoma"/>
              </a:rPr>
              <a:t>О-горизонт — верхний почвенный горизонт, состоящий из листьев и вето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756525"/>
                </a:solidFill>
                <a:latin typeface="Tahoma"/>
              </a:rPr>
              <a:t>А-горизонт — гниющая подстил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ahoma"/>
              </a:rPr>
              <a:t>В-горизонт — слой, насыщенный разлагающимися органическими веществами, пахотный слой и подпочв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Tahoma"/>
              </a:rPr>
              <a:t>С-горизонт — облом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Управляющая кнопка: назад 7"/>
          <p:cNvSpPr/>
          <p:nvPr/>
        </p:nvSpPr>
        <p:spPr>
          <a:xfrm>
            <a:off x="7572240" y="6215040"/>
            <a:ext cx="571680" cy="28584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10800"/>
                </a:moveTo>
                <a:lnTo>
                  <a:pt x="28593" y="3794"/>
                </a:lnTo>
                <a:lnTo>
                  <a:pt x="28593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56525"/>
                </a:solidFill>
                <a:latin typeface="Lucida Sans Unicode"/>
              </a:rPr>
              <a:t>Ценность почвы – продукты питания и сырьё для промышленности, экологическая роль в жизни биосфе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3" descr="сканирование0009.jpg"/>
          <p:cNvPicPr/>
          <p:nvPr/>
        </p:nvPicPr>
        <p:blipFill>
          <a:blip r:embed="rId2"/>
          <a:stretch/>
        </p:blipFill>
        <p:spPr>
          <a:xfrm>
            <a:off x="5286240" y="2500200"/>
            <a:ext cx="3571920" cy="4070520"/>
          </a:xfrm>
          <a:prstGeom prst="rect">
            <a:avLst/>
          </a:prstGeom>
          <a:ln w="0">
            <a:noFill/>
          </a:ln>
        </p:spPr>
      </p:pic>
      <p:sp>
        <p:nvSpPr>
          <p:cNvPr id="450" name="Управляющая кнопка: назад 4"/>
          <p:cNvSpPr/>
          <p:nvPr/>
        </p:nvSpPr>
        <p:spPr>
          <a:xfrm>
            <a:off x="7929720" y="6286680"/>
            <a:ext cx="642960" cy="28548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8614" h="21600">
                <a:moveTo>
                  <a:pt x="0" y="0"/>
                </a:moveTo>
                <a:lnTo>
                  <a:pt x="48614" y="0"/>
                </a:lnTo>
                <a:lnTo>
                  <a:pt x="48614" y="21600"/>
                </a:lnTo>
                <a:lnTo>
                  <a:pt x="0" y="21600"/>
                </a:lnTo>
                <a:close/>
              </a:path>
              <a:path fill="lightenLess" w="48614" h="21600">
                <a:moveTo>
                  <a:pt x="0" y="0"/>
                </a:moveTo>
                <a:lnTo>
                  <a:pt x="48614" y="0"/>
                </a:lnTo>
                <a:lnTo>
                  <a:pt x="47214" y="1400"/>
                </a:lnTo>
                <a:lnTo>
                  <a:pt x="1400" y="1400"/>
                </a:lnTo>
                <a:close/>
              </a:path>
              <a:path fill="darken" w="48614" h="21600">
                <a:moveTo>
                  <a:pt x="48614" y="0"/>
                </a:moveTo>
                <a:lnTo>
                  <a:pt x="48614" y="21600"/>
                </a:lnTo>
                <a:lnTo>
                  <a:pt x="47214" y="20200"/>
                </a:lnTo>
                <a:lnTo>
                  <a:pt x="47214" y="1400"/>
                </a:lnTo>
                <a:close/>
              </a:path>
              <a:path fill="darkenLess" w="48614" h="21600">
                <a:moveTo>
                  <a:pt x="48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14" y="20200"/>
                </a:lnTo>
                <a:close/>
              </a:path>
              <a:path fill="lighten" w="48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14" h="21600">
                <a:moveTo>
                  <a:pt x="17300" y="10800"/>
                </a:moveTo>
                <a:lnTo>
                  <a:pt x="31313" y="3794"/>
                </a:lnTo>
                <a:lnTo>
                  <a:pt x="31313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068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Lucida Sans Unicode"/>
              </a:rPr>
              <a:t>Презентацию создали ученики 4 «В» класс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800000"/>
                </a:solidFill>
                <a:latin typeface="Lucida Sans Unicode"/>
              </a:rPr>
              <a:t>Нисов Арт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800000"/>
                </a:solidFill>
                <a:latin typeface="Lucida Sans Unicode"/>
              </a:rPr>
              <a:t>Нечаев Александ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хема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302320" cy="6113160"/>
          </a:xfrm>
          <a:prstGeom prst="rect">
            <a:avLst/>
          </a:prstGeom>
          <a:ln w="0">
            <a:noFill/>
          </a:ln>
        </p:spPr>
      </p:pic>
      <p:sp>
        <p:nvSpPr>
          <p:cNvPr id="421" name="Управляющая кнопка: назад 2">
            <a:hlinkClick r:id="" action="ppaction://hlinkshowjump?jump=lastslide"/>
          </p:cNvPr>
          <p:cNvSpPr/>
          <p:nvPr/>
        </p:nvSpPr>
        <p:spPr>
          <a:xfrm>
            <a:off x="7786800" y="6143760"/>
            <a:ext cx="828720" cy="357120"/>
          </a:xfrm>
          <a:custGeom>
            <a:avLst/>
            <a:gdLst>
              <a:gd name="textAreaLeft" fmla="*/ 23040 w 828720"/>
              <a:gd name="textAreaRight" fmla="*/ 805680 w 8287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0095" h="21600">
                <a:moveTo>
                  <a:pt x="0" y="0"/>
                </a:moveTo>
                <a:lnTo>
                  <a:pt x="50095" y="0"/>
                </a:lnTo>
                <a:lnTo>
                  <a:pt x="50095" y="21600"/>
                </a:lnTo>
                <a:lnTo>
                  <a:pt x="0" y="21600"/>
                </a:lnTo>
                <a:close/>
              </a:path>
              <a:path fill="lightenLess" w="50095" h="21600">
                <a:moveTo>
                  <a:pt x="0" y="0"/>
                </a:moveTo>
                <a:lnTo>
                  <a:pt x="50095" y="0"/>
                </a:lnTo>
                <a:lnTo>
                  <a:pt x="48695" y="1400"/>
                </a:lnTo>
                <a:lnTo>
                  <a:pt x="1400" y="1400"/>
                </a:lnTo>
                <a:close/>
              </a:path>
              <a:path fill="darken" w="50095" h="21600">
                <a:moveTo>
                  <a:pt x="50095" y="0"/>
                </a:moveTo>
                <a:lnTo>
                  <a:pt x="50095" y="21600"/>
                </a:lnTo>
                <a:lnTo>
                  <a:pt x="48695" y="20200"/>
                </a:lnTo>
                <a:lnTo>
                  <a:pt x="48695" y="1400"/>
                </a:lnTo>
                <a:close/>
              </a:path>
              <a:path fill="darkenLess" w="50095" h="21600">
                <a:moveTo>
                  <a:pt x="50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95" y="20200"/>
                </a:lnTo>
                <a:close/>
              </a:path>
              <a:path fill="lighten" w="50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095" h="21600">
                <a:moveTo>
                  <a:pt x="18041" y="10800"/>
                </a:moveTo>
                <a:lnTo>
                  <a:pt x="32054" y="3794"/>
                </a:lnTo>
                <a:lnTo>
                  <a:pt x="32054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56525"/>
                </a:solidFill>
                <a:latin typeface="Lucida Sans Unicode"/>
              </a:rPr>
              <a:t>Почва состоит из </a:t>
            </a:r>
            <a:r>
              <a:rPr b="0" lang="en-US" sz="4400" spc="-1" strike="noStrike">
                <a:solidFill>
                  <a:srgbClr val="756525"/>
                </a:solidFill>
                <a:latin typeface="Lucida Sans Unicode"/>
              </a:rPr>
              <a:t>грунта</a:t>
            </a:r>
            <a:r>
              <a:rPr b="0" lang="en-US" sz="4000" spc="-1" strike="noStrike">
                <a:solidFill>
                  <a:srgbClr val="756525"/>
                </a:solidFill>
                <a:latin typeface="Lucida Sans Unicod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56525"/>
                </a:solidFill>
                <a:latin typeface="Lucida Sans Unicode"/>
              </a:rPr>
              <a:t>перегноя, останков животных и растени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Picture 19" descr="ABSC003"/>
          <p:cNvPicPr/>
          <p:nvPr/>
        </p:nvPicPr>
        <p:blipFill>
          <a:blip r:embed="rId2"/>
          <a:stretch/>
        </p:blipFill>
        <p:spPr>
          <a:xfrm>
            <a:off x="4648320" y="233676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425" name="Управляющая кнопка: назад 7"/>
          <p:cNvSpPr/>
          <p:nvPr/>
        </p:nvSpPr>
        <p:spPr>
          <a:xfrm>
            <a:off x="7500960" y="6143760"/>
            <a:ext cx="714240" cy="285480"/>
          </a:xfrm>
          <a:custGeom>
            <a:avLst/>
            <a:gdLst>
              <a:gd name="textAreaLeft" fmla="*/ 18360 w 714240"/>
              <a:gd name="textAreaRight" fmla="*/ 695880 w 7142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00" h="21600">
                <a:moveTo>
                  <a:pt x="19994" y="10800"/>
                </a:moveTo>
                <a:lnTo>
                  <a:pt x="34006" y="3794"/>
                </a:lnTo>
                <a:lnTo>
                  <a:pt x="34006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8" descr="сканирование0010.jpg"/>
          <p:cNvPicPr/>
          <p:nvPr/>
        </p:nvPicPr>
        <p:blipFill>
          <a:blip r:embed="rId1"/>
          <a:stretch/>
        </p:blipFill>
        <p:spPr>
          <a:xfrm>
            <a:off x="4940280" y="1714680"/>
            <a:ext cx="3865680" cy="3857400"/>
          </a:xfrm>
          <a:prstGeom prst="rect">
            <a:avLst/>
          </a:prstGeom>
          <a:ln w="0">
            <a:noFill/>
          </a:ln>
        </p:spPr>
      </p:pic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3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6525"/>
                </a:solidFill>
                <a:latin typeface="Lucida Sans Unicode"/>
              </a:rPr>
              <a:t>Почва – это верхний плодородный слой земли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Управляющая кнопка: назад 9"/>
          <p:cNvSpPr/>
          <p:nvPr/>
        </p:nvSpPr>
        <p:spPr>
          <a:xfrm>
            <a:off x="757224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6" descr="pd_047.bmp"/>
          <p:cNvPicPr/>
          <p:nvPr/>
        </p:nvPicPr>
        <p:blipFill>
          <a:blip r:embed="rId1"/>
          <a:stretch/>
        </p:blipFill>
        <p:spPr>
          <a:xfrm>
            <a:off x="500040" y="2000160"/>
            <a:ext cx="2500200" cy="2782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214800" y="1643040"/>
            <a:ext cx="5643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56525"/>
                </a:solidFill>
                <a:latin typeface="Lucida Sans Unicode"/>
              </a:rPr>
              <a:t>Русский учёны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56525"/>
                </a:solidFill>
                <a:latin typeface="Lucida Sans Unicode"/>
              </a:rPr>
              <a:t>  </a:t>
            </a:r>
            <a:r>
              <a:rPr b="0" lang="en-US" sz="4000" spc="-1" strike="noStrike">
                <a:solidFill>
                  <a:srgbClr val="756525"/>
                </a:solidFill>
                <a:latin typeface="Lucida Sans Unicode"/>
              </a:rPr>
              <a:t>В. В. Докучаев назвал почву </a:t>
            </a:r>
            <a:r>
              <a:rPr b="1" i="1" lang="en-US" sz="4800" spc="-1" strike="noStrike" u="sng">
                <a:solidFill>
                  <a:srgbClr val="756525"/>
                </a:solidFill>
                <a:uFillTx/>
                <a:latin typeface="Lucida Sans Unicode"/>
              </a:rPr>
              <a:t>«живое – мёртвое тело»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sp>
        <p:nvSpPr>
          <p:cNvPr id="433" name="Управляющая кнопка: назад 7"/>
          <p:cNvSpPr/>
          <p:nvPr/>
        </p:nvSpPr>
        <p:spPr>
          <a:xfrm>
            <a:off x="7715160" y="60008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6525"/>
                </a:solidFill>
                <a:latin typeface="Lucida Sans Unicode"/>
              </a:rPr>
              <a:t>Почву различают по её плодородию и по цвету 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6525"/>
                </a:solidFill>
                <a:latin typeface="Lucida Sans Unicode"/>
              </a:rPr>
              <a:t>глинисто – каменистая ;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6525"/>
                </a:solidFill>
                <a:latin typeface="Lucida Sans Unicode"/>
              </a:rPr>
              <a:t>чернозём южный;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6525"/>
                </a:solidFill>
                <a:latin typeface="Lucida Sans Unicode"/>
              </a:rPr>
              <a:t> </a:t>
            </a:r>
            <a:r>
              <a:rPr b="0" lang="ru-RU" sz="4400" spc="-1" strike="noStrike">
                <a:solidFill>
                  <a:srgbClr val="756525"/>
                </a:solidFill>
                <a:latin typeface="Lucida Sans Unicode"/>
              </a:rPr>
              <a:t>дерново – подзолистая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7296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9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назад 6"/>
          <p:cNvSpPr/>
          <p:nvPr/>
        </p:nvSpPr>
        <p:spPr>
          <a:xfrm>
            <a:off x="7715160" y="6286680"/>
            <a:ext cx="571680" cy="28548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6525"/>
                </a:solidFill>
                <a:latin typeface="Lucida Sans Unicode"/>
              </a:rPr>
              <a:t>Мельчайшие живые организмы (микробы, бактерии),выделяя особые вещества, разрушали грунт. Со временем живые организмы умирали. Перегнившие остатки живых организмов образовывали питательное вещество – перегной. Процесс образования почв ускорился с появлением зелёных растений и животных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9" descr="ABSC003"/>
          <p:cNvPicPr/>
          <p:nvPr/>
        </p:nvPicPr>
        <p:blipFill>
          <a:blip r:embed="rId1"/>
          <a:stretch/>
        </p:blipFill>
        <p:spPr>
          <a:xfrm>
            <a:off x="1214280" y="2714760"/>
            <a:ext cx="6793200" cy="302400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1071720" y="85716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56525"/>
                </a:solidFill>
                <a:latin typeface="Tahoma"/>
              </a:rPr>
              <a:t>За 300 лет образуетс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56525"/>
                </a:solidFill>
                <a:latin typeface="Tahoma"/>
              </a:rPr>
              <a:t>около 1 см. почв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Управляющая кнопка: назад 6"/>
          <p:cNvSpPr/>
          <p:nvPr/>
        </p:nvSpPr>
        <p:spPr>
          <a:xfrm>
            <a:off x="7715160" y="6286680"/>
            <a:ext cx="571680" cy="28548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ceb966"/>
          </a:solidFill>
          <a:ln w="55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7:26:06Z</dcterms:created>
  <dc:creator>Нисов Артем</dc:creator>
  <dc:description/>
  <dc:language>en-US</dc:language>
  <cp:lastModifiedBy>Уткин</cp:lastModifiedBy>
  <dcterms:modified xsi:type="dcterms:W3CDTF">2008-06-17T05:09:37Z</dcterms:modified>
  <cp:revision>27</cp:revision>
  <dc:subject/>
  <dc:title>Слайд 1</dc:title>
</cp:coreProperties>
</file>