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254F-908B-456D-8451-59766C00A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FC26-15EC-487A-9B9B-E0D0703A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C203-CF21-40D2-BFB6-83A683219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66C3-0E6F-426F-8A3C-4EC2DF6A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29A2-901D-4FB5-A663-D4B595636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7FC-4BE2-4291-BD1B-A9ABA727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D68-3D20-4947-9AC2-05D391B40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A6C-F89D-45FE-84BE-8CF1AEB0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9732-932F-4A0C-8FF5-F1E16BE7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2ECD-077C-4FF8-BD11-6D5489BA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D83E-ACB7-41DC-A478-998294D8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5F2B-7A4A-4CD9-900A-2477CD1F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0A53-E44D-4008-BEC8-E5F4A850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1699920"/>
            <a:ext cx="878544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Мы строим предложения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belkai"/>
          <p:cNvPicPr/>
          <p:nvPr/>
        </p:nvPicPr>
        <p:blipFill>
          <a:blip r:embed="rId1"/>
          <a:stretch/>
        </p:blipFill>
        <p:spPr>
          <a:xfrm>
            <a:off x="1285920" y="0"/>
            <a:ext cx="616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кобелкаживётвлесупкт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стонабпитаетсявоорехамилп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амятьфнулбелкижщхорош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972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4"/>
          <p:cNvSpPr txBox="1"/>
          <p:nvPr/>
        </p:nvSpPr>
        <p:spPr>
          <a:xfrm>
            <a:off x="1332000" y="1125360"/>
            <a:ext cx="705636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22320">
                  <a:solidFill>
                    <a:srgbClr val="ccffcc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ЛОДЦЫ</a:t>
            </a:r>
            <a:endParaRPr b="0" lang="en-US" sz="7200" spc="1" strike="noStrike">
              <a:ln w="22320">
                <a:solidFill>
                  <a:srgbClr val="ccffcc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989000"/>
            <a:ext cx="9144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я ё ы е ю и я ё е ю 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83664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С с) ерёж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П п) оэ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Н н) икол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К к) 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А а) нто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05520" y="907920"/>
            <a:ext cx="403848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М м) ихаи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К к) о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Ё ё) ж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П п) оэ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(Л л) ыж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1268280"/>
            <a:ext cx="866160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к хорошо уметь чит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916280"/>
            <a:ext cx="8229600" cy="24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нигиберувбиблиотеке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413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Я люблю читать книги 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07172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ак хорошо уметь читать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нигиберувбиблиотеке.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Я люблю читать книги о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45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ак хорошо уметь читать!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Книги  беру в библиотеке.</a:t>
            </a:r>
            <a:br>
              <a:rPr sz="5400"/>
            </a:br>
            <a:br>
              <a:rPr sz="5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 люблю читать книги о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00cc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Хожу в пушистой шубе,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Живу в густом лесу.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В дупле на старом дубе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Орешки я грызу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6:33:31Z</dcterms:created>
  <dc:creator>я</dc:creator>
  <dc:description/>
  <dc:language>en-US</dc:language>
  <cp:lastModifiedBy>Metod_2</cp:lastModifiedBy>
  <dcterms:modified xsi:type="dcterms:W3CDTF">2008-12-29T07:03:41Z</dcterms:modified>
  <cp:revision>14</cp:revision>
  <dc:subject/>
  <dc:title>Мы строим предложения.</dc:title>
</cp:coreProperties>
</file>