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6F0-9860-466B-9219-BCCA2B62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23E-0E98-486C-83F5-DEE3ACB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00A-72A2-47B6-9006-ED7BDD19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912-EC57-4D87-8657-DCC2B322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A53-C8C3-491A-874D-7502CF34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AA6-6AE9-4B7A-B347-EC6C50B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06C-1952-483D-8CC9-04416CE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A03-97D5-4281-A4DA-469E6FE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C0A-3B80-49B6-83D6-68B4C7D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156-98C0-4344-9380-4F2E6C3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88B-72AC-4165-86DF-EDCB729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29F-1274-4539-886A-0E31E24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EE08-3325-4DE5-ACB1-6B08E341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5621400"/>
            <a:ext cx="1015920" cy="193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4680000"/>
            <a:ext cx="189864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00720" y="5580000"/>
            <a:ext cx="1576440" cy="19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79640" y="5440320"/>
            <a:ext cx="123516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0360" y="3060720"/>
            <a:ext cx="7019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680" y="31680"/>
            <a:ext cx="178596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22600" y="1979640"/>
            <a:ext cx="3138480" cy="37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940360" y="3419640"/>
            <a:ext cx="1440000" cy="15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2228760" cy="223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80000" y="1917720"/>
            <a:ext cx="539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79640" y="1260360"/>
            <a:ext cx="2340000" cy="2671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879640" y="1374840"/>
            <a:ext cx="2340000" cy="24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879640" y="1187280"/>
            <a:ext cx="334332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0000" y="2160720"/>
            <a:ext cx="5396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2160720"/>
            <a:ext cx="5396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2160720"/>
            <a:ext cx="5396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40720" y="306072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80360" y="395928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0360" y="611964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9640" y="611964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2340000" cy="288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60360" y="1254240"/>
            <a:ext cx="685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0360" y="1665360"/>
            <a:ext cx="10810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9640" y="1665360"/>
            <a:ext cx="10814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0360" y="179280"/>
            <a:ext cx="2340000" cy="28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1123920"/>
            <a:ext cx="28796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0000" y="2340000"/>
            <a:ext cx="8459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ихо                зап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охот              охота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орошо           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рма              сти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ек                   ех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имия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2340000" cy="287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ткин</cp:lastModifiedBy>
  <dcterms:modified xsi:type="dcterms:W3CDTF">2008-06-17T05:50:14Z</dcterms:modified>
  <cp:revision>3</cp:revision>
  <dc:subject/>
  <dc:title>Слайд 1</dc:title>
</cp:coreProperties>
</file>