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3A3A-343B-4CDB-AD00-81793A0A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E2F7-E108-4A79-9FFF-DE288530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22BD-2D37-4662-8C02-17778682B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787F-580B-4599-828E-D02616759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2261-32D0-4304-941A-70081201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6C03-0DC7-444D-B305-04497561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AA55-F5FB-490E-B567-FAEEE046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F996-B423-4D6B-B9EC-A732CE73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3662-8211-4B4A-B1BB-52154BB2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84ED-C007-40B5-A9F7-5559CEA1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AA04-7519-49E2-8135-1C85BDB7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B853-8F1F-4E52-8054-B5CB1207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5691-DFC0-415F-8A94-B0D313D2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2D29-E682-4E55-ABB0-4BEB2DA7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64AE-44C9-4FC9-A554-49DFD427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8D59-CF19-42F3-BB3C-40AB7E0E2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2972-14E7-4994-B8D7-0B4AF1BC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3D71-EFFC-4C58-BBDD-8EE0BCCE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339A-553B-43B7-ACD8-69CC2E31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537A-D488-4A0E-857D-1C7F055D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4C84-B534-4BDF-920E-C99B0C38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0366-7106-4BFE-A8C4-609B3E32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C2F6-4262-42B7-BEC2-19BF61A5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0CD8-F0B8-4ED0-B833-FA7D45EA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3D57-9F7F-477C-8482-A62AF0ACF35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F771-B9FB-4BDE-922B-127F0ACB463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5562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743200" y="5410080"/>
            <a:ext cx="5638680" cy="10670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елослудцева Ирина Леонид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читель начальных классов Таборской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66680" y="457200"/>
            <a:ext cx="7010640" cy="6095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Буква обычная выросла в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Выросла выше всех букв-по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Буква расти не сама захот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Букве поручено важное д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Ставится буква у строчки в нача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Чтобы начало все замеч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Имя, фамилии пишутся с не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Чтобы заметней им быть и видн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Чтобы звучали громко и горд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Имя твое, имя улицы, го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Буква большая – совсем не пустя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В букве большой уважения зна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" dur="indefinite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" dur="indefinite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523880" y="29718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81080" y="29718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29718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81280" y="29718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29718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29718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52880" y="29718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10080" y="29718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29718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29718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29718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238880" y="29718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29718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153280" y="29718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81680" y="2057400"/>
            <a:ext cx="45720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81680" y="2362320"/>
            <a:ext cx="457200" cy="304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81680" y="2666880"/>
            <a:ext cx="45720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96080" y="2057400"/>
            <a:ext cx="45720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96080" y="2362320"/>
            <a:ext cx="457200" cy="304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96080" y="2666880"/>
            <a:ext cx="45720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3962520"/>
            <a:ext cx="457200" cy="304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4267080"/>
            <a:ext cx="45720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3352680"/>
            <a:ext cx="45720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1752480"/>
            <a:ext cx="45720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38480" y="3657600"/>
            <a:ext cx="45720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3352680"/>
            <a:ext cx="45720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38480" y="2666880"/>
            <a:ext cx="45720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52880" y="3962520"/>
            <a:ext cx="457200" cy="304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52880" y="3657600"/>
            <a:ext cx="45720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447920"/>
            <a:ext cx="457200" cy="304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867280" y="2057400"/>
            <a:ext cx="45720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867280" y="2362320"/>
            <a:ext cx="457200" cy="304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2666880"/>
            <a:ext cx="45720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67280" y="3657600"/>
            <a:ext cx="45720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867280" y="3352680"/>
            <a:ext cx="45720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2057400"/>
            <a:ext cx="45720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2362320"/>
            <a:ext cx="457200" cy="304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153280" y="4267080"/>
            <a:ext cx="45720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153280" y="3962520"/>
            <a:ext cx="457200" cy="304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153280" y="3657600"/>
            <a:ext cx="45720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153280" y="3352680"/>
            <a:ext cx="45720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2666880"/>
            <a:ext cx="45720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905120"/>
            <a:ext cx="457200" cy="304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23880" y="1752480"/>
            <a:ext cx="45720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2057400"/>
            <a:ext cx="45720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23880" y="2362320"/>
            <a:ext cx="457200" cy="304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23880" y="3352680"/>
            <a:ext cx="45720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23880" y="2666880"/>
            <a:ext cx="45720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3962520"/>
            <a:ext cx="457200" cy="304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38480" y="4267080"/>
            <a:ext cx="45720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4572000"/>
            <a:ext cx="45720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3048120"/>
            <a:ext cx="152280" cy="2286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3720" y="3048120"/>
            <a:ext cx="152280" cy="2286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90920" y="3048120"/>
            <a:ext cx="152280" cy="2286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3048120"/>
            <a:ext cx="152280" cy="2286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3048120"/>
            <a:ext cx="152280" cy="2286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934320" y="3048120"/>
            <a:ext cx="152280" cy="2286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91520" y="3048120"/>
            <a:ext cx="152280" cy="2286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3048120"/>
            <a:ext cx="152280" cy="2286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305920" y="3048120"/>
            <a:ext cx="152280" cy="2286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3048120"/>
            <a:ext cx="152280" cy="2286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3048120"/>
            <a:ext cx="152280" cy="2286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48320" y="3048120"/>
            <a:ext cx="152280" cy="2286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05520" y="3048120"/>
            <a:ext cx="152280" cy="2286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91120" y="3048120"/>
            <a:ext cx="152280" cy="2286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2743200"/>
            <a:ext cx="152280" cy="228600"/>
          </a:xfrm>
          <a:prstGeom prst="rect">
            <a:avLst/>
          </a:prstGeom>
          <a:solidFill>
            <a:srgbClr val="8ee7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96080" y="3352680"/>
            <a:ext cx="45720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19920" y="1523880"/>
            <a:ext cx="152280" cy="228600"/>
          </a:xfrm>
          <a:prstGeom prst="rect">
            <a:avLst/>
          </a:prstGeom>
          <a:solidFill>
            <a:srgbClr val="8ee7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19920" y="3429000"/>
            <a:ext cx="152280" cy="228600"/>
          </a:xfrm>
          <a:prstGeom prst="rect">
            <a:avLst/>
          </a:prstGeom>
          <a:solidFill>
            <a:srgbClr val="8ee7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19920" y="3733920"/>
            <a:ext cx="152280" cy="228600"/>
          </a:xfrm>
          <a:prstGeom prst="rect">
            <a:avLst/>
          </a:prstGeom>
          <a:solidFill>
            <a:srgbClr val="8ee7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91120" y="4038480"/>
            <a:ext cx="152280" cy="228600"/>
          </a:xfrm>
          <a:prstGeom prst="rect">
            <a:avLst/>
          </a:prstGeom>
          <a:solidFill>
            <a:srgbClr val="8ee7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91120" y="4648320"/>
            <a:ext cx="152280" cy="228600"/>
          </a:xfrm>
          <a:prstGeom prst="rect">
            <a:avLst/>
          </a:prstGeom>
          <a:solidFill>
            <a:srgbClr val="8ee7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19920" y="4038480"/>
            <a:ext cx="152280" cy="228600"/>
          </a:xfrm>
          <a:prstGeom prst="rect">
            <a:avLst/>
          </a:prstGeom>
          <a:solidFill>
            <a:srgbClr val="8ee7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19920" y="4343400"/>
            <a:ext cx="152280" cy="228600"/>
          </a:xfrm>
          <a:prstGeom prst="rect">
            <a:avLst/>
          </a:prstGeom>
          <a:solidFill>
            <a:srgbClr val="8ee7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05520" y="3429000"/>
            <a:ext cx="152280" cy="228600"/>
          </a:xfrm>
          <a:prstGeom prst="rect">
            <a:avLst/>
          </a:prstGeom>
          <a:solidFill>
            <a:srgbClr val="8ee7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05520" y="3733920"/>
            <a:ext cx="152280" cy="228600"/>
          </a:xfrm>
          <a:prstGeom prst="rect">
            <a:avLst/>
          </a:prstGeom>
          <a:solidFill>
            <a:srgbClr val="8ee7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05520" y="4038480"/>
            <a:ext cx="152280" cy="228600"/>
          </a:xfrm>
          <a:prstGeom prst="rect">
            <a:avLst/>
          </a:prstGeom>
          <a:solidFill>
            <a:srgbClr val="8ee7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191120" y="4343400"/>
            <a:ext cx="152280" cy="228600"/>
          </a:xfrm>
          <a:prstGeom prst="rect">
            <a:avLst/>
          </a:prstGeom>
          <a:solidFill>
            <a:srgbClr val="8ee7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3733920"/>
            <a:ext cx="152280" cy="228600"/>
          </a:xfrm>
          <a:prstGeom prst="rect">
            <a:avLst/>
          </a:prstGeom>
          <a:solidFill>
            <a:srgbClr val="8ee7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91120" y="3429000"/>
            <a:ext cx="152280" cy="228600"/>
          </a:xfrm>
          <a:prstGeom prst="rect">
            <a:avLst/>
          </a:prstGeom>
          <a:solidFill>
            <a:srgbClr val="8ee7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91120" y="2743200"/>
            <a:ext cx="152280" cy="228600"/>
          </a:xfrm>
          <a:prstGeom prst="rect">
            <a:avLst/>
          </a:prstGeom>
          <a:solidFill>
            <a:srgbClr val="8ee7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90920" y="2133720"/>
            <a:ext cx="152280" cy="228600"/>
          </a:xfrm>
          <a:prstGeom prst="rect">
            <a:avLst/>
          </a:prstGeom>
          <a:solidFill>
            <a:srgbClr val="8ee7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2438280"/>
            <a:ext cx="152280" cy="228600"/>
          </a:xfrm>
          <a:prstGeom prst="rect">
            <a:avLst/>
          </a:prstGeom>
          <a:solidFill>
            <a:srgbClr val="8ee7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2743200"/>
            <a:ext cx="152280" cy="228600"/>
          </a:xfrm>
          <a:prstGeom prst="rect">
            <a:avLst/>
          </a:prstGeom>
          <a:solidFill>
            <a:srgbClr val="8ee7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1828800"/>
            <a:ext cx="152280" cy="228600"/>
          </a:xfrm>
          <a:prstGeom prst="rect">
            <a:avLst/>
          </a:prstGeom>
          <a:solidFill>
            <a:srgbClr val="8ee7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2133720"/>
            <a:ext cx="152280" cy="228600"/>
          </a:xfrm>
          <a:prstGeom prst="rect">
            <a:avLst/>
          </a:prstGeom>
          <a:solidFill>
            <a:srgbClr val="8ee7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438280"/>
            <a:ext cx="152280" cy="228600"/>
          </a:xfrm>
          <a:prstGeom prst="rect">
            <a:avLst/>
          </a:prstGeom>
          <a:solidFill>
            <a:srgbClr val="8ee7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76520" y="2743200"/>
            <a:ext cx="152280" cy="228600"/>
          </a:xfrm>
          <a:prstGeom prst="rect">
            <a:avLst/>
          </a:prstGeom>
          <a:solidFill>
            <a:srgbClr val="8ee7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3429000"/>
            <a:ext cx="152280" cy="228600"/>
          </a:xfrm>
          <a:prstGeom prst="rect">
            <a:avLst/>
          </a:prstGeom>
          <a:solidFill>
            <a:srgbClr val="8ee7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9920" y="1828800"/>
            <a:ext cx="152280" cy="228600"/>
          </a:xfrm>
          <a:prstGeom prst="rect">
            <a:avLst/>
          </a:prstGeom>
          <a:solidFill>
            <a:srgbClr val="8ee7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19920" y="2133720"/>
            <a:ext cx="152280" cy="228600"/>
          </a:xfrm>
          <a:prstGeom prst="rect">
            <a:avLst/>
          </a:prstGeom>
          <a:solidFill>
            <a:srgbClr val="8ee7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19920" y="2438280"/>
            <a:ext cx="152280" cy="228600"/>
          </a:xfrm>
          <a:prstGeom prst="rect">
            <a:avLst/>
          </a:prstGeom>
          <a:solidFill>
            <a:srgbClr val="8ee7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934320" y="2133720"/>
            <a:ext cx="152280" cy="228600"/>
          </a:xfrm>
          <a:prstGeom prst="rect">
            <a:avLst/>
          </a:prstGeom>
          <a:solidFill>
            <a:srgbClr val="8ee7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34320" y="2438280"/>
            <a:ext cx="152280" cy="228600"/>
          </a:xfrm>
          <a:prstGeom prst="rect">
            <a:avLst/>
          </a:prstGeom>
          <a:solidFill>
            <a:srgbClr val="8ee7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34320" y="2743200"/>
            <a:ext cx="152280" cy="228600"/>
          </a:xfrm>
          <a:prstGeom prst="rect">
            <a:avLst/>
          </a:prstGeom>
          <a:solidFill>
            <a:srgbClr val="8ee7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848720" y="2133720"/>
            <a:ext cx="152280" cy="228600"/>
          </a:xfrm>
          <a:prstGeom prst="rect">
            <a:avLst/>
          </a:prstGeom>
          <a:solidFill>
            <a:srgbClr val="8ee7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848720" y="2743200"/>
            <a:ext cx="152280" cy="228600"/>
          </a:xfrm>
          <a:prstGeom prst="rect">
            <a:avLst/>
          </a:prstGeom>
          <a:solidFill>
            <a:srgbClr val="8ee7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848720" y="2438280"/>
            <a:ext cx="152280" cy="228600"/>
          </a:xfrm>
          <a:prstGeom prst="rect">
            <a:avLst/>
          </a:prstGeom>
          <a:solidFill>
            <a:srgbClr val="8ee7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48720" y="3429000"/>
            <a:ext cx="152280" cy="228600"/>
          </a:xfrm>
          <a:prstGeom prst="rect">
            <a:avLst/>
          </a:prstGeom>
          <a:solidFill>
            <a:srgbClr val="8ee7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3429000"/>
            <a:ext cx="152280" cy="228600"/>
          </a:xfrm>
          <a:prstGeom prst="rect">
            <a:avLst/>
          </a:prstGeom>
          <a:solidFill>
            <a:srgbClr val="8ee7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4343400"/>
            <a:ext cx="152280" cy="228600"/>
          </a:xfrm>
          <a:prstGeom prst="rect">
            <a:avLst/>
          </a:prstGeom>
          <a:solidFill>
            <a:srgbClr val="8ee7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305920" y="3733920"/>
            <a:ext cx="152280" cy="228600"/>
          </a:xfrm>
          <a:prstGeom prst="rect">
            <a:avLst/>
          </a:prstGeom>
          <a:solidFill>
            <a:srgbClr val="8ee7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305920" y="4038480"/>
            <a:ext cx="152280" cy="228600"/>
          </a:xfrm>
          <a:prstGeom prst="rect">
            <a:avLst/>
          </a:prstGeom>
          <a:solidFill>
            <a:srgbClr val="8ee7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1447920"/>
            <a:ext cx="457200" cy="304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76520" y="1523880"/>
            <a:ext cx="152280" cy="228600"/>
          </a:xfrm>
          <a:prstGeom prst="rect">
            <a:avLst/>
          </a:prstGeom>
          <a:solidFill>
            <a:srgbClr val="8ee7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676160" y="762120"/>
            <a:ext cx="3771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038480" y="3733920"/>
            <a:ext cx="3772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lvl="2" marL="948600" indent="-189720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480" y="3580920"/>
            <a:ext cx="3772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2057400"/>
            <a:ext cx="1905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АКС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72200" y="4876920"/>
            <a:ext cx="1905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143000"/>
            <a:ext cx="1905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600200"/>
            <a:ext cx="1905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АГДА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52480" y="4800600"/>
            <a:ext cx="1905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АТЬ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72200" y="3962520"/>
            <a:ext cx="1905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ГО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72200" y="4419720"/>
            <a:ext cx="1905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ЗАБЕ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752480" y="3886200"/>
            <a:ext cx="1905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АР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52480" y="4343400"/>
            <a:ext cx="1905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9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6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2057400" y="5410080"/>
            <a:ext cx="1600200" cy="112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ш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1" name=""/>
          <p:cNvSpPr/>
          <p:nvPr/>
        </p:nvSpPr>
        <p:spPr>
          <a:xfrm rot="3252600">
            <a:off x="5208120" y="949320"/>
            <a:ext cx="1876320" cy="2485800"/>
          </a:xfrm>
          <a:custGeom>
            <a:avLst/>
            <a:gdLst>
              <a:gd name="textAreaLeft" fmla="*/ 441000 w 1876320"/>
              <a:gd name="textAreaRight" fmla="*/ 1434240 w 1876320"/>
              <a:gd name="textAreaTop" fmla="*/ 292320 h 2485800"/>
              <a:gd name="textAreaBottom" fmla="*/ 1559160 h 24858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228600"/>
            <a:ext cx="1523880" cy="12952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"/>
          <p:cNvCxnSpPr/>
          <p:nvPr/>
        </p:nvCxnSpPr>
        <p:spPr>
          <a:xfrm flipH="1" rot="16200000">
            <a:off x="1289880" y="4348440"/>
            <a:ext cx="1604160" cy="526320"/>
          </a:xfrm>
          <a:prstGeom prst="curvedConnector5">
            <a:avLst>
              <a:gd name="adj1" fmla="val 114253"/>
              <a:gd name="adj2" fmla="val 49965"/>
              <a:gd name="adj3" fmla="val 11425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/>
          <p:nvPr/>
        </p:nvCxnSpPr>
        <p:spPr>
          <a:xfrm rot="5400000">
            <a:off x="1852200" y="3709800"/>
            <a:ext cx="1981800" cy="1572480"/>
          </a:xfrm>
          <a:prstGeom prst="curvedConnector5">
            <a:avLst>
              <a:gd name="adj1" fmla="val 50000"/>
              <a:gd name="adj2" fmla="val 49988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4"/>
          </p:cNvCxnSpPr>
          <p:nvPr/>
        </p:nvCxnSpPr>
        <p:spPr>
          <a:xfrm rot="5400000">
            <a:off x="685080" y="3657600"/>
            <a:ext cx="3962880" cy="915120"/>
          </a:xfrm>
          <a:prstGeom prst="curvedConnector5">
            <a:avLst>
              <a:gd name="adj1" fmla="val 49995"/>
              <a:gd name="adj2" fmla="val 49980"/>
              <a:gd name="adj3" fmla="val 499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/>
          <p:nvPr/>
        </p:nvCxnSpPr>
        <p:spPr>
          <a:xfrm rot="5400000">
            <a:off x="1521720" y="2668680"/>
            <a:ext cx="4075920" cy="1481760"/>
          </a:xfrm>
          <a:prstGeom prst="curvedConnector5">
            <a:avLst>
              <a:gd name="adj1" fmla="val 52318"/>
              <a:gd name="adj2" fmla="val 49987"/>
              <a:gd name="adj3" fmla="val 5231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8" name=""/>
          <p:cNvCxnSpPr/>
          <p:nvPr/>
        </p:nvCxnSpPr>
        <p:spPr>
          <a:xfrm flipV="1" rot="10800000">
            <a:off x="3199680" y="3047760"/>
            <a:ext cx="2283480" cy="24883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9" name=""/>
          <p:cNvCxnSpPr/>
          <p:nvPr/>
        </p:nvCxnSpPr>
        <p:spPr>
          <a:xfrm flipV="1" rot="10800000">
            <a:off x="3276000" y="3962160"/>
            <a:ext cx="2264400" cy="14738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0" name=""/>
          <p:cNvSpPr/>
          <p:nvPr/>
        </p:nvSpPr>
        <p:spPr>
          <a:xfrm flipV="1">
            <a:off x="1752480" y="3809880"/>
            <a:ext cx="152640" cy="76320"/>
          </a:xfrm>
          <a:prstGeom prst="triangle">
            <a:avLst>
              <a:gd name="adj" fmla="val 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0543200">
            <a:off x="2894760" y="2057040"/>
            <a:ext cx="304920" cy="228600"/>
          </a:xfrm>
          <a:prstGeom prst="rtTriangl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362320" y="3581280"/>
            <a:ext cx="228600" cy="76320"/>
          </a:xfrm>
          <a:prstGeom prst="rtTriangl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267080" y="1295280"/>
            <a:ext cx="228600" cy="152640"/>
          </a:xfrm>
          <a:prstGeom prst="rtTriangl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2336400">
            <a:off x="5105160" y="3809880"/>
            <a:ext cx="152280" cy="228600"/>
          </a:xfrm>
          <a:prstGeom prst="rtTriangl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362320" y="609480"/>
            <a:ext cx="1523880" cy="1524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20982000">
            <a:off x="1828800" y="1828440"/>
            <a:ext cx="10666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2590920"/>
            <a:ext cx="1371600" cy="1447560"/>
          </a:xfrm>
          <a:prstGeom prst="ellipse">
            <a:avLst/>
          </a:prstGeom>
          <a:solidFill>
            <a:srgbClr val="8ee7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Г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3798000">
            <a:off x="5257800" y="2666880"/>
            <a:ext cx="1295640" cy="1752480"/>
          </a:xfrm>
          <a:prstGeom prst="ellipse">
            <a:avLst/>
          </a:prstGeom>
          <a:solidFill>
            <a:srgbClr val="cb9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4800600"/>
            <a:ext cx="228600" cy="152280"/>
          </a:xfrm>
          <a:prstGeom prst="rtTriangl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809880"/>
            <a:ext cx="1524240" cy="144792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581280" y="3276720"/>
            <a:ext cx="228600" cy="228600"/>
          </a:xfrm>
          <a:prstGeom prst="rtTriangl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1873800">
            <a:off x="3580920" y="1447920"/>
            <a:ext cx="1351080" cy="2133360"/>
          </a:xfrm>
          <a:prstGeom prst="ellipse">
            <a:avLst/>
          </a:prstGeom>
          <a:solidFill>
            <a:srgbClr val="59d6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" name=""/>
          <p:cNvCxnSpPr/>
          <p:nvPr/>
        </p:nvCxnSpPr>
        <p:spPr>
          <a:xfrm flipH="1" rot="16200000">
            <a:off x="2057400" y="4038120"/>
            <a:ext cx="1753200" cy="991440"/>
          </a:xfrm>
          <a:prstGeom prst="curvedConnector5">
            <a:avLst>
              <a:gd name="adj1" fmla="val 49989"/>
              <a:gd name="adj2" fmla="val 49981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etod_2</cp:lastModifiedBy>
  <dcterms:modified xsi:type="dcterms:W3CDTF">2008-02-18T05:36:05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