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1.gif" ContentType="image/gif"/>
  <Override PartName="/ppt/media/image12.gif" ContentType="image/gif"/>
  <Override PartName="/ppt/media/image13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F42-F3EF-4B3F-B08C-C9771082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4BC-AF35-43F0-BFEC-1A35D537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AC8-35B2-4E38-9EAF-82E07283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AA7A-3872-452A-9A7F-9729EC1E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5FAB-D12B-4DF4-AB16-B7300D5D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A0C2-219E-47DA-B6CE-C61ECEEE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67E4-DEA8-413A-93F7-305FDA58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74E2-BD7D-4D8F-9D25-72CE33D4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F33E-1207-4A50-9174-2D489ED8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B6CC-786B-46C2-AFB5-FAFFDCF5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E90B-CA4D-4C83-9ED2-9BAEEF6C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D04-B0F1-401A-9E05-16F236FE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B811-098A-4315-B4EC-BBFFC38B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A51B-21DA-41B1-A766-421C6958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E595-1B08-44B9-AB4F-39BC2A33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6843-65BC-4641-8D87-8773ECE5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498F-E0BF-41F7-99D4-B2065226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8F2-1CDB-40C9-9238-E33D507C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0E1-F2CB-49E0-A154-45A7902A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8A7-EA08-407A-9F24-2E84205B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12BA-8215-4966-8498-EDEB55F8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9EF3-84D1-4759-9CFE-DB65A233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232-9456-4807-9777-0AE861CC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3A57-7134-44A6-8C2E-6034D404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D0E1-4700-4993-90DB-415A22A115B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0463-A398-4779-821A-C0908D4ECB7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4000" y="2421000"/>
            <a:ext cx="7991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быкновенные дроби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214960" cy="5805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68360" y="623736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Фигурное кат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71640" y="765000"/>
            <a:ext cx="2448000" cy="24480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1125360"/>
            <a:ext cx="1655640" cy="1656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35280" y="1557360"/>
            <a:ext cx="71892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0000" y="3716280"/>
            <a:ext cx="1079640" cy="406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4000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364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5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8360" y="3716280"/>
            <a:ext cx="1079640" cy="406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4437000"/>
            <a:ext cx="1079280" cy="406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4437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Х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08360" y="4508640"/>
            <a:ext cx="1079640" cy="406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42920" y="5229360"/>
            <a:ext cx="1079640" cy="406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5229360"/>
            <a:ext cx="1079280" cy="406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68360" y="5300640"/>
            <a:ext cx="11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Х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3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64000" y="587700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80000" y="6308640"/>
            <a:ext cx="107928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545080" y="0"/>
            <a:ext cx="35989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-12600" y="5557680"/>
            <a:ext cx="9156600" cy="1300320"/>
            <a:chOff x="-12600" y="5557680"/>
            <a:chExt cx="9156600" cy="1300320"/>
          </a:xfrm>
        </p:grpSpPr>
        <p:sp>
          <p:nvSpPr>
            <p:cNvPr id="249" name=""/>
            <p:cNvSpPr/>
            <p:nvPr/>
          </p:nvSpPr>
          <p:spPr>
            <a:xfrm>
              <a:off x="0" y="5867280"/>
              <a:ext cx="9144000" cy="990720"/>
            </a:xfrm>
            <a:prstGeom prst="rect">
              <a:avLst/>
            </a:prstGeom>
            <a:solidFill>
              <a:srgbClr val="58b62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-12600" y="5557680"/>
              <a:ext cx="9142200" cy="635040"/>
            </a:xfrm>
            <a:custGeom>
              <a:avLst/>
              <a:gdLst/>
              <a:ahLst/>
              <a:rect l="l" t="t" r="r" b="b"/>
              <a:pathLst>
                <a:path w="5759" h="400">
                  <a:moveTo>
                    <a:pt x="8" y="95"/>
                  </a:moveTo>
                  <a:cubicBezTo>
                    <a:pt x="65" y="80"/>
                    <a:pt x="115" y="61"/>
                    <a:pt x="174" y="51"/>
                  </a:cubicBezTo>
                  <a:cubicBezTo>
                    <a:pt x="310" y="62"/>
                    <a:pt x="426" y="72"/>
                    <a:pt x="567" y="77"/>
                  </a:cubicBezTo>
                  <a:cubicBezTo>
                    <a:pt x="605" y="85"/>
                    <a:pt x="641" y="96"/>
                    <a:pt x="680" y="103"/>
                  </a:cubicBezTo>
                  <a:cubicBezTo>
                    <a:pt x="799" y="97"/>
                    <a:pt x="904" y="81"/>
                    <a:pt x="1020" y="68"/>
                  </a:cubicBezTo>
                  <a:cubicBezTo>
                    <a:pt x="1322" y="94"/>
                    <a:pt x="1361" y="84"/>
                    <a:pt x="1815" y="77"/>
                  </a:cubicBezTo>
                  <a:cubicBezTo>
                    <a:pt x="2126" y="72"/>
                    <a:pt x="2748" y="60"/>
                    <a:pt x="2748" y="60"/>
                  </a:cubicBezTo>
                  <a:cubicBezTo>
                    <a:pt x="2799" y="52"/>
                    <a:pt x="2846" y="41"/>
                    <a:pt x="2897" y="34"/>
                  </a:cubicBezTo>
                  <a:cubicBezTo>
                    <a:pt x="2995" y="0"/>
                    <a:pt x="3042" y="23"/>
                    <a:pt x="3167" y="34"/>
                  </a:cubicBezTo>
                  <a:cubicBezTo>
                    <a:pt x="3434" y="95"/>
                    <a:pt x="3739" y="72"/>
                    <a:pt x="4005" y="77"/>
                  </a:cubicBezTo>
                  <a:cubicBezTo>
                    <a:pt x="4136" y="122"/>
                    <a:pt x="4335" y="103"/>
                    <a:pt x="4476" y="112"/>
                  </a:cubicBezTo>
                  <a:cubicBezTo>
                    <a:pt x="4730" y="164"/>
                    <a:pt x="4585" y="147"/>
                    <a:pt x="5052" y="156"/>
                  </a:cubicBezTo>
                  <a:cubicBezTo>
                    <a:pt x="5191" y="188"/>
                    <a:pt x="5383" y="178"/>
                    <a:pt x="5515" y="182"/>
                  </a:cubicBezTo>
                  <a:cubicBezTo>
                    <a:pt x="5609" y="201"/>
                    <a:pt x="5635" y="202"/>
                    <a:pt x="5759" y="208"/>
                  </a:cubicBezTo>
                  <a:cubicBezTo>
                    <a:pt x="5747" y="231"/>
                    <a:pt x="5744" y="261"/>
                    <a:pt x="5724" y="278"/>
                  </a:cubicBezTo>
                  <a:cubicBezTo>
                    <a:pt x="5691" y="305"/>
                    <a:pt x="5504" y="312"/>
                    <a:pt x="5497" y="313"/>
                  </a:cubicBezTo>
                  <a:cubicBezTo>
                    <a:pt x="5394" y="322"/>
                    <a:pt x="5295" y="360"/>
                    <a:pt x="5192" y="365"/>
                  </a:cubicBezTo>
                  <a:cubicBezTo>
                    <a:pt x="5093" y="370"/>
                    <a:pt x="4994" y="371"/>
                    <a:pt x="4895" y="374"/>
                  </a:cubicBezTo>
                  <a:cubicBezTo>
                    <a:pt x="4767" y="369"/>
                    <a:pt x="4668" y="359"/>
                    <a:pt x="4546" y="348"/>
                  </a:cubicBezTo>
                  <a:cubicBezTo>
                    <a:pt x="4469" y="332"/>
                    <a:pt x="4398" y="321"/>
                    <a:pt x="4319" y="313"/>
                  </a:cubicBezTo>
                  <a:cubicBezTo>
                    <a:pt x="4145" y="321"/>
                    <a:pt x="3984" y="349"/>
                    <a:pt x="3813" y="374"/>
                  </a:cubicBezTo>
                  <a:cubicBezTo>
                    <a:pt x="3619" y="368"/>
                    <a:pt x="3438" y="349"/>
                    <a:pt x="3246" y="339"/>
                  </a:cubicBezTo>
                  <a:cubicBezTo>
                    <a:pt x="3126" y="314"/>
                    <a:pt x="2992" y="318"/>
                    <a:pt x="2871" y="313"/>
                  </a:cubicBezTo>
                  <a:cubicBezTo>
                    <a:pt x="2720" y="327"/>
                    <a:pt x="2568" y="329"/>
                    <a:pt x="2417" y="339"/>
                  </a:cubicBezTo>
                  <a:cubicBezTo>
                    <a:pt x="2267" y="370"/>
                    <a:pt x="2086" y="360"/>
                    <a:pt x="1937" y="365"/>
                  </a:cubicBezTo>
                  <a:cubicBezTo>
                    <a:pt x="1900" y="368"/>
                    <a:pt x="1763" y="377"/>
                    <a:pt x="1719" y="383"/>
                  </a:cubicBezTo>
                  <a:cubicBezTo>
                    <a:pt x="1687" y="387"/>
                    <a:pt x="1623" y="400"/>
                    <a:pt x="1623" y="400"/>
                  </a:cubicBezTo>
                  <a:cubicBezTo>
                    <a:pt x="1568" y="389"/>
                    <a:pt x="1513" y="381"/>
                    <a:pt x="1457" y="374"/>
                  </a:cubicBezTo>
                  <a:cubicBezTo>
                    <a:pt x="1401" y="345"/>
                    <a:pt x="1354" y="339"/>
                    <a:pt x="1291" y="330"/>
                  </a:cubicBezTo>
                  <a:cubicBezTo>
                    <a:pt x="1189" y="315"/>
                    <a:pt x="1088" y="293"/>
                    <a:pt x="985" y="278"/>
                  </a:cubicBezTo>
                  <a:cubicBezTo>
                    <a:pt x="711" y="289"/>
                    <a:pt x="439" y="295"/>
                    <a:pt x="165" y="287"/>
                  </a:cubicBezTo>
                  <a:cubicBezTo>
                    <a:pt x="101" y="276"/>
                    <a:pt x="69" y="265"/>
                    <a:pt x="17" y="226"/>
                  </a:cubicBezTo>
                  <a:cubicBezTo>
                    <a:pt x="21" y="214"/>
                    <a:pt x="49" y="118"/>
                    <a:pt x="25" y="191"/>
                  </a:cubicBezTo>
                  <a:cubicBezTo>
                    <a:pt x="0" y="151"/>
                    <a:pt x="4" y="171"/>
                    <a:pt x="17" y="112"/>
                  </a:cubicBezTo>
                  <a:cubicBezTo>
                    <a:pt x="19" y="103"/>
                    <a:pt x="29" y="94"/>
                    <a:pt x="25" y="86"/>
                  </a:cubicBezTo>
                  <a:cubicBezTo>
                    <a:pt x="22" y="80"/>
                    <a:pt x="14" y="92"/>
                    <a:pt x="8" y="95"/>
                  </a:cubicBezTo>
                  <a:close/>
                </a:path>
              </a:pathLst>
            </a:custGeom>
            <a:solidFill>
              <a:srgbClr val="58b6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09480" y="4264200"/>
            <a:ext cx="1793880" cy="2136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429000" y="4545000"/>
            <a:ext cx="2011320" cy="1703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5867280" y="4149720"/>
            <a:ext cx="3121200" cy="27082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0" y="476280"/>
            <a:ext cx="8180280" cy="432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урок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5" name=""/>
          <p:cNvSpPr/>
          <p:nvPr/>
        </p:nvSpPr>
        <p:spPr>
          <a:xfrm>
            <a:off x="7162920" y="1600200"/>
            <a:ext cx="1752480" cy="19810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9640" y="765000"/>
            <a:ext cx="1366920" cy="136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68360" y="765000"/>
            <a:ext cx="6048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Золота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чень понравился урок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9640" y="4797360"/>
            <a:ext cx="1366920" cy="13669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9640" y="2781360"/>
            <a:ext cx="1366920" cy="1366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95640" y="2852640"/>
            <a:ext cx="694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2b2b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Verdana"/>
              </a:rPr>
              <a:t>Серебряна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нравился урок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40000" y="4869000"/>
            <a:ext cx="680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99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Бронзова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е очень понравился ур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5280" y="83664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то  с   детских    лет    занимается математикой,      тот       развивает внимание,      тренирует          мозг, воспитывает в себе настойчивость и  упорство  в   достижении    цел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16360" y="45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.И. Маркушеви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8710560" y="6597720"/>
            <a:ext cx="433440" cy="260280"/>
          </a:xfrm>
          <a:custGeom>
            <a:avLst/>
            <a:gdLst>
              <a:gd name="textAreaLeft" fmla="*/ 16560 w 433440"/>
              <a:gd name="textAreaRight" fmla="*/ 416880 w 4334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5950" h="21600">
                <a:moveTo>
                  <a:pt x="0" y="0"/>
                </a:moveTo>
                <a:lnTo>
                  <a:pt x="35950" y="0"/>
                </a:lnTo>
                <a:lnTo>
                  <a:pt x="35950" y="21600"/>
                </a:lnTo>
                <a:lnTo>
                  <a:pt x="0" y="21600"/>
                </a:lnTo>
                <a:close/>
              </a:path>
              <a:path fill="lightenLess" w="35950" h="21600">
                <a:moveTo>
                  <a:pt x="0" y="0"/>
                </a:moveTo>
                <a:lnTo>
                  <a:pt x="35950" y="0"/>
                </a:lnTo>
                <a:lnTo>
                  <a:pt x="34550" y="1400"/>
                </a:lnTo>
                <a:lnTo>
                  <a:pt x="1400" y="1400"/>
                </a:lnTo>
                <a:close/>
              </a:path>
              <a:path fill="darken" w="35950" h="21600">
                <a:moveTo>
                  <a:pt x="35950" y="0"/>
                </a:moveTo>
                <a:lnTo>
                  <a:pt x="35950" y="21600"/>
                </a:lnTo>
                <a:lnTo>
                  <a:pt x="34550" y="20200"/>
                </a:lnTo>
                <a:lnTo>
                  <a:pt x="34550" y="1400"/>
                </a:lnTo>
                <a:close/>
              </a:path>
              <a:path fill="darkenLess" w="35950" h="21600">
                <a:moveTo>
                  <a:pt x="359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0" y="20200"/>
                </a:lnTo>
                <a:close/>
              </a:path>
              <a:path fill="lighten" w="359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0" h="21600">
                <a:moveTo>
                  <a:pt x="10969" y="3794"/>
                </a:moveTo>
                <a:lnTo>
                  <a:pt x="24982" y="10800"/>
                </a:lnTo>
                <a:lnTo>
                  <a:pt x="1096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59280" y="404640"/>
            <a:ext cx="637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БИ» - двойн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АТЛОН» - состяз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8320" cy="3573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353200" y="2637000"/>
            <a:ext cx="3790800" cy="4221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4005360"/>
            <a:ext cx="529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«БИАТЛОН»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войное состяза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046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минка по математике – это устный сч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1557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1341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1773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1341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95640" y="177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3640" y="1341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3640" y="1700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1341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40360" y="1700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1341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1700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155736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03280" y="1557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00360" y="155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92360" y="155736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155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64000" y="148428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2492280"/>
            <a:ext cx="712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  Выполните действ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)                                      б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42920" y="29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42920" y="3284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19280" y="3068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79640" y="29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8000" y="3284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11280" y="306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292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0036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56000" y="29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3284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03640" y="3068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00560" y="3017880"/>
            <a:ext cx="4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2924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64000" y="3284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96000" y="306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27640" y="2924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5636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16720" y="3068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3933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42920" y="378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4076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03280" y="3933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35280" y="3789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63640" y="4076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95640" y="393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56000" y="3789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84360" y="407664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494172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  Биатлонист прошел       всей трассы. Сколько ему осталось пройти, если вся трасса 18 км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51280" y="47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51280" y="5084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9640" y="1125360"/>
            <a:ext cx="784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  Олимпиаде  было  разыграно 252 медали разного достоинства. Российские спортсмены завоевали 22 медали, из них           золотых    и столько же бронзовых.  Какая  часть медалей завоевана       Российскими       спортсменами? Сколько золотых,  серебряных  и   бронзовых медалей завоевали наши спортсмен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64000" y="191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92720" y="220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904080" y="4365720"/>
            <a:ext cx="2239920" cy="2492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4365720"/>
            <a:ext cx="2241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3933720"/>
            <a:ext cx="59403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Скоростной спуск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фиксирована абсолютная скор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 спуске – 202 км/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52720" cy="3284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992920" y="3429000"/>
            <a:ext cx="2871720" cy="3195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843280" y="692280"/>
            <a:ext cx="630072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«СЛАЛОМ» 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ревод с норвежского  «след на склон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141300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рганизаторы по слалому предложили на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ычислить длину трассы для горнолыжников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если          составляет  675 м.  Какова длин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ассы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2852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42920" y="3141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10800"/>
                </a:moveTo>
                <a:lnTo>
                  <a:pt x="20447" y="3794"/>
                </a:lnTo>
                <a:lnTo>
                  <a:pt x="2044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45120" cy="4724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443480" y="1628640"/>
            <a:ext cx="4700520" cy="5229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356000" y="54936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ристай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329080" cy="57610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50920" y="61657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нькобежный спор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02-12T23:11:58Z</dcterms:modified>
  <cp:revision>6</cp:revision>
  <dc:subject/>
  <dc:title>PowerPoint Presentation</dc:title>
</cp:coreProperties>
</file>