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A25-814B-4B6F-A217-63D86C86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EE1-FAE5-4B7B-8032-978D6B2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637-F9A2-4A6D-AC5C-F120CE3E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A21-2E80-42C0-A1F7-DA610403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1E8-D944-4551-B4F5-2090DBF4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6E8-F2E9-4EEE-85F0-76A2DED2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6E03-380D-42A3-BA46-B74FAAC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A7E-7FE0-4F99-AB07-0F2B2CF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A6DF-F348-435C-9868-02BAE37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E93D-5BB3-4E3D-8F9B-4A05756F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532C-6B2C-4FDF-AB0A-63C719B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524-525A-4B7D-A23A-E0DF549B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D5DE-BBF7-4916-B235-C2376AE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B46-8D96-4996-A9A1-0BEE852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1E5-9C1B-40D2-95C8-83B7121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46E9-2E7F-4E6D-BA73-7DF2AA2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363-63F6-4FC2-85F7-4870A0C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BD5-BB86-416D-B867-A05063D7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110-E7D6-4F43-AD46-1D21F35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12E-13D5-4E91-A54F-816CFB9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52E-214C-463A-9B13-FB11B444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0D9-0725-4D22-A404-15A4F86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3CC-1F47-476E-8C5D-10DF1E1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843-83AE-4A81-BD9C-540D2E1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7FD9-91E8-4DD2-97DB-840E4B8B02B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A6E-D0D1-4D74-A1BC-EFF19261C02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 г р а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 математи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Умники  и  умницы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 а г о н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2286000"/>
            <a:ext cx="7543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занима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4191120"/>
            <a:ext cx="7696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Учиться надо весело,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Учиться будем весело,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Чтоб хорошо учиться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5400" y="380520"/>
            <a:ext cx="82263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Зеленая дорож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ставьте пропущенное слово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АГОР (РОСА) ТЕСА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ГАРАЖ (          ) ТАБА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Желтая дорож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ставьте слова и исключите лиш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ИИАВ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БОТ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ЛО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ЛЕКС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  а г о н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2120" y="2209680"/>
            <a:ext cx="7467480" cy="148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нестандар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3962520"/>
            <a:ext cx="7515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3809880"/>
          <a:ext cx="8148600" cy="114264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  <a:gridCol w="739800"/>
                <a:gridCol w="750960"/>
                <a:gridCol w="725400"/>
                <a:gridCol w="747720"/>
                <a:gridCol w="743040"/>
                <a:gridCol w="739800"/>
                <a:gridCol w="739800"/>
                <a:gridCol w="741240"/>
                <a:gridCol w="7398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57200" y="38088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Заполните пустые места на рисунк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так, чтобы сумма чисел, стоящих 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любых трех соседних клетках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равнялась 15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териалы к игре по математике "Умники и умницы"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Работу выполнил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Меркушева Ольга Александровн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учитель математики Беляевской средней общеобразовательной школы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609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aeaea"/>
                </a:solidFill>
                <a:latin typeface="Arial"/>
              </a:rPr>
              <a:t>Твой  ум   без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i="1" lang="en-US" sz="8000" spc="-1" strike="noStrike">
                <a:solidFill>
                  <a:srgbClr val="eaeaea"/>
                </a:solidFill>
                <a:latin typeface="Arial"/>
              </a:rPr>
              <a:t>числа  ничего    не  постигает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Н. Кузанский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3775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   а г о 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2362320"/>
            <a:ext cx="76964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90720" y="3886200"/>
            <a:ext cx="723888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математ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326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3352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02920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895480" y="3807000"/>
            <a:ext cx="60199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   а г о н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514600"/>
            <a:ext cx="7620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cc"/>
                    </a:gs>
                  </a:gsLst>
                  <a:lin ang="13500000"/>
                </a:gra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523880" y="1371600"/>
            <a:ext cx="6477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403848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мнастика  ум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6T19:18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