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631-E5F4-4865-AF9E-135D487F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57D-229B-46FC-864B-8CD9F190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C03-A40B-414F-8CBC-43610695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5FF-313A-4DB9-9372-B23DA5B3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4E5-2BD9-4A3B-9D13-FC66970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9D1-6CCE-4F09-8251-A6564E99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456-216F-4B5A-AEFC-CE283854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688-0858-41F1-B14C-6E7B0D64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79D-193A-46A1-BFB3-5DE019E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6DF-FBDE-4FA0-9B63-22B6569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B7D-226E-4909-B586-1BB52DF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006-CDED-48D5-9FAF-C608EA4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7D8-5173-403B-A4AC-2734447A1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обые формы глаго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астие и деепричас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пать (д. прич., пр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сорить (с.прич., н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анить (с.прич., н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кать (д.прич., н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ть (д.прич., пр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стись (д.прич., пр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рятать (д.прич., пр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ись (д.прич., пр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ть (с.прич., н.в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557000"/>
            <a:ext cx="42447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лядываться (не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ркать (несов. 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(не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ить (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ть (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идеть (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ать (не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орваться (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вободить (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учать (не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ать (несов.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хать (несов.в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37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1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933720"/>
            <a:ext cx="3601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пать (д. прич., пр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орить (с.прич., н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ранить (с.прич., н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кать (д.прич., н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ать (д.прич., пр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стись (д.прич., пр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ятать (д.прич., пр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тись (д.прич., пр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ать (с.прич., н.в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78520" y="333360"/>
            <a:ext cx="31654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лядываться (не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ркать (несов. 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ть (не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пить (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тать (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идеть (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значать (не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орваться (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ободить (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учать (не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ать (не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хать (несов.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333360"/>
            <a:ext cx="5472720" cy="3455640"/>
            <a:chOff x="250920" y="333360"/>
            <a:chExt cx="5472720" cy="3455640"/>
          </a:xfrm>
        </p:grpSpPr>
        <p:grpSp>
          <p:nvGrpSpPr>
            <p:cNvPr id="72" name=""/>
            <p:cNvGrpSpPr/>
            <p:nvPr/>
          </p:nvGrpSpPr>
          <p:grpSpPr>
            <a:xfrm>
              <a:off x="1342080" y="626040"/>
              <a:ext cx="2841480" cy="235800"/>
              <a:chOff x="1342080" y="626040"/>
              <a:chExt cx="2841480" cy="235800"/>
            </a:xfrm>
          </p:grpSpPr>
          <p:sp>
            <p:nvSpPr>
              <p:cNvPr id="73" name=""/>
              <p:cNvSpPr/>
              <p:nvPr/>
            </p:nvSpPr>
            <p:spPr>
              <a:xfrm>
                <a:off x="1342080" y="626040"/>
                <a:ext cx="30960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703880" y="62604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64960" y="626040"/>
                <a:ext cx="31068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28200" y="626040"/>
                <a:ext cx="30960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88920" y="62604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51080" y="62604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11800" y="62604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73960" y="62604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351800" y="901800"/>
              <a:ext cx="2480040" cy="235800"/>
              <a:chOff x="1351800" y="901800"/>
              <a:chExt cx="2480040" cy="235800"/>
            </a:xfrm>
          </p:grpSpPr>
          <p:sp>
            <p:nvSpPr>
              <p:cNvPr id="82" name=""/>
              <p:cNvSpPr/>
              <p:nvPr/>
            </p:nvSpPr>
            <p:spPr>
              <a:xfrm>
                <a:off x="1351800" y="901800"/>
                <a:ext cx="30960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713600" y="901800"/>
                <a:ext cx="30996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4680" y="901800"/>
                <a:ext cx="31068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438280" y="901800"/>
                <a:ext cx="30960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99000" y="901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61520" y="901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22240" y="901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351800" y="1186200"/>
              <a:ext cx="2118960" cy="235800"/>
              <a:chOff x="1351800" y="1186200"/>
              <a:chExt cx="2118960" cy="235800"/>
            </a:xfrm>
          </p:grpSpPr>
          <p:sp>
            <p:nvSpPr>
              <p:cNvPr id="90" name=""/>
              <p:cNvSpPr/>
              <p:nvPr/>
            </p:nvSpPr>
            <p:spPr>
              <a:xfrm>
                <a:off x="1351800" y="1186200"/>
                <a:ext cx="30960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13600" y="1186200"/>
                <a:ext cx="30996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74680" y="1186200"/>
                <a:ext cx="31068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38280" y="1186200"/>
                <a:ext cx="30960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99000" y="11862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61160" y="11862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732680" y="1504800"/>
              <a:ext cx="2480040" cy="235800"/>
              <a:chOff x="1732680" y="1504800"/>
              <a:chExt cx="2480040" cy="235800"/>
            </a:xfrm>
          </p:grpSpPr>
          <p:sp>
            <p:nvSpPr>
              <p:cNvPr id="97" name=""/>
              <p:cNvSpPr/>
              <p:nvPr/>
            </p:nvSpPr>
            <p:spPr>
              <a:xfrm>
                <a:off x="1732680" y="1504800"/>
                <a:ext cx="30960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94480" y="1504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55560" y="1504800"/>
                <a:ext cx="31068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19160" y="1504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179880" y="1504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42400" y="1504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03120" y="15048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50920" y="2090520"/>
              <a:ext cx="3206160" cy="235440"/>
              <a:chOff x="250920" y="2090520"/>
              <a:chExt cx="3206160" cy="235440"/>
            </a:xfrm>
          </p:grpSpPr>
          <p:sp>
            <p:nvSpPr>
              <p:cNvPr id="105" name=""/>
              <p:cNvSpPr/>
              <p:nvPr/>
            </p:nvSpPr>
            <p:spPr>
              <a:xfrm>
                <a:off x="250920" y="2090520"/>
                <a:ext cx="309960" cy="23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3800" y="2090520"/>
                <a:ext cx="30780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4880" y="209052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7760" y="209052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99200" y="2090520"/>
                <a:ext cx="30960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59920" y="209052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21000" y="2090520"/>
                <a:ext cx="309960" cy="235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83880" y="209052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47120" y="209052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732680" y="2967480"/>
              <a:ext cx="2118960" cy="237240"/>
              <a:chOff x="1732680" y="2967480"/>
              <a:chExt cx="2118960" cy="237240"/>
            </a:xfrm>
          </p:grpSpPr>
          <p:sp>
            <p:nvSpPr>
              <p:cNvPr id="115" name=""/>
              <p:cNvSpPr/>
              <p:nvPr/>
            </p:nvSpPr>
            <p:spPr>
              <a:xfrm>
                <a:off x="1732680" y="2967480"/>
                <a:ext cx="309600" cy="23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94480" y="2967480"/>
                <a:ext cx="309600" cy="237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55560" y="2967480"/>
                <a:ext cx="310680" cy="237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18800" y="2967480"/>
                <a:ext cx="309600" cy="237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79520" y="2967480"/>
                <a:ext cx="309600" cy="237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42040" y="2967480"/>
                <a:ext cx="309600" cy="237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122920" y="3260160"/>
              <a:ext cx="2843280" cy="235800"/>
              <a:chOff x="2122920" y="3260160"/>
              <a:chExt cx="2843280" cy="235800"/>
            </a:xfrm>
          </p:grpSpPr>
          <p:sp>
            <p:nvSpPr>
              <p:cNvPr id="122" name=""/>
              <p:cNvSpPr/>
              <p:nvPr/>
            </p:nvSpPr>
            <p:spPr>
              <a:xfrm>
                <a:off x="2122920" y="3260160"/>
                <a:ext cx="30960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84720" y="3260160"/>
                <a:ext cx="30960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46160" y="3260160"/>
                <a:ext cx="31068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09760" y="326016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70840" y="326016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3000" y="326016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94080" y="326016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56600" y="326016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122920" y="3553200"/>
              <a:ext cx="2118960" cy="235800"/>
              <a:chOff x="2122920" y="3553200"/>
              <a:chExt cx="2118960" cy="235800"/>
            </a:xfrm>
          </p:grpSpPr>
          <p:sp>
            <p:nvSpPr>
              <p:cNvPr id="131" name=""/>
              <p:cNvSpPr/>
              <p:nvPr/>
            </p:nvSpPr>
            <p:spPr>
              <a:xfrm>
                <a:off x="2122920" y="3553200"/>
                <a:ext cx="30960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84720" y="3553200"/>
                <a:ext cx="30960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45800" y="3553200"/>
                <a:ext cx="31068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09400" y="35532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70120" y="35532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32280" y="35532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33600" y="333360"/>
              <a:ext cx="4289400" cy="235800"/>
              <a:chOff x="633600" y="333360"/>
              <a:chExt cx="4289400" cy="235800"/>
            </a:xfrm>
          </p:grpSpPr>
          <p:sp>
            <p:nvSpPr>
              <p:cNvPr id="138" name=""/>
              <p:cNvSpPr/>
              <p:nvPr/>
            </p:nvSpPr>
            <p:spPr>
              <a:xfrm>
                <a:off x="633600" y="333360"/>
                <a:ext cx="30924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9540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56120" y="333360"/>
                <a:ext cx="31032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1936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008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41880" y="333360"/>
                <a:ext cx="30924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0260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6476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26920" y="333360"/>
                <a:ext cx="31032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8836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5052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13760" y="333360"/>
                <a:ext cx="30924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50920" y="2381400"/>
              <a:ext cx="4291560" cy="235800"/>
              <a:chOff x="250920" y="2381400"/>
              <a:chExt cx="4291560" cy="23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250920" y="2381400"/>
                <a:ext cx="309600" cy="23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308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73800" y="2381400"/>
                <a:ext cx="31068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3704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9776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5992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21000" y="2381400"/>
                <a:ext cx="309600" cy="23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8316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45320" y="2381400"/>
                <a:ext cx="31068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0712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6928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32880" y="2381400"/>
                <a:ext cx="309600" cy="23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732680" y="2674440"/>
              <a:ext cx="3990960" cy="236880"/>
              <a:chOff x="1732680" y="2674440"/>
              <a:chExt cx="3990960" cy="236880"/>
            </a:xfrm>
          </p:grpSpPr>
          <p:sp>
            <p:nvSpPr>
              <p:cNvPr id="164" name=""/>
              <p:cNvSpPr/>
              <p:nvPr/>
            </p:nvSpPr>
            <p:spPr>
              <a:xfrm>
                <a:off x="1732680" y="2674440"/>
                <a:ext cx="309600" cy="23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5200" y="2674440"/>
                <a:ext cx="3081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56640" y="2674440"/>
                <a:ext cx="309960" cy="235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19520" y="2674440"/>
                <a:ext cx="30960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80600" y="26744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41320" y="26744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02760" y="26744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66000" y="2674440"/>
                <a:ext cx="30960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28520" y="26744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89960" y="26744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13680" y="267588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342080" y="1796040"/>
              <a:ext cx="2511720" cy="255960"/>
              <a:chOff x="1342080" y="1796040"/>
              <a:chExt cx="2511720" cy="255960"/>
            </a:xfrm>
          </p:grpSpPr>
          <p:sp>
            <p:nvSpPr>
              <p:cNvPr id="176" name=""/>
              <p:cNvSpPr/>
              <p:nvPr/>
            </p:nvSpPr>
            <p:spPr>
              <a:xfrm>
                <a:off x="1342080" y="1796040"/>
                <a:ext cx="309960" cy="23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04960" y="17960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66040" y="17960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28920" y="1796040"/>
                <a:ext cx="309960" cy="235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90000" y="17960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52880" y="179604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43840" y="1816560"/>
                <a:ext cx="309960" cy="235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4211640" y="4005360"/>
            <a:ext cx="4607640" cy="2663280"/>
            <a:chOff x="4211640" y="4005360"/>
            <a:chExt cx="4607640" cy="2663280"/>
          </a:xfrm>
        </p:grpSpPr>
        <p:grpSp>
          <p:nvGrpSpPr>
            <p:cNvPr id="184" name=""/>
            <p:cNvGrpSpPr/>
            <p:nvPr/>
          </p:nvGrpSpPr>
          <p:grpSpPr>
            <a:xfrm>
              <a:off x="4211640" y="4306680"/>
              <a:ext cx="4595760" cy="250560"/>
              <a:chOff x="4211640" y="4306680"/>
              <a:chExt cx="4595760" cy="25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4211640" y="4306680"/>
                <a:ext cx="362520" cy="25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35720" y="43066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58000" y="4306680"/>
                <a:ext cx="36252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82080" y="43066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04360" y="43066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28440" y="4306680"/>
                <a:ext cx="362160" cy="25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51080" y="43066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174800" y="43066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598520" y="4306680"/>
                <a:ext cx="36252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21160" y="4306680"/>
                <a:ext cx="36252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45240" y="43066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211640" y="4608360"/>
              <a:ext cx="3749400" cy="250560"/>
              <a:chOff x="4211640" y="4608360"/>
              <a:chExt cx="3749400" cy="250560"/>
            </a:xfrm>
          </p:grpSpPr>
          <p:sp>
            <p:nvSpPr>
              <p:cNvPr id="197" name=""/>
              <p:cNvSpPr/>
              <p:nvPr/>
            </p:nvSpPr>
            <p:spPr>
              <a:xfrm>
                <a:off x="4211640" y="4608360"/>
                <a:ext cx="362160" cy="25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5000" y="4608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57280" y="4608360"/>
                <a:ext cx="36324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82440" y="4608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04360" y="4608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28080" y="4608360"/>
                <a:ext cx="362160" cy="25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50360" y="4608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174080" y="4608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97440" y="4608360"/>
                <a:ext cx="36360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664880" y="4910040"/>
              <a:ext cx="3749760" cy="250560"/>
              <a:chOff x="4664880" y="4910040"/>
              <a:chExt cx="3749760" cy="250560"/>
            </a:xfrm>
          </p:grpSpPr>
          <p:sp>
            <p:nvSpPr>
              <p:cNvPr id="207" name=""/>
              <p:cNvSpPr/>
              <p:nvPr/>
            </p:nvSpPr>
            <p:spPr>
              <a:xfrm>
                <a:off x="4664880" y="4910040"/>
                <a:ext cx="362160" cy="25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88240" y="491004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10520" y="4910040"/>
                <a:ext cx="36324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35680" y="491004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57960" y="4910040"/>
                <a:ext cx="362160" cy="25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1680" y="491004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03600" y="491004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Щ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27320" y="491004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051040" y="4910040"/>
                <a:ext cx="36360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211640" y="5211720"/>
              <a:ext cx="4172400" cy="250560"/>
              <a:chOff x="4211640" y="5211720"/>
              <a:chExt cx="4172400" cy="250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211640" y="5211720"/>
                <a:ext cx="362160" cy="25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35000" y="521172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57640" y="5211720"/>
                <a:ext cx="36360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82440" y="521172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04720" y="521172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28440" y="5211720"/>
                <a:ext cx="362160" cy="25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50720" y="521172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74440" y="521172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98160" y="5211720"/>
                <a:ext cx="3639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21880" y="521172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599720" y="5513400"/>
              <a:ext cx="4172760" cy="248760"/>
              <a:chOff x="4599720" y="5513400"/>
              <a:chExt cx="4172760" cy="2487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99720" y="5513400"/>
                <a:ext cx="362160" cy="248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23080" y="5513400"/>
                <a:ext cx="36216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45720" y="5513400"/>
                <a:ext cx="3636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70880" y="5513400"/>
                <a:ext cx="36216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93160" y="5513400"/>
                <a:ext cx="362160" cy="248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16880" y="5513400"/>
                <a:ext cx="36216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39160" y="5513400"/>
                <a:ext cx="36216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562880" y="5513400"/>
                <a:ext cx="36216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86600" y="5513400"/>
                <a:ext cx="36396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10320" y="5513400"/>
                <a:ext cx="36216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211640" y="6116400"/>
              <a:ext cx="3749400" cy="250560"/>
              <a:chOff x="4211640" y="6116400"/>
              <a:chExt cx="3749400" cy="250560"/>
            </a:xfrm>
          </p:grpSpPr>
          <p:sp>
            <p:nvSpPr>
              <p:cNvPr id="239" name=""/>
              <p:cNvSpPr/>
              <p:nvPr/>
            </p:nvSpPr>
            <p:spPr>
              <a:xfrm>
                <a:off x="4211640" y="6116400"/>
                <a:ext cx="362160" cy="25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35000" y="611640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57280" y="6116400"/>
                <a:ext cx="36324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82440" y="611640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04360" y="611640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28080" y="6116400"/>
                <a:ext cx="362160" cy="25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50360" y="611640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74080" y="611640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440" y="6116400"/>
                <a:ext cx="36360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211640" y="4005360"/>
              <a:ext cx="4595760" cy="250560"/>
              <a:chOff x="4211640" y="4005360"/>
              <a:chExt cx="4595760" cy="250560"/>
            </a:xfrm>
          </p:grpSpPr>
          <p:sp>
            <p:nvSpPr>
              <p:cNvPr id="249" name=""/>
              <p:cNvSpPr/>
              <p:nvPr/>
            </p:nvSpPr>
            <p:spPr>
              <a:xfrm>
                <a:off x="4211640" y="4005360"/>
                <a:ext cx="362160" cy="25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35360" y="4005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57280" y="4005360"/>
                <a:ext cx="36360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82440" y="4005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904720" y="4005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28440" y="4005360"/>
                <a:ext cx="362160" cy="25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50360" y="4005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74440" y="4005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98160" y="4005360"/>
                <a:ext cx="36360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21520" y="4005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45240" y="400536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211640" y="6418080"/>
              <a:ext cx="3749400" cy="250560"/>
              <a:chOff x="4211640" y="6418080"/>
              <a:chExt cx="3749400" cy="250560"/>
            </a:xfrm>
          </p:grpSpPr>
          <p:sp>
            <p:nvSpPr>
              <p:cNvPr id="261" name=""/>
              <p:cNvSpPr/>
              <p:nvPr/>
            </p:nvSpPr>
            <p:spPr>
              <a:xfrm>
                <a:off x="4211640" y="6418080"/>
                <a:ext cx="362160" cy="25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35000" y="64180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57280" y="6418080"/>
                <a:ext cx="36324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82440" y="64180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04360" y="64180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28080" y="6418080"/>
                <a:ext cx="362160" cy="25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50360" y="64180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74080" y="6418080"/>
                <a:ext cx="36216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97440" y="6418080"/>
                <a:ext cx="363600" cy="250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11640" y="5805360"/>
              <a:ext cx="4607640" cy="258120"/>
              <a:chOff x="4211640" y="5805360"/>
              <a:chExt cx="4607640" cy="258120"/>
            </a:xfrm>
          </p:grpSpPr>
          <p:sp>
            <p:nvSpPr>
              <p:cNvPr id="271" name=""/>
              <p:cNvSpPr/>
              <p:nvPr/>
            </p:nvSpPr>
            <p:spPr>
              <a:xfrm>
                <a:off x="4211640" y="5814720"/>
                <a:ext cx="361800" cy="248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34280" y="5814720"/>
                <a:ext cx="3636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057280" y="5814720"/>
                <a:ext cx="3618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82440" y="5814720"/>
                <a:ext cx="3618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03280" y="5814720"/>
                <a:ext cx="3636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28080" y="5814720"/>
                <a:ext cx="361800" cy="248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51080" y="5814720"/>
                <a:ext cx="3618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74440" y="5814720"/>
                <a:ext cx="3618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99240" y="5814720"/>
                <a:ext cx="3618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20080" y="5814720"/>
                <a:ext cx="3636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455680" y="5805360"/>
                <a:ext cx="363600" cy="248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6135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684360" y="620640"/>
            <a:ext cx="4751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ка Орфографи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540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 бреж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покор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застро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вспаха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вида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навид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спе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просмотренный мно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свер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е)сту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59640" y="404280"/>
            <a:ext cx="17985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rcRect l="7688" t="25175" r="5518" b="3857"/>
          <a:stretch/>
        </p:blipFill>
        <p:spPr>
          <a:xfrm>
            <a:off x="395280" y="260280"/>
            <a:ext cx="8424720" cy="6153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755640" y="2133720"/>
            <a:ext cx="43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Прива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7777080" cy="6121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26920" y="549360"/>
            <a:ext cx="6697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мок Фразеологизмо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07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ясь опоздать, я несся в школу…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ы всем классом … принялись за уборку школьного двора, и только двое бездельников сидели …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взвесив всех возможных трудностей, я пустился в рискованное предприятие …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испытывая большой любви к этому предмету, я … сел готовиться к контроль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ш учитель истории, обладая даром рассказчика, объяснял материал так, что мы слушали …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ясь опоздать, я несся в школу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сломя голову; высунув язык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ы всем классом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не покладая рук; засучив рукава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ялись за уборку школьного двора, и только двое бездельников сидели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сложа руки; били баклуши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 взвесив всех возможных трудностей, я пустился в рискованное предприятие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очертя голову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 испытывая большой любви к этому предмету, я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скрепя сердце; не мудрствуя лукаво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л готовиться к контроль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ш учитель истории, обладая даром рассказчика, объяснял материал так, что мы слушали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раскрыв ро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править ошиб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43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были два дюжие молодца еще смотревшие исподлобья, как недавно выпущенные семинарис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яц с вышины неба давно уже озарял весь двор, наполненный спящ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между тем степь уже давно приняла их в свои объятия, и высокая трава обступивши скрыла 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дая, глядела мать в очи своих сынов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них были только длинные чубы, за которые мог выдрать их всякий козак носивший оруж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0" y="907560"/>
            <a:ext cx="4572000" cy="576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были два дюжие молодц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еще смотревшие исподлобья, как недавно выпущенные семинарис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яц с вышины неба давно уже озарял весь двор, наполненный спящ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между тем степь уже давно приняла их в свои объятия, и высокая трав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ступивши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крыла 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дая, глядела мать в очи своих сынов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них были только длинные чубы, за которые мог выдрать их всякий козак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сивший оруж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ценочный л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26920" y="1341360"/>
          <a:ext cx="7558200" cy="5182920"/>
        </p:xfrm>
        <a:graphic>
          <a:graphicData uri="http://schemas.openxmlformats.org/drawingml/2006/table">
            <a:tbl>
              <a:tblPr/>
              <a:tblGrid>
                <a:gridCol w="5672160"/>
                <a:gridCol w="188604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зеро Знаний (тес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Лес Суффиксов (буквенный диктан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ора Смекалки (кроссвор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Река Орфографии (графический диктант НЕ с причастием и деепричастие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Замок Фразеологизмов (знаки препин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выполненных зад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87640" y="404640"/>
            <a:ext cx="547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зеро Знани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веты к тест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)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)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 Б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)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)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9640" y="404640"/>
            <a:ext cx="8064720" cy="587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995640" y="620640"/>
            <a:ext cx="442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с Суффиксов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374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лова для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апыв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бя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полн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брав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ка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ыс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граю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ос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лыша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ющ-                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ящ-                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я-                   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енн-                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ши               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ш-                 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-                   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ючи-              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ш-                   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-                    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49360"/>
            <a:ext cx="374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608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84360" y="476280"/>
            <a:ext cx="482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Поляна отдых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блема и пути ее ре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блема: 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Встречаясь в тексте с причастиями и деепричастиями, мы не умеем их различ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блемный вопрос: </a:t>
            </a: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Что нужно знать, чтобы различать причастия и деепричаст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рианты реш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ать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ить суффи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ить морфологические при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ить синтаксическую 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62064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ора Смекал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05:04:24Z</dcterms:created>
  <dc:creator>Пользователь</dc:creator>
  <dc:description/>
  <dc:language>en-US</dc:language>
  <cp:lastModifiedBy>Пользователь</cp:lastModifiedBy>
  <dcterms:modified xsi:type="dcterms:W3CDTF">2006-12-13T10:43:13Z</dcterms:modified>
  <cp:revision>25</cp:revision>
  <dc:subject/>
  <dc:title>Презентация PowerPoint</dc:title>
</cp:coreProperties>
</file>