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gif" ContentType="image/gi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EAC-3BFB-4B60-B547-70F24582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1B5-A717-45C8-B557-AC84C126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3DC-5DAB-4CA2-BB08-032F2A62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147-9E07-42B6-9183-34409FD1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82E5-3B62-489D-81DB-8908287C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6BF8-EEBE-413A-BAF5-2F263360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9E0D-E581-4A36-BE1E-BE9C3AE8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DC98-5E12-45CD-8D30-608FE1C5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B0F0-F09C-471C-B503-8B6C1EB8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D66-DEF2-491B-800D-745ADC6A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5E54-B982-4052-A5E4-00F3CA09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336-B08D-4781-B0E3-0453E558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EE49-CAB4-4E5A-B93B-BB3638B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11F7-5B97-41B3-B42C-557F26C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89C4-120E-430D-A248-D27C02AD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2E08-34E5-4DD2-B9F1-C8549688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C4E7-3752-4AEC-AEB3-7FF21137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F54-8AB2-4381-97D0-2C59ED8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C05-196D-404A-9F1C-4AB40C30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BCC-E1C5-4096-839D-3FF9EE48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C59-42D5-4A7A-9EA1-8B5291D7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4ED-64F3-49BC-9745-149FEC5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A7D-01DF-49D0-A1FA-59403905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4FF-5EAE-4367-844B-893155C5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DB79-47AB-4E4D-A42F-4AF19BCF649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5D16-8E8D-4AEC-AC99-B7857E9B00F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84872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Изучение отношения учащихся и учителей к сквернословию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8920" y="34286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ыло протестирова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ителя 9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ащиеся 5 - 8 класс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кл. – 16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 «а» кл. – 12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 «б» кл. – 12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кл. - 16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 кл. – 12 челове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65800" y="3933720"/>
            <a:ext cx="2430360" cy="2700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. Кто чаще выражается нецензурно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19280" y="1851120"/>
          <a:ext cx="662472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51120"/>
                    <a:ext cx="66247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3. Употребляют ли такие слова учителя нашей школы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1913040"/>
          <a:ext cx="7559640" cy="47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13040"/>
                    <a:ext cx="755964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467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4. Знаете ли вы о негативных последствиях сквернословия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95640" y="1484280"/>
          <a:ext cx="69483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484280"/>
                    <a:ext cx="6948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7928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89000"/>
            <a:ext cx="77929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5.Какие меры, по – вашему нужно принять, чтобы решить эту проблему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785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спитание и повышение уровня культуры родите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одить беседы с родителями и деть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седовать на классных час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одить примеры этикетной реч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 стороны родителей - запретить просмотр недетских передач, филь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 одних учителей мало что зависи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казыва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общать родител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00720" y="4525920"/>
            <a:ext cx="2664000" cy="2278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13840"/>
            <a:ext cx="703584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Tahoma"/>
              </a:rPr>
              <a:t>МНЕНИЯ УЧАЩИХСЯ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2360" y="2151000"/>
            <a:ext cx="3672000" cy="3510000"/>
          </a:xfrm>
          <a:prstGeom prst="rect">
            <a:avLst/>
          </a:prstGeom>
          <a:ln w="0">
            <a:noFill/>
          </a:ln>
        </p:spPr>
      </p:pic>
      <p:pic>
        <p:nvPicPr>
          <p:cNvPr id="104" name="gols" descr=""/>
          <p:cNvPicPr/>
          <p:nvPr/>
        </p:nvPicPr>
        <p:blipFill>
          <a:blip r:embed="rId2"/>
          <a:stretch/>
        </p:blipFill>
        <p:spPr>
          <a:xfrm>
            <a:off x="1158840" y="2205000"/>
            <a:ext cx="3052800" cy="3816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1. Употребляете ли вы в речи нецензурную брань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844640"/>
          <a:ext cx="91440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91440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388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2. Как вы относитесь к людям, которые сквернословя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4000" y="1773360"/>
          <a:ext cx="864072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86407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6443640" y="229248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6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3. От кого вы впервые услышали нецензурную брань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1773360"/>
          <a:ext cx="871380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138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4. Знаете ли вы о негативных последствиях сквернословия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8000" y="2706840"/>
          <a:ext cx="876924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706840"/>
                    <a:ext cx="876924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8331120" y="411120"/>
          <a:ext cx="60192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1120" y="411120"/>
                    <a:ext cx="6019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76720" y="189000"/>
            <a:ext cx="586728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а. Нужно.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ужно, но по-моему ничего не поможет.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а. Исключать из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ужно. Просто человека будут не уваж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де-то нужно, а где-то не ну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не безразли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а. Отрывать я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нести закон, что нельзя так выраж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Устроить конкурс вежл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ужно, но от этого сложно будет изба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ыставлять на линейке.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ужно, но не знаю как.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авать штраф.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т, ненужно.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казывать.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е знаю.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060640"/>
            <a:ext cx="3313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5. Нужно ли искоренять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квернословие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?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Если нужно, то как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681984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Tahoma"/>
              </a:rPr>
              <a:t>МНЕНИЯ УЧИТЕЛЕЙ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cs_people_38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4946760" cy="3862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86636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1.Существует ли проблема в нашей школе злоупотребления в речи ненормативной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лексики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?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40000" y="1844640"/>
          <a:ext cx="68040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44640"/>
                    <a:ext cx="68040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089080" cy="3047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4:32:36Z</dcterms:created>
  <dc:creator>Vladykin</dc:creator>
  <dc:description/>
  <dc:language>en-US</dc:language>
  <cp:lastModifiedBy>Пользователь</cp:lastModifiedBy>
  <dcterms:modified xsi:type="dcterms:W3CDTF">2006-12-13T12:45:01Z</dcterms:modified>
  <cp:revision>5</cp:revision>
  <dc:subject/>
  <dc:title>Слайд 1</dc:title>
</cp:coreProperties>
</file>