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FF6-147F-493C-9ABD-8B738FA1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C31-7D25-4A66-A274-34C00B5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69A-C859-4B89-9540-EDE46CCF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802-FF93-4562-94A8-48956755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B530-05E8-4339-A45F-0082BA28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D1CE-E426-4812-89D4-FB3A8A1E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90AC-968B-4C43-A0FB-7D4699E7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A102-BCAE-48F7-8176-158B7D0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1C42-6B24-4941-9BD2-B2F91371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619-A4DC-496D-BD3B-C6A65F80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308A-D1B5-40AD-8FF9-4FA68A1D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F77-8769-4C9F-8D56-D2145059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8FBB-EEF1-4F6E-A1AC-8BDC460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A54F-C4F2-4EA1-A5DE-774FC92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F2B6-0ED0-4CE0-AD71-5FFF866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C85-E5D8-4BA7-AF6E-9846DB53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538-3165-42F1-9644-40F95C5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198-6770-413F-914A-9C2C88BF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FE7-1246-4D87-B8E2-EC6E794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0D7-873A-4DC5-91B9-0E88A182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C05-65CC-425A-8585-A033D798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6D2-318C-41BC-9595-2FEB4091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AE1-CD20-4C8A-9AA8-8A3173D2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A7E-C241-4795-B518-9F27933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343C-4953-43D1-8881-F68A9D38E0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5AE-4C8A-4381-8E83-04DFE72D56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8;&#1079;&#1091;&#1095;&#1077;&#1085;&#1080;&#1077;%20&#1086;&#1090;&#1085;&#1086;&#1096;&#1077;&#1085;&#1080;&#1103;%20&#1091;&#1095;&#1072;&#1097;&#1080;&#1093;&#1089;&#1103;%20&#1080;%20&#1091;&#1095;&#1080;&#1090;&#1077;&#1083;&#1077;&#1081;%20&#1082;%20&#1089;&#1082;&#1074;&#1077;&#1088;&#1085;&#1086;&#1089;&#1083;&#1086;&#1074;&#1080;&#1102;.pp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13800" cy="201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ак слово наше отзовется…»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о сквернословии)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751280" y="3716280"/>
            <a:ext cx="439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ловом можно уби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ловом можно спаст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ловом можно полк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За собой повест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.Шефне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916360" y="765000"/>
            <a:ext cx="54655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Статья 130. Оскорбление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1. Оскорбление, то есть унижение чести и достоинства другого лица, выраженное в неприличной форме, -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наказывается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штрафом в размере до сорока тысяч рублей или в размере заработной платы или иного дохода осужденного за период до трех месяцев, либо обязательными работами на срок до ста двадцати часов, либо исправительными работами на срок до шести месяцев.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2. Оскорбление, содержащееся в публичном выступлении, публично демонстрирующемся произведении или средствах массовой информации, -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наказывается штрафом в размере до восьмидесяти тысяч рублей или в размере заработной платы или иного дохода осужденного за период до шести месяцев, либо обязательными работами на срок до ста восьмидесяти часов, либо исправительными работами на срок до одного год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109960" cy="302436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1476360" y="6381720"/>
            <a:ext cx="431640" cy="28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71640" y="2133720"/>
            <a:ext cx="6691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умай, что говоришь,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говоришь что думаешь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47640" y="3573360"/>
            <a:ext cx="67694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жде чем выпустить слова</a:t>
            </a: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нижней части головы, </a:t>
            </a: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пусти их сначала</a:t>
            </a: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верхнюю часть!</a:t>
            </a: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 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церон</a:t>
            </a:r>
            <a:endParaRPr b="0" lang="en-US" sz="1800" spc="1" strike="noStrike">
              <a:ln w="0">
                <a:noFill/>
              </a:ln>
              <a:solidFill>
                <a:srgbClr val="703d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75582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ецензурная брань захлестнула Россию. Мат  несется на нас с экранов телевизоров, с театральных и эстрадных подмостков, из радиоприемников. Мы слышим его в магазине ,в автобусе, на улице ,иногда в семье…Что это- невежество? Непонимание опасности, которую несет употребление этой лексики не только одному человеку, но и всему народу, государству в целом? Или преднамеренная целенаправленная политика разрушения нашей культур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763640" y="4797360"/>
            <a:ext cx="6337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очему люди употребляют нецензурную брань в своей реч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Понимают ли они, в чем ее опасност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933720"/>
            <a:ext cx="6870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облемные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1332000" y="6308640"/>
            <a:ext cx="28728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088040" cy="14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чему люди употребляют сквернословия?</a:t>
            </a:r>
            <a:br>
              <a:rPr sz="4000"/>
            </a:b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(выдержки из сочинен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9214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Для оскорбления людей, на которых держат з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тому что плохо воспита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тому что находятся в нетрезвом состоя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Хотят показать, какие они «крутые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Чтобы успокоить душу, выпустить па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Иногда доводят до такого состоя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Когда не знают культурных слов, а хотят выразить сво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«СКВЕРНА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мерзость, гадость, пакость, все гнусное, противное, отвратительное, непотребное, что мерзит плотски и духовно, нечистота, грязь и гниль, тление, мертвечина, извержения, кал, смрад, вонь, непотребство, разврат, нравственное растление, все богопротивно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ловарь Дал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>
            <a:hlinkClick r:id="rId1"/>
          </p:cNvPr>
          <p:cNvSpPr/>
          <p:nvPr/>
        </p:nvSpPr>
        <p:spPr>
          <a:xfrm>
            <a:off x="1403280" y="6524640"/>
            <a:ext cx="360360" cy="333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Обращение к учащимся школ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87280" y="2789280"/>
            <a:ext cx="684072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 вреде сквернослови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О грехе сквернослов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 мате сатанинский дух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се, для кого «мат» и «мать» едины, должны помнить, что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обровольно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служат сатане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сех, кто матом ругается, ждет ад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Сквернословие – это начало богоотступничеств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сподствуй над языком, чтобы не умножать грехов своих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Из высказываний мудрец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эр Хрюклик «Ода сквернословию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3772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лавословлю 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вернословие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ез него тяжело  вдалеке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 причин - не счесть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И потребность е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 богатырском родном язы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вернословие –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злословие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 двойного не ведает дн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сто шлешь ег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хорошего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 пойдет он как миленький на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0" y="1267920"/>
            <a:ext cx="37720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квернослов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есловию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товарищ, не брат, не своя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днозначно все обозначено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кого, и куда , чем и как 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квернословие –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не сослови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профессор, поправив пенсне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тянет дн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мямлив «бля»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позабытой  Всевышним стран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4941720"/>
            <a:ext cx="3771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квернослов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условл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тистрессовым  клапаном бы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лагодать прид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оно умр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олько нам до того  дожить??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932040" cy="735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93204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вернословие и наказ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131640" y="1828800"/>
            <a:ext cx="524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Сквернословие на Руси примерно до середины 19 века не только не было распространено даже в деревне, но и очень долго являлось уголовно наказуемы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А во времена царей Михаила Федоровича и Алексея Михайловича выматерившегося человека подвергали публичной пор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79856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18302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15640" y="2637000"/>
            <a:ext cx="72658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Глава 20. Административные правонарушения, посягающие на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общественный порядок и общественную безопасность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  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     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Статья 20.1.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Мелкое хулиганство 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     1. Мелкое хулиганство, то есть нарушение общественного порядка, выражающее явное неуважение к обществу, сопровождающееся нецензурной бранью в общественных местах, оскорбительным приставанием к гражданам, а равно уничтожением или повреждением чужого имущества, - </a:t>
            </a:r>
            <a:br>
              <a:rPr sz="1800"/>
            </a:b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    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 влечет наложение административного штрафа в размере от пяти до десяти минимальных размеров оплаты труда или административный арест на срок до пятнадцати суток.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2879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2:18:11Z</dcterms:created>
  <dc:creator>Пользователь</dc:creator>
  <dc:description/>
  <dc:language>en-US</dc:language>
  <cp:lastModifiedBy>Пользователь</cp:lastModifiedBy>
  <dcterms:modified xsi:type="dcterms:W3CDTF">2006-12-13T14:00:10Z</dcterms:modified>
  <cp:revision>3</cp:revision>
  <dc:subject/>
  <dc:title>«Как слово наше отзовется…» (о сквернословии)</dc:title>
</cp:coreProperties>
</file>