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B1D-A466-459F-B779-570CE0CB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957-E715-495A-AFCC-B6929EE8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8C5-9B81-4772-8BC8-A1917571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4BA-EF95-474F-BC6F-DFEAFD4C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C3A-FC23-4D53-85DC-4B0EB091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8D4-8511-4F5F-B030-DD70C217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6BC-5080-45E1-8825-EB999025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977-5A25-4704-A882-94B1B562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FEF-F065-467A-978A-B3AD1B9D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C82-7311-45E9-B5D3-5E45986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B7C-64CE-4280-BB83-2D93185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54E-3D0E-4FB3-820D-13CFA0FE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7ADF-1F75-447F-8DBF-3378E7F99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ссный час в 7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«Каково на дому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аково и самом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660480" cy="310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24360" y="515772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Таборской СОШ Оханского района Петухова Г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6524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семейной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Будь предан своей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Уважай каждого, кто живет ря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Терпимо относись к чужому мн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Умей прощать и не обижа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Будь уверен в себе и достоин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Стремись улучшить себя, отношения с    род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диции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анкеты для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тдых на природе всей семь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чаем дни рож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 Нового года в кругу семь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дарим подарки, сделанные своими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частливая семья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анкеты для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огда все друг друга поним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овь и взаимопоним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ая сем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и друж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месте в горе и рад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огда все помогают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овицы о сем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ом жить - обо всем т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 хозяин, таков и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красна изба углами, а кра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рог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о на дому, таково и сам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який дом хозяином держ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Дом вести – не лапти п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ончите предло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на занятии я узнал(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вспомнил(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удивился(ась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чувствовал(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я развивал(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вет в окне –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бы он не г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вет в окне –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ревожных любимых гла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вет в окне – чередою бегут г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вет в окне – пусть не гаснет он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9280" y="2104920"/>
            <a:ext cx="4236840" cy="4564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60436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 классного часа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питание хорошего семьян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ему, по вашему мнению, 2008 год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объявлен в России Годом семь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анкеты для родител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емья для человека – главное в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емья теряет свою значи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каждый ребенок должен жить в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в России было больше счастливых семей и меньше сир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государство стало больше внимания уделять семье.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ституция о сем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1640" y="1125360"/>
            <a:ext cx="43988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а 2. Статья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Материнство и дет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ья находятся 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щито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Забота о детях,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ие – равное 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бязанность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Трудоспособные де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игшие 18 лет, дол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отиться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рудоспособ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т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238400"/>
            <a:ext cx="3741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ейный кодекс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639800"/>
            <a:ext cx="374796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32360" y="1484280"/>
            <a:ext cx="381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557360"/>
            <a:ext cx="49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дел 1. Семейное                                 законод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.1 Основные начала семейного законодательст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ья, материн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цовство и детство в Российской Федерации  находятся под защито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ждаемость в Оханском райо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нварь 2006 года –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нварь 2007 года –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нварь 2008 года – 24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64000" y="2970360"/>
            <a:ext cx="3399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. Осеева «Баб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37306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чувства вы испытали, познакомившись с отрывком из рассказа «Баб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кажите, что бабка обладала душевным богатством и мудр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Кто виноват в том, что бабку не уважали в сем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Образ счастливой семь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группа: подумайте о Правилах семей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зни;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группа: изобразите герб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группа: расскажите о семейных тради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37:37Z</dcterms:created>
  <dc:creator>Галина Ивановна</dc:creator>
  <dc:description/>
  <dc:language>en-US</dc:language>
  <cp:lastModifiedBy>Metod_2</cp:lastModifiedBy>
  <dcterms:modified xsi:type="dcterms:W3CDTF">2008-02-18T05:44:05Z</dcterms:modified>
  <cp:revision>19</cp:revision>
  <dc:subject/>
  <dc:title>Классный час в 7 классе по теме: «Каково на дому, таково и самому». Посвящается Году семьи.</dc:title>
</cp:coreProperties>
</file>