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C7F-7DD5-4B3C-83B9-0BC0E0F1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DD7-BF7C-42EF-962D-178B20AA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384-29FB-497E-A3EB-73907DBD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506-283A-4E80-AFEA-706EBF23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930D-A5A2-4E44-8324-BF442A4F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4B6E-A54C-4268-8C29-F4EF20C9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901E-79B9-4512-B142-18FA875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3E86-9844-43BB-B87C-138F58C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6513-C644-4D60-B7C5-41D830C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7206-3E2C-408B-9119-D0C3FEF9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080B-86DF-48D4-82FB-D9A2B3C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80C-3AFD-4886-939C-AD55907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942-E78D-48CD-A8ED-4E1FD411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4971-29E7-4C8E-9554-F7F1B324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8BE3-423C-44D6-ADDC-5CEB5D0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76A-25B9-4D2C-AFB5-69A9DBAE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A0AF-9B06-4133-B443-CBC405E1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6D3-1DAC-4D2C-A7C2-162BBE02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2EA-BFBC-4962-B519-32C69BD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592-D7F1-4717-A107-2BD9BE80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094-31F0-47F6-8A85-6110BB8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F32-EED8-4CBE-B53B-A4A6567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011-FAC3-4FF9-B3D0-5DEEFE7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63B-0A56-4F92-9380-334E5E7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7AED-B78E-4953-B06A-1FD66166751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D862-3129-4DA4-A641-2434F26F77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ечественная вой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12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00000" y="333360"/>
          <a:ext cx="7561440" cy="57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33360"/>
                    <a:ext cx="756144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ородинское сраже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578640" cy="4101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граничный поход русской арм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громив войска Наполеона в России, русские войска перешли границу Российской империи и продолжали преследовать французскую армию на территории Европы. Так начался Заграничный поход русской армии 1813-1814 годов.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В этом походе войска союзников одержали решающую победу над Наполеоном в Лейпцигском сражении, изгнали их с территории Германии и 18 марта 1814 года взяли Париж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19 марта была подписана Конвенция о капитуляции Парижа. Вслед за этим император Франции Наполеон I отрекся от престол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259000"/>
            <a:ext cx="4038480" cy="3213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енский конгрес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 Вене по инициативе России, Великобритании, Австрии и Пруссии был созван международный конгресс. Конгресс проходил с сентября 1814 по июнь 1815 года. Инициаторы Венского конгресса ставили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целью реставрацию свергнутых династий и принципов государственного устройства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существовавших до наполеоновского завоевания,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удовлетворение территориальных притязаний стран-победительниц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путем передела Европы и колоний. В итоге была создана система договоров, регулировавших отношения между европейскими государствами и закреплявших на длительный период границы между ними. Дополненная созданием "Священного союза" и "Четверного союза" России, Великобритании, Австрии и Пруссии эта система просуществовала до 50-х годов XIX ве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038480" cy="3705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9:10:16Z</dcterms:created>
  <dc:creator>Дом</dc:creator>
  <dc:description/>
  <dc:language>en-US</dc:language>
  <cp:lastModifiedBy>Дом</cp:lastModifiedBy>
  <dcterms:modified xsi:type="dcterms:W3CDTF">2005-02-22T12:10:26Z</dcterms:modified>
  <cp:revision>7</cp:revision>
  <dc:subject/>
  <dc:title>История России                          XIX век</dc:title>
</cp:coreProperties>
</file>