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340-A81E-465F-84DE-12A74056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4FBD-6C6D-4E68-8C13-81550CBD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0B8-CE95-4F3B-8ABF-BDFFBE5F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0F17-E26B-4A79-888F-F532A2C1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F0F8-F44D-4259-A578-07B795A4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F329-9346-4E09-A769-C60C01C8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284A-B936-410A-8FD1-AF76391E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DD5F-6890-4827-8F79-DEA95E54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E726-A816-4699-BB17-9AD98D0D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7CA8-5F49-4022-ACB8-65FBD965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348C-51A1-4A64-A143-2E7C4DE7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5AF4-E101-4B2E-8261-E31DD410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E4FA-FCDF-433A-A51D-40CFC9BE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7B37-FD8A-4095-9BAF-56DAE5CB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8073-BDBF-4E43-9A71-E1732A78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F2DC-B521-469D-9B10-F6E11519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4D38-3D97-4931-BA0C-C0C38151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9C4E-AD84-4E70-9B91-AD46721A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6CE-3457-42D2-8EF7-02727BFF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44E-A28D-459A-9ED3-AED5F531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74A-4925-40FD-9400-41B74D38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26D5-5DAA-4119-B1DB-018D8AE5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2AE-7D68-4A1F-8E61-F17B4A13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DADB-ACBD-4515-A285-7707C8DD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660C-EDC0-447F-8FBE-D820DFC15CC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521D-CC7D-402C-876B-C744732A033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История России</a:t>
            </a: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                            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XIX </a:t>
            </a: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век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хитектур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ая полови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ОНФЕРРАН Август Августович</a:t>
            </a:r>
            <a:r>
              <a:rPr b="0" lang="ru-RU" sz="1800" spc="-1" strike="noStrike">
                <a:solidFill>
                  <a:srgbClr val="006633"/>
                </a:solidFill>
                <a:latin typeface="Garamond"/>
              </a:rPr>
              <a:t> Исаакиевский собор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946680" cy="439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3944880" cy="4392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716360" y="836640"/>
            <a:ext cx="395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Дворцовая площадь с Александровской коло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429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ОССИ Карл Иван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усский архитектор. Создал ряд монументальных ампирных ансамблей в Санкт-Петербурге, активно формирующих архитектурный облик города: Михайловский дворец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6560" y="1628640"/>
            <a:ext cx="35593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Росси Карл Иванович.</a:t>
            </a:r>
            <a:br>
              <a:rPr sz="3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Михайловский дворец в Санкт-Петербурге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62120" y="1628640"/>
            <a:ext cx="3946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МАРТОС Иван Петр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усский скульптор. Представитель классицизма. В мемориальной пластике Мартоса гармонично сочетаются гражданский пафос, идеальная возвышенность, обаяние и жизненность образов. Памятник Минину и Пожарскому в Москв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6560" y="1628640"/>
            <a:ext cx="4011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амятник Минину и Пожарскому.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                      Мартос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608200" y="1628640"/>
            <a:ext cx="3948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ТАСОВ Василий Петр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усский архитектор. Представитель ампира. Павловские казармы (ныне Ленэнерго), Преображенский и Троицкий соборы, Нарвские и Московские триумфальные ворота в Санкт-Петербурге, провиантские склады в Москв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87360" y="1557360"/>
            <a:ext cx="4011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ТОН Константин Андрее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усский архитектор. Создатель «русско-византийского» стиля: храм Христа Спасителя (разрушен в 1931; восстановлен в 1995-2000) в Москве, Большой Кремлевский дворец и Оружейная палата Московского Кремл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0280" y="1700280"/>
            <a:ext cx="3948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Тон Константин Андреевич</a:t>
            </a:r>
            <a:br>
              <a:rPr sz="3800"/>
            </a:br>
            <a:r>
              <a:rPr b="0" lang="en-US" sz="1600" spc="-1" strike="noStrike">
                <a:solidFill>
                  <a:srgbClr val="006633"/>
                </a:solidFill>
                <a:latin typeface="Garamond"/>
              </a:rPr>
              <a:t>Большой Кремлевский дворец                               Храм Христа Спасителя</a:t>
            </a:r>
            <a:br>
              <a:rPr sz="3800"/>
            </a:b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3200" y="1557360"/>
            <a:ext cx="4010040" cy="4464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3946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БОВЕ Осип Иван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усский архитектор. Представитель ампира. Главный архитектор Комиссии для восстановления Москвы после пожара 1812. При участии Бове реконструирована Красная площадь (1815), создана Театральная площадь с Большим театром, Триумфальные ворота, 1-я Градская больни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23754" r="-2215" b="25123"/>
          <a:stretch/>
        </p:blipFill>
        <p:spPr>
          <a:xfrm>
            <a:off x="2484360" y="1530360"/>
            <a:ext cx="410364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лассицизм в архитектуре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итектуре классицизма присущи четкость и геометризм форм, логичность планировки,. Главными законами архитектурной композиции был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имметр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дчеркивание центра, общая гармония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радный вхо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ычно располагался в центре и оформлялся в вид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р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ыступающей вперед части здания с колоннами и фронтоном)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олонны  чаще всего красили в белый цвет, а стены – в желт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432108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Захаров Андрей Дмитриевич.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Адмиралтейство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ументальное здание в строгих формах русского ампира по традиционной трехосевой схеме: башня, окруженная вверху колоннадой и увенчанная куполом со шпилем, и два крыла, каждое из которых имеет центральный портик и две боковые шестиколонные лодж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6560" y="1628640"/>
            <a:ext cx="4011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АМПИ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тиль в архитектуре и декоративном искусстве трех первых десятилетий 19 в., завершивший развитие классицизма.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Массивные подчеркнуто монументальные формы и богатый декор (военные эмблемы, орнамент)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опора на художественное наследие императорского Рима, древнегреческой архаи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ТОМА ДЕ ТОМОН</a:t>
            </a:r>
            <a:br>
              <a:rPr sz="3800"/>
            </a:b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Ростральная колонна у здания бывшей Биржи на Васильевском острове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усский архитектор. По происхождению француз. С 1799 работал в России. В монументальных формах русского ампира выстроены Биржа и ростральные колонны в Санкт-Петербурге «Мавзолей» в Павловск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6560" y="1628640"/>
            <a:ext cx="4011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ВОРОНИХИН Андрей Никифорович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усский архитектор, представитель ампира. Произведения в Санкт-Петербурге — Казанский собор, положивший начало крупному городскому ансамблю на Невском проспекте, Горный институт — отмечены монументальной и строгой торжественностью. Участвовал в создании архитектурных ансамблей Павловска и Петергоф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ВОРОНИХИН Андрей Никифорович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</a:t>
            </a:r>
            <a:r>
              <a:rPr b="0" lang="en-US" sz="1600" spc="-1" strike="noStrike">
                <a:solidFill>
                  <a:srgbClr val="006633"/>
                </a:solidFill>
                <a:latin typeface="Garamond"/>
              </a:rPr>
              <a:t>Казанский собор                                                                Горный институт</a:t>
            </a:r>
            <a:br>
              <a:rPr sz="3800"/>
            </a:b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6560" y="1628640"/>
            <a:ext cx="4011840" cy="4464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700520" y="1628640"/>
            <a:ext cx="4010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ЛОДТ Петр Карлович</a:t>
            </a:r>
            <a:br>
              <a:rPr sz="4200"/>
            </a:br>
            <a:r>
              <a:rPr b="0" lang="en-US" sz="1800" spc="-1" strike="noStrike">
                <a:solidFill>
                  <a:srgbClr val="006633"/>
                </a:solidFill>
                <a:latin typeface="Garamond"/>
              </a:rPr>
              <a:t>«Укрощение коня» (Аничков мост)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усский скульптор. Представитель позднего классицизма. Монументальные и камерные станковые произведения отмечены точностью передачи повадок животных, главным образом лошадей (4 конные группы на Аничковом мосту в Санкт-Петербург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6560" y="1628640"/>
            <a:ext cx="4011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ОНФЕРРАН Август Август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усский архитектор. По происхождению француз. С 1816 работал в России. Представитель позднего классицизма. Исаакиевский собор, Александровская колонна — в Санкт-Петербург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6:23:28Z</dcterms:created>
  <dc:creator>Дом</dc:creator>
  <dc:description/>
  <dc:language>en-US</dc:language>
  <cp:lastModifiedBy>Дом</cp:lastModifiedBy>
  <dcterms:modified xsi:type="dcterms:W3CDTF">2005-02-23T19:28:51Z</dcterms:modified>
  <cp:revision>5</cp:revision>
  <dc:subject/>
  <dc:title>История России                              XIX век</dc:title>
</cp:coreProperties>
</file>