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F903-F20B-4E5D-A2E5-1C91B875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4E26-E192-427D-8AC3-59480C5C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4362-0D16-44B4-A3BF-3BB2EEE7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DAA4-5B03-4031-B325-64DF8C0F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5BE0-27B9-4504-BEEC-ED60F4F4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E9C7-99D8-42AA-B7F1-F585AF31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9BB1-D329-4B6B-8C48-54DA60AC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B73D-6C1B-4450-A838-017EA38D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B4DA-DF88-4F17-B2D1-38108869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3E87-9AE6-48C5-A698-C3D45A00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9D91-135B-4A4F-A5D1-C47D44BC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B54-5A43-412F-AD09-E7EE1E34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CD7D-AB31-4E91-92A6-ECDF401D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4BB4-2876-43B1-85D3-786A8B5F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8B92-A293-4299-8B33-0755F78D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F9A0-E451-4F7B-99B8-551D8A0E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3660-83A6-4E81-9BF9-DC5B6064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B847-80C9-457A-8E69-839EA130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2746-DDBE-40A7-A9FF-D589557F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E5C8-4309-461D-BB67-56BC2535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5078-F0ED-40E4-ACF1-9720ECE2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A725-EDCE-4A40-811D-504E93E5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86EF-62C1-4741-B10F-F2E8DC12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A564-DF61-435C-B142-0B8EFFD3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7695-5F79-4FAC-AC53-7AE64E8595F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5BC2-1E59-40C9-9F17-A650C7B5D8E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История России</a:t>
            </a:r>
            <a:br>
              <a:rPr sz="5000"/>
            </a:b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                             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XIX </a:t>
            </a: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век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ая полови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Крузенштерн Иван Федор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чальник первой русской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кругосветной экспедиции 1803-1806 год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на кораблях «Надежда» и «Нева». Впервые нанес на карту около тысячи км восточного, северного и северо-западного берега острова Сахалин. Автор «Атласа Южного моря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57680" y="1628640"/>
            <a:ext cx="3946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ЛИСЯНСКИЙ Юрий Федор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усский мореплаватель, капитан 1-го ранга. В первой российской кругосветной экспедиции И. Ф. Крузенштерна 1803-1806 командовал шлюпом «Невой».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Открыл один из Гавайских островов,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названный в его честь островом Лисянского;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исследовал остров Кадьяк и часть архипелага Александра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В ходе путешествия Лисянский впервые в истории мореплавания совершил за 142 дня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безстановочный переход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от китайского порта Кантона до британского Портсмута. 17 августа 1806 года «Нева» вернулась в Кронштад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57680" y="1628640"/>
            <a:ext cx="40114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6633"/>
                </a:solidFill>
                <a:latin typeface="Garamond"/>
              </a:rPr>
              <a:t>ЛИТКЕ Федор Петрович</a:t>
            </a:r>
            <a:endParaRPr b="0" lang="en-US" sz="4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усский мореплаватель и географ, адмирал. Участник кругосветной экспедиции 1817-19 В. М. Головнина. В 1821-24 руководил исследованиями Новой Земли и Баренцева моря, в 1826-29 — кругосветной экспедицией на шлюпе «Сенявин»,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открыл 2 группы островов Карблинской цеп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составил комплексную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характеристику Берингова мор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Один из основателей и руководителей Русского географического общества. Председатель Морского ученого комите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НЕВЕЛЬСКОЙ Геннадий Иванович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усский исследователь Дальнего Востока, адмирал (1874). В 1848-49 и 1850-55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исследовал Сахали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установил, что это остров), низовья р. Амур, Татарский пролив. Основал Николаевский пос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94320" y="1557360"/>
            <a:ext cx="40100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ЗАГОСКИН Лаврентий Алексеевич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русский морской офицер,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исследователь Аляск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В 1842-44 руководил исследованиями в районе зал. Нортон и Коцебу, в бас. рек Юкон  и Кускокуи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ЧИРИКОВ Алексей Ильич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русский мореплаватель, капитан-командор. В 1725-30 и 1733-41 помощник В. Беринга в 1-й и 2-й Камчатских экспедициях. В 1741 на «Св. Павле»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ткрыл часть северо-западного побережья Сев. Америки, открыл ряд островов в Алеутской гряд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БАРАНОВ Александр Андрее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оссийский купец, коллежский советник, первый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Главный правитель Русской Америк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1790-1818),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исследователь Северной Америк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57680" y="1628640"/>
            <a:ext cx="40114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ИННОКЕНТИ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в миру Иван Евсеевич Попов-Вениаминов), русский православный миссионер, епископ Камчатский, затем Московский и Коломенский.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Распространял христианство среди народов Восточной Сибир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алеутов, колошей и др.), при его участии Священное Писание было переведено на алеутский и якутский языки. Этнографические и лингвистические труды об алеута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ГОЛОВНИН Василий Михайл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усский мореплаватель, член-корреспондент Петербургской АН, вице-адмирал. Руководил кругосветными плаваниями на «Диане» и «Камчатке». На Курильских островах захвачен японцами, был в плену в 1811-13.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Оставил записки о пребывании в Японии, о кругосветных плавания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Лобачевский Николай Иван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фессор Казанского университета.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Создал неевклидову геометрическую систем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3946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инин Николай Николае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имик-органик. Открыл метод получения ароматических аминов. Впервые синтезировал этим методом анилин и другие ароматические амины, заложив основы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производства синтетических красителей, душистых веществ, лекарственных сред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57680" y="1628640"/>
            <a:ext cx="40114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Якоби Борис Семен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ссийский физик и электротехник. Много трудов по практическому применению электричества. Изобрел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электродвигате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опробовал его для привода судна. Создал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гальванотехни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несколько типов телеграфных аппаратов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Исследовал электромагн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57680" y="1628640"/>
            <a:ext cx="3946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Аносов Павел Петр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оссийский металлург. Известен работами по высококачественной литой стали. Создал новый метод ее получения, объединив науглероживание и плавление металла.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Раскры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утерянный в средние века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секрет изготовления булатной стал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Автор книги «О булатах». Впервые применил микроскоп для исследования строения стал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труве Василий Яковле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йский астроном и геодезист, академик Петербургской АН, основатель и первый директор Пулковской обсерватории. Произвел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ервое определение звездного параллак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установил наличие поглощения света в межзвездном пространстве. В результате работ Струве и К. И. Теннера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змерена дуга меридиана от Дуная до Северного Ледовитого ок. в 25 °20'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57680" y="1628640"/>
            <a:ext cx="40114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ирогов Николай Иван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оссийский хирург и анатом, педагог. Участник Севастопольской обороны, русско-турецких войн. Впервые произвел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операцию под наркозом на поле боя, ввел неподвижную гипсовую повязку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предложил ряд хирургических опер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57680" y="1628640"/>
            <a:ext cx="40114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Карамзин Николай Михайл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сийский историк, писатель. Создатель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«Истории государства Российского»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дного из значительных трудов в Российской историографии. Основоположник русского сентиментализма. Редактор «Московского журнала» и «Вестника Европ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57680" y="1628640"/>
            <a:ext cx="40114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акин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ЧУРИН Никита Яковлевич (в монашестве Иакинф), российски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итаеве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член-корреспондент Петербургской АН. 14 лет возглавлял духовную миссию в Пекине. Переводчик в Министерстве иностранных дел России. Основные работы по истории и этнографии монголо- и тюркоязычных народов (по китайским источникам), истории, культуре и философии Ки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92520" y="1557360"/>
            <a:ext cx="4076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1:39:53Z</dcterms:created>
  <dc:creator>Дом</dc:creator>
  <dc:description/>
  <dc:language>en-US</dc:language>
  <cp:lastModifiedBy>Дом</cp:lastModifiedBy>
  <dcterms:modified xsi:type="dcterms:W3CDTF">2005-02-22T12:09:33Z</dcterms:modified>
  <cp:revision>6</cp:revision>
  <dc:subject/>
  <dc:title>История России                              XIX век</dc:title>
</cp:coreProperties>
</file>