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D7A-F98E-4DFD-9B66-A7F53A18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074-E43B-4E6A-8EAC-A70721E2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FCF-C955-4DBE-958E-E5A0213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856-A049-4C2F-8D72-0EFF3D7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54C-1949-47D5-9D48-E3404F44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2C2-3B0D-44C9-94C5-43B772AE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78E-1DED-437C-8B86-2A952499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EC3B-E6EC-4B3A-A77C-A1A463AC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82E-BE1F-4399-B535-91B31221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62A0-DECD-4555-A96A-2C516273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6127-5B63-4171-86BD-0331FC3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D0C-2BB6-483B-A93F-FB3F337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921F-8056-4A0B-9646-8C721C6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378-BEB9-4714-84F9-B7AF047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177E-D805-42FB-82BB-B4F3553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6831-D853-423C-9466-4895D875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E39-88D2-4724-9D5A-7A237633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9EF-0C0E-4997-8921-36A5558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E84-4B57-45D6-AF66-E7AC0E4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F88-E338-449A-955F-00FF0C40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C87-78C3-40FC-A9A6-32A65E1A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F1F-86FA-46A0-A964-3E6BA77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61F-118D-44AC-BA79-24A6F75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4FB-1556-4D3A-9737-C701591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391B-C129-4E75-90B7-BDEBA099E1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614A-AA7C-4DD6-8CDB-0840FA53AA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мская 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53-18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1fef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чина 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Борьба России и Франции за укрепление своего влияния на Ближнем Вост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7fef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9640" y="333360"/>
          <a:ext cx="8353440" cy="58705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траны-участниц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Цели стран-участниц войн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оссийская импер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Пересмотр режима черноморских пролив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Усиление влияния на Балканском полуостров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сманская импер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Подавление национально-освободительного движения на Балкан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Возвращение Крыма и черноморского побережья Кавк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Англия, Франц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Подорвать международный авторитет России, ослабить её позиции на Ближнем Востоке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Укрепить свои позиции на Ближнем Востоке, используя его как рынок сбы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Луи Бонапарт, французский император, мечтал об укреплении своей власти через победоносную вой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16000" y="331920"/>
          <a:ext cx="6408720" cy="57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1920"/>
                    <a:ext cx="640872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ee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чины пораж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Социально – экономическая отсталость России от стран Западной Евро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Военно-техническая отстал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Отсутствие ж/д транспо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Парусный ф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Коррупция, воровство чинов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Рекрутская систе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efa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арижский договор 1856 г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Россия потеряла : Южную Бесарабию, крепости и военный флот на Чёрном море; право покровительства балканским народ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6fef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начение Крымской 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Подорван международный престиж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Показала необходимость проведения буржуазных рефо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00"/>
                </a:solidFill>
                <a:latin typeface="Arial"/>
              </a:rPr>
              <a:t>Освободительная война на Балканах и образование Румы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8:16:48Z</dcterms:created>
  <dc:creator>Дом</dc:creator>
  <dc:description/>
  <dc:language>en-US</dc:language>
  <cp:lastModifiedBy>Дом</cp:lastModifiedBy>
  <dcterms:modified xsi:type="dcterms:W3CDTF">2005-03-07T18:06:59Z</dcterms:modified>
  <cp:revision>5</cp:revision>
  <dc:subject/>
  <dc:title>История России                        XIX век</dc:title>
</cp:coreProperties>
</file>