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192-4989-47EA-82B0-36A3DF5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9B5-79DD-4277-8E11-346AE67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31A-1222-493F-B253-DD753AA9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38B-95A0-4B32-999E-DA7E9358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4CC9-2974-4FF4-BDCC-45C87DEC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E18-BA93-421F-AA97-EDE3C95D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771E-426E-41F8-AA9C-A98AC6F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F7E-C242-4A00-8AF2-8BFC267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215-6946-480E-A0D9-7F18C14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FF15-DDFC-4F6C-AFBD-E1045CC6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E97-0E30-453E-AC7C-824391B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8CE-D082-4626-AC6E-AE492AE3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D97C-5FDF-4A7F-B87B-D18F358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4F01-6B98-42A7-A400-DC2400C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5D0B-A67E-4B2E-AB8B-918E23B6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725C-9A34-4326-939B-6C2AA978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F2E2-47CE-40CC-8435-159CDBF1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0BE-FC89-46AE-A050-EB6C0468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66C-4156-47BC-A3AE-96C2573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092-8568-45BA-BB25-41DD684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B1C-40A5-4E92-A367-AD01641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46F-0F8D-4CB9-86F5-9F0C1DA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062-0467-4734-8FAE-E096DE7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673-CCCB-485D-A28B-4C166BC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E64-75B9-49E1-8C60-614B1DE369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B496-EA45-4A14-8778-C612D293B5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яя политика Александ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01 – 18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47628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Государственные преобразования Александра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781360"/>
            <a:ext cx="3600720" cy="2653560"/>
          </a:xfrm>
          <a:prstGeom prst="rect">
            <a:avLst/>
          </a:prstGeom>
          <a:gradFill rotWithShape="0">
            <a:gsLst>
              <a:gs pos="0">
                <a:srgbClr val="cc9900">
                  <a:alpha val="98039"/>
                </a:srgbClr>
              </a:gs>
              <a:gs pos="100000">
                <a:srgbClr val="f7f1d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Создание министерств (1802 – 1811), заменявших коллегии. Установление единонача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781360"/>
            <a:ext cx="4174920" cy="2653560"/>
          </a:xfrm>
          <a:prstGeom prst="rect">
            <a:avLst/>
          </a:prstGeom>
          <a:gradFill rotWithShape="0">
            <a:gsLst>
              <a:gs pos="0">
                <a:srgbClr val="cc9900">
                  <a:alpha val="98039"/>
                </a:srgbClr>
              </a:gs>
              <a:gs pos="100000">
                <a:srgbClr val="f4ea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Государственный Совет – высший законосовещательный орган при императоре (просуществовал до 1917 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55736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5736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03280" y="476280"/>
            <a:ext cx="6697800" cy="998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e4fec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Им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(высшая законодательная и распорядительная вла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844640"/>
            <a:ext cx="1800000" cy="14724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1fe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н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(высшее духовное учре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3645000"/>
            <a:ext cx="1800000" cy="147240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1fe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е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высшее судебное учре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1773360"/>
            <a:ext cx="2376360" cy="147240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2fee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Мини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органы исполнительной вла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3645000"/>
            <a:ext cx="3240360" cy="1472400"/>
          </a:xfrm>
          <a:prstGeom prst="rect">
            <a:avLst/>
          </a:prstGeom>
          <a:gradFill rotWithShape="0">
            <a:gsLst>
              <a:gs pos="0">
                <a:srgbClr val="ccff99">
                  <a:alpha val="98039"/>
                </a:srgbClr>
              </a:gs>
              <a:gs pos="100000">
                <a:srgbClr val="f1fe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Государственны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законосовещательный орг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92000" y="155736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84360" y="1557360"/>
            <a:ext cx="719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7640" y="1557360"/>
            <a:ext cx="7207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1557360"/>
            <a:ext cx="503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964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оциальная политика Александра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1185840"/>
            <a:ext cx="5040360" cy="14655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6ee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Задуманную программу либеральных преобразований в социальной сфере императору осуществить не удалось. Царь ограничился отдельными и непоследовательными мер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284640"/>
            <a:ext cx="1440000" cy="1313640"/>
          </a:xfrm>
          <a:prstGeom prst="rect">
            <a:avLst/>
          </a:prstGeom>
          <a:gradFill rotWithShape="0">
            <a:gsLst>
              <a:gs pos="0">
                <a:srgbClr val="cc9900">
                  <a:alpha val="98039"/>
                </a:srgbClr>
              </a:gs>
              <a:gs pos="100000">
                <a:srgbClr val="f4eac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Указ о вольных хлебопаш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645000"/>
            <a:ext cx="2376360" cy="2228400"/>
          </a:xfrm>
          <a:prstGeom prst="rect">
            <a:avLst/>
          </a:prstGeom>
          <a:gradFill rotWithShape="0">
            <a:gsLst>
              <a:gs pos="0">
                <a:srgbClr val="cc9900">
                  <a:alpha val="98039"/>
                </a:srgbClr>
              </a:gs>
              <a:gs pos="100000">
                <a:srgbClr val="f1e4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8,180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Указы, ограничивающие произвол помещиков: запрет продавать крестьян на ярмарках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314172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3213000"/>
            <a:ext cx="1441440" cy="1618560"/>
          </a:xfrm>
          <a:prstGeom prst="rect">
            <a:avLst/>
          </a:prstGeom>
          <a:gradFill rotWithShape="0">
            <a:gsLst>
              <a:gs pos="0">
                <a:srgbClr val="cc9900">
                  <a:alpha val="98039"/>
                </a:srgbClr>
              </a:gs>
              <a:gs pos="100000">
                <a:srgbClr val="eddda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Право недворян покупать зем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87280" y="278136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278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2708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ЛЕКСАНДР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ссийский император с 1801. Старший сын   Павла I. В начале правления провел умеренно либеральные реформы, разработанные Негласным комитетом и М. М. Сперанск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9481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ЗАДАЧИ ПРАВЛЕНИ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Александра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91628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773360"/>
            <a:ext cx="324036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на деспотических распоряжений Пав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924280"/>
            <a:ext cx="331308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тановление Жалованных грамот дворянству и гор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700280"/>
            <a:ext cx="360036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овершенствование государственного строя России с учетом влияния прогрессивных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3213000"/>
            <a:ext cx="360036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«Негласного комитета» и разработка реформ госаппарата М.Сперан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292640"/>
            <a:ext cx="338472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зднение Тайной экспедиции, возвращение репрессированных Пав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4724280"/>
            <a:ext cx="36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формы Государственной власти (1802 – 18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404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«Негласный комитет» Александра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197000"/>
            <a:ext cx="1511280" cy="368280"/>
          </a:xfrm>
          <a:prstGeom prst="rect">
            <a:avLst/>
          </a:prstGeom>
          <a:gradFill rotWithShape="0">
            <a:gsLst>
              <a:gs pos="0">
                <a:srgbClr val="f2e7c5"/>
              </a:gs>
              <a:gs pos="100000">
                <a:srgbClr val="cc9900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25360"/>
            <a:ext cx="6048360" cy="642600"/>
          </a:xfrm>
          <a:prstGeom prst="rect">
            <a:avLst/>
          </a:prstGeom>
          <a:gradFill rotWithShape="0">
            <a:gsLst>
              <a:gs pos="0">
                <a:srgbClr val="f7f1de"/>
              </a:gs>
              <a:gs pos="100000">
                <a:srgbClr val="cc9900">
                  <a:alpha val="9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одые аристократы, «друзья царя»: П.Строганов, Н.Новосильцев, В. Кочубей. А. Чарторы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2133720"/>
            <a:ext cx="172728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Задачи ко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508640"/>
            <a:ext cx="2016000" cy="1313640"/>
          </a:xfrm>
          <a:prstGeom prst="rect">
            <a:avLst/>
          </a:prstGeom>
          <a:gradFill rotWithShape="0">
            <a:gsLst>
              <a:gs pos="0">
                <a:srgbClr val="99ffcc">
                  <a:alpha val="98039"/>
                </a:srgbClr>
              </a:gs>
              <a:gs pos="100000">
                <a:srgbClr val="e0fe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1) Изучение реальной обстановки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213000"/>
            <a:ext cx="2592360" cy="2654280"/>
          </a:xfrm>
          <a:prstGeom prst="rect">
            <a:avLst/>
          </a:prstGeom>
          <a:gradFill rotWithShape="0">
            <a:gsLst>
              <a:gs pos="0">
                <a:srgbClr val="99ffcc">
                  <a:alpha val="98039"/>
                </a:srgbClr>
              </a:gs>
              <a:gs pos="100000">
                <a:srgbClr val="dafe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2) Реформы госаппарата, учреждение конституции (без ограничения власти цар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565360"/>
            <a:ext cx="3313080" cy="2654280"/>
          </a:xfrm>
          <a:prstGeom prst="rect">
            <a:avLst/>
          </a:prstGeom>
          <a:gradFill rotWithShape="0">
            <a:gsLst>
              <a:gs pos="0">
                <a:srgbClr val="99ffcc">
                  <a:alpha val="98039"/>
                </a:srgbClr>
              </a:gs>
              <a:gs pos="100000">
                <a:srgbClr val="e7fe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3) Обсуждение вопросов внешней политики России, её обороноспособности. постепенной отмены крепостного права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341360"/>
            <a:ext cx="505080" cy="142920"/>
          </a:xfrm>
          <a:custGeom>
            <a:avLst/>
            <a:gdLst>
              <a:gd name="textAreaLeft" fmla="*/ 0 w 505080"/>
              <a:gd name="textAreaRight" fmla="*/ 505440 w 505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924280"/>
            <a:ext cx="216000" cy="1441440"/>
          </a:xfrm>
          <a:prstGeom prst="downArrow">
            <a:avLst>
              <a:gd name="adj1" fmla="val 50000"/>
              <a:gd name="adj2" fmla="val 166833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276640"/>
            <a:ext cx="2592360" cy="215640"/>
          </a:xfrm>
          <a:prstGeom prst="rightArrow">
            <a:avLst>
              <a:gd name="adj1" fmla="val 50000"/>
              <a:gd name="adj2" fmla="val 300543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2924280"/>
            <a:ext cx="142920" cy="217440"/>
          </a:xfrm>
          <a:prstGeom prst="downArrow">
            <a:avLst>
              <a:gd name="adj1" fmla="val 50000"/>
              <a:gd name="adj2" fmla="val 3803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ЧУБЕЙ Виктор Павл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оссийский государственный деятель и дипломат, князь (1831), почетный член Петербургской АН (1818). Член Негласного комитета. В 1802-07 и 1819-23 министр внутренних дел. С 1827 председатель Государственного совета и Кабинета министров. Сторонник умеренных рефор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388332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ОВОСИЛЬЦЕВ Николай Никола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раф, российский государственный деятель. Член Негласного комитета. В 1803-10 президент Петербургской АН. С 1813 фактически управлял Польшей. С 1832 председатель Государственного совета и кабинета министр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57680" y="1628640"/>
            <a:ext cx="388296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Курс реформ, предложенный М.Сперанским                                                 (1808 – 18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773360"/>
            <a:ext cx="17272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Основные принципы функциониро вания государственного мех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076640"/>
            <a:ext cx="1942920" cy="20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«Разделение состояния людей» по уровню гражданских и политических пр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597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Независимость судебной власти, ответственность исполнительной власти перед законод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4149720"/>
            <a:ext cx="216072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Разделение властей: законодательная, исполнительная и 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2637000"/>
            <a:ext cx="590544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Выборность распорядительных и исполнительных органов власти на 4-х уровнях ( волость, уезд, губерния, импе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258560" y="38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3500280"/>
            <a:ext cx="790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2997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268360" y="198900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ЕРАНСКИЙ Михаил Михайл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ий государственный деятель, граф (1839). С 1808 ближайший советник императора Александра I, автор плана либеральных преобразований, инициатор создания Государственного совета (1810), руководил кодификацией Основных государственных законов Российской империи (18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2744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Изменения в госаппар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1197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едлаг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98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чреждение Государственной 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06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оздание Государственного     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99736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сший представительный орган власти (обсуждение законо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14172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работка и обсуждение законопроектов. Связующее звено между царем и исполнительной, законодательной, судебной вла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40000" y="170028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1628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332000" y="256536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270828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229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формы М.Сперанского, направленные на модернизацию и европеизацию государственного управления России, встретили жесткое сопротивление дворянства и были отвергнуты Александ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5373720"/>
            <a:ext cx="432000" cy="647640"/>
          </a:xfrm>
          <a:custGeom>
            <a:avLst/>
            <a:gdLst>
              <a:gd name="textAreaLeft" fmla="*/ 187920 w 432000"/>
              <a:gd name="textAreaRight" fmla="*/ 244080 w 432000"/>
              <a:gd name="textAreaTop" fmla="*/ 281880 h 647640"/>
              <a:gd name="textAreaBottom" fmla="*/ 365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03" y="9403"/>
                </a:lnTo>
                <a:lnTo>
                  <a:pt x="10800" y="0"/>
                </a:lnTo>
                <a:lnTo>
                  <a:pt x="12197" y="9403"/>
                </a:lnTo>
                <a:lnTo>
                  <a:pt x="21600" y="10800"/>
                </a:lnTo>
                <a:lnTo>
                  <a:pt x="12197" y="12197"/>
                </a:lnTo>
                <a:lnTo>
                  <a:pt x="10800" y="21600"/>
                </a:lnTo>
                <a:lnTo>
                  <a:pt x="9403" y="1219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5:06:18Z</dcterms:created>
  <dc:creator>Дом</dc:creator>
  <dc:description/>
  <dc:language>en-US</dc:language>
  <cp:lastModifiedBy>Дом</cp:lastModifiedBy>
  <dcterms:modified xsi:type="dcterms:W3CDTF">2005-02-04T18:57:16Z</dcterms:modified>
  <cp:revision>6</cp:revision>
  <dc:subject/>
  <dc:title>История России                               XIX век</dc:title>
</cp:coreProperties>
</file>