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81E5-A8A2-473B-9E8E-455FB9763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B11C-2CAD-48A6-B927-37E0F03D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572D-38DF-4C7E-A92E-D870E51F4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3D38-8204-4C40-912D-3308CC0C8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D167-2961-4BC2-B119-8776FA23A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0CDB-44DE-4436-8182-63EE03ED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3767-A707-4473-B6A7-D9DCF5CC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E264-7C61-415D-9E27-5C4ED220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0C66-CB8D-480C-80CE-AEBA9888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C3E3-FA46-4343-90C0-FB486558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9DDA-000F-4E17-A0BB-FAC82542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4B95-09A8-4195-A2AA-46C1295D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8CEEB-DCD9-4D56-BD5F-CF0B5753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2DEE-5978-4B0C-B9D6-DD27EDE5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9063-3D35-4236-866F-C93A4295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DBF2-3115-498E-AEAF-E10CFDAE6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6899-6BB5-4715-A72C-39C3674D4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655B-D2BB-48E1-90F1-6D721A76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68B6-B9C5-45B4-93AF-80117DFC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CE13-7352-435B-8C3B-227C5ADA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5F32-25B0-475C-AA27-85446D0E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4724-3A99-4546-A76C-C79692B5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8021-329D-4929-ADC4-C7096573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C510-F52A-4E4F-82FE-BE48CFDE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56CB-5A0A-4538-AAE7-197BACD0538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6282-8E1E-49D0-BA78-CD1F0939514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История России</a:t>
            </a:r>
            <a:br>
              <a:rPr sz="5000"/>
            </a:b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                </a:t>
            </a: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XIX </a:t>
            </a: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век.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олотой век русской куль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театр, музыка, журналисти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«МОСКОВСКИЙ ТЕЛЕГРАФ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Литературно-критический, общественно-политический журнал, издавался в 1825-34 в Москве Н. А. Полевым. Печатались А. С. Пушкин, П. А. Вяземский, В. А. Жуковский, Е. А. Баратынский; переводы западноевропейских писател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ыделялся </a:t>
            </a:r>
            <a:r>
              <a:rPr b="0" lang="en-US" sz="2600" spc="-1" strike="noStrike">
                <a:solidFill>
                  <a:srgbClr val="ff0066"/>
                </a:solidFill>
                <a:latin typeface="Arial"/>
              </a:rPr>
              <a:t>либеральной направленность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Писатель и историк Н.А.Полевой выступал за </a:t>
            </a:r>
            <a:r>
              <a:rPr b="0" lang="en-US" sz="2600" spc="-1" strike="noStrike">
                <a:solidFill>
                  <a:srgbClr val="ff0066"/>
                </a:solidFill>
                <a:latin typeface="Arial"/>
              </a:rPr>
              <a:t>уравнение прав всех сословий, за приобщение народов России к европейской культур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«СОВРЕМЕННИК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22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Журнал. Основан А. С. Пушкиным. После смерти поэта издавался группой его друзей во главе с В. А. Жуковским. С 1838 перешел к П. А. Плетневу, который в 1846 передал свои права Н. А. Некрасову и И. И. Панаев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847-1866 (издавали те же редакторы). До 1-й пол. 1848 идейный руководитель «Современника» — В. Г. Белинский. Сотрудничали А. И. Герцен, И. С. Тургенев, Л. Н. Толстой, М. Е. Салтыков-Щедрин, Н. Г. Чернышевский, Н. А. Добролюб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084720" y="2276640"/>
            <a:ext cx="269244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«ОТЕЧЕСТВЕННЫЕ ЗАПИСКИ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жемесячный журнал, Санкт-Петербург (до 1868 издавался А. А. Краевским, затем Н. А. Некрасовым, М. Е. Салтыковым-Щедриным, Г. З. Елисеевым). Руководитель отдела критики — В. Г. Белинский. Под руководством Некрасова продолжал традиции «Современника»; после смерти Некрасова в редакцию вошел Н. К. Михайловск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084720" y="1916280"/>
            <a:ext cx="269244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ЩЕПКИН Михаил Семенович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Российский актер. Реформатор русского театра. До 1822 крепостной, играл в крепостном театре. </a:t>
            </a:r>
            <a:r>
              <a:rPr b="0" lang="ru-RU" sz="1700" spc="-1" strike="noStrike">
                <a:solidFill>
                  <a:srgbClr val="ff0066"/>
                </a:solidFill>
                <a:latin typeface="Arial"/>
              </a:rPr>
              <a:t>Утверждал просветительное значение театра, разрабатывал принципы искусства перевоплощения.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Друг А. И. Герцена, Н. В. Гоголя, В. Г. Белинского, Т. Г. Шевченко. Лучшие роли в произведениях сатирической направленности (Фамусов — «Горе от ума» А. С. Грибоедова; Городничий — «Ревизор» Н. В. Гоголя), а также образы «униженных и оскорбленных» (Муромский — «Свадьба Кречинского» А. С. Сухово-Кобылина; Кузовкин — «Нахлебник» И. С. Тургенева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788000" y="1557360"/>
            <a:ext cx="39448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МОЧАЛОВ Павел Степанович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оссийский актер. </a:t>
            </a:r>
            <a:r>
              <a:rPr b="0" lang="ru-RU" sz="2200" spc="-1" strike="noStrike">
                <a:solidFill>
                  <a:srgbClr val="ff0066"/>
                </a:solidFill>
                <a:latin typeface="Arial"/>
              </a:rPr>
              <a:t>Крупнейший представитель романтизма в русском театре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 1817 на московской сцене. Прославился в трагедиях У. Шекспира (Гамлет — «Гамлет»), Ф. Шиллера (Карл Моор, Фердинанд — «Разбойники», «Коварство и любовь»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716360" y="1557360"/>
            <a:ext cx="3559320" cy="39607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716360" y="566100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. С. Мочалов в роли Мейнау («Ненависть к людям и раскаяние» А. Коцебу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КАРАТЫГИН Василий Андреевич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208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усский актер. С 1820 ведущий трагик Санкт-Петербургского театра. </a:t>
            </a:r>
            <a:r>
              <a:rPr b="0" lang="ru-RU" sz="2600" spc="-1" strike="noStrike">
                <a:solidFill>
                  <a:srgbClr val="ff0066"/>
                </a:solidFill>
                <a:latin typeface="Arial"/>
              </a:rPr>
              <a:t>Представитель русского сценического классицизма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В театре выступали также отец, мать и жена Каратыгина. Роли: Велизарий («Велизарий» Э. Шенка), Гамлет («Гамлет» У. Шекспира) и др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859280" y="1700280"/>
            <a:ext cx="3429000" cy="3816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788000" y="5661000"/>
            <a:ext cx="38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. А. Каратыгин в роли Велизар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ГЛИНКА Михаил Иванович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5464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усский композитор, 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родоначальник русской классической музы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Автор опер «Жизнь за царя» («Иван Сусанин») и «Руслан и Людмила», которые положили начало 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двум направлениям русской оперы — народной музыкальной драме и опере-сказке, опере-былине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имфонические сочинения: «Камаринская» (1848), «Испанские увертюры» («Арагонская хота», 1845, и «Ночь в Мадриде», 1851), заложили основы русского симфонизма. Классик русского роман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148360" y="1628640"/>
            <a:ext cx="34941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ДАРГОМЫЖСКИЙ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Александр Сергеевич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69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усский композитор, один из основоположников русской 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классической музы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Последователь М. И. Глинки. Главное произведение — опера «Русалка» ( по драматической поэме А. С. Пушкина) знаменовала 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рождение нового жанра русской оперы — народно-бытовой психологической драм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Творчество Даргомыжского отразило критические социальные тенденции (песни «Старый капрал», «Титулярный советник»). Оказал значительное влияние на музыку композиторов «Могучей кучки», П. И. Чайковск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292720" y="1916280"/>
            <a:ext cx="34275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БУЛГАРИН Фаддей Венедиктович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75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усский журналист, писатель. Издавал газету «Северная пчела», журнал «Сын отечества » и др. Автор нравоописательного, с элементами авантюрности романа «Иван Выжигин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076720" y="1700280"/>
            <a:ext cx="35593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ГРЕЧ Николай Иванович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оссийский журналист, писатель, филолог, член-корреспондент Петербургской АН. В 1812-39 издавал (с 1825 совместно с Ф. В. Булгариным) журнал «Сын отечества», в 1831-59 совместно с ним же — газету «Северная пчела». После 1825 эволюционировал от </a:t>
            </a:r>
            <a:r>
              <a:rPr b="0" lang="ru-RU" sz="2600" spc="-1" strike="noStrike">
                <a:solidFill>
                  <a:srgbClr val="ff0066"/>
                </a:solidFill>
                <a:latin typeface="Arial"/>
              </a:rPr>
              <a:t>либерализма к консерватизму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Мемуары «Записки о моей жизни», «литературные путешествия», романы; «Практическая русская грамматика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«ПОЛЯРНАЯ ЗВЕЗДА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дин из лучших русских художественных альманахов пушкинской поры; издавался А. А. Бестужевым и К. Ф. Рылеевым в Петербурге в 1823-25 (вышло 3 книжки). </a:t>
            </a:r>
            <a:r>
              <a:rPr b="0" lang="en-US" sz="2600" spc="-1" strike="noStrike">
                <a:solidFill>
                  <a:srgbClr val="ff0066"/>
                </a:solidFill>
                <a:latin typeface="Arial"/>
              </a:rPr>
              <a:t>Издание декабристской ориентаци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«Полярная звезда» объединила наиболее значительных писателей эпохи ( А. С. Пушкин, В. А. Жуковский, А. С. Грибоедов, И. А. Крылов, П. А. Вяземский, Е. А. Баратынский, В. К. Кюхельбекер и др.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66"/>
                </a:solidFill>
                <a:latin typeface="Arial"/>
              </a:rPr>
              <a:t>Программа: освобождение крестьян с землей, отмена цензур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Общеполитические статьи, корреспонденции из России, исторические материалы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0T11:44:52Z</dcterms:created>
  <dc:creator>Дом</dc:creator>
  <dc:description/>
  <dc:language>en-US</dc:language>
  <cp:lastModifiedBy>Дом</cp:lastModifiedBy>
  <dcterms:modified xsi:type="dcterms:W3CDTF">2005-02-22T12:06:13Z</dcterms:modified>
  <cp:revision>3</cp:revision>
  <dc:subject/>
  <dc:title>История России                 XIX век.</dc:title>
</cp:coreProperties>
</file>