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900-9A28-4E45-8738-EDE1952E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903-7C36-4520-A7B8-754CA84F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FB6-1D52-48E9-B10E-A3E34AFC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57E-EA58-45DB-9D23-BF13C053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4E8-1AB1-4BC9-8871-CD6F6233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20C4-CDBA-4295-817B-B3BC3BC0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6382-EC11-4A68-9138-ABE333D3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A3AB-2419-47D2-ABE5-621E5DB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3E79-2C87-4585-8E3C-9EEB5CD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4CAB-5544-4963-8919-ED1CC587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A575-4073-4E37-96AF-78007BF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1DD-C542-44C4-8600-D487ED8D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BD4-D1D1-4F80-81CD-219C4AB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5457-FA4C-422E-A0DD-F163175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934F-619F-45CC-B81B-138453C3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5BEA-F206-4462-B233-4740EBC3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F82-33C5-439B-B556-2B782EC1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39D-6967-4614-B582-9ECBFB9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2E9-324B-46A7-946C-11B6306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7C2-4633-4510-B8B4-F0467534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514-4DE6-4AED-B59B-438776F2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D7E-69D8-470A-AD3A-B095886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E77-DCB7-47E7-B60B-E96EECE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A61-C585-4970-B0EC-060B40C1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697E-1F94-4270-B61E-59EBC473E4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EB76-A70F-4431-B373-3DDF982E7B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абрис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ЕСТЕЛЬ Павел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абрист, полковник, командир Вятского пехотного полка. Участник Отечественной войны 1812 и заграничных походов. Член «Союза спасения» и «Союза благоденствия», организатор Тульчинской управы, основатель и директор Южного общества декабристов. Республиканец. Автор «Русской правды». Арестован (по доносу) 13 декабря 1825. Повеш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0280" y="1700280"/>
            <a:ext cx="388296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РУБЕЦКОЙ Сергей Пет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нязь, декабрист, полковник. Участник Отечественной войны 1812 и заграничных походов. Один из организаторов «Союза спасения», «Союза благоденствия» и Северного общества. Избран диктатором восстания, но на Сенатскую пл. 14 декабря 1825 не явился. Приговорен к вечной каторге. С 1826 в Нерчинских рудниках, в 1839-56 на поселении в Иркутской губ. Автор «Записок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ХОВСКИЙ Петр Григорь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лен Северного общества. Каховский был склонен к романтическому бунтарству, накануне восстания 14 декабря вызывался совершить цареубийств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ховский активно участвовал в подготовке восстания 14 декабря. Во время восстания он выстрелом из пистолета смертельно ранил военного губернатора генерала М. А. Милорадовича и командира лейб-гвардии Гренадерского полка Стюрлера. 15 декабря Каховский был арестован. Приговорен к смертной казни и повеше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ЫЛЕЕВ Кондратий Федо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усский поэт, декабрист. Член Северного общества, один из руководителей восстания 14 декабря 1825. Создатель альманаха «Полярная звезда». Казн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92520" y="1557360"/>
            <a:ext cx="4076640" cy="453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66"/>
                </a:solidFill>
                <a:latin typeface="Arial"/>
              </a:rPr>
              <a:t>Восстание декабристов произошло 14 декабря 1825 г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 Сенатской площади в Петербурге. Это было первое открытое выступление против самодержавия и крепостного права, подготовленное тайной политической дворянской организацией. </a:t>
            </a:r>
            <a:r>
              <a:rPr b="0" lang="ru-RU" sz="2100" spc="-1" strike="noStrike">
                <a:solidFill>
                  <a:srgbClr val="ff0066"/>
                </a:solidFill>
                <a:latin typeface="Arial"/>
              </a:rPr>
              <a:t>Целью восставших было добиться низложения императора и образования Временного правительства для выработки конституции. Программа восставших включала отмену крепостного права, установление унитарной республики или конституционной монархии с федеративным устройством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ыступление было подавлено царскими войсками, а его участники отправлены в тюрьму Петропавловской крепости. 13 июля 1826 года в Петропавловской крепости были казнены пять руководителей восстания на Сенатской площади: П.Г.Каховский, С.И.Муравьев-Апостол, П.И.Пестель, М.П.Бестужев-Рюмин, К.Ф.Рылеев. В тот же день над 97 участниками выступления был произведен обряд гражданской казни. В 1826-1827 годах 121 человек по приговору Верховного уголовного суда был сослан на каторгу и поселение в Сибирь. Репрессиям подверглись свыше трех тысяч солда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К. И. Кольман. «14 декабря 1825 года на Сенатской площади». Акварель. 1830-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гг.</a:t>
            </a:r>
            <a:br>
              <a:rPr sz="3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646" t="18039" r="-183" b="21326"/>
          <a:stretch/>
        </p:blipFill>
        <p:spPr>
          <a:xfrm>
            <a:off x="1332000" y="1533600"/>
            <a:ext cx="6480000" cy="4438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40000" y="333360"/>
            <a:ext cx="4608360" cy="1169280"/>
          </a:xfrm>
          <a:prstGeom prst="rect">
            <a:avLst/>
          </a:prstGeom>
          <a:gradFill rotWithShape="0">
            <a:gsLst>
              <a:gs pos="0">
                <a:srgbClr val="ccffcc">
                  <a:alpha val="98039"/>
                </a:srgbClr>
              </a:gs>
              <a:gs pos="100000">
                <a:srgbClr val="dffedf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Союз спас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(1816 – 18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12970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184464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1700280"/>
            <a:ext cx="5616720" cy="703800"/>
          </a:xfrm>
          <a:prstGeom prst="rect">
            <a:avLst/>
          </a:prstGeom>
          <a:gradFill rotWithShape="0">
            <a:gsLst>
              <a:gs pos="0">
                <a:srgbClr val="ccffcc">
                  <a:alpha val="98039"/>
                </a:srgbClr>
              </a:gs>
              <a:gs pos="100000">
                <a:srgbClr val="ecfeec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Н.М.Муравьев, братья Муравьевы-Апостолы, С.П.Трубецкой, П.И.Пес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781360"/>
            <a:ext cx="1439640" cy="91692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c1c173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Характер общества,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789360"/>
            <a:ext cx="48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2708280"/>
            <a:ext cx="2158920" cy="82548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e2e287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Заговор, конспи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3789360"/>
            <a:ext cx="4752720" cy="100872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1d17d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Ясных средств нет (В момент смены царей ввести конституцию; первый проект цареубийств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800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3573360"/>
            <a:ext cx="21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544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00640"/>
            <a:ext cx="72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6600ff"/>
                </a:solidFill>
                <a:uFillTx/>
                <a:latin typeface="Arial"/>
              </a:rPr>
              <a:t>Введение конституции, уничтожение крепост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6600ff"/>
                </a:solidFill>
                <a:uFillTx/>
                <a:latin typeface="Arial"/>
              </a:rPr>
              <a:t>Четкой программы преобразований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daae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76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Союз благоденствия   (1818 – 1821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341360"/>
            <a:ext cx="1368360" cy="3682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981000"/>
            <a:ext cx="2087640" cy="1440000"/>
          </a:xfrm>
          <a:prstGeom prst="irregularSeal2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781360"/>
            <a:ext cx="1512720" cy="91692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3d37e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Характер общества,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2625840"/>
            <a:ext cx="4824720" cy="133416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c1c173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Более открыты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пагандистско- просветительская деятельность, бескровный политический пере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3141720"/>
            <a:ext cx="505080" cy="358560"/>
          </a:xfrm>
          <a:custGeom>
            <a:avLst/>
            <a:gdLst>
              <a:gd name="textAreaLeft" fmla="*/ 0 w 505080"/>
              <a:gd name="textAreaRight" fmla="*/ 505440 w 50508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3933720"/>
            <a:ext cx="1800360" cy="2376720"/>
          </a:xfrm>
          <a:custGeom>
            <a:avLst/>
            <a:gdLst>
              <a:gd name="textAreaLeft" fmla="*/ 638640 w 1800360"/>
              <a:gd name="textAreaRight" fmla="*/ 1161720 w 1800360"/>
              <a:gd name="textAreaTop" fmla="*/ 843120 h 2376720"/>
              <a:gd name="textAreaBottom" fmla="*/ 15336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64" y="7664"/>
                </a:lnTo>
                <a:lnTo>
                  <a:pt x="10800" y="0"/>
                </a:lnTo>
                <a:lnTo>
                  <a:pt x="13936" y="7664"/>
                </a:lnTo>
                <a:lnTo>
                  <a:pt x="21600" y="10800"/>
                </a:lnTo>
                <a:lnTo>
                  <a:pt x="13936" y="13936"/>
                </a:lnTo>
                <a:lnTo>
                  <a:pt x="10800" y="21600"/>
                </a:lnTo>
                <a:lnTo>
                  <a:pt x="7664" y="13936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653000"/>
            <a:ext cx="6409080" cy="100872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c1c173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ведение конституции; равенство граждан перед законом, гласность, уничтожение крепостного права, рекрутчины и военных 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404640"/>
            <a:ext cx="7201080" cy="58140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Северное общество (1821 – 18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197000"/>
            <a:ext cx="2521080" cy="719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341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125360"/>
            <a:ext cx="5761080" cy="935280"/>
          </a:xfrm>
          <a:prstGeom prst="flowChartOnlineStorage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1341360"/>
            <a:ext cx="4319640" cy="631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Arial"/>
              </a:rPr>
              <a:t>Н.Муравьев, С.Трубецкой, И.Пущин, К.Рылее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00"/>
                </a:solidFill>
                <a:latin typeface="Arial"/>
              </a:rPr>
              <a:t>Е.Оболе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349360"/>
            <a:ext cx="1368360" cy="91692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Характер общества,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2637000"/>
            <a:ext cx="432000" cy="287280"/>
          </a:xfrm>
          <a:custGeom>
            <a:avLst/>
            <a:gdLst>
              <a:gd name="textAreaLeft" fmla="*/ 0 w 432000"/>
              <a:gd name="textAreaRight" fmla="*/ 432360 w 432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834160" cy="64260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Тайное общество. Вооруженное выступление при смене императоров на прест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3716280"/>
            <a:ext cx="2016360" cy="2376720"/>
          </a:xfrm>
          <a:custGeom>
            <a:avLst/>
            <a:gdLst>
              <a:gd name="textAreaLeft" fmla="*/ 731160 w 2016360"/>
              <a:gd name="textAreaRight" fmla="*/ 1285200 w 2016360"/>
              <a:gd name="textAreaTop" fmla="*/ 861840 h 2376720"/>
              <a:gd name="textAreaBottom" fmla="*/ 151488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32" y="7832"/>
                </a:lnTo>
                <a:lnTo>
                  <a:pt x="10800" y="0"/>
                </a:lnTo>
                <a:lnTo>
                  <a:pt x="13768" y="7832"/>
                </a:lnTo>
                <a:lnTo>
                  <a:pt x="21600" y="10800"/>
                </a:lnTo>
                <a:lnTo>
                  <a:pt x="13768" y="13768"/>
                </a:lnTo>
                <a:lnTo>
                  <a:pt x="10800" y="21600"/>
                </a:lnTo>
                <a:lnTo>
                  <a:pt x="7832" y="13768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7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860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3500280"/>
            <a:ext cx="5904000" cy="256284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c1c173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Установление конституционной монархии. Россия – федерация. Император – исполнительная власть. Высшая законодательная власть – двухпалатный парламент – Народное вече (Верховная дума и Палата народных представителей). Все должности в государстве – выборные. Отмена крепостного права (земля - у помещиков). Равенство всех перед законом, уничтожение сословий. Введение гражданских прав и своб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63640" y="333360"/>
            <a:ext cx="6408720" cy="58140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Южное общество (1821 – 18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268280"/>
            <a:ext cx="2448000" cy="576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341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учас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1052640"/>
            <a:ext cx="5796000" cy="1008000"/>
          </a:xfrm>
          <a:prstGeom prst="flowChartOnlineStorage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119700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П.Пестель, С.Волконский, С.Муравьёв-Апостол, М.Бестужев-Рю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349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421000"/>
            <a:ext cx="1512720" cy="91692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3d37e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Характер общества,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2708280"/>
            <a:ext cx="431640" cy="287280"/>
          </a:xfrm>
          <a:custGeom>
            <a:avLst/>
            <a:gdLst>
              <a:gd name="textAreaLeft" fmla="*/ 0 w 431640"/>
              <a:gd name="textAreaRight" fmla="*/ 43200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2492280"/>
            <a:ext cx="5688000" cy="64260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ada82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Тайное общество. Вооруженное выступление при смене императоров на прест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716280"/>
            <a:ext cx="1800000" cy="2376720"/>
          </a:xfrm>
          <a:custGeom>
            <a:avLst/>
            <a:gdLst>
              <a:gd name="textAreaLeft" fmla="*/ 638640 w 1800000"/>
              <a:gd name="textAreaRight" fmla="*/ 1161360 w 1800000"/>
              <a:gd name="textAreaTop" fmla="*/ 843120 h 2376720"/>
              <a:gd name="textAreaBottom" fmla="*/ 15336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64" y="7664"/>
                </a:lnTo>
                <a:lnTo>
                  <a:pt x="10800" y="0"/>
                </a:lnTo>
                <a:lnTo>
                  <a:pt x="13936" y="7664"/>
                </a:lnTo>
                <a:lnTo>
                  <a:pt x="21600" y="10800"/>
                </a:lnTo>
                <a:lnTo>
                  <a:pt x="13936" y="13936"/>
                </a:lnTo>
                <a:lnTo>
                  <a:pt x="10800" y="21600"/>
                </a:lnTo>
                <a:lnTo>
                  <a:pt x="7664" y="13936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3860640"/>
            <a:ext cx="6335640" cy="2014200"/>
          </a:xfrm>
          <a:prstGeom prst="rect">
            <a:avLst/>
          </a:prstGeom>
          <a:gradFill rotWithShape="0">
            <a:gsLst>
              <a:gs pos="0">
                <a:srgbClr val="ffff99">
                  <a:alpha val="98039"/>
                </a:srgbClr>
              </a:gs>
              <a:gs pos="100000">
                <a:srgbClr val="dbdb83"/>
              </a:gs>
            </a:gsLst>
            <a:lin ang="5400000"/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Установление республики, Россия – единое государство. Разделение властей: законодательная – однопалатному парламенту – Народному вечу, исполнительная – Державной думе, контролирующая – Верховному собору. Отмена крепостного права, разделение всех земель на общественную и частную. Уничтожение сословий, провозглашение гражданских своб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УРАВЬЕВ Никита Михайл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екабрист, капитан. Участник заграничных походов. Один из основателей «Союза спасения» и «Союза благоденствия». Член Верховной думы и правитель Северного общества. Автор проекта Конституции. Приговорен к 20 годам каторги. С 1827 в Нерчинских рудниках, с 1835 на поселении в Иркутской гу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УРАВЬЕВ Александр Никола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кабрист, полковник в отставке. Участник Отечественной войны 1812 и заграничных походов. Один из основателей «Союза спасения» и «Союза благоденствия». В 1826 сослан в Якутск. С 1828 на государственной службе. В 1856-61 нижегородский губерн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УРАВЬЕВ-АПОСТОЛ Матвей Иван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екабрист, подполковник в отставке. Участник Отечественной войны 1812 и заграничных походов. Один из основателей «Союза спасения» и «Союза благоденствия», член Южного общества. Участник восстания Черниговского полка. Приговорен к 20 годам каторги. С 1826 на поселении в Вилюйске, Ялуторовске; с 1856 в Твер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0280" y="1700280"/>
            <a:ext cx="388296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УРАВЬЕВ-АПОСТОЛ Сергей Иван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3946680" cy="4392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екабрист, подполковник. Участник Отечественной войны 1812 и заграничных походов. Один из основателей «Союза спасения» и «Союза благоденствия». Один из директоров Южного общества, глава Васильковской управы. Республиканец. Организатор и руководитель восстания Черниговского полка. Ранен в бою. Повешен 13(25) ию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7:26:16Z</dcterms:created>
  <dc:creator>Дом</dc:creator>
  <dc:description/>
  <dc:language>en-US</dc:language>
  <cp:lastModifiedBy>Дом</cp:lastModifiedBy>
  <dcterms:modified xsi:type="dcterms:W3CDTF">2005-02-04T19:20:09Z</dcterms:modified>
  <cp:revision>9</cp:revision>
  <dc:subject/>
  <dc:title>История России                            XIX век</dc:title>
</cp:coreProperties>
</file>