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A9850-0E8F-4442-AF1D-AE84D55FC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A5E61-BF00-457C-A767-CAB4EF3CF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32946-54FB-4C8A-BE57-A2F690D2A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CE434-DD7A-44FA-946C-5AA073962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DCD55-FF2D-4E05-B492-F3B79338A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874D4-BE6B-4907-A3D7-79E729A64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69098-7035-4EB9-8C8D-06CA80F92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15C41-0B13-4D1F-8A5B-4024CECC3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0D24A-F5F1-44AB-8072-8F55F7642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6C9A4-A3D0-41C5-AD77-0010C4ABF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C538F-D06E-4AFD-B290-9792B13CB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5A3E2-4486-4F86-8014-EE4853FBD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EEB08-CAFA-4753-BD99-B3F553BF3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4B045-A603-4A68-AAB2-FADBD1340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131EE-3ECB-404B-95A5-156F542ED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9E579-DD6C-49AF-96D4-910CA238D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3E982-38F9-478E-A77A-A37749DBE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6952D-9178-499D-B7FE-A0756730A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F4CC3-1A12-449E-BC6A-0B3C0F8D1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5C489-2EBA-42B2-8031-DC8410759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FF294-1CC1-44E3-97EF-189C32375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AD2C7-A613-4013-8DF1-D0FF1EFB8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444C6-F446-486F-BBC6-FD69BDB30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6C659-B000-4BAB-ADA8-CC456D809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CCEC9-80D9-442E-BFB1-C439EC8A768A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F694D-9EB0-4C59-B647-AF38B54E3661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06633"/>
                </a:solidFill>
                <a:latin typeface="Garamond"/>
              </a:rPr>
              <a:t>История России</a:t>
            </a:r>
            <a:br>
              <a:rPr sz="5000"/>
            </a:br>
            <a:r>
              <a:rPr b="0" lang="ru-RU" sz="5000" spc="-1" strike="noStrike">
                <a:solidFill>
                  <a:srgbClr val="006633"/>
                </a:solidFill>
                <a:latin typeface="Garamond"/>
              </a:rPr>
              <a:t>                              </a:t>
            </a: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XIX</a:t>
            </a:r>
            <a:r>
              <a:rPr b="0" lang="ru-RU" sz="5000" spc="-1" strike="noStrike">
                <a:solidFill>
                  <a:srgbClr val="006633"/>
                </a:solidFill>
                <a:latin typeface="Garamond"/>
              </a:rPr>
              <a:t> век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нешняя полит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801-18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627280" y="549360"/>
            <a:ext cx="3889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33"/>
                </a:solidFill>
                <a:latin typeface="Arial"/>
              </a:rPr>
              <a:t>Основные направл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55640" y="2421000"/>
            <a:ext cx="3024360" cy="2539800"/>
          </a:xfrm>
          <a:prstGeom prst="rect">
            <a:avLst/>
          </a:prstGeom>
          <a:gradFill rotWithShape="0">
            <a:gsLst>
              <a:gs pos="0">
                <a:srgbClr val="afbf39">
                  <a:alpha val="98039"/>
                </a:srgbClr>
              </a:gs>
              <a:gs pos="100000">
                <a:srgbClr val="dfe5b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6633"/>
                </a:solidFill>
                <a:uFillTx/>
                <a:latin typeface="Arial"/>
              </a:rPr>
              <a:t>Восточн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33"/>
                </a:solidFill>
                <a:latin typeface="Arial"/>
              </a:rPr>
              <a:t>Укрепление позиций в Закавказье, на Черном море и Балкан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788000" y="2421000"/>
            <a:ext cx="3384360" cy="1442520"/>
          </a:xfrm>
          <a:prstGeom prst="rect">
            <a:avLst/>
          </a:prstGeom>
          <a:gradFill rotWithShape="0">
            <a:gsLst>
              <a:gs pos="0">
                <a:srgbClr val="afbf39">
                  <a:alpha val="98039"/>
                </a:srgbClr>
              </a:gs>
              <a:gs pos="100000">
                <a:srgbClr val="dde3a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6633"/>
                </a:solidFill>
                <a:uFillTx/>
                <a:latin typeface="Arial"/>
              </a:rPr>
              <a:t>Европейск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33"/>
                </a:solidFill>
                <a:latin typeface="Arial"/>
              </a:rPr>
              <a:t>Участие в коалициях против Фран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u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332000" y="549360"/>
            <a:ext cx="705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33"/>
                </a:solidFill>
                <a:latin typeface="Arial"/>
              </a:rPr>
              <a:t>Восточное направл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39640" y="1557360"/>
            <a:ext cx="4103640" cy="947520"/>
          </a:xfrm>
          <a:prstGeom prst="rect">
            <a:avLst/>
          </a:prstGeom>
          <a:gradFill rotWithShape="0">
            <a:gsLst>
              <a:gs pos="0">
                <a:srgbClr val="afbf39">
                  <a:alpha val="98039"/>
                </a:srgbClr>
              </a:gs>
              <a:gs pos="100000">
                <a:srgbClr val="e7ebc5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801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6633"/>
                </a:solidFill>
                <a:latin typeface="Arial"/>
              </a:rPr>
              <a:t>Вхождение Восточной Грузии в состав России. Управление передано царскому наместник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292720" y="1557360"/>
            <a:ext cx="3456000" cy="947520"/>
          </a:xfrm>
          <a:prstGeom prst="rect">
            <a:avLst/>
          </a:prstGeom>
          <a:gradFill rotWithShape="0">
            <a:gsLst>
              <a:gs pos="0">
                <a:srgbClr val="afbf39">
                  <a:alpha val="98039"/>
                </a:srgbClr>
              </a:gs>
              <a:gs pos="100000">
                <a:srgbClr val="e9edc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803-1804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6633"/>
                </a:solidFill>
                <a:latin typeface="Arial"/>
              </a:rPr>
              <a:t>В состав России вошла Западная Грузия (Мегрелия, Гурия, Имеретия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11280" y="2924280"/>
            <a:ext cx="1657080" cy="398880"/>
          </a:xfrm>
          <a:prstGeom prst="rect">
            <a:avLst/>
          </a:prstGeom>
          <a:noFill/>
          <a:ln w="9360">
            <a:solidFill>
              <a:srgbClr val="3b81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6633"/>
                </a:solidFill>
                <a:uFillTx/>
                <a:latin typeface="Arial"/>
              </a:rPr>
              <a:t>Закавказь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340000" y="3068640"/>
            <a:ext cx="287280" cy="144360"/>
          </a:xfrm>
          <a:custGeom>
            <a:avLst/>
            <a:gdLst>
              <a:gd name="textAreaLeft" fmla="*/ 44640 w 287280"/>
              <a:gd name="textAreaRight" fmla="*/ 251640 w 287280"/>
              <a:gd name="textAreaTop" fmla="*/ 36000 h 144360"/>
              <a:gd name="textAreaBottom" fmla="*/ 108360 h 1443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afbf3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916360" y="2924280"/>
            <a:ext cx="5688000" cy="398880"/>
          </a:xfrm>
          <a:prstGeom prst="rect">
            <a:avLst/>
          </a:prstGeom>
          <a:noFill/>
          <a:ln w="9360">
            <a:solidFill>
              <a:srgbClr val="3b81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33"/>
                </a:solidFill>
                <a:latin typeface="Arial"/>
              </a:rPr>
              <a:t>Сфера интересов России, Ирана и Тур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UpRibbonSharp"/>
          <p:cNvSpPr/>
          <p:nvPr/>
        </p:nvSpPr>
        <p:spPr>
          <a:xfrm>
            <a:off x="179280" y="3645000"/>
            <a:ext cx="8640720" cy="2305080"/>
          </a:xfrm>
          <a:custGeom>
            <a:avLst/>
            <a:gdLst>
              <a:gd name="textAreaLeft" fmla="*/ 2160000 w 8640720"/>
              <a:gd name="textAreaRight" fmla="*/ 6480720 w 8640720"/>
              <a:gd name="textAreaTop" fmla="*/ 0 h 2305080"/>
              <a:gd name="textAreaBottom" fmla="*/ 2017080 h 23050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8100" y="21600"/>
                </a:lnTo>
                <a:lnTo>
                  <a:pt x="8100" y="18900"/>
                </a:lnTo>
                <a:lnTo>
                  <a:pt x="13500" y="18900"/>
                </a:lnTo>
                <a:lnTo>
                  <a:pt x="13500" y="21600"/>
                </a:lnTo>
                <a:lnTo>
                  <a:pt x="21600" y="21600"/>
                </a:lnTo>
                <a:lnTo>
                  <a:pt x="18900" y="12150"/>
                </a:lnTo>
                <a:lnTo>
                  <a:pt x="21600" y="2700"/>
                </a:lnTo>
                <a:lnTo>
                  <a:pt x="16200" y="2700"/>
                </a:lnTo>
                <a:lnTo>
                  <a:pt x="16200" y="0"/>
                </a:lnTo>
                <a:lnTo>
                  <a:pt x="5400" y="0"/>
                </a:lnTo>
                <a:lnTo>
                  <a:pt x="5400" y="2700"/>
                </a:lnTo>
                <a:lnTo>
                  <a:pt x="0" y="2700"/>
                </a:lnTo>
                <a:lnTo>
                  <a:pt x="2700" y="12150"/>
                </a:lnTo>
                <a:close/>
              </a:path>
              <a:path fill="none" w="21600" h="21600">
                <a:moveTo>
                  <a:pt x="8100" y="18900"/>
                </a:moveTo>
                <a:lnTo>
                  <a:pt x="5400" y="18900"/>
                </a:lnTo>
                <a:lnTo>
                  <a:pt x="5400" y="2700"/>
                </a:lnTo>
              </a:path>
              <a:path fill="none" w="21600" h="21600">
                <a:moveTo>
                  <a:pt x="5400" y="18900"/>
                </a:moveTo>
                <a:lnTo>
                  <a:pt x="8100" y="21600"/>
                </a:lnTo>
              </a:path>
              <a:path fill="none" w="21600" h="21600">
                <a:moveTo>
                  <a:pt x="13500" y="18900"/>
                </a:moveTo>
                <a:lnTo>
                  <a:pt x="16200" y="18900"/>
                </a:lnTo>
                <a:lnTo>
                  <a:pt x="16200" y="2700"/>
                </a:lnTo>
              </a:path>
              <a:path fill="none" w="21600" h="21600">
                <a:moveTo>
                  <a:pt x="16200" y="18900"/>
                </a:moveTo>
                <a:lnTo>
                  <a:pt x="13500" y="21600"/>
                </a:lnTo>
              </a:path>
            </a:pathLst>
          </a:cu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484360" y="4005360"/>
            <a:ext cx="395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804-1813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Русско-иранская вой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556000" y="4581360"/>
            <a:ext cx="39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806-1812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Война России с Турци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5640" y="4005360"/>
            <a:ext cx="1582920" cy="173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813.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юлистан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ий мир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исоединен Северный Азербайджа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732720" y="4076640"/>
            <a:ext cx="151128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812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ухарестский мир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исоединена Бессараб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u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2556000" y="404640"/>
            <a:ext cx="4392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33"/>
                </a:solidFill>
                <a:latin typeface="Arial"/>
              </a:rPr>
              <a:t>Западное направл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39640" y="1844640"/>
            <a:ext cx="2952720" cy="1191240"/>
          </a:xfrm>
          <a:prstGeom prst="rect">
            <a:avLst/>
          </a:prstGeom>
          <a:noFill/>
          <a:ln w="9360">
            <a:solidFill>
              <a:srgbClr val="3b81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6633"/>
                </a:solidFill>
                <a:latin typeface="Arial"/>
              </a:rPr>
              <a:t>III</a:t>
            </a:r>
            <a:r>
              <a:rPr b="0" i="1" lang="ru-RU" sz="1800" spc="-1" strike="noStrike">
                <a:solidFill>
                  <a:srgbClr val="006633"/>
                </a:solidFill>
                <a:latin typeface="Arial"/>
              </a:rPr>
              <a:t> коалиция:</a:t>
            </a:r>
            <a:r>
              <a:rPr b="0" lang="ru-RU" sz="1800" spc="-1" strike="noStrike">
                <a:solidFill>
                  <a:srgbClr val="006633"/>
                </a:solidFill>
                <a:latin typeface="Arial"/>
              </a:rPr>
              <a:t> Англия, Россия, Австрия, Швеция, Неаполитанское королевство (180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851280" y="1916280"/>
            <a:ext cx="792000" cy="7920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3b812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076720" y="1844640"/>
            <a:ext cx="3743280" cy="1068840"/>
          </a:xfrm>
          <a:prstGeom prst="rect">
            <a:avLst/>
          </a:prstGeom>
          <a:noFill/>
          <a:ln w="9360">
            <a:solidFill>
              <a:srgbClr val="3b81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33"/>
                </a:solidFill>
                <a:latin typeface="Arial"/>
              </a:rPr>
              <a:t>Против агрессии Франции в Европ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908000" y="3716280"/>
            <a:ext cx="6048720" cy="1068840"/>
          </a:xfrm>
          <a:prstGeom prst="rect">
            <a:avLst/>
          </a:prstGeom>
          <a:noFill/>
          <a:ln w="9360">
            <a:solidFill>
              <a:srgbClr val="3b81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33"/>
                </a:solidFill>
                <a:latin typeface="Arial"/>
              </a:rPr>
              <a:t>Разгром коалиции в битве при Аустерлице (декабрь 180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11280" y="3573360"/>
            <a:ext cx="1008000" cy="1511280"/>
          </a:xfrm>
          <a:custGeom>
            <a:avLst/>
            <a:gdLst>
              <a:gd name="textAreaLeft" fmla="*/ 415440 w 1008000"/>
              <a:gd name="textAreaRight" fmla="*/ 592560 w 1008000"/>
              <a:gd name="textAreaTop" fmla="*/ 622800 h 1511280"/>
              <a:gd name="textAreaBottom" fmla="*/ 888480 h 1511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u"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0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3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6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9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539640" y="476280"/>
            <a:ext cx="2592360" cy="916920"/>
          </a:xfrm>
          <a:prstGeom prst="rect">
            <a:avLst/>
          </a:prstGeom>
          <a:noFill/>
          <a:ln w="9360">
            <a:solidFill>
              <a:srgbClr val="3b81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6633"/>
                </a:solidFill>
                <a:latin typeface="Arial"/>
              </a:rPr>
              <a:t>IV</a:t>
            </a:r>
            <a:r>
              <a:rPr b="0" i="1" lang="ru-RU" sz="1800" spc="-1" strike="noStrike">
                <a:solidFill>
                  <a:srgbClr val="006633"/>
                </a:solidFill>
                <a:latin typeface="Arial"/>
              </a:rPr>
              <a:t> коалиция:</a:t>
            </a:r>
            <a:r>
              <a:rPr b="0" lang="ru-RU" sz="1800" spc="-1" strike="noStrike">
                <a:solidFill>
                  <a:srgbClr val="006633"/>
                </a:solidFill>
                <a:latin typeface="Arial"/>
              </a:rPr>
              <a:t> Пруссия, Англия, Швеция, Россия (180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635280" y="692280"/>
            <a:ext cx="863640" cy="576000"/>
          </a:xfrm>
          <a:prstGeom prst="rightArrow">
            <a:avLst>
              <a:gd name="adj1" fmla="val 50000"/>
              <a:gd name="adj2" fmla="val 37484"/>
            </a:avLst>
          </a:prstGeom>
          <a:solidFill>
            <a:srgbClr val="3b812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076720" y="692280"/>
            <a:ext cx="3095640" cy="520560"/>
          </a:xfrm>
          <a:prstGeom prst="rect">
            <a:avLst/>
          </a:prstGeom>
          <a:noFill/>
          <a:ln w="9360">
            <a:solidFill>
              <a:srgbClr val="3b81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33"/>
                </a:solidFill>
                <a:latin typeface="Arial"/>
              </a:rPr>
              <a:t>Против Фран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411280" y="1844640"/>
            <a:ext cx="5616720" cy="1381680"/>
          </a:xfrm>
          <a:prstGeom prst="rect">
            <a:avLst/>
          </a:prstGeom>
          <a:noFill/>
          <a:ln w="9360">
            <a:solidFill>
              <a:srgbClr val="3b81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33"/>
                </a:solidFill>
                <a:latin typeface="Arial"/>
              </a:rPr>
              <a:t>Поражение коали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33"/>
                </a:solidFill>
                <a:latin typeface="Arial"/>
              </a:rPr>
              <a:t>Тильзитский мир России с Францией (180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042920" y="1844640"/>
            <a:ext cx="1081080" cy="1655640"/>
          </a:xfrm>
          <a:custGeom>
            <a:avLst/>
            <a:gdLst>
              <a:gd name="textAreaLeft" fmla="*/ 445320 w 1081080"/>
              <a:gd name="textAreaRight" fmla="*/ 635760 w 1081080"/>
              <a:gd name="textAreaTop" fmla="*/ 682200 h 1655640"/>
              <a:gd name="textAreaBottom" fmla="*/ 973440 h 1655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4000" y="3500280"/>
            <a:ext cx="2016000" cy="1465560"/>
          </a:xfrm>
          <a:prstGeom prst="rect">
            <a:avLst/>
          </a:prstGeom>
          <a:gradFill rotWithShape="0">
            <a:gsLst>
              <a:gs pos="0">
                <a:srgbClr val="ccff99">
                  <a:alpha val="98039"/>
                </a:srgbClr>
              </a:gs>
              <a:gs pos="100000">
                <a:srgbClr val="f4fee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исоединение России к континентальной блокаде против Англ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940360" y="3429000"/>
            <a:ext cx="2664000" cy="916920"/>
          </a:xfrm>
          <a:prstGeom prst="rect">
            <a:avLst/>
          </a:prstGeom>
          <a:gradFill rotWithShape="0">
            <a:gsLst>
              <a:gs pos="0">
                <a:srgbClr val="ccff99">
                  <a:alpha val="98039"/>
                </a:srgbClr>
              </a:gs>
              <a:gs pos="100000">
                <a:srgbClr val="edfed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оздание герцогства Варшавского под властью Наполео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332000" y="5084640"/>
            <a:ext cx="2879640" cy="916920"/>
          </a:xfrm>
          <a:prstGeom prst="rect">
            <a:avLst/>
          </a:prstGeom>
          <a:gradFill rotWithShape="0">
            <a:gsLst>
              <a:gs pos="0">
                <a:srgbClr val="ccff99">
                  <a:alpha val="98039"/>
                </a:srgbClr>
              </a:gs>
              <a:gs pos="100000">
                <a:srgbClr val="f1fee4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оенный союз России с Францией. Враги Франции – враги Росс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716360" y="4869000"/>
            <a:ext cx="3600720" cy="1191240"/>
          </a:xfrm>
          <a:prstGeom prst="rect">
            <a:avLst/>
          </a:prstGeom>
          <a:gradFill rotWithShape="0">
            <a:gsLst>
              <a:gs pos="0">
                <a:srgbClr val="ccff99">
                  <a:alpha val="98039"/>
                </a:srgbClr>
              </a:gs>
              <a:gs pos="100000">
                <a:srgbClr val="effee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усско-шведская война 1808-1809 гг. Получение Россией Финляндии и Аландских остров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2339640" y="3284640"/>
            <a:ext cx="259236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32360" y="3284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3058920" y="3284640"/>
            <a:ext cx="1873080" cy="180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211640" y="5516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u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1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2T14:27:57Z</dcterms:created>
  <dc:creator>Дом</dc:creator>
  <dc:description/>
  <dc:language>en-US</dc:language>
  <cp:lastModifiedBy>Дом</cp:lastModifiedBy>
  <dcterms:modified xsi:type="dcterms:W3CDTF">2005-02-04T19:02:36Z</dcterms:modified>
  <cp:revision>3</cp:revision>
  <dc:subject/>
  <dc:title>История России                               XIX век</dc:title>
</cp:coreProperties>
</file>