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2B8-C2AD-4D8F-BC7B-FC32CA47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11E-BEB6-438E-9425-2D2BDFB7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1DC-9596-4912-A0C6-38EBD3CA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BE3-B388-45F5-AB81-0E47DDDE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FBF2-743E-4AFD-96A0-F52291E3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5304-3D2A-4AE5-B61D-B2803256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C523-73FC-419F-BB55-AF879628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24E4-3515-4AD5-88E8-5C0207AA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8148-F6C3-4217-B920-9C960848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44E1-2971-47F9-91A0-854DB5C3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C979-0DB5-46A9-B774-807EFC1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C79-7472-4C56-823A-A8B9D118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B2AB-36E3-4A26-A80C-A50A1935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A42D-B534-402F-994F-2C644BF3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C908-E99D-43E6-906C-BDB18030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5E1B-F9B8-431D-B8AF-A8DEAE22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8ACA-7BD2-4C23-9FCF-42BA5794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77B-53F3-46F4-95C0-3C2FB954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E56-86EF-4379-B777-5F04C298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E81-BD73-44A5-86D3-FE88A521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603-A9A1-4384-92DB-C23ED926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23B-41C2-406A-A7A6-95A2F4B9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BD4-F947-4B3B-8FAD-E36A2FED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A25-3FC6-4B75-8EF0-EC6A7E6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A5BD-68AE-466C-ACC9-56C009A769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8D92-C587-4A62-B61E-948F3C4112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Россия.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XIX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ве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ормы Никол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вказская во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авказская вой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1817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мощное наступление русских войск на Чечню и Дагеста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20-е годы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начало освободительного движения народов Кавказа от агрессии со стороны Росс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1821 – 1826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жестокое подавление восстаний в Кабарде, Адыгее, Чечн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20-30-е годы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образование на территории Чечни и Дагестана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ИМАМАТА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енно-теократического государства, объявившего России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ГАЗАВА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1864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Кавказская война России закончилась включением народов Северного Кавказа в состав Российской империи ценой жестоких мер и многочисленных жерт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Мюридизм- идейно-политический фактор освободительного движения народов Северного Кавказ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d46a"/>
                </a:solidFill>
                <a:latin typeface="Arial"/>
              </a:rPr>
              <a:t>Мюридизм – одно из направлений в исла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gradFill rotWithShape="0">
            <a:gsLst>
              <a:gs pos="0">
                <a:srgbClr val="afdba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уховное совершенствование каждого правоверного (мусульмани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енство всех мусульман перед Аллах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усульманин не может быть под властью царя-немесульман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Газава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священная война мусульман против неве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Има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духовный и светский глава государства, имевший неограниченную в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чины войны       Последствия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                                    войн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Набеги на оседлые российские территор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Работорговл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Царское правительство привлекало местное население на строительство крепостей, мостов, доро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Введение новых налог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«Усмирительные» походы генерала Ермолова (уничтожение селений, посевов и т.д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Раздача земель казакам, чиновникам, местной администр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Строительство военных укреплени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Проведение российским самодержавием политики, ущемляющей интересы народов Кавка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Массовая эмиграция горцев с Кавка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Уничтожение имама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Окончание междоусобных войн и уничтожение рабства на Кавказ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Развитие торговли, промышленности, оживление хозяйственной жизни Кавка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9900"/>
                </a:solidFill>
                <a:latin typeface="Arial"/>
              </a:rPr>
              <a:t>Создание предпосылок для развития капитализм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одификация законов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(М.М.Сперанский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Полное собрание законов Российской империи», 45 томов. В состав ПСЗ вошли все законы, изданные начиная с «Соборного Уложения» до Александр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I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включительно. Законы располагались в хронологическом поряд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Свод законов Российской империи», 15 томов – содержал действующие законы, расположенные в предметно- систематическом поряд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ПЕРАНСКИЙ Михаил Михайло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 1826 фактический глава 2-го отделения, руководил кодификацией Основных государственных законов Российской импер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29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еформа государственной деревни.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(П.Д.Киселев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9900"/>
                </a:solidFill>
                <a:uFillTx/>
                <a:latin typeface="Arial"/>
              </a:rPr>
              <a:t>Цел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еформа государственной деревни предусматривал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Определять размеры оброка с учетом доходности крестьянского надел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– давали зем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Во избежания голода, на случай неурожая создавалась так называемая «общественная запашка» - участок земли, на котором работали все крестьяне данной общины; урожай с него хранили на случай гол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Открывались медицинские и ветеринарные пункт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ИСЕЛЕВ Павел Дмитри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нистр государственных имуществ, провел реформу управления государственными крестьянами. Сторонник отмены крепостного пра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576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инансовая реформа Е.Ф.Канкри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Были введены бумажные ассигнации, которые обеспечивались серебряным рублем. Новые бумажные деньги можно было обменять на серебряные, что значительно повысило устойчивость и доверие к новым деньгам. Вследствие этого уменьшилась инфляц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НКРИН Егор Франц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39-43 провел финансовую реформу, ввел в качестве основы денежного обращения серебряный рубль, установил обязательный курс ассигнаций. Добился бездефицитности государственных бюджетов, временно укрепил финансы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61000" y="1628640"/>
            <a:ext cx="3946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ссия и Кавказ в первой половине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век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Северный Кавказ           стратегически важный регио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Планы российского командования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а) планомерное и целенаправленное наступление на северный Кавказ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б) создание новой опорной линии креп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6:03:27Z</dcterms:created>
  <dc:creator>Дом</dc:creator>
  <dc:description/>
  <dc:language>en-US</dc:language>
  <cp:lastModifiedBy>Дом</cp:lastModifiedBy>
  <dcterms:modified xsi:type="dcterms:W3CDTF">2005-02-04T19:25:54Z</dcterms:modified>
  <cp:revision>5</cp:revision>
  <dc:subject/>
  <dc:title>Россия.                    XIX</dc:title>
</cp:coreProperties>
</file>