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5775-B92A-4B20-94CC-4B22459C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F895-1FE6-4DAD-8723-1079F1F2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F47E-6493-4B03-9485-63B1EDA5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3004-FDC0-43B2-ACDA-7EF08252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2357-0905-49D7-861E-4F459E5B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C259-E8BA-4E32-BAE7-5B3DF5A3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E103-4A16-407A-9A6F-04B9E63B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D4DD-BA8F-4838-8866-35468903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B8DC-6391-4CDD-8545-6B121F74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9898-EB0C-4B5C-AE5D-71DE680B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90B4-7C8C-478A-B329-9058B188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FBAE-18AC-40F0-A809-CAA6A986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F6AE-5C47-446E-ABA8-E3325D86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165A-CF9A-4EEC-8690-8CB5DD61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FDBF-6969-4A16-95A5-DE3C382E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32B8-FE76-4670-89FA-65B14181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7C19-D5E1-4406-AFE3-9ABE5A50B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772F-5A55-403F-A378-FA658A9A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D23F-6205-4F71-910B-B14C6149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1011-9278-4B8E-9479-4DF3F07E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1A6F-FB0E-40A0-8C42-8A1CCA6B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5D5A-657D-48AE-9BD4-AA6BDB6B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CBC-0592-49C9-AC22-7E164039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98A-9DF0-4BB3-9D4F-F4075265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FFED-C816-4DB6-9F19-604D156535E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F4A1-44FE-477A-BED0-AB353397CBF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История России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ственная мыс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АМАРИН Юрий Федоро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Российский философ, историк, общественный деятель, публицист. Один из идеологов славянофильства. Автор либерально-дворянского проекта отмены крепостного права, участник подготовки крестьянской реформы 186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9463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Западничество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Идейно-политическое учение, согласно которому историческо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развитие России должно следовать европейском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вариант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Основные идеи: европеизация России необходима,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Россия – конституционная монархия, гражданские права и свободы, отмена крепостного пра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Общественные идеалы: западноевропейские буржуазные поряд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ГРАНОВСКИЙ Тимофей Николаевич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Российский историк, общественный деятель, глава московских западников. Выступал против деспотизма и крепостниче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6560" y="1628640"/>
            <a:ext cx="40118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КАВЕЛИН Константин Дмитриевич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Российский историк государственной школы и публицист. Участник подготовки крестьянской реформы 1861, автор одного из первых проектов отмены крепостного права. Сторонник умеренных преобразований при сохранении неограниченной монархии и помещичьего землевладения. Труды: «Взгляд на юридический быт Древней России», «Краткий взгляд на русскую историю»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6560" y="1628640"/>
            <a:ext cx="40118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Революционное направление</a:t>
            </a:r>
            <a:br>
              <a:rPr sz="4800"/>
            </a:b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(радикально-демократическое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 rot="10800000">
            <a:off x="1618920" y="475560"/>
            <a:ext cx="5761080" cy="1152360"/>
          </a:xfrm>
          <a:prstGeom prst="triangle">
            <a:avLst>
              <a:gd name="adj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7650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волюционеры-демокр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1557360"/>
            <a:ext cx="2951280" cy="1440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03640" y="1628640"/>
            <a:ext cx="3097440" cy="1440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1700280"/>
            <a:ext cx="266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Умер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Левое крыл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трашев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92720" y="1773360"/>
            <a:ext cx="266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Радика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.Белинс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.Герцен, Н.Огарё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979280" y="98100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1052640"/>
            <a:ext cx="93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4005360"/>
            <a:ext cx="1728720" cy="398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траше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7640" y="3500280"/>
            <a:ext cx="5545080" cy="13262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ссия – парламентская республ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вобождение крестьян с зем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вобода слова, печати, вероиспове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0" y="4221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5661000"/>
            <a:ext cx="107928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84360" y="5589720"/>
            <a:ext cx="6264360" cy="398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пускали возможность вооруженного восс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5877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ЕТРАШЕВСКИЙ Михаил Васильевич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Российский революционер, социалист. Кандидат правоведения. Руководитель общества петрашевцев. Выступал за демократизацию политического строя России и освобождение крестьян с землей. В 1849 осужден на вечную каторгу. Отбывал в Забайкальских заводах. С 1856 на поселении в Иркутске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6560" y="1628640"/>
            <a:ext cx="39466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9640" y="404640"/>
            <a:ext cx="2016360" cy="1224000"/>
          </a:xfrm>
          <a:prstGeom prst="roundRect">
            <a:avLst>
              <a:gd name="adj" fmla="val 2619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476280"/>
            <a:ext cx="172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ория           русского соци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549360"/>
            <a:ext cx="3887640" cy="863640"/>
          </a:xfrm>
          <a:prstGeom prst="roundRect">
            <a:avLst>
              <a:gd name="adj" fmla="val 3694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95640" y="76500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Родоначальник» - Герц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98100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16360" y="1773360"/>
            <a:ext cx="2736720" cy="11523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2133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ные 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2997360"/>
            <a:ext cx="2160720" cy="1800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3068640"/>
            <a:ext cx="266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ссия может миновать капитализм. Её будущее - соц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12000" y="2924280"/>
            <a:ext cx="2736720" cy="1800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84720" y="299736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квидация абсолютизма, крепостного права, демократизация 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71640" y="5157720"/>
            <a:ext cx="7416720" cy="935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42920" y="522936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естьянская община с её равенством на землю и самоуправлением – основа будущего социализма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692360" y="2492280"/>
            <a:ext cx="122400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51640" y="2492280"/>
            <a:ext cx="14414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84720" y="2924280"/>
            <a:ext cx="0" cy="22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ГЕРЦЕН Александр Ивано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Российский революционер, писатель, философ. Разработал теорию «русского социализма», став одним из основоположников народничества. В газете «Колокол» обличал российское самодержавие, вел революционную пропаганду, требовал освобождения крестьян с землей. В 1861 встал на сторону революционной демократии, содействовал созданию «Земли и воли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40114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ОГАРЕВ Николай Платоно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Революционер, поэт, публицист. Друг и соратник А. И. Герцена, инициатор и соредактор «Колокола». Разрабатывал социально-экономическую программу крестьянской революции в духе «русского социализма». Участник подготовки и создания революционного общества «Земля и воля» (1861-62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40114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Консервативное движение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БЕЛИНСКИЙ Виссарион Григорьевич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Русский литературный критик. Сотрудничал в журналах «Телескоп» «Отечественные записки» и «Современник» Стремился создать литературную критику на почве философской эстетики (в основном под влиянием идей Ф. Шеллинга и Г. Гегеля). Критиковал существующую действительность, разработал принципы натуральной школы — реалистического направления в русской литерату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94320" y="1557360"/>
            <a:ext cx="40100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БАКУНИН Михаил Александрович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Российский революционер, публицист, один из основоположников анархизма, идеолог народниче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С 1835 стал участником кружка Н. В. Станкевича, познакомился с В. Г. Белинским и А. И. Герценом. Под влиянием Станкевича заинтересовался Кантом и Фихте, а также философией Геге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6560" y="1628640"/>
            <a:ext cx="40118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УВАРОВ Сергей Семено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Российский государственный деятель. В 1833-49 министр народного просвещения. Автор формул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«православие, самодержавие, народность»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Инициатор принятия «Университетского устава 1835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57680" y="1628640"/>
            <a:ext cx="39466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Либерально – оппозиционное  движение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ВЕНЕВИТИНОВ Дмитрий Владимирович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Русский поэт. Романтическая поэзия насыщена философскими мотивами в духе шеллингианства. Литературно-критические стать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94320" y="1557360"/>
            <a:ext cx="40100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ТАНКЕВИЧ Николай Владимирович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Российский общественный деятель, философ, поэт. Главную силу исторического прогресса видел в просвещении, основной задачей русской интеллигенции считал пропаганду идей гуманизма. В 1831 организовал литературно-философский круж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В кружке изучались труды философов И. Канта, И. Ф. Шеллинга, Г. Гегеля. В 1840 члены кружка играли ведущую роль как среди западников, так и славянофи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57680" y="1628640"/>
            <a:ext cx="39466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лавянофильство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(1839 – середина 70-х годов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XIX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в.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Идейно – политическое учение об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исключительности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и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самобытности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исторического пути развития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России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Для обновления России славянофилы предлагали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отменить крепостное право и ограничить деспотизм царя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Общественные идеалы: патриархально-общинная, самодержавная и крестьянская Рус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ХОМЯКОВ Алексей Степано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Один из основоположников славянофильства. Выступал с либеральных позиций за отмену крепостного права, смертной казни, за введение свободы слова, печати и др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57680" y="1628640"/>
            <a:ext cx="39466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АКСАКОВ Константин Сергеевич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Русский публицист, историк, лингвист и поэт. Один из идеологов славянофильства. Выступал за отмену крепостного права при сохранении монарх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57680" y="1628640"/>
            <a:ext cx="39466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9:20:27Z</dcterms:created>
  <dc:creator>Дом</dc:creator>
  <dc:description/>
  <dc:language>en-US</dc:language>
  <cp:lastModifiedBy>Дом</cp:lastModifiedBy>
  <dcterms:modified xsi:type="dcterms:W3CDTF">2005-02-09T21:02:38Z</dcterms:modified>
  <cp:revision>6</cp:revision>
  <dc:subject/>
  <dc:title>История России</dc:title>
</cp:coreProperties>
</file>