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7.png" ContentType="image/png"/>
  <Override PartName="/ppt/media/image22.jpeg" ContentType="image/jpe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2.jpeg" ContentType="image/jpeg"/>
  <Override PartName="/ppt/media/image4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022F-A57D-48B6-8CBD-36CB0EF008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813B-3AB2-4392-8D0D-FF0CD35883E1}" type="slidenum">
              <a:rPr b="1" lang="ru-RU" sz="1200" spc="-1" strike="noStrike">
                <a:solidFill>
                  <a:srgbClr val="3366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167E-AECC-4860-AF5C-39A01118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7A81-5F96-40C4-AA1C-6263887D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1FC2-B1AE-43DF-98D8-F04992D5B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3435-2B45-40C0-91B6-358971F54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1F7E-81EB-449F-AD91-431EDA4CD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5921-252C-4DAA-88DC-4816B6ABA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9EE3-851F-4F9C-8C3E-2F09BC3D9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850B-2D19-45CD-8FE3-5F7316B2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B6C50-3C06-4F75-B25A-E4E67D63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73BB-BC9C-47D3-8FAB-240A51120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0B4D-BD3F-4170-931F-3B5484CFA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60CC-D9C7-4DE1-9150-4AF7ADC0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74A78-0814-4DC2-B03E-83D36A4B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12EE-DA02-43F8-A9CF-B77FA6C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7BE8-246E-448C-A166-BE5E2789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1A022-4CA4-4C4F-9F7B-B2DD68CDB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99816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62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0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99816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62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B111-7914-4546-9E20-6F1F96F80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32B15-A5A3-4ED0-AC76-F3770ED45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519A-F76B-4839-89D1-E9EFD1791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66E40-505A-423E-B1C8-14B8F751C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70160" y="247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79DC-B1C4-4255-8C81-02E1D39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42AF-9406-4D69-A9A7-87FD7C6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5284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614B-4E66-40E5-BA2E-8FBCB5BA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5284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016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CDE2-EEFB-468B-8D39-95A819BD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1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rot="6000000">
              <a:off x="551880" y="59040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4267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150B-B13E-4B83-8F85-9E66EC6E3892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4680" y="0"/>
            <a:ext cx="1728360" cy="6865560"/>
            <a:chOff x="4680" y="0"/>
            <a:chExt cx="1728360" cy="6865560"/>
          </a:xfrm>
        </p:grpSpPr>
        <p:sp>
          <p:nvSpPr>
            <p:cNvPr id="47" name=""/>
            <p:cNvSpPr/>
            <p:nvPr/>
          </p:nvSpPr>
          <p:spPr>
            <a:xfrm>
              <a:off x="4680" y="465120"/>
              <a:ext cx="79956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3840" y="465120"/>
              <a:ext cx="799200" cy="640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afb5d2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24000" y="0"/>
              <a:ext cx="1066680" cy="68565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rot="6000000">
              <a:off x="551880" y="2609640"/>
              <a:ext cx="723960" cy="571680"/>
            </a:xfrm>
            <a:prstGeom prst="triangle">
              <a:avLst>
                <a:gd name="adj" fmla="val 49995"/>
              </a:avLst>
            </a:prstGeom>
            <a:gradFill rotWithShape="0">
              <a:gsLst>
                <a:gs pos="0">
                  <a:srgbClr val="ff99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afb5d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6699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016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457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200040" y="63993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723744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9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CC71-50DE-4F3A-881C-4F6A4D928591}" type="slidenum">
              <a:rPr b="0" lang="en-US" sz="1400" spc="-1" strike="noStrike">
                <a:solidFill>
                  <a:srgbClr val="3366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79280" y="247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Times New Roman"/>
              </a:rPr>
              <a:t>Учение – путь к умению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195640" y="1773360"/>
            <a:ext cx="590544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опилка знаний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C:\Users\НоутовЪ\Desktop\фото\3D картинки\Обработанные\38 - WGP_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 rot="21150600">
            <a:off x="3082680" y="2344320"/>
            <a:ext cx="5832360" cy="45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Химия, обладая огромными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возможностями, создает не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виданные материалы, умножает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лодородие почвы, облегчает труд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человека, экономит его время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одевает, сохраняет его здоровье,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оздает ему уют и комфорт,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изменяет внешность людей. Но та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же химия может стать и опасной для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здоровья человека, даже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мертельно опасной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380880" y="6477120"/>
            <a:ext cx="1067040" cy="380880"/>
          </a:xfrm>
          <a:custGeom>
            <a:avLst/>
            <a:gdLst>
              <a:gd name="textAreaLeft" fmla="*/ 24480 w 1067040"/>
              <a:gd name="textAreaRight" fmla="*/ 1042560 w 10670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60476" h="21600">
                <a:moveTo>
                  <a:pt x="0" y="0"/>
                </a:moveTo>
                <a:lnTo>
                  <a:pt x="60476" y="0"/>
                </a:lnTo>
                <a:lnTo>
                  <a:pt x="60476" y="21600"/>
                </a:lnTo>
                <a:lnTo>
                  <a:pt x="0" y="21600"/>
                </a:lnTo>
                <a:close/>
              </a:path>
              <a:path fill="lightenLess" w="60476" h="21600">
                <a:moveTo>
                  <a:pt x="0" y="0"/>
                </a:moveTo>
                <a:lnTo>
                  <a:pt x="60476" y="0"/>
                </a:lnTo>
                <a:lnTo>
                  <a:pt x="59076" y="1400"/>
                </a:lnTo>
                <a:lnTo>
                  <a:pt x="1400" y="1400"/>
                </a:lnTo>
                <a:close/>
              </a:path>
              <a:path fill="darken" w="60476" h="21600">
                <a:moveTo>
                  <a:pt x="60476" y="0"/>
                </a:moveTo>
                <a:lnTo>
                  <a:pt x="60476" y="21600"/>
                </a:lnTo>
                <a:lnTo>
                  <a:pt x="59076" y="20200"/>
                </a:lnTo>
                <a:lnTo>
                  <a:pt x="59076" y="1400"/>
                </a:lnTo>
                <a:close/>
              </a:path>
              <a:path fill="darkenLess" w="60476" h="21600">
                <a:moveTo>
                  <a:pt x="604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076" y="20200"/>
                </a:lnTo>
                <a:close/>
              </a:path>
              <a:path fill="lighten" w="604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cc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000"/>
                            </p:stCondLst>
                            <p:childTnLst>
                              <p:par>
                                <p:cTn id="1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2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476000" y="247320"/>
            <a:ext cx="7666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Девиз: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«Кто хочет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многого достигнуть,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           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должен ставить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                    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высокие цели»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                                      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/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И.В.Гете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/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rcRect l="0" t="-2945" r="47171" b="0"/>
          <a:stretch/>
        </p:blipFill>
        <p:spPr>
          <a:xfrm>
            <a:off x="1619280" y="3068640"/>
            <a:ext cx="24033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11280" y="247320"/>
            <a:ext cx="67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1 задание 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8000" y="1989000"/>
            <a:ext cx="65516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Дуэль эрудитов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340000" y="247320"/>
            <a:ext cx="680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2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2050920" y="2708280"/>
            <a:ext cx="62661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Эстафет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6692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дание 2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11280" y="1676520"/>
            <a:ext cx="673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Неверно записанные уравнения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под № 1, 6, 8, 10, 12, 13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6560" y="2473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3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476360" y="2276640"/>
            <a:ext cx="741672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менные реак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79280" y="2473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дание 3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050560" y="1676520"/>
            <a:ext cx="7091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Правильные ответы: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-  2  -  б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I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-  4  -  а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II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-  1  -  в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"/>
              </a:rPr>
              <a:t>IV</a:t>
            </a:r>
            <a:r>
              <a:rPr b="1" lang="ru-RU" sz="3600" spc="-1" strike="noStrike">
                <a:solidFill>
                  <a:srgbClr val="336699"/>
                </a:solidFill>
                <a:latin typeface="Arial"/>
              </a:rPr>
              <a:t>  -  3  -  г</a:t>
            </a:r>
            <a:endParaRPr b="1" lang="en-US" sz="36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84000" y="247320"/>
            <a:ext cx="66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4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116000" y="1700280"/>
            <a:ext cx="756144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имическое многоборь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11280" y="247320"/>
            <a:ext cx="6731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дание 4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928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дача №5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а -  2     б  -  4     в  -  1     г  -  3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Задача №6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а -  2     б  -  5     в  -  3     г  -  1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84000" y="247320"/>
            <a:ext cx="66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5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835280" y="2060640"/>
            <a:ext cx="684216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Установи балан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274680"/>
            <a:ext cx="6562800" cy="1930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Times New Roman"/>
              </a:rPr>
              <a:t>Умеющему не трудно, трудно тому, кто не умеет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987640" y="3108240"/>
            <a:ext cx="5113440" cy="34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016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Задание 5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016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Правильнные ответы: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а -  1      б  -  3       в  -  4        г  -  6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627280" y="247320"/>
            <a:ext cx="651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6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32000" y="2421000"/>
            <a:ext cx="748800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имический эрудицион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627280" y="247320"/>
            <a:ext cx="6515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7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692360" y="2556000"/>
            <a:ext cx="7056360" cy="296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имическое ралл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56000" y="247320"/>
            <a:ext cx="6586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ff"/>
                </a:solidFill>
                <a:latin typeface="Times New Roman"/>
              </a:rPr>
              <a:t>8 Задание</a:t>
            </a:r>
            <a:endParaRPr b="0" lang="en-US" sz="44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187280" y="2205000"/>
            <a:ext cx="7705800" cy="39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Химическая перестрел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35280" y="247680"/>
            <a:ext cx="7307280" cy="231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«Ум заключается не только в знании, но и в умении применять знания на деле»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                      Аристотель</a:t>
            </a:r>
            <a:endParaRPr b="0" lang="en-US" sz="4000" spc="-1" strike="noStrike">
              <a:solidFill>
                <a:srgbClr val="0066ff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908000" y="2994120"/>
            <a:ext cx="5832720" cy="31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Молодцы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НоутовЪ\Desktop\фото\3D картинки\Животные и люди\146142_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500040" y="2286000"/>
            <a:ext cx="5786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336699"/>
                </a:solidFill>
                <a:latin typeface="Tahoma"/>
              </a:rPr>
              <a:t>Повсюду, куда бы ни обратили свой взор, нас окружают предметы и изделия, изготовленные из веществ и материалов, которые получены на химических заводах и фабриках. Кроме того, в повседневной жизни, сам того не подозревая, каждый человек осуществляет химические реакции. Например, умывание с мылом, стирка с использованием моющих средств…</a:t>
            </a:r>
            <a:endParaRPr b="0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04" name="Прямоугольник 3" descr=""/>
          <p:cNvPicPr/>
          <p:nvPr/>
        </p:nvPicPr>
        <p:blipFill>
          <a:blip r:embed="rId2"/>
          <a:stretch/>
        </p:blipFill>
        <p:spPr>
          <a:xfrm>
            <a:off x="-311040" y="146160"/>
            <a:ext cx="10045440" cy="169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Rectangle 2" descr=""/>
          <p:cNvPicPr/>
          <p:nvPr/>
        </p:nvPicPr>
        <p:blipFill>
          <a:blip r:embed="rId1"/>
          <a:stretch/>
        </p:blipFill>
        <p:spPr>
          <a:xfrm>
            <a:off x="12600" y="281160"/>
            <a:ext cx="7979040" cy="13032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214200" y="1500120"/>
            <a:ext cx="3571920" cy="385776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785760" y="1357200"/>
            <a:ext cx="5357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В настоящее время широко используется </a:t>
            </a: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синтетические моющие средства-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детергенты. Основной является синтетические поверхностно-активные вещества-ПАВ, в которых длинный углеводородный предельный радикал соединен с сульфатной или сульфонатной группой. Кроме ПАВ, в СМС входят и другие компоненты: отбеливатель, смягчитель, пенообразователи, ароматические отдушки.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15360" indent="-3153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Из кислородосодержащих отбеливателей наиболее распространены перборат натрия и перкарбонат натрия.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Rectangle 2" descr=""/>
          <p:cNvPicPr/>
          <p:nvPr/>
        </p:nvPicPr>
        <p:blipFill>
          <a:blip r:embed="rId1"/>
          <a:stretch/>
        </p:blipFill>
        <p:spPr>
          <a:xfrm>
            <a:off x="12600" y="281160"/>
            <a:ext cx="7979040" cy="1303200"/>
          </a:xfrm>
          <a:prstGeom prst="rect">
            <a:avLst/>
          </a:prstGeom>
          <a:ln w="0">
            <a:noFill/>
          </a:ln>
        </p:spPr>
      </p:pic>
      <p:pic>
        <p:nvPicPr>
          <p:cNvPr id="109" name="Клип 5" descr="Image_0047_wmark.jpg"/>
          <p:cNvPicPr/>
          <p:nvPr/>
        </p:nvPicPr>
        <p:blipFill>
          <a:blip r:embed="rId2"/>
          <a:stretch/>
        </p:blipFill>
        <p:spPr>
          <a:xfrm>
            <a:off x="214200" y="1857240"/>
            <a:ext cx="4297320" cy="27640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1385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Дезодоранты выпускают в твердом виде, шариковые и в аэрозольной упаковке. В аэрозольных баллонах используют сжиженные газы, температура кипения которого очень низка. Они легко переходят в газовую фазу и не только выталкивают основу  из баллона, но, расширяясь, распыляют ее на мелкие капельки. Долгое время эту роль выполняли только фторхлоруглеводы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1" name="Рисунок 6" descr="vsedez.jpg"/>
          <p:cNvPicPr/>
          <p:nvPr/>
        </p:nvPicPr>
        <p:blipFill>
          <a:blip r:embed="rId3"/>
          <a:stretch/>
        </p:blipFill>
        <p:spPr>
          <a:xfrm>
            <a:off x="642960" y="4929120"/>
            <a:ext cx="3929040" cy="17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2" descr=""/>
          <p:cNvPicPr/>
          <p:nvPr/>
        </p:nvPicPr>
        <p:blipFill>
          <a:blip r:embed="rId1"/>
          <a:stretch/>
        </p:blipFill>
        <p:spPr>
          <a:xfrm>
            <a:off x="60480" y="420840"/>
            <a:ext cx="7949880" cy="1487160"/>
          </a:xfrm>
          <a:prstGeom prst="rect">
            <a:avLst/>
          </a:prstGeom>
          <a:ln w="0">
            <a:noFill/>
          </a:ln>
        </p:spPr>
      </p:pic>
      <p:pic>
        <p:nvPicPr>
          <p:cNvPr id="113" name="Клип 5" descr="65.jpg"/>
          <p:cNvPicPr/>
          <p:nvPr/>
        </p:nvPicPr>
        <p:blipFill>
          <a:blip r:embed="rId2"/>
          <a:stretch/>
        </p:blipFill>
        <p:spPr>
          <a:xfrm>
            <a:off x="285840" y="1571760"/>
            <a:ext cx="2539800" cy="233676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0" y="1143000"/>
            <a:ext cx="4167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Косметика и гигиена тесно соприкасаются, так как имеются косметические средства (лосьон, кремы, шампуни, гели), которые выполняют гигиеническую функцию. К важным гигиеническим средствам относится, прежде всего, мыла и моющие средства.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15" name="Рисунок 6" descr="Гигиена.jpg"/>
          <p:cNvPicPr/>
          <p:nvPr/>
        </p:nvPicPr>
        <p:blipFill>
          <a:blip r:embed="rId3"/>
          <a:stretch/>
        </p:blipFill>
        <p:spPr>
          <a:xfrm rot="21409200">
            <a:off x="1434960" y="3595320"/>
            <a:ext cx="3529080" cy="292896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7" descr="485c2ab612fb.jpg"/>
          <p:cNvPicPr/>
          <p:nvPr/>
        </p:nvPicPr>
        <p:blipFill>
          <a:blip r:embed="rId4"/>
          <a:stretch/>
        </p:blipFill>
        <p:spPr>
          <a:xfrm>
            <a:off x="6143760" y="4643280"/>
            <a:ext cx="264312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Rectangle 2" descr=""/>
          <p:cNvPicPr/>
          <p:nvPr/>
        </p:nvPicPr>
        <p:blipFill>
          <a:blip r:embed="rId1"/>
          <a:stretch/>
        </p:blipFill>
        <p:spPr>
          <a:xfrm>
            <a:off x="85680" y="281160"/>
            <a:ext cx="7978680" cy="13032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648320" y="1981080"/>
            <a:ext cx="4209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Человек-единственное существо на Земле, которое практически всю свою пищу подвергает химической или термической обработке. Попытаемся разобраться, что происходит с основными компонентами нашей пищи в процессе кулинарной обработки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Rectangle 2" descr=""/>
          <p:cNvPicPr/>
          <p:nvPr/>
        </p:nvPicPr>
        <p:blipFill>
          <a:blip r:embed="rId1"/>
          <a:stretch/>
        </p:blipFill>
        <p:spPr>
          <a:xfrm>
            <a:off x="12600" y="281160"/>
            <a:ext cx="5265720" cy="1249200"/>
          </a:xfrm>
          <a:prstGeom prst="rect">
            <a:avLst/>
          </a:prstGeom>
          <a:ln w="0">
            <a:noFill/>
          </a:ln>
        </p:spPr>
      </p:pic>
      <p:pic>
        <p:nvPicPr>
          <p:cNvPr id="121" name="Клип 8" descr="7.jpg"/>
          <p:cNvPicPr/>
          <p:nvPr/>
        </p:nvPicPr>
        <p:blipFill>
          <a:blip r:embed="rId2"/>
          <a:stretch/>
        </p:blipFill>
        <p:spPr>
          <a:xfrm>
            <a:off x="357120" y="1357200"/>
            <a:ext cx="2835360" cy="42865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036680" y="1692000"/>
            <a:ext cx="4027320" cy="374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99"/>
                </a:solidFill>
                <a:latin typeface="Arial"/>
              </a:rPr>
              <a:t>Пероксид водорода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- отличный антисептик.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99"/>
                </a:solidFill>
                <a:latin typeface="Arial"/>
              </a:rPr>
              <a:t>Нашатырный спирт водный раствор аммиака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возбуждает дыхательный центр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336699"/>
                </a:solidFill>
                <a:latin typeface="Arial"/>
              </a:rPr>
              <a:t>Аспирин, или ацетилсалициловая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336699"/>
                </a:solidFill>
                <a:latin typeface="Arial"/>
              </a:rPr>
              <a:t>кислота </a:t>
            </a: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- один из препаратов, который широко применяют как жаропонижающие, противовоспалительное, болеутоляющее и противоревматическое средство.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  <a:p>
            <a:pPr marL="288000" indent="-288000">
              <a:spcBef>
                <a:spcPts val="451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6699"/>
                </a:solidFill>
                <a:latin typeface="Arial"/>
              </a:rPr>
              <a:t>Лекарства для лечения сердечно-сосудистой системы - это валидол, корвалол, нитро глицерин.</a:t>
            </a:r>
            <a:r>
              <a:rPr b="1" lang="ru-RU" sz="1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123" name="Рисунок 9" descr="apteka00.jpg"/>
          <p:cNvPicPr/>
          <p:nvPr/>
        </p:nvPicPr>
        <p:blipFill>
          <a:blip r:embed="rId3"/>
          <a:stretch/>
        </p:blipFill>
        <p:spPr>
          <a:xfrm>
            <a:off x="7143840" y="5219640"/>
            <a:ext cx="178596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Rectangle 2" descr=""/>
          <p:cNvPicPr/>
          <p:nvPr/>
        </p:nvPicPr>
        <p:blipFill>
          <a:blip r:embed="rId1"/>
          <a:stretch/>
        </p:blipFill>
        <p:spPr>
          <a:xfrm>
            <a:off x="42840" y="208080"/>
            <a:ext cx="8047080" cy="1212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336699"/>
                </a:solidFill>
                <a:latin typeface="Arial"/>
              </a:rPr>
              <a:t>Инсектициды -</a:t>
            </a:r>
            <a:r>
              <a:rPr b="0" lang="ru-RU" sz="2000" spc="-1" strike="noStrike">
                <a:solidFill>
                  <a:srgbClr val="336699"/>
                </a:solidFill>
                <a:latin typeface="Arial"/>
              </a:rPr>
              <a:t>  средства для борьбы с насекомыми. Инсектициды применяют в виде растворов, эмульсий, аэрозолей. Жилые помещения следует обрабатывать только препаратами, рекомендуемыми для этой цели. Это известные препараты: хлорофос  , дихлофос, хлорофосные  какарандаши.</a:t>
            </a:r>
            <a:r>
              <a:rPr b="1" lang="ru-RU" sz="2000" spc="-1" strike="noStrike">
                <a:solidFill>
                  <a:srgbClr val="336699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6T10:12:25Z</dcterms:created>
  <dc:creator>КОМП</dc:creator>
  <dc:description/>
  <dc:language>en-US</dc:language>
  <cp:lastModifiedBy>Ученик 01</cp:lastModifiedBy>
  <dcterms:modified xsi:type="dcterms:W3CDTF">2011-05-24T09:53:29Z</dcterms:modified>
  <cp:revision>4</cp:revision>
  <dc:subject/>
  <dc:title>Копилка знаний</dc:title>
</cp:coreProperties>
</file>