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5F6B-05C0-4718-900B-D2B30B35A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F1F9-6855-487B-AA87-A2EAF270F2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439A-7C2E-47DA-93C6-398BA4C4CE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8865-73F3-4B6D-8991-C729EAF93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4E9-34B7-4F4F-9FE2-F0E5FB6B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86C-E9F2-4E46-9595-57864753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5C9-B9F1-4CD1-8537-D9C460EF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BD3-F970-48B3-888D-0E56E223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24D-D9D5-4385-AD97-F805D96D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669-3B3D-4292-835E-5F5F7B72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0BD-6556-45AC-8D2B-30615423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D5B-D993-4234-94E2-9CF8BA83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CB6-2E7F-4334-9D4B-F6327CF5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802-6626-44E9-A651-80BE32B6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100-40DC-453F-A4B1-C1DDDFC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CC8-A29A-42F4-8E81-D3E93D68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D8CA-127F-4211-BC5C-DD294F952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Удивительный мир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19280" y="3068640"/>
            <a:ext cx="48956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Поиск, творчество, знания – путь к успех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427640" y="5413320"/>
            <a:ext cx="39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Каменева Т.И., учитель химии СОШ №1 г.Оха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есные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масло (ореховое, льняное, лавандовое, маковое)    является лучшим  для приготовления масляных красок в живописи   и  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ьняное         – 24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овое         – 12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андовое   – 14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еховое        – 7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няное – оно содержит больше  ненасыщенных кислот, подсыхает за 3-5 дней, засыхает за 60 дней, затвердевает по всей толщине  слоя за 2 года.    (20+20+20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есные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 вещества - призеры в составе крови  по процентному содержан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 -  28 баллов                          Белки     –   27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о – 11 баллов                Эритроциты – 1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– 26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ьций – 7 баллов                 Кислород – 8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 - 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коциты – 7 баллов             Сахар – 4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у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«Обо всем понемног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little_boots_-_hearts_collide[1].mp3" descr=""/>
          <p:cNvPicPr/>
          <p:nvPr/>
        </p:nvPicPr>
        <p:blipFill>
          <a:blip r:embed="rId2"/>
          <a:stretch/>
        </p:blipFill>
        <p:spPr>
          <a:xfrm>
            <a:off x="28584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22576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вы знаете благородные металлы? Почему они так называ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34900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, серебро, пла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лладий, рутений, родий, осмий и  ирид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рактически не подвергаются коррозии; обладают малой химической активностью.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4211640" y="5208480"/>
            <a:ext cx="1873080" cy="1581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7667640" y="3429000"/>
            <a:ext cx="1362240" cy="1028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7024680" y="1989000"/>
            <a:ext cx="151272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Ф есть закон «О чистом воздухе»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меры  по охране атмосферы он предусматривает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565360"/>
            <a:ext cx="85075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 стандартов по выхлопным газам для автомоби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щение  вырубки ле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ка  очистных  сооружений  на химических предприят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ход на использование бестопливных  источников энергии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зовите самые известные смес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щест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дух ;           Спла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воры  ;      Поч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ералы ;     Молоч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ите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755640" y="4653000"/>
            <a:ext cx="1224000" cy="165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5940360" y="1557360"/>
            <a:ext cx="2289240" cy="160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tretch/>
        </p:blipFill>
        <p:spPr>
          <a:xfrm>
            <a:off x="6084720" y="3789360"/>
            <a:ext cx="1692360" cy="27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3276720" y="4869000"/>
            <a:ext cx="193176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7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7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7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7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93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99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еловек чаще всего использует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щества в растворенном вид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А какие вы знаете растворител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це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ипи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н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924360" y="2266920"/>
            <a:ext cx="482436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 1995 году государственной Думой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нят Водный кодекс РФ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 чем его основные Положени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водопольз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охране водных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полномочиях государственных структур в области вод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государственном мониторинге состояния водных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госнадзоре за водными объе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Самые известные ученые - биолог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7440" y="5684760"/>
            <a:ext cx="2017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.И.Ме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486320" y="981000"/>
            <a:ext cx="1585800" cy="2163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6286680" y="1143000"/>
            <a:ext cx="1334880" cy="1847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4653000" y="307188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И.Вави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407880" y="762120"/>
            <a:ext cx="1822680" cy="23828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2160" y="30780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.А.Тимиряз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5"/>
          <a:stretch/>
        </p:blipFill>
        <p:spPr>
          <a:xfrm>
            <a:off x="2236680" y="884160"/>
            <a:ext cx="1890720" cy="2328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2364480" y="314316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М.Сеч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6"/>
          <a:stretch/>
        </p:blipFill>
        <p:spPr>
          <a:xfrm>
            <a:off x="4273560" y="3554280"/>
            <a:ext cx="1803240" cy="20480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4362120" y="571500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П.Пав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7"/>
          <a:stretch/>
        </p:blipFill>
        <p:spPr>
          <a:xfrm>
            <a:off x="2309760" y="3382920"/>
            <a:ext cx="187812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2428920" y="571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 Менд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8"/>
          <a:stretch/>
        </p:blipFill>
        <p:spPr>
          <a:xfrm>
            <a:off x="384120" y="3591000"/>
            <a:ext cx="1895400" cy="199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9"/>
          <a:stretch/>
        </p:blipFill>
        <p:spPr>
          <a:xfrm>
            <a:off x="6102360" y="3382920"/>
            <a:ext cx="220032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7"/>
          <p:cNvSpPr/>
          <p:nvPr/>
        </p:nvSpPr>
        <p:spPr>
          <a:xfrm>
            <a:off x="6506280" y="578628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.М.Б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62028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иологические  активные вещества – это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рменты (биокатализато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моны (выделяются ЖВ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стимуляторы(женьшень, наприм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тогормоны(гормоны расте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ины (антибиотики; ферромо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птиды (универсальные бел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875640" y="1125360"/>
            <a:ext cx="21445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9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ту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Как мы знаем особенности вещест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little_boots_-_hearts_collide[1].mp3" descr=""/>
          <p:cNvPicPr/>
          <p:nvPr/>
        </p:nvPicPr>
        <p:blipFill>
          <a:blip r:embed="rId2"/>
          <a:stretch/>
        </p:blipFill>
        <p:spPr>
          <a:xfrm>
            <a:off x="142920" y="62676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76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6080" y="274320"/>
            <a:ext cx="846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Известные вам </a:t>
            </a:r>
            <a:r>
              <a:rPr b="1" lang="en-US" sz="4400" spc="-1" strike="noStrike">
                <a:solidFill>
                  <a:srgbClr val="f2f2f2"/>
                </a:solidFill>
                <a:latin typeface="Arial"/>
              </a:rPr>
              <a:t>яды</a:t>
            </a: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 –это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ко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анистый ка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от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роводор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арный 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5940360" y="1268280"/>
            <a:ext cx="2830680" cy="2079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28440" y="104760"/>
            <a:ext cx="1568520" cy="1182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5940360" y="3933720"/>
            <a:ext cx="2106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701720"/>
                <a:tab algn="l" pos="179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II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с подсказ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О чем идет реч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little_boots_-_hearts_collide[1].mp3" descr=""/>
          <p:cNvPicPr/>
          <p:nvPr/>
        </p:nvPicPr>
        <p:blipFill>
          <a:blip r:embed="rId2"/>
          <a:stretch/>
        </p:blipFill>
        <p:spPr>
          <a:xfrm>
            <a:off x="828684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225763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баллов)    Эти  «жгучие»  вещества  применяют в производстве мыла, в кожевенной промышленности, в фармацевтике и в производстве бума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 балла)    Все моющие средства, мыло, шампунь представляют собой их раст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000080" y="42876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 какой группе веществ иде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 какой группе веществ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571760"/>
            <a:ext cx="82296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балла) Они обладают и дезинфицирующим свойств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балла) Их представител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шеную известь  - мы наносим на стены при побелк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батарейки из одной из них мы используем как источники     питания для приб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й представитель как "баритовая вода" – применяют   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чественного и количественного определения содержания углекислого газа в га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 какой группе веществ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 балл) Одна из них  скрывается под названиями "алкаль" "каустик", раствор которой  и кристаллы очень опасны в обращении: при попадании в пищевод человека всего 0,01–0,02г наступает смерть , в первые же часы или сутки. На коже он вызывает глубокие и долго незаживающие ож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Щелочи 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просы с подсказ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840" y="1356840"/>
            <a:ext cx="8472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ироде  встречается  в золе некоторых морских водорослей, а также в виде следующих минерал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коли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на                       В С Ш 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рит                озеро  Натрон  в Танз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онатрит      озеро  Сирлс  в  Калифор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из-за отсутствия крупных месторождений из минералов не доб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928800" y="42876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 каком веществе, встречающемся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ждом доме,    идет  р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32968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ом веществе, встречающемся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ом доме,    идет  реч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85480" y="1714320"/>
            <a:ext cx="86439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чала XIX      века получали преимущественно из золы некоторых морских водорослей и прибрежн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61 году бельгийский инженер-химик Эрнест Сольве запатентовал Промышленный аммиачный способ  производства этого вещества, который  используется  и  по се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завод такого типа в России был основан в районе уральского города Березники фирмой «Любимов, Сольве и Ко» в 1883 году. Его производительность составляла 20 тысяч тонн в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 ба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сказка   на 3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5840" y="1285560"/>
            <a:ext cx="8400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сталлогидраты этой соли  существуют в разных фор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цветный моноклинный    при 32,017 °C    переходит в   бесцветный ромбический, который при нагревании до 35,27 °C  переходи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бическ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водный    представляет собой бесцветный кристаллический порош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дном растворе  гидролизуется,  что обеспечивает щелочную реакцию среды, поэтому этот раствор применяется  при  кислотных ожог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дсказка на 2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 в стекольном производстве, мыловарении и производстве стиральных и чистящих порошков, эмалей, для получения ультрамарина. Также он применяется для смягчения воды паровых котлов и вообще устранения жёсткости воды, для обезжиривания металлов.  В пищевой промышленности зарегистрирован в качестве пищевой добавки E500, регулятора кислотности, разрыхлителя, препятствующего комкованию и слёжи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происходит от растения Salsola So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золы которого её     добывали.                      (1 бал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есные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85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е  соли  широко используют в медици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аренная  соль – физраствор -      15 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ская соль -                                      16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манганат калия – «марганцовка» -  8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уберова соль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* 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 -  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другие –                                               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150"/>
              </a:spcBef>
              <a:tabLst>
                <a:tab algn="l" pos="0"/>
                <a:tab algn="l" pos="1698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 а к  а  я      к и с л от а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цвета и запаха. Одна из самых сильных кислот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  и с т а я - при 0" застывает,   при 290" кип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воряет большинство металлов, образуя соли. На свинец действует сла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сказка на 4 бал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йствует разрушающим образом на растительные и животные ткани и вещества, отнимая у них воду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одой смешивается во всех пропорциях, при этом выделяется большое количество тепла, вследствие чего во избежание разбрызгивания нужно приливать кислоту в воду, а не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сказка на 3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ятся следующие сорта  кисл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ая камерная   -   окрашена в бурый цвет и содержит разные примес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верная (английская -    прозрачная, обладает темным ц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поросное масло,  прозрачно, со слабым буроватым оттен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кумуляторная   кисл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сказка на 2 бал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356840"/>
            <a:ext cx="8786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распространенная и важная в химической технике кислота – образное название « Х леб химической промышленности» имеет широкое применение почти во всех отраслях химической промышленности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   водителей называется  -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лит –  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1500" spc="-1" strike="noStrike">
                <a:solidFill>
                  <a:srgbClr val="000000"/>
                </a:solidFill>
                <a:latin typeface="Arial"/>
              </a:rPr>
              <a:t>Серная  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15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 каком веществе идет речь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85840" y="1285560"/>
            <a:ext cx="8329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о  необходимо  нашему организму настолько, что если выпить достаточное количество воды, можно заболеть гипонатремией (Hyponatremia). Из-за этого умерла одна из участниц конкурса «Hold your wee for a wii» Дженнифер Стрендж (Jennifer Strange), в котором необходимо было выпить как можно больш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сказка на 4/3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400" y="128592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ыток его  в организме  опасен ,что использовалось в Древнем Китае для ритуальных самоубийств среди богатой знати.         - 4 балла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Средние века его называли «белое золото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изводстве в Индии оно имеет вид черного порошка, после измельчения  становился роз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3 бал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сказка на 2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мнение, что римские солдаты получали жалование этим веществом. Это неправда, им платили обычные деньги,  они занимались охраной торговых путей, по которым в Рим доставлялась  Salarium.(2 балла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едняя  подска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3840" y="114300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 века  это вещество  было  в четыре раза дороже говядины, и составляло  значительную часть товарооборота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ире только 6 %  его используется для еды, 17 % для обработки дорог в зимнее время. Остальные 77 %  используются в промыш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 американский натуропат Пол Брэгг называл его я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о  образуется,  когда нестабильным металл натрий взаимодействует с хло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 бал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есные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ую соль используют  при лечении радикулита или насморка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е нагревают на сковородке или в духовке, насыпают в мешочек и прикладывают к больному мес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аренная -     26 б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рская -           20 б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ищевая -            6 б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Поваренная сол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каком веществе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самому лучшему повару сколько угодно свежего воздуха, сколько угодно солнечного света и целую речку чистой воды и попросите, чтоб он из всего этого приготовил вам сахар, крахмал, зерно- он решит, что вы над ним смеетесь. Без какого вещества невозможно приготовить глюкоз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сказка на 4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вещество принимает энергию солнца и участвует в фотолизе 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казка на 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оложен  на  мембранах тилакоида      хлоропла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сказки на 2 / 1 бал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ческое вещество зеленого цвета, которое преобразует энергию солнечного света в энергию химических связей.                     - 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игмент, придающий зеленую окраску листьям растений. – 1 бал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 №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Хлорофилл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рганическое ве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НК –это дезоксирибоза, в РНК- рибоза.                             - 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животных –гликоген, у растений-целлюлоза, у членистоногих и грибов- хитин. О каком веществе иде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ческое вещество, входящее в состав клетки.                     - 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формула :  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юкоза, крахмал.    - 1 балл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 №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1698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000000"/>
                </a:solidFill>
                <a:latin typeface="Arial"/>
              </a:rPr>
              <a:t>Углевод 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чень важное в жизни ве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рироде существует два вида этих веществ; это вещество содержит компонент дезоксирибозу       - 5 б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ческое вещество, биополимер, мономером которого является нуклеотид. –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 бал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ение молекулы этого вещества было открыто американскими учеными Ф. Криком и Дж. Уотсоном в 1953 году,за это открытие им была вручена Нобелевская премия.-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ит в состав хромосом.-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ь наследственной информации в клетке.-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3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есные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 ли использовать для приема внутрь раствор хлорида кальция, в  котором образовался небольшой хлопьевидный осадок белого цвета?  Что  такое  белый осад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– 36               Да –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ь – 5             СаО –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ь – 9                  Хлор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ый ответ – карбонат кальция – известняк -  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 чем речь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обязательно присутствуют в пищеварительных соках – 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участвуют в химических реакциях в клетках, при при завершении которых остаются неизменными. – 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действие избирательно. – 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биологический катализатор. – 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псин, амилаза, мезим-форте, пепс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50"/>
              </a:spcBef>
              <a:tabLst>
                <a:tab algn="l" pos="0"/>
                <a:tab algn="l" pos="1698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пантомим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little_boots_-_hearts_collide[1].mp3" descr=""/>
          <p:cNvPicPr/>
          <p:nvPr/>
        </p:nvPicPr>
        <p:blipFill>
          <a:blip r:embed="rId2"/>
          <a:stretch/>
        </p:blipFill>
        <p:spPr>
          <a:xfrm>
            <a:off x="821520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0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2" dur="225763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МУЗЫКАЛЬ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little_boots_-_hearts_collide[1].mp3" descr=""/>
          <p:cNvPicPr/>
          <p:nvPr/>
        </p:nvPicPr>
        <p:blipFill>
          <a:blip r:embed="rId2"/>
          <a:stretch/>
        </p:blipFill>
        <p:spPr>
          <a:xfrm>
            <a:off x="821520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0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225763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есные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ен старинный рецепт лечения малокровия - «железное яблоко»: в яблоко  (лучше сорт- антоновка) втыкают несколько гвоздей и выдерживают сутки. Затем гвозди вынимают, а яблоко съедает боль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ы можете объяснить эффективность «железного яблока» с точки зрения химика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% железа в яблоке -  3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яется железо , увеличивается гемоглобин крови – 1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ся активность ионов железа в яблоке  - 6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есные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общего между мелом, мрамором и моллюск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личие кальция – 40 бал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рбонат кальция, известняк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бал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ение, структура – 8 бал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леность – 1 ба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есные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е аномальное свойство воды спасает от промерзания   до дна ре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ный ответ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лотность твер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ы меньше плотности жидкой вод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     –  8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д менее плотный, чем вода – 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есные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жно ли переносить  воду в сите с мелкими ячейк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, если она в виде льда – 40 баллов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т – 6 бал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5:53:59Z</dcterms:created>
  <dc:creator>Admin</dc:creator>
  <dc:description/>
  <dc:language>en-US</dc:language>
  <cp:lastModifiedBy>Ученик 01</cp:lastModifiedBy>
  <dcterms:modified xsi:type="dcterms:W3CDTF">2011-05-24T09:30:02Z</dcterms:modified>
  <cp:revision>31</cp:revision>
  <dc:subject/>
  <dc:title>Удивительный мир веществ</dc:title>
</cp:coreProperties>
</file>