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18.wmf" ContentType="image/x-wmf"/>
  <Override PartName="/ppt/media/image17.jpeg" ContentType="image/jpeg"/>
  <Override PartName="/ppt/media/image16.gif" ContentType="image/gi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EDA-AB2D-4263-9918-6D146A12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3AD-8605-400F-8259-B40AD912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D4A-3448-4A5F-ADAA-ABEF4DAE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51C-17A3-4CF3-8C30-6B40197F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0EF-3215-4BAF-9F4F-534EAC32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1707-20C7-405D-B7B4-B93F135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BC1B-8227-4583-B581-C90D110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11E5-92B2-4353-AC6D-A20150AC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36C6-B5FD-4516-A4EA-F4B9C16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3BC-61F9-46CD-A698-02B44B1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3E27-EEC0-4249-BB2C-D2B5716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825-AA36-44BB-83F4-3FBF086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101F-C2C7-4064-BF44-AEE1444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3721-F3FB-4292-BFF9-3BC298D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B317-1AD5-48D7-8C08-F24878C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1BEC-6ED1-402D-8C16-A3AF25D0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56F3-7BF2-44EA-8167-1825906A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49F-BD0E-4D68-91F2-12C5304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9B4-475D-4F68-9B2E-1803B266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E5E-F03B-473B-AFB7-9A7B6439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9A9-DCDE-4FCF-8A74-9E42A66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A06-0BBD-4287-A0E1-3AB4571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23D-45FF-4B05-9551-5AC269C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F7F-AD8D-49EE-B352-1CBD91A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D84-DCBF-4F63-8C4F-EF8D2A675A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764-FA95-4DA3-A4E0-FDFD748327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Классы неорганических вещест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ающий урок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95160" y="4444920"/>
            <a:ext cx="2136960" cy="1850400"/>
            <a:chOff x="695160" y="4444920"/>
            <a:chExt cx="2136960" cy="1850400"/>
          </a:xfrm>
        </p:grpSpPr>
        <p:sp>
          <p:nvSpPr>
            <p:cNvPr id="152" name="_s79889"/>
            <p:cNvSpPr/>
            <p:nvPr/>
          </p:nvSpPr>
          <p:spPr>
            <a:xfrm>
              <a:off x="1112400" y="4444920"/>
              <a:ext cx="1302840" cy="1302840"/>
            </a:xfrm>
            <a:custGeom>
              <a:avLst/>
              <a:gdLst>
                <a:gd name="textAreaLeft" fmla="*/ 0 w 1302840"/>
                <a:gd name="textAreaRight" fmla="*/ 1303200 w 130284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9890"/>
            <p:cNvSpPr/>
            <p:nvPr/>
          </p:nvSpPr>
          <p:spPr>
            <a:xfrm rot="7200000">
              <a:off x="1290240" y="4753800"/>
              <a:ext cx="1303200" cy="130284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9892"/>
            <p:cNvSpPr/>
            <p:nvPr/>
          </p:nvSpPr>
          <p:spPr>
            <a:xfrm rot="14400000">
              <a:off x="933480" y="4753800"/>
              <a:ext cx="1303200" cy="130284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79887"/>
            <p:cNvSpPr/>
            <p:nvPr/>
          </p:nvSpPr>
          <p:spPr>
            <a:xfrm>
              <a:off x="2120400" y="4683240"/>
              <a:ext cx="5227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ислот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9888"/>
            <p:cNvSpPr/>
            <p:nvPr/>
          </p:nvSpPr>
          <p:spPr>
            <a:xfrm>
              <a:off x="1503360" y="5755320"/>
              <a:ext cx="5223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о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79891"/>
            <p:cNvSpPr/>
            <p:nvPr/>
          </p:nvSpPr>
          <p:spPr>
            <a:xfrm>
              <a:off x="883800" y="4684320"/>
              <a:ext cx="5227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ксиды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1640" y="122400"/>
            <a:ext cx="66690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наете ли вы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rot="10800000">
            <a:off x="394920" y="260280"/>
            <a:ext cx="523800" cy="457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87280" y="1268280"/>
            <a:ext cx="302436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личие в атмосферной пыли нитрата натрия, сульфата натрия снижает прозрачность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3716280"/>
            <a:ext cx="496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понские стоматологи стали делать искусственные зубы, применяя белые кристаллы (карбонат кальция). Они не окисляются и не травмируют  ткани ротовой по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33424" t="19924" r="0" b="8511"/>
          <a:stretch/>
        </p:blipFill>
        <p:spPr>
          <a:xfrm>
            <a:off x="1187280" y="3933720"/>
            <a:ext cx="114804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0" t="0" r="46409" b="0"/>
          <a:stretch/>
        </p:blipFill>
        <p:spPr>
          <a:xfrm>
            <a:off x="179280" y="1844640"/>
            <a:ext cx="790560" cy="181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292720" y="981000"/>
            <a:ext cx="252108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ериальное давление в организме зависит от содержания  в нем  поваренной соли – хлорида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rcRect l="0" t="0" r="0" b="40934"/>
          <a:stretch/>
        </p:blipFill>
        <p:spPr>
          <a:xfrm>
            <a:off x="7524720" y="2205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5661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ставьте формулы                                           названных с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2e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7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ли в практике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а яичной скорлупы – соль- карбонат кальция. Составьте ее формулу. При взаимодействии какого основания и какой кислоты она образуетс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Юннаты произвели пикировку рассады в горшочки из скорлупы куриных яиц. Когда рассада выросла, ее высадили в открытый грунт, предварительно слегка размяв скорлупу. Какое влияние оказывает скорлупа на рост и развитие растени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67640" y="5977080"/>
            <a:ext cx="755640" cy="493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093080" y="2924280"/>
            <a:ext cx="14396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99"/>
            </a:gs>
            <a:gs pos="100000">
              <a:srgbClr val="a3d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перь мы будем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знать, что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ли кальция обеспечиваю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йтрализацию избытка кислот в поч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ие роста корней и образование корневых волос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 образования  органических веществ в процессе фотосин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воение растениями аз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0"/>
            <a:ext cx="7343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чем нужны  индикаторы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55640" y="2349360"/>
          <a:ext cx="7942320" cy="3356280"/>
        </p:xfrm>
        <a:graphic>
          <a:graphicData uri="http://schemas.openxmlformats.org/drawingml/2006/table">
            <a:tbl>
              <a:tblPr/>
              <a:tblGrid>
                <a:gridCol w="2647800"/>
                <a:gridCol w="2441880"/>
                <a:gridCol w="285264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му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оран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олфтале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(OH)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863640" y="5805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могают  определить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спериментальная зада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вас три пронумерованные пробир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вестно, что в них  есть кислота, щелочь, вода. Но лаборант перепутал пробирк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ланируйте ваш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формулируйте выводы на основе полученных  результа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пишите отв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ведем итог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02072"/>
                </a:solidFill>
                <a:latin typeface="Agency FB"/>
              </a:rPr>
              <a:t>1. Сколько классов веществ представлено в ряду</a:t>
            </a:r>
            <a:r>
              <a:rPr b="1" i="1" lang="ru-RU" sz="2800" spc="-1" strike="noStrike">
                <a:solidFill>
                  <a:srgbClr val="000000"/>
                </a:solidFill>
                <a:latin typeface="Agency F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O   Ca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Ca(OH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Ca(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NaCl  Ca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02072"/>
                </a:solidFill>
                <a:latin typeface="Arial"/>
              </a:rPr>
              <a:t>2. Что нарушает логичность представленных форму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3. Сопоставьт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1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 а)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ковое моло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2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                 б)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хлористы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3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e02072"/>
                </a:solidFill>
                <a:latin typeface="Arial"/>
              </a:rPr>
              <a:t> в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варенная со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ce8"/>
            </a:gs>
            <a:gs pos="100000">
              <a:srgbClr val="e02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ведем итог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4000" y="1197000"/>
            <a:ext cx="8250480" cy="4330440"/>
            <a:chOff x="324000" y="1197000"/>
            <a:chExt cx="8250480" cy="4330440"/>
          </a:xfrm>
        </p:grpSpPr>
        <p:cxnSp>
          <p:nvCxnSpPr>
            <p:cNvPr id="259" name="_s70680"/>
            <p:cNvCxnSpPr>
              <a:stCxn id="260" idx="1"/>
              <a:endCxn id="261" idx="2"/>
            </p:cNvCxnSpPr>
            <p:nvPr/>
          </p:nvCxnSpPr>
          <p:spPr>
            <a:xfrm rot="10800000">
              <a:off x="2791800" y="1998360"/>
              <a:ext cx="84528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0679"/>
            <p:cNvCxnSpPr>
              <a:stCxn id="263" idx="1"/>
              <a:endCxn id="261" idx="2"/>
            </p:cNvCxnSpPr>
            <p:nvPr/>
          </p:nvCxnSpPr>
          <p:spPr>
            <a:xfrm rot="10800000">
              <a:off x="2791800" y="1998360"/>
              <a:ext cx="771480" cy="197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0678"/>
            <p:cNvCxnSpPr>
              <a:stCxn id="265" idx="1"/>
              <a:endCxn id="261" idx="2"/>
            </p:cNvCxnSpPr>
            <p:nvPr/>
          </p:nvCxnSpPr>
          <p:spPr>
            <a:xfrm rot="10800000">
              <a:off x="2791800" y="1998360"/>
              <a:ext cx="823320" cy="80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1" name="_s70674"/>
            <p:cNvSpPr/>
            <p:nvPr/>
          </p:nvSpPr>
          <p:spPr>
            <a:xfrm>
              <a:off x="324000" y="1197000"/>
              <a:ext cx="4937040" cy="802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ые  класс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органических вещест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0675"/>
            <p:cNvSpPr/>
            <p:nvPr/>
          </p:nvSpPr>
          <p:spPr>
            <a:xfrm>
              <a:off x="3615120" y="2400120"/>
              <a:ext cx="4937040" cy="802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0676"/>
            <p:cNvSpPr/>
            <p:nvPr/>
          </p:nvSpPr>
          <p:spPr>
            <a:xfrm>
              <a:off x="3563280" y="3572640"/>
              <a:ext cx="4937040" cy="802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70677"/>
            <p:cNvSpPr/>
            <p:nvPr/>
          </p:nvSpPr>
          <p:spPr>
            <a:xfrm>
              <a:off x="3637440" y="4725360"/>
              <a:ext cx="4937040" cy="802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о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524720" y="256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5164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Ан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3141720"/>
            <a:ext cx="2089080" cy="1608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элемента, один из которых – кислород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8400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580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ак можно дополнить сх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388360" y="6093000"/>
            <a:ext cx="360360" cy="5047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4720"/>
              <a:gd name="textAreaBottom" fmla="*/ 48168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00" y="28844"/>
                </a:lnTo>
                <a:lnTo>
                  <a:pt x="20200" y="140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400" y="28844"/>
                </a:lnTo>
                <a:lnTo>
                  <a:pt x="20200" y="2884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4"/>
                </a:lnTo>
                <a:close/>
              </a:path>
              <a:path fill="darken" w="21600" h="30244">
                <a:moveTo>
                  <a:pt x="3794" y="8116"/>
                </a:moveTo>
                <a:lnTo>
                  <a:pt x="17806" y="15122"/>
                </a:lnTo>
                <a:lnTo>
                  <a:pt x="3794" y="22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32400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250920" y="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10800" y="225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186">
                <a:moveTo>
                  <a:pt x="11905" y="22074"/>
                </a:moveTo>
                <a:lnTo>
                  <a:pt x="11905" y="20116"/>
                </a:lnTo>
                <a:cubicBezTo>
                  <a:pt x="11905" y="19289"/>
                  <a:pt x="12236" y="18593"/>
                  <a:pt x="12837" y="18593"/>
                </a:cubicBezTo>
                <a:cubicBezTo>
                  <a:pt x="13968" y="18593"/>
                  <a:pt x="14865" y="17226"/>
                  <a:pt x="14865" y="15642"/>
                </a:cubicBezTo>
                <a:cubicBezTo>
                  <a:pt x="14865" y="13327"/>
                  <a:pt x="13011" y="11586"/>
                  <a:pt x="10800" y="11586"/>
                </a:cubicBezTo>
                <a:cubicBezTo>
                  <a:pt x="8589" y="11586"/>
                  <a:pt x="6918" y="13327"/>
                  <a:pt x="6918" y="15642"/>
                </a:cubicBezTo>
                <a:lnTo>
                  <a:pt x="8772" y="15642"/>
                </a:lnTo>
                <a:cubicBezTo>
                  <a:pt x="8772" y="14502"/>
                  <a:pt x="9695" y="13614"/>
                  <a:pt x="10800" y="13614"/>
                </a:cubicBezTo>
                <a:cubicBezTo>
                  <a:pt x="11905" y="13614"/>
                  <a:pt x="12837" y="14502"/>
                  <a:pt x="12837" y="15642"/>
                </a:cubicBezTo>
                <a:cubicBezTo>
                  <a:pt x="12837" y="16382"/>
                  <a:pt x="12367" y="17113"/>
                  <a:pt x="11905" y="17113"/>
                </a:cubicBezTo>
                <a:cubicBezTo>
                  <a:pt x="10800" y="17113"/>
                  <a:pt x="9695" y="18593"/>
                  <a:pt x="9695" y="20116"/>
                </a:cubicBezTo>
                <a:lnTo>
                  <a:pt x="9695" y="2207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2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52080" y="549360"/>
            <a:ext cx="8333280" cy="5478840"/>
            <a:chOff x="352080" y="549360"/>
            <a:chExt cx="8333280" cy="5478840"/>
          </a:xfrm>
        </p:grpSpPr>
        <p:cxnSp>
          <p:nvCxnSpPr>
            <p:cNvPr id="276" name="_s72720"/>
            <p:cNvCxnSpPr>
              <a:stCxn id="277" idx="1"/>
              <a:endCxn id="278" idx="2"/>
            </p:cNvCxnSpPr>
            <p:nvPr/>
          </p:nvCxnSpPr>
          <p:spPr>
            <a:xfrm flipH="1" rot="10800000">
              <a:off x="466200" y="1558800"/>
              <a:ext cx="2480760" cy="1306080"/>
            </a:xfrm>
            <a:prstGeom prst="bentConnector4">
              <a:avLst>
                <a:gd name="adj1" fmla="val -4600"/>
                <a:gd name="adj2" fmla="val 690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72710"/>
            <p:cNvCxnSpPr>
              <a:stCxn id="280" idx="1"/>
              <a:endCxn id="278" idx="2"/>
            </p:cNvCxnSpPr>
            <p:nvPr/>
          </p:nvCxnSpPr>
          <p:spPr>
            <a:xfrm rot="10800000">
              <a:off x="2952000" y="1558800"/>
              <a:ext cx="809640" cy="396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72711"/>
            <p:cNvCxnSpPr>
              <a:stCxn id="282" idx="1"/>
              <a:endCxn id="278" idx="2"/>
            </p:cNvCxnSpPr>
            <p:nvPr/>
          </p:nvCxnSpPr>
          <p:spPr>
            <a:xfrm rot="10800000">
              <a:off x="2952000" y="1558800"/>
              <a:ext cx="735840" cy="251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72712"/>
            <p:cNvCxnSpPr>
              <a:stCxn id="284" idx="1"/>
              <a:endCxn id="278" idx="2"/>
            </p:cNvCxnSpPr>
            <p:nvPr/>
          </p:nvCxnSpPr>
          <p:spPr>
            <a:xfrm rot="10800000">
              <a:off x="2952000" y="1558800"/>
              <a:ext cx="787680" cy="10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72713"/>
            <p:cNvSpPr/>
            <p:nvPr/>
          </p:nvSpPr>
          <p:spPr>
            <a:xfrm>
              <a:off x="535680" y="549360"/>
              <a:ext cx="4821840" cy="1010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Основные  классы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еорганических вещест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72714"/>
            <p:cNvSpPr/>
            <p:nvPr/>
          </p:nvSpPr>
          <p:spPr>
            <a:xfrm>
              <a:off x="3739680" y="2089080"/>
              <a:ext cx="4923720" cy="1010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ислородные и бескислоро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Одно-, двух-, трех- основ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72715"/>
            <p:cNvSpPr/>
            <p:nvPr/>
          </p:nvSpPr>
          <p:spPr>
            <a:xfrm>
              <a:off x="3687840" y="3566520"/>
              <a:ext cx="4923720" cy="1010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Основания: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Растворимые (щелочи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и   нерастворим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72716"/>
            <p:cNvSpPr/>
            <p:nvPr/>
          </p:nvSpPr>
          <p:spPr>
            <a:xfrm>
              <a:off x="3761640" y="5018040"/>
              <a:ext cx="4923720" cy="1010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сол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72719"/>
            <p:cNvSpPr/>
            <p:nvPr/>
          </p:nvSpPr>
          <p:spPr>
            <a:xfrm>
              <a:off x="467280" y="2367000"/>
              <a:ext cx="2085840" cy="9957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Оксид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и кисло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атизировать знания о классах неорганических вещест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знать новое в их значении в жизни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рабатывать навыки составления формул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коммуникативные  навы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66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основ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кислот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260280"/>
            <a:ext cx="6337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кс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1130400" cy="2190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451640" y="2565360"/>
            <a:ext cx="1206720" cy="1639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1270080" cy="952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0920" y="2492280"/>
            <a:ext cx="1512720" cy="129564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365720"/>
            <a:ext cx="1512720" cy="129528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2565360"/>
            <a:ext cx="1512720" cy="129528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205000"/>
            <a:ext cx="1513080" cy="129528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4149720"/>
            <a:ext cx="1513080" cy="129528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2997360"/>
            <a:ext cx="1512720" cy="129528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933720"/>
            <a:ext cx="1513080" cy="129564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31417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924280"/>
            <a:ext cx="216000" cy="215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9337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551664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особенен  оксид вод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2060640"/>
            <a:ext cx="165744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4" action="ppaction://hlinksldjump"/>
          </p:cNvPr>
          <p:cNvSpPr/>
          <p:nvPr/>
        </p:nvSpPr>
        <p:spPr>
          <a:xfrm>
            <a:off x="8532720" y="6093000"/>
            <a:ext cx="432000" cy="5047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33">
                <a:moveTo>
                  <a:pt x="0" y="0"/>
                </a:moveTo>
                <a:lnTo>
                  <a:pt x="21600" y="0"/>
                </a:lnTo>
                <a:lnTo>
                  <a:pt x="21600" y="25233"/>
                </a:lnTo>
                <a:lnTo>
                  <a:pt x="0" y="25233"/>
                </a:lnTo>
                <a:close/>
              </a:path>
              <a:path fill="lightenLess" w="21600" h="25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3">
                <a:moveTo>
                  <a:pt x="21600" y="0"/>
                </a:moveTo>
                <a:lnTo>
                  <a:pt x="21600" y="25233"/>
                </a:lnTo>
                <a:lnTo>
                  <a:pt x="20200" y="23833"/>
                </a:lnTo>
                <a:lnTo>
                  <a:pt x="20200" y="1400"/>
                </a:lnTo>
                <a:close/>
              </a:path>
              <a:path fill="darkenLess" w="21600" h="25233">
                <a:moveTo>
                  <a:pt x="21600" y="25233"/>
                </a:moveTo>
                <a:lnTo>
                  <a:pt x="0" y="25233"/>
                </a:lnTo>
                <a:lnTo>
                  <a:pt x="1400" y="23833"/>
                </a:lnTo>
                <a:lnTo>
                  <a:pt x="20200" y="23833"/>
                </a:lnTo>
                <a:close/>
              </a:path>
              <a:path fill="lighten" w="21600" h="25233">
                <a:moveTo>
                  <a:pt x="0" y="25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3"/>
                </a:lnTo>
                <a:close/>
              </a:path>
              <a:path fill="darken" w="21600" h="25233">
                <a:moveTo>
                  <a:pt x="10800" y="56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233">
                <a:moveTo>
                  <a:pt x="10800" y="59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233">
                <a:moveTo>
                  <a:pt x="8224" y="10040"/>
                </a:moveTo>
                <a:lnTo>
                  <a:pt x="12088" y="10040"/>
                </a:lnTo>
                <a:lnTo>
                  <a:pt x="12088" y="17038"/>
                </a:lnTo>
                <a:lnTo>
                  <a:pt x="13376" y="17038"/>
                </a:lnTo>
                <a:lnTo>
                  <a:pt x="13376" y="17961"/>
                </a:lnTo>
                <a:lnTo>
                  <a:pt x="8224" y="17961"/>
                </a:lnTo>
                <a:lnTo>
                  <a:pt x="8224" y="17038"/>
                </a:lnTo>
                <a:lnTo>
                  <a:pt x="9512" y="17038"/>
                </a:lnTo>
                <a:lnTo>
                  <a:pt x="9512" y="10945"/>
                </a:lnTo>
                <a:lnTo>
                  <a:pt x="8224" y="10945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о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юбопытно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работано нагревательное усКислот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ройство для завивки волос, в основе которого лежит реакция гашения водой извести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О   +   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 =  Са(ОН)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гашеная изве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ашеная изв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сная окраска кирпича обусловлена  образованием твердых растворов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глинозем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229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2072"/>
                </a:solidFill>
                <a:latin typeface="Arial"/>
              </a:rPr>
              <a:t>Прочитайте формулы оксидов  и назовите  их</a:t>
            </a:r>
            <a:r>
              <a:rPr b="0" i="1" lang="en-US" sz="2800" spc="-1" strike="noStrike">
                <a:solidFill>
                  <a:srgbClr val="e0207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54936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32000" y="1557360"/>
            <a:ext cx="5981760" cy="4343040"/>
            <a:chOff x="1332000" y="1557360"/>
            <a:chExt cx="5981760" cy="4343040"/>
          </a:xfrm>
        </p:grpSpPr>
        <p:sp>
          <p:nvSpPr>
            <p:cNvPr id="187" name=""/>
            <p:cNvSpPr/>
            <p:nvPr/>
          </p:nvSpPr>
          <p:spPr>
            <a:xfrm>
              <a:off x="2772000" y="2444040"/>
              <a:ext cx="30826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32000" y="5013720"/>
              <a:ext cx="177156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рех -осно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6920" y="1557360"/>
              <a:ext cx="177192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дно-осно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42200" y="5013720"/>
              <a:ext cx="177156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вух -осно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348000" y="3645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исло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2492280"/>
            <a:ext cx="1944720" cy="12956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413000"/>
            <a:ext cx="1944720" cy="129528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933720"/>
            <a:ext cx="1944720" cy="12956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5084640"/>
            <a:ext cx="1944720" cy="12956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3284640"/>
            <a:ext cx="1944720" cy="129528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1989000"/>
            <a:ext cx="1944720" cy="12956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357720"/>
            <a:ext cx="1295640" cy="122364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8388360" y="595008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10800" y="528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587">
                <a:moveTo>
                  <a:pt x="10800" y="566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587">
                <a:moveTo>
                  <a:pt x="8224" y="9717"/>
                </a:moveTo>
                <a:lnTo>
                  <a:pt x="12088" y="9717"/>
                </a:lnTo>
                <a:lnTo>
                  <a:pt x="12088" y="16715"/>
                </a:lnTo>
                <a:lnTo>
                  <a:pt x="13376" y="16715"/>
                </a:lnTo>
                <a:lnTo>
                  <a:pt x="13376" y="17637"/>
                </a:lnTo>
                <a:lnTo>
                  <a:pt x="8224" y="17637"/>
                </a:lnTo>
                <a:lnTo>
                  <a:pt x="8224" y="16715"/>
                </a:lnTo>
                <a:lnTo>
                  <a:pt x="9512" y="16715"/>
                </a:lnTo>
                <a:lnTo>
                  <a:pt x="9512" y="10622"/>
                </a:lnTo>
                <a:lnTo>
                  <a:pt x="8224" y="1062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2492280"/>
            <a:ext cx="1944720" cy="12956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т кислот вред или польза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 кислотные дожд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 молочной кислоты не будет сило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ушения аккумулятора вызывают окисление металлических конструкций(электроли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ляная кислота в желудке  обеспечивает пищева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47720" y="4724280"/>
            <a:ext cx="1792440" cy="1820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44560" cy="1837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53368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734544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к крапиве неосторожно прикоснуться рукой, ощутишь боль и жжение. Поч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чиной изжоги бывает повышенная кислотность желудочного сока. Какая кислота  ее обуславливает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снизить кислот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451640" y="2924280"/>
            <a:ext cx="1063800" cy="3105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2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042920" y="333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5300640"/>
            <a:ext cx="59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редставить классификацию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ставленных  основа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989000"/>
            <a:ext cx="1368360" cy="720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0" y="1916280"/>
            <a:ext cx="1368360" cy="720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48360" y="3141720"/>
            <a:ext cx="1368720" cy="720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141720"/>
            <a:ext cx="1368360" cy="720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645000"/>
            <a:ext cx="2448000" cy="19447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3645000"/>
            <a:ext cx="2448000" cy="19447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1628640"/>
            <a:ext cx="2447640" cy="19447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1989000"/>
            <a:ext cx="2448000" cy="19447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021360"/>
            <a:ext cx="289080" cy="576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76360"/>
              <a:gd name="textAreaBottom" fmla="*/ 557640 h 576360"/>
            </a:gdLst>
            <a:ahLst/>
            <a:rect l="textAreaLeft" t="textAreaTop" r="textAreaRight" b="textAreaBottom"/>
            <a:pathLst>
              <a:path w="21600" h="43039">
                <a:moveTo>
                  <a:pt x="0" y="0"/>
                </a:moveTo>
                <a:lnTo>
                  <a:pt x="21600" y="0"/>
                </a:lnTo>
                <a:lnTo>
                  <a:pt x="21600" y="43039"/>
                </a:lnTo>
                <a:lnTo>
                  <a:pt x="0" y="43039"/>
                </a:lnTo>
                <a:close/>
              </a:path>
              <a:path fill="lightenLess" w="21600" h="4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039">
                <a:moveTo>
                  <a:pt x="21600" y="0"/>
                </a:moveTo>
                <a:lnTo>
                  <a:pt x="21600" y="43039"/>
                </a:lnTo>
                <a:lnTo>
                  <a:pt x="20200" y="41639"/>
                </a:lnTo>
                <a:lnTo>
                  <a:pt x="20200" y="1400"/>
                </a:lnTo>
                <a:close/>
              </a:path>
              <a:path fill="darkenLess" w="21600" h="43039">
                <a:moveTo>
                  <a:pt x="21600" y="43039"/>
                </a:moveTo>
                <a:lnTo>
                  <a:pt x="0" y="43039"/>
                </a:lnTo>
                <a:lnTo>
                  <a:pt x="1400" y="41639"/>
                </a:lnTo>
                <a:lnTo>
                  <a:pt x="20200" y="41639"/>
                </a:lnTo>
                <a:close/>
              </a:path>
              <a:path fill="lighten" w="21600" h="43039">
                <a:moveTo>
                  <a:pt x="0" y="4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639"/>
                </a:lnTo>
                <a:close/>
              </a:path>
              <a:path fill="darken" w="21600" h="43039">
                <a:moveTo>
                  <a:pt x="10800" y="1451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039">
                <a:moveTo>
                  <a:pt x="10800" y="1488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039">
                <a:moveTo>
                  <a:pt x="8224" y="18943"/>
                </a:moveTo>
                <a:lnTo>
                  <a:pt x="12088" y="18943"/>
                </a:lnTo>
                <a:lnTo>
                  <a:pt x="12088" y="25941"/>
                </a:lnTo>
                <a:lnTo>
                  <a:pt x="13376" y="25941"/>
                </a:lnTo>
                <a:lnTo>
                  <a:pt x="13376" y="26863"/>
                </a:lnTo>
                <a:lnTo>
                  <a:pt x="8224" y="26863"/>
                </a:lnTo>
                <a:lnTo>
                  <a:pt x="8224" y="25941"/>
                </a:lnTo>
                <a:lnTo>
                  <a:pt x="9512" y="25941"/>
                </a:lnTo>
                <a:lnTo>
                  <a:pt x="9512" y="19848"/>
                </a:lnTo>
                <a:lnTo>
                  <a:pt x="8224" y="1984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619280" y="620640"/>
            <a:ext cx="511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1050840" cy="194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141300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7640" y="4508640"/>
            <a:ext cx="36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орид алюминия, карбонат кальция, хлорид натрия, сульфат мед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62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ставьте  общую формулу с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2276640"/>
            <a:ext cx="3024360" cy="14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2072"/>
                </a:solidFill>
                <a:latin typeface="Arial"/>
              </a:rPr>
              <a:t>У вас так получи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нион                                   кислотного оста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2205000"/>
            <a:ext cx="1942920" cy="1225440"/>
          </a:xfrm>
          <a:custGeom>
            <a:avLst/>
            <a:gdLst>
              <a:gd name="textAreaLeft" fmla="*/ 0 w 1942920"/>
              <a:gd name="textAreaRight" fmla="*/ 1943280 w 1942920"/>
              <a:gd name="textAreaTop" fmla="*/ 158760 h 1225440"/>
              <a:gd name="textAreaBottom" fmla="*/ 106668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3213000"/>
            <a:ext cx="2232000" cy="1081080"/>
          </a:xfrm>
          <a:custGeom>
            <a:avLst/>
            <a:gdLst>
              <a:gd name="textAreaLeft" fmla="*/ 0 w 2232000"/>
              <a:gd name="textAreaRight" fmla="*/ 2232360 w 223200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2360" y="4005360"/>
            <a:ext cx="1655640" cy="1439640"/>
          </a:xfrm>
          <a:custGeom>
            <a:avLst/>
            <a:gdLst>
              <a:gd name="textAreaLeft" fmla="*/ 0 w 1655640"/>
              <a:gd name="textAreaRight" fmla="*/ 1656000 w 165564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365720"/>
            <a:ext cx="1726920" cy="1368360"/>
          </a:xfrm>
          <a:custGeom>
            <a:avLst/>
            <a:gdLst>
              <a:gd name="textAreaLeft" fmla="*/ 0 w 1726920"/>
              <a:gd name="textAreaRight" fmla="*/ 1727280 w 17269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rcRect l="6769" t="0" r="57851" b="26978"/>
          <a:stretch/>
        </p:blipFill>
        <p:spPr>
          <a:xfrm>
            <a:off x="3276720" y="2852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9640" y="3141720"/>
            <a:ext cx="72720" cy="1429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57200" y="122400"/>
            <a:ext cx="8229600" cy="6008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1:07:01Z</dcterms:created>
  <dc:creator>Ученик6</dc:creator>
  <dc:description/>
  <dc:language>en-US</dc:language>
  <cp:lastModifiedBy>User</cp:lastModifiedBy>
  <dcterms:modified xsi:type="dcterms:W3CDTF">2007-01-13T19:18:07Z</dcterms:modified>
  <cp:revision>19</cp:revision>
  <dc:subject/>
  <dc:title>Классы  неорганических веществ</dc:title>
</cp:coreProperties>
</file>