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2.png" ContentType="image/png"/>
  <Override PartName="/ppt/media/image20.png" ContentType="image/png"/>
  <Override PartName="/ppt/media/image18.png" ContentType="image/png"/>
  <Override PartName="/ppt/media/image2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6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9.jpeg" ContentType="image/jpeg"/>
  <Override PartName="/ppt/media/image7.jpeg" ContentType="image/jpeg"/>
  <Override PartName="/ppt/media/image31.wmf" ContentType="image/x-wmf"/>
  <Override PartName="/ppt/media/image1.wmf" ContentType="image/x-wmf"/>
  <Override PartName="/ppt/media/image24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2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3A78-D3D7-4EC9-8768-C29782A7C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5A63-2AE5-4116-80D4-CF660B21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87AF-D50E-45C7-AF59-2373BC21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121D-9398-44C2-B04C-BA1AF0911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7181-A583-4B23-8DDF-537DFCBF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86B0-0F2A-4C97-9CD6-DDB8BCD4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A5C6-1A8A-4597-A816-509A02B6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09E8-48CE-4352-88E8-09A90575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BFB8-2039-40D5-8204-C538E413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F939-F7BD-4B7B-95E3-6905D2DD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998E-AF75-4995-A1A3-A85F0549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0408-44D5-4E11-95D2-B49AB3E9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2F10-DAB3-4307-BB1B-0AEA97BF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580F-98B7-451F-9648-80154A1D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7B53-4286-4FB7-BC85-4259D47D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FCCC-BA3D-476C-A337-94EE68E59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3713-B7B7-4BE9-A898-4A3E6E84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7AE1-0142-466F-A4B3-2D2E72C8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5FD7-89BC-465C-9B11-36C1917C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A554-384F-4475-B06E-DC04BD87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63B9-8E8B-4FCA-875F-591D313B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C9A1-54E7-4D56-987F-46187169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C4CC-9290-4B8C-88BD-5A82AC36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EAEA-CA76-4395-A57D-604A9DB0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0807-BC38-4AAD-A5F8-DDE137BE558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3968-FEA1-45CF-BF8C-8FEA117A02D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 rot="21328200">
            <a:off x="1858680" y="1816200"/>
            <a:ext cx="614340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755e"/>
                    </a:gs>
                    <a:gs pos="50000">
                      <a:srgbClr val="ccffcc"/>
                    </a:gs>
                    <a:gs pos="100000">
                      <a:srgbClr val="5e755e"/>
                    </a:gs>
                  </a:gsLst>
                  <a:lin ang="5670000"/>
                </a:gradFill>
                <a:latin typeface="Arial"/>
              </a:rPr>
              <a:t>Генетик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e755e"/>
                  </a:gs>
                  <a:gs pos="50000">
                    <a:srgbClr val="ccffcc"/>
                  </a:gs>
                  <a:gs pos="100000">
                    <a:srgbClr val="5e755e"/>
                  </a:gs>
                </a:gsLst>
                <a:lin ang="567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755e"/>
                    </a:gs>
                    <a:gs pos="50000">
                      <a:srgbClr val="ccffcc"/>
                    </a:gs>
                    <a:gs pos="100000">
                      <a:srgbClr val="5e755e"/>
                    </a:gs>
                  </a:gsLst>
                  <a:lin ang="5670000"/>
                </a:gradFill>
                <a:latin typeface="Arial"/>
              </a:rPr>
              <a:t>по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e755e"/>
                  </a:gs>
                  <a:gs pos="50000">
                    <a:srgbClr val="ccffcc"/>
                  </a:gs>
                  <a:gs pos="100000">
                    <a:srgbClr val="5e755e"/>
                  </a:gs>
                </a:gsLst>
                <a:lin ang="567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ЗАПОМНИТЕ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Гетеро</a:t>
            </a:r>
            <a:r>
              <a:rPr b="1" lang="ru-RU" sz="4000" spc="-1" strike="noStrike">
                <a:solidFill>
                  <a:srgbClr val="ff7c80"/>
                </a:solidFill>
                <a:latin typeface="Arial"/>
              </a:rPr>
              <a:t>гаметность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– </a:t>
            </a:r>
            <a:r>
              <a:rPr b="1" lang="ru-RU" sz="4000" spc="-1" strike="noStrike">
                <a:solidFill>
                  <a:srgbClr val="99ff99"/>
                </a:solidFill>
                <a:latin typeface="Arial"/>
              </a:rPr>
              <a:t>Х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1" lang="ru-RU" sz="4000" spc="-1" strike="noStrike">
                <a:solidFill>
                  <a:srgbClr val="99ff99"/>
                </a:solidFill>
                <a:latin typeface="Arial"/>
              </a:rPr>
              <a:t> или Х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1" lang="ru-RU" sz="4000" spc="-1" strike="noStrike">
                <a:solidFill>
                  <a:srgbClr val="99ff99"/>
                </a:solidFill>
                <a:latin typeface="Arial"/>
              </a:rPr>
              <a:t>,</a:t>
            </a:r>
            <a:br>
              <a:rPr sz="4000"/>
            </a:br>
            <a:r>
              <a:rPr b="1" lang="ru-RU" sz="4000" spc="-1" strike="noStrike">
                <a:solidFill>
                  <a:srgbClr val="ff7c80"/>
                </a:solidFill>
                <a:latin typeface="Arial"/>
              </a:rPr>
              <a:t>гомогаметность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- </a:t>
            </a:r>
            <a:r>
              <a:rPr b="1" lang="ru-RU" sz="4000" spc="-1" strike="noStrike">
                <a:solidFill>
                  <a:srgbClr val="99ff99"/>
                </a:solidFill>
                <a:latin typeface="Arial"/>
              </a:rPr>
              <a:t>ХХ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9640" y="429264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539640" y="1913040"/>
            <a:ext cx="3110040" cy="205236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0" y="1844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99"/>
                </a:solidFill>
                <a:latin typeface="Arial"/>
              </a:rPr>
              <a:t>Мужская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етерогаметность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 большинства ви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99"/>
                </a:solidFill>
                <a:latin typeface="Arial"/>
              </a:rPr>
              <a:t>Женска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гетерогаметность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 птиц, пресмыкающихся, бабоч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ъясните, что изображено на схеме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             ♀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ХХ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х         ♂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                   Х                     Х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♀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ХХ       :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♂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Х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59280" y="2781360"/>
            <a:ext cx="576000" cy="577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24360" y="2781360"/>
            <a:ext cx="576360" cy="576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88000" y="2781360"/>
            <a:ext cx="576360" cy="576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348000" y="213372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011640" y="2133720"/>
            <a:ext cx="360360" cy="57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516720" y="2133720"/>
            <a:ext cx="287280" cy="57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0" y="2276640"/>
            <a:ext cx="0" cy="172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076720" y="466884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258920" y="466884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то виноват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70800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ремя от времени в газеты приходят письма от женщин с жалобами на мужей, которые их упрекают за то, что вместо сыновей у них рождаются дочери. Справедливы ли их упре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302868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вы думаете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ая хромосома – Х ил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жнее для организма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908000" y="2276640"/>
            <a:ext cx="548820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-хромосома содержит больше генов и они определяют важные функции: свертываемость крови, наличие потовых желез, цветовое зрение и друг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утация Х0 жизнеспособ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хромосома определя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ие мужских половых признаков и некоторые другие, как например оволосение ушной раковины, сращение пальце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утация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 леталь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6659640" y="1989000"/>
            <a:ext cx="20048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аскройте плутовств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72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 последние 20 лет эту процедуру в России прошли 12 тысяч спортсменов и сняты с соревнований 16 человек. В спортивных состязаниях отдельные мужчины пытаются выиграть у женщин, перевоплощаясь 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женское обличь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едположите спосо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пределения пола, который бы исключал любые ошибки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521400" y="3789360"/>
            <a:ext cx="26226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Что вы знаете о гемофилии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913040" y="1600200"/>
            <a:ext cx="5317920" cy="45259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730600" y="6216480"/>
            <a:ext cx="37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Цесаревич Алексей был бол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емофили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Генеалогическое древо царской семьи Николая и Александры Романовых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44769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540440" y="6381720"/>
            <a:ext cx="596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делайте вывод о наследовании  гена гемофил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Наследование гемофил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ru-RU" sz="3200" spc="-1" strike="noStrike" baseline="60000">
                <a:solidFill>
                  <a:srgbClr val="ffffff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нормальная свертываемость           кров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en-US" sz="3200" spc="-1" strike="noStrike" baseline="60000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3200" spc="-1" strike="noStrike" baseline="60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гемофи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 –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е содержит  ге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651640" y="2997360"/>
            <a:ext cx="332100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Решите задачу: какие еще дети могут родиться в этой семье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90010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 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х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рм.               нор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♂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.  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емоф.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Х</a:t>
            </a:r>
            <a:r>
              <a:rPr b="1" lang="ru-RU" sz="2400" spc="-1" strike="noStrike" baseline="60000">
                <a:solidFill>
                  <a:srgbClr val="ffffff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норм., Х</a:t>
            </a:r>
            <a:r>
              <a:rPr b="1" lang="en-US" sz="2400" spc="-1" strike="noStrike" baseline="60000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2400" spc="-1" strike="noStrike" baseline="60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гемофилия,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 –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 содержит ге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340000" y="3141720"/>
            <a:ext cx="576360" cy="57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92360" y="3141720"/>
            <a:ext cx="576360" cy="57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076720" y="3141720"/>
            <a:ext cx="576360" cy="57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72360" y="3141720"/>
            <a:ext cx="576000" cy="57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916000" y="2637000"/>
            <a:ext cx="43164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64000" y="2637000"/>
            <a:ext cx="1429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5579640" y="2708280"/>
            <a:ext cx="28908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84720" y="2708280"/>
            <a:ext cx="3589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2492280"/>
            <a:ext cx="0" cy="20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779640" y="1628640"/>
            <a:ext cx="47624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вторить материал о хромосомном определении по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учиться решать задачи на наследование признаков, сцепленных с пол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79280" y="1225440"/>
            <a:ext cx="308628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000" y="290160"/>
            <a:ext cx="80773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Проверьте свое решение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627280" y="1484280"/>
            <a:ext cx="394164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Дальтонизм – аномалия, сцепленная с поло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6" name="Содержимое 4" descr="д1.jpg"/>
          <p:cNvPicPr/>
          <p:nvPr/>
        </p:nvPicPr>
        <p:blipFill>
          <a:blip r:embed="rId1"/>
          <a:stretch/>
        </p:blipFill>
        <p:spPr>
          <a:xfrm>
            <a:off x="635040" y="1892160"/>
            <a:ext cx="7873920" cy="39420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07240" y="6021360"/>
            <a:ext cx="64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ТАК ВИДИТ НОРМАЛЬНЫЙ ГЛАЗ И ГЛАЗ ДАЛЬТО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ПРОЙДИТЕ ТЕСТ НА ДАЛЬТОНИЗМ:</a:t>
            </a:r>
            <a:br>
              <a:rPr sz="3200"/>
            </a:br>
            <a:br>
              <a:rPr sz="3200"/>
            </a:br>
            <a:r>
              <a:rPr b="0" i="1" lang="en-US" sz="3100" spc="-1" strike="noStrike">
                <a:solidFill>
                  <a:srgbClr val="ff0000"/>
                </a:solidFill>
                <a:latin typeface="Arial"/>
              </a:rPr>
              <a:t>ЧТО ИЗОБРАЖЕНО НА КАРТИНКЕ?</a:t>
            </a:r>
            <a:endParaRPr b="0" lang="en-US" sz="31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9" name="Содержимое 3" descr="1-1.gif"/>
          <p:cNvPicPr/>
          <p:nvPr/>
        </p:nvPicPr>
        <p:blipFill>
          <a:blip r:embed="rId1"/>
          <a:stretch/>
        </p:blipFill>
        <p:spPr>
          <a:xfrm>
            <a:off x="2195640" y="1846440"/>
            <a:ext cx="470052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аследование дальтониз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555640" y="2133720"/>
            <a:ext cx="6048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en-US" sz="2800" spc="-1" strike="noStrike" baseline="60000">
                <a:solidFill>
                  <a:srgbClr val="ffffff"/>
                </a:solidFill>
                <a:latin typeface="Arial"/>
              </a:rPr>
              <a:t>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нормальное          Х</a:t>
            </a:r>
            <a:r>
              <a:rPr b="1" lang="en-US" sz="2800" spc="-1" strike="noStrike" baseline="60000">
                <a:solidFill>
                  <a:srgbClr val="ffffff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en-US" sz="2800" spc="-1" strike="noStrike" baseline="60000">
                <a:solidFill>
                  <a:srgbClr val="ffffff"/>
                </a:solidFill>
                <a:latin typeface="Arial"/>
              </a:rPr>
              <a:t>D</a:t>
            </a:r>
            <a:r>
              <a:rPr b="1" lang="ru-RU" sz="2800" spc="-1" strike="noStrike" baseline="60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-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р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en-US" sz="2800" spc="-1" strike="noStrike" baseline="60000">
                <a:solidFill>
                  <a:srgbClr val="ffffff"/>
                </a:solidFill>
                <a:latin typeface="Arial"/>
              </a:rPr>
              <a:t>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дальтонизм          Х</a:t>
            </a:r>
            <a:r>
              <a:rPr b="1" lang="en-US" sz="2800" spc="-1" strike="noStrike" baseline="60000">
                <a:solidFill>
                  <a:srgbClr val="ffffff"/>
                </a:solidFill>
                <a:latin typeface="Arial"/>
              </a:rPr>
              <a:t>D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en-US" sz="2800" spc="-1" strike="noStrike" baseline="60000">
                <a:solidFill>
                  <a:srgbClr val="ffffff"/>
                </a:solidFill>
                <a:latin typeface="Arial"/>
              </a:rPr>
              <a:t>d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-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 -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несет гена          Х</a:t>
            </a:r>
            <a:r>
              <a:rPr b="1" lang="en-US" sz="2800" spc="-1" strike="noStrike" baseline="60000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en-US" sz="2800" spc="-1" strike="noStrike" baseline="60000">
                <a:solidFill>
                  <a:srgbClr val="ffffff"/>
                </a:solidFill>
                <a:latin typeface="Arial"/>
              </a:rPr>
              <a:t>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50920" y="1973160"/>
            <a:ext cx="1877760" cy="4884840"/>
          </a:xfrm>
          <a:prstGeom prst="rect">
            <a:avLst/>
          </a:prstGeom>
          <a:ln w="25560">
            <a:solidFill>
              <a:srgbClr val="0068a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ecff"/>
                </a:solidFill>
                <a:latin typeface="Arial"/>
              </a:rPr>
              <a:t>Решите задачу. Какова вероятность рождения детей с нормальным зрением в этой семье? Каким будет их пол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55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                ♀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  .   </a:t>
            </a:r>
            <a:r>
              <a:rPr b="1" lang="ru-RU" sz="3200" spc="-1" strike="noStrike" baseline="60000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200" spc="-1" strike="noStrike" baseline="60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      ♂  .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рм.              даль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  .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   ♂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льт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Х</a:t>
            </a:r>
            <a:r>
              <a:rPr b="1" lang="en-US" sz="3200" spc="-1" strike="noStrike" baseline="60000">
                <a:solidFill>
                  <a:srgbClr val="ffffff"/>
                </a:solidFill>
                <a:latin typeface="Arial"/>
              </a:rPr>
              <a:t>D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норм, Х</a:t>
            </a:r>
            <a:r>
              <a:rPr b="1" lang="en-US" sz="3200" spc="-1" strike="noStrike" baseline="60000">
                <a:solidFill>
                  <a:srgbClr val="ffffff"/>
                </a:solidFill>
                <a:latin typeface="Arial"/>
              </a:rPr>
              <a:t>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дальт.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 -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ет ген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003640" y="2492280"/>
            <a:ext cx="0" cy="187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635280" y="3357720"/>
            <a:ext cx="647640" cy="649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08720" y="3357720"/>
            <a:ext cx="647640" cy="649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020000" y="3357720"/>
            <a:ext cx="647640" cy="649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04000" y="2637000"/>
            <a:ext cx="2872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124000" y="3357720"/>
            <a:ext cx="647640" cy="649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626920" y="2637000"/>
            <a:ext cx="57636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24360" y="2637000"/>
            <a:ext cx="7128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6012000" y="2708280"/>
            <a:ext cx="28872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Arial"/>
              </a:rPr>
              <a:t>Проверьте себ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редложенной задаче вероятность рождения детей с нормальным цветовосприятием – 50%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овина из них – мальчики, половина – девоч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076720" y="944640"/>
            <a:ext cx="302436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Определите возможное потомство у кошек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B –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рыжий цвет, 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- чер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не несет гена окрас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В  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- черепаховая окрас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       ♀ черная      х    ♂ рыж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?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5003640" y="3357720"/>
            <a:ext cx="1059120" cy="10951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2411280" y="3284640"/>
            <a:ext cx="1440000" cy="11984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6335640" y="4753080"/>
            <a:ext cx="280836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Arial"/>
              </a:rPr>
              <a:t>Проверьте себ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овина потомства – это черепаховые кошки, половина – черные ко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2470320" cy="33112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4211640" y="2924280"/>
            <a:ext cx="44658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емейная тай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6408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сле свадьбы молодой супруге “доброжелатели” открыли семейную тайну ее мужа. Оказалось, что и ее мужу, и его братьям, и их отцу в раннем детстве была сделана операция по ликвидации синдактилии (врожденного сращивания безымянного и среднего пальцев на руках). Будущая мама обратилась за советом к медикам. Какова вероятность рождения у нее ребенка с такой патологие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5867280" y="4292640"/>
            <a:ext cx="327672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ерны ли следующие утверждения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рные утверждения (+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верные утверждения (-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012000" y="1844640"/>
            <a:ext cx="255744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вторим термин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ен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еноти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еноти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омозиготный орган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етерозиготный орган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минантный призн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цессивный призн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508720" y="1197000"/>
            <a:ext cx="4159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ccecff"/>
                </a:solidFill>
                <a:latin typeface="Arial"/>
              </a:rPr>
              <a:t>Проверь себ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рные ответ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- + + - + - - - + +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2987640" y="3716280"/>
            <a:ext cx="347832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араграф 3.15 учебника чит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вторить термины и законы гене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шить задач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692360" y="4076640"/>
            <a:ext cx="5715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cc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сотрудничество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cc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В природе существует несколько механизмов определения пол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енотипический (на пол влияют условия сред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ормональный (пол формируется под воздействием гормон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еномный (пол определяет диплоид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ли гаплоидность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ромосомный (по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ределяет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овыми хромосомами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796000" y="4292640"/>
            <a:ext cx="316080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4057560" cy="4969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632560" y="639720"/>
            <a:ext cx="333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333360"/>
            <a:ext cx="88200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Томас Морган – первооткрыватель половых хромосом и наследования пола у дрозофи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859280" y="2852640"/>
            <a:ext cx="40338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Вспомните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называются хромосомы, не определяющие по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называются половые хромосомы, одинаковые у разнополых особе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называются половые хромосомы, которые есть только у самцов дрозофил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4869000"/>
            <a:ext cx="763272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176560" y="784080"/>
            <a:ext cx="520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4360" y="981000"/>
            <a:ext cx="784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динаковые по внешнему виду хромосомы в клетках раздельнополых организмов называют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аутосома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47640" y="3860640"/>
            <a:ext cx="642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ару различающихся хромосом, неодинаковых у самца и самки, называют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оловыми хромосома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Вспомните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аутосом в клетках челове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й генотип по половым хромосомам имеют женщины и мужчин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195640" y="3429000"/>
            <a:ext cx="480996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Хромосомное определение пола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 человек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ромосо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утосомы                          Полов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2 пары                              23-я па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Х ил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87280" y="2060640"/>
            <a:ext cx="129708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64000" y="2060640"/>
            <a:ext cx="115272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rcRect l="2832" t="1425" r="2867" b="2249"/>
          <a:stretch/>
        </p:blipFill>
        <p:spPr>
          <a:xfrm>
            <a:off x="2771640" y="3716280"/>
            <a:ext cx="29098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09:03:37Z</dcterms:created>
  <dc:creator>Ирина Евгеньевна</dc:creator>
  <dc:description/>
  <dc:language>en-US</dc:language>
  <cp:lastModifiedBy>Ученик 01</cp:lastModifiedBy>
  <dcterms:modified xsi:type="dcterms:W3CDTF">2011-05-24T09:31:25Z</dcterms:modified>
  <cp:revision>23</cp:revision>
  <dc:subject/>
  <dc:title>Слайд 1</dc:title>
</cp:coreProperties>
</file>