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563-89F5-4CA8-ADC0-515AAD4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E51-ADCE-4445-AEE1-C995D276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37F-9859-4C25-BF11-44A2695F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ACF-9452-4007-9583-09E781D7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11E-2470-42A3-809A-9123446C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069-46E6-4D53-B8CF-7253FE9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4ED0-CD46-493D-B0DB-DCB222C8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90D-55A0-4F77-97BE-B1BA4CF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4F6-62CF-4A33-8FA7-BA05239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2477-AFE7-450E-AF8A-F68E3DF1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F38-2F4B-4E26-A211-4ECE266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57E-F7DC-4C75-BA49-1D16CE9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3F3D-395A-47BB-BF1B-8B82FEB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171F-5A56-4F77-8642-05F9EC7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D502-FEB7-487D-B8BC-3645828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6A07-110E-41AE-8638-C043CF71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BAB7-149A-4106-93EE-9FB31E89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EF8-82F2-4D32-9699-F8ACEA6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3C6-4A0B-4537-BE21-386A0B9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CE1-2B23-4112-9074-E8E21A0F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2E4-7454-40BC-8890-06FF15F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385-1C71-4692-8845-5B3F7FD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B4D-F4A1-46DC-A4A3-17BD2D4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2C4-45AB-459C-BEF3-626FBC2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1A6D23-0913-4562-AE9D-B69A944696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36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2280" y="533520"/>
                <a:ext cx="243792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9395A7-F8F3-4375-879B-9F42D73108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1557360"/>
            <a:ext cx="46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Афри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фриканский слон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753080" cy="448956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6012000" y="299736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пн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животное на суш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го масса  до 5 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3720" y="6237360"/>
            <a:ext cx="864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чень сильно истреблены из-за ценной слоновой кости - бивн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фриканский жира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6049800" cy="450396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948360" y="177336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ы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сок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мире животные (высотой до 6 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623736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щищаются от врагов бегств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0" y="4508640"/>
            <a:ext cx="14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таютс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стьям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ь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фриканский бегемо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729040" cy="432612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124000" y="587700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781360"/>
            <a:ext cx="203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упные животные, обитающие по берегам рек и оз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6165720"/>
            <a:ext cx="561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тречаются бегемоты массой до 3 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фриканский страус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080320" cy="381024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084720" y="2421000"/>
            <a:ext cx="273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а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пна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летающая п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 до 2,75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са 50 – 90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734080"/>
            <a:ext cx="720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цеводы используют страусов для охраны ста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фриканские термитни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472000" cy="364644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250920" y="573408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чные высокие постройки – характерная деталь зоны саван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2637000"/>
            <a:ext cx="21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резвычайно много в саванне муравьев-терми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8121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Национальные парки и заповедники Афри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5400720" cy="4727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0920" y="-27000"/>
            <a:ext cx="288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Домашнее</a:t>
            </a:r>
            <a:br>
              <a:rPr sz="12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206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йти материа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14172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юг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фу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нге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минги-Банго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фрика на глобусе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337000" cy="359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27640" y="1557360"/>
            <a:ext cx="2592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432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ватор пересекает Африку почти по серед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432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амый жаркий матер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432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п климата определяет наличие природных з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44280"/>
            <a:ext cx="39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32479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900000" y="-27000"/>
            <a:ext cx="7920000" cy="244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cc99ff"/>
                </a:solidFill>
                <a:effectLst>
                  <a:outerShdw dist="107932" dir="13500000" blurRad="0" rotWithShape="0">
                    <a:srgbClr val="76753b">
                      <a:alpha val="50000"/>
                    </a:srgbClr>
                  </a:outerShdw>
                </a:effectLst>
                <a:latin typeface="Impact"/>
              </a:rPr>
              <a:t>Природная зона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cc99ff"/>
              </a:solidFill>
              <a:effectLst>
                <a:outerShdw dist="107932" dir="13500000" blurRad="0" rotWithShape="0">
                  <a:srgbClr val="76753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cc99ff"/>
                </a:solidFill>
                <a:effectLst>
                  <a:outerShdw dist="107932" dir="13500000" blurRad="0" rotWithShape="0">
                    <a:srgbClr val="76753b">
                      <a:alpha val="50000"/>
                    </a:srgbClr>
                  </a:outerShdw>
                </a:effectLst>
                <a:latin typeface="Impact"/>
              </a:rPr>
              <a:t>саванн и редколеси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cc99ff"/>
              </a:solidFill>
              <a:effectLst>
                <a:outerShdw dist="107932" dir="13500000" blurRad="0" rotWithShape="0">
                  <a:srgbClr val="76753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805032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аванн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(исп. «сабана»)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- дикая, первобытная равни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880240" cy="3597120"/>
          </a:xfrm>
          <a:prstGeom prst="rect">
            <a:avLst/>
          </a:prstGeom>
          <a:ln w="9360">
            <a:solidFill>
              <a:srgbClr val="76753b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732720" y="2349360"/>
            <a:ext cx="24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она саванн расположена по обе стороны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зоны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624852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661000"/>
            <a:ext cx="5343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Африканская равнин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333360"/>
            <a:ext cx="7632720" cy="1150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Саван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высокотравная степ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анимает 40% от площади матер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2349360"/>
            <a:ext cx="3529080" cy="115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бэкватори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мена ЭВм и ТВ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349360"/>
            <a:ext cx="3529080" cy="115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ая черта при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зо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221000"/>
            <a:ext cx="3457800" cy="208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В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лажный сез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авы высотой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 2-3 до 7-9 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дкостоящие дерев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4221000"/>
            <a:ext cx="3457800" cy="208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В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хой сез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авы выгораю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сбрасывают лист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1484280"/>
            <a:ext cx="14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484280"/>
            <a:ext cx="14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285264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350028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282920" y="3500280"/>
            <a:ext cx="23083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dan</dc:creator>
  <dc:description/>
  <dc:language>en-US</dc:language>
  <cp:lastModifiedBy>Уткин</cp:lastModifiedBy>
  <dcterms:modified xsi:type="dcterms:W3CDTF">2008-05-13T05:04:49Z</dcterms:modified>
  <cp:revision>1</cp:revision>
  <dc:subject/>
  <dc:title>7 класс   </dc:title>
</cp:coreProperties>
</file>