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7.png" ContentType="image/png"/>
  <Override PartName="/ppt/media/image22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4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58489-9938-4758-AFCE-FBE583EA2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D47EC-2078-44D5-A5A8-CB48B15A4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EBC0C-0750-4BC3-9188-81EF01EDC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E15B4-DB72-4FA0-ACCF-E8CC59F98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0B982-F673-49AA-8278-48135FAFB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4E355-13EA-4059-935F-181D52A1D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DF58A-C749-4CC5-AB86-54A74ACF7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928DE-A84E-4EF7-8092-AE4440912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35873-D04F-4E52-836C-EDDDFB849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55304-45DB-452E-9AAD-CF7503A4B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81030-4033-484E-B849-4840B4865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DE49A-F3D4-44AF-9D05-82D3EAACA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EF908-8B5F-43E8-9D9E-2EDC1E0E3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B59BD-102F-42A3-8BBA-8B83EB79D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8CCF7-FB7F-49B1-AAEA-E7B5187C2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EDB26-87FE-4AC0-927E-0B0130D18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08755-2E9A-478D-ADC1-266C9F275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5BCF0-4EC2-4A51-86FA-280C05DAB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E4BDF-CAD6-4E11-9740-5A565BA85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45005-0635-4394-825D-8126E3CC0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AEB56-D04D-4012-9CFB-B92033F8F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3B7C6-DB28-4DBB-BE7A-69F2C6D6D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3A559-65FB-4E72-933A-65AF17330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45524-C04B-4F54-AA21-73D1C69C1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23FAE-CE91-4D25-B887-C8CC10362181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2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3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4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5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6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7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8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9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0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9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4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3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CA76F-ABFF-4471-A676-60BDC98A08D4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99"/>
                </a:solidFill>
                <a:latin typeface="Arial"/>
              </a:rPr>
              <a:t>Организация спортивной внеурочной деятельности в </a:t>
            </a:r>
            <a:br>
              <a:rPr sz="4000"/>
            </a:br>
            <a:r>
              <a:rPr b="0" lang="ru-RU" sz="4000" spc="-1" strike="noStrike">
                <a:solidFill>
                  <a:srgbClr val="ffff99"/>
                </a:solidFill>
                <a:latin typeface="Arial"/>
              </a:rPr>
              <a:t>МБОУ Беляевской СОШ</a:t>
            </a:r>
            <a:br>
              <a:rPr sz="4000"/>
            </a:br>
            <a:r>
              <a:rPr b="0" lang="ru-RU" sz="4000" spc="-1" strike="noStrike">
                <a:solidFill>
                  <a:srgbClr val="ffff99"/>
                </a:solidFill>
                <a:latin typeface="Arial"/>
              </a:rPr>
              <a:t>и селе Беляевка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4572000" y="4495680"/>
            <a:ext cx="43434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Выполнила: учитель физической культуры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Байдина Алена Вячеславовна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wheel spokes="3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" dur="8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" dur="8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8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 Box 5"/>
          <p:cNvSpPr/>
          <p:nvPr/>
        </p:nvSpPr>
        <p:spPr>
          <a:xfrm>
            <a:off x="914400" y="3048120"/>
            <a:ext cx="72388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В нашем селе совсем недавно открылся парк отдыха. В котором посетителей встречают неподражаемая  гусеница, замечательные козлята и милая Баба Яга, живущая в своей прекрасной избушке. Ребята могут покачаться на качели, молодежь попрыгать по ярким пенькам, а кто постарше посидеть на скамейке и просто полюбоваться природой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WordArt 6"/>
          <p:cNvSpPr txBox="1"/>
          <p:nvPr/>
        </p:nvSpPr>
        <p:spPr>
          <a:xfrm>
            <a:off x="1447920" y="533520"/>
            <a:ext cx="5715000" cy="213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Летний уголок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</p:spTree>
  </p:cSld>
  <p:transition spd="med">
    <p:wheel spokes="3"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7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2" dur="8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3" dur="8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4" dur="8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5" descr="10"/>
          <p:cNvPicPr/>
          <p:nvPr/>
        </p:nvPicPr>
        <p:blipFill>
          <a:blip r:embed="rId1"/>
          <a:stretch/>
        </p:blipFill>
        <p:spPr>
          <a:xfrm>
            <a:off x="1523880" y="914400"/>
            <a:ext cx="7299360" cy="547524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4" descr="10"/>
          <p:cNvPicPr/>
          <p:nvPr/>
        </p:nvPicPr>
        <p:blipFill>
          <a:blip r:embed="rId2"/>
          <a:stretch/>
        </p:blipFill>
        <p:spPr>
          <a:xfrm>
            <a:off x="228600" y="380880"/>
            <a:ext cx="4503600" cy="600408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3"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WordArt 4"/>
          <p:cNvSpPr txBox="1"/>
          <p:nvPr/>
        </p:nvSpPr>
        <p:spPr>
          <a:xfrm>
            <a:off x="2438280" y="228600"/>
            <a:ext cx="396252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Гонка пр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свеча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187" name="Text Box 5"/>
          <p:cNvSpPr/>
          <p:nvPr/>
        </p:nvSpPr>
        <p:spPr>
          <a:xfrm>
            <a:off x="533520" y="2749680"/>
            <a:ext cx="8076960" cy="35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Ежегодно на школьном стадионе проводится гонка при свечах. Это захватывающее зрелище: на снегу по всей дистанции расположены горящие свечи и лыжники ждут старта. И вот наконец все в сборе, на снегу видны только свечи и гирлянда, висящая над линией старта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В гонке принимают участие все желающие от мала до велика и получают сладкие призы и горячий час с пирогами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wheel spokes="3"/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7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2" dur="8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3" dur="8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4" dur="8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9" dur="8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0" dur="8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1" dur="8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4" descr="16"/>
          <p:cNvPicPr/>
          <p:nvPr/>
        </p:nvPicPr>
        <p:blipFill>
          <a:blip r:embed="rId1"/>
          <a:stretch/>
        </p:blipFill>
        <p:spPr>
          <a:xfrm>
            <a:off x="1905120" y="152280"/>
            <a:ext cx="5029200" cy="670572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3"/>
  </p:transition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5" descr="21"/>
          <p:cNvPicPr/>
          <p:nvPr/>
        </p:nvPicPr>
        <p:blipFill>
          <a:blip r:embed="rId1"/>
          <a:stretch/>
        </p:blipFill>
        <p:spPr>
          <a:xfrm>
            <a:off x="685800" y="533520"/>
            <a:ext cx="7832880" cy="587520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8" descr="18"/>
          <p:cNvPicPr/>
          <p:nvPr/>
        </p:nvPicPr>
        <p:blipFill>
          <a:blip r:embed="rId2"/>
          <a:stretch/>
        </p:blipFill>
        <p:spPr>
          <a:xfrm>
            <a:off x="685800" y="685800"/>
            <a:ext cx="7908840" cy="593244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6" descr="21"/>
          <p:cNvPicPr/>
          <p:nvPr/>
        </p:nvPicPr>
        <p:blipFill>
          <a:blip r:embed="rId3"/>
          <a:stretch/>
        </p:blipFill>
        <p:spPr>
          <a:xfrm>
            <a:off x="685800" y="533520"/>
            <a:ext cx="7832880" cy="587520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4"/>
          <p:cNvSpPr/>
          <p:nvPr/>
        </p:nvSpPr>
        <p:spPr>
          <a:xfrm>
            <a:off x="1066680" y="304920"/>
            <a:ext cx="6705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Наши ребята и их родители  принимают участие и в районных соревнованиях. Их участие не проходит не замеченным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wheel spokes="3"/>
  </p:transition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7" dur="8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8" dur="8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9" dur="8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 Box 4"/>
          <p:cNvSpPr/>
          <p:nvPr/>
        </p:nvSpPr>
        <p:spPr>
          <a:xfrm>
            <a:off x="1143000" y="304920"/>
            <a:ext cx="7238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Давайте вместе будем пропагандировать ЗДОРОВЫЙ ОБРАЗ ЖИЗНИ и может быть молодежь не будет подходить и «стрелять» сигарету, а все переосмыслит и будет стрелять по мишеням, воротам и в корзину!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4" name="Picture 7" descr=""/>
          <p:cNvPicPr/>
          <p:nvPr/>
        </p:nvPicPr>
        <p:blipFill>
          <a:blip r:embed="rId1"/>
          <a:stretch/>
        </p:blipFill>
        <p:spPr>
          <a:xfrm>
            <a:off x="5562720" y="3352680"/>
            <a:ext cx="3192480" cy="287028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6" descr="Otkrytiie6-8-8-8-REUTERS-David-Gray"/>
          <p:cNvPicPr/>
          <p:nvPr/>
        </p:nvPicPr>
        <p:blipFill>
          <a:blip r:embed="rId2"/>
          <a:stretch/>
        </p:blipFill>
        <p:spPr>
          <a:xfrm>
            <a:off x="609480" y="2971800"/>
            <a:ext cx="4343400" cy="325764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3"/>
  </p:transition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nodeType="clickEffect" fill="hold">
                      <p:stCondLst>
                        <p:cond delay="0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4" dur="20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Box 1"/>
          <p:cNvSpPr/>
          <p:nvPr/>
        </p:nvSpPr>
        <p:spPr>
          <a:xfrm>
            <a:off x="1676520" y="1219320"/>
            <a:ext cx="70102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80808"/>
                </a:solidFill>
                <a:latin typeface="Verdana"/>
              </a:rPr>
              <a:t>Спасибо 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80808"/>
                </a:solidFill>
                <a:latin typeface="Verdana"/>
              </a:rPr>
              <a:t>за 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80808"/>
                </a:solidFill>
                <a:latin typeface="Verdana"/>
              </a:rPr>
              <a:t>внимание!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wheel spokes="3"/>
  </p:transition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6" descr="3"/>
          <p:cNvPicPr/>
          <p:nvPr/>
        </p:nvPicPr>
        <p:blipFill>
          <a:blip r:embed="rId1"/>
          <a:stretch/>
        </p:blipFill>
        <p:spPr>
          <a:xfrm>
            <a:off x="228600" y="2590920"/>
            <a:ext cx="5470560" cy="410364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7" descr="8"/>
          <p:cNvPicPr/>
          <p:nvPr/>
        </p:nvPicPr>
        <p:blipFill>
          <a:blip r:embed="rId2"/>
          <a:stretch/>
        </p:blipFill>
        <p:spPr>
          <a:xfrm>
            <a:off x="4038480" y="0"/>
            <a:ext cx="4937400" cy="370368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5"/>
          <p:cNvSpPr/>
          <p:nvPr/>
        </p:nvSpPr>
        <p:spPr>
          <a:xfrm>
            <a:off x="304920" y="457200"/>
            <a:ext cx="6324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 нашей школе проводится большое количество спортивных мероприятий в которых принимают участие все от мала до велика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wheel spokes="3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" dur="8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8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WordArt 4"/>
          <p:cNvSpPr txBox="1"/>
          <p:nvPr/>
        </p:nvSpPr>
        <p:spPr>
          <a:xfrm>
            <a:off x="2209680" y="228600"/>
            <a:ext cx="4334040" cy="22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День здоровь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pic>
        <p:nvPicPr>
          <p:cNvPr id="166" name="Picture 6" descr="Чебурашка"/>
          <p:cNvPicPr/>
          <p:nvPr/>
        </p:nvPicPr>
        <p:blipFill>
          <a:blip r:embed="rId1"/>
          <a:stretch/>
        </p:blipFill>
        <p:spPr>
          <a:xfrm>
            <a:off x="5257800" y="2438280"/>
            <a:ext cx="3641760" cy="387684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5"/>
          <p:cNvSpPr/>
          <p:nvPr/>
        </p:nvSpPr>
        <p:spPr>
          <a:xfrm>
            <a:off x="152280" y="2362320"/>
            <a:ext cx="49532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80808"/>
                </a:solidFill>
                <a:latin typeface="Verdana"/>
              </a:rPr>
              <a:t>Каждый год в школе проходит традиционный День здоровья. Формы проведения праздника всегда разные:  на стадионе состязаются племена индейцев,  на Каме проходит День картошки, а однажды к нам с самого Олимпа спустился сам Зевс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wheel spokes="3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4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" dur="8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" dur="8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" dur="8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6"/>
          <p:cNvSpPr/>
          <p:nvPr/>
        </p:nvSpPr>
        <p:spPr>
          <a:xfrm>
            <a:off x="380880" y="2590920"/>
            <a:ext cx="822960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День здоровья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проходит так же в селе. Этот праздник традиционно открывает танцевальный коллектив «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reedom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» и врач общей практики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Юлия Александровна Утликова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WordArt 7"/>
          <p:cNvSpPr txBox="1"/>
          <p:nvPr/>
        </p:nvSpPr>
        <p:spPr>
          <a:xfrm>
            <a:off x="1447920" y="380880"/>
            <a:ext cx="5943600" cy="175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Будьте здоровы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</p:spTree>
  </p:cSld>
  <p:transition spd="med">
    <p:wheel spokes="3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5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" dur="8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" dur="8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" dur="8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5" descr=""/>
          <p:cNvPicPr/>
          <p:nvPr/>
        </p:nvPicPr>
        <p:blipFill>
          <a:blip r:embed="rId1"/>
          <a:stretch/>
        </p:blipFill>
        <p:spPr>
          <a:xfrm>
            <a:off x="457200" y="1295280"/>
            <a:ext cx="8458200" cy="52578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8" descr="29032012909"/>
          <p:cNvPicPr/>
          <p:nvPr/>
        </p:nvPicPr>
        <p:blipFill>
          <a:blip r:embed="rId2"/>
          <a:stretch/>
        </p:blipFill>
        <p:spPr>
          <a:xfrm>
            <a:off x="380880" y="304920"/>
            <a:ext cx="8229600" cy="61722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3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6"/>
          <p:cNvSpPr/>
          <p:nvPr/>
        </p:nvSpPr>
        <p:spPr>
          <a:xfrm>
            <a:off x="533520" y="762120"/>
            <a:ext cx="784836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День здоровья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нимает значительное место в жизни села. Сюда приходят все желающие получить уйму положительных эмоций, зарядиться на значительное время хорошим настроением и конечно же продлить жизнь за счет забавных и веселых конкурсов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wheel spokes="3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6" dur="8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7" dur="8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" dur="8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4" descr="4"/>
          <p:cNvPicPr/>
          <p:nvPr/>
        </p:nvPicPr>
        <p:blipFill>
          <a:blip r:embed="rId1"/>
          <a:stretch/>
        </p:blipFill>
        <p:spPr>
          <a:xfrm>
            <a:off x="228600" y="304920"/>
            <a:ext cx="6553080" cy="491472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5" descr="5"/>
          <p:cNvPicPr/>
          <p:nvPr/>
        </p:nvPicPr>
        <p:blipFill>
          <a:blip r:embed="rId2"/>
          <a:stretch/>
        </p:blipFill>
        <p:spPr>
          <a:xfrm>
            <a:off x="1066680" y="533520"/>
            <a:ext cx="6502680" cy="48765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6" descr="7"/>
          <p:cNvPicPr/>
          <p:nvPr/>
        </p:nvPicPr>
        <p:blipFill>
          <a:blip r:embed="rId3"/>
          <a:stretch/>
        </p:blipFill>
        <p:spPr>
          <a:xfrm>
            <a:off x="1600200" y="990720"/>
            <a:ext cx="6553080" cy="491472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7" descr="08042012959"/>
          <p:cNvPicPr/>
          <p:nvPr/>
        </p:nvPicPr>
        <p:blipFill>
          <a:blip r:embed="rId4"/>
          <a:stretch/>
        </p:blipFill>
        <p:spPr>
          <a:xfrm>
            <a:off x="2133720" y="1523880"/>
            <a:ext cx="6476760" cy="485784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3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77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6" dur="770" fill="hold"/>
                                        <p:tgtEl>
                                          <p:spTgt spid="17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8" dur="77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0" dur="77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77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7" dur="770" fill="hold"/>
                                        <p:tgtEl>
                                          <p:spTgt spid="17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9" dur="77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1" dur="77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77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8" dur="770" fill="hold"/>
                                        <p:tgtEl>
                                          <p:spTgt spid="17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0" dur="77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2" dur="77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77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9" dur="770" fill="hold"/>
                                        <p:tgtEl>
                                          <p:spTgt spid="17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1" dur="77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3" dur="77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WordArt 6"/>
          <p:cNvSpPr txBox="1"/>
          <p:nvPr/>
        </p:nvSpPr>
        <p:spPr>
          <a:xfrm>
            <a:off x="1676520" y="228600"/>
            <a:ext cx="548640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Все на СТАРТ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178" name="Text Box 7"/>
          <p:cNvSpPr/>
          <p:nvPr/>
        </p:nvSpPr>
        <p:spPr>
          <a:xfrm>
            <a:off x="609480" y="2743200"/>
            <a:ext cx="7696440" cy="35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9 мая проходит забег Заборье – Беляевка. Участие принимают все желающие. Дистанция варьируется от 1км до 5 км. Перед началом забега спортсменам поднимают дух девушки группы поддержки с девизом «Беги быстрей, будь всех сильней, победа ждет здесь у дверей!»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Всех бегунов на дистанции сопровождает машина скорой помощи и полиция, а на финише ждет горячий чай и вкусная каша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wheel spokes="3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1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6" dur="8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7" dur="8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8" dur="8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3" dur="8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4" dur="8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5" dur="8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4" descr="11"/>
          <p:cNvPicPr/>
          <p:nvPr/>
        </p:nvPicPr>
        <p:blipFill>
          <a:blip r:embed="rId1"/>
          <a:stretch/>
        </p:blipFill>
        <p:spPr>
          <a:xfrm>
            <a:off x="457200" y="457200"/>
            <a:ext cx="5775480" cy="43322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5" descr="12"/>
          <p:cNvPicPr/>
          <p:nvPr/>
        </p:nvPicPr>
        <p:blipFill>
          <a:blip r:embed="rId2"/>
          <a:stretch/>
        </p:blipFill>
        <p:spPr>
          <a:xfrm>
            <a:off x="1066680" y="1143000"/>
            <a:ext cx="6309000" cy="47322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6" descr="13"/>
          <p:cNvPicPr/>
          <p:nvPr/>
        </p:nvPicPr>
        <p:blipFill>
          <a:blip r:embed="rId3"/>
          <a:stretch/>
        </p:blipFill>
        <p:spPr>
          <a:xfrm>
            <a:off x="2057400" y="1905120"/>
            <a:ext cx="6240600" cy="468144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3"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77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3" dur="770" fill="hold"/>
                                        <p:tgtEl>
                                          <p:spTgt spid="17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5" dur="77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7" dur="77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77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4" dur="770" fill="hold"/>
                                        <p:tgtEl>
                                          <p:spTgt spid="18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8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86" dur="77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88" dur="77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77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5" dur="770" fill="hold"/>
                                        <p:tgtEl>
                                          <p:spTgt spid="18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9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97" dur="77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99" dur="77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8T09:33:11Z</dcterms:created>
  <dc:creator>Penelopa</dc:creator>
  <dc:description/>
  <dc:language>en-US</dc:language>
  <cp:lastModifiedBy>Уткина</cp:lastModifiedBy>
  <dcterms:modified xsi:type="dcterms:W3CDTF">2012-05-12T08:58:57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