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212C-775D-4FC3-A254-21E9EE67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C715-439E-4D77-A911-417B859E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4BD6-99E7-496C-973B-2AF3B23F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04AD-B274-400A-9FCB-EC01A689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F502-E99F-4E29-B289-CF8755BD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E784-9307-4F87-A8ED-CCBBFEAD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4F3F-F849-4BE6-AD6A-BD955233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5AEF-C334-4138-BA1A-D53E9FF9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53C6-9773-4985-8C73-1124C223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E63B-6B77-4A16-A608-CE7BC4E8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43D5-D039-4440-A7D0-94DD19F3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A85F-60EE-434B-A7A7-253FB6C3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ECF2-712F-46D8-B617-C726C9571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ОУ «Оханский санаторный детский до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4000" y="3068640"/>
            <a:ext cx="2955600" cy="3565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116000" y="1341360"/>
            <a:ext cx="6335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 и друг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360" y="285264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87840" y="2843280"/>
            <a:ext cx="527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ение конфликтных ситуаций из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5075280"/>
            <a:ext cx="3097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втор: Кириченко Марин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спита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638172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ханск 200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829152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 Разры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5.  Агре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4.  Ун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3.  Противосто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2.  Недово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1.  Несоглас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GLettericaCondensedLight"/>
              </a:rPr>
              <a:t>Схема нарастания конфлик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GLettericaCondensedLight"/>
              </a:rPr>
              <a:t>Схема разрешения конфлик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n-US" sz="2400" spc="-1" strike="noStrike">
                <a:solidFill>
                  <a:srgbClr val="993366"/>
                </a:solidFill>
                <a:latin typeface="Arial"/>
              </a:rPr>
              <a:t>9. Временный разры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8. Согла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7. По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6. Умение слуш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5. Анализ своих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4. Третейски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3. Компроми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2. Юм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. Нежность (добро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рать качества которыми должен обладать человек, умеющий решать конфликты «мирным» пут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руб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утк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го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держа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ктич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скр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спыльч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идч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способность слушать собесед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мение контролировать свои чувства и эмо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мение анализировать свои поступ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708360" y="1773360"/>
          <a:ext cx="5256360" cy="38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773360"/>
                    <a:ext cx="525636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850"/>
                            </p:stCondLst>
                            <p:childTnLst>
                              <p:par>
                                <p:cTn id="1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700"/>
                            </p:stCondLst>
                            <p:childTnLst>
                              <p:par>
                                <p:cTn id="2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450"/>
                            </p:stCondLst>
                            <p:childTnLst>
                              <p:par>
                                <p:cTn id="2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500"/>
                            </p:stCondLst>
                            <p:childTnLst>
                              <p:par>
                                <p:cTn id="2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500"/>
                            </p:stCondLst>
                            <p:childTnLst>
                              <p:par>
                                <p:cTn id="2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600"/>
                            </p:stCondLst>
                            <p:childTnLst>
                              <p:par>
                                <p:cTn id="2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750"/>
                            </p:stCondLst>
                            <p:childTnLst>
                              <p:par>
                                <p:cTn id="2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9750"/>
                            </p:stCondLst>
                            <p:childTnLst>
                              <p:par>
                                <p:cTn id="2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550"/>
                            </p:stCondLst>
                            <p:childTnLst>
                              <p:par>
                                <p:cTn id="2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2550"/>
                            </p:stCondLst>
                            <p:childTnLst>
                              <p:par>
                                <p:cTn id="2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4900"/>
                            </p:stCondLst>
                            <p:childTnLst>
                              <p:par>
                                <p:cTn id="2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 rot="10800000"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250920" y="2133720"/>
            <a:ext cx="29527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Ударить ног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Уда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Толкн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Угр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Кр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Обзы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Повышенный 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64000" y="3333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сто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2276640"/>
            <a:ext cx="288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Не укоряй другого начни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Игнорируй это –смотри молча в сторо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Уйди в сторо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Остановись и подум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Помир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800"/>
                            </p:stCondLst>
                            <p:childTnLst>
                              <p:par>
                                <p:cTn id="30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800"/>
                            </p:stCondLst>
                            <p:childTnLst>
                              <p:par>
                                <p:cTn id="3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.И. Рогов «Психология общения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сква 2004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Е.Д. Худенко, Т.Ф. Гаврилычева, Е.Ю. Селиванова, В.В. Титова «Организация и планирование воспитательной работы в специальной (коррекционной) школе-интернате, детском дом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сква 200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А.И. Шемшурина  «Этические диалоги с ученик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сква 199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Е.Ю. Юнина «Психология общ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мь 2004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Цел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развитие коммуникативных навыков и ум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6920" y="1773000"/>
            <a:ext cx="7632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дач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Учить анализировать причины возникновения конфликтной ситуации и находить «мирные» пути выхода из любого конфли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Развивать и совершенствовать познавательные процес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Дальнейшее сплочение группы-семь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000"/>
                            </p:stCondLst>
                            <p:childTnLst>
                              <p:par>
                                <p:cTn id="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58920" y="4797360"/>
            <a:ext cx="2663640" cy="14400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3141720"/>
            <a:ext cx="2664000" cy="143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1484280"/>
            <a:ext cx="2664000" cy="1513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Игра «Приветстви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19280" y="1773360"/>
          <a:ext cx="1584360" cy="89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773360"/>
                    <a:ext cx="158436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619280" y="3357720"/>
          <a:ext cx="1657440" cy="9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3357720"/>
                    <a:ext cx="165744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1763640" y="5157720"/>
          <a:ext cx="1584360" cy="89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3640" y="5157720"/>
                    <a:ext cx="158436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264200" y="1636560"/>
            <a:ext cx="40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жать ру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322092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гладить по плеч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941720"/>
            <a:ext cx="46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здороваться спин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900"/>
                            </p:stCondLst>
                            <p:childTnLst>
                              <p:par>
                                <p:cTn id="5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900"/>
                            </p:stCondLst>
                            <p:childTnLst>
                              <p:par>
                                <p:cTn id="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400"/>
                            </p:stCondLst>
                            <p:childTnLst>
                              <p:par>
                                <p:cTn id="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400"/>
                            </p:stCondLst>
                            <p:childTnLst>
                              <p:par>
                                <p:cTn id="6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11280" y="1413000"/>
          <a:ext cx="4038480" cy="36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4038480" cy="36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4932360" y="1341360"/>
            <a:ext cx="3673440" cy="4032360"/>
          </a:xfrm>
          <a:custGeom>
            <a:avLst/>
            <a:gdLst>
              <a:gd name="textAreaLeft" fmla="*/ 237960 w 3673440"/>
              <a:gd name="textAreaRight" fmla="*/ 3435480 w 3673440"/>
              <a:gd name="textAreaTop" fmla="*/ 237960 h 4032360"/>
              <a:gd name="textAreaBottom" fmla="*/ 3794400 h 4032360"/>
            </a:gdLst>
            <a:ahLst/>
            <a:rect l="textAreaLeft" t="textAreaTop" r="textAreaRight" b="textAreaBottom"/>
            <a:pathLst>
              <a:path w="21600" h="23710">
                <a:moveTo>
                  <a:pt x="0" y="0"/>
                </a:moveTo>
                <a:lnTo>
                  <a:pt x="21600" y="0"/>
                </a:lnTo>
                <a:lnTo>
                  <a:pt x="21600" y="23710"/>
                </a:lnTo>
                <a:lnTo>
                  <a:pt x="0" y="23710"/>
                </a:lnTo>
                <a:close/>
              </a:path>
              <a:path fill="lightenLess" w="21600" h="237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10">
                <a:moveTo>
                  <a:pt x="21600" y="0"/>
                </a:moveTo>
                <a:lnTo>
                  <a:pt x="21600" y="23710"/>
                </a:lnTo>
                <a:lnTo>
                  <a:pt x="20200" y="22310"/>
                </a:lnTo>
                <a:lnTo>
                  <a:pt x="20200" y="1400"/>
                </a:lnTo>
                <a:close/>
              </a:path>
              <a:path fill="darkenLess" w="21600" h="23710">
                <a:moveTo>
                  <a:pt x="21600" y="23710"/>
                </a:moveTo>
                <a:lnTo>
                  <a:pt x="0" y="23710"/>
                </a:lnTo>
                <a:lnTo>
                  <a:pt x="1400" y="22310"/>
                </a:lnTo>
                <a:lnTo>
                  <a:pt x="20200" y="22310"/>
                </a:lnTo>
                <a:close/>
              </a:path>
              <a:path fill="lighten" w="21600" h="23710">
                <a:moveTo>
                  <a:pt x="0" y="237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10"/>
                </a:lnTo>
                <a:close/>
              </a:path>
              <a:path fill="darken" w="21600" h="23710">
                <a:moveTo>
                  <a:pt x="10800" y="1585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710">
                <a:moveTo>
                  <a:pt x="11905" y="15337"/>
                </a:moveTo>
                <a:lnTo>
                  <a:pt x="11905" y="13378"/>
                </a:lnTo>
                <a:cubicBezTo>
                  <a:pt x="11905" y="12551"/>
                  <a:pt x="12236" y="11855"/>
                  <a:pt x="12837" y="11855"/>
                </a:cubicBezTo>
                <a:cubicBezTo>
                  <a:pt x="13968" y="11855"/>
                  <a:pt x="14865" y="10489"/>
                  <a:pt x="14865" y="8905"/>
                </a:cubicBezTo>
                <a:cubicBezTo>
                  <a:pt x="14865" y="6589"/>
                  <a:pt x="13011" y="4849"/>
                  <a:pt x="10800" y="4849"/>
                </a:cubicBezTo>
                <a:cubicBezTo>
                  <a:pt x="8589" y="4849"/>
                  <a:pt x="6918" y="6589"/>
                  <a:pt x="6918" y="8905"/>
                </a:cubicBezTo>
                <a:lnTo>
                  <a:pt x="8772" y="8905"/>
                </a:lnTo>
                <a:cubicBezTo>
                  <a:pt x="8772" y="7764"/>
                  <a:pt x="9695" y="6877"/>
                  <a:pt x="10800" y="6877"/>
                </a:cubicBezTo>
                <a:cubicBezTo>
                  <a:pt x="11905" y="6877"/>
                  <a:pt x="12837" y="7764"/>
                  <a:pt x="12837" y="8905"/>
                </a:cubicBezTo>
                <a:cubicBezTo>
                  <a:pt x="12837" y="9644"/>
                  <a:pt x="12367" y="10376"/>
                  <a:pt x="11905" y="10376"/>
                </a:cubicBezTo>
                <a:cubicBezTo>
                  <a:pt x="10800" y="10376"/>
                  <a:pt x="9695" y="11855"/>
                  <a:pt x="9695" y="13378"/>
                </a:cubicBezTo>
                <a:lnTo>
                  <a:pt x="9695" y="1533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25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5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Что случилос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4360" y="1557360"/>
          <a:ext cx="3132000" cy="39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313200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6300720" y="2781360"/>
          <a:ext cx="1717920" cy="35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2781360"/>
                    <a:ext cx="171792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GLettericaCondensedLight"/>
              </a:rPr>
              <a:t>Конфлик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ситуация при которой происходит столкновение двух различных (противоположных) точек зре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итуация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группу дали 5 билетов в цирк. В группе 10 человек, а дали только 5 билетов. Воспитателю никого не хочется обижать и поэтому она предлагает самим решить эту проблему. Сделайте это сами и объясните свой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50920" y="2192400"/>
          <a:ext cx="4392360" cy="33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192400"/>
                    <a:ext cx="439236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итуация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кресенье, по телевизору идут интересные передачи. Некоторым детям хочется посмотреть исторический фильм «Гладиаторы», другим мультфильмы. Ваши действ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84360" y="2349360"/>
            <a:ext cx="3816360" cy="3151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итуация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2421000"/>
            <a:ext cx="40384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 играете в приставку. Одни хотят играть в игру «Обезьянки», другие в «Король лев». Ваши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12720" y="1557360"/>
          <a:ext cx="3799080" cy="475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2720" y="1557360"/>
                    <a:ext cx="379908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07:11:34Z</dcterms:created>
  <dc:creator>***</dc:creator>
  <dc:description/>
  <dc:language>en-US</dc:language>
  <cp:lastModifiedBy>***</cp:lastModifiedBy>
  <dcterms:modified xsi:type="dcterms:W3CDTF">2006-08-11T09:28:35Z</dcterms:modified>
  <cp:revision>39</cp:revision>
  <dc:subject/>
  <dc:title>Цель: Развитие коммуникативных навыков и умений</dc:title>
</cp:coreProperties>
</file>