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906-9FB1-48BB-A035-C8A85FF2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5B4-B2FB-45FD-9601-BDA20BAA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D11-D5BE-40B0-8156-953AB3F9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ED6-0D4E-4746-AF6F-8D6AB482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8674-F4C2-4F1C-B1E2-DDB37210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69EC-2747-42CF-B5AE-A3703D7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A29-CED7-4AA5-A296-9B986668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811D-9211-456B-81EE-E3756CCA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A652-1F66-4DF2-BF1E-9DD8C292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03B5-EB77-40C1-BC46-A6A0C907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1F6D-CC4C-4F9D-8F11-2BAF6DA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C62-47C5-40F3-B72A-205B466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8F44-3570-40B5-AAA1-00C8BE62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6026-CAB2-4828-8395-637675A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D08D-B43A-4D7D-96FF-B62CB5F2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BE70-EC64-416B-BBA2-F2EEC084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FEB6-091C-4E36-A325-4E2078C4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88AF-94A8-4A5F-87C4-203BE662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90E6-BA70-441F-B2A3-F5D70061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D62D7-3716-4DBE-9FE9-E5422901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73DB-F824-4DBE-A933-684348C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27E4-41EC-4091-9FCD-716B98D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324-DE8C-439D-AFC6-97D8E551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60BA-FA42-4379-9D9F-729ED419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E247-2B88-454E-A65E-EC2B56BB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BB72-42F3-4506-87AE-7E9F168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FA4E-AC93-4991-8C71-655594D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EAB8-1807-473C-9A8F-704581FD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EDA9-C013-4BBB-A173-2C45A43D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8EB0-F086-4DF4-B92F-357071C9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228-BD26-4CC7-8BBE-5183D535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495-D70C-41C8-9CC4-AA7B5B79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D0B-14D0-4E36-99D7-B303F9ED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D0F-6F5D-429F-A4E9-31A4D8F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E79-B573-4267-BCE5-1D659F71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8FD-33FE-46D1-ADC1-78FABC12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EBE3-D40D-4B2C-99EC-867A29E9C7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596E-2FFA-4AAB-9BF0-EB7E74B74D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16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92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2438-6A17-4A4F-9EB0-60695DF97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Пути преодоления неуспеваемости учащихс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4419720"/>
            <a:ext cx="76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гулева Людмила Юрьев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директора по учебно-методической р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Беляевская средняя общеобразовательная шк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752480"/>
            <a:ext cx="77724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6308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0000"/>
                </a:solidFill>
                <a:latin typeface="Tahoma"/>
              </a:rPr>
              <a:t>Оханский район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едостатки опыта влияний школ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) недостатки процесса обучения, учебных пособий и пр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) недостатки воспитательных влияний школы (учителей, коллектива учащихся и др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6324480"/>
            <a:ext cx="757080" cy="276480"/>
          </a:xfrm>
          <a:custGeom>
            <a:avLst/>
            <a:gdLst>
              <a:gd name="textAreaLeft" fmla="*/ 132480 w 757080"/>
              <a:gd name="textAreaRight" fmla="*/ 549000 w 757080"/>
              <a:gd name="textAreaTop" fmla="*/ 37080 h 276480"/>
              <a:gd name="textAreaBottom" fmla="*/ 2394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едостатки влияний внешкольной сред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) недостатки влияний семь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) недостатки влияний сверстни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) недостатки влияний культурно-производственного окру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6324480"/>
            <a:ext cx="757080" cy="276480"/>
          </a:xfrm>
          <a:custGeom>
            <a:avLst/>
            <a:gdLst>
              <a:gd name="textAreaLeft" fmla="*/ 132480 w 757080"/>
              <a:gd name="textAreaRight" fmla="*/ 549000 w 757080"/>
              <a:gd name="textAreaTop" fmla="*/ 37080 h 276480"/>
              <a:gd name="textAreaBottom" fmla="*/ 2394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«Причины неуспеваемости –</a:t>
            </a: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это перевернутые причины успешности»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достатки воспитанности учащихся (лень, недисциплинированнос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бое умственное развит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достаточный интерес учащихся к предмет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бая воля к преодолению труднос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аккуратное посещение урок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внимательность на урок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регулярное выполнение домашних зада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доработка в предыдущих класс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охие бытовые услов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сутствие заботы родит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прочность зна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достатки препода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сутствие учета индивидуальных особенностей учащихся и дифференцированного подх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Меры предупреждения неуспеваемости уче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стороннее повышение эффективности каждого уро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познавательного интереса к учению и положительных мотив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альный подход к учащемус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альная система домашних задан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иление работы с родителям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лечение ученического актива к борьбе по повышению ответственности ученика за у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Пути устранения неуспеваемост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Педагогическая профилактика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иск оптимальных педагогических систем, в том числе применение активных методов и форм обучения, новых педагогических технологий, проблемного и программированного обучения, информатизация педагогической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Педагогическая диагностика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стематический контроль и оценка результатов обучения, своевременное выявление пробелов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ля этого применяются беседы учителя с учениками, родителями, наблюдение за трудным учеником с фиксацией данных в дневнике учителя, проведение тестов, анализ результатов, обобщение их в виде таблиц по видам допущенных ошибок, педагогический консилиум – совет учителей по анализу и решению дидактических проблем отстающих учени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Педагогическая терапия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ры по устранению отставаний в учебе. В отечественной школе это дополнительные занятия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а Западе – группы выравнивания. Преимущества последних в том, что занятия в них проводятся по результатам серьезной диагностики, с подбором групповых и индивидуальных средств обучения. Их ведут специальные учителя, посещение занятий обязательно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Воспитательное воздействие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оскольку неудачи в учебе связаны чаще всего с плохим воспитанием, то с неуспевающими учениками должна вестись индивидуальная планируемая воспитательная работа, которая включает и работу с семьей школь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Памятка для работающих с неуспевающими учениками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милия, имя, отчество уче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каким предметам не успева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дение уче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чины плохой успеваем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ие средства (дидактические, воспитательные, учебные, внеклассные, дополнительны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нятия) используются в работе с уче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привлечен к работе по преодолению неуспеваемости уче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времени уже длится эта рабо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ие изменения наблюдаются, каковы результаты рабо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успеваем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оответствие подготовки учащихся обязательным требованиям школы в усвоении знаний, развитии умений и навыков, формировании опыта творческой деятельности и воспитанности познавательных отношени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става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евыполнение требований, которое имеет место на одном из промежуточных этапов внутри того отрезка учебного процесса, который служит временной рамкой для определения успеваемости. Слово «отставание» обозначает и процесс накапливания невыполнений требований, и каждый отдельный случай такого невыполнения, т.е. один из моментов эт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Основные способы обнаружения отставаний учащих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блюдения за реакциями учащихся на трудности в работе, на успехи и неудач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просы учителя и его требования сформулировать то или иное полож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учающие самостоятельные работы в классе. При проведении самостоятельных работ учитель получает материал для суждения как о результатах деятельности, так и о ходе ее протекания. Он наблюдает за работой учащихся, выслушивает и отвечает на их вопросы, иногда помога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Times New Roman"/>
              </a:rPr>
              <a:t>Основные признаки неуспеваемости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Наличие пробелов в фактических знаниях и специальных для данного предмета умениях, которые не позволяют охарактеризовать существенные элементы изучаемых понятий, законов, теорий, а также осуществить необходимые практические действ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Наличие пробелов в навыках учебно-познавательной деятельности, снижающих темп работы настолько, что ученик не может за отведенное время овладеть необходимым объемом знаний, умений и навы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Недостаточный уровень развития и воспитанности личностных качеств, не позволяющий ученику проявлять самостоятельность, настойчивость, организованность и другие качества, необходимые для успешного у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 отношению к школьни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Недостатки биологического развития  лич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Недостатки психического развития лич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Недостатки воспитанности  личности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отношению к школьни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5" action="ppaction://hlinksldjump"/>
              </a:rPr>
              <a:t>Недостатки образования лич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6" action="ppaction://hlinksldjump"/>
              </a:rPr>
              <a:t>Недостатки опыта влияний шко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7" action="ppaction://hlinksldjump"/>
              </a:rPr>
              <a:t>Недостатки влияний внешкольной среды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35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«Причины неуспеваемости – 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это перевернутые причины успешност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441200">
            <a:off x="8076600" y="6324120"/>
            <a:ext cx="757080" cy="276480"/>
          </a:xfrm>
          <a:custGeom>
            <a:avLst/>
            <a:gdLst>
              <a:gd name="textAreaLeft" fmla="*/ 132480 w 757080"/>
              <a:gd name="textAreaRight" fmla="*/ 549000 w 757080"/>
              <a:gd name="textAreaTop" fmla="*/ 37080 h 276480"/>
              <a:gd name="textAreaBottom" fmla="*/ 2394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Недостатки биологического развития  личн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дефекты органов чувст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соматическая ослабленнос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особенности высшей нервной деятельности отрицательно влияющей на уче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психопатологические откло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77320" y="6324480"/>
            <a:ext cx="757080" cy="276480"/>
          </a:xfrm>
          <a:custGeom>
            <a:avLst/>
            <a:gdLst>
              <a:gd name="textAreaLeft" fmla="*/ 132480 w 757080"/>
              <a:gd name="textAreaRight" fmla="*/ 549000 w 757080"/>
              <a:gd name="textAreaTop" fmla="*/ 37080 h 276480"/>
              <a:gd name="textAreaBottom" fmla="*/ 2394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едостатки психического развития лич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) слабое развитие эмоциональной сферы лич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) слабое развитие во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) отсутствие положительных познавательных интересов, мотивов, потреб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77320" y="6324480"/>
            <a:ext cx="757080" cy="276480"/>
          </a:xfrm>
          <a:custGeom>
            <a:avLst/>
            <a:gdLst>
              <a:gd name="textAreaLeft" fmla="*/ 132480 w 757080"/>
              <a:gd name="textAreaRight" fmla="*/ 549000 w 757080"/>
              <a:gd name="textAreaTop" fmla="*/ 37080 h 276480"/>
              <a:gd name="textAreaBottom" fmla="*/ 2394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едостатки воспитанности  личн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) недостатки в развитии моральных качеств лич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) недостатки в отношениях личности к учителям, коллективу, семье и пр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) недостатки в трудовой воспита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7320" y="6324480"/>
            <a:ext cx="757080" cy="276480"/>
          </a:xfrm>
          <a:custGeom>
            <a:avLst/>
            <a:gdLst>
              <a:gd name="textAreaLeft" fmla="*/ 132480 w 757080"/>
              <a:gd name="textAreaRight" fmla="*/ 549000 w 757080"/>
              <a:gd name="textAreaTop" fmla="*/ 37080 h 276480"/>
              <a:gd name="textAreaBottom" fmla="*/ 2394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едостатки образования лич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) пробелы в знаниях, специальных умен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) пробелы в навыках учебного тру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6324480"/>
            <a:ext cx="757080" cy="276480"/>
          </a:xfrm>
          <a:custGeom>
            <a:avLst/>
            <a:gdLst>
              <a:gd name="textAreaLeft" fmla="*/ 132480 w 757080"/>
              <a:gd name="textAreaRight" fmla="*/ 549000 w 757080"/>
              <a:gd name="textAreaTop" fmla="*/ 37080 h 276480"/>
              <a:gd name="textAreaBottom" fmla="*/ 2394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ИХОНОВ</cp:lastModifiedBy>
  <dcterms:modified xsi:type="dcterms:W3CDTF">2007-10-25T10:34:1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