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50A-01C2-4217-96F3-2A506E77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ABE-E0C8-48BF-9083-2BFF3ACE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5C7-53F2-48E0-872D-6BD7118E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4F6-0DF0-4ECF-ACC5-8C514DAC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1988-0A59-419B-883B-28D63504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CE20-239B-4337-B539-CAE3E6A9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1DD4-958C-4A84-8981-0ACA7C72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7C12-F2F0-418C-844E-A4DDE37E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91E9-B7BE-4A92-A56F-60ABC350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8C19-8949-48D0-9BA0-28FB5C17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CF4F-0C28-4B28-AAFB-D52777BA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B3C-CECF-427D-AD75-F5EEA92C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ED0A-4180-416E-ABEA-9D076AE5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D496-AA62-422A-B276-3BACA757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5497-2231-4A8C-B7A8-7AFA3A94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99E0-0FE5-4E0D-934B-0F112037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BBE8-EB99-4A0E-A6DB-74B5A3D3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686-3812-4D5B-8EA3-1F701156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59F-8511-48C3-A82D-E3B75120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D6E-5864-4E37-9A15-432262BA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BD0-A3DA-41A9-8DB2-39E070C3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F67-DC8B-46F7-8C91-887C3A77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1DF-7CB3-46AA-B4AE-A3750E4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70D-E3E1-4342-B577-0344F83F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B63F-8167-498E-AB91-BF10937F62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ED67-4B23-4E3D-8CCD-0AA39D8401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Пути преодоления неуспеваемости учащихс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32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«Причины неуспеваемости – это перевернутые причины успешност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4869000"/>
            <a:ext cx="76964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игулева Людмила Юрьевн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меститель директора по учебно-методической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У Беляевская средня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6308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Оханский район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енинг словесной оцен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дания педагог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ник получил отметку «три», вы хотите его поддержать, придумайте соответствующий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текс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ник отказался отвечать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как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вербально поступить в данном случа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тексты должны быть интересными, уважительными и добрыми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Вариант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«Я знаю, что твоя тройка – это улыбка судьбы, потому, что завтра будет другой день и ты, как всегда, блеснешь своими знаниями и я с удовольствием поставлю тебе высший балл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659640" y="26028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Вариант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«Твой отказ отвечать я расцениваю не как вызов, а как временную передышку перед решительным наступлением. Главное, что мы вместе и что все будет хорошо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еник впервые получил высокую отметку, сопроводите её какой-нибудь очень значимой для ученика фраз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еник не продемонстрировал знаний при выполнении письменных работ и решении задач, но он пытался найти оригинальные пути, Вы решили не ставить ему неудовлетворительную отметку. Но Вам необходимо написать в тетрадь соответствующую записку, сделайте эт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енинг словесной оцен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Вариант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«Господа, сегодня Володя получил первое публичное признание своих успехов, и пусть так будет с каждым и пусть так будет всегда»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Вариант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«Серёжа, я знаю, что ты всегда ищешь нетривиальный путь и это обеспечит тебе успех в будущем, тем более, если тебе удастся счастливо соединить оригинальные решения с хорошими знаниями»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4724280"/>
            <a:ext cx="1522440" cy="1803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 поставили ученику неудовлетворительную отметку в дневник, какую запись при этом Вы сделаете;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енинг словесной оцен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Вариант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«Многие талантливые люди получали в школе неудовлетворительные оценки, и это не помешало совершать чудеса на избранном ими пути. Думаю, что когда-нибудь ты будешь вспоминать эту оценку с улыбкой, потому, что я верю тебе, потому, что я знаю, что ты сумеешь преодолеть временный неуспех и, главное, я всегда готов помочь тебе в твоих начинаниях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06:13:48Z</dcterms:created>
  <dc:creator>User</dc:creator>
  <dc:description/>
  <dc:language>en-US</dc:language>
  <cp:lastModifiedBy>ТИХОНОВ</cp:lastModifiedBy>
  <dcterms:modified xsi:type="dcterms:W3CDTF">2007-10-25T10:34:29Z</dcterms:modified>
  <cp:revision>7</cp:revision>
  <dc:subject/>
  <dc:title>Система деятельности педагога         с неуспевающими детьми</dc:title>
</cp:coreProperties>
</file>